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10206038" cy="7304088"/>
  <p:notesSz cx="67532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80640"/>
            <a:ext cx="8248680" cy="1298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5680" y="1785960"/>
            <a:ext cx="10033200" cy="259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5680" y="4627080"/>
            <a:ext cx="10033200" cy="259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80640"/>
            <a:ext cx="8248680" cy="1298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680" y="1785960"/>
            <a:ext cx="4896000" cy="259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26840" y="1785960"/>
            <a:ext cx="4896000" cy="259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5680" y="4627080"/>
            <a:ext cx="4896000" cy="259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26840" y="4627080"/>
            <a:ext cx="4896000" cy="259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80640"/>
            <a:ext cx="8248680" cy="1298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5680" y="1785960"/>
            <a:ext cx="3230280" cy="259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77960" y="1785960"/>
            <a:ext cx="3230280" cy="259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69880" y="1785960"/>
            <a:ext cx="3230280" cy="259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5680" y="4627080"/>
            <a:ext cx="3230280" cy="259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77960" y="4627080"/>
            <a:ext cx="3230280" cy="259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869880" y="4627080"/>
            <a:ext cx="3230280" cy="259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80640"/>
            <a:ext cx="8248680" cy="1298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5680" y="1785960"/>
            <a:ext cx="10033200" cy="5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80640"/>
            <a:ext cx="8248680" cy="1298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5680" y="1785960"/>
            <a:ext cx="10033200" cy="543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80640"/>
            <a:ext cx="8248680" cy="1298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" y="1785960"/>
            <a:ext cx="4896000" cy="543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26840" y="1785960"/>
            <a:ext cx="4896000" cy="543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80640"/>
            <a:ext cx="8248680" cy="1298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80640"/>
            <a:ext cx="82486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80640"/>
            <a:ext cx="8248680" cy="1298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680" y="1785960"/>
            <a:ext cx="4896000" cy="259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26840" y="1785960"/>
            <a:ext cx="4896000" cy="543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5680" y="4627080"/>
            <a:ext cx="4896000" cy="259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80640"/>
            <a:ext cx="8248680" cy="1298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5680" y="1785960"/>
            <a:ext cx="4896000" cy="543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6840" y="1785960"/>
            <a:ext cx="4896000" cy="259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26840" y="4627080"/>
            <a:ext cx="4896000" cy="259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80640"/>
            <a:ext cx="8248680" cy="1298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5680" y="1785960"/>
            <a:ext cx="4896000" cy="259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6840" y="1785960"/>
            <a:ext cx="4896000" cy="259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5680" y="4627080"/>
            <a:ext cx="10033200" cy="259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5680" y="1785960"/>
            <a:ext cx="10033200" cy="543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marL="243000" indent="-2430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18288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18072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1520" indent="-18108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ommonBullets" charset="2"/>
              <a:buChar char="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14520" indent="-1206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14520" indent="-1206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14520" indent="-1206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70040" y="6659280"/>
            <a:ext cx="2085840" cy="52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97400" y="6659280"/>
            <a:ext cx="3209760" cy="52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96720" y="80640"/>
            <a:ext cx="8248680" cy="1298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139760" y="2738520"/>
            <a:ext cx="85345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Acuerdo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de </a:t>
            </a: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Asociación Económica entre México y Japón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30280" y="4795920"/>
            <a:ext cx="883908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083360" y="5484960"/>
            <a:ext cx="2419560" cy="147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8000" y="376200"/>
            <a:ext cx="266688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30280" y="182412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2560" y="83340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1960" y="1214280"/>
            <a:ext cx="193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0280" y="2205000"/>
            <a:ext cx="914400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01600" y="29988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0280" y="985680"/>
            <a:ext cx="9296280" cy="9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l sector agropecuario y pesquero tienen alto potencial exportador debido a que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3960" y="2585880"/>
            <a:ext cx="918072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Japón importa el 60% de su consumo de al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Japón importa 50 billones de dólares en alimentos y es el tercer importador de alimentos a nivel mun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Las exportaciones mexicanas de alimentos    representan cerca de 1% del total de las importaciones que realiza Jap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0280" y="182412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1960" y="1214280"/>
            <a:ext cx="193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6600" y="1976400"/>
            <a:ext cx="914400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1600" y="29988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0280" y="909720"/>
            <a:ext cx="929628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os productos mexicanos SÍ pueden penetrar al mercado japonés exitosamente. En la actualidad, México es el principal proveedor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596960" y="2205000"/>
          <a:ext cx="6802560" cy="4969080"/>
        </p:xfrm>
        <a:graphic>
          <a:graphicData uri="http://schemas.openxmlformats.org/drawingml/2006/table">
            <a:tbl>
              <a:tblPr/>
              <a:tblGrid>
                <a:gridCol w="3402000"/>
                <a:gridCol w="3400560"/>
              </a:tblGrid>
              <a:tr h="9493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9840"/>
                          <a:tab algn="l" pos="1940040"/>
                          <a:tab algn="l" pos="2909880"/>
                          <a:tab algn="l" pos="3879720"/>
                          <a:tab algn="l" pos="4849920"/>
                          <a:tab algn="l" pos="5819760"/>
                          <a:tab algn="l" pos="6789600"/>
                          <a:tab algn="l" pos="7759800"/>
                          <a:tab algn="l" pos="8729640"/>
                          <a:tab algn="l" pos="9699480"/>
                          <a:tab algn="l" pos="10669680"/>
                        </a:tabLst>
                      </a:pPr>
                      <a:r>
                        <a:rPr b="1" lang="es-MX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9840"/>
                          <a:tab algn="l" pos="1940040"/>
                          <a:tab algn="l" pos="2909880"/>
                          <a:tab algn="l" pos="3879720"/>
                          <a:tab algn="l" pos="4849920"/>
                          <a:tab algn="l" pos="5819760"/>
                          <a:tab algn="l" pos="6789600"/>
                          <a:tab algn="l" pos="7759800"/>
                          <a:tab algn="l" pos="8729640"/>
                          <a:tab algn="l" pos="9699480"/>
                          <a:tab algn="l" pos="10669680"/>
                        </a:tabLst>
                      </a:pPr>
                      <a:r>
                        <a:rPr b="1" lang="es-MX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9840"/>
                          <a:tab algn="l" pos="1940040"/>
                          <a:tab algn="l" pos="2909880"/>
                          <a:tab algn="l" pos="3879720"/>
                          <a:tab algn="l" pos="4849920"/>
                          <a:tab algn="l" pos="5819760"/>
                          <a:tab algn="l" pos="6789600"/>
                          <a:tab algn="l" pos="7759800"/>
                          <a:tab algn="l" pos="8729640"/>
                          <a:tab algn="l" pos="96994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9840"/>
                          <a:tab algn="l" pos="1940040"/>
                          <a:tab algn="l" pos="2909880"/>
                          <a:tab algn="l" pos="3879720"/>
                          <a:tab algn="l" pos="4849920"/>
                          <a:tab algn="l" pos="5819760"/>
                          <a:tab algn="l" pos="6789600"/>
                          <a:tab algn="l" pos="7759800"/>
                          <a:tab algn="l" pos="8729640"/>
                          <a:tab algn="l" pos="9699480"/>
                          <a:tab algn="l" pos="10669680"/>
                        </a:tabLst>
                      </a:pPr>
                      <a:r>
                        <a:rPr b="1" lang="es-MX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articipación de mercado.                   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8830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69840"/>
                          <a:tab algn="l" pos="1940040"/>
                          <a:tab algn="l" pos="2909880"/>
                          <a:tab algn="l" pos="3879720"/>
                          <a:tab algn="l" pos="4849920"/>
                          <a:tab algn="l" pos="5819760"/>
                          <a:tab algn="l" pos="6789600"/>
                          <a:tab algn="l" pos="7759800"/>
                          <a:tab algn="l" pos="8729640"/>
                          <a:tab algn="l" pos="96994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69840"/>
                          <a:tab algn="l" pos="1940040"/>
                          <a:tab algn="l" pos="2909880"/>
                          <a:tab algn="l" pos="3879720"/>
                          <a:tab algn="l" pos="4849920"/>
                          <a:tab algn="l" pos="5819760"/>
                          <a:tab algn="l" pos="6789600"/>
                          <a:tab algn="l" pos="7759800"/>
                          <a:tab algn="l" pos="8729640"/>
                          <a:tab algn="l" pos="9699480"/>
                          <a:tab algn="l" pos="10669680"/>
                        </a:tabLst>
                      </a:pPr>
                      <a:r>
                        <a:rPr b="1" lang="en-US" sz="2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806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69840"/>
                          <a:tab algn="l" pos="1940040"/>
                          <a:tab algn="l" pos="2909880"/>
                          <a:tab algn="l" pos="3879720"/>
                          <a:tab algn="l" pos="4849920"/>
                          <a:tab algn="l" pos="5819760"/>
                          <a:tab algn="l" pos="6789600"/>
                          <a:tab algn="l" pos="7759800"/>
                          <a:tab algn="l" pos="8729640"/>
                          <a:tab algn="l" pos="96994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69840"/>
                          <a:tab algn="l" pos="1940040"/>
                          <a:tab algn="l" pos="2909880"/>
                          <a:tab algn="l" pos="3879720"/>
                          <a:tab algn="l" pos="4849920"/>
                          <a:tab algn="l" pos="5819760"/>
                          <a:tab algn="l" pos="6789600"/>
                          <a:tab algn="l" pos="7759800"/>
                          <a:tab algn="l" pos="8729640"/>
                          <a:tab algn="l" pos="96994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81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69840"/>
                          <a:tab algn="l" pos="1940040"/>
                          <a:tab algn="l" pos="2909880"/>
                          <a:tab algn="l" pos="3879720"/>
                          <a:tab algn="l" pos="4849920"/>
                          <a:tab algn="l" pos="5819760"/>
                          <a:tab algn="l" pos="6789600"/>
                          <a:tab algn="l" pos="7759800"/>
                          <a:tab algn="l" pos="8729640"/>
                          <a:tab algn="l" pos="96994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69840"/>
                          <a:tab algn="l" pos="1940040"/>
                          <a:tab algn="l" pos="2909880"/>
                          <a:tab algn="l" pos="3879720"/>
                          <a:tab algn="l" pos="4849920"/>
                          <a:tab algn="l" pos="5819760"/>
                          <a:tab algn="l" pos="6789600"/>
                          <a:tab algn="l" pos="7759800"/>
                          <a:tab algn="l" pos="8729640"/>
                          <a:tab algn="l" pos="96994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815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69840"/>
                          <a:tab algn="l" pos="1940040"/>
                          <a:tab algn="l" pos="2909880"/>
                          <a:tab algn="l" pos="3879720"/>
                          <a:tab algn="l" pos="4849920"/>
                          <a:tab algn="l" pos="5819760"/>
                          <a:tab algn="l" pos="6789600"/>
                          <a:tab algn="l" pos="7759800"/>
                          <a:tab algn="l" pos="8729640"/>
                          <a:tab algn="l" pos="96994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69840"/>
                          <a:tab algn="l" pos="1940040"/>
                          <a:tab algn="l" pos="2909880"/>
                          <a:tab algn="l" pos="3879720"/>
                          <a:tab algn="l" pos="4849920"/>
                          <a:tab algn="l" pos="5819760"/>
                          <a:tab algn="l" pos="6789600"/>
                          <a:tab algn="l" pos="7759800"/>
                          <a:tab algn="l" pos="8729640"/>
                          <a:tab algn="l" pos="96994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67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69840"/>
                          <a:tab algn="l" pos="1940040"/>
                          <a:tab algn="l" pos="2909880"/>
                          <a:tab algn="l" pos="3879720"/>
                          <a:tab algn="l" pos="4849920"/>
                          <a:tab algn="l" pos="5819760"/>
                          <a:tab algn="l" pos="6789600"/>
                          <a:tab algn="l" pos="7759800"/>
                          <a:tab algn="l" pos="8729640"/>
                          <a:tab algn="l" pos="96994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69840"/>
                          <a:tab algn="l" pos="1940040"/>
                          <a:tab algn="l" pos="2909880"/>
                          <a:tab algn="l" pos="3879720"/>
                          <a:tab algn="l" pos="4849920"/>
                          <a:tab algn="l" pos="5819760"/>
                          <a:tab algn="l" pos="6789600"/>
                          <a:tab algn="l" pos="7759800"/>
                          <a:tab algn="l" pos="8729640"/>
                          <a:tab algn="l" pos="96994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2643120" y="3443400"/>
            <a:ext cx="193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41320" y="3610080"/>
            <a:ext cx="13420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Arial"/>
              </a:rPr>
              <a:t>Agua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18040" y="3533760"/>
            <a:ext cx="13359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98.8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15920" y="4338720"/>
            <a:ext cx="956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Arial"/>
              </a:rPr>
              <a:t>Lim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44200" y="4262400"/>
            <a:ext cx="915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98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49600" y="5176800"/>
            <a:ext cx="3684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ubo para Graphic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95760" y="6738840"/>
            <a:ext cx="193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47000" y="5133960"/>
            <a:ext cx="1055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76.4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68560" y="5938920"/>
            <a:ext cx="885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el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21600" y="5938920"/>
            <a:ext cx="98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68.4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1200" y="6624720"/>
            <a:ext cx="574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4200" y="6700680"/>
            <a:ext cx="915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49.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87480" y="2509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0280" y="182412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2560" y="83340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1138320"/>
            <a:ext cx="922032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11960" y="1214280"/>
            <a:ext cx="193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16000" y="1287360"/>
            <a:ext cx="2635200" cy="1282680"/>
          </a:xfrm>
          <a:custGeom>
            <a:avLst/>
            <a:gdLst/>
            <a:ahLst/>
            <a:rect l="l" t="t" r="r" b="b"/>
            <a:pathLst>
              <a:path w="3048" h="1564">
                <a:moveTo>
                  <a:pt x="58" y="1390"/>
                </a:moveTo>
                <a:lnTo>
                  <a:pt x="59" y="1390"/>
                </a:lnTo>
                <a:lnTo>
                  <a:pt x="69" y="1385"/>
                </a:lnTo>
                <a:lnTo>
                  <a:pt x="103" y="1367"/>
                </a:lnTo>
                <a:lnTo>
                  <a:pt x="129" y="1352"/>
                </a:lnTo>
                <a:lnTo>
                  <a:pt x="132" y="1352"/>
                </a:lnTo>
                <a:lnTo>
                  <a:pt x="134" y="1350"/>
                </a:lnTo>
                <a:lnTo>
                  <a:pt x="155" y="1341"/>
                </a:lnTo>
                <a:lnTo>
                  <a:pt x="223" y="1308"/>
                </a:lnTo>
                <a:lnTo>
                  <a:pt x="291" y="1261"/>
                </a:lnTo>
                <a:lnTo>
                  <a:pt x="280" y="1281"/>
                </a:lnTo>
                <a:lnTo>
                  <a:pt x="284" y="1276"/>
                </a:lnTo>
                <a:lnTo>
                  <a:pt x="318" y="1234"/>
                </a:lnTo>
                <a:lnTo>
                  <a:pt x="405" y="1125"/>
                </a:lnTo>
                <a:lnTo>
                  <a:pt x="476" y="1036"/>
                </a:lnTo>
                <a:lnTo>
                  <a:pt x="481" y="1031"/>
                </a:lnTo>
                <a:lnTo>
                  <a:pt x="485" y="1028"/>
                </a:lnTo>
                <a:lnTo>
                  <a:pt x="514" y="1005"/>
                </a:lnTo>
                <a:lnTo>
                  <a:pt x="613" y="928"/>
                </a:lnTo>
                <a:lnTo>
                  <a:pt x="689" y="869"/>
                </a:lnTo>
                <a:lnTo>
                  <a:pt x="693" y="866"/>
                </a:lnTo>
                <a:lnTo>
                  <a:pt x="694" y="863"/>
                </a:lnTo>
                <a:lnTo>
                  <a:pt x="699" y="850"/>
                </a:lnTo>
                <a:lnTo>
                  <a:pt x="719" y="803"/>
                </a:lnTo>
                <a:lnTo>
                  <a:pt x="732" y="767"/>
                </a:lnTo>
                <a:lnTo>
                  <a:pt x="734" y="765"/>
                </a:lnTo>
                <a:lnTo>
                  <a:pt x="736" y="764"/>
                </a:lnTo>
                <a:lnTo>
                  <a:pt x="750" y="760"/>
                </a:lnTo>
                <a:lnTo>
                  <a:pt x="772" y="748"/>
                </a:lnTo>
                <a:lnTo>
                  <a:pt x="820" y="746"/>
                </a:lnTo>
                <a:lnTo>
                  <a:pt x="834" y="748"/>
                </a:lnTo>
                <a:lnTo>
                  <a:pt x="832" y="772"/>
                </a:lnTo>
                <a:lnTo>
                  <a:pt x="836" y="754"/>
                </a:lnTo>
                <a:lnTo>
                  <a:pt x="834" y="802"/>
                </a:lnTo>
                <a:lnTo>
                  <a:pt x="836" y="864"/>
                </a:lnTo>
                <a:lnTo>
                  <a:pt x="836" y="867"/>
                </a:lnTo>
                <a:lnTo>
                  <a:pt x="834" y="868"/>
                </a:lnTo>
                <a:lnTo>
                  <a:pt x="825" y="879"/>
                </a:lnTo>
                <a:lnTo>
                  <a:pt x="792" y="917"/>
                </a:lnTo>
                <a:lnTo>
                  <a:pt x="767" y="946"/>
                </a:lnTo>
                <a:lnTo>
                  <a:pt x="765" y="947"/>
                </a:lnTo>
                <a:lnTo>
                  <a:pt x="773" y="944"/>
                </a:lnTo>
                <a:lnTo>
                  <a:pt x="796" y="936"/>
                </a:lnTo>
                <a:lnTo>
                  <a:pt x="814" y="930"/>
                </a:lnTo>
                <a:lnTo>
                  <a:pt x="815" y="929"/>
                </a:lnTo>
                <a:lnTo>
                  <a:pt x="817" y="929"/>
                </a:lnTo>
                <a:lnTo>
                  <a:pt x="852" y="932"/>
                </a:lnTo>
                <a:lnTo>
                  <a:pt x="886" y="908"/>
                </a:lnTo>
                <a:lnTo>
                  <a:pt x="885" y="882"/>
                </a:lnTo>
                <a:lnTo>
                  <a:pt x="887" y="880"/>
                </a:lnTo>
                <a:lnTo>
                  <a:pt x="888" y="881"/>
                </a:lnTo>
                <a:lnTo>
                  <a:pt x="895" y="885"/>
                </a:lnTo>
                <a:lnTo>
                  <a:pt x="920" y="901"/>
                </a:lnTo>
                <a:lnTo>
                  <a:pt x="939" y="914"/>
                </a:lnTo>
                <a:lnTo>
                  <a:pt x="940" y="914"/>
                </a:lnTo>
                <a:lnTo>
                  <a:pt x="940" y="907"/>
                </a:lnTo>
                <a:lnTo>
                  <a:pt x="940" y="887"/>
                </a:lnTo>
                <a:lnTo>
                  <a:pt x="940" y="872"/>
                </a:lnTo>
                <a:lnTo>
                  <a:pt x="940" y="871"/>
                </a:lnTo>
                <a:lnTo>
                  <a:pt x="939" y="871"/>
                </a:lnTo>
                <a:lnTo>
                  <a:pt x="932" y="867"/>
                </a:lnTo>
                <a:lnTo>
                  <a:pt x="908" y="856"/>
                </a:lnTo>
                <a:lnTo>
                  <a:pt x="889" y="847"/>
                </a:lnTo>
                <a:lnTo>
                  <a:pt x="888" y="846"/>
                </a:lnTo>
                <a:lnTo>
                  <a:pt x="887" y="845"/>
                </a:lnTo>
                <a:lnTo>
                  <a:pt x="885" y="836"/>
                </a:lnTo>
                <a:lnTo>
                  <a:pt x="877" y="804"/>
                </a:lnTo>
                <a:lnTo>
                  <a:pt x="871" y="780"/>
                </a:lnTo>
                <a:lnTo>
                  <a:pt x="871" y="779"/>
                </a:lnTo>
                <a:lnTo>
                  <a:pt x="872" y="778"/>
                </a:lnTo>
                <a:lnTo>
                  <a:pt x="883" y="773"/>
                </a:lnTo>
                <a:lnTo>
                  <a:pt x="916" y="757"/>
                </a:lnTo>
                <a:lnTo>
                  <a:pt x="941" y="744"/>
                </a:lnTo>
                <a:lnTo>
                  <a:pt x="943" y="744"/>
                </a:lnTo>
                <a:lnTo>
                  <a:pt x="948" y="747"/>
                </a:lnTo>
                <a:lnTo>
                  <a:pt x="962" y="753"/>
                </a:lnTo>
                <a:lnTo>
                  <a:pt x="972" y="758"/>
                </a:lnTo>
                <a:lnTo>
                  <a:pt x="973" y="758"/>
                </a:lnTo>
                <a:lnTo>
                  <a:pt x="974" y="761"/>
                </a:lnTo>
                <a:lnTo>
                  <a:pt x="1024" y="820"/>
                </a:lnTo>
                <a:lnTo>
                  <a:pt x="1044" y="840"/>
                </a:lnTo>
                <a:lnTo>
                  <a:pt x="1056" y="842"/>
                </a:lnTo>
                <a:lnTo>
                  <a:pt x="1044" y="856"/>
                </a:lnTo>
                <a:lnTo>
                  <a:pt x="1042" y="853"/>
                </a:lnTo>
                <a:lnTo>
                  <a:pt x="1056" y="838"/>
                </a:lnTo>
                <a:lnTo>
                  <a:pt x="1006" y="761"/>
                </a:lnTo>
                <a:lnTo>
                  <a:pt x="986" y="706"/>
                </a:lnTo>
                <a:lnTo>
                  <a:pt x="984" y="703"/>
                </a:lnTo>
                <a:lnTo>
                  <a:pt x="988" y="701"/>
                </a:lnTo>
                <a:lnTo>
                  <a:pt x="1024" y="668"/>
                </a:lnTo>
                <a:lnTo>
                  <a:pt x="1062" y="650"/>
                </a:lnTo>
                <a:lnTo>
                  <a:pt x="1110" y="652"/>
                </a:lnTo>
                <a:lnTo>
                  <a:pt x="1156" y="606"/>
                </a:lnTo>
                <a:lnTo>
                  <a:pt x="1160" y="604"/>
                </a:lnTo>
                <a:lnTo>
                  <a:pt x="1167" y="606"/>
                </a:lnTo>
                <a:lnTo>
                  <a:pt x="1188" y="610"/>
                </a:lnTo>
                <a:lnTo>
                  <a:pt x="1204" y="613"/>
                </a:lnTo>
                <a:lnTo>
                  <a:pt x="1206" y="613"/>
                </a:lnTo>
                <a:lnTo>
                  <a:pt x="1207" y="612"/>
                </a:lnTo>
                <a:lnTo>
                  <a:pt x="1216" y="605"/>
                </a:lnTo>
                <a:lnTo>
                  <a:pt x="1245" y="581"/>
                </a:lnTo>
                <a:lnTo>
                  <a:pt x="1268" y="563"/>
                </a:lnTo>
                <a:lnTo>
                  <a:pt x="1270" y="562"/>
                </a:lnTo>
                <a:lnTo>
                  <a:pt x="1272" y="562"/>
                </a:lnTo>
                <a:lnTo>
                  <a:pt x="1289" y="561"/>
                </a:lnTo>
                <a:lnTo>
                  <a:pt x="1347" y="559"/>
                </a:lnTo>
                <a:lnTo>
                  <a:pt x="1391" y="557"/>
                </a:lnTo>
                <a:lnTo>
                  <a:pt x="1394" y="557"/>
                </a:lnTo>
                <a:lnTo>
                  <a:pt x="1394" y="558"/>
                </a:lnTo>
                <a:lnTo>
                  <a:pt x="1400" y="561"/>
                </a:lnTo>
                <a:lnTo>
                  <a:pt x="1419" y="574"/>
                </a:lnTo>
                <a:lnTo>
                  <a:pt x="1432" y="583"/>
                </a:lnTo>
                <a:lnTo>
                  <a:pt x="1433" y="584"/>
                </a:lnTo>
                <a:lnTo>
                  <a:pt x="1432" y="585"/>
                </a:lnTo>
                <a:lnTo>
                  <a:pt x="1423" y="595"/>
                </a:lnTo>
                <a:lnTo>
                  <a:pt x="1390" y="627"/>
                </a:lnTo>
                <a:lnTo>
                  <a:pt x="1346" y="660"/>
                </a:lnTo>
                <a:lnTo>
                  <a:pt x="1365" y="653"/>
                </a:lnTo>
                <a:lnTo>
                  <a:pt x="1364" y="655"/>
                </a:lnTo>
                <a:lnTo>
                  <a:pt x="1363" y="662"/>
                </a:lnTo>
                <a:lnTo>
                  <a:pt x="1346" y="686"/>
                </a:lnTo>
                <a:lnTo>
                  <a:pt x="1350" y="708"/>
                </a:lnTo>
                <a:lnTo>
                  <a:pt x="1354" y="708"/>
                </a:lnTo>
                <a:lnTo>
                  <a:pt x="1354" y="709"/>
                </a:lnTo>
                <a:lnTo>
                  <a:pt x="1355" y="708"/>
                </a:lnTo>
                <a:lnTo>
                  <a:pt x="1380" y="702"/>
                </a:lnTo>
                <a:lnTo>
                  <a:pt x="1402" y="657"/>
                </a:lnTo>
                <a:lnTo>
                  <a:pt x="1429" y="628"/>
                </a:lnTo>
                <a:lnTo>
                  <a:pt x="1431" y="626"/>
                </a:lnTo>
                <a:lnTo>
                  <a:pt x="1433" y="626"/>
                </a:lnTo>
                <a:lnTo>
                  <a:pt x="1452" y="623"/>
                </a:lnTo>
                <a:lnTo>
                  <a:pt x="1533" y="631"/>
                </a:lnTo>
                <a:lnTo>
                  <a:pt x="1590" y="634"/>
                </a:lnTo>
                <a:lnTo>
                  <a:pt x="1586" y="624"/>
                </a:lnTo>
                <a:lnTo>
                  <a:pt x="1584" y="630"/>
                </a:lnTo>
                <a:lnTo>
                  <a:pt x="1588" y="628"/>
                </a:lnTo>
                <a:lnTo>
                  <a:pt x="1586" y="638"/>
                </a:lnTo>
                <a:lnTo>
                  <a:pt x="1587" y="622"/>
                </a:lnTo>
                <a:lnTo>
                  <a:pt x="1608" y="598"/>
                </a:lnTo>
                <a:lnTo>
                  <a:pt x="1610" y="596"/>
                </a:lnTo>
                <a:lnTo>
                  <a:pt x="1616" y="604"/>
                </a:lnTo>
                <a:lnTo>
                  <a:pt x="1616" y="598"/>
                </a:lnTo>
                <a:lnTo>
                  <a:pt x="1617" y="592"/>
                </a:lnTo>
                <a:lnTo>
                  <a:pt x="1645" y="577"/>
                </a:lnTo>
                <a:lnTo>
                  <a:pt x="1648" y="576"/>
                </a:lnTo>
                <a:lnTo>
                  <a:pt x="1649" y="577"/>
                </a:lnTo>
                <a:lnTo>
                  <a:pt x="1665" y="604"/>
                </a:lnTo>
                <a:lnTo>
                  <a:pt x="1692" y="599"/>
                </a:lnTo>
                <a:lnTo>
                  <a:pt x="1707" y="616"/>
                </a:lnTo>
                <a:lnTo>
                  <a:pt x="1718" y="611"/>
                </a:lnTo>
                <a:lnTo>
                  <a:pt x="1721" y="612"/>
                </a:lnTo>
                <a:lnTo>
                  <a:pt x="1722" y="612"/>
                </a:lnTo>
                <a:lnTo>
                  <a:pt x="1734" y="612"/>
                </a:lnTo>
                <a:lnTo>
                  <a:pt x="1776" y="640"/>
                </a:lnTo>
                <a:lnTo>
                  <a:pt x="1807" y="612"/>
                </a:lnTo>
                <a:lnTo>
                  <a:pt x="1808" y="612"/>
                </a:lnTo>
                <a:lnTo>
                  <a:pt x="1807" y="611"/>
                </a:lnTo>
                <a:lnTo>
                  <a:pt x="1802" y="608"/>
                </a:lnTo>
                <a:lnTo>
                  <a:pt x="1782" y="597"/>
                </a:lnTo>
                <a:lnTo>
                  <a:pt x="1766" y="589"/>
                </a:lnTo>
                <a:lnTo>
                  <a:pt x="1765" y="588"/>
                </a:lnTo>
                <a:lnTo>
                  <a:pt x="1767" y="588"/>
                </a:lnTo>
                <a:lnTo>
                  <a:pt x="1779" y="581"/>
                </a:lnTo>
                <a:lnTo>
                  <a:pt x="1822" y="558"/>
                </a:lnTo>
                <a:lnTo>
                  <a:pt x="1855" y="541"/>
                </a:lnTo>
                <a:lnTo>
                  <a:pt x="1857" y="540"/>
                </a:lnTo>
                <a:lnTo>
                  <a:pt x="1857" y="539"/>
                </a:lnTo>
                <a:lnTo>
                  <a:pt x="1852" y="535"/>
                </a:lnTo>
                <a:lnTo>
                  <a:pt x="1837" y="521"/>
                </a:lnTo>
                <a:lnTo>
                  <a:pt x="1825" y="510"/>
                </a:lnTo>
                <a:lnTo>
                  <a:pt x="1825" y="509"/>
                </a:lnTo>
                <a:lnTo>
                  <a:pt x="1825" y="509"/>
                </a:lnTo>
                <a:lnTo>
                  <a:pt x="1828" y="502"/>
                </a:lnTo>
                <a:lnTo>
                  <a:pt x="1835" y="482"/>
                </a:lnTo>
                <a:lnTo>
                  <a:pt x="1842" y="466"/>
                </a:lnTo>
                <a:lnTo>
                  <a:pt x="1842" y="465"/>
                </a:lnTo>
                <a:lnTo>
                  <a:pt x="1845" y="465"/>
                </a:lnTo>
                <a:lnTo>
                  <a:pt x="1864" y="460"/>
                </a:lnTo>
                <a:lnTo>
                  <a:pt x="1929" y="445"/>
                </a:lnTo>
                <a:lnTo>
                  <a:pt x="1977" y="434"/>
                </a:lnTo>
                <a:lnTo>
                  <a:pt x="1980" y="433"/>
                </a:lnTo>
                <a:lnTo>
                  <a:pt x="1981" y="433"/>
                </a:lnTo>
                <a:lnTo>
                  <a:pt x="1993" y="423"/>
                </a:lnTo>
                <a:lnTo>
                  <a:pt x="2030" y="393"/>
                </a:lnTo>
                <a:lnTo>
                  <a:pt x="2059" y="371"/>
                </a:lnTo>
                <a:lnTo>
                  <a:pt x="2062" y="369"/>
                </a:lnTo>
                <a:lnTo>
                  <a:pt x="2064" y="369"/>
                </a:lnTo>
                <a:lnTo>
                  <a:pt x="2083" y="368"/>
                </a:lnTo>
                <a:lnTo>
                  <a:pt x="2151" y="364"/>
                </a:lnTo>
                <a:lnTo>
                  <a:pt x="2203" y="361"/>
                </a:lnTo>
                <a:lnTo>
                  <a:pt x="2206" y="361"/>
                </a:lnTo>
                <a:lnTo>
                  <a:pt x="2205" y="360"/>
                </a:lnTo>
                <a:lnTo>
                  <a:pt x="2195" y="355"/>
                </a:lnTo>
                <a:lnTo>
                  <a:pt x="2166" y="337"/>
                </a:lnTo>
                <a:lnTo>
                  <a:pt x="2141" y="324"/>
                </a:lnTo>
                <a:lnTo>
                  <a:pt x="2141" y="323"/>
                </a:lnTo>
                <a:lnTo>
                  <a:pt x="2141" y="322"/>
                </a:lnTo>
                <a:lnTo>
                  <a:pt x="2143" y="318"/>
                </a:lnTo>
                <a:lnTo>
                  <a:pt x="2149" y="303"/>
                </a:lnTo>
                <a:lnTo>
                  <a:pt x="2155" y="293"/>
                </a:lnTo>
                <a:lnTo>
                  <a:pt x="2156" y="291"/>
                </a:lnTo>
                <a:lnTo>
                  <a:pt x="2157" y="291"/>
                </a:lnTo>
                <a:lnTo>
                  <a:pt x="2170" y="287"/>
                </a:lnTo>
                <a:lnTo>
                  <a:pt x="2213" y="271"/>
                </a:lnTo>
                <a:lnTo>
                  <a:pt x="2247" y="259"/>
                </a:lnTo>
                <a:lnTo>
                  <a:pt x="2249" y="259"/>
                </a:lnTo>
                <a:lnTo>
                  <a:pt x="2247" y="258"/>
                </a:lnTo>
                <a:lnTo>
                  <a:pt x="2235" y="255"/>
                </a:lnTo>
                <a:lnTo>
                  <a:pt x="2197" y="241"/>
                </a:lnTo>
                <a:lnTo>
                  <a:pt x="2169" y="231"/>
                </a:lnTo>
                <a:lnTo>
                  <a:pt x="2167" y="230"/>
                </a:lnTo>
                <a:lnTo>
                  <a:pt x="2169" y="228"/>
                </a:lnTo>
                <a:lnTo>
                  <a:pt x="2182" y="211"/>
                </a:lnTo>
                <a:lnTo>
                  <a:pt x="2212" y="172"/>
                </a:lnTo>
                <a:lnTo>
                  <a:pt x="2246" y="144"/>
                </a:lnTo>
                <a:lnTo>
                  <a:pt x="2257" y="102"/>
                </a:lnTo>
                <a:lnTo>
                  <a:pt x="2259" y="102"/>
                </a:lnTo>
                <a:lnTo>
                  <a:pt x="2272" y="104"/>
                </a:lnTo>
                <a:lnTo>
                  <a:pt x="2314" y="90"/>
                </a:lnTo>
                <a:lnTo>
                  <a:pt x="2344" y="83"/>
                </a:lnTo>
                <a:lnTo>
                  <a:pt x="2347" y="82"/>
                </a:lnTo>
                <a:lnTo>
                  <a:pt x="2340" y="78"/>
                </a:lnTo>
                <a:lnTo>
                  <a:pt x="2322" y="63"/>
                </a:lnTo>
                <a:lnTo>
                  <a:pt x="2309" y="52"/>
                </a:lnTo>
                <a:lnTo>
                  <a:pt x="2308" y="51"/>
                </a:lnTo>
                <a:lnTo>
                  <a:pt x="2309" y="50"/>
                </a:lnTo>
                <a:lnTo>
                  <a:pt x="2318" y="44"/>
                </a:lnTo>
                <a:lnTo>
                  <a:pt x="2346" y="20"/>
                </a:lnTo>
                <a:lnTo>
                  <a:pt x="2368" y="2"/>
                </a:lnTo>
                <a:lnTo>
                  <a:pt x="2369" y="0"/>
                </a:lnTo>
                <a:lnTo>
                  <a:pt x="2369" y="1"/>
                </a:lnTo>
                <a:lnTo>
                  <a:pt x="2375" y="3"/>
                </a:lnTo>
                <a:lnTo>
                  <a:pt x="2393" y="12"/>
                </a:lnTo>
                <a:lnTo>
                  <a:pt x="2408" y="18"/>
                </a:lnTo>
                <a:lnTo>
                  <a:pt x="2409" y="18"/>
                </a:lnTo>
                <a:lnTo>
                  <a:pt x="2409" y="19"/>
                </a:lnTo>
                <a:lnTo>
                  <a:pt x="2410" y="24"/>
                </a:lnTo>
                <a:lnTo>
                  <a:pt x="2413" y="39"/>
                </a:lnTo>
                <a:lnTo>
                  <a:pt x="2415" y="51"/>
                </a:lnTo>
                <a:lnTo>
                  <a:pt x="2416" y="51"/>
                </a:lnTo>
                <a:lnTo>
                  <a:pt x="2424" y="52"/>
                </a:lnTo>
                <a:lnTo>
                  <a:pt x="2449" y="56"/>
                </a:lnTo>
                <a:lnTo>
                  <a:pt x="2469" y="59"/>
                </a:lnTo>
                <a:lnTo>
                  <a:pt x="2470" y="59"/>
                </a:lnTo>
                <a:lnTo>
                  <a:pt x="2470" y="60"/>
                </a:lnTo>
                <a:lnTo>
                  <a:pt x="2470" y="63"/>
                </a:lnTo>
                <a:lnTo>
                  <a:pt x="2472" y="80"/>
                </a:lnTo>
                <a:lnTo>
                  <a:pt x="2473" y="92"/>
                </a:lnTo>
                <a:lnTo>
                  <a:pt x="2474" y="92"/>
                </a:lnTo>
                <a:lnTo>
                  <a:pt x="2472" y="94"/>
                </a:lnTo>
                <a:lnTo>
                  <a:pt x="2461" y="100"/>
                </a:lnTo>
                <a:lnTo>
                  <a:pt x="2422" y="122"/>
                </a:lnTo>
                <a:lnTo>
                  <a:pt x="2393" y="139"/>
                </a:lnTo>
                <a:lnTo>
                  <a:pt x="2391" y="140"/>
                </a:lnTo>
                <a:lnTo>
                  <a:pt x="2399" y="142"/>
                </a:lnTo>
                <a:lnTo>
                  <a:pt x="2423" y="146"/>
                </a:lnTo>
                <a:lnTo>
                  <a:pt x="2442" y="149"/>
                </a:lnTo>
                <a:lnTo>
                  <a:pt x="2443" y="149"/>
                </a:lnTo>
                <a:lnTo>
                  <a:pt x="2444" y="150"/>
                </a:lnTo>
                <a:lnTo>
                  <a:pt x="2451" y="157"/>
                </a:lnTo>
                <a:lnTo>
                  <a:pt x="2480" y="183"/>
                </a:lnTo>
                <a:lnTo>
                  <a:pt x="2502" y="202"/>
                </a:lnTo>
                <a:lnTo>
                  <a:pt x="2503" y="203"/>
                </a:lnTo>
                <a:lnTo>
                  <a:pt x="2505" y="202"/>
                </a:lnTo>
                <a:lnTo>
                  <a:pt x="2519" y="199"/>
                </a:lnTo>
                <a:lnTo>
                  <a:pt x="2570" y="186"/>
                </a:lnTo>
                <a:lnTo>
                  <a:pt x="2608" y="176"/>
                </a:lnTo>
                <a:lnTo>
                  <a:pt x="2610" y="175"/>
                </a:lnTo>
                <a:lnTo>
                  <a:pt x="2612" y="176"/>
                </a:lnTo>
                <a:lnTo>
                  <a:pt x="2618" y="181"/>
                </a:lnTo>
                <a:lnTo>
                  <a:pt x="2623" y="184"/>
                </a:lnTo>
                <a:lnTo>
                  <a:pt x="2623" y="184"/>
                </a:lnTo>
                <a:lnTo>
                  <a:pt x="2623" y="185"/>
                </a:lnTo>
                <a:lnTo>
                  <a:pt x="2618" y="192"/>
                </a:lnTo>
                <a:lnTo>
                  <a:pt x="2603" y="215"/>
                </a:lnTo>
                <a:lnTo>
                  <a:pt x="2592" y="234"/>
                </a:lnTo>
                <a:lnTo>
                  <a:pt x="2592" y="234"/>
                </a:lnTo>
                <a:lnTo>
                  <a:pt x="2594" y="237"/>
                </a:lnTo>
                <a:lnTo>
                  <a:pt x="2637" y="286"/>
                </a:lnTo>
                <a:lnTo>
                  <a:pt x="2670" y="313"/>
                </a:lnTo>
                <a:lnTo>
                  <a:pt x="2713" y="357"/>
                </a:lnTo>
                <a:lnTo>
                  <a:pt x="2716" y="360"/>
                </a:lnTo>
                <a:lnTo>
                  <a:pt x="2715" y="361"/>
                </a:lnTo>
                <a:lnTo>
                  <a:pt x="2711" y="371"/>
                </a:lnTo>
                <a:lnTo>
                  <a:pt x="2699" y="404"/>
                </a:lnTo>
                <a:lnTo>
                  <a:pt x="2688" y="428"/>
                </a:lnTo>
                <a:lnTo>
                  <a:pt x="2688" y="429"/>
                </a:lnTo>
                <a:lnTo>
                  <a:pt x="2688" y="431"/>
                </a:lnTo>
                <a:lnTo>
                  <a:pt x="2693" y="441"/>
                </a:lnTo>
                <a:lnTo>
                  <a:pt x="2706" y="476"/>
                </a:lnTo>
                <a:lnTo>
                  <a:pt x="2717" y="502"/>
                </a:lnTo>
                <a:lnTo>
                  <a:pt x="2717" y="504"/>
                </a:lnTo>
                <a:lnTo>
                  <a:pt x="2719" y="505"/>
                </a:lnTo>
                <a:lnTo>
                  <a:pt x="2736" y="508"/>
                </a:lnTo>
                <a:lnTo>
                  <a:pt x="2826" y="511"/>
                </a:lnTo>
                <a:lnTo>
                  <a:pt x="2834" y="530"/>
                </a:lnTo>
                <a:lnTo>
                  <a:pt x="2836" y="530"/>
                </a:lnTo>
                <a:lnTo>
                  <a:pt x="2838" y="531"/>
                </a:lnTo>
                <a:lnTo>
                  <a:pt x="2843" y="539"/>
                </a:lnTo>
                <a:lnTo>
                  <a:pt x="2877" y="592"/>
                </a:lnTo>
                <a:lnTo>
                  <a:pt x="2862" y="566"/>
                </a:lnTo>
                <a:lnTo>
                  <a:pt x="2876" y="586"/>
                </a:lnTo>
                <a:lnTo>
                  <a:pt x="2878" y="587"/>
                </a:lnTo>
                <a:lnTo>
                  <a:pt x="2879" y="588"/>
                </a:lnTo>
                <a:lnTo>
                  <a:pt x="2889" y="596"/>
                </a:lnTo>
                <a:lnTo>
                  <a:pt x="2886" y="616"/>
                </a:lnTo>
                <a:lnTo>
                  <a:pt x="2929" y="620"/>
                </a:lnTo>
                <a:lnTo>
                  <a:pt x="2925" y="649"/>
                </a:lnTo>
                <a:lnTo>
                  <a:pt x="2957" y="639"/>
                </a:lnTo>
                <a:lnTo>
                  <a:pt x="2960" y="639"/>
                </a:lnTo>
                <a:lnTo>
                  <a:pt x="2960" y="641"/>
                </a:lnTo>
                <a:lnTo>
                  <a:pt x="2968" y="653"/>
                </a:lnTo>
                <a:lnTo>
                  <a:pt x="2985" y="691"/>
                </a:lnTo>
                <a:lnTo>
                  <a:pt x="2994" y="694"/>
                </a:lnTo>
                <a:lnTo>
                  <a:pt x="3013" y="726"/>
                </a:lnTo>
                <a:lnTo>
                  <a:pt x="3015" y="727"/>
                </a:lnTo>
                <a:lnTo>
                  <a:pt x="3015" y="728"/>
                </a:lnTo>
                <a:lnTo>
                  <a:pt x="3016" y="733"/>
                </a:lnTo>
                <a:lnTo>
                  <a:pt x="3020" y="754"/>
                </a:lnTo>
                <a:lnTo>
                  <a:pt x="3023" y="769"/>
                </a:lnTo>
                <a:lnTo>
                  <a:pt x="3024" y="770"/>
                </a:lnTo>
                <a:lnTo>
                  <a:pt x="3021" y="769"/>
                </a:lnTo>
                <a:lnTo>
                  <a:pt x="3000" y="787"/>
                </a:lnTo>
                <a:lnTo>
                  <a:pt x="2955" y="775"/>
                </a:lnTo>
                <a:lnTo>
                  <a:pt x="2895" y="736"/>
                </a:lnTo>
                <a:lnTo>
                  <a:pt x="2878" y="718"/>
                </a:lnTo>
                <a:lnTo>
                  <a:pt x="2875" y="717"/>
                </a:lnTo>
                <a:lnTo>
                  <a:pt x="2871" y="721"/>
                </a:lnTo>
                <a:lnTo>
                  <a:pt x="2817" y="697"/>
                </a:lnTo>
                <a:lnTo>
                  <a:pt x="2784" y="661"/>
                </a:lnTo>
                <a:lnTo>
                  <a:pt x="2758" y="635"/>
                </a:lnTo>
                <a:lnTo>
                  <a:pt x="2755" y="632"/>
                </a:lnTo>
                <a:lnTo>
                  <a:pt x="2738" y="609"/>
                </a:lnTo>
                <a:lnTo>
                  <a:pt x="2724" y="577"/>
                </a:lnTo>
                <a:lnTo>
                  <a:pt x="2688" y="523"/>
                </a:lnTo>
                <a:lnTo>
                  <a:pt x="2646" y="481"/>
                </a:lnTo>
                <a:lnTo>
                  <a:pt x="2632" y="468"/>
                </a:lnTo>
                <a:lnTo>
                  <a:pt x="2620" y="465"/>
                </a:lnTo>
                <a:lnTo>
                  <a:pt x="2616" y="460"/>
                </a:lnTo>
                <a:lnTo>
                  <a:pt x="2545" y="452"/>
                </a:lnTo>
                <a:lnTo>
                  <a:pt x="2543" y="451"/>
                </a:lnTo>
                <a:lnTo>
                  <a:pt x="2543" y="453"/>
                </a:lnTo>
                <a:lnTo>
                  <a:pt x="2543" y="461"/>
                </a:lnTo>
                <a:lnTo>
                  <a:pt x="2550" y="478"/>
                </a:lnTo>
                <a:lnTo>
                  <a:pt x="2544" y="487"/>
                </a:lnTo>
                <a:lnTo>
                  <a:pt x="2545" y="507"/>
                </a:lnTo>
                <a:lnTo>
                  <a:pt x="2545" y="508"/>
                </a:lnTo>
                <a:lnTo>
                  <a:pt x="2546" y="509"/>
                </a:lnTo>
                <a:lnTo>
                  <a:pt x="2552" y="516"/>
                </a:lnTo>
                <a:lnTo>
                  <a:pt x="2572" y="538"/>
                </a:lnTo>
                <a:lnTo>
                  <a:pt x="2588" y="554"/>
                </a:lnTo>
                <a:lnTo>
                  <a:pt x="2590" y="555"/>
                </a:lnTo>
                <a:lnTo>
                  <a:pt x="2590" y="556"/>
                </a:lnTo>
                <a:lnTo>
                  <a:pt x="2594" y="566"/>
                </a:lnTo>
                <a:lnTo>
                  <a:pt x="2607" y="599"/>
                </a:lnTo>
                <a:lnTo>
                  <a:pt x="2617" y="625"/>
                </a:lnTo>
                <a:lnTo>
                  <a:pt x="2618" y="626"/>
                </a:lnTo>
                <a:lnTo>
                  <a:pt x="2617" y="627"/>
                </a:lnTo>
                <a:lnTo>
                  <a:pt x="2615" y="635"/>
                </a:lnTo>
                <a:lnTo>
                  <a:pt x="2609" y="661"/>
                </a:lnTo>
                <a:lnTo>
                  <a:pt x="2605" y="680"/>
                </a:lnTo>
                <a:lnTo>
                  <a:pt x="2605" y="681"/>
                </a:lnTo>
                <a:lnTo>
                  <a:pt x="2602" y="682"/>
                </a:lnTo>
                <a:lnTo>
                  <a:pt x="2592" y="685"/>
                </a:lnTo>
                <a:lnTo>
                  <a:pt x="2555" y="697"/>
                </a:lnTo>
                <a:lnTo>
                  <a:pt x="2527" y="705"/>
                </a:lnTo>
                <a:lnTo>
                  <a:pt x="2526" y="705"/>
                </a:lnTo>
                <a:lnTo>
                  <a:pt x="2524" y="707"/>
                </a:lnTo>
                <a:lnTo>
                  <a:pt x="2514" y="719"/>
                </a:lnTo>
                <a:lnTo>
                  <a:pt x="2478" y="759"/>
                </a:lnTo>
                <a:lnTo>
                  <a:pt x="2451" y="790"/>
                </a:lnTo>
                <a:lnTo>
                  <a:pt x="2450" y="791"/>
                </a:lnTo>
                <a:lnTo>
                  <a:pt x="2450" y="795"/>
                </a:lnTo>
                <a:lnTo>
                  <a:pt x="2452" y="820"/>
                </a:lnTo>
                <a:lnTo>
                  <a:pt x="2461" y="907"/>
                </a:lnTo>
                <a:lnTo>
                  <a:pt x="2468" y="972"/>
                </a:lnTo>
                <a:lnTo>
                  <a:pt x="2468" y="976"/>
                </a:lnTo>
                <a:lnTo>
                  <a:pt x="2470" y="976"/>
                </a:lnTo>
                <a:lnTo>
                  <a:pt x="2484" y="979"/>
                </a:lnTo>
                <a:lnTo>
                  <a:pt x="2531" y="990"/>
                </a:lnTo>
                <a:lnTo>
                  <a:pt x="2568" y="999"/>
                </a:lnTo>
                <a:lnTo>
                  <a:pt x="2571" y="999"/>
                </a:lnTo>
                <a:lnTo>
                  <a:pt x="2571" y="999"/>
                </a:lnTo>
                <a:lnTo>
                  <a:pt x="2571" y="993"/>
                </a:lnTo>
                <a:lnTo>
                  <a:pt x="2572" y="973"/>
                </a:lnTo>
                <a:lnTo>
                  <a:pt x="2573" y="958"/>
                </a:lnTo>
                <a:lnTo>
                  <a:pt x="2574" y="958"/>
                </a:lnTo>
                <a:lnTo>
                  <a:pt x="2575" y="958"/>
                </a:lnTo>
                <a:lnTo>
                  <a:pt x="2581" y="956"/>
                </a:lnTo>
                <a:lnTo>
                  <a:pt x="2664" y="988"/>
                </a:lnTo>
                <a:lnTo>
                  <a:pt x="2706" y="988"/>
                </a:lnTo>
                <a:lnTo>
                  <a:pt x="2709" y="997"/>
                </a:lnTo>
                <a:lnTo>
                  <a:pt x="2766" y="1030"/>
                </a:lnTo>
                <a:lnTo>
                  <a:pt x="2799" y="1069"/>
                </a:lnTo>
                <a:lnTo>
                  <a:pt x="2853" y="1084"/>
                </a:lnTo>
                <a:lnTo>
                  <a:pt x="2889" y="1099"/>
                </a:lnTo>
                <a:lnTo>
                  <a:pt x="2916" y="1150"/>
                </a:lnTo>
                <a:lnTo>
                  <a:pt x="2937" y="1180"/>
                </a:lnTo>
                <a:lnTo>
                  <a:pt x="2973" y="1207"/>
                </a:lnTo>
                <a:lnTo>
                  <a:pt x="3009" y="1218"/>
                </a:lnTo>
                <a:lnTo>
                  <a:pt x="3048" y="1284"/>
                </a:lnTo>
                <a:lnTo>
                  <a:pt x="3040" y="1309"/>
                </a:lnTo>
                <a:lnTo>
                  <a:pt x="3036" y="1325"/>
                </a:lnTo>
                <a:lnTo>
                  <a:pt x="3020" y="1491"/>
                </a:lnTo>
                <a:lnTo>
                  <a:pt x="2953" y="1541"/>
                </a:lnTo>
                <a:lnTo>
                  <a:pt x="2930" y="1556"/>
                </a:lnTo>
                <a:lnTo>
                  <a:pt x="2908" y="1559"/>
                </a:lnTo>
                <a:lnTo>
                  <a:pt x="2827" y="1564"/>
                </a:lnTo>
                <a:lnTo>
                  <a:pt x="2810" y="1498"/>
                </a:lnTo>
                <a:lnTo>
                  <a:pt x="2814" y="1497"/>
                </a:lnTo>
                <a:lnTo>
                  <a:pt x="2808" y="1487"/>
                </a:lnTo>
                <a:lnTo>
                  <a:pt x="2818" y="1497"/>
                </a:lnTo>
                <a:lnTo>
                  <a:pt x="2806" y="1486"/>
                </a:lnTo>
                <a:lnTo>
                  <a:pt x="2747" y="1458"/>
                </a:lnTo>
                <a:lnTo>
                  <a:pt x="2725" y="1457"/>
                </a:lnTo>
                <a:lnTo>
                  <a:pt x="2701" y="1460"/>
                </a:lnTo>
                <a:lnTo>
                  <a:pt x="2701" y="1469"/>
                </a:lnTo>
                <a:lnTo>
                  <a:pt x="2705" y="1484"/>
                </a:lnTo>
                <a:lnTo>
                  <a:pt x="2638" y="1475"/>
                </a:lnTo>
                <a:lnTo>
                  <a:pt x="2666" y="1482"/>
                </a:lnTo>
                <a:lnTo>
                  <a:pt x="2627" y="1460"/>
                </a:lnTo>
                <a:lnTo>
                  <a:pt x="2611" y="1445"/>
                </a:lnTo>
                <a:lnTo>
                  <a:pt x="2597" y="1435"/>
                </a:lnTo>
                <a:lnTo>
                  <a:pt x="2579" y="1416"/>
                </a:lnTo>
                <a:lnTo>
                  <a:pt x="2572" y="1412"/>
                </a:lnTo>
                <a:lnTo>
                  <a:pt x="2528" y="1391"/>
                </a:lnTo>
                <a:lnTo>
                  <a:pt x="2542" y="1393"/>
                </a:lnTo>
                <a:lnTo>
                  <a:pt x="2544" y="1392"/>
                </a:lnTo>
                <a:lnTo>
                  <a:pt x="2530" y="1390"/>
                </a:lnTo>
                <a:lnTo>
                  <a:pt x="2516" y="1379"/>
                </a:lnTo>
                <a:lnTo>
                  <a:pt x="2496" y="1364"/>
                </a:lnTo>
                <a:lnTo>
                  <a:pt x="2493" y="1369"/>
                </a:lnTo>
                <a:lnTo>
                  <a:pt x="2493" y="1367"/>
                </a:lnTo>
                <a:lnTo>
                  <a:pt x="2490" y="1376"/>
                </a:lnTo>
                <a:lnTo>
                  <a:pt x="2473" y="1359"/>
                </a:lnTo>
                <a:lnTo>
                  <a:pt x="2496" y="1381"/>
                </a:lnTo>
                <a:lnTo>
                  <a:pt x="2493" y="1374"/>
                </a:lnTo>
                <a:lnTo>
                  <a:pt x="2519" y="1388"/>
                </a:lnTo>
                <a:lnTo>
                  <a:pt x="2491" y="1363"/>
                </a:lnTo>
                <a:lnTo>
                  <a:pt x="2457" y="1355"/>
                </a:lnTo>
                <a:lnTo>
                  <a:pt x="2451" y="1312"/>
                </a:lnTo>
                <a:lnTo>
                  <a:pt x="2440" y="1300"/>
                </a:lnTo>
                <a:lnTo>
                  <a:pt x="2445" y="1298"/>
                </a:lnTo>
                <a:lnTo>
                  <a:pt x="2425" y="1289"/>
                </a:lnTo>
                <a:lnTo>
                  <a:pt x="2422" y="1273"/>
                </a:lnTo>
                <a:lnTo>
                  <a:pt x="2410" y="1261"/>
                </a:lnTo>
                <a:lnTo>
                  <a:pt x="2428" y="1274"/>
                </a:lnTo>
                <a:lnTo>
                  <a:pt x="2422" y="1274"/>
                </a:lnTo>
                <a:lnTo>
                  <a:pt x="2430" y="1271"/>
                </a:lnTo>
                <a:lnTo>
                  <a:pt x="2420" y="1263"/>
                </a:lnTo>
                <a:lnTo>
                  <a:pt x="2418" y="1262"/>
                </a:lnTo>
                <a:lnTo>
                  <a:pt x="2426" y="1266"/>
                </a:lnTo>
                <a:lnTo>
                  <a:pt x="2381" y="1247"/>
                </a:lnTo>
                <a:lnTo>
                  <a:pt x="2426" y="1269"/>
                </a:lnTo>
                <a:lnTo>
                  <a:pt x="2355" y="1240"/>
                </a:lnTo>
                <a:lnTo>
                  <a:pt x="2301" y="1216"/>
                </a:lnTo>
                <a:lnTo>
                  <a:pt x="2298" y="1218"/>
                </a:lnTo>
                <a:lnTo>
                  <a:pt x="2304" y="1218"/>
                </a:lnTo>
                <a:lnTo>
                  <a:pt x="2289" y="1211"/>
                </a:lnTo>
                <a:lnTo>
                  <a:pt x="2256" y="1218"/>
                </a:lnTo>
                <a:lnTo>
                  <a:pt x="2256" y="1218"/>
                </a:lnTo>
                <a:lnTo>
                  <a:pt x="2254" y="1218"/>
                </a:lnTo>
                <a:lnTo>
                  <a:pt x="2248" y="1221"/>
                </a:lnTo>
                <a:lnTo>
                  <a:pt x="2271" y="1216"/>
                </a:lnTo>
                <a:lnTo>
                  <a:pt x="2245" y="1221"/>
                </a:lnTo>
                <a:lnTo>
                  <a:pt x="2208" y="1223"/>
                </a:lnTo>
                <a:lnTo>
                  <a:pt x="2207" y="1224"/>
                </a:lnTo>
                <a:lnTo>
                  <a:pt x="2208" y="1225"/>
                </a:lnTo>
                <a:lnTo>
                  <a:pt x="2213" y="1230"/>
                </a:lnTo>
                <a:lnTo>
                  <a:pt x="2232" y="1247"/>
                </a:lnTo>
                <a:lnTo>
                  <a:pt x="2247" y="1261"/>
                </a:lnTo>
                <a:lnTo>
                  <a:pt x="2249" y="1262"/>
                </a:lnTo>
                <a:lnTo>
                  <a:pt x="2248" y="1263"/>
                </a:lnTo>
                <a:lnTo>
                  <a:pt x="2246" y="1270"/>
                </a:lnTo>
                <a:lnTo>
                  <a:pt x="2240" y="1296"/>
                </a:lnTo>
                <a:lnTo>
                  <a:pt x="2235" y="1316"/>
                </a:lnTo>
                <a:lnTo>
                  <a:pt x="2235" y="1316"/>
                </a:lnTo>
                <a:lnTo>
                  <a:pt x="2239" y="1320"/>
                </a:lnTo>
                <a:lnTo>
                  <a:pt x="2251" y="1334"/>
                </a:lnTo>
                <a:lnTo>
                  <a:pt x="2260" y="1343"/>
                </a:lnTo>
                <a:lnTo>
                  <a:pt x="2261" y="1343"/>
                </a:lnTo>
                <a:lnTo>
                  <a:pt x="2260" y="1344"/>
                </a:lnTo>
                <a:lnTo>
                  <a:pt x="2255" y="1349"/>
                </a:lnTo>
                <a:lnTo>
                  <a:pt x="2236" y="1367"/>
                </a:lnTo>
                <a:lnTo>
                  <a:pt x="2223" y="1380"/>
                </a:lnTo>
                <a:lnTo>
                  <a:pt x="2222" y="1381"/>
                </a:lnTo>
                <a:lnTo>
                  <a:pt x="2220" y="1381"/>
                </a:lnTo>
                <a:lnTo>
                  <a:pt x="2209" y="1381"/>
                </a:lnTo>
                <a:lnTo>
                  <a:pt x="2171" y="1381"/>
                </a:lnTo>
                <a:lnTo>
                  <a:pt x="2142" y="1381"/>
                </a:lnTo>
                <a:lnTo>
                  <a:pt x="2141" y="1381"/>
                </a:lnTo>
                <a:lnTo>
                  <a:pt x="2138" y="1381"/>
                </a:lnTo>
                <a:lnTo>
                  <a:pt x="2123" y="1389"/>
                </a:lnTo>
                <a:lnTo>
                  <a:pt x="2066" y="1415"/>
                </a:lnTo>
                <a:lnTo>
                  <a:pt x="2023" y="1435"/>
                </a:lnTo>
                <a:lnTo>
                  <a:pt x="2022" y="1435"/>
                </a:lnTo>
                <a:lnTo>
                  <a:pt x="2018" y="1436"/>
                </a:lnTo>
                <a:lnTo>
                  <a:pt x="2002" y="1434"/>
                </a:lnTo>
                <a:lnTo>
                  <a:pt x="2014" y="1412"/>
                </a:lnTo>
                <a:lnTo>
                  <a:pt x="2024" y="1392"/>
                </a:lnTo>
                <a:lnTo>
                  <a:pt x="2020" y="1362"/>
                </a:lnTo>
                <a:lnTo>
                  <a:pt x="1992" y="1362"/>
                </a:lnTo>
                <a:lnTo>
                  <a:pt x="1958" y="1368"/>
                </a:lnTo>
                <a:lnTo>
                  <a:pt x="1940" y="1346"/>
                </a:lnTo>
                <a:lnTo>
                  <a:pt x="1894" y="1356"/>
                </a:lnTo>
                <a:lnTo>
                  <a:pt x="1872" y="1368"/>
                </a:lnTo>
                <a:lnTo>
                  <a:pt x="1916" y="1348"/>
                </a:lnTo>
                <a:lnTo>
                  <a:pt x="1860" y="1382"/>
                </a:lnTo>
                <a:lnTo>
                  <a:pt x="1832" y="1400"/>
                </a:lnTo>
                <a:lnTo>
                  <a:pt x="1784" y="1410"/>
                </a:lnTo>
                <a:lnTo>
                  <a:pt x="1852" y="1390"/>
                </a:lnTo>
                <a:lnTo>
                  <a:pt x="1816" y="1402"/>
                </a:lnTo>
                <a:lnTo>
                  <a:pt x="1766" y="1414"/>
                </a:lnTo>
                <a:lnTo>
                  <a:pt x="1692" y="1406"/>
                </a:lnTo>
                <a:lnTo>
                  <a:pt x="1752" y="1410"/>
                </a:lnTo>
                <a:lnTo>
                  <a:pt x="1726" y="1412"/>
                </a:lnTo>
                <a:lnTo>
                  <a:pt x="1660" y="1400"/>
                </a:lnTo>
                <a:lnTo>
                  <a:pt x="1619" y="1378"/>
                </a:lnTo>
                <a:lnTo>
                  <a:pt x="1592" y="1374"/>
                </a:lnTo>
                <a:lnTo>
                  <a:pt x="1568" y="1371"/>
                </a:lnTo>
                <a:lnTo>
                  <a:pt x="1570" y="1340"/>
                </a:lnTo>
                <a:lnTo>
                  <a:pt x="1559" y="1367"/>
                </a:lnTo>
                <a:lnTo>
                  <a:pt x="1546" y="1342"/>
                </a:lnTo>
                <a:lnTo>
                  <a:pt x="1518" y="1338"/>
                </a:lnTo>
                <a:lnTo>
                  <a:pt x="1492" y="1340"/>
                </a:lnTo>
                <a:lnTo>
                  <a:pt x="1478" y="1350"/>
                </a:lnTo>
                <a:lnTo>
                  <a:pt x="1446" y="1348"/>
                </a:lnTo>
                <a:lnTo>
                  <a:pt x="1426" y="1342"/>
                </a:lnTo>
                <a:lnTo>
                  <a:pt x="1396" y="1330"/>
                </a:lnTo>
                <a:lnTo>
                  <a:pt x="1380" y="1290"/>
                </a:lnTo>
                <a:lnTo>
                  <a:pt x="1352" y="1270"/>
                </a:lnTo>
                <a:lnTo>
                  <a:pt x="1326" y="1268"/>
                </a:lnTo>
                <a:lnTo>
                  <a:pt x="1296" y="1264"/>
                </a:lnTo>
                <a:lnTo>
                  <a:pt x="1260" y="1250"/>
                </a:lnTo>
                <a:lnTo>
                  <a:pt x="1240" y="1232"/>
                </a:lnTo>
                <a:lnTo>
                  <a:pt x="1246" y="1248"/>
                </a:lnTo>
                <a:lnTo>
                  <a:pt x="1216" y="1260"/>
                </a:lnTo>
                <a:lnTo>
                  <a:pt x="1214" y="1280"/>
                </a:lnTo>
                <a:lnTo>
                  <a:pt x="1217" y="1364"/>
                </a:lnTo>
                <a:lnTo>
                  <a:pt x="1211" y="1378"/>
                </a:lnTo>
                <a:lnTo>
                  <a:pt x="1202" y="1383"/>
                </a:lnTo>
                <a:lnTo>
                  <a:pt x="1208" y="1388"/>
                </a:lnTo>
                <a:lnTo>
                  <a:pt x="1193" y="1395"/>
                </a:lnTo>
                <a:lnTo>
                  <a:pt x="1223" y="1359"/>
                </a:lnTo>
                <a:lnTo>
                  <a:pt x="1208" y="1383"/>
                </a:lnTo>
                <a:lnTo>
                  <a:pt x="1217" y="1362"/>
                </a:lnTo>
                <a:lnTo>
                  <a:pt x="1211" y="1383"/>
                </a:lnTo>
                <a:lnTo>
                  <a:pt x="1223" y="1367"/>
                </a:lnTo>
                <a:lnTo>
                  <a:pt x="1187" y="1397"/>
                </a:lnTo>
                <a:lnTo>
                  <a:pt x="1181" y="1392"/>
                </a:lnTo>
                <a:lnTo>
                  <a:pt x="1173" y="1390"/>
                </a:lnTo>
                <a:lnTo>
                  <a:pt x="1217" y="1357"/>
                </a:lnTo>
                <a:lnTo>
                  <a:pt x="1181" y="1388"/>
                </a:lnTo>
                <a:lnTo>
                  <a:pt x="1187" y="1390"/>
                </a:lnTo>
                <a:lnTo>
                  <a:pt x="1187" y="1385"/>
                </a:lnTo>
                <a:lnTo>
                  <a:pt x="1199" y="1388"/>
                </a:lnTo>
                <a:lnTo>
                  <a:pt x="1217" y="1364"/>
                </a:lnTo>
                <a:lnTo>
                  <a:pt x="1170" y="1390"/>
                </a:lnTo>
                <a:lnTo>
                  <a:pt x="1128" y="1385"/>
                </a:lnTo>
                <a:lnTo>
                  <a:pt x="1146" y="1385"/>
                </a:lnTo>
                <a:lnTo>
                  <a:pt x="1167" y="1390"/>
                </a:lnTo>
                <a:lnTo>
                  <a:pt x="1090" y="1381"/>
                </a:lnTo>
                <a:lnTo>
                  <a:pt x="1155" y="1376"/>
                </a:lnTo>
                <a:lnTo>
                  <a:pt x="1161" y="1385"/>
                </a:lnTo>
                <a:lnTo>
                  <a:pt x="1167" y="1390"/>
                </a:lnTo>
                <a:lnTo>
                  <a:pt x="1122" y="1390"/>
                </a:lnTo>
                <a:lnTo>
                  <a:pt x="1113" y="1376"/>
                </a:lnTo>
                <a:lnTo>
                  <a:pt x="1122" y="1381"/>
                </a:lnTo>
                <a:lnTo>
                  <a:pt x="1111" y="1376"/>
                </a:lnTo>
                <a:lnTo>
                  <a:pt x="1111" y="1381"/>
                </a:lnTo>
                <a:lnTo>
                  <a:pt x="1063" y="1369"/>
                </a:lnTo>
                <a:lnTo>
                  <a:pt x="1078" y="1383"/>
                </a:lnTo>
                <a:lnTo>
                  <a:pt x="1096" y="1383"/>
                </a:lnTo>
                <a:lnTo>
                  <a:pt x="1128" y="1388"/>
                </a:lnTo>
                <a:lnTo>
                  <a:pt x="1116" y="1378"/>
                </a:lnTo>
                <a:lnTo>
                  <a:pt x="1057" y="1376"/>
                </a:lnTo>
                <a:lnTo>
                  <a:pt x="1054" y="1371"/>
                </a:lnTo>
                <a:lnTo>
                  <a:pt x="988" y="1344"/>
                </a:lnTo>
                <a:lnTo>
                  <a:pt x="1022" y="1357"/>
                </a:lnTo>
                <a:lnTo>
                  <a:pt x="1043" y="1364"/>
                </a:lnTo>
                <a:lnTo>
                  <a:pt x="1028" y="1357"/>
                </a:lnTo>
                <a:lnTo>
                  <a:pt x="1040" y="1367"/>
                </a:lnTo>
                <a:lnTo>
                  <a:pt x="1046" y="1369"/>
                </a:lnTo>
                <a:lnTo>
                  <a:pt x="975" y="1348"/>
                </a:lnTo>
                <a:lnTo>
                  <a:pt x="933" y="1344"/>
                </a:lnTo>
                <a:lnTo>
                  <a:pt x="780" y="1416"/>
                </a:lnTo>
                <a:lnTo>
                  <a:pt x="792" y="1442"/>
                </a:lnTo>
                <a:lnTo>
                  <a:pt x="992" y="1345"/>
                </a:lnTo>
                <a:lnTo>
                  <a:pt x="995" y="1345"/>
                </a:lnTo>
                <a:lnTo>
                  <a:pt x="902" y="1353"/>
                </a:lnTo>
                <a:lnTo>
                  <a:pt x="871" y="1378"/>
                </a:lnTo>
                <a:lnTo>
                  <a:pt x="824" y="1404"/>
                </a:lnTo>
                <a:lnTo>
                  <a:pt x="874" y="1375"/>
                </a:lnTo>
                <a:lnTo>
                  <a:pt x="961" y="1344"/>
                </a:lnTo>
                <a:lnTo>
                  <a:pt x="851" y="1381"/>
                </a:lnTo>
                <a:lnTo>
                  <a:pt x="788" y="1422"/>
                </a:lnTo>
                <a:lnTo>
                  <a:pt x="811" y="1394"/>
                </a:lnTo>
                <a:lnTo>
                  <a:pt x="810" y="1446"/>
                </a:lnTo>
                <a:lnTo>
                  <a:pt x="801" y="1449"/>
                </a:lnTo>
                <a:lnTo>
                  <a:pt x="771" y="1457"/>
                </a:lnTo>
                <a:lnTo>
                  <a:pt x="746" y="1464"/>
                </a:lnTo>
                <a:lnTo>
                  <a:pt x="745" y="1464"/>
                </a:lnTo>
                <a:lnTo>
                  <a:pt x="744" y="1464"/>
                </a:lnTo>
                <a:lnTo>
                  <a:pt x="738" y="1460"/>
                </a:lnTo>
                <a:lnTo>
                  <a:pt x="721" y="1447"/>
                </a:lnTo>
                <a:lnTo>
                  <a:pt x="707" y="1439"/>
                </a:lnTo>
                <a:lnTo>
                  <a:pt x="706" y="1438"/>
                </a:lnTo>
                <a:lnTo>
                  <a:pt x="704" y="1438"/>
                </a:lnTo>
                <a:lnTo>
                  <a:pt x="698" y="1438"/>
                </a:lnTo>
                <a:lnTo>
                  <a:pt x="676" y="1438"/>
                </a:lnTo>
                <a:lnTo>
                  <a:pt x="660" y="1438"/>
                </a:lnTo>
                <a:lnTo>
                  <a:pt x="660" y="1438"/>
                </a:lnTo>
                <a:lnTo>
                  <a:pt x="661" y="1435"/>
                </a:lnTo>
                <a:lnTo>
                  <a:pt x="665" y="1424"/>
                </a:lnTo>
                <a:lnTo>
                  <a:pt x="669" y="1416"/>
                </a:lnTo>
                <a:lnTo>
                  <a:pt x="669" y="1415"/>
                </a:lnTo>
                <a:lnTo>
                  <a:pt x="665" y="1414"/>
                </a:lnTo>
                <a:lnTo>
                  <a:pt x="654" y="1406"/>
                </a:lnTo>
                <a:lnTo>
                  <a:pt x="643" y="1400"/>
                </a:lnTo>
                <a:lnTo>
                  <a:pt x="643" y="1399"/>
                </a:lnTo>
                <a:lnTo>
                  <a:pt x="639" y="1399"/>
                </a:lnTo>
                <a:lnTo>
                  <a:pt x="645" y="1408"/>
                </a:lnTo>
                <a:lnTo>
                  <a:pt x="618" y="1389"/>
                </a:lnTo>
                <a:lnTo>
                  <a:pt x="618" y="1388"/>
                </a:lnTo>
                <a:lnTo>
                  <a:pt x="615" y="1389"/>
                </a:lnTo>
                <a:lnTo>
                  <a:pt x="598" y="1391"/>
                </a:lnTo>
                <a:lnTo>
                  <a:pt x="535" y="1397"/>
                </a:lnTo>
                <a:lnTo>
                  <a:pt x="487" y="1402"/>
                </a:lnTo>
                <a:lnTo>
                  <a:pt x="484" y="1402"/>
                </a:lnTo>
                <a:lnTo>
                  <a:pt x="482" y="1403"/>
                </a:lnTo>
                <a:lnTo>
                  <a:pt x="474" y="1403"/>
                </a:lnTo>
                <a:lnTo>
                  <a:pt x="513" y="1405"/>
                </a:lnTo>
                <a:lnTo>
                  <a:pt x="418" y="1411"/>
                </a:lnTo>
                <a:lnTo>
                  <a:pt x="417" y="1411"/>
                </a:lnTo>
                <a:lnTo>
                  <a:pt x="416" y="1411"/>
                </a:lnTo>
                <a:lnTo>
                  <a:pt x="411" y="1410"/>
                </a:lnTo>
                <a:lnTo>
                  <a:pt x="392" y="1409"/>
                </a:lnTo>
                <a:lnTo>
                  <a:pt x="378" y="1407"/>
                </a:lnTo>
                <a:lnTo>
                  <a:pt x="377" y="1407"/>
                </a:lnTo>
                <a:lnTo>
                  <a:pt x="376" y="1407"/>
                </a:lnTo>
                <a:lnTo>
                  <a:pt x="374" y="1409"/>
                </a:lnTo>
                <a:lnTo>
                  <a:pt x="366" y="1416"/>
                </a:lnTo>
                <a:lnTo>
                  <a:pt x="360" y="1421"/>
                </a:lnTo>
                <a:lnTo>
                  <a:pt x="360" y="1421"/>
                </a:lnTo>
                <a:lnTo>
                  <a:pt x="362" y="1423"/>
                </a:lnTo>
                <a:lnTo>
                  <a:pt x="369" y="1430"/>
                </a:lnTo>
                <a:lnTo>
                  <a:pt x="375" y="1435"/>
                </a:lnTo>
                <a:lnTo>
                  <a:pt x="375" y="1435"/>
                </a:lnTo>
                <a:lnTo>
                  <a:pt x="371" y="1435"/>
                </a:lnTo>
                <a:lnTo>
                  <a:pt x="360" y="1437"/>
                </a:lnTo>
                <a:lnTo>
                  <a:pt x="350" y="1438"/>
                </a:lnTo>
                <a:lnTo>
                  <a:pt x="350" y="1438"/>
                </a:lnTo>
                <a:lnTo>
                  <a:pt x="349" y="1438"/>
                </a:lnTo>
                <a:lnTo>
                  <a:pt x="348" y="1439"/>
                </a:lnTo>
                <a:lnTo>
                  <a:pt x="341" y="1443"/>
                </a:lnTo>
                <a:lnTo>
                  <a:pt x="337" y="1446"/>
                </a:lnTo>
                <a:lnTo>
                  <a:pt x="337" y="1446"/>
                </a:lnTo>
                <a:lnTo>
                  <a:pt x="337" y="1446"/>
                </a:lnTo>
                <a:lnTo>
                  <a:pt x="337" y="1449"/>
                </a:lnTo>
                <a:lnTo>
                  <a:pt x="338" y="1457"/>
                </a:lnTo>
                <a:lnTo>
                  <a:pt x="339" y="1462"/>
                </a:lnTo>
                <a:lnTo>
                  <a:pt x="340" y="1462"/>
                </a:lnTo>
                <a:lnTo>
                  <a:pt x="339" y="1462"/>
                </a:lnTo>
                <a:lnTo>
                  <a:pt x="336" y="1462"/>
                </a:lnTo>
                <a:lnTo>
                  <a:pt x="325" y="1462"/>
                </a:lnTo>
                <a:lnTo>
                  <a:pt x="316" y="1461"/>
                </a:lnTo>
                <a:lnTo>
                  <a:pt x="316" y="1461"/>
                </a:lnTo>
                <a:lnTo>
                  <a:pt x="315" y="1461"/>
                </a:lnTo>
                <a:lnTo>
                  <a:pt x="314" y="1462"/>
                </a:lnTo>
                <a:lnTo>
                  <a:pt x="308" y="1465"/>
                </a:lnTo>
                <a:lnTo>
                  <a:pt x="304" y="1468"/>
                </a:lnTo>
                <a:lnTo>
                  <a:pt x="304" y="1468"/>
                </a:lnTo>
                <a:lnTo>
                  <a:pt x="305" y="1471"/>
                </a:lnTo>
                <a:lnTo>
                  <a:pt x="311" y="1477"/>
                </a:lnTo>
                <a:lnTo>
                  <a:pt x="315" y="1483"/>
                </a:lnTo>
                <a:lnTo>
                  <a:pt x="316" y="1483"/>
                </a:lnTo>
                <a:lnTo>
                  <a:pt x="319" y="1483"/>
                </a:lnTo>
                <a:lnTo>
                  <a:pt x="329" y="1486"/>
                </a:lnTo>
                <a:lnTo>
                  <a:pt x="336" y="1486"/>
                </a:lnTo>
                <a:lnTo>
                  <a:pt x="337" y="1486"/>
                </a:lnTo>
                <a:lnTo>
                  <a:pt x="337" y="1487"/>
                </a:lnTo>
                <a:lnTo>
                  <a:pt x="337" y="1490"/>
                </a:lnTo>
                <a:lnTo>
                  <a:pt x="341" y="1501"/>
                </a:lnTo>
                <a:lnTo>
                  <a:pt x="343" y="1508"/>
                </a:lnTo>
                <a:lnTo>
                  <a:pt x="344" y="1508"/>
                </a:lnTo>
                <a:lnTo>
                  <a:pt x="343" y="1508"/>
                </a:lnTo>
                <a:lnTo>
                  <a:pt x="339" y="1510"/>
                </a:lnTo>
                <a:lnTo>
                  <a:pt x="326" y="1515"/>
                </a:lnTo>
                <a:lnTo>
                  <a:pt x="316" y="1520"/>
                </a:lnTo>
                <a:lnTo>
                  <a:pt x="316" y="1520"/>
                </a:lnTo>
                <a:lnTo>
                  <a:pt x="312" y="1519"/>
                </a:lnTo>
                <a:lnTo>
                  <a:pt x="301" y="1512"/>
                </a:lnTo>
                <a:lnTo>
                  <a:pt x="293" y="1508"/>
                </a:lnTo>
                <a:lnTo>
                  <a:pt x="293" y="1508"/>
                </a:lnTo>
                <a:lnTo>
                  <a:pt x="292" y="1508"/>
                </a:lnTo>
                <a:lnTo>
                  <a:pt x="288" y="1508"/>
                </a:lnTo>
                <a:lnTo>
                  <a:pt x="271" y="1507"/>
                </a:lnTo>
                <a:lnTo>
                  <a:pt x="258" y="1506"/>
                </a:lnTo>
                <a:lnTo>
                  <a:pt x="257" y="1506"/>
                </a:lnTo>
                <a:lnTo>
                  <a:pt x="257" y="1505"/>
                </a:lnTo>
                <a:lnTo>
                  <a:pt x="253" y="1501"/>
                </a:lnTo>
                <a:lnTo>
                  <a:pt x="242" y="1488"/>
                </a:lnTo>
                <a:lnTo>
                  <a:pt x="235" y="1477"/>
                </a:lnTo>
                <a:lnTo>
                  <a:pt x="235" y="1476"/>
                </a:lnTo>
                <a:lnTo>
                  <a:pt x="232" y="1476"/>
                </a:lnTo>
                <a:lnTo>
                  <a:pt x="222" y="1475"/>
                </a:lnTo>
                <a:lnTo>
                  <a:pt x="183" y="1471"/>
                </a:lnTo>
                <a:lnTo>
                  <a:pt x="154" y="1468"/>
                </a:lnTo>
                <a:lnTo>
                  <a:pt x="152" y="1467"/>
                </a:lnTo>
                <a:lnTo>
                  <a:pt x="151" y="1468"/>
                </a:lnTo>
                <a:lnTo>
                  <a:pt x="146" y="1469"/>
                </a:lnTo>
                <a:lnTo>
                  <a:pt x="129" y="1476"/>
                </a:lnTo>
                <a:lnTo>
                  <a:pt x="116" y="1481"/>
                </a:lnTo>
                <a:lnTo>
                  <a:pt x="115" y="1481"/>
                </a:lnTo>
                <a:lnTo>
                  <a:pt x="113" y="1475"/>
                </a:lnTo>
                <a:lnTo>
                  <a:pt x="109" y="1455"/>
                </a:lnTo>
                <a:lnTo>
                  <a:pt x="106" y="1439"/>
                </a:lnTo>
                <a:lnTo>
                  <a:pt x="106" y="1439"/>
                </a:lnTo>
                <a:lnTo>
                  <a:pt x="101" y="1434"/>
                </a:lnTo>
                <a:lnTo>
                  <a:pt x="86" y="1421"/>
                </a:lnTo>
                <a:lnTo>
                  <a:pt x="74" y="1410"/>
                </a:lnTo>
                <a:lnTo>
                  <a:pt x="73" y="1410"/>
                </a:lnTo>
                <a:lnTo>
                  <a:pt x="71" y="1410"/>
                </a:lnTo>
                <a:lnTo>
                  <a:pt x="61" y="1410"/>
                </a:lnTo>
                <a:lnTo>
                  <a:pt x="28" y="1409"/>
                </a:lnTo>
                <a:lnTo>
                  <a:pt x="2" y="1409"/>
                </a:lnTo>
                <a:lnTo>
                  <a:pt x="1" y="1408"/>
                </a:lnTo>
                <a:lnTo>
                  <a:pt x="0" y="1408"/>
                </a:lnTo>
                <a:lnTo>
                  <a:pt x="1" y="1408"/>
                </a:lnTo>
                <a:lnTo>
                  <a:pt x="0" y="1408"/>
                </a:lnTo>
                <a:lnTo>
                  <a:pt x="1" y="1408"/>
                </a:lnTo>
                <a:lnTo>
                  <a:pt x="9" y="1406"/>
                </a:lnTo>
                <a:lnTo>
                  <a:pt x="36" y="1397"/>
                </a:lnTo>
                <a:lnTo>
                  <a:pt x="56" y="1391"/>
                </a:lnTo>
                <a:lnTo>
                  <a:pt x="58" y="1390"/>
                </a:lnTo>
                <a:lnTo>
                  <a:pt x="58" y="1390"/>
                </a:lnTo>
                <a:close/>
              </a:path>
            </a:pathLst>
          </a:custGeom>
          <a:noFill/>
          <a:ln w="64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20760" y="2241720"/>
            <a:ext cx="2322720" cy="1393560"/>
          </a:xfrm>
          <a:custGeom>
            <a:avLst/>
            <a:gdLst/>
            <a:ahLst/>
            <a:rect l="l" t="t" r="r" b="b"/>
            <a:pathLst>
              <a:path w="8064" h="5105">
                <a:moveTo>
                  <a:pt x="1837" y="773"/>
                </a:moveTo>
                <a:lnTo>
                  <a:pt x="1831" y="771"/>
                </a:lnTo>
                <a:lnTo>
                  <a:pt x="1823" y="770"/>
                </a:lnTo>
                <a:lnTo>
                  <a:pt x="1815" y="768"/>
                </a:lnTo>
                <a:lnTo>
                  <a:pt x="1808" y="770"/>
                </a:lnTo>
                <a:lnTo>
                  <a:pt x="1792" y="771"/>
                </a:lnTo>
                <a:lnTo>
                  <a:pt x="1789" y="770"/>
                </a:lnTo>
                <a:lnTo>
                  <a:pt x="1786" y="771"/>
                </a:lnTo>
                <a:lnTo>
                  <a:pt x="1785" y="773"/>
                </a:lnTo>
                <a:lnTo>
                  <a:pt x="1782" y="774"/>
                </a:lnTo>
                <a:lnTo>
                  <a:pt x="1779" y="778"/>
                </a:lnTo>
                <a:lnTo>
                  <a:pt x="1775" y="784"/>
                </a:lnTo>
                <a:lnTo>
                  <a:pt x="1775" y="786"/>
                </a:lnTo>
                <a:lnTo>
                  <a:pt x="1775" y="789"/>
                </a:lnTo>
                <a:lnTo>
                  <a:pt x="1775" y="791"/>
                </a:lnTo>
                <a:lnTo>
                  <a:pt x="1776" y="793"/>
                </a:lnTo>
                <a:lnTo>
                  <a:pt x="1781" y="797"/>
                </a:lnTo>
                <a:lnTo>
                  <a:pt x="1788" y="806"/>
                </a:lnTo>
                <a:lnTo>
                  <a:pt x="1789" y="812"/>
                </a:lnTo>
                <a:lnTo>
                  <a:pt x="1785" y="819"/>
                </a:lnTo>
                <a:lnTo>
                  <a:pt x="1778" y="831"/>
                </a:lnTo>
                <a:lnTo>
                  <a:pt x="1768" y="839"/>
                </a:lnTo>
                <a:lnTo>
                  <a:pt x="1744" y="857"/>
                </a:lnTo>
                <a:lnTo>
                  <a:pt x="1727" y="868"/>
                </a:lnTo>
                <a:lnTo>
                  <a:pt x="1721" y="871"/>
                </a:lnTo>
                <a:lnTo>
                  <a:pt x="1715" y="873"/>
                </a:lnTo>
                <a:lnTo>
                  <a:pt x="1708" y="874"/>
                </a:lnTo>
                <a:lnTo>
                  <a:pt x="1695" y="874"/>
                </a:lnTo>
                <a:lnTo>
                  <a:pt x="1665" y="873"/>
                </a:lnTo>
                <a:lnTo>
                  <a:pt x="1646" y="877"/>
                </a:lnTo>
                <a:lnTo>
                  <a:pt x="1642" y="878"/>
                </a:lnTo>
                <a:lnTo>
                  <a:pt x="1634" y="880"/>
                </a:lnTo>
                <a:lnTo>
                  <a:pt x="1620" y="884"/>
                </a:lnTo>
                <a:lnTo>
                  <a:pt x="1614" y="889"/>
                </a:lnTo>
                <a:lnTo>
                  <a:pt x="1611" y="896"/>
                </a:lnTo>
                <a:lnTo>
                  <a:pt x="1611" y="899"/>
                </a:lnTo>
                <a:lnTo>
                  <a:pt x="1610" y="907"/>
                </a:lnTo>
                <a:lnTo>
                  <a:pt x="1608" y="925"/>
                </a:lnTo>
                <a:lnTo>
                  <a:pt x="1610" y="960"/>
                </a:lnTo>
                <a:lnTo>
                  <a:pt x="1615" y="975"/>
                </a:lnTo>
                <a:lnTo>
                  <a:pt x="1626" y="990"/>
                </a:lnTo>
                <a:lnTo>
                  <a:pt x="1633" y="996"/>
                </a:lnTo>
                <a:lnTo>
                  <a:pt x="1633" y="999"/>
                </a:lnTo>
                <a:lnTo>
                  <a:pt x="1633" y="1002"/>
                </a:lnTo>
                <a:lnTo>
                  <a:pt x="1631" y="1003"/>
                </a:lnTo>
                <a:lnTo>
                  <a:pt x="1629" y="1007"/>
                </a:lnTo>
                <a:lnTo>
                  <a:pt x="1623" y="1017"/>
                </a:lnTo>
                <a:lnTo>
                  <a:pt x="1621" y="1020"/>
                </a:lnTo>
                <a:lnTo>
                  <a:pt x="1618" y="1026"/>
                </a:lnTo>
                <a:lnTo>
                  <a:pt x="1620" y="1032"/>
                </a:lnTo>
                <a:lnTo>
                  <a:pt x="1621" y="1036"/>
                </a:lnTo>
                <a:lnTo>
                  <a:pt x="1624" y="1042"/>
                </a:lnTo>
                <a:lnTo>
                  <a:pt x="1630" y="1051"/>
                </a:lnTo>
                <a:lnTo>
                  <a:pt x="1637" y="1061"/>
                </a:lnTo>
                <a:lnTo>
                  <a:pt x="1642" y="1070"/>
                </a:lnTo>
                <a:lnTo>
                  <a:pt x="1640" y="1078"/>
                </a:lnTo>
                <a:lnTo>
                  <a:pt x="1640" y="1078"/>
                </a:lnTo>
                <a:lnTo>
                  <a:pt x="1633" y="1088"/>
                </a:lnTo>
                <a:lnTo>
                  <a:pt x="1615" y="1107"/>
                </a:lnTo>
                <a:lnTo>
                  <a:pt x="1575" y="1135"/>
                </a:lnTo>
                <a:lnTo>
                  <a:pt x="1555" y="1141"/>
                </a:lnTo>
                <a:lnTo>
                  <a:pt x="1536" y="1142"/>
                </a:lnTo>
                <a:lnTo>
                  <a:pt x="1527" y="1139"/>
                </a:lnTo>
                <a:lnTo>
                  <a:pt x="1508" y="1135"/>
                </a:lnTo>
                <a:lnTo>
                  <a:pt x="1473" y="1128"/>
                </a:lnTo>
                <a:lnTo>
                  <a:pt x="1404" y="1120"/>
                </a:lnTo>
                <a:lnTo>
                  <a:pt x="1336" y="1104"/>
                </a:lnTo>
                <a:lnTo>
                  <a:pt x="1320" y="1096"/>
                </a:lnTo>
                <a:lnTo>
                  <a:pt x="1314" y="1094"/>
                </a:lnTo>
                <a:lnTo>
                  <a:pt x="1307" y="1093"/>
                </a:lnTo>
                <a:lnTo>
                  <a:pt x="1300" y="1094"/>
                </a:lnTo>
                <a:lnTo>
                  <a:pt x="1284" y="1099"/>
                </a:lnTo>
                <a:lnTo>
                  <a:pt x="1269" y="1107"/>
                </a:lnTo>
                <a:lnTo>
                  <a:pt x="1258" y="1119"/>
                </a:lnTo>
                <a:lnTo>
                  <a:pt x="1250" y="1133"/>
                </a:lnTo>
                <a:lnTo>
                  <a:pt x="1250" y="1141"/>
                </a:lnTo>
                <a:lnTo>
                  <a:pt x="1249" y="1161"/>
                </a:lnTo>
                <a:lnTo>
                  <a:pt x="1246" y="1199"/>
                </a:lnTo>
                <a:lnTo>
                  <a:pt x="1226" y="1271"/>
                </a:lnTo>
                <a:lnTo>
                  <a:pt x="1200" y="1341"/>
                </a:lnTo>
                <a:lnTo>
                  <a:pt x="1194" y="1357"/>
                </a:lnTo>
                <a:lnTo>
                  <a:pt x="1198" y="1358"/>
                </a:lnTo>
                <a:lnTo>
                  <a:pt x="1204" y="1358"/>
                </a:lnTo>
                <a:lnTo>
                  <a:pt x="1208" y="1361"/>
                </a:lnTo>
                <a:lnTo>
                  <a:pt x="1211" y="1364"/>
                </a:lnTo>
                <a:lnTo>
                  <a:pt x="1216" y="1367"/>
                </a:lnTo>
                <a:lnTo>
                  <a:pt x="1220" y="1375"/>
                </a:lnTo>
                <a:lnTo>
                  <a:pt x="1226" y="1383"/>
                </a:lnTo>
                <a:lnTo>
                  <a:pt x="1230" y="1391"/>
                </a:lnTo>
                <a:lnTo>
                  <a:pt x="1234" y="1394"/>
                </a:lnTo>
                <a:lnTo>
                  <a:pt x="1236" y="1399"/>
                </a:lnTo>
                <a:lnTo>
                  <a:pt x="1237" y="1401"/>
                </a:lnTo>
                <a:lnTo>
                  <a:pt x="1239" y="1407"/>
                </a:lnTo>
                <a:lnTo>
                  <a:pt x="1237" y="1415"/>
                </a:lnTo>
                <a:lnTo>
                  <a:pt x="1236" y="1420"/>
                </a:lnTo>
                <a:lnTo>
                  <a:pt x="1232" y="1423"/>
                </a:lnTo>
                <a:lnTo>
                  <a:pt x="1229" y="1423"/>
                </a:lnTo>
                <a:lnTo>
                  <a:pt x="1216" y="1423"/>
                </a:lnTo>
                <a:lnTo>
                  <a:pt x="1192" y="1423"/>
                </a:lnTo>
                <a:lnTo>
                  <a:pt x="1149" y="1416"/>
                </a:lnTo>
                <a:lnTo>
                  <a:pt x="1104" y="1397"/>
                </a:lnTo>
                <a:lnTo>
                  <a:pt x="1094" y="1390"/>
                </a:lnTo>
                <a:lnTo>
                  <a:pt x="1084" y="1387"/>
                </a:lnTo>
                <a:lnTo>
                  <a:pt x="1074" y="1384"/>
                </a:lnTo>
                <a:lnTo>
                  <a:pt x="1062" y="1384"/>
                </a:lnTo>
                <a:lnTo>
                  <a:pt x="1039" y="1388"/>
                </a:lnTo>
                <a:lnTo>
                  <a:pt x="1014" y="1396"/>
                </a:lnTo>
                <a:lnTo>
                  <a:pt x="964" y="1410"/>
                </a:lnTo>
                <a:lnTo>
                  <a:pt x="952" y="1412"/>
                </a:lnTo>
                <a:lnTo>
                  <a:pt x="945" y="1413"/>
                </a:lnTo>
                <a:lnTo>
                  <a:pt x="932" y="1416"/>
                </a:lnTo>
                <a:lnTo>
                  <a:pt x="908" y="1426"/>
                </a:lnTo>
                <a:lnTo>
                  <a:pt x="890" y="1442"/>
                </a:lnTo>
                <a:lnTo>
                  <a:pt x="887" y="1446"/>
                </a:lnTo>
                <a:lnTo>
                  <a:pt x="882" y="1455"/>
                </a:lnTo>
                <a:lnTo>
                  <a:pt x="881" y="1462"/>
                </a:lnTo>
                <a:lnTo>
                  <a:pt x="881" y="1468"/>
                </a:lnTo>
                <a:lnTo>
                  <a:pt x="882" y="1474"/>
                </a:lnTo>
                <a:lnTo>
                  <a:pt x="885" y="1478"/>
                </a:lnTo>
                <a:lnTo>
                  <a:pt x="890" y="1483"/>
                </a:lnTo>
                <a:lnTo>
                  <a:pt x="895" y="1486"/>
                </a:lnTo>
                <a:lnTo>
                  <a:pt x="903" y="1487"/>
                </a:lnTo>
                <a:lnTo>
                  <a:pt x="917" y="1490"/>
                </a:lnTo>
                <a:lnTo>
                  <a:pt x="933" y="1487"/>
                </a:lnTo>
                <a:lnTo>
                  <a:pt x="935" y="1487"/>
                </a:lnTo>
                <a:lnTo>
                  <a:pt x="935" y="1499"/>
                </a:lnTo>
                <a:lnTo>
                  <a:pt x="933" y="1522"/>
                </a:lnTo>
                <a:lnTo>
                  <a:pt x="929" y="1565"/>
                </a:lnTo>
                <a:lnTo>
                  <a:pt x="932" y="1587"/>
                </a:lnTo>
                <a:lnTo>
                  <a:pt x="940" y="1607"/>
                </a:lnTo>
                <a:lnTo>
                  <a:pt x="949" y="1617"/>
                </a:lnTo>
                <a:lnTo>
                  <a:pt x="950" y="1622"/>
                </a:lnTo>
                <a:lnTo>
                  <a:pt x="950" y="1625"/>
                </a:lnTo>
                <a:lnTo>
                  <a:pt x="950" y="1628"/>
                </a:lnTo>
                <a:lnTo>
                  <a:pt x="949" y="1630"/>
                </a:lnTo>
                <a:lnTo>
                  <a:pt x="946" y="1638"/>
                </a:lnTo>
                <a:lnTo>
                  <a:pt x="942" y="1645"/>
                </a:lnTo>
                <a:lnTo>
                  <a:pt x="942" y="1652"/>
                </a:lnTo>
                <a:lnTo>
                  <a:pt x="943" y="1659"/>
                </a:lnTo>
                <a:lnTo>
                  <a:pt x="945" y="1659"/>
                </a:lnTo>
                <a:lnTo>
                  <a:pt x="949" y="1667"/>
                </a:lnTo>
                <a:lnTo>
                  <a:pt x="959" y="1678"/>
                </a:lnTo>
                <a:lnTo>
                  <a:pt x="982" y="1703"/>
                </a:lnTo>
                <a:lnTo>
                  <a:pt x="990" y="1716"/>
                </a:lnTo>
                <a:lnTo>
                  <a:pt x="991" y="1729"/>
                </a:lnTo>
                <a:lnTo>
                  <a:pt x="991" y="1736"/>
                </a:lnTo>
                <a:lnTo>
                  <a:pt x="987" y="1746"/>
                </a:lnTo>
                <a:lnTo>
                  <a:pt x="981" y="1754"/>
                </a:lnTo>
                <a:lnTo>
                  <a:pt x="974" y="1759"/>
                </a:lnTo>
                <a:lnTo>
                  <a:pt x="965" y="1764"/>
                </a:lnTo>
                <a:lnTo>
                  <a:pt x="946" y="1771"/>
                </a:lnTo>
                <a:lnTo>
                  <a:pt x="929" y="1780"/>
                </a:lnTo>
                <a:lnTo>
                  <a:pt x="917" y="1790"/>
                </a:lnTo>
                <a:lnTo>
                  <a:pt x="913" y="1797"/>
                </a:lnTo>
                <a:lnTo>
                  <a:pt x="911" y="1806"/>
                </a:lnTo>
                <a:lnTo>
                  <a:pt x="913" y="1806"/>
                </a:lnTo>
                <a:lnTo>
                  <a:pt x="913" y="1813"/>
                </a:lnTo>
                <a:lnTo>
                  <a:pt x="916" y="1825"/>
                </a:lnTo>
                <a:lnTo>
                  <a:pt x="921" y="1838"/>
                </a:lnTo>
                <a:lnTo>
                  <a:pt x="932" y="1864"/>
                </a:lnTo>
                <a:lnTo>
                  <a:pt x="935" y="1885"/>
                </a:lnTo>
                <a:lnTo>
                  <a:pt x="933" y="1890"/>
                </a:lnTo>
                <a:lnTo>
                  <a:pt x="932" y="1893"/>
                </a:lnTo>
                <a:lnTo>
                  <a:pt x="927" y="1903"/>
                </a:lnTo>
                <a:lnTo>
                  <a:pt x="913" y="1923"/>
                </a:lnTo>
                <a:lnTo>
                  <a:pt x="900" y="1933"/>
                </a:lnTo>
                <a:lnTo>
                  <a:pt x="877" y="1941"/>
                </a:lnTo>
                <a:lnTo>
                  <a:pt x="835" y="1954"/>
                </a:lnTo>
                <a:lnTo>
                  <a:pt x="758" y="1978"/>
                </a:lnTo>
                <a:lnTo>
                  <a:pt x="682" y="2013"/>
                </a:lnTo>
                <a:lnTo>
                  <a:pt x="664" y="2025"/>
                </a:lnTo>
                <a:lnTo>
                  <a:pt x="648" y="2033"/>
                </a:lnTo>
                <a:lnTo>
                  <a:pt x="617" y="2045"/>
                </a:lnTo>
                <a:lnTo>
                  <a:pt x="585" y="2052"/>
                </a:lnTo>
                <a:lnTo>
                  <a:pt x="523" y="2056"/>
                </a:lnTo>
                <a:lnTo>
                  <a:pt x="478" y="2065"/>
                </a:lnTo>
                <a:lnTo>
                  <a:pt x="467" y="2071"/>
                </a:lnTo>
                <a:lnTo>
                  <a:pt x="456" y="2077"/>
                </a:lnTo>
                <a:lnTo>
                  <a:pt x="449" y="2085"/>
                </a:lnTo>
                <a:lnTo>
                  <a:pt x="433" y="2104"/>
                </a:lnTo>
                <a:lnTo>
                  <a:pt x="403" y="2146"/>
                </a:lnTo>
                <a:lnTo>
                  <a:pt x="371" y="2168"/>
                </a:lnTo>
                <a:lnTo>
                  <a:pt x="365" y="2171"/>
                </a:lnTo>
                <a:lnTo>
                  <a:pt x="355" y="2172"/>
                </a:lnTo>
                <a:lnTo>
                  <a:pt x="336" y="2174"/>
                </a:lnTo>
                <a:lnTo>
                  <a:pt x="316" y="2178"/>
                </a:lnTo>
                <a:lnTo>
                  <a:pt x="312" y="2180"/>
                </a:lnTo>
                <a:lnTo>
                  <a:pt x="310" y="2175"/>
                </a:lnTo>
                <a:lnTo>
                  <a:pt x="309" y="2174"/>
                </a:lnTo>
                <a:lnTo>
                  <a:pt x="306" y="2169"/>
                </a:lnTo>
                <a:lnTo>
                  <a:pt x="301" y="2161"/>
                </a:lnTo>
                <a:lnTo>
                  <a:pt x="303" y="2152"/>
                </a:lnTo>
                <a:lnTo>
                  <a:pt x="293" y="2149"/>
                </a:lnTo>
                <a:lnTo>
                  <a:pt x="275" y="2148"/>
                </a:lnTo>
                <a:lnTo>
                  <a:pt x="258" y="2149"/>
                </a:lnTo>
                <a:lnTo>
                  <a:pt x="241" y="2154"/>
                </a:lnTo>
                <a:lnTo>
                  <a:pt x="206" y="2162"/>
                </a:lnTo>
                <a:lnTo>
                  <a:pt x="199" y="2162"/>
                </a:lnTo>
                <a:lnTo>
                  <a:pt x="193" y="2164"/>
                </a:lnTo>
                <a:lnTo>
                  <a:pt x="185" y="2167"/>
                </a:lnTo>
                <a:lnTo>
                  <a:pt x="177" y="2172"/>
                </a:lnTo>
                <a:lnTo>
                  <a:pt x="171" y="2178"/>
                </a:lnTo>
                <a:lnTo>
                  <a:pt x="159" y="2193"/>
                </a:lnTo>
                <a:lnTo>
                  <a:pt x="157" y="2196"/>
                </a:lnTo>
                <a:lnTo>
                  <a:pt x="152" y="2201"/>
                </a:lnTo>
                <a:lnTo>
                  <a:pt x="148" y="2204"/>
                </a:lnTo>
                <a:lnTo>
                  <a:pt x="143" y="2206"/>
                </a:lnTo>
                <a:lnTo>
                  <a:pt x="139" y="2206"/>
                </a:lnTo>
                <a:lnTo>
                  <a:pt x="135" y="2206"/>
                </a:lnTo>
                <a:lnTo>
                  <a:pt x="130" y="2204"/>
                </a:lnTo>
                <a:lnTo>
                  <a:pt x="125" y="2201"/>
                </a:lnTo>
                <a:lnTo>
                  <a:pt x="119" y="2198"/>
                </a:lnTo>
                <a:lnTo>
                  <a:pt x="114" y="2198"/>
                </a:lnTo>
                <a:lnTo>
                  <a:pt x="114" y="2198"/>
                </a:lnTo>
                <a:lnTo>
                  <a:pt x="109" y="2203"/>
                </a:lnTo>
                <a:lnTo>
                  <a:pt x="99" y="2211"/>
                </a:lnTo>
                <a:lnTo>
                  <a:pt x="77" y="2232"/>
                </a:lnTo>
                <a:lnTo>
                  <a:pt x="71" y="2243"/>
                </a:lnTo>
                <a:lnTo>
                  <a:pt x="70" y="2259"/>
                </a:lnTo>
                <a:lnTo>
                  <a:pt x="72" y="2267"/>
                </a:lnTo>
                <a:lnTo>
                  <a:pt x="72" y="2275"/>
                </a:lnTo>
                <a:lnTo>
                  <a:pt x="72" y="2282"/>
                </a:lnTo>
                <a:lnTo>
                  <a:pt x="68" y="2290"/>
                </a:lnTo>
                <a:lnTo>
                  <a:pt x="64" y="2297"/>
                </a:lnTo>
                <a:lnTo>
                  <a:pt x="51" y="2309"/>
                </a:lnTo>
                <a:lnTo>
                  <a:pt x="38" y="2320"/>
                </a:lnTo>
                <a:lnTo>
                  <a:pt x="28" y="2332"/>
                </a:lnTo>
                <a:lnTo>
                  <a:pt x="26" y="2338"/>
                </a:lnTo>
                <a:lnTo>
                  <a:pt x="25" y="2342"/>
                </a:lnTo>
                <a:lnTo>
                  <a:pt x="26" y="2342"/>
                </a:lnTo>
                <a:lnTo>
                  <a:pt x="28" y="2355"/>
                </a:lnTo>
                <a:lnTo>
                  <a:pt x="32" y="2381"/>
                </a:lnTo>
                <a:lnTo>
                  <a:pt x="51" y="2436"/>
                </a:lnTo>
                <a:lnTo>
                  <a:pt x="64" y="2456"/>
                </a:lnTo>
                <a:lnTo>
                  <a:pt x="72" y="2464"/>
                </a:lnTo>
                <a:lnTo>
                  <a:pt x="83" y="2466"/>
                </a:lnTo>
                <a:lnTo>
                  <a:pt x="93" y="2466"/>
                </a:lnTo>
                <a:lnTo>
                  <a:pt x="94" y="2466"/>
                </a:lnTo>
                <a:lnTo>
                  <a:pt x="101" y="2466"/>
                </a:lnTo>
                <a:lnTo>
                  <a:pt x="119" y="2464"/>
                </a:lnTo>
                <a:lnTo>
                  <a:pt x="154" y="2464"/>
                </a:lnTo>
                <a:lnTo>
                  <a:pt x="168" y="2468"/>
                </a:lnTo>
                <a:lnTo>
                  <a:pt x="181" y="2477"/>
                </a:lnTo>
                <a:lnTo>
                  <a:pt x="187" y="2482"/>
                </a:lnTo>
                <a:lnTo>
                  <a:pt x="188" y="2490"/>
                </a:lnTo>
                <a:lnTo>
                  <a:pt x="190" y="2495"/>
                </a:lnTo>
                <a:lnTo>
                  <a:pt x="190" y="2509"/>
                </a:lnTo>
                <a:lnTo>
                  <a:pt x="185" y="2517"/>
                </a:lnTo>
                <a:lnTo>
                  <a:pt x="183" y="2524"/>
                </a:lnTo>
                <a:lnTo>
                  <a:pt x="183" y="2530"/>
                </a:lnTo>
                <a:lnTo>
                  <a:pt x="184" y="2537"/>
                </a:lnTo>
                <a:lnTo>
                  <a:pt x="187" y="2543"/>
                </a:lnTo>
                <a:lnTo>
                  <a:pt x="194" y="2558"/>
                </a:lnTo>
                <a:lnTo>
                  <a:pt x="200" y="2572"/>
                </a:lnTo>
                <a:lnTo>
                  <a:pt x="203" y="2588"/>
                </a:lnTo>
                <a:lnTo>
                  <a:pt x="199" y="2603"/>
                </a:lnTo>
                <a:lnTo>
                  <a:pt x="199" y="2603"/>
                </a:lnTo>
                <a:lnTo>
                  <a:pt x="201" y="2606"/>
                </a:lnTo>
                <a:lnTo>
                  <a:pt x="204" y="2607"/>
                </a:lnTo>
                <a:lnTo>
                  <a:pt x="207" y="2610"/>
                </a:lnTo>
                <a:lnTo>
                  <a:pt x="209" y="2613"/>
                </a:lnTo>
                <a:lnTo>
                  <a:pt x="209" y="2616"/>
                </a:lnTo>
                <a:lnTo>
                  <a:pt x="210" y="2623"/>
                </a:lnTo>
                <a:lnTo>
                  <a:pt x="210" y="2630"/>
                </a:lnTo>
                <a:lnTo>
                  <a:pt x="213" y="2636"/>
                </a:lnTo>
                <a:lnTo>
                  <a:pt x="216" y="2637"/>
                </a:lnTo>
                <a:lnTo>
                  <a:pt x="199" y="2642"/>
                </a:lnTo>
                <a:lnTo>
                  <a:pt x="161" y="2646"/>
                </a:lnTo>
                <a:lnTo>
                  <a:pt x="78" y="2656"/>
                </a:lnTo>
                <a:lnTo>
                  <a:pt x="43" y="2662"/>
                </a:lnTo>
                <a:lnTo>
                  <a:pt x="19" y="2672"/>
                </a:lnTo>
                <a:lnTo>
                  <a:pt x="13" y="2677"/>
                </a:lnTo>
                <a:lnTo>
                  <a:pt x="12" y="2681"/>
                </a:lnTo>
                <a:lnTo>
                  <a:pt x="9" y="2690"/>
                </a:lnTo>
                <a:lnTo>
                  <a:pt x="7" y="2695"/>
                </a:lnTo>
                <a:lnTo>
                  <a:pt x="7" y="2695"/>
                </a:lnTo>
                <a:lnTo>
                  <a:pt x="6" y="2700"/>
                </a:lnTo>
                <a:lnTo>
                  <a:pt x="1" y="2710"/>
                </a:lnTo>
                <a:lnTo>
                  <a:pt x="0" y="2719"/>
                </a:lnTo>
                <a:lnTo>
                  <a:pt x="0" y="2719"/>
                </a:lnTo>
                <a:lnTo>
                  <a:pt x="3" y="2723"/>
                </a:lnTo>
                <a:lnTo>
                  <a:pt x="7" y="2726"/>
                </a:lnTo>
                <a:lnTo>
                  <a:pt x="16" y="2729"/>
                </a:lnTo>
                <a:lnTo>
                  <a:pt x="26" y="2729"/>
                </a:lnTo>
                <a:lnTo>
                  <a:pt x="39" y="2724"/>
                </a:lnTo>
                <a:lnTo>
                  <a:pt x="48" y="2719"/>
                </a:lnTo>
                <a:lnTo>
                  <a:pt x="55" y="2713"/>
                </a:lnTo>
                <a:lnTo>
                  <a:pt x="72" y="2703"/>
                </a:lnTo>
                <a:lnTo>
                  <a:pt x="104" y="2688"/>
                </a:lnTo>
                <a:lnTo>
                  <a:pt x="135" y="2682"/>
                </a:lnTo>
                <a:lnTo>
                  <a:pt x="143" y="2682"/>
                </a:lnTo>
                <a:lnTo>
                  <a:pt x="151" y="2684"/>
                </a:lnTo>
                <a:lnTo>
                  <a:pt x="170" y="2687"/>
                </a:lnTo>
                <a:lnTo>
                  <a:pt x="207" y="2693"/>
                </a:lnTo>
                <a:lnTo>
                  <a:pt x="233" y="2697"/>
                </a:lnTo>
                <a:lnTo>
                  <a:pt x="238" y="2697"/>
                </a:lnTo>
                <a:lnTo>
                  <a:pt x="242" y="2698"/>
                </a:lnTo>
                <a:lnTo>
                  <a:pt x="246" y="2697"/>
                </a:lnTo>
                <a:lnTo>
                  <a:pt x="255" y="2697"/>
                </a:lnTo>
                <a:lnTo>
                  <a:pt x="280" y="2701"/>
                </a:lnTo>
                <a:lnTo>
                  <a:pt x="301" y="2713"/>
                </a:lnTo>
                <a:lnTo>
                  <a:pt x="307" y="2719"/>
                </a:lnTo>
                <a:lnTo>
                  <a:pt x="320" y="2730"/>
                </a:lnTo>
                <a:lnTo>
                  <a:pt x="341" y="2752"/>
                </a:lnTo>
                <a:lnTo>
                  <a:pt x="355" y="2778"/>
                </a:lnTo>
                <a:lnTo>
                  <a:pt x="359" y="2784"/>
                </a:lnTo>
                <a:lnTo>
                  <a:pt x="358" y="2794"/>
                </a:lnTo>
                <a:lnTo>
                  <a:pt x="354" y="2807"/>
                </a:lnTo>
                <a:lnTo>
                  <a:pt x="352" y="2811"/>
                </a:lnTo>
                <a:lnTo>
                  <a:pt x="349" y="2816"/>
                </a:lnTo>
                <a:lnTo>
                  <a:pt x="346" y="2824"/>
                </a:lnTo>
                <a:lnTo>
                  <a:pt x="343" y="2830"/>
                </a:lnTo>
                <a:lnTo>
                  <a:pt x="343" y="2837"/>
                </a:lnTo>
                <a:lnTo>
                  <a:pt x="345" y="2843"/>
                </a:lnTo>
                <a:lnTo>
                  <a:pt x="349" y="2850"/>
                </a:lnTo>
                <a:lnTo>
                  <a:pt x="354" y="2853"/>
                </a:lnTo>
                <a:lnTo>
                  <a:pt x="358" y="2858"/>
                </a:lnTo>
                <a:lnTo>
                  <a:pt x="365" y="2864"/>
                </a:lnTo>
                <a:lnTo>
                  <a:pt x="380" y="2868"/>
                </a:lnTo>
                <a:lnTo>
                  <a:pt x="394" y="2866"/>
                </a:lnTo>
                <a:lnTo>
                  <a:pt x="400" y="2865"/>
                </a:lnTo>
                <a:lnTo>
                  <a:pt x="403" y="2865"/>
                </a:lnTo>
                <a:lnTo>
                  <a:pt x="410" y="2864"/>
                </a:lnTo>
                <a:lnTo>
                  <a:pt x="422" y="2865"/>
                </a:lnTo>
                <a:lnTo>
                  <a:pt x="436" y="2872"/>
                </a:lnTo>
                <a:lnTo>
                  <a:pt x="442" y="2874"/>
                </a:lnTo>
                <a:lnTo>
                  <a:pt x="448" y="2878"/>
                </a:lnTo>
                <a:lnTo>
                  <a:pt x="471" y="2887"/>
                </a:lnTo>
                <a:lnTo>
                  <a:pt x="530" y="2910"/>
                </a:lnTo>
                <a:lnTo>
                  <a:pt x="572" y="2926"/>
                </a:lnTo>
                <a:lnTo>
                  <a:pt x="575" y="2926"/>
                </a:lnTo>
                <a:lnTo>
                  <a:pt x="577" y="2927"/>
                </a:lnTo>
                <a:lnTo>
                  <a:pt x="584" y="2930"/>
                </a:lnTo>
                <a:lnTo>
                  <a:pt x="588" y="2929"/>
                </a:lnTo>
                <a:lnTo>
                  <a:pt x="594" y="2926"/>
                </a:lnTo>
                <a:lnTo>
                  <a:pt x="598" y="2923"/>
                </a:lnTo>
                <a:lnTo>
                  <a:pt x="610" y="2911"/>
                </a:lnTo>
                <a:lnTo>
                  <a:pt x="656" y="2878"/>
                </a:lnTo>
                <a:lnTo>
                  <a:pt x="732" y="2853"/>
                </a:lnTo>
                <a:lnTo>
                  <a:pt x="755" y="2852"/>
                </a:lnTo>
                <a:lnTo>
                  <a:pt x="761" y="2853"/>
                </a:lnTo>
                <a:lnTo>
                  <a:pt x="782" y="2855"/>
                </a:lnTo>
                <a:lnTo>
                  <a:pt x="806" y="2861"/>
                </a:lnTo>
                <a:lnTo>
                  <a:pt x="811" y="2862"/>
                </a:lnTo>
                <a:lnTo>
                  <a:pt x="813" y="2864"/>
                </a:lnTo>
                <a:lnTo>
                  <a:pt x="827" y="2871"/>
                </a:lnTo>
                <a:lnTo>
                  <a:pt x="878" y="2898"/>
                </a:lnTo>
                <a:lnTo>
                  <a:pt x="921" y="2921"/>
                </a:lnTo>
                <a:lnTo>
                  <a:pt x="926" y="2924"/>
                </a:lnTo>
                <a:lnTo>
                  <a:pt x="927" y="2927"/>
                </a:lnTo>
                <a:lnTo>
                  <a:pt x="932" y="2932"/>
                </a:lnTo>
                <a:lnTo>
                  <a:pt x="935" y="2936"/>
                </a:lnTo>
                <a:lnTo>
                  <a:pt x="937" y="2940"/>
                </a:lnTo>
                <a:lnTo>
                  <a:pt x="937" y="2948"/>
                </a:lnTo>
                <a:lnTo>
                  <a:pt x="936" y="2956"/>
                </a:lnTo>
                <a:lnTo>
                  <a:pt x="935" y="2961"/>
                </a:lnTo>
                <a:lnTo>
                  <a:pt x="930" y="2968"/>
                </a:lnTo>
                <a:lnTo>
                  <a:pt x="921" y="2987"/>
                </a:lnTo>
                <a:lnTo>
                  <a:pt x="893" y="3030"/>
                </a:lnTo>
                <a:lnTo>
                  <a:pt x="866" y="3066"/>
                </a:lnTo>
                <a:lnTo>
                  <a:pt x="864" y="3071"/>
                </a:lnTo>
                <a:lnTo>
                  <a:pt x="862" y="3072"/>
                </a:lnTo>
                <a:lnTo>
                  <a:pt x="858" y="3078"/>
                </a:lnTo>
                <a:lnTo>
                  <a:pt x="839" y="3098"/>
                </a:lnTo>
                <a:lnTo>
                  <a:pt x="803" y="3126"/>
                </a:lnTo>
                <a:lnTo>
                  <a:pt x="791" y="3132"/>
                </a:lnTo>
                <a:lnTo>
                  <a:pt x="790" y="3132"/>
                </a:lnTo>
                <a:lnTo>
                  <a:pt x="781" y="3132"/>
                </a:lnTo>
                <a:lnTo>
                  <a:pt x="752" y="3129"/>
                </a:lnTo>
                <a:lnTo>
                  <a:pt x="730" y="3127"/>
                </a:lnTo>
                <a:lnTo>
                  <a:pt x="730" y="3126"/>
                </a:lnTo>
                <a:lnTo>
                  <a:pt x="729" y="3127"/>
                </a:lnTo>
                <a:lnTo>
                  <a:pt x="727" y="3130"/>
                </a:lnTo>
                <a:lnTo>
                  <a:pt x="722" y="3140"/>
                </a:lnTo>
                <a:lnTo>
                  <a:pt x="717" y="3148"/>
                </a:lnTo>
                <a:lnTo>
                  <a:pt x="717" y="3148"/>
                </a:lnTo>
                <a:lnTo>
                  <a:pt x="714" y="3152"/>
                </a:lnTo>
                <a:lnTo>
                  <a:pt x="710" y="3158"/>
                </a:lnTo>
                <a:lnTo>
                  <a:pt x="707" y="3162"/>
                </a:lnTo>
                <a:lnTo>
                  <a:pt x="706" y="3165"/>
                </a:lnTo>
                <a:lnTo>
                  <a:pt x="706" y="3169"/>
                </a:lnTo>
                <a:lnTo>
                  <a:pt x="709" y="3177"/>
                </a:lnTo>
                <a:lnTo>
                  <a:pt x="711" y="3181"/>
                </a:lnTo>
                <a:lnTo>
                  <a:pt x="716" y="3191"/>
                </a:lnTo>
                <a:lnTo>
                  <a:pt x="727" y="3208"/>
                </a:lnTo>
                <a:lnTo>
                  <a:pt x="756" y="3237"/>
                </a:lnTo>
                <a:lnTo>
                  <a:pt x="791" y="3262"/>
                </a:lnTo>
                <a:lnTo>
                  <a:pt x="801" y="3266"/>
                </a:lnTo>
                <a:lnTo>
                  <a:pt x="810" y="3274"/>
                </a:lnTo>
                <a:lnTo>
                  <a:pt x="814" y="3282"/>
                </a:lnTo>
                <a:lnTo>
                  <a:pt x="817" y="3290"/>
                </a:lnTo>
                <a:lnTo>
                  <a:pt x="816" y="3300"/>
                </a:lnTo>
                <a:lnTo>
                  <a:pt x="814" y="3308"/>
                </a:lnTo>
                <a:lnTo>
                  <a:pt x="808" y="3319"/>
                </a:lnTo>
                <a:lnTo>
                  <a:pt x="797" y="3339"/>
                </a:lnTo>
                <a:lnTo>
                  <a:pt x="775" y="3381"/>
                </a:lnTo>
                <a:lnTo>
                  <a:pt x="775" y="3381"/>
                </a:lnTo>
                <a:lnTo>
                  <a:pt x="774" y="3382"/>
                </a:lnTo>
                <a:lnTo>
                  <a:pt x="772" y="3384"/>
                </a:lnTo>
                <a:lnTo>
                  <a:pt x="769" y="3388"/>
                </a:lnTo>
                <a:lnTo>
                  <a:pt x="764" y="3391"/>
                </a:lnTo>
                <a:lnTo>
                  <a:pt x="758" y="3392"/>
                </a:lnTo>
                <a:lnTo>
                  <a:pt x="751" y="3392"/>
                </a:lnTo>
                <a:lnTo>
                  <a:pt x="745" y="3390"/>
                </a:lnTo>
                <a:lnTo>
                  <a:pt x="745" y="3390"/>
                </a:lnTo>
                <a:lnTo>
                  <a:pt x="740" y="3388"/>
                </a:lnTo>
                <a:lnTo>
                  <a:pt x="735" y="3382"/>
                </a:lnTo>
                <a:lnTo>
                  <a:pt x="722" y="3371"/>
                </a:lnTo>
                <a:lnTo>
                  <a:pt x="710" y="3361"/>
                </a:lnTo>
                <a:lnTo>
                  <a:pt x="709" y="3358"/>
                </a:lnTo>
                <a:lnTo>
                  <a:pt x="704" y="3356"/>
                </a:lnTo>
                <a:lnTo>
                  <a:pt x="700" y="3355"/>
                </a:lnTo>
                <a:lnTo>
                  <a:pt x="695" y="3355"/>
                </a:lnTo>
                <a:lnTo>
                  <a:pt x="687" y="3356"/>
                </a:lnTo>
                <a:lnTo>
                  <a:pt x="678" y="3359"/>
                </a:lnTo>
                <a:lnTo>
                  <a:pt x="672" y="3363"/>
                </a:lnTo>
                <a:lnTo>
                  <a:pt x="671" y="3366"/>
                </a:lnTo>
                <a:lnTo>
                  <a:pt x="671" y="3369"/>
                </a:lnTo>
                <a:lnTo>
                  <a:pt x="671" y="3371"/>
                </a:lnTo>
                <a:lnTo>
                  <a:pt x="672" y="3371"/>
                </a:lnTo>
                <a:lnTo>
                  <a:pt x="678" y="3384"/>
                </a:lnTo>
                <a:lnTo>
                  <a:pt x="690" y="3408"/>
                </a:lnTo>
                <a:lnTo>
                  <a:pt x="704" y="3458"/>
                </a:lnTo>
                <a:lnTo>
                  <a:pt x="698" y="3508"/>
                </a:lnTo>
                <a:lnTo>
                  <a:pt x="693" y="3520"/>
                </a:lnTo>
                <a:lnTo>
                  <a:pt x="697" y="3520"/>
                </a:lnTo>
                <a:lnTo>
                  <a:pt x="701" y="3520"/>
                </a:lnTo>
                <a:lnTo>
                  <a:pt x="706" y="3520"/>
                </a:lnTo>
                <a:lnTo>
                  <a:pt x="713" y="3523"/>
                </a:lnTo>
                <a:lnTo>
                  <a:pt x="730" y="3529"/>
                </a:lnTo>
                <a:lnTo>
                  <a:pt x="746" y="3524"/>
                </a:lnTo>
                <a:lnTo>
                  <a:pt x="751" y="3523"/>
                </a:lnTo>
                <a:lnTo>
                  <a:pt x="756" y="3523"/>
                </a:lnTo>
                <a:lnTo>
                  <a:pt x="761" y="3526"/>
                </a:lnTo>
                <a:lnTo>
                  <a:pt x="765" y="3529"/>
                </a:lnTo>
                <a:lnTo>
                  <a:pt x="768" y="3533"/>
                </a:lnTo>
                <a:lnTo>
                  <a:pt x="774" y="3545"/>
                </a:lnTo>
                <a:lnTo>
                  <a:pt x="779" y="3556"/>
                </a:lnTo>
                <a:lnTo>
                  <a:pt x="785" y="3565"/>
                </a:lnTo>
                <a:lnTo>
                  <a:pt x="790" y="3566"/>
                </a:lnTo>
                <a:lnTo>
                  <a:pt x="804" y="3575"/>
                </a:lnTo>
                <a:lnTo>
                  <a:pt x="835" y="3589"/>
                </a:lnTo>
                <a:lnTo>
                  <a:pt x="894" y="3621"/>
                </a:lnTo>
                <a:lnTo>
                  <a:pt x="949" y="3659"/>
                </a:lnTo>
                <a:lnTo>
                  <a:pt x="962" y="3669"/>
                </a:lnTo>
                <a:lnTo>
                  <a:pt x="971" y="3676"/>
                </a:lnTo>
                <a:lnTo>
                  <a:pt x="975" y="3681"/>
                </a:lnTo>
                <a:lnTo>
                  <a:pt x="977" y="3681"/>
                </a:lnTo>
                <a:lnTo>
                  <a:pt x="978" y="3682"/>
                </a:lnTo>
                <a:lnTo>
                  <a:pt x="982" y="3687"/>
                </a:lnTo>
                <a:lnTo>
                  <a:pt x="987" y="3689"/>
                </a:lnTo>
                <a:lnTo>
                  <a:pt x="988" y="3689"/>
                </a:lnTo>
                <a:lnTo>
                  <a:pt x="992" y="3685"/>
                </a:lnTo>
                <a:lnTo>
                  <a:pt x="997" y="3684"/>
                </a:lnTo>
                <a:lnTo>
                  <a:pt x="1001" y="3684"/>
                </a:lnTo>
                <a:lnTo>
                  <a:pt x="1004" y="3687"/>
                </a:lnTo>
                <a:lnTo>
                  <a:pt x="1008" y="3691"/>
                </a:lnTo>
                <a:lnTo>
                  <a:pt x="1013" y="3695"/>
                </a:lnTo>
                <a:lnTo>
                  <a:pt x="1021" y="3707"/>
                </a:lnTo>
                <a:lnTo>
                  <a:pt x="1030" y="3718"/>
                </a:lnTo>
                <a:lnTo>
                  <a:pt x="1039" y="3726"/>
                </a:lnTo>
                <a:lnTo>
                  <a:pt x="1040" y="3726"/>
                </a:lnTo>
                <a:lnTo>
                  <a:pt x="1039" y="3718"/>
                </a:lnTo>
                <a:lnTo>
                  <a:pt x="1039" y="3710"/>
                </a:lnTo>
                <a:lnTo>
                  <a:pt x="1040" y="3702"/>
                </a:lnTo>
                <a:lnTo>
                  <a:pt x="1042" y="3700"/>
                </a:lnTo>
                <a:lnTo>
                  <a:pt x="1045" y="3697"/>
                </a:lnTo>
                <a:lnTo>
                  <a:pt x="1046" y="3694"/>
                </a:lnTo>
                <a:lnTo>
                  <a:pt x="1050" y="3691"/>
                </a:lnTo>
                <a:lnTo>
                  <a:pt x="1061" y="3685"/>
                </a:lnTo>
                <a:lnTo>
                  <a:pt x="1068" y="3681"/>
                </a:lnTo>
                <a:lnTo>
                  <a:pt x="1069" y="3679"/>
                </a:lnTo>
                <a:lnTo>
                  <a:pt x="1075" y="3675"/>
                </a:lnTo>
                <a:lnTo>
                  <a:pt x="1088" y="3669"/>
                </a:lnTo>
                <a:lnTo>
                  <a:pt x="1094" y="3668"/>
                </a:lnTo>
                <a:lnTo>
                  <a:pt x="1100" y="3669"/>
                </a:lnTo>
                <a:lnTo>
                  <a:pt x="1104" y="3669"/>
                </a:lnTo>
                <a:lnTo>
                  <a:pt x="1114" y="3676"/>
                </a:lnTo>
                <a:lnTo>
                  <a:pt x="1134" y="3688"/>
                </a:lnTo>
                <a:lnTo>
                  <a:pt x="1174" y="3713"/>
                </a:lnTo>
                <a:lnTo>
                  <a:pt x="1213" y="3736"/>
                </a:lnTo>
                <a:lnTo>
                  <a:pt x="1224" y="3740"/>
                </a:lnTo>
                <a:lnTo>
                  <a:pt x="1232" y="3745"/>
                </a:lnTo>
                <a:lnTo>
                  <a:pt x="1247" y="3753"/>
                </a:lnTo>
                <a:lnTo>
                  <a:pt x="1279" y="3771"/>
                </a:lnTo>
                <a:lnTo>
                  <a:pt x="1304" y="3794"/>
                </a:lnTo>
                <a:lnTo>
                  <a:pt x="1310" y="3800"/>
                </a:lnTo>
                <a:lnTo>
                  <a:pt x="1313" y="3807"/>
                </a:lnTo>
                <a:lnTo>
                  <a:pt x="1320" y="3821"/>
                </a:lnTo>
                <a:lnTo>
                  <a:pt x="1339" y="3849"/>
                </a:lnTo>
                <a:lnTo>
                  <a:pt x="1349" y="3859"/>
                </a:lnTo>
                <a:lnTo>
                  <a:pt x="1355" y="3860"/>
                </a:lnTo>
                <a:lnTo>
                  <a:pt x="1359" y="3862"/>
                </a:lnTo>
                <a:lnTo>
                  <a:pt x="1363" y="3859"/>
                </a:lnTo>
                <a:lnTo>
                  <a:pt x="1365" y="3859"/>
                </a:lnTo>
                <a:lnTo>
                  <a:pt x="1368" y="3856"/>
                </a:lnTo>
                <a:lnTo>
                  <a:pt x="1371" y="3852"/>
                </a:lnTo>
                <a:lnTo>
                  <a:pt x="1374" y="3847"/>
                </a:lnTo>
                <a:lnTo>
                  <a:pt x="1378" y="3836"/>
                </a:lnTo>
                <a:lnTo>
                  <a:pt x="1384" y="3826"/>
                </a:lnTo>
                <a:lnTo>
                  <a:pt x="1387" y="3823"/>
                </a:lnTo>
                <a:lnTo>
                  <a:pt x="1389" y="3821"/>
                </a:lnTo>
                <a:lnTo>
                  <a:pt x="1394" y="3821"/>
                </a:lnTo>
                <a:lnTo>
                  <a:pt x="1398" y="3823"/>
                </a:lnTo>
                <a:lnTo>
                  <a:pt x="1402" y="3827"/>
                </a:lnTo>
                <a:lnTo>
                  <a:pt x="1404" y="3827"/>
                </a:lnTo>
                <a:lnTo>
                  <a:pt x="1407" y="3831"/>
                </a:lnTo>
                <a:lnTo>
                  <a:pt x="1410" y="3836"/>
                </a:lnTo>
                <a:lnTo>
                  <a:pt x="1413" y="3846"/>
                </a:lnTo>
                <a:lnTo>
                  <a:pt x="1416" y="3858"/>
                </a:lnTo>
                <a:lnTo>
                  <a:pt x="1423" y="3882"/>
                </a:lnTo>
                <a:lnTo>
                  <a:pt x="1429" y="3892"/>
                </a:lnTo>
                <a:lnTo>
                  <a:pt x="1431" y="3897"/>
                </a:lnTo>
                <a:lnTo>
                  <a:pt x="1434" y="3900"/>
                </a:lnTo>
                <a:lnTo>
                  <a:pt x="1439" y="3902"/>
                </a:lnTo>
                <a:lnTo>
                  <a:pt x="1449" y="3905"/>
                </a:lnTo>
                <a:lnTo>
                  <a:pt x="1459" y="3907"/>
                </a:lnTo>
                <a:lnTo>
                  <a:pt x="1478" y="3915"/>
                </a:lnTo>
                <a:lnTo>
                  <a:pt x="1484" y="3918"/>
                </a:lnTo>
                <a:lnTo>
                  <a:pt x="1487" y="3921"/>
                </a:lnTo>
                <a:lnTo>
                  <a:pt x="1491" y="3923"/>
                </a:lnTo>
                <a:lnTo>
                  <a:pt x="1495" y="3923"/>
                </a:lnTo>
                <a:lnTo>
                  <a:pt x="1501" y="3923"/>
                </a:lnTo>
                <a:lnTo>
                  <a:pt x="1511" y="3921"/>
                </a:lnTo>
                <a:lnTo>
                  <a:pt x="1530" y="3917"/>
                </a:lnTo>
                <a:lnTo>
                  <a:pt x="1540" y="3918"/>
                </a:lnTo>
                <a:lnTo>
                  <a:pt x="1542" y="3920"/>
                </a:lnTo>
                <a:lnTo>
                  <a:pt x="1544" y="3923"/>
                </a:lnTo>
                <a:lnTo>
                  <a:pt x="1550" y="3929"/>
                </a:lnTo>
                <a:lnTo>
                  <a:pt x="1555" y="3934"/>
                </a:lnTo>
                <a:lnTo>
                  <a:pt x="1560" y="3950"/>
                </a:lnTo>
                <a:lnTo>
                  <a:pt x="1565" y="3958"/>
                </a:lnTo>
                <a:lnTo>
                  <a:pt x="1566" y="3960"/>
                </a:lnTo>
                <a:lnTo>
                  <a:pt x="1569" y="3965"/>
                </a:lnTo>
                <a:lnTo>
                  <a:pt x="1572" y="3966"/>
                </a:lnTo>
                <a:lnTo>
                  <a:pt x="1576" y="3966"/>
                </a:lnTo>
                <a:lnTo>
                  <a:pt x="1581" y="3965"/>
                </a:lnTo>
                <a:lnTo>
                  <a:pt x="1587" y="3962"/>
                </a:lnTo>
                <a:lnTo>
                  <a:pt x="1589" y="3960"/>
                </a:lnTo>
                <a:lnTo>
                  <a:pt x="1594" y="3960"/>
                </a:lnTo>
                <a:lnTo>
                  <a:pt x="1600" y="3960"/>
                </a:lnTo>
                <a:lnTo>
                  <a:pt x="1604" y="3962"/>
                </a:lnTo>
                <a:lnTo>
                  <a:pt x="1608" y="3965"/>
                </a:lnTo>
                <a:lnTo>
                  <a:pt x="1617" y="3971"/>
                </a:lnTo>
                <a:lnTo>
                  <a:pt x="1626" y="3978"/>
                </a:lnTo>
                <a:lnTo>
                  <a:pt x="1636" y="3979"/>
                </a:lnTo>
                <a:lnTo>
                  <a:pt x="1644" y="3976"/>
                </a:lnTo>
                <a:lnTo>
                  <a:pt x="1646" y="3976"/>
                </a:lnTo>
                <a:lnTo>
                  <a:pt x="1646" y="3979"/>
                </a:lnTo>
                <a:lnTo>
                  <a:pt x="1647" y="3986"/>
                </a:lnTo>
                <a:lnTo>
                  <a:pt x="1653" y="3998"/>
                </a:lnTo>
                <a:lnTo>
                  <a:pt x="1657" y="4002"/>
                </a:lnTo>
                <a:lnTo>
                  <a:pt x="1663" y="4002"/>
                </a:lnTo>
                <a:lnTo>
                  <a:pt x="1666" y="4001"/>
                </a:lnTo>
                <a:lnTo>
                  <a:pt x="1671" y="4000"/>
                </a:lnTo>
                <a:lnTo>
                  <a:pt x="1676" y="3998"/>
                </a:lnTo>
                <a:lnTo>
                  <a:pt x="1681" y="3998"/>
                </a:lnTo>
                <a:lnTo>
                  <a:pt x="1686" y="4000"/>
                </a:lnTo>
                <a:lnTo>
                  <a:pt x="1697" y="4002"/>
                </a:lnTo>
                <a:lnTo>
                  <a:pt x="1707" y="4007"/>
                </a:lnTo>
                <a:lnTo>
                  <a:pt x="1717" y="4008"/>
                </a:lnTo>
                <a:lnTo>
                  <a:pt x="1726" y="4004"/>
                </a:lnTo>
                <a:lnTo>
                  <a:pt x="1727" y="4004"/>
                </a:lnTo>
                <a:lnTo>
                  <a:pt x="1728" y="4001"/>
                </a:lnTo>
                <a:lnTo>
                  <a:pt x="1728" y="4000"/>
                </a:lnTo>
                <a:lnTo>
                  <a:pt x="1728" y="3998"/>
                </a:lnTo>
                <a:lnTo>
                  <a:pt x="1730" y="3994"/>
                </a:lnTo>
                <a:lnTo>
                  <a:pt x="1731" y="3994"/>
                </a:lnTo>
                <a:lnTo>
                  <a:pt x="1739" y="3992"/>
                </a:lnTo>
                <a:lnTo>
                  <a:pt x="1755" y="3992"/>
                </a:lnTo>
                <a:lnTo>
                  <a:pt x="1769" y="3995"/>
                </a:lnTo>
                <a:lnTo>
                  <a:pt x="1784" y="4001"/>
                </a:lnTo>
                <a:lnTo>
                  <a:pt x="1810" y="4017"/>
                </a:lnTo>
                <a:lnTo>
                  <a:pt x="1817" y="4020"/>
                </a:lnTo>
                <a:lnTo>
                  <a:pt x="1827" y="4026"/>
                </a:lnTo>
                <a:lnTo>
                  <a:pt x="1847" y="4030"/>
                </a:lnTo>
                <a:lnTo>
                  <a:pt x="1866" y="4033"/>
                </a:lnTo>
                <a:lnTo>
                  <a:pt x="1904" y="4030"/>
                </a:lnTo>
                <a:lnTo>
                  <a:pt x="1939" y="4026"/>
                </a:lnTo>
                <a:lnTo>
                  <a:pt x="1941" y="4026"/>
                </a:lnTo>
                <a:lnTo>
                  <a:pt x="1955" y="4026"/>
                </a:lnTo>
                <a:lnTo>
                  <a:pt x="1965" y="4026"/>
                </a:lnTo>
                <a:lnTo>
                  <a:pt x="1966" y="4024"/>
                </a:lnTo>
                <a:lnTo>
                  <a:pt x="1970" y="4021"/>
                </a:lnTo>
                <a:lnTo>
                  <a:pt x="1978" y="4018"/>
                </a:lnTo>
                <a:lnTo>
                  <a:pt x="1981" y="4015"/>
                </a:lnTo>
                <a:lnTo>
                  <a:pt x="1992" y="4010"/>
                </a:lnTo>
                <a:lnTo>
                  <a:pt x="1999" y="4005"/>
                </a:lnTo>
                <a:lnTo>
                  <a:pt x="2007" y="4004"/>
                </a:lnTo>
                <a:lnTo>
                  <a:pt x="2014" y="4002"/>
                </a:lnTo>
                <a:lnTo>
                  <a:pt x="2020" y="4002"/>
                </a:lnTo>
                <a:lnTo>
                  <a:pt x="2025" y="4005"/>
                </a:lnTo>
                <a:lnTo>
                  <a:pt x="2028" y="4010"/>
                </a:lnTo>
                <a:lnTo>
                  <a:pt x="2030" y="4013"/>
                </a:lnTo>
                <a:lnTo>
                  <a:pt x="2028" y="4020"/>
                </a:lnTo>
                <a:lnTo>
                  <a:pt x="2030" y="4031"/>
                </a:lnTo>
                <a:lnTo>
                  <a:pt x="2033" y="4055"/>
                </a:lnTo>
                <a:lnTo>
                  <a:pt x="2041" y="4075"/>
                </a:lnTo>
                <a:lnTo>
                  <a:pt x="2044" y="4079"/>
                </a:lnTo>
                <a:lnTo>
                  <a:pt x="2044" y="4081"/>
                </a:lnTo>
                <a:lnTo>
                  <a:pt x="2043" y="4085"/>
                </a:lnTo>
                <a:lnTo>
                  <a:pt x="2044" y="4085"/>
                </a:lnTo>
                <a:lnTo>
                  <a:pt x="2046" y="4082"/>
                </a:lnTo>
                <a:lnTo>
                  <a:pt x="2049" y="4079"/>
                </a:lnTo>
                <a:lnTo>
                  <a:pt x="2053" y="4075"/>
                </a:lnTo>
                <a:lnTo>
                  <a:pt x="2063" y="4068"/>
                </a:lnTo>
                <a:lnTo>
                  <a:pt x="2073" y="4060"/>
                </a:lnTo>
                <a:lnTo>
                  <a:pt x="2079" y="4052"/>
                </a:lnTo>
                <a:lnTo>
                  <a:pt x="2081" y="4046"/>
                </a:lnTo>
                <a:lnTo>
                  <a:pt x="2079" y="4040"/>
                </a:lnTo>
                <a:lnTo>
                  <a:pt x="2078" y="4033"/>
                </a:lnTo>
                <a:lnTo>
                  <a:pt x="2078" y="4033"/>
                </a:lnTo>
                <a:lnTo>
                  <a:pt x="2082" y="4034"/>
                </a:lnTo>
                <a:lnTo>
                  <a:pt x="2086" y="4033"/>
                </a:lnTo>
                <a:lnTo>
                  <a:pt x="2089" y="4031"/>
                </a:lnTo>
                <a:lnTo>
                  <a:pt x="2091" y="4030"/>
                </a:lnTo>
                <a:lnTo>
                  <a:pt x="2094" y="4027"/>
                </a:lnTo>
                <a:lnTo>
                  <a:pt x="2095" y="4026"/>
                </a:lnTo>
                <a:lnTo>
                  <a:pt x="2098" y="4024"/>
                </a:lnTo>
                <a:lnTo>
                  <a:pt x="2102" y="4020"/>
                </a:lnTo>
                <a:lnTo>
                  <a:pt x="2107" y="4014"/>
                </a:lnTo>
                <a:lnTo>
                  <a:pt x="2114" y="4001"/>
                </a:lnTo>
                <a:lnTo>
                  <a:pt x="2123" y="3994"/>
                </a:lnTo>
                <a:lnTo>
                  <a:pt x="2127" y="3991"/>
                </a:lnTo>
                <a:lnTo>
                  <a:pt x="2136" y="3985"/>
                </a:lnTo>
                <a:lnTo>
                  <a:pt x="2154" y="3971"/>
                </a:lnTo>
                <a:lnTo>
                  <a:pt x="2175" y="3960"/>
                </a:lnTo>
                <a:lnTo>
                  <a:pt x="2182" y="3959"/>
                </a:lnTo>
                <a:lnTo>
                  <a:pt x="2182" y="3962"/>
                </a:lnTo>
                <a:lnTo>
                  <a:pt x="2183" y="3963"/>
                </a:lnTo>
                <a:lnTo>
                  <a:pt x="2185" y="3963"/>
                </a:lnTo>
                <a:lnTo>
                  <a:pt x="2188" y="3965"/>
                </a:lnTo>
                <a:lnTo>
                  <a:pt x="2191" y="3965"/>
                </a:lnTo>
                <a:lnTo>
                  <a:pt x="2195" y="3971"/>
                </a:lnTo>
                <a:lnTo>
                  <a:pt x="2195" y="3972"/>
                </a:lnTo>
                <a:lnTo>
                  <a:pt x="2199" y="3973"/>
                </a:lnTo>
                <a:lnTo>
                  <a:pt x="2202" y="3973"/>
                </a:lnTo>
                <a:lnTo>
                  <a:pt x="2208" y="3972"/>
                </a:lnTo>
                <a:lnTo>
                  <a:pt x="2217" y="3969"/>
                </a:lnTo>
                <a:lnTo>
                  <a:pt x="2223" y="3969"/>
                </a:lnTo>
                <a:lnTo>
                  <a:pt x="2224" y="3972"/>
                </a:lnTo>
                <a:lnTo>
                  <a:pt x="2228" y="3976"/>
                </a:lnTo>
                <a:lnTo>
                  <a:pt x="2237" y="3985"/>
                </a:lnTo>
                <a:lnTo>
                  <a:pt x="2249" y="3991"/>
                </a:lnTo>
                <a:lnTo>
                  <a:pt x="2252" y="3991"/>
                </a:lnTo>
                <a:lnTo>
                  <a:pt x="2256" y="3992"/>
                </a:lnTo>
                <a:lnTo>
                  <a:pt x="2266" y="3995"/>
                </a:lnTo>
                <a:lnTo>
                  <a:pt x="2286" y="4000"/>
                </a:lnTo>
                <a:lnTo>
                  <a:pt x="2307" y="4004"/>
                </a:lnTo>
                <a:lnTo>
                  <a:pt x="2312" y="4004"/>
                </a:lnTo>
                <a:lnTo>
                  <a:pt x="2317" y="4005"/>
                </a:lnTo>
                <a:lnTo>
                  <a:pt x="2321" y="4005"/>
                </a:lnTo>
                <a:lnTo>
                  <a:pt x="2331" y="4004"/>
                </a:lnTo>
                <a:lnTo>
                  <a:pt x="2341" y="4001"/>
                </a:lnTo>
                <a:lnTo>
                  <a:pt x="2359" y="3997"/>
                </a:lnTo>
                <a:lnTo>
                  <a:pt x="2366" y="3998"/>
                </a:lnTo>
                <a:lnTo>
                  <a:pt x="2370" y="4002"/>
                </a:lnTo>
                <a:lnTo>
                  <a:pt x="2379" y="4011"/>
                </a:lnTo>
                <a:lnTo>
                  <a:pt x="2388" y="4021"/>
                </a:lnTo>
                <a:lnTo>
                  <a:pt x="2402" y="4044"/>
                </a:lnTo>
                <a:lnTo>
                  <a:pt x="2415" y="4062"/>
                </a:lnTo>
                <a:lnTo>
                  <a:pt x="2418" y="4060"/>
                </a:lnTo>
                <a:lnTo>
                  <a:pt x="2431" y="4055"/>
                </a:lnTo>
                <a:lnTo>
                  <a:pt x="2441" y="4050"/>
                </a:lnTo>
                <a:lnTo>
                  <a:pt x="2443" y="4049"/>
                </a:lnTo>
                <a:lnTo>
                  <a:pt x="2451" y="4047"/>
                </a:lnTo>
                <a:lnTo>
                  <a:pt x="2467" y="4044"/>
                </a:lnTo>
                <a:lnTo>
                  <a:pt x="2498" y="4039"/>
                </a:lnTo>
                <a:lnTo>
                  <a:pt x="2531" y="4033"/>
                </a:lnTo>
                <a:lnTo>
                  <a:pt x="2541" y="4030"/>
                </a:lnTo>
                <a:lnTo>
                  <a:pt x="2535" y="4018"/>
                </a:lnTo>
                <a:lnTo>
                  <a:pt x="2535" y="4010"/>
                </a:lnTo>
                <a:lnTo>
                  <a:pt x="2537" y="4002"/>
                </a:lnTo>
                <a:lnTo>
                  <a:pt x="2541" y="3997"/>
                </a:lnTo>
                <a:lnTo>
                  <a:pt x="2549" y="3992"/>
                </a:lnTo>
                <a:lnTo>
                  <a:pt x="2556" y="3989"/>
                </a:lnTo>
                <a:lnTo>
                  <a:pt x="2573" y="3982"/>
                </a:lnTo>
                <a:lnTo>
                  <a:pt x="2588" y="3973"/>
                </a:lnTo>
                <a:lnTo>
                  <a:pt x="2593" y="3968"/>
                </a:lnTo>
                <a:lnTo>
                  <a:pt x="2596" y="3959"/>
                </a:lnTo>
                <a:lnTo>
                  <a:pt x="2598" y="3959"/>
                </a:lnTo>
                <a:lnTo>
                  <a:pt x="2599" y="3953"/>
                </a:lnTo>
                <a:lnTo>
                  <a:pt x="2604" y="3942"/>
                </a:lnTo>
                <a:lnTo>
                  <a:pt x="2617" y="3926"/>
                </a:lnTo>
                <a:lnTo>
                  <a:pt x="2633" y="3914"/>
                </a:lnTo>
                <a:lnTo>
                  <a:pt x="2638" y="3911"/>
                </a:lnTo>
                <a:lnTo>
                  <a:pt x="2643" y="3910"/>
                </a:lnTo>
                <a:lnTo>
                  <a:pt x="2656" y="3908"/>
                </a:lnTo>
                <a:lnTo>
                  <a:pt x="2669" y="3910"/>
                </a:lnTo>
                <a:lnTo>
                  <a:pt x="2696" y="3910"/>
                </a:lnTo>
                <a:lnTo>
                  <a:pt x="2714" y="3905"/>
                </a:lnTo>
                <a:lnTo>
                  <a:pt x="2722" y="3900"/>
                </a:lnTo>
                <a:lnTo>
                  <a:pt x="2731" y="3892"/>
                </a:lnTo>
                <a:lnTo>
                  <a:pt x="2747" y="3875"/>
                </a:lnTo>
                <a:lnTo>
                  <a:pt x="2777" y="3840"/>
                </a:lnTo>
                <a:lnTo>
                  <a:pt x="2817" y="3830"/>
                </a:lnTo>
                <a:lnTo>
                  <a:pt x="2821" y="3833"/>
                </a:lnTo>
                <a:lnTo>
                  <a:pt x="2831" y="3837"/>
                </a:lnTo>
                <a:lnTo>
                  <a:pt x="2854" y="3850"/>
                </a:lnTo>
                <a:lnTo>
                  <a:pt x="2880" y="3859"/>
                </a:lnTo>
                <a:lnTo>
                  <a:pt x="2888" y="3859"/>
                </a:lnTo>
                <a:lnTo>
                  <a:pt x="2892" y="3860"/>
                </a:lnTo>
                <a:lnTo>
                  <a:pt x="2896" y="3866"/>
                </a:lnTo>
                <a:lnTo>
                  <a:pt x="2896" y="3869"/>
                </a:lnTo>
                <a:lnTo>
                  <a:pt x="2896" y="3872"/>
                </a:lnTo>
                <a:lnTo>
                  <a:pt x="2896" y="3873"/>
                </a:lnTo>
                <a:lnTo>
                  <a:pt x="2905" y="3871"/>
                </a:lnTo>
                <a:lnTo>
                  <a:pt x="2914" y="3866"/>
                </a:lnTo>
                <a:lnTo>
                  <a:pt x="2931" y="3853"/>
                </a:lnTo>
                <a:lnTo>
                  <a:pt x="2947" y="3839"/>
                </a:lnTo>
                <a:lnTo>
                  <a:pt x="2961" y="3827"/>
                </a:lnTo>
                <a:lnTo>
                  <a:pt x="2979" y="3821"/>
                </a:lnTo>
                <a:lnTo>
                  <a:pt x="2989" y="3823"/>
                </a:lnTo>
                <a:lnTo>
                  <a:pt x="2998" y="3826"/>
                </a:lnTo>
                <a:lnTo>
                  <a:pt x="2999" y="3826"/>
                </a:lnTo>
                <a:lnTo>
                  <a:pt x="3003" y="3830"/>
                </a:lnTo>
                <a:lnTo>
                  <a:pt x="3008" y="3836"/>
                </a:lnTo>
                <a:lnTo>
                  <a:pt x="3011" y="3840"/>
                </a:lnTo>
                <a:lnTo>
                  <a:pt x="3014" y="3846"/>
                </a:lnTo>
                <a:lnTo>
                  <a:pt x="3014" y="3852"/>
                </a:lnTo>
                <a:lnTo>
                  <a:pt x="3014" y="3859"/>
                </a:lnTo>
                <a:lnTo>
                  <a:pt x="3011" y="3872"/>
                </a:lnTo>
                <a:lnTo>
                  <a:pt x="3005" y="3887"/>
                </a:lnTo>
                <a:lnTo>
                  <a:pt x="3001" y="3900"/>
                </a:lnTo>
                <a:lnTo>
                  <a:pt x="3001" y="3900"/>
                </a:lnTo>
                <a:lnTo>
                  <a:pt x="3003" y="3898"/>
                </a:lnTo>
                <a:lnTo>
                  <a:pt x="3012" y="3892"/>
                </a:lnTo>
                <a:lnTo>
                  <a:pt x="3028" y="3882"/>
                </a:lnTo>
                <a:lnTo>
                  <a:pt x="3045" y="3875"/>
                </a:lnTo>
                <a:lnTo>
                  <a:pt x="3051" y="3873"/>
                </a:lnTo>
                <a:lnTo>
                  <a:pt x="3051" y="3878"/>
                </a:lnTo>
                <a:lnTo>
                  <a:pt x="3053" y="3881"/>
                </a:lnTo>
                <a:lnTo>
                  <a:pt x="3056" y="3884"/>
                </a:lnTo>
                <a:lnTo>
                  <a:pt x="3059" y="3885"/>
                </a:lnTo>
                <a:lnTo>
                  <a:pt x="3064" y="3891"/>
                </a:lnTo>
                <a:lnTo>
                  <a:pt x="3069" y="3895"/>
                </a:lnTo>
                <a:lnTo>
                  <a:pt x="3072" y="3901"/>
                </a:lnTo>
                <a:lnTo>
                  <a:pt x="3069" y="3907"/>
                </a:lnTo>
                <a:lnTo>
                  <a:pt x="3069" y="3907"/>
                </a:lnTo>
                <a:lnTo>
                  <a:pt x="3064" y="3913"/>
                </a:lnTo>
                <a:lnTo>
                  <a:pt x="3056" y="3921"/>
                </a:lnTo>
                <a:lnTo>
                  <a:pt x="3045" y="3929"/>
                </a:lnTo>
                <a:lnTo>
                  <a:pt x="3027" y="3939"/>
                </a:lnTo>
                <a:lnTo>
                  <a:pt x="3011" y="3944"/>
                </a:lnTo>
                <a:lnTo>
                  <a:pt x="3009" y="3946"/>
                </a:lnTo>
                <a:lnTo>
                  <a:pt x="3008" y="3947"/>
                </a:lnTo>
                <a:lnTo>
                  <a:pt x="3008" y="3949"/>
                </a:lnTo>
                <a:lnTo>
                  <a:pt x="3008" y="3950"/>
                </a:lnTo>
                <a:lnTo>
                  <a:pt x="3008" y="3952"/>
                </a:lnTo>
                <a:lnTo>
                  <a:pt x="3009" y="3953"/>
                </a:lnTo>
                <a:lnTo>
                  <a:pt x="3012" y="3956"/>
                </a:lnTo>
                <a:lnTo>
                  <a:pt x="3016" y="3959"/>
                </a:lnTo>
                <a:lnTo>
                  <a:pt x="3018" y="3959"/>
                </a:lnTo>
                <a:lnTo>
                  <a:pt x="3025" y="3960"/>
                </a:lnTo>
                <a:lnTo>
                  <a:pt x="3041" y="3959"/>
                </a:lnTo>
                <a:lnTo>
                  <a:pt x="3069" y="3959"/>
                </a:lnTo>
                <a:lnTo>
                  <a:pt x="3096" y="3966"/>
                </a:lnTo>
                <a:lnTo>
                  <a:pt x="3105" y="3969"/>
                </a:lnTo>
                <a:lnTo>
                  <a:pt x="3105" y="3963"/>
                </a:lnTo>
                <a:lnTo>
                  <a:pt x="3106" y="3958"/>
                </a:lnTo>
                <a:lnTo>
                  <a:pt x="3111" y="3956"/>
                </a:lnTo>
                <a:lnTo>
                  <a:pt x="3116" y="3959"/>
                </a:lnTo>
                <a:lnTo>
                  <a:pt x="3122" y="3962"/>
                </a:lnTo>
                <a:lnTo>
                  <a:pt x="3128" y="3962"/>
                </a:lnTo>
                <a:lnTo>
                  <a:pt x="3131" y="3960"/>
                </a:lnTo>
                <a:lnTo>
                  <a:pt x="3140" y="3968"/>
                </a:lnTo>
                <a:lnTo>
                  <a:pt x="3145" y="3972"/>
                </a:lnTo>
                <a:lnTo>
                  <a:pt x="3147" y="3972"/>
                </a:lnTo>
                <a:lnTo>
                  <a:pt x="3148" y="3973"/>
                </a:lnTo>
                <a:lnTo>
                  <a:pt x="3153" y="3976"/>
                </a:lnTo>
                <a:lnTo>
                  <a:pt x="3156" y="3978"/>
                </a:lnTo>
                <a:lnTo>
                  <a:pt x="3157" y="3978"/>
                </a:lnTo>
                <a:lnTo>
                  <a:pt x="3161" y="3978"/>
                </a:lnTo>
                <a:lnTo>
                  <a:pt x="3169" y="3976"/>
                </a:lnTo>
                <a:lnTo>
                  <a:pt x="3173" y="3973"/>
                </a:lnTo>
                <a:lnTo>
                  <a:pt x="3174" y="3969"/>
                </a:lnTo>
                <a:lnTo>
                  <a:pt x="3173" y="3965"/>
                </a:lnTo>
                <a:lnTo>
                  <a:pt x="3173" y="3963"/>
                </a:lnTo>
                <a:lnTo>
                  <a:pt x="3173" y="3962"/>
                </a:lnTo>
                <a:lnTo>
                  <a:pt x="3172" y="3960"/>
                </a:lnTo>
                <a:lnTo>
                  <a:pt x="3169" y="3956"/>
                </a:lnTo>
                <a:lnTo>
                  <a:pt x="3166" y="3947"/>
                </a:lnTo>
                <a:lnTo>
                  <a:pt x="3164" y="3937"/>
                </a:lnTo>
                <a:lnTo>
                  <a:pt x="3166" y="3934"/>
                </a:lnTo>
                <a:lnTo>
                  <a:pt x="3167" y="3936"/>
                </a:lnTo>
                <a:lnTo>
                  <a:pt x="3172" y="3937"/>
                </a:lnTo>
                <a:lnTo>
                  <a:pt x="3177" y="3934"/>
                </a:lnTo>
                <a:lnTo>
                  <a:pt x="3182" y="3934"/>
                </a:lnTo>
                <a:lnTo>
                  <a:pt x="3190" y="3934"/>
                </a:lnTo>
                <a:lnTo>
                  <a:pt x="3192" y="3934"/>
                </a:lnTo>
                <a:lnTo>
                  <a:pt x="3199" y="3940"/>
                </a:lnTo>
                <a:lnTo>
                  <a:pt x="3215" y="3952"/>
                </a:lnTo>
                <a:lnTo>
                  <a:pt x="3243" y="3976"/>
                </a:lnTo>
                <a:lnTo>
                  <a:pt x="3263" y="4005"/>
                </a:lnTo>
                <a:lnTo>
                  <a:pt x="3266" y="4013"/>
                </a:lnTo>
                <a:lnTo>
                  <a:pt x="3266" y="4020"/>
                </a:lnTo>
                <a:lnTo>
                  <a:pt x="3267" y="4031"/>
                </a:lnTo>
                <a:lnTo>
                  <a:pt x="3267" y="4052"/>
                </a:lnTo>
                <a:lnTo>
                  <a:pt x="3269" y="4060"/>
                </a:lnTo>
                <a:lnTo>
                  <a:pt x="3274" y="4068"/>
                </a:lnTo>
                <a:lnTo>
                  <a:pt x="3280" y="4069"/>
                </a:lnTo>
                <a:lnTo>
                  <a:pt x="3285" y="4071"/>
                </a:lnTo>
                <a:lnTo>
                  <a:pt x="3287" y="4069"/>
                </a:lnTo>
                <a:lnTo>
                  <a:pt x="3295" y="4068"/>
                </a:lnTo>
                <a:lnTo>
                  <a:pt x="3309" y="4065"/>
                </a:lnTo>
                <a:lnTo>
                  <a:pt x="3321" y="4066"/>
                </a:lnTo>
                <a:lnTo>
                  <a:pt x="3324" y="4071"/>
                </a:lnTo>
                <a:lnTo>
                  <a:pt x="3329" y="4078"/>
                </a:lnTo>
                <a:lnTo>
                  <a:pt x="3338" y="4098"/>
                </a:lnTo>
                <a:lnTo>
                  <a:pt x="3338" y="4110"/>
                </a:lnTo>
                <a:lnTo>
                  <a:pt x="3335" y="4121"/>
                </a:lnTo>
                <a:lnTo>
                  <a:pt x="3334" y="4127"/>
                </a:lnTo>
                <a:lnTo>
                  <a:pt x="3329" y="4136"/>
                </a:lnTo>
                <a:lnTo>
                  <a:pt x="3329" y="4143"/>
                </a:lnTo>
                <a:lnTo>
                  <a:pt x="3331" y="4150"/>
                </a:lnTo>
                <a:lnTo>
                  <a:pt x="3334" y="4157"/>
                </a:lnTo>
                <a:lnTo>
                  <a:pt x="3342" y="4172"/>
                </a:lnTo>
                <a:lnTo>
                  <a:pt x="3351" y="4188"/>
                </a:lnTo>
                <a:lnTo>
                  <a:pt x="3356" y="4204"/>
                </a:lnTo>
                <a:lnTo>
                  <a:pt x="3353" y="4221"/>
                </a:lnTo>
                <a:lnTo>
                  <a:pt x="3353" y="4221"/>
                </a:lnTo>
                <a:lnTo>
                  <a:pt x="3348" y="4228"/>
                </a:lnTo>
                <a:lnTo>
                  <a:pt x="3340" y="4243"/>
                </a:lnTo>
                <a:lnTo>
                  <a:pt x="3324" y="4269"/>
                </a:lnTo>
                <a:lnTo>
                  <a:pt x="3321" y="4284"/>
                </a:lnTo>
                <a:lnTo>
                  <a:pt x="3325" y="4298"/>
                </a:lnTo>
                <a:lnTo>
                  <a:pt x="3331" y="4305"/>
                </a:lnTo>
                <a:lnTo>
                  <a:pt x="3325" y="4308"/>
                </a:lnTo>
                <a:lnTo>
                  <a:pt x="3315" y="4314"/>
                </a:lnTo>
                <a:lnTo>
                  <a:pt x="3299" y="4328"/>
                </a:lnTo>
                <a:lnTo>
                  <a:pt x="3293" y="4336"/>
                </a:lnTo>
                <a:lnTo>
                  <a:pt x="3290" y="4344"/>
                </a:lnTo>
                <a:lnTo>
                  <a:pt x="3290" y="4349"/>
                </a:lnTo>
                <a:lnTo>
                  <a:pt x="3289" y="4359"/>
                </a:lnTo>
                <a:lnTo>
                  <a:pt x="3286" y="4368"/>
                </a:lnTo>
                <a:lnTo>
                  <a:pt x="3282" y="4375"/>
                </a:lnTo>
                <a:lnTo>
                  <a:pt x="3277" y="4381"/>
                </a:lnTo>
                <a:lnTo>
                  <a:pt x="3264" y="4391"/>
                </a:lnTo>
                <a:lnTo>
                  <a:pt x="3250" y="4399"/>
                </a:lnTo>
                <a:lnTo>
                  <a:pt x="3221" y="4414"/>
                </a:lnTo>
                <a:lnTo>
                  <a:pt x="3221" y="4414"/>
                </a:lnTo>
                <a:lnTo>
                  <a:pt x="3215" y="4418"/>
                </a:lnTo>
                <a:lnTo>
                  <a:pt x="3211" y="4423"/>
                </a:lnTo>
                <a:lnTo>
                  <a:pt x="3206" y="4428"/>
                </a:lnTo>
                <a:lnTo>
                  <a:pt x="3201" y="4440"/>
                </a:lnTo>
                <a:lnTo>
                  <a:pt x="3196" y="4453"/>
                </a:lnTo>
                <a:lnTo>
                  <a:pt x="3190" y="4465"/>
                </a:lnTo>
                <a:lnTo>
                  <a:pt x="3180" y="4475"/>
                </a:lnTo>
                <a:lnTo>
                  <a:pt x="3174" y="4478"/>
                </a:lnTo>
                <a:lnTo>
                  <a:pt x="3179" y="4488"/>
                </a:lnTo>
                <a:lnTo>
                  <a:pt x="3190" y="4508"/>
                </a:lnTo>
                <a:lnTo>
                  <a:pt x="3205" y="4550"/>
                </a:lnTo>
                <a:lnTo>
                  <a:pt x="3203" y="4570"/>
                </a:lnTo>
                <a:lnTo>
                  <a:pt x="3192" y="4591"/>
                </a:lnTo>
                <a:lnTo>
                  <a:pt x="3183" y="4599"/>
                </a:lnTo>
                <a:lnTo>
                  <a:pt x="3190" y="4597"/>
                </a:lnTo>
                <a:lnTo>
                  <a:pt x="3205" y="4588"/>
                </a:lnTo>
                <a:lnTo>
                  <a:pt x="3234" y="4572"/>
                </a:lnTo>
                <a:lnTo>
                  <a:pt x="3264" y="4557"/>
                </a:lnTo>
                <a:lnTo>
                  <a:pt x="3273" y="4553"/>
                </a:lnTo>
                <a:lnTo>
                  <a:pt x="3279" y="4552"/>
                </a:lnTo>
                <a:lnTo>
                  <a:pt x="3293" y="4547"/>
                </a:lnTo>
                <a:lnTo>
                  <a:pt x="3324" y="4544"/>
                </a:lnTo>
                <a:lnTo>
                  <a:pt x="3357" y="4555"/>
                </a:lnTo>
                <a:lnTo>
                  <a:pt x="3366" y="4557"/>
                </a:lnTo>
                <a:lnTo>
                  <a:pt x="3357" y="4562"/>
                </a:lnTo>
                <a:lnTo>
                  <a:pt x="3353" y="4568"/>
                </a:lnTo>
                <a:lnTo>
                  <a:pt x="3348" y="4573"/>
                </a:lnTo>
                <a:lnTo>
                  <a:pt x="3345" y="4581"/>
                </a:lnTo>
                <a:lnTo>
                  <a:pt x="3345" y="4589"/>
                </a:lnTo>
                <a:lnTo>
                  <a:pt x="3347" y="4607"/>
                </a:lnTo>
                <a:lnTo>
                  <a:pt x="3351" y="4623"/>
                </a:lnTo>
                <a:lnTo>
                  <a:pt x="3358" y="4637"/>
                </a:lnTo>
                <a:lnTo>
                  <a:pt x="3363" y="4643"/>
                </a:lnTo>
                <a:lnTo>
                  <a:pt x="3364" y="4647"/>
                </a:lnTo>
                <a:lnTo>
                  <a:pt x="3366" y="4652"/>
                </a:lnTo>
                <a:lnTo>
                  <a:pt x="3366" y="4654"/>
                </a:lnTo>
                <a:lnTo>
                  <a:pt x="3364" y="4659"/>
                </a:lnTo>
                <a:lnTo>
                  <a:pt x="3363" y="4666"/>
                </a:lnTo>
                <a:lnTo>
                  <a:pt x="3360" y="4673"/>
                </a:lnTo>
                <a:lnTo>
                  <a:pt x="3358" y="4679"/>
                </a:lnTo>
                <a:lnTo>
                  <a:pt x="3357" y="4685"/>
                </a:lnTo>
                <a:lnTo>
                  <a:pt x="3358" y="4685"/>
                </a:lnTo>
                <a:lnTo>
                  <a:pt x="3361" y="4692"/>
                </a:lnTo>
                <a:lnTo>
                  <a:pt x="3366" y="4695"/>
                </a:lnTo>
                <a:lnTo>
                  <a:pt x="3371" y="4698"/>
                </a:lnTo>
                <a:lnTo>
                  <a:pt x="3379" y="4698"/>
                </a:lnTo>
                <a:lnTo>
                  <a:pt x="3386" y="4698"/>
                </a:lnTo>
                <a:lnTo>
                  <a:pt x="3400" y="4697"/>
                </a:lnTo>
                <a:lnTo>
                  <a:pt x="3413" y="4694"/>
                </a:lnTo>
                <a:lnTo>
                  <a:pt x="3424" y="4695"/>
                </a:lnTo>
                <a:lnTo>
                  <a:pt x="3427" y="4698"/>
                </a:lnTo>
                <a:lnTo>
                  <a:pt x="3428" y="4708"/>
                </a:lnTo>
                <a:lnTo>
                  <a:pt x="3427" y="4720"/>
                </a:lnTo>
                <a:lnTo>
                  <a:pt x="3425" y="4730"/>
                </a:lnTo>
                <a:lnTo>
                  <a:pt x="3418" y="4752"/>
                </a:lnTo>
                <a:lnTo>
                  <a:pt x="3405" y="4798"/>
                </a:lnTo>
                <a:lnTo>
                  <a:pt x="3413" y="4831"/>
                </a:lnTo>
                <a:lnTo>
                  <a:pt x="3418" y="4837"/>
                </a:lnTo>
                <a:lnTo>
                  <a:pt x="3424" y="4840"/>
                </a:lnTo>
                <a:lnTo>
                  <a:pt x="3429" y="4841"/>
                </a:lnTo>
                <a:lnTo>
                  <a:pt x="3438" y="4843"/>
                </a:lnTo>
                <a:lnTo>
                  <a:pt x="3454" y="4843"/>
                </a:lnTo>
                <a:lnTo>
                  <a:pt x="3471" y="4841"/>
                </a:lnTo>
                <a:lnTo>
                  <a:pt x="3487" y="4844"/>
                </a:lnTo>
                <a:lnTo>
                  <a:pt x="3493" y="4849"/>
                </a:lnTo>
                <a:lnTo>
                  <a:pt x="3499" y="4853"/>
                </a:lnTo>
                <a:lnTo>
                  <a:pt x="3500" y="4853"/>
                </a:lnTo>
                <a:lnTo>
                  <a:pt x="3502" y="4857"/>
                </a:lnTo>
                <a:lnTo>
                  <a:pt x="3503" y="4860"/>
                </a:lnTo>
                <a:lnTo>
                  <a:pt x="3503" y="4865"/>
                </a:lnTo>
                <a:lnTo>
                  <a:pt x="3503" y="4869"/>
                </a:lnTo>
                <a:lnTo>
                  <a:pt x="3500" y="4878"/>
                </a:lnTo>
                <a:lnTo>
                  <a:pt x="3496" y="4886"/>
                </a:lnTo>
                <a:lnTo>
                  <a:pt x="3486" y="4902"/>
                </a:lnTo>
                <a:lnTo>
                  <a:pt x="3486" y="4902"/>
                </a:lnTo>
                <a:lnTo>
                  <a:pt x="3495" y="4904"/>
                </a:lnTo>
                <a:lnTo>
                  <a:pt x="3500" y="4907"/>
                </a:lnTo>
                <a:lnTo>
                  <a:pt x="3511" y="4912"/>
                </a:lnTo>
                <a:lnTo>
                  <a:pt x="3519" y="4915"/>
                </a:lnTo>
                <a:lnTo>
                  <a:pt x="3521" y="4917"/>
                </a:lnTo>
                <a:lnTo>
                  <a:pt x="3521" y="4918"/>
                </a:lnTo>
                <a:lnTo>
                  <a:pt x="3519" y="4921"/>
                </a:lnTo>
                <a:lnTo>
                  <a:pt x="3518" y="4923"/>
                </a:lnTo>
                <a:lnTo>
                  <a:pt x="3515" y="4927"/>
                </a:lnTo>
                <a:lnTo>
                  <a:pt x="3511" y="4934"/>
                </a:lnTo>
                <a:lnTo>
                  <a:pt x="3512" y="4934"/>
                </a:lnTo>
                <a:lnTo>
                  <a:pt x="3524" y="4936"/>
                </a:lnTo>
                <a:lnTo>
                  <a:pt x="3548" y="4933"/>
                </a:lnTo>
                <a:lnTo>
                  <a:pt x="3573" y="4925"/>
                </a:lnTo>
                <a:lnTo>
                  <a:pt x="3621" y="4910"/>
                </a:lnTo>
                <a:lnTo>
                  <a:pt x="3658" y="4902"/>
                </a:lnTo>
                <a:lnTo>
                  <a:pt x="3657" y="4905"/>
                </a:lnTo>
                <a:lnTo>
                  <a:pt x="3655" y="4910"/>
                </a:lnTo>
                <a:lnTo>
                  <a:pt x="3654" y="4914"/>
                </a:lnTo>
                <a:lnTo>
                  <a:pt x="3653" y="4915"/>
                </a:lnTo>
                <a:lnTo>
                  <a:pt x="3653" y="4915"/>
                </a:lnTo>
                <a:lnTo>
                  <a:pt x="3651" y="4918"/>
                </a:lnTo>
                <a:lnTo>
                  <a:pt x="3650" y="4925"/>
                </a:lnTo>
                <a:lnTo>
                  <a:pt x="3648" y="4930"/>
                </a:lnTo>
                <a:lnTo>
                  <a:pt x="3648" y="4930"/>
                </a:lnTo>
                <a:lnTo>
                  <a:pt x="3654" y="4936"/>
                </a:lnTo>
                <a:lnTo>
                  <a:pt x="3676" y="4953"/>
                </a:lnTo>
                <a:lnTo>
                  <a:pt x="3697" y="4967"/>
                </a:lnTo>
                <a:lnTo>
                  <a:pt x="3702" y="4969"/>
                </a:lnTo>
                <a:lnTo>
                  <a:pt x="3703" y="4970"/>
                </a:lnTo>
                <a:lnTo>
                  <a:pt x="3709" y="4973"/>
                </a:lnTo>
                <a:lnTo>
                  <a:pt x="3722" y="4973"/>
                </a:lnTo>
                <a:lnTo>
                  <a:pt x="3729" y="4972"/>
                </a:lnTo>
                <a:lnTo>
                  <a:pt x="3737" y="4967"/>
                </a:lnTo>
                <a:lnTo>
                  <a:pt x="3741" y="4963"/>
                </a:lnTo>
                <a:lnTo>
                  <a:pt x="3744" y="4959"/>
                </a:lnTo>
                <a:lnTo>
                  <a:pt x="3747" y="4954"/>
                </a:lnTo>
                <a:lnTo>
                  <a:pt x="3748" y="4949"/>
                </a:lnTo>
                <a:lnTo>
                  <a:pt x="3748" y="4943"/>
                </a:lnTo>
                <a:lnTo>
                  <a:pt x="3747" y="4931"/>
                </a:lnTo>
                <a:lnTo>
                  <a:pt x="3744" y="4921"/>
                </a:lnTo>
                <a:lnTo>
                  <a:pt x="3739" y="4910"/>
                </a:lnTo>
                <a:lnTo>
                  <a:pt x="3741" y="4910"/>
                </a:lnTo>
                <a:lnTo>
                  <a:pt x="3737" y="4905"/>
                </a:lnTo>
                <a:lnTo>
                  <a:pt x="3724" y="4888"/>
                </a:lnTo>
                <a:lnTo>
                  <a:pt x="3713" y="4863"/>
                </a:lnTo>
                <a:lnTo>
                  <a:pt x="3713" y="4856"/>
                </a:lnTo>
                <a:lnTo>
                  <a:pt x="3712" y="4850"/>
                </a:lnTo>
                <a:lnTo>
                  <a:pt x="3710" y="4840"/>
                </a:lnTo>
                <a:lnTo>
                  <a:pt x="3708" y="4830"/>
                </a:lnTo>
                <a:lnTo>
                  <a:pt x="3706" y="4828"/>
                </a:lnTo>
                <a:lnTo>
                  <a:pt x="3705" y="4827"/>
                </a:lnTo>
                <a:lnTo>
                  <a:pt x="3703" y="4825"/>
                </a:lnTo>
                <a:lnTo>
                  <a:pt x="3699" y="4823"/>
                </a:lnTo>
                <a:lnTo>
                  <a:pt x="3697" y="4821"/>
                </a:lnTo>
                <a:lnTo>
                  <a:pt x="3696" y="4815"/>
                </a:lnTo>
                <a:lnTo>
                  <a:pt x="3695" y="4808"/>
                </a:lnTo>
                <a:lnTo>
                  <a:pt x="3695" y="4801"/>
                </a:lnTo>
                <a:lnTo>
                  <a:pt x="3697" y="4792"/>
                </a:lnTo>
                <a:lnTo>
                  <a:pt x="3700" y="4788"/>
                </a:lnTo>
                <a:lnTo>
                  <a:pt x="3703" y="4785"/>
                </a:lnTo>
                <a:lnTo>
                  <a:pt x="3710" y="4781"/>
                </a:lnTo>
                <a:lnTo>
                  <a:pt x="3719" y="4778"/>
                </a:lnTo>
                <a:lnTo>
                  <a:pt x="3728" y="4778"/>
                </a:lnTo>
                <a:lnTo>
                  <a:pt x="3737" y="4778"/>
                </a:lnTo>
                <a:lnTo>
                  <a:pt x="3744" y="4781"/>
                </a:lnTo>
                <a:lnTo>
                  <a:pt x="3748" y="4781"/>
                </a:lnTo>
                <a:lnTo>
                  <a:pt x="3751" y="4782"/>
                </a:lnTo>
                <a:lnTo>
                  <a:pt x="3758" y="4786"/>
                </a:lnTo>
                <a:lnTo>
                  <a:pt x="3779" y="4796"/>
                </a:lnTo>
                <a:lnTo>
                  <a:pt x="3796" y="4804"/>
                </a:lnTo>
                <a:lnTo>
                  <a:pt x="3800" y="4804"/>
                </a:lnTo>
                <a:lnTo>
                  <a:pt x="3802" y="4802"/>
                </a:lnTo>
                <a:lnTo>
                  <a:pt x="3803" y="4798"/>
                </a:lnTo>
                <a:lnTo>
                  <a:pt x="3805" y="4792"/>
                </a:lnTo>
                <a:lnTo>
                  <a:pt x="3806" y="4791"/>
                </a:lnTo>
                <a:lnTo>
                  <a:pt x="3806" y="4785"/>
                </a:lnTo>
                <a:lnTo>
                  <a:pt x="3809" y="4775"/>
                </a:lnTo>
                <a:lnTo>
                  <a:pt x="3812" y="4762"/>
                </a:lnTo>
                <a:lnTo>
                  <a:pt x="3819" y="4746"/>
                </a:lnTo>
                <a:lnTo>
                  <a:pt x="3822" y="4740"/>
                </a:lnTo>
                <a:lnTo>
                  <a:pt x="3825" y="4739"/>
                </a:lnTo>
                <a:lnTo>
                  <a:pt x="3828" y="4739"/>
                </a:lnTo>
                <a:lnTo>
                  <a:pt x="3832" y="4739"/>
                </a:lnTo>
                <a:lnTo>
                  <a:pt x="3842" y="4740"/>
                </a:lnTo>
                <a:lnTo>
                  <a:pt x="3845" y="4740"/>
                </a:lnTo>
                <a:lnTo>
                  <a:pt x="3848" y="4747"/>
                </a:lnTo>
                <a:lnTo>
                  <a:pt x="3857" y="4757"/>
                </a:lnTo>
                <a:lnTo>
                  <a:pt x="3867" y="4766"/>
                </a:lnTo>
                <a:lnTo>
                  <a:pt x="3879" y="4773"/>
                </a:lnTo>
                <a:lnTo>
                  <a:pt x="3890" y="4776"/>
                </a:lnTo>
                <a:lnTo>
                  <a:pt x="3900" y="4778"/>
                </a:lnTo>
                <a:lnTo>
                  <a:pt x="3906" y="4776"/>
                </a:lnTo>
                <a:lnTo>
                  <a:pt x="3909" y="4776"/>
                </a:lnTo>
                <a:lnTo>
                  <a:pt x="3912" y="4773"/>
                </a:lnTo>
                <a:lnTo>
                  <a:pt x="3915" y="4769"/>
                </a:lnTo>
                <a:lnTo>
                  <a:pt x="3918" y="4766"/>
                </a:lnTo>
                <a:lnTo>
                  <a:pt x="3922" y="4756"/>
                </a:lnTo>
                <a:lnTo>
                  <a:pt x="3926" y="4746"/>
                </a:lnTo>
                <a:lnTo>
                  <a:pt x="3934" y="4739"/>
                </a:lnTo>
                <a:lnTo>
                  <a:pt x="3941" y="4734"/>
                </a:lnTo>
                <a:lnTo>
                  <a:pt x="3942" y="4734"/>
                </a:lnTo>
                <a:lnTo>
                  <a:pt x="3950" y="4734"/>
                </a:lnTo>
                <a:lnTo>
                  <a:pt x="3965" y="4733"/>
                </a:lnTo>
                <a:lnTo>
                  <a:pt x="3979" y="4736"/>
                </a:lnTo>
                <a:lnTo>
                  <a:pt x="3990" y="4741"/>
                </a:lnTo>
                <a:lnTo>
                  <a:pt x="4000" y="4752"/>
                </a:lnTo>
                <a:lnTo>
                  <a:pt x="4008" y="4765"/>
                </a:lnTo>
                <a:lnTo>
                  <a:pt x="4012" y="4772"/>
                </a:lnTo>
                <a:lnTo>
                  <a:pt x="4016" y="4770"/>
                </a:lnTo>
                <a:lnTo>
                  <a:pt x="4025" y="4768"/>
                </a:lnTo>
                <a:lnTo>
                  <a:pt x="4044" y="4759"/>
                </a:lnTo>
                <a:lnTo>
                  <a:pt x="4060" y="4744"/>
                </a:lnTo>
                <a:lnTo>
                  <a:pt x="4063" y="4739"/>
                </a:lnTo>
                <a:lnTo>
                  <a:pt x="4064" y="4740"/>
                </a:lnTo>
                <a:lnTo>
                  <a:pt x="4067" y="4743"/>
                </a:lnTo>
                <a:lnTo>
                  <a:pt x="4068" y="4746"/>
                </a:lnTo>
                <a:lnTo>
                  <a:pt x="4070" y="4749"/>
                </a:lnTo>
                <a:lnTo>
                  <a:pt x="4071" y="4752"/>
                </a:lnTo>
                <a:lnTo>
                  <a:pt x="4071" y="4754"/>
                </a:lnTo>
                <a:lnTo>
                  <a:pt x="4071" y="4756"/>
                </a:lnTo>
                <a:lnTo>
                  <a:pt x="4076" y="4757"/>
                </a:lnTo>
                <a:lnTo>
                  <a:pt x="4081" y="4757"/>
                </a:lnTo>
                <a:lnTo>
                  <a:pt x="4086" y="4756"/>
                </a:lnTo>
                <a:lnTo>
                  <a:pt x="4087" y="4754"/>
                </a:lnTo>
                <a:lnTo>
                  <a:pt x="4089" y="4753"/>
                </a:lnTo>
                <a:lnTo>
                  <a:pt x="4089" y="4752"/>
                </a:lnTo>
                <a:lnTo>
                  <a:pt x="4089" y="4750"/>
                </a:lnTo>
                <a:lnTo>
                  <a:pt x="4089" y="4747"/>
                </a:lnTo>
                <a:lnTo>
                  <a:pt x="4089" y="4741"/>
                </a:lnTo>
                <a:lnTo>
                  <a:pt x="4090" y="4740"/>
                </a:lnTo>
                <a:lnTo>
                  <a:pt x="4093" y="4737"/>
                </a:lnTo>
                <a:lnTo>
                  <a:pt x="4102" y="4734"/>
                </a:lnTo>
                <a:lnTo>
                  <a:pt x="4109" y="4734"/>
                </a:lnTo>
                <a:lnTo>
                  <a:pt x="4118" y="4734"/>
                </a:lnTo>
                <a:lnTo>
                  <a:pt x="4125" y="4737"/>
                </a:lnTo>
                <a:lnTo>
                  <a:pt x="4135" y="4739"/>
                </a:lnTo>
                <a:lnTo>
                  <a:pt x="4141" y="4739"/>
                </a:lnTo>
                <a:lnTo>
                  <a:pt x="4138" y="4730"/>
                </a:lnTo>
                <a:lnTo>
                  <a:pt x="4135" y="4712"/>
                </a:lnTo>
                <a:lnTo>
                  <a:pt x="4136" y="4697"/>
                </a:lnTo>
                <a:lnTo>
                  <a:pt x="4141" y="4682"/>
                </a:lnTo>
                <a:lnTo>
                  <a:pt x="4148" y="4670"/>
                </a:lnTo>
                <a:lnTo>
                  <a:pt x="4160" y="4660"/>
                </a:lnTo>
                <a:lnTo>
                  <a:pt x="4168" y="4656"/>
                </a:lnTo>
                <a:lnTo>
                  <a:pt x="4174" y="4654"/>
                </a:lnTo>
                <a:lnTo>
                  <a:pt x="4181" y="4653"/>
                </a:lnTo>
                <a:lnTo>
                  <a:pt x="4189" y="4653"/>
                </a:lnTo>
                <a:lnTo>
                  <a:pt x="4196" y="4654"/>
                </a:lnTo>
                <a:lnTo>
                  <a:pt x="4212" y="4662"/>
                </a:lnTo>
                <a:lnTo>
                  <a:pt x="4226" y="4672"/>
                </a:lnTo>
                <a:lnTo>
                  <a:pt x="4238" y="4686"/>
                </a:lnTo>
                <a:lnTo>
                  <a:pt x="4248" y="4701"/>
                </a:lnTo>
                <a:lnTo>
                  <a:pt x="4249" y="4701"/>
                </a:lnTo>
                <a:lnTo>
                  <a:pt x="4252" y="4707"/>
                </a:lnTo>
                <a:lnTo>
                  <a:pt x="4257" y="4710"/>
                </a:lnTo>
                <a:lnTo>
                  <a:pt x="4262" y="4712"/>
                </a:lnTo>
                <a:lnTo>
                  <a:pt x="4270" y="4714"/>
                </a:lnTo>
                <a:lnTo>
                  <a:pt x="4283" y="4712"/>
                </a:lnTo>
                <a:lnTo>
                  <a:pt x="4316" y="4714"/>
                </a:lnTo>
                <a:lnTo>
                  <a:pt x="4332" y="4720"/>
                </a:lnTo>
                <a:lnTo>
                  <a:pt x="4336" y="4723"/>
                </a:lnTo>
                <a:lnTo>
                  <a:pt x="4341" y="4723"/>
                </a:lnTo>
                <a:lnTo>
                  <a:pt x="4347" y="4723"/>
                </a:lnTo>
                <a:lnTo>
                  <a:pt x="4351" y="4721"/>
                </a:lnTo>
                <a:lnTo>
                  <a:pt x="4361" y="4717"/>
                </a:lnTo>
                <a:lnTo>
                  <a:pt x="4371" y="4714"/>
                </a:lnTo>
                <a:lnTo>
                  <a:pt x="4380" y="4712"/>
                </a:lnTo>
                <a:lnTo>
                  <a:pt x="4387" y="4715"/>
                </a:lnTo>
                <a:lnTo>
                  <a:pt x="4389" y="4715"/>
                </a:lnTo>
                <a:lnTo>
                  <a:pt x="4390" y="4718"/>
                </a:lnTo>
                <a:lnTo>
                  <a:pt x="4391" y="4720"/>
                </a:lnTo>
                <a:lnTo>
                  <a:pt x="4394" y="4720"/>
                </a:lnTo>
                <a:lnTo>
                  <a:pt x="4402" y="4723"/>
                </a:lnTo>
                <a:lnTo>
                  <a:pt x="4406" y="4724"/>
                </a:lnTo>
                <a:lnTo>
                  <a:pt x="4409" y="4728"/>
                </a:lnTo>
                <a:lnTo>
                  <a:pt x="4409" y="4734"/>
                </a:lnTo>
                <a:lnTo>
                  <a:pt x="4407" y="4737"/>
                </a:lnTo>
                <a:lnTo>
                  <a:pt x="4403" y="4746"/>
                </a:lnTo>
                <a:lnTo>
                  <a:pt x="4397" y="4760"/>
                </a:lnTo>
                <a:lnTo>
                  <a:pt x="4389" y="4791"/>
                </a:lnTo>
                <a:lnTo>
                  <a:pt x="4377" y="4820"/>
                </a:lnTo>
                <a:lnTo>
                  <a:pt x="4374" y="4825"/>
                </a:lnTo>
                <a:lnTo>
                  <a:pt x="4381" y="4825"/>
                </a:lnTo>
                <a:lnTo>
                  <a:pt x="4389" y="4827"/>
                </a:lnTo>
                <a:lnTo>
                  <a:pt x="4396" y="4830"/>
                </a:lnTo>
                <a:lnTo>
                  <a:pt x="4402" y="4834"/>
                </a:lnTo>
                <a:lnTo>
                  <a:pt x="4412" y="4844"/>
                </a:lnTo>
                <a:lnTo>
                  <a:pt x="4422" y="4856"/>
                </a:lnTo>
                <a:lnTo>
                  <a:pt x="4431" y="4867"/>
                </a:lnTo>
                <a:lnTo>
                  <a:pt x="4442" y="4875"/>
                </a:lnTo>
                <a:lnTo>
                  <a:pt x="4444" y="4875"/>
                </a:lnTo>
                <a:lnTo>
                  <a:pt x="4449" y="4878"/>
                </a:lnTo>
                <a:lnTo>
                  <a:pt x="4461" y="4882"/>
                </a:lnTo>
                <a:lnTo>
                  <a:pt x="4487" y="4886"/>
                </a:lnTo>
                <a:lnTo>
                  <a:pt x="4515" y="4888"/>
                </a:lnTo>
                <a:lnTo>
                  <a:pt x="4522" y="4888"/>
                </a:lnTo>
                <a:lnTo>
                  <a:pt x="4526" y="4891"/>
                </a:lnTo>
                <a:lnTo>
                  <a:pt x="4532" y="4894"/>
                </a:lnTo>
                <a:lnTo>
                  <a:pt x="4538" y="4901"/>
                </a:lnTo>
                <a:lnTo>
                  <a:pt x="4541" y="4902"/>
                </a:lnTo>
                <a:lnTo>
                  <a:pt x="4544" y="4910"/>
                </a:lnTo>
                <a:lnTo>
                  <a:pt x="4545" y="4912"/>
                </a:lnTo>
                <a:lnTo>
                  <a:pt x="4546" y="4912"/>
                </a:lnTo>
                <a:lnTo>
                  <a:pt x="4562" y="4914"/>
                </a:lnTo>
                <a:lnTo>
                  <a:pt x="4580" y="4915"/>
                </a:lnTo>
                <a:lnTo>
                  <a:pt x="4580" y="4920"/>
                </a:lnTo>
                <a:lnTo>
                  <a:pt x="4575" y="4923"/>
                </a:lnTo>
                <a:lnTo>
                  <a:pt x="4577" y="4927"/>
                </a:lnTo>
                <a:lnTo>
                  <a:pt x="4593" y="4928"/>
                </a:lnTo>
                <a:lnTo>
                  <a:pt x="4610" y="4928"/>
                </a:lnTo>
                <a:lnTo>
                  <a:pt x="4620" y="4915"/>
                </a:lnTo>
                <a:lnTo>
                  <a:pt x="4632" y="4907"/>
                </a:lnTo>
                <a:lnTo>
                  <a:pt x="4645" y="4904"/>
                </a:lnTo>
                <a:lnTo>
                  <a:pt x="4658" y="4902"/>
                </a:lnTo>
                <a:lnTo>
                  <a:pt x="4673" y="4905"/>
                </a:lnTo>
                <a:lnTo>
                  <a:pt x="4687" y="4911"/>
                </a:lnTo>
                <a:lnTo>
                  <a:pt x="4716" y="4925"/>
                </a:lnTo>
                <a:lnTo>
                  <a:pt x="4772" y="4954"/>
                </a:lnTo>
                <a:lnTo>
                  <a:pt x="4774" y="4954"/>
                </a:lnTo>
                <a:lnTo>
                  <a:pt x="4770" y="4962"/>
                </a:lnTo>
                <a:lnTo>
                  <a:pt x="4767" y="4975"/>
                </a:lnTo>
                <a:lnTo>
                  <a:pt x="4764" y="4999"/>
                </a:lnTo>
                <a:lnTo>
                  <a:pt x="4767" y="5025"/>
                </a:lnTo>
                <a:lnTo>
                  <a:pt x="4770" y="5031"/>
                </a:lnTo>
                <a:lnTo>
                  <a:pt x="4772" y="5046"/>
                </a:lnTo>
                <a:lnTo>
                  <a:pt x="4787" y="5070"/>
                </a:lnTo>
                <a:lnTo>
                  <a:pt x="4806" y="5088"/>
                </a:lnTo>
                <a:lnTo>
                  <a:pt x="4829" y="5099"/>
                </a:lnTo>
                <a:lnTo>
                  <a:pt x="4855" y="5105"/>
                </a:lnTo>
                <a:lnTo>
                  <a:pt x="4881" y="5102"/>
                </a:lnTo>
                <a:lnTo>
                  <a:pt x="4894" y="5098"/>
                </a:lnTo>
                <a:lnTo>
                  <a:pt x="4897" y="5096"/>
                </a:lnTo>
                <a:lnTo>
                  <a:pt x="4899" y="5095"/>
                </a:lnTo>
                <a:lnTo>
                  <a:pt x="4899" y="5094"/>
                </a:lnTo>
                <a:lnTo>
                  <a:pt x="4897" y="5092"/>
                </a:lnTo>
                <a:lnTo>
                  <a:pt x="4896" y="5091"/>
                </a:lnTo>
                <a:lnTo>
                  <a:pt x="4891" y="5086"/>
                </a:lnTo>
                <a:lnTo>
                  <a:pt x="4888" y="5082"/>
                </a:lnTo>
                <a:lnTo>
                  <a:pt x="4890" y="5073"/>
                </a:lnTo>
                <a:lnTo>
                  <a:pt x="4896" y="5067"/>
                </a:lnTo>
                <a:lnTo>
                  <a:pt x="4888" y="5065"/>
                </a:lnTo>
                <a:lnTo>
                  <a:pt x="4883" y="5062"/>
                </a:lnTo>
                <a:lnTo>
                  <a:pt x="4868" y="5059"/>
                </a:lnTo>
                <a:lnTo>
                  <a:pt x="4857" y="5057"/>
                </a:lnTo>
                <a:lnTo>
                  <a:pt x="4846" y="5054"/>
                </a:lnTo>
                <a:lnTo>
                  <a:pt x="4842" y="5052"/>
                </a:lnTo>
                <a:lnTo>
                  <a:pt x="4839" y="5047"/>
                </a:lnTo>
                <a:lnTo>
                  <a:pt x="4839" y="5041"/>
                </a:lnTo>
                <a:lnTo>
                  <a:pt x="4839" y="5034"/>
                </a:lnTo>
                <a:lnTo>
                  <a:pt x="4841" y="5034"/>
                </a:lnTo>
                <a:lnTo>
                  <a:pt x="4843" y="5021"/>
                </a:lnTo>
                <a:lnTo>
                  <a:pt x="4852" y="4994"/>
                </a:lnTo>
                <a:lnTo>
                  <a:pt x="4875" y="4943"/>
                </a:lnTo>
                <a:lnTo>
                  <a:pt x="4909" y="4902"/>
                </a:lnTo>
                <a:lnTo>
                  <a:pt x="4919" y="4894"/>
                </a:lnTo>
                <a:lnTo>
                  <a:pt x="4932" y="4886"/>
                </a:lnTo>
                <a:lnTo>
                  <a:pt x="4946" y="4883"/>
                </a:lnTo>
                <a:lnTo>
                  <a:pt x="4962" y="4882"/>
                </a:lnTo>
                <a:lnTo>
                  <a:pt x="4994" y="4885"/>
                </a:lnTo>
                <a:lnTo>
                  <a:pt x="5027" y="4891"/>
                </a:lnTo>
                <a:lnTo>
                  <a:pt x="5061" y="4894"/>
                </a:lnTo>
                <a:lnTo>
                  <a:pt x="5091" y="4888"/>
                </a:lnTo>
                <a:lnTo>
                  <a:pt x="5107" y="4879"/>
                </a:lnTo>
                <a:lnTo>
                  <a:pt x="5113" y="4875"/>
                </a:lnTo>
                <a:lnTo>
                  <a:pt x="5126" y="4867"/>
                </a:lnTo>
                <a:lnTo>
                  <a:pt x="5155" y="4857"/>
                </a:lnTo>
                <a:lnTo>
                  <a:pt x="5181" y="4849"/>
                </a:lnTo>
                <a:lnTo>
                  <a:pt x="5188" y="4846"/>
                </a:lnTo>
                <a:lnTo>
                  <a:pt x="5194" y="4843"/>
                </a:lnTo>
                <a:lnTo>
                  <a:pt x="5201" y="4836"/>
                </a:lnTo>
                <a:lnTo>
                  <a:pt x="5213" y="4821"/>
                </a:lnTo>
                <a:lnTo>
                  <a:pt x="5239" y="4791"/>
                </a:lnTo>
                <a:lnTo>
                  <a:pt x="5275" y="4785"/>
                </a:lnTo>
                <a:lnTo>
                  <a:pt x="5277" y="4786"/>
                </a:lnTo>
                <a:lnTo>
                  <a:pt x="5278" y="4788"/>
                </a:lnTo>
                <a:lnTo>
                  <a:pt x="5280" y="4789"/>
                </a:lnTo>
                <a:lnTo>
                  <a:pt x="5282" y="4794"/>
                </a:lnTo>
                <a:lnTo>
                  <a:pt x="5288" y="4802"/>
                </a:lnTo>
                <a:lnTo>
                  <a:pt x="5294" y="4804"/>
                </a:lnTo>
                <a:lnTo>
                  <a:pt x="5296" y="4805"/>
                </a:lnTo>
                <a:lnTo>
                  <a:pt x="5297" y="4805"/>
                </a:lnTo>
                <a:lnTo>
                  <a:pt x="5298" y="4805"/>
                </a:lnTo>
                <a:lnTo>
                  <a:pt x="5300" y="4805"/>
                </a:lnTo>
                <a:lnTo>
                  <a:pt x="5300" y="4802"/>
                </a:lnTo>
                <a:lnTo>
                  <a:pt x="5307" y="4791"/>
                </a:lnTo>
                <a:lnTo>
                  <a:pt x="5323" y="4776"/>
                </a:lnTo>
                <a:lnTo>
                  <a:pt x="5329" y="4772"/>
                </a:lnTo>
                <a:lnTo>
                  <a:pt x="5327" y="4773"/>
                </a:lnTo>
                <a:lnTo>
                  <a:pt x="5327" y="4775"/>
                </a:lnTo>
                <a:lnTo>
                  <a:pt x="5327" y="4778"/>
                </a:lnTo>
                <a:lnTo>
                  <a:pt x="5327" y="4779"/>
                </a:lnTo>
                <a:lnTo>
                  <a:pt x="5329" y="4781"/>
                </a:lnTo>
                <a:lnTo>
                  <a:pt x="5330" y="4782"/>
                </a:lnTo>
                <a:lnTo>
                  <a:pt x="5333" y="4783"/>
                </a:lnTo>
                <a:lnTo>
                  <a:pt x="5338" y="4783"/>
                </a:lnTo>
                <a:lnTo>
                  <a:pt x="5342" y="4783"/>
                </a:lnTo>
                <a:lnTo>
                  <a:pt x="5348" y="4782"/>
                </a:lnTo>
                <a:lnTo>
                  <a:pt x="5349" y="4782"/>
                </a:lnTo>
                <a:lnTo>
                  <a:pt x="5356" y="4779"/>
                </a:lnTo>
                <a:lnTo>
                  <a:pt x="5380" y="4773"/>
                </a:lnTo>
                <a:lnTo>
                  <a:pt x="5391" y="4773"/>
                </a:lnTo>
                <a:lnTo>
                  <a:pt x="5397" y="4775"/>
                </a:lnTo>
                <a:lnTo>
                  <a:pt x="5401" y="4778"/>
                </a:lnTo>
                <a:lnTo>
                  <a:pt x="5404" y="4781"/>
                </a:lnTo>
                <a:lnTo>
                  <a:pt x="5406" y="4781"/>
                </a:lnTo>
                <a:lnTo>
                  <a:pt x="5410" y="4792"/>
                </a:lnTo>
                <a:lnTo>
                  <a:pt x="5413" y="4798"/>
                </a:lnTo>
                <a:lnTo>
                  <a:pt x="5414" y="4798"/>
                </a:lnTo>
                <a:lnTo>
                  <a:pt x="5420" y="4794"/>
                </a:lnTo>
                <a:lnTo>
                  <a:pt x="5433" y="4783"/>
                </a:lnTo>
                <a:lnTo>
                  <a:pt x="5465" y="4768"/>
                </a:lnTo>
                <a:lnTo>
                  <a:pt x="5500" y="4762"/>
                </a:lnTo>
                <a:lnTo>
                  <a:pt x="5510" y="4760"/>
                </a:lnTo>
                <a:lnTo>
                  <a:pt x="5511" y="4760"/>
                </a:lnTo>
                <a:lnTo>
                  <a:pt x="5513" y="4759"/>
                </a:lnTo>
                <a:lnTo>
                  <a:pt x="5517" y="4756"/>
                </a:lnTo>
                <a:lnTo>
                  <a:pt x="5527" y="4750"/>
                </a:lnTo>
                <a:lnTo>
                  <a:pt x="5536" y="4747"/>
                </a:lnTo>
                <a:lnTo>
                  <a:pt x="5545" y="4746"/>
                </a:lnTo>
                <a:lnTo>
                  <a:pt x="5564" y="4744"/>
                </a:lnTo>
                <a:lnTo>
                  <a:pt x="5598" y="4746"/>
                </a:lnTo>
                <a:lnTo>
                  <a:pt x="5630" y="4744"/>
                </a:lnTo>
                <a:lnTo>
                  <a:pt x="5639" y="4743"/>
                </a:lnTo>
                <a:lnTo>
                  <a:pt x="5652" y="4739"/>
                </a:lnTo>
                <a:lnTo>
                  <a:pt x="5664" y="4731"/>
                </a:lnTo>
                <a:lnTo>
                  <a:pt x="5674" y="4721"/>
                </a:lnTo>
                <a:lnTo>
                  <a:pt x="5691" y="4699"/>
                </a:lnTo>
                <a:lnTo>
                  <a:pt x="5726" y="4656"/>
                </a:lnTo>
                <a:lnTo>
                  <a:pt x="5761" y="4641"/>
                </a:lnTo>
                <a:lnTo>
                  <a:pt x="5774" y="4641"/>
                </a:lnTo>
                <a:lnTo>
                  <a:pt x="5785" y="4639"/>
                </a:lnTo>
                <a:lnTo>
                  <a:pt x="5795" y="4633"/>
                </a:lnTo>
                <a:lnTo>
                  <a:pt x="5806" y="4627"/>
                </a:lnTo>
                <a:lnTo>
                  <a:pt x="5823" y="4611"/>
                </a:lnTo>
                <a:lnTo>
                  <a:pt x="5859" y="4578"/>
                </a:lnTo>
                <a:lnTo>
                  <a:pt x="5882" y="4565"/>
                </a:lnTo>
                <a:lnTo>
                  <a:pt x="5876" y="4559"/>
                </a:lnTo>
                <a:lnTo>
                  <a:pt x="5872" y="4552"/>
                </a:lnTo>
                <a:lnTo>
                  <a:pt x="5872" y="4547"/>
                </a:lnTo>
                <a:lnTo>
                  <a:pt x="5874" y="4543"/>
                </a:lnTo>
                <a:lnTo>
                  <a:pt x="5875" y="4540"/>
                </a:lnTo>
                <a:lnTo>
                  <a:pt x="5887" y="4524"/>
                </a:lnTo>
                <a:lnTo>
                  <a:pt x="5911" y="4497"/>
                </a:lnTo>
                <a:lnTo>
                  <a:pt x="5972" y="4455"/>
                </a:lnTo>
                <a:lnTo>
                  <a:pt x="6043" y="4434"/>
                </a:lnTo>
                <a:lnTo>
                  <a:pt x="6063" y="4431"/>
                </a:lnTo>
                <a:lnTo>
                  <a:pt x="6068" y="4431"/>
                </a:lnTo>
                <a:lnTo>
                  <a:pt x="6072" y="4430"/>
                </a:lnTo>
                <a:lnTo>
                  <a:pt x="6081" y="4426"/>
                </a:lnTo>
                <a:lnTo>
                  <a:pt x="6089" y="4420"/>
                </a:lnTo>
                <a:lnTo>
                  <a:pt x="6105" y="4407"/>
                </a:lnTo>
                <a:lnTo>
                  <a:pt x="6116" y="4401"/>
                </a:lnTo>
                <a:lnTo>
                  <a:pt x="6107" y="4397"/>
                </a:lnTo>
                <a:lnTo>
                  <a:pt x="6100" y="4395"/>
                </a:lnTo>
                <a:lnTo>
                  <a:pt x="6094" y="4395"/>
                </a:lnTo>
                <a:lnTo>
                  <a:pt x="6087" y="4397"/>
                </a:lnTo>
                <a:lnTo>
                  <a:pt x="6079" y="4399"/>
                </a:lnTo>
                <a:lnTo>
                  <a:pt x="6066" y="4405"/>
                </a:lnTo>
                <a:lnTo>
                  <a:pt x="6055" y="4410"/>
                </a:lnTo>
                <a:lnTo>
                  <a:pt x="6050" y="4411"/>
                </a:lnTo>
                <a:lnTo>
                  <a:pt x="6046" y="4410"/>
                </a:lnTo>
                <a:lnTo>
                  <a:pt x="6043" y="4405"/>
                </a:lnTo>
                <a:lnTo>
                  <a:pt x="6043" y="4405"/>
                </a:lnTo>
                <a:lnTo>
                  <a:pt x="6039" y="4399"/>
                </a:lnTo>
                <a:lnTo>
                  <a:pt x="6037" y="4394"/>
                </a:lnTo>
                <a:lnTo>
                  <a:pt x="6039" y="4389"/>
                </a:lnTo>
                <a:lnTo>
                  <a:pt x="6042" y="4384"/>
                </a:lnTo>
                <a:lnTo>
                  <a:pt x="6047" y="4378"/>
                </a:lnTo>
                <a:lnTo>
                  <a:pt x="6059" y="4368"/>
                </a:lnTo>
                <a:lnTo>
                  <a:pt x="6068" y="4355"/>
                </a:lnTo>
                <a:lnTo>
                  <a:pt x="6071" y="4342"/>
                </a:lnTo>
                <a:lnTo>
                  <a:pt x="6069" y="4333"/>
                </a:lnTo>
                <a:lnTo>
                  <a:pt x="6068" y="4331"/>
                </a:lnTo>
                <a:lnTo>
                  <a:pt x="6065" y="4326"/>
                </a:lnTo>
                <a:lnTo>
                  <a:pt x="6063" y="4317"/>
                </a:lnTo>
                <a:lnTo>
                  <a:pt x="6063" y="4313"/>
                </a:lnTo>
                <a:lnTo>
                  <a:pt x="6065" y="4310"/>
                </a:lnTo>
                <a:lnTo>
                  <a:pt x="6066" y="4307"/>
                </a:lnTo>
                <a:lnTo>
                  <a:pt x="6075" y="4295"/>
                </a:lnTo>
                <a:lnTo>
                  <a:pt x="6092" y="4271"/>
                </a:lnTo>
                <a:lnTo>
                  <a:pt x="6126" y="4227"/>
                </a:lnTo>
                <a:lnTo>
                  <a:pt x="6160" y="4184"/>
                </a:lnTo>
                <a:lnTo>
                  <a:pt x="6171" y="4172"/>
                </a:lnTo>
                <a:lnTo>
                  <a:pt x="6181" y="4157"/>
                </a:lnTo>
                <a:lnTo>
                  <a:pt x="6202" y="4127"/>
                </a:lnTo>
                <a:lnTo>
                  <a:pt x="6242" y="4066"/>
                </a:lnTo>
                <a:lnTo>
                  <a:pt x="6289" y="4010"/>
                </a:lnTo>
                <a:lnTo>
                  <a:pt x="6305" y="3997"/>
                </a:lnTo>
                <a:lnTo>
                  <a:pt x="6310" y="3992"/>
                </a:lnTo>
                <a:lnTo>
                  <a:pt x="6314" y="3986"/>
                </a:lnTo>
                <a:lnTo>
                  <a:pt x="6317" y="3981"/>
                </a:lnTo>
                <a:lnTo>
                  <a:pt x="6320" y="3968"/>
                </a:lnTo>
                <a:lnTo>
                  <a:pt x="6321" y="3955"/>
                </a:lnTo>
                <a:lnTo>
                  <a:pt x="6326" y="3942"/>
                </a:lnTo>
                <a:lnTo>
                  <a:pt x="6333" y="3930"/>
                </a:lnTo>
                <a:lnTo>
                  <a:pt x="6339" y="3924"/>
                </a:lnTo>
                <a:lnTo>
                  <a:pt x="6340" y="3923"/>
                </a:lnTo>
                <a:lnTo>
                  <a:pt x="6340" y="3920"/>
                </a:lnTo>
                <a:lnTo>
                  <a:pt x="6342" y="3915"/>
                </a:lnTo>
                <a:lnTo>
                  <a:pt x="6340" y="3911"/>
                </a:lnTo>
                <a:lnTo>
                  <a:pt x="6337" y="3907"/>
                </a:lnTo>
                <a:lnTo>
                  <a:pt x="6334" y="3902"/>
                </a:lnTo>
                <a:lnTo>
                  <a:pt x="6331" y="3900"/>
                </a:lnTo>
                <a:lnTo>
                  <a:pt x="6337" y="3888"/>
                </a:lnTo>
                <a:lnTo>
                  <a:pt x="6350" y="3865"/>
                </a:lnTo>
                <a:lnTo>
                  <a:pt x="6376" y="3817"/>
                </a:lnTo>
                <a:lnTo>
                  <a:pt x="6410" y="3775"/>
                </a:lnTo>
                <a:lnTo>
                  <a:pt x="6421" y="3765"/>
                </a:lnTo>
                <a:lnTo>
                  <a:pt x="6424" y="3763"/>
                </a:lnTo>
                <a:lnTo>
                  <a:pt x="6427" y="3763"/>
                </a:lnTo>
                <a:lnTo>
                  <a:pt x="6433" y="3762"/>
                </a:lnTo>
                <a:lnTo>
                  <a:pt x="6444" y="3758"/>
                </a:lnTo>
                <a:lnTo>
                  <a:pt x="6449" y="3752"/>
                </a:lnTo>
                <a:lnTo>
                  <a:pt x="6450" y="3745"/>
                </a:lnTo>
                <a:lnTo>
                  <a:pt x="6450" y="3727"/>
                </a:lnTo>
                <a:lnTo>
                  <a:pt x="6449" y="3711"/>
                </a:lnTo>
                <a:lnTo>
                  <a:pt x="6446" y="3676"/>
                </a:lnTo>
                <a:lnTo>
                  <a:pt x="6453" y="3649"/>
                </a:lnTo>
                <a:lnTo>
                  <a:pt x="6443" y="3646"/>
                </a:lnTo>
                <a:lnTo>
                  <a:pt x="6426" y="3639"/>
                </a:lnTo>
                <a:lnTo>
                  <a:pt x="6392" y="3627"/>
                </a:lnTo>
                <a:lnTo>
                  <a:pt x="6358" y="3617"/>
                </a:lnTo>
                <a:lnTo>
                  <a:pt x="6349" y="3614"/>
                </a:lnTo>
                <a:lnTo>
                  <a:pt x="6350" y="3610"/>
                </a:lnTo>
                <a:lnTo>
                  <a:pt x="6350" y="3605"/>
                </a:lnTo>
                <a:lnTo>
                  <a:pt x="6349" y="3601"/>
                </a:lnTo>
                <a:lnTo>
                  <a:pt x="6347" y="3598"/>
                </a:lnTo>
                <a:lnTo>
                  <a:pt x="6346" y="3594"/>
                </a:lnTo>
                <a:lnTo>
                  <a:pt x="6340" y="3589"/>
                </a:lnTo>
                <a:lnTo>
                  <a:pt x="6336" y="3584"/>
                </a:lnTo>
                <a:lnTo>
                  <a:pt x="6334" y="3576"/>
                </a:lnTo>
                <a:lnTo>
                  <a:pt x="6336" y="3572"/>
                </a:lnTo>
                <a:lnTo>
                  <a:pt x="6336" y="3565"/>
                </a:lnTo>
                <a:lnTo>
                  <a:pt x="6339" y="3547"/>
                </a:lnTo>
                <a:lnTo>
                  <a:pt x="6347" y="3517"/>
                </a:lnTo>
                <a:lnTo>
                  <a:pt x="6355" y="3503"/>
                </a:lnTo>
                <a:lnTo>
                  <a:pt x="6368" y="3491"/>
                </a:lnTo>
                <a:lnTo>
                  <a:pt x="6376" y="3485"/>
                </a:lnTo>
                <a:lnTo>
                  <a:pt x="6371" y="3485"/>
                </a:lnTo>
                <a:lnTo>
                  <a:pt x="6359" y="3484"/>
                </a:lnTo>
                <a:lnTo>
                  <a:pt x="6339" y="3484"/>
                </a:lnTo>
                <a:lnTo>
                  <a:pt x="6318" y="3482"/>
                </a:lnTo>
                <a:lnTo>
                  <a:pt x="6314" y="3481"/>
                </a:lnTo>
                <a:lnTo>
                  <a:pt x="6305" y="3481"/>
                </a:lnTo>
                <a:lnTo>
                  <a:pt x="6288" y="3482"/>
                </a:lnTo>
                <a:lnTo>
                  <a:pt x="6271" y="3487"/>
                </a:lnTo>
                <a:lnTo>
                  <a:pt x="6236" y="3494"/>
                </a:lnTo>
                <a:lnTo>
                  <a:pt x="6211" y="3491"/>
                </a:lnTo>
                <a:lnTo>
                  <a:pt x="6201" y="3488"/>
                </a:lnTo>
                <a:lnTo>
                  <a:pt x="6184" y="3478"/>
                </a:lnTo>
                <a:lnTo>
                  <a:pt x="6149" y="3456"/>
                </a:lnTo>
                <a:lnTo>
                  <a:pt x="6108" y="3443"/>
                </a:lnTo>
                <a:lnTo>
                  <a:pt x="6098" y="3442"/>
                </a:lnTo>
                <a:lnTo>
                  <a:pt x="6110" y="3442"/>
                </a:lnTo>
                <a:lnTo>
                  <a:pt x="6133" y="3443"/>
                </a:lnTo>
                <a:lnTo>
                  <a:pt x="6179" y="3450"/>
                </a:lnTo>
                <a:lnTo>
                  <a:pt x="6223" y="3455"/>
                </a:lnTo>
                <a:lnTo>
                  <a:pt x="6234" y="3452"/>
                </a:lnTo>
                <a:lnTo>
                  <a:pt x="6239" y="3450"/>
                </a:lnTo>
                <a:lnTo>
                  <a:pt x="6245" y="3447"/>
                </a:lnTo>
                <a:lnTo>
                  <a:pt x="6249" y="3443"/>
                </a:lnTo>
                <a:lnTo>
                  <a:pt x="6259" y="3432"/>
                </a:lnTo>
                <a:lnTo>
                  <a:pt x="6278" y="3405"/>
                </a:lnTo>
                <a:lnTo>
                  <a:pt x="6298" y="3394"/>
                </a:lnTo>
                <a:lnTo>
                  <a:pt x="6302" y="3394"/>
                </a:lnTo>
                <a:lnTo>
                  <a:pt x="6311" y="3391"/>
                </a:lnTo>
                <a:lnTo>
                  <a:pt x="6327" y="3384"/>
                </a:lnTo>
                <a:lnTo>
                  <a:pt x="6343" y="3375"/>
                </a:lnTo>
                <a:lnTo>
                  <a:pt x="6349" y="3372"/>
                </a:lnTo>
                <a:lnTo>
                  <a:pt x="6342" y="3371"/>
                </a:lnTo>
                <a:lnTo>
                  <a:pt x="6329" y="3365"/>
                </a:lnTo>
                <a:lnTo>
                  <a:pt x="6301" y="3352"/>
                </a:lnTo>
                <a:lnTo>
                  <a:pt x="6279" y="3339"/>
                </a:lnTo>
                <a:lnTo>
                  <a:pt x="6276" y="3334"/>
                </a:lnTo>
                <a:lnTo>
                  <a:pt x="6268" y="3324"/>
                </a:lnTo>
                <a:lnTo>
                  <a:pt x="6252" y="3301"/>
                </a:lnTo>
                <a:lnTo>
                  <a:pt x="6227" y="3252"/>
                </a:lnTo>
                <a:lnTo>
                  <a:pt x="6208" y="3198"/>
                </a:lnTo>
                <a:lnTo>
                  <a:pt x="6204" y="3184"/>
                </a:lnTo>
                <a:lnTo>
                  <a:pt x="6200" y="3177"/>
                </a:lnTo>
                <a:lnTo>
                  <a:pt x="6194" y="3171"/>
                </a:lnTo>
                <a:lnTo>
                  <a:pt x="6187" y="3166"/>
                </a:lnTo>
                <a:lnTo>
                  <a:pt x="6178" y="3163"/>
                </a:lnTo>
                <a:lnTo>
                  <a:pt x="6159" y="3159"/>
                </a:lnTo>
                <a:lnTo>
                  <a:pt x="6139" y="3155"/>
                </a:lnTo>
                <a:lnTo>
                  <a:pt x="6121" y="3146"/>
                </a:lnTo>
                <a:lnTo>
                  <a:pt x="6108" y="3130"/>
                </a:lnTo>
                <a:lnTo>
                  <a:pt x="6108" y="3130"/>
                </a:lnTo>
                <a:lnTo>
                  <a:pt x="6105" y="3126"/>
                </a:lnTo>
                <a:lnTo>
                  <a:pt x="6103" y="3114"/>
                </a:lnTo>
                <a:lnTo>
                  <a:pt x="6097" y="3090"/>
                </a:lnTo>
                <a:lnTo>
                  <a:pt x="6089" y="3068"/>
                </a:lnTo>
                <a:lnTo>
                  <a:pt x="6087" y="3062"/>
                </a:lnTo>
                <a:lnTo>
                  <a:pt x="6084" y="3061"/>
                </a:lnTo>
                <a:lnTo>
                  <a:pt x="6081" y="3058"/>
                </a:lnTo>
                <a:lnTo>
                  <a:pt x="6076" y="3056"/>
                </a:lnTo>
                <a:lnTo>
                  <a:pt x="6069" y="3053"/>
                </a:lnTo>
                <a:lnTo>
                  <a:pt x="6050" y="3049"/>
                </a:lnTo>
                <a:lnTo>
                  <a:pt x="6037" y="3043"/>
                </a:lnTo>
                <a:lnTo>
                  <a:pt x="6043" y="3042"/>
                </a:lnTo>
                <a:lnTo>
                  <a:pt x="6047" y="3039"/>
                </a:lnTo>
                <a:lnTo>
                  <a:pt x="6050" y="3035"/>
                </a:lnTo>
                <a:lnTo>
                  <a:pt x="6052" y="3030"/>
                </a:lnTo>
                <a:lnTo>
                  <a:pt x="6053" y="3026"/>
                </a:lnTo>
                <a:lnTo>
                  <a:pt x="6055" y="3016"/>
                </a:lnTo>
                <a:lnTo>
                  <a:pt x="6056" y="3006"/>
                </a:lnTo>
                <a:lnTo>
                  <a:pt x="6061" y="2997"/>
                </a:lnTo>
                <a:lnTo>
                  <a:pt x="6065" y="2992"/>
                </a:lnTo>
                <a:lnTo>
                  <a:pt x="6071" y="2990"/>
                </a:lnTo>
                <a:lnTo>
                  <a:pt x="6082" y="2982"/>
                </a:lnTo>
                <a:lnTo>
                  <a:pt x="6105" y="2969"/>
                </a:lnTo>
                <a:lnTo>
                  <a:pt x="6126" y="2952"/>
                </a:lnTo>
                <a:lnTo>
                  <a:pt x="6130" y="2946"/>
                </a:lnTo>
                <a:lnTo>
                  <a:pt x="6134" y="2939"/>
                </a:lnTo>
                <a:lnTo>
                  <a:pt x="6143" y="2921"/>
                </a:lnTo>
                <a:lnTo>
                  <a:pt x="6156" y="2885"/>
                </a:lnTo>
                <a:lnTo>
                  <a:pt x="6153" y="2848"/>
                </a:lnTo>
                <a:lnTo>
                  <a:pt x="6150" y="2837"/>
                </a:lnTo>
                <a:lnTo>
                  <a:pt x="6158" y="2845"/>
                </a:lnTo>
                <a:lnTo>
                  <a:pt x="6168" y="2850"/>
                </a:lnTo>
                <a:lnTo>
                  <a:pt x="6176" y="2853"/>
                </a:lnTo>
                <a:lnTo>
                  <a:pt x="6185" y="2855"/>
                </a:lnTo>
                <a:lnTo>
                  <a:pt x="6204" y="2853"/>
                </a:lnTo>
                <a:lnTo>
                  <a:pt x="6221" y="2846"/>
                </a:lnTo>
                <a:lnTo>
                  <a:pt x="6237" y="2837"/>
                </a:lnTo>
                <a:lnTo>
                  <a:pt x="6247" y="2824"/>
                </a:lnTo>
                <a:lnTo>
                  <a:pt x="6249" y="2824"/>
                </a:lnTo>
                <a:lnTo>
                  <a:pt x="6266" y="2803"/>
                </a:lnTo>
                <a:lnTo>
                  <a:pt x="6308" y="2768"/>
                </a:lnTo>
                <a:lnTo>
                  <a:pt x="6355" y="2745"/>
                </a:lnTo>
                <a:lnTo>
                  <a:pt x="6405" y="2729"/>
                </a:lnTo>
                <a:lnTo>
                  <a:pt x="6513" y="2717"/>
                </a:lnTo>
                <a:lnTo>
                  <a:pt x="6540" y="2716"/>
                </a:lnTo>
                <a:lnTo>
                  <a:pt x="6543" y="2713"/>
                </a:lnTo>
                <a:lnTo>
                  <a:pt x="6543" y="2708"/>
                </a:lnTo>
                <a:lnTo>
                  <a:pt x="6543" y="2704"/>
                </a:lnTo>
                <a:lnTo>
                  <a:pt x="6544" y="2691"/>
                </a:lnTo>
                <a:lnTo>
                  <a:pt x="6552" y="2659"/>
                </a:lnTo>
                <a:lnTo>
                  <a:pt x="6562" y="2643"/>
                </a:lnTo>
                <a:lnTo>
                  <a:pt x="6563" y="2642"/>
                </a:lnTo>
                <a:lnTo>
                  <a:pt x="6565" y="2637"/>
                </a:lnTo>
                <a:lnTo>
                  <a:pt x="6568" y="2629"/>
                </a:lnTo>
                <a:lnTo>
                  <a:pt x="6569" y="2620"/>
                </a:lnTo>
                <a:lnTo>
                  <a:pt x="6569" y="2611"/>
                </a:lnTo>
                <a:lnTo>
                  <a:pt x="6566" y="2603"/>
                </a:lnTo>
                <a:lnTo>
                  <a:pt x="6563" y="2598"/>
                </a:lnTo>
                <a:lnTo>
                  <a:pt x="6563" y="2598"/>
                </a:lnTo>
                <a:lnTo>
                  <a:pt x="6549" y="2593"/>
                </a:lnTo>
                <a:lnTo>
                  <a:pt x="6517" y="2580"/>
                </a:lnTo>
                <a:lnTo>
                  <a:pt x="6450" y="2565"/>
                </a:lnTo>
                <a:lnTo>
                  <a:pt x="6418" y="2571"/>
                </a:lnTo>
                <a:lnTo>
                  <a:pt x="6394" y="2590"/>
                </a:lnTo>
                <a:lnTo>
                  <a:pt x="6384" y="2603"/>
                </a:lnTo>
                <a:lnTo>
                  <a:pt x="6368" y="2588"/>
                </a:lnTo>
                <a:lnTo>
                  <a:pt x="6331" y="2566"/>
                </a:lnTo>
                <a:lnTo>
                  <a:pt x="6292" y="2552"/>
                </a:lnTo>
                <a:lnTo>
                  <a:pt x="6250" y="2545"/>
                </a:lnTo>
                <a:lnTo>
                  <a:pt x="6162" y="2542"/>
                </a:lnTo>
                <a:lnTo>
                  <a:pt x="6142" y="2542"/>
                </a:lnTo>
                <a:lnTo>
                  <a:pt x="6142" y="2548"/>
                </a:lnTo>
                <a:lnTo>
                  <a:pt x="6142" y="2558"/>
                </a:lnTo>
                <a:lnTo>
                  <a:pt x="6142" y="2578"/>
                </a:lnTo>
                <a:lnTo>
                  <a:pt x="6139" y="2597"/>
                </a:lnTo>
                <a:lnTo>
                  <a:pt x="6139" y="2601"/>
                </a:lnTo>
                <a:lnTo>
                  <a:pt x="6134" y="2616"/>
                </a:lnTo>
                <a:lnTo>
                  <a:pt x="6121" y="2639"/>
                </a:lnTo>
                <a:lnTo>
                  <a:pt x="6103" y="2658"/>
                </a:lnTo>
                <a:lnTo>
                  <a:pt x="6081" y="2671"/>
                </a:lnTo>
                <a:lnTo>
                  <a:pt x="6056" y="2681"/>
                </a:lnTo>
                <a:lnTo>
                  <a:pt x="6032" y="2688"/>
                </a:lnTo>
                <a:lnTo>
                  <a:pt x="6020" y="2690"/>
                </a:lnTo>
                <a:lnTo>
                  <a:pt x="6018" y="2677"/>
                </a:lnTo>
                <a:lnTo>
                  <a:pt x="6021" y="2649"/>
                </a:lnTo>
                <a:lnTo>
                  <a:pt x="6029" y="2622"/>
                </a:lnTo>
                <a:lnTo>
                  <a:pt x="6037" y="2571"/>
                </a:lnTo>
                <a:lnTo>
                  <a:pt x="6023" y="2540"/>
                </a:lnTo>
                <a:lnTo>
                  <a:pt x="6011" y="2533"/>
                </a:lnTo>
                <a:lnTo>
                  <a:pt x="6000" y="2527"/>
                </a:lnTo>
                <a:lnTo>
                  <a:pt x="5988" y="2524"/>
                </a:lnTo>
                <a:lnTo>
                  <a:pt x="5959" y="2523"/>
                </a:lnTo>
                <a:lnTo>
                  <a:pt x="5930" y="2524"/>
                </a:lnTo>
                <a:lnTo>
                  <a:pt x="5871" y="2520"/>
                </a:lnTo>
                <a:lnTo>
                  <a:pt x="5858" y="2514"/>
                </a:lnTo>
                <a:lnTo>
                  <a:pt x="5849" y="2510"/>
                </a:lnTo>
                <a:lnTo>
                  <a:pt x="5834" y="2497"/>
                </a:lnTo>
                <a:lnTo>
                  <a:pt x="5824" y="2482"/>
                </a:lnTo>
                <a:lnTo>
                  <a:pt x="5820" y="2465"/>
                </a:lnTo>
                <a:lnTo>
                  <a:pt x="5820" y="2448"/>
                </a:lnTo>
                <a:lnTo>
                  <a:pt x="5827" y="2432"/>
                </a:lnTo>
                <a:lnTo>
                  <a:pt x="5833" y="2423"/>
                </a:lnTo>
                <a:lnTo>
                  <a:pt x="5836" y="2419"/>
                </a:lnTo>
                <a:lnTo>
                  <a:pt x="5846" y="2409"/>
                </a:lnTo>
                <a:lnTo>
                  <a:pt x="5865" y="2394"/>
                </a:lnTo>
                <a:lnTo>
                  <a:pt x="5891" y="2387"/>
                </a:lnTo>
                <a:lnTo>
                  <a:pt x="5900" y="2385"/>
                </a:lnTo>
                <a:lnTo>
                  <a:pt x="5898" y="2390"/>
                </a:lnTo>
                <a:lnTo>
                  <a:pt x="5901" y="2393"/>
                </a:lnTo>
                <a:lnTo>
                  <a:pt x="5903" y="2394"/>
                </a:lnTo>
                <a:lnTo>
                  <a:pt x="5905" y="2394"/>
                </a:lnTo>
                <a:lnTo>
                  <a:pt x="5911" y="2395"/>
                </a:lnTo>
                <a:lnTo>
                  <a:pt x="5917" y="2401"/>
                </a:lnTo>
                <a:lnTo>
                  <a:pt x="5917" y="2404"/>
                </a:lnTo>
                <a:lnTo>
                  <a:pt x="5924" y="2404"/>
                </a:lnTo>
                <a:lnTo>
                  <a:pt x="5942" y="2403"/>
                </a:lnTo>
                <a:lnTo>
                  <a:pt x="5975" y="2394"/>
                </a:lnTo>
                <a:lnTo>
                  <a:pt x="6010" y="2387"/>
                </a:lnTo>
                <a:lnTo>
                  <a:pt x="6020" y="2385"/>
                </a:lnTo>
                <a:lnTo>
                  <a:pt x="6020" y="2381"/>
                </a:lnTo>
                <a:lnTo>
                  <a:pt x="6021" y="2377"/>
                </a:lnTo>
                <a:lnTo>
                  <a:pt x="6024" y="2374"/>
                </a:lnTo>
                <a:lnTo>
                  <a:pt x="6027" y="2372"/>
                </a:lnTo>
                <a:lnTo>
                  <a:pt x="6032" y="2371"/>
                </a:lnTo>
                <a:lnTo>
                  <a:pt x="6039" y="2369"/>
                </a:lnTo>
                <a:lnTo>
                  <a:pt x="6046" y="2368"/>
                </a:lnTo>
                <a:lnTo>
                  <a:pt x="6052" y="2365"/>
                </a:lnTo>
                <a:lnTo>
                  <a:pt x="6053" y="2361"/>
                </a:lnTo>
                <a:lnTo>
                  <a:pt x="6053" y="2355"/>
                </a:lnTo>
                <a:lnTo>
                  <a:pt x="6053" y="2342"/>
                </a:lnTo>
                <a:lnTo>
                  <a:pt x="6056" y="2314"/>
                </a:lnTo>
                <a:lnTo>
                  <a:pt x="6062" y="2291"/>
                </a:lnTo>
                <a:lnTo>
                  <a:pt x="6066" y="2285"/>
                </a:lnTo>
                <a:lnTo>
                  <a:pt x="6072" y="2278"/>
                </a:lnTo>
                <a:lnTo>
                  <a:pt x="6088" y="2265"/>
                </a:lnTo>
                <a:lnTo>
                  <a:pt x="6107" y="2258"/>
                </a:lnTo>
                <a:lnTo>
                  <a:pt x="6126" y="2251"/>
                </a:lnTo>
                <a:lnTo>
                  <a:pt x="6165" y="2236"/>
                </a:lnTo>
                <a:lnTo>
                  <a:pt x="6175" y="2230"/>
                </a:lnTo>
                <a:lnTo>
                  <a:pt x="6182" y="2225"/>
                </a:lnTo>
                <a:lnTo>
                  <a:pt x="6198" y="2211"/>
                </a:lnTo>
                <a:lnTo>
                  <a:pt x="6230" y="2188"/>
                </a:lnTo>
                <a:lnTo>
                  <a:pt x="6263" y="2171"/>
                </a:lnTo>
                <a:lnTo>
                  <a:pt x="6272" y="2167"/>
                </a:lnTo>
                <a:lnTo>
                  <a:pt x="6278" y="2165"/>
                </a:lnTo>
                <a:lnTo>
                  <a:pt x="6291" y="2164"/>
                </a:lnTo>
                <a:lnTo>
                  <a:pt x="6321" y="2161"/>
                </a:lnTo>
                <a:lnTo>
                  <a:pt x="6349" y="2165"/>
                </a:lnTo>
                <a:lnTo>
                  <a:pt x="6355" y="2167"/>
                </a:lnTo>
                <a:lnTo>
                  <a:pt x="6358" y="2169"/>
                </a:lnTo>
                <a:lnTo>
                  <a:pt x="6360" y="2172"/>
                </a:lnTo>
                <a:lnTo>
                  <a:pt x="6360" y="2177"/>
                </a:lnTo>
                <a:lnTo>
                  <a:pt x="6362" y="2182"/>
                </a:lnTo>
                <a:lnTo>
                  <a:pt x="6360" y="2187"/>
                </a:lnTo>
                <a:lnTo>
                  <a:pt x="6359" y="2200"/>
                </a:lnTo>
                <a:lnTo>
                  <a:pt x="6353" y="2225"/>
                </a:lnTo>
                <a:lnTo>
                  <a:pt x="6353" y="2230"/>
                </a:lnTo>
                <a:lnTo>
                  <a:pt x="6352" y="2236"/>
                </a:lnTo>
                <a:lnTo>
                  <a:pt x="6350" y="2246"/>
                </a:lnTo>
                <a:lnTo>
                  <a:pt x="6346" y="2255"/>
                </a:lnTo>
                <a:lnTo>
                  <a:pt x="6340" y="2264"/>
                </a:lnTo>
                <a:lnTo>
                  <a:pt x="6324" y="2277"/>
                </a:lnTo>
                <a:lnTo>
                  <a:pt x="6321" y="2278"/>
                </a:lnTo>
                <a:lnTo>
                  <a:pt x="6315" y="2281"/>
                </a:lnTo>
                <a:lnTo>
                  <a:pt x="6304" y="2287"/>
                </a:lnTo>
                <a:lnTo>
                  <a:pt x="6285" y="2298"/>
                </a:lnTo>
                <a:lnTo>
                  <a:pt x="6278" y="2304"/>
                </a:lnTo>
                <a:lnTo>
                  <a:pt x="6275" y="2313"/>
                </a:lnTo>
                <a:lnTo>
                  <a:pt x="6276" y="2316"/>
                </a:lnTo>
                <a:lnTo>
                  <a:pt x="6278" y="2327"/>
                </a:lnTo>
                <a:lnTo>
                  <a:pt x="6282" y="2336"/>
                </a:lnTo>
                <a:lnTo>
                  <a:pt x="6288" y="2342"/>
                </a:lnTo>
                <a:lnTo>
                  <a:pt x="6295" y="2346"/>
                </a:lnTo>
                <a:lnTo>
                  <a:pt x="6304" y="2348"/>
                </a:lnTo>
                <a:lnTo>
                  <a:pt x="6314" y="2349"/>
                </a:lnTo>
                <a:lnTo>
                  <a:pt x="6337" y="2349"/>
                </a:lnTo>
                <a:lnTo>
                  <a:pt x="6382" y="2352"/>
                </a:lnTo>
                <a:lnTo>
                  <a:pt x="6384" y="2352"/>
                </a:lnTo>
                <a:lnTo>
                  <a:pt x="6378" y="2364"/>
                </a:lnTo>
                <a:lnTo>
                  <a:pt x="6365" y="2385"/>
                </a:lnTo>
                <a:lnTo>
                  <a:pt x="6333" y="2422"/>
                </a:lnTo>
                <a:lnTo>
                  <a:pt x="6292" y="2451"/>
                </a:lnTo>
                <a:lnTo>
                  <a:pt x="6281" y="2456"/>
                </a:lnTo>
                <a:lnTo>
                  <a:pt x="6284" y="2461"/>
                </a:lnTo>
                <a:lnTo>
                  <a:pt x="6294" y="2468"/>
                </a:lnTo>
                <a:lnTo>
                  <a:pt x="6315" y="2477"/>
                </a:lnTo>
                <a:lnTo>
                  <a:pt x="6321" y="2477"/>
                </a:lnTo>
                <a:lnTo>
                  <a:pt x="6326" y="2475"/>
                </a:lnTo>
                <a:lnTo>
                  <a:pt x="6329" y="2474"/>
                </a:lnTo>
                <a:lnTo>
                  <a:pt x="6331" y="2469"/>
                </a:lnTo>
                <a:lnTo>
                  <a:pt x="6333" y="2464"/>
                </a:lnTo>
                <a:lnTo>
                  <a:pt x="6334" y="2464"/>
                </a:lnTo>
                <a:lnTo>
                  <a:pt x="6339" y="2445"/>
                </a:lnTo>
                <a:lnTo>
                  <a:pt x="6346" y="2429"/>
                </a:lnTo>
                <a:lnTo>
                  <a:pt x="6356" y="2413"/>
                </a:lnTo>
                <a:lnTo>
                  <a:pt x="6382" y="2390"/>
                </a:lnTo>
                <a:lnTo>
                  <a:pt x="6414" y="2372"/>
                </a:lnTo>
                <a:lnTo>
                  <a:pt x="6446" y="2358"/>
                </a:lnTo>
                <a:lnTo>
                  <a:pt x="6478" y="2345"/>
                </a:lnTo>
                <a:lnTo>
                  <a:pt x="6494" y="2338"/>
                </a:lnTo>
                <a:lnTo>
                  <a:pt x="6508" y="2330"/>
                </a:lnTo>
                <a:lnTo>
                  <a:pt x="6542" y="2317"/>
                </a:lnTo>
                <a:lnTo>
                  <a:pt x="6608" y="2291"/>
                </a:lnTo>
                <a:lnTo>
                  <a:pt x="6679" y="2271"/>
                </a:lnTo>
                <a:lnTo>
                  <a:pt x="6698" y="2267"/>
                </a:lnTo>
                <a:lnTo>
                  <a:pt x="6698" y="2265"/>
                </a:lnTo>
                <a:lnTo>
                  <a:pt x="6697" y="2261"/>
                </a:lnTo>
                <a:lnTo>
                  <a:pt x="6697" y="2256"/>
                </a:lnTo>
                <a:lnTo>
                  <a:pt x="6698" y="2255"/>
                </a:lnTo>
                <a:lnTo>
                  <a:pt x="6695" y="2252"/>
                </a:lnTo>
                <a:lnTo>
                  <a:pt x="6692" y="2245"/>
                </a:lnTo>
                <a:lnTo>
                  <a:pt x="6691" y="2227"/>
                </a:lnTo>
                <a:lnTo>
                  <a:pt x="6692" y="2220"/>
                </a:lnTo>
                <a:lnTo>
                  <a:pt x="6697" y="2213"/>
                </a:lnTo>
                <a:lnTo>
                  <a:pt x="6699" y="2209"/>
                </a:lnTo>
                <a:lnTo>
                  <a:pt x="6718" y="2190"/>
                </a:lnTo>
                <a:lnTo>
                  <a:pt x="6763" y="2158"/>
                </a:lnTo>
                <a:lnTo>
                  <a:pt x="6812" y="2133"/>
                </a:lnTo>
                <a:lnTo>
                  <a:pt x="6914" y="2087"/>
                </a:lnTo>
                <a:lnTo>
                  <a:pt x="6979" y="2030"/>
                </a:lnTo>
                <a:lnTo>
                  <a:pt x="6981" y="2027"/>
                </a:lnTo>
                <a:lnTo>
                  <a:pt x="6983" y="2023"/>
                </a:lnTo>
                <a:lnTo>
                  <a:pt x="6986" y="2013"/>
                </a:lnTo>
                <a:lnTo>
                  <a:pt x="6992" y="1994"/>
                </a:lnTo>
                <a:lnTo>
                  <a:pt x="7007" y="1983"/>
                </a:lnTo>
                <a:lnTo>
                  <a:pt x="7011" y="1983"/>
                </a:lnTo>
                <a:lnTo>
                  <a:pt x="7021" y="1980"/>
                </a:lnTo>
                <a:lnTo>
                  <a:pt x="7040" y="1974"/>
                </a:lnTo>
                <a:lnTo>
                  <a:pt x="7047" y="1972"/>
                </a:lnTo>
                <a:lnTo>
                  <a:pt x="7052" y="1972"/>
                </a:lnTo>
                <a:lnTo>
                  <a:pt x="7053" y="1972"/>
                </a:lnTo>
                <a:lnTo>
                  <a:pt x="7056" y="1985"/>
                </a:lnTo>
                <a:lnTo>
                  <a:pt x="7069" y="2007"/>
                </a:lnTo>
                <a:lnTo>
                  <a:pt x="7085" y="2022"/>
                </a:lnTo>
                <a:lnTo>
                  <a:pt x="7105" y="2032"/>
                </a:lnTo>
                <a:lnTo>
                  <a:pt x="7128" y="2038"/>
                </a:lnTo>
                <a:lnTo>
                  <a:pt x="7150" y="2038"/>
                </a:lnTo>
                <a:lnTo>
                  <a:pt x="7162" y="2036"/>
                </a:lnTo>
                <a:lnTo>
                  <a:pt x="7173" y="2035"/>
                </a:lnTo>
                <a:lnTo>
                  <a:pt x="7182" y="2030"/>
                </a:lnTo>
                <a:lnTo>
                  <a:pt x="7188" y="2025"/>
                </a:lnTo>
                <a:lnTo>
                  <a:pt x="7191" y="2019"/>
                </a:lnTo>
                <a:lnTo>
                  <a:pt x="7191" y="2010"/>
                </a:lnTo>
                <a:lnTo>
                  <a:pt x="7191" y="2003"/>
                </a:lnTo>
                <a:lnTo>
                  <a:pt x="7186" y="1985"/>
                </a:lnTo>
                <a:lnTo>
                  <a:pt x="7183" y="1967"/>
                </a:lnTo>
                <a:lnTo>
                  <a:pt x="7186" y="1949"/>
                </a:lnTo>
                <a:lnTo>
                  <a:pt x="7188" y="1949"/>
                </a:lnTo>
                <a:lnTo>
                  <a:pt x="7191" y="1945"/>
                </a:lnTo>
                <a:lnTo>
                  <a:pt x="7196" y="1941"/>
                </a:lnTo>
                <a:lnTo>
                  <a:pt x="7204" y="1938"/>
                </a:lnTo>
                <a:lnTo>
                  <a:pt x="7212" y="1938"/>
                </a:lnTo>
                <a:lnTo>
                  <a:pt x="7231" y="1938"/>
                </a:lnTo>
                <a:lnTo>
                  <a:pt x="7272" y="1939"/>
                </a:lnTo>
                <a:lnTo>
                  <a:pt x="7288" y="1932"/>
                </a:lnTo>
                <a:lnTo>
                  <a:pt x="7292" y="1929"/>
                </a:lnTo>
                <a:lnTo>
                  <a:pt x="7304" y="1920"/>
                </a:lnTo>
                <a:lnTo>
                  <a:pt x="7327" y="1903"/>
                </a:lnTo>
                <a:lnTo>
                  <a:pt x="7349" y="1884"/>
                </a:lnTo>
                <a:lnTo>
                  <a:pt x="7354" y="1878"/>
                </a:lnTo>
                <a:lnTo>
                  <a:pt x="7360" y="1877"/>
                </a:lnTo>
                <a:lnTo>
                  <a:pt x="7364" y="1877"/>
                </a:lnTo>
                <a:lnTo>
                  <a:pt x="7373" y="1877"/>
                </a:lnTo>
                <a:lnTo>
                  <a:pt x="7391" y="1878"/>
                </a:lnTo>
                <a:lnTo>
                  <a:pt x="7401" y="1874"/>
                </a:lnTo>
                <a:lnTo>
                  <a:pt x="7404" y="1871"/>
                </a:lnTo>
                <a:lnTo>
                  <a:pt x="7405" y="1867"/>
                </a:lnTo>
                <a:lnTo>
                  <a:pt x="7408" y="1861"/>
                </a:lnTo>
                <a:lnTo>
                  <a:pt x="7409" y="1849"/>
                </a:lnTo>
                <a:lnTo>
                  <a:pt x="7412" y="1826"/>
                </a:lnTo>
                <a:lnTo>
                  <a:pt x="7418" y="1810"/>
                </a:lnTo>
                <a:lnTo>
                  <a:pt x="7425" y="1801"/>
                </a:lnTo>
                <a:lnTo>
                  <a:pt x="7434" y="1796"/>
                </a:lnTo>
                <a:lnTo>
                  <a:pt x="7441" y="1794"/>
                </a:lnTo>
                <a:lnTo>
                  <a:pt x="7450" y="1797"/>
                </a:lnTo>
                <a:lnTo>
                  <a:pt x="7459" y="1801"/>
                </a:lnTo>
                <a:lnTo>
                  <a:pt x="7466" y="1807"/>
                </a:lnTo>
                <a:lnTo>
                  <a:pt x="7482" y="1823"/>
                </a:lnTo>
                <a:lnTo>
                  <a:pt x="7499" y="1839"/>
                </a:lnTo>
                <a:lnTo>
                  <a:pt x="7515" y="1849"/>
                </a:lnTo>
                <a:lnTo>
                  <a:pt x="7517" y="1849"/>
                </a:lnTo>
                <a:lnTo>
                  <a:pt x="7518" y="1848"/>
                </a:lnTo>
                <a:lnTo>
                  <a:pt x="7527" y="1843"/>
                </a:lnTo>
                <a:lnTo>
                  <a:pt x="7533" y="1841"/>
                </a:lnTo>
                <a:lnTo>
                  <a:pt x="7534" y="1839"/>
                </a:lnTo>
                <a:lnTo>
                  <a:pt x="7540" y="1836"/>
                </a:lnTo>
                <a:lnTo>
                  <a:pt x="7551" y="1826"/>
                </a:lnTo>
                <a:lnTo>
                  <a:pt x="7572" y="1806"/>
                </a:lnTo>
                <a:lnTo>
                  <a:pt x="7585" y="1784"/>
                </a:lnTo>
                <a:lnTo>
                  <a:pt x="7588" y="1780"/>
                </a:lnTo>
                <a:lnTo>
                  <a:pt x="7589" y="1774"/>
                </a:lnTo>
                <a:lnTo>
                  <a:pt x="7596" y="1761"/>
                </a:lnTo>
                <a:lnTo>
                  <a:pt x="7609" y="1738"/>
                </a:lnTo>
                <a:lnTo>
                  <a:pt x="7619" y="1712"/>
                </a:lnTo>
                <a:lnTo>
                  <a:pt x="7621" y="1703"/>
                </a:lnTo>
                <a:lnTo>
                  <a:pt x="7617" y="1704"/>
                </a:lnTo>
                <a:lnTo>
                  <a:pt x="7614" y="1704"/>
                </a:lnTo>
                <a:lnTo>
                  <a:pt x="7612" y="1703"/>
                </a:lnTo>
                <a:lnTo>
                  <a:pt x="7611" y="1701"/>
                </a:lnTo>
                <a:lnTo>
                  <a:pt x="7611" y="1699"/>
                </a:lnTo>
                <a:lnTo>
                  <a:pt x="7611" y="1697"/>
                </a:lnTo>
                <a:lnTo>
                  <a:pt x="7609" y="1691"/>
                </a:lnTo>
                <a:lnTo>
                  <a:pt x="7608" y="1687"/>
                </a:lnTo>
                <a:lnTo>
                  <a:pt x="7604" y="1685"/>
                </a:lnTo>
                <a:lnTo>
                  <a:pt x="7604" y="1685"/>
                </a:lnTo>
                <a:lnTo>
                  <a:pt x="7606" y="1670"/>
                </a:lnTo>
                <a:lnTo>
                  <a:pt x="7611" y="1636"/>
                </a:lnTo>
                <a:lnTo>
                  <a:pt x="7605" y="1571"/>
                </a:lnTo>
                <a:lnTo>
                  <a:pt x="7579" y="1509"/>
                </a:lnTo>
                <a:lnTo>
                  <a:pt x="7569" y="1494"/>
                </a:lnTo>
                <a:lnTo>
                  <a:pt x="7579" y="1490"/>
                </a:lnTo>
                <a:lnTo>
                  <a:pt x="7598" y="1480"/>
                </a:lnTo>
                <a:lnTo>
                  <a:pt x="7634" y="1452"/>
                </a:lnTo>
                <a:lnTo>
                  <a:pt x="7664" y="1419"/>
                </a:lnTo>
                <a:lnTo>
                  <a:pt x="7672" y="1409"/>
                </a:lnTo>
                <a:lnTo>
                  <a:pt x="7679" y="1415"/>
                </a:lnTo>
                <a:lnTo>
                  <a:pt x="7692" y="1426"/>
                </a:lnTo>
                <a:lnTo>
                  <a:pt x="7718" y="1439"/>
                </a:lnTo>
                <a:lnTo>
                  <a:pt x="7732" y="1442"/>
                </a:lnTo>
                <a:lnTo>
                  <a:pt x="7748" y="1439"/>
                </a:lnTo>
                <a:lnTo>
                  <a:pt x="7759" y="1435"/>
                </a:lnTo>
                <a:lnTo>
                  <a:pt x="7757" y="1439"/>
                </a:lnTo>
                <a:lnTo>
                  <a:pt x="7759" y="1443"/>
                </a:lnTo>
                <a:lnTo>
                  <a:pt x="7760" y="1448"/>
                </a:lnTo>
                <a:lnTo>
                  <a:pt x="7764" y="1449"/>
                </a:lnTo>
                <a:lnTo>
                  <a:pt x="7769" y="1451"/>
                </a:lnTo>
                <a:lnTo>
                  <a:pt x="7774" y="1451"/>
                </a:lnTo>
                <a:lnTo>
                  <a:pt x="7777" y="1451"/>
                </a:lnTo>
                <a:lnTo>
                  <a:pt x="7782" y="1452"/>
                </a:lnTo>
                <a:lnTo>
                  <a:pt x="7793" y="1454"/>
                </a:lnTo>
                <a:lnTo>
                  <a:pt x="7805" y="1452"/>
                </a:lnTo>
                <a:lnTo>
                  <a:pt x="7828" y="1448"/>
                </a:lnTo>
                <a:lnTo>
                  <a:pt x="7845" y="1443"/>
                </a:lnTo>
                <a:lnTo>
                  <a:pt x="7844" y="1436"/>
                </a:lnTo>
                <a:lnTo>
                  <a:pt x="7844" y="1422"/>
                </a:lnTo>
                <a:lnTo>
                  <a:pt x="7848" y="1407"/>
                </a:lnTo>
                <a:lnTo>
                  <a:pt x="7856" y="1393"/>
                </a:lnTo>
                <a:lnTo>
                  <a:pt x="7866" y="1381"/>
                </a:lnTo>
                <a:lnTo>
                  <a:pt x="7877" y="1370"/>
                </a:lnTo>
                <a:lnTo>
                  <a:pt x="7886" y="1364"/>
                </a:lnTo>
                <a:lnTo>
                  <a:pt x="7887" y="1361"/>
                </a:lnTo>
                <a:lnTo>
                  <a:pt x="7889" y="1358"/>
                </a:lnTo>
                <a:lnTo>
                  <a:pt x="7889" y="1357"/>
                </a:lnTo>
                <a:lnTo>
                  <a:pt x="7887" y="1349"/>
                </a:lnTo>
                <a:lnTo>
                  <a:pt x="7887" y="1338"/>
                </a:lnTo>
                <a:lnTo>
                  <a:pt x="7890" y="1332"/>
                </a:lnTo>
                <a:lnTo>
                  <a:pt x="7895" y="1328"/>
                </a:lnTo>
                <a:lnTo>
                  <a:pt x="7903" y="1316"/>
                </a:lnTo>
                <a:lnTo>
                  <a:pt x="7921" y="1294"/>
                </a:lnTo>
                <a:lnTo>
                  <a:pt x="7940" y="1274"/>
                </a:lnTo>
                <a:lnTo>
                  <a:pt x="7945" y="1268"/>
                </a:lnTo>
                <a:lnTo>
                  <a:pt x="7947" y="1265"/>
                </a:lnTo>
                <a:lnTo>
                  <a:pt x="7948" y="1262"/>
                </a:lnTo>
                <a:lnTo>
                  <a:pt x="7950" y="1254"/>
                </a:lnTo>
                <a:lnTo>
                  <a:pt x="7950" y="1245"/>
                </a:lnTo>
                <a:lnTo>
                  <a:pt x="7948" y="1236"/>
                </a:lnTo>
                <a:lnTo>
                  <a:pt x="7941" y="1219"/>
                </a:lnTo>
                <a:lnTo>
                  <a:pt x="7941" y="1219"/>
                </a:lnTo>
                <a:lnTo>
                  <a:pt x="7945" y="1217"/>
                </a:lnTo>
                <a:lnTo>
                  <a:pt x="7953" y="1212"/>
                </a:lnTo>
                <a:lnTo>
                  <a:pt x="7958" y="1203"/>
                </a:lnTo>
                <a:lnTo>
                  <a:pt x="7970" y="1187"/>
                </a:lnTo>
                <a:lnTo>
                  <a:pt x="7980" y="1174"/>
                </a:lnTo>
                <a:lnTo>
                  <a:pt x="7982" y="1171"/>
                </a:lnTo>
                <a:lnTo>
                  <a:pt x="7983" y="1167"/>
                </a:lnTo>
                <a:lnTo>
                  <a:pt x="7983" y="1162"/>
                </a:lnTo>
                <a:lnTo>
                  <a:pt x="7983" y="1158"/>
                </a:lnTo>
                <a:lnTo>
                  <a:pt x="7980" y="1148"/>
                </a:lnTo>
                <a:lnTo>
                  <a:pt x="7976" y="1139"/>
                </a:lnTo>
                <a:lnTo>
                  <a:pt x="7974" y="1133"/>
                </a:lnTo>
                <a:lnTo>
                  <a:pt x="7976" y="1128"/>
                </a:lnTo>
                <a:lnTo>
                  <a:pt x="7977" y="1128"/>
                </a:lnTo>
                <a:lnTo>
                  <a:pt x="7985" y="1123"/>
                </a:lnTo>
                <a:lnTo>
                  <a:pt x="7995" y="1113"/>
                </a:lnTo>
                <a:lnTo>
                  <a:pt x="7999" y="1102"/>
                </a:lnTo>
                <a:lnTo>
                  <a:pt x="8000" y="1090"/>
                </a:lnTo>
                <a:lnTo>
                  <a:pt x="8000" y="1077"/>
                </a:lnTo>
                <a:lnTo>
                  <a:pt x="7999" y="1062"/>
                </a:lnTo>
                <a:lnTo>
                  <a:pt x="8000" y="1055"/>
                </a:lnTo>
                <a:lnTo>
                  <a:pt x="8008" y="1057"/>
                </a:lnTo>
                <a:lnTo>
                  <a:pt x="8024" y="1055"/>
                </a:lnTo>
                <a:lnTo>
                  <a:pt x="8040" y="1052"/>
                </a:lnTo>
                <a:lnTo>
                  <a:pt x="8054" y="1045"/>
                </a:lnTo>
                <a:lnTo>
                  <a:pt x="8063" y="1035"/>
                </a:lnTo>
                <a:lnTo>
                  <a:pt x="8064" y="1028"/>
                </a:lnTo>
                <a:lnTo>
                  <a:pt x="8064" y="1022"/>
                </a:lnTo>
                <a:lnTo>
                  <a:pt x="8063" y="1013"/>
                </a:lnTo>
                <a:lnTo>
                  <a:pt x="8063" y="1013"/>
                </a:lnTo>
                <a:lnTo>
                  <a:pt x="8060" y="1007"/>
                </a:lnTo>
                <a:lnTo>
                  <a:pt x="8056" y="996"/>
                </a:lnTo>
                <a:lnTo>
                  <a:pt x="8048" y="973"/>
                </a:lnTo>
                <a:lnTo>
                  <a:pt x="8045" y="949"/>
                </a:lnTo>
                <a:lnTo>
                  <a:pt x="8047" y="942"/>
                </a:lnTo>
                <a:lnTo>
                  <a:pt x="8047" y="941"/>
                </a:lnTo>
                <a:lnTo>
                  <a:pt x="8048" y="935"/>
                </a:lnTo>
                <a:lnTo>
                  <a:pt x="8051" y="922"/>
                </a:lnTo>
                <a:lnTo>
                  <a:pt x="8058" y="910"/>
                </a:lnTo>
                <a:lnTo>
                  <a:pt x="8061" y="907"/>
                </a:lnTo>
                <a:lnTo>
                  <a:pt x="8056" y="909"/>
                </a:lnTo>
                <a:lnTo>
                  <a:pt x="8050" y="907"/>
                </a:lnTo>
                <a:lnTo>
                  <a:pt x="8041" y="904"/>
                </a:lnTo>
                <a:lnTo>
                  <a:pt x="8031" y="900"/>
                </a:lnTo>
                <a:lnTo>
                  <a:pt x="8024" y="896"/>
                </a:lnTo>
                <a:lnTo>
                  <a:pt x="8016" y="894"/>
                </a:lnTo>
                <a:lnTo>
                  <a:pt x="8011" y="894"/>
                </a:lnTo>
                <a:lnTo>
                  <a:pt x="8011" y="894"/>
                </a:lnTo>
                <a:lnTo>
                  <a:pt x="7996" y="902"/>
                </a:lnTo>
                <a:lnTo>
                  <a:pt x="7967" y="910"/>
                </a:lnTo>
                <a:lnTo>
                  <a:pt x="7938" y="915"/>
                </a:lnTo>
                <a:lnTo>
                  <a:pt x="7879" y="920"/>
                </a:lnTo>
                <a:lnTo>
                  <a:pt x="7838" y="931"/>
                </a:lnTo>
                <a:lnTo>
                  <a:pt x="7831" y="933"/>
                </a:lnTo>
                <a:lnTo>
                  <a:pt x="7821" y="942"/>
                </a:lnTo>
                <a:lnTo>
                  <a:pt x="7799" y="960"/>
                </a:lnTo>
                <a:lnTo>
                  <a:pt x="7774" y="974"/>
                </a:lnTo>
                <a:lnTo>
                  <a:pt x="7767" y="975"/>
                </a:lnTo>
                <a:lnTo>
                  <a:pt x="7769" y="977"/>
                </a:lnTo>
                <a:lnTo>
                  <a:pt x="7772" y="980"/>
                </a:lnTo>
                <a:lnTo>
                  <a:pt x="7776" y="986"/>
                </a:lnTo>
                <a:lnTo>
                  <a:pt x="7776" y="991"/>
                </a:lnTo>
                <a:lnTo>
                  <a:pt x="7776" y="993"/>
                </a:lnTo>
                <a:lnTo>
                  <a:pt x="7764" y="1000"/>
                </a:lnTo>
                <a:lnTo>
                  <a:pt x="7741" y="1009"/>
                </a:lnTo>
                <a:lnTo>
                  <a:pt x="7718" y="1013"/>
                </a:lnTo>
                <a:lnTo>
                  <a:pt x="7695" y="1013"/>
                </a:lnTo>
                <a:lnTo>
                  <a:pt x="7670" y="1009"/>
                </a:lnTo>
                <a:lnTo>
                  <a:pt x="7647" y="1002"/>
                </a:lnTo>
                <a:lnTo>
                  <a:pt x="7637" y="996"/>
                </a:lnTo>
                <a:lnTo>
                  <a:pt x="7632" y="994"/>
                </a:lnTo>
                <a:lnTo>
                  <a:pt x="7624" y="993"/>
                </a:lnTo>
                <a:lnTo>
                  <a:pt x="7615" y="994"/>
                </a:lnTo>
                <a:lnTo>
                  <a:pt x="7606" y="996"/>
                </a:lnTo>
                <a:lnTo>
                  <a:pt x="7598" y="1000"/>
                </a:lnTo>
                <a:lnTo>
                  <a:pt x="7589" y="1006"/>
                </a:lnTo>
                <a:lnTo>
                  <a:pt x="7585" y="1009"/>
                </a:lnTo>
                <a:lnTo>
                  <a:pt x="7582" y="1010"/>
                </a:lnTo>
                <a:lnTo>
                  <a:pt x="7580" y="1012"/>
                </a:lnTo>
                <a:lnTo>
                  <a:pt x="7576" y="1013"/>
                </a:lnTo>
                <a:lnTo>
                  <a:pt x="7570" y="1013"/>
                </a:lnTo>
                <a:lnTo>
                  <a:pt x="7566" y="1012"/>
                </a:lnTo>
                <a:lnTo>
                  <a:pt x="7563" y="1009"/>
                </a:lnTo>
                <a:lnTo>
                  <a:pt x="7561" y="1003"/>
                </a:lnTo>
                <a:lnTo>
                  <a:pt x="7563" y="1003"/>
                </a:lnTo>
                <a:lnTo>
                  <a:pt x="7561" y="999"/>
                </a:lnTo>
                <a:lnTo>
                  <a:pt x="7560" y="996"/>
                </a:lnTo>
                <a:lnTo>
                  <a:pt x="7556" y="990"/>
                </a:lnTo>
                <a:lnTo>
                  <a:pt x="7554" y="984"/>
                </a:lnTo>
                <a:lnTo>
                  <a:pt x="7554" y="981"/>
                </a:lnTo>
                <a:lnTo>
                  <a:pt x="7556" y="980"/>
                </a:lnTo>
                <a:lnTo>
                  <a:pt x="7557" y="978"/>
                </a:lnTo>
                <a:lnTo>
                  <a:pt x="7561" y="977"/>
                </a:lnTo>
                <a:lnTo>
                  <a:pt x="7567" y="975"/>
                </a:lnTo>
                <a:lnTo>
                  <a:pt x="7569" y="975"/>
                </a:lnTo>
                <a:lnTo>
                  <a:pt x="7566" y="974"/>
                </a:lnTo>
                <a:lnTo>
                  <a:pt x="7563" y="971"/>
                </a:lnTo>
                <a:lnTo>
                  <a:pt x="7556" y="967"/>
                </a:lnTo>
                <a:lnTo>
                  <a:pt x="7543" y="961"/>
                </a:lnTo>
                <a:lnTo>
                  <a:pt x="7537" y="951"/>
                </a:lnTo>
                <a:lnTo>
                  <a:pt x="7537" y="941"/>
                </a:lnTo>
                <a:lnTo>
                  <a:pt x="7537" y="922"/>
                </a:lnTo>
                <a:lnTo>
                  <a:pt x="7530" y="889"/>
                </a:lnTo>
                <a:lnTo>
                  <a:pt x="7514" y="855"/>
                </a:lnTo>
                <a:lnTo>
                  <a:pt x="7508" y="847"/>
                </a:lnTo>
                <a:lnTo>
                  <a:pt x="7511" y="845"/>
                </a:lnTo>
                <a:lnTo>
                  <a:pt x="7515" y="844"/>
                </a:lnTo>
                <a:lnTo>
                  <a:pt x="7517" y="841"/>
                </a:lnTo>
                <a:lnTo>
                  <a:pt x="7518" y="838"/>
                </a:lnTo>
                <a:lnTo>
                  <a:pt x="7519" y="833"/>
                </a:lnTo>
                <a:lnTo>
                  <a:pt x="7522" y="826"/>
                </a:lnTo>
                <a:lnTo>
                  <a:pt x="7524" y="819"/>
                </a:lnTo>
                <a:lnTo>
                  <a:pt x="7530" y="815"/>
                </a:lnTo>
                <a:lnTo>
                  <a:pt x="7534" y="812"/>
                </a:lnTo>
                <a:lnTo>
                  <a:pt x="7525" y="813"/>
                </a:lnTo>
                <a:lnTo>
                  <a:pt x="7508" y="815"/>
                </a:lnTo>
                <a:lnTo>
                  <a:pt x="7476" y="809"/>
                </a:lnTo>
                <a:lnTo>
                  <a:pt x="7447" y="797"/>
                </a:lnTo>
                <a:lnTo>
                  <a:pt x="7440" y="793"/>
                </a:lnTo>
                <a:lnTo>
                  <a:pt x="7435" y="791"/>
                </a:lnTo>
                <a:lnTo>
                  <a:pt x="7433" y="789"/>
                </a:lnTo>
                <a:lnTo>
                  <a:pt x="7430" y="786"/>
                </a:lnTo>
                <a:lnTo>
                  <a:pt x="7427" y="780"/>
                </a:lnTo>
                <a:lnTo>
                  <a:pt x="7424" y="773"/>
                </a:lnTo>
                <a:lnTo>
                  <a:pt x="7420" y="757"/>
                </a:lnTo>
                <a:lnTo>
                  <a:pt x="7420" y="752"/>
                </a:lnTo>
                <a:lnTo>
                  <a:pt x="7414" y="744"/>
                </a:lnTo>
                <a:lnTo>
                  <a:pt x="7406" y="738"/>
                </a:lnTo>
                <a:lnTo>
                  <a:pt x="7399" y="733"/>
                </a:lnTo>
                <a:lnTo>
                  <a:pt x="7391" y="731"/>
                </a:lnTo>
                <a:lnTo>
                  <a:pt x="7382" y="729"/>
                </a:lnTo>
                <a:lnTo>
                  <a:pt x="7363" y="728"/>
                </a:lnTo>
                <a:lnTo>
                  <a:pt x="7328" y="725"/>
                </a:lnTo>
                <a:lnTo>
                  <a:pt x="7321" y="720"/>
                </a:lnTo>
                <a:lnTo>
                  <a:pt x="7315" y="719"/>
                </a:lnTo>
                <a:lnTo>
                  <a:pt x="7305" y="713"/>
                </a:lnTo>
                <a:lnTo>
                  <a:pt x="7283" y="705"/>
                </a:lnTo>
                <a:lnTo>
                  <a:pt x="7260" y="697"/>
                </a:lnTo>
                <a:lnTo>
                  <a:pt x="7256" y="694"/>
                </a:lnTo>
                <a:lnTo>
                  <a:pt x="7249" y="693"/>
                </a:lnTo>
                <a:lnTo>
                  <a:pt x="7234" y="690"/>
                </a:lnTo>
                <a:lnTo>
                  <a:pt x="7202" y="690"/>
                </a:lnTo>
                <a:lnTo>
                  <a:pt x="7169" y="690"/>
                </a:lnTo>
                <a:lnTo>
                  <a:pt x="7162" y="690"/>
                </a:lnTo>
                <a:lnTo>
                  <a:pt x="7160" y="686"/>
                </a:lnTo>
                <a:lnTo>
                  <a:pt x="7159" y="681"/>
                </a:lnTo>
                <a:lnTo>
                  <a:pt x="7156" y="678"/>
                </a:lnTo>
                <a:lnTo>
                  <a:pt x="7153" y="676"/>
                </a:lnTo>
                <a:lnTo>
                  <a:pt x="7150" y="674"/>
                </a:lnTo>
                <a:lnTo>
                  <a:pt x="7141" y="670"/>
                </a:lnTo>
                <a:lnTo>
                  <a:pt x="7134" y="667"/>
                </a:lnTo>
                <a:lnTo>
                  <a:pt x="7128" y="661"/>
                </a:lnTo>
                <a:lnTo>
                  <a:pt x="7127" y="657"/>
                </a:lnTo>
                <a:lnTo>
                  <a:pt x="7125" y="652"/>
                </a:lnTo>
                <a:lnTo>
                  <a:pt x="7127" y="647"/>
                </a:lnTo>
                <a:lnTo>
                  <a:pt x="7128" y="642"/>
                </a:lnTo>
                <a:lnTo>
                  <a:pt x="7133" y="632"/>
                </a:lnTo>
                <a:lnTo>
                  <a:pt x="7138" y="612"/>
                </a:lnTo>
                <a:lnTo>
                  <a:pt x="7136" y="596"/>
                </a:lnTo>
                <a:lnTo>
                  <a:pt x="7133" y="594"/>
                </a:lnTo>
                <a:lnTo>
                  <a:pt x="7125" y="589"/>
                </a:lnTo>
                <a:lnTo>
                  <a:pt x="7114" y="578"/>
                </a:lnTo>
                <a:lnTo>
                  <a:pt x="7109" y="574"/>
                </a:lnTo>
                <a:lnTo>
                  <a:pt x="7107" y="571"/>
                </a:lnTo>
                <a:lnTo>
                  <a:pt x="7107" y="570"/>
                </a:lnTo>
                <a:lnTo>
                  <a:pt x="7104" y="552"/>
                </a:lnTo>
                <a:lnTo>
                  <a:pt x="7098" y="519"/>
                </a:lnTo>
                <a:lnTo>
                  <a:pt x="7069" y="461"/>
                </a:lnTo>
                <a:lnTo>
                  <a:pt x="7028" y="409"/>
                </a:lnTo>
                <a:lnTo>
                  <a:pt x="7017" y="394"/>
                </a:lnTo>
                <a:lnTo>
                  <a:pt x="7014" y="392"/>
                </a:lnTo>
                <a:lnTo>
                  <a:pt x="7014" y="389"/>
                </a:lnTo>
                <a:lnTo>
                  <a:pt x="7015" y="386"/>
                </a:lnTo>
                <a:lnTo>
                  <a:pt x="7017" y="381"/>
                </a:lnTo>
                <a:lnTo>
                  <a:pt x="7020" y="378"/>
                </a:lnTo>
                <a:lnTo>
                  <a:pt x="7025" y="373"/>
                </a:lnTo>
                <a:lnTo>
                  <a:pt x="7031" y="367"/>
                </a:lnTo>
                <a:lnTo>
                  <a:pt x="7033" y="358"/>
                </a:lnTo>
                <a:lnTo>
                  <a:pt x="7031" y="354"/>
                </a:lnTo>
                <a:lnTo>
                  <a:pt x="7023" y="341"/>
                </a:lnTo>
                <a:lnTo>
                  <a:pt x="7008" y="312"/>
                </a:lnTo>
                <a:lnTo>
                  <a:pt x="6981" y="255"/>
                </a:lnTo>
                <a:lnTo>
                  <a:pt x="6954" y="199"/>
                </a:lnTo>
                <a:lnTo>
                  <a:pt x="6947" y="184"/>
                </a:lnTo>
                <a:lnTo>
                  <a:pt x="6943" y="179"/>
                </a:lnTo>
                <a:lnTo>
                  <a:pt x="6936" y="165"/>
                </a:lnTo>
                <a:lnTo>
                  <a:pt x="6918" y="136"/>
                </a:lnTo>
                <a:lnTo>
                  <a:pt x="6898" y="110"/>
                </a:lnTo>
                <a:lnTo>
                  <a:pt x="6892" y="105"/>
                </a:lnTo>
                <a:lnTo>
                  <a:pt x="6888" y="103"/>
                </a:lnTo>
                <a:lnTo>
                  <a:pt x="6881" y="100"/>
                </a:lnTo>
                <a:lnTo>
                  <a:pt x="6863" y="93"/>
                </a:lnTo>
                <a:lnTo>
                  <a:pt x="6846" y="89"/>
                </a:lnTo>
                <a:lnTo>
                  <a:pt x="6841" y="87"/>
                </a:lnTo>
                <a:lnTo>
                  <a:pt x="6833" y="87"/>
                </a:lnTo>
                <a:lnTo>
                  <a:pt x="6817" y="86"/>
                </a:lnTo>
                <a:lnTo>
                  <a:pt x="6785" y="86"/>
                </a:lnTo>
                <a:lnTo>
                  <a:pt x="6754" y="84"/>
                </a:lnTo>
                <a:lnTo>
                  <a:pt x="6749" y="81"/>
                </a:lnTo>
                <a:lnTo>
                  <a:pt x="6741" y="79"/>
                </a:lnTo>
                <a:lnTo>
                  <a:pt x="6727" y="71"/>
                </a:lnTo>
                <a:lnTo>
                  <a:pt x="6698" y="54"/>
                </a:lnTo>
                <a:lnTo>
                  <a:pt x="6670" y="37"/>
                </a:lnTo>
                <a:lnTo>
                  <a:pt x="6665" y="32"/>
                </a:lnTo>
                <a:lnTo>
                  <a:pt x="6653" y="26"/>
                </a:lnTo>
                <a:lnTo>
                  <a:pt x="6631" y="16"/>
                </a:lnTo>
                <a:lnTo>
                  <a:pt x="6579" y="3"/>
                </a:lnTo>
                <a:lnTo>
                  <a:pt x="6527" y="2"/>
                </a:lnTo>
                <a:lnTo>
                  <a:pt x="6514" y="3"/>
                </a:lnTo>
                <a:lnTo>
                  <a:pt x="6511" y="5"/>
                </a:lnTo>
                <a:lnTo>
                  <a:pt x="6508" y="6"/>
                </a:lnTo>
                <a:lnTo>
                  <a:pt x="6498" y="9"/>
                </a:lnTo>
                <a:lnTo>
                  <a:pt x="6486" y="13"/>
                </a:lnTo>
                <a:lnTo>
                  <a:pt x="6485" y="13"/>
                </a:lnTo>
                <a:lnTo>
                  <a:pt x="6478" y="16"/>
                </a:lnTo>
                <a:lnTo>
                  <a:pt x="6472" y="18"/>
                </a:lnTo>
                <a:lnTo>
                  <a:pt x="6466" y="16"/>
                </a:lnTo>
                <a:lnTo>
                  <a:pt x="6459" y="15"/>
                </a:lnTo>
                <a:lnTo>
                  <a:pt x="6446" y="9"/>
                </a:lnTo>
                <a:lnTo>
                  <a:pt x="6433" y="3"/>
                </a:lnTo>
                <a:lnTo>
                  <a:pt x="6421" y="0"/>
                </a:lnTo>
                <a:lnTo>
                  <a:pt x="6413" y="3"/>
                </a:lnTo>
                <a:lnTo>
                  <a:pt x="6413" y="3"/>
                </a:lnTo>
                <a:lnTo>
                  <a:pt x="6400" y="13"/>
                </a:lnTo>
                <a:lnTo>
                  <a:pt x="6386" y="19"/>
                </a:lnTo>
                <a:lnTo>
                  <a:pt x="6359" y="25"/>
                </a:lnTo>
                <a:lnTo>
                  <a:pt x="6331" y="28"/>
                </a:lnTo>
                <a:lnTo>
                  <a:pt x="6279" y="32"/>
                </a:lnTo>
                <a:lnTo>
                  <a:pt x="6258" y="41"/>
                </a:lnTo>
                <a:lnTo>
                  <a:pt x="6247" y="48"/>
                </a:lnTo>
                <a:lnTo>
                  <a:pt x="6230" y="61"/>
                </a:lnTo>
                <a:lnTo>
                  <a:pt x="6194" y="89"/>
                </a:lnTo>
                <a:lnTo>
                  <a:pt x="6153" y="112"/>
                </a:lnTo>
                <a:lnTo>
                  <a:pt x="6143" y="116"/>
                </a:lnTo>
                <a:lnTo>
                  <a:pt x="6140" y="118"/>
                </a:lnTo>
                <a:lnTo>
                  <a:pt x="6139" y="121"/>
                </a:lnTo>
                <a:lnTo>
                  <a:pt x="6136" y="125"/>
                </a:lnTo>
                <a:lnTo>
                  <a:pt x="6133" y="134"/>
                </a:lnTo>
                <a:lnTo>
                  <a:pt x="6131" y="144"/>
                </a:lnTo>
                <a:lnTo>
                  <a:pt x="6133" y="152"/>
                </a:lnTo>
                <a:lnTo>
                  <a:pt x="6137" y="157"/>
                </a:lnTo>
                <a:lnTo>
                  <a:pt x="6142" y="157"/>
                </a:lnTo>
                <a:lnTo>
                  <a:pt x="6158" y="158"/>
                </a:lnTo>
                <a:lnTo>
                  <a:pt x="6184" y="167"/>
                </a:lnTo>
                <a:lnTo>
                  <a:pt x="6204" y="183"/>
                </a:lnTo>
                <a:lnTo>
                  <a:pt x="6217" y="203"/>
                </a:lnTo>
                <a:lnTo>
                  <a:pt x="6224" y="225"/>
                </a:lnTo>
                <a:lnTo>
                  <a:pt x="6226" y="248"/>
                </a:lnTo>
                <a:lnTo>
                  <a:pt x="6226" y="258"/>
                </a:lnTo>
                <a:lnTo>
                  <a:pt x="6223" y="270"/>
                </a:lnTo>
                <a:lnTo>
                  <a:pt x="6218" y="280"/>
                </a:lnTo>
                <a:lnTo>
                  <a:pt x="6213" y="289"/>
                </a:lnTo>
                <a:lnTo>
                  <a:pt x="6195" y="307"/>
                </a:lnTo>
                <a:lnTo>
                  <a:pt x="6175" y="326"/>
                </a:lnTo>
                <a:lnTo>
                  <a:pt x="6133" y="367"/>
                </a:lnTo>
                <a:lnTo>
                  <a:pt x="6124" y="378"/>
                </a:lnTo>
                <a:lnTo>
                  <a:pt x="6120" y="386"/>
                </a:lnTo>
                <a:lnTo>
                  <a:pt x="6114" y="400"/>
                </a:lnTo>
                <a:lnTo>
                  <a:pt x="6110" y="415"/>
                </a:lnTo>
                <a:lnTo>
                  <a:pt x="6101" y="442"/>
                </a:lnTo>
                <a:lnTo>
                  <a:pt x="6088" y="454"/>
                </a:lnTo>
                <a:lnTo>
                  <a:pt x="6084" y="457"/>
                </a:lnTo>
                <a:lnTo>
                  <a:pt x="6078" y="461"/>
                </a:lnTo>
                <a:lnTo>
                  <a:pt x="6072" y="467"/>
                </a:lnTo>
                <a:lnTo>
                  <a:pt x="6065" y="478"/>
                </a:lnTo>
                <a:lnTo>
                  <a:pt x="6058" y="486"/>
                </a:lnTo>
                <a:lnTo>
                  <a:pt x="6049" y="494"/>
                </a:lnTo>
                <a:lnTo>
                  <a:pt x="6045" y="503"/>
                </a:lnTo>
                <a:lnTo>
                  <a:pt x="6043" y="512"/>
                </a:lnTo>
                <a:lnTo>
                  <a:pt x="6042" y="522"/>
                </a:lnTo>
                <a:lnTo>
                  <a:pt x="6043" y="532"/>
                </a:lnTo>
                <a:lnTo>
                  <a:pt x="6047" y="552"/>
                </a:lnTo>
                <a:lnTo>
                  <a:pt x="6050" y="574"/>
                </a:lnTo>
                <a:lnTo>
                  <a:pt x="6049" y="594"/>
                </a:lnTo>
                <a:lnTo>
                  <a:pt x="6046" y="603"/>
                </a:lnTo>
                <a:lnTo>
                  <a:pt x="6050" y="603"/>
                </a:lnTo>
                <a:lnTo>
                  <a:pt x="6055" y="603"/>
                </a:lnTo>
                <a:lnTo>
                  <a:pt x="6061" y="603"/>
                </a:lnTo>
                <a:lnTo>
                  <a:pt x="6063" y="603"/>
                </a:lnTo>
                <a:lnTo>
                  <a:pt x="6059" y="605"/>
                </a:lnTo>
                <a:lnTo>
                  <a:pt x="6052" y="609"/>
                </a:lnTo>
                <a:lnTo>
                  <a:pt x="6046" y="615"/>
                </a:lnTo>
                <a:lnTo>
                  <a:pt x="6037" y="623"/>
                </a:lnTo>
                <a:lnTo>
                  <a:pt x="6030" y="626"/>
                </a:lnTo>
                <a:lnTo>
                  <a:pt x="6014" y="628"/>
                </a:lnTo>
                <a:lnTo>
                  <a:pt x="5985" y="632"/>
                </a:lnTo>
                <a:lnTo>
                  <a:pt x="5958" y="642"/>
                </a:lnTo>
                <a:lnTo>
                  <a:pt x="5908" y="667"/>
                </a:lnTo>
                <a:lnTo>
                  <a:pt x="5871" y="686"/>
                </a:lnTo>
                <a:lnTo>
                  <a:pt x="5858" y="690"/>
                </a:lnTo>
                <a:lnTo>
                  <a:pt x="5845" y="691"/>
                </a:lnTo>
                <a:lnTo>
                  <a:pt x="5833" y="691"/>
                </a:lnTo>
                <a:lnTo>
                  <a:pt x="5807" y="684"/>
                </a:lnTo>
                <a:lnTo>
                  <a:pt x="5782" y="673"/>
                </a:lnTo>
                <a:lnTo>
                  <a:pt x="5730" y="652"/>
                </a:lnTo>
                <a:lnTo>
                  <a:pt x="5717" y="648"/>
                </a:lnTo>
                <a:lnTo>
                  <a:pt x="5711" y="647"/>
                </a:lnTo>
                <a:lnTo>
                  <a:pt x="5698" y="639"/>
                </a:lnTo>
                <a:lnTo>
                  <a:pt x="5688" y="635"/>
                </a:lnTo>
                <a:lnTo>
                  <a:pt x="5688" y="634"/>
                </a:lnTo>
                <a:lnTo>
                  <a:pt x="5691" y="641"/>
                </a:lnTo>
                <a:lnTo>
                  <a:pt x="5695" y="652"/>
                </a:lnTo>
                <a:lnTo>
                  <a:pt x="5697" y="662"/>
                </a:lnTo>
                <a:lnTo>
                  <a:pt x="5695" y="671"/>
                </a:lnTo>
                <a:lnTo>
                  <a:pt x="5694" y="678"/>
                </a:lnTo>
                <a:lnTo>
                  <a:pt x="5690" y="687"/>
                </a:lnTo>
                <a:lnTo>
                  <a:pt x="5688" y="690"/>
                </a:lnTo>
                <a:lnTo>
                  <a:pt x="5681" y="705"/>
                </a:lnTo>
                <a:lnTo>
                  <a:pt x="5666" y="731"/>
                </a:lnTo>
                <a:lnTo>
                  <a:pt x="5635" y="781"/>
                </a:lnTo>
                <a:lnTo>
                  <a:pt x="5603" y="833"/>
                </a:lnTo>
                <a:lnTo>
                  <a:pt x="5597" y="847"/>
                </a:lnTo>
                <a:lnTo>
                  <a:pt x="5595" y="851"/>
                </a:lnTo>
                <a:lnTo>
                  <a:pt x="5594" y="855"/>
                </a:lnTo>
                <a:lnTo>
                  <a:pt x="5595" y="864"/>
                </a:lnTo>
                <a:lnTo>
                  <a:pt x="5597" y="873"/>
                </a:lnTo>
                <a:lnTo>
                  <a:pt x="5603" y="890"/>
                </a:lnTo>
                <a:lnTo>
                  <a:pt x="5604" y="899"/>
                </a:lnTo>
                <a:lnTo>
                  <a:pt x="5597" y="900"/>
                </a:lnTo>
                <a:lnTo>
                  <a:pt x="5585" y="902"/>
                </a:lnTo>
                <a:lnTo>
                  <a:pt x="5562" y="909"/>
                </a:lnTo>
                <a:lnTo>
                  <a:pt x="5545" y="919"/>
                </a:lnTo>
                <a:lnTo>
                  <a:pt x="5542" y="920"/>
                </a:lnTo>
                <a:lnTo>
                  <a:pt x="5536" y="928"/>
                </a:lnTo>
                <a:lnTo>
                  <a:pt x="5535" y="935"/>
                </a:lnTo>
                <a:lnTo>
                  <a:pt x="5533" y="944"/>
                </a:lnTo>
                <a:lnTo>
                  <a:pt x="5533" y="952"/>
                </a:lnTo>
                <a:lnTo>
                  <a:pt x="5536" y="960"/>
                </a:lnTo>
                <a:lnTo>
                  <a:pt x="5543" y="977"/>
                </a:lnTo>
                <a:lnTo>
                  <a:pt x="5555" y="989"/>
                </a:lnTo>
                <a:lnTo>
                  <a:pt x="5571" y="996"/>
                </a:lnTo>
                <a:lnTo>
                  <a:pt x="5579" y="996"/>
                </a:lnTo>
                <a:lnTo>
                  <a:pt x="5582" y="996"/>
                </a:lnTo>
                <a:lnTo>
                  <a:pt x="5587" y="996"/>
                </a:lnTo>
                <a:lnTo>
                  <a:pt x="5595" y="993"/>
                </a:lnTo>
                <a:lnTo>
                  <a:pt x="5613" y="986"/>
                </a:lnTo>
                <a:lnTo>
                  <a:pt x="5630" y="981"/>
                </a:lnTo>
                <a:lnTo>
                  <a:pt x="5640" y="983"/>
                </a:lnTo>
                <a:lnTo>
                  <a:pt x="5661" y="983"/>
                </a:lnTo>
                <a:lnTo>
                  <a:pt x="5701" y="984"/>
                </a:lnTo>
                <a:lnTo>
                  <a:pt x="5739" y="993"/>
                </a:lnTo>
                <a:lnTo>
                  <a:pt x="5749" y="997"/>
                </a:lnTo>
                <a:lnTo>
                  <a:pt x="5750" y="999"/>
                </a:lnTo>
                <a:lnTo>
                  <a:pt x="5753" y="1002"/>
                </a:lnTo>
                <a:lnTo>
                  <a:pt x="5759" y="1006"/>
                </a:lnTo>
                <a:lnTo>
                  <a:pt x="5766" y="1010"/>
                </a:lnTo>
                <a:lnTo>
                  <a:pt x="5769" y="1010"/>
                </a:lnTo>
                <a:lnTo>
                  <a:pt x="5777" y="1012"/>
                </a:lnTo>
                <a:lnTo>
                  <a:pt x="5791" y="1010"/>
                </a:lnTo>
                <a:lnTo>
                  <a:pt x="5804" y="1004"/>
                </a:lnTo>
                <a:lnTo>
                  <a:pt x="5817" y="997"/>
                </a:lnTo>
                <a:lnTo>
                  <a:pt x="5842" y="981"/>
                </a:lnTo>
                <a:lnTo>
                  <a:pt x="5849" y="978"/>
                </a:lnTo>
                <a:lnTo>
                  <a:pt x="5865" y="973"/>
                </a:lnTo>
                <a:lnTo>
                  <a:pt x="5900" y="968"/>
                </a:lnTo>
                <a:lnTo>
                  <a:pt x="5933" y="974"/>
                </a:lnTo>
                <a:lnTo>
                  <a:pt x="5965" y="987"/>
                </a:lnTo>
                <a:lnTo>
                  <a:pt x="5994" y="1007"/>
                </a:lnTo>
                <a:lnTo>
                  <a:pt x="6020" y="1035"/>
                </a:lnTo>
                <a:lnTo>
                  <a:pt x="6033" y="1051"/>
                </a:lnTo>
                <a:lnTo>
                  <a:pt x="6034" y="1055"/>
                </a:lnTo>
                <a:lnTo>
                  <a:pt x="6043" y="1061"/>
                </a:lnTo>
                <a:lnTo>
                  <a:pt x="6052" y="1067"/>
                </a:lnTo>
                <a:lnTo>
                  <a:pt x="6072" y="1077"/>
                </a:lnTo>
                <a:lnTo>
                  <a:pt x="6088" y="1084"/>
                </a:lnTo>
                <a:lnTo>
                  <a:pt x="6094" y="1088"/>
                </a:lnTo>
                <a:lnTo>
                  <a:pt x="6104" y="1097"/>
                </a:lnTo>
                <a:lnTo>
                  <a:pt x="6114" y="1109"/>
                </a:lnTo>
                <a:lnTo>
                  <a:pt x="6120" y="1122"/>
                </a:lnTo>
                <a:lnTo>
                  <a:pt x="6123" y="1136"/>
                </a:lnTo>
                <a:lnTo>
                  <a:pt x="6121" y="1151"/>
                </a:lnTo>
                <a:lnTo>
                  <a:pt x="6120" y="1157"/>
                </a:lnTo>
                <a:lnTo>
                  <a:pt x="6118" y="1159"/>
                </a:lnTo>
                <a:lnTo>
                  <a:pt x="6116" y="1164"/>
                </a:lnTo>
                <a:lnTo>
                  <a:pt x="6110" y="1175"/>
                </a:lnTo>
                <a:lnTo>
                  <a:pt x="6105" y="1180"/>
                </a:lnTo>
                <a:lnTo>
                  <a:pt x="6101" y="1183"/>
                </a:lnTo>
                <a:lnTo>
                  <a:pt x="6098" y="1183"/>
                </a:lnTo>
                <a:lnTo>
                  <a:pt x="6088" y="1184"/>
                </a:lnTo>
                <a:lnTo>
                  <a:pt x="6071" y="1184"/>
                </a:lnTo>
                <a:lnTo>
                  <a:pt x="6034" y="1183"/>
                </a:lnTo>
                <a:lnTo>
                  <a:pt x="6000" y="1175"/>
                </a:lnTo>
                <a:lnTo>
                  <a:pt x="5992" y="1171"/>
                </a:lnTo>
                <a:lnTo>
                  <a:pt x="5976" y="1167"/>
                </a:lnTo>
                <a:lnTo>
                  <a:pt x="5962" y="1164"/>
                </a:lnTo>
                <a:lnTo>
                  <a:pt x="5933" y="1165"/>
                </a:lnTo>
                <a:lnTo>
                  <a:pt x="5904" y="1174"/>
                </a:lnTo>
                <a:lnTo>
                  <a:pt x="5843" y="1193"/>
                </a:lnTo>
                <a:lnTo>
                  <a:pt x="5813" y="1197"/>
                </a:lnTo>
                <a:lnTo>
                  <a:pt x="5808" y="1199"/>
                </a:lnTo>
                <a:lnTo>
                  <a:pt x="5804" y="1200"/>
                </a:lnTo>
                <a:lnTo>
                  <a:pt x="5801" y="1203"/>
                </a:lnTo>
                <a:lnTo>
                  <a:pt x="5794" y="1209"/>
                </a:lnTo>
                <a:lnTo>
                  <a:pt x="5787" y="1217"/>
                </a:lnTo>
                <a:lnTo>
                  <a:pt x="5772" y="1232"/>
                </a:lnTo>
                <a:lnTo>
                  <a:pt x="5769" y="1233"/>
                </a:lnTo>
                <a:lnTo>
                  <a:pt x="5765" y="1236"/>
                </a:lnTo>
                <a:lnTo>
                  <a:pt x="5761" y="1236"/>
                </a:lnTo>
                <a:lnTo>
                  <a:pt x="5752" y="1238"/>
                </a:lnTo>
                <a:lnTo>
                  <a:pt x="5743" y="1236"/>
                </a:lnTo>
                <a:lnTo>
                  <a:pt x="5726" y="1235"/>
                </a:lnTo>
                <a:lnTo>
                  <a:pt x="5719" y="1236"/>
                </a:lnTo>
                <a:lnTo>
                  <a:pt x="5703" y="1245"/>
                </a:lnTo>
                <a:lnTo>
                  <a:pt x="5679" y="1267"/>
                </a:lnTo>
                <a:lnTo>
                  <a:pt x="5662" y="1291"/>
                </a:lnTo>
                <a:lnTo>
                  <a:pt x="5646" y="1319"/>
                </a:lnTo>
                <a:lnTo>
                  <a:pt x="5613" y="1368"/>
                </a:lnTo>
                <a:lnTo>
                  <a:pt x="5603" y="1378"/>
                </a:lnTo>
                <a:lnTo>
                  <a:pt x="5591" y="1386"/>
                </a:lnTo>
                <a:lnTo>
                  <a:pt x="5578" y="1391"/>
                </a:lnTo>
                <a:lnTo>
                  <a:pt x="5553" y="1396"/>
                </a:lnTo>
                <a:lnTo>
                  <a:pt x="5527" y="1394"/>
                </a:lnTo>
                <a:lnTo>
                  <a:pt x="5475" y="1391"/>
                </a:lnTo>
                <a:lnTo>
                  <a:pt x="5451" y="1394"/>
                </a:lnTo>
                <a:lnTo>
                  <a:pt x="5442" y="1397"/>
                </a:lnTo>
                <a:lnTo>
                  <a:pt x="5429" y="1404"/>
                </a:lnTo>
                <a:lnTo>
                  <a:pt x="5417" y="1415"/>
                </a:lnTo>
                <a:lnTo>
                  <a:pt x="5397" y="1438"/>
                </a:lnTo>
                <a:lnTo>
                  <a:pt x="5382" y="1457"/>
                </a:lnTo>
                <a:lnTo>
                  <a:pt x="5374" y="1467"/>
                </a:lnTo>
                <a:lnTo>
                  <a:pt x="5353" y="1483"/>
                </a:lnTo>
                <a:lnTo>
                  <a:pt x="5329" y="1493"/>
                </a:lnTo>
                <a:lnTo>
                  <a:pt x="5303" y="1499"/>
                </a:lnTo>
                <a:lnTo>
                  <a:pt x="5275" y="1500"/>
                </a:lnTo>
                <a:lnTo>
                  <a:pt x="5248" y="1497"/>
                </a:lnTo>
                <a:lnTo>
                  <a:pt x="5235" y="1494"/>
                </a:lnTo>
                <a:lnTo>
                  <a:pt x="5220" y="1491"/>
                </a:lnTo>
                <a:lnTo>
                  <a:pt x="5194" y="1481"/>
                </a:lnTo>
                <a:lnTo>
                  <a:pt x="5142" y="1459"/>
                </a:lnTo>
                <a:lnTo>
                  <a:pt x="5116" y="1455"/>
                </a:lnTo>
                <a:lnTo>
                  <a:pt x="5091" y="1455"/>
                </a:lnTo>
                <a:lnTo>
                  <a:pt x="5080" y="1458"/>
                </a:lnTo>
                <a:lnTo>
                  <a:pt x="5067" y="1464"/>
                </a:lnTo>
                <a:lnTo>
                  <a:pt x="5045" y="1480"/>
                </a:lnTo>
                <a:lnTo>
                  <a:pt x="5026" y="1500"/>
                </a:lnTo>
                <a:lnTo>
                  <a:pt x="5013" y="1525"/>
                </a:lnTo>
                <a:lnTo>
                  <a:pt x="5009" y="1551"/>
                </a:lnTo>
                <a:lnTo>
                  <a:pt x="5013" y="1575"/>
                </a:lnTo>
                <a:lnTo>
                  <a:pt x="5022" y="1587"/>
                </a:lnTo>
                <a:lnTo>
                  <a:pt x="5027" y="1596"/>
                </a:lnTo>
                <a:lnTo>
                  <a:pt x="5043" y="1612"/>
                </a:lnTo>
                <a:lnTo>
                  <a:pt x="5075" y="1642"/>
                </a:lnTo>
                <a:lnTo>
                  <a:pt x="5084" y="1658"/>
                </a:lnTo>
                <a:lnTo>
                  <a:pt x="5085" y="1665"/>
                </a:lnTo>
                <a:lnTo>
                  <a:pt x="5084" y="1672"/>
                </a:lnTo>
                <a:lnTo>
                  <a:pt x="5080" y="1680"/>
                </a:lnTo>
                <a:lnTo>
                  <a:pt x="5080" y="1680"/>
                </a:lnTo>
                <a:lnTo>
                  <a:pt x="5071" y="1688"/>
                </a:lnTo>
                <a:lnTo>
                  <a:pt x="5051" y="1701"/>
                </a:lnTo>
                <a:lnTo>
                  <a:pt x="5027" y="1710"/>
                </a:lnTo>
                <a:lnTo>
                  <a:pt x="4978" y="1728"/>
                </a:lnTo>
                <a:lnTo>
                  <a:pt x="4943" y="1743"/>
                </a:lnTo>
                <a:lnTo>
                  <a:pt x="4930" y="1754"/>
                </a:lnTo>
                <a:lnTo>
                  <a:pt x="4906" y="1774"/>
                </a:lnTo>
                <a:lnTo>
                  <a:pt x="4862" y="1819"/>
                </a:lnTo>
                <a:lnTo>
                  <a:pt x="4817" y="1854"/>
                </a:lnTo>
                <a:lnTo>
                  <a:pt x="4806" y="1858"/>
                </a:lnTo>
                <a:lnTo>
                  <a:pt x="4768" y="1871"/>
                </a:lnTo>
                <a:lnTo>
                  <a:pt x="4690" y="1883"/>
                </a:lnTo>
                <a:lnTo>
                  <a:pt x="4612" y="1885"/>
                </a:lnTo>
                <a:lnTo>
                  <a:pt x="4452" y="1887"/>
                </a:lnTo>
                <a:lnTo>
                  <a:pt x="4336" y="1910"/>
                </a:lnTo>
                <a:lnTo>
                  <a:pt x="4322" y="1916"/>
                </a:lnTo>
                <a:lnTo>
                  <a:pt x="4297" y="1932"/>
                </a:lnTo>
                <a:lnTo>
                  <a:pt x="4274" y="1952"/>
                </a:lnTo>
                <a:lnTo>
                  <a:pt x="4223" y="1988"/>
                </a:lnTo>
                <a:lnTo>
                  <a:pt x="4178" y="1996"/>
                </a:lnTo>
                <a:lnTo>
                  <a:pt x="4171" y="1996"/>
                </a:lnTo>
                <a:lnTo>
                  <a:pt x="4160" y="1991"/>
                </a:lnTo>
                <a:lnTo>
                  <a:pt x="4134" y="1983"/>
                </a:lnTo>
                <a:lnTo>
                  <a:pt x="4121" y="1981"/>
                </a:lnTo>
                <a:lnTo>
                  <a:pt x="4106" y="1983"/>
                </a:lnTo>
                <a:lnTo>
                  <a:pt x="4099" y="1985"/>
                </a:lnTo>
                <a:lnTo>
                  <a:pt x="4096" y="1987"/>
                </a:lnTo>
                <a:lnTo>
                  <a:pt x="4094" y="1987"/>
                </a:lnTo>
                <a:lnTo>
                  <a:pt x="4093" y="1985"/>
                </a:lnTo>
                <a:lnTo>
                  <a:pt x="4093" y="1983"/>
                </a:lnTo>
                <a:lnTo>
                  <a:pt x="4090" y="1974"/>
                </a:lnTo>
                <a:lnTo>
                  <a:pt x="4084" y="1965"/>
                </a:lnTo>
                <a:lnTo>
                  <a:pt x="4083" y="1964"/>
                </a:lnTo>
                <a:lnTo>
                  <a:pt x="4052" y="1964"/>
                </a:lnTo>
                <a:lnTo>
                  <a:pt x="3993" y="1959"/>
                </a:lnTo>
                <a:lnTo>
                  <a:pt x="3876" y="1935"/>
                </a:lnTo>
                <a:lnTo>
                  <a:pt x="3763" y="1891"/>
                </a:lnTo>
                <a:lnTo>
                  <a:pt x="3737" y="1877"/>
                </a:lnTo>
                <a:lnTo>
                  <a:pt x="3721" y="1871"/>
                </a:lnTo>
                <a:lnTo>
                  <a:pt x="3692" y="1858"/>
                </a:lnTo>
                <a:lnTo>
                  <a:pt x="3631" y="1842"/>
                </a:lnTo>
                <a:lnTo>
                  <a:pt x="3570" y="1838"/>
                </a:lnTo>
                <a:lnTo>
                  <a:pt x="3555" y="1839"/>
                </a:lnTo>
                <a:lnTo>
                  <a:pt x="3499" y="1846"/>
                </a:lnTo>
                <a:lnTo>
                  <a:pt x="3379" y="1859"/>
                </a:lnTo>
                <a:lnTo>
                  <a:pt x="3140" y="1843"/>
                </a:lnTo>
                <a:lnTo>
                  <a:pt x="3040" y="1797"/>
                </a:lnTo>
                <a:lnTo>
                  <a:pt x="2961" y="1713"/>
                </a:lnTo>
                <a:lnTo>
                  <a:pt x="2935" y="1654"/>
                </a:lnTo>
                <a:lnTo>
                  <a:pt x="2932" y="1648"/>
                </a:lnTo>
                <a:lnTo>
                  <a:pt x="2925" y="1635"/>
                </a:lnTo>
                <a:lnTo>
                  <a:pt x="2908" y="1609"/>
                </a:lnTo>
                <a:lnTo>
                  <a:pt x="2885" y="1590"/>
                </a:lnTo>
                <a:lnTo>
                  <a:pt x="2879" y="1585"/>
                </a:lnTo>
                <a:lnTo>
                  <a:pt x="2867" y="1581"/>
                </a:lnTo>
                <a:lnTo>
                  <a:pt x="2847" y="1574"/>
                </a:lnTo>
                <a:lnTo>
                  <a:pt x="2805" y="1559"/>
                </a:lnTo>
                <a:lnTo>
                  <a:pt x="2763" y="1546"/>
                </a:lnTo>
                <a:lnTo>
                  <a:pt x="2753" y="1542"/>
                </a:lnTo>
                <a:lnTo>
                  <a:pt x="2741" y="1539"/>
                </a:lnTo>
                <a:lnTo>
                  <a:pt x="2722" y="1529"/>
                </a:lnTo>
                <a:lnTo>
                  <a:pt x="2705" y="1514"/>
                </a:lnTo>
                <a:lnTo>
                  <a:pt x="2669" y="1486"/>
                </a:lnTo>
                <a:lnTo>
                  <a:pt x="2638" y="1471"/>
                </a:lnTo>
                <a:lnTo>
                  <a:pt x="2611" y="1467"/>
                </a:lnTo>
                <a:lnTo>
                  <a:pt x="2556" y="1459"/>
                </a:lnTo>
                <a:lnTo>
                  <a:pt x="2450" y="1457"/>
                </a:lnTo>
                <a:lnTo>
                  <a:pt x="2344" y="1442"/>
                </a:lnTo>
                <a:lnTo>
                  <a:pt x="2320" y="1433"/>
                </a:lnTo>
                <a:lnTo>
                  <a:pt x="2312" y="1430"/>
                </a:lnTo>
                <a:lnTo>
                  <a:pt x="2301" y="1423"/>
                </a:lnTo>
                <a:lnTo>
                  <a:pt x="2294" y="1412"/>
                </a:lnTo>
                <a:lnTo>
                  <a:pt x="2286" y="1399"/>
                </a:lnTo>
                <a:lnTo>
                  <a:pt x="2278" y="1371"/>
                </a:lnTo>
                <a:lnTo>
                  <a:pt x="2276" y="1364"/>
                </a:lnTo>
                <a:lnTo>
                  <a:pt x="2273" y="1354"/>
                </a:lnTo>
                <a:lnTo>
                  <a:pt x="2276" y="1344"/>
                </a:lnTo>
                <a:lnTo>
                  <a:pt x="2280" y="1335"/>
                </a:lnTo>
                <a:lnTo>
                  <a:pt x="2286" y="1326"/>
                </a:lnTo>
                <a:lnTo>
                  <a:pt x="2294" y="1317"/>
                </a:lnTo>
                <a:lnTo>
                  <a:pt x="2311" y="1303"/>
                </a:lnTo>
                <a:lnTo>
                  <a:pt x="2327" y="1288"/>
                </a:lnTo>
                <a:lnTo>
                  <a:pt x="2333" y="1281"/>
                </a:lnTo>
                <a:lnTo>
                  <a:pt x="2336" y="1273"/>
                </a:lnTo>
                <a:lnTo>
                  <a:pt x="2337" y="1264"/>
                </a:lnTo>
                <a:lnTo>
                  <a:pt x="2337" y="1264"/>
                </a:lnTo>
                <a:lnTo>
                  <a:pt x="2334" y="1255"/>
                </a:lnTo>
                <a:lnTo>
                  <a:pt x="2336" y="1235"/>
                </a:lnTo>
                <a:lnTo>
                  <a:pt x="2337" y="1216"/>
                </a:lnTo>
                <a:lnTo>
                  <a:pt x="2341" y="1183"/>
                </a:lnTo>
                <a:lnTo>
                  <a:pt x="2337" y="1164"/>
                </a:lnTo>
                <a:lnTo>
                  <a:pt x="2327" y="1154"/>
                </a:lnTo>
                <a:lnTo>
                  <a:pt x="2309" y="1131"/>
                </a:lnTo>
                <a:lnTo>
                  <a:pt x="2282" y="1077"/>
                </a:lnTo>
                <a:lnTo>
                  <a:pt x="2254" y="1026"/>
                </a:lnTo>
                <a:lnTo>
                  <a:pt x="2247" y="1013"/>
                </a:lnTo>
                <a:lnTo>
                  <a:pt x="2234" y="1000"/>
                </a:lnTo>
                <a:lnTo>
                  <a:pt x="2221" y="989"/>
                </a:lnTo>
                <a:lnTo>
                  <a:pt x="2208" y="981"/>
                </a:lnTo>
                <a:lnTo>
                  <a:pt x="2194" y="975"/>
                </a:lnTo>
                <a:lnTo>
                  <a:pt x="2163" y="971"/>
                </a:lnTo>
                <a:lnTo>
                  <a:pt x="2131" y="970"/>
                </a:lnTo>
                <a:lnTo>
                  <a:pt x="2069" y="957"/>
                </a:lnTo>
                <a:lnTo>
                  <a:pt x="2069" y="957"/>
                </a:lnTo>
                <a:lnTo>
                  <a:pt x="2054" y="951"/>
                </a:lnTo>
                <a:lnTo>
                  <a:pt x="2028" y="933"/>
                </a:lnTo>
                <a:lnTo>
                  <a:pt x="1979" y="896"/>
                </a:lnTo>
                <a:lnTo>
                  <a:pt x="1931" y="857"/>
                </a:lnTo>
                <a:lnTo>
                  <a:pt x="1920" y="847"/>
                </a:lnTo>
                <a:lnTo>
                  <a:pt x="1927" y="844"/>
                </a:lnTo>
                <a:lnTo>
                  <a:pt x="1931" y="842"/>
                </a:lnTo>
                <a:lnTo>
                  <a:pt x="1936" y="841"/>
                </a:lnTo>
                <a:lnTo>
                  <a:pt x="1937" y="838"/>
                </a:lnTo>
                <a:lnTo>
                  <a:pt x="1937" y="833"/>
                </a:lnTo>
                <a:lnTo>
                  <a:pt x="1936" y="831"/>
                </a:lnTo>
                <a:lnTo>
                  <a:pt x="1933" y="829"/>
                </a:lnTo>
                <a:lnTo>
                  <a:pt x="1930" y="826"/>
                </a:lnTo>
                <a:lnTo>
                  <a:pt x="1921" y="819"/>
                </a:lnTo>
                <a:lnTo>
                  <a:pt x="1915" y="813"/>
                </a:lnTo>
                <a:lnTo>
                  <a:pt x="1915" y="812"/>
                </a:lnTo>
                <a:lnTo>
                  <a:pt x="1915" y="806"/>
                </a:lnTo>
                <a:lnTo>
                  <a:pt x="1920" y="784"/>
                </a:lnTo>
                <a:lnTo>
                  <a:pt x="1921" y="768"/>
                </a:lnTo>
                <a:lnTo>
                  <a:pt x="1923" y="767"/>
                </a:lnTo>
                <a:lnTo>
                  <a:pt x="1914" y="761"/>
                </a:lnTo>
                <a:lnTo>
                  <a:pt x="1905" y="758"/>
                </a:lnTo>
                <a:lnTo>
                  <a:pt x="1898" y="757"/>
                </a:lnTo>
                <a:lnTo>
                  <a:pt x="1891" y="758"/>
                </a:lnTo>
                <a:lnTo>
                  <a:pt x="1885" y="761"/>
                </a:lnTo>
                <a:lnTo>
                  <a:pt x="1878" y="765"/>
                </a:lnTo>
                <a:lnTo>
                  <a:pt x="1865" y="773"/>
                </a:lnTo>
                <a:lnTo>
                  <a:pt x="1852" y="777"/>
                </a:lnTo>
                <a:lnTo>
                  <a:pt x="1844" y="777"/>
                </a:lnTo>
                <a:lnTo>
                  <a:pt x="1837" y="773"/>
                </a:lnTo>
                <a:lnTo>
                  <a:pt x="1837" y="773"/>
                </a:lnTo>
                <a:lnTo>
                  <a:pt x="1837" y="773"/>
                </a:lnTo>
                <a:close/>
              </a:path>
            </a:pathLst>
          </a:custGeom>
          <a:noFill/>
          <a:ln w="4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08480" y="2843280"/>
            <a:ext cx="404640" cy="279360"/>
          </a:xfrm>
          <a:custGeom>
            <a:avLst/>
            <a:gdLst/>
            <a:ahLst/>
            <a:rect l="l" t="t" r="r" b="b"/>
            <a:pathLst>
              <a:path w="1408" h="1023">
                <a:moveTo>
                  <a:pt x="390" y="852"/>
                </a:moveTo>
                <a:lnTo>
                  <a:pt x="385" y="855"/>
                </a:lnTo>
                <a:lnTo>
                  <a:pt x="381" y="857"/>
                </a:lnTo>
                <a:lnTo>
                  <a:pt x="377" y="862"/>
                </a:lnTo>
                <a:lnTo>
                  <a:pt x="368" y="873"/>
                </a:lnTo>
                <a:lnTo>
                  <a:pt x="348" y="894"/>
                </a:lnTo>
                <a:lnTo>
                  <a:pt x="327" y="898"/>
                </a:lnTo>
                <a:lnTo>
                  <a:pt x="327" y="901"/>
                </a:lnTo>
                <a:lnTo>
                  <a:pt x="327" y="904"/>
                </a:lnTo>
                <a:lnTo>
                  <a:pt x="327" y="911"/>
                </a:lnTo>
                <a:lnTo>
                  <a:pt x="327" y="914"/>
                </a:lnTo>
                <a:lnTo>
                  <a:pt x="327" y="914"/>
                </a:lnTo>
                <a:lnTo>
                  <a:pt x="323" y="917"/>
                </a:lnTo>
                <a:lnTo>
                  <a:pt x="319" y="917"/>
                </a:lnTo>
                <a:lnTo>
                  <a:pt x="316" y="917"/>
                </a:lnTo>
                <a:lnTo>
                  <a:pt x="311" y="915"/>
                </a:lnTo>
                <a:lnTo>
                  <a:pt x="304" y="913"/>
                </a:lnTo>
                <a:lnTo>
                  <a:pt x="298" y="908"/>
                </a:lnTo>
                <a:lnTo>
                  <a:pt x="291" y="905"/>
                </a:lnTo>
                <a:lnTo>
                  <a:pt x="285" y="902"/>
                </a:lnTo>
                <a:lnTo>
                  <a:pt x="285" y="902"/>
                </a:lnTo>
                <a:lnTo>
                  <a:pt x="272" y="904"/>
                </a:lnTo>
                <a:lnTo>
                  <a:pt x="249" y="907"/>
                </a:lnTo>
                <a:lnTo>
                  <a:pt x="206" y="914"/>
                </a:lnTo>
                <a:lnTo>
                  <a:pt x="158" y="914"/>
                </a:lnTo>
                <a:lnTo>
                  <a:pt x="146" y="911"/>
                </a:lnTo>
                <a:lnTo>
                  <a:pt x="142" y="911"/>
                </a:lnTo>
                <a:lnTo>
                  <a:pt x="139" y="913"/>
                </a:lnTo>
                <a:lnTo>
                  <a:pt x="139" y="915"/>
                </a:lnTo>
                <a:lnTo>
                  <a:pt x="137" y="920"/>
                </a:lnTo>
                <a:lnTo>
                  <a:pt x="139" y="924"/>
                </a:lnTo>
                <a:lnTo>
                  <a:pt x="139" y="936"/>
                </a:lnTo>
                <a:lnTo>
                  <a:pt x="136" y="944"/>
                </a:lnTo>
                <a:lnTo>
                  <a:pt x="127" y="950"/>
                </a:lnTo>
                <a:lnTo>
                  <a:pt x="122" y="950"/>
                </a:lnTo>
                <a:lnTo>
                  <a:pt x="123" y="956"/>
                </a:lnTo>
                <a:lnTo>
                  <a:pt x="127" y="966"/>
                </a:lnTo>
                <a:lnTo>
                  <a:pt x="139" y="982"/>
                </a:lnTo>
                <a:lnTo>
                  <a:pt x="146" y="986"/>
                </a:lnTo>
                <a:lnTo>
                  <a:pt x="156" y="988"/>
                </a:lnTo>
                <a:lnTo>
                  <a:pt x="164" y="985"/>
                </a:lnTo>
                <a:lnTo>
                  <a:pt x="164" y="988"/>
                </a:lnTo>
                <a:lnTo>
                  <a:pt x="164" y="992"/>
                </a:lnTo>
                <a:lnTo>
                  <a:pt x="164" y="995"/>
                </a:lnTo>
                <a:lnTo>
                  <a:pt x="161" y="998"/>
                </a:lnTo>
                <a:lnTo>
                  <a:pt x="159" y="999"/>
                </a:lnTo>
                <a:lnTo>
                  <a:pt x="156" y="1001"/>
                </a:lnTo>
                <a:lnTo>
                  <a:pt x="155" y="1001"/>
                </a:lnTo>
                <a:lnTo>
                  <a:pt x="152" y="1002"/>
                </a:lnTo>
                <a:lnTo>
                  <a:pt x="148" y="1004"/>
                </a:lnTo>
                <a:lnTo>
                  <a:pt x="137" y="1004"/>
                </a:lnTo>
                <a:lnTo>
                  <a:pt x="132" y="1002"/>
                </a:lnTo>
                <a:lnTo>
                  <a:pt x="132" y="1001"/>
                </a:lnTo>
                <a:lnTo>
                  <a:pt x="124" y="989"/>
                </a:lnTo>
                <a:lnTo>
                  <a:pt x="116" y="981"/>
                </a:lnTo>
                <a:lnTo>
                  <a:pt x="106" y="975"/>
                </a:lnTo>
                <a:lnTo>
                  <a:pt x="94" y="972"/>
                </a:lnTo>
                <a:lnTo>
                  <a:pt x="82" y="971"/>
                </a:lnTo>
                <a:lnTo>
                  <a:pt x="58" y="971"/>
                </a:lnTo>
                <a:lnTo>
                  <a:pt x="33" y="972"/>
                </a:lnTo>
                <a:lnTo>
                  <a:pt x="13" y="968"/>
                </a:lnTo>
                <a:lnTo>
                  <a:pt x="6" y="962"/>
                </a:lnTo>
                <a:lnTo>
                  <a:pt x="1" y="956"/>
                </a:lnTo>
                <a:lnTo>
                  <a:pt x="0" y="949"/>
                </a:lnTo>
                <a:lnTo>
                  <a:pt x="0" y="942"/>
                </a:lnTo>
                <a:lnTo>
                  <a:pt x="3" y="934"/>
                </a:lnTo>
                <a:lnTo>
                  <a:pt x="7" y="927"/>
                </a:lnTo>
                <a:lnTo>
                  <a:pt x="13" y="921"/>
                </a:lnTo>
                <a:lnTo>
                  <a:pt x="20" y="917"/>
                </a:lnTo>
                <a:lnTo>
                  <a:pt x="29" y="913"/>
                </a:lnTo>
                <a:lnTo>
                  <a:pt x="39" y="910"/>
                </a:lnTo>
                <a:lnTo>
                  <a:pt x="48" y="910"/>
                </a:lnTo>
                <a:lnTo>
                  <a:pt x="58" y="911"/>
                </a:lnTo>
                <a:lnTo>
                  <a:pt x="68" y="915"/>
                </a:lnTo>
                <a:lnTo>
                  <a:pt x="69" y="915"/>
                </a:lnTo>
                <a:lnTo>
                  <a:pt x="72" y="917"/>
                </a:lnTo>
                <a:lnTo>
                  <a:pt x="78" y="917"/>
                </a:lnTo>
                <a:lnTo>
                  <a:pt x="84" y="914"/>
                </a:lnTo>
                <a:lnTo>
                  <a:pt x="90" y="911"/>
                </a:lnTo>
                <a:lnTo>
                  <a:pt x="104" y="900"/>
                </a:lnTo>
                <a:lnTo>
                  <a:pt x="137" y="875"/>
                </a:lnTo>
                <a:lnTo>
                  <a:pt x="155" y="862"/>
                </a:lnTo>
                <a:lnTo>
                  <a:pt x="155" y="859"/>
                </a:lnTo>
                <a:lnTo>
                  <a:pt x="155" y="857"/>
                </a:lnTo>
                <a:lnTo>
                  <a:pt x="155" y="853"/>
                </a:lnTo>
                <a:lnTo>
                  <a:pt x="155" y="849"/>
                </a:lnTo>
                <a:lnTo>
                  <a:pt x="156" y="847"/>
                </a:lnTo>
                <a:lnTo>
                  <a:pt x="161" y="847"/>
                </a:lnTo>
                <a:lnTo>
                  <a:pt x="165" y="846"/>
                </a:lnTo>
                <a:lnTo>
                  <a:pt x="177" y="847"/>
                </a:lnTo>
                <a:lnTo>
                  <a:pt x="198" y="847"/>
                </a:lnTo>
                <a:lnTo>
                  <a:pt x="211" y="836"/>
                </a:lnTo>
                <a:lnTo>
                  <a:pt x="217" y="823"/>
                </a:lnTo>
                <a:lnTo>
                  <a:pt x="224" y="810"/>
                </a:lnTo>
                <a:lnTo>
                  <a:pt x="245" y="791"/>
                </a:lnTo>
                <a:lnTo>
                  <a:pt x="269" y="776"/>
                </a:lnTo>
                <a:lnTo>
                  <a:pt x="295" y="765"/>
                </a:lnTo>
                <a:lnTo>
                  <a:pt x="348" y="739"/>
                </a:lnTo>
                <a:lnTo>
                  <a:pt x="349" y="739"/>
                </a:lnTo>
                <a:lnTo>
                  <a:pt x="352" y="739"/>
                </a:lnTo>
                <a:lnTo>
                  <a:pt x="356" y="737"/>
                </a:lnTo>
                <a:lnTo>
                  <a:pt x="361" y="739"/>
                </a:lnTo>
                <a:lnTo>
                  <a:pt x="365" y="740"/>
                </a:lnTo>
                <a:lnTo>
                  <a:pt x="375" y="746"/>
                </a:lnTo>
                <a:lnTo>
                  <a:pt x="382" y="755"/>
                </a:lnTo>
                <a:lnTo>
                  <a:pt x="387" y="765"/>
                </a:lnTo>
                <a:lnTo>
                  <a:pt x="387" y="776"/>
                </a:lnTo>
                <a:lnTo>
                  <a:pt x="387" y="776"/>
                </a:lnTo>
                <a:lnTo>
                  <a:pt x="403" y="778"/>
                </a:lnTo>
                <a:lnTo>
                  <a:pt x="432" y="772"/>
                </a:lnTo>
                <a:lnTo>
                  <a:pt x="459" y="759"/>
                </a:lnTo>
                <a:lnTo>
                  <a:pt x="484" y="742"/>
                </a:lnTo>
                <a:lnTo>
                  <a:pt x="537" y="707"/>
                </a:lnTo>
                <a:lnTo>
                  <a:pt x="552" y="700"/>
                </a:lnTo>
                <a:lnTo>
                  <a:pt x="552" y="704"/>
                </a:lnTo>
                <a:lnTo>
                  <a:pt x="550" y="708"/>
                </a:lnTo>
                <a:lnTo>
                  <a:pt x="549" y="715"/>
                </a:lnTo>
                <a:lnTo>
                  <a:pt x="546" y="724"/>
                </a:lnTo>
                <a:lnTo>
                  <a:pt x="543" y="731"/>
                </a:lnTo>
                <a:lnTo>
                  <a:pt x="542" y="736"/>
                </a:lnTo>
                <a:lnTo>
                  <a:pt x="543" y="737"/>
                </a:lnTo>
                <a:lnTo>
                  <a:pt x="545" y="737"/>
                </a:lnTo>
                <a:lnTo>
                  <a:pt x="552" y="740"/>
                </a:lnTo>
                <a:lnTo>
                  <a:pt x="568" y="742"/>
                </a:lnTo>
                <a:lnTo>
                  <a:pt x="585" y="740"/>
                </a:lnTo>
                <a:lnTo>
                  <a:pt x="620" y="731"/>
                </a:lnTo>
                <a:lnTo>
                  <a:pt x="645" y="723"/>
                </a:lnTo>
                <a:lnTo>
                  <a:pt x="647" y="721"/>
                </a:lnTo>
                <a:lnTo>
                  <a:pt x="650" y="718"/>
                </a:lnTo>
                <a:lnTo>
                  <a:pt x="653" y="715"/>
                </a:lnTo>
                <a:lnTo>
                  <a:pt x="653" y="711"/>
                </a:lnTo>
                <a:lnTo>
                  <a:pt x="655" y="707"/>
                </a:lnTo>
                <a:lnTo>
                  <a:pt x="655" y="697"/>
                </a:lnTo>
                <a:lnTo>
                  <a:pt x="653" y="688"/>
                </a:lnTo>
                <a:lnTo>
                  <a:pt x="655" y="681"/>
                </a:lnTo>
                <a:lnTo>
                  <a:pt x="658" y="676"/>
                </a:lnTo>
                <a:lnTo>
                  <a:pt x="665" y="668"/>
                </a:lnTo>
                <a:lnTo>
                  <a:pt x="681" y="655"/>
                </a:lnTo>
                <a:lnTo>
                  <a:pt x="698" y="643"/>
                </a:lnTo>
                <a:lnTo>
                  <a:pt x="730" y="620"/>
                </a:lnTo>
                <a:lnTo>
                  <a:pt x="747" y="595"/>
                </a:lnTo>
                <a:lnTo>
                  <a:pt x="749" y="589"/>
                </a:lnTo>
                <a:lnTo>
                  <a:pt x="750" y="582"/>
                </a:lnTo>
                <a:lnTo>
                  <a:pt x="749" y="568"/>
                </a:lnTo>
                <a:lnTo>
                  <a:pt x="746" y="552"/>
                </a:lnTo>
                <a:lnTo>
                  <a:pt x="739" y="524"/>
                </a:lnTo>
                <a:lnTo>
                  <a:pt x="740" y="511"/>
                </a:lnTo>
                <a:lnTo>
                  <a:pt x="740" y="507"/>
                </a:lnTo>
                <a:lnTo>
                  <a:pt x="746" y="497"/>
                </a:lnTo>
                <a:lnTo>
                  <a:pt x="752" y="485"/>
                </a:lnTo>
                <a:lnTo>
                  <a:pt x="769" y="463"/>
                </a:lnTo>
                <a:lnTo>
                  <a:pt x="785" y="449"/>
                </a:lnTo>
                <a:lnTo>
                  <a:pt x="785" y="456"/>
                </a:lnTo>
                <a:lnTo>
                  <a:pt x="784" y="471"/>
                </a:lnTo>
                <a:lnTo>
                  <a:pt x="778" y="500"/>
                </a:lnTo>
                <a:lnTo>
                  <a:pt x="775" y="529"/>
                </a:lnTo>
                <a:lnTo>
                  <a:pt x="776" y="536"/>
                </a:lnTo>
                <a:lnTo>
                  <a:pt x="778" y="536"/>
                </a:lnTo>
                <a:lnTo>
                  <a:pt x="781" y="536"/>
                </a:lnTo>
                <a:lnTo>
                  <a:pt x="784" y="536"/>
                </a:lnTo>
                <a:lnTo>
                  <a:pt x="785" y="537"/>
                </a:lnTo>
                <a:lnTo>
                  <a:pt x="787" y="539"/>
                </a:lnTo>
                <a:lnTo>
                  <a:pt x="791" y="542"/>
                </a:lnTo>
                <a:lnTo>
                  <a:pt x="800" y="546"/>
                </a:lnTo>
                <a:lnTo>
                  <a:pt x="802" y="544"/>
                </a:lnTo>
                <a:lnTo>
                  <a:pt x="801" y="549"/>
                </a:lnTo>
                <a:lnTo>
                  <a:pt x="801" y="556"/>
                </a:lnTo>
                <a:lnTo>
                  <a:pt x="801" y="571"/>
                </a:lnTo>
                <a:lnTo>
                  <a:pt x="802" y="584"/>
                </a:lnTo>
                <a:lnTo>
                  <a:pt x="804" y="587"/>
                </a:lnTo>
                <a:lnTo>
                  <a:pt x="807" y="588"/>
                </a:lnTo>
                <a:lnTo>
                  <a:pt x="808" y="588"/>
                </a:lnTo>
                <a:lnTo>
                  <a:pt x="811" y="588"/>
                </a:lnTo>
                <a:lnTo>
                  <a:pt x="817" y="588"/>
                </a:lnTo>
                <a:lnTo>
                  <a:pt x="820" y="587"/>
                </a:lnTo>
                <a:lnTo>
                  <a:pt x="818" y="581"/>
                </a:lnTo>
                <a:lnTo>
                  <a:pt x="820" y="569"/>
                </a:lnTo>
                <a:lnTo>
                  <a:pt x="824" y="558"/>
                </a:lnTo>
                <a:lnTo>
                  <a:pt x="830" y="547"/>
                </a:lnTo>
                <a:lnTo>
                  <a:pt x="836" y="540"/>
                </a:lnTo>
                <a:lnTo>
                  <a:pt x="843" y="534"/>
                </a:lnTo>
                <a:lnTo>
                  <a:pt x="847" y="531"/>
                </a:lnTo>
                <a:lnTo>
                  <a:pt x="865" y="523"/>
                </a:lnTo>
                <a:lnTo>
                  <a:pt x="901" y="504"/>
                </a:lnTo>
                <a:lnTo>
                  <a:pt x="972" y="462"/>
                </a:lnTo>
                <a:lnTo>
                  <a:pt x="1039" y="413"/>
                </a:lnTo>
                <a:lnTo>
                  <a:pt x="1056" y="400"/>
                </a:lnTo>
                <a:lnTo>
                  <a:pt x="1059" y="397"/>
                </a:lnTo>
                <a:lnTo>
                  <a:pt x="1069" y="391"/>
                </a:lnTo>
                <a:lnTo>
                  <a:pt x="1091" y="382"/>
                </a:lnTo>
                <a:lnTo>
                  <a:pt x="1115" y="379"/>
                </a:lnTo>
                <a:lnTo>
                  <a:pt x="1123" y="379"/>
                </a:lnTo>
                <a:lnTo>
                  <a:pt x="1123" y="374"/>
                </a:lnTo>
                <a:lnTo>
                  <a:pt x="1124" y="366"/>
                </a:lnTo>
                <a:lnTo>
                  <a:pt x="1127" y="362"/>
                </a:lnTo>
                <a:lnTo>
                  <a:pt x="1130" y="356"/>
                </a:lnTo>
                <a:lnTo>
                  <a:pt x="1139" y="347"/>
                </a:lnTo>
                <a:lnTo>
                  <a:pt x="1147" y="339"/>
                </a:lnTo>
                <a:lnTo>
                  <a:pt x="1153" y="330"/>
                </a:lnTo>
                <a:lnTo>
                  <a:pt x="1155" y="320"/>
                </a:lnTo>
                <a:lnTo>
                  <a:pt x="1155" y="320"/>
                </a:lnTo>
                <a:lnTo>
                  <a:pt x="1152" y="316"/>
                </a:lnTo>
                <a:lnTo>
                  <a:pt x="1144" y="305"/>
                </a:lnTo>
                <a:lnTo>
                  <a:pt x="1136" y="297"/>
                </a:lnTo>
                <a:lnTo>
                  <a:pt x="1126" y="289"/>
                </a:lnTo>
                <a:lnTo>
                  <a:pt x="1114" y="285"/>
                </a:lnTo>
                <a:lnTo>
                  <a:pt x="1102" y="285"/>
                </a:lnTo>
                <a:lnTo>
                  <a:pt x="1097" y="285"/>
                </a:lnTo>
                <a:lnTo>
                  <a:pt x="1110" y="276"/>
                </a:lnTo>
                <a:lnTo>
                  <a:pt x="1134" y="255"/>
                </a:lnTo>
                <a:lnTo>
                  <a:pt x="1153" y="230"/>
                </a:lnTo>
                <a:lnTo>
                  <a:pt x="1166" y="203"/>
                </a:lnTo>
                <a:lnTo>
                  <a:pt x="1173" y="172"/>
                </a:lnTo>
                <a:lnTo>
                  <a:pt x="1175" y="139"/>
                </a:lnTo>
                <a:lnTo>
                  <a:pt x="1173" y="120"/>
                </a:lnTo>
                <a:lnTo>
                  <a:pt x="1173" y="110"/>
                </a:lnTo>
                <a:lnTo>
                  <a:pt x="1176" y="100"/>
                </a:lnTo>
                <a:lnTo>
                  <a:pt x="1181" y="91"/>
                </a:lnTo>
                <a:lnTo>
                  <a:pt x="1188" y="82"/>
                </a:lnTo>
                <a:lnTo>
                  <a:pt x="1197" y="76"/>
                </a:lnTo>
                <a:lnTo>
                  <a:pt x="1218" y="62"/>
                </a:lnTo>
                <a:lnTo>
                  <a:pt x="1260" y="34"/>
                </a:lnTo>
                <a:lnTo>
                  <a:pt x="1270" y="24"/>
                </a:lnTo>
                <a:lnTo>
                  <a:pt x="1275" y="34"/>
                </a:lnTo>
                <a:lnTo>
                  <a:pt x="1288" y="52"/>
                </a:lnTo>
                <a:lnTo>
                  <a:pt x="1305" y="65"/>
                </a:lnTo>
                <a:lnTo>
                  <a:pt x="1325" y="72"/>
                </a:lnTo>
                <a:lnTo>
                  <a:pt x="1347" y="72"/>
                </a:lnTo>
                <a:lnTo>
                  <a:pt x="1370" y="65"/>
                </a:lnTo>
                <a:lnTo>
                  <a:pt x="1382" y="58"/>
                </a:lnTo>
                <a:lnTo>
                  <a:pt x="1382" y="55"/>
                </a:lnTo>
                <a:lnTo>
                  <a:pt x="1382" y="53"/>
                </a:lnTo>
                <a:lnTo>
                  <a:pt x="1382" y="47"/>
                </a:lnTo>
                <a:lnTo>
                  <a:pt x="1382" y="39"/>
                </a:lnTo>
                <a:lnTo>
                  <a:pt x="1382" y="33"/>
                </a:lnTo>
                <a:lnTo>
                  <a:pt x="1378" y="34"/>
                </a:lnTo>
                <a:lnTo>
                  <a:pt x="1370" y="34"/>
                </a:lnTo>
                <a:lnTo>
                  <a:pt x="1363" y="33"/>
                </a:lnTo>
                <a:lnTo>
                  <a:pt x="1356" y="32"/>
                </a:lnTo>
                <a:lnTo>
                  <a:pt x="1341" y="26"/>
                </a:lnTo>
                <a:lnTo>
                  <a:pt x="1339" y="24"/>
                </a:lnTo>
                <a:lnTo>
                  <a:pt x="1343" y="21"/>
                </a:lnTo>
                <a:lnTo>
                  <a:pt x="1353" y="14"/>
                </a:lnTo>
                <a:lnTo>
                  <a:pt x="1376" y="5"/>
                </a:lnTo>
                <a:lnTo>
                  <a:pt x="1401" y="1"/>
                </a:lnTo>
                <a:lnTo>
                  <a:pt x="1408" y="0"/>
                </a:lnTo>
                <a:lnTo>
                  <a:pt x="1405" y="17"/>
                </a:lnTo>
                <a:lnTo>
                  <a:pt x="1402" y="50"/>
                </a:lnTo>
                <a:lnTo>
                  <a:pt x="1394" y="116"/>
                </a:lnTo>
                <a:lnTo>
                  <a:pt x="1388" y="182"/>
                </a:lnTo>
                <a:lnTo>
                  <a:pt x="1386" y="198"/>
                </a:lnTo>
                <a:lnTo>
                  <a:pt x="1385" y="204"/>
                </a:lnTo>
                <a:lnTo>
                  <a:pt x="1385" y="213"/>
                </a:lnTo>
                <a:lnTo>
                  <a:pt x="1381" y="233"/>
                </a:lnTo>
                <a:lnTo>
                  <a:pt x="1373" y="253"/>
                </a:lnTo>
                <a:lnTo>
                  <a:pt x="1372" y="258"/>
                </a:lnTo>
                <a:lnTo>
                  <a:pt x="1368" y="268"/>
                </a:lnTo>
                <a:lnTo>
                  <a:pt x="1356" y="285"/>
                </a:lnTo>
                <a:lnTo>
                  <a:pt x="1341" y="298"/>
                </a:lnTo>
                <a:lnTo>
                  <a:pt x="1308" y="324"/>
                </a:lnTo>
                <a:lnTo>
                  <a:pt x="1286" y="346"/>
                </a:lnTo>
                <a:lnTo>
                  <a:pt x="1289" y="346"/>
                </a:lnTo>
                <a:lnTo>
                  <a:pt x="1292" y="347"/>
                </a:lnTo>
                <a:lnTo>
                  <a:pt x="1294" y="349"/>
                </a:lnTo>
                <a:lnTo>
                  <a:pt x="1295" y="352"/>
                </a:lnTo>
                <a:lnTo>
                  <a:pt x="1297" y="353"/>
                </a:lnTo>
                <a:lnTo>
                  <a:pt x="1299" y="359"/>
                </a:lnTo>
                <a:lnTo>
                  <a:pt x="1308" y="363"/>
                </a:lnTo>
                <a:lnTo>
                  <a:pt x="1312" y="362"/>
                </a:lnTo>
                <a:lnTo>
                  <a:pt x="1311" y="362"/>
                </a:lnTo>
                <a:lnTo>
                  <a:pt x="1308" y="362"/>
                </a:lnTo>
                <a:lnTo>
                  <a:pt x="1302" y="362"/>
                </a:lnTo>
                <a:lnTo>
                  <a:pt x="1297" y="363"/>
                </a:lnTo>
                <a:lnTo>
                  <a:pt x="1297" y="363"/>
                </a:lnTo>
                <a:lnTo>
                  <a:pt x="1285" y="376"/>
                </a:lnTo>
                <a:lnTo>
                  <a:pt x="1276" y="389"/>
                </a:lnTo>
                <a:lnTo>
                  <a:pt x="1272" y="404"/>
                </a:lnTo>
                <a:lnTo>
                  <a:pt x="1269" y="418"/>
                </a:lnTo>
                <a:lnTo>
                  <a:pt x="1269" y="447"/>
                </a:lnTo>
                <a:lnTo>
                  <a:pt x="1272" y="478"/>
                </a:lnTo>
                <a:lnTo>
                  <a:pt x="1269" y="507"/>
                </a:lnTo>
                <a:lnTo>
                  <a:pt x="1260" y="534"/>
                </a:lnTo>
                <a:lnTo>
                  <a:pt x="1260" y="534"/>
                </a:lnTo>
                <a:lnTo>
                  <a:pt x="1255" y="542"/>
                </a:lnTo>
                <a:lnTo>
                  <a:pt x="1244" y="556"/>
                </a:lnTo>
                <a:lnTo>
                  <a:pt x="1226" y="585"/>
                </a:lnTo>
                <a:lnTo>
                  <a:pt x="1215" y="614"/>
                </a:lnTo>
                <a:lnTo>
                  <a:pt x="1215" y="621"/>
                </a:lnTo>
                <a:lnTo>
                  <a:pt x="1214" y="629"/>
                </a:lnTo>
                <a:lnTo>
                  <a:pt x="1215" y="642"/>
                </a:lnTo>
                <a:lnTo>
                  <a:pt x="1224" y="668"/>
                </a:lnTo>
                <a:lnTo>
                  <a:pt x="1244" y="688"/>
                </a:lnTo>
                <a:lnTo>
                  <a:pt x="1252" y="691"/>
                </a:lnTo>
                <a:lnTo>
                  <a:pt x="1247" y="691"/>
                </a:lnTo>
                <a:lnTo>
                  <a:pt x="1239" y="691"/>
                </a:lnTo>
                <a:lnTo>
                  <a:pt x="1230" y="694"/>
                </a:lnTo>
                <a:lnTo>
                  <a:pt x="1224" y="698"/>
                </a:lnTo>
                <a:lnTo>
                  <a:pt x="1218" y="702"/>
                </a:lnTo>
                <a:lnTo>
                  <a:pt x="1214" y="708"/>
                </a:lnTo>
                <a:lnTo>
                  <a:pt x="1212" y="710"/>
                </a:lnTo>
                <a:lnTo>
                  <a:pt x="1208" y="717"/>
                </a:lnTo>
                <a:lnTo>
                  <a:pt x="1204" y="731"/>
                </a:lnTo>
                <a:lnTo>
                  <a:pt x="1197" y="762"/>
                </a:lnTo>
                <a:lnTo>
                  <a:pt x="1185" y="788"/>
                </a:lnTo>
                <a:lnTo>
                  <a:pt x="1181" y="792"/>
                </a:lnTo>
                <a:lnTo>
                  <a:pt x="1173" y="800"/>
                </a:lnTo>
                <a:lnTo>
                  <a:pt x="1157" y="811"/>
                </a:lnTo>
                <a:lnTo>
                  <a:pt x="1140" y="820"/>
                </a:lnTo>
                <a:lnTo>
                  <a:pt x="1105" y="826"/>
                </a:lnTo>
                <a:lnTo>
                  <a:pt x="1084" y="821"/>
                </a:lnTo>
                <a:lnTo>
                  <a:pt x="1079" y="820"/>
                </a:lnTo>
                <a:lnTo>
                  <a:pt x="1078" y="815"/>
                </a:lnTo>
                <a:lnTo>
                  <a:pt x="1078" y="811"/>
                </a:lnTo>
                <a:lnTo>
                  <a:pt x="1079" y="805"/>
                </a:lnTo>
                <a:lnTo>
                  <a:pt x="1082" y="800"/>
                </a:lnTo>
                <a:lnTo>
                  <a:pt x="1088" y="786"/>
                </a:lnTo>
                <a:lnTo>
                  <a:pt x="1094" y="772"/>
                </a:lnTo>
                <a:lnTo>
                  <a:pt x="1095" y="759"/>
                </a:lnTo>
                <a:lnTo>
                  <a:pt x="1094" y="753"/>
                </a:lnTo>
                <a:lnTo>
                  <a:pt x="1091" y="752"/>
                </a:lnTo>
                <a:lnTo>
                  <a:pt x="1088" y="750"/>
                </a:lnTo>
                <a:lnTo>
                  <a:pt x="1085" y="750"/>
                </a:lnTo>
                <a:lnTo>
                  <a:pt x="1082" y="750"/>
                </a:lnTo>
                <a:lnTo>
                  <a:pt x="1079" y="752"/>
                </a:lnTo>
                <a:lnTo>
                  <a:pt x="1072" y="755"/>
                </a:lnTo>
                <a:lnTo>
                  <a:pt x="1057" y="763"/>
                </a:lnTo>
                <a:lnTo>
                  <a:pt x="1056" y="763"/>
                </a:lnTo>
                <a:lnTo>
                  <a:pt x="1049" y="769"/>
                </a:lnTo>
                <a:lnTo>
                  <a:pt x="1043" y="775"/>
                </a:lnTo>
                <a:lnTo>
                  <a:pt x="1040" y="782"/>
                </a:lnTo>
                <a:lnTo>
                  <a:pt x="1039" y="791"/>
                </a:lnTo>
                <a:lnTo>
                  <a:pt x="1036" y="808"/>
                </a:lnTo>
                <a:lnTo>
                  <a:pt x="1034" y="826"/>
                </a:lnTo>
                <a:lnTo>
                  <a:pt x="1028" y="842"/>
                </a:lnTo>
                <a:lnTo>
                  <a:pt x="1023" y="847"/>
                </a:lnTo>
                <a:lnTo>
                  <a:pt x="1017" y="852"/>
                </a:lnTo>
                <a:lnTo>
                  <a:pt x="1017" y="852"/>
                </a:lnTo>
                <a:lnTo>
                  <a:pt x="1010" y="855"/>
                </a:lnTo>
                <a:lnTo>
                  <a:pt x="1004" y="855"/>
                </a:lnTo>
                <a:lnTo>
                  <a:pt x="998" y="855"/>
                </a:lnTo>
                <a:lnTo>
                  <a:pt x="991" y="852"/>
                </a:lnTo>
                <a:lnTo>
                  <a:pt x="979" y="846"/>
                </a:lnTo>
                <a:lnTo>
                  <a:pt x="966" y="837"/>
                </a:lnTo>
                <a:lnTo>
                  <a:pt x="944" y="821"/>
                </a:lnTo>
                <a:lnTo>
                  <a:pt x="944" y="821"/>
                </a:lnTo>
                <a:lnTo>
                  <a:pt x="939" y="818"/>
                </a:lnTo>
                <a:lnTo>
                  <a:pt x="934" y="814"/>
                </a:lnTo>
                <a:lnTo>
                  <a:pt x="933" y="810"/>
                </a:lnTo>
                <a:lnTo>
                  <a:pt x="934" y="804"/>
                </a:lnTo>
                <a:lnTo>
                  <a:pt x="936" y="798"/>
                </a:lnTo>
                <a:lnTo>
                  <a:pt x="942" y="784"/>
                </a:lnTo>
                <a:lnTo>
                  <a:pt x="955" y="752"/>
                </a:lnTo>
                <a:lnTo>
                  <a:pt x="957" y="743"/>
                </a:lnTo>
                <a:lnTo>
                  <a:pt x="952" y="743"/>
                </a:lnTo>
                <a:lnTo>
                  <a:pt x="943" y="746"/>
                </a:lnTo>
                <a:lnTo>
                  <a:pt x="934" y="749"/>
                </a:lnTo>
                <a:lnTo>
                  <a:pt x="929" y="755"/>
                </a:lnTo>
                <a:lnTo>
                  <a:pt x="923" y="760"/>
                </a:lnTo>
                <a:lnTo>
                  <a:pt x="918" y="766"/>
                </a:lnTo>
                <a:lnTo>
                  <a:pt x="918" y="769"/>
                </a:lnTo>
                <a:lnTo>
                  <a:pt x="915" y="775"/>
                </a:lnTo>
                <a:lnTo>
                  <a:pt x="914" y="778"/>
                </a:lnTo>
                <a:lnTo>
                  <a:pt x="907" y="786"/>
                </a:lnTo>
                <a:lnTo>
                  <a:pt x="901" y="794"/>
                </a:lnTo>
                <a:lnTo>
                  <a:pt x="895" y="801"/>
                </a:lnTo>
                <a:lnTo>
                  <a:pt x="894" y="811"/>
                </a:lnTo>
                <a:lnTo>
                  <a:pt x="897" y="821"/>
                </a:lnTo>
                <a:lnTo>
                  <a:pt x="898" y="821"/>
                </a:lnTo>
                <a:lnTo>
                  <a:pt x="885" y="821"/>
                </a:lnTo>
                <a:lnTo>
                  <a:pt x="862" y="824"/>
                </a:lnTo>
                <a:lnTo>
                  <a:pt x="814" y="830"/>
                </a:lnTo>
                <a:lnTo>
                  <a:pt x="791" y="829"/>
                </a:lnTo>
                <a:lnTo>
                  <a:pt x="769" y="820"/>
                </a:lnTo>
                <a:lnTo>
                  <a:pt x="759" y="811"/>
                </a:lnTo>
                <a:lnTo>
                  <a:pt x="759" y="815"/>
                </a:lnTo>
                <a:lnTo>
                  <a:pt x="759" y="820"/>
                </a:lnTo>
                <a:lnTo>
                  <a:pt x="758" y="824"/>
                </a:lnTo>
                <a:lnTo>
                  <a:pt x="756" y="829"/>
                </a:lnTo>
                <a:lnTo>
                  <a:pt x="752" y="836"/>
                </a:lnTo>
                <a:lnTo>
                  <a:pt x="749" y="843"/>
                </a:lnTo>
                <a:lnTo>
                  <a:pt x="747" y="849"/>
                </a:lnTo>
                <a:lnTo>
                  <a:pt x="750" y="853"/>
                </a:lnTo>
                <a:lnTo>
                  <a:pt x="752" y="853"/>
                </a:lnTo>
                <a:lnTo>
                  <a:pt x="753" y="855"/>
                </a:lnTo>
                <a:lnTo>
                  <a:pt x="756" y="856"/>
                </a:lnTo>
                <a:lnTo>
                  <a:pt x="759" y="856"/>
                </a:lnTo>
                <a:lnTo>
                  <a:pt x="765" y="856"/>
                </a:lnTo>
                <a:lnTo>
                  <a:pt x="778" y="856"/>
                </a:lnTo>
                <a:lnTo>
                  <a:pt x="782" y="856"/>
                </a:lnTo>
                <a:lnTo>
                  <a:pt x="785" y="871"/>
                </a:lnTo>
                <a:lnTo>
                  <a:pt x="785" y="881"/>
                </a:lnTo>
                <a:lnTo>
                  <a:pt x="781" y="888"/>
                </a:lnTo>
                <a:lnTo>
                  <a:pt x="773" y="892"/>
                </a:lnTo>
                <a:lnTo>
                  <a:pt x="763" y="895"/>
                </a:lnTo>
                <a:lnTo>
                  <a:pt x="753" y="897"/>
                </a:lnTo>
                <a:lnTo>
                  <a:pt x="730" y="898"/>
                </a:lnTo>
                <a:lnTo>
                  <a:pt x="708" y="901"/>
                </a:lnTo>
                <a:lnTo>
                  <a:pt x="701" y="904"/>
                </a:lnTo>
                <a:lnTo>
                  <a:pt x="700" y="907"/>
                </a:lnTo>
                <a:lnTo>
                  <a:pt x="698" y="910"/>
                </a:lnTo>
                <a:lnTo>
                  <a:pt x="698" y="910"/>
                </a:lnTo>
                <a:lnTo>
                  <a:pt x="694" y="920"/>
                </a:lnTo>
                <a:lnTo>
                  <a:pt x="685" y="940"/>
                </a:lnTo>
                <a:lnTo>
                  <a:pt x="665" y="979"/>
                </a:lnTo>
                <a:lnTo>
                  <a:pt x="636" y="1011"/>
                </a:lnTo>
                <a:lnTo>
                  <a:pt x="627" y="1017"/>
                </a:lnTo>
                <a:lnTo>
                  <a:pt x="620" y="1021"/>
                </a:lnTo>
                <a:lnTo>
                  <a:pt x="614" y="1023"/>
                </a:lnTo>
                <a:lnTo>
                  <a:pt x="608" y="1023"/>
                </a:lnTo>
                <a:lnTo>
                  <a:pt x="603" y="1021"/>
                </a:lnTo>
                <a:lnTo>
                  <a:pt x="597" y="1020"/>
                </a:lnTo>
                <a:lnTo>
                  <a:pt x="584" y="1014"/>
                </a:lnTo>
                <a:lnTo>
                  <a:pt x="558" y="1004"/>
                </a:lnTo>
                <a:lnTo>
                  <a:pt x="552" y="1002"/>
                </a:lnTo>
                <a:lnTo>
                  <a:pt x="552" y="994"/>
                </a:lnTo>
                <a:lnTo>
                  <a:pt x="550" y="986"/>
                </a:lnTo>
                <a:lnTo>
                  <a:pt x="546" y="981"/>
                </a:lnTo>
                <a:lnTo>
                  <a:pt x="543" y="975"/>
                </a:lnTo>
                <a:lnTo>
                  <a:pt x="537" y="971"/>
                </a:lnTo>
                <a:lnTo>
                  <a:pt x="526" y="963"/>
                </a:lnTo>
                <a:lnTo>
                  <a:pt x="516" y="956"/>
                </a:lnTo>
                <a:lnTo>
                  <a:pt x="505" y="947"/>
                </a:lnTo>
                <a:lnTo>
                  <a:pt x="504" y="940"/>
                </a:lnTo>
                <a:lnTo>
                  <a:pt x="503" y="933"/>
                </a:lnTo>
                <a:lnTo>
                  <a:pt x="503" y="927"/>
                </a:lnTo>
                <a:lnTo>
                  <a:pt x="505" y="921"/>
                </a:lnTo>
                <a:lnTo>
                  <a:pt x="510" y="915"/>
                </a:lnTo>
                <a:lnTo>
                  <a:pt x="514" y="911"/>
                </a:lnTo>
                <a:lnTo>
                  <a:pt x="527" y="904"/>
                </a:lnTo>
                <a:lnTo>
                  <a:pt x="555" y="886"/>
                </a:lnTo>
                <a:lnTo>
                  <a:pt x="561" y="881"/>
                </a:lnTo>
                <a:lnTo>
                  <a:pt x="556" y="882"/>
                </a:lnTo>
                <a:lnTo>
                  <a:pt x="549" y="884"/>
                </a:lnTo>
                <a:lnTo>
                  <a:pt x="534" y="888"/>
                </a:lnTo>
                <a:lnTo>
                  <a:pt x="500" y="904"/>
                </a:lnTo>
                <a:lnTo>
                  <a:pt x="482" y="924"/>
                </a:lnTo>
                <a:lnTo>
                  <a:pt x="478" y="921"/>
                </a:lnTo>
                <a:lnTo>
                  <a:pt x="475" y="917"/>
                </a:lnTo>
                <a:lnTo>
                  <a:pt x="474" y="914"/>
                </a:lnTo>
                <a:lnTo>
                  <a:pt x="472" y="910"/>
                </a:lnTo>
                <a:lnTo>
                  <a:pt x="472" y="907"/>
                </a:lnTo>
                <a:lnTo>
                  <a:pt x="474" y="902"/>
                </a:lnTo>
                <a:lnTo>
                  <a:pt x="476" y="895"/>
                </a:lnTo>
                <a:lnTo>
                  <a:pt x="481" y="889"/>
                </a:lnTo>
                <a:lnTo>
                  <a:pt x="484" y="884"/>
                </a:lnTo>
                <a:lnTo>
                  <a:pt x="485" y="884"/>
                </a:lnTo>
                <a:lnTo>
                  <a:pt x="487" y="882"/>
                </a:lnTo>
                <a:lnTo>
                  <a:pt x="491" y="879"/>
                </a:lnTo>
                <a:lnTo>
                  <a:pt x="494" y="878"/>
                </a:lnTo>
                <a:lnTo>
                  <a:pt x="497" y="876"/>
                </a:lnTo>
                <a:lnTo>
                  <a:pt x="508" y="872"/>
                </a:lnTo>
                <a:lnTo>
                  <a:pt x="513" y="869"/>
                </a:lnTo>
                <a:lnTo>
                  <a:pt x="508" y="868"/>
                </a:lnTo>
                <a:lnTo>
                  <a:pt x="497" y="860"/>
                </a:lnTo>
                <a:lnTo>
                  <a:pt x="488" y="856"/>
                </a:lnTo>
                <a:lnTo>
                  <a:pt x="488" y="855"/>
                </a:lnTo>
                <a:lnTo>
                  <a:pt x="479" y="847"/>
                </a:lnTo>
                <a:lnTo>
                  <a:pt x="472" y="843"/>
                </a:lnTo>
                <a:lnTo>
                  <a:pt x="463" y="839"/>
                </a:lnTo>
                <a:lnTo>
                  <a:pt x="455" y="837"/>
                </a:lnTo>
                <a:lnTo>
                  <a:pt x="437" y="837"/>
                </a:lnTo>
                <a:lnTo>
                  <a:pt x="421" y="842"/>
                </a:lnTo>
                <a:lnTo>
                  <a:pt x="390" y="852"/>
                </a:lnTo>
                <a:lnTo>
                  <a:pt x="390" y="852"/>
                </a:lnTo>
                <a:lnTo>
                  <a:pt x="390" y="852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97160" y="3348000"/>
            <a:ext cx="104760" cy="74520"/>
          </a:xfrm>
          <a:custGeom>
            <a:avLst/>
            <a:gdLst/>
            <a:ahLst/>
            <a:rect l="l" t="t" r="r" b="b"/>
            <a:pathLst>
              <a:path w="169" h="106">
                <a:moveTo>
                  <a:pt x="2" y="102"/>
                </a:moveTo>
                <a:lnTo>
                  <a:pt x="5" y="104"/>
                </a:lnTo>
                <a:lnTo>
                  <a:pt x="7" y="104"/>
                </a:lnTo>
                <a:lnTo>
                  <a:pt x="15" y="106"/>
                </a:lnTo>
                <a:lnTo>
                  <a:pt x="34" y="106"/>
                </a:lnTo>
                <a:lnTo>
                  <a:pt x="46" y="100"/>
                </a:lnTo>
                <a:lnTo>
                  <a:pt x="47" y="99"/>
                </a:lnTo>
                <a:lnTo>
                  <a:pt x="49" y="96"/>
                </a:lnTo>
                <a:lnTo>
                  <a:pt x="49" y="94"/>
                </a:lnTo>
                <a:lnTo>
                  <a:pt x="49" y="89"/>
                </a:lnTo>
                <a:lnTo>
                  <a:pt x="49" y="81"/>
                </a:lnTo>
                <a:lnTo>
                  <a:pt x="47" y="68"/>
                </a:lnTo>
                <a:lnTo>
                  <a:pt x="49" y="68"/>
                </a:lnTo>
                <a:lnTo>
                  <a:pt x="65" y="74"/>
                </a:lnTo>
                <a:lnTo>
                  <a:pt x="89" y="74"/>
                </a:lnTo>
                <a:lnTo>
                  <a:pt x="108" y="64"/>
                </a:lnTo>
                <a:lnTo>
                  <a:pt x="123" y="47"/>
                </a:lnTo>
                <a:lnTo>
                  <a:pt x="137" y="28"/>
                </a:lnTo>
                <a:lnTo>
                  <a:pt x="156" y="9"/>
                </a:lnTo>
                <a:lnTo>
                  <a:pt x="169" y="0"/>
                </a:lnTo>
                <a:lnTo>
                  <a:pt x="153" y="7"/>
                </a:lnTo>
                <a:lnTo>
                  <a:pt x="115" y="15"/>
                </a:lnTo>
                <a:lnTo>
                  <a:pt x="39" y="33"/>
                </a:lnTo>
                <a:lnTo>
                  <a:pt x="23" y="41"/>
                </a:lnTo>
                <a:lnTo>
                  <a:pt x="11" y="51"/>
                </a:lnTo>
                <a:lnTo>
                  <a:pt x="2" y="64"/>
                </a:lnTo>
                <a:lnTo>
                  <a:pt x="0" y="81"/>
                </a:lnTo>
                <a:lnTo>
                  <a:pt x="1" y="102"/>
                </a:lnTo>
                <a:lnTo>
                  <a:pt x="2" y="102"/>
                </a:lnTo>
                <a:lnTo>
                  <a:pt x="2" y="102"/>
                </a:lnTo>
                <a:close/>
              </a:path>
            </a:pathLst>
          </a:custGeom>
          <a:solidFill>
            <a:srgbClr val="ff3300"/>
          </a:solidFill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41840" y="2627280"/>
            <a:ext cx="152280" cy="227160"/>
          </a:xfrm>
          <a:custGeom>
            <a:avLst/>
            <a:gdLst/>
            <a:ahLst/>
            <a:rect l="l" t="t" r="r" b="b"/>
            <a:pathLst>
              <a:path w="529" h="825">
                <a:moveTo>
                  <a:pt x="3" y="812"/>
                </a:moveTo>
                <a:lnTo>
                  <a:pt x="4" y="815"/>
                </a:lnTo>
                <a:lnTo>
                  <a:pt x="12" y="819"/>
                </a:lnTo>
                <a:lnTo>
                  <a:pt x="26" y="825"/>
                </a:lnTo>
                <a:lnTo>
                  <a:pt x="33" y="825"/>
                </a:lnTo>
                <a:lnTo>
                  <a:pt x="39" y="823"/>
                </a:lnTo>
                <a:lnTo>
                  <a:pt x="42" y="821"/>
                </a:lnTo>
                <a:lnTo>
                  <a:pt x="52" y="808"/>
                </a:lnTo>
                <a:lnTo>
                  <a:pt x="75" y="786"/>
                </a:lnTo>
                <a:lnTo>
                  <a:pt x="100" y="774"/>
                </a:lnTo>
                <a:lnTo>
                  <a:pt x="127" y="767"/>
                </a:lnTo>
                <a:lnTo>
                  <a:pt x="156" y="765"/>
                </a:lnTo>
                <a:lnTo>
                  <a:pt x="185" y="767"/>
                </a:lnTo>
                <a:lnTo>
                  <a:pt x="201" y="767"/>
                </a:lnTo>
                <a:lnTo>
                  <a:pt x="203" y="767"/>
                </a:lnTo>
                <a:lnTo>
                  <a:pt x="204" y="765"/>
                </a:lnTo>
                <a:lnTo>
                  <a:pt x="207" y="764"/>
                </a:lnTo>
                <a:lnTo>
                  <a:pt x="212" y="760"/>
                </a:lnTo>
                <a:lnTo>
                  <a:pt x="214" y="752"/>
                </a:lnTo>
                <a:lnTo>
                  <a:pt x="217" y="747"/>
                </a:lnTo>
                <a:lnTo>
                  <a:pt x="216" y="742"/>
                </a:lnTo>
                <a:lnTo>
                  <a:pt x="214" y="739"/>
                </a:lnTo>
                <a:lnTo>
                  <a:pt x="204" y="732"/>
                </a:lnTo>
                <a:lnTo>
                  <a:pt x="198" y="722"/>
                </a:lnTo>
                <a:lnTo>
                  <a:pt x="193" y="713"/>
                </a:lnTo>
                <a:lnTo>
                  <a:pt x="188" y="693"/>
                </a:lnTo>
                <a:lnTo>
                  <a:pt x="185" y="673"/>
                </a:lnTo>
                <a:lnTo>
                  <a:pt x="181" y="635"/>
                </a:lnTo>
                <a:lnTo>
                  <a:pt x="178" y="626"/>
                </a:lnTo>
                <a:lnTo>
                  <a:pt x="172" y="622"/>
                </a:lnTo>
                <a:lnTo>
                  <a:pt x="169" y="621"/>
                </a:lnTo>
                <a:lnTo>
                  <a:pt x="162" y="615"/>
                </a:lnTo>
                <a:lnTo>
                  <a:pt x="148" y="605"/>
                </a:lnTo>
                <a:lnTo>
                  <a:pt x="143" y="597"/>
                </a:lnTo>
                <a:lnTo>
                  <a:pt x="142" y="590"/>
                </a:lnTo>
                <a:lnTo>
                  <a:pt x="141" y="577"/>
                </a:lnTo>
                <a:lnTo>
                  <a:pt x="135" y="555"/>
                </a:lnTo>
                <a:lnTo>
                  <a:pt x="120" y="535"/>
                </a:lnTo>
                <a:lnTo>
                  <a:pt x="114" y="528"/>
                </a:lnTo>
                <a:lnTo>
                  <a:pt x="113" y="526"/>
                </a:lnTo>
                <a:lnTo>
                  <a:pt x="112" y="524"/>
                </a:lnTo>
                <a:lnTo>
                  <a:pt x="113" y="521"/>
                </a:lnTo>
                <a:lnTo>
                  <a:pt x="114" y="519"/>
                </a:lnTo>
                <a:lnTo>
                  <a:pt x="117" y="516"/>
                </a:lnTo>
                <a:lnTo>
                  <a:pt x="119" y="512"/>
                </a:lnTo>
                <a:lnTo>
                  <a:pt x="120" y="512"/>
                </a:lnTo>
                <a:lnTo>
                  <a:pt x="119" y="509"/>
                </a:lnTo>
                <a:lnTo>
                  <a:pt x="117" y="506"/>
                </a:lnTo>
                <a:lnTo>
                  <a:pt x="114" y="505"/>
                </a:lnTo>
                <a:lnTo>
                  <a:pt x="112" y="502"/>
                </a:lnTo>
                <a:lnTo>
                  <a:pt x="106" y="499"/>
                </a:lnTo>
                <a:lnTo>
                  <a:pt x="93" y="490"/>
                </a:lnTo>
                <a:lnTo>
                  <a:pt x="88" y="484"/>
                </a:lnTo>
                <a:lnTo>
                  <a:pt x="93" y="483"/>
                </a:lnTo>
                <a:lnTo>
                  <a:pt x="94" y="480"/>
                </a:lnTo>
                <a:lnTo>
                  <a:pt x="96" y="477"/>
                </a:lnTo>
                <a:lnTo>
                  <a:pt x="96" y="474"/>
                </a:lnTo>
                <a:lnTo>
                  <a:pt x="96" y="470"/>
                </a:lnTo>
                <a:lnTo>
                  <a:pt x="94" y="458"/>
                </a:lnTo>
                <a:lnTo>
                  <a:pt x="96" y="458"/>
                </a:lnTo>
                <a:lnTo>
                  <a:pt x="109" y="463"/>
                </a:lnTo>
                <a:lnTo>
                  <a:pt x="133" y="474"/>
                </a:lnTo>
                <a:lnTo>
                  <a:pt x="183" y="500"/>
                </a:lnTo>
                <a:lnTo>
                  <a:pt x="236" y="512"/>
                </a:lnTo>
                <a:lnTo>
                  <a:pt x="252" y="510"/>
                </a:lnTo>
                <a:lnTo>
                  <a:pt x="252" y="505"/>
                </a:lnTo>
                <a:lnTo>
                  <a:pt x="254" y="502"/>
                </a:lnTo>
                <a:lnTo>
                  <a:pt x="255" y="499"/>
                </a:lnTo>
                <a:lnTo>
                  <a:pt x="259" y="493"/>
                </a:lnTo>
                <a:lnTo>
                  <a:pt x="268" y="483"/>
                </a:lnTo>
                <a:lnTo>
                  <a:pt x="269" y="476"/>
                </a:lnTo>
                <a:lnTo>
                  <a:pt x="284" y="479"/>
                </a:lnTo>
                <a:lnTo>
                  <a:pt x="314" y="484"/>
                </a:lnTo>
                <a:lnTo>
                  <a:pt x="375" y="496"/>
                </a:lnTo>
                <a:lnTo>
                  <a:pt x="433" y="495"/>
                </a:lnTo>
                <a:lnTo>
                  <a:pt x="449" y="489"/>
                </a:lnTo>
                <a:lnTo>
                  <a:pt x="451" y="486"/>
                </a:lnTo>
                <a:lnTo>
                  <a:pt x="448" y="481"/>
                </a:lnTo>
                <a:lnTo>
                  <a:pt x="446" y="479"/>
                </a:lnTo>
                <a:lnTo>
                  <a:pt x="440" y="471"/>
                </a:lnTo>
                <a:lnTo>
                  <a:pt x="436" y="464"/>
                </a:lnTo>
                <a:lnTo>
                  <a:pt x="435" y="455"/>
                </a:lnTo>
                <a:lnTo>
                  <a:pt x="436" y="451"/>
                </a:lnTo>
                <a:lnTo>
                  <a:pt x="439" y="444"/>
                </a:lnTo>
                <a:lnTo>
                  <a:pt x="446" y="426"/>
                </a:lnTo>
                <a:lnTo>
                  <a:pt x="465" y="395"/>
                </a:lnTo>
                <a:lnTo>
                  <a:pt x="487" y="363"/>
                </a:lnTo>
                <a:lnTo>
                  <a:pt x="493" y="354"/>
                </a:lnTo>
                <a:lnTo>
                  <a:pt x="500" y="342"/>
                </a:lnTo>
                <a:lnTo>
                  <a:pt x="513" y="318"/>
                </a:lnTo>
                <a:lnTo>
                  <a:pt x="529" y="267"/>
                </a:lnTo>
                <a:lnTo>
                  <a:pt x="529" y="241"/>
                </a:lnTo>
                <a:lnTo>
                  <a:pt x="520" y="216"/>
                </a:lnTo>
                <a:lnTo>
                  <a:pt x="514" y="203"/>
                </a:lnTo>
                <a:lnTo>
                  <a:pt x="511" y="202"/>
                </a:lnTo>
                <a:lnTo>
                  <a:pt x="509" y="202"/>
                </a:lnTo>
                <a:lnTo>
                  <a:pt x="506" y="200"/>
                </a:lnTo>
                <a:lnTo>
                  <a:pt x="495" y="199"/>
                </a:lnTo>
                <a:lnTo>
                  <a:pt x="475" y="196"/>
                </a:lnTo>
                <a:lnTo>
                  <a:pt x="464" y="187"/>
                </a:lnTo>
                <a:lnTo>
                  <a:pt x="449" y="170"/>
                </a:lnTo>
                <a:lnTo>
                  <a:pt x="422" y="135"/>
                </a:lnTo>
                <a:lnTo>
                  <a:pt x="362" y="73"/>
                </a:lnTo>
                <a:lnTo>
                  <a:pt x="294" y="16"/>
                </a:lnTo>
                <a:lnTo>
                  <a:pt x="277" y="2"/>
                </a:lnTo>
                <a:lnTo>
                  <a:pt x="272" y="0"/>
                </a:lnTo>
                <a:lnTo>
                  <a:pt x="269" y="0"/>
                </a:lnTo>
                <a:lnTo>
                  <a:pt x="265" y="0"/>
                </a:lnTo>
                <a:lnTo>
                  <a:pt x="262" y="2"/>
                </a:lnTo>
                <a:lnTo>
                  <a:pt x="259" y="3"/>
                </a:lnTo>
                <a:lnTo>
                  <a:pt x="252" y="8"/>
                </a:lnTo>
                <a:lnTo>
                  <a:pt x="245" y="11"/>
                </a:lnTo>
                <a:lnTo>
                  <a:pt x="238" y="11"/>
                </a:lnTo>
                <a:lnTo>
                  <a:pt x="235" y="9"/>
                </a:lnTo>
                <a:lnTo>
                  <a:pt x="235" y="21"/>
                </a:lnTo>
                <a:lnTo>
                  <a:pt x="238" y="31"/>
                </a:lnTo>
                <a:lnTo>
                  <a:pt x="243" y="41"/>
                </a:lnTo>
                <a:lnTo>
                  <a:pt x="256" y="57"/>
                </a:lnTo>
                <a:lnTo>
                  <a:pt x="271" y="73"/>
                </a:lnTo>
                <a:lnTo>
                  <a:pt x="285" y="87"/>
                </a:lnTo>
                <a:lnTo>
                  <a:pt x="296" y="105"/>
                </a:lnTo>
                <a:lnTo>
                  <a:pt x="298" y="113"/>
                </a:lnTo>
                <a:lnTo>
                  <a:pt x="300" y="125"/>
                </a:lnTo>
                <a:lnTo>
                  <a:pt x="304" y="145"/>
                </a:lnTo>
                <a:lnTo>
                  <a:pt x="309" y="186"/>
                </a:lnTo>
                <a:lnTo>
                  <a:pt x="297" y="226"/>
                </a:lnTo>
                <a:lnTo>
                  <a:pt x="291" y="237"/>
                </a:lnTo>
                <a:lnTo>
                  <a:pt x="290" y="239"/>
                </a:lnTo>
                <a:lnTo>
                  <a:pt x="288" y="242"/>
                </a:lnTo>
                <a:lnTo>
                  <a:pt x="288" y="247"/>
                </a:lnTo>
                <a:lnTo>
                  <a:pt x="290" y="250"/>
                </a:lnTo>
                <a:lnTo>
                  <a:pt x="293" y="257"/>
                </a:lnTo>
                <a:lnTo>
                  <a:pt x="297" y="266"/>
                </a:lnTo>
                <a:lnTo>
                  <a:pt x="304" y="273"/>
                </a:lnTo>
                <a:lnTo>
                  <a:pt x="311" y="277"/>
                </a:lnTo>
                <a:lnTo>
                  <a:pt x="313" y="277"/>
                </a:lnTo>
                <a:lnTo>
                  <a:pt x="306" y="283"/>
                </a:lnTo>
                <a:lnTo>
                  <a:pt x="294" y="297"/>
                </a:lnTo>
                <a:lnTo>
                  <a:pt x="285" y="311"/>
                </a:lnTo>
                <a:lnTo>
                  <a:pt x="267" y="338"/>
                </a:lnTo>
                <a:lnTo>
                  <a:pt x="249" y="351"/>
                </a:lnTo>
                <a:lnTo>
                  <a:pt x="245" y="354"/>
                </a:lnTo>
                <a:lnTo>
                  <a:pt x="236" y="357"/>
                </a:lnTo>
                <a:lnTo>
                  <a:pt x="214" y="361"/>
                </a:lnTo>
                <a:lnTo>
                  <a:pt x="196" y="361"/>
                </a:lnTo>
                <a:lnTo>
                  <a:pt x="193" y="360"/>
                </a:lnTo>
                <a:lnTo>
                  <a:pt x="183" y="357"/>
                </a:lnTo>
                <a:lnTo>
                  <a:pt x="165" y="348"/>
                </a:lnTo>
                <a:lnTo>
                  <a:pt x="129" y="332"/>
                </a:lnTo>
                <a:lnTo>
                  <a:pt x="94" y="312"/>
                </a:lnTo>
                <a:lnTo>
                  <a:pt x="85" y="306"/>
                </a:lnTo>
                <a:lnTo>
                  <a:pt x="81" y="305"/>
                </a:lnTo>
                <a:lnTo>
                  <a:pt x="75" y="303"/>
                </a:lnTo>
                <a:lnTo>
                  <a:pt x="71" y="302"/>
                </a:lnTo>
                <a:lnTo>
                  <a:pt x="61" y="302"/>
                </a:lnTo>
                <a:lnTo>
                  <a:pt x="51" y="305"/>
                </a:lnTo>
                <a:lnTo>
                  <a:pt x="41" y="311"/>
                </a:lnTo>
                <a:lnTo>
                  <a:pt x="30" y="318"/>
                </a:lnTo>
                <a:lnTo>
                  <a:pt x="28" y="321"/>
                </a:lnTo>
                <a:lnTo>
                  <a:pt x="33" y="325"/>
                </a:lnTo>
                <a:lnTo>
                  <a:pt x="45" y="332"/>
                </a:lnTo>
                <a:lnTo>
                  <a:pt x="68" y="350"/>
                </a:lnTo>
                <a:lnTo>
                  <a:pt x="77" y="358"/>
                </a:lnTo>
                <a:lnTo>
                  <a:pt x="81" y="368"/>
                </a:lnTo>
                <a:lnTo>
                  <a:pt x="83" y="373"/>
                </a:lnTo>
                <a:lnTo>
                  <a:pt x="80" y="382"/>
                </a:lnTo>
                <a:lnTo>
                  <a:pt x="77" y="387"/>
                </a:lnTo>
                <a:lnTo>
                  <a:pt x="71" y="395"/>
                </a:lnTo>
                <a:lnTo>
                  <a:pt x="65" y="399"/>
                </a:lnTo>
                <a:lnTo>
                  <a:pt x="49" y="410"/>
                </a:lnTo>
                <a:lnTo>
                  <a:pt x="20" y="435"/>
                </a:lnTo>
                <a:lnTo>
                  <a:pt x="12" y="451"/>
                </a:lnTo>
                <a:lnTo>
                  <a:pt x="10" y="460"/>
                </a:lnTo>
                <a:lnTo>
                  <a:pt x="10" y="468"/>
                </a:lnTo>
                <a:lnTo>
                  <a:pt x="13" y="476"/>
                </a:lnTo>
                <a:lnTo>
                  <a:pt x="16" y="483"/>
                </a:lnTo>
                <a:lnTo>
                  <a:pt x="26" y="495"/>
                </a:lnTo>
                <a:lnTo>
                  <a:pt x="38" y="506"/>
                </a:lnTo>
                <a:lnTo>
                  <a:pt x="56" y="529"/>
                </a:lnTo>
                <a:lnTo>
                  <a:pt x="58" y="529"/>
                </a:lnTo>
                <a:lnTo>
                  <a:pt x="59" y="537"/>
                </a:lnTo>
                <a:lnTo>
                  <a:pt x="59" y="542"/>
                </a:lnTo>
                <a:lnTo>
                  <a:pt x="58" y="548"/>
                </a:lnTo>
                <a:lnTo>
                  <a:pt x="56" y="554"/>
                </a:lnTo>
                <a:lnTo>
                  <a:pt x="49" y="566"/>
                </a:lnTo>
                <a:lnTo>
                  <a:pt x="39" y="577"/>
                </a:lnTo>
                <a:lnTo>
                  <a:pt x="19" y="597"/>
                </a:lnTo>
                <a:lnTo>
                  <a:pt x="19" y="597"/>
                </a:lnTo>
                <a:lnTo>
                  <a:pt x="29" y="602"/>
                </a:lnTo>
                <a:lnTo>
                  <a:pt x="45" y="610"/>
                </a:lnTo>
                <a:lnTo>
                  <a:pt x="49" y="615"/>
                </a:lnTo>
                <a:lnTo>
                  <a:pt x="52" y="621"/>
                </a:lnTo>
                <a:lnTo>
                  <a:pt x="52" y="628"/>
                </a:lnTo>
                <a:lnTo>
                  <a:pt x="52" y="634"/>
                </a:lnTo>
                <a:lnTo>
                  <a:pt x="51" y="641"/>
                </a:lnTo>
                <a:lnTo>
                  <a:pt x="43" y="658"/>
                </a:lnTo>
                <a:lnTo>
                  <a:pt x="35" y="676"/>
                </a:lnTo>
                <a:lnTo>
                  <a:pt x="35" y="676"/>
                </a:lnTo>
                <a:lnTo>
                  <a:pt x="38" y="677"/>
                </a:lnTo>
                <a:lnTo>
                  <a:pt x="46" y="681"/>
                </a:lnTo>
                <a:lnTo>
                  <a:pt x="61" y="692"/>
                </a:lnTo>
                <a:lnTo>
                  <a:pt x="75" y="700"/>
                </a:lnTo>
                <a:lnTo>
                  <a:pt x="80" y="702"/>
                </a:lnTo>
                <a:lnTo>
                  <a:pt x="75" y="708"/>
                </a:lnTo>
                <a:lnTo>
                  <a:pt x="72" y="712"/>
                </a:lnTo>
                <a:lnTo>
                  <a:pt x="70" y="723"/>
                </a:lnTo>
                <a:lnTo>
                  <a:pt x="68" y="734"/>
                </a:lnTo>
                <a:lnTo>
                  <a:pt x="65" y="745"/>
                </a:lnTo>
                <a:lnTo>
                  <a:pt x="61" y="755"/>
                </a:lnTo>
                <a:lnTo>
                  <a:pt x="52" y="761"/>
                </a:lnTo>
                <a:lnTo>
                  <a:pt x="52" y="761"/>
                </a:lnTo>
                <a:lnTo>
                  <a:pt x="49" y="763"/>
                </a:lnTo>
                <a:lnTo>
                  <a:pt x="46" y="763"/>
                </a:lnTo>
                <a:lnTo>
                  <a:pt x="42" y="764"/>
                </a:lnTo>
                <a:lnTo>
                  <a:pt x="33" y="764"/>
                </a:lnTo>
                <a:lnTo>
                  <a:pt x="28" y="763"/>
                </a:lnTo>
                <a:lnTo>
                  <a:pt x="30" y="764"/>
                </a:lnTo>
                <a:lnTo>
                  <a:pt x="29" y="764"/>
                </a:lnTo>
                <a:lnTo>
                  <a:pt x="25" y="764"/>
                </a:lnTo>
                <a:lnTo>
                  <a:pt x="22" y="765"/>
                </a:lnTo>
                <a:lnTo>
                  <a:pt x="20" y="768"/>
                </a:lnTo>
                <a:lnTo>
                  <a:pt x="20" y="771"/>
                </a:lnTo>
                <a:lnTo>
                  <a:pt x="16" y="776"/>
                </a:lnTo>
                <a:lnTo>
                  <a:pt x="9" y="781"/>
                </a:lnTo>
                <a:lnTo>
                  <a:pt x="1" y="796"/>
                </a:lnTo>
                <a:lnTo>
                  <a:pt x="0" y="803"/>
                </a:lnTo>
                <a:lnTo>
                  <a:pt x="0" y="810"/>
                </a:lnTo>
                <a:lnTo>
                  <a:pt x="3" y="812"/>
                </a:lnTo>
                <a:lnTo>
                  <a:pt x="3" y="812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2760" y="3500280"/>
            <a:ext cx="306360" cy="543240"/>
          </a:xfrm>
          <a:custGeom>
            <a:avLst/>
            <a:gdLst/>
            <a:ahLst/>
            <a:rect l="l" t="t" r="r" b="b"/>
            <a:pathLst>
              <a:path w="1063" h="1991">
                <a:moveTo>
                  <a:pt x="288" y="1911"/>
                </a:moveTo>
                <a:lnTo>
                  <a:pt x="281" y="1906"/>
                </a:lnTo>
                <a:lnTo>
                  <a:pt x="276" y="1898"/>
                </a:lnTo>
                <a:lnTo>
                  <a:pt x="274" y="1891"/>
                </a:lnTo>
                <a:lnTo>
                  <a:pt x="274" y="1882"/>
                </a:lnTo>
                <a:lnTo>
                  <a:pt x="274" y="1874"/>
                </a:lnTo>
                <a:lnTo>
                  <a:pt x="278" y="1856"/>
                </a:lnTo>
                <a:lnTo>
                  <a:pt x="284" y="1839"/>
                </a:lnTo>
                <a:lnTo>
                  <a:pt x="291" y="1822"/>
                </a:lnTo>
                <a:lnTo>
                  <a:pt x="294" y="1813"/>
                </a:lnTo>
                <a:lnTo>
                  <a:pt x="287" y="1814"/>
                </a:lnTo>
                <a:lnTo>
                  <a:pt x="282" y="1813"/>
                </a:lnTo>
                <a:lnTo>
                  <a:pt x="279" y="1810"/>
                </a:lnTo>
                <a:lnTo>
                  <a:pt x="276" y="1807"/>
                </a:lnTo>
                <a:lnTo>
                  <a:pt x="276" y="1803"/>
                </a:lnTo>
                <a:lnTo>
                  <a:pt x="275" y="1798"/>
                </a:lnTo>
                <a:lnTo>
                  <a:pt x="275" y="1790"/>
                </a:lnTo>
                <a:lnTo>
                  <a:pt x="274" y="1782"/>
                </a:lnTo>
                <a:lnTo>
                  <a:pt x="268" y="1777"/>
                </a:lnTo>
                <a:lnTo>
                  <a:pt x="268" y="1777"/>
                </a:lnTo>
                <a:lnTo>
                  <a:pt x="262" y="1775"/>
                </a:lnTo>
                <a:lnTo>
                  <a:pt x="250" y="1774"/>
                </a:lnTo>
                <a:lnTo>
                  <a:pt x="229" y="1768"/>
                </a:lnTo>
                <a:lnTo>
                  <a:pt x="219" y="1764"/>
                </a:lnTo>
                <a:lnTo>
                  <a:pt x="213" y="1756"/>
                </a:lnTo>
                <a:lnTo>
                  <a:pt x="211" y="1751"/>
                </a:lnTo>
                <a:lnTo>
                  <a:pt x="208" y="1746"/>
                </a:lnTo>
                <a:lnTo>
                  <a:pt x="205" y="1735"/>
                </a:lnTo>
                <a:lnTo>
                  <a:pt x="200" y="1711"/>
                </a:lnTo>
                <a:lnTo>
                  <a:pt x="195" y="1688"/>
                </a:lnTo>
                <a:lnTo>
                  <a:pt x="195" y="1682"/>
                </a:lnTo>
                <a:lnTo>
                  <a:pt x="194" y="1678"/>
                </a:lnTo>
                <a:lnTo>
                  <a:pt x="192" y="1675"/>
                </a:lnTo>
                <a:lnTo>
                  <a:pt x="190" y="1672"/>
                </a:lnTo>
                <a:lnTo>
                  <a:pt x="184" y="1668"/>
                </a:lnTo>
                <a:lnTo>
                  <a:pt x="178" y="1665"/>
                </a:lnTo>
                <a:lnTo>
                  <a:pt x="172" y="1665"/>
                </a:lnTo>
                <a:lnTo>
                  <a:pt x="166" y="1666"/>
                </a:lnTo>
                <a:lnTo>
                  <a:pt x="166" y="1666"/>
                </a:lnTo>
                <a:lnTo>
                  <a:pt x="159" y="1672"/>
                </a:lnTo>
                <a:lnTo>
                  <a:pt x="153" y="1678"/>
                </a:lnTo>
                <a:lnTo>
                  <a:pt x="145" y="1693"/>
                </a:lnTo>
                <a:lnTo>
                  <a:pt x="136" y="1707"/>
                </a:lnTo>
                <a:lnTo>
                  <a:pt x="133" y="1713"/>
                </a:lnTo>
                <a:lnTo>
                  <a:pt x="129" y="1716"/>
                </a:lnTo>
                <a:lnTo>
                  <a:pt x="124" y="1719"/>
                </a:lnTo>
                <a:lnTo>
                  <a:pt x="121" y="1719"/>
                </a:lnTo>
                <a:lnTo>
                  <a:pt x="119" y="1717"/>
                </a:lnTo>
                <a:lnTo>
                  <a:pt x="116" y="1716"/>
                </a:lnTo>
                <a:lnTo>
                  <a:pt x="113" y="1713"/>
                </a:lnTo>
                <a:lnTo>
                  <a:pt x="107" y="1706"/>
                </a:lnTo>
                <a:lnTo>
                  <a:pt x="107" y="1706"/>
                </a:lnTo>
                <a:lnTo>
                  <a:pt x="103" y="1701"/>
                </a:lnTo>
                <a:lnTo>
                  <a:pt x="101" y="1695"/>
                </a:lnTo>
                <a:lnTo>
                  <a:pt x="101" y="1690"/>
                </a:lnTo>
                <a:lnTo>
                  <a:pt x="103" y="1682"/>
                </a:lnTo>
                <a:lnTo>
                  <a:pt x="107" y="1669"/>
                </a:lnTo>
                <a:lnTo>
                  <a:pt x="110" y="1658"/>
                </a:lnTo>
                <a:lnTo>
                  <a:pt x="111" y="1645"/>
                </a:lnTo>
                <a:lnTo>
                  <a:pt x="108" y="1633"/>
                </a:lnTo>
                <a:lnTo>
                  <a:pt x="108" y="1633"/>
                </a:lnTo>
                <a:lnTo>
                  <a:pt x="103" y="1624"/>
                </a:lnTo>
                <a:lnTo>
                  <a:pt x="97" y="1607"/>
                </a:lnTo>
                <a:lnTo>
                  <a:pt x="95" y="1588"/>
                </a:lnTo>
                <a:lnTo>
                  <a:pt x="97" y="1571"/>
                </a:lnTo>
                <a:lnTo>
                  <a:pt x="107" y="1536"/>
                </a:lnTo>
                <a:lnTo>
                  <a:pt x="110" y="1527"/>
                </a:lnTo>
                <a:lnTo>
                  <a:pt x="116" y="1507"/>
                </a:lnTo>
                <a:lnTo>
                  <a:pt x="126" y="1464"/>
                </a:lnTo>
                <a:lnTo>
                  <a:pt x="150" y="1377"/>
                </a:lnTo>
                <a:lnTo>
                  <a:pt x="190" y="1297"/>
                </a:lnTo>
                <a:lnTo>
                  <a:pt x="204" y="1278"/>
                </a:lnTo>
                <a:lnTo>
                  <a:pt x="216" y="1264"/>
                </a:lnTo>
                <a:lnTo>
                  <a:pt x="239" y="1229"/>
                </a:lnTo>
                <a:lnTo>
                  <a:pt x="269" y="1156"/>
                </a:lnTo>
                <a:lnTo>
                  <a:pt x="272" y="1119"/>
                </a:lnTo>
                <a:lnTo>
                  <a:pt x="262" y="1083"/>
                </a:lnTo>
                <a:lnTo>
                  <a:pt x="253" y="1064"/>
                </a:lnTo>
                <a:lnTo>
                  <a:pt x="252" y="1062"/>
                </a:lnTo>
                <a:lnTo>
                  <a:pt x="249" y="1062"/>
                </a:lnTo>
                <a:lnTo>
                  <a:pt x="246" y="1062"/>
                </a:lnTo>
                <a:lnTo>
                  <a:pt x="242" y="1064"/>
                </a:lnTo>
                <a:lnTo>
                  <a:pt x="232" y="1067"/>
                </a:lnTo>
                <a:lnTo>
                  <a:pt x="220" y="1068"/>
                </a:lnTo>
                <a:lnTo>
                  <a:pt x="210" y="1067"/>
                </a:lnTo>
                <a:lnTo>
                  <a:pt x="200" y="1059"/>
                </a:lnTo>
                <a:lnTo>
                  <a:pt x="200" y="1059"/>
                </a:lnTo>
                <a:lnTo>
                  <a:pt x="205" y="1052"/>
                </a:lnTo>
                <a:lnTo>
                  <a:pt x="211" y="1043"/>
                </a:lnTo>
                <a:lnTo>
                  <a:pt x="217" y="1025"/>
                </a:lnTo>
                <a:lnTo>
                  <a:pt x="219" y="1003"/>
                </a:lnTo>
                <a:lnTo>
                  <a:pt x="217" y="981"/>
                </a:lnTo>
                <a:lnTo>
                  <a:pt x="213" y="939"/>
                </a:lnTo>
                <a:lnTo>
                  <a:pt x="213" y="939"/>
                </a:lnTo>
                <a:lnTo>
                  <a:pt x="211" y="933"/>
                </a:lnTo>
                <a:lnTo>
                  <a:pt x="208" y="922"/>
                </a:lnTo>
                <a:lnTo>
                  <a:pt x="201" y="897"/>
                </a:lnTo>
                <a:lnTo>
                  <a:pt x="187" y="874"/>
                </a:lnTo>
                <a:lnTo>
                  <a:pt x="182" y="868"/>
                </a:lnTo>
                <a:lnTo>
                  <a:pt x="176" y="864"/>
                </a:lnTo>
                <a:lnTo>
                  <a:pt x="163" y="855"/>
                </a:lnTo>
                <a:lnTo>
                  <a:pt x="139" y="841"/>
                </a:lnTo>
                <a:lnTo>
                  <a:pt x="127" y="832"/>
                </a:lnTo>
                <a:lnTo>
                  <a:pt x="119" y="822"/>
                </a:lnTo>
                <a:lnTo>
                  <a:pt x="116" y="814"/>
                </a:lnTo>
                <a:lnTo>
                  <a:pt x="111" y="807"/>
                </a:lnTo>
                <a:lnTo>
                  <a:pt x="104" y="790"/>
                </a:lnTo>
                <a:lnTo>
                  <a:pt x="92" y="756"/>
                </a:lnTo>
                <a:lnTo>
                  <a:pt x="91" y="739"/>
                </a:lnTo>
                <a:lnTo>
                  <a:pt x="92" y="723"/>
                </a:lnTo>
                <a:lnTo>
                  <a:pt x="97" y="714"/>
                </a:lnTo>
                <a:lnTo>
                  <a:pt x="100" y="709"/>
                </a:lnTo>
                <a:lnTo>
                  <a:pt x="105" y="704"/>
                </a:lnTo>
                <a:lnTo>
                  <a:pt x="111" y="700"/>
                </a:lnTo>
                <a:lnTo>
                  <a:pt x="124" y="694"/>
                </a:lnTo>
                <a:lnTo>
                  <a:pt x="137" y="688"/>
                </a:lnTo>
                <a:lnTo>
                  <a:pt x="149" y="684"/>
                </a:lnTo>
                <a:lnTo>
                  <a:pt x="156" y="675"/>
                </a:lnTo>
                <a:lnTo>
                  <a:pt x="158" y="670"/>
                </a:lnTo>
                <a:lnTo>
                  <a:pt x="158" y="661"/>
                </a:lnTo>
                <a:lnTo>
                  <a:pt x="159" y="642"/>
                </a:lnTo>
                <a:lnTo>
                  <a:pt x="168" y="609"/>
                </a:lnTo>
                <a:lnTo>
                  <a:pt x="191" y="581"/>
                </a:lnTo>
                <a:lnTo>
                  <a:pt x="200" y="575"/>
                </a:lnTo>
                <a:lnTo>
                  <a:pt x="191" y="578"/>
                </a:lnTo>
                <a:lnTo>
                  <a:pt x="176" y="578"/>
                </a:lnTo>
                <a:lnTo>
                  <a:pt x="163" y="574"/>
                </a:lnTo>
                <a:lnTo>
                  <a:pt x="152" y="568"/>
                </a:lnTo>
                <a:lnTo>
                  <a:pt x="143" y="561"/>
                </a:lnTo>
                <a:lnTo>
                  <a:pt x="137" y="552"/>
                </a:lnTo>
                <a:lnTo>
                  <a:pt x="136" y="546"/>
                </a:lnTo>
                <a:lnTo>
                  <a:pt x="127" y="525"/>
                </a:lnTo>
                <a:lnTo>
                  <a:pt x="107" y="484"/>
                </a:lnTo>
                <a:lnTo>
                  <a:pt x="56" y="407"/>
                </a:lnTo>
                <a:lnTo>
                  <a:pt x="10" y="329"/>
                </a:lnTo>
                <a:lnTo>
                  <a:pt x="3" y="306"/>
                </a:lnTo>
                <a:lnTo>
                  <a:pt x="0" y="297"/>
                </a:lnTo>
                <a:lnTo>
                  <a:pt x="0" y="281"/>
                </a:lnTo>
                <a:lnTo>
                  <a:pt x="4" y="267"/>
                </a:lnTo>
                <a:lnTo>
                  <a:pt x="14" y="254"/>
                </a:lnTo>
                <a:lnTo>
                  <a:pt x="27" y="242"/>
                </a:lnTo>
                <a:lnTo>
                  <a:pt x="42" y="232"/>
                </a:lnTo>
                <a:lnTo>
                  <a:pt x="50" y="226"/>
                </a:lnTo>
                <a:lnTo>
                  <a:pt x="50" y="223"/>
                </a:lnTo>
                <a:lnTo>
                  <a:pt x="50" y="220"/>
                </a:lnTo>
                <a:lnTo>
                  <a:pt x="50" y="216"/>
                </a:lnTo>
                <a:lnTo>
                  <a:pt x="48" y="207"/>
                </a:lnTo>
                <a:lnTo>
                  <a:pt x="48" y="203"/>
                </a:lnTo>
                <a:lnTo>
                  <a:pt x="48" y="196"/>
                </a:lnTo>
                <a:lnTo>
                  <a:pt x="49" y="181"/>
                </a:lnTo>
                <a:lnTo>
                  <a:pt x="58" y="154"/>
                </a:lnTo>
                <a:lnTo>
                  <a:pt x="68" y="126"/>
                </a:lnTo>
                <a:lnTo>
                  <a:pt x="71" y="119"/>
                </a:lnTo>
                <a:lnTo>
                  <a:pt x="74" y="113"/>
                </a:lnTo>
                <a:lnTo>
                  <a:pt x="79" y="107"/>
                </a:lnTo>
                <a:lnTo>
                  <a:pt x="87" y="104"/>
                </a:lnTo>
                <a:lnTo>
                  <a:pt x="95" y="103"/>
                </a:lnTo>
                <a:lnTo>
                  <a:pt x="104" y="103"/>
                </a:lnTo>
                <a:lnTo>
                  <a:pt x="124" y="103"/>
                </a:lnTo>
                <a:lnTo>
                  <a:pt x="169" y="104"/>
                </a:lnTo>
                <a:lnTo>
                  <a:pt x="181" y="102"/>
                </a:lnTo>
                <a:lnTo>
                  <a:pt x="185" y="102"/>
                </a:lnTo>
                <a:lnTo>
                  <a:pt x="188" y="99"/>
                </a:lnTo>
                <a:lnTo>
                  <a:pt x="191" y="96"/>
                </a:lnTo>
                <a:lnTo>
                  <a:pt x="194" y="91"/>
                </a:lnTo>
                <a:lnTo>
                  <a:pt x="194" y="87"/>
                </a:lnTo>
                <a:lnTo>
                  <a:pt x="197" y="77"/>
                </a:lnTo>
                <a:lnTo>
                  <a:pt x="201" y="57"/>
                </a:lnTo>
                <a:lnTo>
                  <a:pt x="204" y="52"/>
                </a:lnTo>
                <a:lnTo>
                  <a:pt x="207" y="49"/>
                </a:lnTo>
                <a:lnTo>
                  <a:pt x="213" y="48"/>
                </a:lnTo>
                <a:lnTo>
                  <a:pt x="219" y="48"/>
                </a:lnTo>
                <a:lnTo>
                  <a:pt x="226" y="49"/>
                </a:lnTo>
                <a:lnTo>
                  <a:pt x="240" y="54"/>
                </a:lnTo>
                <a:lnTo>
                  <a:pt x="256" y="57"/>
                </a:lnTo>
                <a:lnTo>
                  <a:pt x="263" y="57"/>
                </a:lnTo>
                <a:lnTo>
                  <a:pt x="271" y="55"/>
                </a:lnTo>
                <a:lnTo>
                  <a:pt x="276" y="51"/>
                </a:lnTo>
                <a:lnTo>
                  <a:pt x="281" y="44"/>
                </a:lnTo>
                <a:lnTo>
                  <a:pt x="282" y="44"/>
                </a:lnTo>
                <a:lnTo>
                  <a:pt x="282" y="42"/>
                </a:lnTo>
                <a:lnTo>
                  <a:pt x="281" y="39"/>
                </a:lnTo>
                <a:lnTo>
                  <a:pt x="276" y="29"/>
                </a:lnTo>
                <a:lnTo>
                  <a:pt x="271" y="22"/>
                </a:lnTo>
                <a:lnTo>
                  <a:pt x="268" y="15"/>
                </a:lnTo>
                <a:lnTo>
                  <a:pt x="268" y="10"/>
                </a:lnTo>
                <a:lnTo>
                  <a:pt x="271" y="9"/>
                </a:lnTo>
                <a:lnTo>
                  <a:pt x="281" y="6"/>
                </a:lnTo>
                <a:lnTo>
                  <a:pt x="304" y="0"/>
                </a:lnTo>
                <a:lnTo>
                  <a:pt x="352" y="0"/>
                </a:lnTo>
                <a:lnTo>
                  <a:pt x="374" y="6"/>
                </a:lnTo>
                <a:lnTo>
                  <a:pt x="392" y="17"/>
                </a:lnTo>
                <a:lnTo>
                  <a:pt x="401" y="25"/>
                </a:lnTo>
                <a:lnTo>
                  <a:pt x="404" y="31"/>
                </a:lnTo>
                <a:lnTo>
                  <a:pt x="405" y="38"/>
                </a:lnTo>
                <a:lnTo>
                  <a:pt x="407" y="45"/>
                </a:lnTo>
                <a:lnTo>
                  <a:pt x="408" y="61"/>
                </a:lnTo>
                <a:lnTo>
                  <a:pt x="411" y="90"/>
                </a:lnTo>
                <a:lnTo>
                  <a:pt x="426" y="102"/>
                </a:lnTo>
                <a:lnTo>
                  <a:pt x="431" y="104"/>
                </a:lnTo>
                <a:lnTo>
                  <a:pt x="445" y="106"/>
                </a:lnTo>
                <a:lnTo>
                  <a:pt x="473" y="106"/>
                </a:lnTo>
                <a:lnTo>
                  <a:pt x="502" y="107"/>
                </a:lnTo>
                <a:lnTo>
                  <a:pt x="511" y="107"/>
                </a:lnTo>
                <a:lnTo>
                  <a:pt x="510" y="110"/>
                </a:lnTo>
                <a:lnTo>
                  <a:pt x="510" y="113"/>
                </a:lnTo>
                <a:lnTo>
                  <a:pt x="510" y="116"/>
                </a:lnTo>
                <a:lnTo>
                  <a:pt x="511" y="117"/>
                </a:lnTo>
                <a:lnTo>
                  <a:pt x="513" y="120"/>
                </a:lnTo>
                <a:lnTo>
                  <a:pt x="516" y="123"/>
                </a:lnTo>
                <a:lnTo>
                  <a:pt x="518" y="131"/>
                </a:lnTo>
                <a:lnTo>
                  <a:pt x="517" y="132"/>
                </a:lnTo>
                <a:lnTo>
                  <a:pt x="511" y="136"/>
                </a:lnTo>
                <a:lnTo>
                  <a:pt x="508" y="142"/>
                </a:lnTo>
                <a:lnTo>
                  <a:pt x="505" y="146"/>
                </a:lnTo>
                <a:lnTo>
                  <a:pt x="504" y="152"/>
                </a:lnTo>
                <a:lnTo>
                  <a:pt x="504" y="157"/>
                </a:lnTo>
                <a:lnTo>
                  <a:pt x="504" y="162"/>
                </a:lnTo>
                <a:lnTo>
                  <a:pt x="508" y="173"/>
                </a:lnTo>
                <a:lnTo>
                  <a:pt x="516" y="181"/>
                </a:lnTo>
                <a:lnTo>
                  <a:pt x="524" y="187"/>
                </a:lnTo>
                <a:lnTo>
                  <a:pt x="526" y="187"/>
                </a:lnTo>
                <a:lnTo>
                  <a:pt x="527" y="190"/>
                </a:lnTo>
                <a:lnTo>
                  <a:pt x="527" y="191"/>
                </a:lnTo>
                <a:lnTo>
                  <a:pt x="529" y="196"/>
                </a:lnTo>
                <a:lnTo>
                  <a:pt x="529" y="202"/>
                </a:lnTo>
                <a:lnTo>
                  <a:pt x="526" y="209"/>
                </a:lnTo>
                <a:lnTo>
                  <a:pt x="526" y="209"/>
                </a:lnTo>
                <a:lnTo>
                  <a:pt x="523" y="212"/>
                </a:lnTo>
                <a:lnTo>
                  <a:pt x="518" y="216"/>
                </a:lnTo>
                <a:lnTo>
                  <a:pt x="508" y="225"/>
                </a:lnTo>
                <a:lnTo>
                  <a:pt x="495" y="229"/>
                </a:lnTo>
                <a:lnTo>
                  <a:pt x="492" y="229"/>
                </a:lnTo>
                <a:lnTo>
                  <a:pt x="494" y="236"/>
                </a:lnTo>
                <a:lnTo>
                  <a:pt x="495" y="248"/>
                </a:lnTo>
                <a:lnTo>
                  <a:pt x="495" y="258"/>
                </a:lnTo>
                <a:lnTo>
                  <a:pt x="491" y="265"/>
                </a:lnTo>
                <a:lnTo>
                  <a:pt x="485" y="274"/>
                </a:lnTo>
                <a:lnTo>
                  <a:pt x="475" y="283"/>
                </a:lnTo>
                <a:lnTo>
                  <a:pt x="471" y="286"/>
                </a:lnTo>
                <a:lnTo>
                  <a:pt x="466" y="290"/>
                </a:lnTo>
                <a:lnTo>
                  <a:pt x="466" y="293"/>
                </a:lnTo>
                <a:lnTo>
                  <a:pt x="466" y="296"/>
                </a:lnTo>
                <a:lnTo>
                  <a:pt x="468" y="299"/>
                </a:lnTo>
                <a:lnTo>
                  <a:pt x="471" y="303"/>
                </a:lnTo>
                <a:lnTo>
                  <a:pt x="479" y="309"/>
                </a:lnTo>
                <a:lnTo>
                  <a:pt x="488" y="316"/>
                </a:lnTo>
                <a:lnTo>
                  <a:pt x="494" y="322"/>
                </a:lnTo>
                <a:lnTo>
                  <a:pt x="495" y="325"/>
                </a:lnTo>
                <a:lnTo>
                  <a:pt x="494" y="333"/>
                </a:lnTo>
                <a:lnTo>
                  <a:pt x="491" y="342"/>
                </a:lnTo>
                <a:lnTo>
                  <a:pt x="487" y="349"/>
                </a:lnTo>
                <a:lnTo>
                  <a:pt x="475" y="365"/>
                </a:lnTo>
                <a:lnTo>
                  <a:pt x="466" y="378"/>
                </a:lnTo>
                <a:lnTo>
                  <a:pt x="463" y="384"/>
                </a:lnTo>
                <a:lnTo>
                  <a:pt x="463" y="390"/>
                </a:lnTo>
                <a:lnTo>
                  <a:pt x="465" y="393"/>
                </a:lnTo>
                <a:lnTo>
                  <a:pt x="466" y="396"/>
                </a:lnTo>
                <a:lnTo>
                  <a:pt x="469" y="399"/>
                </a:lnTo>
                <a:lnTo>
                  <a:pt x="473" y="401"/>
                </a:lnTo>
                <a:lnTo>
                  <a:pt x="485" y="406"/>
                </a:lnTo>
                <a:lnTo>
                  <a:pt x="487" y="406"/>
                </a:lnTo>
                <a:lnTo>
                  <a:pt x="498" y="409"/>
                </a:lnTo>
                <a:lnTo>
                  <a:pt x="511" y="407"/>
                </a:lnTo>
                <a:lnTo>
                  <a:pt x="523" y="403"/>
                </a:lnTo>
                <a:lnTo>
                  <a:pt x="533" y="397"/>
                </a:lnTo>
                <a:lnTo>
                  <a:pt x="543" y="388"/>
                </a:lnTo>
                <a:lnTo>
                  <a:pt x="562" y="367"/>
                </a:lnTo>
                <a:lnTo>
                  <a:pt x="598" y="329"/>
                </a:lnTo>
                <a:lnTo>
                  <a:pt x="608" y="322"/>
                </a:lnTo>
                <a:lnTo>
                  <a:pt x="614" y="320"/>
                </a:lnTo>
                <a:lnTo>
                  <a:pt x="621" y="320"/>
                </a:lnTo>
                <a:lnTo>
                  <a:pt x="629" y="323"/>
                </a:lnTo>
                <a:lnTo>
                  <a:pt x="637" y="328"/>
                </a:lnTo>
                <a:lnTo>
                  <a:pt x="652" y="338"/>
                </a:lnTo>
                <a:lnTo>
                  <a:pt x="684" y="358"/>
                </a:lnTo>
                <a:lnTo>
                  <a:pt x="701" y="361"/>
                </a:lnTo>
                <a:lnTo>
                  <a:pt x="708" y="361"/>
                </a:lnTo>
                <a:lnTo>
                  <a:pt x="714" y="357"/>
                </a:lnTo>
                <a:lnTo>
                  <a:pt x="721" y="352"/>
                </a:lnTo>
                <a:lnTo>
                  <a:pt x="727" y="346"/>
                </a:lnTo>
                <a:lnTo>
                  <a:pt x="739" y="332"/>
                </a:lnTo>
                <a:lnTo>
                  <a:pt x="766" y="304"/>
                </a:lnTo>
                <a:lnTo>
                  <a:pt x="786" y="297"/>
                </a:lnTo>
                <a:lnTo>
                  <a:pt x="794" y="297"/>
                </a:lnTo>
                <a:lnTo>
                  <a:pt x="811" y="299"/>
                </a:lnTo>
                <a:lnTo>
                  <a:pt x="840" y="303"/>
                </a:lnTo>
                <a:lnTo>
                  <a:pt x="866" y="300"/>
                </a:lnTo>
                <a:lnTo>
                  <a:pt x="873" y="297"/>
                </a:lnTo>
                <a:lnTo>
                  <a:pt x="878" y="309"/>
                </a:lnTo>
                <a:lnTo>
                  <a:pt x="889" y="330"/>
                </a:lnTo>
                <a:lnTo>
                  <a:pt x="917" y="368"/>
                </a:lnTo>
                <a:lnTo>
                  <a:pt x="949" y="403"/>
                </a:lnTo>
                <a:lnTo>
                  <a:pt x="957" y="412"/>
                </a:lnTo>
                <a:lnTo>
                  <a:pt x="959" y="415"/>
                </a:lnTo>
                <a:lnTo>
                  <a:pt x="965" y="420"/>
                </a:lnTo>
                <a:lnTo>
                  <a:pt x="975" y="433"/>
                </a:lnTo>
                <a:lnTo>
                  <a:pt x="976" y="441"/>
                </a:lnTo>
                <a:lnTo>
                  <a:pt x="976" y="449"/>
                </a:lnTo>
                <a:lnTo>
                  <a:pt x="976" y="452"/>
                </a:lnTo>
                <a:lnTo>
                  <a:pt x="973" y="458"/>
                </a:lnTo>
                <a:lnTo>
                  <a:pt x="968" y="468"/>
                </a:lnTo>
                <a:lnTo>
                  <a:pt x="959" y="488"/>
                </a:lnTo>
                <a:lnTo>
                  <a:pt x="959" y="499"/>
                </a:lnTo>
                <a:lnTo>
                  <a:pt x="960" y="509"/>
                </a:lnTo>
                <a:lnTo>
                  <a:pt x="963" y="513"/>
                </a:lnTo>
                <a:lnTo>
                  <a:pt x="976" y="536"/>
                </a:lnTo>
                <a:lnTo>
                  <a:pt x="1005" y="581"/>
                </a:lnTo>
                <a:lnTo>
                  <a:pt x="1053" y="672"/>
                </a:lnTo>
                <a:lnTo>
                  <a:pt x="1063" y="722"/>
                </a:lnTo>
                <a:lnTo>
                  <a:pt x="1062" y="772"/>
                </a:lnTo>
                <a:lnTo>
                  <a:pt x="1054" y="800"/>
                </a:lnTo>
                <a:lnTo>
                  <a:pt x="1053" y="801"/>
                </a:lnTo>
                <a:lnTo>
                  <a:pt x="1047" y="807"/>
                </a:lnTo>
                <a:lnTo>
                  <a:pt x="1026" y="827"/>
                </a:lnTo>
                <a:lnTo>
                  <a:pt x="1008" y="843"/>
                </a:lnTo>
                <a:lnTo>
                  <a:pt x="1008" y="843"/>
                </a:lnTo>
                <a:lnTo>
                  <a:pt x="1005" y="842"/>
                </a:lnTo>
                <a:lnTo>
                  <a:pt x="1002" y="838"/>
                </a:lnTo>
                <a:lnTo>
                  <a:pt x="994" y="829"/>
                </a:lnTo>
                <a:lnTo>
                  <a:pt x="986" y="820"/>
                </a:lnTo>
                <a:lnTo>
                  <a:pt x="985" y="819"/>
                </a:lnTo>
                <a:lnTo>
                  <a:pt x="978" y="817"/>
                </a:lnTo>
                <a:lnTo>
                  <a:pt x="972" y="816"/>
                </a:lnTo>
                <a:lnTo>
                  <a:pt x="966" y="816"/>
                </a:lnTo>
                <a:lnTo>
                  <a:pt x="955" y="819"/>
                </a:lnTo>
                <a:lnTo>
                  <a:pt x="943" y="823"/>
                </a:lnTo>
                <a:lnTo>
                  <a:pt x="920" y="836"/>
                </a:lnTo>
                <a:lnTo>
                  <a:pt x="915" y="838"/>
                </a:lnTo>
                <a:lnTo>
                  <a:pt x="910" y="841"/>
                </a:lnTo>
                <a:lnTo>
                  <a:pt x="898" y="842"/>
                </a:lnTo>
                <a:lnTo>
                  <a:pt x="885" y="841"/>
                </a:lnTo>
                <a:lnTo>
                  <a:pt x="859" y="836"/>
                </a:lnTo>
                <a:lnTo>
                  <a:pt x="839" y="835"/>
                </a:lnTo>
                <a:lnTo>
                  <a:pt x="834" y="835"/>
                </a:lnTo>
                <a:lnTo>
                  <a:pt x="827" y="833"/>
                </a:lnTo>
                <a:lnTo>
                  <a:pt x="820" y="829"/>
                </a:lnTo>
                <a:lnTo>
                  <a:pt x="805" y="825"/>
                </a:lnTo>
                <a:lnTo>
                  <a:pt x="797" y="826"/>
                </a:lnTo>
                <a:lnTo>
                  <a:pt x="791" y="830"/>
                </a:lnTo>
                <a:lnTo>
                  <a:pt x="782" y="835"/>
                </a:lnTo>
                <a:lnTo>
                  <a:pt x="766" y="841"/>
                </a:lnTo>
                <a:lnTo>
                  <a:pt x="749" y="845"/>
                </a:lnTo>
                <a:lnTo>
                  <a:pt x="744" y="845"/>
                </a:lnTo>
                <a:lnTo>
                  <a:pt x="740" y="848"/>
                </a:lnTo>
                <a:lnTo>
                  <a:pt x="737" y="849"/>
                </a:lnTo>
                <a:lnTo>
                  <a:pt x="734" y="852"/>
                </a:lnTo>
                <a:lnTo>
                  <a:pt x="731" y="855"/>
                </a:lnTo>
                <a:lnTo>
                  <a:pt x="728" y="862"/>
                </a:lnTo>
                <a:lnTo>
                  <a:pt x="727" y="871"/>
                </a:lnTo>
                <a:lnTo>
                  <a:pt x="723" y="884"/>
                </a:lnTo>
                <a:lnTo>
                  <a:pt x="723" y="884"/>
                </a:lnTo>
                <a:lnTo>
                  <a:pt x="715" y="893"/>
                </a:lnTo>
                <a:lnTo>
                  <a:pt x="701" y="909"/>
                </a:lnTo>
                <a:lnTo>
                  <a:pt x="668" y="935"/>
                </a:lnTo>
                <a:lnTo>
                  <a:pt x="639" y="965"/>
                </a:lnTo>
                <a:lnTo>
                  <a:pt x="634" y="974"/>
                </a:lnTo>
                <a:lnTo>
                  <a:pt x="633" y="977"/>
                </a:lnTo>
                <a:lnTo>
                  <a:pt x="636" y="980"/>
                </a:lnTo>
                <a:lnTo>
                  <a:pt x="637" y="980"/>
                </a:lnTo>
                <a:lnTo>
                  <a:pt x="640" y="981"/>
                </a:lnTo>
                <a:lnTo>
                  <a:pt x="646" y="983"/>
                </a:lnTo>
                <a:lnTo>
                  <a:pt x="655" y="988"/>
                </a:lnTo>
                <a:lnTo>
                  <a:pt x="656" y="990"/>
                </a:lnTo>
                <a:lnTo>
                  <a:pt x="656" y="994"/>
                </a:lnTo>
                <a:lnTo>
                  <a:pt x="656" y="1000"/>
                </a:lnTo>
                <a:lnTo>
                  <a:pt x="658" y="1012"/>
                </a:lnTo>
                <a:lnTo>
                  <a:pt x="655" y="1017"/>
                </a:lnTo>
                <a:lnTo>
                  <a:pt x="652" y="1023"/>
                </a:lnTo>
                <a:lnTo>
                  <a:pt x="649" y="1025"/>
                </a:lnTo>
                <a:lnTo>
                  <a:pt x="659" y="1048"/>
                </a:lnTo>
                <a:lnTo>
                  <a:pt x="676" y="1084"/>
                </a:lnTo>
                <a:lnTo>
                  <a:pt x="691" y="1139"/>
                </a:lnTo>
                <a:lnTo>
                  <a:pt x="692" y="1185"/>
                </a:lnTo>
                <a:lnTo>
                  <a:pt x="694" y="1197"/>
                </a:lnTo>
                <a:lnTo>
                  <a:pt x="692" y="1197"/>
                </a:lnTo>
                <a:lnTo>
                  <a:pt x="688" y="1197"/>
                </a:lnTo>
                <a:lnTo>
                  <a:pt x="686" y="1197"/>
                </a:lnTo>
                <a:lnTo>
                  <a:pt x="686" y="1197"/>
                </a:lnTo>
                <a:lnTo>
                  <a:pt x="681" y="1198"/>
                </a:lnTo>
                <a:lnTo>
                  <a:pt x="673" y="1198"/>
                </a:lnTo>
                <a:lnTo>
                  <a:pt x="659" y="1201"/>
                </a:lnTo>
                <a:lnTo>
                  <a:pt x="650" y="1206"/>
                </a:lnTo>
                <a:lnTo>
                  <a:pt x="649" y="1207"/>
                </a:lnTo>
                <a:lnTo>
                  <a:pt x="649" y="1203"/>
                </a:lnTo>
                <a:lnTo>
                  <a:pt x="650" y="1191"/>
                </a:lnTo>
                <a:lnTo>
                  <a:pt x="649" y="1180"/>
                </a:lnTo>
                <a:lnTo>
                  <a:pt x="642" y="1161"/>
                </a:lnTo>
                <a:lnTo>
                  <a:pt x="636" y="1149"/>
                </a:lnTo>
                <a:lnTo>
                  <a:pt x="630" y="1143"/>
                </a:lnTo>
                <a:lnTo>
                  <a:pt x="621" y="1129"/>
                </a:lnTo>
                <a:lnTo>
                  <a:pt x="605" y="1098"/>
                </a:lnTo>
                <a:lnTo>
                  <a:pt x="591" y="1068"/>
                </a:lnTo>
                <a:lnTo>
                  <a:pt x="588" y="1059"/>
                </a:lnTo>
                <a:lnTo>
                  <a:pt x="581" y="1065"/>
                </a:lnTo>
                <a:lnTo>
                  <a:pt x="575" y="1068"/>
                </a:lnTo>
                <a:lnTo>
                  <a:pt x="569" y="1069"/>
                </a:lnTo>
                <a:lnTo>
                  <a:pt x="565" y="1069"/>
                </a:lnTo>
                <a:lnTo>
                  <a:pt x="559" y="1068"/>
                </a:lnTo>
                <a:lnTo>
                  <a:pt x="555" y="1065"/>
                </a:lnTo>
                <a:lnTo>
                  <a:pt x="546" y="1058"/>
                </a:lnTo>
                <a:lnTo>
                  <a:pt x="527" y="1042"/>
                </a:lnTo>
                <a:lnTo>
                  <a:pt x="527" y="1042"/>
                </a:lnTo>
                <a:lnTo>
                  <a:pt x="527" y="1045"/>
                </a:lnTo>
                <a:lnTo>
                  <a:pt x="527" y="1049"/>
                </a:lnTo>
                <a:lnTo>
                  <a:pt x="526" y="1052"/>
                </a:lnTo>
                <a:lnTo>
                  <a:pt x="524" y="1055"/>
                </a:lnTo>
                <a:lnTo>
                  <a:pt x="521" y="1058"/>
                </a:lnTo>
                <a:lnTo>
                  <a:pt x="518" y="1058"/>
                </a:lnTo>
                <a:lnTo>
                  <a:pt x="518" y="1058"/>
                </a:lnTo>
                <a:lnTo>
                  <a:pt x="514" y="1059"/>
                </a:lnTo>
                <a:lnTo>
                  <a:pt x="505" y="1059"/>
                </a:lnTo>
                <a:lnTo>
                  <a:pt x="491" y="1064"/>
                </a:lnTo>
                <a:lnTo>
                  <a:pt x="478" y="1072"/>
                </a:lnTo>
                <a:lnTo>
                  <a:pt x="475" y="1074"/>
                </a:lnTo>
                <a:lnTo>
                  <a:pt x="469" y="1077"/>
                </a:lnTo>
                <a:lnTo>
                  <a:pt x="463" y="1078"/>
                </a:lnTo>
                <a:lnTo>
                  <a:pt x="456" y="1080"/>
                </a:lnTo>
                <a:lnTo>
                  <a:pt x="450" y="1078"/>
                </a:lnTo>
                <a:lnTo>
                  <a:pt x="440" y="1074"/>
                </a:lnTo>
                <a:lnTo>
                  <a:pt x="433" y="1067"/>
                </a:lnTo>
                <a:lnTo>
                  <a:pt x="431" y="1062"/>
                </a:lnTo>
                <a:lnTo>
                  <a:pt x="430" y="1056"/>
                </a:lnTo>
                <a:lnTo>
                  <a:pt x="431" y="1051"/>
                </a:lnTo>
                <a:lnTo>
                  <a:pt x="433" y="1043"/>
                </a:lnTo>
                <a:lnTo>
                  <a:pt x="434" y="1043"/>
                </a:lnTo>
                <a:lnTo>
                  <a:pt x="436" y="1039"/>
                </a:lnTo>
                <a:lnTo>
                  <a:pt x="442" y="1029"/>
                </a:lnTo>
                <a:lnTo>
                  <a:pt x="452" y="1004"/>
                </a:lnTo>
                <a:lnTo>
                  <a:pt x="453" y="991"/>
                </a:lnTo>
                <a:lnTo>
                  <a:pt x="452" y="980"/>
                </a:lnTo>
                <a:lnTo>
                  <a:pt x="449" y="972"/>
                </a:lnTo>
                <a:lnTo>
                  <a:pt x="442" y="964"/>
                </a:lnTo>
                <a:lnTo>
                  <a:pt x="429" y="951"/>
                </a:lnTo>
                <a:lnTo>
                  <a:pt x="411" y="941"/>
                </a:lnTo>
                <a:lnTo>
                  <a:pt x="392" y="936"/>
                </a:lnTo>
                <a:lnTo>
                  <a:pt x="374" y="936"/>
                </a:lnTo>
                <a:lnTo>
                  <a:pt x="355" y="939"/>
                </a:lnTo>
                <a:lnTo>
                  <a:pt x="346" y="941"/>
                </a:lnTo>
                <a:lnTo>
                  <a:pt x="343" y="942"/>
                </a:lnTo>
                <a:lnTo>
                  <a:pt x="340" y="945"/>
                </a:lnTo>
                <a:lnTo>
                  <a:pt x="339" y="948"/>
                </a:lnTo>
                <a:lnTo>
                  <a:pt x="337" y="951"/>
                </a:lnTo>
                <a:lnTo>
                  <a:pt x="336" y="958"/>
                </a:lnTo>
                <a:lnTo>
                  <a:pt x="336" y="965"/>
                </a:lnTo>
                <a:lnTo>
                  <a:pt x="336" y="981"/>
                </a:lnTo>
                <a:lnTo>
                  <a:pt x="337" y="981"/>
                </a:lnTo>
                <a:lnTo>
                  <a:pt x="339" y="981"/>
                </a:lnTo>
                <a:lnTo>
                  <a:pt x="343" y="981"/>
                </a:lnTo>
                <a:lnTo>
                  <a:pt x="346" y="983"/>
                </a:lnTo>
                <a:lnTo>
                  <a:pt x="349" y="984"/>
                </a:lnTo>
                <a:lnTo>
                  <a:pt x="352" y="985"/>
                </a:lnTo>
                <a:lnTo>
                  <a:pt x="353" y="988"/>
                </a:lnTo>
                <a:lnTo>
                  <a:pt x="355" y="990"/>
                </a:lnTo>
                <a:lnTo>
                  <a:pt x="355" y="993"/>
                </a:lnTo>
                <a:lnTo>
                  <a:pt x="355" y="997"/>
                </a:lnTo>
                <a:lnTo>
                  <a:pt x="355" y="1006"/>
                </a:lnTo>
                <a:lnTo>
                  <a:pt x="355" y="1014"/>
                </a:lnTo>
                <a:lnTo>
                  <a:pt x="355" y="1016"/>
                </a:lnTo>
                <a:lnTo>
                  <a:pt x="352" y="1014"/>
                </a:lnTo>
                <a:lnTo>
                  <a:pt x="349" y="1014"/>
                </a:lnTo>
                <a:lnTo>
                  <a:pt x="347" y="1014"/>
                </a:lnTo>
                <a:lnTo>
                  <a:pt x="346" y="1016"/>
                </a:lnTo>
                <a:lnTo>
                  <a:pt x="346" y="1017"/>
                </a:lnTo>
                <a:lnTo>
                  <a:pt x="345" y="1020"/>
                </a:lnTo>
                <a:lnTo>
                  <a:pt x="343" y="1025"/>
                </a:lnTo>
                <a:lnTo>
                  <a:pt x="342" y="1027"/>
                </a:lnTo>
                <a:lnTo>
                  <a:pt x="337" y="1025"/>
                </a:lnTo>
                <a:lnTo>
                  <a:pt x="337" y="1025"/>
                </a:lnTo>
                <a:lnTo>
                  <a:pt x="337" y="1032"/>
                </a:lnTo>
                <a:lnTo>
                  <a:pt x="340" y="1045"/>
                </a:lnTo>
                <a:lnTo>
                  <a:pt x="346" y="1069"/>
                </a:lnTo>
                <a:lnTo>
                  <a:pt x="346" y="1096"/>
                </a:lnTo>
                <a:lnTo>
                  <a:pt x="345" y="1101"/>
                </a:lnTo>
                <a:lnTo>
                  <a:pt x="337" y="1122"/>
                </a:lnTo>
                <a:lnTo>
                  <a:pt x="326" y="1159"/>
                </a:lnTo>
                <a:lnTo>
                  <a:pt x="304" y="1232"/>
                </a:lnTo>
                <a:lnTo>
                  <a:pt x="274" y="1304"/>
                </a:lnTo>
                <a:lnTo>
                  <a:pt x="263" y="1322"/>
                </a:lnTo>
                <a:lnTo>
                  <a:pt x="258" y="1330"/>
                </a:lnTo>
                <a:lnTo>
                  <a:pt x="247" y="1349"/>
                </a:lnTo>
                <a:lnTo>
                  <a:pt x="233" y="1388"/>
                </a:lnTo>
                <a:lnTo>
                  <a:pt x="232" y="1409"/>
                </a:lnTo>
                <a:lnTo>
                  <a:pt x="234" y="1429"/>
                </a:lnTo>
                <a:lnTo>
                  <a:pt x="239" y="1438"/>
                </a:lnTo>
                <a:lnTo>
                  <a:pt x="239" y="1442"/>
                </a:lnTo>
                <a:lnTo>
                  <a:pt x="240" y="1451"/>
                </a:lnTo>
                <a:lnTo>
                  <a:pt x="239" y="1459"/>
                </a:lnTo>
                <a:lnTo>
                  <a:pt x="239" y="1474"/>
                </a:lnTo>
                <a:lnTo>
                  <a:pt x="243" y="1481"/>
                </a:lnTo>
                <a:lnTo>
                  <a:pt x="250" y="1490"/>
                </a:lnTo>
                <a:lnTo>
                  <a:pt x="265" y="1504"/>
                </a:lnTo>
                <a:lnTo>
                  <a:pt x="295" y="1530"/>
                </a:lnTo>
                <a:lnTo>
                  <a:pt x="326" y="1558"/>
                </a:lnTo>
                <a:lnTo>
                  <a:pt x="334" y="1564"/>
                </a:lnTo>
                <a:lnTo>
                  <a:pt x="336" y="1566"/>
                </a:lnTo>
                <a:lnTo>
                  <a:pt x="336" y="1568"/>
                </a:lnTo>
                <a:lnTo>
                  <a:pt x="336" y="1569"/>
                </a:lnTo>
                <a:lnTo>
                  <a:pt x="336" y="1572"/>
                </a:lnTo>
                <a:lnTo>
                  <a:pt x="336" y="1577"/>
                </a:lnTo>
                <a:lnTo>
                  <a:pt x="333" y="1585"/>
                </a:lnTo>
                <a:lnTo>
                  <a:pt x="333" y="1587"/>
                </a:lnTo>
                <a:lnTo>
                  <a:pt x="332" y="1595"/>
                </a:lnTo>
                <a:lnTo>
                  <a:pt x="332" y="1604"/>
                </a:lnTo>
                <a:lnTo>
                  <a:pt x="334" y="1611"/>
                </a:lnTo>
                <a:lnTo>
                  <a:pt x="339" y="1617"/>
                </a:lnTo>
                <a:lnTo>
                  <a:pt x="343" y="1623"/>
                </a:lnTo>
                <a:lnTo>
                  <a:pt x="355" y="1635"/>
                </a:lnTo>
                <a:lnTo>
                  <a:pt x="375" y="1659"/>
                </a:lnTo>
                <a:lnTo>
                  <a:pt x="379" y="1665"/>
                </a:lnTo>
                <a:lnTo>
                  <a:pt x="379" y="1671"/>
                </a:lnTo>
                <a:lnTo>
                  <a:pt x="379" y="1682"/>
                </a:lnTo>
                <a:lnTo>
                  <a:pt x="378" y="1695"/>
                </a:lnTo>
                <a:lnTo>
                  <a:pt x="375" y="1719"/>
                </a:lnTo>
                <a:lnTo>
                  <a:pt x="378" y="1732"/>
                </a:lnTo>
                <a:lnTo>
                  <a:pt x="382" y="1743"/>
                </a:lnTo>
                <a:lnTo>
                  <a:pt x="392" y="1766"/>
                </a:lnTo>
                <a:lnTo>
                  <a:pt x="424" y="1807"/>
                </a:lnTo>
                <a:lnTo>
                  <a:pt x="465" y="1839"/>
                </a:lnTo>
                <a:lnTo>
                  <a:pt x="478" y="1845"/>
                </a:lnTo>
                <a:lnTo>
                  <a:pt x="482" y="1848"/>
                </a:lnTo>
                <a:lnTo>
                  <a:pt x="487" y="1848"/>
                </a:lnTo>
                <a:lnTo>
                  <a:pt x="492" y="1848"/>
                </a:lnTo>
                <a:lnTo>
                  <a:pt x="497" y="1846"/>
                </a:lnTo>
                <a:lnTo>
                  <a:pt x="505" y="1840"/>
                </a:lnTo>
                <a:lnTo>
                  <a:pt x="526" y="1830"/>
                </a:lnTo>
                <a:lnTo>
                  <a:pt x="537" y="1829"/>
                </a:lnTo>
                <a:lnTo>
                  <a:pt x="536" y="1836"/>
                </a:lnTo>
                <a:lnTo>
                  <a:pt x="537" y="1842"/>
                </a:lnTo>
                <a:lnTo>
                  <a:pt x="540" y="1846"/>
                </a:lnTo>
                <a:lnTo>
                  <a:pt x="543" y="1850"/>
                </a:lnTo>
                <a:lnTo>
                  <a:pt x="550" y="1859"/>
                </a:lnTo>
                <a:lnTo>
                  <a:pt x="558" y="1868"/>
                </a:lnTo>
                <a:lnTo>
                  <a:pt x="562" y="1878"/>
                </a:lnTo>
                <a:lnTo>
                  <a:pt x="562" y="1890"/>
                </a:lnTo>
                <a:lnTo>
                  <a:pt x="562" y="1890"/>
                </a:lnTo>
                <a:lnTo>
                  <a:pt x="566" y="1890"/>
                </a:lnTo>
                <a:lnTo>
                  <a:pt x="576" y="1890"/>
                </a:lnTo>
                <a:lnTo>
                  <a:pt x="585" y="1891"/>
                </a:lnTo>
                <a:lnTo>
                  <a:pt x="592" y="1897"/>
                </a:lnTo>
                <a:lnTo>
                  <a:pt x="598" y="1903"/>
                </a:lnTo>
                <a:lnTo>
                  <a:pt x="602" y="1911"/>
                </a:lnTo>
                <a:lnTo>
                  <a:pt x="604" y="1916"/>
                </a:lnTo>
                <a:lnTo>
                  <a:pt x="601" y="1921"/>
                </a:lnTo>
                <a:lnTo>
                  <a:pt x="601" y="1924"/>
                </a:lnTo>
                <a:lnTo>
                  <a:pt x="601" y="1924"/>
                </a:lnTo>
                <a:lnTo>
                  <a:pt x="600" y="1924"/>
                </a:lnTo>
                <a:lnTo>
                  <a:pt x="597" y="1924"/>
                </a:lnTo>
                <a:lnTo>
                  <a:pt x="592" y="1924"/>
                </a:lnTo>
                <a:lnTo>
                  <a:pt x="588" y="1924"/>
                </a:lnTo>
                <a:lnTo>
                  <a:pt x="588" y="1924"/>
                </a:lnTo>
                <a:lnTo>
                  <a:pt x="588" y="1932"/>
                </a:lnTo>
                <a:lnTo>
                  <a:pt x="585" y="1945"/>
                </a:lnTo>
                <a:lnTo>
                  <a:pt x="581" y="1953"/>
                </a:lnTo>
                <a:lnTo>
                  <a:pt x="572" y="1959"/>
                </a:lnTo>
                <a:lnTo>
                  <a:pt x="562" y="1964"/>
                </a:lnTo>
                <a:lnTo>
                  <a:pt x="550" y="1966"/>
                </a:lnTo>
                <a:lnTo>
                  <a:pt x="544" y="1966"/>
                </a:lnTo>
                <a:lnTo>
                  <a:pt x="544" y="1965"/>
                </a:lnTo>
                <a:lnTo>
                  <a:pt x="544" y="1962"/>
                </a:lnTo>
                <a:lnTo>
                  <a:pt x="544" y="1959"/>
                </a:lnTo>
                <a:lnTo>
                  <a:pt x="543" y="1956"/>
                </a:lnTo>
                <a:lnTo>
                  <a:pt x="540" y="1955"/>
                </a:lnTo>
                <a:lnTo>
                  <a:pt x="537" y="1953"/>
                </a:lnTo>
                <a:lnTo>
                  <a:pt x="537" y="1952"/>
                </a:lnTo>
                <a:lnTo>
                  <a:pt x="529" y="1952"/>
                </a:lnTo>
                <a:lnTo>
                  <a:pt x="523" y="1953"/>
                </a:lnTo>
                <a:lnTo>
                  <a:pt x="518" y="1956"/>
                </a:lnTo>
                <a:lnTo>
                  <a:pt x="516" y="1961"/>
                </a:lnTo>
                <a:lnTo>
                  <a:pt x="513" y="1966"/>
                </a:lnTo>
                <a:lnTo>
                  <a:pt x="511" y="1972"/>
                </a:lnTo>
                <a:lnTo>
                  <a:pt x="508" y="1984"/>
                </a:lnTo>
                <a:lnTo>
                  <a:pt x="504" y="1991"/>
                </a:lnTo>
                <a:lnTo>
                  <a:pt x="494" y="1991"/>
                </a:lnTo>
                <a:lnTo>
                  <a:pt x="494" y="1991"/>
                </a:lnTo>
                <a:lnTo>
                  <a:pt x="489" y="1991"/>
                </a:lnTo>
                <a:lnTo>
                  <a:pt x="484" y="1988"/>
                </a:lnTo>
                <a:lnTo>
                  <a:pt x="478" y="1984"/>
                </a:lnTo>
                <a:lnTo>
                  <a:pt x="468" y="1974"/>
                </a:lnTo>
                <a:lnTo>
                  <a:pt x="459" y="1966"/>
                </a:lnTo>
                <a:lnTo>
                  <a:pt x="466" y="1952"/>
                </a:lnTo>
                <a:lnTo>
                  <a:pt x="471" y="1937"/>
                </a:lnTo>
                <a:lnTo>
                  <a:pt x="472" y="1924"/>
                </a:lnTo>
                <a:lnTo>
                  <a:pt x="469" y="1913"/>
                </a:lnTo>
                <a:lnTo>
                  <a:pt x="463" y="1903"/>
                </a:lnTo>
                <a:lnTo>
                  <a:pt x="455" y="1894"/>
                </a:lnTo>
                <a:lnTo>
                  <a:pt x="445" y="1887"/>
                </a:lnTo>
                <a:lnTo>
                  <a:pt x="421" y="1874"/>
                </a:lnTo>
                <a:lnTo>
                  <a:pt x="394" y="1864"/>
                </a:lnTo>
                <a:lnTo>
                  <a:pt x="381" y="1858"/>
                </a:lnTo>
                <a:lnTo>
                  <a:pt x="378" y="1858"/>
                </a:lnTo>
                <a:lnTo>
                  <a:pt x="372" y="1856"/>
                </a:lnTo>
                <a:lnTo>
                  <a:pt x="368" y="1858"/>
                </a:lnTo>
                <a:lnTo>
                  <a:pt x="365" y="1859"/>
                </a:lnTo>
                <a:lnTo>
                  <a:pt x="362" y="1862"/>
                </a:lnTo>
                <a:lnTo>
                  <a:pt x="359" y="1865"/>
                </a:lnTo>
                <a:lnTo>
                  <a:pt x="359" y="1866"/>
                </a:lnTo>
                <a:lnTo>
                  <a:pt x="358" y="1868"/>
                </a:lnTo>
                <a:lnTo>
                  <a:pt x="356" y="1874"/>
                </a:lnTo>
                <a:lnTo>
                  <a:pt x="349" y="1891"/>
                </a:lnTo>
                <a:lnTo>
                  <a:pt x="343" y="1904"/>
                </a:lnTo>
                <a:lnTo>
                  <a:pt x="343" y="1904"/>
                </a:lnTo>
                <a:lnTo>
                  <a:pt x="340" y="1904"/>
                </a:lnTo>
                <a:lnTo>
                  <a:pt x="337" y="1906"/>
                </a:lnTo>
                <a:lnTo>
                  <a:pt x="334" y="1907"/>
                </a:lnTo>
                <a:lnTo>
                  <a:pt x="326" y="1911"/>
                </a:lnTo>
                <a:lnTo>
                  <a:pt x="316" y="1917"/>
                </a:lnTo>
                <a:lnTo>
                  <a:pt x="304" y="1919"/>
                </a:lnTo>
                <a:lnTo>
                  <a:pt x="292" y="1916"/>
                </a:lnTo>
                <a:lnTo>
                  <a:pt x="288" y="1911"/>
                </a:lnTo>
                <a:lnTo>
                  <a:pt x="288" y="1911"/>
                </a:lnTo>
                <a:close/>
              </a:path>
            </a:pathLst>
          </a:custGeom>
          <a:noFill/>
          <a:ln w="4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359080" y="4871880"/>
            <a:ext cx="833040" cy="595080"/>
            <a:chOff x="2359080" y="4871880"/>
            <a:chExt cx="833040" cy="595080"/>
          </a:xfrm>
        </p:grpSpPr>
        <p:sp>
          <p:nvSpPr>
            <p:cNvPr id="292" name=""/>
            <p:cNvSpPr/>
            <p:nvPr/>
          </p:nvSpPr>
          <p:spPr>
            <a:xfrm>
              <a:off x="2359080" y="4871880"/>
              <a:ext cx="828720" cy="516240"/>
            </a:xfrm>
            <a:custGeom>
              <a:avLst/>
              <a:gdLst/>
              <a:ahLst/>
              <a:rect l="l" t="t" r="r" b="b"/>
              <a:pathLst>
                <a:path w="2197" h="1744">
                  <a:moveTo>
                    <a:pt x="4" y="889"/>
                  </a:moveTo>
                  <a:lnTo>
                    <a:pt x="3" y="893"/>
                  </a:lnTo>
                  <a:lnTo>
                    <a:pt x="2" y="900"/>
                  </a:lnTo>
                  <a:lnTo>
                    <a:pt x="2" y="906"/>
                  </a:lnTo>
                  <a:lnTo>
                    <a:pt x="2" y="906"/>
                  </a:lnTo>
                  <a:lnTo>
                    <a:pt x="2" y="907"/>
                  </a:lnTo>
                  <a:lnTo>
                    <a:pt x="2" y="909"/>
                  </a:lnTo>
                  <a:lnTo>
                    <a:pt x="3" y="915"/>
                  </a:lnTo>
                  <a:lnTo>
                    <a:pt x="3" y="920"/>
                  </a:lnTo>
                  <a:lnTo>
                    <a:pt x="4" y="920"/>
                  </a:lnTo>
                  <a:lnTo>
                    <a:pt x="6" y="924"/>
                  </a:lnTo>
                  <a:lnTo>
                    <a:pt x="14" y="935"/>
                  </a:lnTo>
                  <a:lnTo>
                    <a:pt x="20" y="943"/>
                  </a:lnTo>
                  <a:lnTo>
                    <a:pt x="21" y="943"/>
                  </a:lnTo>
                  <a:lnTo>
                    <a:pt x="22" y="946"/>
                  </a:lnTo>
                  <a:lnTo>
                    <a:pt x="28" y="955"/>
                  </a:lnTo>
                  <a:lnTo>
                    <a:pt x="33" y="961"/>
                  </a:lnTo>
                  <a:lnTo>
                    <a:pt x="34" y="961"/>
                  </a:lnTo>
                  <a:lnTo>
                    <a:pt x="36" y="966"/>
                  </a:lnTo>
                  <a:lnTo>
                    <a:pt x="37" y="967"/>
                  </a:lnTo>
                  <a:lnTo>
                    <a:pt x="38" y="967"/>
                  </a:lnTo>
                  <a:lnTo>
                    <a:pt x="40" y="971"/>
                  </a:lnTo>
                  <a:lnTo>
                    <a:pt x="41" y="972"/>
                  </a:lnTo>
                  <a:lnTo>
                    <a:pt x="42" y="972"/>
                  </a:lnTo>
                  <a:lnTo>
                    <a:pt x="42" y="973"/>
                  </a:lnTo>
                  <a:lnTo>
                    <a:pt x="42" y="976"/>
                  </a:lnTo>
                  <a:lnTo>
                    <a:pt x="42" y="977"/>
                  </a:lnTo>
                  <a:lnTo>
                    <a:pt x="44" y="977"/>
                  </a:lnTo>
                  <a:lnTo>
                    <a:pt x="45" y="979"/>
                  </a:lnTo>
                  <a:lnTo>
                    <a:pt x="48" y="984"/>
                  </a:lnTo>
                  <a:lnTo>
                    <a:pt x="51" y="988"/>
                  </a:lnTo>
                  <a:lnTo>
                    <a:pt x="52" y="988"/>
                  </a:lnTo>
                  <a:lnTo>
                    <a:pt x="53" y="989"/>
                  </a:lnTo>
                  <a:lnTo>
                    <a:pt x="57" y="992"/>
                  </a:lnTo>
                  <a:lnTo>
                    <a:pt x="59" y="994"/>
                  </a:lnTo>
                  <a:lnTo>
                    <a:pt x="60" y="994"/>
                  </a:lnTo>
                  <a:lnTo>
                    <a:pt x="60" y="995"/>
                  </a:lnTo>
                  <a:lnTo>
                    <a:pt x="60" y="998"/>
                  </a:lnTo>
                  <a:lnTo>
                    <a:pt x="63" y="1005"/>
                  </a:lnTo>
                  <a:lnTo>
                    <a:pt x="64" y="1012"/>
                  </a:lnTo>
                  <a:lnTo>
                    <a:pt x="65" y="1012"/>
                  </a:lnTo>
                  <a:lnTo>
                    <a:pt x="65" y="1014"/>
                  </a:lnTo>
                  <a:lnTo>
                    <a:pt x="64" y="1019"/>
                  </a:lnTo>
                  <a:lnTo>
                    <a:pt x="64" y="1024"/>
                  </a:lnTo>
                  <a:lnTo>
                    <a:pt x="65" y="1024"/>
                  </a:lnTo>
                  <a:lnTo>
                    <a:pt x="64" y="1025"/>
                  </a:lnTo>
                  <a:lnTo>
                    <a:pt x="62" y="1029"/>
                  </a:lnTo>
                  <a:lnTo>
                    <a:pt x="61" y="1033"/>
                  </a:lnTo>
                  <a:lnTo>
                    <a:pt x="61" y="1033"/>
                  </a:lnTo>
                  <a:lnTo>
                    <a:pt x="60" y="1033"/>
                  </a:lnTo>
                  <a:lnTo>
                    <a:pt x="59" y="1033"/>
                  </a:lnTo>
                  <a:lnTo>
                    <a:pt x="56" y="1033"/>
                  </a:lnTo>
                  <a:lnTo>
                    <a:pt x="53" y="1033"/>
                  </a:lnTo>
                  <a:lnTo>
                    <a:pt x="53" y="1033"/>
                  </a:lnTo>
                  <a:lnTo>
                    <a:pt x="51" y="1026"/>
                  </a:lnTo>
                  <a:lnTo>
                    <a:pt x="50" y="1022"/>
                  </a:lnTo>
                  <a:lnTo>
                    <a:pt x="50" y="1021"/>
                  </a:lnTo>
                  <a:lnTo>
                    <a:pt x="49" y="1019"/>
                  </a:lnTo>
                  <a:lnTo>
                    <a:pt x="47" y="1016"/>
                  </a:lnTo>
                  <a:lnTo>
                    <a:pt x="46" y="1014"/>
                  </a:lnTo>
                  <a:lnTo>
                    <a:pt x="46" y="1013"/>
                  </a:lnTo>
                  <a:lnTo>
                    <a:pt x="45" y="1014"/>
                  </a:lnTo>
                  <a:lnTo>
                    <a:pt x="41" y="1018"/>
                  </a:lnTo>
                  <a:lnTo>
                    <a:pt x="40" y="1022"/>
                  </a:lnTo>
                  <a:lnTo>
                    <a:pt x="40" y="1022"/>
                  </a:lnTo>
                  <a:lnTo>
                    <a:pt x="39" y="1021"/>
                  </a:lnTo>
                  <a:lnTo>
                    <a:pt x="37" y="1017"/>
                  </a:lnTo>
                  <a:lnTo>
                    <a:pt x="36" y="1014"/>
                  </a:lnTo>
                  <a:lnTo>
                    <a:pt x="36" y="1013"/>
                  </a:lnTo>
                  <a:lnTo>
                    <a:pt x="35" y="1012"/>
                  </a:lnTo>
                  <a:lnTo>
                    <a:pt x="32" y="1006"/>
                  </a:lnTo>
                  <a:lnTo>
                    <a:pt x="30" y="1002"/>
                  </a:lnTo>
                  <a:lnTo>
                    <a:pt x="30" y="1001"/>
                  </a:lnTo>
                  <a:lnTo>
                    <a:pt x="29" y="1000"/>
                  </a:lnTo>
                  <a:lnTo>
                    <a:pt x="26" y="995"/>
                  </a:lnTo>
                  <a:lnTo>
                    <a:pt x="24" y="992"/>
                  </a:lnTo>
                  <a:lnTo>
                    <a:pt x="24" y="991"/>
                  </a:lnTo>
                  <a:lnTo>
                    <a:pt x="21" y="990"/>
                  </a:lnTo>
                  <a:lnTo>
                    <a:pt x="20" y="989"/>
                  </a:lnTo>
                  <a:lnTo>
                    <a:pt x="20" y="990"/>
                  </a:lnTo>
                  <a:lnTo>
                    <a:pt x="20" y="991"/>
                  </a:lnTo>
                  <a:lnTo>
                    <a:pt x="21" y="995"/>
                  </a:lnTo>
                  <a:lnTo>
                    <a:pt x="21" y="999"/>
                  </a:lnTo>
                  <a:lnTo>
                    <a:pt x="22" y="999"/>
                  </a:lnTo>
                  <a:lnTo>
                    <a:pt x="24" y="1003"/>
                  </a:lnTo>
                  <a:lnTo>
                    <a:pt x="32" y="1016"/>
                  </a:lnTo>
                  <a:lnTo>
                    <a:pt x="37" y="1026"/>
                  </a:lnTo>
                  <a:lnTo>
                    <a:pt x="38" y="1026"/>
                  </a:lnTo>
                  <a:lnTo>
                    <a:pt x="39" y="1027"/>
                  </a:lnTo>
                  <a:lnTo>
                    <a:pt x="44" y="1030"/>
                  </a:lnTo>
                  <a:lnTo>
                    <a:pt x="47" y="1033"/>
                  </a:lnTo>
                  <a:lnTo>
                    <a:pt x="48" y="1033"/>
                  </a:lnTo>
                  <a:lnTo>
                    <a:pt x="48" y="1034"/>
                  </a:lnTo>
                  <a:lnTo>
                    <a:pt x="48" y="1035"/>
                  </a:lnTo>
                  <a:lnTo>
                    <a:pt x="49" y="1039"/>
                  </a:lnTo>
                  <a:lnTo>
                    <a:pt x="50" y="1042"/>
                  </a:lnTo>
                  <a:lnTo>
                    <a:pt x="51" y="1042"/>
                  </a:lnTo>
                  <a:lnTo>
                    <a:pt x="50" y="1043"/>
                  </a:lnTo>
                  <a:lnTo>
                    <a:pt x="48" y="1047"/>
                  </a:lnTo>
                  <a:lnTo>
                    <a:pt x="47" y="1048"/>
                  </a:lnTo>
                  <a:lnTo>
                    <a:pt x="47" y="1048"/>
                  </a:lnTo>
                  <a:lnTo>
                    <a:pt x="46" y="1048"/>
                  </a:lnTo>
                  <a:lnTo>
                    <a:pt x="45" y="1048"/>
                  </a:lnTo>
                  <a:lnTo>
                    <a:pt x="41" y="1048"/>
                  </a:lnTo>
                  <a:lnTo>
                    <a:pt x="39" y="1048"/>
                  </a:lnTo>
                  <a:lnTo>
                    <a:pt x="39" y="1048"/>
                  </a:lnTo>
                  <a:lnTo>
                    <a:pt x="37" y="1045"/>
                  </a:lnTo>
                  <a:lnTo>
                    <a:pt x="36" y="1043"/>
                  </a:lnTo>
                  <a:lnTo>
                    <a:pt x="36" y="1042"/>
                  </a:lnTo>
                  <a:lnTo>
                    <a:pt x="35" y="1043"/>
                  </a:lnTo>
                  <a:lnTo>
                    <a:pt x="34" y="1045"/>
                  </a:lnTo>
                  <a:lnTo>
                    <a:pt x="33" y="1046"/>
                  </a:lnTo>
                  <a:lnTo>
                    <a:pt x="33" y="1046"/>
                  </a:lnTo>
                  <a:lnTo>
                    <a:pt x="30" y="1040"/>
                  </a:lnTo>
                  <a:lnTo>
                    <a:pt x="29" y="1037"/>
                  </a:lnTo>
                  <a:lnTo>
                    <a:pt x="29" y="1036"/>
                  </a:lnTo>
                  <a:lnTo>
                    <a:pt x="26" y="1033"/>
                  </a:lnTo>
                  <a:lnTo>
                    <a:pt x="25" y="1030"/>
                  </a:lnTo>
                  <a:lnTo>
                    <a:pt x="25" y="1029"/>
                  </a:lnTo>
                  <a:lnTo>
                    <a:pt x="24" y="1029"/>
                  </a:lnTo>
                  <a:lnTo>
                    <a:pt x="23" y="1029"/>
                  </a:lnTo>
                  <a:lnTo>
                    <a:pt x="22" y="1029"/>
                  </a:lnTo>
                  <a:lnTo>
                    <a:pt x="22" y="1028"/>
                  </a:lnTo>
                  <a:lnTo>
                    <a:pt x="21" y="1028"/>
                  </a:lnTo>
                  <a:lnTo>
                    <a:pt x="18" y="1028"/>
                  </a:lnTo>
                  <a:lnTo>
                    <a:pt x="17" y="1028"/>
                  </a:lnTo>
                  <a:lnTo>
                    <a:pt x="17" y="1028"/>
                  </a:lnTo>
                  <a:lnTo>
                    <a:pt x="15" y="1026"/>
                  </a:lnTo>
                  <a:lnTo>
                    <a:pt x="14" y="1025"/>
                  </a:lnTo>
                  <a:lnTo>
                    <a:pt x="14" y="1024"/>
                  </a:lnTo>
                  <a:lnTo>
                    <a:pt x="14" y="1025"/>
                  </a:lnTo>
                  <a:lnTo>
                    <a:pt x="13" y="1028"/>
                  </a:lnTo>
                  <a:lnTo>
                    <a:pt x="13" y="1029"/>
                  </a:lnTo>
                  <a:lnTo>
                    <a:pt x="14" y="1029"/>
                  </a:lnTo>
                  <a:lnTo>
                    <a:pt x="15" y="1031"/>
                  </a:lnTo>
                  <a:lnTo>
                    <a:pt x="16" y="1033"/>
                  </a:lnTo>
                  <a:lnTo>
                    <a:pt x="17" y="1037"/>
                  </a:lnTo>
                  <a:lnTo>
                    <a:pt x="18" y="1038"/>
                  </a:lnTo>
                  <a:lnTo>
                    <a:pt x="20" y="1038"/>
                  </a:lnTo>
                  <a:lnTo>
                    <a:pt x="23" y="1041"/>
                  </a:lnTo>
                  <a:lnTo>
                    <a:pt x="25" y="1042"/>
                  </a:lnTo>
                  <a:lnTo>
                    <a:pt x="26" y="1042"/>
                  </a:lnTo>
                  <a:lnTo>
                    <a:pt x="28" y="1048"/>
                  </a:lnTo>
                  <a:lnTo>
                    <a:pt x="29" y="1050"/>
                  </a:lnTo>
                  <a:lnTo>
                    <a:pt x="30" y="1050"/>
                  </a:lnTo>
                  <a:lnTo>
                    <a:pt x="32" y="1052"/>
                  </a:lnTo>
                  <a:lnTo>
                    <a:pt x="35" y="1056"/>
                  </a:lnTo>
                  <a:lnTo>
                    <a:pt x="37" y="1058"/>
                  </a:lnTo>
                  <a:lnTo>
                    <a:pt x="38" y="1058"/>
                  </a:lnTo>
                  <a:lnTo>
                    <a:pt x="39" y="1060"/>
                  </a:lnTo>
                  <a:lnTo>
                    <a:pt x="44" y="1064"/>
                  </a:lnTo>
                  <a:lnTo>
                    <a:pt x="47" y="1068"/>
                  </a:lnTo>
                  <a:lnTo>
                    <a:pt x="48" y="1068"/>
                  </a:lnTo>
                  <a:lnTo>
                    <a:pt x="50" y="1069"/>
                  </a:lnTo>
                  <a:lnTo>
                    <a:pt x="57" y="1072"/>
                  </a:lnTo>
                  <a:lnTo>
                    <a:pt x="61" y="1073"/>
                  </a:lnTo>
                  <a:lnTo>
                    <a:pt x="62" y="1073"/>
                  </a:lnTo>
                  <a:lnTo>
                    <a:pt x="62" y="1074"/>
                  </a:lnTo>
                  <a:lnTo>
                    <a:pt x="63" y="1076"/>
                  </a:lnTo>
                  <a:lnTo>
                    <a:pt x="67" y="1085"/>
                  </a:lnTo>
                  <a:lnTo>
                    <a:pt x="69" y="1092"/>
                  </a:lnTo>
                  <a:lnTo>
                    <a:pt x="70" y="1092"/>
                  </a:lnTo>
                  <a:lnTo>
                    <a:pt x="71" y="1095"/>
                  </a:lnTo>
                  <a:lnTo>
                    <a:pt x="75" y="1101"/>
                  </a:lnTo>
                  <a:lnTo>
                    <a:pt x="79" y="1106"/>
                  </a:lnTo>
                  <a:lnTo>
                    <a:pt x="80" y="1106"/>
                  </a:lnTo>
                  <a:lnTo>
                    <a:pt x="80" y="1107"/>
                  </a:lnTo>
                  <a:lnTo>
                    <a:pt x="80" y="1109"/>
                  </a:lnTo>
                  <a:lnTo>
                    <a:pt x="83" y="1119"/>
                  </a:lnTo>
                  <a:lnTo>
                    <a:pt x="84" y="1127"/>
                  </a:lnTo>
                  <a:lnTo>
                    <a:pt x="85" y="1127"/>
                  </a:lnTo>
                  <a:lnTo>
                    <a:pt x="87" y="1130"/>
                  </a:lnTo>
                  <a:lnTo>
                    <a:pt x="94" y="1140"/>
                  </a:lnTo>
                  <a:lnTo>
                    <a:pt x="98" y="1146"/>
                  </a:lnTo>
                  <a:lnTo>
                    <a:pt x="99" y="1146"/>
                  </a:lnTo>
                  <a:lnTo>
                    <a:pt x="100" y="1149"/>
                  </a:lnTo>
                  <a:lnTo>
                    <a:pt x="106" y="1154"/>
                  </a:lnTo>
                  <a:lnTo>
                    <a:pt x="110" y="1158"/>
                  </a:lnTo>
                  <a:lnTo>
                    <a:pt x="111" y="1158"/>
                  </a:lnTo>
                  <a:lnTo>
                    <a:pt x="111" y="1159"/>
                  </a:lnTo>
                  <a:lnTo>
                    <a:pt x="111" y="1162"/>
                  </a:lnTo>
                  <a:lnTo>
                    <a:pt x="114" y="1168"/>
                  </a:lnTo>
                  <a:lnTo>
                    <a:pt x="115" y="1173"/>
                  </a:lnTo>
                  <a:lnTo>
                    <a:pt x="116" y="1173"/>
                  </a:lnTo>
                  <a:lnTo>
                    <a:pt x="117" y="1175"/>
                  </a:lnTo>
                  <a:lnTo>
                    <a:pt x="122" y="1180"/>
                  </a:lnTo>
                  <a:lnTo>
                    <a:pt x="126" y="1184"/>
                  </a:lnTo>
                  <a:lnTo>
                    <a:pt x="127" y="1184"/>
                  </a:lnTo>
                  <a:lnTo>
                    <a:pt x="130" y="1189"/>
                  </a:lnTo>
                  <a:lnTo>
                    <a:pt x="132" y="1191"/>
                  </a:lnTo>
                  <a:lnTo>
                    <a:pt x="133" y="1191"/>
                  </a:lnTo>
                  <a:lnTo>
                    <a:pt x="135" y="1196"/>
                  </a:lnTo>
                  <a:lnTo>
                    <a:pt x="136" y="1197"/>
                  </a:lnTo>
                  <a:lnTo>
                    <a:pt x="138" y="1197"/>
                  </a:lnTo>
                  <a:lnTo>
                    <a:pt x="138" y="1198"/>
                  </a:lnTo>
                  <a:lnTo>
                    <a:pt x="138" y="1199"/>
                  </a:lnTo>
                  <a:lnTo>
                    <a:pt x="140" y="1204"/>
                  </a:lnTo>
                  <a:lnTo>
                    <a:pt x="141" y="1208"/>
                  </a:lnTo>
                  <a:lnTo>
                    <a:pt x="142" y="1208"/>
                  </a:lnTo>
                  <a:lnTo>
                    <a:pt x="142" y="1209"/>
                  </a:lnTo>
                  <a:lnTo>
                    <a:pt x="142" y="1213"/>
                  </a:lnTo>
                  <a:lnTo>
                    <a:pt x="145" y="1227"/>
                  </a:lnTo>
                  <a:lnTo>
                    <a:pt x="146" y="1238"/>
                  </a:lnTo>
                  <a:lnTo>
                    <a:pt x="147" y="1238"/>
                  </a:lnTo>
                  <a:lnTo>
                    <a:pt x="147" y="1239"/>
                  </a:lnTo>
                  <a:lnTo>
                    <a:pt x="149" y="1243"/>
                  </a:lnTo>
                  <a:lnTo>
                    <a:pt x="152" y="1254"/>
                  </a:lnTo>
                  <a:lnTo>
                    <a:pt x="154" y="1262"/>
                  </a:lnTo>
                  <a:lnTo>
                    <a:pt x="155" y="1262"/>
                  </a:lnTo>
                  <a:lnTo>
                    <a:pt x="156" y="1266"/>
                  </a:lnTo>
                  <a:lnTo>
                    <a:pt x="161" y="1272"/>
                  </a:lnTo>
                  <a:lnTo>
                    <a:pt x="164" y="1278"/>
                  </a:lnTo>
                  <a:lnTo>
                    <a:pt x="165" y="1278"/>
                  </a:lnTo>
                  <a:lnTo>
                    <a:pt x="166" y="1280"/>
                  </a:lnTo>
                  <a:lnTo>
                    <a:pt x="169" y="1284"/>
                  </a:lnTo>
                  <a:lnTo>
                    <a:pt x="171" y="1287"/>
                  </a:lnTo>
                  <a:lnTo>
                    <a:pt x="173" y="1287"/>
                  </a:lnTo>
                  <a:lnTo>
                    <a:pt x="176" y="1292"/>
                  </a:lnTo>
                  <a:lnTo>
                    <a:pt x="178" y="1293"/>
                  </a:lnTo>
                  <a:lnTo>
                    <a:pt x="179" y="1293"/>
                  </a:lnTo>
                  <a:lnTo>
                    <a:pt x="181" y="1299"/>
                  </a:lnTo>
                  <a:lnTo>
                    <a:pt x="182" y="1303"/>
                  </a:lnTo>
                  <a:lnTo>
                    <a:pt x="184" y="1303"/>
                  </a:lnTo>
                  <a:lnTo>
                    <a:pt x="185" y="1305"/>
                  </a:lnTo>
                  <a:lnTo>
                    <a:pt x="188" y="1311"/>
                  </a:lnTo>
                  <a:lnTo>
                    <a:pt x="190" y="1316"/>
                  </a:lnTo>
                  <a:lnTo>
                    <a:pt x="191" y="1316"/>
                  </a:lnTo>
                  <a:lnTo>
                    <a:pt x="193" y="1319"/>
                  </a:lnTo>
                  <a:lnTo>
                    <a:pt x="200" y="1329"/>
                  </a:lnTo>
                  <a:lnTo>
                    <a:pt x="204" y="1337"/>
                  </a:lnTo>
                  <a:lnTo>
                    <a:pt x="205" y="1337"/>
                  </a:lnTo>
                  <a:lnTo>
                    <a:pt x="205" y="1338"/>
                  </a:lnTo>
                  <a:lnTo>
                    <a:pt x="205" y="1339"/>
                  </a:lnTo>
                  <a:lnTo>
                    <a:pt x="208" y="1345"/>
                  </a:lnTo>
                  <a:lnTo>
                    <a:pt x="209" y="1350"/>
                  </a:lnTo>
                  <a:lnTo>
                    <a:pt x="210" y="1350"/>
                  </a:lnTo>
                  <a:lnTo>
                    <a:pt x="210" y="1351"/>
                  </a:lnTo>
                  <a:lnTo>
                    <a:pt x="210" y="1353"/>
                  </a:lnTo>
                  <a:lnTo>
                    <a:pt x="210" y="1361"/>
                  </a:lnTo>
                  <a:lnTo>
                    <a:pt x="210" y="1366"/>
                  </a:lnTo>
                  <a:lnTo>
                    <a:pt x="211" y="1366"/>
                  </a:lnTo>
                  <a:lnTo>
                    <a:pt x="211" y="1367"/>
                  </a:lnTo>
                  <a:lnTo>
                    <a:pt x="211" y="1368"/>
                  </a:lnTo>
                  <a:lnTo>
                    <a:pt x="211" y="1372"/>
                  </a:lnTo>
                  <a:lnTo>
                    <a:pt x="211" y="1375"/>
                  </a:lnTo>
                  <a:lnTo>
                    <a:pt x="212" y="1375"/>
                  </a:lnTo>
                  <a:lnTo>
                    <a:pt x="212" y="1376"/>
                  </a:lnTo>
                  <a:lnTo>
                    <a:pt x="212" y="1377"/>
                  </a:lnTo>
                  <a:lnTo>
                    <a:pt x="213" y="1382"/>
                  </a:lnTo>
                  <a:lnTo>
                    <a:pt x="214" y="1385"/>
                  </a:lnTo>
                  <a:lnTo>
                    <a:pt x="215" y="1385"/>
                  </a:lnTo>
                  <a:lnTo>
                    <a:pt x="215" y="1387"/>
                  </a:lnTo>
                  <a:lnTo>
                    <a:pt x="214" y="1392"/>
                  </a:lnTo>
                  <a:lnTo>
                    <a:pt x="214" y="1396"/>
                  </a:lnTo>
                  <a:lnTo>
                    <a:pt x="215" y="1396"/>
                  </a:lnTo>
                  <a:lnTo>
                    <a:pt x="213" y="1394"/>
                  </a:lnTo>
                  <a:lnTo>
                    <a:pt x="212" y="1392"/>
                  </a:lnTo>
                  <a:lnTo>
                    <a:pt x="212" y="1391"/>
                  </a:lnTo>
                  <a:lnTo>
                    <a:pt x="212" y="1392"/>
                  </a:lnTo>
                  <a:lnTo>
                    <a:pt x="212" y="1394"/>
                  </a:lnTo>
                  <a:lnTo>
                    <a:pt x="213" y="1399"/>
                  </a:lnTo>
                  <a:lnTo>
                    <a:pt x="213" y="1403"/>
                  </a:lnTo>
                  <a:lnTo>
                    <a:pt x="214" y="1403"/>
                  </a:lnTo>
                  <a:lnTo>
                    <a:pt x="217" y="1411"/>
                  </a:lnTo>
                  <a:lnTo>
                    <a:pt x="218" y="1415"/>
                  </a:lnTo>
                  <a:lnTo>
                    <a:pt x="220" y="1415"/>
                  </a:lnTo>
                  <a:lnTo>
                    <a:pt x="220" y="1417"/>
                  </a:lnTo>
                  <a:lnTo>
                    <a:pt x="220" y="1418"/>
                  </a:lnTo>
                  <a:lnTo>
                    <a:pt x="221" y="1421"/>
                  </a:lnTo>
                  <a:lnTo>
                    <a:pt x="221" y="1424"/>
                  </a:lnTo>
                  <a:lnTo>
                    <a:pt x="222" y="1424"/>
                  </a:lnTo>
                  <a:lnTo>
                    <a:pt x="221" y="1426"/>
                  </a:lnTo>
                  <a:lnTo>
                    <a:pt x="220" y="1433"/>
                  </a:lnTo>
                  <a:lnTo>
                    <a:pt x="218" y="1437"/>
                  </a:lnTo>
                  <a:lnTo>
                    <a:pt x="218" y="1437"/>
                  </a:lnTo>
                  <a:lnTo>
                    <a:pt x="217" y="1441"/>
                  </a:lnTo>
                  <a:lnTo>
                    <a:pt x="214" y="1448"/>
                  </a:lnTo>
                  <a:lnTo>
                    <a:pt x="212" y="1455"/>
                  </a:lnTo>
                  <a:lnTo>
                    <a:pt x="212" y="1455"/>
                  </a:lnTo>
                  <a:lnTo>
                    <a:pt x="210" y="1456"/>
                  </a:lnTo>
                  <a:lnTo>
                    <a:pt x="206" y="1457"/>
                  </a:lnTo>
                  <a:lnTo>
                    <a:pt x="203" y="1457"/>
                  </a:lnTo>
                  <a:lnTo>
                    <a:pt x="203" y="1457"/>
                  </a:lnTo>
                  <a:lnTo>
                    <a:pt x="202" y="1457"/>
                  </a:lnTo>
                  <a:lnTo>
                    <a:pt x="201" y="1457"/>
                  </a:lnTo>
                  <a:lnTo>
                    <a:pt x="198" y="1457"/>
                  </a:lnTo>
                  <a:lnTo>
                    <a:pt x="196" y="1457"/>
                  </a:lnTo>
                  <a:lnTo>
                    <a:pt x="196" y="1456"/>
                  </a:lnTo>
                  <a:lnTo>
                    <a:pt x="194" y="1455"/>
                  </a:lnTo>
                  <a:lnTo>
                    <a:pt x="193" y="1455"/>
                  </a:lnTo>
                  <a:lnTo>
                    <a:pt x="193" y="1455"/>
                  </a:lnTo>
                  <a:lnTo>
                    <a:pt x="193" y="1456"/>
                  </a:lnTo>
                  <a:lnTo>
                    <a:pt x="193" y="1457"/>
                  </a:lnTo>
                  <a:lnTo>
                    <a:pt x="194" y="1462"/>
                  </a:lnTo>
                  <a:lnTo>
                    <a:pt x="194" y="1467"/>
                  </a:lnTo>
                  <a:lnTo>
                    <a:pt x="196" y="1467"/>
                  </a:lnTo>
                  <a:lnTo>
                    <a:pt x="196" y="1468"/>
                  </a:lnTo>
                  <a:lnTo>
                    <a:pt x="196" y="1471"/>
                  </a:lnTo>
                  <a:lnTo>
                    <a:pt x="199" y="1484"/>
                  </a:lnTo>
                  <a:lnTo>
                    <a:pt x="201" y="1494"/>
                  </a:lnTo>
                  <a:lnTo>
                    <a:pt x="202" y="1494"/>
                  </a:lnTo>
                  <a:lnTo>
                    <a:pt x="203" y="1494"/>
                  </a:lnTo>
                  <a:lnTo>
                    <a:pt x="209" y="1494"/>
                  </a:lnTo>
                  <a:lnTo>
                    <a:pt x="213" y="1494"/>
                  </a:lnTo>
                  <a:lnTo>
                    <a:pt x="214" y="1494"/>
                  </a:lnTo>
                  <a:lnTo>
                    <a:pt x="220" y="1496"/>
                  </a:lnTo>
                  <a:lnTo>
                    <a:pt x="223" y="1497"/>
                  </a:lnTo>
                  <a:lnTo>
                    <a:pt x="224" y="1497"/>
                  </a:lnTo>
                  <a:lnTo>
                    <a:pt x="225" y="1499"/>
                  </a:lnTo>
                  <a:lnTo>
                    <a:pt x="231" y="1502"/>
                  </a:lnTo>
                  <a:lnTo>
                    <a:pt x="234" y="1504"/>
                  </a:lnTo>
                  <a:lnTo>
                    <a:pt x="235" y="1504"/>
                  </a:lnTo>
                  <a:lnTo>
                    <a:pt x="236" y="1506"/>
                  </a:lnTo>
                  <a:lnTo>
                    <a:pt x="239" y="1509"/>
                  </a:lnTo>
                  <a:lnTo>
                    <a:pt x="243" y="1512"/>
                  </a:lnTo>
                  <a:lnTo>
                    <a:pt x="244" y="1512"/>
                  </a:lnTo>
                  <a:lnTo>
                    <a:pt x="246" y="1514"/>
                  </a:lnTo>
                  <a:lnTo>
                    <a:pt x="253" y="1519"/>
                  </a:lnTo>
                  <a:lnTo>
                    <a:pt x="259" y="1523"/>
                  </a:lnTo>
                  <a:lnTo>
                    <a:pt x="260" y="1523"/>
                  </a:lnTo>
                  <a:lnTo>
                    <a:pt x="261" y="1523"/>
                  </a:lnTo>
                  <a:lnTo>
                    <a:pt x="264" y="1523"/>
                  </a:lnTo>
                  <a:lnTo>
                    <a:pt x="268" y="1523"/>
                  </a:lnTo>
                  <a:lnTo>
                    <a:pt x="269" y="1522"/>
                  </a:lnTo>
                  <a:lnTo>
                    <a:pt x="270" y="1523"/>
                  </a:lnTo>
                  <a:lnTo>
                    <a:pt x="273" y="1524"/>
                  </a:lnTo>
                  <a:lnTo>
                    <a:pt x="275" y="1525"/>
                  </a:lnTo>
                  <a:lnTo>
                    <a:pt x="276" y="1525"/>
                  </a:lnTo>
                  <a:lnTo>
                    <a:pt x="278" y="1525"/>
                  </a:lnTo>
                  <a:lnTo>
                    <a:pt x="279" y="1525"/>
                  </a:lnTo>
                  <a:lnTo>
                    <a:pt x="281" y="1527"/>
                  </a:lnTo>
                  <a:lnTo>
                    <a:pt x="282" y="1527"/>
                  </a:lnTo>
                  <a:lnTo>
                    <a:pt x="284" y="1529"/>
                  </a:lnTo>
                  <a:lnTo>
                    <a:pt x="285" y="1529"/>
                  </a:lnTo>
                  <a:lnTo>
                    <a:pt x="287" y="1530"/>
                  </a:lnTo>
                  <a:lnTo>
                    <a:pt x="294" y="1530"/>
                  </a:lnTo>
                  <a:lnTo>
                    <a:pt x="298" y="1530"/>
                  </a:lnTo>
                  <a:lnTo>
                    <a:pt x="299" y="1530"/>
                  </a:lnTo>
                  <a:lnTo>
                    <a:pt x="300" y="1530"/>
                  </a:lnTo>
                  <a:lnTo>
                    <a:pt x="307" y="1529"/>
                  </a:lnTo>
                  <a:lnTo>
                    <a:pt x="311" y="1529"/>
                  </a:lnTo>
                  <a:lnTo>
                    <a:pt x="313" y="1528"/>
                  </a:lnTo>
                  <a:lnTo>
                    <a:pt x="314" y="1528"/>
                  </a:lnTo>
                  <a:lnTo>
                    <a:pt x="319" y="1527"/>
                  </a:lnTo>
                  <a:lnTo>
                    <a:pt x="323" y="1526"/>
                  </a:lnTo>
                  <a:lnTo>
                    <a:pt x="325" y="1525"/>
                  </a:lnTo>
                  <a:lnTo>
                    <a:pt x="327" y="1525"/>
                  </a:lnTo>
                  <a:lnTo>
                    <a:pt x="328" y="1525"/>
                  </a:lnTo>
                  <a:lnTo>
                    <a:pt x="329" y="1525"/>
                  </a:lnTo>
                  <a:lnTo>
                    <a:pt x="330" y="1526"/>
                  </a:lnTo>
                  <a:lnTo>
                    <a:pt x="333" y="1529"/>
                  </a:lnTo>
                  <a:lnTo>
                    <a:pt x="335" y="1530"/>
                  </a:lnTo>
                  <a:lnTo>
                    <a:pt x="337" y="1530"/>
                  </a:lnTo>
                  <a:lnTo>
                    <a:pt x="340" y="1528"/>
                  </a:lnTo>
                  <a:lnTo>
                    <a:pt x="342" y="1527"/>
                  </a:lnTo>
                  <a:lnTo>
                    <a:pt x="343" y="1526"/>
                  </a:lnTo>
                  <a:lnTo>
                    <a:pt x="346" y="1528"/>
                  </a:lnTo>
                  <a:lnTo>
                    <a:pt x="349" y="1528"/>
                  </a:lnTo>
                  <a:lnTo>
                    <a:pt x="350" y="1528"/>
                  </a:lnTo>
                  <a:lnTo>
                    <a:pt x="350" y="1527"/>
                  </a:lnTo>
                  <a:lnTo>
                    <a:pt x="349" y="1523"/>
                  </a:lnTo>
                  <a:lnTo>
                    <a:pt x="349" y="1519"/>
                  </a:lnTo>
                  <a:lnTo>
                    <a:pt x="350" y="1518"/>
                  </a:lnTo>
                  <a:lnTo>
                    <a:pt x="355" y="1520"/>
                  </a:lnTo>
                  <a:lnTo>
                    <a:pt x="358" y="1522"/>
                  </a:lnTo>
                  <a:lnTo>
                    <a:pt x="360" y="1522"/>
                  </a:lnTo>
                  <a:lnTo>
                    <a:pt x="363" y="1519"/>
                  </a:lnTo>
                  <a:lnTo>
                    <a:pt x="365" y="1518"/>
                  </a:lnTo>
                  <a:lnTo>
                    <a:pt x="366" y="1517"/>
                  </a:lnTo>
                  <a:lnTo>
                    <a:pt x="369" y="1514"/>
                  </a:lnTo>
                  <a:lnTo>
                    <a:pt x="372" y="1513"/>
                  </a:lnTo>
                  <a:lnTo>
                    <a:pt x="373" y="1512"/>
                  </a:lnTo>
                  <a:lnTo>
                    <a:pt x="374" y="1508"/>
                  </a:lnTo>
                  <a:lnTo>
                    <a:pt x="375" y="1506"/>
                  </a:lnTo>
                  <a:lnTo>
                    <a:pt x="376" y="1505"/>
                  </a:lnTo>
                  <a:lnTo>
                    <a:pt x="379" y="1499"/>
                  </a:lnTo>
                  <a:lnTo>
                    <a:pt x="381" y="1495"/>
                  </a:lnTo>
                  <a:lnTo>
                    <a:pt x="382" y="1494"/>
                  </a:lnTo>
                  <a:lnTo>
                    <a:pt x="387" y="1491"/>
                  </a:lnTo>
                  <a:lnTo>
                    <a:pt x="389" y="1490"/>
                  </a:lnTo>
                  <a:lnTo>
                    <a:pt x="390" y="1489"/>
                  </a:lnTo>
                  <a:lnTo>
                    <a:pt x="392" y="1485"/>
                  </a:lnTo>
                  <a:lnTo>
                    <a:pt x="393" y="1484"/>
                  </a:lnTo>
                  <a:lnTo>
                    <a:pt x="394" y="1483"/>
                  </a:lnTo>
                  <a:lnTo>
                    <a:pt x="397" y="1483"/>
                  </a:lnTo>
                  <a:lnTo>
                    <a:pt x="403" y="1482"/>
                  </a:lnTo>
                  <a:lnTo>
                    <a:pt x="409" y="1482"/>
                  </a:lnTo>
                  <a:lnTo>
                    <a:pt x="410" y="1481"/>
                  </a:lnTo>
                  <a:lnTo>
                    <a:pt x="415" y="1479"/>
                  </a:lnTo>
                  <a:lnTo>
                    <a:pt x="419" y="1478"/>
                  </a:lnTo>
                  <a:lnTo>
                    <a:pt x="420" y="1477"/>
                  </a:lnTo>
                  <a:lnTo>
                    <a:pt x="422" y="1473"/>
                  </a:lnTo>
                  <a:lnTo>
                    <a:pt x="423" y="1471"/>
                  </a:lnTo>
                  <a:lnTo>
                    <a:pt x="424" y="1470"/>
                  </a:lnTo>
                  <a:lnTo>
                    <a:pt x="426" y="1469"/>
                  </a:lnTo>
                  <a:lnTo>
                    <a:pt x="424" y="1467"/>
                  </a:lnTo>
                  <a:lnTo>
                    <a:pt x="424" y="1465"/>
                  </a:lnTo>
                  <a:lnTo>
                    <a:pt x="425" y="1460"/>
                  </a:lnTo>
                  <a:lnTo>
                    <a:pt x="426" y="1458"/>
                  </a:lnTo>
                  <a:lnTo>
                    <a:pt x="427" y="1457"/>
                  </a:lnTo>
                  <a:lnTo>
                    <a:pt x="428" y="1456"/>
                  </a:lnTo>
                  <a:lnTo>
                    <a:pt x="432" y="1453"/>
                  </a:lnTo>
                  <a:lnTo>
                    <a:pt x="434" y="1450"/>
                  </a:lnTo>
                  <a:lnTo>
                    <a:pt x="435" y="1449"/>
                  </a:lnTo>
                  <a:lnTo>
                    <a:pt x="440" y="1446"/>
                  </a:lnTo>
                  <a:lnTo>
                    <a:pt x="444" y="1445"/>
                  </a:lnTo>
                  <a:lnTo>
                    <a:pt x="445" y="1444"/>
                  </a:lnTo>
                  <a:lnTo>
                    <a:pt x="448" y="1444"/>
                  </a:lnTo>
                  <a:lnTo>
                    <a:pt x="460" y="1443"/>
                  </a:lnTo>
                  <a:lnTo>
                    <a:pt x="469" y="1443"/>
                  </a:lnTo>
                  <a:lnTo>
                    <a:pt x="470" y="1442"/>
                  </a:lnTo>
                  <a:lnTo>
                    <a:pt x="472" y="1442"/>
                  </a:lnTo>
                  <a:lnTo>
                    <a:pt x="479" y="1442"/>
                  </a:lnTo>
                  <a:lnTo>
                    <a:pt x="483" y="1442"/>
                  </a:lnTo>
                  <a:lnTo>
                    <a:pt x="484" y="1441"/>
                  </a:lnTo>
                  <a:lnTo>
                    <a:pt x="486" y="1439"/>
                  </a:lnTo>
                  <a:lnTo>
                    <a:pt x="493" y="1436"/>
                  </a:lnTo>
                  <a:lnTo>
                    <a:pt x="497" y="1433"/>
                  </a:lnTo>
                  <a:lnTo>
                    <a:pt x="498" y="1432"/>
                  </a:lnTo>
                  <a:lnTo>
                    <a:pt x="499" y="1432"/>
                  </a:lnTo>
                  <a:lnTo>
                    <a:pt x="505" y="1432"/>
                  </a:lnTo>
                  <a:lnTo>
                    <a:pt x="508" y="1432"/>
                  </a:lnTo>
                  <a:lnTo>
                    <a:pt x="509" y="1431"/>
                  </a:lnTo>
                  <a:lnTo>
                    <a:pt x="511" y="1432"/>
                  </a:lnTo>
                  <a:lnTo>
                    <a:pt x="519" y="1433"/>
                  </a:lnTo>
                  <a:lnTo>
                    <a:pt x="525" y="1433"/>
                  </a:lnTo>
                  <a:lnTo>
                    <a:pt x="526" y="1433"/>
                  </a:lnTo>
                  <a:lnTo>
                    <a:pt x="528" y="1433"/>
                  </a:lnTo>
                  <a:lnTo>
                    <a:pt x="534" y="1432"/>
                  </a:lnTo>
                  <a:lnTo>
                    <a:pt x="539" y="1431"/>
                  </a:lnTo>
                  <a:lnTo>
                    <a:pt x="540" y="1430"/>
                  </a:lnTo>
                  <a:lnTo>
                    <a:pt x="543" y="1429"/>
                  </a:lnTo>
                  <a:lnTo>
                    <a:pt x="544" y="1427"/>
                  </a:lnTo>
                  <a:lnTo>
                    <a:pt x="545" y="1426"/>
                  </a:lnTo>
                  <a:lnTo>
                    <a:pt x="548" y="1429"/>
                  </a:lnTo>
                  <a:lnTo>
                    <a:pt x="550" y="1429"/>
                  </a:lnTo>
                  <a:lnTo>
                    <a:pt x="553" y="1433"/>
                  </a:lnTo>
                  <a:lnTo>
                    <a:pt x="554" y="1434"/>
                  </a:lnTo>
                  <a:lnTo>
                    <a:pt x="555" y="1434"/>
                  </a:lnTo>
                  <a:lnTo>
                    <a:pt x="556" y="1434"/>
                  </a:lnTo>
                  <a:lnTo>
                    <a:pt x="561" y="1433"/>
                  </a:lnTo>
                  <a:lnTo>
                    <a:pt x="564" y="1432"/>
                  </a:lnTo>
                  <a:lnTo>
                    <a:pt x="565" y="1431"/>
                  </a:lnTo>
                  <a:lnTo>
                    <a:pt x="566" y="1431"/>
                  </a:lnTo>
                  <a:lnTo>
                    <a:pt x="572" y="1430"/>
                  </a:lnTo>
                  <a:lnTo>
                    <a:pt x="575" y="1429"/>
                  </a:lnTo>
                  <a:lnTo>
                    <a:pt x="576" y="1427"/>
                  </a:lnTo>
                  <a:lnTo>
                    <a:pt x="577" y="1427"/>
                  </a:lnTo>
                  <a:lnTo>
                    <a:pt x="580" y="1426"/>
                  </a:lnTo>
                  <a:lnTo>
                    <a:pt x="583" y="1426"/>
                  </a:lnTo>
                  <a:lnTo>
                    <a:pt x="584" y="1425"/>
                  </a:lnTo>
                  <a:lnTo>
                    <a:pt x="585" y="1425"/>
                  </a:lnTo>
                  <a:lnTo>
                    <a:pt x="590" y="1424"/>
                  </a:lnTo>
                  <a:lnTo>
                    <a:pt x="593" y="1424"/>
                  </a:lnTo>
                  <a:lnTo>
                    <a:pt x="595" y="1423"/>
                  </a:lnTo>
                  <a:lnTo>
                    <a:pt x="600" y="1425"/>
                  </a:lnTo>
                  <a:lnTo>
                    <a:pt x="603" y="1426"/>
                  </a:lnTo>
                  <a:lnTo>
                    <a:pt x="604" y="1426"/>
                  </a:lnTo>
                  <a:lnTo>
                    <a:pt x="605" y="1426"/>
                  </a:lnTo>
                  <a:lnTo>
                    <a:pt x="609" y="1426"/>
                  </a:lnTo>
                  <a:lnTo>
                    <a:pt x="611" y="1426"/>
                  </a:lnTo>
                  <a:lnTo>
                    <a:pt x="612" y="1425"/>
                  </a:lnTo>
                  <a:lnTo>
                    <a:pt x="613" y="1425"/>
                  </a:lnTo>
                  <a:lnTo>
                    <a:pt x="619" y="1424"/>
                  </a:lnTo>
                  <a:lnTo>
                    <a:pt x="622" y="1423"/>
                  </a:lnTo>
                  <a:lnTo>
                    <a:pt x="623" y="1422"/>
                  </a:lnTo>
                  <a:lnTo>
                    <a:pt x="626" y="1421"/>
                  </a:lnTo>
                  <a:lnTo>
                    <a:pt x="628" y="1420"/>
                  </a:lnTo>
                  <a:lnTo>
                    <a:pt x="630" y="1419"/>
                  </a:lnTo>
                  <a:lnTo>
                    <a:pt x="630" y="1418"/>
                  </a:lnTo>
                  <a:lnTo>
                    <a:pt x="631" y="1414"/>
                  </a:lnTo>
                  <a:lnTo>
                    <a:pt x="631" y="1412"/>
                  </a:lnTo>
                  <a:lnTo>
                    <a:pt x="632" y="1411"/>
                  </a:lnTo>
                  <a:lnTo>
                    <a:pt x="635" y="1406"/>
                  </a:lnTo>
                  <a:lnTo>
                    <a:pt x="636" y="1402"/>
                  </a:lnTo>
                  <a:lnTo>
                    <a:pt x="637" y="1401"/>
                  </a:lnTo>
                  <a:lnTo>
                    <a:pt x="638" y="1398"/>
                  </a:lnTo>
                  <a:lnTo>
                    <a:pt x="639" y="1397"/>
                  </a:lnTo>
                  <a:lnTo>
                    <a:pt x="640" y="1396"/>
                  </a:lnTo>
                  <a:lnTo>
                    <a:pt x="640" y="1394"/>
                  </a:lnTo>
                  <a:lnTo>
                    <a:pt x="642" y="1387"/>
                  </a:lnTo>
                  <a:lnTo>
                    <a:pt x="642" y="1383"/>
                  </a:lnTo>
                  <a:lnTo>
                    <a:pt x="643" y="1382"/>
                  </a:lnTo>
                  <a:lnTo>
                    <a:pt x="643" y="1380"/>
                  </a:lnTo>
                  <a:lnTo>
                    <a:pt x="645" y="1375"/>
                  </a:lnTo>
                  <a:lnTo>
                    <a:pt x="646" y="1371"/>
                  </a:lnTo>
                  <a:lnTo>
                    <a:pt x="647" y="1369"/>
                  </a:lnTo>
                  <a:lnTo>
                    <a:pt x="648" y="1368"/>
                  </a:lnTo>
                  <a:lnTo>
                    <a:pt x="654" y="1365"/>
                  </a:lnTo>
                  <a:lnTo>
                    <a:pt x="657" y="1363"/>
                  </a:lnTo>
                  <a:lnTo>
                    <a:pt x="658" y="1362"/>
                  </a:lnTo>
                  <a:lnTo>
                    <a:pt x="659" y="1362"/>
                  </a:lnTo>
                  <a:lnTo>
                    <a:pt x="665" y="1362"/>
                  </a:lnTo>
                  <a:lnTo>
                    <a:pt x="668" y="1362"/>
                  </a:lnTo>
                  <a:lnTo>
                    <a:pt x="669" y="1361"/>
                  </a:lnTo>
                  <a:lnTo>
                    <a:pt x="672" y="1359"/>
                  </a:lnTo>
                  <a:lnTo>
                    <a:pt x="674" y="1357"/>
                  </a:lnTo>
                  <a:lnTo>
                    <a:pt x="675" y="1356"/>
                  </a:lnTo>
                  <a:lnTo>
                    <a:pt x="677" y="1355"/>
                  </a:lnTo>
                  <a:lnTo>
                    <a:pt x="680" y="1352"/>
                  </a:lnTo>
                  <a:lnTo>
                    <a:pt x="682" y="1350"/>
                  </a:lnTo>
                  <a:lnTo>
                    <a:pt x="683" y="1349"/>
                  </a:lnTo>
                  <a:lnTo>
                    <a:pt x="685" y="1349"/>
                  </a:lnTo>
                  <a:lnTo>
                    <a:pt x="692" y="1345"/>
                  </a:lnTo>
                  <a:lnTo>
                    <a:pt x="697" y="1344"/>
                  </a:lnTo>
                  <a:lnTo>
                    <a:pt x="698" y="1343"/>
                  </a:lnTo>
                  <a:lnTo>
                    <a:pt x="699" y="1342"/>
                  </a:lnTo>
                  <a:lnTo>
                    <a:pt x="705" y="1339"/>
                  </a:lnTo>
                  <a:lnTo>
                    <a:pt x="709" y="1337"/>
                  </a:lnTo>
                  <a:lnTo>
                    <a:pt x="710" y="1336"/>
                  </a:lnTo>
                  <a:lnTo>
                    <a:pt x="712" y="1334"/>
                  </a:lnTo>
                  <a:lnTo>
                    <a:pt x="717" y="1331"/>
                  </a:lnTo>
                  <a:lnTo>
                    <a:pt x="720" y="1329"/>
                  </a:lnTo>
                  <a:lnTo>
                    <a:pt x="721" y="1328"/>
                  </a:lnTo>
                  <a:lnTo>
                    <a:pt x="722" y="1327"/>
                  </a:lnTo>
                  <a:lnTo>
                    <a:pt x="727" y="1324"/>
                  </a:lnTo>
                  <a:lnTo>
                    <a:pt x="730" y="1320"/>
                  </a:lnTo>
                  <a:lnTo>
                    <a:pt x="731" y="1319"/>
                  </a:lnTo>
                  <a:lnTo>
                    <a:pt x="739" y="1316"/>
                  </a:lnTo>
                  <a:lnTo>
                    <a:pt x="743" y="1315"/>
                  </a:lnTo>
                  <a:lnTo>
                    <a:pt x="744" y="1314"/>
                  </a:lnTo>
                  <a:lnTo>
                    <a:pt x="751" y="1316"/>
                  </a:lnTo>
                  <a:lnTo>
                    <a:pt x="754" y="1316"/>
                  </a:lnTo>
                  <a:lnTo>
                    <a:pt x="755" y="1316"/>
                  </a:lnTo>
                  <a:lnTo>
                    <a:pt x="757" y="1316"/>
                  </a:lnTo>
                  <a:lnTo>
                    <a:pt x="764" y="1316"/>
                  </a:lnTo>
                  <a:lnTo>
                    <a:pt x="769" y="1316"/>
                  </a:lnTo>
                  <a:lnTo>
                    <a:pt x="771" y="1316"/>
                  </a:lnTo>
                  <a:lnTo>
                    <a:pt x="774" y="1316"/>
                  </a:lnTo>
                  <a:lnTo>
                    <a:pt x="775" y="1316"/>
                  </a:lnTo>
                  <a:lnTo>
                    <a:pt x="776" y="1316"/>
                  </a:lnTo>
                  <a:lnTo>
                    <a:pt x="777" y="1316"/>
                  </a:lnTo>
                  <a:lnTo>
                    <a:pt x="784" y="1316"/>
                  </a:lnTo>
                  <a:lnTo>
                    <a:pt x="788" y="1316"/>
                  </a:lnTo>
                  <a:lnTo>
                    <a:pt x="789" y="1315"/>
                  </a:lnTo>
                  <a:lnTo>
                    <a:pt x="791" y="1315"/>
                  </a:lnTo>
                  <a:lnTo>
                    <a:pt x="801" y="1314"/>
                  </a:lnTo>
                  <a:lnTo>
                    <a:pt x="808" y="1313"/>
                  </a:lnTo>
                  <a:lnTo>
                    <a:pt x="809" y="1311"/>
                  </a:lnTo>
                  <a:lnTo>
                    <a:pt x="811" y="1310"/>
                  </a:lnTo>
                  <a:lnTo>
                    <a:pt x="818" y="1307"/>
                  </a:lnTo>
                  <a:lnTo>
                    <a:pt x="822" y="1304"/>
                  </a:lnTo>
                  <a:lnTo>
                    <a:pt x="823" y="1303"/>
                  </a:lnTo>
                  <a:lnTo>
                    <a:pt x="825" y="1303"/>
                  </a:lnTo>
                  <a:lnTo>
                    <a:pt x="832" y="1302"/>
                  </a:lnTo>
                  <a:lnTo>
                    <a:pt x="837" y="1302"/>
                  </a:lnTo>
                  <a:lnTo>
                    <a:pt x="838" y="1301"/>
                  </a:lnTo>
                  <a:lnTo>
                    <a:pt x="839" y="1301"/>
                  </a:lnTo>
                  <a:lnTo>
                    <a:pt x="843" y="1301"/>
                  </a:lnTo>
                  <a:lnTo>
                    <a:pt x="846" y="1301"/>
                  </a:lnTo>
                  <a:lnTo>
                    <a:pt x="847" y="1299"/>
                  </a:lnTo>
                  <a:lnTo>
                    <a:pt x="849" y="1298"/>
                  </a:lnTo>
                  <a:lnTo>
                    <a:pt x="858" y="1292"/>
                  </a:lnTo>
                  <a:lnTo>
                    <a:pt x="865" y="1287"/>
                  </a:lnTo>
                  <a:lnTo>
                    <a:pt x="866" y="1286"/>
                  </a:lnTo>
                  <a:lnTo>
                    <a:pt x="871" y="1284"/>
                  </a:lnTo>
                  <a:lnTo>
                    <a:pt x="889" y="1274"/>
                  </a:lnTo>
                  <a:lnTo>
                    <a:pt x="902" y="1268"/>
                  </a:lnTo>
                  <a:lnTo>
                    <a:pt x="903" y="1267"/>
                  </a:lnTo>
                  <a:lnTo>
                    <a:pt x="905" y="1267"/>
                  </a:lnTo>
                  <a:lnTo>
                    <a:pt x="913" y="1267"/>
                  </a:lnTo>
                  <a:lnTo>
                    <a:pt x="919" y="1267"/>
                  </a:lnTo>
                  <a:lnTo>
                    <a:pt x="920" y="1266"/>
                  </a:lnTo>
                  <a:lnTo>
                    <a:pt x="926" y="1266"/>
                  </a:lnTo>
                  <a:lnTo>
                    <a:pt x="944" y="1266"/>
                  </a:lnTo>
                  <a:lnTo>
                    <a:pt x="959" y="1266"/>
                  </a:lnTo>
                  <a:lnTo>
                    <a:pt x="960" y="1266"/>
                  </a:lnTo>
                  <a:lnTo>
                    <a:pt x="962" y="1266"/>
                  </a:lnTo>
                  <a:lnTo>
                    <a:pt x="968" y="1264"/>
                  </a:lnTo>
                  <a:lnTo>
                    <a:pt x="973" y="1264"/>
                  </a:lnTo>
                  <a:lnTo>
                    <a:pt x="974" y="1263"/>
                  </a:lnTo>
                  <a:lnTo>
                    <a:pt x="976" y="1263"/>
                  </a:lnTo>
                  <a:lnTo>
                    <a:pt x="984" y="1262"/>
                  </a:lnTo>
                  <a:lnTo>
                    <a:pt x="990" y="1261"/>
                  </a:lnTo>
                  <a:lnTo>
                    <a:pt x="991" y="1260"/>
                  </a:lnTo>
                  <a:lnTo>
                    <a:pt x="992" y="1260"/>
                  </a:lnTo>
                  <a:lnTo>
                    <a:pt x="997" y="1260"/>
                  </a:lnTo>
                  <a:lnTo>
                    <a:pt x="1000" y="1260"/>
                  </a:lnTo>
                  <a:lnTo>
                    <a:pt x="1001" y="1260"/>
                  </a:lnTo>
                  <a:lnTo>
                    <a:pt x="1002" y="1260"/>
                  </a:lnTo>
                  <a:lnTo>
                    <a:pt x="1007" y="1260"/>
                  </a:lnTo>
                  <a:lnTo>
                    <a:pt x="1010" y="1260"/>
                  </a:lnTo>
                  <a:lnTo>
                    <a:pt x="1011" y="1260"/>
                  </a:lnTo>
                  <a:lnTo>
                    <a:pt x="1018" y="1261"/>
                  </a:lnTo>
                  <a:lnTo>
                    <a:pt x="1021" y="1261"/>
                  </a:lnTo>
                  <a:lnTo>
                    <a:pt x="1022" y="1261"/>
                  </a:lnTo>
                  <a:lnTo>
                    <a:pt x="1027" y="1263"/>
                  </a:lnTo>
                  <a:lnTo>
                    <a:pt x="1031" y="1264"/>
                  </a:lnTo>
                  <a:lnTo>
                    <a:pt x="1032" y="1264"/>
                  </a:lnTo>
                  <a:lnTo>
                    <a:pt x="1034" y="1268"/>
                  </a:lnTo>
                  <a:lnTo>
                    <a:pt x="1044" y="1274"/>
                  </a:lnTo>
                  <a:lnTo>
                    <a:pt x="1050" y="1280"/>
                  </a:lnTo>
                  <a:lnTo>
                    <a:pt x="1052" y="1280"/>
                  </a:lnTo>
                  <a:lnTo>
                    <a:pt x="1053" y="1282"/>
                  </a:lnTo>
                  <a:lnTo>
                    <a:pt x="1056" y="1285"/>
                  </a:lnTo>
                  <a:lnTo>
                    <a:pt x="1058" y="1287"/>
                  </a:lnTo>
                  <a:lnTo>
                    <a:pt x="1059" y="1287"/>
                  </a:lnTo>
                  <a:lnTo>
                    <a:pt x="1062" y="1290"/>
                  </a:lnTo>
                  <a:lnTo>
                    <a:pt x="1065" y="1290"/>
                  </a:lnTo>
                  <a:lnTo>
                    <a:pt x="1066" y="1290"/>
                  </a:lnTo>
                  <a:lnTo>
                    <a:pt x="1067" y="1290"/>
                  </a:lnTo>
                  <a:lnTo>
                    <a:pt x="1068" y="1290"/>
                  </a:lnTo>
                  <a:lnTo>
                    <a:pt x="1070" y="1290"/>
                  </a:lnTo>
                  <a:lnTo>
                    <a:pt x="1071" y="1290"/>
                  </a:lnTo>
                  <a:lnTo>
                    <a:pt x="1072" y="1289"/>
                  </a:lnTo>
                  <a:lnTo>
                    <a:pt x="1073" y="1287"/>
                  </a:lnTo>
                  <a:lnTo>
                    <a:pt x="1074" y="1286"/>
                  </a:lnTo>
                  <a:lnTo>
                    <a:pt x="1076" y="1285"/>
                  </a:lnTo>
                  <a:lnTo>
                    <a:pt x="1079" y="1285"/>
                  </a:lnTo>
                  <a:lnTo>
                    <a:pt x="1081" y="1285"/>
                  </a:lnTo>
                  <a:lnTo>
                    <a:pt x="1082" y="1284"/>
                  </a:lnTo>
                  <a:lnTo>
                    <a:pt x="1084" y="1286"/>
                  </a:lnTo>
                  <a:lnTo>
                    <a:pt x="1094" y="1290"/>
                  </a:lnTo>
                  <a:lnTo>
                    <a:pt x="1102" y="1293"/>
                  </a:lnTo>
                  <a:lnTo>
                    <a:pt x="1103" y="1293"/>
                  </a:lnTo>
                  <a:lnTo>
                    <a:pt x="1104" y="1294"/>
                  </a:lnTo>
                  <a:lnTo>
                    <a:pt x="1107" y="1297"/>
                  </a:lnTo>
                  <a:lnTo>
                    <a:pt x="1111" y="1299"/>
                  </a:lnTo>
                  <a:lnTo>
                    <a:pt x="1112" y="1299"/>
                  </a:lnTo>
                  <a:lnTo>
                    <a:pt x="1113" y="1299"/>
                  </a:lnTo>
                  <a:lnTo>
                    <a:pt x="1117" y="1299"/>
                  </a:lnTo>
                  <a:lnTo>
                    <a:pt x="1120" y="1299"/>
                  </a:lnTo>
                  <a:lnTo>
                    <a:pt x="1121" y="1299"/>
                  </a:lnTo>
                  <a:lnTo>
                    <a:pt x="1120" y="1299"/>
                  </a:lnTo>
                  <a:lnTo>
                    <a:pt x="1121" y="1299"/>
                  </a:lnTo>
                  <a:lnTo>
                    <a:pt x="1120" y="1299"/>
                  </a:lnTo>
                  <a:lnTo>
                    <a:pt x="1121" y="1299"/>
                  </a:lnTo>
                  <a:lnTo>
                    <a:pt x="1119" y="1296"/>
                  </a:lnTo>
                  <a:lnTo>
                    <a:pt x="1119" y="1294"/>
                  </a:lnTo>
                  <a:lnTo>
                    <a:pt x="1119" y="1293"/>
                  </a:lnTo>
                  <a:lnTo>
                    <a:pt x="1123" y="1295"/>
                  </a:lnTo>
                  <a:lnTo>
                    <a:pt x="1124" y="1295"/>
                  </a:lnTo>
                  <a:lnTo>
                    <a:pt x="1125" y="1295"/>
                  </a:lnTo>
                  <a:lnTo>
                    <a:pt x="1127" y="1298"/>
                  </a:lnTo>
                  <a:lnTo>
                    <a:pt x="1137" y="1308"/>
                  </a:lnTo>
                  <a:lnTo>
                    <a:pt x="1144" y="1316"/>
                  </a:lnTo>
                  <a:lnTo>
                    <a:pt x="1146" y="1316"/>
                  </a:lnTo>
                  <a:lnTo>
                    <a:pt x="1150" y="1317"/>
                  </a:lnTo>
                  <a:lnTo>
                    <a:pt x="1152" y="1317"/>
                  </a:lnTo>
                  <a:lnTo>
                    <a:pt x="1153" y="1317"/>
                  </a:lnTo>
                  <a:lnTo>
                    <a:pt x="1160" y="1319"/>
                  </a:lnTo>
                  <a:lnTo>
                    <a:pt x="1164" y="1320"/>
                  </a:lnTo>
                  <a:lnTo>
                    <a:pt x="1165" y="1320"/>
                  </a:lnTo>
                  <a:lnTo>
                    <a:pt x="1164" y="1322"/>
                  </a:lnTo>
                  <a:lnTo>
                    <a:pt x="1163" y="1329"/>
                  </a:lnTo>
                  <a:lnTo>
                    <a:pt x="1163" y="1333"/>
                  </a:lnTo>
                  <a:lnTo>
                    <a:pt x="1163" y="1333"/>
                  </a:lnTo>
                  <a:lnTo>
                    <a:pt x="1162" y="1333"/>
                  </a:lnTo>
                  <a:lnTo>
                    <a:pt x="1160" y="1333"/>
                  </a:lnTo>
                  <a:lnTo>
                    <a:pt x="1159" y="1333"/>
                  </a:lnTo>
                  <a:lnTo>
                    <a:pt x="1159" y="1332"/>
                  </a:lnTo>
                  <a:lnTo>
                    <a:pt x="1159" y="1334"/>
                  </a:lnTo>
                  <a:lnTo>
                    <a:pt x="1158" y="1340"/>
                  </a:lnTo>
                  <a:lnTo>
                    <a:pt x="1158" y="1343"/>
                  </a:lnTo>
                  <a:lnTo>
                    <a:pt x="1159" y="1343"/>
                  </a:lnTo>
                  <a:lnTo>
                    <a:pt x="1162" y="1349"/>
                  </a:lnTo>
                  <a:lnTo>
                    <a:pt x="1164" y="1351"/>
                  </a:lnTo>
                  <a:lnTo>
                    <a:pt x="1165" y="1351"/>
                  </a:lnTo>
                  <a:lnTo>
                    <a:pt x="1166" y="1352"/>
                  </a:lnTo>
                  <a:lnTo>
                    <a:pt x="1170" y="1355"/>
                  </a:lnTo>
                  <a:lnTo>
                    <a:pt x="1173" y="1356"/>
                  </a:lnTo>
                  <a:lnTo>
                    <a:pt x="1174" y="1356"/>
                  </a:lnTo>
                  <a:lnTo>
                    <a:pt x="1175" y="1357"/>
                  </a:lnTo>
                  <a:lnTo>
                    <a:pt x="1181" y="1361"/>
                  </a:lnTo>
                  <a:lnTo>
                    <a:pt x="1184" y="1362"/>
                  </a:lnTo>
                  <a:lnTo>
                    <a:pt x="1185" y="1362"/>
                  </a:lnTo>
                  <a:lnTo>
                    <a:pt x="1187" y="1361"/>
                  </a:lnTo>
                  <a:lnTo>
                    <a:pt x="1188" y="1360"/>
                  </a:lnTo>
                  <a:lnTo>
                    <a:pt x="1189" y="1359"/>
                  </a:lnTo>
                  <a:lnTo>
                    <a:pt x="1191" y="1364"/>
                  </a:lnTo>
                  <a:lnTo>
                    <a:pt x="1193" y="1367"/>
                  </a:lnTo>
                  <a:lnTo>
                    <a:pt x="1194" y="1367"/>
                  </a:lnTo>
                  <a:lnTo>
                    <a:pt x="1196" y="1371"/>
                  </a:lnTo>
                  <a:lnTo>
                    <a:pt x="1197" y="1372"/>
                  </a:lnTo>
                  <a:lnTo>
                    <a:pt x="1198" y="1372"/>
                  </a:lnTo>
                  <a:lnTo>
                    <a:pt x="1198" y="1373"/>
                  </a:lnTo>
                  <a:lnTo>
                    <a:pt x="1198" y="1375"/>
                  </a:lnTo>
                  <a:lnTo>
                    <a:pt x="1199" y="1383"/>
                  </a:lnTo>
                  <a:lnTo>
                    <a:pt x="1200" y="1389"/>
                  </a:lnTo>
                  <a:lnTo>
                    <a:pt x="1201" y="1389"/>
                  </a:lnTo>
                  <a:lnTo>
                    <a:pt x="1202" y="1390"/>
                  </a:lnTo>
                  <a:lnTo>
                    <a:pt x="1206" y="1394"/>
                  </a:lnTo>
                  <a:lnTo>
                    <a:pt x="1209" y="1395"/>
                  </a:lnTo>
                  <a:lnTo>
                    <a:pt x="1210" y="1395"/>
                  </a:lnTo>
                  <a:lnTo>
                    <a:pt x="1213" y="1402"/>
                  </a:lnTo>
                  <a:lnTo>
                    <a:pt x="1215" y="1406"/>
                  </a:lnTo>
                  <a:lnTo>
                    <a:pt x="1217" y="1406"/>
                  </a:lnTo>
                  <a:lnTo>
                    <a:pt x="1217" y="1407"/>
                  </a:lnTo>
                  <a:lnTo>
                    <a:pt x="1217" y="1409"/>
                  </a:lnTo>
                  <a:lnTo>
                    <a:pt x="1218" y="1415"/>
                  </a:lnTo>
                  <a:lnTo>
                    <a:pt x="1218" y="1420"/>
                  </a:lnTo>
                  <a:lnTo>
                    <a:pt x="1219" y="1420"/>
                  </a:lnTo>
                  <a:lnTo>
                    <a:pt x="1221" y="1424"/>
                  </a:lnTo>
                  <a:lnTo>
                    <a:pt x="1222" y="1425"/>
                  </a:lnTo>
                  <a:lnTo>
                    <a:pt x="1223" y="1425"/>
                  </a:lnTo>
                  <a:lnTo>
                    <a:pt x="1223" y="1426"/>
                  </a:lnTo>
                  <a:lnTo>
                    <a:pt x="1223" y="1427"/>
                  </a:lnTo>
                  <a:lnTo>
                    <a:pt x="1225" y="1433"/>
                  </a:lnTo>
                  <a:lnTo>
                    <a:pt x="1226" y="1437"/>
                  </a:lnTo>
                  <a:lnTo>
                    <a:pt x="1228" y="1437"/>
                  </a:lnTo>
                  <a:lnTo>
                    <a:pt x="1226" y="1439"/>
                  </a:lnTo>
                  <a:lnTo>
                    <a:pt x="1225" y="1444"/>
                  </a:lnTo>
                  <a:lnTo>
                    <a:pt x="1225" y="1447"/>
                  </a:lnTo>
                  <a:lnTo>
                    <a:pt x="1225" y="1447"/>
                  </a:lnTo>
                  <a:lnTo>
                    <a:pt x="1223" y="1446"/>
                  </a:lnTo>
                  <a:lnTo>
                    <a:pt x="1218" y="1442"/>
                  </a:lnTo>
                  <a:lnTo>
                    <a:pt x="1214" y="1438"/>
                  </a:lnTo>
                  <a:lnTo>
                    <a:pt x="1214" y="1437"/>
                  </a:lnTo>
                  <a:lnTo>
                    <a:pt x="1212" y="1436"/>
                  </a:lnTo>
                  <a:lnTo>
                    <a:pt x="1211" y="1435"/>
                  </a:lnTo>
                  <a:lnTo>
                    <a:pt x="1211" y="1437"/>
                  </a:lnTo>
                  <a:lnTo>
                    <a:pt x="1210" y="1442"/>
                  </a:lnTo>
                  <a:lnTo>
                    <a:pt x="1210" y="1445"/>
                  </a:lnTo>
                  <a:lnTo>
                    <a:pt x="1211" y="1445"/>
                  </a:lnTo>
                  <a:lnTo>
                    <a:pt x="1215" y="1446"/>
                  </a:lnTo>
                  <a:lnTo>
                    <a:pt x="1218" y="1446"/>
                  </a:lnTo>
                  <a:lnTo>
                    <a:pt x="1219" y="1446"/>
                  </a:lnTo>
                  <a:lnTo>
                    <a:pt x="1221" y="1450"/>
                  </a:lnTo>
                  <a:lnTo>
                    <a:pt x="1222" y="1452"/>
                  </a:lnTo>
                  <a:lnTo>
                    <a:pt x="1223" y="1452"/>
                  </a:lnTo>
                  <a:lnTo>
                    <a:pt x="1224" y="1453"/>
                  </a:lnTo>
                  <a:lnTo>
                    <a:pt x="1229" y="1456"/>
                  </a:lnTo>
                  <a:lnTo>
                    <a:pt x="1232" y="1457"/>
                  </a:lnTo>
                  <a:lnTo>
                    <a:pt x="1233" y="1457"/>
                  </a:lnTo>
                  <a:lnTo>
                    <a:pt x="1234" y="1459"/>
                  </a:lnTo>
                  <a:lnTo>
                    <a:pt x="1237" y="1465"/>
                  </a:lnTo>
                  <a:lnTo>
                    <a:pt x="1241" y="1468"/>
                  </a:lnTo>
                  <a:lnTo>
                    <a:pt x="1242" y="1468"/>
                  </a:lnTo>
                  <a:lnTo>
                    <a:pt x="1245" y="1467"/>
                  </a:lnTo>
                  <a:lnTo>
                    <a:pt x="1246" y="1467"/>
                  </a:lnTo>
                  <a:lnTo>
                    <a:pt x="1247" y="1466"/>
                  </a:lnTo>
                  <a:lnTo>
                    <a:pt x="1250" y="1470"/>
                  </a:lnTo>
                  <a:lnTo>
                    <a:pt x="1253" y="1471"/>
                  </a:lnTo>
                  <a:lnTo>
                    <a:pt x="1254" y="1471"/>
                  </a:lnTo>
                  <a:lnTo>
                    <a:pt x="1254" y="1469"/>
                  </a:lnTo>
                  <a:lnTo>
                    <a:pt x="1253" y="1461"/>
                  </a:lnTo>
                  <a:lnTo>
                    <a:pt x="1253" y="1456"/>
                  </a:lnTo>
                  <a:lnTo>
                    <a:pt x="1254" y="1455"/>
                  </a:lnTo>
                  <a:lnTo>
                    <a:pt x="1253" y="1455"/>
                  </a:lnTo>
                  <a:lnTo>
                    <a:pt x="1249" y="1455"/>
                  </a:lnTo>
                  <a:lnTo>
                    <a:pt x="1247" y="1455"/>
                  </a:lnTo>
                  <a:lnTo>
                    <a:pt x="1247" y="1455"/>
                  </a:lnTo>
                  <a:lnTo>
                    <a:pt x="1248" y="1455"/>
                  </a:lnTo>
                  <a:lnTo>
                    <a:pt x="1248" y="1454"/>
                  </a:lnTo>
                  <a:lnTo>
                    <a:pt x="1249" y="1449"/>
                  </a:lnTo>
                  <a:lnTo>
                    <a:pt x="1250" y="1446"/>
                  </a:lnTo>
                  <a:lnTo>
                    <a:pt x="1252" y="1445"/>
                  </a:lnTo>
                  <a:lnTo>
                    <a:pt x="1253" y="1444"/>
                  </a:lnTo>
                  <a:lnTo>
                    <a:pt x="1256" y="1441"/>
                  </a:lnTo>
                  <a:lnTo>
                    <a:pt x="1259" y="1438"/>
                  </a:lnTo>
                  <a:lnTo>
                    <a:pt x="1260" y="1437"/>
                  </a:lnTo>
                  <a:lnTo>
                    <a:pt x="1261" y="1436"/>
                  </a:lnTo>
                  <a:lnTo>
                    <a:pt x="1266" y="1431"/>
                  </a:lnTo>
                  <a:lnTo>
                    <a:pt x="1269" y="1427"/>
                  </a:lnTo>
                  <a:lnTo>
                    <a:pt x="1270" y="1426"/>
                  </a:lnTo>
                  <a:lnTo>
                    <a:pt x="1270" y="1424"/>
                  </a:lnTo>
                  <a:lnTo>
                    <a:pt x="1273" y="1418"/>
                  </a:lnTo>
                  <a:lnTo>
                    <a:pt x="1275" y="1413"/>
                  </a:lnTo>
                  <a:lnTo>
                    <a:pt x="1276" y="1412"/>
                  </a:lnTo>
                  <a:lnTo>
                    <a:pt x="1279" y="1411"/>
                  </a:lnTo>
                  <a:lnTo>
                    <a:pt x="1281" y="1410"/>
                  </a:lnTo>
                  <a:lnTo>
                    <a:pt x="1282" y="1409"/>
                  </a:lnTo>
                  <a:lnTo>
                    <a:pt x="1285" y="1406"/>
                  </a:lnTo>
                  <a:lnTo>
                    <a:pt x="1287" y="1404"/>
                  </a:lnTo>
                  <a:lnTo>
                    <a:pt x="1288" y="1403"/>
                  </a:lnTo>
                  <a:lnTo>
                    <a:pt x="1289" y="1403"/>
                  </a:lnTo>
                  <a:lnTo>
                    <a:pt x="1295" y="1401"/>
                  </a:lnTo>
                  <a:lnTo>
                    <a:pt x="1300" y="1400"/>
                  </a:lnTo>
                  <a:lnTo>
                    <a:pt x="1301" y="1399"/>
                  </a:lnTo>
                  <a:lnTo>
                    <a:pt x="1300" y="1396"/>
                  </a:lnTo>
                  <a:lnTo>
                    <a:pt x="1300" y="1395"/>
                  </a:lnTo>
                  <a:lnTo>
                    <a:pt x="1301" y="1394"/>
                  </a:lnTo>
                  <a:lnTo>
                    <a:pt x="1303" y="1392"/>
                  </a:lnTo>
                  <a:lnTo>
                    <a:pt x="1305" y="1391"/>
                  </a:lnTo>
                  <a:lnTo>
                    <a:pt x="1311" y="1392"/>
                  </a:lnTo>
                  <a:lnTo>
                    <a:pt x="1314" y="1392"/>
                  </a:lnTo>
                  <a:lnTo>
                    <a:pt x="1315" y="1392"/>
                  </a:lnTo>
                  <a:lnTo>
                    <a:pt x="1318" y="1388"/>
                  </a:lnTo>
                  <a:lnTo>
                    <a:pt x="1319" y="1386"/>
                  </a:lnTo>
                  <a:lnTo>
                    <a:pt x="1320" y="1385"/>
                  </a:lnTo>
                  <a:lnTo>
                    <a:pt x="1320" y="1382"/>
                  </a:lnTo>
                  <a:lnTo>
                    <a:pt x="1320" y="1379"/>
                  </a:lnTo>
                  <a:lnTo>
                    <a:pt x="1322" y="1378"/>
                  </a:lnTo>
                  <a:lnTo>
                    <a:pt x="1325" y="1372"/>
                  </a:lnTo>
                  <a:lnTo>
                    <a:pt x="1326" y="1368"/>
                  </a:lnTo>
                  <a:lnTo>
                    <a:pt x="1327" y="1367"/>
                  </a:lnTo>
                  <a:lnTo>
                    <a:pt x="1330" y="1362"/>
                  </a:lnTo>
                  <a:lnTo>
                    <a:pt x="1331" y="1359"/>
                  </a:lnTo>
                  <a:lnTo>
                    <a:pt x="1332" y="1357"/>
                  </a:lnTo>
                  <a:lnTo>
                    <a:pt x="1336" y="1351"/>
                  </a:lnTo>
                  <a:lnTo>
                    <a:pt x="1338" y="1348"/>
                  </a:lnTo>
                  <a:lnTo>
                    <a:pt x="1339" y="1347"/>
                  </a:lnTo>
                  <a:lnTo>
                    <a:pt x="1342" y="1347"/>
                  </a:lnTo>
                  <a:lnTo>
                    <a:pt x="1343" y="1347"/>
                  </a:lnTo>
                  <a:lnTo>
                    <a:pt x="1344" y="1345"/>
                  </a:lnTo>
                  <a:lnTo>
                    <a:pt x="1344" y="1344"/>
                  </a:lnTo>
                  <a:lnTo>
                    <a:pt x="1343" y="1341"/>
                  </a:lnTo>
                  <a:lnTo>
                    <a:pt x="1343" y="1338"/>
                  </a:lnTo>
                  <a:lnTo>
                    <a:pt x="1344" y="1337"/>
                  </a:lnTo>
                  <a:lnTo>
                    <a:pt x="1344" y="1336"/>
                  </a:lnTo>
                  <a:lnTo>
                    <a:pt x="1343" y="1330"/>
                  </a:lnTo>
                  <a:lnTo>
                    <a:pt x="1343" y="1327"/>
                  </a:lnTo>
                  <a:lnTo>
                    <a:pt x="1344" y="1326"/>
                  </a:lnTo>
                  <a:lnTo>
                    <a:pt x="1346" y="1322"/>
                  </a:lnTo>
                  <a:lnTo>
                    <a:pt x="1347" y="1320"/>
                  </a:lnTo>
                  <a:lnTo>
                    <a:pt x="1348" y="1319"/>
                  </a:lnTo>
                  <a:lnTo>
                    <a:pt x="1350" y="1322"/>
                  </a:lnTo>
                  <a:lnTo>
                    <a:pt x="1351" y="1324"/>
                  </a:lnTo>
                  <a:lnTo>
                    <a:pt x="1352" y="1324"/>
                  </a:lnTo>
                  <a:lnTo>
                    <a:pt x="1352" y="1326"/>
                  </a:lnTo>
                  <a:lnTo>
                    <a:pt x="1351" y="1330"/>
                  </a:lnTo>
                  <a:lnTo>
                    <a:pt x="1351" y="1333"/>
                  </a:lnTo>
                  <a:lnTo>
                    <a:pt x="1352" y="1333"/>
                  </a:lnTo>
                  <a:lnTo>
                    <a:pt x="1354" y="1336"/>
                  </a:lnTo>
                  <a:lnTo>
                    <a:pt x="1355" y="1336"/>
                  </a:lnTo>
                  <a:lnTo>
                    <a:pt x="1354" y="1338"/>
                  </a:lnTo>
                  <a:lnTo>
                    <a:pt x="1354" y="1342"/>
                  </a:lnTo>
                  <a:lnTo>
                    <a:pt x="1354" y="1345"/>
                  </a:lnTo>
                  <a:lnTo>
                    <a:pt x="1354" y="1345"/>
                  </a:lnTo>
                  <a:lnTo>
                    <a:pt x="1355" y="1345"/>
                  </a:lnTo>
                  <a:lnTo>
                    <a:pt x="1355" y="1347"/>
                  </a:lnTo>
                  <a:lnTo>
                    <a:pt x="1357" y="1350"/>
                  </a:lnTo>
                  <a:lnTo>
                    <a:pt x="1357" y="1352"/>
                  </a:lnTo>
                  <a:lnTo>
                    <a:pt x="1358" y="1352"/>
                  </a:lnTo>
                  <a:lnTo>
                    <a:pt x="1358" y="1353"/>
                  </a:lnTo>
                  <a:lnTo>
                    <a:pt x="1358" y="1356"/>
                  </a:lnTo>
                  <a:lnTo>
                    <a:pt x="1358" y="1359"/>
                  </a:lnTo>
                  <a:lnTo>
                    <a:pt x="1359" y="1359"/>
                  </a:lnTo>
                  <a:lnTo>
                    <a:pt x="1358" y="1359"/>
                  </a:lnTo>
                  <a:lnTo>
                    <a:pt x="1354" y="1359"/>
                  </a:lnTo>
                  <a:lnTo>
                    <a:pt x="1353" y="1359"/>
                  </a:lnTo>
                  <a:lnTo>
                    <a:pt x="1353" y="1357"/>
                  </a:lnTo>
                  <a:lnTo>
                    <a:pt x="1352" y="1361"/>
                  </a:lnTo>
                  <a:lnTo>
                    <a:pt x="1352" y="1362"/>
                  </a:lnTo>
                  <a:lnTo>
                    <a:pt x="1352" y="1362"/>
                  </a:lnTo>
                  <a:lnTo>
                    <a:pt x="1352" y="1365"/>
                  </a:lnTo>
                  <a:lnTo>
                    <a:pt x="1351" y="1374"/>
                  </a:lnTo>
                  <a:lnTo>
                    <a:pt x="1351" y="1380"/>
                  </a:lnTo>
                  <a:lnTo>
                    <a:pt x="1352" y="1380"/>
                  </a:lnTo>
                  <a:lnTo>
                    <a:pt x="1351" y="1382"/>
                  </a:lnTo>
                  <a:lnTo>
                    <a:pt x="1348" y="1387"/>
                  </a:lnTo>
                  <a:lnTo>
                    <a:pt x="1347" y="1390"/>
                  </a:lnTo>
                  <a:lnTo>
                    <a:pt x="1347" y="1390"/>
                  </a:lnTo>
                  <a:lnTo>
                    <a:pt x="1346" y="1391"/>
                  </a:lnTo>
                  <a:lnTo>
                    <a:pt x="1342" y="1392"/>
                  </a:lnTo>
                  <a:lnTo>
                    <a:pt x="1341" y="1394"/>
                  </a:lnTo>
                  <a:lnTo>
                    <a:pt x="1341" y="1394"/>
                  </a:lnTo>
                  <a:lnTo>
                    <a:pt x="1340" y="1397"/>
                  </a:lnTo>
                  <a:lnTo>
                    <a:pt x="1337" y="1403"/>
                  </a:lnTo>
                  <a:lnTo>
                    <a:pt x="1336" y="1408"/>
                  </a:lnTo>
                  <a:lnTo>
                    <a:pt x="1336" y="1408"/>
                  </a:lnTo>
                  <a:lnTo>
                    <a:pt x="1335" y="1409"/>
                  </a:lnTo>
                  <a:lnTo>
                    <a:pt x="1331" y="1415"/>
                  </a:lnTo>
                  <a:lnTo>
                    <a:pt x="1329" y="1419"/>
                  </a:lnTo>
                  <a:lnTo>
                    <a:pt x="1329" y="1419"/>
                  </a:lnTo>
                  <a:lnTo>
                    <a:pt x="1329" y="1421"/>
                  </a:lnTo>
                  <a:lnTo>
                    <a:pt x="1328" y="1424"/>
                  </a:lnTo>
                  <a:lnTo>
                    <a:pt x="1328" y="1427"/>
                  </a:lnTo>
                  <a:lnTo>
                    <a:pt x="1329" y="1427"/>
                  </a:lnTo>
                  <a:lnTo>
                    <a:pt x="1328" y="1432"/>
                  </a:lnTo>
                  <a:lnTo>
                    <a:pt x="1328" y="1433"/>
                  </a:lnTo>
                  <a:lnTo>
                    <a:pt x="1328" y="1433"/>
                  </a:lnTo>
                  <a:lnTo>
                    <a:pt x="1328" y="1434"/>
                  </a:lnTo>
                  <a:lnTo>
                    <a:pt x="1328" y="1435"/>
                  </a:lnTo>
                  <a:lnTo>
                    <a:pt x="1329" y="1437"/>
                  </a:lnTo>
                  <a:lnTo>
                    <a:pt x="1330" y="1437"/>
                  </a:lnTo>
                  <a:lnTo>
                    <a:pt x="1329" y="1439"/>
                  </a:lnTo>
                  <a:lnTo>
                    <a:pt x="1329" y="1445"/>
                  </a:lnTo>
                  <a:lnTo>
                    <a:pt x="1329" y="1448"/>
                  </a:lnTo>
                  <a:lnTo>
                    <a:pt x="1329" y="1448"/>
                  </a:lnTo>
                  <a:lnTo>
                    <a:pt x="1328" y="1450"/>
                  </a:lnTo>
                  <a:lnTo>
                    <a:pt x="1327" y="1457"/>
                  </a:lnTo>
                  <a:lnTo>
                    <a:pt x="1326" y="1461"/>
                  </a:lnTo>
                  <a:lnTo>
                    <a:pt x="1326" y="1461"/>
                  </a:lnTo>
                  <a:lnTo>
                    <a:pt x="1325" y="1462"/>
                  </a:lnTo>
                  <a:lnTo>
                    <a:pt x="1319" y="1466"/>
                  </a:lnTo>
                  <a:lnTo>
                    <a:pt x="1316" y="1467"/>
                  </a:lnTo>
                  <a:lnTo>
                    <a:pt x="1316" y="1467"/>
                  </a:lnTo>
                  <a:lnTo>
                    <a:pt x="1315" y="1467"/>
                  </a:lnTo>
                  <a:lnTo>
                    <a:pt x="1314" y="1467"/>
                  </a:lnTo>
                  <a:lnTo>
                    <a:pt x="1307" y="1466"/>
                  </a:lnTo>
                  <a:lnTo>
                    <a:pt x="1303" y="1466"/>
                  </a:lnTo>
                  <a:lnTo>
                    <a:pt x="1303" y="1465"/>
                  </a:lnTo>
                  <a:lnTo>
                    <a:pt x="1302" y="1467"/>
                  </a:lnTo>
                  <a:lnTo>
                    <a:pt x="1301" y="1471"/>
                  </a:lnTo>
                  <a:lnTo>
                    <a:pt x="1301" y="1474"/>
                  </a:lnTo>
                  <a:lnTo>
                    <a:pt x="1301" y="1474"/>
                  </a:lnTo>
                  <a:lnTo>
                    <a:pt x="1300" y="1477"/>
                  </a:lnTo>
                  <a:lnTo>
                    <a:pt x="1299" y="1480"/>
                  </a:lnTo>
                  <a:lnTo>
                    <a:pt x="1299" y="1482"/>
                  </a:lnTo>
                  <a:lnTo>
                    <a:pt x="1299" y="1482"/>
                  </a:lnTo>
                  <a:lnTo>
                    <a:pt x="1302" y="1487"/>
                  </a:lnTo>
                  <a:lnTo>
                    <a:pt x="1303" y="1489"/>
                  </a:lnTo>
                  <a:lnTo>
                    <a:pt x="1304" y="1489"/>
                  </a:lnTo>
                  <a:lnTo>
                    <a:pt x="1308" y="1485"/>
                  </a:lnTo>
                  <a:lnTo>
                    <a:pt x="1312" y="1484"/>
                  </a:lnTo>
                  <a:lnTo>
                    <a:pt x="1313" y="1483"/>
                  </a:lnTo>
                  <a:lnTo>
                    <a:pt x="1314" y="1483"/>
                  </a:lnTo>
                  <a:lnTo>
                    <a:pt x="1319" y="1483"/>
                  </a:lnTo>
                  <a:lnTo>
                    <a:pt x="1324" y="1483"/>
                  </a:lnTo>
                  <a:lnTo>
                    <a:pt x="1325" y="1483"/>
                  </a:lnTo>
                  <a:lnTo>
                    <a:pt x="1330" y="1481"/>
                  </a:lnTo>
                  <a:lnTo>
                    <a:pt x="1334" y="1480"/>
                  </a:lnTo>
                  <a:lnTo>
                    <a:pt x="1335" y="1479"/>
                  </a:lnTo>
                  <a:lnTo>
                    <a:pt x="1338" y="1481"/>
                  </a:lnTo>
                  <a:lnTo>
                    <a:pt x="1340" y="1481"/>
                  </a:lnTo>
                  <a:lnTo>
                    <a:pt x="1341" y="1481"/>
                  </a:lnTo>
                  <a:lnTo>
                    <a:pt x="1342" y="1480"/>
                  </a:lnTo>
                  <a:lnTo>
                    <a:pt x="1343" y="1479"/>
                  </a:lnTo>
                  <a:lnTo>
                    <a:pt x="1344" y="1478"/>
                  </a:lnTo>
                  <a:lnTo>
                    <a:pt x="1344" y="1477"/>
                  </a:lnTo>
                  <a:lnTo>
                    <a:pt x="1344" y="1471"/>
                  </a:lnTo>
                  <a:lnTo>
                    <a:pt x="1344" y="1468"/>
                  </a:lnTo>
                  <a:lnTo>
                    <a:pt x="1346" y="1467"/>
                  </a:lnTo>
                  <a:lnTo>
                    <a:pt x="1346" y="1466"/>
                  </a:lnTo>
                  <a:lnTo>
                    <a:pt x="1347" y="1460"/>
                  </a:lnTo>
                  <a:lnTo>
                    <a:pt x="1348" y="1457"/>
                  </a:lnTo>
                  <a:lnTo>
                    <a:pt x="1349" y="1456"/>
                  </a:lnTo>
                  <a:lnTo>
                    <a:pt x="1349" y="1455"/>
                  </a:lnTo>
                  <a:lnTo>
                    <a:pt x="1349" y="1449"/>
                  </a:lnTo>
                  <a:lnTo>
                    <a:pt x="1349" y="1446"/>
                  </a:lnTo>
                  <a:lnTo>
                    <a:pt x="1350" y="1445"/>
                  </a:lnTo>
                  <a:lnTo>
                    <a:pt x="1353" y="1439"/>
                  </a:lnTo>
                  <a:lnTo>
                    <a:pt x="1354" y="1436"/>
                  </a:lnTo>
                  <a:lnTo>
                    <a:pt x="1355" y="1435"/>
                  </a:lnTo>
                  <a:lnTo>
                    <a:pt x="1359" y="1429"/>
                  </a:lnTo>
                  <a:lnTo>
                    <a:pt x="1361" y="1424"/>
                  </a:lnTo>
                  <a:lnTo>
                    <a:pt x="1362" y="1423"/>
                  </a:lnTo>
                  <a:lnTo>
                    <a:pt x="1365" y="1427"/>
                  </a:lnTo>
                  <a:lnTo>
                    <a:pt x="1367" y="1429"/>
                  </a:lnTo>
                  <a:lnTo>
                    <a:pt x="1369" y="1429"/>
                  </a:lnTo>
                  <a:lnTo>
                    <a:pt x="1370" y="1431"/>
                  </a:lnTo>
                  <a:lnTo>
                    <a:pt x="1373" y="1436"/>
                  </a:lnTo>
                  <a:lnTo>
                    <a:pt x="1375" y="1441"/>
                  </a:lnTo>
                  <a:lnTo>
                    <a:pt x="1376" y="1441"/>
                  </a:lnTo>
                  <a:lnTo>
                    <a:pt x="1376" y="1442"/>
                  </a:lnTo>
                  <a:lnTo>
                    <a:pt x="1376" y="1444"/>
                  </a:lnTo>
                  <a:lnTo>
                    <a:pt x="1378" y="1452"/>
                  </a:lnTo>
                  <a:lnTo>
                    <a:pt x="1379" y="1457"/>
                  </a:lnTo>
                  <a:lnTo>
                    <a:pt x="1381" y="1457"/>
                  </a:lnTo>
                  <a:lnTo>
                    <a:pt x="1381" y="1460"/>
                  </a:lnTo>
                  <a:lnTo>
                    <a:pt x="1379" y="1467"/>
                  </a:lnTo>
                  <a:lnTo>
                    <a:pt x="1379" y="1471"/>
                  </a:lnTo>
                  <a:lnTo>
                    <a:pt x="1381" y="1471"/>
                  </a:lnTo>
                  <a:lnTo>
                    <a:pt x="1379" y="1474"/>
                  </a:lnTo>
                  <a:lnTo>
                    <a:pt x="1378" y="1481"/>
                  </a:lnTo>
                  <a:lnTo>
                    <a:pt x="1377" y="1485"/>
                  </a:lnTo>
                  <a:lnTo>
                    <a:pt x="1377" y="1485"/>
                  </a:lnTo>
                  <a:lnTo>
                    <a:pt x="1376" y="1487"/>
                  </a:lnTo>
                  <a:lnTo>
                    <a:pt x="1375" y="1489"/>
                  </a:lnTo>
                  <a:lnTo>
                    <a:pt x="1372" y="1495"/>
                  </a:lnTo>
                  <a:lnTo>
                    <a:pt x="1370" y="1501"/>
                  </a:lnTo>
                  <a:lnTo>
                    <a:pt x="1370" y="1501"/>
                  </a:lnTo>
                  <a:lnTo>
                    <a:pt x="1369" y="1502"/>
                  </a:lnTo>
                  <a:lnTo>
                    <a:pt x="1365" y="1506"/>
                  </a:lnTo>
                  <a:lnTo>
                    <a:pt x="1363" y="1508"/>
                  </a:lnTo>
                  <a:lnTo>
                    <a:pt x="1363" y="1508"/>
                  </a:lnTo>
                  <a:lnTo>
                    <a:pt x="1366" y="1511"/>
                  </a:lnTo>
                  <a:lnTo>
                    <a:pt x="1367" y="1512"/>
                  </a:lnTo>
                  <a:lnTo>
                    <a:pt x="1369" y="1512"/>
                  </a:lnTo>
                  <a:lnTo>
                    <a:pt x="1372" y="1512"/>
                  </a:lnTo>
                  <a:lnTo>
                    <a:pt x="1374" y="1512"/>
                  </a:lnTo>
                  <a:lnTo>
                    <a:pt x="1375" y="1511"/>
                  </a:lnTo>
                  <a:lnTo>
                    <a:pt x="1376" y="1511"/>
                  </a:lnTo>
                  <a:lnTo>
                    <a:pt x="1377" y="1511"/>
                  </a:lnTo>
                  <a:lnTo>
                    <a:pt x="1378" y="1511"/>
                  </a:lnTo>
                  <a:lnTo>
                    <a:pt x="1382" y="1509"/>
                  </a:lnTo>
                  <a:lnTo>
                    <a:pt x="1384" y="1509"/>
                  </a:lnTo>
                  <a:lnTo>
                    <a:pt x="1385" y="1508"/>
                  </a:lnTo>
                  <a:lnTo>
                    <a:pt x="1386" y="1508"/>
                  </a:lnTo>
                  <a:lnTo>
                    <a:pt x="1389" y="1507"/>
                  </a:lnTo>
                  <a:lnTo>
                    <a:pt x="1393" y="1506"/>
                  </a:lnTo>
                  <a:lnTo>
                    <a:pt x="1394" y="1505"/>
                  </a:lnTo>
                  <a:lnTo>
                    <a:pt x="1397" y="1504"/>
                  </a:lnTo>
                  <a:lnTo>
                    <a:pt x="1398" y="1504"/>
                  </a:lnTo>
                  <a:lnTo>
                    <a:pt x="1399" y="1503"/>
                  </a:lnTo>
                  <a:lnTo>
                    <a:pt x="1400" y="1502"/>
                  </a:lnTo>
                  <a:lnTo>
                    <a:pt x="1402" y="1501"/>
                  </a:lnTo>
                  <a:lnTo>
                    <a:pt x="1406" y="1500"/>
                  </a:lnTo>
                  <a:lnTo>
                    <a:pt x="1407" y="1500"/>
                  </a:lnTo>
                  <a:lnTo>
                    <a:pt x="1408" y="1499"/>
                  </a:lnTo>
                  <a:lnTo>
                    <a:pt x="1409" y="1499"/>
                  </a:lnTo>
                  <a:lnTo>
                    <a:pt x="1416" y="1499"/>
                  </a:lnTo>
                  <a:lnTo>
                    <a:pt x="1420" y="1499"/>
                  </a:lnTo>
                  <a:lnTo>
                    <a:pt x="1421" y="1497"/>
                  </a:lnTo>
                  <a:lnTo>
                    <a:pt x="1421" y="1499"/>
                  </a:lnTo>
                  <a:lnTo>
                    <a:pt x="1421" y="1500"/>
                  </a:lnTo>
                  <a:lnTo>
                    <a:pt x="1421" y="1501"/>
                  </a:lnTo>
                  <a:lnTo>
                    <a:pt x="1422" y="1501"/>
                  </a:lnTo>
                  <a:lnTo>
                    <a:pt x="1421" y="1502"/>
                  </a:lnTo>
                  <a:lnTo>
                    <a:pt x="1418" y="1511"/>
                  </a:lnTo>
                  <a:lnTo>
                    <a:pt x="1416" y="1515"/>
                  </a:lnTo>
                  <a:lnTo>
                    <a:pt x="1416" y="1515"/>
                  </a:lnTo>
                  <a:lnTo>
                    <a:pt x="1417" y="1517"/>
                  </a:lnTo>
                  <a:lnTo>
                    <a:pt x="1418" y="1517"/>
                  </a:lnTo>
                  <a:lnTo>
                    <a:pt x="1421" y="1524"/>
                  </a:lnTo>
                  <a:lnTo>
                    <a:pt x="1423" y="1527"/>
                  </a:lnTo>
                  <a:lnTo>
                    <a:pt x="1424" y="1527"/>
                  </a:lnTo>
                  <a:lnTo>
                    <a:pt x="1425" y="1529"/>
                  </a:lnTo>
                  <a:lnTo>
                    <a:pt x="1429" y="1536"/>
                  </a:lnTo>
                  <a:lnTo>
                    <a:pt x="1432" y="1540"/>
                  </a:lnTo>
                  <a:lnTo>
                    <a:pt x="1433" y="1540"/>
                  </a:lnTo>
                  <a:lnTo>
                    <a:pt x="1433" y="1541"/>
                  </a:lnTo>
                  <a:lnTo>
                    <a:pt x="1433" y="1542"/>
                  </a:lnTo>
                  <a:lnTo>
                    <a:pt x="1433" y="1543"/>
                  </a:lnTo>
                  <a:lnTo>
                    <a:pt x="1434" y="1543"/>
                  </a:lnTo>
                  <a:lnTo>
                    <a:pt x="1434" y="1545"/>
                  </a:lnTo>
                  <a:lnTo>
                    <a:pt x="1435" y="1548"/>
                  </a:lnTo>
                  <a:lnTo>
                    <a:pt x="1435" y="1550"/>
                  </a:lnTo>
                  <a:lnTo>
                    <a:pt x="1436" y="1550"/>
                  </a:lnTo>
                  <a:lnTo>
                    <a:pt x="1436" y="1551"/>
                  </a:lnTo>
                  <a:lnTo>
                    <a:pt x="1436" y="1552"/>
                  </a:lnTo>
                  <a:lnTo>
                    <a:pt x="1437" y="1555"/>
                  </a:lnTo>
                  <a:lnTo>
                    <a:pt x="1437" y="1559"/>
                  </a:lnTo>
                  <a:lnTo>
                    <a:pt x="1438" y="1559"/>
                  </a:lnTo>
                  <a:lnTo>
                    <a:pt x="1441" y="1565"/>
                  </a:lnTo>
                  <a:lnTo>
                    <a:pt x="1442" y="1569"/>
                  </a:lnTo>
                  <a:lnTo>
                    <a:pt x="1443" y="1569"/>
                  </a:lnTo>
                  <a:lnTo>
                    <a:pt x="1442" y="1571"/>
                  </a:lnTo>
                  <a:lnTo>
                    <a:pt x="1442" y="1577"/>
                  </a:lnTo>
                  <a:lnTo>
                    <a:pt x="1442" y="1582"/>
                  </a:lnTo>
                  <a:lnTo>
                    <a:pt x="1442" y="1582"/>
                  </a:lnTo>
                  <a:lnTo>
                    <a:pt x="1441" y="1583"/>
                  </a:lnTo>
                  <a:lnTo>
                    <a:pt x="1437" y="1587"/>
                  </a:lnTo>
                  <a:lnTo>
                    <a:pt x="1436" y="1590"/>
                  </a:lnTo>
                  <a:lnTo>
                    <a:pt x="1436" y="1590"/>
                  </a:lnTo>
                  <a:lnTo>
                    <a:pt x="1436" y="1592"/>
                  </a:lnTo>
                  <a:lnTo>
                    <a:pt x="1435" y="1595"/>
                  </a:lnTo>
                  <a:lnTo>
                    <a:pt x="1436" y="1595"/>
                  </a:lnTo>
                  <a:lnTo>
                    <a:pt x="1436" y="1596"/>
                  </a:lnTo>
                  <a:lnTo>
                    <a:pt x="1436" y="1597"/>
                  </a:lnTo>
                  <a:lnTo>
                    <a:pt x="1438" y="1602"/>
                  </a:lnTo>
                  <a:lnTo>
                    <a:pt x="1440" y="1607"/>
                  </a:lnTo>
                  <a:lnTo>
                    <a:pt x="1441" y="1607"/>
                  </a:lnTo>
                  <a:lnTo>
                    <a:pt x="1444" y="1617"/>
                  </a:lnTo>
                  <a:lnTo>
                    <a:pt x="1446" y="1622"/>
                  </a:lnTo>
                  <a:lnTo>
                    <a:pt x="1447" y="1622"/>
                  </a:lnTo>
                  <a:lnTo>
                    <a:pt x="1448" y="1623"/>
                  </a:lnTo>
                  <a:lnTo>
                    <a:pt x="1452" y="1627"/>
                  </a:lnTo>
                  <a:lnTo>
                    <a:pt x="1455" y="1629"/>
                  </a:lnTo>
                  <a:lnTo>
                    <a:pt x="1456" y="1629"/>
                  </a:lnTo>
                  <a:lnTo>
                    <a:pt x="1456" y="1630"/>
                  </a:lnTo>
                  <a:lnTo>
                    <a:pt x="1456" y="1631"/>
                  </a:lnTo>
                  <a:lnTo>
                    <a:pt x="1458" y="1636"/>
                  </a:lnTo>
                  <a:lnTo>
                    <a:pt x="1459" y="1641"/>
                  </a:lnTo>
                  <a:lnTo>
                    <a:pt x="1460" y="1641"/>
                  </a:lnTo>
                  <a:lnTo>
                    <a:pt x="1461" y="1643"/>
                  </a:lnTo>
                  <a:lnTo>
                    <a:pt x="1465" y="1647"/>
                  </a:lnTo>
                  <a:lnTo>
                    <a:pt x="1467" y="1651"/>
                  </a:lnTo>
                  <a:lnTo>
                    <a:pt x="1468" y="1651"/>
                  </a:lnTo>
                  <a:lnTo>
                    <a:pt x="1475" y="1656"/>
                  </a:lnTo>
                  <a:lnTo>
                    <a:pt x="1479" y="1658"/>
                  </a:lnTo>
                  <a:lnTo>
                    <a:pt x="1480" y="1658"/>
                  </a:lnTo>
                  <a:lnTo>
                    <a:pt x="1482" y="1659"/>
                  </a:lnTo>
                  <a:lnTo>
                    <a:pt x="1490" y="1660"/>
                  </a:lnTo>
                  <a:lnTo>
                    <a:pt x="1495" y="1662"/>
                  </a:lnTo>
                  <a:lnTo>
                    <a:pt x="1496" y="1662"/>
                  </a:lnTo>
                  <a:lnTo>
                    <a:pt x="1499" y="1664"/>
                  </a:lnTo>
                  <a:lnTo>
                    <a:pt x="1505" y="1667"/>
                  </a:lnTo>
                  <a:lnTo>
                    <a:pt x="1511" y="1670"/>
                  </a:lnTo>
                  <a:lnTo>
                    <a:pt x="1512" y="1670"/>
                  </a:lnTo>
                  <a:lnTo>
                    <a:pt x="1515" y="1677"/>
                  </a:lnTo>
                  <a:lnTo>
                    <a:pt x="1516" y="1680"/>
                  </a:lnTo>
                  <a:lnTo>
                    <a:pt x="1517" y="1680"/>
                  </a:lnTo>
                  <a:lnTo>
                    <a:pt x="1518" y="1681"/>
                  </a:lnTo>
                  <a:lnTo>
                    <a:pt x="1519" y="1680"/>
                  </a:lnTo>
                  <a:lnTo>
                    <a:pt x="1523" y="1679"/>
                  </a:lnTo>
                  <a:lnTo>
                    <a:pt x="1525" y="1678"/>
                  </a:lnTo>
                  <a:lnTo>
                    <a:pt x="1526" y="1677"/>
                  </a:lnTo>
                  <a:lnTo>
                    <a:pt x="1527" y="1677"/>
                  </a:lnTo>
                  <a:lnTo>
                    <a:pt x="1530" y="1676"/>
                  </a:lnTo>
                  <a:lnTo>
                    <a:pt x="1533" y="1676"/>
                  </a:lnTo>
                  <a:lnTo>
                    <a:pt x="1534" y="1675"/>
                  </a:lnTo>
                  <a:lnTo>
                    <a:pt x="1537" y="1677"/>
                  </a:lnTo>
                  <a:lnTo>
                    <a:pt x="1539" y="1678"/>
                  </a:lnTo>
                  <a:lnTo>
                    <a:pt x="1540" y="1678"/>
                  </a:lnTo>
                  <a:lnTo>
                    <a:pt x="1547" y="1681"/>
                  </a:lnTo>
                  <a:lnTo>
                    <a:pt x="1550" y="1682"/>
                  </a:lnTo>
                  <a:lnTo>
                    <a:pt x="1551" y="1682"/>
                  </a:lnTo>
                  <a:lnTo>
                    <a:pt x="1559" y="1685"/>
                  </a:lnTo>
                  <a:lnTo>
                    <a:pt x="1563" y="1685"/>
                  </a:lnTo>
                  <a:lnTo>
                    <a:pt x="1564" y="1685"/>
                  </a:lnTo>
                  <a:lnTo>
                    <a:pt x="1565" y="1686"/>
                  </a:lnTo>
                  <a:lnTo>
                    <a:pt x="1569" y="1688"/>
                  </a:lnTo>
                  <a:lnTo>
                    <a:pt x="1571" y="1689"/>
                  </a:lnTo>
                  <a:lnTo>
                    <a:pt x="1572" y="1689"/>
                  </a:lnTo>
                  <a:lnTo>
                    <a:pt x="1574" y="1691"/>
                  </a:lnTo>
                  <a:lnTo>
                    <a:pt x="1581" y="1697"/>
                  </a:lnTo>
                  <a:lnTo>
                    <a:pt x="1585" y="1700"/>
                  </a:lnTo>
                  <a:lnTo>
                    <a:pt x="1586" y="1700"/>
                  </a:lnTo>
                  <a:lnTo>
                    <a:pt x="1588" y="1702"/>
                  </a:lnTo>
                  <a:lnTo>
                    <a:pt x="1596" y="1705"/>
                  </a:lnTo>
                  <a:lnTo>
                    <a:pt x="1602" y="1709"/>
                  </a:lnTo>
                  <a:lnTo>
                    <a:pt x="1604" y="1709"/>
                  </a:lnTo>
                  <a:lnTo>
                    <a:pt x="1605" y="1713"/>
                  </a:lnTo>
                  <a:lnTo>
                    <a:pt x="1606" y="1714"/>
                  </a:lnTo>
                  <a:lnTo>
                    <a:pt x="1607" y="1714"/>
                  </a:lnTo>
                  <a:lnTo>
                    <a:pt x="1608" y="1714"/>
                  </a:lnTo>
                  <a:lnTo>
                    <a:pt x="1613" y="1713"/>
                  </a:lnTo>
                  <a:lnTo>
                    <a:pt x="1617" y="1713"/>
                  </a:lnTo>
                  <a:lnTo>
                    <a:pt x="1618" y="1712"/>
                  </a:lnTo>
                  <a:lnTo>
                    <a:pt x="1619" y="1711"/>
                  </a:lnTo>
                  <a:lnTo>
                    <a:pt x="1621" y="1710"/>
                  </a:lnTo>
                  <a:lnTo>
                    <a:pt x="1629" y="1706"/>
                  </a:lnTo>
                  <a:lnTo>
                    <a:pt x="1633" y="1705"/>
                  </a:lnTo>
                  <a:lnTo>
                    <a:pt x="1634" y="1704"/>
                  </a:lnTo>
                  <a:lnTo>
                    <a:pt x="1635" y="1703"/>
                  </a:lnTo>
                  <a:lnTo>
                    <a:pt x="1640" y="1698"/>
                  </a:lnTo>
                  <a:lnTo>
                    <a:pt x="1643" y="1694"/>
                  </a:lnTo>
                  <a:lnTo>
                    <a:pt x="1644" y="1693"/>
                  </a:lnTo>
                  <a:lnTo>
                    <a:pt x="1645" y="1692"/>
                  </a:lnTo>
                  <a:lnTo>
                    <a:pt x="1649" y="1689"/>
                  </a:lnTo>
                  <a:lnTo>
                    <a:pt x="1653" y="1687"/>
                  </a:lnTo>
                  <a:lnTo>
                    <a:pt x="1654" y="1686"/>
                  </a:lnTo>
                  <a:lnTo>
                    <a:pt x="1655" y="1686"/>
                  </a:lnTo>
                  <a:lnTo>
                    <a:pt x="1659" y="1685"/>
                  </a:lnTo>
                  <a:lnTo>
                    <a:pt x="1663" y="1683"/>
                  </a:lnTo>
                  <a:lnTo>
                    <a:pt x="1664" y="1682"/>
                  </a:lnTo>
                  <a:lnTo>
                    <a:pt x="1665" y="1682"/>
                  </a:lnTo>
                  <a:lnTo>
                    <a:pt x="1668" y="1682"/>
                  </a:lnTo>
                  <a:lnTo>
                    <a:pt x="1670" y="1682"/>
                  </a:lnTo>
                  <a:lnTo>
                    <a:pt x="1671" y="1681"/>
                  </a:lnTo>
                  <a:lnTo>
                    <a:pt x="1671" y="1679"/>
                  </a:lnTo>
                  <a:lnTo>
                    <a:pt x="1669" y="1678"/>
                  </a:lnTo>
                  <a:lnTo>
                    <a:pt x="1664" y="1675"/>
                  </a:lnTo>
                  <a:lnTo>
                    <a:pt x="1660" y="1671"/>
                  </a:lnTo>
                  <a:lnTo>
                    <a:pt x="1660" y="1670"/>
                  </a:lnTo>
                  <a:lnTo>
                    <a:pt x="1662" y="1670"/>
                  </a:lnTo>
                  <a:lnTo>
                    <a:pt x="1665" y="1670"/>
                  </a:lnTo>
                  <a:lnTo>
                    <a:pt x="1668" y="1670"/>
                  </a:lnTo>
                  <a:lnTo>
                    <a:pt x="1669" y="1670"/>
                  </a:lnTo>
                  <a:lnTo>
                    <a:pt x="1675" y="1667"/>
                  </a:lnTo>
                  <a:lnTo>
                    <a:pt x="1678" y="1665"/>
                  </a:lnTo>
                  <a:lnTo>
                    <a:pt x="1679" y="1664"/>
                  </a:lnTo>
                  <a:lnTo>
                    <a:pt x="1681" y="1663"/>
                  </a:lnTo>
                  <a:lnTo>
                    <a:pt x="1683" y="1662"/>
                  </a:lnTo>
                  <a:lnTo>
                    <a:pt x="1684" y="1663"/>
                  </a:lnTo>
                  <a:lnTo>
                    <a:pt x="1688" y="1665"/>
                  </a:lnTo>
                  <a:lnTo>
                    <a:pt x="1691" y="1666"/>
                  </a:lnTo>
                  <a:lnTo>
                    <a:pt x="1692" y="1666"/>
                  </a:lnTo>
                  <a:lnTo>
                    <a:pt x="1691" y="1668"/>
                  </a:lnTo>
                  <a:lnTo>
                    <a:pt x="1691" y="1674"/>
                  </a:lnTo>
                  <a:lnTo>
                    <a:pt x="1691" y="1678"/>
                  </a:lnTo>
                  <a:lnTo>
                    <a:pt x="1691" y="1678"/>
                  </a:lnTo>
                  <a:lnTo>
                    <a:pt x="1690" y="1680"/>
                  </a:lnTo>
                  <a:lnTo>
                    <a:pt x="1689" y="1683"/>
                  </a:lnTo>
                  <a:lnTo>
                    <a:pt x="1688" y="1687"/>
                  </a:lnTo>
                  <a:lnTo>
                    <a:pt x="1688" y="1687"/>
                  </a:lnTo>
                  <a:lnTo>
                    <a:pt x="1687" y="1687"/>
                  </a:lnTo>
                  <a:lnTo>
                    <a:pt x="1686" y="1687"/>
                  </a:lnTo>
                  <a:lnTo>
                    <a:pt x="1680" y="1687"/>
                  </a:lnTo>
                  <a:lnTo>
                    <a:pt x="1676" y="1687"/>
                  </a:lnTo>
                  <a:lnTo>
                    <a:pt x="1676" y="1686"/>
                  </a:lnTo>
                  <a:lnTo>
                    <a:pt x="1678" y="1690"/>
                  </a:lnTo>
                  <a:lnTo>
                    <a:pt x="1679" y="1691"/>
                  </a:lnTo>
                  <a:lnTo>
                    <a:pt x="1680" y="1691"/>
                  </a:lnTo>
                  <a:lnTo>
                    <a:pt x="1681" y="1692"/>
                  </a:lnTo>
                  <a:lnTo>
                    <a:pt x="1684" y="1694"/>
                  </a:lnTo>
                  <a:lnTo>
                    <a:pt x="1688" y="1695"/>
                  </a:lnTo>
                  <a:lnTo>
                    <a:pt x="1689" y="1695"/>
                  </a:lnTo>
                  <a:lnTo>
                    <a:pt x="1690" y="1695"/>
                  </a:lnTo>
                  <a:lnTo>
                    <a:pt x="1693" y="1694"/>
                  </a:lnTo>
                  <a:lnTo>
                    <a:pt x="1696" y="1693"/>
                  </a:lnTo>
                  <a:lnTo>
                    <a:pt x="1698" y="1692"/>
                  </a:lnTo>
                  <a:lnTo>
                    <a:pt x="1701" y="1691"/>
                  </a:lnTo>
                  <a:lnTo>
                    <a:pt x="1702" y="1690"/>
                  </a:lnTo>
                  <a:lnTo>
                    <a:pt x="1703" y="1689"/>
                  </a:lnTo>
                  <a:lnTo>
                    <a:pt x="1706" y="1687"/>
                  </a:lnTo>
                  <a:lnTo>
                    <a:pt x="1707" y="1686"/>
                  </a:lnTo>
                  <a:lnTo>
                    <a:pt x="1709" y="1685"/>
                  </a:lnTo>
                  <a:lnTo>
                    <a:pt x="1712" y="1690"/>
                  </a:lnTo>
                  <a:lnTo>
                    <a:pt x="1714" y="1692"/>
                  </a:lnTo>
                  <a:lnTo>
                    <a:pt x="1715" y="1692"/>
                  </a:lnTo>
                  <a:lnTo>
                    <a:pt x="1714" y="1693"/>
                  </a:lnTo>
                  <a:lnTo>
                    <a:pt x="1712" y="1698"/>
                  </a:lnTo>
                  <a:lnTo>
                    <a:pt x="1711" y="1701"/>
                  </a:lnTo>
                  <a:lnTo>
                    <a:pt x="1711" y="1701"/>
                  </a:lnTo>
                  <a:lnTo>
                    <a:pt x="1711" y="1702"/>
                  </a:lnTo>
                  <a:lnTo>
                    <a:pt x="1710" y="1705"/>
                  </a:lnTo>
                  <a:lnTo>
                    <a:pt x="1711" y="1705"/>
                  </a:lnTo>
                  <a:lnTo>
                    <a:pt x="1714" y="1711"/>
                  </a:lnTo>
                  <a:lnTo>
                    <a:pt x="1716" y="1713"/>
                  </a:lnTo>
                  <a:lnTo>
                    <a:pt x="1717" y="1713"/>
                  </a:lnTo>
                  <a:lnTo>
                    <a:pt x="1721" y="1713"/>
                  </a:lnTo>
                  <a:lnTo>
                    <a:pt x="1722" y="1713"/>
                  </a:lnTo>
                  <a:lnTo>
                    <a:pt x="1723" y="1713"/>
                  </a:lnTo>
                  <a:lnTo>
                    <a:pt x="1725" y="1714"/>
                  </a:lnTo>
                  <a:lnTo>
                    <a:pt x="1726" y="1714"/>
                  </a:lnTo>
                  <a:lnTo>
                    <a:pt x="1727" y="1714"/>
                  </a:lnTo>
                  <a:lnTo>
                    <a:pt x="1727" y="1715"/>
                  </a:lnTo>
                  <a:lnTo>
                    <a:pt x="1727" y="1716"/>
                  </a:lnTo>
                  <a:lnTo>
                    <a:pt x="1728" y="1720"/>
                  </a:lnTo>
                  <a:lnTo>
                    <a:pt x="1728" y="1723"/>
                  </a:lnTo>
                  <a:lnTo>
                    <a:pt x="1729" y="1723"/>
                  </a:lnTo>
                  <a:lnTo>
                    <a:pt x="1730" y="1724"/>
                  </a:lnTo>
                  <a:lnTo>
                    <a:pt x="1734" y="1725"/>
                  </a:lnTo>
                  <a:lnTo>
                    <a:pt x="1736" y="1726"/>
                  </a:lnTo>
                  <a:lnTo>
                    <a:pt x="1737" y="1726"/>
                  </a:lnTo>
                  <a:lnTo>
                    <a:pt x="1739" y="1726"/>
                  </a:lnTo>
                  <a:lnTo>
                    <a:pt x="1740" y="1726"/>
                  </a:lnTo>
                  <a:lnTo>
                    <a:pt x="1741" y="1726"/>
                  </a:lnTo>
                  <a:lnTo>
                    <a:pt x="1742" y="1732"/>
                  </a:lnTo>
                  <a:lnTo>
                    <a:pt x="1744" y="1734"/>
                  </a:lnTo>
                  <a:lnTo>
                    <a:pt x="1745" y="1734"/>
                  </a:lnTo>
                  <a:lnTo>
                    <a:pt x="1748" y="1740"/>
                  </a:lnTo>
                  <a:lnTo>
                    <a:pt x="1750" y="1744"/>
                  </a:lnTo>
                  <a:lnTo>
                    <a:pt x="1751" y="1744"/>
                  </a:lnTo>
                  <a:lnTo>
                    <a:pt x="1752" y="1740"/>
                  </a:lnTo>
                  <a:lnTo>
                    <a:pt x="1753" y="1739"/>
                  </a:lnTo>
                  <a:lnTo>
                    <a:pt x="1754" y="1738"/>
                  </a:lnTo>
                  <a:lnTo>
                    <a:pt x="1754" y="1737"/>
                  </a:lnTo>
                  <a:lnTo>
                    <a:pt x="1756" y="1734"/>
                  </a:lnTo>
                  <a:lnTo>
                    <a:pt x="1756" y="1732"/>
                  </a:lnTo>
                  <a:lnTo>
                    <a:pt x="1757" y="1730"/>
                  </a:lnTo>
                  <a:lnTo>
                    <a:pt x="1759" y="1725"/>
                  </a:lnTo>
                  <a:lnTo>
                    <a:pt x="1760" y="1722"/>
                  </a:lnTo>
                  <a:lnTo>
                    <a:pt x="1761" y="1721"/>
                  </a:lnTo>
                  <a:lnTo>
                    <a:pt x="1760" y="1721"/>
                  </a:lnTo>
                  <a:lnTo>
                    <a:pt x="1759" y="1721"/>
                  </a:lnTo>
                  <a:lnTo>
                    <a:pt x="1758" y="1721"/>
                  </a:lnTo>
                  <a:lnTo>
                    <a:pt x="1758" y="1721"/>
                  </a:lnTo>
                  <a:lnTo>
                    <a:pt x="1757" y="1722"/>
                  </a:lnTo>
                  <a:lnTo>
                    <a:pt x="1753" y="1723"/>
                  </a:lnTo>
                  <a:lnTo>
                    <a:pt x="1751" y="1724"/>
                  </a:lnTo>
                  <a:lnTo>
                    <a:pt x="1751" y="1724"/>
                  </a:lnTo>
                  <a:lnTo>
                    <a:pt x="1750" y="1725"/>
                  </a:lnTo>
                  <a:lnTo>
                    <a:pt x="1749" y="1728"/>
                  </a:lnTo>
                  <a:lnTo>
                    <a:pt x="1748" y="1729"/>
                  </a:lnTo>
                  <a:lnTo>
                    <a:pt x="1748" y="1729"/>
                  </a:lnTo>
                  <a:lnTo>
                    <a:pt x="1746" y="1727"/>
                  </a:lnTo>
                  <a:lnTo>
                    <a:pt x="1746" y="1725"/>
                  </a:lnTo>
                  <a:lnTo>
                    <a:pt x="1746" y="1724"/>
                  </a:lnTo>
                  <a:lnTo>
                    <a:pt x="1746" y="1721"/>
                  </a:lnTo>
                  <a:lnTo>
                    <a:pt x="1746" y="1718"/>
                  </a:lnTo>
                  <a:lnTo>
                    <a:pt x="1747" y="1717"/>
                  </a:lnTo>
                  <a:lnTo>
                    <a:pt x="1749" y="1717"/>
                  </a:lnTo>
                  <a:lnTo>
                    <a:pt x="1750" y="1717"/>
                  </a:lnTo>
                  <a:lnTo>
                    <a:pt x="1751" y="1716"/>
                  </a:lnTo>
                  <a:lnTo>
                    <a:pt x="1754" y="1718"/>
                  </a:lnTo>
                  <a:lnTo>
                    <a:pt x="1756" y="1718"/>
                  </a:lnTo>
                  <a:lnTo>
                    <a:pt x="1757" y="1718"/>
                  </a:lnTo>
                  <a:lnTo>
                    <a:pt x="1758" y="1718"/>
                  </a:lnTo>
                  <a:lnTo>
                    <a:pt x="1761" y="1717"/>
                  </a:lnTo>
                  <a:lnTo>
                    <a:pt x="1763" y="1717"/>
                  </a:lnTo>
                  <a:lnTo>
                    <a:pt x="1764" y="1716"/>
                  </a:lnTo>
                  <a:lnTo>
                    <a:pt x="1768" y="1716"/>
                  </a:lnTo>
                  <a:lnTo>
                    <a:pt x="1769" y="1716"/>
                  </a:lnTo>
                  <a:lnTo>
                    <a:pt x="1770" y="1715"/>
                  </a:lnTo>
                  <a:lnTo>
                    <a:pt x="1771" y="1717"/>
                  </a:lnTo>
                  <a:lnTo>
                    <a:pt x="1772" y="1718"/>
                  </a:lnTo>
                  <a:lnTo>
                    <a:pt x="1775" y="1716"/>
                  </a:lnTo>
                  <a:lnTo>
                    <a:pt x="1776" y="1715"/>
                  </a:lnTo>
                  <a:lnTo>
                    <a:pt x="1777" y="1714"/>
                  </a:lnTo>
                  <a:lnTo>
                    <a:pt x="1784" y="1711"/>
                  </a:lnTo>
                  <a:lnTo>
                    <a:pt x="1787" y="1710"/>
                  </a:lnTo>
                  <a:lnTo>
                    <a:pt x="1788" y="1709"/>
                  </a:lnTo>
                  <a:lnTo>
                    <a:pt x="1789" y="1706"/>
                  </a:lnTo>
                  <a:lnTo>
                    <a:pt x="1791" y="1705"/>
                  </a:lnTo>
                  <a:lnTo>
                    <a:pt x="1792" y="1704"/>
                  </a:lnTo>
                  <a:lnTo>
                    <a:pt x="1793" y="1703"/>
                  </a:lnTo>
                  <a:lnTo>
                    <a:pt x="1795" y="1702"/>
                  </a:lnTo>
                  <a:lnTo>
                    <a:pt x="1797" y="1700"/>
                  </a:lnTo>
                  <a:lnTo>
                    <a:pt x="1798" y="1699"/>
                  </a:lnTo>
                  <a:lnTo>
                    <a:pt x="1799" y="1698"/>
                  </a:lnTo>
                  <a:lnTo>
                    <a:pt x="1806" y="1694"/>
                  </a:lnTo>
                  <a:lnTo>
                    <a:pt x="1810" y="1692"/>
                  </a:lnTo>
                  <a:lnTo>
                    <a:pt x="1811" y="1691"/>
                  </a:lnTo>
                  <a:lnTo>
                    <a:pt x="1812" y="1690"/>
                  </a:lnTo>
                  <a:lnTo>
                    <a:pt x="1816" y="1687"/>
                  </a:lnTo>
                  <a:lnTo>
                    <a:pt x="1819" y="1685"/>
                  </a:lnTo>
                  <a:lnTo>
                    <a:pt x="1820" y="1683"/>
                  </a:lnTo>
                  <a:lnTo>
                    <a:pt x="1821" y="1683"/>
                  </a:lnTo>
                  <a:lnTo>
                    <a:pt x="1827" y="1682"/>
                  </a:lnTo>
                  <a:lnTo>
                    <a:pt x="1830" y="1681"/>
                  </a:lnTo>
                  <a:lnTo>
                    <a:pt x="1831" y="1680"/>
                  </a:lnTo>
                  <a:lnTo>
                    <a:pt x="1836" y="1678"/>
                  </a:lnTo>
                  <a:lnTo>
                    <a:pt x="1840" y="1677"/>
                  </a:lnTo>
                  <a:lnTo>
                    <a:pt x="1841" y="1676"/>
                  </a:lnTo>
                  <a:lnTo>
                    <a:pt x="1842" y="1676"/>
                  </a:lnTo>
                  <a:lnTo>
                    <a:pt x="1847" y="1675"/>
                  </a:lnTo>
                  <a:lnTo>
                    <a:pt x="1852" y="1675"/>
                  </a:lnTo>
                  <a:lnTo>
                    <a:pt x="1853" y="1674"/>
                  </a:lnTo>
                  <a:lnTo>
                    <a:pt x="1854" y="1674"/>
                  </a:lnTo>
                  <a:lnTo>
                    <a:pt x="1857" y="1674"/>
                  </a:lnTo>
                  <a:lnTo>
                    <a:pt x="1860" y="1674"/>
                  </a:lnTo>
                  <a:lnTo>
                    <a:pt x="1862" y="1674"/>
                  </a:lnTo>
                  <a:lnTo>
                    <a:pt x="1865" y="1675"/>
                  </a:lnTo>
                  <a:lnTo>
                    <a:pt x="1877" y="1676"/>
                  </a:lnTo>
                  <a:lnTo>
                    <a:pt x="1886" y="1677"/>
                  </a:lnTo>
                  <a:lnTo>
                    <a:pt x="1887" y="1677"/>
                  </a:lnTo>
                  <a:lnTo>
                    <a:pt x="1894" y="1678"/>
                  </a:lnTo>
                  <a:lnTo>
                    <a:pt x="1899" y="1678"/>
                  </a:lnTo>
                  <a:lnTo>
                    <a:pt x="1900" y="1678"/>
                  </a:lnTo>
                  <a:lnTo>
                    <a:pt x="1902" y="1678"/>
                  </a:lnTo>
                  <a:lnTo>
                    <a:pt x="1911" y="1677"/>
                  </a:lnTo>
                  <a:lnTo>
                    <a:pt x="1917" y="1676"/>
                  </a:lnTo>
                  <a:lnTo>
                    <a:pt x="1918" y="1675"/>
                  </a:lnTo>
                  <a:lnTo>
                    <a:pt x="1918" y="1674"/>
                  </a:lnTo>
                  <a:lnTo>
                    <a:pt x="1920" y="1668"/>
                  </a:lnTo>
                  <a:lnTo>
                    <a:pt x="1921" y="1664"/>
                  </a:lnTo>
                  <a:lnTo>
                    <a:pt x="1922" y="1663"/>
                  </a:lnTo>
                  <a:lnTo>
                    <a:pt x="1923" y="1663"/>
                  </a:lnTo>
                  <a:lnTo>
                    <a:pt x="1924" y="1663"/>
                  </a:lnTo>
                  <a:lnTo>
                    <a:pt x="1925" y="1663"/>
                  </a:lnTo>
                  <a:lnTo>
                    <a:pt x="1926" y="1664"/>
                  </a:lnTo>
                  <a:lnTo>
                    <a:pt x="1929" y="1667"/>
                  </a:lnTo>
                  <a:lnTo>
                    <a:pt x="1932" y="1668"/>
                  </a:lnTo>
                  <a:lnTo>
                    <a:pt x="1933" y="1668"/>
                  </a:lnTo>
                  <a:lnTo>
                    <a:pt x="1934" y="1665"/>
                  </a:lnTo>
                  <a:lnTo>
                    <a:pt x="1934" y="1664"/>
                  </a:lnTo>
                  <a:lnTo>
                    <a:pt x="1935" y="1663"/>
                  </a:lnTo>
                  <a:lnTo>
                    <a:pt x="1935" y="1662"/>
                  </a:lnTo>
                  <a:lnTo>
                    <a:pt x="1936" y="1658"/>
                  </a:lnTo>
                  <a:lnTo>
                    <a:pt x="1937" y="1655"/>
                  </a:lnTo>
                  <a:lnTo>
                    <a:pt x="1938" y="1654"/>
                  </a:lnTo>
                  <a:lnTo>
                    <a:pt x="1938" y="1653"/>
                  </a:lnTo>
                  <a:lnTo>
                    <a:pt x="1937" y="1650"/>
                  </a:lnTo>
                  <a:lnTo>
                    <a:pt x="1937" y="1646"/>
                  </a:lnTo>
                  <a:lnTo>
                    <a:pt x="1938" y="1645"/>
                  </a:lnTo>
                  <a:lnTo>
                    <a:pt x="1937" y="1641"/>
                  </a:lnTo>
                  <a:lnTo>
                    <a:pt x="1937" y="1637"/>
                  </a:lnTo>
                  <a:lnTo>
                    <a:pt x="1937" y="1636"/>
                  </a:lnTo>
                  <a:lnTo>
                    <a:pt x="1937" y="1633"/>
                  </a:lnTo>
                  <a:lnTo>
                    <a:pt x="1937" y="1632"/>
                  </a:lnTo>
                  <a:lnTo>
                    <a:pt x="1938" y="1631"/>
                  </a:lnTo>
                  <a:lnTo>
                    <a:pt x="1938" y="1630"/>
                  </a:lnTo>
                  <a:lnTo>
                    <a:pt x="1939" y="1627"/>
                  </a:lnTo>
                  <a:lnTo>
                    <a:pt x="1939" y="1623"/>
                  </a:lnTo>
                  <a:lnTo>
                    <a:pt x="1940" y="1622"/>
                  </a:lnTo>
                  <a:lnTo>
                    <a:pt x="1942" y="1619"/>
                  </a:lnTo>
                  <a:lnTo>
                    <a:pt x="1944" y="1617"/>
                  </a:lnTo>
                  <a:lnTo>
                    <a:pt x="1945" y="1616"/>
                  </a:lnTo>
                  <a:lnTo>
                    <a:pt x="1946" y="1612"/>
                  </a:lnTo>
                  <a:lnTo>
                    <a:pt x="1947" y="1611"/>
                  </a:lnTo>
                  <a:lnTo>
                    <a:pt x="1948" y="1610"/>
                  </a:lnTo>
                  <a:lnTo>
                    <a:pt x="1948" y="1609"/>
                  </a:lnTo>
                  <a:lnTo>
                    <a:pt x="1949" y="1605"/>
                  </a:lnTo>
                  <a:lnTo>
                    <a:pt x="1950" y="1601"/>
                  </a:lnTo>
                  <a:lnTo>
                    <a:pt x="1951" y="1600"/>
                  </a:lnTo>
                  <a:lnTo>
                    <a:pt x="1952" y="1598"/>
                  </a:lnTo>
                  <a:lnTo>
                    <a:pt x="1953" y="1596"/>
                  </a:lnTo>
                  <a:lnTo>
                    <a:pt x="1952" y="1593"/>
                  </a:lnTo>
                  <a:lnTo>
                    <a:pt x="1952" y="1590"/>
                  </a:lnTo>
                  <a:lnTo>
                    <a:pt x="1952" y="1589"/>
                  </a:lnTo>
                  <a:lnTo>
                    <a:pt x="1953" y="1586"/>
                  </a:lnTo>
                  <a:lnTo>
                    <a:pt x="1953" y="1584"/>
                  </a:lnTo>
                  <a:lnTo>
                    <a:pt x="1954" y="1583"/>
                  </a:lnTo>
                  <a:lnTo>
                    <a:pt x="1954" y="1582"/>
                  </a:lnTo>
                  <a:lnTo>
                    <a:pt x="1956" y="1577"/>
                  </a:lnTo>
                  <a:lnTo>
                    <a:pt x="1957" y="1574"/>
                  </a:lnTo>
                  <a:lnTo>
                    <a:pt x="1958" y="1573"/>
                  </a:lnTo>
                  <a:lnTo>
                    <a:pt x="1958" y="1572"/>
                  </a:lnTo>
                  <a:lnTo>
                    <a:pt x="1959" y="1566"/>
                  </a:lnTo>
                  <a:lnTo>
                    <a:pt x="1960" y="1562"/>
                  </a:lnTo>
                  <a:lnTo>
                    <a:pt x="1961" y="1561"/>
                  </a:lnTo>
                  <a:lnTo>
                    <a:pt x="1962" y="1558"/>
                  </a:lnTo>
                  <a:lnTo>
                    <a:pt x="1963" y="1557"/>
                  </a:lnTo>
                  <a:lnTo>
                    <a:pt x="1964" y="1555"/>
                  </a:lnTo>
                  <a:lnTo>
                    <a:pt x="1965" y="1554"/>
                  </a:lnTo>
                  <a:lnTo>
                    <a:pt x="1968" y="1553"/>
                  </a:lnTo>
                  <a:lnTo>
                    <a:pt x="1970" y="1549"/>
                  </a:lnTo>
                  <a:lnTo>
                    <a:pt x="1971" y="1546"/>
                  </a:lnTo>
                  <a:lnTo>
                    <a:pt x="1972" y="1545"/>
                  </a:lnTo>
                  <a:lnTo>
                    <a:pt x="1975" y="1541"/>
                  </a:lnTo>
                  <a:lnTo>
                    <a:pt x="1976" y="1540"/>
                  </a:lnTo>
                  <a:lnTo>
                    <a:pt x="1977" y="1539"/>
                  </a:lnTo>
                  <a:lnTo>
                    <a:pt x="1979" y="1537"/>
                  </a:lnTo>
                  <a:lnTo>
                    <a:pt x="1982" y="1529"/>
                  </a:lnTo>
                  <a:lnTo>
                    <a:pt x="1985" y="1524"/>
                  </a:lnTo>
                  <a:lnTo>
                    <a:pt x="1986" y="1523"/>
                  </a:lnTo>
                  <a:lnTo>
                    <a:pt x="1988" y="1526"/>
                  </a:lnTo>
                  <a:lnTo>
                    <a:pt x="1989" y="1527"/>
                  </a:lnTo>
                  <a:lnTo>
                    <a:pt x="1991" y="1527"/>
                  </a:lnTo>
                  <a:lnTo>
                    <a:pt x="1992" y="1529"/>
                  </a:lnTo>
                  <a:lnTo>
                    <a:pt x="1993" y="1529"/>
                  </a:lnTo>
                  <a:lnTo>
                    <a:pt x="1993" y="1528"/>
                  </a:lnTo>
                  <a:lnTo>
                    <a:pt x="1994" y="1524"/>
                  </a:lnTo>
                  <a:lnTo>
                    <a:pt x="1994" y="1520"/>
                  </a:lnTo>
                  <a:lnTo>
                    <a:pt x="1995" y="1519"/>
                  </a:lnTo>
                  <a:lnTo>
                    <a:pt x="1996" y="1515"/>
                  </a:lnTo>
                  <a:lnTo>
                    <a:pt x="1997" y="1513"/>
                  </a:lnTo>
                  <a:lnTo>
                    <a:pt x="1998" y="1512"/>
                  </a:lnTo>
                  <a:lnTo>
                    <a:pt x="2000" y="1507"/>
                  </a:lnTo>
                  <a:lnTo>
                    <a:pt x="2007" y="1492"/>
                  </a:lnTo>
                  <a:lnTo>
                    <a:pt x="2012" y="1481"/>
                  </a:lnTo>
                  <a:lnTo>
                    <a:pt x="2014" y="1480"/>
                  </a:lnTo>
                  <a:lnTo>
                    <a:pt x="2015" y="1479"/>
                  </a:lnTo>
                  <a:lnTo>
                    <a:pt x="2018" y="1476"/>
                  </a:lnTo>
                  <a:lnTo>
                    <a:pt x="2021" y="1472"/>
                  </a:lnTo>
                  <a:lnTo>
                    <a:pt x="2022" y="1471"/>
                  </a:lnTo>
                  <a:lnTo>
                    <a:pt x="2022" y="1470"/>
                  </a:lnTo>
                  <a:lnTo>
                    <a:pt x="2023" y="1466"/>
                  </a:lnTo>
                  <a:lnTo>
                    <a:pt x="2023" y="1462"/>
                  </a:lnTo>
                  <a:lnTo>
                    <a:pt x="2024" y="1461"/>
                  </a:lnTo>
                  <a:lnTo>
                    <a:pt x="2026" y="1461"/>
                  </a:lnTo>
                  <a:lnTo>
                    <a:pt x="2027" y="1461"/>
                  </a:lnTo>
                  <a:lnTo>
                    <a:pt x="2028" y="1461"/>
                  </a:lnTo>
                  <a:lnTo>
                    <a:pt x="2031" y="1456"/>
                  </a:lnTo>
                  <a:lnTo>
                    <a:pt x="2032" y="1453"/>
                  </a:lnTo>
                  <a:lnTo>
                    <a:pt x="2033" y="1452"/>
                  </a:lnTo>
                  <a:lnTo>
                    <a:pt x="2033" y="1450"/>
                  </a:lnTo>
                  <a:lnTo>
                    <a:pt x="2034" y="1445"/>
                  </a:lnTo>
                  <a:lnTo>
                    <a:pt x="2034" y="1442"/>
                  </a:lnTo>
                  <a:lnTo>
                    <a:pt x="2035" y="1441"/>
                  </a:lnTo>
                  <a:lnTo>
                    <a:pt x="2031" y="1439"/>
                  </a:lnTo>
                  <a:lnTo>
                    <a:pt x="2030" y="1438"/>
                  </a:lnTo>
                  <a:lnTo>
                    <a:pt x="2030" y="1437"/>
                  </a:lnTo>
                  <a:lnTo>
                    <a:pt x="2031" y="1436"/>
                  </a:lnTo>
                  <a:lnTo>
                    <a:pt x="2032" y="1434"/>
                  </a:lnTo>
                  <a:lnTo>
                    <a:pt x="2033" y="1434"/>
                  </a:lnTo>
                  <a:lnTo>
                    <a:pt x="2034" y="1434"/>
                  </a:lnTo>
                  <a:lnTo>
                    <a:pt x="2035" y="1433"/>
                  </a:lnTo>
                  <a:lnTo>
                    <a:pt x="2039" y="1433"/>
                  </a:lnTo>
                  <a:lnTo>
                    <a:pt x="2041" y="1433"/>
                  </a:lnTo>
                  <a:lnTo>
                    <a:pt x="2042" y="1432"/>
                  </a:lnTo>
                  <a:lnTo>
                    <a:pt x="2043" y="1431"/>
                  </a:lnTo>
                  <a:lnTo>
                    <a:pt x="2046" y="1427"/>
                  </a:lnTo>
                  <a:lnTo>
                    <a:pt x="2049" y="1424"/>
                  </a:lnTo>
                  <a:lnTo>
                    <a:pt x="2050" y="1423"/>
                  </a:lnTo>
                  <a:lnTo>
                    <a:pt x="2053" y="1415"/>
                  </a:lnTo>
                  <a:lnTo>
                    <a:pt x="2055" y="1411"/>
                  </a:lnTo>
                  <a:lnTo>
                    <a:pt x="2056" y="1410"/>
                  </a:lnTo>
                  <a:lnTo>
                    <a:pt x="2061" y="1407"/>
                  </a:lnTo>
                  <a:lnTo>
                    <a:pt x="2063" y="1404"/>
                  </a:lnTo>
                  <a:lnTo>
                    <a:pt x="2064" y="1403"/>
                  </a:lnTo>
                  <a:lnTo>
                    <a:pt x="2066" y="1399"/>
                  </a:lnTo>
                  <a:lnTo>
                    <a:pt x="2067" y="1397"/>
                  </a:lnTo>
                  <a:lnTo>
                    <a:pt x="2068" y="1396"/>
                  </a:lnTo>
                  <a:lnTo>
                    <a:pt x="2071" y="1395"/>
                  </a:lnTo>
                  <a:lnTo>
                    <a:pt x="2074" y="1395"/>
                  </a:lnTo>
                  <a:lnTo>
                    <a:pt x="2075" y="1394"/>
                  </a:lnTo>
                  <a:lnTo>
                    <a:pt x="2076" y="1394"/>
                  </a:lnTo>
                  <a:lnTo>
                    <a:pt x="2081" y="1392"/>
                  </a:lnTo>
                  <a:lnTo>
                    <a:pt x="2085" y="1392"/>
                  </a:lnTo>
                  <a:lnTo>
                    <a:pt x="2086" y="1391"/>
                  </a:lnTo>
                  <a:lnTo>
                    <a:pt x="2081" y="1389"/>
                  </a:lnTo>
                  <a:lnTo>
                    <a:pt x="2080" y="1388"/>
                  </a:lnTo>
                  <a:lnTo>
                    <a:pt x="2080" y="1387"/>
                  </a:lnTo>
                  <a:lnTo>
                    <a:pt x="2081" y="1386"/>
                  </a:lnTo>
                  <a:lnTo>
                    <a:pt x="2082" y="1385"/>
                  </a:lnTo>
                  <a:lnTo>
                    <a:pt x="2086" y="1385"/>
                  </a:lnTo>
                  <a:lnTo>
                    <a:pt x="2088" y="1385"/>
                  </a:lnTo>
                  <a:lnTo>
                    <a:pt x="2089" y="1385"/>
                  </a:lnTo>
                  <a:lnTo>
                    <a:pt x="2090" y="1384"/>
                  </a:lnTo>
                  <a:lnTo>
                    <a:pt x="2096" y="1380"/>
                  </a:lnTo>
                  <a:lnTo>
                    <a:pt x="2099" y="1378"/>
                  </a:lnTo>
                  <a:lnTo>
                    <a:pt x="2100" y="1377"/>
                  </a:lnTo>
                  <a:lnTo>
                    <a:pt x="2103" y="1374"/>
                  </a:lnTo>
                  <a:lnTo>
                    <a:pt x="2104" y="1373"/>
                  </a:lnTo>
                  <a:lnTo>
                    <a:pt x="2105" y="1372"/>
                  </a:lnTo>
                  <a:lnTo>
                    <a:pt x="2104" y="1368"/>
                  </a:lnTo>
                  <a:lnTo>
                    <a:pt x="2104" y="1367"/>
                  </a:lnTo>
                  <a:lnTo>
                    <a:pt x="2104" y="1366"/>
                  </a:lnTo>
                  <a:lnTo>
                    <a:pt x="2104" y="1363"/>
                  </a:lnTo>
                  <a:lnTo>
                    <a:pt x="2104" y="1361"/>
                  </a:lnTo>
                  <a:lnTo>
                    <a:pt x="2105" y="1360"/>
                  </a:lnTo>
                  <a:lnTo>
                    <a:pt x="2109" y="1356"/>
                  </a:lnTo>
                  <a:lnTo>
                    <a:pt x="2111" y="1355"/>
                  </a:lnTo>
                  <a:lnTo>
                    <a:pt x="2112" y="1354"/>
                  </a:lnTo>
                  <a:lnTo>
                    <a:pt x="2114" y="1351"/>
                  </a:lnTo>
                  <a:lnTo>
                    <a:pt x="2115" y="1349"/>
                  </a:lnTo>
                  <a:lnTo>
                    <a:pt x="2116" y="1348"/>
                  </a:lnTo>
                  <a:lnTo>
                    <a:pt x="2120" y="1345"/>
                  </a:lnTo>
                  <a:lnTo>
                    <a:pt x="2121" y="1344"/>
                  </a:lnTo>
                  <a:lnTo>
                    <a:pt x="2122" y="1343"/>
                  </a:lnTo>
                  <a:lnTo>
                    <a:pt x="2124" y="1339"/>
                  </a:lnTo>
                  <a:lnTo>
                    <a:pt x="2125" y="1337"/>
                  </a:lnTo>
                  <a:lnTo>
                    <a:pt x="2126" y="1336"/>
                  </a:lnTo>
                  <a:lnTo>
                    <a:pt x="2126" y="1334"/>
                  </a:lnTo>
                  <a:lnTo>
                    <a:pt x="2126" y="1333"/>
                  </a:lnTo>
                  <a:lnTo>
                    <a:pt x="2127" y="1332"/>
                  </a:lnTo>
                  <a:lnTo>
                    <a:pt x="2129" y="1329"/>
                  </a:lnTo>
                  <a:lnTo>
                    <a:pt x="2136" y="1318"/>
                  </a:lnTo>
                  <a:lnTo>
                    <a:pt x="2140" y="1309"/>
                  </a:lnTo>
                  <a:lnTo>
                    <a:pt x="2141" y="1308"/>
                  </a:lnTo>
                  <a:lnTo>
                    <a:pt x="2141" y="1305"/>
                  </a:lnTo>
                  <a:lnTo>
                    <a:pt x="2141" y="1303"/>
                  </a:lnTo>
                  <a:lnTo>
                    <a:pt x="2143" y="1302"/>
                  </a:lnTo>
                  <a:lnTo>
                    <a:pt x="2145" y="1298"/>
                  </a:lnTo>
                  <a:lnTo>
                    <a:pt x="2146" y="1297"/>
                  </a:lnTo>
                  <a:lnTo>
                    <a:pt x="2147" y="1296"/>
                  </a:lnTo>
                  <a:lnTo>
                    <a:pt x="2147" y="1295"/>
                  </a:lnTo>
                  <a:lnTo>
                    <a:pt x="2146" y="1292"/>
                  </a:lnTo>
                  <a:lnTo>
                    <a:pt x="2146" y="1289"/>
                  </a:lnTo>
                  <a:lnTo>
                    <a:pt x="2147" y="1287"/>
                  </a:lnTo>
                  <a:lnTo>
                    <a:pt x="2147" y="1286"/>
                  </a:lnTo>
                  <a:lnTo>
                    <a:pt x="2146" y="1282"/>
                  </a:lnTo>
                  <a:lnTo>
                    <a:pt x="2146" y="1279"/>
                  </a:lnTo>
                  <a:lnTo>
                    <a:pt x="2147" y="1278"/>
                  </a:lnTo>
                  <a:lnTo>
                    <a:pt x="2148" y="1278"/>
                  </a:lnTo>
                  <a:lnTo>
                    <a:pt x="2148" y="1275"/>
                  </a:lnTo>
                  <a:lnTo>
                    <a:pt x="2148" y="1274"/>
                  </a:lnTo>
                  <a:lnTo>
                    <a:pt x="2149" y="1273"/>
                  </a:lnTo>
                  <a:lnTo>
                    <a:pt x="2149" y="1272"/>
                  </a:lnTo>
                  <a:lnTo>
                    <a:pt x="2150" y="1267"/>
                  </a:lnTo>
                  <a:lnTo>
                    <a:pt x="2151" y="1262"/>
                  </a:lnTo>
                  <a:lnTo>
                    <a:pt x="2152" y="1261"/>
                  </a:lnTo>
                  <a:lnTo>
                    <a:pt x="2155" y="1257"/>
                  </a:lnTo>
                  <a:lnTo>
                    <a:pt x="2156" y="1255"/>
                  </a:lnTo>
                  <a:lnTo>
                    <a:pt x="2157" y="1254"/>
                  </a:lnTo>
                  <a:lnTo>
                    <a:pt x="2160" y="1248"/>
                  </a:lnTo>
                  <a:lnTo>
                    <a:pt x="2161" y="1245"/>
                  </a:lnTo>
                  <a:lnTo>
                    <a:pt x="2162" y="1244"/>
                  </a:lnTo>
                  <a:lnTo>
                    <a:pt x="2163" y="1243"/>
                  </a:lnTo>
                  <a:lnTo>
                    <a:pt x="2164" y="1241"/>
                  </a:lnTo>
                  <a:lnTo>
                    <a:pt x="2165" y="1237"/>
                  </a:lnTo>
                  <a:lnTo>
                    <a:pt x="2169" y="1224"/>
                  </a:lnTo>
                  <a:lnTo>
                    <a:pt x="2172" y="1213"/>
                  </a:lnTo>
                  <a:lnTo>
                    <a:pt x="2173" y="1212"/>
                  </a:lnTo>
                  <a:lnTo>
                    <a:pt x="2173" y="1210"/>
                  </a:lnTo>
                  <a:lnTo>
                    <a:pt x="2176" y="1201"/>
                  </a:lnTo>
                  <a:lnTo>
                    <a:pt x="2178" y="1194"/>
                  </a:lnTo>
                  <a:lnTo>
                    <a:pt x="2179" y="1193"/>
                  </a:lnTo>
                  <a:lnTo>
                    <a:pt x="2182" y="1185"/>
                  </a:lnTo>
                  <a:lnTo>
                    <a:pt x="2184" y="1179"/>
                  </a:lnTo>
                  <a:lnTo>
                    <a:pt x="2185" y="1178"/>
                  </a:lnTo>
                  <a:lnTo>
                    <a:pt x="2187" y="1174"/>
                  </a:lnTo>
                  <a:lnTo>
                    <a:pt x="2188" y="1171"/>
                  </a:lnTo>
                  <a:lnTo>
                    <a:pt x="2190" y="1170"/>
                  </a:lnTo>
                  <a:lnTo>
                    <a:pt x="2190" y="1168"/>
                  </a:lnTo>
                  <a:lnTo>
                    <a:pt x="2192" y="1162"/>
                  </a:lnTo>
                  <a:lnTo>
                    <a:pt x="2193" y="1157"/>
                  </a:lnTo>
                  <a:lnTo>
                    <a:pt x="2194" y="1156"/>
                  </a:lnTo>
                  <a:lnTo>
                    <a:pt x="2194" y="1155"/>
                  </a:lnTo>
                  <a:lnTo>
                    <a:pt x="2195" y="1150"/>
                  </a:lnTo>
                  <a:lnTo>
                    <a:pt x="2195" y="1145"/>
                  </a:lnTo>
                  <a:lnTo>
                    <a:pt x="2196" y="1144"/>
                  </a:lnTo>
                  <a:lnTo>
                    <a:pt x="2196" y="1143"/>
                  </a:lnTo>
                  <a:lnTo>
                    <a:pt x="2195" y="1140"/>
                  </a:lnTo>
                  <a:lnTo>
                    <a:pt x="2195" y="1138"/>
                  </a:lnTo>
                  <a:lnTo>
                    <a:pt x="2196" y="1136"/>
                  </a:lnTo>
                  <a:lnTo>
                    <a:pt x="2196" y="1133"/>
                  </a:lnTo>
                  <a:lnTo>
                    <a:pt x="2196" y="1131"/>
                  </a:lnTo>
                  <a:lnTo>
                    <a:pt x="2197" y="1130"/>
                  </a:lnTo>
                  <a:lnTo>
                    <a:pt x="2196" y="1128"/>
                  </a:lnTo>
                  <a:lnTo>
                    <a:pt x="2195" y="1120"/>
                  </a:lnTo>
                  <a:lnTo>
                    <a:pt x="2195" y="1113"/>
                  </a:lnTo>
                  <a:lnTo>
                    <a:pt x="2195" y="1112"/>
                  </a:lnTo>
                  <a:lnTo>
                    <a:pt x="2194" y="1110"/>
                  </a:lnTo>
                  <a:lnTo>
                    <a:pt x="2194" y="1109"/>
                  </a:lnTo>
                  <a:lnTo>
                    <a:pt x="2194" y="1108"/>
                  </a:lnTo>
                  <a:lnTo>
                    <a:pt x="2194" y="1107"/>
                  </a:lnTo>
                  <a:lnTo>
                    <a:pt x="2193" y="1104"/>
                  </a:lnTo>
                  <a:lnTo>
                    <a:pt x="2193" y="1101"/>
                  </a:lnTo>
                  <a:lnTo>
                    <a:pt x="2194" y="1100"/>
                  </a:lnTo>
                  <a:lnTo>
                    <a:pt x="2193" y="1099"/>
                  </a:lnTo>
                  <a:lnTo>
                    <a:pt x="2191" y="1095"/>
                  </a:lnTo>
                  <a:lnTo>
                    <a:pt x="2190" y="1092"/>
                  </a:lnTo>
                  <a:lnTo>
                    <a:pt x="2190" y="1091"/>
                  </a:lnTo>
                  <a:lnTo>
                    <a:pt x="2188" y="1086"/>
                  </a:lnTo>
                  <a:lnTo>
                    <a:pt x="2188" y="1084"/>
                  </a:lnTo>
                  <a:lnTo>
                    <a:pt x="2188" y="1083"/>
                  </a:lnTo>
                  <a:lnTo>
                    <a:pt x="2188" y="1082"/>
                  </a:lnTo>
                  <a:lnTo>
                    <a:pt x="2187" y="1076"/>
                  </a:lnTo>
                  <a:lnTo>
                    <a:pt x="2187" y="1072"/>
                  </a:lnTo>
                  <a:lnTo>
                    <a:pt x="2188" y="1071"/>
                  </a:lnTo>
                  <a:lnTo>
                    <a:pt x="2186" y="1069"/>
                  </a:lnTo>
                  <a:lnTo>
                    <a:pt x="2185" y="1068"/>
                  </a:lnTo>
                  <a:lnTo>
                    <a:pt x="2185" y="1066"/>
                  </a:lnTo>
                  <a:lnTo>
                    <a:pt x="2184" y="1063"/>
                  </a:lnTo>
                  <a:lnTo>
                    <a:pt x="2184" y="1061"/>
                  </a:lnTo>
                  <a:lnTo>
                    <a:pt x="2185" y="1060"/>
                  </a:lnTo>
                  <a:lnTo>
                    <a:pt x="2184" y="1058"/>
                  </a:lnTo>
                  <a:lnTo>
                    <a:pt x="2184" y="1057"/>
                  </a:lnTo>
                  <a:lnTo>
                    <a:pt x="2185" y="1053"/>
                  </a:lnTo>
                  <a:lnTo>
                    <a:pt x="2185" y="1051"/>
                  </a:lnTo>
                  <a:lnTo>
                    <a:pt x="2186" y="1050"/>
                  </a:lnTo>
                  <a:lnTo>
                    <a:pt x="2188" y="1052"/>
                  </a:lnTo>
                  <a:lnTo>
                    <a:pt x="2191" y="1052"/>
                  </a:lnTo>
                  <a:lnTo>
                    <a:pt x="2188" y="1047"/>
                  </a:lnTo>
                  <a:lnTo>
                    <a:pt x="2188" y="1043"/>
                  </a:lnTo>
                  <a:lnTo>
                    <a:pt x="2188" y="1042"/>
                  </a:lnTo>
                  <a:lnTo>
                    <a:pt x="2188" y="1039"/>
                  </a:lnTo>
                  <a:lnTo>
                    <a:pt x="2188" y="1026"/>
                  </a:lnTo>
                  <a:lnTo>
                    <a:pt x="2188" y="1016"/>
                  </a:lnTo>
                  <a:lnTo>
                    <a:pt x="2190" y="1015"/>
                  </a:lnTo>
                  <a:lnTo>
                    <a:pt x="2188" y="1008"/>
                  </a:lnTo>
                  <a:lnTo>
                    <a:pt x="2188" y="1005"/>
                  </a:lnTo>
                  <a:lnTo>
                    <a:pt x="2188" y="1004"/>
                  </a:lnTo>
                  <a:lnTo>
                    <a:pt x="2188" y="1002"/>
                  </a:lnTo>
                  <a:lnTo>
                    <a:pt x="2192" y="995"/>
                  </a:lnTo>
                  <a:lnTo>
                    <a:pt x="2193" y="991"/>
                  </a:lnTo>
                  <a:lnTo>
                    <a:pt x="2194" y="990"/>
                  </a:lnTo>
                  <a:lnTo>
                    <a:pt x="2194" y="988"/>
                  </a:lnTo>
                  <a:lnTo>
                    <a:pt x="2193" y="981"/>
                  </a:lnTo>
                  <a:lnTo>
                    <a:pt x="2193" y="976"/>
                  </a:lnTo>
                  <a:lnTo>
                    <a:pt x="2194" y="975"/>
                  </a:lnTo>
                  <a:lnTo>
                    <a:pt x="2193" y="976"/>
                  </a:lnTo>
                  <a:lnTo>
                    <a:pt x="2191" y="979"/>
                  </a:lnTo>
                  <a:lnTo>
                    <a:pt x="2190" y="981"/>
                  </a:lnTo>
                  <a:lnTo>
                    <a:pt x="2190" y="981"/>
                  </a:lnTo>
                  <a:lnTo>
                    <a:pt x="2187" y="978"/>
                  </a:lnTo>
                  <a:lnTo>
                    <a:pt x="2187" y="976"/>
                  </a:lnTo>
                  <a:lnTo>
                    <a:pt x="2187" y="975"/>
                  </a:lnTo>
                  <a:lnTo>
                    <a:pt x="2185" y="969"/>
                  </a:lnTo>
                  <a:lnTo>
                    <a:pt x="2184" y="966"/>
                  </a:lnTo>
                  <a:lnTo>
                    <a:pt x="2184" y="965"/>
                  </a:lnTo>
                  <a:lnTo>
                    <a:pt x="2184" y="964"/>
                  </a:lnTo>
                  <a:lnTo>
                    <a:pt x="2183" y="959"/>
                  </a:lnTo>
                  <a:lnTo>
                    <a:pt x="2183" y="956"/>
                  </a:lnTo>
                  <a:lnTo>
                    <a:pt x="2184" y="955"/>
                  </a:lnTo>
                  <a:lnTo>
                    <a:pt x="2184" y="954"/>
                  </a:lnTo>
                  <a:lnTo>
                    <a:pt x="2183" y="951"/>
                  </a:lnTo>
                  <a:lnTo>
                    <a:pt x="2183" y="947"/>
                  </a:lnTo>
                  <a:lnTo>
                    <a:pt x="2184" y="946"/>
                  </a:lnTo>
                  <a:lnTo>
                    <a:pt x="2183" y="942"/>
                  </a:lnTo>
                  <a:lnTo>
                    <a:pt x="2183" y="938"/>
                  </a:lnTo>
                  <a:lnTo>
                    <a:pt x="2183" y="937"/>
                  </a:lnTo>
                  <a:lnTo>
                    <a:pt x="2175" y="934"/>
                  </a:lnTo>
                  <a:lnTo>
                    <a:pt x="2172" y="932"/>
                  </a:lnTo>
                  <a:lnTo>
                    <a:pt x="2172" y="931"/>
                  </a:lnTo>
                  <a:lnTo>
                    <a:pt x="2173" y="928"/>
                  </a:lnTo>
                  <a:lnTo>
                    <a:pt x="2173" y="926"/>
                  </a:lnTo>
                  <a:lnTo>
                    <a:pt x="2174" y="925"/>
                  </a:lnTo>
                  <a:lnTo>
                    <a:pt x="2173" y="924"/>
                  </a:lnTo>
                  <a:lnTo>
                    <a:pt x="2170" y="919"/>
                  </a:lnTo>
                  <a:lnTo>
                    <a:pt x="2168" y="915"/>
                  </a:lnTo>
                  <a:lnTo>
                    <a:pt x="2168" y="914"/>
                  </a:lnTo>
                  <a:lnTo>
                    <a:pt x="2165" y="909"/>
                  </a:lnTo>
                  <a:lnTo>
                    <a:pt x="2164" y="906"/>
                  </a:lnTo>
                  <a:lnTo>
                    <a:pt x="2164" y="905"/>
                  </a:lnTo>
                  <a:lnTo>
                    <a:pt x="2164" y="903"/>
                  </a:lnTo>
                  <a:lnTo>
                    <a:pt x="2164" y="902"/>
                  </a:lnTo>
                  <a:lnTo>
                    <a:pt x="2165" y="901"/>
                  </a:lnTo>
                  <a:lnTo>
                    <a:pt x="2159" y="899"/>
                  </a:lnTo>
                  <a:lnTo>
                    <a:pt x="2156" y="898"/>
                  </a:lnTo>
                  <a:lnTo>
                    <a:pt x="2156" y="897"/>
                  </a:lnTo>
                  <a:lnTo>
                    <a:pt x="2150" y="891"/>
                  </a:lnTo>
                  <a:lnTo>
                    <a:pt x="2148" y="888"/>
                  </a:lnTo>
                  <a:lnTo>
                    <a:pt x="2148" y="887"/>
                  </a:lnTo>
                  <a:lnTo>
                    <a:pt x="2147" y="884"/>
                  </a:lnTo>
                  <a:lnTo>
                    <a:pt x="2147" y="883"/>
                  </a:lnTo>
                  <a:lnTo>
                    <a:pt x="2147" y="882"/>
                  </a:lnTo>
                  <a:lnTo>
                    <a:pt x="2145" y="880"/>
                  </a:lnTo>
                  <a:lnTo>
                    <a:pt x="2139" y="877"/>
                  </a:lnTo>
                  <a:lnTo>
                    <a:pt x="2135" y="874"/>
                  </a:lnTo>
                  <a:lnTo>
                    <a:pt x="2135" y="873"/>
                  </a:lnTo>
                  <a:lnTo>
                    <a:pt x="2135" y="872"/>
                  </a:lnTo>
                  <a:lnTo>
                    <a:pt x="2135" y="866"/>
                  </a:lnTo>
                  <a:lnTo>
                    <a:pt x="2135" y="862"/>
                  </a:lnTo>
                  <a:lnTo>
                    <a:pt x="2136" y="861"/>
                  </a:lnTo>
                  <a:lnTo>
                    <a:pt x="2135" y="860"/>
                  </a:lnTo>
                  <a:lnTo>
                    <a:pt x="2132" y="856"/>
                  </a:lnTo>
                  <a:lnTo>
                    <a:pt x="2130" y="854"/>
                  </a:lnTo>
                  <a:lnTo>
                    <a:pt x="2130" y="853"/>
                  </a:lnTo>
                  <a:lnTo>
                    <a:pt x="2129" y="853"/>
                  </a:lnTo>
                  <a:lnTo>
                    <a:pt x="2128" y="853"/>
                  </a:lnTo>
                  <a:lnTo>
                    <a:pt x="2122" y="853"/>
                  </a:lnTo>
                  <a:lnTo>
                    <a:pt x="2117" y="853"/>
                  </a:lnTo>
                  <a:lnTo>
                    <a:pt x="2117" y="852"/>
                  </a:lnTo>
                  <a:lnTo>
                    <a:pt x="2112" y="849"/>
                  </a:lnTo>
                  <a:lnTo>
                    <a:pt x="2110" y="847"/>
                  </a:lnTo>
                  <a:lnTo>
                    <a:pt x="2110" y="845"/>
                  </a:lnTo>
                  <a:lnTo>
                    <a:pt x="2109" y="844"/>
                  </a:lnTo>
                  <a:lnTo>
                    <a:pt x="2105" y="841"/>
                  </a:lnTo>
                  <a:lnTo>
                    <a:pt x="2104" y="839"/>
                  </a:lnTo>
                  <a:lnTo>
                    <a:pt x="2104" y="838"/>
                  </a:lnTo>
                  <a:lnTo>
                    <a:pt x="2103" y="837"/>
                  </a:lnTo>
                  <a:lnTo>
                    <a:pt x="2100" y="833"/>
                  </a:lnTo>
                  <a:lnTo>
                    <a:pt x="2099" y="830"/>
                  </a:lnTo>
                  <a:lnTo>
                    <a:pt x="2099" y="829"/>
                  </a:lnTo>
                  <a:lnTo>
                    <a:pt x="2097" y="828"/>
                  </a:lnTo>
                  <a:lnTo>
                    <a:pt x="2093" y="825"/>
                  </a:lnTo>
                  <a:lnTo>
                    <a:pt x="2091" y="823"/>
                  </a:lnTo>
                  <a:lnTo>
                    <a:pt x="2091" y="821"/>
                  </a:lnTo>
                  <a:lnTo>
                    <a:pt x="2090" y="819"/>
                  </a:lnTo>
                  <a:lnTo>
                    <a:pt x="2089" y="813"/>
                  </a:lnTo>
                  <a:lnTo>
                    <a:pt x="2089" y="808"/>
                  </a:lnTo>
                  <a:lnTo>
                    <a:pt x="2089" y="807"/>
                  </a:lnTo>
                  <a:lnTo>
                    <a:pt x="2089" y="805"/>
                  </a:lnTo>
                  <a:lnTo>
                    <a:pt x="2089" y="798"/>
                  </a:lnTo>
                  <a:lnTo>
                    <a:pt x="2089" y="793"/>
                  </a:lnTo>
                  <a:lnTo>
                    <a:pt x="2090" y="792"/>
                  </a:lnTo>
                  <a:lnTo>
                    <a:pt x="2090" y="790"/>
                  </a:lnTo>
                  <a:lnTo>
                    <a:pt x="2090" y="782"/>
                  </a:lnTo>
                  <a:lnTo>
                    <a:pt x="2090" y="777"/>
                  </a:lnTo>
                  <a:lnTo>
                    <a:pt x="2091" y="775"/>
                  </a:lnTo>
                  <a:lnTo>
                    <a:pt x="2090" y="766"/>
                  </a:lnTo>
                  <a:lnTo>
                    <a:pt x="2090" y="760"/>
                  </a:lnTo>
                  <a:lnTo>
                    <a:pt x="2090" y="759"/>
                  </a:lnTo>
                  <a:lnTo>
                    <a:pt x="2088" y="758"/>
                  </a:lnTo>
                  <a:lnTo>
                    <a:pt x="2088" y="757"/>
                  </a:lnTo>
                  <a:lnTo>
                    <a:pt x="2088" y="756"/>
                  </a:lnTo>
                  <a:lnTo>
                    <a:pt x="2087" y="753"/>
                  </a:lnTo>
                  <a:lnTo>
                    <a:pt x="2087" y="750"/>
                  </a:lnTo>
                  <a:lnTo>
                    <a:pt x="2088" y="749"/>
                  </a:lnTo>
                  <a:lnTo>
                    <a:pt x="2085" y="747"/>
                  </a:lnTo>
                  <a:lnTo>
                    <a:pt x="2083" y="746"/>
                  </a:lnTo>
                  <a:lnTo>
                    <a:pt x="2083" y="745"/>
                  </a:lnTo>
                  <a:lnTo>
                    <a:pt x="2082" y="748"/>
                  </a:lnTo>
                  <a:lnTo>
                    <a:pt x="2081" y="755"/>
                  </a:lnTo>
                  <a:lnTo>
                    <a:pt x="2080" y="760"/>
                  </a:lnTo>
                  <a:lnTo>
                    <a:pt x="2080" y="760"/>
                  </a:lnTo>
                  <a:lnTo>
                    <a:pt x="2078" y="759"/>
                  </a:lnTo>
                  <a:lnTo>
                    <a:pt x="2075" y="756"/>
                  </a:lnTo>
                  <a:lnTo>
                    <a:pt x="2073" y="754"/>
                  </a:lnTo>
                  <a:lnTo>
                    <a:pt x="2073" y="753"/>
                  </a:lnTo>
                  <a:lnTo>
                    <a:pt x="2065" y="749"/>
                  </a:lnTo>
                  <a:lnTo>
                    <a:pt x="2062" y="747"/>
                  </a:lnTo>
                  <a:lnTo>
                    <a:pt x="2062" y="746"/>
                  </a:lnTo>
                  <a:lnTo>
                    <a:pt x="2057" y="743"/>
                  </a:lnTo>
                  <a:lnTo>
                    <a:pt x="2056" y="742"/>
                  </a:lnTo>
                  <a:lnTo>
                    <a:pt x="2056" y="740"/>
                  </a:lnTo>
                  <a:lnTo>
                    <a:pt x="2054" y="734"/>
                  </a:lnTo>
                  <a:lnTo>
                    <a:pt x="2054" y="731"/>
                  </a:lnTo>
                  <a:lnTo>
                    <a:pt x="2054" y="730"/>
                  </a:lnTo>
                  <a:lnTo>
                    <a:pt x="2053" y="731"/>
                  </a:lnTo>
                  <a:lnTo>
                    <a:pt x="2050" y="733"/>
                  </a:lnTo>
                  <a:lnTo>
                    <a:pt x="2047" y="734"/>
                  </a:lnTo>
                  <a:lnTo>
                    <a:pt x="2047" y="734"/>
                  </a:lnTo>
                  <a:lnTo>
                    <a:pt x="2046" y="737"/>
                  </a:lnTo>
                  <a:lnTo>
                    <a:pt x="2046" y="744"/>
                  </a:lnTo>
                  <a:lnTo>
                    <a:pt x="2046" y="749"/>
                  </a:lnTo>
                  <a:lnTo>
                    <a:pt x="2046" y="749"/>
                  </a:lnTo>
                  <a:lnTo>
                    <a:pt x="2045" y="749"/>
                  </a:lnTo>
                  <a:lnTo>
                    <a:pt x="2042" y="749"/>
                  </a:lnTo>
                  <a:lnTo>
                    <a:pt x="2040" y="749"/>
                  </a:lnTo>
                  <a:lnTo>
                    <a:pt x="2040" y="749"/>
                  </a:lnTo>
                  <a:lnTo>
                    <a:pt x="2039" y="750"/>
                  </a:lnTo>
                  <a:lnTo>
                    <a:pt x="2036" y="751"/>
                  </a:lnTo>
                  <a:lnTo>
                    <a:pt x="2035" y="751"/>
                  </a:lnTo>
                  <a:lnTo>
                    <a:pt x="2034" y="751"/>
                  </a:lnTo>
                  <a:lnTo>
                    <a:pt x="2033" y="751"/>
                  </a:lnTo>
                  <a:lnTo>
                    <a:pt x="2032" y="751"/>
                  </a:lnTo>
                  <a:lnTo>
                    <a:pt x="2032" y="750"/>
                  </a:lnTo>
                  <a:lnTo>
                    <a:pt x="2031" y="746"/>
                  </a:lnTo>
                  <a:lnTo>
                    <a:pt x="2031" y="743"/>
                  </a:lnTo>
                  <a:lnTo>
                    <a:pt x="2031" y="742"/>
                  </a:lnTo>
                  <a:lnTo>
                    <a:pt x="2029" y="738"/>
                  </a:lnTo>
                  <a:lnTo>
                    <a:pt x="2028" y="737"/>
                  </a:lnTo>
                  <a:lnTo>
                    <a:pt x="2028" y="736"/>
                  </a:lnTo>
                  <a:lnTo>
                    <a:pt x="2027" y="733"/>
                  </a:lnTo>
                  <a:lnTo>
                    <a:pt x="2027" y="732"/>
                  </a:lnTo>
                  <a:lnTo>
                    <a:pt x="2027" y="731"/>
                  </a:lnTo>
                  <a:lnTo>
                    <a:pt x="2027" y="727"/>
                  </a:lnTo>
                  <a:lnTo>
                    <a:pt x="2026" y="727"/>
                  </a:lnTo>
                  <a:lnTo>
                    <a:pt x="2027" y="727"/>
                  </a:lnTo>
                  <a:lnTo>
                    <a:pt x="2026" y="727"/>
                  </a:lnTo>
                  <a:lnTo>
                    <a:pt x="2027" y="727"/>
                  </a:lnTo>
                  <a:lnTo>
                    <a:pt x="2024" y="724"/>
                  </a:lnTo>
                  <a:lnTo>
                    <a:pt x="2024" y="723"/>
                  </a:lnTo>
                  <a:lnTo>
                    <a:pt x="2024" y="722"/>
                  </a:lnTo>
                  <a:lnTo>
                    <a:pt x="2024" y="721"/>
                  </a:lnTo>
                  <a:lnTo>
                    <a:pt x="2023" y="715"/>
                  </a:lnTo>
                  <a:lnTo>
                    <a:pt x="2023" y="712"/>
                  </a:lnTo>
                  <a:lnTo>
                    <a:pt x="2024" y="711"/>
                  </a:lnTo>
                  <a:lnTo>
                    <a:pt x="2024" y="709"/>
                  </a:lnTo>
                  <a:lnTo>
                    <a:pt x="2026" y="701"/>
                  </a:lnTo>
                  <a:lnTo>
                    <a:pt x="2026" y="696"/>
                  </a:lnTo>
                  <a:lnTo>
                    <a:pt x="2027" y="695"/>
                  </a:lnTo>
                  <a:lnTo>
                    <a:pt x="2026" y="691"/>
                  </a:lnTo>
                  <a:lnTo>
                    <a:pt x="2026" y="689"/>
                  </a:lnTo>
                  <a:lnTo>
                    <a:pt x="2026" y="688"/>
                  </a:lnTo>
                  <a:lnTo>
                    <a:pt x="2024" y="688"/>
                  </a:lnTo>
                  <a:lnTo>
                    <a:pt x="2021" y="687"/>
                  </a:lnTo>
                  <a:lnTo>
                    <a:pt x="2019" y="687"/>
                  </a:lnTo>
                  <a:lnTo>
                    <a:pt x="2019" y="686"/>
                  </a:lnTo>
                  <a:lnTo>
                    <a:pt x="2018" y="681"/>
                  </a:lnTo>
                  <a:lnTo>
                    <a:pt x="2018" y="678"/>
                  </a:lnTo>
                  <a:lnTo>
                    <a:pt x="2018" y="677"/>
                  </a:lnTo>
                  <a:lnTo>
                    <a:pt x="2016" y="674"/>
                  </a:lnTo>
                  <a:lnTo>
                    <a:pt x="2015" y="673"/>
                  </a:lnTo>
                  <a:lnTo>
                    <a:pt x="2015" y="672"/>
                  </a:lnTo>
                  <a:lnTo>
                    <a:pt x="2014" y="666"/>
                  </a:lnTo>
                  <a:lnTo>
                    <a:pt x="2014" y="663"/>
                  </a:lnTo>
                  <a:lnTo>
                    <a:pt x="2014" y="662"/>
                  </a:lnTo>
                  <a:lnTo>
                    <a:pt x="2012" y="661"/>
                  </a:lnTo>
                  <a:lnTo>
                    <a:pt x="2009" y="655"/>
                  </a:lnTo>
                  <a:lnTo>
                    <a:pt x="2007" y="652"/>
                  </a:lnTo>
                  <a:lnTo>
                    <a:pt x="2007" y="651"/>
                  </a:lnTo>
                  <a:lnTo>
                    <a:pt x="2005" y="647"/>
                  </a:lnTo>
                  <a:lnTo>
                    <a:pt x="2005" y="646"/>
                  </a:lnTo>
                  <a:lnTo>
                    <a:pt x="2005" y="645"/>
                  </a:lnTo>
                  <a:lnTo>
                    <a:pt x="2004" y="645"/>
                  </a:lnTo>
                  <a:lnTo>
                    <a:pt x="2003" y="645"/>
                  </a:lnTo>
                  <a:lnTo>
                    <a:pt x="1999" y="644"/>
                  </a:lnTo>
                  <a:lnTo>
                    <a:pt x="1996" y="644"/>
                  </a:lnTo>
                  <a:lnTo>
                    <a:pt x="1996" y="643"/>
                  </a:lnTo>
                  <a:lnTo>
                    <a:pt x="1992" y="640"/>
                  </a:lnTo>
                  <a:lnTo>
                    <a:pt x="1989" y="638"/>
                  </a:lnTo>
                  <a:lnTo>
                    <a:pt x="1989" y="637"/>
                  </a:lnTo>
                  <a:lnTo>
                    <a:pt x="1989" y="635"/>
                  </a:lnTo>
                  <a:lnTo>
                    <a:pt x="1991" y="629"/>
                  </a:lnTo>
                  <a:lnTo>
                    <a:pt x="1991" y="625"/>
                  </a:lnTo>
                  <a:lnTo>
                    <a:pt x="1992" y="623"/>
                  </a:lnTo>
                  <a:lnTo>
                    <a:pt x="1995" y="626"/>
                  </a:lnTo>
                  <a:lnTo>
                    <a:pt x="1997" y="626"/>
                  </a:lnTo>
                  <a:lnTo>
                    <a:pt x="1998" y="626"/>
                  </a:lnTo>
                  <a:lnTo>
                    <a:pt x="1999" y="626"/>
                  </a:lnTo>
                  <a:lnTo>
                    <a:pt x="1998" y="619"/>
                  </a:lnTo>
                  <a:lnTo>
                    <a:pt x="1998" y="615"/>
                  </a:lnTo>
                  <a:lnTo>
                    <a:pt x="1998" y="614"/>
                  </a:lnTo>
                  <a:lnTo>
                    <a:pt x="1995" y="611"/>
                  </a:lnTo>
                  <a:lnTo>
                    <a:pt x="1994" y="610"/>
                  </a:lnTo>
                  <a:lnTo>
                    <a:pt x="1994" y="609"/>
                  </a:lnTo>
                  <a:lnTo>
                    <a:pt x="1992" y="608"/>
                  </a:lnTo>
                  <a:lnTo>
                    <a:pt x="1986" y="605"/>
                  </a:lnTo>
                  <a:lnTo>
                    <a:pt x="1982" y="602"/>
                  </a:lnTo>
                  <a:lnTo>
                    <a:pt x="1982" y="600"/>
                  </a:lnTo>
                  <a:lnTo>
                    <a:pt x="1977" y="597"/>
                  </a:lnTo>
                  <a:lnTo>
                    <a:pt x="1976" y="596"/>
                  </a:lnTo>
                  <a:lnTo>
                    <a:pt x="1976" y="595"/>
                  </a:lnTo>
                  <a:lnTo>
                    <a:pt x="1975" y="596"/>
                  </a:lnTo>
                  <a:lnTo>
                    <a:pt x="1972" y="598"/>
                  </a:lnTo>
                  <a:lnTo>
                    <a:pt x="1971" y="599"/>
                  </a:lnTo>
                  <a:lnTo>
                    <a:pt x="1971" y="599"/>
                  </a:lnTo>
                  <a:lnTo>
                    <a:pt x="1970" y="598"/>
                  </a:lnTo>
                  <a:lnTo>
                    <a:pt x="1967" y="595"/>
                  </a:lnTo>
                  <a:lnTo>
                    <a:pt x="1964" y="593"/>
                  </a:lnTo>
                  <a:lnTo>
                    <a:pt x="1964" y="592"/>
                  </a:lnTo>
                  <a:lnTo>
                    <a:pt x="1963" y="591"/>
                  </a:lnTo>
                  <a:lnTo>
                    <a:pt x="1961" y="587"/>
                  </a:lnTo>
                  <a:lnTo>
                    <a:pt x="1960" y="584"/>
                  </a:lnTo>
                  <a:lnTo>
                    <a:pt x="1960" y="583"/>
                  </a:lnTo>
                  <a:lnTo>
                    <a:pt x="1959" y="583"/>
                  </a:lnTo>
                  <a:lnTo>
                    <a:pt x="1958" y="583"/>
                  </a:lnTo>
                  <a:lnTo>
                    <a:pt x="1953" y="582"/>
                  </a:lnTo>
                  <a:lnTo>
                    <a:pt x="1950" y="582"/>
                  </a:lnTo>
                  <a:lnTo>
                    <a:pt x="1950" y="581"/>
                  </a:lnTo>
                  <a:lnTo>
                    <a:pt x="1945" y="577"/>
                  </a:lnTo>
                  <a:lnTo>
                    <a:pt x="1942" y="575"/>
                  </a:lnTo>
                  <a:lnTo>
                    <a:pt x="1942" y="574"/>
                  </a:lnTo>
                  <a:lnTo>
                    <a:pt x="1939" y="575"/>
                  </a:lnTo>
                  <a:lnTo>
                    <a:pt x="1938" y="575"/>
                  </a:lnTo>
                  <a:lnTo>
                    <a:pt x="1938" y="575"/>
                  </a:lnTo>
                  <a:lnTo>
                    <a:pt x="1934" y="576"/>
                  </a:lnTo>
                  <a:lnTo>
                    <a:pt x="1933" y="576"/>
                  </a:lnTo>
                  <a:lnTo>
                    <a:pt x="1933" y="576"/>
                  </a:lnTo>
                  <a:lnTo>
                    <a:pt x="1928" y="573"/>
                  </a:lnTo>
                  <a:lnTo>
                    <a:pt x="1927" y="572"/>
                  </a:lnTo>
                  <a:lnTo>
                    <a:pt x="1927" y="571"/>
                  </a:lnTo>
                  <a:lnTo>
                    <a:pt x="1925" y="567"/>
                  </a:lnTo>
                  <a:lnTo>
                    <a:pt x="1924" y="563"/>
                  </a:lnTo>
                  <a:lnTo>
                    <a:pt x="1924" y="562"/>
                  </a:lnTo>
                  <a:lnTo>
                    <a:pt x="1923" y="560"/>
                  </a:lnTo>
                  <a:lnTo>
                    <a:pt x="1922" y="551"/>
                  </a:lnTo>
                  <a:lnTo>
                    <a:pt x="1922" y="545"/>
                  </a:lnTo>
                  <a:lnTo>
                    <a:pt x="1922" y="544"/>
                  </a:lnTo>
                  <a:lnTo>
                    <a:pt x="1921" y="545"/>
                  </a:lnTo>
                  <a:lnTo>
                    <a:pt x="1917" y="547"/>
                  </a:lnTo>
                  <a:lnTo>
                    <a:pt x="1916" y="548"/>
                  </a:lnTo>
                  <a:lnTo>
                    <a:pt x="1916" y="548"/>
                  </a:lnTo>
                  <a:lnTo>
                    <a:pt x="1915" y="548"/>
                  </a:lnTo>
                  <a:lnTo>
                    <a:pt x="1912" y="548"/>
                  </a:lnTo>
                  <a:lnTo>
                    <a:pt x="1911" y="548"/>
                  </a:lnTo>
                  <a:lnTo>
                    <a:pt x="1911" y="548"/>
                  </a:lnTo>
                  <a:lnTo>
                    <a:pt x="1904" y="546"/>
                  </a:lnTo>
                  <a:lnTo>
                    <a:pt x="1901" y="545"/>
                  </a:lnTo>
                  <a:lnTo>
                    <a:pt x="1901" y="544"/>
                  </a:lnTo>
                  <a:lnTo>
                    <a:pt x="1900" y="544"/>
                  </a:lnTo>
                  <a:lnTo>
                    <a:pt x="1899" y="544"/>
                  </a:lnTo>
                  <a:lnTo>
                    <a:pt x="1894" y="542"/>
                  </a:lnTo>
                  <a:lnTo>
                    <a:pt x="1891" y="541"/>
                  </a:lnTo>
                  <a:lnTo>
                    <a:pt x="1891" y="540"/>
                  </a:lnTo>
                  <a:lnTo>
                    <a:pt x="1886" y="538"/>
                  </a:lnTo>
                  <a:lnTo>
                    <a:pt x="1882" y="537"/>
                  </a:lnTo>
                  <a:lnTo>
                    <a:pt x="1882" y="536"/>
                  </a:lnTo>
                  <a:lnTo>
                    <a:pt x="1881" y="535"/>
                  </a:lnTo>
                  <a:lnTo>
                    <a:pt x="1878" y="532"/>
                  </a:lnTo>
                  <a:lnTo>
                    <a:pt x="1877" y="529"/>
                  </a:lnTo>
                  <a:lnTo>
                    <a:pt x="1877" y="528"/>
                  </a:lnTo>
                  <a:lnTo>
                    <a:pt x="1876" y="528"/>
                  </a:lnTo>
                  <a:lnTo>
                    <a:pt x="1875" y="528"/>
                  </a:lnTo>
                  <a:lnTo>
                    <a:pt x="1868" y="526"/>
                  </a:lnTo>
                  <a:lnTo>
                    <a:pt x="1864" y="525"/>
                  </a:lnTo>
                  <a:lnTo>
                    <a:pt x="1864" y="524"/>
                  </a:lnTo>
                  <a:lnTo>
                    <a:pt x="1862" y="517"/>
                  </a:lnTo>
                  <a:lnTo>
                    <a:pt x="1860" y="513"/>
                  </a:lnTo>
                  <a:lnTo>
                    <a:pt x="1860" y="512"/>
                  </a:lnTo>
                  <a:lnTo>
                    <a:pt x="1860" y="509"/>
                  </a:lnTo>
                  <a:lnTo>
                    <a:pt x="1860" y="506"/>
                  </a:lnTo>
                  <a:lnTo>
                    <a:pt x="1862" y="505"/>
                  </a:lnTo>
                  <a:lnTo>
                    <a:pt x="1860" y="504"/>
                  </a:lnTo>
                  <a:lnTo>
                    <a:pt x="1860" y="503"/>
                  </a:lnTo>
                  <a:lnTo>
                    <a:pt x="1862" y="501"/>
                  </a:lnTo>
                  <a:lnTo>
                    <a:pt x="1863" y="499"/>
                  </a:lnTo>
                  <a:lnTo>
                    <a:pt x="1860" y="500"/>
                  </a:lnTo>
                  <a:lnTo>
                    <a:pt x="1859" y="500"/>
                  </a:lnTo>
                  <a:lnTo>
                    <a:pt x="1859" y="500"/>
                  </a:lnTo>
                  <a:lnTo>
                    <a:pt x="1859" y="497"/>
                  </a:lnTo>
                  <a:lnTo>
                    <a:pt x="1859" y="495"/>
                  </a:lnTo>
                  <a:lnTo>
                    <a:pt x="1860" y="494"/>
                  </a:lnTo>
                  <a:lnTo>
                    <a:pt x="1859" y="494"/>
                  </a:lnTo>
                  <a:lnTo>
                    <a:pt x="1856" y="494"/>
                  </a:lnTo>
                  <a:lnTo>
                    <a:pt x="1855" y="494"/>
                  </a:lnTo>
                  <a:lnTo>
                    <a:pt x="1855" y="493"/>
                  </a:lnTo>
                  <a:lnTo>
                    <a:pt x="1854" y="492"/>
                  </a:lnTo>
                  <a:lnTo>
                    <a:pt x="1851" y="489"/>
                  </a:lnTo>
                  <a:lnTo>
                    <a:pt x="1848" y="487"/>
                  </a:lnTo>
                  <a:lnTo>
                    <a:pt x="1848" y="486"/>
                  </a:lnTo>
                  <a:lnTo>
                    <a:pt x="1847" y="479"/>
                  </a:lnTo>
                  <a:lnTo>
                    <a:pt x="1847" y="476"/>
                  </a:lnTo>
                  <a:lnTo>
                    <a:pt x="1847" y="475"/>
                  </a:lnTo>
                  <a:lnTo>
                    <a:pt x="1847" y="474"/>
                  </a:lnTo>
                  <a:lnTo>
                    <a:pt x="1847" y="469"/>
                  </a:lnTo>
                  <a:lnTo>
                    <a:pt x="1847" y="466"/>
                  </a:lnTo>
                  <a:lnTo>
                    <a:pt x="1848" y="465"/>
                  </a:lnTo>
                  <a:lnTo>
                    <a:pt x="1848" y="464"/>
                  </a:lnTo>
                  <a:lnTo>
                    <a:pt x="1850" y="460"/>
                  </a:lnTo>
                  <a:lnTo>
                    <a:pt x="1850" y="457"/>
                  </a:lnTo>
                  <a:lnTo>
                    <a:pt x="1851" y="456"/>
                  </a:lnTo>
                  <a:lnTo>
                    <a:pt x="1850" y="453"/>
                  </a:lnTo>
                  <a:lnTo>
                    <a:pt x="1850" y="452"/>
                  </a:lnTo>
                  <a:lnTo>
                    <a:pt x="1851" y="451"/>
                  </a:lnTo>
                  <a:lnTo>
                    <a:pt x="1851" y="449"/>
                  </a:lnTo>
                  <a:lnTo>
                    <a:pt x="1851" y="444"/>
                  </a:lnTo>
                  <a:lnTo>
                    <a:pt x="1851" y="441"/>
                  </a:lnTo>
                  <a:lnTo>
                    <a:pt x="1852" y="440"/>
                  </a:lnTo>
                  <a:lnTo>
                    <a:pt x="1851" y="432"/>
                  </a:lnTo>
                  <a:lnTo>
                    <a:pt x="1851" y="428"/>
                  </a:lnTo>
                  <a:lnTo>
                    <a:pt x="1851" y="427"/>
                  </a:lnTo>
                  <a:lnTo>
                    <a:pt x="1847" y="420"/>
                  </a:lnTo>
                  <a:lnTo>
                    <a:pt x="1846" y="417"/>
                  </a:lnTo>
                  <a:lnTo>
                    <a:pt x="1846" y="416"/>
                  </a:lnTo>
                  <a:lnTo>
                    <a:pt x="1844" y="409"/>
                  </a:lnTo>
                  <a:lnTo>
                    <a:pt x="1843" y="406"/>
                  </a:lnTo>
                  <a:lnTo>
                    <a:pt x="1843" y="405"/>
                  </a:lnTo>
                  <a:lnTo>
                    <a:pt x="1841" y="397"/>
                  </a:lnTo>
                  <a:lnTo>
                    <a:pt x="1841" y="393"/>
                  </a:lnTo>
                  <a:lnTo>
                    <a:pt x="1841" y="392"/>
                  </a:lnTo>
                  <a:lnTo>
                    <a:pt x="1840" y="392"/>
                  </a:lnTo>
                  <a:lnTo>
                    <a:pt x="1839" y="392"/>
                  </a:lnTo>
                  <a:lnTo>
                    <a:pt x="1835" y="392"/>
                  </a:lnTo>
                  <a:lnTo>
                    <a:pt x="1833" y="392"/>
                  </a:lnTo>
                  <a:lnTo>
                    <a:pt x="1833" y="390"/>
                  </a:lnTo>
                  <a:lnTo>
                    <a:pt x="1832" y="389"/>
                  </a:lnTo>
                  <a:lnTo>
                    <a:pt x="1829" y="385"/>
                  </a:lnTo>
                  <a:lnTo>
                    <a:pt x="1828" y="382"/>
                  </a:lnTo>
                  <a:lnTo>
                    <a:pt x="1828" y="381"/>
                  </a:lnTo>
                  <a:lnTo>
                    <a:pt x="1827" y="379"/>
                  </a:lnTo>
                  <a:lnTo>
                    <a:pt x="1823" y="375"/>
                  </a:lnTo>
                  <a:lnTo>
                    <a:pt x="1821" y="372"/>
                  </a:lnTo>
                  <a:lnTo>
                    <a:pt x="1821" y="371"/>
                  </a:lnTo>
                  <a:lnTo>
                    <a:pt x="1819" y="364"/>
                  </a:lnTo>
                  <a:lnTo>
                    <a:pt x="1818" y="360"/>
                  </a:lnTo>
                  <a:lnTo>
                    <a:pt x="1818" y="359"/>
                  </a:lnTo>
                  <a:lnTo>
                    <a:pt x="1818" y="355"/>
                  </a:lnTo>
                  <a:lnTo>
                    <a:pt x="1818" y="353"/>
                  </a:lnTo>
                  <a:lnTo>
                    <a:pt x="1819" y="352"/>
                  </a:lnTo>
                  <a:lnTo>
                    <a:pt x="1819" y="351"/>
                  </a:lnTo>
                  <a:lnTo>
                    <a:pt x="1818" y="346"/>
                  </a:lnTo>
                  <a:lnTo>
                    <a:pt x="1818" y="342"/>
                  </a:lnTo>
                  <a:lnTo>
                    <a:pt x="1819" y="341"/>
                  </a:lnTo>
                  <a:lnTo>
                    <a:pt x="1818" y="340"/>
                  </a:lnTo>
                  <a:lnTo>
                    <a:pt x="1816" y="336"/>
                  </a:lnTo>
                  <a:lnTo>
                    <a:pt x="1815" y="332"/>
                  </a:lnTo>
                  <a:lnTo>
                    <a:pt x="1815" y="331"/>
                  </a:lnTo>
                  <a:lnTo>
                    <a:pt x="1815" y="330"/>
                  </a:lnTo>
                  <a:lnTo>
                    <a:pt x="1813" y="326"/>
                  </a:lnTo>
                  <a:lnTo>
                    <a:pt x="1813" y="323"/>
                  </a:lnTo>
                  <a:lnTo>
                    <a:pt x="1815" y="321"/>
                  </a:lnTo>
                  <a:lnTo>
                    <a:pt x="1812" y="315"/>
                  </a:lnTo>
                  <a:lnTo>
                    <a:pt x="1811" y="312"/>
                  </a:lnTo>
                  <a:lnTo>
                    <a:pt x="1811" y="311"/>
                  </a:lnTo>
                  <a:lnTo>
                    <a:pt x="1811" y="309"/>
                  </a:lnTo>
                  <a:lnTo>
                    <a:pt x="1811" y="306"/>
                  </a:lnTo>
                  <a:lnTo>
                    <a:pt x="1811" y="303"/>
                  </a:lnTo>
                  <a:lnTo>
                    <a:pt x="1812" y="302"/>
                  </a:lnTo>
                  <a:lnTo>
                    <a:pt x="1812" y="301"/>
                  </a:lnTo>
                  <a:lnTo>
                    <a:pt x="1813" y="295"/>
                  </a:lnTo>
                  <a:lnTo>
                    <a:pt x="1813" y="292"/>
                  </a:lnTo>
                  <a:lnTo>
                    <a:pt x="1815" y="291"/>
                  </a:lnTo>
                  <a:lnTo>
                    <a:pt x="1812" y="288"/>
                  </a:lnTo>
                  <a:lnTo>
                    <a:pt x="1811" y="285"/>
                  </a:lnTo>
                  <a:lnTo>
                    <a:pt x="1811" y="284"/>
                  </a:lnTo>
                  <a:lnTo>
                    <a:pt x="1811" y="283"/>
                  </a:lnTo>
                  <a:lnTo>
                    <a:pt x="1812" y="278"/>
                  </a:lnTo>
                  <a:lnTo>
                    <a:pt x="1813" y="274"/>
                  </a:lnTo>
                  <a:lnTo>
                    <a:pt x="1815" y="273"/>
                  </a:lnTo>
                  <a:lnTo>
                    <a:pt x="1812" y="272"/>
                  </a:lnTo>
                  <a:lnTo>
                    <a:pt x="1809" y="268"/>
                  </a:lnTo>
                  <a:lnTo>
                    <a:pt x="1806" y="265"/>
                  </a:lnTo>
                  <a:lnTo>
                    <a:pt x="1806" y="264"/>
                  </a:lnTo>
                  <a:lnTo>
                    <a:pt x="1800" y="261"/>
                  </a:lnTo>
                  <a:lnTo>
                    <a:pt x="1797" y="260"/>
                  </a:lnTo>
                  <a:lnTo>
                    <a:pt x="1797" y="259"/>
                  </a:lnTo>
                  <a:lnTo>
                    <a:pt x="1792" y="253"/>
                  </a:lnTo>
                  <a:lnTo>
                    <a:pt x="1789" y="248"/>
                  </a:lnTo>
                  <a:lnTo>
                    <a:pt x="1789" y="247"/>
                  </a:lnTo>
                  <a:lnTo>
                    <a:pt x="1783" y="245"/>
                  </a:lnTo>
                  <a:lnTo>
                    <a:pt x="1780" y="244"/>
                  </a:lnTo>
                  <a:lnTo>
                    <a:pt x="1780" y="243"/>
                  </a:lnTo>
                  <a:lnTo>
                    <a:pt x="1777" y="237"/>
                  </a:lnTo>
                  <a:lnTo>
                    <a:pt x="1776" y="234"/>
                  </a:lnTo>
                  <a:lnTo>
                    <a:pt x="1776" y="233"/>
                  </a:lnTo>
                  <a:lnTo>
                    <a:pt x="1775" y="232"/>
                  </a:lnTo>
                  <a:lnTo>
                    <a:pt x="1774" y="229"/>
                  </a:lnTo>
                  <a:lnTo>
                    <a:pt x="1773" y="226"/>
                  </a:lnTo>
                  <a:lnTo>
                    <a:pt x="1773" y="225"/>
                  </a:lnTo>
                  <a:lnTo>
                    <a:pt x="1772" y="225"/>
                  </a:lnTo>
                  <a:lnTo>
                    <a:pt x="1771" y="225"/>
                  </a:lnTo>
                  <a:lnTo>
                    <a:pt x="1766" y="224"/>
                  </a:lnTo>
                  <a:lnTo>
                    <a:pt x="1763" y="224"/>
                  </a:lnTo>
                  <a:lnTo>
                    <a:pt x="1763" y="223"/>
                  </a:lnTo>
                  <a:lnTo>
                    <a:pt x="1761" y="224"/>
                  </a:lnTo>
                  <a:lnTo>
                    <a:pt x="1757" y="225"/>
                  </a:lnTo>
                  <a:lnTo>
                    <a:pt x="1753" y="225"/>
                  </a:lnTo>
                  <a:lnTo>
                    <a:pt x="1753" y="225"/>
                  </a:lnTo>
                  <a:lnTo>
                    <a:pt x="1752" y="226"/>
                  </a:lnTo>
                  <a:lnTo>
                    <a:pt x="1749" y="229"/>
                  </a:lnTo>
                  <a:lnTo>
                    <a:pt x="1747" y="230"/>
                  </a:lnTo>
                  <a:lnTo>
                    <a:pt x="1747" y="230"/>
                  </a:lnTo>
                  <a:lnTo>
                    <a:pt x="1746" y="231"/>
                  </a:lnTo>
                  <a:lnTo>
                    <a:pt x="1741" y="234"/>
                  </a:lnTo>
                  <a:lnTo>
                    <a:pt x="1739" y="235"/>
                  </a:lnTo>
                  <a:lnTo>
                    <a:pt x="1739" y="235"/>
                  </a:lnTo>
                  <a:lnTo>
                    <a:pt x="1733" y="233"/>
                  </a:lnTo>
                  <a:lnTo>
                    <a:pt x="1729" y="232"/>
                  </a:lnTo>
                  <a:lnTo>
                    <a:pt x="1729" y="231"/>
                  </a:lnTo>
                  <a:lnTo>
                    <a:pt x="1727" y="230"/>
                  </a:lnTo>
                  <a:lnTo>
                    <a:pt x="1724" y="226"/>
                  </a:lnTo>
                  <a:lnTo>
                    <a:pt x="1722" y="224"/>
                  </a:lnTo>
                  <a:lnTo>
                    <a:pt x="1722" y="223"/>
                  </a:lnTo>
                  <a:lnTo>
                    <a:pt x="1719" y="216"/>
                  </a:lnTo>
                  <a:lnTo>
                    <a:pt x="1718" y="212"/>
                  </a:lnTo>
                  <a:lnTo>
                    <a:pt x="1718" y="211"/>
                  </a:lnTo>
                  <a:lnTo>
                    <a:pt x="1717" y="204"/>
                  </a:lnTo>
                  <a:lnTo>
                    <a:pt x="1717" y="201"/>
                  </a:lnTo>
                  <a:lnTo>
                    <a:pt x="1717" y="200"/>
                  </a:lnTo>
                  <a:lnTo>
                    <a:pt x="1715" y="195"/>
                  </a:lnTo>
                  <a:lnTo>
                    <a:pt x="1714" y="191"/>
                  </a:lnTo>
                  <a:lnTo>
                    <a:pt x="1714" y="190"/>
                  </a:lnTo>
                  <a:lnTo>
                    <a:pt x="1714" y="189"/>
                  </a:lnTo>
                  <a:lnTo>
                    <a:pt x="1714" y="183"/>
                  </a:lnTo>
                  <a:lnTo>
                    <a:pt x="1714" y="178"/>
                  </a:lnTo>
                  <a:lnTo>
                    <a:pt x="1715" y="177"/>
                  </a:lnTo>
                  <a:lnTo>
                    <a:pt x="1715" y="176"/>
                  </a:lnTo>
                  <a:lnTo>
                    <a:pt x="1714" y="173"/>
                  </a:lnTo>
                  <a:lnTo>
                    <a:pt x="1714" y="171"/>
                  </a:lnTo>
                  <a:lnTo>
                    <a:pt x="1715" y="169"/>
                  </a:lnTo>
                  <a:lnTo>
                    <a:pt x="1714" y="167"/>
                  </a:lnTo>
                  <a:lnTo>
                    <a:pt x="1712" y="161"/>
                  </a:lnTo>
                  <a:lnTo>
                    <a:pt x="1711" y="156"/>
                  </a:lnTo>
                  <a:lnTo>
                    <a:pt x="1711" y="155"/>
                  </a:lnTo>
                  <a:lnTo>
                    <a:pt x="1710" y="153"/>
                  </a:lnTo>
                  <a:lnTo>
                    <a:pt x="1709" y="145"/>
                  </a:lnTo>
                  <a:lnTo>
                    <a:pt x="1709" y="140"/>
                  </a:lnTo>
                  <a:lnTo>
                    <a:pt x="1709" y="139"/>
                  </a:lnTo>
                  <a:lnTo>
                    <a:pt x="1704" y="138"/>
                  </a:lnTo>
                  <a:lnTo>
                    <a:pt x="1703" y="137"/>
                  </a:lnTo>
                  <a:lnTo>
                    <a:pt x="1703" y="136"/>
                  </a:lnTo>
                  <a:lnTo>
                    <a:pt x="1702" y="132"/>
                  </a:lnTo>
                  <a:lnTo>
                    <a:pt x="1703" y="131"/>
                  </a:lnTo>
                  <a:lnTo>
                    <a:pt x="1703" y="130"/>
                  </a:lnTo>
                  <a:lnTo>
                    <a:pt x="1702" y="126"/>
                  </a:lnTo>
                  <a:lnTo>
                    <a:pt x="1702" y="122"/>
                  </a:lnTo>
                  <a:lnTo>
                    <a:pt x="1703" y="121"/>
                  </a:lnTo>
                  <a:lnTo>
                    <a:pt x="1700" y="118"/>
                  </a:lnTo>
                  <a:lnTo>
                    <a:pt x="1699" y="117"/>
                  </a:lnTo>
                  <a:lnTo>
                    <a:pt x="1699" y="116"/>
                  </a:lnTo>
                  <a:lnTo>
                    <a:pt x="1695" y="109"/>
                  </a:lnTo>
                  <a:lnTo>
                    <a:pt x="1694" y="106"/>
                  </a:lnTo>
                  <a:lnTo>
                    <a:pt x="1694" y="105"/>
                  </a:lnTo>
                  <a:lnTo>
                    <a:pt x="1690" y="102"/>
                  </a:lnTo>
                  <a:lnTo>
                    <a:pt x="1688" y="99"/>
                  </a:lnTo>
                  <a:lnTo>
                    <a:pt x="1688" y="98"/>
                  </a:lnTo>
                  <a:lnTo>
                    <a:pt x="1688" y="97"/>
                  </a:lnTo>
                  <a:lnTo>
                    <a:pt x="1689" y="94"/>
                  </a:lnTo>
                  <a:lnTo>
                    <a:pt x="1689" y="92"/>
                  </a:lnTo>
                  <a:lnTo>
                    <a:pt x="1690" y="91"/>
                  </a:lnTo>
                  <a:lnTo>
                    <a:pt x="1689" y="87"/>
                  </a:lnTo>
                  <a:lnTo>
                    <a:pt x="1689" y="85"/>
                  </a:lnTo>
                  <a:lnTo>
                    <a:pt x="1690" y="84"/>
                  </a:lnTo>
                  <a:lnTo>
                    <a:pt x="1688" y="80"/>
                  </a:lnTo>
                  <a:lnTo>
                    <a:pt x="1688" y="76"/>
                  </a:lnTo>
                  <a:lnTo>
                    <a:pt x="1688" y="75"/>
                  </a:lnTo>
                  <a:lnTo>
                    <a:pt x="1687" y="75"/>
                  </a:lnTo>
                  <a:lnTo>
                    <a:pt x="1686" y="75"/>
                  </a:lnTo>
                  <a:lnTo>
                    <a:pt x="1680" y="75"/>
                  </a:lnTo>
                  <a:lnTo>
                    <a:pt x="1676" y="75"/>
                  </a:lnTo>
                  <a:lnTo>
                    <a:pt x="1676" y="75"/>
                  </a:lnTo>
                  <a:lnTo>
                    <a:pt x="1674" y="70"/>
                  </a:lnTo>
                  <a:lnTo>
                    <a:pt x="1674" y="67"/>
                  </a:lnTo>
                  <a:lnTo>
                    <a:pt x="1674" y="66"/>
                  </a:lnTo>
                  <a:lnTo>
                    <a:pt x="1674" y="63"/>
                  </a:lnTo>
                  <a:lnTo>
                    <a:pt x="1672" y="57"/>
                  </a:lnTo>
                  <a:lnTo>
                    <a:pt x="1672" y="51"/>
                  </a:lnTo>
                  <a:lnTo>
                    <a:pt x="1674" y="50"/>
                  </a:lnTo>
                  <a:lnTo>
                    <a:pt x="1674" y="48"/>
                  </a:lnTo>
                  <a:lnTo>
                    <a:pt x="1672" y="41"/>
                  </a:lnTo>
                  <a:lnTo>
                    <a:pt x="1672" y="37"/>
                  </a:lnTo>
                  <a:lnTo>
                    <a:pt x="1674" y="36"/>
                  </a:lnTo>
                  <a:lnTo>
                    <a:pt x="1672" y="31"/>
                  </a:lnTo>
                  <a:lnTo>
                    <a:pt x="1672" y="27"/>
                  </a:lnTo>
                  <a:lnTo>
                    <a:pt x="1672" y="26"/>
                  </a:lnTo>
                  <a:lnTo>
                    <a:pt x="1671" y="24"/>
                  </a:lnTo>
                  <a:lnTo>
                    <a:pt x="1671" y="23"/>
                  </a:lnTo>
                  <a:lnTo>
                    <a:pt x="1671" y="22"/>
                  </a:lnTo>
                  <a:lnTo>
                    <a:pt x="1671" y="21"/>
                  </a:lnTo>
                  <a:lnTo>
                    <a:pt x="1671" y="20"/>
                  </a:lnTo>
                  <a:lnTo>
                    <a:pt x="1674" y="18"/>
                  </a:lnTo>
                  <a:lnTo>
                    <a:pt x="1671" y="14"/>
                  </a:lnTo>
                  <a:lnTo>
                    <a:pt x="1671" y="12"/>
                  </a:lnTo>
                  <a:lnTo>
                    <a:pt x="1671" y="11"/>
                  </a:lnTo>
                  <a:lnTo>
                    <a:pt x="1670" y="8"/>
                  </a:lnTo>
                  <a:lnTo>
                    <a:pt x="1670" y="5"/>
                  </a:lnTo>
                  <a:lnTo>
                    <a:pt x="1671" y="4"/>
                  </a:lnTo>
                  <a:lnTo>
                    <a:pt x="1667" y="2"/>
                  </a:lnTo>
                  <a:lnTo>
                    <a:pt x="1666" y="1"/>
                  </a:lnTo>
                  <a:lnTo>
                    <a:pt x="1666" y="0"/>
                  </a:lnTo>
                  <a:lnTo>
                    <a:pt x="1665" y="1"/>
                  </a:lnTo>
                  <a:lnTo>
                    <a:pt x="1663" y="4"/>
                  </a:lnTo>
                  <a:lnTo>
                    <a:pt x="1662" y="6"/>
                  </a:lnTo>
                  <a:lnTo>
                    <a:pt x="1662" y="6"/>
                  </a:lnTo>
                  <a:lnTo>
                    <a:pt x="1660" y="8"/>
                  </a:lnTo>
                  <a:lnTo>
                    <a:pt x="1655" y="11"/>
                  </a:lnTo>
                  <a:lnTo>
                    <a:pt x="1652" y="12"/>
                  </a:lnTo>
                  <a:lnTo>
                    <a:pt x="1652" y="12"/>
                  </a:lnTo>
                  <a:lnTo>
                    <a:pt x="1651" y="12"/>
                  </a:lnTo>
                  <a:lnTo>
                    <a:pt x="1647" y="12"/>
                  </a:lnTo>
                  <a:lnTo>
                    <a:pt x="1646" y="12"/>
                  </a:lnTo>
                  <a:lnTo>
                    <a:pt x="1646" y="12"/>
                  </a:lnTo>
                  <a:lnTo>
                    <a:pt x="1645" y="13"/>
                  </a:lnTo>
                  <a:lnTo>
                    <a:pt x="1643" y="15"/>
                  </a:lnTo>
                  <a:lnTo>
                    <a:pt x="1642" y="16"/>
                  </a:lnTo>
                  <a:lnTo>
                    <a:pt x="1642" y="16"/>
                  </a:lnTo>
                  <a:lnTo>
                    <a:pt x="1642" y="17"/>
                  </a:lnTo>
                  <a:lnTo>
                    <a:pt x="1642" y="17"/>
                  </a:lnTo>
                  <a:lnTo>
                    <a:pt x="1641" y="21"/>
                  </a:lnTo>
                  <a:lnTo>
                    <a:pt x="1641" y="27"/>
                  </a:lnTo>
                  <a:lnTo>
                    <a:pt x="1641" y="33"/>
                  </a:lnTo>
                  <a:lnTo>
                    <a:pt x="1641" y="33"/>
                  </a:lnTo>
                  <a:lnTo>
                    <a:pt x="1640" y="34"/>
                  </a:lnTo>
                  <a:lnTo>
                    <a:pt x="1637" y="36"/>
                  </a:lnTo>
                  <a:lnTo>
                    <a:pt x="1631" y="44"/>
                  </a:lnTo>
                  <a:lnTo>
                    <a:pt x="1627" y="49"/>
                  </a:lnTo>
                  <a:lnTo>
                    <a:pt x="1627" y="49"/>
                  </a:lnTo>
                  <a:lnTo>
                    <a:pt x="1625" y="52"/>
                  </a:lnTo>
                  <a:lnTo>
                    <a:pt x="1623" y="62"/>
                  </a:lnTo>
                  <a:lnTo>
                    <a:pt x="1622" y="69"/>
                  </a:lnTo>
                  <a:lnTo>
                    <a:pt x="1622" y="69"/>
                  </a:lnTo>
                  <a:lnTo>
                    <a:pt x="1621" y="70"/>
                  </a:lnTo>
                  <a:lnTo>
                    <a:pt x="1618" y="74"/>
                  </a:lnTo>
                  <a:lnTo>
                    <a:pt x="1617" y="78"/>
                  </a:lnTo>
                  <a:lnTo>
                    <a:pt x="1617" y="78"/>
                  </a:lnTo>
                  <a:lnTo>
                    <a:pt x="1615" y="79"/>
                  </a:lnTo>
                  <a:lnTo>
                    <a:pt x="1609" y="80"/>
                  </a:lnTo>
                  <a:lnTo>
                    <a:pt x="1606" y="81"/>
                  </a:lnTo>
                  <a:lnTo>
                    <a:pt x="1606" y="81"/>
                  </a:lnTo>
                  <a:lnTo>
                    <a:pt x="1605" y="84"/>
                  </a:lnTo>
                  <a:lnTo>
                    <a:pt x="1601" y="94"/>
                  </a:lnTo>
                  <a:lnTo>
                    <a:pt x="1599" y="101"/>
                  </a:lnTo>
                  <a:lnTo>
                    <a:pt x="1599" y="101"/>
                  </a:lnTo>
                  <a:lnTo>
                    <a:pt x="1598" y="103"/>
                  </a:lnTo>
                  <a:lnTo>
                    <a:pt x="1598" y="109"/>
                  </a:lnTo>
                  <a:lnTo>
                    <a:pt x="1598" y="114"/>
                  </a:lnTo>
                  <a:lnTo>
                    <a:pt x="1598" y="114"/>
                  </a:lnTo>
                  <a:lnTo>
                    <a:pt x="1599" y="114"/>
                  </a:lnTo>
                  <a:lnTo>
                    <a:pt x="1604" y="116"/>
                  </a:lnTo>
                  <a:lnTo>
                    <a:pt x="1606" y="116"/>
                  </a:lnTo>
                  <a:lnTo>
                    <a:pt x="1607" y="116"/>
                  </a:lnTo>
                  <a:lnTo>
                    <a:pt x="1606" y="118"/>
                  </a:lnTo>
                  <a:lnTo>
                    <a:pt x="1606" y="122"/>
                  </a:lnTo>
                  <a:lnTo>
                    <a:pt x="1606" y="126"/>
                  </a:lnTo>
                  <a:lnTo>
                    <a:pt x="1606" y="126"/>
                  </a:lnTo>
                  <a:lnTo>
                    <a:pt x="1605" y="127"/>
                  </a:lnTo>
                  <a:lnTo>
                    <a:pt x="1601" y="133"/>
                  </a:lnTo>
                  <a:lnTo>
                    <a:pt x="1599" y="138"/>
                  </a:lnTo>
                  <a:lnTo>
                    <a:pt x="1599" y="138"/>
                  </a:lnTo>
                  <a:lnTo>
                    <a:pt x="1599" y="139"/>
                  </a:lnTo>
                  <a:lnTo>
                    <a:pt x="1598" y="142"/>
                  </a:lnTo>
                  <a:lnTo>
                    <a:pt x="1598" y="144"/>
                  </a:lnTo>
                  <a:lnTo>
                    <a:pt x="1599" y="144"/>
                  </a:lnTo>
                  <a:lnTo>
                    <a:pt x="1599" y="146"/>
                  </a:lnTo>
                  <a:lnTo>
                    <a:pt x="1598" y="152"/>
                  </a:lnTo>
                  <a:lnTo>
                    <a:pt x="1598" y="155"/>
                  </a:lnTo>
                  <a:lnTo>
                    <a:pt x="1599" y="155"/>
                  </a:lnTo>
                  <a:lnTo>
                    <a:pt x="1598" y="157"/>
                  </a:lnTo>
                  <a:lnTo>
                    <a:pt x="1597" y="161"/>
                  </a:lnTo>
                  <a:lnTo>
                    <a:pt x="1596" y="164"/>
                  </a:lnTo>
                  <a:lnTo>
                    <a:pt x="1596" y="164"/>
                  </a:lnTo>
                  <a:lnTo>
                    <a:pt x="1595" y="165"/>
                  </a:lnTo>
                  <a:lnTo>
                    <a:pt x="1592" y="172"/>
                  </a:lnTo>
                  <a:lnTo>
                    <a:pt x="1589" y="176"/>
                  </a:lnTo>
                  <a:lnTo>
                    <a:pt x="1589" y="176"/>
                  </a:lnTo>
                  <a:lnTo>
                    <a:pt x="1589" y="177"/>
                  </a:lnTo>
                  <a:lnTo>
                    <a:pt x="1589" y="180"/>
                  </a:lnTo>
                  <a:lnTo>
                    <a:pt x="1589" y="190"/>
                  </a:lnTo>
                  <a:lnTo>
                    <a:pt x="1589" y="198"/>
                  </a:lnTo>
                  <a:lnTo>
                    <a:pt x="1590" y="198"/>
                  </a:lnTo>
                  <a:lnTo>
                    <a:pt x="1590" y="199"/>
                  </a:lnTo>
                  <a:lnTo>
                    <a:pt x="1590" y="200"/>
                  </a:lnTo>
                  <a:lnTo>
                    <a:pt x="1590" y="207"/>
                  </a:lnTo>
                  <a:lnTo>
                    <a:pt x="1590" y="211"/>
                  </a:lnTo>
                  <a:lnTo>
                    <a:pt x="1592" y="211"/>
                  </a:lnTo>
                  <a:lnTo>
                    <a:pt x="1590" y="214"/>
                  </a:lnTo>
                  <a:lnTo>
                    <a:pt x="1589" y="222"/>
                  </a:lnTo>
                  <a:lnTo>
                    <a:pt x="1588" y="229"/>
                  </a:lnTo>
                  <a:lnTo>
                    <a:pt x="1588" y="229"/>
                  </a:lnTo>
                  <a:lnTo>
                    <a:pt x="1588" y="230"/>
                  </a:lnTo>
                  <a:lnTo>
                    <a:pt x="1588" y="232"/>
                  </a:lnTo>
                  <a:lnTo>
                    <a:pt x="1592" y="242"/>
                  </a:lnTo>
                  <a:lnTo>
                    <a:pt x="1593" y="249"/>
                  </a:lnTo>
                  <a:lnTo>
                    <a:pt x="1594" y="249"/>
                  </a:lnTo>
                  <a:lnTo>
                    <a:pt x="1594" y="250"/>
                  </a:lnTo>
                  <a:lnTo>
                    <a:pt x="1594" y="253"/>
                  </a:lnTo>
                  <a:lnTo>
                    <a:pt x="1594" y="259"/>
                  </a:lnTo>
                  <a:lnTo>
                    <a:pt x="1594" y="265"/>
                  </a:lnTo>
                  <a:lnTo>
                    <a:pt x="1595" y="265"/>
                  </a:lnTo>
                  <a:lnTo>
                    <a:pt x="1594" y="268"/>
                  </a:lnTo>
                  <a:lnTo>
                    <a:pt x="1593" y="274"/>
                  </a:lnTo>
                  <a:lnTo>
                    <a:pt x="1592" y="279"/>
                  </a:lnTo>
                  <a:lnTo>
                    <a:pt x="1592" y="279"/>
                  </a:lnTo>
                  <a:lnTo>
                    <a:pt x="1590" y="280"/>
                  </a:lnTo>
                  <a:lnTo>
                    <a:pt x="1587" y="286"/>
                  </a:lnTo>
                  <a:lnTo>
                    <a:pt x="1586" y="291"/>
                  </a:lnTo>
                  <a:lnTo>
                    <a:pt x="1586" y="291"/>
                  </a:lnTo>
                  <a:lnTo>
                    <a:pt x="1585" y="294"/>
                  </a:lnTo>
                  <a:lnTo>
                    <a:pt x="1582" y="302"/>
                  </a:lnTo>
                  <a:lnTo>
                    <a:pt x="1580" y="308"/>
                  </a:lnTo>
                  <a:lnTo>
                    <a:pt x="1580" y="308"/>
                  </a:lnTo>
                  <a:lnTo>
                    <a:pt x="1578" y="313"/>
                  </a:lnTo>
                  <a:lnTo>
                    <a:pt x="1575" y="323"/>
                  </a:lnTo>
                  <a:lnTo>
                    <a:pt x="1574" y="330"/>
                  </a:lnTo>
                  <a:lnTo>
                    <a:pt x="1574" y="330"/>
                  </a:lnTo>
                  <a:lnTo>
                    <a:pt x="1573" y="335"/>
                  </a:lnTo>
                  <a:lnTo>
                    <a:pt x="1570" y="347"/>
                  </a:lnTo>
                  <a:lnTo>
                    <a:pt x="1567" y="357"/>
                  </a:lnTo>
                  <a:lnTo>
                    <a:pt x="1567" y="357"/>
                  </a:lnTo>
                  <a:lnTo>
                    <a:pt x="1566" y="358"/>
                  </a:lnTo>
                  <a:lnTo>
                    <a:pt x="1564" y="361"/>
                  </a:lnTo>
                  <a:lnTo>
                    <a:pt x="1558" y="373"/>
                  </a:lnTo>
                  <a:lnTo>
                    <a:pt x="1552" y="383"/>
                  </a:lnTo>
                  <a:lnTo>
                    <a:pt x="1552" y="383"/>
                  </a:lnTo>
                  <a:lnTo>
                    <a:pt x="1551" y="386"/>
                  </a:lnTo>
                  <a:lnTo>
                    <a:pt x="1548" y="396"/>
                  </a:lnTo>
                  <a:lnTo>
                    <a:pt x="1547" y="404"/>
                  </a:lnTo>
                  <a:lnTo>
                    <a:pt x="1547" y="404"/>
                  </a:lnTo>
                  <a:lnTo>
                    <a:pt x="1546" y="405"/>
                  </a:lnTo>
                  <a:lnTo>
                    <a:pt x="1543" y="409"/>
                  </a:lnTo>
                  <a:lnTo>
                    <a:pt x="1542" y="411"/>
                  </a:lnTo>
                  <a:lnTo>
                    <a:pt x="1542" y="411"/>
                  </a:lnTo>
                  <a:lnTo>
                    <a:pt x="1539" y="412"/>
                  </a:lnTo>
                  <a:lnTo>
                    <a:pt x="1531" y="416"/>
                  </a:lnTo>
                  <a:lnTo>
                    <a:pt x="1525" y="417"/>
                  </a:lnTo>
                  <a:lnTo>
                    <a:pt x="1525" y="417"/>
                  </a:lnTo>
                  <a:lnTo>
                    <a:pt x="1523" y="418"/>
                  </a:lnTo>
                  <a:lnTo>
                    <a:pt x="1517" y="420"/>
                  </a:lnTo>
                  <a:lnTo>
                    <a:pt x="1513" y="421"/>
                  </a:lnTo>
                  <a:lnTo>
                    <a:pt x="1513" y="421"/>
                  </a:lnTo>
                  <a:lnTo>
                    <a:pt x="1510" y="422"/>
                  </a:lnTo>
                  <a:lnTo>
                    <a:pt x="1503" y="423"/>
                  </a:lnTo>
                  <a:lnTo>
                    <a:pt x="1499" y="423"/>
                  </a:lnTo>
                  <a:lnTo>
                    <a:pt x="1499" y="423"/>
                  </a:lnTo>
                  <a:lnTo>
                    <a:pt x="1492" y="421"/>
                  </a:lnTo>
                  <a:lnTo>
                    <a:pt x="1489" y="420"/>
                  </a:lnTo>
                  <a:lnTo>
                    <a:pt x="1489" y="419"/>
                  </a:lnTo>
                  <a:lnTo>
                    <a:pt x="1488" y="419"/>
                  </a:lnTo>
                  <a:lnTo>
                    <a:pt x="1484" y="418"/>
                  </a:lnTo>
                  <a:lnTo>
                    <a:pt x="1483" y="418"/>
                  </a:lnTo>
                  <a:lnTo>
                    <a:pt x="1483" y="417"/>
                  </a:lnTo>
                  <a:lnTo>
                    <a:pt x="1480" y="416"/>
                  </a:lnTo>
                  <a:lnTo>
                    <a:pt x="1473" y="410"/>
                  </a:lnTo>
                  <a:lnTo>
                    <a:pt x="1469" y="407"/>
                  </a:lnTo>
                  <a:lnTo>
                    <a:pt x="1469" y="406"/>
                  </a:lnTo>
                  <a:lnTo>
                    <a:pt x="1466" y="405"/>
                  </a:lnTo>
                  <a:lnTo>
                    <a:pt x="1457" y="399"/>
                  </a:lnTo>
                  <a:lnTo>
                    <a:pt x="1451" y="395"/>
                  </a:lnTo>
                  <a:lnTo>
                    <a:pt x="1451" y="394"/>
                  </a:lnTo>
                  <a:lnTo>
                    <a:pt x="1449" y="393"/>
                  </a:lnTo>
                  <a:lnTo>
                    <a:pt x="1447" y="389"/>
                  </a:lnTo>
                  <a:lnTo>
                    <a:pt x="1446" y="387"/>
                  </a:lnTo>
                  <a:lnTo>
                    <a:pt x="1446" y="386"/>
                  </a:lnTo>
                  <a:lnTo>
                    <a:pt x="1444" y="379"/>
                  </a:lnTo>
                  <a:lnTo>
                    <a:pt x="1443" y="375"/>
                  </a:lnTo>
                  <a:lnTo>
                    <a:pt x="1443" y="374"/>
                  </a:lnTo>
                  <a:lnTo>
                    <a:pt x="1441" y="373"/>
                  </a:lnTo>
                  <a:lnTo>
                    <a:pt x="1436" y="370"/>
                  </a:lnTo>
                  <a:lnTo>
                    <a:pt x="1433" y="367"/>
                  </a:lnTo>
                  <a:lnTo>
                    <a:pt x="1433" y="366"/>
                  </a:lnTo>
                  <a:lnTo>
                    <a:pt x="1432" y="366"/>
                  </a:lnTo>
                  <a:lnTo>
                    <a:pt x="1431" y="366"/>
                  </a:lnTo>
                  <a:lnTo>
                    <a:pt x="1425" y="365"/>
                  </a:lnTo>
                  <a:lnTo>
                    <a:pt x="1421" y="364"/>
                  </a:lnTo>
                  <a:lnTo>
                    <a:pt x="1421" y="363"/>
                  </a:lnTo>
                  <a:lnTo>
                    <a:pt x="1420" y="363"/>
                  </a:lnTo>
                  <a:lnTo>
                    <a:pt x="1418" y="363"/>
                  </a:lnTo>
                  <a:lnTo>
                    <a:pt x="1410" y="361"/>
                  </a:lnTo>
                  <a:lnTo>
                    <a:pt x="1404" y="360"/>
                  </a:lnTo>
                  <a:lnTo>
                    <a:pt x="1404" y="359"/>
                  </a:lnTo>
                  <a:lnTo>
                    <a:pt x="1398" y="357"/>
                  </a:lnTo>
                  <a:lnTo>
                    <a:pt x="1396" y="355"/>
                  </a:lnTo>
                  <a:lnTo>
                    <a:pt x="1396" y="354"/>
                  </a:lnTo>
                  <a:lnTo>
                    <a:pt x="1395" y="354"/>
                  </a:lnTo>
                  <a:lnTo>
                    <a:pt x="1394" y="354"/>
                  </a:lnTo>
                  <a:lnTo>
                    <a:pt x="1390" y="353"/>
                  </a:lnTo>
                  <a:lnTo>
                    <a:pt x="1387" y="353"/>
                  </a:lnTo>
                  <a:lnTo>
                    <a:pt x="1387" y="352"/>
                  </a:lnTo>
                  <a:lnTo>
                    <a:pt x="1385" y="351"/>
                  </a:lnTo>
                  <a:lnTo>
                    <a:pt x="1382" y="348"/>
                  </a:lnTo>
                  <a:lnTo>
                    <a:pt x="1378" y="346"/>
                  </a:lnTo>
                  <a:lnTo>
                    <a:pt x="1378" y="344"/>
                  </a:lnTo>
                  <a:lnTo>
                    <a:pt x="1377" y="343"/>
                  </a:lnTo>
                  <a:lnTo>
                    <a:pt x="1374" y="340"/>
                  </a:lnTo>
                  <a:lnTo>
                    <a:pt x="1372" y="337"/>
                  </a:lnTo>
                  <a:lnTo>
                    <a:pt x="1372" y="336"/>
                  </a:lnTo>
                  <a:lnTo>
                    <a:pt x="1366" y="332"/>
                  </a:lnTo>
                  <a:lnTo>
                    <a:pt x="1363" y="331"/>
                  </a:lnTo>
                  <a:lnTo>
                    <a:pt x="1363" y="330"/>
                  </a:lnTo>
                  <a:lnTo>
                    <a:pt x="1355" y="327"/>
                  </a:lnTo>
                  <a:lnTo>
                    <a:pt x="1351" y="326"/>
                  </a:lnTo>
                  <a:lnTo>
                    <a:pt x="1351" y="325"/>
                  </a:lnTo>
                  <a:lnTo>
                    <a:pt x="1349" y="324"/>
                  </a:lnTo>
                  <a:lnTo>
                    <a:pt x="1343" y="320"/>
                  </a:lnTo>
                  <a:lnTo>
                    <a:pt x="1340" y="318"/>
                  </a:lnTo>
                  <a:lnTo>
                    <a:pt x="1340" y="317"/>
                  </a:lnTo>
                  <a:lnTo>
                    <a:pt x="1339" y="316"/>
                  </a:lnTo>
                  <a:lnTo>
                    <a:pt x="1337" y="313"/>
                  </a:lnTo>
                  <a:lnTo>
                    <a:pt x="1336" y="311"/>
                  </a:lnTo>
                  <a:lnTo>
                    <a:pt x="1336" y="309"/>
                  </a:lnTo>
                  <a:lnTo>
                    <a:pt x="1332" y="311"/>
                  </a:lnTo>
                  <a:lnTo>
                    <a:pt x="1326" y="311"/>
                  </a:lnTo>
                  <a:lnTo>
                    <a:pt x="1320" y="311"/>
                  </a:lnTo>
                  <a:lnTo>
                    <a:pt x="1320" y="311"/>
                  </a:lnTo>
                  <a:lnTo>
                    <a:pt x="1319" y="311"/>
                  </a:lnTo>
                  <a:lnTo>
                    <a:pt x="1318" y="311"/>
                  </a:lnTo>
                  <a:lnTo>
                    <a:pt x="1313" y="309"/>
                  </a:lnTo>
                  <a:lnTo>
                    <a:pt x="1310" y="308"/>
                  </a:lnTo>
                  <a:lnTo>
                    <a:pt x="1310" y="307"/>
                  </a:lnTo>
                  <a:lnTo>
                    <a:pt x="1308" y="307"/>
                  </a:lnTo>
                  <a:lnTo>
                    <a:pt x="1307" y="307"/>
                  </a:lnTo>
                  <a:lnTo>
                    <a:pt x="1302" y="306"/>
                  </a:lnTo>
                  <a:lnTo>
                    <a:pt x="1297" y="305"/>
                  </a:lnTo>
                  <a:lnTo>
                    <a:pt x="1297" y="304"/>
                  </a:lnTo>
                  <a:lnTo>
                    <a:pt x="1296" y="305"/>
                  </a:lnTo>
                  <a:lnTo>
                    <a:pt x="1291" y="308"/>
                  </a:lnTo>
                  <a:lnTo>
                    <a:pt x="1288" y="311"/>
                  </a:lnTo>
                  <a:lnTo>
                    <a:pt x="1288" y="311"/>
                  </a:lnTo>
                  <a:lnTo>
                    <a:pt x="1288" y="308"/>
                  </a:lnTo>
                  <a:lnTo>
                    <a:pt x="1287" y="302"/>
                  </a:lnTo>
                  <a:lnTo>
                    <a:pt x="1287" y="296"/>
                  </a:lnTo>
                  <a:lnTo>
                    <a:pt x="1288" y="295"/>
                  </a:lnTo>
                  <a:lnTo>
                    <a:pt x="1287" y="294"/>
                  </a:lnTo>
                  <a:lnTo>
                    <a:pt x="1284" y="291"/>
                  </a:lnTo>
                  <a:lnTo>
                    <a:pt x="1283" y="288"/>
                  </a:lnTo>
                  <a:lnTo>
                    <a:pt x="1283" y="286"/>
                  </a:lnTo>
                  <a:lnTo>
                    <a:pt x="1281" y="280"/>
                  </a:lnTo>
                  <a:lnTo>
                    <a:pt x="1281" y="277"/>
                  </a:lnTo>
                  <a:lnTo>
                    <a:pt x="1281" y="276"/>
                  </a:lnTo>
                  <a:lnTo>
                    <a:pt x="1280" y="276"/>
                  </a:lnTo>
                  <a:lnTo>
                    <a:pt x="1279" y="276"/>
                  </a:lnTo>
                  <a:lnTo>
                    <a:pt x="1275" y="274"/>
                  </a:lnTo>
                  <a:lnTo>
                    <a:pt x="1271" y="273"/>
                  </a:lnTo>
                  <a:lnTo>
                    <a:pt x="1271" y="272"/>
                  </a:lnTo>
                  <a:lnTo>
                    <a:pt x="1267" y="271"/>
                  </a:lnTo>
                  <a:lnTo>
                    <a:pt x="1265" y="270"/>
                  </a:lnTo>
                  <a:lnTo>
                    <a:pt x="1265" y="269"/>
                  </a:lnTo>
                  <a:lnTo>
                    <a:pt x="1262" y="268"/>
                  </a:lnTo>
                  <a:lnTo>
                    <a:pt x="1261" y="267"/>
                  </a:lnTo>
                  <a:lnTo>
                    <a:pt x="1261" y="266"/>
                  </a:lnTo>
                  <a:lnTo>
                    <a:pt x="1257" y="262"/>
                  </a:lnTo>
                  <a:lnTo>
                    <a:pt x="1256" y="261"/>
                  </a:lnTo>
                  <a:lnTo>
                    <a:pt x="1256" y="260"/>
                  </a:lnTo>
                  <a:lnTo>
                    <a:pt x="1254" y="261"/>
                  </a:lnTo>
                  <a:lnTo>
                    <a:pt x="1250" y="261"/>
                  </a:lnTo>
                  <a:lnTo>
                    <a:pt x="1247" y="261"/>
                  </a:lnTo>
                  <a:lnTo>
                    <a:pt x="1247" y="261"/>
                  </a:lnTo>
                  <a:lnTo>
                    <a:pt x="1244" y="258"/>
                  </a:lnTo>
                  <a:lnTo>
                    <a:pt x="1243" y="256"/>
                  </a:lnTo>
                  <a:lnTo>
                    <a:pt x="1243" y="255"/>
                  </a:lnTo>
                  <a:lnTo>
                    <a:pt x="1238" y="253"/>
                  </a:lnTo>
                  <a:lnTo>
                    <a:pt x="1237" y="251"/>
                  </a:lnTo>
                  <a:lnTo>
                    <a:pt x="1237" y="250"/>
                  </a:lnTo>
                  <a:lnTo>
                    <a:pt x="1237" y="249"/>
                  </a:lnTo>
                  <a:lnTo>
                    <a:pt x="1236" y="244"/>
                  </a:lnTo>
                  <a:lnTo>
                    <a:pt x="1236" y="241"/>
                  </a:lnTo>
                  <a:lnTo>
                    <a:pt x="1237" y="239"/>
                  </a:lnTo>
                  <a:lnTo>
                    <a:pt x="1241" y="233"/>
                  </a:lnTo>
                  <a:lnTo>
                    <a:pt x="1243" y="230"/>
                  </a:lnTo>
                  <a:lnTo>
                    <a:pt x="1244" y="229"/>
                  </a:lnTo>
                  <a:lnTo>
                    <a:pt x="1244" y="227"/>
                  </a:lnTo>
                  <a:lnTo>
                    <a:pt x="1245" y="222"/>
                  </a:lnTo>
                  <a:lnTo>
                    <a:pt x="1246" y="218"/>
                  </a:lnTo>
                  <a:lnTo>
                    <a:pt x="1247" y="216"/>
                  </a:lnTo>
                  <a:lnTo>
                    <a:pt x="1248" y="214"/>
                  </a:lnTo>
                  <a:lnTo>
                    <a:pt x="1252" y="208"/>
                  </a:lnTo>
                  <a:lnTo>
                    <a:pt x="1255" y="203"/>
                  </a:lnTo>
                  <a:lnTo>
                    <a:pt x="1256" y="202"/>
                  </a:lnTo>
                  <a:lnTo>
                    <a:pt x="1257" y="199"/>
                  </a:lnTo>
                  <a:lnTo>
                    <a:pt x="1257" y="197"/>
                  </a:lnTo>
                  <a:lnTo>
                    <a:pt x="1258" y="196"/>
                  </a:lnTo>
                  <a:lnTo>
                    <a:pt x="1257" y="192"/>
                  </a:lnTo>
                  <a:lnTo>
                    <a:pt x="1258" y="191"/>
                  </a:lnTo>
                  <a:lnTo>
                    <a:pt x="1258" y="190"/>
                  </a:lnTo>
                  <a:lnTo>
                    <a:pt x="1259" y="185"/>
                  </a:lnTo>
                  <a:lnTo>
                    <a:pt x="1260" y="180"/>
                  </a:lnTo>
                  <a:lnTo>
                    <a:pt x="1261" y="179"/>
                  </a:lnTo>
                  <a:lnTo>
                    <a:pt x="1262" y="175"/>
                  </a:lnTo>
                  <a:lnTo>
                    <a:pt x="1264" y="173"/>
                  </a:lnTo>
                  <a:lnTo>
                    <a:pt x="1265" y="172"/>
                  </a:lnTo>
                  <a:lnTo>
                    <a:pt x="1262" y="173"/>
                  </a:lnTo>
                  <a:lnTo>
                    <a:pt x="1257" y="174"/>
                  </a:lnTo>
                  <a:lnTo>
                    <a:pt x="1254" y="175"/>
                  </a:lnTo>
                  <a:lnTo>
                    <a:pt x="1254" y="175"/>
                  </a:lnTo>
                  <a:lnTo>
                    <a:pt x="1253" y="172"/>
                  </a:lnTo>
                  <a:lnTo>
                    <a:pt x="1253" y="169"/>
                  </a:lnTo>
                  <a:lnTo>
                    <a:pt x="1254" y="168"/>
                  </a:lnTo>
                  <a:lnTo>
                    <a:pt x="1254" y="167"/>
                  </a:lnTo>
                  <a:lnTo>
                    <a:pt x="1255" y="162"/>
                  </a:lnTo>
                  <a:lnTo>
                    <a:pt x="1256" y="159"/>
                  </a:lnTo>
                  <a:lnTo>
                    <a:pt x="1257" y="157"/>
                  </a:lnTo>
                  <a:lnTo>
                    <a:pt x="1257" y="156"/>
                  </a:lnTo>
                  <a:lnTo>
                    <a:pt x="1258" y="151"/>
                  </a:lnTo>
                  <a:lnTo>
                    <a:pt x="1258" y="146"/>
                  </a:lnTo>
                  <a:lnTo>
                    <a:pt x="1259" y="145"/>
                  </a:lnTo>
                  <a:lnTo>
                    <a:pt x="1262" y="145"/>
                  </a:lnTo>
                  <a:lnTo>
                    <a:pt x="1264" y="145"/>
                  </a:lnTo>
                  <a:lnTo>
                    <a:pt x="1265" y="145"/>
                  </a:lnTo>
                  <a:lnTo>
                    <a:pt x="1267" y="151"/>
                  </a:lnTo>
                  <a:lnTo>
                    <a:pt x="1268" y="154"/>
                  </a:lnTo>
                  <a:lnTo>
                    <a:pt x="1269" y="154"/>
                  </a:lnTo>
                  <a:lnTo>
                    <a:pt x="1270" y="156"/>
                  </a:lnTo>
                  <a:lnTo>
                    <a:pt x="1271" y="157"/>
                  </a:lnTo>
                  <a:lnTo>
                    <a:pt x="1272" y="157"/>
                  </a:lnTo>
                  <a:lnTo>
                    <a:pt x="1270" y="155"/>
                  </a:lnTo>
                  <a:lnTo>
                    <a:pt x="1270" y="153"/>
                  </a:lnTo>
                  <a:lnTo>
                    <a:pt x="1269" y="148"/>
                  </a:lnTo>
                  <a:lnTo>
                    <a:pt x="1269" y="144"/>
                  </a:lnTo>
                  <a:lnTo>
                    <a:pt x="1269" y="143"/>
                  </a:lnTo>
                  <a:lnTo>
                    <a:pt x="1272" y="140"/>
                  </a:lnTo>
                  <a:lnTo>
                    <a:pt x="1273" y="139"/>
                  </a:lnTo>
                  <a:lnTo>
                    <a:pt x="1275" y="138"/>
                  </a:lnTo>
                  <a:lnTo>
                    <a:pt x="1275" y="139"/>
                  </a:lnTo>
                  <a:lnTo>
                    <a:pt x="1276" y="142"/>
                  </a:lnTo>
                  <a:lnTo>
                    <a:pt x="1276" y="143"/>
                  </a:lnTo>
                  <a:lnTo>
                    <a:pt x="1277" y="143"/>
                  </a:lnTo>
                  <a:lnTo>
                    <a:pt x="1281" y="145"/>
                  </a:lnTo>
                  <a:lnTo>
                    <a:pt x="1284" y="145"/>
                  </a:lnTo>
                  <a:lnTo>
                    <a:pt x="1285" y="145"/>
                  </a:lnTo>
                  <a:lnTo>
                    <a:pt x="1288" y="144"/>
                  </a:lnTo>
                  <a:lnTo>
                    <a:pt x="1290" y="143"/>
                  </a:lnTo>
                  <a:lnTo>
                    <a:pt x="1291" y="140"/>
                  </a:lnTo>
                  <a:lnTo>
                    <a:pt x="1292" y="139"/>
                  </a:lnTo>
                  <a:lnTo>
                    <a:pt x="1293" y="138"/>
                  </a:lnTo>
                  <a:lnTo>
                    <a:pt x="1295" y="133"/>
                  </a:lnTo>
                  <a:lnTo>
                    <a:pt x="1296" y="131"/>
                  </a:lnTo>
                  <a:lnTo>
                    <a:pt x="1297" y="130"/>
                  </a:lnTo>
                  <a:lnTo>
                    <a:pt x="1295" y="129"/>
                  </a:lnTo>
                  <a:lnTo>
                    <a:pt x="1294" y="128"/>
                  </a:lnTo>
                  <a:lnTo>
                    <a:pt x="1294" y="127"/>
                  </a:lnTo>
                  <a:lnTo>
                    <a:pt x="1293" y="125"/>
                  </a:lnTo>
                  <a:lnTo>
                    <a:pt x="1293" y="123"/>
                  </a:lnTo>
                  <a:lnTo>
                    <a:pt x="1291" y="122"/>
                  </a:lnTo>
                  <a:lnTo>
                    <a:pt x="1291" y="121"/>
                  </a:lnTo>
                  <a:lnTo>
                    <a:pt x="1292" y="120"/>
                  </a:lnTo>
                  <a:lnTo>
                    <a:pt x="1293" y="118"/>
                  </a:lnTo>
                  <a:lnTo>
                    <a:pt x="1295" y="118"/>
                  </a:lnTo>
                  <a:lnTo>
                    <a:pt x="1296" y="118"/>
                  </a:lnTo>
                  <a:lnTo>
                    <a:pt x="1297" y="118"/>
                  </a:lnTo>
                  <a:lnTo>
                    <a:pt x="1300" y="117"/>
                  </a:lnTo>
                  <a:lnTo>
                    <a:pt x="1301" y="116"/>
                  </a:lnTo>
                  <a:lnTo>
                    <a:pt x="1302" y="115"/>
                  </a:lnTo>
                  <a:lnTo>
                    <a:pt x="1305" y="108"/>
                  </a:lnTo>
                  <a:lnTo>
                    <a:pt x="1307" y="105"/>
                  </a:lnTo>
                  <a:lnTo>
                    <a:pt x="1308" y="104"/>
                  </a:lnTo>
                  <a:lnTo>
                    <a:pt x="1311" y="98"/>
                  </a:lnTo>
                  <a:lnTo>
                    <a:pt x="1312" y="95"/>
                  </a:lnTo>
                  <a:lnTo>
                    <a:pt x="1313" y="94"/>
                  </a:lnTo>
                  <a:lnTo>
                    <a:pt x="1314" y="92"/>
                  </a:lnTo>
                  <a:lnTo>
                    <a:pt x="1315" y="90"/>
                  </a:lnTo>
                  <a:lnTo>
                    <a:pt x="1311" y="86"/>
                  </a:lnTo>
                  <a:lnTo>
                    <a:pt x="1310" y="85"/>
                  </a:lnTo>
                  <a:lnTo>
                    <a:pt x="1310" y="84"/>
                  </a:lnTo>
                  <a:lnTo>
                    <a:pt x="1308" y="84"/>
                  </a:lnTo>
                  <a:lnTo>
                    <a:pt x="1305" y="84"/>
                  </a:lnTo>
                  <a:lnTo>
                    <a:pt x="1303" y="84"/>
                  </a:lnTo>
                  <a:lnTo>
                    <a:pt x="1303" y="84"/>
                  </a:lnTo>
                  <a:lnTo>
                    <a:pt x="1302" y="85"/>
                  </a:lnTo>
                  <a:lnTo>
                    <a:pt x="1297" y="88"/>
                  </a:lnTo>
                  <a:lnTo>
                    <a:pt x="1294" y="90"/>
                  </a:lnTo>
                  <a:lnTo>
                    <a:pt x="1294" y="90"/>
                  </a:lnTo>
                  <a:lnTo>
                    <a:pt x="1293" y="80"/>
                  </a:lnTo>
                  <a:lnTo>
                    <a:pt x="1293" y="74"/>
                  </a:lnTo>
                  <a:lnTo>
                    <a:pt x="1293" y="73"/>
                  </a:lnTo>
                  <a:lnTo>
                    <a:pt x="1291" y="70"/>
                  </a:lnTo>
                  <a:lnTo>
                    <a:pt x="1291" y="69"/>
                  </a:lnTo>
                  <a:lnTo>
                    <a:pt x="1291" y="68"/>
                  </a:lnTo>
                  <a:lnTo>
                    <a:pt x="1289" y="67"/>
                  </a:lnTo>
                  <a:lnTo>
                    <a:pt x="1288" y="66"/>
                  </a:lnTo>
                  <a:lnTo>
                    <a:pt x="1287" y="67"/>
                  </a:lnTo>
                  <a:lnTo>
                    <a:pt x="1285" y="68"/>
                  </a:lnTo>
                  <a:lnTo>
                    <a:pt x="1280" y="71"/>
                  </a:lnTo>
                  <a:lnTo>
                    <a:pt x="1276" y="74"/>
                  </a:lnTo>
                  <a:lnTo>
                    <a:pt x="1276" y="74"/>
                  </a:lnTo>
                  <a:lnTo>
                    <a:pt x="1275" y="76"/>
                  </a:lnTo>
                  <a:lnTo>
                    <a:pt x="1275" y="81"/>
                  </a:lnTo>
                  <a:lnTo>
                    <a:pt x="1275" y="84"/>
                  </a:lnTo>
                  <a:lnTo>
                    <a:pt x="1275" y="84"/>
                  </a:lnTo>
                  <a:lnTo>
                    <a:pt x="1276" y="86"/>
                  </a:lnTo>
                  <a:lnTo>
                    <a:pt x="1277" y="87"/>
                  </a:lnTo>
                  <a:lnTo>
                    <a:pt x="1276" y="88"/>
                  </a:lnTo>
                  <a:lnTo>
                    <a:pt x="1272" y="95"/>
                  </a:lnTo>
                  <a:lnTo>
                    <a:pt x="1270" y="99"/>
                  </a:lnTo>
                  <a:lnTo>
                    <a:pt x="1270" y="99"/>
                  </a:lnTo>
                  <a:lnTo>
                    <a:pt x="1266" y="101"/>
                  </a:lnTo>
                  <a:lnTo>
                    <a:pt x="1264" y="101"/>
                  </a:lnTo>
                  <a:lnTo>
                    <a:pt x="1264" y="101"/>
                  </a:lnTo>
                  <a:lnTo>
                    <a:pt x="1262" y="102"/>
                  </a:lnTo>
                  <a:lnTo>
                    <a:pt x="1261" y="103"/>
                  </a:lnTo>
                  <a:lnTo>
                    <a:pt x="1260" y="103"/>
                  </a:lnTo>
                  <a:lnTo>
                    <a:pt x="1259" y="101"/>
                  </a:lnTo>
                  <a:lnTo>
                    <a:pt x="1259" y="99"/>
                  </a:lnTo>
                  <a:lnTo>
                    <a:pt x="1259" y="98"/>
                  </a:lnTo>
                  <a:lnTo>
                    <a:pt x="1258" y="95"/>
                  </a:lnTo>
                  <a:lnTo>
                    <a:pt x="1258" y="92"/>
                  </a:lnTo>
                  <a:lnTo>
                    <a:pt x="1259" y="91"/>
                  </a:lnTo>
                  <a:lnTo>
                    <a:pt x="1259" y="87"/>
                  </a:lnTo>
                  <a:lnTo>
                    <a:pt x="1259" y="85"/>
                  </a:lnTo>
                  <a:lnTo>
                    <a:pt x="1260" y="84"/>
                  </a:lnTo>
                  <a:lnTo>
                    <a:pt x="1259" y="81"/>
                  </a:lnTo>
                  <a:lnTo>
                    <a:pt x="1260" y="80"/>
                  </a:lnTo>
                  <a:lnTo>
                    <a:pt x="1259" y="79"/>
                  </a:lnTo>
                  <a:lnTo>
                    <a:pt x="1259" y="78"/>
                  </a:lnTo>
                  <a:lnTo>
                    <a:pt x="1258" y="79"/>
                  </a:lnTo>
                  <a:lnTo>
                    <a:pt x="1255" y="81"/>
                  </a:lnTo>
                  <a:lnTo>
                    <a:pt x="1254" y="82"/>
                  </a:lnTo>
                  <a:lnTo>
                    <a:pt x="1254" y="82"/>
                  </a:lnTo>
                  <a:lnTo>
                    <a:pt x="1253" y="82"/>
                  </a:lnTo>
                  <a:lnTo>
                    <a:pt x="1252" y="82"/>
                  </a:lnTo>
                  <a:lnTo>
                    <a:pt x="1250" y="82"/>
                  </a:lnTo>
                  <a:lnTo>
                    <a:pt x="1250" y="81"/>
                  </a:lnTo>
                  <a:lnTo>
                    <a:pt x="1248" y="79"/>
                  </a:lnTo>
                  <a:lnTo>
                    <a:pt x="1248" y="78"/>
                  </a:lnTo>
                  <a:lnTo>
                    <a:pt x="1249" y="76"/>
                  </a:lnTo>
                  <a:lnTo>
                    <a:pt x="1253" y="71"/>
                  </a:lnTo>
                  <a:lnTo>
                    <a:pt x="1255" y="68"/>
                  </a:lnTo>
                  <a:lnTo>
                    <a:pt x="1256" y="67"/>
                  </a:lnTo>
                  <a:lnTo>
                    <a:pt x="1254" y="68"/>
                  </a:lnTo>
                  <a:lnTo>
                    <a:pt x="1248" y="70"/>
                  </a:lnTo>
                  <a:lnTo>
                    <a:pt x="1244" y="71"/>
                  </a:lnTo>
                  <a:lnTo>
                    <a:pt x="1244" y="71"/>
                  </a:lnTo>
                  <a:lnTo>
                    <a:pt x="1243" y="71"/>
                  </a:lnTo>
                  <a:lnTo>
                    <a:pt x="1242" y="71"/>
                  </a:lnTo>
                  <a:lnTo>
                    <a:pt x="1238" y="71"/>
                  </a:lnTo>
                  <a:lnTo>
                    <a:pt x="1235" y="71"/>
                  </a:lnTo>
                  <a:lnTo>
                    <a:pt x="1235" y="71"/>
                  </a:lnTo>
                  <a:lnTo>
                    <a:pt x="1233" y="70"/>
                  </a:lnTo>
                  <a:lnTo>
                    <a:pt x="1232" y="71"/>
                  </a:lnTo>
                  <a:lnTo>
                    <a:pt x="1230" y="72"/>
                  </a:lnTo>
                  <a:lnTo>
                    <a:pt x="1229" y="72"/>
                  </a:lnTo>
                  <a:lnTo>
                    <a:pt x="1224" y="74"/>
                  </a:lnTo>
                  <a:lnTo>
                    <a:pt x="1223" y="74"/>
                  </a:lnTo>
                  <a:lnTo>
                    <a:pt x="1223" y="74"/>
                  </a:lnTo>
                  <a:lnTo>
                    <a:pt x="1222" y="75"/>
                  </a:lnTo>
                  <a:lnTo>
                    <a:pt x="1219" y="79"/>
                  </a:lnTo>
                  <a:lnTo>
                    <a:pt x="1218" y="80"/>
                  </a:lnTo>
                  <a:lnTo>
                    <a:pt x="1218" y="80"/>
                  </a:lnTo>
                  <a:lnTo>
                    <a:pt x="1217" y="81"/>
                  </a:lnTo>
                  <a:lnTo>
                    <a:pt x="1213" y="84"/>
                  </a:lnTo>
                  <a:lnTo>
                    <a:pt x="1211" y="86"/>
                  </a:lnTo>
                  <a:lnTo>
                    <a:pt x="1211" y="86"/>
                  </a:lnTo>
                  <a:lnTo>
                    <a:pt x="1207" y="83"/>
                  </a:lnTo>
                  <a:lnTo>
                    <a:pt x="1206" y="81"/>
                  </a:lnTo>
                  <a:lnTo>
                    <a:pt x="1206" y="80"/>
                  </a:lnTo>
                  <a:lnTo>
                    <a:pt x="1202" y="78"/>
                  </a:lnTo>
                  <a:lnTo>
                    <a:pt x="1201" y="76"/>
                  </a:lnTo>
                  <a:lnTo>
                    <a:pt x="1201" y="75"/>
                  </a:lnTo>
                  <a:lnTo>
                    <a:pt x="1200" y="75"/>
                  </a:lnTo>
                  <a:lnTo>
                    <a:pt x="1199" y="75"/>
                  </a:lnTo>
                  <a:lnTo>
                    <a:pt x="1194" y="75"/>
                  </a:lnTo>
                  <a:lnTo>
                    <a:pt x="1189" y="75"/>
                  </a:lnTo>
                  <a:lnTo>
                    <a:pt x="1189" y="75"/>
                  </a:lnTo>
                  <a:lnTo>
                    <a:pt x="1185" y="72"/>
                  </a:lnTo>
                  <a:lnTo>
                    <a:pt x="1183" y="70"/>
                  </a:lnTo>
                  <a:lnTo>
                    <a:pt x="1183" y="69"/>
                  </a:lnTo>
                  <a:lnTo>
                    <a:pt x="1182" y="69"/>
                  </a:lnTo>
                  <a:lnTo>
                    <a:pt x="1181" y="69"/>
                  </a:lnTo>
                  <a:lnTo>
                    <a:pt x="1181" y="69"/>
                  </a:lnTo>
                  <a:lnTo>
                    <a:pt x="1179" y="70"/>
                  </a:lnTo>
                  <a:lnTo>
                    <a:pt x="1174" y="72"/>
                  </a:lnTo>
                  <a:lnTo>
                    <a:pt x="1171" y="73"/>
                  </a:lnTo>
                  <a:lnTo>
                    <a:pt x="1171" y="73"/>
                  </a:lnTo>
                  <a:lnTo>
                    <a:pt x="1170" y="73"/>
                  </a:lnTo>
                  <a:lnTo>
                    <a:pt x="1168" y="73"/>
                  </a:lnTo>
                  <a:lnTo>
                    <a:pt x="1165" y="72"/>
                  </a:lnTo>
                  <a:lnTo>
                    <a:pt x="1162" y="71"/>
                  </a:lnTo>
                  <a:lnTo>
                    <a:pt x="1162" y="70"/>
                  </a:lnTo>
                  <a:lnTo>
                    <a:pt x="1160" y="71"/>
                  </a:lnTo>
                  <a:lnTo>
                    <a:pt x="1155" y="72"/>
                  </a:lnTo>
                  <a:lnTo>
                    <a:pt x="1152" y="72"/>
                  </a:lnTo>
                  <a:lnTo>
                    <a:pt x="1152" y="72"/>
                  </a:lnTo>
                  <a:lnTo>
                    <a:pt x="1148" y="70"/>
                  </a:lnTo>
                  <a:lnTo>
                    <a:pt x="1146" y="69"/>
                  </a:lnTo>
                  <a:lnTo>
                    <a:pt x="1146" y="68"/>
                  </a:lnTo>
                  <a:lnTo>
                    <a:pt x="1142" y="67"/>
                  </a:lnTo>
                  <a:lnTo>
                    <a:pt x="1141" y="66"/>
                  </a:lnTo>
                  <a:lnTo>
                    <a:pt x="1141" y="64"/>
                  </a:lnTo>
                  <a:lnTo>
                    <a:pt x="1140" y="64"/>
                  </a:lnTo>
                  <a:lnTo>
                    <a:pt x="1139" y="64"/>
                  </a:lnTo>
                  <a:lnTo>
                    <a:pt x="1135" y="64"/>
                  </a:lnTo>
                  <a:lnTo>
                    <a:pt x="1131" y="64"/>
                  </a:lnTo>
                  <a:lnTo>
                    <a:pt x="1131" y="63"/>
                  </a:lnTo>
                  <a:lnTo>
                    <a:pt x="1130" y="63"/>
                  </a:lnTo>
                  <a:lnTo>
                    <a:pt x="1127" y="62"/>
                  </a:lnTo>
                  <a:lnTo>
                    <a:pt x="1126" y="62"/>
                  </a:lnTo>
                  <a:lnTo>
                    <a:pt x="1126" y="61"/>
                  </a:lnTo>
                  <a:lnTo>
                    <a:pt x="1126" y="60"/>
                  </a:lnTo>
                  <a:lnTo>
                    <a:pt x="1125" y="57"/>
                  </a:lnTo>
                  <a:lnTo>
                    <a:pt x="1125" y="55"/>
                  </a:lnTo>
                  <a:lnTo>
                    <a:pt x="1126" y="53"/>
                  </a:lnTo>
                  <a:lnTo>
                    <a:pt x="1125" y="55"/>
                  </a:lnTo>
                  <a:lnTo>
                    <a:pt x="1123" y="56"/>
                  </a:lnTo>
                  <a:lnTo>
                    <a:pt x="1121" y="56"/>
                  </a:lnTo>
                  <a:lnTo>
                    <a:pt x="1120" y="57"/>
                  </a:lnTo>
                  <a:lnTo>
                    <a:pt x="1116" y="59"/>
                  </a:lnTo>
                  <a:lnTo>
                    <a:pt x="1114" y="60"/>
                  </a:lnTo>
                  <a:lnTo>
                    <a:pt x="1114" y="60"/>
                  </a:lnTo>
                  <a:lnTo>
                    <a:pt x="1111" y="59"/>
                  </a:lnTo>
                  <a:lnTo>
                    <a:pt x="1109" y="58"/>
                  </a:lnTo>
                  <a:lnTo>
                    <a:pt x="1106" y="57"/>
                  </a:lnTo>
                  <a:lnTo>
                    <a:pt x="1105" y="56"/>
                  </a:lnTo>
                  <a:lnTo>
                    <a:pt x="1103" y="57"/>
                  </a:lnTo>
                  <a:lnTo>
                    <a:pt x="1102" y="57"/>
                  </a:lnTo>
                  <a:lnTo>
                    <a:pt x="1102" y="57"/>
                  </a:lnTo>
                  <a:lnTo>
                    <a:pt x="1096" y="56"/>
                  </a:lnTo>
                  <a:lnTo>
                    <a:pt x="1094" y="55"/>
                  </a:lnTo>
                  <a:lnTo>
                    <a:pt x="1094" y="53"/>
                  </a:lnTo>
                  <a:lnTo>
                    <a:pt x="1093" y="53"/>
                  </a:lnTo>
                  <a:lnTo>
                    <a:pt x="1092" y="53"/>
                  </a:lnTo>
                  <a:lnTo>
                    <a:pt x="1089" y="53"/>
                  </a:lnTo>
                  <a:lnTo>
                    <a:pt x="1085" y="53"/>
                  </a:lnTo>
                  <a:lnTo>
                    <a:pt x="1085" y="52"/>
                  </a:lnTo>
                  <a:lnTo>
                    <a:pt x="1083" y="51"/>
                  </a:lnTo>
                  <a:lnTo>
                    <a:pt x="1080" y="48"/>
                  </a:lnTo>
                  <a:lnTo>
                    <a:pt x="1078" y="45"/>
                  </a:lnTo>
                  <a:lnTo>
                    <a:pt x="1078" y="44"/>
                  </a:lnTo>
                  <a:lnTo>
                    <a:pt x="1074" y="40"/>
                  </a:lnTo>
                  <a:lnTo>
                    <a:pt x="1073" y="38"/>
                  </a:lnTo>
                  <a:lnTo>
                    <a:pt x="1073" y="37"/>
                  </a:lnTo>
                  <a:lnTo>
                    <a:pt x="1070" y="36"/>
                  </a:lnTo>
                  <a:lnTo>
                    <a:pt x="1069" y="35"/>
                  </a:lnTo>
                  <a:lnTo>
                    <a:pt x="1069" y="34"/>
                  </a:lnTo>
                  <a:lnTo>
                    <a:pt x="1065" y="36"/>
                  </a:lnTo>
                  <a:lnTo>
                    <a:pt x="1064" y="36"/>
                  </a:lnTo>
                  <a:lnTo>
                    <a:pt x="1064" y="36"/>
                  </a:lnTo>
                  <a:lnTo>
                    <a:pt x="1062" y="38"/>
                  </a:lnTo>
                  <a:lnTo>
                    <a:pt x="1061" y="41"/>
                  </a:lnTo>
                  <a:lnTo>
                    <a:pt x="1061" y="44"/>
                  </a:lnTo>
                  <a:lnTo>
                    <a:pt x="1061" y="44"/>
                  </a:lnTo>
                  <a:lnTo>
                    <a:pt x="1058" y="43"/>
                  </a:lnTo>
                  <a:lnTo>
                    <a:pt x="1057" y="41"/>
                  </a:lnTo>
                  <a:lnTo>
                    <a:pt x="1053" y="38"/>
                  </a:lnTo>
                  <a:lnTo>
                    <a:pt x="1052" y="37"/>
                  </a:lnTo>
                  <a:lnTo>
                    <a:pt x="1052" y="36"/>
                  </a:lnTo>
                  <a:lnTo>
                    <a:pt x="1047" y="34"/>
                  </a:lnTo>
                  <a:lnTo>
                    <a:pt x="1046" y="33"/>
                  </a:lnTo>
                  <a:lnTo>
                    <a:pt x="1046" y="32"/>
                  </a:lnTo>
                  <a:lnTo>
                    <a:pt x="1044" y="28"/>
                  </a:lnTo>
                  <a:lnTo>
                    <a:pt x="1044" y="26"/>
                  </a:lnTo>
                  <a:lnTo>
                    <a:pt x="1044" y="25"/>
                  </a:lnTo>
                  <a:lnTo>
                    <a:pt x="1039" y="26"/>
                  </a:lnTo>
                  <a:lnTo>
                    <a:pt x="1038" y="26"/>
                  </a:lnTo>
                  <a:lnTo>
                    <a:pt x="1038" y="26"/>
                  </a:lnTo>
                  <a:lnTo>
                    <a:pt x="1036" y="24"/>
                  </a:lnTo>
                  <a:lnTo>
                    <a:pt x="1035" y="23"/>
                  </a:lnTo>
                  <a:lnTo>
                    <a:pt x="1035" y="22"/>
                  </a:lnTo>
                  <a:lnTo>
                    <a:pt x="1034" y="22"/>
                  </a:lnTo>
                  <a:lnTo>
                    <a:pt x="1033" y="22"/>
                  </a:lnTo>
                  <a:lnTo>
                    <a:pt x="1032" y="22"/>
                  </a:lnTo>
                  <a:lnTo>
                    <a:pt x="1032" y="22"/>
                  </a:lnTo>
                  <a:lnTo>
                    <a:pt x="1031" y="23"/>
                  </a:lnTo>
                  <a:lnTo>
                    <a:pt x="1030" y="23"/>
                  </a:lnTo>
                  <a:lnTo>
                    <a:pt x="1030" y="25"/>
                  </a:lnTo>
                  <a:lnTo>
                    <a:pt x="1029" y="28"/>
                  </a:lnTo>
                  <a:lnTo>
                    <a:pt x="1029" y="32"/>
                  </a:lnTo>
                  <a:lnTo>
                    <a:pt x="1030" y="32"/>
                  </a:lnTo>
                  <a:lnTo>
                    <a:pt x="1029" y="33"/>
                  </a:lnTo>
                  <a:lnTo>
                    <a:pt x="1026" y="36"/>
                  </a:lnTo>
                  <a:lnTo>
                    <a:pt x="1025" y="37"/>
                  </a:lnTo>
                  <a:lnTo>
                    <a:pt x="1025" y="37"/>
                  </a:lnTo>
                  <a:lnTo>
                    <a:pt x="1023" y="35"/>
                  </a:lnTo>
                  <a:lnTo>
                    <a:pt x="1023" y="33"/>
                  </a:lnTo>
                  <a:lnTo>
                    <a:pt x="1022" y="28"/>
                  </a:lnTo>
                  <a:lnTo>
                    <a:pt x="1022" y="25"/>
                  </a:lnTo>
                  <a:lnTo>
                    <a:pt x="1022" y="24"/>
                  </a:lnTo>
                  <a:lnTo>
                    <a:pt x="1020" y="22"/>
                  </a:lnTo>
                  <a:lnTo>
                    <a:pt x="1019" y="21"/>
                  </a:lnTo>
                  <a:lnTo>
                    <a:pt x="1019" y="20"/>
                  </a:lnTo>
                  <a:lnTo>
                    <a:pt x="1018" y="21"/>
                  </a:lnTo>
                  <a:lnTo>
                    <a:pt x="1017" y="22"/>
                  </a:lnTo>
                  <a:lnTo>
                    <a:pt x="1015" y="23"/>
                  </a:lnTo>
                  <a:lnTo>
                    <a:pt x="1015" y="23"/>
                  </a:lnTo>
                  <a:lnTo>
                    <a:pt x="1013" y="27"/>
                  </a:lnTo>
                  <a:lnTo>
                    <a:pt x="1013" y="28"/>
                  </a:lnTo>
                  <a:lnTo>
                    <a:pt x="1013" y="28"/>
                  </a:lnTo>
                  <a:lnTo>
                    <a:pt x="1010" y="27"/>
                  </a:lnTo>
                  <a:lnTo>
                    <a:pt x="1009" y="26"/>
                  </a:lnTo>
                  <a:lnTo>
                    <a:pt x="1007" y="27"/>
                  </a:lnTo>
                  <a:lnTo>
                    <a:pt x="1006" y="27"/>
                  </a:lnTo>
                  <a:lnTo>
                    <a:pt x="1006" y="27"/>
                  </a:lnTo>
                  <a:lnTo>
                    <a:pt x="1004" y="28"/>
                  </a:lnTo>
                  <a:lnTo>
                    <a:pt x="1004" y="28"/>
                  </a:lnTo>
                  <a:lnTo>
                    <a:pt x="1010" y="31"/>
                  </a:lnTo>
                  <a:lnTo>
                    <a:pt x="1013" y="32"/>
                  </a:lnTo>
                  <a:lnTo>
                    <a:pt x="1014" y="32"/>
                  </a:lnTo>
                  <a:lnTo>
                    <a:pt x="1018" y="36"/>
                  </a:lnTo>
                  <a:lnTo>
                    <a:pt x="1019" y="38"/>
                  </a:lnTo>
                  <a:lnTo>
                    <a:pt x="1020" y="38"/>
                  </a:lnTo>
                  <a:lnTo>
                    <a:pt x="1021" y="39"/>
                  </a:lnTo>
                  <a:lnTo>
                    <a:pt x="1024" y="43"/>
                  </a:lnTo>
                  <a:lnTo>
                    <a:pt x="1027" y="44"/>
                  </a:lnTo>
                  <a:lnTo>
                    <a:pt x="1029" y="44"/>
                  </a:lnTo>
                  <a:lnTo>
                    <a:pt x="1030" y="44"/>
                  </a:lnTo>
                  <a:lnTo>
                    <a:pt x="1033" y="43"/>
                  </a:lnTo>
                  <a:lnTo>
                    <a:pt x="1036" y="43"/>
                  </a:lnTo>
                  <a:lnTo>
                    <a:pt x="1037" y="41"/>
                  </a:lnTo>
                  <a:lnTo>
                    <a:pt x="1044" y="43"/>
                  </a:lnTo>
                  <a:lnTo>
                    <a:pt x="1047" y="43"/>
                  </a:lnTo>
                  <a:lnTo>
                    <a:pt x="1048" y="43"/>
                  </a:lnTo>
                  <a:lnTo>
                    <a:pt x="1052" y="47"/>
                  </a:lnTo>
                  <a:lnTo>
                    <a:pt x="1054" y="49"/>
                  </a:lnTo>
                  <a:lnTo>
                    <a:pt x="1055" y="49"/>
                  </a:lnTo>
                  <a:lnTo>
                    <a:pt x="1055" y="52"/>
                  </a:lnTo>
                  <a:lnTo>
                    <a:pt x="1054" y="59"/>
                  </a:lnTo>
                  <a:lnTo>
                    <a:pt x="1054" y="63"/>
                  </a:lnTo>
                  <a:lnTo>
                    <a:pt x="1055" y="63"/>
                  </a:lnTo>
                  <a:lnTo>
                    <a:pt x="1055" y="64"/>
                  </a:lnTo>
                  <a:lnTo>
                    <a:pt x="1055" y="66"/>
                  </a:lnTo>
                  <a:lnTo>
                    <a:pt x="1055" y="71"/>
                  </a:lnTo>
                  <a:lnTo>
                    <a:pt x="1055" y="75"/>
                  </a:lnTo>
                  <a:lnTo>
                    <a:pt x="1056" y="75"/>
                  </a:lnTo>
                  <a:lnTo>
                    <a:pt x="1055" y="76"/>
                  </a:lnTo>
                  <a:lnTo>
                    <a:pt x="1049" y="80"/>
                  </a:lnTo>
                  <a:lnTo>
                    <a:pt x="1046" y="82"/>
                  </a:lnTo>
                  <a:lnTo>
                    <a:pt x="1046" y="82"/>
                  </a:lnTo>
                  <a:lnTo>
                    <a:pt x="1042" y="84"/>
                  </a:lnTo>
                  <a:lnTo>
                    <a:pt x="1039" y="84"/>
                  </a:lnTo>
                  <a:lnTo>
                    <a:pt x="1039" y="84"/>
                  </a:lnTo>
                  <a:lnTo>
                    <a:pt x="1036" y="85"/>
                  </a:lnTo>
                  <a:lnTo>
                    <a:pt x="1030" y="88"/>
                  </a:lnTo>
                  <a:lnTo>
                    <a:pt x="1024" y="90"/>
                  </a:lnTo>
                  <a:lnTo>
                    <a:pt x="1024" y="90"/>
                  </a:lnTo>
                  <a:lnTo>
                    <a:pt x="1023" y="90"/>
                  </a:lnTo>
                  <a:lnTo>
                    <a:pt x="1022" y="90"/>
                  </a:lnTo>
                  <a:lnTo>
                    <a:pt x="1019" y="90"/>
                  </a:lnTo>
                  <a:lnTo>
                    <a:pt x="1015" y="90"/>
                  </a:lnTo>
                  <a:lnTo>
                    <a:pt x="1015" y="90"/>
                  </a:lnTo>
                  <a:lnTo>
                    <a:pt x="1014" y="90"/>
                  </a:lnTo>
                  <a:lnTo>
                    <a:pt x="1013" y="90"/>
                  </a:lnTo>
                  <a:lnTo>
                    <a:pt x="1009" y="88"/>
                  </a:lnTo>
                  <a:lnTo>
                    <a:pt x="1006" y="88"/>
                  </a:lnTo>
                  <a:lnTo>
                    <a:pt x="1006" y="87"/>
                  </a:lnTo>
                  <a:lnTo>
                    <a:pt x="1002" y="88"/>
                  </a:lnTo>
                  <a:lnTo>
                    <a:pt x="996" y="90"/>
                  </a:lnTo>
                  <a:lnTo>
                    <a:pt x="991" y="90"/>
                  </a:lnTo>
                  <a:lnTo>
                    <a:pt x="991" y="90"/>
                  </a:lnTo>
                  <a:lnTo>
                    <a:pt x="990" y="90"/>
                  </a:lnTo>
                  <a:lnTo>
                    <a:pt x="989" y="90"/>
                  </a:lnTo>
                  <a:lnTo>
                    <a:pt x="986" y="88"/>
                  </a:lnTo>
                  <a:lnTo>
                    <a:pt x="983" y="88"/>
                  </a:lnTo>
                  <a:lnTo>
                    <a:pt x="983" y="87"/>
                  </a:lnTo>
                  <a:lnTo>
                    <a:pt x="982" y="87"/>
                  </a:lnTo>
                  <a:lnTo>
                    <a:pt x="979" y="87"/>
                  </a:lnTo>
                  <a:lnTo>
                    <a:pt x="978" y="87"/>
                  </a:lnTo>
                  <a:lnTo>
                    <a:pt x="978" y="87"/>
                  </a:lnTo>
                  <a:lnTo>
                    <a:pt x="977" y="92"/>
                  </a:lnTo>
                  <a:lnTo>
                    <a:pt x="977" y="93"/>
                  </a:lnTo>
                  <a:lnTo>
                    <a:pt x="977" y="93"/>
                  </a:lnTo>
                  <a:lnTo>
                    <a:pt x="972" y="92"/>
                  </a:lnTo>
                  <a:lnTo>
                    <a:pt x="970" y="91"/>
                  </a:lnTo>
                  <a:lnTo>
                    <a:pt x="970" y="90"/>
                  </a:lnTo>
                  <a:lnTo>
                    <a:pt x="968" y="90"/>
                  </a:lnTo>
                  <a:lnTo>
                    <a:pt x="965" y="88"/>
                  </a:lnTo>
                  <a:lnTo>
                    <a:pt x="963" y="88"/>
                  </a:lnTo>
                  <a:lnTo>
                    <a:pt x="963" y="87"/>
                  </a:lnTo>
                  <a:lnTo>
                    <a:pt x="962" y="88"/>
                  </a:lnTo>
                  <a:lnTo>
                    <a:pt x="959" y="94"/>
                  </a:lnTo>
                  <a:lnTo>
                    <a:pt x="956" y="97"/>
                  </a:lnTo>
                  <a:lnTo>
                    <a:pt x="956" y="97"/>
                  </a:lnTo>
                  <a:lnTo>
                    <a:pt x="955" y="98"/>
                  </a:lnTo>
                  <a:lnTo>
                    <a:pt x="954" y="99"/>
                  </a:lnTo>
                  <a:lnTo>
                    <a:pt x="953" y="99"/>
                  </a:lnTo>
                  <a:lnTo>
                    <a:pt x="956" y="106"/>
                  </a:lnTo>
                  <a:lnTo>
                    <a:pt x="959" y="109"/>
                  </a:lnTo>
                  <a:lnTo>
                    <a:pt x="960" y="109"/>
                  </a:lnTo>
                  <a:lnTo>
                    <a:pt x="959" y="111"/>
                  </a:lnTo>
                  <a:lnTo>
                    <a:pt x="959" y="115"/>
                  </a:lnTo>
                  <a:lnTo>
                    <a:pt x="959" y="118"/>
                  </a:lnTo>
                  <a:lnTo>
                    <a:pt x="959" y="118"/>
                  </a:lnTo>
                  <a:lnTo>
                    <a:pt x="957" y="117"/>
                  </a:lnTo>
                  <a:lnTo>
                    <a:pt x="955" y="114"/>
                  </a:lnTo>
                  <a:lnTo>
                    <a:pt x="954" y="111"/>
                  </a:lnTo>
                  <a:lnTo>
                    <a:pt x="954" y="110"/>
                  </a:lnTo>
                  <a:lnTo>
                    <a:pt x="949" y="107"/>
                  </a:lnTo>
                  <a:lnTo>
                    <a:pt x="947" y="106"/>
                  </a:lnTo>
                  <a:lnTo>
                    <a:pt x="947" y="105"/>
                  </a:lnTo>
                  <a:lnTo>
                    <a:pt x="945" y="105"/>
                  </a:lnTo>
                  <a:lnTo>
                    <a:pt x="944" y="105"/>
                  </a:lnTo>
                  <a:lnTo>
                    <a:pt x="941" y="105"/>
                  </a:lnTo>
                  <a:lnTo>
                    <a:pt x="938" y="105"/>
                  </a:lnTo>
                  <a:lnTo>
                    <a:pt x="938" y="104"/>
                  </a:lnTo>
                  <a:lnTo>
                    <a:pt x="937" y="106"/>
                  </a:lnTo>
                  <a:lnTo>
                    <a:pt x="937" y="109"/>
                  </a:lnTo>
                  <a:lnTo>
                    <a:pt x="937" y="113"/>
                  </a:lnTo>
                  <a:lnTo>
                    <a:pt x="937" y="113"/>
                  </a:lnTo>
                  <a:lnTo>
                    <a:pt x="935" y="114"/>
                  </a:lnTo>
                  <a:lnTo>
                    <a:pt x="930" y="115"/>
                  </a:lnTo>
                  <a:lnTo>
                    <a:pt x="927" y="116"/>
                  </a:lnTo>
                  <a:lnTo>
                    <a:pt x="927" y="116"/>
                  </a:lnTo>
                  <a:lnTo>
                    <a:pt x="925" y="117"/>
                  </a:lnTo>
                  <a:lnTo>
                    <a:pt x="920" y="118"/>
                  </a:lnTo>
                  <a:lnTo>
                    <a:pt x="917" y="119"/>
                  </a:lnTo>
                  <a:lnTo>
                    <a:pt x="917" y="119"/>
                  </a:lnTo>
                  <a:lnTo>
                    <a:pt x="916" y="121"/>
                  </a:lnTo>
                  <a:lnTo>
                    <a:pt x="914" y="127"/>
                  </a:lnTo>
                  <a:lnTo>
                    <a:pt x="913" y="131"/>
                  </a:lnTo>
                  <a:lnTo>
                    <a:pt x="913" y="131"/>
                  </a:lnTo>
                  <a:lnTo>
                    <a:pt x="913" y="133"/>
                  </a:lnTo>
                  <a:lnTo>
                    <a:pt x="912" y="138"/>
                  </a:lnTo>
                  <a:lnTo>
                    <a:pt x="912" y="141"/>
                  </a:lnTo>
                  <a:lnTo>
                    <a:pt x="913" y="141"/>
                  </a:lnTo>
                  <a:lnTo>
                    <a:pt x="910" y="145"/>
                  </a:lnTo>
                  <a:lnTo>
                    <a:pt x="910" y="148"/>
                  </a:lnTo>
                  <a:lnTo>
                    <a:pt x="910" y="148"/>
                  </a:lnTo>
                  <a:lnTo>
                    <a:pt x="912" y="148"/>
                  </a:lnTo>
                  <a:lnTo>
                    <a:pt x="915" y="148"/>
                  </a:lnTo>
                  <a:lnTo>
                    <a:pt x="918" y="148"/>
                  </a:lnTo>
                  <a:lnTo>
                    <a:pt x="919" y="148"/>
                  </a:lnTo>
                  <a:lnTo>
                    <a:pt x="919" y="149"/>
                  </a:lnTo>
                  <a:lnTo>
                    <a:pt x="919" y="150"/>
                  </a:lnTo>
                  <a:lnTo>
                    <a:pt x="919" y="156"/>
                  </a:lnTo>
                  <a:lnTo>
                    <a:pt x="919" y="161"/>
                  </a:lnTo>
                  <a:lnTo>
                    <a:pt x="920" y="161"/>
                  </a:lnTo>
                  <a:lnTo>
                    <a:pt x="919" y="162"/>
                  </a:lnTo>
                  <a:lnTo>
                    <a:pt x="916" y="165"/>
                  </a:lnTo>
                  <a:lnTo>
                    <a:pt x="914" y="167"/>
                  </a:lnTo>
                  <a:lnTo>
                    <a:pt x="914" y="167"/>
                  </a:lnTo>
                  <a:lnTo>
                    <a:pt x="912" y="168"/>
                  </a:lnTo>
                  <a:lnTo>
                    <a:pt x="906" y="168"/>
                  </a:lnTo>
                  <a:lnTo>
                    <a:pt x="903" y="168"/>
                  </a:lnTo>
                  <a:lnTo>
                    <a:pt x="903" y="168"/>
                  </a:lnTo>
                  <a:lnTo>
                    <a:pt x="902" y="168"/>
                  </a:lnTo>
                  <a:lnTo>
                    <a:pt x="901" y="168"/>
                  </a:lnTo>
                  <a:lnTo>
                    <a:pt x="897" y="167"/>
                  </a:lnTo>
                  <a:lnTo>
                    <a:pt x="895" y="167"/>
                  </a:lnTo>
                  <a:lnTo>
                    <a:pt x="895" y="166"/>
                  </a:lnTo>
                  <a:lnTo>
                    <a:pt x="894" y="167"/>
                  </a:lnTo>
                  <a:lnTo>
                    <a:pt x="891" y="172"/>
                  </a:lnTo>
                  <a:lnTo>
                    <a:pt x="890" y="174"/>
                  </a:lnTo>
                  <a:lnTo>
                    <a:pt x="890" y="174"/>
                  </a:lnTo>
                  <a:lnTo>
                    <a:pt x="890" y="175"/>
                  </a:lnTo>
                  <a:lnTo>
                    <a:pt x="890" y="176"/>
                  </a:lnTo>
                  <a:lnTo>
                    <a:pt x="890" y="179"/>
                  </a:lnTo>
                  <a:lnTo>
                    <a:pt x="890" y="181"/>
                  </a:lnTo>
                  <a:lnTo>
                    <a:pt x="891" y="181"/>
                  </a:lnTo>
                  <a:lnTo>
                    <a:pt x="890" y="183"/>
                  </a:lnTo>
                  <a:lnTo>
                    <a:pt x="886" y="189"/>
                  </a:lnTo>
                  <a:lnTo>
                    <a:pt x="884" y="194"/>
                  </a:lnTo>
                  <a:lnTo>
                    <a:pt x="884" y="194"/>
                  </a:lnTo>
                  <a:lnTo>
                    <a:pt x="883" y="195"/>
                  </a:lnTo>
                  <a:lnTo>
                    <a:pt x="880" y="198"/>
                  </a:lnTo>
                  <a:lnTo>
                    <a:pt x="879" y="200"/>
                  </a:lnTo>
                  <a:lnTo>
                    <a:pt x="879" y="200"/>
                  </a:lnTo>
                  <a:lnTo>
                    <a:pt x="878" y="201"/>
                  </a:lnTo>
                  <a:lnTo>
                    <a:pt x="876" y="202"/>
                  </a:lnTo>
                  <a:lnTo>
                    <a:pt x="874" y="203"/>
                  </a:lnTo>
                  <a:lnTo>
                    <a:pt x="874" y="203"/>
                  </a:lnTo>
                  <a:lnTo>
                    <a:pt x="872" y="202"/>
                  </a:lnTo>
                  <a:lnTo>
                    <a:pt x="871" y="201"/>
                  </a:lnTo>
                  <a:lnTo>
                    <a:pt x="870" y="204"/>
                  </a:lnTo>
                  <a:lnTo>
                    <a:pt x="867" y="212"/>
                  </a:lnTo>
                  <a:lnTo>
                    <a:pt x="866" y="219"/>
                  </a:lnTo>
                  <a:lnTo>
                    <a:pt x="866" y="219"/>
                  </a:lnTo>
                  <a:lnTo>
                    <a:pt x="867" y="221"/>
                  </a:lnTo>
                  <a:lnTo>
                    <a:pt x="871" y="226"/>
                  </a:lnTo>
                  <a:lnTo>
                    <a:pt x="874" y="231"/>
                  </a:lnTo>
                  <a:lnTo>
                    <a:pt x="876" y="231"/>
                  </a:lnTo>
                  <a:lnTo>
                    <a:pt x="878" y="234"/>
                  </a:lnTo>
                  <a:lnTo>
                    <a:pt x="884" y="242"/>
                  </a:lnTo>
                  <a:lnTo>
                    <a:pt x="889" y="247"/>
                  </a:lnTo>
                  <a:lnTo>
                    <a:pt x="890" y="247"/>
                  </a:lnTo>
                  <a:lnTo>
                    <a:pt x="889" y="248"/>
                  </a:lnTo>
                  <a:lnTo>
                    <a:pt x="889" y="248"/>
                  </a:lnTo>
                  <a:lnTo>
                    <a:pt x="888" y="249"/>
                  </a:lnTo>
                  <a:lnTo>
                    <a:pt x="883" y="251"/>
                  </a:lnTo>
                  <a:lnTo>
                    <a:pt x="881" y="253"/>
                  </a:lnTo>
                  <a:lnTo>
                    <a:pt x="881" y="253"/>
                  </a:lnTo>
                  <a:lnTo>
                    <a:pt x="881" y="254"/>
                  </a:lnTo>
                  <a:lnTo>
                    <a:pt x="881" y="256"/>
                  </a:lnTo>
                  <a:lnTo>
                    <a:pt x="883" y="264"/>
                  </a:lnTo>
                  <a:lnTo>
                    <a:pt x="884" y="269"/>
                  </a:lnTo>
                  <a:lnTo>
                    <a:pt x="885" y="269"/>
                  </a:lnTo>
                  <a:lnTo>
                    <a:pt x="882" y="270"/>
                  </a:lnTo>
                  <a:lnTo>
                    <a:pt x="881" y="270"/>
                  </a:lnTo>
                  <a:lnTo>
                    <a:pt x="881" y="270"/>
                  </a:lnTo>
                  <a:lnTo>
                    <a:pt x="878" y="269"/>
                  </a:lnTo>
                  <a:lnTo>
                    <a:pt x="871" y="262"/>
                  </a:lnTo>
                  <a:lnTo>
                    <a:pt x="866" y="258"/>
                  </a:lnTo>
                  <a:lnTo>
                    <a:pt x="866" y="257"/>
                  </a:lnTo>
                  <a:lnTo>
                    <a:pt x="861" y="254"/>
                  </a:lnTo>
                  <a:lnTo>
                    <a:pt x="860" y="253"/>
                  </a:lnTo>
                  <a:lnTo>
                    <a:pt x="860" y="251"/>
                  </a:lnTo>
                  <a:lnTo>
                    <a:pt x="856" y="250"/>
                  </a:lnTo>
                  <a:lnTo>
                    <a:pt x="854" y="249"/>
                  </a:lnTo>
                  <a:lnTo>
                    <a:pt x="854" y="248"/>
                  </a:lnTo>
                  <a:lnTo>
                    <a:pt x="851" y="249"/>
                  </a:lnTo>
                  <a:lnTo>
                    <a:pt x="845" y="250"/>
                  </a:lnTo>
                  <a:lnTo>
                    <a:pt x="841" y="250"/>
                  </a:lnTo>
                  <a:lnTo>
                    <a:pt x="841" y="250"/>
                  </a:lnTo>
                  <a:lnTo>
                    <a:pt x="838" y="251"/>
                  </a:lnTo>
                  <a:lnTo>
                    <a:pt x="832" y="251"/>
                  </a:lnTo>
                  <a:lnTo>
                    <a:pt x="827" y="251"/>
                  </a:lnTo>
                  <a:lnTo>
                    <a:pt x="827" y="251"/>
                  </a:lnTo>
                  <a:lnTo>
                    <a:pt x="826" y="251"/>
                  </a:lnTo>
                  <a:lnTo>
                    <a:pt x="825" y="251"/>
                  </a:lnTo>
                  <a:lnTo>
                    <a:pt x="821" y="250"/>
                  </a:lnTo>
                  <a:lnTo>
                    <a:pt x="818" y="249"/>
                  </a:lnTo>
                  <a:lnTo>
                    <a:pt x="818" y="248"/>
                  </a:lnTo>
                  <a:lnTo>
                    <a:pt x="816" y="249"/>
                  </a:lnTo>
                  <a:lnTo>
                    <a:pt x="814" y="250"/>
                  </a:lnTo>
                  <a:lnTo>
                    <a:pt x="813" y="251"/>
                  </a:lnTo>
                  <a:lnTo>
                    <a:pt x="813" y="251"/>
                  </a:lnTo>
                  <a:lnTo>
                    <a:pt x="813" y="253"/>
                  </a:lnTo>
                  <a:lnTo>
                    <a:pt x="813" y="256"/>
                  </a:lnTo>
                  <a:lnTo>
                    <a:pt x="813" y="258"/>
                  </a:lnTo>
                  <a:lnTo>
                    <a:pt x="814" y="258"/>
                  </a:lnTo>
                  <a:lnTo>
                    <a:pt x="813" y="258"/>
                  </a:lnTo>
                  <a:lnTo>
                    <a:pt x="812" y="258"/>
                  </a:lnTo>
                  <a:lnTo>
                    <a:pt x="809" y="258"/>
                  </a:lnTo>
                  <a:lnTo>
                    <a:pt x="807" y="258"/>
                  </a:lnTo>
                  <a:lnTo>
                    <a:pt x="807" y="257"/>
                  </a:lnTo>
                  <a:lnTo>
                    <a:pt x="806" y="258"/>
                  </a:lnTo>
                  <a:lnTo>
                    <a:pt x="806" y="258"/>
                  </a:lnTo>
                  <a:lnTo>
                    <a:pt x="804" y="258"/>
                  </a:lnTo>
                  <a:lnTo>
                    <a:pt x="803" y="258"/>
                  </a:lnTo>
                  <a:lnTo>
                    <a:pt x="802" y="258"/>
                  </a:lnTo>
                  <a:lnTo>
                    <a:pt x="802" y="258"/>
                  </a:lnTo>
                  <a:lnTo>
                    <a:pt x="801" y="259"/>
                  </a:lnTo>
                  <a:lnTo>
                    <a:pt x="798" y="262"/>
                  </a:lnTo>
                  <a:lnTo>
                    <a:pt x="797" y="264"/>
                  </a:lnTo>
                  <a:lnTo>
                    <a:pt x="797" y="264"/>
                  </a:lnTo>
                  <a:lnTo>
                    <a:pt x="797" y="265"/>
                  </a:lnTo>
                  <a:lnTo>
                    <a:pt x="797" y="265"/>
                  </a:lnTo>
                  <a:lnTo>
                    <a:pt x="798" y="267"/>
                  </a:lnTo>
                  <a:lnTo>
                    <a:pt x="797" y="269"/>
                  </a:lnTo>
                  <a:lnTo>
                    <a:pt x="797" y="272"/>
                  </a:lnTo>
                  <a:lnTo>
                    <a:pt x="797" y="274"/>
                  </a:lnTo>
                  <a:lnTo>
                    <a:pt x="797" y="274"/>
                  </a:lnTo>
                  <a:lnTo>
                    <a:pt x="796" y="276"/>
                  </a:lnTo>
                  <a:lnTo>
                    <a:pt x="795" y="277"/>
                  </a:lnTo>
                  <a:lnTo>
                    <a:pt x="795" y="278"/>
                  </a:lnTo>
                  <a:lnTo>
                    <a:pt x="792" y="277"/>
                  </a:lnTo>
                  <a:lnTo>
                    <a:pt x="791" y="279"/>
                  </a:lnTo>
                  <a:lnTo>
                    <a:pt x="791" y="283"/>
                  </a:lnTo>
                  <a:lnTo>
                    <a:pt x="791" y="286"/>
                  </a:lnTo>
                  <a:lnTo>
                    <a:pt x="791" y="286"/>
                  </a:lnTo>
                  <a:lnTo>
                    <a:pt x="790" y="288"/>
                  </a:lnTo>
                  <a:lnTo>
                    <a:pt x="789" y="289"/>
                  </a:lnTo>
                  <a:lnTo>
                    <a:pt x="786" y="294"/>
                  </a:lnTo>
                  <a:lnTo>
                    <a:pt x="783" y="299"/>
                  </a:lnTo>
                  <a:lnTo>
                    <a:pt x="783" y="299"/>
                  </a:lnTo>
                  <a:lnTo>
                    <a:pt x="783" y="297"/>
                  </a:lnTo>
                  <a:lnTo>
                    <a:pt x="784" y="294"/>
                  </a:lnTo>
                  <a:lnTo>
                    <a:pt x="785" y="291"/>
                  </a:lnTo>
                  <a:lnTo>
                    <a:pt x="786" y="290"/>
                  </a:lnTo>
                  <a:lnTo>
                    <a:pt x="787" y="286"/>
                  </a:lnTo>
                  <a:lnTo>
                    <a:pt x="788" y="285"/>
                  </a:lnTo>
                  <a:lnTo>
                    <a:pt x="789" y="284"/>
                  </a:lnTo>
                  <a:lnTo>
                    <a:pt x="789" y="283"/>
                  </a:lnTo>
                  <a:lnTo>
                    <a:pt x="790" y="279"/>
                  </a:lnTo>
                  <a:lnTo>
                    <a:pt x="790" y="276"/>
                  </a:lnTo>
                  <a:lnTo>
                    <a:pt x="791" y="274"/>
                  </a:lnTo>
                  <a:lnTo>
                    <a:pt x="791" y="273"/>
                  </a:lnTo>
                  <a:lnTo>
                    <a:pt x="790" y="268"/>
                  </a:lnTo>
                  <a:lnTo>
                    <a:pt x="790" y="264"/>
                  </a:lnTo>
                  <a:lnTo>
                    <a:pt x="791" y="262"/>
                  </a:lnTo>
                  <a:lnTo>
                    <a:pt x="791" y="260"/>
                  </a:lnTo>
                  <a:lnTo>
                    <a:pt x="792" y="251"/>
                  </a:lnTo>
                  <a:lnTo>
                    <a:pt x="794" y="245"/>
                  </a:lnTo>
                  <a:lnTo>
                    <a:pt x="795" y="244"/>
                  </a:lnTo>
                  <a:lnTo>
                    <a:pt x="789" y="242"/>
                  </a:lnTo>
                  <a:lnTo>
                    <a:pt x="787" y="241"/>
                  </a:lnTo>
                  <a:lnTo>
                    <a:pt x="787" y="239"/>
                  </a:lnTo>
                  <a:lnTo>
                    <a:pt x="781" y="236"/>
                  </a:lnTo>
                  <a:lnTo>
                    <a:pt x="778" y="235"/>
                  </a:lnTo>
                  <a:lnTo>
                    <a:pt x="778" y="234"/>
                  </a:lnTo>
                  <a:lnTo>
                    <a:pt x="775" y="231"/>
                  </a:lnTo>
                  <a:lnTo>
                    <a:pt x="766" y="220"/>
                  </a:lnTo>
                  <a:lnTo>
                    <a:pt x="760" y="212"/>
                  </a:lnTo>
                  <a:lnTo>
                    <a:pt x="760" y="211"/>
                  </a:lnTo>
                  <a:lnTo>
                    <a:pt x="757" y="210"/>
                  </a:lnTo>
                  <a:lnTo>
                    <a:pt x="754" y="207"/>
                  </a:lnTo>
                  <a:lnTo>
                    <a:pt x="751" y="204"/>
                  </a:lnTo>
                  <a:lnTo>
                    <a:pt x="751" y="203"/>
                  </a:lnTo>
                  <a:lnTo>
                    <a:pt x="744" y="200"/>
                  </a:lnTo>
                  <a:lnTo>
                    <a:pt x="741" y="199"/>
                  </a:lnTo>
                  <a:lnTo>
                    <a:pt x="741" y="198"/>
                  </a:lnTo>
                  <a:lnTo>
                    <a:pt x="739" y="199"/>
                  </a:lnTo>
                  <a:lnTo>
                    <a:pt x="733" y="199"/>
                  </a:lnTo>
                  <a:lnTo>
                    <a:pt x="729" y="199"/>
                  </a:lnTo>
                  <a:lnTo>
                    <a:pt x="729" y="199"/>
                  </a:lnTo>
                  <a:lnTo>
                    <a:pt x="728" y="199"/>
                  </a:lnTo>
                  <a:lnTo>
                    <a:pt x="727" y="199"/>
                  </a:lnTo>
                  <a:lnTo>
                    <a:pt x="724" y="198"/>
                  </a:lnTo>
                  <a:lnTo>
                    <a:pt x="720" y="197"/>
                  </a:lnTo>
                  <a:lnTo>
                    <a:pt x="720" y="196"/>
                  </a:lnTo>
                  <a:lnTo>
                    <a:pt x="718" y="195"/>
                  </a:lnTo>
                  <a:lnTo>
                    <a:pt x="717" y="194"/>
                  </a:lnTo>
                  <a:lnTo>
                    <a:pt x="715" y="195"/>
                  </a:lnTo>
                  <a:lnTo>
                    <a:pt x="712" y="195"/>
                  </a:lnTo>
                  <a:lnTo>
                    <a:pt x="708" y="195"/>
                  </a:lnTo>
                  <a:lnTo>
                    <a:pt x="708" y="195"/>
                  </a:lnTo>
                  <a:lnTo>
                    <a:pt x="709" y="200"/>
                  </a:lnTo>
                  <a:lnTo>
                    <a:pt x="710" y="202"/>
                  </a:lnTo>
                  <a:lnTo>
                    <a:pt x="712" y="202"/>
                  </a:lnTo>
                  <a:lnTo>
                    <a:pt x="710" y="203"/>
                  </a:lnTo>
                  <a:lnTo>
                    <a:pt x="708" y="204"/>
                  </a:lnTo>
                  <a:lnTo>
                    <a:pt x="707" y="206"/>
                  </a:lnTo>
                  <a:lnTo>
                    <a:pt x="707" y="206"/>
                  </a:lnTo>
                  <a:lnTo>
                    <a:pt x="706" y="207"/>
                  </a:lnTo>
                  <a:lnTo>
                    <a:pt x="705" y="208"/>
                  </a:lnTo>
                  <a:lnTo>
                    <a:pt x="699" y="211"/>
                  </a:lnTo>
                  <a:lnTo>
                    <a:pt x="695" y="214"/>
                  </a:lnTo>
                  <a:lnTo>
                    <a:pt x="695" y="214"/>
                  </a:lnTo>
                  <a:lnTo>
                    <a:pt x="691" y="215"/>
                  </a:lnTo>
                  <a:lnTo>
                    <a:pt x="689" y="215"/>
                  </a:lnTo>
                  <a:lnTo>
                    <a:pt x="689" y="215"/>
                  </a:lnTo>
                  <a:lnTo>
                    <a:pt x="687" y="212"/>
                  </a:lnTo>
                  <a:lnTo>
                    <a:pt x="687" y="211"/>
                  </a:lnTo>
                  <a:lnTo>
                    <a:pt x="687" y="210"/>
                  </a:lnTo>
                  <a:lnTo>
                    <a:pt x="685" y="209"/>
                  </a:lnTo>
                  <a:lnTo>
                    <a:pt x="684" y="210"/>
                  </a:lnTo>
                  <a:lnTo>
                    <a:pt x="682" y="214"/>
                  </a:lnTo>
                  <a:lnTo>
                    <a:pt x="681" y="216"/>
                  </a:lnTo>
                  <a:lnTo>
                    <a:pt x="681" y="216"/>
                  </a:lnTo>
                  <a:lnTo>
                    <a:pt x="680" y="218"/>
                  </a:lnTo>
                  <a:lnTo>
                    <a:pt x="677" y="220"/>
                  </a:lnTo>
                  <a:lnTo>
                    <a:pt x="674" y="221"/>
                  </a:lnTo>
                  <a:lnTo>
                    <a:pt x="674" y="221"/>
                  </a:lnTo>
                  <a:lnTo>
                    <a:pt x="672" y="216"/>
                  </a:lnTo>
                  <a:lnTo>
                    <a:pt x="672" y="213"/>
                  </a:lnTo>
                  <a:lnTo>
                    <a:pt x="672" y="212"/>
                  </a:lnTo>
                  <a:lnTo>
                    <a:pt x="668" y="209"/>
                  </a:lnTo>
                  <a:lnTo>
                    <a:pt x="667" y="207"/>
                  </a:lnTo>
                  <a:lnTo>
                    <a:pt x="667" y="206"/>
                  </a:lnTo>
                  <a:lnTo>
                    <a:pt x="666" y="207"/>
                  </a:lnTo>
                  <a:lnTo>
                    <a:pt x="665" y="210"/>
                  </a:lnTo>
                  <a:lnTo>
                    <a:pt x="663" y="212"/>
                  </a:lnTo>
                  <a:lnTo>
                    <a:pt x="663" y="212"/>
                  </a:lnTo>
                  <a:lnTo>
                    <a:pt x="667" y="218"/>
                  </a:lnTo>
                  <a:lnTo>
                    <a:pt x="669" y="220"/>
                  </a:lnTo>
                  <a:lnTo>
                    <a:pt x="670" y="220"/>
                  </a:lnTo>
                  <a:lnTo>
                    <a:pt x="670" y="221"/>
                  </a:lnTo>
                  <a:lnTo>
                    <a:pt x="669" y="224"/>
                  </a:lnTo>
                  <a:lnTo>
                    <a:pt x="669" y="225"/>
                  </a:lnTo>
                  <a:lnTo>
                    <a:pt x="670" y="225"/>
                  </a:lnTo>
                  <a:lnTo>
                    <a:pt x="669" y="227"/>
                  </a:lnTo>
                  <a:lnTo>
                    <a:pt x="667" y="234"/>
                  </a:lnTo>
                  <a:lnTo>
                    <a:pt x="666" y="238"/>
                  </a:lnTo>
                  <a:lnTo>
                    <a:pt x="666" y="238"/>
                  </a:lnTo>
                  <a:lnTo>
                    <a:pt x="665" y="239"/>
                  </a:lnTo>
                  <a:lnTo>
                    <a:pt x="663" y="241"/>
                  </a:lnTo>
                  <a:lnTo>
                    <a:pt x="660" y="244"/>
                  </a:lnTo>
                  <a:lnTo>
                    <a:pt x="658" y="246"/>
                  </a:lnTo>
                  <a:lnTo>
                    <a:pt x="658" y="246"/>
                  </a:lnTo>
                  <a:lnTo>
                    <a:pt x="657" y="247"/>
                  </a:lnTo>
                  <a:lnTo>
                    <a:pt x="654" y="248"/>
                  </a:lnTo>
                  <a:lnTo>
                    <a:pt x="651" y="249"/>
                  </a:lnTo>
                  <a:lnTo>
                    <a:pt x="651" y="249"/>
                  </a:lnTo>
                  <a:lnTo>
                    <a:pt x="650" y="245"/>
                  </a:lnTo>
                  <a:lnTo>
                    <a:pt x="650" y="242"/>
                  </a:lnTo>
                  <a:lnTo>
                    <a:pt x="650" y="241"/>
                  </a:lnTo>
                  <a:lnTo>
                    <a:pt x="649" y="241"/>
                  </a:lnTo>
                  <a:lnTo>
                    <a:pt x="648" y="241"/>
                  </a:lnTo>
                  <a:lnTo>
                    <a:pt x="645" y="241"/>
                  </a:lnTo>
                  <a:lnTo>
                    <a:pt x="643" y="241"/>
                  </a:lnTo>
                  <a:lnTo>
                    <a:pt x="643" y="241"/>
                  </a:lnTo>
                  <a:lnTo>
                    <a:pt x="642" y="242"/>
                  </a:lnTo>
                  <a:lnTo>
                    <a:pt x="640" y="242"/>
                  </a:lnTo>
                  <a:lnTo>
                    <a:pt x="639" y="243"/>
                  </a:lnTo>
                  <a:lnTo>
                    <a:pt x="636" y="244"/>
                  </a:lnTo>
                  <a:lnTo>
                    <a:pt x="634" y="245"/>
                  </a:lnTo>
                  <a:lnTo>
                    <a:pt x="634" y="245"/>
                  </a:lnTo>
                  <a:lnTo>
                    <a:pt x="630" y="246"/>
                  </a:lnTo>
                  <a:lnTo>
                    <a:pt x="628" y="246"/>
                  </a:lnTo>
                  <a:lnTo>
                    <a:pt x="628" y="246"/>
                  </a:lnTo>
                  <a:lnTo>
                    <a:pt x="627" y="247"/>
                  </a:lnTo>
                  <a:lnTo>
                    <a:pt x="623" y="249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20" y="253"/>
                  </a:lnTo>
                  <a:lnTo>
                    <a:pt x="619" y="259"/>
                  </a:lnTo>
                  <a:lnTo>
                    <a:pt x="619" y="264"/>
                  </a:lnTo>
                  <a:lnTo>
                    <a:pt x="620" y="264"/>
                  </a:lnTo>
                  <a:lnTo>
                    <a:pt x="621" y="266"/>
                  </a:lnTo>
                  <a:lnTo>
                    <a:pt x="624" y="270"/>
                  </a:lnTo>
                  <a:lnTo>
                    <a:pt x="627" y="273"/>
                  </a:lnTo>
                  <a:lnTo>
                    <a:pt x="628" y="273"/>
                  </a:lnTo>
                  <a:lnTo>
                    <a:pt x="628" y="274"/>
                  </a:lnTo>
                  <a:lnTo>
                    <a:pt x="627" y="278"/>
                  </a:lnTo>
                  <a:lnTo>
                    <a:pt x="627" y="279"/>
                  </a:lnTo>
                  <a:lnTo>
                    <a:pt x="628" y="279"/>
                  </a:lnTo>
                  <a:lnTo>
                    <a:pt x="627" y="279"/>
                  </a:lnTo>
                  <a:lnTo>
                    <a:pt x="626" y="279"/>
                  </a:lnTo>
                  <a:lnTo>
                    <a:pt x="621" y="278"/>
                  </a:lnTo>
                  <a:lnTo>
                    <a:pt x="618" y="277"/>
                  </a:lnTo>
                  <a:lnTo>
                    <a:pt x="618" y="276"/>
                  </a:lnTo>
                  <a:lnTo>
                    <a:pt x="616" y="276"/>
                  </a:lnTo>
                  <a:lnTo>
                    <a:pt x="615" y="276"/>
                  </a:lnTo>
                  <a:lnTo>
                    <a:pt x="612" y="274"/>
                  </a:lnTo>
                  <a:lnTo>
                    <a:pt x="609" y="274"/>
                  </a:lnTo>
                  <a:lnTo>
                    <a:pt x="609" y="273"/>
                  </a:lnTo>
                  <a:lnTo>
                    <a:pt x="608" y="274"/>
                  </a:lnTo>
                  <a:lnTo>
                    <a:pt x="607" y="278"/>
                  </a:lnTo>
                  <a:lnTo>
                    <a:pt x="605" y="280"/>
                  </a:lnTo>
                  <a:lnTo>
                    <a:pt x="605" y="280"/>
                  </a:lnTo>
                  <a:lnTo>
                    <a:pt x="604" y="284"/>
                  </a:lnTo>
                  <a:lnTo>
                    <a:pt x="604" y="286"/>
                  </a:lnTo>
                  <a:lnTo>
                    <a:pt x="604" y="286"/>
                  </a:lnTo>
                  <a:lnTo>
                    <a:pt x="605" y="291"/>
                  </a:lnTo>
                  <a:lnTo>
                    <a:pt x="607" y="292"/>
                  </a:lnTo>
                  <a:lnTo>
                    <a:pt x="608" y="292"/>
                  </a:lnTo>
                  <a:lnTo>
                    <a:pt x="609" y="296"/>
                  </a:lnTo>
                  <a:lnTo>
                    <a:pt x="610" y="299"/>
                  </a:lnTo>
                  <a:lnTo>
                    <a:pt x="611" y="299"/>
                  </a:lnTo>
                  <a:lnTo>
                    <a:pt x="610" y="300"/>
                  </a:lnTo>
                  <a:lnTo>
                    <a:pt x="609" y="301"/>
                  </a:lnTo>
                  <a:lnTo>
                    <a:pt x="609" y="302"/>
                  </a:lnTo>
                  <a:lnTo>
                    <a:pt x="600" y="299"/>
                  </a:lnTo>
                  <a:lnTo>
                    <a:pt x="596" y="297"/>
                  </a:lnTo>
                  <a:lnTo>
                    <a:pt x="596" y="296"/>
                  </a:lnTo>
                  <a:lnTo>
                    <a:pt x="593" y="297"/>
                  </a:lnTo>
                  <a:lnTo>
                    <a:pt x="590" y="299"/>
                  </a:lnTo>
                  <a:lnTo>
                    <a:pt x="588" y="299"/>
                  </a:lnTo>
                  <a:lnTo>
                    <a:pt x="588" y="299"/>
                  </a:lnTo>
                  <a:lnTo>
                    <a:pt x="587" y="300"/>
                  </a:lnTo>
                  <a:lnTo>
                    <a:pt x="585" y="304"/>
                  </a:lnTo>
                  <a:lnTo>
                    <a:pt x="584" y="306"/>
                  </a:lnTo>
                  <a:lnTo>
                    <a:pt x="584" y="306"/>
                  </a:lnTo>
                  <a:lnTo>
                    <a:pt x="584" y="307"/>
                  </a:lnTo>
                  <a:lnTo>
                    <a:pt x="584" y="309"/>
                  </a:lnTo>
                  <a:lnTo>
                    <a:pt x="587" y="317"/>
                  </a:lnTo>
                  <a:lnTo>
                    <a:pt x="588" y="324"/>
                  </a:lnTo>
                  <a:lnTo>
                    <a:pt x="589" y="324"/>
                  </a:lnTo>
                  <a:lnTo>
                    <a:pt x="588" y="325"/>
                  </a:lnTo>
                  <a:lnTo>
                    <a:pt x="587" y="328"/>
                  </a:lnTo>
                  <a:lnTo>
                    <a:pt x="586" y="330"/>
                  </a:lnTo>
                  <a:lnTo>
                    <a:pt x="586" y="330"/>
                  </a:lnTo>
                  <a:lnTo>
                    <a:pt x="585" y="331"/>
                  </a:lnTo>
                  <a:lnTo>
                    <a:pt x="581" y="335"/>
                  </a:lnTo>
                  <a:lnTo>
                    <a:pt x="580" y="337"/>
                  </a:lnTo>
                  <a:lnTo>
                    <a:pt x="580" y="337"/>
                  </a:lnTo>
                  <a:lnTo>
                    <a:pt x="579" y="338"/>
                  </a:lnTo>
                  <a:lnTo>
                    <a:pt x="577" y="341"/>
                  </a:lnTo>
                  <a:lnTo>
                    <a:pt x="576" y="342"/>
                  </a:lnTo>
                  <a:lnTo>
                    <a:pt x="576" y="342"/>
                  </a:lnTo>
                  <a:lnTo>
                    <a:pt x="576" y="344"/>
                  </a:lnTo>
                  <a:lnTo>
                    <a:pt x="575" y="351"/>
                  </a:lnTo>
                  <a:lnTo>
                    <a:pt x="575" y="355"/>
                  </a:lnTo>
                  <a:lnTo>
                    <a:pt x="576" y="355"/>
                  </a:lnTo>
                  <a:lnTo>
                    <a:pt x="580" y="358"/>
                  </a:lnTo>
                  <a:lnTo>
                    <a:pt x="584" y="359"/>
                  </a:lnTo>
                  <a:lnTo>
                    <a:pt x="585" y="359"/>
                  </a:lnTo>
                  <a:lnTo>
                    <a:pt x="584" y="361"/>
                  </a:lnTo>
                  <a:lnTo>
                    <a:pt x="584" y="364"/>
                  </a:lnTo>
                  <a:lnTo>
                    <a:pt x="584" y="366"/>
                  </a:lnTo>
                  <a:lnTo>
                    <a:pt x="584" y="366"/>
                  </a:lnTo>
                  <a:lnTo>
                    <a:pt x="583" y="366"/>
                  </a:lnTo>
                  <a:lnTo>
                    <a:pt x="581" y="366"/>
                  </a:lnTo>
                  <a:lnTo>
                    <a:pt x="577" y="366"/>
                  </a:lnTo>
                  <a:lnTo>
                    <a:pt x="574" y="366"/>
                  </a:lnTo>
                  <a:lnTo>
                    <a:pt x="574" y="366"/>
                  </a:lnTo>
                  <a:lnTo>
                    <a:pt x="573" y="366"/>
                  </a:lnTo>
                  <a:lnTo>
                    <a:pt x="572" y="366"/>
                  </a:lnTo>
                  <a:lnTo>
                    <a:pt x="568" y="366"/>
                  </a:lnTo>
                  <a:lnTo>
                    <a:pt x="565" y="366"/>
                  </a:lnTo>
                  <a:lnTo>
                    <a:pt x="565" y="366"/>
                  </a:lnTo>
                  <a:lnTo>
                    <a:pt x="560" y="361"/>
                  </a:lnTo>
                  <a:lnTo>
                    <a:pt x="557" y="358"/>
                  </a:lnTo>
                  <a:lnTo>
                    <a:pt x="557" y="357"/>
                  </a:lnTo>
                  <a:lnTo>
                    <a:pt x="556" y="355"/>
                  </a:lnTo>
                  <a:lnTo>
                    <a:pt x="553" y="352"/>
                  </a:lnTo>
                  <a:lnTo>
                    <a:pt x="552" y="350"/>
                  </a:lnTo>
                  <a:lnTo>
                    <a:pt x="552" y="349"/>
                  </a:lnTo>
                  <a:lnTo>
                    <a:pt x="550" y="350"/>
                  </a:lnTo>
                  <a:lnTo>
                    <a:pt x="545" y="351"/>
                  </a:lnTo>
                  <a:lnTo>
                    <a:pt x="542" y="352"/>
                  </a:lnTo>
                  <a:lnTo>
                    <a:pt x="542" y="352"/>
                  </a:lnTo>
                  <a:lnTo>
                    <a:pt x="541" y="352"/>
                  </a:lnTo>
                  <a:lnTo>
                    <a:pt x="540" y="352"/>
                  </a:lnTo>
                  <a:lnTo>
                    <a:pt x="534" y="350"/>
                  </a:lnTo>
                  <a:lnTo>
                    <a:pt x="531" y="349"/>
                  </a:lnTo>
                  <a:lnTo>
                    <a:pt x="531" y="348"/>
                  </a:lnTo>
                  <a:lnTo>
                    <a:pt x="530" y="349"/>
                  </a:lnTo>
                  <a:lnTo>
                    <a:pt x="527" y="351"/>
                  </a:lnTo>
                  <a:lnTo>
                    <a:pt x="526" y="352"/>
                  </a:lnTo>
                  <a:lnTo>
                    <a:pt x="526" y="352"/>
                  </a:lnTo>
                  <a:lnTo>
                    <a:pt x="526" y="353"/>
                  </a:lnTo>
                  <a:lnTo>
                    <a:pt x="526" y="355"/>
                  </a:lnTo>
                  <a:lnTo>
                    <a:pt x="527" y="362"/>
                  </a:lnTo>
                  <a:lnTo>
                    <a:pt x="527" y="367"/>
                  </a:lnTo>
                  <a:lnTo>
                    <a:pt x="528" y="367"/>
                  </a:lnTo>
                  <a:lnTo>
                    <a:pt x="528" y="369"/>
                  </a:lnTo>
                  <a:lnTo>
                    <a:pt x="528" y="370"/>
                  </a:lnTo>
                  <a:lnTo>
                    <a:pt x="528" y="371"/>
                  </a:lnTo>
                  <a:lnTo>
                    <a:pt x="529" y="371"/>
                  </a:lnTo>
                  <a:lnTo>
                    <a:pt x="528" y="372"/>
                  </a:lnTo>
                  <a:lnTo>
                    <a:pt x="527" y="374"/>
                  </a:lnTo>
                  <a:lnTo>
                    <a:pt x="527" y="375"/>
                  </a:lnTo>
                  <a:lnTo>
                    <a:pt x="530" y="378"/>
                  </a:lnTo>
                  <a:lnTo>
                    <a:pt x="531" y="379"/>
                  </a:lnTo>
                  <a:lnTo>
                    <a:pt x="532" y="379"/>
                  </a:lnTo>
                  <a:lnTo>
                    <a:pt x="533" y="382"/>
                  </a:lnTo>
                  <a:lnTo>
                    <a:pt x="537" y="387"/>
                  </a:lnTo>
                  <a:lnTo>
                    <a:pt x="540" y="392"/>
                  </a:lnTo>
                  <a:lnTo>
                    <a:pt x="541" y="392"/>
                  </a:lnTo>
                  <a:lnTo>
                    <a:pt x="541" y="393"/>
                  </a:lnTo>
                  <a:lnTo>
                    <a:pt x="541" y="394"/>
                  </a:lnTo>
                  <a:lnTo>
                    <a:pt x="542" y="399"/>
                  </a:lnTo>
                  <a:lnTo>
                    <a:pt x="542" y="404"/>
                  </a:lnTo>
                  <a:lnTo>
                    <a:pt x="543" y="404"/>
                  </a:lnTo>
                  <a:lnTo>
                    <a:pt x="541" y="405"/>
                  </a:lnTo>
                  <a:lnTo>
                    <a:pt x="538" y="406"/>
                  </a:lnTo>
                  <a:lnTo>
                    <a:pt x="536" y="406"/>
                  </a:lnTo>
                  <a:lnTo>
                    <a:pt x="536" y="406"/>
                  </a:lnTo>
                  <a:lnTo>
                    <a:pt x="534" y="406"/>
                  </a:lnTo>
                  <a:lnTo>
                    <a:pt x="533" y="406"/>
                  </a:lnTo>
                  <a:lnTo>
                    <a:pt x="533" y="406"/>
                  </a:lnTo>
                  <a:lnTo>
                    <a:pt x="533" y="407"/>
                  </a:lnTo>
                  <a:lnTo>
                    <a:pt x="533" y="409"/>
                  </a:lnTo>
                  <a:lnTo>
                    <a:pt x="533" y="417"/>
                  </a:lnTo>
                  <a:lnTo>
                    <a:pt x="533" y="422"/>
                  </a:lnTo>
                  <a:lnTo>
                    <a:pt x="534" y="422"/>
                  </a:lnTo>
                  <a:lnTo>
                    <a:pt x="533" y="424"/>
                  </a:lnTo>
                  <a:lnTo>
                    <a:pt x="531" y="430"/>
                  </a:lnTo>
                  <a:lnTo>
                    <a:pt x="530" y="434"/>
                  </a:lnTo>
                  <a:lnTo>
                    <a:pt x="530" y="434"/>
                  </a:lnTo>
                  <a:lnTo>
                    <a:pt x="527" y="431"/>
                  </a:lnTo>
                  <a:lnTo>
                    <a:pt x="526" y="430"/>
                  </a:lnTo>
                  <a:lnTo>
                    <a:pt x="526" y="429"/>
                  </a:lnTo>
                  <a:lnTo>
                    <a:pt x="525" y="428"/>
                  </a:lnTo>
                  <a:lnTo>
                    <a:pt x="521" y="424"/>
                  </a:lnTo>
                  <a:lnTo>
                    <a:pt x="520" y="422"/>
                  </a:lnTo>
                  <a:lnTo>
                    <a:pt x="520" y="421"/>
                  </a:lnTo>
                  <a:lnTo>
                    <a:pt x="516" y="418"/>
                  </a:lnTo>
                  <a:lnTo>
                    <a:pt x="514" y="416"/>
                  </a:lnTo>
                  <a:lnTo>
                    <a:pt x="514" y="414"/>
                  </a:lnTo>
                  <a:lnTo>
                    <a:pt x="511" y="412"/>
                  </a:lnTo>
                  <a:lnTo>
                    <a:pt x="508" y="406"/>
                  </a:lnTo>
                  <a:lnTo>
                    <a:pt x="506" y="401"/>
                  </a:lnTo>
                  <a:lnTo>
                    <a:pt x="506" y="400"/>
                  </a:lnTo>
                  <a:lnTo>
                    <a:pt x="504" y="398"/>
                  </a:lnTo>
                  <a:lnTo>
                    <a:pt x="501" y="392"/>
                  </a:lnTo>
                  <a:lnTo>
                    <a:pt x="498" y="386"/>
                  </a:lnTo>
                  <a:lnTo>
                    <a:pt x="498" y="385"/>
                  </a:lnTo>
                  <a:lnTo>
                    <a:pt x="494" y="382"/>
                  </a:lnTo>
                  <a:lnTo>
                    <a:pt x="493" y="379"/>
                  </a:lnTo>
                  <a:lnTo>
                    <a:pt x="493" y="378"/>
                  </a:lnTo>
                  <a:lnTo>
                    <a:pt x="491" y="373"/>
                  </a:lnTo>
                  <a:lnTo>
                    <a:pt x="490" y="370"/>
                  </a:lnTo>
                  <a:lnTo>
                    <a:pt x="490" y="369"/>
                  </a:lnTo>
                  <a:lnTo>
                    <a:pt x="489" y="370"/>
                  </a:lnTo>
                  <a:lnTo>
                    <a:pt x="487" y="370"/>
                  </a:lnTo>
                  <a:lnTo>
                    <a:pt x="486" y="372"/>
                  </a:lnTo>
                  <a:lnTo>
                    <a:pt x="484" y="378"/>
                  </a:lnTo>
                  <a:lnTo>
                    <a:pt x="483" y="383"/>
                  </a:lnTo>
                  <a:lnTo>
                    <a:pt x="483" y="383"/>
                  </a:lnTo>
                  <a:lnTo>
                    <a:pt x="483" y="384"/>
                  </a:lnTo>
                  <a:lnTo>
                    <a:pt x="483" y="386"/>
                  </a:lnTo>
                  <a:lnTo>
                    <a:pt x="483" y="387"/>
                  </a:lnTo>
                  <a:lnTo>
                    <a:pt x="484" y="387"/>
                  </a:lnTo>
                  <a:lnTo>
                    <a:pt x="481" y="388"/>
                  </a:lnTo>
                  <a:lnTo>
                    <a:pt x="480" y="388"/>
                  </a:lnTo>
                  <a:lnTo>
                    <a:pt x="480" y="388"/>
                  </a:lnTo>
                  <a:lnTo>
                    <a:pt x="479" y="389"/>
                  </a:lnTo>
                  <a:lnTo>
                    <a:pt x="478" y="390"/>
                  </a:lnTo>
                  <a:lnTo>
                    <a:pt x="474" y="394"/>
                  </a:lnTo>
                  <a:lnTo>
                    <a:pt x="472" y="397"/>
                  </a:lnTo>
                  <a:lnTo>
                    <a:pt x="472" y="397"/>
                  </a:lnTo>
                  <a:lnTo>
                    <a:pt x="471" y="399"/>
                  </a:lnTo>
                  <a:lnTo>
                    <a:pt x="470" y="402"/>
                  </a:lnTo>
                  <a:lnTo>
                    <a:pt x="470" y="405"/>
                  </a:lnTo>
                  <a:lnTo>
                    <a:pt x="470" y="405"/>
                  </a:lnTo>
                  <a:lnTo>
                    <a:pt x="469" y="405"/>
                  </a:lnTo>
                  <a:lnTo>
                    <a:pt x="466" y="405"/>
                  </a:lnTo>
                  <a:lnTo>
                    <a:pt x="463" y="405"/>
                  </a:lnTo>
                  <a:lnTo>
                    <a:pt x="463" y="405"/>
                  </a:lnTo>
                  <a:lnTo>
                    <a:pt x="462" y="406"/>
                  </a:lnTo>
                  <a:lnTo>
                    <a:pt x="459" y="407"/>
                  </a:lnTo>
                  <a:lnTo>
                    <a:pt x="458" y="408"/>
                  </a:lnTo>
                  <a:lnTo>
                    <a:pt x="458" y="408"/>
                  </a:lnTo>
                  <a:lnTo>
                    <a:pt x="457" y="409"/>
                  </a:lnTo>
                  <a:lnTo>
                    <a:pt x="454" y="418"/>
                  </a:lnTo>
                  <a:lnTo>
                    <a:pt x="451" y="422"/>
                  </a:lnTo>
                  <a:lnTo>
                    <a:pt x="451" y="422"/>
                  </a:lnTo>
                  <a:lnTo>
                    <a:pt x="450" y="425"/>
                  </a:lnTo>
                  <a:lnTo>
                    <a:pt x="450" y="432"/>
                  </a:lnTo>
                  <a:lnTo>
                    <a:pt x="450" y="436"/>
                  </a:lnTo>
                  <a:lnTo>
                    <a:pt x="450" y="436"/>
                  </a:lnTo>
                  <a:lnTo>
                    <a:pt x="451" y="442"/>
                  </a:lnTo>
                  <a:lnTo>
                    <a:pt x="452" y="444"/>
                  </a:lnTo>
                  <a:lnTo>
                    <a:pt x="454" y="444"/>
                  </a:lnTo>
                  <a:lnTo>
                    <a:pt x="454" y="445"/>
                  </a:lnTo>
                  <a:lnTo>
                    <a:pt x="454" y="446"/>
                  </a:lnTo>
                  <a:lnTo>
                    <a:pt x="456" y="452"/>
                  </a:lnTo>
                  <a:lnTo>
                    <a:pt x="457" y="456"/>
                  </a:lnTo>
                  <a:lnTo>
                    <a:pt x="458" y="456"/>
                  </a:lnTo>
                  <a:lnTo>
                    <a:pt x="458" y="457"/>
                  </a:lnTo>
                  <a:lnTo>
                    <a:pt x="458" y="458"/>
                  </a:lnTo>
                  <a:lnTo>
                    <a:pt x="459" y="464"/>
                  </a:lnTo>
                  <a:lnTo>
                    <a:pt x="459" y="467"/>
                  </a:lnTo>
                  <a:lnTo>
                    <a:pt x="460" y="467"/>
                  </a:lnTo>
                  <a:lnTo>
                    <a:pt x="463" y="469"/>
                  </a:lnTo>
                  <a:lnTo>
                    <a:pt x="464" y="469"/>
                  </a:lnTo>
                  <a:lnTo>
                    <a:pt x="466" y="469"/>
                  </a:lnTo>
                  <a:lnTo>
                    <a:pt x="464" y="470"/>
                  </a:lnTo>
                  <a:lnTo>
                    <a:pt x="463" y="474"/>
                  </a:lnTo>
                  <a:lnTo>
                    <a:pt x="462" y="475"/>
                  </a:lnTo>
                  <a:lnTo>
                    <a:pt x="462" y="475"/>
                  </a:lnTo>
                  <a:lnTo>
                    <a:pt x="461" y="476"/>
                  </a:lnTo>
                  <a:lnTo>
                    <a:pt x="460" y="478"/>
                  </a:lnTo>
                  <a:lnTo>
                    <a:pt x="455" y="484"/>
                  </a:lnTo>
                  <a:lnTo>
                    <a:pt x="450" y="489"/>
                  </a:lnTo>
                  <a:lnTo>
                    <a:pt x="450" y="489"/>
                  </a:lnTo>
                  <a:lnTo>
                    <a:pt x="449" y="490"/>
                  </a:lnTo>
                  <a:lnTo>
                    <a:pt x="448" y="491"/>
                  </a:lnTo>
                  <a:lnTo>
                    <a:pt x="445" y="495"/>
                  </a:lnTo>
                  <a:lnTo>
                    <a:pt x="443" y="499"/>
                  </a:lnTo>
                  <a:lnTo>
                    <a:pt x="443" y="499"/>
                  </a:lnTo>
                  <a:lnTo>
                    <a:pt x="441" y="499"/>
                  </a:lnTo>
                  <a:lnTo>
                    <a:pt x="440" y="499"/>
                  </a:lnTo>
                  <a:lnTo>
                    <a:pt x="437" y="499"/>
                  </a:lnTo>
                  <a:lnTo>
                    <a:pt x="434" y="499"/>
                  </a:lnTo>
                  <a:lnTo>
                    <a:pt x="434" y="499"/>
                  </a:lnTo>
                  <a:lnTo>
                    <a:pt x="434" y="501"/>
                  </a:lnTo>
                  <a:lnTo>
                    <a:pt x="433" y="504"/>
                  </a:lnTo>
                  <a:lnTo>
                    <a:pt x="433" y="506"/>
                  </a:lnTo>
                  <a:lnTo>
                    <a:pt x="434" y="506"/>
                  </a:lnTo>
                  <a:lnTo>
                    <a:pt x="433" y="510"/>
                  </a:lnTo>
                  <a:lnTo>
                    <a:pt x="433" y="511"/>
                  </a:lnTo>
                  <a:lnTo>
                    <a:pt x="433" y="511"/>
                  </a:lnTo>
                  <a:lnTo>
                    <a:pt x="432" y="512"/>
                  </a:lnTo>
                  <a:lnTo>
                    <a:pt x="428" y="519"/>
                  </a:lnTo>
                  <a:lnTo>
                    <a:pt x="426" y="524"/>
                  </a:lnTo>
                  <a:lnTo>
                    <a:pt x="426" y="524"/>
                  </a:lnTo>
                  <a:lnTo>
                    <a:pt x="425" y="526"/>
                  </a:lnTo>
                  <a:lnTo>
                    <a:pt x="425" y="530"/>
                  </a:lnTo>
                  <a:lnTo>
                    <a:pt x="425" y="534"/>
                  </a:lnTo>
                  <a:lnTo>
                    <a:pt x="425" y="534"/>
                  </a:lnTo>
                  <a:lnTo>
                    <a:pt x="424" y="536"/>
                  </a:lnTo>
                  <a:lnTo>
                    <a:pt x="423" y="539"/>
                  </a:lnTo>
                  <a:lnTo>
                    <a:pt x="423" y="541"/>
                  </a:lnTo>
                  <a:lnTo>
                    <a:pt x="423" y="541"/>
                  </a:lnTo>
                  <a:lnTo>
                    <a:pt x="422" y="542"/>
                  </a:lnTo>
                  <a:lnTo>
                    <a:pt x="421" y="544"/>
                  </a:lnTo>
                  <a:lnTo>
                    <a:pt x="417" y="548"/>
                  </a:lnTo>
                  <a:lnTo>
                    <a:pt x="414" y="551"/>
                  </a:lnTo>
                  <a:lnTo>
                    <a:pt x="414" y="551"/>
                  </a:lnTo>
                  <a:lnTo>
                    <a:pt x="413" y="552"/>
                  </a:lnTo>
                  <a:lnTo>
                    <a:pt x="412" y="553"/>
                  </a:lnTo>
                  <a:lnTo>
                    <a:pt x="409" y="557"/>
                  </a:lnTo>
                  <a:lnTo>
                    <a:pt x="405" y="560"/>
                  </a:lnTo>
                  <a:lnTo>
                    <a:pt x="405" y="560"/>
                  </a:lnTo>
                  <a:lnTo>
                    <a:pt x="404" y="561"/>
                  </a:lnTo>
                  <a:lnTo>
                    <a:pt x="401" y="564"/>
                  </a:lnTo>
                  <a:lnTo>
                    <a:pt x="400" y="567"/>
                  </a:lnTo>
                  <a:lnTo>
                    <a:pt x="400" y="567"/>
                  </a:lnTo>
                  <a:lnTo>
                    <a:pt x="399" y="568"/>
                  </a:lnTo>
                  <a:lnTo>
                    <a:pt x="396" y="571"/>
                  </a:lnTo>
                  <a:lnTo>
                    <a:pt x="393" y="573"/>
                  </a:lnTo>
                  <a:lnTo>
                    <a:pt x="393" y="573"/>
                  </a:lnTo>
                  <a:lnTo>
                    <a:pt x="392" y="574"/>
                  </a:lnTo>
                  <a:lnTo>
                    <a:pt x="386" y="577"/>
                  </a:lnTo>
                  <a:lnTo>
                    <a:pt x="382" y="580"/>
                  </a:lnTo>
                  <a:lnTo>
                    <a:pt x="382" y="580"/>
                  </a:lnTo>
                  <a:lnTo>
                    <a:pt x="380" y="581"/>
                  </a:lnTo>
                  <a:lnTo>
                    <a:pt x="375" y="583"/>
                  </a:lnTo>
                  <a:lnTo>
                    <a:pt x="370" y="584"/>
                  </a:lnTo>
                  <a:lnTo>
                    <a:pt x="370" y="584"/>
                  </a:lnTo>
                  <a:lnTo>
                    <a:pt x="368" y="585"/>
                  </a:lnTo>
                  <a:lnTo>
                    <a:pt x="362" y="586"/>
                  </a:lnTo>
                  <a:lnTo>
                    <a:pt x="357" y="587"/>
                  </a:lnTo>
                  <a:lnTo>
                    <a:pt x="357" y="587"/>
                  </a:lnTo>
                  <a:lnTo>
                    <a:pt x="356" y="588"/>
                  </a:lnTo>
                  <a:lnTo>
                    <a:pt x="355" y="590"/>
                  </a:lnTo>
                  <a:lnTo>
                    <a:pt x="351" y="593"/>
                  </a:lnTo>
                  <a:lnTo>
                    <a:pt x="347" y="595"/>
                  </a:lnTo>
                  <a:lnTo>
                    <a:pt x="347" y="595"/>
                  </a:lnTo>
                  <a:lnTo>
                    <a:pt x="345" y="596"/>
                  </a:lnTo>
                  <a:lnTo>
                    <a:pt x="342" y="597"/>
                  </a:lnTo>
                  <a:lnTo>
                    <a:pt x="339" y="597"/>
                  </a:lnTo>
                  <a:lnTo>
                    <a:pt x="339" y="597"/>
                  </a:lnTo>
                  <a:lnTo>
                    <a:pt x="335" y="598"/>
                  </a:lnTo>
                  <a:lnTo>
                    <a:pt x="329" y="599"/>
                  </a:lnTo>
                  <a:lnTo>
                    <a:pt x="325" y="599"/>
                  </a:lnTo>
                  <a:lnTo>
                    <a:pt x="325" y="599"/>
                  </a:lnTo>
                  <a:lnTo>
                    <a:pt x="323" y="600"/>
                  </a:lnTo>
                  <a:lnTo>
                    <a:pt x="317" y="604"/>
                  </a:lnTo>
                  <a:lnTo>
                    <a:pt x="313" y="606"/>
                  </a:lnTo>
                  <a:lnTo>
                    <a:pt x="313" y="606"/>
                  </a:lnTo>
                  <a:lnTo>
                    <a:pt x="311" y="606"/>
                  </a:lnTo>
                  <a:lnTo>
                    <a:pt x="310" y="606"/>
                  </a:lnTo>
                  <a:lnTo>
                    <a:pt x="306" y="605"/>
                  </a:lnTo>
                  <a:lnTo>
                    <a:pt x="303" y="604"/>
                  </a:lnTo>
                  <a:lnTo>
                    <a:pt x="303" y="603"/>
                  </a:lnTo>
                  <a:lnTo>
                    <a:pt x="299" y="604"/>
                  </a:lnTo>
                  <a:lnTo>
                    <a:pt x="293" y="605"/>
                  </a:lnTo>
                  <a:lnTo>
                    <a:pt x="288" y="605"/>
                  </a:lnTo>
                  <a:lnTo>
                    <a:pt x="288" y="605"/>
                  </a:lnTo>
                  <a:lnTo>
                    <a:pt x="287" y="606"/>
                  </a:lnTo>
                  <a:lnTo>
                    <a:pt x="286" y="607"/>
                  </a:lnTo>
                  <a:lnTo>
                    <a:pt x="283" y="610"/>
                  </a:lnTo>
                  <a:lnTo>
                    <a:pt x="281" y="614"/>
                  </a:lnTo>
                  <a:lnTo>
                    <a:pt x="281" y="614"/>
                  </a:lnTo>
                  <a:lnTo>
                    <a:pt x="280" y="615"/>
                  </a:lnTo>
                  <a:lnTo>
                    <a:pt x="279" y="617"/>
                  </a:lnTo>
                  <a:lnTo>
                    <a:pt x="272" y="623"/>
                  </a:lnTo>
                  <a:lnTo>
                    <a:pt x="268" y="628"/>
                  </a:lnTo>
                  <a:lnTo>
                    <a:pt x="268" y="628"/>
                  </a:lnTo>
                  <a:lnTo>
                    <a:pt x="265" y="629"/>
                  </a:lnTo>
                  <a:lnTo>
                    <a:pt x="261" y="630"/>
                  </a:lnTo>
                  <a:lnTo>
                    <a:pt x="258" y="630"/>
                  </a:lnTo>
                  <a:lnTo>
                    <a:pt x="258" y="630"/>
                  </a:lnTo>
                  <a:lnTo>
                    <a:pt x="256" y="631"/>
                  </a:lnTo>
                  <a:lnTo>
                    <a:pt x="250" y="632"/>
                  </a:lnTo>
                  <a:lnTo>
                    <a:pt x="247" y="632"/>
                  </a:lnTo>
                  <a:lnTo>
                    <a:pt x="247" y="632"/>
                  </a:lnTo>
                  <a:lnTo>
                    <a:pt x="246" y="633"/>
                  </a:lnTo>
                  <a:lnTo>
                    <a:pt x="240" y="635"/>
                  </a:lnTo>
                  <a:lnTo>
                    <a:pt x="237" y="637"/>
                  </a:lnTo>
                  <a:lnTo>
                    <a:pt x="237" y="637"/>
                  </a:lnTo>
                  <a:lnTo>
                    <a:pt x="236" y="638"/>
                  </a:lnTo>
                  <a:lnTo>
                    <a:pt x="231" y="641"/>
                  </a:lnTo>
                  <a:lnTo>
                    <a:pt x="227" y="643"/>
                  </a:lnTo>
                  <a:lnTo>
                    <a:pt x="227" y="643"/>
                  </a:lnTo>
                  <a:lnTo>
                    <a:pt x="226" y="644"/>
                  </a:lnTo>
                  <a:lnTo>
                    <a:pt x="225" y="645"/>
                  </a:lnTo>
                  <a:lnTo>
                    <a:pt x="221" y="651"/>
                  </a:lnTo>
                  <a:lnTo>
                    <a:pt x="217" y="654"/>
                  </a:lnTo>
                  <a:lnTo>
                    <a:pt x="217" y="654"/>
                  </a:lnTo>
                  <a:lnTo>
                    <a:pt x="215" y="655"/>
                  </a:lnTo>
                  <a:lnTo>
                    <a:pt x="212" y="656"/>
                  </a:lnTo>
                  <a:lnTo>
                    <a:pt x="209" y="657"/>
                  </a:lnTo>
                  <a:lnTo>
                    <a:pt x="209" y="657"/>
                  </a:lnTo>
                  <a:lnTo>
                    <a:pt x="208" y="658"/>
                  </a:lnTo>
                  <a:lnTo>
                    <a:pt x="203" y="660"/>
                  </a:lnTo>
                  <a:lnTo>
                    <a:pt x="201" y="661"/>
                  </a:lnTo>
                  <a:lnTo>
                    <a:pt x="201" y="661"/>
                  </a:lnTo>
                  <a:lnTo>
                    <a:pt x="200" y="661"/>
                  </a:lnTo>
                  <a:lnTo>
                    <a:pt x="199" y="661"/>
                  </a:lnTo>
                  <a:lnTo>
                    <a:pt x="193" y="661"/>
                  </a:lnTo>
                  <a:lnTo>
                    <a:pt x="189" y="661"/>
                  </a:lnTo>
                  <a:lnTo>
                    <a:pt x="189" y="661"/>
                  </a:lnTo>
                  <a:lnTo>
                    <a:pt x="188" y="661"/>
                  </a:lnTo>
                  <a:lnTo>
                    <a:pt x="187" y="661"/>
                  </a:lnTo>
                  <a:lnTo>
                    <a:pt x="184" y="661"/>
                  </a:lnTo>
                  <a:lnTo>
                    <a:pt x="180" y="661"/>
                  </a:lnTo>
                  <a:lnTo>
                    <a:pt x="180" y="660"/>
                  </a:lnTo>
                  <a:lnTo>
                    <a:pt x="179" y="660"/>
                  </a:lnTo>
                  <a:lnTo>
                    <a:pt x="178" y="660"/>
                  </a:lnTo>
                  <a:lnTo>
                    <a:pt x="175" y="660"/>
                  </a:lnTo>
                  <a:lnTo>
                    <a:pt x="173" y="660"/>
                  </a:lnTo>
                  <a:lnTo>
                    <a:pt x="173" y="660"/>
                  </a:lnTo>
                  <a:lnTo>
                    <a:pt x="171" y="660"/>
                  </a:lnTo>
                  <a:lnTo>
                    <a:pt x="170" y="660"/>
                  </a:lnTo>
                  <a:lnTo>
                    <a:pt x="166" y="660"/>
                  </a:lnTo>
                  <a:lnTo>
                    <a:pt x="163" y="660"/>
                  </a:lnTo>
                  <a:lnTo>
                    <a:pt x="163" y="660"/>
                  </a:lnTo>
                  <a:lnTo>
                    <a:pt x="161" y="658"/>
                  </a:lnTo>
                  <a:lnTo>
                    <a:pt x="159" y="657"/>
                  </a:lnTo>
                  <a:lnTo>
                    <a:pt x="158" y="658"/>
                  </a:lnTo>
                  <a:lnTo>
                    <a:pt x="157" y="660"/>
                  </a:lnTo>
                  <a:lnTo>
                    <a:pt x="157" y="660"/>
                  </a:lnTo>
                  <a:lnTo>
                    <a:pt x="156" y="661"/>
                  </a:lnTo>
                  <a:lnTo>
                    <a:pt x="152" y="663"/>
                  </a:lnTo>
                  <a:lnTo>
                    <a:pt x="150" y="664"/>
                  </a:lnTo>
                  <a:lnTo>
                    <a:pt x="150" y="664"/>
                  </a:lnTo>
                  <a:lnTo>
                    <a:pt x="149" y="665"/>
                  </a:lnTo>
                  <a:lnTo>
                    <a:pt x="147" y="666"/>
                  </a:lnTo>
                  <a:lnTo>
                    <a:pt x="143" y="670"/>
                  </a:lnTo>
                  <a:lnTo>
                    <a:pt x="140" y="674"/>
                  </a:lnTo>
                  <a:lnTo>
                    <a:pt x="140" y="674"/>
                  </a:lnTo>
                  <a:lnTo>
                    <a:pt x="139" y="675"/>
                  </a:lnTo>
                  <a:lnTo>
                    <a:pt x="135" y="678"/>
                  </a:lnTo>
                  <a:lnTo>
                    <a:pt x="133" y="679"/>
                  </a:lnTo>
                  <a:lnTo>
                    <a:pt x="133" y="679"/>
                  </a:lnTo>
                  <a:lnTo>
                    <a:pt x="132" y="680"/>
                  </a:lnTo>
                  <a:lnTo>
                    <a:pt x="129" y="684"/>
                  </a:lnTo>
                  <a:lnTo>
                    <a:pt x="128" y="685"/>
                  </a:lnTo>
                  <a:lnTo>
                    <a:pt x="128" y="685"/>
                  </a:lnTo>
                  <a:lnTo>
                    <a:pt x="127" y="686"/>
                  </a:lnTo>
                  <a:lnTo>
                    <a:pt x="122" y="688"/>
                  </a:lnTo>
                  <a:lnTo>
                    <a:pt x="120" y="689"/>
                  </a:lnTo>
                  <a:lnTo>
                    <a:pt x="120" y="689"/>
                  </a:lnTo>
                  <a:lnTo>
                    <a:pt x="119" y="690"/>
                  </a:lnTo>
                  <a:lnTo>
                    <a:pt x="116" y="692"/>
                  </a:lnTo>
                  <a:lnTo>
                    <a:pt x="114" y="693"/>
                  </a:lnTo>
                  <a:lnTo>
                    <a:pt x="114" y="693"/>
                  </a:lnTo>
                  <a:lnTo>
                    <a:pt x="112" y="696"/>
                  </a:lnTo>
                  <a:lnTo>
                    <a:pt x="110" y="701"/>
                  </a:lnTo>
                  <a:lnTo>
                    <a:pt x="109" y="705"/>
                  </a:lnTo>
                  <a:lnTo>
                    <a:pt x="109" y="705"/>
                  </a:lnTo>
                  <a:lnTo>
                    <a:pt x="108" y="707"/>
                  </a:lnTo>
                  <a:lnTo>
                    <a:pt x="104" y="710"/>
                  </a:lnTo>
                  <a:lnTo>
                    <a:pt x="102" y="711"/>
                  </a:lnTo>
                  <a:lnTo>
                    <a:pt x="102" y="711"/>
                  </a:lnTo>
                  <a:lnTo>
                    <a:pt x="100" y="712"/>
                  </a:lnTo>
                  <a:lnTo>
                    <a:pt x="97" y="716"/>
                  </a:lnTo>
                  <a:lnTo>
                    <a:pt x="95" y="720"/>
                  </a:lnTo>
                  <a:lnTo>
                    <a:pt x="95" y="720"/>
                  </a:lnTo>
                  <a:lnTo>
                    <a:pt x="94" y="722"/>
                  </a:lnTo>
                  <a:lnTo>
                    <a:pt x="93" y="725"/>
                  </a:lnTo>
                  <a:lnTo>
                    <a:pt x="92" y="728"/>
                  </a:lnTo>
                  <a:lnTo>
                    <a:pt x="92" y="728"/>
                  </a:lnTo>
                  <a:lnTo>
                    <a:pt x="89" y="730"/>
                  </a:lnTo>
                  <a:lnTo>
                    <a:pt x="84" y="732"/>
                  </a:lnTo>
                  <a:lnTo>
                    <a:pt x="80" y="733"/>
                  </a:lnTo>
                  <a:lnTo>
                    <a:pt x="80" y="733"/>
                  </a:lnTo>
                  <a:lnTo>
                    <a:pt x="77" y="734"/>
                  </a:lnTo>
                  <a:lnTo>
                    <a:pt x="74" y="735"/>
                  </a:lnTo>
                  <a:lnTo>
                    <a:pt x="72" y="735"/>
                  </a:lnTo>
                  <a:lnTo>
                    <a:pt x="72" y="735"/>
                  </a:lnTo>
                  <a:lnTo>
                    <a:pt x="71" y="736"/>
                  </a:lnTo>
                  <a:lnTo>
                    <a:pt x="68" y="740"/>
                  </a:lnTo>
                  <a:lnTo>
                    <a:pt x="65" y="744"/>
                  </a:lnTo>
                  <a:lnTo>
                    <a:pt x="65" y="744"/>
                  </a:lnTo>
                  <a:lnTo>
                    <a:pt x="61" y="746"/>
                  </a:lnTo>
                  <a:lnTo>
                    <a:pt x="60" y="746"/>
                  </a:lnTo>
                  <a:lnTo>
                    <a:pt x="60" y="746"/>
                  </a:lnTo>
                  <a:lnTo>
                    <a:pt x="59" y="747"/>
                  </a:lnTo>
                  <a:lnTo>
                    <a:pt x="55" y="750"/>
                  </a:lnTo>
                  <a:lnTo>
                    <a:pt x="51" y="751"/>
                  </a:lnTo>
                  <a:lnTo>
                    <a:pt x="51" y="751"/>
                  </a:lnTo>
                  <a:lnTo>
                    <a:pt x="50" y="753"/>
                  </a:lnTo>
                  <a:lnTo>
                    <a:pt x="47" y="756"/>
                  </a:lnTo>
                  <a:lnTo>
                    <a:pt x="45" y="757"/>
                  </a:lnTo>
                  <a:lnTo>
                    <a:pt x="45" y="757"/>
                  </a:lnTo>
                  <a:lnTo>
                    <a:pt x="44" y="759"/>
                  </a:lnTo>
                  <a:lnTo>
                    <a:pt x="42" y="763"/>
                  </a:lnTo>
                  <a:lnTo>
                    <a:pt x="41" y="767"/>
                  </a:lnTo>
                  <a:lnTo>
                    <a:pt x="41" y="767"/>
                  </a:lnTo>
                  <a:lnTo>
                    <a:pt x="40" y="768"/>
                  </a:lnTo>
                  <a:lnTo>
                    <a:pt x="39" y="772"/>
                  </a:lnTo>
                  <a:lnTo>
                    <a:pt x="38" y="774"/>
                  </a:lnTo>
                  <a:lnTo>
                    <a:pt x="38" y="774"/>
                  </a:lnTo>
                  <a:lnTo>
                    <a:pt x="37" y="778"/>
                  </a:lnTo>
                  <a:lnTo>
                    <a:pt x="36" y="784"/>
                  </a:lnTo>
                  <a:lnTo>
                    <a:pt x="36" y="789"/>
                  </a:lnTo>
                  <a:lnTo>
                    <a:pt x="36" y="789"/>
                  </a:lnTo>
                  <a:lnTo>
                    <a:pt x="35" y="790"/>
                  </a:lnTo>
                  <a:lnTo>
                    <a:pt x="34" y="791"/>
                  </a:lnTo>
                  <a:lnTo>
                    <a:pt x="30" y="794"/>
                  </a:lnTo>
                  <a:lnTo>
                    <a:pt x="28" y="797"/>
                  </a:lnTo>
                  <a:lnTo>
                    <a:pt x="28" y="797"/>
                  </a:lnTo>
                  <a:lnTo>
                    <a:pt x="27" y="797"/>
                  </a:lnTo>
                  <a:lnTo>
                    <a:pt x="24" y="797"/>
                  </a:lnTo>
                  <a:lnTo>
                    <a:pt x="22" y="797"/>
                  </a:lnTo>
                  <a:lnTo>
                    <a:pt x="22" y="797"/>
                  </a:lnTo>
                  <a:lnTo>
                    <a:pt x="22" y="794"/>
                  </a:lnTo>
                  <a:lnTo>
                    <a:pt x="22" y="792"/>
                  </a:lnTo>
                  <a:lnTo>
                    <a:pt x="23" y="791"/>
                  </a:lnTo>
                  <a:lnTo>
                    <a:pt x="23" y="790"/>
                  </a:lnTo>
                  <a:lnTo>
                    <a:pt x="22" y="786"/>
                  </a:lnTo>
                  <a:lnTo>
                    <a:pt x="22" y="784"/>
                  </a:lnTo>
                  <a:lnTo>
                    <a:pt x="23" y="783"/>
                  </a:lnTo>
                  <a:lnTo>
                    <a:pt x="21" y="782"/>
                  </a:lnTo>
                  <a:lnTo>
                    <a:pt x="20" y="781"/>
                  </a:lnTo>
                  <a:lnTo>
                    <a:pt x="18" y="778"/>
                  </a:lnTo>
                  <a:lnTo>
                    <a:pt x="18" y="777"/>
                  </a:lnTo>
                  <a:lnTo>
                    <a:pt x="20" y="775"/>
                  </a:lnTo>
                  <a:lnTo>
                    <a:pt x="21" y="774"/>
                  </a:lnTo>
                  <a:lnTo>
                    <a:pt x="22" y="772"/>
                  </a:lnTo>
                  <a:lnTo>
                    <a:pt x="22" y="769"/>
                  </a:lnTo>
                  <a:lnTo>
                    <a:pt x="21" y="765"/>
                  </a:lnTo>
                  <a:lnTo>
                    <a:pt x="21" y="762"/>
                  </a:lnTo>
                  <a:lnTo>
                    <a:pt x="21" y="761"/>
                  </a:lnTo>
                  <a:lnTo>
                    <a:pt x="20" y="757"/>
                  </a:lnTo>
                  <a:lnTo>
                    <a:pt x="20" y="754"/>
                  </a:lnTo>
                  <a:lnTo>
                    <a:pt x="20" y="753"/>
                  </a:lnTo>
                  <a:lnTo>
                    <a:pt x="18" y="754"/>
                  </a:lnTo>
                  <a:lnTo>
                    <a:pt x="15" y="757"/>
                  </a:lnTo>
                  <a:lnTo>
                    <a:pt x="14" y="759"/>
                  </a:lnTo>
                  <a:lnTo>
                    <a:pt x="14" y="759"/>
                  </a:lnTo>
                  <a:lnTo>
                    <a:pt x="13" y="760"/>
                  </a:lnTo>
                  <a:lnTo>
                    <a:pt x="12" y="762"/>
                  </a:lnTo>
                  <a:lnTo>
                    <a:pt x="11" y="763"/>
                  </a:lnTo>
                  <a:lnTo>
                    <a:pt x="11" y="763"/>
                  </a:lnTo>
                  <a:lnTo>
                    <a:pt x="10" y="767"/>
                  </a:lnTo>
                  <a:lnTo>
                    <a:pt x="7" y="773"/>
                  </a:lnTo>
                  <a:lnTo>
                    <a:pt x="6" y="779"/>
                  </a:lnTo>
                  <a:lnTo>
                    <a:pt x="6" y="779"/>
                  </a:lnTo>
                  <a:lnTo>
                    <a:pt x="5" y="780"/>
                  </a:lnTo>
                  <a:lnTo>
                    <a:pt x="3" y="785"/>
                  </a:lnTo>
                  <a:lnTo>
                    <a:pt x="2" y="789"/>
                  </a:lnTo>
                  <a:lnTo>
                    <a:pt x="2" y="789"/>
                  </a:lnTo>
                  <a:lnTo>
                    <a:pt x="2" y="791"/>
                  </a:lnTo>
                  <a:lnTo>
                    <a:pt x="1" y="797"/>
                  </a:lnTo>
                  <a:lnTo>
                    <a:pt x="1" y="802"/>
                  </a:lnTo>
                  <a:lnTo>
                    <a:pt x="2" y="802"/>
                  </a:lnTo>
                  <a:lnTo>
                    <a:pt x="1" y="804"/>
                  </a:lnTo>
                  <a:lnTo>
                    <a:pt x="0" y="809"/>
                  </a:lnTo>
                  <a:lnTo>
                    <a:pt x="0" y="813"/>
                  </a:lnTo>
                  <a:lnTo>
                    <a:pt x="0" y="813"/>
                  </a:lnTo>
                  <a:lnTo>
                    <a:pt x="1" y="815"/>
                  </a:lnTo>
                  <a:lnTo>
                    <a:pt x="5" y="820"/>
                  </a:lnTo>
                  <a:lnTo>
                    <a:pt x="9" y="824"/>
                  </a:lnTo>
                  <a:lnTo>
                    <a:pt x="10" y="824"/>
                  </a:lnTo>
                  <a:lnTo>
                    <a:pt x="10" y="825"/>
                  </a:lnTo>
                  <a:lnTo>
                    <a:pt x="10" y="826"/>
                  </a:lnTo>
                  <a:lnTo>
                    <a:pt x="11" y="829"/>
                  </a:lnTo>
                  <a:lnTo>
                    <a:pt x="11" y="831"/>
                  </a:lnTo>
                  <a:lnTo>
                    <a:pt x="12" y="831"/>
                  </a:lnTo>
                  <a:lnTo>
                    <a:pt x="12" y="835"/>
                  </a:lnTo>
                  <a:lnTo>
                    <a:pt x="11" y="841"/>
                  </a:lnTo>
                  <a:lnTo>
                    <a:pt x="11" y="845"/>
                  </a:lnTo>
                  <a:lnTo>
                    <a:pt x="12" y="845"/>
                  </a:lnTo>
                  <a:lnTo>
                    <a:pt x="12" y="847"/>
                  </a:lnTo>
                  <a:lnTo>
                    <a:pt x="12" y="848"/>
                  </a:lnTo>
                  <a:lnTo>
                    <a:pt x="13" y="851"/>
                  </a:lnTo>
                  <a:lnTo>
                    <a:pt x="13" y="853"/>
                  </a:lnTo>
                  <a:lnTo>
                    <a:pt x="14" y="853"/>
                  </a:lnTo>
                  <a:lnTo>
                    <a:pt x="14" y="855"/>
                  </a:lnTo>
                  <a:lnTo>
                    <a:pt x="13" y="860"/>
                  </a:lnTo>
                  <a:lnTo>
                    <a:pt x="13" y="863"/>
                  </a:lnTo>
                  <a:lnTo>
                    <a:pt x="14" y="863"/>
                  </a:lnTo>
                  <a:lnTo>
                    <a:pt x="13" y="866"/>
                  </a:lnTo>
                  <a:lnTo>
                    <a:pt x="13" y="875"/>
                  </a:lnTo>
                  <a:lnTo>
                    <a:pt x="13" y="882"/>
                  </a:lnTo>
                  <a:lnTo>
                    <a:pt x="13" y="882"/>
                  </a:lnTo>
                  <a:lnTo>
                    <a:pt x="12" y="883"/>
                  </a:lnTo>
                  <a:lnTo>
                    <a:pt x="11" y="884"/>
                  </a:lnTo>
                  <a:lnTo>
                    <a:pt x="7" y="887"/>
                  </a:lnTo>
                  <a:lnTo>
                    <a:pt x="4" y="889"/>
                  </a:lnTo>
                  <a:lnTo>
                    <a:pt x="4" y="889"/>
                  </a:lnTo>
                  <a:lnTo>
                    <a:pt x="4" y="889"/>
                  </a:lnTo>
                  <a:close/>
                </a:path>
              </a:pathLst>
            </a:custGeom>
            <a:noFill/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84920" y="5140440"/>
              <a:ext cx="7200" cy="1764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15" y="0"/>
                  </a:moveTo>
                  <a:lnTo>
                    <a:pt x="15" y="1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12"/>
                  </a:lnTo>
                  <a:lnTo>
                    <a:pt x="20" y="15"/>
                  </a:lnTo>
                  <a:lnTo>
                    <a:pt x="21" y="15"/>
                  </a:lnTo>
                  <a:lnTo>
                    <a:pt x="20" y="19"/>
                  </a:lnTo>
                  <a:lnTo>
                    <a:pt x="19" y="25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8" y="32"/>
                  </a:lnTo>
                  <a:lnTo>
                    <a:pt x="17" y="34"/>
                  </a:lnTo>
                  <a:lnTo>
                    <a:pt x="11" y="44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4" y="55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3" y="57"/>
                  </a:lnTo>
                  <a:lnTo>
                    <a:pt x="2" y="57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1" y="55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1" y="21"/>
                  </a:lnTo>
                  <a:lnTo>
                    <a:pt x="13" y="16"/>
                  </a:lnTo>
                  <a:lnTo>
                    <a:pt x="14" y="13"/>
                  </a:lnTo>
                  <a:lnTo>
                    <a:pt x="15" y="12"/>
                  </a:lnTo>
                  <a:lnTo>
                    <a:pt x="14" y="8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44880" y="5411520"/>
              <a:ext cx="5760" cy="216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2"/>
                  </a:moveTo>
                  <a:lnTo>
                    <a:pt x="1" y="2"/>
                  </a:lnTo>
                  <a:lnTo>
                    <a:pt x="7" y="2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4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44000" y="4922640"/>
              <a:ext cx="10440" cy="1044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4" y="4"/>
                  </a:moveTo>
                  <a:lnTo>
                    <a:pt x="4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8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3" y="14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4" y="22"/>
                  </a:lnTo>
                  <a:lnTo>
                    <a:pt x="24" y="25"/>
                  </a:lnTo>
                  <a:lnTo>
                    <a:pt x="24" y="27"/>
                  </a:lnTo>
                  <a:lnTo>
                    <a:pt x="25" y="27"/>
                  </a:lnTo>
                  <a:lnTo>
                    <a:pt x="26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7" y="31"/>
                  </a:lnTo>
                  <a:lnTo>
                    <a:pt x="23" y="34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7" y="35"/>
                  </a:lnTo>
                  <a:lnTo>
                    <a:pt x="11" y="35"/>
                  </a:lnTo>
                  <a:lnTo>
                    <a:pt x="6" y="35"/>
                  </a:lnTo>
                  <a:lnTo>
                    <a:pt x="6" y="34"/>
                  </a:lnTo>
                  <a:lnTo>
                    <a:pt x="5" y="33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0" y="13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844000" y="4876560"/>
              <a:ext cx="4680" cy="72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" y="25"/>
                  </a:moveTo>
                  <a:lnTo>
                    <a:pt x="0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6" y="5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2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05760" y="4879080"/>
              <a:ext cx="25560" cy="1152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2" y="5"/>
                  </a:move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1" y="11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31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6" y="8"/>
                  </a:lnTo>
                  <a:lnTo>
                    <a:pt x="48" y="7"/>
                  </a:lnTo>
                  <a:lnTo>
                    <a:pt x="49" y="5"/>
                  </a:lnTo>
                  <a:lnTo>
                    <a:pt x="53" y="2"/>
                  </a:lnTo>
                  <a:lnTo>
                    <a:pt x="55" y="1"/>
                  </a:lnTo>
                  <a:lnTo>
                    <a:pt x="56" y="0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2"/>
                  </a:lnTo>
                  <a:lnTo>
                    <a:pt x="65" y="7"/>
                  </a:lnTo>
                  <a:lnTo>
                    <a:pt x="66" y="9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67" y="12"/>
                  </a:lnTo>
                  <a:lnTo>
                    <a:pt x="67" y="13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8" y="17"/>
                  </a:lnTo>
                  <a:lnTo>
                    <a:pt x="68" y="20"/>
                  </a:lnTo>
                  <a:lnTo>
                    <a:pt x="69" y="20"/>
                  </a:lnTo>
                  <a:lnTo>
                    <a:pt x="68" y="21"/>
                  </a:lnTo>
                  <a:lnTo>
                    <a:pt x="65" y="23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3" y="25"/>
                  </a:lnTo>
                  <a:lnTo>
                    <a:pt x="60" y="28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58" y="31"/>
                  </a:lnTo>
                  <a:lnTo>
                    <a:pt x="56" y="32"/>
                  </a:lnTo>
                  <a:lnTo>
                    <a:pt x="49" y="37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3" y="40"/>
                  </a:lnTo>
                  <a:lnTo>
                    <a:pt x="42" y="40"/>
                  </a:lnTo>
                  <a:lnTo>
                    <a:pt x="38" y="40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1" y="37"/>
                  </a:lnTo>
                  <a:lnTo>
                    <a:pt x="29" y="36"/>
                  </a:lnTo>
                  <a:lnTo>
                    <a:pt x="29" y="35"/>
                  </a:lnTo>
                  <a:lnTo>
                    <a:pt x="21" y="32"/>
                  </a:lnTo>
                  <a:lnTo>
                    <a:pt x="18" y="31"/>
                  </a:lnTo>
                  <a:lnTo>
                    <a:pt x="18" y="29"/>
                  </a:lnTo>
                  <a:lnTo>
                    <a:pt x="13" y="27"/>
                  </a:lnTo>
                  <a:lnTo>
                    <a:pt x="11" y="26"/>
                  </a:lnTo>
                  <a:lnTo>
                    <a:pt x="11" y="25"/>
                  </a:lnTo>
                  <a:lnTo>
                    <a:pt x="10" y="24"/>
                  </a:lnTo>
                  <a:lnTo>
                    <a:pt x="9" y="21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2" y="9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99640" y="4882320"/>
              <a:ext cx="10440" cy="82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" y="27"/>
                  </a:move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5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6" y="13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7" y="23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4" y="25"/>
                  </a:lnTo>
                  <a:lnTo>
                    <a:pt x="18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9" y="26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05920" y="4972320"/>
              <a:ext cx="13320" cy="576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28" y="3"/>
                  </a:moveTo>
                  <a:lnTo>
                    <a:pt x="31" y="8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6"/>
                  </a:lnTo>
                  <a:lnTo>
                    <a:pt x="18" y="18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3" y="21"/>
                  </a:lnTo>
                  <a:lnTo>
                    <a:pt x="8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3" y="9"/>
                  </a:lnTo>
                  <a:lnTo>
                    <a:pt x="5" y="7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8" y="3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42920" y="5318280"/>
              <a:ext cx="28440" cy="8280"/>
            </a:xfrm>
            <a:custGeom>
              <a:avLst/>
              <a:gdLst/>
              <a:ahLst/>
              <a:rect l="l" t="t" r="r" b="b"/>
              <a:pathLst>
                <a:path w="78" h="31">
                  <a:moveTo>
                    <a:pt x="3" y="11"/>
                  </a:moveTo>
                  <a:lnTo>
                    <a:pt x="4" y="11"/>
                  </a:lnTo>
                  <a:lnTo>
                    <a:pt x="10" y="9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9" y="3"/>
                  </a:lnTo>
                  <a:lnTo>
                    <a:pt x="50" y="3"/>
                  </a:lnTo>
                  <a:lnTo>
                    <a:pt x="51" y="3"/>
                  </a:lnTo>
                  <a:lnTo>
                    <a:pt x="51" y="4"/>
                  </a:lnTo>
                  <a:lnTo>
                    <a:pt x="51" y="8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6" y="12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2" y="13"/>
                  </a:lnTo>
                  <a:lnTo>
                    <a:pt x="65" y="13"/>
                  </a:lnTo>
                  <a:lnTo>
                    <a:pt x="66" y="13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2" y="13"/>
                  </a:lnTo>
                  <a:lnTo>
                    <a:pt x="73" y="13"/>
                  </a:lnTo>
                  <a:lnTo>
                    <a:pt x="76" y="19"/>
                  </a:lnTo>
                  <a:lnTo>
                    <a:pt x="77" y="22"/>
                  </a:lnTo>
                  <a:lnTo>
                    <a:pt x="78" y="22"/>
                  </a:lnTo>
                  <a:lnTo>
                    <a:pt x="77" y="22"/>
                  </a:lnTo>
                  <a:lnTo>
                    <a:pt x="76" y="22"/>
                  </a:lnTo>
                  <a:lnTo>
                    <a:pt x="71" y="21"/>
                  </a:lnTo>
                  <a:lnTo>
                    <a:pt x="68" y="21"/>
                  </a:lnTo>
                  <a:lnTo>
                    <a:pt x="68" y="20"/>
                  </a:lnTo>
                  <a:lnTo>
                    <a:pt x="66" y="21"/>
                  </a:lnTo>
                  <a:lnTo>
                    <a:pt x="60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5" y="25"/>
                  </a:lnTo>
                  <a:lnTo>
                    <a:pt x="54" y="26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7" y="31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2" y="30"/>
                  </a:lnTo>
                  <a:lnTo>
                    <a:pt x="38" y="29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1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1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5" y="27"/>
                  </a:lnTo>
                  <a:lnTo>
                    <a:pt x="10" y="27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1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41640" y="5401080"/>
              <a:ext cx="7200" cy="936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0"/>
                  </a:moveTo>
                  <a:lnTo>
                    <a:pt x="8" y="2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7"/>
                  </a:lnTo>
                  <a:lnTo>
                    <a:pt x="19" y="22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19" y="30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2" y="33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8" y="29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7" y="19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984400" y="5414040"/>
              <a:ext cx="61560" cy="52920"/>
            </a:xfrm>
            <a:custGeom>
              <a:avLst/>
              <a:gdLst/>
              <a:ahLst/>
              <a:rect l="l" t="t" r="r" b="b"/>
              <a:pathLst>
                <a:path w="165" h="183">
                  <a:moveTo>
                    <a:pt x="3" y="20"/>
                  </a:moveTo>
                  <a:lnTo>
                    <a:pt x="2" y="22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7" y="50"/>
                  </a:lnTo>
                  <a:lnTo>
                    <a:pt x="7" y="51"/>
                  </a:lnTo>
                  <a:lnTo>
                    <a:pt x="7" y="54"/>
                  </a:lnTo>
                  <a:lnTo>
                    <a:pt x="10" y="61"/>
                  </a:lnTo>
                  <a:lnTo>
                    <a:pt x="11" y="67"/>
                  </a:lnTo>
                  <a:lnTo>
                    <a:pt x="12" y="67"/>
                  </a:lnTo>
                  <a:lnTo>
                    <a:pt x="12" y="68"/>
                  </a:lnTo>
                  <a:lnTo>
                    <a:pt x="12" y="69"/>
                  </a:lnTo>
                  <a:lnTo>
                    <a:pt x="14" y="74"/>
                  </a:lnTo>
                  <a:lnTo>
                    <a:pt x="15" y="78"/>
                  </a:lnTo>
                  <a:lnTo>
                    <a:pt x="17" y="78"/>
                  </a:lnTo>
                  <a:lnTo>
                    <a:pt x="17" y="79"/>
                  </a:lnTo>
                  <a:lnTo>
                    <a:pt x="17" y="80"/>
                  </a:lnTo>
                  <a:lnTo>
                    <a:pt x="18" y="83"/>
                  </a:lnTo>
                  <a:lnTo>
                    <a:pt x="19" y="86"/>
                  </a:lnTo>
                  <a:lnTo>
                    <a:pt x="20" y="86"/>
                  </a:lnTo>
                  <a:lnTo>
                    <a:pt x="22" y="92"/>
                  </a:lnTo>
                  <a:lnTo>
                    <a:pt x="23" y="95"/>
                  </a:lnTo>
                  <a:lnTo>
                    <a:pt x="24" y="95"/>
                  </a:lnTo>
                  <a:lnTo>
                    <a:pt x="27" y="98"/>
                  </a:lnTo>
                  <a:lnTo>
                    <a:pt x="30" y="100"/>
                  </a:lnTo>
                  <a:lnTo>
                    <a:pt x="31" y="100"/>
                  </a:lnTo>
                  <a:lnTo>
                    <a:pt x="30" y="101"/>
                  </a:lnTo>
                  <a:lnTo>
                    <a:pt x="29" y="102"/>
                  </a:lnTo>
                  <a:lnTo>
                    <a:pt x="25" y="106"/>
                  </a:lnTo>
                  <a:lnTo>
                    <a:pt x="23" y="109"/>
                  </a:lnTo>
                  <a:lnTo>
                    <a:pt x="23" y="109"/>
                  </a:lnTo>
                  <a:lnTo>
                    <a:pt x="22" y="108"/>
                  </a:lnTo>
                  <a:lnTo>
                    <a:pt x="20" y="104"/>
                  </a:lnTo>
                  <a:lnTo>
                    <a:pt x="19" y="101"/>
                  </a:lnTo>
                  <a:lnTo>
                    <a:pt x="19" y="100"/>
                  </a:lnTo>
                  <a:lnTo>
                    <a:pt x="17" y="94"/>
                  </a:lnTo>
                  <a:lnTo>
                    <a:pt x="15" y="91"/>
                  </a:lnTo>
                  <a:lnTo>
                    <a:pt x="15" y="90"/>
                  </a:lnTo>
                  <a:lnTo>
                    <a:pt x="15" y="91"/>
                  </a:lnTo>
                  <a:lnTo>
                    <a:pt x="15" y="92"/>
                  </a:lnTo>
                  <a:lnTo>
                    <a:pt x="15" y="97"/>
                  </a:lnTo>
                  <a:lnTo>
                    <a:pt x="15" y="101"/>
                  </a:lnTo>
                  <a:lnTo>
                    <a:pt x="17" y="101"/>
                  </a:lnTo>
                  <a:lnTo>
                    <a:pt x="17" y="102"/>
                  </a:lnTo>
                  <a:lnTo>
                    <a:pt x="17" y="105"/>
                  </a:lnTo>
                  <a:lnTo>
                    <a:pt x="19" y="117"/>
                  </a:lnTo>
                  <a:lnTo>
                    <a:pt x="20" y="126"/>
                  </a:lnTo>
                  <a:lnTo>
                    <a:pt x="21" y="126"/>
                  </a:lnTo>
                  <a:lnTo>
                    <a:pt x="22" y="130"/>
                  </a:lnTo>
                  <a:lnTo>
                    <a:pt x="23" y="132"/>
                  </a:lnTo>
                  <a:lnTo>
                    <a:pt x="24" y="132"/>
                  </a:lnTo>
                  <a:lnTo>
                    <a:pt x="25" y="135"/>
                  </a:lnTo>
                  <a:lnTo>
                    <a:pt x="26" y="136"/>
                  </a:lnTo>
                  <a:lnTo>
                    <a:pt x="29" y="138"/>
                  </a:lnTo>
                  <a:lnTo>
                    <a:pt x="30" y="138"/>
                  </a:lnTo>
                  <a:lnTo>
                    <a:pt x="31" y="143"/>
                  </a:lnTo>
                  <a:lnTo>
                    <a:pt x="32" y="146"/>
                  </a:lnTo>
                  <a:lnTo>
                    <a:pt x="33" y="146"/>
                  </a:lnTo>
                  <a:lnTo>
                    <a:pt x="33" y="147"/>
                  </a:lnTo>
                  <a:lnTo>
                    <a:pt x="33" y="148"/>
                  </a:lnTo>
                  <a:lnTo>
                    <a:pt x="35" y="153"/>
                  </a:lnTo>
                  <a:lnTo>
                    <a:pt x="36" y="156"/>
                  </a:lnTo>
                  <a:lnTo>
                    <a:pt x="37" y="156"/>
                  </a:lnTo>
                  <a:lnTo>
                    <a:pt x="38" y="158"/>
                  </a:lnTo>
                  <a:lnTo>
                    <a:pt x="42" y="160"/>
                  </a:lnTo>
                  <a:lnTo>
                    <a:pt x="44" y="161"/>
                  </a:lnTo>
                  <a:lnTo>
                    <a:pt x="45" y="161"/>
                  </a:lnTo>
                  <a:lnTo>
                    <a:pt x="49" y="162"/>
                  </a:lnTo>
                  <a:lnTo>
                    <a:pt x="52" y="162"/>
                  </a:lnTo>
                  <a:lnTo>
                    <a:pt x="53" y="162"/>
                  </a:lnTo>
                  <a:lnTo>
                    <a:pt x="52" y="163"/>
                  </a:lnTo>
                  <a:lnTo>
                    <a:pt x="49" y="165"/>
                  </a:lnTo>
                  <a:lnTo>
                    <a:pt x="48" y="166"/>
                  </a:lnTo>
                  <a:lnTo>
                    <a:pt x="48" y="166"/>
                  </a:lnTo>
                  <a:lnTo>
                    <a:pt x="44" y="168"/>
                  </a:lnTo>
                  <a:lnTo>
                    <a:pt x="43" y="168"/>
                  </a:lnTo>
                  <a:lnTo>
                    <a:pt x="43" y="168"/>
                  </a:lnTo>
                  <a:lnTo>
                    <a:pt x="43" y="170"/>
                  </a:lnTo>
                  <a:lnTo>
                    <a:pt x="44" y="173"/>
                  </a:lnTo>
                  <a:lnTo>
                    <a:pt x="44" y="174"/>
                  </a:lnTo>
                  <a:lnTo>
                    <a:pt x="45" y="174"/>
                  </a:lnTo>
                  <a:lnTo>
                    <a:pt x="46" y="174"/>
                  </a:lnTo>
                  <a:lnTo>
                    <a:pt x="49" y="174"/>
                  </a:lnTo>
                  <a:lnTo>
                    <a:pt x="52" y="174"/>
                  </a:lnTo>
                  <a:lnTo>
                    <a:pt x="53" y="174"/>
                  </a:lnTo>
                  <a:lnTo>
                    <a:pt x="54" y="175"/>
                  </a:lnTo>
                  <a:lnTo>
                    <a:pt x="57" y="177"/>
                  </a:lnTo>
                  <a:lnTo>
                    <a:pt x="60" y="178"/>
                  </a:lnTo>
                  <a:lnTo>
                    <a:pt x="61" y="178"/>
                  </a:lnTo>
                  <a:lnTo>
                    <a:pt x="64" y="177"/>
                  </a:lnTo>
                  <a:lnTo>
                    <a:pt x="66" y="176"/>
                  </a:lnTo>
                  <a:lnTo>
                    <a:pt x="69" y="178"/>
                  </a:lnTo>
                  <a:lnTo>
                    <a:pt x="70" y="178"/>
                  </a:lnTo>
                  <a:lnTo>
                    <a:pt x="71" y="178"/>
                  </a:lnTo>
                  <a:lnTo>
                    <a:pt x="72" y="182"/>
                  </a:lnTo>
                  <a:lnTo>
                    <a:pt x="73" y="183"/>
                  </a:lnTo>
                  <a:lnTo>
                    <a:pt x="74" y="183"/>
                  </a:lnTo>
                  <a:lnTo>
                    <a:pt x="78" y="183"/>
                  </a:lnTo>
                  <a:lnTo>
                    <a:pt x="79" y="183"/>
                  </a:lnTo>
                  <a:lnTo>
                    <a:pt x="80" y="182"/>
                  </a:lnTo>
                  <a:lnTo>
                    <a:pt x="83" y="178"/>
                  </a:lnTo>
                  <a:lnTo>
                    <a:pt x="85" y="177"/>
                  </a:lnTo>
                  <a:lnTo>
                    <a:pt x="87" y="176"/>
                  </a:lnTo>
                  <a:lnTo>
                    <a:pt x="87" y="175"/>
                  </a:lnTo>
                  <a:lnTo>
                    <a:pt x="88" y="172"/>
                  </a:lnTo>
                  <a:lnTo>
                    <a:pt x="88" y="170"/>
                  </a:lnTo>
                  <a:lnTo>
                    <a:pt x="89" y="168"/>
                  </a:lnTo>
                  <a:lnTo>
                    <a:pt x="89" y="167"/>
                  </a:lnTo>
                  <a:lnTo>
                    <a:pt x="90" y="164"/>
                  </a:lnTo>
                  <a:lnTo>
                    <a:pt x="90" y="162"/>
                  </a:lnTo>
                  <a:lnTo>
                    <a:pt x="91" y="161"/>
                  </a:lnTo>
                  <a:lnTo>
                    <a:pt x="92" y="159"/>
                  </a:lnTo>
                  <a:lnTo>
                    <a:pt x="93" y="158"/>
                  </a:lnTo>
                  <a:lnTo>
                    <a:pt x="94" y="156"/>
                  </a:lnTo>
                  <a:lnTo>
                    <a:pt x="97" y="159"/>
                  </a:lnTo>
                  <a:lnTo>
                    <a:pt x="99" y="159"/>
                  </a:lnTo>
                  <a:lnTo>
                    <a:pt x="100" y="159"/>
                  </a:lnTo>
                  <a:lnTo>
                    <a:pt x="100" y="160"/>
                  </a:lnTo>
                  <a:lnTo>
                    <a:pt x="101" y="163"/>
                  </a:lnTo>
                  <a:lnTo>
                    <a:pt x="101" y="164"/>
                  </a:lnTo>
                  <a:lnTo>
                    <a:pt x="102" y="164"/>
                  </a:lnTo>
                  <a:lnTo>
                    <a:pt x="103" y="160"/>
                  </a:lnTo>
                  <a:lnTo>
                    <a:pt x="104" y="158"/>
                  </a:lnTo>
                  <a:lnTo>
                    <a:pt x="105" y="156"/>
                  </a:lnTo>
                  <a:lnTo>
                    <a:pt x="108" y="154"/>
                  </a:lnTo>
                  <a:lnTo>
                    <a:pt x="111" y="153"/>
                  </a:lnTo>
                  <a:lnTo>
                    <a:pt x="112" y="152"/>
                  </a:lnTo>
                  <a:lnTo>
                    <a:pt x="114" y="150"/>
                  </a:lnTo>
                  <a:lnTo>
                    <a:pt x="115" y="149"/>
                  </a:lnTo>
                  <a:lnTo>
                    <a:pt x="116" y="148"/>
                  </a:lnTo>
                  <a:lnTo>
                    <a:pt x="115" y="144"/>
                  </a:lnTo>
                  <a:lnTo>
                    <a:pt x="115" y="142"/>
                  </a:lnTo>
                  <a:lnTo>
                    <a:pt x="116" y="141"/>
                  </a:lnTo>
                  <a:lnTo>
                    <a:pt x="117" y="140"/>
                  </a:lnTo>
                  <a:lnTo>
                    <a:pt x="118" y="138"/>
                  </a:lnTo>
                  <a:lnTo>
                    <a:pt x="119" y="139"/>
                  </a:lnTo>
                  <a:lnTo>
                    <a:pt x="123" y="140"/>
                  </a:lnTo>
                  <a:lnTo>
                    <a:pt x="125" y="141"/>
                  </a:lnTo>
                  <a:lnTo>
                    <a:pt x="126" y="141"/>
                  </a:lnTo>
                  <a:lnTo>
                    <a:pt x="129" y="142"/>
                  </a:lnTo>
                  <a:lnTo>
                    <a:pt x="130" y="142"/>
                  </a:lnTo>
                  <a:lnTo>
                    <a:pt x="131" y="142"/>
                  </a:lnTo>
                  <a:lnTo>
                    <a:pt x="134" y="141"/>
                  </a:lnTo>
                  <a:lnTo>
                    <a:pt x="135" y="140"/>
                  </a:lnTo>
                  <a:lnTo>
                    <a:pt x="136" y="139"/>
                  </a:lnTo>
                  <a:lnTo>
                    <a:pt x="136" y="137"/>
                  </a:lnTo>
                  <a:lnTo>
                    <a:pt x="137" y="130"/>
                  </a:lnTo>
                  <a:lnTo>
                    <a:pt x="138" y="125"/>
                  </a:lnTo>
                  <a:lnTo>
                    <a:pt x="139" y="124"/>
                  </a:lnTo>
                  <a:lnTo>
                    <a:pt x="140" y="124"/>
                  </a:lnTo>
                  <a:lnTo>
                    <a:pt x="141" y="124"/>
                  </a:lnTo>
                  <a:lnTo>
                    <a:pt x="142" y="123"/>
                  </a:lnTo>
                  <a:lnTo>
                    <a:pt x="142" y="121"/>
                  </a:lnTo>
                  <a:lnTo>
                    <a:pt x="143" y="116"/>
                  </a:lnTo>
                  <a:lnTo>
                    <a:pt x="143" y="113"/>
                  </a:lnTo>
                  <a:lnTo>
                    <a:pt x="144" y="112"/>
                  </a:lnTo>
                  <a:lnTo>
                    <a:pt x="148" y="107"/>
                  </a:lnTo>
                  <a:lnTo>
                    <a:pt x="149" y="105"/>
                  </a:lnTo>
                  <a:lnTo>
                    <a:pt x="150" y="104"/>
                  </a:lnTo>
                  <a:lnTo>
                    <a:pt x="153" y="101"/>
                  </a:lnTo>
                  <a:lnTo>
                    <a:pt x="154" y="98"/>
                  </a:lnTo>
                  <a:lnTo>
                    <a:pt x="155" y="97"/>
                  </a:lnTo>
                  <a:lnTo>
                    <a:pt x="155" y="94"/>
                  </a:lnTo>
                  <a:lnTo>
                    <a:pt x="155" y="93"/>
                  </a:lnTo>
                  <a:lnTo>
                    <a:pt x="156" y="92"/>
                  </a:lnTo>
                  <a:lnTo>
                    <a:pt x="156" y="93"/>
                  </a:lnTo>
                  <a:lnTo>
                    <a:pt x="158" y="96"/>
                  </a:lnTo>
                  <a:lnTo>
                    <a:pt x="158" y="98"/>
                  </a:lnTo>
                  <a:lnTo>
                    <a:pt x="159" y="98"/>
                  </a:lnTo>
                  <a:lnTo>
                    <a:pt x="158" y="101"/>
                  </a:lnTo>
                  <a:lnTo>
                    <a:pt x="158" y="104"/>
                  </a:lnTo>
                  <a:lnTo>
                    <a:pt x="158" y="106"/>
                  </a:lnTo>
                  <a:lnTo>
                    <a:pt x="158" y="106"/>
                  </a:lnTo>
                  <a:lnTo>
                    <a:pt x="158" y="108"/>
                  </a:lnTo>
                  <a:lnTo>
                    <a:pt x="156" y="112"/>
                  </a:lnTo>
                  <a:lnTo>
                    <a:pt x="156" y="114"/>
                  </a:lnTo>
                  <a:lnTo>
                    <a:pt x="158" y="114"/>
                  </a:lnTo>
                  <a:lnTo>
                    <a:pt x="158" y="113"/>
                  </a:lnTo>
                  <a:lnTo>
                    <a:pt x="159" y="108"/>
                  </a:lnTo>
                  <a:lnTo>
                    <a:pt x="159" y="105"/>
                  </a:lnTo>
                  <a:lnTo>
                    <a:pt x="160" y="104"/>
                  </a:lnTo>
                  <a:lnTo>
                    <a:pt x="159" y="101"/>
                  </a:lnTo>
                  <a:lnTo>
                    <a:pt x="159" y="100"/>
                  </a:lnTo>
                  <a:lnTo>
                    <a:pt x="160" y="98"/>
                  </a:lnTo>
                  <a:lnTo>
                    <a:pt x="160" y="96"/>
                  </a:lnTo>
                  <a:lnTo>
                    <a:pt x="159" y="90"/>
                  </a:lnTo>
                  <a:lnTo>
                    <a:pt x="159" y="85"/>
                  </a:lnTo>
                  <a:lnTo>
                    <a:pt x="160" y="84"/>
                  </a:lnTo>
                  <a:lnTo>
                    <a:pt x="160" y="82"/>
                  </a:lnTo>
                  <a:lnTo>
                    <a:pt x="161" y="74"/>
                  </a:lnTo>
                  <a:lnTo>
                    <a:pt x="161" y="69"/>
                  </a:lnTo>
                  <a:lnTo>
                    <a:pt x="162" y="68"/>
                  </a:lnTo>
                  <a:lnTo>
                    <a:pt x="162" y="67"/>
                  </a:lnTo>
                  <a:lnTo>
                    <a:pt x="163" y="63"/>
                  </a:lnTo>
                  <a:lnTo>
                    <a:pt x="164" y="60"/>
                  </a:lnTo>
                  <a:lnTo>
                    <a:pt x="165" y="59"/>
                  </a:lnTo>
                  <a:lnTo>
                    <a:pt x="165" y="58"/>
                  </a:lnTo>
                  <a:lnTo>
                    <a:pt x="164" y="55"/>
                  </a:lnTo>
                  <a:lnTo>
                    <a:pt x="164" y="51"/>
                  </a:lnTo>
                  <a:lnTo>
                    <a:pt x="165" y="50"/>
                  </a:lnTo>
                  <a:lnTo>
                    <a:pt x="165" y="48"/>
                  </a:lnTo>
                  <a:lnTo>
                    <a:pt x="164" y="39"/>
                  </a:lnTo>
                  <a:lnTo>
                    <a:pt x="164" y="33"/>
                  </a:lnTo>
                  <a:lnTo>
                    <a:pt x="165" y="32"/>
                  </a:lnTo>
                  <a:lnTo>
                    <a:pt x="164" y="31"/>
                  </a:lnTo>
                  <a:lnTo>
                    <a:pt x="161" y="26"/>
                  </a:lnTo>
                  <a:lnTo>
                    <a:pt x="159" y="23"/>
                  </a:lnTo>
                  <a:lnTo>
                    <a:pt x="159" y="22"/>
                  </a:lnTo>
                  <a:lnTo>
                    <a:pt x="154" y="20"/>
                  </a:lnTo>
                  <a:lnTo>
                    <a:pt x="152" y="19"/>
                  </a:lnTo>
                  <a:lnTo>
                    <a:pt x="152" y="18"/>
                  </a:lnTo>
                  <a:lnTo>
                    <a:pt x="151" y="19"/>
                  </a:lnTo>
                  <a:lnTo>
                    <a:pt x="149" y="23"/>
                  </a:lnTo>
                  <a:lnTo>
                    <a:pt x="148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3" y="25"/>
                  </a:lnTo>
                  <a:lnTo>
                    <a:pt x="142" y="25"/>
                  </a:lnTo>
                  <a:lnTo>
                    <a:pt x="142" y="24"/>
                  </a:lnTo>
                  <a:lnTo>
                    <a:pt x="138" y="22"/>
                  </a:lnTo>
                  <a:lnTo>
                    <a:pt x="137" y="21"/>
                  </a:lnTo>
                  <a:lnTo>
                    <a:pt x="137" y="20"/>
                  </a:lnTo>
                  <a:lnTo>
                    <a:pt x="136" y="21"/>
                  </a:lnTo>
                  <a:lnTo>
                    <a:pt x="135" y="22"/>
                  </a:lnTo>
                  <a:lnTo>
                    <a:pt x="130" y="26"/>
                  </a:lnTo>
                  <a:lnTo>
                    <a:pt x="127" y="30"/>
                  </a:lnTo>
                  <a:lnTo>
                    <a:pt x="127" y="30"/>
                  </a:lnTo>
                  <a:lnTo>
                    <a:pt x="126" y="30"/>
                  </a:lnTo>
                  <a:lnTo>
                    <a:pt x="125" y="30"/>
                  </a:lnTo>
                  <a:lnTo>
                    <a:pt x="120" y="30"/>
                  </a:lnTo>
                  <a:lnTo>
                    <a:pt x="117" y="30"/>
                  </a:lnTo>
                  <a:lnTo>
                    <a:pt x="117" y="30"/>
                  </a:lnTo>
                  <a:lnTo>
                    <a:pt x="116" y="30"/>
                  </a:lnTo>
                  <a:lnTo>
                    <a:pt x="115" y="30"/>
                  </a:lnTo>
                  <a:lnTo>
                    <a:pt x="112" y="30"/>
                  </a:lnTo>
                  <a:lnTo>
                    <a:pt x="108" y="30"/>
                  </a:lnTo>
                  <a:lnTo>
                    <a:pt x="108" y="28"/>
                  </a:lnTo>
                  <a:lnTo>
                    <a:pt x="106" y="30"/>
                  </a:lnTo>
                  <a:lnTo>
                    <a:pt x="103" y="31"/>
                  </a:lnTo>
                  <a:lnTo>
                    <a:pt x="100" y="32"/>
                  </a:lnTo>
                  <a:lnTo>
                    <a:pt x="100" y="32"/>
                  </a:lnTo>
                  <a:lnTo>
                    <a:pt x="95" y="34"/>
                  </a:lnTo>
                  <a:lnTo>
                    <a:pt x="93" y="34"/>
                  </a:lnTo>
                  <a:lnTo>
                    <a:pt x="93" y="34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9" y="36"/>
                  </a:lnTo>
                  <a:lnTo>
                    <a:pt x="88" y="36"/>
                  </a:lnTo>
                  <a:lnTo>
                    <a:pt x="85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3" y="36"/>
                  </a:lnTo>
                  <a:lnTo>
                    <a:pt x="81" y="36"/>
                  </a:lnTo>
                  <a:lnTo>
                    <a:pt x="73" y="35"/>
                  </a:lnTo>
                  <a:lnTo>
                    <a:pt x="68" y="34"/>
                  </a:lnTo>
                  <a:lnTo>
                    <a:pt x="68" y="33"/>
                  </a:lnTo>
                  <a:lnTo>
                    <a:pt x="67" y="33"/>
                  </a:lnTo>
                  <a:lnTo>
                    <a:pt x="66" y="33"/>
                  </a:lnTo>
                  <a:lnTo>
                    <a:pt x="61" y="32"/>
                  </a:lnTo>
                  <a:lnTo>
                    <a:pt x="58" y="32"/>
                  </a:lnTo>
                  <a:lnTo>
                    <a:pt x="58" y="31"/>
                  </a:lnTo>
                  <a:lnTo>
                    <a:pt x="56" y="30"/>
                  </a:lnTo>
                  <a:lnTo>
                    <a:pt x="53" y="26"/>
                  </a:lnTo>
                  <a:lnTo>
                    <a:pt x="49" y="23"/>
                  </a:lnTo>
                  <a:lnTo>
                    <a:pt x="49" y="22"/>
                  </a:lnTo>
                  <a:lnTo>
                    <a:pt x="47" y="21"/>
                  </a:lnTo>
                  <a:lnTo>
                    <a:pt x="43" y="18"/>
                  </a:lnTo>
                  <a:lnTo>
                    <a:pt x="39" y="15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9" y="9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2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054160" y="3576600"/>
            <a:ext cx="341280" cy="695520"/>
          </a:xfrm>
          <a:custGeom>
            <a:avLst/>
            <a:gdLst/>
            <a:ahLst/>
            <a:rect l="l" t="t" r="r" b="b"/>
            <a:pathLst>
              <a:path w="1192" h="2542">
                <a:moveTo>
                  <a:pt x="845" y="2449"/>
                </a:moveTo>
                <a:lnTo>
                  <a:pt x="848" y="2439"/>
                </a:lnTo>
                <a:lnTo>
                  <a:pt x="855" y="2419"/>
                </a:lnTo>
                <a:lnTo>
                  <a:pt x="869" y="2380"/>
                </a:lnTo>
                <a:lnTo>
                  <a:pt x="874" y="2338"/>
                </a:lnTo>
                <a:lnTo>
                  <a:pt x="872" y="2326"/>
                </a:lnTo>
                <a:lnTo>
                  <a:pt x="865" y="2330"/>
                </a:lnTo>
                <a:lnTo>
                  <a:pt x="850" y="2335"/>
                </a:lnTo>
                <a:lnTo>
                  <a:pt x="837" y="2338"/>
                </a:lnTo>
                <a:lnTo>
                  <a:pt x="811" y="2345"/>
                </a:lnTo>
                <a:lnTo>
                  <a:pt x="795" y="2361"/>
                </a:lnTo>
                <a:lnTo>
                  <a:pt x="798" y="2352"/>
                </a:lnTo>
                <a:lnTo>
                  <a:pt x="808" y="2336"/>
                </a:lnTo>
                <a:lnTo>
                  <a:pt x="821" y="2322"/>
                </a:lnTo>
                <a:lnTo>
                  <a:pt x="850" y="2297"/>
                </a:lnTo>
                <a:lnTo>
                  <a:pt x="871" y="2274"/>
                </a:lnTo>
                <a:lnTo>
                  <a:pt x="869" y="2271"/>
                </a:lnTo>
                <a:lnTo>
                  <a:pt x="868" y="2268"/>
                </a:lnTo>
                <a:lnTo>
                  <a:pt x="866" y="2264"/>
                </a:lnTo>
                <a:lnTo>
                  <a:pt x="863" y="2255"/>
                </a:lnTo>
                <a:lnTo>
                  <a:pt x="865" y="2249"/>
                </a:lnTo>
                <a:lnTo>
                  <a:pt x="861" y="2251"/>
                </a:lnTo>
                <a:lnTo>
                  <a:pt x="858" y="2249"/>
                </a:lnTo>
                <a:lnTo>
                  <a:pt x="855" y="2248"/>
                </a:lnTo>
                <a:lnTo>
                  <a:pt x="852" y="2246"/>
                </a:lnTo>
                <a:lnTo>
                  <a:pt x="848" y="2242"/>
                </a:lnTo>
                <a:lnTo>
                  <a:pt x="842" y="2239"/>
                </a:lnTo>
                <a:lnTo>
                  <a:pt x="836" y="2238"/>
                </a:lnTo>
                <a:lnTo>
                  <a:pt x="830" y="2240"/>
                </a:lnTo>
                <a:lnTo>
                  <a:pt x="830" y="2240"/>
                </a:lnTo>
                <a:lnTo>
                  <a:pt x="832" y="2238"/>
                </a:lnTo>
                <a:lnTo>
                  <a:pt x="832" y="2236"/>
                </a:lnTo>
                <a:lnTo>
                  <a:pt x="830" y="2233"/>
                </a:lnTo>
                <a:lnTo>
                  <a:pt x="827" y="2232"/>
                </a:lnTo>
                <a:lnTo>
                  <a:pt x="824" y="2230"/>
                </a:lnTo>
                <a:lnTo>
                  <a:pt x="819" y="2227"/>
                </a:lnTo>
                <a:lnTo>
                  <a:pt x="817" y="2220"/>
                </a:lnTo>
                <a:lnTo>
                  <a:pt x="821" y="2216"/>
                </a:lnTo>
                <a:lnTo>
                  <a:pt x="823" y="2216"/>
                </a:lnTo>
                <a:lnTo>
                  <a:pt x="824" y="2216"/>
                </a:lnTo>
                <a:lnTo>
                  <a:pt x="829" y="2216"/>
                </a:lnTo>
                <a:lnTo>
                  <a:pt x="833" y="2214"/>
                </a:lnTo>
                <a:lnTo>
                  <a:pt x="836" y="2213"/>
                </a:lnTo>
                <a:lnTo>
                  <a:pt x="842" y="2200"/>
                </a:lnTo>
                <a:lnTo>
                  <a:pt x="848" y="2172"/>
                </a:lnTo>
                <a:lnTo>
                  <a:pt x="846" y="2143"/>
                </a:lnTo>
                <a:lnTo>
                  <a:pt x="840" y="2117"/>
                </a:lnTo>
                <a:lnTo>
                  <a:pt x="829" y="2091"/>
                </a:lnTo>
                <a:lnTo>
                  <a:pt x="813" y="2070"/>
                </a:lnTo>
                <a:lnTo>
                  <a:pt x="804" y="2058"/>
                </a:lnTo>
                <a:lnTo>
                  <a:pt x="803" y="2062"/>
                </a:lnTo>
                <a:lnTo>
                  <a:pt x="800" y="2070"/>
                </a:lnTo>
                <a:lnTo>
                  <a:pt x="791" y="2083"/>
                </a:lnTo>
                <a:lnTo>
                  <a:pt x="781" y="2091"/>
                </a:lnTo>
                <a:lnTo>
                  <a:pt x="778" y="2093"/>
                </a:lnTo>
                <a:lnTo>
                  <a:pt x="779" y="2081"/>
                </a:lnTo>
                <a:lnTo>
                  <a:pt x="784" y="2056"/>
                </a:lnTo>
                <a:lnTo>
                  <a:pt x="788" y="2007"/>
                </a:lnTo>
                <a:lnTo>
                  <a:pt x="785" y="1959"/>
                </a:lnTo>
                <a:lnTo>
                  <a:pt x="784" y="1946"/>
                </a:lnTo>
                <a:lnTo>
                  <a:pt x="781" y="1943"/>
                </a:lnTo>
                <a:lnTo>
                  <a:pt x="777" y="1936"/>
                </a:lnTo>
                <a:lnTo>
                  <a:pt x="771" y="1930"/>
                </a:lnTo>
                <a:lnTo>
                  <a:pt x="759" y="1916"/>
                </a:lnTo>
                <a:lnTo>
                  <a:pt x="753" y="1903"/>
                </a:lnTo>
                <a:lnTo>
                  <a:pt x="749" y="1890"/>
                </a:lnTo>
                <a:lnTo>
                  <a:pt x="743" y="1862"/>
                </a:lnTo>
                <a:lnTo>
                  <a:pt x="737" y="1807"/>
                </a:lnTo>
                <a:lnTo>
                  <a:pt x="732" y="1752"/>
                </a:lnTo>
                <a:lnTo>
                  <a:pt x="729" y="1738"/>
                </a:lnTo>
                <a:lnTo>
                  <a:pt x="727" y="1733"/>
                </a:lnTo>
                <a:lnTo>
                  <a:pt x="727" y="1722"/>
                </a:lnTo>
                <a:lnTo>
                  <a:pt x="729" y="1710"/>
                </a:lnTo>
                <a:lnTo>
                  <a:pt x="736" y="1687"/>
                </a:lnTo>
                <a:lnTo>
                  <a:pt x="743" y="1670"/>
                </a:lnTo>
                <a:lnTo>
                  <a:pt x="737" y="1672"/>
                </a:lnTo>
                <a:lnTo>
                  <a:pt x="727" y="1675"/>
                </a:lnTo>
                <a:lnTo>
                  <a:pt x="708" y="1681"/>
                </a:lnTo>
                <a:lnTo>
                  <a:pt x="698" y="1681"/>
                </a:lnTo>
                <a:lnTo>
                  <a:pt x="688" y="1678"/>
                </a:lnTo>
                <a:lnTo>
                  <a:pt x="684" y="1675"/>
                </a:lnTo>
                <a:lnTo>
                  <a:pt x="675" y="1670"/>
                </a:lnTo>
                <a:lnTo>
                  <a:pt x="664" y="1654"/>
                </a:lnTo>
                <a:lnTo>
                  <a:pt x="658" y="1636"/>
                </a:lnTo>
                <a:lnTo>
                  <a:pt x="658" y="1617"/>
                </a:lnTo>
                <a:lnTo>
                  <a:pt x="664" y="1600"/>
                </a:lnTo>
                <a:lnTo>
                  <a:pt x="675" y="1583"/>
                </a:lnTo>
                <a:lnTo>
                  <a:pt x="682" y="1574"/>
                </a:lnTo>
                <a:lnTo>
                  <a:pt x="681" y="1578"/>
                </a:lnTo>
                <a:lnTo>
                  <a:pt x="677" y="1586"/>
                </a:lnTo>
                <a:lnTo>
                  <a:pt x="671" y="1590"/>
                </a:lnTo>
                <a:lnTo>
                  <a:pt x="665" y="1593"/>
                </a:lnTo>
                <a:lnTo>
                  <a:pt x="658" y="1593"/>
                </a:lnTo>
                <a:lnTo>
                  <a:pt x="652" y="1591"/>
                </a:lnTo>
                <a:lnTo>
                  <a:pt x="649" y="1588"/>
                </a:lnTo>
                <a:lnTo>
                  <a:pt x="646" y="1587"/>
                </a:lnTo>
                <a:lnTo>
                  <a:pt x="643" y="1584"/>
                </a:lnTo>
                <a:lnTo>
                  <a:pt x="642" y="1581"/>
                </a:lnTo>
                <a:lnTo>
                  <a:pt x="640" y="1574"/>
                </a:lnTo>
                <a:lnTo>
                  <a:pt x="639" y="1567"/>
                </a:lnTo>
                <a:lnTo>
                  <a:pt x="636" y="1559"/>
                </a:lnTo>
                <a:lnTo>
                  <a:pt x="632" y="1552"/>
                </a:lnTo>
                <a:lnTo>
                  <a:pt x="630" y="1548"/>
                </a:lnTo>
                <a:lnTo>
                  <a:pt x="632" y="1552"/>
                </a:lnTo>
                <a:lnTo>
                  <a:pt x="636" y="1561"/>
                </a:lnTo>
                <a:lnTo>
                  <a:pt x="645" y="1578"/>
                </a:lnTo>
                <a:lnTo>
                  <a:pt x="648" y="1587"/>
                </a:lnTo>
                <a:lnTo>
                  <a:pt x="646" y="1596"/>
                </a:lnTo>
                <a:lnTo>
                  <a:pt x="645" y="1599"/>
                </a:lnTo>
                <a:lnTo>
                  <a:pt x="640" y="1604"/>
                </a:lnTo>
                <a:lnTo>
                  <a:pt x="635" y="1615"/>
                </a:lnTo>
                <a:lnTo>
                  <a:pt x="624" y="1633"/>
                </a:lnTo>
                <a:lnTo>
                  <a:pt x="620" y="1654"/>
                </a:lnTo>
                <a:lnTo>
                  <a:pt x="621" y="1659"/>
                </a:lnTo>
                <a:lnTo>
                  <a:pt x="611" y="1662"/>
                </a:lnTo>
                <a:lnTo>
                  <a:pt x="604" y="1665"/>
                </a:lnTo>
                <a:lnTo>
                  <a:pt x="588" y="1674"/>
                </a:lnTo>
                <a:lnTo>
                  <a:pt x="574" y="1686"/>
                </a:lnTo>
                <a:lnTo>
                  <a:pt x="561" y="1694"/>
                </a:lnTo>
                <a:lnTo>
                  <a:pt x="545" y="1699"/>
                </a:lnTo>
                <a:lnTo>
                  <a:pt x="527" y="1694"/>
                </a:lnTo>
                <a:lnTo>
                  <a:pt x="527" y="1694"/>
                </a:lnTo>
                <a:lnTo>
                  <a:pt x="526" y="1693"/>
                </a:lnTo>
                <a:lnTo>
                  <a:pt x="526" y="1691"/>
                </a:lnTo>
                <a:lnTo>
                  <a:pt x="526" y="1690"/>
                </a:lnTo>
                <a:lnTo>
                  <a:pt x="526" y="1686"/>
                </a:lnTo>
                <a:lnTo>
                  <a:pt x="526" y="1681"/>
                </a:lnTo>
                <a:lnTo>
                  <a:pt x="526" y="1680"/>
                </a:lnTo>
                <a:lnTo>
                  <a:pt x="520" y="1680"/>
                </a:lnTo>
                <a:lnTo>
                  <a:pt x="519" y="1681"/>
                </a:lnTo>
                <a:lnTo>
                  <a:pt x="517" y="1683"/>
                </a:lnTo>
                <a:lnTo>
                  <a:pt x="516" y="1686"/>
                </a:lnTo>
                <a:lnTo>
                  <a:pt x="513" y="1690"/>
                </a:lnTo>
                <a:lnTo>
                  <a:pt x="503" y="1696"/>
                </a:lnTo>
                <a:lnTo>
                  <a:pt x="500" y="1694"/>
                </a:lnTo>
                <a:lnTo>
                  <a:pt x="498" y="1700"/>
                </a:lnTo>
                <a:lnTo>
                  <a:pt x="495" y="1710"/>
                </a:lnTo>
                <a:lnTo>
                  <a:pt x="493" y="1730"/>
                </a:lnTo>
                <a:lnTo>
                  <a:pt x="491" y="1751"/>
                </a:lnTo>
                <a:lnTo>
                  <a:pt x="491" y="1755"/>
                </a:lnTo>
                <a:lnTo>
                  <a:pt x="490" y="1759"/>
                </a:lnTo>
                <a:lnTo>
                  <a:pt x="488" y="1761"/>
                </a:lnTo>
                <a:lnTo>
                  <a:pt x="487" y="1762"/>
                </a:lnTo>
                <a:lnTo>
                  <a:pt x="485" y="1764"/>
                </a:lnTo>
                <a:lnTo>
                  <a:pt x="482" y="1765"/>
                </a:lnTo>
                <a:lnTo>
                  <a:pt x="477" y="1765"/>
                </a:lnTo>
                <a:lnTo>
                  <a:pt x="466" y="1771"/>
                </a:lnTo>
                <a:lnTo>
                  <a:pt x="466" y="1772"/>
                </a:lnTo>
                <a:lnTo>
                  <a:pt x="466" y="1770"/>
                </a:lnTo>
                <a:lnTo>
                  <a:pt x="466" y="1767"/>
                </a:lnTo>
                <a:lnTo>
                  <a:pt x="466" y="1764"/>
                </a:lnTo>
                <a:lnTo>
                  <a:pt x="464" y="1762"/>
                </a:lnTo>
                <a:lnTo>
                  <a:pt x="462" y="1761"/>
                </a:lnTo>
                <a:lnTo>
                  <a:pt x="459" y="1759"/>
                </a:lnTo>
                <a:lnTo>
                  <a:pt x="453" y="1757"/>
                </a:lnTo>
                <a:lnTo>
                  <a:pt x="448" y="1746"/>
                </a:lnTo>
                <a:lnTo>
                  <a:pt x="449" y="1746"/>
                </a:lnTo>
                <a:lnTo>
                  <a:pt x="445" y="1749"/>
                </a:lnTo>
                <a:lnTo>
                  <a:pt x="440" y="1751"/>
                </a:lnTo>
                <a:lnTo>
                  <a:pt x="437" y="1755"/>
                </a:lnTo>
                <a:lnTo>
                  <a:pt x="432" y="1762"/>
                </a:lnTo>
                <a:lnTo>
                  <a:pt x="426" y="1770"/>
                </a:lnTo>
                <a:lnTo>
                  <a:pt x="420" y="1774"/>
                </a:lnTo>
                <a:lnTo>
                  <a:pt x="410" y="1775"/>
                </a:lnTo>
                <a:lnTo>
                  <a:pt x="406" y="1772"/>
                </a:lnTo>
                <a:lnTo>
                  <a:pt x="400" y="1771"/>
                </a:lnTo>
                <a:lnTo>
                  <a:pt x="398" y="1768"/>
                </a:lnTo>
                <a:lnTo>
                  <a:pt x="395" y="1765"/>
                </a:lnTo>
                <a:lnTo>
                  <a:pt x="395" y="1762"/>
                </a:lnTo>
                <a:lnTo>
                  <a:pt x="397" y="1758"/>
                </a:lnTo>
                <a:lnTo>
                  <a:pt x="398" y="1755"/>
                </a:lnTo>
                <a:lnTo>
                  <a:pt x="400" y="1752"/>
                </a:lnTo>
                <a:lnTo>
                  <a:pt x="403" y="1746"/>
                </a:lnTo>
                <a:lnTo>
                  <a:pt x="409" y="1735"/>
                </a:lnTo>
                <a:lnTo>
                  <a:pt x="419" y="1723"/>
                </a:lnTo>
                <a:lnTo>
                  <a:pt x="423" y="1720"/>
                </a:lnTo>
                <a:lnTo>
                  <a:pt x="416" y="1725"/>
                </a:lnTo>
                <a:lnTo>
                  <a:pt x="404" y="1732"/>
                </a:lnTo>
                <a:lnTo>
                  <a:pt x="378" y="1741"/>
                </a:lnTo>
                <a:lnTo>
                  <a:pt x="352" y="1746"/>
                </a:lnTo>
                <a:lnTo>
                  <a:pt x="346" y="1746"/>
                </a:lnTo>
                <a:lnTo>
                  <a:pt x="346" y="1743"/>
                </a:lnTo>
                <a:lnTo>
                  <a:pt x="345" y="1736"/>
                </a:lnTo>
                <a:lnTo>
                  <a:pt x="343" y="1722"/>
                </a:lnTo>
                <a:lnTo>
                  <a:pt x="346" y="1715"/>
                </a:lnTo>
                <a:lnTo>
                  <a:pt x="351" y="1709"/>
                </a:lnTo>
                <a:lnTo>
                  <a:pt x="355" y="1704"/>
                </a:lnTo>
                <a:lnTo>
                  <a:pt x="349" y="1707"/>
                </a:lnTo>
                <a:lnTo>
                  <a:pt x="340" y="1713"/>
                </a:lnTo>
                <a:lnTo>
                  <a:pt x="332" y="1720"/>
                </a:lnTo>
                <a:lnTo>
                  <a:pt x="319" y="1735"/>
                </a:lnTo>
                <a:lnTo>
                  <a:pt x="310" y="1743"/>
                </a:lnTo>
                <a:lnTo>
                  <a:pt x="303" y="1748"/>
                </a:lnTo>
                <a:lnTo>
                  <a:pt x="296" y="1749"/>
                </a:lnTo>
                <a:lnTo>
                  <a:pt x="291" y="1749"/>
                </a:lnTo>
                <a:lnTo>
                  <a:pt x="285" y="1748"/>
                </a:lnTo>
                <a:lnTo>
                  <a:pt x="281" y="1745"/>
                </a:lnTo>
                <a:lnTo>
                  <a:pt x="278" y="1741"/>
                </a:lnTo>
                <a:lnTo>
                  <a:pt x="275" y="1735"/>
                </a:lnTo>
                <a:lnTo>
                  <a:pt x="274" y="1730"/>
                </a:lnTo>
                <a:lnTo>
                  <a:pt x="274" y="1717"/>
                </a:lnTo>
                <a:lnTo>
                  <a:pt x="277" y="1706"/>
                </a:lnTo>
                <a:lnTo>
                  <a:pt x="278" y="1706"/>
                </a:lnTo>
                <a:lnTo>
                  <a:pt x="280" y="1701"/>
                </a:lnTo>
                <a:lnTo>
                  <a:pt x="284" y="1693"/>
                </a:lnTo>
                <a:lnTo>
                  <a:pt x="290" y="1674"/>
                </a:lnTo>
                <a:lnTo>
                  <a:pt x="296" y="1657"/>
                </a:lnTo>
                <a:lnTo>
                  <a:pt x="298" y="1651"/>
                </a:lnTo>
                <a:lnTo>
                  <a:pt x="298" y="1648"/>
                </a:lnTo>
                <a:lnTo>
                  <a:pt x="298" y="1645"/>
                </a:lnTo>
                <a:lnTo>
                  <a:pt x="298" y="1641"/>
                </a:lnTo>
                <a:lnTo>
                  <a:pt x="296" y="1632"/>
                </a:lnTo>
                <a:lnTo>
                  <a:pt x="293" y="1613"/>
                </a:lnTo>
                <a:lnTo>
                  <a:pt x="296" y="1600"/>
                </a:lnTo>
                <a:lnTo>
                  <a:pt x="304" y="1584"/>
                </a:lnTo>
                <a:lnTo>
                  <a:pt x="314" y="1549"/>
                </a:lnTo>
                <a:lnTo>
                  <a:pt x="316" y="1516"/>
                </a:lnTo>
                <a:lnTo>
                  <a:pt x="313" y="1484"/>
                </a:lnTo>
                <a:lnTo>
                  <a:pt x="293" y="1420"/>
                </a:lnTo>
                <a:lnTo>
                  <a:pt x="288" y="1403"/>
                </a:lnTo>
                <a:lnTo>
                  <a:pt x="285" y="1399"/>
                </a:lnTo>
                <a:lnTo>
                  <a:pt x="281" y="1388"/>
                </a:lnTo>
                <a:lnTo>
                  <a:pt x="271" y="1368"/>
                </a:lnTo>
                <a:lnTo>
                  <a:pt x="261" y="1346"/>
                </a:lnTo>
                <a:lnTo>
                  <a:pt x="259" y="1339"/>
                </a:lnTo>
                <a:lnTo>
                  <a:pt x="252" y="1344"/>
                </a:lnTo>
                <a:lnTo>
                  <a:pt x="242" y="1354"/>
                </a:lnTo>
                <a:lnTo>
                  <a:pt x="233" y="1365"/>
                </a:lnTo>
                <a:lnTo>
                  <a:pt x="216" y="1388"/>
                </a:lnTo>
                <a:lnTo>
                  <a:pt x="198" y="1400"/>
                </a:lnTo>
                <a:lnTo>
                  <a:pt x="197" y="1394"/>
                </a:lnTo>
                <a:lnTo>
                  <a:pt x="198" y="1383"/>
                </a:lnTo>
                <a:lnTo>
                  <a:pt x="203" y="1361"/>
                </a:lnTo>
                <a:lnTo>
                  <a:pt x="210" y="1338"/>
                </a:lnTo>
                <a:lnTo>
                  <a:pt x="213" y="1331"/>
                </a:lnTo>
                <a:lnTo>
                  <a:pt x="214" y="1322"/>
                </a:lnTo>
                <a:lnTo>
                  <a:pt x="214" y="1315"/>
                </a:lnTo>
                <a:lnTo>
                  <a:pt x="211" y="1307"/>
                </a:lnTo>
                <a:lnTo>
                  <a:pt x="210" y="1300"/>
                </a:lnTo>
                <a:lnTo>
                  <a:pt x="201" y="1288"/>
                </a:lnTo>
                <a:lnTo>
                  <a:pt x="194" y="1277"/>
                </a:lnTo>
                <a:lnTo>
                  <a:pt x="187" y="1262"/>
                </a:lnTo>
                <a:lnTo>
                  <a:pt x="184" y="1245"/>
                </a:lnTo>
                <a:lnTo>
                  <a:pt x="184" y="1245"/>
                </a:lnTo>
                <a:lnTo>
                  <a:pt x="182" y="1241"/>
                </a:lnTo>
                <a:lnTo>
                  <a:pt x="181" y="1236"/>
                </a:lnTo>
                <a:lnTo>
                  <a:pt x="180" y="1233"/>
                </a:lnTo>
                <a:lnTo>
                  <a:pt x="177" y="1231"/>
                </a:lnTo>
                <a:lnTo>
                  <a:pt x="174" y="1229"/>
                </a:lnTo>
                <a:lnTo>
                  <a:pt x="169" y="1228"/>
                </a:lnTo>
                <a:lnTo>
                  <a:pt x="161" y="1226"/>
                </a:lnTo>
                <a:lnTo>
                  <a:pt x="139" y="1222"/>
                </a:lnTo>
                <a:lnTo>
                  <a:pt x="139" y="1222"/>
                </a:lnTo>
                <a:lnTo>
                  <a:pt x="133" y="1222"/>
                </a:lnTo>
                <a:lnTo>
                  <a:pt x="129" y="1219"/>
                </a:lnTo>
                <a:lnTo>
                  <a:pt x="116" y="1209"/>
                </a:lnTo>
                <a:lnTo>
                  <a:pt x="103" y="1196"/>
                </a:lnTo>
                <a:lnTo>
                  <a:pt x="80" y="1157"/>
                </a:lnTo>
                <a:lnTo>
                  <a:pt x="72" y="1133"/>
                </a:lnTo>
                <a:lnTo>
                  <a:pt x="69" y="1128"/>
                </a:lnTo>
                <a:lnTo>
                  <a:pt x="65" y="1122"/>
                </a:lnTo>
                <a:lnTo>
                  <a:pt x="59" y="1118"/>
                </a:lnTo>
                <a:lnTo>
                  <a:pt x="52" y="1113"/>
                </a:lnTo>
                <a:lnTo>
                  <a:pt x="36" y="1107"/>
                </a:lnTo>
                <a:lnTo>
                  <a:pt x="22" y="1102"/>
                </a:lnTo>
                <a:lnTo>
                  <a:pt x="9" y="1094"/>
                </a:lnTo>
                <a:lnTo>
                  <a:pt x="4" y="1089"/>
                </a:lnTo>
                <a:lnTo>
                  <a:pt x="3" y="1080"/>
                </a:lnTo>
                <a:lnTo>
                  <a:pt x="3" y="1080"/>
                </a:lnTo>
                <a:lnTo>
                  <a:pt x="1" y="1071"/>
                </a:lnTo>
                <a:lnTo>
                  <a:pt x="0" y="1054"/>
                </a:lnTo>
                <a:lnTo>
                  <a:pt x="3" y="1038"/>
                </a:lnTo>
                <a:lnTo>
                  <a:pt x="10" y="1023"/>
                </a:lnTo>
                <a:lnTo>
                  <a:pt x="20" y="1012"/>
                </a:lnTo>
                <a:lnTo>
                  <a:pt x="38" y="1002"/>
                </a:lnTo>
                <a:lnTo>
                  <a:pt x="49" y="997"/>
                </a:lnTo>
                <a:lnTo>
                  <a:pt x="55" y="996"/>
                </a:lnTo>
                <a:lnTo>
                  <a:pt x="58" y="991"/>
                </a:lnTo>
                <a:lnTo>
                  <a:pt x="61" y="986"/>
                </a:lnTo>
                <a:lnTo>
                  <a:pt x="61" y="980"/>
                </a:lnTo>
                <a:lnTo>
                  <a:pt x="59" y="974"/>
                </a:lnTo>
                <a:lnTo>
                  <a:pt x="55" y="960"/>
                </a:lnTo>
                <a:lnTo>
                  <a:pt x="51" y="947"/>
                </a:lnTo>
                <a:lnTo>
                  <a:pt x="51" y="933"/>
                </a:lnTo>
                <a:lnTo>
                  <a:pt x="54" y="926"/>
                </a:lnTo>
                <a:lnTo>
                  <a:pt x="58" y="922"/>
                </a:lnTo>
                <a:lnTo>
                  <a:pt x="64" y="919"/>
                </a:lnTo>
                <a:lnTo>
                  <a:pt x="69" y="918"/>
                </a:lnTo>
                <a:lnTo>
                  <a:pt x="77" y="916"/>
                </a:lnTo>
                <a:lnTo>
                  <a:pt x="93" y="916"/>
                </a:lnTo>
                <a:lnTo>
                  <a:pt x="106" y="915"/>
                </a:lnTo>
                <a:lnTo>
                  <a:pt x="113" y="913"/>
                </a:lnTo>
                <a:lnTo>
                  <a:pt x="117" y="910"/>
                </a:lnTo>
                <a:lnTo>
                  <a:pt x="122" y="905"/>
                </a:lnTo>
                <a:lnTo>
                  <a:pt x="123" y="897"/>
                </a:lnTo>
                <a:lnTo>
                  <a:pt x="125" y="897"/>
                </a:lnTo>
                <a:lnTo>
                  <a:pt x="126" y="889"/>
                </a:lnTo>
                <a:lnTo>
                  <a:pt x="129" y="870"/>
                </a:lnTo>
                <a:lnTo>
                  <a:pt x="133" y="829"/>
                </a:lnTo>
                <a:lnTo>
                  <a:pt x="130" y="789"/>
                </a:lnTo>
                <a:lnTo>
                  <a:pt x="129" y="778"/>
                </a:lnTo>
                <a:lnTo>
                  <a:pt x="136" y="780"/>
                </a:lnTo>
                <a:lnTo>
                  <a:pt x="146" y="778"/>
                </a:lnTo>
                <a:lnTo>
                  <a:pt x="151" y="776"/>
                </a:lnTo>
                <a:lnTo>
                  <a:pt x="152" y="773"/>
                </a:lnTo>
                <a:lnTo>
                  <a:pt x="154" y="768"/>
                </a:lnTo>
                <a:lnTo>
                  <a:pt x="152" y="764"/>
                </a:lnTo>
                <a:lnTo>
                  <a:pt x="154" y="754"/>
                </a:lnTo>
                <a:lnTo>
                  <a:pt x="155" y="738"/>
                </a:lnTo>
                <a:lnTo>
                  <a:pt x="164" y="720"/>
                </a:lnTo>
                <a:lnTo>
                  <a:pt x="168" y="715"/>
                </a:lnTo>
                <a:lnTo>
                  <a:pt x="169" y="710"/>
                </a:lnTo>
                <a:lnTo>
                  <a:pt x="174" y="699"/>
                </a:lnTo>
                <a:lnTo>
                  <a:pt x="175" y="687"/>
                </a:lnTo>
                <a:lnTo>
                  <a:pt x="174" y="673"/>
                </a:lnTo>
                <a:lnTo>
                  <a:pt x="165" y="647"/>
                </a:lnTo>
                <a:lnTo>
                  <a:pt x="164" y="639"/>
                </a:lnTo>
                <a:lnTo>
                  <a:pt x="172" y="639"/>
                </a:lnTo>
                <a:lnTo>
                  <a:pt x="182" y="642"/>
                </a:lnTo>
                <a:lnTo>
                  <a:pt x="204" y="648"/>
                </a:lnTo>
                <a:lnTo>
                  <a:pt x="243" y="658"/>
                </a:lnTo>
                <a:lnTo>
                  <a:pt x="274" y="638"/>
                </a:lnTo>
                <a:lnTo>
                  <a:pt x="274" y="635"/>
                </a:lnTo>
                <a:lnTo>
                  <a:pt x="275" y="632"/>
                </a:lnTo>
                <a:lnTo>
                  <a:pt x="275" y="625"/>
                </a:lnTo>
                <a:lnTo>
                  <a:pt x="275" y="610"/>
                </a:lnTo>
                <a:lnTo>
                  <a:pt x="278" y="600"/>
                </a:lnTo>
                <a:lnTo>
                  <a:pt x="285" y="593"/>
                </a:lnTo>
                <a:lnTo>
                  <a:pt x="298" y="577"/>
                </a:lnTo>
                <a:lnTo>
                  <a:pt x="319" y="544"/>
                </a:lnTo>
                <a:lnTo>
                  <a:pt x="336" y="507"/>
                </a:lnTo>
                <a:lnTo>
                  <a:pt x="342" y="499"/>
                </a:lnTo>
                <a:lnTo>
                  <a:pt x="343" y="494"/>
                </a:lnTo>
                <a:lnTo>
                  <a:pt x="345" y="489"/>
                </a:lnTo>
                <a:lnTo>
                  <a:pt x="345" y="483"/>
                </a:lnTo>
                <a:lnTo>
                  <a:pt x="343" y="477"/>
                </a:lnTo>
                <a:lnTo>
                  <a:pt x="340" y="464"/>
                </a:lnTo>
                <a:lnTo>
                  <a:pt x="335" y="438"/>
                </a:lnTo>
                <a:lnTo>
                  <a:pt x="338" y="423"/>
                </a:lnTo>
                <a:lnTo>
                  <a:pt x="339" y="418"/>
                </a:lnTo>
                <a:lnTo>
                  <a:pt x="346" y="408"/>
                </a:lnTo>
                <a:lnTo>
                  <a:pt x="364" y="389"/>
                </a:lnTo>
                <a:lnTo>
                  <a:pt x="382" y="368"/>
                </a:lnTo>
                <a:lnTo>
                  <a:pt x="387" y="363"/>
                </a:lnTo>
                <a:lnTo>
                  <a:pt x="390" y="358"/>
                </a:lnTo>
                <a:lnTo>
                  <a:pt x="393" y="348"/>
                </a:lnTo>
                <a:lnTo>
                  <a:pt x="394" y="337"/>
                </a:lnTo>
                <a:lnTo>
                  <a:pt x="393" y="326"/>
                </a:lnTo>
                <a:lnTo>
                  <a:pt x="390" y="316"/>
                </a:lnTo>
                <a:lnTo>
                  <a:pt x="387" y="306"/>
                </a:lnTo>
                <a:lnTo>
                  <a:pt x="385" y="300"/>
                </a:lnTo>
                <a:lnTo>
                  <a:pt x="384" y="297"/>
                </a:lnTo>
                <a:lnTo>
                  <a:pt x="384" y="293"/>
                </a:lnTo>
                <a:lnTo>
                  <a:pt x="385" y="287"/>
                </a:lnTo>
                <a:lnTo>
                  <a:pt x="388" y="283"/>
                </a:lnTo>
                <a:lnTo>
                  <a:pt x="395" y="273"/>
                </a:lnTo>
                <a:lnTo>
                  <a:pt x="406" y="264"/>
                </a:lnTo>
                <a:lnTo>
                  <a:pt x="424" y="245"/>
                </a:lnTo>
                <a:lnTo>
                  <a:pt x="426" y="245"/>
                </a:lnTo>
                <a:lnTo>
                  <a:pt x="429" y="244"/>
                </a:lnTo>
                <a:lnTo>
                  <a:pt x="430" y="244"/>
                </a:lnTo>
                <a:lnTo>
                  <a:pt x="436" y="244"/>
                </a:lnTo>
                <a:lnTo>
                  <a:pt x="449" y="244"/>
                </a:lnTo>
                <a:lnTo>
                  <a:pt x="456" y="241"/>
                </a:lnTo>
                <a:lnTo>
                  <a:pt x="459" y="238"/>
                </a:lnTo>
                <a:lnTo>
                  <a:pt x="468" y="231"/>
                </a:lnTo>
                <a:lnTo>
                  <a:pt x="484" y="215"/>
                </a:lnTo>
                <a:lnTo>
                  <a:pt x="500" y="199"/>
                </a:lnTo>
                <a:lnTo>
                  <a:pt x="504" y="194"/>
                </a:lnTo>
                <a:lnTo>
                  <a:pt x="508" y="190"/>
                </a:lnTo>
                <a:lnTo>
                  <a:pt x="519" y="183"/>
                </a:lnTo>
                <a:lnTo>
                  <a:pt x="532" y="179"/>
                </a:lnTo>
                <a:lnTo>
                  <a:pt x="559" y="170"/>
                </a:lnTo>
                <a:lnTo>
                  <a:pt x="581" y="161"/>
                </a:lnTo>
                <a:lnTo>
                  <a:pt x="587" y="160"/>
                </a:lnTo>
                <a:lnTo>
                  <a:pt x="594" y="161"/>
                </a:lnTo>
                <a:lnTo>
                  <a:pt x="600" y="164"/>
                </a:lnTo>
                <a:lnTo>
                  <a:pt x="606" y="168"/>
                </a:lnTo>
                <a:lnTo>
                  <a:pt x="619" y="179"/>
                </a:lnTo>
                <a:lnTo>
                  <a:pt x="630" y="190"/>
                </a:lnTo>
                <a:lnTo>
                  <a:pt x="642" y="197"/>
                </a:lnTo>
                <a:lnTo>
                  <a:pt x="653" y="194"/>
                </a:lnTo>
                <a:lnTo>
                  <a:pt x="655" y="194"/>
                </a:lnTo>
                <a:lnTo>
                  <a:pt x="656" y="193"/>
                </a:lnTo>
                <a:lnTo>
                  <a:pt x="656" y="192"/>
                </a:lnTo>
                <a:lnTo>
                  <a:pt x="656" y="187"/>
                </a:lnTo>
                <a:lnTo>
                  <a:pt x="656" y="184"/>
                </a:lnTo>
                <a:lnTo>
                  <a:pt x="653" y="176"/>
                </a:lnTo>
                <a:lnTo>
                  <a:pt x="645" y="157"/>
                </a:lnTo>
                <a:lnTo>
                  <a:pt x="643" y="148"/>
                </a:lnTo>
                <a:lnTo>
                  <a:pt x="643" y="138"/>
                </a:lnTo>
                <a:lnTo>
                  <a:pt x="646" y="129"/>
                </a:lnTo>
                <a:lnTo>
                  <a:pt x="650" y="121"/>
                </a:lnTo>
                <a:lnTo>
                  <a:pt x="656" y="113"/>
                </a:lnTo>
                <a:lnTo>
                  <a:pt x="672" y="99"/>
                </a:lnTo>
                <a:lnTo>
                  <a:pt x="685" y="84"/>
                </a:lnTo>
                <a:lnTo>
                  <a:pt x="691" y="76"/>
                </a:lnTo>
                <a:lnTo>
                  <a:pt x="694" y="67"/>
                </a:lnTo>
                <a:lnTo>
                  <a:pt x="694" y="57"/>
                </a:lnTo>
                <a:lnTo>
                  <a:pt x="691" y="44"/>
                </a:lnTo>
                <a:lnTo>
                  <a:pt x="691" y="44"/>
                </a:lnTo>
                <a:lnTo>
                  <a:pt x="700" y="44"/>
                </a:lnTo>
                <a:lnTo>
                  <a:pt x="704" y="42"/>
                </a:lnTo>
                <a:lnTo>
                  <a:pt x="707" y="39"/>
                </a:lnTo>
                <a:lnTo>
                  <a:pt x="708" y="35"/>
                </a:lnTo>
                <a:lnTo>
                  <a:pt x="708" y="31"/>
                </a:lnTo>
                <a:lnTo>
                  <a:pt x="707" y="28"/>
                </a:lnTo>
                <a:lnTo>
                  <a:pt x="706" y="26"/>
                </a:lnTo>
                <a:lnTo>
                  <a:pt x="703" y="22"/>
                </a:lnTo>
                <a:lnTo>
                  <a:pt x="700" y="13"/>
                </a:lnTo>
                <a:lnTo>
                  <a:pt x="698" y="3"/>
                </a:lnTo>
                <a:lnTo>
                  <a:pt x="700" y="0"/>
                </a:lnTo>
                <a:lnTo>
                  <a:pt x="701" y="2"/>
                </a:lnTo>
                <a:lnTo>
                  <a:pt x="706" y="3"/>
                </a:lnTo>
                <a:lnTo>
                  <a:pt x="711" y="0"/>
                </a:lnTo>
                <a:lnTo>
                  <a:pt x="716" y="0"/>
                </a:lnTo>
                <a:lnTo>
                  <a:pt x="724" y="0"/>
                </a:lnTo>
                <a:lnTo>
                  <a:pt x="726" y="0"/>
                </a:lnTo>
                <a:lnTo>
                  <a:pt x="733" y="6"/>
                </a:lnTo>
                <a:lnTo>
                  <a:pt x="749" y="18"/>
                </a:lnTo>
                <a:lnTo>
                  <a:pt x="777" y="42"/>
                </a:lnTo>
                <a:lnTo>
                  <a:pt x="797" y="71"/>
                </a:lnTo>
                <a:lnTo>
                  <a:pt x="800" y="79"/>
                </a:lnTo>
                <a:lnTo>
                  <a:pt x="800" y="86"/>
                </a:lnTo>
                <a:lnTo>
                  <a:pt x="801" y="97"/>
                </a:lnTo>
                <a:lnTo>
                  <a:pt x="801" y="118"/>
                </a:lnTo>
                <a:lnTo>
                  <a:pt x="803" y="126"/>
                </a:lnTo>
                <a:lnTo>
                  <a:pt x="808" y="134"/>
                </a:lnTo>
                <a:lnTo>
                  <a:pt x="814" y="135"/>
                </a:lnTo>
                <a:lnTo>
                  <a:pt x="819" y="137"/>
                </a:lnTo>
                <a:lnTo>
                  <a:pt x="821" y="135"/>
                </a:lnTo>
                <a:lnTo>
                  <a:pt x="829" y="134"/>
                </a:lnTo>
                <a:lnTo>
                  <a:pt x="843" y="131"/>
                </a:lnTo>
                <a:lnTo>
                  <a:pt x="855" y="132"/>
                </a:lnTo>
                <a:lnTo>
                  <a:pt x="858" y="137"/>
                </a:lnTo>
                <a:lnTo>
                  <a:pt x="863" y="144"/>
                </a:lnTo>
                <a:lnTo>
                  <a:pt x="872" y="164"/>
                </a:lnTo>
                <a:lnTo>
                  <a:pt x="872" y="176"/>
                </a:lnTo>
                <a:lnTo>
                  <a:pt x="869" y="187"/>
                </a:lnTo>
                <a:lnTo>
                  <a:pt x="868" y="193"/>
                </a:lnTo>
                <a:lnTo>
                  <a:pt x="863" y="202"/>
                </a:lnTo>
                <a:lnTo>
                  <a:pt x="863" y="209"/>
                </a:lnTo>
                <a:lnTo>
                  <a:pt x="865" y="216"/>
                </a:lnTo>
                <a:lnTo>
                  <a:pt x="868" y="223"/>
                </a:lnTo>
                <a:lnTo>
                  <a:pt x="876" y="238"/>
                </a:lnTo>
                <a:lnTo>
                  <a:pt x="885" y="254"/>
                </a:lnTo>
                <a:lnTo>
                  <a:pt x="890" y="270"/>
                </a:lnTo>
                <a:lnTo>
                  <a:pt x="887" y="287"/>
                </a:lnTo>
                <a:lnTo>
                  <a:pt x="887" y="287"/>
                </a:lnTo>
                <a:lnTo>
                  <a:pt x="882" y="294"/>
                </a:lnTo>
                <a:lnTo>
                  <a:pt x="874" y="309"/>
                </a:lnTo>
                <a:lnTo>
                  <a:pt x="858" y="335"/>
                </a:lnTo>
                <a:lnTo>
                  <a:pt x="855" y="350"/>
                </a:lnTo>
                <a:lnTo>
                  <a:pt x="859" y="364"/>
                </a:lnTo>
                <a:lnTo>
                  <a:pt x="865" y="371"/>
                </a:lnTo>
                <a:lnTo>
                  <a:pt x="859" y="374"/>
                </a:lnTo>
                <a:lnTo>
                  <a:pt x="849" y="380"/>
                </a:lnTo>
                <a:lnTo>
                  <a:pt x="833" y="394"/>
                </a:lnTo>
                <a:lnTo>
                  <a:pt x="827" y="402"/>
                </a:lnTo>
                <a:lnTo>
                  <a:pt x="824" y="410"/>
                </a:lnTo>
                <a:lnTo>
                  <a:pt x="824" y="415"/>
                </a:lnTo>
                <a:lnTo>
                  <a:pt x="823" y="425"/>
                </a:lnTo>
                <a:lnTo>
                  <a:pt x="820" y="434"/>
                </a:lnTo>
                <a:lnTo>
                  <a:pt x="816" y="441"/>
                </a:lnTo>
                <a:lnTo>
                  <a:pt x="811" y="447"/>
                </a:lnTo>
                <a:lnTo>
                  <a:pt x="798" y="457"/>
                </a:lnTo>
                <a:lnTo>
                  <a:pt x="784" y="465"/>
                </a:lnTo>
                <a:lnTo>
                  <a:pt x="755" y="480"/>
                </a:lnTo>
                <a:lnTo>
                  <a:pt x="755" y="480"/>
                </a:lnTo>
                <a:lnTo>
                  <a:pt x="749" y="484"/>
                </a:lnTo>
                <a:lnTo>
                  <a:pt x="745" y="489"/>
                </a:lnTo>
                <a:lnTo>
                  <a:pt x="740" y="494"/>
                </a:lnTo>
                <a:lnTo>
                  <a:pt x="735" y="506"/>
                </a:lnTo>
                <a:lnTo>
                  <a:pt x="730" y="519"/>
                </a:lnTo>
                <a:lnTo>
                  <a:pt x="724" y="531"/>
                </a:lnTo>
                <a:lnTo>
                  <a:pt x="714" y="541"/>
                </a:lnTo>
                <a:lnTo>
                  <a:pt x="708" y="544"/>
                </a:lnTo>
                <a:lnTo>
                  <a:pt x="713" y="554"/>
                </a:lnTo>
                <a:lnTo>
                  <a:pt x="724" y="574"/>
                </a:lnTo>
                <a:lnTo>
                  <a:pt x="739" y="616"/>
                </a:lnTo>
                <a:lnTo>
                  <a:pt x="737" y="636"/>
                </a:lnTo>
                <a:lnTo>
                  <a:pt x="726" y="657"/>
                </a:lnTo>
                <a:lnTo>
                  <a:pt x="717" y="665"/>
                </a:lnTo>
                <a:lnTo>
                  <a:pt x="724" y="663"/>
                </a:lnTo>
                <a:lnTo>
                  <a:pt x="739" y="654"/>
                </a:lnTo>
                <a:lnTo>
                  <a:pt x="768" y="638"/>
                </a:lnTo>
                <a:lnTo>
                  <a:pt x="798" y="623"/>
                </a:lnTo>
                <a:lnTo>
                  <a:pt x="807" y="619"/>
                </a:lnTo>
                <a:lnTo>
                  <a:pt x="813" y="618"/>
                </a:lnTo>
                <a:lnTo>
                  <a:pt x="827" y="613"/>
                </a:lnTo>
                <a:lnTo>
                  <a:pt x="858" y="610"/>
                </a:lnTo>
                <a:lnTo>
                  <a:pt x="891" y="621"/>
                </a:lnTo>
                <a:lnTo>
                  <a:pt x="900" y="623"/>
                </a:lnTo>
                <a:lnTo>
                  <a:pt x="891" y="628"/>
                </a:lnTo>
                <a:lnTo>
                  <a:pt x="887" y="634"/>
                </a:lnTo>
                <a:lnTo>
                  <a:pt x="882" y="639"/>
                </a:lnTo>
                <a:lnTo>
                  <a:pt x="879" y="647"/>
                </a:lnTo>
                <a:lnTo>
                  <a:pt x="879" y="655"/>
                </a:lnTo>
                <a:lnTo>
                  <a:pt x="881" y="673"/>
                </a:lnTo>
                <a:lnTo>
                  <a:pt x="885" y="689"/>
                </a:lnTo>
                <a:lnTo>
                  <a:pt x="892" y="703"/>
                </a:lnTo>
                <a:lnTo>
                  <a:pt x="897" y="709"/>
                </a:lnTo>
                <a:lnTo>
                  <a:pt x="898" y="713"/>
                </a:lnTo>
                <a:lnTo>
                  <a:pt x="900" y="718"/>
                </a:lnTo>
                <a:lnTo>
                  <a:pt x="900" y="720"/>
                </a:lnTo>
                <a:lnTo>
                  <a:pt x="898" y="725"/>
                </a:lnTo>
                <a:lnTo>
                  <a:pt x="897" y="732"/>
                </a:lnTo>
                <a:lnTo>
                  <a:pt x="894" y="739"/>
                </a:lnTo>
                <a:lnTo>
                  <a:pt x="892" y="745"/>
                </a:lnTo>
                <a:lnTo>
                  <a:pt x="891" y="751"/>
                </a:lnTo>
                <a:lnTo>
                  <a:pt x="892" y="751"/>
                </a:lnTo>
                <a:lnTo>
                  <a:pt x="895" y="758"/>
                </a:lnTo>
                <a:lnTo>
                  <a:pt x="900" y="761"/>
                </a:lnTo>
                <a:lnTo>
                  <a:pt x="905" y="764"/>
                </a:lnTo>
                <a:lnTo>
                  <a:pt x="913" y="764"/>
                </a:lnTo>
                <a:lnTo>
                  <a:pt x="920" y="764"/>
                </a:lnTo>
                <a:lnTo>
                  <a:pt x="934" y="763"/>
                </a:lnTo>
                <a:lnTo>
                  <a:pt x="947" y="760"/>
                </a:lnTo>
                <a:lnTo>
                  <a:pt x="958" y="761"/>
                </a:lnTo>
                <a:lnTo>
                  <a:pt x="961" y="764"/>
                </a:lnTo>
                <a:lnTo>
                  <a:pt x="962" y="774"/>
                </a:lnTo>
                <a:lnTo>
                  <a:pt x="961" y="786"/>
                </a:lnTo>
                <a:lnTo>
                  <a:pt x="959" y="796"/>
                </a:lnTo>
                <a:lnTo>
                  <a:pt x="952" y="818"/>
                </a:lnTo>
                <a:lnTo>
                  <a:pt x="939" y="864"/>
                </a:lnTo>
                <a:lnTo>
                  <a:pt x="947" y="897"/>
                </a:lnTo>
                <a:lnTo>
                  <a:pt x="952" y="903"/>
                </a:lnTo>
                <a:lnTo>
                  <a:pt x="958" y="906"/>
                </a:lnTo>
                <a:lnTo>
                  <a:pt x="963" y="907"/>
                </a:lnTo>
                <a:lnTo>
                  <a:pt x="972" y="909"/>
                </a:lnTo>
                <a:lnTo>
                  <a:pt x="988" y="909"/>
                </a:lnTo>
                <a:lnTo>
                  <a:pt x="1005" y="907"/>
                </a:lnTo>
                <a:lnTo>
                  <a:pt x="1021" y="910"/>
                </a:lnTo>
                <a:lnTo>
                  <a:pt x="1027" y="915"/>
                </a:lnTo>
                <a:lnTo>
                  <a:pt x="1033" y="919"/>
                </a:lnTo>
                <a:lnTo>
                  <a:pt x="1034" y="919"/>
                </a:lnTo>
                <a:lnTo>
                  <a:pt x="1036" y="923"/>
                </a:lnTo>
                <a:lnTo>
                  <a:pt x="1037" y="926"/>
                </a:lnTo>
                <a:lnTo>
                  <a:pt x="1037" y="931"/>
                </a:lnTo>
                <a:lnTo>
                  <a:pt x="1037" y="935"/>
                </a:lnTo>
                <a:lnTo>
                  <a:pt x="1034" y="944"/>
                </a:lnTo>
                <a:lnTo>
                  <a:pt x="1030" y="952"/>
                </a:lnTo>
                <a:lnTo>
                  <a:pt x="1020" y="968"/>
                </a:lnTo>
                <a:lnTo>
                  <a:pt x="1020" y="968"/>
                </a:lnTo>
                <a:lnTo>
                  <a:pt x="1029" y="970"/>
                </a:lnTo>
                <a:lnTo>
                  <a:pt x="1034" y="973"/>
                </a:lnTo>
                <a:lnTo>
                  <a:pt x="1045" y="978"/>
                </a:lnTo>
                <a:lnTo>
                  <a:pt x="1053" y="981"/>
                </a:lnTo>
                <a:lnTo>
                  <a:pt x="1055" y="983"/>
                </a:lnTo>
                <a:lnTo>
                  <a:pt x="1055" y="984"/>
                </a:lnTo>
                <a:lnTo>
                  <a:pt x="1053" y="987"/>
                </a:lnTo>
                <a:lnTo>
                  <a:pt x="1052" y="989"/>
                </a:lnTo>
                <a:lnTo>
                  <a:pt x="1049" y="993"/>
                </a:lnTo>
                <a:lnTo>
                  <a:pt x="1045" y="1000"/>
                </a:lnTo>
                <a:lnTo>
                  <a:pt x="1046" y="1000"/>
                </a:lnTo>
                <a:lnTo>
                  <a:pt x="1058" y="1002"/>
                </a:lnTo>
                <a:lnTo>
                  <a:pt x="1082" y="999"/>
                </a:lnTo>
                <a:lnTo>
                  <a:pt x="1107" y="991"/>
                </a:lnTo>
                <a:lnTo>
                  <a:pt x="1155" y="976"/>
                </a:lnTo>
                <a:lnTo>
                  <a:pt x="1192" y="968"/>
                </a:lnTo>
                <a:lnTo>
                  <a:pt x="1191" y="973"/>
                </a:lnTo>
                <a:lnTo>
                  <a:pt x="1188" y="978"/>
                </a:lnTo>
                <a:lnTo>
                  <a:pt x="1185" y="984"/>
                </a:lnTo>
                <a:lnTo>
                  <a:pt x="1182" y="993"/>
                </a:lnTo>
                <a:lnTo>
                  <a:pt x="1182" y="996"/>
                </a:lnTo>
                <a:lnTo>
                  <a:pt x="1181" y="996"/>
                </a:lnTo>
                <a:lnTo>
                  <a:pt x="1182" y="996"/>
                </a:lnTo>
                <a:lnTo>
                  <a:pt x="1181" y="996"/>
                </a:lnTo>
                <a:lnTo>
                  <a:pt x="1182" y="996"/>
                </a:lnTo>
                <a:lnTo>
                  <a:pt x="1178" y="997"/>
                </a:lnTo>
                <a:lnTo>
                  <a:pt x="1173" y="1000"/>
                </a:lnTo>
                <a:lnTo>
                  <a:pt x="1172" y="1002"/>
                </a:lnTo>
                <a:lnTo>
                  <a:pt x="1169" y="1007"/>
                </a:lnTo>
                <a:lnTo>
                  <a:pt x="1162" y="1013"/>
                </a:lnTo>
                <a:lnTo>
                  <a:pt x="1158" y="1010"/>
                </a:lnTo>
                <a:lnTo>
                  <a:pt x="1158" y="1016"/>
                </a:lnTo>
                <a:lnTo>
                  <a:pt x="1156" y="1022"/>
                </a:lnTo>
                <a:lnTo>
                  <a:pt x="1156" y="1028"/>
                </a:lnTo>
                <a:lnTo>
                  <a:pt x="1158" y="1029"/>
                </a:lnTo>
                <a:lnTo>
                  <a:pt x="1153" y="1029"/>
                </a:lnTo>
                <a:lnTo>
                  <a:pt x="1145" y="1029"/>
                </a:lnTo>
                <a:lnTo>
                  <a:pt x="1137" y="1032"/>
                </a:lnTo>
                <a:lnTo>
                  <a:pt x="1131" y="1036"/>
                </a:lnTo>
                <a:lnTo>
                  <a:pt x="1126" y="1042"/>
                </a:lnTo>
                <a:lnTo>
                  <a:pt x="1120" y="1047"/>
                </a:lnTo>
                <a:lnTo>
                  <a:pt x="1118" y="1048"/>
                </a:lnTo>
                <a:lnTo>
                  <a:pt x="1116" y="1051"/>
                </a:lnTo>
                <a:lnTo>
                  <a:pt x="1114" y="1054"/>
                </a:lnTo>
                <a:lnTo>
                  <a:pt x="1114" y="1057"/>
                </a:lnTo>
                <a:lnTo>
                  <a:pt x="1114" y="1060"/>
                </a:lnTo>
                <a:lnTo>
                  <a:pt x="1114" y="1068"/>
                </a:lnTo>
                <a:lnTo>
                  <a:pt x="1114" y="1083"/>
                </a:lnTo>
                <a:lnTo>
                  <a:pt x="1113" y="1087"/>
                </a:lnTo>
                <a:lnTo>
                  <a:pt x="1107" y="1091"/>
                </a:lnTo>
                <a:lnTo>
                  <a:pt x="1097" y="1099"/>
                </a:lnTo>
                <a:lnTo>
                  <a:pt x="1075" y="1112"/>
                </a:lnTo>
                <a:lnTo>
                  <a:pt x="1056" y="1123"/>
                </a:lnTo>
                <a:lnTo>
                  <a:pt x="1053" y="1126"/>
                </a:lnTo>
                <a:lnTo>
                  <a:pt x="1052" y="1126"/>
                </a:lnTo>
                <a:lnTo>
                  <a:pt x="1050" y="1126"/>
                </a:lnTo>
                <a:lnTo>
                  <a:pt x="1046" y="1126"/>
                </a:lnTo>
                <a:lnTo>
                  <a:pt x="1043" y="1126"/>
                </a:lnTo>
                <a:lnTo>
                  <a:pt x="1043" y="1126"/>
                </a:lnTo>
                <a:lnTo>
                  <a:pt x="1036" y="1126"/>
                </a:lnTo>
                <a:lnTo>
                  <a:pt x="1024" y="1128"/>
                </a:lnTo>
                <a:lnTo>
                  <a:pt x="1000" y="1131"/>
                </a:lnTo>
                <a:lnTo>
                  <a:pt x="975" y="1136"/>
                </a:lnTo>
                <a:lnTo>
                  <a:pt x="971" y="1138"/>
                </a:lnTo>
                <a:lnTo>
                  <a:pt x="968" y="1139"/>
                </a:lnTo>
                <a:lnTo>
                  <a:pt x="968" y="1142"/>
                </a:lnTo>
                <a:lnTo>
                  <a:pt x="968" y="1144"/>
                </a:lnTo>
                <a:lnTo>
                  <a:pt x="969" y="1146"/>
                </a:lnTo>
                <a:lnTo>
                  <a:pt x="974" y="1154"/>
                </a:lnTo>
                <a:lnTo>
                  <a:pt x="981" y="1168"/>
                </a:lnTo>
                <a:lnTo>
                  <a:pt x="982" y="1173"/>
                </a:lnTo>
                <a:lnTo>
                  <a:pt x="976" y="1180"/>
                </a:lnTo>
                <a:lnTo>
                  <a:pt x="971" y="1184"/>
                </a:lnTo>
                <a:lnTo>
                  <a:pt x="963" y="1186"/>
                </a:lnTo>
                <a:lnTo>
                  <a:pt x="956" y="1186"/>
                </a:lnTo>
                <a:lnTo>
                  <a:pt x="949" y="1184"/>
                </a:lnTo>
                <a:lnTo>
                  <a:pt x="933" y="1180"/>
                </a:lnTo>
                <a:lnTo>
                  <a:pt x="919" y="1177"/>
                </a:lnTo>
                <a:lnTo>
                  <a:pt x="913" y="1177"/>
                </a:lnTo>
                <a:lnTo>
                  <a:pt x="907" y="1178"/>
                </a:lnTo>
                <a:lnTo>
                  <a:pt x="904" y="1181"/>
                </a:lnTo>
                <a:lnTo>
                  <a:pt x="904" y="1181"/>
                </a:lnTo>
                <a:lnTo>
                  <a:pt x="901" y="1186"/>
                </a:lnTo>
                <a:lnTo>
                  <a:pt x="900" y="1190"/>
                </a:lnTo>
                <a:lnTo>
                  <a:pt x="898" y="1194"/>
                </a:lnTo>
                <a:lnTo>
                  <a:pt x="897" y="1206"/>
                </a:lnTo>
                <a:lnTo>
                  <a:pt x="894" y="1216"/>
                </a:lnTo>
                <a:lnTo>
                  <a:pt x="891" y="1225"/>
                </a:lnTo>
                <a:lnTo>
                  <a:pt x="885" y="1231"/>
                </a:lnTo>
                <a:lnTo>
                  <a:pt x="881" y="1231"/>
                </a:lnTo>
                <a:lnTo>
                  <a:pt x="869" y="1233"/>
                </a:lnTo>
                <a:lnTo>
                  <a:pt x="848" y="1233"/>
                </a:lnTo>
                <a:lnTo>
                  <a:pt x="804" y="1232"/>
                </a:lnTo>
                <a:lnTo>
                  <a:pt x="787" y="1233"/>
                </a:lnTo>
                <a:lnTo>
                  <a:pt x="779" y="1236"/>
                </a:lnTo>
                <a:lnTo>
                  <a:pt x="774" y="1242"/>
                </a:lnTo>
                <a:lnTo>
                  <a:pt x="771" y="1248"/>
                </a:lnTo>
                <a:lnTo>
                  <a:pt x="771" y="1248"/>
                </a:lnTo>
                <a:lnTo>
                  <a:pt x="768" y="1255"/>
                </a:lnTo>
                <a:lnTo>
                  <a:pt x="762" y="1268"/>
                </a:lnTo>
                <a:lnTo>
                  <a:pt x="753" y="1296"/>
                </a:lnTo>
                <a:lnTo>
                  <a:pt x="748" y="1325"/>
                </a:lnTo>
                <a:lnTo>
                  <a:pt x="748" y="1332"/>
                </a:lnTo>
                <a:lnTo>
                  <a:pt x="748" y="1335"/>
                </a:lnTo>
                <a:lnTo>
                  <a:pt x="748" y="1338"/>
                </a:lnTo>
                <a:lnTo>
                  <a:pt x="750" y="1348"/>
                </a:lnTo>
                <a:lnTo>
                  <a:pt x="750" y="1355"/>
                </a:lnTo>
                <a:lnTo>
                  <a:pt x="750" y="1355"/>
                </a:lnTo>
                <a:lnTo>
                  <a:pt x="742" y="1361"/>
                </a:lnTo>
                <a:lnTo>
                  <a:pt x="727" y="1371"/>
                </a:lnTo>
                <a:lnTo>
                  <a:pt x="704" y="1396"/>
                </a:lnTo>
                <a:lnTo>
                  <a:pt x="700" y="1410"/>
                </a:lnTo>
                <a:lnTo>
                  <a:pt x="700" y="1426"/>
                </a:lnTo>
                <a:lnTo>
                  <a:pt x="703" y="1435"/>
                </a:lnTo>
                <a:lnTo>
                  <a:pt x="710" y="1458"/>
                </a:lnTo>
                <a:lnTo>
                  <a:pt x="732" y="1499"/>
                </a:lnTo>
                <a:lnTo>
                  <a:pt x="781" y="1574"/>
                </a:lnTo>
                <a:lnTo>
                  <a:pt x="827" y="1654"/>
                </a:lnTo>
                <a:lnTo>
                  <a:pt x="836" y="1675"/>
                </a:lnTo>
                <a:lnTo>
                  <a:pt x="837" y="1681"/>
                </a:lnTo>
                <a:lnTo>
                  <a:pt x="843" y="1690"/>
                </a:lnTo>
                <a:lnTo>
                  <a:pt x="852" y="1697"/>
                </a:lnTo>
                <a:lnTo>
                  <a:pt x="863" y="1703"/>
                </a:lnTo>
                <a:lnTo>
                  <a:pt x="876" y="1707"/>
                </a:lnTo>
                <a:lnTo>
                  <a:pt x="891" y="1707"/>
                </a:lnTo>
                <a:lnTo>
                  <a:pt x="900" y="1704"/>
                </a:lnTo>
                <a:lnTo>
                  <a:pt x="891" y="1710"/>
                </a:lnTo>
                <a:lnTo>
                  <a:pt x="876" y="1723"/>
                </a:lnTo>
                <a:lnTo>
                  <a:pt x="868" y="1738"/>
                </a:lnTo>
                <a:lnTo>
                  <a:pt x="862" y="1755"/>
                </a:lnTo>
                <a:lnTo>
                  <a:pt x="859" y="1771"/>
                </a:lnTo>
                <a:lnTo>
                  <a:pt x="858" y="1790"/>
                </a:lnTo>
                <a:lnTo>
                  <a:pt x="858" y="1799"/>
                </a:lnTo>
                <a:lnTo>
                  <a:pt x="856" y="1804"/>
                </a:lnTo>
                <a:lnTo>
                  <a:pt x="853" y="1809"/>
                </a:lnTo>
                <a:lnTo>
                  <a:pt x="849" y="1813"/>
                </a:lnTo>
                <a:lnTo>
                  <a:pt x="843" y="1816"/>
                </a:lnTo>
                <a:lnTo>
                  <a:pt x="830" y="1820"/>
                </a:lnTo>
                <a:lnTo>
                  <a:pt x="805" y="1833"/>
                </a:lnTo>
                <a:lnTo>
                  <a:pt x="797" y="1843"/>
                </a:lnTo>
                <a:lnTo>
                  <a:pt x="792" y="1852"/>
                </a:lnTo>
                <a:lnTo>
                  <a:pt x="791" y="1868"/>
                </a:lnTo>
                <a:lnTo>
                  <a:pt x="792" y="1885"/>
                </a:lnTo>
                <a:lnTo>
                  <a:pt x="797" y="1901"/>
                </a:lnTo>
                <a:lnTo>
                  <a:pt x="811" y="1936"/>
                </a:lnTo>
                <a:lnTo>
                  <a:pt x="816" y="1943"/>
                </a:lnTo>
                <a:lnTo>
                  <a:pt x="819" y="1951"/>
                </a:lnTo>
                <a:lnTo>
                  <a:pt x="821" y="1956"/>
                </a:lnTo>
                <a:lnTo>
                  <a:pt x="832" y="1965"/>
                </a:lnTo>
                <a:lnTo>
                  <a:pt x="845" y="1972"/>
                </a:lnTo>
                <a:lnTo>
                  <a:pt x="871" y="1988"/>
                </a:lnTo>
                <a:lnTo>
                  <a:pt x="882" y="1997"/>
                </a:lnTo>
                <a:lnTo>
                  <a:pt x="887" y="2003"/>
                </a:lnTo>
                <a:lnTo>
                  <a:pt x="894" y="2014"/>
                </a:lnTo>
                <a:lnTo>
                  <a:pt x="905" y="2038"/>
                </a:lnTo>
                <a:lnTo>
                  <a:pt x="911" y="2062"/>
                </a:lnTo>
                <a:lnTo>
                  <a:pt x="913" y="2068"/>
                </a:lnTo>
                <a:lnTo>
                  <a:pt x="913" y="2078"/>
                </a:lnTo>
                <a:lnTo>
                  <a:pt x="916" y="2100"/>
                </a:lnTo>
                <a:lnTo>
                  <a:pt x="919" y="2143"/>
                </a:lnTo>
                <a:lnTo>
                  <a:pt x="916" y="2162"/>
                </a:lnTo>
                <a:lnTo>
                  <a:pt x="905" y="2181"/>
                </a:lnTo>
                <a:lnTo>
                  <a:pt x="900" y="2188"/>
                </a:lnTo>
                <a:lnTo>
                  <a:pt x="904" y="2193"/>
                </a:lnTo>
                <a:lnTo>
                  <a:pt x="910" y="2196"/>
                </a:lnTo>
                <a:lnTo>
                  <a:pt x="914" y="2197"/>
                </a:lnTo>
                <a:lnTo>
                  <a:pt x="920" y="2197"/>
                </a:lnTo>
                <a:lnTo>
                  <a:pt x="932" y="2196"/>
                </a:lnTo>
                <a:lnTo>
                  <a:pt x="942" y="2193"/>
                </a:lnTo>
                <a:lnTo>
                  <a:pt x="949" y="2191"/>
                </a:lnTo>
                <a:lnTo>
                  <a:pt x="952" y="2193"/>
                </a:lnTo>
                <a:lnTo>
                  <a:pt x="953" y="2193"/>
                </a:lnTo>
                <a:lnTo>
                  <a:pt x="962" y="2212"/>
                </a:lnTo>
                <a:lnTo>
                  <a:pt x="972" y="2248"/>
                </a:lnTo>
                <a:lnTo>
                  <a:pt x="969" y="2285"/>
                </a:lnTo>
                <a:lnTo>
                  <a:pt x="958" y="2323"/>
                </a:lnTo>
                <a:lnTo>
                  <a:pt x="939" y="2358"/>
                </a:lnTo>
                <a:lnTo>
                  <a:pt x="916" y="2393"/>
                </a:lnTo>
                <a:lnTo>
                  <a:pt x="904" y="2407"/>
                </a:lnTo>
                <a:lnTo>
                  <a:pt x="898" y="2414"/>
                </a:lnTo>
                <a:lnTo>
                  <a:pt x="888" y="2427"/>
                </a:lnTo>
                <a:lnTo>
                  <a:pt x="872" y="2456"/>
                </a:lnTo>
                <a:lnTo>
                  <a:pt x="859" y="2485"/>
                </a:lnTo>
                <a:lnTo>
                  <a:pt x="856" y="2493"/>
                </a:lnTo>
                <a:lnTo>
                  <a:pt x="853" y="2501"/>
                </a:lnTo>
                <a:lnTo>
                  <a:pt x="846" y="2524"/>
                </a:lnTo>
                <a:lnTo>
                  <a:pt x="840" y="2542"/>
                </a:lnTo>
                <a:lnTo>
                  <a:pt x="840" y="2542"/>
                </a:lnTo>
                <a:lnTo>
                  <a:pt x="837" y="2539"/>
                </a:lnTo>
                <a:lnTo>
                  <a:pt x="837" y="2538"/>
                </a:lnTo>
                <a:lnTo>
                  <a:pt x="834" y="2530"/>
                </a:lnTo>
                <a:lnTo>
                  <a:pt x="833" y="2516"/>
                </a:lnTo>
                <a:lnTo>
                  <a:pt x="834" y="2485"/>
                </a:lnTo>
                <a:lnTo>
                  <a:pt x="842" y="2456"/>
                </a:lnTo>
                <a:lnTo>
                  <a:pt x="845" y="2449"/>
                </a:lnTo>
                <a:lnTo>
                  <a:pt x="845" y="2449"/>
                </a:lnTo>
                <a:close/>
              </a:path>
            </a:pathLst>
          </a:custGeom>
          <a:noFill/>
          <a:ln w="4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349800" y="5634000"/>
            <a:ext cx="294840" cy="310680"/>
            <a:chOff x="3349800" y="5634000"/>
            <a:chExt cx="294840" cy="310680"/>
          </a:xfrm>
        </p:grpSpPr>
        <p:sp>
          <p:nvSpPr>
            <p:cNvPr id="305" name=""/>
            <p:cNvSpPr/>
            <p:nvPr/>
          </p:nvSpPr>
          <p:spPr>
            <a:xfrm>
              <a:off x="3504600" y="5634000"/>
              <a:ext cx="140040" cy="166320"/>
            </a:xfrm>
            <a:custGeom>
              <a:avLst/>
              <a:gdLst/>
              <a:ahLst/>
              <a:rect l="l" t="t" r="r" b="b"/>
              <a:pathLst>
                <a:path w="575" h="959">
                  <a:moveTo>
                    <a:pt x="21" y="0"/>
                  </a:moveTo>
                  <a:lnTo>
                    <a:pt x="22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2"/>
                  </a:lnTo>
                  <a:lnTo>
                    <a:pt x="28" y="19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33" y="34"/>
                  </a:lnTo>
                  <a:lnTo>
                    <a:pt x="34" y="38"/>
                  </a:lnTo>
                  <a:lnTo>
                    <a:pt x="35" y="38"/>
                  </a:lnTo>
                  <a:lnTo>
                    <a:pt x="37" y="44"/>
                  </a:lnTo>
                  <a:lnTo>
                    <a:pt x="38" y="46"/>
                  </a:lnTo>
                  <a:lnTo>
                    <a:pt x="39" y="46"/>
                  </a:lnTo>
                  <a:lnTo>
                    <a:pt x="38" y="48"/>
                  </a:lnTo>
                  <a:lnTo>
                    <a:pt x="38" y="51"/>
                  </a:lnTo>
                  <a:lnTo>
                    <a:pt x="38" y="54"/>
                  </a:lnTo>
                  <a:lnTo>
                    <a:pt x="38" y="54"/>
                  </a:lnTo>
                  <a:lnTo>
                    <a:pt x="39" y="57"/>
                  </a:lnTo>
                  <a:lnTo>
                    <a:pt x="40" y="58"/>
                  </a:lnTo>
                  <a:lnTo>
                    <a:pt x="41" y="60"/>
                  </a:lnTo>
                  <a:lnTo>
                    <a:pt x="46" y="67"/>
                  </a:lnTo>
                  <a:lnTo>
                    <a:pt x="49" y="71"/>
                  </a:lnTo>
                  <a:lnTo>
                    <a:pt x="50" y="71"/>
                  </a:lnTo>
                  <a:lnTo>
                    <a:pt x="55" y="68"/>
                  </a:lnTo>
                  <a:lnTo>
                    <a:pt x="58" y="67"/>
                  </a:lnTo>
                  <a:lnTo>
                    <a:pt x="59" y="66"/>
                  </a:lnTo>
                  <a:lnTo>
                    <a:pt x="60" y="65"/>
                  </a:lnTo>
                  <a:lnTo>
                    <a:pt x="64" y="59"/>
                  </a:lnTo>
                  <a:lnTo>
                    <a:pt x="68" y="55"/>
                  </a:lnTo>
                  <a:lnTo>
                    <a:pt x="69" y="54"/>
                  </a:lnTo>
                  <a:lnTo>
                    <a:pt x="69" y="55"/>
                  </a:lnTo>
                  <a:lnTo>
                    <a:pt x="70" y="58"/>
                  </a:lnTo>
                  <a:lnTo>
                    <a:pt x="70" y="59"/>
                  </a:lnTo>
                  <a:lnTo>
                    <a:pt x="71" y="59"/>
                  </a:lnTo>
                  <a:lnTo>
                    <a:pt x="70" y="61"/>
                  </a:lnTo>
                  <a:lnTo>
                    <a:pt x="69" y="66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70" y="69"/>
                  </a:lnTo>
                  <a:lnTo>
                    <a:pt x="76" y="69"/>
                  </a:lnTo>
                  <a:lnTo>
                    <a:pt x="81" y="69"/>
                  </a:lnTo>
                  <a:lnTo>
                    <a:pt x="82" y="69"/>
                  </a:lnTo>
                  <a:lnTo>
                    <a:pt x="83" y="69"/>
                  </a:lnTo>
                  <a:lnTo>
                    <a:pt x="87" y="68"/>
                  </a:lnTo>
                  <a:lnTo>
                    <a:pt x="91" y="68"/>
                  </a:lnTo>
                  <a:lnTo>
                    <a:pt x="92" y="67"/>
                  </a:lnTo>
                  <a:lnTo>
                    <a:pt x="93" y="69"/>
                  </a:lnTo>
                  <a:lnTo>
                    <a:pt x="97" y="72"/>
                  </a:lnTo>
                  <a:lnTo>
                    <a:pt x="101" y="76"/>
                  </a:lnTo>
                  <a:lnTo>
                    <a:pt x="102" y="76"/>
                  </a:lnTo>
                  <a:lnTo>
                    <a:pt x="103" y="76"/>
                  </a:lnTo>
                  <a:lnTo>
                    <a:pt x="109" y="76"/>
                  </a:lnTo>
                  <a:lnTo>
                    <a:pt x="114" y="76"/>
                  </a:lnTo>
                  <a:lnTo>
                    <a:pt x="115" y="76"/>
                  </a:lnTo>
                  <a:lnTo>
                    <a:pt x="116" y="76"/>
                  </a:lnTo>
                  <a:lnTo>
                    <a:pt x="120" y="76"/>
                  </a:lnTo>
                  <a:lnTo>
                    <a:pt x="123" y="76"/>
                  </a:lnTo>
                  <a:lnTo>
                    <a:pt x="125" y="76"/>
                  </a:lnTo>
                  <a:lnTo>
                    <a:pt x="132" y="82"/>
                  </a:lnTo>
                  <a:lnTo>
                    <a:pt x="137" y="85"/>
                  </a:lnTo>
                  <a:lnTo>
                    <a:pt x="138" y="85"/>
                  </a:lnTo>
                  <a:lnTo>
                    <a:pt x="141" y="90"/>
                  </a:lnTo>
                  <a:lnTo>
                    <a:pt x="142" y="91"/>
                  </a:lnTo>
                  <a:lnTo>
                    <a:pt x="143" y="91"/>
                  </a:lnTo>
                  <a:lnTo>
                    <a:pt x="142" y="92"/>
                  </a:lnTo>
                  <a:lnTo>
                    <a:pt x="141" y="93"/>
                  </a:lnTo>
                  <a:lnTo>
                    <a:pt x="141" y="93"/>
                  </a:lnTo>
                  <a:lnTo>
                    <a:pt x="140" y="94"/>
                  </a:lnTo>
                  <a:lnTo>
                    <a:pt x="133" y="97"/>
                  </a:lnTo>
                  <a:lnTo>
                    <a:pt x="129" y="100"/>
                  </a:lnTo>
                  <a:lnTo>
                    <a:pt x="129" y="100"/>
                  </a:lnTo>
                  <a:lnTo>
                    <a:pt x="132" y="102"/>
                  </a:lnTo>
                  <a:lnTo>
                    <a:pt x="142" y="108"/>
                  </a:lnTo>
                  <a:lnTo>
                    <a:pt x="150" y="113"/>
                  </a:lnTo>
                  <a:lnTo>
                    <a:pt x="151" y="113"/>
                  </a:lnTo>
                  <a:lnTo>
                    <a:pt x="151" y="112"/>
                  </a:lnTo>
                  <a:lnTo>
                    <a:pt x="152" y="108"/>
                  </a:lnTo>
                  <a:lnTo>
                    <a:pt x="152" y="106"/>
                  </a:lnTo>
                  <a:lnTo>
                    <a:pt x="153" y="105"/>
                  </a:lnTo>
                  <a:lnTo>
                    <a:pt x="154" y="106"/>
                  </a:lnTo>
                  <a:lnTo>
                    <a:pt x="158" y="109"/>
                  </a:lnTo>
                  <a:lnTo>
                    <a:pt x="162" y="112"/>
                  </a:lnTo>
                  <a:lnTo>
                    <a:pt x="163" y="112"/>
                  </a:lnTo>
                  <a:lnTo>
                    <a:pt x="163" y="113"/>
                  </a:lnTo>
                  <a:lnTo>
                    <a:pt x="163" y="114"/>
                  </a:lnTo>
                  <a:lnTo>
                    <a:pt x="163" y="119"/>
                  </a:lnTo>
                  <a:lnTo>
                    <a:pt x="163" y="123"/>
                  </a:lnTo>
                  <a:lnTo>
                    <a:pt x="164" y="123"/>
                  </a:lnTo>
                  <a:lnTo>
                    <a:pt x="164" y="124"/>
                  </a:lnTo>
                  <a:lnTo>
                    <a:pt x="164" y="125"/>
                  </a:lnTo>
                  <a:lnTo>
                    <a:pt x="166" y="131"/>
                  </a:lnTo>
                  <a:lnTo>
                    <a:pt x="167" y="136"/>
                  </a:lnTo>
                  <a:lnTo>
                    <a:pt x="168" y="136"/>
                  </a:lnTo>
                  <a:lnTo>
                    <a:pt x="169" y="138"/>
                  </a:lnTo>
                  <a:lnTo>
                    <a:pt x="173" y="141"/>
                  </a:lnTo>
                  <a:lnTo>
                    <a:pt x="176" y="143"/>
                  </a:lnTo>
                  <a:lnTo>
                    <a:pt x="177" y="143"/>
                  </a:lnTo>
                  <a:lnTo>
                    <a:pt x="178" y="146"/>
                  </a:lnTo>
                  <a:lnTo>
                    <a:pt x="181" y="149"/>
                  </a:lnTo>
                  <a:lnTo>
                    <a:pt x="184" y="151"/>
                  </a:lnTo>
                  <a:lnTo>
                    <a:pt x="185" y="151"/>
                  </a:lnTo>
                  <a:lnTo>
                    <a:pt x="185" y="152"/>
                  </a:lnTo>
                  <a:lnTo>
                    <a:pt x="186" y="155"/>
                  </a:lnTo>
                  <a:lnTo>
                    <a:pt x="186" y="157"/>
                  </a:lnTo>
                  <a:lnTo>
                    <a:pt x="187" y="157"/>
                  </a:lnTo>
                  <a:lnTo>
                    <a:pt x="187" y="158"/>
                  </a:lnTo>
                  <a:lnTo>
                    <a:pt x="187" y="159"/>
                  </a:lnTo>
                  <a:lnTo>
                    <a:pt x="187" y="165"/>
                  </a:lnTo>
                  <a:lnTo>
                    <a:pt x="187" y="170"/>
                  </a:lnTo>
                  <a:lnTo>
                    <a:pt x="188" y="170"/>
                  </a:lnTo>
                  <a:lnTo>
                    <a:pt x="188" y="171"/>
                  </a:lnTo>
                  <a:lnTo>
                    <a:pt x="188" y="173"/>
                  </a:lnTo>
                  <a:lnTo>
                    <a:pt x="189" y="179"/>
                  </a:lnTo>
                  <a:lnTo>
                    <a:pt x="190" y="184"/>
                  </a:lnTo>
                  <a:lnTo>
                    <a:pt x="191" y="184"/>
                  </a:lnTo>
                  <a:lnTo>
                    <a:pt x="188" y="183"/>
                  </a:lnTo>
                  <a:lnTo>
                    <a:pt x="187" y="182"/>
                  </a:lnTo>
                  <a:lnTo>
                    <a:pt x="187" y="181"/>
                  </a:lnTo>
                  <a:lnTo>
                    <a:pt x="184" y="179"/>
                  </a:lnTo>
                  <a:lnTo>
                    <a:pt x="177" y="176"/>
                  </a:lnTo>
                  <a:lnTo>
                    <a:pt x="172" y="173"/>
                  </a:lnTo>
                  <a:lnTo>
                    <a:pt x="172" y="172"/>
                  </a:lnTo>
                  <a:lnTo>
                    <a:pt x="169" y="173"/>
                  </a:lnTo>
                  <a:lnTo>
                    <a:pt x="164" y="174"/>
                  </a:lnTo>
                  <a:lnTo>
                    <a:pt x="161" y="174"/>
                  </a:lnTo>
                  <a:lnTo>
                    <a:pt x="161" y="174"/>
                  </a:lnTo>
                  <a:lnTo>
                    <a:pt x="161" y="175"/>
                  </a:lnTo>
                  <a:lnTo>
                    <a:pt x="161" y="176"/>
                  </a:lnTo>
                  <a:lnTo>
                    <a:pt x="162" y="183"/>
                  </a:lnTo>
                  <a:lnTo>
                    <a:pt x="163" y="187"/>
                  </a:lnTo>
                  <a:lnTo>
                    <a:pt x="164" y="187"/>
                  </a:lnTo>
                  <a:lnTo>
                    <a:pt x="166" y="189"/>
                  </a:lnTo>
                  <a:lnTo>
                    <a:pt x="167" y="189"/>
                  </a:lnTo>
                  <a:lnTo>
                    <a:pt x="169" y="189"/>
                  </a:lnTo>
                  <a:lnTo>
                    <a:pt x="170" y="189"/>
                  </a:lnTo>
                  <a:lnTo>
                    <a:pt x="172" y="188"/>
                  </a:lnTo>
                  <a:lnTo>
                    <a:pt x="175" y="193"/>
                  </a:lnTo>
                  <a:lnTo>
                    <a:pt x="177" y="195"/>
                  </a:lnTo>
                  <a:lnTo>
                    <a:pt x="178" y="195"/>
                  </a:lnTo>
                  <a:lnTo>
                    <a:pt x="178" y="196"/>
                  </a:lnTo>
                  <a:lnTo>
                    <a:pt x="178" y="198"/>
                  </a:lnTo>
                  <a:lnTo>
                    <a:pt x="180" y="205"/>
                  </a:lnTo>
                  <a:lnTo>
                    <a:pt x="181" y="209"/>
                  </a:lnTo>
                  <a:lnTo>
                    <a:pt x="183" y="209"/>
                  </a:lnTo>
                  <a:lnTo>
                    <a:pt x="184" y="211"/>
                  </a:lnTo>
                  <a:lnTo>
                    <a:pt x="189" y="218"/>
                  </a:lnTo>
                  <a:lnTo>
                    <a:pt x="193" y="222"/>
                  </a:lnTo>
                  <a:lnTo>
                    <a:pt x="195" y="222"/>
                  </a:lnTo>
                  <a:lnTo>
                    <a:pt x="196" y="227"/>
                  </a:lnTo>
                  <a:lnTo>
                    <a:pt x="201" y="236"/>
                  </a:lnTo>
                  <a:lnTo>
                    <a:pt x="205" y="244"/>
                  </a:lnTo>
                  <a:lnTo>
                    <a:pt x="207" y="244"/>
                  </a:lnTo>
                  <a:lnTo>
                    <a:pt x="208" y="246"/>
                  </a:lnTo>
                  <a:lnTo>
                    <a:pt x="212" y="252"/>
                  </a:lnTo>
                  <a:lnTo>
                    <a:pt x="215" y="256"/>
                  </a:lnTo>
                  <a:lnTo>
                    <a:pt x="216" y="256"/>
                  </a:lnTo>
                  <a:lnTo>
                    <a:pt x="216" y="257"/>
                  </a:lnTo>
                  <a:lnTo>
                    <a:pt x="216" y="259"/>
                  </a:lnTo>
                  <a:lnTo>
                    <a:pt x="216" y="260"/>
                  </a:lnTo>
                  <a:lnTo>
                    <a:pt x="217" y="260"/>
                  </a:lnTo>
                  <a:lnTo>
                    <a:pt x="216" y="262"/>
                  </a:lnTo>
                  <a:lnTo>
                    <a:pt x="215" y="263"/>
                  </a:lnTo>
                  <a:lnTo>
                    <a:pt x="210" y="269"/>
                  </a:lnTo>
                  <a:lnTo>
                    <a:pt x="207" y="274"/>
                  </a:lnTo>
                  <a:lnTo>
                    <a:pt x="207" y="274"/>
                  </a:lnTo>
                  <a:lnTo>
                    <a:pt x="205" y="277"/>
                  </a:lnTo>
                  <a:lnTo>
                    <a:pt x="203" y="283"/>
                  </a:lnTo>
                  <a:lnTo>
                    <a:pt x="202" y="288"/>
                  </a:lnTo>
                  <a:lnTo>
                    <a:pt x="202" y="288"/>
                  </a:lnTo>
                  <a:lnTo>
                    <a:pt x="202" y="289"/>
                  </a:lnTo>
                  <a:lnTo>
                    <a:pt x="202" y="292"/>
                  </a:lnTo>
                  <a:lnTo>
                    <a:pt x="202" y="293"/>
                  </a:lnTo>
                  <a:lnTo>
                    <a:pt x="203" y="293"/>
                  </a:lnTo>
                  <a:lnTo>
                    <a:pt x="208" y="295"/>
                  </a:lnTo>
                  <a:lnTo>
                    <a:pt x="210" y="295"/>
                  </a:lnTo>
                  <a:lnTo>
                    <a:pt x="211" y="295"/>
                  </a:lnTo>
                  <a:lnTo>
                    <a:pt x="210" y="299"/>
                  </a:lnTo>
                  <a:lnTo>
                    <a:pt x="209" y="305"/>
                  </a:lnTo>
                  <a:lnTo>
                    <a:pt x="208" y="310"/>
                  </a:lnTo>
                  <a:lnTo>
                    <a:pt x="208" y="310"/>
                  </a:lnTo>
                  <a:lnTo>
                    <a:pt x="203" y="311"/>
                  </a:lnTo>
                  <a:lnTo>
                    <a:pt x="202" y="311"/>
                  </a:lnTo>
                  <a:lnTo>
                    <a:pt x="202" y="311"/>
                  </a:lnTo>
                  <a:lnTo>
                    <a:pt x="201" y="312"/>
                  </a:lnTo>
                  <a:lnTo>
                    <a:pt x="198" y="316"/>
                  </a:lnTo>
                  <a:lnTo>
                    <a:pt x="196" y="320"/>
                  </a:lnTo>
                  <a:lnTo>
                    <a:pt x="196" y="320"/>
                  </a:lnTo>
                  <a:lnTo>
                    <a:pt x="197" y="322"/>
                  </a:lnTo>
                  <a:lnTo>
                    <a:pt x="198" y="323"/>
                  </a:lnTo>
                  <a:lnTo>
                    <a:pt x="199" y="323"/>
                  </a:lnTo>
                  <a:lnTo>
                    <a:pt x="202" y="323"/>
                  </a:lnTo>
                  <a:lnTo>
                    <a:pt x="203" y="323"/>
                  </a:lnTo>
                  <a:lnTo>
                    <a:pt x="204" y="323"/>
                  </a:lnTo>
                  <a:lnTo>
                    <a:pt x="205" y="324"/>
                  </a:lnTo>
                  <a:lnTo>
                    <a:pt x="209" y="325"/>
                  </a:lnTo>
                  <a:lnTo>
                    <a:pt x="211" y="326"/>
                  </a:lnTo>
                  <a:lnTo>
                    <a:pt x="212" y="326"/>
                  </a:lnTo>
                  <a:lnTo>
                    <a:pt x="213" y="328"/>
                  </a:lnTo>
                  <a:lnTo>
                    <a:pt x="214" y="328"/>
                  </a:lnTo>
                  <a:lnTo>
                    <a:pt x="222" y="330"/>
                  </a:lnTo>
                  <a:lnTo>
                    <a:pt x="226" y="330"/>
                  </a:lnTo>
                  <a:lnTo>
                    <a:pt x="227" y="330"/>
                  </a:lnTo>
                  <a:lnTo>
                    <a:pt x="231" y="328"/>
                  </a:lnTo>
                  <a:lnTo>
                    <a:pt x="232" y="327"/>
                  </a:lnTo>
                  <a:lnTo>
                    <a:pt x="233" y="326"/>
                  </a:lnTo>
                  <a:lnTo>
                    <a:pt x="234" y="326"/>
                  </a:lnTo>
                  <a:lnTo>
                    <a:pt x="239" y="325"/>
                  </a:lnTo>
                  <a:lnTo>
                    <a:pt x="244" y="324"/>
                  </a:lnTo>
                  <a:lnTo>
                    <a:pt x="245" y="323"/>
                  </a:lnTo>
                  <a:lnTo>
                    <a:pt x="246" y="324"/>
                  </a:lnTo>
                  <a:lnTo>
                    <a:pt x="249" y="325"/>
                  </a:lnTo>
                  <a:lnTo>
                    <a:pt x="251" y="326"/>
                  </a:lnTo>
                  <a:lnTo>
                    <a:pt x="252" y="326"/>
                  </a:lnTo>
                  <a:lnTo>
                    <a:pt x="252" y="327"/>
                  </a:lnTo>
                  <a:lnTo>
                    <a:pt x="252" y="329"/>
                  </a:lnTo>
                  <a:lnTo>
                    <a:pt x="252" y="337"/>
                  </a:lnTo>
                  <a:lnTo>
                    <a:pt x="252" y="344"/>
                  </a:lnTo>
                  <a:lnTo>
                    <a:pt x="254" y="344"/>
                  </a:lnTo>
                  <a:lnTo>
                    <a:pt x="254" y="345"/>
                  </a:lnTo>
                  <a:lnTo>
                    <a:pt x="254" y="347"/>
                  </a:lnTo>
                  <a:lnTo>
                    <a:pt x="255" y="353"/>
                  </a:lnTo>
                  <a:lnTo>
                    <a:pt x="256" y="359"/>
                  </a:lnTo>
                  <a:lnTo>
                    <a:pt x="257" y="359"/>
                  </a:lnTo>
                  <a:lnTo>
                    <a:pt x="263" y="362"/>
                  </a:lnTo>
                  <a:lnTo>
                    <a:pt x="268" y="363"/>
                  </a:lnTo>
                  <a:lnTo>
                    <a:pt x="269" y="363"/>
                  </a:lnTo>
                  <a:lnTo>
                    <a:pt x="270" y="362"/>
                  </a:lnTo>
                  <a:lnTo>
                    <a:pt x="273" y="356"/>
                  </a:lnTo>
                  <a:lnTo>
                    <a:pt x="277" y="351"/>
                  </a:lnTo>
                  <a:lnTo>
                    <a:pt x="278" y="350"/>
                  </a:lnTo>
                  <a:lnTo>
                    <a:pt x="278" y="347"/>
                  </a:lnTo>
                  <a:lnTo>
                    <a:pt x="278" y="335"/>
                  </a:lnTo>
                  <a:lnTo>
                    <a:pt x="278" y="326"/>
                  </a:lnTo>
                  <a:lnTo>
                    <a:pt x="279" y="325"/>
                  </a:lnTo>
                  <a:lnTo>
                    <a:pt x="279" y="322"/>
                  </a:lnTo>
                  <a:lnTo>
                    <a:pt x="278" y="311"/>
                  </a:lnTo>
                  <a:lnTo>
                    <a:pt x="278" y="302"/>
                  </a:lnTo>
                  <a:lnTo>
                    <a:pt x="279" y="301"/>
                  </a:lnTo>
                  <a:lnTo>
                    <a:pt x="279" y="300"/>
                  </a:lnTo>
                  <a:lnTo>
                    <a:pt x="278" y="294"/>
                  </a:lnTo>
                  <a:lnTo>
                    <a:pt x="278" y="291"/>
                  </a:lnTo>
                  <a:lnTo>
                    <a:pt x="279" y="290"/>
                  </a:lnTo>
                  <a:lnTo>
                    <a:pt x="277" y="288"/>
                  </a:lnTo>
                  <a:lnTo>
                    <a:pt x="272" y="280"/>
                  </a:lnTo>
                  <a:lnTo>
                    <a:pt x="269" y="274"/>
                  </a:lnTo>
                  <a:lnTo>
                    <a:pt x="269" y="272"/>
                  </a:lnTo>
                  <a:lnTo>
                    <a:pt x="270" y="272"/>
                  </a:lnTo>
                  <a:lnTo>
                    <a:pt x="273" y="271"/>
                  </a:lnTo>
                  <a:lnTo>
                    <a:pt x="275" y="271"/>
                  </a:lnTo>
                  <a:lnTo>
                    <a:pt x="277" y="270"/>
                  </a:lnTo>
                  <a:lnTo>
                    <a:pt x="277" y="271"/>
                  </a:lnTo>
                  <a:lnTo>
                    <a:pt x="277" y="272"/>
                  </a:lnTo>
                  <a:lnTo>
                    <a:pt x="279" y="278"/>
                  </a:lnTo>
                  <a:lnTo>
                    <a:pt x="280" y="282"/>
                  </a:lnTo>
                  <a:lnTo>
                    <a:pt x="281" y="282"/>
                  </a:lnTo>
                  <a:lnTo>
                    <a:pt x="283" y="283"/>
                  </a:lnTo>
                  <a:lnTo>
                    <a:pt x="290" y="286"/>
                  </a:lnTo>
                  <a:lnTo>
                    <a:pt x="294" y="287"/>
                  </a:lnTo>
                  <a:lnTo>
                    <a:pt x="295" y="287"/>
                  </a:lnTo>
                  <a:lnTo>
                    <a:pt x="302" y="289"/>
                  </a:lnTo>
                  <a:lnTo>
                    <a:pt x="306" y="289"/>
                  </a:lnTo>
                  <a:lnTo>
                    <a:pt x="307" y="289"/>
                  </a:lnTo>
                  <a:lnTo>
                    <a:pt x="307" y="292"/>
                  </a:lnTo>
                  <a:lnTo>
                    <a:pt x="306" y="302"/>
                  </a:lnTo>
                  <a:lnTo>
                    <a:pt x="306" y="310"/>
                  </a:lnTo>
                  <a:lnTo>
                    <a:pt x="307" y="310"/>
                  </a:lnTo>
                  <a:lnTo>
                    <a:pt x="308" y="312"/>
                  </a:lnTo>
                  <a:lnTo>
                    <a:pt x="309" y="313"/>
                  </a:lnTo>
                  <a:lnTo>
                    <a:pt x="309" y="314"/>
                  </a:lnTo>
                  <a:lnTo>
                    <a:pt x="309" y="316"/>
                  </a:lnTo>
                  <a:lnTo>
                    <a:pt x="309" y="323"/>
                  </a:lnTo>
                  <a:lnTo>
                    <a:pt x="309" y="328"/>
                  </a:lnTo>
                  <a:lnTo>
                    <a:pt x="310" y="328"/>
                  </a:lnTo>
                  <a:lnTo>
                    <a:pt x="310" y="329"/>
                  </a:lnTo>
                  <a:lnTo>
                    <a:pt x="310" y="330"/>
                  </a:lnTo>
                  <a:lnTo>
                    <a:pt x="312" y="336"/>
                  </a:lnTo>
                  <a:lnTo>
                    <a:pt x="312" y="339"/>
                  </a:lnTo>
                  <a:lnTo>
                    <a:pt x="313" y="339"/>
                  </a:lnTo>
                  <a:lnTo>
                    <a:pt x="313" y="341"/>
                  </a:lnTo>
                  <a:lnTo>
                    <a:pt x="312" y="346"/>
                  </a:lnTo>
                  <a:lnTo>
                    <a:pt x="312" y="349"/>
                  </a:lnTo>
                  <a:lnTo>
                    <a:pt x="313" y="349"/>
                  </a:lnTo>
                  <a:lnTo>
                    <a:pt x="312" y="351"/>
                  </a:lnTo>
                  <a:lnTo>
                    <a:pt x="310" y="355"/>
                  </a:lnTo>
                  <a:lnTo>
                    <a:pt x="310" y="357"/>
                  </a:lnTo>
                  <a:lnTo>
                    <a:pt x="310" y="357"/>
                  </a:lnTo>
                  <a:lnTo>
                    <a:pt x="310" y="358"/>
                  </a:lnTo>
                  <a:lnTo>
                    <a:pt x="310" y="360"/>
                  </a:lnTo>
                  <a:lnTo>
                    <a:pt x="310" y="367"/>
                  </a:lnTo>
                  <a:lnTo>
                    <a:pt x="310" y="371"/>
                  </a:lnTo>
                  <a:lnTo>
                    <a:pt x="312" y="371"/>
                  </a:lnTo>
                  <a:lnTo>
                    <a:pt x="315" y="376"/>
                  </a:lnTo>
                  <a:lnTo>
                    <a:pt x="317" y="379"/>
                  </a:lnTo>
                  <a:lnTo>
                    <a:pt x="318" y="379"/>
                  </a:lnTo>
                  <a:lnTo>
                    <a:pt x="318" y="380"/>
                  </a:lnTo>
                  <a:lnTo>
                    <a:pt x="318" y="381"/>
                  </a:lnTo>
                  <a:lnTo>
                    <a:pt x="320" y="386"/>
                  </a:lnTo>
                  <a:lnTo>
                    <a:pt x="321" y="390"/>
                  </a:lnTo>
                  <a:lnTo>
                    <a:pt x="322" y="390"/>
                  </a:lnTo>
                  <a:lnTo>
                    <a:pt x="322" y="391"/>
                  </a:lnTo>
                  <a:lnTo>
                    <a:pt x="322" y="393"/>
                  </a:lnTo>
                  <a:lnTo>
                    <a:pt x="324" y="403"/>
                  </a:lnTo>
                  <a:lnTo>
                    <a:pt x="324" y="410"/>
                  </a:lnTo>
                  <a:lnTo>
                    <a:pt x="325" y="410"/>
                  </a:lnTo>
                  <a:lnTo>
                    <a:pt x="326" y="412"/>
                  </a:lnTo>
                  <a:lnTo>
                    <a:pt x="332" y="418"/>
                  </a:lnTo>
                  <a:lnTo>
                    <a:pt x="337" y="422"/>
                  </a:lnTo>
                  <a:lnTo>
                    <a:pt x="338" y="422"/>
                  </a:lnTo>
                  <a:lnTo>
                    <a:pt x="340" y="422"/>
                  </a:lnTo>
                  <a:lnTo>
                    <a:pt x="346" y="422"/>
                  </a:lnTo>
                  <a:lnTo>
                    <a:pt x="352" y="422"/>
                  </a:lnTo>
                  <a:lnTo>
                    <a:pt x="353" y="421"/>
                  </a:lnTo>
                  <a:lnTo>
                    <a:pt x="355" y="425"/>
                  </a:lnTo>
                  <a:lnTo>
                    <a:pt x="365" y="431"/>
                  </a:lnTo>
                  <a:lnTo>
                    <a:pt x="372" y="437"/>
                  </a:lnTo>
                  <a:lnTo>
                    <a:pt x="373" y="437"/>
                  </a:lnTo>
                  <a:lnTo>
                    <a:pt x="376" y="439"/>
                  </a:lnTo>
                  <a:lnTo>
                    <a:pt x="387" y="442"/>
                  </a:lnTo>
                  <a:lnTo>
                    <a:pt x="395" y="444"/>
                  </a:lnTo>
                  <a:lnTo>
                    <a:pt x="396" y="444"/>
                  </a:lnTo>
                  <a:lnTo>
                    <a:pt x="399" y="445"/>
                  </a:lnTo>
                  <a:lnTo>
                    <a:pt x="411" y="449"/>
                  </a:lnTo>
                  <a:lnTo>
                    <a:pt x="420" y="451"/>
                  </a:lnTo>
                  <a:lnTo>
                    <a:pt x="421" y="451"/>
                  </a:lnTo>
                  <a:lnTo>
                    <a:pt x="423" y="453"/>
                  </a:lnTo>
                  <a:lnTo>
                    <a:pt x="430" y="456"/>
                  </a:lnTo>
                  <a:lnTo>
                    <a:pt x="434" y="458"/>
                  </a:lnTo>
                  <a:lnTo>
                    <a:pt x="435" y="458"/>
                  </a:lnTo>
                  <a:lnTo>
                    <a:pt x="441" y="461"/>
                  </a:lnTo>
                  <a:lnTo>
                    <a:pt x="444" y="462"/>
                  </a:lnTo>
                  <a:lnTo>
                    <a:pt x="445" y="462"/>
                  </a:lnTo>
                  <a:lnTo>
                    <a:pt x="446" y="462"/>
                  </a:lnTo>
                  <a:lnTo>
                    <a:pt x="449" y="462"/>
                  </a:lnTo>
                  <a:lnTo>
                    <a:pt x="453" y="462"/>
                  </a:lnTo>
                  <a:lnTo>
                    <a:pt x="454" y="461"/>
                  </a:lnTo>
                  <a:lnTo>
                    <a:pt x="455" y="460"/>
                  </a:lnTo>
                  <a:lnTo>
                    <a:pt x="459" y="454"/>
                  </a:lnTo>
                  <a:lnTo>
                    <a:pt x="462" y="450"/>
                  </a:lnTo>
                  <a:lnTo>
                    <a:pt x="463" y="449"/>
                  </a:lnTo>
                  <a:lnTo>
                    <a:pt x="465" y="449"/>
                  </a:lnTo>
                  <a:lnTo>
                    <a:pt x="468" y="449"/>
                  </a:lnTo>
                  <a:lnTo>
                    <a:pt x="470" y="449"/>
                  </a:lnTo>
                  <a:lnTo>
                    <a:pt x="471" y="449"/>
                  </a:lnTo>
                  <a:lnTo>
                    <a:pt x="472" y="446"/>
                  </a:lnTo>
                  <a:lnTo>
                    <a:pt x="475" y="440"/>
                  </a:lnTo>
                  <a:lnTo>
                    <a:pt x="479" y="435"/>
                  </a:lnTo>
                  <a:lnTo>
                    <a:pt x="480" y="434"/>
                  </a:lnTo>
                  <a:lnTo>
                    <a:pt x="481" y="433"/>
                  </a:lnTo>
                  <a:lnTo>
                    <a:pt x="484" y="430"/>
                  </a:lnTo>
                  <a:lnTo>
                    <a:pt x="486" y="427"/>
                  </a:lnTo>
                  <a:lnTo>
                    <a:pt x="488" y="426"/>
                  </a:lnTo>
                  <a:lnTo>
                    <a:pt x="492" y="422"/>
                  </a:lnTo>
                  <a:lnTo>
                    <a:pt x="495" y="421"/>
                  </a:lnTo>
                  <a:lnTo>
                    <a:pt x="496" y="420"/>
                  </a:lnTo>
                  <a:lnTo>
                    <a:pt x="497" y="419"/>
                  </a:lnTo>
                  <a:lnTo>
                    <a:pt x="502" y="416"/>
                  </a:lnTo>
                  <a:lnTo>
                    <a:pt x="505" y="412"/>
                  </a:lnTo>
                  <a:lnTo>
                    <a:pt x="506" y="411"/>
                  </a:lnTo>
                  <a:lnTo>
                    <a:pt x="508" y="410"/>
                  </a:lnTo>
                  <a:lnTo>
                    <a:pt x="515" y="407"/>
                  </a:lnTo>
                  <a:lnTo>
                    <a:pt x="519" y="404"/>
                  </a:lnTo>
                  <a:lnTo>
                    <a:pt x="520" y="403"/>
                  </a:lnTo>
                  <a:lnTo>
                    <a:pt x="524" y="399"/>
                  </a:lnTo>
                  <a:lnTo>
                    <a:pt x="526" y="397"/>
                  </a:lnTo>
                  <a:lnTo>
                    <a:pt x="527" y="396"/>
                  </a:lnTo>
                  <a:lnTo>
                    <a:pt x="528" y="396"/>
                  </a:lnTo>
                  <a:lnTo>
                    <a:pt x="533" y="394"/>
                  </a:lnTo>
                  <a:lnTo>
                    <a:pt x="537" y="393"/>
                  </a:lnTo>
                  <a:lnTo>
                    <a:pt x="538" y="392"/>
                  </a:lnTo>
                  <a:lnTo>
                    <a:pt x="540" y="393"/>
                  </a:lnTo>
                  <a:lnTo>
                    <a:pt x="547" y="394"/>
                  </a:lnTo>
                  <a:lnTo>
                    <a:pt x="552" y="394"/>
                  </a:lnTo>
                  <a:lnTo>
                    <a:pt x="553" y="394"/>
                  </a:lnTo>
                  <a:lnTo>
                    <a:pt x="560" y="399"/>
                  </a:lnTo>
                  <a:lnTo>
                    <a:pt x="564" y="403"/>
                  </a:lnTo>
                  <a:lnTo>
                    <a:pt x="565" y="403"/>
                  </a:lnTo>
                  <a:lnTo>
                    <a:pt x="571" y="408"/>
                  </a:lnTo>
                  <a:lnTo>
                    <a:pt x="574" y="410"/>
                  </a:lnTo>
                  <a:lnTo>
                    <a:pt x="575" y="410"/>
                  </a:lnTo>
                  <a:lnTo>
                    <a:pt x="575" y="412"/>
                  </a:lnTo>
                  <a:lnTo>
                    <a:pt x="574" y="417"/>
                  </a:lnTo>
                  <a:lnTo>
                    <a:pt x="574" y="420"/>
                  </a:lnTo>
                  <a:lnTo>
                    <a:pt x="575" y="420"/>
                  </a:lnTo>
                  <a:lnTo>
                    <a:pt x="574" y="423"/>
                  </a:lnTo>
                  <a:lnTo>
                    <a:pt x="572" y="431"/>
                  </a:lnTo>
                  <a:lnTo>
                    <a:pt x="571" y="438"/>
                  </a:lnTo>
                  <a:lnTo>
                    <a:pt x="571" y="438"/>
                  </a:lnTo>
                  <a:lnTo>
                    <a:pt x="570" y="440"/>
                  </a:lnTo>
                  <a:lnTo>
                    <a:pt x="567" y="445"/>
                  </a:lnTo>
                  <a:lnTo>
                    <a:pt x="566" y="450"/>
                  </a:lnTo>
                  <a:lnTo>
                    <a:pt x="566" y="450"/>
                  </a:lnTo>
                  <a:lnTo>
                    <a:pt x="565" y="451"/>
                  </a:lnTo>
                  <a:lnTo>
                    <a:pt x="564" y="453"/>
                  </a:lnTo>
                  <a:lnTo>
                    <a:pt x="561" y="460"/>
                  </a:lnTo>
                  <a:lnTo>
                    <a:pt x="559" y="465"/>
                  </a:lnTo>
                  <a:lnTo>
                    <a:pt x="559" y="465"/>
                  </a:lnTo>
                  <a:lnTo>
                    <a:pt x="557" y="470"/>
                  </a:lnTo>
                  <a:lnTo>
                    <a:pt x="556" y="486"/>
                  </a:lnTo>
                  <a:lnTo>
                    <a:pt x="556" y="497"/>
                  </a:lnTo>
                  <a:lnTo>
                    <a:pt x="556" y="497"/>
                  </a:lnTo>
                  <a:lnTo>
                    <a:pt x="555" y="498"/>
                  </a:lnTo>
                  <a:lnTo>
                    <a:pt x="554" y="501"/>
                  </a:lnTo>
                  <a:lnTo>
                    <a:pt x="553" y="503"/>
                  </a:lnTo>
                  <a:lnTo>
                    <a:pt x="553" y="503"/>
                  </a:lnTo>
                  <a:lnTo>
                    <a:pt x="553" y="505"/>
                  </a:lnTo>
                  <a:lnTo>
                    <a:pt x="552" y="512"/>
                  </a:lnTo>
                  <a:lnTo>
                    <a:pt x="552" y="516"/>
                  </a:lnTo>
                  <a:lnTo>
                    <a:pt x="553" y="516"/>
                  </a:lnTo>
                  <a:lnTo>
                    <a:pt x="552" y="520"/>
                  </a:lnTo>
                  <a:lnTo>
                    <a:pt x="549" y="527"/>
                  </a:lnTo>
                  <a:lnTo>
                    <a:pt x="547" y="534"/>
                  </a:lnTo>
                  <a:lnTo>
                    <a:pt x="547" y="534"/>
                  </a:lnTo>
                  <a:lnTo>
                    <a:pt x="545" y="535"/>
                  </a:lnTo>
                  <a:lnTo>
                    <a:pt x="543" y="537"/>
                  </a:lnTo>
                  <a:lnTo>
                    <a:pt x="536" y="544"/>
                  </a:lnTo>
                  <a:lnTo>
                    <a:pt x="530" y="548"/>
                  </a:lnTo>
                  <a:lnTo>
                    <a:pt x="530" y="548"/>
                  </a:lnTo>
                  <a:lnTo>
                    <a:pt x="527" y="549"/>
                  </a:lnTo>
                  <a:lnTo>
                    <a:pt x="519" y="553"/>
                  </a:lnTo>
                  <a:lnTo>
                    <a:pt x="514" y="554"/>
                  </a:lnTo>
                  <a:lnTo>
                    <a:pt x="514" y="554"/>
                  </a:lnTo>
                  <a:lnTo>
                    <a:pt x="513" y="556"/>
                  </a:lnTo>
                  <a:lnTo>
                    <a:pt x="512" y="561"/>
                  </a:lnTo>
                  <a:lnTo>
                    <a:pt x="512" y="566"/>
                  </a:lnTo>
                  <a:lnTo>
                    <a:pt x="512" y="566"/>
                  </a:lnTo>
                  <a:lnTo>
                    <a:pt x="510" y="569"/>
                  </a:lnTo>
                  <a:lnTo>
                    <a:pt x="509" y="575"/>
                  </a:lnTo>
                  <a:lnTo>
                    <a:pt x="508" y="581"/>
                  </a:lnTo>
                  <a:lnTo>
                    <a:pt x="508" y="581"/>
                  </a:lnTo>
                  <a:lnTo>
                    <a:pt x="507" y="582"/>
                  </a:lnTo>
                  <a:lnTo>
                    <a:pt x="504" y="585"/>
                  </a:lnTo>
                  <a:lnTo>
                    <a:pt x="503" y="588"/>
                  </a:lnTo>
                  <a:lnTo>
                    <a:pt x="503" y="588"/>
                  </a:lnTo>
                  <a:lnTo>
                    <a:pt x="503" y="589"/>
                  </a:lnTo>
                  <a:lnTo>
                    <a:pt x="503" y="591"/>
                  </a:lnTo>
                  <a:lnTo>
                    <a:pt x="503" y="598"/>
                  </a:lnTo>
                  <a:lnTo>
                    <a:pt x="503" y="604"/>
                  </a:lnTo>
                  <a:lnTo>
                    <a:pt x="504" y="604"/>
                  </a:lnTo>
                  <a:lnTo>
                    <a:pt x="506" y="606"/>
                  </a:lnTo>
                  <a:lnTo>
                    <a:pt x="507" y="607"/>
                  </a:lnTo>
                  <a:lnTo>
                    <a:pt x="508" y="607"/>
                  </a:lnTo>
                  <a:lnTo>
                    <a:pt x="508" y="609"/>
                  </a:lnTo>
                  <a:lnTo>
                    <a:pt x="507" y="613"/>
                  </a:lnTo>
                  <a:lnTo>
                    <a:pt x="507" y="615"/>
                  </a:lnTo>
                  <a:lnTo>
                    <a:pt x="508" y="615"/>
                  </a:lnTo>
                  <a:lnTo>
                    <a:pt x="507" y="616"/>
                  </a:lnTo>
                  <a:lnTo>
                    <a:pt x="506" y="618"/>
                  </a:lnTo>
                  <a:lnTo>
                    <a:pt x="501" y="625"/>
                  </a:lnTo>
                  <a:lnTo>
                    <a:pt x="497" y="629"/>
                  </a:lnTo>
                  <a:lnTo>
                    <a:pt x="497" y="629"/>
                  </a:lnTo>
                  <a:lnTo>
                    <a:pt x="496" y="626"/>
                  </a:lnTo>
                  <a:lnTo>
                    <a:pt x="495" y="615"/>
                  </a:lnTo>
                  <a:lnTo>
                    <a:pt x="495" y="606"/>
                  </a:lnTo>
                  <a:lnTo>
                    <a:pt x="495" y="605"/>
                  </a:lnTo>
                  <a:lnTo>
                    <a:pt x="490" y="604"/>
                  </a:lnTo>
                  <a:lnTo>
                    <a:pt x="488" y="603"/>
                  </a:lnTo>
                  <a:lnTo>
                    <a:pt x="488" y="602"/>
                  </a:lnTo>
                  <a:lnTo>
                    <a:pt x="485" y="603"/>
                  </a:lnTo>
                  <a:lnTo>
                    <a:pt x="480" y="604"/>
                  </a:lnTo>
                  <a:lnTo>
                    <a:pt x="475" y="604"/>
                  </a:lnTo>
                  <a:lnTo>
                    <a:pt x="475" y="604"/>
                  </a:lnTo>
                  <a:lnTo>
                    <a:pt x="472" y="605"/>
                  </a:lnTo>
                  <a:lnTo>
                    <a:pt x="466" y="606"/>
                  </a:lnTo>
                  <a:lnTo>
                    <a:pt x="460" y="607"/>
                  </a:lnTo>
                  <a:lnTo>
                    <a:pt x="460" y="607"/>
                  </a:lnTo>
                  <a:lnTo>
                    <a:pt x="457" y="608"/>
                  </a:lnTo>
                  <a:lnTo>
                    <a:pt x="450" y="608"/>
                  </a:lnTo>
                  <a:lnTo>
                    <a:pt x="446" y="608"/>
                  </a:lnTo>
                  <a:lnTo>
                    <a:pt x="446" y="608"/>
                  </a:lnTo>
                  <a:lnTo>
                    <a:pt x="444" y="609"/>
                  </a:lnTo>
                  <a:lnTo>
                    <a:pt x="438" y="612"/>
                  </a:lnTo>
                  <a:lnTo>
                    <a:pt x="435" y="613"/>
                  </a:lnTo>
                  <a:lnTo>
                    <a:pt x="435" y="613"/>
                  </a:lnTo>
                  <a:lnTo>
                    <a:pt x="434" y="614"/>
                  </a:lnTo>
                  <a:lnTo>
                    <a:pt x="433" y="615"/>
                  </a:lnTo>
                  <a:lnTo>
                    <a:pt x="428" y="620"/>
                  </a:lnTo>
                  <a:lnTo>
                    <a:pt x="425" y="624"/>
                  </a:lnTo>
                  <a:lnTo>
                    <a:pt x="425" y="624"/>
                  </a:lnTo>
                  <a:lnTo>
                    <a:pt x="424" y="625"/>
                  </a:lnTo>
                  <a:lnTo>
                    <a:pt x="422" y="627"/>
                  </a:lnTo>
                  <a:lnTo>
                    <a:pt x="415" y="635"/>
                  </a:lnTo>
                  <a:lnTo>
                    <a:pt x="410" y="641"/>
                  </a:lnTo>
                  <a:lnTo>
                    <a:pt x="410" y="641"/>
                  </a:lnTo>
                  <a:lnTo>
                    <a:pt x="409" y="642"/>
                  </a:lnTo>
                  <a:lnTo>
                    <a:pt x="408" y="643"/>
                  </a:lnTo>
                  <a:lnTo>
                    <a:pt x="404" y="648"/>
                  </a:lnTo>
                  <a:lnTo>
                    <a:pt x="401" y="651"/>
                  </a:lnTo>
                  <a:lnTo>
                    <a:pt x="401" y="651"/>
                  </a:lnTo>
                  <a:lnTo>
                    <a:pt x="400" y="652"/>
                  </a:lnTo>
                  <a:lnTo>
                    <a:pt x="399" y="654"/>
                  </a:lnTo>
                  <a:lnTo>
                    <a:pt x="393" y="661"/>
                  </a:lnTo>
                  <a:lnTo>
                    <a:pt x="390" y="666"/>
                  </a:lnTo>
                  <a:lnTo>
                    <a:pt x="390" y="666"/>
                  </a:lnTo>
                  <a:lnTo>
                    <a:pt x="390" y="667"/>
                  </a:lnTo>
                  <a:lnTo>
                    <a:pt x="390" y="668"/>
                  </a:lnTo>
                  <a:lnTo>
                    <a:pt x="390" y="672"/>
                  </a:lnTo>
                  <a:lnTo>
                    <a:pt x="390" y="675"/>
                  </a:lnTo>
                  <a:lnTo>
                    <a:pt x="391" y="675"/>
                  </a:lnTo>
                  <a:lnTo>
                    <a:pt x="393" y="674"/>
                  </a:lnTo>
                  <a:lnTo>
                    <a:pt x="395" y="673"/>
                  </a:lnTo>
                  <a:lnTo>
                    <a:pt x="396" y="672"/>
                  </a:lnTo>
                  <a:lnTo>
                    <a:pt x="396" y="673"/>
                  </a:lnTo>
                  <a:lnTo>
                    <a:pt x="396" y="675"/>
                  </a:lnTo>
                  <a:lnTo>
                    <a:pt x="398" y="683"/>
                  </a:lnTo>
                  <a:lnTo>
                    <a:pt x="399" y="688"/>
                  </a:lnTo>
                  <a:lnTo>
                    <a:pt x="400" y="688"/>
                  </a:lnTo>
                  <a:lnTo>
                    <a:pt x="401" y="689"/>
                  </a:lnTo>
                  <a:lnTo>
                    <a:pt x="404" y="693"/>
                  </a:lnTo>
                  <a:lnTo>
                    <a:pt x="407" y="694"/>
                  </a:lnTo>
                  <a:lnTo>
                    <a:pt x="408" y="694"/>
                  </a:lnTo>
                  <a:lnTo>
                    <a:pt x="407" y="697"/>
                  </a:lnTo>
                  <a:lnTo>
                    <a:pt x="404" y="706"/>
                  </a:lnTo>
                  <a:lnTo>
                    <a:pt x="403" y="712"/>
                  </a:lnTo>
                  <a:lnTo>
                    <a:pt x="403" y="712"/>
                  </a:lnTo>
                  <a:lnTo>
                    <a:pt x="402" y="713"/>
                  </a:lnTo>
                  <a:lnTo>
                    <a:pt x="401" y="716"/>
                  </a:lnTo>
                  <a:lnTo>
                    <a:pt x="397" y="725"/>
                  </a:lnTo>
                  <a:lnTo>
                    <a:pt x="393" y="733"/>
                  </a:lnTo>
                  <a:lnTo>
                    <a:pt x="393" y="733"/>
                  </a:lnTo>
                  <a:lnTo>
                    <a:pt x="392" y="734"/>
                  </a:lnTo>
                  <a:lnTo>
                    <a:pt x="391" y="736"/>
                  </a:lnTo>
                  <a:lnTo>
                    <a:pt x="387" y="744"/>
                  </a:lnTo>
                  <a:lnTo>
                    <a:pt x="384" y="749"/>
                  </a:lnTo>
                  <a:lnTo>
                    <a:pt x="384" y="749"/>
                  </a:lnTo>
                  <a:lnTo>
                    <a:pt x="383" y="751"/>
                  </a:lnTo>
                  <a:lnTo>
                    <a:pt x="381" y="753"/>
                  </a:lnTo>
                  <a:lnTo>
                    <a:pt x="378" y="760"/>
                  </a:lnTo>
                  <a:lnTo>
                    <a:pt x="375" y="766"/>
                  </a:lnTo>
                  <a:lnTo>
                    <a:pt x="375" y="766"/>
                  </a:lnTo>
                  <a:lnTo>
                    <a:pt x="374" y="767"/>
                  </a:lnTo>
                  <a:lnTo>
                    <a:pt x="373" y="769"/>
                  </a:lnTo>
                  <a:lnTo>
                    <a:pt x="367" y="777"/>
                  </a:lnTo>
                  <a:lnTo>
                    <a:pt x="364" y="782"/>
                  </a:lnTo>
                  <a:lnTo>
                    <a:pt x="364" y="782"/>
                  </a:lnTo>
                  <a:lnTo>
                    <a:pt x="363" y="784"/>
                  </a:lnTo>
                  <a:lnTo>
                    <a:pt x="362" y="791"/>
                  </a:lnTo>
                  <a:lnTo>
                    <a:pt x="361" y="795"/>
                  </a:lnTo>
                  <a:lnTo>
                    <a:pt x="361" y="795"/>
                  </a:lnTo>
                  <a:lnTo>
                    <a:pt x="360" y="796"/>
                  </a:lnTo>
                  <a:lnTo>
                    <a:pt x="359" y="798"/>
                  </a:lnTo>
                  <a:lnTo>
                    <a:pt x="352" y="804"/>
                  </a:lnTo>
                  <a:lnTo>
                    <a:pt x="348" y="808"/>
                  </a:lnTo>
                  <a:lnTo>
                    <a:pt x="348" y="808"/>
                  </a:lnTo>
                  <a:lnTo>
                    <a:pt x="346" y="810"/>
                  </a:lnTo>
                  <a:lnTo>
                    <a:pt x="345" y="812"/>
                  </a:lnTo>
                  <a:lnTo>
                    <a:pt x="340" y="819"/>
                  </a:lnTo>
                  <a:lnTo>
                    <a:pt x="336" y="826"/>
                  </a:lnTo>
                  <a:lnTo>
                    <a:pt x="336" y="826"/>
                  </a:lnTo>
                  <a:lnTo>
                    <a:pt x="334" y="827"/>
                  </a:lnTo>
                  <a:lnTo>
                    <a:pt x="332" y="831"/>
                  </a:lnTo>
                  <a:lnTo>
                    <a:pt x="325" y="845"/>
                  </a:lnTo>
                  <a:lnTo>
                    <a:pt x="318" y="856"/>
                  </a:lnTo>
                  <a:lnTo>
                    <a:pt x="318" y="856"/>
                  </a:lnTo>
                  <a:lnTo>
                    <a:pt x="317" y="857"/>
                  </a:lnTo>
                  <a:lnTo>
                    <a:pt x="314" y="862"/>
                  </a:lnTo>
                  <a:lnTo>
                    <a:pt x="302" y="882"/>
                  </a:lnTo>
                  <a:lnTo>
                    <a:pt x="292" y="896"/>
                  </a:lnTo>
                  <a:lnTo>
                    <a:pt x="292" y="896"/>
                  </a:lnTo>
                  <a:lnTo>
                    <a:pt x="291" y="897"/>
                  </a:lnTo>
                  <a:lnTo>
                    <a:pt x="287" y="901"/>
                  </a:lnTo>
                  <a:lnTo>
                    <a:pt x="277" y="917"/>
                  </a:lnTo>
                  <a:lnTo>
                    <a:pt x="269" y="928"/>
                  </a:lnTo>
                  <a:lnTo>
                    <a:pt x="269" y="928"/>
                  </a:lnTo>
                  <a:lnTo>
                    <a:pt x="268" y="929"/>
                  </a:lnTo>
                  <a:lnTo>
                    <a:pt x="263" y="932"/>
                  </a:lnTo>
                  <a:lnTo>
                    <a:pt x="248" y="943"/>
                  </a:lnTo>
                  <a:lnTo>
                    <a:pt x="236" y="951"/>
                  </a:lnTo>
                  <a:lnTo>
                    <a:pt x="236" y="951"/>
                  </a:lnTo>
                  <a:lnTo>
                    <a:pt x="235" y="952"/>
                  </a:lnTo>
                  <a:lnTo>
                    <a:pt x="233" y="953"/>
                  </a:lnTo>
                  <a:lnTo>
                    <a:pt x="226" y="956"/>
                  </a:lnTo>
                  <a:lnTo>
                    <a:pt x="222" y="959"/>
                  </a:lnTo>
                  <a:lnTo>
                    <a:pt x="222" y="959"/>
                  </a:lnTo>
                  <a:lnTo>
                    <a:pt x="220" y="958"/>
                  </a:lnTo>
                  <a:lnTo>
                    <a:pt x="214" y="953"/>
                  </a:lnTo>
                  <a:lnTo>
                    <a:pt x="210" y="949"/>
                  </a:lnTo>
                  <a:lnTo>
                    <a:pt x="210" y="947"/>
                  </a:lnTo>
                  <a:lnTo>
                    <a:pt x="209" y="945"/>
                  </a:lnTo>
                  <a:lnTo>
                    <a:pt x="205" y="939"/>
                  </a:lnTo>
                  <a:lnTo>
                    <a:pt x="203" y="934"/>
                  </a:lnTo>
                  <a:lnTo>
                    <a:pt x="203" y="933"/>
                  </a:lnTo>
                  <a:lnTo>
                    <a:pt x="197" y="934"/>
                  </a:lnTo>
                  <a:lnTo>
                    <a:pt x="179" y="935"/>
                  </a:lnTo>
                  <a:lnTo>
                    <a:pt x="166" y="936"/>
                  </a:lnTo>
                  <a:lnTo>
                    <a:pt x="166" y="936"/>
                  </a:lnTo>
                  <a:lnTo>
                    <a:pt x="165" y="934"/>
                  </a:lnTo>
                  <a:lnTo>
                    <a:pt x="163" y="928"/>
                  </a:lnTo>
                  <a:lnTo>
                    <a:pt x="162" y="923"/>
                  </a:lnTo>
                  <a:lnTo>
                    <a:pt x="162" y="922"/>
                  </a:lnTo>
                  <a:lnTo>
                    <a:pt x="162" y="920"/>
                  </a:lnTo>
                  <a:lnTo>
                    <a:pt x="162" y="910"/>
                  </a:lnTo>
                  <a:lnTo>
                    <a:pt x="162" y="904"/>
                  </a:lnTo>
                  <a:lnTo>
                    <a:pt x="163" y="903"/>
                  </a:lnTo>
                  <a:lnTo>
                    <a:pt x="163" y="905"/>
                  </a:lnTo>
                  <a:lnTo>
                    <a:pt x="162" y="909"/>
                  </a:lnTo>
                  <a:lnTo>
                    <a:pt x="162" y="912"/>
                  </a:lnTo>
                  <a:lnTo>
                    <a:pt x="163" y="912"/>
                  </a:lnTo>
                  <a:lnTo>
                    <a:pt x="164" y="910"/>
                  </a:lnTo>
                  <a:lnTo>
                    <a:pt x="168" y="904"/>
                  </a:lnTo>
                  <a:lnTo>
                    <a:pt x="172" y="899"/>
                  </a:lnTo>
                  <a:lnTo>
                    <a:pt x="173" y="898"/>
                  </a:lnTo>
                  <a:lnTo>
                    <a:pt x="175" y="895"/>
                  </a:lnTo>
                  <a:lnTo>
                    <a:pt x="176" y="894"/>
                  </a:lnTo>
                  <a:lnTo>
                    <a:pt x="177" y="893"/>
                  </a:lnTo>
                  <a:lnTo>
                    <a:pt x="178" y="891"/>
                  </a:lnTo>
                  <a:lnTo>
                    <a:pt x="184" y="881"/>
                  </a:lnTo>
                  <a:lnTo>
                    <a:pt x="187" y="874"/>
                  </a:lnTo>
                  <a:lnTo>
                    <a:pt x="188" y="873"/>
                  </a:lnTo>
                  <a:lnTo>
                    <a:pt x="189" y="871"/>
                  </a:lnTo>
                  <a:lnTo>
                    <a:pt x="196" y="864"/>
                  </a:lnTo>
                  <a:lnTo>
                    <a:pt x="200" y="860"/>
                  </a:lnTo>
                  <a:lnTo>
                    <a:pt x="201" y="859"/>
                  </a:lnTo>
                  <a:lnTo>
                    <a:pt x="202" y="856"/>
                  </a:lnTo>
                  <a:lnTo>
                    <a:pt x="208" y="845"/>
                  </a:lnTo>
                  <a:lnTo>
                    <a:pt x="211" y="836"/>
                  </a:lnTo>
                  <a:lnTo>
                    <a:pt x="212" y="835"/>
                  </a:lnTo>
                  <a:lnTo>
                    <a:pt x="212" y="831"/>
                  </a:lnTo>
                  <a:lnTo>
                    <a:pt x="215" y="821"/>
                  </a:lnTo>
                  <a:lnTo>
                    <a:pt x="216" y="812"/>
                  </a:lnTo>
                  <a:lnTo>
                    <a:pt x="217" y="811"/>
                  </a:lnTo>
                  <a:lnTo>
                    <a:pt x="217" y="808"/>
                  </a:lnTo>
                  <a:lnTo>
                    <a:pt x="221" y="800"/>
                  </a:lnTo>
                  <a:lnTo>
                    <a:pt x="222" y="793"/>
                  </a:lnTo>
                  <a:lnTo>
                    <a:pt x="223" y="792"/>
                  </a:lnTo>
                  <a:lnTo>
                    <a:pt x="223" y="790"/>
                  </a:lnTo>
                  <a:lnTo>
                    <a:pt x="224" y="783"/>
                  </a:lnTo>
                  <a:lnTo>
                    <a:pt x="225" y="778"/>
                  </a:lnTo>
                  <a:lnTo>
                    <a:pt x="226" y="777"/>
                  </a:lnTo>
                  <a:lnTo>
                    <a:pt x="225" y="775"/>
                  </a:lnTo>
                  <a:lnTo>
                    <a:pt x="222" y="768"/>
                  </a:lnTo>
                  <a:lnTo>
                    <a:pt x="220" y="764"/>
                  </a:lnTo>
                  <a:lnTo>
                    <a:pt x="220" y="763"/>
                  </a:lnTo>
                  <a:lnTo>
                    <a:pt x="217" y="760"/>
                  </a:lnTo>
                  <a:lnTo>
                    <a:pt x="212" y="754"/>
                  </a:lnTo>
                  <a:lnTo>
                    <a:pt x="209" y="749"/>
                  </a:lnTo>
                  <a:lnTo>
                    <a:pt x="209" y="748"/>
                  </a:lnTo>
                  <a:lnTo>
                    <a:pt x="207" y="746"/>
                  </a:lnTo>
                  <a:lnTo>
                    <a:pt x="200" y="738"/>
                  </a:lnTo>
                  <a:lnTo>
                    <a:pt x="196" y="733"/>
                  </a:lnTo>
                  <a:lnTo>
                    <a:pt x="196" y="732"/>
                  </a:lnTo>
                  <a:lnTo>
                    <a:pt x="195" y="732"/>
                  </a:lnTo>
                  <a:lnTo>
                    <a:pt x="191" y="732"/>
                  </a:lnTo>
                  <a:lnTo>
                    <a:pt x="181" y="732"/>
                  </a:lnTo>
                  <a:lnTo>
                    <a:pt x="174" y="732"/>
                  </a:lnTo>
                  <a:lnTo>
                    <a:pt x="174" y="731"/>
                  </a:lnTo>
                  <a:lnTo>
                    <a:pt x="170" y="730"/>
                  </a:lnTo>
                  <a:lnTo>
                    <a:pt x="161" y="725"/>
                  </a:lnTo>
                  <a:lnTo>
                    <a:pt x="154" y="722"/>
                  </a:lnTo>
                  <a:lnTo>
                    <a:pt x="154" y="721"/>
                  </a:lnTo>
                  <a:lnTo>
                    <a:pt x="149" y="717"/>
                  </a:lnTo>
                  <a:lnTo>
                    <a:pt x="136" y="701"/>
                  </a:lnTo>
                  <a:lnTo>
                    <a:pt x="125" y="690"/>
                  </a:lnTo>
                  <a:lnTo>
                    <a:pt x="125" y="689"/>
                  </a:lnTo>
                  <a:lnTo>
                    <a:pt x="123" y="689"/>
                  </a:lnTo>
                  <a:lnTo>
                    <a:pt x="121" y="689"/>
                  </a:lnTo>
                  <a:lnTo>
                    <a:pt x="111" y="689"/>
                  </a:lnTo>
                  <a:lnTo>
                    <a:pt x="105" y="689"/>
                  </a:lnTo>
                  <a:lnTo>
                    <a:pt x="105" y="688"/>
                  </a:lnTo>
                  <a:lnTo>
                    <a:pt x="102" y="686"/>
                  </a:lnTo>
                  <a:lnTo>
                    <a:pt x="94" y="676"/>
                  </a:lnTo>
                  <a:lnTo>
                    <a:pt x="88" y="668"/>
                  </a:lnTo>
                  <a:lnTo>
                    <a:pt x="88" y="667"/>
                  </a:lnTo>
                  <a:lnTo>
                    <a:pt x="88" y="664"/>
                  </a:lnTo>
                  <a:lnTo>
                    <a:pt x="90" y="652"/>
                  </a:lnTo>
                  <a:lnTo>
                    <a:pt x="91" y="643"/>
                  </a:lnTo>
                  <a:lnTo>
                    <a:pt x="92" y="642"/>
                  </a:lnTo>
                  <a:lnTo>
                    <a:pt x="94" y="640"/>
                  </a:lnTo>
                  <a:lnTo>
                    <a:pt x="103" y="631"/>
                  </a:lnTo>
                  <a:lnTo>
                    <a:pt x="109" y="625"/>
                  </a:lnTo>
                  <a:lnTo>
                    <a:pt x="110" y="624"/>
                  </a:lnTo>
                  <a:lnTo>
                    <a:pt x="113" y="623"/>
                  </a:lnTo>
                  <a:lnTo>
                    <a:pt x="121" y="617"/>
                  </a:lnTo>
                  <a:lnTo>
                    <a:pt x="128" y="613"/>
                  </a:lnTo>
                  <a:lnTo>
                    <a:pt x="129" y="612"/>
                  </a:lnTo>
                  <a:lnTo>
                    <a:pt x="132" y="610"/>
                  </a:lnTo>
                  <a:lnTo>
                    <a:pt x="144" y="606"/>
                  </a:lnTo>
                  <a:lnTo>
                    <a:pt x="153" y="603"/>
                  </a:lnTo>
                  <a:lnTo>
                    <a:pt x="154" y="602"/>
                  </a:lnTo>
                  <a:lnTo>
                    <a:pt x="156" y="600"/>
                  </a:lnTo>
                  <a:lnTo>
                    <a:pt x="164" y="591"/>
                  </a:lnTo>
                  <a:lnTo>
                    <a:pt x="169" y="584"/>
                  </a:lnTo>
                  <a:lnTo>
                    <a:pt x="170" y="583"/>
                  </a:lnTo>
                  <a:lnTo>
                    <a:pt x="172" y="580"/>
                  </a:lnTo>
                  <a:lnTo>
                    <a:pt x="175" y="567"/>
                  </a:lnTo>
                  <a:lnTo>
                    <a:pt x="177" y="557"/>
                  </a:lnTo>
                  <a:lnTo>
                    <a:pt x="178" y="556"/>
                  </a:lnTo>
                  <a:lnTo>
                    <a:pt x="178" y="553"/>
                  </a:lnTo>
                  <a:lnTo>
                    <a:pt x="179" y="542"/>
                  </a:lnTo>
                  <a:lnTo>
                    <a:pt x="179" y="534"/>
                  </a:lnTo>
                  <a:lnTo>
                    <a:pt x="180" y="533"/>
                  </a:lnTo>
                  <a:lnTo>
                    <a:pt x="180" y="531"/>
                  </a:lnTo>
                  <a:lnTo>
                    <a:pt x="181" y="521"/>
                  </a:lnTo>
                  <a:lnTo>
                    <a:pt x="183" y="513"/>
                  </a:lnTo>
                  <a:lnTo>
                    <a:pt x="184" y="512"/>
                  </a:lnTo>
                  <a:lnTo>
                    <a:pt x="185" y="509"/>
                  </a:lnTo>
                  <a:lnTo>
                    <a:pt x="188" y="498"/>
                  </a:lnTo>
                  <a:lnTo>
                    <a:pt x="190" y="490"/>
                  </a:lnTo>
                  <a:lnTo>
                    <a:pt x="191" y="489"/>
                  </a:lnTo>
                  <a:lnTo>
                    <a:pt x="198" y="490"/>
                  </a:lnTo>
                  <a:lnTo>
                    <a:pt x="202" y="490"/>
                  </a:lnTo>
                  <a:lnTo>
                    <a:pt x="203" y="490"/>
                  </a:lnTo>
                  <a:lnTo>
                    <a:pt x="205" y="487"/>
                  </a:lnTo>
                  <a:lnTo>
                    <a:pt x="207" y="485"/>
                  </a:lnTo>
                  <a:lnTo>
                    <a:pt x="208" y="484"/>
                  </a:lnTo>
                  <a:lnTo>
                    <a:pt x="208" y="481"/>
                  </a:lnTo>
                  <a:lnTo>
                    <a:pt x="207" y="474"/>
                  </a:lnTo>
                  <a:lnTo>
                    <a:pt x="207" y="467"/>
                  </a:lnTo>
                  <a:lnTo>
                    <a:pt x="208" y="466"/>
                  </a:lnTo>
                  <a:lnTo>
                    <a:pt x="207" y="464"/>
                  </a:lnTo>
                  <a:lnTo>
                    <a:pt x="205" y="456"/>
                  </a:lnTo>
                  <a:lnTo>
                    <a:pt x="205" y="450"/>
                  </a:lnTo>
                  <a:lnTo>
                    <a:pt x="205" y="449"/>
                  </a:lnTo>
                  <a:lnTo>
                    <a:pt x="207" y="447"/>
                  </a:lnTo>
                  <a:lnTo>
                    <a:pt x="212" y="443"/>
                  </a:lnTo>
                  <a:lnTo>
                    <a:pt x="215" y="440"/>
                  </a:lnTo>
                  <a:lnTo>
                    <a:pt x="216" y="439"/>
                  </a:lnTo>
                  <a:lnTo>
                    <a:pt x="213" y="435"/>
                  </a:lnTo>
                  <a:lnTo>
                    <a:pt x="212" y="433"/>
                  </a:lnTo>
                  <a:lnTo>
                    <a:pt x="212" y="432"/>
                  </a:lnTo>
                  <a:lnTo>
                    <a:pt x="211" y="429"/>
                  </a:lnTo>
                  <a:lnTo>
                    <a:pt x="209" y="416"/>
                  </a:lnTo>
                  <a:lnTo>
                    <a:pt x="208" y="406"/>
                  </a:lnTo>
                  <a:lnTo>
                    <a:pt x="208" y="405"/>
                  </a:lnTo>
                  <a:lnTo>
                    <a:pt x="208" y="402"/>
                  </a:lnTo>
                  <a:lnTo>
                    <a:pt x="210" y="392"/>
                  </a:lnTo>
                  <a:lnTo>
                    <a:pt x="211" y="384"/>
                  </a:lnTo>
                  <a:lnTo>
                    <a:pt x="212" y="383"/>
                  </a:lnTo>
                  <a:lnTo>
                    <a:pt x="211" y="384"/>
                  </a:lnTo>
                  <a:lnTo>
                    <a:pt x="207" y="385"/>
                  </a:lnTo>
                  <a:lnTo>
                    <a:pt x="204" y="386"/>
                  </a:lnTo>
                  <a:lnTo>
                    <a:pt x="204" y="386"/>
                  </a:lnTo>
                  <a:lnTo>
                    <a:pt x="201" y="384"/>
                  </a:lnTo>
                  <a:lnTo>
                    <a:pt x="195" y="376"/>
                  </a:lnTo>
                  <a:lnTo>
                    <a:pt x="190" y="371"/>
                  </a:lnTo>
                  <a:lnTo>
                    <a:pt x="190" y="370"/>
                  </a:lnTo>
                  <a:lnTo>
                    <a:pt x="188" y="363"/>
                  </a:lnTo>
                  <a:lnTo>
                    <a:pt x="187" y="359"/>
                  </a:lnTo>
                  <a:lnTo>
                    <a:pt x="187" y="358"/>
                  </a:lnTo>
                  <a:lnTo>
                    <a:pt x="188" y="358"/>
                  </a:lnTo>
                  <a:lnTo>
                    <a:pt x="193" y="357"/>
                  </a:lnTo>
                  <a:lnTo>
                    <a:pt x="198" y="356"/>
                  </a:lnTo>
                  <a:lnTo>
                    <a:pt x="199" y="355"/>
                  </a:lnTo>
                  <a:lnTo>
                    <a:pt x="202" y="350"/>
                  </a:lnTo>
                  <a:lnTo>
                    <a:pt x="203" y="348"/>
                  </a:lnTo>
                  <a:lnTo>
                    <a:pt x="204" y="347"/>
                  </a:lnTo>
                  <a:lnTo>
                    <a:pt x="204" y="346"/>
                  </a:lnTo>
                  <a:lnTo>
                    <a:pt x="205" y="342"/>
                  </a:lnTo>
                  <a:lnTo>
                    <a:pt x="205" y="340"/>
                  </a:lnTo>
                  <a:lnTo>
                    <a:pt x="207" y="339"/>
                  </a:lnTo>
                  <a:lnTo>
                    <a:pt x="207" y="338"/>
                  </a:lnTo>
                  <a:lnTo>
                    <a:pt x="205" y="335"/>
                  </a:lnTo>
                  <a:lnTo>
                    <a:pt x="205" y="333"/>
                  </a:lnTo>
                  <a:lnTo>
                    <a:pt x="207" y="332"/>
                  </a:lnTo>
                  <a:lnTo>
                    <a:pt x="205" y="332"/>
                  </a:lnTo>
                  <a:lnTo>
                    <a:pt x="204" y="332"/>
                  </a:lnTo>
                  <a:lnTo>
                    <a:pt x="200" y="332"/>
                  </a:lnTo>
                  <a:lnTo>
                    <a:pt x="197" y="332"/>
                  </a:lnTo>
                  <a:lnTo>
                    <a:pt x="197" y="330"/>
                  </a:lnTo>
                  <a:lnTo>
                    <a:pt x="193" y="332"/>
                  </a:lnTo>
                  <a:lnTo>
                    <a:pt x="185" y="335"/>
                  </a:lnTo>
                  <a:lnTo>
                    <a:pt x="178" y="337"/>
                  </a:lnTo>
                  <a:lnTo>
                    <a:pt x="178" y="337"/>
                  </a:lnTo>
                  <a:lnTo>
                    <a:pt x="176" y="335"/>
                  </a:lnTo>
                  <a:lnTo>
                    <a:pt x="172" y="326"/>
                  </a:lnTo>
                  <a:lnTo>
                    <a:pt x="168" y="320"/>
                  </a:lnTo>
                  <a:lnTo>
                    <a:pt x="168" y="318"/>
                  </a:lnTo>
                  <a:lnTo>
                    <a:pt x="166" y="315"/>
                  </a:lnTo>
                  <a:lnTo>
                    <a:pt x="162" y="305"/>
                  </a:lnTo>
                  <a:lnTo>
                    <a:pt x="158" y="298"/>
                  </a:lnTo>
                  <a:lnTo>
                    <a:pt x="158" y="297"/>
                  </a:lnTo>
                  <a:lnTo>
                    <a:pt x="156" y="293"/>
                  </a:lnTo>
                  <a:lnTo>
                    <a:pt x="153" y="281"/>
                  </a:lnTo>
                  <a:lnTo>
                    <a:pt x="151" y="271"/>
                  </a:lnTo>
                  <a:lnTo>
                    <a:pt x="151" y="270"/>
                  </a:lnTo>
                  <a:lnTo>
                    <a:pt x="154" y="279"/>
                  </a:lnTo>
                  <a:lnTo>
                    <a:pt x="155" y="283"/>
                  </a:lnTo>
                  <a:lnTo>
                    <a:pt x="156" y="283"/>
                  </a:lnTo>
                  <a:lnTo>
                    <a:pt x="158" y="289"/>
                  </a:lnTo>
                  <a:lnTo>
                    <a:pt x="160" y="292"/>
                  </a:lnTo>
                  <a:lnTo>
                    <a:pt x="161" y="292"/>
                  </a:lnTo>
                  <a:lnTo>
                    <a:pt x="162" y="291"/>
                  </a:lnTo>
                  <a:lnTo>
                    <a:pt x="165" y="288"/>
                  </a:lnTo>
                  <a:lnTo>
                    <a:pt x="167" y="285"/>
                  </a:lnTo>
                  <a:lnTo>
                    <a:pt x="168" y="283"/>
                  </a:lnTo>
                  <a:lnTo>
                    <a:pt x="168" y="280"/>
                  </a:lnTo>
                  <a:lnTo>
                    <a:pt x="170" y="269"/>
                  </a:lnTo>
                  <a:lnTo>
                    <a:pt x="172" y="260"/>
                  </a:lnTo>
                  <a:lnTo>
                    <a:pt x="173" y="259"/>
                  </a:lnTo>
                  <a:lnTo>
                    <a:pt x="170" y="260"/>
                  </a:lnTo>
                  <a:lnTo>
                    <a:pt x="167" y="260"/>
                  </a:lnTo>
                  <a:lnTo>
                    <a:pt x="164" y="260"/>
                  </a:lnTo>
                  <a:lnTo>
                    <a:pt x="164" y="260"/>
                  </a:lnTo>
                  <a:lnTo>
                    <a:pt x="158" y="258"/>
                  </a:lnTo>
                  <a:lnTo>
                    <a:pt x="156" y="257"/>
                  </a:lnTo>
                  <a:lnTo>
                    <a:pt x="156" y="256"/>
                  </a:lnTo>
                  <a:lnTo>
                    <a:pt x="160" y="253"/>
                  </a:lnTo>
                  <a:lnTo>
                    <a:pt x="161" y="251"/>
                  </a:lnTo>
                  <a:lnTo>
                    <a:pt x="162" y="249"/>
                  </a:lnTo>
                  <a:lnTo>
                    <a:pt x="161" y="243"/>
                  </a:lnTo>
                  <a:lnTo>
                    <a:pt x="161" y="240"/>
                  </a:lnTo>
                  <a:lnTo>
                    <a:pt x="161" y="239"/>
                  </a:lnTo>
                  <a:lnTo>
                    <a:pt x="161" y="237"/>
                  </a:lnTo>
                  <a:lnTo>
                    <a:pt x="162" y="232"/>
                  </a:lnTo>
                  <a:lnTo>
                    <a:pt x="162" y="229"/>
                  </a:lnTo>
                  <a:lnTo>
                    <a:pt x="163" y="228"/>
                  </a:lnTo>
                  <a:lnTo>
                    <a:pt x="157" y="224"/>
                  </a:lnTo>
                  <a:lnTo>
                    <a:pt x="155" y="223"/>
                  </a:lnTo>
                  <a:lnTo>
                    <a:pt x="155" y="222"/>
                  </a:lnTo>
                  <a:lnTo>
                    <a:pt x="154" y="223"/>
                  </a:lnTo>
                  <a:lnTo>
                    <a:pt x="151" y="229"/>
                  </a:lnTo>
                  <a:lnTo>
                    <a:pt x="150" y="232"/>
                  </a:lnTo>
                  <a:lnTo>
                    <a:pt x="150" y="232"/>
                  </a:lnTo>
                  <a:lnTo>
                    <a:pt x="149" y="232"/>
                  </a:lnTo>
                  <a:lnTo>
                    <a:pt x="148" y="232"/>
                  </a:lnTo>
                  <a:lnTo>
                    <a:pt x="142" y="231"/>
                  </a:lnTo>
                  <a:lnTo>
                    <a:pt x="138" y="230"/>
                  </a:lnTo>
                  <a:lnTo>
                    <a:pt x="138" y="229"/>
                  </a:lnTo>
                  <a:lnTo>
                    <a:pt x="137" y="231"/>
                  </a:lnTo>
                  <a:lnTo>
                    <a:pt x="136" y="236"/>
                  </a:lnTo>
                  <a:lnTo>
                    <a:pt x="136" y="241"/>
                  </a:lnTo>
                  <a:lnTo>
                    <a:pt x="136" y="241"/>
                  </a:lnTo>
                  <a:lnTo>
                    <a:pt x="136" y="242"/>
                  </a:lnTo>
                  <a:lnTo>
                    <a:pt x="136" y="243"/>
                  </a:lnTo>
                  <a:lnTo>
                    <a:pt x="137" y="247"/>
                  </a:lnTo>
                  <a:lnTo>
                    <a:pt x="137" y="251"/>
                  </a:lnTo>
                  <a:lnTo>
                    <a:pt x="138" y="251"/>
                  </a:lnTo>
                  <a:lnTo>
                    <a:pt x="138" y="252"/>
                  </a:lnTo>
                  <a:lnTo>
                    <a:pt x="137" y="255"/>
                  </a:lnTo>
                  <a:lnTo>
                    <a:pt x="137" y="256"/>
                  </a:lnTo>
                  <a:lnTo>
                    <a:pt x="138" y="256"/>
                  </a:lnTo>
                  <a:lnTo>
                    <a:pt x="133" y="251"/>
                  </a:lnTo>
                  <a:lnTo>
                    <a:pt x="122" y="231"/>
                  </a:lnTo>
                  <a:lnTo>
                    <a:pt x="115" y="216"/>
                  </a:lnTo>
                  <a:lnTo>
                    <a:pt x="115" y="214"/>
                  </a:lnTo>
                  <a:lnTo>
                    <a:pt x="109" y="208"/>
                  </a:lnTo>
                  <a:lnTo>
                    <a:pt x="93" y="188"/>
                  </a:lnTo>
                  <a:lnTo>
                    <a:pt x="81" y="172"/>
                  </a:lnTo>
                  <a:lnTo>
                    <a:pt x="81" y="171"/>
                  </a:lnTo>
                  <a:lnTo>
                    <a:pt x="79" y="169"/>
                  </a:lnTo>
                  <a:lnTo>
                    <a:pt x="75" y="160"/>
                  </a:lnTo>
                  <a:lnTo>
                    <a:pt x="72" y="153"/>
                  </a:lnTo>
                  <a:lnTo>
                    <a:pt x="72" y="152"/>
                  </a:lnTo>
                  <a:lnTo>
                    <a:pt x="71" y="149"/>
                  </a:lnTo>
                  <a:lnTo>
                    <a:pt x="71" y="147"/>
                  </a:lnTo>
                  <a:lnTo>
                    <a:pt x="72" y="146"/>
                  </a:lnTo>
                  <a:lnTo>
                    <a:pt x="73" y="144"/>
                  </a:lnTo>
                  <a:lnTo>
                    <a:pt x="76" y="139"/>
                  </a:lnTo>
                  <a:lnTo>
                    <a:pt x="79" y="135"/>
                  </a:lnTo>
                  <a:lnTo>
                    <a:pt x="80" y="134"/>
                  </a:lnTo>
                  <a:lnTo>
                    <a:pt x="81" y="131"/>
                  </a:lnTo>
                  <a:lnTo>
                    <a:pt x="84" y="125"/>
                  </a:lnTo>
                  <a:lnTo>
                    <a:pt x="86" y="119"/>
                  </a:lnTo>
                  <a:lnTo>
                    <a:pt x="87" y="118"/>
                  </a:lnTo>
                  <a:lnTo>
                    <a:pt x="83" y="116"/>
                  </a:lnTo>
                  <a:lnTo>
                    <a:pt x="82" y="115"/>
                  </a:lnTo>
                  <a:lnTo>
                    <a:pt x="82" y="114"/>
                  </a:lnTo>
                  <a:lnTo>
                    <a:pt x="81" y="115"/>
                  </a:lnTo>
                  <a:lnTo>
                    <a:pt x="79" y="119"/>
                  </a:lnTo>
                  <a:lnTo>
                    <a:pt x="78" y="123"/>
                  </a:lnTo>
                  <a:lnTo>
                    <a:pt x="78" y="123"/>
                  </a:lnTo>
                  <a:lnTo>
                    <a:pt x="76" y="124"/>
                  </a:lnTo>
                  <a:lnTo>
                    <a:pt x="75" y="126"/>
                  </a:lnTo>
                  <a:lnTo>
                    <a:pt x="70" y="132"/>
                  </a:lnTo>
                  <a:lnTo>
                    <a:pt x="66" y="137"/>
                  </a:lnTo>
                  <a:lnTo>
                    <a:pt x="66" y="137"/>
                  </a:lnTo>
                  <a:lnTo>
                    <a:pt x="62" y="135"/>
                  </a:lnTo>
                  <a:lnTo>
                    <a:pt x="56" y="127"/>
                  </a:lnTo>
                  <a:lnTo>
                    <a:pt x="50" y="122"/>
                  </a:lnTo>
                  <a:lnTo>
                    <a:pt x="50" y="120"/>
                  </a:lnTo>
                  <a:lnTo>
                    <a:pt x="49" y="118"/>
                  </a:lnTo>
                  <a:lnTo>
                    <a:pt x="46" y="109"/>
                  </a:lnTo>
                  <a:lnTo>
                    <a:pt x="44" y="103"/>
                  </a:lnTo>
                  <a:lnTo>
                    <a:pt x="44" y="102"/>
                  </a:lnTo>
                  <a:lnTo>
                    <a:pt x="44" y="101"/>
                  </a:lnTo>
                  <a:lnTo>
                    <a:pt x="43" y="97"/>
                  </a:lnTo>
                  <a:lnTo>
                    <a:pt x="43" y="94"/>
                  </a:lnTo>
                  <a:lnTo>
                    <a:pt x="44" y="93"/>
                  </a:lnTo>
                  <a:lnTo>
                    <a:pt x="45" y="91"/>
                  </a:lnTo>
                  <a:lnTo>
                    <a:pt x="46" y="89"/>
                  </a:lnTo>
                  <a:lnTo>
                    <a:pt x="45" y="87"/>
                  </a:lnTo>
                  <a:lnTo>
                    <a:pt x="41" y="78"/>
                  </a:lnTo>
                  <a:lnTo>
                    <a:pt x="40" y="71"/>
                  </a:lnTo>
                  <a:lnTo>
                    <a:pt x="40" y="70"/>
                  </a:lnTo>
                  <a:lnTo>
                    <a:pt x="36" y="65"/>
                  </a:lnTo>
                  <a:lnTo>
                    <a:pt x="24" y="45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9" y="22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5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49800" y="5779080"/>
              <a:ext cx="183240" cy="149040"/>
            </a:xfrm>
            <a:custGeom>
              <a:avLst/>
              <a:gdLst/>
              <a:ahLst/>
              <a:rect l="l" t="t" r="r" b="b"/>
              <a:pathLst>
                <a:path w="755" h="860">
                  <a:moveTo>
                    <a:pt x="557" y="69"/>
                  </a:moveTo>
                  <a:lnTo>
                    <a:pt x="557" y="68"/>
                  </a:lnTo>
                  <a:lnTo>
                    <a:pt x="556" y="63"/>
                  </a:lnTo>
                  <a:lnTo>
                    <a:pt x="556" y="60"/>
                  </a:lnTo>
                  <a:lnTo>
                    <a:pt x="557" y="59"/>
                  </a:lnTo>
                  <a:lnTo>
                    <a:pt x="557" y="57"/>
                  </a:lnTo>
                  <a:lnTo>
                    <a:pt x="557" y="49"/>
                  </a:lnTo>
                  <a:lnTo>
                    <a:pt x="557" y="44"/>
                  </a:lnTo>
                  <a:lnTo>
                    <a:pt x="558" y="43"/>
                  </a:lnTo>
                  <a:lnTo>
                    <a:pt x="562" y="39"/>
                  </a:lnTo>
                  <a:lnTo>
                    <a:pt x="565" y="37"/>
                  </a:lnTo>
                  <a:lnTo>
                    <a:pt x="566" y="36"/>
                  </a:lnTo>
                  <a:lnTo>
                    <a:pt x="570" y="34"/>
                  </a:lnTo>
                  <a:lnTo>
                    <a:pt x="573" y="33"/>
                  </a:lnTo>
                  <a:lnTo>
                    <a:pt x="574" y="32"/>
                  </a:lnTo>
                  <a:lnTo>
                    <a:pt x="577" y="29"/>
                  </a:lnTo>
                  <a:lnTo>
                    <a:pt x="583" y="20"/>
                  </a:lnTo>
                  <a:lnTo>
                    <a:pt x="587" y="13"/>
                  </a:lnTo>
                  <a:lnTo>
                    <a:pt x="589" y="12"/>
                  </a:lnTo>
                  <a:lnTo>
                    <a:pt x="590" y="12"/>
                  </a:lnTo>
                  <a:lnTo>
                    <a:pt x="593" y="12"/>
                  </a:lnTo>
                  <a:lnTo>
                    <a:pt x="595" y="12"/>
                  </a:lnTo>
                  <a:lnTo>
                    <a:pt x="596" y="11"/>
                  </a:lnTo>
                  <a:lnTo>
                    <a:pt x="597" y="8"/>
                  </a:lnTo>
                  <a:lnTo>
                    <a:pt x="598" y="5"/>
                  </a:lnTo>
                  <a:lnTo>
                    <a:pt x="599" y="4"/>
                  </a:lnTo>
                  <a:lnTo>
                    <a:pt x="604" y="2"/>
                  </a:lnTo>
                  <a:lnTo>
                    <a:pt x="606" y="1"/>
                  </a:lnTo>
                  <a:lnTo>
                    <a:pt x="607" y="0"/>
                  </a:lnTo>
                  <a:lnTo>
                    <a:pt x="609" y="4"/>
                  </a:lnTo>
                  <a:lnTo>
                    <a:pt x="610" y="5"/>
                  </a:lnTo>
                  <a:lnTo>
                    <a:pt x="612" y="5"/>
                  </a:lnTo>
                  <a:lnTo>
                    <a:pt x="610" y="9"/>
                  </a:lnTo>
                  <a:lnTo>
                    <a:pt x="609" y="19"/>
                  </a:lnTo>
                  <a:lnTo>
                    <a:pt x="609" y="26"/>
                  </a:lnTo>
                  <a:lnTo>
                    <a:pt x="609" y="26"/>
                  </a:lnTo>
                  <a:lnTo>
                    <a:pt x="613" y="34"/>
                  </a:lnTo>
                  <a:lnTo>
                    <a:pt x="615" y="37"/>
                  </a:lnTo>
                  <a:lnTo>
                    <a:pt x="616" y="37"/>
                  </a:lnTo>
                  <a:lnTo>
                    <a:pt x="620" y="39"/>
                  </a:lnTo>
                  <a:lnTo>
                    <a:pt x="624" y="40"/>
                  </a:lnTo>
                  <a:lnTo>
                    <a:pt x="625" y="40"/>
                  </a:lnTo>
                  <a:lnTo>
                    <a:pt x="626" y="40"/>
                  </a:lnTo>
                  <a:lnTo>
                    <a:pt x="631" y="39"/>
                  </a:lnTo>
                  <a:lnTo>
                    <a:pt x="634" y="38"/>
                  </a:lnTo>
                  <a:lnTo>
                    <a:pt x="636" y="37"/>
                  </a:lnTo>
                  <a:lnTo>
                    <a:pt x="637" y="39"/>
                  </a:lnTo>
                  <a:lnTo>
                    <a:pt x="640" y="45"/>
                  </a:lnTo>
                  <a:lnTo>
                    <a:pt x="642" y="49"/>
                  </a:lnTo>
                  <a:lnTo>
                    <a:pt x="643" y="49"/>
                  </a:lnTo>
                  <a:lnTo>
                    <a:pt x="642" y="55"/>
                  </a:lnTo>
                  <a:lnTo>
                    <a:pt x="641" y="70"/>
                  </a:lnTo>
                  <a:lnTo>
                    <a:pt x="640" y="81"/>
                  </a:lnTo>
                  <a:lnTo>
                    <a:pt x="640" y="81"/>
                  </a:lnTo>
                  <a:lnTo>
                    <a:pt x="643" y="89"/>
                  </a:lnTo>
                  <a:lnTo>
                    <a:pt x="644" y="93"/>
                  </a:lnTo>
                  <a:lnTo>
                    <a:pt x="645" y="93"/>
                  </a:lnTo>
                  <a:lnTo>
                    <a:pt x="647" y="94"/>
                  </a:lnTo>
                  <a:lnTo>
                    <a:pt x="652" y="97"/>
                  </a:lnTo>
                  <a:lnTo>
                    <a:pt x="655" y="99"/>
                  </a:lnTo>
                  <a:lnTo>
                    <a:pt x="656" y="99"/>
                  </a:lnTo>
                  <a:lnTo>
                    <a:pt x="657" y="98"/>
                  </a:lnTo>
                  <a:lnTo>
                    <a:pt x="661" y="95"/>
                  </a:lnTo>
                  <a:lnTo>
                    <a:pt x="663" y="93"/>
                  </a:lnTo>
                  <a:lnTo>
                    <a:pt x="664" y="92"/>
                  </a:lnTo>
                  <a:lnTo>
                    <a:pt x="669" y="89"/>
                  </a:lnTo>
                  <a:lnTo>
                    <a:pt x="673" y="86"/>
                  </a:lnTo>
                  <a:lnTo>
                    <a:pt x="674" y="85"/>
                  </a:lnTo>
                  <a:lnTo>
                    <a:pt x="675" y="83"/>
                  </a:lnTo>
                  <a:lnTo>
                    <a:pt x="676" y="81"/>
                  </a:lnTo>
                  <a:lnTo>
                    <a:pt x="679" y="79"/>
                  </a:lnTo>
                  <a:lnTo>
                    <a:pt x="680" y="78"/>
                  </a:lnTo>
                  <a:lnTo>
                    <a:pt x="681" y="77"/>
                  </a:lnTo>
                  <a:lnTo>
                    <a:pt x="686" y="73"/>
                  </a:lnTo>
                  <a:lnTo>
                    <a:pt x="689" y="72"/>
                  </a:lnTo>
                  <a:lnTo>
                    <a:pt x="690" y="71"/>
                  </a:lnTo>
                  <a:lnTo>
                    <a:pt x="691" y="70"/>
                  </a:lnTo>
                  <a:lnTo>
                    <a:pt x="695" y="67"/>
                  </a:lnTo>
                  <a:lnTo>
                    <a:pt x="697" y="64"/>
                  </a:lnTo>
                  <a:lnTo>
                    <a:pt x="698" y="63"/>
                  </a:lnTo>
                  <a:lnTo>
                    <a:pt x="699" y="61"/>
                  </a:lnTo>
                  <a:lnTo>
                    <a:pt x="700" y="59"/>
                  </a:lnTo>
                  <a:lnTo>
                    <a:pt x="701" y="58"/>
                  </a:lnTo>
                  <a:lnTo>
                    <a:pt x="707" y="55"/>
                  </a:lnTo>
                  <a:lnTo>
                    <a:pt x="711" y="52"/>
                  </a:lnTo>
                  <a:lnTo>
                    <a:pt x="712" y="51"/>
                  </a:lnTo>
                  <a:lnTo>
                    <a:pt x="715" y="49"/>
                  </a:lnTo>
                  <a:lnTo>
                    <a:pt x="716" y="48"/>
                  </a:lnTo>
                  <a:lnTo>
                    <a:pt x="718" y="47"/>
                  </a:lnTo>
                  <a:lnTo>
                    <a:pt x="722" y="46"/>
                  </a:lnTo>
                  <a:lnTo>
                    <a:pt x="724" y="45"/>
                  </a:lnTo>
                  <a:lnTo>
                    <a:pt x="725" y="44"/>
                  </a:lnTo>
                  <a:lnTo>
                    <a:pt x="726" y="46"/>
                  </a:lnTo>
                  <a:lnTo>
                    <a:pt x="727" y="47"/>
                  </a:lnTo>
                  <a:lnTo>
                    <a:pt x="728" y="47"/>
                  </a:lnTo>
                  <a:lnTo>
                    <a:pt x="727" y="48"/>
                  </a:lnTo>
                  <a:lnTo>
                    <a:pt x="726" y="49"/>
                  </a:lnTo>
                  <a:lnTo>
                    <a:pt x="721" y="55"/>
                  </a:lnTo>
                  <a:lnTo>
                    <a:pt x="718" y="58"/>
                  </a:lnTo>
                  <a:lnTo>
                    <a:pt x="718" y="58"/>
                  </a:lnTo>
                  <a:lnTo>
                    <a:pt x="720" y="60"/>
                  </a:lnTo>
                  <a:lnTo>
                    <a:pt x="721" y="60"/>
                  </a:lnTo>
                  <a:lnTo>
                    <a:pt x="721" y="61"/>
                  </a:lnTo>
                  <a:lnTo>
                    <a:pt x="721" y="63"/>
                  </a:lnTo>
                  <a:lnTo>
                    <a:pt x="721" y="70"/>
                  </a:lnTo>
                  <a:lnTo>
                    <a:pt x="721" y="74"/>
                  </a:lnTo>
                  <a:lnTo>
                    <a:pt x="722" y="74"/>
                  </a:lnTo>
                  <a:lnTo>
                    <a:pt x="720" y="78"/>
                  </a:lnTo>
                  <a:lnTo>
                    <a:pt x="716" y="86"/>
                  </a:lnTo>
                  <a:lnTo>
                    <a:pt x="714" y="93"/>
                  </a:lnTo>
                  <a:lnTo>
                    <a:pt x="714" y="93"/>
                  </a:lnTo>
                  <a:lnTo>
                    <a:pt x="719" y="90"/>
                  </a:lnTo>
                  <a:lnTo>
                    <a:pt x="721" y="89"/>
                  </a:lnTo>
                  <a:lnTo>
                    <a:pt x="722" y="87"/>
                  </a:lnTo>
                  <a:lnTo>
                    <a:pt x="728" y="84"/>
                  </a:lnTo>
                  <a:lnTo>
                    <a:pt x="733" y="82"/>
                  </a:lnTo>
                  <a:lnTo>
                    <a:pt x="734" y="81"/>
                  </a:lnTo>
                  <a:lnTo>
                    <a:pt x="733" y="80"/>
                  </a:lnTo>
                  <a:lnTo>
                    <a:pt x="731" y="75"/>
                  </a:lnTo>
                  <a:lnTo>
                    <a:pt x="730" y="72"/>
                  </a:lnTo>
                  <a:lnTo>
                    <a:pt x="730" y="71"/>
                  </a:lnTo>
                  <a:lnTo>
                    <a:pt x="731" y="69"/>
                  </a:lnTo>
                  <a:lnTo>
                    <a:pt x="734" y="63"/>
                  </a:lnTo>
                  <a:lnTo>
                    <a:pt x="735" y="60"/>
                  </a:lnTo>
                  <a:lnTo>
                    <a:pt x="736" y="59"/>
                  </a:lnTo>
                  <a:lnTo>
                    <a:pt x="737" y="58"/>
                  </a:lnTo>
                  <a:lnTo>
                    <a:pt x="738" y="56"/>
                  </a:lnTo>
                  <a:lnTo>
                    <a:pt x="741" y="55"/>
                  </a:lnTo>
                  <a:lnTo>
                    <a:pt x="742" y="54"/>
                  </a:lnTo>
                  <a:lnTo>
                    <a:pt x="743" y="52"/>
                  </a:lnTo>
                  <a:lnTo>
                    <a:pt x="746" y="52"/>
                  </a:lnTo>
                  <a:lnTo>
                    <a:pt x="747" y="52"/>
                  </a:lnTo>
                  <a:lnTo>
                    <a:pt x="748" y="52"/>
                  </a:lnTo>
                  <a:lnTo>
                    <a:pt x="749" y="56"/>
                  </a:lnTo>
                  <a:lnTo>
                    <a:pt x="750" y="57"/>
                  </a:lnTo>
                  <a:lnTo>
                    <a:pt x="751" y="57"/>
                  </a:lnTo>
                  <a:lnTo>
                    <a:pt x="751" y="58"/>
                  </a:lnTo>
                  <a:lnTo>
                    <a:pt x="753" y="61"/>
                  </a:lnTo>
                  <a:lnTo>
                    <a:pt x="753" y="63"/>
                  </a:lnTo>
                  <a:lnTo>
                    <a:pt x="754" y="63"/>
                  </a:lnTo>
                  <a:lnTo>
                    <a:pt x="755" y="66"/>
                  </a:lnTo>
                  <a:lnTo>
                    <a:pt x="754" y="67"/>
                  </a:lnTo>
                  <a:lnTo>
                    <a:pt x="751" y="71"/>
                  </a:lnTo>
                  <a:lnTo>
                    <a:pt x="750" y="74"/>
                  </a:lnTo>
                  <a:lnTo>
                    <a:pt x="750" y="74"/>
                  </a:lnTo>
                  <a:lnTo>
                    <a:pt x="749" y="75"/>
                  </a:lnTo>
                  <a:lnTo>
                    <a:pt x="746" y="80"/>
                  </a:lnTo>
                  <a:lnTo>
                    <a:pt x="745" y="82"/>
                  </a:lnTo>
                  <a:lnTo>
                    <a:pt x="745" y="82"/>
                  </a:lnTo>
                  <a:lnTo>
                    <a:pt x="744" y="83"/>
                  </a:lnTo>
                  <a:lnTo>
                    <a:pt x="741" y="86"/>
                  </a:lnTo>
                  <a:lnTo>
                    <a:pt x="739" y="87"/>
                  </a:lnTo>
                  <a:lnTo>
                    <a:pt x="739" y="87"/>
                  </a:lnTo>
                  <a:lnTo>
                    <a:pt x="743" y="87"/>
                  </a:lnTo>
                  <a:lnTo>
                    <a:pt x="744" y="87"/>
                  </a:lnTo>
                  <a:lnTo>
                    <a:pt x="745" y="87"/>
                  </a:lnTo>
                  <a:lnTo>
                    <a:pt x="745" y="89"/>
                  </a:lnTo>
                  <a:lnTo>
                    <a:pt x="745" y="90"/>
                  </a:lnTo>
                  <a:lnTo>
                    <a:pt x="747" y="95"/>
                  </a:lnTo>
                  <a:lnTo>
                    <a:pt x="748" y="99"/>
                  </a:lnTo>
                  <a:lnTo>
                    <a:pt x="749" y="99"/>
                  </a:lnTo>
                  <a:lnTo>
                    <a:pt x="748" y="101"/>
                  </a:lnTo>
                  <a:lnTo>
                    <a:pt x="745" y="106"/>
                  </a:lnTo>
                  <a:lnTo>
                    <a:pt x="744" y="109"/>
                  </a:lnTo>
                  <a:lnTo>
                    <a:pt x="744" y="109"/>
                  </a:lnTo>
                  <a:lnTo>
                    <a:pt x="743" y="112"/>
                  </a:lnTo>
                  <a:lnTo>
                    <a:pt x="742" y="116"/>
                  </a:lnTo>
                  <a:lnTo>
                    <a:pt x="741" y="119"/>
                  </a:lnTo>
                  <a:lnTo>
                    <a:pt x="741" y="119"/>
                  </a:lnTo>
                  <a:lnTo>
                    <a:pt x="741" y="120"/>
                  </a:lnTo>
                  <a:lnTo>
                    <a:pt x="741" y="121"/>
                  </a:lnTo>
                  <a:lnTo>
                    <a:pt x="743" y="127"/>
                  </a:lnTo>
                  <a:lnTo>
                    <a:pt x="744" y="131"/>
                  </a:lnTo>
                  <a:lnTo>
                    <a:pt x="745" y="131"/>
                  </a:lnTo>
                  <a:lnTo>
                    <a:pt x="745" y="132"/>
                  </a:lnTo>
                  <a:lnTo>
                    <a:pt x="745" y="136"/>
                  </a:lnTo>
                  <a:lnTo>
                    <a:pt x="748" y="145"/>
                  </a:lnTo>
                  <a:lnTo>
                    <a:pt x="750" y="153"/>
                  </a:lnTo>
                  <a:lnTo>
                    <a:pt x="751" y="153"/>
                  </a:lnTo>
                  <a:lnTo>
                    <a:pt x="750" y="154"/>
                  </a:lnTo>
                  <a:lnTo>
                    <a:pt x="747" y="162"/>
                  </a:lnTo>
                  <a:lnTo>
                    <a:pt x="746" y="166"/>
                  </a:lnTo>
                  <a:lnTo>
                    <a:pt x="746" y="166"/>
                  </a:lnTo>
                  <a:lnTo>
                    <a:pt x="745" y="167"/>
                  </a:lnTo>
                  <a:lnTo>
                    <a:pt x="744" y="168"/>
                  </a:lnTo>
                  <a:lnTo>
                    <a:pt x="739" y="174"/>
                  </a:lnTo>
                  <a:lnTo>
                    <a:pt x="736" y="178"/>
                  </a:lnTo>
                  <a:lnTo>
                    <a:pt x="736" y="178"/>
                  </a:lnTo>
                  <a:lnTo>
                    <a:pt x="735" y="179"/>
                  </a:lnTo>
                  <a:lnTo>
                    <a:pt x="734" y="182"/>
                  </a:lnTo>
                  <a:lnTo>
                    <a:pt x="731" y="188"/>
                  </a:lnTo>
                  <a:lnTo>
                    <a:pt x="727" y="192"/>
                  </a:lnTo>
                  <a:lnTo>
                    <a:pt x="727" y="192"/>
                  </a:lnTo>
                  <a:lnTo>
                    <a:pt x="726" y="195"/>
                  </a:lnTo>
                  <a:lnTo>
                    <a:pt x="724" y="200"/>
                  </a:lnTo>
                  <a:lnTo>
                    <a:pt x="723" y="204"/>
                  </a:lnTo>
                  <a:lnTo>
                    <a:pt x="723" y="204"/>
                  </a:lnTo>
                  <a:lnTo>
                    <a:pt x="722" y="206"/>
                  </a:lnTo>
                  <a:lnTo>
                    <a:pt x="721" y="208"/>
                  </a:lnTo>
                  <a:lnTo>
                    <a:pt x="715" y="217"/>
                  </a:lnTo>
                  <a:lnTo>
                    <a:pt x="712" y="223"/>
                  </a:lnTo>
                  <a:lnTo>
                    <a:pt x="712" y="223"/>
                  </a:lnTo>
                  <a:lnTo>
                    <a:pt x="710" y="224"/>
                  </a:lnTo>
                  <a:lnTo>
                    <a:pt x="704" y="225"/>
                  </a:lnTo>
                  <a:lnTo>
                    <a:pt x="700" y="225"/>
                  </a:lnTo>
                  <a:lnTo>
                    <a:pt x="700" y="225"/>
                  </a:lnTo>
                  <a:lnTo>
                    <a:pt x="699" y="227"/>
                  </a:lnTo>
                  <a:lnTo>
                    <a:pt x="698" y="231"/>
                  </a:lnTo>
                  <a:lnTo>
                    <a:pt x="698" y="234"/>
                  </a:lnTo>
                  <a:lnTo>
                    <a:pt x="698" y="234"/>
                  </a:lnTo>
                  <a:lnTo>
                    <a:pt x="697" y="235"/>
                  </a:lnTo>
                  <a:lnTo>
                    <a:pt x="696" y="236"/>
                  </a:lnTo>
                  <a:lnTo>
                    <a:pt x="692" y="241"/>
                  </a:lnTo>
                  <a:lnTo>
                    <a:pt x="690" y="244"/>
                  </a:lnTo>
                  <a:lnTo>
                    <a:pt x="690" y="244"/>
                  </a:lnTo>
                  <a:lnTo>
                    <a:pt x="689" y="245"/>
                  </a:lnTo>
                  <a:lnTo>
                    <a:pt x="688" y="246"/>
                  </a:lnTo>
                  <a:lnTo>
                    <a:pt x="683" y="253"/>
                  </a:lnTo>
                  <a:lnTo>
                    <a:pt x="678" y="257"/>
                  </a:lnTo>
                  <a:lnTo>
                    <a:pt x="678" y="257"/>
                  </a:lnTo>
                  <a:lnTo>
                    <a:pt x="677" y="258"/>
                  </a:lnTo>
                  <a:lnTo>
                    <a:pt x="676" y="260"/>
                  </a:lnTo>
                  <a:lnTo>
                    <a:pt x="673" y="270"/>
                  </a:lnTo>
                  <a:lnTo>
                    <a:pt x="669" y="278"/>
                  </a:lnTo>
                  <a:lnTo>
                    <a:pt x="669" y="278"/>
                  </a:lnTo>
                  <a:lnTo>
                    <a:pt x="668" y="279"/>
                  </a:lnTo>
                  <a:lnTo>
                    <a:pt x="666" y="283"/>
                  </a:lnTo>
                  <a:lnTo>
                    <a:pt x="659" y="299"/>
                  </a:lnTo>
                  <a:lnTo>
                    <a:pt x="653" y="310"/>
                  </a:lnTo>
                  <a:lnTo>
                    <a:pt x="653" y="310"/>
                  </a:lnTo>
                  <a:lnTo>
                    <a:pt x="652" y="311"/>
                  </a:lnTo>
                  <a:lnTo>
                    <a:pt x="651" y="312"/>
                  </a:lnTo>
                  <a:lnTo>
                    <a:pt x="650" y="312"/>
                  </a:lnTo>
                  <a:lnTo>
                    <a:pt x="649" y="313"/>
                  </a:lnTo>
                  <a:lnTo>
                    <a:pt x="645" y="317"/>
                  </a:lnTo>
                  <a:lnTo>
                    <a:pt x="643" y="320"/>
                  </a:lnTo>
                  <a:lnTo>
                    <a:pt x="643" y="320"/>
                  </a:lnTo>
                  <a:lnTo>
                    <a:pt x="642" y="322"/>
                  </a:lnTo>
                  <a:lnTo>
                    <a:pt x="638" y="324"/>
                  </a:lnTo>
                  <a:lnTo>
                    <a:pt x="636" y="325"/>
                  </a:lnTo>
                  <a:lnTo>
                    <a:pt x="636" y="325"/>
                  </a:lnTo>
                  <a:lnTo>
                    <a:pt x="636" y="323"/>
                  </a:lnTo>
                  <a:lnTo>
                    <a:pt x="634" y="324"/>
                  </a:lnTo>
                  <a:lnTo>
                    <a:pt x="633" y="325"/>
                  </a:lnTo>
                  <a:lnTo>
                    <a:pt x="632" y="326"/>
                  </a:lnTo>
                  <a:lnTo>
                    <a:pt x="632" y="326"/>
                  </a:lnTo>
                  <a:lnTo>
                    <a:pt x="631" y="327"/>
                  </a:lnTo>
                  <a:lnTo>
                    <a:pt x="629" y="330"/>
                  </a:lnTo>
                  <a:lnTo>
                    <a:pt x="628" y="332"/>
                  </a:lnTo>
                  <a:lnTo>
                    <a:pt x="628" y="332"/>
                  </a:lnTo>
                  <a:lnTo>
                    <a:pt x="627" y="334"/>
                  </a:lnTo>
                  <a:lnTo>
                    <a:pt x="622" y="337"/>
                  </a:lnTo>
                  <a:lnTo>
                    <a:pt x="619" y="339"/>
                  </a:lnTo>
                  <a:lnTo>
                    <a:pt x="619" y="339"/>
                  </a:lnTo>
                  <a:lnTo>
                    <a:pt x="618" y="340"/>
                  </a:lnTo>
                  <a:lnTo>
                    <a:pt x="615" y="343"/>
                  </a:lnTo>
                  <a:lnTo>
                    <a:pt x="613" y="346"/>
                  </a:lnTo>
                  <a:lnTo>
                    <a:pt x="613" y="346"/>
                  </a:lnTo>
                  <a:lnTo>
                    <a:pt x="612" y="346"/>
                  </a:lnTo>
                  <a:lnTo>
                    <a:pt x="612" y="346"/>
                  </a:lnTo>
                  <a:lnTo>
                    <a:pt x="610" y="346"/>
                  </a:lnTo>
                  <a:lnTo>
                    <a:pt x="612" y="346"/>
                  </a:lnTo>
                  <a:lnTo>
                    <a:pt x="610" y="346"/>
                  </a:lnTo>
                  <a:lnTo>
                    <a:pt x="612" y="346"/>
                  </a:lnTo>
                  <a:lnTo>
                    <a:pt x="610" y="347"/>
                  </a:lnTo>
                  <a:lnTo>
                    <a:pt x="609" y="348"/>
                  </a:lnTo>
                  <a:lnTo>
                    <a:pt x="608" y="348"/>
                  </a:lnTo>
                  <a:lnTo>
                    <a:pt x="607" y="349"/>
                  </a:lnTo>
                  <a:lnTo>
                    <a:pt x="606" y="350"/>
                  </a:lnTo>
                  <a:lnTo>
                    <a:pt x="606" y="350"/>
                  </a:lnTo>
                  <a:lnTo>
                    <a:pt x="605" y="350"/>
                  </a:lnTo>
                  <a:lnTo>
                    <a:pt x="606" y="350"/>
                  </a:lnTo>
                  <a:lnTo>
                    <a:pt x="605" y="350"/>
                  </a:lnTo>
                  <a:lnTo>
                    <a:pt x="606" y="350"/>
                  </a:lnTo>
                  <a:lnTo>
                    <a:pt x="605" y="351"/>
                  </a:lnTo>
                  <a:lnTo>
                    <a:pt x="604" y="354"/>
                  </a:lnTo>
                  <a:lnTo>
                    <a:pt x="603" y="357"/>
                  </a:lnTo>
                  <a:lnTo>
                    <a:pt x="603" y="357"/>
                  </a:lnTo>
                  <a:lnTo>
                    <a:pt x="601" y="355"/>
                  </a:lnTo>
                  <a:lnTo>
                    <a:pt x="599" y="358"/>
                  </a:lnTo>
                  <a:lnTo>
                    <a:pt x="599" y="363"/>
                  </a:lnTo>
                  <a:lnTo>
                    <a:pt x="599" y="366"/>
                  </a:lnTo>
                  <a:lnTo>
                    <a:pt x="599" y="366"/>
                  </a:lnTo>
                  <a:lnTo>
                    <a:pt x="598" y="369"/>
                  </a:lnTo>
                  <a:lnTo>
                    <a:pt x="597" y="374"/>
                  </a:lnTo>
                  <a:lnTo>
                    <a:pt x="596" y="378"/>
                  </a:lnTo>
                  <a:lnTo>
                    <a:pt x="596" y="378"/>
                  </a:lnTo>
                  <a:lnTo>
                    <a:pt x="595" y="381"/>
                  </a:lnTo>
                  <a:lnTo>
                    <a:pt x="594" y="387"/>
                  </a:lnTo>
                  <a:lnTo>
                    <a:pt x="594" y="392"/>
                  </a:lnTo>
                  <a:lnTo>
                    <a:pt x="594" y="392"/>
                  </a:lnTo>
                  <a:lnTo>
                    <a:pt x="594" y="394"/>
                  </a:lnTo>
                  <a:lnTo>
                    <a:pt x="593" y="397"/>
                  </a:lnTo>
                  <a:lnTo>
                    <a:pt x="593" y="400"/>
                  </a:lnTo>
                  <a:lnTo>
                    <a:pt x="594" y="400"/>
                  </a:lnTo>
                  <a:lnTo>
                    <a:pt x="593" y="402"/>
                  </a:lnTo>
                  <a:lnTo>
                    <a:pt x="591" y="408"/>
                  </a:lnTo>
                  <a:lnTo>
                    <a:pt x="590" y="412"/>
                  </a:lnTo>
                  <a:lnTo>
                    <a:pt x="590" y="412"/>
                  </a:lnTo>
                  <a:lnTo>
                    <a:pt x="589" y="415"/>
                  </a:lnTo>
                  <a:lnTo>
                    <a:pt x="589" y="418"/>
                  </a:lnTo>
                  <a:lnTo>
                    <a:pt x="589" y="421"/>
                  </a:lnTo>
                  <a:lnTo>
                    <a:pt x="589" y="421"/>
                  </a:lnTo>
                  <a:lnTo>
                    <a:pt x="591" y="422"/>
                  </a:lnTo>
                  <a:lnTo>
                    <a:pt x="592" y="422"/>
                  </a:lnTo>
                  <a:lnTo>
                    <a:pt x="599" y="424"/>
                  </a:lnTo>
                  <a:lnTo>
                    <a:pt x="604" y="425"/>
                  </a:lnTo>
                  <a:lnTo>
                    <a:pt x="605" y="425"/>
                  </a:lnTo>
                  <a:lnTo>
                    <a:pt x="606" y="427"/>
                  </a:lnTo>
                  <a:lnTo>
                    <a:pt x="612" y="430"/>
                  </a:lnTo>
                  <a:lnTo>
                    <a:pt x="615" y="432"/>
                  </a:lnTo>
                  <a:lnTo>
                    <a:pt x="616" y="432"/>
                  </a:lnTo>
                  <a:lnTo>
                    <a:pt x="616" y="433"/>
                  </a:lnTo>
                  <a:lnTo>
                    <a:pt x="616" y="435"/>
                  </a:lnTo>
                  <a:lnTo>
                    <a:pt x="617" y="442"/>
                  </a:lnTo>
                  <a:lnTo>
                    <a:pt x="618" y="447"/>
                  </a:lnTo>
                  <a:lnTo>
                    <a:pt x="619" y="447"/>
                  </a:lnTo>
                  <a:lnTo>
                    <a:pt x="617" y="452"/>
                  </a:lnTo>
                  <a:lnTo>
                    <a:pt x="617" y="454"/>
                  </a:lnTo>
                  <a:lnTo>
                    <a:pt x="617" y="454"/>
                  </a:lnTo>
                  <a:lnTo>
                    <a:pt x="612" y="447"/>
                  </a:lnTo>
                  <a:lnTo>
                    <a:pt x="608" y="443"/>
                  </a:lnTo>
                  <a:lnTo>
                    <a:pt x="608" y="442"/>
                  </a:lnTo>
                  <a:lnTo>
                    <a:pt x="607" y="444"/>
                  </a:lnTo>
                  <a:lnTo>
                    <a:pt x="606" y="451"/>
                  </a:lnTo>
                  <a:lnTo>
                    <a:pt x="606" y="455"/>
                  </a:lnTo>
                  <a:lnTo>
                    <a:pt x="606" y="455"/>
                  </a:lnTo>
                  <a:lnTo>
                    <a:pt x="605" y="455"/>
                  </a:lnTo>
                  <a:lnTo>
                    <a:pt x="603" y="455"/>
                  </a:lnTo>
                  <a:lnTo>
                    <a:pt x="595" y="452"/>
                  </a:lnTo>
                  <a:lnTo>
                    <a:pt x="590" y="450"/>
                  </a:lnTo>
                  <a:lnTo>
                    <a:pt x="590" y="448"/>
                  </a:lnTo>
                  <a:lnTo>
                    <a:pt x="589" y="448"/>
                  </a:lnTo>
                  <a:lnTo>
                    <a:pt x="586" y="448"/>
                  </a:lnTo>
                  <a:lnTo>
                    <a:pt x="578" y="445"/>
                  </a:lnTo>
                  <a:lnTo>
                    <a:pt x="571" y="444"/>
                  </a:lnTo>
                  <a:lnTo>
                    <a:pt x="571" y="443"/>
                  </a:lnTo>
                  <a:lnTo>
                    <a:pt x="563" y="440"/>
                  </a:lnTo>
                  <a:lnTo>
                    <a:pt x="560" y="438"/>
                  </a:lnTo>
                  <a:lnTo>
                    <a:pt x="560" y="436"/>
                  </a:lnTo>
                  <a:lnTo>
                    <a:pt x="559" y="438"/>
                  </a:lnTo>
                  <a:lnTo>
                    <a:pt x="556" y="439"/>
                  </a:lnTo>
                  <a:lnTo>
                    <a:pt x="555" y="440"/>
                  </a:lnTo>
                  <a:lnTo>
                    <a:pt x="555" y="440"/>
                  </a:lnTo>
                  <a:lnTo>
                    <a:pt x="554" y="442"/>
                  </a:lnTo>
                  <a:lnTo>
                    <a:pt x="554" y="448"/>
                  </a:lnTo>
                  <a:lnTo>
                    <a:pt x="554" y="453"/>
                  </a:lnTo>
                  <a:lnTo>
                    <a:pt x="554" y="453"/>
                  </a:lnTo>
                  <a:lnTo>
                    <a:pt x="552" y="454"/>
                  </a:lnTo>
                  <a:lnTo>
                    <a:pt x="549" y="458"/>
                  </a:lnTo>
                  <a:lnTo>
                    <a:pt x="547" y="460"/>
                  </a:lnTo>
                  <a:lnTo>
                    <a:pt x="547" y="460"/>
                  </a:lnTo>
                  <a:lnTo>
                    <a:pt x="543" y="457"/>
                  </a:lnTo>
                  <a:lnTo>
                    <a:pt x="542" y="455"/>
                  </a:lnTo>
                  <a:lnTo>
                    <a:pt x="542" y="454"/>
                  </a:lnTo>
                  <a:lnTo>
                    <a:pt x="540" y="454"/>
                  </a:lnTo>
                  <a:lnTo>
                    <a:pt x="537" y="453"/>
                  </a:lnTo>
                  <a:lnTo>
                    <a:pt x="535" y="453"/>
                  </a:lnTo>
                  <a:lnTo>
                    <a:pt x="535" y="452"/>
                  </a:lnTo>
                  <a:lnTo>
                    <a:pt x="534" y="454"/>
                  </a:lnTo>
                  <a:lnTo>
                    <a:pt x="533" y="460"/>
                  </a:lnTo>
                  <a:lnTo>
                    <a:pt x="533" y="465"/>
                  </a:lnTo>
                  <a:lnTo>
                    <a:pt x="533" y="465"/>
                  </a:lnTo>
                  <a:lnTo>
                    <a:pt x="532" y="466"/>
                  </a:lnTo>
                  <a:lnTo>
                    <a:pt x="530" y="467"/>
                  </a:lnTo>
                  <a:lnTo>
                    <a:pt x="523" y="470"/>
                  </a:lnTo>
                  <a:lnTo>
                    <a:pt x="518" y="473"/>
                  </a:lnTo>
                  <a:lnTo>
                    <a:pt x="518" y="473"/>
                  </a:lnTo>
                  <a:lnTo>
                    <a:pt x="516" y="474"/>
                  </a:lnTo>
                  <a:lnTo>
                    <a:pt x="510" y="477"/>
                  </a:lnTo>
                  <a:lnTo>
                    <a:pt x="505" y="478"/>
                  </a:lnTo>
                  <a:lnTo>
                    <a:pt x="505" y="478"/>
                  </a:lnTo>
                  <a:lnTo>
                    <a:pt x="504" y="479"/>
                  </a:lnTo>
                  <a:lnTo>
                    <a:pt x="501" y="482"/>
                  </a:lnTo>
                  <a:lnTo>
                    <a:pt x="499" y="483"/>
                  </a:lnTo>
                  <a:lnTo>
                    <a:pt x="499" y="483"/>
                  </a:lnTo>
                  <a:lnTo>
                    <a:pt x="498" y="485"/>
                  </a:lnTo>
                  <a:lnTo>
                    <a:pt x="497" y="486"/>
                  </a:lnTo>
                  <a:lnTo>
                    <a:pt x="492" y="489"/>
                  </a:lnTo>
                  <a:lnTo>
                    <a:pt x="489" y="491"/>
                  </a:lnTo>
                  <a:lnTo>
                    <a:pt x="489" y="491"/>
                  </a:lnTo>
                  <a:lnTo>
                    <a:pt x="488" y="491"/>
                  </a:lnTo>
                  <a:lnTo>
                    <a:pt x="487" y="491"/>
                  </a:lnTo>
                  <a:lnTo>
                    <a:pt x="484" y="491"/>
                  </a:lnTo>
                  <a:lnTo>
                    <a:pt x="480" y="491"/>
                  </a:lnTo>
                  <a:lnTo>
                    <a:pt x="480" y="490"/>
                  </a:lnTo>
                  <a:lnTo>
                    <a:pt x="478" y="486"/>
                  </a:lnTo>
                  <a:lnTo>
                    <a:pt x="478" y="482"/>
                  </a:lnTo>
                  <a:lnTo>
                    <a:pt x="478" y="481"/>
                  </a:lnTo>
                  <a:lnTo>
                    <a:pt x="474" y="480"/>
                  </a:lnTo>
                  <a:lnTo>
                    <a:pt x="473" y="479"/>
                  </a:lnTo>
                  <a:lnTo>
                    <a:pt x="473" y="478"/>
                  </a:lnTo>
                  <a:lnTo>
                    <a:pt x="470" y="479"/>
                  </a:lnTo>
                  <a:lnTo>
                    <a:pt x="469" y="479"/>
                  </a:lnTo>
                  <a:lnTo>
                    <a:pt x="469" y="479"/>
                  </a:lnTo>
                  <a:lnTo>
                    <a:pt x="469" y="481"/>
                  </a:lnTo>
                  <a:lnTo>
                    <a:pt x="468" y="485"/>
                  </a:lnTo>
                  <a:lnTo>
                    <a:pt x="468" y="488"/>
                  </a:lnTo>
                  <a:lnTo>
                    <a:pt x="469" y="488"/>
                  </a:lnTo>
                  <a:lnTo>
                    <a:pt x="468" y="490"/>
                  </a:lnTo>
                  <a:lnTo>
                    <a:pt x="468" y="493"/>
                  </a:lnTo>
                  <a:lnTo>
                    <a:pt x="468" y="497"/>
                  </a:lnTo>
                  <a:lnTo>
                    <a:pt x="468" y="497"/>
                  </a:lnTo>
                  <a:lnTo>
                    <a:pt x="467" y="501"/>
                  </a:lnTo>
                  <a:lnTo>
                    <a:pt x="464" y="511"/>
                  </a:lnTo>
                  <a:lnTo>
                    <a:pt x="463" y="518"/>
                  </a:lnTo>
                  <a:lnTo>
                    <a:pt x="463" y="518"/>
                  </a:lnTo>
                  <a:lnTo>
                    <a:pt x="462" y="520"/>
                  </a:lnTo>
                  <a:lnTo>
                    <a:pt x="461" y="523"/>
                  </a:lnTo>
                  <a:lnTo>
                    <a:pt x="454" y="533"/>
                  </a:lnTo>
                  <a:lnTo>
                    <a:pt x="450" y="540"/>
                  </a:lnTo>
                  <a:lnTo>
                    <a:pt x="450" y="540"/>
                  </a:lnTo>
                  <a:lnTo>
                    <a:pt x="449" y="545"/>
                  </a:lnTo>
                  <a:lnTo>
                    <a:pt x="445" y="555"/>
                  </a:lnTo>
                  <a:lnTo>
                    <a:pt x="444" y="562"/>
                  </a:lnTo>
                  <a:lnTo>
                    <a:pt x="444" y="562"/>
                  </a:lnTo>
                  <a:lnTo>
                    <a:pt x="443" y="568"/>
                  </a:lnTo>
                  <a:lnTo>
                    <a:pt x="442" y="584"/>
                  </a:lnTo>
                  <a:lnTo>
                    <a:pt x="441" y="596"/>
                  </a:lnTo>
                  <a:lnTo>
                    <a:pt x="441" y="596"/>
                  </a:lnTo>
                  <a:lnTo>
                    <a:pt x="440" y="597"/>
                  </a:lnTo>
                  <a:lnTo>
                    <a:pt x="439" y="598"/>
                  </a:lnTo>
                  <a:lnTo>
                    <a:pt x="433" y="602"/>
                  </a:lnTo>
                  <a:lnTo>
                    <a:pt x="430" y="604"/>
                  </a:lnTo>
                  <a:lnTo>
                    <a:pt x="430" y="604"/>
                  </a:lnTo>
                  <a:lnTo>
                    <a:pt x="430" y="606"/>
                  </a:lnTo>
                  <a:lnTo>
                    <a:pt x="429" y="609"/>
                  </a:lnTo>
                  <a:lnTo>
                    <a:pt x="429" y="611"/>
                  </a:lnTo>
                  <a:lnTo>
                    <a:pt x="430" y="611"/>
                  </a:lnTo>
                  <a:lnTo>
                    <a:pt x="430" y="613"/>
                  </a:lnTo>
                  <a:lnTo>
                    <a:pt x="430" y="614"/>
                  </a:lnTo>
                  <a:lnTo>
                    <a:pt x="430" y="620"/>
                  </a:lnTo>
                  <a:lnTo>
                    <a:pt x="430" y="625"/>
                  </a:lnTo>
                  <a:lnTo>
                    <a:pt x="431" y="625"/>
                  </a:lnTo>
                  <a:lnTo>
                    <a:pt x="430" y="626"/>
                  </a:lnTo>
                  <a:lnTo>
                    <a:pt x="429" y="627"/>
                  </a:lnTo>
                  <a:lnTo>
                    <a:pt x="426" y="631"/>
                  </a:lnTo>
                  <a:lnTo>
                    <a:pt x="422" y="634"/>
                  </a:lnTo>
                  <a:lnTo>
                    <a:pt x="422" y="634"/>
                  </a:lnTo>
                  <a:lnTo>
                    <a:pt x="421" y="636"/>
                  </a:lnTo>
                  <a:lnTo>
                    <a:pt x="420" y="637"/>
                  </a:lnTo>
                  <a:lnTo>
                    <a:pt x="417" y="642"/>
                  </a:lnTo>
                  <a:lnTo>
                    <a:pt x="414" y="645"/>
                  </a:lnTo>
                  <a:lnTo>
                    <a:pt x="414" y="645"/>
                  </a:lnTo>
                  <a:lnTo>
                    <a:pt x="413" y="648"/>
                  </a:lnTo>
                  <a:lnTo>
                    <a:pt x="411" y="652"/>
                  </a:lnTo>
                  <a:lnTo>
                    <a:pt x="411" y="655"/>
                  </a:lnTo>
                  <a:lnTo>
                    <a:pt x="411" y="655"/>
                  </a:lnTo>
                  <a:lnTo>
                    <a:pt x="410" y="657"/>
                  </a:lnTo>
                  <a:lnTo>
                    <a:pt x="409" y="664"/>
                  </a:lnTo>
                  <a:lnTo>
                    <a:pt x="408" y="668"/>
                  </a:lnTo>
                  <a:lnTo>
                    <a:pt x="408" y="668"/>
                  </a:lnTo>
                  <a:lnTo>
                    <a:pt x="407" y="672"/>
                  </a:lnTo>
                  <a:lnTo>
                    <a:pt x="406" y="678"/>
                  </a:lnTo>
                  <a:lnTo>
                    <a:pt x="406" y="684"/>
                  </a:lnTo>
                  <a:lnTo>
                    <a:pt x="406" y="684"/>
                  </a:lnTo>
                  <a:lnTo>
                    <a:pt x="405" y="685"/>
                  </a:lnTo>
                  <a:lnTo>
                    <a:pt x="402" y="691"/>
                  </a:lnTo>
                  <a:lnTo>
                    <a:pt x="399" y="696"/>
                  </a:lnTo>
                  <a:lnTo>
                    <a:pt x="399" y="696"/>
                  </a:lnTo>
                  <a:lnTo>
                    <a:pt x="398" y="697"/>
                  </a:lnTo>
                  <a:lnTo>
                    <a:pt x="396" y="700"/>
                  </a:lnTo>
                  <a:lnTo>
                    <a:pt x="395" y="702"/>
                  </a:lnTo>
                  <a:lnTo>
                    <a:pt x="395" y="702"/>
                  </a:lnTo>
                  <a:lnTo>
                    <a:pt x="394" y="703"/>
                  </a:lnTo>
                  <a:lnTo>
                    <a:pt x="393" y="704"/>
                  </a:lnTo>
                  <a:lnTo>
                    <a:pt x="389" y="710"/>
                  </a:lnTo>
                  <a:lnTo>
                    <a:pt x="385" y="713"/>
                  </a:lnTo>
                  <a:lnTo>
                    <a:pt x="385" y="713"/>
                  </a:lnTo>
                  <a:lnTo>
                    <a:pt x="384" y="714"/>
                  </a:lnTo>
                  <a:lnTo>
                    <a:pt x="382" y="719"/>
                  </a:lnTo>
                  <a:lnTo>
                    <a:pt x="381" y="722"/>
                  </a:lnTo>
                  <a:lnTo>
                    <a:pt x="381" y="722"/>
                  </a:lnTo>
                  <a:lnTo>
                    <a:pt x="380" y="724"/>
                  </a:lnTo>
                  <a:lnTo>
                    <a:pt x="380" y="725"/>
                  </a:lnTo>
                  <a:lnTo>
                    <a:pt x="380" y="725"/>
                  </a:lnTo>
                  <a:lnTo>
                    <a:pt x="380" y="726"/>
                  </a:lnTo>
                  <a:lnTo>
                    <a:pt x="381" y="730"/>
                  </a:lnTo>
                  <a:lnTo>
                    <a:pt x="381" y="731"/>
                  </a:lnTo>
                  <a:lnTo>
                    <a:pt x="382" y="731"/>
                  </a:lnTo>
                  <a:lnTo>
                    <a:pt x="381" y="735"/>
                  </a:lnTo>
                  <a:lnTo>
                    <a:pt x="381" y="736"/>
                  </a:lnTo>
                  <a:lnTo>
                    <a:pt x="381" y="736"/>
                  </a:lnTo>
                  <a:lnTo>
                    <a:pt x="380" y="737"/>
                  </a:lnTo>
                  <a:lnTo>
                    <a:pt x="376" y="741"/>
                  </a:lnTo>
                  <a:lnTo>
                    <a:pt x="374" y="743"/>
                  </a:lnTo>
                  <a:lnTo>
                    <a:pt x="374" y="743"/>
                  </a:lnTo>
                  <a:lnTo>
                    <a:pt x="379" y="745"/>
                  </a:lnTo>
                  <a:lnTo>
                    <a:pt x="381" y="745"/>
                  </a:lnTo>
                  <a:lnTo>
                    <a:pt x="382" y="745"/>
                  </a:lnTo>
                  <a:lnTo>
                    <a:pt x="381" y="747"/>
                  </a:lnTo>
                  <a:lnTo>
                    <a:pt x="379" y="753"/>
                  </a:lnTo>
                  <a:lnTo>
                    <a:pt x="378" y="756"/>
                  </a:lnTo>
                  <a:lnTo>
                    <a:pt x="378" y="756"/>
                  </a:lnTo>
                  <a:lnTo>
                    <a:pt x="375" y="757"/>
                  </a:lnTo>
                  <a:lnTo>
                    <a:pt x="369" y="757"/>
                  </a:lnTo>
                  <a:lnTo>
                    <a:pt x="364" y="757"/>
                  </a:lnTo>
                  <a:lnTo>
                    <a:pt x="364" y="757"/>
                  </a:lnTo>
                  <a:lnTo>
                    <a:pt x="363" y="758"/>
                  </a:lnTo>
                  <a:lnTo>
                    <a:pt x="361" y="759"/>
                  </a:lnTo>
                  <a:lnTo>
                    <a:pt x="355" y="763"/>
                  </a:lnTo>
                  <a:lnTo>
                    <a:pt x="350" y="767"/>
                  </a:lnTo>
                  <a:lnTo>
                    <a:pt x="350" y="767"/>
                  </a:lnTo>
                  <a:lnTo>
                    <a:pt x="349" y="768"/>
                  </a:lnTo>
                  <a:lnTo>
                    <a:pt x="348" y="769"/>
                  </a:lnTo>
                  <a:lnTo>
                    <a:pt x="344" y="776"/>
                  </a:lnTo>
                  <a:lnTo>
                    <a:pt x="340" y="780"/>
                  </a:lnTo>
                  <a:lnTo>
                    <a:pt x="340" y="780"/>
                  </a:lnTo>
                  <a:lnTo>
                    <a:pt x="339" y="781"/>
                  </a:lnTo>
                  <a:lnTo>
                    <a:pt x="338" y="782"/>
                  </a:lnTo>
                  <a:lnTo>
                    <a:pt x="335" y="788"/>
                  </a:lnTo>
                  <a:lnTo>
                    <a:pt x="332" y="792"/>
                  </a:lnTo>
                  <a:lnTo>
                    <a:pt x="332" y="792"/>
                  </a:lnTo>
                  <a:lnTo>
                    <a:pt x="331" y="793"/>
                  </a:lnTo>
                  <a:lnTo>
                    <a:pt x="328" y="794"/>
                  </a:lnTo>
                  <a:lnTo>
                    <a:pt x="322" y="797"/>
                  </a:lnTo>
                  <a:lnTo>
                    <a:pt x="317" y="801"/>
                  </a:lnTo>
                  <a:lnTo>
                    <a:pt x="317" y="801"/>
                  </a:lnTo>
                  <a:lnTo>
                    <a:pt x="315" y="802"/>
                  </a:lnTo>
                  <a:lnTo>
                    <a:pt x="310" y="804"/>
                  </a:lnTo>
                  <a:lnTo>
                    <a:pt x="305" y="805"/>
                  </a:lnTo>
                  <a:lnTo>
                    <a:pt x="305" y="805"/>
                  </a:lnTo>
                  <a:lnTo>
                    <a:pt x="304" y="806"/>
                  </a:lnTo>
                  <a:lnTo>
                    <a:pt x="301" y="807"/>
                  </a:lnTo>
                  <a:lnTo>
                    <a:pt x="300" y="808"/>
                  </a:lnTo>
                  <a:lnTo>
                    <a:pt x="300" y="808"/>
                  </a:lnTo>
                  <a:lnTo>
                    <a:pt x="299" y="811"/>
                  </a:lnTo>
                  <a:lnTo>
                    <a:pt x="299" y="814"/>
                  </a:lnTo>
                  <a:lnTo>
                    <a:pt x="299" y="817"/>
                  </a:lnTo>
                  <a:lnTo>
                    <a:pt x="299" y="817"/>
                  </a:lnTo>
                  <a:lnTo>
                    <a:pt x="297" y="818"/>
                  </a:lnTo>
                  <a:lnTo>
                    <a:pt x="292" y="819"/>
                  </a:lnTo>
                  <a:lnTo>
                    <a:pt x="289" y="819"/>
                  </a:lnTo>
                  <a:lnTo>
                    <a:pt x="289" y="819"/>
                  </a:lnTo>
                  <a:lnTo>
                    <a:pt x="288" y="821"/>
                  </a:lnTo>
                  <a:lnTo>
                    <a:pt x="287" y="825"/>
                  </a:lnTo>
                  <a:lnTo>
                    <a:pt x="287" y="827"/>
                  </a:lnTo>
                  <a:lnTo>
                    <a:pt x="287" y="827"/>
                  </a:lnTo>
                  <a:lnTo>
                    <a:pt x="285" y="831"/>
                  </a:lnTo>
                  <a:lnTo>
                    <a:pt x="285" y="832"/>
                  </a:lnTo>
                  <a:lnTo>
                    <a:pt x="285" y="832"/>
                  </a:lnTo>
                  <a:lnTo>
                    <a:pt x="284" y="834"/>
                  </a:lnTo>
                  <a:lnTo>
                    <a:pt x="279" y="836"/>
                  </a:lnTo>
                  <a:lnTo>
                    <a:pt x="277" y="837"/>
                  </a:lnTo>
                  <a:lnTo>
                    <a:pt x="277" y="837"/>
                  </a:lnTo>
                  <a:lnTo>
                    <a:pt x="276" y="838"/>
                  </a:lnTo>
                  <a:lnTo>
                    <a:pt x="272" y="840"/>
                  </a:lnTo>
                  <a:lnTo>
                    <a:pt x="268" y="841"/>
                  </a:lnTo>
                  <a:lnTo>
                    <a:pt x="268" y="841"/>
                  </a:lnTo>
                  <a:lnTo>
                    <a:pt x="267" y="842"/>
                  </a:lnTo>
                  <a:lnTo>
                    <a:pt x="264" y="843"/>
                  </a:lnTo>
                  <a:lnTo>
                    <a:pt x="253" y="849"/>
                  </a:lnTo>
                  <a:lnTo>
                    <a:pt x="244" y="852"/>
                  </a:lnTo>
                  <a:lnTo>
                    <a:pt x="244" y="852"/>
                  </a:lnTo>
                  <a:lnTo>
                    <a:pt x="243" y="852"/>
                  </a:lnTo>
                  <a:lnTo>
                    <a:pt x="240" y="852"/>
                  </a:lnTo>
                  <a:lnTo>
                    <a:pt x="239" y="852"/>
                  </a:lnTo>
                  <a:lnTo>
                    <a:pt x="239" y="852"/>
                  </a:lnTo>
                  <a:lnTo>
                    <a:pt x="238" y="853"/>
                  </a:lnTo>
                  <a:lnTo>
                    <a:pt x="233" y="854"/>
                  </a:lnTo>
                  <a:lnTo>
                    <a:pt x="231" y="855"/>
                  </a:lnTo>
                  <a:lnTo>
                    <a:pt x="231" y="855"/>
                  </a:lnTo>
                  <a:lnTo>
                    <a:pt x="229" y="856"/>
                  </a:lnTo>
                  <a:lnTo>
                    <a:pt x="223" y="859"/>
                  </a:lnTo>
                  <a:lnTo>
                    <a:pt x="220" y="860"/>
                  </a:lnTo>
                  <a:lnTo>
                    <a:pt x="220" y="860"/>
                  </a:lnTo>
                  <a:lnTo>
                    <a:pt x="214" y="858"/>
                  </a:lnTo>
                  <a:lnTo>
                    <a:pt x="210" y="856"/>
                  </a:lnTo>
                  <a:lnTo>
                    <a:pt x="210" y="855"/>
                  </a:lnTo>
                  <a:lnTo>
                    <a:pt x="208" y="848"/>
                  </a:lnTo>
                  <a:lnTo>
                    <a:pt x="207" y="843"/>
                  </a:lnTo>
                  <a:lnTo>
                    <a:pt x="207" y="842"/>
                  </a:lnTo>
                  <a:lnTo>
                    <a:pt x="206" y="842"/>
                  </a:lnTo>
                  <a:lnTo>
                    <a:pt x="203" y="842"/>
                  </a:lnTo>
                  <a:lnTo>
                    <a:pt x="202" y="842"/>
                  </a:lnTo>
                  <a:lnTo>
                    <a:pt x="202" y="841"/>
                  </a:lnTo>
                  <a:lnTo>
                    <a:pt x="200" y="842"/>
                  </a:lnTo>
                  <a:lnTo>
                    <a:pt x="196" y="846"/>
                  </a:lnTo>
                  <a:lnTo>
                    <a:pt x="193" y="848"/>
                  </a:lnTo>
                  <a:lnTo>
                    <a:pt x="193" y="848"/>
                  </a:lnTo>
                  <a:lnTo>
                    <a:pt x="191" y="849"/>
                  </a:lnTo>
                  <a:lnTo>
                    <a:pt x="185" y="851"/>
                  </a:lnTo>
                  <a:lnTo>
                    <a:pt x="182" y="852"/>
                  </a:lnTo>
                  <a:lnTo>
                    <a:pt x="182" y="852"/>
                  </a:lnTo>
                  <a:lnTo>
                    <a:pt x="181" y="852"/>
                  </a:lnTo>
                  <a:lnTo>
                    <a:pt x="178" y="852"/>
                  </a:lnTo>
                  <a:lnTo>
                    <a:pt x="176" y="852"/>
                  </a:lnTo>
                  <a:lnTo>
                    <a:pt x="176" y="851"/>
                  </a:lnTo>
                  <a:lnTo>
                    <a:pt x="175" y="848"/>
                  </a:lnTo>
                  <a:lnTo>
                    <a:pt x="176" y="847"/>
                  </a:lnTo>
                  <a:lnTo>
                    <a:pt x="175" y="848"/>
                  </a:lnTo>
                  <a:lnTo>
                    <a:pt x="170" y="851"/>
                  </a:lnTo>
                  <a:lnTo>
                    <a:pt x="167" y="852"/>
                  </a:lnTo>
                  <a:lnTo>
                    <a:pt x="167" y="852"/>
                  </a:lnTo>
                  <a:lnTo>
                    <a:pt x="164" y="847"/>
                  </a:lnTo>
                  <a:lnTo>
                    <a:pt x="164" y="843"/>
                  </a:lnTo>
                  <a:lnTo>
                    <a:pt x="164" y="842"/>
                  </a:lnTo>
                  <a:lnTo>
                    <a:pt x="163" y="836"/>
                  </a:lnTo>
                  <a:lnTo>
                    <a:pt x="163" y="832"/>
                  </a:lnTo>
                  <a:lnTo>
                    <a:pt x="163" y="831"/>
                  </a:lnTo>
                  <a:lnTo>
                    <a:pt x="162" y="832"/>
                  </a:lnTo>
                  <a:lnTo>
                    <a:pt x="161" y="834"/>
                  </a:lnTo>
                  <a:lnTo>
                    <a:pt x="161" y="835"/>
                  </a:lnTo>
                  <a:lnTo>
                    <a:pt x="160" y="835"/>
                  </a:lnTo>
                  <a:lnTo>
                    <a:pt x="159" y="835"/>
                  </a:lnTo>
                  <a:lnTo>
                    <a:pt x="158" y="835"/>
                  </a:lnTo>
                  <a:lnTo>
                    <a:pt x="158" y="835"/>
                  </a:lnTo>
                  <a:lnTo>
                    <a:pt x="157" y="835"/>
                  </a:lnTo>
                  <a:lnTo>
                    <a:pt x="156" y="835"/>
                  </a:lnTo>
                  <a:lnTo>
                    <a:pt x="150" y="832"/>
                  </a:lnTo>
                  <a:lnTo>
                    <a:pt x="147" y="831"/>
                  </a:lnTo>
                  <a:lnTo>
                    <a:pt x="147" y="830"/>
                  </a:lnTo>
                  <a:lnTo>
                    <a:pt x="146" y="830"/>
                  </a:lnTo>
                  <a:lnTo>
                    <a:pt x="145" y="830"/>
                  </a:lnTo>
                  <a:lnTo>
                    <a:pt x="141" y="830"/>
                  </a:lnTo>
                  <a:lnTo>
                    <a:pt x="138" y="830"/>
                  </a:lnTo>
                  <a:lnTo>
                    <a:pt x="138" y="830"/>
                  </a:lnTo>
                  <a:lnTo>
                    <a:pt x="134" y="831"/>
                  </a:lnTo>
                  <a:lnTo>
                    <a:pt x="123" y="831"/>
                  </a:lnTo>
                  <a:lnTo>
                    <a:pt x="115" y="831"/>
                  </a:lnTo>
                  <a:lnTo>
                    <a:pt x="115" y="831"/>
                  </a:lnTo>
                  <a:lnTo>
                    <a:pt x="114" y="829"/>
                  </a:lnTo>
                  <a:lnTo>
                    <a:pt x="113" y="819"/>
                  </a:lnTo>
                  <a:lnTo>
                    <a:pt x="112" y="813"/>
                  </a:lnTo>
                  <a:lnTo>
                    <a:pt x="112" y="812"/>
                  </a:lnTo>
                  <a:lnTo>
                    <a:pt x="110" y="811"/>
                  </a:lnTo>
                  <a:lnTo>
                    <a:pt x="106" y="807"/>
                  </a:lnTo>
                  <a:lnTo>
                    <a:pt x="104" y="805"/>
                  </a:lnTo>
                  <a:lnTo>
                    <a:pt x="104" y="804"/>
                  </a:lnTo>
                  <a:lnTo>
                    <a:pt x="103" y="804"/>
                  </a:lnTo>
                  <a:lnTo>
                    <a:pt x="101" y="804"/>
                  </a:lnTo>
                  <a:lnTo>
                    <a:pt x="94" y="803"/>
                  </a:lnTo>
                  <a:lnTo>
                    <a:pt x="89" y="803"/>
                  </a:lnTo>
                  <a:lnTo>
                    <a:pt x="89" y="802"/>
                  </a:lnTo>
                  <a:lnTo>
                    <a:pt x="88" y="803"/>
                  </a:lnTo>
                  <a:lnTo>
                    <a:pt x="85" y="806"/>
                  </a:lnTo>
                  <a:lnTo>
                    <a:pt x="82" y="808"/>
                  </a:lnTo>
                  <a:lnTo>
                    <a:pt x="82" y="808"/>
                  </a:lnTo>
                  <a:lnTo>
                    <a:pt x="81" y="809"/>
                  </a:lnTo>
                  <a:lnTo>
                    <a:pt x="78" y="814"/>
                  </a:lnTo>
                  <a:lnTo>
                    <a:pt x="76" y="816"/>
                  </a:lnTo>
                  <a:lnTo>
                    <a:pt x="76" y="816"/>
                  </a:lnTo>
                  <a:lnTo>
                    <a:pt x="73" y="817"/>
                  </a:lnTo>
                  <a:lnTo>
                    <a:pt x="66" y="818"/>
                  </a:lnTo>
                  <a:lnTo>
                    <a:pt x="61" y="819"/>
                  </a:lnTo>
                  <a:lnTo>
                    <a:pt x="61" y="819"/>
                  </a:lnTo>
                  <a:lnTo>
                    <a:pt x="59" y="819"/>
                  </a:lnTo>
                  <a:lnTo>
                    <a:pt x="57" y="819"/>
                  </a:lnTo>
                  <a:lnTo>
                    <a:pt x="51" y="818"/>
                  </a:lnTo>
                  <a:lnTo>
                    <a:pt x="45" y="818"/>
                  </a:lnTo>
                  <a:lnTo>
                    <a:pt x="45" y="817"/>
                  </a:lnTo>
                  <a:lnTo>
                    <a:pt x="42" y="818"/>
                  </a:lnTo>
                  <a:lnTo>
                    <a:pt x="34" y="818"/>
                  </a:lnTo>
                  <a:lnTo>
                    <a:pt x="28" y="818"/>
                  </a:lnTo>
                  <a:lnTo>
                    <a:pt x="28" y="818"/>
                  </a:lnTo>
                  <a:lnTo>
                    <a:pt x="21" y="815"/>
                  </a:lnTo>
                  <a:lnTo>
                    <a:pt x="18" y="813"/>
                  </a:lnTo>
                  <a:lnTo>
                    <a:pt x="18" y="812"/>
                  </a:lnTo>
                  <a:lnTo>
                    <a:pt x="21" y="805"/>
                  </a:lnTo>
                  <a:lnTo>
                    <a:pt x="22" y="801"/>
                  </a:lnTo>
                  <a:lnTo>
                    <a:pt x="23" y="800"/>
                  </a:lnTo>
                  <a:lnTo>
                    <a:pt x="24" y="798"/>
                  </a:lnTo>
                  <a:lnTo>
                    <a:pt x="29" y="792"/>
                  </a:lnTo>
                  <a:lnTo>
                    <a:pt x="32" y="788"/>
                  </a:lnTo>
                  <a:lnTo>
                    <a:pt x="33" y="786"/>
                  </a:lnTo>
                  <a:lnTo>
                    <a:pt x="33" y="785"/>
                  </a:lnTo>
                  <a:lnTo>
                    <a:pt x="35" y="780"/>
                  </a:lnTo>
                  <a:lnTo>
                    <a:pt x="36" y="777"/>
                  </a:lnTo>
                  <a:lnTo>
                    <a:pt x="38" y="776"/>
                  </a:lnTo>
                  <a:lnTo>
                    <a:pt x="36" y="777"/>
                  </a:lnTo>
                  <a:lnTo>
                    <a:pt x="33" y="781"/>
                  </a:lnTo>
                  <a:lnTo>
                    <a:pt x="32" y="783"/>
                  </a:lnTo>
                  <a:lnTo>
                    <a:pt x="32" y="783"/>
                  </a:lnTo>
                  <a:lnTo>
                    <a:pt x="31" y="784"/>
                  </a:lnTo>
                  <a:lnTo>
                    <a:pt x="29" y="785"/>
                  </a:lnTo>
                  <a:lnTo>
                    <a:pt x="22" y="792"/>
                  </a:lnTo>
                  <a:lnTo>
                    <a:pt x="18" y="796"/>
                  </a:lnTo>
                  <a:lnTo>
                    <a:pt x="18" y="796"/>
                  </a:lnTo>
                  <a:lnTo>
                    <a:pt x="17" y="797"/>
                  </a:lnTo>
                  <a:lnTo>
                    <a:pt x="16" y="798"/>
                  </a:lnTo>
                  <a:lnTo>
                    <a:pt x="15" y="798"/>
                  </a:lnTo>
                  <a:lnTo>
                    <a:pt x="15" y="797"/>
                  </a:lnTo>
                  <a:lnTo>
                    <a:pt x="16" y="792"/>
                  </a:lnTo>
                  <a:lnTo>
                    <a:pt x="16" y="788"/>
                  </a:lnTo>
                  <a:lnTo>
                    <a:pt x="17" y="786"/>
                  </a:lnTo>
                  <a:lnTo>
                    <a:pt x="19" y="782"/>
                  </a:lnTo>
                  <a:lnTo>
                    <a:pt x="20" y="780"/>
                  </a:lnTo>
                  <a:lnTo>
                    <a:pt x="21" y="779"/>
                  </a:lnTo>
                  <a:lnTo>
                    <a:pt x="20" y="777"/>
                  </a:lnTo>
                  <a:lnTo>
                    <a:pt x="20" y="776"/>
                  </a:lnTo>
                  <a:lnTo>
                    <a:pt x="20" y="774"/>
                  </a:lnTo>
                  <a:lnTo>
                    <a:pt x="19" y="776"/>
                  </a:lnTo>
                  <a:lnTo>
                    <a:pt x="17" y="780"/>
                  </a:lnTo>
                  <a:lnTo>
                    <a:pt x="16" y="782"/>
                  </a:lnTo>
                  <a:lnTo>
                    <a:pt x="16" y="782"/>
                  </a:lnTo>
                  <a:lnTo>
                    <a:pt x="14" y="783"/>
                  </a:lnTo>
                  <a:lnTo>
                    <a:pt x="7" y="785"/>
                  </a:lnTo>
                  <a:lnTo>
                    <a:pt x="3" y="786"/>
                  </a:lnTo>
                  <a:lnTo>
                    <a:pt x="3" y="786"/>
                  </a:lnTo>
                  <a:lnTo>
                    <a:pt x="0" y="780"/>
                  </a:lnTo>
                  <a:lnTo>
                    <a:pt x="0" y="776"/>
                  </a:lnTo>
                  <a:lnTo>
                    <a:pt x="0" y="774"/>
                  </a:lnTo>
                  <a:lnTo>
                    <a:pt x="2" y="770"/>
                  </a:lnTo>
                  <a:lnTo>
                    <a:pt x="3" y="768"/>
                  </a:lnTo>
                  <a:lnTo>
                    <a:pt x="4" y="767"/>
                  </a:lnTo>
                  <a:lnTo>
                    <a:pt x="8" y="763"/>
                  </a:lnTo>
                  <a:lnTo>
                    <a:pt x="11" y="762"/>
                  </a:lnTo>
                  <a:lnTo>
                    <a:pt x="12" y="761"/>
                  </a:lnTo>
                  <a:lnTo>
                    <a:pt x="15" y="761"/>
                  </a:lnTo>
                  <a:lnTo>
                    <a:pt x="21" y="760"/>
                  </a:lnTo>
                  <a:lnTo>
                    <a:pt x="26" y="759"/>
                  </a:lnTo>
                  <a:lnTo>
                    <a:pt x="27" y="758"/>
                  </a:lnTo>
                  <a:lnTo>
                    <a:pt x="28" y="757"/>
                  </a:lnTo>
                  <a:lnTo>
                    <a:pt x="33" y="751"/>
                  </a:lnTo>
                  <a:lnTo>
                    <a:pt x="38" y="748"/>
                  </a:lnTo>
                  <a:lnTo>
                    <a:pt x="39" y="747"/>
                  </a:lnTo>
                  <a:lnTo>
                    <a:pt x="38" y="747"/>
                  </a:lnTo>
                  <a:lnTo>
                    <a:pt x="35" y="747"/>
                  </a:lnTo>
                  <a:lnTo>
                    <a:pt x="34" y="747"/>
                  </a:lnTo>
                  <a:lnTo>
                    <a:pt x="34" y="746"/>
                  </a:lnTo>
                  <a:lnTo>
                    <a:pt x="32" y="744"/>
                  </a:lnTo>
                  <a:lnTo>
                    <a:pt x="31" y="743"/>
                  </a:lnTo>
                  <a:lnTo>
                    <a:pt x="31" y="742"/>
                  </a:lnTo>
                  <a:lnTo>
                    <a:pt x="35" y="738"/>
                  </a:lnTo>
                  <a:lnTo>
                    <a:pt x="39" y="736"/>
                  </a:lnTo>
                  <a:lnTo>
                    <a:pt x="40" y="735"/>
                  </a:lnTo>
                  <a:lnTo>
                    <a:pt x="40" y="734"/>
                  </a:lnTo>
                  <a:lnTo>
                    <a:pt x="42" y="728"/>
                  </a:lnTo>
                  <a:lnTo>
                    <a:pt x="43" y="724"/>
                  </a:lnTo>
                  <a:lnTo>
                    <a:pt x="44" y="723"/>
                  </a:lnTo>
                  <a:lnTo>
                    <a:pt x="42" y="724"/>
                  </a:lnTo>
                  <a:lnTo>
                    <a:pt x="39" y="724"/>
                  </a:lnTo>
                  <a:lnTo>
                    <a:pt x="35" y="724"/>
                  </a:lnTo>
                  <a:lnTo>
                    <a:pt x="35" y="724"/>
                  </a:lnTo>
                  <a:lnTo>
                    <a:pt x="34" y="724"/>
                  </a:lnTo>
                  <a:lnTo>
                    <a:pt x="33" y="724"/>
                  </a:lnTo>
                  <a:lnTo>
                    <a:pt x="30" y="723"/>
                  </a:lnTo>
                  <a:lnTo>
                    <a:pt x="28" y="723"/>
                  </a:lnTo>
                  <a:lnTo>
                    <a:pt x="28" y="722"/>
                  </a:lnTo>
                  <a:lnTo>
                    <a:pt x="26" y="716"/>
                  </a:lnTo>
                  <a:lnTo>
                    <a:pt x="26" y="713"/>
                  </a:lnTo>
                  <a:lnTo>
                    <a:pt x="26" y="712"/>
                  </a:lnTo>
                  <a:lnTo>
                    <a:pt x="27" y="712"/>
                  </a:lnTo>
                  <a:lnTo>
                    <a:pt x="32" y="712"/>
                  </a:lnTo>
                  <a:lnTo>
                    <a:pt x="35" y="712"/>
                  </a:lnTo>
                  <a:lnTo>
                    <a:pt x="36" y="712"/>
                  </a:lnTo>
                  <a:lnTo>
                    <a:pt x="39" y="707"/>
                  </a:lnTo>
                  <a:lnTo>
                    <a:pt x="40" y="703"/>
                  </a:lnTo>
                  <a:lnTo>
                    <a:pt x="41" y="702"/>
                  </a:lnTo>
                  <a:lnTo>
                    <a:pt x="38" y="701"/>
                  </a:lnTo>
                  <a:lnTo>
                    <a:pt x="36" y="700"/>
                  </a:lnTo>
                  <a:lnTo>
                    <a:pt x="36" y="699"/>
                  </a:lnTo>
                  <a:lnTo>
                    <a:pt x="36" y="698"/>
                  </a:lnTo>
                  <a:lnTo>
                    <a:pt x="35" y="695"/>
                  </a:lnTo>
                  <a:lnTo>
                    <a:pt x="35" y="692"/>
                  </a:lnTo>
                  <a:lnTo>
                    <a:pt x="36" y="691"/>
                  </a:lnTo>
                  <a:lnTo>
                    <a:pt x="38" y="691"/>
                  </a:lnTo>
                  <a:lnTo>
                    <a:pt x="41" y="691"/>
                  </a:lnTo>
                  <a:lnTo>
                    <a:pt x="43" y="691"/>
                  </a:lnTo>
                  <a:lnTo>
                    <a:pt x="44" y="690"/>
                  </a:lnTo>
                  <a:lnTo>
                    <a:pt x="46" y="693"/>
                  </a:lnTo>
                  <a:lnTo>
                    <a:pt x="47" y="695"/>
                  </a:lnTo>
                  <a:lnTo>
                    <a:pt x="49" y="695"/>
                  </a:lnTo>
                  <a:lnTo>
                    <a:pt x="50" y="695"/>
                  </a:lnTo>
                  <a:lnTo>
                    <a:pt x="53" y="693"/>
                  </a:lnTo>
                  <a:lnTo>
                    <a:pt x="56" y="692"/>
                  </a:lnTo>
                  <a:lnTo>
                    <a:pt x="57" y="691"/>
                  </a:lnTo>
                  <a:lnTo>
                    <a:pt x="61" y="691"/>
                  </a:lnTo>
                  <a:lnTo>
                    <a:pt x="62" y="691"/>
                  </a:lnTo>
                  <a:lnTo>
                    <a:pt x="63" y="691"/>
                  </a:lnTo>
                  <a:lnTo>
                    <a:pt x="65" y="690"/>
                  </a:lnTo>
                  <a:lnTo>
                    <a:pt x="66" y="689"/>
                  </a:lnTo>
                  <a:lnTo>
                    <a:pt x="67" y="688"/>
                  </a:lnTo>
                  <a:lnTo>
                    <a:pt x="66" y="686"/>
                  </a:lnTo>
                  <a:lnTo>
                    <a:pt x="66" y="685"/>
                  </a:lnTo>
                  <a:lnTo>
                    <a:pt x="65" y="685"/>
                  </a:lnTo>
                  <a:lnTo>
                    <a:pt x="64" y="685"/>
                  </a:lnTo>
                  <a:lnTo>
                    <a:pt x="61" y="685"/>
                  </a:lnTo>
                  <a:lnTo>
                    <a:pt x="58" y="685"/>
                  </a:lnTo>
                  <a:lnTo>
                    <a:pt x="58" y="684"/>
                  </a:lnTo>
                  <a:lnTo>
                    <a:pt x="54" y="680"/>
                  </a:lnTo>
                  <a:lnTo>
                    <a:pt x="52" y="678"/>
                  </a:lnTo>
                  <a:lnTo>
                    <a:pt x="52" y="677"/>
                  </a:lnTo>
                  <a:lnTo>
                    <a:pt x="52" y="676"/>
                  </a:lnTo>
                  <a:lnTo>
                    <a:pt x="53" y="672"/>
                  </a:lnTo>
                  <a:lnTo>
                    <a:pt x="53" y="668"/>
                  </a:lnTo>
                  <a:lnTo>
                    <a:pt x="54" y="667"/>
                  </a:lnTo>
                  <a:lnTo>
                    <a:pt x="54" y="666"/>
                  </a:lnTo>
                  <a:lnTo>
                    <a:pt x="55" y="662"/>
                  </a:lnTo>
                  <a:lnTo>
                    <a:pt x="56" y="658"/>
                  </a:lnTo>
                  <a:lnTo>
                    <a:pt x="57" y="657"/>
                  </a:lnTo>
                  <a:lnTo>
                    <a:pt x="57" y="656"/>
                  </a:lnTo>
                  <a:lnTo>
                    <a:pt x="58" y="651"/>
                  </a:lnTo>
                  <a:lnTo>
                    <a:pt x="58" y="648"/>
                  </a:lnTo>
                  <a:lnTo>
                    <a:pt x="59" y="646"/>
                  </a:lnTo>
                  <a:lnTo>
                    <a:pt x="61" y="643"/>
                  </a:lnTo>
                  <a:lnTo>
                    <a:pt x="62" y="642"/>
                  </a:lnTo>
                  <a:lnTo>
                    <a:pt x="63" y="641"/>
                  </a:lnTo>
                  <a:lnTo>
                    <a:pt x="64" y="640"/>
                  </a:lnTo>
                  <a:lnTo>
                    <a:pt x="67" y="637"/>
                  </a:lnTo>
                  <a:lnTo>
                    <a:pt x="70" y="633"/>
                  </a:lnTo>
                  <a:lnTo>
                    <a:pt x="71" y="632"/>
                  </a:lnTo>
                  <a:lnTo>
                    <a:pt x="75" y="631"/>
                  </a:lnTo>
                  <a:lnTo>
                    <a:pt x="77" y="631"/>
                  </a:lnTo>
                  <a:lnTo>
                    <a:pt x="78" y="630"/>
                  </a:lnTo>
                  <a:lnTo>
                    <a:pt x="80" y="634"/>
                  </a:lnTo>
                  <a:lnTo>
                    <a:pt x="81" y="636"/>
                  </a:lnTo>
                  <a:lnTo>
                    <a:pt x="82" y="636"/>
                  </a:lnTo>
                  <a:lnTo>
                    <a:pt x="82" y="638"/>
                  </a:lnTo>
                  <a:lnTo>
                    <a:pt x="81" y="643"/>
                  </a:lnTo>
                  <a:lnTo>
                    <a:pt x="81" y="646"/>
                  </a:lnTo>
                  <a:lnTo>
                    <a:pt x="82" y="646"/>
                  </a:lnTo>
                  <a:lnTo>
                    <a:pt x="85" y="649"/>
                  </a:lnTo>
                  <a:lnTo>
                    <a:pt x="87" y="649"/>
                  </a:lnTo>
                  <a:lnTo>
                    <a:pt x="88" y="649"/>
                  </a:lnTo>
                  <a:lnTo>
                    <a:pt x="89" y="649"/>
                  </a:lnTo>
                  <a:lnTo>
                    <a:pt x="90" y="649"/>
                  </a:lnTo>
                  <a:lnTo>
                    <a:pt x="92" y="645"/>
                  </a:lnTo>
                  <a:lnTo>
                    <a:pt x="93" y="643"/>
                  </a:lnTo>
                  <a:lnTo>
                    <a:pt x="94" y="642"/>
                  </a:lnTo>
                  <a:lnTo>
                    <a:pt x="93" y="640"/>
                  </a:lnTo>
                  <a:lnTo>
                    <a:pt x="92" y="632"/>
                  </a:lnTo>
                  <a:lnTo>
                    <a:pt x="92" y="626"/>
                  </a:lnTo>
                  <a:lnTo>
                    <a:pt x="92" y="625"/>
                  </a:lnTo>
                  <a:lnTo>
                    <a:pt x="92" y="623"/>
                  </a:lnTo>
                  <a:lnTo>
                    <a:pt x="92" y="620"/>
                  </a:lnTo>
                  <a:lnTo>
                    <a:pt x="92" y="618"/>
                  </a:lnTo>
                  <a:lnTo>
                    <a:pt x="93" y="617"/>
                  </a:lnTo>
                  <a:lnTo>
                    <a:pt x="97" y="617"/>
                  </a:lnTo>
                  <a:lnTo>
                    <a:pt x="99" y="617"/>
                  </a:lnTo>
                  <a:lnTo>
                    <a:pt x="100" y="616"/>
                  </a:lnTo>
                  <a:lnTo>
                    <a:pt x="100" y="614"/>
                  </a:lnTo>
                  <a:lnTo>
                    <a:pt x="102" y="605"/>
                  </a:lnTo>
                  <a:lnTo>
                    <a:pt x="103" y="598"/>
                  </a:lnTo>
                  <a:lnTo>
                    <a:pt x="104" y="597"/>
                  </a:lnTo>
                  <a:lnTo>
                    <a:pt x="106" y="597"/>
                  </a:lnTo>
                  <a:lnTo>
                    <a:pt x="113" y="594"/>
                  </a:lnTo>
                  <a:lnTo>
                    <a:pt x="118" y="593"/>
                  </a:lnTo>
                  <a:lnTo>
                    <a:pt x="120" y="592"/>
                  </a:lnTo>
                  <a:lnTo>
                    <a:pt x="121" y="591"/>
                  </a:lnTo>
                  <a:lnTo>
                    <a:pt x="125" y="585"/>
                  </a:lnTo>
                  <a:lnTo>
                    <a:pt x="128" y="582"/>
                  </a:lnTo>
                  <a:lnTo>
                    <a:pt x="129" y="581"/>
                  </a:lnTo>
                  <a:lnTo>
                    <a:pt x="129" y="579"/>
                  </a:lnTo>
                  <a:lnTo>
                    <a:pt x="131" y="570"/>
                  </a:lnTo>
                  <a:lnTo>
                    <a:pt x="132" y="563"/>
                  </a:lnTo>
                  <a:lnTo>
                    <a:pt x="133" y="562"/>
                  </a:lnTo>
                  <a:lnTo>
                    <a:pt x="134" y="560"/>
                  </a:lnTo>
                  <a:lnTo>
                    <a:pt x="137" y="553"/>
                  </a:lnTo>
                  <a:lnTo>
                    <a:pt x="140" y="549"/>
                  </a:lnTo>
                  <a:lnTo>
                    <a:pt x="141" y="548"/>
                  </a:lnTo>
                  <a:lnTo>
                    <a:pt x="143" y="547"/>
                  </a:lnTo>
                  <a:lnTo>
                    <a:pt x="148" y="544"/>
                  </a:lnTo>
                  <a:lnTo>
                    <a:pt x="151" y="541"/>
                  </a:lnTo>
                  <a:lnTo>
                    <a:pt x="152" y="540"/>
                  </a:lnTo>
                  <a:lnTo>
                    <a:pt x="153" y="537"/>
                  </a:lnTo>
                  <a:lnTo>
                    <a:pt x="157" y="525"/>
                  </a:lnTo>
                  <a:lnTo>
                    <a:pt x="159" y="515"/>
                  </a:lnTo>
                  <a:lnTo>
                    <a:pt x="160" y="514"/>
                  </a:lnTo>
                  <a:lnTo>
                    <a:pt x="161" y="514"/>
                  </a:lnTo>
                  <a:lnTo>
                    <a:pt x="164" y="514"/>
                  </a:lnTo>
                  <a:lnTo>
                    <a:pt x="167" y="514"/>
                  </a:lnTo>
                  <a:lnTo>
                    <a:pt x="168" y="513"/>
                  </a:lnTo>
                  <a:lnTo>
                    <a:pt x="169" y="512"/>
                  </a:lnTo>
                  <a:lnTo>
                    <a:pt x="173" y="509"/>
                  </a:lnTo>
                  <a:lnTo>
                    <a:pt x="176" y="505"/>
                  </a:lnTo>
                  <a:lnTo>
                    <a:pt x="178" y="504"/>
                  </a:lnTo>
                  <a:lnTo>
                    <a:pt x="179" y="504"/>
                  </a:lnTo>
                  <a:lnTo>
                    <a:pt x="183" y="503"/>
                  </a:lnTo>
                  <a:lnTo>
                    <a:pt x="186" y="503"/>
                  </a:lnTo>
                  <a:lnTo>
                    <a:pt x="187" y="502"/>
                  </a:lnTo>
                  <a:lnTo>
                    <a:pt x="196" y="499"/>
                  </a:lnTo>
                  <a:lnTo>
                    <a:pt x="200" y="497"/>
                  </a:lnTo>
                  <a:lnTo>
                    <a:pt x="202" y="495"/>
                  </a:lnTo>
                  <a:lnTo>
                    <a:pt x="203" y="495"/>
                  </a:lnTo>
                  <a:lnTo>
                    <a:pt x="208" y="495"/>
                  </a:lnTo>
                  <a:lnTo>
                    <a:pt x="213" y="495"/>
                  </a:lnTo>
                  <a:lnTo>
                    <a:pt x="214" y="494"/>
                  </a:lnTo>
                  <a:lnTo>
                    <a:pt x="216" y="494"/>
                  </a:lnTo>
                  <a:lnTo>
                    <a:pt x="222" y="491"/>
                  </a:lnTo>
                  <a:lnTo>
                    <a:pt x="228" y="490"/>
                  </a:lnTo>
                  <a:lnTo>
                    <a:pt x="229" y="489"/>
                  </a:lnTo>
                  <a:lnTo>
                    <a:pt x="230" y="488"/>
                  </a:lnTo>
                  <a:lnTo>
                    <a:pt x="237" y="482"/>
                  </a:lnTo>
                  <a:lnTo>
                    <a:pt x="241" y="479"/>
                  </a:lnTo>
                  <a:lnTo>
                    <a:pt x="242" y="478"/>
                  </a:lnTo>
                  <a:lnTo>
                    <a:pt x="243" y="477"/>
                  </a:lnTo>
                  <a:lnTo>
                    <a:pt x="250" y="470"/>
                  </a:lnTo>
                  <a:lnTo>
                    <a:pt x="254" y="466"/>
                  </a:lnTo>
                  <a:lnTo>
                    <a:pt x="255" y="465"/>
                  </a:lnTo>
                  <a:lnTo>
                    <a:pt x="256" y="464"/>
                  </a:lnTo>
                  <a:lnTo>
                    <a:pt x="262" y="458"/>
                  </a:lnTo>
                  <a:lnTo>
                    <a:pt x="266" y="455"/>
                  </a:lnTo>
                  <a:lnTo>
                    <a:pt x="267" y="454"/>
                  </a:lnTo>
                  <a:lnTo>
                    <a:pt x="270" y="452"/>
                  </a:lnTo>
                  <a:lnTo>
                    <a:pt x="282" y="443"/>
                  </a:lnTo>
                  <a:lnTo>
                    <a:pt x="291" y="436"/>
                  </a:lnTo>
                  <a:lnTo>
                    <a:pt x="292" y="435"/>
                  </a:lnTo>
                  <a:lnTo>
                    <a:pt x="293" y="433"/>
                  </a:lnTo>
                  <a:lnTo>
                    <a:pt x="300" y="427"/>
                  </a:lnTo>
                  <a:lnTo>
                    <a:pt x="304" y="422"/>
                  </a:lnTo>
                  <a:lnTo>
                    <a:pt x="305" y="421"/>
                  </a:lnTo>
                  <a:lnTo>
                    <a:pt x="308" y="419"/>
                  </a:lnTo>
                  <a:lnTo>
                    <a:pt x="316" y="412"/>
                  </a:lnTo>
                  <a:lnTo>
                    <a:pt x="323" y="407"/>
                  </a:lnTo>
                  <a:lnTo>
                    <a:pt x="324" y="406"/>
                  </a:lnTo>
                  <a:lnTo>
                    <a:pt x="327" y="404"/>
                  </a:lnTo>
                  <a:lnTo>
                    <a:pt x="339" y="396"/>
                  </a:lnTo>
                  <a:lnTo>
                    <a:pt x="348" y="390"/>
                  </a:lnTo>
                  <a:lnTo>
                    <a:pt x="349" y="389"/>
                  </a:lnTo>
                  <a:lnTo>
                    <a:pt x="349" y="387"/>
                  </a:lnTo>
                  <a:lnTo>
                    <a:pt x="350" y="381"/>
                  </a:lnTo>
                  <a:lnTo>
                    <a:pt x="351" y="375"/>
                  </a:lnTo>
                  <a:lnTo>
                    <a:pt x="352" y="374"/>
                  </a:lnTo>
                  <a:lnTo>
                    <a:pt x="354" y="373"/>
                  </a:lnTo>
                  <a:lnTo>
                    <a:pt x="357" y="370"/>
                  </a:lnTo>
                  <a:lnTo>
                    <a:pt x="359" y="366"/>
                  </a:lnTo>
                  <a:lnTo>
                    <a:pt x="360" y="365"/>
                  </a:lnTo>
                  <a:lnTo>
                    <a:pt x="361" y="364"/>
                  </a:lnTo>
                  <a:lnTo>
                    <a:pt x="367" y="359"/>
                  </a:lnTo>
                  <a:lnTo>
                    <a:pt x="371" y="355"/>
                  </a:lnTo>
                  <a:lnTo>
                    <a:pt x="372" y="354"/>
                  </a:lnTo>
                  <a:lnTo>
                    <a:pt x="373" y="353"/>
                  </a:lnTo>
                  <a:lnTo>
                    <a:pt x="378" y="350"/>
                  </a:lnTo>
                  <a:lnTo>
                    <a:pt x="381" y="348"/>
                  </a:lnTo>
                  <a:lnTo>
                    <a:pt x="382" y="347"/>
                  </a:lnTo>
                  <a:lnTo>
                    <a:pt x="383" y="347"/>
                  </a:lnTo>
                  <a:lnTo>
                    <a:pt x="389" y="346"/>
                  </a:lnTo>
                  <a:lnTo>
                    <a:pt x="392" y="346"/>
                  </a:lnTo>
                  <a:lnTo>
                    <a:pt x="393" y="345"/>
                  </a:lnTo>
                  <a:lnTo>
                    <a:pt x="395" y="343"/>
                  </a:lnTo>
                  <a:lnTo>
                    <a:pt x="403" y="337"/>
                  </a:lnTo>
                  <a:lnTo>
                    <a:pt x="409" y="332"/>
                  </a:lnTo>
                  <a:lnTo>
                    <a:pt x="410" y="331"/>
                  </a:lnTo>
                  <a:lnTo>
                    <a:pt x="411" y="330"/>
                  </a:lnTo>
                  <a:lnTo>
                    <a:pt x="417" y="324"/>
                  </a:lnTo>
                  <a:lnTo>
                    <a:pt x="421" y="319"/>
                  </a:lnTo>
                  <a:lnTo>
                    <a:pt x="422" y="318"/>
                  </a:lnTo>
                  <a:lnTo>
                    <a:pt x="423" y="317"/>
                  </a:lnTo>
                  <a:lnTo>
                    <a:pt x="427" y="313"/>
                  </a:lnTo>
                  <a:lnTo>
                    <a:pt x="429" y="310"/>
                  </a:lnTo>
                  <a:lnTo>
                    <a:pt x="430" y="308"/>
                  </a:lnTo>
                  <a:lnTo>
                    <a:pt x="431" y="306"/>
                  </a:lnTo>
                  <a:lnTo>
                    <a:pt x="434" y="300"/>
                  </a:lnTo>
                  <a:lnTo>
                    <a:pt x="438" y="295"/>
                  </a:lnTo>
                  <a:lnTo>
                    <a:pt x="439" y="294"/>
                  </a:lnTo>
                  <a:lnTo>
                    <a:pt x="440" y="293"/>
                  </a:lnTo>
                  <a:lnTo>
                    <a:pt x="445" y="287"/>
                  </a:lnTo>
                  <a:lnTo>
                    <a:pt x="449" y="282"/>
                  </a:lnTo>
                  <a:lnTo>
                    <a:pt x="450" y="281"/>
                  </a:lnTo>
                  <a:lnTo>
                    <a:pt x="450" y="280"/>
                  </a:lnTo>
                  <a:lnTo>
                    <a:pt x="451" y="273"/>
                  </a:lnTo>
                  <a:lnTo>
                    <a:pt x="451" y="269"/>
                  </a:lnTo>
                  <a:lnTo>
                    <a:pt x="452" y="268"/>
                  </a:lnTo>
                  <a:lnTo>
                    <a:pt x="453" y="266"/>
                  </a:lnTo>
                  <a:lnTo>
                    <a:pt x="454" y="265"/>
                  </a:lnTo>
                  <a:lnTo>
                    <a:pt x="455" y="264"/>
                  </a:lnTo>
                  <a:lnTo>
                    <a:pt x="455" y="261"/>
                  </a:lnTo>
                  <a:lnTo>
                    <a:pt x="458" y="254"/>
                  </a:lnTo>
                  <a:lnTo>
                    <a:pt x="460" y="248"/>
                  </a:lnTo>
                  <a:lnTo>
                    <a:pt x="461" y="247"/>
                  </a:lnTo>
                  <a:lnTo>
                    <a:pt x="461" y="246"/>
                  </a:lnTo>
                  <a:lnTo>
                    <a:pt x="461" y="242"/>
                  </a:lnTo>
                  <a:lnTo>
                    <a:pt x="461" y="238"/>
                  </a:lnTo>
                  <a:lnTo>
                    <a:pt x="462" y="237"/>
                  </a:lnTo>
                  <a:lnTo>
                    <a:pt x="462" y="235"/>
                  </a:lnTo>
                  <a:lnTo>
                    <a:pt x="464" y="229"/>
                  </a:lnTo>
                  <a:lnTo>
                    <a:pt x="465" y="224"/>
                  </a:lnTo>
                  <a:lnTo>
                    <a:pt x="466" y="223"/>
                  </a:lnTo>
                  <a:lnTo>
                    <a:pt x="466" y="221"/>
                  </a:lnTo>
                  <a:lnTo>
                    <a:pt x="467" y="213"/>
                  </a:lnTo>
                  <a:lnTo>
                    <a:pt x="467" y="207"/>
                  </a:lnTo>
                  <a:lnTo>
                    <a:pt x="468" y="206"/>
                  </a:lnTo>
                  <a:lnTo>
                    <a:pt x="469" y="202"/>
                  </a:lnTo>
                  <a:lnTo>
                    <a:pt x="474" y="191"/>
                  </a:lnTo>
                  <a:lnTo>
                    <a:pt x="477" y="184"/>
                  </a:lnTo>
                  <a:lnTo>
                    <a:pt x="478" y="183"/>
                  </a:lnTo>
                  <a:lnTo>
                    <a:pt x="479" y="182"/>
                  </a:lnTo>
                  <a:lnTo>
                    <a:pt x="485" y="178"/>
                  </a:lnTo>
                  <a:lnTo>
                    <a:pt x="489" y="176"/>
                  </a:lnTo>
                  <a:lnTo>
                    <a:pt x="490" y="175"/>
                  </a:lnTo>
                  <a:lnTo>
                    <a:pt x="491" y="174"/>
                  </a:lnTo>
                  <a:lnTo>
                    <a:pt x="495" y="171"/>
                  </a:lnTo>
                  <a:lnTo>
                    <a:pt x="498" y="167"/>
                  </a:lnTo>
                  <a:lnTo>
                    <a:pt x="499" y="166"/>
                  </a:lnTo>
                  <a:lnTo>
                    <a:pt x="500" y="165"/>
                  </a:lnTo>
                  <a:lnTo>
                    <a:pt x="507" y="161"/>
                  </a:lnTo>
                  <a:lnTo>
                    <a:pt x="511" y="157"/>
                  </a:lnTo>
                  <a:lnTo>
                    <a:pt x="512" y="156"/>
                  </a:lnTo>
                  <a:lnTo>
                    <a:pt x="513" y="156"/>
                  </a:lnTo>
                  <a:lnTo>
                    <a:pt x="519" y="154"/>
                  </a:lnTo>
                  <a:lnTo>
                    <a:pt x="522" y="153"/>
                  </a:lnTo>
                  <a:lnTo>
                    <a:pt x="523" y="152"/>
                  </a:lnTo>
                  <a:lnTo>
                    <a:pt x="524" y="151"/>
                  </a:lnTo>
                  <a:lnTo>
                    <a:pt x="527" y="144"/>
                  </a:lnTo>
                  <a:lnTo>
                    <a:pt x="530" y="140"/>
                  </a:lnTo>
                  <a:lnTo>
                    <a:pt x="531" y="139"/>
                  </a:lnTo>
                  <a:lnTo>
                    <a:pt x="532" y="136"/>
                  </a:lnTo>
                  <a:lnTo>
                    <a:pt x="537" y="125"/>
                  </a:lnTo>
                  <a:lnTo>
                    <a:pt x="540" y="117"/>
                  </a:lnTo>
                  <a:lnTo>
                    <a:pt x="542" y="116"/>
                  </a:lnTo>
                  <a:lnTo>
                    <a:pt x="542" y="114"/>
                  </a:lnTo>
                  <a:lnTo>
                    <a:pt x="544" y="107"/>
                  </a:lnTo>
                  <a:lnTo>
                    <a:pt x="545" y="103"/>
                  </a:lnTo>
                  <a:lnTo>
                    <a:pt x="546" y="102"/>
                  </a:lnTo>
                  <a:lnTo>
                    <a:pt x="546" y="99"/>
                  </a:lnTo>
                  <a:lnTo>
                    <a:pt x="548" y="90"/>
                  </a:lnTo>
                  <a:lnTo>
                    <a:pt x="549" y="82"/>
                  </a:lnTo>
                  <a:lnTo>
                    <a:pt x="550" y="81"/>
                  </a:lnTo>
                  <a:lnTo>
                    <a:pt x="550" y="80"/>
                  </a:lnTo>
                  <a:lnTo>
                    <a:pt x="550" y="74"/>
                  </a:lnTo>
                  <a:lnTo>
                    <a:pt x="550" y="70"/>
                  </a:lnTo>
                  <a:lnTo>
                    <a:pt x="551" y="69"/>
                  </a:lnTo>
                  <a:lnTo>
                    <a:pt x="555" y="69"/>
                  </a:lnTo>
                  <a:lnTo>
                    <a:pt x="556" y="69"/>
                  </a:lnTo>
                  <a:lnTo>
                    <a:pt x="557" y="69"/>
                  </a:lnTo>
                  <a:lnTo>
                    <a:pt x="557" y="69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70320" y="5930280"/>
              <a:ext cx="13320" cy="14400"/>
            </a:xfrm>
            <a:custGeom>
              <a:avLst/>
              <a:gdLst/>
              <a:ahLst/>
              <a:rect l="l" t="t" r="r" b="b"/>
              <a:pathLst>
                <a:path w="58" h="85">
                  <a:moveTo>
                    <a:pt x="42" y="0"/>
                  </a:moveTo>
                  <a:lnTo>
                    <a:pt x="42" y="1"/>
                  </a:lnTo>
                  <a:lnTo>
                    <a:pt x="42" y="2"/>
                  </a:lnTo>
                  <a:lnTo>
                    <a:pt x="42" y="5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6" y="13"/>
                  </a:lnTo>
                  <a:lnTo>
                    <a:pt x="47" y="15"/>
                  </a:lnTo>
                  <a:lnTo>
                    <a:pt x="48" y="15"/>
                  </a:lnTo>
                  <a:lnTo>
                    <a:pt x="50" y="19"/>
                  </a:lnTo>
                  <a:lnTo>
                    <a:pt x="51" y="21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53" y="26"/>
                  </a:lnTo>
                  <a:lnTo>
                    <a:pt x="53" y="28"/>
                  </a:lnTo>
                  <a:lnTo>
                    <a:pt x="54" y="28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48" y="30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44" y="32"/>
                  </a:lnTo>
                  <a:lnTo>
                    <a:pt x="44" y="34"/>
                  </a:lnTo>
                  <a:lnTo>
                    <a:pt x="51" y="36"/>
                  </a:lnTo>
                  <a:lnTo>
                    <a:pt x="54" y="37"/>
                  </a:lnTo>
                  <a:lnTo>
                    <a:pt x="55" y="37"/>
                  </a:lnTo>
                  <a:lnTo>
                    <a:pt x="56" y="40"/>
                  </a:lnTo>
                  <a:lnTo>
                    <a:pt x="58" y="41"/>
                  </a:lnTo>
                  <a:lnTo>
                    <a:pt x="58" y="43"/>
                  </a:lnTo>
                  <a:lnTo>
                    <a:pt x="56" y="47"/>
                  </a:lnTo>
                  <a:lnTo>
                    <a:pt x="56" y="50"/>
                  </a:lnTo>
                  <a:lnTo>
                    <a:pt x="58" y="50"/>
                  </a:lnTo>
                  <a:lnTo>
                    <a:pt x="56" y="51"/>
                  </a:lnTo>
                  <a:lnTo>
                    <a:pt x="52" y="52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49" y="54"/>
                  </a:lnTo>
                  <a:lnTo>
                    <a:pt x="48" y="55"/>
                  </a:lnTo>
                  <a:lnTo>
                    <a:pt x="44" y="61"/>
                  </a:lnTo>
                  <a:lnTo>
                    <a:pt x="41" y="64"/>
                  </a:lnTo>
                  <a:lnTo>
                    <a:pt x="41" y="64"/>
                  </a:lnTo>
                  <a:lnTo>
                    <a:pt x="40" y="65"/>
                  </a:lnTo>
                  <a:lnTo>
                    <a:pt x="36" y="66"/>
                  </a:lnTo>
                  <a:lnTo>
                    <a:pt x="33" y="67"/>
                  </a:lnTo>
                  <a:lnTo>
                    <a:pt x="33" y="67"/>
                  </a:lnTo>
                  <a:lnTo>
                    <a:pt x="28" y="64"/>
                  </a:lnTo>
                  <a:lnTo>
                    <a:pt x="26" y="63"/>
                  </a:lnTo>
                  <a:lnTo>
                    <a:pt x="26" y="62"/>
                  </a:lnTo>
                  <a:lnTo>
                    <a:pt x="25" y="63"/>
                  </a:lnTo>
                  <a:lnTo>
                    <a:pt x="21" y="64"/>
                  </a:lnTo>
                  <a:lnTo>
                    <a:pt x="20" y="65"/>
                  </a:lnTo>
                  <a:lnTo>
                    <a:pt x="20" y="65"/>
                  </a:lnTo>
                  <a:lnTo>
                    <a:pt x="19" y="66"/>
                  </a:lnTo>
                  <a:lnTo>
                    <a:pt x="16" y="71"/>
                  </a:lnTo>
                  <a:lnTo>
                    <a:pt x="15" y="73"/>
                  </a:lnTo>
                  <a:lnTo>
                    <a:pt x="15" y="73"/>
                  </a:lnTo>
                  <a:lnTo>
                    <a:pt x="14" y="75"/>
                  </a:lnTo>
                  <a:lnTo>
                    <a:pt x="12" y="81"/>
                  </a:lnTo>
                  <a:lnTo>
                    <a:pt x="11" y="85"/>
                  </a:lnTo>
                  <a:lnTo>
                    <a:pt x="11" y="85"/>
                  </a:lnTo>
                  <a:lnTo>
                    <a:pt x="9" y="85"/>
                  </a:lnTo>
                  <a:lnTo>
                    <a:pt x="8" y="85"/>
                  </a:lnTo>
                  <a:lnTo>
                    <a:pt x="5" y="84"/>
                  </a:lnTo>
                  <a:lnTo>
                    <a:pt x="3" y="84"/>
                  </a:lnTo>
                  <a:lnTo>
                    <a:pt x="3" y="83"/>
                  </a:lnTo>
                  <a:lnTo>
                    <a:pt x="2" y="82"/>
                  </a:lnTo>
                  <a:lnTo>
                    <a:pt x="1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3" y="64"/>
                  </a:lnTo>
                  <a:lnTo>
                    <a:pt x="5" y="58"/>
                  </a:lnTo>
                  <a:lnTo>
                    <a:pt x="6" y="56"/>
                  </a:lnTo>
                  <a:lnTo>
                    <a:pt x="7" y="54"/>
                  </a:lnTo>
                  <a:lnTo>
                    <a:pt x="8" y="53"/>
                  </a:lnTo>
                  <a:lnTo>
                    <a:pt x="9" y="52"/>
                  </a:lnTo>
                  <a:lnTo>
                    <a:pt x="12" y="48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5" y="39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20" y="28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3" y="23"/>
                  </a:lnTo>
                  <a:lnTo>
                    <a:pt x="21" y="16"/>
                  </a:lnTo>
                  <a:lnTo>
                    <a:pt x="21" y="12"/>
                  </a:lnTo>
                  <a:lnTo>
                    <a:pt x="23" y="11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5" y="5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3"/>
                  </a:lnTo>
                  <a:lnTo>
                    <a:pt x="41" y="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054160" y="4262400"/>
            <a:ext cx="426960" cy="422280"/>
          </a:xfrm>
          <a:custGeom>
            <a:avLst/>
            <a:gdLst/>
            <a:ahLst/>
            <a:rect l="l" t="t" r="r" b="b"/>
            <a:pathLst>
              <a:path w="1483" h="1543">
                <a:moveTo>
                  <a:pt x="9" y="14"/>
                </a:moveTo>
                <a:lnTo>
                  <a:pt x="4" y="19"/>
                </a:lnTo>
                <a:lnTo>
                  <a:pt x="3" y="23"/>
                </a:lnTo>
                <a:lnTo>
                  <a:pt x="1" y="27"/>
                </a:lnTo>
                <a:lnTo>
                  <a:pt x="0" y="32"/>
                </a:lnTo>
                <a:lnTo>
                  <a:pt x="1" y="37"/>
                </a:lnTo>
                <a:lnTo>
                  <a:pt x="3" y="48"/>
                </a:lnTo>
                <a:lnTo>
                  <a:pt x="9" y="58"/>
                </a:lnTo>
                <a:lnTo>
                  <a:pt x="13" y="65"/>
                </a:lnTo>
                <a:lnTo>
                  <a:pt x="17" y="68"/>
                </a:lnTo>
                <a:lnTo>
                  <a:pt x="26" y="78"/>
                </a:lnTo>
                <a:lnTo>
                  <a:pt x="45" y="100"/>
                </a:lnTo>
                <a:lnTo>
                  <a:pt x="78" y="143"/>
                </a:lnTo>
                <a:lnTo>
                  <a:pt x="116" y="181"/>
                </a:lnTo>
                <a:lnTo>
                  <a:pt x="127" y="188"/>
                </a:lnTo>
                <a:lnTo>
                  <a:pt x="153" y="205"/>
                </a:lnTo>
                <a:lnTo>
                  <a:pt x="201" y="242"/>
                </a:lnTo>
                <a:lnTo>
                  <a:pt x="281" y="329"/>
                </a:lnTo>
                <a:lnTo>
                  <a:pt x="345" y="427"/>
                </a:lnTo>
                <a:lnTo>
                  <a:pt x="359" y="452"/>
                </a:lnTo>
                <a:lnTo>
                  <a:pt x="385" y="461"/>
                </a:lnTo>
                <a:lnTo>
                  <a:pt x="432" y="484"/>
                </a:lnTo>
                <a:lnTo>
                  <a:pt x="466" y="520"/>
                </a:lnTo>
                <a:lnTo>
                  <a:pt x="492" y="563"/>
                </a:lnTo>
                <a:lnTo>
                  <a:pt x="511" y="613"/>
                </a:lnTo>
                <a:lnTo>
                  <a:pt x="524" y="666"/>
                </a:lnTo>
                <a:lnTo>
                  <a:pt x="529" y="692"/>
                </a:lnTo>
                <a:lnTo>
                  <a:pt x="532" y="698"/>
                </a:lnTo>
                <a:lnTo>
                  <a:pt x="535" y="704"/>
                </a:lnTo>
                <a:lnTo>
                  <a:pt x="543" y="713"/>
                </a:lnTo>
                <a:lnTo>
                  <a:pt x="550" y="716"/>
                </a:lnTo>
                <a:lnTo>
                  <a:pt x="569" y="720"/>
                </a:lnTo>
                <a:lnTo>
                  <a:pt x="604" y="734"/>
                </a:lnTo>
                <a:lnTo>
                  <a:pt x="634" y="759"/>
                </a:lnTo>
                <a:lnTo>
                  <a:pt x="659" y="788"/>
                </a:lnTo>
                <a:lnTo>
                  <a:pt x="700" y="855"/>
                </a:lnTo>
                <a:lnTo>
                  <a:pt x="708" y="871"/>
                </a:lnTo>
                <a:lnTo>
                  <a:pt x="711" y="881"/>
                </a:lnTo>
                <a:lnTo>
                  <a:pt x="720" y="898"/>
                </a:lnTo>
                <a:lnTo>
                  <a:pt x="737" y="934"/>
                </a:lnTo>
                <a:lnTo>
                  <a:pt x="758" y="972"/>
                </a:lnTo>
                <a:lnTo>
                  <a:pt x="763" y="981"/>
                </a:lnTo>
                <a:lnTo>
                  <a:pt x="765" y="985"/>
                </a:lnTo>
                <a:lnTo>
                  <a:pt x="765" y="988"/>
                </a:lnTo>
                <a:lnTo>
                  <a:pt x="766" y="997"/>
                </a:lnTo>
                <a:lnTo>
                  <a:pt x="765" y="1005"/>
                </a:lnTo>
                <a:lnTo>
                  <a:pt x="765" y="1023"/>
                </a:lnTo>
                <a:lnTo>
                  <a:pt x="768" y="1031"/>
                </a:lnTo>
                <a:lnTo>
                  <a:pt x="771" y="1040"/>
                </a:lnTo>
                <a:lnTo>
                  <a:pt x="779" y="1055"/>
                </a:lnTo>
                <a:lnTo>
                  <a:pt x="789" y="1065"/>
                </a:lnTo>
                <a:lnTo>
                  <a:pt x="801" y="1075"/>
                </a:lnTo>
                <a:lnTo>
                  <a:pt x="826" y="1097"/>
                </a:lnTo>
                <a:lnTo>
                  <a:pt x="833" y="1102"/>
                </a:lnTo>
                <a:lnTo>
                  <a:pt x="834" y="1107"/>
                </a:lnTo>
                <a:lnTo>
                  <a:pt x="834" y="1110"/>
                </a:lnTo>
                <a:lnTo>
                  <a:pt x="834" y="1115"/>
                </a:lnTo>
                <a:lnTo>
                  <a:pt x="834" y="1127"/>
                </a:lnTo>
                <a:lnTo>
                  <a:pt x="837" y="1134"/>
                </a:lnTo>
                <a:lnTo>
                  <a:pt x="847" y="1152"/>
                </a:lnTo>
                <a:lnTo>
                  <a:pt x="872" y="1182"/>
                </a:lnTo>
                <a:lnTo>
                  <a:pt x="929" y="1233"/>
                </a:lnTo>
                <a:lnTo>
                  <a:pt x="991" y="1281"/>
                </a:lnTo>
                <a:lnTo>
                  <a:pt x="1005" y="1294"/>
                </a:lnTo>
                <a:lnTo>
                  <a:pt x="1008" y="1298"/>
                </a:lnTo>
                <a:lnTo>
                  <a:pt x="1016" y="1308"/>
                </a:lnTo>
                <a:lnTo>
                  <a:pt x="1031" y="1327"/>
                </a:lnTo>
                <a:lnTo>
                  <a:pt x="1047" y="1346"/>
                </a:lnTo>
                <a:lnTo>
                  <a:pt x="1053" y="1349"/>
                </a:lnTo>
                <a:lnTo>
                  <a:pt x="1056" y="1353"/>
                </a:lnTo>
                <a:lnTo>
                  <a:pt x="1065" y="1359"/>
                </a:lnTo>
                <a:lnTo>
                  <a:pt x="1085" y="1370"/>
                </a:lnTo>
                <a:lnTo>
                  <a:pt x="1105" y="1379"/>
                </a:lnTo>
                <a:lnTo>
                  <a:pt x="1111" y="1381"/>
                </a:lnTo>
                <a:lnTo>
                  <a:pt x="1124" y="1388"/>
                </a:lnTo>
                <a:lnTo>
                  <a:pt x="1137" y="1397"/>
                </a:lnTo>
                <a:lnTo>
                  <a:pt x="1156" y="1420"/>
                </a:lnTo>
                <a:lnTo>
                  <a:pt x="1173" y="1446"/>
                </a:lnTo>
                <a:lnTo>
                  <a:pt x="1208" y="1497"/>
                </a:lnTo>
                <a:lnTo>
                  <a:pt x="1233" y="1515"/>
                </a:lnTo>
                <a:lnTo>
                  <a:pt x="1231" y="1511"/>
                </a:lnTo>
                <a:lnTo>
                  <a:pt x="1231" y="1501"/>
                </a:lnTo>
                <a:lnTo>
                  <a:pt x="1233" y="1492"/>
                </a:lnTo>
                <a:lnTo>
                  <a:pt x="1236" y="1485"/>
                </a:lnTo>
                <a:lnTo>
                  <a:pt x="1240" y="1478"/>
                </a:lnTo>
                <a:lnTo>
                  <a:pt x="1246" y="1470"/>
                </a:lnTo>
                <a:lnTo>
                  <a:pt x="1250" y="1465"/>
                </a:lnTo>
                <a:lnTo>
                  <a:pt x="1259" y="1470"/>
                </a:lnTo>
                <a:lnTo>
                  <a:pt x="1275" y="1478"/>
                </a:lnTo>
                <a:lnTo>
                  <a:pt x="1288" y="1482"/>
                </a:lnTo>
                <a:lnTo>
                  <a:pt x="1301" y="1479"/>
                </a:lnTo>
                <a:lnTo>
                  <a:pt x="1313" y="1472"/>
                </a:lnTo>
                <a:lnTo>
                  <a:pt x="1323" y="1457"/>
                </a:lnTo>
                <a:lnTo>
                  <a:pt x="1328" y="1447"/>
                </a:lnTo>
                <a:lnTo>
                  <a:pt x="1336" y="1453"/>
                </a:lnTo>
                <a:lnTo>
                  <a:pt x="1349" y="1466"/>
                </a:lnTo>
                <a:lnTo>
                  <a:pt x="1360" y="1481"/>
                </a:lnTo>
                <a:lnTo>
                  <a:pt x="1378" y="1514"/>
                </a:lnTo>
                <a:lnTo>
                  <a:pt x="1391" y="1540"/>
                </a:lnTo>
                <a:lnTo>
                  <a:pt x="1392" y="1543"/>
                </a:lnTo>
                <a:lnTo>
                  <a:pt x="1394" y="1543"/>
                </a:lnTo>
                <a:lnTo>
                  <a:pt x="1395" y="1543"/>
                </a:lnTo>
                <a:lnTo>
                  <a:pt x="1399" y="1543"/>
                </a:lnTo>
                <a:lnTo>
                  <a:pt x="1408" y="1543"/>
                </a:lnTo>
                <a:lnTo>
                  <a:pt x="1414" y="1541"/>
                </a:lnTo>
                <a:lnTo>
                  <a:pt x="1411" y="1531"/>
                </a:lnTo>
                <a:lnTo>
                  <a:pt x="1408" y="1510"/>
                </a:lnTo>
                <a:lnTo>
                  <a:pt x="1408" y="1466"/>
                </a:lnTo>
                <a:lnTo>
                  <a:pt x="1415" y="1423"/>
                </a:lnTo>
                <a:lnTo>
                  <a:pt x="1420" y="1411"/>
                </a:lnTo>
                <a:lnTo>
                  <a:pt x="1420" y="1404"/>
                </a:lnTo>
                <a:lnTo>
                  <a:pt x="1421" y="1397"/>
                </a:lnTo>
                <a:lnTo>
                  <a:pt x="1418" y="1382"/>
                </a:lnTo>
                <a:lnTo>
                  <a:pt x="1412" y="1366"/>
                </a:lnTo>
                <a:lnTo>
                  <a:pt x="1405" y="1334"/>
                </a:lnTo>
                <a:lnTo>
                  <a:pt x="1407" y="1317"/>
                </a:lnTo>
                <a:lnTo>
                  <a:pt x="1408" y="1313"/>
                </a:lnTo>
                <a:lnTo>
                  <a:pt x="1412" y="1302"/>
                </a:lnTo>
                <a:lnTo>
                  <a:pt x="1420" y="1292"/>
                </a:lnTo>
                <a:lnTo>
                  <a:pt x="1430" y="1273"/>
                </a:lnTo>
                <a:lnTo>
                  <a:pt x="1430" y="1257"/>
                </a:lnTo>
                <a:lnTo>
                  <a:pt x="1427" y="1253"/>
                </a:lnTo>
                <a:lnTo>
                  <a:pt x="1421" y="1244"/>
                </a:lnTo>
                <a:lnTo>
                  <a:pt x="1410" y="1228"/>
                </a:lnTo>
                <a:lnTo>
                  <a:pt x="1407" y="1220"/>
                </a:lnTo>
                <a:lnTo>
                  <a:pt x="1405" y="1211"/>
                </a:lnTo>
                <a:lnTo>
                  <a:pt x="1408" y="1205"/>
                </a:lnTo>
                <a:lnTo>
                  <a:pt x="1408" y="1204"/>
                </a:lnTo>
                <a:lnTo>
                  <a:pt x="1410" y="1200"/>
                </a:lnTo>
                <a:lnTo>
                  <a:pt x="1417" y="1191"/>
                </a:lnTo>
                <a:lnTo>
                  <a:pt x="1421" y="1188"/>
                </a:lnTo>
                <a:lnTo>
                  <a:pt x="1428" y="1188"/>
                </a:lnTo>
                <a:lnTo>
                  <a:pt x="1433" y="1188"/>
                </a:lnTo>
                <a:lnTo>
                  <a:pt x="1433" y="1184"/>
                </a:lnTo>
                <a:lnTo>
                  <a:pt x="1431" y="1172"/>
                </a:lnTo>
                <a:lnTo>
                  <a:pt x="1427" y="1150"/>
                </a:lnTo>
                <a:lnTo>
                  <a:pt x="1427" y="1140"/>
                </a:lnTo>
                <a:lnTo>
                  <a:pt x="1430" y="1134"/>
                </a:lnTo>
                <a:lnTo>
                  <a:pt x="1434" y="1131"/>
                </a:lnTo>
                <a:lnTo>
                  <a:pt x="1440" y="1129"/>
                </a:lnTo>
                <a:lnTo>
                  <a:pt x="1450" y="1121"/>
                </a:lnTo>
                <a:lnTo>
                  <a:pt x="1457" y="1114"/>
                </a:lnTo>
                <a:lnTo>
                  <a:pt x="1462" y="1105"/>
                </a:lnTo>
                <a:lnTo>
                  <a:pt x="1476" y="1088"/>
                </a:lnTo>
                <a:lnTo>
                  <a:pt x="1483" y="1084"/>
                </a:lnTo>
                <a:lnTo>
                  <a:pt x="1479" y="1085"/>
                </a:lnTo>
                <a:lnTo>
                  <a:pt x="1473" y="1085"/>
                </a:lnTo>
                <a:lnTo>
                  <a:pt x="1462" y="1085"/>
                </a:lnTo>
                <a:lnTo>
                  <a:pt x="1452" y="1084"/>
                </a:lnTo>
                <a:lnTo>
                  <a:pt x="1450" y="1082"/>
                </a:lnTo>
                <a:lnTo>
                  <a:pt x="1440" y="1078"/>
                </a:lnTo>
                <a:lnTo>
                  <a:pt x="1423" y="1066"/>
                </a:lnTo>
                <a:lnTo>
                  <a:pt x="1386" y="1043"/>
                </a:lnTo>
                <a:lnTo>
                  <a:pt x="1352" y="1023"/>
                </a:lnTo>
                <a:lnTo>
                  <a:pt x="1343" y="1018"/>
                </a:lnTo>
                <a:lnTo>
                  <a:pt x="1336" y="1017"/>
                </a:lnTo>
                <a:lnTo>
                  <a:pt x="1327" y="1015"/>
                </a:lnTo>
                <a:lnTo>
                  <a:pt x="1311" y="1017"/>
                </a:lnTo>
                <a:lnTo>
                  <a:pt x="1295" y="1023"/>
                </a:lnTo>
                <a:lnTo>
                  <a:pt x="1279" y="1031"/>
                </a:lnTo>
                <a:lnTo>
                  <a:pt x="1268" y="1043"/>
                </a:lnTo>
                <a:lnTo>
                  <a:pt x="1259" y="1058"/>
                </a:lnTo>
                <a:lnTo>
                  <a:pt x="1259" y="1058"/>
                </a:lnTo>
                <a:lnTo>
                  <a:pt x="1253" y="1050"/>
                </a:lnTo>
                <a:lnTo>
                  <a:pt x="1250" y="1040"/>
                </a:lnTo>
                <a:lnTo>
                  <a:pt x="1249" y="1030"/>
                </a:lnTo>
                <a:lnTo>
                  <a:pt x="1249" y="1011"/>
                </a:lnTo>
                <a:lnTo>
                  <a:pt x="1247" y="992"/>
                </a:lnTo>
                <a:lnTo>
                  <a:pt x="1246" y="985"/>
                </a:lnTo>
                <a:lnTo>
                  <a:pt x="1243" y="979"/>
                </a:lnTo>
                <a:lnTo>
                  <a:pt x="1236" y="973"/>
                </a:lnTo>
                <a:lnTo>
                  <a:pt x="1227" y="972"/>
                </a:lnTo>
                <a:lnTo>
                  <a:pt x="1215" y="971"/>
                </a:lnTo>
                <a:lnTo>
                  <a:pt x="1215" y="971"/>
                </a:lnTo>
                <a:lnTo>
                  <a:pt x="1218" y="962"/>
                </a:lnTo>
                <a:lnTo>
                  <a:pt x="1221" y="942"/>
                </a:lnTo>
                <a:lnTo>
                  <a:pt x="1221" y="921"/>
                </a:lnTo>
                <a:lnTo>
                  <a:pt x="1215" y="881"/>
                </a:lnTo>
                <a:lnTo>
                  <a:pt x="1215" y="849"/>
                </a:lnTo>
                <a:lnTo>
                  <a:pt x="1205" y="855"/>
                </a:lnTo>
                <a:lnTo>
                  <a:pt x="1188" y="860"/>
                </a:lnTo>
                <a:lnTo>
                  <a:pt x="1169" y="862"/>
                </a:lnTo>
                <a:lnTo>
                  <a:pt x="1152" y="859"/>
                </a:lnTo>
                <a:lnTo>
                  <a:pt x="1136" y="853"/>
                </a:lnTo>
                <a:lnTo>
                  <a:pt x="1120" y="845"/>
                </a:lnTo>
                <a:lnTo>
                  <a:pt x="1114" y="839"/>
                </a:lnTo>
                <a:lnTo>
                  <a:pt x="1107" y="833"/>
                </a:lnTo>
                <a:lnTo>
                  <a:pt x="1102" y="827"/>
                </a:lnTo>
                <a:lnTo>
                  <a:pt x="1102" y="821"/>
                </a:lnTo>
                <a:lnTo>
                  <a:pt x="1102" y="817"/>
                </a:lnTo>
                <a:lnTo>
                  <a:pt x="1105" y="811"/>
                </a:lnTo>
                <a:lnTo>
                  <a:pt x="1108" y="807"/>
                </a:lnTo>
                <a:lnTo>
                  <a:pt x="1118" y="797"/>
                </a:lnTo>
                <a:lnTo>
                  <a:pt x="1129" y="787"/>
                </a:lnTo>
                <a:lnTo>
                  <a:pt x="1136" y="772"/>
                </a:lnTo>
                <a:lnTo>
                  <a:pt x="1137" y="772"/>
                </a:lnTo>
                <a:lnTo>
                  <a:pt x="1133" y="772"/>
                </a:lnTo>
                <a:lnTo>
                  <a:pt x="1126" y="772"/>
                </a:lnTo>
                <a:lnTo>
                  <a:pt x="1111" y="772"/>
                </a:lnTo>
                <a:lnTo>
                  <a:pt x="1097" y="772"/>
                </a:lnTo>
                <a:lnTo>
                  <a:pt x="1094" y="772"/>
                </a:lnTo>
                <a:lnTo>
                  <a:pt x="1098" y="769"/>
                </a:lnTo>
                <a:lnTo>
                  <a:pt x="1107" y="760"/>
                </a:lnTo>
                <a:lnTo>
                  <a:pt x="1121" y="745"/>
                </a:lnTo>
                <a:lnTo>
                  <a:pt x="1133" y="726"/>
                </a:lnTo>
                <a:lnTo>
                  <a:pt x="1137" y="720"/>
                </a:lnTo>
                <a:lnTo>
                  <a:pt x="1130" y="717"/>
                </a:lnTo>
                <a:lnTo>
                  <a:pt x="1117" y="710"/>
                </a:lnTo>
                <a:lnTo>
                  <a:pt x="1095" y="697"/>
                </a:lnTo>
                <a:lnTo>
                  <a:pt x="1085" y="688"/>
                </a:lnTo>
                <a:lnTo>
                  <a:pt x="1079" y="676"/>
                </a:lnTo>
                <a:lnTo>
                  <a:pt x="1078" y="668"/>
                </a:lnTo>
                <a:lnTo>
                  <a:pt x="1071" y="671"/>
                </a:lnTo>
                <a:lnTo>
                  <a:pt x="1063" y="674"/>
                </a:lnTo>
                <a:lnTo>
                  <a:pt x="1060" y="674"/>
                </a:lnTo>
                <a:lnTo>
                  <a:pt x="1059" y="674"/>
                </a:lnTo>
                <a:lnTo>
                  <a:pt x="1058" y="674"/>
                </a:lnTo>
                <a:lnTo>
                  <a:pt x="1050" y="676"/>
                </a:lnTo>
                <a:lnTo>
                  <a:pt x="1046" y="679"/>
                </a:lnTo>
                <a:lnTo>
                  <a:pt x="1049" y="679"/>
                </a:lnTo>
                <a:lnTo>
                  <a:pt x="1052" y="679"/>
                </a:lnTo>
                <a:lnTo>
                  <a:pt x="1055" y="679"/>
                </a:lnTo>
                <a:lnTo>
                  <a:pt x="1055" y="681"/>
                </a:lnTo>
                <a:lnTo>
                  <a:pt x="1052" y="682"/>
                </a:lnTo>
                <a:lnTo>
                  <a:pt x="1049" y="682"/>
                </a:lnTo>
                <a:lnTo>
                  <a:pt x="1047" y="681"/>
                </a:lnTo>
                <a:lnTo>
                  <a:pt x="1044" y="678"/>
                </a:lnTo>
                <a:lnTo>
                  <a:pt x="1042" y="675"/>
                </a:lnTo>
                <a:lnTo>
                  <a:pt x="1040" y="669"/>
                </a:lnTo>
                <a:lnTo>
                  <a:pt x="1040" y="669"/>
                </a:lnTo>
                <a:lnTo>
                  <a:pt x="1034" y="660"/>
                </a:lnTo>
                <a:lnTo>
                  <a:pt x="1024" y="646"/>
                </a:lnTo>
                <a:lnTo>
                  <a:pt x="1010" y="637"/>
                </a:lnTo>
                <a:lnTo>
                  <a:pt x="992" y="633"/>
                </a:lnTo>
                <a:lnTo>
                  <a:pt x="975" y="630"/>
                </a:lnTo>
                <a:lnTo>
                  <a:pt x="956" y="631"/>
                </a:lnTo>
                <a:lnTo>
                  <a:pt x="947" y="633"/>
                </a:lnTo>
                <a:lnTo>
                  <a:pt x="946" y="624"/>
                </a:lnTo>
                <a:lnTo>
                  <a:pt x="943" y="617"/>
                </a:lnTo>
                <a:lnTo>
                  <a:pt x="939" y="603"/>
                </a:lnTo>
                <a:lnTo>
                  <a:pt x="936" y="591"/>
                </a:lnTo>
                <a:lnTo>
                  <a:pt x="931" y="581"/>
                </a:lnTo>
                <a:lnTo>
                  <a:pt x="921" y="563"/>
                </a:lnTo>
                <a:lnTo>
                  <a:pt x="910" y="547"/>
                </a:lnTo>
                <a:lnTo>
                  <a:pt x="894" y="534"/>
                </a:lnTo>
                <a:lnTo>
                  <a:pt x="862" y="508"/>
                </a:lnTo>
                <a:lnTo>
                  <a:pt x="855" y="501"/>
                </a:lnTo>
                <a:lnTo>
                  <a:pt x="847" y="494"/>
                </a:lnTo>
                <a:lnTo>
                  <a:pt x="832" y="478"/>
                </a:lnTo>
                <a:lnTo>
                  <a:pt x="797" y="447"/>
                </a:lnTo>
                <a:lnTo>
                  <a:pt x="779" y="442"/>
                </a:lnTo>
                <a:lnTo>
                  <a:pt x="769" y="443"/>
                </a:lnTo>
                <a:lnTo>
                  <a:pt x="761" y="447"/>
                </a:lnTo>
                <a:lnTo>
                  <a:pt x="753" y="455"/>
                </a:lnTo>
                <a:lnTo>
                  <a:pt x="753" y="455"/>
                </a:lnTo>
                <a:lnTo>
                  <a:pt x="752" y="458"/>
                </a:lnTo>
                <a:lnTo>
                  <a:pt x="752" y="461"/>
                </a:lnTo>
                <a:lnTo>
                  <a:pt x="753" y="463"/>
                </a:lnTo>
                <a:lnTo>
                  <a:pt x="755" y="466"/>
                </a:lnTo>
                <a:lnTo>
                  <a:pt x="759" y="475"/>
                </a:lnTo>
                <a:lnTo>
                  <a:pt x="771" y="494"/>
                </a:lnTo>
                <a:lnTo>
                  <a:pt x="775" y="504"/>
                </a:lnTo>
                <a:lnTo>
                  <a:pt x="756" y="497"/>
                </a:lnTo>
                <a:lnTo>
                  <a:pt x="723" y="478"/>
                </a:lnTo>
                <a:lnTo>
                  <a:pt x="695" y="453"/>
                </a:lnTo>
                <a:lnTo>
                  <a:pt x="648" y="394"/>
                </a:lnTo>
                <a:lnTo>
                  <a:pt x="613" y="347"/>
                </a:lnTo>
                <a:lnTo>
                  <a:pt x="610" y="343"/>
                </a:lnTo>
                <a:lnTo>
                  <a:pt x="608" y="340"/>
                </a:lnTo>
                <a:lnTo>
                  <a:pt x="608" y="334"/>
                </a:lnTo>
                <a:lnTo>
                  <a:pt x="610" y="329"/>
                </a:lnTo>
                <a:lnTo>
                  <a:pt x="608" y="317"/>
                </a:lnTo>
                <a:lnTo>
                  <a:pt x="608" y="314"/>
                </a:lnTo>
                <a:lnTo>
                  <a:pt x="597" y="301"/>
                </a:lnTo>
                <a:lnTo>
                  <a:pt x="571" y="281"/>
                </a:lnTo>
                <a:lnTo>
                  <a:pt x="542" y="266"/>
                </a:lnTo>
                <a:lnTo>
                  <a:pt x="484" y="239"/>
                </a:lnTo>
                <a:lnTo>
                  <a:pt x="453" y="205"/>
                </a:lnTo>
                <a:lnTo>
                  <a:pt x="449" y="198"/>
                </a:lnTo>
                <a:lnTo>
                  <a:pt x="443" y="182"/>
                </a:lnTo>
                <a:lnTo>
                  <a:pt x="432" y="146"/>
                </a:lnTo>
                <a:lnTo>
                  <a:pt x="411" y="113"/>
                </a:lnTo>
                <a:lnTo>
                  <a:pt x="404" y="104"/>
                </a:lnTo>
                <a:lnTo>
                  <a:pt x="403" y="101"/>
                </a:lnTo>
                <a:lnTo>
                  <a:pt x="401" y="95"/>
                </a:lnTo>
                <a:lnTo>
                  <a:pt x="403" y="91"/>
                </a:lnTo>
                <a:lnTo>
                  <a:pt x="401" y="82"/>
                </a:lnTo>
                <a:lnTo>
                  <a:pt x="401" y="81"/>
                </a:lnTo>
                <a:lnTo>
                  <a:pt x="391" y="72"/>
                </a:lnTo>
                <a:lnTo>
                  <a:pt x="369" y="61"/>
                </a:lnTo>
                <a:lnTo>
                  <a:pt x="346" y="55"/>
                </a:lnTo>
                <a:lnTo>
                  <a:pt x="322" y="53"/>
                </a:lnTo>
                <a:lnTo>
                  <a:pt x="274" y="55"/>
                </a:lnTo>
                <a:lnTo>
                  <a:pt x="264" y="53"/>
                </a:lnTo>
                <a:lnTo>
                  <a:pt x="255" y="53"/>
                </a:lnTo>
                <a:lnTo>
                  <a:pt x="239" y="55"/>
                </a:lnTo>
                <a:lnTo>
                  <a:pt x="204" y="61"/>
                </a:lnTo>
                <a:lnTo>
                  <a:pt x="187" y="61"/>
                </a:lnTo>
                <a:lnTo>
                  <a:pt x="169" y="56"/>
                </a:lnTo>
                <a:lnTo>
                  <a:pt x="162" y="52"/>
                </a:lnTo>
                <a:lnTo>
                  <a:pt x="149" y="45"/>
                </a:lnTo>
                <a:lnTo>
                  <a:pt x="123" y="29"/>
                </a:lnTo>
                <a:lnTo>
                  <a:pt x="72" y="4"/>
                </a:lnTo>
                <a:lnTo>
                  <a:pt x="46" y="0"/>
                </a:lnTo>
                <a:lnTo>
                  <a:pt x="20" y="7"/>
                </a:lnTo>
                <a:lnTo>
                  <a:pt x="9" y="14"/>
                </a:lnTo>
                <a:lnTo>
                  <a:pt x="9" y="14"/>
                </a:lnTo>
                <a:close/>
              </a:path>
            </a:pathLst>
          </a:custGeom>
          <a:noFill/>
          <a:ln w="4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14720" y="3968640"/>
            <a:ext cx="22320" cy="63720"/>
          </a:xfrm>
          <a:custGeom>
            <a:avLst/>
            <a:gdLst/>
            <a:ahLst/>
            <a:rect l="l" t="t" r="r" b="b"/>
            <a:pathLst>
              <a:path w="80" h="233">
                <a:moveTo>
                  <a:pt x="20" y="124"/>
                </a:moveTo>
                <a:lnTo>
                  <a:pt x="26" y="114"/>
                </a:lnTo>
                <a:lnTo>
                  <a:pt x="35" y="93"/>
                </a:lnTo>
                <a:lnTo>
                  <a:pt x="40" y="69"/>
                </a:lnTo>
                <a:lnTo>
                  <a:pt x="52" y="26"/>
                </a:lnTo>
                <a:lnTo>
                  <a:pt x="77" y="0"/>
                </a:lnTo>
                <a:lnTo>
                  <a:pt x="80" y="22"/>
                </a:lnTo>
                <a:lnTo>
                  <a:pt x="77" y="62"/>
                </a:lnTo>
                <a:lnTo>
                  <a:pt x="66" y="100"/>
                </a:lnTo>
                <a:lnTo>
                  <a:pt x="49" y="137"/>
                </a:lnTo>
                <a:lnTo>
                  <a:pt x="19" y="213"/>
                </a:lnTo>
                <a:lnTo>
                  <a:pt x="16" y="233"/>
                </a:lnTo>
                <a:lnTo>
                  <a:pt x="14" y="233"/>
                </a:lnTo>
                <a:lnTo>
                  <a:pt x="11" y="232"/>
                </a:lnTo>
                <a:lnTo>
                  <a:pt x="6" y="229"/>
                </a:lnTo>
                <a:lnTo>
                  <a:pt x="0" y="226"/>
                </a:lnTo>
                <a:lnTo>
                  <a:pt x="0" y="224"/>
                </a:lnTo>
                <a:lnTo>
                  <a:pt x="3" y="217"/>
                </a:lnTo>
                <a:lnTo>
                  <a:pt x="6" y="200"/>
                </a:lnTo>
                <a:lnTo>
                  <a:pt x="7" y="182"/>
                </a:lnTo>
                <a:lnTo>
                  <a:pt x="10" y="148"/>
                </a:lnTo>
                <a:lnTo>
                  <a:pt x="20" y="124"/>
                </a:lnTo>
                <a:lnTo>
                  <a:pt x="20" y="124"/>
                </a:lnTo>
                <a:close/>
              </a:path>
            </a:pathLst>
          </a:custGeom>
          <a:noFill/>
          <a:ln w="4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48200" y="1930320"/>
            <a:ext cx="497160" cy="549360"/>
          </a:xfrm>
          <a:custGeom>
            <a:avLst/>
            <a:gdLst/>
            <a:ahLst/>
            <a:rect l="l" t="t" r="r" b="b"/>
            <a:pathLst>
              <a:path w="1440" h="1679">
                <a:moveTo>
                  <a:pt x="1168" y="1570"/>
                </a:moveTo>
                <a:lnTo>
                  <a:pt x="1156" y="1553"/>
                </a:lnTo>
                <a:lnTo>
                  <a:pt x="1150" y="1533"/>
                </a:lnTo>
                <a:lnTo>
                  <a:pt x="1147" y="1509"/>
                </a:lnTo>
                <a:lnTo>
                  <a:pt x="1147" y="1457"/>
                </a:lnTo>
                <a:lnTo>
                  <a:pt x="1152" y="1350"/>
                </a:lnTo>
                <a:lnTo>
                  <a:pt x="1139" y="1281"/>
                </a:lnTo>
                <a:lnTo>
                  <a:pt x="1136" y="1278"/>
                </a:lnTo>
                <a:lnTo>
                  <a:pt x="1129" y="1267"/>
                </a:lnTo>
                <a:lnTo>
                  <a:pt x="1111" y="1247"/>
                </a:lnTo>
                <a:lnTo>
                  <a:pt x="1095" y="1227"/>
                </a:lnTo>
                <a:lnTo>
                  <a:pt x="1094" y="1221"/>
                </a:lnTo>
                <a:lnTo>
                  <a:pt x="1076" y="1220"/>
                </a:lnTo>
                <a:lnTo>
                  <a:pt x="1062" y="1215"/>
                </a:lnTo>
                <a:lnTo>
                  <a:pt x="1050" y="1207"/>
                </a:lnTo>
                <a:lnTo>
                  <a:pt x="1042" y="1196"/>
                </a:lnTo>
                <a:lnTo>
                  <a:pt x="1033" y="1183"/>
                </a:lnTo>
                <a:lnTo>
                  <a:pt x="1023" y="1153"/>
                </a:lnTo>
                <a:lnTo>
                  <a:pt x="1014" y="1121"/>
                </a:lnTo>
                <a:lnTo>
                  <a:pt x="1007" y="1089"/>
                </a:lnTo>
                <a:lnTo>
                  <a:pt x="1003" y="1075"/>
                </a:lnTo>
                <a:lnTo>
                  <a:pt x="995" y="1059"/>
                </a:lnTo>
                <a:lnTo>
                  <a:pt x="987" y="1043"/>
                </a:lnTo>
                <a:lnTo>
                  <a:pt x="962" y="1008"/>
                </a:lnTo>
                <a:lnTo>
                  <a:pt x="904" y="939"/>
                </a:lnTo>
                <a:lnTo>
                  <a:pt x="865" y="865"/>
                </a:lnTo>
                <a:lnTo>
                  <a:pt x="862" y="856"/>
                </a:lnTo>
                <a:lnTo>
                  <a:pt x="855" y="839"/>
                </a:lnTo>
                <a:lnTo>
                  <a:pt x="837" y="802"/>
                </a:lnTo>
                <a:lnTo>
                  <a:pt x="817" y="766"/>
                </a:lnTo>
                <a:lnTo>
                  <a:pt x="813" y="756"/>
                </a:lnTo>
                <a:lnTo>
                  <a:pt x="801" y="765"/>
                </a:lnTo>
                <a:lnTo>
                  <a:pt x="782" y="782"/>
                </a:lnTo>
                <a:lnTo>
                  <a:pt x="749" y="821"/>
                </a:lnTo>
                <a:lnTo>
                  <a:pt x="713" y="855"/>
                </a:lnTo>
                <a:lnTo>
                  <a:pt x="703" y="859"/>
                </a:lnTo>
                <a:lnTo>
                  <a:pt x="697" y="859"/>
                </a:lnTo>
                <a:lnTo>
                  <a:pt x="681" y="857"/>
                </a:lnTo>
                <a:lnTo>
                  <a:pt x="642" y="847"/>
                </a:lnTo>
                <a:lnTo>
                  <a:pt x="611" y="834"/>
                </a:lnTo>
                <a:lnTo>
                  <a:pt x="608" y="831"/>
                </a:lnTo>
                <a:lnTo>
                  <a:pt x="623" y="826"/>
                </a:lnTo>
                <a:lnTo>
                  <a:pt x="653" y="811"/>
                </a:lnTo>
                <a:lnTo>
                  <a:pt x="707" y="782"/>
                </a:lnTo>
                <a:lnTo>
                  <a:pt x="726" y="769"/>
                </a:lnTo>
                <a:lnTo>
                  <a:pt x="739" y="757"/>
                </a:lnTo>
                <a:lnTo>
                  <a:pt x="742" y="750"/>
                </a:lnTo>
                <a:lnTo>
                  <a:pt x="726" y="746"/>
                </a:lnTo>
                <a:lnTo>
                  <a:pt x="710" y="744"/>
                </a:lnTo>
                <a:lnTo>
                  <a:pt x="691" y="746"/>
                </a:lnTo>
                <a:lnTo>
                  <a:pt x="652" y="756"/>
                </a:lnTo>
                <a:lnTo>
                  <a:pt x="611" y="772"/>
                </a:lnTo>
                <a:lnTo>
                  <a:pt x="540" y="810"/>
                </a:lnTo>
                <a:lnTo>
                  <a:pt x="529" y="817"/>
                </a:lnTo>
                <a:lnTo>
                  <a:pt x="521" y="817"/>
                </a:lnTo>
                <a:lnTo>
                  <a:pt x="506" y="814"/>
                </a:lnTo>
                <a:lnTo>
                  <a:pt x="472" y="804"/>
                </a:lnTo>
                <a:lnTo>
                  <a:pt x="442" y="792"/>
                </a:lnTo>
                <a:lnTo>
                  <a:pt x="437" y="789"/>
                </a:lnTo>
                <a:lnTo>
                  <a:pt x="422" y="801"/>
                </a:lnTo>
                <a:lnTo>
                  <a:pt x="403" y="808"/>
                </a:lnTo>
                <a:lnTo>
                  <a:pt x="378" y="814"/>
                </a:lnTo>
                <a:lnTo>
                  <a:pt x="323" y="820"/>
                </a:lnTo>
                <a:lnTo>
                  <a:pt x="262" y="815"/>
                </a:lnTo>
                <a:lnTo>
                  <a:pt x="209" y="804"/>
                </a:lnTo>
                <a:lnTo>
                  <a:pt x="168" y="784"/>
                </a:lnTo>
                <a:lnTo>
                  <a:pt x="156" y="770"/>
                </a:lnTo>
                <a:lnTo>
                  <a:pt x="146" y="770"/>
                </a:lnTo>
                <a:lnTo>
                  <a:pt x="135" y="768"/>
                </a:lnTo>
                <a:lnTo>
                  <a:pt x="107" y="759"/>
                </a:lnTo>
                <a:lnTo>
                  <a:pt x="48" y="731"/>
                </a:lnTo>
                <a:lnTo>
                  <a:pt x="0" y="707"/>
                </a:lnTo>
                <a:lnTo>
                  <a:pt x="26" y="699"/>
                </a:lnTo>
                <a:lnTo>
                  <a:pt x="54" y="698"/>
                </a:lnTo>
                <a:lnTo>
                  <a:pt x="84" y="701"/>
                </a:lnTo>
                <a:lnTo>
                  <a:pt x="148" y="717"/>
                </a:lnTo>
                <a:lnTo>
                  <a:pt x="281" y="755"/>
                </a:lnTo>
                <a:lnTo>
                  <a:pt x="377" y="747"/>
                </a:lnTo>
                <a:lnTo>
                  <a:pt x="378" y="747"/>
                </a:lnTo>
                <a:lnTo>
                  <a:pt x="382" y="746"/>
                </a:lnTo>
                <a:lnTo>
                  <a:pt x="393" y="740"/>
                </a:lnTo>
                <a:lnTo>
                  <a:pt x="416" y="727"/>
                </a:lnTo>
                <a:lnTo>
                  <a:pt x="435" y="718"/>
                </a:lnTo>
                <a:lnTo>
                  <a:pt x="433" y="710"/>
                </a:lnTo>
                <a:lnTo>
                  <a:pt x="430" y="699"/>
                </a:lnTo>
                <a:lnTo>
                  <a:pt x="422" y="679"/>
                </a:lnTo>
                <a:lnTo>
                  <a:pt x="408" y="659"/>
                </a:lnTo>
                <a:lnTo>
                  <a:pt x="378" y="621"/>
                </a:lnTo>
                <a:lnTo>
                  <a:pt x="365" y="605"/>
                </a:lnTo>
                <a:lnTo>
                  <a:pt x="364" y="605"/>
                </a:lnTo>
                <a:lnTo>
                  <a:pt x="361" y="605"/>
                </a:lnTo>
                <a:lnTo>
                  <a:pt x="348" y="605"/>
                </a:lnTo>
                <a:lnTo>
                  <a:pt x="339" y="605"/>
                </a:lnTo>
                <a:lnTo>
                  <a:pt x="339" y="605"/>
                </a:lnTo>
                <a:lnTo>
                  <a:pt x="339" y="597"/>
                </a:lnTo>
                <a:lnTo>
                  <a:pt x="342" y="586"/>
                </a:lnTo>
                <a:lnTo>
                  <a:pt x="353" y="566"/>
                </a:lnTo>
                <a:lnTo>
                  <a:pt x="368" y="544"/>
                </a:lnTo>
                <a:lnTo>
                  <a:pt x="403" y="508"/>
                </a:lnTo>
                <a:lnTo>
                  <a:pt x="420" y="495"/>
                </a:lnTo>
                <a:lnTo>
                  <a:pt x="411" y="489"/>
                </a:lnTo>
                <a:lnTo>
                  <a:pt x="395" y="478"/>
                </a:lnTo>
                <a:lnTo>
                  <a:pt x="380" y="465"/>
                </a:lnTo>
                <a:lnTo>
                  <a:pt x="366" y="450"/>
                </a:lnTo>
                <a:lnTo>
                  <a:pt x="362" y="430"/>
                </a:lnTo>
                <a:lnTo>
                  <a:pt x="366" y="402"/>
                </a:lnTo>
                <a:lnTo>
                  <a:pt x="374" y="385"/>
                </a:lnTo>
                <a:lnTo>
                  <a:pt x="378" y="386"/>
                </a:lnTo>
                <a:lnTo>
                  <a:pt x="387" y="388"/>
                </a:lnTo>
                <a:lnTo>
                  <a:pt x="407" y="391"/>
                </a:lnTo>
                <a:lnTo>
                  <a:pt x="416" y="391"/>
                </a:lnTo>
                <a:lnTo>
                  <a:pt x="423" y="389"/>
                </a:lnTo>
                <a:lnTo>
                  <a:pt x="426" y="386"/>
                </a:lnTo>
                <a:lnTo>
                  <a:pt x="420" y="365"/>
                </a:lnTo>
                <a:lnTo>
                  <a:pt x="422" y="346"/>
                </a:lnTo>
                <a:lnTo>
                  <a:pt x="429" y="331"/>
                </a:lnTo>
                <a:lnTo>
                  <a:pt x="439" y="320"/>
                </a:lnTo>
                <a:lnTo>
                  <a:pt x="455" y="313"/>
                </a:lnTo>
                <a:lnTo>
                  <a:pt x="472" y="305"/>
                </a:lnTo>
                <a:lnTo>
                  <a:pt x="516" y="300"/>
                </a:lnTo>
                <a:lnTo>
                  <a:pt x="561" y="297"/>
                </a:lnTo>
                <a:lnTo>
                  <a:pt x="601" y="294"/>
                </a:lnTo>
                <a:lnTo>
                  <a:pt x="603" y="294"/>
                </a:lnTo>
                <a:lnTo>
                  <a:pt x="603" y="300"/>
                </a:lnTo>
                <a:lnTo>
                  <a:pt x="601" y="317"/>
                </a:lnTo>
                <a:lnTo>
                  <a:pt x="601" y="330"/>
                </a:lnTo>
                <a:lnTo>
                  <a:pt x="603" y="330"/>
                </a:lnTo>
                <a:lnTo>
                  <a:pt x="611" y="334"/>
                </a:lnTo>
                <a:lnTo>
                  <a:pt x="642" y="347"/>
                </a:lnTo>
                <a:lnTo>
                  <a:pt x="665" y="358"/>
                </a:lnTo>
                <a:lnTo>
                  <a:pt x="666" y="358"/>
                </a:lnTo>
                <a:lnTo>
                  <a:pt x="671" y="355"/>
                </a:lnTo>
                <a:lnTo>
                  <a:pt x="678" y="347"/>
                </a:lnTo>
                <a:lnTo>
                  <a:pt x="692" y="337"/>
                </a:lnTo>
                <a:lnTo>
                  <a:pt x="695" y="330"/>
                </a:lnTo>
                <a:lnTo>
                  <a:pt x="695" y="320"/>
                </a:lnTo>
                <a:lnTo>
                  <a:pt x="694" y="313"/>
                </a:lnTo>
                <a:lnTo>
                  <a:pt x="697" y="313"/>
                </a:lnTo>
                <a:lnTo>
                  <a:pt x="700" y="313"/>
                </a:lnTo>
                <a:lnTo>
                  <a:pt x="711" y="310"/>
                </a:lnTo>
                <a:lnTo>
                  <a:pt x="739" y="302"/>
                </a:lnTo>
                <a:lnTo>
                  <a:pt x="759" y="298"/>
                </a:lnTo>
                <a:lnTo>
                  <a:pt x="752" y="292"/>
                </a:lnTo>
                <a:lnTo>
                  <a:pt x="745" y="285"/>
                </a:lnTo>
                <a:lnTo>
                  <a:pt x="723" y="269"/>
                </a:lnTo>
                <a:lnTo>
                  <a:pt x="671" y="234"/>
                </a:lnTo>
                <a:lnTo>
                  <a:pt x="629" y="192"/>
                </a:lnTo>
                <a:lnTo>
                  <a:pt x="630" y="188"/>
                </a:lnTo>
                <a:lnTo>
                  <a:pt x="637" y="178"/>
                </a:lnTo>
                <a:lnTo>
                  <a:pt x="652" y="155"/>
                </a:lnTo>
                <a:lnTo>
                  <a:pt x="669" y="133"/>
                </a:lnTo>
                <a:lnTo>
                  <a:pt x="675" y="127"/>
                </a:lnTo>
                <a:lnTo>
                  <a:pt x="675" y="120"/>
                </a:lnTo>
                <a:lnTo>
                  <a:pt x="674" y="94"/>
                </a:lnTo>
                <a:lnTo>
                  <a:pt x="674" y="75"/>
                </a:lnTo>
                <a:lnTo>
                  <a:pt x="675" y="74"/>
                </a:lnTo>
                <a:lnTo>
                  <a:pt x="684" y="76"/>
                </a:lnTo>
                <a:lnTo>
                  <a:pt x="708" y="84"/>
                </a:lnTo>
                <a:lnTo>
                  <a:pt x="763" y="102"/>
                </a:lnTo>
                <a:lnTo>
                  <a:pt x="805" y="123"/>
                </a:lnTo>
                <a:lnTo>
                  <a:pt x="811" y="127"/>
                </a:lnTo>
                <a:lnTo>
                  <a:pt x="810" y="133"/>
                </a:lnTo>
                <a:lnTo>
                  <a:pt x="808" y="142"/>
                </a:lnTo>
                <a:lnTo>
                  <a:pt x="804" y="159"/>
                </a:lnTo>
                <a:lnTo>
                  <a:pt x="795" y="172"/>
                </a:lnTo>
                <a:lnTo>
                  <a:pt x="794" y="173"/>
                </a:lnTo>
                <a:lnTo>
                  <a:pt x="795" y="181"/>
                </a:lnTo>
                <a:lnTo>
                  <a:pt x="803" y="195"/>
                </a:lnTo>
                <a:lnTo>
                  <a:pt x="827" y="221"/>
                </a:lnTo>
                <a:lnTo>
                  <a:pt x="842" y="229"/>
                </a:lnTo>
                <a:lnTo>
                  <a:pt x="858" y="231"/>
                </a:lnTo>
                <a:lnTo>
                  <a:pt x="868" y="229"/>
                </a:lnTo>
                <a:lnTo>
                  <a:pt x="866" y="223"/>
                </a:lnTo>
                <a:lnTo>
                  <a:pt x="865" y="207"/>
                </a:lnTo>
                <a:lnTo>
                  <a:pt x="859" y="176"/>
                </a:lnTo>
                <a:lnTo>
                  <a:pt x="850" y="145"/>
                </a:lnTo>
                <a:lnTo>
                  <a:pt x="849" y="137"/>
                </a:lnTo>
                <a:lnTo>
                  <a:pt x="855" y="126"/>
                </a:lnTo>
                <a:lnTo>
                  <a:pt x="863" y="102"/>
                </a:lnTo>
                <a:lnTo>
                  <a:pt x="876" y="53"/>
                </a:lnTo>
                <a:lnTo>
                  <a:pt x="889" y="10"/>
                </a:lnTo>
                <a:lnTo>
                  <a:pt x="894" y="0"/>
                </a:lnTo>
                <a:lnTo>
                  <a:pt x="911" y="1"/>
                </a:lnTo>
                <a:lnTo>
                  <a:pt x="949" y="5"/>
                </a:lnTo>
                <a:lnTo>
                  <a:pt x="1027" y="21"/>
                </a:lnTo>
                <a:lnTo>
                  <a:pt x="1104" y="40"/>
                </a:lnTo>
                <a:lnTo>
                  <a:pt x="1123" y="45"/>
                </a:lnTo>
                <a:lnTo>
                  <a:pt x="1127" y="46"/>
                </a:lnTo>
                <a:lnTo>
                  <a:pt x="1142" y="47"/>
                </a:lnTo>
                <a:lnTo>
                  <a:pt x="1176" y="55"/>
                </a:lnTo>
                <a:lnTo>
                  <a:pt x="1207" y="58"/>
                </a:lnTo>
                <a:lnTo>
                  <a:pt x="1213" y="55"/>
                </a:lnTo>
                <a:lnTo>
                  <a:pt x="1220" y="65"/>
                </a:lnTo>
                <a:lnTo>
                  <a:pt x="1236" y="85"/>
                </a:lnTo>
                <a:lnTo>
                  <a:pt x="1257" y="133"/>
                </a:lnTo>
                <a:lnTo>
                  <a:pt x="1266" y="181"/>
                </a:lnTo>
                <a:lnTo>
                  <a:pt x="1268" y="192"/>
                </a:lnTo>
                <a:lnTo>
                  <a:pt x="1281" y="208"/>
                </a:lnTo>
                <a:lnTo>
                  <a:pt x="1314" y="243"/>
                </a:lnTo>
                <a:lnTo>
                  <a:pt x="1381" y="324"/>
                </a:lnTo>
                <a:lnTo>
                  <a:pt x="1431" y="408"/>
                </a:lnTo>
                <a:lnTo>
                  <a:pt x="1440" y="427"/>
                </a:lnTo>
                <a:lnTo>
                  <a:pt x="1431" y="439"/>
                </a:lnTo>
                <a:lnTo>
                  <a:pt x="1373" y="520"/>
                </a:lnTo>
                <a:lnTo>
                  <a:pt x="1173" y="795"/>
                </a:lnTo>
                <a:lnTo>
                  <a:pt x="1021" y="1005"/>
                </a:lnTo>
                <a:lnTo>
                  <a:pt x="1014" y="1015"/>
                </a:lnTo>
                <a:lnTo>
                  <a:pt x="1023" y="1018"/>
                </a:lnTo>
                <a:lnTo>
                  <a:pt x="1052" y="1025"/>
                </a:lnTo>
                <a:lnTo>
                  <a:pt x="1073" y="1031"/>
                </a:lnTo>
                <a:lnTo>
                  <a:pt x="1075" y="1031"/>
                </a:lnTo>
                <a:lnTo>
                  <a:pt x="1078" y="1039"/>
                </a:lnTo>
                <a:lnTo>
                  <a:pt x="1088" y="1060"/>
                </a:lnTo>
                <a:lnTo>
                  <a:pt x="1097" y="1078"/>
                </a:lnTo>
                <a:lnTo>
                  <a:pt x="1098" y="1078"/>
                </a:lnTo>
                <a:lnTo>
                  <a:pt x="1095" y="1088"/>
                </a:lnTo>
                <a:lnTo>
                  <a:pt x="1091" y="1118"/>
                </a:lnTo>
                <a:lnTo>
                  <a:pt x="1087" y="1141"/>
                </a:lnTo>
                <a:lnTo>
                  <a:pt x="1087" y="1141"/>
                </a:lnTo>
                <a:lnTo>
                  <a:pt x="1101" y="1143"/>
                </a:lnTo>
                <a:lnTo>
                  <a:pt x="1146" y="1147"/>
                </a:lnTo>
                <a:lnTo>
                  <a:pt x="1181" y="1150"/>
                </a:lnTo>
                <a:lnTo>
                  <a:pt x="1184" y="1150"/>
                </a:lnTo>
                <a:lnTo>
                  <a:pt x="1184" y="1157"/>
                </a:lnTo>
                <a:lnTo>
                  <a:pt x="1184" y="1196"/>
                </a:lnTo>
                <a:lnTo>
                  <a:pt x="1188" y="1336"/>
                </a:lnTo>
                <a:lnTo>
                  <a:pt x="1189" y="1440"/>
                </a:lnTo>
                <a:lnTo>
                  <a:pt x="1191" y="1446"/>
                </a:lnTo>
                <a:lnTo>
                  <a:pt x="1208" y="1466"/>
                </a:lnTo>
                <a:lnTo>
                  <a:pt x="1231" y="1502"/>
                </a:lnTo>
                <a:lnTo>
                  <a:pt x="1239" y="1534"/>
                </a:lnTo>
                <a:lnTo>
                  <a:pt x="1234" y="1567"/>
                </a:lnTo>
                <a:lnTo>
                  <a:pt x="1220" y="1602"/>
                </a:lnTo>
                <a:lnTo>
                  <a:pt x="1198" y="1643"/>
                </a:lnTo>
                <a:lnTo>
                  <a:pt x="1187" y="1665"/>
                </a:lnTo>
                <a:lnTo>
                  <a:pt x="1185" y="1670"/>
                </a:lnTo>
                <a:lnTo>
                  <a:pt x="1184" y="1675"/>
                </a:lnTo>
                <a:lnTo>
                  <a:pt x="1181" y="1678"/>
                </a:lnTo>
                <a:lnTo>
                  <a:pt x="1178" y="1679"/>
                </a:lnTo>
                <a:lnTo>
                  <a:pt x="1173" y="1679"/>
                </a:lnTo>
                <a:lnTo>
                  <a:pt x="1171" y="1678"/>
                </a:lnTo>
                <a:lnTo>
                  <a:pt x="1166" y="1675"/>
                </a:lnTo>
                <a:lnTo>
                  <a:pt x="1163" y="1670"/>
                </a:lnTo>
                <a:lnTo>
                  <a:pt x="1160" y="1666"/>
                </a:lnTo>
                <a:lnTo>
                  <a:pt x="1159" y="1662"/>
                </a:lnTo>
                <a:lnTo>
                  <a:pt x="1158" y="1654"/>
                </a:lnTo>
                <a:lnTo>
                  <a:pt x="1158" y="1647"/>
                </a:lnTo>
                <a:lnTo>
                  <a:pt x="1159" y="1647"/>
                </a:lnTo>
                <a:lnTo>
                  <a:pt x="1152" y="1641"/>
                </a:lnTo>
                <a:lnTo>
                  <a:pt x="1149" y="1636"/>
                </a:lnTo>
                <a:lnTo>
                  <a:pt x="1146" y="1628"/>
                </a:lnTo>
                <a:lnTo>
                  <a:pt x="1146" y="1622"/>
                </a:lnTo>
                <a:lnTo>
                  <a:pt x="1146" y="1617"/>
                </a:lnTo>
                <a:lnTo>
                  <a:pt x="1147" y="1609"/>
                </a:lnTo>
                <a:lnTo>
                  <a:pt x="1153" y="1598"/>
                </a:lnTo>
                <a:lnTo>
                  <a:pt x="1166" y="1570"/>
                </a:lnTo>
                <a:lnTo>
                  <a:pt x="1168" y="1570"/>
                </a:lnTo>
                <a:lnTo>
                  <a:pt x="1168" y="157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4760" y="1698480"/>
            <a:ext cx="520920" cy="474840"/>
          </a:xfrm>
          <a:custGeom>
            <a:avLst/>
            <a:gdLst/>
            <a:ahLst/>
            <a:rect l="l" t="t" r="r" b="b"/>
            <a:pathLst>
              <a:path w="1514" h="1452">
                <a:moveTo>
                  <a:pt x="756" y="1070"/>
                </a:moveTo>
                <a:lnTo>
                  <a:pt x="749" y="1070"/>
                </a:lnTo>
                <a:lnTo>
                  <a:pt x="735" y="1067"/>
                </a:lnTo>
                <a:lnTo>
                  <a:pt x="719" y="1061"/>
                </a:lnTo>
                <a:lnTo>
                  <a:pt x="694" y="1043"/>
                </a:lnTo>
                <a:lnTo>
                  <a:pt x="684" y="1023"/>
                </a:lnTo>
                <a:lnTo>
                  <a:pt x="691" y="1025"/>
                </a:lnTo>
                <a:lnTo>
                  <a:pt x="709" y="1025"/>
                </a:lnTo>
                <a:lnTo>
                  <a:pt x="740" y="1025"/>
                </a:lnTo>
                <a:lnTo>
                  <a:pt x="772" y="1026"/>
                </a:lnTo>
                <a:lnTo>
                  <a:pt x="781" y="1026"/>
                </a:lnTo>
                <a:lnTo>
                  <a:pt x="780" y="1030"/>
                </a:lnTo>
                <a:lnTo>
                  <a:pt x="778" y="1039"/>
                </a:lnTo>
                <a:lnTo>
                  <a:pt x="774" y="1048"/>
                </a:lnTo>
                <a:lnTo>
                  <a:pt x="764" y="1062"/>
                </a:lnTo>
                <a:lnTo>
                  <a:pt x="756" y="1070"/>
                </a:lnTo>
                <a:lnTo>
                  <a:pt x="756" y="1070"/>
                </a:lnTo>
                <a:close/>
                <a:moveTo>
                  <a:pt x="70" y="371"/>
                </a:moveTo>
                <a:lnTo>
                  <a:pt x="62" y="349"/>
                </a:lnTo>
                <a:lnTo>
                  <a:pt x="51" y="315"/>
                </a:lnTo>
                <a:lnTo>
                  <a:pt x="35" y="265"/>
                </a:lnTo>
                <a:lnTo>
                  <a:pt x="39" y="215"/>
                </a:lnTo>
                <a:lnTo>
                  <a:pt x="45" y="196"/>
                </a:lnTo>
                <a:lnTo>
                  <a:pt x="45" y="189"/>
                </a:lnTo>
                <a:lnTo>
                  <a:pt x="45" y="173"/>
                </a:lnTo>
                <a:lnTo>
                  <a:pt x="49" y="135"/>
                </a:lnTo>
                <a:lnTo>
                  <a:pt x="52" y="102"/>
                </a:lnTo>
                <a:lnTo>
                  <a:pt x="54" y="94"/>
                </a:lnTo>
                <a:lnTo>
                  <a:pt x="65" y="93"/>
                </a:lnTo>
                <a:lnTo>
                  <a:pt x="77" y="96"/>
                </a:lnTo>
                <a:lnTo>
                  <a:pt x="84" y="103"/>
                </a:lnTo>
                <a:lnTo>
                  <a:pt x="90" y="112"/>
                </a:lnTo>
                <a:lnTo>
                  <a:pt x="94" y="123"/>
                </a:lnTo>
                <a:lnTo>
                  <a:pt x="97" y="136"/>
                </a:lnTo>
                <a:lnTo>
                  <a:pt x="100" y="162"/>
                </a:lnTo>
                <a:lnTo>
                  <a:pt x="102" y="184"/>
                </a:lnTo>
                <a:lnTo>
                  <a:pt x="103" y="193"/>
                </a:lnTo>
                <a:lnTo>
                  <a:pt x="104" y="196"/>
                </a:lnTo>
                <a:lnTo>
                  <a:pt x="106" y="196"/>
                </a:lnTo>
                <a:lnTo>
                  <a:pt x="109" y="190"/>
                </a:lnTo>
                <a:lnTo>
                  <a:pt x="112" y="181"/>
                </a:lnTo>
                <a:lnTo>
                  <a:pt x="113" y="170"/>
                </a:lnTo>
                <a:lnTo>
                  <a:pt x="116" y="142"/>
                </a:lnTo>
                <a:lnTo>
                  <a:pt x="122" y="115"/>
                </a:lnTo>
                <a:lnTo>
                  <a:pt x="133" y="91"/>
                </a:lnTo>
                <a:lnTo>
                  <a:pt x="144" y="83"/>
                </a:lnTo>
                <a:lnTo>
                  <a:pt x="155" y="78"/>
                </a:lnTo>
                <a:lnTo>
                  <a:pt x="171" y="77"/>
                </a:lnTo>
                <a:lnTo>
                  <a:pt x="172" y="77"/>
                </a:lnTo>
                <a:lnTo>
                  <a:pt x="172" y="80"/>
                </a:lnTo>
                <a:lnTo>
                  <a:pt x="174" y="94"/>
                </a:lnTo>
                <a:lnTo>
                  <a:pt x="181" y="146"/>
                </a:lnTo>
                <a:lnTo>
                  <a:pt x="187" y="186"/>
                </a:lnTo>
                <a:lnTo>
                  <a:pt x="188" y="187"/>
                </a:lnTo>
                <a:lnTo>
                  <a:pt x="190" y="177"/>
                </a:lnTo>
                <a:lnTo>
                  <a:pt x="191" y="167"/>
                </a:lnTo>
                <a:lnTo>
                  <a:pt x="194" y="141"/>
                </a:lnTo>
                <a:lnTo>
                  <a:pt x="199" y="116"/>
                </a:lnTo>
                <a:lnTo>
                  <a:pt x="203" y="107"/>
                </a:lnTo>
                <a:lnTo>
                  <a:pt x="207" y="102"/>
                </a:lnTo>
                <a:lnTo>
                  <a:pt x="212" y="100"/>
                </a:lnTo>
                <a:lnTo>
                  <a:pt x="217" y="103"/>
                </a:lnTo>
                <a:lnTo>
                  <a:pt x="219" y="103"/>
                </a:lnTo>
                <a:lnTo>
                  <a:pt x="222" y="106"/>
                </a:lnTo>
                <a:lnTo>
                  <a:pt x="225" y="110"/>
                </a:lnTo>
                <a:lnTo>
                  <a:pt x="226" y="116"/>
                </a:lnTo>
                <a:lnTo>
                  <a:pt x="230" y="129"/>
                </a:lnTo>
                <a:lnTo>
                  <a:pt x="238" y="152"/>
                </a:lnTo>
                <a:lnTo>
                  <a:pt x="243" y="155"/>
                </a:lnTo>
                <a:lnTo>
                  <a:pt x="245" y="154"/>
                </a:lnTo>
                <a:lnTo>
                  <a:pt x="246" y="151"/>
                </a:lnTo>
                <a:lnTo>
                  <a:pt x="246" y="145"/>
                </a:lnTo>
                <a:lnTo>
                  <a:pt x="246" y="132"/>
                </a:lnTo>
                <a:lnTo>
                  <a:pt x="246" y="106"/>
                </a:lnTo>
                <a:lnTo>
                  <a:pt x="251" y="99"/>
                </a:lnTo>
                <a:lnTo>
                  <a:pt x="257" y="99"/>
                </a:lnTo>
                <a:lnTo>
                  <a:pt x="265" y="100"/>
                </a:lnTo>
                <a:lnTo>
                  <a:pt x="272" y="103"/>
                </a:lnTo>
                <a:lnTo>
                  <a:pt x="278" y="107"/>
                </a:lnTo>
                <a:lnTo>
                  <a:pt x="281" y="110"/>
                </a:lnTo>
                <a:lnTo>
                  <a:pt x="286" y="112"/>
                </a:lnTo>
                <a:lnTo>
                  <a:pt x="288" y="112"/>
                </a:lnTo>
                <a:lnTo>
                  <a:pt x="286" y="107"/>
                </a:lnTo>
                <a:lnTo>
                  <a:pt x="278" y="94"/>
                </a:lnTo>
                <a:lnTo>
                  <a:pt x="259" y="67"/>
                </a:lnTo>
                <a:lnTo>
                  <a:pt x="228" y="44"/>
                </a:lnTo>
                <a:lnTo>
                  <a:pt x="219" y="41"/>
                </a:lnTo>
                <a:lnTo>
                  <a:pt x="219" y="39"/>
                </a:lnTo>
                <a:lnTo>
                  <a:pt x="222" y="35"/>
                </a:lnTo>
                <a:lnTo>
                  <a:pt x="225" y="32"/>
                </a:lnTo>
                <a:lnTo>
                  <a:pt x="235" y="25"/>
                </a:lnTo>
                <a:lnTo>
                  <a:pt x="257" y="9"/>
                </a:lnTo>
                <a:lnTo>
                  <a:pt x="264" y="0"/>
                </a:lnTo>
                <a:lnTo>
                  <a:pt x="287" y="19"/>
                </a:lnTo>
                <a:lnTo>
                  <a:pt x="335" y="57"/>
                </a:lnTo>
                <a:lnTo>
                  <a:pt x="436" y="120"/>
                </a:lnTo>
                <a:lnTo>
                  <a:pt x="548" y="161"/>
                </a:lnTo>
                <a:lnTo>
                  <a:pt x="580" y="165"/>
                </a:lnTo>
                <a:lnTo>
                  <a:pt x="593" y="155"/>
                </a:lnTo>
                <a:lnTo>
                  <a:pt x="610" y="144"/>
                </a:lnTo>
                <a:lnTo>
                  <a:pt x="616" y="142"/>
                </a:lnTo>
                <a:lnTo>
                  <a:pt x="617" y="142"/>
                </a:lnTo>
                <a:lnTo>
                  <a:pt x="620" y="144"/>
                </a:lnTo>
                <a:lnTo>
                  <a:pt x="622" y="145"/>
                </a:lnTo>
                <a:lnTo>
                  <a:pt x="623" y="146"/>
                </a:lnTo>
                <a:lnTo>
                  <a:pt x="625" y="151"/>
                </a:lnTo>
                <a:lnTo>
                  <a:pt x="626" y="158"/>
                </a:lnTo>
                <a:lnTo>
                  <a:pt x="632" y="178"/>
                </a:lnTo>
                <a:lnTo>
                  <a:pt x="643" y="207"/>
                </a:lnTo>
                <a:lnTo>
                  <a:pt x="648" y="215"/>
                </a:lnTo>
                <a:lnTo>
                  <a:pt x="661" y="215"/>
                </a:lnTo>
                <a:lnTo>
                  <a:pt x="684" y="207"/>
                </a:lnTo>
                <a:lnTo>
                  <a:pt x="704" y="200"/>
                </a:lnTo>
                <a:lnTo>
                  <a:pt x="722" y="196"/>
                </a:lnTo>
                <a:lnTo>
                  <a:pt x="730" y="196"/>
                </a:lnTo>
                <a:lnTo>
                  <a:pt x="739" y="200"/>
                </a:lnTo>
                <a:lnTo>
                  <a:pt x="746" y="206"/>
                </a:lnTo>
                <a:lnTo>
                  <a:pt x="755" y="217"/>
                </a:lnTo>
                <a:lnTo>
                  <a:pt x="764" y="232"/>
                </a:lnTo>
                <a:lnTo>
                  <a:pt x="765" y="232"/>
                </a:lnTo>
                <a:lnTo>
                  <a:pt x="795" y="232"/>
                </a:lnTo>
                <a:lnTo>
                  <a:pt x="845" y="233"/>
                </a:lnTo>
                <a:lnTo>
                  <a:pt x="877" y="244"/>
                </a:lnTo>
                <a:lnTo>
                  <a:pt x="885" y="252"/>
                </a:lnTo>
                <a:lnTo>
                  <a:pt x="891" y="262"/>
                </a:lnTo>
                <a:lnTo>
                  <a:pt x="891" y="274"/>
                </a:lnTo>
                <a:lnTo>
                  <a:pt x="887" y="287"/>
                </a:lnTo>
                <a:lnTo>
                  <a:pt x="878" y="304"/>
                </a:lnTo>
                <a:lnTo>
                  <a:pt x="865" y="322"/>
                </a:lnTo>
                <a:lnTo>
                  <a:pt x="848" y="342"/>
                </a:lnTo>
                <a:lnTo>
                  <a:pt x="848" y="342"/>
                </a:lnTo>
                <a:lnTo>
                  <a:pt x="855" y="352"/>
                </a:lnTo>
                <a:lnTo>
                  <a:pt x="877" y="380"/>
                </a:lnTo>
                <a:lnTo>
                  <a:pt x="894" y="402"/>
                </a:lnTo>
                <a:lnTo>
                  <a:pt x="895" y="402"/>
                </a:lnTo>
                <a:lnTo>
                  <a:pt x="903" y="402"/>
                </a:lnTo>
                <a:lnTo>
                  <a:pt x="924" y="397"/>
                </a:lnTo>
                <a:lnTo>
                  <a:pt x="975" y="380"/>
                </a:lnTo>
                <a:lnTo>
                  <a:pt x="995" y="368"/>
                </a:lnTo>
                <a:lnTo>
                  <a:pt x="1003" y="362"/>
                </a:lnTo>
                <a:lnTo>
                  <a:pt x="1006" y="355"/>
                </a:lnTo>
                <a:lnTo>
                  <a:pt x="1007" y="352"/>
                </a:lnTo>
                <a:lnTo>
                  <a:pt x="1007" y="348"/>
                </a:lnTo>
                <a:lnTo>
                  <a:pt x="1007" y="348"/>
                </a:lnTo>
                <a:lnTo>
                  <a:pt x="1017" y="351"/>
                </a:lnTo>
                <a:lnTo>
                  <a:pt x="1042" y="352"/>
                </a:lnTo>
                <a:lnTo>
                  <a:pt x="1090" y="355"/>
                </a:lnTo>
                <a:lnTo>
                  <a:pt x="1108" y="361"/>
                </a:lnTo>
                <a:lnTo>
                  <a:pt x="1114" y="365"/>
                </a:lnTo>
                <a:lnTo>
                  <a:pt x="1119" y="373"/>
                </a:lnTo>
                <a:lnTo>
                  <a:pt x="1120" y="380"/>
                </a:lnTo>
                <a:lnTo>
                  <a:pt x="1121" y="380"/>
                </a:lnTo>
                <a:lnTo>
                  <a:pt x="1120" y="381"/>
                </a:lnTo>
                <a:lnTo>
                  <a:pt x="1117" y="383"/>
                </a:lnTo>
                <a:lnTo>
                  <a:pt x="1108" y="393"/>
                </a:lnTo>
                <a:lnTo>
                  <a:pt x="1103" y="406"/>
                </a:lnTo>
                <a:lnTo>
                  <a:pt x="1103" y="407"/>
                </a:lnTo>
                <a:lnTo>
                  <a:pt x="1094" y="409"/>
                </a:lnTo>
                <a:lnTo>
                  <a:pt x="1077" y="412"/>
                </a:lnTo>
                <a:lnTo>
                  <a:pt x="1033" y="426"/>
                </a:lnTo>
                <a:lnTo>
                  <a:pt x="997" y="445"/>
                </a:lnTo>
                <a:lnTo>
                  <a:pt x="993" y="449"/>
                </a:lnTo>
                <a:lnTo>
                  <a:pt x="1000" y="452"/>
                </a:lnTo>
                <a:lnTo>
                  <a:pt x="1019" y="457"/>
                </a:lnTo>
                <a:lnTo>
                  <a:pt x="1066" y="461"/>
                </a:lnTo>
                <a:lnTo>
                  <a:pt x="1106" y="465"/>
                </a:lnTo>
                <a:lnTo>
                  <a:pt x="1111" y="467"/>
                </a:lnTo>
                <a:lnTo>
                  <a:pt x="1116" y="462"/>
                </a:lnTo>
                <a:lnTo>
                  <a:pt x="1124" y="452"/>
                </a:lnTo>
                <a:lnTo>
                  <a:pt x="1145" y="430"/>
                </a:lnTo>
                <a:lnTo>
                  <a:pt x="1156" y="422"/>
                </a:lnTo>
                <a:lnTo>
                  <a:pt x="1169" y="417"/>
                </a:lnTo>
                <a:lnTo>
                  <a:pt x="1177" y="416"/>
                </a:lnTo>
                <a:lnTo>
                  <a:pt x="1178" y="430"/>
                </a:lnTo>
                <a:lnTo>
                  <a:pt x="1187" y="461"/>
                </a:lnTo>
                <a:lnTo>
                  <a:pt x="1208" y="525"/>
                </a:lnTo>
                <a:lnTo>
                  <a:pt x="1227" y="587"/>
                </a:lnTo>
                <a:lnTo>
                  <a:pt x="1232" y="600"/>
                </a:lnTo>
                <a:lnTo>
                  <a:pt x="1226" y="617"/>
                </a:lnTo>
                <a:lnTo>
                  <a:pt x="1217" y="652"/>
                </a:lnTo>
                <a:lnTo>
                  <a:pt x="1217" y="720"/>
                </a:lnTo>
                <a:lnTo>
                  <a:pt x="1230" y="748"/>
                </a:lnTo>
                <a:lnTo>
                  <a:pt x="1252" y="768"/>
                </a:lnTo>
                <a:lnTo>
                  <a:pt x="1268" y="774"/>
                </a:lnTo>
                <a:lnTo>
                  <a:pt x="1268" y="787"/>
                </a:lnTo>
                <a:lnTo>
                  <a:pt x="1268" y="820"/>
                </a:lnTo>
                <a:lnTo>
                  <a:pt x="1266" y="897"/>
                </a:lnTo>
                <a:lnTo>
                  <a:pt x="1263" y="933"/>
                </a:lnTo>
                <a:lnTo>
                  <a:pt x="1255" y="959"/>
                </a:lnTo>
                <a:lnTo>
                  <a:pt x="1249" y="968"/>
                </a:lnTo>
                <a:lnTo>
                  <a:pt x="1250" y="984"/>
                </a:lnTo>
                <a:lnTo>
                  <a:pt x="1256" y="999"/>
                </a:lnTo>
                <a:lnTo>
                  <a:pt x="1263" y="1012"/>
                </a:lnTo>
                <a:lnTo>
                  <a:pt x="1287" y="1038"/>
                </a:lnTo>
                <a:lnTo>
                  <a:pt x="1313" y="1061"/>
                </a:lnTo>
                <a:lnTo>
                  <a:pt x="1337" y="1085"/>
                </a:lnTo>
                <a:lnTo>
                  <a:pt x="1355" y="1112"/>
                </a:lnTo>
                <a:lnTo>
                  <a:pt x="1359" y="1125"/>
                </a:lnTo>
                <a:lnTo>
                  <a:pt x="1365" y="1152"/>
                </a:lnTo>
                <a:lnTo>
                  <a:pt x="1390" y="1201"/>
                </a:lnTo>
                <a:lnTo>
                  <a:pt x="1423" y="1243"/>
                </a:lnTo>
                <a:lnTo>
                  <a:pt x="1488" y="1319"/>
                </a:lnTo>
                <a:lnTo>
                  <a:pt x="1514" y="1372"/>
                </a:lnTo>
                <a:lnTo>
                  <a:pt x="1513" y="1378"/>
                </a:lnTo>
                <a:lnTo>
                  <a:pt x="1511" y="1387"/>
                </a:lnTo>
                <a:lnTo>
                  <a:pt x="1505" y="1403"/>
                </a:lnTo>
                <a:lnTo>
                  <a:pt x="1497" y="1417"/>
                </a:lnTo>
                <a:lnTo>
                  <a:pt x="1495" y="1419"/>
                </a:lnTo>
                <a:lnTo>
                  <a:pt x="1469" y="1417"/>
                </a:lnTo>
                <a:lnTo>
                  <a:pt x="1449" y="1411"/>
                </a:lnTo>
                <a:lnTo>
                  <a:pt x="1433" y="1404"/>
                </a:lnTo>
                <a:lnTo>
                  <a:pt x="1411" y="1390"/>
                </a:lnTo>
                <a:lnTo>
                  <a:pt x="1403" y="1384"/>
                </a:lnTo>
                <a:lnTo>
                  <a:pt x="1397" y="1381"/>
                </a:lnTo>
                <a:lnTo>
                  <a:pt x="1394" y="1381"/>
                </a:lnTo>
                <a:lnTo>
                  <a:pt x="1391" y="1381"/>
                </a:lnTo>
                <a:lnTo>
                  <a:pt x="1388" y="1384"/>
                </a:lnTo>
                <a:lnTo>
                  <a:pt x="1385" y="1388"/>
                </a:lnTo>
                <a:lnTo>
                  <a:pt x="1381" y="1394"/>
                </a:lnTo>
                <a:lnTo>
                  <a:pt x="1374" y="1411"/>
                </a:lnTo>
                <a:lnTo>
                  <a:pt x="1363" y="1436"/>
                </a:lnTo>
                <a:lnTo>
                  <a:pt x="1359" y="1452"/>
                </a:lnTo>
                <a:lnTo>
                  <a:pt x="1329" y="1440"/>
                </a:lnTo>
                <a:lnTo>
                  <a:pt x="1277" y="1419"/>
                </a:lnTo>
                <a:lnTo>
                  <a:pt x="1181" y="1384"/>
                </a:lnTo>
                <a:lnTo>
                  <a:pt x="1085" y="1346"/>
                </a:lnTo>
                <a:lnTo>
                  <a:pt x="1059" y="1333"/>
                </a:lnTo>
                <a:lnTo>
                  <a:pt x="1046" y="1317"/>
                </a:lnTo>
                <a:lnTo>
                  <a:pt x="1030" y="1304"/>
                </a:lnTo>
                <a:lnTo>
                  <a:pt x="1011" y="1294"/>
                </a:lnTo>
                <a:lnTo>
                  <a:pt x="971" y="1278"/>
                </a:lnTo>
                <a:lnTo>
                  <a:pt x="890" y="1245"/>
                </a:lnTo>
                <a:lnTo>
                  <a:pt x="848" y="1194"/>
                </a:lnTo>
                <a:lnTo>
                  <a:pt x="845" y="1190"/>
                </a:lnTo>
                <a:lnTo>
                  <a:pt x="838" y="1177"/>
                </a:lnTo>
                <a:lnTo>
                  <a:pt x="819" y="1142"/>
                </a:lnTo>
                <a:lnTo>
                  <a:pt x="798" y="1112"/>
                </a:lnTo>
                <a:lnTo>
                  <a:pt x="794" y="1106"/>
                </a:lnTo>
                <a:lnTo>
                  <a:pt x="795" y="1101"/>
                </a:lnTo>
                <a:lnTo>
                  <a:pt x="801" y="1093"/>
                </a:lnTo>
                <a:lnTo>
                  <a:pt x="814" y="1074"/>
                </a:lnTo>
                <a:lnTo>
                  <a:pt x="826" y="1056"/>
                </a:lnTo>
                <a:lnTo>
                  <a:pt x="829" y="1051"/>
                </a:lnTo>
                <a:lnTo>
                  <a:pt x="822" y="1045"/>
                </a:lnTo>
                <a:lnTo>
                  <a:pt x="810" y="1030"/>
                </a:lnTo>
                <a:lnTo>
                  <a:pt x="784" y="1006"/>
                </a:lnTo>
                <a:lnTo>
                  <a:pt x="768" y="1000"/>
                </a:lnTo>
                <a:lnTo>
                  <a:pt x="751" y="1000"/>
                </a:lnTo>
                <a:lnTo>
                  <a:pt x="740" y="1003"/>
                </a:lnTo>
                <a:lnTo>
                  <a:pt x="719" y="1004"/>
                </a:lnTo>
                <a:lnTo>
                  <a:pt x="687" y="1007"/>
                </a:lnTo>
                <a:lnTo>
                  <a:pt x="668" y="1010"/>
                </a:lnTo>
                <a:lnTo>
                  <a:pt x="662" y="1010"/>
                </a:lnTo>
                <a:lnTo>
                  <a:pt x="659" y="1010"/>
                </a:lnTo>
                <a:lnTo>
                  <a:pt x="658" y="1009"/>
                </a:lnTo>
                <a:lnTo>
                  <a:pt x="656" y="1007"/>
                </a:lnTo>
                <a:lnTo>
                  <a:pt x="656" y="1006"/>
                </a:lnTo>
                <a:lnTo>
                  <a:pt x="656" y="1004"/>
                </a:lnTo>
                <a:lnTo>
                  <a:pt x="655" y="997"/>
                </a:lnTo>
                <a:lnTo>
                  <a:pt x="655" y="977"/>
                </a:lnTo>
                <a:lnTo>
                  <a:pt x="656" y="977"/>
                </a:lnTo>
                <a:lnTo>
                  <a:pt x="658" y="975"/>
                </a:lnTo>
                <a:lnTo>
                  <a:pt x="661" y="974"/>
                </a:lnTo>
                <a:lnTo>
                  <a:pt x="668" y="972"/>
                </a:lnTo>
                <a:lnTo>
                  <a:pt x="685" y="968"/>
                </a:lnTo>
                <a:lnTo>
                  <a:pt x="722" y="959"/>
                </a:lnTo>
                <a:lnTo>
                  <a:pt x="735" y="949"/>
                </a:lnTo>
                <a:lnTo>
                  <a:pt x="711" y="941"/>
                </a:lnTo>
                <a:lnTo>
                  <a:pt x="678" y="928"/>
                </a:lnTo>
                <a:lnTo>
                  <a:pt x="658" y="922"/>
                </a:lnTo>
                <a:lnTo>
                  <a:pt x="651" y="920"/>
                </a:lnTo>
                <a:lnTo>
                  <a:pt x="645" y="923"/>
                </a:lnTo>
                <a:lnTo>
                  <a:pt x="639" y="926"/>
                </a:lnTo>
                <a:lnTo>
                  <a:pt x="633" y="933"/>
                </a:lnTo>
                <a:lnTo>
                  <a:pt x="627" y="942"/>
                </a:lnTo>
                <a:lnTo>
                  <a:pt x="611" y="965"/>
                </a:lnTo>
                <a:lnTo>
                  <a:pt x="611" y="965"/>
                </a:lnTo>
                <a:lnTo>
                  <a:pt x="600" y="964"/>
                </a:lnTo>
                <a:lnTo>
                  <a:pt x="585" y="956"/>
                </a:lnTo>
                <a:lnTo>
                  <a:pt x="578" y="945"/>
                </a:lnTo>
                <a:lnTo>
                  <a:pt x="574" y="930"/>
                </a:lnTo>
                <a:lnTo>
                  <a:pt x="568" y="913"/>
                </a:lnTo>
                <a:lnTo>
                  <a:pt x="559" y="894"/>
                </a:lnTo>
                <a:lnTo>
                  <a:pt x="554" y="884"/>
                </a:lnTo>
                <a:lnTo>
                  <a:pt x="539" y="871"/>
                </a:lnTo>
                <a:lnTo>
                  <a:pt x="520" y="858"/>
                </a:lnTo>
                <a:lnTo>
                  <a:pt x="468" y="833"/>
                </a:lnTo>
                <a:lnTo>
                  <a:pt x="342" y="791"/>
                </a:lnTo>
                <a:lnTo>
                  <a:pt x="246" y="765"/>
                </a:lnTo>
                <a:lnTo>
                  <a:pt x="235" y="778"/>
                </a:lnTo>
                <a:lnTo>
                  <a:pt x="204" y="803"/>
                </a:lnTo>
                <a:lnTo>
                  <a:pt x="165" y="822"/>
                </a:lnTo>
                <a:lnTo>
                  <a:pt x="126" y="829"/>
                </a:lnTo>
                <a:lnTo>
                  <a:pt x="109" y="828"/>
                </a:lnTo>
                <a:lnTo>
                  <a:pt x="94" y="819"/>
                </a:lnTo>
                <a:lnTo>
                  <a:pt x="83" y="806"/>
                </a:lnTo>
                <a:lnTo>
                  <a:pt x="74" y="786"/>
                </a:lnTo>
                <a:lnTo>
                  <a:pt x="73" y="757"/>
                </a:lnTo>
                <a:lnTo>
                  <a:pt x="73" y="757"/>
                </a:lnTo>
                <a:lnTo>
                  <a:pt x="96" y="749"/>
                </a:lnTo>
                <a:lnTo>
                  <a:pt x="112" y="743"/>
                </a:lnTo>
                <a:lnTo>
                  <a:pt x="116" y="741"/>
                </a:lnTo>
                <a:lnTo>
                  <a:pt x="119" y="738"/>
                </a:lnTo>
                <a:lnTo>
                  <a:pt x="120" y="736"/>
                </a:lnTo>
                <a:lnTo>
                  <a:pt x="120" y="735"/>
                </a:lnTo>
                <a:lnTo>
                  <a:pt x="120" y="733"/>
                </a:lnTo>
                <a:lnTo>
                  <a:pt x="119" y="732"/>
                </a:lnTo>
                <a:lnTo>
                  <a:pt x="117" y="730"/>
                </a:lnTo>
                <a:lnTo>
                  <a:pt x="113" y="729"/>
                </a:lnTo>
                <a:lnTo>
                  <a:pt x="109" y="728"/>
                </a:lnTo>
                <a:lnTo>
                  <a:pt x="96" y="725"/>
                </a:lnTo>
                <a:lnTo>
                  <a:pt x="64" y="720"/>
                </a:lnTo>
                <a:lnTo>
                  <a:pt x="28" y="716"/>
                </a:lnTo>
                <a:lnTo>
                  <a:pt x="9" y="712"/>
                </a:lnTo>
                <a:lnTo>
                  <a:pt x="15" y="688"/>
                </a:lnTo>
                <a:lnTo>
                  <a:pt x="32" y="651"/>
                </a:lnTo>
                <a:lnTo>
                  <a:pt x="51" y="625"/>
                </a:lnTo>
                <a:lnTo>
                  <a:pt x="64" y="604"/>
                </a:lnTo>
                <a:lnTo>
                  <a:pt x="65" y="596"/>
                </a:lnTo>
                <a:lnTo>
                  <a:pt x="65" y="591"/>
                </a:lnTo>
                <a:lnTo>
                  <a:pt x="64" y="587"/>
                </a:lnTo>
                <a:lnTo>
                  <a:pt x="61" y="583"/>
                </a:lnTo>
                <a:lnTo>
                  <a:pt x="55" y="578"/>
                </a:lnTo>
                <a:lnTo>
                  <a:pt x="42" y="568"/>
                </a:lnTo>
                <a:lnTo>
                  <a:pt x="22" y="557"/>
                </a:lnTo>
                <a:lnTo>
                  <a:pt x="22" y="557"/>
                </a:lnTo>
                <a:lnTo>
                  <a:pt x="17" y="545"/>
                </a:lnTo>
                <a:lnTo>
                  <a:pt x="12" y="513"/>
                </a:lnTo>
                <a:lnTo>
                  <a:pt x="3" y="438"/>
                </a:lnTo>
                <a:lnTo>
                  <a:pt x="0" y="373"/>
                </a:lnTo>
                <a:lnTo>
                  <a:pt x="0" y="361"/>
                </a:lnTo>
                <a:lnTo>
                  <a:pt x="4" y="362"/>
                </a:lnTo>
                <a:lnTo>
                  <a:pt x="16" y="364"/>
                </a:lnTo>
                <a:lnTo>
                  <a:pt x="41" y="371"/>
                </a:lnTo>
                <a:lnTo>
                  <a:pt x="54" y="374"/>
                </a:lnTo>
                <a:lnTo>
                  <a:pt x="64" y="374"/>
                </a:lnTo>
                <a:lnTo>
                  <a:pt x="70" y="371"/>
                </a:lnTo>
                <a:lnTo>
                  <a:pt x="70" y="371"/>
                </a:lnTo>
                <a:close/>
                <a:moveTo>
                  <a:pt x="948" y="351"/>
                </a:moveTo>
                <a:lnTo>
                  <a:pt x="951" y="345"/>
                </a:lnTo>
                <a:lnTo>
                  <a:pt x="953" y="341"/>
                </a:lnTo>
                <a:lnTo>
                  <a:pt x="961" y="333"/>
                </a:lnTo>
                <a:lnTo>
                  <a:pt x="965" y="331"/>
                </a:lnTo>
                <a:lnTo>
                  <a:pt x="969" y="329"/>
                </a:lnTo>
                <a:lnTo>
                  <a:pt x="975" y="331"/>
                </a:lnTo>
                <a:lnTo>
                  <a:pt x="981" y="333"/>
                </a:lnTo>
                <a:lnTo>
                  <a:pt x="987" y="341"/>
                </a:lnTo>
                <a:lnTo>
                  <a:pt x="991" y="349"/>
                </a:lnTo>
                <a:lnTo>
                  <a:pt x="993" y="349"/>
                </a:lnTo>
                <a:lnTo>
                  <a:pt x="990" y="351"/>
                </a:lnTo>
                <a:lnTo>
                  <a:pt x="982" y="351"/>
                </a:lnTo>
                <a:lnTo>
                  <a:pt x="968" y="352"/>
                </a:lnTo>
                <a:lnTo>
                  <a:pt x="951" y="352"/>
                </a:lnTo>
                <a:lnTo>
                  <a:pt x="948" y="351"/>
                </a:lnTo>
                <a:lnTo>
                  <a:pt x="948" y="351"/>
                </a:lnTo>
                <a:close/>
                <a:moveTo>
                  <a:pt x="894" y="332"/>
                </a:moveTo>
                <a:lnTo>
                  <a:pt x="894" y="325"/>
                </a:lnTo>
                <a:lnTo>
                  <a:pt x="897" y="319"/>
                </a:lnTo>
                <a:lnTo>
                  <a:pt x="901" y="313"/>
                </a:lnTo>
                <a:lnTo>
                  <a:pt x="906" y="307"/>
                </a:lnTo>
                <a:lnTo>
                  <a:pt x="911" y="304"/>
                </a:lnTo>
                <a:lnTo>
                  <a:pt x="917" y="302"/>
                </a:lnTo>
                <a:lnTo>
                  <a:pt x="923" y="300"/>
                </a:lnTo>
                <a:lnTo>
                  <a:pt x="929" y="300"/>
                </a:lnTo>
                <a:lnTo>
                  <a:pt x="933" y="303"/>
                </a:lnTo>
                <a:lnTo>
                  <a:pt x="937" y="306"/>
                </a:lnTo>
                <a:lnTo>
                  <a:pt x="939" y="312"/>
                </a:lnTo>
                <a:lnTo>
                  <a:pt x="940" y="319"/>
                </a:lnTo>
                <a:lnTo>
                  <a:pt x="940" y="319"/>
                </a:lnTo>
                <a:lnTo>
                  <a:pt x="935" y="322"/>
                </a:lnTo>
                <a:lnTo>
                  <a:pt x="927" y="326"/>
                </a:lnTo>
                <a:lnTo>
                  <a:pt x="913" y="333"/>
                </a:lnTo>
                <a:lnTo>
                  <a:pt x="906" y="335"/>
                </a:lnTo>
                <a:lnTo>
                  <a:pt x="898" y="335"/>
                </a:lnTo>
                <a:lnTo>
                  <a:pt x="894" y="332"/>
                </a:lnTo>
                <a:lnTo>
                  <a:pt x="894" y="332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89840" y="2031840"/>
            <a:ext cx="33120" cy="17640"/>
          </a:xfrm>
          <a:custGeom>
            <a:avLst/>
            <a:gdLst/>
            <a:ahLst/>
            <a:rect l="l" t="t" r="r" b="b"/>
            <a:pathLst>
              <a:path w="97" h="47">
                <a:moveTo>
                  <a:pt x="72" y="47"/>
                </a:moveTo>
                <a:lnTo>
                  <a:pt x="65" y="47"/>
                </a:lnTo>
                <a:lnTo>
                  <a:pt x="51" y="44"/>
                </a:lnTo>
                <a:lnTo>
                  <a:pt x="35" y="38"/>
                </a:lnTo>
                <a:lnTo>
                  <a:pt x="10" y="20"/>
                </a:lnTo>
                <a:lnTo>
                  <a:pt x="0" y="0"/>
                </a:lnTo>
                <a:lnTo>
                  <a:pt x="7" y="2"/>
                </a:lnTo>
                <a:lnTo>
                  <a:pt x="25" y="2"/>
                </a:lnTo>
                <a:lnTo>
                  <a:pt x="56" y="2"/>
                </a:lnTo>
                <a:lnTo>
                  <a:pt x="88" y="3"/>
                </a:lnTo>
                <a:lnTo>
                  <a:pt x="97" y="3"/>
                </a:lnTo>
                <a:lnTo>
                  <a:pt x="96" y="7"/>
                </a:lnTo>
                <a:lnTo>
                  <a:pt x="94" y="16"/>
                </a:lnTo>
                <a:lnTo>
                  <a:pt x="90" y="25"/>
                </a:lnTo>
                <a:lnTo>
                  <a:pt x="80" y="39"/>
                </a:lnTo>
                <a:lnTo>
                  <a:pt x="72" y="47"/>
                </a:lnTo>
                <a:lnTo>
                  <a:pt x="72" y="47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4760" y="1698480"/>
            <a:ext cx="520920" cy="474840"/>
          </a:xfrm>
          <a:custGeom>
            <a:avLst/>
            <a:gdLst/>
            <a:ahLst/>
            <a:rect l="l" t="t" r="r" b="b"/>
            <a:pathLst>
              <a:path w="1514" h="1452">
                <a:moveTo>
                  <a:pt x="70" y="371"/>
                </a:moveTo>
                <a:lnTo>
                  <a:pt x="62" y="349"/>
                </a:lnTo>
                <a:lnTo>
                  <a:pt x="51" y="315"/>
                </a:lnTo>
                <a:lnTo>
                  <a:pt x="35" y="265"/>
                </a:lnTo>
                <a:lnTo>
                  <a:pt x="39" y="215"/>
                </a:lnTo>
                <a:lnTo>
                  <a:pt x="45" y="196"/>
                </a:lnTo>
                <a:lnTo>
                  <a:pt x="45" y="189"/>
                </a:lnTo>
                <a:lnTo>
                  <a:pt x="45" y="173"/>
                </a:lnTo>
                <a:lnTo>
                  <a:pt x="49" y="135"/>
                </a:lnTo>
                <a:lnTo>
                  <a:pt x="52" y="102"/>
                </a:lnTo>
                <a:lnTo>
                  <a:pt x="54" y="94"/>
                </a:lnTo>
                <a:lnTo>
                  <a:pt x="65" y="93"/>
                </a:lnTo>
                <a:lnTo>
                  <a:pt x="77" y="96"/>
                </a:lnTo>
                <a:lnTo>
                  <a:pt x="84" y="103"/>
                </a:lnTo>
                <a:lnTo>
                  <a:pt x="90" y="112"/>
                </a:lnTo>
                <a:lnTo>
                  <a:pt x="94" y="123"/>
                </a:lnTo>
                <a:lnTo>
                  <a:pt x="97" y="136"/>
                </a:lnTo>
                <a:lnTo>
                  <a:pt x="100" y="162"/>
                </a:lnTo>
                <a:lnTo>
                  <a:pt x="102" y="184"/>
                </a:lnTo>
                <a:lnTo>
                  <a:pt x="103" y="193"/>
                </a:lnTo>
                <a:lnTo>
                  <a:pt x="104" y="196"/>
                </a:lnTo>
                <a:lnTo>
                  <a:pt x="106" y="196"/>
                </a:lnTo>
                <a:lnTo>
                  <a:pt x="109" y="190"/>
                </a:lnTo>
                <a:lnTo>
                  <a:pt x="112" y="181"/>
                </a:lnTo>
                <a:lnTo>
                  <a:pt x="113" y="170"/>
                </a:lnTo>
                <a:lnTo>
                  <a:pt x="116" y="142"/>
                </a:lnTo>
                <a:lnTo>
                  <a:pt x="122" y="115"/>
                </a:lnTo>
                <a:lnTo>
                  <a:pt x="133" y="91"/>
                </a:lnTo>
                <a:lnTo>
                  <a:pt x="144" y="83"/>
                </a:lnTo>
                <a:lnTo>
                  <a:pt x="155" y="78"/>
                </a:lnTo>
                <a:lnTo>
                  <a:pt x="171" y="77"/>
                </a:lnTo>
                <a:lnTo>
                  <a:pt x="172" y="77"/>
                </a:lnTo>
                <a:lnTo>
                  <a:pt x="172" y="80"/>
                </a:lnTo>
                <a:lnTo>
                  <a:pt x="174" y="94"/>
                </a:lnTo>
                <a:lnTo>
                  <a:pt x="181" y="146"/>
                </a:lnTo>
                <a:lnTo>
                  <a:pt x="187" y="186"/>
                </a:lnTo>
                <a:lnTo>
                  <a:pt x="188" y="187"/>
                </a:lnTo>
                <a:lnTo>
                  <a:pt x="190" y="177"/>
                </a:lnTo>
                <a:lnTo>
                  <a:pt x="191" y="167"/>
                </a:lnTo>
                <a:lnTo>
                  <a:pt x="194" y="141"/>
                </a:lnTo>
                <a:lnTo>
                  <a:pt x="199" y="116"/>
                </a:lnTo>
                <a:lnTo>
                  <a:pt x="203" y="107"/>
                </a:lnTo>
                <a:lnTo>
                  <a:pt x="207" y="102"/>
                </a:lnTo>
                <a:lnTo>
                  <a:pt x="212" y="100"/>
                </a:lnTo>
                <a:lnTo>
                  <a:pt x="217" y="103"/>
                </a:lnTo>
                <a:lnTo>
                  <a:pt x="219" y="103"/>
                </a:lnTo>
                <a:lnTo>
                  <a:pt x="222" y="106"/>
                </a:lnTo>
                <a:lnTo>
                  <a:pt x="225" y="110"/>
                </a:lnTo>
                <a:lnTo>
                  <a:pt x="226" y="116"/>
                </a:lnTo>
                <a:lnTo>
                  <a:pt x="230" y="129"/>
                </a:lnTo>
                <a:lnTo>
                  <a:pt x="238" y="152"/>
                </a:lnTo>
                <a:lnTo>
                  <a:pt x="243" y="155"/>
                </a:lnTo>
                <a:lnTo>
                  <a:pt x="245" y="154"/>
                </a:lnTo>
                <a:lnTo>
                  <a:pt x="246" y="151"/>
                </a:lnTo>
                <a:lnTo>
                  <a:pt x="246" y="145"/>
                </a:lnTo>
                <a:lnTo>
                  <a:pt x="246" y="132"/>
                </a:lnTo>
                <a:lnTo>
                  <a:pt x="246" y="106"/>
                </a:lnTo>
                <a:lnTo>
                  <a:pt x="251" y="99"/>
                </a:lnTo>
                <a:lnTo>
                  <a:pt x="257" y="99"/>
                </a:lnTo>
                <a:lnTo>
                  <a:pt x="265" y="100"/>
                </a:lnTo>
                <a:lnTo>
                  <a:pt x="272" y="103"/>
                </a:lnTo>
                <a:lnTo>
                  <a:pt x="278" y="107"/>
                </a:lnTo>
                <a:lnTo>
                  <a:pt x="281" y="110"/>
                </a:lnTo>
                <a:lnTo>
                  <a:pt x="286" y="112"/>
                </a:lnTo>
                <a:lnTo>
                  <a:pt x="288" y="112"/>
                </a:lnTo>
                <a:lnTo>
                  <a:pt x="286" y="107"/>
                </a:lnTo>
                <a:lnTo>
                  <a:pt x="278" y="94"/>
                </a:lnTo>
                <a:lnTo>
                  <a:pt x="259" y="67"/>
                </a:lnTo>
                <a:lnTo>
                  <a:pt x="228" y="44"/>
                </a:lnTo>
                <a:lnTo>
                  <a:pt x="219" y="41"/>
                </a:lnTo>
                <a:lnTo>
                  <a:pt x="219" y="39"/>
                </a:lnTo>
                <a:lnTo>
                  <a:pt x="222" y="35"/>
                </a:lnTo>
                <a:lnTo>
                  <a:pt x="225" y="32"/>
                </a:lnTo>
                <a:lnTo>
                  <a:pt x="235" y="25"/>
                </a:lnTo>
                <a:lnTo>
                  <a:pt x="257" y="9"/>
                </a:lnTo>
                <a:lnTo>
                  <a:pt x="264" y="0"/>
                </a:lnTo>
                <a:lnTo>
                  <a:pt x="287" y="19"/>
                </a:lnTo>
                <a:lnTo>
                  <a:pt x="335" y="57"/>
                </a:lnTo>
                <a:lnTo>
                  <a:pt x="436" y="120"/>
                </a:lnTo>
                <a:lnTo>
                  <a:pt x="548" y="161"/>
                </a:lnTo>
                <a:lnTo>
                  <a:pt x="580" y="165"/>
                </a:lnTo>
                <a:lnTo>
                  <a:pt x="593" y="155"/>
                </a:lnTo>
                <a:lnTo>
                  <a:pt x="610" y="144"/>
                </a:lnTo>
                <a:lnTo>
                  <a:pt x="616" y="142"/>
                </a:lnTo>
                <a:lnTo>
                  <a:pt x="617" y="142"/>
                </a:lnTo>
                <a:lnTo>
                  <a:pt x="620" y="144"/>
                </a:lnTo>
                <a:lnTo>
                  <a:pt x="622" y="145"/>
                </a:lnTo>
                <a:lnTo>
                  <a:pt x="623" y="146"/>
                </a:lnTo>
                <a:lnTo>
                  <a:pt x="625" y="151"/>
                </a:lnTo>
                <a:lnTo>
                  <a:pt x="626" y="158"/>
                </a:lnTo>
                <a:lnTo>
                  <a:pt x="632" y="178"/>
                </a:lnTo>
                <a:lnTo>
                  <a:pt x="643" y="207"/>
                </a:lnTo>
                <a:lnTo>
                  <a:pt x="648" y="215"/>
                </a:lnTo>
                <a:lnTo>
                  <a:pt x="661" y="215"/>
                </a:lnTo>
                <a:lnTo>
                  <a:pt x="684" y="207"/>
                </a:lnTo>
                <a:lnTo>
                  <a:pt x="704" y="200"/>
                </a:lnTo>
                <a:lnTo>
                  <a:pt x="722" y="196"/>
                </a:lnTo>
                <a:lnTo>
                  <a:pt x="730" y="196"/>
                </a:lnTo>
                <a:lnTo>
                  <a:pt x="739" y="200"/>
                </a:lnTo>
                <a:lnTo>
                  <a:pt x="746" y="206"/>
                </a:lnTo>
                <a:lnTo>
                  <a:pt x="755" y="217"/>
                </a:lnTo>
                <a:lnTo>
                  <a:pt x="764" y="232"/>
                </a:lnTo>
                <a:lnTo>
                  <a:pt x="765" y="232"/>
                </a:lnTo>
                <a:lnTo>
                  <a:pt x="795" y="232"/>
                </a:lnTo>
                <a:lnTo>
                  <a:pt x="845" y="233"/>
                </a:lnTo>
                <a:lnTo>
                  <a:pt x="877" y="244"/>
                </a:lnTo>
                <a:lnTo>
                  <a:pt x="885" y="252"/>
                </a:lnTo>
                <a:lnTo>
                  <a:pt x="891" y="262"/>
                </a:lnTo>
                <a:lnTo>
                  <a:pt x="891" y="274"/>
                </a:lnTo>
                <a:lnTo>
                  <a:pt x="887" y="287"/>
                </a:lnTo>
                <a:lnTo>
                  <a:pt x="878" y="304"/>
                </a:lnTo>
                <a:lnTo>
                  <a:pt x="865" y="322"/>
                </a:lnTo>
                <a:lnTo>
                  <a:pt x="848" y="342"/>
                </a:lnTo>
                <a:lnTo>
                  <a:pt x="848" y="342"/>
                </a:lnTo>
                <a:lnTo>
                  <a:pt x="855" y="352"/>
                </a:lnTo>
                <a:lnTo>
                  <a:pt x="877" y="380"/>
                </a:lnTo>
                <a:lnTo>
                  <a:pt x="894" y="402"/>
                </a:lnTo>
                <a:lnTo>
                  <a:pt x="895" y="402"/>
                </a:lnTo>
                <a:lnTo>
                  <a:pt x="903" y="402"/>
                </a:lnTo>
                <a:lnTo>
                  <a:pt x="924" y="397"/>
                </a:lnTo>
                <a:lnTo>
                  <a:pt x="975" y="380"/>
                </a:lnTo>
                <a:lnTo>
                  <a:pt x="995" y="368"/>
                </a:lnTo>
                <a:lnTo>
                  <a:pt x="1003" y="362"/>
                </a:lnTo>
                <a:lnTo>
                  <a:pt x="1006" y="355"/>
                </a:lnTo>
                <a:lnTo>
                  <a:pt x="1007" y="352"/>
                </a:lnTo>
                <a:lnTo>
                  <a:pt x="1007" y="348"/>
                </a:lnTo>
                <a:lnTo>
                  <a:pt x="1007" y="348"/>
                </a:lnTo>
                <a:lnTo>
                  <a:pt x="1017" y="351"/>
                </a:lnTo>
                <a:lnTo>
                  <a:pt x="1042" y="352"/>
                </a:lnTo>
                <a:lnTo>
                  <a:pt x="1090" y="355"/>
                </a:lnTo>
                <a:lnTo>
                  <a:pt x="1108" y="361"/>
                </a:lnTo>
                <a:lnTo>
                  <a:pt x="1114" y="365"/>
                </a:lnTo>
                <a:lnTo>
                  <a:pt x="1119" y="373"/>
                </a:lnTo>
                <a:lnTo>
                  <a:pt x="1120" y="380"/>
                </a:lnTo>
                <a:lnTo>
                  <a:pt x="1121" y="380"/>
                </a:lnTo>
                <a:lnTo>
                  <a:pt x="1120" y="381"/>
                </a:lnTo>
                <a:lnTo>
                  <a:pt x="1117" y="383"/>
                </a:lnTo>
                <a:lnTo>
                  <a:pt x="1108" y="393"/>
                </a:lnTo>
                <a:lnTo>
                  <a:pt x="1103" y="406"/>
                </a:lnTo>
                <a:lnTo>
                  <a:pt x="1103" y="407"/>
                </a:lnTo>
                <a:lnTo>
                  <a:pt x="1094" y="409"/>
                </a:lnTo>
                <a:lnTo>
                  <a:pt x="1077" y="412"/>
                </a:lnTo>
                <a:lnTo>
                  <a:pt x="1033" y="426"/>
                </a:lnTo>
                <a:lnTo>
                  <a:pt x="997" y="445"/>
                </a:lnTo>
                <a:lnTo>
                  <a:pt x="993" y="449"/>
                </a:lnTo>
                <a:lnTo>
                  <a:pt x="1000" y="452"/>
                </a:lnTo>
                <a:lnTo>
                  <a:pt x="1019" y="457"/>
                </a:lnTo>
                <a:lnTo>
                  <a:pt x="1066" y="461"/>
                </a:lnTo>
                <a:lnTo>
                  <a:pt x="1106" y="465"/>
                </a:lnTo>
                <a:lnTo>
                  <a:pt x="1111" y="467"/>
                </a:lnTo>
                <a:lnTo>
                  <a:pt x="1116" y="462"/>
                </a:lnTo>
                <a:lnTo>
                  <a:pt x="1124" y="452"/>
                </a:lnTo>
                <a:lnTo>
                  <a:pt x="1145" y="430"/>
                </a:lnTo>
                <a:lnTo>
                  <a:pt x="1156" y="422"/>
                </a:lnTo>
                <a:lnTo>
                  <a:pt x="1169" y="417"/>
                </a:lnTo>
                <a:lnTo>
                  <a:pt x="1177" y="416"/>
                </a:lnTo>
                <a:lnTo>
                  <a:pt x="1178" y="430"/>
                </a:lnTo>
                <a:lnTo>
                  <a:pt x="1187" y="461"/>
                </a:lnTo>
                <a:lnTo>
                  <a:pt x="1208" y="525"/>
                </a:lnTo>
                <a:lnTo>
                  <a:pt x="1227" y="587"/>
                </a:lnTo>
                <a:lnTo>
                  <a:pt x="1232" y="600"/>
                </a:lnTo>
                <a:lnTo>
                  <a:pt x="1226" y="617"/>
                </a:lnTo>
                <a:lnTo>
                  <a:pt x="1217" y="652"/>
                </a:lnTo>
                <a:lnTo>
                  <a:pt x="1217" y="720"/>
                </a:lnTo>
                <a:lnTo>
                  <a:pt x="1230" y="748"/>
                </a:lnTo>
                <a:lnTo>
                  <a:pt x="1252" y="768"/>
                </a:lnTo>
                <a:lnTo>
                  <a:pt x="1268" y="774"/>
                </a:lnTo>
                <a:lnTo>
                  <a:pt x="1268" y="787"/>
                </a:lnTo>
                <a:lnTo>
                  <a:pt x="1268" y="820"/>
                </a:lnTo>
                <a:lnTo>
                  <a:pt x="1266" y="897"/>
                </a:lnTo>
                <a:lnTo>
                  <a:pt x="1263" y="933"/>
                </a:lnTo>
                <a:lnTo>
                  <a:pt x="1255" y="959"/>
                </a:lnTo>
                <a:lnTo>
                  <a:pt x="1249" y="968"/>
                </a:lnTo>
                <a:lnTo>
                  <a:pt x="1250" y="984"/>
                </a:lnTo>
                <a:lnTo>
                  <a:pt x="1256" y="999"/>
                </a:lnTo>
                <a:lnTo>
                  <a:pt x="1263" y="1012"/>
                </a:lnTo>
                <a:lnTo>
                  <a:pt x="1287" y="1038"/>
                </a:lnTo>
                <a:lnTo>
                  <a:pt x="1313" y="1061"/>
                </a:lnTo>
                <a:lnTo>
                  <a:pt x="1337" y="1085"/>
                </a:lnTo>
                <a:lnTo>
                  <a:pt x="1355" y="1112"/>
                </a:lnTo>
                <a:lnTo>
                  <a:pt x="1359" y="1125"/>
                </a:lnTo>
                <a:lnTo>
                  <a:pt x="1365" y="1152"/>
                </a:lnTo>
                <a:lnTo>
                  <a:pt x="1390" y="1201"/>
                </a:lnTo>
                <a:lnTo>
                  <a:pt x="1423" y="1243"/>
                </a:lnTo>
                <a:lnTo>
                  <a:pt x="1488" y="1319"/>
                </a:lnTo>
                <a:lnTo>
                  <a:pt x="1514" y="1372"/>
                </a:lnTo>
                <a:lnTo>
                  <a:pt x="1513" y="1378"/>
                </a:lnTo>
                <a:lnTo>
                  <a:pt x="1511" y="1387"/>
                </a:lnTo>
                <a:lnTo>
                  <a:pt x="1505" y="1403"/>
                </a:lnTo>
                <a:lnTo>
                  <a:pt x="1497" y="1417"/>
                </a:lnTo>
                <a:lnTo>
                  <a:pt x="1495" y="1419"/>
                </a:lnTo>
                <a:lnTo>
                  <a:pt x="1469" y="1417"/>
                </a:lnTo>
                <a:lnTo>
                  <a:pt x="1449" y="1411"/>
                </a:lnTo>
                <a:lnTo>
                  <a:pt x="1433" y="1404"/>
                </a:lnTo>
                <a:lnTo>
                  <a:pt x="1411" y="1390"/>
                </a:lnTo>
                <a:lnTo>
                  <a:pt x="1403" y="1384"/>
                </a:lnTo>
                <a:lnTo>
                  <a:pt x="1397" y="1381"/>
                </a:lnTo>
                <a:lnTo>
                  <a:pt x="1394" y="1381"/>
                </a:lnTo>
                <a:lnTo>
                  <a:pt x="1391" y="1381"/>
                </a:lnTo>
                <a:lnTo>
                  <a:pt x="1388" y="1384"/>
                </a:lnTo>
                <a:lnTo>
                  <a:pt x="1385" y="1388"/>
                </a:lnTo>
                <a:lnTo>
                  <a:pt x="1381" y="1394"/>
                </a:lnTo>
                <a:lnTo>
                  <a:pt x="1374" y="1411"/>
                </a:lnTo>
                <a:lnTo>
                  <a:pt x="1363" y="1436"/>
                </a:lnTo>
                <a:lnTo>
                  <a:pt x="1359" y="1452"/>
                </a:lnTo>
                <a:lnTo>
                  <a:pt x="1329" y="1440"/>
                </a:lnTo>
                <a:lnTo>
                  <a:pt x="1277" y="1419"/>
                </a:lnTo>
                <a:lnTo>
                  <a:pt x="1181" y="1384"/>
                </a:lnTo>
                <a:lnTo>
                  <a:pt x="1085" y="1346"/>
                </a:lnTo>
                <a:lnTo>
                  <a:pt x="1059" y="1333"/>
                </a:lnTo>
                <a:lnTo>
                  <a:pt x="1046" y="1317"/>
                </a:lnTo>
                <a:lnTo>
                  <a:pt x="1030" y="1304"/>
                </a:lnTo>
                <a:lnTo>
                  <a:pt x="1011" y="1294"/>
                </a:lnTo>
                <a:lnTo>
                  <a:pt x="971" y="1278"/>
                </a:lnTo>
                <a:lnTo>
                  <a:pt x="890" y="1245"/>
                </a:lnTo>
                <a:lnTo>
                  <a:pt x="848" y="1194"/>
                </a:lnTo>
                <a:lnTo>
                  <a:pt x="845" y="1190"/>
                </a:lnTo>
                <a:lnTo>
                  <a:pt x="838" y="1177"/>
                </a:lnTo>
                <a:lnTo>
                  <a:pt x="819" y="1142"/>
                </a:lnTo>
                <a:lnTo>
                  <a:pt x="798" y="1112"/>
                </a:lnTo>
                <a:lnTo>
                  <a:pt x="794" y="1106"/>
                </a:lnTo>
                <a:lnTo>
                  <a:pt x="795" y="1101"/>
                </a:lnTo>
                <a:lnTo>
                  <a:pt x="801" y="1093"/>
                </a:lnTo>
                <a:lnTo>
                  <a:pt x="814" y="1074"/>
                </a:lnTo>
                <a:lnTo>
                  <a:pt x="826" y="1056"/>
                </a:lnTo>
                <a:lnTo>
                  <a:pt x="829" y="1051"/>
                </a:lnTo>
                <a:lnTo>
                  <a:pt x="822" y="1045"/>
                </a:lnTo>
                <a:lnTo>
                  <a:pt x="810" y="1030"/>
                </a:lnTo>
                <a:lnTo>
                  <a:pt x="784" y="1006"/>
                </a:lnTo>
                <a:lnTo>
                  <a:pt x="768" y="1000"/>
                </a:lnTo>
                <a:lnTo>
                  <a:pt x="751" y="1000"/>
                </a:lnTo>
                <a:lnTo>
                  <a:pt x="740" y="1003"/>
                </a:lnTo>
                <a:lnTo>
                  <a:pt x="719" y="1004"/>
                </a:lnTo>
                <a:lnTo>
                  <a:pt x="687" y="1007"/>
                </a:lnTo>
                <a:lnTo>
                  <a:pt x="668" y="1010"/>
                </a:lnTo>
                <a:lnTo>
                  <a:pt x="662" y="1010"/>
                </a:lnTo>
                <a:lnTo>
                  <a:pt x="659" y="1010"/>
                </a:lnTo>
                <a:lnTo>
                  <a:pt x="658" y="1009"/>
                </a:lnTo>
                <a:lnTo>
                  <a:pt x="656" y="1007"/>
                </a:lnTo>
                <a:lnTo>
                  <a:pt x="656" y="1006"/>
                </a:lnTo>
                <a:lnTo>
                  <a:pt x="656" y="1004"/>
                </a:lnTo>
                <a:lnTo>
                  <a:pt x="655" y="997"/>
                </a:lnTo>
                <a:lnTo>
                  <a:pt x="655" y="977"/>
                </a:lnTo>
                <a:lnTo>
                  <a:pt x="656" y="977"/>
                </a:lnTo>
                <a:lnTo>
                  <a:pt x="658" y="975"/>
                </a:lnTo>
                <a:lnTo>
                  <a:pt x="661" y="974"/>
                </a:lnTo>
                <a:lnTo>
                  <a:pt x="668" y="972"/>
                </a:lnTo>
                <a:lnTo>
                  <a:pt x="685" y="968"/>
                </a:lnTo>
                <a:lnTo>
                  <a:pt x="722" y="959"/>
                </a:lnTo>
                <a:lnTo>
                  <a:pt x="735" y="949"/>
                </a:lnTo>
                <a:lnTo>
                  <a:pt x="711" y="941"/>
                </a:lnTo>
                <a:lnTo>
                  <a:pt x="678" y="928"/>
                </a:lnTo>
                <a:lnTo>
                  <a:pt x="658" y="922"/>
                </a:lnTo>
                <a:lnTo>
                  <a:pt x="651" y="920"/>
                </a:lnTo>
                <a:lnTo>
                  <a:pt x="645" y="923"/>
                </a:lnTo>
                <a:lnTo>
                  <a:pt x="639" y="926"/>
                </a:lnTo>
                <a:lnTo>
                  <a:pt x="633" y="933"/>
                </a:lnTo>
                <a:lnTo>
                  <a:pt x="627" y="942"/>
                </a:lnTo>
                <a:lnTo>
                  <a:pt x="611" y="965"/>
                </a:lnTo>
                <a:lnTo>
                  <a:pt x="611" y="965"/>
                </a:lnTo>
                <a:lnTo>
                  <a:pt x="600" y="964"/>
                </a:lnTo>
                <a:lnTo>
                  <a:pt x="585" y="956"/>
                </a:lnTo>
                <a:lnTo>
                  <a:pt x="578" y="945"/>
                </a:lnTo>
                <a:lnTo>
                  <a:pt x="574" y="930"/>
                </a:lnTo>
                <a:lnTo>
                  <a:pt x="568" y="913"/>
                </a:lnTo>
                <a:lnTo>
                  <a:pt x="559" y="894"/>
                </a:lnTo>
                <a:lnTo>
                  <a:pt x="554" y="884"/>
                </a:lnTo>
                <a:lnTo>
                  <a:pt x="539" y="871"/>
                </a:lnTo>
                <a:lnTo>
                  <a:pt x="520" y="858"/>
                </a:lnTo>
                <a:lnTo>
                  <a:pt x="468" y="833"/>
                </a:lnTo>
                <a:lnTo>
                  <a:pt x="342" y="791"/>
                </a:lnTo>
                <a:lnTo>
                  <a:pt x="246" y="765"/>
                </a:lnTo>
                <a:lnTo>
                  <a:pt x="235" y="778"/>
                </a:lnTo>
                <a:lnTo>
                  <a:pt x="204" y="803"/>
                </a:lnTo>
                <a:lnTo>
                  <a:pt x="165" y="822"/>
                </a:lnTo>
                <a:lnTo>
                  <a:pt x="126" y="829"/>
                </a:lnTo>
                <a:lnTo>
                  <a:pt x="109" y="828"/>
                </a:lnTo>
                <a:lnTo>
                  <a:pt x="94" y="819"/>
                </a:lnTo>
                <a:lnTo>
                  <a:pt x="83" y="806"/>
                </a:lnTo>
                <a:lnTo>
                  <a:pt x="74" y="786"/>
                </a:lnTo>
                <a:lnTo>
                  <a:pt x="73" y="757"/>
                </a:lnTo>
                <a:lnTo>
                  <a:pt x="73" y="757"/>
                </a:lnTo>
                <a:lnTo>
                  <a:pt x="96" y="749"/>
                </a:lnTo>
                <a:lnTo>
                  <a:pt x="112" y="743"/>
                </a:lnTo>
                <a:lnTo>
                  <a:pt x="116" y="741"/>
                </a:lnTo>
                <a:lnTo>
                  <a:pt x="119" y="738"/>
                </a:lnTo>
                <a:lnTo>
                  <a:pt x="120" y="736"/>
                </a:lnTo>
                <a:lnTo>
                  <a:pt x="120" y="735"/>
                </a:lnTo>
                <a:lnTo>
                  <a:pt x="120" y="733"/>
                </a:lnTo>
                <a:lnTo>
                  <a:pt x="119" y="732"/>
                </a:lnTo>
                <a:lnTo>
                  <a:pt x="117" y="730"/>
                </a:lnTo>
                <a:lnTo>
                  <a:pt x="113" y="729"/>
                </a:lnTo>
                <a:lnTo>
                  <a:pt x="109" y="728"/>
                </a:lnTo>
                <a:lnTo>
                  <a:pt x="96" y="725"/>
                </a:lnTo>
                <a:lnTo>
                  <a:pt x="64" y="720"/>
                </a:lnTo>
                <a:lnTo>
                  <a:pt x="28" y="716"/>
                </a:lnTo>
                <a:lnTo>
                  <a:pt x="9" y="712"/>
                </a:lnTo>
                <a:lnTo>
                  <a:pt x="15" y="688"/>
                </a:lnTo>
                <a:lnTo>
                  <a:pt x="32" y="651"/>
                </a:lnTo>
                <a:lnTo>
                  <a:pt x="51" y="625"/>
                </a:lnTo>
                <a:lnTo>
                  <a:pt x="64" y="604"/>
                </a:lnTo>
                <a:lnTo>
                  <a:pt x="65" y="596"/>
                </a:lnTo>
                <a:lnTo>
                  <a:pt x="65" y="591"/>
                </a:lnTo>
                <a:lnTo>
                  <a:pt x="64" y="587"/>
                </a:lnTo>
                <a:lnTo>
                  <a:pt x="61" y="583"/>
                </a:lnTo>
                <a:lnTo>
                  <a:pt x="55" y="578"/>
                </a:lnTo>
                <a:lnTo>
                  <a:pt x="42" y="568"/>
                </a:lnTo>
                <a:lnTo>
                  <a:pt x="22" y="557"/>
                </a:lnTo>
                <a:lnTo>
                  <a:pt x="22" y="557"/>
                </a:lnTo>
                <a:lnTo>
                  <a:pt x="17" y="545"/>
                </a:lnTo>
                <a:lnTo>
                  <a:pt x="12" y="513"/>
                </a:lnTo>
                <a:lnTo>
                  <a:pt x="3" y="438"/>
                </a:lnTo>
                <a:lnTo>
                  <a:pt x="0" y="373"/>
                </a:lnTo>
                <a:lnTo>
                  <a:pt x="0" y="361"/>
                </a:lnTo>
                <a:lnTo>
                  <a:pt x="4" y="362"/>
                </a:lnTo>
                <a:lnTo>
                  <a:pt x="16" y="364"/>
                </a:lnTo>
                <a:lnTo>
                  <a:pt x="41" y="371"/>
                </a:lnTo>
                <a:lnTo>
                  <a:pt x="54" y="374"/>
                </a:lnTo>
                <a:lnTo>
                  <a:pt x="64" y="374"/>
                </a:lnTo>
                <a:lnTo>
                  <a:pt x="70" y="371"/>
                </a:lnTo>
                <a:lnTo>
                  <a:pt x="70" y="37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487800">
            <a:off x="7181640" y="1807920"/>
            <a:ext cx="14040" cy="468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22"/>
                </a:moveTo>
                <a:lnTo>
                  <a:pt x="3" y="16"/>
                </a:lnTo>
                <a:lnTo>
                  <a:pt x="5" y="12"/>
                </a:lnTo>
                <a:lnTo>
                  <a:pt x="13" y="4"/>
                </a:lnTo>
                <a:lnTo>
                  <a:pt x="17" y="2"/>
                </a:lnTo>
                <a:lnTo>
                  <a:pt x="21" y="0"/>
                </a:lnTo>
                <a:lnTo>
                  <a:pt x="27" y="2"/>
                </a:lnTo>
                <a:lnTo>
                  <a:pt x="33" y="4"/>
                </a:lnTo>
                <a:lnTo>
                  <a:pt x="39" y="12"/>
                </a:lnTo>
                <a:lnTo>
                  <a:pt x="43" y="20"/>
                </a:lnTo>
                <a:lnTo>
                  <a:pt x="45" y="20"/>
                </a:lnTo>
                <a:lnTo>
                  <a:pt x="42" y="22"/>
                </a:lnTo>
                <a:lnTo>
                  <a:pt x="34" y="22"/>
                </a:lnTo>
                <a:lnTo>
                  <a:pt x="20" y="23"/>
                </a:lnTo>
                <a:lnTo>
                  <a:pt x="3" y="23"/>
                </a:lnTo>
                <a:lnTo>
                  <a:pt x="0" y="22"/>
                </a:lnTo>
                <a:lnTo>
                  <a:pt x="0" y="2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62920" y="1795320"/>
            <a:ext cx="14040" cy="1296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2"/>
                </a:moveTo>
                <a:lnTo>
                  <a:pt x="0" y="25"/>
                </a:lnTo>
                <a:lnTo>
                  <a:pt x="3" y="19"/>
                </a:lnTo>
                <a:lnTo>
                  <a:pt x="7" y="13"/>
                </a:lnTo>
                <a:lnTo>
                  <a:pt x="12" y="7"/>
                </a:lnTo>
                <a:lnTo>
                  <a:pt x="17" y="4"/>
                </a:lnTo>
                <a:lnTo>
                  <a:pt x="23" y="2"/>
                </a:lnTo>
                <a:lnTo>
                  <a:pt x="29" y="0"/>
                </a:lnTo>
                <a:lnTo>
                  <a:pt x="35" y="0"/>
                </a:lnTo>
                <a:lnTo>
                  <a:pt x="39" y="3"/>
                </a:lnTo>
                <a:lnTo>
                  <a:pt x="43" y="6"/>
                </a:lnTo>
                <a:lnTo>
                  <a:pt x="45" y="12"/>
                </a:lnTo>
                <a:lnTo>
                  <a:pt x="46" y="19"/>
                </a:lnTo>
                <a:lnTo>
                  <a:pt x="46" y="19"/>
                </a:lnTo>
                <a:lnTo>
                  <a:pt x="41" y="22"/>
                </a:lnTo>
                <a:lnTo>
                  <a:pt x="33" y="26"/>
                </a:lnTo>
                <a:lnTo>
                  <a:pt x="19" y="33"/>
                </a:lnTo>
                <a:lnTo>
                  <a:pt x="12" y="35"/>
                </a:lnTo>
                <a:lnTo>
                  <a:pt x="4" y="35"/>
                </a:lnTo>
                <a:lnTo>
                  <a:pt x="0" y="32"/>
                </a:lnTo>
                <a:lnTo>
                  <a:pt x="0" y="3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16480" y="2454120"/>
            <a:ext cx="20880" cy="44640"/>
          </a:xfrm>
          <a:custGeom>
            <a:avLst/>
            <a:gdLst/>
            <a:ahLst/>
            <a:rect l="l" t="t" r="r" b="b"/>
            <a:pathLst>
              <a:path w="60" h="136">
                <a:moveTo>
                  <a:pt x="0" y="126"/>
                </a:moveTo>
                <a:lnTo>
                  <a:pt x="6" y="132"/>
                </a:lnTo>
                <a:lnTo>
                  <a:pt x="15" y="136"/>
                </a:lnTo>
                <a:lnTo>
                  <a:pt x="19" y="136"/>
                </a:lnTo>
                <a:lnTo>
                  <a:pt x="22" y="135"/>
                </a:lnTo>
                <a:lnTo>
                  <a:pt x="25" y="132"/>
                </a:lnTo>
                <a:lnTo>
                  <a:pt x="26" y="129"/>
                </a:lnTo>
                <a:lnTo>
                  <a:pt x="32" y="123"/>
                </a:lnTo>
                <a:lnTo>
                  <a:pt x="38" y="115"/>
                </a:lnTo>
                <a:lnTo>
                  <a:pt x="42" y="110"/>
                </a:lnTo>
                <a:lnTo>
                  <a:pt x="42" y="103"/>
                </a:lnTo>
                <a:lnTo>
                  <a:pt x="44" y="87"/>
                </a:lnTo>
                <a:lnTo>
                  <a:pt x="52" y="55"/>
                </a:lnTo>
                <a:lnTo>
                  <a:pt x="58" y="23"/>
                </a:lnTo>
                <a:lnTo>
                  <a:pt x="60" y="15"/>
                </a:lnTo>
                <a:lnTo>
                  <a:pt x="57" y="13"/>
                </a:lnTo>
                <a:lnTo>
                  <a:pt x="52" y="12"/>
                </a:lnTo>
                <a:lnTo>
                  <a:pt x="44" y="9"/>
                </a:lnTo>
                <a:lnTo>
                  <a:pt x="21" y="3"/>
                </a:lnTo>
                <a:lnTo>
                  <a:pt x="3" y="0"/>
                </a:lnTo>
                <a:lnTo>
                  <a:pt x="3" y="13"/>
                </a:lnTo>
                <a:lnTo>
                  <a:pt x="3" y="35"/>
                </a:lnTo>
                <a:lnTo>
                  <a:pt x="3" y="74"/>
                </a:lnTo>
                <a:lnTo>
                  <a:pt x="0" y="116"/>
                </a:lnTo>
                <a:lnTo>
                  <a:pt x="0" y="126"/>
                </a:lnTo>
                <a:lnTo>
                  <a:pt x="0" y="126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29440" y="2416320"/>
            <a:ext cx="17280" cy="28440"/>
          </a:xfrm>
          <a:custGeom>
            <a:avLst/>
            <a:gdLst/>
            <a:ahLst/>
            <a:rect l="l" t="t" r="r" b="b"/>
            <a:pathLst>
              <a:path w="48" h="93">
                <a:moveTo>
                  <a:pt x="12" y="72"/>
                </a:moveTo>
                <a:lnTo>
                  <a:pt x="9" y="75"/>
                </a:lnTo>
                <a:lnTo>
                  <a:pt x="5" y="77"/>
                </a:lnTo>
                <a:lnTo>
                  <a:pt x="0" y="78"/>
                </a:lnTo>
                <a:lnTo>
                  <a:pt x="0" y="83"/>
                </a:lnTo>
                <a:lnTo>
                  <a:pt x="0" y="84"/>
                </a:lnTo>
                <a:lnTo>
                  <a:pt x="0" y="87"/>
                </a:lnTo>
                <a:lnTo>
                  <a:pt x="2" y="88"/>
                </a:lnTo>
                <a:lnTo>
                  <a:pt x="3" y="90"/>
                </a:lnTo>
                <a:lnTo>
                  <a:pt x="9" y="91"/>
                </a:lnTo>
                <a:lnTo>
                  <a:pt x="12" y="93"/>
                </a:lnTo>
                <a:lnTo>
                  <a:pt x="18" y="93"/>
                </a:lnTo>
                <a:lnTo>
                  <a:pt x="19" y="93"/>
                </a:lnTo>
                <a:lnTo>
                  <a:pt x="21" y="91"/>
                </a:lnTo>
                <a:lnTo>
                  <a:pt x="27" y="87"/>
                </a:lnTo>
                <a:lnTo>
                  <a:pt x="38" y="80"/>
                </a:lnTo>
                <a:lnTo>
                  <a:pt x="43" y="75"/>
                </a:lnTo>
                <a:lnTo>
                  <a:pt x="47" y="69"/>
                </a:lnTo>
                <a:lnTo>
                  <a:pt x="48" y="65"/>
                </a:lnTo>
                <a:lnTo>
                  <a:pt x="44" y="59"/>
                </a:lnTo>
                <a:lnTo>
                  <a:pt x="44" y="52"/>
                </a:lnTo>
                <a:lnTo>
                  <a:pt x="41" y="36"/>
                </a:lnTo>
                <a:lnTo>
                  <a:pt x="40" y="7"/>
                </a:lnTo>
                <a:lnTo>
                  <a:pt x="41" y="1"/>
                </a:lnTo>
                <a:lnTo>
                  <a:pt x="37" y="1"/>
                </a:lnTo>
                <a:lnTo>
                  <a:pt x="29" y="1"/>
                </a:lnTo>
                <a:lnTo>
                  <a:pt x="22" y="0"/>
                </a:lnTo>
                <a:lnTo>
                  <a:pt x="18" y="0"/>
                </a:lnTo>
                <a:lnTo>
                  <a:pt x="15" y="1"/>
                </a:lnTo>
                <a:lnTo>
                  <a:pt x="14" y="3"/>
                </a:lnTo>
                <a:lnTo>
                  <a:pt x="11" y="7"/>
                </a:lnTo>
                <a:lnTo>
                  <a:pt x="9" y="12"/>
                </a:lnTo>
                <a:lnTo>
                  <a:pt x="9" y="16"/>
                </a:lnTo>
                <a:lnTo>
                  <a:pt x="9" y="16"/>
                </a:lnTo>
                <a:lnTo>
                  <a:pt x="8" y="23"/>
                </a:lnTo>
                <a:lnTo>
                  <a:pt x="6" y="35"/>
                </a:lnTo>
                <a:lnTo>
                  <a:pt x="3" y="56"/>
                </a:lnTo>
                <a:lnTo>
                  <a:pt x="3" y="65"/>
                </a:lnTo>
                <a:lnTo>
                  <a:pt x="5" y="68"/>
                </a:lnTo>
                <a:lnTo>
                  <a:pt x="8" y="71"/>
                </a:lnTo>
                <a:lnTo>
                  <a:pt x="11" y="72"/>
                </a:lnTo>
                <a:lnTo>
                  <a:pt x="12" y="72"/>
                </a:lnTo>
                <a:lnTo>
                  <a:pt x="12" y="7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35560" y="2394000"/>
            <a:ext cx="9720" cy="15840"/>
          </a:xfrm>
          <a:custGeom>
            <a:avLst/>
            <a:gdLst/>
            <a:ahLst/>
            <a:rect l="l" t="t" r="r" b="b"/>
            <a:pathLst>
              <a:path w="27" h="41">
                <a:moveTo>
                  <a:pt x="27" y="9"/>
                </a:moveTo>
                <a:lnTo>
                  <a:pt x="22" y="4"/>
                </a:lnTo>
                <a:lnTo>
                  <a:pt x="17" y="2"/>
                </a:lnTo>
                <a:lnTo>
                  <a:pt x="13" y="0"/>
                </a:lnTo>
                <a:lnTo>
                  <a:pt x="10" y="0"/>
                </a:lnTo>
                <a:lnTo>
                  <a:pt x="7" y="2"/>
                </a:lnTo>
                <a:lnTo>
                  <a:pt x="4" y="4"/>
                </a:lnTo>
                <a:lnTo>
                  <a:pt x="3" y="7"/>
                </a:lnTo>
                <a:lnTo>
                  <a:pt x="1" y="12"/>
                </a:lnTo>
                <a:lnTo>
                  <a:pt x="0" y="22"/>
                </a:lnTo>
                <a:lnTo>
                  <a:pt x="0" y="32"/>
                </a:lnTo>
                <a:lnTo>
                  <a:pt x="1" y="32"/>
                </a:lnTo>
                <a:lnTo>
                  <a:pt x="6" y="38"/>
                </a:lnTo>
                <a:lnTo>
                  <a:pt x="11" y="41"/>
                </a:lnTo>
                <a:lnTo>
                  <a:pt x="14" y="41"/>
                </a:lnTo>
                <a:lnTo>
                  <a:pt x="19" y="41"/>
                </a:lnTo>
                <a:lnTo>
                  <a:pt x="22" y="39"/>
                </a:lnTo>
                <a:lnTo>
                  <a:pt x="23" y="36"/>
                </a:lnTo>
                <a:lnTo>
                  <a:pt x="25" y="32"/>
                </a:lnTo>
                <a:lnTo>
                  <a:pt x="26" y="28"/>
                </a:lnTo>
                <a:lnTo>
                  <a:pt x="26" y="19"/>
                </a:lnTo>
                <a:lnTo>
                  <a:pt x="26" y="9"/>
                </a:lnTo>
                <a:lnTo>
                  <a:pt x="27" y="9"/>
                </a:lnTo>
                <a:lnTo>
                  <a:pt x="27" y="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13600" y="2384280"/>
            <a:ext cx="25200" cy="22320"/>
          </a:xfrm>
          <a:custGeom>
            <a:avLst/>
            <a:gdLst/>
            <a:ahLst/>
            <a:rect l="l" t="t" r="r" b="b"/>
            <a:pathLst>
              <a:path w="72" h="70">
                <a:moveTo>
                  <a:pt x="0" y="63"/>
                </a:moveTo>
                <a:lnTo>
                  <a:pt x="6" y="68"/>
                </a:lnTo>
                <a:lnTo>
                  <a:pt x="12" y="70"/>
                </a:lnTo>
                <a:lnTo>
                  <a:pt x="19" y="70"/>
                </a:lnTo>
                <a:lnTo>
                  <a:pt x="25" y="68"/>
                </a:lnTo>
                <a:lnTo>
                  <a:pt x="30" y="64"/>
                </a:lnTo>
                <a:lnTo>
                  <a:pt x="36" y="60"/>
                </a:lnTo>
                <a:lnTo>
                  <a:pt x="48" y="48"/>
                </a:lnTo>
                <a:lnTo>
                  <a:pt x="55" y="37"/>
                </a:lnTo>
                <a:lnTo>
                  <a:pt x="59" y="26"/>
                </a:lnTo>
                <a:lnTo>
                  <a:pt x="61" y="26"/>
                </a:lnTo>
                <a:lnTo>
                  <a:pt x="64" y="19"/>
                </a:lnTo>
                <a:lnTo>
                  <a:pt x="68" y="8"/>
                </a:lnTo>
                <a:lnTo>
                  <a:pt x="72" y="2"/>
                </a:lnTo>
                <a:lnTo>
                  <a:pt x="72" y="0"/>
                </a:lnTo>
                <a:lnTo>
                  <a:pt x="71" y="0"/>
                </a:lnTo>
                <a:lnTo>
                  <a:pt x="70" y="0"/>
                </a:lnTo>
                <a:lnTo>
                  <a:pt x="67" y="2"/>
                </a:lnTo>
                <a:lnTo>
                  <a:pt x="54" y="3"/>
                </a:lnTo>
                <a:lnTo>
                  <a:pt x="45" y="5"/>
                </a:lnTo>
                <a:lnTo>
                  <a:pt x="39" y="6"/>
                </a:lnTo>
                <a:lnTo>
                  <a:pt x="35" y="9"/>
                </a:lnTo>
                <a:lnTo>
                  <a:pt x="32" y="12"/>
                </a:lnTo>
                <a:lnTo>
                  <a:pt x="23" y="19"/>
                </a:lnTo>
                <a:lnTo>
                  <a:pt x="16" y="29"/>
                </a:lnTo>
                <a:lnTo>
                  <a:pt x="3" y="55"/>
                </a:lnTo>
                <a:lnTo>
                  <a:pt x="0" y="63"/>
                </a:lnTo>
                <a:lnTo>
                  <a:pt x="0" y="6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19720" y="2344680"/>
            <a:ext cx="20880" cy="36720"/>
          </a:xfrm>
          <a:custGeom>
            <a:avLst/>
            <a:gdLst/>
            <a:ahLst/>
            <a:rect l="l" t="t" r="r" b="b"/>
            <a:pathLst>
              <a:path w="62" h="108">
                <a:moveTo>
                  <a:pt x="0" y="66"/>
                </a:moveTo>
                <a:lnTo>
                  <a:pt x="0" y="71"/>
                </a:lnTo>
                <a:lnTo>
                  <a:pt x="0" y="77"/>
                </a:lnTo>
                <a:lnTo>
                  <a:pt x="1" y="82"/>
                </a:lnTo>
                <a:lnTo>
                  <a:pt x="4" y="83"/>
                </a:lnTo>
                <a:lnTo>
                  <a:pt x="7" y="86"/>
                </a:lnTo>
                <a:lnTo>
                  <a:pt x="11" y="90"/>
                </a:lnTo>
                <a:lnTo>
                  <a:pt x="14" y="92"/>
                </a:lnTo>
                <a:lnTo>
                  <a:pt x="11" y="93"/>
                </a:lnTo>
                <a:lnTo>
                  <a:pt x="7" y="96"/>
                </a:lnTo>
                <a:lnTo>
                  <a:pt x="2" y="100"/>
                </a:lnTo>
                <a:lnTo>
                  <a:pt x="0" y="106"/>
                </a:lnTo>
                <a:lnTo>
                  <a:pt x="0" y="108"/>
                </a:lnTo>
                <a:lnTo>
                  <a:pt x="4" y="108"/>
                </a:lnTo>
                <a:lnTo>
                  <a:pt x="8" y="106"/>
                </a:lnTo>
                <a:lnTo>
                  <a:pt x="17" y="105"/>
                </a:lnTo>
                <a:lnTo>
                  <a:pt x="21" y="103"/>
                </a:lnTo>
                <a:lnTo>
                  <a:pt x="28" y="100"/>
                </a:lnTo>
                <a:lnTo>
                  <a:pt x="43" y="90"/>
                </a:lnTo>
                <a:lnTo>
                  <a:pt x="55" y="77"/>
                </a:lnTo>
                <a:lnTo>
                  <a:pt x="60" y="61"/>
                </a:lnTo>
                <a:lnTo>
                  <a:pt x="62" y="44"/>
                </a:lnTo>
                <a:lnTo>
                  <a:pt x="60" y="27"/>
                </a:lnTo>
                <a:lnTo>
                  <a:pt x="57" y="16"/>
                </a:lnTo>
                <a:lnTo>
                  <a:pt x="52" y="8"/>
                </a:lnTo>
                <a:lnTo>
                  <a:pt x="46" y="2"/>
                </a:lnTo>
                <a:lnTo>
                  <a:pt x="43" y="0"/>
                </a:lnTo>
                <a:lnTo>
                  <a:pt x="40" y="0"/>
                </a:lnTo>
                <a:lnTo>
                  <a:pt x="37" y="0"/>
                </a:lnTo>
                <a:lnTo>
                  <a:pt x="34" y="2"/>
                </a:lnTo>
                <a:lnTo>
                  <a:pt x="33" y="3"/>
                </a:lnTo>
                <a:lnTo>
                  <a:pt x="27" y="9"/>
                </a:lnTo>
                <a:lnTo>
                  <a:pt x="23" y="15"/>
                </a:lnTo>
                <a:lnTo>
                  <a:pt x="14" y="31"/>
                </a:lnTo>
                <a:lnTo>
                  <a:pt x="8" y="45"/>
                </a:lnTo>
                <a:lnTo>
                  <a:pt x="8" y="50"/>
                </a:lnTo>
                <a:lnTo>
                  <a:pt x="11" y="57"/>
                </a:lnTo>
                <a:lnTo>
                  <a:pt x="14" y="64"/>
                </a:lnTo>
                <a:lnTo>
                  <a:pt x="15" y="67"/>
                </a:lnTo>
                <a:lnTo>
                  <a:pt x="15" y="69"/>
                </a:lnTo>
                <a:lnTo>
                  <a:pt x="13" y="69"/>
                </a:lnTo>
                <a:lnTo>
                  <a:pt x="11" y="69"/>
                </a:lnTo>
                <a:lnTo>
                  <a:pt x="5" y="67"/>
                </a:lnTo>
                <a:lnTo>
                  <a:pt x="0" y="66"/>
                </a:lnTo>
                <a:lnTo>
                  <a:pt x="0" y="66"/>
                </a:lnTo>
                <a:lnTo>
                  <a:pt x="0" y="66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05520" y="2206800"/>
            <a:ext cx="41400" cy="28440"/>
          </a:xfrm>
          <a:custGeom>
            <a:avLst/>
            <a:gdLst/>
            <a:ahLst/>
            <a:rect l="l" t="t" r="r" b="b"/>
            <a:pathLst>
              <a:path w="124" h="87">
                <a:moveTo>
                  <a:pt x="73" y="29"/>
                </a:moveTo>
                <a:lnTo>
                  <a:pt x="84" y="33"/>
                </a:lnTo>
                <a:lnTo>
                  <a:pt x="99" y="38"/>
                </a:lnTo>
                <a:lnTo>
                  <a:pt x="110" y="39"/>
                </a:lnTo>
                <a:lnTo>
                  <a:pt x="114" y="39"/>
                </a:lnTo>
                <a:lnTo>
                  <a:pt x="117" y="40"/>
                </a:lnTo>
                <a:lnTo>
                  <a:pt x="118" y="43"/>
                </a:lnTo>
                <a:lnTo>
                  <a:pt x="121" y="48"/>
                </a:lnTo>
                <a:lnTo>
                  <a:pt x="121" y="55"/>
                </a:lnTo>
                <a:lnTo>
                  <a:pt x="123" y="74"/>
                </a:lnTo>
                <a:lnTo>
                  <a:pt x="124" y="74"/>
                </a:lnTo>
                <a:lnTo>
                  <a:pt x="121" y="78"/>
                </a:lnTo>
                <a:lnTo>
                  <a:pt x="120" y="81"/>
                </a:lnTo>
                <a:lnTo>
                  <a:pt x="115" y="83"/>
                </a:lnTo>
                <a:lnTo>
                  <a:pt x="111" y="84"/>
                </a:lnTo>
                <a:lnTo>
                  <a:pt x="107" y="85"/>
                </a:lnTo>
                <a:lnTo>
                  <a:pt x="97" y="85"/>
                </a:lnTo>
                <a:lnTo>
                  <a:pt x="76" y="85"/>
                </a:lnTo>
                <a:lnTo>
                  <a:pt x="73" y="84"/>
                </a:lnTo>
                <a:lnTo>
                  <a:pt x="71" y="78"/>
                </a:lnTo>
                <a:lnTo>
                  <a:pt x="71" y="71"/>
                </a:lnTo>
                <a:lnTo>
                  <a:pt x="69" y="68"/>
                </a:lnTo>
                <a:lnTo>
                  <a:pt x="68" y="71"/>
                </a:lnTo>
                <a:lnTo>
                  <a:pt x="66" y="74"/>
                </a:lnTo>
                <a:lnTo>
                  <a:pt x="60" y="80"/>
                </a:lnTo>
                <a:lnTo>
                  <a:pt x="50" y="87"/>
                </a:lnTo>
                <a:lnTo>
                  <a:pt x="50" y="87"/>
                </a:lnTo>
                <a:lnTo>
                  <a:pt x="49" y="80"/>
                </a:lnTo>
                <a:lnTo>
                  <a:pt x="49" y="69"/>
                </a:lnTo>
                <a:lnTo>
                  <a:pt x="47" y="67"/>
                </a:lnTo>
                <a:lnTo>
                  <a:pt x="46" y="65"/>
                </a:lnTo>
                <a:lnTo>
                  <a:pt x="42" y="67"/>
                </a:lnTo>
                <a:lnTo>
                  <a:pt x="39" y="69"/>
                </a:lnTo>
                <a:lnTo>
                  <a:pt x="30" y="74"/>
                </a:lnTo>
                <a:lnTo>
                  <a:pt x="26" y="77"/>
                </a:lnTo>
                <a:lnTo>
                  <a:pt x="26" y="69"/>
                </a:lnTo>
                <a:lnTo>
                  <a:pt x="26" y="58"/>
                </a:lnTo>
                <a:lnTo>
                  <a:pt x="26" y="51"/>
                </a:lnTo>
                <a:lnTo>
                  <a:pt x="26" y="49"/>
                </a:lnTo>
                <a:lnTo>
                  <a:pt x="24" y="49"/>
                </a:lnTo>
                <a:lnTo>
                  <a:pt x="23" y="51"/>
                </a:lnTo>
                <a:lnTo>
                  <a:pt x="20" y="54"/>
                </a:lnTo>
                <a:lnTo>
                  <a:pt x="15" y="58"/>
                </a:lnTo>
                <a:lnTo>
                  <a:pt x="11" y="64"/>
                </a:lnTo>
                <a:lnTo>
                  <a:pt x="10" y="67"/>
                </a:lnTo>
                <a:lnTo>
                  <a:pt x="2" y="62"/>
                </a:lnTo>
                <a:lnTo>
                  <a:pt x="0" y="59"/>
                </a:lnTo>
                <a:lnTo>
                  <a:pt x="0" y="58"/>
                </a:lnTo>
                <a:lnTo>
                  <a:pt x="0" y="56"/>
                </a:lnTo>
                <a:lnTo>
                  <a:pt x="1" y="45"/>
                </a:lnTo>
                <a:lnTo>
                  <a:pt x="8" y="16"/>
                </a:lnTo>
                <a:lnTo>
                  <a:pt x="14" y="6"/>
                </a:lnTo>
                <a:lnTo>
                  <a:pt x="18" y="1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4" y="3"/>
                </a:lnTo>
                <a:lnTo>
                  <a:pt x="43" y="6"/>
                </a:lnTo>
                <a:lnTo>
                  <a:pt x="49" y="10"/>
                </a:lnTo>
                <a:lnTo>
                  <a:pt x="53" y="16"/>
                </a:lnTo>
                <a:lnTo>
                  <a:pt x="66" y="26"/>
                </a:lnTo>
                <a:lnTo>
                  <a:pt x="73" y="29"/>
                </a:lnTo>
                <a:lnTo>
                  <a:pt x="73" y="2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19760" y="2149560"/>
            <a:ext cx="23760" cy="11160"/>
          </a:xfrm>
          <a:custGeom>
            <a:avLst/>
            <a:gdLst/>
            <a:ahLst/>
            <a:rect l="l" t="t" r="r" b="b"/>
            <a:pathLst>
              <a:path w="65" h="39">
                <a:moveTo>
                  <a:pt x="65" y="39"/>
                </a:moveTo>
                <a:lnTo>
                  <a:pt x="59" y="38"/>
                </a:lnTo>
                <a:lnTo>
                  <a:pt x="49" y="35"/>
                </a:lnTo>
                <a:lnTo>
                  <a:pt x="26" y="29"/>
                </a:lnTo>
                <a:lnTo>
                  <a:pt x="4" y="23"/>
                </a:lnTo>
                <a:lnTo>
                  <a:pt x="0" y="20"/>
                </a:lnTo>
                <a:lnTo>
                  <a:pt x="4" y="16"/>
                </a:lnTo>
                <a:lnTo>
                  <a:pt x="11" y="7"/>
                </a:lnTo>
                <a:lnTo>
                  <a:pt x="16" y="3"/>
                </a:lnTo>
                <a:lnTo>
                  <a:pt x="17" y="3"/>
                </a:lnTo>
                <a:lnTo>
                  <a:pt x="24" y="2"/>
                </a:lnTo>
                <a:lnTo>
                  <a:pt x="37" y="0"/>
                </a:lnTo>
                <a:lnTo>
                  <a:pt x="48" y="4"/>
                </a:lnTo>
                <a:lnTo>
                  <a:pt x="55" y="12"/>
                </a:lnTo>
                <a:lnTo>
                  <a:pt x="61" y="22"/>
                </a:lnTo>
                <a:lnTo>
                  <a:pt x="64" y="33"/>
                </a:lnTo>
                <a:lnTo>
                  <a:pt x="65" y="39"/>
                </a:lnTo>
                <a:lnTo>
                  <a:pt x="65" y="3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2760" y="2133720"/>
            <a:ext cx="27000" cy="14040"/>
          </a:xfrm>
          <a:custGeom>
            <a:avLst/>
            <a:gdLst/>
            <a:ahLst/>
            <a:rect l="l" t="t" r="r" b="b"/>
            <a:pathLst>
              <a:path w="80" h="35">
                <a:moveTo>
                  <a:pt x="80" y="0"/>
                </a:moveTo>
                <a:lnTo>
                  <a:pt x="78" y="4"/>
                </a:lnTo>
                <a:lnTo>
                  <a:pt x="77" y="18"/>
                </a:lnTo>
                <a:lnTo>
                  <a:pt x="77" y="28"/>
                </a:lnTo>
                <a:lnTo>
                  <a:pt x="77" y="28"/>
                </a:lnTo>
                <a:lnTo>
                  <a:pt x="70" y="31"/>
                </a:lnTo>
                <a:lnTo>
                  <a:pt x="52" y="35"/>
                </a:lnTo>
                <a:lnTo>
                  <a:pt x="33" y="35"/>
                </a:lnTo>
                <a:lnTo>
                  <a:pt x="17" y="31"/>
                </a:lnTo>
                <a:lnTo>
                  <a:pt x="10" y="28"/>
                </a:lnTo>
                <a:lnTo>
                  <a:pt x="6" y="23"/>
                </a:lnTo>
                <a:lnTo>
                  <a:pt x="2" y="18"/>
                </a:lnTo>
                <a:lnTo>
                  <a:pt x="0" y="12"/>
                </a:lnTo>
                <a:lnTo>
                  <a:pt x="2" y="3"/>
                </a:lnTo>
                <a:lnTo>
                  <a:pt x="3" y="3"/>
                </a:lnTo>
                <a:lnTo>
                  <a:pt x="4" y="3"/>
                </a:lnTo>
                <a:lnTo>
                  <a:pt x="15" y="3"/>
                </a:lnTo>
                <a:lnTo>
                  <a:pt x="51" y="2"/>
                </a:lnTo>
                <a:lnTo>
                  <a:pt x="77" y="2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234120" y="2616120"/>
            <a:ext cx="1082520" cy="647640"/>
          </a:xfrm>
          <a:custGeom>
            <a:avLst/>
            <a:gdLst/>
            <a:ahLst/>
            <a:rect l="l" t="t" r="r" b="b"/>
            <a:pathLst>
              <a:path w="3137" h="1980">
                <a:moveTo>
                  <a:pt x="1612" y="1917"/>
                </a:moveTo>
                <a:lnTo>
                  <a:pt x="1606" y="1888"/>
                </a:lnTo>
                <a:lnTo>
                  <a:pt x="1607" y="1861"/>
                </a:lnTo>
                <a:lnTo>
                  <a:pt x="1614" y="1838"/>
                </a:lnTo>
                <a:lnTo>
                  <a:pt x="1626" y="1819"/>
                </a:lnTo>
                <a:lnTo>
                  <a:pt x="1643" y="1800"/>
                </a:lnTo>
                <a:lnTo>
                  <a:pt x="1662" y="1784"/>
                </a:lnTo>
                <a:lnTo>
                  <a:pt x="1706" y="1756"/>
                </a:lnTo>
                <a:lnTo>
                  <a:pt x="1782" y="1706"/>
                </a:lnTo>
                <a:lnTo>
                  <a:pt x="1784" y="1706"/>
                </a:lnTo>
                <a:lnTo>
                  <a:pt x="1777" y="1700"/>
                </a:lnTo>
                <a:lnTo>
                  <a:pt x="1774" y="1694"/>
                </a:lnTo>
                <a:lnTo>
                  <a:pt x="1772" y="1690"/>
                </a:lnTo>
                <a:lnTo>
                  <a:pt x="1772" y="1688"/>
                </a:lnTo>
                <a:lnTo>
                  <a:pt x="1772" y="1687"/>
                </a:lnTo>
                <a:lnTo>
                  <a:pt x="1774" y="1685"/>
                </a:lnTo>
                <a:lnTo>
                  <a:pt x="1775" y="1684"/>
                </a:lnTo>
                <a:lnTo>
                  <a:pt x="1777" y="1683"/>
                </a:lnTo>
                <a:lnTo>
                  <a:pt x="1778" y="1683"/>
                </a:lnTo>
                <a:lnTo>
                  <a:pt x="1782" y="1683"/>
                </a:lnTo>
                <a:lnTo>
                  <a:pt x="1787" y="1683"/>
                </a:lnTo>
                <a:lnTo>
                  <a:pt x="1798" y="1684"/>
                </a:lnTo>
                <a:lnTo>
                  <a:pt x="1810" y="1688"/>
                </a:lnTo>
                <a:lnTo>
                  <a:pt x="1811" y="1688"/>
                </a:lnTo>
                <a:lnTo>
                  <a:pt x="1820" y="1685"/>
                </a:lnTo>
                <a:lnTo>
                  <a:pt x="1839" y="1678"/>
                </a:lnTo>
                <a:lnTo>
                  <a:pt x="1881" y="1675"/>
                </a:lnTo>
                <a:lnTo>
                  <a:pt x="1920" y="1685"/>
                </a:lnTo>
                <a:lnTo>
                  <a:pt x="1930" y="1688"/>
                </a:lnTo>
                <a:lnTo>
                  <a:pt x="1932" y="1687"/>
                </a:lnTo>
                <a:lnTo>
                  <a:pt x="1938" y="1681"/>
                </a:lnTo>
                <a:lnTo>
                  <a:pt x="1951" y="1672"/>
                </a:lnTo>
                <a:lnTo>
                  <a:pt x="1964" y="1662"/>
                </a:lnTo>
                <a:lnTo>
                  <a:pt x="1966" y="1659"/>
                </a:lnTo>
                <a:lnTo>
                  <a:pt x="1981" y="1667"/>
                </a:lnTo>
                <a:lnTo>
                  <a:pt x="2010" y="1680"/>
                </a:lnTo>
                <a:lnTo>
                  <a:pt x="2068" y="1697"/>
                </a:lnTo>
                <a:lnTo>
                  <a:pt x="2097" y="1696"/>
                </a:lnTo>
                <a:lnTo>
                  <a:pt x="2126" y="1683"/>
                </a:lnTo>
                <a:lnTo>
                  <a:pt x="2140" y="1669"/>
                </a:lnTo>
                <a:lnTo>
                  <a:pt x="2133" y="1661"/>
                </a:lnTo>
                <a:lnTo>
                  <a:pt x="2123" y="1648"/>
                </a:lnTo>
                <a:lnTo>
                  <a:pt x="2114" y="1635"/>
                </a:lnTo>
                <a:lnTo>
                  <a:pt x="2113" y="1632"/>
                </a:lnTo>
                <a:lnTo>
                  <a:pt x="2117" y="1632"/>
                </a:lnTo>
                <a:lnTo>
                  <a:pt x="2136" y="1627"/>
                </a:lnTo>
                <a:lnTo>
                  <a:pt x="2191" y="1613"/>
                </a:lnTo>
                <a:lnTo>
                  <a:pt x="2216" y="1604"/>
                </a:lnTo>
                <a:lnTo>
                  <a:pt x="2230" y="1598"/>
                </a:lnTo>
                <a:lnTo>
                  <a:pt x="2232" y="1596"/>
                </a:lnTo>
                <a:lnTo>
                  <a:pt x="2235" y="1596"/>
                </a:lnTo>
                <a:lnTo>
                  <a:pt x="2265" y="1596"/>
                </a:lnTo>
                <a:lnTo>
                  <a:pt x="2368" y="1591"/>
                </a:lnTo>
                <a:lnTo>
                  <a:pt x="2446" y="1588"/>
                </a:lnTo>
                <a:lnTo>
                  <a:pt x="2450" y="1587"/>
                </a:lnTo>
                <a:lnTo>
                  <a:pt x="2452" y="1585"/>
                </a:lnTo>
                <a:lnTo>
                  <a:pt x="2456" y="1585"/>
                </a:lnTo>
                <a:lnTo>
                  <a:pt x="2461" y="1585"/>
                </a:lnTo>
                <a:lnTo>
                  <a:pt x="2471" y="1585"/>
                </a:lnTo>
                <a:lnTo>
                  <a:pt x="2482" y="1588"/>
                </a:lnTo>
                <a:lnTo>
                  <a:pt x="2511" y="1598"/>
                </a:lnTo>
                <a:lnTo>
                  <a:pt x="2568" y="1627"/>
                </a:lnTo>
                <a:lnTo>
                  <a:pt x="2587" y="1642"/>
                </a:lnTo>
                <a:lnTo>
                  <a:pt x="2582" y="1669"/>
                </a:lnTo>
                <a:lnTo>
                  <a:pt x="2585" y="1696"/>
                </a:lnTo>
                <a:lnTo>
                  <a:pt x="2594" y="1722"/>
                </a:lnTo>
                <a:lnTo>
                  <a:pt x="2607" y="1745"/>
                </a:lnTo>
                <a:lnTo>
                  <a:pt x="2645" y="1790"/>
                </a:lnTo>
                <a:lnTo>
                  <a:pt x="2689" y="1827"/>
                </a:lnTo>
                <a:lnTo>
                  <a:pt x="2776" y="1881"/>
                </a:lnTo>
                <a:lnTo>
                  <a:pt x="2778" y="1881"/>
                </a:lnTo>
                <a:lnTo>
                  <a:pt x="2789" y="1851"/>
                </a:lnTo>
                <a:lnTo>
                  <a:pt x="2798" y="1794"/>
                </a:lnTo>
                <a:lnTo>
                  <a:pt x="2788" y="1742"/>
                </a:lnTo>
                <a:lnTo>
                  <a:pt x="2766" y="1694"/>
                </a:lnTo>
                <a:lnTo>
                  <a:pt x="2737" y="1646"/>
                </a:lnTo>
                <a:lnTo>
                  <a:pt x="2708" y="1596"/>
                </a:lnTo>
                <a:lnTo>
                  <a:pt x="2697" y="1568"/>
                </a:lnTo>
                <a:lnTo>
                  <a:pt x="2692" y="1558"/>
                </a:lnTo>
                <a:lnTo>
                  <a:pt x="2682" y="1532"/>
                </a:lnTo>
                <a:lnTo>
                  <a:pt x="2655" y="1462"/>
                </a:lnTo>
                <a:lnTo>
                  <a:pt x="2640" y="1397"/>
                </a:lnTo>
                <a:lnTo>
                  <a:pt x="2642" y="1384"/>
                </a:lnTo>
                <a:lnTo>
                  <a:pt x="2646" y="1380"/>
                </a:lnTo>
                <a:lnTo>
                  <a:pt x="2652" y="1372"/>
                </a:lnTo>
                <a:lnTo>
                  <a:pt x="2669" y="1354"/>
                </a:lnTo>
                <a:lnTo>
                  <a:pt x="2705" y="1316"/>
                </a:lnTo>
                <a:lnTo>
                  <a:pt x="2724" y="1301"/>
                </a:lnTo>
                <a:lnTo>
                  <a:pt x="2730" y="1287"/>
                </a:lnTo>
                <a:lnTo>
                  <a:pt x="2745" y="1259"/>
                </a:lnTo>
                <a:lnTo>
                  <a:pt x="2775" y="1216"/>
                </a:lnTo>
                <a:lnTo>
                  <a:pt x="2813" y="1175"/>
                </a:lnTo>
                <a:lnTo>
                  <a:pt x="2824" y="1164"/>
                </a:lnTo>
                <a:lnTo>
                  <a:pt x="2821" y="1157"/>
                </a:lnTo>
                <a:lnTo>
                  <a:pt x="2820" y="1152"/>
                </a:lnTo>
                <a:lnTo>
                  <a:pt x="2816" y="1143"/>
                </a:lnTo>
                <a:lnTo>
                  <a:pt x="2814" y="1136"/>
                </a:lnTo>
                <a:lnTo>
                  <a:pt x="2816" y="1135"/>
                </a:lnTo>
                <a:lnTo>
                  <a:pt x="2826" y="1125"/>
                </a:lnTo>
                <a:lnTo>
                  <a:pt x="2865" y="1086"/>
                </a:lnTo>
                <a:lnTo>
                  <a:pt x="2894" y="1057"/>
                </a:lnTo>
                <a:lnTo>
                  <a:pt x="2897" y="1054"/>
                </a:lnTo>
                <a:lnTo>
                  <a:pt x="2894" y="1046"/>
                </a:lnTo>
                <a:lnTo>
                  <a:pt x="2892" y="1029"/>
                </a:lnTo>
                <a:lnTo>
                  <a:pt x="2894" y="987"/>
                </a:lnTo>
                <a:lnTo>
                  <a:pt x="2895" y="944"/>
                </a:lnTo>
                <a:lnTo>
                  <a:pt x="2897" y="933"/>
                </a:lnTo>
                <a:lnTo>
                  <a:pt x="2894" y="932"/>
                </a:lnTo>
                <a:lnTo>
                  <a:pt x="2887" y="926"/>
                </a:lnTo>
                <a:lnTo>
                  <a:pt x="2863" y="906"/>
                </a:lnTo>
                <a:lnTo>
                  <a:pt x="2830" y="870"/>
                </a:lnTo>
                <a:lnTo>
                  <a:pt x="2821" y="857"/>
                </a:lnTo>
                <a:lnTo>
                  <a:pt x="2811" y="844"/>
                </a:lnTo>
                <a:lnTo>
                  <a:pt x="2800" y="819"/>
                </a:lnTo>
                <a:lnTo>
                  <a:pt x="2792" y="796"/>
                </a:lnTo>
                <a:lnTo>
                  <a:pt x="2791" y="775"/>
                </a:lnTo>
                <a:lnTo>
                  <a:pt x="2794" y="757"/>
                </a:lnTo>
                <a:lnTo>
                  <a:pt x="2798" y="739"/>
                </a:lnTo>
                <a:lnTo>
                  <a:pt x="2802" y="731"/>
                </a:lnTo>
                <a:lnTo>
                  <a:pt x="2805" y="742"/>
                </a:lnTo>
                <a:lnTo>
                  <a:pt x="2814" y="764"/>
                </a:lnTo>
                <a:lnTo>
                  <a:pt x="2837" y="809"/>
                </a:lnTo>
                <a:lnTo>
                  <a:pt x="2865" y="845"/>
                </a:lnTo>
                <a:lnTo>
                  <a:pt x="2872" y="849"/>
                </a:lnTo>
                <a:lnTo>
                  <a:pt x="2879" y="842"/>
                </a:lnTo>
                <a:lnTo>
                  <a:pt x="2884" y="832"/>
                </a:lnTo>
                <a:lnTo>
                  <a:pt x="2885" y="822"/>
                </a:lnTo>
                <a:lnTo>
                  <a:pt x="2884" y="810"/>
                </a:lnTo>
                <a:lnTo>
                  <a:pt x="2881" y="797"/>
                </a:lnTo>
                <a:lnTo>
                  <a:pt x="2869" y="770"/>
                </a:lnTo>
                <a:lnTo>
                  <a:pt x="2847" y="710"/>
                </a:lnTo>
                <a:lnTo>
                  <a:pt x="2846" y="694"/>
                </a:lnTo>
                <a:lnTo>
                  <a:pt x="2852" y="697"/>
                </a:lnTo>
                <a:lnTo>
                  <a:pt x="2858" y="699"/>
                </a:lnTo>
                <a:lnTo>
                  <a:pt x="2869" y="704"/>
                </a:lnTo>
                <a:lnTo>
                  <a:pt x="2891" y="717"/>
                </a:lnTo>
                <a:lnTo>
                  <a:pt x="2898" y="720"/>
                </a:lnTo>
                <a:lnTo>
                  <a:pt x="2897" y="693"/>
                </a:lnTo>
                <a:lnTo>
                  <a:pt x="2898" y="673"/>
                </a:lnTo>
                <a:lnTo>
                  <a:pt x="2902" y="660"/>
                </a:lnTo>
                <a:lnTo>
                  <a:pt x="2910" y="651"/>
                </a:lnTo>
                <a:lnTo>
                  <a:pt x="2917" y="646"/>
                </a:lnTo>
                <a:lnTo>
                  <a:pt x="2926" y="645"/>
                </a:lnTo>
                <a:lnTo>
                  <a:pt x="2933" y="645"/>
                </a:lnTo>
                <a:lnTo>
                  <a:pt x="2940" y="645"/>
                </a:lnTo>
                <a:lnTo>
                  <a:pt x="2944" y="646"/>
                </a:lnTo>
                <a:lnTo>
                  <a:pt x="2946" y="646"/>
                </a:lnTo>
                <a:lnTo>
                  <a:pt x="2947" y="645"/>
                </a:lnTo>
                <a:lnTo>
                  <a:pt x="2947" y="644"/>
                </a:lnTo>
                <a:lnTo>
                  <a:pt x="2946" y="642"/>
                </a:lnTo>
                <a:lnTo>
                  <a:pt x="2944" y="638"/>
                </a:lnTo>
                <a:lnTo>
                  <a:pt x="2942" y="633"/>
                </a:lnTo>
                <a:lnTo>
                  <a:pt x="2942" y="633"/>
                </a:lnTo>
                <a:lnTo>
                  <a:pt x="2934" y="625"/>
                </a:lnTo>
                <a:lnTo>
                  <a:pt x="2926" y="606"/>
                </a:lnTo>
                <a:lnTo>
                  <a:pt x="2923" y="590"/>
                </a:lnTo>
                <a:lnTo>
                  <a:pt x="2924" y="575"/>
                </a:lnTo>
                <a:lnTo>
                  <a:pt x="2926" y="562"/>
                </a:lnTo>
                <a:lnTo>
                  <a:pt x="2927" y="548"/>
                </a:lnTo>
                <a:lnTo>
                  <a:pt x="2929" y="541"/>
                </a:lnTo>
                <a:lnTo>
                  <a:pt x="2937" y="541"/>
                </a:lnTo>
                <a:lnTo>
                  <a:pt x="2946" y="541"/>
                </a:lnTo>
                <a:lnTo>
                  <a:pt x="2962" y="544"/>
                </a:lnTo>
                <a:lnTo>
                  <a:pt x="2978" y="548"/>
                </a:lnTo>
                <a:lnTo>
                  <a:pt x="2991" y="552"/>
                </a:lnTo>
                <a:lnTo>
                  <a:pt x="2998" y="552"/>
                </a:lnTo>
                <a:lnTo>
                  <a:pt x="3004" y="551"/>
                </a:lnTo>
                <a:lnTo>
                  <a:pt x="3008" y="546"/>
                </a:lnTo>
                <a:lnTo>
                  <a:pt x="3013" y="541"/>
                </a:lnTo>
                <a:lnTo>
                  <a:pt x="3014" y="541"/>
                </a:lnTo>
                <a:lnTo>
                  <a:pt x="3008" y="538"/>
                </a:lnTo>
                <a:lnTo>
                  <a:pt x="3007" y="533"/>
                </a:lnTo>
                <a:lnTo>
                  <a:pt x="3002" y="522"/>
                </a:lnTo>
                <a:lnTo>
                  <a:pt x="2994" y="496"/>
                </a:lnTo>
                <a:lnTo>
                  <a:pt x="2988" y="487"/>
                </a:lnTo>
                <a:lnTo>
                  <a:pt x="2997" y="484"/>
                </a:lnTo>
                <a:lnTo>
                  <a:pt x="3014" y="477"/>
                </a:lnTo>
                <a:lnTo>
                  <a:pt x="3047" y="467"/>
                </a:lnTo>
                <a:lnTo>
                  <a:pt x="3062" y="460"/>
                </a:lnTo>
                <a:lnTo>
                  <a:pt x="3073" y="447"/>
                </a:lnTo>
                <a:lnTo>
                  <a:pt x="3079" y="438"/>
                </a:lnTo>
                <a:lnTo>
                  <a:pt x="3078" y="433"/>
                </a:lnTo>
                <a:lnTo>
                  <a:pt x="3076" y="429"/>
                </a:lnTo>
                <a:lnTo>
                  <a:pt x="3072" y="423"/>
                </a:lnTo>
                <a:lnTo>
                  <a:pt x="3063" y="413"/>
                </a:lnTo>
                <a:lnTo>
                  <a:pt x="3062" y="409"/>
                </a:lnTo>
                <a:lnTo>
                  <a:pt x="3060" y="410"/>
                </a:lnTo>
                <a:lnTo>
                  <a:pt x="3050" y="419"/>
                </a:lnTo>
                <a:lnTo>
                  <a:pt x="3018" y="445"/>
                </a:lnTo>
                <a:lnTo>
                  <a:pt x="2994" y="467"/>
                </a:lnTo>
                <a:lnTo>
                  <a:pt x="2994" y="467"/>
                </a:lnTo>
                <a:lnTo>
                  <a:pt x="2992" y="447"/>
                </a:lnTo>
                <a:lnTo>
                  <a:pt x="2998" y="412"/>
                </a:lnTo>
                <a:lnTo>
                  <a:pt x="3011" y="383"/>
                </a:lnTo>
                <a:lnTo>
                  <a:pt x="3024" y="361"/>
                </a:lnTo>
                <a:lnTo>
                  <a:pt x="3033" y="345"/>
                </a:lnTo>
                <a:lnTo>
                  <a:pt x="3034" y="342"/>
                </a:lnTo>
                <a:lnTo>
                  <a:pt x="3034" y="339"/>
                </a:lnTo>
                <a:lnTo>
                  <a:pt x="3033" y="336"/>
                </a:lnTo>
                <a:lnTo>
                  <a:pt x="3031" y="335"/>
                </a:lnTo>
                <a:lnTo>
                  <a:pt x="3027" y="332"/>
                </a:lnTo>
                <a:lnTo>
                  <a:pt x="3024" y="331"/>
                </a:lnTo>
                <a:lnTo>
                  <a:pt x="3024" y="331"/>
                </a:lnTo>
                <a:lnTo>
                  <a:pt x="3015" y="329"/>
                </a:lnTo>
                <a:lnTo>
                  <a:pt x="3014" y="328"/>
                </a:lnTo>
                <a:lnTo>
                  <a:pt x="3013" y="326"/>
                </a:lnTo>
                <a:lnTo>
                  <a:pt x="3013" y="325"/>
                </a:lnTo>
                <a:lnTo>
                  <a:pt x="3014" y="323"/>
                </a:lnTo>
                <a:lnTo>
                  <a:pt x="3015" y="322"/>
                </a:lnTo>
                <a:lnTo>
                  <a:pt x="3021" y="319"/>
                </a:lnTo>
                <a:lnTo>
                  <a:pt x="3036" y="313"/>
                </a:lnTo>
                <a:lnTo>
                  <a:pt x="3052" y="306"/>
                </a:lnTo>
                <a:lnTo>
                  <a:pt x="3066" y="294"/>
                </a:lnTo>
                <a:lnTo>
                  <a:pt x="3071" y="287"/>
                </a:lnTo>
                <a:lnTo>
                  <a:pt x="3072" y="281"/>
                </a:lnTo>
                <a:lnTo>
                  <a:pt x="3071" y="276"/>
                </a:lnTo>
                <a:lnTo>
                  <a:pt x="3068" y="271"/>
                </a:lnTo>
                <a:lnTo>
                  <a:pt x="3063" y="267"/>
                </a:lnTo>
                <a:lnTo>
                  <a:pt x="3057" y="264"/>
                </a:lnTo>
                <a:lnTo>
                  <a:pt x="3046" y="258"/>
                </a:lnTo>
                <a:lnTo>
                  <a:pt x="3039" y="254"/>
                </a:lnTo>
                <a:lnTo>
                  <a:pt x="3039" y="248"/>
                </a:lnTo>
                <a:lnTo>
                  <a:pt x="3044" y="244"/>
                </a:lnTo>
                <a:lnTo>
                  <a:pt x="3050" y="241"/>
                </a:lnTo>
                <a:lnTo>
                  <a:pt x="3066" y="229"/>
                </a:lnTo>
                <a:lnTo>
                  <a:pt x="3101" y="199"/>
                </a:lnTo>
                <a:lnTo>
                  <a:pt x="3131" y="168"/>
                </a:lnTo>
                <a:lnTo>
                  <a:pt x="3137" y="161"/>
                </a:lnTo>
                <a:lnTo>
                  <a:pt x="3128" y="157"/>
                </a:lnTo>
                <a:lnTo>
                  <a:pt x="3111" y="145"/>
                </a:lnTo>
                <a:lnTo>
                  <a:pt x="3082" y="123"/>
                </a:lnTo>
                <a:lnTo>
                  <a:pt x="3056" y="94"/>
                </a:lnTo>
                <a:lnTo>
                  <a:pt x="3050" y="84"/>
                </a:lnTo>
                <a:lnTo>
                  <a:pt x="3047" y="71"/>
                </a:lnTo>
                <a:lnTo>
                  <a:pt x="3043" y="32"/>
                </a:lnTo>
                <a:lnTo>
                  <a:pt x="3039" y="3"/>
                </a:lnTo>
                <a:lnTo>
                  <a:pt x="3039" y="0"/>
                </a:lnTo>
                <a:lnTo>
                  <a:pt x="3036" y="2"/>
                </a:lnTo>
                <a:lnTo>
                  <a:pt x="3026" y="3"/>
                </a:lnTo>
                <a:lnTo>
                  <a:pt x="2988" y="7"/>
                </a:lnTo>
                <a:lnTo>
                  <a:pt x="2959" y="10"/>
                </a:lnTo>
                <a:lnTo>
                  <a:pt x="2958" y="10"/>
                </a:lnTo>
                <a:lnTo>
                  <a:pt x="2955" y="25"/>
                </a:lnTo>
                <a:lnTo>
                  <a:pt x="2950" y="52"/>
                </a:lnTo>
                <a:lnTo>
                  <a:pt x="2942" y="113"/>
                </a:lnTo>
                <a:lnTo>
                  <a:pt x="2927" y="177"/>
                </a:lnTo>
                <a:lnTo>
                  <a:pt x="2921" y="191"/>
                </a:lnTo>
                <a:lnTo>
                  <a:pt x="2920" y="193"/>
                </a:lnTo>
                <a:lnTo>
                  <a:pt x="2915" y="194"/>
                </a:lnTo>
                <a:lnTo>
                  <a:pt x="2913" y="196"/>
                </a:lnTo>
                <a:lnTo>
                  <a:pt x="2913" y="196"/>
                </a:lnTo>
                <a:lnTo>
                  <a:pt x="2911" y="197"/>
                </a:lnTo>
                <a:lnTo>
                  <a:pt x="2911" y="199"/>
                </a:lnTo>
                <a:lnTo>
                  <a:pt x="2910" y="205"/>
                </a:lnTo>
                <a:lnTo>
                  <a:pt x="2898" y="219"/>
                </a:lnTo>
                <a:lnTo>
                  <a:pt x="2869" y="231"/>
                </a:lnTo>
                <a:lnTo>
                  <a:pt x="2858" y="232"/>
                </a:lnTo>
                <a:lnTo>
                  <a:pt x="2839" y="234"/>
                </a:lnTo>
                <a:lnTo>
                  <a:pt x="2805" y="235"/>
                </a:lnTo>
                <a:lnTo>
                  <a:pt x="2772" y="239"/>
                </a:lnTo>
                <a:lnTo>
                  <a:pt x="2763" y="241"/>
                </a:lnTo>
                <a:lnTo>
                  <a:pt x="2760" y="245"/>
                </a:lnTo>
                <a:lnTo>
                  <a:pt x="2747" y="267"/>
                </a:lnTo>
                <a:lnTo>
                  <a:pt x="2704" y="339"/>
                </a:lnTo>
                <a:lnTo>
                  <a:pt x="2671" y="396"/>
                </a:lnTo>
                <a:lnTo>
                  <a:pt x="2669" y="399"/>
                </a:lnTo>
                <a:lnTo>
                  <a:pt x="2665" y="412"/>
                </a:lnTo>
                <a:lnTo>
                  <a:pt x="2658" y="432"/>
                </a:lnTo>
                <a:lnTo>
                  <a:pt x="2636" y="464"/>
                </a:lnTo>
                <a:lnTo>
                  <a:pt x="2592" y="493"/>
                </a:lnTo>
                <a:lnTo>
                  <a:pt x="2576" y="500"/>
                </a:lnTo>
                <a:lnTo>
                  <a:pt x="2575" y="502"/>
                </a:lnTo>
                <a:lnTo>
                  <a:pt x="2574" y="506"/>
                </a:lnTo>
                <a:lnTo>
                  <a:pt x="2566" y="522"/>
                </a:lnTo>
                <a:lnTo>
                  <a:pt x="2562" y="533"/>
                </a:lnTo>
                <a:lnTo>
                  <a:pt x="2562" y="533"/>
                </a:lnTo>
                <a:lnTo>
                  <a:pt x="2561" y="538"/>
                </a:lnTo>
                <a:lnTo>
                  <a:pt x="2561" y="542"/>
                </a:lnTo>
                <a:lnTo>
                  <a:pt x="2561" y="552"/>
                </a:lnTo>
                <a:lnTo>
                  <a:pt x="2561" y="573"/>
                </a:lnTo>
                <a:lnTo>
                  <a:pt x="2552" y="584"/>
                </a:lnTo>
                <a:lnTo>
                  <a:pt x="2542" y="589"/>
                </a:lnTo>
                <a:lnTo>
                  <a:pt x="2532" y="594"/>
                </a:lnTo>
                <a:lnTo>
                  <a:pt x="2503" y="613"/>
                </a:lnTo>
                <a:lnTo>
                  <a:pt x="2437" y="660"/>
                </a:lnTo>
                <a:lnTo>
                  <a:pt x="2390" y="697"/>
                </a:lnTo>
                <a:lnTo>
                  <a:pt x="2390" y="691"/>
                </a:lnTo>
                <a:lnTo>
                  <a:pt x="2391" y="671"/>
                </a:lnTo>
                <a:lnTo>
                  <a:pt x="2391" y="655"/>
                </a:lnTo>
                <a:lnTo>
                  <a:pt x="2392" y="654"/>
                </a:lnTo>
                <a:lnTo>
                  <a:pt x="2391" y="645"/>
                </a:lnTo>
                <a:lnTo>
                  <a:pt x="2391" y="626"/>
                </a:lnTo>
                <a:lnTo>
                  <a:pt x="2390" y="589"/>
                </a:lnTo>
                <a:lnTo>
                  <a:pt x="2392" y="573"/>
                </a:lnTo>
                <a:lnTo>
                  <a:pt x="2398" y="560"/>
                </a:lnTo>
                <a:lnTo>
                  <a:pt x="2404" y="554"/>
                </a:lnTo>
                <a:lnTo>
                  <a:pt x="2397" y="545"/>
                </a:lnTo>
                <a:lnTo>
                  <a:pt x="2375" y="519"/>
                </a:lnTo>
                <a:lnTo>
                  <a:pt x="2358" y="499"/>
                </a:lnTo>
                <a:lnTo>
                  <a:pt x="2358" y="497"/>
                </a:lnTo>
                <a:lnTo>
                  <a:pt x="2348" y="496"/>
                </a:lnTo>
                <a:lnTo>
                  <a:pt x="2342" y="496"/>
                </a:lnTo>
                <a:lnTo>
                  <a:pt x="2339" y="499"/>
                </a:lnTo>
                <a:lnTo>
                  <a:pt x="2339" y="500"/>
                </a:lnTo>
                <a:lnTo>
                  <a:pt x="2340" y="504"/>
                </a:lnTo>
                <a:lnTo>
                  <a:pt x="2343" y="513"/>
                </a:lnTo>
                <a:lnTo>
                  <a:pt x="2343" y="518"/>
                </a:lnTo>
                <a:lnTo>
                  <a:pt x="2340" y="523"/>
                </a:lnTo>
                <a:lnTo>
                  <a:pt x="2336" y="531"/>
                </a:lnTo>
                <a:lnTo>
                  <a:pt x="2329" y="536"/>
                </a:lnTo>
                <a:lnTo>
                  <a:pt x="2329" y="536"/>
                </a:lnTo>
                <a:lnTo>
                  <a:pt x="2321" y="538"/>
                </a:lnTo>
                <a:lnTo>
                  <a:pt x="2311" y="538"/>
                </a:lnTo>
                <a:lnTo>
                  <a:pt x="2307" y="539"/>
                </a:lnTo>
                <a:lnTo>
                  <a:pt x="2301" y="538"/>
                </a:lnTo>
                <a:lnTo>
                  <a:pt x="2297" y="533"/>
                </a:lnTo>
                <a:lnTo>
                  <a:pt x="2287" y="525"/>
                </a:lnTo>
                <a:lnTo>
                  <a:pt x="2281" y="518"/>
                </a:lnTo>
                <a:lnTo>
                  <a:pt x="2284" y="512"/>
                </a:lnTo>
                <a:lnTo>
                  <a:pt x="2291" y="494"/>
                </a:lnTo>
                <a:lnTo>
                  <a:pt x="2307" y="451"/>
                </a:lnTo>
                <a:lnTo>
                  <a:pt x="2313" y="409"/>
                </a:lnTo>
                <a:lnTo>
                  <a:pt x="2311" y="400"/>
                </a:lnTo>
                <a:lnTo>
                  <a:pt x="2303" y="396"/>
                </a:lnTo>
                <a:lnTo>
                  <a:pt x="2287" y="389"/>
                </a:lnTo>
                <a:lnTo>
                  <a:pt x="2256" y="383"/>
                </a:lnTo>
                <a:lnTo>
                  <a:pt x="2243" y="384"/>
                </a:lnTo>
                <a:lnTo>
                  <a:pt x="2232" y="390"/>
                </a:lnTo>
                <a:lnTo>
                  <a:pt x="2227" y="393"/>
                </a:lnTo>
                <a:lnTo>
                  <a:pt x="2226" y="394"/>
                </a:lnTo>
                <a:lnTo>
                  <a:pt x="2221" y="404"/>
                </a:lnTo>
                <a:lnTo>
                  <a:pt x="2206" y="438"/>
                </a:lnTo>
                <a:lnTo>
                  <a:pt x="2193" y="464"/>
                </a:lnTo>
                <a:lnTo>
                  <a:pt x="2193" y="464"/>
                </a:lnTo>
                <a:lnTo>
                  <a:pt x="2194" y="467"/>
                </a:lnTo>
                <a:lnTo>
                  <a:pt x="2194" y="468"/>
                </a:lnTo>
                <a:lnTo>
                  <a:pt x="2191" y="470"/>
                </a:lnTo>
                <a:lnTo>
                  <a:pt x="2187" y="470"/>
                </a:lnTo>
                <a:lnTo>
                  <a:pt x="2182" y="470"/>
                </a:lnTo>
                <a:lnTo>
                  <a:pt x="2172" y="468"/>
                </a:lnTo>
                <a:lnTo>
                  <a:pt x="2158" y="464"/>
                </a:lnTo>
                <a:lnTo>
                  <a:pt x="2159" y="464"/>
                </a:lnTo>
                <a:lnTo>
                  <a:pt x="2158" y="468"/>
                </a:lnTo>
                <a:lnTo>
                  <a:pt x="2158" y="480"/>
                </a:lnTo>
                <a:lnTo>
                  <a:pt x="2153" y="507"/>
                </a:lnTo>
                <a:lnTo>
                  <a:pt x="2148" y="528"/>
                </a:lnTo>
                <a:lnTo>
                  <a:pt x="2146" y="529"/>
                </a:lnTo>
                <a:lnTo>
                  <a:pt x="2145" y="532"/>
                </a:lnTo>
                <a:lnTo>
                  <a:pt x="2148" y="539"/>
                </a:lnTo>
                <a:lnTo>
                  <a:pt x="2151" y="548"/>
                </a:lnTo>
                <a:lnTo>
                  <a:pt x="2162" y="574"/>
                </a:lnTo>
                <a:lnTo>
                  <a:pt x="2185" y="631"/>
                </a:lnTo>
                <a:lnTo>
                  <a:pt x="2191" y="648"/>
                </a:lnTo>
                <a:lnTo>
                  <a:pt x="2187" y="655"/>
                </a:lnTo>
                <a:lnTo>
                  <a:pt x="2178" y="668"/>
                </a:lnTo>
                <a:lnTo>
                  <a:pt x="2158" y="691"/>
                </a:lnTo>
                <a:lnTo>
                  <a:pt x="2146" y="700"/>
                </a:lnTo>
                <a:lnTo>
                  <a:pt x="2135" y="704"/>
                </a:lnTo>
                <a:lnTo>
                  <a:pt x="2129" y="704"/>
                </a:lnTo>
                <a:lnTo>
                  <a:pt x="2122" y="704"/>
                </a:lnTo>
                <a:lnTo>
                  <a:pt x="2116" y="704"/>
                </a:lnTo>
                <a:lnTo>
                  <a:pt x="2111" y="702"/>
                </a:lnTo>
                <a:lnTo>
                  <a:pt x="2107" y="697"/>
                </a:lnTo>
                <a:lnTo>
                  <a:pt x="2104" y="693"/>
                </a:lnTo>
                <a:lnTo>
                  <a:pt x="2101" y="688"/>
                </a:lnTo>
                <a:lnTo>
                  <a:pt x="2098" y="677"/>
                </a:lnTo>
                <a:lnTo>
                  <a:pt x="2091" y="654"/>
                </a:lnTo>
                <a:lnTo>
                  <a:pt x="2091" y="654"/>
                </a:lnTo>
                <a:lnTo>
                  <a:pt x="2088" y="648"/>
                </a:lnTo>
                <a:lnTo>
                  <a:pt x="2087" y="636"/>
                </a:lnTo>
                <a:lnTo>
                  <a:pt x="2087" y="607"/>
                </a:lnTo>
                <a:lnTo>
                  <a:pt x="2090" y="536"/>
                </a:lnTo>
                <a:lnTo>
                  <a:pt x="2098" y="483"/>
                </a:lnTo>
                <a:lnTo>
                  <a:pt x="2098" y="478"/>
                </a:lnTo>
                <a:lnTo>
                  <a:pt x="2095" y="475"/>
                </a:lnTo>
                <a:lnTo>
                  <a:pt x="2093" y="475"/>
                </a:lnTo>
                <a:lnTo>
                  <a:pt x="2087" y="478"/>
                </a:lnTo>
                <a:lnTo>
                  <a:pt x="2081" y="481"/>
                </a:lnTo>
                <a:lnTo>
                  <a:pt x="2066" y="490"/>
                </a:lnTo>
                <a:lnTo>
                  <a:pt x="2053" y="496"/>
                </a:lnTo>
                <a:lnTo>
                  <a:pt x="2048" y="493"/>
                </a:lnTo>
                <a:lnTo>
                  <a:pt x="2048" y="486"/>
                </a:lnTo>
                <a:lnTo>
                  <a:pt x="2049" y="478"/>
                </a:lnTo>
                <a:lnTo>
                  <a:pt x="2055" y="462"/>
                </a:lnTo>
                <a:lnTo>
                  <a:pt x="2065" y="447"/>
                </a:lnTo>
                <a:lnTo>
                  <a:pt x="2084" y="416"/>
                </a:lnTo>
                <a:lnTo>
                  <a:pt x="2091" y="399"/>
                </a:lnTo>
                <a:lnTo>
                  <a:pt x="2116" y="389"/>
                </a:lnTo>
                <a:lnTo>
                  <a:pt x="2191" y="357"/>
                </a:lnTo>
                <a:lnTo>
                  <a:pt x="2249" y="332"/>
                </a:lnTo>
                <a:lnTo>
                  <a:pt x="2253" y="331"/>
                </a:lnTo>
                <a:lnTo>
                  <a:pt x="2256" y="329"/>
                </a:lnTo>
                <a:lnTo>
                  <a:pt x="2256" y="328"/>
                </a:lnTo>
                <a:lnTo>
                  <a:pt x="2255" y="325"/>
                </a:lnTo>
                <a:lnTo>
                  <a:pt x="2250" y="322"/>
                </a:lnTo>
                <a:lnTo>
                  <a:pt x="2243" y="319"/>
                </a:lnTo>
                <a:lnTo>
                  <a:pt x="2227" y="312"/>
                </a:lnTo>
                <a:lnTo>
                  <a:pt x="2191" y="296"/>
                </a:lnTo>
                <a:lnTo>
                  <a:pt x="2185" y="290"/>
                </a:lnTo>
                <a:lnTo>
                  <a:pt x="2190" y="291"/>
                </a:lnTo>
                <a:lnTo>
                  <a:pt x="2188" y="294"/>
                </a:lnTo>
                <a:lnTo>
                  <a:pt x="2182" y="299"/>
                </a:lnTo>
                <a:lnTo>
                  <a:pt x="2174" y="305"/>
                </a:lnTo>
                <a:lnTo>
                  <a:pt x="2149" y="316"/>
                </a:lnTo>
                <a:lnTo>
                  <a:pt x="2108" y="335"/>
                </a:lnTo>
                <a:lnTo>
                  <a:pt x="2113" y="335"/>
                </a:lnTo>
                <a:lnTo>
                  <a:pt x="2100" y="335"/>
                </a:lnTo>
                <a:lnTo>
                  <a:pt x="2085" y="335"/>
                </a:lnTo>
                <a:lnTo>
                  <a:pt x="2081" y="335"/>
                </a:lnTo>
                <a:lnTo>
                  <a:pt x="2077" y="332"/>
                </a:lnTo>
                <a:lnTo>
                  <a:pt x="2075" y="331"/>
                </a:lnTo>
                <a:lnTo>
                  <a:pt x="2071" y="325"/>
                </a:lnTo>
                <a:lnTo>
                  <a:pt x="2058" y="316"/>
                </a:lnTo>
                <a:lnTo>
                  <a:pt x="2048" y="310"/>
                </a:lnTo>
                <a:lnTo>
                  <a:pt x="2045" y="312"/>
                </a:lnTo>
                <a:lnTo>
                  <a:pt x="2043" y="315"/>
                </a:lnTo>
                <a:lnTo>
                  <a:pt x="2039" y="322"/>
                </a:lnTo>
                <a:lnTo>
                  <a:pt x="2029" y="329"/>
                </a:lnTo>
                <a:lnTo>
                  <a:pt x="2013" y="335"/>
                </a:lnTo>
                <a:lnTo>
                  <a:pt x="2004" y="335"/>
                </a:lnTo>
                <a:lnTo>
                  <a:pt x="2006" y="328"/>
                </a:lnTo>
                <a:lnTo>
                  <a:pt x="2013" y="305"/>
                </a:lnTo>
                <a:lnTo>
                  <a:pt x="2017" y="286"/>
                </a:lnTo>
                <a:lnTo>
                  <a:pt x="2019" y="284"/>
                </a:lnTo>
                <a:lnTo>
                  <a:pt x="2006" y="296"/>
                </a:lnTo>
                <a:lnTo>
                  <a:pt x="1987" y="315"/>
                </a:lnTo>
                <a:lnTo>
                  <a:pt x="1951" y="339"/>
                </a:lnTo>
                <a:lnTo>
                  <a:pt x="1910" y="358"/>
                </a:lnTo>
                <a:lnTo>
                  <a:pt x="1897" y="364"/>
                </a:lnTo>
                <a:lnTo>
                  <a:pt x="1898" y="349"/>
                </a:lnTo>
                <a:lnTo>
                  <a:pt x="1900" y="332"/>
                </a:lnTo>
                <a:lnTo>
                  <a:pt x="1901" y="323"/>
                </a:lnTo>
                <a:lnTo>
                  <a:pt x="1903" y="323"/>
                </a:lnTo>
                <a:lnTo>
                  <a:pt x="1906" y="325"/>
                </a:lnTo>
                <a:lnTo>
                  <a:pt x="1907" y="326"/>
                </a:lnTo>
                <a:lnTo>
                  <a:pt x="1910" y="328"/>
                </a:lnTo>
                <a:lnTo>
                  <a:pt x="1914" y="328"/>
                </a:lnTo>
                <a:lnTo>
                  <a:pt x="1917" y="326"/>
                </a:lnTo>
                <a:lnTo>
                  <a:pt x="1907" y="331"/>
                </a:lnTo>
                <a:lnTo>
                  <a:pt x="1893" y="336"/>
                </a:lnTo>
                <a:lnTo>
                  <a:pt x="1872" y="339"/>
                </a:lnTo>
                <a:lnTo>
                  <a:pt x="1845" y="339"/>
                </a:lnTo>
                <a:lnTo>
                  <a:pt x="1835" y="338"/>
                </a:lnTo>
                <a:lnTo>
                  <a:pt x="1839" y="329"/>
                </a:lnTo>
                <a:lnTo>
                  <a:pt x="1853" y="310"/>
                </a:lnTo>
                <a:lnTo>
                  <a:pt x="1872" y="291"/>
                </a:lnTo>
                <a:lnTo>
                  <a:pt x="1916" y="258"/>
                </a:lnTo>
                <a:lnTo>
                  <a:pt x="1951" y="236"/>
                </a:lnTo>
                <a:lnTo>
                  <a:pt x="1948" y="238"/>
                </a:lnTo>
                <a:lnTo>
                  <a:pt x="1933" y="239"/>
                </a:lnTo>
                <a:lnTo>
                  <a:pt x="1881" y="244"/>
                </a:lnTo>
                <a:lnTo>
                  <a:pt x="1842" y="248"/>
                </a:lnTo>
                <a:lnTo>
                  <a:pt x="1840" y="248"/>
                </a:lnTo>
                <a:lnTo>
                  <a:pt x="1836" y="248"/>
                </a:lnTo>
                <a:lnTo>
                  <a:pt x="1817" y="244"/>
                </a:lnTo>
                <a:lnTo>
                  <a:pt x="1748" y="228"/>
                </a:lnTo>
                <a:lnTo>
                  <a:pt x="1696" y="216"/>
                </a:lnTo>
                <a:lnTo>
                  <a:pt x="1693" y="215"/>
                </a:lnTo>
                <a:lnTo>
                  <a:pt x="1691" y="206"/>
                </a:lnTo>
                <a:lnTo>
                  <a:pt x="1690" y="180"/>
                </a:lnTo>
                <a:lnTo>
                  <a:pt x="1688" y="160"/>
                </a:lnTo>
                <a:lnTo>
                  <a:pt x="1688" y="158"/>
                </a:lnTo>
                <a:lnTo>
                  <a:pt x="1687" y="158"/>
                </a:lnTo>
                <a:lnTo>
                  <a:pt x="1680" y="158"/>
                </a:lnTo>
                <a:lnTo>
                  <a:pt x="1656" y="158"/>
                </a:lnTo>
                <a:lnTo>
                  <a:pt x="1639" y="158"/>
                </a:lnTo>
                <a:lnTo>
                  <a:pt x="1639" y="157"/>
                </a:lnTo>
                <a:lnTo>
                  <a:pt x="1636" y="164"/>
                </a:lnTo>
                <a:lnTo>
                  <a:pt x="1632" y="186"/>
                </a:lnTo>
                <a:lnTo>
                  <a:pt x="1629" y="203"/>
                </a:lnTo>
                <a:lnTo>
                  <a:pt x="1629" y="203"/>
                </a:lnTo>
                <a:lnTo>
                  <a:pt x="1619" y="205"/>
                </a:lnTo>
                <a:lnTo>
                  <a:pt x="1552" y="205"/>
                </a:lnTo>
                <a:lnTo>
                  <a:pt x="1325" y="209"/>
                </a:lnTo>
                <a:lnTo>
                  <a:pt x="1151" y="210"/>
                </a:lnTo>
                <a:lnTo>
                  <a:pt x="1142" y="210"/>
                </a:lnTo>
                <a:lnTo>
                  <a:pt x="1125" y="209"/>
                </a:lnTo>
                <a:lnTo>
                  <a:pt x="1007" y="189"/>
                </a:lnTo>
                <a:lnTo>
                  <a:pt x="607" y="120"/>
                </a:lnTo>
                <a:lnTo>
                  <a:pt x="303" y="68"/>
                </a:lnTo>
                <a:lnTo>
                  <a:pt x="287" y="65"/>
                </a:lnTo>
                <a:lnTo>
                  <a:pt x="290" y="74"/>
                </a:lnTo>
                <a:lnTo>
                  <a:pt x="295" y="91"/>
                </a:lnTo>
                <a:lnTo>
                  <a:pt x="296" y="106"/>
                </a:lnTo>
                <a:lnTo>
                  <a:pt x="295" y="120"/>
                </a:lnTo>
                <a:lnTo>
                  <a:pt x="293" y="147"/>
                </a:lnTo>
                <a:lnTo>
                  <a:pt x="296" y="151"/>
                </a:lnTo>
                <a:lnTo>
                  <a:pt x="296" y="157"/>
                </a:lnTo>
                <a:lnTo>
                  <a:pt x="293" y="161"/>
                </a:lnTo>
                <a:lnTo>
                  <a:pt x="289" y="165"/>
                </a:lnTo>
                <a:lnTo>
                  <a:pt x="282" y="170"/>
                </a:lnTo>
                <a:lnTo>
                  <a:pt x="264" y="177"/>
                </a:lnTo>
                <a:lnTo>
                  <a:pt x="234" y="187"/>
                </a:lnTo>
                <a:lnTo>
                  <a:pt x="231" y="189"/>
                </a:lnTo>
                <a:lnTo>
                  <a:pt x="229" y="186"/>
                </a:lnTo>
                <a:lnTo>
                  <a:pt x="231" y="181"/>
                </a:lnTo>
                <a:lnTo>
                  <a:pt x="234" y="177"/>
                </a:lnTo>
                <a:lnTo>
                  <a:pt x="238" y="173"/>
                </a:lnTo>
                <a:lnTo>
                  <a:pt x="247" y="161"/>
                </a:lnTo>
                <a:lnTo>
                  <a:pt x="255" y="149"/>
                </a:lnTo>
                <a:lnTo>
                  <a:pt x="258" y="135"/>
                </a:lnTo>
                <a:lnTo>
                  <a:pt x="257" y="126"/>
                </a:lnTo>
                <a:lnTo>
                  <a:pt x="254" y="118"/>
                </a:lnTo>
                <a:lnTo>
                  <a:pt x="254" y="118"/>
                </a:lnTo>
                <a:lnTo>
                  <a:pt x="247" y="109"/>
                </a:lnTo>
                <a:lnTo>
                  <a:pt x="231" y="93"/>
                </a:lnTo>
                <a:lnTo>
                  <a:pt x="212" y="78"/>
                </a:lnTo>
                <a:lnTo>
                  <a:pt x="193" y="68"/>
                </a:lnTo>
                <a:lnTo>
                  <a:pt x="176" y="63"/>
                </a:lnTo>
                <a:lnTo>
                  <a:pt x="170" y="63"/>
                </a:lnTo>
                <a:lnTo>
                  <a:pt x="167" y="63"/>
                </a:lnTo>
                <a:lnTo>
                  <a:pt x="166" y="64"/>
                </a:lnTo>
                <a:lnTo>
                  <a:pt x="164" y="65"/>
                </a:lnTo>
                <a:lnTo>
                  <a:pt x="164" y="67"/>
                </a:lnTo>
                <a:lnTo>
                  <a:pt x="164" y="67"/>
                </a:lnTo>
                <a:lnTo>
                  <a:pt x="161" y="78"/>
                </a:lnTo>
                <a:lnTo>
                  <a:pt x="158" y="109"/>
                </a:lnTo>
                <a:lnTo>
                  <a:pt x="155" y="191"/>
                </a:lnTo>
                <a:lnTo>
                  <a:pt x="155" y="265"/>
                </a:lnTo>
                <a:lnTo>
                  <a:pt x="155" y="277"/>
                </a:lnTo>
                <a:lnTo>
                  <a:pt x="154" y="299"/>
                </a:lnTo>
                <a:lnTo>
                  <a:pt x="145" y="341"/>
                </a:lnTo>
                <a:lnTo>
                  <a:pt x="129" y="381"/>
                </a:lnTo>
                <a:lnTo>
                  <a:pt x="80" y="458"/>
                </a:lnTo>
                <a:lnTo>
                  <a:pt x="34" y="510"/>
                </a:lnTo>
                <a:lnTo>
                  <a:pt x="42" y="523"/>
                </a:lnTo>
                <a:lnTo>
                  <a:pt x="48" y="535"/>
                </a:lnTo>
                <a:lnTo>
                  <a:pt x="50" y="549"/>
                </a:lnTo>
                <a:lnTo>
                  <a:pt x="50" y="562"/>
                </a:lnTo>
                <a:lnTo>
                  <a:pt x="47" y="575"/>
                </a:lnTo>
                <a:lnTo>
                  <a:pt x="37" y="603"/>
                </a:lnTo>
                <a:lnTo>
                  <a:pt x="22" y="631"/>
                </a:lnTo>
                <a:lnTo>
                  <a:pt x="9" y="655"/>
                </a:lnTo>
                <a:lnTo>
                  <a:pt x="5" y="667"/>
                </a:lnTo>
                <a:lnTo>
                  <a:pt x="0" y="667"/>
                </a:lnTo>
                <a:lnTo>
                  <a:pt x="0" y="671"/>
                </a:lnTo>
                <a:lnTo>
                  <a:pt x="0" y="675"/>
                </a:lnTo>
                <a:lnTo>
                  <a:pt x="5" y="691"/>
                </a:lnTo>
                <a:lnTo>
                  <a:pt x="16" y="738"/>
                </a:lnTo>
                <a:lnTo>
                  <a:pt x="48" y="835"/>
                </a:lnTo>
                <a:lnTo>
                  <a:pt x="60" y="851"/>
                </a:lnTo>
                <a:lnTo>
                  <a:pt x="58" y="857"/>
                </a:lnTo>
                <a:lnTo>
                  <a:pt x="58" y="868"/>
                </a:lnTo>
                <a:lnTo>
                  <a:pt x="54" y="896"/>
                </a:lnTo>
                <a:lnTo>
                  <a:pt x="51" y="920"/>
                </a:lnTo>
                <a:lnTo>
                  <a:pt x="51" y="925"/>
                </a:lnTo>
                <a:lnTo>
                  <a:pt x="57" y="932"/>
                </a:lnTo>
                <a:lnTo>
                  <a:pt x="70" y="946"/>
                </a:lnTo>
                <a:lnTo>
                  <a:pt x="80" y="961"/>
                </a:lnTo>
                <a:lnTo>
                  <a:pt x="86" y="975"/>
                </a:lnTo>
                <a:lnTo>
                  <a:pt x="84" y="991"/>
                </a:lnTo>
                <a:lnTo>
                  <a:pt x="76" y="1007"/>
                </a:lnTo>
                <a:lnTo>
                  <a:pt x="69" y="1016"/>
                </a:lnTo>
                <a:lnTo>
                  <a:pt x="77" y="1026"/>
                </a:lnTo>
                <a:lnTo>
                  <a:pt x="93" y="1045"/>
                </a:lnTo>
                <a:lnTo>
                  <a:pt x="118" y="1086"/>
                </a:lnTo>
                <a:lnTo>
                  <a:pt x="125" y="1132"/>
                </a:lnTo>
                <a:lnTo>
                  <a:pt x="124" y="1145"/>
                </a:lnTo>
                <a:lnTo>
                  <a:pt x="124" y="1148"/>
                </a:lnTo>
                <a:lnTo>
                  <a:pt x="125" y="1154"/>
                </a:lnTo>
                <a:lnTo>
                  <a:pt x="128" y="1159"/>
                </a:lnTo>
                <a:lnTo>
                  <a:pt x="135" y="1170"/>
                </a:lnTo>
                <a:lnTo>
                  <a:pt x="142" y="1172"/>
                </a:lnTo>
                <a:lnTo>
                  <a:pt x="158" y="1183"/>
                </a:lnTo>
                <a:lnTo>
                  <a:pt x="199" y="1209"/>
                </a:lnTo>
                <a:lnTo>
                  <a:pt x="279" y="1280"/>
                </a:lnTo>
                <a:lnTo>
                  <a:pt x="305" y="1317"/>
                </a:lnTo>
                <a:lnTo>
                  <a:pt x="312" y="1335"/>
                </a:lnTo>
                <a:lnTo>
                  <a:pt x="313" y="1352"/>
                </a:lnTo>
                <a:lnTo>
                  <a:pt x="310" y="1367"/>
                </a:lnTo>
                <a:lnTo>
                  <a:pt x="310" y="1367"/>
                </a:lnTo>
                <a:lnTo>
                  <a:pt x="313" y="1367"/>
                </a:lnTo>
                <a:lnTo>
                  <a:pt x="335" y="1367"/>
                </a:lnTo>
                <a:lnTo>
                  <a:pt x="410" y="1367"/>
                </a:lnTo>
                <a:lnTo>
                  <a:pt x="468" y="1367"/>
                </a:lnTo>
                <a:lnTo>
                  <a:pt x="473" y="1365"/>
                </a:lnTo>
                <a:lnTo>
                  <a:pt x="480" y="1374"/>
                </a:lnTo>
                <a:lnTo>
                  <a:pt x="506" y="1397"/>
                </a:lnTo>
                <a:lnTo>
                  <a:pt x="526" y="1416"/>
                </a:lnTo>
                <a:lnTo>
                  <a:pt x="528" y="1416"/>
                </a:lnTo>
                <a:lnTo>
                  <a:pt x="534" y="1419"/>
                </a:lnTo>
                <a:lnTo>
                  <a:pt x="554" y="1427"/>
                </a:lnTo>
                <a:lnTo>
                  <a:pt x="570" y="1433"/>
                </a:lnTo>
                <a:lnTo>
                  <a:pt x="571" y="1433"/>
                </a:lnTo>
                <a:lnTo>
                  <a:pt x="583" y="1441"/>
                </a:lnTo>
                <a:lnTo>
                  <a:pt x="612" y="1461"/>
                </a:lnTo>
                <a:lnTo>
                  <a:pt x="678" y="1510"/>
                </a:lnTo>
                <a:lnTo>
                  <a:pt x="744" y="1545"/>
                </a:lnTo>
                <a:lnTo>
                  <a:pt x="758" y="1546"/>
                </a:lnTo>
                <a:lnTo>
                  <a:pt x="760" y="1546"/>
                </a:lnTo>
                <a:lnTo>
                  <a:pt x="773" y="1546"/>
                </a:lnTo>
                <a:lnTo>
                  <a:pt x="815" y="1546"/>
                </a:lnTo>
                <a:lnTo>
                  <a:pt x="848" y="1546"/>
                </a:lnTo>
                <a:lnTo>
                  <a:pt x="851" y="1546"/>
                </a:lnTo>
                <a:lnTo>
                  <a:pt x="858" y="1546"/>
                </a:lnTo>
                <a:lnTo>
                  <a:pt x="865" y="1543"/>
                </a:lnTo>
                <a:lnTo>
                  <a:pt x="871" y="1541"/>
                </a:lnTo>
                <a:lnTo>
                  <a:pt x="876" y="1536"/>
                </a:lnTo>
                <a:lnTo>
                  <a:pt x="884" y="1527"/>
                </a:lnTo>
                <a:lnTo>
                  <a:pt x="893" y="1517"/>
                </a:lnTo>
                <a:lnTo>
                  <a:pt x="900" y="1510"/>
                </a:lnTo>
                <a:lnTo>
                  <a:pt x="909" y="1507"/>
                </a:lnTo>
                <a:lnTo>
                  <a:pt x="910" y="1507"/>
                </a:lnTo>
                <a:lnTo>
                  <a:pt x="929" y="1509"/>
                </a:lnTo>
                <a:lnTo>
                  <a:pt x="960" y="1510"/>
                </a:lnTo>
                <a:lnTo>
                  <a:pt x="1002" y="1527"/>
                </a:lnTo>
                <a:lnTo>
                  <a:pt x="1041" y="1559"/>
                </a:lnTo>
                <a:lnTo>
                  <a:pt x="1054" y="1569"/>
                </a:lnTo>
                <a:lnTo>
                  <a:pt x="1055" y="1572"/>
                </a:lnTo>
                <a:lnTo>
                  <a:pt x="1067" y="1590"/>
                </a:lnTo>
                <a:lnTo>
                  <a:pt x="1107" y="1649"/>
                </a:lnTo>
                <a:lnTo>
                  <a:pt x="1138" y="1696"/>
                </a:lnTo>
                <a:lnTo>
                  <a:pt x="1141" y="1697"/>
                </a:lnTo>
                <a:lnTo>
                  <a:pt x="1142" y="1700"/>
                </a:lnTo>
                <a:lnTo>
                  <a:pt x="1152" y="1709"/>
                </a:lnTo>
                <a:lnTo>
                  <a:pt x="1186" y="1732"/>
                </a:lnTo>
                <a:lnTo>
                  <a:pt x="1202" y="1738"/>
                </a:lnTo>
                <a:lnTo>
                  <a:pt x="1209" y="1739"/>
                </a:lnTo>
                <a:lnTo>
                  <a:pt x="1216" y="1738"/>
                </a:lnTo>
                <a:lnTo>
                  <a:pt x="1220" y="1733"/>
                </a:lnTo>
                <a:lnTo>
                  <a:pt x="1222" y="1733"/>
                </a:lnTo>
                <a:lnTo>
                  <a:pt x="1228" y="1726"/>
                </a:lnTo>
                <a:lnTo>
                  <a:pt x="1245" y="1706"/>
                </a:lnTo>
                <a:lnTo>
                  <a:pt x="1259" y="1688"/>
                </a:lnTo>
                <a:lnTo>
                  <a:pt x="1261" y="1687"/>
                </a:lnTo>
                <a:lnTo>
                  <a:pt x="1265" y="1685"/>
                </a:lnTo>
                <a:lnTo>
                  <a:pt x="1273" y="1684"/>
                </a:lnTo>
                <a:lnTo>
                  <a:pt x="1283" y="1685"/>
                </a:lnTo>
                <a:lnTo>
                  <a:pt x="1309" y="1690"/>
                </a:lnTo>
                <a:lnTo>
                  <a:pt x="1362" y="1706"/>
                </a:lnTo>
                <a:lnTo>
                  <a:pt x="1383" y="1722"/>
                </a:lnTo>
                <a:lnTo>
                  <a:pt x="1383" y="1726"/>
                </a:lnTo>
                <a:lnTo>
                  <a:pt x="1384" y="1733"/>
                </a:lnTo>
                <a:lnTo>
                  <a:pt x="1383" y="1740"/>
                </a:lnTo>
                <a:lnTo>
                  <a:pt x="1381" y="1746"/>
                </a:lnTo>
                <a:lnTo>
                  <a:pt x="1380" y="1761"/>
                </a:lnTo>
                <a:lnTo>
                  <a:pt x="1381" y="1765"/>
                </a:lnTo>
                <a:lnTo>
                  <a:pt x="1386" y="1772"/>
                </a:lnTo>
                <a:lnTo>
                  <a:pt x="1401" y="1791"/>
                </a:lnTo>
                <a:lnTo>
                  <a:pt x="1438" y="1836"/>
                </a:lnTo>
                <a:lnTo>
                  <a:pt x="1464" y="1869"/>
                </a:lnTo>
                <a:lnTo>
                  <a:pt x="1465" y="1871"/>
                </a:lnTo>
                <a:lnTo>
                  <a:pt x="1464" y="1881"/>
                </a:lnTo>
                <a:lnTo>
                  <a:pt x="1464" y="1907"/>
                </a:lnTo>
                <a:lnTo>
                  <a:pt x="1464" y="1927"/>
                </a:lnTo>
                <a:lnTo>
                  <a:pt x="1464" y="1927"/>
                </a:lnTo>
                <a:lnTo>
                  <a:pt x="1483" y="1932"/>
                </a:lnTo>
                <a:lnTo>
                  <a:pt x="1509" y="1935"/>
                </a:lnTo>
                <a:lnTo>
                  <a:pt x="1541" y="1945"/>
                </a:lnTo>
                <a:lnTo>
                  <a:pt x="1587" y="1965"/>
                </a:lnTo>
                <a:lnTo>
                  <a:pt x="1607" y="1974"/>
                </a:lnTo>
                <a:lnTo>
                  <a:pt x="1623" y="1980"/>
                </a:lnTo>
                <a:lnTo>
                  <a:pt x="1635" y="1980"/>
                </a:lnTo>
                <a:lnTo>
                  <a:pt x="1639" y="1980"/>
                </a:lnTo>
                <a:lnTo>
                  <a:pt x="1642" y="1978"/>
                </a:lnTo>
                <a:lnTo>
                  <a:pt x="1643" y="1975"/>
                </a:lnTo>
                <a:lnTo>
                  <a:pt x="1643" y="1972"/>
                </a:lnTo>
                <a:lnTo>
                  <a:pt x="1643" y="1969"/>
                </a:lnTo>
                <a:lnTo>
                  <a:pt x="1642" y="1967"/>
                </a:lnTo>
                <a:lnTo>
                  <a:pt x="1639" y="1958"/>
                </a:lnTo>
                <a:lnTo>
                  <a:pt x="1633" y="1949"/>
                </a:lnTo>
                <a:lnTo>
                  <a:pt x="1622" y="1933"/>
                </a:lnTo>
                <a:lnTo>
                  <a:pt x="1613" y="1920"/>
                </a:lnTo>
                <a:lnTo>
                  <a:pt x="1612" y="1917"/>
                </a:lnTo>
                <a:lnTo>
                  <a:pt x="1612" y="1917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05600" y="3429000"/>
            <a:ext cx="33480" cy="58680"/>
          </a:xfrm>
          <a:custGeom>
            <a:avLst/>
            <a:gdLst/>
            <a:ahLst/>
            <a:rect l="l" t="t" r="r" b="b"/>
            <a:pathLst>
              <a:path w="99" h="181">
                <a:moveTo>
                  <a:pt x="99" y="6"/>
                </a:moveTo>
                <a:lnTo>
                  <a:pt x="94" y="4"/>
                </a:lnTo>
                <a:lnTo>
                  <a:pt x="90" y="1"/>
                </a:lnTo>
                <a:lnTo>
                  <a:pt x="80" y="0"/>
                </a:lnTo>
                <a:lnTo>
                  <a:pt x="70" y="0"/>
                </a:lnTo>
                <a:lnTo>
                  <a:pt x="48" y="1"/>
                </a:lnTo>
                <a:lnTo>
                  <a:pt x="39" y="1"/>
                </a:lnTo>
                <a:lnTo>
                  <a:pt x="38" y="3"/>
                </a:lnTo>
                <a:lnTo>
                  <a:pt x="33" y="7"/>
                </a:lnTo>
                <a:lnTo>
                  <a:pt x="32" y="8"/>
                </a:lnTo>
                <a:lnTo>
                  <a:pt x="32" y="8"/>
                </a:lnTo>
                <a:lnTo>
                  <a:pt x="32" y="11"/>
                </a:lnTo>
                <a:lnTo>
                  <a:pt x="32" y="17"/>
                </a:lnTo>
                <a:lnTo>
                  <a:pt x="32" y="32"/>
                </a:lnTo>
                <a:lnTo>
                  <a:pt x="31" y="42"/>
                </a:lnTo>
                <a:lnTo>
                  <a:pt x="31" y="43"/>
                </a:lnTo>
                <a:lnTo>
                  <a:pt x="28" y="48"/>
                </a:lnTo>
                <a:lnTo>
                  <a:pt x="26" y="49"/>
                </a:lnTo>
                <a:lnTo>
                  <a:pt x="17" y="53"/>
                </a:lnTo>
                <a:lnTo>
                  <a:pt x="2" y="64"/>
                </a:lnTo>
                <a:lnTo>
                  <a:pt x="0" y="69"/>
                </a:lnTo>
                <a:lnTo>
                  <a:pt x="3" y="78"/>
                </a:lnTo>
                <a:lnTo>
                  <a:pt x="6" y="88"/>
                </a:lnTo>
                <a:lnTo>
                  <a:pt x="9" y="111"/>
                </a:lnTo>
                <a:lnTo>
                  <a:pt x="7" y="136"/>
                </a:lnTo>
                <a:lnTo>
                  <a:pt x="3" y="175"/>
                </a:lnTo>
                <a:lnTo>
                  <a:pt x="3" y="181"/>
                </a:lnTo>
                <a:lnTo>
                  <a:pt x="13" y="181"/>
                </a:lnTo>
                <a:lnTo>
                  <a:pt x="48" y="181"/>
                </a:lnTo>
                <a:lnTo>
                  <a:pt x="74" y="181"/>
                </a:lnTo>
                <a:lnTo>
                  <a:pt x="75" y="179"/>
                </a:lnTo>
                <a:lnTo>
                  <a:pt x="78" y="177"/>
                </a:lnTo>
                <a:lnTo>
                  <a:pt x="88" y="166"/>
                </a:lnTo>
                <a:lnTo>
                  <a:pt x="96" y="159"/>
                </a:lnTo>
                <a:lnTo>
                  <a:pt x="97" y="158"/>
                </a:lnTo>
                <a:lnTo>
                  <a:pt x="94" y="145"/>
                </a:lnTo>
                <a:lnTo>
                  <a:pt x="93" y="119"/>
                </a:lnTo>
                <a:lnTo>
                  <a:pt x="96" y="69"/>
                </a:lnTo>
                <a:lnTo>
                  <a:pt x="99" y="20"/>
                </a:lnTo>
                <a:lnTo>
                  <a:pt x="99" y="6"/>
                </a:lnTo>
                <a:lnTo>
                  <a:pt x="99" y="6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40320" y="3063960"/>
            <a:ext cx="720720" cy="471240"/>
          </a:xfrm>
          <a:custGeom>
            <a:avLst/>
            <a:gdLst/>
            <a:ahLst/>
            <a:rect l="l" t="t" r="r" b="b"/>
            <a:pathLst>
              <a:path w="2093" h="1439">
                <a:moveTo>
                  <a:pt x="1847" y="1319"/>
                </a:moveTo>
                <a:lnTo>
                  <a:pt x="1847" y="1314"/>
                </a:lnTo>
                <a:lnTo>
                  <a:pt x="1850" y="1297"/>
                </a:lnTo>
                <a:lnTo>
                  <a:pt x="1851" y="1284"/>
                </a:lnTo>
                <a:lnTo>
                  <a:pt x="1853" y="1283"/>
                </a:lnTo>
                <a:lnTo>
                  <a:pt x="1851" y="1278"/>
                </a:lnTo>
                <a:lnTo>
                  <a:pt x="1848" y="1274"/>
                </a:lnTo>
                <a:lnTo>
                  <a:pt x="1844" y="1271"/>
                </a:lnTo>
                <a:lnTo>
                  <a:pt x="1838" y="1267"/>
                </a:lnTo>
                <a:lnTo>
                  <a:pt x="1825" y="1258"/>
                </a:lnTo>
                <a:lnTo>
                  <a:pt x="1812" y="1249"/>
                </a:lnTo>
                <a:lnTo>
                  <a:pt x="1801" y="1241"/>
                </a:lnTo>
                <a:lnTo>
                  <a:pt x="1798" y="1227"/>
                </a:lnTo>
                <a:lnTo>
                  <a:pt x="1798" y="1227"/>
                </a:lnTo>
                <a:lnTo>
                  <a:pt x="1802" y="1220"/>
                </a:lnTo>
                <a:lnTo>
                  <a:pt x="1817" y="1197"/>
                </a:lnTo>
                <a:lnTo>
                  <a:pt x="1828" y="1180"/>
                </a:lnTo>
                <a:lnTo>
                  <a:pt x="1830" y="1178"/>
                </a:lnTo>
                <a:lnTo>
                  <a:pt x="1844" y="1180"/>
                </a:lnTo>
                <a:lnTo>
                  <a:pt x="1890" y="1183"/>
                </a:lnTo>
                <a:lnTo>
                  <a:pt x="1925" y="1184"/>
                </a:lnTo>
                <a:lnTo>
                  <a:pt x="1928" y="1184"/>
                </a:lnTo>
                <a:lnTo>
                  <a:pt x="1932" y="1181"/>
                </a:lnTo>
                <a:lnTo>
                  <a:pt x="1947" y="1171"/>
                </a:lnTo>
                <a:lnTo>
                  <a:pt x="1959" y="1164"/>
                </a:lnTo>
                <a:lnTo>
                  <a:pt x="1960" y="1162"/>
                </a:lnTo>
                <a:lnTo>
                  <a:pt x="1959" y="1152"/>
                </a:lnTo>
                <a:lnTo>
                  <a:pt x="1960" y="1135"/>
                </a:lnTo>
                <a:lnTo>
                  <a:pt x="1961" y="1126"/>
                </a:lnTo>
                <a:lnTo>
                  <a:pt x="1964" y="1122"/>
                </a:lnTo>
                <a:lnTo>
                  <a:pt x="1967" y="1120"/>
                </a:lnTo>
                <a:lnTo>
                  <a:pt x="1976" y="1120"/>
                </a:lnTo>
                <a:lnTo>
                  <a:pt x="2002" y="1120"/>
                </a:lnTo>
                <a:lnTo>
                  <a:pt x="2022" y="1120"/>
                </a:lnTo>
                <a:lnTo>
                  <a:pt x="2024" y="1119"/>
                </a:lnTo>
                <a:lnTo>
                  <a:pt x="2024" y="1101"/>
                </a:lnTo>
                <a:lnTo>
                  <a:pt x="2031" y="1065"/>
                </a:lnTo>
                <a:lnTo>
                  <a:pt x="2057" y="997"/>
                </a:lnTo>
                <a:lnTo>
                  <a:pt x="2085" y="935"/>
                </a:lnTo>
                <a:lnTo>
                  <a:pt x="2090" y="920"/>
                </a:lnTo>
                <a:lnTo>
                  <a:pt x="2093" y="899"/>
                </a:lnTo>
                <a:lnTo>
                  <a:pt x="2089" y="881"/>
                </a:lnTo>
                <a:lnTo>
                  <a:pt x="2080" y="870"/>
                </a:lnTo>
                <a:lnTo>
                  <a:pt x="2067" y="862"/>
                </a:lnTo>
                <a:lnTo>
                  <a:pt x="2051" y="858"/>
                </a:lnTo>
                <a:lnTo>
                  <a:pt x="2032" y="857"/>
                </a:lnTo>
                <a:lnTo>
                  <a:pt x="1993" y="861"/>
                </a:lnTo>
                <a:lnTo>
                  <a:pt x="1957" y="868"/>
                </a:lnTo>
                <a:lnTo>
                  <a:pt x="1935" y="874"/>
                </a:lnTo>
                <a:lnTo>
                  <a:pt x="1935" y="874"/>
                </a:lnTo>
                <a:lnTo>
                  <a:pt x="1908" y="886"/>
                </a:lnTo>
                <a:lnTo>
                  <a:pt x="1869" y="909"/>
                </a:lnTo>
                <a:lnTo>
                  <a:pt x="1846" y="935"/>
                </a:lnTo>
                <a:lnTo>
                  <a:pt x="1832" y="964"/>
                </a:lnTo>
                <a:lnTo>
                  <a:pt x="1824" y="1000"/>
                </a:lnTo>
                <a:lnTo>
                  <a:pt x="1812" y="1043"/>
                </a:lnTo>
                <a:lnTo>
                  <a:pt x="1805" y="1070"/>
                </a:lnTo>
                <a:lnTo>
                  <a:pt x="1802" y="1074"/>
                </a:lnTo>
                <a:lnTo>
                  <a:pt x="1799" y="1077"/>
                </a:lnTo>
                <a:lnTo>
                  <a:pt x="1795" y="1081"/>
                </a:lnTo>
                <a:lnTo>
                  <a:pt x="1785" y="1087"/>
                </a:lnTo>
                <a:lnTo>
                  <a:pt x="1754" y="1101"/>
                </a:lnTo>
                <a:lnTo>
                  <a:pt x="1679" y="1127"/>
                </a:lnTo>
                <a:lnTo>
                  <a:pt x="1634" y="1141"/>
                </a:lnTo>
                <a:lnTo>
                  <a:pt x="1622" y="1142"/>
                </a:lnTo>
                <a:lnTo>
                  <a:pt x="1606" y="1143"/>
                </a:lnTo>
                <a:lnTo>
                  <a:pt x="1595" y="1149"/>
                </a:lnTo>
                <a:lnTo>
                  <a:pt x="1583" y="1155"/>
                </a:lnTo>
                <a:lnTo>
                  <a:pt x="1548" y="1174"/>
                </a:lnTo>
                <a:lnTo>
                  <a:pt x="1534" y="1178"/>
                </a:lnTo>
                <a:lnTo>
                  <a:pt x="1522" y="1170"/>
                </a:lnTo>
                <a:lnTo>
                  <a:pt x="1511" y="1162"/>
                </a:lnTo>
                <a:lnTo>
                  <a:pt x="1482" y="1148"/>
                </a:lnTo>
                <a:lnTo>
                  <a:pt x="1427" y="1117"/>
                </a:lnTo>
                <a:lnTo>
                  <a:pt x="1407" y="1068"/>
                </a:lnTo>
                <a:lnTo>
                  <a:pt x="1360" y="1062"/>
                </a:lnTo>
                <a:lnTo>
                  <a:pt x="1327" y="1043"/>
                </a:lnTo>
                <a:lnTo>
                  <a:pt x="1302" y="1013"/>
                </a:lnTo>
                <a:lnTo>
                  <a:pt x="1288" y="977"/>
                </a:lnTo>
                <a:lnTo>
                  <a:pt x="1279" y="933"/>
                </a:lnTo>
                <a:lnTo>
                  <a:pt x="1276" y="887"/>
                </a:lnTo>
                <a:lnTo>
                  <a:pt x="1283" y="790"/>
                </a:lnTo>
                <a:lnTo>
                  <a:pt x="1301" y="646"/>
                </a:lnTo>
                <a:lnTo>
                  <a:pt x="1302" y="646"/>
                </a:lnTo>
                <a:lnTo>
                  <a:pt x="1302" y="642"/>
                </a:lnTo>
                <a:lnTo>
                  <a:pt x="1304" y="639"/>
                </a:lnTo>
                <a:lnTo>
                  <a:pt x="1307" y="632"/>
                </a:lnTo>
                <a:lnTo>
                  <a:pt x="1309" y="625"/>
                </a:lnTo>
                <a:lnTo>
                  <a:pt x="1309" y="617"/>
                </a:lnTo>
                <a:lnTo>
                  <a:pt x="1307" y="612"/>
                </a:lnTo>
                <a:lnTo>
                  <a:pt x="1307" y="612"/>
                </a:lnTo>
                <a:lnTo>
                  <a:pt x="1291" y="604"/>
                </a:lnTo>
                <a:lnTo>
                  <a:pt x="1266" y="593"/>
                </a:lnTo>
                <a:lnTo>
                  <a:pt x="1227" y="578"/>
                </a:lnTo>
                <a:lnTo>
                  <a:pt x="1178" y="565"/>
                </a:lnTo>
                <a:lnTo>
                  <a:pt x="1160" y="561"/>
                </a:lnTo>
                <a:lnTo>
                  <a:pt x="1160" y="554"/>
                </a:lnTo>
                <a:lnTo>
                  <a:pt x="1160" y="528"/>
                </a:lnTo>
                <a:lnTo>
                  <a:pt x="1160" y="507"/>
                </a:lnTo>
                <a:lnTo>
                  <a:pt x="1162" y="506"/>
                </a:lnTo>
                <a:lnTo>
                  <a:pt x="1157" y="503"/>
                </a:lnTo>
                <a:lnTo>
                  <a:pt x="1144" y="488"/>
                </a:lnTo>
                <a:lnTo>
                  <a:pt x="1108" y="448"/>
                </a:lnTo>
                <a:lnTo>
                  <a:pt x="1079" y="409"/>
                </a:lnTo>
                <a:lnTo>
                  <a:pt x="1078" y="402"/>
                </a:lnTo>
                <a:lnTo>
                  <a:pt x="1076" y="397"/>
                </a:lnTo>
                <a:lnTo>
                  <a:pt x="1075" y="391"/>
                </a:lnTo>
                <a:lnTo>
                  <a:pt x="1076" y="381"/>
                </a:lnTo>
                <a:lnTo>
                  <a:pt x="1076" y="360"/>
                </a:lnTo>
                <a:lnTo>
                  <a:pt x="1063" y="344"/>
                </a:lnTo>
                <a:lnTo>
                  <a:pt x="1056" y="342"/>
                </a:lnTo>
                <a:lnTo>
                  <a:pt x="1039" y="336"/>
                </a:lnTo>
                <a:lnTo>
                  <a:pt x="999" y="326"/>
                </a:lnTo>
                <a:lnTo>
                  <a:pt x="963" y="322"/>
                </a:lnTo>
                <a:lnTo>
                  <a:pt x="956" y="322"/>
                </a:lnTo>
                <a:lnTo>
                  <a:pt x="944" y="336"/>
                </a:lnTo>
                <a:lnTo>
                  <a:pt x="924" y="357"/>
                </a:lnTo>
                <a:lnTo>
                  <a:pt x="907" y="368"/>
                </a:lnTo>
                <a:lnTo>
                  <a:pt x="898" y="371"/>
                </a:lnTo>
                <a:lnTo>
                  <a:pt x="889" y="371"/>
                </a:lnTo>
                <a:lnTo>
                  <a:pt x="881" y="368"/>
                </a:lnTo>
                <a:lnTo>
                  <a:pt x="872" y="362"/>
                </a:lnTo>
                <a:lnTo>
                  <a:pt x="860" y="355"/>
                </a:lnTo>
                <a:lnTo>
                  <a:pt x="837" y="331"/>
                </a:lnTo>
                <a:lnTo>
                  <a:pt x="837" y="331"/>
                </a:lnTo>
                <a:lnTo>
                  <a:pt x="828" y="319"/>
                </a:lnTo>
                <a:lnTo>
                  <a:pt x="815" y="296"/>
                </a:lnTo>
                <a:lnTo>
                  <a:pt x="791" y="255"/>
                </a:lnTo>
                <a:lnTo>
                  <a:pt x="759" y="216"/>
                </a:lnTo>
                <a:lnTo>
                  <a:pt x="750" y="204"/>
                </a:lnTo>
                <a:lnTo>
                  <a:pt x="734" y="193"/>
                </a:lnTo>
                <a:lnTo>
                  <a:pt x="711" y="173"/>
                </a:lnTo>
                <a:lnTo>
                  <a:pt x="676" y="151"/>
                </a:lnTo>
                <a:lnTo>
                  <a:pt x="624" y="144"/>
                </a:lnTo>
                <a:lnTo>
                  <a:pt x="604" y="142"/>
                </a:lnTo>
                <a:lnTo>
                  <a:pt x="592" y="144"/>
                </a:lnTo>
                <a:lnTo>
                  <a:pt x="585" y="145"/>
                </a:lnTo>
                <a:lnTo>
                  <a:pt x="581" y="149"/>
                </a:lnTo>
                <a:lnTo>
                  <a:pt x="578" y="152"/>
                </a:lnTo>
                <a:lnTo>
                  <a:pt x="578" y="158"/>
                </a:lnTo>
                <a:lnTo>
                  <a:pt x="576" y="162"/>
                </a:lnTo>
                <a:lnTo>
                  <a:pt x="575" y="167"/>
                </a:lnTo>
                <a:lnTo>
                  <a:pt x="573" y="171"/>
                </a:lnTo>
                <a:lnTo>
                  <a:pt x="569" y="176"/>
                </a:lnTo>
                <a:lnTo>
                  <a:pt x="562" y="178"/>
                </a:lnTo>
                <a:lnTo>
                  <a:pt x="552" y="181"/>
                </a:lnTo>
                <a:lnTo>
                  <a:pt x="539" y="181"/>
                </a:lnTo>
                <a:lnTo>
                  <a:pt x="539" y="181"/>
                </a:lnTo>
                <a:lnTo>
                  <a:pt x="536" y="181"/>
                </a:lnTo>
                <a:lnTo>
                  <a:pt x="524" y="181"/>
                </a:lnTo>
                <a:lnTo>
                  <a:pt x="485" y="181"/>
                </a:lnTo>
                <a:lnTo>
                  <a:pt x="456" y="181"/>
                </a:lnTo>
                <a:lnTo>
                  <a:pt x="455" y="181"/>
                </a:lnTo>
                <a:lnTo>
                  <a:pt x="439" y="180"/>
                </a:lnTo>
                <a:lnTo>
                  <a:pt x="423" y="174"/>
                </a:lnTo>
                <a:lnTo>
                  <a:pt x="388" y="157"/>
                </a:lnTo>
                <a:lnTo>
                  <a:pt x="353" y="132"/>
                </a:lnTo>
                <a:lnTo>
                  <a:pt x="289" y="83"/>
                </a:lnTo>
                <a:lnTo>
                  <a:pt x="268" y="68"/>
                </a:lnTo>
                <a:lnTo>
                  <a:pt x="259" y="65"/>
                </a:lnTo>
                <a:lnTo>
                  <a:pt x="237" y="57"/>
                </a:lnTo>
                <a:lnTo>
                  <a:pt x="220" y="49"/>
                </a:lnTo>
                <a:lnTo>
                  <a:pt x="220" y="48"/>
                </a:lnTo>
                <a:lnTo>
                  <a:pt x="217" y="47"/>
                </a:lnTo>
                <a:lnTo>
                  <a:pt x="214" y="44"/>
                </a:lnTo>
                <a:lnTo>
                  <a:pt x="205" y="35"/>
                </a:lnTo>
                <a:lnTo>
                  <a:pt x="182" y="13"/>
                </a:lnTo>
                <a:lnTo>
                  <a:pt x="169" y="0"/>
                </a:lnTo>
                <a:lnTo>
                  <a:pt x="165" y="2"/>
                </a:lnTo>
                <a:lnTo>
                  <a:pt x="142" y="2"/>
                </a:lnTo>
                <a:lnTo>
                  <a:pt x="63" y="2"/>
                </a:lnTo>
                <a:lnTo>
                  <a:pt x="3" y="2"/>
                </a:lnTo>
                <a:lnTo>
                  <a:pt x="0" y="2"/>
                </a:lnTo>
                <a:lnTo>
                  <a:pt x="3" y="19"/>
                </a:lnTo>
                <a:lnTo>
                  <a:pt x="11" y="51"/>
                </a:lnTo>
                <a:lnTo>
                  <a:pt x="33" y="110"/>
                </a:lnTo>
                <a:lnTo>
                  <a:pt x="46" y="176"/>
                </a:lnTo>
                <a:lnTo>
                  <a:pt x="47" y="194"/>
                </a:lnTo>
                <a:lnTo>
                  <a:pt x="55" y="207"/>
                </a:lnTo>
                <a:lnTo>
                  <a:pt x="72" y="231"/>
                </a:lnTo>
                <a:lnTo>
                  <a:pt x="111" y="281"/>
                </a:lnTo>
                <a:lnTo>
                  <a:pt x="147" y="329"/>
                </a:lnTo>
                <a:lnTo>
                  <a:pt x="156" y="341"/>
                </a:lnTo>
                <a:lnTo>
                  <a:pt x="147" y="354"/>
                </a:lnTo>
                <a:lnTo>
                  <a:pt x="134" y="367"/>
                </a:lnTo>
                <a:lnTo>
                  <a:pt x="129" y="370"/>
                </a:lnTo>
                <a:lnTo>
                  <a:pt x="124" y="370"/>
                </a:lnTo>
                <a:lnTo>
                  <a:pt x="118" y="370"/>
                </a:lnTo>
                <a:lnTo>
                  <a:pt x="108" y="368"/>
                </a:lnTo>
                <a:lnTo>
                  <a:pt x="94" y="373"/>
                </a:lnTo>
                <a:lnTo>
                  <a:pt x="75" y="387"/>
                </a:lnTo>
                <a:lnTo>
                  <a:pt x="75" y="387"/>
                </a:lnTo>
                <a:lnTo>
                  <a:pt x="88" y="400"/>
                </a:lnTo>
                <a:lnTo>
                  <a:pt x="127" y="431"/>
                </a:lnTo>
                <a:lnTo>
                  <a:pt x="217" y="504"/>
                </a:lnTo>
                <a:lnTo>
                  <a:pt x="250" y="541"/>
                </a:lnTo>
                <a:lnTo>
                  <a:pt x="260" y="558"/>
                </a:lnTo>
                <a:lnTo>
                  <a:pt x="263" y="575"/>
                </a:lnTo>
                <a:lnTo>
                  <a:pt x="259" y="590"/>
                </a:lnTo>
                <a:lnTo>
                  <a:pt x="259" y="590"/>
                </a:lnTo>
                <a:lnTo>
                  <a:pt x="256" y="594"/>
                </a:lnTo>
                <a:lnTo>
                  <a:pt x="250" y="603"/>
                </a:lnTo>
                <a:lnTo>
                  <a:pt x="243" y="622"/>
                </a:lnTo>
                <a:lnTo>
                  <a:pt x="239" y="641"/>
                </a:lnTo>
                <a:lnTo>
                  <a:pt x="239" y="645"/>
                </a:lnTo>
                <a:lnTo>
                  <a:pt x="252" y="652"/>
                </a:lnTo>
                <a:lnTo>
                  <a:pt x="281" y="670"/>
                </a:lnTo>
                <a:lnTo>
                  <a:pt x="342" y="715"/>
                </a:lnTo>
                <a:lnTo>
                  <a:pt x="404" y="781"/>
                </a:lnTo>
                <a:lnTo>
                  <a:pt x="421" y="801"/>
                </a:lnTo>
                <a:lnTo>
                  <a:pt x="429" y="793"/>
                </a:lnTo>
                <a:lnTo>
                  <a:pt x="436" y="777"/>
                </a:lnTo>
                <a:lnTo>
                  <a:pt x="436" y="762"/>
                </a:lnTo>
                <a:lnTo>
                  <a:pt x="431" y="748"/>
                </a:lnTo>
                <a:lnTo>
                  <a:pt x="426" y="733"/>
                </a:lnTo>
                <a:lnTo>
                  <a:pt x="421" y="719"/>
                </a:lnTo>
                <a:lnTo>
                  <a:pt x="421" y="709"/>
                </a:lnTo>
                <a:lnTo>
                  <a:pt x="408" y="699"/>
                </a:lnTo>
                <a:lnTo>
                  <a:pt x="400" y="693"/>
                </a:lnTo>
                <a:lnTo>
                  <a:pt x="391" y="691"/>
                </a:lnTo>
                <a:lnTo>
                  <a:pt x="385" y="690"/>
                </a:lnTo>
                <a:lnTo>
                  <a:pt x="381" y="691"/>
                </a:lnTo>
                <a:lnTo>
                  <a:pt x="378" y="691"/>
                </a:lnTo>
                <a:lnTo>
                  <a:pt x="376" y="691"/>
                </a:lnTo>
                <a:lnTo>
                  <a:pt x="375" y="690"/>
                </a:lnTo>
                <a:lnTo>
                  <a:pt x="375" y="688"/>
                </a:lnTo>
                <a:lnTo>
                  <a:pt x="375" y="686"/>
                </a:lnTo>
                <a:lnTo>
                  <a:pt x="373" y="677"/>
                </a:lnTo>
                <a:lnTo>
                  <a:pt x="373" y="641"/>
                </a:lnTo>
                <a:lnTo>
                  <a:pt x="375" y="626"/>
                </a:lnTo>
                <a:lnTo>
                  <a:pt x="365" y="610"/>
                </a:lnTo>
                <a:lnTo>
                  <a:pt x="353" y="581"/>
                </a:lnTo>
                <a:lnTo>
                  <a:pt x="339" y="538"/>
                </a:lnTo>
                <a:lnTo>
                  <a:pt x="313" y="500"/>
                </a:lnTo>
                <a:lnTo>
                  <a:pt x="302" y="488"/>
                </a:lnTo>
                <a:lnTo>
                  <a:pt x="288" y="474"/>
                </a:lnTo>
                <a:lnTo>
                  <a:pt x="274" y="446"/>
                </a:lnTo>
                <a:lnTo>
                  <a:pt x="271" y="423"/>
                </a:lnTo>
                <a:lnTo>
                  <a:pt x="272" y="400"/>
                </a:lnTo>
                <a:lnTo>
                  <a:pt x="269" y="374"/>
                </a:lnTo>
                <a:lnTo>
                  <a:pt x="253" y="345"/>
                </a:lnTo>
                <a:lnTo>
                  <a:pt x="239" y="326"/>
                </a:lnTo>
                <a:lnTo>
                  <a:pt x="221" y="307"/>
                </a:lnTo>
                <a:lnTo>
                  <a:pt x="194" y="270"/>
                </a:lnTo>
                <a:lnTo>
                  <a:pt x="159" y="194"/>
                </a:lnTo>
                <a:lnTo>
                  <a:pt x="147" y="126"/>
                </a:lnTo>
                <a:lnTo>
                  <a:pt x="147" y="110"/>
                </a:lnTo>
                <a:lnTo>
                  <a:pt x="156" y="109"/>
                </a:lnTo>
                <a:lnTo>
                  <a:pt x="175" y="109"/>
                </a:lnTo>
                <a:lnTo>
                  <a:pt x="194" y="113"/>
                </a:lnTo>
                <a:lnTo>
                  <a:pt x="213" y="122"/>
                </a:lnTo>
                <a:lnTo>
                  <a:pt x="229" y="133"/>
                </a:lnTo>
                <a:lnTo>
                  <a:pt x="242" y="149"/>
                </a:lnTo>
                <a:lnTo>
                  <a:pt x="247" y="157"/>
                </a:lnTo>
                <a:lnTo>
                  <a:pt x="247" y="161"/>
                </a:lnTo>
                <a:lnTo>
                  <a:pt x="249" y="187"/>
                </a:lnTo>
                <a:lnTo>
                  <a:pt x="262" y="273"/>
                </a:lnTo>
                <a:lnTo>
                  <a:pt x="274" y="313"/>
                </a:lnTo>
                <a:lnTo>
                  <a:pt x="282" y="328"/>
                </a:lnTo>
                <a:lnTo>
                  <a:pt x="291" y="338"/>
                </a:lnTo>
                <a:lnTo>
                  <a:pt x="297" y="341"/>
                </a:lnTo>
                <a:lnTo>
                  <a:pt x="301" y="341"/>
                </a:lnTo>
                <a:lnTo>
                  <a:pt x="302" y="341"/>
                </a:lnTo>
                <a:lnTo>
                  <a:pt x="317" y="358"/>
                </a:lnTo>
                <a:lnTo>
                  <a:pt x="345" y="393"/>
                </a:lnTo>
                <a:lnTo>
                  <a:pt x="392" y="461"/>
                </a:lnTo>
                <a:lnTo>
                  <a:pt x="449" y="516"/>
                </a:lnTo>
                <a:lnTo>
                  <a:pt x="466" y="525"/>
                </a:lnTo>
                <a:lnTo>
                  <a:pt x="462" y="533"/>
                </a:lnTo>
                <a:lnTo>
                  <a:pt x="453" y="551"/>
                </a:lnTo>
                <a:lnTo>
                  <a:pt x="446" y="570"/>
                </a:lnTo>
                <a:lnTo>
                  <a:pt x="442" y="586"/>
                </a:lnTo>
                <a:lnTo>
                  <a:pt x="443" y="593"/>
                </a:lnTo>
                <a:lnTo>
                  <a:pt x="446" y="600"/>
                </a:lnTo>
                <a:lnTo>
                  <a:pt x="452" y="604"/>
                </a:lnTo>
                <a:lnTo>
                  <a:pt x="462" y="607"/>
                </a:lnTo>
                <a:lnTo>
                  <a:pt x="475" y="607"/>
                </a:lnTo>
                <a:lnTo>
                  <a:pt x="476" y="607"/>
                </a:lnTo>
                <a:lnTo>
                  <a:pt x="491" y="630"/>
                </a:lnTo>
                <a:lnTo>
                  <a:pt x="531" y="677"/>
                </a:lnTo>
                <a:lnTo>
                  <a:pt x="623" y="774"/>
                </a:lnTo>
                <a:lnTo>
                  <a:pt x="660" y="828"/>
                </a:lnTo>
                <a:lnTo>
                  <a:pt x="682" y="883"/>
                </a:lnTo>
                <a:lnTo>
                  <a:pt x="686" y="912"/>
                </a:lnTo>
                <a:lnTo>
                  <a:pt x="695" y="919"/>
                </a:lnTo>
                <a:lnTo>
                  <a:pt x="708" y="930"/>
                </a:lnTo>
                <a:lnTo>
                  <a:pt x="714" y="945"/>
                </a:lnTo>
                <a:lnTo>
                  <a:pt x="714" y="959"/>
                </a:lnTo>
                <a:lnTo>
                  <a:pt x="707" y="977"/>
                </a:lnTo>
                <a:lnTo>
                  <a:pt x="694" y="994"/>
                </a:lnTo>
                <a:lnTo>
                  <a:pt x="686" y="1003"/>
                </a:lnTo>
                <a:lnTo>
                  <a:pt x="718" y="1046"/>
                </a:lnTo>
                <a:lnTo>
                  <a:pt x="817" y="1138"/>
                </a:lnTo>
                <a:lnTo>
                  <a:pt x="947" y="1226"/>
                </a:lnTo>
                <a:lnTo>
                  <a:pt x="1243" y="1354"/>
                </a:lnTo>
                <a:lnTo>
                  <a:pt x="1440" y="1359"/>
                </a:lnTo>
                <a:lnTo>
                  <a:pt x="1469" y="1346"/>
                </a:lnTo>
                <a:lnTo>
                  <a:pt x="1521" y="1333"/>
                </a:lnTo>
                <a:lnTo>
                  <a:pt x="1567" y="1338"/>
                </a:lnTo>
                <a:lnTo>
                  <a:pt x="1611" y="1356"/>
                </a:lnTo>
                <a:lnTo>
                  <a:pt x="1653" y="1384"/>
                </a:lnTo>
                <a:lnTo>
                  <a:pt x="1696" y="1420"/>
                </a:lnTo>
                <a:lnTo>
                  <a:pt x="1721" y="1439"/>
                </a:lnTo>
                <a:lnTo>
                  <a:pt x="1724" y="1413"/>
                </a:lnTo>
                <a:lnTo>
                  <a:pt x="1731" y="1371"/>
                </a:lnTo>
                <a:lnTo>
                  <a:pt x="1741" y="1342"/>
                </a:lnTo>
                <a:lnTo>
                  <a:pt x="1748" y="1332"/>
                </a:lnTo>
                <a:lnTo>
                  <a:pt x="1759" y="1325"/>
                </a:lnTo>
                <a:lnTo>
                  <a:pt x="1770" y="1320"/>
                </a:lnTo>
                <a:lnTo>
                  <a:pt x="1785" y="1317"/>
                </a:lnTo>
                <a:lnTo>
                  <a:pt x="1801" y="1317"/>
                </a:lnTo>
                <a:lnTo>
                  <a:pt x="1846" y="1319"/>
                </a:lnTo>
                <a:lnTo>
                  <a:pt x="1847" y="1319"/>
                </a:lnTo>
                <a:lnTo>
                  <a:pt x="1847" y="1319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4320" y="3448080"/>
            <a:ext cx="104760" cy="101520"/>
          </a:xfrm>
          <a:custGeom>
            <a:avLst/>
            <a:gdLst/>
            <a:ahLst/>
            <a:rect l="l" t="t" r="r" b="b"/>
            <a:pathLst>
              <a:path w="306" h="312">
                <a:moveTo>
                  <a:pt x="0" y="262"/>
                </a:moveTo>
                <a:lnTo>
                  <a:pt x="0" y="261"/>
                </a:lnTo>
                <a:lnTo>
                  <a:pt x="1" y="252"/>
                </a:lnTo>
                <a:lnTo>
                  <a:pt x="1" y="247"/>
                </a:lnTo>
                <a:lnTo>
                  <a:pt x="3" y="245"/>
                </a:lnTo>
                <a:lnTo>
                  <a:pt x="1" y="222"/>
                </a:lnTo>
                <a:lnTo>
                  <a:pt x="9" y="184"/>
                </a:lnTo>
                <a:lnTo>
                  <a:pt x="25" y="158"/>
                </a:lnTo>
                <a:lnTo>
                  <a:pt x="48" y="144"/>
                </a:lnTo>
                <a:lnTo>
                  <a:pt x="77" y="138"/>
                </a:lnTo>
                <a:lnTo>
                  <a:pt x="109" y="138"/>
                </a:lnTo>
                <a:lnTo>
                  <a:pt x="126" y="138"/>
                </a:lnTo>
                <a:lnTo>
                  <a:pt x="126" y="132"/>
                </a:lnTo>
                <a:lnTo>
                  <a:pt x="129" y="115"/>
                </a:lnTo>
                <a:lnTo>
                  <a:pt x="130" y="100"/>
                </a:lnTo>
                <a:lnTo>
                  <a:pt x="132" y="99"/>
                </a:lnTo>
                <a:lnTo>
                  <a:pt x="129" y="96"/>
                </a:lnTo>
                <a:lnTo>
                  <a:pt x="125" y="93"/>
                </a:lnTo>
                <a:lnTo>
                  <a:pt x="120" y="89"/>
                </a:lnTo>
                <a:lnTo>
                  <a:pt x="107" y="81"/>
                </a:lnTo>
                <a:lnTo>
                  <a:pt x="82" y="65"/>
                </a:lnTo>
                <a:lnTo>
                  <a:pt x="78" y="49"/>
                </a:lnTo>
                <a:lnTo>
                  <a:pt x="82" y="49"/>
                </a:lnTo>
                <a:lnTo>
                  <a:pt x="91" y="48"/>
                </a:lnTo>
                <a:lnTo>
                  <a:pt x="96" y="47"/>
                </a:lnTo>
                <a:lnTo>
                  <a:pt x="97" y="45"/>
                </a:lnTo>
                <a:lnTo>
                  <a:pt x="96" y="41"/>
                </a:lnTo>
                <a:lnTo>
                  <a:pt x="93" y="38"/>
                </a:lnTo>
                <a:lnTo>
                  <a:pt x="85" y="29"/>
                </a:lnTo>
                <a:lnTo>
                  <a:pt x="85" y="29"/>
                </a:lnTo>
                <a:lnTo>
                  <a:pt x="88" y="25"/>
                </a:lnTo>
                <a:lnTo>
                  <a:pt x="100" y="12"/>
                </a:lnTo>
                <a:lnTo>
                  <a:pt x="109" y="2"/>
                </a:lnTo>
                <a:lnTo>
                  <a:pt x="110" y="0"/>
                </a:lnTo>
                <a:lnTo>
                  <a:pt x="111" y="0"/>
                </a:lnTo>
                <a:lnTo>
                  <a:pt x="113" y="0"/>
                </a:lnTo>
                <a:lnTo>
                  <a:pt x="125" y="2"/>
                </a:lnTo>
                <a:lnTo>
                  <a:pt x="161" y="5"/>
                </a:lnTo>
                <a:lnTo>
                  <a:pt x="198" y="6"/>
                </a:lnTo>
                <a:lnTo>
                  <a:pt x="207" y="6"/>
                </a:lnTo>
                <a:lnTo>
                  <a:pt x="206" y="7"/>
                </a:lnTo>
                <a:lnTo>
                  <a:pt x="207" y="6"/>
                </a:lnTo>
                <a:lnTo>
                  <a:pt x="209" y="13"/>
                </a:lnTo>
                <a:lnTo>
                  <a:pt x="213" y="25"/>
                </a:lnTo>
                <a:lnTo>
                  <a:pt x="216" y="47"/>
                </a:lnTo>
                <a:lnTo>
                  <a:pt x="216" y="58"/>
                </a:lnTo>
                <a:lnTo>
                  <a:pt x="216" y="58"/>
                </a:lnTo>
                <a:lnTo>
                  <a:pt x="214" y="70"/>
                </a:lnTo>
                <a:lnTo>
                  <a:pt x="211" y="100"/>
                </a:lnTo>
                <a:lnTo>
                  <a:pt x="210" y="123"/>
                </a:lnTo>
                <a:lnTo>
                  <a:pt x="210" y="123"/>
                </a:lnTo>
                <a:lnTo>
                  <a:pt x="211" y="123"/>
                </a:lnTo>
                <a:lnTo>
                  <a:pt x="220" y="123"/>
                </a:lnTo>
                <a:lnTo>
                  <a:pt x="255" y="122"/>
                </a:lnTo>
                <a:lnTo>
                  <a:pt x="281" y="120"/>
                </a:lnTo>
                <a:lnTo>
                  <a:pt x="284" y="119"/>
                </a:lnTo>
                <a:lnTo>
                  <a:pt x="287" y="119"/>
                </a:lnTo>
                <a:lnTo>
                  <a:pt x="293" y="119"/>
                </a:lnTo>
                <a:lnTo>
                  <a:pt x="297" y="119"/>
                </a:lnTo>
                <a:lnTo>
                  <a:pt x="300" y="122"/>
                </a:lnTo>
                <a:lnTo>
                  <a:pt x="303" y="126"/>
                </a:lnTo>
                <a:lnTo>
                  <a:pt x="304" y="132"/>
                </a:lnTo>
                <a:lnTo>
                  <a:pt x="306" y="136"/>
                </a:lnTo>
                <a:lnTo>
                  <a:pt x="293" y="149"/>
                </a:lnTo>
                <a:lnTo>
                  <a:pt x="272" y="171"/>
                </a:lnTo>
                <a:lnTo>
                  <a:pt x="252" y="206"/>
                </a:lnTo>
                <a:lnTo>
                  <a:pt x="242" y="228"/>
                </a:lnTo>
                <a:lnTo>
                  <a:pt x="240" y="231"/>
                </a:lnTo>
                <a:lnTo>
                  <a:pt x="239" y="234"/>
                </a:lnTo>
                <a:lnTo>
                  <a:pt x="230" y="244"/>
                </a:lnTo>
                <a:lnTo>
                  <a:pt x="200" y="281"/>
                </a:lnTo>
                <a:lnTo>
                  <a:pt x="177" y="310"/>
                </a:lnTo>
                <a:lnTo>
                  <a:pt x="177" y="312"/>
                </a:lnTo>
                <a:lnTo>
                  <a:pt x="156" y="310"/>
                </a:lnTo>
                <a:lnTo>
                  <a:pt x="123" y="306"/>
                </a:lnTo>
                <a:lnTo>
                  <a:pt x="65" y="296"/>
                </a:lnTo>
                <a:lnTo>
                  <a:pt x="13" y="273"/>
                </a:lnTo>
                <a:lnTo>
                  <a:pt x="0" y="262"/>
                </a:lnTo>
                <a:lnTo>
                  <a:pt x="0" y="262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97680" y="3524400"/>
            <a:ext cx="60480" cy="36360"/>
          </a:xfrm>
          <a:custGeom>
            <a:avLst/>
            <a:gdLst/>
            <a:ahLst/>
            <a:rect l="l" t="t" r="r" b="b"/>
            <a:pathLst>
              <a:path w="178" h="114">
                <a:moveTo>
                  <a:pt x="172" y="42"/>
                </a:moveTo>
                <a:lnTo>
                  <a:pt x="171" y="39"/>
                </a:lnTo>
                <a:lnTo>
                  <a:pt x="167" y="37"/>
                </a:lnTo>
                <a:lnTo>
                  <a:pt x="162" y="36"/>
                </a:lnTo>
                <a:lnTo>
                  <a:pt x="156" y="34"/>
                </a:lnTo>
                <a:lnTo>
                  <a:pt x="142" y="34"/>
                </a:lnTo>
                <a:lnTo>
                  <a:pt x="117" y="37"/>
                </a:lnTo>
                <a:lnTo>
                  <a:pt x="114" y="37"/>
                </a:lnTo>
                <a:lnTo>
                  <a:pt x="106" y="32"/>
                </a:lnTo>
                <a:lnTo>
                  <a:pt x="81" y="14"/>
                </a:lnTo>
                <a:lnTo>
                  <a:pt x="62" y="1"/>
                </a:lnTo>
                <a:lnTo>
                  <a:pt x="62" y="0"/>
                </a:lnTo>
                <a:lnTo>
                  <a:pt x="61" y="3"/>
                </a:lnTo>
                <a:lnTo>
                  <a:pt x="52" y="13"/>
                </a:lnTo>
                <a:lnTo>
                  <a:pt x="23" y="50"/>
                </a:lnTo>
                <a:lnTo>
                  <a:pt x="0" y="79"/>
                </a:lnTo>
                <a:lnTo>
                  <a:pt x="0" y="81"/>
                </a:lnTo>
                <a:lnTo>
                  <a:pt x="14" y="90"/>
                </a:lnTo>
                <a:lnTo>
                  <a:pt x="42" y="101"/>
                </a:lnTo>
                <a:lnTo>
                  <a:pt x="96" y="114"/>
                </a:lnTo>
                <a:lnTo>
                  <a:pt x="159" y="114"/>
                </a:lnTo>
                <a:lnTo>
                  <a:pt x="178" y="111"/>
                </a:lnTo>
                <a:lnTo>
                  <a:pt x="177" y="101"/>
                </a:lnTo>
                <a:lnTo>
                  <a:pt x="174" y="69"/>
                </a:lnTo>
                <a:lnTo>
                  <a:pt x="172" y="43"/>
                </a:lnTo>
                <a:lnTo>
                  <a:pt x="172" y="42"/>
                </a:lnTo>
                <a:lnTo>
                  <a:pt x="172" y="42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08560" y="1789200"/>
            <a:ext cx="1298880" cy="1771560"/>
          </a:xfrm>
          <a:custGeom>
            <a:avLst/>
            <a:gdLst/>
            <a:ahLst/>
            <a:rect l="l" t="t" r="r" b="b"/>
            <a:pathLst>
              <a:path w="3761" h="5418">
                <a:moveTo>
                  <a:pt x="2562" y="5336"/>
                </a:moveTo>
                <a:lnTo>
                  <a:pt x="2559" y="5338"/>
                </a:lnTo>
                <a:lnTo>
                  <a:pt x="2557" y="5343"/>
                </a:lnTo>
                <a:lnTo>
                  <a:pt x="2557" y="5346"/>
                </a:lnTo>
                <a:lnTo>
                  <a:pt x="2557" y="5350"/>
                </a:lnTo>
                <a:lnTo>
                  <a:pt x="2556" y="5353"/>
                </a:lnTo>
                <a:lnTo>
                  <a:pt x="2551" y="5357"/>
                </a:lnTo>
                <a:lnTo>
                  <a:pt x="2550" y="5359"/>
                </a:lnTo>
                <a:lnTo>
                  <a:pt x="2543" y="5366"/>
                </a:lnTo>
                <a:lnTo>
                  <a:pt x="2528" y="5376"/>
                </a:lnTo>
                <a:lnTo>
                  <a:pt x="2501" y="5394"/>
                </a:lnTo>
                <a:lnTo>
                  <a:pt x="2472" y="5412"/>
                </a:lnTo>
                <a:lnTo>
                  <a:pt x="2465" y="5418"/>
                </a:lnTo>
                <a:lnTo>
                  <a:pt x="2460" y="5411"/>
                </a:lnTo>
                <a:lnTo>
                  <a:pt x="2459" y="5405"/>
                </a:lnTo>
                <a:lnTo>
                  <a:pt x="2457" y="5391"/>
                </a:lnTo>
                <a:lnTo>
                  <a:pt x="2454" y="5360"/>
                </a:lnTo>
                <a:lnTo>
                  <a:pt x="2454" y="5344"/>
                </a:lnTo>
                <a:lnTo>
                  <a:pt x="2449" y="5343"/>
                </a:lnTo>
                <a:lnTo>
                  <a:pt x="2438" y="5343"/>
                </a:lnTo>
                <a:lnTo>
                  <a:pt x="2428" y="5343"/>
                </a:lnTo>
                <a:lnTo>
                  <a:pt x="2408" y="5343"/>
                </a:lnTo>
                <a:lnTo>
                  <a:pt x="2395" y="5340"/>
                </a:lnTo>
                <a:lnTo>
                  <a:pt x="2386" y="5334"/>
                </a:lnTo>
                <a:lnTo>
                  <a:pt x="2362" y="5317"/>
                </a:lnTo>
                <a:lnTo>
                  <a:pt x="2343" y="5305"/>
                </a:lnTo>
                <a:lnTo>
                  <a:pt x="2343" y="5304"/>
                </a:lnTo>
                <a:lnTo>
                  <a:pt x="2344" y="5295"/>
                </a:lnTo>
                <a:lnTo>
                  <a:pt x="2353" y="5278"/>
                </a:lnTo>
                <a:lnTo>
                  <a:pt x="2378" y="5243"/>
                </a:lnTo>
                <a:lnTo>
                  <a:pt x="2405" y="5214"/>
                </a:lnTo>
                <a:lnTo>
                  <a:pt x="2412" y="5208"/>
                </a:lnTo>
                <a:lnTo>
                  <a:pt x="2438" y="5207"/>
                </a:lnTo>
                <a:lnTo>
                  <a:pt x="2502" y="5194"/>
                </a:lnTo>
                <a:lnTo>
                  <a:pt x="2643" y="5165"/>
                </a:lnTo>
                <a:lnTo>
                  <a:pt x="2709" y="5162"/>
                </a:lnTo>
                <a:lnTo>
                  <a:pt x="2766" y="5179"/>
                </a:lnTo>
                <a:lnTo>
                  <a:pt x="2789" y="5195"/>
                </a:lnTo>
                <a:lnTo>
                  <a:pt x="2791" y="5199"/>
                </a:lnTo>
                <a:lnTo>
                  <a:pt x="2793" y="5205"/>
                </a:lnTo>
                <a:lnTo>
                  <a:pt x="2799" y="5218"/>
                </a:lnTo>
                <a:lnTo>
                  <a:pt x="2801" y="5236"/>
                </a:lnTo>
                <a:lnTo>
                  <a:pt x="2801" y="5241"/>
                </a:lnTo>
                <a:lnTo>
                  <a:pt x="2795" y="5243"/>
                </a:lnTo>
                <a:lnTo>
                  <a:pt x="2791" y="5244"/>
                </a:lnTo>
                <a:lnTo>
                  <a:pt x="2775" y="5250"/>
                </a:lnTo>
                <a:lnTo>
                  <a:pt x="2730" y="5263"/>
                </a:lnTo>
                <a:lnTo>
                  <a:pt x="2620" y="5302"/>
                </a:lnTo>
                <a:lnTo>
                  <a:pt x="2562" y="5336"/>
                </a:lnTo>
                <a:lnTo>
                  <a:pt x="2562" y="5336"/>
                </a:lnTo>
                <a:close/>
                <a:moveTo>
                  <a:pt x="3364" y="10"/>
                </a:moveTo>
                <a:lnTo>
                  <a:pt x="3366" y="12"/>
                </a:lnTo>
                <a:lnTo>
                  <a:pt x="3374" y="16"/>
                </a:lnTo>
                <a:lnTo>
                  <a:pt x="3380" y="19"/>
                </a:lnTo>
                <a:lnTo>
                  <a:pt x="3382" y="19"/>
                </a:lnTo>
                <a:lnTo>
                  <a:pt x="3386" y="19"/>
                </a:lnTo>
                <a:lnTo>
                  <a:pt x="3390" y="18"/>
                </a:lnTo>
                <a:lnTo>
                  <a:pt x="3401" y="13"/>
                </a:lnTo>
                <a:lnTo>
                  <a:pt x="3424" y="2"/>
                </a:lnTo>
                <a:lnTo>
                  <a:pt x="3456" y="0"/>
                </a:lnTo>
                <a:lnTo>
                  <a:pt x="3461" y="5"/>
                </a:lnTo>
                <a:lnTo>
                  <a:pt x="3469" y="9"/>
                </a:lnTo>
                <a:lnTo>
                  <a:pt x="3482" y="24"/>
                </a:lnTo>
                <a:lnTo>
                  <a:pt x="3495" y="41"/>
                </a:lnTo>
                <a:lnTo>
                  <a:pt x="3521" y="74"/>
                </a:lnTo>
                <a:lnTo>
                  <a:pt x="3535" y="86"/>
                </a:lnTo>
                <a:lnTo>
                  <a:pt x="3534" y="87"/>
                </a:lnTo>
                <a:lnTo>
                  <a:pt x="3531" y="89"/>
                </a:lnTo>
                <a:lnTo>
                  <a:pt x="3518" y="97"/>
                </a:lnTo>
                <a:lnTo>
                  <a:pt x="3508" y="103"/>
                </a:lnTo>
                <a:lnTo>
                  <a:pt x="3508" y="103"/>
                </a:lnTo>
                <a:lnTo>
                  <a:pt x="3514" y="110"/>
                </a:lnTo>
                <a:lnTo>
                  <a:pt x="3528" y="128"/>
                </a:lnTo>
                <a:lnTo>
                  <a:pt x="3554" y="167"/>
                </a:lnTo>
                <a:lnTo>
                  <a:pt x="3563" y="187"/>
                </a:lnTo>
                <a:lnTo>
                  <a:pt x="3566" y="210"/>
                </a:lnTo>
                <a:lnTo>
                  <a:pt x="3564" y="221"/>
                </a:lnTo>
                <a:lnTo>
                  <a:pt x="3560" y="225"/>
                </a:lnTo>
                <a:lnTo>
                  <a:pt x="3556" y="228"/>
                </a:lnTo>
                <a:lnTo>
                  <a:pt x="3544" y="237"/>
                </a:lnTo>
                <a:lnTo>
                  <a:pt x="3518" y="260"/>
                </a:lnTo>
                <a:lnTo>
                  <a:pt x="3508" y="292"/>
                </a:lnTo>
                <a:lnTo>
                  <a:pt x="3508" y="300"/>
                </a:lnTo>
                <a:lnTo>
                  <a:pt x="3506" y="312"/>
                </a:lnTo>
                <a:lnTo>
                  <a:pt x="3506" y="316"/>
                </a:lnTo>
                <a:lnTo>
                  <a:pt x="3503" y="319"/>
                </a:lnTo>
                <a:lnTo>
                  <a:pt x="3502" y="322"/>
                </a:lnTo>
                <a:lnTo>
                  <a:pt x="3499" y="323"/>
                </a:lnTo>
                <a:lnTo>
                  <a:pt x="3495" y="325"/>
                </a:lnTo>
                <a:lnTo>
                  <a:pt x="3486" y="328"/>
                </a:lnTo>
                <a:lnTo>
                  <a:pt x="3474" y="334"/>
                </a:lnTo>
                <a:lnTo>
                  <a:pt x="3474" y="334"/>
                </a:lnTo>
                <a:lnTo>
                  <a:pt x="3473" y="331"/>
                </a:lnTo>
                <a:lnTo>
                  <a:pt x="3473" y="328"/>
                </a:lnTo>
                <a:lnTo>
                  <a:pt x="3469" y="319"/>
                </a:lnTo>
                <a:lnTo>
                  <a:pt x="3460" y="300"/>
                </a:lnTo>
                <a:lnTo>
                  <a:pt x="3456" y="286"/>
                </a:lnTo>
                <a:lnTo>
                  <a:pt x="3448" y="287"/>
                </a:lnTo>
                <a:lnTo>
                  <a:pt x="3438" y="290"/>
                </a:lnTo>
                <a:lnTo>
                  <a:pt x="3432" y="295"/>
                </a:lnTo>
                <a:lnTo>
                  <a:pt x="3427" y="302"/>
                </a:lnTo>
                <a:lnTo>
                  <a:pt x="3424" y="309"/>
                </a:lnTo>
                <a:lnTo>
                  <a:pt x="3419" y="318"/>
                </a:lnTo>
                <a:lnTo>
                  <a:pt x="3418" y="322"/>
                </a:lnTo>
                <a:lnTo>
                  <a:pt x="3415" y="322"/>
                </a:lnTo>
                <a:lnTo>
                  <a:pt x="3409" y="321"/>
                </a:lnTo>
                <a:lnTo>
                  <a:pt x="3403" y="319"/>
                </a:lnTo>
                <a:lnTo>
                  <a:pt x="3390" y="315"/>
                </a:lnTo>
                <a:lnTo>
                  <a:pt x="3382" y="312"/>
                </a:lnTo>
                <a:lnTo>
                  <a:pt x="3380" y="308"/>
                </a:lnTo>
                <a:lnTo>
                  <a:pt x="3380" y="299"/>
                </a:lnTo>
                <a:lnTo>
                  <a:pt x="3376" y="283"/>
                </a:lnTo>
                <a:lnTo>
                  <a:pt x="3373" y="270"/>
                </a:lnTo>
                <a:lnTo>
                  <a:pt x="3373" y="267"/>
                </a:lnTo>
                <a:lnTo>
                  <a:pt x="3370" y="273"/>
                </a:lnTo>
                <a:lnTo>
                  <a:pt x="3366" y="283"/>
                </a:lnTo>
                <a:lnTo>
                  <a:pt x="3357" y="303"/>
                </a:lnTo>
                <a:lnTo>
                  <a:pt x="3347" y="321"/>
                </a:lnTo>
                <a:lnTo>
                  <a:pt x="3345" y="322"/>
                </a:lnTo>
                <a:lnTo>
                  <a:pt x="3343" y="322"/>
                </a:lnTo>
                <a:lnTo>
                  <a:pt x="3340" y="322"/>
                </a:lnTo>
                <a:lnTo>
                  <a:pt x="3335" y="319"/>
                </a:lnTo>
                <a:lnTo>
                  <a:pt x="3330" y="316"/>
                </a:lnTo>
                <a:lnTo>
                  <a:pt x="3325" y="313"/>
                </a:lnTo>
                <a:lnTo>
                  <a:pt x="3322" y="309"/>
                </a:lnTo>
                <a:lnTo>
                  <a:pt x="3321" y="303"/>
                </a:lnTo>
                <a:lnTo>
                  <a:pt x="3322" y="303"/>
                </a:lnTo>
                <a:lnTo>
                  <a:pt x="3319" y="293"/>
                </a:lnTo>
                <a:lnTo>
                  <a:pt x="3319" y="287"/>
                </a:lnTo>
                <a:lnTo>
                  <a:pt x="3319" y="286"/>
                </a:lnTo>
                <a:lnTo>
                  <a:pt x="3316" y="280"/>
                </a:lnTo>
                <a:lnTo>
                  <a:pt x="3315" y="277"/>
                </a:lnTo>
                <a:lnTo>
                  <a:pt x="3309" y="270"/>
                </a:lnTo>
                <a:lnTo>
                  <a:pt x="3298" y="257"/>
                </a:lnTo>
                <a:lnTo>
                  <a:pt x="3295" y="252"/>
                </a:lnTo>
                <a:lnTo>
                  <a:pt x="3293" y="247"/>
                </a:lnTo>
                <a:lnTo>
                  <a:pt x="3293" y="235"/>
                </a:lnTo>
                <a:lnTo>
                  <a:pt x="3296" y="218"/>
                </a:lnTo>
                <a:lnTo>
                  <a:pt x="3299" y="212"/>
                </a:lnTo>
                <a:lnTo>
                  <a:pt x="3306" y="206"/>
                </a:lnTo>
                <a:lnTo>
                  <a:pt x="3311" y="203"/>
                </a:lnTo>
                <a:lnTo>
                  <a:pt x="3322" y="208"/>
                </a:lnTo>
                <a:lnTo>
                  <a:pt x="3357" y="218"/>
                </a:lnTo>
                <a:lnTo>
                  <a:pt x="3383" y="226"/>
                </a:lnTo>
                <a:lnTo>
                  <a:pt x="3386" y="226"/>
                </a:lnTo>
                <a:lnTo>
                  <a:pt x="3379" y="219"/>
                </a:lnTo>
                <a:lnTo>
                  <a:pt x="3363" y="200"/>
                </a:lnTo>
                <a:lnTo>
                  <a:pt x="3337" y="157"/>
                </a:lnTo>
                <a:lnTo>
                  <a:pt x="3332" y="135"/>
                </a:lnTo>
                <a:lnTo>
                  <a:pt x="3334" y="125"/>
                </a:lnTo>
                <a:lnTo>
                  <a:pt x="3338" y="116"/>
                </a:lnTo>
                <a:lnTo>
                  <a:pt x="3344" y="108"/>
                </a:lnTo>
                <a:lnTo>
                  <a:pt x="3345" y="108"/>
                </a:lnTo>
                <a:lnTo>
                  <a:pt x="3343" y="103"/>
                </a:lnTo>
                <a:lnTo>
                  <a:pt x="3338" y="95"/>
                </a:lnTo>
                <a:lnTo>
                  <a:pt x="3332" y="74"/>
                </a:lnTo>
                <a:lnTo>
                  <a:pt x="3338" y="45"/>
                </a:lnTo>
                <a:lnTo>
                  <a:pt x="3343" y="37"/>
                </a:lnTo>
                <a:lnTo>
                  <a:pt x="3345" y="34"/>
                </a:lnTo>
                <a:lnTo>
                  <a:pt x="3356" y="21"/>
                </a:lnTo>
                <a:lnTo>
                  <a:pt x="3363" y="12"/>
                </a:lnTo>
                <a:lnTo>
                  <a:pt x="3364" y="10"/>
                </a:lnTo>
                <a:lnTo>
                  <a:pt x="3364" y="10"/>
                </a:lnTo>
                <a:close/>
                <a:moveTo>
                  <a:pt x="3276" y="2255"/>
                </a:moveTo>
                <a:lnTo>
                  <a:pt x="3276" y="2259"/>
                </a:lnTo>
                <a:lnTo>
                  <a:pt x="3280" y="2268"/>
                </a:lnTo>
                <a:lnTo>
                  <a:pt x="3286" y="2288"/>
                </a:lnTo>
                <a:lnTo>
                  <a:pt x="3285" y="2293"/>
                </a:lnTo>
                <a:lnTo>
                  <a:pt x="3283" y="2296"/>
                </a:lnTo>
                <a:lnTo>
                  <a:pt x="3282" y="2300"/>
                </a:lnTo>
                <a:lnTo>
                  <a:pt x="3277" y="2303"/>
                </a:lnTo>
                <a:lnTo>
                  <a:pt x="3272" y="2304"/>
                </a:lnTo>
                <a:lnTo>
                  <a:pt x="3272" y="2304"/>
                </a:lnTo>
                <a:lnTo>
                  <a:pt x="3261" y="2306"/>
                </a:lnTo>
                <a:lnTo>
                  <a:pt x="3243" y="2303"/>
                </a:lnTo>
                <a:lnTo>
                  <a:pt x="3225" y="2296"/>
                </a:lnTo>
                <a:lnTo>
                  <a:pt x="3209" y="2287"/>
                </a:lnTo>
                <a:lnTo>
                  <a:pt x="3174" y="2274"/>
                </a:lnTo>
                <a:lnTo>
                  <a:pt x="3166" y="2272"/>
                </a:lnTo>
                <a:lnTo>
                  <a:pt x="3170" y="2264"/>
                </a:lnTo>
                <a:lnTo>
                  <a:pt x="3173" y="2259"/>
                </a:lnTo>
                <a:lnTo>
                  <a:pt x="3174" y="2258"/>
                </a:lnTo>
                <a:lnTo>
                  <a:pt x="3186" y="2256"/>
                </a:lnTo>
                <a:lnTo>
                  <a:pt x="3205" y="2254"/>
                </a:lnTo>
                <a:lnTo>
                  <a:pt x="3235" y="2254"/>
                </a:lnTo>
                <a:lnTo>
                  <a:pt x="3266" y="2255"/>
                </a:lnTo>
                <a:lnTo>
                  <a:pt x="3276" y="2255"/>
                </a:lnTo>
                <a:lnTo>
                  <a:pt x="3276" y="2255"/>
                </a:lnTo>
                <a:close/>
                <a:moveTo>
                  <a:pt x="3273" y="2455"/>
                </a:moveTo>
                <a:lnTo>
                  <a:pt x="3287" y="2464"/>
                </a:lnTo>
                <a:lnTo>
                  <a:pt x="3306" y="2471"/>
                </a:lnTo>
                <a:lnTo>
                  <a:pt x="3311" y="2472"/>
                </a:lnTo>
                <a:lnTo>
                  <a:pt x="3316" y="2471"/>
                </a:lnTo>
                <a:lnTo>
                  <a:pt x="3319" y="2469"/>
                </a:lnTo>
                <a:lnTo>
                  <a:pt x="3324" y="2467"/>
                </a:lnTo>
                <a:lnTo>
                  <a:pt x="3335" y="2461"/>
                </a:lnTo>
                <a:lnTo>
                  <a:pt x="3356" y="2456"/>
                </a:lnTo>
                <a:lnTo>
                  <a:pt x="3373" y="2455"/>
                </a:lnTo>
                <a:lnTo>
                  <a:pt x="3372" y="2461"/>
                </a:lnTo>
                <a:lnTo>
                  <a:pt x="3370" y="2469"/>
                </a:lnTo>
                <a:lnTo>
                  <a:pt x="3366" y="2487"/>
                </a:lnTo>
                <a:lnTo>
                  <a:pt x="3363" y="2506"/>
                </a:lnTo>
                <a:lnTo>
                  <a:pt x="3364" y="2510"/>
                </a:lnTo>
                <a:lnTo>
                  <a:pt x="3356" y="2509"/>
                </a:lnTo>
                <a:lnTo>
                  <a:pt x="3334" y="2507"/>
                </a:lnTo>
                <a:lnTo>
                  <a:pt x="3286" y="2497"/>
                </a:lnTo>
                <a:lnTo>
                  <a:pt x="3277" y="2493"/>
                </a:lnTo>
                <a:lnTo>
                  <a:pt x="3272" y="2487"/>
                </a:lnTo>
                <a:lnTo>
                  <a:pt x="3267" y="2478"/>
                </a:lnTo>
                <a:lnTo>
                  <a:pt x="3267" y="2468"/>
                </a:lnTo>
                <a:lnTo>
                  <a:pt x="3272" y="2455"/>
                </a:lnTo>
                <a:lnTo>
                  <a:pt x="3273" y="2455"/>
                </a:lnTo>
                <a:lnTo>
                  <a:pt x="3273" y="2455"/>
                </a:lnTo>
                <a:close/>
                <a:moveTo>
                  <a:pt x="3374" y="2400"/>
                </a:moveTo>
                <a:lnTo>
                  <a:pt x="3367" y="2400"/>
                </a:lnTo>
                <a:lnTo>
                  <a:pt x="3361" y="2397"/>
                </a:lnTo>
                <a:lnTo>
                  <a:pt x="3357" y="2393"/>
                </a:lnTo>
                <a:lnTo>
                  <a:pt x="3353" y="2388"/>
                </a:lnTo>
                <a:lnTo>
                  <a:pt x="3350" y="2383"/>
                </a:lnTo>
                <a:lnTo>
                  <a:pt x="3345" y="2372"/>
                </a:lnTo>
                <a:lnTo>
                  <a:pt x="3345" y="2367"/>
                </a:lnTo>
                <a:lnTo>
                  <a:pt x="3347" y="2361"/>
                </a:lnTo>
                <a:lnTo>
                  <a:pt x="3350" y="2358"/>
                </a:lnTo>
                <a:lnTo>
                  <a:pt x="3354" y="2355"/>
                </a:lnTo>
                <a:lnTo>
                  <a:pt x="3360" y="2354"/>
                </a:lnTo>
                <a:lnTo>
                  <a:pt x="3361" y="2354"/>
                </a:lnTo>
                <a:lnTo>
                  <a:pt x="3363" y="2356"/>
                </a:lnTo>
                <a:lnTo>
                  <a:pt x="3369" y="2364"/>
                </a:lnTo>
                <a:lnTo>
                  <a:pt x="3377" y="2380"/>
                </a:lnTo>
                <a:lnTo>
                  <a:pt x="3379" y="2388"/>
                </a:lnTo>
                <a:lnTo>
                  <a:pt x="3377" y="2397"/>
                </a:lnTo>
                <a:lnTo>
                  <a:pt x="3374" y="2400"/>
                </a:lnTo>
                <a:lnTo>
                  <a:pt x="3374" y="2400"/>
                </a:lnTo>
                <a:close/>
                <a:moveTo>
                  <a:pt x="3419" y="2433"/>
                </a:moveTo>
                <a:lnTo>
                  <a:pt x="3424" y="2429"/>
                </a:lnTo>
                <a:lnTo>
                  <a:pt x="3431" y="2416"/>
                </a:lnTo>
                <a:lnTo>
                  <a:pt x="3438" y="2401"/>
                </a:lnTo>
                <a:lnTo>
                  <a:pt x="3451" y="2375"/>
                </a:lnTo>
                <a:lnTo>
                  <a:pt x="3464" y="2362"/>
                </a:lnTo>
                <a:lnTo>
                  <a:pt x="3466" y="2365"/>
                </a:lnTo>
                <a:lnTo>
                  <a:pt x="3473" y="2374"/>
                </a:lnTo>
                <a:lnTo>
                  <a:pt x="3492" y="2398"/>
                </a:lnTo>
                <a:lnTo>
                  <a:pt x="3503" y="2419"/>
                </a:lnTo>
                <a:lnTo>
                  <a:pt x="3505" y="2420"/>
                </a:lnTo>
                <a:lnTo>
                  <a:pt x="3505" y="2432"/>
                </a:lnTo>
                <a:lnTo>
                  <a:pt x="3505" y="2449"/>
                </a:lnTo>
                <a:lnTo>
                  <a:pt x="3505" y="2458"/>
                </a:lnTo>
                <a:lnTo>
                  <a:pt x="3503" y="2462"/>
                </a:lnTo>
                <a:lnTo>
                  <a:pt x="3500" y="2465"/>
                </a:lnTo>
                <a:lnTo>
                  <a:pt x="3496" y="2467"/>
                </a:lnTo>
                <a:lnTo>
                  <a:pt x="3492" y="2469"/>
                </a:lnTo>
                <a:lnTo>
                  <a:pt x="3474" y="2477"/>
                </a:lnTo>
                <a:lnTo>
                  <a:pt x="3464" y="2481"/>
                </a:lnTo>
                <a:lnTo>
                  <a:pt x="3463" y="2478"/>
                </a:lnTo>
                <a:lnTo>
                  <a:pt x="3460" y="2475"/>
                </a:lnTo>
                <a:lnTo>
                  <a:pt x="3457" y="2474"/>
                </a:lnTo>
                <a:lnTo>
                  <a:pt x="3453" y="2471"/>
                </a:lnTo>
                <a:lnTo>
                  <a:pt x="3443" y="2467"/>
                </a:lnTo>
                <a:lnTo>
                  <a:pt x="3432" y="2461"/>
                </a:lnTo>
                <a:lnTo>
                  <a:pt x="3424" y="2451"/>
                </a:lnTo>
                <a:lnTo>
                  <a:pt x="3419" y="2433"/>
                </a:lnTo>
                <a:lnTo>
                  <a:pt x="3419" y="2433"/>
                </a:lnTo>
                <a:lnTo>
                  <a:pt x="3419" y="2433"/>
                </a:lnTo>
                <a:close/>
                <a:moveTo>
                  <a:pt x="3754" y="2207"/>
                </a:moveTo>
                <a:lnTo>
                  <a:pt x="3747" y="2207"/>
                </a:lnTo>
                <a:lnTo>
                  <a:pt x="3738" y="2207"/>
                </a:lnTo>
                <a:lnTo>
                  <a:pt x="3725" y="2203"/>
                </a:lnTo>
                <a:lnTo>
                  <a:pt x="3712" y="2200"/>
                </a:lnTo>
                <a:lnTo>
                  <a:pt x="3708" y="2198"/>
                </a:lnTo>
                <a:lnTo>
                  <a:pt x="3705" y="2201"/>
                </a:lnTo>
                <a:lnTo>
                  <a:pt x="3700" y="2207"/>
                </a:lnTo>
                <a:lnTo>
                  <a:pt x="3692" y="2219"/>
                </a:lnTo>
                <a:lnTo>
                  <a:pt x="3686" y="2229"/>
                </a:lnTo>
                <a:lnTo>
                  <a:pt x="3684" y="2229"/>
                </a:lnTo>
                <a:lnTo>
                  <a:pt x="3683" y="2223"/>
                </a:lnTo>
                <a:lnTo>
                  <a:pt x="3682" y="2209"/>
                </a:lnTo>
                <a:lnTo>
                  <a:pt x="3684" y="2177"/>
                </a:lnTo>
                <a:lnTo>
                  <a:pt x="3690" y="2148"/>
                </a:lnTo>
                <a:lnTo>
                  <a:pt x="3692" y="2141"/>
                </a:lnTo>
                <a:lnTo>
                  <a:pt x="3692" y="2136"/>
                </a:lnTo>
                <a:lnTo>
                  <a:pt x="3692" y="2129"/>
                </a:lnTo>
                <a:lnTo>
                  <a:pt x="3693" y="2116"/>
                </a:lnTo>
                <a:lnTo>
                  <a:pt x="3693" y="2097"/>
                </a:lnTo>
                <a:lnTo>
                  <a:pt x="3695" y="2088"/>
                </a:lnTo>
                <a:lnTo>
                  <a:pt x="3703" y="2090"/>
                </a:lnTo>
                <a:lnTo>
                  <a:pt x="3715" y="2093"/>
                </a:lnTo>
                <a:lnTo>
                  <a:pt x="3718" y="2094"/>
                </a:lnTo>
                <a:lnTo>
                  <a:pt x="3719" y="2097"/>
                </a:lnTo>
                <a:lnTo>
                  <a:pt x="3721" y="2099"/>
                </a:lnTo>
                <a:lnTo>
                  <a:pt x="3725" y="2109"/>
                </a:lnTo>
                <a:lnTo>
                  <a:pt x="3760" y="2143"/>
                </a:lnTo>
                <a:lnTo>
                  <a:pt x="3761" y="2143"/>
                </a:lnTo>
                <a:lnTo>
                  <a:pt x="3761" y="2149"/>
                </a:lnTo>
                <a:lnTo>
                  <a:pt x="3761" y="2159"/>
                </a:lnTo>
                <a:lnTo>
                  <a:pt x="3761" y="2184"/>
                </a:lnTo>
                <a:lnTo>
                  <a:pt x="3760" y="2196"/>
                </a:lnTo>
                <a:lnTo>
                  <a:pt x="3755" y="2204"/>
                </a:lnTo>
                <a:lnTo>
                  <a:pt x="3754" y="2207"/>
                </a:lnTo>
                <a:lnTo>
                  <a:pt x="3754" y="2207"/>
                </a:lnTo>
                <a:close/>
                <a:moveTo>
                  <a:pt x="3522" y="2084"/>
                </a:moveTo>
                <a:lnTo>
                  <a:pt x="3529" y="2080"/>
                </a:lnTo>
                <a:lnTo>
                  <a:pt x="3545" y="2068"/>
                </a:lnTo>
                <a:lnTo>
                  <a:pt x="3571" y="2046"/>
                </a:lnTo>
                <a:lnTo>
                  <a:pt x="3598" y="2022"/>
                </a:lnTo>
                <a:lnTo>
                  <a:pt x="3605" y="2014"/>
                </a:lnTo>
                <a:lnTo>
                  <a:pt x="3608" y="2019"/>
                </a:lnTo>
                <a:lnTo>
                  <a:pt x="3613" y="2030"/>
                </a:lnTo>
                <a:lnTo>
                  <a:pt x="3618" y="2042"/>
                </a:lnTo>
                <a:lnTo>
                  <a:pt x="3622" y="2067"/>
                </a:lnTo>
                <a:lnTo>
                  <a:pt x="3622" y="2084"/>
                </a:lnTo>
                <a:lnTo>
                  <a:pt x="3628" y="2080"/>
                </a:lnTo>
                <a:lnTo>
                  <a:pt x="3645" y="2064"/>
                </a:lnTo>
                <a:lnTo>
                  <a:pt x="3660" y="2051"/>
                </a:lnTo>
                <a:lnTo>
                  <a:pt x="3661" y="2049"/>
                </a:lnTo>
                <a:lnTo>
                  <a:pt x="3661" y="2062"/>
                </a:lnTo>
                <a:lnTo>
                  <a:pt x="3661" y="2100"/>
                </a:lnTo>
                <a:lnTo>
                  <a:pt x="3656" y="2197"/>
                </a:lnTo>
                <a:lnTo>
                  <a:pt x="3642" y="2238"/>
                </a:lnTo>
                <a:lnTo>
                  <a:pt x="3632" y="2252"/>
                </a:lnTo>
                <a:lnTo>
                  <a:pt x="3619" y="2262"/>
                </a:lnTo>
                <a:lnTo>
                  <a:pt x="3605" y="2265"/>
                </a:lnTo>
                <a:lnTo>
                  <a:pt x="3605" y="2265"/>
                </a:lnTo>
                <a:lnTo>
                  <a:pt x="3605" y="2262"/>
                </a:lnTo>
                <a:lnTo>
                  <a:pt x="3605" y="2255"/>
                </a:lnTo>
                <a:lnTo>
                  <a:pt x="3609" y="2236"/>
                </a:lnTo>
                <a:lnTo>
                  <a:pt x="3612" y="2219"/>
                </a:lnTo>
                <a:lnTo>
                  <a:pt x="3613" y="2214"/>
                </a:lnTo>
                <a:lnTo>
                  <a:pt x="3590" y="2216"/>
                </a:lnTo>
                <a:lnTo>
                  <a:pt x="3554" y="2225"/>
                </a:lnTo>
                <a:lnTo>
                  <a:pt x="3528" y="2239"/>
                </a:lnTo>
                <a:lnTo>
                  <a:pt x="3506" y="2259"/>
                </a:lnTo>
                <a:lnTo>
                  <a:pt x="3458" y="2304"/>
                </a:lnTo>
                <a:lnTo>
                  <a:pt x="3443" y="2314"/>
                </a:lnTo>
                <a:lnTo>
                  <a:pt x="3443" y="2313"/>
                </a:lnTo>
                <a:lnTo>
                  <a:pt x="3444" y="2303"/>
                </a:lnTo>
                <a:lnTo>
                  <a:pt x="3450" y="2264"/>
                </a:lnTo>
                <a:lnTo>
                  <a:pt x="3454" y="2229"/>
                </a:lnTo>
                <a:lnTo>
                  <a:pt x="3456" y="2225"/>
                </a:lnTo>
                <a:lnTo>
                  <a:pt x="3447" y="2222"/>
                </a:lnTo>
                <a:lnTo>
                  <a:pt x="3437" y="2216"/>
                </a:lnTo>
                <a:lnTo>
                  <a:pt x="3428" y="2210"/>
                </a:lnTo>
                <a:lnTo>
                  <a:pt x="3427" y="2207"/>
                </a:lnTo>
                <a:lnTo>
                  <a:pt x="3422" y="2188"/>
                </a:lnTo>
                <a:lnTo>
                  <a:pt x="3414" y="2127"/>
                </a:lnTo>
                <a:lnTo>
                  <a:pt x="3408" y="2081"/>
                </a:lnTo>
                <a:lnTo>
                  <a:pt x="3408" y="2078"/>
                </a:lnTo>
                <a:lnTo>
                  <a:pt x="3406" y="2064"/>
                </a:lnTo>
                <a:lnTo>
                  <a:pt x="3406" y="2028"/>
                </a:lnTo>
                <a:lnTo>
                  <a:pt x="3414" y="1954"/>
                </a:lnTo>
                <a:lnTo>
                  <a:pt x="3418" y="1941"/>
                </a:lnTo>
                <a:lnTo>
                  <a:pt x="3424" y="1932"/>
                </a:lnTo>
                <a:lnTo>
                  <a:pt x="3427" y="1929"/>
                </a:lnTo>
                <a:lnTo>
                  <a:pt x="3429" y="1928"/>
                </a:lnTo>
                <a:lnTo>
                  <a:pt x="3434" y="1929"/>
                </a:lnTo>
                <a:lnTo>
                  <a:pt x="3437" y="1930"/>
                </a:lnTo>
                <a:lnTo>
                  <a:pt x="3441" y="1935"/>
                </a:lnTo>
                <a:lnTo>
                  <a:pt x="3445" y="1941"/>
                </a:lnTo>
                <a:lnTo>
                  <a:pt x="3447" y="1941"/>
                </a:lnTo>
                <a:lnTo>
                  <a:pt x="3451" y="1951"/>
                </a:lnTo>
                <a:lnTo>
                  <a:pt x="3458" y="1972"/>
                </a:lnTo>
                <a:lnTo>
                  <a:pt x="3463" y="1997"/>
                </a:lnTo>
                <a:lnTo>
                  <a:pt x="3466" y="2048"/>
                </a:lnTo>
                <a:lnTo>
                  <a:pt x="3467" y="2078"/>
                </a:lnTo>
                <a:lnTo>
                  <a:pt x="3474" y="2074"/>
                </a:lnTo>
                <a:lnTo>
                  <a:pt x="3489" y="2062"/>
                </a:lnTo>
                <a:lnTo>
                  <a:pt x="3498" y="2055"/>
                </a:lnTo>
                <a:lnTo>
                  <a:pt x="3502" y="2054"/>
                </a:lnTo>
                <a:lnTo>
                  <a:pt x="3505" y="2052"/>
                </a:lnTo>
                <a:lnTo>
                  <a:pt x="3508" y="2054"/>
                </a:lnTo>
                <a:lnTo>
                  <a:pt x="3509" y="2055"/>
                </a:lnTo>
                <a:lnTo>
                  <a:pt x="3511" y="2058"/>
                </a:lnTo>
                <a:lnTo>
                  <a:pt x="3514" y="2064"/>
                </a:lnTo>
                <a:lnTo>
                  <a:pt x="3518" y="2072"/>
                </a:lnTo>
                <a:lnTo>
                  <a:pt x="3521" y="2084"/>
                </a:lnTo>
                <a:lnTo>
                  <a:pt x="3522" y="2084"/>
                </a:lnTo>
                <a:lnTo>
                  <a:pt x="3522" y="2084"/>
                </a:lnTo>
                <a:close/>
                <a:moveTo>
                  <a:pt x="252" y="2461"/>
                </a:moveTo>
                <a:lnTo>
                  <a:pt x="241" y="2448"/>
                </a:lnTo>
                <a:lnTo>
                  <a:pt x="222" y="2425"/>
                </a:lnTo>
                <a:lnTo>
                  <a:pt x="186" y="2401"/>
                </a:lnTo>
                <a:lnTo>
                  <a:pt x="171" y="2398"/>
                </a:lnTo>
                <a:lnTo>
                  <a:pt x="157" y="2398"/>
                </a:lnTo>
                <a:lnTo>
                  <a:pt x="151" y="2400"/>
                </a:lnTo>
                <a:lnTo>
                  <a:pt x="151" y="2407"/>
                </a:lnTo>
                <a:lnTo>
                  <a:pt x="152" y="2419"/>
                </a:lnTo>
                <a:lnTo>
                  <a:pt x="157" y="2432"/>
                </a:lnTo>
                <a:lnTo>
                  <a:pt x="165" y="2448"/>
                </a:lnTo>
                <a:lnTo>
                  <a:pt x="199" y="2488"/>
                </a:lnTo>
                <a:lnTo>
                  <a:pt x="212" y="2501"/>
                </a:lnTo>
                <a:lnTo>
                  <a:pt x="216" y="2509"/>
                </a:lnTo>
                <a:lnTo>
                  <a:pt x="223" y="2520"/>
                </a:lnTo>
                <a:lnTo>
                  <a:pt x="226" y="2532"/>
                </a:lnTo>
                <a:lnTo>
                  <a:pt x="226" y="2542"/>
                </a:lnTo>
                <a:lnTo>
                  <a:pt x="229" y="2553"/>
                </a:lnTo>
                <a:lnTo>
                  <a:pt x="233" y="2564"/>
                </a:lnTo>
                <a:lnTo>
                  <a:pt x="239" y="2568"/>
                </a:lnTo>
                <a:lnTo>
                  <a:pt x="245" y="2574"/>
                </a:lnTo>
                <a:lnTo>
                  <a:pt x="251" y="2578"/>
                </a:lnTo>
                <a:lnTo>
                  <a:pt x="259" y="2580"/>
                </a:lnTo>
                <a:lnTo>
                  <a:pt x="275" y="2582"/>
                </a:lnTo>
                <a:lnTo>
                  <a:pt x="291" y="2582"/>
                </a:lnTo>
                <a:lnTo>
                  <a:pt x="314" y="2580"/>
                </a:lnTo>
                <a:lnTo>
                  <a:pt x="317" y="2580"/>
                </a:lnTo>
                <a:lnTo>
                  <a:pt x="316" y="2571"/>
                </a:lnTo>
                <a:lnTo>
                  <a:pt x="313" y="2555"/>
                </a:lnTo>
                <a:lnTo>
                  <a:pt x="306" y="2538"/>
                </a:lnTo>
                <a:lnTo>
                  <a:pt x="294" y="2520"/>
                </a:lnTo>
                <a:lnTo>
                  <a:pt x="261" y="2475"/>
                </a:lnTo>
                <a:lnTo>
                  <a:pt x="252" y="2461"/>
                </a:lnTo>
                <a:lnTo>
                  <a:pt x="252" y="2461"/>
                </a:lnTo>
                <a:close/>
                <a:moveTo>
                  <a:pt x="1701" y="2733"/>
                </a:moveTo>
                <a:lnTo>
                  <a:pt x="1702" y="2726"/>
                </a:lnTo>
                <a:lnTo>
                  <a:pt x="1708" y="2704"/>
                </a:lnTo>
                <a:lnTo>
                  <a:pt x="1713" y="2687"/>
                </a:lnTo>
                <a:lnTo>
                  <a:pt x="1714" y="2685"/>
                </a:lnTo>
                <a:lnTo>
                  <a:pt x="1721" y="2687"/>
                </a:lnTo>
                <a:lnTo>
                  <a:pt x="1744" y="2690"/>
                </a:lnTo>
                <a:lnTo>
                  <a:pt x="1762" y="2691"/>
                </a:lnTo>
                <a:lnTo>
                  <a:pt x="1763" y="2691"/>
                </a:lnTo>
                <a:lnTo>
                  <a:pt x="1762" y="2700"/>
                </a:lnTo>
                <a:lnTo>
                  <a:pt x="1762" y="2726"/>
                </a:lnTo>
                <a:lnTo>
                  <a:pt x="1762" y="2745"/>
                </a:lnTo>
                <a:lnTo>
                  <a:pt x="1762" y="2745"/>
                </a:lnTo>
                <a:lnTo>
                  <a:pt x="1766" y="2746"/>
                </a:lnTo>
                <a:lnTo>
                  <a:pt x="1775" y="2748"/>
                </a:lnTo>
                <a:lnTo>
                  <a:pt x="1797" y="2755"/>
                </a:lnTo>
                <a:lnTo>
                  <a:pt x="1855" y="2771"/>
                </a:lnTo>
                <a:lnTo>
                  <a:pt x="1911" y="2777"/>
                </a:lnTo>
                <a:lnTo>
                  <a:pt x="1913" y="2777"/>
                </a:lnTo>
                <a:lnTo>
                  <a:pt x="1927" y="2777"/>
                </a:lnTo>
                <a:lnTo>
                  <a:pt x="1976" y="2772"/>
                </a:lnTo>
                <a:lnTo>
                  <a:pt x="2014" y="2771"/>
                </a:lnTo>
                <a:lnTo>
                  <a:pt x="2017" y="2769"/>
                </a:lnTo>
                <a:lnTo>
                  <a:pt x="2024" y="2768"/>
                </a:lnTo>
                <a:lnTo>
                  <a:pt x="2033" y="2765"/>
                </a:lnTo>
                <a:lnTo>
                  <a:pt x="2039" y="2759"/>
                </a:lnTo>
                <a:lnTo>
                  <a:pt x="2046" y="2753"/>
                </a:lnTo>
                <a:lnTo>
                  <a:pt x="2056" y="2736"/>
                </a:lnTo>
                <a:lnTo>
                  <a:pt x="2066" y="2719"/>
                </a:lnTo>
                <a:lnTo>
                  <a:pt x="2089" y="2684"/>
                </a:lnTo>
                <a:lnTo>
                  <a:pt x="2091" y="2684"/>
                </a:lnTo>
                <a:lnTo>
                  <a:pt x="2099" y="2685"/>
                </a:lnTo>
                <a:lnTo>
                  <a:pt x="2118" y="2688"/>
                </a:lnTo>
                <a:lnTo>
                  <a:pt x="2134" y="2694"/>
                </a:lnTo>
                <a:lnTo>
                  <a:pt x="2173" y="2714"/>
                </a:lnTo>
                <a:lnTo>
                  <a:pt x="2217" y="2735"/>
                </a:lnTo>
                <a:lnTo>
                  <a:pt x="2226" y="2739"/>
                </a:lnTo>
                <a:lnTo>
                  <a:pt x="2252" y="2749"/>
                </a:lnTo>
                <a:lnTo>
                  <a:pt x="2272" y="2756"/>
                </a:lnTo>
                <a:lnTo>
                  <a:pt x="2273" y="2756"/>
                </a:lnTo>
                <a:lnTo>
                  <a:pt x="2276" y="2762"/>
                </a:lnTo>
                <a:lnTo>
                  <a:pt x="2278" y="2768"/>
                </a:lnTo>
                <a:lnTo>
                  <a:pt x="2276" y="2775"/>
                </a:lnTo>
                <a:lnTo>
                  <a:pt x="2275" y="2781"/>
                </a:lnTo>
                <a:lnTo>
                  <a:pt x="2270" y="2795"/>
                </a:lnTo>
                <a:lnTo>
                  <a:pt x="2266" y="2811"/>
                </a:lnTo>
                <a:lnTo>
                  <a:pt x="2265" y="2824"/>
                </a:lnTo>
                <a:lnTo>
                  <a:pt x="2269" y="2835"/>
                </a:lnTo>
                <a:lnTo>
                  <a:pt x="2270" y="2835"/>
                </a:lnTo>
                <a:lnTo>
                  <a:pt x="2275" y="2836"/>
                </a:lnTo>
                <a:lnTo>
                  <a:pt x="2285" y="2839"/>
                </a:lnTo>
                <a:lnTo>
                  <a:pt x="2295" y="2843"/>
                </a:lnTo>
                <a:lnTo>
                  <a:pt x="2317" y="2852"/>
                </a:lnTo>
                <a:lnTo>
                  <a:pt x="2331" y="2855"/>
                </a:lnTo>
                <a:lnTo>
                  <a:pt x="2343" y="2858"/>
                </a:lnTo>
                <a:lnTo>
                  <a:pt x="2369" y="2861"/>
                </a:lnTo>
                <a:lnTo>
                  <a:pt x="2421" y="2859"/>
                </a:lnTo>
                <a:lnTo>
                  <a:pt x="2470" y="2865"/>
                </a:lnTo>
                <a:lnTo>
                  <a:pt x="2482" y="2868"/>
                </a:lnTo>
                <a:lnTo>
                  <a:pt x="2483" y="2868"/>
                </a:lnTo>
                <a:lnTo>
                  <a:pt x="2495" y="2868"/>
                </a:lnTo>
                <a:lnTo>
                  <a:pt x="2530" y="2868"/>
                </a:lnTo>
                <a:lnTo>
                  <a:pt x="2549" y="2872"/>
                </a:lnTo>
                <a:lnTo>
                  <a:pt x="2556" y="2875"/>
                </a:lnTo>
                <a:lnTo>
                  <a:pt x="2562" y="2880"/>
                </a:lnTo>
                <a:lnTo>
                  <a:pt x="2565" y="2885"/>
                </a:lnTo>
                <a:lnTo>
                  <a:pt x="2566" y="2885"/>
                </a:lnTo>
                <a:lnTo>
                  <a:pt x="2563" y="2888"/>
                </a:lnTo>
                <a:lnTo>
                  <a:pt x="2562" y="2893"/>
                </a:lnTo>
                <a:lnTo>
                  <a:pt x="2560" y="2897"/>
                </a:lnTo>
                <a:lnTo>
                  <a:pt x="2560" y="2903"/>
                </a:lnTo>
                <a:lnTo>
                  <a:pt x="2560" y="2916"/>
                </a:lnTo>
                <a:lnTo>
                  <a:pt x="2559" y="2942"/>
                </a:lnTo>
                <a:lnTo>
                  <a:pt x="2554" y="2949"/>
                </a:lnTo>
                <a:lnTo>
                  <a:pt x="2549" y="2951"/>
                </a:lnTo>
                <a:lnTo>
                  <a:pt x="2543" y="2951"/>
                </a:lnTo>
                <a:lnTo>
                  <a:pt x="2534" y="2948"/>
                </a:lnTo>
                <a:lnTo>
                  <a:pt x="2515" y="2942"/>
                </a:lnTo>
                <a:lnTo>
                  <a:pt x="2485" y="2926"/>
                </a:lnTo>
                <a:lnTo>
                  <a:pt x="2483" y="2924"/>
                </a:lnTo>
                <a:lnTo>
                  <a:pt x="2483" y="2937"/>
                </a:lnTo>
                <a:lnTo>
                  <a:pt x="2486" y="2964"/>
                </a:lnTo>
                <a:lnTo>
                  <a:pt x="2495" y="3024"/>
                </a:lnTo>
                <a:lnTo>
                  <a:pt x="2495" y="3052"/>
                </a:lnTo>
                <a:lnTo>
                  <a:pt x="2491" y="3072"/>
                </a:lnTo>
                <a:lnTo>
                  <a:pt x="2486" y="3079"/>
                </a:lnTo>
                <a:lnTo>
                  <a:pt x="2480" y="3084"/>
                </a:lnTo>
                <a:lnTo>
                  <a:pt x="2476" y="3090"/>
                </a:lnTo>
                <a:lnTo>
                  <a:pt x="2472" y="3100"/>
                </a:lnTo>
                <a:lnTo>
                  <a:pt x="2467" y="3126"/>
                </a:lnTo>
                <a:lnTo>
                  <a:pt x="2465" y="3152"/>
                </a:lnTo>
                <a:lnTo>
                  <a:pt x="2466" y="3174"/>
                </a:lnTo>
                <a:lnTo>
                  <a:pt x="2469" y="3181"/>
                </a:lnTo>
                <a:lnTo>
                  <a:pt x="2472" y="3184"/>
                </a:lnTo>
                <a:lnTo>
                  <a:pt x="2475" y="3181"/>
                </a:lnTo>
                <a:lnTo>
                  <a:pt x="2476" y="3181"/>
                </a:lnTo>
                <a:lnTo>
                  <a:pt x="2485" y="3166"/>
                </a:lnTo>
                <a:lnTo>
                  <a:pt x="2515" y="3123"/>
                </a:lnTo>
                <a:lnTo>
                  <a:pt x="2538" y="3090"/>
                </a:lnTo>
                <a:lnTo>
                  <a:pt x="2540" y="3087"/>
                </a:lnTo>
                <a:lnTo>
                  <a:pt x="2541" y="3087"/>
                </a:lnTo>
                <a:lnTo>
                  <a:pt x="2554" y="3085"/>
                </a:lnTo>
                <a:lnTo>
                  <a:pt x="2599" y="3078"/>
                </a:lnTo>
                <a:lnTo>
                  <a:pt x="2634" y="3074"/>
                </a:lnTo>
                <a:lnTo>
                  <a:pt x="2637" y="3072"/>
                </a:lnTo>
                <a:lnTo>
                  <a:pt x="2638" y="3066"/>
                </a:lnTo>
                <a:lnTo>
                  <a:pt x="2646" y="3049"/>
                </a:lnTo>
                <a:lnTo>
                  <a:pt x="2650" y="3035"/>
                </a:lnTo>
                <a:lnTo>
                  <a:pt x="2651" y="3033"/>
                </a:lnTo>
                <a:lnTo>
                  <a:pt x="2651" y="3032"/>
                </a:lnTo>
                <a:lnTo>
                  <a:pt x="2649" y="3029"/>
                </a:lnTo>
                <a:lnTo>
                  <a:pt x="2643" y="3027"/>
                </a:lnTo>
                <a:lnTo>
                  <a:pt x="2634" y="3027"/>
                </a:lnTo>
                <a:lnTo>
                  <a:pt x="2614" y="3026"/>
                </a:lnTo>
                <a:lnTo>
                  <a:pt x="2583" y="3026"/>
                </a:lnTo>
                <a:lnTo>
                  <a:pt x="2588" y="3026"/>
                </a:lnTo>
                <a:lnTo>
                  <a:pt x="2596" y="3019"/>
                </a:lnTo>
                <a:lnTo>
                  <a:pt x="2621" y="2998"/>
                </a:lnTo>
                <a:lnTo>
                  <a:pt x="2680" y="2953"/>
                </a:lnTo>
                <a:lnTo>
                  <a:pt x="2709" y="2937"/>
                </a:lnTo>
                <a:lnTo>
                  <a:pt x="2734" y="2929"/>
                </a:lnTo>
                <a:lnTo>
                  <a:pt x="2744" y="2929"/>
                </a:lnTo>
                <a:lnTo>
                  <a:pt x="2746" y="2926"/>
                </a:lnTo>
                <a:lnTo>
                  <a:pt x="2757" y="2907"/>
                </a:lnTo>
                <a:lnTo>
                  <a:pt x="2799" y="2838"/>
                </a:lnTo>
                <a:lnTo>
                  <a:pt x="2830" y="2785"/>
                </a:lnTo>
                <a:lnTo>
                  <a:pt x="2833" y="2781"/>
                </a:lnTo>
                <a:lnTo>
                  <a:pt x="2833" y="2778"/>
                </a:lnTo>
                <a:lnTo>
                  <a:pt x="2835" y="2775"/>
                </a:lnTo>
                <a:lnTo>
                  <a:pt x="2840" y="2772"/>
                </a:lnTo>
                <a:lnTo>
                  <a:pt x="2844" y="2771"/>
                </a:lnTo>
                <a:lnTo>
                  <a:pt x="2857" y="2769"/>
                </a:lnTo>
                <a:lnTo>
                  <a:pt x="2873" y="2768"/>
                </a:lnTo>
                <a:lnTo>
                  <a:pt x="2909" y="2767"/>
                </a:lnTo>
                <a:lnTo>
                  <a:pt x="2944" y="2764"/>
                </a:lnTo>
                <a:lnTo>
                  <a:pt x="2960" y="2759"/>
                </a:lnTo>
                <a:lnTo>
                  <a:pt x="2973" y="2752"/>
                </a:lnTo>
                <a:lnTo>
                  <a:pt x="2982" y="2740"/>
                </a:lnTo>
                <a:lnTo>
                  <a:pt x="2986" y="2726"/>
                </a:lnTo>
                <a:lnTo>
                  <a:pt x="2988" y="2726"/>
                </a:lnTo>
                <a:lnTo>
                  <a:pt x="2990" y="2726"/>
                </a:lnTo>
                <a:lnTo>
                  <a:pt x="2993" y="2724"/>
                </a:lnTo>
                <a:lnTo>
                  <a:pt x="2996" y="2722"/>
                </a:lnTo>
                <a:lnTo>
                  <a:pt x="2999" y="2717"/>
                </a:lnTo>
                <a:lnTo>
                  <a:pt x="3004" y="2706"/>
                </a:lnTo>
                <a:lnTo>
                  <a:pt x="3008" y="2690"/>
                </a:lnTo>
                <a:lnTo>
                  <a:pt x="3015" y="2652"/>
                </a:lnTo>
                <a:lnTo>
                  <a:pt x="3027" y="2572"/>
                </a:lnTo>
                <a:lnTo>
                  <a:pt x="3033" y="2543"/>
                </a:lnTo>
                <a:lnTo>
                  <a:pt x="3037" y="2543"/>
                </a:lnTo>
                <a:lnTo>
                  <a:pt x="3050" y="2542"/>
                </a:lnTo>
                <a:lnTo>
                  <a:pt x="3080" y="2538"/>
                </a:lnTo>
                <a:lnTo>
                  <a:pt x="3108" y="2535"/>
                </a:lnTo>
                <a:lnTo>
                  <a:pt x="3114" y="2533"/>
                </a:lnTo>
                <a:lnTo>
                  <a:pt x="3114" y="2536"/>
                </a:lnTo>
                <a:lnTo>
                  <a:pt x="3115" y="2546"/>
                </a:lnTo>
                <a:lnTo>
                  <a:pt x="3119" y="2585"/>
                </a:lnTo>
                <a:lnTo>
                  <a:pt x="3124" y="2614"/>
                </a:lnTo>
                <a:lnTo>
                  <a:pt x="3125" y="2616"/>
                </a:lnTo>
                <a:lnTo>
                  <a:pt x="3130" y="2624"/>
                </a:lnTo>
                <a:lnTo>
                  <a:pt x="3141" y="2640"/>
                </a:lnTo>
                <a:lnTo>
                  <a:pt x="3169" y="2665"/>
                </a:lnTo>
                <a:lnTo>
                  <a:pt x="3202" y="2687"/>
                </a:lnTo>
                <a:lnTo>
                  <a:pt x="3212" y="2693"/>
                </a:lnTo>
                <a:lnTo>
                  <a:pt x="3230" y="2671"/>
                </a:lnTo>
                <a:lnTo>
                  <a:pt x="3259" y="2638"/>
                </a:lnTo>
                <a:lnTo>
                  <a:pt x="3293" y="2601"/>
                </a:lnTo>
                <a:lnTo>
                  <a:pt x="3319" y="2581"/>
                </a:lnTo>
                <a:lnTo>
                  <a:pt x="3328" y="2575"/>
                </a:lnTo>
                <a:lnTo>
                  <a:pt x="3316" y="2601"/>
                </a:lnTo>
                <a:lnTo>
                  <a:pt x="3298" y="2640"/>
                </a:lnTo>
                <a:lnTo>
                  <a:pt x="3283" y="2671"/>
                </a:lnTo>
                <a:lnTo>
                  <a:pt x="3276" y="2694"/>
                </a:lnTo>
                <a:lnTo>
                  <a:pt x="3276" y="2706"/>
                </a:lnTo>
                <a:lnTo>
                  <a:pt x="3279" y="2716"/>
                </a:lnTo>
                <a:lnTo>
                  <a:pt x="3285" y="2726"/>
                </a:lnTo>
                <a:lnTo>
                  <a:pt x="3295" y="2738"/>
                </a:lnTo>
                <a:lnTo>
                  <a:pt x="3308" y="2749"/>
                </a:lnTo>
                <a:lnTo>
                  <a:pt x="3309" y="2749"/>
                </a:lnTo>
                <a:lnTo>
                  <a:pt x="3325" y="2740"/>
                </a:lnTo>
                <a:lnTo>
                  <a:pt x="3348" y="2722"/>
                </a:lnTo>
                <a:lnTo>
                  <a:pt x="3360" y="2701"/>
                </a:lnTo>
                <a:lnTo>
                  <a:pt x="3364" y="2678"/>
                </a:lnTo>
                <a:lnTo>
                  <a:pt x="3366" y="2656"/>
                </a:lnTo>
                <a:lnTo>
                  <a:pt x="3369" y="2633"/>
                </a:lnTo>
                <a:lnTo>
                  <a:pt x="3373" y="2620"/>
                </a:lnTo>
                <a:lnTo>
                  <a:pt x="3379" y="2622"/>
                </a:lnTo>
                <a:lnTo>
                  <a:pt x="3382" y="2620"/>
                </a:lnTo>
                <a:lnTo>
                  <a:pt x="3386" y="2617"/>
                </a:lnTo>
                <a:lnTo>
                  <a:pt x="3396" y="2609"/>
                </a:lnTo>
                <a:lnTo>
                  <a:pt x="3421" y="2587"/>
                </a:lnTo>
                <a:lnTo>
                  <a:pt x="3467" y="2530"/>
                </a:lnTo>
                <a:lnTo>
                  <a:pt x="3486" y="2501"/>
                </a:lnTo>
                <a:lnTo>
                  <a:pt x="3485" y="2501"/>
                </a:lnTo>
                <a:lnTo>
                  <a:pt x="3480" y="2501"/>
                </a:lnTo>
                <a:lnTo>
                  <a:pt x="3464" y="2500"/>
                </a:lnTo>
                <a:lnTo>
                  <a:pt x="3451" y="2498"/>
                </a:lnTo>
                <a:lnTo>
                  <a:pt x="3451" y="2497"/>
                </a:lnTo>
                <a:lnTo>
                  <a:pt x="3448" y="2498"/>
                </a:lnTo>
                <a:lnTo>
                  <a:pt x="3437" y="2504"/>
                </a:lnTo>
                <a:lnTo>
                  <a:pt x="3405" y="2517"/>
                </a:lnTo>
                <a:lnTo>
                  <a:pt x="3377" y="2529"/>
                </a:lnTo>
                <a:lnTo>
                  <a:pt x="3376" y="2530"/>
                </a:lnTo>
                <a:lnTo>
                  <a:pt x="3356" y="2538"/>
                </a:lnTo>
                <a:lnTo>
                  <a:pt x="3318" y="2540"/>
                </a:lnTo>
                <a:lnTo>
                  <a:pt x="3283" y="2530"/>
                </a:lnTo>
                <a:lnTo>
                  <a:pt x="3253" y="2511"/>
                </a:lnTo>
                <a:lnTo>
                  <a:pt x="3230" y="2485"/>
                </a:lnTo>
                <a:lnTo>
                  <a:pt x="3214" y="2455"/>
                </a:lnTo>
                <a:lnTo>
                  <a:pt x="3211" y="2438"/>
                </a:lnTo>
                <a:lnTo>
                  <a:pt x="3206" y="2439"/>
                </a:lnTo>
                <a:lnTo>
                  <a:pt x="3199" y="2440"/>
                </a:lnTo>
                <a:lnTo>
                  <a:pt x="3180" y="2446"/>
                </a:lnTo>
                <a:lnTo>
                  <a:pt x="3134" y="2464"/>
                </a:lnTo>
                <a:lnTo>
                  <a:pt x="3105" y="2471"/>
                </a:lnTo>
                <a:lnTo>
                  <a:pt x="3105" y="2462"/>
                </a:lnTo>
                <a:lnTo>
                  <a:pt x="3109" y="2454"/>
                </a:lnTo>
                <a:lnTo>
                  <a:pt x="3118" y="2445"/>
                </a:lnTo>
                <a:lnTo>
                  <a:pt x="3130" y="2435"/>
                </a:lnTo>
                <a:lnTo>
                  <a:pt x="3157" y="2417"/>
                </a:lnTo>
                <a:lnTo>
                  <a:pt x="3208" y="2377"/>
                </a:lnTo>
                <a:lnTo>
                  <a:pt x="3218" y="2354"/>
                </a:lnTo>
                <a:lnTo>
                  <a:pt x="3188" y="2342"/>
                </a:lnTo>
                <a:lnTo>
                  <a:pt x="3140" y="2336"/>
                </a:lnTo>
                <a:lnTo>
                  <a:pt x="3102" y="2351"/>
                </a:lnTo>
                <a:lnTo>
                  <a:pt x="3073" y="2378"/>
                </a:lnTo>
                <a:lnTo>
                  <a:pt x="3046" y="2416"/>
                </a:lnTo>
                <a:lnTo>
                  <a:pt x="3015" y="2455"/>
                </a:lnTo>
                <a:lnTo>
                  <a:pt x="2999" y="2474"/>
                </a:lnTo>
                <a:lnTo>
                  <a:pt x="2995" y="2462"/>
                </a:lnTo>
                <a:lnTo>
                  <a:pt x="2993" y="2449"/>
                </a:lnTo>
                <a:lnTo>
                  <a:pt x="2996" y="2435"/>
                </a:lnTo>
                <a:lnTo>
                  <a:pt x="3001" y="2422"/>
                </a:lnTo>
                <a:lnTo>
                  <a:pt x="3012" y="2393"/>
                </a:lnTo>
                <a:lnTo>
                  <a:pt x="3040" y="2336"/>
                </a:lnTo>
                <a:lnTo>
                  <a:pt x="3046" y="2307"/>
                </a:lnTo>
                <a:lnTo>
                  <a:pt x="3057" y="2284"/>
                </a:lnTo>
                <a:lnTo>
                  <a:pt x="3076" y="2264"/>
                </a:lnTo>
                <a:lnTo>
                  <a:pt x="3099" y="2249"/>
                </a:lnTo>
                <a:lnTo>
                  <a:pt x="3127" y="2236"/>
                </a:lnTo>
                <a:lnTo>
                  <a:pt x="3186" y="2217"/>
                </a:lnTo>
                <a:lnTo>
                  <a:pt x="3245" y="2200"/>
                </a:lnTo>
                <a:lnTo>
                  <a:pt x="3296" y="2174"/>
                </a:lnTo>
                <a:lnTo>
                  <a:pt x="3315" y="2156"/>
                </a:lnTo>
                <a:lnTo>
                  <a:pt x="3327" y="2133"/>
                </a:lnTo>
                <a:lnTo>
                  <a:pt x="3328" y="2133"/>
                </a:lnTo>
                <a:lnTo>
                  <a:pt x="3331" y="2123"/>
                </a:lnTo>
                <a:lnTo>
                  <a:pt x="3335" y="2100"/>
                </a:lnTo>
                <a:lnTo>
                  <a:pt x="3340" y="2055"/>
                </a:lnTo>
                <a:lnTo>
                  <a:pt x="3356" y="2014"/>
                </a:lnTo>
                <a:lnTo>
                  <a:pt x="3364" y="2004"/>
                </a:lnTo>
                <a:lnTo>
                  <a:pt x="3374" y="1990"/>
                </a:lnTo>
                <a:lnTo>
                  <a:pt x="3389" y="1955"/>
                </a:lnTo>
                <a:lnTo>
                  <a:pt x="3393" y="1914"/>
                </a:lnTo>
                <a:lnTo>
                  <a:pt x="3389" y="1877"/>
                </a:lnTo>
                <a:lnTo>
                  <a:pt x="3373" y="1842"/>
                </a:lnTo>
                <a:lnTo>
                  <a:pt x="3345" y="1819"/>
                </a:lnTo>
                <a:lnTo>
                  <a:pt x="3328" y="1812"/>
                </a:lnTo>
                <a:lnTo>
                  <a:pt x="3327" y="1813"/>
                </a:lnTo>
                <a:lnTo>
                  <a:pt x="3321" y="1816"/>
                </a:lnTo>
                <a:lnTo>
                  <a:pt x="3301" y="1825"/>
                </a:lnTo>
                <a:lnTo>
                  <a:pt x="3286" y="1830"/>
                </a:lnTo>
                <a:lnTo>
                  <a:pt x="3286" y="1830"/>
                </a:lnTo>
                <a:lnTo>
                  <a:pt x="3280" y="1828"/>
                </a:lnTo>
                <a:lnTo>
                  <a:pt x="3264" y="1819"/>
                </a:lnTo>
                <a:lnTo>
                  <a:pt x="3253" y="1812"/>
                </a:lnTo>
                <a:lnTo>
                  <a:pt x="3253" y="1810"/>
                </a:lnTo>
                <a:lnTo>
                  <a:pt x="3243" y="1817"/>
                </a:lnTo>
                <a:lnTo>
                  <a:pt x="3234" y="1829"/>
                </a:lnTo>
                <a:lnTo>
                  <a:pt x="3227" y="1845"/>
                </a:lnTo>
                <a:lnTo>
                  <a:pt x="3215" y="1881"/>
                </a:lnTo>
                <a:lnTo>
                  <a:pt x="3198" y="1954"/>
                </a:lnTo>
                <a:lnTo>
                  <a:pt x="3186" y="1971"/>
                </a:lnTo>
                <a:lnTo>
                  <a:pt x="3186" y="1967"/>
                </a:lnTo>
                <a:lnTo>
                  <a:pt x="3186" y="1959"/>
                </a:lnTo>
                <a:lnTo>
                  <a:pt x="3185" y="1939"/>
                </a:lnTo>
                <a:lnTo>
                  <a:pt x="3180" y="1887"/>
                </a:lnTo>
                <a:lnTo>
                  <a:pt x="3186" y="1848"/>
                </a:lnTo>
                <a:lnTo>
                  <a:pt x="3189" y="1842"/>
                </a:lnTo>
                <a:lnTo>
                  <a:pt x="3198" y="1828"/>
                </a:lnTo>
                <a:lnTo>
                  <a:pt x="3217" y="1796"/>
                </a:lnTo>
                <a:lnTo>
                  <a:pt x="3222" y="1783"/>
                </a:lnTo>
                <a:lnTo>
                  <a:pt x="3222" y="1777"/>
                </a:lnTo>
                <a:lnTo>
                  <a:pt x="3222" y="1772"/>
                </a:lnTo>
                <a:lnTo>
                  <a:pt x="3222" y="1770"/>
                </a:lnTo>
                <a:lnTo>
                  <a:pt x="3212" y="1774"/>
                </a:lnTo>
                <a:lnTo>
                  <a:pt x="3188" y="1781"/>
                </a:lnTo>
                <a:lnTo>
                  <a:pt x="3161" y="1784"/>
                </a:lnTo>
                <a:lnTo>
                  <a:pt x="3109" y="1788"/>
                </a:lnTo>
                <a:lnTo>
                  <a:pt x="3082" y="1793"/>
                </a:lnTo>
                <a:lnTo>
                  <a:pt x="3075" y="1790"/>
                </a:lnTo>
                <a:lnTo>
                  <a:pt x="3059" y="1781"/>
                </a:lnTo>
                <a:lnTo>
                  <a:pt x="3030" y="1768"/>
                </a:lnTo>
                <a:lnTo>
                  <a:pt x="3004" y="1752"/>
                </a:lnTo>
                <a:lnTo>
                  <a:pt x="2999" y="1748"/>
                </a:lnTo>
                <a:lnTo>
                  <a:pt x="3002" y="1745"/>
                </a:lnTo>
                <a:lnTo>
                  <a:pt x="3011" y="1735"/>
                </a:lnTo>
                <a:lnTo>
                  <a:pt x="3017" y="1722"/>
                </a:lnTo>
                <a:lnTo>
                  <a:pt x="3018" y="1719"/>
                </a:lnTo>
                <a:lnTo>
                  <a:pt x="3001" y="1704"/>
                </a:lnTo>
                <a:lnTo>
                  <a:pt x="2959" y="1673"/>
                </a:lnTo>
                <a:lnTo>
                  <a:pt x="2859" y="1612"/>
                </a:lnTo>
                <a:lnTo>
                  <a:pt x="2763" y="1545"/>
                </a:lnTo>
                <a:lnTo>
                  <a:pt x="2744" y="1526"/>
                </a:lnTo>
                <a:lnTo>
                  <a:pt x="2738" y="1535"/>
                </a:lnTo>
                <a:lnTo>
                  <a:pt x="2734" y="1544"/>
                </a:lnTo>
                <a:lnTo>
                  <a:pt x="2733" y="1555"/>
                </a:lnTo>
                <a:lnTo>
                  <a:pt x="2731" y="1567"/>
                </a:lnTo>
                <a:lnTo>
                  <a:pt x="2734" y="1591"/>
                </a:lnTo>
                <a:lnTo>
                  <a:pt x="2747" y="1639"/>
                </a:lnTo>
                <a:lnTo>
                  <a:pt x="2753" y="1655"/>
                </a:lnTo>
                <a:lnTo>
                  <a:pt x="2750" y="1661"/>
                </a:lnTo>
                <a:lnTo>
                  <a:pt x="2744" y="1674"/>
                </a:lnTo>
                <a:lnTo>
                  <a:pt x="2728" y="1704"/>
                </a:lnTo>
                <a:lnTo>
                  <a:pt x="2712" y="1733"/>
                </a:lnTo>
                <a:lnTo>
                  <a:pt x="2708" y="1738"/>
                </a:lnTo>
                <a:lnTo>
                  <a:pt x="2701" y="1733"/>
                </a:lnTo>
                <a:lnTo>
                  <a:pt x="2688" y="1726"/>
                </a:lnTo>
                <a:lnTo>
                  <a:pt x="2664" y="1716"/>
                </a:lnTo>
                <a:lnTo>
                  <a:pt x="2640" y="1712"/>
                </a:lnTo>
                <a:lnTo>
                  <a:pt x="2634" y="1710"/>
                </a:lnTo>
                <a:lnTo>
                  <a:pt x="2624" y="1693"/>
                </a:lnTo>
                <a:lnTo>
                  <a:pt x="2607" y="1657"/>
                </a:lnTo>
                <a:lnTo>
                  <a:pt x="2565" y="1599"/>
                </a:lnTo>
                <a:lnTo>
                  <a:pt x="2536" y="1580"/>
                </a:lnTo>
                <a:lnTo>
                  <a:pt x="2499" y="1573"/>
                </a:lnTo>
                <a:lnTo>
                  <a:pt x="2479" y="1573"/>
                </a:lnTo>
                <a:lnTo>
                  <a:pt x="2467" y="1573"/>
                </a:lnTo>
                <a:lnTo>
                  <a:pt x="2457" y="1568"/>
                </a:lnTo>
                <a:lnTo>
                  <a:pt x="2449" y="1564"/>
                </a:lnTo>
                <a:lnTo>
                  <a:pt x="2431" y="1551"/>
                </a:lnTo>
                <a:lnTo>
                  <a:pt x="2395" y="1526"/>
                </a:lnTo>
                <a:lnTo>
                  <a:pt x="2360" y="1526"/>
                </a:lnTo>
                <a:lnTo>
                  <a:pt x="2357" y="1528"/>
                </a:lnTo>
                <a:lnTo>
                  <a:pt x="2354" y="1529"/>
                </a:lnTo>
                <a:lnTo>
                  <a:pt x="2352" y="1533"/>
                </a:lnTo>
                <a:lnTo>
                  <a:pt x="2346" y="1541"/>
                </a:lnTo>
                <a:lnTo>
                  <a:pt x="2336" y="1562"/>
                </a:lnTo>
                <a:lnTo>
                  <a:pt x="2334" y="1573"/>
                </a:lnTo>
                <a:lnTo>
                  <a:pt x="2325" y="1571"/>
                </a:lnTo>
                <a:lnTo>
                  <a:pt x="2307" y="1568"/>
                </a:lnTo>
                <a:lnTo>
                  <a:pt x="2265" y="1568"/>
                </a:lnTo>
                <a:lnTo>
                  <a:pt x="2244" y="1573"/>
                </a:lnTo>
                <a:lnTo>
                  <a:pt x="2228" y="1578"/>
                </a:lnTo>
                <a:lnTo>
                  <a:pt x="2224" y="1583"/>
                </a:lnTo>
                <a:lnTo>
                  <a:pt x="2224" y="1591"/>
                </a:lnTo>
                <a:lnTo>
                  <a:pt x="2226" y="1600"/>
                </a:lnTo>
                <a:lnTo>
                  <a:pt x="2233" y="1622"/>
                </a:lnTo>
                <a:lnTo>
                  <a:pt x="2247" y="1668"/>
                </a:lnTo>
                <a:lnTo>
                  <a:pt x="2252" y="1701"/>
                </a:lnTo>
                <a:lnTo>
                  <a:pt x="2265" y="1720"/>
                </a:lnTo>
                <a:lnTo>
                  <a:pt x="2288" y="1749"/>
                </a:lnTo>
                <a:lnTo>
                  <a:pt x="2302" y="1771"/>
                </a:lnTo>
                <a:lnTo>
                  <a:pt x="2310" y="1791"/>
                </a:lnTo>
                <a:lnTo>
                  <a:pt x="2308" y="1816"/>
                </a:lnTo>
                <a:lnTo>
                  <a:pt x="2296" y="1846"/>
                </a:lnTo>
                <a:lnTo>
                  <a:pt x="2288" y="1867"/>
                </a:lnTo>
                <a:lnTo>
                  <a:pt x="2305" y="1877"/>
                </a:lnTo>
                <a:lnTo>
                  <a:pt x="2339" y="1896"/>
                </a:lnTo>
                <a:lnTo>
                  <a:pt x="2392" y="1942"/>
                </a:lnTo>
                <a:lnTo>
                  <a:pt x="2428" y="2004"/>
                </a:lnTo>
                <a:lnTo>
                  <a:pt x="2434" y="2023"/>
                </a:lnTo>
                <a:lnTo>
                  <a:pt x="2436" y="2041"/>
                </a:lnTo>
                <a:lnTo>
                  <a:pt x="2436" y="2056"/>
                </a:lnTo>
                <a:lnTo>
                  <a:pt x="2431" y="2070"/>
                </a:lnTo>
                <a:lnTo>
                  <a:pt x="2425" y="2083"/>
                </a:lnTo>
                <a:lnTo>
                  <a:pt x="2418" y="2094"/>
                </a:lnTo>
                <a:lnTo>
                  <a:pt x="2401" y="2114"/>
                </a:lnTo>
                <a:lnTo>
                  <a:pt x="2365" y="2158"/>
                </a:lnTo>
                <a:lnTo>
                  <a:pt x="2360" y="2171"/>
                </a:lnTo>
                <a:lnTo>
                  <a:pt x="2359" y="2183"/>
                </a:lnTo>
                <a:lnTo>
                  <a:pt x="2363" y="2196"/>
                </a:lnTo>
                <a:lnTo>
                  <a:pt x="2369" y="2212"/>
                </a:lnTo>
                <a:lnTo>
                  <a:pt x="2388" y="2248"/>
                </a:lnTo>
                <a:lnTo>
                  <a:pt x="2436" y="2323"/>
                </a:lnTo>
                <a:lnTo>
                  <a:pt x="2460" y="2364"/>
                </a:lnTo>
                <a:lnTo>
                  <a:pt x="2454" y="2375"/>
                </a:lnTo>
                <a:lnTo>
                  <a:pt x="2450" y="2393"/>
                </a:lnTo>
                <a:lnTo>
                  <a:pt x="2449" y="2401"/>
                </a:lnTo>
                <a:lnTo>
                  <a:pt x="2447" y="2406"/>
                </a:lnTo>
                <a:lnTo>
                  <a:pt x="2444" y="2409"/>
                </a:lnTo>
                <a:lnTo>
                  <a:pt x="2440" y="2411"/>
                </a:lnTo>
                <a:lnTo>
                  <a:pt x="2433" y="2414"/>
                </a:lnTo>
                <a:lnTo>
                  <a:pt x="2408" y="2423"/>
                </a:lnTo>
                <a:lnTo>
                  <a:pt x="2389" y="2427"/>
                </a:lnTo>
                <a:lnTo>
                  <a:pt x="2362" y="2403"/>
                </a:lnTo>
                <a:lnTo>
                  <a:pt x="2318" y="2367"/>
                </a:lnTo>
                <a:lnTo>
                  <a:pt x="2288" y="2339"/>
                </a:lnTo>
                <a:lnTo>
                  <a:pt x="2268" y="2313"/>
                </a:lnTo>
                <a:lnTo>
                  <a:pt x="2256" y="2275"/>
                </a:lnTo>
                <a:lnTo>
                  <a:pt x="2252" y="2219"/>
                </a:lnTo>
                <a:lnTo>
                  <a:pt x="2252" y="2180"/>
                </a:lnTo>
                <a:lnTo>
                  <a:pt x="2241" y="2172"/>
                </a:lnTo>
                <a:lnTo>
                  <a:pt x="2233" y="2167"/>
                </a:lnTo>
                <a:lnTo>
                  <a:pt x="2227" y="2165"/>
                </a:lnTo>
                <a:lnTo>
                  <a:pt x="2221" y="2165"/>
                </a:lnTo>
                <a:lnTo>
                  <a:pt x="2215" y="2167"/>
                </a:lnTo>
                <a:lnTo>
                  <a:pt x="2211" y="2170"/>
                </a:lnTo>
                <a:lnTo>
                  <a:pt x="2199" y="2178"/>
                </a:lnTo>
                <a:lnTo>
                  <a:pt x="2183" y="2185"/>
                </a:lnTo>
                <a:lnTo>
                  <a:pt x="2160" y="2188"/>
                </a:lnTo>
                <a:lnTo>
                  <a:pt x="2160" y="2188"/>
                </a:lnTo>
                <a:lnTo>
                  <a:pt x="2134" y="2188"/>
                </a:lnTo>
                <a:lnTo>
                  <a:pt x="2105" y="2181"/>
                </a:lnTo>
                <a:lnTo>
                  <a:pt x="2040" y="2155"/>
                </a:lnTo>
                <a:lnTo>
                  <a:pt x="1901" y="2097"/>
                </a:lnTo>
                <a:lnTo>
                  <a:pt x="1795" y="2106"/>
                </a:lnTo>
                <a:lnTo>
                  <a:pt x="1789" y="2097"/>
                </a:lnTo>
                <a:lnTo>
                  <a:pt x="1781" y="2075"/>
                </a:lnTo>
                <a:lnTo>
                  <a:pt x="1765" y="2025"/>
                </a:lnTo>
                <a:lnTo>
                  <a:pt x="1750" y="1978"/>
                </a:lnTo>
                <a:lnTo>
                  <a:pt x="1749" y="1968"/>
                </a:lnTo>
                <a:lnTo>
                  <a:pt x="1743" y="1970"/>
                </a:lnTo>
                <a:lnTo>
                  <a:pt x="1733" y="1970"/>
                </a:lnTo>
                <a:lnTo>
                  <a:pt x="1711" y="1974"/>
                </a:lnTo>
                <a:lnTo>
                  <a:pt x="1691" y="1977"/>
                </a:lnTo>
                <a:lnTo>
                  <a:pt x="1687" y="1977"/>
                </a:lnTo>
                <a:lnTo>
                  <a:pt x="1663" y="1949"/>
                </a:lnTo>
                <a:lnTo>
                  <a:pt x="1653" y="1919"/>
                </a:lnTo>
                <a:lnTo>
                  <a:pt x="1650" y="1887"/>
                </a:lnTo>
                <a:lnTo>
                  <a:pt x="1656" y="1855"/>
                </a:lnTo>
                <a:lnTo>
                  <a:pt x="1668" y="1822"/>
                </a:lnTo>
                <a:lnTo>
                  <a:pt x="1704" y="1759"/>
                </a:lnTo>
                <a:lnTo>
                  <a:pt x="1746" y="1701"/>
                </a:lnTo>
                <a:lnTo>
                  <a:pt x="1782" y="1655"/>
                </a:lnTo>
                <a:lnTo>
                  <a:pt x="1795" y="1636"/>
                </a:lnTo>
                <a:lnTo>
                  <a:pt x="1794" y="1632"/>
                </a:lnTo>
                <a:lnTo>
                  <a:pt x="1792" y="1629"/>
                </a:lnTo>
                <a:lnTo>
                  <a:pt x="1788" y="1623"/>
                </a:lnTo>
                <a:lnTo>
                  <a:pt x="1779" y="1613"/>
                </a:lnTo>
                <a:lnTo>
                  <a:pt x="1778" y="1609"/>
                </a:lnTo>
                <a:lnTo>
                  <a:pt x="1782" y="1604"/>
                </a:lnTo>
                <a:lnTo>
                  <a:pt x="1798" y="1586"/>
                </a:lnTo>
                <a:lnTo>
                  <a:pt x="1842" y="1535"/>
                </a:lnTo>
                <a:lnTo>
                  <a:pt x="1879" y="1484"/>
                </a:lnTo>
                <a:lnTo>
                  <a:pt x="1886" y="1473"/>
                </a:lnTo>
                <a:lnTo>
                  <a:pt x="1885" y="1474"/>
                </a:lnTo>
                <a:lnTo>
                  <a:pt x="1882" y="1474"/>
                </a:lnTo>
                <a:lnTo>
                  <a:pt x="1876" y="1474"/>
                </a:lnTo>
                <a:lnTo>
                  <a:pt x="1873" y="1474"/>
                </a:lnTo>
                <a:lnTo>
                  <a:pt x="1866" y="1473"/>
                </a:lnTo>
                <a:lnTo>
                  <a:pt x="1849" y="1468"/>
                </a:lnTo>
                <a:lnTo>
                  <a:pt x="1808" y="1452"/>
                </a:lnTo>
                <a:lnTo>
                  <a:pt x="1779" y="1436"/>
                </a:lnTo>
                <a:lnTo>
                  <a:pt x="1776" y="1432"/>
                </a:lnTo>
                <a:lnTo>
                  <a:pt x="1776" y="1429"/>
                </a:lnTo>
                <a:lnTo>
                  <a:pt x="1776" y="1428"/>
                </a:lnTo>
                <a:lnTo>
                  <a:pt x="1778" y="1425"/>
                </a:lnTo>
                <a:lnTo>
                  <a:pt x="1781" y="1423"/>
                </a:lnTo>
                <a:lnTo>
                  <a:pt x="1785" y="1422"/>
                </a:lnTo>
                <a:lnTo>
                  <a:pt x="1794" y="1422"/>
                </a:lnTo>
                <a:lnTo>
                  <a:pt x="1823" y="1420"/>
                </a:lnTo>
                <a:lnTo>
                  <a:pt x="1868" y="1425"/>
                </a:lnTo>
                <a:lnTo>
                  <a:pt x="1882" y="1426"/>
                </a:lnTo>
                <a:lnTo>
                  <a:pt x="1879" y="1423"/>
                </a:lnTo>
                <a:lnTo>
                  <a:pt x="1878" y="1419"/>
                </a:lnTo>
                <a:lnTo>
                  <a:pt x="1876" y="1413"/>
                </a:lnTo>
                <a:lnTo>
                  <a:pt x="1875" y="1399"/>
                </a:lnTo>
                <a:lnTo>
                  <a:pt x="1873" y="1367"/>
                </a:lnTo>
                <a:lnTo>
                  <a:pt x="1869" y="1352"/>
                </a:lnTo>
                <a:lnTo>
                  <a:pt x="1878" y="1354"/>
                </a:lnTo>
                <a:lnTo>
                  <a:pt x="1907" y="1358"/>
                </a:lnTo>
                <a:lnTo>
                  <a:pt x="1930" y="1361"/>
                </a:lnTo>
                <a:lnTo>
                  <a:pt x="1931" y="1361"/>
                </a:lnTo>
                <a:lnTo>
                  <a:pt x="1940" y="1355"/>
                </a:lnTo>
                <a:lnTo>
                  <a:pt x="1957" y="1339"/>
                </a:lnTo>
                <a:lnTo>
                  <a:pt x="1986" y="1306"/>
                </a:lnTo>
                <a:lnTo>
                  <a:pt x="2008" y="1270"/>
                </a:lnTo>
                <a:lnTo>
                  <a:pt x="2014" y="1260"/>
                </a:lnTo>
                <a:lnTo>
                  <a:pt x="2008" y="1255"/>
                </a:lnTo>
                <a:lnTo>
                  <a:pt x="1999" y="1242"/>
                </a:lnTo>
                <a:lnTo>
                  <a:pt x="1978" y="1212"/>
                </a:lnTo>
                <a:lnTo>
                  <a:pt x="1962" y="1183"/>
                </a:lnTo>
                <a:lnTo>
                  <a:pt x="1960" y="1177"/>
                </a:lnTo>
                <a:lnTo>
                  <a:pt x="1960" y="1175"/>
                </a:lnTo>
                <a:lnTo>
                  <a:pt x="1960" y="1170"/>
                </a:lnTo>
                <a:lnTo>
                  <a:pt x="1965" y="1154"/>
                </a:lnTo>
                <a:lnTo>
                  <a:pt x="1968" y="1136"/>
                </a:lnTo>
                <a:lnTo>
                  <a:pt x="1969" y="1131"/>
                </a:lnTo>
                <a:lnTo>
                  <a:pt x="1959" y="1126"/>
                </a:lnTo>
                <a:lnTo>
                  <a:pt x="1936" y="1118"/>
                </a:lnTo>
                <a:lnTo>
                  <a:pt x="1886" y="1104"/>
                </a:lnTo>
                <a:lnTo>
                  <a:pt x="1863" y="1106"/>
                </a:lnTo>
                <a:lnTo>
                  <a:pt x="1840" y="1115"/>
                </a:lnTo>
                <a:lnTo>
                  <a:pt x="1831" y="1122"/>
                </a:lnTo>
                <a:lnTo>
                  <a:pt x="1837" y="1136"/>
                </a:lnTo>
                <a:lnTo>
                  <a:pt x="1847" y="1165"/>
                </a:lnTo>
                <a:lnTo>
                  <a:pt x="1853" y="1223"/>
                </a:lnTo>
                <a:lnTo>
                  <a:pt x="1847" y="1251"/>
                </a:lnTo>
                <a:lnTo>
                  <a:pt x="1833" y="1275"/>
                </a:lnTo>
                <a:lnTo>
                  <a:pt x="1823" y="1287"/>
                </a:lnTo>
                <a:lnTo>
                  <a:pt x="1820" y="1283"/>
                </a:lnTo>
                <a:lnTo>
                  <a:pt x="1814" y="1268"/>
                </a:lnTo>
                <a:lnTo>
                  <a:pt x="1802" y="1231"/>
                </a:lnTo>
                <a:lnTo>
                  <a:pt x="1795" y="1194"/>
                </a:lnTo>
                <a:lnTo>
                  <a:pt x="1795" y="1187"/>
                </a:lnTo>
                <a:lnTo>
                  <a:pt x="1792" y="1186"/>
                </a:lnTo>
                <a:lnTo>
                  <a:pt x="1787" y="1181"/>
                </a:lnTo>
                <a:lnTo>
                  <a:pt x="1771" y="1173"/>
                </a:lnTo>
                <a:lnTo>
                  <a:pt x="1753" y="1170"/>
                </a:lnTo>
                <a:lnTo>
                  <a:pt x="1749" y="1168"/>
                </a:lnTo>
                <a:lnTo>
                  <a:pt x="1743" y="1181"/>
                </a:lnTo>
                <a:lnTo>
                  <a:pt x="1733" y="1200"/>
                </a:lnTo>
                <a:lnTo>
                  <a:pt x="1726" y="1213"/>
                </a:lnTo>
                <a:lnTo>
                  <a:pt x="1724" y="1215"/>
                </a:lnTo>
                <a:lnTo>
                  <a:pt x="1721" y="1216"/>
                </a:lnTo>
                <a:lnTo>
                  <a:pt x="1720" y="1216"/>
                </a:lnTo>
                <a:lnTo>
                  <a:pt x="1718" y="1215"/>
                </a:lnTo>
                <a:lnTo>
                  <a:pt x="1717" y="1213"/>
                </a:lnTo>
                <a:lnTo>
                  <a:pt x="1716" y="1209"/>
                </a:lnTo>
                <a:lnTo>
                  <a:pt x="1714" y="1204"/>
                </a:lnTo>
                <a:lnTo>
                  <a:pt x="1713" y="1194"/>
                </a:lnTo>
                <a:lnTo>
                  <a:pt x="1713" y="1158"/>
                </a:lnTo>
                <a:lnTo>
                  <a:pt x="1713" y="1158"/>
                </a:lnTo>
                <a:lnTo>
                  <a:pt x="1710" y="1157"/>
                </a:lnTo>
                <a:lnTo>
                  <a:pt x="1702" y="1152"/>
                </a:lnTo>
                <a:lnTo>
                  <a:pt x="1694" y="1148"/>
                </a:lnTo>
                <a:lnTo>
                  <a:pt x="1673" y="1139"/>
                </a:lnTo>
                <a:lnTo>
                  <a:pt x="1659" y="1131"/>
                </a:lnTo>
                <a:lnTo>
                  <a:pt x="1658" y="1123"/>
                </a:lnTo>
                <a:lnTo>
                  <a:pt x="1658" y="1100"/>
                </a:lnTo>
                <a:lnTo>
                  <a:pt x="1647" y="1045"/>
                </a:lnTo>
                <a:lnTo>
                  <a:pt x="1634" y="1020"/>
                </a:lnTo>
                <a:lnTo>
                  <a:pt x="1616" y="1002"/>
                </a:lnTo>
                <a:lnTo>
                  <a:pt x="1604" y="994"/>
                </a:lnTo>
                <a:lnTo>
                  <a:pt x="1575" y="989"/>
                </a:lnTo>
                <a:lnTo>
                  <a:pt x="1555" y="989"/>
                </a:lnTo>
                <a:lnTo>
                  <a:pt x="1547" y="993"/>
                </a:lnTo>
                <a:lnTo>
                  <a:pt x="1542" y="997"/>
                </a:lnTo>
                <a:lnTo>
                  <a:pt x="1536" y="1003"/>
                </a:lnTo>
                <a:lnTo>
                  <a:pt x="1533" y="1009"/>
                </a:lnTo>
                <a:lnTo>
                  <a:pt x="1532" y="1018"/>
                </a:lnTo>
                <a:lnTo>
                  <a:pt x="1530" y="1035"/>
                </a:lnTo>
                <a:lnTo>
                  <a:pt x="1532" y="1055"/>
                </a:lnTo>
                <a:lnTo>
                  <a:pt x="1542" y="1096"/>
                </a:lnTo>
                <a:lnTo>
                  <a:pt x="1553" y="1128"/>
                </a:lnTo>
                <a:lnTo>
                  <a:pt x="1559" y="1139"/>
                </a:lnTo>
                <a:lnTo>
                  <a:pt x="1568" y="1144"/>
                </a:lnTo>
                <a:lnTo>
                  <a:pt x="1582" y="1154"/>
                </a:lnTo>
                <a:lnTo>
                  <a:pt x="1594" y="1165"/>
                </a:lnTo>
                <a:lnTo>
                  <a:pt x="1603" y="1180"/>
                </a:lnTo>
                <a:lnTo>
                  <a:pt x="1618" y="1215"/>
                </a:lnTo>
                <a:lnTo>
                  <a:pt x="1624" y="1223"/>
                </a:lnTo>
                <a:lnTo>
                  <a:pt x="1621" y="1235"/>
                </a:lnTo>
                <a:lnTo>
                  <a:pt x="1617" y="1257"/>
                </a:lnTo>
                <a:lnTo>
                  <a:pt x="1603" y="1302"/>
                </a:lnTo>
                <a:lnTo>
                  <a:pt x="1589" y="1342"/>
                </a:lnTo>
                <a:lnTo>
                  <a:pt x="1588" y="1351"/>
                </a:lnTo>
                <a:lnTo>
                  <a:pt x="1581" y="1335"/>
                </a:lnTo>
                <a:lnTo>
                  <a:pt x="1560" y="1284"/>
                </a:lnTo>
                <a:lnTo>
                  <a:pt x="1546" y="1246"/>
                </a:lnTo>
                <a:lnTo>
                  <a:pt x="1546" y="1244"/>
                </a:lnTo>
                <a:lnTo>
                  <a:pt x="1539" y="1245"/>
                </a:lnTo>
                <a:lnTo>
                  <a:pt x="1517" y="1249"/>
                </a:lnTo>
                <a:lnTo>
                  <a:pt x="1500" y="1252"/>
                </a:lnTo>
                <a:lnTo>
                  <a:pt x="1500" y="1252"/>
                </a:lnTo>
                <a:lnTo>
                  <a:pt x="1500" y="1255"/>
                </a:lnTo>
                <a:lnTo>
                  <a:pt x="1500" y="1261"/>
                </a:lnTo>
                <a:lnTo>
                  <a:pt x="1501" y="1274"/>
                </a:lnTo>
                <a:lnTo>
                  <a:pt x="1503" y="1286"/>
                </a:lnTo>
                <a:lnTo>
                  <a:pt x="1504" y="1287"/>
                </a:lnTo>
                <a:lnTo>
                  <a:pt x="1489" y="1291"/>
                </a:lnTo>
                <a:lnTo>
                  <a:pt x="1471" y="1294"/>
                </a:lnTo>
                <a:lnTo>
                  <a:pt x="1427" y="1296"/>
                </a:lnTo>
                <a:lnTo>
                  <a:pt x="1382" y="1291"/>
                </a:lnTo>
                <a:lnTo>
                  <a:pt x="1343" y="1277"/>
                </a:lnTo>
                <a:lnTo>
                  <a:pt x="1329" y="1267"/>
                </a:lnTo>
                <a:lnTo>
                  <a:pt x="1320" y="1254"/>
                </a:lnTo>
                <a:lnTo>
                  <a:pt x="1319" y="1238"/>
                </a:lnTo>
                <a:lnTo>
                  <a:pt x="1323" y="1218"/>
                </a:lnTo>
                <a:lnTo>
                  <a:pt x="1324" y="1218"/>
                </a:lnTo>
                <a:lnTo>
                  <a:pt x="1320" y="1218"/>
                </a:lnTo>
                <a:lnTo>
                  <a:pt x="1313" y="1218"/>
                </a:lnTo>
                <a:lnTo>
                  <a:pt x="1292" y="1215"/>
                </a:lnTo>
                <a:lnTo>
                  <a:pt x="1245" y="1215"/>
                </a:lnTo>
                <a:lnTo>
                  <a:pt x="1220" y="1239"/>
                </a:lnTo>
                <a:lnTo>
                  <a:pt x="1220" y="1244"/>
                </a:lnTo>
                <a:lnTo>
                  <a:pt x="1224" y="1245"/>
                </a:lnTo>
                <a:lnTo>
                  <a:pt x="1230" y="1246"/>
                </a:lnTo>
                <a:lnTo>
                  <a:pt x="1236" y="1248"/>
                </a:lnTo>
                <a:lnTo>
                  <a:pt x="1253" y="1248"/>
                </a:lnTo>
                <a:lnTo>
                  <a:pt x="1282" y="1248"/>
                </a:lnTo>
                <a:lnTo>
                  <a:pt x="1290" y="1252"/>
                </a:lnTo>
                <a:lnTo>
                  <a:pt x="1288" y="1257"/>
                </a:lnTo>
                <a:lnTo>
                  <a:pt x="1284" y="1261"/>
                </a:lnTo>
                <a:lnTo>
                  <a:pt x="1278" y="1267"/>
                </a:lnTo>
                <a:lnTo>
                  <a:pt x="1259" y="1280"/>
                </a:lnTo>
                <a:lnTo>
                  <a:pt x="1219" y="1304"/>
                </a:lnTo>
                <a:lnTo>
                  <a:pt x="1203" y="1309"/>
                </a:lnTo>
                <a:lnTo>
                  <a:pt x="1201" y="1307"/>
                </a:lnTo>
                <a:lnTo>
                  <a:pt x="1195" y="1300"/>
                </a:lnTo>
                <a:lnTo>
                  <a:pt x="1184" y="1281"/>
                </a:lnTo>
                <a:lnTo>
                  <a:pt x="1172" y="1267"/>
                </a:lnTo>
                <a:lnTo>
                  <a:pt x="1172" y="1264"/>
                </a:lnTo>
                <a:lnTo>
                  <a:pt x="1169" y="1264"/>
                </a:lnTo>
                <a:lnTo>
                  <a:pt x="1162" y="1262"/>
                </a:lnTo>
                <a:lnTo>
                  <a:pt x="1143" y="1262"/>
                </a:lnTo>
                <a:lnTo>
                  <a:pt x="1095" y="1262"/>
                </a:lnTo>
                <a:lnTo>
                  <a:pt x="1069" y="1261"/>
                </a:lnTo>
                <a:lnTo>
                  <a:pt x="1064" y="1258"/>
                </a:lnTo>
                <a:lnTo>
                  <a:pt x="1058" y="1257"/>
                </a:lnTo>
                <a:lnTo>
                  <a:pt x="1045" y="1251"/>
                </a:lnTo>
                <a:lnTo>
                  <a:pt x="1020" y="1241"/>
                </a:lnTo>
                <a:lnTo>
                  <a:pt x="1011" y="1236"/>
                </a:lnTo>
                <a:lnTo>
                  <a:pt x="1010" y="1235"/>
                </a:lnTo>
                <a:lnTo>
                  <a:pt x="1011" y="1233"/>
                </a:lnTo>
                <a:lnTo>
                  <a:pt x="1013" y="1233"/>
                </a:lnTo>
                <a:lnTo>
                  <a:pt x="1017" y="1233"/>
                </a:lnTo>
                <a:lnTo>
                  <a:pt x="1027" y="1232"/>
                </a:lnTo>
                <a:lnTo>
                  <a:pt x="1050" y="1231"/>
                </a:lnTo>
                <a:lnTo>
                  <a:pt x="1061" y="1229"/>
                </a:lnTo>
                <a:lnTo>
                  <a:pt x="1065" y="1228"/>
                </a:lnTo>
                <a:lnTo>
                  <a:pt x="1068" y="1225"/>
                </a:lnTo>
                <a:lnTo>
                  <a:pt x="1068" y="1222"/>
                </a:lnTo>
                <a:lnTo>
                  <a:pt x="1068" y="1220"/>
                </a:lnTo>
                <a:lnTo>
                  <a:pt x="1068" y="1219"/>
                </a:lnTo>
                <a:lnTo>
                  <a:pt x="1066" y="1216"/>
                </a:lnTo>
                <a:lnTo>
                  <a:pt x="1062" y="1212"/>
                </a:lnTo>
                <a:lnTo>
                  <a:pt x="1056" y="1206"/>
                </a:lnTo>
                <a:lnTo>
                  <a:pt x="1035" y="1191"/>
                </a:lnTo>
                <a:lnTo>
                  <a:pt x="1001" y="1173"/>
                </a:lnTo>
                <a:lnTo>
                  <a:pt x="968" y="1154"/>
                </a:lnTo>
                <a:lnTo>
                  <a:pt x="965" y="1151"/>
                </a:lnTo>
                <a:lnTo>
                  <a:pt x="958" y="1142"/>
                </a:lnTo>
                <a:lnTo>
                  <a:pt x="933" y="1119"/>
                </a:lnTo>
                <a:lnTo>
                  <a:pt x="875" y="1067"/>
                </a:lnTo>
                <a:lnTo>
                  <a:pt x="856" y="1048"/>
                </a:lnTo>
                <a:lnTo>
                  <a:pt x="853" y="1049"/>
                </a:lnTo>
                <a:lnTo>
                  <a:pt x="851" y="1051"/>
                </a:lnTo>
                <a:lnTo>
                  <a:pt x="846" y="1054"/>
                </a:lnTo>
                <a:lnTo>
                  <a:pt x="840" y="1062"/>
                </a:lnTo>
                <a:lnTo>
                  <a:pt x="826" y="1080"/>
                </a:lnTo>
                <a:lnTo>
                  <a:pt x="819" y="1084"/>
                </a:lnTo>
                <a:lnTo>
                  <a:pt x="822" y="1065"/>
                </a:lnTo>
                <a:lnTo>
                  <a:pt x="824" y="1036"/>
                </a:lnTo>
                <a:lnTo>
                  <a:pt x="823" y="1028"/>
                </a:lnTo>
                <a:lnTo>
                  <a:pt x="820" y="1022"/>
                </a:lnTo>
                <a:lnTo>
                  <a:pt x="819" y="1020"/>
                </a:lnTo>
                <a:lnTo>
                  <a:pt x="816" y="1019"/>
                </a:lnTo>
                <a:lnTo>
                  <a:pt x="813" y="1018"/>
                </a:lnTo>
                <a:lnTo>
                  <a:pt x="810" y="1018"/>
                </a:lnTo>
                <a:lnTo>
                  <a:pt x="807" y="1019"/>
                </a:lnTo>
                <a:lnTo>
                  <a:pt x="804" y="1020"/>
                </a:lnTo>
                <a:lnTo>
                  <a:pt x="797" y="1023"/>
                </a:lnTo>
                <a:lnTo>
                  <a:pt x="788" y="1031"/>
                </a:lnTo>
                <a:lnTo>
                  <a:pt x="771" y="1048"/>
                </a:lnTo>
                <a:lnTo>
                  <a:pt x="771" y="1048"/>
                </a:lnTo>
                <a:lnTo>
                  <a:pt x="771" y="1032"/>
                </a:lnTo>
                <a:lnTo>
                  <a:pt x="771" y="1000"/>
                </a:lnTo>
                <a:lnTo>
                  <a:pt x="769" y="977"/>
                </a:lnTo>
                <a:lnTo>
                  <a:pt x="768" y="967"/>
                </a:lnTo>
                <a:lnTo>
                  <a:pt x="764" y="961"/>
                </a:lnTo>
                <a:lnTo>
                  <a:pt x="758" y="957"/>
                </a:lnTo>
                <a:lnTo>
                  <a:pt x="751" y="955"/>
                </a:lnTo>
                <a:lnTo>
                  <a:pt x="740" y="958"/>
                </a:lnTo>
                <a:lnTo>
                  <a:pt x="727" y="964"/>
                </a:lnTo>
                <a:lnTo>
                  <a:pt x="711" y="974"/>
                </a:lnTo>
                <a:lnTo>
                  <a:pt x="711" y="974"/>
                </a:lnTo>
                <a:lnTo>
                  <a:pt x="703" y="970"/>
                </a:lnTo>
                <a:lnTo>
                  <a:pt x="690" y="965"/>
                </a:lnTo>
                <a:lnTo>
                  <a:pt x="652" y="958"/>
                </a:lnTo>
                <a:lnTo>
                  <a:pt x="552" y="944"/>
                </a:lnTo>
                <a:lnTo>
                  <a:pt x="483" y="938"/>
                </a:lnTo>
                <a:lnTo>
                  <a:pt x="477" y="934"/>
                </a:lnTo>
                <a:lnTo>
                  <a:pt x="467" y="920"/>
                </a:lnTo>
                <a:lnTo>
                  <a:pt x="448" y="889"/>
                </a:lnTo>
                <a:lnTo>
                  <a:pt x="432" y="861"/>
                </a:lnTo>
                <a:lnTo>
                  <a:pt x="429" y="855"/>
                </a:lnTo>
                <a:lnTo>
                  <a:pt x="420" y="868"/>
                </a:lnTo>
                <a:lnTo>
                  <a:pt x="361" y="949"/>
                </a:lnTo>
                <a:lnTo>
                  <a:pt x="161" y="1228"/>
                </a:lnTo>
                <a:lnTo>
                  <a:pt x="7" y="1439"/>
                </a:lnTo>
                <a:lnTo>
                  <a:pt x="0" y="1451"/>
                </a:lnTo>
                <a:lnTo>
                  <a:pt x="19" y="1457"/>
                </a:lnTo>
                <a:lnTo>
                  <a:pt x="48" y="1467"/>
                </a:lnTo>
                <a:lnTo>
                  <a:pt x="67" y="1481"/>
                </a:lnTo>
                <a:lnTo>
                  <a:pt x="75" y="1500"/>
                </a:lnTo>
                <a:lnTo>
                  <a:pt x="77" y="1525"/>
                </a:lnTo>
                <a:lnTo>
                  <a:pt x="73" y="1558"/>
                </a:lnTo>
                <a:lnTo>
                  <a:pt x="70" y="1577"/>
                </a:lnTo>
                <a:lnTo>
                  <a:pt x="84" y="1578"/>
                </a:lnTo>
                <a:lnTo>
                  <a:pt x="130" y="1583"/>
                </a:lnTo>
                <a:lnTo>
                  <a:pt x="165" y="1584"/>
                </a:lnTo>
                <a:lnTo>
                  <a:pt x="168" y="1584"/>
                </a:lnTo>
                <a:lnTo>
                  <a:pt x="168" y="1591"/>
                </a:lnTo>
                <a:lnTo>
                  <a:pt x="170" y="1632"/>
                </a:lnTo>
                <a:lnTo>
                  <a:pt x="174" y="1772"/>
                </a:lnTo>
                <a:lnTo>
                  <a:pt x="177" y="1878"/>
                </a:lnTo>
                <a:lnTo>
                  <a:pt x="178" y="1884"/>
                </a:lnTo>
                <a:lnTo>
                  <a:pt x="194" y="1901"/>
                </a:lnTo>
                <a:lnTo>
                  <a:pt x="216" y="1933"/>
                </a:lnTo>
                <a:lnTo>
                  <a:pt x="223" y="1962"/>
                </a:lnTo>
                <a:lnTo>
                  <a:pt x="220" y="1991"/>
                </a:lnTo>
                <a:lnTo>
                  <a:pt x="209" y="2025"/>
                </a:lnTo>
                <a:lnTo>
                  <a:pt x="188" y="2062"/>
                </a:lnTo>
                <a:lnTo>
                  <a:pt x="177" y="2084"/>
                </a:lnTo>
                <a:lnTo>
                  <a:pt x="175" y="2091"/>
                </a:lnTo>
                <a:lnTo>
                  <a:pt x="174" y="2109"/>
                </a:lnTo>
                <a:lnTo>
                  <a:pt x="174" y="2123"/>
                </a:lnTo>
                <a:lnTo>
                  <a:pt x="174" y="2123"/>
                </a:lnTo>
                <a:lnTo>
                  <a:pt x="174" y="2129"/>
                </a:lnTo>
                <a:lnTo>
                  <a:pt x="173" y="2142"/>
                </a:lnTo>
                <a:lnTo>
                  <a:pt x="173" y="2152"/>
                </a:lnTo>
                <a:lnTo>
                  <a:pt x="174" y="2152"/>
                </a:lnTo>
                <a:lnTo>
                  <a:pt x="174" y="2165"/>
                </a:lnTo>
                <a:lnTo>
                  <a:pt x="174" y="2185"/>
                </a:lnTo>
                <a:lnTo>
                  <a:pt x="167" y="2219"/>
                </a:lnTo>
                <a:lnTo>
                  <a:pt x="155" y="2259"/>
                </a:lnTo>
                <a:lnTo>
                  <a:pt x="154" y="2271"/>
                </a:lnTo>
                <a:lnTo>
                  <a:pt x="154" y="2274"/>
                </a:lnTo>
                <a:lnTo>
                  <a:pt x="154" y="2277"/>
                </a:lnTo>
                <a:lnTo>
                  <a:pt x="157" y="2280"/>
                </a:lnTo>
                <a:lnTo>
                  <a:pt x="159" y="2287"/>
                </a:lnTo>
                <a:lnTo>
                  <a:pt x="168" y="2297"/>
                </a:lnTo>
                <a:lnTo>
                  <a:pt x="173" y="2298"/>
                </a:lnTo>
                <a:lnTo>
                  <a:pt x="170" y="2301"/>
                </a:lnTo>
                <a:lnTo>
                  <a:pt x="165" y="2307"/>
                </a:lnTo>
                <a:lnTo>
                  <a:pt x="157" y="2323"/>
                </a:lnTo>
                <a:lnTo>
                  <a:pt x="154" y="2340"/>
                </a:lnTo>
                <a:lnTo>
                  <a:pt x="154" y="2345"/>
                </a:lnTo>
                <a:lnTo>
                  <a:pt x="161" y="2351"/>
                </a:lnTo>
                <a:lnTo>
                  <a:pt x="167" y="2354"/>
                </a:lnTo>
                <a:lnTo>
                  <a:pt x="186" y="2361"/>
                </a:lnTo>
                <a:lnTo>
                  <a:pt x="226" y="2380"/>
                </a:lnTo>
                <a:lnTo>
                  <a:pt x="249" y="2393"/>
                </a:lnTo>
                <a:lnTo>
                  <a:pt x="254" y="2400"/>
                </a:lnTo>
                <a:lnTo>
                  <a:pt x="261" y="2411"/>
                </a:lnTo>
                <a:lnTo>
                  <a:pt x="278" y="2446"/>
                </a:lnTo>
                <a:lnTo>
                  <a:pt x="320" y="2535"/>
                </a:lnTo>
                <a:lnTo>
                  <a:pt x="361" y="2596"/>
                </a:lnTo>
                <a:lnTo>
                  <a:pt x="377" y="2600"/>
                </a:lnTo>
                <a:lnTo>
                  <a:pt x="496" y="2620"/>
                </a:lnTo>
                <a:lnTo>
                  <a:pt x="900" y="2690"/>
                </a:lnTo>
                <a:lnTo>
                  <a:pt x="1208" y="2743"/>
                </a:lnTo>
                <a:lnTo>
                  <a:pt x="1226" y="2746"/>
                </a:lnTo>
                <a:lnTo>
                  <a:pt x="1234" y="2746"/>
                </a:lnTo>
                <a:lnTo>
                  <a:pt x="1300" y="2745"/>
                </a:lnTo>
                <a:lnTo>
                  <a:pt x="1521" y="2739"/>
                </a:lnTo>
                <a:lnTo>
                  <a:pt x="1691" y="2735"/>
                </a:lnTo>
                <a:lnTo>
                  <a:pt x="1701" y="2733"/>
                </a:lnTo>
                <a:lnTo>
                  <a:pt x="1701" y="2733"/>
                </a:lnTo>
                <a:close/>
                <a:moveTo>
                  <a:pt x="1048" y="1131"/>
                </a:moveTo>
                <a:lnTo>
                  <a:pt x="1037" y="1131"/>
                </a:lnTo>
                <a:lnTo>
                  <a:pt x="1022" y="1128"/>
                </a:lnTo>
                <a:lnTo>
                  <a:pt x="1007" y="1122"/>
                </a:lnTo>
                <a:lnTo>
                  <a:pt x="995" y="1113"/>
                </a:lnTo>
                <a:lnTo>
                  <a:pt x="988" y="1102"/>
                </a:lnTo>
                <a:lnTo>
                  <a:pt x="984" y="1086"/>
                </a:lnTo>
                <a:lnTo>
                  <a:pt x="984" y="1077"/>
                </a:lnTo>
                <a:lnTo>
                  <a:pt x="985" y="1077"/>
                </a:lnTo>
                <a:lnTo>
                  <a:pt x="988" y="1077"/>
                </a:lnTo>
                <a:lnTo>
                  <a:pt x="997" y="1073"/>
                </a:lnTo>
                <a:lnTo>
                  <a:pt x="1014" y="1064"/>
                </a:lnTo>
                <a:lnTo>
                  <a:pt x="1029" y="1058"/>
                </a:lnTo>
                <a:lnTo>
                  <a:pt x="1033" y="1061"/>
                </a:lnTo>
                <a:lnTo>
                  <a:pt x="1045" y="1065"/>
                </a:lnTo>
                <a:lnTo>
                  <a:pt x="1074" y="1071"/>
                </a:lnTo>
                <a:lnTo>
                  <a:pt x="1100" y="1070"/>
                </a:lnTo>
                <a:lnTo>
                  <a:pt x="1106" y="1067"/>
                </a:lnTo>
                <a:lnTo>
                  <a:pt x="1100" y="1061"/>
                </a:lnTo>
                <a:lnTo>
                  <a:pt x="1091" y="1055"/>
                </a:lnTo>
                <a:lnTo>
                  <a:pt x="1072" y="1045"/>
                </a:lnTo>
                <a:lnTo>
                  <a:pt x="1050" y="1038"/>
                </a:lnTo>
                <a:lnTo>
                  <a:pt x="1003" y="1026"/>
                </a:lnTo>
                <a:lnTo>
                  <a:pt x="984" y="1020"/>
                </a:lnTo>
                <a:lnTo>
                  <a:pt x="984" y="1016"/>
                </a:lnTo>
                <a:lnTo>
                  <a:pt x="985" y="1012"/>
                </a:lnTo>
                <a:lnTo>
                  <a:pt x="990" y="1003"/>
                </a:lnTo>
                <a:lnTo>
                  <a:pt x="995" y="994"/>
                </a:lnTo>
                <a:lnTo>
                  <a:pt x="1008" y="980"/>
                </a:lnTo>
                <a:lnTo>
                  <a:pt x="1014" y="974"/>
                </a:lnTo>
                <a:lnTo>
                  <a:pt x="1014" y="967"/>
                </a:lnTo>
                <a:lnTo>
                  <a:pt x="1023" y="938"/>
                </a:lnTo>
                <a:lnTo>
                  <a:pt x="1058" y="865"/>
                </a:lnTo>
                <a:lnTo>
                  <a:pt x="1071" y="851"/>
                </a:lnTo>
                <a:lnTo>
                  <a:pt x="1085" y="842"/>
                </a:lnTo>
                <a:lnTo>
                  <a:pt x="1101" y="839"/>
                </a:lnTo>
                <a:lnTo>
                  <a:pt x="1119" y="845"/>
                </a:lnTo>
                <a:lnTo>
                  <a:pt x="1136" y="858"/>
                </a:lnTo>
                <a:lnTo>
                  <a:pt x="1137" y="858"/>
                </a:lnTo>
                <a:lnTo>
                  <a:pt x="1136" y="868"/>
                </a:lnTo>
                <a:lnTo>
                  <a:pt x="1132" y="883"/>
                </a:lnTo>
                <a:lnTo>
                  <a:pt x="1129" y="890"/>
                </a:lnTo>
                <a:lnTo>
                  <a:pt x="1127" y="891"/>
                </a:lnTo>
                <a:lnTo>
                  <a:pt x="1129" y="893"/>
                </a:lnTo>
                <a:lnTo>
                  <a:pt x="1132" y="891"/>
                </a:lnTo>
                <a:lnTo>
                  <a:pt x="1135" y="891"/>
                </a:lnTo>
                <a:lnTo>
                  <a:pt x="1142" y="890"/>
                </a:lnTo>
                <a:lnTo>
                  <a:pt x="1166" y="884"/>
                </a:lnTo>
                <a:lnTo>
                  <a:pt x="1177" y="881"/>
                </a:lnTo>
                <a:lnTo>
                  <a:pt x="1178" y="886"/>
                </a:lnTo>
                <a:lnTo>
                  <a:pt x="1178" y="889"/>
                </a:lnTo>
                <a:lnTo>
                  <a:pt x="1178" y="894"/>
                </a:lnTo>
                <a:lnTo>
                  <a:pt x="1177" y="907"/>
                </a:lnTo>
                <a:lnTo>
                  <a:pt x="1177" y="920"/>
                </a:lnTo>
                <a:lnTo>
                  <a:pt x="1178" y="932"/>
                </a:lnTo>
                <a:lnTo>
                  <a:pt x="1182" y="938"/>
                </a:lnTo>
                <a:lnTo>
                  <a:pt x="1184" y="938"/>
                </a:lnTo>
                <a:lnTo>
                  <a:pt x="1187" y="939"/>
                </a:lnTo>
                <a:lnTo>
                  <a:pt x="1191" y="938"/>
                </a:lnTo>
                <a:lnTo>
                  <a:pt x="1192" y="934"/>
                </a:lnTo>
                <a:lnTo>
                  <a:pt x="1195" y="929"/>
                </a:lnTo>
                <a:lnTo>
                  <a:pt x="1197" y="923"/>
                </a:lnTo>
                <a:lnTo>
                  <a:pt x="1200" y="909"/>
                </a:lnTo>
                <a:lnTo>
                  <a:pt x="1203" y="897"/>
                </a:lnTo>
                <a:lnTo>
                  <a:pt x="1206" y="890"/>
                </a:lnTo>
                <a:lnTo>
                  <a:pt x="1208" y="889"/>
                </a:lnTo>
                <a:lnTo>
                  <a:pt x="1216" y="891"/>
                </a:lnTo>
                <a:lnTo>
                  <a:pt x="1226" y="896"/>
                </a:lnTo>
                <a:lnTo>
                  <a:pt x="1236" y="902"/>
                </a:lnTo>
                <a:lnTo>
                  <a:pt x="1239" y="902"/>
                </a:lnTo>
                <a:lnTo>
                  <a:pt x="1239" y="909"/>
                </a:lnTo>
                <a:lnTo>
                  <a:pt x="1239" y="923"/>
                </a:lnTo>
                <a:lnTo>
                  <a:pt x="1242" y="952"/>
                </a:lnTo>
                <a:lnTo>
                  <a:pt x="1248" y="977"/>
                </a:lnTo>
                <a:lnTo>
                  <a:pt x="1250" y="981"/>
                </a:lnTo>
                <a:lnTo>
                  <a:pt x="1255" y="977"/>
                </a:lnTo>
                <a:lnTo>
                  <a:pt x="1258" y="970"/>
                </a:lnTo>
                <a:lnTo>
                  <a:pt x="1261" y="962"/>
                </a:lnTo>
                <a:lnTo>
                  <a:pt x="1263" y="945"/>
                </a:lnTo>
                <a:lnTo>
                  <a:pt x="1263" y="926"/>
                </a:lnTo>
                <a:lnTo>
                  <a:pt x="1263" y="890"/>
                </a:lnTo>
                <a:lnTo>
                  <a:pt x="1263" y="881"/>
                </a:lnTo>
                <a:lnTo>
                  <a:pt x="1272" y="877"/>
                </a:lnTo>
                <a:lnTo>
                  <a:pt x="1290" y="868"/>
                </a:lnTo>
                <a:lnTo>
                  <a:pt x="1326" y="854"/>
                </a:lnTo>
                <a:lnTo>
                  <a:pt x="1343" y="854"/>
                </a:lnTo>
                <a:lnTo>
                  <a:pt x="1359" y="860"/>
                </a:lnTo>
                <a:lnTo>
                  <a:pt x="1366" y="864"/>
                </a:lnTo>
                <a:lnTo>
                  <a:pt x="1358" y="876"/>
                </a:lnTo>
                <a:lnTo>
                  <a:pt x="1350" y="889"/>
                </a:lnTo>
                <a:lnTo>
                  <a:pt x="1339" y="919"/>
                </a:lnTo>
                <a:lnTo>
                  <a:pt x="1332" y="955"/>
                </a:lnTo>
                <a:lnTo>
                  <a:pt x="1332" y="1028"/>
                </a:lnTo>
                <a:lnTo>
                  <a:pt x="1339" y="1058"/>
                </a:lnTo>
                <a:lnTo>
                  <a:pt x="1342" y="1065"/>
                </a:lnTo>
                <a:lnTo>
                  <a:pt x="1348" y="1071"/>
                </a:lnTo>
                <a:lnTo>
                  <a:pt x="1355" y="1078"/>
                </a:lnTo>
                <a:lnTo>
                  <a:pt x="1372" y="1089"/>
                </a:lnTo>
                <a:lnTo>
                  <a:pt x="1410" y="1109"/>
                </a:lnTo>
                <a:lnTo>
                  <a:pt x="1430" y="1122"/>
                </a:lnTo>
                <a:lnTo>
                  <a:pt x="1429" y="1125"/>
                </a:lnTo>
                <a:lnTo>
                  <a:pt x="1429" y="1131"/>
                </a:lnTo>
                <a:lnTo>
                  <a:pt x="1424" y="1144"/>
                </a:lnTo>
                <a:lnTo>
                  <a:pt x="1421" y="1157"/>
                </a:lnTo>
                <a:lnTo>
                  <a:pt x="1421" y="1158"/>
                </a:lnTo>
                <a:lnTo>
                  <a:pt x="1419" y="1158"/>
                </a:lnTo>
                <a:lnTo>
                  <a:pt x="1411" y="1158"/>
                </a:lnTo>
                <a:lnTo>
                  <a:pt x="1395" y="1158"/>
                </a:lnTo>
                <a:lnTo>
                  <a:pt x="1379" y="1158"/>
                </a:lnTo>
                <a:lnTo>
                  <a:pt x="1378" y="1158"/>
                </a:lnTo>
                <a:lnTo>
                  <a:pt x="1384" y="1165"/>
                </a:lnTo>
                <a:lnTo>
                  <a:pt x="1392" y="1177"/>
                </a:lnTo>
                <a:lnTo>
                  <a:pt x="1395" y="1187"/>
                </a:lnTo>
                <a:lnTo>
                  <a:pt x="1397" y="1196"/>
                </a:lnTo>
                <a:lnTo>
                  <a:pt x="1395" y="1203"/>
                </a:lnTo>
                <a:lnTo>
                  <a:pt x="1397" y="1212"/>
                </a:lnTo>
                <a:lnTo>
                  <a:pt x="1400" y="1216"/>
                </a:lnTo>
                <a:lnTo>
                  <a:pt x="1397" y="1218"/>
                </a:lnTo>
                <a:lnTo>
                  <a:pt x="1394" y="1218"/>
                </a:lnTo>
                <a:lnTo>
                  <a:pt x="1385" y="1216"/>
                </a:lnTo>
                <a:lnTo>
                  <a:pt x="1363" y="1215"/>
                </a:lnTo>
                <a:lnTo>
                  <a:pt x="1346" y="1212"/>
                </a:lnTo>
                <a:lnTo>
                  <a:pt x="1343" y="1212"/>
                </a:lnTo>
                <a:lnTo>
                  <a:pt x="1340" y="1210"/>
                </a:lnTo>
                <a:lnTo>
                  <a:pt x="1337" y="1207"/>
                </a:lnTo>
                <a:lnTo>
                  <a:pt x="1332" y="1202"/>
                </a:lnTo>
                <a:lnTo>
                  <a:pt x="1320" y="1186"/>
                </a:lnTo>
                <a:lnTo>
                  <a:pt x="1314" y="1177"/>
                </a:lnTo>
                <a:lnTo>
                  <a:pt x="1308" y="1175"/>
                </a:lnTo>
                <a:lnTo>
                  <a:pt x="1304" y="1174"/>
                </a:lnTo>
                <a:lnTo>
                  <a:pt x="1297" y="1174"/>
                </a:lnTo>
                <a:lnTo>
                  <a:pt x="1290" y="1174"/>
                </a:lnTo>
                <a:lnTo>
                  <a:pt x="1272" y="1178"/>
                </a:lnTo>
                <a:lnTo>
                  <a:pt x="1232" y="1193"/>
                </a:lnTo>
                <a:lnTo>
                  <a:pt x="1137" y="1219"/>
                </a:lnTo>
                <a:lnTo>
                  <a:pt x="1078" y="1204"/>
                </a:lnTo>
                <a:lnTo>
                  <a:pt x="1078" y="1200"/>
                </a:lnTo>
                <a:lnTo>
                  <a:pt x="1078" y="1194"/>
                </a:lnTo>
                <a:lnTo>
                  <a:pt x="1078" y="1189"/>
                </a:lnTo>
                <a:lnTo>
                  <a:pt x="1072" y="1175"/>
                </a:lnTo>
                <a:lnTo>
                  <a:pt x="1065" y="1161"/>
                </a:lnTo>
                <a:lnTo>
                  <a:pt x="1049" y="1136"/>
                </a:lnTo>
                <a:lnTo>
                  <a:pt x="1048" y="1131"/>
                </a:lnTo>
                <a:lnTo>
                  <a:pt x="1048" y="1131"/>
                </a:lnTo>
                <a:close/>
                <a:moveTo>
                  <a:pt x="1434" y="1203"/>
                </a:moveTo>
                <a:lnTo>
                  <a:pt x="1445" y="1200"/>
                </a:lnTo>
                <a:lnTo>
                  <a:pt x="1463" y="1194"/>
                </a:lnTo>
                <a:lnTo>
                  <a:pt x="1475" y="1189"/>
                </a:lnTo>
                <a:lnTo>
                  <a:pt x="1482" y="1181"/>
                </a:lnTo>
                <a:lnTo>
                  <a:pt x="1489" y="1168"/>
                </a:lnTo>
                <a:lnTo>
                  <a:pt x="1498" y="1147"/>
                </a:lnTo>
                <a:lnTo>
                  <a:pt x="1504" y="1131"/>
                </a:lnTo>
                <a:lnTo>
                  <a:pt x="1514" y="1133"/>
                </a:lnTo>
                <a:lnTo>
                  <a:pt x="1524" y="1138"/>
                </a:lnTo>
                <a:lnTo>
                  <a:pt x="1534" y="1145"/>
                </a:lnTo>
                <a:lnTo>
                  <a:pt x="1543" y="1154"/>
                </a:lnTo>
                <a:lnTo>
                  <a:pt x="1559" y="1175"/>
                </a:lnTo>
                <a:lnTo>
                  <a:pt x="1581" y="1212"/>
                </a:lnTo>
                <a:lnTo>
                  <a:pt x="1588" y="1218"/>
                </a:lnTo>
                <a:lnTo>
                  <a:pt x="1576" y="1219"/>
                </a:lnTo>
                <a:lnTo>
                  <a:pt x="1552" y="1220"/>
                </a:lnTo>
                <a:lnTo>
                  <a:pt x="1495" y="1219"/>
                </a:lnTo>
                <a:lnTo>
                  <a:pt x="1445" y="1209"/>
                </a:lnTo>
                <a:lnTo>
                  <a:pt x="1434" y="1203"/>
                </a:lnTo>
                <a:lnTo>
                  <a:pt x="1434" y="1203"/>
                </a:lnTo>
                <a:close/>
                <a:moveTo>
                  <a:pt x="1491" y="822"/>
                </a:moveTo>
                <a:lnTo>
                  <a:pt x="1498" y="823"/>
                </a:lnTo>
                <a:lnTo>
                  <a:pt x="1510" y="825"/>
                </a:lnTo>
                <a:lnTo>
                  <a:pt x="1517" y="826"/>
                </a:lnTo>
                <a:lnTo>
                  <a:pt x="1518" y="828"/>
                </a:lnTo>
                <a:lnTo>
                  <a:pt x="1520" y="831"/>
                </a:lnTo>
                <a:lnTo>
                  <a:pt x="1521" y="834"/>
                </a:lnTo>
                <a:lnTo>
                  <a:pt x="1521" y="836"/>
                </a:lnTo>
                <a:lnTo>
                  <a:pt x="1523" y="848"/>
                </a:lnTo>
                <a:lnTo>
                  <a:pt x="1523" y="854"/>
                </a:lnTo>
                <a:lnTo>
                  <a:pt x="1520" y="857"/>
                </a:lnTo>
                <a:lnTo>
                  <a:pt x="1516" y="865"/>
                </a:lnTo>
                <a:lnTo>
                  <a:pt x="1504" y="889"/>
                </a:lnTo>
                <a:lnTo>
                  <a:pt x="1498" y="909"/>
                </a:lnTo>
                <a:lnTo>
                  <a:pt x="1498" y="912"/>
                </a:lnTo>
                <a:lnTo>
                  <a:pt x="1501" y="915"/>
                </a:lnTo>
                <a:lnTo>
                  <a:pt x="1505" y="915"/>
                </a:lnTo>
                <a:lnTo>
                  <a:pt x="1516" y="916"/>
                </a:lnTo>
                <a:lnTo>
                  <a:pt x="1524" y="915"/>
                </a:lnTo>
                <a:lnTo>
                  <a:pt x="1533" y="916"/>
                </a:lnTo>
                <a:lnTo>
                  <a:pt x="1539" y="919"/>
                </a:lnTo>
                <a:lnTo>
                  <a:pt x="1542" y="925"/>
                </a:lnTo>
                <a:lnTo>
                  <a:pt x="1543" y="925"/>
                </a:lnTo>
                <a:lnTo>
                  <a:pt x="1543" y="932"/>
                </a:lnTo>
                <a:lnTo>
                  <a:pt x="1542" y="951"/>
                </a:lnTo>
                <a:lnTo>
                  <a:pt x="1542" y="965"/>
                </a:lnTo>
                <a:lnTo>
                  <a:pt x="1543" y="965"/>
                </a:lnTo>
                <a:lnTo>
                  <a:pt x="1542" y="971"/>
                </a:lnTo>
                <a:lnTo>
                  <a:pt x="1539" y="974"/>
                </a:lnTo>
                <a:lnTo>
                  <a:pt x="1536" y="977"/>
                </a:lnTo>
                <a:lnTo>
                  <a:pt x="1533" y="980"/>
                </a:lnTo>
                <a:lnTo>
                  <a:pt x="1526" y="984"/>
                </a:lnTo>
                <a:lnTo>
                  <a:pt x="1517" y="989"/>
                </a:lnTo>
                <a:lnTo>
                  <a:pt x="1508" y="993"/>
                </a:lnTo>
                <a:lnTo>
                  <a:pt x="1503" y="999"/>
                </a:lnTo>
                <a:lnTo>
                  <a:pt x="1503" y="999"/>
                </a:lnTo>
                <a:lnTo>
                  <a:pt x="1500" y="1002"/>
                </a:lnTo>
                <a:lnTo>
                  <a:pt x="1498" y="1005"/>
                </a:lnTo>
                <a:lnTo>
                  <a:pt x="1495" y="1013"/>
                </a:lnTo>
                <a:lnTo>
                  <a:pt x="1488" y="1032"/>
                </a:lnTo>
                <a:lnTo>
                  <a:pt x="1474" y="1041"/>
                </a:lnTo>
                <a:lnTo>
                  <a:pt x="1468" y="1031"/>
                </a:lnTo>
                <a:lnTo>
                  <a:pt x="1455" y="1012"/>
                </a:lnTo>
                <a:lnTo>
                  <a:pt x="1426" y="978"/>
                </a:lnTo>
                <a:lnTo>
                  <a:pt x="1391" y="949"/>
                </a:lnTo>
                <a:lnTo>
                  <a:pt x="1382" y="942"/>
                </a:lnTo>
                <a:lnTo>
                  <a:pt x="1381" y="936"/>
                </a:lnTo>
                <a:lnTo>
                  <a:pt x="1382" y="926"/>
                </a:lnTo>
                <a:lnTo>
                  <a:pt x="1382" y="919"/>
                </a:lnTo>
                <a:lnTo>
                  <a:pt x="1385" y="916"/>
                </a:lnTo>
                <a:lnTo>
                  <a:pt x="1391" y="912"/>
                </a:lnTo>
                <a:lnTo>
                  <a:pt x="1400" y="906"/>
                </a:lnTo>
                <a:lnTo>
                  <a:pt x="1405" y="900"/>
                </a:lnTo>
                <a:lnTo>
                  <a:pt x="1417" y="902"/>
                </a:lnTo>
                <a:lnTo>
                  <a:pt x="1430" y="903"/>
                </a:lnTo>
                <a:lnTo>
                  <a:pt x="1433" y="906"/>
                </a:lnTo>
                <a:lnTo>
                  <a:pt x="1430" y="910"/>
                </a:lnTo>
                <a:lnTo>
                  <a:pt x="1430" y="913"/>
                </a:lnTo>
                <a:lnTo>
                  <a:pt x="1437" y="916"/>
                </a:lnTo>
                <a:lnTo>
                  <a:pt x="1446" y="916"/>
                </a:lnTo>
                <a:lnTo>
                  <a:pt x="1445" y="910"/>
                </a:lnTo>
                <a:lnTo>
                  <a:pt x="1442" y="905"/>
                </a:lnTo>
                <a:lnTo>
                  <a:pt x="1434" y="887"/>
                </a:lnTo>
                <a:lnTo>
                  <a:pt x="1429" y="870"/>
                </a:lnTo>
                <a:lnTo>
                  <a:pt x="1426" y="854"/>
                </a:lnTo>
                <a:lnTo>
                  <a:pt x="1427" y="847"/>
                </a:lnTo>
                <a:lnTo>
                  <a:pt x="1432" y="842"/>
                </a:lnTo>
                <a:lnTo>
                  <a:pt x="1439" y="838"/>
                </a:lnTo>
                <a:lnTo>
                  <a:pt x="1449" y="836"/>
                </a:lnTo>
                <a:lnTo>
                  <a:pt x="1450" y="836"/>
                </a:lnTo>
                <a:lnTo>
                  <a:pt x="1453" y="839"/>
                </a:lnTo>
                <a:lnTo>
                  <a:pt x="1456" y="841"/>
                </a:lnTo>
                <a:lnTo>
                  <a:pt x="1461" y="842"/>
                </a:lnTo>
                <a:lnTo>
                  <a:pt x="1468" y="844"/>
                </a:lnTo>
                <a:lnTo>
                  <a:pt x="1475" y="845"/>
                </a:lnTo>
                <a:lnTo>
                  <a:pt x="1479" y="848"/>
                </a:lnTo>
                <a:lnTo>
                  <a:pt x="1481" y="852"/>
                </a:lnTo>
                <a:lnTo>
                  <a:pt x="1479" y="855"/>
                </a:lnTo>
                <a:lnTo>
                  <a:pt x="1479" y="852"/>
                </a:lnTo>
                <a:lnTo>
                  <a:pt x="1479" y="845"/>
                </a:lnTo>
                <a:lnTo>
                  <a:pt x="1481" y="834"/>
                </a:lnTo>
                <a:lnTo>
                  <a:pt x="1482" y="829"/>
                </a:lnTo>
                <a:lnTo>
                  <a:pt x="1487" y="825"/>
                </a:lnTo>
                <a:lnTo>
                  <a:pt x="1491" y="822"/>
                </a:lnTo>
                <a:lnTo>
                  <a:pt x="1491" y="822"/>
                </a:lnTo>
                <a:close/>
                <a:moveTo>
                  <a:pt x="1562" y="826"/>
                </a:moveTo>
                <a:lnTo>
                  <a:pt x="1569" y="820"/>
                </a:lnTo>
                <a:lnTo>
                  <a:pt x="1578" y="818"/>
                </a:lnTo>
                <a:lnTo>
                  <a:pt x="1587" y="816"/>
                </a:lnTo>
                <a:lnTo>
                  <a:pt x="1594" y="815"/>
                </a:lnTo>
                <a:lnTo>
                  <a:pt x="1603" y="816"/>
                </a:lnTo>
                <a:lnTo>
                  <a:pt x="1617" y="822"/>
                </a:lnTo>
                <a:lnTo>
                  <a:pt x="1627" y="828"/>
                </a:lnTo>
                <a:lnTo>
                  <a:pt x="1631" y="831"/>
                </a:lnTo>
                <a:lnTo>
                  <a:pt x="1633" y="834"/>
                </a:lnTo>
                <a:lnTo>
                  <a:pt x="1633" y="834"/>
                </a:lnTo>
                <a:lnTo>
                  <a:pt x="1634" y="835"/>
                </a:lnTo>
                <a:lnTo>
                  <a:pt x="1637" y="836"/>
                </a:lnTo>
                <a:lnTo>
                  <a:pt x="1645" y="838"/>
                </a:lnTo>
                <a:lnTo>
                  <a:pt x="1662" y="842"/>
                </a:lnTo>
                <a:lnTo>
                  <a:pt x="1672" y="847"/>
                </a:lnTo>
                <a:lnTo>
                  <a:pt x="1672" y="861"/>
                </a:lnTo>
                <a:lnTo>
                  <a:pt x="1671" y="877"/>
                </a:lnTo>
                <a:lnTo>
                  <a:pt x="1669" y="881"/>
                </a:lnTo>
                <a:lnTo>
                  <a:pt x="1665" y="881"/>
                </a:lnTo>
                <a:lnTo>
                  <a:pt x="1662" y="881"/>
                </a:lnTo>
                <a:lnTo>
                  <a:pt x="1658" y="881"/>
                </a:lnTo>
                <a:lnTo>
                  <a:pt x="1656" y="883"/>
                </a:lnTo>
                <a:lnTo>
                  <a:pt x="1656" y="889"/>
                </a:lnTo>
                <a:lnTo>
                  <a:pt x="1655" y="896"/>
                </a:lnTo>
                <a:lnTo>
                  <a:pt x="1656" y="896"/>
                </a:lnTo>
                <a:lnTo>
                  <a:pt x="1647" y="897"/>
                </a:lnTo>
                <a:lnTo>
                  <a:pt x="1640" y="899"/>
                </a:lnTo>
                <a:lnTo>
                  <a:pt x="1633" y="903"/>
                </a:lnTo>
                <a:lnTo>
                  <a:pt x="1627" y="907"/>
                </a:lnTo>
                <a:lnTo>
                  <a:pt x="1617" y="918"/>
                </a:lnTo>
                <a:lnTo>
                  <a:pt x="1610" y="932"/>
                </a:lnTo>
                <a:lnTo>
                  <a:pt x="1605" y="949"/>
                </a:lnTo>
                <a:lnTo>
                  <a:pt x="1604" y="965"/>
                </a:lnTo>
                <a:lnTo>
                  <a:pt x="1605" y="965"/>
                </a:lnTo>
                <a:lnTo>
                  <a:pt x="1598" y="967"/>
                </a:lnTo>
                <a:lnTo>
                  <a:pt x="1591" y="967"/>
                </a:lnTo>
                <a:lnTo>
                  <a:pt x="1585" y="967"/>
                </a:lnTo>
                <a:lnTo>
                  <a:pt x="1584" y="967"/>
                </a:lnTo>
                <a:lnTo>
                  <a:pt x="1571" y="954"/>
                </a:lnTo>
                <a:lnTo>
                  <a:pt x="1555" y="931"/>
                </a:lnTo>
                <a:lnTo>
                  <a:pt x="1549" y="912"/>
                </a:lnTo>
                <a:lnTo>
                  <a:pt x="1552" y="899"/>
                </a:lnTo>
                <a:lnTo>
                  <a:pt x="1556" y="891"/>
                </a:lnTo>
                <a:lnTo>
                  <a:pt x="1560" y="887"/>
                </a:lnTo>
                <a:lnTo>
                  <a:pt x="1562" y="886"/>
                </a:lnTo>
                <a:lnTo>
                  <a:pt x="1562" y="877"/>
                </a:lnTo>
                <a:lnTo>
                  <a:pt x="1560" y="849"/>
                </a:lnTo>
                <a:lnTo>
                  <a:pt x="1560" y="828"/>
                </a:lnTo>
                <a:lnTo>
                  <a:pt x="1562" y="826"/>
                </a:lnTo>
                <a:lnTo>
                  <a:pt x="1562" y="826"/>
                </a:lnTo>
                <a:close/>
                <a:moveTo>
                  <a:pt x="2062" y="1484"/>
                </a:moveTo>
                <a:lnTo>
                  <a:pt x="2063" y="1494"/>
                </a:lnTo>
                <a:lnTo>
                  <a:pt x="2068" y="1500"/>
                </a:lnTo>
                <a:lnTo>
                  <a:pt x="2072" y="1504"/>
                </a:lnTo>
                <a:lnTo>
                  <a:pt x="2078" y="1507"/>
                </a:lnTo>
                <a:lnTo>
                  <a:pt x="2084" y="1507"/>
                </a:lnTo>
                <a:lnTo>
                  <a:pt x="2089" y="1507"/>
                </a:lnTo>
                <a:lnTo>
                  <a:pt x="2102" y="1503"/>
                </a:lnTo>
                <a:lnTo>
                  <a:pt x="2114" y="1500"/>
                </a:lnTo>
                <a:lnTo>
                  <a:pt x="2120" y="1499"/>
                </a:lnTo>
                <a:lnTo>
                  <a:pt x="2123" y="1499"/>
                </a:lnTo>
                <a:lnTo>
                  <a:pt x="2124" y="1499"/>
                </a:lnTo>
                <a:lnTo>
                  <a:pt x="2123" y="1512"/>
                </a:lnTo>
                <a:lnTo>
                  <a:pt x="2118" y="1522"/>
                </a:lnTo>
                <a:lnTo>
                  <a:pt x="2112" y="1529"/>
                </a:lnTo>
                <a:lnTo>
                  <a:pt x="2105" y="1535"/>
                </a:lnTo>
                <a:lnTo>
                  <a:pt x="2098" y="1539"/>
                </a:lnTo>
                <a:lnTo>
                  <a:pt x="2088" y="1541"/>
                </a:lnTo>
                <a:lnTo>
                  <a:pt x="2078" y="1541"/>
                </a:lnTo>
                <a:lnTo>
                  <a:pt x="2057" y="1538"/>
                </a:lnTo>
                <a:lnTo>
                  <a:pt x="2040" y="1532"/>
                </a:lnTo>
                <a:lnTo>
                  <a:pt x="2033" y="1526"/>
                </a:lnTo>
                <a:lnTo>
                  <a:pt x="2026" y="1532"/>
                </a:lnTo>
                <a:lnTo>
                  <a:pt x="2013" y="1544"/>
                </a:lnTo>
                <a:lnTo>
                  <a:pt x="1994" y="1573"/>
                </a:lnTo>
                <a:lnTo>
                  <a:pt x="1979" y="1603"/>
                </a:lnTo>
                <a:lnTo>
                  <a:pt x="1978" y="1609"/>
                </a:lnTo>
                <a:lnTo>
                  <a:pt x="1963" y="1609"/>
                </a:lnTo>
                <a:lnTo>
                  <a:pt x="1953" y="1606"/>
                </a:lnTo>
                <a:lnTo>
                  <a:pt x="1947" y="1603"/>
                </a:lnTo>
                <a:lnTo>
                  <a:pt x="1944" y="1597"/>
                </a:lnTo>
                <a:lnTo>
                  <a:pt x="1944" y="1593"/>
                </a:lnTo>
                <a:lnTo>
                  <a:pt x="1943" y="1588"/>
                </a:lnTo>
                <a:lnTo>
                  <a:pt x="1943" y="1584"/>
                </a:lnTo>
                <a:lnTo>
                  <a:pt x="1940" y="1580"/>
                </a:lnTo>
                <a:lnTo>
                  <a:pt x="1936" y="1578"/>
                </a:lnTo>
                <a:lnTo>
                  <a:pt x="1927" y="1578"/>
                </a:lnTo>
                <a:lnTo>
                  <a:pt x="1914" y="1580"/>
                </a:lnTo>
                <a:lnTo>
                  <a:pt x="1895" y="1583"/>
                </a:lnTo>
                <a:lnTo>
                  <a:pt x="1895" y="1583"/>
                </a:lnTo>
                <a:lnTo>
                  <a:pt x="1894" y="1573"/>
                </a:lnTo>
                <a:lnTo>
                  <a:pt x="1894" y="1559"/>
                </a:lnTo>
                <a:lnTo>
                  <a:pt x="1897" y="1528"/>
                </a:lnTo>
                <a:lnTo>
                  <a:pt x="1905" y="1455"/>
                </a:lnTo>
                <a:lnTo>
                  <a:pt x="1904" y="1399"/>
                </a:lnTo>
                <a:lnTo>
                  <a:pt x="1905" y="1399"/>
                </a:lnTo>
                <a:lnTo>
                  <a:pt x="1908" y="1399"/>
                </a:lnTo>
                <a:lnTo>
                  <a:pt x="1917" y="1402"/>
                </a:lnTo>
                <a:lnTo>
                  <a:pt x="1946" y="1410"/>
                </a:lnTo>
                <a:lnTo>
                  <a:pt x="2017" y="1442"/>
                </a:lnTo>
                <a:lnTo>
                  <a:pt x="2062" y="1484"/>
                </a:lnTo>
                <a:lnTo>
                  <a:pt x="2062" y="1484"/>
                </a:lnTo>
                <a:close/>
                <a:moveTo>
                  <a:pt x="2041" y="1662"/>
                </a:moveTo>
                <a:lnTo>
                  <a:pt x="2023" y="1661"/>
                </a:lnTo>
                <a:lnTo>
                  <a:pt x="2011" y="1658"/>
                </a:lnTo>
                <a:lnTo>
                  <a:pt x="2004" y="1655"/>
                </a:lnTo>
                <a:lnTo>
                  <a:pt x="2002" y="1654"/>
                </a:lnTo>
                <a:lnTo>
                  <a:pt x="2001" y="1651"/>
                </a:lnTo>
                <a:lnTo>
                  <a:pt x="2001" y="1648"/>
                </a:lnTo>
                <a:lnTo>
                  <a:pt x="2001" y="1645"/>
                </a:lnTo>
                <a:lnTo>
                  <a:pt x="2002" y="1642"/>
                </a:lnTo>
                <a:lnTo>
                  <a:pt x="2005" y="1636"/>
                </a:lnTo>
                <a:lnTo>
                  <a:pt x="2010" y="1629"/>
                </a:lnTo>
                <a:lnTo>
                  <a:pt x="2021" y="1610"/>
                </a:lnTo>
                <a:lnTo>
                  <a:pt x="2027" y="1588"/>
                </a:lnTo>
                <a:lnTo>
                  <a:pt x="2028" y="1581"/>
                </a:lnTo>
                <a:lnTo>
                  <a:pt x="2031" y="1581"/>
                </a:lnTo>
                <a:lnTo>
                  <a:pt x="2036" y="1578"/>
                </a:lnTo>
                <a:lnTo>
                  <a:pt x="2039" y="1575"/>
                </a:lnTo>
                <a:lnTo>
                  <a:pt x="2047" y="1568"/>
                </a:lnTo>
                <a:lnTo>
                  <a:pt x="2055" y="1562"/>
                </a:lnTo>
                <a:lnTo>
                  <a:pt x="2060" y="1561"/>
                </a:lnTo>
                <a:lnTo>
                  <a:pt x="2066" y="1561"/>
                </a:lnTo>
                <a:lnTo>
                  <a:pt x="2073" y="1564"/>
                </a:lnTo>
                <a:lnTo>
                  <a:pt x="2081" y="1570"/>
                </a:lnTo>
                <a:lnTo>
                  <a:pt x="2089" y="1577"/>
                </a:lnTo>
                <a:lnTo>
                  <a:pt x="2091" y="1577"/>
                </a:lnTo>
                <a:lnTo>
                  <a:pt x="2089" y="1587"/>
                </a:lnTo>
                <a:lnTo>
                  <a:pt x="2085" y="1603"/>
                </a:lnTo>
                <a:lnTo>
                  <a:pt x="2078" y="1616"/>
                </a:lnTo>
                <a:lnTo>
                  <a:pt x="2068" y="1628"/>
                </a:lnTo>
                <a:lnTo>
                  <a:pt x="2046" y="1655"/>
                </a:lnTo>
                <a:lnTo>
                  <a:pt x="2041" y="1662"/>
                </a:lnTo>
                <a:lnTo>
                  <a:pt x="2041" y="1662"/>
                </a:lnTo>
                <a:close/>
                <a:moveTo>
                  <a:pt x="2183" y="1658"/>
                </a:moveTo>
                <a:lnTo>
                  <a:pt x="2176" y="1655"/>
                </a:lnTo>
                <a:lnTo>
                  <a:pt x="2165" y="1648"/>
                </a:lnTo>
                <a:lnTo>
                  <a:pt x="2155" y="1638"/>
                </a:lnTo>
                <a:lnTo>
                  <a:pt x="2149" y="1626"/>
                </a:lnTo>
                <a:lnTo>
                  <a:pt x="2149" y="1613"/>
                </a:lnTo>
                <a:lnTo>
                  <a:pt x="2157" y="1599"/>
                </a:lnTo>
                <a:lnTo>
                  <a:pt x="2165" y="1590"/>
                </a:lnTo>
                <a:lnTo>
                  <a:pt x="2166" y="1590"/>
                </a:lnTo>
                <a:lnTo>
                  <a:pt x="2168" y="1590"/>
                </a:lnTo>
                <a:lnTo>
                  <a:pt x="2170" y="1588"/>
                </a:lnTo>
                <a:lnTo>
                  <a:pt x="2172" y="1586"/>
                </a:lnTo>
                <a:lnTo>
                  <a:pt x="2173" y="1583"/>
                </a:lnTo>
                <a:lnTo>
                  <a:pt x="2176" y="1581"/>
                </a:lnTo>
                <a:lnTo>
                  <a:pt x="2181" y="1588"/>
                </a:lnTo>
                <a:lnTo>
                  <a:pt x="2183" y="1594"/>
                </a:lnTo>
                <a:lnTo>
                  <a:pt x="2186" y="1600"/>
                </a:lnTo>
                <a:lnTo>
                  <a:pt x="2188" y="1613"/>
                </a:lnTo>
                <a:lnTo>
                  <a:pt x="2186" y="1628"/>
                </a:lnTo>
                <a:lnTo>
                  <a:pt x="2183" y="1652"/>
                </a:lnTo>
                <a:lnTo>
                  <a:pt x="2183" y="1658"/>
                </a:lnTo>
                <a:lnTo>
                  <a:pt x="2183" y="1658"/>
                </a:lnTo>
                <a:close/>
                <a:moveTo>
                  <a:pt x="2150" y="1148"/>
                </a:moveTo>
                <a:lnTo>
                  <a:pt x="2150" y="1154"/>
                </a:lnTo>
                <a:lnTo>
                  <a:pt x="2150" y="1162"/>
                </a:lnTo>
                <a:lnTo>
                  <a:pt x="2155" y="1174"/>
                </a:lnTo>
                <a:lnTo>
                  <a:pt x="2156" y="1196"/>
                </a:lnTo>
                <a:lnTo>
                  <a:pt x="2157" y="1203"/>
                </a:lnTo>
                <a:lnTo>
                  <a:pt x="2156" y="1204"/>
                </a:lnTo>
                <a:lnTo>
                  <a:pt x="2150" y="1207"/>
                </a:lnTo>
                <a:lnTo>
                  <a:pt x="2128" y="1218"/>
                </a:lnTo>
                <a:lnTo>
                  <a:pt x="2111" y="1226"/>
                </a:lnTo>
                <a:lnTo>
                  <a:pt x="2111" y="1226"/>
                </a:lnTo>
                <a:lnTo>
                  <a:pt x="2104" y="1220"/>
                </a:lnTo>
                <a:lnTo>
                  <a:pt x="2097" y="1204"/>
                </a:lnTo>
                <a:lnTo>
                  <a:pt x="2094" y="1190"/>
                </a:lnTo>
                <a:lnTo>
                  <a:pt x="2095" y="1174"/>
                </a:lnTo>
                <a:lnTo>
                  <a:pt x="2099" y="1160"/>
                </a:lnTo>
                <a:lnTo>
                  <a:pt x="2107" y="1144"/>
                </a:lnTo>
                <a:lnTo>
                  <a:pt x="2111" y="1136"/>
                </a:lnTo>
                <a:lnTo>
                  <a:pt x="2115" y="1138"/>
                </a:lnTo>
                <a:lnTo>
                  <a:pt x="2124" y="1138"/>
                </a:lnTo>
                <a:lnTo>
                  <a:pt x="2133" y="1141"/>
                </a:lnTo>
                <a:lnTo>
                  <a:pt x="2144" y="1147"/>
                </a:lnTo>
                <a:lnTo>
                  <a:pt x="2150" y="1148"/>
                </a:lnTo>
                <a:lnTo>
                  <a:pt x="2150" y="1148"/>
                </a:lnTo>
                <a:close/>
                <a:moveTo>
                  <a:pt x="1820" y="816"/>
                </a:moveTo>
                <a:lnTo>
                  <a:pt x="1818" y="818"/>
                </a:lnTo>
                <a:lnTo>
                  <a:pt x="1821" y="822"/>
                </a:lnTo>
                <a:lnTo>
                  <a:pt x="1827" y="828"/>
                </a:lnTo>
                <a:lnTo>
                  <a:pt x="1849" y="844"/>
                </a:lnTo>
                <a:lnTo>
                  <a:pt x="1901" y="877"/>
                </a:lnTo>
                <a:lnTo>
                  <a:pt x="1921" y="889"/>
                </a:lnTo>
                <a:lnTo>
                  <a:pt x="1920" y="893"/>
                </a:lnTo>
                <a:lnTo>
                  <a:pt x="1918" y="902"/>
                </a:lnTo>
                <a:lnTo>
                  <a:pt x="1917" y="907"/>
                </a:lnTo>
                <a:lnTo>
                  <a:pt x="1917" y="909"/>
                </a:lnTo>
                <a:lnTo>
                  <a:pt x="1918" y="907"/>
                </a:lnTo>
                <a:lnTo>
                  <a:pt x="1926" y="900"/>
                </a:lnTo>
                <a:lnTo>
                  <a:pt x="1933" y="893"/>
                </a:lnTo>
                <a:lnTo>
                  <a:pt x="1937" y="894"/>
                </a:lnTo>
                <a:lnTo>
                  <a:pt x="1946" y="896"/>
                </a:lnTo>
                <a:lnTo>
                  <a:pt x="1955" y="900"/>
                </a:lnTo>
                <a:lnTo>
                  <a:pt x="1966" y="907"/>
                </a:lnTo>
                <a:lnTo>
                  <a:pt x="1975" y="909"/>
                </a:lnTo>
                <a:lnTo>
                  <a:pt x="1975" y="903"/>
                </a:lnTo>
                <a:lnTo>
                  <a:pt x="1975" y="891"/>
                </a:lnTo>
                <a:lnTo>
                  <a:pt x="1981" y="867"/>
                </a:lnTo>
                <a:lnTo>
                  <a:pt x="1991" y="847"/>
                </a:lnTo>
                <a:lnTo>
                  <a:pt x="1995" y="842"/>
                </a:lnTo>
                <a:lnTo>
                  <a:pt x="2002" y="847"/>
                </a:lnTo>
                <a:lnTo>
                  <a:pt x="2017" y="854"/>
                </a:lnTo>
                <a:lnTo>
                  <a:pt x="2040" y="871"/>
                </a:lnTo>
                <a:lnTo>
                  <a:pt x="2047" y="881"/>
                </a:lnTo>
                <a:lnTo>
                  <a:pt x="2052" y="894"/>
                </a:lnTo>
                <a:lnTo>
                  <a:pt x="2053" y="900"/>
                </a:lnTo>
                <a:lnTo>
                  <a:pt x="2055" y="899"/>
                </a:lnTo>
                <a:lnTo>
                  <a:pt x="2059" y="894"/>
                </a:lnTo>
                <a:lnTo>
                  <a:pt x="2062" y="890"/>
                </a:lnTo>
                <a:lnTo>
                  <a:pt x="2063" y="889"/>
                </a:lnTo>
                <a:lnTo>
                  <a:pt x="2066" y="889"/>
                </a:lnTo>
                <a:lnTo>
                  <a:pt x="2079" y="889"/>
                </a:lnTo>
                <a:lnTo>
                  <a:pt x="2089" y="889"/>
                </a:lnTo>
                <a:lnTo>
                  <a:pt x="2091" y="889"/>
                </a:lnTo>
                <a:lnTo>
                  <a:pt x="2091" y="890"/>
                </a:lnTo>
                <a:lnTo>
                  <a:pt x="2094" y="897"/>
                </a:lnTo>
                <a:lnTo>
                  <a:pt x="2102" y="920"/>
                </a:lnTo>
                <a:lnTo>
                  <a:pt x="2108" y="939"/>
                </a:lnTo>
                <a:lnTo>
                  <a:pt x="2110" y="939"/>
                </a:lnTo>
                <a:lnTo>
                  <a:pt x="2110" y="932"/>
                </a:lnTo>
                <a:lnTo>
                  <a:pt x="2110" y="920"/>
                </a:lnTo>
                <a:lnTo>
                  <a:pt x="2112" y="899"/>
                </a:lnTo>
                <a:lnTo>
                  <a:pt x="2121" y="881"/>
                </a:lnTo>
                <a:lnTo>
                  <a:pt x="2126" y="877"/>
                </a:lnTo>
                <a:lnTo>
                  <a:pt x="2128" y="880"/>
                </a:lnTo>
                <a:lnTo>
                  <a:pt x="2134" y="883"/>
                </a:lnTo>
                <a:lnTo>
                  <a:pt x="2147" y="891"/>
                </a:lnTo>
                <a:lnTo>
                  <a:pt x="2157" y="899"/>
                </a:lnTo>
                <a:lnTo>
                  <a:pt x="2160" y="900"/>
                </a:lnTo>
                <a:lnTo>
                  <a:pt x="2159" y="902"/>
                </a:lnTo>
                <a:lnTo>
                  <a:pt x="2156" y="909"/>
                </a:lnTo>
                <a:lnTo>
                  <a:pt x="2143" y="932"/>
                </a:lnTo>
                <a:lnTo>
                  <a:pt x="2133" y="949"/>
                </a:lnTo>
                <a:lnTo>
                  <a:pt x="2133" y="949"/>
                </a:lnTo>
                <a:lnTo>
                  <a:pt x="2139" y="945"/>
                </a:lnTo>
                <a:lnTo>
                  <a:pt x="2159" y="929"/>
                </a:lnTo>
                <a:lnTo>
                  <a:pt x="2175" y="916"/>
                </a:lnTo>
                <a:lnTo>
                  <a:pt x="2176" y="915"/>
                </a:lnTo>
                <a:lnTo>
                  <a:pt x="2175" y="916"/>
                </a:lnTo>
                <a:lnTo>
                  <a:pt x="2173" y="918"/>
                </a:lnTo>
                <a:lnTo>
                  <a:pt x="2170" y="920"/>
                </a:lnTo>
                <a:lnTo>
                  <a:pt x="2166" y="928"/>
                </a:lnTo>
                <a:lnTo>
                  <a:pt x="2160" y="949"/>
                </a:lnTo>
                <a:lnTo>
                  <a:pt x="2163" y="967"/>
                </a:lnTo>
                <a:lnTo>
                  <a:pt x="2166" y="965"/>
                </a:lnTo>
                <a:lnTo>
                  <a:pt x="2178" y="955"/>
                </a:lnTo>
                <a:lnTo>
                  <a:pt x="2212" y="929"/>
                </a:lnTo>
                <a:lnTo>
                  <a:pt x="2230" y="919"/>
                </a:lnTo>
                <a:lnTo>
                  <a:pt x="2236" y="916"/>
                </a:lnTo>
                <a:lnTo>
                  <a:pt x="2241" y="916"/>
                </a:lnTo>
                <a:lnTo>
                  <a:pt x="2244" y="916"/>
                </a:lnTo>
                <a:lnTo>
                  <a:pt x="2246" y="916"/>
                </a:lnTo>
                <a:lnTo>
                  <a:pt x="2244" y="923"/>
                </a:lnTo>
                <a:lnTo>
                  <a:pt x="2244" y="935"/>
                </a:lnTo>
                <a:lnTo>
                  <a:pt x="2240" y="957"/>
                </a:lnTo>
                <a:lnTo>
                  <a:pt x="2236" y="967"/>
                </a:lnTo>
                <a:lnTo>
                  <a:pt x="2230" y="974"/>
                </a:lnTo>
                <a:lnTo>
                  <a:pt x="2226" y="977"/>
                </a:lnTo>
                <a:lnTo>
                  <a:pt x="2230" y="976"/>
                </a:lnTo>
                <a:lnTo>
                  <a:pt x="2240" y="968"/>
                </a:lnTo>
                <a:lnTo>
                  <a:pt x="2250" y="958"/>
                </a:lnTo>
                <a:lnTo>
                  <a:pt x="2266" y="936"/>
                </a:lnTo>
                <a:lnTo>
                  <a:pt x="2276" y="920"/>
                </a:lnTo>
                <a:lnTo>
                  <a:pt x="2281" y="922"/>
                </a:lnTo>
                <a:lnTo>
                  <a:pt x="2285" y="923"/>
                </a:lnTo>
                <a:lnTo>
                  <a:pt x="2289" y="925"/>
                </a:lnTo>
                <a:lnTo>
                  <a:pt x="2294" y="928"/>
                </a:lnTo>
                <a:lnTo>
                  <a:pt x="2295" y="931"/>
                </a:lnTo>
                <a:lnTo>
                  <a:pt x="2298" y="935"/>
                </a:lnTo>
                <a:lnTo>
                  <a:pt x="2301" y="944"/>
                </a:lnTo>
                <a:lnTo>
                  <a:pt x="2302" y="952"/>
                </a:lnTo>
                <a:lnTo>
                  <a:pt x="2302" y="962"/>
                </a:lnTo>
                <a:lnTo>
                  <a:pt x="2304" y="962"/>
                </a:lnTo>
                <a:lnTo>
                  <a:pt x="2301" y="965"/>
                </a:lnTo>
                <a:lnTo>
                  <a:pt x="2295" y="971"/>
                </a:lnTo>
                <a:lnTo>
                  <a:pt x="2283" y="981"/>
                </a:lnTo>
                <a:lnTo>
                  <a:pt x="2270" y="986"/>
                </a:lnTo>
                <a:lnTo>
                  <a:pt x="2266" y="986"/>
                </a:lnTo>
                <a:lnTo>
                  <a:pt x="2270" y="987"/>
                </a:lnTo>
                <a:lnTo>
                  <a:pt x="2281" y="987"/>
                </a:lnTo>
                <a:lnTo>
                  <a:pt x="2296" y="991"/>
                </a:lnTo>
                <a:lnTo>
                  <a:pt x="2311" y="1002"/>
                </a:lnTo>
                <a:lnTo>
                  <a:pt x="2315" y="1005"/>
                </a:lnTo>
                <a:lnTo>
                  <a:pt x="2312" y="1007"/>
                </a:lnTo>
                <a:lnTo>
                  <a:pt x="2308" y="1012"/>
                </a:lnTo>
                <a:lnTo>
                  <a:pt x="2298" y="1022"/>
                </a:lnTo>
                <a:lnTo>
                  <a:pt x="2286" y="1029"/>
                </a:lnTo>
                <a:lnTo>
                  <a:pt x="2285" y="1029"/>
                </a:lnTo>
                <a:lnTo>
                  <a:pt x="2308" y="1035"/>
                </a:lnTo>
                <a:lnTo>
                  <a:pt x="2357" y="1045"/>
                </a:lnTo>
                <a:lnTo>
                  <a:pt x="2457" y="1061"/>
                </a:lnTo>
                <a:lnTo>
                  <a:pt x="2560" y="1067"/>
                </a:lnTo>
                <a:lnTo>
                  <a:pt x="2586" y="1067"/>
                </a:lnTo>
                <a:lnTo>
                  <a:pt x="2572" y="1093"/>
                </a:lnTo>
                <a:lnTo>
                  <a:pt x="2559" y="1128"/>
                </a:lnTo>
                <a:lnTo>
                  <a:pt x="2557" y="1141"/>
                </a:lnTo>
                <a:lnTo>
                  <a:pt x="2559" y="1149"/>
                </a:lnTo>
                <a:lnTo>
                  <a:pt x="2562" y="1157"/>
                </a:lnTo>
                <a:lnTo>
                  <a:pt x="2566" y="1162"/>
                </a:lnTo>
                <a:lnTo>
                  <a:pt x="2572" y="1168"/>
                </a:lnTo>
                <a:lnTo>
                  <a:pt x="2582" y="1183"/>
                </a:lnTo>
                <a:lnTo>
                  <a:pt x="2585" y="1206"/>
                </a:lnTo>
                <a:lnTo>
                  <a:pt x="2586" y="1206"/>
                </a:lnTo>
                <a:lnTo>
                  <a:pt x="2578" y="1206"/>
                </a:lnTo>
                <a:lnTo>
                  <a:pt x="2559" y="1206"/>
                </a:lnTo>
                <a:lnTo>
                  <a:pt x="2518" y="1204"/>
                </a:lnTo>
                <a:lnTo>
                  <a:pt x="2480" y="1197"/>
                </a:lnTo>
                <a:lnTo>
                  <a:pt x="2475" y="1194"/>
                </a:lnTo>
                <a:lnTo>
                  <a:pt x="2470" y="1194"/>
                </a:lnTo>
                <a:lnTo>
                  <a:pt x="2462" y="1189"/>
                </a:lnTo>
                <a:lnTo>
                  <a:pt x="2454" y="1183"/>
                </a:lnTo>
                <a:lnTo>
                  <a:pt x="2438" y="1168"/>
                </a:lnTo>
                <a:lnTo>
                  <a:pt x="2427" y="1160"/>
                </a:lnTo>
                <a:lnTo>
                  <a:pt x="2421" y="1165"/>
                </a:lnTo>
                <a:lnTo>
                  <a:pt x="2417" y="1177"/>
                </a:lnTo>
                <a:lnTo>
                  <a:pt x="2415" y="1189"/>
                </a:lnTo>
                <a:lnTo>
                  <a:pt x="2418" y="1200"/>
                </a:lnTo>
                <a:lnTo>
                  <a:pt x="2423" y="1226"/>
                </a:lnTo>
                <a:lnTo>
                  <a:pt x="2424" y="1233"/>
                </a:lnTo>
                <a:lnTo>
                  <a:pt x="2436" y="1235"/>
                </a:lnTo>
                <a:lnTo>
                  <a:pt x="2454" y="1239"/>
                </a:lnTo>
                <a:lnTo>
                  <a:pt x="2507" y="1252"/>
                </a:lnTo>
                <a:lnTo>
                  <a:pt x="2565" y="1275"/>
                </a:lnTo>
                <a:lnTo>
                  <a:pt x="2612" y="1307"/>
                </a:lnTo>
                <a:lnTo>
                  <a:pt x="2627" y="1325"/>
                </a:lnTo>
                <a:lnTo>
                  <a:pt x="2633" y="1345"/>
                </a:lnTo>
                <a:lnTo>
                  <a:pt x="2627" y="1368"/>
                </a:lnTo>
                <a:lnTo>
                  <a:pt x="2609" y="1391"/>
                </a:lnTo>
                <a:lnTo>
                  <a:pt x="2609" y="1391"/>
                </a:lnTo>
                <a:lnTo>
                  <a:pt x="2601" y="1391"/>
                </a:lnTo>
                <a:lnTo>
                  <a:pt x="2583" y="1388"/>
                </a:lnTo>
                <a:lnTo>
                  <a:pt x="2541" y="1377"/>
                </a:lnTo>
                <a:lnTo>
                  <a:pt x="2521" y="1374"/>
                </a:lnTo>
                <a:lnTo>
                  <a:pt x="2504" y="1375"/>
                </a:lnTo>
                <a:lnTo>
                  <a:pt x="2498" y="1377"/>
                </a:lnTo>
                <a:lnTo>
                  <a:pt x="2495" y="1378"/>
                </a:lnTo>
                <a:lnTo>
                  <a:pt x="2494" y="1380"/>
                </a:lnTo>
                <a:lnTo>
                  <a:pt x="2494" y="1383"/>
                </a:lnTo>
                <a:lnTo>
                  <a:pt x="2494" y="1386"/>
                </a:lnTo>
                <a:lnTo>
                  <a:pt x="2494" y="1387"/>
                </a:lnTo>
                <a:lnTo>
                  <a:pt x="2494" y="1387"/>
                </a:lnTo>
                <a:lnTo>
                  <a:pt x="2505" y="1390"/>
                </a:lnTo>
                <a:lnTo>
                  <a:pt x="2533" y="1394"/>
                </a:lnTo>
                <a:lnTo>
                  <a:pt x="2592" y="1412"/>
                </a:lnTo>
                <a:lnTo>
                  <a:pt x="2614" y="1429"/>
                </a:lnTo>
                <a:lnTo>
                  <a:pt x="2620" y="1441"/>
                </a:lnTo>
                <a:lnTo>
                  <a:pt x="2622" y="1454"/>
                </a:lnTo>
                <a:lnTo>
                  <a:pt x="2621" y="1470"/>
                </a:lnTo>
                <a:lnTo>
                  <a:pt x="2621" y="1470"/>
                </a:lnTo>
                <a:lnTo>
                  <a:pt x="2609" y="1470"/>
                </a:lnTo>
                <a:lnTo>
                  <a:pt x="2582" y="1467"/>
                </a:lnTo>
                <a:lnTo>
                  <a:pt x="2518" y="1467"/>
                </a:lnTo>
                <a:lnTo>
                  <a:pt x="2488" y="1473"/>
                </a:lnTo>
                <a:lnTo>
                  <a:pt x="2462" y="1484"/>
                </a:lnTo>
                <a:lnTo>
                  <a:pt x="2452" y="1493"/>
                </a:lnTo>
                <a:lnTo>
                  <a:pt x="2437" y="1483"/>
                </a:lnTo>
                <a:lnTo>
                  <a:pt x="2412" y="1458"/>
                </a:lnTo>
                <a:lnTo>
                  <a:pt x="2388" y="1429"/>
                </a:lnTo>
                <a:lnTo>
                  <a:pt x="2331" y="1380"/>
                </a:lnTo>
                <a:lnTo>
                  <a:pt x="2269" y="1364"/>
                </a:lnTo>
                <a:lnTo>
                  <a:pt x="2260" y="1371"/>
                </a:lnTo>
                <a:lnTo>
                  <a:pt x="2247" y="1384"/>
                </a:lnTo>
                <a:lnTo>
                  <a:pt x="2221" y="1409"/>
                </a:lnTo>
                <a:lnTo>
                  <a:pt x="2195" y="1435"/>
                </a:lnTo>
                <a:lnTo>
                  <a:pt x="2188" y="1442"/>
                </a:lnTo>
                <a:lnTo>
                  <a:pt x="2181" y="1439"/>
                </a:lnTo>
                <a:lnTo>
                  <a:pt x="2172" y="1435"/>
                </a:lnTo>
                <a:lnTo>
                  <a:pt x="2165" y="1431"/>
                </a:lnTo>
                <a:lnTo>
                  <a:pt x="2160" y="1426"/>
                </a:lnTo>
                <a:lnTo>
                  <a:pt x="2157" y="1420"/>
                </a:lnTo>
                <a:lnTo>
                  <a:pt x="2155" y="1410"/>
                </a:lnTo>
                <a:lnTo>
                  <a:pt x="2153" y="1403"/>
                </a:lnTo>
                <a:lnTo>
                  <a:pt x="2156" y="1394"/>
                </a:lnTo>
                <a:lnTo>
                  <a:pt x="2162" y="1384"/>
                </a:lnTo>
                <a:lnTo>
                  <a:pt x="2178" y="1368"/>
                </a:lnTo>
                <a:lnTo>
                  <a:pt x="2198" y="1354"/>
                </a:lnTo>
                <a:lnTo>
                  <a:pt x="2241" y="1333"/>
                </a:lnTo>
                <a:lnTo>
                  <a:pt x="2262" y="1326"/>
                </a:lnTo>
                <a:lnTo>
                  <a:pt x="2266" y="1326"/>
                </a:lnTo>
                <a:lnTo>
                  <a:pt x="2273" y="1323"/>
                </a:lnTo>
                <a:lnTo>
                  <a:pt x="2279" y="1319"/>
                </a:lnTo>
                <a:lnTo>
                  <a:pt x="2282" y="1313"/>
                </a:lnTo>
                <a:lnTo>
                  <a:pt x="2283" y="1307"/>
                </a:lnTo>
                <a:lnTo>
                  <a:pt x="2283" y="1300"/>
                </a:lnTo>
                <a:lnTo>
                  <a:pt x="2285" y="1296"/>
                </a:lnTo>
                <a:lnTo>
                  <a:pt x="2279" y="1294"/>
                </a:lnTo>
                <a:lnTo>
                  <a:pt x="2270" y="1289"/>
                </a:lnTo>
                <a:lnTo>
                  <a:pt x="2254" y="1273"/>
                </a:lnTo>
                <a:lnTo>
                  <a:pt x="2246" y="1252"/>
                </a:lnTo>
                <a:lnTo>
                  <a:pt x="2246" y="1245"/>
                </a:lnTo>
                <a:lnTo>
                  <a:pt x="2249" y="1242"/>
                </a:lnTo>
                <a:lnTo>
                  <a:pt x="2254" y="1235"/>
                </a:lnTo>
                <a:lnTo>
                  <a:pt x="2269" y="1223"/>
                </a:lnTo>
                <a:lnTo>
                  <a:pt x="2292" y="1219"/>
                </a:lnTo>
                <a:lnTo>
                  <a:pt x="2301" y="1218"/>
                </a:lnTo>
                <a:lnTo>
                  <a:pt x="2305" y="1223"/>
                </a:lnTo>
                <a:lnTo>
                  <a:pt x="2317" y="1231"/>
                </a:lnTo>
                <a:lnTo>
                  <a:pt x="2328" y="1233"/>
                </a:lnTo>
                <a:lnTo>
                  <a:pt x="2339" y="1235"/>
                </a:lnTo>
                <a:lnTo>
                  <a:pt x="2350" y="1235"/>
                </a:lnTo>
                <a:lnTo>
                  <a:pt x="2362" y="1235"/>
                </a:lnTo>
                <a:lnTo>
                  <a:pt x="2369" y="1233"/>
                </a:lnTo>
                <a:lnTo>
                  <a:pt x="2372" y="1231"/>
                </a:lnTo>
                <a:lnTo>
                  <a:pt x="2375" y="1223"/>
                </a:lnTo>
                <a:lnTo>
                  <a:pt x="2378" y="1216"/>
                </a:lnTo>
                <a:lnTo>
                  <a:pt x="2378" y="1209"/>
                </a:lnTo>
                <a:lnTo>
                  <a:pt x="2378" y="1194"/>
                </a:lnTo>
                <a:lnTo>
                  <a:pt x="2378" y="1190"/>
                </a:lnTo>
                <a:lnTo>
                  <a:pt x="2370" y="1191"/>
                </a:lnTo>
                <a:lnTo>
                  <a:pt x="2357" y="1191"/>
                </a:lnTo>
                <a:lnTo>
                  <a:pt x="2331" y="1194"/>
                </a:lnTo>
                <a:lnTo>
                  <a:pt x="2307" y="1199"/>
                </a:lnTo>
                <a:lnTo>
                  <a:pt x="2301" y="1199"/>
                </a:lnTo>
                <a:lnTo>
                  <a:pt x="2294" y="1200"/>
                </a:lnTo>
                <a:lnTo>
                  <a:pt x="2279" y="1202"/>
                </a:lnTo>
                <a:lnTo>
                  <a:pt x="2246" y="1197"/>
                </a:lnTo>
                <a:lnTo>
                  <a:pt x="2220" y="1187"/>
                </a:lnTo>
                <a:lnTo>
                  <a:pt x="2215" y="1183"/>
                </a:lnTo>
                <a:lnTo>
                  <a:pt x="2214" y="1177"/>
                </a:lnTo>
                <a:lnTo>
                  <a:pt x="2211" y="1170"/>
                </a:lnTo>
                <a:lnTo>
                  <a:pt x="2204" y="1155"/>
                </a:lnTo>
                <a:lnTo>
                  <a:pt x="2195" y="1141"/>
                </a:lnTo>
                <a:lnTo>
                  <a:pt x="2178" y="1118"/>
                </a:lnTo>
                <a:lnTo>
                  <a:pt x="2176" y="1110"/>
                </a:lnTo>
                <a:lnTo>
                  <a:pt x="2168" y="1107"/>
                </a:lnTo>
                <a:lnTo>
                  <a:pt x="2160" y="1104"/>
                </a:lnTo>
                <a:lnTo>
                  <a:pt x="2144" y="1093"/>
                </a:lnTo>
                <a:lnTo>
                  <a:pt x="2128" y="1083"/>
                </a:lnTo>
                <a:lnTo>
                  <a:pt x="2112" y="1077"/>
                </a:lnTo>
                <a:lnTo>
                  <a:pt x="2095" y="1078"/>
                </a:lnTo>
                <a:lnTo>
                  <a:pt x="2076" y="1090"/>
                </a:lnTo>
                <a:lnTo>
                  <a:pt x="2076" y="1090"/>
                </a:lnTo>
                <a:lnTo>
                  <a:pt x="2076" y="1076"/>
                </a:lnTo>
                <a:lnTo>
                  <a:pt x="2075" y="1051"/>
                </a:lnTo>
                <a:lnTo>
                  <a:pt x="2069" y="1035"/>
                </a:lnTo>
                <a:lnTo>
                  <a:pt x="2057" y="1022"/>
                </a:lnTo>
                <a:lnTo>
                  <a:pt x="2039" y="1009"/>
                </a:lnTo>
                <a:lnTo>
                  <a:pt x="2015" y="994"/>
                </a:lnTo>
                <a:lnTo>
                  <a:pt x="2002" y="986"/>
                </a:lnTo>
                <a:lnTo>
                  <a:pt x="2001" y="987"/>
                </a:lnTo>
                <a:lnTo>
                  <a:pt x="1998" y="991"/>
                </a:lnTo>
                <a:lnTo>
                  <a:pt x="1994" y="1002"/>
                </a:lnTo>
                <a:lnTo>
                  <a:pt x="1991" y="1012"/>
                </a:lnTo>
                <a:lnTo>
                  <a:pt x="1991" y="1013"/>
                </a:lnTo>
                <a:lnTo>
                  <a:pt x="1994" y="1018"/>
                </a:lnTo>
                <a:lnTo>
                  <a:pt x="1999" y="1023"/>
                </a:lnTo>
                <a:lnTo>
                  <a:pt x="2011" y="1041"/>
                </a:lnTo>
                <a:lnTo>
                  <a:pt x="2017" y="1058"/>
                </a:lnTo>
                <a:lnTo>
                  <a:pt x="2018" y="1062"/>
                </a:lnTo>
                <a:lnTo>
                  <a:pt x="2001" y="1054"/>
                </a:lnTo>
                <a:lnTo>
                  <a:pt x="1971" y="1041"/>
                </a:lnTo>
                <a:lnTo>
                  <a:pt x="1946" y="1036"/>
                </a:lnTo>
                <a:lnTo>
                  <a:pt x="1924" y="1041"/>
                </a:lnTo>
                <a:lnTo>
                  <a:pt x="1902" y="1054"/>
                </a:lnTo>
                <a:lnTo>
                  <a:pt x="1879" y="1074"/>
                </a:lnTo>
                <a:lnTo>
                  <a:pt x="1868" y="1087"/>
                </a:lnTo>
                <a:lnTo>
                  <a:pt x="1850" y="1087"/>
                </a:lnTo>
                <a:lnTo>
                  <a:pt x="1824" y="1086"/>
                </a:lnTo>
                <a:lnTo>
                  <a:pt x="1781" y="1071"/>
                </a:lnTo>
                <a:lnTo>
                  <a:pt x="1739" y="1038"/>
                </a:lnTo>
                <a:lnTo>
                  <a:pt x="1727" y="1025"/>
                </a:lnTo>
                <a:lnTo>
                  <a:pt x="1743" y="1025"/>
                </a:lnTo>
                <a:lnTo>
                  <a:pt x="1766" y="1023"/>
                </a:lnTo>
                <a:lnTo>
                  <a:pt x="1773" y="1022"/>
                </a:lnTo>
                <a:lnTo>
                  <a:pt x="1775" y="1020"/>
                </a:lnTo>
                <a:lnTo>
                  <a:pt x="1776" y="1019"/>
                </a:lnTo>
                <a:lnTo>
                  <a:pt x="1776" y="1018"/>
                </a:lnTo>
                <a:lnTo>
                  <a:pt x="1776" y="1016"/>
                </a:lnTo>
                <a:lnTo>
                  <a:pt x="1773" y="1015"/>
                </a:lnTo>
                <a:lnTo>
                  <a:pt x="1771" y="1013"/>
                </a:lnTo>
                <a:lnTo>
                  <a:pt x="1763" y="1009"/>
                </a:lnTo>
                <a:lnTo>
                  <a:pt x="1737" y="1000"/>
                </a:lnTo>
                <a:lnTo>
                  <a:pt x="1705" y="991"/>
                </a:lnTo>
                <a:lnTo>
                  <a:pt x="1704" y="978"/>
                </a:lnTo>
                <a:lnTo>
                  <a:pt x="1701" y="954"/>
                </a:lnTo>
                <a:lnTo>
                  <a:pt x="1700" y="932"/>
                </a:lnTo>
                <a:lnTo>
                  <a:pt x="1700" y="928"/>
                </a:lnTo>
                <a:lnTo>
                  <a:pt x="1700" y="919"/>
                </a:lnTo>
                <a:lnTo>
                  <a:pt x="1704" y="900"/>
                </a:lnTo>
                <a:lnTo>
                  <a:pt x="1716" y="861"/>
                </a:lnTo>
                <a:lnTo>
                  <a:pt x="1723" y="823"/>
                </a:lnTo>
                <a:lnTo>
                  <a:pt x="1724" y="813"/>
                </a:lnTo>
                <a:lnTo>
                  <a:pt x="1727" y="813"/>
                </a:lnTo>
                <a:lnTo>
                  <a:pt x="1737" y="813"/>
                </a:lnTo>
                <a:lnTo>
                  <a:pt x="1755" y="815"/>
                </a:lnTo>
                <a:lnTo>
                  <a:pt x="1768" y="819"/>
                </a:lnTo>
                <a:lnTo>
                  <a:pt x="1771" y="819"/>
                </a:lnTo>
                <a:lnTo>
                  <a:pt x="1769" y="826"/>
                </a:lnTo>
                <a:lnTo>
                  <a:pt x="1769" y="851"/>
                </a:lnTo>
                <a:lnTo>
                  <a:pt x="1773" y="920"/>
                </a:lnTo>
                <a:lnTo>
                  <a:pt x="1784" y="951"/>
                </a:lnTo>
                <a:lnTo>
                  <a:pt x="1791" y="962"/>
                </a:lnTo>
                <a:lnTo>
                  <a:pt x="1801" y="971"/>
                </a:lnTo>
                <a:lnTo>
                  <a:pt x="1814" y="973"/>
                </a:lnTo>
                <a:lnTo>
                  <a:pt x="1815" y="973"/>
                </a:lnTo>
                <a:lnTo>
                  <a:pt x="1817" y="971"/>
                </a:lnTo>
                <a:lnTo>
                  <a:pt x="1823" y="965"/>
                </a:lnTo>
                <a:lnTo>
                  <a:pt x="1836" y="951"/>
                </a:lnTo>
                <a:lnTo>
                  <a:pt x="1842" y="944"/>
                </a:lnTo>
                <a:lnTo>
                  <a:pt x="1844" y="935"/>
                </a:lnTo>
                <a:lnTo>
                  <a:pt x="1844" y="931"/>
                </a:lnTo>
                <a:lnTo>
                  <a:pt x="1840" y="926"/>
                </a:lnTo>
                <a:lnTo>
                  <a:pt x="1836" y="920"/>
                </a:lnTo>
                <a:lnTo>
                  <a:pt x="1829" y="916"/>
                </a:lnTo>
                <a:lnTo>
                  <a:pt x="1814" y="909"/>
                </a:lnTo>
                <a:lnTo>
                  <a:pt x="1802" y="902"/>
                </a:lnTo>
                <a:lnTo>
                  <a:pt x="1800" y="899"/>
                </a:lnTo>
                <a:lnTo>
                  <a:pt x="1800" y="896"/>
                </a:lnTo>
                <a:lnTo>
                  <a:pt x="1800" y="894"/>
                </a:lnTo>
                <a:lnTo>
                  <a:pt x="1802" y="891"/>
                </a:lnTo>
                <a:lnTo>
                  <a:pt x="1805" y="889"/>
                </a:lnTo>
                <a:lnTo>
                  <a:pt x="1810" y="887"/>
                </a:lnTo>
                <a:lnTo>
                  <a:pt x="1823" y="881"/>
                </a:lnTo>
                <a:lnTo>
                  <a:pt x="1831" y="877"/>
                </a:lnTo>
                <a:lnTo>
                  <a:pt x="1826" y="873"/>
                </a:lnTo>
                <a:lnTo>
                  <a:pt x="1808" y="857"/>
                </a:lnTo>
                <a:lnTo>
                  <a:pt x="1795" y="844"/>
                </a:lnTo>
                <a:lnTo>
                  <a:pt x="1795" y="842"/>
                </a:lnTo>
                <a:lnTo>
                  <a:pt x="1797" y="841"/>
                </a:lnTo>
                <a:lnTo>
                  <a:pt x="1798" y="839"/>
                </a:lnTo>
                <a:lnTo>
                  <a:pt x="1802" y="836"/>
                </a:lnTo>
                <a:lnTo>
                  <a:pt x="1813" y="834"/>
                </a:lnTo>
                <a:lnTo>
                  <a:pt x="1817" y="835"/>
                </a:lnTo>
                <a:lnTo>
                  <a:pt x="1818" y="834"/>
                </a:lnTo>
                <a:lnTo>
                  <a:pt x="1820" y="832"/>
                </a:lnTo>
                <a:lnTo>
                  <a:pt x="1820" y="831"/>
                </a:lnTo>
                <a:lnTo>
                  <a:pt x="1820" y="829"/>
                </a:lnTo>
                <a:lnTo>
                  <a:pt x="1820" y="826"/>
                </a:lnTo>
                <a:lnTo>
                  <a:pt x="1818" y="816"/>
                </a:lnTo>
                <a:lnTo>
                  <a:pt x="1820" y="816"/>
                </a:lnTo>
                <a:lnTo>
                  <a:pt x="1820" y="816"/>
                </a:lnTo>
                <a:close/>
                <a:moveTo>
                  <a:pt x="1956" y="839"/>
                </a:moveTo>
                <a:lnTo>
                  <a:pt x="1949" y="841"/>
                </a:lnTo>
                <a:lnTo>
                  <a:pt x="1927" y="841"/>
                </a:lnTo>
                <a:lnTo>
                  <a:pt x="1911" y="841"/>
                </a:lnTo>
                <a:lnTo>
                  <a:pt x="1911" y="841"/>
                </a:lnTo>
                <a:lnTo>
                  <a:pt x="1907" y="838"/>
                </a:lnTo>
                <a:lnTo>
                  <a:pt x="1901" y="831"/>
                </a:lnTo>
                <a:lnTo>
                  <a:pt x="1889" y="813"/>
                </a:lnTo>
                <a:lnTo>
                  <a:pt x="1878" y="797"/>
                </a:lnTo>
                <a:lnTo>
                  <a:pt x="1875" y="793"/>
                </a:lnTo>
                <a:lnTo>
                  <a:pt x="1873" y="789"/>
                </a:lnTo>
                <a:lnTo>
                  <a:pt x="1875" y="781"/>
                </a:lnTo>
                <a:lnTo>
                  <a:pt x="1875" y="777"/>
                </a:lnTo>
                <a:lnTo>
                  <a:pt x="1878" y="774"/>
                </a:lnTo>
                <a:lnTo>
                  <a:pt x="1882" y="771"/>
                </a:lnTo>
                <a:lnTo>
                  <a:pt x="1888" y="768"/>
                </a:lnTo>
                <a:lnTo>
                  <a:pt x="1894" y="765"/>
                </a:lnTo>
                <a:lnTo>
                  <a:pt x="1900" y="771"/>
                </a:lnTo>
                <a:lnTo>
                  <a:pt x="1908" y="778"/>
                </a:lnTo>
                <a:lnTo>
                  <a:pt x="1915" y="781"/>
                </a:lnTo>
                <a:lnTo>
                  <a:pt x="1917" y="781"/>
                </a:lnTo>
                <a:lnTo>
                  <a:pt x="1928" y="781"/>
                </a:lnTo>
                <a:lnTo>
                  <a:pt x="1949" y="784"/>
                </a:lnTo>
                <a:lnTo>
                  <a:pt x="1962" y="792"/>
                </a:lnTo>
                <a:lnTo>
                  <a:pt x="1966" y="797"/>
                </a:lnTo>
                <a:lnTo>
                  <a:pt x="1969" y="803"/>
                </a:lnTo>
                <a:lnTo>
                  <a:pt x="1969" y="810"/>
                </a:lnTo>
                <a:lnTo>
                  <a:pt x="1969" y="818"/>
                </a:lnTo>
                <a:lnTo>
                  <a:pt x="1966" y="825"/>
                </a:lnTo>
                <a:lnTo>
                  <a:pt x="1962" y="832"/>
                </a:lnTo>
                <a:lnTo>
                  <a:pt x="1956" y="839"/>
                </a:lnTo>
                <a:lnTo>
                  <a:pt x="1956" y="839"/>
                </a:lnTo>
                <a:lnTo>
                  <a:pt x="1956" y="839"/>
                </a:lnTo>
                <a:close/>
                <a:moveTo>
                  <a:pt x="1507" y="726"/>
                </a:moveTo>
                <a:lnTo>
                  <a:pt x="1498" y="734"/>
                </a:lnTo>
                <a:lnTo>
                  <a:pt x="1487" y="745"/>
                </a:lnTo>
                <a:lnTo>
                  <a:pt x="1479" y="755"/>
                </a:lnTo>
                <a:lnTo>
                  <a:pt x="1472" y="761"/>
                </a:lnTo>
                <a:lnTo>
                  <a:pt x="1468" y="763"/>
                </a:lnTo>
                <a:lnTo>
                  <a:pt x="1462" y="761"/>
                </a:lnTo>
                <a:lnTo>
                  <a:pt x="1456" y="760"/>
                </a:lnTo>
                <a:lnTo>
                  <a:pt x="1447" y="757"/>
                </a:lnTo>
                <a:lnTo>
                  <a:pt x="1437" y="749"/>
                </a:lnTo>
                <a:lnTo>
                  <a:pt x="1437" y="749"/>
                </a:lnTo>
                <a:lnTo>
                  <a:pt x="1439" y="745"/>
                </a:lnTo>
                <a:lnTo>
                  <a:pt x="1443" y="736"/>
                </a:lnTo>
                <a:lnTo>
                  <a:pt x="1450" y="728"/>
                </a:lnTo>
                <a:lnTo>
                  <a:pt x="1463" y="710"/>
                </a:lnTo>
                <a:lnTo>
                  <a:pt x="1468" y="696"/>
                </a:lnTo>
                <a:lnTo>
                  <a:pt x="1472" y="696"/>
                </a:lnTo>
                <a:lnTo>
                  <a:pt x="1482" y="696"/>
                </a:lnTo>
                <a:lnTo>
                  <a:pt x="1491" y="696"/>
                </a:lnTo>
                <a:lnTo>
                  <a:pt x="1495" y="697"/>
                </a:lnTo>
                <a:lnTo>
                  <a:pt x="1498" y="700"/>
                </a:lnTo>
                <a:lnTo>
                  <a:pt x="1501" y="702"/>
                </a:lnTo>
                <a:lnTo>
                  <a:pt x="1504" y="706"/>
                </a:lnTo>
                <a:lnTo>
                  <a:pt x="1505" y="712"/>
                </a:lnTo>
                <a:lnTo>
                  <a:pt x="1505" y="719"/>
                </a:lnTo>
                <a:lnTo>
                  <a:pt x="1505" y="726"/>
                </a:lnTo>
                <a:lnTo>
                  <a:pt x="1507" y="726"/>
                </a:lnTo>
                <a:lnTo>
                  <a:pt x="1507" y="726"/>
                </a:lnTo>
                <a:close/>
                <a:moveTo>
                  <a:pt x="1445" y="587"/>
                </a:moveTo>
                <a:lnTo>
                  <a:pt x="1452" y="597"/>
                </a:lnTo>
                <a:lnTo>
                  <a:pt x="1463" y="612"/>
                </a:lnTo>
                <a:lnTo>
                  <a:pt x="1468" y="625"/>
                </a:lnTo>
                <a:lnTo>
                  <a:pt x="1466" y="635"/>
                </a:lnTo>
                <a:lnTo>
                  <a:pt x="1463" y="648"/>
                </a:lnTo>
                <a:lnTo>
                  <a:pt x="1461" y="664"/>
                </a:lnTo>
                <a:lnTo>
                  <a:pt x="1461" y="673"/>
                </a:lnTo>
                <a:lnTo>
                  <a:pt x="1453" y="686"/>
                </a:lnTo>
                <a:lnTo>
                  <a:pt x="1445" y="703"/>
                </a:lnTo>
                <a:lnTo>
                  <a:pt x="1437" y="716"/>
                </a:lnTo>
                <a:lnTo>
                  <a:pt x="1430" y="723"/>
                </a:lnTo>
                <a:lnTo>
                  <a:pt x="1421" y="726"/>
                </a:lnTo>
                <a:lnTo>
                  <a:pt x="1405" y="728"/>
                </a:lnTo>
                <a:lnTo>
                  <a:pt x="1395" y="728"/>
                </a:lnTo>
                <a:lnTo>
                  <a:pt x="1388" y="728"/>
                </a:lnTo>
                <a:lnTo>
                  <a:pt x="1384" y="725"/>
                </a:lnTo>
                <a:lnTo>
                  <a:pt x="1379" y="722"/>
                </a:lnTo>
                <a:lnTo>
                  <a:pt x="1376" y="718"/>
                </a:lnTo>
                <a:lnTo>
                  <a:pt x="1375" y="713"/>
                </a:lnTo>
                <a:lnTo>
                  <a:pt x="1375" y="707"/>
                </a:lnTo>
                <a:lnTo>
                  <a:pt x="1375" y="703"/>
                </a:lnTo>
                <a:lnTo>
                  <a:pt x="1378" y="694"/>
                </a:lnTo>
                <a:lnTo>
                  <a:pt x="1382" y="689"/>
                </a:lnTo>
                <a:lnTo>
                  <a:pt x="1385" y="686"/>
                </a:lnTo>
                <a:lnTo>
                  <a:pt x="1388" y="681"/>
                </a:lnTo>
                <a:lnTo>
                  <a:pt x="1391" y="674"/>
                </a:lnTo>
                <a:lnTo>
                  <a:pt x="1391" y="671"/>
                </a:lnTo>
                <a:lnTo>
                  <a:pt x="1390" y="670"/>
                </a:lnTo>
                <a:lnTo>
                  <a:pt x="1388" y="670"/>
                </a:lnTo>
                <a:lnTo>
                  <a:pt x="1385" y="670"/>
                </a:lnTo>
                <a:lnTo>
                  <a:pt x="1376" y="670"/>
                </a:lnTo>
                <a:lnTo>
                  <a:pt x="1366" y="667"/>
                </a:lnTo>
                <a:lnTo>
                  <a:pt x="1366" y="667"/>
                </a:lnTo>
                <a:lnTo>
                  <a:pt x="1365" y="664"/>
                </a:lnTo>
                <a:lnTo>
                  <a:pt x="1363" y="658"/>
                </a:lnTo>
                <a:lnTo>
                  <a:pt x="1363" y="654"/>
                </a:lnTo>
                <a:lnTo>
                  <a:pt x="1363" y="651"/>
                </a:lnTo>
                <a:lnTo>
                  <a:pt x="1366" y="648"/>
                </a:lnTo>
                <a:lnTo>
                  <a:pt x="1371" y="644"/>
                </a:lnTo>
                <a:lnTo>
                  <a:pt x="1375" y="641"/>
                </a:lnTo>
                <a:lnTo>
                  <a:pt x="1379" y="642"/>
                </a:lnTo>
                <a:lnTo>
                  <a:pt x="1388" y="644"/>
                </a:lnTo>
                <a:lnTo>
                  <a:pt x="1397" y="648"/>
                </a:lnTo>
                <a:lnTo>
                  <a:pt x="1411" y="658"/>
                </a:lnTo>
                <a:lnTo>
                  <a:pt x="1419" y="663"/>
                </a:lnTo>
                <a:lnTo>
                  <a:pt x="1420" y="658"/>
                </a:lnTo>
                <a:lnTo>
                  <a:pt x="1426" y="647"/>
                </a:lnTo>
                <a:lnTo>
                  <a:pt x="1433" y="619"/>
                </a:lnTo>
                <a:lnTo>
                  <a:pt x="1442" y="593"/>
                </a:lnTo>
                <a:lnTo>
                  <a:pt x="1445" y="587"/>
                </a:lnTo>
                <a:lnTo>
                  <a:pt x="1445" y="587"/>
                </a:lnTo>
                <a:close/>
                <a:moveTo>
                  <a:pt x="1294" y="616"/>
                </a:moveTo>
                <a:lnTo>
                  <a:pt x="1294" y="622"/>
                </a:lnTo>
                <a:lnTo>
                  <a:pt x="1297" y="634"/>
                </a:lnTo>
                <a:lnTo>
                  <a:pt x="1301" y="664"/>
                </a:lnTo>
                <a:lnTo>
                  <a:pt x="1304" y="692"/>
                </a:lnTo>
                <a:lnTo>
                  <a:pt x="1305" y="697"/>
                </a:lnTo>
                <a:lnTo>
                  <a:pt x="1310" y="700"/>
                </a:lnTo>
                <a:lnTo>
                  <a:pt x="1314" y="702"/>
                </a:lnTo>
                <a:lnTo>
                  <a:pt x="1317" y="706"/>
                </a:lnTo>
                <a:lnTo>
                  <a:pt x="1324" y="715"/>
                </a:lnTo>
                <a:lnTo>
                  <a:pt x="1329" y="723"/>
                </a:lnTo>
                <a:lnTo>
                  <a:pt x="1330" y="734"/>
                </a:lnTo>
                <a:lnTo>
                  <a:pt x="1327" y="744"/>
                </a:lnTo>
                <a:lnTo>
                  <a:pt x="1326" y="747"/>
                </a:lnTo>
                <a:lnTo>
                  <a:pt x="1317" y="747"/>
                </a:lnTo>
                <a:lnTo>
                  <a:pt x="1303" y="747"/>
                </a:lnTo>
                <a:lnTo>
                  <a:pt x="1277" y="745"/>
                </a:lnTo>
                <a:lnTo>
                  <a:pt x="1249" y="747"/>
                </a:lnTo>
                <a:lnTo>
                  <a:pt x="1242" y="748"/>
                </a:lnTo>
                <a:lnTo>
                  <a:pt x="1232" y="749"/>
                </a:lnTo>
                <a:lnTo>
                  <a:pt x="1224" y="752"/>
                </a:lnTo>
                <a:lnTo>
                  <a:pt x="1219" y="755"/>
                </a:lnTo>
                <a:lnTo>
                  <a:pt x="1213" y="760"/>
                </a:lnTo>
                <a:lnTo>
                  <a:pt x="1204" y="768"/>
                </a:lnTo>
                <a:lnTo>
                  <a:pt x="1195" y="778"/>
                </a:lnTo>
                <a:lnTo>
                  <a:pt x="1185" y="786"/>
                </a:lnTo>
                <a:lnTo>
                  <a:pt x="1171" y="789"/>
                </a:lnTo>
                <a:lnTo>
                  <a:pt x="1171" y="789"/>
                </a:lnTo>
                <a:lnTo>
                  <a:pt x="1166" y="787"/>
                </a:lnTo>
                <a:lnTo>
                  <a:pt x="1164" y="784"/>
                </a:lnTo>
                <a:lnTo>
                  <a:pt x="1161" y="781"/>
                </a:lnTo>
                <a:lnTo>
                  <a:pt x="1159" y="776"/>
                </a:lnTo>
                <a:lnTo>
                  <a:pt x="1159" y="771"/>
                </a:lnTo>
                <a:lnTo>
                  <a:pt x="1159" y="760"/>
                </a:lnTo>
                <a:lnTo>
                  <a:pt x="1161" y="741"/>
                </a:lnTo>
                <a:lnTo>
                  <a:pt x="1162" y="738"/>
                </a:lnTo>
                <a:lnTo>
                  <a:pt x="1165" y="736"/>
                </a:lnTo>
                <a:lnTo>
                  <a:pt x="1175" y="734"/>
                </a:lnTo>
                <a:lnTo>
                  <a:pt x="1197" y="729"/>
                </a:lnTo>
                <a:lnTo>
                  <a:pt x="1216" y="722"/>
                </a:lnTo>
                <a:lnTo>
                  <a:pt x="1220" y="719"/>
                </a:lnTo>
                <a:lnTo>
                  <a:pt x="1211" y="718"/>
                </a:lnTo>
                <a:lnTo>
                  <a:pt x="1195" y="715"/>
                </a:lnTo>
                <a:lnTo>
                  <a:pt x="1177" y="716"/>
                </a:lnTo>
                <a:lnTo>
                  <a:pt x="1137" y="721"/>
                </a:lnTo>
                <a:lnTo>
                  <a:pt x="1113" y="722"/>
                </a:lnTo>
                <a:lnTo>
                  <a:pt x="1110" y="718"/>
                </a:lnTo>
                <a:lnTo>
                  <a:pt x="1103" y="705"/>
                </a:lnTo>
                <a:lnTo>
                  <a:pt x="1098" y="694"/>
                </a:lnTo>
                <a:lnTo>
                  <a:pt x="1098" y="693"/>
                </a:lnTo>
                <a:lnTo>
                  <a:pt x="1106" y="687"/>
                </a:lnTo>
                <a:lnTo>
                  <a:pt x="1120" y="677"/>
                </a:lnTo>
                <a:lnTo>
                  <a:pt x="1135" y="671"/>
                </a:lnTo>
                <a:lnTo>
                  <a:pt x="1149" y="667"/>
                </a:lnTo>
                <a:lnTo>
                  <a:pt x="1159" y="658"/>
                </a:lnTo>
                <a:lnTo>
                  <a:pt x="1168" y="642"/>
                </a:lnTo>
                <a:lnTo>
                  <a:pt x="1171" y="631"/>
                </a:lnTo>
                <a:lnTo>
                  <a:pt x="1187" y="631"/>
                </a:lnTo>
                <a:lnTo>
                  <a:pt x="1201" y="632"/>
                </a:lnTo>
                <a:lnTo>
                  <a:pt x="1211" y="636"/>
                </a:lnTo>
                <a:lnTo>
                  <a:pt x="1219" y="642"/>
                </a:lnTo>
                <a:lnTo>
                  <a:pt x="1223" y="650"/>
                </a:lnTo>
                <a:lnTo>
                  <a:pt x="1226" y="657"/>
                </a:lnTo>
                <a:lnTo>
                  <a:pt x="1229" y="664"/>
                </a:lnTo>
                <a:lnTo>
                  <a:pt x="1233" y="680"/>
                </a:lnTo>
                <a:lnTo>
                  <a:pt x="1236" y="687"/>
                </a:lnTo>
                <a:lnTo>
                  <a:pt x="1240" y="693"/>
                </a:lnTo>
                <a:lnTo>
                  <a:pt x="1246" y="697"/>
                </a:lnTo>
                <a:lnTo>
                  <a:pt x="1248" y="697"/>
                </a:lnTo>
                <a:lnTo>
                  <a:pt x="1255" y="689"/>
                </a:lnTo>
                <a:lnTo>
                  <a:pt x="1259" y="680"/>
                </a:lnTo>
                <a:lnTo>
                  <a:pt x="1261" y="671"/>
                </a:lnTo>
                <a:lnTo>
                  <a:pt x="1259" y="663"/>
                </a:lnTo>
                <a:lnTo>
                  <a:pt x="1258" y="654"/>
                </a:lnTo>
                <a:lnTo>
                  <a:pt x="1256" y="639"/>
                </a:lnTo>
                <a:lnTo>
                  <a:pt x="1256" y="634"/>
                </a:lnTo>
                <a:lnTo>
                  <a:pt x="1259" y="628"/>
                </a:lnTo>
                <a:lnTo>
                  <a:pt x="1266" y="623"/>
                </a:lnTo>
                <a:lnTo>
                  <a:pt x="1277" y="619"/>
                </a:lnTo>
                <a:lnTo>
                  <a:pt x="1292" y="616"/>
                </a:lnTo>
                <a:lnTo>
                  <a:pt x="1294" y="616"/>
                </a:lnTo>
                <a:lnTo>
                  <a:pt x="1294" y="616"/>
                </a:lnTo>
                <a:close/>
                <a:moveTo>
                  <a:pt x="868" y="951"/>
                </a:moveTo>
                <a:lnTo>
                  <a:pt x="868" y="945"/>
                </a:lnTo>
                <a:lnTo>
                  <a:pt x="868" y="932"/>
                </a:lnTo>
                <a:lnTo>
                  <a:pt x="865" y="919"/>
                </a:lnTo>
                <a:lnTo>
                  <a:pt x="859" y="907"/>
                </a:lnTo>
                <a:lnTo>
                  <a:pt x="851" y="896"/>
                </a:lnTo>
                <a:lnTo>
                  <a:pt x="839" y="884"/>
                </a:lnTo>
                <a:lnTo>
                  <a:pt x="832" y="878"/>
                </a:lnTo>
                <a:lnTo>
                  <a:pt x="833" y="877"/>
                </a:lnTo>
                <a:lnTo>
                  <a:pt x="848" y="860"/>
                </a:lnTo>
                <a:lnTo>
                  <a:pt x="897" y="802"/>
                </a:lnTo>
                <a:lnTo>
                  <a:pt x="935" y="758"/>
                </a:lnTo>
                <a:lnTo>
                  <a:pt x="937" y="755"/>
                </a:lnTo>
                <a:lnTo>
                  <a:pt x="932" y="751"/>
                </a:lnTo>
                <a:lnTo>
                  <a:pt x="924" y="744"/>
                </a:lnTo>
                <a:lnTo>
                  <a:pt x="920" y="738"/>
                </a:lnTo>
                <a:lnTo>
                  <a:pt x="920" y="735"/>
                </a:lnTo>
                <a:lnTo>
                  <a:pt x="919" y="732"/>
                </a:lnTo>
                <a:lnTo>
                  <a:pt x="920" y="729"/>
                </a:lnTo>
                <a:lnTo>
                  <a:pt x="922" y="726"/>
                </a:lnTo>
                <a:lnTo>
                  <a:pt x="923" y="722"/>
                </a:lnTo>
                <a:lnTo>
                  <a:pt x="929" y="712"/>
                </a:lnTo>
                <a:lnTo>
                  <a:pt x="930" y="712"/>
                </a:lnTo>
                <a:lnTo>
                  <a:pt x="940" y="713"/>
                </a:lnTo>
                <a:lnTo>
                  <a:pt x="974" y="713"/>
                </a:lnTo>
                <a:lnTo>
                  <a:pt x="1000" y="713"/>
                </a:lnTo>
                <a:lnTo>
                  <a:pt x="1001" y="713"/>
                </a:lnTo>
                <a:lnTo>
                  <a:pt x="1006" y="715"/>
                </a:lnTo>
                <a:lnTo>
                  <a:pt x="1010" y="715"/>
                </a:lnTo>
                <a:lnTo>
                  <a:pt x="1014" y="718"/>
                </a:lnTo>
                <a:lnTo>
                  <a:pt x="1016" y="722"/>
                </a:lnTo>
                <a:lnTo>
                  <a:pt x="1017" y="725"/>
                </a:lnTo>
                <a:lnTo>
                  <a:pt x="1022" y="732"/>
                </a:lnTo>
                <a:lnTo>
                  <a:pt x="1029" y="742"/>
                </a:lnTo>
                <a:lnTo>
                  <a:pt x="1035" y="748"/>
                </a:lnTo>
                <a:lnTo>
                  <a:pt x="1042" y="754"/>
                </a:lnTo>
                <a:lnTo>
                  <a:pt x="1049" y="758"/>
                </a:lnTo>
                <a:lnTo>
                  <a:pt x="1068" y="764"/>
                </a:lnTo>
                <a:lnTo>
                  <a:pt x="1085" y="771"/>
                </a:lnTo>
                <a:lnTo>
                  <a:pt x="1100" y="780"/>
                </a:lnTo>
                <a:lnTo>
                  <a:pt x="1106" y="787"/>
                </a:lnTo>
                <a:lnTo>
                  <a:pt x="1110" y="794"/>
                </a:lnTo>
                <a:lnTo>
                  <a:pt x="1111" y="806"/>
                </a:lnTo>
                <a:lnTo>
                  <a:pt x="1111" y="819"/>
                </a:lnTo>
                <a:lnTo>
                  <a:pt x="1111" y="819"/>
                </a:lnTo>
                <a:lnTo>
                  <a:pt x="1085" y="832"/>
                </a:lnTo>
                <a:lnTo>
                  <a:pt x="1050" y="848"/>
                </a:lnTo>
                <a:lnTo>
                  <a:pt x="1016" y="873"/>
                </a:lnTo>
                <a:lnTo>
                  <a:pt x="981" y="925"/>
                </a:lnTo>
                <a:lnTo>
                  <a:pt x="965" y="948"/>
                </a:lnTo>
                <a:lnTo>
                  <a:pt x="949" y="949"/>
                </a:lnTo>
                <a:lnTo>
                  <a:pt x="904" y="951"/>
                </a:lnTo>
                <a:lnTo>
                  <a:pt x="869" y="951"/>
                </a:lnTo>
                <a:lnTo>
                  <a:pt x="868" y="951"/>
                </a:lnTo>
                <a:lnTo>
                  <a:pt x="868" y="951"/>
                </a:lnTo>
                <a:close/>
                <a:moveTo>
                  <a:pt x="1187" y="555"/>
                </a:moveTo>
                <a:lnTo>
                  <a:pt x="1185" y="563"/>
                </a:lnTo>
                <a:lnTo>
                  <a:pt x="1184" y="567"/>
                </a:lnTo>
                <a:lnTo>
                  <a:pt x="1181" y="571"/>
                </a:lnTo>
                <a:lnTo>
                  <a:pt x="1178" y="574"/>
                </a:lnTo>
                <a:lnTo>
                  <a:pt x="1171" y="580"/>
                </a:lnTo>
                <a:lnTo>
                  <a:pt x="1165" y="587"/>
                </a:lnTo>
                <a:lnTo>
                  <a:pt x="1161" y="594"/>
                </a:lnTo>
                <a:lnTo>
                  <a:pt x="1159" y="606"/>
                </a:lnTo>
                <a:lnTo>
                  <a:pt x="1161" y="606"/>
                </a:lnTo>
                <a:lnTo>
                  <a:pt x="1148" y="610"/>
                </a:lnTo>
                <a:lnTo>
                  <a:pt x="1129" y="615"/>
                </a:lnTo>
                <a:lnTo>
                  <a:pt x="1103" y="619"/>
                </a:lnTo>
                <a:lnTo>
                  <a:pt x="1093" y="623"/>
                </a:lnTo>
                <a:lnTo>
                  <a:pt x="1081" y="635"/>
                </a:lnTo>
                <a:lnTo>
                  <a:pt x="1075" y="644"/>
                </a:lnTo>
                <a:lnTo>
                  <a:pt x="1064" y="642"/>
                </a:lnTo>
                <a:lnTo>
                  <a:pt x="1046" y="639"/>
                </a:lnTo>
                <a:lnTo>
                  <a:pt x="1035" y="635"/>
                </a:lnTo>
                <a:lnTo>
                  <a:pt x="1027" y="629"/>
                </a:lnTo>
                <a:lnTo>
                  <a:pt x="1023" y="619"/>
                </a:lnTo>
                <a:lnTo>
                  <a:pt x="1019" y="605"/>
                </a:lnTo>
                <a:lnTo>
                  <a:pt x="1019" y="593"/>
                </a:lnTo>
                <a:lnTo>
                  <a:pt x="1026" y="589"/>
                </a:lnTo>
                <a:lnTo>
                  <a:pt x="1043" y="579"/>
                </a:lnTo>
                <a:lnTo>
                  <a:pt x="1066" y="570"/>
                </a:lnTo>
                <a:lnTo>
                  <a:pt x="1113" y="552"/>
                </a:lnTo>
                <a:lnTo>
                  <a:pt x="1143" y="536"/>
                </a:lnTo>
                <a:lnTo>
                  <a:pt x="1148" y="538"/>
                </a:lnTo>
                <a:lnTo>
                  <a:pt x="1156" y="541"/>
                </a:lnTo>
                <a:lnTo>
                  <a:pt x="1166" y="545"/>
                </a:lnTo>
                <a:lnTo>
                  <a:pt x="1181" y="554"/>
                </a:lnTo>
                <a:lnTo>
                  <a:pt x="1187" y="555"/>
                </a:lnTo>
                <a:lnTo>
                  <a:pt x="1187" y="555"/>
                </a:lnTo>
                <a:close/>
                <a:moveTo>
                  <a:pt x="1305" y="471"/>
                </a:moveTo>
                <a:lnTo>
                  <a:pt x="1301" y="476"/>
                </a:lnTo>
                <a:lnTo>
                  <a:pt x="1294" y="486"/>
                </a:lnTo>
                <a:lnTo>
                  <a:pt x="1279" y="505"/>
                </a:lnTo>
                <a:lnTo>
                  <a:pt x="1271" y="510"/>
                </a:lnTo>
                <a:lnTo>
                  <a:pt x="1259" y="513"/>
                </a:lnTo>
                <a:lnTo>
                  <a:pt x="1253" y="512"/>
                </a:lnTo>
                <a:lnTo>
                  <a:pt x="1248" y="509"/>
                </a:lnTo>
                <a:lnTo>
                  <a:pt x="1246" y="505"/>
                </a:lnTo>
                <a:lnTo>
                  <a:pt x="1245" y="500"/>
                </a:lnTo>
                <a:lnTo>
                  <a:pt x="1242" y="489"/>
                </a:lnTo>
                <a:lnTo>
                  <a:pt x="1242" y="484"/>
                </a:lnTo>
                <a:lnTo>
                  <a:pt x="1243" y="480"/>
                </a:lnTo>
                <a:lnTo>
                  <a:pt x="1246" y="476"/>
                </a:lnTo>
                <a:lnTo>
                  <a:pt x="1250" y="474"/>
                </a:lnTo>
                <a:lnTo>
                  <a:pt x="1255" y="474"/>
                </a:lnTo>
                <a:lnTo>
                  <a:pt x="1262" y="476"/>
                </a:lnTo>
                <a:lnTo>
                  <a:pt x="1263" y="476"/>
                </a:lnTo>
                <a:lnTo>
                  <a:pt x="1266" y="473"/>
                </a:lnTo>
                <a:lnTo>
                  <a:pt x="1274" y="470"/>
                </a:lnTo>
                <a:lnTo>
                  <a:pt x="1279" y="468"/>
                </a:lnTo>
                <a:lnTo>
                  <a:pt x="1287" y="468"/>
                </a:lnTo>
                <a:lnTo>
                  <a:pt x="1294" y="470"/>
                </a:lnTo>
                <a:lnTo>
                  <a:pt x="1301" y="471"/>
                </a:lnTo>
                <a:lnTo>
                  <a:pt x="1305" y="471"/>
                </a:lnTo>
                <a:lnTo>
                  <a:pt x="1305" y="471"/>
                </a:lnTo>
                <a:close/>
                <a:moveTo>
                  <a:pt x="1242" y="570"/>
                </a:moveTo>
                <a:lnTo>
                  <a:pt x="1232" y="563"/>
                </a:lnTo>
                <a:lnTo>
                  <a:pt x="1226" y="557"/>
                </a:lnTo>
                <a:lnTo>
                  <a:pt x="1224" y="551"/>
                </a:lnTo>
                <a:lnTo>
                  <a:pt x="1224" y="548"/>
                </a:lnTo>
                <a:lnTo>
                  <a:pt x="1224" y="545"/>
                </a:lnTo>
                <a:lnTo>
                  <a:pt x="1226" y="544"/>
                </a:lnTo>
                <a:lnTo>
                  <a:pt x="1229" y="541"/>
                </a:lnTo>
                <a:lnTo>
                  <a:pt x="1232" y="539"/>
                </a:lnTo>
                <a:lnTo>
                  <a:pt x="1237" y="536"/>
                </a:lnTo>
                <a:lnTo>
                  <a:pt x="1245" y="534"/>
                </a:lnTo>
                <a:lnTo>
                  <a:pt x="1261" y="529"/>
                </a:lnTo>
                <a:lnTo>
                  <a:pt x="1275" y="529"/>
                </a:lnTo>
                <a:lnTo>
                  <a:pt x="1279" y="528"/>
                </a:lnTo>
                <a:lnTo>
                  <a:pt x="1279" y="534"/>
                </a:lnTo>
                <a:lnTo>
                  <a:pt x="1279" y="538"/>
                </a:lnTo>
                <a:lnTo>
                  <a:pt x="1278" y="544"/>
                </a:lnTo>
                <a:lnTo>
                  <a:pt x="1275" y="548"/>
                </a:lnTo>
                <a:lnTo>
                  <a:pt x="1268" y="557"/>
                </a:lnTo>
                <a:lnTo>
                  <a:pt x="1259" y="564"/>
                </a:lnTo>
                <a:lnTo>
                  <a:pt x="1250" y="568"/>
                </a:lnTo>
                <a:lnTo>
                  <a:pt x="1242" y="570"/>
                </a:lnTo>
                <a:lnTo>
                  <a:pt x="1242" y="570"/>
                </a:lnTo>
                <a:lnTo>
                  <a:pt x="1242" y="570"/>
                </a:lnTo>
                <a:close/>
                <a:moveTo>
                  <a:pt x="1437" y="471"/>
                </a:moveTo>
                <a:lnTo>
                  <a:pt x="1443" y="477"/>
                </a:lnTo>
                <a:lnTo>
                  <a:pt x="1450" y="489"/>
                </a:lnTo>
                <a:lnTo>
                  <a:pt x="1455" y="502"/>
                </a:lnTo>
                <a:lnTo>
                  <a:pt x="1456" y="515"/>
                </a:lnTo>
                <a:lnTo>
                  <a:pt x="1456" y="529"/>
                </a:lnTo>
                <a:lnTo>
                  <a:pt x="1456" y="542"/>
                </a:lnTo>
                <a:lnTo>
                  <a:pt x="1456" y="548"/>
                </a:lnTo>
                <a:lnTo>
                  <a:pt x="1455" y="548"/>
                </a:lnTo>
                <a:lnTo>
                  <a:pt x="1450" y="548"/>
                </a:lnTo>
                <a:lnTo>
                  <a:pt x="1439" y="547"/>
                </a:lnTo>
                <a:lnTo>
                  <a:pt x="1430" y="547"/>
                </a:lnTo>
                <a:lnTo>
                  <a:pt x="1430" y="545"/>
                </a:lnTo>
                <a:lnTo>
                  <a:pt x="1429" y="541"/>
                </a:lnTo>
                <a:lnTo>
                  <a:pt x="1424" y="532"/>
                </a:lnTo>
                <a:lnTo>
                  <a:pt x="1420" y="526"/>
                </a:lnTo>
                <a:lnTo>
                  <a:pt x="1419" y="525"/>
                </a:lnTo>
                <a:lnTo>
                  <a:pt x="1416" y="525"/>
                </a:lnTo>
                <a:lnTo>
                  <a:pt x="1414" y="525"/>
                </a:lnTo>
                <a:lnTo>
                  <a:pt x="1411" y="526"/>
                </a:lnTo>
                <a:lnTo>
                  <a:pt x="1410" y="531"/>
                </a:lnTo>
                <a:lnTo>
                  <a:pt x="1408" y="535"/>
                </a:lnTo>
                <a:lnTo>
                  <a:pt x="1408" y="541"/>
                </a:lnTo>
                <a:lnTo>
                  <a:pt x="1408" y="541"/>
                </a:lnTo>
                <a:lnTo>
                  <a:pt x="1407" y="541"/>
                </a:lnTo>
                <a:lnTo>
                  <a:pt x="1401" y="539"/>
                </a:lnTo>
                <a:lnTo>
                  <a:pt x="1382" y="532"/>
                </a:lnTo>
                <a:lnTo>
                  <a:pt x="1368" y="528"/>
                </a:lnTo>
                <a:lnTo>
                  <a:pt x="1368" y="526"/>
                </a:lnTo>
                <a:lnTo>
                  <a:pt x="1368" y="523"/>
                </a:lnTo>
                <a:lnTo>
                  <a:pt x="1369" y="518"/>
                </a:lnTo>
                <a:lnTo>
                  <a:pt x="1372" y="512"/>
                </a:lnTo>
                <a:lnTo>
                  <a:pt x="1375" y="506"/>
                </a:lnTo>
                <a:lnTo>
                  <a:pt x="1384" y="497"/>
                </a:lnTo>
                <a:lnTo>
                  <a:pt x="1387" y="494"/>
                </a:lnTo>
                <a:lnTo>
                  <a:pt x="1388" y="499"/>
                </a:lnTo>
                <a:lnTo>
                  <a:pt x="1388" y="497"/>
                </a:lnTo>
                <a:lnTo>
                  <a:pt x="1388" y="493"/>
                </a:lnTo>
                <a:lnTo>
                  <a:pt x="1385" y="476"/>
                </a:lnTo>
                <a:lnTo>
                  <a:pt x="1382" y="457"/>
                </a:lnTo>
                <a:lnTo>
                  <a:pt x="1381" y="448"/>
                </a:lnTo>
                <a:lnTo>
                  <a:pt x="1382" y="442"/>
                </a:lnTo>
                <a:lnTo>
                  <a:pt x="1385" y="438"/>
                </a:lnTo>
                <a:lnTo>
                  <a:pt x="1390" y="439"/>
                </a:lnTo>
                <a:lnTo>
                  <a:pt x="1395" y="444"/>
                </a:lnTo>
                <a:lnTo>
                  <a:pt x="1397" y="444"/>
                </a:lnTo>
                <a:lnTo>
                  <a:pt x="1401" y="445"/>
                </a:lnTo>
                <a:lnTo>
                  <a:pt x="1405" y="447"/>
                </a:lnTo>
                <a:lnTo>
                  <a:pt x="1408" y="448"/>
                </a:lnTo>
                <a:lnTo>
                  <a:pt x="1410" y="451"/>
                </a:lnTo>
                <a:lnTo>
                  <a:pt x="1411" y="455"/>
                </a:lnTo>
                <a:lnTo>
                  <a:pt x="1414" y="461"/>
                </a:lnTo>
                <a:lnTo>
                  <a:pt x="1419" y="468"/>
                </a:lnTo>
                <a:lnTo>
                  <a:pt x="1429" y="471"/>
                </a:lnTo>
                <a:lnTo>
                  <a:pt x="1437" y="471"/>
                </a:lnTo>
                <a:lnTo>
                  <a:pt x="1437" y="471"/>
                </a:lnTo>
                <a:close/>
                <a:moveTo>
                  <a:pt x="1529" y="509"/>
                </a:moveTo>
                <a:lnTo>
                  <a:pt x="1526" y="516"/>
                </a:lnTo>
                <a:lnTo>
                  <a:pt x="1520" y="534"/>
                </a:lnTo>
                <a:lnTo>
                  <a:pt x="1516" y="548"/>
                </a:lnTo>
                <a:lnTo>
                  <a:pt x="1516" y="548"/>
                </a:lnTo>
                <a:lnTo>
                  <a:pt x="1511" y="548"/>
                </a:lnTo>
                <a:lnTo>
                  <a:pt x="1504" y="545"/>
                </a:lnTo>
                <a:lnTo>
                  <a:pt x="1492" y="538"/>
                </a:lnTo>
                <a:lnTo>
                  <a:pt x="1482" y="529"/>
                </a:lnTo>
                <a:lnTo>
                  <a:pt x="1481" y="526"/>
                </a:lnTo>
                <a:lnTo>
                  <a:pt x="1479" y="519"/>
                </a:lnTo>
                <a:lnTo>
                  <a:pt x="1479" y="506"/>
                </a:lnTo>
                <a:lnTo>
                  <a:pt x="1481" y="499"/>
                </a:lnTo>
                <a:lnTo>
                  <a:pt x="1482" y="492"/>
                </a:lnTo>
                <a:lnTo>
                  <a:pt x="1485" y="487"/>
                </a:lnTo>
                <a:lnTo>
                  <a:pt x="1492" y="480"/>
                </a:lnTo>
                <a:lnTo>
                  <a:pt x="1497" y="474"/>
                </a:lnTo>
                <a:lnTo>
                  <a:pt x="1500" y="477"/>
                </a:lnTo>
                <a:lnTo>
                  <a:pt x="1505" y="483"/>
                </a:lnTo>
                <a:lnTo>
                  <a:pt x="1511" y="489"/>
                </a:lnTo>
                <a:lnTo>
                  <a:pt x="1520" y="502"/>
                </a:lnTo>
                <a:lnTo>
                  <a:pt x="1529" y="509"/>
                </a:lnTo>
                <a:lnTo>
                  <a:pt x="1529" y="509"/>
                </a:lnTo>
                <a:close/>
                <a:moveTo>
                  <a:pt x="1607" y="668"/>
                </a:moveTo>
                <a:lnTo>
                  <a:pt x="1616" y="673"/>
                </a:lnTo>
                <a:lnTo>
                  <a:pt x="1634" y="680"/>
                </a:lnTo>
                <a:lnTo>
                  <a:pt x="1672" y="689"/>
                </a:lnTo>
                <a:lnTo>
                  <a:pt x="1713" y="692"/>
                </a:lnTo>
                <a:lnTo>
                  <a:pt x="1724" y="692"/>
                </a:lnTo>
                <a:lnTo>
                  <a:pt x="1727" y="696"/>
                </a:lnTo>
                <a:lnTo>
                  <a:pt x="1731" y="696"/>
                </a:lnTo>
                <a:lnTo>
                  <a:pt x="1737" y="694"/>
                </a:lnTo>
                <a:lnTo>
                  <a:pt x="1742" y="692"/>
                </a:lnTo>
                <a:lnTo>
                  <a:pt x="1746" y="687"/>
                </a:lnTo>
                <a:lnTo>
                  <a:pt x="1756" y="674"/>
                </a:lnTo>
                <a:lnTo>
                  <a:pt x="1771" y="652"/>
                </a:lnTo>
                <a:lnTo>
                  <a:pt x="1773" y="650"/>
                </a:lnTo>
                <a:lnTo>
                  <a:pt x="1782" y="650"/>
                </a:lnTo>
                <a:lnTo>
                  <a:pt x="1811" y="650"/>
                </a:lnTo>
                <a:lnTo>
                  <a:pt x="1834" y="650"/>
                </a:lnTo>
                <a:lnTo>
                  <a:pt x="1836" y="650"/>
                </a:lnTo>
                <a:lnTo>
                  <a:pt x="1839" y="657"/>
                </a:lnTo>
                <a:lnTo>
                  <a:pt x="1843" y="670"/>
                </a:lnTo>
                <a:lnTo>
                  <a:pt x="1847" y="693"/>
                </a:lnTo>
                <a:lnTo>
                  <a:pt x="1840" y="719"/>
                </a:lnTo>
                <a:lnTo>
                  <a:pt x="1836" y="726"/>
                </a:lnTo>
                <a:lnTo>
                  <a:pt x="1830" y="726"/>
                </a:lnTo>
                <a:lnTo>
                  <a:pt x="1821" y="726"/>
                </a:lnTo>
                <a:lnTo>
                  <a:pt x="1801" y="725"/>
                </a:lnTo>
                <a:lnTo>
                  <a:pt x="1782" y="725"/>
                </a:lnTo>
                <a:lnTo>
                  <a:pt x="1778" y="723"/>
                </a:lnTo>
                <a:lnTo>
                  <a:pt x="1772" y="732"/>
                </a:lnTo>
                <a:lnTo>
                  <a:pt x="1759" y="747"/>
                </a:lnTo>
                <a:lnTo>
                  <a:pt x="1742" y="758"/>
                </a:lnTo>
                <a:lnTo>
                  <a:pt x="1720" y="764"/>
                </a:lnTo>
                <a:lnTo>
                  <a:pt x="1698" y="767"/>
                </a:lnTo>
                <a:lnTo>
                  <a:pt x="1676" y="763"/>
                </a:lnTo>
                <a:lnTo>
                  <a:pt x="1666" y="758"/>
                </a:lnTo>
                <a:lnTo>
                  <a:pt x="1658" y="755"/>
                </a:lnTo>
                <a:lnTo>
                  <a:pt x="1646" y="748"/>
                </a:lnTo>
                <a:lnTo>
                  <a:pt x="1637" y="745"/>
                </a:lnTo>
                <a:lnTo>
                  <a:pt x="1634" y="745"/>
                </a:lnTo>
                <a:lnTo>
                  <a:pt x="1633" y="747"/>
                </a:lnTo>
                <a:lnTo>
                  <a:pt x="1630" y="749"/>
                </a:lnTo>
                <a:lnTo>
                  <a:pt x="1629" y="752"/>
                </a:lnTo>
                <a:lnTo>
                  <a:pt x="1627" y="758"/>
                </a:lnTo>
                <a:lnTo>
                  <a:pt x="1621" y="773"/>
                </a:lnTo>
                <a:lnTo>
                  <a:pt x="1621" y="773"/>
                </a:lnTo>
                <a:lnTo>
                  <a:pt x="1616" y="773"/>
                </a:lnTo>
                <a:lnTo>
                  <a:pt x="1604" y="773"/>
                </a:lnTo>
                <a:lnTo>
                  <a:pt x="1584" y="768"/>
                </a:lnTo>
                <a:lnTo>
                  <a:pt x="1560" y="761"/>
                </a:lnTo>
                <a:lnTo>
                  <a:pt x="1553" y="758"/>
                </a:lnTo>
                <a:lnTo>
                  <a:pt x="1546" y="757"/>
                </a:lnTo>
                <a:lnTo>
                  <a:pt x="1540" y="752"/>
                </a:lnTo>
                <a:lnTo>
                  <a:pt x="1536" y="745"/>
                </a:lnTo>
                <a:lnTo>
                  <a:pt x="1533" y="736"/>
                </a:lnTo>
                <a:lnTo>
                  <a:pt x="1527" y="716"/>
                </a:lnTo>
                <a:lnTo>
                  <a:pt x="1523" y="677"/>
                </a:lnTo>
                <a:lnTo>
                  <a:pt x="1523" y="667"/>
                </a:lnTo>
                <a:lnTo>
                  <a:pt x="1518" y="664"/>
                </a:lnTo>
                <a:lnTo>
                  <a:pt x="1505" y="651"/>
                </a:lnTo>
                <a:lnTo>
                  <a:pt x="1497" y="642"/>
                </a:lnTo>
                <a:lnTo>
                  <a:pt x="1497" y="641"/>
                </a:lnTo>
                <a:lnTo>
                  <a:pt x="1500" y="634"/>
                </a:lnTo>
                <a:lnTo>
                  <a:pt x="1505" y="619"/>
                </a:lnTo>
                <a:lnTo>
                  <a:pt x="1520" y="599"/>
                </a:lnTo>
                <a:lnTo>
                  <a:pt x="1529" y="593"/>
                </a:lnTo>
                <a:lnTo>
                  <a:pt x="1542" y="589"/>
                </a:lnTo>
                <a:lnTo>
                  <a:pt x="1550" y="587"/>
                </a:lnTo>
                <a:lnTo>
                  <a:pt x="1552" y="592"/>
                </a:lnTo>
                <a:lnTo>
                  <a:pt x="1553" y="594"/>
                </a:lnTo>
                <a:lnTo>
                  <a:pt x="1555" y="597"/>
                </a:lnTo>
                <a:lnTo>
                  <a:pt x="1556" y="600"/>
                </a:lnTo>
                <a:lnTo>
                  <a:pt x="1555" y="607"/>
                </a:lnTo>
                <a:lnTo>
                  <a:pt x="1555" y="616"/>
                </a:lnTo>
                <a:lnTo>
                  <a:pt x="1552" y="631"/>
                </a:lnTo>
                <a:lnTo>
                  <a:pt x="1553" y="631"/>
                </a:lnTo>
                <a:lnTo>
                  <a:pt x="1559" y="632"/>
                </a:lnTo>
                <a:lnTo>
                  <a:pt x="1568" y="631"/>
                </a:lnTo>
                <a:lnTo>
                  <a:pt x="1574" y="629"/>
                </a:lnTo>
                <a:lnTo>
                  <a:pt x="1578" y="626"/>
                </a:lnTo>
                <a:lnTo>
                  <a:pt x="1582" y="621"/>
                </a:lnTo>
                <a:lnTo>
                  <a:pt x="1591" y="610"/>
                </a:lnTo>
                <a:lnTo>
                  <a:pt x="1598" y="603"/>
                </a:lnTo>
                <a:lnTo>
                  <a:pt x="1601" y="607"/>
                </a:lnTo>
                <a:lnTo>
                  <a:pt x="1603" y="613"/>
                </a:lnTo>
                <a:lnTo>
                  <a:pt x="1605" y="623"/>
                </a:lnTo>
                <a:lnTo>
                  <a:pt x="1607" y="635"/>
                </a:lnTo>
                <a:lnTo>
                  <a:pt x="1607" y="658"/>
                </a:lnTo>
                <a:lnTo>
                  <a:pt x="1607" y="668"/>
                </a:lnTo>
                <a:lnTo>
                  <a:pt x="1607" y="668"/>
                </a:lnTo>
                <a:close/>
                <a:moveTo>
                  <a:pt x="1658" y="429"/>
                </a:moveTo>
                <a:lnTo>
                  <a:pt x="1656" y="432"/>
                </a:lnTo>
                <a:lnTo>
                  <a:pt x="1647" y="444"/>
                </a:lnTo>
                <a:lnTo>
                  <a:pt x="1618" y="483"/>
                </a:lnTo>
                <a:lnTo>
                  <a:pt x="1595" y="513"/>
                </a:lnTo>
                <a:lnTo>
                  <a:pt x="1595" y="515"/>
                </a:lnTo>
                <a:lnTo>
                  <a:pt x="1587" y="515"/>
                </a:lnTo>
                <a:lnTo>
                  <a:pt x="1572" y="510"/>
                </a:lnTo>
                <a:lnTo>
                  <a:pt x="1562" y="503"/>
                </a:lnTo>
                <a:lnTo>
                  <a:pt x="1555" y="493"/>
                </a:lnTo>
                <a:lnTo>
                  <a:pt x="1550" y="481"/>
                </a:lnTo>
                <a:lnTo>
                  <a:pt x="1545" y="468"/>
                </a:lnTo>
                <a:lnTo>
                  <a:pt x="1543" y="461"/>
                </a:lnTo>
                <a:lnTo>
                  <a:pt x="1545" y="460"/>
                </a:lnTo>
                <a:lnTo>
                  <a:pt x="1552" y="451"/>
                </a:lnTo>
                <a:lnTo>
                  <a:pt x="1558" y="445"/>
                </a:lnTo>
                <a:lnTo>
                  <a:pt x="1559" y="444"/>
                </a:lnTo>
                <a:lnTo>
                  <a:pt x="1547" y="435"/>
                </a:lnTo>
                <a:lnTo>
                  <a:pt x="1533" y="426"/>
                </a:lnTo>
                <a:lnTo>
                  <a:pt x="1523" y="426"/>
                </a:lnTo>
                <a:lnTo>
                  <a:pt x="1520" y="426"/>
                </a:lnTo>
                <a:lnTo>
                  <a:pt x="1518" y="426"/>
                </a:lnTo>
                <a:lnTo>
                  <a:pt x="1514" y="422"/>
                </a:lnTo>
                <a:lnTo>
                  <a:pt x="1511" y="415"/>
                </a:lnTo>
                <a:lnTo>
                  <a:pt x="1507" y="386"/>
                </a:lnTo>
                <a:lnTo>
                  <a:pt x="1507" y="386"/>
                </a:lnTo>
                <a:lnTo>
                  <a:pt x="1503" y="371"/>
                </a:lnTo>
                <a:lnTo>
                  <a:pt x="1500" y="347"/>
                </a:lnTo>
                <a:lnTo>
                  <a:pt x="1503" y="328"/>
                </a:lnTo>
                <a:lnTo>
                  <a:pt x="1508" y="315"/>
                </a:lnTo>
                <a:lnTo>
                  <a:pt x="1516" y="305"/>
                </a:lnTo>
                <a:lnTo>
                  <a:pt x="1521" y="295"/>
                </a:lnTo>
                <a:lnTo>
                  <a:pt x="1523" y="289"/>
                </a:lnTo>
                <a:lnTo>
                  <a:pt x="1527" y="290"/>
                </a:lnTo>
                <a:lnTo>
                  <a:pt x="1533" y="296"/>
                </a:lnTo>
                <a:lnTo>
                  <a:pt x="1546" y="312"/>
                </a:lnTo>
                <a:lnTo>
                  <a:pt x="1578" y="345"/>
                </a:lnTo>
                <a:lnTo>
                  <a:pt x="1592" y="352"/>
                </a:lnTo>
                <a:lnTo>
                  <a:pt x="1603" y="366"/>
                </a:lnTo>
                <a:lnTo>
                  <a:pt x="1633" y="402"/>
                </a:lnTo>
                <a:lnTo>
                  <a:pt x="1656" y="428"/>
                </a:lnTo>
                <a:lnTo>
                  <a:pt x="1658" y="429"/>
                </a:lnTo>
                <a:lnTo>
                  <a:pt x="1658" y="429"/>
                </a:lnTo>
                <a:close/>
                <a:moveTo>
                  <a:pt x="1689" y="345"/>
                </a:moveTo>
                <a:lnTo>
                  <a:pt x="1685" y="342"/>
                </a:lnTo>
                <a:lnTo>
                  <a:pt x="1684" y="339"/>
                </a:lnTo>
                <a:lnTo>
                  <a:pt x="1682" y="337"/>
                </a:lnTo>
                <a:lnTo>
                  <a:pt x="1682" y="334"/>
                </a:lnTo>
                <a:lnTo>
                  <a:pt x="1684" y="331"/>
                </a:lnTo>
                <a:lnTo>
                  <a:pt x="1685" y="328"/>
                </a:lnTo>
                <a:lnTo>
                  <a:pt x="1687" y="325"/>
                </a:lnTo>
                <a:lnTo>
                  <a:pt x="1692" y="318"/>
                </a:lnTo>
                <a:lnTo>
                  <a:pt x="1700" y="309"/>
                </a:lnTo>
                <a:lnTo>
                  <a:pt x="1704" y="303"/>
                </a:lnTo>
                <a:lnTo>
                  <a:pt x="1710" y="296"/>
                </a:lnTo>
                <a:lnTo>
                  <a:pt x="1711" y="292"/>
                </a:lnTo>
                <a:lnTo>
                  <a:pt x="1711" y="290"/>
                </a:lnTo>
                <a:lnTo>
                  <a:pt x="1707" y="290"/>
                </a:lnTo>
                <a:lnTo>
                  <a:pt x="1705" y="290"/>
                </a:lnTo>
                <a:lnTo>
                  <a:pt x="1698" y="293"/>
                </a:lnTo>
                <a:lnTo>
                  <a:pt x="1682" y="302"/>
                </a:lnTo>
                <a:lnTo>
                  <a:pt x="1665" y="310"/>
                </a:lnTo>
                <a:lnTo>
                  <a:pt x="1650" y="316"/>
                </a:lnTo>
                <a:lnTo>
                  <a:pt x="1647" y="315"/>
                </a:lnTo>
                <a:lnTo>
                  <a:pt x="1636" y="313"/>
                </a:lnTo>
                <a:lnTo>
                  <a:pt x="1614" y="309"/>
                </a:lnTo>
                <a:lnTo>
                  <a:pt x="1576" y="295"/>
                </a:lnTo>
                <a:lnTo>
                  <a:pt x="1565" y="287"/>
                </a:lnTo>
                <a:lnTo>
                  <a:pt x="1560" y="284"/>
                </a:lnTo>
                <a:lnTo>
                  <a:pt x="1559" y="281"/>
                </a:lnTo>
                <a:lnTo>
                  <a:pt x="1559" y="279"/>
                </a:lnTo>
                <a:lnTo>
                  <a:pt x="1563" y="268"/>
                </a:lnTo>
                <a:lnTo>
                  <a:pt x="1569" y="248"/>
                </a:lnTo>
                <a:lnTo>
                  <a:pt x="1572" y="231"/>
                </a:lnTo>
                <a:lnTo>
                  <a:pt x="1575" y="215"/>
                </a:lnTo>
                <a:lnTo>
                  <a:pt x="1585" y="200"/>
                </a:lnTo>
                <a:lnTo>
                  <a:pt x="1605" y="190"/>
                </a:lnTo>
                <a:lnTo>
                  <a:pt x="1623" y="184"/>
                </a:lnTo>
                <a:lnTo>
                  <a:pt x="1630" y="181"/>
                </a:lnTo>
                <a:lnTo>
                  <a:pt x="1637" y="177"/>
                </a:lnTo>
                <a:lnTo>
                  <a:pt x="1656" y="161"/>
                </a:lnTo>
                <a:lnTo>
                  <a:pt x="1698" y="124"/>
                </a:lnTo>
                <a:lnTo>
                  <a:pt x="1733" y="93"/>
                </a:lnTo>
                <a:lnTo>
                  <a:pt x="1737" y="96"/>
                </a:lnTo>
                <a:lnTo>
                  <a:pt x="1755" y="105"/>
                </a:lnTo>
                <a:lnTo>
                  <a:pt x="1768" y="110"/>
                </a:lnTo>
                <a:lnTo>
                  <a:pt x="1769" y="110"/>
                </a:lnTo>
                <a:lnTo>
                  <a:pt x="1773" y="109"/>
                </a:lnTo>
                <a:lnTo>
                  <a:pt x="1784" y="106"/>
                </a:lnTo>
                <a:lnTo>
                  <a:pt x="1805" y="103"/>
                </a:lnTo>
                <a:lnTo>
                  <a:pt x="1827" y="103"/>
                </a:lnTo>
                <a:lnTo>
                  <a:pt x="1833" y="102"/>
                </a:lnTo>
                <a:lnTo>
                  <a:pt x="1833" y="110"/>
                </a:lnTo>
                <a:lnTo>
                  <a:pt x="1833" y="129"/>
                </a:lnTo>
                <a:lnTo>
                  <a:pt x="1830" y="171"/>
                </a:lnTo>
                <a:lnTo>
                  <a:pt x="1823" y="190"/>
                </a:lnTo>
                <a:lnTo>
                  <a:pt x="1811" y="203"/>
                </a:lnTo>
                <a:lnTo>
                  <a:pt x="1804" y="208"/>
                </a:lnTo>
                <a:lnTo>
                  <a:pt x="1811" y="212"/>
                </a:lnTo>
                <a:lnTo>
                  <a:pt x="1834" y="225"/>
                </a:lnTo>
                <a:lnTo>
                  <a:pt x="1852" y="235"/>
                </a:lnTo>
                <a:lnTo>
                  <a:pt x="1853" y="235"/>
                </a:lnTo>
                <a:lnTo>
                  <a:pt x="1850" y="248"/>
                </a:lnTo>
                <a:lnTo>
                  <a:pt x="1844" y="274"/>
                </a:lnTo>
                <a:lnTo>
                  <a:pt x="1830" y="331"/>
                </a:lnTo>
                <a:lnTo>
                  <a:pt x="1814" y="373"/>
                </a:lnTo>
                <a:lnTo>
                  <a:pt x="1810" y="377"/>
                </a:lnTo>
                <a:lnTo>
                  <a:pt x="1811" y="390"/>
                </a:lnTo>
                <a:lnTo>
                  <a:pt x="1815" y="415"/>
                </a:lnTo>
                <a:lnTo>
                  <a:pt x="1815" y="470"/>
                </a:lnTo>
                <a:lnTo>
                  <a:pt x="1802" y="523"/>
                </a:lnTo>
                <a:lnTo>
                  <a:pt x="1797" y="535"/>
                </a:lnTo>
                <a:lnTo>
                  <a:pt x="1804" y="539"/>
                </a:lnTo>
                <a:lnTo>
                  <a:pt x="1830" y="552"/>
                </a:lnTo>
                <a:lnTo>
                  <a:pt x="1850" y="561"/>
                </a:lnTo>
                <a:lnTo>
                  <a:pt x="1852" y="561"/>
                </a:lnTo>
                <a:lnTo>
                  <a:pt x="1850" y="567"/>
                </a:lnTo>
                <a:lnTo>
                  <a:pt x="1849" y="576"/>
                </a:lnTo>
                <a:lnTo>
                  <a:pt x="1843" y="592"/>
                </a:lnTo>
                <a:lnTo>
                  <a:pt x="1834" y="606"/>
                </a:lnTo>
                <a:lnTo>
                  <a:pt x="1833" y="607"/>
                </a:lnTo>
                <a:lnTo>
                  <a:pt x="1827" y="607"/>
                </a:lnTo>
                <a:lnTo>
                  <a:pt x="1818" y="606"/>
                </a:lnTo>
                <a:lnTo>
                  <a:pt x="1802" y="602"/>
                </a:lnTo>
                <a:lnTo>
                  <a:pt x="1789" y="599"/>
                </a:lnTo>
                <a:lnTo>
                  <a:pt x="1788" y="597"/>
                </a:lnTo>
                <a:lnTo>
                  <a:pt x="1778" y="603"/>
                </a:lnTo>
                <a:lnTo>
                  <a:pt x="1758" y="612"/>
                </a:lnTo>
                <a:lnTo>
                  <a:pt x="1710" y="625"/>
                </a:lnTo>
                <a:lnTo>
                  <a:pt x="1662" y="623"/>
                </a:lnTo>
                <a:lnTo>
                  <a:pt x="1650" y="619"/>
                </a:lnTo>
                <a:lnTo>
                  <a:pt x="1650" y="609"/>
                </a:lnTo>
                <a:lnTo>
                  <a:pt x="1655" y="577"/>
                </a:lnTo>
                <a:lnTo>
                  <a:pt x="1656" y="552"/>
                </a:lnTo>
                <a:lnTo>
                  <a:pt x="1658" y="551"/>
                </a:lnTo>
                <a:lnTo>
                  <a:pt x="1662" y="550"/>
                </a:lnTo>
                <a:lnTo>
                  <a:pt x="1673" y="545"/>
                </a:lnTo>
                <a:lnTo>
                  <a:pt x="1700" y="539"/>
                </a:lnTo>
                <a:lnTo>
                  <a:pt x="1724" y="536"/>
                </a:lnTo>
                <a:lnTo>
                  <a:pt x="1730" y="535"/>
                </a:lnTo>
                <a:lnTo>
                  <a:pt x="1724" y="534"/>
                </a:lnTo>
                <a:lnTo>
                  <a:pt x="1711" y="529"/>
                </a:lnTo>
                <a:lnTo>
                  <a:pt x="1673" y="515"/>
                </a:lnTo>
                <a:lnTo>
                  <a:pt x="1658" y="506"/>
                </a:lnTo>
                <a:lnTo>
                  <a:pt x="1647" y="499"/>
                </a:lnTo>
                <a:lnTo>
                  <a:pt x="1647" y="494"/>
                </a:lnTo>
                <a:lnTo>
                  <a:pt x="1649" y="493"/>
                </a:lnTo>
                <a:lnTo>
                  <a:pt x="1653" y="490"/>
                </a:lnTo>
                <a:lnTo>
                  <a:pt x="1660" y="484"/>
                </a:lnTo>
                <a:lnTo>
                  <a:pt x="1679" y="458"/>
                </a:lnTo>
                <a:lnTo>
                  <a:pt x="1688" y="425"/>
                </a:lnTo>
                <a:lnTo>
                  <a:pt x="1687" y="413"/>
                </a:lnTo>
                <a:lnTo>
                  <a:pt x="1684" y="405"/>
                </a:lnTo>
                <a:lnTo>
                  <a:pt x="1681" y="399"/>
                </a:lnTo>
                <a:lnTo>
                  <a:pt x="1676" y="393"/>
                </a:lnTo>
                <a:lnTo>
                  <a:pt x="1671" y="390"/>
                </a:lnTo>
                <a:lnTo>
                  <a:pt x="1665" y="387"/>
                </a:lnTo>
                <a:lnTo>
                  <a:pt x="1655" y="383"/>
                </a:lnTo>
                <a:lnTo>
                  <a:pt x="1650" y="381"/>
                </a:lnTo>
                <a:lnTo>
                  <a:pt x="1647" y="377"/>
                </a:lnTo>
                <a:lnTo>
                  <a:pt x="1647" y="371"/>
                </a:lnTo>
                <a:lnTo>
                  <a:pt x="1647" y="364"/>
                </a:lnTo>
                <a:lnTo>
                  <a:pt x="1649" y="364"/>
                </a:lnTo>
                <a:lnTo>
                  <a:pt x="1652" y="358"/>
                </a:lnTo>
                <a:lnTo>
                  <a:pt x="1659" y="355"/>
                </a:lnTo>
                <a:lnTo>
                  <a:pt x="1668" y="355"/>
                </a:lnTo>
                <a:lnTo>
                  <a:pt x="1676" y="357"/>
                </a:lnTo>
                <a:lnTo>
                  <a:pt x="1688" y="361"/>
                </a:lnTo>
                <a:lnTo>
                  <a:pt x="1708" y="373"/>
                </a:lnTo>
                <a:lnTo>
                  <a:pt x="1736" y="389"/>
                </a:lnTo>
                <a:lnTo>
                  <a:pt x="1737" y="387"/>
                </a:lnTo>
                <a:lnTo>
                  <a:pt x="1733" y="384"/>
                </a:lnTo>
                <a:lnTo>
                  <a:pt x="1730" y="381"/>
                </a:lnTo>
                <a:lnTo>
                  <a:pt x="1721" y="374"/>
                </a:lnTo>
                <a:lnTo>
                  <a:pt x="1701" y="358"/>
                </a:lnTo>
                <a:lnTo>
                  <a:pt x="1689" y="345"/>
                </a:lnTo>
                <a:lnTo>
                  <a:pt x="1689" y="345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18200" y="3476520"/>
            <a:ext cx="157320" cy="84240"/>
          </a:xfrm>
          <a:custGeom>
            <a:avLst/>
            <a:gdLst/>
            <a:ahLst/>
            <a:rect l="l" t="t" r="r" b="b"/>
            <a:pathLst>
              <a:path w="458" h="256">
                <a:moveTo>
                  <a:pt x="219" y="174"/>
                </a:moveTo>
                <a:lnTo>
                  <a:pt x="216" y="176"/>
                </a:lnTo>
                <a:lnTo>
                  <a:pt x="214" y="181"/>
                </a:lnTo>
                <a:lnTo>
                  <a:pt x="214" y="184"/>
                </a:lnTo>
                <a:lnTo>
                  <a:pt x="214" y="188"/>
                </a:lnTo>
                <a:lnTo>
                  <a:pt x="213" y="191"/>
                </a:lnTo>
                <a:lnTo>
                  <a:pt x="208" y="195"/>
                </a:lnTo>
                <a:lnTo>
                  <a:pt x="207" y="197"/>
                </a:lnTo>
                <a:lnTo>
                  <a:pt x="200" y="204"/>
                </a:lnTo>
                <a:lnTo>
                  <a:pt x="185" y="214"/>
                </a:lnTo>
                <a:lnTo>
                  <a:pt x="158" y="232"/>
                </a:lnTo>
                <a:lnTo>
                  <a:pt x="129" y="250"/>
                </a:lnTo>
                <a:lnTo>
                  <a:pt x="122" y="256"/>
                </a:lnTo>
                <a:lnTo>
                  <a:pt x="117" y="249"/>
                </a:lnTo>
                <a:lnTo>
                  <a:pt x="116" y="243"/>
                </a:lnTo>
                <a:lnTo>
                  <a:pt x="114" y="229"/>
                </a:lnTo>
                <a:lnTo>
                  <a:pt x="111" y="198"/>
                </a:lnTo>
                <a:lnTo>
                  <a:pt x="111" y="182"/>
                </a:lnTo>
                <a:lnTo>
                  <a:pt x="106" y="181"/>
                </a:lnTo>
                <a:lnTo>
                  <a:pt x="95" y="181"/>
                </a:lnTo>
                <a:lnTo>
                  <a:pt x="85" y="181"/>
                </a:lnTo>
                <a:lnTo>
                  <a:pt x="65" y="181"/>
                </a:lnTo>
                <a:lnTo>
                  <a:pt x="52" y="178"/>
                </a:lnTo>
                <a:lnTo>
                  <a:pt x="43" y="172"/>
                </a:lnTo>
                <a:lnTo>
                  <a:pt x="19" y="155"/>
                </a:lnTo>
                <a:lnTo>
                  <a:pt x="0" y="143"/>
                </a:lnTo>
                <a:lnTo>
                  <a:pt x="0" y="142"/>
                </a:lnTo>
                <a:lnTo>
                  <a:pt x="1" y="133"/>
                </a:lnTo>
                <a:lnTo>
                  <a:pt x="10" y="116"/>
                </a:lnTo>
                <a:lnTo>
                  <a:pt x="35" y="81"/>
                </a:lnTo>
                <a:lnTo>
                  <a:pt x="62" y="52"/>
                </a:lnTo>
                <a:lnTo>
                  <a:pt x="69" y="46"/>
                </a:lnTo>
                <a:lnTo>
                  <a:pt x="95" y="45"/>
                </a:lnTo>
                <a:lnTo>
                  <a:pt x="159" y="32"/>
                </a:lnTo>
                <a:lnTo>
                  <a:pt x="300" y="3"/>
                </a:lnTo>
                <a:lnTo>
                  <a:pt x="366" y="0"/>
                </a:lnTo>
                <a:lnTo>
                  <a:pt x="423" y="17"/>
                </a:lnTo>
                <a:lnTo>
                  <a:pt x="446" y="33"/>
                </a:lnTo>
                <a:lnTo>
                  <a:pt x="448" y="37"/>
                </a:lnTo>
                <a:lnTo>
                  <a:pt x="450" y="43"/>
                </a:lnTo>
                <a:lnTo>
                  <a:pt x="456" y="56"/>
                </a:lnTo>
                <a:lnTo>
                  <a:pt x="458" y="74"/>
                </a:lnTo>
                <a:lnTo>
                  <a:pt x="458" y="79"/>
                </a:lnTo>
                <a:lnTo>
                  <a:pt x="452" y="81"/>
                </a:lnTo>
                <a:lnTo>
                  <a:pt x="448" y="82"/>
                </a:lnTo>
                <a:lnTo>
                  <a:pt x="432" y="88"/>
                </a:lnTo>
                <a:lnTo>
                  <a:pt x="387" y="101"/>
                </a:lnTo>
                <a:lnTo>
                  <a:pt x="277" y="140"/>
                </a:lnTo>
                <a:lnTo>
                  <a:pt x="219" y="174"/>
                </a:lnTo>
                <a:lnTo>
                  <a:pt x="219" y="174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345440" y="1789200"/>
            <a:ext cx="95040" cy="109440"/>
          </a:xfrm>
          <a:custGeom>
            <a:avLst/>
            <a:gdLst/>
            <a:ahLst/>
            <a:rect l="l" t="t" r="r" b="b"/>
            <a:pathLst>
              <a:path w="273" h="334">
                <a:moveTo>
                  <a:pt x="71" y="10"/>
                </a:moveTo>
                <a:lnTo>
                  <a:pt x="73" y="12"/>
                </a:lnTo>
                <a:lnTo>
                  <a:pt x="81" y="16"/>
                </a:lnTo>
                <a:lnTo>
                  <a:pt x="87" y="19"/>
                </a:lnTo>
                <a:lnTo>
                  <a:pt x="89" y="19"/>
                </a:lnTo>
                <a:lnTo>
                  <a:pt x="93" y="19"/>
                </a:lnTo>
                <a:lnTo>
                  <a:pt x="97" y="18"/>
                </a:lnTo>
                <a:lnTo>
                  <a:pt x="108" y="13"/>
                </a:lnTo>
                <a:lnTo>
                  <a:pt x="131" y="2"/>
                </a:lnTo>
                <a:lnTo>
                  <a:pt x="163" y="0"/>
                </a:lnTo>
                <a:lnTo>
                  <a:pt x="168" y="5"/>
                </a:lnTo>
                <a:lnTo>
                  <a:pt x="176" y="9"/>
                </a:lnTo>
                <a:lnTo>
                  <a:pt x="189" y="24"/>
                </a:lnTo>
                <a:lnTo>
                  <a:pt x="202" y="41"/>
                </a:lnTo>
                <a:lnTo>
                  <a:pt x="228" y="74"/>
                </a:lnTo>
                <a:lnTo>
                  <a:pt x="242" y="86"/>
                </a:lnTo>
                <a:lnTo>
                  <a:pt x="241" y="87"/>
                </a:lnTo>
                <a:lnTo>
                  <a:pt x="238" y="89"/>
                </a:lnTo>
                <a:lnTo>
                  <a:pt x="225" y="97"/>
                </a:lnTo>
                <a:lnTo>
                  <a:pt x="215" y="103"/>
                </a:lnTo>
                <a:lnTo>
                  <a:pt x="215" y="103"/>
                </a:lnTo>
                <a:lnTo>
                  <a:pt x="221" y="110"/>
                </a:lnTo>
                <a:lnTo>
                  <a:pt x="235" y="128"/>
                </a:lnTo>
                <a:lnTo>
                  <a:pt x="261" y="167"/>
                </a:lnTo>
                <a:lnTo>
                  <a:pt x="270" y="187"/>
                </a:lnTo>
                <a:lnTo>
                  <a:pt x="273" y="210"/>
                </a:lnTo>
                <a:lnTo>
                  <a:pt x="271" y="221"/>
                </a:lnTo>
                <a:lnTo>
                  <a:pt x="267" y="225"/>
                </a:lnTo>
                <a:lnTo>
                  <a:pt x="263" y="228"/>
                </a:lnTo>
                <a:lnTo>
                  <a:pt x="251" y="237"/>
                </a:lnTo>
                <a:lnTo>
                  <a:pt x="225" y="260"/>
                </a:lnTo>
                <a:lnTo>
                  <a:pt x="215" y="292"/>
                </a:lnTo>
                <a:lnTo>
                  <a:pt x="215" y="300"/>
                </a:lnTo>
                <a:lnTo>
                  <a:pt x="213" y="312"/>
                </a:lnTo>
                <a:lnTo>
                  <a:pt x="213" y="316"/>
                </a:lnTo>
                <a:lnTo>
                  <a:pt x="210" y="319"/>
                </a:lnTo>
                <a:lnTo>
                  <a:pt x="209" y="322"/>
                </a:lnTo>
                <a:lnTo>
                  <a:pt x="206" y="323"/>
                </a:lnTo>
                <a:lnTo>
                  <a:pt x="202" y="325"/>
                </a:lnTo>
                <a:lnTo>
                  <a:pt x="193" y="328"/>
                </a:lnTo>
                <a:lnTo>
                  <a:pt x="181" y="334"/>
                </a:lnTo>
                <a:lnTo>
                  <a:pt x="181" y="334"/>
                </a:lnTo>
                <a:lnTo>
                  <a:pt x="180" y="331"/>
                </a:lnTo>
                <a:lnTo>
                  <a:pt x="180" y="328"/>
                </a:lnTo>
                <a:lnTo>
                  <a:pt x="176" y="319"/>
                </a:lnTo>
                <a:lnTo>
                  <a:pt x="167" y="300"/>
                </a:lnTo>
                <a:lnTo>
                  <a:pt x="163" y="286"/>
                </a:lnTo>
                <a:lnTo>
                  <a:pt x="155" y="287"/>
                </a:lnTo>
                <a:lnTo>
                  <a:pt x="145" y="290"/>
                </a:lnTo>
                <a:lnTo>
                  <a:pt x="139" y="295"/>
                </a:lnTo>
                <a:lnTo>
                  <a:pt x="134" y="302"/>
                </a:lnTo>
                <a:lnTo>
                  <a:pt x="131" y="309"/>
                </a:lnTo>
                <a:lnTo>
                  <a:pt x="126" y="318"/>
                </a:lnTo>
                <a:lnTo>
                  <a:pt x="125" y="322"/>
                </a:lnTo>
                <a:lnTo>
                  <a:pt x="122" y="322"/>
                </a:lnTo>
                <a:lnTo>
                  <a:pt x="116" y="321"/>
                </a:lnTo>
                <a:lnTo>
                  <a:pt x="110" y="319"/>
                </a:lnTo>
                <a:lnTo>
                  <a:pt x="97" y="315"/>
                </a:lnTo>
                <a:lnTo>
                  <a:pt x="89" y="312"/>
                </a:lnTo>
                <a:lnTo>
                  <a:pt x="87" y="308"/>
                </a:lnTo>
                <a:lnTo>
                  <a:pt x="87" y="299"/>
                </a:lnTo>
                <a:lnTo>
                  <a:pt x="83" y="283"/>
                </a:lnTo>
                <a:lnTo>
                  <a:pt x="80" y="270"/>
                </a:lnTo>
                <a:lnTo>
                  <a:pt x="80" y="267"/>
                </a:lnTo>
                <a:lnTo>
                  <a:pt x="77" y="273"/>
                </a:lnTo>
                <a:lnTo>
                  <a:pt x="73" y="283"/>
                </a:lnTo>
                <a:lnTo>
                  <a:pt x="64" y="303"/>
                </a:lnTo>
                <a:lnTo>
                  <a:pt x="54" y="321"/>
                </a:lnTo>
                <a:lnTo>
                  <a:pt x="52" y="322"/>
                </a:lnTo>
                <a:lnTo>
                  <a:pt x="50" y="322"/>
                </a:lnTo>
                <a:lnTo>
                  <a:pt x="47" y="322"/>
                </a:lnTo>
                <a:lnTo>
                  <a:pt x="42" y="319"/>
                </a:lnTo>
                <a:lnTo>
                  <a:pt x="37" y="316"/>
                </a:lnTo>
                <a:lnTo>
                  <a:pt x="32" y="313"/>
                </a:lnTo>
                <a:lnTo>
                  <a:pt x="29" y="309"/>
                </a:lnTo>
                <a:lnTo>
                  <a:pt x="28" y="303"/>
                </a:lnTo>
                <a:lnTo>
                  <a:pt x="29" y="303"/>
                </a:lnTo>
                <a:lnTo>
                  <a:pt x="26" y="293"/>
                </a:lnTo>
                <a:lnTo>
                  <a:pt x="26" y="287"/>
                </a:lnTo>
                <a:lnTo>
                  <a:pt x="26" y="286"/>
                </a:lnTo>
                <a:lnTo>
                  <a:pt x="23" y="280"/>
                </a:lnTo>
                <a:lnTo>
                  <a:pt x="22" y="277"/>
                </a:lnTo>
                <a:lnTo>
                  <a:pt x="16" y="270"/>
                </a:lnTo>
                <a:lnTo>
                  <a:pt x="5" y="257"/>
                </a:lnTo>
                <a:lnTo>
                  <a:pt x="2" y="252"/>
                </a:lnTo>
                <a:lnTo>
                  <a:pt x="0" y="247"/>
                </a:lnTo>
                <a:lnTo>
                  <a:pt x="0" y="235"/>
                </a:lnTo>
                <a:lnTo>
                  <a:pt x="3" y="218"/>
                </a:lnTo>
                <a:lnTo>
                  <a:pt x="6" y="212"/>
                </a:lnTo>
                <a:lnTo>
                  <a:pt x="13" y="206"/>
                </a:lnTo>
                <a:lnTo>
                  <a:pt x="18" y="203"/>
                </a:lnTo>
                <a:lnTo>
                  <a:pt x="29" y="208"/>
                </a:lnTo>
                <a:lnTo>
                  <a:pt x="64" y="218"/>
                </a:lnTo>
                <a:lnTo>
                  <a:pt x="90" y="226"/>
                </a:lnTo>
                <a:lnTo>
                  <a:pt x="93" y="226"/>
                </a:lnTo>
                <a:lnTo>
                  <a:pt x="86" y="219"/>
                </a:lnTo>
                <a:lnTo>
                  <a:pt x="70" y="200"/>
                </a:lnTo>
                <a:lnTo>
                  <a:pt x="44" y="157"/>
                </a:lnTo>
                <a:lnTo>
                  <a:pt x="39" y="135"/>
                </a:lnTo>
                <a:lnTo>
                  <a:pt x="41" y="125"/>
                </a:lnTo>
                <a:lnTo>
                  <a:pt x="45" y="116"/>
                </a:lnTo>
                <a:lnTo>
                  <a:pt x="51" y="108"/>
                </a:lnTo>
                <a:lnTo>
                  <a:pt x="52" y="108"/>
                </a:lnTo>
                <a:lnTo>
                  <a:pt x="50" y="103"/>
                </a:lnTo>
                <a:lnTo>
                  <a:pt x="45" y="95"/>
                </a:lnTo>
                <a:lnTo>
                  <a:pt x="39" y="74"/>
                </a:lnTo>
                <a:lnTo>
                  <a:pt x="45" y="45"/>
                </a:lnTo>
                <a:lnTo>
                  <a:pt x="50" y="37"/>
                </a:lnTo>
                <a:lnTo>
                  <a:pt x="52" y="34"/>
                </a:lnTo>
                <a:lnTo>
                  <a:pt x="63" y="21"/>
                </a:lnTo>
                <a:lnTo>
                  <a:pt x="70" y="12"/>
                </a:lnTo>
                <a:lnTo>
                  <a:pt x="71" y="10"/>
                </a:lnTo>
                <a:lnTo>
                  <a:pt x="71" y="1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00800" y="2525760"/>
            <a:ext cx="42840" cy="15840"/>
          </a:xfrm>
          <a:custGeom>
            <a:avLst/>
            <a:gdLst/>
            <a:ahLst/>
            <a:rect l="l" t="t" r="r" b="b"/>
            <a:pathLst>
              <a:path w="120" h="52">
                <a:moveTo>
                  <a:pt x="110" y="1"/>
                </a:moveTo>
                <a:lnTo>
                  <a:pt x="110" y="5"/>
                </a:lnTo>
                <a:lnTo>
                  <a:pt x="114" y="14"/>
                </a:lnTo>
                <a:lnTo>
                  <a:pt x="120" y="34"/>
                </a:lnTo>
                <a:lnTo>
                  <a:pt x="119" y="39"/>
                </a:lnTo>
                <a:lnTo>
                  <a:pt x="117" y="42"/>
                </a:lnTo>
                <a:lnTo>
                  <a:pt x="116" y="46"/>
                </a:lnTo>
                <a:lnTo>
                  <a:pt x="111" y="49"/>
                </a:lnTo>
                <a:lnTo>
                  <a:pt x="106" y="50"/>
                </a:lnTo>
                <a:lnTo>
                  <a:pt x="106" y="50"/>
                </a:lnTo>
                <a:lnTo>
                  <a:pt x="95" y="52"/>
                </a:lnTo>
                <a:lnTo>
                  <a:pt x="77" y="49"/>
                </a:lnTo>
                <a:lnTo>
                  <a:pt x="59" y="42"/>
                </a:lnTo>
                <a:lnTo>
                  <a:pt x="43" y="33"/>
                </a:lnTo>
                <a:lnTo>
                  <a:pt x="8" y="20"/>
                </a:lnTo>
                <a:lnTo>
                  <a:pt x="0" y="18"/>
                </a:lnTo>
                <a:lnTo>
                  <a:pt x="4" y="10"/>
                </a:lnTo>
                <a:lnTo>
                  <a:pt x="7" y="5"/>
                </a:lnTo>
                <a:lnTo>
                  <a:pt x="8" y="4"/>
                </a:lnTo>
                <a:lnTo>
                  <a:pt x="20" y="2"/>
                </a:lnTo>
                <a:lnTo>
                  <a:pt x="39" y="0"/>
                </a:lnTo>
                <a:lnTo>
                  <a:pt x="69" y="0"/>
                </a:lnTo>
                <a:lnTo>
                  <a:pt x="100" y="1"/>
                </a:lnTo>
                <a:lnTo>
                  <a:pt x="110" y="1"/>
                </a:lnTo>
                <a:lnTo>
                  <a:pt x="110" y="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35720" y="2590920"/>
            <a:ext cx="36720" cy="19080"/>
          </a:xfrm>
          <a:custGeom>
            <a:avLst/>
            <a:gdLst/>
            <a:ahLst/>
            <a:rect l="l" t="t" r="r" b="b"/>
            <a:pathLst>
              <a:path w="106" h="55">
                <a:moveTo>
                  <a:pt x="6" y="0"/>
                </a:moveTo>
                <a:lnTo>
                  <a:pt x="20" y="9"/>
                </a:lnTo>
                <a:lnTo>
                  <a:pt x="39" y="16"/>
                </a:lnTo>
                <a:lnTo>
                  <a:pt x="44" y="17"/>
                </a:lnTo>
                <a:lnTo>
                  <a:pt x="49" y="16"/>
                </a:lnTo>
                <a:lnTo>
                  <a:pt x="52" y="14"/>
                </a:lnTo>
                <a:lnTo>
                  <a:pt x="57" y="12"/>
                </a:lnTo>
                <a:lnTo>
                  <a:pt x="68" y="6"/>
                </a:lnTo>
                <a:lnTo>
                  <a:pt x="89" y="1"/>
                </a:lnTo>
                <a:lnTo>
                  <a:pt x="106" y="0"/>
                </a:lnTo>
                <a:lnTo>
                  <a:pt x="105" y="6"/>
                </a:lnTo>
                <a:lnTo>
                  <a:pt x="103" y="14"/>
                </a:lnTo>
                <a:lnTo>
                  <a:pt x="99" y="32"/>
                </a:lnTo>
                <a:lnTo>
                  <a:pt x="96" y="51"/>
                </a:lnTo>
                <a:lnTo>
                  <a:pt x="97" y="55"/>
                </a:lnTo>
                <a:lnTo>
                  <a:pt x="89" y="54"/>
                </a:lnTo>
                <a:lnTo>
                  <a:pt x="67" y="52"/>
                </a:lnTo>
                <a:lnTo>
                  <a:pt x="19" y="42"/>
                </a:lnTo>
                <a:lnTo>
                  <a:pt x="10" y="38"/>
                </a:lnTo>
                <a:lnTo>
                  <a:pt x="5" y="32"/>
                </a:lnTo>
                <a:lnTo>
                  <a:pt x="0" y="23"/>
                </a:lnTo>
                <a:lnTo>
                  <a:pt x="0" y="13"/>
                </a:lnTo>
                <a:lnTo>
                  <a:pt x="5" y="0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62720" y="2558880"/>
            <a:ext cx="12960" cy="16200"/>
          </a:xfrm>
          <a:custGeom>
            <a:avLst/>
            <a:gdLst/>
            <a:ahLst/>
            <a:rect l="l" t="t" r="r" b="b"/>
            <a:pathLst>
              <a:path w="34" h="46">
                <a:moveTo>
                  <a:pt x="29" y="46"/>
                </a:moveTo>
                <a:lnTo>
                  <a:pt x="22" y="46"/>
                </a:lnTo>
                <a:lnTo>
                  <a:pt x="16" y="43"/>
                </a:lnTo>
                <a:lnTo>
                  <a:pt x="12" y="39"/>
                </a:lnTo>
                <a:lnTo>
                  <a:pt x="8" y="34"/>
                </a:lnTo>
                <a:lnTo>
                  <a:pt x="5" y="29"/>
                </a:lnTo>
                <a:lnTo>
                  <a:pt x="0" y="18"/>
                </a:lnTo>
                <a:lnTo>
                  <a:pt x="0" y="13"/>
                </a:lnTo>
                <a:lnTo>
                  <a:pt x="2" y="7"/>
                </a:lnTo>
                <a:lnTo>
                  <a:pt x="5" y="4"/>
                </a:lnTo>
                <a:lnTo>
                  <a:pt x="9" y="1"/>
                </a:lnTo>
                <a:lnTo>
                  <a:pt x="15" y="0"/>
                </a:lnTo>
                <a:lnTo>
                  <a:pt x="16" y="0"/>
                </a:lnTo>
                <a:lnTo>
                  <a:pt x="18" y="2"/>
                </a:lnTo>
                <a:lnTo>
                  <a:pt x="24" y="10"/>
                </a:lnTo>
                <a:lnTo>
                  <a:pt x="32" y="26"/>
                </a:lnTo>
                <a:lnTo>
                  <a:pt x="34" y="34"/>
                </a:lnTo>
                <a:lnTo>
                  <a:pt x="32" y="43"/>
                </a:lnTo>
                <a:lnTo>
                  <a:pt x="29" y="46"/>
                </a:lnTo>
                <a:lnTo>
                  <a:pt x="29" y="46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388280" y="2562120"/>
            <a:ext cx="30240" cy="39960"/>
          </a:xfrm>
          <a:custGeom>
            <a:avLst/>
            <a:gdLst/>
            <a:ahLst/>
            <a:rect l="l" t="t" r="r" b="b"/>
            <a:pathLst>
              <a:path w="86" h="119">
                <a:moveTo>
                  <a:pt x="0" y="71"/>
                </a:moveTo>
                <a:lnTo>
                  <a:pt x="5" y="67"/>
                </a:lnTo>
                <a:lnTo>
                  <a:pt x="12" y="54"/>
                </a:lnTo>
                <a:lnTo>
                  <a:pt x="19" y="39"/>
                </a:lnTo>
                <a:lnTo>
                  <a:pt x="32" y="13"/>
                </a:lnTo>
                <a:lnTo>
                  <a:pt x="45" y="0"/>
                </a:lnTo>
                <a:lnTo>
                  <a:pt x="47" y="3"/>
                </a:lnTo>
                <a:lnTo>
                  <a:pt x="54" y="12"/>
                </a:lnTo>
                <a:lnTo>
                  <a:pt x="73" y="36"/>
                </a:lnTo>
                <a:lnTo>
                  <a:pt x="84" y="57"/>
                </a:lnTo>
                <a:lnTo>
                  <a:pt x="86" y="58"/>
                </a:lnTo>
                <a:lnTo>
                  <a:pt x="86" y="70"/>
                </a:lnTo>
                <a:lnTo>
                  <a:pt x="86" y="87"/>
                </a:lnTo>
                <a:lnTo>
                  <a:pt x="86" y="96"/>
                </a:lnTo>
                <a:lnTo>
                  <a:pt x="84" y="100"/>
                </a:lnTo>
                <a:lnTo>
                  <a:pt x="81" y="103"/>
                </a:lnTo>
                <a:lnTo>
                  <a:pt x="77" y="105"/>
                </a:lnTo>
                <a:lnTo>
                  <a:pt x="73" y="107"/>
                </a:lnTo>
                <a:lnTo>
                  <a:pt x="55" y="115"/>
                </a:lnTo>
                <a:lnTo>
                  <a:pt x="45" y="119"/>
                </a:lnTo>
                <a:lnTo>
                  <a:pt x="44" y="116"/>
                </a:lnTo>
                <a:lnTo>
                  <a:pt x="41" y="113"/>
                </a:lnTo>
                <a:lnTo>
                  <a:pt x="38" y="112"/>
                </a:lnTo>
                <a:lnTo>
                  <a:pt x="34" y="109"/>
                </a:lnTo>
                <a:lnTo>
                  <a:pt x="24" y="105"/>
                </a:lnTo>
                <a:lnTo>
                  <a:pt x="13" y="99"/>
                </a:lnTo>
                <a:lnTo>
                  <a:pt x="5" y="89"/>
                </a:lnTo>
                <a:lnTo>
                  <a:pt x="0" y="71"/>
                </a:lnTo>
                <a:lnTo>
                  <a:pt x="0" y="71"/>
                </a:lnTo>
                <a:lnTo>
                  <a:pt x="0" y="7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478640" y="2471760"/>
            <a:ext cx="28800" cy="46080"/>
          </a:xfrm>
          <a:custGeom>
            <a:avLst/>
            <a:gdLst/>
            <a:ahLst/>
            <a:rect l="l" t="t" r="r" b="b"/>
            <a:pathLst>
              <a:path w="79" h="141">
                <a:moveTo>
                  <a:pt x="72" y="119"/>
                </a:moveTo>
                <a:lnTo>
                  <a:pt x="65" y="119"/>
                </a:lnTo>
                <a:lnTo>
                  <a:pt x="56" y="119"/>
                </a:lnTo>
                <a:lnTo>
                  <a:pt x="43" y="115"/>
                </a:lnTo>
                <a:lnTo>
                  <a:pt x="30" y="112"/>
                </a:lnTo>
                <a:lnTo>
                  <a:pt x="26" y="110"/>
                </a:lnTo>
                <a:lnTo>
                  <a:pt x="23" y="113"/>
                </a:lnTo>
                <a:lnTo>
                  <a:pt x="18" y="119"/>
                </a:lnTo>
                <a:lnTo>
                  <a:pt x="10" y="131"/>
                </a:lnTo>
                <a:lnTo>
                  <a:pt x="4" y="141"/>
                </a:lnTo>
                <a:lnTo>
                  <a:pt x="2" y="141"/>
                </a:lnTo>
                <a:lnTo>
                  <a:pt x="1" y="135"/>
                </a:lnTo>
                <a:lnTo>
                  <a:pt x="0" y="121"/>
                </a:lnTo>
                <a:lnTo>
                  <a:pt x="2" y="89"/>
                </a:lnTo>
                <a:lnTo>
                  <a:pt x="8" y="60"/>
                </a:lnTo>
                <a:lnTo>
                  <a:pt x="10" y="53"/>
                </a:lnTo>
                <a:lnTo>
                  <a:pt x="10" y="48"/>
                </a:lnTo>
                <a:lnTo>
                  <a:pt x="10" y="41"/>
                </a:lnTo>
                <a:lnTo>
                  <a:pt x="11" y="28"/>
                </a:lnTo>
                <a:lnTo>
                  <a:pt x="11" y="9"/>
                </a:lnTo>
                <a:lnTo>
                  <a:pt x="13" y="0"/>
                </a:lnTo>
                <a:lnTo>
                  <a:pt x="21" y="2"/>
                </a:lnTo>
                <a:lnTo>
                  <a:pt x="33" y="5"/>
                </a:lnTo>
                <a:lnTo>
                  <a:pt x="36" y="6"/>
                </a:lnTo>
                <a:lnTo>
                  <a:pt x="37" y="9"/>
                </a:lnTo>
                <a:lnTo>
                  <a:pt x="39" y="11"/>
                </a:lnTo>
                <a:lnTo>
                  <a:pt x="43" y="21"/>
                </a:lnTo>
                <a:lnTo>
                  <a:pt x="78" y="55"/>
                </a:lnTo>
                <a:lnTo>
                  <a:pt x="79" y="55"/>
                </a:lnTo>
                <a:lnTo>
                  <a:pt x="79" y="61"/>
                </a:lnTo>
                <a:lnTo>
                  <a:pt x="79" y="71"/>
                </a:lnTo>
                <a:lnTo>
                  <a:pt x="79" y="96"/>
                </a:lnTo>
                <a:lnTo>
                  <a:pt x="78" y="108"/>
                </a:lnTo>
                <a:lnTo>
                  <a:pt x="73" y="116"/>
                </a:lnTo>
                <a:lnTo>
                  <a:pt x="72" y="119"/>
                </a:lnTo>
                <a:lnTo>
                  <a:pt x="72" y="11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85040" y="2419200"/>
            <a:ext cx="85680" cy="127080"/>
          </a:xfrm>
          <a:custGeom>
            <a:avLst/>
            <a:gdLst/>
            <a:ahLst/>
            <a:rect l="l" t="t" r="r" b="b"/>
            <a:pathLst>
              <a:path w="255" h="386">
                <a:moveTo>
                  <a:pt x="116" y="156"/>
                </a:moveTo>
                <a:lnTo>
                  <a:pt x="123" y="152"/>
                </a:lnTo>
                <a:lnTo>
                  <a:pt x="139" y="140"/>
                </a:lnTo>
                <a:lnTo>
                  <a:pt x="165" y="118"/>
                </a:lnTo>
                <a:lnTo>
                  <a:pt x="192" y="94"/>
                </a:lnTo>
                <a:lnTo>
                  <a:pt x="199" y="86"/>
                </a:lnTo>
                <a:lnTo>
                  <a:pt x="202" y="91"/>
                </a:lnTo>
                <a:lnTo>
                  <a:pt x="207" y="102"/>
                </a:lnTo>
                <a:lnTo>
                  <a:pt x="212" y="114"/>
                </a:lnTo>
                <a:lnTo>
                  <a:pt x="216" y="139"/>
                </a:lnTo>
                <a:lnTo>
                  <a:pt x="216" y="156"/>
                </a:lnTo>
                <a:lnTo>
                  <a:pt x="222" y="152"/>
                </a:lnTo>
                <a:lnTo>
                  <a:pt x="239" y="136"/>
                </a:lnTo>
                <a:lnTo>
                  <a:pt x="254" y="123"/>
                </a:lnTo>
                <a:lnTo>
                  <a:pt x="255" y="121"/>
                </a:lnTo>
                <a:lnTo>
                  <a:pt x="255" y="134"/>
                </a:lnTo>
                <a:lnTo>
                  <a:pt x="255" y="172"/>
                </a:lnTo>
                <a:lnTo>
                  <a:pt x="250" y="269"/>
                </a:lnTo>
                <a:lnTo>
                  <a:pt x="236" y="310"/>
                </a:lnTo>
                <a:lnTo>
                  <a:pt x="226" y="324"/>
                </a:lnTo>
                <a:lnTo>
                  <a:pt x="213" y="334"/>
                </a:lnTo>
                <a:lnTo>
                  <a:pt x="199" y="337"/>
                </a:lnTo>
                <a:lnTo>
                  <a:pt x="199" y="337"/>
                </a:lnTo>
                <a:lnTo>
                  <a:pt x="199" y="334"/>
                </a:lnTo>
                <a:lnTo>
                  <a:pt x="199" y="327"/>
                </a:lnTo>
                <a:lnTo>
                  <a:pt x="203" y="308"/>
                </a:lnTo>
                <a:lnTo>
                  <a:pt x="206" y="291"/>
                </a:lnTo>
                <a:lnTo>
                  <a:pt x="207" y="286"/>
                </a:lnTo>
                <a:lnTo>
                  <a:pt x="184" y="288"/>
                </a:lnTo>
                <a:lnTo>
                  <a:pt x="148" y="297"/>
                </a:lnTo>
                <a:lnTo>
                  <a:pt x="122" y="311"/>
                </a:lnTo>
                <a:lnTo>
                  <a:pt x="100" y="331"/>
                </a:lnTo>
                <a:lnTo>
                  <a:pt x="52" y="376"/>
                </a:lnTo>
                <a:lnTo>
                  <a:pt x="37" y="386"/>
                </a:lnTo>
                <a:lnTo>
                  <a:pt x="37" y="385"/>
                </a:lnTo>
                <a:lnTo>
                  <a:pt x="38" y="375"/>
                </a:lnTo>
                <a:lnTo>
                  <a:pt x="44" y="336"/>
                </a:lnTo>
                <a:lnTo>
                  <a:pt x="48" y="301"/>
                </a:lnTo>
                <a:lnTo>
                  <a:pt x="50" y="297"/>
                </a:lnTo>
                <a:lnTo>
                  <a:pt x="41" y="294"/>
                </a:lnTo>
                <a:lnTo>
                  <a:pt x="31" y="288"/>
                </a:lnTo>
                <a:lnTo>
                  <a:pt x="22" y="282"/>
                </a:lnTo>
                <a:lnTo>
                  <a:pt x="21" y="279"/>
                </a:lnTo>
                <a:lnTo>
                  <a:pt x="16" y="260"/>
                </a:lnTo>
                <a:lnTo>
                  <a:pt x="8" y="199"/>
                </a:lnTo>
                <a:lnTo>
                  <a:pt x="2" y="153"/>
                </a:lnTo>
                <a:lnTo>
                  <a:pt x="2" y="150"/>
                </a:lnTo>
                <a:lnTo>
                  <a:pt x="0" y="136"/>
                </a:lnTo>
                <a:lnTo>
                  <a:pt x="0" y="100"/>
                </a:lnTo>
                <a:lnTo>
                  <a:pt x="8" y="26"/>
                </a:lnTo>
                <a:lnTo>
                  <a:pt x="12" y="13"/>
                </a:lnTo>
                <a:lnTo>
                  <a:pt x="18" y="4"/>
                </a:lnTo>
                <a:lnTo>
                  <a:pt x="21" y="1"/>
                </a:lnTo>
                <a:lnTo>
                  <a:pt x="23" y="0"/>
                </a:lnTo>
                <a:lnTo>
                  <a:pt x="28" y="1"/>
                </a:lnTo>
                <a:lnTo>
                  <a:pt x="31" y="2"/>
                </a:lnTo>
                <a:lnTo>
                  <a:pt x="35" y="7"/>
                </a:lnTo>
                <a:lnTo>
                  <a:pt x="39" y="13"/>
                </a:lnTo>
                <a:lnTo>
                  <a:pt x="41" y="13"/>
                </a:lnTo>
                <a:lnTo>
                  <a:pt x="45" y="23"/>
                </a:lnTo>
                <a:lnTo>
                  <a:pt x="52" y="44"/>
                </a:lnTo>
                <a:lnTo>
                  <a:pt x="57" y="69"/>
                </a:lnTo>
                <a:lnTo>
                  <a:pt x="60" y="120"/>
                </a:lnTo>
                <a:lnTo>
                  <a:pt x="61" y="150"/>
                </a:lnTo>
                <a:lnTo>
                  <a:pt x="68" y="146"/>
                </a:lnTo>
                <a:lnTo>
                  <a:pt x="83" y="134"/>
                </a:lnTo>
                <a:lnTo>
                  <a:pt x="92" y="127"/>
                </a:lnTo>
                <a:lnTo>
                  <a:pt x="96" y="126"/>
                </a:lnTo>
                <a:lnTo>
                  <a:pt x="99" y="124"/>
                </a:lnTo>
                <a:lnTo>
                  <a:pt x="102" y="126"/>
                </a:lnTo>
                <a:lnTo>
                  <a:pt x="103" y="127"/>
                </a:lnTo>
                <a:lnTo>
                  <a:pt x="105" y="130"/>
                </a:lnTo>
                <a:lnTo>
                  <a:pt x="108" y="136"/>
                </a:lnTo>
                <a:lnTo>
                  <a:pt x="112" y="144"/>
                </a:lnTo>
                <a:lnTo>
                  <a:pt x="115" y="156"/>
                </a:lnTo>
                <a:lnTo>
                  <a:pt x="116" y="156"/>
                </a:lnTo>
                <a:lnTo>
                  <a:pt x="116" y="156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61120" y="2573280"/>
            <a:ext cx="57240" cy="60480"/>
          </a:xfrm>
          <a:custGeom>
            <a:avLst/>
            <a:gdLst/>
            <a:ahLst/>
            <a:rect l="l" t="t" r="r" b="b"/>
            <a:pathLst>
              <a:path w="166" h="184">
                <a:moveTo>
                  <a:pt x="101" y="63"/>
                </a:moveTo>
                <a:lnTo>
                  <a:pt x="90" y="50"/>
                </a:lnTo>
                <a:lnTo>
                  <a:pt x="71" y="27"/>
                </a:lnTo>
                <a:lnTo>
                  <a:pt x="35" y="3"/>
                </a:lnTo>
                <a:lnTo>
                  <a:pt x="20" y="0"/>
                </a:lnTo>
                <a:lnTo>
                  <a:pt x="6" y="0"/>
                </a:lnTo>
                <a:lnTo>
                  <a:pt x="0" y="2"/>
                </a:lnTo>
                <a:lnTo>
                  <a:pt x="0" y="9"/>
                </a:lnTo>
                <a:lnTo>
                  <a:pt x="1" y="21"/>
                </a:lnTo>
                <a:lnTo>
                  <a:pt x="6" y="34"/>
                </a:lnTo>
                <a:lnTo>
                  <a:pt x="14" y="50"/>
                </a:lnTo>
                <a:lnTo>
                  <a:pt x="48" y="90"/>
                </a:lnTo>
                <a:lnTo>
                  <a:pt x="61" y="103"/>
                </a:lnTo>
                <a:lnTo>
                  <a:pt x="65" y="111"/>
                </a:lnTo>
                <a:lnTo>
                  <a:pt x="72" y="122"/>
                </a:lnTo>
                <a:lnTo>
                  <a:pt x="75" y="134"/>
                </a:lnTo>
                <a:lnTo>
                  <a:pt x="75" y="144"/>
                </a:lnTo>
                <a:lnTo>
                  <a:pt x="78" y="155"/>
                </a:lnTo>
                <a:lnTo>
                  <a:pt x="82" y="166"/>
                </a:lnTo>
                <a:lnTo>
                  <a:pt x="88" y="170"/>
                </a:lnTo>
                <a:lnTo>
                  <a:pt x="94" y="176"/>
                </a:lnTo>
                <a:lnTo>
                  <a:pt x="100" y="180"/>
                </a:lnTo>
                <a:lnTo>
                  <a:pt x="108" y="182"/>
                </a:lnTo>
                <a:lnTo>
                  <a:pt x="124" y="184"/>
                </a:lnTo>
                <a:lnTo>
                  <a:pt x="140" y="184"/>
                </a:lnTo>
                <a:lnTo>
                  <a:pt x="163" y="182"/>
                </a:lnTo>
                <a:lnTo>
                  <a:pt x="166" y="182"/>
                </a:lnTo>
                <a:lnTo>
                  <a:pt x="165" y="173"/>
                </a:lnTo>
                <a:lnTo>
                  <a:pt x="162" y="157"/>
                </a:lnTo>
                <a:lnTo>
                  <a:pt x="155" y="140"/>
                </a:lnTo>
                <a:lnTo>
                  <a:pt x="143" y="122"/>
                </a:lnTo>
                <a:lnTo>
                  <a:pt x="110" y="77"/>
                </a:lnTo>
                <a:lnTo>
                  <a:pt x="101" y="63"/>
                </a:lnTo>
                <a:lnTo>
                  <a:pt x="101" y="6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8560" y="2068560"/>
            <a:ext cx="1203480" cy="762120"/>
          </a:xfrm>
          <a:custGeom>
            <a:avLst/>
            <a:gdLst/>
            <a:ahLst/>
            <a:rect l="l" t="t" r="r" b="b"/>
            <a:pathLst>
              <a:path w="3486" h="2329">
                <a:moveTo>
                  <a:pt x="1701" y="1878"/>
                </a:moveTo>
                <a:lnTo>
                  <a:pt x="1702" y="1871"/>
                </a:lnTo>
                <a:lnTo>
                  <a:pt x="1708" y="1849"/>
                </a:lnTo>
                <a:lnTo>
                  <a:pt x="1713" y="1832"/>
                </a:lnTo>
                <a:lnTo>
                  <a:pt x="1714" y="1830"/>
                </a:lnTo>
                <a:lnTo>
                  <a:pt x="1721" y="1832"/>
                </a:lnTo>
                <a:lnTo>
                  <a:pt x="1744" y="1835"/>
                </a:lnTo>
                <a:lnTo>
                  <a:pt x="1762" y="1836"/>
                </a:lnTo>
                <a:lnTo>
                  <a:pt x="1763" y="1836"/>
                </a:lnTo>
                <a:lnTo>
                  <a:pt x="1762" y="1845"/>
                </a:lnTo>
                <a:lnTo>
                  <a:pt x="1762" y="1871"/>
                </a:lnTo>
                <a:lnTo>
                  <a:pt x="1762" y="1890"/>
                </a:lnTo>
                <a:lnTo>
                  <a:pt x="1762" y="1890"/>
                </a:lnTo>
                <a:lnTo>
                  <a:pt x="1766" y="1891"/>
                </a:lnTo>
                <a:lnTo>
                  <a:pt x="1775" y="1893"/>
                </a:lnTo>
                <a:lnTo>
                  <a:pt x="1797" y="1900"/>
                </a:lnTo>
                <a:lnTo>
                  <a:pt x="1855" y="1916"/>
                </a:lnTo>
                <a:lnTo>
                  <a:pt x="1911" y="1922"/>
                </a:lnTo>
                <a:lnTo>
                  <a:pt x="1913" y="1922"/>
                </a:lnTo>
                <a:lnTo>
                  <a:pt x="1927" y="1922"/>
                </a:lnTo>
                <a:lnTo>
                  <a:pt x="1976" y="1917"/>
                </a:lnTo>
                <a:lnTo>
                  <a:pt x="2014" y="1916"/>
                </a:lnTo>
                <a:lnTo>
                  <a:pt x="2017" y="1914"/>
                </a:lnTo>
                <a:lnTo>
                  <a:pt x="2024" y="1913"/>
                </a:lnTo>
                <a:lnTo>
                  <a:pt x="2033" y="1910"/>
                </a:lnTo>
                <a:lnTo>
                  <a:pt x="2039" y="1904"/>
                </a:lnTo>
                <a:lnTo>
                  <a:pt x="2046" y="1898"/>
                </a:lnTo>
                <a:lnTo>
                  <a:pt x="2056" y="1881"/>
                </a:lnTo>
                <a:lnTo>
                  <a:pt x="2066" y="1864"/>
                </a:lnTo>
                <a:lnTo>
                  <a:pt x="2089" y="1829"/>
                </a:lnTo>
                <a:lnTo>
                  <a:pt x="2091" y="1829"/>
                </a:lnTo>
                <a:lnTo>
                  <a:pt x="2099" y="1830"/>
                </a:lnTo>
                <a:lnTo>
                  <a:pt x="2118" y="1833"/>
                </a:lnTo>
                <a:lnTo>
                  <a:pt x="2134" y="1839"/>
                </a:lnTo>
                <a:lnTo>
                  <a:pt x="2173" y="1859"/>
                </a:lnTo>
                <a:lnTo>
                  <a:pt x="2217" y="1880"/>
                </a:lnTo>
                <a:lnTo>
                  <a:pt x="2226" y="1884"/>
                </a:lnTo>
                <a:lnTo>
                  <a:pt x="2252" y="1894"/>
                </a:lnTo>
                <a:lnTo>
                  <a:pt x="2272" y="1901"/>
                </a:lnTo>
                <a:lnTo>
                  <a:pt x="2273" y="1901"/>
                </a:lnTo>
                <a:lnTo>
                  <a:pt x="2276" y="1907"/>
                </a:lnTo>
                <a:lnTo>
                  <a:pt x="2278" y="1913"/>
                </a:lnTo>
                <a:lnTo>
                  <a:pt x="2276" y="1920"/>
                </a:lnTo>
                <a:lnTo>
                  <a:pt x="2275" y="1926"/>
                </a:lnTo>
                <a:lnTo>
                  <a:pt x="2270" y="1940"/>
                </a:lnTo>
                <a:lnTo>
                  <a:pt x="2266" y="1956"/>
                </a:lnTo>
                <a:lnTo>
                  <a:pt x="2265" y="1969"/>
                </a:lnTo>
                <a:lnTo>
                  <a:pt x="2269" y="1980"/>
                </a:lnTo>
                <a:lnTo>
                  <a:pt x="2270" y="1980"/>
                </a:lnTo>
                <a:lnTo>
                  <a:pt x="2275" y="1981"/>
                </a:lnTo>
                <a:lnTo>
                  <a:pt x="2285" y="1984"/>
                </a:lnTo>
                <a:lnTo>
                  <a:pt x="2295" y="1988"/>
                </a:lnTo>
                <a:lnTo>
                  <a:pt x="2317" y="1997"/>
                </a:lnTo>
                <a:lnTo>
                  <a:pt x="2331" y="2000"/>
                </a:lnTo>
                <a:lnTo>
                  <a:pt x="2343" y="2003"/>
                </a:lnTo>
                <a:lnTo>
                  <a:pt x="2369" y="2006"/>
                </a:lnTo>
                <a:lnTo>
                  <a:pt x="2421" y="2004"/>
                </a:lnTo>
                <a:lnTo>
                  <a:pt x="2470" y="2010"/>
                </a:lnTo>
                <a:lnTo>
                  <a:pt x="2482" y="2013"/>
                </a:lnTo>
                <a:lnTo>
                  <a:pt x="2483" y="2013"/>
                </a:lnTo>
                <a:lnTo>
                  <a:pt x="2495" y="2013"/>
                </a:lnTo>
                <a:lnTo>
                  <a:pt x="2530" y="2013"/>
                </a:lnTo>
                <a:lnTo>
                  <a:pt x="2549" y="2017"/>
                </a:lnTo>
                <a:lnTo>
                  <a:pt x="2556" y="2020"/>
                </a:lnTo>
                <a:lnTo>
                  <a:pt x="2562" y="2025"/>
                </a:lnTo>
                <a:lnTo>
                  <a:pt x="2565" y="2030"/>
                </a:lnTo>
                <a:lnTo>
                  <a:pt x="2566" y="2030"/>
                </a:lnTo>
                <a:lnTo>
                  <a:pt x="2563" y="2033"/>
                </a:lnTo>
                <a:lnTo>
                  <a:pt x="2562" y="2038"/>
                </a:lnTo>
                <a:lnTo>
                  <a:pt x="2560" y="2042"/>
                </a:lnTo>
                <a:lnTo>
                  <a:pt x="2560" y="2048"/>
                </a:lnTo>
                <a:lnTo>
                  <a:pt x="2560" y="2061"/>
                </a:lnTo>
                <a:lnTo>
                  <a:pt x="2559" y="2087"/>
                </a:lnTo>
                <a:lnTo>
                  <a:pt x="2554" y="2094"/>
                </a:lnTo>
                <a:lnTo>
                  <a:pt x="2549" y="2096"/>
                </a:lnTo>
                <a:lnTo>
                  <a:pt x="2543" y="2096"/>
                </a:lnTo>
                <a:lnTo>
                  <a:pt x="2534" y="2093"/>
                </a:lnTo>
                <a:lnTo>
                  <a:pt x="2515" y="2087"/>
                </a:lnTo>
                <a:lnTo>
                  <a:pt x="2485" y="2071"/>
                </a:lnTo>
                <a:lnTo>
                  <a:pt x="2483" y="2069"/>
                </a:lnTo>
                <a:lnTo>
                  <a:pt x="2483" y="2082"/>
                </a:lnTo>
                <a:lnTo>
                  <a:pt x="2486" y="2109"/>
                </a:lnTo>
                <a:lnTo>
                  <a:pt x="2495" y="2169"/>
                </a:lnTo>
                <a:lnTo>
                  <a:pt x="2495" y="2197"/>
                </a:lnTo>
                <a:lnTo>
                  <a:pt x="2491" y="2217"/>
                </a:lnTo>
                <a:lnTo>
                  <a:pt x="2486" y="2224"/>
                </a:lnTo>
                <a:lnTo>
                  <a:pt x="2480" y="2229"/>
                </a:lnTo>
                <a:lnTo>
                  <a:pt x="2476" y="2235"/>
                </a:lnTo>
                <a:lnTo>
                  <a:pt x="2472" y="2245"/>
                </a:lnTo>
                <a:lnTo>
                  <a:pt x="2467" y="2271"/>
                </a:lnTo>
                <a:lnTo>
                  <a:pt x="2465" y="2297"/>
                </a:lnTo>
                <a:lnTo>
                  <a:pt x="2466" y="2319"/>
                </a:lnTo>
                <a:lnTo>
                  <a:pt x="2469" y="2326"/>
                </a:lnTo>
                <a:lnTo>
                  <a:pt x="2472" y="2329"/>
                </a:lnTo>
                <a:lnTo>
                  <a:pt x="2475" y="2326"/>
                </a:lnTo>
                <a:lnTo>
                  <a:pt x="2476" y="2326"/>
                </a:lnTo>
                <a:lnTo>
                  <a:pt x="2485" y="2311"/>
                </a:lnTo>
                <a:lnTo>
                  <a:pt x="2515" y="2268"/>
                </a:lnTo>
                <a:lnTo>
                  <a:pt x="2538" y="2235"/>
                </a:lnTo>
                <a:lnTo>
                  <a:pt x="2540" y="2232"/>
                </a:lnTo>
                <a:lnTo>
                  <a:pt x="2541" y="2232"/>
                </a:lnTo>
                <a:lnTo>
                  <a:pt x="2554" y="2230"/>
                </a:lnTo>
                <a:lnTo>
                  <a:pt x="2599" y="2223"/>
                </a:lnTo>
                <a:lnTo>
                  <a:pt x="2634" y="2219"/>
                </a:lnTo>
                <a:lnTo>
                  <a:pt x="2637" y="2217"/>
                </a:lnTo>
                <a:lnTo>
                  <a:pt x="2638" y="2211"/>
                </a:lnTo>
                <a:lnTo>
                  <a:pt x="2646" y="2194"/>
                </a:lnTo>
                <a:lnTo>
                  <a:pt x="2650" y="2180"/>
                </a:lnTo>
                <a:lnTo>
                  <a:pt x="2651" y="2178"/>
                </a:lnTo>
                <a:lnTo>
                  <a:pt x="2651" y="2177"/>
                </a:lnTo>
                <a:lnTo>
                  <a:pt x="2649" y="2174"/>
                </a:lnTo>
                <a:lnTo>
                  <a:pt x="2643" y="2172"/>
                </a:lnTo>
                <a:lnTo>
                  <a:pt x="2634" y="2172"/>
                </a:lnTo>
                <a:lnTo>
                  <a:pt x="2614" y="2171"/>
                </a:lnTo>
                <a:lnTo>
                  <a:pt x="2583" y="2171"/>
                </a:lnTo>
                <a:lnTo>
                  <a:pt x="2588" y="2171"/>
                </a:lnTo>
                <a:lnTo>
                  <a:pt x="2596" y="2164"/>
                </a:lnTo>
                <a:lnTo>
                  <a:pt x="2621" y="2143"/>
                </a:lnTo>
                <a:lnTo>
                  <a:pt x="2680" y="2098"/>
                </a:lnTo>
                <a:lnTo>
                  <a:pt x="2709" y="2082"/>
                </a:lnTo>
                <a:lnTo>
                  <a:pt x="2734" y="2074"/>
                </a:lnTo>
                <a:lnTo>
                  <a:pt x="2744" y="2074"/>
                </a:lnTo>
                <a:lnTo>
                  <a:pt x="2746" y="2071"/>
                </a:lnTo>
                <a:lnTo>
                  <a:pt x="2757" y="2052"/>
                </a:lnTo>
                <a:lnTo>
                  <a:pt x="2799" y="1983"/>
                </a:lnTo>
                <a:lnTo>
                  <a:pt x="2830" y="1930"/>
                </a:lnTo>
                <a:lnTo>
                  <a:pt x="2833" y="1926"/>
                </a:lnTo>
                <a:lnTo>
                  <a:pt x="2833" y="1923"/>
                </a:lnTo>
                <a:lnTo>
                  <a:pt x="2835" y="1920"/>
                </a:lnTo>
                <a:lnTo>
                  <a:pt x="2840" y="1917"/>
                </a:lnTo>
                <a:lnTo>
                  <a:pt x="2844" y="1916"/>
                </a:lnTo>
                <a:lnTo>
                  <a:pt x="2857" y="1914"/>
                </a:lnTo>
                <a:lnTo>
                  <a:pt x="2873" y="1913"/>
                </a:lnTo>
                <a:lnTo>
                  <a:pt x="2909" y="1912"/>
                </a:lnTo>
                <a:lnTo>
                  <a:pt x="2944" y="1909"/>
                </a:lnTo>
                <a:lnTo>
                  <a:pt x="2960" y="1904"/>
                </a:lnTo>
                <a:lnTo>
                  <a:pt x="2973" y="1897"/>
                </a:lnTo>
                <a:lnTo>
                  <a:pt x="2982" y="1885"/>
                </a:lnTo>
                <a:lnTo>
                  <a:pt x="2986" y="1871"/>
                </a:lnTo>
                <a:lnTo>
                  <a:pt x="2988" y="1871"/>
                </a:lnTo>
                <a:lnTo>
                  <a:pt x="2990" y="1871"/>
                </a:lnTo>
                <a:lnTo>
                  <a:pt x="2993" y="1869"/>
                </a:lnTo>
                <a:lnTo>
                  <a:pt x="2996" y="1867"/>
                </a:lnTo>
                <a:lnTo>
                  <a:pt x="2999" y="1862"/>
                </a:lnTo>
                <a:lnTo>
                  <a:pt x="3004" y="1851"/>
                </a:lnTo>
                <a:lnTo>
                  <a:pt x="3008" y="1835"/>
                </a:lnTo>
                <a:lnTo>
                  <a:pt x="3015" y="1797"/>
                </a:lnTo>
                <a:lnTo>
                  <a:pt x="3027" y="1717"/>
                </a:lnTo>
                <a:lnTo>
                  <a:pt x="3033" y="1688"/>
                </a:lnTo>
                <a:lnTo>
                  <a:pt x="3037" y="1688"/>
                </a:lnTo>
                <a:lnTo>
                  <a:pt x="3050" y="1687"/>
                </a:lnTo>
                <a:lnTo>
                  <a:pt x="3080" y="1683"/>
                </a:lnTo>
                <a:lnTo>
                  <a:pt x="3108" y="1680"/>
                </a:lnTo>
                <a:lnTo>
                  <a:pt x="3114" y="1678"/>
                </a:lnTo>
                <a:lnTo>
                  <a:pt x="3114" y="1681"/>
                </a:lnTo>
                <a:lnTo>
                  <a:pt x="3115" y="1691"/>
                </a:lnTo>
                <a:lnTo>
                  <a:pt x="3119" y="1730"/>
                </a:lnTo>
                <a:lnTo>
                  <a:pt x="3124" y="1759"/>
                </a:lnTo>
                <a:lnTo>
                  <a:pt x="3125" y="1761"/>
                </a:lnTo>
                <a:lnTo>
                  <a:pt x="3130" y="1769"/>
                </a:lnTo>
                <a:lnTo>
                  <a:pt x="3141" y="1785"/>
                </a:lnTo>
                <a:lnTo>
                  <a:pt x="3169" y="1810"/>
                </a:lnTo>
                <a:lnTo>
                  <a:pt x="3202" y="1832"/>
                </a:lnTo>
                <a:lnTo>
                  <a:pt x="3212" y="1838"/>
                </a:lnTo>
                <a:lnTo>
                  <a:pt x="3230" y="1816"/>
                </a:lnTo>
                <a:lnTo>
                  <a:pt x="3259" y="1783"/>
                </a:lnTo>
                <a:lnTo>
                  <a:pt x="3293" y="1746"/>
                </a:lnTo>
                <a:lnTo>
                  <a:pt x="3319" y="1726"/>
                </a:lnTo>
                <a:lnTo>
                  <a:pt x="3328" y="1720"/>
                </a:lnTo>
                <a:lnTo>
                  <a:pt x="3316" y="1746"/>
                </a:lnTo>
                <a:lnTo>
                  <a:pt x="3298" y="1785"/>
                </a:lnTo>
                <a:lnTo>
                  <a:pt x="3283" y="1816"/>
                </a:lnTo>
                <a:lnTo>
                  <a:pt x="3276" y="1839"/>
                </a:lnTo>
                <a:lnTo>
                  <a:pt x="3276" y="1851"/>
                </a:lnTo>
                <a:lnTo>
                  <a:pt x="3279" y="1861"/>
                </a:lnTo>
                <a:lnTo>
                  <a:pt x="3285" y="1871"/>
                </a:lnTo>
                <a:lnTo>
                  <a:pt x="3295" y="1883"/>
                </a:lnTo>
                <a:lnTo>
                  <a:pt x="3308" y="1894"/>
                </a:lnTo>
                <a:lnTo>
                  <a:pt x="3309" y="1894"/>
                </a:lnTo>
                <a:lnTo>
                  <a:pt x="3325" y="1885"/>
                </a:lnTo>
                <a:lnTo>
                  <a:pt x="3348" y="1867"/>
                </a:lnTo>
                <a:lnTo>
                  <a:pt x="3360" y="1846"/>
                </a:lnTo>
                <a:lnTo>
                  <a:pt x="3364" y="1823"/>
                </a:lnTo>
                <a:lnTo>
                  <a:pt x="3366" y="1801"/>
                </a:lnTo>
                <a:lnTo>
                  <a:pt x="3369" y="1778"/>
                </a:lnTo>
                <a:lnTo>
                  <a:pt x="3373" y="1765"/>
                </a:lnTo>
                <a:lnTo>
                  <a:pt x="3379" y="1767"/>
                </a:lnTo>
                <a:lnTo>
                  <a:pt x="3382" y="1765"/>
                </a:lnTo>
                <a:lnTo>
                  <a:pt x="3386" y="1762"/>
                </a:lnTo>
                <a:lnTo>
                  <a:pt x="3396" y="1754"/>
                </a:lnTo>
                <a:lnTo>
                  <a:pt x="3421" y="1732"/>
                </a:lnTo>
                <a:lnTo>
                  <a:pt x="3467" y="1675"/>
                </a:lnTo>
                <a:lnTo>
                  <a:pt x="3486" y="1646"/>
                </a:lnTo>
                <a:lnTo>
                  <a:pt x="3485" y="1646"/>
                </a:lnTo>
                <a:lnTo>
                  <a:pt x="3480" y="1646"/>
                </a:lnTo>
                <a:lnTo>
                  <a:pt x="3464" y="1645"/>
                </a:lnTo>
                <a:lnTo>
                  <a:pt x="3451" y="1643"/>
                </a:lnTo>
                <a:lnTo>
                  <a:pt x="3451" y="1642"/>
                </a:lnTo>
                <a:lnTo>
                  <a:pt x="3448" y="1643"/>
                </a:lnTo>
                <a:lnTo>
                  <a:pt x="3437" y="1649"/>
                </a:lnTo>
                <a:lnTo>
                  <a:pt x="3405" y="1662"/>
                </a:lnTo>
                <a:lnTo>
                  <a:pt x="3377" y="1674"/>
                </a:lnTo>
                <a:lnTo>
                  <a:pt x="3376" y="1675"/>
                </a:lnTo>
                <a:lnTo>
                  <a:pt x="3356" y="1683"/>
                </a:lnTo>
                <a:lnTo>
                  <a:pt x="3318" y="1685"/>
                </a:lnTo>
                <a:lnTo>
                  <a:pt x="3283" y="1675"/>
                </a:lnTo>
                <a:lnTo>
                  <a:pt x="3253" y="1656"/>
                </a:lnTo>
                <a:lnTo>
                  <a:pt x="3230" y="1630"/>
                </a:lnTo>
                <a:lnTo>
                  <a:pt x="3214" y="1600"/>
                </a:lnTo>
                <a:lnTo>
                  <a:pt x="3211" y="1583"/>
                </a:lnTo>
                <a:lnTo>
                  <a:pt x="3206" y="1584"/>
                </a:lnTo>
                <a:lnTo>
                  <a:pt x="3199" y="1585"/>
                </a:lnTo>
                <a:lnTo>
                  <a:pt x="3180" y="1591"/>
                </a:lnTo>
                <a:lnTo>
                  <a:pt x="3134" y="1609"/>
                </a:lnTo>
                <a:lnTo>
                  <a:pt x="3105" y="1616"/>
                </a:lnTo>
                <a:lnTo>
                  <a:pt x="3105" y="1607"/>
                </a:lnTo>
                <a:lnTo>
                  <a:pt x="3109" y="1599"/>
                </a:lnTo>
                <a:lnTo>
                  <a:pt x="3118" y="1590"/>
                </a:lnTo>
                <a:lnTo>
                  <a:pt x="3130" y="1580"/>
                </a:lnTo>
                <a:lnTo>
                  <a:pt x="3157" y="1562"/>
                </a:lnTo>
                <a:lnTo>
                  <a:pt x="3208" y="1522"/>
                </a:lnTo>
                <a:lnTo>
                  <a:pt x="3218" y="1499"/>
                </a:lnTo>
                <a:lnTo>
                  <a:pt x="3188" y="1487"/>
                </a:lnTo>
                <a:lnTo>
                  <a:pt x="3140" y="1481"/>
                </a:lnTo>
                <a:lnTo>
                  <a:pt x="3102" y="1496"/>
                </a:lnTo>
                <a:lnTo>
                  <a:pt x="3073" y="1523"/>
                </a:lnTo>
                <a:lnTo>
                  <a:pt x="3046" y="1561"/>
                </a:lnTo>
                <a:lnTo>
                  <a:pt x="3015" y="1600"/>
                </a:lnTo>
                <a:lnTo>
                  <a:pt x="2999" y="1619"/>
                </a:lnTo>
                <a:lnTo>
                  <a:pt x="2995" y="1607"/>
                </a:lnTo>
                <a:lnTo>
                  <a:pt x="2993" y="1594"/>
                </a:lnTo>
                <a:lnTo>
                  <a:pt x="2996" y="1580"/>
                </a:lnTo>
                <a:lnTo>
                  <a:pt x="3001" y="1567"/>
                </a:lnTo>
                <a:lnTo>
                  <a:pt x="3012" y="1538"/>
                </a:lnTo>
                <a:lnTo>
                  <a:pt x="3040" y="1481"/>
                </a:lnTo>
                <a:lnTo>
                  <a:pt x="3046" y="1452"/>
                </a:lnTo>
                <a:lnTo>
                  <a:pt x="3057" y="1429"/>
                </a:lnTo>
                <a:lnTo>
                  <a:pt x="3076" y="1409"/>
                </a:lnTo>
                <a:lnTo>
                  <a:pt x="3099" y="1394"/>
                </a:lnTo>
                <a:lnTo>
                  <a:pt x="3127" y="1381"/>
                </a:lnTo>
                <a:lnTo>
                  <a:pt x="3186" y="1362"/>
                </a:lnTo>
                <a:lnTo>
                  <a:pt x="3245" y="1345"/>
                </a:lnTo>
                <a:lnTo>
                  <a:pt x="3296" y="1319"/>
                </a:lnTo>
                <a:lnTo>
                  <a:pt x="3315" y="1301"/>
                </a:lnTo>
                <a:lnTo>
                  <a:pt x="3327" y="1278"/>
                </a:lnTo>
                <a:lnTo>
                  <a:pt x="3328" y="1278"/>
                </a:lnTo>
                <a:lnTo>
                  <a:pt x="3331" y="1268"/>
                </a:lnTo>
                <a:lnTo>
                  <a:pt x="3335" y="1245"/>
                </a:lnTo>
                <a:lnTo>
                  <a:pt x="3340" y="1200"/>
                </a:lnTo>
                <a:lnTo>
                  <a:pt x="3356" y="1159"/>
                </a:lnTo>
                <a:lnTo>
                  <a:pt x="3364" y="1149"/>
                </a:lnTo>
                <a:lnTo>
                  <a:pt x="3374" y="1135"/>
                </a:lnTo>
                <a:lnTo>
                  <a:pt x="3389" y="1100"/>
                </a:lnTo>
                <a:lnTo>
                  <a:pt x="3393" y="1059"/>
                </a:lnTo>
                <a:lnTo>
                  <a:pt x="3389" y="1022"/>
                </a:lnTo>
                <a:lnTo>
                  <a:pt x="3373" y="987"/>
                </a:lnTo>
                <a:lnTo>
                  <a:pt x="3345" y="964"/>
                </a:lnTo>
                <a:lnTo>
                  <a:pt x="3328" y="957"/>
                </a:lnTo>
                <a:lnTo>
                  <a:pt x="3327" y="958"/>
                </a:lnTo>
                <a:lnTo>
                  <a:pt x="3321" y="961"/>
                </a:lnTo>
                <a:lnTo>
                  <a:pt x="3301" y="970"/>
                </a:lnTo>
                <a:lnTo>
                  <a:pt x="3286" y="975"/>
                </a:lnTo>
                <a:lnTo>
                  <a:pt x="3286" y="975"/>
                </a:lnTo>
                <a:lnTo>
                  <a:pt x="3280" y="973"/>
                </a:lnTo>
                <a:lnTo>
                  <a:pt x="3264" y="964"/>
                </a:lnTo>
                <a:lnTo>
                  <a:pt x="3253" y="957"/>
                </a:lnTo>
                <a:lnTo>
                  <a:pt x="3253" y="955"/>
                </a:lnTo>
                <a:lnTo>
                  <a:pt x="3243" y="962"/>
                </a:lnTo>
                <a:lnTo>
                  <a:pt x="3234" y="974"/>
                </a:lnTo>
                <a:lnTo>
                  <a:pt x="3227" y="990"/>
                </a:lnTo>
                <a:lnTo>
                  <a:pt x="3215" y="1026"/>
                </a:lnTo>
                <a:lnTo>
                  <a:pt x="3198" y="1099"/>
                </a:lnTo>
                <a:lnTo>
                  <a:pt x="3186" y="1116"/>
                </a:lnTo>
                <a:lnTo>
                  <a:pt x="3186" y="1112"/>
                </a:lnTo>
                <a:lnTo>
                  <a:pt x="3186" y="1104"/>
                </a:lnTo>
                <a:lnTo>
                  <a:pt x="3185" y="1084"/>
                </a:lnTo>
                <a:lnTo>
                  <a:pt x="3180" y="1032"/>
                </a:lnTo>
                <a:lnTo>
                  <a:pt x="3186" y="993"/>
                </a:lnTo>
                <a:lnTo>
                  <a:pt x="3189" y="987"/>
                </a:lnTo>
                <a:lnTo>
                  <a:pt x="3198" y="973"/>
                </a:lnTo>
                <a:lnTo>
                  <a:pt x="3217" y="941"/>
                </a:lnTo>
                <a:lnTo>
                  <a:pt x="3222" y="928"/>
                </a:lnTo>
                <a:lnTo>
                  <a:pt x="3222" y="922"/>
                </a:lnTo>
                <a:lnTo>
                  <a:pt x="3222" y="917"/>
                </a:lnTo>
                <a:lnTo>
                  <a:pt x="3222" y="915"/>
                </a:lnTo>
                <a:lnTo>
                  <a:pt x="3212" y="919"/>
                </a:lnTo>
                <a:lnTo>
                  <a:pt x="3188" y="926"/>
                </a:lnTo>
                <a:lnTo>
                  <a:pt x="3161" y="929"/>
                </a:lnTo>
                <a:lnTo>
                  <a:pt x="3109" y="933"/>
                </a:lnTo>
                <a:lnTo>
                  <a:pt x="3082" y="938"/>
                </a:lnTo>
                <a:lnTo>
                  <a:pt x="3075" y="935"/>
                </a:lnTo>
                <a:lnTo>
                  <a:pt x="3059" y="926"/>
                </a:lnTo>
                <a:lnTo>
                  <a:pt x="3030" y="913"/>
                </a:lnTo>
                <a:lnTo>
                  <a:pt x="3004" y="897"/>
                </a:lnTo>
                <a:lnTo>
                  <a:pt x="2999" y="893"/>
                </a:lnTo>
                <a:lnTo>
                  <a:pt x="3002" y="890"/>
                </a:lnTo>
                <a:lnTo>
                  <a:pt x="3011" y="880"/>
                </a:lnTo>
                <a:lnTo>
                  <a:pt x="3017" y="867"/>
                </a:lnTo>
                <a:lnTo>
                  <a:pt x="3018" y="864"/>
                </a:lnTo>
                <a:lnTo>
                  <a:pt x="3001" y="849"/>
                </a:lnTo>
                <a:lnTo>
                  <a:pt x="2959" y="818"/>
                </a:lnTo>
                <a:lnTo>
                  <a:pt x="2859" y="757"/>
                </a:lnTo>
                <a:lnTo>
                  <a:pt x="2763" y="690"/>
                </a:lnTo>
                <a:lnTo>
                  <a:pt x="2744" y="671"/>
                </a:lnTo>
                <a:lnTo>
                  <a:pt x="2738" y="680"/>
                </a:lnTo>
                <a:lnTo>
                  <a:pt x="2734" y="689"/>
                </a:lnTo>
                <a:lnTo>
                  <a:pt x="2733" y="700"/>
                </a:lnTo>
                <a:lnTo>
                  <a:pt x="2731" y="712"/>
                </a:lnTo>
                <a:lnTo>
                  <a:pt x="2734" y="736"/>
                </a:lnTo>
                <a:lnTo>
                  <a:pt x="2747" y="784"/>
                </a:lnTo>
                <a:lnTo>
                  <a:pt x="2753" y="800"/>
                </a:lnTo>
                <a:lnTo>
                  <a:pt x="2750" y="806"/>
                </a:lnTo>
                <a:lnTo>
                  <a:pt x="2744" y="819"/>
                </a:lnTo>
                <a:lnTo>
                  <a:pt x="2728" y="849"/>
                </a:lnTo>
                <a:lnTo>
                  <a:pt x="2712" y="878"/>
                </a:lnTo>
                <a:lnTo>
                  <a:pt x="2708" y="883"/>
                </a:lnTo>
                <a:lnTo>
                  <a:pt x="2701" y="878"/>
                </a:lnTo>
                <a:lnTo>
                  <a:pt x="2688" y="871"/>
                </a:lnTo>
                <a:lnTo>
                  <a:pt x="2664" y="861"/>
                </a:lnTo>
                <a:lnTo>
                  <a:pt x="2640" y="857"/>
                </a:lnTo>
                <a:lnTo>
                  <a:pt x="2634" y="855"/>
                </a:lnTo>
                <a:lnTo>
                  <a:pt x="2624" y="838"/>
                </a:lnTo>
                <a:lnTo>
                  <a:pt x="2607" y="802"/>
                </a:lnTo>
                <a:lnTo>
                  <a:pt x="2565" y="744"/>
                </a:lnTo>
                <a:lnTo>
                  <a:pt x="2536" y="725"/>
                </a:lnTo>
                <a:lnTo>
                  <a:pt x="2499" y="718"/>
                </a:lnTo>
                <a:lnTo>
                  <a:pt x="2479" y="718"/>
                </a:lnTo>
                <a:lnTo>
                  <a:pt x="2467" y="718"/>
                </a:lnTo>
                <a:lnTo>
                  <a:pt x="2457" y="713"/>
                </a:lnTo>
                <a:lnTo>
                  <a:pt x="2449" y="709"/>
                </a:lnTo>
                <a:lnTo>
                  <a:pt x="2431" y="696"/>
                </a:lnTo>
                <a:lnTo>
                  <a:pt x="2395" y="671"/>
                </a:lnTo>
                <a:lnTo>
                  <a:pt x="2360" y="671"/>
                </a:lnTo>
                <a:lnTo>
                  <a:pt x="2357" y="673"/>
                </a:lnTo>
                <a:lnTo>
                  <a:pt x="2354" y="674"/>
                </a:lnTo>
                <a:lnTo>
                  <a:pt x="2352" y="678"/>
                </a:lnTo>
                <a:lnTo>
                  <a:pt x="2346" y="686"/>
                </a:lnTo>
                <a:lnTo>
                  <a:pt x="2336" y="707"/>
                </a:lnTo>
                <a:lnTo>
                  <a:pt x="2334" y="718"/>
                </a:lnTo>
                <a:lnTo>
                  <a:pt x="2325" y="716"/>
                </a:lnTo>
                <a:lnTo>
                  <a:pt x="2307" y="713"/>
                </a:lnTo>
                <a:lnTo>
                  <a:pt x="2265" y="713"/>
                </a:lnTo>
                <a:lnTo>
                  <a:pt x="2244" y="718"/>
                </a:lnTo>
                <a:lnTo>
                  <a:pt x="2228" y="723"/>
                </a:lnTo>
                <a:lnTo>
                  <a:pt x="2224" y="728"/>
                </a:lnTo>
                <a:lnTo>
                  <a:pt x="2224" y="736"/>
                </a:lnTo>
                <a:lnTo>
                  <a:pt x="2226" y="745"/>
                </a:lnTo>
                <a:lnTo>
                  <a:pt x="2233" y="767"/>
                </a:lnTo>
                <a:lnTo>
                  <a:pt x="2247" y="813"/>
                </a:lnTo>
                <a:lnTo>
                  <a:pt x="2252" y="846"/>
                </a:lnTo>
                <a:lnTo>
                  <a:pt x="2265" y="865"/>
                </a:lnTo>
                <a:lnTo>
                  <a:pt x="2288" y="894"/>
                </a:lnTo>
                <a:lnTo>
                  <a:pt x="2302" y="916"/>
                </a:lnTo>
                <a:lnTo>
                  <a:pt x="2310" y="936"/>
                </a:lnTo>
                <a:lnTo>
                  <a:pt x="2308" y="961"/>
                </a:lnTo>
                <a:lnTo>
                  <a:pt x="2296" y="991"/>
                </a:lnTo>
                <a:lnTo>
                  <a:pt x="2288" y="1012"/>
                </a:lnTo>
                <a:lnTo>
                  <a:pt x="2305" y="1022"/>
                </a:lnTo>
                <a:lnTo>
                  <a:pt x="2339" y="1041"/>
                </a:lnTo>
                <a:lnTo>
                  <a:pt x="2392" y="1087"/>
                </a:lnTo>
                <a:lnTo>
                  <a:pt x="2428" y="1149"/>
                </a:lnTo>
                <a:lnTo>
                  <a:pt x="2434" y="1168"/>
                </a:lnTo>
                <a:lnTo>
                  <a:pt x="2436" y="1186"/>
                </a:lnTo>
                <a:lnTo>
                  <a:pt x="2436" y="1201"/>
                </a:lnTo>
                <a:lnTo>
                  <a:pt x="2431" y="1215"/>
                </a:lnTo>
                <a:lnTo>
                  <a:pt x="2425" y="1228"/>
                </a:lnTo>
                <a:lnTo>
                  <a:pt x="2418" y="1239"/>
                </a:lnTo>
                <a:lnTo>
                  <a:pt x="2401" y="1259"/>
                </a:lnTo>
                <a:lnTo>
                  <a:pt x="2365" y="1303"/>
                </a:lnTo>
                <a:lnTo>
                  <a:pt x="2360" y="1316"/>
                </a:lnTo>
                <a:lnTo>
                  <a:pt x="2359" y="1328"/>
                </a:lnTo>
                <a:lnTo>
                  <a:pt x="2363" y="1341"/>
                </a:lnTo>
                <a:lnTo>
                  <a:pt x="2369" y="1357"/>
                </a:lnTo>
                <a:lnTo>
                  <a:pt x="2388" y="1393"/>
                </a:lnTo>
                <a:lnTo>
                  <a:pt x="2436" y="1468"/>
                </a:lnTo>
                <a:lnTo>
                  <a:pt x="2460" y="1509"/>
                </a:lnTo>
                <a:lnTo>
                  <a:pt x="2454" y="1520"/>
                </a:lnTo>
                <a:lnTo>
                  <a:pt x="2450" y="1538"/>
                </a:lnTo>
                <a:lnTo>
                  <a:pt x="2449" y="1546"/>
                </a:lnTo>
                <a:lnTo>
                  <a:pt x="2447" y="1551"/>
                </a:lnTo>
                <a:lnTo>
                  <a:pt x="2444" y="1554"/>
                </a:lnTo>
                <a:lnTo>
                  <a:pt x="2440" y="1556"/>
                </a:lnTo>
                <a:lnTo>
                  <a:pt x="2433" y="1559"/>
                </a:lnTo>
                <a:lnTo>
                  <a:pt x="2408" y="1568"/>
                </a:lnTo>
                <a:lnTo>
                  <a:pt x="2389" y="1572"/>
                </a:lnTo>
                <a:lnTo>
                  <a:pt x="2362" y="1548"/>
                </a:lnTo>
                <a:lnTo>
                  <a:pt x="2318" y="1512"/>
                </a:lnTo>
                <a:lnTo>
                  <a:pt x="2288" y="1484"/>
                </a:lnTo>
                <a:lnTo>
                  <a:pt x="2268" y="1458"/>
                </a:lnTo>
                <a:lnTo>
                  <a:pt x="2256" y="1420"/>
                </a:lnTo>
                <a:lnTo>
                  <a:pt x="2252" y="1364"/>
                </a:lnTo>
                <a:lnTo>
                  <a:pt x="2252" y="1325"/>
                </a:lnTo>
                <a:lnTo>
                  <a:pt x="2241" y="1317"/>
                </a:lnTo>
                <a:lnTo>
                  <a:pt x="2233" y="1312"/>
                </a:lnTo>
                <a:lnTo>
                  <a:pt x="2227" y="1310"/>
                </a:lnTo>
                <a:lnTo>
                  <a:pt x="2221" y="1310"/>
                </a:lnTo>
                <a:lnTo>
                  <a:pt x="2215" y="1312"/>
                </a:lnTo>
                <a:lnTo>
                  <a:pt x="2211" y="1315"/>
                </a:lnTo>
                <a:lnTo>
                  <a:pt x="2199" y="1323"/>
                </a:lnTo>
                <a:lnTo>
                  <a:pt x="2183" y="1330"/>
                </a:lnTo>
                <a:lnTo>
                  <a:pt x="2160" y="1333"/>
                </a:lnTo>
                <a:lnTo>
                  <a:pt x="2160" y="1333"/>
                </a:lnTo>
                <a:lnTo>
                  <a:pt x="2134" y="1333"/>
                </a:lnTo>
                <a:lnTo>
                  <a:pt x="2105" y="1326"/>
                </a:lnTo>
                <a:lnTo>
                  <a:pt x="2040" y="1300"/>
                </a:lnTo>
                <a:lnTo>
                  <a:pt x="1901" y="1242"/>
                </a:lnTo>
                <a:lnTo>
                  <a:pt x="1795" y="1251"/>
                </a:lnTo>
                <a:lnTo>
                  <a:pt x="1789" y="1242"/>
                </a:lnTo>
                <a:lnTo>
                  <a:pt x="1781" y="1220"/>
                </a:lnTo>
                <a:lnTo>
                  <a:pt x="1765" y="1170"/>
                </a:lnTo>
                <a:lnTo>
                  <a:pt x="1750" y="1123"/>
                </a:lnTo>
                <a:lnTo>
                  <a:pt x="1749" y="1113"/>
                </a:lnTo>
                <a:lnTo>
                  <a:pt x="1743" y="1115"/>
                </a:lnTo>
                <a:lnTo>
                  <a:pt x="1733" y="1115"/>
                </a:lnTo>
                <a:lnTo>
                  <a:pt x="1711" y="1119"/>
                </a:lnTo>
                <a:lnTo>
                  <a:pt x="1691" y="1122"/>
                </a:lnTo>
                <a:lnTo>
                  <a:pt x="1687" y="1122"/>
                </a:lnTo>
                <a:lnTo>
                  <a:pt x="1663" y="1094"/>
                </a:lnTo>
                <a:lnTo>
                  <a:pt x="1653" y="1064"/>
                </a:lnTo>
                <a:lnTo>
                  <a:pt x="1650" y="1032"/>
                </a:lnTo>
                <a:lnTo>
                  <a:pt x="1656" y="1000"/>
                </a:lnTo>
                <a:lnTo>
                  <a:pt x="1668" y="967"/>
                </a:lnTo>
                <a:lnTo>
                  <a:pt x="1704" y="904"/>
                </a:lnTo>
                <a:lnTo>
                  <a:pt x="1746" y="846"/>
                </a:lnTo>
                <a:lnTo>
                  <a:pt x="1782" y="800"/>
                </a:lnTo>
                <a:lnTo>
                  <a:pt x="1795" y="781"/>
                </a:lnTo>
                <a:lnTo>
                  <a:pt x="1794" y="777"/>
                </a:lnTo>
                <a:lnTo>
                  <a:pt x="1792" y="774"/>
                </a:lnTo>
                <a:lnTo>
                  <a:pt x="1788" y="768"/>
                </a:lnTo>
                <a:lnTo>
                  <a:pt x="1779" y="758"/>
                </a:lnTo>
                <a:lnTo>
                  <a:pt x="1778" y="754"/>
                </a:lnTo>
                <a:lnTo>
                  <a:pt x="1782" y="749"/>
                </a:lnTo>
                <a:lnTo>
                  <a:pt x="1798" y="731"/>
                </a:lnTo>
                <a:lnTo>
                  <a:pt x="1842" y="680"/>
                </a:lnTo>
                <a:lnTo>
                  <a:pt x="1879" y="629"/>
                </a:lnTo>
                <a:lnTo>
                  <a:pt x="1886" y="618"/>
                </a:lnTo>
                <a:lnTo>
                  <a:pt x="1885" y="619"/>
                </a:lnTo>
                <a:lnTo>
                  <a:pt x="1882" y="619"/>
                </a:lnTo>
                <a:lnTo>
                  <a:pt x="1876" y="619"/>
                </a:lnTo>
                <a:lnTo>
                  <a:pt x="1873" y="619"/>
                </a:lnTo>
                <a:lnTo>
                  <a:pt x="1866" y="618"/>
                </a:lnTo>
                <a:lnTo>
                  <a:pt x="1849" y="613"/>
                </a:lnTo>
                <a:lnTo>
                  <a:pt x="1808" y="597"/>
                </a:lnTo>
                <a:lnTo>
                  <a:pt x="1779" y="581"/>
                </a:lnTo>
                <a:lnTo>
                  <a:pt x="1776" y="577"/>
                </a:lnTo>
                <a:lnTo>
                  <a:pt x="1776" y="574"/>
                </a:lnTo>
                <a:lnTo>
                  <a:pt x="1776" y="573"/>
                </a:lnTo>
                <a:lnTo>
                  <a:pt x="1778" y="570"/>
                </a:lnTo>
                <a:lnTo>
                  <a:pt x="1781" y="568"/>
                </a:lnTo>
                <a:lnTo>
                  <a:pt x="1785" y="567"/>
                </a:lnTo>
                <a:lnTo>
                  <a:pt x="1794" y="567"/>
                </a:lnTo>
                <a:lnTo>
                  <a:pt x="1823" y="565"/>
                </a:lnTo>
                <a:lnTo>
                  <a:pt x="1868" y="570"/>
                </a:lnTo>
                <a:lnTo>
                  <a:pt x="1882" y="571"/>
                </a:lnTo>
                <a:lnTo>
                  <a:pt x="1879" y="568"/>
                </a:lnTo>
                <a:lnTo>
                  <a:pt x="1878" y="564"/>
                </a:lnTo>
                <a:lnTo>
                  <a:pt x="1876" y="558"/>
                </a:lnTo>
                <a:lnTo>
                  <a:pt x="1875" y="544"/>
                </a:lnTo>
                <a:lnTo>
                  <a:pt x="1873" y="512"/>
                </a:lnTo>
                <a:lnTo>
                  <a:pt x="1869" y="497"/>
                </a:lnTo>
                <a:lnTo>
                  <a:pt x="1878" y="499"/>
                </a:lnTo>
                <a:lnTo>
                  <a:pt x="1907" y="503"/>
                </a:lnTo>
                <a:lnTo>
                  <a:pt x="1930" y="506"/>
                </a:lnTo>
                <a:lnTo>
                  <a:pt x="1931" y="506"/>
                </a:lnTo>
                <a:lnTo>
                  <a:pt x="1940" y="500"/>
                </a:lnTo>
                <a:lnTo>
                  <a:pt x="1957" y="484"/>
                </a:lnTo>
                <a:lnTo>
                  <a:pt x="1986" y="451"/>
                </a:lnTo>
                <a:lnTo>
                  <a:pt x="2008" y="415"/>
                </a:lnTo>
                <a:lnTo>
                  <a:pt x="2014" y="405"/>
                </a:lnTo>
                <a:lnTo>
                  <a:pt x="2008" y="400"/>
                </a:lnTo>
                <a:lnTo>
                  <a:pt x="1999" y="387"/>
                </a:lnTo>
                <a:lnTo>
                  <a:pt x="1978" y="357"/>
                </a:lnTo>
                <a:lnTo>
                  <a:pt x="1962" y="328"/>
                </a:lnTo>
                <a:lnTo>
                  <a:pt x="1960" y="322"/>
                </a:lnTo>
                <a:lnTo>
                  <a:pt x="1960" y="320"/>
                </a:lnTo>
                <a:lnTo>
                  <a:pt x="1960" y="315"/>
                </a:lnTo>
                <a:lnTo>
                  <a:pt x="1965" y="299"/>
                </a:lnTo>
                <a:lnTo>
                  <a:pt x="1968" y="281"/>
                </a:lnTo>
                <a:lnTo>
                  <a:pt x="1969" y="276"/>
                </a:lnTo>
                <a:lnTo>
                  <a:pt x="1959" y="271"/>
                </a:lnTo>
                <a:lnTo>
                  <a:pt x="1936" y="263"/>
                </a:lnTo>
                <a:lnTo>
                  <a:pt x="1886" y="249"/>
                </a:lnTo>
                <a:lnTo>
                  <a:pt x="1863" y="251"/>
                </a:lnTo>
                <a:lnTo>
                  <a:pt x="1840" y="260"/>
                </a:lnTo>
                <a:lnTo>
                  <a:pt x="1831" y="267"/>
                </a:lnTo>
                <a:lnTo>
                  <a:pt x="1837" y="281"/>
                </a:lnTo>
                <a:lnTo>
                  <a:pt x="1847" y="310"/>
                </a:lnTo>
                <a:lnTo>
                  <a:pt x="1853" y="368"/>
                </a:lnTo>
                <a:lnTo>
                  <a:pt x="1847" y="396"/>
                </a:lnTo>
                <a:lnTo>
                  <a:pt x="1833" y="420"/>
                </a:lnTo>
                <a:lnTo>
                  <a:pt x="1823" y="432"/>
                </a:lnTo>
                <a:lnTo>
                  <a:pt x="1820" y="428"/>
                </a:lnTo>
                <a:lnTo>
                  <a:pt x="1814" y="413"/>
                </a:lnTo>
                <a:lnTo>
                  <a:pt x="1802" y="376"/>
                </a:lnTo>
                <a:lnTo>
                  <a:pt x="1795" y="339"/>
                </a:lnTo>
                <a:lnTo>
                  <a:pt x="1795" y="332"/>
                </a:lnTo>
                <a:lnTo>
                  <a:pt x="1792" y="331"/>
                </a:lnTo>
                <a:lnTo>
                  <a:pt x="1787" y="326"/>
                </a:lnTo>
                <a:lnTo>
                  <a:pt x="1771" y="318"/>
                </a:lnTo>
                <a:lnTo>
                  <a:pt x="1753" y="315"/>
                </a:lnTo>
                <a:lnTo>
                  <a:pt x="1749" y="313"/>
                </a:lnTo>
                <a:lnTo>
                  <a:pt x="1743" y="326"/>
                </a:lnTo>
                <a:lnTo>
                  <a:pt x="1733" y="345"/>
                </a:lnTo>
                <a:lnTo>
                  <a:pt x="1726" y="358"/>
                </a:lnTo>
                <a:lnTo>
                  <a:pt x="1724" y="360"/>
                </a:lnTo>
                <a:lnTo>
                  <a:pt x="1721" y="361"/>
                </a:lnTo>
                <a:lnTo>
                  <a:pt x="1720" y="361"/>
                </a:lnTo>
                <a:lnTo>
                  <a:pt x="1718" y="360"/>
                </a:lnTo>
                <a:lnTo>
                  <a:pt x="1717" y="358"/>
                </a:lnTo>
                <a:lnTo>
                  <a:pt x="1716" y="354"/>
                </a:lnTo>
                <a:lnTo>
                  <a:pt x="1714" y="349"/>
                </a:lnTo>
                <a:lnTo>
                  <a:pt x="1713" y="339"/>
                </a:lnTo>
                <a:lnTo>
                  <a:pt x="1713" y="303"/>
                </a:lnTo>
                <a:lnTo>
                  <a:pt x="1713" y="303"/>
                </a:lnTo>
                <a:lnTo>
                  <a:pt x="1710" y="302"/>
                </a:lnTo>
                <a:lnTo>
                  <a:pt x="1702" y="297"/>
                </a:lnTo>
                <a:lnTo>
                  <a:pt x="1694" y="293"/>
                </a:lnTo>
                <a:lnTo>
                  <a:pt x="1673" y="284"/>
                </a:lnTo>
                <a:lnTo>
                  <a:pt x="1659" y="276"/>
                </a:lnTo>
                <a:lnTo>
                  <a:pt x="1658" y="268"/>
                </a:lnTo>
                <a:lnTo>
                  <a:pt x="1658" y="245"/>
                </a:lnTo>
                <a:lnTo>
                  <a:pt x="1647" y="190"/>
                </a:lnTo>
                <a:lnTo>
                  <a:pt x="1634" y="165"/>
                </a:lnTo>
                <a:lnTo>
                  <a:pt x="1616" y="147"/>
                </a:lnTo>
                <a:lnTo>
                  <a:pt x="1604" y="139"/>
                </a:lnTo>
                <a:lnTo>
                  <a:pt x="1575" y="134"/>
                </a:lnTo>
                <a:lnTo>
                  <a:pt x="1555" y="134"/>
                </a:lnTo>
                <a:lnTo>
                  <a:pt x="1547" y="138"/>
                </a:lnTo>
                <a:lnTo>
                  <a:pt x="1542" y="142"/>
                </a:lnTo>
                <a:lnTo>
                  <a:pt x="1536" y="148"/>
                </a:lnTo>
                <a:lnTo>
                  <a:pt x="1533" y="154"/>
                </a:lnTo>
                <a:lnTo>
                  <a:pt x="1532" y="163"/>
                </a:lnTo>
                <a:lnTo>
                  <a:pt x="1530" y="180"/>
                </a:lnTo>
                <a:lnTo>
                  <a:pt x="1532" y="200"/>
                </a:lnTo>
                <a:lnTo>
                  <a:pt x="1542" y="241"/>
                </a:lnTo>
                <a:lnTo>
                  <a:pt x="1553" y="273"/>
                </a:lnTo>
                <a:lnTo>
                  <a:pt x="1559" y="284"/>
                </a:lnTo>
                <a:lnTo>
                  <a:pt x="1568" y="289"/>
                </a:lnTo>
                <a:lnTo>
                  <a:pt x="1582" y="299"/>
                </a:lnTo>
                <a:lnTo>
                  <a:pt x="1594" y="310"/>
                </a:lnTo>
                <a:lnTo>
                  <a:pt x="1603" y="325"/>
                </a:lnTo>
                <a:lnTo>
                  <a:pt x="1618" y="360"/>
                </a:lnTo>
                <a:lnTo>
                  <a:pt x="1624" y="368"/>
                </a:lnTo>
                <a:lnTo>
                  <a:pt x="1621" y="380"/>
                </a:lnTo>
                <a:lnTo>
                  <a:pt x="1617" y="402"/>
                </a:lnTo>
                <a:lnTo>
                  <a:pt x="1603" y="447"/>
                </a:lnTo>
                <a:lnTo>
                  <a:pt x="1589" y="487"/>
                </a:lnTo>
                <a:lnTo>
                  <a:pt x="1588" y="496"/>
                </a:lnTo>
                <a:lnTo>
                  <a:pt x="1581" y="480"/>
                </a:lnTo>
                <a:lnTo>
                  <a:pt x="1560" y="429"/>
                </a:lnTo>
                <a:lnTo>
                  <a:pt x="1546" y="391"/>
                </a:lnTo>
                <a:lnTo>
                  <a:pt x="1546" y="389"/>
                </a:lnTo>
                <a:lnTo>
                  <a:pt x="1539" y="390"/>
                </a:lnTo>
                <a:lnTo>
                  <a:pt x="1517" y="394"/>
                </a:lnTo>
                <a:lnTo>
                  <a:pt x="1500" y="397"/>
                </a:lnTo>
                <a:lnTo>
                  <a:pt x="1500" y="397"/>
                </a:lnTo>
                <a:lnTo>
                  <a:pt x="1500" y="400"/>
                </a:lnTo>
                <a:lnTo>
                  <a:pt x="1500" y="406"/>
                </a:lnTo>
                <a:lnTo>
                  <a:pt x="1501" y="419"/>
                </a:lnTo>
                <a:lnTo>
                  <a:pt x="1503" y="431"/>
                </a:lnTo>
                <a:lnTo>
                  <a:pt x="1504" y="432"/>
                </a:lnTo>
                <a:lnTo>
                  <a:pt x="1489" y="436"/>
                </a:lnTo>
                <a:lnTo>
                  <a:pt x="1471" y="439"/>
                </a:lnTo>
                <a:lnTo>
                  <a:pt x="1427" y="441"/>
                </a:lnTo>
                <a:lnTo>
                  <a:pt x="1382" y="436"/>
                </a:lnTo>
                <a:lnTo>
                  <a:pt x="1343" y="422"/>
                </a:lnTo>
                <a:lnTo>
                  <a:pt x="1329" y="412"/>
                </a:lnTo>
                <a:lnTo>
                  <a:pt x="1320" y="399"/>
                </a:lnTo>
                <a:lnTo>
                  <a:pt x="1319" y="383"/>
                </a:lnTo>
                <a:lnTo>
                  <a:pt x="1323" y="363"/>
                </a:lnTo>
                <a:lnTo>
                  <a:pt x="1324" y="363"/>
                </a:lnTo>
                <a:lnTo>
                  <a:pt x="1320" y="363"/>
                </a:lnTo>
                <a:lnTo>
                  <a:pt x="1313" y="363"/>
                </a:lnTo>
                <a:lnTo>
                  <a:pt x="1292" y="360"/>
                </a:lnTo>
                <a:lnTo>
                  <a:pt x="1245" y="360"/>
                </a:lnTo>
                <a:lnTo>
                  <a:pt x="1220" y="384"/>
                </a:lnTo>
                <a:lnTo>
                  <a:pt x="1220" y="389"/>
                </a:lnTo>
                <a:lnTo>
                  <a:pt x="1224" y="390"/>
                </a:lnTo>
                <a:lnTo>
                  <a:pt x="1230" y="391"/>
                </a:lnTo>
                <a:lnTo>
                  <a:pt x="1236" y="393"/>
                </a:lnTo>
                <a:lnTo>
                  <a:pt x="1253" y="393"/>
                </a:lnTo>
                <a:lnTo>
                  <a:pt x="1282" y="393"/>
                </a:lnTo>
                <a:lnTo>
                  <a:pt x="1290" y="397"/>
                </a:lnTo>
                <a:lnTo>
                  <a:pt x="1288" y="402"/>
                </a:lnTo>
                <a:lnTo>
                  <a:pt x="1284" y="406"/>
                </a:lnTo>
                <a:lnTo>
                  <a:pt x="1278" y="412"/>
                </a:lnTo>
                <a:lnTo>
                  <a:pt x="1259" y="425"/>
                </a:lnTo>
                <a:lnTo>
                  <a:pt x="1219" y="449"/>
                </a:lnTo>
                <a:lnTo>
                  <a:pt x="1203" y="454"/>
                </a:lnTo>
                <a:lnTo>
                  <a:pt x="1201" y="452"/>
                </a:lnTo>
                <a:lnTo>
                  <a:pt x="1195" y="445"/>
                </a:lnTo>
                <a:lnTo>
                  <a:pt x="1184" y="426"/>
                </a:lnTo>
                <a:lnTo>
                  <a:pt x="1172" y="412"/>
                </a:lnTo>
                <a:lnTo>
                  <a:pt x="1172" y="409"/>
                </a:lnTo>
                <a:lnTo>
                  <a:pt x="1169" y="409"/>
                </a:lnTo>
                <a:lnTo>
                  <a:pt x="1162" y="407"/>
                </a:lnTo>
                <a:lnTo>
                  <a:pt x="1143" y="407"/>
                </a:lnTo>
                <a:lnTo>
                  <a:pt x="1095" y="407"/>
                </a:lnTo>
                <a:lnTo>
                  <a:pt x="1069" y="406"/>
                </a:lnTo>
                <a:lnTo>
                  <a:pt x="1064" y="403"/>
                </a:lnTo>
                <a:lnTo>
                  <a:pt x="1058" y="402"/>
                </a:lnTo>
                <a:lnTo>
                  <a:pt x="1045" y="396"/>
                </a:lnTo>
                <a:lnTo>
                  <a:pt x="1020" y="386"/>
                </a:lnTo>
                <a:lnTo>
                  <a:pt x="1011" y="381"/>
                </a:lnTo>
                <a:lnTo>
                  <a:pt x="1010" y="380"/>
                </a:lnTo>
                <a:lnTo>
                  <a:pt x="1011" y="378"/>
                </a:lnTo>
                <a:lnTo>
                  <a:pt x="1013" y="378"/>
                </a:lnTo>
                <a:lnTo>
                  <a:pt x="1017" y="378"/>
                </a:lnTo>
                <a:lnTo>
                  <a:pt x="1027" y="377"/>
                </a:lnTo>
                <a:lnTo>
                  <a:pt x="1050" y="376"/>
                </a:lnTo>
                <a:lnTo>
                  <a:pt x="1061" y="374"/>
                </a:lnTo>
                <a:lnTo>
                  <a:pt x="1065" y="373"/>
                </a:lnTo>
                <a:lnTo>
                  <a:pt x="1068" y="370"/>
                </a:lnTo>
                <a:lnTo>
                  <a:pt x="1068" y="367"/>
                </a:lnTo>
                <a:lnTo>
                  <a:pt x="1068" y="365"/>
                </a:lnTo>
                <a:lnTo>
                  <a:pt x="1068" y="364"/>
                </a:lnTo>
                <a:lnTo>
                  <a:pt x="1066" y="361"/>
                </a:lnTo>
                <a:lnTo>
                  <a:pt x="1062" y="357"/>
                </a:lnTo>
                <a:lnTo>
                  <a:pt x="1056" y="351"/>
                </a:lnTo>
                <a:lnTo>
                  <a:pt x="1035" y="336"/>
                </a:lnTo>
                <a:lnTo>
                  <a:pt x="1001" y="318"/>
                </a:lnTo>
                <a:lnTo>
                  <a:pt x="968" y="299"/>
                </a:lnTo>
                <a:lnTo>
                  <a:pt x="965" y="296"/>
                </a:lnTo>
                <a:lnTo>
                  <a:pt x="958" y="287"/>
                </a:lnTo>
                <a:lnTo>
                  <a:pt x="933" y="264"/>
                </a:lnTo>
                <a:lnTo>
                  <a:pt x="875" y="212"/>
                </a:lnTo>
                <a:lnTo>
                  <a:pt x="856" y="193"/>
                </a:lnTo>
                <a:lnTo>
                  <a:pt x="853" y="194"/>
                </a:lnTo>
                <a:lnTo>
                  <a:pt x="851" y="196"/>
                </a:lnTo>
                <a:lnTo>
                  <a:pt x="846" y="199"/>
                </a:lnTo>
                <a:lnTo>
                  <a:pt x="840" y="207"/>
                </a:lnTo>
                <a:lnTo>
                  <a:pt x="826" y="225"/>
                </a:lnTo>
                <a:lnTo>
                  <a:pt x="819" y="229"/>
                </a:lnTo>
                <a:lnTo>
                  <a:pt x="822" y="210"/>
                </a:lnTo>
                <a:lnTo>
                  <a:pt x="824" y="181"/>
                </a:lnTo>
                <a:lnTo>
                  <a:pt x="823" y="173"/>
                </a:lnTo>
                <a:lnTo>
                  <a:pt x="820" y="167"/>
                </a:lnTo>
                <a:lnTo>
                  <a:pt x="819" y="165"/>
                </a:lnTo>
                <a:lnTo>
                  <a:pt x="816" y="164"/>
                </a:lnTo>
                <a:lnTo>
                  <a:pt x="813" y="163"/>
                </a:lnTo>
                <a:lnTo>
                  <a:pt x="810" y="163"/>
                </a:lnTo>
                <a:lnTo>
                  <a:pt x="807" y="164"/>
                </a:lnTo>
                <a:lnTo>
                  <a:pt x="804" y="165"/>
                </a:lnTo>
                <a:lnTo>
                  <a:pt x="797" y="168"/>
                </a:lnTo>
                <a:lnTo>
                  <a:pt x="788" y="176"/>
                </a:lnTo>
                <a:lnTo>
                  <a:pt x="771" y="193"/>
                </a:lnTo>
                <a:lnTo>
                  <a:pt x="771" y="193"/>
                </a:lnTo>
                <a:lnTo>
                  <a:pt x="771" y="177"/>
                </a:lnTo>
                <a:lnTo>
                  <a:pt x="771" y="145"/>
                </a:lnTo>
                <a:lnTo>
                  <a:pt x="769" y="122"/>
                </a:lnTo>
                <a:lnTo>
                  <a:pt x="768" y="112"/>
                </a:lnTo>
                <a:lnTo>
                  <a:pt x="764" y="106"/>
                </a:lnTo>
                <a:lnTo>
                  <a:pt x="758" y="102"/>
                </a:lnTo>
                <a:lnTo>
                  <a:pt x="751" y="100"/>
                </a:lnTo>
                <a:lnTo>
                  <a:pt x="740" y="103"/>
                </a:lnTo>
                <a:lnTo>
                  <a:pt x="727" y="109"/>
                </a:lnTo>
                <a:lnTo>
                  <a:pt x="711" y="119"/>
                </a:lnTo>
                <a:lnTo>
                  <a:pt x="711" y="119"/>
                </a:lnTo>
                <a:lnTo>
                  <a:pt x="703" y="115"/>
                </a:lnTo>
                <a:lnTo>
                  <a:pt x="690" y="110"/>
                </a:lnTo>
                <a:lnTo>
                  <a:pt x="652" y="103"/>
                </a:lnTo>
                <a:lnTo>
                  <a:pt x="552" y="89"/>
                </a:lnTo>
                <a:lnTo>
                  <a:pt x="483" y="83"/>
                </a:lnTo>
                <a:lnTo>
                  <a:pt x="477" y="79"/>
                </a:lnTo>
                <a:lnTo>
                  <a:pt x="467" y="65"/>
                </a:lnTo>
                <a:lnTo>
                  <a:pt x="448" y="34"/>
                </a:lnTo>
                <a:lnTo>
                  <a:pt x="432" y="6"/>
                </a:lnTo>
                <a:lnTo>
                  <a:pt x="429" y="0"/>
                </a:lnTo>
                <a:lnTo>
                  <a:pt x="420" y="13"/>
                </a:lnTo>
                <a:lnTo>
                  <a:pt x="361" y="94"/>
                </a:lnTo>
                <a:lnTo>
                  <a:pt x="161" y="373"/>
                </a:lnTo>
                <a:lnTo>
                  <a:pt x="7" y="584"/>
                </a:lnTo>
                <a:lnTo>
                  <a:pt x="0" y="596"/>
                </a:lnTo>
                <a:lnTo>
                  <a:pt x="19" y="602"/>
                </a:lnTo>
                <a:lnTo>
                  <a:pt x="48" y="612"/>
                </a:lnTo>
                <a:lnTo>
                  <a:pt x="67" y="626"/>
                </a:lnTo>
                <a:lnTo>
                  <a:pt x="75" y="645"/>
                </a:lnTo>
                <a:lnTo>
                  <a:pt x="77" y="670"/>
                </a:lnTo>
                <a:lnTo>
                  <a:pt x="73" y="703"/>
                </a:lnTo>
                <a:lnTo>
                  <a:pt x="70" y="722"/>
                </a:lnTo>
                <a:lnTo>
                  <a:pt x="84" y="723"/>
                </a:lnTo>
                <a:lnTo>
                  <a:pt x="130" y="728"/>
                </a:lnTo>
                <a:lnTo>
                  <a:pt x="165" y="729"/>
                </a:lnTo>
                <a:lnTo>
                  <a:pt x="168" y="729"/>
                </a:lnTo>
                <a:lnTo>
                  <a:pt x="168" y="736"/>
                </a:lnTo>
                <a:lnTo>
                  <a:pt x="170" y="777"/>
                </a:lnTo>
                <a:lnTo>
                  <a:pt x="174" y="917"/>
                </a:lnTo>
                <a:lnTo>
                  <a:pt x="177" y="1023"/>
                </a:lnTo>
                <a:lnTo>
                  <a:pt x="178" y="1029"/>
                </a:lnTo>
                <a:lnTo>
                  <a:pt x="194" y="1046"/>
                </a:lnTo>
                <a:lnTo>
                  <a:pt x="216" y="1078"/>
                </a:lnTo>
                <a:lnTo>
                  <a:pt x="223" y="1107"/>
                </a:lnTo>
                <a:lnTo>
                  <a:pt x="220" y="1136"/>
                </a:lnTo>
                <a:lnTo>
                  <a:pt x="209" y="1170"/>
                </a:lnTo>
                <a:lnTo>
                  <a:pt x="188" y="1207"/>
                </a:lnTo>
                <a:lnTo>
                  <a:pt x="177" y="1229"/>
                </a:lnTo>
                <a:lnTo>
                  <a:pt x="175" y="1236"/>
                </a:lnTo>
                <a:lnTo>
                  <a:pt x="174" y="1254"/>
                </a:lnTo>
                <a:lnTo>
                  <a:pt x="174" y="1268"/>
                </a:lnTo>
                <a:lnTo>
                  <a:pt x="174" y="1268"/>
                </a:lnTo>
                <a:lnTo>
                  <a:pt x="174" y="1274"/>
                </a:lnTo>
                <a:lnTo>
                  <a:pt x="173" y="1287"/>
                </a:lnTo>
                <a:lnTo>
                  <a:pt x="173" y="1297"/>
                </a:lnTo>
                <a:lnTo>
                  <a:pt x="174" y="1297"/>
                </a:lnTo>
                <a:lnTo>
                  <a:pt x="174" y="1310"/>
                </a:lnTo>
                <a:lnTo>
                  <a:pt x="174" y="1330"/>
                </a:lnTo>
                <a:lnTo>
                  <a:pt x="167" y="1364"/>
                </a:lnTo>
                <a:lnTo>
                  <a:pt x="155" y="1404"/>
                </a:lnTo>
                <a:lnTo>
                  <a:pt x="154" y="1416"/>
                </a:lnTo>
                <a:lnTo>
                  <a:pt x="154" y="1419"/>
                </a:lnTo>
                <a:lnTo>
                  <a:pt x="154" y="1422"/>
                </a:lnTo>
                <a:lnTo>
                  <a:pt x="157" y="1425"/>
                </a:lnTo>
                <a:lnTo>
                  <a:pt x="159" y="1432"/>
                </a:lnTo>
                <a:lnTo>
                  <a:pt x="168" y="1442"/>
                </a:lnTo>
                <a:lnTo>
                  <a:pt x="173" y="1443"/>
                </a:lnTo>
                <a:lnTo>
                  <a:pt x="170" y="1446"/>
                </a:lnTo>
                <a:lnTo>
                  <a:pt x="165" y="1452"/>
                </a:lnTo>
                <a:lnTo>
                  <a:pt x="157" y="1468"/>
                </a:lnTo>
                <a:lnTo>
                  <a:pt x="154" y="1485"/>
                </a:lnTo>
                <a:lnTo>
                  <a:pt x="154" y="1490"/>
                </a:lnTo>
                <a:lnTo>
                  <a:pt x="161" y="1496"/>
                </a:lnTo>
                <a:lnTo>
                  <a:pt x="167" y="1499"/>
                </a:lnTo>
                <a:lnTo>
                  <a:pt x="186" y="1506"/>
                </a:lnTo>
                <a:lnTo>
                  <a:pt x="226" y="1525"/>
                </a:lnTo>
                <a:lnTo>
                  <a:pt x="249" y="1538"/>
                </a:lnTo>
                <a:lnTo>
                  <a:pt x="254" y="1545"/>
                </a:lnTo>
                <a:lnTo>
                  <a:pt x="261" y="1556"/>
                </a:lnTo>
                <a:lnTo>
                  <a:pt x="278" y="1591"/>
                </a:lnTo>
                <a:lnTo>
                  <a:pt x="320" y="1680"/>
                </a:lnTo>
                <a:lnTo>
                  <a:pt x="361" y="1741"/>
                </a:lnTo>
                <a:lnTo>
                  <a:pt x="377" y="1745"/>
                </a:lnTo>
                <a:lnTo>
                  <a:pt x="496" y="1765"/>
                </a:lnTo>
                <a:lnTo>
                  <a:pt x="900" y="1835"/>
                </a:lnTo>
                <a:lnTo>
                  <a:pt x="1208" y="1888"/>
                </a:lnTo>
                <a:lnTo>
                  <a:pt x="1226" y="1891"/>
                </a:lnTo>
                <a:lnTo>
                  <a:pt x="1234" y="1891"/>
                </a:lnTo>
                <a:lnTo>
                  <a:pt x="1300" y="1890"/>
                </a:lnTo>
                <a:lnTo>
                  <a:pt x="1521" y="1884"/>
                </a:lnTo>
                <a:lnTo>
                  <a:pt x="1691" y="1880"/>
                </a:lnTo>
                <a:lnTo>
                  <a:pt x="1701" y="1878"/>
                </a:lnTo>
                <a:lnTo>
                  <a:pt x="1701" y="1878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48400" y="2063880"/>
            <a:ext cx="155520" cy="123840"/>
          </a:xfrm>
          <a:custGeom>
            <a:avLst/>
            <a:gdLst/>
            <a:ahLst/>
            <a:rect l="l" t="t" r="r" b="b"/>
            <a:pathLst>
              <a:path w="446" h="380">
                <a:moveTo>
                  <a:pt x="64" y="292"/>
                </a:moveTo>
                <a:lnTo>
                  <a:pt x="53" y="292"/>
                </a:lnTo>
                <a:lnTo>
                  <a:pt x="38" y="289"/>
                </a:lnTo>
                <a:lnTo>
                  <a:pt x="23" y="283"/>
                </a:lnTo>
                <a:lnTo>
                  <a:pt x="11" y="274"/>
                </a:lnTo>
                <a:lnTo>
                  <a:pt x="4" y="263"/>
                </a:lnTo>
                <a:lnTo>
                  <a:pt x="0" y="247"/>
                </a:lnTo>
                <a:lnTo>
                  <a:pt x="0" y="238"/>
                </a:lnTo>
                <a:lnTo>
                  <a:pt x="1" y="238"/>
                </a:lnTo>
                <a:lnTo>
                  <a:pt x="4" y="238"/>
                </a:lnTo>
                <a:lnTo>
                  <a:pt x="13" y="234"/>
                </a:lnTo>
                <a:lnTo>
                  <a:pt x="30" y="225"/>
                </a:lnTo>
                <a:lnTo>
                  <a:pt x="45" y="219"/>
                </a:lnTo>
                <a:lnTo>
                  <a:pt x="49" y="222"/>
                </a:lnTo>
                <a:lnTo>
                  <a:pt x="61" y="226"/>
                </a:lnTo>
                <a:lnTo>
                  <a:pt x="90" y="232"/>
                </a:lnTo>
                <a:lnTo>
                  <a:pt x="116" y="231"/>
                </a:lnTo>
                <a:lnTo>
                  <a:pt x="122" y="228"/>
                </a:lnTo>
                <a:lnTo>
                  <a:pt x="116" y="222"/>
                </a:lnTo>
                <a:lnTo>
                  <a:pt x="107" y="216"/>
                </a:lnTo>
                <a:lnTo>
                  <a:pt x="88" y="206"/>
                </a:lnTo>
                <a:lnTo>
                  <a:pt x="66" y="199"/>
                </a:lnTo>
                <a:lnTo>
                  <a:pt x="19" y="187"/>
                </a:lnTo>
                <a:lnTo>
                  <a:pt x="0" y="181"/>
                </a:lnTo>
                <a:lnTo>
                  <a:pt x="0" y="177"/>
                </a:lnTo>
                <a:lnTo>
                  <a:pt x="1" y="173"/>
                </a:lnTo>
                <a:lnTo>
                  <a:pt x="6" y="164"/>
                </a:lnTo>
                <a:lnTo>
                  <a:pt x="11" y="155"/>
                </a:lnTo>
                <a:lnTo>
                  <a:pt x="24" y="141"/>
                </a:lnTo>
                <a:lnTo>
                  <a:pt x="30" y="135"/>
                </a:lnTo>
                <a:lnTo>
                  <a:pt x="30" y="128"/>
                </a:lnTo>
                <a:lnTo>
                  <a:pt x="39" y="99"/>
                </a:lnTo>
                <a:lnTo>
                  <a:pt x="74" y="26"/>
                </a:lnTo>
                <a:lnTo>
                  <a:pt x="87" y="12"/>
                </a:lnTo>
                <a:lnTo>
                  <a:pt x="101" y="3"/>
                </a:lnTo>
                <a:lnTo>
                  <a:pt x="117" y="0"/>
                </a:lnTo>
                <a:lnTo>
                  <a:pt x="135" y="6"/>
                </a:lnTo>
                <a:lnTo>
                  <a:pt x="152" y="19"/>
                </a:lnTo>
                <a:lnTo>
                  <a:pt x="153" y="19"/>
                </a:lnTo>
                <a:lnTo>
                  <a:pt x="152" y="29"/>
                </a:lnTo>
                <a:lnTo>
                  <a:pt x="148" y="44"/>
                </a:lnTo>
                <a:lnTo>
                  <a:pt x="145" y="51"/>
                </a:lnTo>
                <a:lnTo>
                  <a:pt x="143" y="52"/>
                </a:lnTo>
                <a:lnTo>
                  <a:pt x="145" y="54"/>
                </a:lnTo>
                <a:lnTo>
                  <a:pt x="148" y="52"/>
                </a:lnTo>
                <a:lnTo>
                  <a:pt x="151" y="52"/>
                </a:lnTo>
                <a:lnTo>
                  <a:pt x="158" y="51"/>
                </a:lnTo>
                <a:lnTo>
                  <a:pt x="182" y="45"/>
                </a:lnTo>
                <a:lnTo>
                  <a:pt x="193" y="42"/>
                </a:lnTo>
                <a:lnTo>
                  <a:pt x="194" y="47"/>
                </a:lnTo>
                <a:lnTo>
                  <a:pt x="194" y="50"/>
                </a:lnTo>
                <a:lnTo>
                  <a:pt x="194" y="55"/>
                </a:lnTo>
                <a:lnTo>
                  <a:pt x="193" y="68"/>
                </a:lnTo>
                <a:lnTo>
                  <a:pt x="193" y="81"/>
                </a:lnTo>
                <a:lnTo>
                  <a:pt x="194" y="93"/>
                </a:lnTo>
                <a:lnTo>
                  <a:pt x="198" y="99"/>
                </a:lnTo>
                <a:lnTo>
                  <a:pt x="200" y="99"/>
                </a:lnTo>
                <a:lnTo>
                  <a:pt x="203" y="100"/>
                </a:lnTo>
                <a:lnTo>
                  <a:pt x="207" y="99"/>
                </a:lnTo>
                <a:lnTo>
                  <a:pt x="208" y="95"/>
                </a:lnTo>
                <a:lnTo>
                  <a:pt x="211" y="90"/>
                </a:lnTo>
                <a:lnTo>
                  <a:pt x="213" y="84"/>
                </a:lnTo>
                <a:lnTo>
                  <a:pt x="216" y="70"/>
                </a:lnTo>
                <a:lnTo>
                  <a:pt x="219" y="58"/>
                </a:lnTo>
                <a:lnTo>
                  <a:pt x="222" y="51"/>
                </a:lnTo>
                <a:lnTo>
                  <a:pt x="224" y="50"/>
                </a:lnTo>
                <a:lnTo>
                  <a:pt x="232" y="52"/>
                </a:lnTo>
                <a:lnTo>
                  <a:pt x="242" y="57"/>
                </a:lnTo>
                <a:lnTo>
                  <a:pt x="252" y="63"/>
                </a:lnTo>
                <a:lnTo>
                  <a:pt x="255" y="63"/>
                </a:lnTo>
                <a:lnTo>
                  <a:pt x="255" y="70"/>
                </a:lnTo>
                <a:lnTo>
                  <a:pt x="255" y="84"/>
                </a:lnTo>
                <a:lnTo>
                  <a:pt x="258" y="113"/>
                </a:lnTo>
                <a:lnTo>
                  <a:pt x="264" y="138"/>
                </a:lnTo>
                <a:lnTo>
                  <a:pt x="266" y="142"/>
                </a:lnTo>
                <a:lnTo>
                  <a:pt x="271" y="138"/>
                </a:lnTo>
                <a:lnTo>
                  <a:pt x="274" y="131"/>
                </a:lnTo>
                <a:lnTo>
                  <a:pt x="277" y="123"/>
                </a:lnTo>
                <a:lnTo>
                  <a:pt x="279" y="106"/>
                </a:lnTo>
                <a:lnTo>
                  <a:pt x="279" y="87"/>
                </a:lnTo>
                <a:lnTo>
                  <a:pt x="279" y="51"/>
                </a:lnTo>
                <a:lnTo>
                  <a:pt x="279" y="42"/>
                </a:lnTo>
                <a:lnTo>
                  <a:pt x="288" y="38"/>
                </a:lnTo>
                <a:lnTo>
                  <a:pt x="306" y="29"/>
                </a:lnTo>
                <a:lnTo>
                  <a:pt x="342" y="15"/>
                </a:lnTo>
                <a:lnTo>
                  <a:pt x="359" y="15"/>
                </a:lnTo>
                <a:lnTo>
                  <a:pt x="375" y="21"/>
                </a:lnTo>
                <a:lnTo>
                  <a:pt x="382" y="25"/>
                </a:lnTo>
                <a:lnTo>
                  <a:pt x="374" y="37"/>
                </a:lnTo>
                <a:lnTo>
                  <a:pt x="366" y="50"/>
                </a:lnTo>
                <a:lnTo>
                  <a:pt x="355" y="80"/>
                </a:lnTo>
                <a:lnTo>
                  <a:pt x="348" y="116"/>
                </a:lnTo>
                <a:lnTo>
                  <a:pt x="348" y="189"/>
                </a:lnTo>
                <a:lnTo>
                  <a:pt x="355" y="219"/>
                </a:lnTo>
                <a:lnTo>
                  <a:pt x="358" y="226"/>
                </a:lnTo>
                <a:lnTo>
                  <a:pt x="364" y="232"/>
                </a:lnTo>
                <a:lnTo>
                  <a:pt x="371" y="239"/>
                </a:lnTo>
                <a:lnTo>
                  <a:pt x="388" y="250"/>
                </a:lnTo>
                <a:lnTo>
                  <a:pt x="426" y="270"/>
                </a:lnTo>
                <a:lnTo>
                  <a:pt x="446" y="283"/>
                </a:lnTo>
                <a:lnTo>
                  <a:pt x="445" y="286"/>
                </a:lnTo>
                <a:lnTo>
                  <a:pt x="445" y="292"/>
                </a:lnTo>
                <a:lnTo>
                  <a:pt x="440" y="305"/>
                </a:lnTo>
                <a:lnTo>
                  <a:pt x="437" y="318"/>
                </a:lnTo>
                <a:lnTo>
                  <a:pt x="437" y="319"/>
                </a:lnTo>
                <a:lnTo>
                  <a:pt x="435" y="319"/>
                </a:lnTo>
                <a:lnTo>
                  <a:pt x="427" y="319"/>
                </a:lnTo>
                <a:lnTo>
                  <a:pt x="411" y="319"/>
                </a:lnTo>
                <a:lnTo>
                  <a:pt x="395" y="319"/>
                </a:lnTo>
                <a:lnTo>
                  <a:pt x="394" y="319"/>
                </a:lnTo>
                <a:lnTo>
                  <a:pt x="400" y="326"/>
                </a:lnTo>
                <a:lnTo>
                  <a:pt x="408" y="338"/>
                </a:lnTo>
                <a:lnTo>
                  <a:pt x="411" y="348"/>
                </a:lnTo>
                <a:lnTo>
                  <a:pt x="413" y="357"/>
                </a:lnTo>
                <a:lnTo>
                  <a:pt x="411" y="364"/>
                </a:lnTo>
                <a:lnTo>
                  <a:pt x="413" y="373"/>
                </a:lnTo>
                <a:lnTo>
                  <a:pt x="416" y="377"/>
                </a:lnTo>
                <a:lnTo>
                  <a:pt x="413" y="379"/>
                </a:lnTo>
                <a:lnTo>
                  <a:pt x="410" y="379"/>
                </a:lnTo>
                <a:lnTo>
                  <a:pt x="401" y="377"/>
                </a:lnTo>
                <a:lnTo>
                  <a:pt x="379" y="376"/>
                </a:lnTo>
                <a:lnTo>
                  <a:pt x="362" y="373"/>
                </a:lnTo>
                <a:lnTo>
                  <a:pt x="359" y="373"/>
                </a:lnTo>
                <a:lnTo>
                  <a:pt x="356" y="371"/>
                </a:lnTo>
                <a:lnTo>
                  <a:pt x="353" y="368"/>
                </a:lnTo>
                <a:lnTo>
                  <a:pt x="348" y="363"/>
                </a:lnTo>
                <a:lnTo>
                  <a:pt x="336" y="347"/>
                </a:lnTo>
                <a:lnTo>
                  <a:pt x="330" y="338"/>
                </a:lnTo>
                <a:lnTo>
                  <a:pt x="324" y="336"/>
                </a:lnTo>
                <a:lnTo>
                  <a:pt x="320" y="335"/>
                </a:lnTo>
                <a:lnTo>
                  <a:pt x="313" y="335"/>
                </a:lnTo>
                <a:lnTo>
                  <a:pt x="306" y="335"/>
                </a:lnTo>
                <a:lnTo>
                  <a:pt x="288" y="339"/>
                </a:lnTo>
                <a:lnTo>
                  <a:pt x="248" y="354"/>
                </a:lnTo>
                <a:lnTo>
                  <a:pt x="153" y="380"/>
                </a:lnTo>
                <a:lnTo>
                  <a:pt x="94" y="365"/>
                </a:lnTo>
                <a:lnTo>
                  <a:pt x="94" y="361"/>
                </a:lnTo>
                <a:lnTo>
                  <a:pt x="94" y="355"/>
                </a:lnTo>
                <a:lnTo>
                  <a:pt x="94" y="350"/>
                </a:lnTo>
                <a:lnTo>
                  <a:pt x="88" y="336"/>
                </a:lnTo>
                <a:lnTo>
                  <a:pt x="81" y="322"/>
                </a:lnTo>
                <a:lnTo>
                  <a:pt x="65" y="297"/>
                </a:lnTo>
                <a:lnTo>
                  <a:pt x="64" y="292"/>
                </a:lnTo>
                <a:lnTo>
                  <a:pt x="64" y="29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03920" y="2160720"/>
            <a:ext cx="52560" cy="27000"/>
          </a:xfrm>
          <a:custGeom>
            <a:avLst/>
            <a:gdLst/>
            <a:ahLst/>
            <a:rect l="l" t="t" r="r" b="b"/>
            <a:pathLst>
              <a:path w="154" h="89">
                <a:moveTo>
                  <a:pt x="0" y="72"/>
                </a:moveTo>
                <a:lnTo>
                  <a:pt x="11" y="69"/>
                </a:lnTo>
                <a:lnTo>
                  <a:pt x="29" y="63"/>
                </a:lnTo>
                <a:lnTo>
                  <a:pt x="41" y="58"/>
                </a:lnTo>
                <a:lnTo>
                  <a:pt x="48" y="50"/>
                </a:lnTo>
                <a:lnTo>
                  <a:pt x="55" y="37"/>
                </a:lnTo>
                <a:lnTo>
                  <a:pt x="64" y="16"/>
                </a:lnTo>
                <a:lnTo>
                  <a:pt x="70" y="0"/>
                </a:lnTo>
                <a:lnTo>
                  <a:pt x="80" y="2"/>
                </a:lnTo>
                <a:lnTo>
                  <a:pt x="90" y="7"/>
                </a:lnTo>
                <a:lnTo>
                  <a:pt x="100" y="14"/>
                </a:lnTo>
                <a:lnTo>
                  <a:pt x="109" y="23"/>
                </a:lnTo>
                <a:lnTo>
                  <a:pt x="125" y="44"/>
                </a:lnTo>
                <a:lnTo>
                  <a:pt x="147" y="81"/>
                </a:lnTo>
                <a:lnTo>
                  <a:pt x="154" y="87"/>
                </a:lnTo>
                <a:lnTo>
                  <a:pt x="142" y="88"/>
                </a:lnTo>
                <a:lnTo>
                  <a:pt x="118" y="89"/>
                </a:lnTo>
                <a:lnTo>
                  <a:pt x="61" y="88"/>
                </a:lnTo>
                <a:lnTo>
                  <a:pt x="11" y="78"/>
                </a:lnTo>
                <a:lnTo>
                  <a:pt x="0" y="72"/>
                </a:lnTo>
                <a:lnTo>
                  <a:pt x="0" y="7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684840" y="2057400"/>
            <a:ext cx="55800" cy="73080"/>
          </a:xfrm>
          <a:custGeom>
            <a:avLst/>
            <a:gdLst/>
            <a:ahLst/>
            <a:rect l="l" t="t" r="r" b="b"/>
            <a:pathLst>
              <a:path w="162" h="219">
                <a:moveTo>
                  <a:pt x="110" y="0"/>
                </a:moveTo>
                <a:lnTo>
                  <a:pt x="117" y="1"/>
                </a:lnTo>
                <a:lnTo>
                  <a:pt x="129" y="3"/>
                </a:lnTo>
                <a:lnTo>
                  <a:pt x="136" y="4"/>
                </a:lnTo>
                <a:lnTo>
                  <a:pt x="137" y="6"/>
                </a:lnTo>
                <a:lnTo>
                  <a:pt x="139" y="9"/>
                </a:lnTo>
                <a:lnTo>
                  <a:pt x="140" y="12"/>
                </a:lnTo>
                <a:lnTo>
                  <a:pt x="140" y="14"/>
                </a:lnTo>
                <a:lnTo>
                  <a:pt x="142" y="26"/>
                </a:lnTo>
                <a:lnTo>
                  <a:pt x="142" y="32"/>
                </a:lnTo>
                <a:lnTo>
                  <a:pt x="139" y="35"/>
                </a:lnTo>
                <a:lnTo>
                  <a:pt x="135" y="43"/>
                </a:lnTo>
                <a:lnTo>
                  <a:pt x="123" y="67"/>
                </a:lnTo>
                <a:lnTo>
                  <a:pt x="117" y="87"/>
                </a:lnTo>
                <a:lnTo>
                  <a:pt x="117" y="90"/>
                </a:lnTo>
                <a:lnTo>
                  <a:pt x="120" y="93"/>
                </a:lnTo>
                <a:lnTo>
                  <a:pt x="124" y="93"/>
                </a:lnTo>
                <a:lnTo>
                  <a:pt x="135" y="94"/>
                </a:lnTo>
                <a:lnTo>
                  <a:pt x="143" y="93"/>
                </a:lnTo>
                <a:lnTo>
                  <a:pt x="152" y="94"/>
                </a:lnTo>
                <a:lnTo>
                  <a:pt x="158" y="97"/>
                </a:lnTo>
                <a:lnTo>
                  <a:pt x="161" y="103"/>
                </a:lnTo>
                <a:lnTo>
                  <a:pt x="162" y="103"/>
                </a:lnTo>
                <a:lnTo>
                  <a:pt x="162" y="110"/>
                </a:lnTo>
                <a:lnTo>
                  <a:pt x="161" y="129"/>
                </a:lnTo>
                <a:lnTo>
                  <a:pt x="161" y="143"/>
                </a:lnTo>
                <a:lnTo>
                  <a:pt x="162" y="143"/>
                </a:lnTo>
                <a:lnTo>
                  <a:pt x="161" y="149"/>
                </a:lnTo>
                <a:lnTo>
                  <a:pt x="158" y="152"/>
                </a:lnTo>
                <a:lnTo>
                  <a:pt x="155" y="155"/>
                </a:lnTo>
                <a:lnTo>
                  <a:pt x="152" y="158"/>
                </a:lnTo>
                <a:lnTo>
                  <a:pt x="145" y="162"/>
                </a:lnTo>
                <a:lnTo>
                  <a:pt x="136" y="167"/>
                </a:lnTo>
                <a:lnTo>
                  <a:pt x="127" y="171"/>
                </a:lnTo>
                <a:lnTo>
                  <a:pt x="122" y="177"/>
                </a:lnTo>
                <a:lnTo>
                  <a:pt x="122" y="177"/>
                </a:lnTo>
                <a:lnTo>
                  <a:pt x="119" y="180"/>
                </a:lnTo>
                <a:lnTo>
                  <a:pt x="117" y="183"/>
                </a:lnTo>
                <a:lnTo>
                  <a:pt x="114" y="191"/>
                </a:lnTo>
                <a:lnTo>
                  <a:pt x="107" y="210"/>
                </a:lnTo>
                <a:lnTo>
                  <a:pt x="93" y="219"/>
                </a:lnTo>
                <a:lnTo>
                  <a:pt x="87" y="209"/>
                </a:lnTo>
                <a:lnTo>
                  <a:pt x="74" y="190"/>
                </a:lnTo>
                <a:lnTo>
                  <a:pt x="45" y="156"/>
                </a:lnTo>
                <a:lnTo>
                  <a:pt x="10" y="127"/>
                </a:lnTo>
                <a:lnTo>
                  <a:pt x="1" y="120"/>
                </a:lnTo>
                <a:lnTo>
                  <a:pt x="0" y="114"/>
                </a:lnTo>
                <a:lnTo>
                  <a:pt x="1" y="104"/>
                </a:lnTo>
                <a:lnTo>
                  <a:pt x="1" y="97"/>
                </a:lnTo>
                <a:lnTo>
                  <a:pt x="4" y="94"/>
                </a:lnTo>
                <a:lnTo>
                  <a:pt x="10" y="90"/>
                </a:lnTo>
                <a:lnTo>
                  <a:pt x="19" y="84"/>
                </a:lnTo>
                <a:lnTo>
                  <a:pt x="24" y="78"/>
                </a:lnTo>
                <a:lnTo>
                  <a:pt x="36" y="80"/>
                </a:lnTo>
                <a:lnTo>
                  <a:pt x="49" y="81"/>
                </a:lnTo>
                <a:lnTo>
                  <a:pt x="52" y="84"/>
                </a:lnTo>
                <a:lnTo>
                  <a:pt x="49" y="88"/>
                </a:lnTo>
                <a:lnTo>
                  <a:pt x="49" y="91"/>
                </a:lnTo>
                <a:lnTo>
                  <a:pt x="56" y="94"/>
                </a:lnTo>
                <a:lnTo>
                  <a:pt x="65" y="94"/>
                </a:lnTo>
                <a:lnTo>
                  <a:pt x="64" y="88"/>
                </a:lnTo>
                <a:lnTo>
                  <a:pt x="61" y="83"/>
                </a:lnTo>
                <a:lnTo>
                  <a:pt x="53" y="65"/>
                </a:lnTo>
                <a:lnTo>
                  <a:pt x="48" y="48"/>
                </a:lnTo>
                <a:lnTo>
                  <a:pt x="45" y="32"/>
                </a:lnTo>
                <a:lnTo>
                  <a:pt x="46" y="25"/>
                </a:lnTo>
                <a:lnTo>
                  <a:pt x="51" y="20"/>
                </a:lnTo>
                <a:lnTo>
                  <a:pt x="58" y="16"/>
                </a:lnTo>
                <a:lnTo>
                  <a:pt x="68" y="14"/>
                </a:lnTo>
                <a:lnTo>
                  <a:pt x="69" y="14"/>
                </a:lnTo>
                <a:lnTo>
                  <a:pt x="72" y="17"/>
                </a:lnTo>
                <a:lnTo>
                  <a:pt x="75" y="19"/>
                </a:lnTo>
                <a:lnTo>
                  <a:pt x="80" y="20"/>
                </a:lnTo>
                <a:lnTo>
                  <a:pt x="87" y="22"/>
                </a:lnTo>
                <a:lnTo>
                  <a:pt x="94" y="23"/>
                </a:lnTo>
                <a:lnTo>
                  <a:pt x="98" y="26"/>
                </a:lnTo>
                <a:lnTo>
                  <a:pt x="100" y="30"/>
                </a:lnTo>
                <a:lnTo>
                  <a:pt x="98" y="33"/>
                </a:lnTo>
                <a:lnTo>
                  <a:pt x="98" y="30"/>
                </a:lnTo>
                <a:lnTo>
                  <a:pt x="98" y="23"/>
                </a:lnTo>
                <a:lnTo>
                  <a:pt x="100" y="12"/>
                </a:lnTo>
                <a:lnTo>
                  <a:pt x="101" y="7"/>
                </a:lnTo>
                <a:lnTo>
                  <a:pt x="106" y="3"/>
                </a:lnTo>
                <a:lnTo>
                  <a:pt x="110" y="0"/>
                </a:lnTo>
                <a:lnTo>
                  <a:pt x="110" y="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43880" y="2055960"/>
            <a:ext cx="42840" cy="48960"/>
          </a:xfrm>
          <a:custGeom>
            <a:avLst/>
            <a:gdLst/>
            <a:ahLst/>
            <a:rect l="l" t="t" r="r" b="b"/>
            <a:pathLst>
              <a:path w="123" h="152">
                <a:moveTo>
                  <a:pt x="13" y="11"/>
                </a:moveTo>
                <a:lnTo>
                  <a:pt x="20" y="5"/>
                </a:lnTo>
                <a:lnTo>
                  <a:pt x="29" y="3"/>
                </a:lnTo>
                <a:lnTo>
                  <a:pt x="38" y="1"/>
                </a:lnTo>
                <a:lnTo>
                  <a:pt x="45" y="0"/>
                </a:lnTo>
                <a:lnTo>
                  <a:pt x="54" y="1"/>
                </a:lnTo>
                <a:lnTo>
                  <a:pt x="68" y="7"/>
                </a:lnTo>
                <a:lnTo>
                  <a:pt x="78" y="13"/>
                </a:lnTo>
                <a:lnTo>
                  <a:pt x="82" y="16"/>
                </a:lnTo>
                <a:lnTo>
                  <a:pt x="84" y="19"/>
                </a:lnTo>
                <a:lnTo>
                  <a:pt x="84" y="19"/>
                </a:lnTo>
                <a:lnTo>
                  <a:pt x="85" y="20"/>
                </a:lnTo>
                <a:lnTo>
                  <a:pt x="88" y="21"/>
                </a:lnTo>
                <a:lnTo>
                  <a:pt x="96" y="23"/>
                </a:lnTo>
                <a:lnTo>
                  <a:pt x="113" y="27"/>
                </a:lnTo>
                <a:lnTo>
                  <a:pt x="123" y="32"/>
                </a:lnTo>
                <a:lnTo>
                  <a:pt x="123" y="46"/>
                </a:lnTo>
                <a:lnTo>
                  <a:pt x="122" y="62"/>
                </a:lnTo>
                <a:lnTo>
                  <a:pt x="120" y="66"/>
                </a:lnTo>
                <a:lnTo>
                  <a:pt x="116" y="66"/>
                </a:lnTo>
                <a:lnTo>
                  <a:pt x="113" y="66"/>
                </a:lnTo>
                <a:lnTo>
                  <a:pt x="109" y="66"/>
                </a:lnTo>
                <a:lnTo>
                  <a:pt x="107" y="68"/>
                </a:lnTo>
                <a:lnTo>
                  <a:pt x="107" y="74"/>
                </a:lnTo>
                <a:lnTo>
                  <a:pt x="106" y="81"/>
                </a:lnTo>
                <a:lnTo>
                  <a:pt x="107" y="81"/>
                </a:lnTo>
                <a:lnTo>
                  <a:pt x="98" y="82"/>
                </a:lnTo>
                <a:lnTo>
                  <a:pt x="91" y="84"/>
                </a:lnTo>
                <a:lnTo>
                  <a:pt x="84" y="88"/>
                </a:lnTo>
                <a:lnTo>
                  <a:pt x="78" y="92"/>
                </a:lnTo>
                <a:lnTo>
                  <a:pt x="68" y="103"/>
                </a:lnTo>
                <a:lnTo>
                  <a:pt x="61" y="117"/>
                </a:lnTo>
                <a:lnTo>
                  <a:pt x="56" y="134"/>
                </a:lnTo>
                <a:lnTo>
                  <a:pt x="55" y="150"/>
                </a:lnTo>
                <a:lnTo>
                  <a:pt x="56" y="150"/>
                </a:lnTo>
                <a:lnTo>
                  <a:pt x="49" y="152"/>
                </a:lnTo>
                <a:lnTo>
                  <a:pt x="42" y="152"/>
                </a:lnTo>
                <a:lnTo>
                  <a:pt x="36" y="152"/>
                </a:lnTo>
                <a:lnTo>
                  <a:pt x="35" y="152"/>
                </a:lnTo>
                <a:lnTo>
                  <a:pt x="22" y="139"/>
                </a:lnTo>
                <a:lnTo>
                  <a:pt x="6" y="116"/>
                </a:lnTo>
                <a:lnTo>
                  <a:pt x="0" y="97"/>
                </a:lnTo>
                <a:lnTo>
                  <a:pt x="3" y="84"/>
                </a:lnTo>
                <a:lnTo>
                  <a:pt x="7" y="76"/>
                </a:lnTo>
                <a:lnTo>
                  <a:pt x="11" y="72"/>
                </a:lnTo>
                <a:lnTo>
                  <a:pt x="13" y="71"/>
                </a:lnTo>
                <a:lnTo>
                  <a:pt x="13" y="62"/>
                </a:lnTo>
                <a:lnTo>
                  <a:pt x="11" y="34"/>
                </a:lnTo>
                <a:lnTo>
                  <a:pt x="11" y="13"/>
                </a:lnTo>
                <a:lnTo>
                  <a:pt x="13" y="11"/>
                </a:lnTo>
                <a:lnTo>
                  <a:pt x="13" y="1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62680" y="2247840"/>
            <a:ext cx="79560" cy="68400"/>
          </a:xfrm>
          <a:custGeom>
            <a:avLst/>
            <a:gdLst/>
            <a:ahLst/>
            <a:rect l="l" t="t" r="r" b="b"/>
            <a:pathLst>
              <a:path w="230" h="210">
                <a:moveTo>
                  <a:pt x="168" y="85"/>
                </a:moveTo>
                <a:lnTo>
                  <a:pt x="169" y="95"/>
                </a:lnTo>
                <a:lnTo>
                  <a:pt x="174" y="101"/>
                </a:lnTo>
                <a:lnTo>
                  <a:pt x="178" y="105"/>
                </a:lnTo>
                <a:lnTo>
                  <a:pt x="184" y="108"/>
                </a:lnTo>
                <a:lnTo>
                  <a:pt x="190" y="108"/>
                </a:lnTo>
                <a:lnTo>
                  <a:pt x="195" y="108"/>
                </a:lnTo>
                <a:lnTo>
                  <a:pt x="208" y="104"/>
                </a:lnTo>
                <a:lnTo>
                  <a:pt x="220" y="101"/>
                </a:lnTo>
                <a:lnTo>
                  <a:pt x="226" y="100"/>
                </a:lnTo>
                <a:lnTo>
                  <a:pt x="229" y="100"/>
                </a:lnTo>
                <a:lnTo>
                  <a:pt x="230" y="100"/>
                </a:lnTo>
                <a:lnTo>
                  <a:pt x="229" y="113"/>
                </a:lnTo>
                <a:lnTo>
                  <a:pt x="224" y="123"/>
                </a:lnTo>
                <a:lnTo>
                  <a:pt x="218" y="130"/>
                </a:lnTo>
                <a:lnTo>
                  <a:pt x="211" y="136"/>
                </a:lnTo>
                <a:lnTo>
                  <a:pt x="204" y="140"/>
                </a:lnTo>
                <a:lnTo>
                  <a:pt x="194" y="142"/>
                </a:lnTo>
                <a:lnTo>
                  <a:pt x="184" y="142"/>
                </a:lnTo>
                <a:lnTo>
                  <a:pt x="163" y="139"/>
                </a:lnTo>
                <a:lnTo>
                  <a:pt x="146" y="133"/>
                </a:lnTo>
                <a:lnTo>
                  <a:pt x="139" y="127"/>
                </a:lnTo>
                <a:lnTo>
                  <a:pt x="132" y="133"/>
                </a:lnTo>
                <a:lnTo>
                  <a:pt x="119" y="145"/>
                </a:lnTo>
                <a:lnTo>
                  <a:pt x="100" y="174"/>
                </a:lnTo>
                <a:lnTo>
                  <a:pt x="85" y="204"/>
                </a:lnTo>
                <a:lnTo>
                  <a:pt x="84" y="210"/>
                </a:lnTo>
                <a:lnTo>
                  <a:pt x="69" y="210"/>
                </a:lnTo>
                <a:lnTo>
                  <a:pt x="59" y="207"/>
                </a:lnTo>
                <a:lnTo>
                  <a:pt x="53" y="204"/>
                </a:lnTo>
                <a:lnTo>
                  <a:pt x="50" y="198"/>
                </a:lnTo>
                <a:lnTo>
                  <a:pt x="50" y="194"/>
                </a:lnTo>
                <a:lnTo>
                  <a:pt x="49" y="189"/>
                </a:lnTo>
                <a:lnTo>
                  <a:pt x="49" y="185"/>
                </a:lnTo>
                <a:lnTo>
                  <a:pt x="46" y="181"/>
                </a:lnTo>
                <a:lnTo>
                  <a:pt x="42" y="179"/>
                </a:lnTo>
                <a:lnTo>
                  <a:pt x="33" y="179"/>
                </a:lnTo>
                <a:lnTo>
                  <a:pt x="20" y="181"/>
                </a:lnTo>
                <a:lnTo>
                  <a:pt x="1" y="184"/>
                </a:lnTo>
                <a:lnTo>
                  <a:pt x="1" y="184"/>
                </a:lnTo>
                <a:lnTo>
                  <a:pt x="0" y="174"/>
                </a:lnTo>
                <a:lnTo>
                  <a:pt x="0" y="160"/>
                </a:lnTo>
                <a:lnTo>
                  <a:pt x="3" y="129"/>
                </a:lnTo>
                <a:lnTo>
                  <a:pt x="11" y="56"/>
                </a:lnTo>
                <a:lnTo>
                  <a:pt x="10" y="0"/>
                </a:lnTo>
                <a:lnTo>
                  <a:pt x="11" y="0"/>
                </a:lnTo>
                <a:lnTo>
                  <a:pt x="14" y="0"/>
                </a:lnTo>
                <a:lnTo>
                  <a:pt x="23" y="3"/>
                </a:lnTo>
                <a:lnTo>
                  <a:pt x="52" y="11"/>
                </a:lnTo>
                <a:lnTo>
                  <a:pt x="123" y="43"/>
                </a:lnTo>
                <a:lnTo>
                  <a:pt x="168" y="85"/>
                </a:lnTo>
                <a:lnTo>
                  <a:pt x="168" y="85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99400" y="2298600"/>
            <a:ext cx="29880" cy="34920"/>
          </a:xfrm>
          <a:custGeom>
            <a:avLst/>
            <a:gdLst/>
            <a:ahLst/>
            <a:rect l="l" t="t" r="r" b="b"/>
            <a:pathLst>
              <a:path w="90" h="101">
                <a:moveTo>
                  <a:pt x="40" y="101"/>
                </a:moveTo>
                <a:lnTo>
                  <a:pt x="22" y="100"/>
                </a:lnTo>
                <a:lnTo>
                  <a:pt x="10" y="97"/>
                </a:lnTo>
                <a:lnTo>
                  <a:pt x="3" y="94"/>
                </a:lnTo>
                <a:lnTo>
                  <a:pt x="1" y="93"/>
                </a:lnTo>
                <a:lnTo>
                  <a:pt x="0" y="90"/>
                </a:lnTo>
                <a:lnTo>
                  <a:pt x="0" y="87"/>
                </a:lnTo>
                <a:lnTo>
                  <a:pt x="0" y="84"/>
                </a:lnTo>
                <a:lnTo>
                  <a:pt x="1" y="81"/>
                </a:lnTo>
                <a:lnTo>
                  <a:pt x="4" y="75"/>
                </a:lnTo>
                <a:lnTo>
                  <a:pt x="9" y="68"/>
                </a:lnTo>
                <a:lnTo>
                  <a:pt x="20" y="49"/>
                </a:lnTo>
                <a:lnTo>
                  <a:pt x="26" y="27"/>
                </a:lnTo>
                <a:lnTo>
                  <a:pt x="27" y="20"/>
                </a:lnTo>
                <a:lnTo>
                  <a:pt x="30" y="20"/>
                </a:lnTo>
                <a:lnTo>
                  <a:pt x="35" y="17"/>
                </a:lnTo>
                <a:lnTo>
                  <a:pt x="38" y="14"/>
                </a:lnTo>
                <a:lnTo>
                  <a:pt x="46" y="7"/>
                </a:lnTo>
                <a:lnTo>
                  <a:pt x="54" y="1"/>
                </a:lnTo>
                <a:lnTo>
                  <a:pt x="59" y="0"/>
                </a:lnTo>
                <a:lnTo>
                  <a:pt x="65" y="0"/>
                </a:lnTo>
                <a:lnTo>
                  <a:pt x="72" y="3"/>
                </a:lnTo>
                <a:lnTo>
                  <a:pt x="80" y="9"/>
                </a:lnTo>
                <a:lnTo>
                  <a:pt x="88" y="16"/>
                </a:lnTo>
                <a:lnTo>
                  <a:pt x="90" y="16"/>
                </a:lnTo>
                <a:lnTo>
                  <a:pt x="88" y="26"/>
                </a:lnTo>
                <a:lnTo>
                  <a:pt x="84" y="42"/>
                </a:lnTo>
                <a:lnTo>
                  <a:pt x="77" y="55"/>
                </a:lnTo>
                <a:lnTo>
                  <a:pt x="67" y="67"/>
                </a:lnTo>
                <a:lnTo>
                  <a:pt x="45" y="94"/>
                </a:lnTo>
                <a:lnTo>
                  <a:pt x="40" y="101"/>
                </a:lnTo>
                <a:lnTo>
                  <a:pt x="40" y="10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50160" y="2306520"/>
            <a:ext cx="14040" cy="23760"/>
          </a:xfrm>
          <a:custGeom>
            <a:avLst/>
            <a:gdLst/>
            <a:ahLst/>
            <a:rect l="l" t="t" r="r" b="b"/>
            <a:pathLst>
              <a:path w="39" h="77">
                <a:moveTo>
                  <a:pt x="34" y="77"/>
                </a:moveTo>
                <a:lnTo>
                  <a:pt x="27" y="74"/>
                </a:lnTo>
                <a:lnTo>
                  <a:pt x="16" y="67"/>
                </a:lnTo>
                <a:lnTo>
                  <a:pt x="6" y="57"/>
                </a:lnTo>
                <a:lnTo>
                  <a:pt x="0" y="45"/>
                </a:lnTo>
                <a:lnTo>
                  <a:pt x="0" y="32"/>
                </a:lnTo>
                <a:lnTo>
                  <a:pt x="8" y="18"/>
                </a:lnTo>
                <a:lnTo>
                  <a:pt x="16" y="9"/>
                </a:lnTo>
                <a:lnTo>
                  <a:pt x="17" y="9"/>
                </a:lnTo>
                <a:lnTo>
                  <a:pt x="19" y="9"/>
                </a:lnTo>
                <a:lnTo>
                  <a:pt x="21" y="7"/>
                </a:lnTo>
                <a:lnTo>
                  <a:pt x="23" y="5"/>
                </a:lnTo>
                <a:lnTo>
                  <a:pt x="24" y="2"/>
                </a:lnTo>
                <a:lnTo>
                  <a:pt x="27" y="0"/>
                </a:lnTo>
                <a:lnTo>
                  <a:pt x="32" y="7"/>
                </a:lnTo>
                <a:lnTo>
                  <a:pt x="34" y="13"/>
                </a:lnTo>
                <a:lnTo>
                  <a:pt x="37" y="19"/>
                </a:lnTo>
                <a:lnTo>
                  <a:pt x="39" y="32"/>
                </a:lnTo>
                <a:lnTo>
                  <a:pt x="37" y="47"/>
                </a:lnTo>
                <a:lnTo>
                  <a:pt x="34" y="71"/>
                </a:lnTo>
                <a:lnTo>
                  <a:pt x="34" y="77"/>
                </a:lnTo>
                <a:lnTo>
                  <a:pt x="34" y="77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931080" y="2160720"/>
            <a:ext cx="22320" cy="28440"/>
          </a:xfrm>
          <a:custGeom>
            <a:avLst/>
            <a:gdLst/>
            <a:ahLst/>
            <a:rect l="l" t="t" r="r" b="b"/>
            <a:pathLst>
              <a:path w="63" h="90">
                <a:moveTo>
                  <a:pt x="56" y="12"/>
                </a:moveTo>
                <a:lnTo>
                  <a:pt x="56" y="18"/>
                </a:lnTo>
                <a:lnTo>
                  <a:pt x="56" y="26"/>
                </a:lnTo>
                <a:lnTo>
                  <a:pt x="61" y="38"/>
                </a:lnTo>
                <a:lnTo>
                  <a:pt x="62" y="60"/>
                </a:lnTo>
                <a:lnTo>
                  <a:pt x="63" y="67"/>
                </a:lnTo>
                <a:lnTo>
                  <a:pt x="62" y="68"/>
                </a:lnTo>
                <a:lnTo>
                  <a:pt x="56" y="71"/>
                </a:lnTo>
                <a:lnTo>
                  <a:pt x="34" y="82"/>
                </a:lnTo>
                <a:lnTo>
                  <a:pt x="17" y="90"/>
                </a:lnTo>
                <a:lnTo>
                  <a:pt x="17" y="90"/>
                </a:lnTo>
                <a:lnTo>
                  <a:pt x="10" y="84"/>
                </a:lnTo>
                <a:lnTo>
                  <a:pt x="3" y="68"/>
                </a:lnTo>
                <a:lnTo>
                  <a:pt x="0" y="54"/>
                </a:lnTo>
                <a:lnTo>
                  <a:pt x="1" y="38"/>
                </a:lnTo>
                <a:lnTo>
                  <a:pt x="5" y="24"/>
                </a:lnTo>
                <a:lnTo>
                  <a:pt x="13" y="8"/>
                </a:lnTo>
                <a:lnTo>
                  <a:pt x="17" y="0"/>
                </a:lnTo>
                <a:lnTo>
                  <a:pt x="21" y="2"/>
                </a:lnTo>
                <a:lnTo>
                  <a:pt x="30" y="2"/>
                </a:lnTo>
                <a:lnTo>
                  <a:pt x="39" y="5"/>
                </a:lnTo>
                <a:lnTo>
                  <a:pt x="50" y="11"/>
                </a:lnTo>
                <a:lnTo>
                  <a:pt x="56" y="12"/>
                </a:lnTo>
                <a:lnTo>
                  <a:pt x="56" y="1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96080" y="2055960"/>
            <a:ext cx="320760" cy="220680"/>
          </a:xfrm>
          <a:custGeom>
            <a:avLst/>
            <a:gdLst/>
            <a:ahLst/>
            <a:rect l="l" t="t" r="r" b="b"/>
            <a:pathLst>
              <a:path w="933" h="680">
                <a:moveTo>
                  <a:pt x="120" y="3"/>
                </a:moveTo>
                <a:lnTo>
                  <a:pt x="118" y="5"/>
                </a:lnTo>
                <a:lnTo>
                  <a:pt x="121" y="9"/>
                </a:lnTo>
                <a:lnTo>
                  <a:pt x="127" y="15"/>
                </a:lnTo>
                <a:lnTo>
                  <a:pt x="149" y="31"/>
                </a:lnTo>
                <a:lnTo>
                  <a:pt x="201" y="64"/>
                </a:lnTo>
                <a:lnTo>
                  <a:pt x="221" y="76"/>
                </a:lnTo>
                <a:lnTo>
                  <a:pt x="220" y="80"/>
                </a:lnTo>
                <a:lnTo>
                  <a:pt x="218" y="89"/>
                </a:lnTo>
                <a:lnTo>
                  <a:pt x="217" y="94"/>
                </a:lnTo>
                <a:lnTo>
                  <a:pt x="217" y="96"/>
                </a:lnTo>
                <a:lnTo>
                  <a:pt x="218" y="94"/>
                </a:lnTo>
                <a:lnTo>
                  <a:pt x="226" y="87"/>
                </a:lnTo>
                <a:lnTo>
                  <a:pt x="233" y="80"/>
                </a:lnTo>
                <a:lnTo>
                  <a:pt x="237" y="81"/>
                </a:lnTo>
                <a:lnTo>
                  <a:pt x="246" y="83"/>
                </a:lnTo>
                <a:lnTo>
                  <a:pt x="255" y="87"/>
                </a:lnTo>
                <a:lnTo>
                  <a:pt x="266" y="94"/>
                </a:lnTo>
                <a:lnTo>
                  <a:pt x="275" y="96"/>
                </a:lnTo>
                <a:lnTo>
                  <a:pt x="275" y="90"/>
                </a:lnTo>
                <a:lnTo>
                  <a:pt x="275" y="78"/>
                </a:lnTo>
                <a:lnTo>
                  <a:pt x="281" y="54"/>
                </a:lnTo>
                <a:lnTo>
                  <a:pt x="291" y="34"/>
                </a:lnTo>
                <a:lnTo>
                  <a:pt x="295" y="29"/>
                </a:lnTo>
                <a:lnTo>
                  <a:pt x="302" y="34"/>
                </a:lnTo>
                <a:lnTo>
                  <a:pt x="317" y="41"/>
                </a:lnTo>
                <a:lnTo>
                  <a:pt x="340" y="58"/>
                </a:lnTo>
                <a:lnTo>
                  <a:pt x="347" y="68"/>
                </a:lnTo>
                <a:lnTo>
                  <a:pt x="352" y="81"/>
                </a:lnTo>
                <a:lnTo>
                  <a:pt x="353" y="87"/>
                </a:lnTo>
                <a:lnTo>
                  <a:pt x="355" y="86"/>
                </a:lnTo>
                <a:lnTo>
                  <a:pt x="359" y="81"/>
                </a:lnTo>
                <a:lnTo>
                  <a:pt x="362" y="77"/>
                </a:lnTo>
                <a:lnTo>
                  <a:pt x="363" y="76"/>
                </a:lnTo>
                <a:lnTo>
                  <a:pt x="366" y="76"/>
                </a:lnTo>
                <a:lnTo>
                  <a:pt x="379" y="76"/>
                </a:lnTo>
                <a:lnTo>
                  <a:pt x="389" y="76"/>
                </a:lnTo>
                <a:lnTo>
                  <a:pt x="391" y="76"/>
                </a:lnTo>
                <a:lnTo>
                  <a:pt x="391" y="77"/>
                </a:lnTo>
                <a:lnTo>
                  <a:pt x="394" y="84"/>
                </a:lnTo>
                <a:lnTo>
                  <a:pt x="402" y="107"/>
                </a:lnTo>
                <a:lnTo>
                  <a:pt x="408" y="126"/>
                </a:lnTo>
                <a:lnTo>
                  <a:pt x="410" y="126"/>
                </a:lnTo>
                <a:lnTo>
                  <a:pt x="410" y="119"/>
                </a:lnTo>
                <a:lnTo>
                  <a:pt x="410" y="107"/>
                </a:lnTo>
                <a:lnTo>
                  <a:pt x="412" y="86"/>
                </a:lnTo>
                <a:lnTo>
                  <a:pt x="421" y="68"/>
                </a:lnTo>
                <a:lnTo>
                  <a:pt x="426" y="64"/>
                </a:lnTo>
                <a:lnTo>
                  <a:pt x="428" y="67"/>
                </a:lnTo>
                <a:lnTo>
                  <a:pt x="434" y="70"/>
                </a:lnTo>
                <a:lnTo>
                  <a:pt x="447" y="78"/>
                </a:lnTo>
                <a:lnTo>
                  <a:pt x="457" y="86"/>
                </a:lnTo>
                <a:lnTo>
                  <a:pt x="460" y="87"/>
                </a:lnTo>
                <a:lnTo>
                  <a:pt x="459" y="89"/>
                </a:lnTo>
                <a:lnTo>
                  <a:pt x="456" y="96"/>
                </a:lnTo>
                <a:lnTo>
                  <a:pt x="443" y="119"/>
                </a:lnTo>
                <a:lnTo>
                  <a:pt x="433" y="136"/>
                </a:lnTo>
                <a:lnTo>
                  <a:pt x="433" y="136"/>
                </a:lnTo>
                <a:lnTo>
                  <a:pt x="439" y="132"/>
                </a:lnTo>
                <a:lnTo>
                  <a:pt x="459" y="116"/>
                </a:lnTo>
                <a:lnTo>
                  <a:pt x="475" y="103"/>
                </a:lnTo>
                <a:lnTo>
                  <a:pt x="476" y="102"/>
                </a:lnTo>
                <a:lnTo>
                  <a:pt x="475" y="103"/>
                </a:lnTo>
                <a:lnTo>
                  <a:pt x="473" y="105"/>
                </a:lnTo>
                <a:lnTo>
                  <a:pt x="470" y="107"/>
                </a:lnTo>
                <a:lnTo>
                  <a:pt x="466" y="115"/>
                </a:lnTo>
                <a:lnTo>
                  <a:pt x="460" y="136"/>
                </a:lnTo>
                <a:lnTo>
                  <a:pt x="463" y="154"/>
                </a:lnTo>
                <a:lnTo>
                  <a:pt x="466" y="152"/>
                </a:lnTo>
                <a:lnTo>
                  <a:pt x="478" y="142"/>
                </a:lnTo>
                <a:lnTo>
                  <a:pt x="512" y="116"/>
                </a:lnTo>
                <a:lnTo>
                  <a:pt x="530" y="106"/>
                </a:lnTo>
                <a:lnTo>
                  <a:pt x="536" y="103"/>
                </a:lnTo>
                <a:lnTo>
                  <a:pt x="541" y="103"/>
                </a:lnTo>
                <a:lnTo>
                  <a:pt x="544" y="103"/>
                </a:lnTo>
                <a:lnTo>
                  <a:pt x="546" y="103"/>
                </a:lnTo>
                <a:lnTo>
                  <a:pt x="544" y="110"/>
                </a:lnTo>
                <a:lnTo>
                  <a:pt x="544" y="122"/>
                </a:lnTo>
                <a:lnTo>
                  <a:pt x="540" y="144"/>
                </a:lnTo>
                <a:lnTo>
                  <a:pt x="536" y="154"/>
                </a:lnTo>
                <a:lnTo>
                  <a:pt x="530" y="161"/>
                </a:lnTo>
                <a:lnTo>
                  <a:pt x="526" y="164"/>
                </a:lnTo>
                <a:lnTo>
                  <a:pt x="530" y="163"/>
                </a:lnTo>
                <a:lnTo>
                  <a:pt x="540" y="155"/>
                </a:lnTo>
                <a:lnTo>
                  <a:pt x="550" y="145"/>
                </a:lnTo>
                <a:lnTo>
                  <a:pt x="566" y="123"/>
                </a:lnTo>
                <a:lnTo>
                  <a:pt x="576" y="107"/>
                </a:lnTo>
                <a:lnTo>
                  <a:pt x="581" y="109"/>
                </a:lnTo>
                <a:lnTo>
                  <a:pt x="585" y="110"/>
                </a:lnTo>
                <a:lnTo>
                  <a:pt x="589" y="112"/>
                </a:lnTo>
                <a:lnTo>
                  <a:pt x="594" y="115"/>
                </a:lnTo>
                <a:lnTo>
                  <a:pt x="595" y="118"/>
                </a:lnTo>
                <a:lnTo>
                  <a:pt x="598" y="122"/>
                </a:lnTo>
                <a:lnTo>
                  <a:pt x="601" y="131"/>
                </a:lnTo>
                <a:lnTo>
                  <a:pt x="602" y="139"/>
                </a:lnTo>
                <a:lnTo>
                  <a:pt x="602" y="149"/>
                </a:lnTo>
                <a:lnTo>
                  <a:pt x="604" y="149"/>
                </a:lnTo>
                <a:lnTo>
                  <a:pt x="601" y="152"/>
                </a:lnTo>
                <a:lnTo>
                  <a:pt x="595" y="158"/>
                </a:lnTo>
                <a:lnTo>
                  <a:pt x="583" y="168"/>
                </a:lnTo>
                <a:lnTo>
                  <a:pt x="570" y="173"/>
                </a:lnTo>
                <a:lnTo>
                  <a:pt x="566" y="173"/>
                </a:lnTo>
                <a:lnTo>
                  <a:pt x="570" y="174"/>
                </a:lnTo>
                <a:lnTo>
                  <a:pt x="581" y="174"/>
                </a:lnTo>
                <a:lnTo>
                  <a:pt x="596" y="178"/>
                </a:lnTo>
                <a:lnTo>
                  <a:pt x="611" y="189"/>
                </a:lnTo>
                <a:lnTo>
                  <a:pt x="615" y="192"/>
                </a:lnTo>
                <a:lnTo>
                  <a:pt x="612" y="194"/>
                </a:lnTo>
                <a:lnTo>
                  <a:pt x="608" y="199"/>
                </a:lnTo>
                <a:lnTo>
                  <a:pt x="598" y="209"/>
                </a:lnTo>
                <a:lnTo>
                  <a:pt x="586" y="216"/>
                </a:lnTo>
                <a:lnTo>
                  <a:pt x="585" y="216"/>
                </a:lnTo>
                <a:lnTo>
                  <a:pt x="608" y="222"/>
                </a:lnTo>
                <a:lnTo>
                  <a:pt x="657" y="232"/>
                </a:lnTo>
                <a:lnTo>
                  <a:pt x="757" y="248"/>
                </a:lnTo>
                <a:lnTo>
                  <a:pt x="860" y="254"/>
                </a:lnTo>
                <a:lnTo>
                  <a:pt x="886" y="254"/>
                </a:lnTo>
                <a:lnTo>
                  <a:pt x="872" y="280"/>
                </a:lnTo>
                <a:lnTo>
                  <a:pt x="859" y="315"/>
                </a:lnTo>
                <a:lnTo>
                  <a:pt x="857" y="328"/>
                </a:lnTo>
                <a:lnTo>
                  <a:pt x="859" y="336"/>
                </a:lnTo>
                <a:lnTo>
                  <a:pt x="862" y="344"/>
                </a:lnTo>
                <a:lnTo>
                  <a:pt x="866" y="349"/>
                </a:lnTo>
                <a:lnTo>
                  <a:pt x="872" y="355"/>
                </a:lnTo>
                <a:lnTo>
                  <a:pt x="882" y="370"/>
                </a:lnTo>
                <a:lnTo>
                  <a:pt x="885" y="393"/>
                </a:lnTo>
                <a:lnTo>
                  <a:pt x="886" y="393"/>
                </a:lnTo>
                <a:lnTo>
                  <a:pt x="878" y="393"/>
                </a:lnTo>
                <a:lnTo>
                  <a:pt x="859" y="393"/>
                </a:lnTo>
                <a:lnTo>
                  <a:pt x="818" y="391"/>
                </a:lnTo>
                <a:lnTo>
                  <a:pt x="780" y="384"/>
                </a:lnTo>
                <a:lnTo>
                  <a:pt x="775" y="381"/>
                </a:lnTo>
                <a:lnTo>
                  <a:pt x="770" y="381"/>
                </a:lnTo>
                <a:lnTo>
                  <a:pt x="762" y="376"/>
                </a:lnTo>
                <a:lnTo>
                  <a:pt x="754" y="370"/>
                </a:lnTo>
                <a:lnTo>
                  <a:pt x="738" y="355"/>
                </a:lnTo>
                <a:lnTo>
                  <a:pt x="727" y="347"/>
                </a:lnTo>
                <a:lnTo>
                  <a:pt x="721" y="352"/>
                </a:lnTo>
                <a:lnTo>
                  <a:pt x="717" y="364"/>
                </a:lnTo>
                <a:lnTo>
                  <a:pt x="715" y="376"/>
                </a:lnTo>
                <a:lnTo>
                  <a:pt x="718" y="387"/>
                </a:lnTo>
                <a:lnTo>
                  <a:pt x="723" y="413"/>
                </a:lnTo>
                <a:lnTo>
                  <a:pt x="724" y="420"/>
                </a:lnTo>
                <a:lnTo>
                  <a:pt x="736" y="422"/>
                </a:lnTo>
                <a:lnTo>
                  <a:pt x="754" y="426"/>
                </a:lnTo>
                <a:lnTo>
                  <a:pt x="807" y="439"/>
                </a:lnTo>
                <a:lnTo>
                  <a:pt x="865" y="462"/>
                </a:lnTo>
                <a:lnTo>
                  <a:pt x="912" y="494"/>
                </a:lnTo>
                <a:lnTo>
                  <a:pt x="927" y="512"/>
                </a:lnTo>
                <a:lnTo>
                  <a:pt x="933" y="532"/>
                </a:lnTo>
                <a:lnTo>
                  <a:pt x="927" y="555"/>
                </a:lnTo>
                <a:lnTo>
                  <a:pt x="909" y="578"/>
                </a:lnTo>
                <a:lnTo>
                  <a:pt x="909" y="578"/>
                </a:lnTo>
                <a:lnTo>
                  <a:pt x="901" y="578"/>
                </a:lnTo>
                <a:lnTo>
                  <a:pt x="883" y="575"/>
                </a:lnTo>
                <a:lnTo>
                  <a:pt x="841" y="564"/>
                </a:lnTo>
                <a:lnTo>
                  <a:pt x="821" y="561"/>
                </a:lnTo>
                <a:lnTo>
                  <a:pt x="804" y="562"/>
                </a:lnTo>
                <a:lnTo>
                  <a:pt x="798" y="564"/>
                </a:lnTo>
                <a:lnTo>
                  <a:pt x="795" y="565"/>
                </a:lnTo>
                <a:lnTo>
                  <a:pt x="794" y="567"/>
                </a:lnTo>
                <a:lnTo>
                  <a:pt x="794" y="570"/>
                </a:lnTo>
                <a:lnTo>
                  <a:pt x="794" y="573"/>
                </a:lnTo>
                <a:lnTo>
                  <a:pt x="794" y="574"/>
                </a:lnTo>
                <a:lnTo>
                  <a:pt x="794" y="574"/>
                </a:lnTo>
                <a:lnTo>
                  <a:pt x="805" y="577"/>
                </a:lnTo>
                <a:lnTo>
                  <a:pt x="833" y="581"/>
                </a:lnTo>
                <a:lnTo>
                  <a:pt x="892" y="599"/>
                </a:lnTo>
                <a:lnTo>
                  <a:pt x="914" y="616"/>
                </a:lnTo>
                <a:lnTo>
                  <a:pt x="920" y="628"/>
                </a:lnTo>
                <a:lnTo>
                  <a:pt x="922" y="641"/>
                </a:lnTo>
                <a:lnTo>
                  <a:pt x="921" y="657"/>
                </a:lnTo>
                <a:lnTo>
                  <a:pt x="921" y="657"/>
                </a:lnTo>
                <a:lnTo>
                  <a:pt x="909" y="657"/>
                </a:lnTo>
                <a:lnTo>
                  <a:pt x="882" y="654"/>
                </a:lnTo>
                <a:lnTo>
                  <a:pt x="818" y="654"/>
                </a:lnTo>
                <a:lnTo>
                  <a:pt x="788" y="660"/>
                </a:lnTo>
                <a:lnTo>
                  <a:pt x="762" y="671"/>
                </a:lnTo>
                <a:lnTo>
                  <a:pt x="752" y="680"/>
                </a:lnTo>
                <a:lnTo>
                  <a:pt x="737" y="670"/>
                </a:lnTo>
                <a:lnTo>
                  <a:pt x="712" y="645"/>
                </a:lnTo>
                <a:lnTo>
                  <a:pt x="688" y="616"/>
                </a:lnTo>
                <a:lnTo>
                  <a:pt x="631" y="567"/>
                </a:lnTo>
                <a:lnTo>
                  <a:pt x="569" y="551"/>
                </a:lnTo>
                <a:lnTo>
                  <a:pt x="560" y="558"/>
                </a:lnTo>
                <a:lnTo>
                  <a:pt x="547" y="571"/>
                </a:lnTo>
                <a:lnTo>
                  <a:pt x="521" y="596"/>
                </a:lnTo>
                <a:lnTo>
                  <a:pt x="495" y="622"/>
                </a:lnTo>
                <a:lnTo>
                  <a:pt x="488" y="629"/>
                </a:lnTo>
                <a:lnTo>
                  <a:pt x="481" y="626"/>
                </a:lnTo>
                <a:lnTo>
                  <a:pt x="472" y="622"/>
                </a:lnTo>
                <a:lnTo>
                  <a:pt x="465" y="618"/>
                </a:lnTo>
                <a:lnTo>
                  <a:pt x="460" y="613"/>
                </a:lnTo>
                <a:lnTo>
                  <a:pt x="457" y="607"/>
                </a:lnTo>
                <a:lnTo>
                  <a:pt x="455" y="597"/>
                </a:lnTo>
                <a:lnTo>
                  <a:pt x="453" y="590"/>
                </a:lnTo>
                <a:lnTo>
                  <a:pt x="456" y="581"/>
                </a:lnTo>
                <a:lnTo>
                  <a:pt x="462" y="571"/>
                </a:lnTo>
                <a:lnTo>
                  <a:pt x="478" y="555"/>
                </a:lnTo>
                <a:lnTo>
                  <a:pt x="498" y="541"/>
                </a:lnTo>
                <a:lnTo>
                  <a:pt x="541" y="520"/>
                </a:lnTo>
                <a:lnTo>
                  <a:pt x="562" y="513"/>
                </a:lnTo>
                <a:lnTo>
                  <a:pt x="566" y="513"/>
                </a:lnTo>
                <a:lnTo>
                  <a:pt x="573" y="510"/>
                </a:lnTo>
                <a:lnTo>
                  <a:pt x="579" y="506"/>
                </a:lnTo>
                <a:lnTo>
                  <a:pt x="582" y="500"/>
                </a:lnTo>
                <a:lnTo>
                  <a:pt x="583" y="494"/>
                </a:lnTo>
                <a:lnTo>
                  <a:pt x="583" y="487"/>
                </a:lnTo>
                <a:lnTo>
                  <a:pt x="585" y="483"/>
                </a:lnTo>
                <a:lnTo>
                  <a:pt x="579" y="481"/>
                </a:lnTo>
                <a:lnTo>
                  <a:pt x="570" y="476"/>
                </a:lnTo>
                <a:lnTo>
                  <a:pt x="554" y="460"/>
                </a:lnTo>
                <a:lnTo>
                  <a:pt x="546" y="439"/>
                </a:lnTo>
                <a:lnTo>
                  <a:pt x="546" y="432"/>
                </a:lnTo>
                <a:lnTo>
                  <a:pt x="549" y="429"/>
                </a:lnTo>
                <a:lnTo>
                  <a:pt x="554" y="422"/>
                </a:lnTo>
                <a:lnTo>
                  <a:pt x="569" y="410"/>
                </a:lnTo>
                <a:lnTo>
                  <a:pt x="592" y="406"/>
                </a:lnTo>
                <a:lnTo>
                  <a:pt x="601" y="405"/>
                </a:lnTo>
                <a:lnTo>
                  <a:pt x="605" y="410"/>
                </a:lnTo>
                <a:lnTo>
                  <a:pt x="617" y="418"/>
                </a:lnTo>
                <a:lnTo>
                  <a:pt x="628" y="420"/>
                </a:lnTo>
                <a:lnTo>
                  <a:pt x="639" y="422"/>
                </a:lnTo>
                <a:lnTo>
                  <a:pt x="650" y="422"/>
                </a:lnTo>
                <a:lnTo>
                  <a:pt x="662" y="422"/>
                </a:lnTo>
                <a:lnTo>
                  <a:pt x="669" y="420"/>
                </a:lnTo>
                <a:lnTo>
                  <a:pt x="672" y="418"/>
                </a:lnTo>
                <a:lnTo>
                  <a:pt x="675" y="410"/>
                </a:lnTo>
                <a:lnTo>
                  <a:pt x="678" y="403"/>
                </a:lnTo>
                <a:lnTo>
                  <a:pt x="678" y="396"/>
                </a:lnTo>
                <a:lnTo>
                  <a:pt x="678" y="381"/>
                </a:lnTo>
                <a:lnTo>
                  <a:pt x="678" y="377"/>
                </a:lnTo>
                <a:lnTo>
                  <a:pt x="670" y="378"/>
                </a:lnTo>
                <a:lnTo>
                  <a:pt x="657" y="378"/>
                </a:lnTo>
                <a:lnTo>
                  <a:pt x="631" y="381"/>
                </a:lnTo>
                <a:lnTo>
                  <a:pt x="607" y="386"/>
                </a:lnTo>
                <a:lnTo>
                  <a:pt x="601" y="386"/>
                </a:lnTo>
                <a:lnTo>
                  <a:pt x="594" y="387"/>
                </a:lnTo>
                <a:lnTo>
                  <a:pt x="579" y="389"/>
                </a:lnTo>
                <a:lnTo>
                  <a:pt x="546" y="384"/>
                </a:lnTo>
                <a:lnTo>
                  <a:pt x="520" y="374"/>
                </a:lnTo>
                <a:lnTo>
                  <a:pt x="515" y="370"/>
                </a:lnTo>
                <a:lnTo>
                  <a:pt x="514" y="364"/>
                </a:lnTo>
                <a:lnTo>
                  <a:pt x="511" y="357"/>
                </a:lnTo>
                <a:lnTo>
                  <a:pt x="504" y="342"/>
                </a:lnTo>
                <a:lnTo>
                  <a:pt x="495" y="328"/>
                </a:lnTo>
                <a:lnTo>
                  <a:pt x="478" y="305"/>
                </a:lnTo>
                <a:lnTo>
                  <a:pt x="476" y="297"/>
                </a:lnTo>
                <a:lnTo>
                  <a:pt x="468" y="294"/>
                </a:lnTo>
                <a:lnTo>
                  <a:pt x="460" y="291"/>
                </a:lnTo>
                <a:lnTo>
                  <a:pt x="444" y="280"/>
                </a:lnTo>
                <a:lnTo>
                  <a:pt x="428" y="270"/>
                </a:lnTo>
                <a:lnTo>
                  <a:pt x="412" y="264"/>
                </a:lnTo>
                <a:lnTo>
                  <a:pt x="395" y="265"/>
                </a:lnTo>
                <a:lnTo>
                  <a:pt x="376" y="277"/>
                </a:lnTo>
                <a:lnTo>
                  <a:pt x="376" y="277"/>
                </a:lnTo>
                <a:lnTo>
                  <a:pt x="376" y="263"/>
                </a:lnTo>
                <a:lnTo>
                  <a:pt x="375" y="238"/>
                </a:lnTo>
                <a:lnTo>
                  <a:pt x="369" y="222"/>
                </a:lnTo>
                <a:lnTo>
                  <a:pt x="357" y="209"/>
                </a:lnTo>
                <a:lnTo>
                  <a:pt x="339" y="196"/>
                </a:lnTo>
                <a:lnTo>
                  <a:pt x="315" y="181"/>
                </a:lnTo>
                <a:lnTo>
                  <a:pt x="302" y="173"/>
                </a:lnTo>
                <a:lnTo>
                  <a:pt x="301" y="174"/>
                </a:lnTo>
                <a:lnTo>
                  <a:pt x="298" y="178"/>
                </a:lnTo>
                <a:lnTo>
                  <a:pt x="294" y="189"/>
                </a:lnTo>
                <a:lnTo>
                  <a:pt x="291" y="199"/>
                </a:lnTo>
                <a:lnTo>
                  <a:pt x="291" y="200"/>
                </a:lnTo>
                <a:lnTo>
                  <a:pt x="294" y="205"/>
                </a:lnTo>
                <a:lnTo>
                  <a:pt x="299" y="210"/>
                </a:lnTo>
                <a:lnTo>
                  <a:pt x="311" y="228"/>
                </a:lnTo>
                <a:lnTo>
                  <a:pt x="317" y="245"/>
                </a:lnTo>
                <a:lnTo>
                  <a:pt x="318" y="249"/>
                </a:lnTo>
                <a:lnTo>
                  <a:pt x="301" y="241"/>
                </a:lnTo>
                <a:lnTo>
                  <a:pt x="271" y="228"/>
                </a:lnTo>
                <a:lnTo>
                  <a:pt x="246" y="223"/>
                </a:lnTo>
                <a:lnTo>
                  <a:pt x="224" y="228"/>
                </a:lnTo>
                <a:lnTo>
                  <a:pt x="202" y="241"/>
                </a:lnTo>
                <a:lnTo>
                  <a:pt x="179" y="261"/>
                </a:lnTo>
                <a:lnTo>
                  <a:pt x="168" y="274"/>
                </a:lnTo>
                <a:lnTo>
                  <a:pt x="150" y="274"/>
                </a:lnTo>
                <a:lnTo>
                  <a:pt x="124" y="273"/>
                </a:lnTo>
                <a:lnTo>
                  <a:pt x="81" y="258"/>
                </a:lnTo>
                <a:lnTo>
                  <a:pt x="39" y="225"/>
                </a:lnTo>
                <a:lnTo>
                  <a:pt x="27" y="212"/>
                </a:lnTo>
                <a:lnTo>
                  <a:pt x="43" y="212"/>
                </a:lnTo>
                <a:lnTo>
                  <a:pt x="66" y="210"/>
                </a:lnTo>
                <a:lnTo>
                  <a:pt x="73" y="209"/>
                </a:lnTo>
                <a:lnTo>
                  <a:pt x="75" y="207"/>
                </a:lnTo>
                <a:lnTo>
                  <a:pt x="76" y="206"/>
                </a:lnTo>
                <a:lnTo>
                  <a:pt x="76" y="205"/>
                </a:lnTo>
                <a:lnTo>
                  <a:pt x="76" y="203"/>
                </a:lnTo>
                <a:lnTo>
                  <a:pt x="73" y="202"/>
                </a:lnTo>
                <a:lnTo>
                  <a:pt x="71" y="200"/>
                </a:lnTo>
                <a:lnTo>
                  <a:pt x="63" y="196"/>
                </a:lnTo>
                <a:lnTo>
                  <a:pt x="37" y="187"/>
                </a:lnTo>
                <a:lnTo>
                  <a:pt x="5" y="178"/>
                </a:lnTo>
                <a:lnTo>
                  <a:pt x="4" y="165"/>
                </a:lnTo>
                <a:lnTo>
                  <a:pt x="1" y="141"/>
                </a:lnTo>
                <a:lnTo>
                  <a:pt x="0" y="119"/>
                </a:lnTo>
                <a:lnTo>
                  <a:pt x="0" y="115"/>
                </a:lnTo>
                <a:lnTo>
                  <a:pt x="0" y="106"/>
                </a:lnTo>
                <a:lnTo>
                  <a:pt x="4" y="87"/>
                </a:lnTo>
                <a:lnTo>
                  <a:pt x="16" y="48"/>
                </a:lnTo>
                <a:lnTo>
                  <a:pt x="23" y="10"/>
                </a:lnTo>
                <a:lnTo>
                  <a:pt x="24" y="0"/>
                </a:lnTo>
                <a:lnTo>
                  <a:pt x="27" y="0"/>
                </a:lnTo>
                <a:lnTo>
                  <a:pt x="37" y="0"/>
                </a:lnTo>
                <a:lnTo>
                  <a:pt x="55" y="2"/>
                </a:lnTo>
                <a:lnTo>
                  <a:pt x="68" y="6"/>
                </a:lnTo>
                <a:lnTo>
                  <a:pt x="71" y="6"/>
                </a:lnTo>
                <a:lnTo>
                  <a:pt x="69" y="13"/>
                </a:lnTo>
                <a:lnTo>
                  <a:pt x="69" y="38"/>
                </a:lnTo>
                <a:lnTo>
                  <a:pt x="73" y="107"/>
                </a:lnTo>
                <a:lnTo>
                  <a:pt x="84" y="138"/>
                </a:lnTo>
                <a:lnTo>
                  <a:pt x="91" y="149"/>
                </a:lnTo>
                <a:lnTo>
                  <a:pt x="101" y="158"/>
                </a:lnTo>
                <a:lnTo>
                  <a:pt x="114" y="160"/>
                </a:lnTo>
                <a:lnTo>
                  <a:pt x="115" y="160"/>
                </a:lnTo>
                <a:lnTo>
                  <a:pt x="117" y="158"/>
                </a:lnTo>
                <a:lnTo>
                  <a:pt x="123" y="152"/>
                </a:lnTo>
                <a:lnTo>
                  <a:pt x="136" y="138"/>
                </a:lnTo>
                <a:lnTo>
                  <a:pt x="142" y="131"/>
                </a:lnTo>
                <a:lnTo>
                  <a:pt x="144" y="122"/>
                </a:lnTo>
                <a:lnTo>
                  <a:pt x="144" y="118"/>
                </a:lnTo>
                <a:lnTo>
                  <a:pt x="140" y="113"/>
                </a:lnTo>
                <a:lnTo>
                  <a:pt x="136" y="107"/>
                </a:lnTo>
                <a:lnTo>
                  <a:pt x="129" y="103"/>
                </a:lnTo>
                <a:lnTo>
                  <a:pt x="114" y="96"/>
                </a:lnTo>
                <a:lnTo>
                  <a:pt x="102" y="89"/>
                </a:lnTo>
                <a:lnTo>
                  <a:pt x="100" y="86"/>
                </a:lnTo>
                <a:lnTo>
                  <a:pt x="100" y="83"/>
                </a:lnTo>
                <a:lnTo>
                  <a:pt x="100" y="81"/>
                </a:lnTo>
                <a:lnTo>
                  <a:pt x="102" y="78"/>
                </a:lnTo>
                <a:lnTo>
                  <a:pt x="105" y="76"/>
                </a:lnTo>
                <a:lnTo>
                  <a:pt x="110" y="74"/>
                </a:lnTo>
                <a:lnTo>
                  <a:pt x="123" y="68"/>
                </a:lnTo>
                <a:lnTo>
                  <a:pt x="131" y="64"/>
                </a:lnTo>
                <a:lnTo>
                  <a:pt x="126" y="60"/>
                </a:lnTo>
                <a:lnTo>
                  <a:pt x="108" y="44"/>
                </a:lnTo>
                <a:lnTo>
                  <a:pt x="95" y="31"/>
                </a:lnTo>
                <a:lnTo>
                  <a:pt x="95" y="29"/>
                </a:lnTo>
                <a:lnTo>
                  <a:pt x="97" y="28"/>
                </a:lnTo>
                <a:lnTo>
                  <a:pt x="98" y="26"/>
                </a:lnTo>
                <a:lnTo>
                  <a:pt x="102" y="23"/>
                </a:lnTo>
                <a:lnTo>
                  <a:pt x="113" y="21"/>
                </a:lnTo>
                <a:lnTo>
                  <a:pt x="117" y="22"/>
                </a:lnTo>
                <a:lnTo>
                  <a:pt x="118" y="21"/>
                </a:lnTo>
                <a:lnTo>
                  <a:pt x="120" y="19"/>
                </a:lnTo>
                <a:lnTo>
                  <a:pt x="120" y="18"/>
                </a:lnTo>
                <a:lnTo>
                  <a:pt x="120" y="16"/>
                </a:lnTo>
                <a:lnTo>
                  <a:pt x="120" y="13"/>
                </a:lnTo>
                <a:lnTo>
                  <a:pt x="118" y="3"/>
                </a:lnTo>
                <a:lnTo>
                  <a:pt x="120" y="3"/>
                </a:lnTo>
                <a:lnTo>
                  <a:pt x="120" y="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54760" y="2039760"/>
            <a:ext cx="33480" cy="24120"/>
          </a:xfrm>
          <a:custGeom>
            <a:avLst/>
            <a:gdLst/>
            <a:ahLst/>
            <a:rect l="l" t="t" r="r" b="b"/>
            <a:pathLst>
              <a:path w="96" h="76">
                <a:moveTo>
                  <a:pt x="83" y="74"/>
                </a:moveTo>
                <a:lnTo>
                  <a:pt x="76" y="76"/>
                </a:lnTo>
                <a:lnTo>
                  <a:pt x="54" y="76"/>
                </a:lnTo>
                <a:lnTo>
                  <a:pt x="38" y="76"/>
                </a:lnTo>
                <a:lnTo>
                  <a:pt x="38" y="76"/>
                </a:lnTo>
                <a:lnTo>
                  <a:pt x="34" y="73"/>
                </a:lnTo>
                <a:lnTo>
                  <a:pt x="28" y="66"/>
                </a:lnTo>
                <a:lnTo>
                  <a:pt x="16" y="48"/>
                </a:lnTo>
                <a:lnTo>
                  <a:pt x="5" y="32"/>
                </a:lnTo>
                <a:lnTo>
                  <a:pt x="2" y="28"/>
                </a:lnTo>
                <a:lnTo>
                  <a:pt x="0" y="24"/>
                </a:lnTo>
                <a:lnTo>
                  <a:pt x="2" y="16"/>
                </a:lnTo>
                <a:lnTo>
                  <a:pt x="2" y="12"/>
                </a:lnTo>
                <a:lnTo>
                  <a:pt x="5" y="9"/>
                </a:lnTo>
                <a:lnTo>
                  <a:pt x="9" y="6"/>
                </a:lnTo>
                <a:lnTo>
                  <a:pt x="15" y="3"/>
                </a:lnTo>
                <a:lnTo>
                  <a:pt x="21" y="0"/>
                </a:lnTo>
                <a:lnTo>
                  <a:pt x="27" y="6"/>
                </a:lnTo>
                <a:lnTo>
                  <a:pt x="35" y="13"/>
                </a:lnTo>
                <a:lnTo>
                  <a:pt x="42" y="16"/>
                </a:lnTo>
                <a:lnTo>
                  <a:pt x="44" y="16"/>
                </a:lnTo>
                <a:lnTo>
                  <a:pt x="55" y="16"/>
                </a:lnTo>
                <a:lnTo>
                  <a:pt x="76" y="19"/>
                </a:lnTo>
                <a:lnTo>
                  <a:pt x="89" y="27"/>
                </a:lnTo>
                <a:lnTo>
                  <a:pt x="93" y="32"/>
                </a:lnTo>
                <a:lnTo>
                  <a:pt x="96" y="38"/>
                </a:lnTo>
                <a:lnTo>
                  <a:pt x="96" y="45"/>
                </a:lnTo>
                <a:lnTo>
                  <a:pt x="96" y="53"/>
                </a:lnTo>
                <a:lnTo>
                  <a:pt x="93" y="60"/>
                </a:lnTo>
                <a:lnTo>
                  <a:pt x="89" y="67"/>
                </a:lnTo>
                <a:lnTo>
                  <a:pt x="83" y="74"/>
                </a:lnTo>
                <a:lnTo>
                  <a:pt x="83" y="74"/>
                </a:lnTo>
                <a:lnTo>
                  <a:pt x="83" y="74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3920" y="2016000"/>
            <a:ext cx="23760" cy="22320"/>
          </a:xfrm>
          <a:custGeom>
            <a:avLst/>
            <a:gdLst/>
            <a:ahLst/>
            <a:rect l="l" t="t" r="r" b="b"/>
            <a:pathLst>
              <a:path w="70" h="67">
                <a:moveTo>
                  <a:pt x="70" y="30"/>
                </a:moveTo>
                <a:lnTo>
                  <a:pt x="61" y="38"/>
                </a:lnTo>
                <a:lnTo>
                  <a:pt x="50" y="49"/>
                </a:lnTo>
                <a:lnTo>
                  <a:pt x="42" y="59"/>
                </a:lnTo>
                <a:lnTo>
                  <a:pt x="35" y="65"/>
                </a:lnTo>
                <a:lnTo>
                  <a:pt x="31" y="67"/>
                </a:lnTo>
                <a:lnTo>
                  <a:pt x="25" y="65"/>
                </a:lnTo>
                <a:lnTo>
                  <a:pt x="19" y="64"/>
                </a:lnTo>
                <a:lnTo>
                  <a:pt x="10" y="61"/>
                </a:lnTo>
                <a:lnTo>
                  <a:pt x="0" y="53"/>
                </a:lnTo>
                <a:lnTo>
                  <a:pt x="0" y="53"/>
                </a:lnTo>
                <a:lnTo>
                  <a:pt x="2" y="49"/>
                </a:lnTo>
                <a:lnTo>
                  <a:pt x="6" y="40"/>
                </a:lnTo>
                <a:lnTo>
                  <a:pt x="13" y="32"/>
                </a:lnTo>
                <a:lnTo>
                  <a:pt x="26" y="14"/>
                </a:lnTo>
                <a:lnTo>
                  <a:pt x="31" y="0"/>
                </a:lnTo>
                <a:lnTo>
                  <a:pt x="35" y="0"/>
                </a:lnTo>
                <a:lnTo>
                  <a:pt x="45" y="0"/>
                </a:lnTo>
                <a:lnTo>
                  <a:pt x="54" y="0"/>
                </a:lnTo>
                <a:lnTo>
                  <a:pt x="58" y="1"/>
                </a:lnTo>
                <a:lnTo>
                  <a:pt x="61" y="4"/>
                </a:lnTo>
                <a:lnTo>
                  <a:pt x="64" y="6"/>
                </a:lnTo>
                <a:lnTo>
                  <a:pt x="67" y="10"/>
                </a:lnTo>
                <a:lnTo>
                  <a:pt x="68" y="16"/>
                </a:lnTo>
                <a:lnTo>
                  <a:pt x="68" y="23"/>
                </a:lnTo>
                <a:lnTo>
                  <a:pt x="68" y="30"/>
                </a:lnTo>
                <a:lnTo>
                  <a:pt x="70" y="30"/>
                </a:lnTo>
                <a:lnTo>
                  <a:pt x="70" y="3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676920" y="1979640"/>
            <a:ext cx="38160" cy="47520"/>
          </a:xfrm>
          <a:custGeom>
            <a:avLst/>
            <a:gdLst/>
            <a:ahLst/>
            <a:rect l="l" t="t" r="r" b="b"/>
            <a:pathLst>
              <a:path w="105" h="141">
                <a:moveTo>
                  <a:pt x="82" y="0"/>
                </a:moveTo>
                <a:lnTo>
                  <a:pt x="89" y="10"/>
                </a:lnTo>
                <a:lnTo>
                  <a:pt x="100" y="25"/>
                </a:lnTo>
                <a:lnTo>
                  <a:pt x="105" y="38"/>
                </a:lnTo>
                <a:lnTo>
                  <a:pt x="103" y="48"/>
                </a:lnTo>
                <a:lnTo>
                  <a:pt x="100" y="61"/>
                </a:lnTo>
                <a:lnTo>
                  <a:pt x="98" y="77"/>
                </a:lnTo>
                <a:lnTo>
                  <a:pt x="98" y="86"/>
                </a:lnTo>
                <a:lnTo>
                  <a:pt x="90" y="99"/>
                </a:lnTo>
                <a:lnTo>
                  <a:pt x="82" y="116"/>
                </a:lnTo>
                <a:lnTo>
                  <a:pt x="74" y="129"/>
                </a:lnTo>
                <a:lnTo>
                  <a:pt x="67" y="136"/>
                </a:lnTo>
                <a:lnTo>
                  <a:pt x="58" y="139"/>
                </a:lnTo>
                <a:lnTo>
                  <a:pt x="42" y="141"/>
                </a:lnTo>
                <a:lnTo>
                  <a:pt x="32" y="141"/>
                </a:lnTo>
                <a:lnTo>
                  <a:pt x="25" y="141"/>
                </a:lnTo>
                <a:lnTo>
                  <a:pt x="21" y="138"/>
                </a:lnTo>
                <a:lnTo>
                  <a:pt x="16" y="135"/>
                </a:lnTo>
                <a:lnTo>
                  <a:pt x="13" y="131"/>
                </a:lnTo>
                <a:lnTo>
                  <a:pt x="12" y="126"/>
                </a:lnTo>
                <a:lnTo>
                  <a:pt x="12" y="120"/>
                </a:lnTo>
                <a:lnTo>
                  <a:pt x="12" y="116"/>
                </a:lnTo>
                <a:lnTo>
                  <a:pt x="15" y="107"/>
                </a:lnTo>
                <a:lnTo>
                  <a:pt x="19" y="102"/>
                </a:lnTo>
                <a:lnTo>
                  <a:pt x="22" y="99"/>
                </a:lnTo>
                <a:lnTo>
                  <a:pt x="25" y="94"/>
                </a:lnTo>
                <a:lnTo>
                  <a:pt x="28" y="87"/>
                </a:lnTo>
                <a:lnTo>
                  <a:pt x="28" y="84"/>
                </a:lnTo>
                <a:lnTo>
                  <a:pt x="27" y="83"/>
                </a:lnTo>
                <a:lnTo>
                  <a:pt x="25" y="83"/>
                </a:lnTo>
                <a:lnTo>
                  <a:pt x="22" y="83"/>
                </a:lnTo>
                <a:lnTo>
                  <a:pt x="13" y="83"/>
                </a:lnTo>
                <a:lnTo>
                  <a:pt x="3" y="80"/>
                </a:lnTo>
                <a:lnTo>
                  <a:pt x="3" y="80"/>
                </a:lnTo>
                <a:lnTo>
                  <a:pt x="2" y="77"/>
                </a:lnTo>
                <a:lnTo>
                  <a:pt x="0" y="71"/>
                </a:lnTo>
                <a:lnTo>
                  <a:pt x="0" y="67"/>
                </a:lnTo>
                <a:lnTo>
                  <a:pt x="0" y="64"/>
                </a:lnTo>
                <a:lnTo>
                  <a:pt x="3" y="61"/>
                </a:lnTo>
                <a:lnTo>
                  <a:pt x="8" y="57"/>
                </a:lnTo>
                <a:lnTo>
                  <a:pt x="12" y="54"/>
                </a:lnTo>
                <a:lnTo>
                  <a:pt x="16" y="55"/>
                </a:lnTo>
                <a:lnTo>
                  <a:pt x="25" y="57"/>
                </a:lnTo>
                <a:lnTo>
                  <a:pt x="34" y="61"/>
                </a:lnTo>
                <a:lnTo>
                  <a:pt x="48" y="71"/>
                </a:lnTo>
                <a:lnTo>
                  <a:pt x="56" y="76"/>
                </a:lnTo>
                <a:lnTo>
                  <a:pt x="57" y="71"/>
                </a:lnTo>
                <a:lnTo>
                  <a:pt x="63" y="60"/>
                </a:lnTo>
                <a:lnTo>
                  <a:pt x="70" y="32"/>
                </a:lnTo>
                <a:lnTo>
                  <a:pt x="79" y="6"/>
                </a:lnTo>
                <a:lnTo>
                  <a:pt x="82" y="0"/>
                </a:lnTo>
                <a:lnTo>
                  <a:pt x="82" y="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88000" y="1990800"/>
            <a:ext cx="79560" cy="57240"/>
          </a:xfrm>
          <a:custGeom>
            <a:avLst/>
            <a:gdLst/>
            <a:ahLst/>
            <a:rect l="l" t="t" r="r" b="b"/>
            <a:pathLst>
              <a:path w="232" h="173">
                <a:moveTo>
                  <a:pt x="196" y="0"/>
                </a:moveTo>
                <a:lnTo>
                  <a:pt x="196" y="6"/>
                </a:lnTo>
                <a:lnTo>
                  <a:pt x="199" y="18"/>
                </a:lnTo>
                <a:lnTo>
                  <a:pt x="203" y="48"/>
                </a:lnTo>
                <a:lnTo>
                  <a:pt x="206" y="76"/>
                </a:lnTo>
                <a:lnTo>
                  <a:pt x="207" y="81"/>
                </a:lnTo>
                <a:lnTo>
                  <a:pt x="212" y="84"/>
                </a:lnTo>
                <a:lnTo>
                  <a:pt x="216" y="86"/>
                </a:lnTo>
                <a:lnTo>
                  <a:pt x="219" y="90"/>
                </a:lnTo>
                <a:lnTo>
                  <a:pt x="226" y="99"/>
                </a:lnTo>
                <a:lnTo>
                  <a:pt x="231" y="107"/>
                </a:lnTo>
                <a:lnTo>
                  <a:pt x="232" y="118"/>
                </a:lnTo>
                <a:lnTo>
                  <a:pt x="229" y="128"/>
                </a:lnTo>
                <a:lnTo>
                  <a:pt x="228" y="131"/>
                </a:lnTo>
                <a:lnTo>
                  <a:pt x="219" y="131"/>
                </a:lnTo>
                <a:lnTo>
                  <a:pt x="205" y="131"/>
                </a:lnTo>
                <a:lnTo>
                  <a:pt x="179" y="129"/>
                </a:lnTo>
                <a:lnTo>
                  <a:pt x="151" y="131"/>
                </a:lnTo>
                <a:lnTo>
                  <a:pt x="144" y="132"/>
                </a:lnTo>
                <a:lnTo>
                  <a:pt x="134" y="133"/>
                </a:lnTo>
                <a:lnTo>
                  <a:pt x="126" y="136"/>
                </a:lnTo>
                <a:lnTo>
                  <a:pt x="121" y="139"/>
                </a:lnTo>
                <a:lnTo>
                  <a:pt x="115" y="144"/>
                </a:lnTo>
                <a:lnTo>
                  <a:pt x="106" y="152"/>
                </a:lnTo>
                <a:lnTo>
                  <a:pt x="97" y="162"/>
                </a:lnTo>
                <a:lnTo>
                  <a:pt x="87" y="170"/>
                </a:lnTo>
                <a:lnTo>
                  <a:pt x="73" y="173"/>
                </a:lnTo>
                <a:lnTo>
                  <a:pt x="73" y="173"/>
                </a:lnTo>
                <a:lnTo>
                  <a:pt x="68" y="171"/>
                </a:lnTo>
                <a:lnTo>
                  <a:pt x="66" y="168"/>
                </a:lnTo>
                <a:lnTo>
                  <a:pt x="63" y="165"/>
                </a:lnTo>
                <a:lnTo>
                  <a:pt x="61" y="160"/>
                </a:lnTo>
                <a:lnTo>
                  <a:pt x="61" y="155"/>
                </a:lnTo>
                <a:lnTo>
                  <a:pt x="61" y="144"/>
                </a:lnTo>
                <a:lnTo>
                  <a:pt x="63" y="125"/>
                </a:lnTo>
                <a:lnTo>
                  <a:pt x="64" y="122"/>
                </a:lnTo>
                <a:lnTo>
                  <a:pt x="67" y="120"/>
                </a:lnTo>
                <a:lnTo>
                  <a:pt x="77" y="118"/>
                </a:lnTo>
                <a:lnTo>
                  <a:pt x="99" y="113"/>
                </a:lnTo>
                <a:lnTo>
                  <a:pt x="118" y="106"/>
                </a:lnTo>
                <a:lnTo>
                  <a:pt x="122" y="103"/>
                </a:lnTo>
                <a:lnTo>
                  <a:pt x="113" y="102"/>
                </a:lnTo>
                <a:lnTo>
                  <a:pt x="97" y="99"/>
                </a:lnTo>
                <a:lnTo>
                  <a:pt x="79" y="100"/>
                </a:lnTo>
                <a:lnTo>
                  <a:pt x="39" y="105"/>
                </a:lnTo>
                <a:lnTo>
                  <a:pt x="15" y="106"/>
                </a:lnTo>
                <a:lnTo>
                  <a:pt x="12" y="102"/>
                </a:lnTo>
                <a:lnTo>
                  <a:pt x="5" y="89"/>
                </a:lnTo>
                <a:lnTo>
                  <a:pt x="0" y="78"/>
                </a:lnTo>
                <a:lnTo>
                  <a:pt x="0" y="77"/>
                </a:lnTo>
                <a:lnTo>
                  <a:pt x="8" y="71"/>
                </a:lnTo>
                <a:lnTo>
                  <a:pt x="22" y="61"/>
                </a:lnTo>
                <a:lnTo>
                  <a:pt x="37" y="55"/>
                </a:lnTo>
                <a:lnTo>
                  <a:pt x="51" y="51"/>
                </a:lnTo>
                <a:lnTo>
                  <a:pt x="61" y="42"/>
                </a:lnTo>
                <a:lnTo>
                  <a:pt x="70" y="26"/>
                </a:lnTo>
                <a:lnTo>
                  <a:pt x="73" y="15"/>
                </a:lnTo>
                <a:lnTo>
                  <a:pt x="89" y="15"/>
                </a:lnTo>
                <a:lnTo>
                  <a:pt x="103" y="16"/>
                </a:lnTo>
                <a:lnTo>
                  <a:pt x="113" y="20"/>
                </a:lnTo>
                <a:lnTo>
                  <a:pt x="121" y="26"/>
                </a:lnTo>
                <a:lnTo>
                  <a:pt x="125" y="34"/>
                </a:lnTo>
                <a:lnTo>
                  <a:pt x="128" y="41"/>
                </a:lnTo>
                <a:lnTo>
                  <a:pt x="131" y="48"/>
                </a:lnTo>
                <a:lnTo>
                  <a:pt x="135" y="64"/>
                </a:lnTo>
                <a:lnTo>
                  <a:pt x="138" y="71"/>
                </a:lnTo>
                <a:lnTo>
                  <a:pt x="142" y="77"/>
                </a:lnTo>
                <a:lnTo>
                  <a:pt x="148" y="81"/>
                </a:lnTo>
                <a:lnTo>
                  <a:pt x="150" y="81"/>
                </a:lnTo>
                <a:lnTo>
                  <a:pt x="157" y="73"/>
                </a:lnTo>
                <a:lnTo>
                  <a:pt x="161" y="64"/>
                </a:lnTo>
                <a:lnTo>
                  <a:pt x="163" y="55"/>
                </a:lnTo>
                <a:lnTo>
                  <a:pt x="161" y="47"/>
                </a:lnTo>
                <a:lnTo>
                  <a:pt x="160" y="38"/>
                </a:lnTo>
                <a:lnTo>
                  <a:pt x="158" y="23"/>
                </a:lnTo>
                <a:lnTo>
                  <a:pt x="158" y="18"/>
                </a:lnTo>
                <a:lnTo>
                  <a:pt x="161" y="12"/>
                </a:lnTo>
                <a:lnTo>
                  <a:pt x="168" y="7"/>
                </a:lnTo>
                <a:lnTo>
                  <a:pt x="179" y="3"/>
                </a:lnTo>
                <a:lnTo>
                  <a:pt x="194" y="0"/>
                </a:lnTo>
                <a:lnTo>
                  <a:pt x="196" y="0"/>
                </a:lnTo>
                <a:lnTo>
                  <a:pt x="196" y="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96200" y="2022480"/>
            <a:ext cx="96840" cy="77760"/>
          </a:xfrm>
          <a:custGeom>
            <a:avLst/>
            <a:gdLst/>
            <a:ahLst/>
            <a:rect l="l" t="t" r="r" b="b"/>
            <a:pathLst>
              <a:path w="279" h="239">
                <a:moveTo>
                  <a:pt x="36" y="239"/>
                </a:moveTo>
                <a:lnTo>
                  <a:pt x="36" y="233"/>
                </a:lnTo>
                <a:lnTo>
                  <a:pt x="36" y="220"/>
                </a:lnTo>
                <a:lnTo>
                  <a:pt x="33" y="207"/>
                </a:lnTo>
                <a:lnTo>
                  <a:pt x="27" y="195"/>
                </a:lnTo>
                <a:lnTo>
                  <a:pt x="19" y="184"/>
                </a:lnTo>
                <a:lnTo>
                  <a:pt x="7" y="172"/>
                </a:lnTo>
                <a:lnTo>
                  <a:pt x="0" y="166"/>
                </a:lnTo>
                <a:lnTo>
                  <a:pt x="1" y="165"/>
                </a:lnTo>
                <a:lnTo>
                  <a:pt x="16" y="148"/>
                </a:lnTo>
                <a:lnTo>
                  <a:pt x="65" y="90"/>
                </a:lnTo>
                <a:lnTo>
                  <a:pt x="103" y="46"/>
                </a:lnTo>
                <a:lnTo>
                  <a:pt x="105" y="43"/>
                </a:lnTo>
                <a:lnTo>
                  <a:pt x="100" y="39"/>
                </a:lnTo>
                <a:lnTo>
                  <a:pt x="92" y="32"/>
                </a:lnTo>
                <a:lnTo>
                  <a:pt x="88" y="26"/>
                </a:lnTo>
                <a:lnTo>
                  <a:pt x="88" y="23"/>
                </a:lnTo>
                <a:lnTo>
                  <a:pt x="87" y="20"/>
                </a:lnTo>
                <a:lnTo>
                  <a:pt x="88" y="17"/>
                </a:lnTo>
                <a:lnTo>
                  <a:pt x="90" y="14"/>
                </a:lnTo>
                <a:lnTo>
                  <a:pt x="91" y="10"/>
                </a:lnTo>
                <a:lnTo>
                  <a:pt x="97" y="0"/>
                </a:lnTo>
                <a:lnTo>
                  <a:pt x="98" y="0"/>
                </a:lnTo>
                <a:lnTo>
                  <a:pt x="108" y="1"/>
                </a:lnTo>
                <a:lnTo>
                  <a:pt x="142" y="1"/>
                </a:lnTo>
                <a:lnTo>
                  <a:pt x="168" y="1"/>
                </a:lnTo>
                <a:lnTo>
                  <a:pt x="169" y="1"/>
                </a:lnTo>
                <a:lnTo>
                  <a:pt x="174" y="3"/>
                </a:lnTo>
                <a:lnTo>
                  <a:pt x="178" y="3"/>
                </a:lnTo>
                <a:lnTo>
                  <a:pt x="182" y="6"/>
                </a:lnTo>
                <a:lnTo>
                  <a:pt x="184" y="10"/>
                </a:lnTo>
                <a:lnTo>
                  <a:pt x="185" y="13"/>
                </a:lnTo>
                <a:lnTo>
                  <a:pt x="190" y="20"/>
                </a:lnTo>
                <a:lnTo>
                  <a:pt x="197" y="30"/>
                </a:lnTo>
                <a:lnTo>
                  <a:pt x="203" y="36"/>
                </a:lnTo>
                <a:lnTo>
                  <a:pt x="210" y="42"/>
                </a:lnTo>
                <a:lnTo>
                  <a:pt x="217" y="46"/>
                </a:lnTo>
                <a:lnTo>
                  <a:pt x="236" y="52"/>
                </a:lnTo>
                <a:lnTo>
                  <a:pt x="253" y="59"/>
                </a:lnTo>
                <a:lnTo>
                  <a:pt x="268" y="68"/>
                </a:lnTo>
                <a:lnTo>
                  <a:pt x="274" y="75"/>
                </a:lnTo>
                <a:lnTo>
                  <a:pt x="278" y="82"/>
                </a:lnTo>
                <a:lnTo>
                  <a:pt x="279" y="94"/>
                </a:lnTo>
                <a:lnTo>
                  <a:pt x="279" y="107"/>
                </a:lnTo>
                <a:lnTo>
                  <a:pt x="279" y="107"/>
                </a:lnTo>
                <a:lnTo>
                  <a:pt x="253" y="120"/>
                </a:lnTo>
                <a:lnTo>
                  <a:pt x="218" y="136"/>
                </a:lnTo>
                <a:lnTo>
                  <a:pt x="184" y="161"/>
                </a:lnTo>
                <a:lnTo>
                  <a:pt x="149" y="213"/>
                </a:lnTo>
                <a:lnTo>
                  <a:pt x="133" y="236"/>
                </a:lnTo>
                <a:lnTo>
                  <a:pt x="117" y="237"/>
                </a:lnTo>
                <a:lnTo>
                  <a:pt x="72" y="239"/>
                </a:lnTo>
                <a:lnTo>
                  <a:pt x="37" y="239"/>
                </a:lnTo>
                <a:lnTo>
                  <a:pt x="36" y="239"/>
                </a:lnTo>
                <a:lnTo>
                  <a:pt x="36" y="23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59560" y="1965240"/>
            <a:ext cx="58680" cy="34920"/>
          </a:xfrm>
          <a:custGeom>
            <a:avLst/>
            <a:gdLst/>
            <a:ahLst/>
            <a:rect l="l" t="t" r="r" b="b"/>
            <a:pathLst>
              <a:path w="168" h="108">
                <a:moveTo>
                  <a:pt x="168" y="19"/>
                </a:moveTo>
                <a:lnTo>
                  <a:pt x="166" y="27"/>
                </a:lnTo>
                <a:lnTo>
                  <a:pt x="165" y="31"/>
                </a:lnTo>
                <a:lnTo>
                  <a:pt x="162" y="35"/>
                </a:lnTo>
                <a:lnTo>
                  <a:pt x="159" y="38"/>
                </a:lnTo>
                <a:lnTo>
                  <a:pt x="152" y="44"/>
                </a:lnTo>
                <a:lnTo>
                  <a:pt x="146" y="51"/>
                </a:lnTo>
                <a:lnTo>
                  <a:pt x="142" y="58"/>
                </a:lnTo>
                <a:lnTo>
                  <a:pt x="140" y="70"/>
                </a:lnTo>
                <a:lnTo>
                  <a:pt x="142" y="70"/>
                </a:lnTo>
                <a:lnTo>
                  <a:pt x="129" y="74"/>
                </a:lnTo>
                <a:lnTo>
                  <a:pt x="110" y="79"/>
                </a:lnTo>
                <a:lnTo>
                  <a:pt x="84" y="83"/>
                </a:lnTo>
                <a:lnTo>
                  <a:pt x="74" y="87"/>
                </a:lnTo>
                <a:lnTo>
                  <a:pt x="62" y="99"/>
                </a:lnTo>
                <a:lnTo>
                  <a:pt x="56" y="108"/>
                </a:lnTo>
                <a:lnTo>
                  <a:pt x="45" y="106"/>
                </a:lnTo>
                <a:lnTo>
                  <a:pt x="27" y="103"/>
                </a:lnTo>
                <a:lnTo>
                  <a:pt x="16" y="99"/>
                </a:lnTo>
                <a:lnTo>
                  <a:pt x="8" y="93"/>
                </a:lnTo>
                <a:lnTo>
                  <a:pt x="4" y="83"/>
                </a:lnTo>
                <a:lnTo>
                  <a:pt x="0" y="69"/>
                </a:lnTo>
                <a:lnTo>
                  <a:pt x="0" y="57"/>
                </a:lnTo>
                <a:lnTo>
                  <a:pt x="7" y="53"/>
                </a:lnTo>
                <a:lnTo>
                  <a:pt x="24" y="43"/>
                </a:lnTo>
                <a:lnTo>
                  <a:pt x="47" y="34"/>
                </a:lnTo>
                <a:lnTo>
                  <a:pt x="94" y="16"/>
                </a:lnTo>
                <a:lnTo>
                  <a:pt x="124" y="0"/>
                </a:lnTo>
                <a:lnTo>
                  <a:pt x="129" y="2"/>
                </a:lnTo>
                <a:lnTo>
                  <a:pt x="137" y="5"/>
                </a:lnTo>
                <a:lnTo>
                  <a:pt x="147" y="9"/>
                </a:lnTo>
                <a:lnTo>
                  <a:pt x="162" y="18"/>
                </a:lnTo>
                <a:lnTo>
                  <a:pt x="168" y="19"/>
                </a:lnTo>
                <a:lnTo>
                  <a:pt x="168" y="1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35880" y="1943280"/>
            <a:ext cx="23760" cy="14040"/>
          </a:xfrm>
          <a:custGeom>
            <a:avLst/>
            <a:gdLst/>
            <a:ahLst/>
            <a:rect l="l" t="t" r="r" b="b"/>
            <a:pathLst>
              <a:path w="63" h="45">
                <a:moveTo>
                  <a:pt x="63" y="3"/>
                </a:moveTo>
                <a:lnTo>
                  <a:pt x="59" y="8"/>
                </a:lnTo>
                <a:lnTo>
                  <a:pt x="52" y="18"/>
                </a:lnTo>
                <a:lnTo>
                  <a:pt x="37" y="37"/>
                </a:lnTo>
                <a:lnTo>
                  <a:pt x="29" y="42"/>
                </a:lnTo>
                <a:lnTo>
                  <a:pt x="17" y="45"/>
                </a:lnTo>
                <a:lnTo>
                  <a:pt x="11" y="44"/>
                </a:lnTo>
                <a:lnTo>
                  <a:pt x="6" y="41"/>
                </a:lnTo>
                <a:lnTo>
                  <a:pt x="4" y="37"/>
                </a:lnTo>
                <a:lnTo>
                  <a:pt x="3" y="32"/>
                </a:lnTo>
                <a:lnTo>
                  <a:pt x="0" y="21"/>
                </a:lnTo>
                <a:lnTo>
                  <a:pt x="0" y="16"/>
                </a:lnTo>
                <a:lnTo>
                  <a:pt x="1" y="12"/>
                </a:lnTo>
                <a:lnTo>
                  <a:pt x="4" y="8"/>
                </a:lnTo>
                <a:lnTo>
                  <a:pt x="8" y="6"/>
                </a:lnTo>
                <a:lnTo>
                  <a:pt x="13" y="6"/>
                </a:lnTo>
                <a:lnTo>
                  <a:pt x="20" y="8"/>
                </a:lnTo>
                <a:lnTo>
                  <a:pt x="21" y="8"/>
                </a:lnTo>
                <a:lnTo>
                  <a:pt x="24" y="5"/>
                </a:lnTo>
                <a:lnTo>
                  <a:pt x="32" y="2"/>
                </a:lnTo>
                <a:lnTo>
                  <a:pt x="37" y="0"/>
                </a:lnTo>
                <a:lnTo>
                  <a:pt x="45" y="0"/>
                </a:lnTo>
                <a:lnTo>
                  <a:pt x="52" y="2"/>
                </a:lnTo>
                <a:lnTo>
                  <a:pt x="59" y="3"/>
                </a:lnTo>
                <a:lnTo>
                  <a:pt x="63" y="3"/>
                </a:lnTo>
                <a:lnTo>
                  <a:pt x="63" y="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30840" y="1962000"/>
            <a:ext cx="19080" cy="14400"/>
          </a:xfrm>
          <a:custGeom>
            <a:avLst/>
            <a:gdLst/>
            <a:ahLst/>
            <a:rect l="l" t="t" r="r" b="b"/>
            <a:pathLst>
              <a:path w="55" h="42">
                <a:moveTo>
                  <a:pt x="18" y="42"/>
                </a:moveTo>
                <a:lnTo>
                  <a:pt x="8" y="35"/>
                </a:lnTo>
                <a:lnTo>
                  <a:pt x="2" y="29"/>
                </a:lnTo>
                <a:lnTo>
                  <a:pt x="0" y="23"/>
                </a:lnTo>
                <a:lnTo>
                  <a:pt x="0" y="20"/>
                </a:lnTo>
                <a:lnTo>
                  <a:pt x="0" y="17"/>
                </a:lnTo>
                <a:lnTo>
                  <a:pt x="2" y="16"/>
                </a:lnTo>
                <a:lnTo>
                  <a:pt x="5" y="13"/>
                </a:lnTo>
                <a:lnTo>
                  <a:pt x="8" y="11"/>
                </a:lnTo>
                <a:lnTo>
                  <a:pt x="13" y="8"/>
                </a:lnTo>
                <a:lnTo>
                  <a:pt x="21" y="6"/>
                </a:lnTo>
                <a:lnTo>
                  <a:pt x="37" y="1"/>
                </a:lnTo>
                <a:lnTo>
                  <a:pt x="51" y="1"/>
                </a:lnTo>
                <a:lnTo>
                  <a:pt x="55" y="0"/>
                </a:lnTo>
                <a:lnTo>
                  <a:pt x="55" y="6"/>
                </a:lnTo>
                <a:lnTo>
                  <a:pt x="55" y="10"/>
                </a:lnTo>
                <a:lnTo>
                  <a:pt x="54" y="16"/>
                </a:lnTo>
                <a:lnTo>
                  <a:pt x="51" y="20"/>
                </a:lnTo>
                <a:lnTo>
                  <a:pt x="44" y="29"/>
                </a:lnTo>
                <a:lnTo>
                  <a:pt x="35" y="36"/>
                </a:lnTo>
                <a:lnTo>
                  <a:pt x="26" y="40"/>
                </a:lnTo>
                <a:lnTo>
                  <a:pt x="18" y="42"/>
                </a:lnTo>
                <a:lnTo>
                  <a:pt x="18" y="42"/>
                </a:lnTo>
                <a:lnTo>
                  <a:pt x="18" y="4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80160" y="1932120"/>
            <a:ext cx="31680" cy="36360"/>
          </a:xfrm>
          <a:custGeom>
            <a:avLst/>
            <a:gdLst/>
            <a:ahLst/>
            <a:rect l="l" t="t" r="r" b="b"/>
            <a:pathLst>
              <a:path w="88" h="110">
                <a:moveTo>
                  <a:pt x="69" y="33"/>
                </a:moveTo>
                <a:lnTo>
                  <a:pt x="75" y="39"/>
                </a:lnTo>
                <a:lnTo>
                  <a:pt x="82" y="51"/>
                </a:lnTo>
                <a:lnTo>
                  <a:pt x="87" y="64"/>
                </a:lnTo>
                <a:lnTo>
                  <a:pt x="88" y="77"/>
                </a:lnTo>
                <a:lnTo>
                  <a:pt x="88" y="91"/>
                </a:lnTo>
                <a:lnTo>
                  <a:pt x="88" y="104"/>
                </a:lnTo>
                <a:lnTo>
                  <a:pt x="88" y="110"/>
                </a:lnTo>
                <a:lnTo>
                  <a:pt x="87" y="110"/>
                </a:lnTo>
                <a:lnTo>
                  <a:pt x="82" y="110"/>
                </a:lnTo>
                <a:lnTo>
                  <a:pt x="71" y="109"/>
                </a:lnTo>
                <a:lnTo>
                  <a:pt x="62" y="109"/>
                </a:lnTo>
                <a:lnTo>
                  <a:pt x="62" y="107"/>
                </a:lnTo>
                <a:lnTo>
                  <a:pt x="61" y="103"/>
                </a:lnTo>
                <a:lnTo>
                  <a:pt x="56" y="94"/>
                </a:lnTo>
                <a:lnTo>
                  <a:pt x="52" y="88"/>
                </a:lnTo>
                <a:lnTo>
                  <a:pt x="51" y="87"/>
                </a:lnTo>
                <a:lnTo>
                  <a:pt x="48" y="87"/>
                </a:lnTo>
                <a:lnTo>
                  <a:pt x="46" y="87"/>
                </a:lnTo>
                <a:lnTo>
                  <a:pt x="43" y="88"/>
                </a:lnTo>
                <a:lnTo>
                  <a:pt x="42" y="93"/>
                </a:lnTo>
                <a:lnTo>
                  <a:pt x="40" y="97"/>
                </a:lnTo>
                <a:lnTo>
                  <a:pt x="40" y="103"/>
                </a:lnTo>
                <a:lnTo>
                  <a:pt x="40" y="103"/>
                </a:lnTo>
                <a:lnTo>
                  <a:pt x="39" y="103"/>
                </a:lnTo>
                <a:lnTo>
                  <a:pt x="33" y="101"/>
                </a:lnTo>
                <a:lnTo>
                  <a:pt x="14" y="94"/>
                </a:lnTo>
                <a:lnTo>
                  <a:pt x="0" y="90"/>
                </a:lnTo>
                <a:lnTo>
                  <a:pt x="0" y="88"/>
                </a:lnTo>
                <a:lnTo>
                  <a:pt x="0" y="85"/>
                </a:lnTo>
                <a:lnTo>
                  <a:pt x="1" y="80"/>
                </a:lnTo>
                <a:lnTo>
                  <a:pt x="4" y="74"/>
                </a:lnTo>
                <a:lnTo>
                  <a:pt x="7" y="68"/>
                </a:lnTo>
                <a:lnTo>
                  <a:pt x="16" y="59"/>
                </a:lnTo>
                <a:lnTo>
                  <a:pt x="19" y="56"/>
                </a:lnTo>
                <a:lnTo>
                  <a:pt x="20" y="61"/>
                </a:lnTo>
                <a:lnTo>
                  <a:pt x="20" y="59"/>
                </a:lnTo>
                <a:lnTo>
                  <a:pt x="20" y="55"/>
                </a:lnTo>
                <a:lnTo>
                  <a:pt x="17" y="38"/>
                </a:lnTo>
                <a:lnTo>
                  <a:pt x="14" y="19"/>
                </a:lnTo>
                <a:lnTo>
                  <a:pt x="13" y="10"/>
                </a:lnTo>
                <a:lnTo>
                  <a:pt x="14" y="4"/>
                </a:lnTo>
                <a:lnTo>
                  <a:pt x="17" y="0"/>
                </a:lnTo>
                <a:lnTo>
                  <a:pt x="22" y="1"/>
                </a:lnTo>
                <a:lnTo>
                  <a:pt x="27" y="6"/>
                </a:lnTo>
                <a:lnTo>
                  <a:pt x="29" y="6"/>
                </a:lnTo>
                <a:lnTo>
                  <a:pt x="33" y="7"/>
                </a:lnTo>
                <a:lnTo>
                  <a:pt x="37" y="9"/>
                </a:lnTo>
                <a:lnTo>
                  <a:pt x="40" y="10"/>
                </a:lnTo>
                <a:lnTo>
                  <a:pt x="42" y="13"/>
                </a:lnTo>
                <a:lnTo>
                  <a:pt x="43" y="17"/>
                </a:lnTo>
                <a:lnTo>
                  <a:pt x="46" y="23"/>
                </a:lnTo>
                <a:lnTo>
                  <a:pt x="51" y="30"/>
                </a:lnTo>
                <a:lnTo>
                  <a:pt x="61" y="33"/>
                </a:lnTo>
                <a:lnTo>
                  <a:pt x="69" y="33"/>
                </a:lnTo>
                <a:lnTo>
                  <a:pt x="69" y="3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18320" y="1944720"/>
            <a:ext cx="17280" cy="23760"/>
          </a:xfrm>
          <a:custGeom>
            <a:avLst/>
            <a:gdLst/>
            <a:ahLst/>
            <a:rect l="l" t="t" r="r" b="b"/>
            <a:pathLst>
              <a:path w="50" h="74">
                <a:moveTo>
                  <a:pt x="50" y="35"/>
                </a:moveTo>
                <a:lnTo>
                  <a:pt x="47" y="42"/>
                </a:lnTo>
                <a:lnTo>
                  <a:pt x="41" y="60"/>
                </a:lnTo>
                <a:lnTo>
                  <a:pt x="37" y="74"/>
                </a:lnTo>
                <a:lnTo>
                  <a:pt x="37" y="74"/>
                </a:lnTo>
                <a:lnTo>
                  <a:pt x="32" y="74"/>
                </a:lnTo>
                <a:lnTo>
                  <a:pt x="25" y="71"/>
                </a:lnTo>
                <a:lnTo>
                  <a:pt x="13" y="64"/>
                </a:lnTo>
                <a:lnTo>
                  <a:pt x="3" y="55"/>
                </a:lnTo>
                <a:lnTo>
                  <a:pt x="2" y="52"/>
                </a:lnTo>
                <a:lnTo>
                  <a:pt x="0" y="45"/>
                </a:lnTo>
                <a:lnTo>
                  <a:pt x="0" y="32"/>
                </a:lnTo>
                <a:lnTo>
                  <a:pt x="2" y="25"/>
                </a:lnTo>
                <a:lnTo>
                  <a:pt x="3" y="18"/>
                </a:lnTo>
                <a:lnTo>
                  <a:pt x="6" y="13"/>
                </a:lnTo>
                <a:lnTo>
                  <a:pt x="13" y="6"/>
                </a:lnTo>
                <a:lnTo>
                  <a:pt x="18" y="0"/>
                </a:lnTo>
                <a:lnTo>
                  <a:pt x="21" y="3"/>
                </a:lnTo>
                <a:lnTo>
                  <a:pt x="26" y="9"/>
                </a:lnTo>
                <a:lnTo>
                  <a:pt x="32" y="15"/>
                </a:lnTo>
                <a:lnTo>
                  <a:pt x="41" y="28"/>
                </a:lnTo>
                <a:lnTo>
                  <a:pt x="50" y="35"/>
                </a:lnTo>
                <a:lnTo>
                  <a:pt x="50" y="35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26240" y="1979640"/>
            <a:ext cx="119160" cy="63360"/>
          </a:xfrm>
          <a:custGeom>
            <a:avLst/>
            <a:gdLst/>
            <a:ahLst/>
            <a:rect l="l" t="t" r="r" b="b"/>
            <a:pathLst>
              <a:path w="350" h="186">
                <a:moveTo>
                  <a:pt x="110" y="81"/>
                </a:moveTo>
                <a:lnTo>
                  <a:pt x="119" y="86"/>
                </a:lnTo>
                <a:lnTo>
                  <a:pt x="137" y="93"/>
                </a:lnTo>
                <a:lnTo>
                  <a:pt x="175" y="102"/>
                </a:lnTo>
                <a:lnTo>
                  <a:pt x="216" y="105"/>
                </a:lnTo>
                <a:lnTo>
                  <a:pt x="227" y="105"/>
                </a:lnTo>
                <a:lnTo>
                  <a:pt x="230" y="109"/>
                </a:lnTo>
                <a:lnTo>
                  <a:pt x="234" y="109"/>
                </a:lnTo>
                <a:lnTo>
                  <a:pt x="240" y="107"/>
                </a:lnTo>
                <a:lnTo>
                  <a:pt x="245" y="105"/>
                </a:lnTo>
                <a:lnTo>
                  <a:pt x="249" y="100"/>
                </a:lnTo>
                <a:lnTo>
                  <a:pt x="259" y="87"/>
                </a:lnTo>
                <a:lnTo>
                  <a:pt x="274" y="65"/>
                </a:lnTo>
                <a:lnTo>
                  <a:pt x="276" y="63"/>
                </a:lnTo>
                <a:lnTo>
                  <a:pt x="285" y="63"/>
                </a:lnTo>
                <a:lnTo>
                  <a:pt x="314" y="63"/>
                </a:lnTo>
                <a:lnTo>
                  <a:pt x="337" y="63"/>
                </a:lnTo>
                <a:lnTo>
                  <a:pt x="339" y="63"/>
                </a:lnTo>
                <a:lnTo>
                  <a:pt x="342" y="70"/>
                </a:lnTo>
                <a:lnTo>
                  <a:pt x="346" y="83"/>
                </a:lnTo>
                <a:lnTo>
                  <a:pt x="350" y="106"/>
                </a:lnTo>
                <a:lnTo>
                  <a:pt x="343" y="132"/>
                </a:lnTo>
                <a:lnTo>
                  <a:pt x="339" y="139"/>
                </a:lnTo>
                <a:lnTo>
                  <a:pt x="333" y="139"/>
                </a:lnTo>
                <a:lnTo>
                  <a:pt x="324" y="139"/>
                </a:lnTo>
                <a:lnTo>
                  <a:pt x="304" y="138"/>
                </a:lnTo>
                <a:lnTo>
                  <a:pt x="285" y="138"/>
                </a:lnTo>
                <a:lnTo>
                  <a:pt x="281" y="136"/>
                </a:lnTo>
                <a:lnTo>
                  <a:pt x="275" y="145"/>
                </a:lnTo>
                <a:lnTo>
                  <a:pt x="262" y="160"/>
                </a:lnTo>
                <a:lnTo>
                  <a:pt x="245" y="171"/>
                </a:lnTo>
                <a:lnTo>
                  <a:pt x="223" y="177"/>
                </a:lnTo>
                <a:lnTo>
                  <a:pt x="201" y="180"/>
                </a:lnTo>
                <a:lnTo>
                  <a:pt x="179" y="176"/>
                </a:lnTo>
                <a:lnTo>
                  <a:pt x="169" y="171"/>
                </a:lnTo>
                <a:lnTo>
                  <a:pt x="161" y="168"/>
                </a:lnTo>
                <a:lnTo>
                  <a:pt x="149" y="161"/>
                </a:lnTo>
                <a:lnTo>
                  <a:pt x="140" y="158"/>
                </a:lnTo>
                <a:lnTo>
                  <a:pt x="137" y="158"/>
                </a:lnTo>
                <a:lnTo>
                  <a:pt x="136" y="160"/>
                </a:lnTo>
                <a:lnTo>
                  <a:pt x="133" y="162"/>
                </a:lnTo>
                <a:lnTo>
                  <a:pt x="132" y="165"/>
                </a:lnTo>
                <a:lnTo>
                  <a:pt x="130" y="171"/>
                </a:lnTo>
                <a:lnTo>
                  <a:pt x="124" y="186"/>
                </a:lnTo>
                <a:lnTo>
                  <a:pt x="124" y="186"/>
                </a:lnTo>
                <a:lnTo>
                  <a:pt x="119" y="186"/>
                </a:lnTo>
                <a:lnTo>
                  <a:pt x="107" y="186"/>
                </a:lnTo>
                <a:lnTo>
                  <a:pt x="87" y="181"/>
                </a:lnTo>
                <a:lnTo>
                  <a:pt x="63" y="174"/>
                </a:lnTo>
                <a:lnTo>
                  <a:pt x="56" y="171"/>
                </a:lnTo>
                <a:lnTo>
                  <a:pt x="49" y="170"/>
                </a:lnTo>
                <a:lnTo>
                  <a:pt x="43" y="165"/>
                </a:lnTo>
                <a:lnTo>
                  <a:pt x="39" y="158"/>
                </a:lnTo>
                <a:lnTo>
                  <a:pt x="36" y="149"/>
                </a:lnTo>
                <a:lnTo>
                  <a:pt x="30" y="129"/>
                </a:lnTo>
                <a:lnTo>
                  <a:pt x="26" y="90"/>
                </a:lnTo>
                <a:lnTo>
                  <a:pt x="26" y="80"/>
                </a:lnTo>
                <a:lnTo>
                  <a:pt x="21" y="77"/>
                </a:lnTo>
                <a:lnTo>
                  <a:pt x="8" y="64"/>
                </a:lnTo>
                <a:lnTo>
                  <a:pt x="0" y="55"/>
                </a:lnTo>
                <a:lnTo>
                  <a:pt x="0" y="54"/>
                </a:lnTo>
                <a:lnTo>
                  <a:pt x="3" y="47"/>
                </a:lnTo>
                <a:lnTo>
                  <a:pt x="8" y="32"/>
                </a:lnTo>
                <a:lnTo>
                  <a:pt x="23" y="12"/>
                </a:lnTo>
                <a:lnTo>
                  <a:pt x="32" y="6"/>
                </a:lnTo>
                <a:lnTo>
                  <a:pt x="45" y="2"/>
                </a:lnTo>
                <a:lnTo>
                  <a:pt x="53" y="0"/>
                </a:lnTo>
                <a:lnTo>
                  <a:pt x="55" y="5"/>
                </a:lnTo>
                <a:lnTo>
                  <a:pt x="56" y="7"/>
                </a:lnTo>
                <a:lnTo>
                  <a:pt x="58" y="10"/>
                </a:lnTo>
                <a:lnTo>
                  <a:pt x="59" y="13"/>
                </a:lnTo>
                <a:lnTo>
                  <a:pt x="58" y="20"/>
                </a:lnTo>
                <a:lnTo>
                  <a:pt x="58" y="29"/>
                </a:lnTo>
                <a:lnTo>
                  <a:pt x="55" y="44"/>
                </a:lnTo>
                <a:lnTo>
                  <a:pt x="56" y="44"/>
                </a:lnTo>
                <a:lnTo>
                  <a:pt x="62" y="45"/>
                </a:lnTo>
                <a:lnTo>
                  <a:pt x="71" y="44"/>
                </a:lnTo>
                <a:lnTo>
                  <a:pt x="77" y="42"/>
                </a:lnTo>
                <a:lnTo>
                  <a:pt x="81" y="39"/>
                </a:lnTo>
                <a:lnTo>
                  <a:pt x="85" y="34"/>
                </a:lnTo>
                <a:lnTo>
                  <a:pt x="94" y="23"/>
                </a:lnTo>
                <a:lnTo>
                  <a:pt x="101" y="16"/>
                </a:lnTo>
                <a:lnTo>
                  <a:pt x="104" y="20"/>
                </a:lnTo>
                <a:lnTo>
                  <a:pt x="106" y="26"/>
                </a:lnTo>
                <a:lnTo>
                  <a:pt x="108" y="36"/>
                </a:lnTo>
                <a:lnTo>
                  <a:pt x="110" y="48"/>
                </a:lnTo>
                <a:lnTo>
                  <a:pt x="110" y="71"/>
                </a:lnTo>
                <a:lnTo>
                  <a:pt x="110" y="81"/>
                </a:lnTo>
                <a:lnTo>
                  <a:pt x="110" y="8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26240" y="1884240"/>
            <a:ext cx="55440" cy="73080"/>
          </a:xfrm>
          <a:custGeom>
            <a:avLst/>
            <a:gdLst/>
            <a:ahLst/>
            <a:rect l="l" t="t" r="r" b="b"/>
            <a:pathLst>
              <a:path w="158" h="226">
                <a:moveTo>
                  <a:pt x="158" y="140"/>
                </a:moveTo>
                <a:lnTo>
                  <a:pt x="156" y="143"/>
                </a:lnTo>
                <a:lnTo>
                  <a:pt x="147" y="155"/>
                </a:lnTo>
                <a:lnTo>
                  <a:pt x="118" y="194"/>
                </a:lnTo>
                <a:lnTo>
                  <a:pt x="95" y="224"/>
                </a:lnTo>
                <a:lnTo>
                  <a:pt x="95" y="226"/>
                </a:lnTo>
                <a:lnTo>
                  <a:pt x="87" y="226"/>
                </a:lnTo>
                <a:lnTo>
                  <a:pt x="72" y="221"/>
                </a:lnTo>
                <a:lnTo>
                  <a:pt x="62" y="214"/>
                </a:lnTo>
                <a:lnTo>
                  <a:pt x="55" y="204"/>
                </a:lnTo>
                <a:lnTo>
                  <a:pt x="50" y="192"/>
                </a:lnTo>
                <a:lnTo>
                  <a:pt x="45" y="179"/>
                </a:lnTo>
                <a:lnTo>
                  <a:pt x="43" y="172"/>
                </a:lnTo>
                <a:lnTo>
                  <a:pt x="45" y="171"/>
                </a:lnTo>
                <a:lnTo>
                  <a:pt x="52" y="162"/>
                </a:lnTo>
                <a:lnTo>
                  <a:pt x="58" y="156"/>
                </a:lnTo>
                <a:lnTo>
                  <a:pt x="59" y="155"/>
                </a:lnTo>
                <a:lnTo>
                  <a:pt x="47" y="146"/>
                </a:lnTo>
                <a:lnTo>
                  <a:pt x="33" y="137"/>
                </a:lnTo>
                <a:lnTo>
                  <a:pt x="23" y="137"/>
                </a:lnTo>
                <a:lnTo>
                  <a:pt x="20" y="137"/>
                </a:lnTo>
                <a:lnTo>
                  <a:pt x="18" y="137"/>
                </a:lnTo>
                <a:lnTo>
                  <a:pt x="14" y="133"/>
                </a:lnTo>
                <a:lnTo>
                  <a:pt x="11" y="126"/>
                </a:lnTo>
                <a:lnTo>
                  <a:pt x="7" y="97"/>
                </a:lnTo>
                <a:lnTo>
                  <a:pt x="7" y="97"/>
                </a:lnTo>
                <a:lnTo>
                  <a:pt x="3" y="82"/>
                </a:lnTo>
                <a:lnTo>
                  <a:pt x="0" y="58"/>
                </a:lnTo>
                <a:lnTo>
                  <a:pt x="3" y="39"/>
                </a:lnTo>
                <a:lnTo>
                  <a:pt x="8" y="26"/>
                </a:lnTo>
                <a:lnTo>
                  <a:pt x="16" y="16"/>
                </a:lnTo>
                <a:lnTo>
                  <a:pt x="21" y="6"/>
                </a:lnTo>
                <a:lnTo>
                  <a:pt x="23" y="0"/>
                </a:lnTo>
                <a:lnTo>
                  <a:pt x="27" y="1"/>
                </a:lnTo>
                <a:lnTo>
                  <a:pt x="33" y="7"/>
                </a:lnTo>
                <a:lnTo>
                  <a:pt x="46" y="23"/>
                </a:lnTo>
                <a:lnTo>
                  <a:pt x="78" y="56"/>
                </a:lnTo>
                <a:lnTo>
                  <a:pt x="92" y="63"/>
                </a:lnTo>
                <a:lnTo>
                  <a:pt x="103" y="77"/>
                </a:lnTo>
                <a:lnTo>
                  <a:pt x="133" y="113"/>
                </a:lnTo>
                <a:lnTo>
                  <a:pt x="156" y="139"/>
                </a:lnTo>
                <a:lnTo>
                  <a:pt x="158" y="140"/>
                </a:lnTo>
                <a:lnTo>
                  <a:pt x="158" y="14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46760" y="1820880"/>
            <a:ext cx="101880" cy="173160"/>
          </a:xfrm>
          <a:custGeom>
            <a:avLst/>
            <a:gdLst/>
            <a:ahLst/>
            <a:rect l="l" t="t" r="r" b="b"/>
            <a:pathLst>
              <a:path w="294" h="532">
                <a:moveTo>
                  <a:pt x="130" y="252"/>
                </a:moveTo>
                <a:lnTo>
                  <a:pt x="126" y="249"/>
                </a:lnTo>
                <a:lnTo>
                  <a:pt x="125" y="246"/>
                </a:lnTo>
                <a:lnTo>
                  <a:pt x="123" y="244"/>
                </a:lnTo>
                <a:lnTo>
                  <a:pt x="123" y="241"/>
                </a:lnTo>
                <a:lnTo>
                  <a:pt x="125" y="238"/>
                </a:lnTo>
                <a:lnTo>
                  <a:pt x="126" y="235"/>
                </a:lnTo>
                <a:lnTo>
                  <a:pt x="128" y="232"/>
                </a:lnTo>
                <a:lnTo>
                  <a:pt x="133" y="225"/>
                </a:lnTo>
                <a:lnTo>
                  <a:pt x="141" y="216"/>
                </a:lnTo>
                <a:lnTo>
                  <a:pt x="145" y="210"/>
                </a:lnTo>
                <a:lnTo>
                  <a:pt x="151" y="203"/>
                </a:lnTo>
                <a:lnTo>
                  <a:pt x="152" y="199"/>
                </a:lnTo>
                <a:lnTo>
                  <a:pt x="152" y="197"/>
                </a:lnTo>
                <a:lnTo>
                  <a:pt x="148" y="197"/>
                </a:lnTo>
                <a:lnTo>
                  <a:pt x="146" y="197"/>
                </a:lnTo>
                <a:lnTo>
                  <a:pt x="139" y="200"/>
                </a:lnTo>
                <a:lnTo>
                  <a:pt x="123" y="209"/>
                </a:lnTo>
                <a:lnTo>
                  <a:pt x="106" y="217"/>
                </a:lnTo>
                <a:lnTo>
                  <a:pt x="91" y="223"/>
                </a:lnTo>
                <a:lnTo>
                  <a:pt x="88" y="222"/>
                </a:lnTo>
                <a:lnTo>
                  <a:pt x="77" y="220"/>
                </a:lnTo>
                <a:lnTo>
                  <a:pt x="55" y="216"/>
                </a:lnTo>
                <a:lnTo>
                  <a:pt x="17" y="202"/>
                </a:lnTo>
                <a:lnTo>
                  <a:pt x="6" y="194"/>
                </a:lnTo>
                <a:lnTo>
                  <a:pt x="1" y="191"/>
                </a:lnTo>
                <a:lnTo>
                  <a:pt x="0" y="188"/>
                </a:lnTo>
                <a:lnTo>
                  <a:pt x="0" y="186"/>
                </a:lnTo>
                <a:lnTo>
                  <a:pt x="4" y="175"/>
                </a:lnTo>
                <a:lnTo>
                  <a:pt x="10" y="155"/>
                </a:lnTo>
                <a:lnTo>
                  <a:pt x="13" y="138"/>
                </a:lnTo>
                <a:lnTo>
                  <a:pt x="16" y="122"/>
                </a:lnTo>
                <a:lnTo>
                  <a:pt x="26" y="107"/>
                </a:lnTo>
                <a:lnTo>
                  <a:pt x="46" y="97"/>
                </a:lnTo>
                <a:lnTo>
                  <a:pt x="64" y="91"/>
                </a:lnTo>
                <a:lnTo>
                  <a:pt x="71" y="88"/>
                </a:lnTo>
                <a:lnTo>
                  <a:pt x="78" y="84"/>
                </a:lnTo>
                <a:lnTo>
                  <a:pt x="97" y="68"/>
                </a:lnTo>
                <a:lnTo>
                  <a:pt x="139" y="31"/>
                </a:lnTo>
                <a:lnTo>
                  <a:pt x="174" y="0"/>
                </a:lnTo>
                <a:lnTo>
                  <a:pt x="178" y="3"/>
                </a:lnTo>
                <a:lnTo>
                  <a:pt x="196" y="12"/>
                </a:lnTo>
                <a:lnTo>
                  <a:pt x="209" y="17"/>
                </a:lnTo>
                <a:lnTo>
                  <a:pt x="210" y="17"/>
                </a:lnTo>
                <a:lnTo>
                  <a:pt x="214" y="16"/>
                </a:lnTo>
                <a:lnTo>
                  <a:pt x="225" y="13"/>
                </a:lnTo>
                <a:lnTo>
                  <a:pt x="246" y="10"/>
                </a:lnTo>
                <a:lnTo>
                  <a:pt x="268" y="10"/>
                </a:lnTo>
                <a:lnTo>
                  <a:pt x="274" y="9"/>
                </a:lnTo>
                <a:lnTo>
                  <a:pt x="274" y="17"/>
                </a:lnTo>
                <a:lnTo>
                  <a:pt x="274" y="36"/>
                </a:lnTo>
                <a:lnTo>
                  <a:pt x="271" y="78"/>
                </a:lnTo>
                <a:lnTo>
                  <a:pt x="264" y="97"/>
                </a:lnTo>
                <a:lnTo>
                  <a:pt x="252" y="110"/>
                </a:lnTo>
                <a:lnTo>
                  <a:pt x="245" y="115"/>
                </a:lnTo>
                <a:lnTo>
                  <a:pt x="252" y="119"/>
                </a:lnTo>
                <a:lnTo>
                  <a:pt x="275" y="132"/>
                </a:lnTo>
                <a:lnTo>
                  <a:pt x="293" y="142"/>
                </a:lnTo>
                <a:lnTo>
                  <a:pt x="294" y="142"/>
                </a:lnTo>
                <a:lnTo>
                  <a:pt x="291" y="155"/>
                </a:lnTo>
                <a:lnTo>
                  <a:pt x="285" y="181"/>
                </a:lnTo>
                <a:lnTo>
                  <a:pt x="271" y="238"/>
                </a:lnTo>
                <a:lnTo>
                  <a:pt x="255" y="280"/>
                </a:lnTo>
                <a:lnTo>
                  <a:pt x="251" y="284"/>
                </a:lnTo>
                <a:lnTo>
                  <a:pt x="252" y="297"/>
                </a:lnTo>
                <a:lnTo>
                  <a:pt x="256" y="322"/>
                </a:lnTo>
                <a:lnTo>
                  <a:pt x="256" y="377"/>
                </a:lnTo>
                <a:lnTo>
                  <a:pt x="243" y="430"/>
                </a:lnTo>
                <a:lnTo>
                  <a:pt x="238" y="442"/>
                </a:lnTo>
                <a:lnTo>
                  <a:pt x="245" y="446"/>
                </a:lnTo>
                <a:lnTo>
                  <a:pt x="271" y="459"/>
                </a:lnTo>
                <a:lnTo>
                  <a:pt x="291" y="468"/>
                </a:lnTo>
                <a:lnTo>
                  <a:pt x="293" y="468"/>
                </a:lnTo>
                <a:lnTo>
                  <a:pt x="291" y="474"/>
                </a:lnTo>
                <a:lnTo>
                  <a:pt x="290" y="483"/>
                </a:lnTo>
                <a:lnTo>
                  <a:pt x="284" y="499"/>
                </a:lnTo>
                <a:lnTo>
                  <a:pt x="275" y="513"/>
                </a:lnTo>
                <a:lnTo>
                  <a:pt x="274" y="514"/>
                </a:lnTo>
                <a:lnTo>
                  <a:pt x="268" y="514"/>
                </a:lnTo>
                <a:lnTo>
                  <a:pt x="259" y="513"/>
                </a:lnTo>
                <a:lnTo>
                  <a:pt x="243" y="509"/>
                </a:lnTo>
                <a:lnTo>
                  <a:pt x="230" y="506"/>
                </a:lnTo>
                <a:lnTo>
                  <a:pt x="229" y="504"/>
                </a:lnTo>
                <a:lnTo>
                  <a:pt x="219" y="510"/>
                </a:lnTo>
                <a:lnTo>
                  <a:pt x="199" y="519"/>
                </a:lnTo>
                <a:lnTo>
                  <a:pt x="151" y="532"/>
                </a:lnTo>
                <a:lnTo>
                  <a:pt x="103" y="530"/>
                </a:lnTo>
                <a:lnTo>
                  <a:pt x="91" y="526"/>
                </a:lnTo>
                <a:lnTo>
                  <a:pt x="91" y="516"/>
                </a:lnTo>
                <a:lnTo>
                  <a:pt x="96" y="484"/>
                </a:lnTo>
                <a:lnTo>
                  <a:pt x="97" y="459"/>
                </a:lnTo>
                <a:lnTo>
                  <a:pt x="99" y="458"/>
                </a:lnTo>
                <a:lnTo>
                  <a:pt x="103" y="457"/>
                </a:lnTo>
                <a:lnTo>
                  <a:pt x="114" y="452"/>
                </a:lnTo>
                <a:lnTo>
                  <a:pt x="141" y="446"/>
                </a:lnTo>
                <a:lnTo>
                  <a:pt x="165" y="443"/>
                </a:lnTo>
                <a:lnTo>
                  <a:pt x="171" y="442"/>
                </a:lnTo>
                <a:lnTo>
                  <a:pt x="165" y="441"/>
                </a:lnTo>
                <a:lnTo>
                  <a:pt x="152" y="436"/>
                </a:lnTo>
                <a:lnTo>
                  <a:pt x="114" y="422"/>
                </a:lnTo>
                <a:lnTo>
                  <a:pt x="99" y="413"/>
                </a:lnTo>
                <a:lnTo>
                  <a:pt x="88" y="406"/>
                </a:lnTo>
                <a:lnTo>
                  <a:pt x="88" y="401"/>
                </a:lnTo>
                <a:lnTo>
                  <a:pt x="90" y="400"/>
                </a:lnTo>
                <a:lnTo>
                  <a:pt x="94" y="397"/>
                </a:lnTo>
                <a:lnTo>
                  <a:pt x="101" y="391"/>
                </a:lnTo>
                <a:lnTo>
                  <a:pt x="120" y="365"/>
                </a:lnTo>
                <a:lnTo>
                  <a:pt x="129" y="332"/>
                </a:lnTo>
                <a:lnTo>
                  <a:pt x="128" y="320"/>
                </a:lnTo>
                <a:lnTo>
                  <a:pt x="125" y="312"/>
                </a:lnTo>
                <a:lnTo>
                  <a:pt x="122" y="306"/>
                </a:lnTo>
                <a:lnTo>
                  <a:pt x="117" y="300"/>
                </a:lnTo>
                <a:lnTo>
                  <a:pt x="112" y="297"/>
                </a:lnTo>
                <a:lnTo>
                  <a:pt x="106" y="294"/>
                </a:lnTo>
                <a:lnTo>
                  <a:pt x="96" y="290"/>
                </a:lnTo>
                <a:lnTo>
                  <a:pt x="91" y="288"/>
                </a:lnTo>
                <a:lnTo>
                  <a:pt x="88" y="284"/>
                </a:lnTo>
                <a:lnTo>
                  <a:pt x="88" y="278"/>
                </a:lnTo>
                <a:lnTo>
                  <a:pt x="88" y="271"/>
                </a:lnTo>
                <a:lnTo>
                  <a:pt x="90" y="271"/>
                </a:lnTo>
                <a:lnTo>
                  <a:pt x="93" y="265"/>
                </a:lnTo>
                <a:lnTo>
                  <a:pt x="100" y="262"/>
                </a:lnTo>
                <a:lnTo>
                  <a:pt x="109" y="262"/>
                </a:lnTo>
                <a:lnTo>
                  <a:pt x="117" y="264"/>
                </a:lnTo>
                <a:lnTo>
                  <a:pt x="129" y="268"/>
                </a:lnTo>
                <a:lnTo>
                  <a:pt x="149" y="280"/>
                </a:lnTo>
                <a:lnTo>
                  <a:pt x="177" y="296"/>
                </a:lnTo>
                <a:lnTo>
                  <a:pt x="178" y="294"/>
                </a:lnTo>
                <a:lnTo>
                  <a:pt x="174" y="291"/>
                </a:lnTo>
                <a:lnTo>
                  <a:pt x="171" y="288"/>
                </a:lnTo>
                <a:lnTo>
                  <a:pt x="162" y="281"/>
                </a:lnTo>
                <a:lnTo>
                  <a:pt x="142" y="265"/>
                </a:lnTo>
                <a:lnTo>
                  <a:pt x="130" y="252"/>
                </a:lnTo>
                <a:lnTo>
                  <a:pt x="130" y="25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196040" y="3592440"/>
            <a:ext cx="163440" cy="66600"/>
          </a:xfrm>
          <a:custGeom>
            <a:avLst/>
            <a:gdLst/>
            <a:ahLst/>
            <a:rect l="l" t="t" r="r" b="b"/>
            <a:pathLst>
              <a:path w="475" h="200">
                <a:moveTo>
                  <a:pt x="0" y="48"/>
                </a:moveTo>
                <a:lnTo>
                  <a:pt x="14" y="61"/>
                </a:lnTo>
                <a:lnTo>
                  <a:pt x="36" y="78"/>
                </a:lnTo>
                <a:lnTo>
                  <a:pt x="50" y="90"/>
                </a:lnTo>
                <a:lnTo>
                  <a:pt x="65" y="96"/>
                </a:lnTo>
                <a:lnTo>
                  <a:pt x="86" y="99"/>
                </a:lnTo>
                <a:lnTo>
                  <a:pt x="120" y="100"/>
                </a:lnTo>
                <a:lnTo>
                  <a:pt x="143" y="102"/>
                </a:lnTo>
                <a:lnTo>
                  <a:pt x="162" y="84"/>
                </a:lnTo>
                <a:lnTo>
                  <a:pt x="208" y="49"/>
                </a:lnTo>
                <a:lnTo>
                  <a:pt x="314" y="3"/>
                </a:lnTo>
                <a:lnTo>
                  <a:pt x="368" y="0"/>
                </a:lnTo>
                <a:lnTo>
                  <a:pt x="415" y="18"/>
                </a:lnTo>
                <a:lnTo>
                  <a:pt x="439" y="35"/>
                </a:lnTo>
                <a:lnTo>
                  <a:pt x="436" y="44"/>
                </a:lnTo>
                <a:lnTo>
                  <a:pt x="437" y="52"/>
                </a:lnTo>
                <a:lnTo>
                  <a:pt x="440" y="58"/>
                </a:lnTo>
                <a:lnTo>
                  <a:pt x="446" y="64"/>
                </a:lnTo>
                <a:lnTo>
                  <a:pt x="453" y="70"/>
                </a:lnTo>
                <a:lnTo>
                  <a:pt x="466" y="81"/>
                </a:lnTo>
                <a:lnTo>
                  <a:pt x="470" y="87"/>
                </a:lnTo>
                <a:lnTo>
                  <a:pt x="473" y="93"/>
                </a:lnTo>
                <a:lnTo>
                  <a:pt x="472" y="99"/>
                </a:lnTo>
                <a:lnTo>
                  <a:pt x="466" y="107"/>
                </a:lnTo>
                <a:lnTo>
                  <a:pt x="456" y="115"/>
                </a:lnTo>
                <a:lnTo>
                  <a:pt x="456" y="115"/>
                </a:lnTo>
                <a:lnTo>
                  <a:pt x="466" y="123"/>
                </a:lnTo>
                <a:lnTo>
                  <a:pt x="473" y="131"/>
                </a:lnTo>
                <a:lnTo>
                  <a:pt x="475" y="138"/>
                </a:lnTo>
                <a:lnTo>
                  <a:pt x="473" y="144"/>
                </a:lnTo>
                <a:lnTo>
                  <a:pt x="470" y="149"/>
                </a:lnTo>
                <a:lnTo>
                  <a:pt x="465" y="154"/>
                </a:lnTo>
                <a:lnTo>
                  <a:pt x="457" y="158"/>
                </a:lnTo>
                <a:lnTo>
                  <a:pt x="444" y="165"/>
                </a:lnTo>
                <a:lnTo>
                  <a:pt x="440" y="168"/>
                </a:lnTo>
                <a:lnTo>
                  <a:pt x="439" y="170"/>
                </a:lnTo>
                <a:lnTo>
                  <a:pt x="437" y="171"/>
                </a:lnTo>
                <a:lnTo>
                  <a:pt x="437" y="173"/>
                </a:lnTo>
                <a:lnTo>
                  <a:pt x="439" y="173"/>
                </a:lnTo>
                <a:lnTo>
                  <a:pt x="427" y="165"/>
                </a:lnTo>
                <a:lnTo>
                  <a:pt x="405" y="148"/>
                </a:lnTo>
                <a:lnTo>
                  <a:pt x="365" y="106"/>
                </a:lnTo>
                <a:lnTo>
                  <a:pt x="328" y="62"/>
                </a:lnTo>
                <a:lnTo>
                  <a:pt x="320" y="52"/>
                </a:lnTo>
                <a:lnTo>
                  <a:pt x="304" y="61"/>
                </a:lnTo>
                <a:lnTo>
                  <a:pt x="281" y="81"/>
                </a:lnTo>
                <a:lnTo>
                  <a:pt x="262" y="107"/>
                </a:lnTo>
                <a:lnTo>
                  <a:pt x="246" y="135"/>
                </a:lnTo>
                <a:lnTo>
                  <a:pt x="211" y="189"/>
                </a:lnTo>
                <a:lnTo>
                  <a:pt x="201" y="200"/>
                </a:lnTo>
                <a:lnTo>
                  <a:pt x="186" y="200"/>
                </a:lnTo>
                <a:lnTo>
                  <a:pt x="162" y="193"/>
                </a:lnTo>
                <a:lnTo>
                  <a:pt x="139" y="180"/>
                </a:lnTo>
                <a:lnTo>
                  <a:pt x="94" y="154"/>
                </a:lnTo>
                <a:lnTo>
                  <a:pt x="56" y="145"/>
                </a:lnTo>
                <a:lnTo>
                  <a:pt x="52" y="149"/>
                </a:lnTo>
                <a:lnTo>
                  <a:pt x="47" y="155"/>
                </a:lnTo>
                <a:lnTo>
                  <a:pt x="37" y="168"/>
                </a:lnTo>
                <a:lnTo>
                  <a:pt x="30" y="173"/>
                </a:lnTo>
                <a:lnTo>
                  <a:pt x="21" y="174"/>
                </a:lnTo>
                <a:lnTo>
                  <a:pt x="15" y="174"/>
                </a:lnTo>
                <a:lnTo>
                  <a:pt x="13" y="155"/>
                </a:lnTo>
                <a:lnTo>
                  <a:pt x="5" y="96"/>
                </a:lnTo>
                <a:lnTo>
                  <a:pt x="0" y="51"/>
                </a:lnTo>
                <a:lnTo>
                  <a:pt x="0" y="48"/>
                </a:lnTo>
                <a:lnTo>
                  <a:pt x="0" y="48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59600" y="3502080"/>
            <a:ext cx="117360" cy="111240"/>
          </a:xfrm>
          <a:custGeom>
            <a:avLst/>
            <a:gdLst/>
            <a:ahLst/>
            <a:rect l="l" t="t" r="r" b="b"/>
            <a:pathLst>
              <a:path w="338" h="336">
                <a:moveTo>
                  <a:pt x="245" y="269"/>
                </a:moveTo>
                <a:lnTo>
                  <a:pt x="228" y="271"/>
                </a:lnTo>
                <a:lnTo>
                  <a:pt x="202" y="271"/>
                </a:lnTo>
                <a:lnTo>
                  <a:pt x="183" y="275"/>
                </a:lnTo>
                <a:lnTo>
                  <a:pt x="169" y="283"/>
                </a:lnTo>
                <a:lnTo>
                  <a:pt x="157" y="297"/>
                </a:lnTo>
                <a:lnTo>
                  <a:pt x="144" y="322"/>
                </a:lnTo>
                <a:lnTo>
                  <a:pt x="138" y="336"/>
                </a:lnTo>
                <a:lnTo>
                  <a:pt x="129" y="327"/>
                </a:lnTo>
                <a:lnTo>
                  <a:pt x="111" y="304"/>
                </a:lnTo>
                <a:lnTo>
                  <a:pt x="66" y="248"/>
                </a:lnTo>
                <a:lnTo>
                  <a:pt x="13" y="191"/>
                </a:lnTo>
                <a:lnTo>
                  <a:pt x="0" y="178"/>
                </a:lnTo>
                <a:lnTo>
                  <a:pt x="3" y="177"/>
                </a:lnTo>
                <a:lnTo>
                  <a:pt x="19" y="165"/>
                </a:lnTo>
                <a:lnTo>
                  <a:pt x="61" y="130"/>
                </a:lnTo>
                <a:lnTo>
                  <a:pt x="90" y="101"/>
                </a:lnTo>
                <a:lnTo>
                  <a:pt x="93" y="97"/>
                </a:lnTo>
                <a:lnTo>
                  <a:pt x="106" y="88"/>
                </a:lnTo>
                <a:lnTo>
                  <a:pt x="142" y="70"/>
                </a:lnTo>
                <a:lnTo>
                  <a:pt x="234" y="30"/>
                </a:lnTo>
                <a:lnTo>
                  <a:pt x="316" y="4"/>
                </a:lnTo>
                <a:lnTo>
                  <a:pt x="332" y="0"/>
                </a:lnTo>
                <a:lnTo>
                  <a:pt x="331" y="7"/>
                </a:lnTo>
                <a:lnTo>
                  <a:pt x="328" y="20"/>
                </a:lnTo>
                <a:lnTo>
                  <a:pt x="318" y="45"/>
                </a:lnTo>
                <a:lnTo>
                  <a:pt x="306" y="62"/>
                </a:lnTo>
                <a:lnTo>
                  <a:pt x="305" y="64"/>
                </a:lnTo>
                <a:lnTo>
                  <a:pt x="305" y="72"/>
                </a:lnTo>
                <a:lnTo>
                  <a:pt x="308" y="91"/>
                </a:lnTo>
                <a:lnTo>
                  <a:pt x="321" y="135"/>
                </a:lnTo>
                <a:lnTo>
                  <a:pt x="335" y="175"/>
                </a:lnTo>
                <a:lnTo>
                  <a:pt x="338" y="183"/>
                </a:lnTo>
                <a:lnTo>
                  <a:pt x="329" y="191"/>
                </a:lnTo>
                <a:lnTo>
                  <a:pt x="318" y="203"/>
                </a:lnTo>
                <a:lnTo>
                  <a:pt x="313" y="210"/>
                </a:lnTo>
                <a:lnTo>
                  <a:pt x="311" y="219"/>
                </a:lnTo>
                <a:lnTo>
                  <a:pt x="312" y="232"/>
                </a:lnTo>
                <a:lnTo>
                  <a:pt x="313" y="251"/>
                </a:lnTo>
                <a:lnTo>
                  <a:pt x="315" y="264"/>
                </a:lnTo>
                <a:lnTo>
                  <a:pt x="308" y="265"/>
                </a:lnTo>
                <a:lnTo>
                  <a:pt x="295" y="265"/>
                </a:lnTo>
                <a:lnTo>
                  <a:pt x="271" y="268"/>
                </a:lnTo>
                <a:lnTo>
                  <a:pt x="250" y="269"/>
                </a:lnTo>
                <a:lnTo>
                  <a:pt x="245" y="269"/>
                </a:lnTo>
                <a:lnTo>
                  <a:pt x="245" y="269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07120" y="3587760"/>
            <a:ext cx="92160" cy="61920"/>
          </a:xfrm>
          <a:custGeom>
            <a:avLst/>
            <a:gdLst/>
            <a:ahLst/>
            <a:rect l="l" t="t" r="r" b="b"/>
            <a:pathLst>
              <a:path w="270" h="188">
                <a:moveTo>
                  <a:pt x="178" y="0"/>
                </a:moveTo>
                <a:lnTo>
                  <a:pt x="168" y="1"/>
                </a:lnTo>
                <a:lnTo>
                  <a:pt x="148" y="1"/>
                </a:lnTo>
                <a:lnTo>
                  <a:pt x="107" y="5"/>
                </a:lnTo>
                <a:lnTo>
                  <a:pt x="68" y="5"/>
                </a:lnTo>
                <a:lnTo>
                  <a:pt x="59" y="4"/>
                </a:lnTo>
                <a:lnTo>
                  <a:pt x="49" y="4"/>
                </a:lnTo>
                <a:lnTo>
                  <a:pt x="41" y="7"/>
                </a:lnTo>
                <a:lnTo>
                  <a:pt x="35" y="10"/>
                </a:lnTo>
                <a:lnTo>
                  <a:pt x="28" y="16"/>
                </a:lnTo>
                <a:lnTo>
                  <a:pt x="23" y="21"/>
                </a:lnTo>
                <a:lnTo>
                  <a:pt x="15" y="36"/>
                </a:lnTo>
                <a:lnTo>
                  <a:pt x="9" y="52"/>
                </a:lnTo>
                <a:lnTo>
                  <a:pt x="3" y="68"/>
                </a:lnTo>
                <a:lnTo>
                  <a:pt x="0" y="74"/>
                </a:lnTo>
                <a:lnTo>
                  <a:pt x="3" y="76"/>
                </a:lnTo>
                <a:lnTo>
                  <a:pt x="15" y="85"/>
                </a:lnTo>
                <a:lnTo>
                  <a:pt x="49" y="103"/>
                </a:lnTo>
                <a:lnTo>
                  <a:pt x="81" y="116"/>
                </a:lnTo>
                <a:lnTo>
                  <a:pt x="87" y="116"/>
                </a:lnTo>
                <a:lnTo>
                  <a:pt x="87" y="105"/>
                </a:lnTo>
                <a:lnTo>
                  <a:pt x="88" y="91"/>
                </a:lnTo>
                <a:lnTo>
                  <a:pt x="90" y="87"/>
                </a:lnTo>
                <a:lnTo>
                  <a:pt x="91" y="85"/>
                </a:lnTo>
                <a:lnTo>
                  <a:pt x="93" y="84"/>
                </a:lnTo>
                <a:lnTo>
                  <a:pt x="94" y="84"/>
                </a:lnTo>
                <a:lnTo>
                  <a:pt x="97" y="85"/>
                </a:lnTo>
                <a:lnTo>
                  <a:pt x="99" y="87"/>
                </a:lnTo>
                <a:lnTo>
                  <a:pt x="100" y="90"/>
                </a:lnTo>
                <a:lnTo>
                  <a:pt x="103" y="94"/>
                </a:lnTo>
                <a:lnTo>
                  <a:pt x="109" y="104"/>
                </a:lnTo>
                <a:lnTo>
                  <a:pt x="112" y="107"/>
                </a:lnTo>
                <a:lnTo>
                  <a:pt x="120" y="107"/>
                </a:lnTo>
                <a:lnTo>
                  <a:pt x="146" y="107"/>
                </a:lnTo>
                <a:lnTo>
                  <a:pt x="167" y="107"/>
                </a:lnTo>
                <a:lnTo>
                  <a:pt x="168" y="107"/>
                </a:lnTo>
                <a:lnTo>
                  <a:pt x="168" y="120"/>
                </a:lnTo>
                <a:lnTo>
                  <a:pt x="171" y="136"/>
                </a:lnTo>
                <a:lnTo>
                  <a:pt x="175" y="140"/>
                </a:lnTo>
                <a:lnTo>
                  <a:pt x="181" y="143"/>
                </a:lnTo>
                <a:lnTo>
                  <a:pt x="186" y="147"/>
                </a:lnTo>
                <a:lnTo>
                  <a:pt x="188" y="161"/>
                </a:lnTo>
                <a:lnTo>
                  <a:pt x="190" y="172"/>
                </a:lnTo>
                <a:lnTo>
                  <a:pt x="193" y="175"/>
                </a:lnTo>
                <a:lnTo>
                  <a:pt x="201" y="179"/>
                </a:lnTo>
                <a:lnTo>
                  <a:pt x="225" y="185"/>
                </a:lnTo>
                <a:lnTo>
                  <a:pt x="252" y="188"/>
                </a:lnTo>
                <a:lnTo>
                  <a:pt x="259" y="188"/>
                </a:lnTo>
                <a:lnTo>
                  <a:pt x="264" y="176"/>
                </a:lnTo>
                <a:lnTo>
                  <a:pt x="270" y="156"/>
                </a:lnTo>
                <a:lnTo>
                  <a:pt x="270" y="139"/>
                </a:lnTo>
                <a:lnTo>
                  <a:pt x="265" y="121"/>
                </a:lnTo>
                <a:lnTo>
                  <a:pt x="257" y="78"/>
                </a:lnTo>
                <a:lnTo>
                  <a:pt x="257" y="63"/>
                </a:lnTo>
                <a:lnTo>
                  <a:pt x="249" y="58"/>
                </a:lnTo>
                <a:lnTo>
                  <a:pt x="236" y="46"/>
                </a:lnTo>
                <a:lnTo>
                  <a:pt x="209" y="24"/>
                </a:lnTo>
                <a:lnTo>
                  <a:pt x="183" y="4"/>
                </a:lnTo>
                <a:lnTo>
                  <a:pt x="178" y="0"/>
                </a:lnTo>
                <a:lnTo>
                  <a:pt x="178" y="0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440480" y="3289320"/>
            <a:ext cx="84240" cy="68400"/>
          </a:xfrm>
          <a:custGeom>
            <a:avLst/>
            <a:gdLst/>
            <a:ahLst/>
            <a:rect l="l" t="t" r="r" b="b"/>
            <a:pathLst>
              <a:path w="249" h="207">
                <a:moveTo>
                  <a:pt x="0" y="31"/>
                </a:moveTo>
                <a:lnTo>
                  <a:pt x="6" y="26"/>
                </a:lnTo>
                <a:lnTo>
                  <a:pt x="15" y="19"/>
                </a:lnTo>
                <a:lnTo>
                  <a:pt x="28" y="10"/>
                </a:lnTo>
                <a:lnTo>
                  <a:pt x="36" y="6"/>
                </a:lnTo>
                <a:lnTo>
                  <a:pt x="39" y="5"/>
                </a:lnTo>
                <a:lnTo>
                  <a:pt x="49" y="2"/>
                </a:lnTo>
                <a:lnTo>
                  <a:pt x="60" y="0"/>
                </a:lnTo>
                <a:lnTo>
                  <a:pt x="70" y="2"/>
                </a:lnTo>
                <a:lnTo>
                  <a:pt x="90" y="7"/>
                </a:lnTo>
                <a:lnTo>
                  <a:pt x="110" y="16"/>
                </a:lnTo>
                <a:lnTo>
                  <a:pt x="145" y="41"/>
                </a:lnTo>
                <a:lnTo>
                  <a:pt x="152" y="45"/>
                </a:lnTo>
                <a:lnTo>
                  <a:pt x="158" y="45"/>
                </a:lnTo>
                <a:lnTo>
                  <a:pt x="173" y="44"/>
                </a:lnTo>
                <a:lnTo>
                  <a:pt x="206" y="38"/>
                </a:lnTo>
                <a:lnTo>
                  <a:pt x="235" y="36"/>
                </a:lnTo>
                <a:lnTo>
                  <a:pt x="241" y="36"/>
                </a:lnTo>
                <a:lnTo>
                  <a:pt x="241" y="44"/>
                </a:lnTo>
                <a:lnTo>
                  <a:pt x="242" y="55"/>
                </a:lnTo>
                <a:lnTo>
                  <a:pt x="244" y="73"/>
                </a:lnTo>
                <a:lnTo>
                  <a:pt x="248" y="94"/>
                </a:lnTo>
                <a:lnTo>
                  <a:pt x="249" y="100"/>
                </a:lnTo>
                <a:lnTo>
                  <a:pt x="239" y="103"/>
                </a:lnTo>
                <a:lnTo>
                  <a:pt x="219" y="112"/>
                </a:lnTo>
                <a:lnTo>
                  <a:pt x="199" y="122"/>
                </a:lnTo>
                <a:lnTo>
                  <a:pt x="157" y="145"/>
                </a:lnTo>
                <a:lnTo>
                  <a:pt x="128" y="151"/>
                </a:lnTo>
                <a:lnTo>
                  <a:pt x="125" y="149"/>
                </a:lnTo>
                <a:lnTo>
                  <a:pt x="122" y="144"/>
                </a:lnTo>
                <a:lnTo>
                  <a:pt x="116" y="132"/>
                </a:lnTo>
                <a:lnTo>
                  <a:pt x="110" y="121"/>
                </a:lnTo>
                <a:lnTo>
                  <a:pt x="109" y="118"/>
                </a:lnTo>
                <a:lnTo>
                  <a:pt x="107" y="119"/>
                </a:lnTo>
                <a:lnTo>
                  <a:pt x="104" y="121"/>
                </a:lnTo>
                <a:lnTo>
                  <a:pt x="99" y="123"/>
                </a:lnTo>
                <a:lnTo>
                  <a:pt x="86" y="132"/>
                </a:lnTo>
                <a:lnTo>
                  <a:pt x="80" y="138"/>
                </a:lnTo>
                <a:lnTo>
                  <a:pt x="74" y="142"/>
                </a:lnTo>
                <a:lnTo>
                  <a:pt x="65" y="154"/>
                </a:lnTo>
                <a:lnTo>
                  <a:pt x="60" y="165"/>
                </a:lnTo>
                <a:lnTo>
                  <a:pt x="55" y="178"/>
                </a:lnTo>
                <a:lnTo>
                  <a:pt x="44" y="203"/>
                </a:lnTo>
                <a:lnTo>
                  <a:pt x="41" y="207"/>
                </a:lnTo>
                <a:lnTo>
                  <a:pt x="39" y="205"/>
                </a:lnTo>
                <a:lnTo>
                  <a:pt x="38" y="202"/>
                </a:lnTo>
                <a:lnTo>
                  <a:pt x="33" y="197"/>
                </a:lnTo>
                <a:lnTo>
                  <a:pt x="26" y="194"/>
                </a:lnTo>
                <a:lnTo>
                  <a:pt x="20" y="193"/>
                </a:lnTo>
                <a:lnTo>
                  <a:pt x="12" y="194"/>
                </a:lnTo>
                <a:lnTo>
                  <a:pt x="9" y="196"/>
                </a:lnTo>
                <a:lnTo>
                  <a:pt x="9" y="187"/>
                </a:lnTo>
                <a:lnTo>
                  <a:pt x="12" y="161"/>
                </a:lnTo>
                <a:lnTo>
                  <a:pt x="12" y="99"/>
                </a:lnTo>
                <a:lnTo>
                  <a:pt x="3" y="41"/>
                </a:lnTo>
                <a:lnTo>
                  <a:pt x="0" y="31"/>
                </a:lnTo>
                <a:lnTo>
                  <a:pt x="0" y="31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102440" y="3278160"/>
            <a:ext cx="341280" cy="115920"/>
          </a:xfrm>
          <a:custGeom>
            <a:avLst/>
            <a:gdLst/>
            <a:ahLst/>
            <a:rect l="l" t="t" r="r" b="b"/>
            <a:pathLst>
              <a:path w="988" h="346">
                <a:moveTo>
                  <a:pt x="956" y="209"/>
                </a:moveTo>
                <a:lnTo>
                  <a:pt x="950" y="204"/>
                </a:lnTo>
                <a:lnTo>
                  <a:pt x="946" y="201"/>
                </a:lnTo>
                <a:lnTo>
                  <a:pt x="943" y="200"/>
                </a:lnTo>
                <a:lnTo>
                  <a:pt x="942" y="200"/>
                </a:lnTo>
                <a:lnTo>
                  <a:pt x="940" y="201"/>
                </a:lnTo>
                <a:lnTo>
                  <a:pt x="939" y="204"/>
                </a:lnTo>
                <a:lnTo>
                  <a:pt x="939" y="207"/>
                </a:lnTo>
                <a:lnTo>
                  <a:pt x="937" y="216"/>
                </a:lnTo>
                <a:lnTo>
                  <a:pt x="933" y="225"/>
                </a:lnTo>
                <a:lnTo>
                  <a:pt x="930" y="227"/>
                </a:lnTo>
                <a:lnTo>
                  <a:pt x="926" y="229"/>
                </a:lnTo>
                <a:lnTo>
                  <a:pt x="919" y="230"/>
                </a:lnTo>
                <a:lnTo>
                  <a:pt x="894" y="233"/>
                </a:lnTo>
                <a:lnTo>
                  <a:pt x="830" y="236"/>
                </a:lnTo>
                <a:lnTo>
                  <a:pt x="798" y="214"/>
                </a:lnTo>
                <a:lnTo>
                  <a:pt x="806" y="214"/>
                </a:lnTo>
                <a:lnTo>
                  <a:pt x="814" y="211"/>
                </a:lnTo>
                <a:lnTo>
                  <a:pt x="839" y="206"/>
                </a:lnTo>
                <a:lnTo>
                  <a:pt x="894" y="190"/>
                </a:lnTo>
                <a:lnTo>
                  <a:pt x="917" y="178"/>
                </a:lnTo>
                <a:lnTo>
                  <a:pt x="914" y="172"/>
                </a:lnTo>
                <a:lnTo>
                  <a:pt x="910" y="165"/>
                </a:lnTo>
                <a:lnTo>
                  <a:pt x="904" y="158"/>
                </a:lnTo>
                <a:lnTo>
                  <a:pt x="888" y="143"/>
                </a:lnTo>
                <a:lnTo>
                  <a:pt x="855" y="114"/>
                </a:lnTo>
                <a:lnTo>
                  <a:pt x="852" y="98"/>
                </a:lnTo>
                <a:lnTo>
                  <a:pt x="856" y="93"/>
                </a:lnTo>
                <a:lnTo>
                  <a:pt x="868" y="84"/>
                </a:lnTo>
                <a:lnTo>
                  <a:pt x="878" y="77"/>
                </a:lnTo>
                <a:lnTo>
                  <a:pt x="890" y="74"/>
                </a:lnTo>
                <a:lnTo>
                  <a:pt x="900" y="72"/>
                </a:lnTo>
                <a:lnTo>
                  <a:pt x="910" y="75"/>
                </a:lnTo>
                <a:lnTo>
                  <a:pt x="916" y="77"/>
                </a:lnTo>
                <a:lnTo>
                  <a:pt x="917" y="77"/>
                </a:lnTo>
                <a:lnTo>
                  <a:pt x="920" y="74"/>
                </a:lnTo>
                <a:lnTo>
                  <a:pt x="924" y="71"/>
                </a:lnTo>
                <a:lnTo>
                  <a:pt x="935" y="61"/>
                </a:lnTo>
                <a:lnTo>
                  <a:pt x="948" y="52"/>
                </a:lnTo>
                <a:lnTo>
                  <a:pt x="953" y="51"/>
                </a:lnTo>
                <a:lnTo>
                  <a:pt x="959" y="49"/>
                </a:lnTo>
                <a:lnTo>
                  <a:pt x="965" y="52"/>
                </a:lnTo>
                <a:lnTo>
                  <a:pt x="971" y="58"/>
                </a:lnTo>
                <a:lnTo>
                  <a:pt x="975" y="67"/>
                </a:lnTo>
                <a:lnTo>
                  <a:pt x="977" y="67"/>
                </a:lnTo>
                <a:lnTo>
                  <a:pt x="979" y="78"/>
                </a:lnTo>
                <a:lnTo>
                  <a:pt x="985" y="97"/>
                </a:lnTo>
                <a:lnTo>
                  <a:pt x="988" y="138"/>
                </a:lnTo>
                <a:lnTo>
                  <a:pt x="984" y="206"/>
                </a:lnTo>
                <a:lnTo>
                  <a:pt x="982" y="230"/>
                </a:lnTo>
                <a:lnTo>
                  <a:pt x="978" y="229"/>
                </a:lnTo>
                <a:lnTo>
                  <a:pt x="971" y="225"/>
                </a:lnTo>
                <a:lnTo>
                  <a:pt x="961" y="217"/>
                </a:lnTo>
                <a:lnTo>
                  <a:pt x="958" y="214"/>
                </a:lnTo>
                <a:lnTo>
                  <a:pt x="956" y="211"/>
                </a:lnTo>
                <a:lnTo>
                  <a:pt x="956" y="209"/>
                </a:lnTo>
                <a:lnTo>
                  <a:pt x="956" y="209"/>
                </a:lnTo>
                <a:close/>
                <a:moveTo>
                  <a:pt x="535" y="319"/>
                </a:moveTo>
                <a:lnTo>
                  <a:pt x="533" y="313"/>
                </a:lnTo>
                <a:lnTo>
                  <a:pt x="532" y="309"/>
                </a:lnTo>
                <a:lnTo>
                  <a:pt x="530" y="300"/>
                </a:lnTo>
                <a:lnTo>
                  <a:pt x="530" y="293"/>
                </a:lnTo>
                <a:lnTo>
                  <a:pt x="532" y="290"/>
                </a:lnTo>
                <a:lnTo>
                  <a:pt x="535" y="288"/>
                </a:lnTo>
                <a:lnTo>
                  <a:pt x="539" y="290"/>
                </a:lnTo>
                <a:lnTo>
                  <a:pt x="543" y="291"/>
                </a:lnTo>
                <a:lnTo>
                  <a:pt x="545" y="291"/>
                </a:lnTo>
                <a:lnTo>
                  <a:pt x="577" y="297"/>
                </a:lnTo>
                <a:lnTo>
                  <a:pt x="625" y="301"/>
                </a:lnTo>
                <a:lnTo>
                  <a:pt x="652" y="303"/>
                </a:lnTo>
                <a:lnTo>
                  <a:pt x="659" y="303"/>
                </a:lnTo>
                <a:lnTo>
                  <a:pt x="662" y="304"/>
                </a:lnTo>
                <a:lnTo>
                  <a:pt x="664" y="307"/>
                </a:lnTo>
                <a:lnTo>
                  <a:pt x="662" y="310"/>
                </a:lnTo>
                <a:lnTo>
                  <a:pt x="659" y="313"/>
                </a:lnTo>
                <a:lnTo>
                  <a:pt x="655" y="322"/>
                </a:lnTo>
                <a:lnTo>
                  <a:pt x="640" y="345"/>
                </a:lnTo>
                <a:lnTo>
                  <a:pt x="640" y="345"/>
                </a:lnTo>
                <a:lnTo>
                  <a:pt x="629" y="346"/>
                </a:lnTo>
                <a:lnTo>
                  <a:pt x="604" y="346"/>
                </a:lnTo>
                <a:lnTo>
                  <a:pt x="561" y="345"/>
                </a:lnTo>
                <a:lnTo>
                  <a:pt x="545" y="339"/>
                </a:lnTo>
                <a:lnTo>
                  <a:pt x="539" y="335"/>
                </a:lnTo>
                <a:lnTo>
                  <a:pt x="535" y="327"/>
                </a:lnTo>
                <a:lnTo>
                  <a:pt x="535" y="319"/>
                </a:lnTo>
                <a:lnTo>
                  <a:pt x="535" y="319"/>
                </a:lnTo>
                <a:lnTo>
                  <a:pt x="535" y="319"/>
                </a:lnTo>
                <a:close/>
                <a:moveTo>
                  <a:pt x="361" y="3"/>
                </a:moveTo>
                <a:lnTo>
                  <a:pt x="372" y="17"/>
                </a:lnTo>
                <a:lnTo>
                  <a:pt x="390" y="30"/>
                </a:lnTo>
                <a:lnTo>
                  <a:pt x="396" y="32"/>
                </a:lnTo>
                <a:lnTo>
                  <a:pt x="400" y="30"/>
                </a:lnTo>
                <a:lnTo>
                  <a:pt x="404" y="27"/>
                </a:lnTo>
                <a:lnTo>
                  <a:pt x="410" y="23"/>
                </a:lnTo>
                <a:lnTo>
                  <a:pt x="426" y="13"/>
                </a:lnTo>
                <a:lnTo>
                  <a:pt x="452" y="4"/>
                </a:lnTo>
                <a:lnTo>
                  <a:pt x="471" y="3"/>
                </a:lnTo>
                <a:lnTo>
                  <a:pt x="483" y="9"/>
                </a:lnTo>
                <a:lnTo>
                  <a:pt x="506" y="20"/>
                </a:lnTo>
                <a:lnTo>
                  <a:pt x="542" y="48"/>
                </a:lnTo>
                <a:lnTo>
                  <a:pt x="582" y="68"/>
                </a:lnTo>
                <a:lnTo>
                  <a:pt x="596" y="69"/>
                </a:lnTo>
                <a:lnTo>
                  <a:pt x="610" y="72"/>
                </a:lnTo>
                <a:lnTo>
                  <a:pt x="643" y="74"/>
                </a:lnTo>
                <a:lnTo>
                  <a:pt x="719" y="80"/>
                </a:lnTo>
                <a:lnTo>
                  <a:pt x="752" y="87"/>
                </a:lnTo>
                <a:lnTo>
                  <a:pt x="780" y="100"/>
                </a:lnTo>
                <a:lnTo>
                  <a:pt x="791" y="107"/>
                </a:lnTo>
                <a:lnTo>
                  <a:pt x="780" y="109"/>
                </a:lnTo>
                <a:lnTo>
                  <a:pt x="759" y="111"/>
                </a:lnTo>
                <a:lnTo>
                  <a:pt x="742" y="119"/>
                </a:lnTo>
                <a:lnTo>
                  <a:pt x="710" y="139"/>
                </a:lnTo>
                <a:lnTo>
                  <a:pt x="690" y="158"/>
                </a:lnTo>
                <a:lnTo>
                  <a:pt x="684" y="158"/>
                </a:lnTo>
                <a:lnTo>
                  <a:pt x="672" y="158"/>
                </a:lnTo>
                <a:lnTo>
                  <a:pt x="648" y="154"/>
                </a:lnTo>
                <a:lnTo>
                  <a:pt x="627" y="151"/>
                </a:lnTo>
                <a:lnTo>
                  <a:pt x="626" y="149"/>
                </a:lnTo>
                <a:lnTo>
                  <a:pt x="613" y="156"/>
                </a:lnTo>
                <a:lnTo>
                  <a:pt x="587" y="168"/>
                </a:lnTo>
                <a:lnTo>
                  <a:pt x="559" y="174"/>
                </a:lnTo>
                <a:lnTo>
                  <a:pt x="538" y="175"/>
                </a:lnTo>
                <a:lnTo>
                  <a:pt x="535" y="174"/>
                </a:lnTo>
                <a:lnTo>
                  <a:pt x="532" y="172"/>
                </a:lnTo>
                <a:lnTo>
                  <a:pt x="530" y="171"/>
                </a:lnTo>
                <a:lnTo>
                  <a:pt x="530" y="169"/>
                </a:lnTo>
                <a:lnTo>
                  <a:pt x="530" y="168"/>
                </a:lnTo>
                <a:lnTo>
                  <a:pt x="532" y="165"/>
                </a:lnTo>
                <a:lnTo>
                  <a:pt x="533" y="164"/>
                </a:lnTo>
                <a:lnTo>
                  <a:pt x="536" y="159"/>
                </a:lnTo>
                <a:lnTo>
                  <a:pt x="548" y="149"/>
                </a:lnTo>
                <a:lnTo>
                  <a:pt x="561" y="139"/>
                </a:lnTo>
                <a:lnTo>
                  <a:pt x="549" y="136"/>
                </a:lnTo>
                <a:lnTo>
                  <a:pt x="523" y="130"/>
                </a:lnTo>
                <a:lnTo>
                  <a:pt x="474" y="119"/>
                </a:lnTo>
                <a:lnTo>
                  <a:pt x="451" y="107"/>
                </a:lnTo>
                <a:lnTo>
                  <a:pt x="433" y="90"/>
                </a:lnTo>
                <a:lnTo>
                  <a:pt x="426" y="77"/>
                </a:lnTo>
                <a:lnTo>
                  <a:pt x="409" y="91"/>
                </a:lnTo>
                <a:lnTo>
                  <a:pt x="391" y="98"/>
                </a:lnTo>
                <a:lnTo>
                  <a:pt x="374" y="103"/>
                </a:lnTo>
                <a:lnTo>
                  <a:pt x="355" y="103"/>
                </a:lnTo>
                <a:lnTo>
                  <a:pt x="316" y="97"/>
                </a:lnTo>
                <a:lnTo>
                  <a:pt x="278" y="88"/>
                </a:lnTo>
                <a:lnTo>
                  <a:pt x="242" y="83"/>
                </a:lnTo>
                <a:lnTo>
                  <a:pt x="209" y="88"/>
                </a:lnTo>
                <a:lnTo>
                  <a:pt x="209" y="88"/>
                </a:lnTo>
                <a:lnTo>
                  <a:pt x="206" y="88"/>
                </a:lnTo>
                <a:lnTo>
                  <a:pt x="204" y="87"/>
                </a:lnTo>
                <a:lnTo>
                  <a:pt x="203" y="85"/>
                </a:lnTo>
                <a:lnTo>
                  <a:pt x="201" y="83"/>
                </a:lnTo>
                <a:lnTo>
                  <a:pt x="197" y="77"/>
                </a:lnTo>
                <a:lnTo>
                  <a:pt x="180" y="64"/>
                </a:lnTo>
                <a:lnTo>
                  <a:pt x="165" y="56"/>
                </a:lnTo>
                <a:lnTo>
                  <a:pt x="158" y="58"/>
                </a:lnTo>
                <a:lnTo>
                  <a:pt x="149" y="59"/>
                </a:lnTo>
                <a:lnTo>
                  <a:pt x="133" y="67"/>
                </a:lnTo>
                <a:lnTo>
                  <a:pt x="119" y="78"/>
                </a:lnTo>
                <a:lnTo>
                  <a:pt x="107" y="94"/>
                </a:lnTo>
                <a:lnTo>
                  <a:pt x="101" y="113"/>
                </a:lnTo>
                <a:lnTo>
                  <a:pt x="103" y="133"/>
                </a:lnTo>
                <a:lnTo>
                  <a:pt x="104" y="133"/>
                </a:lnTo>
                <a:lnTo>
                  <a:pt x="86" y="136"/>
                </a:lnTo>
                <a:lnTo>
                  <a:pt x="58" y="142"/>
                </a:lnTo>
                <a:lnTo>
                  <a:pt x="42" y="152"/>
                </a:lnTo>
                <a:lnTo>
                  <a:pt x="35" y="162"/>
                </a:lnTo>
                <a:lnTo>
                  <a:pt x="29" y="171"/>
                </a:lnTo>
                <a:lnTo>
                  <a:pt x="28" y="174"/>
                </a:lnTo>
                <a:lnTo>
                  <a:pt x="25" y="177"/>
                </a:lnTo>
                <a:lnTo>
                  <a:pt x="22" y="177"/>
                </a:lnTo>
                <a:lnTo>
                  <a:pt x="22" y="177"/>
                </a:lnTo>
                <a:lnTo>
                  <a:pt x="16" y="174"/>
                </a:lnTo>
                <a:lnTo>
                  <a:pt x="4" y="161"/>
                </a:lnTo>
                <a:lnTo>
                  <a:pt x="0" y="151"/>
                </a:lnTo>
                <a:lnTo>
                  <a:pt x="2" y="139"/>
                </a:lnTo>
                <a:lnTo>
                  <a:pt x="6" y="132"/>
                </a:lnTo>
                <a:lnTo>
                  <a:pt x="35" y="103"/>
                </a:lnTo>
                <a:lnTo>
                  <a:pt x="88" y="55"/>
                </a:lnTo>
                <a:lnTo>
                  <a:pt x="188" y="6"/>
                </a:lnTo>
                <a:lnTo>
                  <a:pt x="317" y="0"/>
                </a:lnTo>
                <a:lnTo>
                  <a:pt x="361" y="3"/>
                </a:lnTo>
                <a:lnTo>
                  <a:pt x="361" y="3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78560" y="3295800"/>
            <a:ext cx="65160" cy="60120"/>
          </a:xfrm>
          <a:custGeom>
            <a:avLst/>
            <a:gdLst/>
            <a:ahLst/>
            <a:rect l="l" t="t" r="r" b="b"/>
            <a:pathLst>
              <a:path w="190" h="187">
                <a:moveTo>
                  <a:pt x="158" y="160"/>
                </a:moveTo>
                <a:lnTo>
                  <a:pt x="152" y="155"/>
                </a:lnTo>
                <a:lnTo>
                  <a:pt x="148" y="152"/>
                </a:lnTo>
                <a:lnTo>
                  <a:pt x="145" y="151"/>
                </a:lnTo>
                <a:lnTo>
                  <a:pt x="144" y="151"/>
                </a:lnTo>
                <a:lnTo>
                  <a:pt x="142" y="152"/>
                </a:lnTo>
                <a:lnTo>
                  <a:pt x="141" y="155"/>
                </a:lnTo>
                <a:lnTo>
                  <a:pt x="141" y="158"/>
                </a:lnTo>
                <a:lnTo>
                  <a:pt x="139" y="167"/>
                </a:lnTo>
                <a:lnTo>
                  <a:pt x="135" y="176"/>
                </a:lnTo>
                <a:lnTo>
                  <a:pt x="132" y="178"/>
                </a:lnTo>
                <a:lnTo>
                  <a:pt x="128" y="180"/>
                </a:lnTo>
                <a:lnTo>
                  <a:pt x="121" y="181"/>
                </a:lnTo>
                <a:lnTo>
                  <a:pt x="96" y="184"/>
                </a:lnTo>
                <a:lnTo>
                  <a:pt x="32" y="187"/>
                </a:lnTo>
                <a:lnTo>
                  <a:pt x="0" y="165"/>
                </a:lnTo>
                <a:lnTo>
                  <a:pt x="8" y="165"/>
                </a:lnTo>
                <a:lnTo>
                  <a:pt x="16" y="162"/>
                </a:lnTo>
                <a:lnTo>
                  <a:pt x="41" y="157"/>
                </a:lnTo>
                <a:lnTo>
                  <a:pt x="96" y="141"/>
                </a:lnTo>
                <a:lnTo>
                  <a:pt x="119" y="129"/>
                </a:lnTo>
                <a:lnTo>
                  <a:pt x="116" y="123"/>
                </a:lnTo>
                <a:lnTo>
                  <a:pt x="112" y="116"/>
                </a:lnTo>
                <a:lnTo>
                  <a:pt x="106" y="109"/>
                </a:lnTo>
                <a:lnTo>
                  <a:pt x="90" y="94"/>
                </a:lnTo>
                <a:lnTo>
                  <a:pt x="57" y="65"/>
                </a:lnTo>
                <a:lnTo>
                  <a:pt x="54" y="49"/>
                </a:lnTo>
                <a:lnTo>
                  <a:pt x="58" y="44"/>
                </a:lnTo>
                <a:lnTo>
                  <a:pt x="70" y="35"/>
                </a:lnTo>
                <a:lnTo>
                  <a:pt x="80" y="28"/>
                </a:lnTo>
                <a:lnTo>
                  <a:pt x="92" y="25"/>
                </a:lnTo>
                <a:lnTo>
                  <a:pt x="102" y="23"/>
                </a:lnTo>
                <a:lnTo>
                  <a:pt x="112" y="26"/>
                </a:lnTo>
                <a:lnTo>
                  <a:pt x="118" y="28"/>
                </a:lnTo>
                <a:lnTo>
                  <a:pt x="119" y="28"/>
                </a:lnTo>
                <a:lnTo>
                  <a:pt x="122" y="25"/>
                </a:lnTo>
                <a:lnTo>
                  <a:pt x="126" y="22"/>
                </a:lnTo>
                <a:lnTo>
                  <a:pt x="137" y="12"/>
                </a:lnTo>
                <a:lnTo>
                  <a:pt x="150" y="3"/>
                </a:lnTo>
                <a:lnTo>
                  <a:pt x="155" y="2"/>
                </a:lnTo>
                <a:lnTo>
                  <a:pt x="161" y="0"/>
                </a:lnTo>
                <a:lnTo>
                  <a:pt x="167" y="3"/>
                </a:lnTo>
                <a:lnTo>
                  <a:pt x="173" y="9"/>
                </a:lnTo>
                <a:lnTo>
                  <a:pt x="177" y="18"/>
                </a:lnTo>
                <a:lnTo>
                  <a:pt x="179" y="18"/>
                </a:lnTo>
                <a:lnTo>
                  <a:pt x="181" y="29"/>
                </a:lnTo>
                <a:lnTo>
                  <a:pt x="187" y="48"/>
                </a:lnTo>
                <a:lnTo>
                  <a:pt x="190" y="89"/>
                </a:lnTo>
                <a:lnTo>
                  <a:pt x="186" y="157"/>
                </a:lnTo>
                <a:lnTo>
                  <a:pt x="184" y="181"/>
                </a:lnTo>
                <a:lnTo>
                  <a:pt x="180" y="180"/>
                </a:lnTo>
                <a:lnTo>
                  <a:pt x="173" y="176"/>
                </a:lnTo>
                <a:lnTo>
                  <a:pt x="163" y="168"/>
                </a:lnTo>
                <a:lnTo>
                  <a:pt x="160" y="165"/>
                </a:lnTo>
                <a:lnTo>
                  <a:pt x="158" y="162"/>
                </a:lnTo>
                <a:lnTo>
                  <a:pt x="158" y="160"/>
                </a:lnTo>
                <a:lnTo>
                  <a:pt x="158" y="16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86760" y="3373560"/>
            <a:ext cx="46080" cy="20520"/>
          </a:xfrm>
          <a:custGeom>
            <a:avLst/>
            <a:gdLst/>
            <a:ahLst/>
            <a:rect l="l" t="t" r="r" b="b"/>
            <a:pathLst>
              <a:path w="134" h="58">
                <a:moveTo>
                  <a:pt x="5" y="31"/>
                </a:moveTo>
                <a:lnTo>
                  <a:pt x="3" y="25"/>
                </a:lnTo>
                <a:lnTo>
                  <a:pt x="2" y="21"/>
                </a:lnTo>
                <a:lnTo>
                  <a:pt x="0" y="12"/>
                </a:lnTo>
                <a:lnTo>
                  <a:pt x="0" y="5"/>
                </a:lnTo>
                <a:lnTo>
                  <a:pt x="2" y="2"/>
                </a:lnTo>
                <a:lnTo>
                  <a:pt x="5" y="0"/>
                </a:lnTo>
                <a:lnTo>
                  <a:pt x="9" y="2"/>
                </a:lnTo>
                <a:lnTo>
                  <a:pt x="13" y="3"/>
                </a:lnTo>
                <a:lnTo>
                  <a:pt x="15" y="3"/>
                </a:lnTo>
                <a:lnTo>
                  <a:pt x="47" y="9"/>
                </a:lnTo>
                <a:lnTo>
                  <a:pt x="95" y="13"/>
                </a:lnTo>
                <a:lnTo>
                  <a:pt x="122" y="15"/>
                </a:lnTo>
                <a:lnTo>
                  <a:pt x="129" y="15"/>
                </a:lnTo>
                <a:lnTo>
                  <a:pt x="132" y="16"/>
                </a:lnTo>
                <a:lnTo>
                  <a:pt x="134" y="19"/>
                </a:lnTo>
                <a:lnTo>
                  <a:pt x="132" y="22"/>
                </a:lnTo>
                <a:lnTo>
                  <a:pt x="129" y="25"/>
                </a:lnTo>
                <a:lnTo>
                  <a:pt x="125" y="34"/>
                </a:lnTo>
                <a:lnTo>
                  <a:pt x="110" y="57"/>
                </a:lnTo>
                <a:lnTo>
                  <a:pt x="110" y="57"/>
                </a:lnTo>
                <a:lnTo>
                  <a:pt x="99" y="58"/>
                </a:lnTo>
                <a:lnTo>
                  <a:pt x="74" y="58"/>
                </a:lnTo>
                <a:lnTo>
                  <a:pt x="31" y="57"/>
                </a:lnTo>
                <a:lnTo>
                  <a:pt x="15" y="51"/>
                </a:lnTo>
                <a:lnTo>
                  <a:pt x="9" y="47"/>
                </a:lnTo>
                <a:lnTo>
                  <a:pt x="5" y="39"/>
                </a:lnTo>
                <a:lnTo>
                  <a:pt x="5" y="31"/>
                </a:lnTo>
                <a:lnTo>
                  <a:pt x="5" y="31"/>
                </a:lnTo>
                <a:lnTo>
                  <a:pt x="5" y="3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102440" y="3278160"/>
            <a:ext cx="273240" cy="58680"/>
          </a:xfrm>
          <a:custGeom>
            <a:avLst/>
            <a:gdLst/>
            <a:ahLst/>
            <a:rect l="l" t="t" r="r" b="b"/>
            <a:pathLst>
              <a:path w="791" h="177">
                <a:moveTo>
                  <a:pt x="361" y="3"/>
                </a:moveTo>
                <a:lnTo>
                  <a:pt x="372" y="17"/>
                </a:lnTo>
                <a:lnTo>
                  <a:pt x="390" y="30"/>
                </a:lnTo>
                <a:lnTo>
                  <a:pt x="396" y="32"/>
                </a:lnTo>
                <a:lnTo>
                  <a:pt x="400" y="30"/>
                </a:lnTo>
                <a:lnTo>
                  <a:pt x="404" y="27"/>
                </a:lnTo>
                <a:lnTo>
                  <a:pt x="410" y="23"/>
                </a:lnTo>
                <a:lnTo>
                  <a:pt x="426" y="13"/>
                </a:lnTo>
                <a:lnTo>
                  <a:pt x="452" y="4"/>
                </a:lnTo>
                <a:lnTo>
                  <a:pt x="471" y="3"/>
                </a:lnTo>
                <a:lnTo>
                  <a:pt x="483" y="9"/>
                </a:lnTo>
                <a:lnTo>
                  <a:pt x="506" y="20"/>
                </a:lnTo>
                <a:lnTo>
                  <a:pt x="542" y="48"/>
                </a:lnTo>
                <a:lnTo>
                  <a:pt x="582" y="68"/>
                </a:lnTo>
                <a:lnTo>
                  <a:pt x="596" y="69"/>
                </a:lnTo>
                <a:lnTo>
                  <a:pt x="610" y="72"/>
                </a:lnTo>
                <a:lnTo>
                  <a:pt x="643" y="74"/>
                </a:lnTo>
                <a:lnTo>
                  <a:pt x="719" y="80"/>
                </a:lnTo>
                <a:lnTo>
                  <a:pt x="752" y="87"/>
                </a:lnTo>
                <a:lnTo>
                  <a:pt x="780" y="100"/>
                </a:lnTo>
                <a:lnTo>
                  <a:pt x="791" y="107"/>
                </a:lnTo>
                <a:lnTo>
                  <a:pt x="780" y="109"/>
                </a:lnTo>
                <a:lnTo>
                  <a:pt x="759" y="111"/>
                </a:lnTo>
                <a:lnTo>
                  <a:pt x="742" y="119"/>
                </a:lnTo>
                <a:lnTo>
                  <a:pt x="710" y="139"/>
                </a:lnTo>
                <a:lnTo>
                  <a:pt x="690" y="158"/>
                </a:lnTo>
                <a:lnTo>
                  <a:pt x="684" y="158"/>
                </a:lnTo>
                <a:lnTo>
                  <a:pt x="672" y="158"/>
                </a:lnTo>
                <a:lnTo>
                  <a:pt x="648" y="154"/>
                </a:lnTo>
                <a:lnTo>
                  <a:pt x="627" y="151"/>
                </a:lnTo>
                <a:lnTo>
                  <a:pt x="626" y="149"/>
                </a:lnTo>
                <a:lnTo>
                  <a:pt x="613" y="156"/>
                </a:lnTo>
                <a:lnTo>
                  <a:pt x="587" y="168"/>
                </a:lnTo>
                <a:lnTo>
                  <a:pt x="559" y="174"/>
                </a:lnTo>
                <a:lnTo>
                  <a:pt x="538" y="175"/>
                </a:lnTo>
                <a:lnTo>
                  <a:pt x="535" y="174"/>
                </a:lnTo>
                <a:lnTo>
                  <a:pt x="532" y="172"/>
                </a:lnTo>
                <a:lnTo>
                  <a:pt x="530" y="171"/>
                </a:lnTo>
                <a:lnTo>
                  <a:pt x="530" y="169"/>
                </a:lnTo>
                <a:lnTo>
                  <a:pt x="530" y="168"/>
                </a:lnTo>
                <a:lnTo>
                  <a:pt x="532" y="165"/>
                </a:lnTo>
                <a:lnTo>
                  <a:pt x="533" y="164"/>
                </a:lnTo>
                <a:lnTo>
                  <a:pt x="536" y="159"/>
                </a:lnTo>
                <a:lnTo>
                  <a:pt x="548" y="149"/>
                </a:lnTo>
                <a:lnTo>
                  <a:pt x="561" y="139"/>
                </a:lnTo>
                <a:lnTo>
                  <a:pt x="549" y="136"/>
                </a:lnTo>
                <a:lnTo>
                  <a:pt x="523" y="130"/>
                </a:lnTo>
                <a:lnTo>
                  <a:pt x="474" y="119"/>
                </a:lnTo>
                <a:lnTo>
                  <a:pt x="451" y="107"/>
                </a:lnTo>
                <a:lnTo>
                  <a:pt x="433" y="90"/>
                </a:lnTo>
                <a:lnTo>
                  <a:pt x="426" y="77"/>
                </a:lnTo>
                <a:lnTo>
                  <a:pt x="409" y="91"/>
                </a:lnTo>
                <a:lnTo>
                  <a:pt x="391" y="98"/>
                </a:lnTo>
                <a:lnTo>
                  <a:pt x="374" y="103"/>
                </a:lnTo>
                <a:lnTo>
                  <a:pt x="355" y="103"/>
                </a:lnTo>
                <a:lnTo>
                  <a:pt x="316" y="97"/>
                </a:lnTo>
                <a:lnTo>
                  <a:pt x="278" y="88"/>
                </a:lnTo>
                <a:lnTo>
                  <a:pt x="242" y="83"/>
                </a:lnTo>
                <a:lnTo>
                  <a:pt x="209" y="88"/>
                </a:lnTo>
                <a:lnTo>
                  <a:pt x="209" y="88"/>
                </a:lnTo>
                <a:lnTo>
                  <a:pt x="206" y="88"/>
                </a:lnTo>
                <a:lnTo>
                  <a:pt x="204" y="87"/>
                </a:lnTo>
                <a:lnTo>
                  <a:pt x="203" y="85"/>
                </a:lnTo>
                <a:lnTo>
                  <a:pt x="201" y="83"/>
                </a:lnTo>
                <a:lnTo>
                  <a:pt x="197" y="77"/>
                </a:lnTo>
                <a:lnTo>
                  <a:pt x="180" y="64"/>
                </a:lnTo>
                <a:lnTo>
                  <a:pt x="165" y="56"/>
                </a:lnTo>
                <a:lnTo>
                  <a:pt x="158" y="58"/>
                </a:lnTo>
                <a:lnTo>
                  <a:pt x="149" y="59"/>
                </a:lnTo>
                <a:lnTo>
                  <a:pt x="133" y="67"/>
                </a:lnTo>
                <a:lnTo>
                  <a:pt x="119" y="78"/>
                </a:lnTo>
                <a:lnTo>
                  <a:pt x="107" y="94"/>
                </a:lnTo>
                <a:lnTo>
                  <a:pt x="101" y="113"/>
                </a:lnTo>
                <a:lnTo>
                  <a:pt x="103" y="133"/>
                </a:lnTo>
                <a:lnTo>
                  <a:pt x="104" y="133"/>
                </a:lnTo>
                <a:lnTo>
                  <a:pt x="86" y="136"/>
                </a:lnTo>
                <a:lnTo>
                  <a:pt x="58" y="142"/>
                </a:lnTo>
                <a:lnTo>
                  <a:pt x="42" y="152"/>
                </a:lnTo>
                <a:lnTo>
                  <a:pt x="35" y="162"/>
                </a:lnTo>
                <a:lnTo>
                  <a:pt x="29" y="171"/>
                </a:lnTo>
                <a:lnTo>
                  <a:pt x="28" y="174"/>
                </a:lnTo>
                <a:lnTo>
                  <a:pt x="25" y="177"/>
                </a:lnTo>
                <a:lnTo>
                  <a:pt x="22" y="177"/>
                </a:lnTo>
                <a:lnTo>
                  <a:pt x="22" y="177"/>
                </a:lnTo>
                <a:lnTo>
                  <a:pt x="16" y="174"/>
                </a:lnTo>
                <a:lnTo>
                  <a:pt x="4" y="161"/>
                </a:lnTo>
                <a:lnTo>
                  <a:pt x="0" y="151"/>
                </a:lnTo>
                <a:lnTo>
                  <a:pt x="2" y="139"/>
                </a:lnTo>
                <a:lnTo>
                  <a:pt x="6" y="132"/>
                </a:lnTo>
                <a:lnTo>
                  <a:pt x="35" y="103"/>
                </a:lnTo>
                <a:lnTo>
                  <a:pt x="88" y="55"/>
                </a:lnTo>
                <a:lnTo>
                  <a:pt x="188" y="6"/>
                </a:lnTo>
                <a:lnTo>
                  <a:pt x="317" y="0"/>
                </a:lnTo>
                <a:lnTo>
                  <a:pt x="361" y="3"/>
                </a:lnTo>
                <a:lnTo>
                  <a:pt x="361" y="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62960" y="5121360"/>
            <a:ext cx="17280" cy="38160"/>
          </a:xfrm>
          <a:custGeom>
            <a:avLst/>
            <a:gdLst/>
            <a:ahLst/>
            <a:rect l="l" t="t" r="r" b="b"/>
            <a:pathLst>
              <a:path w="57" h="115">
                <a:moveTo>
                  <a:pt x="57" y="0"/>
                </a:moveTo>
                <a:lnTo>
                  <a:pt x="56" y="2"/>
                </a:lnTo>
                <a:lnTo>
                  <a:pt x="53" y="3"/>
                </a:lnTo>
                <a:lnTo>
                  <a:pt x="40" y="9"/>
                </a:lnTo>
                <a:lnTo>
                  <a:pt x="30" y="13"/>
                </a:lnTo>
                <a:lnTo>
                  <a:pt x="30" y="13"/>
                </a:lnTo>
                <a:lnTo>
                  <a:pt x="28" y="15"/>
                </a:lnTo>
                <a:lnTo>
                  <a:pt x="24" y="25"/>
                </a:lnTo>
                <a:lnTo>
                  <a:pt x="10" y="60"/>
                </a:lnTo>
                <a:lnTo>
                  <a:pt x="0" y="86"/>
                </a:lnTo>
                <a:lnTo>
                  <a:pt x="0" y="86"/>
                </a:lnTo>
                <a:lnTo>
                  <a:pt x="4" y="91"/>
                </a:lnTo>
                <a:lnTo>
                  <a:pt x="18" y="104"/>
                </a:lnTo>
                <a:lnTo>
                  <a:pt x="28" y="115"/>
                </a:lnTo>
                <a:lnTo>
                  <a:pt x="30" y="115"/>
                </a:lnTo>
                <a:lnTo>
                  <a:pt x="31" y="113"/>
                </a:lnTo>
                <a:lnTo>
                  <a:pt x="39" y="106"/>
                </a:lnTo>
                <a:lnTo>
                  <a:pt x="43" y="102"/>
                </a:lnTo>
                <a:lnTo>
                  <a:pt x="44" y="100"/>
                </a:lnTo>
                <a:lnTo>
                  <a:pt x="44" y="97"/>
                </a:lnTo>
                <a:lnTo>
                  <a:pt x="43" y="84"/>
                </a:lnTo>
                <a:lnTo>
                  <a:pt x="43" y="74"/>
                </a:lnTo>
                <a:lnTo>
                  <a:pt x="44" y="73"/>
                </a:lnTo>
                <a:lnTo>
                  <a:pt x="46" y="67"/>
                </a:lnTo>
                <a:lnTo>
                  <a:pt x="52" y="45"/>
                </a:lnTo>
                <a:lnTo>
                  <a:pt x="56" y="29"/>
                </a:lnTo>
                <a:lnTo>
                  <a:pt x="57" y="28"/>
                </a:lnTo>
                <a:lnTo>
                  <a:pt x="56" y="28"/>
                </a:lnTo>
                <a:lnTo>
                  <a:pt x="57" y="28"/>
                </a:lnTo>
                <a:lnTo>
                  <a:pt x="56" y="28"/>
                </a:lnTo>
                <a:lnTo>
                  <a:pt x="57" y="28"/>
                </a:lnTo>
                <a:lnTo>
                  <a:pt x="57" y="25"/>
                </a:lnTo>
                <a:lnTo>
                  <a:pt x="56" y="12"/>
                </a:lnTo>
                <a:lnTo>
                  <a:pt x="56" y="2"/>
                </a:lnTo>
                <a:lnTo>
                  <a:pt x="57" y="0"/>
                </a:lnTo>
                <a:lnTo>
                  <a:pt x="57" y="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78800" y="5124600"/>
            <a:ext cx="22320" cy="28440"/>
          </a:xfrm>
          <a:custGeom>
            <a:avLst/>
            <a:gdLst/>
            <a:ahLst/>
            <a:rect l="l" t="t" r="r" b="b"/>
            <a:pathLst>
              <a:path w="58" h="87">
                <a:moveTo>
                  <a:pt x="16" y="15"/>
                </a:moveTo>
                <a:lnTo>
                  <a:pt x="13" y="22"/>
                </a:lnTo>
                <a:lnTo>
                  <a:pt x="6" y="44"/>
                </a:lnTo>
                <a:lnTo>
                  <a:pt x="1" y="60"/>
                </a:lnTo>
                <a:lnTo>
                  <a:pt x="1" y="60"/>
                </a:lnTo>
                <a:lnTo>
                  <a:pt x="1" y="64"/>
                </a:lnTo>
                <a:lnTo>
                  <a:pt x="0" y="77"/>
                </a:lnTo>
                <a:lnTo>
                  <a:pt x="0" y="87"/>
                </a:lnTo>
                <a:lnTo>
                  <a:pt x="1" y="87"/>
                </a:lnTo>
                <a:lnTo>
                  <a:pt x="6" y="86"/>
                </a:lnTo>
                <a:lnTo>
                  <a:pt x="19" y="78"/>
                </a:lnTo>
                <a:lnTo>
                  <a:pt x="29" y="74"/>
                </a:lnTo>
                <a:lnTo>
                  <a:pt x="30" y="73"/>
                </a:lnTo>
                <a:lnTo>
                  <a:pt x="30" y="68"/>
                </a:lnTo>
                <a:lnTo>
                  <a:pt x="29" y="55"/>
                </a:lnTo>
                <a:lnTo>
                  <a:pt x="29" y="45"/>
                </a:lnTo>
                <a:lnTo>
                  <a:pt x="30" y="44"/>
                </a:lnTo>
                <a:lnTo>
                  <a:pt x="33" y="42"/>
                </a:lnTo>
                <a:lnTo>
                  <a:pt x="46" y="36"/>
                </a:lnTo>
                <a:lnTo>
                  <a:pt x="57" y="32"/>
                </a:lnTo>
                <a:lnTo>
                  <a:pt x="58" y="31"/>
                </a:lnTo>
                <a:lnTo>
                  <a:pt x="58" y="29"/>
                </a:lnTo>
                <a:lnTo>
                  <a:pt x="57" y="22"/>
                </a:lnTo>
                <a:lnTo>
                  <a:pt x="57" y="16"/>
                </a:lnTo>
                <a:lnTo>
                  <a:pt x="58" y="15"/>
                </a:lnTo>
                <a:lnTo>
                  <a:pt x="54" y="13"/>
                </a:lnTo>
                <a:lnTo>
                  <a:pt x="41" y="6"/>
                </a:lnTo>
                <a:lnTo>
                  <a:pt x="30" y="2"/>
                </a:lnTo>
                <a:lnTo>
                  <a:pt x="30" y="0"/>
                </a:lnTo>
                <a:lnTo>
                  <a:pt x="29" y="0"/>
                </a:lnTo>
                <a:lnTo>
                  <a:pt x="30" y="0"/>
                </a:lnTo>
                <a:lnTo>
                  <a:pt x="29" y="0"/>
                </a:lnTo>
                <a:lnTo>
                  <a:pt x="30" y="0"/>
                </a:lnTo>
                <a:lnTo>
                  <a:pt x="29" y="2"/>
                </a:lnTo>
                <a:lnTo>
                  <a:pt x="28" y="3"/>
                </a:lnTo>
                <a:lnTo>
                  <a:pt x="20" y="10"/>
                </a:lnTo>
                <a:lnTo>
                  <a:pt x="16" y="15"/>
                </a:lnTo>
                <a:lnTo>
                  <a:pt x="16" y="15"/>
                </a:lnTo>
                <a:lnTo>
                  <a:pt x="16" y="15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04120" y="5103720"/>
            <a:ext cx="11160" cy="22320"/>
          </a:xfrm>
          <a:custGeom>
            <a:avLst/>
            <a:gdLst/>
            <a:ahLst/>
            <a:rect l="l" t="t" r="r" b="b"/>
            <a:pathLst>
              <a:path w="30" h="69">
                <a:moveTo>
                  <a:pt x="0" y="5"/>
                </a:moveTo>
                <a:lnTo>
                  <a:pt x="0" y="6"/>
                </a:lnTo>
                <a:lnTo>
                  <a:pt x="0" y="15"/>
                </a:lnTo>
                <a:lnTo>
                  <a:pt x="1" y="45"/>
                </a:lnTo>
                <a:lnTo>
                  <a:pt x="3" y="69"/>
                </a:lnTo>
                <a:lnTo>
                  <a:pt x="4" y="69"/>
                </a:lnTo>
                <a:lnTo>
                  <a:pt x="7" y="66"/>
                </a:lnTo>
                <a:lnTo>
                  <a:pt x="20" y="56"/>
                </a:lnTo>
                <a:lnTo>
                  <a:pt x="29" y="48"/>
                </a:lnTo>
                <a:lnTo>
                  <a:pt x="30" y="47"/>
                </a:lnTo>
                <a:lnTo>
                  <a:pt x="29" y="43"/>
                </a:lnTo>
                <a:lnTo>
                  <a:pt x="24" y="29"/>
                </a:lnTo>
                <a:lnTo>
                  <a:pt x="23" y="19"/>
                </a:lnTo>
                <a:lnTo>
                  <a:pt x="23" y="18"/>
                </a:lnTo>
                <a:lnTo>
                  <a:pt x="27" y="8"/>
                </a:lnTo>
                <a:lnTo>
                  <a:pt x="29" y="2"/>
                </a:lnTo>
                <a:lnTo>
                  <a:pt x="30" y="0"/>
                </a:lnTo>
                <a:lnTo>
                  <a:pt x="29" y="0"/>
                </a:lnTo>
                <a:lnTo>
                  <a:pt x="27" y="0"/>
                </a:lnTo>
                <a:lnTo>
                  <a:pt x="20" y="0"/>
                </a:lnTo>
                <a:lnTo>
                  <a:pt x="14" y="0"/>
                </a:lnTo>
                <a:lnTo>
                  <a:pt x="14" y="0"/>
                </a:lnTo>
                <a:lnTo>
                  <a:pt x="13" y="0"/>
                </a:lnTo>
                <a:lnTo>
                  <a:pt x="14" y="0"/>
                </a:lnTo>
                <a:lnTo>
                  <a:pt x="13" y="0"/>
                </a:lnTo>
                <a:lnTo>
                  <a:pt x="14" y="0"/>
                </a:lnTo>
                <a:lnTo>
                  <a:pt x="11" y="2"/>
                </a:lnTo>
                <a:lnTo>
                  <a:pt x="4" y="3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442280" y="5186520"/>
            <a:ext cx="14040" cy="14040"/>
          </a:xfrm>
          <a:custGeom>
            <a:avLst/>
            <a:gdLst/>
            <a:ahLst/>
            <a:rect l="l" t="t" r="r" b="b"/>
            <a:pathLst>
              <a:path w="37" h="42">
                <a:moveTo>
                  <a:pt x="3" y="0"/>
                </a:moveTo>
                <a:lnTo>
                  <a:pt x="2" y="4"/>
                </a:lnTo>
                <a:lnTo>
                  <a:pt x="0" y="17"/>
                </a:lnTo>
                <a:lnTo>
                  <a:pt x="0" y="27"/>
                </a:lnTo>
                <a:lnTo>
                  <a:pt x="0" y="27"/>
                </a:lnTo>
                <a:lnTo>
                  <a:pt x="3" y="30"/>
                </a:lnTo>
                <a:lnTo>
                  <a:pt x="13" y="38"/>
                </a:lnTo>
                <a:lnTo>
                  <a:pt x="21" y="42"/>
                </a:lnTo>
                <a:lnTo>
                  <a:pt x="22" y="42"/>
                </a:lnTo>
                <a:lnTo>
                  <a:pt x="24" y="39"/>
                </a:lnTo>
                <a:lnTo>
                  <a:pt x="31" y="30"/>
                </a:lnTo>
                <a:lnTo>
                  <a:pt x="35" y="25"/>
                </a:lnTo>
                <a:lnTo>
                  <a:pt x="37" y="23"/>
                </a:lnTo>
                <a:lnTo>
                  <a:pt x="34" y="22"/>
                </a:lnTo>
                <a:lnTo>
                  <a:pt x="29" y="17"/>
                </a:lnTo>
                <a:lnTo>
                  <a:pt x="26" y="14"/>
                </a:lnTo>
                <a:lnTo>
                  <a:pt x="26" y="13"/>
                </a:lnTo>
                <a:lnTo>
                  <a:pt x="25" y="13"/>
                </a:lnTo>
                <a:lnTo>
                  <a:pt x="26" y="13"/>
                </a:lnTo>
                <a:lnTo>
                  <a:pt x="25" y="13"/>
                </a:lnTo>
                <a:lnTo>
                  <a:pt x="26" y="13"/>
                </a:lnTo>
                <a:lnTo>
                  <a:pt x="22" y="12"/>
                </a:lnTo>
                <a:lnTo>
                  <a:pt x="12" y="6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81880" y="5226120"/>
            <a:ext cx="27000" cy="15840"/>
          </a:xfrm>
          <a:custGeom>
            <a:avLst/>
            <a:gdLst/>
            <a:ahLst/>
            <a:rect l="l" t="t" r="r" b="b"/>
            <a:pathLst>
              <a:path w="80" h="41">
                <a:moveTo>
                  <a:pt x="7" y="0"/>
                </a:moveTo>
                <a:lnTo>
                  <a:pt x="6" y="2"/>
                </a:lnTo>
                <a:lnTo>
                  <a:pt x="1" y="10"/>
                </a:lnTo>
                <a:lnTo>
                  <a:pt x="0" y="15"/>
                </a:lnTo>
                <a:lnTo>
                  <a:pt x="0" y="15"/>
                </a:lnTo>
                <a:lnTo>
                  <a:pt x="3" y="19"/>
                </a:lnTo>
                <a:lnTo>
                  <a:pt x="13" y="32"/>
                </a:lnTo>
                <a:lnTo>
                  <a:pt x="20" y="41"/>
                </a:lnTo>
                <a:lnTo>
                  <a:pt x="22" y="41"/>
                </a:lnTo>
                <a:lnTo>
                  <a:pt x="27" y="39"/>
                </a:lnTo>
                <a:lnTo>
                  <a:pt x="45" y="33"/>
                </a:lnTo>
                <a:lnTo>
                  <a:pt x="59" y="29"/>
                </a:lnTo>
                <a:lnTo>
                  <a:pt x="61" y="28"/>
                </a:lnTo>
                <a:lnTo>
                  <a:pt x="64" y="28"/>
                </a:lnTo>
                <a:lnTo>
                  <a:pt x="72" y="26"/>
                </a:lnTo>
                <a:lnTo>
                  <a:pt x="78" y="26"/>
                </a:lnTo>
                <a:lnTo>
                  <a:pt x="80" y="25"/>
                </a:lnTo>
                <a:lnTo>
                  <a:pt x="80" y="23"/>
                </a:lnTo>
                <a:lnTo>
                  <a:pt x="78" y="16"/>
                </a:lnTo>
                <a:lnTo>
                  <a:pt x="78" y="10"/>
                </a:lnTo>
                <a:lnTo>
                  <a:pt x="80" y="9"/>
                </a:lnTo>
                <a:lnTo>
                  <a:pt x="78" y="9"/>
                </a:lnTo>
                <a:lnTo>
                  <a:pt x="74" y="9"/>
                </a:lnTo>
                <a:lnTo>
                  <a:pt x="59" y="9"/>
                </a:lnTo>
                <a:lnTo>
                  <a:pt x="49" y="9"/>
                </a:lnTo>
                <a:lnTo>
                  <a:pt x="49" y="7"/>
                </a:lnTo>
                <a:lnTo>
                  <a:pt x="48" y="7"/>
                </a:lnTo>
                <a:lnTo>
                  <a:pt x="49" y="7"/>
                </a:lnTo>
                <a:lnTo>
                  <a:pt x="48" y="7"/>
                </a:lnTo>
                <a:lnTo>
                  <a:pt x="49" y="7"/>
                </a:lnTo>
                <a:lnTo>
                  <a:pt x="48" y="7"/>
                </a:lnTo>
                <a:lnTo>
                  <a:pt x="42" y="7"/>
                </a:lnTo>
                <a:lnTo>
                  <a:pt x="22" y="3"/>
                </a:lnTo>
                <a:lnTo>
                  <a:pt x="7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910640" y="3925800"/>
            <a:ext cx="9360" cy="4680"/>
          </a:xfrm>
          <a:custGeom>
            <a:avLst/>
            <a:gdLst/>
            <a:ahLst/>
            <a:rect l="l" t="t" r="r" b="b"/>
            <a:pathLst>
              <a:path w="27" h="16">
                <a:moveTo>
                  <a:pt x="3" y="0"/>
                </a:moveTo>
                <a:lnTo>
                  <a:pt x="1" y="3"/>
                </a:lnTo>
                <a:lnTo>
                  <a:pt x="0" y="10"/>
                </a:lnTo>
                <a:lnTo>
                  <a:pt x="0" y="16"/>
                </a:lnTo>
                <a:lnTo>
                  <a:pt x="0" y="16"/>
                </a:lnTo>
                <a:lnTo>
                  <a:pt x="1" y="16"/>
                </a:lnTo>
                <a:lnTo>
                  <a:pt x="9" y="16"/>
                </a:lnTo>
                <a:lnTo>
                  <a:pt x="14" y="16"/>
                </a:lnTo>
                <a:lnTo>
                  <a:pt x="16" y="16"/>
                </a:lnTo>
                <a:lnTo>
                  <a:pt x="17" y="15"/>
                </a:lnTo>
                <a:lnTo>
                  <a:pt x="22" y="9"/>
                </a:lnTo>
                <a:lnTo>
                  <a:pt x="26" y="5"/>
                </a:lnTo>
                <a:lnTo>
                  <a:pt x="27" y="3"/>
                </a:lnTo>
                <a:lnTo>
                  <a:pt x="26" y="3"/>
                </a:lnTo>
                <a:lnTo>
                  <a:pt x="25" y="3"/>
                </a:lnTo>
                <a:lnTo>
                  <a:pt x="16" y="2"/>
                </a:lnTo>
                <a:lnTo>
                  <a:pt x="10" y="2"/>
                </a:lnTo>
                <a:lnTo>
                  <a:pt x="10" y="0"/>
                </a:lnTo>
                <a:lnTo>
                  <a:pt x="9" y="0"/>
                </a:lnTo>
                <a:lnTo>
                  <a:pt x="10" y="0"/>
                </a:lnTo>
                <a:lnTo>
                  <a:pt x="9" y="0"/>
                </a:lnTo>
                <a:lnTo>
                  <a:pt x="10" y="0"/>
                </a:lnTo>
                <a:lnTo>
                  <a:pt x="9" y="0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935840" y="3905280"/>
            <a:ext cx="22320" cy="15840"/>
          </a:xfrm>
          <a:custGeom>
            <a:avLst/>
            <a:gdLst/>
            <a:ahLst/>
            <a:rect l="l" t="t" r="r" b="b"/>
            <a:pathLst>
              <a:path w="61" h="49">
                <a:moveTo>
                  <a:pt x="0" y="28"/>
                </a:moveTo>
                <a:lnTo>
                  <a:pt x="0" y="29"/>
                </a:lnTo>
                <a:lnTo>
                  <a:pt x="0" y="32"/>
                </a:lnTo>
                <a:lnTo>
                  <a:pt x="1" y="42"/>
                </a:lnTo>
                <a:lnTo>
                  <a:pt x="3" y="49"/>
                </a:lnTo>
                <a:lnTo>
                  <a:pt x="4" y="49"/>
                </a:lnTo>
                <a:lnTo>
                  <a:pt x="10" y="49"/>
                </a:lnTo>
                <a:lnTo>
                  <a:pt x="27" y="49"/>
                </a:lnTo>
                <a:lnTo>
                  <a:pt x="40" y="49"/>
                </a:lnTo>
                <a:lnTo>
                  <a:pt x="42" y="49"/>
                </a:lnTo>
                <a:lnTo>
                  <a:pt x="42" y="46"/>
                </a:lnTo>
                <a:lnTo>
                  <a:pt x="42" y="38"/>
                </a:lnTo>
                <a:lnTo>
                  <a:pt x="42" y="32"/>
                </a:lnTo>
                <a:lnTo>
                  <a:pt x="43" y="30"/>
                </a:lnTo>
                <a:lnTo>
                  <a:pt x="53" y="26"/>
                </a:lnTo>
                <a:lnTo>
                  <a:pt x="59" y="23"/>
                </a:lnTo>
                <a:lnTo>
                  <a:pt x="61" y="22"/>
                </a:lnTo>
                <a:lnTo>
                  <a:pt x="56" y="20"/>
                </a:lnTo>
                <a:lnTo>
                  <a:pt x="46" y="12"/>
                </a:lnTo>
                <a:lnTo>
                  <a:pt x="39" y="6"/>
                </a:lnTo>
                <a:lnTo>
                  <a:pt x="39" y="4"/>
                </a:lnTo>
                <a:lnTo>
                  <a:pt x="37" y="4"/>
                </a:lnTo>
                <a:lnTo>
                  <a:pt x="35" y="4"/>
                </a:lnTo>
                <a:lnTo>
                  <a:pt x="24" y="3"/>
                </a:lnTo>
                <a:lnTo>
                  <a:pt x="17" y="2"/>
                </a:lnTo>
                <a:lnTo>
                  <a:pt x="17" y="0"/>
                </a:lnTo>
                <a:lnTo>
                  <a:pt x="16" y="0"/>
                </a:lnTo>
                <a:lnTo>
                  <a:pt x="17" y="0"/>
                </a:lnTo>
                <a:lnTo>
                  <a:pt x="16" y="0"/>
                </a:lnTo>
                <a:lnTo>
                  <a:pt x="17" y="0"/>
                </a:lnTo>
                <a:lnTo>
                  <a:pt x="16" y="2"/>
                </a:lnTo>
                <a:lnTo>
                  <a:pt x="14" y="4"/>
                </a:lnTo>
                <a:lnTo>
                  <a:pt x="6" y="17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594560" y="3654360"/>
            <a:ext cx="27000" cy="20880"/>
          </a:xfrm>
          <a:custGeom>
            <a:avLst/>
            <a:gdLst/>
            <a:ahLst/>
            <a:rect l="l" t="t" r="r" b="b"/>
            <a:pathLst>
              <a:path w="86" h="59">
                <a:moveTo>
                  <a:pt x="0" y="29"/>
                </a:moveTo>
                <a:lnTo>
                  <a:pt x="0" y="30"/>
                </a:lnTo>
                <a:lnTo>
                  <a:pt x="0" y="33"/>
                </a:lnTo>
                <a:lnTo>
                  <a:pt x="5" y="46"/>
                </a:lnTo>
                <a:lnTo>
                  <a:pt x="8" y="56"/>
                </a:lnTo>
                <a:lnTo>
                  <a:pt x="9" y="56"/>
                </a:lnTo>
                <a:lnTo>
                  <a:pt x="15" y="55"/>
                </a:lnTo>
                <a:lnTo>
                  <a:pt x="32" y="50"/>
                </a:lnTo>
                <a:lnTo>
                  <a:pt x="47" y="46"/>
                </a:lnTo>
                <a:lnTo>
                  <a:pt x="48" y="44"/>
                </a:lnTo>
                <a:lnTo>
                  <a:pt x="53" y="55"/>
                </a:lnTo>
                <a:lnTo>
                  <a:pt x="56" y="59"/>
                </a:lnTo>
                <a:lnTo>
                  <a:pt x="57" y="59"/>
                </a:lnTo>
                <a:lnTo>
                  <a:pt x="61" y="59"/>
                </a:lnTo>
                <a:lnTo>
                  <a:pt x="74" y="56"/>
                </a:lnTo>
                <a:lnTo>
                  <a:pt x="84" y="55"/>
                </a:lnTo>
                <a:lnTo>
                  <a:pt x="86" y="53"/>
                </a:lnTo>
                <a:lnTo>
                  <a:pt x="83" y="47"/>
                </a:lnTo>
                <a:lnTo>
                  <a:pt x="77" y="30"/>
                </a:lnTo>
                <a:lnTo>
                  <a:pt x="73" y="15"/>
                </a:lnTo>
                <a:lnTo>
                  <a:pt x="73" y="14"/>
                </a:lnTo>
                <a:lnTo>
                  <a:pt x="67" y="13"/>
                </a:lnTo>
                <a:lnTo>
                  <a:pt x="54" y="5"/>
                </a:lnTo>
                <a:lnTo>
                  <a:pt x="44" y="1"/>
                </a:lnTo>
                <a:lnTo>
                  <a:pt x="44" y="0"/>
                </a:lnTo>
                <a:lnTo>
                  <a:pt x="42" y="0"/>
                </a:lnTo>
                <a:lnTo>
                  <a:pt x="44" y="0"/>
                </a:lnTo>
                <a:lnTo>
                  <a:pt x="42" y="0"/>
                </a:lnTo>
                <a:lnTo>
                  <a:pt x="44" y="0"/>
                </a:lnTo>
                <a:lnTo>
                  <a:pt x="42" y="1"/>
                </a:lnTo>
                <a:lnTo>
                  <a:pt x="37" y="5"/>
                </a:lnTo>
                <a:lnTo>
                  <a:pt x="16" y="18"/>
                </a:lnTo>
                <a:lnTo>
                  <a:pt x="0" y="29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135920" y="3639960"/>
            <a:ext cx="333360" cy="395640"/>
          </a:xfrm>
          <a:custGeom>
            <a:avLst/>
            <a:gdLst/>
            <a:ahLst/>
            <a:rect l="l" t="t" r="r" b="b"/>
            <a:pathLst>
              <a:path w="966" h="1212">
                <a:moveTo>
                  <a:pt x="0" y="846"/>
                </a:moveTo>
                <a:lnTo>
                  <a:pt x="19" y="853"/>
                </a:lnTo>
                <a:lnTo>
                  <a:pt x="75" y="873"/>
                </a:lnTo>
                <a:lnTo>
                  <a:pt x="118" y="889"/>
                </a:lnTo>
                <a:lnTo>
                  <a:pt x="121" y="889"/>
                </a:lnTo>
                <a:lnTo>
                  <a:pt x="121" y="897"/>
                </a:lnTo>
                <a:lnTo>
                  <a:pt x="120" y="918"/>
                </a:lnTo>
                <a:lnTo>
                  <a:pt x="120" y="934"/>
                </a:lnTo>
                <a:lnTo>
                  <a:pt x="121" y="934"/>
                </a:lnTo>
                <a:lnTo>
                  <a:pt x="124" y="934"/>
                </a:lnTo>
                <a:lnTo>
                  <a:pt x="146" y="933"/>
                </a:lnTo>
                <a:lnTo>
                  <a:pt x="220" y="926"/>
                </a:lnTo>
                <a:lnTo>
                  <a:pt x="276" y="921"/>
                </a:lnTo>
                <a:lnTo>
                  <a:pt x="281" y="920"/>
                </a:lnTo>
                <a:lnTo>
                  <a:pt x="288" y="920"/>
                </a:lnTo>
                <a:lnTo>
                  <a:pt x="310" y="920"/>
                </a:lnTo>
                <a:lnTo>
                  <a:pt x="327" y="920"/>
                </a:lnTo>
                <a:lnTo>
                  <a:pt x="329" y="918"/>
                </a:lnTo>
                <a:lnTo>
                  <a:pt x="330" y="921"/>
                </a:lnTo>
                <a:lnTo>
                  <a:pt x="343" y="940"/>
                </a:lnTo>
                <a:lnTo>
                  <a:pt x="389" y="1001"/>
                </a:lnTo>
                <a:lnTo>
                  <a:pt x="424" y="1049"/>
                </a:lnTo>
                <a:lnTo>
                  <a:pt x="427" y="1050"/>
                </a:lnTo>
                <a:lnTo>
                  <a:pt x="429" y="1050"/>
                </a:lnTo>
                <a:lnTo>
                  <a:pt x="449" y="1050"/>
                </a:lnTo>
                <a:lnTo>
                  <a:pt x="517" y="1050"/>
                </a:lnTo>
                <a:lnTo>
                  <a:pt x="569" y="1050"/>
                </a:lnTo>
                <a:lnTo>
                  <a:pt x="572" y="1050"/>
                </a:lnTo>
                <a:lnTo>
                  <a:pt x="588" y="1056"/>
                </a:lnTo>
                <a:lnTo>
                  <a:pt x="636" y="1069"/>
                </a:lnTo>
                <a:lnTo>
                  <a:pt x="672" y="1079"/>
                </a:lnTo>
                <a:lnTo>
                  <a:pt x="675" y="1079"/>
                </a:lnTo>
                <a:lnTo>
                  <a:pt x="675" y="1101"/>
                </a:lnTo>
                <a:lnTo>
                  <a:pt x="673" y="1163"/>
                </a:lnTo>
                <a:lnTo>
                  <a:pt x="673" y="1211"/>
                </a:lnTo>
                <a:lnTo>
                  <a:pt x="675" y="1212"/>
                </a:lnTo>
                <a:lnTo>
                  <a:pt x="679" y="1212"/>
                </a:lnTo>
                <a:lnTo>
                  <a:pt x="692" y="1212"/>
                </a:lnTo>
                <a:lnTo>
                  <a:pt x="702" y="1212"/>
                </a:lnTo>
                <a:lnTo>
                  <a:pt x="704" y="1212"/>
                </a:lnTo>
                <a:lnTo>
                  <a:pt x="704" y="1208"/>
                </a:lnTo>
                <a:lnTo>
                  <a:pt x="714" y="1176"/>
                </a:lnTo>
                <a:lnTo>
                  <a:pt x="749" y="1066"/>
                </a:lnTo>
                <a:lnTo>
                  <a:pt x="775" y="983"/>
                </a:lnTo>
                <a:lnTo>
                  <a:pt x="776" y="978"/>
                </a:lnTo>
                <a:lnTo>
                  <a:pt x="766" y="972"/>
                </a:lnTo>
                <a:lnTo>
                  <a:pt x="740" y="952"/>
                </a:lnTo>
                <a:lnTo>
                  <a:pt x="718" y="936"/>
                </a:lnTo>
                <a:lnTo>
                  <a:pt x="718" y="934"/>
                </a:lnTo>
                <a:lnTo>
                  <a:pt x="718" y="928"/>
                </a:lnTo>
                <a:lnTo>
                  <a:pt x="717" y="907"/>
                </a:lnTo>
                <a:lnTo>
                  <a:pt x="717" y="891"/>
                </a:lnTo>
                <a:lnTo>
                  <a:pt x="718" y="889"/>
                </a:lnTo>
                <a:lnTo>
                  <a:pt x="727" y="881"/>
                </a:lnTo>
                <a:lnTo>
                  <a:pt x="753" y="855"/>
                </a:lnTo>
                <a:lnTo>
                  <a:pt x="775" y="833"/>
                </a:lnTo>
                <a:lnTo>
                  <a:pt x="776" y="831"/>
                </a:lnTo>
                <a:lnTo>
                  <a:pt x="775" y="831"/>
                </a:lnTo>
                <a:lnTo>
                  <a:pt x="769" y="830"/>
                </a:lnTo>
                <a:lnTo>
                  <a:pt x="749" y="823"/>
                </a:lnTo>
                <a:lnTo>
                  <a:pt x="733" y="818"/>
                </a:lnTo>
                <a:lnTo>
                  <a:pt x="733" y="817"/>
                </a:lnTo>
                <a:lnTo>
                  <a:pt x="733" y="813"/>
                </a:lnTo>
                <a:lnTo>
                  <a:pt x="731" y="798"/>
                </a:lnTo>
                <a:lnTo>
                  <a:pt x="731" y="788"/>
                </a:lnTo>
                <a:lnTo>
                  <a:pt x="733" y="786"/>
                </a:lnTo>
                <a:lnTo>
                  <a:pt x="737" y="786"/>
                </a:lnTo>
                <a:lnTo>
                  <a:pt x="750" y="786"/>
                </a:lnTo>
                <a:lnTo>
                  <a:pt x="760" y="786"/>
                </a:lnTo>
                <a:lnTo>
                  <a:pt x="762" y="786"/>
                </a:lnTo>
                <a:lnTo>
                  <a:pt x="770" y="792"/>
                </a:lnTo>
                <a:lnTo>
                  <a:pt x="797" y="807"/>
                </a:lnTo>
                <a:lnTo>
                  <a:pt x="818" y="817"/>
                </a:lnTo>
                <a:lnTo>
                  <a:pt x="820" y="817"/>
                </a:lnTo>
                <a:lnTo>
                  <a:pt x="828" y="815"/>
                </a:lnTo>
                <a:lnTo>
                  <a:pt x="856" y="808"/>
                </a:lnTo>
                <a:lnTo>
                  <a:pt x="878" y="804"/>
                </a:lnTo>
                <a:lnTo>
                  <a:pt x="879" y="802"/>
                </a:lnTo>
                <a:lnTo>
                  <a:pt x="885" y="813"/>
                </a:lnTo>
                <a:lnTo>
                  <a:pt x="907" y="840"/>
                </a:lnTo>
                <a:lnTo>
                  <a:pt x="923" y="862"/>
                </a:lnTo>
                <a:lnTo>
                  <a:pt x="924" y="862"/>
                </a:lnTo>
                <a:lnTo>
                  <a:pt x="930" y="862"/>
                </a:lnTo>
                <a:lnTo>
                  <a:pt x="950" y="862"/>
                </a:lnTo>
                <a:lnTo>
                  <a:pt x="965" y="862"/>
                </a:lnTo>
                <a:lnTo>
                  <a:pt x="966" y="862"/>
                </a:lnTo>
                <a:lnTo>
                  <a:pt x="960" y="856"/>
                </a:lnTo>
                <a:lnTo>
                  <a:pt x="947" y="834"/>
                </a:lnTo>
                <a:lnTo>
                  <a:pt x="937" y="818"/>
                </a:lnTo>
                <a:lnTo>
                  <a:pt x="937" y="817"/>
                </a:lnTo>
                <a:lnTo>
                  <a:pt x="937" y="811"/>
                </a:lnTo>
                <a:lnTo>
                  <a:pt x="936" y="791"/>
                </a:lnTo>
                <a:lnTo>
                  <a:pt x="936" y="775"/>
                </a:lnTo>
                <a:lnTo>
                  <a:pt x="937" y="773"/>
                </a:lnTo>
                <a:lnTo>
                  <a:pt x="936" y="772"/>
                </a:lnTo>
                <a:lnTo>
                  <a:pt x="927" y="760"/>
                </a:lnTo>
                <a:lnTo>
                  <a:pt x="901" y="720"/>
                </a:lnTo>
                <a:lnTo>
                  <a:pt x="879" y="689"/>
                </a:lnTo>
                <a:lnTo>
                  <a:pt x="879" y="686"/>
                </a:lnTo>
                <a:lnTo>
                  <a:pt x="879" y="685"/>
                </a:lnTo>
                <a:lnTo>
                  <a:pt x="881" y="676"/>
                </a:lnTo>
                <a:lnTo>
                  <a:pt x="886" y="642"/>
                </a:lnTo>
                <a:lnTo>
                  <a:pt x="891" y="615"/>
                </a:lnTo>
                <a:lnTo>
                  <a:pt x="892" y="613"/>
                </a:lnTo>
                <a:lnTo>
                  <a:pt x="888" y="610"/>
                </a:lnTo>
                <a:lnTo>
                  <a:pt x="875" y="597"/>
                </a:lnTo>
                <a:lnTo>
                  <a:pt x="866" y="586"/>
                </a:lnTo>
                <a:lnTo>
                  <a:pt x="866" y="585"/>
                </a:lnTo>
                <a:lnTo>
                  <a:pt x="866" y="584"/>
                </a:lnTo>
                <a:lnTo>
                  <a:pt x="868" y="568"/>
                </a:lnTo>
                <a:lnTo>
                  <a:pt x="873" y="513"/>
                </a:lnTo>
                <a:lnTo>
                  <a:pt x="878" y="471"/>
                </a:lnTo>
                <a:lnTo>
                  <a:pt x="879" y="468"/>
                </a:lnTo>
                <a:lnTo>
                  <a:pt x="876" y="469"/>
                </a:lnTo>
                <a:lnTo>
                  <a:pt x="857" y="471"/>
                </a:lnTo>
                <a:lnTo>
                  <a:pt x="797" y="478"/>
                </a:lnTo>
                <a:lnTo>
                  <a:pt x="749" y="484"/>
                </a:lnTo>
                <a:lnTo>
                  <a:pt x="747" y="484"/>
                </a:lnTo>
                <a:lnTo>
                  <a:pt x="743" y="482"/>
                </a:lnTo>
                <a:lnTo>
                  <a:pt x="713" y="471"/>
                </a:lnTo>
                <a:lnTo>
                  <a:pt x="611" y="429"/>
                </a:lnTo>
                <a:lnTo>
                  <a:pt x="533" y="398"/>
                </a:lnTo>
                <a:lnTo>
                  <a:pt x="530" y="395"/>
                </a:lnTo>
                <a:lnTo>
                  <a:pt x="529" y="394"/>
                </a:lnTo>
                <a:lnTo>
                  <a:pt x="520" y="382"/>
                </a:lnTo>
                <a:lnTo>
                  <a:pt x="492" y="340"/>
                </a:lnTo>
                <a:lnTo>
                  <a:pt x="471" y="310"/>
                </a:lnTo>
                <a:lnTo>
                  <a:pt x="471" y="307"/>
                </a:lnTo>
                <a:lnTo>
                  <a:pt x="463" y="310"/>
                </a:lnTo>
                <a:lnTo>
                  <a:pt x="443" y="315"/>
                </a:lnTo>
                <a:lnTo>
                  <a:pt x="427" y="320"/>
                </a:lnTo>
                <a:lnTo>
                  <a:pt x="427" y="320"/>
                </a:lnTo>
                <a:lnTo>
                  <a:pt x="433" y="305"/>
                </a:lnTo>
                <a:lnTo>
                  <a:pt x="453" y="258"/>
                </a:lnTo>
                <a:lnTo>
                  <a:pt x="469" y="223"/>
                </a:lnTo>
                <a:lnTo>
                  <a:pt x="471" y="220"/>
                </a:lnTo>
                <a:lnTo>
                  <a:pt x="465" y="210"/>
                </a:lnTo>
                <a:lnTo>
                  <a:pt x="452" y="175"/>
                </a:lnTo>
                <a:lnTo>
                  <a:pt x="442" y="149"/>
                </a:lnTo>
                <a:lnTo>
                  <a:pt x="442" y="146"/>
                </a:lnTo>
                <a:lnTo>
                  <a:pt x="449" y="143"/>
                </a:lnTo>
                <a:lnTo>
                  <a:pt x="469" y="133"/>
                </a:lnTo>
                <a:lnTo>
                  <a:pt x="486" y="124"/>
                </a:lnTo>
                <a:lnTo>
                  <a:pt x="488" y="123"/>
                </a:lnTo>
                <a:lnTo>
                  <a:pt x="488" y="121"/>
                </a:lnTo>
                <a:lnTo>
                  <a:pt x="494" y="107"/>
                </a:lnTo>
                <a:lnTo>
                  <a:pt x="514" y="56"/>
                </a:lnTo>
                <a:lnTo>
                  <a:pt x="529" y="18"/>
                </a:lnTo>
                <a:lnTo>
                  <a:pt x="530" y="16"/>
                </a:lnTo>
                <a:lnTo>
                  <a:pt x="529" y="16"/>
                </a:lnTo>
                <a:lnTo>
                  <a:pt x="523" y="14"/>
                </a:lnTo>
                <a:lnTo>
                  <a:pt x="501" y="7"/>
                </a:lnTo>
                <a:lnTo>
                  <a:pt x="485" y="1"/>
                </a:lnTo>
                <a:lnTo>
                  <a:pt x="485" y="0"/>
                </a:lnTo>
                <a:lnTo>
                  <a:pt x="484" y="1"/>
                </a:lnTo>
                <a:lnTo>
                  <a:pt x="479" y="5"/>
                </a:lnTo>
                <a:lnTo>
                  <a:pt x="466" y="20"/>
                </a:lnTo>
                <a:lnTo>
                  <a:pt x="456" y="31"/>
                </a:lnTo>
                <a:lnTo>
                  <a:pt x="456" y="31"/>
                </a:lnTo>
                <a:lnTo>
                  <a:pt x="450" y="34"/>
                </a:lnTo>
                <a:lnTo>
                  <a:pt x="418" y="50"/>
                </a:lnTo>
                <a:lnTo>
                  <a:pt x="310" y="104"/>
                </a:lnTo>
                <a:lnTo>
                  <a:pt x="227" y="145"/>
                </a:lnTo>
                <a:lnTo>
                  <a:pt x="223" y="146"/>
                </a:lnTo>
                <a:lnTo>
                  <a:pt x="221" y="155"/>
                </a:lnTo>
                <a:lnTo>
                  <a:pt x="220" y="176"/>
                </a:lnTo>
                <a:lnTo>
                  <a:pt x="220" y="194"/>
                </a:lnTo>
                <a:lnTo>
                  <a:pt x="220" y="194"/>
                </a:lnTo>
                <a:lnTo>
                  <a:pt x="218" y="197"/>
                </a:lnTo>
                <a:lnTo>
                  <a:pt x="213" y="214"/>
                </a:lnTo>
                <a:lnTo>
                  <a:pt x="194" y="273"/>
                </a:lnTo>
                <a:lnTo>
                  <a:pt x="179" y="318"/>
                </a:lnTo>
                <a:lnTo>
                  <a:pt x="179" y="320"/>
                </a:lnTo>
                <a:lnTo>
                  <a:pt x="178" y="321"/>
                </a:lnTo>
                <a:lnTo>
                  <a:pt x="169" y="326"/>
                </a:lnTo>
                <a:lnTo>
                  <a:pt x="143" y="340"/>
                </a:lnTo>
                <a:lnTo>
                  <a:pt x="121" y="352"/>
                </a:lnTo>
                <a:lnTo>
                  <a:pt x="121" y="352"/>
                </a:lnTo>
                <a:lnTo>
                  <a:pt x="118" y="363"/>
                </a:lnTo>
                <a:lnTo>
                  <a:pt x="111" y="398"/>
                </a:lnTo>
                <a:lnTo>
                  <a:pt x="107" y="424"/>
                </a:lnTo>
                <a:lnTo>
                  <a:pt x="107" y="424"/>
                </a:lnTo>
                <a:lnTo>
                  <a:pt x="107" y="429"/>
                </a:lnTo>
                <a:lnTo>
                  <a:pt x="113" y="450"/>
                </a:lnTo>
                <a:lnTo>
                  <a:pt x="133" y="526"/>
                </a:lnTo>
                <a:lnTo>
                  <a:pt x="147" y="582"/>
                </a:lnTo>
                <a:lnTo>
                  <a:pt x="149" y="585"/>
                </a:lnTo>
                <a:lnTo>
                  <a:pt x="147" y="586"/>
                </a:lnTo>
                <a:lnTo>
                  <a:pt x="145" y="589"/>
                </a:lnTo>
                <a:lnTo>
                  <a:pt x="132" y="602"/>
                </a:lnTo>
                <a:lnTo>
                  <a:pt x="121" y="613"/>
                </a:lnTo>
                <a:lnTo>
                  <a:pt x="121" y="613"/>
                </a:lnTo>
                <a:lnTo>
                  <a:pt x="121" y="615"/>
                </a:lnTo>
                <a:lnTo>
                  <a:pt x="124" y="624"/>
                </a:lnTo>
                <a:lnTo>
                  <a:pt x="137" y="659"/>
                </a:lnTo>
                <a:lnTo>
                  <a:pt x="147" y="685"/>
                </a:lnTo>
                <a:lnTo>
                  <a:pt x="149" y="686"/>
                </a:lnTo>
                <a:lnTo>
                  <a:pt x="147" y="686"/>
                </a:lnTo>
                <a:lnTo>
                  <a:pt x="149" y="686"/>
                </a:lnTo>
                <a:lnTo>
                  <a:pt x="147" y="686"/>
                </a:lnTo>
                <a:lnTo>
                  <a:pt x="149" y="686"/>
                </a:lnTo>
                <a:lnTo>
                  <a:pt x="145" y="691"/>
                </a:lnTo>
                <a:lnTo>
                  <a:pt x="124" y="713"/>
                </a:lnTo>
                <a:lnTo>
                  <a:pt x="55" y="786"/>
                </a:lnTo>
                <a:lnTo>
                  <a:pt x="3" y="843"/>
                </a:lnTo>
                <a:lnTo>
                  <a:pt x="0" y="846"/>
                </a:lnTo>
                <a:lnTo>
                  <a:pt x="0" y="846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102440" y="3914640"/>
            <a:ext cx="130320" cy="149400"/>
          </a:xfrm>
          <a:custGeom>
            <a:avLst/>
            <a:gdLst/>
            <a:ahLst/>
            <a:rect l="l" t="t" r="r" b="b"/>
            <a:pathLst>
              <a:path w="378" h="454">
                <a:moveTo>
                  <a:pt x="42" y="60"/>
                </a:moveTo>
                <a:lnTo>
                  <a:pt x="41" y="64"/>
                </a:lnTo>
                <a:lnTo>
                  <a:pt x="35" y="87"/>
                </a:lnTo>
                <a:lnTo>
                  <a:pt x="15" y="170"/>
                </a:lnTo>
                <a:lnTo>
                  <a:pt x="0" y="232"/>
                </a:lnTo>
                <a:lnTo>
                  <a:pt x="0" y="235"/>
                </a:lnTo>
                <a:lnTo>
                  <a:pt x="0" y="238"/>
                </a:lnTo>
                <a:lnTo>
                  <a:pt x="2" y="247"/>
                </a:lnTo>
                <a:lnTo>
                  <a:pt x="6" y="281"/>
                </a:lnTo>
                <a:lnTo>
                  <a:pt x="10" y="308"/>
                </a:lnTo>
                <a:lnTo>
                  <a:pt x="12" y="309"/>
                </a:lnTo>
                <a:lnTo>
                  <a:pt x="16" y="309"/>
                </a:lnTo>
                <a:lnTo>
                  <a:pt x="30" y="309"/>
                </a:lnTo>
                <a:lnTo>
                  <a:pt x="41" y="309"/>
                </a:lnTo>
                <a:lnTo>
                  <a:pt x="42" y="309"/>
                </a:lnTo>
                <a:lnTo>
                  <a:pt x="46" y="300"/>
                </a:lnTo>
                <a:lnTo>
                  <a:pt x="59" y="271"/>
                </a:lnTo>
                <a:lnTo>
                  <a:pt x="70" y="248"/>
                </a:lnTo>
                <a:lnTo>
                  <a:pt x="71" y="247"/>
                </a:lnTo>
                <a:lnTo>
                  <a:pt x="72" y="251"/>
                </a:lnTo>
                <a:lnTo>
                  <a:pt x="80" y="260"/>
                </a:lnTo>
                <a:lnTo>
                  <a:pt x="86" y="267"/>
                </a:lnTo>
                <a:lnTo>
                  <a:pt x="87" y="267"/>
                </a:lnTo>
                <a:lnTo>
                  <a:pt x="86" y="270"/>
                </a:lnTo>
                <a:lnTo>
                  <a:pt x="84" y="286"/>
                </a:lnTo>
                <a:lnTo>
                  <a:pt x="77" y="339"/>
                </a:lnTo>
                <a:lnTo>
                  <a:pt x="71" y="380"/>
                </a:lnTo>
                <a:lnTo>
                  <a:pt x="71" y="381"/>
                </a:lnTo>
                <a:lnTo>
                  <a:pt x="72" y="383"/>
                </a:lnTo>
                <a:lnTo>
                  <a:pt x="81" y="393"/>
                </a:lnTo>
                <a:lnTo>
                  <a:pt x="116" y="428"/>
                </a:lnTo>
                <a:lnTo>
                  <a:pt x="142" y="454"/>
                </a:lnTo>
                <a:lnTo>
                  <a:pt x="145" y="454"/>
                </a:lnTo>
                <a:lnTo>
                  <a:pt x="146" y="452"/>
                </a:lnTo>
                <a:lnTo>
                  <a:pt x="162" y="437"/>
                </a:lnTo>
                <a:lnTo>
                  <a:pt x="216" y="383"/>
                </a:lnTo>
                <a:lnTo>
                  <a:pt x="256" y="341"/>
                </a:lnTo>
                <a:lnTo>
                  <a:pt x="259" y="338"/>
                </a:lnTo>
                <a:lnTo>
                  <a:pt x="259" y="329"/>
                </a:lnTo>
                <a:lnTo>
                  <a:pt x="258" y="302"/>
                </a:lnTo>
                <a:lnTo>
                  <a:pt x="258" y="280"/>
                </a:lnTo>
                <a:lnTo>
                  <a:pt x="259" y="279"/>
                </a:lnTo>
                <a:lnTo>
                  <a:pt x="272" y="273"/>
                </a:lnTo>
                <a:lnTo>
                  <a:pt x="314" y="253"/>
                </a:lnTo>
                <a:lnTo>
                  <a:pt x="345" y="237"/>
                </a:lnTo>
                <a:lnTo>
                  <a:pt x="348" y="235"/>
                </a:lnTo>
                <a:lnTo>
                  <a:pt x="348" y="232"/>
                </a:lnTo>
                <a:lnTo>
                  <a:pt x="352" y="210"/>
                </a:lnTo>
                <a:lnTo>
                  <a:pt x="367" y="135"/>
                </a:lnTo>
                <a:lnTo>
                  <a:pt x="377" y="79"/>
                </a:lnTo>
                <a:lnTo>
                  <a:pt x="378" y="74"/>
                </a:lnTo>
                <a:lnTo>
                  <a:pt x="374" y="76"/>
                </a:lnTo>
                <a:lnTo>
                  <a:pt x="352" y="77"/>
                </a:lnTo>
                <a:lnTo>
                  <a:pt x="277" y="84"/>
                </a:lnTo>
                <a:lnTo>
                  <a:pt x="220" y="90"/>
                </a:lnTo>
                <a:lnTo>
                  <a:pt x="217" y="90"/>
                </a:lnTo>
                <a:lnTo>
                  <a:pt x="217" y="84"/>
                </a:lnTo>
                <a:lnTo>
                  <a:pt x="216" y="63"/>
                </a:lnTo>
                <a:lnTo>
                  <a:pt x="216" y="47"/>
                </a:lnTo>
                <a:lnTo>
                  <a:pt x="217" y="45"/>
                </a:lnTo>
                <a:lnTo>
                  <a:pt x="214" y="45"/>
                </a:lnTo>
                <a:lnTo>
                  <a:pt x="199" y="40"/>
                </a:lnTo>
                <a:lnTo>
                  <a:pt x="142" y="18"/>
                </a:lnTo>
                <a:lnTo>
                  <a:pt x="99" y="2"/>
                </a:lnTo>
                <a:lnTo>
                  <a:pt x="97" y="0"/>
                </a:lnTo>
                <a:lnTo>
                  <a:pt x="96" y="0"/>
                </a:lnTo>
                <a:lnTo>
                  <a:pt x="97" y="0"/>
                </a:lnTo>
                <a:lnTo>
                  <a:pt x="96" y="0"/>
                </a:lnTo>
                <a:lnTo>
                  <a:pt x="97" y="0"/>
                </a:lnTo>
                <a:lnTo>
                  <a:pt x="96" y="2"/>
                </a:lnTo>
                <a:lnTo>
                  <a:pt x="88" y="11"/>
                </a:lnTo>
                <a:lnTo>
                  <a:pt x="62" y="38"/>
                </a:lnTo>
                <a:lnTo>
                  <a:pt x="42" y="60"/>
                </a:lnTo>
                <a:lnTo>
                  <a:pt x="42" y="60"/>
                </a:lnTo>
                <a:lnTo>
                  <a:pt x="42" y="6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283520" y="3654360"/>
            <a:ext cx="377640" cy="266760"/>
          </a:xfrm>
          <a:custGeom>
            <a:avLst/>
            <a:gdLst/>
            <a:ahLst/>
            <a:rect l="l" t="t" r="r" b="b"/>
            <a:pathLst>
              <a:path w="1089" h="817">
                <a:moveTo>
                  <a:pt x="85" y="160"/>
                </a:moveTo>
                <a:lnTo>
                  <a:pt x="94" y="168"/>
                </a:lnTo>
                <a:lnTo>
                  <a:pt x="120" y="188"/>
                </a:lnTo>
                <a:lnTo>
                  <a:pt x="142" y="204"/>
                </a:lnTo>
                <a:lnTo>
                  <a:pt x="143" y="204"/>
                </a:lnTo>
                <a:lnTo>
                  <a:pt x="143" y="198"/>
                </a:lnTo>
                <a:lnTo>
                  <a:pt x="142" y="178"/>
                </a:lnTo>
                <a:lnTo>
                  <a:pt x="142" y="162"/>
                </a:lnTo>
                <a:lnTo>
                  <a:pt x="143" y="160"/>
                </a:lnTo>
                <a:lnTo>
                  <a:pt x="137" y="152"/>
                </a:lnTo>
                <a:lnTo>
                  <a:pt x="124" y="124"/>
                </a:lnTo>
                <a:lnTo>
                  <a:pt x="114" y="102"/>
                </a:lnTo>
                <a:lnTo>
                  <a:pt x="114" y="101"/>
                </a:lnTo>
                <a:lnTo>
                  <a:pt x="120" y="98"/>
                </a:lnTo>
                <a:lnTo>
                  <a:pt x="140" y="85"/>
                </a:lnTo>
                <a:lnTo>
                  <a:pt x="156" y="75"/>
                </a:lnTo>
                <a:lnTo>
                  <a:pt x="157" y="73"/>
                </a:lnTo>
                <a:lnTo>
                  <a:pt x="157" y="72"/>
                </a:lnTo>
                <a:lnTo>
                  <a:pt x="159" y="63"/>
                </a:lnTo>
                <a:lnTo>
                  <a:pt x="166" y="29"/>
                </a:lnTo>
                <a:lnTo>
                  <a:pt x="170" y="2"/>
                </a:lnTo>
                <a:lnTo>
                  <a:pt x="172" y="0"/>
                </a:lnTo>
                <a:lnTo>
                  <a:pt x="194" y="4"/>
                </a:lnTo>
                <a:lnTo>
                  <a:pt x="263" y="17"/>
                </a:lnTo>
                <a:lnTo>
                  <a:pt x="315" y="27"/>
                </a:lnTo>
                <a:lnTo>
                  <a:pt x="318" y="27"/>
                </a:lnTo>
                <a:lnTo>
                  <a:pt x="326" y="37"/>
                </a:lnTo>
                <a:lnTo>
                  <a:pt x="346" y="65"/>
                </a:lnTo>
                <a:lnTo>
                  <a:pt x="363" y="86"/>
                </a:lnTo>
                <a:lnTo>
                  <a:pt x="365" y="86"/>
                </a:lnTo>
                <a:lnTo>
                  <a:pt x="372" y="86"/>
                </a:lnTo>
                <a:lnTo>
                  <a:pt x="433" y="82"/>
                </a:lnTo>
                <a:lnTo>
                  <a:pt x="636" y="68"/>
                </a:lnTo>
                <a:lnTo>
                  <a:pt x="792" y="56"/>
                </a:lnTo>
                <a:lnTo>
                  <a:pt x="801" y="55"/>
                </a:lnTo>
                <a:lnTo>
                  <a:pt x="801" y="56"/>
                </a:lnTo>
                <a:lnTo>
                  <a:pt x="801" y="60"/>
                </a:lnTo>
                <a:lnTo>
                  <a:pt x="802" y="76"/>
                </a:lnTo>
                <a:lnTo>
                  <a:pt x="802" y="89"/>
                </a:lnTo>
                <a:lnTo>
                  <a:pt x="804" y="89"/>
                </a:lnTo>
                <a:lnTo>
                  <a:pt x="822" y="98"/>
                </a:lnTo>
                <a:lnTo>
                  <a:pt x="882" y="123"/>
                </a:lnTo>
                <a:lnTo>
                  <a:pt x="927" y="142"/>
                </a:lnTo>
                <a:lnTo>
                  <a:pt x="930" y="142"/>
                </a:lnTo>
                <a:lnTo>
                  <a:pt x="930" y="152"/>
                </a:lnTo>
                <a:lnTo>
                  <a:pt x="928" y="181"/>
                </a:lnTo>
                <a:lnTo>
                  <a:pt x="928" y="202"/>
                </a:lnTo>
                <a:lnTo>
                  <a:pt x="930" y="202"/>
                </a:lnTo>
                <a:lnTo>
                  <a:pt x="933" y="204"/>
                </a:lnTo>
                <a:lnTo>
                  <a:pt x="954" y="213"/>
                </a:lnTo>
                <a:lnTo>
                  <a:pt x="1028" y="242"/>
                </a:lnTo>
                <a:lnTo>
                  <a:pt x="1085" y="263"/>
                </a:lnTo>
                <a:lnTo>
                  <a:pt x="1089" y="263"/>
                </a:lnTo>
                <a:lnTo>
                  <a:pt x="1086" y="265"/>
                </a:lnTo>
                <a:lnTo>
                  <a:pt x="1070" y="270"/>
                </a:lnTo>
                <a:lnTo>
                  <a:pt x="1017" y="291"/>
                </a:lnTo>
                <a:lnTo>
                  <a:pt x="975" y="307"/>
                </a:lnTo>
                <a:lnTo>
                  <a:pt x="973" y="307"/>
                </a:lnTo>
                <a:lnTo>
                  <a:pt x="979" y="314"/>
                </a:lnTo>
                <a:lnTo>
                  <a:pt x="1001" y="334"/>
                </a:lnTo>
                <a:lnTo>
                  <a:pt x="1017" y="350"/>
                </a:lnTo>
                <a:lnTo>
                  <a:pt x="1018" y="350"/>
                </a:lnTo>
                <a:lnTo>
                  <a:pt x="1017" y="352"/>
                </a:lnTo>
                <a:lnTo>
                  <a:pt x="1012" y="357"/>
                </a:lnTo>
                <a:lnTo>
                  <a:pt x="999" y="379"/>
                </a:lnTo>
                <a:lnTo>
                  <a:pt x="989" y="395"/>
                </a:lnTo>
                <a:lnTo>
                  <a:pt x="989" y="395"/>
                </a:lnTo>
                <a:lnTo>
                  <a:pt x="988" y="395"/>
                </a:lnTo>
                <a:lnTo>
                  <a:pt x="983" y="395"/>
                </a:lnTo>
                <a:lnTo>
                  <a:pt x="969" y="395"/>
                </a:lnTo>
                <a:lnTo>
                  <a:pt x="959" y="395"/>
                </a:lnTo>
                <a:lnTo>
                  <a:pt x="959" y="395"/>
                </a:lnTo>
                <a:lnTo>
                  <a:pt x="959" y="398"/>
                </a:lnTo>
                <a:lnTo>
                  <a:pt x="963" y="411"/>
                </a:lnTo>
                <a:lnTo>
                  <a:pt x="977" y="459"/>
                </a:lnTo>
                <a:lnTo>
                  <a:pt x="988" y="495"/>
                </a:lnTo>
                <a:lnTo>
                  <a:pt x="989" y="497"/>
                </a:lnTo>
                <a:lnTo>
                  <a:pt x="988" y="499"/>
                </a:lnTo>
                <a:lnTo>
                  <a:pt x="983" y="511"/>
                </a:lnTo>
                <a:lnTo>
                  <a:pt x="969" y="550"/>
                </a:lnTo>
                <a:lnTo>
                  <a:pt x="959" y="581"/>
                </a:lnTo>
                <a:lnTo>
                  <a:pt x="959" y="582"/>
                </a:lnTo>
                <a:lnTo>
                  <a:pt x="956" y="582"/>
                </a:lnTo>
                <a:lnTo>
                  <a:pt x="943" y="582"/>
                </a:lnTo>
                <a:lnTo>
                  <a:pt x="895" y="582"/>
                </a:lnTo>
                <a:lnTo>
                  <a:pt x="859" y="582"/>
                </a:lnTo>
                <a:lnTo>
                  <a:pt x="857" y="582"/>
                </a:lnTo>
                <a:lnTo>
                  <a:pt x="856" y="583"/>
                </a:lnTo>
                <a:lnTo>
                  <a:pt x="851" y="588"/>
                </a:lnTo>
                <a:lnTo>
                  <a:pt x="838" y="601"/>
                </a:lnTo>
                <a:lnTo>
                  <a:pt x="828" y="611"/>
                </a:lnTo>
                <a:lnTo>
                  <a:pt x="828" y="611"/>
                </a:lnTo>
                <a:lnTo>
                  <a:pt x="825" y="611"/>
                </a:lnTo>
                <a:lnTo>
                  <a:pt x="805" y="602"/>
                </a:lnTo>
                <a:lnTo>
                  <a:pt x="737" y="576"/>
                </a:lnTo>
                <a:lnTo>
                  <a:pt x="685" y="556"/>
                </a:lnTo>
                <a:lnTo>
                  <a:pt x="683" y="554"/>
                </a:lnTo>
                <a:lnTo>
                  <a:pt x="682" y="556"/>
                </a:lnTo>
                <a:lnTo>
                  <a:pt x="678" y="559"/>
                </a:lnTo>
                <a:lnTo>
                  <a:pt x="665" y="572"/>
                </a:lnTo>
                <a:lnTo>
                  <a:pt x="654" y="582"/>
                </a:lnTo>
                <a:lnTo>
                  <a:pt x="654" y="582"/>
                </a:lnTo>
                <a:lnTo>
                  <a:pt x="656" y="585"/>
                </a:lnTo>
                <a:lnTo>
                  <a:pt x="672" y="601"/>
                </a:lnTo>
                <a:lnTo>
                  <a:pt x="725" y="654"/>
                </a:lnTo>
                <a:lnTo>
                  <a:pt x="766" y="696"/>
                </a:lnTo>
                <a:lnTo>
                  <a:pt x="769" y="698"/>
                </a:lnTo>
                <a:lnTo>
                  <a:pt x="766" y="701"/>
                </a:lnTo>
                <a:lnTo>
                  <a:pt x="750" y="717"/>
                </a:lnTo>
                <a:lnTo>
                  <a:pt x="696" y="773"/>
                </a:lnTo>
                <a:lnTo>
                  <a:pt x="656" y="815"/>
                </a:lnTo>
                <a:lnTo>
                  <a:pt x="654" y="817"/>
                </a:lnTo>
                <a:lnTo>
                  <a:pt x="652" y="817"/>
                </a:lnTo>
                <a:lnTo>
                  <a:pt x="636" y="817"/>
                </a:lnTo>
                <a:lnTo>
                  <a:pt x="579" y="817"/>
                </a:lnTo>
                <a:lnTo>
                  <a:pt x="536" y="817"/>
                </a:lnTo>
                <a:lnTo>
                  <a:pt x="534" y="815"/>
                </a:lnTo>
                <a:lnTo>
                  <a:pt x="530" y="810"/>
                </a:lnTo>
                <a:lnTo>
                  <a:pt x="518" y="789"/>
                </a:lnTo>
                <a:lnTo>
                  <a:pt x="510" y="775"/>
                </a:lnTo>
                <a:lnTo>
                  <a:pt x="510" y="773"/>
                </a:lnTo>
                <a:lnTo>
                  <a:pt x="510" y="768"/>
                </a:lnTo>
                <a:lnTo>
                  <a:pt x="508" y="747"/>
                </a:lnTo>
                <a:lnTo>
                  <a:pt x="508" y="733"/>
                </a:lnTo>
                <a:lnTo>
                  <a:pt x="510" y="731"/>
                </a:lnTo>
                <a:lnTo>
                  <a:pt x="508" y="730"/>
                </a:lnTo>
                <a:lnTo>
                  <a:pt x="499" y="718"/>
                </a:lnTo>
                <a:lnTo>
                  <a:pt x="472" y="676"/>
                </a:lnTo>
                <a:lnTo>
                  <a:pt x="450" y="644"/>
                </a:lnTo>
                <a:lnTo>
                  <a:pt x="450" y="641"/>
                </a:lnTo>
                <a:lnTo>
                  <a:pt x="450" y="640"/>
                </a:lnTo>
                <a:lnTo>
                  <a:pt x="452" y="631"/>
                </a:lnTo>
                <a:lnTo>
                  <a:pt x="456" y="597"/>
                </a:lnTo>
                <a:lnTo>
                  <a:pt x="460" y="570"/>
                </a:lnTo>
                <a:lnTo>
                  <a:pt x="462" y="568"/>
                </a:lnTo>
                <a:lnTo>
                  <a:pt x="457" y="565"/>
                </a:lnTo>
                <a:lnTo>
                  <a:pt x="446" y="552"/>
                </a:lnTo>
                <a:lnTo>
                  <a:pt x="437" y="541"/>
                </a:lnTo>
                <a:lnTo>
                  <a:pt x="437" y="540"/>
                </a:lnTo>
                <a:lnTo>
                  <a:pt x="437" y="539"/>
                </a:lnTo>
                <a:lnTo>
                  <a:pt x="439" y="523"/>
                </a:lnTo>
                <a:lnTo>
                  <a:pt x="444" y="468"/>
                </a:lnTo>
                <a:lnTo>
                  <a:pt x="449" y="426"/>
                </a:lnTo>
                <a:lnTo>
                  <a:pt x="450" y="423"/>
                </a:lnTo>
                <a:lnTo>
                  <a:pt x="447" y="424"/>
                </a:lnTo>
                <a:lnTo>
                  <a:pt x="427" y="426"/>
                </a:lnTo>
                <a:lnTo>
                  <a:pt x="357" y="433"/>
                </a:lnTo>
                <a:lnTo>
                  <a:pt x="305" y="439"/>
                </a:lnTo>
                <a:lnTo>
                  <a:pt x="304" y="439"/>
                </a:lnTo>
                <a:lnTo>
                  <a:pt x="299" y="437"/>
                </a:lnTo>
                <a:lnTo>
                  <a:pt x="269" y="426"/>
                </a:lnTo>
                <a:lnTo>
                  <a:pt x="166" y="384"/>
                </a:lnTo>
                <a:lnTo>
                  <a:pt x="88" y="353"/>
                </a:lnTo>
                <a:lnTo>
                  <a:pt x="85" y="350"/>
                </a:lnTo>
                <a:lnTo>
                  <a:pt x="84" y="349"/>
                </a:lnTo>
                <a:lnTo>
                  <a:pt x="78" y="337"/>
                </a:lnTo>
                <a:lnTo>
                  <a:pt x="57" y="295"/>
                </a:lnTo>
                <a:lnTo>
                  <a:pt x="42" y="265"/>
                </a:lnTo>
                <a:lnTo>
                  <a:pt x="42" y="262"/>
                </a:lnTo>
                <a:lnTo>
                  <a:pt x="34" y="265"/>
                </a:lnTo>
                <a:lnTo>
                  <a:pt x="14" y="273"/>
                </a:lnTo>
                <a:lnTo>
                  <a:pt x="0" y="279"/>
                </a:lnTo>
                <a:lnTo>
                  <a:pt x="0" y="279"/>
                </a:lnTo>
                <a:lnTo>
                  <a:pt x="0" y="278"/>
                </a:lnTo>
                <a:lnTo>
                  <a:pt x="5" y="263"/>
                </a:lnTo>
                <a:lnTo>
                  <a:pt x="26" y="215"/>
                </a:lnTo>
                <a:lnTo>
                  <a:pt x="40" y="178"/>
                </a:lnTo>
                <a:lnTo>
                  <a:pt x="42" y="175"/>
                </a:lnTo>
                <a:lnTo>
                  <a:pt x="36" y="165"/>
                </a:lnTo>
                <a:lnTo>
                  <a:pt x="23" y="130"/>
                </a:lnTo>
                <a:lnTo>
                  <a:pt x="13" y="104"/>
                </a:lnTo>
                <a:lnTo>
                  <a:pt x="13" y="101"/>
                </a:lnTo>
                <a:lnTo>
                  <a:pt x="18" y="98"/>
                </a:lnTo>
                <a:lnTo>
                  <a:pt x="39" y="88"/>
                </a:lnTo>
                <a:lnTo>
                  <a:pt x="55" y="79"/>
                </a:lnTo>
                <a:lnTo>
                  <a:pt x="56" y="78"/>
                </a:lnTo>
                <a:lnTo>
                  <a:pt x="55" y="78"/>
                </a:lnTo>
                <a:lnTo>
                  <a:pt x="56" y="78"/>
                </a:lnTo>
                <a:lnTo>
                  <a:pt x="55" y="78"/>
                </a:lnTo>
                <a:lnTo>
                  <a:pt x="56" y="78"/>
                </a:lnTo>
                <a:lnTo>
                  <a:pt x="56" y="81"/>
                </a:lnTo>
                <a:lnTo>
                  <a:pt x="60" y="91"/>
                </a:lnTo>
                <a:lnTo>
                  <a:pt x="73" y="130"/>
                </a:lnTo>
                <a:lnTo>
                  <a:pt x="84" y="159"/>
                </a:lnTo>
                <a:lnTo>
                  <a:pt x="85" y="160"/>
                </a:lnTo>
                <a:lnTo>
                  <a:pt x="85" y="16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099200" y="3940200"/>
            <a:ext cx="351000" cy="444600"/>
          </a:xfrm>
          <a:custGeom>
            <a:avLst/>
            <a:gdLst/>
            <a:ahLst/>
            <a:rect l="l" t="t" r="r" b="b"/>
            <a:pathLst>
              <a:path w="1020" h="1356">
                <a:moveTo>
                  <a:pt x="0" y="384"/>
                </a:moveTo>
                <a:lnTo>
                  <a:pt x="0" y="387"/>
                </a:lnTo>
                <a:lnTo>
                  <a:pt x="3" y="404"/>
                </a:lnTo>
                <a:lnTo>
                  <a:pt x="16" y="462"/>
                </a:lnTo>
                <a:lnTo>
                  <a:pt x="26" y="507"/>
                </a:lnTo>
                <a:lnTo>
                  <a:pt x="28" y="508"/>
                </a:lnTo>
                <a:lnTo>
                  <a:pt x="29" y="510"/>
                </a:lnTo>
                <a:lnTo>
                  <a:pt x="44" y="518"/>
                </a:lnTo>
                <a:lnTo>
                  <a:pt x="91" y="546"/>
                </a:lnTo>
                <a:lnTo>
                  <a:pt x="128" y="568"/>
                </a:lnTo>
                <a:lnTo>
                  <a:pt x="131" y="568"/>
                </a:lnTo>
                <a:lnTo>
                  <a:pt x="131" y="571"/>
                </a:lnTo>
                <a:lnTo>
                  <a:pt x="135" y="582"/>
                </a:lnTo>
                <a:lnTo>
                  <a:pt x="149" y="623"/>
                </a:lnTo>
                <a:lnTo>
                  <a:pt x="159" y="653"/>
                </a:lnTo>
                <a:lnTo>
                  <a:pt x="161" y="655"/>
                </a:lnTo>
                <a:lnTo>
                  <a:pt x="170" y="658"/>
                </a:lnTo>
                <a:lnTo>
                  <a:pt x="196" y="665"/>
                </a:lnTo>
                <a:lnTo>
                  <a:pt x="217" y="669"/>
                </a:lnTo>
                <a:lnTo>
                  <a:pt x="219" y="669"/>
                </a:lnTo>
                <a:lnTo>
                  <a:pt x="219" y="674"/>
                </a:lnTo>
                <a:lnTo>
                  <a:pt x="225" y="695"/>
                </a:lnTo>
                <a:lnTo>
                  <a:pt x="245" y="771"/>
                </a:lnTo>
                <a:lnTo>
                  <a:pt x="259" y="827"/>
                </a:lnTo>
                <a:lnTo>
                  <a:pt x="261" y="830"/>
                </a:lnTo>
                <a:lnTo>
                  <a:pt x="264" y="833"/>
                </a:lnTo>
                <a:lnTo>
                  <a:pt x="284" y="850"/>
                </a:lnTo>
                <a:lnTo>
                  <a:pt x="354" y="908"/>
                </a:lnTo>
                <a:lnTo>
                  <a:pt x="406" y="952"/>
                </a:lnTo>
                <a:lnTo>
                  <a:pt x="410" y="953"/>
                </a:lnTo>
                <a:lnTo>
                  <a:pt x="410" y="956"/>
                </a:lnTo>
                <a:lnTo>
                  <a:pt x="412" y="971"/>
                </a:lnTo>
                <a:lnTo>
                  <a:pt x="419" y="1020"/>
                </a:lnTo>
                <a:lnTo>
                  <a:pt x="425" y="1057"/>
                </a:lnTo>
                <a:lnTo>
                  <a:pt x="426" y="1059"/>
                </a:lnTo>
                <a:lnTo>
                  <a:pt x="429" y="1063"/>
                </a:lnTo>
                <a:lnTo>
                  <a:pt x="452" y="1084"/>
                </a:lnTo>
                <a:lnTo>
                  <a:pt x="535" y="1156"/>
                </a:lnTo>
                <a:lnTo>
                  <a:pt x="597" y="1210"/>
                </a:lnTo>
                <a:lnTo>
                  <a:pt x="601" y="1213"/>
                </a:lnTo>
                <a:lnTo>
                  <a:pt x="604" y="1214"/>
                </a:lnTo>
                <a:lnTo>
                  <a:pt x="635" y="1220"/>
                </a:lnTo>
                <a:lnTo>
                  <a:pt x="735" y="1239"/>
                </a:lnTo>
                <a:lnTo>
                  <a:pt x="811" y="1253"/>
                </a:lnTo>
                <a:lnTo>
                  <a:pt x="816" y="1253"/>
                </a:lnTo>
                <a:lnTo>
                  <a:pt x="826" y="1271"/>
                </a:lnTo>
                <a:lnTo>
                  <a:pt x="858" y="1318"/>
                </a:lnTo>
                <a:lnTo>
                  <a:pt x="882" y="1355"/>
                </a:lnTo>
                <a:lnTo>
                  <a:pt x="884" y="1356"/>
                </a:lnTo>
                <a:lnTo>
                  <a:pt x="885" y="1355"/>
                </a:lnTo>
                <a:lnTo>
                  <a:pt x="900" y="1334"/>
                </a:lnTo>
                <a:lnTo>
                  <a:pt x="951" y="1265"/>
                </a:lnTo>
                <a:lnTo>
                  <a:pt x="988" y="1213"/>
                </a:lnTo>
                <a:lnTo>
                  <a:pt x="991" y="1210"/>
                </a:lnTo>
                <a:lnTo>
                  <a:pt x="988" y="1197"/>
                </a:lnTo>
                <a:lnTo>
                  <a:pt x="982" y="1155"/>
                </a:lnTo>
                <a:lnTo>
                  <a:pt x="978" y="1124"/>
                </a:lnTo>
                <a:lnTo>
                  <a:pt x="978" y="1121"/>
                </a:lnTo>
                <a:lnTo>
                  <a:pt x="978" y="1120"/>
                </a:lnTo>
                <a:lnTo>
                  <a:pt x="984" y="1101"/>
                </a:lnTo>
                <a:lnTo>
                  <a:pt x="1004" y="1040"/>
                </a:lnTo>
                <a:lnTo>
                  <a:pt x="1019" y="992"/>
                </a:lnTo>
                <a:lnTo>
                  <a:pt x="1020" y="989"/>
                </a:lnTo>
                <a:lnTo>
                  <a:pt x="1017" y="986"/>
                </a:lnTo>
                <a:lnTo>
                  <a:pt x="1004" y="965"/>
                </a:lnTo>
                <a:lnTo>
                  <a:pt x="956" y="891"/>
                </a:lnTo>
                <a:lnTo>
                  <a:pt x="920" y="834"/>
                </a:lnTo>
                <a:lnTo>
                  <a:pt x="919" y="830"/>
                </a:lnTo>
                <a:lnTo>
                  <a:pt x="916" y="830"/>
                </a:lnTo>
                <a:lnTo>
                  <a:pt x="907" y="827"/>
                </a:lnTo>
                <a:lnTo>
                  <a:pt x="872" y="814"/>
                </a:lnTo>
                <a:lnTo>
                  <a:pt x="846" y="804"/>
                </a:lnTo>
                <a:lnTo>
                  <a:pt x="845" y="802"/>
                </a:lnTo>
                <a:lnTo>
                  <a:pt x="845" y="792"/>
                </a:lnTo>
                <a:lnTo>
                  <a:pt x="843" y="758"/>
                </a:lnTo>
                <a:lnTo>
                  <a:pt x="843" y="731"/>
                </a:lnTo>
                <a:lnTo>
                  <a:pt x="845" y="729"/>
                </a:lnTo>
                <a:lnTo>
                  <a:pt x="838" y="724"/>
                </a:lnTo>
                <a:lnTo>
                  <a:pt x="817" y="710"/>
                </a:lnTo>
                <a:lnTo>
                  <a:pt x="803" y="700"/>
                </a:lnTo>
                <a:lnTo>
                  <a:pt x="803" y="698"/>
                </a:lnTo>
                <a:lnTo>
                  <a:pt x="800" y="700"/>
                </a:lnTo>
                <a:lnTo>
                  <a:pt x="791" y="705"/>
                </a:lnTo>
                <a:lnTo>
                  <a:pt x="756" y="727"/>
                </a:lnTo>
                <a:lnTo>
                  <a:pt x="730" y="743"/>
                </a:lnTo>
                <a:lnTo>
                  <a:pt x="729" y="743"/>
                </a:lnTo>
                <a:lnTo>
                  <a:pt x="719" y="734"/>
                </a:lnTo>
                <a:lnTo>
                  <a:pt x="691" y="708"/>
                </a:lnTo>
                <a:lnTo>
                  <a:pt x="669" y="687"/>
                </a:lnTo>
                <a:lnTo>
                  <a:pt x="669" y="685"/>
                </a:lnTo>
                <a:lnTo>
                  <a:pt x="668" y="687"/>
                </a:lnTo>
                <a:lnTo>
                  <a:pt x="659" y="695"/>
                </a:lnTo>
                <a:lnTo>
                  <a:pt x="633" y="721"/>
                </a:lnTo>
                <a:lnTo>
                  <a:pt x="612" y="743"/>
                </a:lnTo>
                <a:lnTo>
                  <a:pt x="612" y="743"/>
                </a:lnTo>
                <a:lnTo>
                  <a:pt x="604" y="726"/>
                </a:lnTo>
                <a:lnTo>
                  <a:pt x="584" y="671"/>
                </a:lnTo>
                <a:lnTo>
                  <a:pt x="568" y="629"/>
                </a:lnTo>
                <a:lnTo>
                  <a:pt x="568" y="626"/>
                </a:lnTo>
                <a:lnTo>
                  <a:pt x="568" y="624"/>
                </a:lnTo>
                <a:lnTo>
                  <a:pt x="574" y="608"/>
                </a:lnTo>
                <a:lnTo>
                  <a:pt x="594" y="553"/>
                </a:lnTo>
                <a:lnTo>
                  <a:pt x="610" y="511"/>
                </a:lnTo>
                <a:lnTo>
                  <a:pt x="612" y="508"/>
                </a:lnTo>
                <a:lnTo>
                  <a:pt x="612" y="500"/>
                </a:lnTo>
                <a:lnTo>
                  <a:pt x="610" y="474"/>
                </a:lnTo>
                <a:lnTo>
                  <a:pt x="610" y="452"/>
                </a:lnTo>
                <a:lnTo>
                  <a:pt x="612" y="450"/>
                </a:lnTo>
                <a:lnTo>
                  <a:pt x="614" y="447"/>
                </a:lnTo>
                <a:lnTo>
                  <a:pt x="643" y="426"/>
                </a:lnTo>
                <a:lnTo>
                  <a:pt x="738" y="353"/>
                </a:lnTo>
                <a:lnTo>
                  <a:pt x="811" y="297"/>
                </a:lnTo>
                <a:lnTo>
                  <a:pt x="816" y="292"/>
                </a:lnTo>
                <a:lnTo>
                  <a:pt x="814" y="292"/>
                </a:lnTo>
                <a:lnTo>
                  <a:pt x="810" y="292"/>
                </a:lnTo>
                <a:lnTo>
                  <a:pt x="797" y="292"/>
                </a:lnTo>
                <a:lnTo>
                  <a:pt x="787" y="292"/>
                </a:lnTo>
                <a:lnTo>
                  <a:pt x="787" y="292"/>
                </a:lnTo>
                <a:lnTo>
                  <a:pt x="787" y="272"/>
                </a:lnTo>
                <a:lnTo>
                  <a:pt x="785" y="210"/>
                </a:lnTo>
                <a:lnTo>
                  <a:pt x="785" y="162"/>
                </a:lnTo>
                <a:lnTo>
                  <a:pt x="787" y="159"/>
                </a:lnTo>
                <a:lnTo>
                  <a:pt x="784" y="159"/>
                </a:lnTo>
                <a:lnTo>
                  <a:pt x="771" y="155"/>
                </a:lnTo>
                <a:lnTo>
                  <a:pt x="725" y="142"/>
                </a:lnTo>
                <a:lnTo>
                  <a:pt x="690" y="132"/>
                </a:lnTo>
                <a:lnTo>
                  <a:pt x="688" y="130"/>
                </a:lnTo>
                <a:lnTo>
                  <a:pt x="684" y="130"/>
                </a:lnTo>
                <a:lnTo>
                  <a:pt x="664" y="130"/>
                </a:lnTo>
                <a:lnTo>
                  <a:pt x="594" y="130"/>
                </a:lnTo>
                <a:lnTo>
                  <a:pt x="542" y="130"/>
                </a:lnTo>
                <a:lnTo>
                  <a:pt x="539" y="130"/>
                </a:lnTo>
                <a:lnTo>
                  <a:pt x="523" y="110"/>
                </a:lnTo>
                <a:lnTo>
                  <a:pt x="475" y="49"/>
                </a:lnTo>
                <a:lnTo>
                  <a:pt x="439" y="3"/>
                </a:lnTo>
                <a:lnTo>
                  <a:pt x="438" y="0"/>
                </a:lnTo>
                <a:lnTo>
                  <a:pt x="436" y="0"/>
                </a:lnTo>
                <a:lnTo>
                  <a:pt x="430" y="0"/>
                </a:lnTo>
                <a:lnTo>
                  <a:pt x="409" y="0"/>
                </a:lnTo>
                <a:lnTo>
                  <a:pt x="393" y="0"/>
                </a:lnTo>
                <a:lnTo>
                  <a:pt x="393" y="0"/>
                </a:lnTo>
                <a:lnTo>
                  <a:pt x="391" y="4"/>
                </a:lnTo>
                <a:lnTo>
                  <a:pt x="387" y="26"/>
                </a:lnTo>
                <a:lnTo>
                  <a:pt x="374" y="100"/>
                </a:lnTo>
                <a:lnTo>
                  <a:pt x="364" y="156"/>
                </a:lnTo>
                <a:lnTo>
                  <a:pt x="364" y="159"/>
                </a:lnTo>
                <a:lnTo>
                  <a:pt x="361" y="161"/>
                </a:lnTo>
                <a:lnTo>
                  <a:pt x="349" y="166"/>
                </a:lnTo>
                <a:lnTo>
                  <a:pt x="307" y="188"/>
                </a:lnTo>
                <a:lnTo>
                  <a:pt x="277" y="204"/>
                </a:lnTo>
                <a:lnTo>
                  <a:pt x="275" y="204"/>
                </a:lnTo>
                <a:lnTo>
                  <a:pt x="275" y="216"/>
                </a:lnTo>
                <a:lnTo>
                  <a:pt x="274" y="246"/>
                </a:lnTo>
                <a:lnTo>
                  <a:pt x="274" y="269"/>
                </a:lnTo>
                <a:lnTo>
                  <a:pt x="275" y="269"/>
                </a:lnTo>
                <a:lnTo>
                  <a:pt x="272" y="272"/>
                </a:lnTo>
                <a:lnTo>
                  <a:pt x="257" y="287"/>
                </a:lnTo>
                <a:lnTo>
                  <a:pt x="202" y="339"/>
                </a:lnTo>
                <a:lnTo>
                  <a:pt x="159" y="378"/>
                </a:lnTo>
                <a:lnTo>
                  <a:pt x="158" y="379"/>
                </a:lnTo>
                <a:lnTo>
                  <a:pt x="157" y="378"/>
                </a:lnTo>
                <a:lnTo>
                  <a:pt x="146" y="369"/>
                </a:lnTo>
                <a:lnTo>
                  <a:pt x="113" y="334"/>
                </a:lnTo>
                <a:lnTo>
                  <a:pt x="87" y="308"/>
                </a:lnTo>
                <a:lnTo>
                  <a:pt x="87" y="305"/>
                </a:lnTo>
                <a:lnTo>
                  <a:pt x="86" y="305"/>
                </a:lnTo>
                <a:lnTo>
                  <a:pt x="87" y="305"/>
                </a:lnTo>
                <a:lnTo>
                  <a:pt x="86" y="305"/>
                </a:lnTo>
                <a:lnTo>
                  <a:pt x="87" y="305"/>
                </a:lnTo>
                <a:lnTo>
                  <a:pt x="84" y="308"/>
                </a:lnTo>
                <a:lnTo>
                  <a:pt x="73" y="319"/>
                </a:lnTo>
                <a:lnTo>
                  <a:pt x="32" y="355"/>
                </a:lnTo>
                <a:lnTo>
                  <a:pt x="2" y="382"/>
                </a:lnTo>
                <a:lnTo>
                  <a:pt x="0" y="384"/>
                </a:lnTo>
                <a:lnTo>
                  <a:pt x="0" y="384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02680" y="4359240"/>
            <a:ext cx="144360" cy="863640"/>
          </a:xfrm>
          <a:custGeom>
            <a:avLst/>
            <a:gdLst/>
            <a:ahLst/>
            <a:rect l="l" t="t" r="r" b="b"/>
            <a:pathLst>
              <a:path w="421" h="2640">
                <a:moveTo>
                  <a:pt x="50" y="149"/>
                </a:moveTo>
                <a:lnTo>
                  <a:pt x="50" y="160"/>
                </a:lnTo>
                <a:lnTo>
                  <a:pt x="51" y="225"/>
                </a:lnTo>
                <a:lnTo>
                  <a:pt x="58" y="448"/>
                </a:lnTo>
                <a:lnTo>
                  <a:pt x="63" y="617"/>
                </a:lnTo>
                <a:lnTo>
                  <a:pt x="64" y="626"/>
                </a:lnTo>
                <a:lnTo>
                  <a:pt x="70" y="632"/>
                </a:lnTo>
                <a:lnTo>
                  <a:pt x="92" y="646"/>
                </a:lnTo>
                <a:lnTo>
                  <a:pt x="108" y="657"/>
                </a:lnTo>
                <a:lnTo>
                  <a:pt x="109" y="657"/>
                </a:lnTo>
                <a:lnTo>
                  <a:pt x="108" y="658"/>
                </a:lnTo>
                <a:lnTo>
                  <a:pt x="99" y="668"/>
                </a:lnTo>
                <a:lnTo>
                  <a:pt x="71" y="703"/>
                </a:lnTo>
                <a:lnTo>
                  <a:pt x="50" y="729"/>
                </a:lnTo>
                <a:lnTo>
                  <a:pt x="50" y="729"/>
                </a:lnTo>
                <a:lnTo>
                  <a:pt x="48" y="733"/>
                </a:lnTo>
                <a:lnTo>
                  <a:pt x="47" y="762"/>
                </a:lnTo>
                <a:lnTo>
                  <a:pt x="41" y="857"/>
                </a:lnTo>
                <a:lnTo>
                  <a:pt x="37" y="930"/>
                </a:lnTo>
                <a:lnTo>
                  <a:pt x="37" y="933"/>
                </a:lnTo>
                <a:lnTo>
                  <a:pt x="45" y="951"/>
                </a:lnTo>
                <a:lnTo>
                  <a:pt x="73" y="999"/>
                </a:lnTo>
                <a:lnTo>
                  <a:pt x="95" y="1035"/>
                </a:lnTo>
                <a:lnTo>
                  <a:pt x="96" y="1036"/>
                </a:lnTo>
                <a:lnTo>
                  <a:pt x="95" y="1043"/>
                </a:lnTo>
                <a:lnTo>
                  <a:pt x="90" y="1087"/>
                </a:lnTo>
                <a:lnTo>
                  <a:pt x="76" y="1236"/>
                </a:lnTo>
                <a:lnTo>
                  <a:pt x="64" y="1351"/>
                </a:lnTo>
                <a:lnTo>
                  <a:pt x="64" y="1356"/>
                </a:lnTo>
                <a:lnTo>
                  <a:pt x="63" y="1359"/>
                </a:lnTo>
                <a:lnTo>
                  <a:pt x="57" y="1378"/>
                </a:lnTo>
                <a:lnTo>
                  <a:pt x="37" y="1439"/>
                </a:lnTo>
                <a:lnTo>
                  <a:pt x="21" y="1487"/>
                </a:lnTo>
                <a:lnTo>
                  <a:pt x="21" y="1488"/>
                </a:lnTo>
                <a:lnTo>
                  <a:pt x="27" y="1504"/>
                </a:lnTo>
                <a:lnTo>
                  <a:pt x="47" y="1552"/>
                </a:lnTo>
                <a:lnTo>
                  <a:pt x="63" y="1587"/>
                </a:lnTo>
                <a:lnTo>
                  <a:pt x="64" y="1588"/>
                </a:lnTo>
                <a:lnTo>
                  <a:pt x="64" y="1591"/>
                </a:lnTo>
                <a:lnTo>
                  <a:pt x="66" y="1611"/>
                </a:lnTo>
                <a:lnTo>
                  <a:pt x="74" y="1680"/>
                </a:lnTo>
                <a:lnTo>
                  <a:pt x="80" y="1732"/>
                </a:lnTo>
                <a:lnTo>
                  <a:pt x="82" y="1733"/>
                </a:lnTo>
                <a:lnTo>
                  <a:pt x="90" y="1746"/>
                </a:lnTo>
                <a:lnTo>
                  <a:pt x="116" y="1785"/>
                </a:lnTo>
                <a:lnTo>
                  <a:pt x="137" y="1814"/>
                </a:lnTo>
                <a:lnTo>
                  <a:pt x="138" y="1816"/>
                </a:lnTo>
                <a:lnTo>
                  <a:pt x="138" y="1817"/>
                </a:lnTo>
                <a:lnTo>
                  <a:pt x="140" y="1824"/>
                </a:lnTo>
                <a:lnTo>
                  <a:pt x="148" y="1848"/>
                </a:lnTo>
                <a:lnTo>
                  <a:pt x="154" y="1865"/>
                </a:lnTo>
                <a:lnTo>
                  <a:pt x="155" y="1865"/>
                </a:lnTo>
                <a:lnTo>
                  <a:pt x="154" y="1867"/>
                </a:lnTo>
                <a:lnTo>
                  <a:pt x="148" y="1874"/>
                </a:lnTo>
                <a:lnTo>
                  <a:pt x="131" y="1900"/>
                </a:lnTo>
                <a:lnTo>
                  <a:pt x="116" y="1919"/>
                </a:lnTo>
                <a:lnTo>
                  <a:pt x="116" y="1919"/>
                </a:lnTo>
                <a:lnTo>
                  <a:pt x="124" y="1935"/>
                </a:lnTo>
                <a:lnTo>
                  <a:pt x="148" y="1978"/>
                </a:lnTo>
                <a:lnTo>
                  <a:pt x="167" y="2011"/>
                </a:lnTo>
                <a:lnTo>
                  <a:pt x="169" y="2013"/>
                </a:lnTo>
                <a:lnTo>
                  <a:pt x="166" y="2023"/>
                </a:lnTo>
                <a:lnTo>
                  <a:pt x="158" y="2051"/>
                </a:lnTo>
                <a:lnTo>
                  <a:pt x="153" y="2072"/>
                </a:lnTo>
                <a:lnTo>
                  <a:pt x="153" y="2072"/>
                </a:lnTo>
                <a:lnTo>
                  <a:pt x="150" y="2074"/>
                </a:lnTo>
                <a:lnTo>
                  <a:pt x="135" y="2081"/>
                </a:lnTo>
                <a:lnTo>
                  <a:pt x="87" y="2107"/>
                </a:lnTo>
                <a:lnTo>
                  <a:pt x="51" y="2126"/>
                </a:lnTo>
                <a:lnTo>
                  <a:pt x="50" y="2126"/>
                </a:lnTo>
                <a:lnTo>
                  <a:pt x="50" y="2132"/>
                </a:lnTo>
                <a:lnTo>
                  <a:pt x="48" y="2146"/>
                </a:lnTo>
                <a:lnTo>
                  <a:pt x="48" y="2158"/>
                </a:lnTo>
                <a:lnTo>
                  <a:pt x="50" y="2158"/>
                </a:lnTo>
                <a:lnTo>
                  <a:pt x="58" y="2161"/>
                </a:lnTo>
                <a:lnTo>
                  <a:pt x="86" y="2168"/>
                </a:lnTo>
                <a:lnTo>
                  <a:pt x="108" y="2174"/>
                </a:lnTo>
                <a:lnTo>
                  <a:pt x="109" y="2174"/>
                </a:lnTo>
                <a:lnTo>
                  <a:pt x="109" y="2184"/>
                </a:lnTo>
                <a:lnTo>
                  <a:pt x="108" y="2210"/>
                </a:lnTo>
                <a:lnTo>
                  <a:pt x="108" y="2230"/>
                </a:lnTo>
                <a:lnTo>
                  <a:pt x="109" y="2230"/>
                </a:lnTo>
                <a:lnTo>
                  <a:pt x="115" y="2233"/>
                </a:lnTo>
                <a:lnTo>
                  <a:pt x="137" y="2242"/>
                </a:lnTo>
                <a:lnTo>
                  <a:pt x="153" y="2248"/>
                </a:lnTo>
                <a:lnTo>
                  <a:pt x="154" y="2248"/>
                </a:lnTo>
                <a:lnTo>
                  <a:pt x="151" y="2258"/>
                </a:lnTo>
                <a:lnTo>
                  <a:pt x="144" y="2284"/>
                </a:lnTo>
                <a:lnTo>
                  <a:pt x="138" y="2304"/>
                </a:lnTo>
                <a:lnTo>
                  <a:pt x="138" y="2304"/>
                </a:lnTo>
                <a:lnTo>
                  <a:pt x="138" y="2323"/>
                </a:lnTo>
                <a:lnTo>
                  <a:pt x="137" y="2377"/>
                </a:lnTo>
                <a:lnTo>
                  <a:pt x="137" y="2419"/>
                </a:lnTo>
                <a:lnTo>
                  <a:pt x="138" y="2420"/>
                </a:lnTo>
                <a:lnTo>
                  <a:pt x="144" y="2435"/>
                </a:lnTo>
                <a:lnTo>
                  <a:pt x="164" y="2474"/>
                </a:lnTo>
                <a:lnTo>
                  <a:pt x="179" y="2504"/>
                </a:lnTo>
                <a:lnTo>
                  <a:pt x="180" y="2506"/>
                </a:lnTo>
                <a:lnTo>
                  <a:pt x="184" y="2510"/>
                </a:lnTo>
                <a:lnTo>
                  <a:pt x="199" y="2520"/>
                </a:lnTo>
                <a:lnTo>
                  <a:pt x="211" y="2529"/>
                </a:lnTo>
                <a:lnTo>
                  <a:pt x="212" y="2529"/>
                </a:lnTo>
                <a:lnTo>
                  <a:pt x="212" y="2532"/>
                </a:lnTo>
                <a:lnTo>
                  <a:pt x="216" y="2542"/>
                </a:lnTo>
                <a:lnTo>
                  <a:pt x="229" y="2579"/>
                </a:lnTo>
                <a:lnTo>
                  <a:pt x="240" y="2608"/>
                </a:lnTo>
                <a:lnTo>
                  <a:pt x="241" y="2610"/>
                </a:lnTo>
                <a:lnTo>
                  <a:pt x="244" y="2610"/>
                </a:lnTo>
                <a:lnTo>
                  <a:pt x="257" y="2610"/>
                </a:lnTo>
                <a:lnTo>
                  <a:pt x="267" y="2610"/>
                </a:lnTo>
                <a:lnTo>
                  <a:pt x="268" y="2610"/>
                </a:lnTo>
                <a:lnTo>
                  <a:pt x="271" y="2608"/>
                </a:lnTo>
                <a:lnTo>
                  <a:pt x="280" y="2600"/>
                </a:lnTo>
                <a:lnTo>
                  <a:pt x="287" y="2594"/>
                </a:lnTo>
                <a:lnTo>
                  <a:pt x="289" y="2592"/>
                </a:lnTo>
                <a:lnTo>
                  <a:pt x="289" y="2590"/>
                </a:lnTo>
                <a:lnTo>
                  <a:pt x="293" y="2578"/>
                </a:lnTo>
                <a:lnTo>
                  <a:pt x="296" y="2569"/>
                </a:lnTo>
                <a:lnTo>
                  <a:pt x="297" y="2568"/>
                </a:lnTo>
                <a:lnTo>
                  <a:pt x="299" y="2571"/>
                </a:lnTo>
                <a:lnTo>
                  <a:pt x="306" y="2577"/>
                </a:lnTo>
                <a:lnTo>
                  <a:pt x="311" y="2581"/>
                </a:lnTo>
                <a:lnTo>
                  <a:pt x="312" y="2581"/>
                </a:lnTo>
                <a:lnTo>
                  <a:pt x="309" y="2588"/>
                </a:lnTo>
                <a:lnTo>
                  <a:pt x="305" y="2610"/>
                </a:lnTo>
                <a:lnTo>
                  <a:pt x="300" y="2626"/>
                </a:lnTo>
                <a:lnTo>
                  <a:pt x="300" y="2626"/>
                </a:lnTo>
                <a:lnTo>
                  <a:pt x="306" y="2629"/>
                </a:lnTo>
                <a:lnTo>
                  <a:pt x="326" y="2636"/>
                </a:lnTo>
                <a:lnTo>
                  <a:pt x="341" y="2640"/>
                </a:lnTo>
                <a:lnTo>
                  <a:pt x="342" y="2640"/>
                </a:lnTo>
                <a:lnTo>
                  <a:pt x="351" y="2633"/>
                </a:lnTo>
                <a:lnTo>
                  <a:pt x="377" y="2613"/>
                </a:lnTo>
                <a:lnTo>
                  <a:pt x="399" y="2595"/>
                </a:lnTo>
                <a:lnTo>
                  <a:pt x="400" y="2594"/>
                </a:lnTo>
                <a:lnTo>
                  <a:pt x="403" y="2588"/>
                </a:lnTo>
                <a:lnTo>
                  <a:pt x="412" y="2568"/>
                </a:lnTo>
                <a:lnTo>
                  <a:pt x="419" y="2552"/>
                </a:lnTo>
                <a:lnTo>
                  <a:pt x="421" y="2550"/>
                </a:lnTo>
                <a:lnTo>
                  <a:pt x="419" y="2550"/>
                </a:lnTo>
                <a:lnTo>
                  <a:pt x="413" y="2550"/>
                </a:lnTo>
                <a:lnTo>
                  <a:pt x="392" y="2549"/>
                </a:lnTo>
                <a:lnTo>
                  <a:pt x="376" y="2549"/>
                </a:lnTo>
                <a:lnTo>
                  <a:pt x="376" y="2548"/>
                </a:lnTo>
                <a:lnTo>
                  <a:pt x="374" y="2549"/>
                </a:lnTo>
                <a:lnTo>
                  <a:pt x="373" y="2550"/>
                </a:lnTo>
                <a:lnTo>
                  <a:pt x="364" y="2559"/>
                </a:lnTo>
                <a:lnTo>
                  <a:pt x="358" y="2565"/>
                </a:lnTo>
                <a:lnTo>
                  <a:pt x="358" y="2565"/>
                </a:lnTo>
                <a:lnTo>
                  <a:pt x="357" y="2565"/>
                </a:lnTo>
                <a:lnTo>
                  <a:pt x="348" y="2562"/>
                </a:lnTo>
                <a:lnTo>
                  <a:pt x="321" y="2553"/>
                </a:lnTo>
                <a:lnTo>
                  <a:pt x="299" y="2546"/>
                </a:lnTo>
                <a:lnTo>
                  <a:pt x="299" y="2545"/>
                </a:lnTo>
                <a:lnTo>
                  <a:pt x="296" y="2540"/>
                </a:lnTo>
                <a:lnTo>
                  <a:pt x="289" y="2523"/>
                </a:lnTo>
                <a:lnTo>
                  <a:pt x="283" y="2510"/>
                </a:lnTo>
                <a:lnTo>
                  <a:pt x="283" y="2508"/>
                </a:lnTo>
                <a:lnTo>
                  <a:pt x="280" y="2508"/>
                </a:lnTo>
                <a:lnTo>
                  <a:pt x="271" y="2507"/>
                </a:lnTo>
                <a:lnTo>
                  <a:pt x="237" y="2501"/>
                </a:lnTo>
                <a:lnTo>
                  <a:pt x="211" y="2497"/>
                </a:lnTo>
                <a:lnTo>
                  <a:pt x="209" y="2495"/>
                </a:lnTo>
                <a:lnTo>
                  <a:pt x="206" y="2482"/>
                </a:lnTo>
                <a:lnTo>
                  <a:pt x="200" y="2440"/>
                </a:lnTo>
                <a:lnTo>
                  <a:pt x="196" y="2410"/>
                </a:lnTo>
                <a:lnTo>
                  <a:pt x="196" y="2407"/>
                </a:lnTo>
                <a:lnTo>
                  <a:pt x="202" y="2397"/>
                </a:lnTo>
                <a:lnTo>
                  <a:pt x="224" y="2362"/>
                </a:lnTo>
                <a:lnTo>
                  <a:pt x="240" y="2336"/>
                </a:lnTo>
                <a:lnTo>
                  <a:pt x="241" y="2335"/>
                </a:lnTo>
                <a:lnTo>
                  <a:pt x="241" y="2324"/>
                </a:lnTo>
                <a:lnTo>
                  <a:pt x="240" y="2290"/>
                </a:lnTo>
                <a:lnTo>
                  <a:pt x="240" y="2264"/>
                </a:lnTo>
                <a:lnTo>
                  <a:pt x="241" y="2261"/>
                </a:lnTo>
                <a:lnTo>
                  <a:pt x="234" y="2256"/>
                </a:lnTo>
                <a:lnTo>
                  <a:pt x="212" y="2242"/>
                </a:lnTo>
                <a:lnTo>
                  <a:pt x="196" y="2232"/>
                </a:lnTo>
                <a:lnTo>
                  <a:pt x="196" y="2230"/>
                </a:lnTo>
                <a:lnTo>
                  <a:pt x="196" y="2229"/>
                </a:lnTo>
                <a:lnTo>
                  <a:pt x="195" y="2222"/>
                </a:lnTo>
                <a:lnTo>
                  <a:pt x="195" y="2217"/>
                </a:lnTo>
                <a:lnTo>
                  <a:pt x="196" y="2216"/>
                </a:lnTo>
                <a:lnTo>
                  <a:pt x="200" y="2210"/>
                </a:lnTo>
                <a:lnTo>
                  <a:pt x="213" y="2190"/>
                </a:lnTo>
                <a:lnTo>
                  <a:pt x="224" y="2175"/>
                </a:lnTo>
                <a:lnTo>
                  <a:pt x="225" y="2174"/>
                </a:lnTo>
                <a:lnTo>
                  <a:pt x="225" y="2165"/>
                </a:lnTo>
                <a:lnTo>
                  <a:pt x="224" y="2137"/>
                </a:lnTo>
                <a:lnTo>
                  <a:pt x="224" y="2116"/>
                </a:lnTo>
                <a:lnTo>
                  <a:pt x="225" y="2114"/>
                </a:lnTo>
                <a:lnTo>
                  <a:pt x="226" y="2110"/>
                </a:lnTo>
                <a:lnTo>
                  <a:pt x="234" y="2097"/>
                </a:lnTo>
                <a:lnTo>
                  <a:pt x="240" y="2087"/>
                </a:lnTo>
                <a:lnTo>
                  <a:pt x="241" y="2085"/>
                </a:lnTo>
                <a:lnTo>
                  <a:pt x="242" y="2077"/>
                </a:lnTo>
                <a:lnTo>
                  <a:pt x="248" y="2051"/>
                </a:lnTo>
                <a:lnTo>
                  <a:pt x="253" y="2029"/>
                </a:lnTo>
                <a:lnTo>
                  <a:pt x="254" y="2027"/>
                </a:lnTo>
                <a:lnTo>
                  <a:pt x="251" y="2022"/>
                </a:lnTo>
                <a:lnTo>
                  <a:pt x="245" y="2001"/>
                </a:lnTo>
                <a:lnTo>
                  <a:pt x="241" y="1985"/>
                </a:lnTo>
                <a:lnTo>
                  <a:pt x="241" y="1984"/>
                </a:lnTo>
                <a:lnTo>
                  <a:pt x="240" y="1974"/>
                </a:lnTo>
                <a:lnTo>
                  <a:pt x="231" y="1900"/>
                </a:lnTo>
                <a:lnTo>
                  <a:pt x="202" y="1648"/>
                </a:lnTo>
                <a:lnTo>
                  <a:pt x="180" y="1456"/>
                </a:lnTo>
                <a:lnTo>
                  <a:pt x="180" y="1445"/>
                </a:lnTo>
                <a:lnTo>
                  <a:pt x="193" y="1439"/>
                </a:lnTo>
                <a:lnTo>
                  <a:pt x="235" y="1417"/>
                </a:lnTo>
                <a:lnTo>
                  <a:pt x="266" y="1401"/>
                </a:lnTo>
                <a:lnTo>
                  <a:pt x="268" y="1400"/>
                </a:lnTo>
                <a:lnTo>
                  <a:pt x="268" y="1394"/>
                </a:lnTo>
                <a:lnTo>
                  <a:pt x="267" y="1374"/>
                </a:lnTo>
                <a:lnTo>
                  <a:pt x="267" y="1358"/>
                </a:lnTo>
                <a:lnTo>
                  <a:pt x="268" y="1356"/>
                </a:lnTo>
                <a:lnTo>
                  <a:pt x="267" y="1356"/>
                </a:lnTo>
                <a:lnTo>
                  <a:pt x="258" y="1355"/>
                </a:lnTo>
                <a:lnTo>
                  <a:pt x="231" y="1348"/>
                </a:lnTo>
                <a:lnTo>
                  <a:pt x="209" y="1343"/>
                </a:lnTo>
                <a:lnTo>
                  <a:pt x="209" y="1342"/>
                </a:lnTo>
                <a:lnTo>
                  <a:pt x="209" y="1341"/>
                </a:lnTo>
                <a:lnTo>
                  <a:pt x="211" y="1320"/>
                </a:lnTo>
                <a:lnTo>
                  <a:pt x="218" y="1252"/>
                </a:lnTo>
                <a:lnTo>
                  <a:pt x="224" y="1200"/>
                </a:lnTo>
                <a:lnTo>
                  <a:pt x="225" y="1197"/>
                </a:lnTo>
                <a:lnTo>
                  <a:pt x="224" y="1194"/>
                </a:lnTo>
                <a:lnTo>
                  <a:pt x="213" y="1165"/>
                </a:lnTo>
                <a:lnTo>
                  <a:pt x="180" y="1070"/>
                </a:lnTo>
                <a:lnTo>
                  <a:pt x="154" y="996"/>
                </a:lnTo>
                <a:lnTo>
                  <a:pt x="154" y="991"/>
                </a:lnTo>
                <a:lnTo>
                  <a:pt x="155" y="986"/>
                </a:lnTo>
                <a:lnTo>
                  <a:pt x="167" y="942"/>
                </a:lnTo>
                <a:lnTo>
                  <a:pt x="208" y="793"/>
                </a:lnTo>
                <a:lnTo>
                  <a:pt x="238" y="678"/>
                </a:lnTo>
                <a:lnTo>
                  <a:pt x="241" y="671"/>
                </a:lnTo>
                <a:lnTo>
                  <a:pt x="238" y="654"/>
                </a:lnTo>
                <a:lnTo>
                  <a:pt x="231" y="599"/>
                </a:lnTo>
                <a:lnTo>
                  <a:pt x="225" y="557"/>
                </a:lnTo>
                <a:lnTo>
                  <a:pt x="225" y="554"/>
                </a:lnTo>
                <a:lnTo>
                  <a:pt x="229" y="545"/>
                </a:lnTo>
                <a:lnTo>
                  <a:pt x="242" y="519"/>
                </a:lnTo>
                <a:lnTo>
                  <a:pt x="253" y="497"/>
                </a:lnTo>
                <a:lnTo>
                  <a:pt x="254" y="496"/>
                </a:lnTo>
                <a:lnTo>
                  <a:pt x="260" y="499"/>
                </a:lnTo>
                <a:lnTo>
                  <a:pt x="282" y="506"/>
                </a:lnTo>
                <a:lnTo>
                  <a:pt x="297" y="510"/>
                </a:lnTo>
                <a:lnTo>
                  <a:pt x="299" y="510"/>
                </a:lnTo>
                <a:lnTo>
                  <a:pt x="300" y="507"/>
                </a:lnTo>
                <a:lnTo>
                  <a:pt x="308" y="494"/>
                </a:lnTo>
                <a:lnTo>
                  <a:pt x="312" y="484"/>
                </a:lnTo>
                <a:lnTo>
                  <a:pt x="313" y="483"/>
                </a:lnTo>
                <a:lnTo>
                  <a:pt x="311" y="473"/>
                </a:lnTo>
                <a:lnTo>
                  <a:pt x="303" y="438"/>
                </a:lnTo>
                <a:lnTo>
                  <a:pt x="299" y="412"/>
                </a:lnTo>
                <a:lnTo>
                  <a:pt x="299" y="409"/>
                </a:lnTo>
                <a:lnTo>
                  <a:pt x="289" y="403"/>
                </a:lnTo>
                <a:lnTo>
                  <a:pt x="263" y="383"/>
                </a:lnTo>
                <a:lnTo>
                  <a:pt x="241" y="367"/>
                </a:lnTo>
                <a:lnTo>
                  <a:pt x="241" y="365"/>
                </a:lnTo>
                <a:lnTo>
                  <a:pt x="238" y="360"/>
                </a:lnTo>
                <a:lnTo>
                  <a:pt x="222" y="309"/>
                </a:lnTo>
                <a:lnTo>
                  <a:pt x="166" y="139"/>
                </a:lnTo>
                <a:lnTo>
                  <a:pt x="124" y="9"/>
                </a:lnTo>
                <a:lnTo>
                  <a:pt x="122" y="2"/>
                </a:lnTo>
                <a:lnTo>
                  <a:pt x="121" y="2"/>
                </a:lnTo>
                <a:lnTo>
                  <a:pt x="112" y="2"/>
                </a:lnTo>
                <a:lnTo>
                  <a:pt x="83" y="2"/>
                </a:lnTo>
                <a:lnTo>
                  <a:pt x="60" y="2"/>
                </a:lnTo>
                <a:lnTo>
                  <a:pt x="60" y="0"/>
                </a:lnTo>
                <a:lnTo>
                  <a:pt x="58" y="3"/>
                </a:lnTo>
                <a:lnTo>
                  <a:pt x="50" y="13"/>
                </a:lnTo>
                <a:lnTo>
                  <a:pt x="24" y="48"/>
                </a:lnTo>
                <a:lnTo>
                  <a:pt x="2" y="74"/>
                </a:lnTo>
                <a:lnTo>
                  <a:pt x="2" y="76"/>
                </a:lnTo>
                <a:lnTo>
                  <a:pt x="0" y="76"/>
                </a:lnTo>
                <a:lnTo>
                  <a:pt x="2" y="76"/>
                </a:lnTo>
                <a:lnTo>
                  <a:pt x="0" y="76"/>
                </a:lnTo>
                <a:lnTo>
                  <a:pt x="2" y="76"/>
                </a:lnTo>
                <a:lnTo>
                  <a:pt x="9" y="87"/>
                </a:lnTo>
                <a:lnTo>
                  <a:pt x="31" y="122"/>
                </a:lnTo>
                <a:lnTo>
                  <a:pt x="48" y="148"/>
                </a:lnTo>
                <a:lnTo>
                  <a:pt x="50" y="149"/>
                </a:lnTo>
                <a:lnTo>
                  <a:pt x="50" y="149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13480" y="5024520"/>
            <a:ext cx="14400" cy="12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0" y="18"/>
                </a:moveTo>
                <a:lnTo>
                  <a:pt x="2" y="22"/>
                </a:lnTo>
                <a:lnTo>
                  <a:pt x="8" y="31"/>
                </a:lnTo>
                <a:lnTo>
                  <a:pt x="12" y="38"/>
                </a:lnTo>
                <a:lnTo>
                  <a:pt x="13" y="38"/>
                </a:lnTo>
                <a:lnTo>
                  <a:pt x="16" y="37"/>
                </a:lnTo>
                <a:lnTo>
                  <a:pt x="28" y="28"/>
                </a:lnTo>
                <a:lnTo>
                  <a:pt x="37" y="22"/>
                </a:lnTo>
                <a:lnTo>
                  <a:pt x="38" y="21"/>
                </a:lnTo>
                <a:lnTo>
                  <a:pt x="34" y="19"/>
                </a:lnTo>
                <a:lnTo>
                  <a:pt x="25" y="12"/>
                </a:lnTo>
                <a:lnTo>
                  <a:pt x="19" y="6"/>
                </a:lnTo>
                <a:lnTo>
                  <a:pt x="19" y="5"/>
                </a:lnTo>
                <a:lnTo>
                  <a:pt x="12" y="3"/>
                </a:lnTo>
                <a:lnTo>
                  <a:pt x="9" y="2"/>
                </a:lnTo>
                <a:lnTo>
                  <a:pt x="9" y="0"/>
                </a:lnTo>
                <a:lnTo>
                  <a:pt x="8" y="0"/>
                </a:lnTo>
                <a:lnTo>
                  <a:pt x="9" y="0"/>
                </a:lnTo>
                <a:lnTo>
                  <a:pt x="8" y="0"/>
                </a:lnTo>
                <a:lnTo>
                  <a:pt x="9" y="0"/>
                </a:lnTo>
                <a:lnTo>
                  <a:pt x="8" y="2"/>
                </a:lnTo>
                <a:lnTo>
                  <a:pt x="3" y="12"/>
                </a:lnTo>
                <a:lnTo>
                  <a:pt x="0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12040" y="4946760"/>
            <a:ext cx="17640" cy="39600"/>
          </a:xfrm>
          <a:custGeom>
            <a:avLst/>
            <a:gdLst/>
            <a:ahLst/>
            <a:rect l="l" t="t" r="r" b="b"/>
            <a:pathLst>
              <a:path w="53" h="118">
                <a:moveTo>
                  <a:pt x="0" y="22"/>
                </a:moveTo>
                <a:lnTo>
                  <a:pt x="0" y="23"/>
                </a:lnTo>
                <a:lnTo>
                  <a:pt x="2" y="28"/>
                </a:lnTo>
                <a:lnTo>
                  <a:pt x="6" y="45"/>
                </a:lnTo>
                <a:lnTo>
                  <a:pt x="11" y="58"/>
                </a:lnTo>
                <a:lnTo>
                  <a:pt x="12" y="58"/>
                </a:lnTo>
                <a:lnTo>
                  <a:pt x="12" y="66"/>
                </a:lnTo>
                <a:lnTo>
                  <a:pt x="11" y="87"/>
                </a:lnTo>
                <a:lnTo>
                  <a:pt x="11" y="103"/>
                </a:lnTo>
                <a:lnTo>
                  <a:pt x="12" y="103"/>
                </a:lnTo>
                <a:lnTo>
                  <a:pt x="16" y="106"/>
                </a:lnTo>
                <a:lnTo>
                  <a:pt x="29" y="113"/>
                </a:lnTo>
                <a:lnTo>
                  <a:pt x="40" y="118"/>
                </a:lnTo>
                <a:lnTo>
                  <a:pt x="41" y="118"/>
                </a:lnTo>
                <a:lnTo>
                  <a:pt x="42" y="116"/>
                </a:lnTo>
                <a:lnTo>
                  <a:pt x="47" y="109"/>
                </a:lnTo>
                <a:lnTo>
                  <a:pt x="51" y="105"/>
                </a:lnTo>
                <a:lnTo>
                  <a:pt x="53" y="103"/>
                </a:lnTo>
                <a:lnTo>
                  <a:pt x="50" y="99"/>
                </a:lnTo>
                <a:lnTo>
                  <a:pt x="45" y="83"/>
                </a:lnTo>
                <a:lnTo>
                  <a:pt x="41" y="70"/>
                </a:lnTo>
                <a:lnTo>
                  <a:pt x="41" y="68"/>
                </a:lnTo>
                <a:lnTo>
                  <a:pt x="41" y="61"/>
                </a:lnTo>
                <a:lnTo>
                  <a:pt x="42" y="41"/>
                </a:lnTo>
                <a:lnTo>
                  <a:pt x="44" y="23"/>
                </a:lnTo>
                <a:lnTo>
                  <a:pt x="45" y="22"/>
                </a:lnTo>
                <a:lnTo>
                  <a:pt x="41" y="19"/>
                </a:lnTo>
                <a:lnTo>
                  <a:pt x="29" y="9"/>
                </a:lnTo>
                <a:lnTo>
                  <a:pt x="21" y="2"/>
                </a:lnTo>
                <a:lnTo>
                  <a:pt x="21" y="0"/>
                </a:lnTo>
                <a:lnTo>
                  <a:pt x="19" y="0"/>
                </a:lnTo>
                <a:lnTo>
                  <a:pt x="21" y="0"/>
                </a:lnTo>
                <a:lnTo>
                  <a:pt x="19" y="0"/>
                </a:lnTo>
                <a:lnTo>
                  <a:pt x="21" y="0"/>
                </a:lnTo>
                <a:lnTo>
                  <a:pt x="19" y="2"/>
                </a:lnTo>
                <a:lnTo>
                  <a:pt x="16" y="5"/>
                </a:lnTo>
                <a:lnTo>
                  <a:pt x="8" y="15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20040" y="5211720"/>
            <a:ext cx="68040" cy="71640"/>
          </a:xfrm>
          <a:custGeom>
            <a:avLst/>
            <a:gdLst/>
            <a:ahLst/>
            <a:rect l="l" t="t" r="r" b="b"/>
            <a:pathLst>
              <a:path w="203" h="216">
                <a:moveTo>
                  <a:pt x="74" y="39"/>
                </a:moveTo>
                <a:lnTo>
                  <a:pt x="74" y="40"/>
                </a:lnTo>
                <a:lnTo>
                  <a:pt x="76" y="49"/>
                </a:lnTo>
                <a:lnTo>
                  <a:pt x="83" y="75"/>
                </a:lnTo>
                <a:lnTo>
                  <a:pt x="87" y="97"/>
                </a:lnTo>
                <a:lnTo>
                  <a:pt x="89" y="97"/>
                </a:lnTo>
                <a:lnTo>
                  <a:pt x="86" y="98"/>
                </a:lnTo>
                <a:lnTo>
                  <a:pt x="76" y="103"/>
                </a:lnTo>
                <a:lnTo>
                  <a:pt x="41" y="117"/>
                </a:lnTo>
                <a:lnTo>
                  <a:pt x="15" y="127"/>
                </a:lnTo>
                <a:lnTo>
                  <a:pt x="14" y="127"/>
                </a:lnTo>
                <a:lnTo>
                  <a:pt x="11" y="135"/>
                </a:lnTo>
                <a:lnTo>
                  <a:pt x="5" y="156"/>
                </a:lnTo>
                <a:lnTo>
                  <a:pt x="0" y="172"/>
                </a:lnTo>
                <a:lnTo>
                  <a:pt x="0" y="172"/>
                </a:lnTo>
                <a:lnTo>
                  <a:pt x="2" y="172"/>
                </a:lnTo>
                <a:lnTo>
                  <a:pt x="14" y="171"/>
                </a:lnTo>
                <a:lnTo>
                  <a:pt x="54" y="165"/>
                </a:lnTo>
                <a:lnTo>
                  <a:pt x="85" y="161"/>
                </a:lnTo>
                <a:lnTo>
                  <a:pt x="87" y="159"/>
                </a:lnTo>
                <a:lnTo>
                  <a:pt x="92" y="166"/>
                </a:lnTo>
                <a:lnTo>
                  <a:pt x="106" y="188"/>
                </a:lnTo>
                <a:lnTo>
                  <a:pt x="116" y="204"/>
                </a:lnTo>
                <a:lnTo>
                  <a:pt x="118" y="204"/>
                </a:lnTo>
                <a:lnTo>
                  <a:pt x="124" y="207"/>
                </a:lnTo>
                <a:lnTo>
                  <a:pt x="145" y="211"/>
                </a:lnTo>
                <a:lnTo>
                  <a:pt x="161" y="216"/>
                </a:lnTo>
                <a:lnTo>
                  <a:pt x="163" y="216"/>
                </a:lnTo>
                <a:lnTo>
                  <a:pt x="169" y="210"/>
                </a:lnTo>
                <a:lnTo>
                  <a:pt x="187" y="191"/>
                </a:lnTo>
                <a:lnTo>
                  <a:pt x="202" y="177"/>
                </a:lnTo>
                <a:lnTo>
                  <a:pt x="203" y="175"/>
                </a:lnTo>
                <a:lnTo>
                  <a:pt x="198" y="166"/>
                </a:lnTo>
                <a:lnTo>
                  <a:pt x="180" y="137"/>
                </a:lnTo>
                <a:lnTo>
                  <a:pt x="167" y="116"/>
                </a:lnTo>
                <a:lnTo>
                  <a:pt x="167" y="114"/>
                </a:lnTo>
                <a:lnTo>
                  <a:pt x="160" y="97"/>
                </a:lnTo>
                <a:lnTo>
                  <a:pt x="138" y="43"/>
                </a:lnTo>
                <a:lnTo>
                  <a:pt x="122" y="3"/>
                </a:lnTo>
                <a:lnTo>
                  <a:pt x="122" y="0"/>
                </a:lnTo>
                <a:lnTo>
                  <a:pt x="121" y="0"/>
                </a:lnTo>
                <a:lnTo>
                  <a:pt x="122" y="0"/>
                </a:lnTo>
                <a:lnTo>
                  <a:pt x="121" y="0"/>
                </a:lnTo>
                <a:lnTo>
                  <a:pt x="122" y="0"/>
                </a:lnTo>
                <a:lnTo>
                  <a:pt x="121" y="1"/>
                </a:lnTo>
                <a:lnTo>
                  <a:pt x="113" y="7"/>
                </a:lnTo>
                <a:lnTo>
                  <a:pt x="92" y="24"/>
                </a:lnTo>
                <a:lnTo>
                  <a:pt x="74" y="39"/>
                </a:lnTo>
                <a:lnTo>
                  <a:pt x="74" y="39"/>
                </a:lnTo>
                <a:lnTo>
                  <a:pt x="74" y="39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61440" y="5213520"/>
            <a:ext cx="72720" cy="60120"/>
          </a:xfrm>
          <a:custGeom>
            <a:avLst/>
            <a:gdLst/>
            <a:ahLst/>
            <a:rect l="l" t="t" r="r" b="b"/>
            <a:pathLst>
              <a:path w="217" h="185">
                <a:moveTo>
                  <a:pt x="43" y="110"/>
                </a:moveTo>
                <a:lnTo>
                  <a:pt x="49" y="120"/>
                </a:lnTo>
                <a:lnTo>
                  <a:pt x="66" y="149"/>
                </a:lnTo>
                <a:lnTo>
                  <a:pt x="81" y="172"/>
                </a:lnTo>
                <a:lnTo>
                  <a:pt x="82" y="172"/>
                </a:lnTo>
                <a:lnTo>
                  <a:pt x="91" y="175"/>
                </a:lnTo>
                <a:lnTo>
                  <a:pt x="120" y="181"/>
                </a:lnTo>
                <a:lnTo>
                  <a:pt x="142" y="185"/>
                </a:lnTo>
                <a:lnTo>
                  <a:pt x="143" y="185"/>
                </a:lnTo>
                <a:lnTo>
                  <a:pt x="145" y="185"/>
                </a:lnTo>
                <a:lnTo>
                  <a:pt x="153" y="181"/>
                </a:lnTo>
                <a:lnTo>
                  <a:pt x="188" y="166"/>
                </a:lnTo>
                <a:lnTo>
                  <a:pt x="214" y="156"/>
                </a:lnTo>
                <a:lnTo>
                  <a:pt x="217" y="155"/>
                </a:lnTo>
                <a:lnTo>
                  <a:pt x="210" y="149"/>
                </a:lnTo>
                <a:lnTo>
                  <a:pt x="188" y="127"/>
                </a:lnTo>
                <a:lnTo>
                  <a:pt x="172" y="111"/>
                </a:lnTo>
                <a:lnTo>
                  <a:pt x="172" y="110"/>
                </a:lnTo>
                <a:lnTo>
                  <a:pt x="166" y="111"/>
                </a:lnTo>
                <a:lnTo>
                  <a:pt x="153" y="111"/>
                </a:lnTo>
                <a:lnTo>
                  <a:pt x="143" y="111"/>
                </a:lnTo>
                <a:lnTo>
                  <a:pt x="143" y="111"/>
                </a:lnTo>
                <a:lnTo>
                  <a:pt x="142" y="111"/>
                </a:lnTo>
                <a:lnTo>
                  <a:pt x="136" y="110"/>
                </a:lnTo>
                <a:lnTo>
                  <a:pt x="116" y="101"/>
                </a:lnTo>
                <a:lnTo>
                  <a:pt x="100" y="95"/>
                </a:lnTo>
                <a:lnTo>
                  <a:pt x="100" y="94"/>
                </a:lnTo>
                <a:lnTo>
                  <a:pt x="98" y="92"/>
                </a:lnTo>
                <a:lnTo>
                  <a:pt x="90" y="81"/>
                </a:lnTo>
                <a:lnTo>
                  <a:pt x="61" y="39"/>
                </a:lnTo>
                <a:lnTo>
                  <a:pt x="39" y="8"/>
                </a:lnTo>
                <a:lnTo>
                  <a:pt x="39" y="5"/>
                </a:lnTo>
                <a:lnTo>
                  <a:pt x="37" y="5"/>
                </a:lnTo>
                <a:lnTo>
                  <a:pt x="32" y="5"/>
                </a:lnTo>
                <a:lnTo>
                  <a:pt x="14" y="3"/>
                </a:lnTo>
                <a:lnTo>
                  <a:pt x="1" y="1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lnTo>
                  <a:pt x="7" y="17"/>
                </a:lnTo>
                <a:lnTo>
                  <a:pt x="27" y="69"/>
                </a:lnTo>
                <a:lnTo>
                  <a:pt x="42" y="108"/>
                </a:lnTo>
                <a:lnTo>
                  <a:pt x="43" y="110"/>
                </a:lnTo>
                <a:lnTo>
                  <a:pt x="43" y="11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456320" y="4459320"/>
            <a:ext cx="384480" cy="738000"/>
          </a:xfrm>
          <a:custGeom>
            <a:avLst/>
            <a:gdLst/>
            <a:ahLst/>
            <a:rect l="l" t="t" r="r" b="b"/>
            <a:pathLst>
              <a:path w="1119" h="2255">
                <a:moveTo>
                  <a:pt x="159" y="170"/>
                </a:moveTo>
                <a:lnTo>
                  <a:pt x="158" y="171"/>
                </a:lnTo>
                <a:lnTo>
                  <a:pt x="157" y="176"/>
                </a:lnTo>
                <a:lnTo>
                  <a:pt x="149" y="190"/>
                </a:lnTo>
                <a:lnTo>
                  <a:pt x="145" y="200"/>
                </a:lnTo>
                <a:lnTo>
                  <a:pt x="145" y="200"/>
                </a:lnTo>
                <a:lnTo>
                  <a:pt x="143" y="200"/>
                </a:lnTo>
                <a:lnTo>
                  <a:pt x="138" y="199"/>
                </a:lnTo>
                <a:lnTo>
                  <a:pt x="116" y="192"/>
                </a:lnTo>
                <a:lnTo>
                  <a:pt x="100" y="187"/>
                </a:lnTo>
                <a:lnTo>
                  <a:pt x="100" y="186"/>
                </a:lnTo>
                <a:lnTo>
                  <a:pt x="99" y="187"/>
                </a:lnTo>
                <a:lnTo>
                  <a:pt x="94" y="194"/>
                </a:lnTo>
                <a:lnTo>
                  <a:pt x="80" y="218"/>
                </a:lnTo>
                <a:lnTo>
                  <a:pt x="70" y="236"/>
                </a:lnTo>
                <a:lnTo>
                  <a:pt x="70" y="236"/>
                </a:lnTo>
                <a:lnTo>
                  <a:pt x="70" y="239"/>
                </a:lnTo>
                <a:lnTo>
                  <a:pt x="71" y="254"/>
                </a:lnTo>
                <a:lnTo>
                  <a:pt x="80" y="306"/>
                </a:lnTo>
                <a:lnTo>
                  <a:pt x="86" y="345"/>
                </a:lnTo>
                <a:lnTo>
                  <a:pt x="87" y="347"/>
                </a:lnTo>
                <a:lnTo>
                  <a:pt x="84" y="354"/>
                </a:lnTo>
                <a:lnTo>
                  <a:pt x="72" y="400"/>
                </a:lnTo>
                <a:lnTo>
                  <a:pt x="32" y="557"/>
                </a:lnTo>
                <a:lnTo>
                  <a:pt x="1" y="676"/>
                </a:lnTo>
                <a:lnTo>
                  <a:pt x="0" y="681"/>
                </a:lnTo>
                <a:lnTo>
                  <a:pt x="0" y="686"/>
                </a:lnTo>
                <a:lnTo>
                  <a:pt x="10" y="715"/>
                </a:lnTo>
                <a:lnTo>
                  <a:pt x="45" y="810"/>
                </a:lnTo>
                <a:lnTo>
                  <a:pt x="71" y="884"/>
                </a:lnTo>
                <a:lnTo>
                  <a:pt x="72" y="887"/>
                </a:lnTo>
                <a:lnTo>
                  <a:pt x="71" y="890"/>
                </a:lnTo>
                <a:lnTo>
                  <a:pt x="70" y="910"/>
                </a:lnTo>
                <a:lnTo>
                  <a:pt x="62" y="978"/>
                </a:lnTo>
                <a:lnTo>
                  <a:pt x="58" y="1031"/>
                </a:lnTo>
                <a:lnTo>
                  <a:pt x="58" y="1032"/>
                </a:lnTo>
                <a:lnTo>
                  <a:pt x="67" y="1035"/>
                </a:lnTo>
                <a:lnTo>
                  <a:pt x="93" y="1042"/>
                </a:lnTo>
                <a:lnTo>
                  <a:pt x="113" y="1046"/>
                </a:lnTo>
                <a:lnTo>
                  <a:pt x="114" y="1046"/>
                </a:lnTo>
                <a:lnTo>
                  <a:pt x="114" y="1054"/>
                </a:lnTo>
                <a:lnTo>
                  <a:pt x="113" y="1074"/>
                </a:lnTo>
                <a:lnTo>
                  <a:pt x="113" y="1090"/>
                </a:lnTo>
                <a:lnTo>
                  <a:pt x="114" y="1090"/>
                </a:lnTo>
                <a:lnTo>
                  <a:pt x="112" y="1091"/>
                </a:lnTo>
                <a:lnTo>
                  <a:pt x="100" y="1097"/>
                </a:lnTo>
                <a:lnTo>
                  <a:pt x="58" y="1119"/>
                </a:lnTo>
                <a:lnTo>
                  <a:pt x="28" y="1135"/>
                </a:lnTo>
                <a:lnTo>
                  <a:pt x="26" y="1135"/>
                </a:lnTo>
                <a:lnTo>
                  <a:pt x="26" y="1146"/>
                </a:lnTo>
                <a:lnTo>
                  <a:pt x="35" y="1220"/>
                </a:lnTo>
                <a:lnTo>
                  <a:pt x="64" y="1472"/>
                </a:lnTo>
                <a:lnTo>
                  <a:pt x="86" y="1664"/>
                </a:lnTo>
                <a:lnTo>
                  <a:pt x="87" y="1674"/>
                </a:lnTo>
                <a:lnTo>
                  <a:pt x="87" y="1675"/>
                </a:lnTo>
                <a:lnTo>
                  <a:pt x="88" y="1681"/>
                </a:lnTo>
                <a:lnTo>
                  <a:pt x="94" y="1701"/>
                </a:lnTo>
                <a:lnTo>
                  <a:pt x="99" y="1717"/>
                </a:lnTo>
                <a:lnTo>
                  <a:pt x="100" y="1717"/>
                </a:lnTo>
                <a:lnTo>
                  <a:pt x="97" y="1727"/>
                </a:lnTo>
                <a:lnTo>
                  <a:pt x="93" y="1755"/>
                </a:lnTo>
                <a:lnTo>
                  <a:pt x="90" y="1777"/>
                </a:lnTo>
                <a:lnTo>
                  <a:pt x="90" y="1777"/>
                </a:lnTo>
                <a:lnTo>
                  <a:pt x="88" y="1778"/>
                </a:lnTo>
                <a:lnTo>
                  <a:pt x="86" y="1784"/>
                </a:lnTo>
                <a:lnTo>
                  <a:pt x="75" y="1801"/>
                </a:lnTo>
                <a:lnTo>
                  <a:pt x="68" y="1816"/>
                </a:lnTo>
                <a:lnTo>
                  <a:pt x="68" y="1816"/>
                </a:lnTo>
                <a:lnTo>
                  <a:pt x="68" y="1817"/>
                </a:lnTo>
                <a:lnTo>
                  <a:pt x="68" y="1825"/>
                </a:lnTo>
                <a:lnTo>
                  <a:pt x="70" y="1849"/>
                </a:lnTo>
                <a:lnTo>
                  <a:pt x="70" y="1868"/>
                </a:lnTo>
                <a:lnTo>
                  <a:pt x="71" y="1868"/>
                </a:lnTo>
                <a:lnTo>
                  <a:pt x="70" y="1869"/>
                </a:lnTo>
                <a:lnTo>
                  <a:pt x="65" y="1874"/>
                </a:lnTo>
                <a:lnTo>
                  <a:pt x="51" y="1890"/>
                </a:lnTo>
                <a:lnTo>
                  <a:pt x="41" y="1901"/>
                </a:lnTo>
                <a:lnTo>
                  <a:pt x="41" y="1901"/>
                </a:lnTo>
                <a:lnTo>
                  <a:pt x="41" y="1903"/>
                </a:lnTo>
                <a:lnTo>
                  <a:pt x="41" y="1906"/>
                </a:lnTo>
                <a:lnTo>
                  <a:pt x="41" y="1914"/>
                </a:lnTo>
                <a:lnTo>
                  <a:pt x="41" y="1920"/>
                </a:lnTo>
                <a:lnTo>
                  <a:pt x="42" y="1920"/>
                </a:lnTo>
                <a:lnTo>
                  <a:pt x="48" y="1926"/>
                </a:lnTo>
                <a:lnTo>
                  <a:pt x="70" y="1940"/>
                </a:lnTo>
                <a:lnTo>
                  <a:pt x="86" y="1951"/>
                </a:lnTo>
                <a:lnTo>
                  <a:pt x="87" y="1951"/>
                </a:lnTo>
                <a:lnTo>
                  <a:pt x="87" y="1962"/>
                </a:lnTo>
                <a:lnTo>
                  <a:pt x="86" y="1997"/>
                </a:lnTo>
                <a:lnTo>
                  <a:pt x="86" y="2023"/>
                </a:lnTo>
                <a:lnTo>
                  <a:pt x="87" y="2023"/>
                </a:lnTo>
                <a:lnTo>
                  <a:pt x="86" y="2026"/>
                </a:lnTo>
                <a:lnTo>
                  <a:pt x="80" y="2035"/>
                </a:lnTo>
                <a:lnTo>
                  <a:pt x="58" y="2069"/>
                </a:lnTo>
                <a:lnTo>
                  <a:pt x="41" y="2096"/>
                </a:lnTo>
                <a:lnTo>
                  <a:pt x="41" y="2097"/>
                </a:lnTo>
                <a:lnTo>
                  <a:pt x="41" y="2100"/>
                </a:lnTo>
                <a:lnTo>
                  <a:pt x="42" y="2111"/>
                </a:lnTo>
                <a:lnTo>
                  <a:pt x="49" y="2151"/>
                </a:lnTo>
                <a:lnTo>
                  <a:pt x="54" y="2181"/>
                </a:lnTo>
                <a:lnTo>
                  <a:pt x="55" y="2182"/>
                </a:lnTo>
                <a:lnTo>
                  <a:pt x="67" y="2187"/>
                </a:lnTo>
                <a:lnTo>
                  <a:pt x="106" y="2200"/>
                </a:lnTo>
                <a:lnTo>
                  <a:pt x="135" y="2209"/>
                </a:lnTo>
                <a:lnTo>
                  <a:pt x="138" y="2209"/>
                </a:lnTo>
                <a:lnTo>
                  <a:pt x="138" y="2210"/>
                </a:lnTo>
                <a:lnTo>
                  <a:pt x="138" y="2213"/>
                </a:lnTo>
                <a:lnTo>
                  <a:pt x="142" y="2226"/>
                </a:lnTo>
                <a:lnTo>
                  <a:pt x="143" y="2235"/>
                </a:lnTo>
                <a:lnTo>
                  <a:pt x="145" y="2235"/>
                </a:lnTo>
                <a:lnTo>
                  <a:pt x="154" y="2239"/>
                </a:lnTo>
                <a:lnTo>
                  <a:pt x="181" y="2248"/>
                </a:lnTo>
                <a:lnTo>
                  <a:pt x="203" y="2255"/>
                </a:lnTo>
                <a:lnTo>
                  <a:pt x="204" y="2255"/>
                </a:lnTo>
                <a:lnTo>
                  <a:pt x="206" y="2253"/>
                </a:lnTo>
                <a:lnTo>
                  <a:pt x="213" y="2246"/>
                </a:lnTo>
                <a:lnTo>
                  <a:pt x="217" y="2240"/>
                </a:lnTo>
                <a:lnTo>
                  <a:pt x="219" y="2239"/>
                </a:lnTo>
                <a:lnTo>
                  <a:pt x="226" y="2240"/>
                </a:lnTo>
                <a:lnTo>
                  <a:pt x="248" y="2242"/>
                </a:lnTo>
                <a:lnTo>
                  <a:pt x="265" y="2242"/>
                </a:lnTo>
                <a:lnTo>
                  <a:pt x="267" y="2242"/>
                </a:lnTo>
                <a:lnTo>
                  <a:pt x="268" y="2238"/>
                </a:lnTo>
                <a:lnTo>
                  <a:pt x="272" y="2225"/>
                </a:lnTo>
                <a:lnTo>
                  <a:pt x="277" y="2214"/>
                </a:lnTo>
                <a:lnTo>
                  <a:pt x="278" y="2213"/>
                </a:lnTo>
                <a:lnTo>
                  <a:pt x="274" y="2207"/>
                </a:lnTo>
                <a:lnTo>
                  <a:pt x="265" y="2190"/>
                </a:lnTo>
                <a:lnTo>
                  <a:pt x="259" y="2175"/>
                </a:lnTo>
                <a:lnTo>
                  <a:pt x="259" y="2174"/>
                </a:lnTo>
                <a:lnTo>
                  <a:pt x="259" y="2168"/>
                </a:lnTo>
                <a:lnTo>
                  <a:pt x="258" y="2148"/>
                </a:lnTo>
                <a:lnTo>
                  <a:pt x="258" y="2133"/>
                </a:lnTo>
                <a:lnTo>
                  <a:pt x="259" y="2132"/>
                </a:lnTo>
                <a:lnTo>
                  <a:pt x="262" y="2129"/>
                </a:lnTo>
                <a:lnTo>
                  <a:pt x="281" y="2107"/>
                </a:lnTo>
                <a:lnTo>
                  <a:pt x="351" y="2029"/>
                </a:lnTo>
                <a:lnTo>
                  <a:pt x="403" y="1969"/>
                </a:lnTo>
                <a:lnTo>
                  <a:pt x="407" y="1965"/>
                </a:lnTo>
                <a:lnTo>
                  <a:pt x="401" y="1952"/>
                </a:lnTo>
                <a:lnTo>
                  <a:pt x="387" y="1912"/>
                </a:lnTo>
                <a:lnTo>
                  <a:pt x="377" y="1881"/>
                </a:lnTo>
                <a:lnTo>
                  <a:pt x="377" y="1878"/>
                </a:lnTo>
                <a:lnTo>
                  <a:pt x="375" y="1878"/>
                </a:lnTo>
                <a:lnTo>
                  <a:pt x="367" y="1877"/>
                </a:lnTo>
                <a:lnTo>
                  <a:pt x="341" y="1869"/>
                </a:lnTo>
                <a:lnTo>
                  <a:pt x="320" y="1865"/>
                </a:lnTo>
                <a:lnTo>
                  <a:pt x="320" y="1864"/>
                </a:lnTo>
                <a:lnTo>
                  <a:pt x="320" y="1851"/>
                </a:lnTo>
                <a:lnTo>
                  <a:pt x="319" y="1810"/>
                </a:lnTo>
                <a:lnTo>
                  <a:pt x="319" y="1780"/>
                </a:lnTo>
                <a:lnTo>
                  <a:pt x="320" y="1777"/>
                </a:lnTo>
                <a:lnTo>
                  <a:pt x="332" y="1771"/>
                </a:lnTo>
                <a:lnTo>
                  <a:pt x="371" y="1749"/>
                </a:lnTo>
                <a:lnTo>
                  <a:pt x="400" y="1733"/>
                </a:lnTo>
                <a:lnTo>
                  <a:pt x="403" y="1732"/>
                </a:lnTo>
                <a:lnTo>
                  <a:pt x="403" y="1730"/>
                </a:lnTo>
                <a:lnTo>
                  <a:pt x="404" y="1710"/>
                </a:lnTo>
                <a:lnTo>
                  <a:pt x="413" y="1641"/>
                </a:lnTo>
                <a:lnTo>
                  <a:pt x="419" y="1588"/>
                </a:lnTo>
                <a:lnTo>
                  <a:pt x="420" y="1585"/>
                </a:lnTo>
                <a:lnTo>
                  <a:pt x="433" y="1580"/>
                </a:lnTo>
                <a:lnTo>
                  <a:pt x="475" y="1561"/>
                </a:lnTo>
                <a:lnTo>
                  <a:pt x="506" y="1546"/>
                </a:lnTo>
                <a:lnTo>
                  <a:pt x="509" y="1545"/>
                </a:lnTo>
                <a:lnTo>
                  <a:pt x="506" y="1541"/>
                </a:lnTo>
                <a:lnTo>
                  <a:pt x="498" y="1526"/>
                </a:lnTo>
                <a:lnTo>
                  <a:pt x="494" y="1514"/>
                </a:lnTo>
                <a:lnTo>
                  <a:pt x="494" y="1513"/>
                </a:lnTo>
                <a:lnTo>
                  <a:pt x="493" y="1513"/>
                </a:lnTo>
                <a:lnTo>
                  <a:pt x="487" y="1513"/>
                </a:lnTo>
                <a:lnTo>
                  <a:pt x="469" y="1513"/>
                </a:lnTo>
                <a:lnTo>
                  <a:pt x="455" y="1513"/>
                </a:lnTo>
                <a:lnTo>
                  <a:pt x="455" y="1512"/>
                </a:lnTo>
                <a:lnTo>
                  <a:pt x="458" y="1504"/>
                </a:lnTo>
                <a:lnTo>
                  <a:pt x="467" y="1484"/>
                </a:lnTo>
                <a:lnTo>
                  <a:pt x="474" y="1467"/>
                </a:lnTo>
                <a:lnTo>
                  <a:pt x="475" y="1465"/>
                </a:lnTo>
                <a:lnTo>
                  <a:pt x="491" y="1458"/>
                </a:lnTo>
                <a:lnTo>
                  <a:pt x="540" y="1432"/>
                </a:lnTo>
                <a:lnTo>
                  <a:pt x="578" y="1412"/>
                </a:lnTo>
                <a:lnTo>
                  <a:pt x="581" y="1410"/>
                </a:lnTo>
                <a:lnTo>
                  <a:pt x="581" y="1409"/>
                </a:lnTo>
                <a:lnTo>
                  <a:pt x="582" y="1397"/>
                </a:lnTo>
                <a:lnTo>
                  <a:pt x="590" y="1357"/>
                </a:lnTo>
                <a:lnTo>
                  <a:pt x="594" y="1326"/>
                </a:lnTo>
                <a:lnTo>
                  <a:pt x="596" y="1323"/>
                </a:lnTo>
                <a:lnTo>
                  <a:pt x="593" y="1319"/>
                </a:lnTo>
                <a:lnTo>
                  <a:pt x="585" y="1306"/>
                </a:lnTo>
                <a:lnTo>
                  <a:pt x="581" y="1296"/>
                </a:lnTo>
                <a:lnTo>
                  <a:pt x="581" y="1294"/>
                </a:lnTo>
                <a:lnTo>
                  <a:pt x="584" y="1294"/>
                </a:lnTo>
                <a:lnTo>
                  <a:pt x="613" y="1287"/>
                </a:lnTo>
                <a:lnTo>
                  <a:pt x="710" y="1261"/>
                </a:lnTo>
                <a:lnTo>
                  <a:pt x="784" y="1242"/>
                </a:lnTo>
                <a:lnTo>
                  <a:pt x="788" y="1241"/>
                </a:lnTo>
                <a:lnTo>
                  <a:pt x="790" y="1239"/>
                </a:lnTo>
                <a:lnTo>
                  <a:pt x="803" y="1229"/>
                </a:lnTo>
                <a:lnTo>
                  <a:pt x="848" y="1193"/>
                </a:lnTo>
                <a:lnTo>
                  <a:pt x="882" y="1167"/>
                </a:lnTo>
                <a:lnTo>
                  <a:pt x="885" y="1164"/>
                </a:lnTo>
                <a:lnTo>
                  <a:pt x="885" y="1142"/>
                </a:lnTo>
                <a:lnTo>
                  <a:pt x="884" y="1073"/>
                </a:lnTo>
                <a:lnTo>
                  <a:pt x="884" y="1020"/>
                </a:lnTo>
                <a:lnTo>
                  <a:pt x="885" y="1017"/>
                </a:lnTo>
                <a:lnTo>
                  <a:pt x="871" y="997"/>
                </a:lnTo>
                <a:lnTo>
                  <a:pt x="830" y="936"/>
                </a:lnTo>
                <a:lnTo>
                  <a:pt x="800" y="890"/>
                </a:lnTo>
                <a:lnTo>
                  <a:pt x="798" y="887"/>
                </a:lnTo>
                <a:lnTo>
                  <a:pt x="797" y="884"/>
                </a:lnTo>
                <a:lnTo>
                  <a:pt x="795" y="861"/>
                </a:lnTo>
                <a:lnTo>
                  <a:pt x="788" y="778"/>
                </a:lnTo>
                <a:lnTo>
                  <a:pt x="784" y="716"/>
                </a:lnTo>
                <a:lnTo>
                  <a:pt x="784" y="712"/>
                </a:lnTo>
                <a:lnTo>
                  <a:pt x="785" y="709"/>
                </a:lnTo>
                <a:lnTo>
                  <a:pt x="797" y="687"/>
                </a:lnTo>
                <a:lnTo>
                  <a:pt x="837" y="612"/>
                </a:lnTo>
                <a:lnTo>
                  <a:pt x="868" y="554"/>
                </a:lnTo>
                <a:lnTo>
                  <a:pt x="871" y="549"/>
                </a:lnTo>
                <a:lnTo>
                  <a:pt x="875" y="547"/>
                </a:lnTo>
                <a:lnTo>
                  <a:pt x="908" y="523"/>
                </a:lnTo>
                <a:lnTo>
                  <a:pt x="1024" y="442"/>
                </a:lnTo>
                <a:lnTo>
                  <a:pt x="1113" y="380"/>
                </a:lnTo>
                <a:lnTo>
                  <a:pt x="1119" y="376"/>
                </a:lnTo>
                <a:lnTo>
                  <a:pt x="1116" y="358"/>
                </a:lnTo>
                <a:lnTo>
                  <a:pt x="1108" y="305"/>
                </a:lnTo>
                <a:lnTo>
                  <a:pt x="1103" y="263"/>
                </a:lnTo>
                <a:lnTo>
                  <a:pt x="1103" y="260"/>
                </a:lnTo>
                <a:lnTo>
                  <a:pt x="1101" y="260"/>
                </a:lnTo>
                <a:lnTo>
                  <a:pt x="1095" y="260"/>
                </a:lnTo>
                <a:lnTo>
                  <a:pt x="1075" y="260"/>
                </a:lnTo>
                <a:lnTo>
                  <a:pt x="1059" y="260"/>
                </a:lnTo>
                <a:lnTo>
                  <a:pt x="1059" y="260"/>
                </a:lnTo>
                <a:lnTo>
                  <a:pt x="1058" y="263"/>
                </a:lnTo>
                <a:lnTo>
                  <a:pt x="1052" y="271"/>
                </a:lnTo>
                <a:lnTo>
                  <a:pt x="1030" y="306"/>
                </a:lnTo>
                <a:lnTo>
                  <a:pt x="1014" y="332"/>
                </a:lnTo>
                <a:lnTo>
                  <a:pt x="1014" y="334"/>
                </a:lnTo>
                <a:lnTo>
                  <a:pt x="1011" y="336"/>
                </a:lnTo>
                <a:lnTo>
                  <a:pt x="995" y="348"/>
                </a:lnTo>
                <a:lnTo>
                  <a:pt x="942" y="387"/>
                </a:lnTo>
                <a:lnTo>
                  <a:pt x="900" y="418"/>
                </a:lnTo>
                <a:lnTo>
                  <a:pt x="898" y="419"/>
                </a:lnTo>
                <a:lnTo>
                  <a:pt x="895" y="419"/>
                </a:lnTo>
                <a:lnTo>
                  <a:pt x="877" y="419"/>
                </a:lnTo>
                <a:lnTo>
                  <a:pt x="816" y="419"/>
                </a:lnTo>
                <a:lnTo>
                  <a:pt x="769" y="419"/>
                </a:lnTo>
                <a:lnTo>
                  <a:pt x="768" y="419"/>
                </a:lnTo>
                <a:lnTo>
                  <a:pt x="764" y="413"/>
                </a:lnTo>
                <a:lnTo>
                  <a:pt x="751" y="393"/>
                </a:lnTo>
                <a:lnTo>
                  <a:pt x="740" y="377"/>
                </a:lnTo>
                <a:lnTo>
                  <a:pt x="740" y="376"/>
                </a:lnTo>
                <a:lnTo>
                  <a:pt x="742" y="374"/>
                </a:lnTo>
                <a:lnTo>
                  <a:pt x="753" y="358"/>
                </a:lnTo>
                <a:lnTo>
                  <a:pt x="793" y="305"/>
                </a:lnTo>
                <a:lnTo>
                  <a:pt x="823" y="263"/>
                </a:lnTo>
                <a:lnTo>
                  <a:pt x="826" y="260"/>
                </a:lnTo>
                <a:lnTo>
                  <a:pt x="823" y="258"/>
                </a:lnTo>
                <a:lnTo>
                  <a:pt x="807" y="250"/>
                </a:lnTo>
                <a:lnTo>
                  <a:pt x="753" y="215"/>
                </a:lnTo>
                <a:lnTo>
                  <a:pt x="711" y="189"/>
                </a:lnTo>
                <a:lnTo>
                  <a:pt x="710" y="186"/>
                </a:lnTo>
                <a:lnTo>
                  <a:pt x="709" y="186"/>
                </a:lnTo>
                <a:lnTo>
                  <a:pt x="700" y="186"/>
                </a:lnTo>
                <a:lnTo>
                  <a:pt x="674" y="186"/>
                </a:lnTo>
                <a:lnTo>
                  <a:pt x="653" y="186"/>
                </a:lnTo>
                <a:lnTo>
                  <a:pt x="653" y="186"/>
                </a:lnTo>
                <a:lnTo>
                  <a:pt x="648" y="177"/>
                </a:lnTo>
                <a:lnTo>
                  <a:pt x="635" y="151"/>
                </a:lnTo>
                <a:lnTo>
                  <a:pt x="624" y="129"/>
                </a:lnTo>
                <a:lnTo>
                  <a:pt x="624" y="128"/>
                </a:lnTo>
                <a:lnTo>
                  <a:pt x="622" y="128"/>
                </a:lnTo>
                <a:lnTo>
                  <a:pt x="610" y="128"/>
                </a:lnTo>
                <a:lnTo>
                  <a:pt x="568" y="128"/>
                </a:lnTo>
                <a:lnTo>
                  <a:pt x="538" y="128"/>
                </a:lnTo>
                <a:lnTo>
                  <a:pt x="536" y="128"/>
                </a:lnTo>
                <a:lnTo>
                  <a:pt x="535" y="126"/>
                </a:lnTo>
                <a:lnTo>
                  <a:pt x="525" y="110"/>
                </a:lnTo>
                <a:lnTo>
                  <a:pt x="490" y="58"/>
                </a:lnTo>
                <a:lnTo>
                  <a:pt x="464" y="18"/>
                </a:lnTo>
                <a:lnTo>
                  <a:pt x="464" y="15"/>
                </a:lnTo>
                <a:lnTo>
                  <a:pt x="462" y="15"/>
                </a:lnTo>
                <a:lnTo>
                  <a:pt x="452" y="15"/>
                </a:lnTo>
                <a:lnTo>
                  <a:pt x="417" y="15"/>
                </a:lnTo>
                <a:lnTo>
                  <a:pt x="391" y="15"/>
                </a:lnTo>
                <a:lnTo>
                  <a:pt x="391" y="15"/>
                </a:lnTo>
                <a:lnTo>
                  <a:pt x="390" y="16"/>
                </a:lnTo>
                <a:lnTo>
                  <a:pt x="385" y="23"/>
                </a:lnTo>
                <a:lnTo>
                  <a:pt x="372" y="50"/>
                </a:lnTo>
                <a:lnTo>
                  <a:pt x="362" y="70"/>
                </a:lnTo>
                <a:lnTo>
                  <a:pt x="362" y="70"/>
                </a:lnTo>
                <a:lnTo>
                  <a:pt x="361" y="70"/>
                </a:lnTo>
                <a:lnTo>
                  <a:pt x="359" y="70"/>
                </a:lnTo>
                <a:lnTo>
                  <a:pt x="352" y="70"/>
                </a:lnTo>
                <a:lnTo>
                  <a:pt x="348" y="70"/>
                </a:lnTo>
                <a:lnTo>
                  <a:pt x="348" y="70"/>
                </a:lnTo>
                <a:lnTo>
                  <a:pt x="336" y="60"/>
                </a:lnTo>
                <a:lnTo>
                  <a:pt x="301" y="28"/>
                </a:lnTo>
                <a:lnTo>
                  <a:pt x="275" y="2"/>
                </a:lnTo>
                <a:lnTo>
                  <a:pt x="274" y="0"/>
                </a:lnTo>
                <a:lnTo>
                  <a:pt x="272" y="0"/>
                </a:lnTo>
                <a:lnTo>
                  <a:pt x="264" y="0"/>
                </a:lnTo>
                <a:lnTo>
                  <a:pt x="238" y="0"/>
                </a:lnTo>
                <a:lnTo>
                  <a:pt x="216" y="0"/>
                </a:lnTo>
                <a:lnTo>
                  <a:pt x="216" y="0"/>
                </a:lnTo>
                <a:lnTo>
                  <a:pt x="214" y="3"/>
                </a:lnTo>
                <a:lnTo>
                  <a:pt x="209" y="15"/>
                </a:lnTo>
                <a:lnTo>
                  <a:pt x="188" y="54"/>
                </a:lnTo>
                <a:lnTo>
                  <a:pt x="174" y="84"/>
                </a:lnTo>
                <a:lnTo>
                  <a:pt x="174" y="86"/>
                </a:lnTo>
                <a:lnTo>
                  <a:pt x="172" y="87"/>
                </a:lnTo>
                <a:lnTo>
                  <a:pt x="168" y="89"/>
                </a:lnTo>
                <a:lnTo>
                  <a:pt x="154" y="96"/>
                </a:lnTo>
                <a:lnTo>
                  <a:pt x="143" y="102"/>
                </a:lnTo>
                <a:lnTo>
                  <a:pt x="143" y="102"/>
                </a:lnTo>
                <a:lnTo>
                  <a:pt x="142" y="102"/>
                </a:lnTo>
                <a:lnTo>
                  <a:pt x="143" y="102"/>
                </a:lnTo>
                <a:lnTo>
                  <a:pt x="142" y="102"/>
                </a:lnTo>
                <a:lnTo>
                  <a:pt x="143" y="102"/>
                </a:lnTo>
                <a:lnTo>
                  <a:pt x="143" y="103"/>
                </a:lnTo>
                <a:lnTo>
                  <a:pt x="145" y="113"/>
                </a:lnTo>
                <a:lnTo>
                  <a:pt x="152" y="145"/>
                </a:lnTo>
                <a:lnTo>
                  <a:pt x="158" y="170"/>
                </a:lnTo>
                <a:lnTo>
                  <a:pt x="159" y="170"/>
                </a:lnTo>
                <a:lnTo>
                  <a:pt x="159" y="17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726320" y="4638600"/>
            <a:ext cx="130320" cy="125640"/>
          </a:xfrm>
          <a:custGeom>
            <a:avLst/>
            <a:gdLst/>
            <a:ahLst/>
            <a:rect l="l" t="t" r="r" b="b"/>
            <a:pathLst>
              <a:path w="381" h="383">
                <a:moveTo>
                  <a:pt x="145" y="29"/>
                </a:moveTo>
                <a:lnTo>
                  <a:pt x="145" y="31"/>
                </a:lnTo>
                <a:lnTo>
                  <a:pt x="146" y="40"/>
                </a:lnTo>
                <a:lnTo>
                  <a:pt x="153" y="66"/>
                </a:lnTo>
                <a:lnTo>
                  <a:pt x="159" y="87"/>
                </a:lnTo>
                <a:lnTo>
                  <a:pt x="161" y="87"/>
                </a:lnTo>
                <a:lnTo>
                  <a:pt x="169" y="87"/>
                </a:lnTo>
                <a:lnTo>
                  <a:pt x="195" y="87"/>
                </a:lnTo>
                <a:lnTo>
                  <a:pt x="216" y="87"/>
                </a:lnTo>
                <a:lnTo>
                  <a:pt x="217" y="87"/>
                </a:lnTo>
                <a:lnTo>
                  <a:pt x="219" y="89"/>
                </a:lnTo>
                <a:lnTo>
                  <a:pt x="230" y="98"/>
                </a:lnTo>
                <a:lnTo>
                  <a:pt x="269" y="127"/>
                </a:lnTo>
                <a:lnTo>
                  <a:pt x="300" y="148"/>
                </a:lnTo>
                <a:lnTo>
                  <a:pt x="303" y="148"/>
                </a:lnTo>
                <a:lnTo>
                  <a:pt x="303" y="155"/>
                </a:lnTo>
                <a:lnTo>
                  <a:pt x="301" y="176"/>
                </a:lnTo>
                <a:lnTo>
                  <a:pt x="301" y="190"/>
                </a:lnTo>
                <a:lnTo>
                  <a:pt x="303" y="190"/>
                </a:lnTo>
                <a:lnTo>
                  <a:pt x="304" y="192"/>
                </a:lnTo>
                <a:lnTo>
                  <a:pt x="314" y="202"/>
                </a:lnTo>
                <a:lnTo>
                  <a:pt x="350" y="234"/>
                </a:lnTo>
                <a:lnTo>
                  <a:pt x="378" y="260"/>
                </a:lnTo>
                <a:lnTo>
                  <a:pt x="381" y="260"/>
                </a:lnTo>
                <a:lnTo>
                  <a:pt x="378" y="263"/>
                </a:lnTo>
                <a:lnTo>
                  <a:pt x="366" y="280"/>
                </a:lnTo>
                <a:lnTo>
                  <a:pt x="323" y="338"/>
                </a:lnTo>
                <a:lnTo>
                  <a:pt x="290" y="382"/>
                </a:lnTo>
                <a:lnTo>
                  <a:pt x="288" y="383"/>
                </a:lnTo>
                <a:lnTo>
                  <a:pt x="284" y="383"/>
                </a:lnTo>
                <a:lnTo>
                  <a:pt x="261" y="383"/>
                </a:lnTo>
                <a:lnTo>
                  <a:pt x="180" y="382"/>
                </a:lnTo>
                <a:lnTo>
                  <a:pt x="117" y="382"/>
                </a:lnTo>
                <a:lnTo>
                  <a:pt x="114" y="380"/>
                </a:lnTo>
                <a:lnTo>
                  <a:pt x="98" y="374"/>
                </a:lnTo>
                <a:lnTo>
                  <a:pt x="51" y="354"/>
                </a:lnTo>
                <a:lnTo>
                  <a:pt x="16" y="340"/>
                </a:lnTo>
                <a:lnTo>
                  <a:pt x="14" y="338"/>
                </a:lnTo>
                <a:lnTo>
                  <a:pt x="13" y="335"/>
                </a:lnTo>
                <a:lnTo>
                  <a:pt x="11" y="312"/>
                </a:lnTo>
                <a:lnTo>
                  <a:pt x="4" y="229"/>
                </a:lnTo>
                <a:lnTo>
                  <a:pt x="0" y="167"/>
                </a:lnTo>
                <a:lnTo>
                  <a:pt x="0" y="163"/>
                </a:lnTo>
                <a:lnTo>
                  <a:pt x="1" y="160"/>
                </a:lnTo>
                <a:lnTo>
                  <a:pt x="13" y="138"/>
                </a:lnTo>
                <a:lnTo>
                  <a:pt x="53" y="63"/>
                </a:lnTo>
                <a:lnTo>
                  <a:pt x="84" y="5"/>
                </a:lnTo>
                <a:lnTo>
                  <a:pt x="87" y="0"/>
                </a:lnTo>
                <a:lnTo>
                  <a:pt x="85" y="0"/>
                </a:lnTo>
                <a:lnTo>
                  <a:pt x="87" y="0"/>
                </a:lnTo>
                <a:lnTo>
                  <a:pt x="85" y="0"/>
                </a:lnTo>
                <a:lnTo>
                  <a:pt x="87" y="0"/>
                </a:lnTo>
                <a:lnTo>
                  <a:pt x="95" y="6"/>
                </a:lnTo>
                <a:lnTo>
                  <a:pt x="122" y="19"/>
                </a:lnTo>
                <a:lnTo>
                  <a:pt x="143" y="29"/>
                </a:lnTo>
                <a:lnTo>
                  <a:pt x="145" y="29"/>
                </a:lnTo>
                <a:lnTo>
                  <a:pt x="145" y="29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13480" y="4173480"/>
            <a:ext cx="330480" cy="319320"/>
          </a:xfrm>
          <a:custGeom>
            <a:avLst/>
            <a:gdLst/>
            <a:ahLst/>
            <a:rect l="l" t="t" r="r" b="b"/>
            <a:pathLst>
              <a:path w="956" h="973">
                <a:moveTo>
                  <a:pt x="87" y="566"/>
                </a:moveTo>
                <a:lnTo>
                  <a:pt x="88" y="573"/>
                </a:lnTo>
                <a:lnTo>
                  <a:pt x="106" y="623"/>
                </a:lnTo>
                <a:lnTo>
                  <a:pt x="162" y="792"/>
                </a:lnTo>
                <a:lnTo>
                  <a:pt x="206" y="921"/>
                </a:lnTo>
                <a:lnTo>
                  <a:pt x="208" y="927"/>
                </a:lnTo>
                <a:lnTo>
                  <a:pt x="216" y="934"/>
                </a:lnTo>
                <a:lnTo>
                  <a:pt x="242" y="956"/>
                </a:lnTo>
                <a:lnTo>
                  <a:pt x="262" y="973"/>
                </a:lnTo>
                <a:lnTo>
                  <a:pt x="263" y="973"/>
                </a:lnTo>
                <a:lnTo>
                  <a:pt x="268" y="970"/>
                </a:lnTo>
                <a:lnTo>
                  <a:pt x="284" y="962"/>
                </a:lnTo>
                <a:lnTo>
                  <a:pt x="297" y="956"/>
                </a:lnTo>
                <a:lnTo>
                  <a:pt x="298" y="954"/>
                </a:lnTo>
                <a:lnTo>
                  <a:pt x="304" y="941"/>
                </a:lnTo>
                <a:lnTo>
                  <a:pt x="321" y="902"/>
                </a:lnTo>
                <a:lnTo>
                  <a:pt x="336" y="872"/>
                </a:lnTo>
                <a:lnTo>
                  <a:pt x="337" y="869"/>
                </a:lnTo>
                <a:lnTo>
                  <a:pt x="346" y="869"/>
                </a:lnTo>
                <a:lnTo>
                  <a:pt x="374" y="869"/>
                </a:lnTo>
                <a:lnTo>
                  <a:pt x="395" y="869"/>
                </a:lnTo>
                <a:lnTo>
                  <a:pt x="397" y="869"/>
                </a:lnTo>
                <a:lnTo>
                  <a:pt x="407" y="881"/>
                </a:lnTo>
                <a:lnTo>
                  <a:pt x="437" y="915"/>
                </a:lnTo>
                <a:lnTo>
                  <a:pt x="462" y="941"/>
                </a:lnTo>
                <a:lnTo>
                  <a:pt x="463" y="941"/>
                </a:lnTo>
                <a:lnTo>
                  <a:pt x="466" y="941"/>
                </a:lnTo>
                <a:lnTo>
                  <a:pt x="476" y="941"/>
                </a:lnTo>
                <a:lnTo>
                  <a:pt x="485" y="941"/>
                </a:lnTo>
                <a:lnTo>
                  <a:pt x="487" y="941"/>
                </a:lnTo>
                <a:lnTo>
                  <a:pt x="489" y="934"/>
                </a:lnTo>
                <a:lnTo>
                  <a:pt x="501" y="908"/>
                </a:lnTo>
                <a:lnTo>
                  <a:pt x="510" y="888"/>
                </a:lnTo>
                <a:lnTo>
                  <a:pt x="511" y="886"/>
                </a:lnTo>
                <a:lnTo>
                  <a:pt x="513" y="886"/>
                </a:lnTo>
                <a:lnTo>
                  <a:pt x="521" y="886"/>
                </a:lnTo>
                <a:lnTo>
                  <a:pt x="556" y="886"/>
                </a:lnTo>
                <a:lnTo>
                  <a:pt x="582" y="886"/>
                </a:lnTo>
                <a:lnTo>
                  <a:pt x="585" y="886"/>
                </a:lnTo>
                <a:lnTo>
                  <a:pt x="585" y="885"/>
                </a:lnTo>
                <a:lnTo>
                  <a:pt x="589" y="869"/>
                </a:lnTo>
                <a:lnTo>
                  <a:pt x="605" y="812"/>
                </a:lnTo>
                <a:lnTo>
                  <a:pt x="617" y="770"/>
                </a:lnTo>
                <a:lnTo>
                  <a:pt x="618" y="768"/>
                </a:lnTo>
                <a:lnTo>
                  <a:pt x="634" y="759"/>
                </a:lnTo>
                <a:lnTo>
                  <a:pt x="682" y="731"/>
                </a:lnTo>
                <a:lnTo>
                  <a:pt x="718" y="710"/>
                </a:lnTo>
                <a:lnTo>
                  <a:pt x="721" y="708"/>
                </a:lnTo>
                <a:lnTo>
                  <a:pt x="724" y="708"/>
                </a:lnTo>
                <a:lnTo>
                  <a:pt x="746" y="704"/>
                </a:lnTo>
                <a:lnTo>
                  <a:pt x="821" y="691"/>
                </a:lnTo>
                <a:lnTo>
                  <a:pt x="879" y="681"/>
                </a:lnTo>
                <a:lnTo>
                  <a:pt x="884" y="679"/>
                </a:lnTo>
                <a:lnTo>
                  <a:pt x="884" y="686"/>
                </a:lnTo>
                <a:lnTo>
                  <a:pt x="882" y="707"/>
                </a:lnTo>
                <a:lnTo>
                  <a:pt x="882" y="723"/>
                </a:lnTo>
                <a:lnTo>
                  <a:pt x="884" y="723"/>
                </a:lnTo>
                <a:lnTo>
                  <a:pt x="889" y="725"/>
                </a:lnTo>
                <a:lnTo>
                  <a:pt x="910" y="733"/>
                </a:lnTo>
                <a:lnTo>
                  <a:pt x="926" y="737"/>
                </a:lnTo>
                <a:lnTo>
                  <a:pt x="927" y="737"/>
                </a:lnTo>
                <a:lnTo>
                  <a:pt x="927" y="731"/>
                </a:lnTo>
                <a:lnTo>
                  <a:pt x="926" y="711"/>
                </a:lnTo>
                <a:lnTo>
                  <a:pt x="926" y="695"/>
                </a:lnTo>
                <a:lnTo>
                  <a:pt x="927" y="694"/>
                </a:lnTo>
                <a:lnTo>
                  <a:pt x="931" y="688"/>
                </a:lnTo>
                <a:lnTo>
                  <a:pt x="944" y="666"/>
                </a:lnTo>
                <a:lnTo>
                  <a:pt x="955" y="650"/>
                </a:lnTo>
                <a:lnTo>
                  <a:pt x="956" y="649"/>
                </a:lnTo>
                <a:lnTo>
                  <a:pt x="955" y="646"/>
                </a:lnTo>
                <a:lnTo>
                  <a:pt x="944" y="624"/>
                </a:lnTo>
                <a:lnTo>
                  <a:pt x="910" y="549"/>
                </a:lnTo>
                <a:lnTo>
                  <a:pt x="884" y="491"/>
                </a:lnTo>
                <a:lnTo>
                  <a:pt x="884" y="486"/>
                </a:lnTo>
                <a:lnTo>
                  <a:pt x="881" y="486"/>
                </a:lnTo>
                <a:lnTo>
                  <a:pt x="865" y="485"/>
                </a:lnTo>
                <a:lnTo>
                  <a:pt x="810" y="478"/>
                </a:lnTo>
                <a:lnTo>
                  <a:pt x="768" y="473"/>
                </a:lnTo>
                <a:lnTo>
                  <a:pt x="766" y="472"/>
                </a:lnTo>
                <a:lnTo>
                  <a:pt x="760" y="462"/>
                </a:lnTo>
                <a:lnTo>
                  <a:pt x="746" y="427"/>
                </a:lnTo>
                <a:lnTo>
                  <a:pt x="736" y="401"/>
                </a:lnTo>
                <a:lnTo>
                  <a:pt x="736" y="398"/>
                </a:lnTo>
                <a:lnTo>
                  <a:pt x="730" y="397"/>
                </a:lnTo>
                <a:lnTo>
                  <a:pt x="717" y="389"/>
                </a:lnTo>
                <a:lnTo>
                  <a:pt x="707" y="384"/>
                </a:lnTo>
                <a:lnTo>
                  <a:pt x="707" y="382"/>
                </a:lnTo>
                <a:lnTo>
                  <a:pt x="707" y="379"/>
                </a:lnTo>
                <a:lnTo>
                  <a:pt x="705" y="366"/>
                </a:lnTo>
                <a:lnTo>
                  <a:pt x="705" y="356"/>
                </a:lnTo>
                <a:lnTo>
                  <a:pt x="707" y="355"/>
                </a:lnTo>
                <a:lnTo>
                  <a:pt x="711" y="350"/>
                </a:lnTo>
                <a:lnTo>
                  <a:pt x="724" y="336"/>
                </a:lnTo>
                <a:lnTo>
                  <a:pt x="734" y="326"/>
                </a:lnTo>
                <a:lnTo>
                  <a:pt x="736" y="324"/>
                </a:lnTo>
                <a:lnTo>
                  <a:pt x="731" y="323"/>
                </a:lnTo>
                <a:lnTo>
                  <a:pt x="701" y="304"/>
                </a:lnTo>
                <a:lnTo>
                  <a:pt x="598" y="243"/>
                </a:lnTo>
                <a:lnTo>
                  <a:pt x="518" y="195"/>
                </a:lnTo>
                <a:lnTo>
                  <a:pt x="516" y="192"/>
                </a:lnTo>
                <a:lnTo>
                  <a:pt x="513" y="192"/>
                </a:lnTo>
                <a:lnTo>
                  <a:pt x="498" y="192"/>
                </a:lnTo>
                <a:lnTo>
                  <a:pt x="450" y="192"/>
                </a:lnTo>
                <a:lnTo>
                  <a:pt x="413" y="192"/>
                </a:lnTo>
                <a:lnTo>
                  <a:pt x="411" y="192"/>
                </a:lnTo>
                <a:lnTo>
                  <a:pt x="408" y="191"/>
                </a:lnTo>
                <a:lnTo>
                  <a:pt x="400" y="182"/>
                </a:lnTo>
                <a:lnTo>
                  <a:pt x="365" y="147"/>
                </a:lnTo>
                <a:lnTo>
                  <a:pt x="339" y="121"/>
                </a:lnTo>
                <a:lnTo>
                  <a:pt x="337" y="118"/>
                </a:lnTo>
                <a:lnTo>
                  <a:pt x="343" y="114"/>
                </a:lnTo>
                <a:lnTo>
                  <a:pt x="365" y="101"/>
                </a:lnTo>
                <a:lnTo>
                  <a:pt x="381" y="91"/>
                </a:lnTo>
                <a:lnTo>
                  <a:pt x="382" y="89"/>
                </a:lnTo>
                <a:lnTo>
                  <a:pt x="382" y="76"/>
                </a:lnTo>
                <a:lnTo>
                  <a:pt x="381" y="34"/>
                </a:lnTo>
                <a:lnTo>
                  <a:pt x="381" y="2"/>
                </a:lnTo>
                <a:lnTo>
                  <a:pt x="382" y="0"/>
                </a:lnTo>
                <a:lnTo>
                  <a:pt x="381" y="0"/>
                </a:lnTo>
                <a:lnTo>
                  <a:pt x="375" y="0"/>
                </a:lnTo>
                <a:lnTo>
                  <a:pt x="353" y="0"/>
                </a:lnTo>
                <a:lnTo>
                  <a:pt x="337" y="0"/>
                </a:lnTo>
                <a:lnTo>
                  <a:pt x="337" y="0"/>
                </a:lnTo>
                <a:lnTo>
                  <a:pt x="333" y="1"/>
                </a:lnTo>
                <a:lnTo>
                  <a:pt x="308" y="10"/>
                </a:lnTo>
                <a:lnTo>
                  <a:pt x="226" y="37"/>
                </a:lnTo>
                <a:lnTo>
                  <a:pt x="164" y="59"/>
                </a:lnTo>
                <a:lnTo>
                  <a:pt x="161" y="59"/>
                </a:lnTo>
                <a:lnTo>
                  <a:pt x="158" y="57"/>
                </a:lnTo>
                <a:lnTo>
                  <a:pt x="150" y="50"/>
                </a:lnTo>
                <a:lnTo>
                  <a:pt x="146" y="46"/>
                </a:lnTo>
                <a:lnTo>
                  <a:pt x="146" y="44"/>
                </a:lnTo>
                <a:lnTo>
                  <a:pt x="136" y="47"/>
                </a:lnTo>
                <a:lnTo>
                  <a:pt x="108" y="55"/>
                </a:lnTo>
                <a:lnTo>
                  <a:pt x="87" y="59"/>
                </a:lnTo>
                <a:lnTo>
                  <a:pt x="87" y="59"/>
                </a:lnTo>
                <a:lnTo>
                  <a:pt x="84" y="69"/>
                </a:lnTo>
                <a:lnTo>
                  <a:pt x="77" y="97"/>
                </a:lnTo>
                <a:lnTo>
                  <a:pt x="72" y="118"/>
                </a:lnTo>
                <a:lnTo>
                  <a:pt x="72" y="118"/>
                </a:lnTo>
                <a:lnTo>
                  <a:pt x="71" y="118"/>
                </a:lnTo>
                <a:lnTo>
                  <a:pt x="61" y="118"/>
                </a:lnTo>
                <a:lnTo>
                  <a:pt x="26" y="117"/>
                </a:lnTo>
                <a:lnTo>
                  <a:pt x="0" y="115"/>
                </a:lnTo>
                <a:lnTo>
                  <a:pt x="0" y="114"/>
                </a:lnTo>
                <a:lnTo>
                  <a:pt x="1" y="118"/>
                </a:lnTo>
                <a:lnTo>
                  <a:pt x="16" y="140"/>
                </a:lnTo>
                <a:lnTo>
                  <a:pt x="64" y="218"/>
                </a:lnTo>
                <a:lnTo>
                  <a:pt x="100" y="276"/>
                </a:lnTo>
                <a:lnTo>
                  <a:pt x="103" y="279"/>
                </a:lnTo>
                <a:lnTo>
                  <a:pt x="101" y="282"/>
                </a:lnTo>
                <a:lnTo>
                  <a:pt x="95" y="301"/>
                </a:lnTo>
                <a:lnTo>
                  <a:pt x="75" y="363"/>
                </a:lnTo>
                <a:lnTo>
                  <a:pt x="59" y="411"/>
                </a:lnTo>
                <a:lnTo>
                  <a:pt x="59" y="413"/>
                </a:lnTo>
                <a:lnTo>
                  <a:pt x="59" y="415"/>
                </a:lnTo>
                <a:lnTo>
                  <a:pt x="61" y="426"/>
                </a:lnTo>
                <a:lnTo>
                  <a:pt x="66" y="465"/>
                </a:lnTo>
                <a:lnTo>
                  <a:pt x="71" y="494"/>
                </a:lnTo>
                <a:lnTo>
                  <a:pt x="72" y="495"/>
                </a:lnTo>
                <a:lnTo>
                  <a:pt x="71" y="497"/>
                </a:lnTo>
                <a:lnTo>
                  <a:pt x="64" y="507"/>
                </a:lnTo>
                <a:lnTo>
                  <a:pt x="40" y="539"/>
                </a:lnTo>
                <a:lnTo>
                  <a:pt x="22" y="563"/>
                </a:lnTo>
                <a:lnTo>
                  <a:pt x="22" y="563"/>
                </a:lnTo>
                <a:lnTo>
                  <a:pt x="20" y="563"/>
                </a:lnTo>
                <a:lnTo>
                  <a:pt x="22" y="563"/>
                </a:lnTo>
                <a:lnTo>
                  <a:pt x="20" y="563"/>
                </a:lnTo>
                <a:lnTo>
                  <a:pt x="22" y="563"/>
                </a:lnTo>
                <a:lnTo>
                  <a:pt x="32" y="565"/>
                </a:lnTo>
                <a:lnTo>
                  <a:pt x="62" y="566"/>
                </a:lnTo>
                <a:lnTo>
                  <a:pt x="85" y="566"/>
                </a:lnTo>
                <a:lnTo>
                  <a:pt x="87" y="566"/>
                </a:lnTo>
                <a:lnTo>
                  <a:pt x="87" y="566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15080" y="4395960"/>
            <a:ext cx="214560" cy="201600"/>
          </a:xfrm>
          <a:custGeom>
            <a:avLst/>
            <a:gdLst/>
            <a:ahLst/>
            <a:rect l="l" t="t" r="r" b="b"/>
            <a:pathLst>
              <a:path w="622" h="612">
                <a:moveTo>
                  <a:pt x="342" y="173"/>
                </a:moveTo>
                <a:lnTo>
                  <a:pt x="348" y="181"/>
                </a:lnTo>
                <a:lnTo>
                  <a:pt x="368" y="202"/>
                </a:lnTo>
                <a:lnTo>
                  <a:pt x="384" y="218"/>
                </a:lnTo>
                <a:lnTo>
                  <a:pt x="386" y="218"/>
                </a:lnTo>
                <a:lnTo>
                  <a:pt x="391" y="217"/>
                </a:lnTo>
                <a:lnTo>
                  <a:pt x="412" y="210"/>
                </a:lnTo>
                <a:lnTo>
                  <a:pt x="428" y="205"/>
                </a:lnTo>
                <a:lnTo>
                  <a:pt x="429" y="204"/>
                </a:lnTo>
                <a:lnTo>
                  <a:pt x="430" y="205"/>
                </a:lnTo>
                <a:lnTo>
                  <a:pt x="449" y="214"/>
                </a:lnTo>
                <a:lnTo>
                  <a:pt x="513" y="242"/>
                </a:lnTo>
                <a:lnTo>
                  <a:pt x="561" y="263"/>
                </a:lnTo>
                <a:lnTo>
                  <a:pt x="564" y="263"/>
                </a:lnTo>
                <a:lnTo>
                  <a:pt x="564" y="275"/>
                </a:lnTo>
                <a:lnTo>
                  <a:pt x="562" y="310"/>
                </a:lnTo>
                <a:lnTo>
                  <a:pt x="562" y="336"/>
                </a:lnTo>
                <a:lnTo>
                  <a:pt x="564" y="336"/>
                </a:lnTo>
                <a:lnTo>
                  <a:pt x="572" y="342"/>
                </a:lnTo>
                <a:lnTo>
                  <a:pt x="598" y="355"/>
                </a:lnTo>
                <a:lnTo>
                  <a:pt x="620" y="365"/>
                </a:lnTo>
                <a:lnTo>
                  <a:pt x="622" y="365"/>
                </a:lnTo>
                <a:lnTo>
                  <a:pt x="622" y="379"/>
                </a:lnTo>
                <a:lnTo>
                  <a:pt x="620" y="421"/>
                </a:lnTo>
                <a:lnTo>
                  <a:pt x="620" y="453"/>
                </a:lnTo>
                <a:lnTo>
                  <a:pt x="622" y="455"/>
                </a:lnTo>
                <a:lnTo>
                  <a:pt x="620" y="455"/>
                </a:lnTo>
                <a:lnTo>
                  <a:pt x="617" y="455"/>
                </a:lnTo>
                <a:lnTo>
                  <a:pt x="604" y="455"/>
                </a:lnTo>
                <a:lnTo>
                  <a:pt x="594" y="455"/>
                </a:lnTo>
                <a:lnTo>
                  <a:pt x="594" y="455"/>
                </a:lnTo>
                <a:lnTo>
                  <a:pt x="593" y="456"/>
                </a:lnTo>
                <a:lnTo>
                  <a:pt x="587" y="466"/>
                </a:lnTo>
                <a:lnTo>
                  <a:pt x="565" y="499"/>
                </a:lnTo>
                <a:lnTo>
                  <a:pt x="549" y="526"/>
                </a:lnTo>
                <a:lnTo>
                  <a:pt x="549" y="526"/>
                </a:lnTo>
                <a:lnTo>
                  <a:pt x="546" y="528"/>
                </a:lnTo>
                <a:lnTo>
                  <a:pt x="530" y="540"/>
                </a:lnTo>
                <a:lnTo>
                  <a:pt x="477" y="581"/>
                </a:lnTo>
                <a:lnTo>
                  <a:pt x="435" y="611"/>
                </a:lnTo>
                <a:lnTo>
                  <a:pt x="433" y="612"/>
                </a:lnTo>
                <a:lnTo>
                  <a:pt x="430" y="612"/>
                </a:lnTo>
                <a:lnTo>
                  <a:pt x="412" y="612"/>
                </a:lnTo>
                <a:lnTo>
                  <a:pt x="349" y="612"/>
                </a:lnTo>
                <a:lnTo>
                  <a:pt x="301" y="612"/>
                </a:lnTo>
                <a:lnTo>
                  <a:pt x="300" y="611"/>
                </a:lnTo>
                <a:lnTo>
                  <a:pt x="296" y="605"/>
                </a:lnTo>
                <a:lnTo>
                  <a:pt x="284" y="586"/>
                </a:lnTo>
                <a:lnTo>
                  <a:pt x="275" y="572"/>
                </a:lnTo>
                <a:lnTo>
                  <a:pt x="275" y="570"/>
                </a:lnTo>
                <a:lnTo>
                  <a:pt x="277" y="569"/>
                </a:lnTo>
                <a:lnTo>
                  <a:pt x="287" y="553"/>
                </a:lnTo>
                <a:lnTo>
                  <a:pt x="325" y="499"/>
                </a:lnTo>
                <a:lnTo>
                  <a:pt x="354" y="457"/>
                </a:lnTo>
                <a:lnTo>
                  <a:pt x="357" y="455"/>
                </a:lnTo>
                <a:lnTo>
                  <a:pt x="354" y="453"/>
                </a:lnTo>
                <a:lnTo>
                  <a:pt x="339" y="443"/>
                </a:lnTo>
                <a:lnTo>
                  <a:pt x="291" y="408"/>
                </a:lnTo>
                <a:lnTo>
                  <a:pt x="255" y="382"/>
                </a:lnTo>
                <a:lnTo>
                  <a:pt x="254" y="379"/>
                </a:lnTo>
                <a:lnTo>
                  <a:pt x="252" y="379"/>
                </a:lnTo>
                <a:lnTo>
                  <a:pt x="242" y="379"/>
                </a:lnTo>
                <a:lnTo>
                  <a:pt x="212" y="379"/>
                </a:lnTo>
                <a:lnTo>
                  <a:pt x="188" y="379"/>
                </a:lnTo>
                <a:lnTo>
                  <a:pt x="188" y="379"/>
                </a:lnTo>
                <a:lnTo>
                  <a:pt x="183" y="371"/>
                </a:lnTo>
                <a:lnTo>
                  <a:pt x="170" y="344"/>
                </a:lnTo>
                <a:lnTo>
                  <a:pt x="159" y="323"/>
                </a:lnTo>
                <a:lnTo>
                  <a:pt x="159" y="321"/>
                </a:lnTo>
                <a:lnTo>
                  <a:pt x="157" y="321"/>
                </a:lnTo>
                <a:lnTo>
                  <a:pt x="145" y="321"/>
                </a:lnTo>
                <a:lnTo>
                  <a:pt x="104" y="321"/>
                </a:lnTo>
                <a:lnTo>
                  <a:pt x="74" y="321"/>
                </a:lnTo>
                <a:lnTo>
                  <a:pt x="73" y="321"/>
                </a:lnTo>
                <a:lnTo>
                  <a:pt x="71" y="320"/>
                </a:lnTo>
                <a:lnTo>
                  <a:pt x="61" y="304"/>
                </a:lnTo>
                <a:lnTo>
                  <a:pt x="26" y="250"/>
                </a:lnTo>
                <a:lnTo>
                  <a:pt x="0" y="210"/>
                </a:lnTo>
                <a:lnTo>
                  <a:pt x="0" y="207"/>
                </a:lnTo>
                <a:lnTo>
                  <a:pt x="0" y="205"/>
                </a:lnTo>
                <a:lnTo>
                  <a:pt x="4" y="189"/>
                </a:lnTo>
                <a:lnTo>
                  <a:pt x="20" y="133"/>
                </a:lnTo>
                <a:lnTo>
                  <a:pt x="32" y="89"/>
                </a:lnTo>
                <a:lnTo>
                  <a:pt x="33" y="87"/>
                </a:lnTo>
                <a:lnTo>
                  <a:pt x="49" y="78"/>
                </a:lnTo>
                <a:lnTo>
                  <a:pt x="97" y="50"/>
                </a:lnTo>
                <a:lnTo>
                  <a:pt x="133" y="29"/>
                </a:lnTo>
                <a:lnTo>
                  <a:pt x="136" y="27"/>
                </a:lnTo>
                <a:lnTo>
                  <a:pt x="139" y="27"/>
                </a:lnTo>
                <a:lnTo>
                  <a:pt x="161" y="24"/>
                </a:lnTo>
                <a:lnTo>
                  <a:pt x="236" y="11"/>
                </a:lnTo>
                <a:lnTo>
                  <a:pt x="293" y="1"/>
                </a:lnTo>
                <a:lnTo>
                  <a:pt x="297" y="0"/>
                </a:lnTo>
                <a:lnTo>
                  <a:pt x="297" y="1"/>
                </a:lnTo>
                <a:lnTo>
                  <a:pt x="297" y="7"/>
                </a:lnTo>
                <a:lnTo>
                  <a:pt x="297" y="27"/>
                </a:lnTo>
                <a:lnTo>
                  <a:pt x="297" y="42"/>
                </a:lnTo>
                <a:lnTo>
                  <a:pt x="299" y="42"/>
                </a:lnTo>
                <a:lnTo>
                  <a:pt x="304" y="44"/>
                </a:lnTo>
                <a:lnTo>
                  <a:pt x="325" y="52"/>
                </a:lnTo>
                <a:lnTo>
                  <a:pt x="341" y="56"/>
                </a:lnTo>
                <a:lnTo>
                  <a:pt x="342" y="56"/>
                </a:lnTo>
                <a:lnTo>
                  <a:pt x="341" y="56"/>
                </a:lnTo>
                <a:lnTo>
                  <a:pt x="342" y="56"/>
                </a:lnTo>
                <a:lnTo>
                  <a:pt x="341" y="56"/>
                </a:lnTo>
                <a:lnTo>
                  <a:pt x="342" y="56"/>
                </a:lnTo>
                <a:lnTo>
                  <a:pt x="342" y="75"/>
                </a:lnTo>
                <a:lnTo>
                  <a:pt x="341" y="130"/>
                </a:lnTo>
                <a:lnTo>
                  <a:pt x="341" y="172"/>
                </a:lnTo>
                <a:lnTo>
                  <a:pt x="342" y="173"/>
                </a:lnTo>
                <a:lnTo>
                  <a:pt x="342" y="173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15080" y="3740040"/>
            <a:ext cx="139680" cy="169920"/>
          </a:xfrm>
          <a:custGeom>
            <a:avLst/>
            <a:gdLst/>
            <a:ahLst/>
            <a:rect l="l" t="t" r="r" b="b"/>
            <a:pathLst>
              <a:path w="402" h="514">
                <a:moveTo>
                  <a:pt x="63" y="14"/>
                </a:moveTo>
                <a:lnTo>
                  <a:pt x="62" y="16"/>
                </a:lnTo>
                <a:lnTo>
                  <a:pt x="56" y="20"/>
                </a:lnTo>
                <a:lnTo>
                  <a:pt x="34" y="33"/>
                </a:lnTo>
                <a:lnTo>
                  <a:pt x="18" y="43"/>
                </a:lnTo>
                <a:lnTo>
                  <a:pt x="18" y="43"/>
                </a:lnTo>
                <a:lnTo>
                  <a:pt x="24" y="50"/>
                </a:lnTo>
                <a:lnTo>
                  <a:pt x="42" y="71"/>
                </a:lnTo>
                <a:lnTo>
                  <a:pt x="55" y="85"/>
                </a:lnTo>
                <a:lnTo>
                  <a:pt x="56" y="85"/>
                </a:lnTo>
                <a:lnTo>
                  <a:pt x="55" y="87"/>
                </a:lnTo>
                <a:lnTo>
                  <a:pt x="52" y="92"/>
                </a:lnTo>
                <a:lnTo>
                  <a:pt x="39" y="114"/>
                </a:lnTo>
                <a:lnTo>
                  <a:pt x="29" y="130"/>
                </a:lnTo>
                <a:lnTo>
                  <a:pt x="29" y="130"/>
                </a:lnTo>
                <a:lnTo>
                  <a:pt x="27" y="130"/>
                </a:lnTo>
                <a:lnTo>
                  <a:pt x="23" y="130"/>
                </a:lnTo>
                <a:lnTo>
                  <a:pt x="10" y="130"/>
                </a:lnTo>
                <a:lnTo>
                  <a:pt x="0" y="130"/>
                </a:lnTo>
                <a:lnTo>
                  <a:pt x="0" y="130"/>
                </a:lnTo>
                <a:lnTo>
                  <a:pt x="0" y="132"/>
                </a:lnTo>
                <a:lnTo>
                  <a:pt x="3" y="142"/>
                </a:lnTo>
                <a:lnTo>
                  <a:pt x="13" y="176"/>
                </a:lnTo>
                <a:lnTo>
                  <a:pt x="21" y="203"/>
                </a:lnTo>
                <a:lnTo>
                  <a:pt x="23" y="203"/>
                </a:lnTo>
                <a:lnTo>
                  <a:pt x="33" y="207"/>
                </a:lnTo>
                <a:lnTo>
                  <a:pt x="66" y="216"/>
                </a:lnTo>
                <a:lnTo>
                  <a:pt x="92" y="221"/>
                </a:lnTo>
                <a:lnTo>
                  <a:pt x="94" y="221"/>
                </a:lnTo>
                <a:lnTo>
                  <a:pt x="94" y="229"/>
                </a:lnTo>
                <a:lnTo>
                  <a:pt x="92" y="249"/>
                </a:lnTo>
                <a:lnTo>
                  <a:pt x="92" y="265"/>
                </a:lnTo>
                <a:lnTo>
                  <a:pt x="94" y="265"/>
                </a:lnTo>
                <a:lnTo>
                  <a:pt x="98" y="268"/>
                </a:lnTo>
                <a:lnTo>
                  <a:pt x="111" y="275"/>
                </a:lnTo>
                <a:lnTo>
                  <a:pt x="121" y="281"/>
                </a:lnTo>
                <a:lnTo>
                  <a:pt x="123" y="281"/>
                </a:lnTo>
                <a:lnTo>
                  <a:pt x="123" y="285"/>
                </a:lnTo>
                <a:lnTo>
                  <a:pt x="127" y="311"/>
                </a:lnTo>
                <a:lnTo>
                  <a:pt x="140" y="401"/>
                </a:lnTo>
                <a:lnTo>
                  <a:pt x="150" y="469"/>
                </a:lnTo>
                <a:lnTo>
                  <a:pt x="152" y="472"/>
                </a:lnTo>
                <a:lnTo>
                  <a:pt x="156" y="479"/>
                </a:lnTo>
                <a:lnTo>
                  <a:pt x="171" y="500"/>
                </a:lnTo>
                <a:lnTo>
                  <a:pt x="181" y="514"/>
                </a:lnTo>
                <a:lnTo>
                  <a:pt x="182" y="514"/>
                </a:lnTo>
                <a:lnTo>
                  <a:pt x="185" y="514"/>
                </a:lnTo>
                <a:lnTo>
                  <a:pt x="216" y="504"/>
                </a:lnTo>
                <a:lnTo>
                  <a:pt x="318" y="469"/>
                </a:lnTo>
                <a:lnTo>
                  <a:pt x="398" y="443"/>
                </a:lnTo>
                <a:lnTo>
                  <a:pt x="402" y="442"/>
                </a:lnTo>
                <a:lnTo>
                  <a:pt x="395" y="431"/>
                </a:lnTo>
                <a:lnTo>
                  <a:pt x="373" y="397"/>
                </a:lnTo>
                <a:lnTo>
                  <a:pt x="358" y="371"/>
                </a:lnTo>
                <a:lnTo>
                  <a:pt x="358" y="369"/>
                </a:lnTo>
                <a:lnTo>
                  <a:pt x="346" y="365"/>
                </a:lnTo>
                <a:lnTo>
                  <a:pt x="311" y="350"/>
                </a:lnTo>
                <a:lnTo>
                  <a:pt x="285" y="340"/>
                </a:lnTo>
                <a:lnTo>
                  <a:pt x="285" y="339"/>
                </a:lnTo>
                <a:lnTo>
                  <a:pt x="285" y="326"/>
                </a:lnTo>
                <a:lnTo>
                  <a:pt x="284" y="284"/>
                </a:lnTo>
                <a:lnTo>
                  <a:pt x="284" y="253"/>
                </a:lnTo>
                <a:lnTo>
                  <a:pt x="285" y="250"/>
                </a:lnTo>
                <a:lnTo>
                  <a:pt x="287" y="249"/>
                </a:lnTo>
                <a:lnTo>
                  <a:pt x="302" y="233"/>
                </a:lnTo>
                <a:lnTo>
                  <a:pt x="358" y="176"/>
                </a:lnTo>
                <a:lnTo>
                  <a:pt x="400" y="134"/>
                </a:lnTo>
                <a:lnTo>
                  <a:pt x="402" y="132"/>
                </a:lnTo>
                <a:lnTo>
                  <a:pt x="400" y="133"/>
                </a:lnTo>
                <a:lnTo>
                  <a:pt x="381" y="134"/>
                </a:lnTo>
                <a:lnTo>
                  <a:pt x="317" y="142"/>
                </a:lnTo>
                <a:lnTo>
                  <a:pt x="268" y="146"/>
                </a:lnTo>
                <a:lnTo>
                  <a:pt x="266" y="146"/>
                </a:lnTo>
                <a:lnTo>
                  <a:pt x="263" y="145"/>
                </a:lnTo>
                <a:lnTo>
                  <a:pt x="245" y="124"/>
                </a:lnTo>
                <a:lnTo>
                  <a:pt x="179" y="55"/>
                </a:lnTo>
                <a:lnTo>
                  <a:pt x="130" y="3"/>
                </a:lnTo>
                <a:lnTo>
                  <a:pt x="129" y="0"/>
                </a:lnTo>
                <a:lnTo>
                  <a:pt x="127" y="0"/>
                </a:lnTo>
                <a:lnTo>
                  <a:pt x="129" y="0"/>
                </a:lnTo>
                <a:lnTo>
                  <a:pt x="127" y="0"/>
                </a:lnTo>
                <a:lnTo>
                  <a:pt x="129" y="0"/>
                </a:lnTo>
                <a:lnTo>
                  <a:pt x="117" y="3"/>
                </a:lnTo>
                <a:lnTo>
                  <a:pt x="87" y="10"/>
                </a:lnTo>
                <a:lnTo>
                  <a:pt x="63" y="14"/>
                </a:lnTo>
                <a:lnTo>
                  <a:pt x="63" y="14"/>
                </a:lnTo>
                <a:lnTo>
                  <a:pt x="63" y="14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713720" y="3782880"/>
            <a:ext cx="111240" cy="103320"/>
          </a:xfrm>
          <a:custGeom>
            <a:avLst/>
            <a:gdLst/>
            <a:ahLst/>
            <a:rect l="l" t="t" r="r" b="b"/>
            <a:pathLst>
              <a:path w="324" h="314">
                <a:moveTo>
                  <a:pt x="1" y="121"/>
                </a:moveTo>
                <a:lnTo>
                  <a:pt x="1" y="136"/>
                </a:lnTo>
                <a:lnTo>
                  <a:pt x="0" y="178"/>
                </a:lnTo>
                <a:lnTo>
                  <a:pt x="0" y="208"/>
                </a:lnTo>
                <a:lnTo>
                  <a:pt x="1" y="210"/>
                </a:lnTo>
                <a:lnTo>
                  <a:pt x="13" y="216"/>
                </a:lnTo>
                <a:lnTo>
                  <a:pt x="49" y="230"/>
                </a:lnTo>
                <a:lnTo>
                  <a:pt x="76" y="242"/>
                </a:lnTo>
                <a:lnTo>
                  <a:pt x="79" y="242"/>
                </a:lnTo>
                <a:lnTo>
                  <a:pt x="85" y="253"/>
                </a:lnTo>
                <a:lnTo>
                  <a:pt x="103" y="288"/>
                </a:lnTo>
                <a:lnTo>
                  <a:pt x="116" y="314"/>
                </a:lnTo>
                <a:lnTo>
                  <a:pt x="117" y="314"/>
                </a:lnTo>
                <a:lnTo>
                  <a:pt x="123" y="307"/>
                </a:lnTo>
                <a:lnTo>
                  <a:pt x="145" y="287"/>
                </a:lnTo>
                <a:lnTo>
                  <a:pt x="160" y="269"/>
                </a:lnTo>
                <a:lnTo>
                  <a:pt x="162" y="268"/>
                </a:lnTo>
                <a:lnTo>
                  <a:pt x="171" y="274"/>
                </a:lnTo>
                <a:lnTo>
                  <a:pt x="198" y="288"/>
                </a:lnTo>
                <a:lnTo>
                  <a:pt x="220" y="298"/>
                </a:lnTo>
                <a:lnTo>
                  <a:pt x="221" y="298"/>
                </a:lnTo>
                <a:lnTo>
                  <a:pt x="223" y="298"/>
                </a:lnTo>
                <a:lnTo>
                  <a:pt x="231" y="297"/>
                </a:lnTo>
                <a:lnTo>
                  <a:pt x="266" y="289"/>
                </a:lnTo>
                <a:lnTo>
                  <a:pt x="292" y="285"/>
                </a:lnTo>
                <a:lnTo>
                  <a:pt x="295" y="284"/>
                </a:lnTo>
                <a:lnTo>
                  <a:pt x="295" y="282"/>
                </a:lnTo>
                <a:lnTo>
                  <a:pt x="300" y="266"/>
                </a:lnTo>
                <a:lnTo>
                  <a:pt x="313" y="211"/>
                </a:lnTo>
                <a:lnTo>
                  <a:pt x="323" y="169"/>
                </a:lnTo>
                <a:lnTo>
                  <a:pt x="324" y="166"/>
                </a:lnTo>
                <a:lnTo>
                  <a:pt x="318" y="160"/>
                </a:lnTo>
                <a:lnTo>
                  <a:pt x="305" y="139"/>
                </a:lnTo>
                <a:lnTo>
                  <a:pt x="295" y="123"/>
                </a:lnTo>
                <a:lnTo>
                  <a:pt x="295" y="121"/>
                </a:lnTo>
                <a:lnTo>
                  <a:pt x="298" y="114"/>
                </a:lnTo>
                <a:lnTo>
                  <a:pt x="310" y="88"/>
                </a:lnTo>
                <a:lnTo>
                  <a:pt x="318" y="68"/>
                </a:lnTo>
                <a:lnTo>
                  <a:pt x="320" y="66"/>
                </a:lnTo>
                <a:lnTo>
                  <a:pt x="318" y="66"/>
                </a:lnTo>
                <a:lnTo>
                  <a:pt x="308" y="66"/>
                </a:lnTo>
                <a:lnTo>
                  <a:pt x="278" y="62"/>
                </a:lnTo>
                <a:lnTo>
                  <a:pt x="253" y="61"/>
                </a:lnTo>
                <a:lnTo>
                  <a:pt x="253" y="59"/>
                </a:lnTo>
                <a:lnTo>
                  <a:pt x="237" y="50"/>
                </a:lnTo>
                <a:lnTo>
                  <a:pt x="189" y="23"/>
                </a:lnTo>
                <a:lnTo>
                  <a:pt x="153" y="1"/>
                </a:lnTo>
                <a:lnTo>
                  <a:pt x="152" y="0"/>
                </a:lnTo>
                <a:lnTo>
                  <a:pt x="146" y="1"/>
                </a:lnTo>
                <a:lnTo>
                  <a:pt x="130" y="3"/>
                </a:lnTo>
                <a:lnTo>
                  <a:pt x="117" y="3"/>
                </a:lnTo>
                <a:lnTo>
                  <a:pt x="117" y="3"/>
                </a:lnTo>
                <a:lnTo>
                  <a:pt x="116" y="3"/>
                </a:lnTo>
                <a:lnTo>
                  <a:pt x="117" y="3"/>
                </a:lnTo>
                <a:lnTo>
                  <a:pt x="116" y="3"/>
                </a:lnTo>
                <a:lnTo>
                  <a:pt x="117" y="3"/>
                </a:lnTo>
                <a:lnTo>
                  <a:pt x="114" y="5"/>
                </a:lnTo>
                <a:lnTo>
                  <a:pt x="98" y="21"/>
                </a:lnTo>
                <a:lnTo>
                  <a:pt x="45" y="78"/>
                </a:lnTo>
                <a:lnTo>
                  <a:pt x="3" y="120"/>
                </a:lnTo>
                <a:lnTo>
                  <a:pt x="1" y="121"/>
                </a:lnTo>
                <a:lnTo>
                  <a:pt x="1" y="121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815240" y="3805200"/>
            <a:ext cx="57240" cy="81000"/>
          </a:xfrm>
          <a:custGeom>
            <a:avLst/>
            <a:gdLst/>
            <a:ahLst/>
            <a:rect l="l" t="t" r="r" b="b"/>
            <a:pathLst>
              <a:path w="167" h="248">
                <a:moveTo>
                  <a:pt x="0" y="56"/>
                </a:moveTo>
                <a:lnTo>
                  <a:pt x="5" y="64"/>
                </a:lnTo>
                <a:lnTo>
                  <a:pt x="18" y="85"/>
                </a:lnTo>
                <a:lnTo>
                  <a:pt x="28" y="101"/>
                </a:lnTo>
                <a:lnTo>
                  <a:pt x="29" y="101"/>
                </a:lnTo>
                <a:lnTo>
                  <a:pt x="28" y="104"/>
                </a:lnTo>
                <a:lnTo>
                  <a:pt x="23" y="120"/>
                </a:lnTo>
                <a:lnTo>
                  <a:pt x="10" y="175"/>
                </a:lnTo>
                <a:lnTo>
                  <a:pt x="0" y="217"/>
                </a:lnTo>
                <a:lnTo>
                  <a:pt x="0" y="219"/>
                </a:lnTo>
                <a:lnTo>
                  <a:pt x="6" y="224"/>
                </a:lnTo>
                <a:lnTo>
                  <a:pt x="26" y="237"/>
                </a:lnTo>
                <a:lnTo>
                  <a:pt x="42" y="248"/>
                </a:lnTo>
                <a:lnTo>
                  <a:pt x="44" y="248"/>
                </a:lnTo>
                <a:lnTo>
                  <a:pt x="49" y="246"/>
                </a:lnTo>
                <a:lnTo>
                  <a:pt x="71" y="239"/>
                </a:lnTo>
                <a:lnTo>
                  <a:pt x="87" y="235"/>
                </a:lnTo>
                <a:lnTo>
                  <a:pt x="89" y="233"/>
                </a:lnTo>
                <a:lnTo>
                  <a:pt x="90" y="230"/>
                </a:lnTo>
                <a:lnTo>
                  <a:pt x="100" y="210"/>
                </a:lnTo>
                <a:lnTo>
                  <a:pt x="136" y="140"/>
                </a:lnTo>
                <a:lnTo>
                  <a:pt x="164" y="87"/>
                </a:lnTo>
                <a:lnTo>
                  <a:pt x="167" y="82"/>
                </a:lnTo>
                <a:lnTo>
                  <a:pt x="164" y="81"/>
                </a:lnTo>
                <a:lnTo>
                  <a:pt x="149" y="71"/>
                </a:lnTo>
                <a:lnTo>
                  <a:pt x="99" y="36"/>
                </a:lnTo>
                <a:lnTo>
                  <a:pt x="61" y="10"/>
                </a:lnTo>
                <a:lnTo>
                  <a:pt x="60" y="7"/>
                </a:lnTo>
                <a:lnTo>
                  <a:pt x="58" y="7"/>
                </a:lnTo>
                <a:lnTo>
                  <a:pt x="54" y="7"/>
                </a:lnTo>
                <a:lnTo>
                  <a:pt x="38" y="3"/>
                </a:lnTo>
                <a:lnTo>
                  <a:pt x="25" y="1"/>
                </a:lnTo>
                <a:lnTo>
                  <a:pt x="25" y="0"/>
                </a:lnTo>
                <a:lnTo>
                  <a:pt x="23" y="0"/>
                </a:lnTo>
                <a:lnTo>
                  <a:pt x="25" y="0"/>
                </a:lnTo>
                <a:lnTo>
                  <a:pt x="23" y="0"/>
                </a:lnTo>
                <a:lnTo>
                  <a:pt x="25" y="0"/>
                </a:lnTo>
                <a:lnTo>
                  <a:pt x="23" y="1"/>
                </a:lnTo>
                <a:lnTo>
                  <a:pt x="20" y="10"/>
                </a:lnTo>
                <a:lnTo>
                  <a:pt x="9" y="36"/>
                </a:lnTo>
                <a:lnTo>
                  <a:pt x="0" y="56"/>
                </a:lnTo>
                <a:lnTo>
                  <a:pt x="0" y="56"/>
                </a:lnTo>
                <a:lnTo>
                  <a:pt x="0" y="56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94680" y="3808440"/>
            <a:ext cx="1028520" cy="915840"/>
          </a:xfrm>
          <a:custGeom>
            <a:avLst/>
            <a:gdLst/>
            <a:ahLst/>
            <a:rect l="l" t="t" r="r" b="b"/>
            <a:pathLst>
              <a:path w="2983" h="2805">
                <a:moveTo>
                  <a:pt x="1716" y="100"/>
                </a:moveTo>
                <a:lnTo>
                  <a:pt x="1727" y="118"/>
                </a:lnTo>
                <a:lnTo>
                  <a:pt x="1761" y="172"/>
                </a:lnTo>
                <a:lnTo>
                  <a:pt x="1787" y="214"/>
                </a:lnTo>
                <a:lnTo>
                  <a:pt x="1789" y="215"/>
                </a:lnTo>
                <a:lnTo>
                  <a:pt x="1798" y="221"/>
                </a:lnTo>
                <a:lnTo>
                  <a:pt x="1825" y="236"/>
                </a:lnTo>
                <a:lnTo>
                  <a:pt x="1847" y="246"/>
                </a:lnTo>
                <a:lnTo>
                  <a:pt x="1848" y="246"/>
                </a:lnTo>
                <a:lnTo>
                  <a:pt x="1844" y="252"/>
                </a:lnTo>
                <a:lnTo>
                  <a:pt x="1822" y="281"/>
                </a:lnTo>
                <a:lnTo>
                  <a:pt x="1747" y="385"/>
                </a:lnTo>
                <a:lnTo>
                  <a:pt x="1689" y="463"/>
                </a:lnTo>
                <a:lnTo>
                  <a:pt x="1686" y="468"/>
                </a:lnTo>
                <a:lnTo>
                  <a:pt x="1687" y="468"/>
                </a:lnTo>
                <a:lnTo>
                  <a:pt x="1700" y="465"/>
                </a:lnTo>
                <a:lnTo>
                  <a:pt x="1745" y="455"/>
                </a:lnTo>
                <a:lnTo>
                  <a:pt x="1779" y="446"/>
                </a:lnTo>
                <a:lnTo>
                  <a:pt x="1782" y="444"/>
                </a:lnTo>
                <a:lnTo>
                  <a:pt x="1792" y="437"/>
                </a:lnTo>
                <a:lnTo>
                  <a:pt x="1822" y="413"/>
                </a:lnTo>
                <a:lnTo>
                  <a:pt x="1847" y="394"/>
                </a:lnTo>
                <a:lnTo>
                  <a:pt x="1848" y="392"/>
                </a:lnTo>
                <a:lnTo>
                  <a:pt x="1857" y="394"/>
                </a:lnTo>
                <a:lnTo>
                  <a:pt x="1884" y="394"/>
                </a:lnTo>
                <a:lnTo>
                  <a:pt x="1906" y="394"/>
                </a:lnTo>
                <a:lnTo>
                  <a:pt x="1908" y="394"/>
                </a:lnTo>
                <a:lnTo>
                  <a:pt x="1905" y="404"/>
                </a:lnTo>
                <a:lnTo>
                  <a:pt x="1897" y="431"/>
                </a:lnTo>
                <a:lnTo>
                  <a:pt x="1893" y="453"/>
                </a:lnTo>
                <a:lnTo>
                  <a:pt x="1893" y="453"/>
                </a:lnTo>
                <a:lnTo>
                  <a:pt x="1890" y="455"/>
                </a:lnTo>
                <a:lnTo>
                  <a:pt x="1880" y="456"/>
                </a:lnTo>
                <a:lnTo>
                  <a:pt x="1845" y="463"/>
                </a:lnTo>
                <a:lnTo>
                  <a:pt x="1819" y="468"/>
                </a:lnTo>
                <a:lnTo>
                  <a:pt x="1818" y="468"/>
                </a:lnTo>
                <a:lnTo>
                  <a:pt x="1831" y="473"/>
                </a:lnTo>
                <a:lnTo>
                  <a:pt x="1873" y="486"/>
                </a:lnTo>
                <a:lnTo>
                  <a:pt x="1905" y="497"/>
                </a:lnTo>
                <a:lnTo>
                  <a:pt x="1908" y="497"/>
                </a:lnTo>
                <a:lnTo>
                  <a:pt x="1918" y="486"/>
                </a:lnTo>
                <a:lnTo>
                  <a:pt x="1953" y="452"/>
                </a:lnTo>
                <a:lnTo>
                  <a:pt x="1979" y="426"/>
                </a:lnTo>
                <a:lnTo>
                  <a:pt x="1980" y="423"/>
                </a:lnTo>
                <a:lnTo>
                  <a:pt x="1983" y="423"/>
                </a:lnTo>
                <a:lnTo>
                  <a:pt x="2009" y="421"/>
                </a:lnTo>
                <a:lnTo>
                  <a:pt x="2095" y="414"/>
                </a:lnTo>
                <a:lnTo>
                  <a:pt x="2161" y="410"/>
                </a:lnTo>
                <a:lnTo>
                  <a:pt x="2166" y="408"/>
                </a:lnTo>
                <a:lnTo>
                  <a:pt x="2166" y="410"/>
                </a:lnTo>
                <a:lnTo>
                  <a:pt x="2167" y="414"/>
                </a:lnTo>
                <a:lnTo>
                  <a:pt x="2174" y="431"/>
                </a:lnTo>
                <a:lnTo>
                  <a:pt x="2179" y="444"/>
                </a:lnTo>
                <a:lnTo>
                  <a:pt x="2180" y="444"/>
                </a:lnTo>
                <a:lnTo>
                  <a:pt x="2184" y="444"/>
                </a:lnTo>
                <a:lnTo>
                  <a:pt x="2197" y="440"/>
                </a:lnTo>
                <a:lnTo>
                  <a:pt x="2208" y="439"/>
                </a:lnTo>
                <a:lnTo>
                  <a:pt x="2209" y="437"/>
                </a:lnTo>
                <a:lnTo>
                  <a:pt x="2209" y="447"/>
                </a:lnTo>
                <a:lnTo>
                  <a:pt x="2208" y="475"/>
                </a:lnTo>
                <a:lnTo>
                  <a:pt x="2208" y="497"/>
                </a:lnTo>
                <a:lnTo>
                  <a:pt x="2209" y="497"/>
                </a:lnTo>
                <a:lnTo>
                  <a:pt x="2215" y="499"/>
                </a:lnTo>
                <a:lnTo>
                  <a:pt x="2235" y="507"/>
                </a:lnTo>
                <a:lnTo>
                  <a:pt x="2250" y="513"/>
                </a:lnTo>
                <a:lnTo>
                  <a:pt x="2251" y="513"/>
                </a:lnTo>
                <a:lnTo>
                  <a:pt x="2250" y="514"/>
                </a:lnTo>
                <a:lnTo>
                  <a:pt x="2248" y="517"/>
                </a:lnTo>
                <a:lnTo>
                  <a:pt x="2242" y="528"/>
                </a:lnTo>
                <a:lnTo>
                  <a:pt x="2238" y="537"/>
                </a:lnTo>
                <a:lnTo>
                  <a:pt x="2238" y="537"/>
                </a:lnTo>
                <a:lnTo>
                  <a:pt x="2239" y="537"/>
                </a:lnTo>
                <a:lnTo>
                  <a:pt x="2258" y="536"/>
                </a:lnTo>
                <a:lnTo>
                  <a:pt x="2322" y="530"/>
                </a:lnTo>
                <a:lnTo>
                  <a:pt x="2371" y="526"/>
                </a:lnTo>
                <a:lnTo>
                  <a:pt x="2374" y="524"/>
                </a:lnTo>
                <a:lnTo>
                  <a:pt x="2376" y="526"/>
                </a:lnTo>
                <a:lnTo>
                  <a:pt x="2392" y="533"/>
                </a:lnTo>
                <a:lnTo>
                  <a:pt x="2444" y="555"/>
                </a:lnTo>
                <a:lnTo>
                  <a:pt x="2483" y="572"/>
                </a:lnTo>
                <a:lnTo>
                  <a:pt x="2486" y="572"/>
                </a:lnTo>
                <a:lnTo>
                  <a:pt x="2494" y="563"/>
                </a:lnTo>
                <a:lnTo>
                  <a:pt x="2523" y="534"/>
                </a:lnTo>
                <a:lnTo>
                  <a:pt x="2545" y="513"/>
                </a:lnTo>
                <a:lnTo>
                  <a:pt x="2547" y="511"/>
                </a:lnTo>
                <a:lnTo>
                  <a:pt x="2555" y="514"/>
                </a:lnTo>
                <a:lnTo>
                  <a:pt x="2581" y="521"/>
                </a:lnTo>
                <a:lnTo>
                  <a:pt x="2602" y="527"/>
                </a:lnTo>
                <a:lnTo>
                  <a:pt x="2603" y="527"/>
                </a:lnTo>
                <a:lnTo>
                  <a:pt x="2606" y="531"/>
                </a:lnTo>
                <a:lnTo>
                  <a:pt x="2632" y="553"/>
                </a:lnTo>
                <a:lnTo>
                  <a:pt x="2719" y="626"/>
                </a:lnTo>
                <a:lnTo>
                  <a:pt x="2786" y="682"/>
                </a:lnTo>
                <a:lnTo>
                  <a:pt x="2790" y="685"/>
                </a:lnTo>
                <a:lnTo>
                  <a:pt x="2797" y="686"/>
                </a:lnTo>
                <a:lnTo>
                  <a:pt x="2822" y="688"/>
                </a:lnTo>
                <a:lnTo>
                  <a:pt x="2841" y="688"/>
                </a:lnTo>
                <a:lnTo>
                  <a:pt x="2842" y="688"/>
                </a:lnTo>
                <a:lnTo>
                  <a:pt x="2849" y="683"/>
                </a:lnTo>
                <a:lnTo>
                  <a:pt x="2873" y="670"/>
                </a:lnTo>
                <a:lnTo>
                  <a:pt x="2891" y="660"/>
                </a:lnTo>
                <a:lnTo>
                  <a:pt x="2893" y="659"/>
                </a:lnTo>
                <a:lnTo>
                  <a:pt x="2900" y="665"/>
                </a:lnTo>
                <a:lnTo>
                  <a:pt x="2926" y="678"/>
                </a:lnTo>
                <a:lnTo>
                  <a:pt x="2945" y="688"/>
                </a:lnTo>
                <a:lnTo>
                  <a:pt x="2946" y="688"/>
                </a:lnTo>
                <a:lnTo>
                  <a:pt x="2946" y="692"/>
                </a:lnTo>
                <a:lnTo>
                  <a:pt x="2951" y="720"/>
                </a:lnTo>
                <a:lnTo>
                  <a:pt x="2968" y="812"/>
                </a:lnTo>
                <a:lnTo>
                  <a:pt x="2981" y="883"/>
                </a:lnTo>
                <a:lnTo>
                  <a:pt x="2983" y="886"/>
                </a:lnTo>
                <a:lnTo>
                  <a:pt x="2981" y="889"/>
                </a:lnTo>
                <a:lnTo>
                  <a:pt x="2977" y="902"/>
                </a:lnTo>
                <a:lnTo>
                  <a:pt x="2962" y="947"/>
                </a:lnTo>
                <a:lnTo>
                  <a:pt x="2952" y="982"/>
                </a:lnTo>
                <a:lnTo>
                  <a:pt x="2952" y="983"/>
                </a:lnTo>
                <a:lnTo>
                  <a:pt x="2951" y="985"/>
                </a:lnTo>
                <a:lnTo>
                  <a:pt x="2941" y="989"/>
                </a:lnTo>
                <a:lnTo>
                  <a:pt x="2910" y="1004"/>
                </a:lnTo>
                <a:lnTo>
                  <a:pt x="2886" y="1014"/>
                </a:lnTo>
                <a:lnTo>
                  <a:pt x="2886" y="1014"/>
                </a:lnTo>
                <a:lnTo>
                  <a:pt x="2881" y="1018"/>
                </a:lnTo>
                <a:lnTo>
                  <a:pt x="2858" y="1047"/>
                </a:lnTo>
                <a:lnTo>
                  <a:pt x="2780" y="1147"/>
                </a:lnTo>
                <a:lnTo>
                  <a:pt x="2720" y="1224"/>
                </a:lnTo>
                <a:lnTo>
                  <a:pt x="2718" y="1227"/>
                </a:lnTo>
                <a:lnTo>
                  <a:pt x="2716" y="1228"/>
                </a:lnTo>
                <a:lnTo>
                  <a:pt x="2709" y="1234"/>
                </a:lnTo>
                <a:lnTo>
                  <a:pt x="2683" y="1251"/>
                </a:lnTo>
                <a:lnTo>
                  <a:pt x="2664" y="1266"/>
                </a:lnTo>
                <a:lnTo>
                  <a:pt x="2664" y="1266"/>
                </a:lnTo>
                <a:lnTo>
                  <a:pt x="2664" y="1269"/>
                </a:lnTo>
                <a:lnTo>
                  <a:pt x="2665" y="1288"/>
                </a:lnTo>
                <a:lnTo>
                  <a:pt x="2670" y="1351"/>
                </a:lnTo>
                <a:lnTo>
                  <a:pt x="2673" y="1399"/>
                </a:lnTo>
                <a:lnTo>
                  <a:pt x="2674" y="1401"/>
                </a:lnTo>
                <a:lnTo>
                  <a:pt x="2673" y="1404"/>
                </a:lnTo>
                <a:lnTo>
                  <a:pt x="2667" y="1420"/>
                </a:lnTo>
                <a:lnTo>
                  <a:pt x="2649" y="1472"/>
                </a:lnTo>
                <a:lnTo>
                  <a:pt x="2636" y="1512"/>
                </a:lnTo>
                <a:lnTo>
                  <a:pt x="2636" y="1514"/>
                </a:lnTo>
                <a:lnTo>
                  <a:pt x="2636" y="1533"/>
                </a:lnTo>
                <a:lnTo>
                  <a:pt x="2635" y="1589"/>
                </a:lnTo>
                <a:lnTo>
                  <a:pt x="2635" y="1631"/>
                </a:lnTo>
                <a:lnTo>
                  <a:pt x="2636" y="1633"/>
                </a:lnTo>
                <a:lnTo>
                  <a:pt x="2632" y="1640"/>
                </a:lnTo>
                <a:lnTo>
                  <a:pt x="2606" y="1688"/>
                </a:lnTo>
                <a:lnTo>
                  <a:pt x="2516" y="1848"/>
                </a:lnTo>
                <a:lnTo>
                  <a:pt x="2448" y="1972"/>
                </a:lnTo>
                <a:lnTo>
                  <a:pt x="2445" y="1977"/>
                </a:lnTo>
                <a:lnTo>
                  <a:pt x="2444" y="1979"/>
                </a:lnTo>
                <a:lnTo>
                  <a:pt x="2438" y="1983"/>
                </a:lnTo>
                <a:lnTo>
                  <a:pt x="2418" y="1999"/>
                </a:lnTo>
                <a:lnTo>
                  <a:pt x="2402" y="2011"/>
                </a:lnTo>
                <a:lnTo>
                  <a:pt x="2402" y="2011"/>
                </a:lnTo>
                <a:lnTo>
                  <a:pt x="2386" y="2012"/>
                </a:lnTo>
                <a:lnTo>
                  <a:pt x="2339" y="2014"/>
                </a:lnTo>
                <a:lnTo>
                  <a:pt x="2305" y="2014"/>
                </a:lnTo>
                <a:lnTo>
                  <a:pt x="2303" y="2014"/>
                </a:lnTo>
                <a:lnTo>
                  <a:pt x="2300" y="2017"/>
                </a:lnTo>
                <a:lnTo>
                  <a:pt x="2283" y="2027"/>
                </a:lnTo>
                <a:lnTo>
                  <a:pt x="2225" y="2066"/>
                </a:lnTo>
                <a:lnTo>
                  <a:pt x="2181" y="2095"/>
                </a:lnTo>
                <a:lnTo>
                  <a:pt x="2180" y="2096"/>
                </a:lnTo>
                <a:lnTo>
                  <a:pt x="2179" y="2096"/>
                </a:lnTo>
                <a:lnTo>
                  <a:pt x="2170" y="2096"/>
                </a:lnTo>
                <a:lnTo>
                  <a:pt x="2142" y="2096"/>
                </a:lnTo>
                <a:lnTo>
                  <a:pt x="2121" y="2096"/>
                </a:lnTo>
                <a:lnTo>
                  <a:pt x="2121" y="2096"/>
                </a:lnTo>
                <a:lnTo>
                  <a:pt x="2116" y="2099"/>
                </a:lnTo>
                <a:lnTo>
                  <a:pt x="2092" y="2118"/>
                </a:lnTo>
                <a:lnTo>
                  <a:pt x="2005" y="2179"/>
                </a:lnTo>
                <a:lnTo>
                  <a:pt x="1938" y="2227"/>
                </a:lnTo>
                <a:lnTo>
                  <a:pt x="1935" y="2228"/>
                </a:lnTo>
                <a:lnTo>
                  <a:pt x="1934" y="2232"/>
                </a:lnTo>
                <a:lnTo>
                  <a:pt x="1932" y="2260"/>
                </a:lnTo>
                <a:lnTo>
                  <a:pt x="1925" y="2353"/>
                </a:lnTo>
                <a:lnTo>
                  <a:pt x="1921" y="2424"/>
                </a:lnTo>
                <a:lnTo>
                  <a:pt x="1921" y="2427"/>
                </a:lnTo>
                <a:lnTo>
                  <a:pt x="1916" y="2432"/>
                </a:lnTo>
                <a:lnTo>
                  <a:pt x="1892" y="2470"/>
                </a:lnTo>
                <a:lnTo>
                  <a:pt x="1809" y="2596"/>
                </a:lnTo>
                <a:lnTo>
                  <a:pt x="1745" y="2693"/>
                </a:lnTo>
                <a:lnTo>
                  <a:pt x="1742" y="2698"/>
                </a:lnTo>
                <a:lnTo>
                  <a:pt x="1735" y="2700"/>
                </a:lnTo>
                <a:lnTo>
                  <a:pt x="1716" y="2705"/>
                </a:lnTo>
                <a:lnTo>
                  <a:pt x="1702" y="2708"/>
                </a:lnTo>
                <a:lnTo>
                  <a:pt x="1702" y="2708"/>
                </a:lnTo>
                <a:lnTo>
                  <a:pt x="1702" y="2705"/>
                </a:lnTo>
                <a:lnTo>
                  <a:pt x="1708" y="2683"/>
                </a:lnTo>
                <a:lnTo>
                  <a:pt x="1728" y="2608"/>
                </a:lnTo>
                <a:lnTo>
                  <a:pt x="1742" y="2550"/>
                </a:lnTo>
                <a:lnTo>
                  <a:pt x="1744" y="2545"/>
                </a:lnTo>
                <a:lnTo>
                  <a:pt x="1742" y="2547"/>
                </a:lnTo>
                <a:lnTo>
                  <a:pt x="1740" y="2548"/>
                </a:lnTo>
                <a:lnTo>
                  <a:pt x="1727" y="2556"/>
                </a:lnTo>
                <a:lnTo>
                  <a:pt x="1716" y="2560"/>
                </a:lnTo>
                <a:lnTo>
                  <a:pt x="1716" y="2560"/>
                </a:lnTo>
                <a:lnTo>
                  <a:pt x="1713" y="2566"/>
                </a:lnTo>
                <a:lnTo>
                  <a:pt x="1702" y="2599"/>
                </a:lnTo>
                <a:lnTo>
                  <a:pt x="1663" y="2714"/>
                </a:lnTo>
                <a:lnTo>
                  <a:pt x="1632" y="2800"/>
                </a:lnTo>
                <a:lnTo>
                  <a:pt x="1631" y="2805"/>
                </a:lnTo>
                <a:lnTo>
                  <a:pt x="1618" y="2795"/>
                </a:lnTo>
                <a:lnTo>
                  <a:pt x="1582" y="2763"/>
                </a:lnTo>
                <a:lnTo>
                  <a:pt x="1554" y="2737"/>
                </a:lnTo>
                <a:lnTo>
                  <a:pt x="1553" y="2735"/>
                </a:lnTo>
                <a:lnTo>
                  <a:pt x="1553" y="2729"/>
                </a:lnTo>
                <a:lnTo>
                  <a:pt x="1551" y="2709"/>
                </a:lnTo>
                <a:lnTo>
                  <a:pt x="1551" y="2695"/>
                </a:lnTo>
                <a:lnTo>
                  <a:pt x="1553" y="2693"/>
                </a:lnTo>
                <a:lnTo>
                  <a:pt x="1538" y="2685"/>
                </a:lnTo>
                <a:lnTo>
                  <a:pt x="1498" y="2656"/>
                </a:lnTo>
                <a:lnTo>
                  <a:pt x="1467" y="2634"/>
                </a:lnTo>
                <a:lnTo>
                  <a:pt x="1466" y="2632"/>
                </a:lnTo>
                <a:lnTo>
                  <a:pt x="1464" y="2632"/>
                </a:lnTo>
                <a:lnTo>
                  <a:pt x="1457" y="2632"/>
                </a:lnTo>
                <a:lnTo>
                  <a:pt x="1432" y="2632"/>
                </a:lnTo>
                <a:lnTo>
                  <a:pt x="1414" y="2632"/>
                </a:lnTo>
                <a:lnTo>
                  <a:pt x="1414" y="2632"/>
                </a:lnTo>
                <a:lnTo>
                  <a:pt x="1411" y="2624"/>
                </a:lnTo>
                <a:lnTo>
                  <a:pt x="1403" y="2598"/>
                </a:lnTo>
                <a:lnTo>
                  <a:pt x="1399" y="2576"/>
                </a:lnTo>
                <a:lnTo>
                  <a:pt x="1399" y="2574"/>
                </a:lnTo>
                <a:lnTo>
                  <a:pt x="1389" y="2570"/>
                </a:lnTo>
                <a:lnTo>
                  <a:pt x="1361" y="2557"/>
                </a:lnTo>
                <a:lnTo>
                  <a:pt x="1340" y="2547"/>
                </a:lnTo>
                <a:lnTo>
                  <a:pt x="1340" y="2545"/>
                </a:lnTo>
                <a:lnTo>
                  <a:pt x="1344" y="2543"/>
                </a:lnTo>
                <a:lnTo>
                  <a:pt x="1377" y="2518"/>
                </a:lnTo>
                <a:lnTo>
                  <a:pt x="1492" y="2435"/>
                </a:lnTo>
                <a:lnTo>
                  <a:pt x="1579" y="2372"/>
                </a:lnTo>
                <a:lnTo>
                  <a:pt x="1585" y="2367"/>
                </a:lnTo>
                <a:lnTo>
                  <a:pt x="1582" y="2351"/>
                </a:lnTo>
                <a:lnTo>
                  <a:pt x="1573" y="2301"/>
                </a:lnTo>
                <a:lnTo>
                  <a:pt x="1567" y="2261"/>
                </a:lnTo>
                <a:lnTo>
                  <a:pt x="1567" y="2259"/>
                </a:lnTo>
                <a:lnTo>
                  <a:pt x="1566" y="2259"/>
                </a:lnTo>
                <a:lnTo>
                  <a:pt x="1564" y="2259"/>
                </a:lnTo>
                <a:lnTo>
                  <a:pt x="1557" y="2259"/>
                </a:lnTo>
                <a:lnTo>
                  <a:pt x="1553" y="2259"/>
                </a:lnTo>
                <a:lnTo>
                  <a:pt x="1553" y="2259"/>
                </a:lnTo>
                <a:lnTo>
                  <a:pt x="1553" y="2246"/>
                </a:lnTo>
                <a:lnTo>
                  <a:pt x="1551" y="2203"/>
                </a:lnTo>
                <a:lnTo>
                  <a:pt x="1551" y="2172"/>
                </a:lnTo>
                <a:lnTo>
                  <a:pt x="1553" y="2169"/>
                </a:lnTo>
                <a:lnTo>
                  <a:pt x="1543" y="2164"/>
                </a:lnTo>
                <a:lnTo>
                  <a:pt x="1516" y="2151"/>
                </a:lnTo>
                <a:lnTo>
                  <a:pt x="1495" y="2141"/>
                </a:lnTo>
                <a:lnTo>
                  <a:pt x="1495" y="2140"/>
                </a:lnTo>
                <a:lnTo>
                  <a:pt x="1495" y="2130"/>
                </a:lnTo>
                <a:lnTo>
                  <a:pt x="1493" y="2095"/>
                </a:lnTo>
                <a:lnTo>
                  <a:pt x="1493" y="2069"/>
                </a:lnTo>
                <a:lnTo>
                  <a:pt x="1495" y="2067"/>
                </a:lnTo>
                <a:lnTo>
                  <a:pt x="1473" y="2059"/>
                </a:lnTo>
                <a:lnTo>
                  <a:pt x="1409" y="2031"/>
                </a:lnTo>
                <a:lnTo>
                  <a:pt x="1361" y="2009"/>
                </a:lnTo>
                <a:lnTo>
                  <a:pt x="1360" y="2008"/>
                </a:lnTo>
                <a:lnTo>
                  <a:pt x="1353" y="2011"/>
                </a:lnTo>
                <a:lnTo>
                  <a:pt x="1332" y="2018"/>
                </a:lnTo>
                <a:lnTo>
                  <a:pt x="1317" y="2022"/>
                </a:lnTo>
                <a:lnTo>
                  <a:pt x="1317" y="2022"/>
                </a:lnTo>
                <a:lnTo>
                  <a:pt x="1309" y="2018"/>
                </a:lnTo>
                <a:lnTo>
                  <a:pt x="1289" y="2001"/>
                </a:lnTo>
                <a:lnTo>
                  <a:pt x="1273" y="1988"/>
                </a:lnTo>
                <a:lnTo>
                  <a:pt x="1273" y="1986"/>
                </a:lnTo>
                <a:lnTo>
                  <a:pt x="1273" y="1960"/>
                </a:lnTo>
                <a:lnTo>
                  <a:pt x="1272" y="1882"/>
                </a:lnTo>
                <a:lnTo>
                  <a:pt x="1272" y="1821"/>
                </a:lnTo>
                <a:lnTo>
                  <a:pt x="1273" y="1817"/>
                </a:lnTo>
                <a:lnTo>
                  <a:pt x="1277" y="1811"/>
                </a:lnTo>
                <a:lnTo>
                  <a:pt x="1290" y="1789"/>
                </a:lnTo>
                <a:lnTo>
                  <a:pt x="1301" y="1773"/>
                </a:lnTo>
                <a:lnTo>
                  <a:pt x="1302" y="1772"/>
                </a:lnTo>
                <a:lnTo>
                  <a:pt x="1301" y="1769"/>
                </a:lnTo>
                <a:lnTo>
                  <a:pt x="1290" y="1747"/>
                </a:lnTo>
                <a:lnTo>
                  <a:pt x="1256" y="1672"/>
                </a:lnTo>
                <a:lnTo>
                  <a:pt x="1230" y="1614"/>
                </a:lnTo>
                <a:lnTo>
                  <a:pt x="1230" y="1609"/>
                </a:lnTo>
                <a:lnTo>
                  <a:pt x="1227" y="1609"/>
                </a:lnTo>
                <a:lnTo>
                  <a:pt x="1211" y="1608"/>
                </a:lnTo>
                <a:lnTo>
                  <a:pt x="1156" y="1601"/>
                </a:lnTo>
                <a:lnTo>
                  <a:pt x="1114" y="1596"/>
                </a:lnTo>
                <a:lnTo>
                  <a:pt x="1112" y="1595"/>
                </a:lnTo>
                <a:lnTo>
                  <a:pt x="1106" y="1585"/>
                </a:lnTo>
                <a:lnTo>
                  <a:pt x="1093" y="1550"/>
                </a:lnTo>
                <a:lnTo>
                  <a:pt x="1083" y="1524"/>
                </a:lnTo>
                <a:lnTo>
                  <a:pt x="1083" y="1521"/>
                </a:lnTo>
                <a:lnTo>
                  <a:pt x="1077" y="1520"/>
                </a:lnTo>
                <a:lnTo>
                  <a:pt x="1064" y="1514"/>
                </a:lnTo>
                <a:lnTo>
                  <a:pt x="1054" y="1509"/>
                </a:lnTo>
                <a:lnTo>
                  <a:pt x="1054" y="1508"/>
                </a:lnTo>
                <a:lnTo>
                  <a:pt x="1053" y="1505"/>
                </a:lnTo>
                <a:lnTo>
                  <a:pt x="1051" y="1493"/>
                </a:lnTo>
                <a:lnTo>
                  <a:pt x="1051" y="1485"/>
                </a:lnTo>
                <a:lnTo>
                  <a:pt x="1051" y="1483"/>
                </a:lnTo>
                <a:lnTo>
                  <a:pt x="1056" y="1479"/>
                </a:lnTo>
                <a:lnTo>
                  <a:pt x="1072" y="1462"/>
                </a:lnTo>
                <a:lnTo>
                  <a:pt x="1085" y="1449"/>
                </a:lnTo>
                <a:lnTo>
                  <a:pt x="1086" y="1447"/>
                </a:lnTo>
                <a:lnTo>
                  <a:pt x="1080" y="1446"/>
                </a:lnTo>
                <a:lnTo>
                  <a:pt x="1050" y="1427"/>
                </a:lnTo>
                <a:lnTo>
                  <a:pt x="941" y="1366"/>
                </a:lnTo>
                <a:lnTo>
                  <a:pt x="859" y="1318"/>
                </a:lnTo>
                <a:lnTo>
                  <a:pt x="854" y="1315"/>
                </a:lnTo>
                <a:lnTo>
                  <a:pt x="851" y="1315"/>
                </a:lnTo>
                <a:lnTo>
                  <a:pt x="838" y="1315"/>
                </a:lnTo>
                <a:lnTo>
                  <a:pt x="793" y="1315"/>
                </a:lnTo>
                <a:lnTo>
                  <a:pt x="759" y="1315"/>
                </a:lnTo>
                <a:lnTo>
                  <a:pt x="757" y="1315"/>
                </a:lnTo>
                <a:lnTo>
                  <a:pt x="756" y="1314"/>
                </a:lnTo>
                <a:lnTo>
                  <a:pt x="746" y="1305"/>
                </a:lnTo>
                <a:lnTo>
                  <a:pt x="711" y="1270"/>
                </a:lnTo>
                <a:lnTo>
                  <a:pt x="685" y="1244"/>
                </a:lnTo>
                <a:lnTo>
                  <a:pt x="685" y="1241"/>
                </a:lnTo>
                <a:lnTo>
                  <a:pt x="691" y="1237"/>
                </a:lnTo>
                <a:lnTo>
                  <a:pt x="711" y="1224"/>
                </a:lnTo>
                <a:lnTo>
                  <a:pt x="727" y="1214"/>
                </a:lnTo>
                <a:lnTo>
                  <a:pt x="728" y="1212"/>
                </a:lnTo>
                <a:lnTo>
                  <a:pt x="728" y="1199"/>
                </a:lnTo>
                <a:lnTo>
                  <a:pt x="727" y="1157"/>
                </a:lnTo>
                <a:lnTo>
                  <a:pt x="727" y="1125"/>
                </a:lnTo>
                <a:lnTo>
                  <a:pt x="728" y="1123"/>
                </a:lnTo>
                <a:lnTo>
                  <a:pt x="727" y="1123"/>
                </a:lnTo>
                <a:lnTo>
                  <a:pt x="721" y="1123"/>
                </a:lnTo>
                <a:lnTo>
                  <a:pt x="701" y="1123"/>
                </a:lnTo>
                <a:lnTo>
                  <a:pt x="685" y="1123"/>
                </a:lnTo>
                <a:lnTo>
                  <a:pt x="685" y="1123"/>
                </a:lnTo>
                <a:lnTo>
                  <a:pt x="680" y="1124"/>
                </a:lnTo>
                <a:lnTo>
                  <a:pt x="656" y="1133"/>
                </a:lnTo>
                <a:lnTo>
                  <a:pt x="573" y="1159"/>
                </a:lnTo>
                <a:lnTo>
                  <a:pt x="511" y="1180"/>
                </a:lnTo>
                <a:lnTo>
                  <a:pt x="508" y="1180"/>
                </a:lnTo>
                <a:lnTo>
                  <a:pt x="505" y="1179"/>
                </a:lnTo>
                <a:lnTo>
                  <a:pt x="498" y="1172"/>
                </a:lnTo>
                <a:lnTo>
                  <a:pt x="492" y="1167"/>
                </a:lnTo>
                <a:lnTo>
                  <a:pt x="492" y="1166"/>
                </a:lnTo>
                <a:lnTo>
                  <a:pt x="482" y="1169"/>
                </a:lnTo>
                <a:lnTo>
                  <a:pt x="456" y="1176"/>
                </a:lnTo>
                <a:lnTo>
                  <a:pt x="434" y="1180"/>
                </a:lnTo>
                <a:lnTo>
                  <a:pt x="434" y="1180"/>
                </a:lnTo>
                <a:lnTo>
                  <a:pt x="431" y="1191"/>
                </a:lnTo>
                <a:lnTo>
                  <a:pt x="424" y="1220"/>
                </a:lnTo>
                <a:lnTo>
                  <a:pt x="418" y="1241"/>
                </a:lnTo>
                <a:lnTo>
                  <a:pt x="418" y="1241"/>
                </a:lnTo>
                <a:lnTo>
                  <a:pt x="417" y="1241"/>
                </a:lnTo>
                <a:lnTo>
                  <a:pt x="407" y="1241"/>
                </a:lnTo>
                <a:lnTo>
                  <a:pt x="376" y="1241"/>
                </a:lnTo>
                <a:lnTo>
                  <a:pt x="353" y="1241"/>
                </a:lnTo>
                <a:lnTo>
                  <a:pt x="353" y="1241"/>
                </a:lnTo>
                <a:lnTo>
                  <a:pt x="350" y="1241"/>
                </a:lnTo>
                <a:lnTo>
                  <a:pt x="340" y="1237"/>
                </a:lnTo>
                <a:lnTo>
                  <a:pt x="302" y="1224"/>
                </a:lnTo>
                <a:lnTo>
                  <a:pt x="273" y="1214"/>
                </a:lnTo>
                <a:lnTo>
                  <a:pt x="272" y="1212"/>
                </a:lnTo>
                <a:lnTo>
                  <a:pt x="272" y="1211"/>
                </a:lnTo>
                <a:lnTo>
                  <a:pt x="272" y="1201"/>
                </a:lnTo>
                <a:lnTo>
                  <a:pt x="272" y="1165"/>
                </a:lnTo>
                <a:lnTo>
                  <a:pt x="272" y="1137"/>
                </a:lnTo>
                <a:lnTo>
                  <a:pt x="273" y="1134"/>
                </a:lnTo>
                <a:lnTo>
                  <a:pt x="268" y="1131"/>
                </a:lnTo>
                <a:lnTo>
                  <a:pt x="252" y="1120"/>
                </a:lnTo>
                <a:lnTo>
                  <a:pt x="240" y="1111"/>
                </a:lnTo>
                <a:lnTo>
                  <a:pt x="240" y="1109"/>
                </a:lnTo>
                <a:lnTo>
                  <a:pt x="237" y="1111"/>
                </a:lnTo>
                <a:lnTo>
                  <a:pt x="227" y="1117"/>
                </a:lnTo>
                <a:lnTo>
                  <a:pt x="191" y="1137"/>
                </a:lnTo>
                <a:lnTo>
                  <a:pt x="163" y="1153"/>
                </a:lnTo>
                <a:lnTo>
                  <a:pt x="162" y="1153"/>
                </a:lnTo>
                <a:lnTo>
                  <a:pt x="153" y="1144"/>
                </a:lnTo>
                <a:lnTo>
                  <a:pt x="127" y="1118"/>
                </a:lnTo>
                <a:lnTo>
                  <a:pt x="107" y="1096"/>
                </a:lnTo>
                <a:lnTo>
                  <a:pt x="107" y="1095"/>
                </a:lnTo>
                <a:lnTo>
                  <a:pt x="105" y="1096"/>
                </a:lnTo>
                <a:lnTo>
                  <a:pt x="97" y="1105"/>
                </a:lnTo>
                <a:lnTo>
                  <a:pt x="66" y="1131"/>
                </a:lnTo>
                <a:lnTo>
                  <a:pt x="43" y="1153"/>
                </a:lnTo>
                <a:lnTo>
                  <a:pt x="43" y="1153"/>
                </a:lnTo>
                <a:lnTo>
                  <a:pt x="36" y="1134"/>
                </a:lnTo>
                <a:lnTo>
                  <a:pt x="15" y="1076"/>
                </a:lnTo>
                <a:lnTo>
                  <a:pt x="0" y="1033"/>
                </a:lnTo>
                <a:lnTo>
                  <a:pt x="0" y="1030"/>
                </a:lnTo>
                <a:lnTo>
                  <a:pt x="0" y="1028"/>
                </a:lnTo>
                <a:lnTo>
                  <a:pt x="5" y="1012"/>
                </a:lnTo>
                <a:lnTo>
                  <a:pt x="26" y="959"/>
                </a:lnTo>
                <a:lnTo>
                  <a:pt x="40" y="918"/>
                </a:lnTo>
                <a:lnTo>
                  <a:pt x="42" y="915"/>
                </a:lnTo>
                <a:lnTo>
                  <a:pt x="42" y="908"/>
                </a:lnTo>
                <a:lnTo>
                  <a:pt x="40" y="882"/>
                </a:lnTo>
                <a:lnTo>
                  <a:pt x="40" y="863"/>
                </a:lnTo>
                <a:lnTo>
                  <a:pt x="42" y="862"/>
                </a:lnTo>
                <a:lnTo>
                  <a:pt x="44" y="859"/>
                </a:lnTo>
                <a:lnTo>
                  <a:pt x="73" y="837"/>
                </a:lnTo>
                <a:lnTo>
                  <a:pt x="168" y="762"/>
                </a:lnTo>
                <a:lnTo>
                  <a:pt x="241" y="705"/>
                </a:lnTo>
                <a:lnTo>
                  <a:pt x="246" y="701"/>
                </a:lnTo>
                <a:lnTo>
                  <a:pt x="246" y="697"/>
                </a:lnTo>
                <a:lnTo>
                  <a:pt x="256" y="665"/>
                </a:lnTo>
                <a:lnTo>
                  <a:pt x="288" y="556"/>
                </a:lnTo>
                <a:lnTo>
                  <a:pt x="314" y="473"/>
                </a:lnTo>
                <a:lnTo>
                  <a:pt x="315" y="468"/>
                </a:lnTo>
                <a:lnTo>
                  <a:pt x="305" y="462"/>
                </a:lnTo>
                <a:lnTo>
                  <a:pt x="279" y="444"/>
                </a:lnTo>
                <a:lnTo>
                  <a:pt x="257" y="431"/>
                </a:lnTo>
                <a:lnTo>
                  <a:pt x="257" y="430"/>
                </a:lnTo>
                <a:lnTo>
                  <a:pt x="257" y="423"/>
                </a:lnTo>
                <a:lnTo>
                  <a:pt x="256" y="399"/>
                </a:lnTo>
                <a:lnTo>
                  <a:pt x="256" y="381"/>
                </a:lnTo>
                <a:lnTo>
                  <a:pt x="257" y="379"/>
                </a:lnTo>
                <a:lnTo>
                  <a:pt x="266" y="371"/>
                </a:lnTo>
                <a:lnTo>
                  <a:pt x="292" y="343"/>
                </a:lnTo>
                <a:lnTo>
                  <a:pt x="314" y="321"/>
                </a:lnTo>
                <a:lnTo>
                  <a:pt x="315" y="320"/>
                </a:lnTo>
                <a:lnTo>
                  <a:pt x="314" y="320"/>
                </a:lnTo>
                <a:lnTo>
                  <a:pt x="311" y="320"/>
                </a:lnTo>
                <a:lnTo>
                  <a:pt x="301" y="315"/>
                </a:lnTo>
                <a:lnTo>
                  <a:pt x="294" y="313"/>
                </a:lnTo>
                <a:lnTo>
                  <a:pt x="294" y="311"/>
                </a:lnTo>
                <a:lnTo>
                  <a:pt x="292" y="311"/>
                </a:lnTo>
                <a:lnTo>
                  <a:pt x="289" y="311"/>
                </a:lnTo>
                <a:lnTo>
                  <a:pt x="279" y="308"/>
                </a:lnTo>
                <a:lnTo>
                  <a:pt x="272" y="307"/>
                </a:lnTo>
                <a:lnTo>
                  <a:pt x="272" y="305"/>
                </a:lnTo>
                <a:lnTo>
                  <a:pt x="272" y="301"/>
                </a:lnTo>
                <a:lnTo>
                  <a:pt x="272" y="285"/>
                </a:lnTo>
                <a:lnTo>
                  <a:pt x="272" y="273"/>
                </a:lnTo>
                <a:lnTo>
                  <a:pt x="273" y="272"/>
                </a:lnTo>
                <a:lnTo>
                  <a:pt x="278" y="272"/>
                </a:lnTo>
                <a:lnTo>
                  <a:pt x="292" y="272"/>
                </a:lnTo>
                <a:lnTo>
                  <a:pt x="302" y="272"/>
                </a:lnTo>
                <a:lnTo>
                  <a:pt x="304" y="272"/>
                </a:lnTo>
                <a:lnTo>
                  <a:pt x="312" y="278"/>
                </a:lnTo>
                <a:lnTo>
                  <a:pt x="343" y="292"/>
                </a:lnTo>
                <a:lnTo>
                  <a:pt x="366" y="302"/>
                </a:lnTo>
                <a:lnTo>
                  <a:pt x="368" y="302"/>
                </a:lnTo>
                <a:lnTo>
                  <a:pt x="375" y="301"/>
                </a:lnTo>
                <a:lnTo>
                  <a:pt x="398" y="297"/>
                </a:lnTo>
                <a:lnTo>
                  <a:pt x="417" y="292"/>
                </a:lnTo>
                <a:lnTo>
                  <a:pt x="418" y="291"/>
                </a:lnTo>
                <a:lnTo>
                  <a:pt x="425" y="301"/>
                </a:lnTo>
                <a:lnTo>
                  <a:pt x="447" y="327"/>
                </a:lnTo>
                <a:lnTo>
                  <a:pt x="465" y="347"/>
                </a:lnTo>
                <a:lnTo>
                  <a:pt x="466" y="347"/>
                </a:lnTo>
                <a:lnTo>
                  <a:pt x="469" y="347"/>
                </a:lnTo>
                <a:lnTo>
                  <a:pt x="491" y="347"/>
                </a:lnTo>
                <a:lnTo>
                  <a:pt x="565" y="347"/>
                </a:lnTo>
                <a:lnTo>
                  <a:pt x="621" y="347"/>
                </a:lnTo>
                <a:lnTo>
                  <a:pt x="625" y="347"/>
                </a:lnTo>
                <a:lnTo>
                  <a:pt x="627" y="346"/>
                </a:lnTo>
                <a:lnTo>
                  <a:pt x="643" y="330"/>
                </a:lnTo>
                <a:lnTo>
                  <a:pt x="696" y="273"/>
                </a:lnTo>
                <a:lnTo>
                  <a:pt x="737" y="231"/>
                </a:lnTo>
                <a:lnTo>
                  <a:pt x="740" y="228"/>
                </a:lnTo>
                <a:lnTo>
                  <a:pt x="737" y="227"/>
                </a:lnTo>
                <a:lnTo>
                  <a:pt x="721" y="211"/>
                </a:lnTo>
                <a:lnTo>
                  <a:pt x="667" y="157"/>
                </a:lnTo>
                <a:lnTo>
                  <a:pt x="627" y="115"/>
                </a:lnTo>
                <a:lnTo>
                  <a:pt x="625" y="113"/>
                </a:lnTo>
                <a:lnTo>
                  <a:pt x="630" y="110"/>
                </a:lnTo>
                <a:lnTo>
                  <a:pt x="644" y="97"/>
                </a:lnTo>
                <a:lnTo>
                  <a:pt x="654" y="86"/>
                </a:lnTo>
                <a:lnTo>
                  <a:pt x="656" y="85"/>
                </a:lnTo>
                <a:lnTo>
                  <a:pt x="678" y="95"/>
                </a:lnTo>
                <a:lnTo>
                  <a:pt x="747" y="121"/>
                </a:lnTo>
                <a:lnTo>
                  <a:pt x="799" y="143"/>
                </a:lnTo>
                <a:lnTo>
                  <a:pt x="802" y="143"/>
                </a:lnTo>
                <a:lnTo>
                  <a:pt x="807" y="139"/>
                </a:lnTo>
                <a:lnTo>
                  <a:pt x="820" y="126"/>
                </a:lnTo>
                <a:lnTo>
                  <a:pt x="830" y="115"/>
                </a:lnTo>
                <a:lnTo>
                  <a:pt x="831" y="114"/>
                </a:lnTo>
                <a:lnTo>
                  <a:pt x="833" y="114"/>
                </a:lnTo>
                <a:lnTo>
                  <a:pt x="846" y="114"/>
                </a:lnTo>
                <a:lnTo>
                  <a:pt x="892" y="114"/>
                </a:lnTo>
                <a:lnTo>
                  <a:pt x="927" y="114"/>
                </a:lnTo>
                <a:lnTo>
                  <a:pt x="930" y="113"/>
                </a:lnTo>
                <a:lnTo>
                  <a:pt x="930" y="111"/>
                </a:lnTo>
                <a:lnTo>
                  <a:pt x="934" y="101"/>
                </a:lnTo>
                <a:lnTo>
                  <a:pt x="947" y="62"/>
                </a:lnTo>
                <a:lnTo>
                  <a:pt x="957" y="33"/>
                </a:lnTo>
                <a:lnTo>
                  <a:pt x="959" y="30"/>
                </a:lnTo>
                <a:lnTo>
                  <a:pt x="957" y="26"/>
                </a:lnTo>
                <a:lnTo>
                  <a:pt x="953" y="11"/>
                </a:lnTo>
                <a:lnTo>
                  <a:pt x="951" y="1"/>
                </a:lnTo>
                <a:lnTo>
                  <a:pt x="951" y="0"/>
                </a:lnTo>
                <a:lnTo>
                  <a:pt x="962" y="4"/>
                </a:lnTo>
                <a:lnTo>
                  <a:pt x="996" y="14"/>
                </a:lnTo>
                <a:lnTo>
                  <a:pt x="1022" y="21"/>
                </a:lnTo>
                <a:lnTo>
                  <a:pt x="1024" y="21"/>
                </a:lnTo>
                <a:lnTo>
                  <a:pt x="1024" y="29"/>
                </a:lnTo>
                <a:lnTo>
                  <a:pt x="1022" y="47"/>
                </a:lnTo>
                <a:lnTo>
                  <a:pt x="1022" y="62"/>
                </a:lnTo>
                <a:lnTo>
                  <a:pt x="1024" y="62"/>
                </a:lnTo>
                <a:lnTo>
                  <a:pt x="1028" y="65"/>
                </a:lnTo>
                <a:lnTo>
                  <a:pt x="1041" y="72"/>
                </a:lnTo>
                <a:lnTo>
                  <a:pt x="1051" y="78"/>
                </a:lnTo>
                <a:lnTo>
                  <a:pt x="1053" y="78"/>
                </a:lnTo>
                <a:lnTo>
                  <a:pt x="1053" y="82"/>
                </a:lnTo>
                <a:lnTo>
                  <a:pt x="1057" y="108"/>
                </a:lnTo>
                <a:lnTo>
                  <a:pt x="1072" y="197"/>
                </a:lnTo>
                <a:lnTo>
                  <a:pt x="1082" y="265"/>
                </a:lnTo>
                <a:lnTo>
                  <a:pt x="1083" y="268"/>
                </a:lnTo>
                <a:lnTo>
                  <a:pt x="1088" y="275"/>
                </a:lnTo>
                <a:lnTo>
                  <a:pt x="1101" y="295"/>
                </a:lnTo>
                <a:lnTo>
                  <a:pt x="1111" y="311"/>
                </a:lnTo>
                <a:lnTo>
                  <a:pt x="1112" y="311"/>
                </a:lnTo>
                <a:lnTo>
                  <a:pt x="1115" y="311"/>
                </a:lnTo>
                <a:lnTo>
                  <a:pt x="1144" y="301"/>
                </a:lnTo>
                <a:lnTo>
                  <a:pt x="1244" y="266"/>
                </a:lnTo>
                <a:lnTo>
                  <a:pt x="1319" y="240"/>
                </a:lnTo>
                <a:lnTo>
                  <a:pt x="1324" y="239"/>
                </a:lnTo>
                <a:lnTo>
                  <a:pt x="1331" y="233"/>
                </a:lnTo>
                <a:lnTo>
                  <a:pt x="1356" y="211"/>
                </a:lnTo>
                <a:lnTo>
                  <a:pt x="1374" y="195"/>
                </a:lnTo>
                <a:lnTo>
                  <a:pt x="1376" y="194"/>
                </a:lnTo>
                <a:lnTo>
                  <a:pt x="1386" y="200"/>
                </a:lnTo>
                <a:lnTo>
                  <a:pt x="1416" y="214"/>
                </a:lnTo>
                <a:lnTo>
                  <a:pt x="1441" y="224"/>
                </a:lnTo>
                <a:lnTo>
                  <a:pt x="1443" y="224"/>
                </a:lnTo>
                <a:lnTo>
                  <a:pt x="1444" y="224"/>
                </a:lnTo>
                <a:lnTo>
                  <a:pt x="1453" y="223"/>
                </a:lnTo>
                <a:lnTo>
                  <a:pt x="1487" y="215"/>
                </a:lnTo>
                <a:lnTo>
                  <a:pt x="1514" y="210"/>
                </a:lnTo>
                <a:lnTo>
                  <a:pt x="1516" y="208"/>
                </a:lnTo>
                <a:lnTo>
                  <a:pt x="1522" y="213"/>
                </a:lnTo>
                <a:lnTo>
                  <a:pt x="1543" y="226"/>
                </a:lnTo>
                <a:lnTo>
                  <a:pt x="1558" y="234"/>
                </a:lnTo>
                <a:lnTo>
                  <a:pt x="1560" y="234"/>
                </a:lnTo>
                <a:lnTo>
                  <a:pt x="1566" y="233"/>
                </a:lnTo>
                <a:lnTo>
                  <a:pt x="1583" y="228"/>
                </a:lnTo>
                <a:lnTo>
                  <a:pt x="1596" y="226"/>
                </a:lnTo>
                <a:lnTo>
                  <a:pt x="1598" y="224"/>
                </a:lnTo>
                <a:lnTo>
                  <a:pt x="1599" y="221"/>
                </a:lnTo>
                <a:lnTo>
                  <a:pt x="1609" y="201"/>
                </a:lnTo>
                <a:lnTo>
                  <a:pt x="1645" y="130"/>
                </a:lnTo>
                <a:lnTo>
                  <a:pt x="1673" y="76"/>
                </a:lnTo>
                <a:lnTo>
                  <a:pt x="1676" y="72"/>
                </a:lnTo>
                <a:lnTo>
                  <a:pt x="1674" y="72"/>
                </a:lnTo>
                <a:lnTo>
                  <a:pt x="1676" y="72"/>
                </a:lnTo>
                <a:lnTo>
                  <a:pt x="1674" y="72"/>
                </a:lnTo>
                <a:lnTo>
                  <a:pt x="1676" y="72"/>
                </a:lnTo>
                <a:lnTo>
                  <a:pt x="1682" y="76"/>
                </a:lnTo>
                <a:lnTo>
                  <a:pt x="1700" y="89"/>
                </a:lnTo>
                <a:lnTo>
                  <a:pt x="1715" y="100"/>
                </a:lnTo>
                <a:lnTo>
                  <a:pt x="1716" y="100"/>
                </a:lnTo>
                <a:lnTo>
                  <a:pt x="1716" y="10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20711400">
            <a:off x="3959280" y="2280960"/>
            <a:ext cx="1888920" cy="1752480"/>
          </a:xfrm>
          <a:custGeom>
            <a:avLst/>
            <a:gdLst>
              <a:gd name="textAreaLeft" fmla="*/ 0 w 1888920"/>
              <a:gd name="textAreaRight" fmla="*/ 1889280 w 18889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2256" y="11141"/>
                </a:moveTo>
                <a:arcTo wR="-8551" hR="-8551" stAng="10662884" swAng="-7830807"/>
                <a:lnTo>
                  <a:pt x="3462" y="2876"/>
                </a:lnTo>
                <a:arcTo wR="10800" hR="10800" stAng="-7967923" swAng="7830807"/>
                <a:lnTo>
                  <a:pt x="24289" y="10262"/>
                </a:lnTo>
                <a:lnTo>
                  <a:pt x="20620" y="14236"/>
                </a:lnTo>
                <a:lnTo>
                  <a:pt x="16646" y="1056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9699000">
            <a:off x="4111560" y="2433600"/>
            <a:ext cx="1835280" cy="1736640"/>
          </a:xfrm>
          <a:custGeom>
            <a:avLst/>
            <a:gdLst>
              <a:gd name="textAreaLeft" fmla="*/ 0 w 1835280"/>
              <a:gd name="textAreaRight" fmla="*/ 1835640 w 1835280"/>
              <a:gd name="textAreaTop" fmla="*/ 0 h 1736640"/>
              <a:gd name="textAreaBottom" fmla="*/ 1737000 h 1736640"/>
            </a:gdLst>
            <a:ahLst/>
            <a:rect l="textAreaLeft" t="textAreaTop" r="textAreaRight" b="textAreaBottom"/>
            <a:pathLst>
              <a:path w="21600" h="21600">
                <a:moveTo>
                  <a:pt x="2256" y="11141"/>
                </a:moveTo>
                <a:arcTo wR="-8551" hR="-8551" stAng="10662884" swAng="-7830807"/>
                <a:lnTo>
                  <a:pt x="3462" y="2876"/>
                </a:lnTo>
                <a:arcTo wR="10800" hR="10800" stAng="-7967923" swAng="7830807"/>
                <a:lnTo>
                  <a:pt x="24289" y="10262"/>
                </a:lnTo>
                <a:lnTo>
                  <a:pt x="20620" y="14236"/>
                </a:lnTo>
                <a:lnTo>
                  <a:pt x="16646" y="1056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02280" y="62434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07200" y="5634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59280" y="5634000"/>
            <a:ext cx="5943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II. México mejorara el acceso de las exportaciones mexicanas a Jap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2560" y="6700680"/>
            <a:ext cx="922032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074080" y="0"/>
            <a:ext cx="2130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9400" y="635040"/>
            <a:ext cx="7439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Con el Acuerdo de Asociación Económ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30280" y="182412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2560" y="83340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58880" y="3043080"/>
            <a:ext cx="868680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1440" y="223920"/>
            <a:ext cx="9663120" cy="4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11960" y="1214280"/>
            <a:ext cx="193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054160" y="16714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58880" y="5253120"/>
            <a:ext cx="868680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1680" y="3424320"/>
            <a:ext cx="1109988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MS PGothic"/>
              </a:rPr>
              <a:t>Japón eliminará el 91% de las tarifas arancel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MS PGothic"/>
              </a:rPr>
              <a:t>para  los  productos mexicanos, el 4% en 5 años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MS PGothic"/>
              </a:rPr>
              <a:t>el 5% en 10 años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073000" y="29988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58880" y="1214280"/>
            <a:ext cx="887868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 la entrada en vigor del AAE, los productos mexicanos tendrán un mejor acceso al merca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poné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30280" y="182412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2560" y="83340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6600" y="1595520"/>
            <a:ext cx="906768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11960" y="1214280"/>
            <a:ext cx="193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3000" y="6777000"/>
            <a:ext cx="3852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Fuente: Secretaría de Economí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0" y="1671480"/>
          <a:ext cx="944892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1480"/>
                    <a:ext cx="94489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8915400" y="43434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915400" y="4572000"/>
            <a:ext cx="1033560" cy="2905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6600" y="6472080"/>
            <a:ext cx="906768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150400" y="0"/>
            <a:ext cx="13730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0280" y="757080"/>
            <a:ext cx="9144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o más rápido y mayor número de productos que serán  desgravados para M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86800" y="2128680"/>
            <a:ext cx="773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Arial"/>
              </a:rPr>
              <a:t>44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25960" y="2814480"/>
            <a:ext cx="11955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Arial"/>
              </a:rPr>
              <a:t>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91560" y="3652920"/>
            <a:ext cx="985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Arial"/>
              </a:rPr>
              <a:t>49.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71840" y="3271680"/>
            <a:ext cx="10569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éx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1400" y="2509920"/>
            <a:ext cx="9442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Jap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758520" y="16711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marL="243000" indent="-243000" algn="just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sgravación inmediata de 91% de las tarifas arancelarias correspondientes a productos mexican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000" indent="-24300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ero arancel para la exportación de autos y computador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000" indent="-24300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uota anual inmediata de carne de puerco de 40,000 toneladas para llegar a 80,000 en cinco añ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000" indent="-24300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uota anual de 8,500 toneladas de carne de pollo obtenida gradualmente en cinco añ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000" indent="-24300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uota anual de 6,000 toneladas de carne de res obtenida gradualmente en cinco añ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000" indent="-243000" algn="just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cceso inmediato desde la entrada en vigor del acuerdo para las prendas de vestir que estén fabricadas en México con tela e hilo de la región. Adicionalmente, una cuota de 200 millones de dólares para prendas mexicanas hechas con telas de cualquier paí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000" indent="-24300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uota de 250 mil pares de calzado de cuero durante el primer año con un crecimiento posterior anual de 20% en cinco añ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63800" y="1366920"/>
            <a:ext cx="838188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911160" y="1062000"/>
            <a:ext cx="861084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920720" y="22392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42920" y="536400"/>
            <a:ext cx="4105080" cy="5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éxico obtendrá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758880" y="17474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9000"/>
          </a:bodyPr>
          <a:p>
            <a:pPr marL="240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0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éxico negoció que todos los productos de interés quedarán incluidos en el acuerdo, los cuales representan el 76.7% de las exportaciones mexicanas a Japó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tre los principales productos que tendrán acceso inmediato libre de arancel se encuentran el atún aleta amarilla fresco y enlatado, camarón, algunos crustáceos y moluscos y pulpo. Con cuotas quedaron sardinas y calam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35200" y="1900080"/>
            <a:ext cx="868680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911160" y="6014880"/>
            <a:ext cx="868680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074080" y="376200"/>
            <a:ext cx="1752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45920" y="1082520"/>
            <a:ext cx="7165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ceso de Productos pesqueros a Jap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292400" y="3043080"/>
            <a:ext cx="8001000" cy="327672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53960" y="1366560"/>
            <a:ext cx="9296640" cy="5438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marL="243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 la 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entrada en vigor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del acuerdo, Japón eliminará l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ranceles de hortalizas, frutas y otros product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Tomate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Guayaba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Huevo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Espárragos 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Mango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Albúmin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Ajo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Limón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Guayab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Calabaza 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Leguminosas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Café Verd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Cebolla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Papaya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Aguacat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Berenjenas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Tequila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Tabaco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Brócoli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Mezcal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Vino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0000"/>
                </a:solidFill>
                <a:latin typeface="Arial"/>
              </a:rPr>
              <a:t>Col</a:t>
            </a: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Pectin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11160" y="1595520"/>
            <a:ext cx="868680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11160" y="6624720"/>
            <a:ext cx="868680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39760" y="2967120"/>
            <a:ext cx="79250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2400" y="2967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149320" y="52848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69120" y="1082520"/>
            <a:ext cx="4560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el sector agropec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87480" y="2967120"/>
            <a:ext cx="8610480" cy="3124080"/>
          </a:xfrm>
          <a:prstGeom prst="rect">
            <a:avLst/>
          </a:prstGeom>
          <a:solidFill>
            <a:srgbClr val="99cc00">
              <a:alpha val="55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360" y="1062000"/>
            <a:ext cx="8248680" cy="1062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N EL SECTOR AGROPECUA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3960" y="1213920"/>
            <a:ext cx="9296640" cy="5591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marL="243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el 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mediano plaz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se eliminarán los aranceles 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Zanahoria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Uva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Espinaca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Pimienta 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Toronja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Meló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Fresa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Durazno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Pera Congelad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Café tostado 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Nuez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Aceite giraso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Aceite de cártamo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Aceite ajonjolí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Sals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Cacao en polvo sin azúca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003300"/>
                </a:solidFill>
                <a:latin typeface="Arial"/>
              </a:rPr>
              <a:t>Otros vegetales preparado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911160" y="1900080"/>
            <a:ext cx="868680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87480" y="6396120"/>
            <a:ext cx="868680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149320" y="37620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063800" y="3424320"/>
            <a:ext cx="8153280" cy="2057400"/>
          </a:xfrm>
          <a:prstGeom prst="rect">
            <a:avLst/>
          </a:prstGeom>
          <a:solidFill>
            <a:srgbClr val="ff6600">
              <a:alpha val="83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-360" y="1290600"/>
            <a:ext cx="8248680" cy="1062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N EL SECTOR AGROPECUA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3960" y="1866960"/>
            <a:ext cx="9296640" cy="543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marL="243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el 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largo plaz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se eliminarán los aranceles 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</a:rPr>
              <a:t>Plátano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</a:rPr>
              <a:t>Harina de maíz blanco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</a:rPr>
              <a:t>Vegetales preparados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</a:rPr>
              <a:t>Jalea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</a:rPr>
              <a:t>Mermeladas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</a:rPr>
              <a:t>Pulpas de cítricos (excepto naranja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</a:rPr>
              <a:t>Duraznos preparados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911160" y="2128680"/>
            <a:ext cx="868680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11160" y="5938920"/>
            <a:ext cx="868680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996680" y="60480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3800" y="2814480"/>
            <a:ext cx="8534160" cy="13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¿Porqué México negoció un TLC con Japón?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5200" y="4414680"/>
            <a:ext cx="883908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97760" y="452520"/>
            <a:ext cx="137340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292400" y="3424320"/>
            <a:ext cx="7848360" cy="2286000"/>
          </a:xfrm>
          <a:prstGeom prst="rect">
            <a:avLst/>
          </a:prstGeom>
          <a:solidFill>
            <a:srgbClr val="00ffff">
              <a:alpha val="47000"/>
            </a:srgbClr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29920" y="1290600"/>
            <a:ext cx="8248680" cy="1062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N EL SECTOR AGROPECUA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3960" y="1866960"/>
            <a:ext cx="9296640" cy="543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marL="243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uotas con 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preferencia arancelari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par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Carne de puerco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Carne de res y pollo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Jugo de naranja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Naranj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Miel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Catsup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Pasta y puré de tomate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Jugo de tomat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Salsa de tomate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Dextrinas y Sorbito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911160" y="2128680"/>
            <a:ext cx="868680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911160" y="6167520"/>
            <a:ext cx="868680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149320" y="52848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29920" y="223560"/>
            <a:ext cx="8705880" cy="1298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Lista de productos con</a:t>
            </a:r>
            <a:br>
              <a:rPr sz="3600"/>
            </a:b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acceso inmedia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rcRect l="0" t="11125" r="0" b="0"/>
          <a:stretch/>
        </p:blipFill>
        <p:spPr>
          <a:xfrm>
            <a:off x="453960" y="1519200"/>
            <a:ext cx="9296640" cy="53006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8149320" y="37620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3960" y="1442880"/>
            <a:ext cx="922032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3800" y="375840"/>
            <a:ext cx="8248320" cy="1298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Lista de productos con</a:t>
            </a:r>
            <a:br>
              <a:rPr sz="3600"/>
            </a:b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acceso a 10 añ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rcRect l="23316" t="34971" r="30090" b="0"/>
          <a:stretch/>
        </p:blipFill>
        <p:spPr>
          <a:xfrm>
            <a:off x="1444680" y="1900080"/>
            <a:ext cx="7467480" cy="472464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444680" y="1671480"/>
            <a:ext cx="739152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25280" y="29988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987480" y="2509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0280" y="182412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83340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2560" y="1138320"/>
            <a:ext cx="922032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311960" y="1214280"/>
            <a:ext cx="193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16000" y="1287360"/>
            <a:ext cx="2635200" cy="1282680"/>
          </a:xfrm>
          <a:custGeom>
            <a:avLst/>
            <a:gdLst/>
            <a:ahLst/>
            <a:rect l="l" t="t" r="r" b="b"/>
            <a:pathLst>
              <a:path w="3048" h="1564">
                <a:moveTo>
                  <a:pt x="58" y="1390"/>
                </a:moveTo>
                <a:lnTo>
                  <a:pt x="59" y="1390"/>
                </a:lnTo>
                <a:lnTo>
                  <a:pt x="69" y="1385"/>
                </a:lnTo>
                <a:lnTo>
                  <a:pt x="103" y="1367"/>
                </a:lnTo>
                <a:lnTo>
                  <a:pt x="129" y="1352"/>
                </a:lnTo>
                <a:lnTo>
                  <a:pt x="132" y="1352"/>
                </a:lnTo>
                <a:lnTo>
                  <a:pt x="134" y="1350"/>
                </a:lnTo>
                <a:lnTo>
                  <a:pt x="155" y="1341"/>
                </a:lnTo>
                <a:lnTo>
                  <a:pt x="223" y="1308"/>
                </a:lnTo>
                <a:lnTo>
                  <a:pt x="291" y="1261"/>
                </a:lnTo>
                <a:lnTo>
                  <a:pt x="280" y="1281"/>
                </a:lnTo>
                <a:lnTo>
                  <a:pt x="284" y="1276"/>
                </a:lnTo>
                <a:lnTo>
                  <a:pt x="318" y="1234"/>
                </a:lnTo>
                <a:lnTo>
                  <a:pt x="405" y="1125"/>
                </a:lnTo>
                <a:lnTo>
                  <a:pt x="476" y="1036"/>
                </a:lnTo>
                <a:lnTo>
                  <a:pt x="481" y="1031"/>
                </a:lnTo>
                <a:lnTo>
                  <a:pt x="485" y="1028"/>
                </a:lnTo>
                <a:lnTo>
                  <a:pt x="514" y="1005"/>
                </a:lnTo>
                <a:lnTo>
                  <a:pt x="613" y="928"/>
                </a:lnTo>
                <a:lnTo>
                  <a:pt x="689" y="869"/>
                </a:lnTo>
                <a:lnTo>
                  <a:pt x="693" y="866"/>
                </a:lnTo>
                <a:lnTo>
                  <a:pt x="694" y="863"/>
                </a:lnTo>
                <a:lnTo>
                  <a:pt x="699" y="850"/>
                </a:lnTo>
                <a:lnTo>
                  <a:pt x="719" y="803"/>
                </a:lnTo>
                <a:lnTo>
                  <a:pt x="732" y="767"/>
                </a:lnTo>
                <a:lnTo>
                  <a:pt x="734" y="765"/>
                </a:lnTo>
                <a:lnTo>
                  <a:pt x="736" y="764"/>
                </a:lnTo>
                <a:lnTo>
                  <a:pt x="750" y="760"/>
                </a:lnTo>
                <a:lnTo>
                  <a:pt x="772" y="748"/>
                </a:lnTo>
                <a:lnTo>
                  <a:pt x="820" y="746"/>
                </a:lnTo>
                <a:lnTo>
                  <a:pt x="834" y="748"/>
                </a:lnTo>
                <a:lnTo>
                  <a:pt x="832" y="772"/>
                </a:lnTo>
                <a:lnTo>
                  <a:pt x="836" y="754"/>
                </a:lnTo>
                <a:lnTo>
                  <a:pt x="834" y="802"/>
                </a:lnTo>
                <a:lnTo>
                  <a:pt x="836" y="864"/>
                </a:lnTo>
                <a:lnTo>
                  <a:pt x="836" y="867"/>
                </a:lnTo>
                <a:lnTo>
                  <a:pt x="834" y="868"/>
                </a:lnTo>
                <a:lnTo>
                  <a:pt x="825" y="879"/>
                </a:lnTo>
                <a:lnTo>
                  <a:pt x="792" y="917"/>
                </a:lnTo>
                <a:lnTo>
                  <a:pt x="767" y="946"/>
                </a:lnTo>
                <a:lnTo>
                  <a:pt x="765" y="947"/>
                </a:lnTo>
                <a:lnTo>
                  <a:pt x="773" y="944"/>
                </a:lnTo>
                <a:lnTo>
                  <a:pt x="796" y="936"/>
                </a:lnTo>
                <a:lnTo>
                  <a:pt x="814" y="930"/>
                </a:lnTo>
                <a:lnTo>
                  <a:pt x="815" y="929"/>
                </a:lnTo>
                <a:lnTo>
                  <a:pt x="817" y="929"/>
                </a:lnTo>
                <a:lnTo>
                  <a:pt x="852" y="932"/>
                </a:lnTo>
                <a:lnTo>
                  <a:pt x="886" y="908"/>
                </a:lnTo>
                <a:lnTo>
                  <a:pt x="885" y="882"/>
                </a:lnTo>
                <a:lnTo>
                  <a:pt x="887" y="880"/>
                </a:lnTo>
                <a:lnTo>
                  <a:pt x="888" y="881"/>
                </a:lnTo>
                <a:lnTo>
                  <a:pt x="895" y="885"/>
                </a:lnTo>
                <a:lnTo>
                  <a:pt x="920" y="901"/>
                </a:lnTo>
                <a:lnTo>
                  <a:pt x="939" y="914"/>
                </a:lnTo>
                <a:lnTo>
                  <a:pt x="940" y="914"/>
                </a:lnTo>
                <a:lnTo>
                  <a:pt x="940" y="907"/>
                </a:lnTo>
                <a:lnTo>
                  <a:pt x="940" y="887"/>
                </a:lnTo>
                <a:lnTo>
                  <a:pt x="940" y="872"/>
                </a:lnTo>
                <a:lnTo>
                  <a:pt x="940" y="871"/>
                </a:lnTo>
                <a:lnTo>
                  <a:pt x="939" y="871"/>
                </a:lnTo>
                <a:lnTo>
                  <a:pt x="932" y="867"/>
                </a:lnTo>
                <a:lnTo>
                  <a:pt x="908" y="856"/>
                </a:lnTo>
                <a:lnTo>
                  <a:pt x="889" y="847"/>
                </a:lnTo>
                <a:lnTo>
                  <a:pt x="888" y="846"/>
                </a:lnTo>
                <a:lnTo>
                  <a:pt x="887" y="845"/>
                </a:lnTo>
                <a:lnTo>
                  <a:pt x="885" y="836"/>
                </a:lnTo>
                <a:lnTo>
                  <a:pt x="877" y="804"/>
                </a:lnTo>
                <a:lnTo>
                  <a:pt x="871" y="780"/>
                </a:lnTo>
                <a:lnTo>
                  <a:pt x="871" y="779"/>
                </a:lnTo>
                <a:lnTo>
                  <a:pt x="872" y="778"/>
                </a:lnTo>
                <a:lnTo>
                  <a:pt x="883" y="773"/>
                </a:lnTo>
                <a:lnTo>
                  <a:pt x="916" y="757"/>
                </a:lnTo>
                <a:lnTo>
                  <a:pt x="941" y="744"/>
                </a:lnTo>
                <a:lnTo>
                  <a:pt x="943" y="744"/>
                </a:lnTo>
                <a:lnTo>
                  <a:pt x="948" y="747"/>
                </a:lnTo>
                <a:lnTo>
                  <a:pt x="962" y="753"/>
                </a:lnTo>
                <a:lnTo>
                  <a:pt x="972" y="758"/>
                </a:lnTo>
                <a:lnTo>
                  <a:pt x="973" y="758"/>
                </a:lnTo>
                <a:lnTo>
                  <a:pt x="974" y="761"/>
                </a:lnTo>
                <a:lnTo>
                  <a:pt x="1024" y="820"/>
                </a:lnTo>
                <a:lnTo>
                  <a:pt x="1044" y="840"/>
                </a:lnTo>
                <a:lnTo>
                  <a:pt x="1056" y="842"/>
                </a:lnTo>
                <a:lnTo>
                  <a:pt x="1044" y="856"/>
                </a:lnTo>
                <a:lnTo>
                  <a:pt x="1042" y="853"/>
                </a:lnTo>
                <a:lnTo>
                  <a:pt x="1056" y="838"/>
                </a:lnTo>
                <a:lnTo>
                  <a:pt x="1006" y="761"/>
                </a:lnTo>
                <a:lnTo>
                  <a:pt x="986" y="706"/>
                </a:lnTo>
                <a:lnTo>
                  <a:pt x="984" y="703"/>
                </a:lnTo>
                <a:lnTo>
                  <a:pt x="988" y="701"/>
                </a:lnTo>
                <a:lnTo>
                  <a:pt x="1024" y="668"/>
                </a:lnTo>
                <a:lnTo>
                  <a:pt x="1062" y="650"/>
                </a:lnTo>
                <a:lnTo>
                  <a:pt x="1110" y="652"/>
                </a:lnTo>
                <a:lnTo>
                  <a:pt x="1156" y="606"/>
                </a:lnTo>
                <a:lnTo>
                  <a:pt x="1160" y="604"/>
                </a:lnTo>
                <a:lnTo>
                  <a:pt x="1167" y="606"/>
                </a:lnTo>
                <a:lnTo>
                  <a:pt x="1188" y="610"/>
                </a:lnTo>
                <a:lnTo>
                  <a:pt x="1204" y="613"/>
                </a:lnTo>
                <a:lnTo>
                  <a:pt x="1206" y="613"/>
                </a:lnTo>
                <a:lnTo>
                  <a:pt x="1207" y="612"/>
                </a:lnTo>
                <a:lnTo>
                  <a:pt x="1216" y="605"/>
                </a:lnTo>
                <a:lnTo>
                  <a:pt x="1245" y="581"/>
                </a:lnTo>
                <a:lnTo>
                  <a:pt x="1268" y="563"/>
                </a:lnTo>
                <a:lnTo>
                  <a:pt x="1270" y="562"/>
                </a:lnTo>
                <a:lnTo>
                  <a:pt x="1272" y="562"/>
                </a:lnTo>
                <a:lnTo>
                  <a:pt x="1289" y="561"/>
                </a:lnTo>
                <a:lnTo>
                  <a:pt x="1347" y="559"/>
                </a:lnTo>
                <a:lnTo>
                  <a:pt x="1391" y="557"/>
                </a:lnTo>
                <a:lnTo>
                  <a:pt x="1394" y="557"/>
                </a:lnTo>
                <a:lnTo>
                  <a:pt x="1394" y="558"/>
                </a:lnTo>
                <a:lnTo>
                  <a:pt x="1400" y="561"/>
                </a:lnTo>
                <a:lnTo>
                  <a:pt x="1419" y="574"/>
                </a:lnTo>
                <a:lnTo>
                  <a:pt x="1432" y="583"/>
                </a:lnTo>
                <a:lnTo>
                  <a:pt x="1433" y="584"/>
                </a:lnTo>
                <a:lnTo>
                  <a:pt x="1432" y="585"/>
                </a:lnTo>
                <a:lnTo>
                  <a:pt x="1423" y="595"/>
                </a:lnTo>
                <a:lnTo>
                  <a:pt x="1390" y="627"/>
                </a:lnTo>
                <a:lnTo>
                  <a:pt x="1346" y="660"/>
                </a:lnTo>
                <a:lnTo>
                  <a:pt x="1365" y="653"/>
                </a:lnTo>
                <a:lnTo>
                  <a:pt x="1364" y="655"/>
                </a:lnTo>
                <a:lnTo>
                  <a:pt x="1363" y="662"/>
                </a:lnTo>
                <a:lnTo>
                  <a:pt x="1346" y="686"/>
                </a:lnTo>
                <a:lnTo>
                  <a:pt x="1350" y="708"/>
                </a:lnTo>
                <a:lnTo>
                  <a:pt x="1354" y="708"/>
                </a:lnTo>
                <a:lnTo>
                  <a:pt x="1354" y="709"/>
                </a:lnTo>
                <a:lnTo>
                  <a:pt x="1355" y="708"/>
                </a:lnTo>
                <a:lnTo>
                  <a:pt x="1380" y="702"/>
                </a:lnTo>
                <a:lnTo>
                  <a:pt x="1402" y="657"/>
                </a:lnTo>
                <a:lnTo>
                  <a:pt x="1429" y="628"/>
                </a:lnTo>
                <a:lnTo>
                  <a:pt x="1431" y="626"/>
                </a:lnTo>
                <a:lnTo>
                  <a:pt x="1433" y="626"/>
                </a:lnTo>
                <a:lnTo>
                  <a:pt x="1452" y="623"/>
                </a:lnTo>
                <a:lnTo>
                  <a:pt x="1533" y="631"/>
                </a:lnTo>
                <a:lnTo>
                  <a:pt x="1590" y="634"/>
                </a:lnTo>
                <a:lnTo>
                  <a:pt x="1586" y="624"/>
                </a:lnTo>
                <a:lnTo>
                  <a:pt x="1584" y="630"/>
                </a:lnTo>
                <a:lnTo>
                  <a:pt x="1588" y="628"/>
                </a:lnTo>
                <a:lnTo>
                  <a:pt x="1586" y="638"/>
                </a:lnTo>
                <a:lnTo>
                  <a:pt x="1587" y="622"/>
                </a:lnTo>
                <a:lnTo>
                  <a:pt x="1608" y="598"/>
                </a:lnTo>
                <a:lnTo>
                  <a:pt x="1610" y="596"/>
                </a:lnTo>
                <a:lnTo>
                  <a:pt x="1616" y="604"/>
                </a:lnTo>
                <a:lnTo>
                  <a:pt x="1616" y="598"/>
                </a:lnTo>
                <a:lnTo>
                  <a:pt x="1617" y="592"/>
                </a:lnTo>
                <a:lnTo>
                  <a:pt x="1645" y="577"/>
                </a:lnTo>
                <a:lnTo>
                  <a:pt x="1648" y="576"/>
                </a:lnTo>
                <a:lnTo>
                  <a:pt x="1649" y="577"/>
                </a:lnTo>
                <a:lnTo>
                  <a:pt x="1665" y="604"/>
                </a:lnTo>
                <a:lnTo>
                  <a:pt x="1692" y="599"/>
                </a:lnTo>
                <a:lnTo>
                  <a:pt x="1707" y="616"/>
                </a:lnTo>
                <a:lnTo>
                  <a:pt x="1718" y="611"/>
                </a:lnTo>
                <a:lnTo>
                  <a:pt x="1721" y="612"/>
                </a:lnTo>
                <a:lnTo>
                  <a:pt x="1722" y="612"/>
                </a:lnTo>
                <a:lnTo>
                  <a:pt x="1734" y="612"/>
                </a:lnTo>
                <a:lnTo>
                  <a:pt x="1776" y="640"/>
                </a:lnTo>
                <a:lnTo>
                  <a:pt x="1807" y="612"/>
                </a:lnTo>
                <a:lnTo>
                  <a:pt x="1808" y="612"/>
                </a:lnTo>
                <a:lnTo>
                  <a:pt x="1807" y="611"/>
                </a:lnTo>
                <a:lnTo>
                  <a:pt x="1802" y="608"/>
                </a:lnTo>
                <a:lnTo>
                  <a:pt x="1782" y="597"/>
                </a:lnTo>
                <a:lnTo>
                  <a:pt x="1766" y="589"/>
                </a:lnTo>
                <a:lnTo>
                  <a:pt x="1765" y="588"/>
                </a:lnTo>
                <a:lnTo>
                  <a:pt x="1767" y="588"/>
                </a:lnTo>
                <a:lnTo>
                  <a:pt x="1779" y="581"/>
                </a:lnTo>
                <a:lnTo>
                  <a:pt x="1822" y="558"/>
                </a:lnTo>
                <a:lnTo>
                  <a:pt x="1855" y="541"/>
                </a:lnTo>
                <a:lnTo>
                  <a:pt x="1857" y="540"/>
                </a:lnTo>
                <a:lnTo>
                  <a:pt x="1857" y="539"/>
                </a:lnTo>
                <a:lnTo>
                  <a:pt x="1852" y="535"/>
                </a:lnTo>
                <a:lnTo>
                  <a:pt x="1837" y="521"/>
                </a:lnTo>
                <a:lnTo>
                  <a:pt x="1825" y="510"/>
                </a:lnTo>
                <a:lnTo>
                  <a:pt x="1825" y="509"/>
                </a:lnTo>
                <a:lnTo>
                  <a:pt x="1825" y="509"/>
                </a:lnTo>
                <a:lnTo>
                  <a:pt x="1828" y="502"/>
                </a:lnTo>
                <a:lnTo>
                  <a:pt x="1835" y="482"/>
                </a:lnTo>
                <a:lnTo>
                  <a:pt x="1842" y="466"/>
                </a:lnTo>
                <a:lnTo>
                  <a:pt x="1842" y="465"/>
                </a:lnTo>
                <a:lnTo>
                  <a:pt x="1845" y="465"/>
                </a:lnTo>
                <a:lnTo>
                  <a:pt x="1864" y="460"/>
                </a:lnTo>
                <a:lnTo>
                  <a:pt x="1929" y="445"/>
                </a:lnTo>
                <a:lnTo>
                  <a:pt x="1977" y="434"/>
                </a:lnTo>
                <a:lnTo>
                  <a:pt x="1980" y="433"/>
                </a:lnTo>
                <a:lnTo>
                  <a:pt x="1981" y="433"/>
                </a:lnTo>
                <a:lnTo>
                  <a:pt x="1993" y="423"/>
                </a:lnTo>
                <a:lnTo>
                  <a:pt x="2030" y="393"/>
                </a:lnTo>
                <a:lnTo>
                  <a:pt x="2059" y="371"/>
                </a:lnTo>
                <a:lnTo>
                  <a:pt x="2062" y="369"/>
                </a:lnTo>
                <a:lnTo>
                  <a:pt x="2064" y="369"/>
                </a:lnTo>
                <a:lnTo>
                  <a:pt x="2083" y="368"/>
                </a:lnTo>
                <a:lnTo>
                  <a:pt x="2151" y="364"/>
                </a:lnTo>
                <a:lnTo>
                  <a:pt x="2203" y="361"/>
                </a:lnTo>
                <a:lnTo>
                  <a:pt x="2206" y="361"/>
                </a:lnTo>
                <a:lnTo>
                  <a:pt x="2205" y="360"/>
                </a:lnTo>
                <a:lnTo>
                  <a:pt x="2195" y="355"/>
                </a:lnTo>
                <a:lnTo>
                  <a:pt x="2166" y="337"/>
                </a:lnTo>
                <a:lnTo>
                  <a:pt x="2141" y="324"/>
                </a:lnTo>
                <a:lnTo>
                  <a:pt x="2141" y="323"/>
                </a:lnTo>
                <a:lnTo>
                  <a:pt x="2141" y="322"/>
                </a:lnTo>
                <a:lnTo>
                  <a:pt x="2143" y="318"/>
                </a:lnTo>
                <a:lnTo>
                  <a:pt x="2149" y="303"/>
                </a:lnTo>
                <a:lnTo>
                  <a:pt x="2155" y="293"/>
                </a:lnTo>
                <a:lnTo>
                  <a:pt x="2156" y="291"/>
                </a:lnTo>
                <a:lnTo>
                  <a:pt x="2157" y="291"/>
                </a:lnTo>
                <a:lnTo>
                  <a:pt x="2170" y="287"/>
                </a:lnTo>
                <a:lnTo>
                  <a:pt x="2213" y="271"/>
                </a:lnTo>
                <a:lnTo>
                  <a:pt x="2247" y="259"/>
                </a:lnTo>
                <a:lnTo>
                  <a:pt x="2249" y="259"/>
                </a:lnTo>
                <a:lnTo>
                  <a:pt x="2247" y="258"/>
                </a:lnTo>
                <a:lnTo>
                  <a:pt x="2235" y="255"/>
                </a:lnTo>
                <a:lnTo>
                  <a:pt x="2197" y="241"/>
                </a:lnTo>
                <a:lnTo>
                  <a:pt x="2169" y="231"/>
                </a:lnTo>
                <a:lnTo>
                  <a:pt x="2167" y="230"/>
                </a:lnTo>
                <a:lnTo>
                  <a:pt x="2169" y="228"/>
                </a:lnTo>
                <a:lnTo>
                  <a:pt x="2182" y="211"/>
                </a:lnTo>
                <a:lnTo>
                  <a:pt x="2212" y="172"/>
                </a:lnTo>
                <a:lnTo>
                  <a:pt x="2246" y="144"/>
                </a:lnTo>
                <a:lnTo>
                  <a:pt x="2257" y="102"/>
                </a:lnTo>
                <a:lnTo>
                  <a:pt x="2259" y="102"/>
                </a:lnTo>
                <a:lnTo>
                  <a:pt x="2272" y="104"/>
                </a:lnTo>
                <a:lnTo>
                  <a:pt x="2314" y="90"/>
                </a:lnTo>
                <a:lnTo>
                  <a:pt x="2344" y="83"/>
                </a:lnTo>
                <a:lnTo>
                  <a:pt x="2347" y="82"/>
                </a:lnTo>
                <a:lnTo>
                  <a:pt x="2340" y="78"/>
                </a:lnTo>
                <a:lnTo>
                  <a:pt x="2322" y="63"/>
                </a:lnTo>
                <a:lnTo>
                  <a:pt x="2309" y="52"/>
                </a:lnTo>
                <a:lnTo>
                  <a:pt x="2308" y="51"/>
                </a:lnTo>
                <a:lnTo>
                  <a:pt x="2309" y="50"/>
                </a:lnTo>
                <a:lnTo>
                  <a:pt x="2318" y="44"/>
                </a:lnTo>
                <a:lnTo>
                  <a:pt x="2346" y="20"/>
                </a:lnTo>
                <a:lnTo>
                  <a:pt x="2368" y="2"/>
                </a:lnTo>
                <a:lnTo>
                  <a:pt x="2369" y="0"/>
                </a:lnTo>
                <a:lnTo>
                  <a:pt x="2369" y="1"/>
                </a:lnTo>
                <a:lnTo>
                  <a:pt x="2375" y="3"/>
                </a:lnTo>
                <a:lnTo>
                  <a:pt x="2393" y="12"/>
                </a:lnTo>
                <a:lnTo>
                  <a:pt x="2408" y="18"/>
                </a:lnTo>
                <a:lnTo>
                  <a:pt x="2409" y="18"/>
                </a:lnTo>
                <a:lnTo>
                  <a:pt x="2409" y="19"/>
                </a:lnTo>
                <a:lnTo>
                  <a:pt x="2410" y="24"/>
                </a:lnTo>
                <a:lnTo>
                  <a:pt x="2413" y="39"/>
                </a:lnTo>
                <a:lnTo>
                  <a:pt x="2415" y="51"/>
                </a:lnTo>
                <a:lnTo>
                  <a:pt x="2416" y="51"/>
                </a:lnTo>
                <a:lnTo>
                  <a:pt x="2424" y="52"/>
                </a:lnTo>
                <a:lnTo>
                  <a:pt x="2449" y="56"/>
                </a:lnTo>
                <a:lnTo>
                  <a:pt x="2469" y="59"/>
                </a:lnTo>
                <a:lnTo>
                  <a:pt x="2470" y="59"/>
                </a:lnTo>
                <a:lnTo>
                  <a:pt x="2470" y="60"/>
                </a:lnTo>
                <a:lnTo>
                  <a:pt x="2470" y="63"/>
                </a:lnTo>
                <a:lnTo>
                  <a:pt x="2472" y="80"/>
                </a:lnTo>
                <a:lnTo>
                  <a:pt x="2473" y="92"/>
                </a:lnTo>
                <a:lnTo>
                  <a:pt x="2474" y="92"/>
                </a:lnTo>
                <a:lnTo>
                  <a:pt x="2472" y="94"/>
                </a:lnTo>
                <a:lnTo>
                  <a:pt x="2461" y="100"/>
                </a:lnTo>
                <a:lnTo>
                  <a:pt x="2422" y="122"/>
                </a:lnTo>
                <a:lnTo>
                  <a:pt x="2393" y="139"/>
                </a:lnTo>
                <a:lnTo>
                  <a:pt x="2391" y="140"/>
                </a:lnTo>
                <a:lnTo>
                  <a:pt x="2399" y="142"/>
                </a:lnTo>
                <a:lnTo>
                  <a:pt x="2423" y="146"/>
                </a:lnTo>
                <a:lnTo>
                  <a:pt x="2442" y="149"/>
                </a:lnTo>
                <a:lnTo>
                  <a:pt x="2443" y="149"/>
                </a:lnTo>
                <a:lnTo>
                  <a:pt x="2444" y="150"/>
                </a:lnTo>
                <a:lnTo>
                  <a:pt x="2451" y="157"/>
                </a:lnTo>
                <a:lnTo>
                  <a:pt x="2480" y="183"/>
                </a:lnTo>
                <a:lnTo>
                  <a:pt x="2502" y="202"/>
                </a:lnTo>
                <a:lnTo>
                  <a:pt x="2503" y="203"/>
                </a:lnTo>
                <a:lnTo>
                  <a:pt x="2505" y="202"/>
                </a:lnTo>
                <a:lnTo>
                  <a:pt x="2519" y="199"/>
                </a:lnTo>
                <a:lnTo>
                  <a:pt x="2570" y="186"/>
                </a:lnTo>
                <a:lnTo>
                  <a:pt x="2608" y="176"/>
                </a:lnTo>
                <a:lnTo>
                  <a:pt x="2610" y="175"/>
                </a:lnTo>
                <a:lnTo>
                  <a:pt x="2612" y="176"/>
                </a:lnTo>
                <a:lnTo>
                  <a:pt x="2618" y="181"/>
                </a:lnTo>
                <a:lnTo>
                  <a:pt x="2623" y="184"/>
                </a:lnTo>
                <a:lnTo>
                  <a:pt x="2623" y="184"/>
                </a:lnTo>
                <a:lnTo>
                  <a:pt x="2623" y="185"/>
                </a:lnTo>
                <a:lnTo>
                  <a:pt x="2618" y="192"/>
                </a:lnTo>
                <a:lnTo>
                  <a:pt x="2603" y="215"/>
                </a:lnTo>
                <a:lnTo>
                  <a:pt x="2592" y="234"/>
                </a:lnTo>
                <a:lnTo>
                  <a:pt x="2592" y="234"/>
                </a:lnTo>
                <a:lnTo>
                  <a:pt x="2594" y="237"/>
                </a:lnTo>
                <a:lnTo>
                  <a:pt x="2637" y="286"/>
                </a:lnTo>
                <a:lnTo>
                  <a:pt x="2670" y="313"/>
                </a:lnTo>
                <a:lnTo>
                  <a:pt x="2713" y="357"/>
                </a:lnTo>
                <a:lnTo>
                  <a:pt x="2716" y="360"/>
                </a:lnTo>
                <a:lnTo>
                  <a:pt x="2715" y="361"/>
                </a:lnTo>
                <a:lnTo>
                  <a:pt x="2711" y="371"/>
                </a:lnTo>
                <a:lnTo>
                  <a:pt x="2699" y="404"/>
                </a:lnTo>
                <a:lnTo>
                  <a:pt x="2688" y="428"/>
                </a:lnTo>
                <a:lnTo>
                  <a:pt x="2688" y="429"/>
                </a:lnTo>
                <a:lnTo>
                  <a:pt x="2688" y="431"/>
                </a:lnTo>
                <a:lnTo>
                  <a:pt x="2693" y="441"/>
                </a:lnTo>
                <a:lnTo>
                  <a:pt x="2706" y="476"/>
                </a:lnTo>
                <a:lnTo>
                  <a:pt x="2717" y="502"/>
                </a:lnTo>
                <a:lnTo>
                  <a:pt x="2717" y="504"/>
                </a:lnTo>
                <a:lnTo>
                  <a:pt x="2719" y="505"/>
                </a:lnTo>
                <a:lnTo>
                  <a:pt x="2736" y="508"/>
                </a:lnTo>
                <a:lnTo>
                  <a:pt x="2826" y="511"/>
                </a:lnTo>
                <a:lnTo>
                  <a:pt x="2834" y="530"/>
                </a:lnTo>
                <a:lnTo>
                  <a:pt x="2836" y="530"/>
                </a:lnTo>
                <a:lnTo>
                  <a:pt x="2838" y="531"/>
                </a:lnTo>
                <a:lnTo>
                  <a:pt x="2843" y="539"/>
                </a:lnTo>
                <a:lnTo>
                  <a:pt x="2877" y="592"/>
                </a:lnTo>
                <a:lnTo>
                  <a:pt x="2862" y="566"/>
                </a:lnTo>
                <a:lnTo>
                  <a:pt x="2876" y="586"/>
                </a:lnTo>
                <a:lnTo>
                  <a:pt x="2878" y="587"/>
                </a:lnTo>
                <a:lnTo>
                  <a:pt x="2879" y="588"/>
                </a:lnTo>
                <a:lnTo>
                  <a:pt x="2889" y="596"/>
                </a:lnTo>
                <a:lnTo>
                  <a:pt x="2886" y="616"/>
                </a:lnTo>
                <a:lnTo>
                  <a:pt x="2929" y="620"/>
                </a:lnTo>
                <a:lnTo>
                  <a:pt x="2925" y="649"/>
                </a:lnTo>
                <a:lnTo>
                  <a:pt x="2957" y="639"/>
                </a:lnTo>
                <a:lnTo>
                  <a:pt x="2960" y="639"/>
                </a:lnTo>
                <a:lnTo>
                  <a:pt x="2960" y="641"/>
                </a:lnTo>
                <a:lnTo>
                  <a:pt x="2968" y="653"/>
                </a:lnTo>
                <a:lnTo>
                  <a:pt x="2985" y="691"/>
                </a:lnTo>
                <a:lnTo>
                  <a:pt x="2994" y="694"/>
                </a:lnTo>
                <a:lnTo>
                  <a:pt x="3013" y="726"/>
                </a:lnTo>
                <a:lnTo>
                  <a:pt x="3015" y="727"/>
                </a:lnTo>
                <a:lnTo>
                  <a:pt x="3015" y="728"/>
                </a:lnTo>
                <a:lnTo>
                  <a:pt x="3016" y="733"/>
                </a:lnTo>
                <a:lnTo>
                  <a:pt x="3020" y="754"/>
                </a:lnTo>
                <a:lnTo>
                  <a:pt x="3023" y="769"/>
                </a:lnTo>
                <a:lnTo>
                  <a:pt x="3024" y="770"/>
                </a:lnTo>
                <a:lnTo>
                  <a:pt x="3021" y="769"/>
                </a:lnTo>
                <a:lnTo>
                  <a:pt x="3000" y="787"/>
                </a:lnTo>
                <a:lnTo>
                  <a:pt x="2955" y="775"/>
                </a:lnTo>
                <a:lnTo>
                  <a:pt x="2895" y="736"/>
                </a:lnTo>
                <a:lnTo>
                  <a:pt x="2878" y="718"/>
                </a:lnTo>
                <a:lnTo>
                  <a:pt x="2875" y="717"/>
                </a:lnTo>
                <a:lnTo>
                  <a:pt x="2871" y="721"/>
                </a:lnTo>
                <a:lnTo>
                  <a:pt x="2817" y="697"/>
                </a:lnTo>
                <a:lnTo>
                  <a:pt x="2784" y="661"/>
                </a:lnTo>
                <a:lnTo>
                  <a:pt x="2758" y="635"/>
                </a:lnTo>
                <a:lnTo>
                  <a:pt x="2755" y="632"/>
                </a:lnTo>
                <a:lnTo>
                  <a:pt x="2738" y="609"/>
                </a:lnTo>
                <a:lnTo>
                  <a:pt x="2724" y="577"/>
                </a:lnTo>
                <a:lnTo>
                  <a:pt x="2688" y="523"/>
                </a:lnTo>
                <a:lnTo>
                  <a:pt x="2646" y="481"/>
                </a:lnTo>
                <a:lnTo>
                  <a:pt x="2632" y="468"/>
                </a:lnTo>
                <a:lnTo>
                  <a:pt x="2620" y="465"/>
                </a:lnTo>
                <a:lnTo>
                  <a:pt x="2616" y="460"/>
                </a:lnTo>
                <a:lnTo>
                  <a:pt x="2545" y="452"/>
                </a:lnTo>
                <a:lnTo>
                  <a:pt x="2543" y="451"/>
                </a:lnTo>
                <a:lnTo>
                  <a:pt x="2543" y="453"/>
                </a:lnTo>
                <a:lnTo>
                  <a:pt x="2543" y="461"/>
                </a:lnTo>
                <a:lnTo>
                  <a:pt x="2550" y="478"/>
                </a:lnTo>
                <a:lnTo>
                  <a:pt x="2544" y="487"/>
                </a:lnTo>
                <a:lnTo>
                  <a:pt x="2545" y="507"/>
                </a:lnTo>
                <a:lnTo>
                  <a:pt x="2545" y="508"/>
                </a:lnTo>
                <a:lnTo>
                  <a:pt x="2546" y="509"/>
                </a:lnTo>
                <a:lnTo>
                  <a:pt x="2552" y="516"/>
                </a:lnTo>
                <a:lnTo>
                  <a:pt x="2572" y="538"/>
                </a:lnTo>
                <a:lnTo>
                  <a:pt x="2588" y="554"/>
                </a:lnTo>
                <a:lnTo>
                  <a:pt x="2590" y="555"/>
                </a:lnTo>
                <a:lnTo>
                  <a:pt x="2590" y="556"/>
                </a:lnTo>
                <a:lnTo>
                  <a:pt x="2594" y="566"/>
                </a:lnTo>
                <a:lnTo>
                  <a:pt x="2607" y="599"/>
                </a:lnTo>
                <a:lnTo>
                  <a:pt x="2617" y="625"/>
                </a:lnTo>
                <a:lnTo>
                  <a:pt x="2618" y="626"/>
                </a:lnTo>
                <a:lnTo>
                  <a:pt x="2617" y="627"/>
                </a:lnTo>
                <a:lnTo>
                  <a:pt x="2615" y="635"/>
                </a:lnTo>
                <a:lnTo>
                  <a:pt x="2609" y="661"/>
                </a:lnTo>
                <a:lnTo>
                  <a:pt x="2605" y="680"/>
                </a:lnTo>
                <a:lnTo>
                  <a:pt x="2605" y="681"/>
                </a:lnTo>
                <a:lnTo>
                  <a:pt x="2602" y="682"/>
                </a:lnTo>
                <a:lnTo>
                  <a:pt x="2592" y="685"/>
                </a:lnTo>
                <a:lnTo>
                  <a:pt x="2555" y="697"/>
                </a:lnTo>
                <a:lnTo>
                  <a:pt x="2527" y="705"/>
                </a:lnTo>
                <a:lnTo>
                  <a:pt x="2526" y="705"/>
                </a:lnTo>
                <a:lnTo>
                  <a:pt x="2524" y="707"/>
                </a:lnTo>
                <a:lnTo>
                  <a:pt x="2514" y="719"/>
                </a:lnTo>
                <a:lnTo>
                  <a:pt x="2478" y="759"/>
                </a:lnTo>
                <a:lnTo>
                  <a:pt x="2451" y="790"/>
                </a:lnTo>
                <a:lnTo>
                  <a:pt x="2450" y="791"/>
                </a:lnTo>
                <a:lnTo>
                  <a:pt x="2450" y="795"/>
                </a:lnTo>
                <a:lnTo>
                  <a:pt x="2452" y="820"/>
                </a:lnTo>
                <a:lnTo>
                  <a:pt x="2461" y="907"/>
                </a:lnTo>
                <a:lnTo>
                  <a:pt x="2468" y="972"/>
                </a:lnTo>
                <a:lnTo>
                  <a:pt x="2468" y="976"/>
                </a:lnTo>
                <a:lnTo>
                  <a:pt x="2470" y="976"/>
                </a:lnTo>
                <a:lnTo>
                  <a:pt x="2484" y="979"/>
                </a:lnTo>
                <a:lnTo>
                  <a:pt x="2531" y="990"/>
                </a:lnTo>
                <a:lnTo>
                  <a:pt x="2568" y="999"/>
                </a:lnTo>
                <a:lnTo>
                  <a:pt x="2571" y="999"/>
                </a:lnTo>
                <a:lnTo>
                  <a:pt x="2571" y="999"/>
                </a:lnTo>
                <a:lnTo>
                  <a:pt x="2571" y="993"/>
                </a:lnTo>
                <a:lnTo>
                  <a:pt x="2572" y="973"/>
                </a:lnTo>
                <a:lnTo>
                  <a:pt x="2573" y="958"/>
                </a:lnTo>
                <a:lnTo>
                  <a:pt x="2574" y="958"/>
                </a:lnTo>
                <a:lnTo>
                  <a:pt x="2575" y="958"/>
                </a:lnTo>
                <a:lnTo>
                  <a:pt x="2581" y="956"/>
                </a:lnTo>
                <a:lnTo>
                  <a:pt x="2664" y="988"/>
                </a:lnTo>
                <a:lnTo>
                  <a:pt x="2706" y="988"/>
                </a:lnTo>
                <a:lnTo>
                  <a:pt x="2709" y="997"/>
                </a:lnTo>
                <a:lnTo>
                  <a:pt x="2766" y="1030"/>
                </a:lnTo>
                <a:lnTo>
                  <a:pt x="2799" y="1069"/>
                </a:lnTo>
                <a:lnTo>
                  <a:pt x="2853" y="1084"/>
                </a:lnTo>
                <a:lnTo>
                  <a:pt x="2889" y="1099"/>
                </a:lnTo>
                <a:lnTo>
                  <a:pt x="2916" y="1150"/>
                </a:lnTo>
                <a:lnTo>
                  <a:pt x="2937" y="1180"/>
                </a:lnTo>
                <a:lnTo>
                  <a:pt x="2973" y="1207"/>
                </a:lnTo>
                <a:lnTo>
                  <a:pt x="3009" y="1218"/>
                </a:lnTo>
                <a:lnTo>
                  <a:pt x="3048" y="1284"/>
                </a:lnTo>
                <a:lnTo>
                  <a:pt x="3040" y="1309"/>
                </a:lnTo>
                <a:lnTo>
                  <a:pt x="3036" y="1325"/>
                </a:lnTo>
                <a:lnTo>
                  <a:pt x="3020" y="1491"/>
                </a:lnTo>
                <a:lnTo>
                  <a:pt x="2953" y="1541"/>
                </a:lnTo>
                <a:lnTo>
                  <a:pt x="2930" y="1556"/>
                </a:lnTo>
                <a:lnTo>
                  <a:pt x="2908" y="1559"/>
                </a:lnTo>
                <a:lnTo>
                  <a:pt x="2827" y="1564"/>
                </a:lnTo>
                <a:lnTo>
                  <a:pt x="2810" y="1498"/>
                </a:lnTo>
                <a:lnTo>
                  <a:pt x="2814" y="1497"/>
                </a:lnTo>
                <a:lnTo>
                  <a:pt x="2808" y="1487"/>
                </a:lnTo>
                <a:lnTo>
                  <a:pt x="2818" y="1497"/>
                </a:lnTo>
                <a:lnTo>
                  <a:pt x="2806" y="1486"/>
                </a:lnTo>
                <a:lnTo>
                  <a:pt x="2747" y="1458"/>
                </a:lnTo>
                <a:lnTo>
                  <a:pt x="2725" y="1457"/>
                </a:lnTo>
                <a:lnTo>
                  <a:pt x="2701" y="1460"/>
                </a:lnTo>
                <a:lnTo>
                  <a:pt x="2701" y="1469"/>
                </a:lnTo>
                <a:lnTo>
                  <a:pt x="2705" y="1484"/>
                </a:lnTo>
                <a:lnTo>
                  <a:pt x="2638" y="1475"/>
                </a:lnTo>
                <a:lnTo>
                  <a:pt x="2666" y="1482"/>
                </a:lnTo>
                <a:lnTo>
                  <a:pt x="2627" y="1460"/>
                </a:lnTo>
                <a:lnTo>
                  <a:pt x="2611" y="1445"/>
                </a:lnTo>
                <a:lnTo>
                  <a:pt x="2597" y="1435"/>
                </a:lnTo>
                <a:lnTo>
                  <a:pt x="2579" y="1416"/>
                </a:lnTo>
                <a:lnTo>
                  <a:pt x="2572" y="1412"/>
                </a:lnTo>
                <a:lnTo>
                  <a:pt x="2528" y="1391"/>
                </a:lnTo>
                <a:lnTo>
                  <a:pt x="2542" y="1393"/>
                </a:lnTo>
                <a:lnTo>
                  <a:pt x="2544" y="1392"/>
                </a:lnTo>
                <a:lnTo>
                  <a:pt x="2530" y="1390"/>
                </a:lnTo>
                <a:lnTo>
                  <a:pt x="2516" y="1379"/>
                </a:lnTo>
                <a:lnTo>
                  <a:pt x="2496" y="1364"/>
                </a:lnTo>
                <a:lnTo>
                  <a:pt x="2493" y="1369"/>
                </a:lnTo>
                <a:lnTo>
                  <a:pt x="2493" y="1367"/>
                </a:lnTo>
                <a:lnTo>
                  <a:pt x="2490" y="1376"/>
                </a:lnTo>
                <a:lnTo>
                  <a:pt x="2473" y="1359"/>
                </a:lnTo>
                <a:lnTo>
                  <a:pt x="2496" y="1381"/>
                </a:lnTo>
                <a:lnTo>
                  <a:pt x="2493" y="1374"/>
                </a:lnTo>
                <a:lnTo>
                  <a:pt x="2519" y="1388"/>
                </a:lnTo>
                <a:lnTo>
                  <a:pt x="2491" y="1363"/>
                </a:lnTo>
                <a:lnTo>
                  <a:pt x="2457" y="1355"/>
                </a:lnTo>
                <a:lnTo>
                  <a:pt x="2451" y="1312"/>
                </a:lnTo>
                <a:lnTo>
                  <a:pt x="2440" y="1300"/>
                </a:lnTo>
                <a:lnTo>
                  <a:pt x="2445" y="1298"/>
                </a:lnTo>
                <a:lnTo>
                  <a:pt x="2425" y="1289"/>
                </a:lnTo>
                <a:lnTo>
                  <a:pt x="2422" y="1273"/>
                </a:lnTo>
                <a:lnTo>
                  <a:pt x="2410" y="1261"/>
                </a:lnTo>
                <a:lnTo>
                  <a:pt x="2428" y="1274"/>
                </a:lnTo>
                <a:lnTo>
                  <a:pt x="2422" y="1274"/>
                </a:lnTo>
                <a:lnTo>
                  <a:pt x="2430" y="1271"/>
                </a:lnTo>
                <a:lnTo>
                  <a:pt x="2420" y="1263"/>
                </a:lnTo>
                <a:lnTo>
                  <a:pt x="2418" y="1262"/>
                </a:lnTo>
                <a:lnTo>
                  <a:pt x="2426" y="1266"/>
                </a:lnTo>
                <a:lnTo>
                  <a:pt x="2381" y="1247"/>
                </a:lnTo>
                <a:lnTo>
                  <a:pt x="2426" y="1269"/>
                </a:lnTo>
                <a:lnTo>
                  <a:pt x="2355" y="1240"/>
                </a:lnTo>
                <a:lnTo>
                  <a:pt x="2301" y="1216"/>
                </a:lnTo>
                <a:lnTo>
                  <a:pt x="2298" y="1218"/>
                </a:lnTo>
                <a:lnTo>
                  <a:pt x="2304" y="1218"/>
                </a:lnTo>
                <a:lnTo>
                  <a:pt x="2289" y="1211"/>
                </a:lnTo>
                <a:lnTo>
                  <a:pt x="2256" y="1218"/>
                </a:lnTo>
                <a:lnTo>
                  <a:pt x="2256" y="1218"/>
                </a:lnTo>
                <a:lnTo>
                  <a:pt x="2254" y="1218"/>
                </a:lnTo>
                <a:lnTo>
                  <a:pt x="2248" y="1221"/>
                </a:lnTo>
                <a:lnTo>
                  <a:pt x="2271" y="1216"/>
                </a:lnTo>
                <a:lnTo>
                  <a:pt x="2245" y="1221"/>
                </a:lnTo>
                <a:lnTo>
                  <a:pt x="2208" y="1223"/>
                </a:lnTo>
                <a:lnTo>
                  <a:pt x="2207" y="1224"/>
                </a:lnTo>
                <a:lnTo>
                  <a:pt x="2208" y="1225"/>
                </a:lnTo>
                <a:lnTo>
                  <a:pt x="2213" y="1230"/>
                </a:lnTo>
                <a:lnTo>
                  <a:pt x="2232" y="1247"/>
                </a:lnTo>
                <a:lnTo>
                  <a:pt x="2247" y="1261"/>
                </a:lnTo>
                <a:lnTo>
                  <a:pt x="2249" y="1262"/>
                </a:lnTo>
                <a:lnTo>
                  <a:pt x="2248" y="1263"/>
                </a:lnTo>
                <a:lnTo>
                  <a:pt x="2246" y="1270"/>
                </a:lnTo>
                <a:lnTo>
                  <a:pt x="2240" y="1296"/>
                </a:lnTo>
                <a:lnTo>
                  <a:pt x="2235" y="1316"/>
                </a:lnTo>
                <a:lnTo>
                  <a:pt x="2235" y="1316"/>
                </a:lnTo>
                <a:lnTo>
                  <a:pt x="2239" y="1320"/>
                </a:lnTo>
                <a:lnTo>
                  <a:pt x="2251" y="1334"/>
                </a:lnTo>
                <a:lnTo>
                  <a:pt x="2260" y="1343"/>
                </a:lnTo>
                <a:lnTo>
                  <a:pt x="2261" y="1343"/>
                </a:lnTo>
                <a:lnTo>
                  <a:pt x="2260" y="1344"/>
                </a:lnTo>
                <a:lnTo>
                  <a:pt x="2255" y="1349"/>
                </a:lnTo>
                <a:lnTo>
                  <a:pt x="2236" y="1367"/>
                </a:lnTo>
                <a:lnTo>
                  <a:pt x="2223" y="1380"/>
                </a:lnTo>
                <a:lnTo>
                  <a:pt x="2222" y="1381"/>
                </a:lnTo>
                <a:lnTo>
                  <a:pt x="2220" y="1381"/>
                </a:lnTo>
                <a:lnTo>
                  <a:pt x="2209" y="1381"/>
                </a:lnTo>
                <a:lnTo>
                  <a:pt x="2171" y="1381"/>
                </a:lnTo>
                <a:lnTo>
                  <a:pt x="2142" y="1381"/>
                </a:lnTo>
                <a:lnTo>
                  <a:pt x="2141" y="1381"/>
                </a:lnTo>
                <a:lnTo>
                  <a:pt x="2138" y="1381"/>
                </a:lnTo>
                <a:lnTo>
                  <a:pt x="2123" y="1389"/>
                </a:lnTo>
                <a:lnTo>
                  <a:pt x="2066" y="1415"/>
                </a:lnTo>
                <a:lnTo>
                  <a:pt x="2023" y="1435"/>
                </a:lnTo>
                <a:lnTo>
                  <a:pt x="2022" y="1435"/>
                </a:lnTo>
                <a:lnTo>
                  <a:pt x="2018" y="1436"/>
                </a:lnTo>
                <a:lnTo>
                  <a:pt x="2002" y="1434"/>
                </a:lnTo>
                <a:lnTo>
                  <a:pt x="2014" y="1412"/>
                </a:lnTo>
                <a:lnTo>
                  <a:pt x="2024" y="1392"/>
                </a:lnTo>
                <a:lnTo>
                  <a:pt x="2020" y="1362"/>
                </a:lnTo>
                <a:lnTo>
                  <a:pt x="1992" y="1362"/>
                </a:lnTo>
                <a:lnTo>
                  <a:pt x="1958" y="1368"/>
                </a:lnTo>
                <a:lnTo>
                  <a:pt x="1940" y="1346"/>
                </a:lnTo>
                <a:lnTo>
                  <a:pt x="1894" y="1356"/>
                </a:lnTo>
                <a:lnTo>
                  <a:pt x="1872" y="1368"/>
                </a:lnTo>
                <a:lnTo>
                  <a:pt x="1916" y="1348"/>
                </a:lnTo>
                <a:lnTo>
                  <a:pt x="1860" y="1382"/>
                </a:lnTo>
                <a:lnTo>
                  <a:pt x="1832" y="1400"/>
                </a:lnTo>
                <a:lnTo>
                  <a:pt x="1784" y="1410"/>
                </a:lnTo>
                <a:lnTo>
                  <a:pt x="1852" y="1390"/>
                </a:lnTo>
                <a:lnTo>
                  <a:pt x="1816" y="1402"/>
                </a:lnTo>
                <a:lnTo>
                  <a:pt x="1766" y="1414"/>
                </a:lnTo>
                <a:lnTo>
                  <a:pt x="1692" y="1406"/>
                </a:lnTo>
                <a:lnTo>
                  <a:pt x="1752" y="1410"/>
                </a:lnTo>
                <a:lnTo>
                  <a:pt x="1726" y="1412"/>
                </a:lnTo>
                <a:lnTo>
                  <a:pt x="1660" y="1400"/>
                </a:lnTo>
                <a:lnTo>
                  <a:pt x="1619" y="1378"/>
                </a:lnTo>
                <a:lnTo>
                  <a:pt x="1592" y="1374"/>
                </a:lnTo>
                <a:lnTo>
                  <a:pt x="1568" y="1371"/>
                </a:lnTo>
                <a:lnTo>
                  <a:pt x="1570" y="1340"/>
                </a:lnTo>
                <a:lnTo>
                  <a:pt x="1559" y="1367"/>
                </a:lnTo>
                <a:lnTo>
                  <a:pt x="1546" y="1342"/>
                </a:lnTo>
                <a:lnTo>
                  <a:pt x="1518" y="1338"/>
                </a:lnTo>
                <a:lnTo>
                  <a:pt x="1492" y="1340"/>
                </a:lnTo>
                <a:lnTo>
                  <a:pt x="1478" y="1350"/>
                </a:lnTo>
                <a:lnTo>
                  <a:pt x="1446" y="1348"/>
                </a:lnTo>
                <a:lnTo>
                  <a:pt x="1426" y="1342"/>
                </a:lnTo>
                <a:lnTo>
                  <a:pt x="1396" y="1330"/>
                </a:lnTo>
                <a:lnTo>
                  <a:pt x="1380" y="1290"/>
                </a:lnTo>
                <a:lnTo>
                  <a:pt x="1352" y="1270"/>
                </a:lnTo>
                <a:lnTo>
                  <a:pt x="1326" y="1268"/>
                </a:lnTo>
                <a:lnTo>
                  <a:pt x="1296" y="1264"/>
                </a:lnTo>
                <a:lnTo>
                  <a:pt x="1260" y="1250"/>
                </a:lnTo>
                <a:lnTo>
                  <a:pt x="1240" y="1232"/>
                </a:lnTo>
                <a:lnTo>
                  <a:pt x="1246" y="1248"/>
                </a:lnTo>
                <a:lnTo>
                  <a:pt x="1216" y="1260"/>
                </a:lnTo>
                <a:lnTo>
                  <a:pt x="1214" y="1280"/>
                </a:lnTo>
                <a:lnTo>
                  <a:pt x="1217" y="1364"/>
                </a:lnTo>
                <a:lnTo>
                  <a:pt x="1211" y="1378"/>
                </a:lnTo>
                <a:lnTo>
                  <a:pt x="1202" y="1383"/>
                </a:lnTo>
                <a:lnTo>
                  <a:pt x="1208" y="1388"/>
                </a:lnTo>
                <a:lnTo>
                  <a:pt x="1193" y="1395"/>
                </a:lnTo>
                <a:lnTo>
                  <a:pt x="1223" y="1359"/>
                </a:lnTo>
                <a:lnTo>
                  <a:pt x="1208" y="1383"/>
                </a:lnTo>
                <a:lnTo>
                  <a:pt x="1217" y="1362"/>
                </a:lnTo>
                <a:lnTo>
                  <a:pt x="1211" y="1383"/>
                </a:lnTo>
                <a:lnTo>
                  <a:pt x="1223" y="1367"/>
                </a:lnTo>
                <a:lnTo>
                  <a:pt x="1187" y="1397"/>
                </a:lnTo>
                <a:lnTo>
                  <a:pt x="1181" y="1392"/>
                </a:lnTo>
                <a:lnTo>
                  <a:pt x="1173" y="1390"/>
                </a:lnTo>
                <a:lnTo>
                  <a:pt x="1217" y="1357"/>
                </a:lnTo>
                <a:lnTo>
                  <a:pt x="1181" y="1388"/>
                </a:lnTo>
                <a:lnTo>
                  <a:pt x="1187" y="1390"/>
                </a:lnTo>
                <a:lnTo>
                  <a:pt x="1187" y="1385"/>
                </a:lnTo>
                <a:lnTo>
                  <a:pt x="1199" y="1388"/>
                </a:lnTo>
                <a:lnTo>
                  <a:pt x="1217" y="1364"/>
                </a:lnTo>
                <a:lnTo>
                  <a:pt x="1170" y="1390"/>
                </a:lnTo>
                <a:lnTo>
                  <a:pt x="1128" y="1385"/>
                </a:lnTo>
                <a:lnTo>
                  <a:pt x="1146" y="1385"/>
                </a:lnTo>
                <a:lnTo>
                  <a:pt x="1167" y="1390"/>
                </a:lnTo>
                <a:lnTo>
                  <a:pt x="1090" y="1381"/>
                </a:lnTo>
                <a:lnTo>
                  <a:pt x="1155" y="1376"/>
                </a:lnTo>
                <a:lnTo>
                  <a:pt x="1161" y="1385"/>
                </a:lnTo>
                <a:lnTo>
                  <a:pt x="1167" y="1390"/>
                </a:lnTo>
                <a:lnTo>
                  <a:pt x="1122" y="1390"/>
                </a:lnTo>
                <a:lnTo>
                  <a:pt x="1113" y="1376"/>
                </a:lnTo>
                <a:lnTo>
                  <a:pt x="1122" y="1381"/>
                </a:lnTo>
                <a:lnTo>
                  <a:pt x="1111" y="1376"/>
                </a:lnTo>
                <a:lnTo>
                  <a:pt x="1111" y="1381"/>
                </a:lnTo>
                <a:lnTo>
                  <a:pt x="1063" y="1369"/>
                </a:lnTo>
                <a:lnTo>
                  <a:pt x="1078" y="1383"/>
                </a:lnTo>
                <a:lnTo>
                  <a:pt x="1096" y="1383"/>
                </a:lnTo>
                <a:lnTo>
                  <a:pt x="1128" y="1388"/>
                </a:lnTo>
                <a:lnTo>
                  <a:pt x="1116" y="1378"/>
                </a:lnTo>
                <a:lnTo>
                  <a:pt x="1057" y="1376"/>
                </a:lnTo>
                <a:lnTo>
                  <a:pt x="1054" y="1371"/>
                </a:lnTo>
                <a:lnTo>
                  <a:pt x="988" y="1344"/>
                </a:lnTo>
                <a:lnTo>
                  <a:pt x="1022" y="1357"/>
                </a:lnTo>
                <a:lnTo>
                  <a:pt x="1043" y="1364"/>
                </a:lnTo>
                <a:lnTo>
                  <a:pt x="1028" y="1357"/>
                </a:lnTo>
                <a:lnTo>
                  <a:pt x="1040" y="1367"/>
                </a:lnTo>
                <a:lnTo>
                  <a:pt x="1046" y="1369"/>
                </a:lnTo>
                <a:lnTo>
                  <a:pt x="975" y="1348"/>
                </a:lnTo>
                <a:lnTo>
                  <a:pt x="933" y="1344"/>
                </a:lnTo>
                <a:lnTo>
                  <a:pt x="780" y="1416"/>
                </a:lnTo>
                <a:lnTo>
                  <a:pt x="792" y="1442"/>
                </a:lnTo>
                <a:lnTo>
                  <a:pt x="992" y="1345"/>
                </a:lnTo>
                <a:lnTo>
                  <a:pt x="995" y="1345"/>
                </a:lnTo>
                <a:lnTo>
                  <a:pt x="902" y="1353"/>
                </a:lnTo>
                <a:lnTo>
                  <a:pt x="871" y="1378"/>
                </a:lnTo>
                <a:lnTo>
                  <a:pt x="824" y="1404"/>
                </a:lnTo>
                <a:lnTo>
                  <a:pt x="874" y="1375"/>
                </a:lnTo>
                <a:lnTo>
                  <a:pt x="961" y="1344"/>
                </a:lnTo>
                <a:lnTo>
                  <a:pt x="851" y="1381"/>
                </a:lnTo>
                <a:lnTo>
                  <a:pt x="788" y="1422"/>
                </a:lnTo>
                <a:lnTo>
                  <a:pt x="811" y="1394"/>
                </a:lnTo>
                <a:lnTo>
                  <a:pt x="810" y="1446"/>
                </a:lnTo>
                <a:lnTo>
                  <a:pt x="801" y="1449"/>
                </a:lnTo>
                <a:lnTo>
                  <a:pt x="771" y="1457"/>
                </a:lnTo>
                <a:lnTo>
                  <a:pt x="746" y="1464"/>
                </a:lnTo>
                <a:lnTo>
                  <a:pt x="745" y="1464"/>
                </a:lnTo>
                <a:lnTo>
                  <a:pt x="744" y="1464"/>
                </a:lnTo>
                <a:lnTo>
                  <a:pt x="738" y="1460"/>
                </a:lnTo>
                <a:lnTo>
                  <a:pt x="721" y="1447"/>
                </a:lnTo>
                <a:lnTo>
                  <a:pt x="707" y="1439"/>
                </a:lnTo>
                <a:lnTo>
                  <a:pt x="706" y="1438"/>
                </a:lnTo>
                <a:lnTo>
                  <a:pt x="704" y="1438"/>
                </a:lnTo>
                <a:lnTo>
                  <a:pt x="698" y="1438"/>
                </a:lnTo>
                <a:lnTo>
                  <a:pt x="676" y="1438"/>
                </a:lnTo>
                <a:lnTo>
                  <a:pt x="660" y="1438"/>
                </a:lnTo>
                <a:lnTo>
                  <a:pt x="660" y="1438"/>
                </a:lnTo>
                <a:lnTo>
                  <a:pt x="661" y="1435"/>
                </a:lnTo>
                <a:lnTo>
                  <a:pt x="665" y="1424"/>
                </a:lnTo>
                <a:lnTo>
                  <a:pt x="669" y="1416"/>
                </a:lnTo>
                <a:lnTo>
                  <a:pt x="669" y="1415"/>
                </a:lnTo>
                <a:lnTo>
                  <a:pt x="665" y="1414"/>
                </a:lnTo>
                <a:lnTo>
                  <a:pt x="654" y="1406"/>
                </a:lnTo>
                <a:lnTo>
                  <a:pt x="643" y="1400"/>
                </a:lnTo>
                <a:lnTo>
                  <a:pt x="643" y="1399"/>
                </a:lnTo>
                <a:lnTo>
                  <a:pt x="639" y="1399"/>
                </a:lnTo>
                <a:lnTo>
                  <a:pt x="645" y="1408"/>
                </a:lnTo>
                <a:lnTo>
                  <a:pt x="618" y="1389"/>
                </a:lnTo>
                <a:lnTo>
                  <a:pt x="618" y="1388"/>
                </a:lnTo>
                <a:lnTo>
                  <a:pt x="615" y="1389"/>
                </a:lnTo>
                <a:lnTo>
                  <a:pt x="598" y="1391"/>
                </a:lnTo>
                <a:lnTo>
                  <a:pt x="535" y="1397"/>
                </a:lnTo>
                <a:lnTo>
                  <a:pt x="487" y="1402"/>
                </a:lnTo>
                <a:lnTo>
                  <a:pt x="484" y="1402"/>
                </a:lnTo>
                <a:lnTo>
                  <a:pt x="482" y="1403"/>
                </a:lnTo>
                <a:lnTo>
                  <a:pt x="474" y="1403"/>
                </a:lnTo>
                <a:lnTo>
                  <a:pt x="513" y="1405"/>
                </a:lnTo>
                <a:lnTo>
                  <a:pt x="418" y="1411"/>
                </a:lnTo>
                <a:lnTo>
                  <a:pt x="417" y="1411"/>
                </a:lnTo>
                <a:lnTo>
                  <a:pt x="416" y="1411"/>
                </a:lnTo>
                <a:lnTo>
                  <a:pt x="411" y="1410"/>
                </a:lnTo>
                <a:lnTo>
                  <a:pt x="392" y="1409"/>
                </a:lnTo>
                <a:lnTo>
                  <a:pt x="378" y="1407"/>
                </a:lnTo>
                <a:lnTo>
                  <a:pt x="377" y="1407"/>
                </a:lnTo>
                <a:lnTo>
                  <a:pt x="376" y="1407"/>
                </a:lnTo>
                <a:lnTo>
                  <a:pt x="374" y="1409"/>
                </a:lnTo>
                <a:lnTo>
                  <a:pt x="366" y="1416"/>
                </a:lnTo>
                <a:lnTo>
                  <a:pt x="360" y="1421"/>
                </a:lnTo>
                <a:lnTo>
                  <a:pt x="360" y="1421"/>
                </a:lnTo>
                <a:lnTo>
                  <a:pt x="362" y="1423"/>
                </a:lnTo>
                <a:lnTo>
                  <a:pt x="369" y="1430"/>
                </a:lnTo>
                <a:lnTo>
                  <a:pt x="375" y="1435"/>
                </a:lnTo>
                <a:lnTo>
                  <a:pt x="375" y="1435"/>
                </a:lnTo>
                <a:lnTo>
                  <a:pt x="371" y="1435"/>
                </a:lnTo>
                <a:lnTo>
                  <a:pt x="360" y="1437"/>
                </a:lnTo>
                <a:lnTo>
                  <a:pt x="350" y="1438"/>
                </a:lnTo>
                <a:lnTo>
                  <a:pt x="350" y="1438"/>
                </a:lnTo>
                <a:lnTo>
                  <a:pt x="349" y="1438"/>
                </a:lnTo>
                <a:lnTo>
                  <a:pt x="348" y="1439"/>
                </a:lnTo>
                <a:lnTo>
                  <a:pt x="341" y="1443"/>
                </a:lnTo>
                <a:lnTo>
                  <a:pt x="337" y="1446"/>
                </a:lnTo>
                <a:lnTo>
                  <a:pt x="337" y="1446"/>
                </a:lnTo>
                <a:lnTo>
                  <a:pt x="337" y="1446"/>
                </a:lnTo>
                <a:lnTo>
                  <a:pt x="337" y="1449"/>
                </a:lnTo>
                <a:lnTo>
                  <a:pt x="338" y="1457"/>
                </a:lnTo>
                <a:lnTo>
                  <a:pt x="339" y="1462"/>
                </a:lnTo>
                <a:lnTo>
                  <a:pt x="340" y="1462"/>
                </a:lnTo>
                <a:lnTo>
                  <a:pt x="339" y="1462"/>
                </a:lnTo>
                <a:lnTo>
                  <a:pt x="336" y="1462"/>
                </a:lnTo>
                <a:lnTo>
                  <a:pt x="325" y="1462"/>
                </a:lnTo>
                <a:lnTo>
                  <a:pt x="316" y="1461"/>
                </a:lnTo>
                <a:lnTo>
                  <a:pt x="316" y="1461"/>
                </a:lnTo>
                <a:lnTo>
                  <a:pt x="315" y="1461"/>
                </a:lnTo>
                <a:lnTo>
                  <a:pt x="314" y="1462"/>
                </a:lnTo>
                <a:lnTo>
                  <a:pt x="308" y="1465"/>
                </a:lnTo>
                <a:lnTo>
                  <a:pt x="304" y="1468"/>
                </a:lnTo>
                <a:lnTo>
                  <a:pt x="304" y="1468"/>
                </a:lnTo>
                <a:lnTo>
                  <a:pt x="305" y="1471"/>
                </a:lnTo>
                <a:lnTo>
                  <a:pt x="311" y="1477"/>
                </a:lnTo>
                <a:lnTo>
                  <a:pt x="315" y="1483"/>
                </a:lnTo>
                <a:lnTo>
                  <a:pt x="316" y="1483"/>
                </a:lnTo>
                <a:lnTo>
                  <a:pt x="319" y="1483"/>
                </a:lnTo>
                <a:lnTo>
                  <a:pt x="329" y="1486"/>
                </a:lnTo>
                <a:lnTo>
                  <a:pt x="336" y="1486"/>
                </a:lnTo>
                <a:lnTo>
                  <a:pt x="337" y="1486"/>
                </a:lnTo>
                <a:lnTo>
                  <a:pt x="337" y="1487"/>
                </a:lnTo>
                <a:lnTo>
                  <a:pt x="337" y="1490"/>
                </a:lnTo>
                <a:lnTo>
                  <a:pt x="341" y="1501"/>
                </a:lnTo>
                <a:lnTo>
                  <a:pt x="343" y="1508"/>
                </a:lnTo>
                <a:lnTo>
                  <a:pt x="344" y="1508"/>
                </a:lnTo>
                <a:lnTo>
                  <a:pt x="343" y="1508"/>
                </a:lnTo>
                <a:lnTo>
                  <a:pt x="339" y="1510"/>
                </a:lnTo>
                <a:lnTo>
                  <a:pt x="326" y="1515"/>
                </a:lnTo>
                <a:lnTo>
                  <a:pt x="316" y="1520"/>
                </a:lnTo>
                <a:lnTo>
                  <a:pt x="316" y="1520"/>
                </a:lnTo>
                <a:lnTo>
                  <a:pt x="312" y="1519"/>
                </a:lnTo>
                <a:lnTo>
                  <a:pt x="301" y="1512"/>
                </a:lnTo>
                <a:lnTo>
                  <a:pt x="293" y="1508"/>
                </a:lnTo>
                <a:lnTo>
                  <a:pt x="293" y="1508"/>
                </a:lnTo>
                <a:lnTo>
                  <a:pt x="292" y="1508"/>
                </a:lnTo>
                <a:lnTo>
                  <a:pt x="288" y="1508"/>
                </a:lnTo>
                <a:lnTo>
                  <a:pt x="271" y="1507"/>
                </a:lnTo>
                <a:lnTo>
                  <a:pt x="258" y="1506"/>
                </a:lnTo>
                <a:lnTo>
                  <a:pt x="257" y="1506"/>
                </a:lnTo>
                <a:lnTo>
                  <a:pt x="257" y="1505"/>
                </a:lnTo>
                <a:lnTo>
                  <a:pt x="253" y="1501"/>
                </a:lnTo>
                <a:lnTo>
                  <a:pt x="242" y="1488"/>
                </a:lnTo>
                <a:lnTo>
                  <a:pt x="235" y="1477"/>
                </a:lnTo>
                <a:lnTo>
                  <a:pt x="235" y="1476"/>
                </a:lnTo>
                <a:lnTo>
                  <a:pt x="232" y="1476"/>
                </a:lnTo>
                <a:lnTo>
                  <a:pt x="222" y="1475"/>
                </a:lnTo>
                <a:lnTo>
                  <a:pt x="183" y="1471"/>
                </a:lnTo>
                <a:lnTo>
                  <a:pt x="154" y="1468"/>
                </a:lnTo>
                <a:lnTo>
                  <a:pt x="152" y="1467"/>
                </a:lnTo>
                <a:lnTo>
                  <a:pt x="151" y="1468"/>
                </a:lnTo>
                <a:lnTo>
                  <a:pt x="146" y="1469"/>
                </a:lnTo>
                <a:lnTo>
                  <a:pt x="129" y="1476"/>
                </a:lnTo>
                <a:lnTo>
                  <a:pt x="116" y="1481"/>
                </a:lnTo>
                <a:lnTo>
                  <a:pt x="115" y="1481"/>
                </a:lnTo>
                <a:lnTo>
                  <a:pt x="113" y="1475"/>
                </a:lnTo>
                <a:lnTo>
                  <a:pt x="109" y="1455"/>
                </a:lnTo>
                <a:lnTo>
                  <a:pt x="106" y="1439"/>
                </a:lnTo>
                <a:lnTo>
                  <a:pt x="106" y="1439"/>
                </a:lnTo>
                <a:lnTo>
                  <a:pt x="101" y="1434"/>
                </a:lnTo>
                <a:lnTo>
                  <a:pt x="86" y="1421"/>
                </a:lnTo>
                <a:lnTo>
                  <a:pt x="74" y="1410"/>
                </a:lnTo>
                <a:lnTo>
                  <a:pt x="73" y="1410"/>
                </a:lnTo>
                <a:lnTo>
                  <a:pt x="71" y="1410"/>
                </a:lnTo>
                <a:lnTo>
                  <a:pt x="61" y="1410"/>
                </a:lnTo>
                <a:lnTo>
                  <a:pt x="28" y="1409"/>
                </a:lnTo>
                <a:lnTo>
                  <a:pt x="2" y="1409"/>
                </a:lnTo>
                <a:lnTo>
                  <a:pt x="1" y="1408"/>
                </a:lnTo>
                <a:lnTo>
                  <a:pt x="0" y="1408"/>
                </a:lnTo>
                <a:lnTo>
                  <a:pt x="1" y="1408"/>
                </a:lnTo>
                <a:lnTo>
                  <a:pt x="0" y="1408"/>
                </a:lnTo>
                <a:lnTo>
                  <a:pt x="1" y="1408"/>
                </a:lnTo>
                <a:lnTo>
                  <a:pt x="9" y="1406"/>
                </a:lnTo>
                <a:lnTo>
                  <a:pt x="36" y="1397"/>
                </a:lnTo>
                <a:lnTo>
                  <a:pt x="56" y="1391"/>
                </a:lnTo>
                <a:lnTo>
                  <a:pt x="58" y="1390"/>
                </a:lnTo>
                <a:lnTo>
                  <a:pt x="58" y="1390"/>
                </a:lnTo>
                <a:close/>
              </a:path>
            </a:pathLst>
          </a:custGeom>
          <a:noFill/>
          <a:ln w="64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20760" y="2241720"/>
            <a:ext cx="2322720" cy="1393560"/>
          </a:xfrm>
          <a:custGeom>
            <a:avLst/>
            <a:gdLst/>
            <a:ahLst/>
            <a:rect l="l" t="t" r="r" b="b"/>
            <a:pathLst>
              <a:path w="8064" h="5105">
                <a:moveTo>
                  <a:pt x="1837" y="773"/>
                </a:moveTo>
                <a:lnTo>
                  <a:pt x="1831" y="771"/>
                </a:lnTo>
                <a:lnTo>
                  <a:pt x="1823" y="770"/>
                </a:lnTo>
                <a:lnTo>
                  <a:pt x="1815" y="768"/>
                </a:lnTo>
                <a:lnTo>
                  <a:pt x="1808" y="770"/>
                </a:lnTo>
                <a:lnTo>
                  <a:pt x="1792" y="771"/>
                </a:lnTo>
                <a:lnTo>
                  <a:pt x="1789" y="770"/>
                </a:lnTo>
                <a:lnTo>
                  <a:pt x="1786" y="771"/>
                </a:lnTo>
                <a:lnTo>
                  <a:pt x="1785" y="773"/>
                </a:lnTo>
                <a:lnTo>
                  <a:pt x="1782" y="774"/>
                </a:lnTo>
                <a:lnTo>
                  <a:pt x="1779" y="778"/>
                </a:lnTo>
                <a:lnTo>
                  <a:pt x="1775" y="784"/>
                </a:lnTo>
                <a:lnTo>
                  <a:pt x="1775" y="786"/>
                </a:lnTo>
                <a:lnTo>
                  <a:pt x="1775" y="789"/>
                </a:lnTo>
                <a:lnTo>
                  <a:pt x="1775" y="791"/>
                </a:lnTo>
                <a:lnTo>
                  <a:pt x="1776" y="793"/>
                </a:lnTo>
                <a:lnTo>
                  <a:pt x="1781" y="797"/>
                </a:lnTo>
                <a:lnTo>
                  <a:pt x="1788" y="806"/>
                </a:lnTo>
                <a:lnTo>
                  <a:pt x="1789" y="812"/>
                </a:lnTo>
                <a:lnTo>
                  <a:pt x="1785" y="819"/>
                </a:lnTo>
                <a:lnTo>
                  <a:pt x="1778" y="831"/>
                </a:lnTo>
                <a:lnTo>
                  <a:pt x="1768" y="839"/>
                </a:lnTo>
                <a:lnTo>
                  <a:pt x="1744" y="857"/>
                </a:lnTo>
                <a:lnTo>
                  <a:pt x="1727" y="868"/>
                </a:lnTo>
                <a:lnTo>
                  <a:pt x="1721" y="871"/>
                </a:lnTo>
                <a:lnTo>
                  <a:pt x="1715" y="873"/>
                </a:lnTo>
                <a:lnTo>
                  <a:pt x="1708" y="874"/>
                </a:lnTo>
                <a:lnTo>
                  <a:pt x="1695" y="874"/>
                </a:lnTo>
                <a:lnTo>
                  <a:pt x="1665" y="873"/>
                </a:lnTo>
                <a:lnTo>
                  <a:pt x="1646" y="877"/>
                </a:lnTo>
                <a:lnTo>
                  <a:pt x="1642" y="878"/>
                </a:lnTo>
                <a:lnTo>
                  <a:pt x="1634" y="880"/>
                </a:lnTo>
                <a:lnTo>
                  <a:pt x="1620" y="884"/>
                </a:lnTo>
                <a:lnTo>
                  <a:pt x="1614" y="889"/>
                </a:lnTo>
                <a:lnTo>
                  <a:pt x="1611" y="896"/>
                </a:lnTo>
                <a:lnTo>
                  <a:pt x="1611" y="899"/>
                </a:lnTo>
                <a:lnTo>
                  <a:pt x="1610" y="907"/>
                </a:lnTo>
                <a:lnTo>
                  <a:pt x="1608" y="925"/>
                </a:lnTo>
                <a:lnTo>
                  <a:pt x="1610" y="960"/>
                </a:lnTo>
                <a:lnTo>
                  <a:pt x="1615" y="975"/>
                </a:lnTo>
                <a:lnTo>
                  <a:pt x="1626" y="990"/>
                </a:lnTo>
                <a:lnTo>
                  <a:pt x="1633" y="996"/>
                </a:lnTo>
                <a:lnTo>
                  <a:pt x="1633" y="999"/>
                </a:lnTo>
                <a:lnTo>
                  <a:pt x="1633" y="1002"/>
                </a:lnTo>
                <a:lnTo>
                  <a:pt x="1631" y="1003"/>
                </a:lnTo>
                <a:lnTo>
                  <a:pt x="1629" y="1007"/>
                </a:lnTo>
                <a:lnTo>
                  <a:pt x="1623" y="1017"/>
                </a:lnTo>
                <a:lnTo>
                  <a:pt x="1621" y="1020"/>
                </a:lnTo>
                <a:lnTo>
                  <a:pt x="1618" y="1026"/>
                </a:lnTo>
                <a:lnTo>
                  <a:pt x="1620" y="1032"/>
                </a:lnTo>
                <a:lnTo>
                  <a:pt x="1621" y="1036"/>
                </a:lnTo>
                <a:lnTo>
                  <a:pt x="1624" y="1042"/>
                </a:lnTo>
                <a:lnTo>
                  <a:pt x="1630" y="1051"/>
                </a:lnTo>
                <a:lnTo>
                  <a:pt x="1637" y="1061"/>
                </a:lnTo>
                <a:lnTo>
                  <a:pt x="1642" y="1070"/>
                </a:lnTo>
                <a:lnTo>
                  <a:pt x="1640" y="1078"/>
                </a:lnTo>
                <a:lnTo>
                  <a:pt x="1640" y="1078"/>
                </a:lnTo>
                <a:lnTo>
                  <a:pt x="1633" y="1088"/>
                </a:lnTo>
                <a:lnTo>
                  <a:pt x="1615" y="1107"/>
                </a:lnTo>
                <a:lnTo>
                  <a:pt x="1575" y="1135"/>
                </a:lnTo>
                <a:lnTo>
                  <a:pt x="1555" y="1141"/>
                </a:lnTo>
                <a:lnTo>
                  <a:pt x="1536" y="1142"/>
                </a:lnTo>
                <a:lnTo>
                  <a:pt x="1527" y="1139"/>
                </a:lnTo>
                <a:lnTo>
                  <a:pt x="1508" y="1135"/>
                </a:lnTo>
                <a:lnTo>
                  <a:pt x="1473" y="1128"/>
                </a:lnTo>
                <a:lnTo>
                  <a:pt x="1404" y="1120"/>
                </a:lnTo>
                <a:lnTo>
                  <a:pt x="1336" y="1104"/>
                </a:lnTo>
                <a:lnTo>
                  <a:pt x="1320" y="1096"/>
                </a:lnTo>
                <a:lnTo>
                  <a:pt x="1314" y="1094"/>
                </a:lnTo>
                <a:lnTo>
                  <a:pt x="1307" y="1093"/>
                </a:lnTo>
                <a:lnTo>
                  <a:pt x="1300" y="1094"/>
                </a:lnTo>
                <a:lnTo>
                  <a:pt x="1284" y="1099"/>
                </a:lnTo>
                <a:lnTo>
                  <a:pt x="1269" y="1107"/>
                </a:lnTo>
                <a:lnTo>
                  <a:pt x="1258" y="1119"/>
                </a:lnTo>
                <a:lnTo>
                  <a:pt x="1250" y="1133"/>
                </a:lnTo>
                <a:lnTo>
                  <a:pt x="1250" y="1141"/>
                </a:lnTo>
                <a:lnTo>
                  <a:pt x="1249" y="1161"/>
                </a:lnTo>
                <a:lnTo>
                  <a:pt x="1246" y="1199"/>
                </a:lnTo>
                <a:lnTo>
                  <a:pt x="1226" y="1271"/>
                </a:lnTo>
                <a:lnTo>
                  <a:pt x="1200" y="1341"/>
                </a:lnTo>
                <a:lnTo>
                  <a:pt x="1194" y="1357"/>
                </a:lnTo>
                <a:lnTo>
                  <a:pt x="1198" y="1358"/>
                </a:lnTo>
                <a:lnTo>
                  <a:pt x="1204" y="1358"/>
                </a:lnTo>
                <a:lnTo>
                  <a:pt x="1208" y="1361"/>
                </a:lnTo>
                <a:lnTo>
                  <a:pt x="1211" y="1364"/>
                </a:lnTo>
                <a:lnTo>
                  <a:pt x="1216" y="1367"/>
                </a:lnTo>
                <a:lnTo>
                  <a:pt x="1220" y="1375"/>
                </a:lnTo>
                <a:lnTo>
                  <a:pt x="1226" y="1383"/>
                </a:lnTo>
                <a:lnTo>
                  <a:pt x="1230" y="1391"/>
                </a:lnTo>
                <a:lnTo>
                  <a:pt x="1234" y="1394"/>
                </a:lnTo>
                <a:lnTo>
                  <a:pt x="1236" y="1399"/>
                </a:lnTo>
                <a:lnTo>
                  <a:pt x="1237" y="1401"/>
                </a:lnTo>
                <a:lnTo>
                  <a:pt x="1239" y="1407"/>
                </a:lnTo>
                <a:lnTo>
                  <a:pt x="1237" y="1415"/>
                </a:lnTo>
                <a:lnTo>
                  <a:pt x="1236" y="1420"/>
                </a:lnTo>
                <a:lnTo>
                  <a:pt x="1232" y="1423"/>
                </a:lnTo>
                <a:lnTo>
                  <a:pt x="1229" y="1423"/>
                </a:lnTo>
                <a:lnTo>
                  <a:pt x="1216" y="1423"/>
                </a:lnTo>
                <a:lnTo>
                  <a:pt x="1192" y="1423"/>
                </a:lnTo>
                <a:lnTo>
                  <a:pt x="1149" y="1416"/>
                </a:lnTo>
                <a:lnTo>
                  <a:pt x="1104" y="1397"/>
                </a:lnTo>
                <a:lnTo>
                  <a:pt x="1094" y="1390"/>
                </a:lnTo>
                <a:lnTo>
                  <a:pt x="1084" y="1387"/>
                </a:lnTo>
                <a:lnTo>
                  <a:pt x="1074" y="1384"/>
                </a:lnTo>
                <a:lnTo>
                  <a:pt x="1062" y="1384"/>
                </a:lnTo>
                <a:lnTo>
                  <a:pt x="1039" y="1388"/>
                </a:lnTo>
                <a:lnTo>
                  <a:pt x="1014" y="1396"/>
                </a:lnTo>
                <a:lnTo>
                  <a:pt x="964" y="1410"/>
                </a:lnTo>
                <a:lnTo>
                  <a:pt x="952" y="1412"/>
                </a:lnTo>
                <a:lnTo>
                  <a:pt x="945" y="1413"/>
                </a:lnTo>
                <a:lnTo>
                  <a:pt x="932" y="1416"/>
                </a:lnTo>
                <a:lnTo>
                  <a:pt x="908" y="1426"/>
                </a:lnTo>
                <a:lnTo>
                  <a:pt x="890" y="1442"/>
                </a:lnTo>
                <a:lnTo>
                  <a:pt x="887" y="1446"/>
                </a:lnTo>
                <a:lnTo>
                  <a:pt x="882" y="1455"/>
                </a:lnTo>
                <a:lnTo>
                  <a:pt x="881" y="1462"/>
                </a:lnTo>
                <a:lnTo>
                  <a:pt x="881" y="1468"/>
                </a:lnTo>
                <a:lnTo>
                  <a:pt x="882" y="1474"/>
                </a:lnTo>
                <a:lnTo>
                  <a:pt x="885" y="1478"/>
                </a:lnTo>
                <a:lnTo>
                  <a:pt x="890" y="1483"/>
                </a:lnTo>
                <a:lnTo>
                  <a:pt x="895" y="1486"/>
                </a:lnTo>
                <a:lnTo>
                  <a:pt x="903" y="1487"/>
                </a:lnTo>
                <a:lnTo>
                  <a:pt x="917" y="1490"/>
                </a:lnTo>
                <a:lnTo>
                  <a:pt x="933" y="1487"/>
                </a:lnTo>
                <a:lnTo>
                  <a:pt x="935" y="1487"/>
                </a:lnTo>
                <a:lnTo>
                  <a:pt x="935" y="1499"/>
                </a:lnTo>
                <a:lnTo>
                  <a:pt x="933" y="1522"/>
                </a:lnTo>
                <a:lnTo>
                  <a:pt x="929" y="1565"/>
                </a:lnTo>
                <a:lnTo>
                  <a:pt x="932" y="1587"/>
                </a:lnTo>
                <a:lnTo>
                  <a:pt x="940" y="1607"/>
                </a:lnTo>
                <a:lnTo>
                  <a:pt x="949" y="1617"/>
                </a:lnTo>
                <a:lnTo>
                  <a:pt x="950" y="1622"/>
                </a:lnTo>
                <a:lnTo>
                  <a:pt x="950" y="1625"/>
                </a:lnTo>
                <a:lnTo>
                  <a:pt x="950" y="1628"/>
                </a:lnTo>
                <a:lnTo>
                  <a:pt x="949" y="1630"/>
                </a:lnTo>
                <a:lnTo>
                  <a:pt x="946" y="1638"/>
                </a:lnTo>
                <a:lnTo>
                  <a:pt x="942" y="1645"/>
                </a:lnTo>
                <a:lnTo>
                  <a:pt x="942" y="1652"/>
                </a:lnTo>
                <a:lnTo>
                  <a:pt x="943" y="1659"/>
                </a:lnTo>
                <a:lnTo>
                  <a:pt x="945" y="1659"/>
                </a:lnTo>
                <a:lnTo>
                  <a:pt x="949" y="1667"/>
                </a:lnTo>
                <a:lnTo>
                  <a:pt x="959" y="1678"/>
                </a:lnTo>
                <a:lnTo>
                  <a:pt x="982" y="1703"/>
                </a:lnTo>
                <a:lnTo>
                  <a:pt x="990" y="1716"/>
                </a:lnTo>
                <a:lnTo>
                  <a:pt x="991" y="1729"/>
                </a:lnTo>
                <a:lnTo>
                  <a:pt x="991" y="1736"/>
                </a:lnTo>
                <a:lnTo>
                  <a:pt x="987" y="1746"/>
                </a:lnTo>
                <a:lnTo>
                  <a:pt x="981" y="1754"/>
                </a:lnTo>
                <a:lnTo>
                  <a:pt x="974" y="1759"/>
                </a:lnTo>
                <a:lnTo>
                  <a:pt x="965" y="1764"/>
                </a:lnTo>
                <a:lnTo>
                  <a:pt x="946" y="1771"/>
                </a:lnTo>
                <a:lnTo>
                  <a:pt x="929" y="1780"/>
                </a:lnTo>
                <a:lnTo>
                  <a:pt x="917" y="1790"/>
                </a:lnTo>
                <a:lnTo>
                  <a:pt x="913" y="1797"/>
                </a:lnTo>
                <a:lnTo>
                  <a:pt x="911" y="1806"/>
                </a:lnTo>
                <a:lnTo>
                  <a:pt x="913" y="1806"/>
                </a:lnTo>
                <a:lnTo>
                  <a:pt x="913" y="1813"/>
                </a:lnTo>
                <a:lnTo>
                  <a:pt x="916" y="1825"/>
                </a:lnTo>
                <a:lnTo>
                  <a:pt x="921" y="1838"/>
                </a:lnTo>
                <a:lnTo>
                  <a:pt x="932" y="1864"/>
                </a:lnTo>
                <a:lnTo>
                  <a:pt x="935" y="1885"/>
                </a:lnTo>
                <a:lnTo>
                  <a:pt x="933" y="1890"/>
                </a:lnTo>
                <a:lnTo>
                  <a:pt x="932" y="1893"/>
                </a:lnTo>
                <a:lnTo>
                  <a:pt x="927" y="1903"/>
                </a:lnTo>
                <a:lnTo>
                  <a:pt x="913" y="1923"/>
                </a:lnTo>
                <a:lnTo>
                  <a:pt x="900" y="1933"/>
                </a:lnTo>
                <a:lnTo>
                  <a:pt x="877" y="1941"/>
                </a:lnTo>
                <a:lnTo>
                  <a:pt x="835" y="1954"/>
                </a:lnTo>
                <a:lnTo>
                  <a:pt x="758" y="1978"/>
                </a:lnTo>
                <a:lnTo>
                  <a:pt x="682" y="2013"/>
                </a:lnTo>
                <a:lnTo>
                  <a:pt x="664" y="2025"/>
                </a:lnTo>
                <a:lnTo>
                  <a:pt x="648" y="2033"/>
                </a:lnTo>
                <a:lnTo>
                  <a:pt x="617" y="2045"/>
                </a:lnTo>
                <a:lnTo>
                  <a:pt x="585" y="2052"/>
                </a:lnTo>
                <a:lnTo>
                  <a:pt x="523" y="2056"/>
                </a:lnTo>
                <a:lnTo>
                  <a:pt x="478" y="2065"/>
                </a:lnTo>
                <a:lnTo>
                  <a:pt x="467" y="2071"/>
                </a:lnTo>
                <a:lnTo>
                  <a:pt x="456" y="2077"/>
                </a:lnTo>
                <a:lnTo>
                  <a:pt x="449" y="2085"/>
                </a:lnTo>
                <a:lnTo>
                  <a:pt x="433" y="2104"/>
                </a:lnTo>
                <a:lnTo>
                  <a:pt x="403" y="2146"/>
                </a:lnTo>
                <a:lnTo>
                  <a:pt x="371" y="2168"/>
                </a:lnTo>
                <a:lnTo>
                  <a:pt x="365" y="2171"/>
                </a:lnTo>
                <a:lnTo>
                  <a:pt x="355" y="2172"/>
                </a:lnTo>
                <a:lnTo>
                  <a:pt x="336" y="2174"/>
                </a:lnTo>
                <a:lnTo>
                  <a:pt x="316" y="2178"/>
                </a:lnTo>
                <a:lnTo>
                  <a:pt x="312" y="2180"/>
                </a:lnTo>
                <a:lnTo>
                  <a:pt x="310" y="2175"/>
                </a:lnTo>
                <a:lnTo>
                  <a:pt x="309" y="2174"/>
                </a:lnTo>
                <a:lnTo>
                  <a:pt x="306" y="2169"/>
                </a:lnTo>
                <a:lnTo>
                  <a:pt x="301" y="2161"/>
                </a:lnTo>
                <a:lnTo>
                  <a:pt x="303" y="2152"/>
                </a:lnTo>
                <a:lnTo>
                  <a:pt x="293" y="2149"/>
                </a:lnTo>
                <a:lnTo>
                  <a:pt x="275" y="2148"/>
                </a:lnTo>
                <a:lnTo>
                  <a:pt x="258" y="2149"/>
                </a:lnTo>
                <a:lnTo>
                  <a:pt x="241" y="2154"/>
                </a:lnTo>
                <a:lnTo>
                  <a:pt x="206" y="2162"/>
                </a:lnTo>
                <a:lnTo>
                  <a:pt x="199" y="2162"/>
                </a:lnTo>
                <a:lnTo>
                  <a:pt x="193" y="2164"/>
                </a:lnTo>
                <a:lnTo>
                  <a:pt x="185" y="2167"/>
                </a:lnTo>
                <a:lnTo>
                  <a:pt x="177" y="2172"/>
                </a:lnTo>
                <a:lnTo>
                  <a:pt x="171" y="2178"/>
                </a:lnTo>
                <a:lnTo>
                  <a:pt x="159" y="2193"/>
                </a:lnTo>
                <a:lnTo>
                  <a:pt x="157" y="2196"/>
                </a:lnTo>
                <a:lnTo>
                  <a:pt x="152" y="2201"/>
                </a:lnTo>
                <a:lnTo>
                  <a:pt x="148" y="2204"/>
                </a:lnTo>
                <a:lnTo>
                  <a:pt x="143" y="2206"/>
                </a:lnTo>
                <a:lnTo>
                  <a:pt x="139" y="2206"/>
                </a:lnTo>
                <a:lnTo>
                  <a:pt x="135" y="2206"/>
                </a:lnTo>
                <a:lnTo>
                  <a:pt x="130" y="2204"/>
                </a:lnTo>
                <a:lnTo>
                  <a:pt x="125" y="2201"/>
                </a:lnTo>
                <a:lnTo>
                  <a:pt x="119" y="2198"/>
                </a:lnTo>
                <a:lnTo>
                  <a:pt x="114" y="2198"/>
                </a:lnTo>
                <a:lnTo>
                  <a:pt x="114" y="2198"/>
                </a:lnTo>
                <a:lnTo>
                  <a:pt x="109" y="2203"/>
                </a:lnTo>
                <a:lnTo>
                  <a:pt x="99" y="2211"/>
                </a:lnTo>
                <a:lnTo>
                  <a:pt x="77" y="2232"/>
                </a:lnTo>
                <a:lnTo>
                  <a:pt x="71" y="2243"/>
                </a:lnTo>
                <a:lnTo>
                  <a:pt x="70" y="2259"/>
                </a:lnTo>
                <a:lnTo>
                  <a:pt x="72" y="2267"/>
                </a:lnTo>
                <a:lnTo>
                  <a:pt x="72" y="2275"/>
                </a:lnTo>
                <a:lnTo>
                  <a:pt x="72" y="2282"/>
                </a:lnTo>
                <a:lnTo>
                  <a:pt x="68" y="2290"/>
                </a:lnTo>
                <a:lnTo>
                  <a:pt x="64" y="2297"/>
                </a:lnTo>
                <a:lnTo>
                  <a:pt x="51" y="2309"/>
                </a:lnTo>
                <a:lnTo>
                  <a:pt x="38" y="2320"/>
                </a:lnTo>
                <a:lnTo>
                  <a:pt x="28" y="2332"/>
                </a:lnTo>
                <a:lnTo>
                  <a:pt x="26" y="2338"/>
                </a:lnTo>
                <a:lnTo>
                  <a:pt x="25" y="2342"/>
                </a:lnTo>
                <a:lnTo>
                  <a:pt x="26" y="2342"/>
                </a:lnTo>
                <a:lnTo>
                  <a:pt x="28" y="2355"/>
                </a:lnTo>
                <a:lnTo>
                  <a:pt x="32" y="2381"/>
                </a:lnTo>
                <a:lnTo>
                  <a:pt x="51" y="2436"/>
                </a:lnTo>
                <a:lnTo>
                  <a:pt x="64" y="2456"/>
                </a:lnTo>
                <a:lnTo>
                  <a:pt x="72" y="2464"/>
                </a:lnTo>
                <a:lnTo>
                  <a:pt x="83" y="2466"/>
                </a:lnTo>
                <a:lnTo>
                  <a:pt x="93" y="2466"/>
                </a:lnTo>
                <a:lnTo>
                  <a:pt x="94" y="2466"/>
                </a:lnTo>
                <a:lnTo>
                  <a:pt x="101" y="2466"/>
                </a:lnTo>
                <a:lnTo>
                  <a:pt x="119" y="2464"/>
                </a:lnTo>
                <a:lnTo>
                  <a:pt x="154" y="2464"/>
                </a:lnTo>
                <a:lnTo>
                  <a:pt x="168" y="2468"/>
                </a:lnTo>
                <a:lnTo>
                  <a:pt x="181" y="2477"/>
                </a:lnTo>
                <a:lnTo>
                  <a:pt x="187" y="2482"/>
                </a:lnTo>
                <a:lnTo>
                  <a:pt x="188" y="2490"/>
                </a:lnTo>
                <a:lnTo>
                  <a:pt x="190" y="2495"/>
                </a:lnTo>
                <a:lnTo>
                  <a:pt x="190" y="2509"/>
                </a:lnTo>
                <a:lnTo>
                  <a:pt x="185" y="2517"/>
                </a:lnTo>
                <a:lnTo>
                  <a:pt x="183" y="2524"/>
                </a:lnTo>
                <a:lnTo>
                  <a:pt x="183" y="2530"/>
                </a:lnTo>
                <a:lnTo>
                  <a:pt x="184" y="2537"/>
                </a:lnTo>
                <a:lnTo>
                  <a:pt x="187" y="2543"/>
                </a:lnTo>
                <a:lnTo>
                  <a:pt x="194" y="2558"/>
                </a:lnTo>
                <a:lnTo>
                  <a:pt x="200" y="2572"/>
                </a:lnTo>
                <a:lnTo>
                  <a:pt x="203" y="2588"/>
                </a:lnTo>
                <a:lnTo>
                  <a:pt x="199" y="2603"/>
                </a:lnTo>
                <a:lnTo>
                  <a:pt x="199" y="2603"/>
                </a:lnTo>
                <a:lnTo>
                  <a:pt x="201" y="2606"/>
                </a:lnTo>
                <a:lnTo>
                  <a:pt x="204" y="2607"/>
                </a:lnTo>
                <a:lnTo>
                  <a:pt x="207" y="2610"/>
                </a:lnTo>
                <a:lnTo>
                  <a:pt x="209" y="2613"/>
                </a:lnTo>
                <a:lnTo>
                  <a:pt x="209" y="2616"/>
                </a:lnTo>
                <a:lnTo>
                  <a:pt x="210" y="2623"/>
                </a:lnTo>
                <a:lnTo>
                  <a:pt x="210" y="2630"/>
                </a:lnTo>
                <a:lnTo>
                  <a:pt x="213" y="2636"/>
                </a:lnTo>
                <a:lnTo>
                  <a:pt x="216" y="2637"/>
                </a:lnTo>
                <a:lnTo>
                  <a:pt x="199" y="2642"/>
                </a:lnTo>
                <a:lnTo>
                  <a:pt x="161" y="2646"/>
                </a:lnTo>
                <a:lnTo>
                  <a:pt x="78" y="2656"/>
                </a:lnTo>
                <a:lnTo>
                  <a:pt x="43" y="2662"/>
                </a:lnTo>
                <a:lnTo>
                  <a:pt x="19" y="2672"/>
                </a:lnTo>
                <a:lnTo>
                  <a:pt x="13" y="2677"/>
                </a:lnTo>
                <a:lnTo>
                  <a:pt x="12" y="2681"/>
                </a:lnTo>
                <a:lnTo>
                  <a:pt x="9" y="2690"/>
                </a:lnTo>
                <a:lnTo>
                  <a:pt x="7" y="2695"/>
                </a:lnTo>
                <a:lnTo>
                  <a:pt x="7" y="2695"/>
                </a:lnTo>
                <a:lnTo>
                  <a:pt x="6" y="2700"/>
                </a:lnTo>
                <a:lnTo>
                  <a:pt x="1" y="2710"/>
                </a:lnTo>
                <a:lnTo>
                  <a:pt x="0" y="2719"/>
                </a:lnTo>
                <a:lnTo>
                  <a:pt x="0" y="2719"/>
                </a:lnTo>
                <a:lnTo>
                  <a:pt x="3" y="2723"/>
                </a:lnTo>
                <a:lnTo>
                  <a:pt x="7" y="2726"/>
                </a:lnTo>
                <a:lnTo>
                  <a:pt x="16" y="2729"/>
                </a:lnTo>
                <a:lnTo>
                  <a:pt x="26" y="2729"/>
                </a:lnTo>
                <a:lnTo>
                  <a:pt x="39" y="2724"/>
                </a:lnTo>
                <a:lnTo>
                  <a:pt x="48" y="2719"/>
                </a:lnTo>
                <a:lnTo>
                  <a:pt x="55" y="2713"/>
                </a:lnTo>
                <a:lnTo>
                  <a:pt x="72" y="2703"/>
                </a:lnTo>
                <a:lnTo>
                  <a:pt x="104" y="2688"/>
                </a:lnTo>
                <a:lnTo>
                  <a:pt x="135" y="2682"/>
                </a:lnTo>
                <a:lnTo>
                  <a:pt x="143" y="2682"/>
                </a:lnTo>
                <a:lnTo>
                  <a:pt x="151" y="2684"/>
                </a:lnTo>
                <a:lnTo>
                  <a:pt x="170" y="2687"/>
                </a:lnTo>
                <a:lnTo>
                  <a:pt x="207" y="2693"/>
                </a:lnTo>
                <a:lnTo>
                  <a:pt x="233" y="2697"/>
                </a:lnTo>
                <a:lnTo>
                  <a:pt x="238" y="2697"/>
                </a:lnTo>
                <a:lnTo>
                  <a:pt x="242" y="2698"/>
                </a:lnTo>
                <a:lnTo>
                  <a:pt x="246" y="2697"/>
                </a:lnTo>
                <a:lnTo>
                  <a:pt x="255" y="2697"/>
                </a:lnTo>
                <a:lnTo>
                  <a:pt x="280" y="2701"/>
                </a:lnTo>
                <a:lnTo>
                  <a:pt x="301" y="2713"/>
                </a:lnTo>
                <a:lnTo>
                  <a:pt x="307" y="2719"/>
                </a:lnTo>
                <a:lnTo>
                  <a:pt x="320" y="2730"/>
                </a:lnTo>
                <a:lnTo>
                  <a:pt x="341" y="2752"/>
                </a:lnTo>
                <a:lnTo>
                  <a:pt x="355" y="2778"/>
                </a:lnTo>
                <a:lnTo>
                  <a:pt x="359" y="2784"/>
                </a:lnTo>
                <a:lnTo>
                  <a:pt x="358" y="2794"/>
                </a:lnTo>
                <a:lnTo>
                  <a:pt x="354" y="2807"/>
                </a:lnTo>
                <a:lnTo>
                  <a:pt x="352" y="2811"/>
                </a:lnTo>
                <a:lnTo>
                  <a:pt x="349" y="2816"/>
                </a:lnTo>
                <a:lnTo>
                  <a:pt x="346" y="2824"/>
                </a:lnTo>
                <a:lnTo>
                  <a:pt x="343" y="2830"/>
                </a:lnTo>
                <a:lnTo>
                  <a:pt x="343" y="2837"/>
                </a:lnTo>
                <a:lnTo>
                  <a:pt x="345" y="2843"/>
                </a:lnTo>
                <a:lnTo>
                  <a:pt x="349" y="2850"/>
                </a:lnTo>
                <a:lnTo>
                  <a:pt x="354" y="2853"/>
                </a:lnTo>
                <a:lnTo>
                  <a:pt x="358" y="2858"/>
                </a:lnTo>
                <a:lnTo>
                  <a:pt x="365" y="2864"/>
                </a:lnTo>
                <a:lnTo>
                  <a:pt x="380" y="2868"/>
                </a:lnTo>
                <a:lnTo>
                  <a:pt x="394" y="2866"/>
                </a:lnTo>
                <a:lnTo>
                  <a:pt x="400" y="2865"/>
                </a:lnTo>
                <a:lnTo>
                  <a:pt x="403" y="2865"/>
                </a:lnTo>
                <a:lnTo>
                  <a:pt x="410" y="2864"/>
                </a:lnTo>
                <a:lnTo>
                  <a:pt x="422" y="2865"/>
                </a:lnTo>
                <a:lnTo>
                  <a:pt x="436" y="2872"/>
                </a:lnTo>
                <a:lnTo>
                  <a:pt x="442" y="2874"/>
                </a:lnTo>
                <a:lnTo>
                  <a:pt x="448" y="2878"/>
                </a:lnTo>
                <a:lnTo>
                  <a:pt x="471" y="2887"/>
                </a:lnTo>
                <a:lnTo>
                  <a:pt x="530" y="2910"/>
                </a:lnTo>
                <a:lnTo>
                  <a:pt x="572" y="2926"/>
                </a:lnTo>
                <a:lnTo>
                  <a:pt x="575" y="2926"/>
                </a:lnTo>
                <a:lnTo>
                  <a:pt x="577" y="2927"/>
                </a:lnTo>
                <a:lnTo>
                  <a:pt x="584" y="2930"/>
                </a:lnTo>
                <a:lnTo>
                  <a:pt x="588" y="2929"/>
                </a:lnTo>
                <a:lnTo>
                  <a:pt x="594" y="2926"/>
                </a:lnTo>
                <a:lnTo>
                  <a:pt x="598" y="2923"/>
                </a:lnTo>
                <a:lnTo>
                  <a:pt x="610" y="2911"/>
                </a:lnTo>
                <a:lnTo>
                  <a:pt x="656" y="2878"/>
                </a:lnTo>
                <a:lnTo>
                  <a:pt x="732" y="2853"/>
                </a:lnTo>
                <a:lnTo>
                  <a:pt x="755" y="2852"/>
                </a:lnTo>
                <a:lnTo>
                  <a:pt x="761" y="2853"/>
                </a:lnTo>
                <a:lnTo>
                  <a:pt x="782" y="2855"/>
                </a:lnTo>
                <a:lnTo>
                  <a:pt x="806" y="2861"/>
                </a:lnTo>
                <a:lnTo>
                  <a:pt x="811" y="2862"/>
                </a:lnTo>
                <a:lnTo>
                  <a:pt x="813" y="2864"/>
                </a:lnTo>
                <a:lnTo>
                  <a:pt x="827" y="2871"/>
                </a:lnTo>
                <a:lnTo>
                  <a:pt x="878" y="2898"/>
                </a:lnTo>
                <a:lnTo>
                  <a:pt x="921" y="2921"/>
                </a:lnTo>
                <a:lnTo>
                  <a:pt x="926" y="2924"/>
                </a:lnTo>
                <a:lnTo>
                  <a:pt x="927" y="2927"/>
                </a:lnTo>
                <a:lnTo>
                  <a:pt x="932" y="2932"/>
                </a:lnTo>
                <a:lnTo>
                  <a:pt x="935" y="2936"/>
                </a:lnTo>
                <a:lnTo>
                  <a:pt x="937" y="2940"/>
                </a:lnTo>
                <a:lnTo>
                  <a:pt x="937" y="2948"/>
                </a:lnTo>
                <a:lnTo>
                  <a:pt x="936" y="2956"/>
                </a:lnTo>
                <a:lnTo>
                  <a:pt x="935" y="2961"/>
                </a:lnTo>
                <a:lnTo>
                  <a:pt x="930" y="2968"/>
                </a:lnTo>
                <a:lnTo>
                  <a:pt x="921" y="2987"/>
                </a:lnTo>
                <a:lnTo>
                  <a:pt x="893" y="3030"/>
                </a:lnTo>
                <a:lnTo>
                  <a:pt x="866" y="3066"/>
                </a:lnTo>
                <a:lnTo>
                  <a:pt x="864" y="3071"/>
                </a:lnTo>
                <a:lnTo>
                  <a:pt x="862" y="3072"/>
                </a:lnTo>
                <a:lnTo>
                  <a:pt x="858" y="3078"/>
                </a:lnTo>
                <a:lnTo>
                  <a:pt x="839" y="3098"/>
                </a:lnTo>
                <a:lnTo>
                  <a:pt x="803" y="3126"/>
                </a:lnTo>
                <a:lnTo>
                  <a:pt x="791" y="3132"/>
                </a:lnTo>
                <a:lnTo>
                  <a:pt x="790" y="3132"/>
                </a:lnTo>
                <a:lnTo>
                  <a:pt x="781" y="3132"/>
                </a:lnTo>
                <a:lnTo>
                  <a:pt x="752" y="3129"/>
                </a:lnTo>
                <a:lnTo>
                  <a:pt x="730" y="3127"/>
                </a:lnTo>
                <a:lnTo>
                  <a:pt x="730" y="3126"/>
                </a:lnTo>
                <a:lnTo>
                  <a:pt x="729" y="3127"/>
                </a:lnTo>
                <a:lnTo>
                  <a:pt x="727" y="3130"/>
                </a:lnTo>
                <a:lnTo>
                  <a:pt x="722" y="3140"/>
                </a:lnTo>
                <a:lnTo>
                  <a:pt x="717" y="3148"/>
                </a:lnTo>
                <a:lnTo>
                  <a:pt x="717" y="3148"/>
                </a:lnTo>
                <a:lnTo>
                  <a:pt x="714" y="3152"/>
                </a:lnTo>
                <a:lnTo>
                  <a:pt x="710" y="3158"/>
                </a:lnTo>
                <a:lnTo>
                  <a:pt x="707" y="3162"/>
                </a:lnTo>
                <a:lnTo>
                  <a:pt x="706" y="3165"/>
                </a:lnTo>
                <a:lnTo>
                  <a:pt x="706" y="3169"/>
                </a:lnTo>
                <a:lnTo>
                  <a:pt x="709" y="3177"/>
                </a:lnTo>
                <a:lnTo>
                  <a:pt x="711" y="3181"/>
                </a:lnTo>
                <a:lnTo>
                  <a:pt x="716" y="3191"/>
                </a:lnTo>
                <a:lnTo>
                  <a:pt x="727" y="3208"/>
                </a:lnTo>
                <a:lnTo>
                  <a:pt x="756" y="3237"/>
                </a:lnTo>
                <a:lnTo>
                  <a:pt x="791" y="3262"/>
                </a:lnTo>
                <a:lnTo>
                  <a:pt x="801" y="3266"/>
                </a:lnTo>
                <a:lnTo>
                  <a:pt x="810" y="3274"/>
                </a:lnTo>
                <a:lnTo>
                  <a:pt x="814" y="3282"/>
                </a:lnTo>
                <a:lnTo>
                  <a:pt x="817" y="3290"/>
                </a:lnTo>
                <a:lnTo>
                  <a:pt x="816" y="3300"/>
                </a:lnTo>
                <a:lnTo>
                  <a:pt x="814" y="3308"/>
                </a:lnTo>
                <a:lnTo>
                  <a:pt x="808" y="3319"/>
                </a:lnTo>
                <a:lnTo>
                  <a:pt x="797" y="3339"/>
                </a:lnTo>
                <a:lnTo>
                  <a:pt x="775" y="3381"/>
                </a:lnTo>
                <a:lnTo>
                  <a:pt x="775" y="3381"/>
                </a:lnTo>
                <a:lnTo>
                  <a:pt x="774" y="3382"/>
                </a:lnTo>
                <a:lnTo>
                  <a:pt x="772" y="3384"/>
                </a:lnTo>
                <a:lnTo>
                  <a:pt x="769" y="3388"/>
                </a:lnTo>
                <a:lnTo>
                  <a:pt x="764" y="3391"/>
                </a:lnTo>
                <a:lnTo>
                  <a:pt x="758" y="3392"/>
                </a:lnTo>
                <a:lnTo>
                  <a:pt x="751" y="3392"/>
                </a:lnTo>
                <a:lnTo>
                  <a:pt x="745" y="3390"/>
                </a:lnTo>
                <a:lnTo>
                  <a:pt x="745" y="3390"/>
                </a:lnTo>
                <a:lnTo>
                  <a:pt x="740" y="3388"/>
                </a:lnTo>
                <a:lnTo>
                  <a:pt x="735" y="3382"/>
                </a:lnTo>
                <a:lnTo>
                  <a:pt x="722" y="3371"/>
                </a:lnTo>
                <a:lnTo>
                  <a:pt x="710" y="3361"/>
                </a:lnTo>
                <a:lnTo>
                  <a:pt x="709" y="3358"/>
                </a:lnTo>
                <a:lnTo>
                  <a:pt x="704" y="3356"/>
                </a:lnTo>
                <a:lnTo>
                  <a:pt x="700" y="3355"/>
                </a:lnTo>
                <a:lnTo>
                  <a:pt x="695" y="3355"/>
                </a:lnTo>
                <a:lnTo>
                  <a:pt x="687" y="3356"/>
                </a:lnTo>
                <a:lnTo>
                  <a:pt x="678" y="3359"/>
                </a:lnTo>
                <a:lnTo>
                  <a:pt x="672" y="3363"/>
                </a:lnTo>
                <a:lnTo>
                  <a:pt x="671" y="3366"/>
                </a:lnTo>
                <a:lnTo>
                  <a:pt x="671" y="3369"/>
                </a:lnTo>
                <a:lnTo>
                  <a:pt x="671" y="3371"/>
                </a:lnTo>
                <a:lnTo>
                  <a:pt x="672" y="3371"/>
                </a:lnTo>
                <a:lnTo>
                  <a:pt x="678" y="3384"/>
                </a:lnTo>
                <a:lnTo>
                  <a:pt x="690" y="3408"/>
                </a:lnTo>
                <a:lnTo>
                  <a:pt x="704" y="3458"/>
                </a:lnTo>
                <a:lnTo>
                  <a:pt x="698" y="3508"/>
                </a:lnTo>
                <a:lnTo>
                  <a:pt x="693" y="3520"/>
                </a:lnTo>
                <a:lnTo>
                  <a:pt x="697" y="3520"/>
                </a:lnTo>
                <a:lnTo>
                  <a:pt x="701" y="3520"/>
                </a:lnTo>
                <a:lnTo>
                  <a:pt x="706" y="3520"/>
                </a:lnTo>
                <a:lnTo>
                  <a:pt x="713" y="3523"/>
                </a:lnTo>
                <a:lnTo>
                  <a:pt x="730" y="3529"/>
                </a:lnTo>
                <a:lnTo>
                  <a:pt x="746" y="3524"/>
                </a:lnTo>
                <a:lnTo>
                  <a:pt x="751" y="3523"/>
                </a:lnTo>
                <a:lnTo>
                  <a:pt x="756" y="3523"/>
                </a:lnTo>
                <a:lnTo>
                  <a:pt x="761" y="3526"/>
                </a:lnTo>
                <a:lnTo>
                  <a:pt x="765" y="3529"/>
                </a:lnTo>
                <a:lnTo>
                  <a:pt x="768" y="3533"/>
                </a:lnTo>
                <a:lnTo>
                  <a:pt x="774" y="3545"/>
                </a:lnTo>
                <a:lnTo>
                  <a:pt x="779" y="3556"/>
                </a:lnTo>
                <a:lnTo>
                  <a:pt x="785" y="3565"/>
                </a:lnTo>
                <a:lnTo>
                  <a:pt x="790" y="3566"/>
                </a:lnTo>
                <a:lnTo>
                  <a:pt x="804" y="3575"/>
                </a:lnTo>
                <a:lnTo>
                  <a:pt x="835" y="3589"/>
                </a:lnTo>
                <a:lnTo>
                  <a:pt x="894" y="3621"/>
                </a:lnTo>
                <a:lnTo>
                  <a:pt x="949" y="3659"/>
                </a:lnTo>
                <a:lnTo>
                  <a:pt x="962" y="3669"/>
                </a:lnTo>
                <a:lnTo>
                  <a:pt x="971" y="3676"/>
                </a:lnTo>
                <a:lnTo>
                  <a:pt x="975" y="3681"/>
                </a:lnTo>
                <a:lnTo>
                  <a:pt x="977" y="3681"/>
                </a:lnTo>
                <a:lnTo>
                  <a:pt x="978" y="3682"/>
                </a:lnTo>
                <a:lnTo>
                  <a:pt x="982" y="3687"/>
                </a:lnTo>
                <a:lnTo>
                  <a:pt x="987" y="3689"/>
                </a:lnTo>
                <a:lnTo>
                  <a:pt x="988" y="3689"/>
                </a:lnTo>
                <a:lnTo>
                  <a:pt x="992" y="3685"/>
                </a:lnTo>
                <a:lnTo>
                  <a:pt x="997" y="3684"/>
                </a:lnTo>
                <a:lnTo>
                  <a:pt x="1001" y="3684"/>
                </a:lnTo>
                <a:lnTo>
                  <a:pt x="1004" y="3687"/>
                </a:lnTo>
                <a:lnTo>
                  <a:pt x="1008" y="3691"/>
                </a:lnTo>
                <a:lnTo>
                  <a:pt x="1013" y="3695"/>
                </a:lnTo>
                <a:lnTo>
                  <a:pt x="1021" y="3707"/>
                </a:lnTo>
                <a:lnTo>
                  <a:pt x="1030" y="3718"/>
                </a:lnTo>
                <a:lnTo>
                  <a:pt x="1039" y="3726"/>
                </a:lnTo>
                <a:lnTo>
                  <a:pt x="1040" y="3726"/>
                </a:lnTo>
                <a:lnTo>
                  <a:pt x="1039" y="3718"/>
                </a:lnTo>
                <a:lnTo>
                  <a:pt x="1039" y="3710"/>
                </a:lnTo>
                <a:lnTo>
                  <a:pt x="1040" y="3702"/>
                </a:lnTo>
                <a:lnTo>
                  <a:pt x="1042" y="3700"/>
                </a:lnTo>
                <a:lnTo>
                  <a:pt x="1045" y="3697"/>
                </a:lnTo>
                <a:lnTo>
                  <a:pt x="1046" y="3694"/>
                </a:lnTo>
                <a:lnTo>
                  <a:pt x="1050" y="3691"/>
                </a:lnTo>
                <a:lnTo>
                  <a:pt x="1061" y="3685"/>
                </a:lnTo>
                <a:lnTo>
                  <a:pt x="1068" y="3681"/>
                </a:lnTo>
                <a:lnTo>
                  <a:pt x="1069" y="3679"/>
                </a:lnTo>
                <a:lnTo>
                  <a:pt x="1075" y="3675"/>
                </a:lnTo>
                <a:lnTo>
                  <a:pt x="1088" y="3669"/>
                </a:lnTo>
                <a:lnTo>
                  <a:pt x="1094" y="3668"/>
                </a:lnTo>
                <a:lnTo>
                  <a:pt x="1100" y="3669"/>
                </a:lnTo>
                <a:lnTo>
                  <a:pt x="1104" y="3669"/>
                </a:lnTo>
                <a:lnTo>
                  <a:pt x="1114" y="3676"/>
                </a:lnTo>
                <a:lnTo>
                  <a:pt x="1134" y="3688"/>
                </a:lnTo>
                <a:lnTo>
                  <a:pt x="1174" y="3713"/>
                </a:lnTo>
                <a:lnTo>
                  <a:pt x="1213" y="3736"/>
                </a:lnTo>
                <a:lnTo>
                  <a:pt x="1224" y="3740"/>
                </a:lnTo>
                <a:lnTo>
                  <a:pt x="1232" y="3745"/>
                </a:lnTo>
                <a:lnTo>
                  <a:pt x="1247" y="3753"/>
                </a:lnTo>
                <a:lnTo>
                  <a:pt x="1279" y="3771"/>
                </a:lnTo>
                <a:lnTo>
                  <a:pt x="1304" y="3794"/>
                </a:lnTo>
                <a:lnTo>
                  <a:pt x="1310" y="3800"/>
                </a:lnTo>
                <a:lnTo>
                  <a:pt x="1313" y="3807"/>
                </a:lnTo>
                <a:lnTo>
                  <a:pt x="1320" y="3821"/>
                </a:lnTo>
                <a:lnTo>
                  <a:pt x="1339" y="3849"/>
                </a:lnTo>
                <a:lnTo>
                  <a:pt x="1349" y="3859"/>
                </a:lnTo>
                <a:lnTo>
                  <a:pt x="1355" y="3860"/>
                </a:lnTo>
                <a:lnTo>
                  <a:pt x="1359" y="3862"/>
                </a:lnTo>
                <a:lnTo>
                  <a:pt x="1363" y="3859"/>
                </a:lnTo>
                <a:lnTo>
                  <a:pt x="1365" y="3859"/>
                </a:lnTo>
                <a:lnTo>
                  <a:pt x="1368" y="3856"/>
                </a:lnTo>
                <a:lnTo>
                  <a:pt x="1371" y="3852"/>
                </a:lnTo>
                <a:lnTo>
                  <a:pt x="1374" y="3847"/>
                </a:lnTo>
                <a:lnTo>
                  <a:pt x="1378" y="3836"/>
                </a:lnTo>
                <a:lnTo>
                  <a:pt x="1384" y="3826"/>
                </a:lnTo>
                <a:lnTo>
                  <a:pt x="1387" y="3823"/>
                </a:lnTo>
                <a:lnTo>
                  <a:pt x="1389" y="3821"/>
                </a:lnTo>
                <a:lnTo>
                  <a:pt x="1394" y="3821"/>
                </a:lnTo>
                <a:lnTo>
                  <a:pt x="1398" y="3823"/>
                </a:lnTo>
                <a:lnTo>
                  <a:pt x="1402" y="3827"/>
                </a:lnTo>
                <a:lnTo>
                  <a:pt x="1404" y="3827"/>
                </a:lnTo>
                <a:lnTo>
                  <a:pt x="1407" y="3831"/>
                </a:lnTo>
                <a:lnTo>
                  <a:pt x="1410" y="3836"/>
                </a:lnTo>
                <a:lnTo>
                  <a:pt x="1413" y="3846"/>
                </a:lnTo>
                <a:lnTo>
                  <a:pt x="1416" y="3858"/>
                </a:lnTo>
                <a:lnTo>
                  <a:pt x="1423" y="3882"/>
                </a:lnTo>
                <a:lnTo>
                  <a:pt x="1429" y="3892"/>
                </a:lnTo>
                <a:lnTo>
                  <a:pt x="1431" y="3897"/>
                </a:lnTo>
                <a:lnTo>
                  <a:pt x="1434" y="3900"/>
                </a:lnTo>
                <a:lnTo>
                  <a:pt x="1439" y="3902"/>
                </a:lnTo>
                <a:lnTo>
                  <a:pt x="1449" y="3905"/>
                </a:lnTo>
                <a:lnTo>
                  <a:pt x="1459" y="3907"/>
                </a:lnTo>
                <a:lnTo>
                  <a:pt x="1478" y="3915"/>
                </a:lnTo>
                <a:lnTo>
                  <a:pt x="1484" y="3918"/>
                </a:lnTo>
                <a:lnTo>
                  <a:pt x="1487" y="3921"/>
                </a:lnTo>
                <a:lnTo>
                  <a:pt x="1491" y="3923"/>
                </a:lnTo>
                <a:lnTo>
                  <a:pt x="1495" y="3923"/>
                </a:lnTo>
                <a:lnTo>
                  <a:pt x="1501" y="3923"/>
                </a:lnTo>
                <a:lnTo>
                  <a:pt x="1511" y="3921"/>
                </a:lnTo>
                <a:lnTo>
                  <a:pt x="1530" y="3917"/>
                </a:lnTo>
                <a:lnTo>
                  <a:pt x="1540" y="3918"/>
                </a:lnTo>
                <a:lnTo>
                  <a:pt x="1542" y="3920"/>
                </a:lnTo>
                <a:lnTo>
                  <a:pt x="1544" y="3923"/>
                </a:lnTo>
                <a:lnTo>
                  <a:pt x="1550" y="3929"/>
                </a:lnTo>
                <a:lnTo>
                  <a:pt x="1555" y="3934"/>
                </a:lnTo>
                <a:lnTo>
                  <a:pt x="1560" y="3950"/>
                </a:lnTo>
                <a:lnTo>
                  <a:pt x="1565" y="3958"/>
                </a:lnTo>
                <a:lnTo>
                  <a:pt x="1566" y="3960"/>
                </a:lnTo>
                <a:lnTo>
                  <a:pt x="1569" y="3965"/>
                </a:lnTo>
                <a:lnTo>
                  <a:pt x="1572" y="3966"/>
                </a:lnTo>
                <a:lnTo>
                  <a:pt x="1576" y="3966"/>
                </a:lnTo>
                <a:lnTo>
                  <a:pt x="1581" y="3965"/>
                </a:lnTo>
                <a:lnTo>
                  <a:pt x="1587" y="3962"/>
                </a:lnTo>
                <a:lnTo>
                  <a:pt x="1589" y="3960"/>
                </a:lnTo>
                <a:lnTo>
                  <a:pt x="1594" y="3960"/>
                </a:lnTo>
                <a:lnTo>
                  <a:pt x="1600" y="3960"/>
                </a:lnTo>
                <a:lnTo>
                  <a:pt x="1604" y="3962"/>
                </a:lnTo>
                <a:lnTo>
                  <a:pt x="1608" y="3965"/>
                </a:lnTo>
                <a:lnTo>
                  <a:pt x="1617" y="3971"/>
                </a:lnTo>
                <a:lnTo>
                  <a:pt x="1626" y="3978"/>
                </a:lnTo>
                <a:lnTo>
                  <a:pt x="1636" y="3979"/>
                </a:lnTo>
                <a:lnTo>
                  <a:pt x="1644" y="3976"/>
                </a:lnTo>
                <a:lnTo>
                  <a:pt x="1646" y="3976"/>
                </a:lnTo>
                <a:lnTo>
                  <a:pt x="1646" y="3979"/>
                </a:lnTo>
                <a:lnTo>
                  <a:pt x="1647" y="3986"/>
                </a:lnTo>
                <a:lnTo>
                  <a:pt x="1653" y="3998"/>
                </a:lnTo>
                <a:lnTo>
                  <a:pt x="1657" y="4002"/>
                </a:lnTo>
                <a:lnTo>
                  <a:pt x="1663" y="4002"/>
                </a:lnTo>
                <a:lnTo>
                  <a:pt x="1666" y="4001"/>
                </a:lnTo>
                <a:lnTo>
                  <a:pt x="1671" y="4000"/>
                </a:lnTo>
                <a:lnTo>
                  <a:pt x="1676" y="3998"/>
                </a:lnTo>
                <a:lnTo>
                  <a:pt x="1681" y="3998"/>
                </a:lnTo>
                <a:lnTo>
                  <a:pt x="1686" y="4000"/>
                </a:lnTo>
                <a:lnTo>
                  <a:pt x="1697" y="4002"/>
                </a:lnTo>
                <a:lnTo>
                  <a:pt x="1707" y="4007"/>
                </a:lnTo>
                <a:lnTo>
                  <a:pt x="1717" y="4008"/>
                </a:lnTo>
                <a:lnTo>
                  <a:pt x="1726" y="4004"/>
                </a:lnTo>
                <a:lnTo>
                  <a:pt x="1727" y="4004"/>
                </a:lnTo>
                <a:lnTo>
                  <a:pt x="1728" y="4001"/>
                </a:lnTo>
                <a:lnTo>
                  <a:pt x="1728" y="4000"/>
                </a:lnTo>
                <a:lnTo>
                  <a:pt x="1728" y="3998"/>
                </a:lnTo>
                <a:lnTo>
                  <a:pt x="1730" y="3994"/>
                </a:lnTo>
                <a:lnTo>
                  <a:pt x="1731" y="3994"/>
                </a:lnTo>
                <a:lnTo>
                  <a:pt x="1739" y="3992"/>
                </a:lnTo>
                <a:lnTo>
                  <a:pt x="1755" y="3992"/>
                </a:lnTo>
                <a:lnTo>
                  <a:pt x="1769" y="3995"/>
                </a:lnTo>
                <a:lnTo>
                  <a:pt x="1784" y="4001"/>
                </a:lnTo>
                <a:lnTo>
                  <a:pt x="1810" y="4017"/>
                </a:lnTo>
                <a:lnTo>
                  <a:pt x="1817" y="4020"/>
                </a:lnTo>
                <a:lnTo>
                  <a:pt x="1827" y="4026"/>
                </a:lnTo>
                <a:lnTo>
                  <a:pt x="1847" y="4030"/>
                </a:lnTo>
                <a:lnTo>
                  <a:pt x="1866" y="4033"/>
                </a:lnTo>
                <a:lnTo>
                  <a:pt x="1904" y="4030"/>
                </a:lnTo>
                <a:lnTo>
                  <a:pt x="1939" y="4026"/>
                </a:lnTo>
                <a:lnTo>
                  <a:pt x="1941" y="4026"/>
                </a:lnTo>
                <a:lnTo>
                  <a:pt x="1955" y="4026"/>
                </a:lnTo>
                <a:lnTo>
                  <a:pt x="1965" y="4026"/>
                </a:lnTo>
                <a:lnTo>
                  <a:pt x="1966" y="4024"/>
                </a:lnTo>
                <a:lnTo>
                  <a:pt x="1970" y="4021"/>
                </a:lnTo>
                <a:lnTo>
                  <a:pt x="1978" y="4018"/>
                </a:lnTo>
                <a:lnTo>
                  <a:pt x="1981" y="4015"/>
                </a:lnTo>
                <a:lnTo>
                  <a:pt x="1992" y="4010"/>
                </a:lnTo>
                <a:lnTo>
                  <a:pt x="1999" y="4005"/>
                </a:lnTo>
                <a:lnTo>
                  <a:pt x="2007" y="4004"/>
                </a:lnTo>
                <a:lnTo>
                  <a:pt x="2014" y="4002"/>
                </a:lnTo>
                <a:lnTo>
                  <a:pt x="2020" y="4002"/>
                </a:lnTo>
                <a:lnTo>
                  <a:pt x="2025" y="4005"/>
                </a:lnTo>
                <a:lnTo>
                  <a:pt x="2028" y="4010"/>
                </a:lnTo>
                <a:lnTo>
                  <a:pt x="2030" y="4013"/>
                </a:lnTo>
                <a:lnTo>
                  <a:pt x="2028" y="4020"/>
                </a:lnTo>
                <a:lnTo>
                  <a:pt x="2030" y="4031"/>
                </a:lnTo>
                <a:lnTo>
                  <a:pt x="2033" y="4055"/>
                </a:lnTo>
                <a:lnTo>
                  <a:pt x="2041" y="4075"/>
                </a:lnTo>
                <a:lnTo>
                  <a:pt x="2044" y="4079"/>
                </a:lnTo>
                <a:lnTo>
                  <a:pt x="2044" y="4081"/>
                </a:lnTo>
                <a:lnTo>
                  <a:pt x="2043" y="4085"/>
                </a:lnTo>
                <a:lnTo>
                  <a:pt x="2044" y="4085"/>
                </a:lnTo>
                <a:lnTo>
                  <a:pt x="2046" y="4082"/>
                </a:lnTo>
                <a:lnTo>
                  <a:pt x="2049" y="4079"/>
                </a:lnTo>
                <a:lnTo>
                  <a:pt x="2053" y="4075"/>
                </a:lnTo>
                <a:lnTo>
                  <a:pt x="2063" y="4068"/>
                </a:lnTo>
                <a:lnTo>
                  <a:pt x="2073" y="4060"/>
                </a:lnTo>
                <a:lnTo>
                  <a:pt x="2079" y="4052"/>
                </a:lnTo>
                <a:lnTo>
                  <a:pt x="2081" y="4046"/>
                </a:lnTo>
                <a:lnTo>
                  <a:pt x="2079" y="4040"/>
                </a:lnTo>
                <a:lnTo>
                  <a:pt x="2078" y="4033"/>
                </a:lnTo>
                <a:lnTo>
                  <a:pt x="2078" y="4033"/>
                </a:lnTo>
                <a:lnTo>
                  <a:pt x="2082" y="4034"/>
                </a:lnTo>
                <a:lnTo>
                  <a:pt x="2086" y="4033"/>
                </a:lnTo>
                <a:lnTo>
                  <a:pt x="2089" y="4031"/>
                </a:lnTo>
                <a:lnTo>
                  <a:pt x="2091" y="4030"/>
                </a:lnTo>
                <a:lnTo>
                  <a:pt x="2094" y="4027"/>
                </a:lnTo>
                <a:lnTo>
                  <a:pt x="2095" y="4026"/>
                </a:lnTo>
                <a:lnTo>
                  <a:pt x="2098" y="4024"/>
                </a:lnTo>
                <a:lnTo>
                  <a:pt x="2102" y="4020"/>
                </a:lnTo>
                <a:lnTo>
                  <a:pt x="2107" y="4014"/>
                </a:lnTo>
                <a:lnTo>
                  <a:pt x="2114" y="4001"/>
                </a:lnTo>
                <a:lnTo>
                  <a:pt x="2123" y="3994"/>
                </a:lnTo>
                <a:lnTo>
                  <a:pt x="2127" y="3991"/>
                </a:lnTo>
                <a:lnTo>
                  <a:pt x="2136" y="3985"/>
                </a:lnTo>
                <a:lnTo>
                  <a:pt x="2154" y="3971"/>
                </a:lnTo>
                <a:lnTo>
                  <a:pt x="2175" y="3960"/>
                </a:lnTo>
                <a:lnTo>
                  <a:pt x="2182" y="3959"/>
                </a:lnTo>
                <a:lnTo>
                  <a:pt x="2182" y="3962"/>
                </a:lnTo>
                <a:lnTo>
                  <a:pt x="2183" y="3963"/>
                </a:lnTo>
                <a:lnTo>
                  <a:pt x="2185" y="3963"/>
                </a:lnTo>
                <a:lnTo>
                  <a:pt x="2188" y="3965"/>
                </a:lnTo>
                <a:lnTo>
                  <a:pt x="2191" y="3965"/>
                </a:lnTo>
                <a:lnTo>
                  <a:pt x="2195" y="3971"/>
                </a:lnTo>
                <a:lnTo>
                  <a:pt x="2195" y="3972"/>
                </a:lnTo>
                <a:lnTo>
                  <a:pt x="2199" y="3973"/>
                </a:lnTo>
                <a:lnTo>
                  <a:pt x="2202" y="3973"/>
                </a:lnTo>
                <a:lnTo>
                  <a:pt x="2208" y="3972"/>
                </a:lnTo>
                <a:lnTo>
                  <a:pt x="2217" y="3969"/>
                </a:lnTo>
                <a:lnTo>
                  <a:pt x="2223" y="3969"/>
                </a:lnTo>
                <a:lnTo>
                  <a:pt x="2224" y="3972"/>
                </a:lnTo>
                <a:lnTo>
                  <a:pt x="2228" y="3976"/>
                </a:lnTo>
                <a:lnTo>
                  <a:pt x="2237" y="3985"/>
                </a:lnTo>
                <a:lnTo>
                  <a:pt x="2249" y="3991"/>
                </a:lnTo>
                <a:lnTo>
                  <a:pt x="2252" y="3991"/>
                </a:lnTo>
                <a:lnTo>
                  <a:pt x="2256" y="3992"/>
                </a:lnTo>
                <a:lnTo>
                  <a:pt x="2266" y="3995"/>
                </a:lnTo>
                <a:lnTo>
                  <a:pt x="2286" y="4000"/>
                </a:lnTo>
                <a:lnTo>
                  <a:pt x="2307" y="4004"/>
                </a:lnTo>
                <a:lnTo>
                  <a:pt x="2312" y="4004"/>
                </a:lnTo>
                <a:lnTo>
                  <a:pt x="2317" y="4005"/>
                </a:lnTo>
                <a:lnTo>
                  <a:pt x="2321" y="4005"/>
                </a:lnTo>
                <a:lnTo>
                  <a:pt x="2331" y="4004"/>
                </a:lnTo>
                <a:lnTo>
                  <a:pt x="2341" y="4001"/>
                </a:lnTo>
                <a:lnTo>
                  <a:pt x="2359" y="3997"/>
                </a:lnTo>
                <a:lnTo>
                  <a:pt x="2366" y="3998"/>
                </a:lnTo>
                <a:lnTo>
                  <a:pt x="2370" y="4002"/>
                </a:lnTo>
                <a:lnTo>
                  <a:pt x="2379" y="4011"/>
                </a:lnTo>
                <a:lnTo>
                  <a:pt x="2388" y="4021"/>
                </a:lnTo>
                <a:lnTo>
                  <a:pt x="2402" y="4044"/>
                </a:lnTo>
                <a:lnTo>
                  <a:pt x="2415" y="4062"/>
                </a:lnTo>
                <a:lnTo>
                  <a:pt x="2418" y="4060"/>
                </a:lnTo>
                <a:lnTo>
                  <a:pt x="2431" y="4055"/>
                </a:lnTo>
                <a:lnTo>
                  <a:pt x="2441" y="4050"/>
                </a:lnTo>
                <a:lnTo>
                  <a:pt x="2443" y="4049"/>
                </a:lnTo>
                <a:lnTo>
                  <a:pt x="2451" y="4047"/>
                </a:lnTo>
                <a:lnTo>
                  <a:pt x="2467" y="4044"/>
                </a:lnTo>
                <a:lnTo>
                  <a:pt x="2498" y="4039"/>
                </a:lnTo>
                <a:lnTo>
                  <a:pt x="2531" y="4033"/>
                </a:lnTo>
                <a:lnTo>
                  <a:pt x="2541" y="4030"/>
                </a:lnTo>
                <a:lnTo>
                  <a:pt x="2535" y="4018"/>
                </a:lnTo>
                <a:lnTo>
                  <a:pt x="2535" y="4010"/>
                </a:lnTo>
                <a:lnTo>
                  <a:pt x="2537" y="4002"/>
                </a:lnTo>
                <a:lnTo>
                  <a:pt x="2541" y="3997"/>
                </a:lnTo>
                <a:lnTo>
                  <a:pt x="2549" y="3992"/>
                </a:lnTo>
                <a:lnTo>
                  <a:pt x="2556" y="3989"/>
                </a:lnTo>
                <a:lnTo>
                  <a:pt x="2573" y="3982"/>
                </a:lnTo>
                <a:lnTo>
                  <a:pt x="2588" y="3973"/>
                </a:lnTo>
                <a:lnTo>
                  <a:pt x="2593" y="3968"/>
                </a:lnTo>
                <a:lnTo>
                  <a:pt x="2596" y="3959"/>
                </a:lnTo>
                <a:lnTo>
                  <a:pt x="2598" y="3959"/>
                </a:lnTo>
                <a:lnTo>
                  <a:pt x="2599" y="3953"/>
                </a:lnTo>
                <a:lnTo>
                  <a:pt x="2604" y="3942"/>
                </a:lnTo>
                <a:lnTo>
                  <a:pt x="2617" y="3926"/>
                </a:lnTo>
                <a:lnTo>
                  <a:pt x="2633" y="3914"/>
                </a:lnTo>
                <a:lnTo>
                  <a:pt x="2638" y="3911"/>
                </a:lnTo>
                <a:lnTo>
                  <a:pt x="2643" y="3910"/>
                </a:lnTo>
                <a:lnTo>
                  <a:pt x="2656" y="3908"/>
                </a:lnTo>
                <a:lnTo>
                  <a:pt x="2669" y="3910"/>
                </a:lnTo>
                <a:lnTo>
                  <a:pt x="2696" y="3910"/>
                </a:lnTo>
                <a:lnTo>
                  <a:pt x="2714" y="3905"/>
                </a:lnTo>
                <a:lnTo>
                  <a:pt x="2722" y="3900"/>
                </a:lnTo>
                <a:lnTo>
                  <a:pt x="2731" y="3892"/>
                </a:lnTo>
                <a:lnTo>
                  <a:pt x="2747" y="3875"/>
                </a:lnTo>
                <a:lnTo>
                  <a:pt x="2777" y="3840"/>
                </a:lnTo>
                <a:lnTo>
                  <a:pt x="2817" y="3830"/>
                </a:lnTo>
                <a:lnTo>
                  <a:pt x="2821" y="3833"/>
                </a:lnTo>
                <a:lnTo>
                  <a:pt x="2831" y="3837"/>
                </a:lnTo>
                <a:lnTo>
                  <a:pt x="2854" y="3850"/>
                </a:lnTo>
                <a:lnTo>
                  <a:pt x="2880" y="3859"/>
                </a:lnTo>
                <a:lnTo>
                  <a:pt x="2888" y="3859"/>
                </a:lnTo>
                <a:lnTo>
                  <a:pt x="2892" y="3860"/>
                </a:lnTo>
                <a:lnTo>
                  <a:pt x="2896" y="3866"/>
                </a:lnTo>
                <a:lnTo>
                  <a:pt x="2896" y="3869"/>
                </a:lnTo>
                <a:lnTo>
                  <a:pt x="2896" y="3872"/>
                </a:lnTo>
                <a:lnTo>
                  <a:pt x="2896" y="3873"/>
                </a:lnTo>
                <a:lnTo>
                  <a:pt x="2905" y="3871"/>
                </a:lnTo>
                <a:lnTo>
                  <a:pt x="2914" y="3866"/>
                </a:lnTo>
                <a:lnTo>
                  <a:pt x="2931" y="3853"/>
                </a:lnTo>
                <a:lnTo>
                  <a:pt x="2947" y="3839"/>
                </a:lnTo>
                <a:lnTo>
                  <a:pt x="2961" y="3827"/>
                </a:lnTo>
                <a:lnTo>
                  <a:pt x="2979" y="3821"/>
                </a:lnTo>
                <a:lnTo>
                  <a:pt x="2989" y="3823"/>
                </a:lnTo>
                <a:lnTo>
                  <a:pt x="2998" y="3826"/>
                </a:lnTo>
                <a:lnTo>
                  <a:pt x="2999" y="3826"/>
                </a:lnTo>
                <a:lnTo>
                  <a:pt x="3003" y="3830"/>
                </a:lnTo>
                <a:lnTo>
                  <a:pt x="3008" y="3836"/>
                </a:lnTo>
                <a:lnTo>
                  <a:pt x="3011" y="3840"/>
                </a:lnTo>
                <a:lnTo>
                  <a:pt x="3014" y="3846"/>
                </a:lnTo>
                <a:lnTo>
                  <a:pt x="3014" y="3852"/>
                </a:lnTo>
                <a:lnTo>
                  <a:pt x="3014" y="3859"/>
                </a:lnTo>
                <a:lnTo>
                  <a:pt x="3011" y="3872"/>
                </a:lnTo>
                <a:lnTo>
                  <a:pt x="3005" y="3887"/>
                </a:lnTo>
                <a:lnTo>
                  <a:pt x="3001" y="3900"/>
                </a:lnTo>
                <a:lnTo>
                  <a:pt x="3001" y="3900"/>
                </a:lnTo>
                <a:lnTo>
                  <a:pt x="3003" y="3898"/>
                </a:lnTo>
                <a:lnTo>
                  <a:pt x="3012" y="3892"/>
                </a:lnTo>
                <a:lnTo>
                  <a:pt x="3028" y="3882"/>
                </a:lnTo>
                <a:lnTo>
                  <a:pt x="3045" y="3875"/>
                </a:lnTo>
                <a:lnTo>
                  <a:pt x="3051" y="3873"/>
                </a:lnTo>
                <a:lnTo>
                  <a:pt x="3051" y="3878"/>
                </a:lnTo>
                <a:lnTo>
                  <a:pt x="3053" y="3881"/>
                </a:lnTo>
                <a:lnTo>
                  <a:pt x="3056" y="3884"/>
                </a:lnTo>
                <a:lnTo>
                  <a:pt x="3059" y="3885"/>
                </a:lnTo>
                <a:lnTo>
                  <a:pt x="3064" y="3891"/>
                </a:lnTo>
                <a:lnTo>
                  <a:pt x="3069" y="3895"/>
                </a:lnTo>
                <a:lnTo>
                  <a:pt x="3072" y="3901"/>
                </a:lnTo>
                <a:lnTo>
                  <a:pt x="3069" y="3907"/>
                </a:lnTo>
                <a:lnTo>
                  <a:pt x="3069" y="3907"/>
                </a:lnTo>
                <a:lnTo>
                  <a:pt x="3064" y="3913"/>
                </a:lnTo>
                <a:lnTo>
                  <a:pt x="3056" y="3921"/>
                </a:lnTo>
                <a:lnTo>
                  <a:pt x="3045" y="3929"/>
                </a:lnTo>
                <a:lnTo>
                  <a:pt x="3027" y="3939"/>
                </a:lnTo>
                <a:lnTo>
                  <a:pt x="3011" y="3944"/>
                </a:lnTo>
                <a:lnTo>
                  <a:pt x="3009" y="3946"/>
                </a:lnTo>
                <a:lnTo>
                  <a:pt x="3008" y="3947"/>
                </a:lnTo>
                <a:lnTo>
                  <a:pt x="3008" y="3949"/>
                </a:lnTo>
                <a:lnTo>
                  <a:pt x="3008" y="3950"/>
                </a:lnTo>
                <a:lnTo>
                  <a:pt x="3008" y="3952"/>
                </a:lnTo>
                <a:lnTo>
                  <a:pt x="3009" y="3953"/>
                </a:lnTo>
                <a:lnTo>
                  <a:pt x="3012" y="3956"/>
                </a:lnTo>
                <a:lnTo>
                  <a:pt x="3016" y="3959"/>
                </a:lnTo>
                <a:lnTo>
                  <a:pt x="3018" y="3959"/>
                </a:lnTo>
                <a:lnTo>
                  <a:pt x="3025" y="3960"/>
                </a:lnTo>
                <a:lnTo>
                  <a:pt x="3041" y="3959"/>
                </a:lnTo>
                <a:lnTo>
                  <a:pt x="3069" y="3959"/>
                </a:lnTo>
                <a:lnTo>
                  <a:pt x="3096" y="3966"/>
                </a:lnTo>
                <a:lnTo>
                  <a:pt x="3105" y="3969"/>
                </a:lnTo>
                <a:lnTo>
                  <a:pt x="3105" y="3963"/>
                </a:lnTo>
                <a:lnTo>
                  <a:pt x="3106" y="3958"/>
                </a:lnTo>
                <a:lnTo>
                  <a:pt x="3111" y="3956"/>
                </a:lnTo>
                <a:lnTo>
                  <a:pt x="3116" y="3959"/>
                </a:lnTo>
                <a:lnTo>
                  <a:pt x="3122" y="3962"/>
                </a:lnTo>
                <a:lnTo>
                  <a:pt x="3128" y="3962"/>
                </a:lnTo>
                <a:lnTo>
                  <a:pt x="3131" y="3960"/>
                </a:lnTo>
                <a:lnTo>
                  <a:pt x="3140" y="3968"/>
                </a:lnTo>
                <a:lnTo>
                  <a:pt x="3145" y="3972"/>
                </a:lnTo>
                <a:lnTo>
                  <a:pt x="3147" y="3972"/>
                </a:lnTo>
                <a:lnTo>
                  <a:pt x="3148" y="3973"/>
                </a:lnTo>
                <a:lnTo>
                  <a:pt x="3153" y="3976"/>
                </a:lnTo>
                <a:lnTo>
                  <a:pt x="3156" y="3978"/>
                </a:lnTo>
                <a:lnTo>
                  <a:pt x="3157" y="3978"/>
                </a:lnTo>
                <a:lnTo>
                  <a:pt x="3161" y="3978"/>
                </a:lnTo>
                <a:lnTo>
                  <a:pt x="3169" y="3976"/>
                </a:lnTo>
                <a:lnTo>
                  <a:pt x="3173" y="3973"/>
                </a:lnTo>
                <a:lnTo>
                  <a:pt x="3174" y="3969"/>
                </a:lnTo>
                <a:lnTo>
                  <a:pt x="3173" y="3965"/>
                </a:lnTo>
                <a:lnTo>
                  <a:pt x="3173" y="3963"/>
                </a:lnTo>
                <a:lnTo>
                  <a:pt x="3173" y="3962"/>
                </a:lnTo>
                <a:lnTo>
                  <a:pt x="3172" y="3960"/>
                </a:lnTo>
                <a:lnTo>
                  <a:pt x="3169" y="3956"/>
                </a:lnTo>
                <a:lnTo>
                  <a:pt x="3166" y="3947"/>
                </a:lnTo>
                <a:lnTo>
                  <a:pt x="3164" y="3937"/>
                </a:lnTo>
                <a:lnTo>
                  <a:pt x="3166" y="3934"/>
                </a:lnTo>
                <a:lnTo>
                  <a:pt x="3167" y="3936"/>
                </a:lnTo>
                <a:lnTo>
                  <a:pt x="3172" y="3937"/>
                </a:lnTo>
                <a:lnTo>
                  <a:pt x="3177" y="3934"/>
                </a:lnTo>
                <a:lnTo>
                  <a:pt x="3182" y="3934"/>
                </a:lnTo>
                <a:lnTo>
                  <a:pt x="3190" y="3934"/>
                </a:lnTo>
                <a:lnTo>
                  <a:pt x="3192" y="3934"/>
                </a:lnTo>
                <a:lnTo>
                  <a:pt x="3199" y="3940"/>
                </a:lnTo>
                <a:lnTo>
                  <a:pt x="3215" y="3952"/>
                </a:lnTo>
                <a:lnTo>
                  <a:pt x="3243" y="3976"/>
                </a:lnTo>
                <a:lnTo>
                  <a:pt x="3263" y="4005"/>
                </a:lnTo>
                <a:lnTo>
                  <a:pt x="3266" y="4013"/>
                </a:lnTo>
                <a:lnTo>
                  <a:pt x="3266" y="4020"/>
                </a:lnTo>
                <a:lnTo>
                  <a:pt x="3267" y="4031"/>
                </a:lnTo>
                <a:lnTo>
                  <a:pt x="3267" y="4052"/>
                </a:lnTo>
                <a:lnTo>
                  <a:pt x="3269" y="4060"/>
                </a:lnTo>
                <a:lnTo>
                  <a:pt x="3274" y="4068"/>
                </a:lnTo>
                <a:lnTo>
                  <a:pt x="3280" y="4069"/>
                </a:lnTo>
                <a:lnTo>
                  <a:pt x="3285" y="4071"/>
                </a:lnTo>
                <a:lnTo>
                  <a:pt x="3287" y="4069"/>
                </a:lnTo>
                <a:lnTo>
                  <a:pt x="3295" y="4068"/>
                </a:lnTo>
                <a:lnTo>
                  <a:pt x="3309" y="4065"/>
                </a:lnTo>
                <a:lnTo>
                  <a:pt x="3321" y="4066"/>
                </a:lnTo>
                <a:lnTo>
                  <a:pt x="3324" y="4071"/>
                </a:lnTo>
                <a:lnTo>
                  <a:pt x="3329" y="4078"/>
                </a:lnTo>
                <a:lnTo>
                  <a:pt x="3338" y="4098"/>
                </a:lnTo>
                <a:lnTo>
                  <a:pt x="3338" y="4110"/>
                </a:lnTo>
                <a:lnTo>
                  <a:pt x="3335" y="4121"/>
                </a:lnTo>
                <a:lnTo>
                  <a:pt x="3334" y="4127"/>
                </a:lnTo>
                <a:lnTo>
                  <a:pt x="3329" y="4136"/>
                </a:lnTo>
                <a:lnTo>
                  <a:pt x="3329" y="4143"/>
                </a:lnTo>
                <a:lnTo>
                  <a:pt x="3331" y="4150"/>
                </a:lnTo>
                <a:lnTo>
                  <a:pt x="3334" y="4157"/>
                </a:lnTo>
                <a:lnTo>
                  <a:pt x="3342" y="4172"/>
                </a:lnTo>
                <a:lnTo>
                  <a:pt x="3351" y="4188"/>
                </a:lnTo>
                <a:lnTo>
                  <a:pt x="3356" y="4204"/>
                </a:lnTo>
                <a:lnTo>
                  <a:pt x="3353" y="4221"/>
                </a:lnTo>
                <a:lnTo>
                  <a:pt x="3353" y="4221"/>
                </a:lnTo>
                <a:lnTo>
                  <a:pt x="3348" y="4228"/>
                </a:lnTo>
                <a:lnTo>
                  <a:pt x="3340" y="4243"/>
                </a:lnTo>
                <a:lnTo>
                  <a:pt x="3324" y="4269"/>
                </a:lnTo>
                <a:lnTo>
                  <a:pt x="3321" y="4284"/>
                </a:lnTo>
                <a:lnTo>
                  <a:pt x="3325" y="4298"/>
                </a:lnTo>
                <a:lnTo>
                  <a:pt x="3331" y="4305"/>
                </a:lnTo>
                <a:lnTo>
                  <a:pt x="3325" y="4308"/>
                </a:lnTo>
                <a:lnTo>
                  <a:pt x="3315" y="4314"/>
                </a:lnTo>
                <a:lnTo>
                  <a:pt x="3299" y="4328"/>
                </a:lnTo>
                <a:lnTo>
                  <a:pt x="3293" y="4336"/>
                </a:lnTo>
                <a:lnTo>
                  <a:pt x="3290" y="4344"/>
                </a:lnTo>
                <a:lnTo>
                  <a:pt x="3290" y="4349"/>
                </a:lnTo>
                <a:lnTo>
                  <a:pt x="3289" y="4359"/>
                </a:lnTo>
                <a:lnTo>
                  <a:pt x="3286" y="4368"/>
                </a:lnTo>
                <a:lnTo>
                  <a:pt x="3282" y="4375"/>
                </a:lnTo>
                <a:lnTo>
                  <a:pt x="3277" y="4381"/>
                </a:lnTo>
                <a:lnTo>
                  <a:pt x="3264" y="4391"/>
                </a:lnTo>
                <a:lnTo>
                  <a:pt x="3250" y="4399"/>
                </a:lnTo>
                <a:lnTo>
                  <a:pt x="3221" y="4414"/>
                </a:lnTo>
                <a:lnTo>
                  <a:pt x="3221" y="4414"/>
                </a:lnTo>
                <a:lnTo>
                  <a:pt x="3215" y="4418"/>
                </a:lnTo>
                <a:lnTo>
                  <a:pt x="3211" y="4423"/>
                </a:lnTo>
                <a:lnTo>
                  <a:pt x="3206" y="4428"/>
                </a:lnTo>
                <a:lnTo>
                  <a:pt x="3201" y="4440"/>
                </a:lnTo>
                <a:lnTo>
                  <a:pt x="3196" y="4453"/>
                </a:lnTo>
                <a:lnTo>
                  <a:pt x="3190" y="4465"/>
                </a:lnTo>
                <a:lnTo>
                  <a:pt x="3180" y="4475"/>
                </a:lnTo>
                <a:lnTo>
                  <a:pt x="3174" y="4478"/>
                </a:lnTo>
                <a:lnTo>
                  <a:pt x="3179" y="4488"/>
                </a:lnTo>
                <a:lnTo>
                  <a:pt x="3190" y="4508"/>
                </a:lnTo>
                <a:lnTo>
                  <a:pt x="3205" y="4550"/>
                </a:lnTo>
                <a:lnTo>
                  <a:pt x="3203" y="4570"/>
                </a:lnTo>
                <a:lnTo>
                  <a:pt x="3192" y="4591"/>
                </a:lnTo>
                <a:lnTo>
                  <a:pt x="3183" y="4599"/>
                </a:lnTo>
                <a:lnTo>
                  <a:pt x="3190" y="4597"/>
                </a:lnTo>
                <a:lnTo>
                  <a:pt x="3205" y="4588"/>
                </a:lnTo>
                <a:lnTo>
                  <a:pt x="3234" y="4572"/>
                </a:lnTo>
                <a:lnTo>
                  <a:pt x="3264" y="4557"/>
                </a:lnTo>
                <a:lnTo>
                  <a:pt x="3273" y="4553"/>
                </a:lnTo>
                <a:lnTo>
                  <a:pt x="3279" y="4552"/>
                </a:lnTo>
                <a:lnTo>
                  <a:pt x="3293" y="4547"/>
                </a:lnTo>
                <a:lnTo>
                  <a:pt x="3324" y="4544"/>
                </a:lnTo>
                <a:lnTo>
                  <a:pt x="3357" y="4555"/>
                </a:lnTo>
                <a:lnTo>
                  <a:pt x="3366" y="4557"/>
                </a:lnTo>
                <a:lnTo>
                  <a:pt x="3357" y="4562"/>
                </a:lnTo>
                <a:lnTo>
                  <a:pt x="3353" y="4568"/>
                </a:lnTo>
                <a:lnTo>
                  <a:pt x="3348" y="4573"/>
                </a:lnTo>
                <a:lnTo>
                  <a:pt x="3345" y="4581"/>
                </a:lnTo>
                <a:lnTo>
                  <a:pt x="3345" y="4589"/>
                </a:lnTo>
                <a:lnTo>
                  <a:pt x="3347" y="4607"/>
                </a:lnTo>
                <a:lnTo>
                  <a:pt x="3351" y="4623"/>
                </a:lnTo>
                <a:lnTo>
                  <a:pt x="3358" y="4637"/>
                </a:lnTo>
                <a:lnTo>
                  <a:pt x="3363" y="4643"/>
                </a:lnTo>
                <a:lnTo>
                  <a:pt x="3364" y="4647"/>
                </a:lnTo>
                <a:lnTo>
                  <a:pt x="3366" y="4652"/>
                </a:lnTo>
                <a:lnTo>
                  <a:pt x="3366" y="4654"/>
                </a:lnTo>
                <a:lnTo>
                  <a:pt x="3364" y="4659"/>
                </a:lnTo>
                <a:lnTo>
                  <a:pt x="3363" y="4666"/>
                </a:lnTo>
                <a:lnTo>
                  <a:pt x="3360" y="4673"/>
                </a:lnTo>
                <a:lnTo>
                  <a:pt x="3358" y="4679"/>
                </a:lnTo>
                <a:lnTo>
                  <a:pt x="3357" y="4685"/>
                </a:lnTo>
                <a:lnTo>
                  <a:pt x="3358" y="4685"/>
                </a:lnTo>
                <a:lnTo>
                  <a:pt x="3361" y="4692"/>
                </a:lnTo>
                <a:lnTo>
                  <a:pt x="3366" y="4695"/>
                </a:lnTo>
                <a:lnTo>
                  <a:pt x="3371" y="4698"/>
                </a:lnTo>
                <a:lnTo>
                  <a:pt x="3379" y="4698"/>
                </a:lnTo>
                <a:lnTo>
                  <a:pt x="3386" y="4698"/>
                </a:lnTo>
                <a:lnTo>
                  <a:pt x="3400" y="4697"/>
                </a:lnTo>
                <a:lnTo>
                  <a:pt x="3413" y="4694"/>
                </a:lnTo>
                <a:lnTo>
                  <a:pt x="3424" y="4695"/>
                </a:lnTo>
                <a:lnTo>
                  <a:pt x="3427" y="4698"/>
                </a:lnTo>
                <a:lnTo>
                  <a:pt x="3428" y="4708"/>
                </a:lnTo>
                <a:lnTo>
                  <a:pt x="3427" y="4720"/>
                </a:lnTo>
                <a:lnTo>
                  <a:pt x="3425" y="4730"/>
                </a:lnTo>
                <a:lnTo>
                  <a:pt x="3418" y="4752"/>
                </a:lnTo>
                <a:lnTo>
                  <a:pt x="3405" y="4798"/>
                </a:lnTo>
                <a:lnTo>
                  <a:pt x="3413" y="4831"/>
                </a:lnTo>
                <a:lnTo>
                  <a:pt x="3418" y="4837"/>
                </a:lnTo>
                <a:lnTo>
                  <a:pt x="3424" y="4840"/>
                </a:lnTo>
                <a:lnTo>
                  <a:pt x="3429" y="4841"/>
                </a:lnTo>
                <a:lnTo>
                  <a:pt x="3438" y="4843"/>
                </a:lnTo>
                <a:lnTo>
                  <a:pt x="3454" y="4843"/>
                </a:lnTo>
                <a:lnTo>
                  <a:pt x="3471" y="4841"/>
                </a:lnTo>
                <a:lnTo>
                  <a:pt x="3487" y="4844"/>
                </a:lnTo>
                <a:lnTo>
                  <a:pt x="3493" y="4849"/>
                </a:lnTo>
                <a:lnTo>
                  <a:pt x="3499" y="4853"/>
                </a:lnTo>
                <a:lnTo>
                  <a:pt x="3500" y="4853"/>
                </a:lnTo>
                <a:lnTo>
                  <a:pt x="3502" y="4857"/>
                </a:lnTo>
                <a:lnTo>
                  <a:pt x="3503" y="4860"/>
                </a:lnTo>
                <a:lnTo>
                  <a:pt x="3503" y="4865"/>
                </a:lnTo>
                <a:lnTo>
                  <a:pt x="3503" y="4869"/>
                </a:lnTo>
                <a:lnTo>
                  <a:pt x="3500" y="4878"/>
                </a:lnTo>
                <a:lnTo>
                  <a:pt x="3496" y="4886"/>
                </a:lnTo>
                <a:lnTo>
                  <a:pt x="3486" y="4902"/>
                </a:lnTo>
                <a:lnTo>
                  <a:pt x="3486" y="4902"/>
                </a:lnTo>
                <a:lnTo>
                  <a:pt x="3495" y="4904"/>
                </a:lnTo>
                <a:lnTo>
                  <a:pt x="3500" y="4907"/>
                </a:lnTo>
                <a:lnTo>
                  <a:pt x="3511" y="4912"/>
                </a:lnTo>
                <a:lnTo>
                  <a:pt x="3519" y="4915"/>
                </a:lnTo>
                <a:lnTo>
                  <a:pt x="3521" y="4917"/>
                </a:lnTo>
                <a:lnTo>
                  <a:pt x="3521" y="4918"/>
                </a:lnTo>
                <a:lnTo>
                  <a:pt x="3519" y="4921"/>
                </a:lnTo>
                <a:lnTo>
                  <a:pt x="3518" y="4923"/>
                </a:lnTo>
                <a:lnTo>
                  <a:pt x="3515" y="4927"/>
                </a:lnTo>
                <a:lnTo>
                  <a:pt x="3511" y="4934"/>
                </a:lnTo>
                <a:lnTo>
                  <a:pt x="3512" y="4934"/>
                </a:lnTo>
                <a:lnTo>
                  <a:pt x="3524" y="4936"/>
                </a:lnTo>
                <a:lnTo>
                  <a:pt x="3548" y="4933"/>
                </a:lnTo>
                <a:lnTo>
                  <a:pt x="3573" y="4925"/>
                </a:lnTo>
                <a:lnTo>
                  <a:pt x="3621" y="4910"/>
                </a:lnTo>
                <a:lnTo>
                  <a:pt x="3658" y="4902"/>
                </a:lnTo>
                <a:lnTo>
                  <a:pt x="3657" y="4905"/>
                </a:lnTo>
                <a:lnTo>
                  <a:pt x="3655" y="4910"/>
                </a:lnTo>
                <a:lnTo>
                  <a:pt x="3654" y="4914"/>
                </a:lnTo>
                <a:lnTo>
                  <a:pt x="3653" y="4915"/>
                </a:lnTo>
                <a:lnTo>
                  <a:pt x="3653" y="4915"/>
                </a:lnTo>
                <a:lnTo>
                  <a:pt x="3651" y="4918"/>
                </a:lnTo>
                <a:lnTo>
                  <a:pt x="3650" y="4925"/>
                </a:lnTo>
                <a:lnTo>
                  <a:pt x="3648" y="4930"/>
                </a:lnTo>
                <a:lnTo>
                  <a:pt x="3648" y="4930"/>
                </a:lnTo>
                <a:lnTo>
                  <a:pt x="3654" y="4936"/>
                </a:lnTo>
                <a:lnTo>
                  <a:pt x="3676" y="4953"/>
                </a:lnTo>
                <a:lnTo>
                  <a:pt x="3697" y="4967"/>
                </a:lnTo>
                <a:lnTo>
                  <a:pt x="3702" y="4969"/>
                </a:lnTo>
                <a:lnTo>
                  <a:pt x="3703" y="4970"/>
                </a:lnTo>
                <a:lnTo>
                  <a:pt x="3709" y="4973"/>
                </a:lnTo>
                <a:lnTo>
                  <a:pt x="3722" y="4973"/>
                </a:lnTo>
                <a:lnTo>
                  <a:pt x="3729" y="4972"/>
                </a:lnTo>
                <a:lnTo>
                  <a:pt x="3737" y="4967"/>
                </a:lnTo>
                <a:lnTo>
                  <a:pt x="3741" y="4963"/>
                </a:lnTo>
                <a:lnTo>
                  <a:pt x="3744" y="4959"/>
                </a:lnTo>
                <a:lnTo>
                  <a:pt x="3747" y="4954"/>
                </a:lnTo>
                <a:lnTo>
                  <a:pt x="3748" y="4949"/>
                </a:lnTo>
                <a:lnTo>
                  <a:pt x="3748" y="4943"/>
                </a:lnTo>
                <a:lnTo>
                  <a:pt x="3747" y="4931"/>
                </a:lnTo>
                <a:lnTo>
                  <a:pt x="3744" y="4921"/>
                </a:lnTo>
                <a:lnTo>
                  <a:pt x="3739" y="4910"/>
                </a:lnTo>
                <a:lnTo>
                  <a:pt x="3741" y="4910"/>
                </a:lnTo>
                <a:lnTo>
                  <a:pt x="3737" y="4905"/>
                </a:lnTo>
                <a:lnTo>
                  <a:pt x="3724" y="4888"/>
                </a:lnTo>
                <a:lnTo>
                  <a:pt x="3713" y="4863"/>
                </a:lnTo>
                <a:lnTo>
                  <a:pt x="3713" y="4856"/>
                </a:lnTo>
                <a:lnTo>
                  <a:pt x="3712" y="4850"/>
                </a:lnTo>
                <a:lnTo>
                  <a:pt x="3710" y="4840"/>
                </a:lnTo>
                <a:lnTo>
                  <a:pt x="3708" y="4830"/>
                </a:lnTo>
                <a:lnTo>
                  <a:pt x="3706" y="4828"/>
                </a:lnTo>
                <a:lnTo>
                  <a:pt x="3705" y="4827"/>
                </a:lnTo>
                <a:lnTo>
                  <a:pt x="3703" y="4825"/>
                </a:lnTo>
                <a:lnTo>
                  <a:pt x="3699" y="4823"/>
                </a:lnTo>
                <a:lnTo>
                  <a:pt x="3697" y="4821"/>
                </a:lnTo>
                <a:lnTo>
                  <a:pt x="3696" y="4815"/>
                </a:lnTo>
                <a:lnTo>
                  <a:pt x="3695" y="4808"/>
                </a:lnTo>
                <a:lnTo>
                  <a:pt x="3695" y="4801"/>
                </a:lnTo>
                <a:lnTo>
                  <a:pt x="3697" y="4792"/>
                </a:lnTo>
                <a:lnTo>
                  <a:pt x="3700" y="4788"/>
                </a:lnTo>
                <a:lnTo>
                  <a:pt x="3703" y="4785"/>
                </a:lnTo>
                <a:lnTo>
                  <a:pt x="3710" y="4781"/>
                </a:lnTo>
                <a:lnTo>
                  <a:pt x="3719" y="4778"/>
                </a:lnTo>
                <a:lnTo>
                  <a:pt x="3728" y="4778"/>
                </a:lnTo>
                <a:lnTo>
                  <a:pt x="3737" y="4778"/>
                </a:lnTo>
                <a:lnTo>
                  <a:pt x="3744" y="4781"/>
                </a:lnTo>
                <a:lnTo>
                  <a:pt x="3748" y="4781"/>
                </a:lnTo>
                <a:lnTo>
                  <a:pt x="3751" y="4782"/>
                </a:lnTo>
                <a:lnTo>
                  <a:pt x="3758" y="4786"/>
                </a:lnTo>
                <a:lnTo>
                  <a:pt x="3779" y="4796"/>
                </a:lnTo>
                <a:lnTo>
                  <a:pt x="3796" y="4804"/>
                </a:lnTo>
                <a:lnTo>
                  <a:pt x="3800" y="4804"/>
                </a:lnTo>
                <a:lnTo>
                  <a:pt x="3802" y="4802"/>
                </a:lnTo>
                <a:lnTo>
                  <a:pt x="3803" y="4798"/>
                </a:lnTo>
                <a:lnTo>
                  <a:pt x="3805" y="4792"/>
                </a:lnTo>
                <a:lnTo>
                  <a:pt x="3806" y="4791"/>
                </a:lnTo>
                <a:lnTo>
                  <a:pt x="3806" y="4785"/>
                </a:lnTo>
                <a:lnTo>
                  <a:pt x="3809" y="4775"/>
                </a:lnTo>
                <a:lnTo>
                  <a:pt x="3812" y="4762"/>
                </a:lnTo>
                <a:lnTo>
                  <a:pt x="3819" y="4746"/>
                </a:lnTo>
                <a:lnTo>
                  <a:pt x="3822" y="4740"/>
                </a:lnTo>
                <a:lnTo>
                  <a:pt x="3825" y="4739"/>
                </a:lnTo>
                <a:lnTo>
                  <a:pt x="3828" y="4739"/>
                </a:lnTo>
                <a:lnTo>
                  <a:pt x="3832" y="4739"/>
                </a:lnTo>
                <a:lnTo>
                  <a:pt x="3842" y="4740"/>
                </a:lnTo>
                <a:lnTo>
                  <a:pt x="3845" y="4740"/>
                </a:lnTo>
                <a:lnTo>
                  <a:pt x="3848" y="4747"/>
                </a:lnTo>
                <a:lnTo>
                  <a:pt x="3857" y="4757"/>
                </a:lnTo>
                <a:lnTo>
                  <a:pt x="3867" y="4766"/>
                </a:lnTo>
                <a:lnTo>
                  <a:pt x="3879" y="4773"/>
                </a:lnTo>
                <a:lnTo>
                  <a:pt x="3890" y="4776"/>
                </a:lnTo>
                <a:lnTo>
                  <a:pt x="3900" y="4778"/>
                </a:lnTo>
                <a:lnTo>
                  <a:pt x="3906" y="4776"/>
                </a:lnTo>
                <a:lnTo>
                  <a:pt x="3909" y="4776"/>
                </a:lnTo>
                <a:lnTo>
                  <a:pt x="3912" y="4773"/>
                </a:lnTo>
                <a:lnTo>
                  <a:pt x="3915" y="4769"/>
                </a:lnTo>
                <a:lnTo>
                  <a:pt x="3918" y="4766"/>
                </a:lnTo>
                <a:lnTo>
                  <a:pt x="3922" y="4756"/>
                </a:lnTo>
                <a:lnTo>
                  <a:pt x="3926" y="4746"/>
                </a:lnTo>
                <a:lnTo>
                  <a:pt x="3934" y="4739"/>
                </a:lnTo>
                <a:lnTo>
                  <a:pt x="3941" y="4734"/>
                </a:lnTo>
                <a:lnTo>
                  <a:pt x="3942" y="4734"/>
                </a:lnTo>
                <a:lnTo>
                  <a:pt x="3950" y="4734"/>
                </a:lnTo>
                <a:lnTo>
                  <a:pt x="3965" y="4733"/>
                </a:lnTo>
                <a:lnTo>
                  <a:pt x="3979" y="4736"/>
                </a:lnTo>
                <a:lnTo>
                  <a:pt x="3990" y="4741"/>
                </a:lnTo>
                <a:lnTo>
                  <a:pt x="4000" y="4752"/>
                </a:lnTo>
                <a:lnTo>
                  <a:pt x="4008" y="4765"/>
                </a:lnTo>
                <a:lnTo>
                  <a:pt x="4012" y="4772"/>
                </a:lnTo>
                <a:lnTo>
                  <a:pt x="4016" y="4770"/>
                </a:lnTo>
                <a:lnTo>
                  <a:pt x="4025" y="4768"/>
                </a:lnTo>
                <a:lnTo>
                  <a:pt x="4044" y="4759"/>
                </a:lnTo>
                <a:lnTo>
                  <a:pt x="4060" y="4744"/>
                </a:lnTo>
                <a:lnTo>
                  <a:pt x="4063" y="4739"/>
                </a:lnTo>
                <a:lnTo>
                  <a:pt x="4064" y="4740"/>
                </a:lnTo>
                <a:lnTo>
                  <a:pt x="4067" y="4743"/>
                </a:lnTo>
                <a:lnTo>
                  <a:pt x="4068" y="4746"/>
                </a:lnTo>
                <a:lnTo>
                  <a:pt x="4070" y="4749"/>
                </a:lnTo>
                <a:lnTo>
                  <a:pt x="4071" y="4752"/>
                </a:lnTo>
                <a:lnTo>
                  <a:pt x="4071" y="4754"/>
                </a:lnTo>
                <a:lnTo>
                  <a:pt x="4071" y="4756"/>
                </a:lnTo>
                <a:lnTo>
                  <a:pt x="4076" y="4757"/>
                </a:lnTo>
                <a:lnTo>
                  <a:pt x="4081" y="4757"/>
                </a:lnTo>
                <a:lnTo>
                  <a:pt x="4086" y="4756"/>
                </a:lnTo>
                <a:lnTo>
                  <a:pt x="4087" y="4754"/>
                </a:lnTo>
                <a:lnTo>
                  <a:pt x="4089" y="4753"/>
                </a:lnTo>
                <a:lnTo>
                  <a:pt x="4089" y="4752"/>
                </a:lnTo>
                <a:lnTo>
                  <a:pt x="4089" y="4750"/>
                </a:lnTo>
                <a:lnTo>
                  <a:pt x="4089" y="4747"/>
                </a:lnTo>
                <a:lnTo>
                  <a:pt x="4089" y="4741"/>
                </a:lnTo>
                <a:lnTo>
                  <a:pt x="4090" y="4740"/>
                </a:lnTo>
                <a:lnTo>
                  <a:pt x="4093" y="4737"/>
                </a:lnTo>
                <a:lnTo>
                  <a:pt x="4102" y="4734"/>
                </a:lnTo>
                <a:lnTo>
                  <a:pt x="4109" y="4734"/>
                </a:lnTo>
                <a:lnTo>
                  <a:pt x="4118" y="4734"/>
                </a:lnTo>
                <a:lnTo>
                  <a:pt x="4125" y="4737"/>
                </a:lnTo>
                <a:lnTo>
                  <a:pt x="4135" y="4739"/>
                </a:lnTo>
                <a:lnTo>
                  <a:pt x="4141" y="4739"/>
                </a:lnTo>
                <a:lnTo>
                  <a:pt x="4138" y="4730"/>
                </a:lnTo>
                <a:lnTo>
                  <a:pt x="4135" y="4712"/>
                </a:lnTo>
                <a:lnTo>
                  <a:pt x="4136" y="4697"/>
                </a:lnTo>
                <a:lnTo>
                  <a:pt x="4141" y="4682"/>
                </a:lnTo>
                <a:lnTo>
                  <a:pt x="4148" y="4670"/>
                </a:lnTo>
                <a:lnTo>
                  <a:pt x="4160" y="4660"/>
                </a:lnTo>
                <a:lnTo>
                  <a:pt x="4168" y="4656"/>
                </a:lnTo>
                <a:lnTo>
                  <a:pt x="4174" y="4654"/>
                </a:lnTo>
                <a:lnTo>
                  <a:pt x="4181" y="4653"/>
                </a:lnTo>
                <a:lnTo>
                  <a:pt x="4189" y="4653"/>
                </a:lnTo>
                <a:lnTo>
                  <a:pt x="4196" y="4654"/>
                </a:lnTo>
                <a:lnTo>
                  <a:pt x="4212" y="4662"/>
                </a:lnTo>
                <a:lnTo>
                  <a:pt x="4226" y="4672"/>
                </a:lnTo>
                <a:lnTo>
                  <a:pt x="4238" y="4686"/>
                </a:lnTo>
                <a:lnTo>
                  <a:pt x="4248" y="4701"/>
                </a:lnTo>
                <a:lnTo>
                  <a:pt x="4249" y="4701"/>
                </a:lnTo>
                <a:lnTo>
                  <a:pt x="4252" y="4707"/>
                </a:lnTo>
                <a:lnTo>
                  <a:pt x="4257" y="4710"/>
                </a:lnTo>
                <a:lnTo>
                  <a:pt x="4262" y="4712"/>
                </a:lnTo>
                <a:lnTo>
                  <a:pt x="4270" y="4714"/>
                </a:lnTo>
                <a:lnTo>
                  <a:pt x="4283" y="4712"/>
                </a:lnTo>
                <a:lnTo>
                  <a:pt x="4316" y="4714"/>
                </a:lnTo>
                <a:lnTo>
                  <a:pt x="4332" y="4720"/>
                </a:lnTo>
                <a:lnTo>
                  <a:pt x="4336" y="4723"/>
                </a:lnTo>
                <a:lnTo>
                  <a:pt x="4341" y="4723"/>
                </a:lnTo>
                <a:lnTo>
                  <a:pt x="4347" y="4723"/>
                </a:lnTo>
                <a:lnTo>
                  <a:pt x="4351" y="4721"/>
                </a:lnTo>
                <a:lnTo>
                  <a:pt x="4361" y="4717"/>
                </a:lnTo>
                <a:lnTo>
                  <a:pt x="4371" y="4714"/>
                </a:lnTo>
                <a:lnTo>
                  <a:pt x="4380" y="4712"/>
                </a:lnTo>
                <a:lnTo>
                  <a:pt x="4387" y="4715"/>
                </a:lnTo>
                <a:lnTo>
                  <a:pt x="4389" y="4715"/>
                </a:lnTo>
                <a:lnTo>
                  <a:pt x="4390" y="4718"/>
                </a:lnTo>
                <a:lnTo>
                  <a:pt x="4391" y="4720"/>
                </a:lnTo>
                <a:lnTo>
                  <a:pt x="4394" y="4720"/>
                </a:lnTo>
                <a:lnTo>
                  <a:pt x="4402" y="4723"/>
                </a:lnTo>
                <a:lnTo>
                  <a:pt x="4406" y="4724"/>
                </a:lnTo>
                <a:lnTo>
                  <a:pt x="4409" y="4728"/>
                </a:lnTo>
                <a:lnTo>
                  <a:pt x="4409" y="4734"/>
                </a:lnTo>
                <a:lnTo>
                  <a:pt x="4407" y="4737"/>
                </a:lnTo>
                <a:lnTo>
                  <a:pt x="4403" y="4746"/>
                </a:lnTo>
                <a:lnTo>
                  <a:pt x="4397" y="4760"/>
                </a:lnTo>
                <a:lnTo>
                  <a:pt x="4389" y="4791"/>
                </a:lnTo>
                <a:lnTo>
                  <a:pt x="4377" y="4820"/>
                </a:lnTo>
                <a:lnTo>
                  <a:pt x="4374" y="4825"/>
                </a:lnTo>
                <a:lnTo>
                  <a:pt x="4381" y="4825"/>
                </a:lnTo>
                <a:lnTo>
                  <a:pt x="4389" y="4827"/>
                </a:lnTo>
                <a:lnTo>
                  <a:pt x="4396" y="4830"/>
                </a:lnTo>
                <a:lnTo>
                  <a:pt x="4402" y="4834"/>
                </a:lnTo>
                <a:lnTo>
                  <a:pt x="4412" y="4844"/>
                </a:lnTo>
                <a:lnTo>
                  <a:pt x="4422" y="4856"/>
                </a:lnTo>
                <a:lnTo>
                  <a:pt x="4431" y="4867"/>
                </a:lnTo>
                <a:lnTo>
                  <a:pt x="4442" y="4875"/>
                </a:lnTo>
                <a:lnTo>
                  <a:pt x="4444" y="4875"/>
                </a:lnTo>
                <a:lnTo>
                  <a:pt x="4449" y="4878"/>
                </a:lnTo>
                <a:lnTo>
                  <a:pt x="4461" y="4882"/>
                </a:lnTo>
                <a:lnTo>
                  <a:pt x="4487" y="4886"/>
                </a:lnTo>
                <a:lnTo>
                  <a:pt x="4515" y="4888"/>
                </a:lnTo>
                <a:lnTo>
                  <a:pt x="4522" y="4888"/>
                </a:lnTo>
                <a:lnTo>
                  <a:pt x="4526" y="4891"/>
                </a:lnTo>
                <a:lnTo>
                  <a:pt x="4532" y="4894"/>
                </a:lnTo>
                <a:lnTo>
                  <a:pt x="4538" y="4901"/>
                </a:lnTo>
                <a:lnTo>
                  <a:pt x="4541" y="4902"/>
                </a:lnTo>
                <a:lnTo>
                  <a:pt x="4544" y="4910"/>
                </a:lnTo>
                <a:lnTo>
                  <a:pt x="4545" y="4912"/>
                </a:lnTo>
                <a:lnTo>
                  <a:pt x="4546" y="4912"/>
                </a:lnTo>
                <a:lnTo>
                  <a:pt x="4562" y="4914"/>
                </a:lnTo>
                <a:lnTo>
                  <a:pt x="4580" y="4915"/>
                </a:lnTo>
                <a:lnTo>
                  <a:pt x="4580" y="4920"/>
                </a:lnTo>
                <a:lnTo>
                  <a:pt x="4575" y="4923"/>
                </a:lnTo>
                <a:lnTo>
                  <a:pt x="4577" y="4927"/>
                </a:lnTo>
                <a:lnTo>
                  <a:pt x="4593" y="4928"/>
                </a:lnTo>
                <a:lnTo>
                  <a:pt x="4610" y="4928"/>
                </a:lnTo>
                <a:lnTo>
                  <a:pt x="4620" y="4915"/>
                </a:lnTo>
                <a:lnTo>
                  <a:pt x="4632" y="4907"/>
                </a:lnTo>
                <a:lnTo>
                  <a:pt x="4645" y="4904"/>
                </a:lnTo>
                <a:lnTo>
                  <a:pt x="4658" y="4902"/>
                </a:lnTo>
                <a:lnTo>
                  <a:pt x="4673" y="4905"/>
                </a:lnTo>
                <a:lnTo>
                  <a:pt x="4687" y="4911"/>
                </a:lnTo>
                <a:lnTo>
                  <a:pt x="4716" y="4925"/>
                </a:lnTo>
                <a:lnTo>
                  <a:pt x="4772" y="4954"/>
                </a:lnTo>
                <a:lnTo>
                  <a:pt x="4774" y="4954"/>
                </a:lnTo>
                <a:lnTo>
                  <a:pt x="4770" y="4962"/>
                </a:lnTo>
                <a:lnTo>
                  <a:pt x="4767" y="4975"/>
                </a:lnTo>
                <a:lnTo>
                  <a:pt x="4764" y="4999"/>
                </a:lnTo>
                <a:lnTo>
                  <a:pt x="4767" y="5025"/>
                </a:lnTo>
                <a:lnTo>
                  <a:pt x="4770" y="5031"/>
                </a:lnTo>
                <a:lnTo>
                  <a:pt x="4772" y="5046"/>
                </a:lnTo>
                <a:lnTo>
                  <a:pt x="4787" y="5070"/>
                </a:lnTo>
                <a:lnTo>
                  <a:pt x="4806" y="5088"/>
                </a:lnTo>
                <a:lnTo>
                  <a:pt x="4829" y="5099"/>
                </a:lnTo>
                <a:lnTo>
                  <a:pt x="4855" y="5105"/>
                </a:lnTo>
                <a:lnTo>
                  <a:pt x="4881" y="5102"/>
                </a:lnTo>
                <a:lnTo>
                  <a:pt x="4894" y="5098"/>
                </a:lnTo>
                <a:lnTo>
                  <a:pt x="4897" y="5096"/>
                </a:lnTo>
                <a:lnTo>
                  <a:pt x="4899" y="5095"/>
                </a:lnTo>
                <a:lnTo>
                  <a:pt x="4899" y="5094"/>
                </a:lnTo>
                <a:lnTo>
                  <a:pt x="4897" y="5092"/>
                </a:lnTo>
                <a:lnTo>
                  <a:pt x="4896" y="5091"/>
                </a:lnTo>
                <a:lnTo>
                  <a:pt x="4891" y="5086"/>
                </a:lnTo>
                <a:lnTo>
                  <a:pt x="4888" y="5082"/>
                </a:lnTo>
                <a:lnTo>
                  <a:pt x="4890" y="5073"/>
                </a:lnTo>
                <a:lnTo>
                  <a:pt x="4896" y="5067"/>
                </a:lnTo>
                <a:lnTo>
                  <a:pt x="4888" y="5065"/>
                </a:lnTo>
                <a:lnTo>
                  <a:pt x="4883" y="5062"/>
                </a:lnTo>
                <a:lnTo>
                  <a:pt x="4868" y="5059"/>
                </a:lnTo>
                <a:lnTo>
                  <a:pt x="4857" y="5057"/>
                </a:lnTo>
                <a:lnTo>
                  <a:pt x="4846" y="5054"/>
                </a:lnTo>
                <a:lnTo>
                  <a:pt x="4842" y="5052"/>
                </a:lnTo>
                <a:lnTo>
                  <a:pt x="4839" y="5047"/>
                </a:lnTo>
                <a:lnTo>
                  <a:pt x="4839" y="5041"/>
                </a:lnTo>
                <a:lnTo>
                  <a:pt x="4839" y="5034"/>
                </a:lnTo>
                <a:lnTo>
                  <a:pt x="4841" y="5034"/>
                </a:lnTo>
                <a:lnTo>
                  <a:pt x="4843" y="5021"/>
                </a:lnTo>
                <a:lnTo>
                  <a:pt x="4852" y="4994"/>
                </a:lnTo>
                <a:lnTo>
                  <a:pt x="4875" y="4943"/>
                </a:lnTo>
                <a:lnTo>
                  <a:pt x="4909" y="4902"/>
                </a:lnTo>
                <a:lnTo>
                  <a:pt x="4919" y="4894"/>
                </a:lnTo>
                <a:lnTo>
                  <a:pt x="4932" y="4886"/>
                </a:lnTo>
                <a:lnTo>
                  <a:pt x="4946" y="4883"/>
                </a:lnTo>
                <a:lnTo>
                  <a:pt x="4962" y="4882"/>
                </a:lnTo>
                <a:lnTo>
                  <a:pt x="4994" y="4885"/>
                </a:lnTo>
                <a:lnTo>
                  <a:pt x="5027" y="4891"/>
                </a:lnTo>
                <a:lnTo>
                  <a:pt x="5061" y="4894"/>
                </a:lnTo>
                <a:lnTo>
                  <a:pt x="5091" y="4888"/>
                </a:lnTo>
                <a:lnTo>
                  <a:pt x="5107" y="4879"/>
                </a:lnTo>
                <a:lnTo>
                  <a:pt x="5113" y="4875"/>
                </a:lnTo>
                <a:lnTo>
                  <a:pt x="5126" y="4867"/>
                </a:lnTo>
                <a:lnTo>
                  <a:pt x="5155" y="4857"/>
                </a:lnTo>
                <a:lnTo>
                  <a:pt x="5181" y="4849"/>
                </a:lnTo>
                <a:lnTo>
                  <a:pt x="5188" y="4846"/>
                </a:lnTo>
                <a:lnTo>
                  <a:pt x="5194" y="4843"/>
                </a:lnTo>
                <a:lnTo>
                  <a:pt x="5201" y="4836"/>
                </a:lnTo>
                <a:lnTo>
                  <a:pt x="5213" y="4821"/>
                </a:lnTo>
                <a:lnTo>
                  <a:pt x="5239" y="4791"/>
                </a:lnTo>
                <a:lnTo>
                  <a:pt x="5275" y="4785"/>
                </a:lnTo>
                <a:lnTo>
                  <a:pt x="5277" y="4786"/>
                </a:lnTo>
                <a:lnTo>
                  <a:pt x="5278" y="4788"/>
                </a:lnTo>
                <a:lnTo>
                  <a:pt x="5280" y="4789"/>
                </a:lnTo>
                <a:lnTo>
                  <a:pt x="5282" y="4794"/>
                </a:lnTo>
                <a:lnTo>
                  <a:pt x="5288" y="4802"/>
                </a:lnTo>
                <a:lnTo>
                  <a:pt x="5294" y="4804"/>
                </a:lnTo>
                <a:lnTo>
                  <a:pt x="5296" y="4805"/>
                </a:lnTo>
                <a:lnTo>
                  <a:pt x="5297" y="4805"/>
                </a:lnTo>
                <a:lnTo>
                  <a:pt x="5298" y="4805"/>
                </a:lnTo>
                <a:lnTo>
                  <a:pt x="5300" y="4805"/>
                </a:lnTo>
                <a:lnTo>
                  <a:pt x="5300" y="4802"/>
                </a:lnTo>
                <a:lnTo>
                  <a:pt x="5307" y="4791"/>
                </a:lnTo>
                <a:lnTo>
                  <a:pt x="5323" y="4776"/>
                </a:lnTo>
                <a:lnTo>
                  <a:pt x="5329" y="4772"/>
                </a:lnTo>
                <a:lnTo>
                  <a:pt x="5327" y="4773"/>
                </a:lnTo>
                <a:lnTo>
                  <a:pt x="5327" y="4775"/>
                </a:lnTo>
                <a:lnTo>
                  <a:pt x="5327" y="4778"/>
                </a:lnTo>
                <a:lnTo>
                  <a:pt x="5327" y="4779"/>
                </a:lnTo>
                <a:lnTo>
                  <a:pt x="5329" y="4781"/>
                </a:lnTo>
                <a:lnTo>
                  <a:pt x="5330" y="4782"/>
                </a:lnTo>
                <a:lnTo>
                  <a:pt x="5333" y="4783"/>
                </a:lnTo>
                <a:lnTo>
                  <a:pt x="5338" y="4783"/>
                </a:lnTo>
                <a:lnTo>
                  <a:pt x="5342" y="4783"/>
                </a:lnTo>
                <a:lnTo>
                  <a:pt x="5348" y="4782"/>
                </a:lnTo>
                <a:lnTo>
                  <a:pt x="5349" y="4782"/>
                </a:lnTo>
                <a:lnTo>
                  <a:pt x="5356" y="4779"/>
                </a:lnTo>
                <a:lnTo>
                  <a:pt x="5380" y="4773"/>
                </a:lnTo>
                <a:lnTo>
                  <a:pt x="5391" y="4773"/>
                </a:lnTo>
                <a:lnTo>
                  <a:pt x="5397" y="4775"/>
                </a:lnTo>
                <a:lnTo>
                  <a:pt x="5401" y="4778"/>
                </a:lnTo>
                <a:lnTo>
                  <a:pt x="5404" y="4781"/>
                </a:lnTo>
                <a:lnTo>
                  <a:pt x="5406" y="4781"/>
                </a:lnTo>
                <a:lnTo>
                  <a:pt x="5410" y="4792"/>
                </a:lnTo>
                <a:lnTo>
                  <a:pt x="5413" y="4798"/>
                </a:lnTo>
                <a:lnTo>
                  <a:pt x="5414" y="4798"/>
                </a:lnTo>
                <a:lnTo>
                  <a:pt x="5420" y="4794"/>
                </a:lnTo>
                <a:lnTo>
                  <a:pt x="5433" y="4783"/>
                </a:lnTo>
                <a:lnTo>
                  <a:pt x="5465" y="4768"/>
                </a:lnTo>
                <a:lnTo>
                  <a:pt x="5500" y="4762"/>
                </a:lnTo>
                <a:lnTo>
                  <a:pt x="5510" y="4760"/>
                </a:lnTo>
                <a:lnTo>
                  <a:pt x="5511" y="4760"/>
                </a:lnTo>
                <a:lnTo>
                  <a:pt x="5513" y="4759"/>
                </a:lnTo>
                <a:lnTo>
                  <a:pt x="5517" y="4756"/>
                </a:lnTo>
                <a:lnTo>
                  <a:pt x="5527" y="4750"/>
                </a:lnTo>
                <a:lnTo>
                  <a:pt x="5536" y="4747"/>
                </a:lnTo>
                <a:lnTo>
                  <a:pt x="5545" y="4746"/>
                </a:lnTo>
                <a:lnTo>
                  <a:pt x="5564" y="4744"/>
                </a:lnTo>
                <a:lnTo>
                  <a:pt x="5598" y="4746"/>
                </a:lnTo>
                <a:lnTo>
                  <a:pt x="5630" y="4744"/>
                </a:lnTo>
                <a:lnTo>
                  <a:pt x="5639" y="4743"/>
                </a:lnTo>
                <a:lnTo>
                  <a:pt x="5652" y="4739"/>
                </a:lnTo>
                <a:lnTo>
                  <a:pt x="5664" y="4731"/>
                </a:lnTo>
                <a:lnTo>
                  <a:pt x="5674" y="4721"/>
                </a:lnTo>
                <a:lnTo>
                  <a:pt x="5691" y="4699"/>
                </a:lnTo>
                <a:lnTo>
                  <a:pt x="5726" y="4656"/>
                </a:lnTo>
                <a:lnTo>
                  <a:pt x="5761" y="4641"/>
                </a:lnTo>
                <a:lnTo>
                  <a:pt x="5774" y="4641"/>
                </a:lnTo>
                <a:lnTo>
                  <a:pt x="5785" y="4639"/>
                </a:lnTo>
                <a:lnTo>
                  <a:pt x="5795" y="4633"/>
                </a:lnTo>
                <a:lnTo>
                  <a:pt x="5806" y="4627"/>
                </a:lnTo>
                <a:lnTo>
                  <a:pt x="5823" y="4611"/>
                </a:lnTo>
                <a:lnTo>
                  <a:pt x="5859" y="4578"/>
                </a:lnTo>
                <a:lnTo>
                  <a:pt x="5882" y="4565"/>
                </a:lnTo>
                <a:lnTo>
                  <a:pt x="5876" y="4559"/>
                </a:lnTo>
                <a:lnTo>
                  <a:pt x="5872" y="4552"/>
                </a:lnTo>
                <a:lnTo>
                  <a:pt x="5872" y="4547"/>
                </a:lnTo>
                <a:lnTo>
                  <a:pt x="5874" y="4543"/>
                </a:lnTo>
                <a:lnTo>
                  <a:pt x="5875" y="4540"/>
                </a:lnTo>
                <a:lnTo>
                  <a:pt x="5887" y="4524"/>
                </a:lnTo>
                <a:lnTo>
                  <a:pt x="5911" y="4497"/>
                </a:lnTo>
                <a:lnTo>
                  <a:pt x="5972" y="4455"/>
                </a:lnTo>
                <a:lnTo>
                  <a:pt x="6043" y="4434"/>
                </a:lnTo>
                <a:lnTo>
                  <a:pt x="6063" y="4431"/>
                </a:lnTo>
                <a:lnTo>
                  <a:pt x="6068" y="4431"/>
                </a:lnTo>
                <a:lnTo>
                  <a:pt x="6072" y="4430"/>
                </a:lnTo>
                <a:lnTo>
                  <a:pt x="6081" y="4426"/>
                </a:lnTo>
                <a:lnTo>
                  <a:pt x="6089" y="4420"/>
                </a:lnTo>
                <a:lnTo>
                  <a:pt x="6105" y="4407"/>
                </a:lnTo>
                <a:lnTo>
                  <a:pt x="6116" y="4401"/>
                </a:lnTo>
                <a:lnTo>
                  <a:pt x="6107" y="4397"/>
                </a:lnTo>
                <a:lnTo>
                  <a:pt x="6100" y="4395"/>
                </a:lnTo>
                <a:lnTo>
                  <a:pt x="6094" y="4395"/>
                </a:lnTo>
                <a:lnTo>
                  <a:pt x="6087" y="4397"/>
                </a:lnTo>
                <a:lnTo>
                  <a:pt x="6079" y="4399"/>
                </a:lnTo>
                <a:lnTo>
                  <a:pt x="6066" y="4405"/>
                </a:lnTo>
                <a:lnTo>
                  <a:pt x="6055" y="4410"/>
                </a:lnTo>
                <a:lnTo>
                  <a:pt x="6050" y="4411"/>
                </a:lnTo>
                <a:lnTo>
                  <a:pt x="6046" y="4410"/>
                </a:lnTo>
                <a:lnTo>
                  <a:pt x="6043" y="4405"/>
                </a:lnTo>
                <a:lnTo>
                  <a:pt x="6043" y="4405"/>
                </a:lnTo>
                <a:lnTo>
                  <a:pt x="6039" y="4399"/>
                </a:lnTo>
                <a:lnTo>
                  <a:pt x="6037" y="4394"/>
                </a:lnTo>
                <a:lnTo>
                  <a:pt x="6039" y="4389"/>
                </a:lnTo>
                <a:lnTo>
                  <a:pt x="6042" y="4384"/>
                </a:lnTo>
                <a:lnTo>
                  <a:pt x="6047" y="4378"/>
                </a:lnTo>
                <a:lnTo>
                  <a:pt x="6059" y="4368"/>
                </a:lnTo>
                <a:lnTo>
                  <a:pt x="6068" y="4355"/>
                </a:lnTo>
                <a:lnTo>
                  <a:pt x="6071" y="4342"/>
                </a:lnTo>
                <a:lnTo>
                  <a:pt x="6069" y="4333"/>
                </a:lnTo>
                <a:lnTo>
                  <a:pt x="6068" y="4331"/>
                </a:lnTo>
                <a:lnTo>
                  <a:pt x="6065" y="4326"/>
                </a:lnTo>
                <a:lnTo>
                  <a:pt x="6063" y="4317"/>
                </a:lnTo>
                <a:lnTo>
                  <a:pt x="6063" y="4313"/>
                </a:lnTo>
                <a:lnTo>
                  <a:pt x="6065" y="4310"/>
                </a:lnTo>
                <a:lnTo>
                  <a:pt x="6066" y="4307"/>
                </a:lnTo>
                <a:lnTo>
                  <a:pt x="6075" y="4295"/>
                </a:lnTo>
                <a:lnTo>
                  <a:pt x="6092" y="4271"/>
                </a:lnTo>
                <a:lnTo>
                  <a:pt x="6126" y="4227"/>
                </a:lnTo>
                <a:lnTo>
                  <a:pt x="6160" y="4184"/>
                </a:lnTo>
                <a:lnTo>
                  <a:pt x="6171" y="4172"/>
                </a:lnTo>
                <a:lnTo>
                  <a:pt x="6181" y="4157"/>
                </a:lnTo>
                <a:lnTo>
                  <a:pt x="6202" y="4127"/>
                </a:lnTo>
                <a:lnTo>
                  <a:pt x="6242" y="4066"/>
                </a:lnTo>
                <a:lnTo>
                  <a:pt x="6289" y="4010"/>
                </a:lnTo>
                <a:lnTo>
                  <a:pt x="6305" y="3997"/>
                </a:lnTo>
                <a:lnTo>
                  <a:pt x="6310" y="3992"/>
                </a:lnTo>
                <a:lnTo>
                  <a:pt x="6314" y="3986"/>
                </a:lnTo>
                <a:lnTo>
                  <a:pt x="6317" y="3981"/>
                </a:lnTo>
                <a:lnTo>
                  <a:pt x="6320" y="3968"/>
                </a:lnTo>
                <a:lnTo>
                  <a:pt x="6321" y="3955"/>
                </a:lnTo>
                <a:lnTo>
                  <a:pt x="6326" y="3942"/>
                </a:lnTo>
                <a:lnTo>
                  <a:pt x="6333" y="3930"/>
                </a:lnTo>
                <a:lnTo>
                  <a:pt x="6339" y="3924"/>
                </a:lnTo>
                <a:lnTo>
                  <a:pt x="6340" y="3923"/>
                </a:lnTo>
                <a:lnTo>
                  <a:pt x="6340" y="3920"/>
                </a:lnTo>
                <a:lnTo>
                  <a:pt x="6342" y="3915"/>
                </a:lnTo>
                <a:lnTo>
                  <a:pt x="6340" y="3911"/>
                </a:lnTo>
                <a:lnTo>
                  <a:pt x="6337" y="3907"/>
                </a:lnTo>
                <a:lnTo>
                  <a:pt x="6334" y="3902"/>
                </a:lnTo>
                <a:lnTo>
                  <a:pt x="6331" y="3900"/>
                </a:lnTo>
                <a:lnTo>
                  <a:pt x="6337" y="3888"/>
                </a:lnTo>
                <a:lnTo>
                  <a:pt x="6350" y="3865"/>
                </a:lnTo>
                <a:lnTo>
                  <a:pt x="6376" y="3817"/>
                </a:lnTo>
                <a:lnTo>
                  <a:pt x="6410" y="3775"/>
                </a:lnTo>
                <a:lnTo>
                  <a:pt x="6421" y="3765"/>
                </a:lnTo>
                <a:lnTo>
                  <a:pt x="6424" y="3763"/>
                </a:lnTo>
                <a:lnTo>
                  <a:pt x="6427" y="3763"/>
                </a:lnTo>
                <a:lnTo>
                  <a:pt x="6433" y="3762"/>
                </a:lnTo>
                <a:lnTo>
                  <a:pt x="6444" y="3758"/>
                </a:lnTo>
                <a:lnTo>
                  <a:pt x="6449" y="3752"/>
                </a:lnTo>
                <a:lnTo>
                  <a:pt x="6450" y="3745"/>
                </a:lnTo>
                <a:lnTo>
                  <a:pt x="6450" y="3727"/>
                </a:lnTo>
                <a:lnTo>
                  <a:pt x="6449" y="3711"/>
                </a:lnTo>
                <a:lnTo>
                  <a:pt x="6446" y="3676"/>
                </a:lnTo>
                <a:lnTo>
                  <a:pt x="6453" y="3649"/>
                </a:lnTo>
                <a:lnTo>
                  <a:pt x="6443" y="3646"/>
                </a:lnTo>
                <a:lnTo>
                  <a:pt x="6426" y="3639"/>
                </a:lnTo>
                <a:lnTo>
                  <a:pt x="6392" y="3627"/>
                </a:lnTo>
                <a:lnTo>
                  <a:pt x="6358" y="3617"/>
                </a:lnTo>
                <a:lnTo>
                  <a:pt x="6349" y="3614"/>
                </a:lnTo>
                <a:lnTo>
                  <a:pt x="6350" y="3610"/>
                </a:lnTo>
                <a:lnTo>
                  <a:pt x="6350" y="3605"/>
                </a:lnTo>
                <a:lnTo>
                  <a:pt x="6349" y="3601"/>
                </a:lnTo>
                <a:lnTo>
                  <a:pt x="6347" y="3598"/>
                </a:lnTo>
                <a:lnTo>
                  <a:pt x="6346" y="3594"/>
                </a:lnTo>
                <a:lnTo>
                  <a:pt x="6340" y="3589"/>
                </a:lnTo>
                <a:lnTo>
                  <a:pt x="6336" y="3584"/>
                </a:lnTo>
                <a:lnTo>
                  <a:pt x="6334" y="3576"/>
                </a:lnTo>
                <a:lnTo>
                  <a:pt x="6336" y="3572"/>
                </a:lnTo>
                <a:lnTo>
                  <a:pt x="6336" y="3565"/>
                </a:lnTo>
                <a:lnTo>
                  <a:pt x="6339" y="3547"/>
                </a:lnTo>
                <a:lnTo>
                  <a:pt x="6347" y="3517"/>
                </a:lnTo>
                <a:lnTo>
                  <a:pt x="6355" y="3503"/>
                </a:lnTo>
                <a:lnTo>
                  <a:pt x="6368" y="3491"/>
                </a:lnTo>
                <a:lnTo>
                  <a:pt x="6376" y="3485"/>
                </a:lnTo>
                <a:lnTo>
                  <a:pt x="6371" y="3485"/>
                </a:lnTo>
                <a:lnTo>
                  <a:pt x="6359" y="3484"/>
                </a:lnTo>
                <a:lnTo>
                  <a:pt x="6339" y="3484"/>
                </a:lnTo>
                <a:lnTo>
                  <a:pt x="6318" y="3482"/>
                </a:lnTo>
                <a:lnTo>
                  <a:pt x="6314" y="3481"/>
                </a:lnTo>
                <a:lnTo>
                  <a:pt x="6305" y="3481"/>
                </a:lnTo>
                <a:lnTo>
                  <a:pt x="6288" y="3482"/>
                </a:lnTo>
                <a:lnTo>
                  <a:pt x="6271" y="3487"/>
                </a:lnTo>
                <a:lnTo>
                  <a:pt x="6236" y="3494"/>
                </a:lnTo>
                <a:lnTo>
                  <a:pt x="6211" y="3491"/>
                </a:lnTo>
                <a:lnTo>
                  <a:pt x="6201" y="3488"/>
                </a:lnTo>
                <a:lnTo>
                  <a:pt x="6184" y="3478"/>
                </a:lnTo>
                <a:lnTo>
                  <a:pt x="6149" y="3456"/>
                </a:lnTo>
                <a:lnTo>
                  <a:pt x="6108" y="3443"/>
                </a:lnTo>
                <a:lnTo>
                  <a:pt x="6098" y="3442"/>
                </a:lnTo>
                <a:lnTo>
                  <a:pt x="6110" y="3442"/>
                </a:lnTo>
                <a:lnTo>
                  <a:pt x="6133" y="3443"/>
                </a:lnTo>
                <a:lnTo>
                  <a:pt x="6179" y="3450"/>
                </a:lnTo>
                <a:lnTo>
                  <a:pt x="6223" y="3455"/>
                </a:lnTo>
                <a:lnTo>
                  <a:pt x="6234" y="3452"/>
                </a:lnTo>
                <a:lnTo>
                  <a:pt x="6239" y="3450"/>
                </a:lnTo>
                <a:lnTo>
                  <a:pt x="6245" y="3447"/>
                </a:lnTo>
                <a:lnTo>
                  <a:pt x="6249" y="3443"/>
                </a:lnTo>
                <a:lnTo>
                  <a:pt x="6259" y="3432"/>
                </a:lnTo>
                <a:lnTo>
                  <a:pt x="6278" y="3405"/>
                </a:lnTo>
                <a:lnTo>
                  <a:pt x="6298" y="3394"/>
                </a:lnTo>
                <a:lnTo>
                  <a:pt x="6302" y="3394"/>
                </a:lnTo>
                <a:lnTo>
                  <a:pt x="6311" y="3391"/>
                </a:lnTo>
                <a:lnTo>
                  <a:pt x="6327" y="3384"/>
                </a:lnTo>
                <a:lnTo>
                  <a:pt x="6343" y="3375"/>
                </a:lnTo>
                <a:lnTo>
                  <a:pt x="6349" y="3372"/>
                </a:lnTo>
                <a:lnTo>
                  <a:pt x="6342" y="3371"/>
                </a:lnTo>
                <a:lnTo>
                  <a:pt x="6329" y="3365"/>
                </a:lnTo>
                <a:lnTo>
                  <a:pt x="6301" y="3352"/>
                </a:lnTo>
                <a:lnTo>
                  <a:pt x="6279" y="3339"/>
                </a:lnTo>
                <a:lnTo>
                  <a:pt x="6276" y="3334"/>
                </a:lnTo>
                <a:lnTo>
                  <a:pt x="6268" y="3324"/>
                </a:lnTo>
                <a:lnTo>
                  <a:pt x="6252" y="3301"/>
                </a:lnTo>
                <a:lnTo>
                  <a:pt x="6227" y="3252"/>
                </a:lnTo>
                <a:lnTo>
                  <a:pt x="6208" y="3198"/>
                </a:lnTo>
                <a:lnTo>
                  <a:pt x="6204" y="3184"/>
                </a:lnTo>
                <a:lnTo>
                  <a:pt x="6200" y="3177"/>
                </a:lnTo>
                <a:lnTo>
                  <a:pt x="6194" y="3171"/>
                </a:lnTo>
                <a:lnTo>
                  <a:pt x="6187" y="3166"/>
                </a:lnTo>
                <a:lnTo>
                  <a:pt x="6178" y="3163"/>
                </a:lnTo>
                <a:lnTo>
                  <a:pt x="6159" y="3159"/>
                </a:lnTo>
                <a:lnTo>
                  <a:pt x="6139" y="3155"/>
                </a:lnTo>
                <a:lnTo>
                  <a:pt x="6121" y="3146"/>
                </a:lnTo>
                <a:lnTo>
                  <a:pt x="6108" y="3130"/>
                </a:lnTo>
                <a:lnTo>
                  <a:pt x="6108" y="3130"/>
                </a:lnTo>
                <a:lnTo>
                  <a:pt x="6105" y="3126"/>
                </a:lnTo>
                <a:lnTo>
                  <a:pt x="6103" y="3114"/>
                </a:lnTo>
                <a:lnTo>
                  <a:pt x="6097" y="3090"/>
                </a:lnTo>
                <a:lnTo>
                  <a:pt x="6089" y="3068"/>
                </a:lnTo>
                <a:lnTo>
                  <a:pt x="6087" y="3062"/>
                </a:lnTo>
                <a:lnTo>
                  <a:pt x="6084" y="3061"/>
                </a:lnTo>
                <a:lnTo>
                  <a:pt x="6081" y="3058"/>
                </a:lnTo>
                <a:lnTo>
                  <a:pt x="6076" y="3056"/>
                </a:lnTo>
                <a:lnTo>
                  <a:pt x="6069" y="3053"/>
                </a:lnTo>
                <a:lnTo>
                  <a:pt x="6050" y="3049"/>
                </a:lnTo>
                <a:lnTo>
                  <a:pt x="6037" y="3043"/>
                </a:lnTo>
                <a:lnTo>
                  <a:pt x="6043" y="3042"/>
                </a:lnTo>
                <a:lnTo>
                  <a:pt x="6047" y="3039"/>
                </a:lnTo>
                <a:lnTo>
                  <a:pt x="6050" y="3035"/>
                </a:lnTo>
                <a:lnTo>
                  <a:pt x="6052" y="3030"/>
                </a:lnTo>
                <a:lnTo>
                  <a:pt x="6053" y="3026"/>
                </a:lnTo>
                <a:lnTo>
                  <a:pt x="6055" y="3016"/>
                </a:lnTo>
                <a:lnTo>
                  <a:pt x="6056" y="3006"/>
                </a:lnTo>
                <a:lnTo>
                  <a:pt x="6061" y="2997"/>
                </a:lnTo>
                <a:lnTo>
                  <a:pt x="6065" y="2992"/>
                </a:lnTo>
                <a:lnTo>
                  <a:pt x="6071" y="2990"/>
                </a:lnTo>
                <a:lnTo>
                  <a:pt x="6082" y="2982"/>
                </a:lnTo>
                <a:lnTo>
                  <a:pt x="6105" y="2969"/>
                </a:lnTo>
                <a:lnTo>
                  <a:pt x="6126" y="2952"/>
                </a:lnTo>
                <a:lnTo>
                  <a:pt x="6130" y="2946"/>
                </a:lnTo>
                <a:lnTo>
                  <a:pt x="6134" y="2939"/>
                </a:lnTo>
                <a:lnTo>
                  <a:pt x="6143" y="2921"/>
                </a:lnTo>
                <a:lnTo>
                  <a:pt x="6156" y="2885"/>
                </a:lnTo>
                <a:lnTo>
                  <a:pt x="6153" y="2848"/>
                </a:lnTo>
                <a:lnTo>
                  <a:pt x="6150" y="2837"/>
                </a:lnTo>
                <a:lnTo>
                  <a:pt x="6158" y="2845"/>
                </a:lnTo>
                <a:lnTo>
                  <a:pt x="6168" y="2850"/>
                </a:lnTo>
                <a:lnTo>
                  <a:pt x="6176" y="2853"/>
                </a:lnTo>
                <a:lnTo>
                  <a:pt x="6185" y="2855"/>
                </a:lnTo>
                <a:lnTo>
                  <a:pt x="6204" y="2853"/>
                </a:lnTo>
                <a:lnTo>
                  <a:pt x="6221" y="2846"/>
                </a:lnTo>
                <a:lnTo>
                  <a:pt x="6237" y="2837"/>
                </a:lnTo>
                <a:lnTo>
                  <a:pt x="6247" y="2824"/>
                </a:lnTo>
                <a:lnTo>
                  <a:pt x="6249" y="2824"/>
                </a:lnTo>
                <a:lnTo>
                  <a:pt x="6266" y="2803"/>
                </a:lnTo>
                <a:lnTo>
                  <a:pt x="6308" y="2768"/>
                </a:lnTo>
                <a:lnTo>
                  <a:pt x="6355" y="2745"/>
                </a:lnTo>
                <a:lnTo>
                  <a:pt x="6405" y="2729"/>
                </a:lnTo>
                <a:lnTo>
                  <a:pt x="6513" y="2717"/>
                </a:lnTo>
                <a:lnTo>
                  <a:pt x="6540" y="2716"/>
                </a:lnTo>
                <a:lnTo>
                  <a:pt x="6543" y="2713"/>
                </a:lnTo>
                <a:lnTo>
                  <a:pt x="6543" y="2708"/>
                </a:lnTo>
                <a:lnTo>
                  <a:pt x="6543" y="2704"/>
                </a:lnTo>
                <a:lnTo>
                  <a:pt x="6544" y="2691"/>
                </a:lnTo>
                <a:lnTo>
                  <a:pt x="6552" y="2659"/>
                </a:lnTo>
                <a:lnTo>
                  <a:pt x="6562" y="2643"/>
                </a:lnTo>
                <a:lnTo>
                  <a:pt x="6563" y="2642"/>
                </a:lnTo>
                <a:lnTo>
                  <a:pt x="6565" y="2637"/>
                </a:lnTo>
                <a:lnTo>
                  <a:pt x="6568" y="2629"/>
                </a:lnTo>
                <a:lnTo>
                  <a:pt x="6569" y="2620"/>
                </a:lnTo>
                <a:lnTo>
                  <a:pt x="6569" y="2611"/>
                </a:lnTo>
                <a:lnTo>
                  <a:pt x="6566" y="2603"/>
                </a:lnTo>
                <a:lnTo>
                  <a:pt x="6563" y="2598"/>
                </a:lnTo>
                <a:lnTo>
                  <a:pt x="6563" y="2598"/>
                </a:lnTo>
                <a:lnTo>
                  <a:pt x="6549" y="2593"/>
                </a:lnTo>
                <a:lnTo>
                  <a:pt x="6517" y="2580"/>
                </a:lnTo>
                <a:lnTo>
                  <a:pt x="6450" y="2565"/>
                </a:lnTo>
                <a:lnTo>
                  <a:pt x="6418" y="2571"/>
                </a:lnTo>
                <a:lnTo>
                  <a:pt x="6394" y="2590"/>
                </a:lnTo>
                <a:lnTo>
                  <a:pt x="6384" y="2603"/>
                </a:lnTo>
                <a:lnTo>
                  <a:pt x="6368" y="2588"/>
                </a:lnTo>
                <a:lnTo>
                  <a:pt x="6331" y="2566"/>
                </a:lnTo>
                <a:lnTo>
                  <a:pt x="6292" y="2552"/>
                </a:lnTo>
                <a:lnTo>
                  <a:pt x="6250" y="2545"/>
                </a:lnTo>
                <a:lnTo>
                  <a:pt x="6162" y="2542"/>
                </a:lnTo>
                <a:lnTo>
                  <a:pt x="6142" y="2542"/>
                </a:lnTo>
                <a:lnTo>
                  <a:pt x="6142" y="2548"/>
                </a:lnTo>
                <a:lnTo>
                  <a:pt x="6142" y="2558"/>
                </a:lnTo>
                <a:lnTo>
                  <a:pt x="6142" y="2578"/>
                </a:lnTo>
                <a:lnTo>
                  <a:pt x="6139" y="2597"/>
                </a:lnTo>
                <a:lnTo>
                  <a:pt x="6139" y="2601"/>
                </a:lnTo>
                <a:lnTo>
                  <a:pt x="6134" y="2616"/>
                </a:lnTo>
                <a:lnTo>
                  <a:pt x="6121" y="2639"/>
                </a:lnTo>
                <a:lnTo>
                  <a:pt x="6103" y="2658"/>
                </a:lnTo>
                <a:lnTo>
                  <a:pt x="6081" y="2671"/>
                </a:lnTo>
                <a:lnTo>
                  <a:pt x="6056" y="2681"/>
                </a:lnTo>
                <a:lnTo>
                  <a:pt x="6032" y="2688"/>
                </a:lnTo>
                <a:lnTo>
                  <a:pt x="6020" y="2690"/>
                </a:lnTo>
                <a:lnTo>
                  <a:pt x="6018" y="2677"/>
                </a:lnTo>
                <a:lnTo>
                  <a:pt x="6021" y="2649"/>
                </a:lnTo>
                <a:lnTo>
                  <a:pt x="6029" y="2622"/>
                </a:lnTo>
                <a:lnTo>
                  <a:pt x="6037" y="2571"/>
                </a:lnTo>
                <a:lnTo>
                  <a:pt x="6023" y="2540"/>
                </a:lnTo>
                <a:lnTo>
                  <a:pt x="6011" y="2533"/>
                </a:lnTo>
                <a:lnTo>
                  <a:pt x="6000" y="2527"/>
                </a:lnTo>
                <a:lnTo>
                  <a:pt x="5988" y="2524"/>
                </a:lnTo>
                <a:lnTo>
                  <a:pt x="5959" y="2523"/>
                </a:lnTo>
                <a:lnTo>
                  <a:pt x="5930" y="2524"/>
                </a:lnTo>
                <a:lnTo>
                  <a:pt x="5871" y="2520"/>
                </a:lnTo>
                <a:lnTo>
                  <a:pt x="5858" y="2514"/>
                </a:lnTo>
                <a:lnTo>
                  <a:pt x="5849" y="2510"/>
                </a:lnTo>
                <a:lnTo>
                  <a:pt x="5834" y="2497"/>
                </a:lnTo>
                <a:lnTo>
                  <a:pt x="5824" y="2482"/>
                </a:lnTo>
                <a:lnTo>
                  <a:pt x="5820" y="2465"/>
                </a:lnTo>
                <a:lnTo>
                  <a:pt x="5820" y="2448"/>
                </a:lnTo>
                <a:lnTo>
                  <a:pt x="5827" y="2432"/>
                </a:lnTo>
                <a:lnTo>
                  <a:pt x="5833" y="2423"/>
                </a:lnTo>
                <a:lnTo>
                  <a:pt x="5836" y="2419"/>
                </a:lnTo>
                <a:lnTo>
                  <a:pt x="5846" y="2409"/>
                </a:lnTo>
                <a:lnTo>
                  <a:pt x="5865" y="2394"/>
                </a:lnTo>
                <a:lnTo>
                  <a:pt x="5891" y="2387"/>
                </a:lnTo>
                <a:lnTo>
                  <a:pt x="5900" y="2385"/>
                </a:lnTo>
                <a:lnTo>
                  <a:pt x="5898" y="2390"/>
                </a:lnTo>
                <a:lnTo>
                  <a:pt x="5901" y="2393"/>
                </a:lnTo>
                <a:lnTo>
                  <a:pt x="5903" y="2394"/>
                </a:lnTo>
                <a:lnTo>
                  <a:pt x="5905" y="2394"/>
                </a:lnTo>
                <a:lnTo>
                  <a:pt x="5911" y="2395"/>
                </a:lnTo>
                <a:lnTo>
                  <a:pt x="5917" y="2401"/>
                </a:lnTo>
                <a:lnTo>
                  <a:pt x="5917" y="2404"/>
                </a:lnTo>
                <a:lnTo>
                  <a:pt x="5924" y="2404"/>
                </a:lnTo>
                <a:lnTo>
                  <a:pt x="5942" y="2403"/>
                </a:lnTo>
                <a:lnTo>
                  <a:pt x="5975" y="2394"/>
                </a:lnTo>
                <a:lnTo>
                  <a:pt x="6010" y="2387"/>
                </a:lnTo>
                <a:lnTo>
                  <a:pt x="6020" y="2385"/>
                </a:lnTo>
                <a:lnTo>
                  <a:pt x="6020" y="2381"/>
                </a:lnTo>
                <a:lnTo>
                  <a:pt x="6021" y="2377"/>
                </a:lnTo>
                <a:lnTo>
                  <a:pt x="6024" y="2374"/>
                </a:lnTo>
                <a:lnTo>
                  <a:pt x="6027" y="2372"/>
                </a:lnTo>
                <a:lnTo>
                  <a:pt x="6032" y="2371"/>
                </a:lnTo>
                <a:lnTo>
                  <a:pt x="6039" y="2369"/>
                </a:lnTo>
                <a:lnTo>
                  <a:pt x="6046" y="2368"/>
                </a:lnTo>
                <a:lnTo>
                  <a:pt x="6052" y="2365"/>
                </a:lnTo>
                <a:lnTo>
                  <a:pt x="6053" y="2361"/>
                </a:lnTo>
                <a:lnTo>
                  <a:pt x="6053" y="2355"/>
                </a:lnTo>
                <a:lnTo>
                  <a:pt x="6053" y="2342"/>
                </a:lnTo>
                <a:lnTo>
                  <a:pt x="6056" y="2314"/>
                </a:lnTo>
                <a:lnTo>
                  <a:pt x="6062" y="2291"/>
                </a:lnTo>
                <a:lnTo>
                  <a:pt x="6066" y="2285"/>
                </a:lnTo>
                <a:lnTo>
                  <a:pt x="6072" y="2278"/>
                </a:lnTo>
                <a:lnTo>
                  <a:pt x="6088" y="2265"/>
                </a:lnTo>
                <a:lnTo>
                  <a:pt x="6107" y="2258"/>
                </a:lnTo>
                <a:lnTo>
                  <a:pt x="6126" y="2251"/>
                </a:lnTo>
                <a:lnTo>
                  <a:pt x="6165" y="2236"/>
                </a:lnTo>
                <a:lnTo>
                  <a:pt x="6175" y="2230"/>
                </a:lnTo>
                <a:lnTo>
                  <a:pt x="6182" y="2225"/>
                </a:lnTo>
                <a:lnTo>
                  <a:pt x="6198" y="2211"/>
                </a:lnTo>
                <a:lnTo>
                  <a:pt x="6230" y="2188"/>
                </a:lnTo>
                <a:lnTo>
                  <a:pt x="6263" y="2171"/>
                </a:lnTo>
                <a:lnTo>
                  <a:pt x="6272" y="2167"/>
                </a:lnTo>
                <a:lnTo>
                  <a:pt x="6278" y="2165"/>
                </a:lnTo>
                <a:lnTo>
                  <a:pt x="6291" y="2164"/>
                </a:lnTo>
                <a:lnTo>
                  <a:pt x="6321" y="2161"/>
                </a:lnTo>
                <a:lnTo>
                  <a:pt x="6349" y="2165"/>
                </a:lnTo>
                <a:lnTo>
                  <a:pt x="6355" y="2167"/>
                </a:lnTo>
                <a:lnTo>
                  <a:pt x="6358" y="2169"/>
                </a:lnTo>
                <a:lnTo>
                  <a:pt x="6360" y="2172"/>
                </a:lnTo>
                <a:lnTo>
                  <a:pt x="6360" y="2177"/>
                </a:lnTo>
                <a:lnTo>
                  <a:pt x="6362" y="2182"/>
                </a:lnTo>
                <a:lnTo>
                  <a:pt x="6360" y="2187"/>
                </a:lnTo>
                <a:lnTo>
                  <a:pt x="6359" y="2200"/>
                </a:lnTo>
                <a:lnTo>
                  <a:pt x="6353" y="2225"/>
                </a:lnTo>
                <a:lnTo>
                  <a:pt x="6353" y="2230"/>
                </a:lnTo>
                <a:lnTo>
                  <a:pt x="6352" y="2236"/>
                </a:lnTo>
                <a:lnTo>
                  <a:pt x="6350" y="2246"/>
                </a:lnTo>
                <a:lnTo>
                  <a:pt x="6346" y="2255"/>
                </a:lnTo>
                <a:lnTo>
                  <a:pt x="6340" y="2264"/>
                </a:lnTo>
                <a:lnTo>
                  <a:pt x="6324" y="2277"/>
                </a:lnTo>
                <a:lnTo>
                  <a:pt x="6321" y="2278"/>
                </a:lnTo>
                <a:lnTo>
                  <a:pt x="6315" y="2281"/>
                </a:lnTo>
                <a:lnTo>
                  <a:pt x="6304" y="2287"/>
                </a:lnTo>
                <a:lnTo>
                  <a:pt x="6285" y="2298"/>
                </a:lnTo>
                <a:lnTo>
                  <a:pt x="6278" y="2304"/>
                </a:lnTo>
                <a:lnTo>
                  <a:pt x="6275" y="2313"/>
                </a:lnTo>
                <a:lnTo>
                  <a:pt x="6276" y="2316"/>
                </a:lnTo>
                <a:lnTo>
                  <a:pt x="6278" y="2327"/>
                </a:lnTo>
                <a:lnTo>
                  <a:pt x="6282" y="2336"/>
                </a:lnTo>
                <a:lnTo>
                  <a:pt x="6288" y="2342"/>
                </a:lnTo>
                <a:lnTo>
                  <a:pt x="6295" y="2346"/>
                </a:lnTo>
                <a:lnTo>
                  <a:pt x="6304" y="2348"/>
                </a:lnTo>
                <a:lnTo>
                  <a:pt x="6314" y="2349"/>
                </a:lnTo>
                <a:lnTo>
                  <a:pt x="6337" y="2349"/>
                </a:lnTo>
                <a:lnTo>
                  <a:pt x="6382" y="2352"/>
                </a:lnTo>
                <a:lnTo>
                  <a:pt x="6384" y="2352"/>
                </a:lnTo>
                <a:lnTo>
                  <a:pt x="6378" y="2364"/>
                </a:lnTo>
                <a:lnTo>
                  <a:pt x="6365" y="2385"/>
                </a:lnTo>
                <a:lnTo>
                  <a:pt x="6333" y="2422"/>
                </a:lnTo>
                <a:lnTo>
                  <a:pt x="6292" y="2451"/>
                </a:lnTo>
                <a:lnTo>
                  <a:pt x="6281" y="2456"/>
                </a:lnTo>
                <a:lnTo>
                  <a:pt x="6284" y="2461"/>
                </a:lnTo>
                <a:lnTo>
                  <a:pt x="6294" y="2468"/>
                </a:lnTo>
                <a:lnTo>
                  <a:pt x="6315" y="2477"/>
                </a:lnTo>
                <a:lnTo>
                  <a:pt x="6321" y="2477"/>
                </a:lnTo>
                <a:lnTo>
                  <a:pt x="6326" y="2475"/>
                </a:lnTo>
                <a:lnTo>
                  <a:pt x="6329" y="2474"/>
                </a:lnTo>
                <a:lnTo>
                  <a:pt x="6331" y="2469"/>
                </a:lnTo>
                <a:lnTo>
                  <a:pt x="6333" y="2464"/>
                </a:lnTo>
                <a:lnTo>
                  <a:pt x="6334" y="2464"/>
                </a:lnTo>
                <a:lnTo>
                  <a:pt x="6339" y="2445"/>
                </a:lnTo>
                <a:lnTo>
                  <a:pt x="6346" y="2429"/>
                </a:lnTo>
                <a:lnTo>
                  <a:pt x="6356" y="2413"/>
                </a:lnTo>
                <a:lnTo>
                  <a:pt x="6382" y="2390"/>
                </a:lnTo>
                <a:lnTo>
                  <a:pt x="6414" y="2372"/>
                </a:lnTo>
                <a:lnTo>
                  <a:pt x="6446" y="2358"/>
                </a:lnTo>
                <a:lnTo>
                  <a:pt x="6478" y="2345"/>
                </a:lnTo>
                <a:lnTo>
                  <a:pt x="6494" y="2338"/>
                </a:lnTo>
                <a:lnTo>
                  <a:pt x="6508" y="2330"/>
                </a:lnTo>
                <a:lnTo>
                  <a:pt x="6542" y="2317"/>
                </a:lnTo>
                <a:lnTo>
                  <a:pt x="6608" y="2291"/>
                </a:lnTo>
                <a:lnTo>
                  <a:pt x="6679" y="2271"/>
                </a:lnTo>
                <a:lnTo>
                  <a:pt x="6698" y="2267"/>
                </a:lnTo>
                <a:lnTo>
                  <a:pt x="6698" y="2265"/>
                </a:lnTo>
                <a:lnTo>
                  <a:pt x="6697" y="2261"/>
                </a:lnTo>
                <a:lnTo>
                  <a:pt x="6697" y="2256"/>
                </a:lnTo>
                <a:lnTo>
                  <a:pt x="6698" y="2255"/>
                </a:lnTo>
                <a:lnTo>
                  <a:pt x="6695" y="2252"/>
                </a:lnTo>
                <a:lnTo>
                  <a:pt x="6692" y="2245"/>
                </a:lnTo>
                <a:lnTo>
                  <a:pt x="6691" y="2227"/>
                </a:lnTo>
                <a:lnTo>
                  <a:pt x="6692" y="2220"/>
                </a:lnTo>
                <a:lnTo>
                  <a:pt x="6697" y="2213"/>
                </a:lnTo>
                <a:lnTo>
                  <a:pt x="6699" y="2209"/>
                </a:lnTo>
                <a:lnTo>
                  <a:pt x="6718" y="2190"/>
                </a:lnTo>
                <a:lnTo>
                  <a:pt x="6763" y="2158"/>
                </a:lnTo>
                <a:lnTo>
                  <a:pt x="6812" y="2133"/>
                </a:lnTo>
                <a:lnTo>
                  <a:pt x="6914" y="2087"/>
                </a:lnTo>
                <a:lnTo>
                  <a:pt x="6979" y="2030"/>
                </a:lnTo>
                <a:lnTo>
                  <a:pt x="6981" y="2027"/>
                </a:lnTo>
                <a:lnTo>
                  <a:pt x="6983" y="2023"/>
                </a:lnTo>
                <a:lnTo>
                  <a:pt x="6986" y="2013"/>
                </a:lnTo>
                <a:lnTo>
                  <a:pt x="6992" y="1994"/>
                </a:lnTo>
                <a:lnTo>
                  <a:pt x="7007" y="1983"/>
                </a:lnTo>
                <a:lnTo>
                  <a:pt x="7011" y="1983"/>
                </a:lnTo>
                <a:lnTo>
                  <a:pt x="7021" y="1980"/>
                </a:lnTo>
                <a:lnTo>
                  <a:pt x="7040" y="1974"/>
                </a:lnTo>
                <a:lnTo>
                  <a:pt x="7047" y="1972"/>
                </a:lnTo>
                <a:lnTo>
                  <a:pt x="7052" y="1972"/>
                </a:lnTo>
                <a:lnTo>
                  <a:pt x="7053" y="1972"/>
                </a:lnTo>
                <a:lnTo>
                  <a:pt x="7056" y="1985"/>
                </a:lnTo>
                <a:lnTo>
                  <a:pt x="7069" y="2007"/>
                </a:lnTo>
                <a:lnTo>
                  <a:pt x="7085" y="2022"/>
                </a:lnTo>
                <a:lnTo>
                  <a:pt x="7105" y="2032"/>
                </a:lnTo>
                <a:lnTo>
                  <a:pt x="7128" y="2038"/>
                </a:lnTo>
                <a:lnTo>
                  <a:pt x="7150" y="2038"/>
                </a:lnTo>
                <a:lnTo>
                  <a:pt x="7162" y="2036"/>
                </a:lnTo>
                <a:lnTo>
                  <a:pt x="7173" y="2035"/>
                </a:lnTo>
                <a:lnTo>
                  <a:pt x="7182" y="2030"/>
                </a:lnTo>
                <a:lnTo>
                  <a:pt x="7188" y="2025"/>
                </a:lnTo>
                <a:lnTo>
                  <a:pt x="7191" y="2019"/>
                </a:lnTo>
                <a:lnTo>
                  <a:pt x="7191" y="2010"/>
                </a:lnTo>
                <a:lnTo>
                  <a:pt x="7191" y="2003"/>
                </a:lnTo>
                <a:lnTo>
                  <a:pt x="7186" y="1985"/>
                </a:lnTo>
                <a:lnTo>
                  <a:pt x="7183" y="1967"/>
                </a:lnTo>
                <a:lnTo>
                  <a:pt x="7186" y="1949"/>
                </a:lnTo>
                <a:lnTo>
                  <a:pt x="7188" y="1949"/>
                </a:lnTo>
                <a:lnTo>
                  <a:pt x="7191" y="1945"/>
                </a:lnTo>
                <a:lnTo>
                  <a:pt x="7196" y="1941"/>
                </a:lnTo>
                <a:lnTo>
                  <a:pt x="7204" y="1938"/>
                </a:lnTo>
                <a:lnTo>
                  <a:pt x="7212" y="1938"/>
                </a:lnTo>
                <a:lnTo>
                  <a:pt x="7231" y="1938"/>
                </a:lnTo>
                <a:lnTo>
                  <a:pt x="7272" y="1939"/>
                </a:lnTo>
                <a:lnTo>
                  <a:pt x="7288" y="1932"/>
                </a:lnTo>
                <a:lnTo>
                  <a:pt x="7292" y="1929"/>
                </a:lnTo>
                <a:lnTo>
                  <a:pt x="7304" y="1920"/>
                </a:lnTo>
                <a:lnTo>
                  <a:pt x="7327" y="1903"/>
                </a:lnTo>
                <a:lnTo>
                  <a:pt x="7349" y="1884"/>
                </a:lnTo>
                <a:lnTo>
                  <a:pt x="7354" y="1878"/>
                </a:lnTo>
                <a:lnTo>
                  <a:pt x="7360" y="1877"/>
                </a:lnTo>
                <a:lnTo>
                  <a:pt x="7364" y="1877"/>
                </a:lnTo>
                <a:lnTo>
                  <a:pt x="7373" y="1877"/>
                </a:lnTo>
                <a:lnTo>
                  <a:pt x="7391" y="1878"/>
                </a:lnTo>
                <a:lnTo>
                  <a:pt x="7401" y="1874"/>
                </a:lnTo>
                <a:lnTo>
                  <a:pt x="7404" y="1871"/>
                </a:lnTo>
                <a:lnTo>
                  <a:pt x="7405" y="1867"/>
                </a:lnTo>
                <a:lnTo>
                  <a:pt x="7408" y="1861"/>
                </a:lnTo>
                <a:lnTo>
                  <a:pt x="7409" y="1849"/>
                </a:lnTo>
                <a:lnTo>
                  <a:pt x="7412" y="1826"/>
                </a:lnTo>
                <a:lnTo>
                  <a:pt x="7418" y="1810"/>
                </a:lnTo>
                <a:lnTo>
                  <a:pt x="7425" y="1801"/>
                </a:lnTo>
                <a:lnTo>
                  <a:pt x="7434" y="1796"/>
                </a:lnTo>
                <a:lnTo>
                  <a:pt x="7441" y="1794"/>
                </a:lnTo>
                <a:lnTo>
                  <a:pt x="7450" y="1797"/>
                </a:lnTo>
                <a:lnTo>
                  <a:pt x="7459" y="1801"/>
                </a:lnTo>
                <a:lnTo>
                  <a:pt x="7466" y="1807"/>
                </a:lnTo>
                <a:lnTo>
                  <a:pt x="7482" y="1823"/>
                </a:lnTo>
                <a:lnTo>
                  <a:pt x="7499" y="1839"/>
                </a:lnTo>
                <a:lnTo>
                  <a:pt x="7515" y="1849"/>
                </a:lnTo>
                <a:lnTo>
                  <a:pt x="7517" y="1849"/>
                </a:lnTo>
                <a:lnTo>
                  <a:pt x="7518" y="1848"/>
                </a:lnTo>
                <a:lnTo>
                  <a:pt x="7527" y="1843"/>
                </a:lnTo>
                <a:lnTo>
                  <a:pt x="7533" y="1841"/>
                </a:lnTo>
                <a:lnTo>
                  <a:pt x="7534" y="1839"/>
                </a:lnTo>
                <a:lnTo>
                  <a:pt x="7540" y="1836"/>
                </a:lnTo>
                <a:lnTo>
                  <a:pt x="7551" y="1826"/>
                </a:lnTo>
                <a:lnTo>
                  <a:pt x="7572" y="1806"/>
                </a:lnTo>
                <a:lnTo>
                  <a:pt x="7585" y="1784"/>
                </a:lnTo>
                <a:lnTo>
                  <a:pt x="7588" y="1780"/>
                </a:lnTo>
                <a:lnTo>
                  <a:pt x="7589" y="1774"/>
                </a:lnTo>
                <a:lnTo>
                  <a:pt x="7596" y="1761"/>
                </a:lnTo>
                <a:lnTo>
                  <a:pt x="7609" y="1738"/>
                </a:lnTo>
                <a:lnTo>
                  <a:pt x="7619" y="1712"/>
                </a:lnTo>
                <a:lnTo>
                  <a:pt x="7621" y="1703"/>
                </a:lnTo>
                <a:lnTo>
                  <a:pt x="7617" y="1704"/>
                </a:lnTo>
                <a:lnTo>
                  <a:pt x="7614" y="1704"/>
                </a:lnTo>
                <a:lnTo>
                  <a:pt x="7612" y="1703"/>
                </a:lnTo>
                <a:lnTo>
                  <a:pt x="7611" y="1701"/>
                </a:lnTo>
                <a:lnTo>
                  <a:pt x="7611" y="1699"/>
                </a:lnTo>
                <a:lnTo>
                  <a:pt x="7611" y="1697"/>
                </a:lnTo>
                <a:lnTo>
                  <a:pt x="7609" y="1691"/>
                </a:lnTo>
                <a:lnTo>
                  <a:pt x="7608" y="1687"/>
                </a:lnTo>
                <a:lnTo>
                  <a:pt x="7604" y="1685"/>
                </a:lnTo>
                <a:lnTo>
                  <a:pt x="7604" y="1685"/>
                </a:lnTo>
                <a:lnTo>
                  <a:pt x="7606" y="1670"/>
                </a:lnTo>
                <a:lnTo>
                  <a:pt x="7611" y="1636"/>
                </a:lnTo>
                <a:lnTo>
                  <a:pt x="7605" y="1571"/>
                </a:lnTo>
                <a:lnTo>
                  <a:pt x="7579" y="1509"/>
                </a:lnTo>
                <a:lnTo>
                  <a:pt x="7569" y="1494"/>
                </a:lnTo>
                <a:lnTo>
                  <a:pt x="7579" y="1490"/>
                </a:lnTo>
                <a:lnTo>
                  <a:pt x="7598" y="1480"/>
                </a:lnTo>
                <a:lnTo>
                  <a:pt x="7634" y="1452"/>
                </a:lnTo>
                <a:lnTo>
                  <a:pt x="7664" y="1419"/>
                </a:lnTo>
                <a:lnTo>
                  <a:pt x="7672" y="1409"/>
                </a:lnTo>
                <a:lnTo>
                  <a:pt x="7679" y="1415"/>
                </a:lnTo>
                <a:lnTo>
                  <a:pt x="7692" y="1426"/>
                </a:lnTo>
                <a:lnTo>
                  <a:pt x="7718" y="1439"/>
                </a:lnTo>
                <a:lnTo>
                  <a:pt x="7732" y="1442"/>
                </a:lnTo>
                <a:lnTo>
                  <a:pt x="7748" y="1439"/>
                </a:lnTo>
                <a:lnTo>
                  <a:pt x="7759" y="1435"/>
                </a:lnTo>
                <a:lnTo>
                  <a:pt x="7757" y="1439"/>
                </a:lnTo>
                <a:lnTo>
                  <a:pt x="7759" y="1443"/>
                </a:lnTo>
                <a:lnTo>
                  <a:pt x="7760" y="1448"/>
                </a:lnTo>
                <a:lnTo>
                  <a:pt x="7764" y="1449"/>
                </a:lnTo>
                <a:lnTo>
                  <a:pt x="7769" y="1451"/>
                </a:lnTo>
                <a:lnTo>
                  <a:pt x="7774" y="1451"/>
                </a:lnTo>
                <a:lnTo>
                  <a:pt x="7777" y="1451"/>
                </a:lnTo>
                <a:lnTo>
                  <a:pt x="7782" y="1452"/>
                </a:lnTo>
                <a:lnTo>
                  <a:pt x="7793" y="1454"/>
                </a:lnTo>
                <a:lnTo>
                  <a:pt x="7805" y="1452"/>
                </a:lnTo>
                <a:lnTo>
                  <a:pt x="7828" y="1448"/>
                </a:lnTo>
                <a:lnTo>
                  <a:pt x="7845" y="1443"/>
                </a:lnTo>
                <a:lnTo>
                  <a:pt x="7844" y="1436"/>
                </a:lnTo>
                <a:lnTo>
                  <a:pt x="7844" y="1422"/>
                </a:lnTo>
                <a:lnTo>
                  <a:pt x="7848" y="1407"/>
                </a:lnTo>
                <a:lnTo>
                  <a:pt x="7856" y="1393"/>
                </a:lnTo>
                <a:lnTo>
                  <a:pt x="7866" y="1381"/>
                </a:lnTo>
                <a:lnTo>
                  <a:pt x="7877" y="1370"/>
                </a:lnTo>
                <a:lnTo>
                  <a:pt x="7886" y="1364"/>
                </a:lnTo>
                <a:lnTo>
                  <a:pt x="7887" y="1361"/>
                </a:lnTo>
                <a:lnTo>
                  <a:pt x="7889" y="1358"/>
                </a:lnTo>
                <a:lnTo>
                  <a:pt x="7889" y="1357"/>
                </a:lnTo>
                <a:lnTo>
                  <a:pt x="7887" y="1349"/>
                </a:lnTo>
                <a:lnTo>
                  <a:pt x="7887" y="1338"/>
                </a:lnTo>
                <a:lnTo>
                  <a:pt x="7890" y="1332"/>
                </a:lnTo>
                <a:lnTo>
                  <a:pt x="7895" y="1328"/>
                </a:lnTo>
                <a:lnTo>
                  <a:pt x="7903" y="1316"/>
                </a:lnTo>
                <a:lnTo>
                  <a:pt x="7921" y="1294"/>
                </a:lnTo>
                <a:lnTo>
                  <a:pt x="7940" y="1274"/>
                </a:lnTo>
                <a:lnTo>
                  <a:pt x="7945" y="1268"/>
                </a:lnTo>
                <a:lnTo>
                  <a:pt x="7947" y="1265"/>
                </a:lnTo>
                <a:lnTo>
                  <a:pt x="7948" y="1262"/>
                </a:lnTo>
                <a:lnTo>
                  <a:pt x="7950" y="1254"/>
                </a:lnTo>
                <a:lnTo>
                  <a:pt x="7950" y="1245"/>
                </a:lnTo>
                <a:lnTo>
                  <a:pt x="7948" y="1236"/>
                </a:lnTo>
                <a:lnTo>
                  <a:pt x="7941" y="1219"/>
                </a:lnTo>
                <a:lnTo>
                  <a:pt x="7941" y="1219"/>
                </a:lnTo>
                <a:lnTo>
                  <a:pt x="7945" y="1217"/>
                </a:lnTo>
                <a:lnTo>
                  <a:pt x="7953" y="1212"/>
                </a:lnTo>
                <a:lnTo>
                  <a:pt x="7958" y="1203"/>
                </a:lnTo>
                <a:lnTo>
                  <a:pt x="7970" y="1187"/>
                </a:lnTo>
                <a:lnTo>
                  <a:pt x="7980" y="1174"/>
                </a:lnTo>
                <a:lnTo>
                  <a:pt x="7982" y="1171"/>
                </a:lnTo>
                <a:lnTo>
                  <a:pt x="7983" y="1167"/>
                </a:lnTo>
                <a:lnTo>
                  <a:pt x="7983" y="1162"/>
                </a:lnTo>
                <a:lnTo>
                  <a:pt x="7983" y="1158"/>
                </a:lnTo>
                <a:lnTo>
                  <a:pt x="7980" y="1148"/>
                </a:lnTo>
                <a:lnTo>
                  <a:pt x="7976" y="1139"/>
                </a:lnTo>
                <a:lnTo>
                  <a:pt x="7974" y="1133"/>
                </a:lnTo>
                <a:lnTo>
                  <a:pt x="7976" y="1128"/>
                </a:lnTo>
                <a:lnTo>
                  <a:pt x="7977" y="1128"/>
                </a:lnTo>
                <a:lnTo>
                  <a:pt x="7985" y="1123"/>
                </a:lnTo>
                <a:lnTo>
                  <a:pt x="7995" y="1113"/>
                </a:lnTo>
                <a:lnTo>
                  <a:pt x="7999" y="1102"/>
                </a:lnTo>
                <a:lnTo>
                  <a:pt x="8000" y="1090"/>
                </a:lnTo>
                <a:lnTo>
                  <a:pt x="8000" y="1077"/>
                </a:lnTo>
                <a:lnTo>
                  <a:pt x="7999" y="1062"/>
                </a:lnTo>
                <a:lnTo>
                  <a:pt x="8000" y="1055"/>
                </a:lnTo>
                <a:lnTo>
                  <a:pt x="8008" y="1057"/>
                </a:lnTo>
                <a:lnTo>
                  <a:pt x="8024" y="1055"/>
                </a:lnTo>
                <a:lnTo>
                  <a:pt x="8040" y="1052"/>
                </a:lnTo>
                <a:lnTo>
                  <a:pt x="8054" y="1045"/>
                </a:lnTo>
                <a:lnTo>
                  <a:pt x="8063" y="1035"/>
                </a:lnTo>
                <a:lnTo>
                  <a:pt x="8064" y="1028"/>
                </a:lnTo>
                <a:lnTo>
                  <a:pt x="8064" y="1022"/>
                </a:lnTo>
                <a:lnTo>
                  <a:pt x="8063" y="1013"/>
                </a:lnTo>
                <a:lnTo>
                  <a:pt x="8063" y="1013"/>
                </a:lnTo>
                <a:lnTo>
                  <a:pt x="8060" y="1007"/>
                </a:lnTo>
                <a:lnTo>
                  <a:pt x="8056" y="996"/>
                </a:lnTo>
                <a:lnTo>
                  <a:pt x="8048" y="973"/>
                </a:lnTo>
                <a:lnTo>
                  <a:pt x="8045" y="949"/>
                </a:lnTo>
                <a:lnTo>
                  <a:pt x="8047" y="942"/>
                </a:lnTo>
                <a:lnTo>
                  <a:pt x="8047" y="941"/>
                </a:lnTo>
                <a:lnTo>
                  <a:pt x="8048" y="935"/>
                </a:lnTo>
                <a:lnTo>
                  <a:pt x="8051" y="922"/>
                </a:lnTo>
                <a:lnTo>
                  <a:pt x="8058" y="910"/>
                </a:lnTo>
                <a:lnTo>
                  <a:pt x="8061" y="907"/>
                </a:lnTo>
                <a:lnTo>
                  <a:pt x="8056" y="909"/>
                </a:lnTo>
                <a:lnTo>
                  <a:pt x="8050" y="907"/>
                </a:lnTo>
                <a:lnTo>
                  <a:pt x="8041" y="904"/>
                </a:lnTo>
                <a:lnTo>
                  <a:pt x="8031" y="900"/>
                </a:lnTo>
                <a:lnTo>
                  <a:pt x="8024" y="896"/>
                </a:lnTo>
                <a:lnTo>
                  <a:pt x="8016" y="894"/>
                </a:lnTo>
                <a:lnTo>
                  <a:pt x="8011" y="894"/>
                </a:lnTo>
                <a:lnTo>
                  <a:pt x="8011" y="894"/>
                </a:lnTo>
                <a:lnTo>
                  <a:pt x="7996" y="902"/>
                </a:lnTo>
                <a:lnTo>
                  <a:pt x="7967" y="910"/>
                </a:lnTo>
                <a:lnTo>
                  <a:pt x="7938" y="915"/>
                </a:lnTo>
                <a:lnTo>
                  <a:pt x="7879" y="920"/>
                </a:lnTo>
                <a:lnTo>
                  <a:pt x="7838" y="931"/>
                </a:lnTo>
                <a:lnTo>
                  <a:pt x="7831" y="933"/>
                </a:lnTo>
                <a:lnTo>
                  <a:pt x="7821" y="942"/>
                </a:lnTo>
                <a:lnTo>
                  <a:pt x="7799" y="960"/>
                </a:lnTo>
                <a:lnTo>
                  <a:pt x="7774" y="974"/>
                </a:lnTo>
                <a:lnTo>
                  <a:pt x="7767" y="975"/>
                </a:lnTo>
                <a:lnTo>
                  <a:pt x="7769" y="977"/>
                </a:lnTo>
                <a:lnTo>
                  <a:pt x="7772" y="980"/>
                </a:lnTo>
                <a:lnTo>
                  <a:pt x="7776" y="986"/>
                </a:lnTo>
                <a:lnTo>
                  <a:pt x="7776" y="991"/>
                </a:lnTo>
                <a:lnTo>
                  <a:pt x="7776" y="993"/>
                </a:lnTo>
                <a:lnTo>
                  <a:pt x="7764" y="1000"/>
                </a:lnTo>
                <a:lnTo>
                  <a:pt x="7741" y="1009"/>
                </a:lnTo>
                <a:lnTo>
                  <a:pt x="7718" y="1013"/>
                </a:lnTo>
                <a:lnTo>
                  <a:pt x="7695" y="1013"/>
                </a:lnTo>
                <a:lnTo>
                  <a:pt x="7670" y="1009"/>
                </a:lnTo>
                <a:lnTo>
                  <a:pt x="7647" y="1002"/>
                </a:lnTo>
                <a:lnTo>
                  <a:pt x="7637" y="996"/>
                </a:lnTo>
                <a:lnTo>
                  <a:pt x="7632" y="994"/>
                </a:lnTo>
                <a:lnTo>
                  <a:pt x="7624" y="993"/>
                </a:lnTo>
                <a:lnTo>
                  <a:pt x="7615" y="994"/>
                </a:lnTo>
                <a:lnTo>
                  <a:pt x="7606" y="996"/>
                </a:lnTo>
                <a:lnTo>
                  <a:pt x="7598" y="1000"/>
                </a:lnTo>
                <a:lnTo>
                  <a:pt x="7589" y="1006"/>
                </a:lnTo>
                <a:lnTo>
                  <a:pt x="7585" y="1009"/>
                </a:lnTo>
                <a:lnTo>
                  <a:pt x="7582" y="1010"/>
                </a:lnTo>
                <a:lnTo>
                  <a:pt x="7580" y="1012"/>
                </a:lnTo>
                <a:lnTo>
                  <a:pt x="7576" y="1013"/>
                </a:lnTo>
                <a:lnTo>
                  <a:pt x="7570" y="1013"/>
                </a:lnTo>
                <a:lnTo>
                  <a:pt x="7566" y="1012"/>
                </a:lnTo>
                <a:lnTo>
                  <a:pt x="7563" y="1009"/>
                </a:lnTo>
                <a:lnTo>
                  <a:pt x="7561" y="1003"/>
                </a:lnTo>
                <a:lnTo>
                  <a:pt x="7563" y="1003"/>
                </a:lnTo>
                <a:lnTo>
                  <a:pt x="7561" y="999"/>
                </a:lnTo>
                <a:lnTo>
                  <a:pt x="7560" y="996"/>
                </a:lnTo>
                <a:lnTo>
                  <a:pt x="7556" y="990"/>
                </a:lnTo>
                <a:lnTo>
                  <a:pt x="7554" y="984"/>
                </a:lnTo>
                <a:lnTo>
                  <a:pt x="7554" y="981"/>
                </a:lnTo>
                <a:lnTo>
                  <a:pt x="7556" y="980"/>
                </a:lnTo>
                <a:lnTo>
                  <a:pt x="7557" y="978"/>
                </a:lnTo>
                <a:lnTo>
                  <a:pt x="7561" y="977"/>
                </a:lnTo>
                <a:lnTo>
                  <a:pt x="7567" y="975"/>
                </a:lnTo>
                <a:lnTo>
                  <a:pt x="7569" y="975"/>
                </a:lnTo>
                <a:lnTo>
                  <a:pt x="7566" y="974"/>
                </a:lnTo>
                <a:lnTo>
                  <a:pt x="7563" y="971"/>
                </a:lnTo>
                <a:lnTo>
                  <a:pt x="7556" y="967"/>
                </a:lnTo>
                <a:lnTo>
                  <a:pt x="7543" y="961"/>
                </a:lnTo>
                <a:lnTo>
                  <a:pt x="7537" y="951"/>
                </a:lnTo>
                <a:lnTo>
                  <a:pt x="7537" y="941"/>
                </a:lnTo>
                <a:lnTo>
                  <a:pt x="7537" y="922"/>
                </a:lnTo>
                <a:lnTo>
                  <a:pt x="7530" y="889"/>
                </a:lnTo>
                <a:lnTo>
                  <a:pt x="7514" y="855"/>
                </a:lnTo>
                <a:lnTo>
                  <a:pt x="7508" y="847"/>
                </a:lnTo>
                <a:lnTo>
                  <a:pt x="7511" y="845"/>
                </a:lnTo>
                <a:lnTo>
                  <a:pt x="7515" y="844"/>
                </a:lnTo>
                <a:lnTo>
                  <a:pt x="7517" y="841"/>
                </a:lnTo>
                <a:lnTo>
                  <a:pt x="7518" y="838"/>
                </a:lnTo>
                <a:lnTo>
                  <a:pt x="7519" y="833"/>
                </a:lnTo>
                <a:lnTo>
                  <a:pt x="7522" y="826"/>
                </a:lnTo>
                <a:lnTo>
                  <a:pt x="7524" y="819"/>
                </a:lnTo>
                <a:lnTo>
                  <a:pt x="7530" y="815"/>
                </a:lnTo>
                <a:lnTo>
                  <a:pt x="7534" y="812"/>
                </a:lnTo>
                <a:lnTo>
                  <a:pt x="7525" y="813"/>
                </a:lnTo>
                <a:lnTo>
                  <a:pt x="7508" y="815"/>
                </a:lnTo>
                <a:lnTo>
                  <a:pt x="7476" y="809"/>
                </a:lnTo>
                <a:lnTo>
                  <a:pt x="7447" y="797"/>
                </a:lnTo>
                <a:lnTo>
                  <a:pt x="7440" y="793"/>
                </a:lnTo>
                <a:lnTo>
                  <a:pt x="7435" y="791"/>
                </a:lnTo>
                <a:lnTo>
                  <a:pt x="7433" y="789"/>
                </a:lnTo>
                <a:lnTo>
                  <a:pt x="7430" y="786"/>
                </a:lnTo>
                <a:lnTo>
                  <a:pt x="7427" y="780"/>
                </a:lnTo>
                <a:lnTo>
                  <a:pt x="7424" y="773"/>
                </a:lnTo>
                <a:lnTo>
                  <a:pt x="7420" y="757"/>
                </a:lnTo>
                <a:lnTo>
                  <a:pt x="7420" y="752"/>
                </a:lnTo>
                <a:lnTo>
                  <a:pt x="7414" y="744"/>
                </a:lnTo>
                <a:lnTo>
                  <a:pt x="7406" y="738"/>
                </a:lnTo>
                <a:lnTo>
                  <a:pt x="7399" y="733"/>
                </a:lnTo>
                <a:lnTo>
                  <a:pt x="7391" y="731"/>
                </a:lnTo>
                <a:lnTo>
                  <a:pt x="7382" y="729"/>
                </a:lnTo>
                <a:lnTo>
                  <a:pt x="7363" y="728"/>
                </a:lnTo>
                <a:lnTo>
                  <a:pt x="7328" y="725"/>
                </a:lnTo>
                <a:lnTo>
                  <a:pt x="7321" y="720"/>
                </a:lnTo>
                <a:lnTo>
                  <a:pt x="7315" y="719"/>
                </a:lnTo>
                <a:lnTo>
                  <a:pt x="7305" y="713"/>
                </a:lnTo>
                <a:lnTo>
                  <a:pt x="7283" y="705"/>
                </a:lnTo>
                <a:lnTo>
                  <a:pt x="7260" y="697"/>
                </a:lnTo>
                <a:lnTo>
                  <a:pt x="7256" y="694"/>
                </a:lnTo>
                <a:lnTo>
                  <a:pt x="7249" y="693"/>
                </a:lnTo>
                <a:lnTo>
                  <a:pt x="7234" y="690"/>
                </a:lnTo>
                <a:lnTo>
                  <a:pt x="7202" y="690"/>
                </a:lnTo>
                <a:lnTo>
                  <a:pt x="7169" y="690"/>
                </a:lnTo>
                <a:lnTo>
                  <a:pt x="7162" y="690"/>
                </a:lnTo>
                <a:lnTo>
                  <a:pt x="7160" y="686"/>
                </a:lnTo>
                <a:lnTo>
                  <a:pt x="7159" y="681"/>
                </a:lnTo>
                <a:lnTo>
                  <a:pt x="7156" y="678"/>
                </a:lnTo>
                <a:lnTo>
                  <a:pt x="7153" y="676"/>
                </a:lnTo>
                <a:lnTo>
                  <a:pt x="7150" y="674"/>
                </a:lnTo>
                <a:lnTo>
                  <a:pt x="7141" y="670"/>
                </a:lnTo>
                <a:lnTo>
                  <a:pt x="7134" y="667"/>
                </a:lnTo>
                <a:lnTo>
                  <a:pt x="7128" y="661"/>
                </a:lnTo>
                <a:lnTo>
                  <a:pt x="7127" y="657"/>
                </a:lnTo>
                <a:lnTo>
                  <a:pt x="7125" y="652"/>
                </a:lnTo>
                <a:lnTo>
                  <a:pt x="7127" y="647"/>
                </a:lnTo>
                <a:lnTo>
                  <a:pt x="7128" y="642"/>
                </a:lnTo>
                <a:lnTo>
                  <a:pt x="7133" y="632"/>
                </a:lnTo>
                <a:lnTo>
                  <a:pt x="7138" y="612"/>
                </a:lnTo>
                <a:lnTo>
                  <a:pt x="7136" y="596"/>
                </a:lnTo>
                <a:lnTo>
                  <a:pt x="7133" y="594"/>
                </a:lnTo>
                <a:lnTo>
                  <a:pt x="7125" y="589"/>
                </a:lnTo>
                <a:lnTo>
                  <a:pt x="7114" y="578"/>
                </a:lnTo>
                <a:lnTo>
                  <a:pt x="7109" y="574"/>
                </a:lnTo>
                <a:lnTo>
                  <a:pt x="7107" y="571"/>
                </a:lnTo>
                <a:lnTo>
                  <a:pt x="7107" y="570"/>
                </a:lnTo>
                <a:lnTo>
                  <a:pt x="7104" y="552"/>
                </a:lnTo>
                <a:lnTo>
                  <a:pt x="7098" y="519"/>
                </a:lnTo>
                <a:lnTo>
                  <a:pt x="7069" y="461"/>
                </a:lnTo>
                <a:lnTo>
                  <a:pt x="7028" y="409"/>
                </a:lnTo>
                <a:lnTo>
                  <a:pt x="7017" y="394"/>
                </a:lnTo>
                <a:lnTo>
                  <a:pt x="7014" y="392"/>
                </a:lnTo>
                <a:lnTo>
                  <a:pt x="7014" y="389"/>
                </a:lnTo>
                <a:lnTo>
                  <a:pt x="7015" y="386"/>
                </a:lnTo>
                <a:lnTo>
                  <a:pt x="7017" y="381"/>
                </a:lnTo>
                <a:lnTo>
                  <a:pt x="7020" y="378"/>
                </a:lnTo>
                <a:lnTo>
                  <a:pt x="7025" y="373"/>
                </a:lnTo>
                <a:lnTo>
                  <a:pt x="7031" y="367"/>
                </a:lnTo>
                <a:lnTo>
                  <a:pt x="7033" y="358"/>
                </a:lnTo>
                <a:lnTo>
                  <a:pt x="7031" y="354"/>
                </a:lnTo>
                <a:lnTo>
                  <a:pt x="7023" y="341"/>
                </a:lnTo>
                <a:lnTo>
                  <a:pt x="7008" y="312"/>
                </a:lnTo>
                <a:lnTo>
                  <a:pt x="6981" y="255"/>
                </a:lnTo>
                <a:lnTo>
                  <a:pt x="6954" y="199"/>
                </a:lnTo>
                <a:lnTo>
                  <a:pt x="6947" y="184"/>
                </a:lnTo>
                <a:lnTo>
                  <a:pt x="6943" y="179"/>
                </a:lnTo>
                <a:lnTo>
                  <a:pt x="6936" y="165"/>
                </a:lnTo>
                <a:lnTo>
                  <a:pt x="6918" y="136"/>
                </a:lnTo>
                <a:lnTo>
                  <a:pt x="6898" y="110"/>
                </a:lnTo>
                <a:lnTo>
                  <a:pt x="6892" y="105"/>
                </a:lnTo>
                <a:lnTo>
                  <a:pt x="6888" y="103"/>
                </a:lnTo>
                <a:lnTo>
                  <a:pt x="6881" y="100"/>
                </a:lnTo>
                <a:lnTo>
                  <a:pt x="6863" y="93"/>
                </a:lnTo>
                <a:lnTo>
                  <a:pt x="6846" y="89"/>
                </a:lnTo>
                <a:lnTo>
                  <a:pt x="6841" y="87"/>
                </a:lnTo>
                <a:lnTo>
                  <a:pt x="6833" y="87"/>
                </a:lnTo>
                <a:lnTo>
                  <a:pt x="6817" y="86"/>
                </a:lnTo>
                <a:lnTo>
                  <a:pt x="6785" y="86"/>
                </a:lnTo>
                <a:lnTo>
                  <a:pt x="6754" y="84"/>
                </a:lnTo>
                <a:lnTo>
                  <a:pt x="6749" y="81"/>
                </a:lnTo>
                <a:lnTo>
                  <a:pt x="6741" y="79"/>
                </a:lnTo>
                <a:lnTo>
                  <a:pt x="6727" y="71"/>
                </a:lnTo>
                <a:lnTo>
                  <a:pt x="6698" y="54"/>
                </a:lnTo>
                <a:lnTo>
                  <a:pt x="6670" y="37"/>
                </a:lnTo>
                <a:lnTo>
                  <a:pt x="6665" y="32"/>
                </a:lnTo>
                <a:lnTo>
                  <a:pt x="6653" y="26"/>
                </a:lnTo>
                <a:lnTo>
                  <a:pt x="6631" y="16"/>
                </a:lnTo>
                <a:lnTo>
                  <a:pt x="6579" y="3"/>
                </a:lnTo>
                <a:lnTo>
                  <a:pt x="6527" y="2"/>
                </a:lnTo>
                <a:lnTo>
                  <a:pt x="6514" y="3"/>
                </a:lnTo>
                <a:lnTo>
                  <a:pt x="6511" y="5"/>
                </a:lnTo>
                <a:lnTo>
                  <a:pt x="6508" y="6"/>
                </a:lnTo>
                <a:lnTo>
                  <a:pt x="6498" y="9"/>
                </a:lnTo>
                <a:lnTo>
                  <a:pt x="6486" y="13"/>
                </a:lnTo>
                <a:lnTo>
                  <a:pt x="6485" y="13"/>
                </a:lnTo>
                <a:lnTo>
                  <a:pt x="6478" y="16"/>
                </a:lnTo>
                <a:lnTo>
                  <a:pt x="6472" y="18"/>
                </a:lnTo>
                <a:lnTo>
                  <a:pt x="6466" y="16"/>
                </a:lnTo>
                <a:lnTo>
                  <a:pt x="6459" y="15"/>
                </a:lnTo>
                <a:lnTo>
                  <a:pt x="6446" y="9"/>
                </a:lnTo>
                <a:lnTo>
                  <a:pt x="6433" y="3"/>
                </a:lnTo>
                <a:lnTo>
                  <a:pt x="6421" y="0"/>
                </a:lnTo>
                <a:lnTo>
                  <a:pt x="6413" y="3"/>
                </a:lnTo>
                <a:lnTo>
                  <a:pt x="6413" y="3"/>
                </a:lnTo>
                <a:lnTo>
                  <a:pt x="6400" y="13"/>
                </a:lnTo>
                <a:lnTo>
                  <a:pt x="6386" y="19"/>
                </a:lnTo>
                <a:lnTo>
                  <a:pt x="6359" y="25"/>
                </a:lnTo>
                <a:lnTo>
                  <a:pt x="6331" y="28"/>
                </a:lnTo>
                <a:lnTo>
                  <a:pt x="6279" y="32"/>
                </a:lnTo>
                <a:lnTo>
                  <a:pt x="6258" y="41"/>
                </a:lnTo>
                <a:lnTo>
                  <a:pt x="6247" y="48"/>
                </a:lnTo>
                <a:lnTo>
                  <a:pt x="6230" y="61"/>
                </a:lnTo>
                <a:lnTo>
                  <a:pt x="6194" y="89"/>
                </a:lnTo>
                <a:lnTo>
                  <a:pt x="6153" y="112"/>
                </a:lnTo>
                <a:lnTo>
                  <a:pt x="6143" y="116"/>
                </a:lnTo>
                <a:lnTo>
                  <a:pt x="6140" y="118"/>
                </a:lnTo>
                <a:lnTo>
                  <a:pt x="6139" y="121"/>
                </a:lnTo>
                <a:lnTo>
                  <a:pt x="6136" y="125"/>
                </a:lnTo>
                <a:lnTo>
                  <a:pt x="6133" y="134"/>
                </a:lnTo>
                <a:lnTo>
                  <a:pt x="6131" y="144"/>
                </a:lnTo>
                <a:lnTo>
                  <a:pt x="6133" y="152"/>
                </a:lnTo>
                <a:lnTo>
                  <a:pt x="6137" y="157"/>
                </a:lnTo>
                <a:lnTo>
                  <a:pt x="6142" y="157"/>
                </a:lnTo>
                <a:lnTo>
                  <a:pt x="6158" y="158"/>
                </a:lnTo>
                <a:lnTo>
                  <a:pt x="6184" y="167"/>
                </a:lnTo>
                <a:lnTo>
                  <a:pt x="6204" y="183"/>
                </a:lnTo>
                <a:lnTo>
                  <a:pt x="6217" y="203"/>
                </a:lnTo>
                <a:lnTo>
                  <a:pt x="6224" y="225"/>
                </a:lnTo>
                <a:lnTo>
                  <a:pt x="6226" y="248"/>
                </a:lnTo>
                <a:lnTo>
                  <a:pt x="6226" y="258"/>
                </a:lnTo>
                <a:lnTo>
                  <a:pt x="6223" y="270"/>
                </a:lnTo>
                <a:lnTo>
                  <a:pt x="6218" y="280"/>
                </a:lnTo>
                <a:lnTo>
                  <a:pt x="6213" y="289"/>
                </a:lnTo>
                <a:lnTo>
                  <a:pt x="6195" y="307"/>
                </a:lnTo>
                <a:lnTo>
                  <a:pt x="6175" y="326"/>
                </a:lnTo>
                <a:lnTo>
                  <a:pt x="6133" y="367"/>
                </a:lnTo>
                <a:lnTo>
                  <a:pt x="6124" y="378"/>
                </a:lnTo>
                <a:lnTo>
                  <a:pt x="6120" y="386"/>
                </a:lnTo>
                <a:lnTo>
                  <a:pt x="6114" y="400"/>
                </a:lnTo>
                <a:lnTo>
                  <a:pt x="6110" y="415"/>
                </a:lnTo>
                <a:lnTo>
                  <a:pt x="6101" y="442"/>
                </a:lnTo>
                <a:lnTo>
                  <a:pt x="6088" y="454"/>
                </a:lnTo>
                <a:lnTo>
                  <a:pt x="6084" y="457"/>
                </a:lnTo>
                <a:lnTo>
                  <a:pt x="6078" y="461"/>
                </a:lnTo>
                <a:lnTo>
                  <a:pt x="6072" y="467"/>
                </a:lnTo>
                <a:lnTo>
                  <a:pt x="6065" y="478"/>
                </a:lnTo>
                <a:lnTo>
                  <a:pt x="6058" y="486"/>
                </a:lnTo>
                <a:lnTo>
                  <a:pt x="6049" y="494"/>
                </a:lnTo>
                <a:lnTo>
                  <a:pt x="6045" y="503"/>
                </a:lnTo>
                <a:lnTo>
                  <a:pt x="6043" y="512"/>
                </a:lnTo>
                <a:lnTo>
                  <a:pt x="6042" y="522"/>
                </a:lnTo>
                <a:lnTo>
                  <a:pt x="6043" y="532"/>
                </a:lnTo>
                <a:lnTo>
                  <a:pt x="6047" y="552"/>
                </a:lnTo>
                <a:lnTo>
                  <a:pt x="6050" y="574"/>
                </a:lnTo>
                <a:lnTo>
                  <a:pt x="6049" y="594"/>
                </a:lnTo>
                <a:lnTo>
                  <a:pt x="6046" y="603"/>
                </a:lnTo>
                <a:lnTo>
                  <a:pt x="6050" y="603"/>
                </a:lnTo>
                <a:lnTo>
                  <a:pt x="6055" y="603"/>
                </a:lnTo>
                <a:lnTo>
                  <a:pt x="6061" y="603"/>
                </a:lnTo>
                <a:lnTo>
                  <a:pt x="6063" y="603"/>
                </a:lnTo>
                <a:lnTo>
                  <a:pt x="6059" y="605"/>
                </a:lnTo>
                <a:lnTo>
                  <a:pt x="6052" y="609"/>
                </a:lnTo>
                <a:lnTo>
                  <a:pt x="6046" y="615"/>
                </a:lnTo>
                <a:lnTo>
                  <a:pt x="6037" y="623"/>
                </a:lnTo>
                <a:lnTo>
                  <a:pt x="6030" y="626"/>
                </a:lnTo>
                <a:lnTo>
                  <a:pt x="6014" y="628"/>
                </a:lnTo>
                <a:lnTo>
                  <a:pt x="5985" y="632"/>
                </a:lnTo>
                <a:lnTo>
                  <a:pt x="5958" y="642"/>
                </a:lnTo>
                <a:lnTo>
                  <a:pt x="5908" y="667"/>
                </a:lnTo>
                <a:lnTo>
                  <a:pt x="5871" y="686"/>
                </a:lnTo>
                <a:lnTo>
                  <a:pt x="5858" y="690"/>
                </a:lnTo>
                <a:lnTo>
                  <a:pt x="5845" y="691"/>
                </a:lnTo>
                <a:lnTo>
                  <a:pt x="5833" y="691"/>
                </a:lnTo>
                <a:lnTo>
                  <a:pt x="5807" y="684"/>
                </a:lnTo>
                <a:lnTo>
                  <a:pt x="5782" y="673"/>
                </a:lnTo>
                <a:lnTo>
                  <a:pt x="5730" y="652"/>
                </a:lnTo>
                <a:lnTo>
                  <a:pt x="5717" y="648"/>
                </a:lnTo>
                <a:lnTo>
                  <a:pt x="5711" y="647"/>
                </a:lnTo>
                <a:lnTo>
                  <a:pt x="5698" y="639"/>
                </a:lnTo>
                <a:lnTo>
                  <a:pt x="5688" y="635"/>
                </a:lnTo>
                <a:lnTo>
                  <a:pt x="5688" y="634"/>
                </a:lnTo>
                <a:lnTo>
                  <a:pt x="5691" y="641"/>
                </a:lnTo>
                <a:lnTo>
                  <a:pt x="5695" y="652"/>
                </a:lnTo>
                <a:lnTo>
                  <a:pt x="5697" y="662"/>
                </a:lnTo>
                <a:lnTo>
                  <a:pt x="5695" y="671"/>
                </a:lnTo>
                <a:lnTo>
                  <a:pt x="5694" y="678"/>
                </a:lnTo>
                <a:lnTo>
                  <a:pt x="5690" y="687"/>
                </a:lnTo>
                <a:lnTo>
                  <a:pt x="5688" y="690"/>
                </a:lnTo>
                <a:lnTo>
                  <a:pt x="5681" y="705"/>
                </a:lnTo>
                <a:lnTo>
                  <a:pt x="5666" y="731"/>
                </a:lnTo>
                <a:lnTo>
                  <a:pt x="5635" y="781"/>
                </a:lnTo>
                <a:lnTo>
                  <a:pt x="5603" y="833"/>
                </a:lnTo>
                <a:lnTo>
                  <a:pt x="5597" y="847"/>
                </a:lnTo>
                <a:lnTo>
                  <a:pt x="5595" y="851"/>
                </a:lnTo>
                <a:lnTo>
                  <a:pt x="5594" y="855"/>
                </a:lnTo>
                <a:lnTo>
                  <a:pt x="5595" y="864"/>
                </a:lnTo>
                <a:lnTo>
                  <a:pt x="5597" y="873"/>
                </a:lnTo>
                <a:lnTo>
                  <a:pt x="5603" y="890"/>
                </a:lnTo>
                <a:lnTo>
                  <a:pt x="5604" y="899"/>
                </a:lnTo>
                <a:lnTo>
                  <a:pt x="5597" y="900"/>
                </a:lnTo>
                <a:lnTo>
                  <a:pt x="5585" y="902"/>
                </a:lnTo>
                <a:lnTo>
                  <a:pt x="5562" y="909"/>
                </a:lnTo>
                <a:lnTo>
                  <a:pt x="5545" y="919"/>
                </a:lnTo>
                <a:lnTo>
                  <a:pt x="5542" y="920"/>
                </a:lnTo>
                <a:lnTo>
                  <a:pt x="5536" y="928"/>
                </a:lnTo>
                <a:lnTo>
                  <a:pt x="5535" y="935"/>
                </a:lnTo>
                <a:lnTo>
                  <a:pt x="5533" y="944"/>
                </a:lnTo>
                <a:lnTo>
                  <a:pt x="5533" y="952"/>
                </a:lnTo>
                <a:lnTo>
                  <a:pt x="5536" y="960"/>
                </a:lnTo>
                <a:lnTo>
                  <a:pt x="5543" y="977"/>
                </a:lnTo>
                <a:lnTo>
                  <a:pt x="5555" y="989"/>
                </a:lnTo>
                <a:lnTo>
                  <a:pt x="5571" y="996"/>
                </a:lnTo>
                <a:lnTo>
                  <a:pt x="5579" y="996"/>
                </a:lnTo>
                <a:lnTo>
                  <a:pt x="5582" y="996"/>
                </a:lnTo>
                <a:lnTo>
                  <a:pt x="5587" y="996"/>
                </a:lnTo>
                <a:lnTo>
                  <a:pt x="5595" y="993"/>
                </a:lnTo>
                <a:lnTo>
                  <a:pt x="5613" y="986"/>
                </a:lnTo>
                <a:lnTo>
                  <a:pt x="5630" y="981"/>
                </a:lnTo>
                <a:lnTo>
                  <a:pt x="5640" y="983"/>
                </a:lnTo>
                <a:lnTo>
                  <a:pt x="5661" y="983"/>
                </a:lnTo>
                <a:lnTo>
                  <a:pt x="5701" y="984"/>
                </a:lnTo>
                <a:lnTo>
                  <a:pt x="5739" y="993"/>
                </a:lnTo>
                <a:lnTo>
                  <a:pt x="5749" y="997"/>
                </a:lnTo>
                <a:lnTo>
                  <a:pt x="5750" y="999"/>
                </a:lnTo>
                <a:lnTo>
                  <a:pt x="5753" y="1002"/>
                </a:lnTo>
                <a:lnTo>
                  <a:pt x="5759" y="1006"/>
                </a:lnTo>
                <a:lnTo>
                  <a:pt x="5766" y="1010"/>
                </a:lnTo>
                <a:lnTo>
                  <a:pt x="5769" y="1010"/>
                </a:lnTo>
                <a:lnTo>
                  <a:pt x="5777" y="1012"/>
                </a:lnTo>
                <a:lnTo>
                  <a:pt x="5791" y="1010"/>
                </a:lnTo>
                <a:lnTo>
                  <a:pt x="5804" y="1004"/>
                </a:lnTo>
                <a:lnTo>
                  <a:pt x="5817" y="997"/>
                </a:lnTo>
                <a:lnTo>
                  <a:pt x="5842" y="981"/>
                </a:lnTo>
                <a:lnTo>
                  <a:pt x="5849" y="978"/>
                </a:lnTo>
                <a:lnTo>
                  <a:pt x="5865" y="973"/>
                </a:lnTo>
                <a:lnTo>
                  <a:pt x="5900" y="968"/>
                </a:lnTo>
                <a:lnTo>
                  <a:pt x="5933" y="974"/>
                </a:lnTo>
                <a:lnTo>
                  <a:pt x="5965" y="987"/>
                </a:lnTo>
                <a:lnTo>
                  <a:pt x="5994" y="1007"/>
                </a:lnTo>
                <a:lnTo>
                  <a:pt x="6020" y="1035"/>
                </a:lnTo>
                <a:lnTo>
                  <a:pt x="6033" y="1051"/>
                </a:lnTo>
                <a:lnTo>
                  <a:pt x="6034" y="1055"/>
                </a:lnTo>
                <a:lnTo>
                  <a:pt x="6043" y="1061"/>
                </a:lnTo>
                <a:lnTo>
                  <a:pt x="6052" y="1067"/>
                </a:lnTo>
                <a:lnTo>
                  <a:pt x="6072" y="1077"/>
                </a:lnTo>
                <a:lnTo>
                  <a:pt x="6088" y="1084"/>
                </a:lnTo>
                <a:lnTo>
                  <a:pt x="6094" y="1088"/>
                </a:lnTo>
                <a:lnTo>
                  <a:pt x="6104" y="1097"/>
                </a:lnTo>
                <a:lnTo>
                  <a:pt x="6114" y="1109"/>
                </a:lnTo>
                <a:lnTo>
                  <a:pt x="6120" y="1122"/>
                </a:lnTo>
                <a:lnTo>
                  <a:pt x="6123" y="1136"/>
                </a:lnTo>
                <a:lnTo>
                  <a:pt x="6121" y="1151"/>
                </a:lnTo>
                <a:lnTo>
                  <a:pt x="6120" y="1157"/>
                </a:lnTo>
                <a:lnTo>
                  <a:pt x="6118" y="1159"/>
                </a:lnTo>
                <a:lnTo>
                  <a:pt x="6116" y="1164"/>
                </a:lnTo>
                <a:lnTo>
                  <a:pt x="6110" y="1175"/>
                </a:lnTo>
                <a:lnTo>
                  <a:pt x="6105" y="1180"/>
                </a:lnTo>
                <a:lnTo>
                  <a:pt x="6101" y="1183"/>
                </a:lnTo>
                <a:lnTo>
                  <a:pt x="6098" y="1183"/>
                </a:lnTo>
                <a:lnTo>
                  <a:pt x="6088" y="1184"/>
                </a:lnTo>
                <a:lnTo>
                  <a:pt x="6071" y="1184"/>
                </a:lnTo>
                <a:lnTo>
                  <a:pt x="6034" y="1183"/>
                </a:lnTo>
                <a:lnTo>
                  <a:pt x="6000" y="1175"/>
                </a:lnTo>
                <a:lnTo>
                  <a:pt x="5992" y="1171"/>
                </a:lnTo>
                <a:lnTo>
                  <a:pt x="5976" y="1167"/>
                </a:lnTo>
                <a:lnTo>
                  <a:pt x="5962" y="1164"/>
                </a:lnTo>
                <a:lnTo>
                  <a:pt x="5933" y="1165"/>
                </a:lnTo>
                <a:lnTo>
                  <a:pt x="5904" y="1174"/>
                </a:lnTo>
                <a:lnTo>
                  <a:pt x="5843" y="1193"/>
                </a:lnTo>
                <a:lnTo>
                  <a:pt x="5813" y="1197"/>
                </a:lnTo>
                <a:lnTo>
                  <a:pt x="5808" y="1199"/>
                </a:lnTo>
                <a:lnTo>
                  <a:pt x="5804" y="1200"/>
                </a:lnTo>
                <a:lnTo>
                  <a:pt x="5801" y="1203"/>
                </a:lnTo>
                <a:lnTo>
                  <a:pt x="5794" y="1209"/>
                </a:lnTo>
                <a:lnTo>
                  <a:pt x="5787" y="1217"/>
                </a:lnTo>
                <a:lnTo>
                  <a:pt x="5772" y="1232"/>
                </a:lnTo>
                <a:lnTo>
                  <a:pt x="5769" y="1233"/>
                </a:lnTo>
                <a:lnTo>
                  <a:pt x="5765" y="1236"/>
                </a:lnTo>
                <a:lnTo>
                  <a:pt x="5761" y="1236"/>
                </a:lnTo>
                <a:lnTo>
                  <a:pt x="5752" y="1238"/>
                </a:lnTo>
                <a:lnTo>
                  <a:pt x="5743" y="1236"/>
                </a:lnTo>
                <a:lnTo>
                  <a:pt x="5726" y="1235"/>
                </a:lnTo>
                <a:lnTo>
                  <a:pt x="5719" y="1236"/>
                </a:lnTo>
                <a:lnTo>
                  <a:pt x="5703" y="1245"/>
                </a:lnTo>
                <a:lnTo>
                  <a:pt x="5679" y="1267"/>
                </a:lnTo>
                <a:lnTo>
                  <a:pt x="5662" y="1291"/>
                </a:lnTo>
                <a:lnTo>
                  <a:pt x="5646" y="1319"/>
                </a:lnTo>
                <a:lnTo>
                  <a:pt x="5613" y="1368"/>
                </a:lnTo>
                <a:lnTo>
                  <a:pt x="5603" y="1378"/>
                </a:lnTo>
                <a:lnTo>
                  <a:pt x="5591" y="1386"/>
                </a:lnTo>
                <a:lnTo>
                  <a:pt x="5578" y="1391"/>
                </a:lnTo>
                <a:lnTo>
                  <a:pt x="5553" y="1396"/>
                </a:lnTo>
                <a:lnTo>
                  <a:pt x="5527" y="1394"/>
                </a:lnTo>
                <a:lnTo>
                  <a:pt x="5475" y="1391"/>
                </a:lnTo>
                <a:lnTo>
                  <a:pt x="5451" y="1394"/>
                </a:lnTo>
                <a:lnTo>
                  <a:pt x="5442" y="1397"/>
                </a:lnTo>
                <a:lnTo>
                  <a:pt x="5429" y="1404"/>
                </a:lnTo>
                <a:lnTo>
                  <a:pt x="5417" y="1415"/>
                </a:lnTo>
                <a:lnTo>
                  <a:pt x="5397" y="1438"/>
                </a:lnTo>
                <a:lnTo>
                  <a:pt x="5382" y="1457"/>
                </a:lnTo>
                <a:lnTo>
                  <a:pt x="5374" y="1467"/>
                </a:lnTo>
                <a:lnTo>
                  <a:pt x="5353" y="1483"/>
                </a:lnTo>
                <a:lnTo>
                  <a:pt x="5329" y="1493"/>
                </a:lnTo>
                <a:lnTo>
                  <a:pt x="5303" y="1499"/>
                </a:lnTo>
                <a:lnTo>
                  <a:pt x="5275" y="1500"/>
                </a:lnTo>
                <a:lnTo>
                  <a:pt x="5248" y="1497"/>
                </a:lnTo>
                <a:lnTo>
                  <a:pt x="5235" y="1494"/>
                </a:lnTo>
                <a:lnTo>
                  <a:pt x="5220" y="1491"/>
                </a:lnTo>
                <a:lnTo>
                  <a:pt x="5194" y="1481"/>
                </a:lnTo>
                <a:lnTo>
                  <a:pt x="5142" y="1459"/>
                </a:lnTo>
                <a:lnTo>
                  <a:pt x="5116" y="1455"/>
                </a:lnTo>
                <a:lnTo>
                  <a:pt x="5091" y="1455"/>
                </a:lnTo>
                <a:lnTo>
                  <a:pt x="5080" y="1458"/>
                </a:lnTo>
                <a:lnTo>
                  <a:pt x="5067" y="1464"/>
                </a:lnTo>
                <a:lnTo>
                  <a:pt x="5045" y="1480"/>
                </a:lnTo>
                <a:lnTo>
                  <a:pt x="5026" y="1500"/>
                </a:lnTo>
                <a:lnTo>
                  <a:pt x="5013" y="1525"/>
                </a:lnTo>
                <a:lnTo>
                  <a:pt x="5009" y="1551"/>
                </a:lnTo>
                <a:lnTo>
                  <a:pt x="5013" y="1575"/>
                </a:lnTo>
                <a:lnTo>
                  <a:pt x="5022" y="1587"/>
                </a:lnTo>
                <a:lnTo>
                  <a:pt x="5027" y="1596"/>
                </a:lnTo>
                <a:lnTo>
                  <a:pt x="5043" y="1612"/>
                </a:lnTo>
                <a:lnTo>
                  <a:pt x="5075" y="1642"/>
                </a:lnTo>
                <a:lnTo>
                  <a:pt x="5084" y="1658"/>
                </a:lnTo>
                <a:lnTo>
                  <a:pt x="5085" y="1665"/>
                </a:lnTo>
                <a:lnTo>
                  <a:pt x="5084" y="1672"/>
                </a:lnTo>
                <a:lnTo>
                  <a:pt x="5080" y="1680"/>
                </a:lnTo>
                <a:lnTo>
                  <a:pt x="5080" y="1680"/>
                </a:lnTo>
                <a:lnTo>
                  <a:pt x="5071" y="1688"/>
                </a:lnTo>
                <a:lnTo>
                  <a:pt x="5051" y="1701"/>
                </a:lnTo>
                <a:lnTo>
                  <a:pt x="5027" y="1710"/>
                </a:lnTo>
                <a:lnTo>
                  <a:pt x="4978" y="1728"/>
                </a:lnTo>
                <a:lnTo>
                  <a:pt x="4943" y="1743"/>
                </a:lnTo>
                <a:lnTo>
                  <a:pt x="4930" y="1754"/>
                </a:lnTo>
                <a:lnTo>
                  <a:pt x="4906" y="1774"/>
                </a:lnTo>
                <a:lnTo>
                  <a:pt x="4862" y="1819"/>
                </a:lnTo>
                <a:lnTo>
                  <a:pt x="4817" y="1854"/>
                </a:lnTo>
                <a:lnTo>
                  <a:pt x="4806" y="1858"/>
                </a:lnTo>
                <a:lnTo>
                  <a:pt x="4768" y="1871"/>
                </a:lnTo>
                <a:lnTo>
                  <a:pt x="4690" y="1883"/>
                </a:lnTo>
                <a:lnTo>
                  <a:pt x="4612" y="1885"/>
                </a:lnTo>
                <a:lnTo>
                  <a:pt x="4452" y="1887"/>
                </a:lnTo>
                <a:lnTo>
                  <a:pt x="4336" y="1910"/>
                </a:lnTo>
                <a:lnTo>
                  <a:pt x="4322" y="1916"/>
                </a:lnTo>
                <a:lnTo>
                  <a:pt x="4297" y="1932"/>
                </a:lnTo>
                <a:lnTo>
                  <a:pt x="4274" y="1952"/>
                </a:lnTo>
                <a:lnTo>
                  <a:pt x="4223" y="1988"/>
                </a:lnTo>
                <a:lnTo>
                  <a:pt x="4178" y="1996"/>
                </a:lnTo>
                <a:lnTo>
                  <a:pt x="4171" y="1996"/>
                </a:lnTo>
                <a:lnTo>
                  <a:pt x="4160" y="1991"/>
                </a:lnTo>
                <a:lnTo>
                  <a:pt x="4134" y="1983"/>
                </a:lnTo>
                <a:lnTo>
                  <a:pt x="4121" y="1981"/>
                </a:lnTo>
                <a:lnTo>
                  <a:pt x="4106" y="1983"/>
                </a:lnTo>
                <a:lnTo>
                  <a:pt x="4099" y="1985"/>
                </a:lnTo>
                <a:lnTo>
                  <a:pt x="4096" y="1987"/>
                </a:lnTo>
                <a:lnTo>
                  <a:pt x="4094" y="1987"/>
                </a:lnTo>
                <a:lnTo>
                  <a:pt x="4093" y="1985"/>
                </a:lnTo>
                <a:lnTo>
                  <a:pt x="4093" y="1983"/>
                </a:lnTo>
                <a:lnTo>
                  <a:pt x="4090" y="1974"/>
                </a:lnTo>
                <a:lnTo>
                  <a:pt x="4084" y="1965"/>
                </a:lnTo>
                <a:lnTo>
                  <a:pt x="4083" y="1964"/>
                </a:lnTo>
                <a:lnTo>
                  <a:pt x="4052" y="1964"/>
                </a:lnTo>
                <a:lnTo>
                  <a:pt x="3993" y="1959"/>
                </a:lnTo>
                <a:lnTo>
                  <a:pt x="3876" y="1935"/>
                </a:lnTo>
                <a:lnTo>
                  <a:pt x="3763" y="1891"/>
                </a:lnTo>
                <a:lnTo>
                  <a:pt x="3737" y="1877"/>
                </a:lnTo>
                <a:lnTo>
                  <a:pt x="3721" y="1871"/>
                </a:lnTo>
                <a:lnTo>
                  <a:pt x="3692" y="1858"/>
                </a:lnTo>
                <a:lnTo>
                  <a:pt x="3631" y="1842"/>
                </a:lnTo>
                <a:lnTo>
                  <a:pt x="3570" y="1838"/>
                </a:lnTo>
                <a:lnTo>
                  <a:pt x="3555" y="1839"/>
                </a:lnTo>
                <a:lnTo>
                  <a:pt x="3499" y="1846"/>
                </a:lnTo>
                <a:lnTo>
                  <a:pt x="3379" y="1859"/>
                </a:lnTo>
                <a:lnTo>
                  <a:pt x="3140" y="1843"/>
                </a:lnTo>
                <a:lnTo>
                  <a:pt x="3040" y="1797"/>
                </a:lnTo>
                <a:lnTo>
                  <a:pt x="2961" y="1713"/>
                </a:lnTo>
                <a:lnTo>
                  <a:pt x="2935" y="1654"/>
                </a:lnTo>
                <a:lnTo>
                  <a:pt x="2932" y="1648"/>
                </a:lnTo>
                <a:lnTo>
                  <a:pt x="2925" y="1635"/>
                </a:lnTo>
                <a:lnTo>
                  <a:pt x="2908" y="1609"/>
                </a:lnTo>
                <a:lnTo>
                  <a:pt x="2885" y="1590"/>
                </a:lnTo>
                <a:lnTo>
                  <a:pt x="2879" y="1585"/>
                </a:lnTo>
                <a:lnTo>
                  <a:pt x="2867" y="1581"/>
                </a:lnTo>
                <a:lnTo>
                  <a:pt x="2847" y="1574"/>
                </a:lnTo>
                <a:lnTo>
                  <a:pt x="2805" y="1559"/>
                </a:lnTo>
                <a:lnTo>
                  <a:pt x="2763" y="1546"/>
                </a:lnTo>
                <a:lnTo>
                  <a:pt x="2753" y="1542"/>
                </a:lnTo>
                <a:lnTo>
                  <a:pt x="2741" y="1539"/>
                </a:lnTo>
                <a:lnTo>
                  <a:pt x="2722" y="1529"/>
                </a:lnTo>
                <a:lnTo>
                  <a:pt x="2705" y="1514"/>
                </a:lnTo>
                <a:lnTo>
                  <a:pt x="2669" y="1486"/>
                </a:lnTo>
                <a:lnTo>
                  <a:pt x="2638" y="1471"/>
                </a:lnTo>
                <a:lnTo>
                  <a:pt x="2611" y="1467"/>
                </a:lnTo>
                <a:lnTo>
                  <a:pt x="2556" y="1459"/>
                </a:lnTo>
                <a:lnTo>
                  <a:pt x="2450" y="1457"/>
                </a:lnTo>
                <a:lnTo>
                  <a:pt x="2344" y="1442"/>
                </a:lnTo>
                <a:lnTo>
                  <a:pt x="2320" y="1433"/>
                </a:lnTo>
                <a:lnTo>
                  <a:pt x="2312" y="1430"/>
                </a:lnTo>
                <a:lnTo>
                  <a:pt x="2301" y="1423"/>
                </a:lnTo>
                <a:lnTo>
                  <a:pt x="2294" y="1412"/>
                </a:lnTo>
                <a:lnTo>
                  <a:pt x="2286" y="1399"/>
                </a:lnTo>
                <a:lnTo>
                  <a:pt x="2278" y="1371"/>
                </a:lnTo>
                <a:lnTo>
                  <a:pt x="2276" y="1364"/>
                </a:lnTo>
                <a:lnTo>
                  <a:pt x="2273" y="1354"/>
                </a:lnTo>
                <a:lnTo>
                  <a:pt x="2276" y="1344"/>
                </a:lnTo>
                <a:lnTo>
                  <a:pt x="2280" y="1335"/>
                </a:lnTo>
                <a:lnTo>
                  <a:pt x="2286" y="1326"/>
                </a:lnTo>
                <a:lnTo>
                  <a:pt x="2294" y="1317"/>
                </a:lnTo>
                <a:lnTo>
                  <a:pt x="2311" y="1303"/>
                </a:lnTo>
                <a:lnTo>
                  <a:pt x="2327" y="1288"/>
                </a:lnTo>
                <a:lnTo>
                  <a:pt x="2333" y="1281"/>
                </a:lnTo>
                <a:lnTo>
                  <a:pt x="2336" y="1273"/>
                </a:lnTo>
                <a:lnTo>
                  <a:pt x="2337" y="1264"/>
                </a:lnTo>
                <a:lnTo>
                  <a:pt x="2337" y="1264"/>
                </a:lnTo>
                <a:lnTo>
                  <a:pt x="2334" y="1255"/>
                </a:lnTo>
                <a:lnTo>
                  <a:pt x="2336" y="1235"/>
                </a:lnTo>
                <a:lnTo>
                  <a:pt x="2337" y="1216"/>
                </a:lnTo>
                <a:lnTo>
                  <a:pt x="2341" y="1183"/>
                </a:lnTo>
                <a:lnTo>
                  <a:pt x="2337" y="1164"/>
                </a:lnTo>
                <a:lnTo>
                  <a:pt x="2327" y="1154"/>
                </a:lnTo>
                <a:lnTo>
                  <a:pt x="2309" y="1131"/>
                </a:lnTo>
                <a:lnTo>
                  <a:pt x="2282" y="1077"/>
                </a:lnTo>
                <a:lnTo>
                  <a:pt x="2254" y="1026"/>
                </a:lnTo>
                <a:lnTo>
                  <a:pt x="2247" y="1013"/>
                </a:lnTo>
                <a:lnTo>
                  <a:pt x="2234" y="1000"/>
                </a:lnTo>
                <a:lnTo>
                  <a:pt x="2221" y="989"/>
                </a:lnTo>
                <a:lnTo>
                  <a:pt x="2208" y="981"/>
                </a:lnTo>
                <a:lnTo>
                  <a:pt x="2194" y="975"/>
                </a:lnTo>
                <a:lnTo>
                  <a:pt x="2163" y="971"/>
                </a:lnTo>
                <a:lnTo>
                  <a:pt x="2131" y="970"/>
                </a:lnTo>
                <a:lnTo>
                  <a:pt x="2069" y="957"/>
                </a:lnTo>
                <a:lnTo>
                  <a:pt x="2069" y="957"/>
                </a:lnTo>
                <a:lnTo>
                  <a:pt x="2054" y="951"/>
                </a:lnTo>
                <a:lnTo>
                  <a:pt x="2028" y="933"/>
                </a:lnTo>
                <a:lnTo>
                  <a:pt x="1979" y="896"/>
                </a:lnTo>
                <a:lnTo>
                  <a:pt x="1931" y="857"/>
                </a:lnTo>
                <a:lnTo>
                  <a:pt x="1920" y="847"/>
                </a:lnTo>
                <a:lnTo>
                  <a:pt x="1927" y="844"/>
                </a:lnTo>
                <a:lnTo>
                  <a:pt x="1931" y="842"/>
                </a:lnTo>
                <a:lnTo>
                  <a:pt x="1936" y="841"/>
                </a:lnTo>
                <a:lnTo>
                  <a:pt x="1937" y="838"/>
                </a:lnTo>
                <a:lnTo>
                  <a:pt x="1937" y="833"/>
                </a:lnTo>
                <a:lnTo>
                  <a:pt x="1936" y="831"/>
                </a:lnTo>
                <a:lnTo>
                  <a:pt x="1933" y="829"/>
                </a:lnTo>
                <a:lnTo>
                  <a:pt x="1930" y="826"/>
                </a:lnTo>
                <a:lnTo>
                  <a:pt x="1921" y="819"/>
                </a:lnTo>
                <a:lnTo>
                  <a:pt x="1915" y="813"/>
                </a:lnTo>
                <a:lnTo>
                  <a:pt x="1915" y="812"/>
                </a:lnTo>
                <a:lnTo>
                  <a:pt x="1915" y="806"/>
                </a:lnTo>
                <a:lnTo>
                  <a:pt x="1920" y="784"/>
                </a:lnTo>
                <a:lnTo>
                  <a:pt x="1921" y="768"/>
                </a:lnTo>
                <a:lnTo>
                  <a:pt x="1923" y="767"/>
                </a:lnTo>
                <a:lnTo>
                  <a:pt x="1914" y="761"/>
                </a:lnTo>
                <a:lnTo>
                  <a:pt x="1905" y="758"/>
                </a:lnTo>
                <a:lnTo>
                  <a:pt x="1898" y="757"/>
                </a:lnTo>
                <a:lnTo>
                  <a:pt x="1891" y="758"/>
                </a:lnTo>
                <a:lnTo>
                  <a:pt x="1885" y="761"/>
                </a:lnTo>
                <a:lnTo>
                  <a:pt x="1878" y="765"/>
                </a:lnTo>
                <a:lnTo>
                  <a:pt x="1865" y="773"/>
                </a:lnTo>
                <a:lnTo>
                  <a:pt x="1852" y="777"/>
                </a:lnTo>
                <a:lnTo>
                  <a:pt x="1844" y="777"/>
                </a:lnTo>
                <a:lnTo>
                  <a:pt x="1837" y="773"/>
                </a:lnTo>
                <a:lnTo>
                  <a:pt x="1837" y="773"/>
                </a:lnTo>
                <a:lnTo>
                  <a:pt x="1837" y="773"/>
                </a:lnTo>
                <a:close/>
              </a:path>
            </a:pathLst>
          </a:custGeom>
          <a:noFill/>
          <a:ln w="4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08480" y="2843280"/>
            <a:ext cx="404640" cy="279360"/>
          </a:xfrm>
          <a:custGeom>
            <a:avLst/>
            <a:gdLst/>
            <a:ahLst/>
            <a:rect l="l" t="t" r="r" b="b"/>
            <a:pathLst>
              <a:path w="1408" h="1023">
                <a:moveTo>
                  <a:pt x="390" y="852"/>
                </a:moveTo>
                <a:lnTo>
                  <a:pt x="385" y="855"/>
                </a:lnTo>
                <a:lnTo>
                  <a:pt x="381" y="857"/>
                </a:lnTo>
                <a:lnTo>
                  <a:pt x="377" y="862"/>
                </a:lnTo>
                <a:lnTo>
                  <a:pt x="368" y="873"/>
                </a:lnTo>
                <a:lnTo>
                  <a:pt x="348" y="894"/>
                </a:lnTo>
                <a:lnTo>
                  <a:pt x="327" y="898"/>
                </a:lnTo>
                <a:lnTo>
                  <a:pt x="327" y="901"/>
                </a:lnTo>
                <a:lnTo>
                  <a:pt x="327" y="904"/>
                </a:lnTo>
                <a:lnTo>
                  <a:pt x="327" y="911"/>
                </a:lnTo>
                <a:lnTo>
                  <a:pt x="327" y="914"/>
                </a:lnTo>
                <a:lnTo>
                  <a:pt x="327" y="914"/>
                </a:lnTo>
                <a:lnTo>
                  <a:pt x="323" y="917"/>
                </a:lnTo>
                <a:lnTo>
                  <a:pt x="319" y="917"/>
                </a:lnTo>
                <a:lnTo>
                  <a:pt x="316" y="917"/>
                </a:lnTo>
                <a:lnTo>
                  <a:pt x="311" y="915"/>
                </a:lnTo>
                <a:lnTo>
                  <a:pt x="304" y="913"/>
                </a:lnTo>
                <a:lnTo>
                  <a:pt x="298" y="908"/>
                </a:lnTo>
                <a:lnTo>
                  <a:pt x="291" y="905"/>
                </a:lnTo>
                <a:lnTo>
                  <a:pt x="285" y="902"/>
                </a:lnTo>
                <a:lnTo>
                  <a:pt x="285" y="902"/>
                </a:lnTo>
                <a:lnTo>
                  <a:pt x="272" y="904"/>
                </a:lnTo>
                <a:lnTo>
                  <a:pt x="249" y="907"/>
                </a:lnTo>
                <a:lnTo>
                  <a:pt x="206" y="914"/>
                </a:lnTo>
                <a:lnTo>
                  <a:pt x="158" y="914"/>
                </a:lnTo>
                <a:lnTo>
                  <a:pt x="146" y="911"/>
                </a:lnTo>
                <a:lnTo>
                  <a:pt x="142" y="911"/>
                </a:lnTo>
                <a:lnTo>
                  <a:pt x="139" y="913"/>
                </a:lnTo>
                <a:lnTo>
                  <a:pt x="139" y="915"/>
                </a:lnTo>
                <a:lnTo>
                  <a:pt x="137" y="920"/>
                </a:lnTo>
                <a:lnTo>
                  <a:pt x="139" y="924"/>
                </a:lnTo>
                <a:lnTo>
                  <a:pt x="139" y="936"/>
                </a:lnTo>
                <a:lnTo>
                  <a:pt x="136" y="944"/>
                </a:lnTo>
                <a:lnTo>
                  <a:pt x="127" y="950"/>
                </a:lnTo>
                <a:lnTo>
                  <a:pt x="122" y="950"/>
                </a:lnTo>
                <a:lnTo>
                  <a:pt x="123" y="956"/>
                </a:lnTo>
                <a:lnTo>
                  <a:pt x="127" y="966"/>
                </a:lnTo>
                <a:lnTo>
                  <a:pt x="139" y="982"/>
                </a:lnTo>
                <a:lnTo>
                  <a:pt x="146" y="986"/>
                </a:lnTo>
                <a:lnTo>
                  <a:pt x="156" y="988"/>
                </a:lnTo>
                <a:lnTo>
                  <a:pt x="164" y="985"/>
                </a:lnTo>
                <a:lnTo>
                  <a:pt x="164" y="988"/>
                </a:lnTo>
                <a:lnTo>
                  <a:pt x="164" y="992"/>
                </a:lnTo>
                <a:lnTo>
                  <a:pt x="164" y="995"/>
                </a:lnTo>
                <a:lnTo>
                  <a:pt x="161" y="998"/>
                </a:lnTo>
                <a:lnTo>
                  <a:pt x="159" y="999"/>
                </a:lnTo>
                <a:lnTo>
                  <a:pt x="156" y="1001"/>
                </a:lnTo>
                <a:lnTo>
                  <a:pt x="155" y="1001"/>
                </a:lnTo>
                <a:lnTo>
                  <a:pt x="152" y="1002"/>
                </a:lnTo>
                <a:lnTo>
                  <a:pt x="148" y="1004"/>
                </a:lnTo>
                <a:lnTo>
                  <a:pt x="137" y="1004"/>
                </a:lnTo>
                <a:lnTo>
                  <a:pt x="132" y="1002"/>
                </a:lnTo>
                <a:lnTo>
                  <a:pt x="132" y="1001"/>
                </a:lnTo>
                <a:lnTo>
                  <a:pt x="124" y="989"/>
                </a:lnTo>
                <a:lnTo>
                  <a:pt x="116" y="981"/>
                </a:lnTo>
                <a:lnTo>
                  <a:pt x="106" y="975"/>
                </a:lnTo>
                <a:lnTo>
                  <a:pt x="94" y="972"/>
                </a:lnTo>
                <a:lnTo>
                  <a:pt x="82" y="971"/>
                </a:lnTo>
                <a:lnTo>
                  <a:pt x="58" y="971"/>
                </a:lnTo>
                <a:lnTo>
                  <a:pt x="33" y="972"/>
                </a:lnTo>
                <a:lnTo>
                  <a:pt x="13" y="968"/>
                </a:lnTo>
                <a:lnTo>
                  <a:pt x="6" y="962"/>
                </a:lnTo>
                <a:lnTo>
                  <a:pt x="1" y="956"/>
                </a:lnTo>
                <a:lnTo>
                  <a:pt x="0" y="949"/>
                </a:lnTo>
                <a:lnTo>
                  <a:pt x="0" y="942"/>
                </a:lnTo>
                <a:lnTo>
                  <a:pt x="3" y="934"/>
                </a:lnTo>
                <a:lnTo>
                  <a:pt x="7" y="927"/>
                </a:lnTo>
                <a:lnTo>
                  <a:pt x="13" y="921"/>
                </a:lnTo>
                <a:lnTo>
                  <a:pt x="20" y="917"/>
                </a:lnTo>
                <a:lnTo>
                  <a:pt x="29" y="913"/>
                </a:lnTo>
                <a:lnTo>
                  <a:pt x="39" y="910"/>
                </a:lnTo>
                <a:lnTo>
                  <a:pt x="48" y="910"/>
                </a:lnTo>
                <a:lnTo>
                  <a:pt x="58" y="911"/>
                </a:lnTo>
                <a:lnTo>
                  <a:pt x="68" y="915"/>
                </a:lnTo>
                <a:lnTo>
                  <a:pt x="69" y="915"/>
                </a:lnTo>
                <a:lnTo>
                  <a:pt x="72" y="917"/>
                </a:lnTo>
                <a:lnTo>
                  <a:pt x="78" y="917"/>
                </a:lnTo>
                <a:lnTo>
                  <a:pt x="84" y="914"/>
                </a:lnTo>
                <a:lnTo>
                  <a:pt x="90" y="911"/>
                </a:lnTo>
                <a:lnTo>
                  <a:pt x="104" y="900"/>
                </a:lnTo>
                <a:lnTo>
                  <a:pt x="137" y="875"/>
                </a:lnTo>
                <a:lnTo>
                  <a:pt x="155" y="862"/>
                </a:lnTo>
                <a:lnTo>
                  <a:pt x="155" y="859"/>
                </a:lnTo>
                <a:lnTo>
                  <a:pt x="155" y="857"/>
                </a:lnTo>
                <a:lnTo>
                  <a:pt x="155" y="853"/>
                </a:lnTo>
                <a:lnTo>
                  <a:pt x="155" y="849"/>
                </a:lnTo>
                <a:lnTo>
                  <a:pt x="156" y="847"/>
                </a:lnTo>
                <a:lnTo>
                  <a:pt x="161" y="847"/>
                </a:lnTo>
                <a:lnTo>
                  <a:pt x="165" y="846"/>
                </a:lnTo>
                <a:lnTo>
                  <a:pt x="177" y="847"/>
                </a:lnTo>
                <a:lnTo>
                  <a:pt x="198" y="847"/>
                </a:lnTo>
                <a:lnTo>
                  <a:pt x="211" y="836"/>
                </a:lnTo>
                <a:lnTo>
                  <a:pt x="217" y="823"/>
                </a:lnTo>
                <a:lnTo>
                  <a:pt x="224" y="810"/>
                </a:lnTo>
                <a:lnTo>
                  <a:pt x="245" y="791"/>
                </a:lnTo>
                <a:lnTo>
                  <a:pt x="269" y="776"/>
                </a:lnTo>
                <a:lnTo>
                  <a:pt x="295" y="765"/>
                </a:lnTo>
                <a:lnTo>
                  <a:pt x="348" y="739"/>
                </a:lnTo>
                <a:lnTo>
                  <a:pt x="349" y="739"/>
                </a:lnTo>
                <a:lnTo>
                  <a:pt x="352" y="739"/>
                </a:lnTo>
                <a:lnTo>
                  <a:pt x="356" y="737"/>
                </a:lnTo>
                <a:lnTo>
                  <a:pt x="361" y="739"/>
                </a:lnTo>
                <a:lnTo>
                  <a:pt x="365" y="740"/>
                </a:lnTo>
                <a:lnTo>
                  <a:pt x="375" y="746"/>
                </a:lnTo>
                <a:lnTo>
                  <a:pt x="382" y="755"/>
                </a:lnTo>
                <a:lnTo>
                  <a:pt x="387" y="765"/>
                </a:lnTo>
                <a:lnTo>
                  <a:pt x="387" y="776"/>
                </a:lnTo>
                <a:lnTo>
                  <a:pt x="387" y="776"/>
                </a:lnTo>
                <a:lnTo>
                  <a:pt x="403" y="778"/>
                </a:lnTo>
                <a:lnTo>
                  <a:pt x="432" y="772"/>
                </a:lnTo>
                <a:lnTo>
                  <a:pt x="459" y="759"/>
                </a:lnTo>
                <a:lnTo>
                  <a:pt x="484" y="742"/>
                </a:lnTo>
                <a:lnTo>
                  <a:pt x="537" y="707"/>
                </a:lnTo>
                <a:lnTo>
                  <a:pt x="552" y="700"/>
                </a:lnTo>
                <a:lnTo>
                  <a:pt x="552" y="704"/>
                </a:lnTo>
                <a:lnTo>
                  <a:pt x="550" y="708"/>
                </a:lnTo>
                <a:lnTo>
                  <a:pt x="549" y="715"/>
                </a:lnTo>
                <a:lnTo>
                  <a:pt x="546" y="724"/>
                </a:lnTo>
                <a:lnTo>
                  <a:pt x="543" y="731"/>
                </a:lnTo>
                <a:lnTo>
                  <a:pt x="542" y="736"/>
                </a:lnTo>
                <a:lnTo>
                  <a:pt x="543" y="737"/>
                </a:lnTo>
                <a:lnTo>
                  <a:pt x="545" y="737"/>
                </a:lnTo>
                <a:lnTo>
                  <a:pt x="552" y="740"/>
                </a:lnTo>
                <a:lnTo>
                  <a:pt x="568" y="742"/>
                </a:lnTo>
                <a:lnTo>
                  <a:pt x="585" y="740"/>
                </a:lnTo>
                <a:lnTo>
                  <a:pt x="620" y="731"/>
                </a:lnTo>
                <a:lnTo>
                  <a:pt x="645" y="723"/>
                </a:lnTo>
                <a:lnTo>
                  <a:pt x="647" y="721"/>
                </a:lnTo>
                <a:lnTo>
                  <a:pt x="650" y="718"/>
                </a:lnTo>
                <a:lnTo>
                  <a:pt x="653" y="715"/>
                </a:lnTo>
                <a:lnTo>
                  <a:pt x="653" y="711"/>
                </a:lnTo>
                <a:lnTo>
                  <a:pt x="655" y="707"/>
                </a:lnTo>
                <a:lnTo>
                  <a:pt x="655" y="697"/>
                </a:lnTo>
                <a:lnTo>
                  <a:pt x="653" y="688"/>
                </a:lnTo>
                <a:lnTo>
                  <a:pt x="655" y="681"/>
                </a:lnTo>
                <a:lnTo>
                  <a:pt x="658" y="676"/>
                </a:lnTo>
                <a:lnTo>
                  <a:pt x="665" y="668"/>
                </a:lnTo>
                <a:lnTo>
                  <a:pt x="681" y="655"/>
                </a:lnTo>
                <a:lnTo>
                  <a:pt x="698" y="643"/>
                </a:lnTo>
                <a:lnTo>
                  <a:pt x="730" y="620"/>
                </a:lnTo>
                <a:lnTo>
                  <a:pt x="747" y="595"/>
                </a:lnTo>
                <a:lnTo>
                  <a:pt x="749" y="589"/>
                </a:lnTo>
                <a:lnTo>
                  <a:pt x="750" y="582"/>
                </a:lnTo>
                <a:lnTo>
                  <a:pt x="749" y="568"/>
                </a:lnTo>
                <a:lnTo>
                  <a:pt x="746" y="552"/>
                </a:lnTo>
                <a:lnTo>
                  <a:pt x="739" y="524"/>
                </a:lnTo>
                <a:lnTo>
                  <a:pt x="740" y="511"/>
                </a:lnTo>
                <a:lnTo>
                  <a:pt x="740" y="507"/>
                </a:lnTo>
                <a:lnTo>
                  <a:pt x="746" y="497"/>
                </a:lnTo>
                <a:lnTo>
                  <a:pt x="752" y="485"/>
                </a:lnTo>
                <a:lnTo>
                  <a:pt x="769" y="463"/>
                </a:lnTo>
                <a:lnTo>
                  <a:pt x="785" y="449"/>
                </a:lnTo>
                <a:lnTo>
                  <a:pt x="785" y="456"/>
                </a:lnTo>
                <a:lnTo>
                  <a:pt x="784" y="471"/>
                </a:lnTo>
                <a:lnTo>
                  <a:pt x="778" y="500"/>
                </a:lnTo>
                <a:lnTo>
                  <a:pt x="775" y="529"/>
                </a:lnTo>
                <a:lnTo>
                  <a:pt x="776" y="536"/>
                </a:lnTo>
                <a:lnTo>
                  <a:pt x="778" y="536"/>
                </a:lnTo>
                <a:lnTo>
                  <a:pt x="781" y="536"/>
                </a:lnTo>
                <a:lnTo>
                  <a:pt x="784" y="536"/>
                </a:lnTo>
                <a:lnTo>
                  <a:pt x="785" y="537"/>
                </a:lnTo>
                <a:lnTo>
                  <a:pt x="787" y="539"/>
                </a:lnTo>
                <a:lnTo>
                  <a:pt x="791" y="542"/>
                </a:lnTo>
                <a:lnTo>
                  <a:pt x="800" y="546"/>
                </a:lnTo>
                <a:lnTo>
                  <a:pt x="802" y="544"/>
                </a:lnTo>
                <a:lnTo>
                  <a:pt x="801" y="549"/>
                </a:lnTo>
                <a:lnTo>
                  <a:pt x="801" y="556"/>
                </a:lnTo>
                <a:lnTo>
                  <a:pt x="801" y="571"/>
                </a:lnTo>
                <a:lnTo>
                  <a:pt x="802" y="584"/>
                </a:lnTo>
                <a:lnTo>
                  <a:pt x="804" y="587"/>
                </a:lnTo>
                <a:lnTo>
                  <a:pt x="807" y="588"/>
                </a:lnTo>
                <a:lnTo>
                  <a:pt x="808" y="588"/>
                </a:lnTo>
                <a:lnTo>
                  <a:pt x="811" y="588"/>
                </a:lnTo>
                <a:lnTo>
                  <a:pt x="817" y="588"/>
                </a:lnTo>
                <a:lnTo>
                  <a:pt x="820" y="587"/>
                </a:lnTo>
                <a:lnTo>
                  <a:pt x="818" y="581"/>
                </a:lnTo>
                <a:lnTo>
                  <a:pt x="820" y="569"/>
                </a:lnTo>
                <a:lnTo>
                  <a:pt x="824" y="558"/>
                </a:lnTo>
                <a:lnTo>
                  <a:pt x="830" y="547"/>
                </a:lnTo>
                <a:lnTo>
                  <a:pt x="836" y="540"/>
                </a:lnTo>
                <a:lnTo>
                  <a:pt x="843" y="534"/>
                </a:lnTo>
                <a:lnTo>
                  <a:pt x="847" y="531"/>
                </a:lnTo>
                <a:lnTo>
                  <a:pt x="865" y="523"/>
                </a:lnTo>
                <a:lnTo>
                  <a:pt x="901" y="504"/>
                </a:lnTo>
                <a:lnTo>
                  <a:pt x="972" y="462"/>
                </a:lnTo>
                <a:lnTo>
                  <a:pt x="1039" y="413"/>
                </a:lnTo>
                <a:lnTo>
                  <a:pt x="1056" y="400"/>
                </a:lnTo>
                <a:lnTo>
                  <a:pt x="1059" y="397"/>
                </a:lnTo>
                <a:lnTo>
                  <a:pt x="1069" y="391"/>
                </a:lnTo>
                <a:lnTo>
                  <a:pt x="1091" y="382"/>
                </a:lnTo>
                <a:lnTo>
                  <a:pt x="1115" y="379"/>
                </a:lnTo>
                <a:lnTo>
                  <a:pt x="1123" y="379"/>
                </a:lnTo>
                <a:lnTo>
                  <a:pt x="1123" y="374"/>
                </a:lnTo>
                <a:lnTo>
                  <a:pt x="1124" y="366"/>
                </a:lnTo>
                <a:lnTo>
                  <a:pt x="1127" y="362"/>
                </a:lnTo>
                <a:lnTo>
                  <a:pt x="1130" y="356"/>
                </a:lnTo>
                <a:lnTo>
                  <a:pt x="1139" y="347"/>
                </a:lnTo>
                <a:lnTo>
                  <a:pt x="1147" y="339"/>
                </a:lnTo>
                <a:lnTo>
                  <a:pt x="1153" y="330"/>
                </a:lnTo>
                <a:lnTo>
                  <a:pt x="1155" y="320"/>
                </a:lnTo>
                <a:lnTo>
                  <a:pt x="1155" y="320"/>
                </a:lnTo>
                <a:lnTo>
                  <a:pt x="1152" y="316"/>
                </a:lnTo>
                <a:lnTo>
                  <a:pt x="1144" y="305"/>
                </a:lnTo>
                <a:lnTo>
                  <a:pt x="1136" y="297"/>
                </a:lnTo>
                <a:lnTo>
                  <a:pt x="1126" y="289"/>
                </a:lnTo>
                <a:lnTo>
                  <a:pt x="1114" y="285"/>
                </a:lnTo>
                <a:lnTo>
                  <a:pt x="1102" y="285"/>
                </a:lnTo>
                <a:lnTo>
                  <a:pt x="1097" y="285"/>
                </a:lnTo>
                <a:lnTo>
                  <a:pt x="1110" y="276"/>
                </a:lnTo>
                <a:lnTo>
                  <a:pt x="1134" y="255"/>
                </a:lnTo>
                <a:lnTo>
                  <a:pt x="1153" y="230"/>
                </a:lnTo>
                <a:lnTo>
                  <a:pt x="1166" y="203"/>
                </a:lnTo>
                <a:lnTo>
                  <a:pt x="1173" y="172"/>
                </a:lnTo>
                <a:lnTo>
                  <a:pt x="1175" y="139"/>
                </a:lnTo>
                <a:lnTo>
                  <a:pt x="1173" y="120"/>
                </a:lnTo>
                <a:lnTo>
                  <a:pt x="1173" y="110"/>
                </a:lnTo>
                <a:lnTo>
                  <a:pt x="1176" y="100"/>
                </a:lnTo>
                <a:lnTo>
                  <a:pt x="1181" y="91"/>
                </a:lnTo>
                <a:lnTo>
                  <a:pt x="1188" y="82"/>
                </a:lnTo>
                <a:lnTo>
                  <a:pt x="1197" y="76"/>
                </a:lnTo>
                <a:lnTo>
                  <a:pt x="1218" y="62"/>
                </a:lnTo>
                <a:lnTo>
                  <a:pt x="1260" y="34"/>
                </a:lnTo>
                <a:lnTo>
                  <a:pt x="1270" y="24"/>
                </a:lnTo>
                <a:lnTo>
                  <a:pt x="1275" y="34"/>
                </a:lnTo>
                <a:lnTo>
                  <a:pt x="1288" y="52"/>
                </a:lnTo>
                <a:lnTo>
                  <a:pt x="1305" y="65"/>
                </a:lnTo>
                <a:lnTo>
                  <a:pt x="1325" y="72"/>
                </a:lnTo>
                <a:lnTo>
                  <a:pt x="1347" y="72"/>
                </a:lnTo>
                <a:lnTo>
                  <a:pt x="1370" y="65"/>
                </a:lnTo>
                <a:lnTo>
                  <a:pt x="1382" y="58"/>
                </a:lnTo>
                <a:lnTo>
                  <a:pt x="1382" y="55"/>
                </a:lnTo>
                <a:lnTo>
                  <a:pt x="1382" y="53"/>
                </a:lnTo>
                <a:lnTo>
                  <a:pt x="1382" y="47"/>
                </a:lnTo>
                <a:lnTo>
                  <a:pt x="1382" y="39"/>
                </a:lnTo>
                <a:lnTo>
                  <a:pt x="1382" y="33"/>
                </a:lnTo>
                <a:lnTo>
                  <a:pt x="1378" y="34"/>
                </a:lnTo>
                <a:lnTo>
                  <a:pt x="1370" y="34"/>
                </a:lnTo>
                <a:lnTo>
                  <a:pt x="1363" y="33"/>
                </a:lnTo>
                <a:lnTo>
                  <a:pt x="1356" y="32"/>
                </a:lnTo>
                <a:lnTo>
                  <a:pt x="1341" y="26"/>
                </a:lnTo>
                <a:lnTo>
                  <a:pt x="1339" y="24"/>
                </a:lnTo>
                <a:lnTo>
                  <a:pt x="1343" y="21"/>
                </a:lnTo>
                <a:lnTo>
                  <a:pt x="1353" y="14"/>
                </a:lnTo>
                <a:lnTo>
                  <a:pt x="1376" y="5"/>
                </a:lnTo>
                <a:lnTo>
                  <a:pt x="1401" y="1"/>
                </a:lnTo>
                <a:lnTo>
                  <a:pt x="1408" y="0"/>
                </a:lnTo>
                <a:lnTo>
                  <a:pt x="1405" y="17"/>
                </a:lnTo>
                <a:lnTo>
                  <a:pt x="1402" y="50"/>
                </a:lnTo>
                <a:lnTo>
                  <a:pt x="1394" y="116"/>
                </a:lnTo>
                <a:lnTo>
                  <a:pt x="1388" y="182"/>
                </a:lnTo>
                <a:lnTo>
                  <a:pt x="1386" y="198"/>
                </a:lnTo>
                <a:lnTo>
                  <a:pt x="1385" y="204"/>
                </a:lnTo>
                <a:lnTo>
                  <a:pt x="1385" y="213"/>
                </a:lnTo>
                <a:lnTo>
                  <a:pt x="1381" y="233"/>
                </a:lnTo>
                <a:lnTo>
                  <a:pt x="1373" y="253"/>
                </a:lnTo>
                <a:lnTo>
                  <a:pt x="1372" y="258"/>
                </a:lnTo>
                <a:lnTo>
                  <a:pt x="1368" y="268"/>
                </a:lnTo>
                <a:lnTo>
                  <a:pt x="1356" y="285"/>
                </a:lnTo>
                <a:lnTo>
                  <a:pt x="1341" y="298"/>
                </a:lnTo>
                <a:lnTo>
                  <a:pt x="1308" y="324"/>
                </a:lnTo>
                <a:lnTo>
                  <a:pt x="1286" y="346"/>
                </a:lnTo>
                <a:lnTo>
                  <a:pt x="1289" y="346"/>
                </a:lnTo>
                <a:lnTo>
                  <a:pt x="1292" y="347"/>
                </a:lnTo>
                <a:lnTo>
                  <a:pt x="1294" y="349"/>
                </a:lnTo>
                <a:lnTo>
                  <a:pt x="1295" y="352"/>
                </a:lnTo>
                <a:lnTo>
                  <a:pt x="1297" y="353"/>
                </a:lnTo>
                <a:lnTo>
                  <a:pt x="1299" y="359"/>
                </a:lnTo>
                <a:lnTo>
                  <a:pt x="1308" y="363"/>
                </a:lnTo>
                <a:lnTo>
                  <a:pt x="1312" y="362"/>
                </a:lnTo>
                <a:lnTo>
                  <a:pt x="1311" y="362"/>
                </a:lnTo>
                <a:lnTo>
                  <a:pt x="1308" y="362"/>
                </a:lnTo>
                <a:lnTo>
                  <a:pt x="1302" y="362"/>
                </a:lnTo>
                <a:lnTo>
                  <a:pt x="1297" y="363"/>
                </a:lnTo>
                <a:lnTo>
                  <a:pt x="1297" y="363"/>
                </a:lnTo>
                <a:lnTo>
                  <a:pt x="1285" y="376"/>
                </a:lnTo>
                <a:lnTo>
                  <a:pt x="1276" y="389"/>
                </a:lnTo>
                <a:lnTo>
                  <a:pt x="1272" y="404"/>
                </a:lnTo>
                <a:lnTo>
                  <a:pt x="1269" y="418"/>
                </a:lnTo>
                <a:lnTo>
                  <a:pt x="1269" y="447"/>
                </a:lnTo>
                <a:lnTo>
                  <a:pt x="1272" y="478"/>
                </a:lnTo>
                <a:lnTo>
                  <a:pt x="1269" y="507"/>
                </a:lnTo>
                <a:lnTo>
                  <a:pt x="1260" y="534"/>
                </a:lnTo>
                <a:lnTo>
                  <a:pt x="1260" y="534"/>
                </a:lnTo>
                <a:lnTo>
                  <a:pt x="1255" y="542"/>
                </a:lnTo>
                <a:lnTo>
                  <a:pt x="1244" y="556"/>
                </a:lnTo>
                <a:lnTo>
                  <a:pt x="1226" y="585"/>
                </a:lnTo>
                <a:lnTo>
                  <a:pt x="1215" y="614"/>
                </a:lnTo>
                <a:lnTo>
                  <a:pt x="1215" y="621"/>
                </a:lnTo>
                <a:lnTo>
                  <a:pt x="1214" y="629"/>
                </a:lnTo>
                <a:lnTo>
                  <a:pt x="1215" y="642"/>
                </a:lnTo>
                <a:lnTo>
                  <a:pt x="1224" y="668"/>
                </a:lnTo>
                <a:lnTo>
                  <a:pt x="1244" y="688"/>
                </a:lnTo>
                <a:lnTo>
                  <a:pt x="1252" y="691"/>
                </a:lnTo>
                <a:lnTo>
                  <a:pt x="1247" y="691"/>
                </a:lnTo>
                <a:lnTo>
                  <a:pt x="1239" y="691"/>
                </a:lnTo>
                <a:lnTo>
                  <a:pt x="1230" y="694"/>
                </a:lnTo>
                <a:lnTo>
                  <a:pt x="1224" y="698"/>
                </a:lnTo>
                <a:lnTo>
                  <a:pt x="1218" y="702"/>
                </a:lnTo>
                <a:lnTo>
                  <a:pt x="1214" y="708"/>
                </a:lnTo>
                <a:lnTo>
                  <a:pt x="1212" y="710"/>
                </a:lnTo>
                <a:lnTo>
                  <a:pt x="1208" y="717"/>
                </a:lnTo>
                <a:lnTo>
                  <a:pt x="1204" y="731"/>
                </a:lnTo>
                <a:lnTo>
                  <a:pt x="1197" y="762"/>
                </a:lnTo>
                <a:lnTo>
                  <a:pt x="1185" y="788"/>
                </a:lnTo>
                <a:lnTo>
                  <a:pt x="1181" y="792"/>
                </a:lnTo>
                <a:lnTo>
                  <a:pt x="1173" y="800"/>
                </a:lnTo>
                <a:lnTo>
                  <a:pt x="1157" y="811"/>
                </a:lnTo>
                <a:lnTo>
                  <a:pt x="1140" y="820"/>
                </a:lnTo>
                <a:lnTo>
                  <a:pt x="1105" y="826"/>
                </a:lnTo>
                <a:lnTo>
                  <a:pt x="1084" y="821"/>
                </a:lnTo>
                <a:lnTo>
                  <a:pt x="1079" y="820"/>
                </a:lnTo>
                <a:lnTo>
                  <a:pt x="1078" y="815"/>
                </a:lnTo>
                <a:lnTo>
                  <a:pt x="1078" y="811"/>
                </a:lnTo>
                <a:lnTo>
                  <a:pt x="1079" y="805"/>
                </a:lnTo>
                <a:lnTo>
                  <a:pt x="1082" y="800"/>
                </a:lnTo>
                <a:lnTo>
                  <a:pt x="1088" y="786"/>
                </a:lnTo>
                <a:lnTo>
                  <a:pt x="1094" y="772"/>
                </a:lnTo>
                <a:lnTo>
                  <a:pt x="1095" y="759"/>
                </a:lnTo>
                <a:lnTo>
                  <a:pt x="1094" y="753"/>
                </a:lnTo>
                <a:lnTo>
                  <a:pt x="1091" y="752"/>
                </a:lnTo>
                <a:lnTo>
                  <a:pt x="1088" y="750"/>
                </a:lnTo>
                <a:lnTo>
                  <a:pt x="1085" y="750"/>
                </a:lnTo>
                <a:lnTo>
                  <a:pt x="1082" y="750"/>
                </a:lnTo>
                <a:lnTo>
                  <a:pt x="1079" y="752"/>
                </a:lnTo>
                <a:lnTo>
                  <a:pt x="1072" y="755"/>
                </a:lnTo>
                <a:lnTo>
                  <a:pt x="1057" y="763"/>
                </a:lnTo>
                <a:lnTo>
                  <a:pt x="1056" y="763"/>
                </a:lnTo>
                <a:lnTo>
                  <a:pt x="1049" y="769"/>
                </a:lnTo>
                <a:lnTo>
                  <a:pt x="1043" y="775"/>
                </a:lnTo>
                <a:lnTo>
                  <a:pt x="1040" y="782"/>
                </a:lnTo>
                <a:lnTo>
                  <a:pt x="1039" y="791"/>
                </a:lnTo>
                <a:lnTo>
                  <a:pt x="1036" y="808"/>
                </a:lnTo>
                <a:lnTo>
                  <a:pt x="1034" y="826"/>
                </a:lnTo>
                <a:lnTo>
                  <a:pt x="1028" y="842"/>
                </a:lnTo>
                <a:lnTo>
                  <a:pt x="1023" y="847"/>
                </a:lnTo>
                <a:lnTo>
                  <a:pt x="1017" y="852"/>
                </a:lnTo>
                <a:lnTo>
                  <a:pt x="1017" y="852"/>
                </a:lnTo>
                <a:lnTo>
                  <a:pt x="1010" y="855"/>
                </a:lnTo>
                <a:lnTo>
                  <a:pt x="1004" y="855"/>
                </a:lnTo>
                <a:lnTo>
                  <a:pt x="998" y="855"/>
                </a:lnTo>
                <a:lnTo>
                  <a:pt x="991" y="852"/>
                </a:lnTo>
                <a:lnTo>
                  <a:pt x="979" y="846"/>
                </a:lnTo>
                <a:lnTo>
                  <a:pt x="966" y="837"/>
                </a:lnTo>
                <a:lnTo>
                  <a:pt x="944" y="821"/>
                </a:lnTo>
                <a:lnTo>
                  <a:pt x="944" y="821"/>
                </a:lnTo>
                <a:lnTo>
                  <a:pt x="939" y="818"/>
                </a:lnTo>
                <a:lnTo>
                  <a:pt x="934" y="814"/>
                </a:lnTo>
                <a:lnTo>
                  <a:pt x="933" y="810"/>
                </a:lnTo>
                <a:lnTo>
                  <a:pt x="934" y="804"/>
                </a:lnTo>
                <a:lnTo>
                  <a:pt x="936" y="798"/>
                </a:lnTo>
                <a:lnTo>
                  <a:pt x="942" y="784"/>
                </a:lnTo>
                <a:lnTo>
                  <a:pt x="955" y="752"/>
                </a:lnTo>
                <a:lnTo>
                  <a:pt x="957" y="743"/>
                </a:lnTo>
                <a:lnTo>
                  <a:pt x="952" y="743"/>
                </a:lnTo>
                <a:lnTo>
                  <a:pt x="943" y="746"/>
                </a:lnTo>
                <a:lnTo>
                  <a:pt x="934" y="749"/>
                </a:lnTo>
                <a:lnTo>
                  <a:pt x="929" y="755"/>
                </a:lnTo>
                <a:lnTo>
                  <a:pt x="923" y="760"/>
                </a:lnTo>
                <a:lnTo>
                  <a:pt x="918" y="766"/>
                </a:lnTo>
                <a:lnTo>
                  <a:pt x="918" y="769"/>
                </a:lnTo>
                <a:lnTo>
                  <a:pt x="915" y="775"/>
                </a:lnTo>
                <a:lnTo>
                  <a:pt x="914" y="778"/>
                </a:lnTo>
                <a:lnTo>
                  <a:pt x="907" y="786"/>
                </a:lnTo>
                <a:lnTo>
                  <a:pt x="901" y="794"/>
                </a:lnTo>
                <a:lnTo>
                  <a:pt x="895" y="801"/>
                </a:lnTo>
                <a:lnTo>
                  <a:pt x="894" y="811"/>
                </a:lnTo>
                <a:lnTo>
                  <a:pt x="897" y="821"/>
                </a:lnTo>
                <a:lnTo>
                  <a:pt x="898" y="821"/>
                </a:lnTo>
                <a:lnTo>
                  <a:pt x="885" y="821"/>
                </a:lnTo>
                <a:lnTo>
                  <a:pt x="862" y="824"/>
                </a:lnTo>
                <a:lnTo>
                  <a:pt x="814" y="830"/>
                </a:lnTo>
                <a:lnTo>
                  <a:pt x="791" y="829"/>
                </a:lnTo>
                <a:lnTo>
                  <a:pt x="769" y="820"/>
                </a:lnTo>
                <a:lnTo>
                  <a:pt x="759" y="811"/>
                </a:lnTo>
                <a:lnTo>
                  <a:pt x="759" y="815"/>
                </a:lnTo>
                <a:lnTo>
                  <a:pt x="759" y="820"/>
                </a:lnTo>
                <a:lnTo>
                  <a:pt x="758" y="824"/>
                </a:lnTo>
                <a:lnTo>
                  <a:pt x="756" y="829"/>
                </a:lnTo>
                <a:lnTo>
                  <a:pt x="752" y="836"/>
                </a:lnTo>
                <a:lnTo>
                  <a:pt x="749" y="843"/>
                </a:lnTo>
                <a:lnTo>
                  <a:pt x="747" y="849"/>
                </a:lnTo>
                <a:lnTo>
                  <a:pt x="750" y="853"/>
                </a:lnTo>
                <a:lnTo>
                  <a:pt x="752" y="853"/>
                </a:lnTo>
                <a:lnTo>
                  <a:pt x="753" y="855"/>
                </a:lnTo>
                <a:lnTo>
                  <a:pt x="756" y="856"/>
                </a:lnTo>
                <a:lnTo>
                  <a:pt x="759" y="856"/>
                </a:lnTo>
                <a:lnTo>
                  <a:pt x="765" y="856"/>
                </a:lnTo>
                <a:lnTo>
                  <a:pt x="778" y="856"/>
                </a:lnTo>
                <a:lnTo>
                  <a:pt x="782" y="856"/>
                </a:lnTo>
                <a:lnTo>
                  <a:pt x="785" y="871"/>
                </a:lnTo>
                <a:lnTo>
                  <a:pt x="785" y="881"/>
                </a:lnTo>
                <a:lnTo>
                  <a:pt x="781" y="888"/>
                </a:lnTo>
                <a:lnTo>
                  <a:pt x="773" y="892"/>
                </a:lnTo>
                <a:lnTo>
                  <a:pt x="763" y="895"/>
                </a:lnTo>
                <a:lnTo>
                  <a:pt x="753" y="897"/>
                </a:lnTo>
                <a:lnTo>
                  <a:pt x="730" y="898"/>
                </a:lnTo>
                <a:lnTo>
                  <a:pt x="708" y="901"/>
                </a:lnTo>
                <a:lnTo>
                  <a:pt x="701" y="904"/>
                </a:lnTo>
                <a:lnTo>
                  <a:pt x="700" y="907"/>
                </a:lnTo>
                <a:lnTo>
                  <a:pt x="698" y="910"/>
                </a:lnTo>
                <a:lnTo>
                  <a:pt x="698" y="910"/>
                </a:lnTo>
                <a:lnTo>
                  <a:pt x="694" y="920"/>
                </a:lnTo>
                <a:lnTo>
                  <a:pt x="685" y="940"/>
                </a:lnTo>
                <a:lnTo>
                  <a:pt x="665" y="979"/>
                </a:lnTo>
                <a:lnTo>
                  <a:pt x="636" y="1011"/>
                </a:lnTo>
                <a:lnTo>
                  <a:pt x="627" y="1017"/>
                </a:lnTo>
                <a:lnTo>
                  <a:pt x="620" y="1021"/>
                </a:lnTo>
                <a:lnTo>
                  <a:pt x="614" y="1023"/>
                </a:lnTo>
                <a:lnTo>
                  <a:pt x="608" y="1023"/>
                </a:lnTo>
                <a:lnTo>
                  <a:pt x="603" y="1021"/>
                </a:lnTo>
                <a:lnTo>
                  <a:pt x="597" y="1020"/>
                </a:lnTo>
                <a:lnTo>
                  <a:pt x="584" y="1014"/>
                </a:lnTo>
                <a:lnTo>
                  <a:pt x="558" y="1004"/>
                </a:lnTo>
                <a:lnTo>
                  <a:pt x="552" y="1002"/>
                </a:lnTo>
                <a:lnTo>
                  <a:pt x="552" y="994"/>
                </a:lnTo>
                <a:lnTo>
                  <a:pt x="550" y="986"/>
                </a:lnTo>
                <a:lnTo>
                  <a:pt x="546" y="981"/>
                </a:lnTo>
                <a:lnTo>
                  <a:pt x="543" y="975"/>
                </a:lnTo>
                <a:lnTo>
                  <a:pt x="537" y="971"/>
                </a:lnTo>
                <a:lnTo>
                  <a:pt x="526" y="963"/>
                </a:lnTo>
                <a:lnTo>
                  <a:pt x="516" y="956"/>
                </a:lnTo>
                <a:lnTo>
                  <a:pt x="505" y="947"/>
                </a:lnTo>
                <a:lnTo>
                  <a:pt x="504" y="940"/>
                </a:lnTo>
                <a:lnTo>
                  <a:pt x="503" y="933"/>
                </a:lnTo>
                <a:lnTo>
                  <a:pt x="503" y="927"/>
                </a:lnTo>
                <a:lnTo>
                  <a:pt x="505" y="921"/>
                </a:lnTo>
                <a:lnTo>
                  <a:pt x="510" y="915"/>
                </a:lnTo>
                <a:lnTo>
                  <a:pt x="514" y="911"/>
                </a:lnTo>
                <a:lnTo>
                  <a:pt x="527" y="904"/>
                </a:lnTo>
                <a:lnTo>
                  <a:pt x="555" y="886"/>
                </a:lnTo>
                <a:lnTo>
                  <a:pt x="561" y="881"/>
                </a:lnTo>
                <a:lnTo>
                  <a:pt x="556" y="882"/>
                </a:lnTo>
                <a:lnTo>
                  <a:pt x="549" y="884"/>
                </a:lnTo>
                <a:lnTo>
                  <a:pt x="534" y="888"/>
                </a:lnTo>
                <a:lnTo>
                  <a:pt x="500" y="904"/>
                </a:lnTo>
                <a:lnTo>
                  <a:pt x="482" y="924"/>
                </a:lnTo>
                <a:lnTo>
                  <a:pt x="478" y="921"/>
                </a:lnTo>
                <a:lnTo>
                  <a:pt x="475" y="917"/>
                </a:lnTo>
                <a:lnTo>
                  <a:pt x="474" y="914"/>
                </a:lnTo>
                <a:lnTo>
                  <a:pt x="472" y="910"/>
                </a:lnTo>
                <a:lnTo>
                  <a:pt x="472" y="907"/>
                </a:lnTo>
                <a:lnTo>
                  <a:pt x="474" y="902"/>
                </a:lnTo>
                <a:lnTo>
                  <a:pt x="476" y="895"/>
                </a:lnTo>
                <a:lnTo>
                  <a:pt x="481" y="889"/>
                </a:lnTo>
                <a:lnTo>
                  <a:pt x="484" y="884"/>
                </a:lnTo>
                <a:lnTo>
                  <a:pt x="485" y="884"/>
                </a:lnTo>
                <a:lnTo>
                  <a:pt x="487" y="882"/>
                </a:lnTo>
                <a:lnTo>
                  <a:pt x="491" y="879"/>
                </a:lnTo>
                <a:lnTo>
                  <a:pt x="494" y="878"/>
                </a:lnTo>
                <a:lnTo>
                  <a:pt x="497" y="876"/>
                </a:lnTo>
                <a:lnTo>
                  <a:pt x="508" y="872"/>
                </a:lnTo>
                <a:lnTo>
                  <a:pt x="513" y="869"/>
                </a:lnTo>
                <a:lnTo>
                  <a:pt x="508" y="868"/>
                </a:lnTo>
                <a:lnTo>
                  <a:pt x="497" y="860"/>
                </a:lnTo>
                <a:lnTo>
                  <a:pt x="488" y="856"/>
                </a:lnTo>
                <a:lnTo>
                  <a:pt x="488" y="855"/>
                </a:lnTo>
                <a:lnTo>
                  <a:pt x="479" y="847"/>
                </a:lnTo>
                <a:lnTo>
                  <a:pt x="472" y="843"/>
                </a:lnTo>
                <a:lnTo>
                  <a:pt x="463" y="839"/>
                </a:lnTo>
                <a:lnTo>
                  <a:pt x="455" y="837"/>
                </a:lnTo>
                <a:lnTo>
                  <a:pt x="437" y="837"/>
                </a:lnTo>
                <a:lnTo>
                  <a:pt x="421" y="842"/>
                </a:lnTo>
                <a:lnTo>
                  <a:pt x="390" y="852"/>
                </a:lnTo>
                <a:lnTo>
                  <a:pt x="390" y="852"/>
                </a:lnTo>
                <a:lnTo>
                  <a:pt x="390" y="852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97160" y="3348000"/>
            <a:ext cx="104760" cy="74520"/>
          </a:xfrm>
          <a:custGeom>
            <a:avLst/>
            <a:gdLst/>
            <a:ahLst/>
            <a:rect l="l" t="t" r="r" b="b"/>
            <a:pathLst>
              <a:path w="169" h="106">
                <a:moveTo>
                  <a:pt x="2" y="102"/>
                </a:moveTo>
                <a:lnTo>
                  <a:pt x="5" y="104"/>
                </a:lnTo>
                <a:lnTo>
                  <a:pt x="7" y="104"/>
                </a:lnTo>
                <a:lnTo>
                  <a:pt x="15" y="106"/>
                </a:lnTo>
                <a:lnTo>
                  <a:pt x="34" y="106"/>
                </a:lnTo>
                <a:lnTo>
                  <a:pt x="46" y="100"/>
                </a:lnTo>
                <a:lnTo>
                  <a:pt x="47" y="99"/>
                </a:lnTo>
                <a:lnTo>
                  <a:pt x="49" y="96"/>
                </a:lnTo>
                <a:lnTo>
                  <a:pt x="49" y="94"/>
                </a:lnTo>
                <a:lnTo>
                  <a:pt x="49" y="89"/>
                </a:lnTo>
                <a:lnTo>
                  <a:pt x="49" y="81"/>
                </a:lnTo>
                <a:lnTo>
                  <a:pt x="47" y="68"/>
                </a:lnTo>
                <a:lnTo>
                  <a:pt x="49" y="68"/>
                </a:lnTo>
                <a:lnTo>
                  <a:pt x="65" y="74"/>
                </a:lnTo>
                <a:lnTo>
                  <a:pt x="89" y="74"/>
                </a:lnTo>
                <a:lnTo>
                  <a:pt x="108" y="64"/>
                </a:lnTo>
                <a:lnTo>
                  <a:pt x="123" y="47"/>
                </a:lnTo>
                <a:lnTo>
                  <a:pt x="137" y="28"/>
                </a:lnTo>
                <a:lnTo>
                  <a:pt x="156" y="9"/>
                </a:lnTo>
                <a:lnTo>
                  <a:pt x="169" y="0"/>
                </a:lnTo>
                <a:lnTo>
                  <a:pt x="153" y="7"/>
                </a:lnTo>
                <a:lnTo>
                  <a:pt x="115" y="15"/>
                </a:lnTo>
                <a:lnTo>
                  <a:pt x="39" y="33"/>
                </a:lnTo>
                <a:lnTo>
                  <a:pt x="23" y="41"/>
                </a:lnTo>
                <a:lnTo>
                  <a:pt x="11" y="51"/>
                </a:lnTo>
                <a:lnTo>
                  <a:pt x="2" y="64"/>
                </a:lnTo>
                <a:lnTo>
                  <a:pt x="0" y="81"/>
                </a:lnTo>
                <a:lnTo>
                  <a:pt x="1" y="102"/>
                </a:lnTo>
                <a:lnTo>
                  <a:pt x="2" y="102"/>
                </a:lnTo>
                <a:lnTo>
                  <a:pt x="2" y="102"/>
                </a:lnTo>
                <a:close/>
              </a:path>
            </a:pathLst>
          </a:custGeom>
          <a:solidFill>
            <a:srgbClr val="ff3300"/>
          </a:solidFill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41840" y="2627280"/>
            <a:ext cx="152280" cy="227160"/>
          </a:xfrm>
          <a:custGeom>
            <a:avLst/>
            <a:gdLst/>
            <a:ahLst/>
            <a:rect l="l" t="t" r="r" b="b"/>
            <a:pathLst>
              <a:path w="529" h="825">
                <a:moveTo>
                  <a:pt x="3" y="812"/>
                </a:moveTo>
                <a:lnTo>
                  <a:pt x="4" y="815"/>
                </a:lnTo>
                <a:lnTo>
                  <a:pt x="12" y="819"/>
                </a:lnTo>
                <a:lnTo>
                  <a:pt x="26" y="825"/>
                </a:lnTo>
                <a:lnTo>
                  <a:pt x="33" y="825"/>
                </a:lnTo>
                <a:lnTo>
                  <a:pt x="39" y="823"/>
                </a:lnTo>
                <a:lnTo>
                  <a:pt x="42" y="821"/>
                </a:lnTo>
                <a:lnTo>
                  <a:pt x="52" y="808"/>
                </a:lnTo>
                <a:lnTo>
                  <a:pt x="75" y="786"/>
                </a:lnTo>
                <a:lnTo>
                  <a:pt x="100" y="774"/>
                </a:lnTo>
                <a:lnTo>
                  <a:pt x="127" y="767"/>
                </a:lnTo>
                <a:lnTo>
                  <a:pt x="156" y="765"/>
                </a:lnTo>
                <a:lnTo>
                  <a:pt x="185" y="767"/>
                </a:lnTo>
                <a:lnTo>
                  <a:pt x="201" y="767"/>
                </a:lnTo>
                <a:lnTo>
                  <a:pt x="203" y="767"/>
                </a:lnTo>
                <a:lnTo>
                  <a:pt x="204" y="765"/>
                </a:lnTo>
                <a:lnTo>
                  <a:pt x="207" y="764"/>
                </a:lnTo>
                <a:lnTo>
                  <a:pt x="212" y="760"/>
                </a:lnTo>
                <a:lnTo>
                  <a:pt x="214" y="752"/>
                </a:lnTo>
                <a:lnTo>
                  <a:pt x="217" y="747"/>
                </a:lnTo>
                <a:lnTo>
                  <a:pt x="216" y="742"/>
                </a:lnTo>
                <a:lnTo>
                  <a:pt x="214" y="739"/>
                </a:lnTo>
                <a:lnTo>
                  <a:pt x="204" y="732"/>
                </a:lnTo>
                <a:lnTo>
                  <a:pt x="198" y="722"/>
                </a:lnTo>
                <a:lnTo>
                  <a:pt x="193" y="713"/>
                </a:lnTo>
                <a:lnTo>
                  <a:pt x="188" y="693"/>
                </a:lnTo>
                <a:lnTo>
                  <a:pt x="185" y="673"/>
                </a:lnTo>
                <a:lnTo>
                  <a:pt x="181" y="635"/>
                </a:lnTo>
                <a:lnTo>
                  <a:pt x="178" y="626"/>
                </a:lnTo>
                <a:lnTo>
                  <a:pt x="172" y="622"/>
                </a:lnTo>
                <a:lnTo>
                  <a:pt x="169" y="621"/>
                </a:lnTo>
                <a:lnTo>
                  <a:pt x="162" y="615"/>
                </a:lnTo>
                <a:lnTo>
                  <a:pt x="148" y="605"/>
                </a:lnTo>
                <a:lnTo>
                  <a:pt x="143" y="597"/>
                </a:lnTo>
                <a:lnTo>
                  <a:pt x="142" y="590"/>
                </a:lnTo>
                <a:lnTo>
                  <a:pt x="141" y="577"/>
                </a:lnTo>
                <a:lnTo>
                  <a:pt x="135" y="555"/>
                </a:lnTo>
                <a:lnTo>
                  <a:pt x="120" y="535"/>
                </a:lnTo>
                <a:lnTo>
                  <a:pt x="114" y="528"/>
                </a:lnTo>
                <a:lnTo>
                  <a:pt x="113" y="526"/>
                </a:lnTo>
                <a:lnTo>
                  <a:pt x="112" y="524"/>
                </a:lnTo>
                <a:lnTo>
                  <a:pt x="113" y="521"/>
                </a:lnTo>
                <a:lnTo>
                  <a:pt x="114" y="519"/>
                </a:lnTo>
                <a:lnTo>
                  <a:pt x="117" y="516"/>
                </a:lnTo>
                <a:lnTo>
                  <a:pt x="119" y="512"/>
                </a:lnTo>
                <a:lnTo>
                  <a:pt x="120" y="512"/>
                </a:lnTo>
                <a:lnTo>
                  <a:pt x="119" y="509"/>
                </a:lnTo>
                <a:lnTo>
                  <a:pt x="117" y="506"/>
                </a:lnTo>
                <a:lnTo>
                  <a:pt x="114" y="505"/>
                </a:lnTo>
                <a:lnTo>
                  <a:pt x="112" y="502"/>
                </a:lnTo>
                <a:lnTo>
                  <a:pt x="106" y="499"/>
                </a:lnTo>
                <a:lnTo>
                  <a:pt x="93" y="490"/>
                </a:lnTo>
                <a:lnTo>
                  <a:pt x="88" y="484"/>
                </a:lnTo>
                <a:lnTo>
                  <a:pt x="93" y="483"/>
                </a:lnTo>
                <a:lnTo>
                  <a:pt x="94" y="480"/>
                </a:lnTo>
                <a:lnTo>
                  <a:pt x="96" y="477"/>
                </a:lnTo>
                <a:lnTo>
                  <a:pt x="96" y="474"/>
                </a:lnTo>
                <a:lnTo>
                  <a:pt x="96" y="470"/>
                </a:lnTo>
                <a:lnTo>
                  <a:pt x="94" y="458"/>
                </a:lnTo>
                <a:lnTo>
                  <a:pt x="96" y="458"/>
                </a:lnTo>
                <a:lnTo>
                  <a:pt x="109" y="463"/>
                </a:lnTo>
                <a:lnTo>
                  <a:pt x="133" y="474"/>
                </a:lnTo>
                <a:lnTo>
                  <a:pt x="183" y="500"/>
                </a:lnTo>
                <a:lnTo>
                  <a:pt x="236" y="512"/>
                </a:lnTo>
                <a:lnTo>
                  <a:pt x="252" y="510"/>
                </a:lnTo>
                <a:lnTo>
                  <a:pt x="252" y="505"/>
                </a:lnTo>
                <a:lnTo>
                  <a:pt x="254" y="502"/>
                </a:lnTo>
                <a:lnTo>
                  <a:pt x="255" y="499"/>
                </a:lnTo>
                <a:lnTo>
                  <a:pt x="259" y="493"/>
                </a:lnTo>
                <a:lnTo>
                  <a:pt x="268" y="483"/>
                </a:lnTo>
                <a:lnTo>
                  <a:pt x="269" y="476"/>
                </a:lnTo>
                <a:lnTo>
                  <a:pt x="284" y="479"/>
                </a:lnTo>
                <a:lnTo>
                  <a:pt x="314" y="484"/>
                </a:lnTo>
                <a:lnTo>
                  <a:pt x="375" y="496"/>
                </a:lnTo>
                <a:lnTo>
                  <a:pt x="433" y="495"/>
                </a:lnTo>
                <a:lnTo>
                  <a:pt x="449" y="489"/>
                </a:lnTo>
                <a:lnTo>
                  <a:pt x="451" y="486"/>
                </a:lnTo>
                <a:lnTo>
                  <a:pt x="448" y="481"/>
                </a:lnTo>
                <a:lnTo>
                  <a:pt x="446" y="479"/>
                </a:lnTo>
                <a:lnTo>
                  <a:pt x="440" y="471"/>
                </a:lnTo>
                <a:lnTo>
                  <a:pt x="436" y="464"/>
                </a:lnTo>
                <a:lnTo>
                  <a:pt x="435" y="455"/>
                </a:lnTo>
                <a:lnTo>
                  <a:pt x="436" y="451"/>
                </a:lnTo>
                <a:lnTo>
                  <a:pt x="439" y="444"/>
                </a:lnTo>
                <a:lnTo>
                  <a:pt x="446" y="426"/>
                </a:lnTo>
                <a:lnTo>
                  <a:pt x="465" y="395"/>
                </a:lnTo>
                <a:lnTo>
                  <a:pt x="487" y="363"/>
                </a:lnTo>
                <a:lnTo>
                  <a:pt x="493" y="354"/>
                </a:lnTo>
                <a:lnTo>
                  <a:pt x="500" y="342"/>
                </a:lnTo>
                <a:lnTo>
                  <a:pt x="513" y="318"/>
                </a:lnTo>
                <a:lnTo>
                  <a:pt x="529" y="267"/>
                </a:lnTo>
                <a:lnTo>
                  <a:pt x="529" y="241"/>
                </a:lnTo>
                <a:lnTo>
                  <a:pt x="520" y="216"/>
                </a:lnTo>
                <a:lnTo>
                  <a:pt x="514" y="203"/>
                </a:lnTo>
                <a:lnTo>
                  <a:pt x="511" y="202"/>
                </a:lnTo>
                <a:lnTo>
                  <a:pt x="509" y="202"/>
                </a:lnTo>
                <a:lnTo>
                  <a:pt x="506" y="200"/>
                </a:lnTo>
                <a:lnTo>
                  <a:pt x="495" y="199"/>
                </a:lnTo>
                <a:lnTo>
                  <a:pt x="475" y="196"/>
                </a:lnTo>
                <a:lnTo>
                  <a:pt x="464" y="187"/>
                </a:lnTo>
                <a:lnTo>
                  <a:pt x="449" y="170"/>
                </a:lnTo>
                <a:lnTo>
                  <a:pt x="422" y="135"/>
                </a:lnTo>
                <a:lnTo>
                  <a:pt x="362" y="73"/>
                </a:lnTo>
                <a:lnTo>
                  <a:pt x="294" y="16"/>
                </a:lnTo>
                <a:lnTo>
                  <a:pt x="277" y="2"/>
                </a:lnTo>
                <a:lnTo>
                  <a:pt x="272" y="0"/>
                </a:lnTo>
                <a:lnTo>
                  <a:pt x="269" y="0"/>
                </a:lnTo>
                <a:lnTo>
                  <a:pt x="265" y="0"/>
                </a:lnTo>
                <a:lnTo>
                  <a:pt x="262" y="2"/>
                </a:lnTo>
                <a:lnTo>
                  <a:pt x="259" y="3"/>
                </a:lnTo>
                <a:lnTo>
                  <a:pt x="252" y="8"/>
                </a:lnTo>
                <a:lnTo>
                  <a:pt x="245" y="11"/>
                </a:lnTo>
                <a:lnTo>
                  <a:pt x="238" y="11"/>
                </a:lnTo>
                <a:lnTo>
                  <a:pt x="235" y="9"/>
                </a:lnTo>
                <a:lnTo>
                  <a:pt x="235" y="21"/>
                </a:lnTo>
                <a:lnTo>
                  <a:pt x="238" y="31"/>
                </a:lnTo>
                <a:lnTo>
                  <a:pt x="243" y="41"/>
                </a:lnTo>
                <a:lnTo>
                  <a:pt x="256" y="57"/>
                </a:lnTo>
                <a:lnTo>
                  <a:pt x="271" y="73"/>
                </a:lnTo>
                <a:lnTo>
                  <a:pt x="285" y="87"/>
                </a:lnTo>
                <a:lnTo>
                  <a:pt x="296" y="105"/>
                </a:lnTo>
                <a:lnTo>
                  <a:pt x="298" y="113"/>
                </a:lnTo>
                <a:lnTo>
                  <a:pt x="300" y="125"/>
                </a:lnTo>
                <a:lnTo>
                  <a:pt x="304" y="145"/>
                </a:lnTo>
                <a:lnTo>
                  <a:pt x="309" y="186"/>
                </a:lnTo>
                <a:lnTo>
                  <a:pt x="297" y="226"/>
                </a:lnTo>
                <a:lnTo>
                  <a:pt x="291" y="237"/>
                </a:lnTo>
                <a:lnTo>
                  <a:pt x="290" y="239"/>
                </a:lnTo>
                <a:lnTo>
                  <a:pt x="288" y="242"/>
                </a:lnTo>
                <a:lnTo>
                  <a:pt x="288" y="247"/>
                </a:lnTo>
                <a:lnTo>
                  <a:pt x="290" y="250"/>
                </a:lnTo>
                <a:lnTo>
                  <a:pt x="293" y="257"/>
                </a:lnTo>
                <a:lnTo>
                  <a:pt x="297" y="266"/>
                </a:lnTo>
                <a:lnTo>
                  <a:pt x="304" y="273"/>
                </a:lnTo>
                <a:lnTo>
                  <a:pt x="311" y="277"/>
                </a:lnTo>
                <a:lnTo>
                  <a:pt x="313" y="277"/>
                </a:lnTo>
                <a:lnTo>
                  <a:pt x="306" y="283"/>
                </a:lnTo>
                <a:lnTo>
                  <a:pt x="294" y="297"/>
                </a:lnTo>
                <a:lnTo>
                  <a:pt x="285" y="311"/>
                </a:lnTo>
                <a:lnTo>
                  <a:pt x="267" y="338"/>
                </a:lnTo>
                <a:lnTo>
                  <a:pt x="249" y="351"/>
                </a:lnTo>
                <a:lnTo>
                  <a:pt x="245" y="354"/>
                </a:lnTo>
                <a:lnTo>
                  <a:pt x="236" y="357"/>
                </a:lnTo>
                <a:lnTo>
                  <a:pt x="214" y="361"/>
                </a:lnTo>
                <a:lnTo>
                  <a:pt x="196" y="361"/>
                </a:lnTo>
                <a:lnTo>
                  <a:pt x="193" y="360"/>
                </a:lnTo>
                <a:lnTo>
                  <a:pt x="183" y="357"/>
                </a:lnTo>
                <a:lnTo>
                  <a:pt x="165" y="348"/>
                </a:lnTo>
                <a:lnTo>
                  <a:pt x="129" y="332"/>
                </a:lnTo>
                <a:lnTo>
                  <a:pt x="94" y="312"/>
                </a:lnTo>
                <a:lnTo>
                  <a:pt x="85" y="306"/>
                </a:lnTo>
                <a:lnTo>
                  <a:pt x="81" y="305"/>
                </a:lnTo>
                <a:lnTo>
                  <a:pt x="75" y="303"/>
                </a:lnTo>
                <a:lnTo>
                  <a:pt x="71" y="302"/>
                </a:lnTo>
                <a:lnTo>
                  <a:pt x="61" y="302"/>
                </a:lnTo>
                <a:lnTo>
                  <a:pt x="51" y="305"/>
                </a:lnTo>
                <a:lnTo>
                  <a:pt x="41" y="311"/>
                </a:lnTo>
                <a:lnTo>
                  <a:pt x="30" y="318"/>
                </a:lnTo>
                <a:lnTo>
                  <a:pt x="28" y="321"/>
                </a:lnTo>
                <a:lnTo>
                  <a:pt x="33" y="325"/>
                </a:lnTo>
                <a:lnTo>
                  <a:pt x="45" y="332"/>
                </a:lnTo>
                <a:lnTo>
                  <a:pt x="68" y="350"/>
                </a:lnTo>
                <a:lnTo>
                  <a:pt x="77" y="358"/>
                </a:lnTo>
                <a:lnTo>
                  <a:pt x="81" y="368"/>
                </a:lnTo>
                <a:lnTo>
                  <a:pt x="83" y="373"/>
                </a:lnTo>
                <a:lnTo>
                  <a:pt x="80" y="382"/>
                </a:lnTo>
                <a:lnTo>
                  <a:pt x="77" y="387"/>
                </a:lnTo>
                <a:lnTo>
                  <a:pt x="71" y="395"/>
                </a:lnTo>
                <a:lnTo>
                  <a:pt x="65" y="399"/>
                </a:lnTo>
                <a:lnTo>
                  <a:pt x="49" y="410"/>
                </a:lnTo>
                <a:lnTo>
                  <a:pt x="20" y="435"/>
                </a:lnTo>
                <a:lnTo>
                  <a:pt x="12" y="451"/>
                </a:lnTo>
                <a:lnTo>
                  <a:pt x="10" y="460"/>
                </a:lnTo>
                <a:lnTo>
                  <a:pt x="10" y="468"/>
                </a:lnTo>
                <a:lnTo>
                  <a:pt x="13" y="476"/>
                </a:lnTo>
                <a:lnTo>
                  <a:pt x="16" y="483"/>
                </a:lnTo>
                <a:lnTo>
                  <a:pt x="26" y="495"/>
                </a:lnTo>
                <a:lnTo>
                  <a:pt x="38" y="506"/>
                </a:lnTo>
                <a:lnTo>
                  <a:pt x="56" y="529"/>
                </a:lnTo>
                <a:lnTo>
                  <a:pt x="58" y="529"/>
                </a:lnTo>
                <a:lnTo>
                  <a:pt x="59" y="537"/>
                </a:lnTo>
                <a:lnTo>
                  <a:pt x="59" y="542"/>
                </a:lnTo>
                <a:lnTo>
                  <a:pt x="58" y="548"/>
                </a:lnTo>
                <a:lnTo>
                  <a:pt x="56" y="554"/>
                </a:lnTo>
                <a:lnTo>
                  <a:pt x="49" y="566"/>
                </a:lnTo>
                <a:lnTo>
                  <a:pt x="39" y="577"/>
                </a:lnTo>
                <a:lnTo>
                  <a:pt x="19" y="597"/>
                </a:lnTo>
                <a:lnTo>
                  <a:pt x="19" y="597"/>
                </a:lnTo>
                <a:lnTo>
                  <a:pt x="29" y="602"/>
                </a:lnTo>
                <a:lnTo>
                  <a:pt x="45" y="610"/>
                </a:lnTo>
                <a:lnTo>
                  <a:pt x="49" y="615"/>
                </a:lnTo>
                <a:lnTo>
                  <a:pt x="52" y="621"/>
                </a:lnTo>
                <a:lnTo>
                  <a:pt x="52" y="628"/>
                </a:lnTo>
                <a:lnTo>
                  <a:pt x="52" y="634"/>
                </a:lnTo>
                <a:lnTo>
                  <a:pt x="51" y="641"/>
                </a:lnTo>
                <a:lnTo>
                  <a:pt x="43" y="658"/>
                </a:lnTo>
                <a:lnTo>
                  <a:pt x="35" y="676"/>
                </a:lnTo>
                <a:lnTo>
                  <a:pt x="35" y="676"/>
                </a:lnTo>
                <a:lnTo>
                  <a:pt x="38" y="677"/>
                </a:lnTo>
                <a:lnTo>
                  <a:pt x="46" y="681"/>
                </a:lnTo>
                <a:lnTo>
                  <a:pt x="61" y="692"/>
                </a:lnTo>
                <a:lnTo>
                  <a:pt x="75" y="700"/>
                </a:lnTo>
                <a:lnTo>
                  <a:pt x="80" y="702"/>
                </a:lnTo>
                <a:lnTo>
                  <a:pt x="75" y="708"/>
                </a:lnTo>
                <a:lnTo>
                  <a:pt x="72" y="712"/>
                </a:lnTo>
                <a:lnTo>
                  <a:pt x="70" y="723"/>
                </a:lnTo>
                <a:lnTo>
                  <a:pt x="68" y="734"/>
                </a:lnTo>
                <a:lnTo>
                  <a:pt x="65" y="745"/>
                </a:lnTo>
                <a:lnTo>
                  <a:pt x="61" y="755"/>
                </a:lnTo>
                <a:lnTo>
                  <a:pt x="52" y="761"/>
                </a:lnTo>
                <a:lnTo>
                  <a:pt x="52" y="761"/>
                </a:lnTo>
                <a:lnTo>
                  <a:pt x="49" y="763"/>
                </a:lnTo>
                <a:lnTo>
                  <a:pt x="46" y="763"/>
                </a:lnTo>
                <a:lnTo>
                  <a:pt x="42" y="764"/>
                </a:lnTo>
                <a:lnTo>
                  <a:pt x="33" y="764"/>
                </a:lnTo>
                <a:lnTo>
                  <a:pt x="28" y="763"/>
                </a:lnTo>
                <a:lnTo>
                  <a:pt x="30" y="764"/>
                </a:lnTo>
                <a:lnTo>
                  <a:pt x="29" y="764"/>
                </a:lnTo>
                <a:lnTo>
                  <a:pt x="25" y="764"/>
                </a:lnTo>
                <a:lnTo>
                  <a:pt x="22" y="765"/>
                </a:lnTo>
                <a:lnTo>
                  <a:pt x="20" y="768"/>
                </a:lnTo>
                <a:lnTo>
                  <a:pt x="20" y="771"/>
                </a:lnTo>
                <a:lnTo>
                  <a:pt x="16" y="776"/>
                </a:lnTo>
                <a:lnTo>
                  <a:pt x="9" y="781"/>
                </a:lnTo>
                <a:lnTo>
                  <a:pt x="1" y="796"/>
                </a:lnTo>
                <a:lnTo>
                  <a:pt x="0" y="803"/>
                </a:lnTo>
                <a:lnTo>
                  <a:pt x="0" y="810"/>
                </a:lnTo>
                <a:lnTo>
                  <a:pt x="3" y="812"/>
                </a:lnTo>
                <a:lnTo>
                  <a:pt x="3" y="812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82760" y="3500280"/>
            <a:ext cx="306360" cy="543240"/>
          </a:xfrm>
          <a:custGeom>
            <a:avLst/>
            <a:gdLst/>
            <a:ahLst/>
            <a:rect l="l" t="t" r="r" b="b"/>
            <a:pathLst>
              <a:path w="1063" h="1991">
                <a:moveTo>
                  <a:pt x="288" y="1911"/>
                </a:moveTo>
                <a:lnTo>
                  <a:pt x="281" y="1906"/>
                </a:lnTo>
                <a:lnTo>
                  <a:pt x="276" y="1898"/>
                </a:lnTo>
                <a:lnTo>
                  <a:pt x="274" y="1891"/>
                </a:lnTo>
                <a:lnTo>
                  <a:pt x="274" y="1882"/>
                </a:lnTo>
                <a:lnTo>
                  <a:pt x="274" y="1874"/>
                </a:lnTo>
                <a:lnTo>
                  <a:pt x="278" y="1856"/>
                </a:lnTo>
                <a:lnTo>
                  <a:pt x="284" y="1839"/>
                </a:lnTo>
                <a:lnTo>
                  <a:pt x="291" y="1822"/>
                </a:lnTo>
                <a:lnTo>
                  <a:pt x="294" y="1813"/>
                </a:lnTo>
                <a:lnTo>
                  <a:pt x="287" y="1814"/>
                </a:lnTo>
                <a:lnTo>
                  <a:pt x="282" y="1813"/>
                </a:lnTo>
                <a:lnTo>
                  <a:pt x="279" y="1810"/>
                </a:lnTo>
                <a:lnTo>
                  <a:pt x="276" y="1807"/>
                </a:lnTo>
                <a:lnTo>
                  <a:pt x="276" y="1803"/>
                </a:lnTo>
                <a:lnTo>
                  <a:pt x="275" y="1798"/>
                </a:lnTo>
                <a:lnTo>
                  <a:pt x="275" y="1790"/>
                </a:lnTo>
                <a:lnTo>
                  <a:pt x="274" y="1782"/>
                </a:lnTo>
                <a:lnTo>
                  <a:pt x="268" y="1777"/>
                </a:lnTo>
                <a:lnTo>
                  <a:pt x="268" y="1777"/>
                </a:lnTo>
                <a:lnTo>
                  <a:pt x="262" y="1775"/>
                </a:lnTo>
                <a:lnTo>
                  <a:pt x="250" y="1774"/>
                </a:lnTo>
                <a:lnTo>
                  <a:pt x="229" y="1768"/>
                </a:lnTo>
                <a:lnTo>
                  <a:pt x="219" y="1764"/>
                </a:lnTo>
                <a:lnTo>
                  <a:pt x="213" y="1756"/>
                </a:lnTo>
                <a:lnTo>
                  <a:pt x="211" y="1751"/>
                </a:lnTo>
                <a:lnTo>
                  <a:pt x="208" y="1746"/>
                </a:lnTo>
                <a:lnTo>
                  <a:pt x="205" y="1735"/>
                </a:lnTo>
                <a:lnTo>
                  <a:pt x="200" y="1711"/>
                </a:lnTo>
                <a:lnTo>
                  <a:pt x="195" y="1688"/>
                </a:lnTo>
                <a:lnTo>
                  <a:pt x="195" y="1682"/>
                </a:lnTo>
                <a:lnTo>
                  <a:pt x="194" y="1678"/>
                </a:lnTo>
                <a:lnTo>
                  <a:pt x="192" y="1675"/>
                </a:lnTo>
                <a:lnTo>
                  <a:pt x="190" y="1672"/>
                </a:lnTo>
                <a:lnTo>
                  <a:pt x="184" y="1668"/>
                </a:lnTo>
                <a:lnTo>
                  <a:pt x="178" y="1665"/>
                </a:lnTo>
                <a:lnTo>
                  <a:pt x="172" y="1665"/>
                </a:lnTo>
                <a:lnTo>
                  <a:pt x="166" y="1666"/>
                </a:lnTo>
                <a:lnTo>
                  <a:pt x="166" y="1666"/>
                </a:lnTo>
                <a:lnTo>
                  <a:pt x="159" y="1672"/>
                </a:lnTo>
                <a:lnTo>
                  <a:pt x="153" y="1678"/>
                </a:lnTo>
                <a:lnTo>
                  <a:pt x="145" y="1693"/>
                </a:lnTo>
                <a:lnTo>
                  <a:pt x="136" y="1707"/>
                </a:lnTo>
                <a:lnTo>
                  <a:pt x="133" y="1713"/>
                </a:lnTo>
                <a:lnTo>
                  <a:pt x="129" y="1716"/>
                </a:lnTo>
                <a:lnTo>
                  <a:pt x="124" y="1719"/>
                </a:lnTo>
                <a:lnTo>
                  <a:pt x="121" y="1719"/>
                </a:lnTo>
                <a:lnTo>
                  <a:pt x="119" y="1717"/>
                </a:lnTo>
                <a:lnTo>
                  <a:pt x="116" y="1716"/>
                </a:lnTo>
                <a:lnTo>
                  <a:pt x="113" y="1713"/>
                </a:lnTo>
                <a:lnTo>
                  <a:pt x="107" y="1706"/>
                </a:lnTo>
                <a:lnTo>
                  <a:pt x="107" y="1706"/>
                </a:lnTo>
                <a:lnTo>
                  <a:pt x="103" y="1701"/>
                </a:lnTo>
                <a:lnTo>
                  <a:pt x="101" y="1695"/>
                </a:lnTo>
                <a:lnTo>
                  <a:pt x="101" y="1690"/>
                </a:lnTo>
                <a:lnTo>
                  <a:pt x="103" y="1682"/>
                </a:lnTo>
                <a:lnTo>
                  <a:pt x="107" y="1669"/>
                </a:lnTo>
                <a:lnTo>
                  <a:pt x="110" y="1658"/>
                </a:lnTo>
                <a:lnTo>
                  <a:pt x="111" y="1645"/>
                </a:lnTo>
                <a:lnTo>
                  <a:pt x="108" y="1633"/>
                </a:lnTo>
                <a:lnTo>
                  <a:pt x="108" y="1633"/>
                </a:lnTo>
                <a:lnTo>
                  <a:pt x="103" y="1624"/>
                </a:lnTo>
                <a:lnTo>
                  <a:pt x="97" y="1607"/>
                </a:lnTo>
                <a:lnTo>
                  <a:pt x="95" y="1588"/>
                </a:lnTo>
                <a:lnTo>
                  <a:pt x="97" y="1571"/>
                </a:lnTo>
                <a:lnTo>
                  <a:pt x="107" y="1536"/>
                </a:lnTo>
                <a:lnTo>
                  <a:pt x="110" y="1527"/>
                </a:lnTo>
                <a:lnTo>
                  <a:pt x="116" y="1507"/>
                </a:lnTo>
                <a:lnTo>
                  <a:pt x="126" y="1464"/>
                </a:lnTo>
                <a:lnTo>
                  <a:pt x="150" y="1377"/>
                </a:lnTo>
                <a:lnTo>
                  <a:pt x="190" y="1297"/>
                </a:lnTo>
                <a:lnTo>
                  <a:pt x="204" y="1278"/>
                </a:lnTo>
                <a:lnTo>
                  <a:pt x="216" y="1264"/>
                </a:lnTo>
                <a:lnTo>
                  <a:pt x="239" y="1229"/>
                </a:lnTo>
                <a:lnTo>
                  <a:pt x="269" y="1156"/>
                </a:lnTo>
                <a:lnTo>
                  <a:pt x="272" y="1119"/>
                </a:lnTo>
                <a:lnTo>
                  <a:pt x="262" y="1083"/>
                </a:lnTo>
                <a:lnTo>
                  <a:pt x="253" y="1064"/>
                </a:lnTo>
                <a:lnTo>
                  <a:pt x="252" y="1062"/>
                </a:lnTo>
                <a:lnTo>
                  <a:pt x="249" y="1062"/>
                </a:lnTo>
                <a:lnTo>
                  <a:pt x="246" y="1062"/>
                </a:lnTo>
                <a:lnTo>
                  <a:pt x="242" y="1064"/>
                </a:lnTo>
                <a:lnTo>
                  <a:pt x="232" y="1067"/>
                </a:lnTo>
                <a:lnTo>
                  <a:pt x="220" y="1068"/>
                </a:lnTo>
                <a:lnTo>
                  <a:pt x="210" y="1067"/>
                </a:lnTo>
                <a:lnTo>
                  <a:pt x="200" y="1059"/>
                </a:lnTo>
                <a:lnTo>
                  <a:pt x="200" y="1059"/>
                </a:lnTo>
                <a:lnTo>
                  <a:pt x="205" y="1052"/>
                </a:lnTo>
                <a:lnTo>
                  <a:pt x="211" y="1043"/>
                </a:lnTo>
                <a:lnTo>
                  <a:pt x="217" y="1025"/>
                </a:lnTo>
                <a:lnTo>
                  <a:pt x="219" y="1003"/>
                </a:lnTo>
                <a:lnTo>
                  <a:pt x="217" y="981"/>
                </a:lnTo>
                <a:lnTo>
                  <a:pt x="213" y="939"/>
                </a:lnTo>
                <a:lnTo>
                  <a:pt x="213" y="939"/>
                </a:lnTo>
                <a:lnTo>
                  <a:pt x="211" y="933"/>
                </a:lnTo>
                <a:lnTo>
                  <a:pt x="208" y="922"/>
                </a:lnTo>
                <a:lnTo>
                  <a:pt x="201" y="897"/>
                </a:lnTo>
                <a:lnTo>
                  <a:pt x="187" y="874"/>
                </a:lnTo>
                <a:lnTo>
                  <a:pt x="182" y="868"/>
                </a:lnTo>
                <a:lnTo>
                  <a:pt x="176" y="864"/>
                </a:lnTo>
                <a:lnTo>
                  <a:pt x="163" y="855"/>
                </a:lnTo>
                <a:lnTo>
                  <a:pt x="139" y="841"/>
                </a:lnTo>
                <a:lnTo>
                  <a:pt x="127" y="832"/>
                </a:lnTo>
                <a:lnTo>
                  <a:pt x="119" y="822"/>
                </a:lnTo>
                <a:lnTo>
                  <a:pt x="116" y="814"/>
                </a:lnTo>
                <a:lnTo>
                  <a:pt x="111" y="807"/>
                </a:lnTo>
                <a:lnTo>
                  <a:pt x="104" y="790"/>
                </a:lnTo>
                <a:lnTo>
                  <a:pt x="92" y="756"/>
                </a:lnTo>
                <a:lnTo>
                  <a:pt x="91" y="739"/>
                </a:lnTo>
                <a:lnTo>
                  <a:pt x="92" y="723"/>
                </a:lnTo>
                <a:lnTo>
                  <a:pt x="97" y="714"/>
                </a:lnTo>
                <a:lnTo>
                  <a:pt x="100" y="709"/>
                </a:lnTo>
                <a:lnTo>
                  <a:pt x="105" y="704"/>
                </a:lnTo>
                <a:lnTo>
                  <a:pt x="111" y="700"/>
                </a:lnTo>
                <a:lnTo>
                  <a:pt x="124" y="694"/>
                </a:lnTo>
                <a:lnTo>
                  <a:pt x="137" y="688"/>
                </a:lnTo>
                <a:lnTo>
                  <a:pt x="149" y="684"/>
                </a:lnTo>
                <a:lnTo>
                  <a:pt x="156" y="675"/>
                </a:lnTo>
                <a:lnTo>
                  <a:pt x="158" y="670"/>
                </a:lnTo>
                <a:lnTo>
                  <a:pt x="158" y="661"/>
                </a:lnTo>
                <a:lnTo>
                  <a:pt x="159" y="642"/>
                </a:lnTo>
                <a:lnTo>
                  <a:pt x="168" y="609"/>
                </a:lnTo>
                <a:lnTo>
                  <a:pt x="191" y="581"/>
                </a:lnTo>
                <a:lnTo>
                  <a:pt x="200" y="575"/>
                </a:lnTo>
                <a:lnTo>
                  <a:pt x="191" y="578"/>
                </a:lnTo>
                <a:lnTo>
                  <a:pt x="176" y="578"/>
                </a:lnTo>
                <a:lnTo>
                  <a:pt x="163" y="574"/>
                </a:lnTo>
                <a:lnTo>
                  <a:pt x="152" y="568"/>
                </a:lnTo>
                <a:lnTo>
                  <a:pt x="143" y="561"/>
                </a:lnTo>
                <a:lnTo>
                  <a:pt x="137" y="552"/>
                </a:lnTo>
                <a:lnTo>
                  <a:pt x="136" y="546"/>
                </a:lnTo>
                <a:lnTo>
                  <a:pt x="127" y="525"/>
                </a:lnTo>
                <a:lnTo>
                  <a:pt x="107" y="484"/>
                </a:lnTo>
                <a:lnTo>
                  <a:pt x="56" y="407"/>
                </a:lnTo>
                <a:lnTo>
                  <a:pt x="10" y="329"/>
                </a:lnTo>
                <a:lnTo>
                  <a:pt x="3" y="306"/>
                </a:lnTo>
                <a:lnTo>
                  <a:pt x="0" y="297"/>
                </a:lnTo>
                <a:lnTo>
                  <a:pt x="0" y="281"/>
                </a:lnTo>
                <a:lnTo>
                  <a:pt x="4" y="267"/>
                </a:lnTo>
                <a:lnTo>
                  <a:pt x="14" y="254"/>
                </a:lnTo>
                <a:lnTo>
                  <a:pt x="27" y="242"/>
                </a:lnTo>
                <a:lnTo>
                  <a:pt x="42" y="232"/>
                </a:lnTo>
                <a:lnTo>
                  <a:pt x="50" y="226"/>
                </a:lnTo>
                <a:lnTo>
                  <a:pt x="50" y="223"/>
                </a:lnTo>
                <a:lnTo>
                  <a:pt x="50" y="220"/>
                </a:lnTo>
                <a:lnTo>
                  <a:pt x="50" y="216"/>
                </a:lnTo>
                <a:lnTo>
                  <a:pt x="48" y="207"/>
                </a:lnTo>
                <a:lnTo>
                  <a:pt x="48" y="203"/>
                </a:lnTo>
                <a:lnTo>
                  <a:pt x="48" y="196"/>
                </a:lnTo>
                <a:lnTo>
                  <a:pt x="49" y="181"/>
                </a:lnTo>
                <a:lnTo>
                  <a:pt x="58" y="154"/>
                </a:lnTo>
                <a:lnTo>
                  <a:pt x="68" y="126"/>
                </a:lnTo>
                <a:lnTo>
                  <a:pt x="71" y="119"/>
                </a:lnTo>
                <a:lnTo>
                  <a:pt x="74" y="113"/>
                </a:lnTo>
                <a:lnTo>
                  <a:pt x="79" y="107"/>
                </a:lnTo>
                <a:lnTo>
                  <a:pt x="87" y="104"/>
                </a:lnTo>
                <a:lnTo>
                  <a:pt x="95" y="103"/>
                </a:lnTo>
                <a:lnTo>
                  <a:pt x="104" y="103"/>
                </a:lnTo>
                <a:lnTo>
                  <a:pt x="124" y="103"/>
                </a:lnTo>
                <a:lnTo>
                  <a:pt x="169" y="104"/>
                </a:lnTo>
                <a:lnTo>
                  <a:pt x="181" y="102"/>
                </a:lnTo>
                <a:lnTo>
                  <a:pt x="185" y="102"/>
                </a:lnTo>
                <a:lnTo>
                  <a:pt x="188" y="99"/>
                </a:lnTo>
                <a:lnTo>
                  <a:pt x="191" y="96"/>
                </a:lnTo>
                <a:lnTo>
                  <a:pt x="194" y="91"/>
                </a:lnTo>
                <a:lnTo>
                  <a:pt x="194" y="87"/>
                </a:lnTo>
                <a:lnTo>
                  <a:pt x="197" y="77"/>
                </a:lnTo>
                <a:lnTo>
                  <a:pt x="201" y="57"/>
                </a:lnTo>
                <a:lnTo>
                  <a:pt x="204" y="52"/>
                </a:lnTo>
                <a:lnTo>
                  <a:pt x="207" y="49"/>
                </a:lnTo>
                <a:lnTo>
                  <a:pt x="213" y="48"/>
                </a:lnTo>
                <a:lnTo>
                  <a:pt x="219" y="48"/>
                </a:lnTo>
                <a:lnTo>
                  <a:pt x="226" y="49"/>
                </a:lnTo>
                <a:lnTo>
                  <a:pt x="240" y="54"/>
                </a:lnTo>
                <a:lnTo>
                  <a:pt x="256" y="57"/>
                </a:lnTo>
                <a:lnTo>
                  <a:pt x="263" y="57"/>
                </a:lnTo>
                <a:lnTo>
                  <a:pt x="271" y="55"/>
                </a:lnTo>
                <a:lnTo>
                  <a:pt x="276" y="51"/>
                </a:lnTo>
                <a:lnTo>
                  <a:pt x="281" y="44"/>
                </a:lnTo>
                <a:lnTo>
                  <a:pt x="282" y="44"/>
                </a:lnTo>
                <a:lnTo>
                  <a:pt x="282" y="42"/>
                </a:lnTo>
                <a:lnTo>
                  <a:pt x="281" y="39"/>
                </a:lnTo>
                <a:lnTo>
                  <a:pt x="276" y="29"/>
                </a:lnTo>
                <a:lnTo>
                  <a:pt x="271" y="22"/>
                </a:lnTo>
                <a:lnTo>
                  <a:pt x="268" y="15"/>
                </a:lnTo>
                <a:lnTo>
                  <a:pt x="268" y="10"/>
                </a:lnTo>
                <a:lnTo>
                  <a:pt x="271" y="9"/>
                </a:lnTo>
                <a:lnTo>
                  <a:pt x="281" y="6"/>
                </a:lnTo>
                <a:lnTo>
                  <a:pt x="304" y="0"/>
                </a:lnTo>
                <a:lnTo>
                  <a:pt x="352" y="0"/>
                </a:lnTo>
                <a:lnTo>
                  <a:pt x="374" y="6"/>
                </a:lnTo>
                <a:lnTo>
                  <a:pt x="392" y="17"/>
                </a:lnTo>
                <a:lnTo>
                  <a:pt x="401" y="25"/>
                </a:lnTo>
                <a:lnTo>
                  <a:pt x="404" y="31"/>
                </a:lnTo>
                <a:lnTo>
                  <a:pt x="405" y="38"/>
                </a:lnTo>
                <a:lnTo>
                  <a:pt x="407" y="45"/>
                </a:lnTo>
                <a:lnTo>
                  <a:pt x="408" y="61"/>
                </a:lnTo>
                <a:lnTo>
                  <a:pt x="411" y="90"/>
                </a:lnTo>
                <a:lnTo>
                  <a:pt x="426" y="102"/>
                </a:lnTo>
                <a:lnTo>
                  <a:pt x="431" y="104"/>
                </a:lnTo>
                <a:lnTo>
                  <a:pt x="445" y="106"/>
                </a:lnTo>
                <a:lnTo>
                  <a:pt x="473" y="106"/>
                </a:lnTo>
                <a:lnTo>
                  <a:pt x="502" y="107"/>
                </a:lnTo>
                <a:lnTo>
                  <a:pt x="511" y="107"/>
                </a:lnTo>
                <a:lnTo>
                  <a:pt x="510" y="110"/>
                </a:lnTo>
                <a:lnTo>
                  <a:pt x="510" y="113"/>
                </a:lnTo>
                <a:lnTo>
                  <a:pt x="510" y="116"/>
                </a:lnTo>
                <a:lnTo>
                  <a:pt x="511" y="117"/>
                </a:lnTo>
                <a:lnTo>
                  <a:pt x="513" y="120"/>
                </a:lnTo>
                <a:lnTo>
                  <a:pt x="516" y="123"/>
                </a:lnTo>
                <a:lnTo>
                  <a:pt x="518" y="131"/>
                </a:lnTo>
                <a:lnTo>
                  <a:pt x="517" y="132"/>
                </a:lnTo>
                <a:lnTo>
                  <a:pt x="511" y="136"/>
                </a:lnTo>
                <a:lnTo>
                  <a:pt x="508" y="142"/>
                </a:lnTo>
                <a:lnTo>
                  <a:pt x="505" y="146"/>
                </a:lnTo>
                <a:lnTo>
                  <a:pt x="504" y="152"/>
                </a:lnTo>
                <a:lnTo>
                  <a:pt x="504" y="157"/>
                </a:lnTo>
                <a:lnTo>
                  <a:pt x="504" y="162"/>
                </a:lnTo>
                <a:lnTo>
                  <a:pt x="508" y="173"/>
                </a:lnTo>
                <a:lnTo>
                  <a:pt x="516" y="181"/>
                </a:lnTo>
                <a:lnTo>
                  <a:pt x="524" y="187"/>
                </a:lnTo>
                <a:lnTo>
                  <a:pt x="526" y="187"/>
                </a:lnTo>
                <a:lnTo>
                  <a:pt x="527" y="190"/>
                </a:lnTo>
                <a:lnTo>
                  <a:pt x="527" y="191"/>
                </a:lnTo>
                <a:lnTo>
                  <a:pt x="529" y="196"/>
                </a:lnTo>
                <a:lnTo>
                  <a:pt x="529" y="202"/>
                </a:lnTo>
                <a:lnTo>
                  <a:pt x="526" y="209"/>
                </a:lnTo>
                <a:lnTo>
                  <a:pt x="526" y="209"/>
                </a:lnTo>
                <a:lnTo>
                  <a:pt x="523" y="212"/>
                </a:lnTo>
                <a:lnTo>
                  <a:pt x="518" y="216"/>
                </a:lnTo>
                <a:lnTo>
                  <a:pt x="508" y="225"/>
                </a:lnTo>
                <a:lnTo>
                  <a:pt x="495" y="229"/>
                </a:lnTo>
                <a:lnTo>
                  <a:pt x="492" y="229"/>
                </a:lnTo>
                <a:lnTo>
                  <a:pt x="494" y="236"/>
                </a:lnTo>
                <a:lnTo>
                  <a:pt x="495" y="248"/>
                </a:lnTo>
                <a:lnTo>
                  <a:pt x="495" y="258"/>
                </a:lnTo>
                <a:lnTo>
                  <a:pt x="491" y="265"/>
                </a:lnTo>
                <a:lnTo>
                  <a:pt x="485" y="274"/>
                </a:lnTo>
                <a:lnTo>
                  <a:pt x="475" y="283"/>
                </a:lnTo>
                <a:lnTo>
                  <a:pt x="471" y="286"/>
                </a:lnTo>
                <a:lnTo>
                  <a:pt x="466" y="290"/>
                </a:lnTo>
                <a:lnTo>
                  <a:pt x="466" y="293"/>
                </a:lnTo>
                <a:lnTo>
                  <a:pt x="466" y="296"/>
                </a:lnTo>
                <a:lnTo>
                  <a:pt x="468" y="299"/>
                </a:lnTo>
                <a:lnTo>
                  <a:pt x="471" y="303"/>
                </a:lnTo>
                <a:lnTo>
                  <a:pt x="479" y="309"/>
                </a:lnTo>
                <a:lnTo>
                  <a:pt x="488" y="316"/>
                </a:lnTo>
                <a:lnTo>
                  <a:pt x="494" y="322"/>
                </a:lnTo>
                <a:lnTo>
                  <a:pt x="495" y="325"/>
                </a:lnTo>
                <a:lnTo>
                  <a:pt x="494" y="333"/>
                </a:lnTo>
                <a:lnTo>
                  <a:pt x="491" y="342"/>
                </a:lnTo>
                <a:lnTo>
                  <a:pt x="487" y="349"/>
                </a:lnTo>
                <a:lnTo>
                  <a:pt x="475" y="365"/>
                </a:lnTo>
                <a:lnTo>
                  <a:pt x="466" y="378"/>
                </a:lnTo>
                <a:lnTo>
                  <a:pt x="463" y="384"/>
                </a:lnTo>
                <a:lnTo>
                  <a:pt x="463" y="390"/>
                </a:lnTo>
                <a:lnTo>
                  <a:pt x="465" y="393"/>
                </a:lnTo>
                <a:lnTo>
                  <a:pt x="466" y="396"/>
                </a:lnTo>
                <a:lnTo>
                  <a:pt x="469" y="399"/>
                </a:lnTo>
                <a:lnTo>
                  <a:pt x="473" y="401"/>
                </a:lnTo>
                <a:lnTo>
                  <a:pt x="485" y="406"/>
                </a:lnTo>
                <a:lnTo>
                  <a:pt x="487" y="406"/>
                </a:lnTo>
                <a:lnTo>
                  <a:pt x="498" y="409"/>
                </a:lnTo>
                <a:lnTo>
                  <a:pt x="511" y="407"/>
                </a:lnTo>
                <a:lnTo>
                  <a:pt x="523" y="403"/>
                </a:lnTo>
                <a:lnTo>
                  <a:pt x="533" y="397"/>
                </a:lnTo>
                <a:lnTo>
                  <a:pt x="543" y="388"/>
                </a:lnTo>
                <a:lnTo>
                  <a:pt x="562" y="367"/>
                </a:lnTo>
                <a:lnTo>
                  <a:pt x="598" y="329"/>
                </a:lnTo>
                <a:lnTo>
                  <a:pt x="608" y="322"/>
                </a:lnTo>
                <a:lnTo>
                  <a:pt x="614" y="320"/>
                </a:lnTo>
                <a:lnTo>
                  <a:pt x="621" y="320"/>
                </a:lnTo>
                <a:lnTo>
                  <a:pt x="629" y="323"/>
                </a:lnTo>
                <a:lnTo>
                  <a:pt x="637" y="328"/>
                </a:lnTo>
                <a:lnTo>
                  <a:pt x="652" y="338"/>
                </a:lnTo>
                <a:lnTo>
                  <a:pt x="684" y="358"/>
                </a:lnTo>
                <a:lnTo>
                  <a:pt x="701" y="361"/>
                </a:lnTo>
                <a:lnTo>
                  <a:pt x="708" y="361"/>
                </a:lnTo>
                <a:lnTo>
                  <a:pt x="714" y="357"/>
                </a:lnTo>
                <a:lnTo>
                  <a:pt x="721" y="352"/>
                </a:lnTo>
                <a:lnTo>
                  <a:pt x="727" y="346"/>
                </a:lnTo>
                <a:lnTo>
                  <a:pt x="739" y="332"/>
                </a:lnTo>
                <a:lnTo>
                  <a:pt x="766" y="304"/>
                </a:lnTo>
                <a:lnTo>
                  <a:pt x="786" y="297"/>
                </a:lnTo>
                <a:lnTo>
                  <a:pt x="794" y="297"/>
                </a:lnTo>
                <a:lnTo>
                  <a:pt x="811" y="299"/>
                </a:lnTo>
                <a:lnTo>
                  <a:pt x="840" y="303"/>
                </a:lnTo>
                <a:lnTo>
                  <a:pt x="866" y="300"/>
                </a:lnTo>
                <a:lnTo>
                  <a:pt x="873" y="297"/>
                </a:lnTo>
                <a:lnTo>
                  <a:pt x="878" y="309"/>
                </a:lnTo>
                <a:lnTo>
                  <a:pt x="889" y="330"/>
                </a:lnTo>
                <a:lnTo>
                  <a:pt x="917" y="368"/>
                </a:lnTo>
                <a:lnTo>
                  <a:pt x="949" y="403"/>
                </a:lnTo>
                <a:lnTo>
                  <a:pt x="957" y="412"/>
                </a:lnTo>
                <a:lnTo>
                  <a:pt x="959" y="415"/>
                </a:lnTo>
                <a:lnTo>
                  <a:pt x="965" y="420"/>
                </a:lnTo>
                <a:lnTo>
                  <a:pt x="975" y="433"/>
                </a:lnTo>
                <a:lnTo>
                  <a:pt x="976" y="441"/>
                </a:lnTo>
                <a:lnTo>
                  <a:pt x="976" y="449"/>
                </a:lnTo>
                <a:lnTo>
                  <a:pt x="976" y="452"/>
                </a:lnTo>
                <a:lnTo>
                  <a:pt x="973" y="458"/>
                </a:lnTo>
                <a:lnTo>
                  <a:pt x="968" y="468"/>
                </a:lnTo>
                <a:lnTo>
                  <a:pt x="959" y="488"/>
                </a:lnTo>
                <a:lnTo>
                  <a:pt x="959" y="499"/>
                </a:lnTo>
                <a:lnTo>
                  <a:pt x="960" y="509"/>
                </a:lnTo>
                <a:lnTo>
                  <a:pt x="963" y="513"/>
                </a:lnTo>
                <a:lnTo>
                  <a:pt x="976" y="536"/>
                </a:lnTo>
                <a:lnTo>
                  <a:pt x="1005" y="581"/>
                </a:lnTo>
                <a:lnTo>
                  <a:pt x="1053" y="672"/>
                </a:lnTo>
                <a:lnTo>
                  <a:pt x="1063" y="722"/>
                </a:lnTo>
                <a:lnTo>
                  <a:pt x="1062" y="772"/>
                </a:lnTo>
                <a:lnTo>
                  <a:pt x="1054" y="800"/>
                </a:lnTo>
                <a:lnTo>
                  <a:pt x="1053" y="801"/>
                </a:lnTo>
                <a:lnTo>
                  <a:pt x="1047" y="807"/>
                </a:lnTo>
                <a:lnTo>
                  <a:pt x="1026" y="827"/>
                </a:lnTo>
                <a:lnTo>
                  <a:pt x="1008" y="843"/>
                </a:lnTo>
                <a:lnTo>
                  <a:pt x="1008" y="843"/>
                </a:lnTo>
                <a:lnTo>
                  <a:pt x="1005" y="842"/>
                </a:lnTo>
                <a:lnTo>
                  <a:pt x="1002" y="838"/>
                </a:lnTo>
                <a:lnTo>
                  <a:pt x="994" y="829"/>
                </a:lnTo>
                <a:lnTo>
                  <a:pt x="986" y="820"/>
                </a:lnTo>
                <a:lnTo>
                  <a:pt x="985" y="819"/>
                </a:lnTo>
                <a:lnTo>
                  <a:pt x="978" y="817"/>
                </a:lnTo>
                <a:lnTo>
                  <a:pt x="972" y="816"/>
                </a:lnTo>
                <a:lnTo>
                  <a:pt x="966" y="816"/>
                </a:lnTo>
                <a:lnTo>
                  <a:pt x="955" y="819"/>
                </a:lnTo>
                <a:lnTo>
                  <a:pt x="943" y="823"/>
                </a:lnTo>
                <a:lnTo>
                  <a:pt x="920" y="836"/>
                </a:lnTo>
                <a:lnTo>
                  <a:pt x="915" y="838"/>
                </a:lnTo>
                <a:lnTo>
                  <a:pt x="910" y="841"/>
                </a:lnTo>
                <a:lnTo>
                  <a:pt x="898" y="842"/>
                </a:lnTo>
                <a:lnTo>
                  <a:pt x="885" y="841"/>
                </a:lnTo>
                <a:lnTo>
                  <a:pt x="859" y="836"/>
                </a:lnTo>
                <a:lnTo>
                  <a:pt x="839" y="835"/>
                </a:lnTo>
                <a:lnTo>
                  <a:pt x="834" y="835"/>
                </a:lnTo>
                <a:lnTo>
                  <a:pt x="827" y="833"/>
                </a:lnTo>
                <a:lnTo>
                  <a:pt x="820" y="829"/>
                </a:lnTo>
                <a:lnTo>
                  <a:pt x="805" y="825"/>
                </a:lnTo>
                <a:lnTo>
                  <a:pt x="797" y="826"/>
                </a:lnTo>
                <a:lnTo>
                  <a:pt x="791" y="830"/>
                </a:lnTo>
                <a:lnTo>
                  <a:pt x="782" y="835"/>
                </a:lnTo>
                <a:lnTo>
                  <a:pt x="766" y="841"/>
                </a:lnTo>
                <a:lnTo>
                  <a:pt x="749" y="845"/>
                </a:lnTo>
                <a:lnTo>
                  <a:pt x="744" y="845"/>
                </a:lnTo>
                <a:lnTo>
                  <a:pt x="740" y="848"/>
                </a:lnTo>
                <a:lnTo>
                  <a:pt x="737" y="849"/>
                </a:lnTo>
                <a:lnTo>
                  <a:pt x="734" y="852"/>
                </a:lnTo>
                <a:lnTo>
                  <a:pt x="731" y="855"/>
                </a:lnTo>
                <a:lnTo>
                  <a:pt x="728" y="862"/>
                </a:lnTo>
                <a:lnTo>
                  <a:pt x="727" y="871"/>
                </a:lnTo>
                <a:lnTo>
                  <a:pt x="723" y="884"/>
                </a:lnTo>
                <a:lnTo>
                  <a:pt x="723" y="884"/>
                </a:lnTo>
                <a:lnTo>
                  <a:pt x="715" y="893"/>
                </a:lnTo>
                <a:lnTo>
                  <a:pt x="701" y="909"/>
                </a:lnTo>
                <a:lnTo>
                  <a:pt x="668" y="935"/>
                </a:lnTo>
                <a:lnTo>
                  <a:pt x="639" y="965"/>
                </a:lnTo>
                <a:lnTo>
                  <a:pt x="634" y="974"/>
                </a:lnTo>
                <a:lnTo>
                  <a:pt x="633" y="977"/>
                </a:lnTo>
                <a:lnTo>
                  <a:pt x="636" y="980"/>
                </a:lnTo>
                <a:lnTo>
                  <a:pt x="637" y="980"/>
                </a:lnTo>
                <a:lnTo>
                  <a:pt x="640" y="981"/>
                </a:lnTo>
                <a:lnTo>
                  <a:pt x="646" y="983"/>
                </a:lnTo>
                <a:lnTo>
                  <a:pt x="655" y="988"/>
                </a:lnTo>
                <a:lnTo>
                  <a:pt x="656" y="990"/>
                </a:lnTo>
                <a:lnTo>
                  <a:pt x="656" y="994"/>
                </a:lnTo>
                <a:lnTo>
                  <a:pt x="656" y="1000"/>
                </a:lnTo>
                <a:lnTo>
                  <a:pt x="658" y="1012"/>
                </a:lnTo>
                <a:lnTo>
                  <a:pt x="655" y="1017"/>
                </a:lnTo>
                <a:lnTo>
                  <a:pt x="652" y="1023"/>
                </a:lnTo>
                <a:lnTo>
                  <a:pt x="649" y="1025"/>
                </a:lnTo>
                <a:lnTo>
                  <a:pt x="659" y="1048"/>
                </a:lnTo>
                <a:lnTo>
                  <a:pt x="676" y="1084"/>
                </a:lnTo>
                <a:lnTo>
                  <a:pt x="691" y="1139"/>
                </a:lnTo>
                <a:lnTo>
                  <a:pt x="692" y="1185"/>
                </a:lnTo>
                <a:lnTo>
                  <a:pt x="694" y="1197"/>
                </a:lnTo>
                <a:lnTo>
                  <a:pt x="692" y="1197"/>
                </a:lnTo>
                <a:lnTo>
                  <a:pt x="688" y="1197"/>
                </a:lnTo>
                <a:lnTo>
                  <a:pt x="686" y="1197"/>
                </a:lnTo>
                <a:lnTo>
                  <a:pt x="686" y="1197"/>
                </a:lnTo>
                <a:lnTo>
                  <a:pt x="681" y="1198"/>
                </a:lnTo>
                <a:lnTo>
                  <a:pt x="673" y="1198"/>
                </a:lnTo>
                <a:lnTo>
                  <a:pt x="659" y="1201"/>
                </a:lnTo>
                <a:lnTo>
                  <a:pt x="650" y="1206"/>
                </a:lnTo>
                <a:lnTo>
                  <a:pt x="649" y="1207"/>
                </a:lnTo>
                <a:lnTo>
                  <a:pt x="649" y="1203"/>
                </a:lnTo>
                <a:lnTo>
                  <a:pt x="650" y="1191"/>
                </a:lnTo>
                <a:lnTo>
                  <a:pt x="649" y="1180"/>
                </a:lnTo>
                <a:lnTo>
                  <a:pt x="642" y="1161"/>
                </a:lnTo>
                <a:lnTo>
                  <a:pt x="636" y="1149"/>
                </a:lnTo>
                <a:lnTo>
                  <a:pt x="630" y="1143"/>
                </a:lnTo>
                <a:lnTo>
                  <a:pt x="621" y="1129"/>
                </a:lnTo>
                <a:lnTo>
                  <a:pt x="605" y="1098"/>
                </a:lnTo>
                <a:lnTo>
                  <a:pt x="591" y="1068"/>
                </a:lnTo>
                <a:lnTo>
                  <a:pt x="588" y="1059"/>
                </a:lnTo>
                <a:lnTo>
                  <a:pt x="581" y="1065"/>
                </a:lnTo>
                <a:lnTo>
                  <a:pt x="575" y="1068"/>
                </a:lnTo>
                <a:lnTo>
                  <a:pt x="569" y="1069"/>
                </a:lnTo>
                <a:lnTo>
                  <a:pt x="565" y="1069"/>
                </a:lnTo>
                <a:lnTo>
                  <a:pt x="559" y="1068"/>
                </a:lnTo>
                <a:lnTo>
                  <a:pt x="555" y="1065"/>
                </a:lnTo>
                <a:lnTo>
                  <a:pt x="546" y="1058"/>
                </a:lnTo>
                <a:lnTo>
                  <a:pt x="527" y="1042"/>
                </a:lnTo>
                <a:lnTo>
                  <a:pt x="527" y="1042"/>
                </a:lnTo>
                <a:lnTo>
                  <a:pt x="527" y="1045"/>
                </a:lnTo>
                <a:lnTo>
                  <a:pt x="527" y="1049"/>
                </a:lnTo>
                <a:lnTo>
                  <a:pt x="526" y="1052"/>
                </a:lnTo>
                <a:lnTo>
                  <a:pt x="524" y="1055"/>
                </a:lnTo>
                <a:lnTo>
                  <a:pt x="521" y="1058"/>
                </a:lnTo>
                <a:lnTo>
                  <a:pt x="518" y="1058"/>
                </a:lnTo>
                <a:lnTo>
                  <a:pt x="518" y="1058"/>
                </a:lnTo>
                <a:lnTo>
                  <a:pt x="514" y="1059"/>
                </a:lnTo>
                <a:lnTo>
                  <a:pt x="505" y="1059"/>
                </a:lnTo>
                <a:lnTo>
                  <a:pt x="491" y="1064"/>
                </a:lnTo>
                <a:lnTo>
                  <a:pt x="478" y="1072"/>
                </a:lnTo>
                <a:lnTo>
                  <a:pt x="475" y="1074"/>
                </a:lnTo>
                <a:lnTo>
                  <a:pt x="469" y="1077"/>
                </a:lnTo>
                <a:lnTo>
                  <a:pt x="463" y="1078"/>
                </a:lnTo>
                <a:lnTo>
                  <a:pt x="456" y="1080"/>
                </a:lnTo>
                <a:lnTo>
                  <a:pt x="450" y="1078"/>
                </a:lnTo>
                <a:lnTo>
                  <a:pt x="440" y="1074"/>
                </a:lnTo>
                <a:lnTo>
                  <a:pt x="433" y="1067"/>
                </a:lnTo>
                <a:lnTo>
                  <a:pt x="431" y="1062"/>
                </a:lnTo>
                <a:lnTo>
                  <a:pt x="430" y="1056"/>
                </a:lnTo>
                <a:lnTo>
                  <a:pt x="431" y="1051"/>
                </a:lnTo>
                <a:lnTo>
                  <a:pt x="433" y="1043"/>
                </a:lnTo>
                <a:lnTo>
                  <a:pt x="434" y="1043"/>
                </a:lnTo>
                <a:lnTo>
                  <a:pt x="436" y="1039"/>
                </a:lnTo>
                <a:lnTo>
                  <a:pt x="442" y="1029"/>
                </a:lnTo>
                <a:lnTo>
                  <a:pt x="452" y="1004"/>
                </a:lnTo>
                <a:lnTo>
                  <a:pt x="453" y="991"/>
                </a:lnTo>
                <a:lnTo>
                  <a:pt x="452" y="980"/>
                </a:lnTo>
                <a:lnTo>
                  <a:pt x="449" y="972"/>
                </a:lnTo>
                <a:lnTo>
                  <a:pt x="442" y="964"/>
                </a:lnTo>
                <a:lnTo>
                  <a:pt x="429" y="951"/>
                </a:lnTo>
                <a:lnTo>
                  <a:pt x="411" y="941"/>
                </a:lnTo>
                <a:lnTo>
                  <a:pt x="392" y="936"/>
                </a:lnTo>
                <a:lnTo>
                  <a:pt x="374" y="936"/>
                </a:lnTo>
                <a:lnTo>
                  <a:pt x="355" y="939"/>
                </a:lnTo>
                <a:lnTo>
                  <a:pt x="346" y="941"/>
                </a:lnTo>
                <a:lnTo>
                  <a:pt x="343" y="942"/>
                </a:lnTo>
                <a:lnTo>
                  <a:pt x="340" y="945"/>
                </a:lnTo>
                <a:lnTo>
                  <a:pt x="339" y="948"/>
                </a:lnTo>
                <a:lnTo>
                  <a:pt x="337" y="951"/>
                </a:lnTo>
                <a:lnTo>
                  <a:pt x="336" y="958"/>
                </a:lnTo>
                <a:lnTo>
                  <a:pt x="336" y="965"/>
                </a:lnTo>
                <a:lnTo>
                  <a:pt x="336" y="981"/>
                </a:lnTo>
                <a:lnTo>
                  <a:pt x="337" y="981"/>
                </a:lnTo>
                <a:lnTo>
                  <a:pt x="339" y="981"/>
                </a:lnTo>
                <a:lnTo>
                  <a:pt x="343" y="981"/>
                </a:lnTo>
                <a:lnTo>
                  <a:pt x="346" y="983"/>
                </a:lnTo>
                <a:lnTo>
                  <a:pt x="349" y="984"/>
                </a:lnTo>
                <a:lnTo>
                  <a:pt x="352" y="985"/>
                </a:lnTo>
                <a:lnTo>
                  <a:pt x="353" y="988"/>
                </a:lnTo>
                <a:lnTo>
                  <a:pt x="355" y="990"/>
                </a:lnTo>
                <a:lnTo>
                  <a:pt x="355" y="993"/>
                </a:lnTo>
                <a:lnTo>
                  <a:pt x="355" y="997"/>
                </a:lnTo>
                <a:lnTo>
                  <a:pt x="355" y="1006"/>
                </a:lnTo>
                <a:lnTo>
                  <a:pt x="355" y="1014"/>
                </a:lnTo>
                <a:lnTo>
                  <a:pt x="355" y="1016"/>
                </a:lnTo>
                <a:lnTo>
                  <a:pt x="352" y="1014"/>
                </a:lnTo>
                <a:lnTo>
                  <a:pt x="349" y="1014"/>
                </a:lnTo>
                <a:lnTo>
                  <a:pt x="347" y="1014"/>
                </a:lnTo>
                <a:lnTo>
                  <a:pt x="346" y="1016"/>
                </a:lnTo>
                <a:lnTo>
                  <a:pt x="346" y="1017"/>
                </a:lnTo>
                <a:lnTo>
                  <a:pt x="345" y="1020"/>
                </a:lnTo>
                <a:lnTo>
                  <a:pt x="343" y="1025"/>
                </a:lnTo>
                <a:lnTo>
                  <a:pt x="342" y="1027"/>
                </a:lnTo>
                <a:lnTo>
                  <a:pt x="337" y="1025"/>
                </a:lnTo>
                <a:lnTo>
                  <a:pt x="337" y="1025"/>
                </a:lnTo>
                <a:lnTo>
                  <a:pt x="337" y="1032"/>
                </a:lnTo>
                <a:lnTo>
                  <a:pt x="340" y="1045"/>
                </a:lnTo>
                <a:lnTo>
                  <a:pt x="346" y="1069"/>
                </a:lnTo>
                <a:lnTo>
                  <a:pt x="346" y="1096"/>
                </a:lnTo>
                <a:lnTo>
                  <a:pt x="345" y="1101"/>
                </a:lnTo>
                <a:lnTo>
                  <a:pt x="337" y="1122"/>
                </a:lnTo>
                <a:lnTo>
                  <a:pt x="326" y="1159"/>
                </a:lnTo>
                <a:lnTo>
                  <a:pt x="304" y="1232"/>
                </a:lnTo>
                <a:lnTo>
                  <a:pt x="274" y="1304"/>
                </a:lnTo>
                <a:lnTo>
                  <a:pt x="263" y="1322"/>
                </a:lnTo>
                <a:lnTo>
                  <a:pt x="258" y="1330"/>
                </a:lnTo>
                <a:lnTo>
                  <a:pt x="247" y="1349"/>
                </a:lnTo>
                <a:lnTo>
                  <a:pt x="233" y="1388"/>
                </a:lnTo>
                <a:lnTo>
                  <a:pt x="232" y="1409"/>
                </a:lnTo>
                <a:lnTo>
                  <a:pt x="234" y="1429"/>
                </a:lnTo>
                <a:lnTo>
                  <a:pt x="239" y="1438"/>
                </a:lnTo>
                <a:lnTo>
                  <a:pt x="239" y="1442"/>
                </a:lnTo>
                <a:lnTo>
                  <a:pt x="240" y="1451"/>
                </a:lnTo>
                <a:lnTo>
                  <a:pt x="239" y="1459"/>
                </a:lnTo>
                <a:lnTo>
                  <a:pt x="239" y="1474"/>
                </a:lnTo>
                <a:lnTo>
                  <a:pt x="243" y="1481"/>
                </a:lnTo>
                <a:lnTo>
                  <a:pt x="250" y="1490"/>
                </a:lnTo>
                <a:lnTo>
                  <a:pt x="265" y="1504"/>
                </a:lnTo>
                <a:lnTo>
                  <a:pt x="295" y="1530"/>
                </a:lnTo>
                <a:lnTo>
                  <a:pt x="326" y="1558"/>
                </a:lnTo>
                <a:lnTo>
                  <a:pt x="334" y="1564"/>
                </a:lnTo>
                <a:lnTo>
                  <a:pt x="336" y="1566"/>
                </a:lnTo>
                <a:lnTo>
                  <a:pt x="336" y="1568"/>
                </a:lnTo>
                <a:lnTo>
                  <a:pt x="336" y="1569"/>
                </a:lnTo>
                <a:lnTo>
                  <a:pt x="336" y="1572"/>
                </a:lnTo>
                <a:lnTo>
                  <a:pt x="336" y="1577"/>
                </a:lnTo>
                <a:lnTo>
                  <a:pt x="333" y="1585"/>
                </a:lnTo>
                <a:lnTo>
                  <a:pt x="333" y="1587"/>
                </a:lnTo>
                <a:lnTo>
                  <a:pt x="332" y="1595"/>
                </a:lnTo>
                <a:lnTo>
                  <a:pt x="332" y="1604"/>
                </a:lnTo>
                <a:lnTo>
                  <a:pt x="334" y="1611"/>
                </a:lnTo>
                <a:lnTo>
                  <a:pt x="339" y="1617"/>
                </a:lnTo>
                <a:lnTo>
                  <a:pt x="343" y="1623"/>
                </a:lnTo>
                <a:lnTo>
                  <a:pt x="355" y="1635"/>
                </a:lnTo>
                <a:lnTo>
                  <a:pt x="375" y="1659"/>
                </a:lnTo>
                <a:lnTo>
                  <a:pt x="379" y="1665"/>
                </a:lnTo>
                <a:lnTo>
                  <a:pt x="379" y="1671"/>
                </a:lnTo>
                <a:lnTo>
                  <a:pt x="379" y="1682"/>
                </a:lnTo>
                <a:lnTo>
                  <a:pt x="378" y="1695"/>
                </a:lnTo>
                <a:lnTo>
                  <a:pt x="375" y="1719"/>
                </a:lnTo>
                <a:lnTo>
                  <a:pt x="378" y="1732"/>
                </a:lnTo>
                <a:lnTo>
                  <a:pt x="382" y="1743"/>
                </a:lnTo>
                <a:lnTo>
                  <a:pt x="392" y="1766"/>
                </a:lnTo>
                <a:lnTo>
                  <a:pt x="424" y="1807"/>
                </a:lnTo>
                <a:lnTo>
                  <a:pt x="465" y="1839"/>
                </a:lnTo>
                <a:lnTo>
                  <a:pt x="478" y="1845"/>
                </a:lnTo>
                <a:lnTo>
                  <a:pt x="482" y="1848"/>
                </a:lnTo>
                <a:lnTo>
                  <a:pt x="487" y="1848"/>
                </a:lnTo>
                <a:lnTo>
                  <a:pt x="492" y="1848"/>
                </a:lnTo>
                <a:lnTo>
                  <a:pt x="497" y="1846"/>
                </a:lnTo>
                <a:lnTo>
                  <a:pt x="505" y="1840"/>
                </a:lnTo>
                <a:lnTo>
                  <a:pt x="526" y="1830"/>
                </a:lnTo>
                <a:lnTo>
                  <a:pt x="537" y="1829"/>
                </a:lnTo>
                <a:lnTo>
                  <a:pt x="536" y="1836"/>
                </a:lnTo>
                <a:lnTo>
                  <a:pt x="537" y="1842"/>
                </a:lnTo>
                <a:lnTo>
                  <a:pt x="540" y="1846"/>
                </a:lnTo>
                <a:lnTo>
                  <a:pt x="543" y="1850"/>
                </a:lnTo>
                <a:lnTo>
                  <a:pt x="550" y="1859"/>
                </a:lnTo>
                <a:lnTo>
                  <a:pt x="558" y="1868"/>
                </a:lnTo>
                <a:lnTo>
                  <a:pt x="562" y="1878"/>
                </a:lnTo>
                <a:lnTo>
                  <a:pt x="562" y="1890"/>
                </a:lnTo>
                <a:lnTo>
                  <a:pt x="562" y="1890"/>
                </a:lnTo>
                <a:lnTo>
                  <a:pt x="566" y="1890"/>
                </a:lnTo>
                <a:lnTo>
                  <a:pt x="576" y="1890"/>
                </a:lnTo>
                <a:lnTo>
                  <a:pt x="585" y="1891"/>
                </a:lnTo>
                <a:lnTo>
                  <a:pt x="592" y="1897"/>
                </a:lnTo>
                <a:lnTo>
                  <a:pt x="598" y="1903"/>
                </a:lnTo>
                <a:lnTo>
                  <a:pt x="602" y="1911"/>
                </a:lnTo>
                <a:lnTo>
                  <a:pt x="604" y="1916"/>
                </a:lnTo>
                <a:lnTo>
                  <a:pt x="601" y="1921"/>
                </a:lnTo>
                <a:lnTo>
                  <a:pt x="601" y="1924"/>
                </a:lnTo>
                <a:lnTo>
                  <a:pt x="601" y="1924"/>
                </a:lnTo>
                <a:lnTo>
                  <a:pt x="600" y="1924"/>
                </a:lnTo>
                <a:lnTo>
                  <a:pt x="597" y="1924"/>
                </a:lnTo>
                <a:lnTo>
                  <a:pt x="592" y="1924"/>
                </a:lnTo>
                <a:lnTo>
                  <a:pt x="588" y="1924"/>
                </a:lnTo>
                <a:lnTo>
                  <a:pt x="588" y="1924"/>
                </a:lnTo>
                <a:lnTo>
                  <a:pt x="588" y="1932"/>
                </a:lnTo>
                <a:lnTo>
                  <a:pt x="585" y="1945"/>
                </a:lnTo>
                <a:lnTo>
                  <a:pt x="581" y="1953"/>
                </a:lnTo>
                <a:lnTo>
                  <a:pt x="572" y="1959"/>
                </a:lnTo>
                <a:lnTo>
                  <a:pt x="562" y="1964"/>
                </a:lnTo>
                <a:lnTo>
                  <a:pt x="550" y="1966"/>
                </a:lnTo>
                <a:lnTo>
                  <a:pt x="544" y="1966"/>
                </a:lnTo>
                <a:lnTo>
                  <a:pt x="544" y="1965"/>
                </a:lnTo>
                <a:lnTo>
                  <a:pt x="544" y="1962"/>
                </a:lnTo>
                <a:lnTo>
                  <a:pt x="544" y="1959"/>
                </a:lnTo>
                <a:lnTo>
                  <a:pt x="543" y="1956"/>
                </a:lnTo>
                <a:lnTo>
                  <a:pt x="540" y="1955"/>
                </a:lnTo>
                <a:lnTo>
                  <a:pt x="537" y="1953"/>
                </a:lnTo>
                <a:lnTo>
                  <a:pt x="537" y="1952"/>
                </a:lnTo>
                <a:lnTo>
                  <a:pt x="529" y="1952"/>
                </a:lnTo>
                <a:lnTo>
                  <a:pt x="523" y="1953"/>
                </a:lnTo>
                <a:lnTo>
                  <a:pt x="518" y="1956"/>
                </a:lnTo>
                <a:lnTo>
                  <a:pt x="516" y="1961"/>
                </a:lnTo>
                <a:lnTo>
                  <a:pt x="513" y="1966"/>
                </a:lnTo>
                <a:lnTo>
                  <a:pt x="511" y="1972"/>
                </a:lnTo>
                <a:lnTo>
                  <a:pt x="508" y="1984"/>
                </a:lnTo>
                <a:lnTo>
                  <a:pt x="504" y="1991"/>
                </a:lnTo>
                <a:lnTo>
                  <a:pt x="494" y="1991"/>
                </a:lnTo>
                <a:lnTo>
                  <a:pt x="494" y="1991"/>
                </a:lnTo>
                <a:lnTo>
                  <a:pt x="489" y="1991"/>
                </a:lnTo>
                <a:lnTo>
                  <a:pt x="484" y="1988"/>
                </a:lnTo>
                <a:lnTo>
                  <a:pt x="478" y="1984"/>
                </a:lnTo>
                <a:lnTo>
                  <a:pt x="468" y="1974"/>
                </a:lnTo>
                <a:lnTo>
                  <a:pt x="459" y="1966"/>
                </a:lnTo>
                <a:lnTo>
                  <a:pt x="466" y="1952"/>
                </a:lnTo>
                <a:lnTo>
                  <a:pt x="471" y="1937"/>
                </a:lnTo>
                <a:lnTo>
                  <a:pt x="472" y="1924"/>
                </a:lnTo>
                <a:lnTo>
                  <a:pt x="469" y="1913"/>
                </a:lnTo>
                <a:lnTo>
                  <a:pt x="463" y="1903"/>
                </a:lnTo>
                <a:lnTo>
                  <a:pt x="455" y="1894"/>
                </a:lnTo>
                <a:lnTo>
                  <a:pt x="445" y="1887"/>
                </a:lnTo>
                <a:lnTo>
                  <a:pt x="421" y="1874"/>
                </a:lnTo>
                <a:lnTo>
                  <a:pt x="394" y="1864"/>
                </a:lnTo>
                <a:lnTo>
                  <a:pt x="381" y="1858"/>
                </a:lnTo>
                <a:lnTo>
                  <a:pt x="378" y="1858"/>
                </a:lnTo>
                <a:lnTo>
                  <a:pt x="372" y="1856"/>
                </a:lnTo>
                <a:lnTo>
                  <a:pt x="368" y="1858"/>
                </a:lnTo>
                <a:lnTo>
                  <a:pt x="365" y="1859"/>
                </a:lnTo>
                <a:lnTo>
                  <a:pt x="362" y="1862"/>
                </a:lnTo>
                <a:lnTo>
                  <a:pt x="359" y="1865"/>
                </a:lnTo>
                <a:lnTo>
                  <a:pt x="359" y="1866"/>
                </a:lnTo>
                <a:lnTo>
                  <a:pt x="358" y="1868"/>
                </a:lnTo>
                <a:lnTo>
                  <a:pt x="356" y="1874"/>
                </a:lnTo>
                <a:lnTo>
                  <a:pt x="349" y="1891"/>
                </a:lnTo>
                <a:lnTo>
                  <a:pt x="343" y="1904"/>
                </a:lnTo>
                <a:lnTo>
                  <a:pt x="343" y="1904"/>
                </a:lnTo>
                <a:lnTo>
                  <a:pt x="340" y="1904"/>
                </a:lnTo>
                <a:lnTo>
                  <a:pt x="337" y="1906"/>
                </a:lnTo>
                <a:lnTo>
                  <a:pt x="334" y="1907"/>
                </a:lnTo>
                <a:lnTo>
                  <a:pt x="326" y="1911"/>
                </a:lnTo>
                <a:lnTo>
                  <a:pt x="316" y="1917"/>
                </a:lnTo>
                <a:lnTo>
                  <a:pt x="304" y="1919"/>
                </a:lnTo>
                <a:lnTo>
                  <a:pt x="292" y="1916"/>
                </a:lnTo>
                <a:lnTo>
                  <a:pt x="288" y="1911"/>
                </a:lnTo>
                <a:lnTo>
                  <a:pt x="288" y="1911"/>
                </a:lnTo>
                <a:close/>
              </a:path>
            </a:pathLst>
          </a:custGeom>
          <a:noFill/>
          <a:ln w="4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359080" y="4871880"/>
            <a:ext cx="833040" cy="595080"/>
            <a:chOff x="2359080" y="4871880"/>
            <a:chExt cx="833040" cy="595080"/>
          </a:xfrm>
        </p:grpSpPr>
        <p:sp>
          <p:nvSpPr>
            <p:cNvPr id="486" name=""/>
            <p:cNvSpPr/>
            <p:nvPr/>
          </p:nvSpPr>
          <p:spPr>
            <a:xfrm>
              <a:off x="2359080" y="4871880"/>
              <a:ext cx="828720" cy="516240"/>
            </a:xfrm>
            <a:custGeom>
              <a:avLst/>
              <a:gdLst/>
              <a:ahLst/>
              <a:rect l="l" t="t" r="r" b="b"/>
              <a:pathLst>
                <a:path w="2197" h="1744">
                  <a:moveTo>
                    <a:pt x="4" y="889"/>
                  </a:moveTo>
                  <a:lnTo>
                    <a:pt x="3" y="893"/>
                  </a:lnTo>
                  <a:lnTo>
                    <a:pt x="2" y="900"/>
                  </a:lnTo>
                  <a:lnTo>
                    <a:pt x="2" y="906"/>
                  </a:lnTo>
                  <a:lnTo>
                    <a:pt x="2" y="906"/>
                  </a:lnTo>
                  <a:lnTo>
                    <a:pt x="2" y="907"/>
                  </a:lnTo>
                  <a:lnTo>
                    <a:pt x="2" y="909"/>
                  </a:lnTo>
                  <a:lnTo>
                    <a:pt x="3" y="915"/>
                  </a:lnTo>
                  <a:lnTo>
                    <a:pt x="3" y="920"/>
                  </a:lnTo>
                  <a:lnTo>
                    <a:pt x="4" y="920"/>
                  </a:lnTo>
                  <a:lnTo>
                    <a:pt x="6" y="924"/>
                  </a:lnTo>
                  <a:lnTo>
                    <a:pt x="14" y="935"/>
                  </a:lnTo>
                  <a:lnTo>
                    <a:pt x="20" y="943"/>
                  </a:lnTo>
                  <a:lnTo>
                    <a:pt x="21" y="943"/>
                  </a:lnTo>
                  <a:lnTo>
                    <a:pt x="22" y="946"/>
                  </a:lnTo>
                  <a:lnTo>
                    <a:pt x="28" y="955"/>
                  </a:lnTo>
                  <a:lnTo>
                    <a:pt x="33" y="961"/>
                  </a:lnTo>
                  <a:lnTo>
                    <a:pt x="34" y="961"/>
                  </a:lnTo>
                  <a:lnTo>
                    <a:pt x="36" y="966"/>
                  </a:lnTo>
                  <a:lnTo>
                    <a:pt x="37" y="967"/>
                  </a:lnTo>
                  <a:lnTo>
                    <a:pt x="38" y="967"/>
                  </a:lnTo>
                  <a:lnTo>
                    <a:pt x="40" y="971"/>
                  </a:lnTo>
                  <a:lnTo>
                    <a:pt x="41" y="972"/>
                  </a:lnTo>
                  <a:lnTo>
                    <a:pt x="42" y="972"/>
                  </a:lnTo>
                  <a:lnTo>
                    <a:pt x="42" y="973"/>
                  </a:lnTo>
                  <a:lnTo>
                    <a:pt x="42" y="976"/>
                  </a:lnTo>
                  <a:lnTo>
                    <a:pt x="42" y="977"/>
                  </a:lnTo>
                  <a:lnTo>
                    <a:pt x="44" y="977"/>
                  </a:lnTo>
                  <a:lnTo>
                    <a:pt x="45" y="979"/>
                  </a:lnTo>
                  <a:lnTo>
                    <a:pt x="48" y="984"/>
                  </a:lnTo>
                  <a:lnTo>
                    <a:pt x="51" y="988"/>
                  </a:lnTo>
                  <a:lnTo>
                    <a:pt x="52" y="988"/>
                  </a:lnTo>
                  <a:lnTo>
                    <a:pt x="53" y="989"/>
                  </a:lnTo>
                  <a:lnTo>
                    <a:pt x="57" y="992"/>
                  </a:lnTo>
                  <a:lnTo>
                    <a:pt x="59" y="994"/>
                  </a:lnTo>
                  <a:lnTo>
                    <a:pt x="60" y="994"/>
                  </a:lnTo>
                  <a:lnTo>
                    <a:pt x="60" y="995"/>
                  </a:lnTo>
                  <a:lnTo>
                    <a:pt x="60" y="998"/>
                  </a:lnTo>
                  <a:lnTo>
                    <a:pt x="63" y="1005"/>
                  </a:lnTo>
                  <a:lnTo>
                    <a:pt x="64" y="1012"/>
                  </a:lnTo>
                  <a:lnTo>
                    <a:pt x="65" y="1012"/>
                  </a:lnTo>
                  <a:lnTo>
                    <a:pt x="65" y="1014"/>
                  </a:lnTo>
                  <a:lnTo>
                    <a:pt x="64" y="1019"/>
                  </a:lnTo>
                  <a:lnTo>
                    <a:pt x="64" y="1024"/>
                  </a:lnTo>
                  <a:lnTo>
                    <a:pt x="65" y="1024"/>
                  </a:lnTo>
                  <a:lnTo>
                    <a:pt x="64" y="1025"/>
                  </a:lnTo>
                  <a:lnTo>
                    <a:pt x="62" y="1029"/>
                  </a:lnTo>
                  <a:lnTo>
                    <a:pt x="61" y="1033"/>
                  </a:lnTo>
                  <a:lnTo>
                    <a:pt x="61" y="1033"/>
                  </a:lnTo>
                  <a:lnTo>
                    <a:pt x="60" y="1033"/>
                  </a:lnTo>
                  <a:lnTo>
                    <a:pt x="59" y="1033"/>
                  </a:lnTo>
                  <a:lnTo>
                    <a:pt x="56" y="1033"/>
                  </a:lnTo>
                  <a:lnTo>
                    <a:pt x="53" y="1033"/>
                  </a:lnTo>
                  <a:lnTo>
                    <a:pt x="53" y="1033"/>
                  </a:lnTo>
                  <a:lnTo>
                    <a:pt x="51" y="1026"/>
                  </a:lnTo>
                  <a:lnTo>
                    <a:pt x="50" y="1022"/>
                  </a:lnTo>
                  <a:lnTo>
                    <a:pt x="50" y="1021"/>
                  </a:lnTo>
                  <a:lnTo>
                    <a:pt x="49" y="1019"/>
                  </a:lnTo>
                  <a:lnTo>
                    <a:pt x="47" y="1016"/>
                  </a:lnTo>
                  <a:lnTo>
                    <a:pt x="46" y="1014"/>
                  </a:lnTo>
                  <a:lnTo>
                    <a:pt x="46" y="1013"/>
                  </a:lnTo>
                  <a:lnTo>
                    <a:pt x="45" y="1014"/>
                  </a:lnTo>
                  <a:lnTo>
                    <a:pt x="41" y="1018"/>
                  </a:lnTo>
                  <a:lnTo>
                    <a:pt x="40" y="1022"/>
                  </a:lnTo>
                  <a:lnTo>
                    <a:pt x="40" y="1022"/>
                  </a:lnTo>
                  <a:lnTo>
                    <a:pt x="39" y="1021"/>
                  </a:lnTo>
                  <a:lnTo>
                    <a:pt x="37" y="1017"/>
                  </a:lnTo>
                  <a:lnTo>
                    <a:pt x="36" y="1014"/>
                  </a:lnTo>
                  <a:lnTo>
                    <a:pt x="36" y="1013"/>
                  </a:lnTo>
                  <a:lnTo>
                    <a:pt x="35" y="1012"/>
                  </a:lnTo>
                  <a:lnTo>
                    <a:pt x="32" y="1006"/>
                  </a:lnTo>
                  <a:lnTo>
                    <a:pt x="30" y="1002"/>
                  </a:lnTo>
                  <a:lnTo>
                    <a:pt x="30" y="1001"/>
                  </a:lnTo>
                  <a:lnTo>
                    <a:pt x="29" y="1000"/>
                  </a:lnTo>
                  <a:lnTo>
                    <a:pt x="26" y="995"/>
                  </a:lnTo>
                  <a:lnTo>
                    <a:pt x="24" y="992"/>
                  </a:lnTo>
                  <a:lnTo>
                    <a:pt x="24" y="991"/>
                  </a:lnTo>
                  <a:lnTo>
                    <a:pt x="21" y="990"/>
                  </a:lnTo>
                  <a:lnTo>
                    <a:pt x="20" y="989"/>
                  </a:lnTo>
                  <a:lnTo>
                    <a:pt x="20" y="990"/>
                  </a:lnTo>
                  <a:lnTo>
                    <a:pt x="20" y="991"/>
                  </a:lnTo>
                  <a:lnTo>
                    <a:pt x="21" y="995"/>
                  </a:lnTo>
                  <a:lnTo>
                    <a:pt x="21" y="999"/>
                  </a:lnTo>
                  <a:lnTo>
                    <a:pt x="22" y="999"/>
                  </a:lnTo>
                  <a:lnTo>
                    <a:pt x="24" y="1003"/>
                  </a:lnTo>
                  <a:lnTo>
                    <a:pt x="32" y="1016"/>
                  </a:lnTo>
                  <a:lnTo>
                    <a:pt x="37" y="1026"/>
                  </a:lnTo>
                  <a:lnTo>
                    <a:pt x="38" y="1026"/>
                  </a:lnTo>
                  <a:lnTo>
                    <a:pt x="39" y="1027"/>
                  </a:lnTo>
                  <a:lnTo>
                    <a:pt x="44" y="1030"/>
                  </a:lnTo>
                  <a:lnTo>
                    <a:pt x="47" y="1033"/>
                  </a:lnTo>
                  <a:lnTo>
                    <a:pt x="48" y="1033"/>
                  </a:lnTo>
                  <a:lnTo>
                    <a:pt x="48" y="1034"/>
                  </a:lnTo>
                  <a:lnTo>
                    <a:pt x="48" y="1035"/>
                  </a:lnTo>
                  <a:lnTo>
                    <a:pt x="49" y="1039"/>
                  </a:lnTo>
                  <a:lnTo>
                    <a:pt x="50" y="1042"/>
                  </a:lnTo>
                  <a:lnTo>
                    <a:pt x="51" y="1042"/>
                  </a:lnTo>
                  <a:lnTo>
                    <a:pt x="50" y="1043"/>
                  </a:lnTo>
                  <a:lnTo>
                    <a:pt x="48" y="1047"/>
                  </a:lnTo>
                  <a:lnTo>
                    <a:pt x="47" y="1048"/>
                  </a:lnTo>
                  <a:lnTo>
                    <a:pt x="47" y="1048"/>
                  </a:lnTo>
                  <a:lnTo>
                    <a:pt x="46" y="1048"/>
                  </a:lnTo>
                  <a:lnTo>
                    <a:pt x="45" y="1048"/>
                  </a:lnTo>
                  <a:lnTo>
                    <a:pt x="41" y="1048"/>
                  </a:lnTo>
                  <a:lnTo>
                    <a:pt x="39" y="1048"/>
                  </a:lnTo>
                  <a:lnTo>
                    <a:pt x="39" y="1048"/>
                  </a:lnTo>
                  <a:lnTo>
                    <a:pt x="37" y="1045"/>
                  </a:lnTo>
                  <a:lnTo>
                    <a:pt x="36" y="1043"/>
                  </a:lnTo>
                  <a:lnTo>
                    <a:pt x="36" y="1042"/>
                  </a:lnTo>
                  <a:lnTo>
                    <a:pt x="35" y="1043"/>
                  </a:lnTo>
                  <a:lnTo>
                    <a:pt x="34" y="1045"/>
                  </a:lnTo>
                  <a:lnTo>
                    <a:pt x="33" y="1046"/>
                  </a:lnTo>
                  <a:lnTo>
                    <a:pt x="33" y="1046"/>
                  </a:lnTo>
                  <a:lnTo>
                    <a:pt x="30" y="1040"/>
                  </a:lnTo>
                  <a:lnTo>
                    <a:pt x="29" y="1037"/>
                  </a:lnTo>
                  <a:lnTo>
                    <a:pt x="29" y="1036"/>
                  </a:lnTo>
                  <a:lnTo>
                    <a:pt x="26" y="1033"/>
                  </a:lnTo>
                  <a:lnTo>
                    <a:pt x="25" y="1030"/>
                  </a:lnTo>
                  <a:lnTo>
                    <a:pt x="25" y="1029"/>
                  </a:lnTo>
                  <a:lnTo>
                    <a:pt x="24" y="1029"/>
                  </a:lnTo>
                  <a:lnTo>
                    <a:pt x="23" y="1029"/>
                  </a:lnTo>
                  <a:lnTo>
                    <a:pt x="22" y="1029"/>
                  </a:lnTo>
                  <a:lnTo>
                    <a:pt x="22" y="1028"/>
                  </a:lnTo>
                  <a:lnTo>
                    <a:pt x="21" y="1028"/>
                  </a:lnTo>
                  <a:lnTo>
                    <a:pt x="18" y="1028"/>
                  </a:lnTo>
                  <a:lnTo>
                    <a:pt x="17" y="1028"/>
                  </a:lnTo>
                  <a:lnTo>
                    <a:pt x="17" y="1028"/>
                  </a:lnTo>
                  <a:lnTo>
                    <a:pt x="15" y="1026"/>
                  </a:lnTo>
                  <a:lnTo>
                    <a:pt x="14" y="1025"/>
                  </a:lnTo>
                  <a:lnTo>
                    <a:pt x="14" y="1024"/>
                  </a:lnTo>
                  <a:lnTo>
                    <a:pt x="14" y="1025"/>
                  </a:lnTo>
                  <a:lnTo>
                    <a:pt x="13" y="1028"/>
                  </a:lnTo>
                  <a:lnTo>
                    <a:pt x="13" y="1029"/>
                  </a:lnTo>
                  <a:lnTo>
                    <a:pt x="14" y="1029"/>
                  </a:lnTo>
                  <a:lnTo>
                    <a:pt x="15" y="1031"/>
                  </a:lnTo>
                  <a:lnTo>
                    <a:pt x="16" y="1033"/>
                  </a:lnTo>
                  <a:lnTo>
                    <a:pt x="17" y="1037"/>
                  </a:lnTo>
                  <a:lnTo>
                    <a:pt x="18" y="1038"/>
                  </a:lnTo>
                  <a:lnTo>
                    <a:pt x="20" y="1038"/>
                  </a:lnTo>
                  <a:lnTo>
                    <a:pt x="23" y="1041"/>
                  </a:lnTo>
                  <a:lnTo>
                    <a:pt x="25" y="1042"/>
                  </a:lnTo>
                  <a:lnTo>
                    <a:pt x="26" y="1042"/>
                  </a:lnTo>
                  <a:lnTo>
                    <a:pt x="28" y="1048"/>
                  </a:lnTo>
                  <a:lnTo>
                    <a:pt x="29" y="1050"/>
                  </a:lnTo>
                  <a:lnTo>
                    <a:pt x="30" y="1050"/>
                  </a:lnTo>
                  <a:lnTo>
                    <a:pt x="32" y="1052"/>
                  </a:lnTo>
                  <a:lnTo>
                    <a:pt x="35" y="1056"/>
                  </a:lnTo>
                  <a:lnTo>
                    <a:pt x="37" y="1058"/>
                  </a:lnTo>
                  <a:lnTo>
                    <a:pt x="38" y="1058"/>
                  </a:lnTo>
                  <a:lnTo>
                    <a:pt x="39" y="1060"/>
                  </a:lnTo>
                  <a:lnTo>
                    <a:pt x="44" y="1064"/>
                  </a:lnTo>
                  <a:lnTo>
                    <a:pt x="47" y="1068"/>
                  </a:lnTo>
                  <a:lnTo>
                    <a:pt x="48" y="1068"/>
                  </a:lnTo>
                  <a:lnTo>
                    <a:pt x="50" y="1069"/>
                  </a:lnTo>
                  <a:lnTo>
                    <a:pt x="57" y="1072"/>
                  </a:lnTo>
                  <a:lnTo>
                    <a:pt x="61" y="1073"/>
                  </a:lnTo>
                  <a:lnTo>
                    <a:pt x="62" y="1073"/>
                  </a:lnTo>
                  <a:lnTo>
                    <a:pt x="62" y="1074"/>
                  </a:lnTo>
                  <a:lnTo>
                    <a:pt x="63" y="1076"/>
                  </a:lnTo>
                  <a:lnTo>
                    <a:pt x="67" y="1085"/>
                  </a:lnTo>
                  <a:lnTo>
                    <a:pt x="69" y="1092"/>
                  </a:lnTo>
                  <a:lnTo>
                    <a:pt x="70" y="1092"/>
                  </a:lnTo>
                  <a:lnTo>
                    <a:pt x="71" y="1095"/>
                  </a:lnTo>
                  <a:lnTo>
                    <a:pt x="75" y="1101"/>
                  </a:lnTo>
                  <a:lnTo>
                    <a:pt x="79" y="1106"/>
                  </a:lnTo>
                  <a:lnTo>
                    <a:pt x="80" y="1106"/>
                  </a:lnTo>
                  <a:lnTo>
                    <a:pt x="80" y="1107"/>
                  </a:lnTo>
                  <a:lnTo>
                    <a:pt x="80" y="1109"/>
                  </a:lnTo>
                  <a:lnTo>
                    <a:pt x="83" y="1119"/>
                  </a:lnTo>
                  <a:lnTo>
                    <a:pt x="84" y="1127"/>
                  </a:lnTo>
                  <a:lnTo>
                    <a:pt x="85" y="1127"/>
                  </a:lnTo>
                  <a:lnTo>
                    <a:pt x="87" y="1130"/>
                  </a:lnTo>
                  <a:lnTo>
                    <a:pt x="94" y="1140"/>
                  </a:lnTo>
                  <a:lnTo>
                    <a:pt x="98" y="1146"/>
                  </a:lnTo>
                  <a:lnTo>
                    <a:pt x="99" y="1146"/>
                  </a:lnTo>
                  <a:lnTo>
                    <a:pt x="100" y="1149"/>
                  </a:lnTo>
                  <a:lnTo>
                    <a:pt x="106" y="1154"/>
                  </a:lnTo>
                  <a:lnTo>
                    <a:pt x="110" y="1158"/>
                  </a:lnTo>
                  <a:lnTo>
                    <a:pt x="111" y="1158"/>
                  </a:lnTo>
                  <a:lnTo>
                    <a:pt x="111" y="1159"/>
                  </a:lnTo>
                  <a:lnTo>
                    <a:pt x="111" y="1162"/>
                  </a:lnTo>
                  <a:lnTo>
                    <a:pt x="114" y="1168"/>
                  </a:lnTo>
                  <a:lnTo>
                    <a:pt x="115" y="1173"/>
                  </a:lnTo>
                  <a:lnTo>
                    <a:pt x="116" y="1173"/>
                  </a:lnTo>
                  <a:lnTo>
                    <a:pt x="117" y="1175"/>
                  </a:lnTo>
                  <a:lnTo>
                    <a:pt x="122" y="1180"/>
                  </a:lnTo>
                  <a:lnTo>
                    <a:pt x="126" y="1184"/>
                  </a:lnTo>
                  <a:lnTo>
                    <a:pt x="127" y="1184"/>
                  </a:lnTo>
                  <a:lnTo>
                    <a:pt x="130" y="1189"/>
                  </a:lnTo>
                  <a:lnTo>
                    <a:pt x="132" y="1191"/>
                  </a:lnTo>
                  <a:lnTo>
                    <a:pt x="133" y="1191"/>
                  </a:lnTo>
                  <a:lnTo>
                    <a:pt x="135" y="1196"/>
                  </a:lnTo>
                  <a:lnTo>
                    <a:pt x="136" y="1197"/>
                  </a:lnTo>
                  <a:lnTo>
                    <a:pt x="138" y="1197"/>
                  </a:lnTo>
                  <a:lnTo>
                    <a:pt x="138" y="1198"/>
                  </a:lnTo>
                  <a:lnTo>
                    <a:pt x="138" y="1199"/>
                  </a:lnTo>
                  <a:lnTo>
                    <a:pt x="140" y="1204"/>
                  </a:lnTo>
                  <a:lnTo>
                    <a:pt x="141" y="1208"/>
                  </a:lnTo>
                  <a:lnTo>
                    <a:pt x="142" y="1208"/>
                  </a:lnTo>
                  <a:lnTo>
                    <a:pt x="142" y="1209"/>
                  </a:lnTo>
                  <a:lnTo>
                    <a:pt x="142" y="1213"/>
                  </a:lnTo>
                  <a:lnTo>
                    <a:pt x="145" y="1227"/>
                  </a:lnTo>
                  <a:lnTo>
                    <a:pt x="146" y="1238"/>
                  </a:lnTo>
                  <a:lnTo>
                    <a:pt x="147" y="1238"/>
                  </a:lnTo>
                  <a:lnTo>
                    <a:pt x="147" y="1239"/>
                  </a:lnTo>
                  <a:lnTo>
                    <a:pt x="149" y="1243"/>
                  </a:lnTo>
                  <a:lnTo>
                    <a:pt x="152" y="1254"/>
                  </a:lnTo>
                  <a:lnTo>
                    <a:pt x="154" y="1262"/>
                  </a:lnTo>
                  <a:lnTo>
                    <a:pt x="155" y="1262"/>
                  </a:lnTo>
                  <a:lnTo>
                    <a:pt x="156" y="1266"/>
                  </a:lnTo>
                  <a:lnTo>
                    <a:pt x="161" y="1272"/>
                  </a:lnTo>
                  <a:lnTo>
                    <a:pt x="164" y="1278"/>
                  </a:lnTo>
                  <a:lnTo>
                    <a:pt x="165" y="1278"/>
                  </a:lnTo>
                  <a:lnTo>
                    <a:pt x="166" y="1280"/>
                  </a:lnTo>
                  <a:lnTo>
                    <a:pt x="169" y="1284"/>
                  </a:lnTo>
                  <a:lnTo>
                    <a:pt x="171" y="1287"/>
                  </a:lnTo>
                  <a:lnTo>
                    <a:pt x="173" y="1287"/>
                  </a:lnTo>
                  <a:lnTo>
                    <a:pt x="176" y="1292"/>
                  </a:lnTo>
                  <a:lnTo>
                    <a:pt x="178" y="1293"/>
                  </a:lnTo>
                  <a:lnTo>
                    <a:pt x="179" y="1293"/>
                  </a:lnTo>
                  <a:lnTo>
                    <a:pt x="181" y="1299"/>
                  </a:lnTo>
                  <a:lnTo>
                    <a:pt x="182" y="1303"/>
                  </a:lnTo>
                  <a:lnTo>
                    <a:pt x="184" y="1303"/>
                  </a:lnTo>
                  <a:lnTo>
                    <a:pt x="185" y="1305"/>
                  </a:lnTo>
                  <a:lnTo>
                    <a:pt x="188" y="1311"/>
                  </a:lnTo>
                  <a:lnTo>
                    <a:pt x="190" y="1316"/>
                  </a:lnTo>
                  <a:lnTo>
                    <a:pt x="191" y="1316"/>
                  </a:lnTo>
                  <a:lnTo>
                    <a:pt x="193" y="1319"/>
                  </a:lnTo>
                  <a:lnTo>
                    <a:pt x="200" y="1329"/>
                  </a:lnTo>
                  <a:lnTo>
                    <a:pt x="204" y="1337"/>
                  </a:lnTo>
                  <a:lnTo>
                    <a:pt x="205" y="1337"/>
                  </a:lnTo>
                  <a:lnTo>
                    <a:pt x="205" y="1338"/>
                  </a:lnTo>
                  <a:lnTo>
                    <a:pt x="205" y="1339"/>
                  </a:lnTo>
                  <a:lnTo>
                    <a:pt x="208" y="1345"/>
                  </a:lnTo>
                  <a:lnTo>
                    <a:pt x="209" y="1350"/>
                  </a:lnTo>
                  <a:lnTo>
                    <a:pt x="210" y="1350"/>
                  </a:lnTo>
                  <a:lnTo>
                    <a:pt x="210" y="1351"/>
                  </a:lnTo>
                  <a:lnTo>
                    <a:pt x="210" y="1353"/>
                  </a:lnTo>
                  <a:lnTo>
                    <a:pt x="210" y="1361"/>
                  </a:lnTo>
                  <a:lnTo>
                    <a:pt x="210" y="1366"/>
                  </a:lnTo>
                  <a:lnTo>
                    <a:pt x="211" y="1366"/>
                  </a:lnTo>
                  <a:lnTo>
                    <a:pt x="211" y="1367"/>
                  </a:lnTo>
                  <a:lnTo>
                    <a:pt x="211" y="1368"/>
                  </a:lnTo>
                  <a:lnTo>
                    <a:pt x="211" y="1372"/>
                  </a:lnTo>
                  <a:lnTo>
                    <a:pt x="211" y="1375"/>
                  </a:lnTo>
                  <a:lnTo>
                    <a:pt x="212" y="1375"/>
                  </a:lnTo>
                  <a:lnTo>
                    <a:pt x="212" y="1376"/>
                  </a:lnTo>
                  <a:lnTo>
                    <a:pt x="212" y="1377"/>
                  </a:lnTo>
                  <a:lnTo>
                    <a:pt x="213" y="1382"/>
                  </a:lnTo>
                  <a:lnTo>
                    <a:pt x="214" y="1385"/>
                  </a:lnTo>
                  <a:lnTo>
                    <a:pt x="215" y="1385"/>
                  </a:lnTo>
                  <a:lnTo>
                    <a:pt x="215" y="1387"/>
                  </a:lnTo>
                  <a:lnTo>
                    <a:pt x="214" y="1392"/>
                  </a:lnTo>
                  <a:lnTo>
                    <a:pt x="214" y="1396"/>
                  </a:lnTo>
                  <a:lnTo>
                    <a:pt x="215" y="1396"/>
                  </a:lnTo>
                  <a:lnTo>
                    <a:pt x="213" y="1394"/>
                  </a:lnTo>
                  <a:lnTo>
                    <a:pt x="212" y="1392"/>
                  </a:lnTo>
                  <a:lnTo>
                    <a:pt x="212" y="1391"/>
                  </a:lnTo>
                  <a:lnTo>
                    <a:pt x="212" y="1392"/>
                  </a:lnTo>
                  <a:lnTo>
                    <a:pt x="212" y="1394"/>
                  </a:lnTo>
                  <a:lnTo>
                    <a:pt x="213" y="1399"/>
                  </a:lnTo>
                  <a:lnTo>
                    <a:pt x="213" y="1403"/>
                  </a:lnTo>
                  <a:lnTo>
                    <a:pt x="214" y="1403"/>
                  </a:lnTo>
                  <a:lnTo>
                    <a:pt x="217" y="1411"/>
                  </a:lnTo>
                  <a:lnTo>
                    <a:pt x="218" y="1415"/>
                  </a:lnTo>
                  <a:lnTo>
                    <a:pt x="220" y="1415"/>
                  </a:lnTo>
                  <a:lnTo>
                    <a:pt x="220" y="1417"/>
                  </a:lnTo>
                  <a:lnTo>
                    <a:pt x="220" y="1418"/>
                  </a:lnTo>
                  <a:lnTo>
                    <a:pt x="221" y="1421"/>
                  </a:lnTo>
                  <a:lnTo>
                    <a:pt x="221" y="1424"/>
                  </a:lnTo>
                  <a:lnTo>
                    <a:pt x="222" y="1424"/>
                  </a:lnTo>
                  <a:lnTo>
                    <a:pt x="221" y="1426"/>
                  </a:lnTo>
                  <a:lnTo>
                    <a:pt x="220" y="1433"/>
                  </a:lnTo>
                  <a:lnTo>
                    <a:pt x="218" y="1437"/>
                  </a:lnTo>
                  <a:lnTo>
                    <a:pt x="218" y="1437"/>
                  </a:lnTo>
                  <a:lnTo>
                    <a:pt x="217" y="1441"/>
                  </a:lnTo>
                  <a:lnTo>
                    <a:pt x="214" y="1448"/>
                  </a:lnTo>
                  <a:lnTo>
                    <a:pt x="212" y="1455"/>
                  </a:lnTo>
                  <a:lnTo>
                    <a:pt x="212" y="1455"/>
                  </a:lnTo>
                  <a:lnTo>
                    <a:pt x="210" y="1456"/>
                  </a:lnTo>
                  <a:lnTo>
                    <a:pt x="206" y="1457"/>
                  </a:lnTo>
                  <a:lnTo>
                    <a:pt x="203" y="1457"/>
                  </a:lnTo>
                  <a:lnTo>
                    <a:pt x="203" y="1457"/>
                  </a:lnTo>
                  <a:lnTo>
                    <a:pt x="202" y="1457"/>
                  </a:lnTo>
                  <a:lnTo>
                    <a:pt x="201" y="1457"/>
                  </a:lnTo>
                  <a:lnTo>
                    <a:pt x="198" y="1457"/>
                  </a:lnTo>
                  <a:lnTo>
                    <a:pt x="196" y="1457"/>
                  </a:lnTo>
                  <a:lnTo>
                    <a:pt x="196" y="1456"/>
                  </a:lnTo>
                  <a:lnTo>
                    <a:pt x="194" y="1455"/>
                  </a:lnTo>
                  <a:lnTo>
                    <a:pt x="193" y="1455"/>
                  </a:lnTo>
                  <a:lnTo>
                    <a:pt x="193" y="1455"/>
                  </a:lnTo>
                  <a:lnTo>
                    <a:pt x="193" y="1456"/>
                  </a:lnTo>
                  <a:lnTo>
                    <a:pt x="193" y="1457"/>
                  </a:lnTo>
                  <a:lnTo>
                    <a:pt x="194" y="1462"/>
                  </a:lnTo>
                  <a:lnTo>
                    <a:pt x="194" y="1467"/>
                  </a:lnTo>
                  <a:lnTo>
                    <a:pt x="196" y="1467"/>
                  </a:lnTo>
                  <a:lnTo>
                    <a:pt x="196" y="1468"/>
                  </a:lnTo>
                  <a:lnTo>
                    <a:pt x="196" y="1471"/>
                  </a:lnTo>
                  <a:lnTo>
                    <a:pt x="199" y="1484"/>
                  </a:lnTo>
                  <a:lnTo>
                    <a:pt x="201" y="1494"/>
                  </a:lnTo>
                  <a:lnTo>
                    <a:pt x="202" y="1494"/>
                  </a:lnTo>
                  <a:lnTo>
                    <a:pt x="203" y="1494"/>
                  </a:lnTo>
                  <a:lnTo>
                    <a:pt x="209" y="1494"/>
                  </a:lnTo>
                  <a:lnTo>
                    <a:pt x="213" y="1494"/>
                  </a:lnTo>
                  <a:lnTo>
                    <a:pt x="214" y="1494"/>
                  </a:lnTo>
                  <a:lnTo>
                    <a:pt x="220" y="1496"/>
                  </a:lnTo>
                  <a:lnTo>
                    <a:pt x="223" y="1497"/>
                  </a:lnTo>
                  <a:lnTo>
                    <a:pt x="224" y="1497"/>
                  </a:lnTo>
                  <a:lnTo>
                    <a:pt x="225" y="1499"/>
                  </a:lnTo>
                  <a:lnTo>
                    <a:pt x="231" y="1502"/>
                  </a:lnTo>
                  <a:lnTo>
                    <a:pt x="234" y="1504"/>
                  </a:lnTo>
                  <a:lnTo>
                    <a:pt x="235" y="1504"/>
                  </a:lnTo>
                  <a:lnTo>
                    <a:pt x="236" y="1506"/>
                  </a:lnTo>
                  <a:lnTo>
                    <a:pt x="239" y="1509"/>
                  </a:lnTo>
                  <a:lnTo>
                    <a:pt x="243" y="1512"/>
                  </a:lnTo>
                  <a:lnTo>
                    <a:pt x="244" y="1512"/>
                  </a:lnTo>
                  <a:lnTo>
                    <a:pt x="246" y="1514"/>
                  </a:lnTo>
                  <a:lnTo>
                    <a:pt x="253" y="1519"/>
                  </a:lnTo>
                  <a:lnTo>
                    <a:pt x="259" y="1523"/>
                  </a:lnTo>
                  <a:lnTo>
                    <a:pt x="260" y="1523"/>
                  </a:lnTo>
                  <a:lnTo>
                    <a:pt x="261" y="1523"/>
                  </a:lnTo>
                  <a:lnTo>
                    <a:pt x="264" y="1523"/>
                  </a:lnTo>
                  <a:lnTo>
                    <a:pt x="268" y="1523"/>
                  </a:lnTo>
                  <a:lnTo>
                    <a:pt x="269" y="1522"/>
                  </a:lnTo>
                  <a:lnTo>
                    <a:pt x="270" y="1523"/>
                  </a:lnTo>
                  <a:lnTo>
                    <a:pt x="273" y="1524"/>
                  </a:lnTo>
                  <a:lnTo>
                    <a:pt x="275" y="1525"/>
                  </a:lnTo>
                  <a:lnTo>
                    <a:pt x="276" y="1525"/>
                  </a:lnTo>
                  <a:lnTo>
                    <a:pt x="278" y="1525"/>
                  </a:lnTo>
                  <a:lnTo>
                    <a:pt x="279" y="1525"/>
                  </a:lnTo>
                  <a:lnTo>
                    <a:pt x="281" y="1527"/>
                  </a:lnTo>
                  <a:lnTo>
                    <a:pt x="282" y="1527"/>
                  </a:lnTo>
                  <a:lnTo>
                    <a:pt x="284" y="1529"/>
                  </a:lnTo>
                  <a:lnTo>
                    <a:pt x="285" y="1529"/>
                  </a:lnTo>
                  <a:lnTo>
                    <a:pt x="287" y="1530"/>
                  </a:lnTo>
                  <a:lnTo>
                    <a:pt x="294" y="1530"/>
                  </a:lnTo>
                  <a:lnTo>
                    <a:pt x="298" y="1530"/>
                  </a:lnTo>
                  <a:lnTo>
                    <a:pt x="299" y="1530"/>
                  </a:lnTo>
                  <a:lnTo>
                    <a:pt x="300" y="1530"/>
                  </a:lnTo>
                  <a:lnTo>
                    <a:pt x="307" y="1529"/>
                  </a:lnTo>
                  <a:lnTo>
                    <a:pt x="311" y="1529"/>
                  </a:lnTo>
                  <a:lnTo>
                    <a:pt x="313" y="1528"/>
                  </a:lnTo>
                  <a:lnTo>
                    <a:pt x="314" y="1528"/>
                  </a:lnTo>
                  <a:lnTo>
                    <a:pt x="319" y="1527"/>
                  </a:lnTo>
                  <a:lnTo>
                    <a:pt x="323" y="1526"/>
                  </a:lnTo>
                  <a:lnTo>
                    <a:pt x="325" y="1525"/>
                  </a:lnTo>
                  <a:lnTo>
                    <a:pt x="327" y="1525"/>
                  </a:lnTo>
                  <a:lnTo>
                    <a:pt x="328" y="1525"/>
                  </a:lnTo>
                  <a:lnTo>
                    <a:pt x="329" y="1525"/>
                  </a:lnTo>
                  <a:lnTo>
                    <a:pt x="330" y="1526"/>
                  </a:lnTo>
                  <a:lnTo>
                    <a:pt x="333" y="1529"/>
                  </a:lnTo>
                  <a:lnTo>
                    <a:pt x="335" y="1530"/>
                  </a:lnTo>
                  <a:lnTo>
                    <a:pt x="337" y="1530"/>
                  </a:lnTo>
                  <a:lnTo>
                    <a:pt x="340" y="1528"/>
                  </a:lnTo>
                  <a:lnTo>
                    <a:pt x="342" y="1527"/>
                  </a:lnTo>
                  <a:lnTo>
                    <a:pt x="343" y="1526"/>
                  </a:lnTo>
                  <a:lnTo>
                    <a:pt x="346" y="1528"/>
                  </a:lnTo>
                  <a:lnTo>
                    <a:pt x="349" y="1528"/>
                  </a:lnTo>
                  <a:lnTo>
                    <a:pt x="350" y="1528"/>
                  </a:lnTo>
                  <a:lnTo>
                    <a:pt x="350" y="1527"/>
                  </a:lnTo>
                  <a:lnTo>
                    <a:pt x="349" y="1523"/>
                  </a:lnTo>
                  <a:lnTo>
                    <a:pt x="349" y="1519"/>
                  </a:lnTo>
                  <a:lnTo>
                    <a:pt x="350" y="1518"/>
                  </a:lnTo>
                  <a:lnTo>
                    <a:pt x="355" y="1520"/>
                  </a:lnTo>
                  <a:lnTo>
                    <a:pt x="358" y="1522"/>
                  </a:lnTo>
                  <a:lnTo>
                    <a:pt x="360" y="1522"/>
                  </a:lnTo>
                  <a:lnTo>
                    <a:pt x="363" y="1519"/>
                  </a:lnTo>
                  <a:lnTo>
                    <a:pt x="365" y="1518"/>
                  </a:lnTo>
                  <a:lnTo>
                    <a:pt x="366" y="1517"/>
                  </a:lnTo>
                  <a:lnTo>
                    <a:pt x="369" y="1514"/>
                  </a:lnTo>
                  <a:lnTo>
                    <a:pt x="372" y="1513"/>
                  </a:lnTo>
                  <a:lnTo>
                    <a:pt x="373" y="1512"/>
                  </a:lnTo>
                  <a:lnTo>
                    <a:pt x="374" y="1508"/>
                  </a:lnTo>
                  <a:lnTo>
                    <a:pt x="375" y="1506"/>
                  </a:lnTo>
                  <a:lnTo>
                    <a:pt x="376" y="1505"/>
                  </a:lnTo>
                  <a:lnTo>
                    <a:pt x="379" y="1499"/>
                  </a:lnTo>
                  <a:lnTo>
                    <a:pt x="381" y="1495"/>
                  </a:lnTo>
                  <a:lnTo>
                    <a:pt x="382" y="1494"/>
                  </a:lnTo>
                  <a:lnTo>
                    <a:pt x="387" y="1491"/>
                  </a:lnTo>
                  <a:lnTo>
                    <a:pt x="389" y="1490"/>
                  </a:lnTo>
                  <a:lnTo>
                    <a:pt x="390" y="1489"/>
                  </a:lnTo>
                  <a:lnTo>
                    <a:pt x="392" y="1485"/>
                  </a:lnTo>
                  <a:lnTo>
                    <a:pt x="393" y="1484"/>
                  </a:lnTo>
                  <a:lnTo>
                    <a:pt x="394" y="1483"/>
                  </a:lnTo>
                  <a:lnTo>
                    <a:pt x="397" y="1483"/>
                  </a:lnTo>
                  <a:lnTo>
                    <a:pt x="403" y="1482"/>
                  </a:lnTo>
                  <a:lnTo>
                    <a:pt x="409" y="1482"/>
                  </a:lnTo>
                  <a:lnTo>
                    <a:pt x="410" y="1481"/>
                  </a:lnTo>
                  <a:lnTo>
                    <a:pt x="415" y="1479"/>
                  </a:lnTo>
                  <a:lnTo>
                    <a:pt x="419" y="1478"/>
                  </a:lnTo>
                  <a:lnTo>
                    <a:pt x="420" y="1477"/>
                  </a:lnTo>
                  <a:lnTo>
                    <a:pt x="422" y="1473"/>
                  </a:lnTo>
                  <a:lnTo>
                    <a:pt x="423" y="1471"/>
                  </a:lnTo>
                  <a:lnTo>
                    <a:pt x="424" y="1470"/>
                  </a:lnTo>
                  <a:lnTo>
                    <a:pt x="426" y="1469"/>
                  </a:lnTo>
                  <a:lnTo>
                    <a:pt x="424" y="1467"/>
                  </a:lnTo>
                  <a:lnTo>
                    <a:pt x="424" y="1465"/>
                  </a:lnTo>
                  <a:lnTo>
                    <a:pt x="425" y="1460"/>
                  </a:lnTo>
                  <a:lnTo>
                    <a:pt x="426" y="1458"/>
                  </a:lnTo>
                  <a:lnTo>
                    <a:pt x="427" y="1457"/>
                  </a:lnTo>
                  <a:lnTo>
                    <a:pt x="428" y="1456"/>
                  </a:lnTo>
                  <a:lnTo>
                    <a:pt x="432" y="1453"/>
                  </a:lnTo>
                  <a:lnTo>
                    <a:pt x="434" y="1450"/>
                  </a:lnTo>
                  <a:lnTo>
                    <a:pt x="435" y="1449"/>
                  </a:lnTo>
                  <a:lnTo>
                    <a:pt x="440" y="1446"/>
                  </a:lnTo>
                  <a:lnTo>
                    <a:pt x="444" y="1445"/>
                  </a:lnTo>
                  <a:lnTo>
                    <a:pt x="445" y="1444"/>
                  </a:lnTo>
                  <a:lnTo>
                    <a:pt x="448" y="1444"/>
                  </a:lnTo>
                  <a:lnTo>
                    <a:pt x="460" y="1443"/>
                  </a:lnTo>
                  <a:lnTo>
                    <a:pt x="469" y="1443"/>
                  </a:lnTo>
                  <a:lnTo>
                    <a:pt x="470" y="1442"/>
                  </a:lnTo>
                  <a:lnTo>
                    <a:pt x="472" y="1442"/>
                  </a:lnTo>
                  <a:lnTo>
                    <a:pt x="479" y="1442"/>
                  </a:lnTo>
                  <a:lnTo>
                    <a:pt x="483" y="1442"/>
                  </a:lnTo>
                  <a:lnTo>
                    <a:pt x="484" y="1441"/>
                  </a:lnTo>
                  <a:lnTo>
                    <a:pt x="486" y="1439"/>
                  </a:lnTo>
                  <a:lnTo>
                    <a:pt x="493" y="1436"/>
                  </a:lnTo>
                  <a:lnTo>
                    <a:pt x="497" y="1433"/>
                  </a:lnTo>
                  <a:lnTo>
                    <a:pt x="498" y="1432"/>
                  </a:lnTo>
                  <a:lnTo>
                    <a:pt x="499" y="1432"/>
                  </a:lnTo>
                  <a:lnTo>
                    <a:pt x="505" y="1432"/>
                  </a:lnTo>
                  <a:lnTo>
                    <a:pt x="508" y="1432"/>
                  </a:lnTo>
                  <a:lnTo>
                    <a:pt x="509" y="1431"/>
                  </a:lnTo>
                  <a:lnTo>
                    <a:pt x="511" y="1432"/>
                  </a:lnTo>
                  <a:lnTo>
                    <a:pt x="519" y="1433"/>
                  </a:lnTo>
                  <a:lnTo>
                    <a:pt x="525" y="1433"/>
                  </a:lnTo>
                  <a:lnTo>
                    <a:pt x="526" y="1433"/>
                  </a:lnTo>
                  <a:lnTo>
                    <a:pt x="528" y="1433"/>
                  </a:lnTo>
                  <a:lnTo>
                    <a:pt x="534" y="1432"/>
                  </a:lnTo>
                  <a:lnTo>
                    <a:pt x="539" y="1431"/>
                  </a:lnTo>
                  <a:lnTo>
                    <a:pt x="540" y="1430"/>
                  </a:lnTo>
                  <a:lnTo>
                    <a:pt x="543" y="1429"/>
                  </a:lnTo>
                  <a:lnTo>
                    <a:pt x="544" y="1427"/>
                  </a:lnTo>
                  <a:lnTo>
                    <a:pt x="545" y="1426"/>
                  </a:lnTo>
                  <a:lnTo>
                    <a:pt x="548" y="1429"/>
                  </a:lnTo>
                  <a:lnTo>
                    <a:pt x="550" y="1429"/>
                  </a:lnTo>
                  <a:lnTo>
                    <a:pt x="553" y="1433"/>
                  </a:lnTo>
                  <a:lnTo>
                    <a:pt x="554" y="1434"/>
                  </a:lnTo>
                  <a:lnTo>
                    <a:pt x="555" y="1434"/>
                  </a:lnTo>
                  <a:lnTo>
                    <a:pt x="556" y="1434"/>
                  </a:lnTo>
                  <a:lnTo>
                    <a:pt x="561" y="1433"/>
                  </a:lnTo>
                  <a:lnTo>
                    <a:pt x="564" y="1432"/>
                  </a:lnTo>
                  <a:lnTo>
                    <a:pt x="565" y="1431"/>
                  </a:lnTo>
                  <a:lnTo>
                    <a:pt x="566" y="1431"/>
                  </a:lnTo>
                  <a:lnTo>
                    <a:pt x="572" y="1430"/>
                  </a:lnTo>
                  <a:lnTo>
                    <a:pt x="575" y="1429"/>
                  </a:lnTo>
                  <a:lnTo>
                    <a:pt x="576" y="1427"/>
                  </a:lnTo>
                  <a:lnTo>
                    <a:pt x="577" y="1427"/>
                  </a:lnTo>
                  <a:lnTo>
                    <a:pt x="580" y="1426"/>
                  </a:lnTo>
                  <a:lnTo>
                    <a:pt x="583" y="1426"/>
                  </a:lnTo>
                  <a:lnTo>
                    <a:pt x="584" y="1425"/>
                  </a:lnTo>
                  <a:lnTo>
                    <a:pt x="585" y="1425"/>
                  </a:lnTo>
                  <a:lnTo>
                    <a:pt x="590" y="1424"/>
                  </a:lnTo>
                  <a:lnTo>
                    <a:pt x="593" y="1424"/>
                  </a:lnTo>
                  <a:lnTo>
                    <a:pt x="595" y="1423"/>
                  </a:lnTo>
                  <a:lnTo>
                    <a:pt x="600" y="1425"/>
                  </a:lnTo>
                  <a:lnTo>
                    <a:pt x="603" y="1426"/>
                  </a:lnTo>
                  <a:lnTo>
                    <a:pt x="604" y="1426"/>
                  </a:lnTo>
                  <a:lnTo>
                    <a:pt x="605" y="1426"/>
                  </a:lnTo>
                  <a:lnTo>
                    <a:pt x="609" y="1426"/>
                  </a:lnTo>
                  <a:lnTo>
                    <a:pt x="611" y="1426"/>
                  </a:lnTo>
                  <a:lnTo>
                    <a:pt x="612" y="1425"/>
                  </a:lnTo>
                  <a:lnTo>
                    <a:pt x="613" y="1425"/>
                  </a:lnTo>
                  <a:lnTo>
                    <a:pt x="619" y="1424"/>
                  </a:lnTo>
                  <a:lnTo>
                    <a:pt x="622" y="1423"/>
                  </a:lnTo>
                  <a:lnTo>
                    <a:pt x="623" y="1422"/>
                  </a:lnTo>
                  <a:lnTo>
                    <a:pt x="626" y="1421"/>
                  </a:lnTo>
                  <a:lnTo>
                    <a:pt x="628" y="1420"/>
                  </a:lnTo>
                  <a:lnTo>
                    <a:pt x="630" y="1419"/>
                  </a:lnTo>
                  <a:lnTo>
                    <a:pt x="630" y="1418"/>
                  </a:lnTo>
                  <a:lnTo>
                    <a:pt x="631" y="1414"/>
                  </a:lnTo>
                  <a:lnTo>
                    <a:pt x="631" y="1412"/>
                  </a:lnTo>
                  <a:lnTo>
                    <a:pt x="632" y="1411"/>
                  </a:lnTo>
                  <a:lnTo>
                    <a:pt x="635" y="1406"/>
                  </a:lnTo>
                  <a:lnTo>
                    <a:pt x="636" y="1402"/>
                  </a:lnTo>
                  <a:lnTo>
                    <a:pt x="637" y="1401"/>
                  </a:lnTo>
                  <a:lnTo>
                    <a:pt x="638" y="1398"/>
                  </a:lnTo>
                  <a:lnTo>
                    <a:pt x="639" y="1397"/>
                  </a:lnTo>
                  <a:lnTo>
                    <a:pt x="640" y="1396"/>
                  </a:lnTo>
                  <a:lnTo>
                    <a:pt x="640" y="1394"/>
                  </a:lnTo>
                  <a:lnTo>
                    <a:pt x="642" y="1387"/>
                  </a:lnTo>
                  <a:lnTo>
                    <a:pt x="642" y="1383"/>
                  </a:lnTo>
                  <a:lnTo>
                    <a:pt x="643" y="1382"/>
                  </a:lnTo>
                  <a:lnTo>
                    <a:pt x="643" y="1380"/>
                  </a:lnTo>
                  <a:lnTo>
                    <a:pt x="645" y="1375"/>
                  </a:lnTo>
                  <a:lnTo>
                    <a:pt x="646" y="1371"/>
                  </a:lnTo>
                  <a:lnTo>
                    <a:pt x="647" y="1369"/>
                  </a:lnTo>
                  <a:lnTo>
                    <a:pt x="648" y="1368"/>
                  </a:lnTo>
                  <a:lnTo>
                    <a:pt x="654" y="1365"/>
                  </a:lnTo>
                  <a:lnTo>
                    <a:pt x="657" y="1363"/>
                  </a:lnTo>
                  <a:lnTo>
                    <a:pt x="658" y="1362"/>
                  </a:lnTo>
                  <a:lnTo>
                    <a:pt x="659" y="1362"/>
                  </a:lnTo>
                  <a:lnTo>
                    <a:pt x="665" y="1362"/>
                  </a:lnTo>
                  <a:lnTo>
                    <a:pt x="668" y="1362"/>
                  </a:lnTo>
                  <a:lnTo>
                    <a:pt x="669" y="1361"/>
                  </a:lnTo>
                  <a:lnTo>
                    <a:pt x="672" y="1359"/>
                  </a:lnTo>
                  <a:lnTo>
                    <a:pt x="674" y="1357"/>
                  </a:lnTo>
                  <a:lnTo>
                    <a:pt x="675" y="1356"/>
                  </a:lnTo>
                  <a:lnTo>
                    <a:pt x="677" y="1355"/>
                  </a:lnTo>
                  <a:lnTo>
                    <a:pt x="680" y="1352"/>
                  </a:lnTo>
                  <a:lnTo>
                    <a:pt x="682" y="1350"/>
                  </a:lnTo>
                  <a:lnTo>
                    <a:pt x="683" y="1349"/>
                  </a:lnTo>
                  <a:lnTo>
                    <a:pt x="685" y="1349"/>
                  </a:lnTo>
                  <a:lnTo>
                    <a:pt x="692" y="1345"/>
                  </a:lnTo>
                  <a:lnTo>
                    <a:pt x="697" y="1344"/>
                  </a:lnTo>
                  <a:lnTo>
                    <a:pt x="698" y="1343"/>
                  </a:lnTo>
                  <a:lnTo>
                    <a:pt x="699" y="1342"/>
                  </a:lnTo>
                  <a:lnTo>
                    <a:pt x="705" y="1339"/>
                  </a:lnTo>
                  <a:lnTo>
                    <a:pt x="709" y="1337"/>
                  </a:lnTo>
                  <a:lnTo>
                    <a:pt x="710" y="1336"/>
                  </a:lnTo>
                  <a:lnTo>
                    <a:pt x="712" y="1334"/>
                  </a:lnTo>
                  <a:lnTo>
                    <a:pt x="717" y="1331"/>
                  </a:lnTo>
                  <a:lnTo>
                    <a:pt x="720" y="1329"/>
                  </a:lnTo>
                  <a:lnTo>
                    <a:pt x="721" y="1328"/>
                  </a:lnTo>
                  <a:lnTo>
                    <a:pt x="722" y="1327"/>
                  </a:lnTo>
                  <a:lnTo>
                    <a:pt x="727" y="1324"/>
                  </a:lnTo>
                  <a:lnTo>
                    <a:pt x="730" y="1320"/>
                  </a:lnTo>
                  <a:lnTo>
                    <a:pt x="731" y="1319"/>
                  </a:lnTo>
                  <a:lnTo>
                    <a:pt x="739" y="1316"/>
                  </a:lnTo>
                  <a:lnTo>
                    <a:pt x="743" y="1315"/>
                  </a:lnTo>
                  <a:lnTo>
                    <a:pt x="744" y="1314"/>
                  </a:lnTo>
                  <a:lnTo>
                    <a:pt x="751" y="1316"/>
                  </a:lnTo>
                  <a:lnTo>
                    <a:pt x="754" y="1316"/>
                  </a:lnTo>
                  <a:lnTo>
                    <a:pt x="755" y="1316"/>
                  </a:lnTo>
                  <a:lnTo>
                    <a:pt x="757" y="1316"/>
                  </a:lnTo>
                  <a:lnTo>
                    <a:pt x="764" y="1316"/>
                  </a:lnTo>
                  <a:lnTo>
                    <a:pt x="769" y="1316"/>
                  </a:lnTo>
                  <a:lnTo>
                    <a:pt x="771" y="1316"/>
                  </a:lnTo>
                  <a:lnTo>
                    <a:pt x="774" y="1316"/>
                  </a:lnTo>
                  <a:lnTo>
                    <a:pt x="775" y="1316"/>
                  </a:lnTo>
                  <a:lnTo>
                    <a:pt x="776" y="1316"/>
                  </a:lnTo>
                  <a:lnTo>
                    <a:pt x="777" y="1316"/>
                  </a:lnTo>
                  <a:lnTo>
                    <a:pt x="784" y="1316"/>
                  </a:lnTo>
                  <a:lnTo>
                    <a:pt x="788" y="1316"/>
                  </a:lnTo>
                  <a:lnTo>
                    <a:pt x="789" y="1315"/>
                  </a:lnTo>
                  <a:lnTo>
                    <a:pt x="791" y="1315"/>
                  </a:lnTo>
                  <a:lnTo>
                    <a:pt x="801" y="1314"/>
                  </a:lnTo>
                  <a:lnTo>
                    <a:pt x="808" y="1313"/>
                  </a:lnTo>
                  <a:lnTo>
                    <a:pt x="809" y="1311"/>
                  </a:lnTo>
                  <a:lnTo>
                    <a:pt x="811" y="1310"/>
                  </a:lnTo>
                  <a:lnTo>
                    <a:pt x="818" y="1307"/>
                  </a:lnTo>
                  <a:lnTo>
                    <a:pt x="822" y="1304"/>
                  </a:lnTo>
                  <a:lnTo>
                    <a:pt x="823" y="1303"/>
                  </a:lnTo>
                  <a:lnTo>
                    <a:pt x="825" y="1303"/>
                  </a:lnTo>
                  <a:lnTo>
                    <a:pt x="832" y="1302"/>
                  </a:lnTo>
                  <a:lnTo>
                    <a:pt x="837" y="1302"/>
                  </a:lnTo>
                  <a:lnTo>
                    <a:pt x="838" y="1301"/>
                  </a:lnTo>
                  <a:lnTo>
                    <a:pt x="839" y="1301"/>
                  </a:lnTo>
                  <a:lnTo>
                    <a:pt x="843" y="1301"/>
                  </a:lnTo>
                  <a:lnTo>
                    <a:pt x="846" y="1301"/>
                  </a:lnTo>
                  <a:lnTo>
                    <a:pt x="847" y="1299"/>
                  </a:lnTo>
                  <a:lnTo>
                    <a:pt x="849" y="1298"/>
                  </a:lnTo>
                  <a:lnTo>
                    <a:pt x="858" y="1292"/>
                  </a:lnTo>
                  <a:lnTo>
                    <a:pt x="865" y="1287"/>
                  </a:lnTo>
                  <a:lnTo>
                    <a:pt x="866" y="1286"/>
                  </a:lnTo>
                  <a:lnTo>
                    <a:pt x="871" y="1284"/>
                  </a:lnTo>
                  <a:lnTo>
                    <a:pt x="889" y="1274"/>
                  </a:lnTo>
                  <a:lnTo>
                    <a:pt x="902" y="1268"/>
                  </a:lnTo>
                  <a:lnTo>
                    <a:pt x="903" y="1267"/>
                  </a:lnTo>
                  <a:lnTo>
                    <a:pt x="905" y="1267"/>
                  </a:lnTo>
                  <a:lnTo>
                    <a:pt x="913" y="1267"/>
                  </a:lnTo>
                  <a:lnTo>
                    <a:pt x="919" y="1267"/>
                  </a:lnTo>
                  <a:lnTo>
                    <a:pt x="920" y="1266"/>
                  </a:lnTo>
                  <a:lnTo>
                    <a:pt x="926" y="1266"/>
                  </a:lnTo>
                  <a:lnTo>
                    <a:pt x="944" y="1266"/>
                  </a:lnTo>
                  <a:lnTo>
                    <a:pt x="959" y="1266"/>
                  </a:lnTo>
                  <a:lnTo>
                    <a:pt x="960" y="1266"/>
                  </a:lnTo>
                  <a:lnTo>
                    <a:pt x="962" y="1266"/>
                  </a:lnTo>
                  <a:lnTo>
                    <a:pt x="968" y="1264"/>
                  </a:lnTo>
                  <a:lnTo>
                    <a:pt x="973" y="1264"/>
                  </a:lnTo>
                  <a:lnTo>
                    <a:pt x="974" y="1263"/>
                  </a:lnTo>
                  <a:lnTo>
                    <a:pt x="976" y="1263"/>
                  </a:lnTo>
                  <a:lnTo>
                    <a:pt x="984" y="1262"/>
                  </a:lnTo>
                  <a:lnTo>
                    <a:pt x="990" y="1261"/>
                  </a:lnTo>
                  <a:lnTo>
                    <a:pt x="991" y="1260"/>
                  </a:lnTo>
                  <a:lnTo>
                    <a:pt x="992" y="1260"/>
                  </a:lnTo>
                  <a:lnTo>
                    <a:pt x="997" y="1260"/>
                  </a:lnTo>
                  <a:lnTo>
                    <a:pt x="1000" y="1260"/>
                  </a:lnTo>
                  <a:lnTo>
                    <a:pt x="1001" y="1260"/>
                  </a:lnTo>
                  <a:lnTo>
                    <a:pt x="1002" y="1260"/>
                  </a:lnTo>
                  <a:lnTo>
                    <a:pt x="1007" y="1260"/>
                  </a:lnTo>
                  <a:lnTo>
                    <a:pt x="1010" y="1260"/>
                  </a:lnTo>
                  <a:lnTo>
                    <a:pt x="1011" y="1260"/>
                  </a:lnTo>
                  <a:lnTo>
                    <a:pt x="1018" y="1261"/>
                  </a:lnTo>
                  <a:lnTo>
                    <a:pt x="1021" y="1261"/>
                  </a:lnTo>
                  <a:lnTo>
                    <a:pt x="1022" y="1261"/>
                  </a:lnTo>
                  <a:lnTo>
                    <a:pt x="1027" y="1263"/>
                  </a:lnTo>
                  <a:lnTo>
                    <a:pt x="1031" y="1264"/>
                  </a:lnTo>
                  <a:lnTo>
                    <a:pt x="1032" y="1264"/>
                  </a:lnTo>
                  <a:lnTo>
                    <a:pt x="1034" y="1268"/>
                  </a:lnTo>
                  <a:lnTo>
                    <a:pt x="1044" y="1274"/>
                  </a:lnTo>
                  <a:lnTo>
                    <a:pt x="1050" y="1280"/>
                  </a:lnTo>
                  <a:lnTo>
                    <a:pt x="1052" y="1280"/>
                  </a:lnTo>
                  <a:lnTo>
                    <a:pt x="1053" y="1282"/>
                  </a:lnTo>
                  <a:lnTo>
                    <a:pt x="1056" y="1285"/>
                  </a:lnTo>
                  <a:lnTo>
                    <a:pt x="1058" y="1287"/>
                  </a:lnTo>
                  <a:lnTo>
                    <a:pt x="1059" y="1287"/>
                  </a:lnTo>
                  <a:lnTo>
                    <a:pt x="1062" y="1290"/>
                  </a:lnTo>
                  <a:lnTo>
                    <a:pt x="1065" y="1290"/>
                  </a:lnTo>
                  <a:lnTo>
                    <a:pt x="1066" y="1290"/>
                  </a:lnTo>
                  <a:lnTo>
                    <a:pt x="1067" y="1290"/>
                  </a:lnTo>
                  <a:lnTo>
                    <a:pt x="1068" y="1290"/>
                  </a:lnTo>
                  <a:lnTo>
                    <a:pt x="1070" y="1290"/>
                  </a:lnTo>
                  <a:lnTo>
                    <a:pt x="1071" y="1290"/>
                  </a:lnTo>
                  <a:lnTo>
                    <a:pt x="1072" y="1289"/>
                  </a:lnTo>
                  <a:lnTo>
                    <a:pt x="1073" y="1287"/>
                  </a:lnTo>
                  <a:lnTo>
                    <a:pt x="1074" y="1286"/>
                  </a:lnTo>
                  <a:lnTo>
                    <a:pt x="1076" y="1285"/>
                  </a:lnTo>
                  <a:lnTo>
                    <a:pt x="1079" y="1285"/>
                  </a:lnTo>
                  <a:lnTo>
                    <a:pt x="1081" y="1285"/>
                  </a:lnTo>
                  <a:lnTo>
                    <a:pt x="1082" y="1284"/>
                  </a:lnTo>
                  <a:lnTo>
                    <a:pt x="1084" y="1286"/>
                  </a:lnTo>
                  <a:lnTo>
                    <a:pt x="1094" y="1290"/>
                  </a:lnTo>
                  <a:lnTo>
                    <a:pt x="1102" y="1293"/>
                  </a:lnTo>
                  <a:lnTo>
                    <a:pt x="1103" y="1293"/>
                  </a:lnTo>
                  <a:lnTo>
                    <a:pt x="1104" y="1294"/>
                  </a:lnTo>
                  <a:lnTo>
                    <a:pt x="1107" y="1297"/>
                  </a:lnTo>
                  <a:lnTo>
                    <a:pt x="1111" y="1299"/>
                  </a:lnTo>
                  <a:lnTo>
                    <a:pt x="1112" y="1299"/>
                  </a:lnTo>
                  <a:lnTo>
                    <a:pt x="1113" y="1299"/>
                  </a:lnTo>
                  <a:lnTo>
                    <a:pt x="1117" y="1299"/>
                  </a:lnTo>
                  <a:lnTo>
                    <a:pt x="1120" y="1299"/>
                  </a:lnTo>
                  <a:lnTo>
                    <a:pt x="1121" y="1299"/>
                  </a:lnTo>
                  <a:lnTo>
                    <a:pt x="1120" y="1299"/>
                  </a:lnTo>
                  <a:lnTo>
                    <a:pt x="1121" y="1299"/>
                  </a:lnTo>
                  <a:lnTo>
                    <a:pt x="1120" y="1299"/>
                  </a:lnTo>
                  <a:lnTo>
                    <a:pt x="1121" y="1299"/>
                  </a:lnTo>
                  <a:lnTo>
                    <a:pt x="1119" y="1296"/>
                  </a:lnTo>
                  <a:lnTo>
                    <a:pt x="1119" y="1294"/>
                  </a:lnTo>
                  <a:lnTo>
                    <a:pt x="1119" y="1293"/>
                  </a:lnTo>
                  <a:lnTo>
                    <a:pt x="1123" y="1295"/>
                  </a:lnTo>
                  <a:lnTo>
                    <a:pt x="1124" y="1295"/>
                  </a:lnTo>
                  <a:lnTo>
                    <a:pt x="1125" y="1295"/>
                  </a:lnTo>
                  <a:lnTo>
                    <a:pt x="1127" y="1298"/>
                  </a:lnTo>
                  <a:lnTo>
                    <a:pt x="1137" y="1308"/>
                  </a:lnTo>
                  <a:lnTo>
                    <a:pt x="1144" y="1316"/>
                  </a:lnTo>
                  <a:lnTo>
                    <a:pt x="1146" y="1316"/>
                  </a:lnTo>
                  <a:lnTo>
                    <a:pt x="1150" y="1317"/>
                  </a:lnTo>
                  <a:lnTo>
                    <a:pt x="1152" y="1317"/>
                  </a:lnTo>
                  <a:lnTo>
                    <a:pt x="1153" y="1317"/>
                  </a:lnTo>
                  <a:lnTo>
                    <a:pt x="1160" y="1319"/>
                  </a:lnTo>
                  <a:lnTo>
                    <a:pt x="1164" y="1320"/>
                  </a:lnTo>
                  <a:lnTo>
                    <a:pt x="1165" y="1320"/>
                  </a:lnTo>
                  <a:lnTo>
                    <a:pt x="1164" y="1322"/>
                  </a:lnTo>
                  <a:lnTo>
                    <a:pt x="1163" y="1329"/>
                  </a:lnTo>
                  <a:lnTo>
                    <a:pt x="1163" y="1333"/>
                  </a:lnTo>
                  <a:lnTo>
                    <a:pt x="1163" y="1333"/>
                  </a:lnTo>
                  <a:lnTo>
                    <a:pt x="1162" y="1333"/>
                  </a:lnTo>
                  <a:lnTo>
                    <a:pt x="1160" y="1333"/>
                  </a:lnTo>
                  <a:lnTo>
                    <a:pt x="1159" y="1333"/>
                  </a:lnTo>
                  <a:lnTo>
                    <a:pt x="1159" y="1332"/>
                  </a:lnTo>
                  <a:lnTo>
                    <a:pt x="1159" y="1334"/>
                  </a:lnTo>
                  <a:lnTo>
                    <a:pt x="1158" y="1340"/>
                  </a:lnTo>
                  <a:lnTo>
                    <a:pt x="1158" y="1343"/>
                  </a:lnTo>
                  <a:lnTo>
                    <a:pt x="1159" y="1343"/>
                  </a:lnTo>
                  <a:lnTo>
                    <a:pt x="1162" y="1349"/>
                  </a:lnTo>
                  <a:lnTo>
                    <a:pt x="1164" y="1351"/>
                  </a:lnTo>
                  <a:lnTo>
                    <a:pt x="1165" y="1351"/>
                  </a:lnTo>
                  <a:lnTo>
                    <a:pt x="1166" y="1352"/>
                  </a:lnTo>
                  <a:lnTo>
                    <a:pt x="1170" y="1355"/>
                  </a:lnTo>
                  <a:lnTo>
                    <a:pt x="1173" y="1356"/>
                  </a:lnTo>
                  <a:lnTo>
                    <a:pt x="1174" y="1356"/>
                  </a:lnTo>
                  <a:lnTo>
                    <a:pt x="1175" y="1357"/>
                  </a:lnTo>
                  <a:lnTo>
                    <a:pt x="1181" y="1361"/>
                  </a:lnTo>
                  <a:lnTo>
                    <a:pt x="1184" y="1362"/>
                  </a:lnTo>
                  <a:lnTo>
                    <a:pt x="1185" y="1362"/>
                  </a:lnTo>
                  <a:lnTo>
                    <a:pt x="1187" y="1361"/>
                  </a:lnTo>
                  <a:lnTo>
                    <a:pt x="1188" y="1360"/>
                  </a:lnTo>
                  <a:lnTo>
                    <a:pt x="1189" y="1359"/>
                  </a:lnTo>
                  <a:lnTo>
                    <a:pt x="1191" y="1364"/>
                  </a:lnTo>
                  <a:lnTo>
                    <a:pt x="1193" y="1367"/>
                  </a:lnTo>
                  <a:lnTo>
                    <a:pt x="1194" y="1367"/>
                  </a:lnTo>
                  <a:lnTo>
                    <a:pt x="1196" y="1371"/>
                  </a:lnTo>
                  <a:lnTo>
                    <a:pt x="1197" y="1372"/>
                  </a:lnTo>
                  <a:lnTo>
                    <a:pt x="1198" y="1372"/>
                  </a:lnTo>
                  <a:lnTo>
                    <a:pt x="1198" y="1373"/>
                  </a:lnTo>
                  <a:lnTo>
                    <a:pt x="1198" y="1375"/>
                  </a:lnTo>
                  <a:lnTo>
                    <a:pt x="1199" y="1383"/>
                  </a:lnTo>
                  <a:lnTo>
                    <a:pt x="1200" y="1389"/>
                  </a:lnTo>
                  <a:lnTo>
                    <a:pt x="1201" y="1389"/>
                  </a:lnTo>
                  <a:lnTo>
                    <a:pt x="1202" y="1390"/>
                  </a:lnTo>
                  <a:lnTo>
                    <a:pt x="1206" y="1394"/>
                  </a:lnTo>
                  <a:lnTo>
                    <a:pt x="1209" y="1395"/>
                  </a:lnTo>
                  <a:lnTo>
                    <a:pt x="1210" y="1395"/>
                  </a:lnTo>
                  <a:lnTo>
                    <a:pt x="1213" y="1402"/>
                  </a:lnTo>
                  <a:lnTo>
                    <a:pt x="1215" y="1406"/>
                  </a:lnTo>
                  <a:lnTo>
                    <a:pt x="1217" y="1406"/>
                  </a:lnTo>
                  <a:lnTo>
                    <a:pt x="1217" y="1407"/>
                  </a:lnTo>
                  <a:lnTo>
                    <a:pt x="1217" y="1409"/>
                  </a:lnTo>
                  <a:lnTo>
                    <a:pt x="1218" y="1415"/>
                  </a:lnTo>
                  <a:lnTo>
                    <a:pt x="1218" y="1420"/>
                  </a:lnTo>
                  <a:lnTo>
                    <a:pt x="1219" y="1420"/>
                  </a:lnTo>
                  <a:lnTo>
                    <a:pt x="1221" y="1424"/>
                  </a:lnTo>
                  <a:lnTo>
                    <a:pt x="1222" y="1425"/>
                  </a:lnTo>
                  <a:lnTo>
                    <a:pt x="1223" y="1425"/>
                  </a:lnTo>
                  <a:lnTo>
                    <a:pt x="1223" y="1426"/>
                  </a:lnTo>
                  <a:lnTo>
                    <a:pt x="1223" y="1427"/>
                  </a:lnTo>
                  <a:lnTo>
                    <a:pt x="1225" y="1433"/>
                  </a:lnTo>
                  <a:lnTo>
                    <a:pt x="1226" y="1437"/>
                  </a:lnTo>
                  <a:lnTo>
                    <a:pt x="1228" y="1437"/>
                  </a:lnTo>
                  <a:lnTo>
                    <a:pt x="1226" y="1439"/>
                  </a:lnTo>
                  <a:lnTo>
                    <a:pt x="1225" y="1444"/>
                  </a:lnTo>
                  <a:lnTo>
                    <a:pt x="1225" y="1447"/>
                  </a:lnTo>
                  <a:lnTo>
                    <a:pt x="1225" y="1447"/>
                  </a:lnTo>
                  <a:lnTo>
                    <a:pt x="1223" y="1446"/>
                  </a:lnTo>
                  <a:lnTo>
                    <a:pt x="1218" y="1442"/>
                  </a:lnTo>
                  <a:lnTo>
                    <a:pt x="1214" y="1438"/>
                  </a:lnTo>
                  <a:lnTo>
                    <a:pt x="1214" y="1437"/>
                  </a:lnTo>
                  <a:lnTo>
                    <a:pt x="1212" y="1436"/>
                  </a:lnTo>
                  <a:lnTo>
                    <a:pt x="1211" y="1435"/>
                  </a:lnTo>
                  <a:lnTo>
                    <a:pt x="1211" y="1437"/>
                  </a:lnTo>
                  <a:lnTo>
                    <a:pt x="1210" y="1442"/>
                  </a:lnTo>
                  <a:lnTo>
                    <a:pt x="1210" y="1445"/>
                  </a:lnTo>
                  <a:lnTo>
                    <a:pt x="1211" y="1445"/>
                  </a:lnTo>
                  <a:lnTo>
                    <a:pt x="1215" y="1446"/>
                  </a:lnTo>
                  <a:lnTo>
                    <a:pt x="1218" y="1446"/>
                  </a:lnTo>
                  <a:lnTo>
                    <a:pt x="1219" y="1446"/>
                  </a:lnTo>
                  <a:lnTo>
                    <a:pt x="1221" y="1450"/>
                  </a:lnTo>
                  <a:lnTo>
                    <a:pt x="1222" y="1452"/>
                  </a:lnTo>
                  <a:lnTo>
                    <a:pt x="1223" y="1452"/>
                  </a:lnTo>
                  <a:lnTo>
                    <a:pt x="1224" y="1453"/>
                  </a:lnTo>
                  <a:lnTo>
                    <a:pt x="1229" y="1456"/>
                  </a:lnTo>
                  <a:lnTo>
                    <a:pt x="1232" y="1457"/>
                  </a:lnTo>
                  <a:lnTo>
                    <a:pt x="1233" y="1457"/>
                  </a:lnTo>
                  <a:lnTo>
                    <a:pt x="1234" y="1459"/>
                  </a:lnTo>
                  <a:lnTo>
                    <a:pt x="1237" y="1465"/>
                  </a:lnTo>
                  <a:lnTo>
                    <a:pt x="1241" y="1468"/>
                  </a:lnTo>
                  <a:lnTo>
                    <a:pt x="1242" y="1468"/>
                  </a:lnTo>
                  <a:lnTo>
                    <a:pt x="1245" y="1467"/>
                  </a:lnTo>
                  <a:lnTo>
                    <a:pt x="1246" y="1467"/>
                  </a:lnTo>
                  <a:lnTo>
                    <a:pt x="1247" y="1466"/>
                  </a:lnTo>
                  <a:lnTo>
                    <a:pt x="1250" y="1470"/>
                  </a:lnTo>
                  <a:lnTo>
                    <a:pt x="1253" y="1471"/>
                  </a:lnTo>
                  <a:lnTo>
                    <a:pt x="1254" y="1471"/>
                  </a:lnTo>
                  <a:lnTo>
                    <a:pt x="1254" y="1469"/>
                  </a:lnTo>
                  <a:lnTo>
                    <a:pt x="1253" y="1461"/>
                  </a:lnTo>
                  <a:lnTo>
                    <a:pt x="1253" y="1456"/>
                  </a:lnTo>
                  <a:lnTo>
                    <a:pt x="1254" y="1455"/>
                  </a:lnTo>
                  <a:lnTo>
                    <a:pt x="1253" y="1455"/>
                  </a:lnTo>
                  <a:lnTo>
                    <a:pt x="1249" y="1455"/>
                  </a:lnTo>
                  <a:lnTo>
                    <a:pt x="1247" y="1455"/>
                  </a:lnTo>
                  <a:lnTo>
                    <a:pt x="1247" y="1455"/>
                  </a:lnTo>
                  <a:lnTo>
                    <a:pt x="1248" y="1455"/>
                  </a:lnTo>
                  <a:lnTo>
                    <a:pt x="1248" y="1454"/>
                  </a:lnTo>
                  <a:lnTo>
                    <a:pt x="1249" y="1449"/>
                  </a:lnTo>
                  <a:lnTo>
                    <a:pt x="1250" y="1446"/>
                  </a:lnTo>
                  <a:lnTo>
                    <a:pt x="1252" y="1445"/>
                  </a:lnTo>
                  <a:lnTo>
                    <a:pt x="1253" y="1444"/>
                  </a:lnTo>
                  <a:lnTo>
                    <a:pt x="1256" y="1441"/>
                  </a:lnTo>
                  <a:lnTo>
                    <a:pt x="1259" y="1438"/>
                  </a:lnTo>
                  <a:lnTo>
                    <a:pt x="1260" y="1437"/>
                  </a:lnTo>
                  <a:lnTo>
                    <a:pt x="1261" y="1436"/>
                  </a:lnTo>
                  <a:lnTo>
                    <a:pt x="1266" y="1431"/>
                  </a:lnTo>
                  <a:lnTo>
                    <a:pt x="1269" y="1427"/>
                  </a:lnTo>
                  <a:lnTo>
                    <a:pt x="1270" y="1426"/>
                  </a:lnTo>
                  <a:lnTo>
                    <a:pt x="1270" y="1424"/>
                  </a:lnTo>
                  <a:lnTo>
                    <a:pt x="1273" y="1418"/>
                  </a:lnTo>
                  <a:lnTo>
                    <a:pt x="1275" y="1413"/>
                  </a:lnTo>
                  <a:lnTo>
                    <a:pt x="1276" y="1412"/>
                  </a:lnTo>
                  <a:lnTo>
                    <a:pt x="1279" y="1411"/>
                  </a:lnTo>
                  <a:lnTo>
                    <a:pt x="1281" y="1410"/>
                  </a:lnTo>
                  <a:lnTo>
                    <a:pt x="1282" y="1409"/>
                  </a:lnTo>
                  <a:lnTo>
                    <a:pt x="1285" y="1406"/>
                  </a:lnTo>
                  <a:lnTo>
                    <a:pt x="1287" y="1404"/>
                  </a:lnTo>
                  <a:lnTo>
                    <a:pt x="1288" y="1403"/>
                  </a:lnTo>
                  <a:lnTo>
                    <a:pt x="1289" y="1403"/>
                  </a:lnTo>
                  <a:lnTo>
                    <a:pt x="1295" y="1401"/>
                  </a:lnTo>
                  <a:lnTo>
                    <a:pt x="1300" y="1400"/>
                  </a:lnTo>
                  <a:lnTo>
                    <a:pt x="1301" y="1399"/>
                  </a:lnTo>
                  <a:lnTo>
                    <a:pt x="1300" y="1396"/>
                  </a:lnTo>
                  <a:lnTo>
                    <a:pt x="1300" y="1395"/>
                  </a:lnTo>
                  <a:lnTo>
                    <a:pt x="1301" y="1394"/>
                  </a:lnTo>
                  <a:lnTo>
                    <a:pt x="1303" y="1392"/>
                  </a:lnTo>
                  <a:lnTo>
                    <a:pt x="1305" y="1391"/>
                  </a:lnTo>
                  <a:lnTo>
                    <a:pt x="1311" y="1392"/>
                  </a:lnTo>
                  <a:lnTo>
                    <a:pt x="1314" y="1392"/>
                  </a:lnTo>
                  <a:lnTo>
                    <a:pt x="1315" y="1392"/>
                  </a:lnTo>
                  <a:lnTo>
                    <a:pt x="1318" y="1388"/>
                  </a:lnTo>
                  <a:lnTo>
                    <a:pt x="1319" y="1386"/>
                  </a:lnTo>
                  <a:lnTo>
                    <a:pt x="1320" y="1385"/>
                  </a:lnTo>
                  <a:lnTo>
                    <a:pt x="1320" y="1382"/>
                  </a:lnTo>
                  <a:lnTo>
                    <a:pt x="1320" y="1379"/>
                  </a:lnTo>
                  <a:lnTo>
                    <a:pt x="1322" y="1378"/>
                  </a:lnTo>
                  <a:lnTo>
                    <a:pt x="1325" y="1372"/>
                  </a:lnTo>
                  <a:lnTo>
                    <a:pt x="1326" y="1368"/>
                  </a:lnTo>
                  <a:lnTo>
                    <a:pt x="1327" y="1367"/>
                  </a:lnTo>
                  <a:lnTo>
                    <a:pt x="1330" y="1362"/>
                  </a:lnTo>
                  <a:lnTo>
                    <a:pt x="1331" y="1359"/>
                  </a:lnTo>
                  <a:lnTo>
                    <a:pt x="1332" y="1357"/>
                  </a:lnTo>
                  <a:lnTo>
                    <a:pt x="1336" y="1351"/>
                  </a:lnTo>
                  <a:lnTo>
                    <a:pt x="1338" y="1348"/>
                  </a:lnTo>
                  <a:lnTo>
                    <a:pt x="1339" y="1347"/>
                  </a:lnTo>
                  <a:lnTo>
                    <a:pt x="1342" y="1347"/>
                  </a:lnTo>
                  <a:lnTo>
                    <a:pt x="1343" y="1347"/>
                  </a:lnTo>
                  <a:lnTo>
                    <a:pt x="1344" y="1345"/>
                  </a:lnTo>
                  <a:lnTo>
                    <a:pt x="1344" y="1344"/>
                  </a:lnTo>
                  <a:lnTo>
                    <a:pt x="1343" y="1341"/>
                  </a:lnTo>
                  <a:lnTo>
                    <a:pt x="1343" y="1338"/>
                  </a:lnTo>
                  <a:lnTo>
                    <a:pt x="1344" y="1337"/>
                  </a:lnTo>
                  <a:lnTo>
                    <a:pt x="1344" y="1336"/>
                  </a:lnTo>
                  <a:lnTo>
                    <a:pt x="1343" y="1330"/>
                  </a:lnTo>
                  <a:lnTo>
                    <a:pt x="1343" y="1327"/>
                  </a:lnTo>
                  <a:lnTo>
                    <a:pt x="1344" y="1326"/>
                  </a:lnTo>
                  <a:lnTo>
                    <a:pt x="1346" y="1322"/>
                  </a:lnTo>
                  <a:lnTo>
                    <a:pt x="1347" y="1320"/>
                  </a:lnTo>
                  <a:lnTo>
                    <a:pt x="1348" y="1319"/>
                  </a:lnTo>
                  <a:lnTo>
                    <a:pt x="1350" y="1322"/>
                  </a:lnTo>
                  <a:lnTo>
                    <a:pt x="1351" y="1324"/>
                  </a:lnTo>
                  <a:lnTo>
                    <a:pt x="1352" y="1324"/>
                  </a:lnTo>
                  <a:lnTo>
                    <a:pt x="1352" y="1326"/>
                  </a:lnTo>
                  <a:lnTo>
                    <a:pt x="1351" y="1330"/>
                  </a:lnTo>
                  <a:lnTo>
                    <a:pt x="1351" y="1333"/>
                  </a:lnTo>
                  <a:lnTo>
                    <a:pt x="1352" y="1333"/>
                  </a:lnTo>
                  <a:lnTo>
                    <a:pt x="1354" y="1336"/>
                  </a:lnTo>
                  <a:lnTo>
                    <a:pt x="1355" y="1336"/>
                  </a:lnTo>
                  <a:lnTo>
                    <a:pt x="1354" y="1338"/>
                  </a:lnTo>
                  <a:lnTo>
                    <a:pt x="1354" y="1342"/>
                  </a:lnTo>
                  <a:lnTo>
                    <a:pt x="1354" y="1345"/>
                  </a:lnTo>
                  <a:lnTo>
                    <a:pt x="1354" y="1345"/>
                  </a:lnTo>
                  <a:lnTo>
                    <a:pt x="1355" y="1345"/>
                  </a:lnTo>
                  <a:lnTo>
                    <a:pt x="1355" y="1347"/>
                  </a:lnTo>
                  <a:lnTo>
                    <a:pt x="1357" y="1350"/>
                  </a:lnTo>
                  <a:lnTo>
                    <a:pt x="1357" y="1352"/>
                  </a:lnTo>
                  <a:lnTo>
                    <a:pt x="1358" y="1352"/>
                  </a:lnTo>
                  <a:lnTo>
                    <a:pt x="1358" y="1353"/>
                  </a:lnTo>
                  <a:lnTo>
                    <a:pt x="1358" y="1356"/>
                  </a:lnTo>
                  <a:lnTo>
                    <a:pt x="1358" y="1359"/>
                  </a:lnTo>
                  <a:lnTo>
                    <a:pt x="1359" y="1359"/>
                  </a:lnTo>
                  <a:lnTo>
                    <a:pt x="1358" y="1359"/>
                  </a:lnTo>
                  <a:lnTo>
                    <a:pt x="1354" y="1359"/>
                  </a:lnTo>
                  <a:lnTo>
                    <a:pt x="1353" y="1359"/>
                  </a:lnTo>
                  <a:lnTo>
                    <a:pt x="1353" y="1357"/>
                  </a:lnTo>
                  <a:lnTo>
                    <a:pt x="1352" y="1361"/>
                  </a:lnTo>
                  <a:lnTo>
                    <a:pt x="1352" y="1362"/>
                  </a:lnTo>
                  <a:lnTo>
                    <a:pt x="1352" y="1362"/>
                  </a:lnTo>
                  <a:lnTo>
                    <a:pt x="1352" y="1365"/>
                  </a:lnTo>
                  <a:lnTo>
                    <a:pt x="1351" y="1374"/>
                  </a:lnTo>
                  <a:lnTo>
                    <a:pt x="1351" y="1380"/>
                  </a:lnTo>
                  <a:lnTo>
                    <a:pt x="1352" y="1380"/>
                  </a:lnTo>
                  <a:lnTo>
                    <a:pt x="1351" y="1382"/>
                  </a:lnTo>
                  <a:lnTo>
                    <a:pt x="1348" y="1387"/>
                  </a:lnTo>
                  <a:lnTo>
                    <a:pt x="1347" y="1390"/>
                  </a:lnTo>
                  <a:lnTo>
                    <a:pt x="1347" y="1390"/>
                  </a:lnTo>
                  <a:lnTo>
                    <a:pt x="1346" y="1391"/>
                  </a:lnTo>
                  <a:lnTo>
                    <a:pt x="1342" y="1392"/>
                  </a:lnTo>
                  <a:lnTo>
                    <a:pt x="1341" y="1394"/>
                  </a:lnTo>
                  <a:lnTo>
                    <a:pt x="1341" y="1394"/>
                  </a:lnTo>
                  <a:lnTo>
                    <a:pt x="1340" y="1397"/>
                  </a:lnTo>
                  <a:lnTo>
                    <a:pt x="1337" y="1403"/>
                  </a:lnTo>
                  <a:lnTo>
                    <a:pt x="1336" y="1408"/>
                  </a:lnTo>
                  <a:lnTo>
                    <a:pt x="1336" y="1408"/>
                  </a:lnTo>
                  <a:lnTo>
                    <a:pt x="1335" y="1409"/>
                  </a:lnTo>
                  <a:lnTo>
                    <a:pt x="1331" y="1415"/>
                  </a:lnTo>
                  <a:lnTo>
                    <a:pt x="1329" y="1419"/>
                  </a:lnTo>
                  <a:lnTo>
                    <a:pt x="1329" y="1419"/>
                  </a:lnTo>
                  <a:lnTo>
                    <a:pt x="1329" y="1421"/>
                  </a:lnTo>
                  <a:lnTo>
                    <a:pt x="1328" y="1424"/>
                  </a:lnTo>
                  <a:lnTo>
                    <a:pt x="1328" y="1427"/>
                  </a:lnTo>
                  <a:lnTo>
                    <a:pt x="1329" y="1427"/>
                  </a:lnTo>
                  <a:lnTo>
                    <a:pt x="1328" y="1432"/>
                  </a:lnTo>
                  <a:lnTo>
                    <a:pt x="1328" y="1433"/>
                  </a:lnTo>
                  <a:lnTo>
                    <a:pt x="1328" y="1433"/>
                  </a:lnTo>
                  <a:lnTo>
                    <a:pt x="1328" y="1434"/>
                  </a:lnTo>
                  <a:lnTo>
                    <a:pt x="1328" y="1435"/>
                  </a:lnTo>
                  <a:lnTo>
                    <a:pt x="1329" y="1437"/>
                  </a:lnTo>
                  <a:lnTo>
                    <a:pt x="1330" y="1437"/>
                  </a:lnTo>
                  <a:lnTo>
                    <a:pt x="1329" y="1439"/>
                  </a:lnTo>
                  <a:lnTo>
                    <a:pt x="1329" y="1445"/>
                  </a:lnTo>
                  <a:lnTo>
                    <a:pt x="1329" y="1448"/>
                  </a:lnTo>
                  <a:lnTo>
                    <a:pt x="1329" y="1448"/>
                  </a:lnTo>
                  <a:lnTo>
                    <a:pt x="1328" y="1450"/>
                  </a:lnTo>
                  <a:lnTo>
                    <a:pt x="1327" y="1457"/>
                  </a:lnTo>
                  <a:lnTo>
                    <a:pt x="1326" y="1461"/>
                  </a:lnTo>
                  <a:lnTo>
                    <a:pt x="1326" y="1461"/>
                  </a:lnTo>
                  <a:lnTo>
                    <a:pt x="1325" y="1462"/>
                  </a:lnTo>
                  <a:lnTo>
                    <a:pt x="1319" y="1466"/>
                  </a:lnTo>
                  <a:lnTo>
                    <a:pt x="1316" y="1467"/>
                  </a:lnTo>
                  <a:lnTo>
                    <a:pt x="1316" y="1467"/>
                  </a:lnTo>
                  <a:lnTo>
                    <a:pt x="1315" y="1467"/>
                  </a:lnTo>
                  <a:lnTo>
                    <a:pt x="1314" y="1467"/>
                  </a:lnTo>
                  <a:lnTo>
                    <a:pt x="1307" y="1466"/>
                  </a:lnTo>
                  <a:lnTo>
                    <a:pt x="1303" y="1466"/>
                  </a:lnTo>
                  <a:lnTo>
                    <a:pt x="1303" y="1465"/>
                  </a:lnTo>
                  <a:lnTo>
                    <a:pt x="1302" y="1467"/>
                  </a:lnTo>
                  <a:lnTo>
                    <a:pt x="1301" y="1471"/>
                  </a:lnTo>
                  <a:lnTo>
                    <a:pt x="1301" y="1474"/>
                  </a:lnTo>
                  <a:lnTo>
                    <a:pt x="1301" y="1474"/>
                  </a:lnTo>
                  <a:lnTo>
                    <a:pt x="1300" y="1477"/>
                  </a:lnTo>
                  <a:lnTo>
                    <a:pt x="1299" y="1480"/>
                  </a:lnTo>
                  <a:lnTo>
                    <a:pt x="1299" y="1482"/>
                  </a:lnTo>
                  <a:lnTo>
                    <a:pt x="1299" y="1482"/>
                  </a:lnTo>
                  <a:lnTo>
                    <a:pt x="1302" y="1487"/>
                  </a:lnTo>
                  <a:lnTo>
                    <a:pt x="1303" y="1489"/>
                  </a:lnTo>
                  <a:lnTo>
                    <a:pt x="1304" y="1489"/>
                  </a:lnTo>
                  <a:lnTo>
                    <a:pt x="1308" y="1485"/>
                  </a:lnTo>
                  <a:lnTo>
                    <a:pt x="1312" y="1484"/>
                  </a:lnTo>
                  <a:lnTo>
                    <a:pt x="1313" y="1483"/>
                  </a:lnTo>
                  <a:lnTo>
                    <a:pt x="1314" y="1483"/>
                  </a:lnTo>
                  <a:lnTo>
                    <a:pt x="1319" y="1483"/>
                  </a:lnTo>
                  <a:lnTo>
                    <a:pt x="1324" y="1483"/>
                  </a:lnTo>
                  <a:lnTo>
                    <a:pt x="1325" y="1483"/>
                  </a:lnTo>
                  <a:lnTo>
                    <a:pt x="1330" y="1481"/>
                  </a:lnTo>
                  <a:lnTo>
                    <a:pt x="1334" y="1480"/>
                  </a:lnTo>
                  <a:lnTo>
                    <a:pt x="1335" y="1479"/>
                  </a:lnTo>
                  <a:lnTo>
                    <a:pt x="1338" y="1481"/>
                  </a:lnTo>
                  <a:lnTo>
                    <a:pt x="1340" y="1481"/>
                  </a:lnTo>
                  <a:lnTo>
                    <a:pt x="1341" y="1481"/>
                  </a:lnTo>
                  <a:lnTo>
                    <a:pt x="1342" y="1480"/>
                  </a:lnTo>
                  <a:lnTo>
                    <a:pt x="1343" y="1479"/>
                  </a:lnTo>
                  <a:lnTo>
                    <a:pt x="1344" y="1478"/>
                  </a:lnTo>
                  <a:lnTo>
                    <a:pt x="1344" y="1477"/>
                  </a:lnTo>
                  <a:lnTo>
                    <a:pt x="1344" y="1471"/>
                  </a:lnTo>
                  <a:lnTo>
                    <a:pt x="1344" y="1468"/>
                  </a:lnTo>
                  <a:lnTo>
                    <a:pt x="1346" y="1467"/>
                  </a:lnTo>
                  <a:lnTo>
                    <a:pt x="1346" y="1466"/>
                  </a:lnTo>
                  <a:lnTo>
                    <a:pt x="1347" y="1460"/>
                  </a:lnTo>
                  <a:lnTo>
                    <a:pt x="1348" y="1457"/>
                  </a:lnTo>
                  <a:lnTo>
                    <a:pt x="1349" y="1456"/>
                  </a:lnTo>
                  <a:lnTo>
                    <a:pt x="1349" y="1455"/>
                  </a:lnTo>
                  <a:lnTo>
                    <a:pt x="1349" y="1449"/>
                  </a:lnTo>
                  <a:lnTo>
                    <a:pt x="1349" y="1446"/>
                  </a:lnTo>
                  <a:lnTo>
                    <a:pt x="1350" y="1445"/>
                  </a:lnTo>
                  <a:lnTo>
                    <a:pt x="1353" y="1439"/>
                  </a:lnTo>
                  <a:lnTo>
                    <a:pt x="1354" y="1436"/>
                  </a:lnTo>
                  <a:lnTo>
                    <a:pt x="1355" y="1435"/>
                  </a:lnTo>
                  <a:lnTo>
                    <a:pt x="1359" y="1429"/>
                  </a:lnTo>
                  <a:lnTo>
                    <a:pt x="1361" y="1424"/>
                  </a:lnTo>
                  <a:lnTo>
                    <a:pt x="1362" y="1423"/>
                  </a:lnTo>
                  <a:lnTo>
                    <a:pt x="1365" y="1427"/>
                  </a:lnTo>
                  <a:lnTo>
                    <a:pt x="1367" y="1429"/>
                  </a:lnTo>
                  <a:lnTo>
                    <a:pt x="1369" y="1429"/>
                  </a:lnTo>
                  <a:lnTo>
                    <a:pt x="1370" y="1431"/>
                  </a:lnTo>
                  <a:lnTo>
                    <a:pt x="1373" y="1436"/>
                  </a:lnTo>
                  <a:lnTo>
                    <a:pt x="1375" y="1441"/>
                  </a:lnTo>
                  <a:lnTo>
                    <a:pt x="1376" y="1441"/>
                  </a:lnTo>
                  <a:lnTo>
                    <a:pt x="1376" y="1442"/>
                  </a:lnTo>
                  <a:lnTo>
                    <a:pt x="1376" y="1444"/>
                  </a:lnTo>
                  <a:lnTo>
                    <a:pt x="1378" y="1452"/>
                  </a:lnTo>
                  <a:lnTo>
                    <a:pt x="1379" y="1457"/>
                  </a:lnTo>
                  <a:lnTo>
                    <a:pt x="1381" y="1457"/>
                  </a:lnTo>
                  <a:lnTo>
                    <a:pt x="1381" y="1460"/>
                  </a:lnTo>
                  <a:lnTo>
                    <a:pt x="1379" y="1467"/>
                  </a:lnTo>
                  <a:lnTo>
                    <a:pt x="1379" y="1471"/>
                  </a:lnTo>
                  <a:lnTo>
                    <a:pt x="1381" y="1471"/>
                  </a:lnTo>
                  <a:lnTo>
                    <a:pt x="1379" y="1474"/>
                  </a:lnTo>
                  <a:lnTo>
                    <a:pt x="1378" y="1481"/>
                  </a:lnTo>
                  <a:lnTo>
                    <a:pt x="1377" y="1485"/>
                  </a:lnTo>
                  <a:lnTo>
                    <a:pt x="1377" y="1485"/>
                  </a:lnTo>
                  <a:lnTo>
                    <a:pt x="1376" y="1487"/>
                  </a:lnTo>
                  <a:lnTo>
                    <a:pt x="1375" y="1489"/>
                  </a:lnTo>
                  <a:lnTo>
                    <a:pt x="1372" y="1495"/>
                  </a:lnTo>
                  <a:lnTo>
                    <a:pt x="1370" y="1501"/>
                  </a:lnTo>
                  <a:lnTo>
                    <a:pt x="1370" y="1501"/>
                  </a:lnTo>
                  <a:lnTo>
                    <a:pt x="1369" y="1502"/>
                  </a:lnTo>
                  <a:lnTo>
                    <a:pt x="1365" y="1506"/>
                  </a:lnTo>
                  <a:lnTo>
                    <a:pt x="1363" y="1508"/>
                  </a:lnTo>
                  <a:lnTo>
                    <a:pt x="1363" y="1508"/>
                  </a:lnTo>
                  <a:lnTo>
                    <a:pt x="1366" y="1511"/>
                  </a:lnTo>
                  <a:lnTo>
                    <a:pt x="1367" y="1512"/>
                  </a:lnTo>
                  <a:lnTo>
                    <a:pt x="1369" y="1512"/>
                  </a:lnTo>
                  <a:lnTo>
                    <a:pt x="1372" y="1512"/>
                  </a:lnTo>
                  <a:lnTo>
                    <a:pt x="1374" y="1512"/>
                  </a:lnTo>
                  <a:lnTo>
                    <a:pt x="1375" y="1511"/>
                  </a:lnTo>
                  <a:lnTo>
                    <a:pt x="1376" y="1511"/>
                  </a:lnTo>
                  <a:lnTo>
                    <a:pt x="1377" y="1511"/>
                  </a:lnTo>
                  <a:lnTo>
                    <a:pt x="1378" y="1511"/>
                  </a:lnTo>
                  <a:lnTo>
                    <a:pt x="1382" y="1509"/>
                  </a:lnTo>
                  <a:lnTo>
                    <a:pt x="1384" y="1509"/>
                  </a:lnTo>
                  <a:lnTo>
                    <a:pt x="1385" y="1508"/>
                  </a:lnTo>
                  <a:lnTo>
                    <a:pt x="1386" y="1508"/>
                  </a:lnTo>
                  <a:lnTo>
                    <a:pt x="1389" y="1507"/>
                  </a:lnTo>
                  <a:lnTo>
                    <a:pt x="1393" y="1506"/>
                  </a:lnTo>
                  <a:lnTo>
                    <a:pt x="1394" y="1505"/>
                  </a:lnTo>
                  <a:lnTo>
                    <a:pt x="1397" y="1504"/>
                  </a:lnTo>
                  <a:lnTo>
                    <a:pt x="1398" y="1504"/>
                  </a:lnTo>
                  <a:lnTo>
                    <a:pt x="1399" y="1503"/>
                  </a:lnTo>
                  <a:lnTo>
                    <a:pt x="1400" y="1502"/>
                  </a:lnTo>
                  <a:lnTo>
                    <a:pt x="1402" y="1501"/>
                  </a:lnTo>
                  <a:lnTo>
                    <a:pt x="1406" y="1500"/>
                  </a:lnTo>
                  <a:lnTo>
                    <a:pt x="1407" y="1500"/>
                  </a:lnTo>
                  <a:lnTo>
                    <a:pt x="1408" y="1499"/>
                  </a:lnTo>
                  <a:lnTo>
                    <a:pt x="1409" y="1499"/>
                  </a:lnTo>
                  <a:lnTo>
                    <a:pt x="1416" y="1499"/>
                  </a:lnTo>
                  <a:lnTo>
                    <a:pt x="1420" y="1499"/>
                  </a:lnTo>
                  <a:lnTo>
                    <a:pt x="1421" y="1497"/>
                  </a:lnTo>
                  <a:lnTo>
                    <a:pt x="1421" y="1499"/>
                  </a:lnTo>
                  <a:lnTo>
                    <a:pt x="1421" y="1500"/>
                  </a:lnTo>
                  <a:lnTo>
                    <a:pt x="1421" y="1501"/>
                  </a:lnTo>
                  <a:lnTo>
                    <a:pt x="1422" y="1501"/>
                  </a:lnTo>
                  <a:lnTo>
                    <a:pt x="1421" y="1502"/>
                  </a:lnTo>
                  <a:lnTo>
                    <a:pt x="1418" y="1511"/>
                  </a:lnTo>
                  <a:lnTo>
                    <a:pt x="1416" y="1515"/>
                  </a:lnTo>
                  <a:lnTo>
                    <a:pt x="1416" y="1515"/>
                  </a:lnTo>
                  <a:lnTo>
                    <a:pt x="1417" y="1517"/>
                  </a:lnTo>
                  <a:lnTo>
                    <a:pt x="1418" y="1517"/>
                  </a:lnTo>
                  <a:lnTo>
                    <a:pt x="1421" y="1524"/>
                  </a:lnTo>
                  <a:lnTo>
                    <a:pt x="1423" y="1527"/>
                  </a:lnTo>
                  <a:lnTo>
                    <a:pt x="1424" y="1527"/>
                  </a:lnTo>
                  <a:lnTo>
                    <a:pt x="1425" y="1529"/>
                  </a:lnTo>
                  <a:lnTo>
                    <a:pt x="1429" y="1536"/>
                  </a:lnTo>
                  <a:lnTo>
                    <a:pt x="1432" y="1540"/>
                  </a:lnTo>
                  <a:lnTo>
                    <a:pt x="1433" y="1540"/>
                  </a:lnTo>
                  <a:lnTo>
                    <a:pt x="1433" y="1541"/>
                  </a:lnTo>
                  <a:lnTo>
                    <a:pt x="1433" y="1542"/>
                  </a:lnTo>
                  <a:lnTo>
                    <a:pt x="1433" y="1543"/>
                  </a:lnTo>
                  <a:lnTo>
                    <a:pt x="1434" y="1543"/>
                  </a:lnTo>
                  <a:lnTo>
                    <a:pt x="1434" y="1545"/>
                  </a:lnTo>
                  <a:lnTo>
                    <a:pt x="1435" y="1548"/>
                  </a:lnTo>
                  <a:lnTo>
                    <a:pt x="1435" y="1550"/>
                  </a:lnTo>
                  <a:lnTo>
                    <a:pt x="1436" y="1550"/>
                  </a:lnTo>
                  <a:lnTo>
                    <a:pt x="1436" y="1551"/>
                  </a:lnTo>
                  <a:lnTo>
                    <a:pt x="1436" y="1552"/>
                  </a:lnTo>
                  <a:lnTo>
                    <a:pt x="1437" y="1555"/>
                  </a:lnTo>
                  <a:lnTo>
                    <a:pt x="1437" y="1559"/>
                  </a:lnTo>
                  <a:lnTo>
                    <a:pt x="1438" y="1559"/>
                  </a:lnTo>
                  <a:lnTo>
                    <a:pt x="1441" y="1565"/>
                  </a:lnTo>
                  <a:lnTo>
                    <a:pt x="1442" y="1569"/>
                  </a:lnTo>
                  <a:lnTo>
                    <a:pt x="1443" y="1569"/>
                  </a:lnTo>
                  <a:lnTo>
                    <a:pt x="1442" y="1571"/>
                  </a:lnTo>
                  <a:lnTo>
                    <a:pt x="1442" y="1577"/>
                  </a:lnTo>
                  <a:lnTo>
                    <a:pt x="1442" y="1582"/>
                  </a:lnTo>
                  <a:lnTo>
                    <a:pt x="1442" y="1582"/>
                  </a:lnTo>
                  <a:lnTo>
                    <a:pt x="1441" y="1583"/>
                  </a:lnTo>
                  <a:lnTo>
                    <a:pt x="1437" y="1587"/>
                  </a:lnTo>
                  <a:lnTo>
                    <a:pt x="1436" y="1590"/>
                  </a:lnTo>
                  <a:lnTo>
                    <a:pt x="1436" y="1590"/>
                  </a:lnTo>
                  <a:lnTo>
                    <a:pt x="1436" y="1592"/>
                  </a:lnTo>
                  <a:lnTo>
                    <a:pt x="1435" y="1595"/>
                  </a:lnTo>
                  <a:lnTo>
                    <a:pt x="1436" y="1595"/>
                  </a:lnTo>
                  <a:lnTo>
                    <a:pt x="1436" y="1596"/>
                  </a:lnTo>
                  <a:lnTo>
                    <a:pt x="1436" y="1597"/>
                  </a:lnTo>
                  <a:lnTo>
                    <a:pt x="1438" y="1602"/>
                  </a:lnTo>
                  <a:lnTo>
                    <a:pt x="1440" y="1607"/>
                  </a:lnTo>
                  <a:lnTo>
                    <a:pt x="1441" y="1607"/>
                  </a:lnTo>
                  <a:lnTo>
                    <a:pt x="1444" y="1617"/>
                  </a:lnTo>
                  <a:lnTo>
                    <a:pt x="1446" y="1622"/>
                  </a:lnTo>
                  <a:lnTo>
                    <a:pt x="1447" y="1622"/>
                  </a:lnTo>
                  <a:lnTo>
                    <a:pt x="1448" y="1623"/>
                  </a:lnTo>
                  <a:lnTo>
                    <a:pt x="1452" y="1627"/>
                  </a:lnTo>
                  <a:lnTo>
                    <a:pt x="1455" y="1629"/>
                  </a:lnTo>
                  <a:lnTo>
                    <a:pt x="1456" y="1629"/>
                  </a:lnTo>
                  <a:lnTo>
                    <a:pt x="1456" y="1630"/>
                  </a:lnTo>
                  <a:lnTo>
                    <a:pt x="1456" y="1631"/>
                  </a:lnTo>
                  <a:lnTo>
                    <a:pt x="1458" y="1636"/>
                  </a:lnTo>
                  <a:lnTo>
                    <a:pt x="1459" y="1641"/>
                  </a:lnTo>
                  <a:lnTo>
                    <a:pt x="1460" y="1641"/>
                  </a:lnTo>
                  <a:lnTo>
                    <a:pt x="1461" y="1643"/>
                  </a:lnTo>
                  <a:lnTo>
                    <a:pt x="1465" y="1647"/>
                  </a:lnTo>
                  <a:lnTo>
                    <a:pt x="1467" y="1651"/>
                  </a:lnTo>
                  <a:lnTo>
                    <a:pt x="1468" y="1651"/>
                  </a:lnTo>
                  <a:lnTo>
                    <a:pt x="1475" y="1656"/>
                  </a:lnTo>
                  <a:lnTo>
                    <a:pt x="1479" y="1658"/>
                  </a:lnTo>
                  <a:lnTo>
                    <a:pt x="1480" y="1658"/>
                  </a:lnTo>
                  <a:lnTo>
                    <a:pt x="1482" y="1659"/>
                  </a:lnTo>
                  <a:lnTo>
                    <a:pt x="1490" y="1660"/>
                  </a:lnTo>
                  <a:lnTo>
                    <a:pt x="1495" y="1662"/>
                  </a:lnTo>
                  <a:lnTo>
                    <a:pt x="1496" y="1662"/>
                  </a:lnTo>
                  <a:lnTo>
                    <a:pt x="1499" y="1664"/>
                  </a:lnTo>
                  <a:lnTo>
                    <a:pt x="1505" y="1667"/>
                  </a:lnTo>
                  <a:lnTo>
                    <a:pt x="1511" y="1670"/>
                  </a:lnTo>
                  <a:lnTo>
                    <a:pt x="1512" y="1670"/>
                  </a:lnTo>
                  <a:lnTo>
                    <a:pt x="1515" y="1677"/>
                  </a:lnTo>
                  <a:lnTo>
                    <a:pt x="1516" y="1680"/>
                  </a:lnTo>
                  <a:lnTo>
                    <a:pt x="1517" y="1680"/>
                  </a:lnTo>
                  <a:lnTo>
                    <a:pt x="1518" y="1681"/>
                  </a:lnTo>
                  <a:lnTo>
                    <a:pt x="1519" y="1680"/>
                  </a:lnTo>
                  <a:lnTo>
                    <a:pt x="1523" y="1679"/>
                  </a:lnTo>
                  <a:lnTo>
                    <a:pt x="1525" y="1678"/>
                  </a:lnTo>
                  <a:lnTo>
                    <a:pt x="1526" y="1677"/>
                  </a:lnTo>
                  <a:lnTo>
                    <a:pt x="1527" y="1677"/>
                  </a:lnTo>
                  <a:lnTo>
                    <a:pt x="1530" y="1676"/>
                  </a:lnTo>
                  <a:lnTo>
                    <a:pt x="1533" y="1676"/>
                  </a:lnTo>
                  <a:lnTo>
                    <a:pt x="1534" y="1675"/>
                  </a:lnTo>
                  <a:lnTo>
                    <a:pt x="1537" y="1677"/>
                  </a:lnTo>
                  <a:lnTo>
                    <a:pt x="1539" y="1678"/>
                  </a:lnTo>
                  <a:lnTo>
                    <a:pt x="1540" y="1678"/>
                  </a:lnTo>
                  <a:lnTo>
                    <a:pt x="1547" y="1681"/>
                  </a:lnTo>
                  <a:lnTo>
                    <a:pt x="1550" y="1682"/>
                  </a:lnTo>
                  <a:lnTo>
                    <a:pt x="1551" y="1682"/>
                  </a:lnTo>
                  <a:lnTo>
                    <a:pt x="1559" y="1685"/>
                  </a:lnTo>
                  <a:lnTo>
                    <a:pt x="1563" y="1685"/>
                  </a:lnTo>
                  <a:lnTo>
                    <a:pt x="1564" y="1685"/>
                  </a:lnTo>
                  <a:lnTo>
                    <a:pt x="1565" y="1686"/>
                  </a:lnTo>
                  <a:lnTo>
                    <a:pt x="1569" y="1688"/>
                  </a:lnTo>
                  <a:lnTo>
                    <a:pt x="1571" y="1689"/>
                  </a:lnTo>
                  <a:lnTo>
                    <a:pt x="1572" y="1689"/>
                  </a:lnTo>
                  <a:lnTo>
                    <a:pt x="1574" y="1691"/>
                  </a:lnTo>
                  <a:lnTo>
                    <a:pt x="1581" y="1697"/>
                  </a:lnTo>
                  <a:lnTo>
                    <a:pt x="1585" y="1700"/>
                  </a:lnTo>
                  <a:lnTo>
                    <a:pt x="1586" y="1700"/>
                  </a:lnTo>
                  <a:lnTo>
                    <a:pt x="1588" y="1702"/>
                  </a:lnTo>
                  <a:lnTo>
                    <a:pt x="1596" y="1705"/>
                  </a:lnTo>
                  <a:lnTo>
                    <a:pt x="1602" y="1709"/>
                  </a:lnTo>
                  <a:lnTo>
                    <a:pt x="1604" y="1709"/>
                  </a:lnTo>
                  <a:lnTo>
                    <a:pt x="1605" y="1713"/>
                  </a:lnTo>
                  <a:lnTo>
                    <a:pt x="1606" y="1714"/>
                  </a:lnTo>
                  <a:lnTo>
                    <a:pt x="1607" y="1714"/>
                  </a:lnTo>
                  <a:lnTo>
                    <a:pt x="1608" y="1714"/>
                  </a:lnTo>
                  <a:lnTo>
                    <a:pt x="1613" y="1713"/>
                  </a:lnTo>
                  <a:lnTo>
                    <a:pt x="1617" y="1713"/>
                  </a:lnTo>
                  <a:lnTo>
                    <a:pt x="1618" y="1712"/>
                  </a:lnTo>
                  <a:lnTo>
                    <a:pt x="1619" y="1711"/>
                  </a:lnTo>
                  <a:lnTo>
                    <a:pt x="1621" y="1710"/>
                  </a:lnTo>
                  <a:lnTo>
                    <a:pt x="1629" y="1706"/>
                  </a:lnTo>
                  <a:lnTo>
                    <a:pt x="1633" y="1705"/>
                  </a:lnTo>
                  <a:lnTo>
                    <a:pt x="1634" y="1704"/>
                  </a:lnTo>
                  <a:lnTo>
                    <a:pt x="1635" y="1703"/>
                  </a:lnTo>
                  <a:lnTo>
                    <a:pt x="1640" y="1698"/>
                  </a:lnTo>
                  <a:lnTo>
                    <a:pt x="1643" y="1694"/>
                  </a:lnTo>
                  <a:lnTo>
                    <a:pt x="1644" y="1693"/>
                  </a:lnTo>
                  <a:lnTo>
                    <a:pt x="1645" y="1692"/>
                  </a:lnTo>
                  <a:lnTo>
                    <a:pt x="1649" y="1689"/>
                  </a:lnTo>
                  <a:lnTo>
                    <a:pt x="1653" y="1687"/>
                  </a:lnTo>
                  <a:lnTo>
                    <a:pt x="1654" y="1686"/>
                  </a:lnTo>
                  <a:lnTo>
                    <a:pt x="1655" y="1686"/>
                  </a:lnTo>
                  <a:lnTo>
                    <a:pt x="1659" y="1685"/>
                  </a:lnTo>
                  <a:lnTo>
                    <a:pt x="1663" y="1683"/>
                  </a:lnTo>
                  <a:lnTo>
                    <a:pt x="1664" y="1682"/>
                  </a:lnTo>
                  <a:lnTo>
                    <a:pt x="1665" y="1682"/>
                  </a:lnTo>
                  <a:lnTo>
                    <a:pt x="1668" y="1682"/>
                  </a:lnTo>
                  <a:lnTo>
                    <a:pt x="1670" y="1682"/>
                  </a:lnTo>
                  <a:lnTo>
                    <a:pt x="1671" y="1681"/>
                  </a:lnTo>
                  <a:lnTo>
                    <a:pt x="1671" y="1679"/>
                  </a:lnTo>
                  <a:lnTo>
                    <a:pt x="1669" y="1678"/>
                  </a:lnTo>
                  <a:lnTo>
                    <a:pt x="1664" y="1675"/>
                  </a:lnTo>
                  <a:lnTo>
                    <a:pt x="1660" y="1671"/>
                  </a:lnTo>
                  <a:lnTo>
                    <a:pt x="1660" y="1670"/>
                  </a:lnTo>
                  <a:lnTo>
                    <a:pt x="1662" y="1670"/>
                  </a:lnTo>
                  <a:lnTo>
                    <a:pt x="1665" y="1670"/>
                  </a:lnTo>
                  <a:lnTo>
                    <a:pt x="1668" y="1670"/>
                  </a:lnTo>
                  <a:lnTo>
                    <a:pt x="1669" y="1670"/>
                  </a:lnTo>
                  <a:lnTo>
                    <a:pt x="1675" y="1667"/>
                  </a:lnTo>
                  <a:lnTo>
                    <a:pt x="1678" y="1665"/>
                  </a:lnTo>
                  <a:lnTo>
                    <a:pt x="1679" y="1664"/>
                  </a:lnTo>
                  <a:lnTo>
                    <a:pt x="1681" y="1663"/>
                  </a:lnTo>
                  <a:lnTo>
                    <a:pt x="1683" y="1662"/>
                  </a:lnTo>
                  <a:lnTo>
                    <a:pt x="1684" y="1663"/>
                  </a:lnTo>
                  <a:lnTo>
                    <a:pt x="1688" y="1665"/>
                  </a:lnTo>
                  <a:lnTo>
                    <a:pt x="1691" y="1666"/>
                  </a:lnTo>
                  <a:lnTo>
                    <a:pt x="1692" y="1666"/>
                  </a:lnTo>
                  <a:lnTo>
                    <a:pt x="1691" y="1668"/>
                  </a:lnTo>
                  <a:lnTo>
                    <a:pt x="1691" y="1674"/>
                  </a:lnTo>
                  <a:lnTo>
                    <a:pt x="1691" y="1678"/>
                  </a:lnTo>
                  <a:lnTo>
                    <a:pt x="1691" y="1678"/>
                  </a:lnTo>
                  <a:lnTo>
                    <a:pt x="1690" y="1680"/>
                  </a:lnTo>
                  <a:lnTo>
                    <a:pt x="1689" y="1683"/>
                  </a:lnTo>
                  <a:lnTo>
                    <a:pt x="1688" y="1687"/>
                  </a:lnTo>
                  <a:lnTo>
                    <a:pt x="1688" y="1687"/>
                  </a:lnTo>
                  <a:lnTo>
                    <a:pt x="1687" y="1687"/>
                  </a:lnTo>
                  <a:lnTo>
                    <a:pt x="1686" y="1687"/>
                  </a:lnTo>
                  <a:lnTo>
                    <a:pt x="1680" y="1687"/>
                  </a:lnTo>
                  <a:lnTo>
                    <a:pt x="1676" y="1687"/>
                  </a:lnTo>
                  <a:lnTo>
                    <a:pt x="1676" y="1686"/>
                  </a:lnTo>
                  <a:lnTo>
                    <a:pt x="1678" y="1690"/>
                  </a:lnTo>
                  <a:lnTo>
                    <a:pt x="1679" y="1691"/>
                  </a:lnTo>
                  <a:lnTo>
                    <a:pt x="1680" y="1691"/>
                  </a:lnTo>
                  <a:lnTo>
                    <a:pt x="1681" y="1692"/>
                  </a:lnTo>
                  <a:lnTo>
                    <a:pt x="1684" y="1694"/>
                  </a:lnTo>
                  <a:lnTo>
                    <a:pt x="1688" y="1695"/>
                  </a:lnTo>
                  <a:lnTo>
                    <a:pt x="1689" y="1695"/>
                  </a:lnTo>
                  <a:lnTo>
                    <a:pt x="1690" y="1695"/>
                  </a:lnTo>
                  <a:lnTo>
                    <a:pt x="1693" y="1694"/>
                  </a:lnTo>
                  <a:lnTo>
                    <a:pt x="1696" y="1693"/>
                  </a:lnTo>
                  <a:lnTo>
                    <a:pt x="1698" y="1692"/>
                  </a:lnTo>
                  <a:lnTo>
                    <a:pt x="1701" y="1691"/>
                  </a:lnTo>
                  <a:lnTo>
                    <a:pt x="1702" y="1690"/>
                  </a:lnTo>
                  <a:lnTo>
                    <a:pt x="1703" y="1689"/>
                  </a:lnTo>
                  <a:lnTo>
                    <a:pt x="1706" y="1687"/>
                  </a:lnTo>
                  <a:lnTo>
                    <a:pt x="1707" y="1686"/>
                  </a:lnTo>
                  <a:lnTo>
                    <a:pt x="1709" y="1685"/>
                  </a:lnTo>
                  <a:lnTo>
                    <a:pt x="1712" y="1690"/>
                  </a:lnTo>
                  <a:lnTo>
                    <a:pt x="1714" y="1692"/>
                  </a:lnTo>
                  <a:lnTo>
                    <a:pt x="1715" y="1692"/>
                  </a:lnTo>
                  <a:lnTo>
                    <a:pt x="1714" y="1693"/>
                  </a:lnTo>
                  <a:lnTo>
                    <a:pt x="1712" y="1698"/>
                  </a:lnTo>
                  <a:lnTo>
                    <a:pt x="1711" y="1701"/>
                  </a:lnTo>
                  <a:lnTo>
                    <a:pt x="1711" y="1701"/>
                  </a:lnTo>
                  <a:lnTo>
                    <a:pt x="1711" y="1702"/>
                  </a:lnTo>
                  <a:lnTo>
                    <a:pt x="1710" y="1705"/>
                  </a:lnTo>
                  <a:lnTo>
                    <a:pt x="1711" y="1705"/>
                  </a:lnTo>
                  <a:lnTo>
                    <a:pt x="1714" y="1711"/>
                  </a:lnTo>
                  <a:lnTo>
                    <a:pt x="1716" y="1713"/>
                  </a:lnTo>
                  <a:lnTo>
                    <a:pt x="1717" y="1713"/>
                  </a:lnTo>
                  <a:lnTo>
                    <a:pt x="1721" y="1713"/>
                  </a:lnTo>
                  <a:lnTo>
                    <a:pt x="1722" y="1713"/>
                  </a:lnTo>
                  <a:lnTo>
                    <a:pt x="1723" y="1713"/>
                  </a:lnTo>
                  <a:lnTo>
                    <a:pt x="1725" y="1714"/>
                  </a:lnTo>
                  <a:lnTo>
                    <a:pt x="1726" y="1714"/>
                  </a:lnTo>
                  <a:lnTo>
                    <a:pt x="1727" y="1714"/>
                  </a:lnTo>
                  <a:lnTo>
                    <a:pt x="1727" y="1715"/>
                  </a:lnTo>
                  <a:lnTo>
                    <a:pt x="1727" y="1716"/>
                  </a:lnTo>
                  <a:lnTo>
                    <a:pt x="1728" y="1720"/>
                  </a:lnTo>
                  <a:lnTo>
                    <a:pt x="1728" y="1723"/>
                  </a:lnTo>
                  <a:lnTo>
                    <a:pt x="1729" y="1723"/>
                  </a:lnTo>
                  <a:lnTo>
                    <a:pt x="1730" y="1724"/>
                  </a:lnTo>
                  <a:lnTo>
                    <a:pt x="1734" y="1725"/>
                  </a:lnTo>
                  <a:lnTo>
                    <a:pt x="1736" y="1726"/>
                  </a:lnTo>
                  <a:lnTo>
                    <a:pt x="1737" y="1726"/>
                  </a:lnTo>
                  <a:lnTo>
                    <a:pt x="1739" y="1726"/>
                  </a:lnTo>
                  <a:lnTo>
                    <a:pt x="1740" y="1726"/>
                  </a:lnTo>
                  <a:lnTo>
                    <a:pt x="1741" y="1726"/>
                  </a:lnTo>
                  <a:lnTo>
                    <a:pt x="1742" y="1732"/>
                  </a:lnTo>
                  <a:lnTo>
                    <a:pt x="1744" y="1734"/>
                  </a:lnTo>
                  <a:lnTo>
                    <a:pt x="1745" y="1734"/>
                  </a:lnTo>
                  <a:lnTo>
                    <a:pt x="1748" y="1740"/>
                  </a:lnTo>
                  <a:lnTo>
                    <a:pt x="1750" y="1744"/>
                  </a:lnTo>
                  <a:lnTo>
                    <a:pt x="1751" y="1744"/>
                  </a:lnTo>
                  <a:lnTo>
                    <a:pt x="1752" y="1740"/>
                  </a:lnTo>
                  <a:lnTo>
                    <a:pt x="1753" y="1739"/>
                  </a:lnTo>
                  <a:lnTo>
                    <a:pt x="1754" y="1738"/>
                  </a:lnTo>
                  <a:lnTo>
                    <a:pt x="1754" y="1737"/>
                  </a:lnTo>
                  <a:lnTo>
                    <a:pt x="1756" y="1734"/>
                  </a:lnTo>
                  <a:lnTo>
                    <a:pt x="1756" y="1732"/>
                  </a:lnTo>
                  <a:lnTo>
                    <a:pt x="1757" y="1730"/>
                  </a:lnTo>
                  <a:lnTo>
                    <a:pt x="1759" y="1725"/>
                  </a:lnTo>
                  <a:lnTo>
                    <a:pt x="1760" y="1722"/>
                  </a:lnTo>
                  <a:lnTo>
                    <a:pt x="1761" y="1721"/>
                  </a:lnTo>
                  <a:lnTo>
                    <a:pt x="1760" y="1721"/>
                  </a:lnTo>
                  <a:lnTo>
                    <a:pt x="1759" y="1721"/>
                  </a:lnTo>
                  <a:lnTo>
                    <a:pt x="1758" y="1721"/>
                  </a:lnTo>
                  <a:lnTo>
                    <a:pt x="1758" y="1721"/>
                  </a:lnTo>
                  <a:lnTo>
                    <a:pt x="1757" y="1722"/>
                  </a:lnTo>
                  <a:lnTo>
                    <a:pt x="1753" y="1723"/>
                  </a:lnTo>
                  <a:lnTo>
                    <a:pt x="1751" y="1724"/>
                  </a:lnTo>
                  <a:lnTo>
                    <a:pt x="1751" y="1724"/>
                  </a:lnTo>
                  <a:lnTo>
                    <a:pt x="1750" y="1725"/>
                  </a:lnTo>
                  <a:lnTo>
                    <a:pt x="1749" y="1728"/>
                  </a:lnTo>
                  <a:lnTo>
                    <a:pt x="1748" y="1729"/>
                  </a:lnTo>
                  <a:lnTo>
                    <a:pt x="1748" y="1729"/>
                  </a:lnTo>
                  <a:lnTo>
                    <a:pt x="1746" y="1727"/>
                  </a:lnTo>
                  <a:lnTo>
                    <a:pt x="1746" y="1725"/>
                  </a:lnTo>
                  <a:lnTo>
                    <a:pt x="1746" y="1724"/>
                  </a:lnTo>
                  <a:lnTo>
                    <a:pt x="1746" y="1721"/>
                  </a:lnTo>
                  <a:lnTo>
                    <a:pt x="1746" y="1718"/>
                  </a:lnTo>
                  <a:lnTo>
                    <a:pt x="1747" y="1717"/>
                  </a:lnTo>
                  <a:lnTo>
                    <a:pt x="1749" y="1717"/>
                  </a:lnTo>
                  <a:lnTo>
                    <a:pt x="1750" y="1717"/>
                  </a:lnTo>
                  <a:lnTo>
                    <a:pt x="1751" y="1716"/>
                  </a:lnTo>
                  <a:lnTo>
                    <a:pt x="1754" y="1718"/>
                  </a:lnTo>
                  <a:lnTo>
                    <a:pt x="1756" y="1718"/>
                  </a:lnTo>
                  <a:lnTo>
                    <a:pt x="1757" y="1718"/>
                  </a:lnTo>
                  <a:lnTo>
                    <a:pt x="1758" y="1718"/>
                  </a:lnTo>
                  <a:lnTo>
                    <a:pt x="1761" y="1717"/>
                  </a:lnTo>
                  <a:lnTo>
                    <a:pt x="1763" y="1717"/>
                  </a:lnTo>
                  <a:lnTo>
                    <a:pt x="1764" y="1716"/>
                  </a:lnTo>
                  <a:lnTo>
                    <a:pt x="1768" y="1716"/>
                  </a:lnTo>
                  <a:lnTo>
                    <a:pt x="1769" y="1716"/>
                  </a:lnTo>
                  <a:lnTo>
                    <a:pt x="1770" y="1715"/>
                  </a:lnTo>
                  <a:lnTo>
                    <a:pt x="1771" y="1717"/>
                  </a:lnTo>
                  <a:lnTo>
                    <a:pt x="1772" y="1718"/>
                  </a:lnTo>
                  <a:lnTo>
                    <a:pt x="1775" y="1716"/>
                  </a:lnTo>
                  <a:lnTo>
                    <a:pt x="1776" y="1715"/>
                  </a:lnTo>
                  <a:lnTo>
                    <a:pt x="1777" y="1714"/>
                  </a:lnTo>
                  <a:lnTo>
                    <a:pt x="1784" y="1711"/>
                  </a:lnTo>
                  <a:lnTo>
                    <a:pt x="1787" y="1710"/>
                  </a:lnTo>
                  <a:lnTo>
                    <a:pt x="1788" y="1709"/>
                  </a:lnTo>
                  <a:lnTo>
                    <a:pt x="1789" y="1706"/>
                  </a:lnTo>
                  <a:lnTo>
                    <a:pt x="1791" y="1705"/>
                  </a:lnTo>
                  <a:lnTo>
                    <a:pt x="1792" y="1704"/>
                  </a:lnTo>
                  <a:lnTo>
                    <a:pt x="1793" y="1703"/>
                  </a:lnTo>
                  <a:lnTo>
                    <a:pt x="1795" y="1702"/>
                  </a:lnTo>
                  <a:lnTo>
                    <a:pt x="1797" y="1700"/>
                  </a:lnTo>
                  <a:lnTo>
                    <a:pt x="1798" y="1699"/>
                  </a:lnTo>
                  <a:lnTo>
                    <a:pt x="1799" y="1698"/>
                  </a:lnTo>
                  <a:lnTo>
                    <a:pt x="1806" y="1694"/>
                  </a:lnTo>
                  <a:lnTo>
                    <a:pt x="1810" y="1692"/>
                  </a:lnTo>
                  <a:lnTo>
                    <a:pt x="1811" y="1691"/>
                  </a:lnTo>
                  <a:lnTo>
                    <a:pt x="1812" y="1690"/>
                  </a:lnTo>
                  <a:lnTo>
                    <a:pt x="1816" y="1687"/>
                  </a:lnTo>
                  <a:lnTo>
                    <a:pt x="1819" y="1685"/>
                  </a:lnTo>
                  <a:lnTo>
                    <a:pt x="1820" y="1683"/>
                  </a:lnTo>
                  <a:lnTo>
                    <a:pt x="1821" y="1683"/>
                  </a:lnTo>
                  <a:lnTo>
                    <a:pt x="1827" y="1682"/>
                  </a:lnTo>
                  <a:lnTo>
                    <a:pt x="1830" y="1681"/>
                  </a:lnTo>
                  <a:lnTo>
                    <a:pt x="1831" y="1680"/>
                  </a:lnTo>
                  <a:lnTo>
                    <a:pt x="1836" y="1678"/>
                  </a:lnTo>
                  <a:lnTo>
                    <a:pt x="1840" y="1677"/>
                  </a:lnTo>
                  <a:lnTo>
                    <a:pt x="1841" y="1676"/>
                  </a:lnTo>
                  <a:lnTo>
                    <a:pt x="1842" y="1676"/>
                  </a:lnTo>
                  <a:lnTo>
                    <a:pt x="1847" y="1675"/>
                  </a:lnTo>
                  <a:lnTo>
                    <a:pt x="1852" y="1675"/>
                  </a:lnTo>
                  <a:lnTo>
                    <a:pt x="1853" y="1674"/>
                  </a:lnTo>
                  <a:lnTo>
                    <a:pt x="1854" y="1674"/>
                  </a:lnTo>
                  <a:lnTo>
                    <a:pt x="1857" y="1674"/>
                  </a:lnTo>
                  <a:lnTo>
                    <a:pt x="1860" y="1674"/>
                  </a:lnTo>
                  <a:lnTo>
                    <a:pt x="1862" y="1674"/>
                  </a:lnTo>
                  <a:lnTo>
                    <a:pt x="1865" y="1675"/>
                  </a:lnTo>
                  <a:lnTo>
                    <a:pt x="1877" y="1676"/>
                  </a:lnTo>
                  <a:lnTo>
                    <a:pt x="1886" y="1677"/>
                  </a:lnTo>
                  <a:lnTo>
                    <a:pt x="1887" y="1677"/>
                  </a:lnTo>
                  <a:lnTo>
                    <a:pt x="1894" y="1678"/>
                  </a:lnTo>
                  <a:lnTo>
                    <a:pt x="1899" y="1678"/>
                  </a:lnTo>
                  <a:lnTo>
                    <a:pt x="1900" y="1678"/>
                  </a:lnTo>
                  <a:lnTo>
                    <a:pt x="1902" y="1678"/>
                  </a:lnTo>
                  <a:lnTo>
                    <a:pt x="1911" y="1677"/>
                  </a:lnTo>
                  <a:lnTo>
                    <a:pt x="1917" y="1676"/>
                  </a:lnTo>
                  <a:lnTo>
                    <a:pt x="1918" y="1675"/>
                  </a:lnTo>
                  <a:lnTo>
                    <a:pt x="1918" y="1674"/>
                  </a:lnTo>
                  <a:lnTo>
                    <a:pt x="1920" y="1668"/>
                  </a:lnTo>
                  <a:lnTo>
                    <a:pt x="1921" y="1664"/>
                  </a:lnTo>
                  <a:lnTo>
                    <a:pt x="1922" y="1663"/>
                  </a:lnTo>
                  <a:lnTo>
                    <a:pt x="1923" y="1663"/>
                  </a:lnTo>
                  <a:lnTo>
                    <a:pt x="1924" y="1663"/>
                  </a:lnTo>
                  <a:lnTo>
                    <a:pt x="1925" y="1663"/>
                  </a:lnTo>
                  <a:lnTo>
                    <a:pt x="1926" y="1664"/>
                  </a:lnTo>
                  <a:lnTo>
                    <a:pt x="1929" y="1667"/>
                  </a:lnTo>
                  <a:lnTo>
                    <a:pt x="1932" y="1668"/>
                  </a:lnTo>
                  <a:lnTo>
                    <a:pt x="1933" y="1668"/>
                  </a:lnTo>
                  <a:lnTo>
                    <a:pt x="1934" y="1665"/>
                  </a:lnTo>
                  <a:lnTo>
                    <a:pt x="1934" y="1664"/>
                  </a:lnTo>
                  <a:lnTo>
                    <a:pt x="1935" y="1663"/>
                  </a:lnTo>
                  <a:lnTo>
                    <a:pt x="1935" y="1662"/>
                  </a:lnTo>
                  <a:lnTo>
                    <a:pt x="1936" y="1658"/>
                  </a:lnTo>
                  <a:lnTo>
                    <a:pt x="1937" y="1655"/>
                  </a:lnTo>
                  <a:lnTo>
                    <a:pt x="1938" y="1654"/>
                  </a:lnTo>
                  <a:lnTo>
                    <a:pt x="1938" y="1653"/>
                  </a:lnTo>
                  <a:lnTo>
                    <a:pt x="1937" y="1650"/>
                  </a:lnTo>
                  <a:lnTo>
                    <a:pt x="1937" y="1646"/>
                  </a:lnTo>
                  <a:lnTo>
                    <a:pt x="1938" y="1645"/>
                  </a:lnTo>
                  <a:lnTo>
                    <a:pt x="1937" y="1641"/>
                  </a:lnTo>
                  <a:lnTo>
                    <a:pt x="1937" y="1637"/>
                  </a:lnTo>
                  <a:lnTo>
                    <a:pt x="1937" y="1636"/>
                  </a:lnTo>
                  <a:lnTo>
                    <a:pt x="1937" y="1633"/>
                  </a:lnTo>
                  <a:lnTo>
                    <a:pt x="1937" y="1632"/>
                  </a:lnTo>
                  <a:lnTo>
                    <a:pt x="1938" y="1631"/>
                  </a:lnTo>
                  <a:lnTo>
                    <a:pt x="1938" y="1630"/>
                  </a:lnTo>
                  <a:lnTo>
                    <a:pt x="1939" y="1627"/>
                  </a:lnTo>
                  <a:lnTo>
                    <a:pt x="1939" y="1623"/>
                  </a:lnTo>
                  <a:lnTo>
                    <a:pt x="1940" y="1622"/>
                  </a:lnTo>
                  <a:lnTo>
                    <a:pt x="1942" y="1619"/>
                  </a:lnTo>
                  <a:lnTo>
                    <a:pt x="1944" y="1617"/>
                  </a:lnTo>
                  <a:lnTo>
                    <a:pt x="1945" y="1616"/>
                  </a:lnTo>
                  <a:lnTo>
                    <a:pt x="1946" y="1612"/>
                  </a:lnTo>
                  <a:lnTo>
                    <a:pt x="1947" y="1611"/>
                  </a:lnTo>
                  <a:lnTo>
                    <a:pt x="1948" y="1610"/>
                  </a:lnTo>
                  <a:lnTo>
                    <a:pt x="1948" y="1609"/>
                  </a:lnTo>
                  <a:lnTo>
                    <a:pt x="1949" y="1605"/>
                  </a:lnTo>
                  <a:lnTo>
                    <a:pt x="1950" y="1601"/>
                  </a:lnTo>
                  <a:lnTo>
                    <a:pt x="1951" y="1600"/>
                  </a:lnTo>
                  <a:lnTo>
                    <a:pt x="1952" y="1598"/>
                  </a:lnTo>
                  <a:lnTo>
                    <a:pt x="1953" y="1596"/>
                  </a:lnTo>
                  <a:lnTo>
                    <a:pt x="1952" y="1593"/>
                  </a:lnTo>
                  <a:lnTo>
                    <a:pt x="1952" y="1590"/>
                  </a:lnTo>
                  <a:lnTo>
                    <a:pt x="1952" y="1589"/>
                  </a:lnTo>
                  <a:lnTo>
                    <a:pt x="1953" y="1586"/>
                  </a:lnTo>
                  <a:lnTo>
                    <a:pt x="1953" y="1584"/>
                  </a:lnTo>
                  <a:lnTo>
                    <a:pt x="1954" y="1583"/>
                  </a:lnTo>
                  <a:lnTo>
                    <a:pt x="1954" y="1582"/>
                  </a:lnTo>
                  <a:lnTo>
                    <a:pt x="1956" y="1577"/>
                  </a:lnTo>
                  <a:lnTo>
                    <a:pt x="1957" y="1574"/>
                  </a:lnTo>
                  <a:lnTo>
                    <a:pt x="1958" y="1573"/>
                  </a:lnTo>
                  <a:lnTo>
                    <a:pt x="1958" y="1572"/>
                  </a:lnTo>
                  <a:lnTo>
                    <a:pt x="1959" y="1566"/>
                  </a:lnTo>
                  <a:lnTo>
                    <a:pt x="1960" y="1562"/>
                  </a:lnTo>
                  <a:lnTo>
                    <a:pt x="1961" y="1561"/>
                  </a:lnTo>
                  <a:lnTo>
                    <a:pt x="1962" y="1558"/>
                  </a:lnTo>
                  <a:lnTo>
                    <a:pt x="1963" y="1557"/>
                  </a:lnTo>
                  <a:lnTo>
                    <a:pt x="1964" y="1555"/>
                  </a:lnTo>
                  <a:lnTo>
                    <a:pt x="1965" y="1554"/>
                  </a:lnTo>
                  <a:lnTo>
                    <a:pt x="1968" y="1553"/>
                  </a:lnTo>
                  <a:lnTo>
                    <a:pt x="1970" y="1549"/>
                  </a:lnTo>
                  <a:lnTo>
                    <a:pt x="1971" y="1546"/>
                  </a:lnTo>
                  <a:lnTo>
                    <a:pt x="1972" y="1545"/>
                  </a:lnTo>
                  <a:lnTo>
                    <a:pt x="1975" y="1541"/>
                  </a:lnTo>
                  <a:lnTo>
                    <a:pt x="1976" y="1540"/>
                  </a:lnTo>
                  <a:lnTo>
                    <a:pt x="1977" y="1539"/>
                  </a:lnTo>
                  <a:lnTo>
                    <a:pt x="1979" y="1537"/>
                  </a:lnTo>
                  <a:lnTo>
                    <a:pt x="1982" y="1529"/>
                  </a:lnTo>
                  <a:lnTo>
                    <a:pt x="1985" y="1524"/>
                  </a:lnTo>
                  <a:lnTo>
                    <a:pt x="1986" y="1523"/>
                  </a:lnTo>
                  <a:lnTo>
                    <a:pt x="1988" y="1526"/>
                  </a:lnTo>
                  <a:lnTo>
                    <a:pt x="1989" y="1527"/>
                  </a:lnTo>
                  <a:lnTo>
                    <a:pt x="1991" y="1527"/>
                  </a:lnTo>
                  <a:lnTo>
                    <a:pt x="1992" y="1529"/>
                  </a:lnTo>
                  <a:lnTo>
                    <a:pt x="1993" y="1529"/>
                  </a:lnTo>
                  <a:lnTo>
                    <a:pt x="1993" y="1528"/>
                  </a:lnTo>
                  <a:lnTo>
                    <a:pt x="1994" y="1524"/>
                  </a:lnTo>
                  <a:lnTo>
                    <a:pt x="1994" y="1520"/>
                  </a:lnTo>
                  <a:lnTo>
                    <a:pt x="1995" y="1519"/>
                  </a:lnTo>
                  <a:lnTo>
                    <a:pt x="1996" y="1515"/>
                  </a:lnTo>
                  <a:lnTo>
                    <a:pt x="1997" y="1513"/>
                  </a:lnTo>
                  <a:lnTo>
                    <a:pt x="1998" y="1512"/>
                  </a:lnTo>
                  <a:lnTo>
                    <a:pt x="2000" y="1507"/>
                  </a:lnTo>
                  <a:lnTo>
                    <a:pt x="2007" y="1492"/>
                  </a:lnTo>
                  <a:lnTo>
                    <a:pt x="2012" y="1481"/>
                  </a:lnTo>
                  <a:lnTo>
                    <a:pt x="2014" y="1480"/>
                  </a:lnTo>
                  <a:lnTo>
                    <a:pt x="2015" y="1479"/>
                  </a:lnTo>
                  <a:lnTo>
                    <a:pt x="2018" y="1476"/>
                  </a:lnTo>
                  <a:lnTo>
                    <a:pt x="2021" y="1472"/>
                  </a:lnTo>
                  <a:lnTo>
                    <a:pt x="2022" y="1471"/>
                  </a:lnTo>
                  <a:lnTo>
                    <a:pt x="2022" y="1470"/>
                  </a:lnTo>
                  <a:lnTo>
                    <a:pt x="2023" y="1466"/>
                  </a:lnTo>
                  <a:lnTo>
                    <a:pt x="2023" y="1462"/>
                  </a:lnTo>
                  <a:lnTo>
                    <a:pt x="2024" y="1461"/>
                  </a:lnTo>
                  <a:lnTo>
                    <a:pt x="2026" y="1461"/>
                  </a:lnTo>
                  <a:lnTo>
                    <a:pt x="2027" y="1461"/>
                  </a:lnTo>
                  <a:lnTo>
                    <a:pt x="2028" y="1461"/>
                  </a:lnTo>
                  <a:lnTo>
                    <a:pt x="2031" y="1456"/>
                  </a:lnTo>
                  <a:lnTo>
                    <a:pt x="2032" y="1453"/>
                  </a:lnTo>
                  <a:lnTo>
                    <a:pt x="2033" y="1452"/>
                  </a:lnTo>
                  <a:lnTo>
                    <a:pt x="2033" y="1450"/>
                  </a:lnTo>
                  <a:lnTo>
                    <a:pt x="2034" y="1445"/>
                  </a:lnTo>
                  <a:lnTo>
                    <a:pt x="2034" y="1442"/>
                  </a:lnTo>
                  <a:lnTo>
                    <a:pt x="2035" y="1441"/>
                  </a:lnTo>
                  <a:lnTo>
                    <a:pt x="2031" y="1439"/>
                  </a:lnTo>
                  <a:lnTo>
                    <a:pt x="2030" y="1438"/>
                  </a:lnTo>
                  <a:lnTo>
                    <a:pt x="2030" y="1437"/>
                  </a:lnTo>
                  <a:lnTo>
                    <a:pt x="2031" y="1436"/>
                  </a:lnTo>
                  <a:lnTo>
                    <a:pt x="2032" y="1434"/>
                  </a:lnTo>
                  <a:lnTo>
                    <a:pt x="2033" y="1434"/>
                  </a:lnTo>
                  <a:lnTo>
                    <a:pt x="2034" y="1434"/>
                  </a:lnTo>
                  <a:lnTo>
                    <a:pt x="2035" y="1433"/>
                  </a:lnTo>
                  <a:lnTo>
                    <a:pt x="2039" y="1433"/>
                  </a:lnTo>
                  <a:lnTo>
                    <a:pt x="2041" y="1433"/>
                  </a:lnTo>
                  <a:lnTo>
                    <a:pt x="2042" y="1432"/>
                  </a:lnTo>
                  <a:lnTo>
                    <a:pt x="2043" y="1431"/>
                  </a:lnTo>
                  <a:lnTo>
                    <a:pt x="2046" y="1427"/>
                  </a:lnTo>
                  <a:lnTo>
                    <a:pt x="2049" y="1424"/>
                  </a:lnTo>
                  <a:lnTo>
                    <a:pt x="2050" y="1423"/>
                  </a:lnTo>
                  <a:lnTo>
                    <a:pt x="2053" y="1415"/>
                  </a:lnTo>
                  <a:lnTo>
                    <a:pt x="2055" y="1411"/>
                  </a:lnTo>
                  <a:lnTo>
                    <a:pt x="2056" y="1410"/>
                  </a:lnTo>
                  <a:lnTo>
                    <a:pt x="2061" y="1407"/>
                  </a:lnTo>
                  <a:lnTo>
                    <a:pt x="2063" y="1404"/>
                  </a:lnTo>
                  <a:lnTo>
                    <a:pt x="2064" y="1403"/>
                  </a:lnTo>
                  <a:lnTo>
                    <a:pt x="2066" y="1399"/>
                  </a:lnTo>
                  <a:lnTo>
                    <a:pt x="2067" y="1397"/>
                  </a:lnTo>
                  <a:lnTo>
                    <a:pt x="2068" y="1396"/>
                  </a:lnTo>
                  <a:lnTo>
                    <a:pt x="2071" y="1395"/>
                  </a:lnTo>
                  <a:lnTo>
                    <a:pt x="2074" y="1395"/>
                  </a:lnTo>
                  <a:lnTo>
                    <a:pt x="2075" y="1394"/>
                  </a:lnTo>
                  <a:lnTo>
                    <a:pt x="2076" y="1394"/>
                  </a:lnTo>
                  <a:lnTo>
                    <a:pt x="2081" y="1392"/>
                  </a:lnTo>
                  <a:lnTo>
                    <a:pt x="2085" y="1392"/>
                  </a:lnTo>
                  <a:lnTo>
                    <a:pt x="2086" y="1391"/>
                  </a:lnTo>
                  <a:lnTo>
                    <a:pt x="2081" y="1389"/>
                  </a:lnTo>
                  <a:lnTo>
                    <a:pt x="2080" y="1388"/>
                  </a:lnTo>
                  <a:lnTo>
                    <a:pt x="2080" y="1387"/>
                  </a:lnTo>
                  <a:lnTo>
                    <a:pt x="2081" y="1386"/>
                  </a:lnTo>
                  <a:lnTo>
                    <a:pt x="2082" y="1385"/>
                  </a:lnTo>
                  <a:lnTo>
                    <a:pt x="2086" y="1385"/>
                  </a:lnTo>
                  <a:lnTo>
                    <a:pt x="2088" y="1385"/>
                  </a:lnTo>
                  <a:lnTo>
                    <a:pt x="2089" y="1385"/>
                  </a:lnTo>
                  <a:lnTo>
                    <a:pt x="2090" y="1384"/>
                  </a:lnTo>
                  <a:lnTo>
                    <a:pt x="2096" y="1380"/>
                  </a:lnTo>
                  <a:lnTo>
                    <a:pt x="2099" y="1378"/>
                  </a:lnTo>
                  <a:lnTo>
                    <a:pt x="2100" y="1377"/>
                  </a:lnTo>
                  <a:lnTo>
                    <a:pt x="2103" y="1374"/>
                  </a:lnTo>
                  <a:lnTo>
                    <a:pt x="2104" y="1373"/>
                  </a:lnTo>
                  <a:lnTo>
                    <a:pt x="2105" y="1372"/>
                  </a:lnTo>
                  <a:lnTo>
                    <a:pt x="2104" y="1368"/>
                  </a:lnTo>
                  <a:lnTo>
                    <a:pt x="2104" y="1367"/>
                  </a:lnTo>
                  <a:lnTo>
                    <a:pt x="2104" y="1366"/>
                  </a:lnTo>
                  <a:lnTo>
                    <a:pt x="2104" y="1363"/>
                  </a:lnTo>
                  <a:lnTo>
                    <a:pt x="2104" y="1361"/>
                  </a:lnTo>
                  <a:lnTo>
                    <a:pt x="2105" y="1360"/>
                  </a:lnTo>
                  <a:lnTo>
                    <a:pt x="2109" y="1356"/>
                  </a:lnTo>
                  <a:lnTo>
                    <a:pt x="2111" y="1355"/>
                  </a:lnTo>
                  <a:lnTo>
                    <a:pt x="2112" y="1354"/>
                  </a:lnTo>
                  <a:lnTo>
                    <a:pt x="2114" y="1351"/>
                  </a:lnTo>
                  <a:lnTo>
                    <a:pt x="2115" y="1349"/>
                  </a:lnTo>
                  <a:lnTo>
                    <a:pt x="2116" y="1348"/>
                  </a:lnTo>
                  <a:lnTo>
                    <a:pt x="2120" y="1345"/>
                  </a:lnTo>
                  <a:lnTo>
                    <a:pt x="2121" y="1344"/>
                  </a:lnTo>
                  <a:lnTo>
                    <a:pt x="2122" y="1343"/>
                  </a:lnTo>
                  <a:lnTo>
                    <a:pt x="2124" y="1339"/>
                  </a:lnTo>
                  <a:lnTo>
                    <a:pt x="2125" y="1337"/>
                  </a:lnTo>
                  <a:lnTo>
                    <a:pt x="2126" y="1336"/>
                  </a:lnTo>
                  <a:lnTo>
                    <a:pt x="2126" y="1334"/>
                  </a:lnTo>
                  <a:lnTo>
                    <a:pt x="2126" y="1333"/>
                  </a:lnTo>
                  <a:lnTo>
                    <a:pt x="2127" y="1332"/>
                  </a:lnTo>
                  <a:lnTo>
                    <a:pt x="2129" y="1329"/>
                  </a:lnTo>
                  <a:lnTo>
                    <a:pt x="2136" y="1318"/>
                  </a:lnTo>
                  <a:lnTo>
                    <a:pt x="2140" y="1309"/>
                  </a:lnTo>
                  <a:lnTo>
                    <a:pt x="2141" y="1308"/>
                  </a:lnTo>
                  <a:lnTo>
                    <a:pt x="2141" y="1305"/>
                  </a:lnTo>
                  <a:lnTo>
                    <a:pt x="2141" y="1303"/>
                  </a:lnTo>
                  <a:lnTo>
                    <a:pt x="2143" y="1302"/>
                  </a:lnTo>
                  <a:lnTo>
                    <a:pt x="2145" y="1298"/>
                  </a:lnTo>
                  <a:lnTo>
                    <a:pt x="2146" y="1297"/>
                  </a:lnTo>
                  <a:lnTo>
                    <a:pt x="2147" y="1296"/>
                  </a:lnTo>
                  <a:lnTo>
                    <a:pt x="2147" y="1295"/>
                  </a:lnTo>
                  <a:lnTo>
                    <a:pt x="2146" y="1292"/>
                  </a:lnTo>
                  <a:lnTo>
                    <a:pt x="2146" y="1289"/>
                  </a:lnTo>
                  <a:lnTo>
                    <a:pt x="2147" y="1287"/>
                  </a:lnTo>
                  <a:lnTo>
                    <a:pt x="2147" y="1286"/>
                  </a:lnTo>
                  <a:lnTo>
                    <a:pt x="2146" y="1282"/>
                  </a:lnTo>
                  <a:lnTo>
                    <a:pt x="2146" y="1279"/>
                  </a:lnTo>
                  <a:lnTo>
                    <a:pt x="2147" y="1278"/>
                  </a:lnTo>
                  <a:lnTo>
                    <a:pt x="2148" y="1278"/>
                  </a:lnTo>
                  <a:lnTo>
                    <a:pt x="2148" y="1275"/>
                  </a:lnTo>
                  <a:lnTo>
                    <a:pt x="2148" y="1274"/>
                  </a:lnTo>
                  <a:lnTo>
                    <a:pt x="2149" y="1273"/>
                  </a:lnTo>
                  <a:lnTo>
                    <a:pt x="2149" y="1272"/>
                  </a:lnTo>
                  <a:lnTo>
                    <a:pt x="2150" y="1267"/>
                  </a:lnTo>
                  <a:lnTo>
                    <a:pt x="2151" y="1262"/>
                  </a:lnTo>
                  <a:lnTo>
                    <a:pt x="2152" y="1261"/>
                  </a:lnTo>
                  <a:lnTo>
                    <a:pt x="2155" y="1257"/>
                  </a:lnTo>
                  <a:lnTo>
                    <a:pt x="2156" y="1255"/>
                  </a:lnTo>
                  <a:lnTo>
                    <a:pt x="2157" y="1254"/>
                  </a:lnTo>
                  <a:lnTo>
                    <a:pt x="2160" y="1248"/>
                  </a:lnTo>
                  <a:lnTo>
                    <a:pt x="2161" y="1245"/>
                  </a:lnTo>
                  <a:lnTo>
                    <a:pt x="2162" y="1244"/>
                  </a:lnTo>
                  <a:lnTo>
                    <a:pt x="2163" y="1243"/>
                  </a:lnTo>
                  <a:lnTo>
                    <a:pt x="2164" y="1241"/>
                  </a:lnTo>
                  <a:lnTo>
                    <a:pt x="2165" y="1237"/>
                  </a:lnTo>
                  <a:lnTo>
                    <a:pt x="2169" y="1224"/>
                  </a:lnTo>
                  <a:lnTo>
                    <a:pt x="2172" y="1213"/>
                  </a:lnTo>
                  <a:lnTo>
                    <a:pt x="2173" y="1212"/>
                  </a:lnTo>
                  <a:lnTo>
                    <a:pt x="2173" y="1210"/>
                  </a:lnTo>
                  <a:lnTo>
                    <a:pt x="2176" y="1201"/>
                  </a:lnTo>
                  <a:lnTo>
                    <a:pt x="2178" y="1194"/>
                  </a:lnTo>
                  <a:lnTo>
                    <a:pt x="2179" y="1193"/>
                  </a:lnTo>
                  <a:lnTo>
                    <a:pt x="2182" y="1185"/>
                  </a:lnTo>
                  <a:lnTo>
                    <a:pt x="2184" y="1179"/>
                  </a:lnTo>
                  <a:lnTo>
                    <a:pt x="2185" y="1178"/>
                  </a:lnTo>
                  <a:lnTo>
                    <a:pt x="2187" y="1174"/>
                  </a:lnTo>
                  <a:lnTo>
                    <a:pt x="2188" y="1171"/>
                  </a:lnTo>
                  <a:lnTo>
                    <a:pt x="2190" y="1170"/>
                  </a:lnTo>
                  <a:lnTo>
                    <a:pt x="2190" y="1168"/>
                  </a:lnTo>
                  <a:lnTo>
                    <a:pt x="2192" y="1162"/>
                  </a:lnTo>
                  <a:lnTo>
                    <a:pt x="2193" y="1157"/>
                  </a:lnTo>
                  <a:lnTo>
                    <a:pt x="2194" y="1156"/>
                  </a:lnTo>
                  <a:lnTo>
                    <a:pt x="2194" y="1155"/>
                  </a:lnTo>
                  <a:lnTo>
                    <a:pt x="2195" y="1150"/>
                  </a:lnTo>
                  <a:lnTo>
                    <a:pt x="2195" y="1145"/>
                  </a:lnTo>
                  <a:lnTo>
                    <a:pt x="2196" y="1144"/>
                  </a:lnTo>
                  <a:lnTo>
                    <a:pt x="2196" y="1143"/>
                  </a:lnTo>
                  <a:lnTo>
                    <a:pt x="2195" y="1140"/>
                  </a:lnTo>
                  <a:lnTo>
                    <a:pt x="2195" y="1138"/>
                  </a:lnTo>
                  <a:lnTo>
                    <a:pt x="2196" y="1136"/>
                  </a:lnTo>
                  <a:lnTo>
                    <a:pt x="2196" y="1133"/>
                  </a:lnTo>
                  <a:lnTo>
                    <a:pt x="2196" y="1131"/>
                  </a:lnTo>
                  <a:lnTo>
                    <a:pt x="2197" y="1130"/>
                  </a:lnTo>
                  <a:lnTo>
                    <a:pt x="2196" y="1128"/>
                  </a:lnTo>
                  <a:lnTo>
                    <a:pt x="2195" y="1120"/>
                  </a:lnTo>
                  <a:lnTo>
                    <a:pt x="2195" y="1113"/>
                  </a:lnTo>
                  <a:lnTo>
                    <a:pt x="2195" y="1112"/>
                  </a:lnTo>
                  <a:lnTo>
                    <a:pt x="2194" y="1110"/>
                  </a:lnTo>
                  <a:lnTo>
                    <a:pt x="2194" y="1109"/>
                  </a:lnTo>
                  <a:lnTo>
                    <a:pt x="2194" y="1108"/>
                  </a:lnTo>
                  <a:lnTo>
                    <a:pt x="2194" y="1107"/>
                  </a:lnTo>
                  <a:lnTo>
                    <a:pt x="2193" y="1104"/>
                  </a:lnTo>
                  <a:lnTo>
                    <a:pt x="2193" y="1101"/>
                  </a:lnTo>
                  <a:lnTo>
                    <a:pt x="2194" y="1100"/>
                  </a:lnTo>
                  <a:lnTo>
                    <a:pt x="2193" y="1099"/>
                  </a:lnTo>
                  <a:lnTo>
                    <a:pt x="2191" y="1095"/>
                  </a:lnTo>
                  <a:lnTo>
                    <a:pt x="2190" y="1092"/>
                  </a:lnTo>
                  <a:lnTo>
                    <a:pt x="2190" y="1091"/>
                  </a:lnTo>
                  <a:lnTo>
                    <a:pt x="2188" y="1086"/>
                  </a:lnTo>
                  <a:lnTo>
                    <a:pt x="2188" y="1084"/>
                  </a:lnTo>
                  <a:lnTo>
                    <a:pt x="2188" y="1083"/>
                  </a:lnTo>
                  <a:lnTo>
                    <a:pt x="2188" y="1082"/>
                  </a:lnTo>
                  <a:lnTo>
                    <a:pt x="2187" y="1076"/>
                  </a:lnTo>
                  <a:lnTo>
                    <a:pt x="2187" y="1072"/>
                  </a:lnTo>
                  <a:lnTo>
                    <a:pt x="2188" y="1071"/>
                  </a:lnTo>
                  <a:lnTo>
                    <a:pt x="2186" y="1069"/>
                  </a:lnTo>
                  <a:lnTo>
                    <a:pt x="2185" y="1068"/>
                  </a:lnTo>
                  <a:lnTo>
                    <a:pt x="2185" y="1066"/>
                  </a:lnTo>
                  <a:lnTo>
                    <a:pt x="2184" y="1063"/>
                  </a:lnTo>
                  <a:lnTo>
                    <a:pt x="2184" y="1061"/>
                  </a:lnTo>
                  <a:lnTo>
                    <a:pt x="2185" y="1060"/>
                  </a:lnTo>
                  <a:lnTo>
                    <a:pt x="2184" y="1058"/>
                  </a:lnTo>
                  <a:lnTo>
                    <a:pt x="2184" y="1057"/>
                  </a:lnTo>
                  <a:lnTo>
                    <a:pt x="2185" y="1053"/>
                  </a:lnTo>
                  <a:lnTo>
                    <a:pt x="2185" y="1051"/>
                  </a:lnTo>
                  <a:lnTo>
                    <a:pt x="2186" y="1050"/>
                  </a:lnTo>
                  <a:lnTo>
                    <a:pt x="2188" y="1052"/>
                  </a:lnTo>
                  <a:lnTo>
                    <a:pt x="2191" y="1052"/>
                  </a:lnTo>
                  <a:lnTo>
                    <a:pt x="2188" y="1047"/>
                  </a:lnTo>
                  <a:lnTo>
                    <a:pt x="2188" y="1043"/>
                  </a:lnTo>
                  <a:lnTo>
                    <a:pt x="2188" y="1042"/>
                  </a:lnTo>
                  <a:lnTo>
                    <a:pt x="2188" y="1039"/>
                  </a:lnTo>
                  <a:lnTo>
                    <a:pt x="2188" y="1026"/>
                  </a:lnTo>
                  <a:lnTo>
                    <a:pt x="2188" y="1016"/>
                  </a:lnTo>
                  <a:lnTo>
                    <a:pt x="2190" y="1015"/>
                  </a:lnTo>
                  <a:lnTo>
                    <a:pt x="2188" y="1008"/>
                  </a:lnTo>
                  <a:lnTo>
                    <a:pt x="2188" y="1005"/>
                  </a:lnTo>
                  <a:lnTo>
                    <a:pt x="2188" y="1004"/>
                  </a:lnTo>
                  <a:lnTo>
                    <a:pt x="2188" y="1002"/>
                  </a:lnTo>
                  <a:lnTo>
                    <a:pt x="2192" y="995"/>
                  </a:lnTo>
                  <a:lnTo>
                    <a:pt x="2193" y="991"/>
                  </a:lnTo>
                  <a:lnTo>
                    <a:pt x="2194" y="990"/>
                  </a:lnTo>
                  <a:lnTo>
                    <a:pt x="2194" y="988"/>
                  </a:lnTo>
                  <a:lnTo>
                    <a:pt x="2193" y="981"/>
                  </a:lnTo>
                  <a:lnTo>
                    <a:pt x="2193" y="976"/>
                  </a:lnTo>
                  <a:lnTo>
                    <a:pt x="2194" y="975"/>
                  </a:lnTo>
                  <a:lnTo>
                    <a:pt x="2193" y="976"/>
                  </a:lnTo>
                  <a:lnTo>
                    <a:pt x="2191" y="979"/>
                  </a:lnTo>
                  <a:lnTo>
                    <a:pt x="2190" y="981"/>
                  </a:lnTo>
                  <a:lnTo>
                    <a:pt x="2190" y="981"/>
                  </a:lnTo>
                  <a:lnTo>
                    <a:pt x="2187" y="978"/>
                  </a:lnTo>
                  <a:lnTo>
                    <a:pt x="2187" y="976"/>
                  </a:lnTo>
                  <a:lnTo>
                    <a:pt x="2187" y="975"/>
                  </a:lnTo>
                  <a:lnTo>
                    <a:pt x="2185" y="969"/>
                  </a:lnTo>
                  <a:lnTo>
                    <a:pt x="2184" y="966"/>
                  </a:lnTo>
                  <a:lnTo>
                    <a:pt x="2184" y="965"/>
                  </a:lnTo>
                  <a:lnTo>
                    <a:pt x="2184" y="964"/>
                  </a:lnTo>
                  <a:lnTo>
                    <a:pt x="2183" y="959"/>
                  </a:lnTo>
                  <a:lnTo>
                    <a:pt x="2183" y="956"/>
                  </a:lnTo>
                  <a:lnTo>
                    <a:pt x="2184" y="955"/>
                  </a:lnTo>
                  <a:lnTo>
                    <a:pt x="2184" y="954"/>
                  </a:lnTo>
                  <a:lnTo>
                    <a:pt x="2183" y="951"/>
                  </a:lnTo>
                  <a:lnTo>
                    <a:pt x="2183" y="947"/>
                  </a:lnTo>
                  <a:lnTo>
                    <a:pt x="2184" y="946"/>
                  </a:lnTo>
                  <a:lnTo>
                    <a:pt x="2183" y="942"/>
                  </a:lnTo>
                  <a:lnTo>
                    <a:pt x="2183" y="938"/>
                  </a:lnTo>
                  <a:lnTo>
                    <a:pt x="2183" y="937"/>
                  </a:lnTo>
                  <a:lnTo>
                    <a:pt x="2175" y="934"/>
                  </a:lnTo>
                  <a:lnTo>
                    <a:pt x="2172" y="932"/>
                  </a:lnTo>
                  <a:lnTo>
                    <a:pt x="2172" y="931"/>
                  </a:lnTo>
                  <a:lnTo>
                    <a:pt x="2173" y="928"/>
                  </a:lnTo>
                  <a:lnTo>
                    <a:pt x="2173" y="926"/>
                  </a:lnTo>
                  <a:lnTo>
                    <a:pt x="2174" y="925"/>
                  </a:lnTo>
                  <a:lnTo>
                    <a:pt x="2173" y="924"/>
                  </a:lnTo>
                  <a:lnTo>
                    <a:pt x="2170" y="919"/>
                  </a:lnTo>
                  <a:lnTo>
                    <a:pt x="2168" y="915"/>
                  </a:lnTo>
                  <a:lnTo>
                    <a:pt x="2168" y="914"/>
                  </a:lnTo>
                  <a:lnTo>
                    <a:pt x="2165" y="909"/>
                  </a:lnTo>
                  <a:lnTo>
                    <a:pt x="2164" y="906"/>
                  </a:lnTo>
                  <a:lnTo>
                    <a:pt x="2164" y="905"/>
                  </a:lnTo>
                  <a:lnTo>
                    <a:pt x="2164" y="903"/>
                  </a:lnTo>
                  <a:lnTo>
                    <a:pt x="2164" y="902"/>
                  </a:lnTo>
                  <a:lnTo>
                    <a:pt x="2165" y="901"/>
                  </a:lnTo>
                  <a:lnTo>
                    <a:pt x="2159" y="899"/>
                  </a:lnTo>
                  <a:lnTo>
                    <a:pt x="2156" y="898"/>
                  </a:lnTo>
                  <a:lnTo>
                    <a:pt x="2156" y="897"/>
                  </a:lnTo>
                  <a:lnTo>
                    <a:pt x="2150" y="891"/>
                  </a:lnTo>
                  <a:lnTo>
                    <a:pt x="2148" y="888"/>
                  </a:lnTo>
                  <a:lnTo>
                    <a:pt x="2148" y="887"/>
                  </a:lnTo>
                  <a:lnTo>
                    <a:pt x="2147" y="884"/>
                  </a:lnTo>
                  <a:lnTo>
                    <a:pt x="2147" y="883"/>
                  </a:lnTo>
                  <a:lnTo>
                    <a:pt x="2147" y="882"/>
                  </a:lnTo>
                  <a:lnTo>
                    <a:pt x="2145" y="880"/>
                  </a:lnTo>
                  <a:lnTo>
                    <a:pt x="2139" y="877"/>
                  </a:lnTo>
                  <a:lnTo>
                    <a:pt x="2135" y="874"/>
                  </a:lnTo>
                  <a:lnTo>
                    <a:pt x="2135" y="873"/>
                  </a:lnTo>
                  <a:lnTo>
                    <a:pt x="2135" y="872"/>
                  </a:lnTo>
                  <a:lnTo>
                    <a:pt x="2135" y="866"/>
                  </a:lnTo>
                  <a:lnTo>
                    <a:pt x="2135" y="862"/>
                  </a:lnTo>
                  <a:lnTo>
                    <a:pt x="2136" y="861"/>
                  </a:lnTo>
                  <a:lnTo>
                    <a:pt x="2135" y="860"/>
                  </a:lnTo>
                  <a:lnTo>
                    <a:pt x="2132" y="856"/>
                  </a:lnTo>
                  <a:lnTo>
                    <a:pt x="2130" y="854"/>
                  </a:lnTo>
                  <a:lnTo>
                    <a:pt x="2130" y="853"/>
                  </a:lnTo>
                  <a:lnTo>
                    <a:pt x="2129" y="853"/>
                  </a:lnTo>
                  <a:lnTo>
                    <a:pt x="2128" y="853"/>
                  </a:lnTo>
                  <a:lnTo>
                    <a:pt x="2122" y="853"/>
                  </a:lnTo>
                  <a:lnTo>
                    <a:pt x="2117" y="853"/>
                  </a:lnTo>
                  <a:lnTo>
                    <a:pt x="2117" y="852"/>
                  </a:lnTo>
                  <a:lnTo>
                    <a:pt x="2112" y="849"/>
                  </a:lnTo>
                  <a:lnTo>
                    <a:pt x="2110" y="847"/>
                  </a:lnTo>
                  <a:lnTo>
                    <a:pt x="2110" y="845"/>
                  </a:lnTo>
                  <a:lnTo>
                    <a:pt x="2109" y="844"/>
                  </a:lnTo>
                  <a:lnTo>
                    <a:pt x="2105" y="841"/>
                  </a:lnTo>
                  <a:lnTo>
                    <a:pt x="2104" y="839"/>
                  </a:lnTo>
                  <a:lnTo>
                    <a:pt x="2104" y="838"/>
                  </a:lnTo>
                  <a:lnTo>
                    <a:pt x="2103" y="837"/>
                  </a:lnTo>
                  <a:lnTo>
                    <a:pt x="2100" y="833"/>
                  </a:lnTo>
                  <a:lnTo>
                    <a:pt x="2099" y="830"/>
                  </a:lnTo>
                  <a:lnTo>
                    <a:pt x="2099" y="829"/>
                  </a:lnTo>
                  <a:lnTo>
                    <a:pt x="2097" y="828"/>
                  </a:lnTo>
                  <a:lnTo>
                    <a:pt x="2093" y="825"/>
                  </a:lnTo>
                  <a:lnTo>
                    <a:pt x="2091" y="823"/>
                  </a:lnTo>
                  <a:lnTo>
                    <a:pt x="2091" y="821"/>
                  </a:lnTo>
                  <a:lnTo>
                    <a:pt x="2090" y="819"/>
                  </a:lnTo>
                  <a:lnTo>
                    <a:pt x="2089" y="813"/>
                  </a:lnTo>
                  <a:lnTo>
                    <a:pt x="2089" y="808"/>
                  </a:lnTo>
                  <a:lnTo>
                    <a:pt x="2089" y="807"/>
                  </a:lnTo>
                  <a:lnTo>
                    <a:pt x="2089" y="805"/>
                  </a:lnTo>
                  <a:lnTo>
                    <a:pt x="2089" y="798"/>
                  </a:lnTo>
                  <a:lnTo>
                    <a:pt x="2089" y="793"/>
                  </a:lnTo>
                  <a:lnTo>
                    <a:pt x="2090" y="792"/>
                  </a:lnTo>
                  <a:lnTo>
                    <a:pt x="2090" y="790"/>
                  </a:lnTo>
                  <a:lnTo>
                    <a:pt x="2090" y="782"/>
                  </a:lnTo>
                  <a:lnTo>
                    <a:pt x="2090" y="777"/>
                  </a:lnTo>
                  <a:lnTo>
                    <a:pt x="2091" y="775"/>
                  </a:lnTo>
                  <a:lnTo>
                    <a:pt x="2090" y="766"/>
                  </a:lnTo>
                  <a:lnTo>
                    <a:pt x="2090" y="760"/>
                  </a:lnTo>
                  <a:lnTo>
                    <a:pt x="2090" y="759"/>
                  </a:lnTo>
                  <a:lnTo>
                    <a:pt x="2088" y="758"/>
                  </a:lnTo>
                  <a:lnTo>
                    <a:pt x="2088" y="757"/>
                  </a:lnTo>
                  <a:lnTo>
                    <a:pt x="2088" y="756"/>
                  </a:lnTo>
                  <a:lnTo>
                    <a:pt x="2087" y="753"/>
                  </a:lnTo>
                  <a:lnTo>
                    <a:pt x="2087" y="750"/>
                  </a:lnTo>
                  <a:lnTo>
                    <a:pt x="2088" y="749"/>
                  </a:lnTo>
                  <a:lnTo>
                    <a:pt x="2085" y="747"/>
                  </a:lnTo>
                  <a:lnTo>
                    <a:pt x="2083" y="746"/>
                  </a:lnTo>
                  <a:lnTo>
                    <a:pt x="2083" y="745"/>
                  </a:lnTo>
                  <a:lnTo>
                    <a:pt x="2082" y="748"/>
                  </a:lnTo>
                  <a:lnTo>
                    <a:pt x="2081" y="755"/>
                  </a:lnTo>
                  <a:lnTo>
                    <a:pt x="2080" y="760"/>
                  </a:lnTo>
                  <a:lnTo>
                    <a:pt x="2080" y="760"/>
                  </a:lnTo>
                  <a:lnTo>
                    <a:pt x="2078" y="759"/>
                  </a:lnTo>
                  <a:lnTo>
                    <a:pt x="2075" y="756"/>
                  </a:lnTo>
                  <a:lnTo>
                    <a:pt x="2073" y="754"/>
                  </a:lnTo>
                  <a:lnTo>
                    <a:pt x="2073" y="753"/>
                  </a:lnTo>
                  <a:lnTo>
                    <a:pt x="2065" y="749"/>
                  </a:lnTo>
                  <a:lnTo>
                    <a:pt x="2062" y="747"/>
                  </a:lnTo>
                  <a:lnTo>
                    <a:pt x="2062" y="746"/>
                  </a:lnTo>
                  <a:lnTo>
                    <a:pt x="2057" y="743"/>
                  </a:lnTo>
                  <a:lnTo>
                    <a:pt x="2056" y="742"/>
                  </a:lnTo>
                  <a:lnTo>
                    <a:pt x="2056" y="740"/>
                  </a:lnTo>
                  <a:lnTo>
                    <a:pt x="2054" y="734"/>
                  </a:lnTo>
                  <a:lnTo>
                    <a:pt x="2054" y="731"/>
                  </a:lnTo>
                  <a:lnTo>
                    <a:pt x="2054" y="730"/>
                  </a:lnTo>
                  <a:lnTo>
                    <a:pt x="2053" y="731"/>
                  </a:lnTo>
                  <a:lnTo>
                    <a:pt x="2050" y="733"/>
                  </a:lnTo>
                  <a:lnTo>
                    <a:pt x="2047" y="734"/>
                  </a:lnTo>
                  <a:lnTo>
                    <a:pt x="2047" y="734"/>
                  </a:lnTo>
                  <a:lnTo>
                    <a:pt x="2046" y="737"/>
                  </a:lnTo>
                  <a:lnTo>
                    <a:pt x="2046" y="744"/>
                  </a:lnTo>
                  <a:lnTo>
                    <a:pt x="2046" y="749"/>
                  </a:lnTo>
                  <a:lnTo>
                    <a:pt x="2046" y="749"/>
                  </a:lnTo>
                  <a:lnTo>
                    <a:pt x="2045" y="749"/>
                  </a:lnTo>
                  <a:lnTo>
                    <a:pt x="2042" y="749"/>
                  </a:lnTo>
                  <a:lnTo>
                    <a:pt x="2040" y="749"/>
                  </a:lnTo>
                  <a:lnTo>
                    <a:pt x="2040" y="749"/>
                  </a:lnTo>
                  <a:lnTo>
                    <a:pt x="2039" y="750"/>
                  </a:lnTo>
                  <a:lnTo>
                    <a:pt x="2036" y="751"/>
                  </a:lnTo>
                  <a:lnTo>
                    <a:pt x="2035" y="751"/>
                  </a:lnTo>
                  <a:lnTo>
                    <a:pt x="2034" y="751"/>
                  </a:lnTo>
                  <a:lnTo>
                    <a:pt x="2033" y="751"/>
                  </a:lnTo>
                  <a:lnTo>
                    <a:pt x="2032" y="751"/>
                  </a:lnTo>
                  <a:lnTo>
                    <a:pt x="2032" y="750"/>
                  </a:lnTo>
                  <a:lnTo>
                    <a:pt x="2031" y="746"/>
                  </a:lnTo>
                  <a:lnTo>
                    <a:pt x="2031" y="743"/>
                  </a:lnTo>
                  <a:lnTo>
                    <a:pt x="2031" y="742"/>
                  </a:lnTo>
                  <a:lnTo>
                    <a:pt x="2029" y="738"/>
                  </a:lnTo>
                  <a:lnTo>
                    <a:pt x="2028" y="737"/>
                  </a:lnTo>
                  <a:lnTo>
                    <a:pt x="2028" y="736"/>
                  </a:lnTo>
                  <a:lnTo>
                    <a:pt x="2027" y="733"/>
                  </a:lnTo>
                  <a:lnTo>
                    <a:pt x="2027" y="732"/>
                  </a:lnTo>
                  <a:lnTo>
                    <a:pt x="2027" y="731"/>
                  </a:lnTo>
                  <a:lnTo>
                    <a:pt x="2027" y="727"/>
                  </a:lnTo>
                  <a:lnTo>
                    <a:pt x="2026" y="727"/>
                  </a:lnTo>
                  <a:lnTo>
                    <a:pt x="2027" y="727"/>
                  </a:lnTo>
                  <a:lnTo>
                    <a:pt x="2026" y="727"/>
                  </a:lnTo>
                  <a:lnTo>
                    <a:pt x="2027" y="727"/>
                  </a:lnTo>
                  <a:lnTo>
                    <a:pt x="2024" y="724"/>
                  </a:lnTo>
                  <a:lnTo>
                    <a:pt x="2024" y="723"/>
                  </a:lnTo>
                  <a:lnTo>
                    <a:pt x="2024" y="722"/>
                  </a:lnTo>
                  <a:lnTo>
                    <a:pt x="2024" y="721"/>
                  </a:lnTo>
                  <a:lnTo>
                    <a:pt x="2023" y="715"/>
                  </a:lnTo>
                  <a:lnTo>
                    <a:pt x="2023" y="712"/>
                  </a:lnTo>
                  <a:lnTo>
                    <a:pt x="2024" y="711"/>
                  </a:lnTo>
                  <a:lnTo>
                    <a:pt x="2024" y="709"/>
                  </a:lnTo>
                  <a:lnTo>
                    <a:pt x="2026" y="701"/>
                  </a:lnTo>
                  <a:lnTo>
                    <a:pt x="2026" y="696"/>
                  </a:lnTo>
                  <a:lnTo>
                    <a:pt x="2027" y="695"/>
                  </a:lnTo>
                  <a:lnTo>
                    <a:pt x="2026" y="691"/>
                  </a:lnTo>
                  <a:lnTo>
                    <a:pt x="2026" y="689"/>
                  </a:lnTo>
                  <a:lnTo>
                    <a:pt x="2026" y="688"/>
                  </a:lnTo>
                  <a:lnTo>
                    <a:pt x="2024" y="688"/>
                  </a:lnTo>
                  <a:lnTo>
                    <a:pt x="2021" y="687"/>
                  </a:lnTo>
                  <a:lnTo>
                    <a:pt x="2019" y="687"/>
                  </a:lnTo>
                  <a:lnTo>
                    <a:pt x="2019" y="686"/>
                  </a:lnTo>
                  <a:lnTo>
                    <a:pt x="2018" y="681"/>
                  </a:lnTo>
                  <a:lnTo>
                    <a:pt x="2018" y="678"/>
                  </a:lnTo>
                  <a:lnTo>
                    <a:pt x="2018" y="677"/>
                  </a:lnTo>
                  <a:lnTo>
                    <a:pt x="2016" y="674"/>
                  </a:lnTo>
                  <a:lnTo>
                    <a:pt x="2015" y="673"/>
                  </a:lnTo>
                  <a:lnTo>
                    <a:pt x="2015" y="672"/>
                  </a:lnTo>
                  <a:lnTo>
                    <a:pt x="2014" y="666"/>
                  </a:lnTo>
                  <a:lnTo>
                    <a:pt x="2014" y="663"/>
                  </a:lnTo>
                  <a:lnTo>
                    <a:pt x="2014" y="662"/>
                  </a:lnTo>
                  <a:lnTo>
                    <a:pt x="2012" y="661"/>
                  </a:lnTo>
                  <a:lnTo>
                    <a:pt x="2009" y="655"/>
                  </a:lnTo>
                  <a:lnTo>
                    <a:pt x="2007" y="652"/>
                  </a:lnTo>
                  <a:lnTo>
                    <a:pt x="2007" y="651"/>
                  </a:lnTo>
                  <a:lnTo>
                    <a:pt x="2005" y="647"/>
                  </a:lnTo>
                  <a:lnTo>
                    <a:pt x="2005" y="646"/>
                  </a:lnTo>
                  <a:lnTo>
                    <a:pt x="2005" y="645"/>
                  </a:lnTo>
                  <a:lnTo>
                    <a:pt x="2004" y="645"/>
                  </a:lnTo>
                  <a:lnTo>
                    <a:pt x="2003" y="645"/>
                  </a:lnTo>
                  <a:lnTo>
                    <a:pt x="1999" y="644"/>
                  </a:lnTo>
                  <a:lnTo>
                    <a:pt x="1996" y="644"/>
                  </a:lnTo>
                  <a:lnTo>
                    <a:pt x="1996" y="643"/>
                  </a:lnTo>
                  <a:lnTo>
                    <a:pt x="1992" y="640"/>
                  </a:lnTo>
                  <a:lnTo>
                    <a:pt x="1989" y="638"/>
                  </a:lnTo>
                  <a:lnTo>
                    <a:pt x="1989" y="637"/>
                  </a:lnTo>
                  <a:lnTo>
                    <a:pt x="1989" y="635"/>
                  </a:lnTo>
                  <a:lnTo>
                    <a:pt x="1991" y="629"/>
                  </a:lnTo>
                  <a:lnTo>
                    <a:pt x="1991" y="625"/>
                  </a:lnTo>
                  <a:lnTo>
                    <a:pt x="1992" y="623"/>
                  </a:lnTo>
                  <a:lnTo>
                    <a:pt x="1995" y="626"/>
                  </a:lnTo>
                  <a:lnTo>
                    <a:pt x="1997" y="626"/>
                  </a:lnTo>
                  <a:lnTo>
                    <a:pt x="1998" y="626"/>
                  </a:lnTo>
                  <a:lnTo>
                    <a:pt x="1999" y="626"/>
                  </a:lnTo>
                  <a:lnTo>
                    <a:pt x="1998" y="619"/>
                  </a:lnTo>
                  <a:lnTo>
                    <a:pt x="1998" y="615"/>
                  </a:lnTo>
                  <a:lnTo>
                    <a:pt x="1998" y="614"/>
                  </a:lnTo>
                  <a:lnTo>
                    <a:pt x="1995" y="611"/>
                  </a:lnTo>
                  <a:lnTo>
                    <a:pt x="1994" y="610"/>
                  </a:lnTo>
                  <a:lnTo>
                    <a:pt x="1994" y="609"/>
                  </a:lnTo>
                  <a:lnTo>
                    <a:pt x="1992" y="608"/>
                  </a:lnTo>
                  <a:lnTo>
                    <a:pt x="1986" y="605"/>
                  </a:lnTo>
                  <a:lnTo>
                    <a:pt x="1982" y="602"/>
                  </a:lnTo>
                  <a:lnTo>
                    <a:pt x="1982" y="600"/>
                  </a:lnTo>
                  <a:lnTo>
                    <a:pt x="1977" y="597"/>
                  </a:lnTo>
                  <a:lnTo>
                    <a:pt x="1976" y="596"/>
                  </a:lnTo>
                  <a:lnTo>
                    <a:pt x="1976" y="595"/>
                  </a:lnTo>
                  <a:lnTo>
                    <a:pt x="1975" y="596"/>
                  </a:lnTo>
                  <a:lnTo>
                    <a:pt x="1972" y="598"/>
                  </a:lnTo>
                  <a:lnTo>
                    <a:pt x="1971" y="599"/>
                  </a:lnTo>
                  <a:lnTo>
                    <a:pt x="1971" y="599"/>
                  </a:lnTo>
                  <a:lnTo>
                    <a:pt x="1970" y="598"/>
                  </a:lnTo>
                  <a:lnTo>
                    <a:pt x="1967" y="595"/>
                  </a:lnTo>
                  <a:lnTo>
                    <a:pt x="1964" y="593"/>
                  </a:lnTo>
                  <a:lnTo>
                    <a:pt x="1964" y="592"/>
                  </a:lnTo>
                  <a:lnTo>
                    <a:pt x="1963" y="591"/>
                  </a:lnTo>
                  <a:lnTo>
                    <a:pt x="1961" y="587"/>
                  </a:lnTo>
                  <a:lnTo>
                    <a:pt x="1960" y="584"/>
                  </a:lnTo>
                  <a:lnTo>
                    <a:pt x="1960" y="583"/>
                  </a:lnTo>
                  <a:lnTo>
                    <a:pt x="1959" y="583"/>
                  </a:lnTo>
                  <a:lnTo>
                    <a:pt x="1958" y="583"/>
                  </a:lnTo>
                  <a:lnTo>
                    <a:pt x="1953" y="582"/>
                  </a:lnTo>
                  <a:lnTo>
                    <a:pt x="1950" y="582"/>
                  </a:lnTo>
                  <a:lnTo>
                    <a:pt x="1950" y="581"/>
                  </a:lnTo>
                  <a:lnTo>
                    <a:pt x="1945" y="577"/>
                  </a:lnTo>
                  <a:lnTo>
                    <a:pt x="1942" y="575"/>
                  </a:lnTo>
                  <a:lnTo>
                    <a:pt x="1942" y="574"/>
                  </a:lnTo>
                  <a:lnTo>
                    <a:pt x="1939" y="575"/>
                  </a:lnTo>
                  <a:lnTo>
                    <a:pt x="1938" y="575"/>
                  </a:lnTo>
                  <a:lnTo>
                    <a:pt x="1938" y="575"/>
                  </a:lnTo>
                  <a:lnTo>
                    <a:pt x="1934" y="576"/>
                  </a:lnTo>
                  <a:lnTo>
                    <a:pt x="1933" y="576"/>
                  </a:lnTo>
                  <a:lnTo>
                    <a:pt x="1933" y="576"/>
                  </a:lnTo>
                  <a:lnTo>
                    <a:pt x="1928" y="573"/>
                  </a:lnTo>
                  <a:lnTo>
                    <a:pt x="1927" y="572"/>
                  </a:lnTo>
                  <a:lnTo>
                    <a:pt x="1927" y="571"/>
                  </a:lnTo>
                  <a:lnTo>
                    <a:pt x="1925" y="567"/>
                  </a:lnTo>
                  <a:lnTo>
                    <a:pt x="1924" y="563"/>
                  </a:lnTo>
                  <a:lnTo>
                    <a:pt x="1924" y="562"/>
                  </a:lnTo>
                  <a:lnTo>
                    <a:pt x="1923" y="560"/>
                  </a:lnTo>
                  <a:lnTo>
                    <a:pt x="1922" y="551"/>
                  </a:lnTo>
                  <a:lnTo>
                    <a:pt x="1922" y="545"/>
                  </a:lnTo>
                  <a:lnTo>
                    <a:pt x="1922" y="544"/>
                  </a:lnTo>
                  <a:lnTo>
                    <a:pt x="1921" y="545"/>
                  </a:lnTo>
                  <a:lnTo>
                    <a:pt x="1917" y="547"/>
                  </a:lnTo>
                  <a:lnTo>
                    <a:pt x="1916" y="548"/>
                  </a:lnTo>
                  <a:lnTo>
                    <a:pt x="1916" y="548"/>
                  </a:lnTo>
                  <a:lnTo>
                    <a:pt x="1915" y="548"/>
                  </a:lnTo>
                  <a:lnTo>
                    <a:pt x="1912" y="548"/>
                  </a:lnTo>
                  <a:lnTo>
                    <a:pt x="1911" y="548"/>
                  </a:lnTo>
                  <a:lnTo>
                    <a:pt x="1911" y="548"/>
                  </a:lnTo>
                  <a:lnTo>
                    <a:pt x="1904" y="546"/>
                  </a:lnTo>
                  <a:lnTo>
                    <a:pt x="1901" y="545"/>
                  </a:lnTo>
                  <a:lnTo>
                    <a:pt x="1901" y="544"/>
                  </a:lnTo>
                  <a:lnTo>
                    <a:pt x="1900" y="544"/>
                  </a:lnTo>
                  <a:lnTo>
                    <a:pt x="1899" y="544"/>
                  </a:lnTo>
                  <a:lnTo>
                    <a:pt x="1894" y="542"/>
                  </a:lnTo>
                  <a:lnTo>
                    <a:pt x="1891" y="541"/>
                  </a:lnTo>
                  <a:lnTo>
                    <a:pt x="1891" y="540"/>
                  </a:lnTo>
                  <a:lnTo>
                    <a:pt x="1886" y="538"/>
                  </a:lnTo>
                  <a:lnTo>
                    <a:pt x="1882" y="537"/>
                  </a:lnTo>
                  <a:lnTo>
                    <a:pt x="1882" y="536"/>
                  </a:lnTo>
                  <a:lnTo>
                    <a:pt x="1881" y="535"/>
                  </a:lnTo>
                  <a:lnTo>
                    <a:pt x="1878" y="532"/>
                  </a:lnTo>
                  <a:lnTo>
                    <a:pt x="1877" y="529"/>
                  </a:lnTo>
                  <a:lnTo>
                    <a:pt x="1877" y="528"/>
                  </a:lnTo>
                  <a:lnTo>
                    <a:pt x="1876" y="528"/>
                  </a:lnTo>
                  <a:lnTo>
                    <a:pt x="1875" y="528"/>
                  </a:lnTo>
                  <a:lnTo>
                    <a:pt x="1868" y="526"/>
                  </a:lnTo>
                  <a:lnTo>
                    <a:pt x="1864" y="525"/>
                  </a:lnTo>
                  <a:lnTo>
                    <a:pt x="1864" y="524"/>
                  </a:lnTo>
                  <a:lnTo>
                    <a:pt x="1862" y="517"/>
                  </a:lnTo>
                  <a:lnTo>
                    <a:pt x="1860" y="513"/>
                  </a:lnTo>
                  <a:lnTo>
                    <a:pt x="1860" y="512"/>
                  </a:lnTo>
                  <a:lnTo>
                    <a:pt x="1860" y="509"/>
                  </a:lnTo>
                  <a:lnTo>
                    <a:pt x="1860" y="506"/>
                  </a:lnTo>
                  <a:lnTo>
                    <a:pt x="1862" y="505"/>
                  </a:lnTo>
                  <a:lnTo>
                    <a:pt x="1860" y="504"/>
                  </a:lnTo>
                  <a:lnTo>
                    <a:pt x="1860" y="503"/>
                  </a:lnTo>
                  <a:lnTo>
                    <a:pt x="1862" y="501"/>
                  </a:lnTo>
                  <a:lnTo>
                    <a:pt x="1863" y="499"/>
                  </a:lnTo>
                  <a:lnTo>
                    <a:pt x="1860" y="500"/>
                  </a:lnTo>
                  <a:lnTo>
                    <a:pt x="1859" y="500"/>
                  </a:lnTo>
                  <a:lnTo>
                    <a:pt x="1859" y="500"/>
                  </a:lnTo>
                  <a:lnTo>
                    <a:pt x="1859" y="497"/>
                  </a:lnTo>
                  <a:lnTo>
                    <a:pt x="1859" y="495"/>
                  </a:lnTo>
                  <a:lnTo>
                    <a:pt x="1860" y="494"/>
                  </a:lnTo>
                  <a:lnTo>
                    <a:pt x="1859" y="494"/>
                  </a:lnTo>
                  <a:lnTo>
                    <a:pt x="1856" y="494"/>
                  </a:lnTo>
                  <a:lnTo>
                    <a:pt x="1855" y="494"/>
                  </a:lnTo>
                  <a:lnTo>
                    <a:pt x="1855" y="493"/>
                  </a:lnTo>
                  <a:lnTo>
                    <a:pt x="1854" y="492"/>
                  </a:lnTo>
                  <a:lnTo>
                    <a:pt x="1851" y="489"/>
                  </a:lnTo>
                  <a:lnTo>
                    <a:pt x="1848" y="487"/>
                  </a:lnTo>
                  <a:lnTo>
                    <a:pt x="1848" y="486"/>
                  </a:lnTo>
                  <a:lnTo>
                    <a:pt x="1847" y="479"/>
                  </a:lnTo>
                  <a:lnTo>
                    <a:pt x="1847" y="476"/>
                  </a:lnTo>
                  <a:lnTo>
                    <a:pt x="1847" y="475"/>
                  </a:lnTo>
                  <a:lnTo>
                    <a:pt x="1847" y="474"/>
                  </a:lnTo>
                  <a:lnTo>
                    <a:pt x="1847" y="469"/>
                  </a:lnTo>
                  <a:lnTo>
                    <a:pt x="1847" y="466"/>
                  </a:lnTo>
                  <a:lnTo>
                    <a:pt x="1848" y="465"/>
                  </a:lnTo>
                  <a:lnTo>
                    <a:pt x="1848" y="464"/>
                  </a:lnTo>
                  <a:lnTo>
                    <a:pt x="1850" y="460"/>
                  </a:lnTo>
                  <a:lnTo>
                    <a:pt x="1850" y="457"/>
                  </a:lnTo>
                  <a:lnTo>
                    <a:pt x="1851" y="456"/>
                  </a:lnTo>
                  <a:lnTo>
                    <a:pt x="1850" y="453"/>
                  </a:lnTo>
                  <a:lnTo>
                    <a:pt x="1850" y="452"/>
                  </a:lnTo>
                  <a:lnTo>
                    <a:pt x="1851" y="451"/>
                  </a:lnTo>
                  <a:lnTo>
                    <a:pt x="1851" y="449"/>
                  </a:lnTo>
                  <a:lnTo>
                    <a:pt x="1851" y="444"/>
                  </a:lnTo>
                  <a:lnTo>
                    <a:pt x="1851" y="441"/>
                  </a:lnTo>
                  <a:lnTo>
                    <a:pt x="1852" y="440"/>
                  </a:lnTo>
                  <a:lnTo>
                    <a:pt x="1851" y="432"/>
                  </a:lnTo>
                  <a:lnTo>
                    <a:pt x="1851" y="428"/>
                  </a:lnTo>
                  <a:lnTo>
                    <a:pt x="1851" y="427"/>
                  </a:lnTo>
                  <a:lnTo>
                    <a:pt x="1847" y="420"/>
                  </a:lnTo>
                  <a:lnTo>
                    <a:pt x="1846" y="417"/>
                  </a:lnTo>
                  <a:lnTo>
                    <a:pt x="1846" y="416"/>
                  </a:lnTo>
                  <a:lnTo>
                    <a:pt x="1844" y="409"/>
                  </a:lnTo>
                  <a:lnTo>
                    <a:pt x="1843" y="406"/>
                  </a:lnTo>
                  <a:lnTo>
                    <a:pt x="1843" y="405"/>
                  </a:lnTo>
                  <a:lnTo>
                    <a:pt x="1841" y="397"/>
                  </a:lnTo>
                  <a:lnTo>
                    <a:pt x="1841" y="393"/>
                  </a:lnTo>
                  <a:lnTo>
                    <a:pt x="1841" y="392"/>
                  </a:lnTo>
                  <a:lnTo>
                    <a:pt x="1840" y="392"/>
                  </a:lnTo>
                  <a:lnTo>
                    <a:pt x="1839" y="392"/>
                  </a:lnTo>
                  <a:lnTo>
                    <a:pt x="1835" y="392"/>
                  </a:lnTo>
                  <a:lnTo>
                    <a:pt x="1833" y="392"/>
                  </a:lnTo>
                  <a:lnTo>
                    <a:pt x="1833" y="390"/>
                  </a:lnTo>
                  <a:lnTo>
                    <a:pt x="1832" y="389"/>
                  </a:lnTo>
                  <a:lnTo>
                    <a:pt x="1829" y="385"/>
                  </a:lnTo>
                  <a:lnTo>
                    <a:pt x="1828" y="382"/>
                  </a:lnTo>
                  <a:lnTo>
                    <a:pt x="1828" y="381"/>
                  </a:lnTo>
                  <a:lnTo>
                    <a:pt x="1827" y="379"/>
                  </a:lnTo>
                  <a:lnTo>
                    <a:pt x="1823" y="375"/>
                  </a:lnTo>
                  <a:lnTo>
                    <a:pt x="1821" y="372"/>
                  </a:lnTo>
                  <a:lnTo>
                    <a:pt x="1821" y="371"/>
                  </a:lnTo>
                  <a:lnTo>
                    <a:pt x="1819" y="364"/>
                  </a:lnTo>
                  <a:lnTo>
                    <a:pt x="1818" y="360"/>
                  </a:lnTo>
                  <a:lnTo>
                    <a:pt x="1818" y="359"/>
                  </a:lnTo>
                  <a:lnTo>
                    <a:pt x="1818" y="355"/>
                  </a:lnTo>
                  <a:lnTo>
                    <a:pt x="1818" y="353"/>
                  </a:lnTo>
                  <a:lnTo>
                    <a:pt x="1819" y="352"/>
                  </a:lnTo>
                  <a:lnTo>
                    <a:pt x="1819" y="351"/>
                  </a:lnTo>
                  <a:lnTo>
                    <a:pt x="1818" y="346"/>
                  </a:lnTo>
                  <a:lnTo>
                    <a:pt x="1818" y="342"/>
                  </a:lnTo>
                  <a:lnTo>
                    <a:pt x="1819" y="341"/>
                  </a:lnTo>
                  <a:lnTo>
                    <a:pt x="1818" y="340"/>
                  </a:lnTo>
                  <a:lnTo>
                    <a:pt x="1816" y="336"/>
                  </a:lnTo>
                  <a:lnTo>
                    <a:pt x="1815" y="332"/>
                  </a:lnTo>
                  <a:lnTo>
                    <a:pt x="1815" y="331"/>
                  </a:lnTo>
                  <a:lnTo>
                    <a:pt x="1815" y="330"/>
                  </a:lnTo>
                  <a:lnTo>
                    <a:pt x="1813" y="326"/>
                  </a:lnTo>
                  <a:lnTo>
                    <a:pt x="1813" y="323"/>
                  </a:lnTo>
                  <a:lnTo>
                    <a:pt x="1815" y="321"/>
                  </a:lnTo>
                  <a:lnTo>
                    <a:pt x="1812" y="315"/>
                  </a:lnTo>
                  <a:lnTo>
                    <a:pt x="1811" y="312"/>
                  </a:lnTo>
                  <a:lnTo>
                    <a:pt x="1811" y="311"/>
                  </a:lnTo>
                  <a:lnTo>
                    <a:pt x="1811" y="309"/>
                  </a:lnTo>
                  <a:lnTo>
                    <a:pt x="1811" y="306"/>
                  </a:lnTo>
                  <a:lnTo>
                    <a:pt x="1811" y="303"/>
                  </a:lnTo>
                  <a:lnTo>
                    <a:pt x="1812" y="302"/>
                  </a:lnTo>
                  <a:lnTo>
                    <a:pt x="1812" y="301"/>
                  </a:lnTo>
                  <a:lnTo>
                    <a:pt x="1813" y="295"/>
                  </a:lnTo>
                  <a:lnTo>
                    <a:pt x="1813" y="292"/>
                  </a:lnTo>
                  <a:lnTo>
                    <a:pt x="1815" y="291"/>
                  </a:lnTo>
                  <a:lnTo>
                    <a:pt x="1812" y="288"/>
                  </a:lnTo>
                  <a:lnTo>
                    <a:pt x="1811" y="285"/>
                  </a:lnTo>
                  <a:lnTo>
                    <a:pt x="1811" y="284"/>
                  </a:lnTo>
                  <a:lnTo>
                    <a:pt x="1811" y="283"/>
                  </a:lnTo>
                  <a:lnTo>
                    <a:pt x="1812" y="278"/>
                  </a:lnTo>
                  <a:lnTo>
                    <a:pt x="1813" y="274"/>
                  </a:lnTo>
                  <a:lnTo>
                    <a:pt x="1815" y="273"/>
                  </a:lnTo>
                  <a:lnTo>
                    <a:pt x="1812" y="272"/>
                  </a:lnTo>
                  <a:lnTo>
                    <a:pt x="1809" y="268"/>
                  </a:lnTo>
                  <a:lnTo>
                    <a:pt x="1806" y="265"/>
                  </a:lnTo>
                  <a:lnTo>
                    <a:pt x="1806" y="264"/>
                  </a:lnTo>
                  <a:lnTo>
                    <a:pt x="1800" y="261"/>
                  </a:lnTo>
                  <a:lnTo>
                    <a:pt x="1797" y="260"/>
                  </a:lnTo>
                  <a:lnTo>
                    <a:pt x="1797" y="259"/>
                  </a:lnTo>
                  <a:lnTo>
                    <a:pt x="1792" y="253"/>
                  </a:lnTo>
                  <a:lnTo>
                    <a:pt x="1789" y="248"/>
                  </a:lnTo>
                  <a:lnTo>
                    <a:pt x="1789" y="247"/>
                  </a:lnTo>
                  <a:lnTo>
                    <a:pt x="1783" y="245"/>
                  </a:lnTo>
                  <a:lnTo>
                    <a:pt x="1780" y="244"/>
                  </a:lnTo>
                  <a:lnTo>
                    <a:pt x="1780" y="243"/>
                  </a:lnTo>
                  <a:lnTo>
                    <a:pt x="1777" y="237"/>
                  </a:lnTo>
                  <a:lnTo>
                    <a:pt x="1776" y="234"/>
                  </a:lnTo>
                  <a:lnTo>
                    <a:pt x="1776" y="233"/>
                  </a:lnTo>
                  <a:lnTo>
                    <a:pt x="1775" y="232"/>
                  </a:lnTo>
                  <a:lnTo>
                    <a:pt x="1774" y="229"/>
                  </a:lnTo>
                  <a:lnTo>
                    <a:pt x="1773" y="226"/>
                  </a:lnTo>
                  <a:lnTo>
                    <a:pt x="1773" y="225"/>
                  </a:lnTo>
                  <a:lnTo>
                    <a:pt x="1772" y="225"/>
                  </a:lnTo>
                  <a:lnTo>
                    <a:pt x="1771" y="225"/>
                  </a:lnTo>
                  <a:lnTo>
                    <a:pt x="1766" y="224"/>
                  </a:lnTo>
                  <a:lnTo>
                    <a:pt x="1763" y="224"/>
                  </a:lnTo>
                  <a:lnTo>
                    <a:pt x="1763" y="223"/>
                  </a:lnTo>
                  <a:lnTo>
                    <a:pt x="1761" y="224"/>
                  </a:lnTo>
                  <a:lnTo>
                    <a:pt x="1757" y="225"/>
                  </a:lnTo>
                  <a:lnTo>
                    <a:pt x="1753" y="225"/>
                  </a:lnTo>
                  <a:lnTo>
                    <a:pt x="1753" y="225"/>
                  </a:lnTo>
                  <a:lnTo>
                    <a:pt x="1752" y="226"/>
                  </a:lnTo>
                  <a:lnTo>
                    <a:pt x="1749" y="229"/>
                  </a:lnTo>
                  <a:lnTo>
                    <a:pt x="1747" y="230"/>
                  </a:lnTo>
                  <a:lnTo>
                    <a:pt x="1747" y="230"/>
                  </a:lnTo>
                  <a:lnTo>
                    <a:pt x="1746" y="231"/>
                  </a:lnTo>
                  <a:lnTo>
                    <a:pt x="1741" y="234"/>
                  </a:lnTo>
                  <a:lnTo>
                    <a:pt x="1739" y="235"/>
                  </a:lnTo>
                  <a:lnTo>
                    <a:pt x="1739" y="235"/>
                  </a:lnTo>
                  <a:lnTo>
                    <a:pt x="1733" y="233"/>
                  </a:lnTo>
                  <a:lnTo>
                    <a:pt x="1729" y="232"/>
                  </a:lnTo>
                  <a:lnTo>
                    <a:pt x="1729" y="231"/>
                  </a:lnTo>
                  <a:lnTo>
                    <a:pt x="1727" y="230"/>
                  </a:lnTo>
                  <a:lnTo>
                    <a:pt x="1724" y="226"/>
                  </a:lnTo>
                  <a:lnTo>
                    <a:pt x="1722" y="224"/>
                  </a:lnTo>
                  <a:lnTo>
                    <a:pt x="1722" y="223"/>
                  </a:lnTo>
                  <a:lnTo>
                    <a:pt x="1719" y="216"/>
                  </a:lnTo>
                  <a:lnTo>
                    <a:pt x="1718" y="212"/>
                  </a:lnTo>
                  <a:lnTo>
                    <a:pt x="1718" y="211"/>
                  </a:lnTo>
                  <a:lnTo>
                    <a:pt x="1717" y="204"/>
                  </a:lnTo>
                  <a:lnTo>
                    <a:pt x="1717" y="201"/>
                  </a:lnTo>
                  <a:lnTo>
                    <a:pt x="1717" y="200"/>
                  </a:lnTo>
                  <a:lnTo>
                    <a:pt x="1715" y="195"/>
                  </a:lnTo>
                  <a:lnTo>
                    <a:pt x="1714" y="191"/>
                  </a:lnTo>
                  <a:lnTo>
                    <a:pt x="1714" y="190"/>
                  </a:lnTo>
                  <a:lnTo>
                    <a:pt x="1714" y="189"/>
                  </a:lnTo>
                  <a:lnTo>
                    <a:pt x="1714" y="183"/>
                  </a:lnTo>
                  <a:lnTo>
                    <a:pt x="1714" y="178"/>
                  </a:lnTo>
                  <a:lnTo>
                    <a:pt x="1715" y="177"/>
                  </a:lnTo>
                  <a:lnTo>
                    <a:pt x="1715" y="176"/>
                  </a:lnTo>
                  <a:lnTo>
                    <a:pt x="1714" y="173"/>
                  </a:lnTo>
                  <a:lnTo>
                    <a:pt x="1714" y="171"/>
                  </a:lnTo>
                  <a:lnTo>
                    <a:pt x="1715" y="169"/>
                  </a:lnTo>
                  <a:lnTo>
                    <a:pt x="1714" y="167"/>
                  </a:lnTo>
                  <a:lnTo>
                    <a:pt x="1712" y="161"/>
                  </a:lnTo>
                  <a:lnTo>
                    <a:pt x="1711" y="156"/>
                  </a:lnTo>
                  <a:lnTo>
                    <a:pt x="1711" y="155"/>
                  </a:lnTo>
                  <a:lnTo>
                    <a:pt x="1710" y="153"/>
                  </a:lnTo>
                  <a:lnTo>
                    <a:pt x="1709" y="145"/>
                  </a:lnTo>
                  <a:lnTo>
                    <a:pt x="1709" y="140"/>
                  </a:lnTo>
                  <a:lnTo>
                    <a:pt x="1709" y="139"/>
                  </a:lnTo>
                  <a:lnTo>
                    <a:pt x="1704" y="138"/>
                  </a:lnTo>
                  <a:lnTo>
                    <a:pt x="1703" y="137"/>
                  </a:lnTo>
                  <a:lnTo>
                    <a:pt x="1703" y="136"/>
                  </a:lnTo>
                  <a:lnTo>
                    <a:pt x="1702" y="132"/>
                  </a:lnTo>
                  <a:lnTo>
                    <a:pt x="1703" y="131"/>
                  </a:lnTo>
                  <a:lnTo>
                    <a:pt x="1703" y="130"/>
                  </a:lnTo>
                  <a:lnTo>
                    <a:pt x="1702" y="126"/>
                  </a:lnTo>
                  <a:lnTo>
                    <a:pt x="1702" y="122"/>
                  </a:lnTo>
                  <a:lnTo>
                    <a:pt x="1703" y="121"/>
                  </a:lnTo>
                  <a:lnTo>
                    <a:pt x="1700" y="118"/>
                  </a:lnTo>
                  <a:lnTo>
                    <a:pt x="1699" y="117"/>
                  </a:lnTo>
                  <a:lnTo>
                    <a:pt x="1699" y="116"/>
                  </a:lnTo>
                  <a:lnTo>
                    <a:pt x="1695" y="109"/>
                  </a:lnTo>
                  <a:lnTo>
                    <a:pt x="1694" y="106"/>
                  </a:lnTo>
                  <a:lnTo>
                    <a:pt x="1694" y="105"/>
                  </a:lnTo>
                  <a:lnTo>
                    <a:pt x="1690" y="102"/>
                  </a:lnTo>
                  <a:lnTo>
                    <a:pt x="1688" y="99"/>
                  </a:lnTo>
                  <a:lnTo>
                    <a:pt x="1688" y="98"/>
                  </a:lnTo>
                  <a:lnTo>
                    <a:pt x="1688" y="97"/>
                  </a:lnTo>
                  <a:lnTo>
                    <a:pt x="1689" y="94"/>
                  </a:lnTo>
                  <a:lnTo>
                    <a:pt x="1689" y="92"/>
                  </a:lnTo>
                  <a:lnTo>
                    <a:pt x="1690" y="91"/>
                  </a:lnTo>
                  <a:lnTo>
                    <a:pt x="1689" y="87"/>
                  </a:lnTo>
                  <a:lnTo>
                    <a:pt x="1689" y="85"/>
                  </a:lnTo>
                  <a:lnTo>
                    <a:pt x="1690" y="84"/>
                  </a:lnTo>
                  <a:lnTo>
                    <a:pt x="1688" y="80"/>
                  </a:lnTo>
                  <a:lnTo>
                    <a:pt x="1688" y="76"/>
                  </a:lnTo>
                  <a:lnTo>
                    <a:pt x="1688" y="75"/>
                  </a:lnTo>
                  <a:lnTo>
                    <a:pt x="1687" y="75"/>
                  </a:lnTo>
                  <a:lnTo>
                    <a:pt x="1686" y="75"/>
                  </a:lnTo>
                  <a:lnTo>
                    <a:pt x="1680" y="75"/>
                  </a:lnTo>
                  <a:lnTo>
                    <a:pt x="1676" y="75"/>
                  </a:lnTo>
                  <a:lnTo>
                    <a:pt x="1676" y="75"/>
                  </a:lnTo>
                  <a:lnTo>
                    <a:pt x="1674" y="70"/>
                  </a:lnTo>
                  <a:lnTo>
                    <a:pt x="1674" y="67"/>
                  </a:lnTo>
                  <a:lnTo>
                    <a:pt x="1674" y="66"/>
                  </a:lnTo>
                  <a:lnTo>
                    <a:pt x="1674" y="63"/>
                  </a:lnTo>
                  <a:lnTo>
                    <a:pt x="1672" y="57"/>
                  </a:lnTo>
                  <a:lnTo>
                    <a:pt x="1672" y="51"/>
                  </a:lnTo>
                  <a:lnTo>
                    <a:pt x="1674" y="50"/>
                  </a:lnTo>
                  <a:lnTo>
                    <a:pt x="1674" y="48"/>
                  </a:lnTo>
                  <a:lnTo>
                    <a:pt x="1672" y="41"/>
                  </a:lnTo>
                  <a:lnTo>
                    <a:pt x="1672" y="37"/>
                  </a:lnTo>
                  <a:lnTo>
                    <a:pt x="1674" y="36"/>
                  </a:lnTo>
                  <a:lnTo>
                    <a:pt x="1672" y="31"/>
                  </a:lnTo>
                  <a:lnTo>
                    <a:pt x="1672" y="27"/>
                  </a:lnTo>
                  <a:lnTo>
                    <a:pt x="1672" y="26"/>
                  </a:lnTo>
                  <a:lnTo>
                    <a:pt x="1671" y="24"/>
                  </a:lnTo>
                  <a:lnTo>
                    <a:pt x="1671" y="23"/>
                  </a:lnTo>
                  <a:lnTo>
                    <a:pt x="1671" y="22"/>
                  </a:lnTo>
                  <a:lnTo>
                    <a:pt x="1671" y="21"/>
                  </a:lnTo>
                  <a:lnTo>
                    <a:pt x="1671" y="20"/>
                  </a:lnTo>
                  <a:lnTo>
                    <a:pt x="1674" y="18"/>
                  </a:lnTo>
                  <a:lnTo>
                    <a:pt x="1671" y="14"/>
                  </a:lnTo>
                  <a:lnTo>
                    <a:pt x="1671" y="12"/>
                  </a:lnTo>
                  <a:lnTo>
                    <a:pt x="1671" y="11"/>
                  </a:lnTo>
                  <a:lnTo>
                    <a:pt x="1670" y="8"/>
                  </a:lnTo>
                  <a:lnTo>
                    <a:pt x="1670" y="5"/>
                  </a:lnTo>
                  <a:lnTo>
                    <a:pt x="1671" y="4"/>
                  </a:lnTo>
                  <a:lnTo>
                    <a:pt x="1667" y="2"/>
                  </a:lnTo>
                  <a:lnTo>
                    <a:pt x="1666" y="1"/>
                  </a:lnTo>
                  <a:lnTo>
                    <a:pt x="1666" y="0"/>
                  </a:lnTo>
                  <a:lnTo>
                    <a:pt x="1665" y="1"/>
                  </a:lnTo>
                  <a:lnTo>
                    <a:pt x="1663" y="4"/>
                  </a:lnTo>
                  <a:lnTo>
                    <a:pt x="1662" y="6"/>
                  </a:lnTo>
                  <a:lnTo>
                    <a:pt x="1662" y="6"/>
                  </a:lnTo>
                  <a:lnTo>
                    <a:pt x="1660" y="8"/>
                  </a:lnTo>
                  <a:lnTo>
                    <a:pt x="1655" y="11"/>
                  </a:lnTo>
                  <a:lnTo>
                    <a:pt x="1652" y="12"/>
                  </a:lnTo>
                  <a:lnTo>
                    <a:pt x="1652" y="12"/>
                  </a:lnTo>
                  <a:lnTo>
                    <a:pt x="1651" y="12"/>
                  </a:lnTo>
                  <a:lnTo>
                    <a:pt x="1647" y="12"/>
                  </a:lnTo>
                  <a:lnTo>
                    <a:pt x="1646" y="12"/>
                  </a:lnTo>
                  <a:lnTo>
                    <a:pt x="1646" y="12"/>
                  </a:lnTo>
                  <a:lnTo>
                    <a:pt x="1645" y="13"/>
                  </a:lnTo>
                  <a:lnTo>
                    <a:pt x="1643" y="15"/>
                  </a:lnTo>
                  <a:lnTo>
                    <a:pt x="1642" y="16"/>
                  </a:lnTo>
                  <a:lnTo>
                    <a:pt x="1642" y="16"/>
                  </a:lnTo>
                  <a:lnTo>
                    <a:pt x="1642" y="17"/>
                  </a:lnTo>
                  <a:lnTo>
                    <a:pt x="1642" y="17"/>
                  </a:lnTo>
                  <a:lnTo>
                    <a:pt x="1641" y="21"/>
                  </a:lnTo>
                  <a:lnTo>
                    <a:pt x="1641" y="27"/>
                  </a:lnTo>
                  <a:lnTo>
                    <a:pt x="1641" y="33"/>
                  </a:lnTo>
                  <a:lnTo>
                    <a:pt x="1641" y="33"/>
                  </a:lnTo>
                  <a:lnTo>
                    <a:pt x="1640" y="34"/>
                  </a:lnTo>
                  <a:lnTo>
                    <a:pt x="1637" y="36"/>
                  </a:lnTo>
                  <a:lnTo>
                    <a:pt x="1631" y="44"/>
                  </a:lnTo>
                  <a:lnTo>
                    <a:pt x="1627" y="49"/>
                  </a:lnTo>
                  <a:lnTo>
                    <a:pt x="1627" y="49"/>
                  </a:lnTo>
                  <a:lnTo>
                    <a:pt x="1625" y="52"/>
                  </a:lnTo>
                  <a:lnTo>
                    <a:pt x="1623" y="62"/>
                  </a:lnTo>
                  <a:lnTo>
                    <a:pt x="1622" y="69"/>
                  </a:lnTo>
                  <a:lnTo>
                    <a:pt x="1622" y="69"/>
                  </a:lnTo>
                  <a:lnTo>
                    <a:pt x="1621" y="70"/>
                  </a:lnTo>
                  <a:lnTo>
                    <a:pt x="1618" y="74"/>
                  </a:lnTo>
                  <a:lnTo>
                    <a:pt x="1617" y="78"/>
                  </a:lnTo>
                  <a:lnTo>
                    <a:pt x="1617" y="78"/>
                  </a:lnTo>
                  <a:lnTo>
                    <a:pt x="1615" y="79"/>
                  </a:lnTo>
                  <a:lnTo>
                    <a:pt x="1609" y="80"/>
                  </a:lnTo>
                  <a:lnTo>
                    <a:pt x="1606" y="81"/>
                  </a:lnTo>
                  <a:lnTo>
                    <a:pt x="1606" y="81"/>
                  </a:lnTo>
                  <a:lnTo>
                    <a:pt x="1605" y="84"/>
                  </a:lnTo>
                  <a:lnTo>
                    <a:pt x="1601" y="94"/>
                  </a:lnTo>
                  <a:lnTo>
                    <a:pt x="1599" y="101"/>
                  </a:lnTo>
                  <a:lnTo>
                    <a:pt x="1599" y="101"/>
                  </a:lnTo>
                  <a:lnTo>
                    <a:pt x="1598" y="103"/>
                  </a:lnTo>
                  <a:lnTo>
                    <a:pt x="1598" y="109"/>
                  </a:lnTo>
                  <a:lnTo>
                    <a:pt x="1598" y="114"/>
                  </a:lnTo>
                  <a:lnTo>
                    <a:pt x="1598" y="114"/>
                  </a:lnTo>
                  <a:lnTo>
                    <a:pt x="1599" y="114"/>
                  </a:lnTo>
                  <a:lnTo>
                    <a:pt x="1604" y="116"/>
                  </a:lnTo>
                  <a:lnTo>
                    <a:pt x="1606" y="116"/>
                  </a:lnTo>
                  <a:lnTo>
                    <a:pt x="1607" y="116"/>
                  </a:lnTo>
                  <a:lnTo>
                    <a:pt x="1606" y="118"/>
                  </a:lnTo>
                  <a:lnTo>
                    <a:pt x="1606" y="122"/>
                  </a:lnTo>
                  <a:lnTo>
                    <a:pt x="1606" y="126"/>
                  </a:lnTo>
                  <a:lnTo>
                    <a:pt x="1606" y="126"/>
                  </a:lnTo>
                  <a:lnTo>
                    <a:pt x="1605" y="127"/>
                  </a:lnTo>
                  <a:lnTo>
                    <a:pt x="1601" y="133"/>
                  </a:lnTo>
                  <a:lnTo>
                    <a:pt x="1599" y="138"/>
                  </a:lnTo>
                  <a:lnTo>
                    <a:pt x="1599" y="138"/>
                  </a:lnTo>
                  <a:lnTo>
                    <a:pt x="1599" y="139"/>
                  </a:lnTo>
                  <a:lnTo>
                    <a:pt x="1598" y="142"/>
                  </a:lnTo>
                  <a:lnTo>
                    <a:pt x="1598" y="144"/>
                  </a:lnTo>
                  <a:lnTo>
                    <a:pt x="1599" y="144"/>
                  </a:lnTo>
                  <a:lnTo>
                    <a:pt x="1599" y="146"/>
                  </a:lnTo>
                  <a:lnTo>
                    <a:pt x="1598" y="152"/>
                  </a:lnTo>
                  <a:lnTo>
                    <a:pt x="1598" y="155"/>
                  </a:lnTo>
                  <a:lnTo>
                    <a:pt x="1599" y="155"/>
                  </a:lnTo>
                  <a:lnTo>
                    <a:pt x="1598" y="157"/>
                  </a:lnTo>
                  <a:lnTo>
                    <a:pt x="1597" y="161"/>
                  </a:lnTo>
                  <a:lnTo>
                    <a:pt x="1596" y="164"/>
                  </a:lnTo>
                  <a:lnTo>
                    <a:pt x="1596" y="164"/>
                  </a:lnTo>
                  <a:lnTo>
                    <a:pt x="1595" y="165"/>
                  </a:lnTo>
                  <a:lnTo>
                    <a:pt x="1592" y="172"/>
                  </a:lnTo>
                  <a:lnTo>
                    <a:pt x="1589" y="176"/>
                  </a:lnTo>
                  <a:lnTo>
                    <a:pt x="1589" y="176"/>
                  </a:lnTo>
                  <a:lnTo>
                    <a:pt x="1589" y="177"/>
                  </a:lnTo>
                  <a:lnTo>
                    <a:pt x="1589" y="180"/>
                  </a:lnTo>
                  <a:lnTo>
                    <a:pt x="1589" y="190"/>
                  </a:lnTo>
                  <a:lnTo>
                    <a:pt x="1589" y="198"/>
                  </a:lnTo>
                  <a:lnTo>
                    <a:pt x="1590" y="198"/>
                  </a:lnTo>
                  <a:lnTo>
                    <a:pt x="1590" y="199"/>
                  </a:lnTo>
                  <a:lnTo>
                    <a:pt x="1590" y="200"/>
                  </a:lnTo>
                  <a:lnTo>
                    <a:pt x="1590" y="207"/>
                  </a:lnTo>
                  <a:lnTo>
                    <a:pt x="1590" y="211"/>
                  </a:lnTo>
                  <a:lnTo>
                    <a:pt x="1592" y="211"/>
                  </a:lnTo>
                  <a:lnTo>
                    <a:pt x="1590" y="214"/>
                  </a:lnTo>
                  <a:lnTo>
                    <a:pt x="1589" y="222"/>
                  </a:lnTo>
                  <a:lnTo>
                    <a:pt x="1588" y="229"/>
                  </a:lnTo>
                  <a:lnTo>
                    <a:pt x="1588" y="229"/>
                  </a:lnTo>
                  <a:lnTo>
                    <a:pt x="1588" y="230"/>
                  </a:lnTo>
                  <a:lnTo>
                    <a:pt x="1588" y="232"/>
                  </a:lnTo>
                  <a:lnTo>
                    <a:pt x="1592" y="242"/>
                  </a:lnTo>
                  <a:lnTo>
                    <a:pt x="1593" y="249"/>
                  </a:lnTo>
                  <a:lnTo>
                    <a:pt x="1594" y="249"/>
                  </a:lnTo>
                  <a:lnTo>
                    <a:pt x="1594" y="250"/>
                  </a:lnTo>
                  <a:lnTo>
                    <a:pt x="1594" y="253"/>
                  </a:lnTo>
                  <a:lnTo>
                    <a:pt x="1594" y="259"/>
                  </a:lnTo>
                  <a:lnTo>
                    <a:pt x="1594" y="265"/>
                  </a:lnTo>
                  <a:lnTo>
                    <a:pt x="1595" y="265"/>
                  </a:lnTo>
                  <a:lnTo>
                    <a:pt x="1594" y="268"/>
                  </a:lnTo>
                  <a:lnTo>
                    <a:pt x="1593" y="274"/>
                  </a:lnTo>
                  <a:lnTo>
                    <a:pt x="1592" y="279"/>
                  </a:lnTo>
                  <a:lnTo>
                    <a:pt x="1592" y="279"/>
                  </a:lnTo>
                  <a:lnTo>
                    <a:pt x="1590" y="280"/>
                  </a:lnTo>
                  <a:lnTo>
                    <a:pt x="1587" y="286"/>
                  </a:lnTo>
                  <a:lnTo>
                    <a:pt x="1586" y="291"/>
                  </a:lnTo>
                  <a:lnTo>
                    <a:pt x="1586" y="291"/>
                  </a:lnTo>
                  <a:lnTo>
                    <a:pt x="1585" y="294"/>
                  </a:lnTo>
                  <a:lnTo>
                    <a:pt x="1582" y="302"/>
                  </a:lnTo>
                  <a:lnTo>
                    <a:pt x="1580" y="308"/>
                  </a:lnTo>
                  <a:lnTo>
                    <a:pt x="1580" y="308"/>
                  </a:lnTo>
                  <a:lnTo>
                    <a:pt x="1578" y="313"/>
                  </a:lnTo>
                  <a:lnTo>
                    <a:pt x="1575" y="323"/>
                  </a:lnTo>
                  <a:lnTo>
                    <a:pt x="1574" y="330"/>
                  </a:lnTo>
                  <a:lnTo>
                    <a:pt x="1574" y="330"/>
                  </a:lnTo>
                  <a:lnTo>
                    <a:pt x="1573" y="335"/>
                  </a:lnTo>
                  <a:lnTo>
                    <a:pt x="1570" y="347"/>
                  </a:lnTo>
                  <a:lnTo>
                    <a:pt x="1567" y="357"/>
                  </a:lnTo>
                  <a:lnTo>
                    <a:pt x="1567" y="357"/>
                  </a:lnTo>
                  <a:lnTo>
                    <a:pt x="1566" y="358"/>
                  </a:lnTo>
                  <a:lnTo>
                    <a:pt x="1564" y="361"/>
                  </a:lnTo>
                  <a:lnTo>
                    <a:pt x="1558" y="373"/>
                  </a:lnTo>
                  <a:lnTo>
                    <a:pt x="1552" y="383"/>
                  </a:lnTo>
                  <a:lnTo>
                    <a:pt x="1552" y="383"/>
                  </a:lnTo>
                  <a:lnTo>
                    <a:pt x="1551" y="386"/>
                  </a:lnTo>
                  <a:lnTo>
                    <a:pt x="1548" y="396"/>
                  </a:lnTo>
                  <a:lnTo>
                    <a:pt x="1547" y="404"/>
                  </a:lnTo>
                  <a:lnTo>
                    <a:pt x="1547" y="404"/>
                  </a:lnTo>
                  <a:lnTo>
                    <a:pt x="1546" y="405"/>
                  </a:lnTo>
                  <a:lnTo>
                    <a:pt x="1543" y="409"/>
                  </a:lnTo>
                  <a:lnTo>
                    <a:pt x="1542" y="411"/>
                  </a:lnTo>
                  <a:lnTo>
                    <a:pt x="1542" y="411"/>
                  </a:lnTo>
                  <a:lnTo>
                    <a:pt x="1539" y="412"/>
                  </a:lnTo>
                  <a:lnTo>
                    <a:pt x="1531" y="416"/>
                  </a:lnTo>
                  <a:lnTo>
                    <a:pt x="1525" y="417"/>
                  </a:lnTo>
                  <a:lnTo>
                    <a:pt x="1525" y="417"/>
                  </a:lnTo>
                  <a:lnTo>
                    <a:pt x="1523" y="418"/>
                  </a:lnTo>
                  <a:lnTo>
                    <a:pt x="1517" y="420"/>
                  </a:lnTo>
                  <a:lnTo>
                    <a:pt x="1513" y="421"/>
                  </a:lnTo>
                  <a:lnTo>
                    <a:pt x="1513" y="421"/>
                  </a:lnTo>
                  <a:lnTo>
                    <a:pt x="1510" y="422"/>
                  </a:lnTo>
                  <a:lnTo>
                    <a:pt x="1503" y="423"/>
                  </a:lnTo>
                  <a:lnTo>
                    <a:pt x="1499" y="423"/>
                  </a:lnTo>
                  <a:lnTo>
                    <a:pt x="1499" y="423"/>
                  </a:lnTo>
                  <a:lnTo>
                    <a:pt x="1492" y="421"/>
                  </a:lnTo>
                  <a:lnTo>
                    <a:pt x="1489" y="420"/>
                  </a:lnTo>
                  <a:lnTo>
                    <a:pt x="1489" y="419"/>
                  </a:lnTo>
                  <a:lnTo>
                    <a:pt x="1488" y="419"/>
                  </a:lnTo>
                  <a:lnTo>
                    <a:pt x="1484" y="418"/>
                  </a:lnTo>
                  <a:lnTo>
                    <a:pt x="1483" y="418"/>
                  </a:lnTo>
                  <a:lnTo>
                    <a:pt x="1483" y="417"/>
                  </a:lnTo>
                  <a:lnTo>
                    <a:pt x="1480" y="416"/>
                  </a:lnTo>
                  <a:lnTo>
                    <a:pt x="1473" y="410"/>
                  </a:lnTo>
                  <a:lnTo>
                    <a:pt x="1469" y="407"/>
                  </a:lnTo>
                  <a:lnTo>
                    <a:pt x="1469" y="406"/>
                  </a:lnTo>
                  <a:lnTo>
                    <a:pt x="1466" y="405"/>
                  </a:lnTo>
                  <a:lnTo>
                    <a:pt x="1457" y="399"/>
                  </a:lnTo>
                  <a:lnTo>
                    <a:pt x="1451" y="395"/>
                  </a:lnTo>
                  <a:lnTo>
                    <a:pt x="1451" y="394"/>
                  </a:lnTo>
                  <a:lnTo>
                    <a:pt x="1449" y="393"/>
                  </a:lnTo>
                  <a:lnTo>
                    <a:pt x="1447" y="389"/>
                  </a:lnTo>
                  <a:lnTo>
                    <a:pt x="1446" y="387"/>
                  </a:lnTo>
                  <a:lnTo>
                    <a:pt x="1446" y="386"/>
                  </a:lnTo>
                  <a:lnTo>
                    <a:pt x="1444" y="379"/>
                  </a:lnTo>
                  <a:lnTo>
                    <a:pt x="1443" y="375"/>
                  </a:lnTo>
                  <a:lnTo>
                    <a:pt x="1443" y="374"/>
                  </a:lnTo>
                  <a:lnTo>
                    <a:pt x="1441" y="373"/>
                  </a:lnTo>
                  <a:lnTo>
                    <a:pt x="1436" y="370"/>
                  </a:lnTo>
                  <a:lnTo>
                    <a:pt x="1433" y="367"/>
                  </a:lnTo>
                  <a:lnTo>
                    <a:pt x="1433" y="366"/>
                  </a:lnTo>
                  <a:lnTo>
                    <a:pt x="1432" y="366"/>
                  </a:lnTo>
                  <a:lnTo>
                    <a:pt x="1431" y="366"/>
                  </a:lnTo>
                  <a:lnTo>
                    <a:pt x="1425" y="365"/>
                  </a:lnTo>
                  <a:lnTo>
                    <a:pt x="1421" y="364"/>
                  </a:lnTo>
                  <a:lnTo>
                    <a:pt x="1421" y="363"/>
                  </a:lnTo>
                  <a:lnTo>
                    <a:pt x="1420" y="363"/>
                  </a:lnTo>
                  <a:lnTo>
                    <a:pt x="1418" y="363"/>
                  </a:lnTo>
                  <a:lnTo>
                    <a:pt x="1410" y="361"/>
                  </a:lnTo>
                  <a:lnTo>
                    <a:pt x="1404" y="360"/>
                  </a:lnTo>
                  <a:lnTo>
                    <a:pt x="1404" y="359"/>
                  </a:lnTo>
                  <a:lnTo>
                    <a:pt x="1398" y="357"/>
                  </a:lnTo>
                  <a:lnTo>
                    <a:pt x="1396" y="355"/>
                  </a:lnTo>
                  <a:lnTo>
                    <a:pt x="1396" y="354"/>
                  </a:lnTo>
                  <a:lnTo>
                    <a:pt x="1395" y="354"/>
                  </a:lnTo>
                  <a:lnTo>
                    <a:pt x="1394" y="354"/>
                  </a:lnTo>
                  <a:lnTo>
                    <a:pt x="1390" y="353"/>
                  </a:lnTo>
                  <a:lnTo>
                    <a:pt x="1387" y="353"/>
                  </a:lnTo>
                  <a:lnTo>
                    <a:pt x="1387" y="352"/>
                  </a:lnTo>
                  <a:lnTo>
                    <a:pt x="1385" y="351"/>
                  </a:lnTo>
                  <a:lnTo>
                    <a:pt x="1382" y="348"/>
                  </a:lnTo>
                  <a:lnTo>
                    <a:pt x="1378" y="346"/>
                  </a:lnTo>
                  <a:lnTo>
                    <a:pt x="1378" y="344"/>
                  </a:lnTo>
                  <a:lnTo>
                    <a:pt x="1377" y="343"/>
                  </a:lnTo>
                  <a:lnTo>
                    <a:pt x="1374" y="340"/>
                  </a:lnTo>
                  <a:lnTo>
                    <a:pt x="1372" y="337"/>
                  </a:lnTo>
                  <a:lnTo>
                    <a:pt x="1372" y="336"/>
                  </a:lnTo>
                  <a:lnTo>
                    <a:pt x="1366" y="332"/>
                  </a:lnTo>
                  <a:lnTo>
                    <a:pt x="1363" y="331"/>
                  </a:lnTo>
                  <a:lnTo>
                    <a:pt x="1363" y="330"/>
                  </a:lnTo>
                  <a:lnTo>
                    <a:pt x="1355" y="327"/>
                  </a:lnTo>
                  <a:lnTo>
                    <a:pt x="1351" y="326"/>
                  </a:lnTo>
                  <a:lnTo>
                    <a:pt x="1351" y="325"/>
                  </a:lnTo>
                  <a:lnTo>
                    <a:pt x="1349" y="324"/>
                  </a:lnTo>
                  <a:lnTo>
                    <a:pt x="1343" y="320"/>
                  </a:lnTo>
                  <a:lnTo>
                    <a:pt x="1340" y="318"/>
                  </a:lnTo>
                  <a:lnTo>
                    <a:pt x="1340" y="317"/>
                  </a:lnTo>
                  <a:lnTo>
                    <a:pt x="1339" y="316"/>
                  </a:lnTo>
                  <a:lnTo>
                    <a:pt x="1337" y="313"/>
                  </a:lnTo>
                  <a:lnTo>
                    <a:pt x="1336" y="311"/>
                  </a:lnTo>
                  <a:lnTo>
                    <a:pt x="1336" y="309"/>
                  </a:lnTo>
                  <a:lnTo>
                    <a:pt x="1332" y="311"/>
                  </a:lnTo>
                  <a:lnTo>
                    <a:pt x="1326" y="311"/>
                  </a:lnTo>
                  <a:lnTo>
                    <a:pt x="1320" y="311"/>
                  </a:lnTo>
                  <a:lnTo>
                    <a:pt x="1320" y="311"/>
                  </a:lnTo>
                  <a:lnTo>
                    <a:pt x="1319" y="311"/>
                  </a:lnTo>
                  <a:lnTo>
                    <a:pt x="1318" y="311"/>
                  </a:lnTo>
                  <a:lnTo>
                    <a:pt x="1313" y="309"/>
                  </a:lnTo>
                  <a:lnTo>
                    <a:pt x="1310" y="308"/>
                  </a:lnTo>
                  <a:lnTo>
                    <a:pt x="1310" y="307"/>
                  </a:lnTo>
                  <a:lnTo>
                    <a:pt x="1308" y="307"/>
                  </a:lnTo>
                  <a:lnTo>
                    <a:pt x="1307" y="307"/>
                  </a:lnTo>
                  <a:lnTo>
                    <a:pt x="1302" y="306"/>
                  </a:lnTo>
                  <a:lnTo>
                    <a:pt x="1297" y="305"/>
                  </a:lnTo>
                  <a:lnTo>
                    <a:pt x="1297" y="304"/>
                  </a:lnTo>
                  <a:lnTo>
                    <a:pt x="1296" y="305"/>
                  </a:lnTo>
                  <a:lnTo>
                    <a:pt x="1291" y="308"/>
                  </a:lnTo>
                  <a:lnTo>
                    <a:pt x="1288" y="311"/>
                  </a:lnTo>
                  <a:lnTo>
                    <a:pt x="1288" y="311"/>
                  </a:lnTo>
                  <a:lnTo>
                    <a:pt x="1288" y="308"/>
                  </a:lnTo>
                  <a:lnTo>
                    <a:pt x="1287" y="302"/>
                  </a:lnTo>
                  <a:lnTo>
                    <a:pt x="1287" y="296"/>
                  </a:lnTo>
                  <a:lnTo>
                    <a:pt x="1288" y="295"/>
                  </a:lnTo>
                  <a:lnTo>
                    <a:pt x="1287" y="294"/>
                  </a:lnTo>
                  <a:lnTo>
                    <a:pt x="1284" y="291"/>
                  </a:lnTo>
                  <a:lnTo>
                    <a:pt x="1283" y="288"/>
                  </a:lnTo>
                  <a:lnTo>
                    <a:pt x="1283" y="286"/>
                  </a:lnTo>
                  <a:lnTo>
                    <a:pt x="1281" y="280"/>
                  </a:lnTo>
                  <a:lnTo>
                    <a:pt x="1281" y="277"/>
                  </a:lnTo>
                  <a:lnTo>
                    <a:pt x="1281" y="276"/>
                  </a:lnTo>
                  <a:lnTo>
                    <a:pt x="1280" y="276"/>
                  </a:lnTo>
                  <a:lnTo>
                    <a:pt x="1279" y="276"/>
                  </a:lnTo>
                  <a:lnTo>
                    <a:pt x="1275" y="274"/>
                  </a:lnTo>
                  <a:lnTo>
                    <a:pt x="1271" y="273"/>
                  </a:lnTo>
                  <a:lnTo>
                    <a:pt x="1271" y="272"/>
                  </a:lnTo>
                  <a:lnTo>
                    <a:pt x="1267" y="271"/>
                  </a:lnTo>
                  <a:lnTo>
                    <a:pt x="1265" y="270"/>
                  </a:lnTo>
                  <a:lnTo>
                    <a:pt x="1265" y="269"/>
                  </a:lnTo>
                  <a:lnTo>
                    <a:pt x="1262" y="268"/>
                  </a:lnTo>
                  <a:lnTo>
                    <a:pt x="1261" y="267"/>
                  </a:lnTo>
                  <a:lnTo>
                    <a:pt x="1261" y="266"/>
                  </a:lnTo>
                  <a:lnTo>
                    <a:pt x="1257" y="262"/>
                  </a:lnTo>
                  <a:lnTo>
                    <a:pt x="1256" y="261"/>
                  </a:lnTo>
                  <a:lnTo>
                    <a:pt x="1256" y="260"/>
                  </a:lnTo>
                  <a:lnTo>
                    <a:pt x="1254" y="261"/>
                  </a:lnTo>
                  <a:lnTo>
                    <a:pt x="1250" y="261"/>
                  </a:lnTo>
                  <a:lnTo>
                    <a:pt x="1247" y="261"/>
                  </a:lnTo>
                  <a:lnTo>
                    <a:pt x="1247" y="261"/>
                  </a:lnTo>
                  <a:lnTo>
                    <a:pt x="1244" y="258"/>
                  </a:lnTo>
                  <a:lnTo>
                    <a:pt x="1243" y="256"/>
                  </a:lnTo>
                  <a:lnTo>
                    <a:pt x="1243" y="255"/>
                  </a:lnTo>
                  <a:lnTo>
                    <a:pt x="1238" y="253"/>
                  </a:lnTo>
                  <a:lnTo>
                    <a:pt x="1237" y="251"/>
                  </a:lnTo>
                  <a:lnTo>
                    <a:pt x="1237" y="250"/>
                  </a:lnTo>
                  <a:lnTo>
                    <a:pt x="1237" y="249"/>
                  </a:lnTo>
                  <a:lnTo>
                    <a:pt x="1236" y="244"/>
                  </a:lnTo>
                  <a:lnTo>
                    <a:pt x="1236" y="241"/>
                  </a:lnTo>
                  <a:lnTo>
                    <a:pt x="1237" y="239"/>
                  </a:lnTo>
                  <a:lnTo>
                    <a:pt x="1241" y="233"/>
                  </a:lnTo>
                  <a:lnTo>
                    <a:pt x="1243" y="230"/>
                  </a:lnTo>
                  <a:lnTo>
                    <a:pt x="1244" y="229"/>
                  </a:lnTo>
                  <a:lnTo>
                    <a:pt x="1244" y="227"/>
                  </a:lnTo>
                  <a:lnTo>
                    <a:pt x="1245" y="222"/>
                  </a:lnTo>
                  <a:lnTo>
                    <a:pt x="1246" y="218"/>
                  </a:lnTo>
                  <a:lnTo>
                    <a:pt x="1247" y="216"/>
                  </a:lnTo>
                  <a:lnTo>
                    <a:pt x="1248" y="214"/>
                  </a:lnTo>
                  <a:lnTo>
                    <a:pt x="1252" y="208"/>
                  </a:lnTo>
                  <a:lnTo>
                    <a:pt x="1255" y="203"/>
                  </a:lnTo>
                  <a:lnTo>
                    <a:pt x="1256" y="202"/>
                  </a:lnTo>
                  <a:lnTo>
                    <a:pt x="1257" y="199"/>
                  </a:lnTo>
                  <a:lnTo>
                    <a:pt x="1257" y="197"/>
                  </a:lnTo>
                  <a:lnTo>
                    <a:pt x="1258" y="196"/>
                  </a:lnTo>
                  <a:lnTo>
                    <a:pt x="1257" y="192"/>
                  </a:lnTo>
                  <a:lnTo>
                    <a:pt x="1258" y="191"/>
                  </a:lnTo>
                  <a:lnTo>
                    <a:pt x="1258" y="190"/>
                  </a:lnTo>
                  <a:lnTo>
                    <a:pt x="1259" y="185"/>
                  </a:lnTo>
                  <a:lnTo>
                    <a:pt x="1260" y="180"/>
                  </a:lnTo>
                  <a:lnTo>
                    <a:pt x="1261" y="179"/>
                  </a:lnTo>
                  <a:lnTo>
                    <a:pt x="1262" y="175"/>
                  </a:lnTo>
                  <a:lnTo>
                    <a:pt x="1264" y="173"/>
                  </a:lnTo>
                  <a:lnTo>
                    <a:pt x="1265" y="172"/>
                  </a:lnTo>
                  <a:lnTo>
                    <a:pt x="1262" y="173"/>
                  </a:lnTo>
                  <a:lnTo>
                    <a:pt x="1257" y="174"/>
                  </a:lnTo>
                  <a:lnTo>
                    <a:pt x="1254" y="175"/>
                  </a:lnTo>
                  <a:lnTo>
                    <a:pt x="1254" y="175"/>
                  </a:lnTo>
                  <a:lnTo>
                    <a:pt x="1253" y="172"/>
                  </a:lnTo>
                  <a:lnTo>
                    <a:pt x="1253" y="169"/>
                  </a:lnTo>
                  <a:lnTo>
                    <a:pt x="1254" y="168"/>
                  </a:lnTo>
                  <a:lnTo>
                    <a:pt x="1254" y="167"/>
                  </a:lnTo>
                  <a:lnTo>
                    <a:pt x="1255" y="162"/>
                  </a:lnTo>
                  <a:lnTo>
                    <a:pt x="1256" y="159"/>
                  </a:lnTo>
                  <a:lnTo>
                    <a:pt x="1257" y="157"/>
                  </a:lnTo>
                  <a:lnTo>
                    <a:pt x="1257" y="156"/>
                  </a:lnTo>
                  <a:lnTo>
                    <a:pt x="1258" y="151"/>
                  </a:lnTo>
                  <a:lnTo>
                    <a:pt x="1258" y="146"/>
                  </a:lnTo>
                  <a:lnTo>
                    <a:pt x="1259" y="145"/>
                  </a:lnTo>
                  <a:lnTo>
                    <a:pt x="1262" y="145"/>
                  </a:lnTo>
                  <a:lnTo>
                    <a:pt x="1264" y="145"/>
                  </a:lnTo>
                  <a:lnTo>
                    <a:pt x="1265" y="145"/>
                  </a:lnTo>
                  <a:lnTo>
                    <a:pt x="1267" y="151"/>
                  </a:lnTo>
                  <a:lnTo>
                    <a:pt x="1268" y="154"/>
                  </a:lnTo>
                  <a:lnTo>
                    <a:pt x="1269" y="154"/>
                  </a:lnTo>
                  <a:lnTo>
                    <a:pt x="1270" y="156"/>
                  </a:lnTo>
                  <a:lnTo>
                    <a:pt x="1271" y="157"/>
                  </a:lnTo>
                  <a:lnTo>
                    <a:pt x="1272" y="157"/>
                  </a:lnTo>
                  <a:lnTo>
                    <a:pt x="1270" y="155"/>
                  </a:lnTo>
                  <a:lnTo>
                    <a:pt x="1270" y="153"/>
                  </a:lnTo>
                  <a:lnTo>
                    <a:pt x="1269" y="148"/>
                  </a:lnTo>
                  <a:lnTo>
                    <a:pt x="1269" y="144"/>
                  </a:lnTo>
                  <a:lnTo>
                    <a:pt x="1269" y="143"/>
                  </a:lnTo>
                  <a:lnTo>
                    <a:pt x="1272" y="140"/>
                  </a:lnTo>
                  <a:lnTo>
                    <a:pt x="1273" y="139"/>
                  </a:lnTo>
                  <a:lnTo>
                    <a:pt x="1275" y="138"/>
                  </a:lnTo>
                  <a:lnTo>
                    <a:pt x="1275" y="139"/>
                  </a:lnTo>
                  <a:lnTo>
                    <a:pt x="1276" y="142"/>
                  </a:lnTo>
                  <a:lnTo>
                    <a:pt x="1276" y="143"/>
                  </a:lnTo>
                  <a:lnTo>
                    <a:pt x="1277" y="143"/>
                  </a:lnTo>
                  <a:lnTo>
                    <a:pt x="1281" y="145"/>
                  </a:lnTo>
                  <a:lnTo>
                    <a:pt x="1284" y="145"/>
                  </a:lnTo>
                  <a:lnTo>
                    <a:pt x="1285" y="145"/>
                  </a:lnTo>
                  <a:lnTo>
                    <a:pt x="1288" y="144"/>
                  </a:lnTo>
                  <a:lnTo>
                    <a:pt x="1290" y="143"/>
                  </a:lnTo>
                  <a:lnTo>
                    <a:pt x="1291" y="140"/>
                  </a:lnTo>
                  <a:lnTo>
                    <a:pt x="1292" y="139"/>
                  </a:lnTo>
                  <a:lnTo>
                    <a:pt x="1293" y="138"/>
                  </a:lnTo>
                  <a:lnTo>
                    <a:pt x="1295" y="133"/>
                  </a:lnTo>
                  <a:lnTo>
                    <a:pt x="1296" y="131"/>
                  </a:lnTo>
                  <a:lnTo>
                    <a:pt x="1297" y="130"/>
                  </a:lnTo>
                  <a:lnTo>
                    <a:pt x="1295" y="129"/>
                  </a:lnTo>
                  <a:lnTo>
                    <a:pt x="1294" y="128"/>
                  </a:lnTo>
                  <a:lnTo>
                    <a:pt x="1294" y="127"/>
                  </a:lnTo>
                  <a:lnTo>
                    <a:pt x="1293" y="125"/>
                  </a:lnTo>
                  <a:lnTo>
                    <a:pt x="1293" y="123"/>
                  </a:lnTo>
                  <a:lnTo>
                    <a:pt x="1291" y="122"/>
                  </a:lnTo>
                  <a:lnTo>
                    <a:pt x="1291" y="121"/>
                  </a:lnTo>
                  <a:lnTo>
                    <a:pt x="1292" y="120"/>
                  </a:lnTo>
                  <a:lnTo>
                    <a:pt x="1293" y="118"/>
                  </a:lnTo>
                  <a:lnTo>
                    <a:pt x="1295" y="118"/>
                  </a:lnTo>
                  <a:lnTo>
                    <a:pt x="1296" y="118"/>
                  </a:lnTo>
                  <a:lnTo>
                    <a:pt x="1297" y="118"/>
                  </a:lnTo>
                  <a:lnTo>
                    <a:pt x="1300" y="117"/>
                  </a:lnTo>
                  <a:lnTo>
                    <a:pt x="1301" y="116"/>
                  </a:lnTo>
                  <a:lnTo>
                    <a:pt x="1302" y="115"/>
                  </a:lnTo>
                  <a:lnTo>
                    <a:pt x="1305" y="108"/>
                  </a:lnTo>
                  <a:lnTo>
                    <a:pt x="1307" y="105"/>
                  </a:lnTo>
                  <a:lnTo>
                    <a:pt x="1308" y="104"/>
                  </a:lnTo>
                  <a:lnTo>
                    <a:pt x="1311" y="98"/>
                  </a:lnTo>
                  <a:lnTo>
                    <a:pt x="1312" y="95"/>
                  </a:lnTo>
                  <a:lnTo>
                    <a:pt x="1313" y="94"/>
                  </a:lnTo>
                  <a:lnTo>
                    <a:pt x="1314" y="92"/>
                  </a:lnTo>
                  <a:lnTo>
                    <a:pt x="1315" y="90"/>
                  </a:lnTo>
                  <a:lnTo>
                    <a:pt x="1311" y="86"/>
                  </a:lnTo>
                  <a:lnTo>
                    <a:pt x="1310" y="85"/>
                  </a:lnTo>
                  <a:lnTo>
                    <a:pt x="1310" y="84"/>
                  </a:lnTo>
                  <a:lnTo>
                    <a:pt x="1308" y="84"/>
                  </a:lnTo>
                  <a:lnTo>
                    <a:pt x="1305" y="84"/>
                  </a:lnTo>
                  <a:lnTo>
                    <a:pt x="1303" y="84"/>
                  </a:lnTo>
                  <a:lnTo>
                    <a:pt x="1303" y="84"/>
                  </a:lnTo>
                  <a:lnTo>
                    <a:pt x="1302" y="85"/>
                  </a:lnTo>
                  <a:lnTo>
                    <a:pt x="1297" y="88"/>
                  </a:lnTo>
                  <a:lnTo>
                    <a:pt x="1294" y="90"/>
                  </a:lnTo>
                  <a:lnTo>
                    <a:pt x="1294" y="90"/>
                  </a:lnTo>
                  <a:lnTo>
                    <a:pt x="1293" y="80"/>
                  </a:lnTo>
                  <a:lnTo>
                    <a:pt x="1293" y="74"/>
                  </a:lnTo>
                  <a:lnTo>
                    <a:pt x="1293" y="73"/>
                  </a:lnTo>
                  <a:lnTo>
                    <a:pt x="1291" y="70"/>
                  </a:lnTo>
                  <a:lnTo>
                    <a:pt x="1291" y="69"/>
                  </a:lnTo>
                  <a:lnTo>
                    <a:pt x="1291" y="68"/>
                  </a:lnTo>
                  <a:lnTo>
                    <a:pt x="1289" y="67"/>
                  </a:lnTo>
                  <a:lnTo>
                    <a:pt x="1288" y="66"/>
                  </a:lnTo>
                  <a:lnTo>
                    <a:pt x="1287" y="67"/>
                  </a:lnTo>
                  <a:lnTo>
                    <a:pt x="1285" y="68"/>
                  </a:lnTo>
                  <a:lnTo>
                    <a:pt x="1280" y="71"/>
                  </a:lnTo>
                  <a:lnTo>
                    <a:pt x="1276" y="74"/>
                  </a:lnTo>
                  <a:lnTo>
                    <a:pt x="1276" y="74"/>
                  </a:lnTo>
                  <a:lnTo>
                    <a:pt x="1275" y="76"/>
                  </a:lnTo>
                  <a:lnTo>
                    <a:pt x="1275" y="81"/>
                  </a:lnTo>
                  <a:lnTo>
                    <a:pt x="1275" y="84"/>
                  </a:lnTo>
                  <a:lnTo>
                    <a:pt x="1275" y="84"/>
                  </a:lnTo>
                  <a:lnTo>
                    <a:pt x="1276" y="86"/>
                  </a:lnTo>
                  <a:lnTo>
                    <a:pt x="1277" y="87"/>
                  </a:lnTo>
                  <a:lnTo>
                    <a:pt x="1276" y="88"/>
                  </a:lnTo>
                  <a:lnTo>
                    <a:pt x="1272" y="95"/>
                  </a:lnTo>
                  <a:lnTo>
                    <a:pt x="1270" y="99"/>
                  </a:lnTo>
                  <a:lnTo>
                    <a:pt x="1270" y="99"/>
                  </a:lnTo>
                  <a:lnTo>
                    <a:pt x="1266" y="101"/>
                  </a:lnTo>
                  <a:lnTo>
                    <a:pt x="1264" y="101"/>
                  </a:lnTo>
                  <a:lnTo>
                    <a:pt x="1264" y="101"/>
                  </a:lnTo>
                  <a:lnTo>
                    <a:pt x="1262" y="102"/>
                  </a:lnTo>
                  <a:lnTo>
                    <a:pt x="1261" y="103"/>
                  </a:lnTo>
                  <a:lnTo>
                    <a:pt x="1260" y="103"/>
                  </a:lnTo>
                  <a:lnTo>
                    <a:pt x="1259" y="101"/>
                  </a:lnTo>
                  <a:lnTo>
                    <a:pt x="1259" y="99"/>
                  </a:lnTo>
                  <a:lnTo>
                    <a:pt x="1259" y="98"/>
                  </a:lnTo>
                  <a:lnTo>
                    <a:pt x="1258" y="95"/>
                  </a:lnTo>
                  <a:lnTo>
                    <a:pt x="1258" y="92"/>
                  </a:lnTo>
                  <a:lnTo>
                    <a:pt x="1259" y="91"/>
                  </a:lnTo>
                  <a:lnTo>
                    <a:pt x="1259" y="87"/>
                  </a:lnTo>
                  <a:lnTo>
                    <a:pt x="1259" y="85"/>
                  </a:lnTo>
                  <a:lnTo>
                    <a:pt x="1260" y="84"/>
                  </a:lnTo>
                  <a:lnTo>
                    <a:pt x="1259" y="81"/>
                  </a:lnTo>
                  <a:lnTo>
                    <a:pt x="1260" y="80"/>
                  </a:lnTo>
                  <a:lnTo>
                    <a:pt x="1259" y="79"/>
                  </a:lnTo>
                  <a:lnTo>
                    <a:pt x="1259" y="78"/>
                  </a:lnTo>
                  <a:lnTo>
                    <a:pt x="1258" y="79"/>
                  </a:lnTo>
                  <a:lnTo>
                    <a:pt x="1255" y="81"/>
                  </a:lnTo>
                  <a:lnTo>
                    <a:pt x="1254" y="82"/>
                  </a:lnTo>
                  <a:lnTo>
                    <a:pt x="1254" y="82"/>
                  </a:lnTo>
                  <a:lnTo>
                    <a:pt x="1253" y="82"/>
                  </a:lnTo>
                  <a:lnTo>
                    <a:pt x="1252" y="82"/>
                  </a:lnTo>
                  <a:lnTo>
                    <a:pt x="1250" y="82"/>
                  </a:lnTo>
                  <a:lnTo>
                    <a:pt x="1250" y="81"/>
                  </a:lnTo>
                  <a:lnTo>
                    <a:pt x="1248" y="79"/>
                  </a:lnTo>
                  <a:lnTo>
                    <a:pt x="1248" y="78"/>
                  </a:lnTo>
                  <a:lnTo>
                    <a:pt x="1249" y="76"/>
                  </a:lnTo>
                  <a:lnTo>
                    <a:pt x="1253" y="71"/>
                  </a:lnTo>
                  <a:lnTo>
                    <a:pt x="1255" y="68"/>
                  </a:lnTo>
                  <a:lnTo>
                    <a:pt x="1256" y="67"/>
                  </a:lnTo>
                  <a:lnTo>
                    <a:pt x="1254" y="68"/>
                  </a:lnTo>
                  <a:lnTo>
                    <a:pt x="1248" y="70"/>
                  </a:lnTo>
                  <a:lnTo>
                    <a:pt x="1244" y="71"/>
                  </a:lnTo>
                  <a:lnTo>
                    <a:pt x="1244" y="71"/>
                  </a:lnTo>
                  <a:lnTo>
                    <a:pt x="1243" y="71"/>
                  </a:lnTo>
                  <a:lnTo>
                    <a:pt x="1242" y="71"/>
                  </a:lnTo>
                  <a:lnTo>
                    <a:pt x="1238" y="71"/>
                  </a:lnTo>
                  <a:lnTo>
                    <a:pt x="1235" y="71"/>
                  </a:lnTo>
                  <a:lnTo>
                    <a:pt x="1235" y="71"/>
                  </a:lnTo>
                  <a:lnTo>
                    <a:pt x="1233" y="70"/>
                  </a:lnTo>
                  <a:lnTo>
                    <a:pt x="1232" y="71"/>
                  </a:lnTo>
                  <a:lnTo>
                    <a:pt x="1230" y="72"/>
                  </a:lnTo>
                  <a:lnTo>
                    <a:pt x="1229" y="72"/>
                  </a:lnTo>
                  <a:lnTo>
                    <a:pt x="1224" y="74"/>
                  </a:lnTo>
                  <a:lnTo>
                    <a:pt x="1223" y="74"/>
                  </a:lnTo>
                  <a:lnTo>
                    <a:pt x="1223" y="74"/>
                  </a:lnTo>
                  <a:lnTo>
                    <a:pt x="1222" y="75"/>
                  </a:lnTo>
                  <a:lnTo>
                    <a:pt x="1219" y="79"/>
                  </a:lnTo>
                  <a:lnTo>
                    <a:pt x="1218" y="80"/>
                  </a:lnTo>
                  <a:lnTo>
                    <a:pt x="1218" y="80"/>
                  </a:lnTo>
                  <a:lnTo>
                    <a:pt x="1217" y="81"/>
                  </a:lnTo>
                  <a:lnTo>
                    <a:pt x="1213" y="84"/>
                  </a:lnTo>
                  <a:lnTo>
                    <a:pt x="1211" y="86"/>
                  </a:lnTo>
                  <a:lnTo>
                    <a:pt x="1211" y="86"/>
                  </a:lnTo>
                  <a:lnTo>
                    <a:pt x="1207" y="83"/>
                  </a:lnTo>
                  <a:lnTo>
                    <a:pt x="1206" y="81"/>
                  </a:lnTo>
                  <a:lnTo>
                    <a:pt x="1206" y="80"/>
                  </a:lnTo>
                  <a:lnTo>
                    <a:pt x="1202" y="78"/>
                  </a:lnTo>
                  <a:lnTo>
                    <a:pt x="1201" y="76"/>
                  </a:lnTo>
                  <a:lnTo>
                    <a:pt x="1201" y="75"/>
                  </a:lnTo>
                  <a:lnTo>
                    <a:pt x="1200" y="75"/>
                  </a:lnTo>
                  <a:lnTo>
                    <a:pt x="1199" y="75"/>
                  </a:lnTo>
                  <a:lnTo>
                    <a:pt x="1194" y="75"/>
                  </a:lnTo>
                  <a:lnTo>
                    <a:pt x="1189" y="75"/>
                  </a:lnTo>
                  <a:lnTo>
                    <a:pt x="1189" y="75"/>
                  </a:lnTo>
                  <a:lnTo>
                    <a:pt x="1185" y="72"/>
                  </a:lnTo>
                  <a:lnTo>
                    <a:pt x="1183" y="70"/>
                  </a:lnTo>
                  <a:lnTo>
                    <a:pt x="1183" y="69"/>
                  </a:lnTo>
                  <a:lnTo>
                    <a:pt x="1182" y="69"/>
                  </a:lnTo>
                  <a:lnTo>
                    <a:pt x="1181" y="69"/>
                  </a:lnTo>
                  <a:lnTo>
                    <a:pt x="1181" y="69"/>
                  </a:lnTo>
                  <a:lnTo>
                    <a:pt x="1179" y="70"/>
                  </a:lnTo>
                  <a:lnTo>
                    <a:pt x="1174" y="72"/>
                  </a:lnTo>
                  <a:lnTo>
                    <a:pt x="1171" y="73"/>
                  </a:lnTo>
                  <a:lnTo>
                    <a:pt x="1171" y="73"/>
                  </a:lnTo>
                  <a:lnTo>
                    <a:pt x="1170" y="73"/>
                  </a:lnTo>
                  <a:lnTo>
                    <a:pt x="1168" y="73"/>
                  </a:lnTo>
                  <a:lnTo>
                    <a:pt x="1165" y="72"/>
                  </a:lnTo>
                  <a:lnTo>
                    <a:pt x="1162" y="71"/>
                  </a:lnTo>
                  <a:lnTo>
                    <a:pt x="1162" y="70"/>
                  </a:lnTo>
                  <a:lnTo>
                    <a:pt x="1160" y="71"/>
                  </a:lnTo>
                  <a:lnTo>
                    <a:pt x="1155" y="72"/>
                  </a:lnTo>
                  <a:lnTo>
                    <a:pt x="1152" y="72"/>
                  </a:lnTo>
                  <a:lnTo>
                    <a:pt x="1152" y="72"/>
                  </a:lnTo>
                  <a:lnTo>
                    <a:pt x="1148" y="70"/>
                  </a:lnTo>
                  <a:lnTo>
                    <a:pt x="1146" y="69"/>
                  </a:lnTo>
                  <a:lnTo>
                    <a:pt x="1146" y="68"/>
                  </a:lnTo>
                  <a:lnTo>
                    <a:pt x="1142" y="67"/>
                  </a:lnTo>
                  <a:lnTo>
                    <a:pt x="1141" y="66"/>
                  </a:lnTo>
                  <a:lnTo>
                    <a:pt x="1141" y="64"/>
                  </a:lnTo>
                  <a:lnTo>
                    <a:pt x="1140" y="64"/>
                  </a:lnTo>
                  <a:lnTo>
                    <a:pt x="1139" y="64"/>
                  </a:lnTo>
                  <a:lnTo>
                    <a:pt x="1135" y="64"/>
                  </a:lnTo>
                  <a:lnTo>
                    <a:pt x="1131" y="64"/>
                  </a:lnTo>
                  <a:lnTo>
                    <a:pt x="1131" y="63"/>
                  </a:lnTo>
                  <a:lnTo>
                    <a:pt x="1130" y="63"/>
                  </a:lnTo>
                  <a:lnTo>
                    <a:pt x="1127" y="62"/>
                  </a:lnTo>
                  <a:lnTo>
                    <a:pt x="1126" y="62"/>
                  </a:lnTo>
                  <a:lnTo>
                    <a:pt x="1126" y="61"/>
                  </a:lnTo>
                  <a:lnTo>
                    <a:pt x="1126" y="60"/>
                  </a:lnTo>
                  <a:lnTo>
                    <a:pt x="1125" y="57"/>
                  </a:lnTo>
                  <a:lnTo>
                    <a:pt x="1125" y="55"/>
                  </a:lnTo>
                  <a:lnTo>
                    <a:pt x="1126" y="53"/>
                  </a:lnTo>
                  <a:lnTo>
                    <a:pt x="1125" y="55"/>
                  </a:lnTo>
                  <a:lnTo>
                    <a:pt x="1123" y="56"/>
                  </a:lnTo>
                  <a:lnTo>
                    <a:pt x="1121" y="56"/>
                  </a:lnTo>
                  <a:lnTo>
                    <a:pt x="1120" y="57"/>
                  </a:lnTo>
                  <a:lnTo>
                    <a:pt x="1116" y="59"/>
                  </a:lnTo>
                  <a:lnTo>
                    <a:pt x="1114" y="60"/>
                  </a:lnTo>
                  <a:lnTo>
                    <a:pt x="1114" y="60"/>
                  </a:lnTo>
                  <a:lnTo>
                    <a:pt x="1111" y="59"/>
                  </a:lnTo>
                  <a:lnTo>
                    <a:pt x="1109" y="58"/>
                  </a:lnTo>
                  <a:lnTo>
                    <a:pt x="1106" y="57"/>
                  </a:lnTo>
                  <a:lnTo>
                    <a:pt x="1105" y="56"/>
                  </a:lnTo>
                  <a:lnTo>
                    <a:pt x="1103" y="57"/>
                  </a:lnTo>
                  <a:lnTo>
                    <a:pt x="1102" y="57"/>
                  </a:lnTo>
                  <a:lnTo>
                    <a:pt x="1102" y="57"/>
                  </a:lnTo>
                  <a:lnTo>
                    <a:pt x="1096" y="56"/>
                  </a:lnTo>
                  <a:lnTo>
                    <a:pt x="1094" y="55"/>
                  </a:lnTo>
                  <a:lnTo>
                    <a:pt x="1094" y="53"/>
                  </a:lnTo>
                  <a:lnTo>
                    <a:pt x="1093" y="53"/>
                  </a:lnTo>
                  <a:lnTo>
                    <a:pt x="1092" y="53"/>
                  </a:lnTo>
                  <a:lnTo>
                    <a:pt x="1089" y="53"/>
                  </a:lnTo>
                  <a:lnTo>
                    <a:pt x="1085" y="53"/>
                  </a:lnTo>
                  <a:lnTo>
                    <a:pt x="1085" y="52"/>
                  </a:lnTo>
                  <a:lnTo>
                    <a:pt x="1083" y="51"/>
                  </a:lnTo>
                  <a:lnTo>
                    <a:pt x="1080" y="48"/>
                  </a:lnTo>
                  <a:lnTo>
                    <a:pt x="1078" y="45"/>
                  </a:lnTo>
                  <a:lnTo>
                    <a:pt x="1078" y="44"/>
                  </a:lnTo>
                  <a:lnTo>
                    <a:pt x="1074" y="40"/>
                  </a:lnTo>
                  <a:lnTo>
                    <a:pt x="1073" y="38"/>
                  </a:lnTo>
                  <a:lnTo>
                    <a:pt x="1073" y="37"/>
                  </a:lnTo>
                  <a:lnTo>
                    <a:pt x="1070" y="36"/>
                  </a:lnTo>
                  <a:lnTo>
                    <a:pt x="1069" y="35"/>
                  </a:lnTo>
                  <a:lnTo>
                    <a:pt x="1069" y="34"/>
                  </a:lnTo>
                  <a:lnTo>
                    <a:pt x="1065" y="36"/>
                  </a:lnTo>
                  <a:lnTo>
                    <a:pt x="1064" y="36"/>
                  </a:lnTo>
                  <a:lnTo>
                    <a:pt x="1064" y="36"/>
                  </a:lnTo>
                  <a:lnTo>
                    <a:pt x="1062" y="38"/>
                  </a:lnTo>
                  <a:lnTo>
                    <a:pt x="1061" y="41"/>
                  </a:lnTo>
                  <a:lnTo>
                    <a:pt x="1061" y="44"/>
                  </a:lnTo>
                  <a:lnTo>
                    <a:pt x="1061" y="44"/>
                  </a:lnTo>
                  <a:lnTo>
                    <a:pt x="1058" y="43"/>
                  </a:lnTo>
                  <a:lnTo>
                    <a:pt x="1057" y="41"/>
                  </a:lnTo>
                  <a:lnTo>
                    <a:pt x="1053" y="38"/>
                  </a:lnTo>
                  <a:lnTo>
                    <a:pt x="1052" y="37"/>
                  </a:lnTo>
                  <a:lnTo>
                    <a:pt x="1052" y="36"/>
                  </a:lnTo>
                  <a:lnTo>
                    <a:pt x="1047" y="34"/>
                  </a:lnTo>
                  <a:lnTo>
                    <a:pt x="1046" y="33"/>
                  </a:lnTo>
                  <a:lnTo>
                    <a:pt x="1046" y="32"/>
                  </a:lnTo>
                  <a:lnTo>
                    <a:pt x="1044" y="28"/>
                  </a:lnTo>
                  <a:lnTo>
                    <a:pt x="1044" y="26"/>
                  </a:lnTo>
                  <a:lnTo>
                    <a:pt x="1044" y="25"/>
                  </a:lnTo>
                  <a:lnTo>
                    <a:pt x="1039" y="26"/>
                  </a:lnTo>
                  <a:lnTo>
                    <a:pt x="1038" y="26"/>
                  </a:lnTo>
                  <a:lnTo>
                    <a:pt x="1038" y="26"/>
                  </a:lnTo>
                  <a:lnTo>
                    <a:pt x="1036" y="24"/>
                  </a:lnTo>
                  <a:lnTo>
                    <a:pt x="1035" y="23"/>
                  </a:lnTo>
                  <a:lnTo>
                    <a:pt x="1035" y="22"/>
                  </a:lnTo>
                  <a:lnTo>
                    <a:pt x="1034" y="22"/>
                  </a:lnTo>
                  <a:lnTo>
                    <a:pt x="1033" y="22"/>
                  </a:lnTo>
                  <a:lnTo>
                    <a:pt x="1032" y="22"/>
                  </a:lnTo>
                  <a:lnTo>
                    <a:pt x="1032" y="22"/>
                  </a:lnTo>
                  <a:lnTo>
                    <a:pt x="1031" y="23"/>
                  </a:lnTo>
                  <a:lnTo>
                    <a:pt x="1030" y="23"/>
                  </a:lnTo>
                  <a:lnTo>
                    <a:pt x="1030" y="25"/>
                  </a:lnTo>
                  <a:lnTo>
                    <a:pt x="1029" y="28"/>
                  </a:lnTo>
                  <a:lnTo>
                    <a:pt x="1029" y="32"/>
                  </a:lnTo>
                  <a:lnTo>
                    <a:pt x="1030" y="32"/>
                  </a:lnTo>
                  <a:lnTo>
                    <a:pt x="1029" y="33"/>
                  </a:lnTo>
                  <a:lnTo>
                    <a:pt x="1026" y="36"/>
                  </a:lnTo>
                  <a:lnTo>
                    <a:pt x="1025" y="37"/>
                  </a:lnTo>
                  <a:lnTo>
                    <a:pt x="1025" y="37"/>
                  </a:lnTo>
                  <a:lnTo>
                    <a:pt x="1023" y="35"/>
                  </a:lnTo>
                  <a:lnTo>
                    <a:pt x="1023" y="33"/>
                  </a:lnTo>
                  <a:lnTo>
                    <a:pt x="1022" y="28"/>
                  </a:lnTo>
                  <a:lnTo>
                    <a:pt x="1022" y="25"/>
                  </a:lnTo>
                  <a:lnTo>
                    <a:pt x="1022" y="24"/>
                  </a:lnTo>
                  <a:lnTo>
                    <a:pt x="1020" y="22"/>
                  </a:lnTo>
                  <a:lnTo>
                    <a:pt x="1019" y="21"/>
                  </a:lnTo>
                  <a:lnTo>
                    <a:pt x="1019" y="20"/>
                  </a:lnTo>
                  <a:lnTo>
                    <a:pt x="1018" y="21"/>
                  </a:lnTo>
                  <a:lnTo>
                    <a:pt x="1017" y="22"/>
                  </a:lnTo>
                  <a:lnTo>
                    <a:pt x="1015" y="23"/>
                  </a:lnTo>
                  <a:lnTo>
                    <a:pt x="1015" y="23"/>
                  </a:lnTo>
                  <a:lnTo>
                    <a:pt x="1013" y="27"/>
                  </a:lnTo>
                  <a:lnTo>
                    <a:pt x="1013" y="28"/>
                  </a:lnTo>
                  <a:lnTo>
                    <a:pt x="1013" y="28"/>
                  </a:lnTo>
                  <a:lnTo>
                    <a:pt x="1010" y="27"/>
                  </a:lnTo>
                  <a:lnTo>
                    <a:pt x="1009" y="26"/>
                  </a:lnTo>
                  <a:lnTo>
                    <a:pt x="1007" y="27"/>
                  </a:lnTo>
                  <a:lnTo>
                    <a:pt x="1006" y="27"/>
                  </a:lnTo>
                  <a:lnTo>
                    <a:pt x="1006" y="27"/>
                  </a:lnTo>
                  <a:lnTo>
                    <a:pt x="1004" y="28"/>
                  </a:lnTo>
                  <a:lnTo>
                    <a:pt x="1004" y="28"/>
                  </a:lnTo>
                  <a:lnTo>
                    <a:pt x="1010" y="31"/>
                  </a:lnTo>
                  <a:lnTo>
                    <a:pt x="1013" y="32"/>
                  </a:lnTo>
                  <a:lnTo>
                    <a:pt x="1014" y="32"/>
                  </a:lnTo>
                  <a:lnTo>
                    <a:pt x="1018" y="36"/>
                  </a:lnTo>
                  <a:lnTo>
                    <a:pt x="1019" y="38"/>
                  </a:lnTo>
                  <a:lnTo>
                    <a:pt x="1020" y="38"/>
                  </a:lnTo>
                  <a:lnTo>
                    <a:pt x="1021" y="39"/>
                  </a:lnTo>
                  <a:lnTo>
                    <a:pt x="1024" y="43"/>
                  </a:lnTo>
                  <a:lnTo>
                    <a:pt x="1027" y="44"/>
                  </a:lnTo>
                  <a:lnTo>
                    <a:pt x="1029" y="44"/>
                  </a:lnTo>
                  <a:lnTo>
                    <a:pt x="1030" y="44"/>
                  </a:lnTo>
                  <a:lnTo>
                    <a:pt x="1033" y="43"/>
                  </a:lnTo>
                  <a:lnTo>
                    <a:pt x="1036" y="43"/>
                  </a:lnTo>
                  <a:lnTo>
                    <a:pt x="1037" y="41"/>
                  </a:lnTo>
                  <a:lnTo>
                    <a:pt x="1044" y="43"/>
                  </a:lnTo>
                  <a:lnTo>
                    <a:pt x="1047" y="43"/>
                  </a:lnTo>
                  <a:lnTo>
                    <a:pt x="1048" y="43"/>
                  </a:lnTo>
                  <a:lnTo>
                    <a:pt x="1052" y="47"/>
                  </a:lnTo>
                  <a:lnTo>
                    <a:pt x="1054" y="49"/>
                  </a:lnTo>
                  <a:lnTo>
                    <a:pt x="1055" y="49"/>
                  </a:lnTo>
                  <a:lnTo>
                    <a:pt x="1055" y="52"/>
                  </a:lnTo>
                  <a:lnTo>
                    <a:pt x="1054" y="59"/>
                  </a:lnTo>
                  <a:lnTo>
                    <a:pt x="1054" y="63"/>
                  </a:lnTo>
                  <a:lnTo>
                    <a:pt x="1055" y="63"/>
                  </a:lnTo>
                  <a:lnTo>
                    <a:pt x="1055" y="64"/>
                  </a:lnTo>
                  <a:lnTo>
                    <a:pt x="1055" y="66"/>
                  </a:lnTo>
                  <a:lnTo>
                    <a:pt x="1055" y="71"/>
                  </a:lnTo>
                  <a:lnTo>
                    <a:pt x="1055" y="75"/>
                  </a:lnTo>
                  <a:lnTo>
                    <a:pt x="1056" y="75"/>
                  </a:lnTo>
                  <a:lnTo>
                    <a:pt x="1055" y="76"/>
                  </a:lnTo>
                  <a:lnTo>
                    <a:pt x="1049" y="80"/>
                  </a:lnTo>
                  <a:lnTo>
                    <a:pt x="1046" y="82"/>
                  </a:lnTo>
                  <a:lnTo>
                    <a:pt x="1046" y="82"/>
                  </a:lnTo>
                  <a:lnTo>
                    <a:pt x="1042" y="84"/>
                  </a:lnTo>
                  <a:lnTo>
                    <a:pt x="1039" y="84"/>
                  </a:lnTo>
                  <a:lnTo>
                    <a:pt x="1039" y="84"/>
                  </a:lnTo>
                  <a:lnTo>
                    <a:pt x="1036" y="85"/>
                  </a:lnTo>
                  <a:lnTo>
                    <a:pt x="1030" y="88"/>
                  </a:lnTo>
                  <a:lnTo>
                    <a:pt x="1024" y="90"/>
                  </a:lnTo>
                  <a:lnTo>
                    <a:pt x="1024" y="90"/>
                  </a:lnTo>
                  <a:lnTo>
                    <a:pt x="1023" y="90"/>
                  </a:lnTo>
                  <a:lnTo>
                    <a:pt x="1022" y="90"/>
                  </a:lnTo>
                  <a:lnTo>
                    <a:pt x="1019" y="90"/>
                  </a:lnTo>
                  <a:lnTo>
                    <a:pt x="1015" y="90"/>
                  </a:lnTo>
                  <a:lnTo>
                    <a:pt x="1015" y="90"/>
                  </a:lnTo>
                  <a:lnTo>
                    <a:pt x="1014" y="90"/>
                  </a:lnTo>
                  <a:lnTo>
                    <a:pt x="1013" y="90"/>
                  </a:lnTo>
                  <a:lnTo>
                    <a:pt x="1009" y="88"/>
                  </a:lnTo>
                  <a:lnTo>
                    <a:pt x="1006" y="88"/>
                  </a:lnTo>
                  <a:lnTo>
                    <a:pt x="1006" y="87"/>
                  </a:lnTo>
                  <a:lnTo>
                    <a:pt x="1002" y="88"/>
                  </a:lnTo>
                  <a:lnTo>
                    <a:pt x="996" y="90"/>
                  </a:lnTo>
                  <a:lnTo>
                    <a:pt x="991" y="90"/>
                  </a:lnTo>
                  <a:lnTo>
                    <a:pt x="991" y="90"/>
                  </a:lnTo>
                  <a:lnTo>
                    <a:pt x="990" y="90"/>
                  </a:lnTo>
                  <a:lnTo>
                    <a:pt x="989" y="90"/>
                  </a:lnTo>
                  <a:lnTo>
                    <a:pt x="986" y="88"/>
                  </a:lnTo>
                  <a:lnTo>
                    <a:pt x="983" y="88"/>
                  </a:lnTo>
                  <a:lnTo>
                    <a:pt x="983" y="87"/>
                  </a:lnTo>
                  <a:lnTo>
                    <a:pt x="982" y="87"/>
                  </a:lnTo>
                  <a:lnTo>
                    <a:pt x="979" y="87"/>
                  </a:lnTo>
                  <a:lnTo>
                    <a:pt x="978" y="87"/>
                  </a:lnTo>
                  <a:lnTo>
                    <a:pt x="978" y="87"/>
                  </a:lnTo>
                  <a:lnTo>
                    <a:pt x="977" y="92"/>
                  </a:lnTo>
                  <a:lnTo>
                    <a:pt x="977" y="93"/>
                  </a:lnTo>
                  <a:lnTo>
                    <a:pt x="977" y="93"/>
                  </a:lnTo>
                  <a:lnTo>
                    <a:pt x="972" y="92"/>
                  </a:lnTo>
                  <a:lnTo>
                    <a:pt x="970" y="91"/>
                  </a:lnTo>
                  <a:lnTo>
                    <a:pt x="970" y="90"/>
                  </a:lnTo>
                  <a:lnTo>
                    <a:pt x="968" y="90"/>
                  </a:lnTo>
                  <a:lnTo>
                    <a:pt x="965" y="88"/>
                  </a:lnTo>
                  <a:lnTo>
                    <a:pt x="963" y="88"/>
                  </a:lnTo>
                  <a:lnTo>
                    <a:pt x="963" y="87"/>
                  </a:lnTo>
                  <a:lnTo>
                    <a:pt x="962" y="88"/>
                  </a:lnTo>
                  <a:lnTo>
                    <a:pt x="959" y="94"/>
                  </a:lnTo>
                  <a:lnTo>
                    <a:pt x="956" y="97"/>
                  </a:lnTo>
                  <a:lnTo>
                    <a:pt x="956" y="97"/>
                  </a:lnTo>
                  <a:lnTo>
                    <a:pt x="955" y="98"/>
                  </a:lnTo>
                  <a:lnTo>
                    <a:pt x="954" y="99"/>
                  </a:lnTo>
                  <a:lnTo>
                    <a:pt x="953" y="99"/>
                  </a:lnTo>
                  <a:lnTo>
                    <a:pt x="956" y="106"/>
                  </a:lnTo>
                  <a:lnTo>
                    <a:pt x="959" y="109"/>
                  </a:lnTo>
                  <a:lnTo>
                    <a:pt x="960" y="109"/>
                  </a:lnTo>
                  <a:lnTo>
                    <a:pt x="959" y="111"/>
                  </a:lnTo>
                  <a:lnTo>
                    <a:pt x="959" y="115"/>
                  </a:lnTo>
                  <a:lnTo>
                    <a:pt x="959" y="118"/>
                  </a:lnTo>
                  <a:lnTo>
                    <a:pt x="959" y="118"/>
                  </a:lnTo>
                  <a:lnTo>
                    <a:pt x="957" y="117"/>
                  </a:lnTo>
                  <a:lnTo>
                    <a:pt x="955" y="114"/>
                  </a:lnTo>
                  <a:lnTo>
                    <a:pt x="954" y="111"/>
                  </a:lnTo>
                  <a:lnTo>
                    <a:pt x="954" y="110"/>
                  </a:lnTo>
                  <a:lnTo>
                    <a:pt x="949" y="107"/>
                  </a:lnTo>
                  <a:lnTo>
                    <a:pt x="947" y="106"/>
                  </a:lnTo>
                  <a:lnTo>
                    <a:pt x="947" y="105"/>
                  </a:lnTo>
                  <a:lnTo>
                    <a:pt x="945" y="105"/>
                  </a:lnTo>
                  <a:lnTo>
                    <a:pt x="944" y="105"/>
                  </a:lnTo>
                  <a:lnTo>
                    <a:pt x="941" y="105"/>
                  </a:lnTo>
                  <a:lnTo>
                    <a:pt x="938" y="105"/>
                  </a:lnTo>
                  <a:lnTo>
                    <a:pt x="938" y="104"/>
                  </a:lnTo>
                  <a:lnTo>
                    <a:pt x="937" y="106"/>
                  </a:lnTo>
                  <a:lnTo>
                    <a:pt x="937" y="109"/>
                  </a:lnTo>
                  <a:lnTo>
                    <a:pt x="937" y="113"/>
                  </a:lnTo>
                  <a:lnTo>
                    <a:pt x="937" y="113"/>
                  </a:lnTo>
                  <a:lnTo>
                    <a:pt x="935" y="114"/>
                  </a:lnTo>
                  <a:lnTo>
                    <a:pt x="930" y="115"/>
                  </a:lnTo>
                  <a:lnTo>
                    <a:pt x="927" y="116"/>
                  </a:lnTo>
                  <a:lnTo>
                    <a:pt x="927" y="116"/>
                  </a:lnTo>
                  <a:lnTo>
                    <a:pt x="925" y="117"/>
                  </a:lnTo>
                  <a:lnTo>
                    <a:pt x="920" y="118"/>
                  </a:lnTo>
                  <a:lnTo>
                    <a:pt x="917" y="119"/>
                  </a:lnTo>
                  <a:lnTo>
                    <a:pt x="917" y="119"/>
                  </a:lnTo>
                  <a:lnTo>
                    <a:pt x="916" y="121"/>
                  </a:lnTo>
                  <a:lnTo>
                    <a:pt x="914" y="127"/>
                  </a:lnTo>
                  <a:lnTo>
                    <a:pt x="913" y="131"/>
                  </a:lnTo>
                  <a:lnTo>
                    <a:pt x="913" y="131"/>
                  </a:lnTo>
                  <a:lnTo>
                    <a:pt x="913" y="133"/>
                  </a:lnTo>
                  <a:lnTo>
                    <a:pt x="912" y="138"/>
                  </a:lnTo>
                  <a:lnTo>
                    <a:pt x="912" y="141"/>
                  </a:lnTo>
                  <a:lnTo>
                    <a:pt x="913" y="141"/>
                  </a:lnTo>
                  <a:lnTo>
                    <a:pt x="910" y="145"/>
                  </a:lnTo>
                  <a:lnTo>
                    <a:pt x="910" y="148"/>
                  </a:lnTo>
                  <a:lnTo>
                    <a:pt x="910" y="148"/>
                  </a:lnTo>
                  <a:lnTo>
                    <a:pt x="912" y="148"/>
                  </a:lnTo>
                  <a:lnTo>
                    <a:pt x="915" y="148"/>
                  </a:lnTo>
                  <a:lnTo>
                    <a:pt x="918" y="148"/>
                  </a:lnTo>
                  <a:lnTo>
                    <a:pt x="919" y="148"/>
                  </a:lnTo>
                  <a:lnTo>
                    <a:pt x="919" y="149"/>
                  </a:lnTo>
                  <a:lnTo>
                    <a:pt x="919" y="150"/>
                  </a:lnTo>
                  <a:lnTo>
                    <a:pt x="919" y="156"/>
                  </a:lnTo>
                  <a:lnTo>
                    <a:pt x="919" y="161"/>
                  </a:lnTo>
                  <a:lnTo>
                    <a:pt x="920" y="161"/>
                  </a:lnTo>
                  <a:lnTo>
                    <a:pt x="919" y="162"/>
                  </a:lnTo>
                  <a:lnTo>
                    <a:pt x="916" y="165"/>
                  </a:lnTo>
                  <a:lnTo>
                    <a:pt x="914" y="167"/>
                  </a:lnTo>
                  <a:lnTo>
                    <a:pt x="914" y="167"/>
                  </a:lnTo>
                  <a:lnTo>
                    <a:pt x="912" y="168"/>
                  </a:lnTo>
                  <a:lnTo>
                    <a:pt x="906" y="168"/>
                  </a:lnTo>
                  <a:lnTo>
                    <a:pt x="903" y="168"/>
                  </a:lnTo>
                  <a:lnTo>
                    <a:pt x="903" y="168"/>
                  </a:lnTo>
                  <a:lnTo>
                    <a:pt x="902" y="168"/>
                  </a:lnTo>
                  <a:lnTo>
                    <a:pt x="901" y="168"/>
                  </a:lnTo>
                  <a:lnTo>
                    <a:pt x="897" y="167"/>
                  </a:lnTo>
                  <a:lnTo>
                    <a:pt x="895" y="167"/>
                  </a:lnTo>
                  <a:lnTo>
                    <a:pt x="895" y="166"/>
                  </a:lnTo>
                  <a:lnTo>
                    <a:pt x="894" y="167"/>
                  </a:lnTo>
                  <a:lnTo>
                    <a:pt x="891" y="172"/>
                  </a:lnTo>
                  <a:lnTo>
                    <a:pt x="890" y="174"/>
                  </a:lnTo>
                  <a:lnTo>
                    <a:pt x="890" y="174"/>
                  </a:lnTo>
                  <a:lnTo>
                    <a:pt x="890" y="175"/>
                  </a:lnTo>
                  <a:lnTo>
                    <a:pt x="890" y="176"/>
                  </a:lnTo>
                  <a:lnTo>
                    <a:pt x="890" y="179"/>
                  </a:lnTo>
                  <a:lnTo>
                    <a:pt x="890" y="181"/>
                  </a:lnTo>
                  <a:lnTo>
                    <a:pt x="891" y="181"/>
                  </a:lnTo>
                  <a:lnTo>
                    <a:pt x="890" y="183"/>
                  </a:lnTo>
                  <a:lnTo>
                    <a:pt x="886" y="189"/>
                  </a:lnTo>
                  <a:lnTo>
                    <a:pt x="884" y="194"/>
                  </a:lnTo>
                  <a:lnTo>
                    <a:pt x="884" y="194"/>
                  </a:lnTo>
                  <a:lnTo>
                    <a:pt x="883" y="195"/>
                  </a:lnTo>
                  <a:lnTo>
                    <a:pt x="880" y="198"/>
                  </a:lnTo>
                  <a:lnTo>
                    <a:pt x="879" y="200"/>
                  </a:lnTo>
                  <a:lnTo>
                    <a:pt x="879" y="200"/>
                  </a:lnTo>
                  <a:lnTo>
                    <a:pt x="878" y="201"/>
                  </a:lnTo>
                  <a:lnTo>
                    <a:pt x="876" y="202"/>
                  </a:lnTo>
                  <a:lnTo>
                    <a:pt x="874" y="203"/>
                  </a:lnTo>
                  <a:lnTo>
                    <a:pt x="874" y="203"/>
                  </a:lnTo>
                  <a:lnTo>
                    <a:pt x="872" y="202"/>
                  </a:lnTo>
                  <a:lnTo>
                    <a:pt x="871" y="201"/>
                  </a:lnTo>
                  <a:lnTo>
                    <a:pt x="870" y="204"/>
                  </a:lnTo>
                  <a:lnTo>
                    <a:pt x="867" y="212"/>
                  </a:lnTo>
                  <a:lnTo>
                    <a:pt x="866" y="219"/>
                  </a:lnTo>
                  <a:lnTo>
                    <a:pt x="866" y="219"/>
                  </a:lnTo>
                  <a:lnTo>
                    <a:pt x="867" y="221"/>
                  </a:lnTo>
                  <a:lnTo>
                    <a:pt x="871" y="226"/>
                  </a:lnTo>
                  <a:lnTo>
                    <a:pt x="874" y="231"/>
                  </a:lnTo>
                  <a:lnTo>
                    <a:pt x="876" y="231"/>
                  </a:lnTo>
                  <a:lnTo>
                    <a:pt x="878" y="234"/>
                  </a:lnTo>
                  <a:lnTo>
                    <a:pt x="884" y="242"/>
                  </a:lnTo>
                  <a:lnTo>
                    <a:pt x="889" y="247"/>
                  </a:lnTo>
                  <a:lnTo>
                    <a:pt x="890" y="247"/>
                  </a:lnTo>
                  <a:lnTo>
                    <a:pt x="889" y="248"/>
                  </a:lnTo>
                  <a:lnTo>
                    <a:pt x="889" y="248"/>
                  </a:lnTo>
                  <a:lnTo>
                    <a:pt x="888" y="249"/>
                  </a:lnTo>
                  <a:lnTo>
                    <a:pt x="883" y="251"/>
                  </a:lnTo>
                  <a:lnTo>
                    <a:pt x="881" y="253"/>
                  </a:lnTo>
                  <a:lnTo>
                    <a:pt x="881" y="253"/>
                  </a:lnTo>
                  <a:lnTo>
                    <a:pt x="881" y="254"/>
                  </a:lnTo>
                  <a:lnTo>
                    <a:pt x="881" y="256"/>
                  </a:lnTo>
                  <a:lnTo>
                    <a:pt x="883" y="264"/>
                  </a:lnTo>
                  <a:lnTo>
                    <a:pt x="884" y="269"/>
                  </a:lnTo>
                  <a:lnTo>
                    <a:pt x="885" y="269"/>
                  </a:lnTo>
                  <a:lnTo>
                    <a:pt x="882" y="270"/>
                  </a:lnTo>
                  <a:lnTo>
                    <a:pt x="881" y="270"/>
                  </a:lnTo>
                  <a:lnTo>
                    <a:pt x="881" y="270"/>
                  </a:lnTo>
                  <a:lnTo>
                    <a:pt x="878" y="269"/>
                  </a:lnTo>
                  <a:lnTo>
                    <a:pt x="871" y="262"/>
                  </a:lnTo>
                  <a:lnTo>
                    <a:pt x="866" y="258"/>
                  </a:lnTo>
                  <a:lnTo>
                    <a:pt x="866" y="257"/>
                  </a:lnTo>
                  <a:lnTo>
                    <a:pt x="861" y="254"/>
                  </a:lnTo>
                  <a:lnTo>
                    <a:pt x="860" y="253"/>
                  </a:lnTo>
                  <a:lnTo>
                    <a:pt x="860" y="251"/>
                  </a:lnTo>
                  <a:lnTo>
                    <a:pt x="856" y="250"/>
                  </a:lnTo>
                  <a:lnTo>
                    <a:pt x="854" y="249"/>
                  </a:lnTo>
                  <a:lnTo>
                    <a:pt x="854" y="248"/>
                  </a:lnTo>
                  <a:lnTo>
                    <a:pt x="851" y="249"/>
                  </a:lnTo>
                  <a:lnTo>
                    <a:pt x="845" y="250"/>
                  </a:lnTo>
                  <a:lnTo>
                    <a:pt x="841" y="250"/>
                  </a:lnTo>
                  <a:lnTo>
                    <a:pt x="841" y="250"/>
                  </a:lnTo>
                  <a:lnTo>
                    <a:pt x="838" y="251"/>
                  </a:lnTo>
                  <a:lnTo>
                    <a:pt x="832" y="251"/>
                  </a:lnTo>
                  <a:lnTo>
                    <a:pt x="827" y="251"/>
                  </a:lnTo>
                  <a:lnTo>
                    <a:pt x="827" y="251"/>
                  </a:lnTo>
                  <a:lnTo>
                    <a:pt x="826" y="251"/>
                  </a:lnTo>
                  <a:lnTo>
                    <a:pt x="825" y="251"/>
                  </a:lnTo>
                  <a:lnTo>
                    <a:pt x="821" y="250"/>
                  </a:lnTo>
                  <a:lnTo>
                    <a:pt x="818" y="249"/>
                  </a:lnTo>
                  <a:lnTo>
                    <a:pt x="818" y="248"/>
                  </a:lnTo>
                  <a:lnTo>
                    <a:pt x="816" y="249"/>
                  </a:lnTo>
                  <a:lnTo>
                    <a:pt x="814" y="250"/>
                  </a:lnTo>
                  <a:lnTo>
                    <a:pt x="813" y="251"/>
                  </a:lnTo>
                  <a:lnTo>
                    <a:pt x="813" y="251"/>
                  </a:lnTo>
                  <a:lnTo>
                    <a:pt x="813" y="253"/>
                  </a:lnTo>
                  <a:lnTo>
                    <a:pt x="813" y="256"/>
                  </a:lnTo>
                  <a:lnTo>
                    <a:pt x="813" y="258"/>
                  </a:lnTo>
                  <a:lnTo>
                    <a:pt x="814" y="258"/>
                  </a:lnTo>
                  <a:lnTo>
                    <a:pt x="813" y="258"/>
                  </a:lnTo>
                  <a:lnTo>
                    <a:pt x="812" y="258"/>
                  </a:lnTo>
                  <a:lnTo>
                    <a:pt x="809" y="258"/>
                  </a:lnTo>
                  <a:lnTo>
                    <a:pt x="807" y="258"/>
                  </a:lnTo>
                  <a:lnTo>
                    <a:pt x="807" y="257"/>
                  </a:lnTo>
                  <a:lnTo>
                    <a:pt x="806" y="258"/>
                  </a:lnTo>
                  <a:lnTo>
                    <a:pt x="806" y="258"/>
                  </a:lnTo>
                  <a:lnTo>
                    <a:pt x="804" y="258"/>
                  </a:lnTo>
                  <a:lnTo>
                    <a:pt x="803" y="258"/>
                  </a:lnTo>
                  <a:lnTo>
                    <a:pt x="802" y="258"/>
                  </a:lnTo>
                  <a:lnTo>
                    <a:pt x="802" y="258"/>
                  </a:lnTo>
                  <a:lnTo>
                    <a:pt x="801" y="259"/>
                  </a:lnTo>
                  <a:lnTo>
                    <a:pt x="798" y="262"/>
                  </a:lnTo>
                  <a:lnTo>
                    <a:pt x="797" y="264"/>
                  </a:lnTo>
                  <a:lnTo>
                    <a:pt x="797" y="264"/>
                  </a:lnTo>
                  <a:lnTo>
                    <a:pt x="797" y="265"/>
                  </a:lnTo>
                  <a:lnTo>
                    <a:pt x="797" y="265"/>
                  </a:lnTo>
                  <a:lnTo>
                    <a:pt x="798" y="267"/>
                  </a:lnTo>
                  <a:lnTo>
                    <a:pt x="797" y="269"/>
                  </a:lnTo>
                  <a:lnTo>
                    <a:pt x="797" y="272"/>
                  </a:lnTo>
                  <a:lnTo>
                    <a:pt x="797" y="274"/>
                  </a:lnTo>
                  <a:lnTo>
                    <a:pt x="797" y="274"/>
                  </a:lnTo>
                  <a:lnTo>
                    <a:pt x="796" y="276"/>
                  </a:lnTo>
                  <a:lnTo>
                    <a:pt x="795" y="277"/>
                  </a:lnTo>
                  <a:lnTo>
                    <a:pt x="795" y="278"/>
                  </a:lnTo>
                  <a:lnTo>
                    <a:pt x="792" y="277"/>
                  </a:lnTo>
                  <a:lnTo>
                    <a:pt x="791" y="279"/>
                  </a:lnTo>
                  <a:lnTo>
                    <a:pt x="791" y="283"/>
                  </a:lnTo>
                  <a:lnTo>
                    <a:pt x="791" y="286"/>
                  </a:lnTo>
                  <a:lnTo>
                    <a:pt x="791" y="286"/>
                  </a:lnTo>
                  <a:lnTo>
                    <a:pt x="790" y="288"/>
                  </a:lnTo>
                  <a:lnTo>
                    <a:pt x="789" y="289"/>
                  </a:lnTo>
                  <a:lnTo>
                    <a:pt x="786" y="294"/>
                  </a:lnTo>
                  <a:lnTo>
                    <a:pt x="783" y="299"/>
                  </a:lnTo>
                  <a:lnTo>
                    <a:pt x="783" y="299"/>
                  </a:lnTo>
                  <a:lnTo>
                    <a:pt x="783" y="297"/>
                  </a:lnTo>
                  <a:lnTo>
                    <a:pt x="784" y="294"/>
                  </a:lnTo>
                  <a:lnTo>
                    <a:pt x="785" y="291"/>
                  </a:lnTo>
                  <a:lnTo>
                    <a:pt x="786" y="290"/>
                  </a:lnTo>
                  <a:lnTo>
                    <a:pt x="787" y="286"/>
                  </a:lnTo>
                  <a:lnTo>
                    <a:pt x="788" y="285"/>
                  </a:lnTo>
                  <a:lnTo>
                    <a:pt x="789" y="284"/>
                  </a:lnTo>
                  <a:lnTo>
                    <a:pt x="789" y="283"/>
                  </a:lnTo>
                  <a:lnTo>
                    <a:pt x="790" y="279"/>
                  </a:lnTo>
                  <a:lnTo>
                    <a:pt x="790" y="276"/>
                  </a:lnTo>
                  <a:lnTo>
                    <a:pt x="791" y="274"/>
                  </a:lnTo>
                  <a:lnTo>
                    <a:pt x="791" y="273"/>
                  </a:lnTo>
                  <a:lnTo>
                    <a:pt x="790" y="268"/>
                  </a:lnTo>
                  <a:lnTo>
                    <a:pt x="790" y="264"/>
                  </a:lnTo>
                  <a:lnTo>
                    <a:pt x="791" y="262"/>
                  </a:lnTo>
                  <a:lnTo>
                    <a:pt x="791" y="260"/>
                  </a:lnTo>
                  <a:lnTo>
                    <a:pt x="792" y="251"/>
                  </a:lnTo>
                  <a:lnTo>
                    <a:pt x="794" y="245"/>
                  </a:lnTo>
                  <a:lnTo>
                    <a:pt x="795" y="244"/>
                  </a:lnTo>
                  <a:lnTo>
                    <a:pt x="789" y="242"/>
                  </a:lnTo>
                  <a:lnTo>
                    <a:pt x="787" y="241"/>
                  </a:lnTo>
                  <a:lnTo>
                    <a:pt x="787" y="239"/>
                  </a:lnTo>
                  <a:lnTo>
                    <a:pt x="781" y="236"/>
                  </a:lnTo>
                  <a:lnTo>
                    <a:pt x="778" y="235"/>
                  </a:lnTo>
                  <a:lnTo>
                    <a:pt x="778" y="234"/>
                  </a:lnTo>
                  <a:lnTo>
                    <a:pt x="775" y="231"/>
                  </a:lnTo>
                  <a:lnTo>
                    <a:pt x="766" y="220"/>
                  </a:lnTo>
                  <a:lnTo>
                    <a:pt x="760" y="212"/>
                  </a:lnTo>
                  <a:lnTo>
                    <a:pt x="760" y="211"/>
                  </a:lnTo>
                  <a:lnTo>
                    <a:pt x="757" y="210"/>
                  </a:lnTo>
                  <a:lnTo>
                    <a:pt x="754" y="207"/>
                  </a:lnTo>
                  <a:lnTo>
                    <a:pt x="751" y="204"/>
                  </a:lnTo>
                  <a:lnTo>
                    <a:pt x="751" y="203"/>
                  </a:lnTo>
                  <a:lnTo>
                    <a:pt x="744" y="200"/>
                  </a:lnTo>
                  <a:lnTo>
                    <a:pt x="741" y="199"/>
                  </a:lnTo>
                  <a:lnTo>
                    <a:pt x="741" y="198"/>
                  </a:lnTo>
                  <a:lnTo>
                    <a:pt x="739" y="199"/>
                  </a:lnTo>
                  <a:lnTo>
                    <a:pt x="733" y="199"/>
                  </a:lnTo>
                  <a:lnTo>
                    <a:pt x="729" y="199"/>
                  </a:lnTo>
                  <a:lnTo>
                    <a:pt x="729" y="199"/>
                  </a:lnTo>
                  <a:lnTo>
                    <a:pt x="728" y="199"/>
                  </a:lnTo>
                  <a:lnTo>
                    <a:pt x="727" y="199"/>
                  </a:lnTo>
                  <a:lnTo>
                    <a:pt x="724" y="198"/>
                  </a:lnTo>
                  <a:lnTo>
                    <a:pt x="720" y="197"/>
                  </a:lnTo>
                  <a:lnTo>
                    <a:pt x="720" y="196"/>
                  </a:lnTo>
                  <a:lnTo>
                    <a:pt x="718" y="195"/>
                  </a:lnTo>
                  <a:lnTo>
                    <a:pt x="717" y="194"/>
                  </a:lnTo>
                  <a:lnTo>
                    <a:pt x="715" y="195"/>
                  </a:lnTo>
                  <a:lnTo>
                    <a:pt x="712" y="195"/>
                  </a:lnTo>
                  <a:lnTo>
                    <a:pt x="708" y="195"/>
                  </a:lnTo>
                  <a:lnTo>
                    <a:pt x="708" y="195"/>
                  </a:lnTo>
                  <a:lnTo>
                    <a:pt x="709" y="200"/>
                  </a:lnTo>
                  <a:lnTo>
                    <a:pt x="710" y="202"/>
                  </a:lnTo>
                  <a:lnTo>
                    <a:pt x="712" y="202"/>
                  </a:lnTo>
                  <a:lnTo>
                    <a:pt x="710" y="203"/>
                  </a:lnTo>
                  <a:lnTo>
                    <a:pt x="708" y="204"/>
                  </a:lnTo>
                  <a:lnTo>
                    <a:pt x="707" y="206"/>
                  </a:lnTo>
                  <a:lnTo>
                    <a:pt x="707" y="206"/>
                  </a:lnTo>
                  <a:lnTo>
                    <a:pt x="706" y="207"/>
                  </a:lnTo>
                  <a:lnTo>
                    <a:pt x="705" y="208"/>
                  </a:lnTo>
                  <a:lnTo>
                    <a:pt x="699" y="211"/>
                  </a:lnTo>
                  <a:lnTo>
                    <a:pt x="695" y="214"/>
                  </a:lnTo>
                  <a:lnTo>
                    <a:pt x="695" y="214"/>
                  </a:lnTo>
                  <a:lnTo>
                    <a:pt x="691" y="215"/>
                  </a:lnTo>
                  <a:lnTo>
                    <a:pt x="689" y="215"/>
                  </a:lnTo>
                  <a:lnTo>
                    <a:pt x="689" y="215"/>
                  </a:lnTo>
                  <a:lnTo>
                    <a:pt x="687" y="212"/>
                  </a:lnTo>
                  <a:lnTo>
                    <a:pt x="687" y="211"/>
                  </a:lnTo>
                  <a:lnTo>
                    <a:pt x="687" y="210"/>
                  </a:lnTo>
                  <a:lnTo>
                    <a:pt x="685" y="209"/>
                  </a:lnTo>
                  <a:lnTo>
                    <a:pt x="684" y="210"/>
                  </a:lnTo>
                  <a:lnTo>
                    <a:pt x="682" y="214"/>
                  </a:lnTo>
                  <a:lnTo>
                    <a:pt x="681" y="216"/>
                  </a:lnTo>
                  <a:lnTo>
                    <a:pt x="681" y="216"/>
                  </a:lnTo>
                  <a:lnTo>
                    <a:pt x="680" y="218"/>
                  </a:lnTo>
                  <a:lnTo>
                    <a:pt x="677" y="220"/>
                  </a:lnTo>
                  <a:lnTo>
                    <a:pt x="674" y="221"/>
                  </a:lnTo>
                  <a:lnTo>
                    <a:pt x="674" y="221"/>
                  </a:lnTo>
                  <a:lnTo>
                    <a:pt x="672" y="216"/>
                  </a:lnTo>
                  <a:lnTo>
                    <a:pt x="672" y="213"/>
                  </a:lnTo>
                  <a:lnTo>
                    <a:pt x="672" y="212"/>
                  </a:lnTo>
                  <a:lnTo>
                    <a:pt x="668" y="209"/>
                  </a:lnTo>
                  <a:lnTo>
                    <a:pt x="667" y="207"/>
                  </a:lnTo>
                  <a:lnTo>
                    <a:pt x="667" y="206"/>
                  </a:lnTo>
                  <a:lnTo>
                    <a:pt x="666" y="207"/>
                  </a:lnTo>
                  <a:lnTo>
                    <a:pt x="665" y="210"/>
                  </a:lnTo>
                  <a:lnTo>
                    <a:pt x="663" y="212"/>
                  </a:lnTo>
                  <a:lnTo>
                    <a:pt x="663" y="212"/>
                  </a:lnTo>
                  <a:lnTo>
                    <a:pt x="667" y="218"/>
                  </a:lnTo>
                  <a:lnTo>
                    <a:pt x="669" y="220"/>
                  </a:lnTo>
                  <a:lnTo>
                    <a:pt x="670" y="220"/>
                  </a:lnTo>
                  <a:lnTo>
                    <a:pt x="670" y="221"/>
                  </a:lnTo>
                  <a:lnTo>
                    <a:pt x="669" y="224"/>
                  </a:lnTo>
                  <a:lnTo>
                    <a:pt x="669" y="225"/>
                  </a:lnTo>
                  <a:lnTo>
                    <a:pt x="670" y="225"/>
                  </a:lnTo>
                  <a:lnTo>
                    <a:pt x="669" y="227"/>
                  </a:lnTo>
                  <a:lnTo>
                    <a:pt x="667" y="234"/>
                  </a:lnTo>
                  <a:lnTo>
                    <a:pt x="666" y="238"/>
                  </a:lnTo>
                  <a:lnTo>
                    <a:pt x="666" y="238"/>
                  </a:lnTo>
                  <a:lnTo>
                    <a:pt x="665" y="239"/>
                  </a:lnTo>
                  <a:lnTo>
                    <a:pt x="663" y="241"/>
                  </a:lnTo>
                  <a:lnTo>
                    <a:pt x="660" y="244"/>
                  </a:lnTo>
                  <a:lnTo>
                    <a:pt x="658" y="246"/>
                  </a:lnTo>
                  <a:lnTo>
                    <a:pt x="658" y="246"/>
                  </a:lnTo>
                  <a:lnTo>
                    <a:pt x="657" y="247"/>
                  </a:lnTo>
                  <a:lnTo>
                    <a:pt x="654" y="248"/>
                  </a:lnTo>
                  <a:lnTo>
                    <a:pt x="651" y="249"/>
                  </a:lnTo>
                  <a:lnTo>
                    <a:pt x="651" y="249"/>
                  </a:lnTo>
                  <a:lnTo>
                    <a:pt x="650" y="245"/>
                  </a:lnTo>
                  <a:lnTo>
                    <a:pt x="650" y="242"/>
                  </a:lnTo>
                  <a:lnTo>
                    <a:pt x="650" y="241"/>
                  </a:lnTo>
                  <a:lnTo>
                    <a:pt x="649" y="241"/>
                  </a:lnTo>
                  <a:lnTo>
                    <a:pt x="648" y="241"/>
                  </a:lnTo>
                  <a:lnTo>
                    <a:pt x="645" y="241"/>
                  </a:lnTo>
                  <a:lnTo>
                    <a:pt x="643" y="241"/>
                  </a:lnTo>
                  <a:lnTo>
                    <a:pt x="643" y="241"/>
                  </a:lnTo>
                  <a:lnTo>
                    <a:pt x="642" y="242"/>
                  </a:lnTo>
                  <a:lnTo>
                    <a:pt x="640" y="242"/>
                  </a:lnTo>
                  <a:lnTo>
                    <a:pt x="639" y="243"/>
                  </a:lnTo>
                  <a:lnTo>
                    <a:pt x="636" y="244"/>
                  </a:lnTo>
                  <a:lnTo>
                    <a:pt x="634" y="245"/>
                  </a:lnTo>
                  <a:lnTo>
                    <a:pt x="634" y="245"/>
                  </a:lnTo>
                  <a:lnTo>
                    <a:pt x="630" y="246"/>
                  </a:lnTo>
                  <a:lnTo>
                    <a:pt x="628" y="246"/>
                  </a:lnTo>
                  <a:lnTo>
                    <a:pt x="628" y="246"/>
                  </a:lnTo>
                  <a:lnTo>
                    <a:pt x="627" y="247"/>
                  </a:lnTo>
                  <a:lnTo>
                    <a:pt x="623" y="249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20" y="253"/>
                  </a:lnTo>
                  <a:lnTo>
                    <a:pt x="619" y="259"/>
                  </a:lnTo>
                  <a:lnTo>
                    <a:pt x="619" y="264"/>
                  </a:lnTo>
                  <a:lnTo>
                    <a:pt x="620" y="264"/>
                  </a:lnTo>
                  <a:lnTo>
                    <a:pt x="621" y="266"/>
                  </a:lnTo>
                  <a:lnTo>
                    <a:pt x="624" y="270"/>
                  </a:lnTo>
                  <a:lnTo>
                    <a:pt x="627" y="273"/>
                  </a:lnTo>
                  <a:lnTo>
                    <a:pt x="628" y="273"/>
                  </a:lnTo>
                  <a:lnTo>
                    <a:pt x="628" y="274"/>
                  </a:lnTo>
                  <a:lnTo>
                    <a:pt x="627" y="278"/>
                  </a:lnTo>
                  <a:lnTo>
                    <a:pt x="627" y="279"/>
                  </a:lnTo>
                  <a:lnTo>
                    <a:pt x="628" y="279"/>
                  </a:lnTo>
                  <a:lnTo>
                    <a:pt x="627" y="279"/>
                  </a:lnTo>
                  <a:lnTo>
                    <a:pt x="626" y="279"/>
                  </a:lnTo>
                  <a:lnTo>
                    <a:pt x="621" y="278"/>
                  </a:lnTo>
                  <a:lnTo>
                    <a:pt x="618" y="277"/>
                  </a:lnTo>
                  <a:lnTo>
                    <a:pt x="618" y="276"/>
                  </a:lnTo>
                  <a:lnTo>
                    <a:pt x="616" y="276"/>
                  </a:lnTo>
                  <a:lnTo>
                    <a:pt x="615" y="276"/>
                  </a:lnTo>
                  <a:lnTo>
                    <a:pt x="612" y="274"/>
                  </a:lnTo>
                  <a:lnTo>
                    <a:pt x="609" y="274"/>
                  </a:lnTo>
                  <a:lnTo>
                    <a:pt x="609" y="273"/>
                  </a:lnTo>
                  <a:lnTo>
                    <a:pt x="608" y="274"/>
                  </a:lnTo>
                  <a:lnTo>
                    <a:pt x="607" y="278"/>
                  </a:lnTo>
                  <a:lnTo>
                    <a:pt x="605" y="280"/>
                  </a:lnTo>
                  <a:lnTo>
                    <a:pt x="605" y="280"/>
                  </a:lnTo>
                  <a:lnTo>
                    <a:pt x="604" y="284"/>
                  </a:lnTo>
                  <a:lnTo>
                    <a:pt x="604" y="286"/>
                  </a:lnTo>
                  <a:lnTo>
                    <a:pt x="604" y="286"/>
                  </a:lnTo>
                  <a:lnTo>
                    <a:pt x="605" y="291"/>
                  </a:lnTo>
                  <a:lnTo>
                    <a:pt x="607" y="292"/>
                  </a:lnTo>
                  <a:lnTo>
                    <a:pt x="608" y="292"/>
                  </a:lnTo>
                  <a:lnTo>
                    <a:pt x="609" y="296"/>
                  </a:lnTo>
                  <a:lnTo>
                    <a:pt x="610" y="299"/>
                  </a:lnTo>
                  <a:lnTo>
                    <a:pt x="611" y="299"/>
                  </a:lnTo>
                  <a:lnTo>
                    <a:pt x="610" y="300"/>
                  </a:lnTo>
                  <a:lnTo>
                    <a:pt x="609" y="301"/>
                  </a:lnTo>
                  <a:lnTo>
                    <a:pt x="609" y="302"/>
                  </a:lnTo>
                  <a:lnTo>
                    <a:pt x="600" y="299"/>
                  </a:lnTo>
                  <a:lnTo>
                    <a:pt x="596" y="297"/>
                  </a:lnTo>
                  <a:lnTo>
                    <a:pt x="596" y="296"/>
                  </a:lnTo>
                  <a:lnTo>
                    <a:pt x="593" y="297"/>
                  </a:lnTo>
                  <a:lnTo>
                    <a:pt x="590" y="299"/>
                  </a:lnTo>
                  <a:lnTo>
                    <a:pt x="588" y="299"/>
                  </a:lnTo>
                  <a:lnTo>
                    <a:pt x="588" y="299"/>
                  </a:lnTo>
                  <a:lnTo>
                    <a:pt x="587" y="300"/>
                  </a:lnTo>
                  <a:lnTo>
                    <a:pt x="585" y="304"/>
                  </a:lnTo>
                  <a:lnTo>
                    <a:pt x="584" y="306"/>
                  </a:lnTo>
                  <a:lnTo>
                    <a:pt x="584" y="306"/>
                  </a:lnTo>
                  <a:lnTo>
                    <a:pt x="584" y="307"/>
                  </a:lnTo>
                  <a:lnTo>
                    <a:pt x="584" y="309"/>
                  </a:lnTo>
                  <a:lnTo>
                    <a:pt x="587" y="317"/>
                  </a:lnTo>
                  <a:lnTo>
                    <a:pt x="588" y="324"/>
                  </a:lnTo>
                  <a:lnTo>
                    <a:pt x="589" y="324"/>
                  </a:lnTo>
                  <a:lnTo>
                    <a:pt x="588" y="325"/>
                  </a:lnTo>
                  <a:lnTo>
                    <a:pt x="587" y="328"/>
                  </a:lnTo>
                  <a:lnTo>
                    <a:pt x="586" y="330"/>
                  </a:lnTo>
                  <a:lnTo>
                    <a:pt x="586" y="330"/>
                  </a:lnTo>
                  <a:lnTo>
                    <a:pt x="585" y="331"/>
                  </a:lnTo>
                  <a:lnTo>
                    <a:pt x="581" y="335"/>
                  </a:lnTo>
                  <a:lnTo>
                    <a:pt x="580" y="337"/>
                  </a:lnTo>
                  <a:lnTo>
                    <a:pt x="580" y="337"/>
                  </a:lnTo>
                  <a:lnTo>
                    <a:pt x="579" y="338"/>
                  </a:lnTo>
                  <a:lnTo>
                    <a:pt x="577" y="341"/>
                  </a:lnTo>
                  <a:lnTo>
                    <a:pt x="576" y="342"/>
                  </a:lnTo>
                  <a:lnTo>
                    <a:pt x="576" y="342"/>
                  </a:lnTo>
                  <a:lnTo>
                    <a:pt x="576" y="344"/>
                  </a:lnTo>
                  <a:lnTo>
                    <a:pt x="575" y="351"/>
                  </a:lnTo>
                  <a:lnTo>
                    <a:pt x="575" y="355"/>
                  </a:lnTo>
                  <a:lnTo>
                    <a:pt x="576" y="355"/>
                  </a:lnTo>
                  <a:lnTo>
                    <a:pt x="580" y="358"/>
                  </a:lnTo>
                  <a:lnTo>
                    <a:pt x="584" y="359"/>
                  </a:lnTo>
                  <a:lnTo>
                    <a:pt x="585" y="359"/>
                  </a:lnTo>
                  <a:lnTo>
                    <a:pt x="584" y="361"/>
                  </a:lnTo>
                  <a:lnTo>
                    <a:pt x="584" y="364"/>
                  </a:lnTo>
                  <a:lnTo>
                    <a:pt x="584" y="366"/>
                  </a:lnTo>
                  <a:lnTo>
                    <a:pt x="584" y="366"/>
                  </a:lnTo>
                  <a:lnTo>
                    <a:pt x="583" y="366"/>
                  </a:lnTo>
                  <a:lnTo>
                    <a:pt x="581" y="366"/>
                  </a:lnTo>
                  <a:lnTo>
                    <a:pt x="577" y="366"/>
                  </a:lnTo>
                  <a:lnTo>
                    <a:pt x="574" y="366"/>
                  </a:lnTo>
                  <a:lnTo>
                    <a:pt x="574" y="366"/>
                  </a:lnTo>
                  <a:lnTo>
                    <a:pt x="573" y="366"/>
                  </a:lnTo>
                  <a:lnTo>
                    <a:pt x="572" y="366"/>
                  </a:lnTo>
                  <a:lnTo>
                    <a:pt x="568" y="366"/>
                  </a:lnTo>
                  <a:lnTo>
                    <a:pt x="565" y="366"/>
                  </a:lnTo>
                  <a:lnTo>
                    <a:pt x="565" y="366"/>
                  </a:lnTo>
                  <a:lnTo>
                    <a:pt x="560" y="361"/>
                  </a:lnTo>
                  <a:lnTo>
                    <a:pt x="557" y="358"/>
                  </a:lnTo>
                  <a:lnTo>
                    <a:pt x="557" y="357"/>
                  </a:lnTo>
                  <a:lnTo>
                    <a:pt x="556" y="355"/>
                  </a:lnTo>
                  <a:lnTo>
                    <a:pt x="553" y="352"/>
                  </a:lnTo>
                  <a:lnTo>
                    <a:pt x="552" y="350"/>
                  </a:lnTo>
                  <a:lnTo>
                    <a:pt x="552" y="349"/>
                  </a:lnTo>
                  <a:lnTo>
                    <a:pt x="550" y="350"/>
                  </a:lnTo>
                  <a:lnTo>
                    <a:pt x="545" y="351"/>
                  </a:lnTo>
                  <a:lnTo>
                    <a:pt x="542" y="352"/>
                  </a:lnTo>
                  <a:lnTo>
                    <a:pt x="542" y="352"/>
                  </a:lnTo>
                  <a:lnTo>
                    <a:pt x="541" y="352"/>
                  </a:lnTo>
                  <a:lnTo>
                    <a:pt x="540" y="352"/>
                  </a:lnTo>
                  <a:lnTo>
                    <a:pt x="534" y="350"/>
                  </a:lnTo>
                  <a:lnTo>
                    <a:pt x="531" y="349"/>
                  </a:lnTo>
                  <a:lnTo>
                    <a:pt x="531" y="348"/>
                  </a:lnTo>
                  <a:lnTo>
                    <a:pt x="530" y="349"/>
                  </a:lnTo>
                  <a:lnTo>
                    <a:pt x="527" y="351"/>
                  </a:lnTo>
                  <a:lnTo>
                    <a:pt x="526" y="352"/>
                  </a:lnTo>
                  <a:lnTo>
                    <a:pt x="526" y="352"/>
                  </a:lnTo>
                  <a:lnTo>
                    <a:pt x="526" y="353"/>
                  </a:lnTo>
                  <a:lnTo>
                    <a:pt x="526" y="355"/>
                  </a:lnTo>
                  <a:lnTo>
                    <a:pt x="527" y="362"/>
                  </a:lnTo>
                  <a:lnTo>
                    <a:pt x="527" y="367"/>
                  </a:lnTo>
                  <a:lnTo>
                    <a:pt x="528" y="367"/>
                  </a:lnTo>
                  <a:lnTo>
                    <a:pt x="528" y="369"/>
                  </a:lnTo>
                  <a:lnTo>
                    <a:pt x="528" y="370"/>
                  </a:lnTo>
                  <a:lnTo>
                    <a:pt x="528" y="371"/>
                  </a:lnTo>
                  <a:lnTo>
                    <a:pt x="529" y="371"/>
                  </a:lnTo>
                  <a:lnTo>
                    <a:pt x="528" y="372"/>
                  </a:lnTo>
                  <a:lnTo>
                    <a:pt x="527" y="374"/>
                  </a:lnTo>
                  <a:lnTo>
                    <a:pt x="527" y="375"/>
                  </a:lnTo>
                  <a:lnTo>
                    <a:pt x="530" y="378"/>
                  </a:lnTo>
                  <a:lnTo>
                    <a:pt x="531" y="379"/>
                  </a:lnTo>
                  <a:lnTo>
                    <a:pt x="532" y="379"/>
                  </a:lnTo>
                  <a:lnTo>
                    <a:pt x="533" y="382"/>
                  </a:lnTo>
                  <a:lnTo>
                    <a:pt x="537" y="387"/>
                  </a:lnTo>
                  <a:lnTo>
                    <a:pt x="540" y="392"/>
                  </a:lnTo>
                  <a:lnTo>
                    <a:pt x="541" y="392"/>
                  </a:lnTo>
                  <a:lnTo>
                    <a:pt x="541" y="393"/>
                  </a:lnTo>
                  <a:lnTo>
                    <a:pt x="541" y="394"/>
                  </a:lnTo>
                  <a:lnTo>
                    <a:pt x="542" y="399"/>
                  </a:lnTo>
                  <a:lnTo>
                    <a:pt x="542" y="404"/>
                  </a:lnTo>
                  <a:lnTo>
                    <a:pt x="543" y="404"/>
                  </a:lnTo>
                  <a:lnTo>
                    <a:pt x="541" y="405"/>
                  </a:lnTo>
                  <a:lnTo>
                    <a:pt x="538" y="406"/>
                  </a:lnTo>
                  <a:lnTo>
                    <a:pt x="536" y="406"/>
                  </a:lnTo>
                  <a:lnTo>
                    <a:pt x="536" y="406"/>
                  </a:lnTo>
                  <a:lnTo>
                    <a:pt x="534" y="406"/>
                  </a:lnTo>
                  <a:lnTo>
                    <a:pt x="533" y="406"/>
                  </a:lnTo>
                  <a:lnTo>
                    <a:pt x="533" y="406"/>
                  </a:lnTo>
                  <a:lnTo>
                    <a:pt x="533" y="407"/>
                  </a:lnTo>
                  <a:lnTo>
                    <a:pt x="533" y="409"/>
                  </a:lnTo>
                  <a:lnTo>
                    <a:pt x="533" y="417"/>
                  </a:lnTo>
                  <a:lnTo>
                    <a:pt x="533" y="422"/>
                  </a:lnTo>
                  <a:lnTo>
                    <a:pt x="534" y="422"/>
                  </a:lnTo>
                  <a:lnTo>
                    <a:pt x="533" y="424"/>
                  </a:lnTo>
                  <a:lnTo>
                    <a:pt x="531" y="430"/>
                  </a:lnTo>
                  <a:lnTo>
                    <a:pt x="530" y="434"/>
                  </a:lnTo>
                  <a:lnTo>
                    <a:pt x="530" y="434"/>
                  </a:lnTo>
                  <a:lnTo>
                    <a:pt x="527" y="431"/>
                  </a:lnTo>
                  <a:lnTo>
                    <a:pt x="526" y="430"/>
                  </a:lnTo>
                  <a:lnTo>
                    <a:pt x="526" y="429"/>
                  </a:lnTo>
                  <a:lnTo>
                    <a:pt x="525" y="428"/>
                  </a:lnTo>
                  <a:lnTo>
                    <a:pt x="521" y="424"/>
                  </a:lnTo>
                  <a:lnTo>
                    <a:pt x="520" y="422"/>
                  </a:lnTo>
                  <a:lnTo>
                    <a:pt x="520" y="421"/>
                  </a:lnTo>
                  <a:lnTo>
                    <a:pt x="516" y="418"/>
                  </a:lnTo>
                  <a:lnTo>
                    <a:pt x="514" y="416"/>
                  </a:lnTo>
                  <a:lnTo>
                    <a:pt x="514" y="414"/>
                  </a:lnTo>
                  <a:lnTo>
                    <a:pt x="511" y="412"/>
                  </a:lnTo>
                  <a:lnTo>
                    <a:pt x="508" y="406"/>
                  </a:lnTo>
                  <a:lnTo>
                    <a:pt x="506" y="401"/>
                  </a:lnTo>
                  <a:lnTo>
                    <a:pt x="506" y="400"/>
                  </a:lnTo>
                  <a:lnTo>
                    <a:pt x="504" y="398"/>
                  </a:lnTo>
                  <a:lnTo>
                    <a:pt x="501" y="392"/>
                  </a:lnTo>
                  <a:lnTo>
                    <a:pt x="498" y="386"/>
                  </a:lnTo>
                  <a:lnTo>
                    <a:pt x="498" y="385"/>
                  </a:lnTo>
                  <a:lnTo>
                    <a:pt x="494" y="382"/>
                  </a:lnTo>
                  <a:lnTo>
                    <a:pt x="493" y="379"/>
                  </a:lnTo>
                  <a:lnTo>
                    <a:pt x="493" y="378"/>
                  </a:lnTo>
                  <a:lnTo>
                    <a:pt x="491" y="373"/>
                  </a:lnTo>
                  <a:lnTo>
                    <a:pt x="490" y="370"/>
                  </a:lnTo>
                  <a:lnTo>
                    <a:pt x="490" y="369"/>
                  </a:lnTo>
                  <a:lnTo>
                    <a:pt x="489" y="370"/>
                  </a:lnTo>
                  <a:lnTo>
                    <a:pt x="487" y="370"/>
                  </a:lnTo>
                  <a:lnTo>
                    <a:pt x="486" y="372"/>
                  </a:lnTo>
                  <a:lnTo>
                    <a:pt x="484" y="378"/>
                  </a:lnTo>
                  <a:lnTo>
                    <a:pt x="483" y="383"/>
                  </a:lnTo>
                  <a:lnTo>
                    <a:pt x="483" y="383"/>
                  </a:lnTo>
                  <a:lnTo>
                    <a:pt x="483" y="384"/>
                  </a:lnTo>
                  <a:lnTo>
                    <a:pt x="483" y="386"/>
                  </a:lnTo>
                  <a:lnTo>
                    <a:pt x="483" y="387"/>
                  </a:lnTo>
                  <a:lnTo>
                    <a:pt x="484" y="387"/>
                  </a:lnTo>
                  <a:lnTo>
                    <a:pt x="481" y="388"/>
                  </a:lnTo>
                  <a:lnTo>
                    <a:pt x="480" y="388"/>
                  </a:lnTo>
                  <a:lnTo>
                    <a:pt x="480" y="388"/>
                  </a:lnTo>
                  <a:lnTo>
                    <a:pt x="479" y="389"/>
                  </a:lnTo>
                  <a:lnTo>
                    <a:pt x="478" y="390"/>
                  </a:lnTo>
                  <a:lnTo>
                    <a:pt x="474" y="394"/>
                  </a:lnTo>
                  <a:lnTo>
                    <a:pt x="472" y="397"/>
                  </a:lnTo>
                  <a:lnTo>
                    <a:pt x="472" y="397"/>
                  </a:lnTo>
                  <a:lnTo>
                    <a:pt x="471" y="399"/>
                  </a:lnTo>
                  <a:lnTo>
                    <a:pt x="470" y="402"/>
                  </a:lnTo>
                  <a:lnTo>
                    <a:pt x="470" y="405"/>
                  </a:lnTo>
                  <a:lnTo>
                    <a:pt x="470" y="405"/>
                  </a:lnTo>
                  <a:lnTo>
                    <a:pt x="469" y="405"/>
                  </a:lnTo>
                  <a:lnTo>
                    <a:pt x="466" y="405"/>
                  </a:lnTo>
                  <a:lnTo>
                    <a:pt x="463" y="405"/>
                  </a:lnTo>
                  <a:lnTo>
                    <a:pt x="463" y="405"/>
                  </a:lnTo>
                  <a:lnTo>
                    <a:pt x="462" y="406"/>
                  </a:lnTo>
                  <a:lnTo>
                    <a:pt x="459" y="407"/>
                  </a:lnTo>
                  <a:lnTo>
                    <a:pt x="458" y="408"/>
                  </a:lnTo>
                  <a:lnTo>
                    <a:pt x="458" y="408"/>
                  </a:lnTo>
                  <a:lnTo>
                    <a:pt x="457" y="409"/>
                  </a:lnTo>
                  <a:lnTo>
                    <a:pt x="454" y="418"/>
                  </a:lnTo>
                  <a:lnTo>
                    <a:pt x="451" y="422"/>
                  </a:lnTo>
                  <a:lnTo>
                    <a:pt x="451" y="422"/>
                  </a:lnTo>
                  <a:lnTo>
                    <a:pt x="450" y="425"/>
                  </a:lnTo>
                  <a:lnTo>
                    <a:pt x="450" y="432"/>
                  </a:lnTo>
                  <a:lnTo>
                    <a:pt x="450" y="436"/>
                  </a:lnTo>
                  <a:lnTo>
                    <a:pt x="450" y="436"/>
                  </a:lnTo>
                  <a:lnTo>
                    <a:pt x="451" y="442"/>
                  </a:lnTo>
                  <a:lnTo>
                    <a:pt x="452" y="444"/>
                  </a:lnTo>
                  <a:lnTo>
                    <a:pt x="454" y="444"/>
                  </a:lnTo>
                  <a:lnTo>
                    <a:pt x="454" y="445"/>
                  </a:lnTo>
                  <a:lnTo>
                    <a:pt x="454" y="446"/>
                  </a:lnTo>
                  <a:lnTo>
                    <a:pt x="456" y="452"/>
                  </a:lnTo>
                  <a:lnTo>
                    <a:pt x="457" y="456"/>
                  </a:lnTo>
                  <a:lnTo>
                    <a:pt x="458" y="456"/>
                  </a:lnTo>
                  <a:lnTo>
                    <a:pt x="458" y="457"/>
                  </a:lnTo>
                  <a:lnTo>
                    <a:pt x="458" y="458"/>
                  </a:lnTo>
                  <a:lnTo>
                    <a:pt x="459" y="464"/>
                  </a:lnTo>
                  <a:lnTo>
                    <a:pt x="459" y="467"/>
                  </a:lnTo>
                  <a:lnTo>
                    <a:pt x="460" y="467"/>
                  </a:lnTo>
                  <a:lnTo>
                    <a:pt x="463" y="469"/>
                  </a:lnTo>
                  <a:lnTo>
                    <a:pt x="464" y="469"/>
                  </a:lnTo>
                  <a:lnTo>
                    <a:pt x="466" y="469"/>
                  </a:lnTo>
                  <a:lnTo>
                    <a:pt x="464" y="470"/>
                  </a:lnTo>
                  <a:lnTo>
                    <a:pt x="463" y="474"/>
                  </a:lnTo>
                  <a:lnTo>
                    <a:pt x="462" y="475"/>
                  </a:lnTo>
                  <a:lnTo>
                    <a:pt x="462" y="475"/>
                  </a:lnTo>
                  <a:lnTo>
                    <a:pt x="461" y="476"/>
                  </a:lnTo>
                  <a:lnTo>
                    <a:pt x="460" y="478"/>
                  </a:lnTo>
                  <a:lnTo>
                    <a:pt x="455" y="484"/>
                  </a:lnTo>
                  <a:lnTo>
                    <a:pt x="450" y="489"/>
                  </a:lnTo>
                  <a:lnTo>
                    <a:pt x="450" y="489"/>
                  </a:lnTo>
                  <a:lnTo>
                    <a:pt x="449" y="490"/>
                  </a:lnTo>
                  <a:lnTo>
                    <a:pt x="448" y="491"/>
                  </a:lnTo>
                  <a:lnTo>
                    <a:pt x="445" y="495"/>
                  </a:lnTo>
                  <a:lnTo>
                    <a:pt x="443" y="499"/>
                  </a:lnTo>
                  <a:lnTo>
                    <a:pt x="443" y="499"/>
                  </a:lnTo>
                  <a:lnTo>
                    <a:pt x="441" y="499"/>
                  </a:lnTo>
                  <a:lnTo>
                    <a:pt x="440" y="499"/>
                  </a:lnTo>
                  <a:lnTo>
                    <a:pt x="437" y="499"/>
                  </a:lnTo>
                  <a:lnTo>
                    <a:pt x="434" y="499"/>
                  </a:lnTo>
                  <a:lnTo>
                    <a:pt x="434" y="499"/>
                  </a:lnTo>
                  <a:lnTo>
                    <a:pt x="434" y="501"/>
                  </a:lnTo>
                  <a:lnTo>
                    <a:pt x="433" y="504"/>
                  </a:lnTo>
                  <a:lnTo>
                    <a:pt x="433" y="506"/>
                  </a:lnTo>
                  <a:lnTo>
                    <a:pt x="434" y="506"/>
                  </a:lnTo>
                  <a:lnTo>
                    <a:pt x="433" y="510"/>
                  </a:lnTo>
                  <a:lnTo>
                    <a:pt x="433" y="511"/>
                  </a:lnTo>
                  <a:lnTo>
                    <a:pt x="433" y="511"/>
                  </a:lnTo>
                  <a:lnTo>
                    <a:pt x="432" y="512"/>
                  </a:lnTo>
                  <a:lnTo>
                    <a:pt x="428" y="519"/>
                  </a:lnTo>
                  <a:lnTo>
                    <a:pt x="426" y="524"/>
                  </a:lnTo>
                  <a:lnTo>
                    <a:pt x="426" y="524"/>
                  </a:lnTo>
                  <a:lnTo>
                    <a:pt x="425" y="526"/>
                  </a:lnTo>
                  <a:lnTo>
                    <a:pt x="425" y="530"/>
                  </a:lnTo>
                  <a:lnTo>
                    <a:pt x="425" y="534"/>
                  </a:lnTo>
                  <a:lnTo>
                    <a:pt x="425" y="534"/>
                  </a:lnTo>
                  <a:lnTo>
                    <a:pt x="424" y="536"/>
                  </a:lnTo>
                  <a:lnTo>
                    <a:pt x="423" y="539"/>
                  </a:lnTo>
                  <a:lnTo>
                    <a:pt x="423" y="541"/>
                  </a:lnTo>
                  <a:lnTo>
                    <a:pt x="423" y="541"/>
                  </a:lnTo>
                  <a:lnTo>
                    <a:pt x="422" y="542"/>
                  </a:lnTo>
                  <a:lnTo>
                    <a:pt x="421" y="544"/>
                  </a:lnTo>
                  <a:lnTo>
                    <a:pt x="417" y="548"/>
                  </a:lnTo>
                  <a:lnTo>
                    <a:pt x="414" y="551"/>
                  </a:lnTo>
                  <a:lnTo>
                    <a:pt x="414" y="551"/>
                  </a:lnTo>
                  <a:lnTo>
                    <a:pt x="413" y="552"/>
                  </a:lnTo>
                  <a:lnTo>
                    <a:pt x="412" y="553"/>
                  </a:lnTo>
                  <a:lnTo>
                    <a:pt x="409" y="557"/>
                  </a:lnTo>
                  <a:lnTo>
                    <a:pt x="405" y="560"/>
                  </a:lnTo>
                  <a:lnTo>
                    <a:pt x="405" y="560"/>
                  </a:lnTo>
                  <a:lnTo>
                    <a:pt x="404" y="561"/>
                  </a:lnTo>
                  <a:lnTo>
                    <a:pt x="401" y="564"/>
                  </a:lnTo>
                  <a:lnTo>
                    <a:pt x="400" y="567"/>
                  </a:lnTo>
                  <a:lnTo>
                    <a:pt x="400" y="567"/>
                  </a:lnTo>
                  <a:lnTo>
                    <a:pt x="399" y="568"/>
                  </a:lnTo>
                  <a:lnTo>
                    <a:pt x="396" y="571"/>
                  </a:lnTo>
                  <a:lnTo>
                    <a:pt x="393" y="573"/>
                  </a:lnTo>
                  <a:lnTo>
                    <a:pt x="393" y="573"/>
                  </a:lnTo>
                  <a:lnTo>
                    <a:pt x="392" y="574"/>
                  </a:lnTo>
                  <a:lnTo>
                    <a:pt x="386" y="577"/>
                  </a:lnTo>
                  <a:lnTo>
                    <a:pt x="382" y="580"/>
                  </a:lnTo>
                  <a:lnTo>
                    <a:pt x="382" y="580"/>
                  </a:lnTo>
                  <a:lnTo>
                    <a:pt x="380" y="581"/>
                  </a:lnTo>
                  <a:lnTo>
                    <a:pt x="375" y="583"/>
                  </a:lnTo>
                  <a:lnTo>
                    <a:pt x="370" y="584"/>
                  </a:lnTo>
                  <a:lnTo>
                    <a:pt x="370" y="584"/>
                  </a:lnTo>
                  <a:lnTo>
                    <a:pt x="368" y="585"/>
                  </a:lnTo>
                  <a:lnTo>
                    <a:pt x="362" y="586"/>
                  </a:lnTo>
                  <a:lnTo>
                    <a:pt x="357" y="587"/>
                  </a:lnTo>
                  <a:lnTo>
                    <a:pt x="357" y="587"/>
                  </a:lnTo>
                  <a:lnTo>
                    <a:pt x="356" y="588"/>
                  </a:lnTo>
                  <a:lnTo>
                    <a:pt x="355" y="590"/>
                  </a:lnTo>
                  <a:lnTo>
                    <a:pt x="351" y="593"/>
                  </a:lnTo>
                  <a:lnTo>
                    <a:pt x="347" y="595"/>
                  </a:lnTo>
                  <a:lnTo>
                    <a:pt x="347" y="595"/>
                  </a:lnTo>
                  <a:lnTo>
                    <a:pt x="345" y="596"/>
                  </a:lnTo>
                  <a:lnTo>
                    <a:pt x="342" y="597"/>
                  </a:lnTo>
                  <a:lnTo>
                    <a:pt x="339" y="597"/>
                  </a:lnTo>
                  <a:lnTo>
                    <a:pt x="339" y="597"/>
                  </a:lnTo>
                  <a:lnTo>
                    <a:pt x="335" y="598"/>
                  </a:lnTo>
                  <a:lnTo>
                    <a:pt x="329" y="599"/>
                  </a:lnTo>
                  <a:lnTo>
                    <a:pt x="325" y="599"/>
                  </a:lnTo>
                  <a:lnTo>
                    <a:pt x="325" y="599"/>
                  </a:lnTo>
                  <a:lnTo>
                    <a:pt x="323" y="600"/>
                  </a:lnTo>
                  <a:lnTo>
                    <a:pt x="317" y="604"/>
                  </a:lnTo>
                  <a:lnTo>
                    <a:pt x="313" y="606"/>
                  </a:lnTo>
                  <a:lnTo>
                    <a:pt x="313" y="606"/>
                  </a:lnTo>
                  <a:lnTo>
                    <a:pt x="311" y="606"/>
                  </a:lnTo>
                  <a:lnTo>
                    <a:pt x="310" y="606"/>
                  </a:lnTo>
                  <a:lnTo>
                    <a:pt x="306" y="605"/>
                  </a:lnTo>
                  <a:lnTo>
                    <a:pt x="303" y="604"/>
                  </a:lnTo>
                  <a:lnTo>
                    <a:pt x="303" y="603"/>
                  </a:lnTo>
                  <a:lnTo>
                    <a:pt x="299" y="604"/>
                  </a:lnTo>
                  <a:lnTo>
                    <a:pt x="293" y="605"/>
                  </a:lnTo>
                  <a:lnTo>
                    <a:pt x="288" y="605"/>
                  </a:lnTo>
                  <a:lnTo>
                    <a:pt x="288" y="605"/>
                  </a:lnTo>
                  <a:lnTo>
                    <a:pt x="287" y="606"/>
                  </a:lnTo>
                  <a:lnTo>
                    <a:pt x="286" y="607"/>
                  </a:lnTo>
                  <a:lnTo>
                    <a:pt x="283" y="610"/>
                  </a:lnTo>
                  <a:lnTo>
                    <a:pt x="281" y="614"/>
                  </a:lnTo>
                  <a:lnTo>
                    <a:pt x="281" y="614"/>
                  </a:lnTo>
                  <a:lnTo>
                    <a:pt x="280" y="615"/>
                  </a:lnTo>
                  <a:lnTo>
                    <a:pt x="279" y="617"/>
                  </a:lnTo>
                  <a:lnTo>
                    <a:pt x="272" y="623"/>
                  </a:lnTo>
                  <a:lnTo>
                    <a:pt x="268" y="628"/>
                  </a:lnTo>
                  <a:lnTo>
                    <a:pt x="268" y="628"/>
                  </a:lnTo>
                  <a:lnTo>
                    <a:pt x="265" y="629"/>
                  </a:lnTo>
                  <a:lnTo>
                    <a:pt x="261" y="630"/>
                  </a:lnTo>
                  <a:lnTo>
                    <a:pt x="258" y="630"/>
                  </a:lnTo>
                  <a:lnTo>
                    <a:pt x="258" y="630"/>
                  </a:lnTo>
                  <a:lnTo>
                    <a:pt x="256" y="631"/>
                  </a:lnTo>
                  <a:lnTo>
                    <a:pt x="250" y="632"/>
                  </a:lnTo>
                  <a:lnTo>
                    <a:pt x="247" y="632"/>
                  </a:lnTo>
                  <a:lnTo>
                    <a:pt x="247" y="632"/>
                  </a:lnTo>
                  <a:lnTo>
                    <a:pt x="246" y="633"/>
                  </a:lnTo>
                  <a:lnTo>
                    <a:pt x="240" y="635"/>
                  </a:lnTo>
                  <a:lnTo>
                    <a:pt x="237" y="637"/>
                  </a:lnTo>
                  <a:lnTo>
                    <a:pt x="237" y="637"/>
                  </a:lnTo>
                  <a:lnTo>
                    <a:pt x="236" y="638"/>
                  </a:lnTo>
                  <a:lnTo>
                    <a:pt x="231" y="641"/>
                  </a:lnTo>
                  <a:lnTo>
                    <a:pt x="227" y="643"/>
                  </a:lnTo>
                  <a:lnTo>
                    <a:pt x="227" y="643"/>
                  </a:lnTo>
                  <a:lnTo>
                    <a:pt x="226" y="644"/>
                  </a:lnTo>
                  <a:lnTo>
                    <a:pt x="225" y="645"/>
                  </a:lnTo>
                  <a:lnTo>
                    <a:pt x="221" y="651"/>
                  </a:lnTo>
                  <a:lnTo>
                    <a:pt x="217" y="654"/>
                  </a:lnTo>
                  <a:lnTo>
                    <a:pt x="217" y="654"/>
                  </a:lnTo>
                  <a:lnTo>
                    <a:pt x="215" y="655"/>
                  </a:lnTo>
                  <a:lnTo>
                    <a:pt x="212" y="656"/>
                  </a:lnTo>
                  <a:lnTo>
                    <a:pt x="209" y="657"/>
                  </a:lnTo>
                  <a:lnTo>
                    <a:pt x="209" y="657"/>
                  </a:lnTo>
                  <a:lnTo>
                    <a:pt x="208" y="658"/>
                  </a:lnTo>
                  <a:lnTo>
                    <a:pt x="203" y="660"/>
                  </a:lnTo>
                  <a:lnTo>
                    <a:pt x="201" y="661"/>
                  </a:lnTo>
                  <a:lnTo>
                    <a:pt x="201" y="661"/>
                  </a:lnTo>
                  <a:lnTo>
                    <a:pt x="200" y="661"/>
                  </a:lnTo>
                  <a:lnTo>
                    <a:pt x="199" y="661"/>
                  </a:lnTo>
                  <a:lnTo>
                    <a:pt x="193" y="661"/>
                  </a:lnTo>
                  <a:lnTo>
                    <a:pt x="189" y="661"/>
                  </a:lnTo>
                  <a:lnTo>
                    <a:pt x="189" y="661"/>
                  </a:lnTo>
                  <a:lnTo>
                    <a:pt x="188" y="661"/>
                  </a:lnTo>
                  <a:lnTo>
                    <a:pt x="187" y="661"/>
                  </a:lnTo>
                  <a:lnTo>
                    <a:pt x="184" y="661"/>
                  </a:lnTo>
                  <a:lnTo>
                    <a:pt x="180" y="661"/>
                  </a:lnTo>
                  <a:lnTo>
                    <a:pt x="180" y="660"/>
                  </a:lnTo>
                  <a:lnTo>
                    <a:pt x="179" y="660"/>
                  </a:lnTo>
                  <a:lnTo>
                    <a:pt x="178" y="660"/>
                  </a:lnTo>
                  <a:lnTo>
                    <a:pt x="175" y="660"/>
                  </a:lnTo>
                  <a:lnTo>
                    <a:pt x="173" y="660"/>
                  </a:lnTo>
                  <a:lnTo>
                    <a:pt x="173" y="660"/>
                  </a:lnTo>
                  <a:lnTo>
                    <a:pt x="171" y="660"/>
                  </a:lnTo>
                  <a:lnTo>
                    <a:pt x="170" y="660"/>
                  </a:lnTo>
                  <a:lnTo>
                    <a:pt x="166" y="660"/>
                  </a:lnTo>
                  <a:lnTo>
                    <a:pt x="163" y="660"/>
                  </a:lnTo>
                  <a:lnTo>
                    <a:pt x="163" y="660"/>
                  </a:lnTo>
                  <a:lnTo>
                    <a:pt x="161" y="658"/>
                  </a:lnTo>
                  <a:lnTo>
                    <a:pt x="159" y="657"/>
                  </a:lnTo>
                  <a:lnTo>
                    <a:pt x="158" y="658"/>
                  </a:lnTo>
                  <a:lnTo>
                    <a:pt x="157" y="660"/>
                  </a:lnTo>
                  <a:lnTo>
                    <a:pt x="157" y="660"/>
                  </a:lnTo>
                  <a:lnTo>
                    <a:pt x="156" y="661"/>
                  </a:lnTo>
                  <a:lnTo>
                    <a:pt x="152" y="663"/>
                  </a:lnTo>
                  <a:lnTo>
                    <a:pt x="150" y="664"/>
                  </a:lnTo>
                  <a:lnTo>
                    <a:pt x="150" y="664"/>
                  </a:lnTo>
                  <a:lnTo>
                    <a:pt x="149" y="665"/>
                  </a:lnTo>
                  <a:lnTo>
                    <a:pt x="147" y="666"/>
                  </a:lnTo>
                  <a:lnTo>
                    <a:pt x="143" y="670"/>
                  </a:lnTo>
                  <a:lnTo>
                    <a:pt x="140" y="674"/>
                  </a:lnTo>
                  <a:lnTo>
                    <a:pt x="140" y="674"/>
                  </a:lnTo>
                  <a:lnTo>
                    <a:pt x="139" y="675"/>
                  </a:lnTo>
                  <a:lnTo>
                    <a:pt x="135" y="678"/>
                  </a:lnTo>
                  <a:lnTo>
                    <a:pt x="133" y="679"/>
                  </a:lnTo>
                  <a:lnTo>
                    <a:pt x="133" y="679"/>
                  </a:lnTo>
                  <a:lnTo>
                    <a:pt x="132" y="680"/>
                  </a:lnTo>
                  <a:lnTo>
                    <a:pt x="129" y="684"/>
                  </a:lnTo>
                  <a:lnTo>
                    <a:pt x="128" y="685"/>
                  </a:lnTo>
                  <a:lnTo>
                    <a:pt x="128" y="685"/>
                  </a:lnTo>
                  <a:lnTo>
                    <a:pt x="127" y="686"/>
                  </a:lnTo>
                  <a:lnTo>
                    <a:pt x="122" y="688"/>
                  </a:lnTo>
                  <a:lnTo>
                    <a:pt x="120" y="689"/>
                  </a:lnTo>
                  <a:lnTo>
                    <a:pt x="120" y="689"/>
                  </a:lnTo>
                  <a:lnTo>
                    <a:pt x="119" y="690"/>
                  </a:lnTo>
                  <a:lnTo>
                    <a:pt x="116" y="692"/>
                  </a:lnTo>
                  <a:lnTo>
                    <a:pt x="114" y="693"/>
                  </a:lnTo>
                  <a:lnTo>
                    <a:pt x="114" y="693"/>
                  </a:lnTo>
                  <a:lnTo>
                    <a:pt x="112" y="696"/>
                  </a:lnTo>
                  <a:lnTo>
                    <a:pt x="110" y="701"/>
                  </a:lnTo>
                  <a:lnTo>
                    <a:pt x="109" y="705"/>
                  </a:lnTo>
                  <a:lnTo>
                    <a:pt x="109" y="705"/>
                  </a:lnTo>
                  <a:lnTo>
                    <a:pt x="108" y="707"/>
                  </a:lnTo>
                  <a:lnTo>
                    <a:pt x="104" y="710"/>
                  </a:lnTo>
                  <a:lnTo>
                    <a:pt x="102" y="711"/>
                  </a:lnTo>
                  <a:lnTo>
                    <a:pt x="102" y="711"/>
                  </a:lnTo>
                  <a:lnTo>
                    <a:pt x="100" y="712"/>
                  </a:lnTo>
                  <a:lnTo>
                    <a:pt x="97" y="716"/>
                  </a:lnTo>
                  <a:lnTo>
                    <a:pt x="95" y="720"/>
                  </a:lnTo>
                  <a:lnTo>
                    <a:pt x="95" y="720"/>
                  </a:lnTo>
                  <a:lnTo>
                    <a:pt x="94" y="722"/>
                  </a:lnTo>
                  <a:lnTo>
                    <a:pt x="93" y="725"/>
                  </a:lnTo>
                  <a:lnTo>
                    <a:pt x="92" y="728"/>
                  </a:lnTo>
                  <a:lnTo>
                    <a:pt x="92" y="728"/>
                  </a:lnTo>
                  <a:lnTo>
                    <a:pt x="89" y="730"/>
                  </a:lnTo>
                  <a:lnTo>
                    <a:pt x="84" y="732"/>
                  </a:lnTo>
                  <a:lnTo>
                    <a:pt x="80" y="733"/>
                  </a:lnTo>
                  <a:lnTo>
                    <a:pt x="80" y="733"/>
                  </a:lnTo>
                  <a:lnTo>
                    <a:pt x="77" y="734"/>
                  </a:lnTo>
                  <a:lnTo>
                    <a:pt x="74" y="735"/>
                  </a:lnTo>
                  <a:lnTo>
                    <a:pt x="72" y="735"/>
                  </a:lnTo>
                  <a:lnTo>
                    <a:pt x="72" y="735"/>
                  </a:lnTo>
                  <a:lnTo>
                    <a:pt x="71" y="736"/>
                  </a:lnTo>
                  <a:lnTo>
                    <a:pt x="68" y="740"/>
                  </a:lnTo>
                  <a:lnTo>
                    <a:pt x="65" y="744"/>
                  </a:lnTo>
                  <a:lnTo>
                    <a:pt x="65" y="744"/>
                  </a:lnTo>
                  <a:lnTo>
                    <a:pt x="61" y="746"/>
                  </a:lnTo>
                  <a:lnTo>
                    <a:pt x="60" y="746"/>
                  </a:lnTo>
                  <a:lnTo>
                    <a:pt x="60" y="746"/>
                  </a:lnTo>
                  <a:lnTo>
                    <a:pt x="59" y="747"/>
                  </a:lnTo>
                  <a:lnTo>
                    <a:pt x="55" y="750"/>
                  </a:lnTo>
                  <a:lnTo>
                    <a:pt x="51" y="751"/>
                  </a:lnTo>
                  <a:lnTo>
                    <a:pt x="51" y="751"/>
                  </a:lnTo>
                  <a:lnTo>
                    <a:pt x="50" y="753"/>
                  </a:lnTo>
                  <a:lnTo>
                    <a:pt x="47" y="756"/>
                  </a:lnTo>
                  <a:lnTo>
                    <a:pt x="45" y="757"/>
                  </a:lnTo>
                  <a:lnTo>
                    <a:pt x="45" y="757"/>
                  </a:lnTo>
                  <a:lnTo>
                    <a:pt x="44" y="759"/>
                  </a:lnTo>
                  <a:lnTo>
                    <a:pt x="42" y="763"/>
                  </a:lnTo>
                  <a:lnTo>
                    <a:pt x="41" y="767"/>
                  </a:lnTo>
                  <a:lnTo>
                    <a:pt x="41" y="767"/>
                  </a:lnTo>
                  <a:lnTo>
                    <a:pt x="40" y="768"/>
                  </a:lnTo>
                  <a:lnTo>
                    <a:pt x="39" y="772"/>
                  </a:lnTo>
                  <a:lnTo>
                    <a:pt x="38" y="774"/>
                  </a:lnTo>
                  <a:lnTo>
                    <a:pt x="38" y="774"/>
                  </a:lnTo>
                  <a:lnTo>
                    <a:pt x="37" y="778"/>
                  </a:lnTo>
                  <a:lnTo>
                    <a:pt x="36" y="784"/>
                  </a:lnTo>
                  <a:lnTo>
                    <a:pt x="36" y="789"/>
                  </a:lnTo>
                  <a:lnTo>
                    <a:pt x="36" y="789"/>
                  </a:lnTo>
                  <a:lnTo>
                    <a:pt x="35" y="790"/>
                  </a:lnTo>
                  <a:lnTo>
                    <a:pt x="34" y="791"/>
                  </a:lnTo>
                  <a:lnTo>
                    <a:pt x="30" y="794"/>
                  </a:lnTo>
                  <a:lnTo>
                    <a:pt x="28" y="797"/>
                  </a:lnTo>
                  <a:lnTo>
                    <a:pt x="28" y="797"/>
                  </a:lnTo>
                  <a:lnTo>
                    <a:pt x="27" y="797"/>
                  </a:lnTo>
                  <a:lnTo>
                    <a:pt x="24" y="797"/>
                  </a:lnTo>
                  <a:lnTo>
                    <a:pt x="22" y="797"/>
                  </a:lnTo>
                  <a:lnTo>
                    <a:pt x="22" y="797"/>
                  </a:lnTo>
                  <a:lnTo>
                    <a:pt x="22" y="794"/>
                  </a:lnTo>
                  <a:lnTo>
                    <a:pt x="22" y="792"/>
                  </a:lnTo>
                  <a:lnTo>
                    <a:pt x="23" y="791"/>
                  </a:lnTo>
                  <a:lnTo>
                    <a:pt x="23" y="790"/>
                  </a:lnTo>
                  <a:lnTo>
                    <a:pt x="22" y="786"/>
                  </a:lnTo>
                  <a:lnTo>
                    <a:pt x="22" y="784"/>
                  </a:lnTo>
                  <a:lnTo>
                    <a:pt x="23" y="783"/>
                  </a:lnTo>
                  <a:lnTo>
                    <a:pt x="21" y="782"/>
                  </a:lnTo>
                  <a:lnTo>
                    <a:pt x="20" y="781"/>
                  </a:lnTo>
                  <a:lnTo>
                    <a:pt x="18" y="778"/>
                  </a:lnTo>
                  <a:lnTo>
                    <a:pt x="18" y="777"/>
                  </a:lnTo>
                  <a:lnTo>
                    <a:pt x="20" y="775"/>
                  </a:lnTo>
                  <a:lnTo>
                    <a:pt x="21" y="774"/>
                  </a:lnTo>
                  <a:lnTo>
                    <a:pt x="22" y="772"/>
                  </a:lnTo>
                  <a:lnTo>
                    <a:pt x="22" y="769"/>
                  </a:lnTo>
                  <a:lnTo>
                    <a:pt x="21" y="765"/>
                  </a:lnTo>
                  <a:lnTo>
                    <a:pt x="21" y="762"/>
                  </a:lnTo>
                  <a:lnTo>
                    <a:pt x="21" y="761"/>
                  </a:lnTo>
                  <a:lnTo>
                    <a:pt x="20" y="757"/>
                  </a:lnTo>
                  <a:lnTo>
                    <a:pt x="20" y="754"/>
                  </a:lnTo>
                  <a:lnTo>
                    <a:pt x="20" y="753"/>
                  </a:lnTo>
                  <a:lnTo>
                    <a:pt x="18" y="754"/>
                  </a:lnTo>
                  <a:lnTo>
                    <a:pt x="15" y="757"/>
                  </a:lnTo>
                  <a:lnTo>
                    <a:pt x="14" y="759"/>
                  </a:lnTo>
                  <a:lnTo>
                    <a:pt x="14" y="759"/>
                  </a:lnTo>
                  <a:lnTo>
                    <a:pt x="13" y="760"/>
                  </a:lnTo>
                  <a:lnTo>
                    <a:pt x="12" y="762"/>
                  </a:lnTo>
                  <a:lnTo>
                    <a:pt x="11" y="763"/>
                  </a:lnTo>
                  <a:lnTo>
                    <a:pt x="11" y="763"/>
                  </a:lnTo>
                  <a:lnTo>
                    <a:pt x="10" y="767"/>
                  </a:lnTo>
                  <a:lnTo>
                    <a:pt x="7" y="773"/>
                  </a:lnTo>
                  <a:lnTo>
                    <a:pt x="6" y="779"/>
                  </a:lnTo>
                  <a:lnTo>
                    <a:pt x="6" y="779"/>
                  </a:lnTo>
                  <a:lnTo>
                    <a:pt x="5" y="780"/>
                  </a:lnTo>
                  <a:lnTo>
                    <a:pt x="3" y="785"/>
                  </a:lnTo>
                  <a:lnTo>
                    <a:pt x="2" y="789"/>
                  </a:lnTo>
                  <a:lnTo>
                    <a:pt x="2" y="789"/>
                  </a:lnTo>
                  <a:lnTo>
                    <a:pt x="2" y="791"/>
                  </a:lnTo>
                  <a:lnTo>
                    <a:pt x="1" y="797"/>
                  </a:lnTo>
                  <a:lnTo>
                    <a:pt x="1" y="802"/>
                  </a:lnTo>
                  <a:lnTo>
                    <a:pt x="2" y="802"/>
                  </a:lnTo>
                  <a:lnTo>
                    <a:pt x="1" y="804"/>
                  </a:lnTo>
                  <a:lnTo>
                    <a:pt x="0" y="809"/>
                  </a:lnTo>
                  <a:lnTo>
                    <a:pt x="0" y="813"/>
                  </a:lnTo>
                  <a:lnTo>
                    <a:pt x="0" y="813"/>
                  </a:lnTo>
                  <a:lnTo>
                    <a:pt x="1" y="815"/>
                  </a:lnTo>
                  <a:lnTo>
                    <a:pt x="5" y="820"/>
                  </a:lnTo>
                  <a:lnTo>
                    <a:pt x="9" y="824"/>
                  </a:lnTo>
                  <a:lnTo>
                    <a:pt x="10" y="824"/>
                  </a:lnTo>
                  <a:lnTo>
                    <a:pt x="10" y="825"/>
                  </a:lnTo>
                  <a:lnTo>
                    <a:pt x="10" y="826"/>
                  </a:lnTo>
                  <a:lnTo>
                    <a:pt x="11" y="829"/>
                  </a:lnTo>
                  <a:lnTo>
                    <a:pt x="11" y="831"/>
                  </a:lnTo>
                  <a:lnTo>
                    <a:pt x="12" y="831"/>
                  </a:lnTo>
                  <a:lnTo>
                    <a:pt x="12" y="835"/>
                  </a:lnTo>
                  <a:lnTo>
                    <a:pt x="11" y="841"/>
                  </a:lnTo>
                  <a:lnTo>
                    <a:pt x="11" y="845"/>
                  </a:lnTo>
                  <a:lnTo>
                    <a:pt x="12" y="845"/>
                  </a:lnTo>
                  <a:lnTo>
                    <a:pt x="12" y="847"/>
                  </a:lnTo>
                  <a:lnTo>
                    <a:pt x="12" y="848"/>
                  </a:lnTo>
                  <a:lnTo>
                    <a:pt x="13" y="851"/>
                  </a:lnTo>
                  <a:lnTo>
                    <a:pt x="13" y="853"/>
                  </a:lnTo>
                  <a:lnTo>
                    <a:pt x="14" y="853"/>
                  </a:lnTo>
                  <a:lnTo>
                    <a:pt x="14" y="855"/>
                  </a:lnTo>
                  <a:lnTo>
                    <a:pt x="13" y="860"/>
                  </a:lnTo>
                  <a:lnTo>
                    <a:pt x="13" y="863"/>
                  </a:lnTo>
                  <a:lnTo>
                    <a:pt x="14" y="863"/>
                  </a:lnTo>
                  <a:lnTo>
                    <a:pt x="13" y="866"/>
                  </a:lnTo>
                  <a:lnTo>
                    <a:pt x="13" y="875"/>
                  </a:lnTo>
                  <a:lnTo>
                    <a:pt x="13" y="882"/>
                  </a:lnTo>
                  <a:lnTo>
                    <a:pt x="13" y="882"/>
                  </a:lnTo>
                  <a:lnTo>
                    <a:pt x="12" y="883"/>
                  </a:lnTo>
                  <a:lnTo>
                    <a:pt x="11" y="884"/>
                  </a:lnTo>
                  <a:lnTo>
                    <a:pt x="7" y="887"/>
                  </a:lnTo>
                  <a:lnTo>
                    <a:pt x="4" y="889"/>
                  </a:lnTo>
                  <a:lnTo>
                    <a:pt x="4" y="889"/>
                  </a:lnTo>
                  <a:lnTo>
                    <a:pt x="4" y="889"/>
                  </a:lnTo>
                  <a:close/>
                </a:path>
              </a:pathLst>
            </a:custGeom>
            <a:noFill/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84920" y="5140440"/>
              <a:ext cx="7200" cy="1764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15" y="0"/>
                  </a:moveTo>
                  <a:lnTo>
                    <a:pt x="15" y="1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12"/>
                  </a:lnTo>
                  <a:lnTo>
                    <a:pt x="20" y="15"/>
                  </a:lnTo>
                  <a:lnTo>
                    <a:pt x="21" y="15"/>
                  </a:lnTo>
                  <a:lnTo>
                    <a:pt x="20" y="19"/>
                  </a:lnTo>
                  <a:lnTo>
                    <a:pt x="19" y="25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8" y="32"/>
                  </a:lnTo>
                  <a:lnTo>
                    <a:pt x="17" y="34"/>
                  </a:lnTo>
                  <a:lnTo>
                    <a:pt x="11" y="44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4" y="55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3" y="57"/>
                  </a:lnTo>
                  <a:lnTo>
                    <a:pt x="2" y="57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1" y="55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1" y="21"/>
                  </a:lnTo>
                  <a:lnTo>
                    <a:pt x="13" y="16"/>
                  </a:lnTo>
                  <a:lnTo>
                    <a:pt x="14" y="13"/>
                  </a:lnTo>
                  <a:lnTo>
                    <a:pt x="15" y="12"/>
                  </a:lnTo>
                  <a:lnTo>
                    <a:pt x="14" y="8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44880" y="5411520"/>
              <a:ext cx="5760" cy="216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2"/>
                  </a:moveTo>
                  <a:lnTo>
                    <a:pt x="1" y="2"/>
                  </a:lnTo>
                  <a:lnTo>
                    <a:pt x="7" y="2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4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44000" y="4922640"/>
              <a:ext cx="10440" cy="1044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4" y="4"/>
                  </a:moveTo>
                  <a:lnTo>
                    <a:pt x="4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8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3" y="14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4" y="22"/>
                  </a:lnTo>
                  <a:lnTo>
                    <a:pt x="24" y="25"/>
                  </a:lnTo>
                  <a:lnTo>
                    <a:pt x="24" y="27"/>
                  </a:lnTo>
                  <a:lnTo>
                    <a:pt x="25" y="27"/>
                  </a:lnTo>
                  <a:lnTo>
                    <a:pt x="26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7" y="31"/>
                  </a:lnTo>
                  <a:lnTo>
                    <a:pt x="23" y="34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7" y="35"/>
                  </a:lnTo>
                  <a:lnTo>
                    <a:pt x="11" y="35"/>
                  </a:lnTo>
                  <a:lnTo>
                    <a:pt x="6" y="35"/>
                  </a:lnTo>
                  <a:lnTo>
                    <a:pt x="6" y="34"/>
                  </a:lnTo>
                  <a:lnTo>
                    <a:pt x="5" y="33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0" y="13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844000" y="4876560"/>
              <a:ext cx="4680" cy="72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" y="25"/>
                  </a:moveTo>
                  <a:lnTo>
                    <a:pt x="0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6" y="5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2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05760" y="4879080"/>
              <a:ext cx="25560" cy="1152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2" y="5"/>
                  </a:move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1" y="11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31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6" y="8"/>
                  </a:lnTo>
                  <a:lnTo>
                    <a:pt x="48" y="7"/>
                  </a:lnTo>
                  <a:lnTo>
                    <a:pt x="49" y="5"/>
                  </a:lnTo>
                  <a:lnTo>
                    <a:pt x="53" y="2"/>
                  </a:lnTo>
                  <a:lnTo>
                    <a:pt x="55" y="1"/>
                  </a:lnTo>
                  <a:lnTo>
                    <a:pt x="56" y="0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2"/>
                  </a:lnTo>
                  <a:lnTo>
                    <a:pt x="65" y="7"/>
                  </a:lnTo>
                  <a:lnTo>
                    <a:pt x="66" y="9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67" y="12"/>
                  </a:lnTo>
                  <a:lnTo>
                    <a:pt x="67" y="13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8" y="17"/>
                  </a:lnTo>
                  <a:lnTo>
                    <a:pt x="68" y="20"/>
                  </a:lnTo>
                  <a:lnTo>
                    <a:pt x="69" y="20"/>
                  </a:lnTo>
                  <a:lnTo>
                    <a:pt x="68" y="21"/>
                  </a:lnTo>
                  <a:lnTo>
                    <a:pt x="65" y="23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3" y="25"/>
                  </a:lnTo>
                  <a:lnTo>
                    <a:pt x="60" y="28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58" y="31"/>
                  </a:lnTo>
                  <a:lnTo>
                    <a:pt x="56" y="32"/>
                  </a:lnTo>
                  <a:lnTo>
                    <a:pt x="49" y="37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3" y="40"/>
                  </a:lnTo>
                  <a:lnTo>
                    <a:pt x="42" y="40"/>
                  </a:lnTo>
                  <a:lnTo>
                    <a:pt x="38" y="40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1" y="37"/>
                  </a:lnTo>
                  <a:lnTo>
                    <a:pt x="29" y="36"/>
                  </a:lnTo>
                  <a:lnTo>
                    <a:pt x="29" y="35"/>
                  </a:lnTo>
                  <a:lnTo>
                    <a:pt x="21" y="32"/>
                  </a:lnTo>
                  <a:lnTo>
                    <a:pt x="18" y="31"/>
                  </a:lnTo>
                  <a:lnTo>
                    <a:pt x="18" y="29"/>
                  </a:lnTo>
                  <a:lnTo>
                    <a:pt x="13" y="27"/>
                  </a:lnTo>
                  <a:lnTo>
                    <a:pt x="11" y="26"/>
                  </a:lnTo>
                  <a:lnTo>
                    <a:pt x="11" y="25"/>
                  </a:lnTo>
                  <a:lnTo>
                    <a:pt x="10" y="24"/>
                  </a:lnTo>
                  <a:lnTo>
                    <a:pt x="9" y="21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2" y="9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699640" y="4882320"/>
              <a:ext cx="10440" cy="82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" y="27"/>
                  </a:move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5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6" y="13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7" y="23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4" y="25"/>
                  </a:lnTo>
                  <a:lnTo>
                    <a:pt x="18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9" y="26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905920" y="4972320"/>
              <a:ext cx="13320" cy="576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28" y="3"/>
                  </a:moveTo>
                  <a:lnTo>
                    <a:pt x="31" y="8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6"/>
                  </a:lnTo>
                  <a:lnTo>
                    <a:pt x="18" y="18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3" y="21"/>
                  </a:lnTo>
                  <a:lnTo>
                    <a:pt x="8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3" y="9"/>
                  </a:lnTo>
                  <a:lnTo>
                    <a:pt x="5" y="7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8" y="3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42920" y="5318280"/>
              <a:ext cx="28440" cy="8280"/>
            </a:xfrm>
            <a:custGeom>
              <a:avLst/>
              <a:gdLst/>
              <a:ahLst/>
              <a:rect l="l" t="t" r="r" b="b"/>
              <a:pathLst>
                <a:path w="78" h="31">
                  <a:moveTo>
                    <a:pt x="3" y="11"/>
                  </a:moveTo>
                  <a:lnTo>
                    <a:pt x="4" y="11"/>
                  </a:lnTo>
                  <a:lnTo>
                    <a:pt x="10" y="9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9" y="3"/>
                  </a:lnTo>
                  <a:lnTo>
                    <a:pt x="50" y="3"/>
                  </a:lnTo>
                  <a:lnTo>
                    <a:pt x="51" y="3"/>
                  </a:lnTo>
                  <a:lnTo>
                    <a:pt x="51" y="4"/>
                  </a:lnTo>
                  <a:lnTo>
                    <a:pt x="51" y="8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6" y="12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2" y="13"/>
                  </a:lnTo>
                  <a:lnTo>
                    <a:pt x="65" y="13"/>
                  </a:lnTo>
                  <a:lnTo>
                    <a:pt x="66" y="13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2" y="13"/>
                  </a:lnTo>
                  <a:lnTo>
                    <a:pt x="73" y="13"/>
                  </a:lnTo>
                  <a:lnTo>
                    <a:pt x="76" y="19"/>
                  </a:lnTo>
                  <a:lnTo>
                    <a:pt x="77" y="22"/>
                  </a:lnTo>
                  <a:lnTo>
                    <a:pt x="78" y="22"/>
                  </a:lnTo>
                  <a:lnTo>
                    <a:pt x="77" y="22"/>
                  </a:lnTo>
                  <a:lnTo>
                    <a:pt x="76" y="22"/>
                  </a:lnTo>
                  <a:lnTo>
                    <a:pt x="71" y="21"/>
                  </a:lnTo>
                  <a:lnTo>
                    <a:pt x="68" y="21"/>
                  </a:lnTo>
                  <a:lnTo>
                    <a:pt x="68" y="20"/>
                  </a:lnTo>
                  <a:lnTo>
                    <a:pt x="66" y="21"/>
                  </a:lnTo>
                  <a:lnTo>
                    <a:pt x="60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5" y="25"/>
                  </a:lnTo>
                  <a:lnTo>
                    <a:pt x="54" y="26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7" y="31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2" y="30"/>
                  </a:lnTo>
                  <a:lnTo>
                    <a:pt x="38" y="29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1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1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5" y="27"/>
                  </a:lnTo>
                  <a:lnTo>
                    <a:pt x="10" y="27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1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41640" y="5401080"/>
              <a:ext cx="7200" cy="936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0"/>
                  </a:moveTo>
                  <a:lnTo>
                    <a:pt x="8" y="2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7"/>
                  </a:lnTo>
                  <a:lnTo>
                    <a:pt x="19" y="22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19" y="30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2" y="33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8" y="29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7" y="19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84400" y="5414040"/>
              <a:ext cx="61560" cy="52920"/>
            </a:xfrm>
            <a:custGeom>
              <a:avLst/>
              <a:gdLst/>
              <a:ahLst/>
              <a:rect l="l" t="t" r="r" b="b"/>
              <a:pathLst>
                <a:path w="165" h="183">
                  <a:moveTo>
                    <a:pt x="3" y="20"/>
                  </a:moveTo>
                  <a:lnTo>
                    <a:pt x="2" y="22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7" y="50"/>
                  </a:lnTo>
                  <a:lnTo>
                    <a:pt x="7" y="51"/>
                  </a:lnTo>
                  <a:lnTo>
                    <a:pt x="7" y="54"/>
                  </a:lnTo>
                  <a:lnTo>
                    <a:pt x="10" y="61"/>
                  </a:lnTo>
                  <a:lnTo>
                    <a:pt x="11" y="67"/>
                  </a:lnTo>
                  <a:lnTo>
                    <a:pt x="12" y="67"/>
                  </a:lnTo>
                  <a:lnTo>
                    <a:pt x="12" y="68"/>
                  </a:lnTo>
                  <a:lnTo>
                    <a:pt x="12" y="69"/>
                  </a:lnTo>
                  <a:lnTo>
                    <a:pt x="14" y="74"/>
                  </a:lnTo>
                  <a:lnTo>
                    <a:pt x="15" y="78"/>
                  </a:lnTo>
                  <a:lnTo>
                    <a:pt x="17" y="78"/>
                  </a:lnTo>
                  <a:lnTo>
                    <a:pt x="17" y="79"/>
                  </a:lnTo>
                  <a:lnTo>
                    <a:pt x="17" y="80"/>
                  </a:lnTo>
                  <a:lnTo>
                    <a:pt x="18" y="83"/>
                  </a:lnTo>
                  <a:lnTo>
                    <a:pt x="19" y="86"/>
                  </a:lnTo>
                  <a:lnTo>
                    <a:pt x="20" y="86"/>
                  </a:lnTo>
                  <a:lnTo>
                    <a:pt x="22" y="92"/>
                  </a:lnTo>
                  <a:lnTo>
                    <a:pt x="23" y="95"/>
                  </a:lnTo>
                  <a:lnTo>
                    <a:pt x="24" y="95"/>
                  </a:lnTo>
                  <a:lnTo>
                    <a:pt x="27" y="98"/>
                  </a:lnTo>
                  <a:lnTo>
                    <a:pt x="30" y="100"/>
                  </a:lnTo>
                  <a:lnTo>
                    <a:pt x="31" y="100"/>
                  </a:lnTo>
                  <a:lnTo>
                    <a:pt x="30" y="101"/>
                  </a:lnTo>
                  <a:lnTo>
                    <a:pt x="29" y="102"/>
                  </a:lnTo>
                  <a:lnTo>
                    <a:pt x="25" y="106"/>
                  </a:lnTo>
                  <a:lnTo>
                    <a:pt x="23" y="109"/>
                  </a:lnTo>
                  <a:lnTo>
                    <a:pt x="23" y="109"/>
                  </a:lnTo>
                  <a:lnTo>
                    <a:pt x="22" y="108"/>
                  </a:lnTo>
                  <a:lnTo>
                    <a:pt x="20" y="104"/>
                  </a:lnTo>
                  <a:lnTo>
                    <a:pt x="19" y="101"/>
                  </a:lnTo>
                  <a:lnTo>
                    <a:pt x="19" y="100"/>
                  </a:lnTo>
                  <a:lnTo>
                    <a:pt x="17" y="94"/>
                  </a:lnTo>
                  <a:lnTo>
                    <a:pt x="15" y="91"/>
                  </a:lnTo>
                  <a:lnTo>
                    <a:pt x="15" y="90"/>
                  </a:lnTo>
                  <a:lnTo>
                    <a:pt x="15" y="91"/>
                  </a:lnTo>
                  <a:lnTo>
                    <a:pt x="15" y="92"/>
                  </a:lnTo>
                  <a:lnTo>
                    <a:pt x="15" y="97"/>
                  </a:lnTo>
                  <a:lnTo>
                    <a:pt x="15" y="101"/>
                  </a:lnTo>
                  <a:lnTo>
                    <a:pt x="17" y="101"/>
                  </a:lnTo>
                  <a:lnTo>
                    <a:pt x="17" y="102"/>
                  </a:lnTo>
                  <a:lnTo>
                    <a:pt x="17" y="105"/>
                  </a:lnTo>
                  <a:lnTo>
                    <a:pt x="19" y="117"/>
                  </a:lnTo>
                  <a:lnTo>
                    <a:pt x="20" y="126"/>
                  </a:lnTo>
                  <a:lnTo>
                    <a:pt x="21" y="126"/>
                  </a:lnTo>
                  <a:lnTo>
                    <a:pt x="22" y="130"/>
                  </a:lnTo>
                  <a:lnTo>
                    <a:pt x="23" y="132"/>
                  </a:lnTo>
                  <a:lnTo>
                    <a:pt x="24" y="132"/>
                  </a:lnTo>
                  <a:lnTo>
                    <a:pt x="25" y="135"/>
                  </a:lnTo>
                  <a:lnTo>
                    <a:pt x="26" y="136"/>
                  </a:lnTo>
                  <a:lnTo>
                    <a:pt x="29" y="138"/>
                  </a:lnTo>
                  <a:lnTo>
                    <a:pt x="30" y="138"/>
                  </a:lnTo>
                  <a:lnTo>
                    <a:pt x="31" y="143"/>
                  </a:lnTo>
                  <a:lnTo>
                    <a:pt x="32" y="146"/>
                  </a:lnTo>
                  <a:lnTo>
                    <a:pt x="33" y="146"/>
                  </a:lnTo>
                  <a:lnTo>
                    <a:pt x="33" y="147"/>
                  </a:lnTo>
                  <a:lnTo>
                    <a:pt x="33" y="148"/>
                  </a:lnTo>
                  <a:lnTo>
                    <a:pt x="35" y="153"/>
                  </a:lnTo>
                  <a:lnTo>
                    <a:pt x="36" y="156"/>
                  </a:lnTo>
                  <a:lnTo>
                    <a:pt x="37" y="156"/>
                  </a:lnTo>
                  <a:lnTo>
                    <a:pt x="38" y="158"/>
                  </a:lnTo>
                  <a:lnTo>
                    <a:pt x="42" y="160"/>
                  </a:lnTo>
                  <a:lnTo>
                    <a:pt x="44" y="161"/>
                  </a:lnTo>
                  <a:lnTo>
                    <a:pt x="45" y="161"/>
                  </a:lnTo>
                  <a:lnTo>
                    <a:pt x="49" y="162"/>
                  </a:lnTo>
                  <a:lnTo>
                    <a:pt x="52" y="162"/>
                  </a:lnTo>
                  <a:lnTo>
                    <a:pt x="53" y="162"/>
                  </a:lnTo>
                  <a:lnTo>
                    <a:pt x="52" y="163"/>
                  </a:lnTo>
                  <a:lnTo>
                    <a:pt x="49" y="165"/>
                  </a:lnTo>
                  <a:lnTo>
                    <a:pt x="48" y="166"/>
                  </a:lnTo>
                  <a:lnTo>
                    <a:pt x="48" y="166"/>
                  </a:lnTo>
                  <a:lnTo>
                    <a:pt x="44" y="168"/>
                  </a:lnTo>
                  <a:lnTo>
                    <a:pt x="43" y="168"/>
                  </a:lnTo>
                  <a:lnTo>
                    <a:pt x="43" y="168"/>
                  </a:lnTo>
                  <a:lnTo>
                    <a:pt x="43" y="170"/>
                  </a:lnTo>
                  <a:lnTo>
                    <a:pt x="44" y="173"/>
                  </a:lnTo>
                  <a:lnTo>
                    <a:pt x="44" y="174"/>
                  </a:lnTo>
                  <a:lnTo>
                    <a:pt x="45" y="174"/>
                  </a:lnTo>
                  <a:lnTo>
                    <a:pt x="46" y="174"/>
                  </a:lnTo>
                  <a:lnTo>
                    <a:pt x="49" y="174"/>
                  </a:lnTo>
                  <a:lnTo>
                    <a:pt x="52" y="174"/>
                  </a:lnTo>
                  <a:lnTo>
                    <a:pt x="53" y="174"/>
                  </a:lnTo>
                  <a:lnTo>
                    <a:pt x="54" y="175"/>
                  </a:lnTo>
                  <a:lnTo>
                    <a:pt x="57" y="177"/>
                  </a:lnTo>
                  <a:lnTo>
                    <a:pt x="60" y="178"/>
                  </a:lnTo>
                  <a:lnTo>
                    <a:pt x="61" y="178"/>
                  </a:lnTo>
                  <a:lnTo>
                    <a:pt x="64" y="177"/>
                  </a:lnTo>
                  <a:lnTo>
                    <a:pt x="66" y="176"/>
                  </a:lnTo>
                  <a:lnTo>
                    <a:pt x="69" y="178"/>
                  </a:lnTo>
                  <a:lnTo>
                    <a:pt x="70" y="178"/>
                  </a:lnTo>
                  <a:lnTo>
                    <a:pt x="71" y="178"/>
                  </a:lnTo>
                  <a:lnTo>
                    <a:pt x="72" y="182"/>
                  </a:lnTo>
                  <a:lnTo>
                    <a:pt x="73" y="183"/>
                  </a:lnTo>
                  <a:lnTo>
                    <a:pt x="74" y="183"/>
                  </a:lnTo>
                  <a:lnTo>
                    <a:pt x="78" y="183"/>
                  </a:lnTo>
                  <a:lnTo>
                    <a:pt x="79" y="183"/>
                  </a:lnTo>
                  <a:lnTo>
                    <a:pt x="80" y="182"/>
                  </a:lnTo>
                  <a:lnTo>
                    <a:pt x="83" y="178"/>
                  </a:lnTo>
                  <a:lnTo>
                    <a:pt x="85" y="177"/>
                  </a:lnTo>
                  <a:lnTo>
                    <a:pt x="87" y="176"/>
                  </a:lnTo>
                  <a:lnTo>
                    <a:pt x="87" y="175"/>
                  </a:lnTo>
                  <a:lnTo>
                    <a:pt x="88" y="172"/>
                  </a:lnTo>
                  <a:lnTo>
                    <a:pt x="88" y="170"/>
                  </a:lnTo>
                  <a:lnTo>
                    <a:pt x="89" y="168"/>
                  </a:lnTo>
                  <a:lnTo>
                    <a:pt x="89" y="167"/>
                  </a:lnTo>
                  <a:lnTo>
                    <a:pt x="90" y="164"/>
                  </a:lnTo>
                  <a:lnTo>
                    <a:pt x="90" y="162"/>
                  </a:lnTo>
                  <a:lnTo>
                    <a:pt x="91" y="161"/>
                  </a:lnTo>
                  <a:lnTo>
                    <a:pt x="92" y="159"/>
                  </a:lnTo>
                  <a:lnTo>
                    <a:pt x="93" y="158"/>
                  </a:lnTo>
                  <a:lnTo>
                    <a:pt x="94" y="156"/>
                  </a:lnTo>
                  <a:lnTo>
                    <a:pt x="97" y="159"/>
                  </a:lnTo>
                  <a:lnTo>
                    <a:pt x="99" y="159"/>
                  </a:lnTo>
                  <a:lnTo>
                    <a:pt x="100" y="159"/>
                  </a:lnTo>
                  <a:lnTo>
                    <a:pt x="100" y="160"/>
                  </a:lnTo>
                  <a:lnTo>
                    <a:pt x="101" y="163"/>
                  </a:lnTo>
                  <a:lnTo>
                    <a:pt x="101" y="164"/>
                  </a:lnTo>
                  <a:lnTo>
                    <a:pt x="102" y="164"/>
                  </a:lnTo>
                  <a:lnTo>
                    <a:pt x="103" y="160"/>
                  </a:lnTo>
                  <a:lnTo>
                    <a:pt x="104" y="158"/>
                  </a:lnTo>
                  <a:lnTo>
                    <a:pt x="105" y="156"/>
                  </a:lnTo>
                  <a:lnTo>
                    <a:pt x="108" y="154"/>
                  </a:lnTo>
                  <a:lnTo>
                    <a:pt x="111" y="153"/>
                  </a:lnTo>
                  <a:lnTo>
                    <a:pt x="112" y="152"/>
                  </a:lnTo>
                  <a:lnTo>
                    <a:pt x="114" y="150"/>
                  </a:lnTo>
                  <a:lnTo>
                    <a:pt x="115" y="149"/>
                  </a:lnTo>
                  <a:lnTo>
                    <a:pt x="116" y="148"/>
                  </a:lnTo>
                  <a:lnTo>
                    <a:pt x="115" y="144"/>
                  </a:lnTo>
                  <a:lnTo>
                    <a:pt x="115" y="142"/>
                  </a:lnTo>
                  <a:lnTo>
                    <a:pt x="116" y="141"/>
                  </a:lnTo>
                  <a:lnTo>
                    <a:pt x="117" y="140"/>
                  </a:lnTo>
                  <a:lnTo>
                    <a:pt x="118" y="138"/>
                  </a:lnTo>
                  <a:lnTo>
                    <a:pt x="119" y="139"/>
                  </a:lnTo>
                  <a:lnTo>
                    <a:pt x="123" y="140"/>
                  </a:lnTo>
                  <a:lnTo>
                    <a:pt x="125" y="141"/>
                  </a:lnTo>
                  <a:lnTo>
                    <a:pt x="126" y="141"/>
                  </a:lnTo>
                  <a:lnTo>
                    <a:pt x="129" y="142"/>
                  </a:lnTo>
                  <a:lnTo>
                    <a:pt x="130" y="142"/>
                  </a:lnTo>
                  <a:lnTo>
                    <a:pt x="131" y="142"/>
                  </a:lnTo>
                  <a:lnTo>
                    <a:pt x="134" y="141"/>
                  </a:lnTo>
                  <a:lnTo>
                    <a:pt x="135" y="140"/>
                  </a:lnTo>
                  <a:lnTo>
                    <a:pt x="136" y="139"/>
                  </a:lnTo>
                  <a:lnTo>
                    <a:pt x="136" y="137"/>
                  </a:lnTo>
                  <a:lnTo>
                    <a:pt x="137" y="130"/>
                  </a:lnTo>
                  <a:lnTo>
                    <a:pt x="138" y="125"/>
                  </a:lnTo>
                  <a:lnTo>
                    <a:pt x="139" y="124"/>
                  </a:lnTo>
                  <a:lnTo>
                    <a:pt x="140" y="124"/>
                  </a:lnTo>
                  <a:lnTo>
                    <a:pt x="141" y="124"/>
                  </a:lnTo>
                  <a:lnTo>
                    <a:pt x="142" y="123"/>
                  </a:lnTo>
                  <a:lnTo>
                    <a:pt x="142" y="121"/>
                  </a:lnTo>
                  <a:lnTo>
                    <a:pt x="143" y="116"/>
                  </a:lnTo>
                  <a:lnTo>
                    <a:pt x="143" y="113"/>
                  </a:lnTo>
                  <a:lnTo>
                    <a:pt x="144" y="112"/>
                  </a:lnTo>
                  <a:lnTo>
                    <a:pt x="148" y="107"/>
                  </a:lnTo>
                  <a:lnTo>
                    <a:pt x="149" y="105"/>
                  </a:lnTo>
                  <a:lnTo>
                    <a:pt x="150" y="104"/>
                  </a:lnTo>
                  <a:lnTo>
                    <a:pt x="153" y="101"/>
                  </a:lnTo>
                  <a:lnTo>
                    <a:pt x="154" y="98"/>
                  </a:lnTo>
                  <a:lnTo>
                    <a:pt x="155" y="97"/>
                  </a:lnTo>
                  <a:lnTo>
                    <a:pt x="155" y="94"/>
                  </a:lnTo>
                  <a:lnTo>
                    <a:pt x="155" y="93"/>
                  </a:lnTo>
                  <a:lnTo>
                    <a:pt x="156" y="92"/>
                  </a:lnTo>
                  <a:lnTo>
                    <a:pt x="156" y="93"/>
                  </a:lnTo>
                  <a:lnTo>
                    <a:pt x="158" y="96"/>
                  </a:lnTo>
                  <a:lnTo>
                    <a:pt x="158" y="98"/>
                  </a:lnTo>
                  <a:lnTo>
                    <a:pt x="159" y="98"/>
                  </a:lnTo>
                  <a:lnTo>
                    <a:pt x="158" y="101"/>
                  </a:lnTo>
                  <a:lnTo>
                    <a:pt x="158" y="104"/>
                  </a:lnTo>
                  <a:lnTo>
                    <a:pt x="158" y="106"/>
                  </a:lnTo>
                  <a:lnTo>
                    <a:pt x="158" y="106"/>
                  </a:lnTo>
                  <a:lnTo>
                    <a:pt x="158" y="108"/>
                  </a:lnTo>
                  <a:lnTo>
                    <a:pt x="156" y="112"/>
                  </a:lnTo>
                  <a:lnTo>
                    <a:pt x="156" y="114"/>
                  </a:lnTo>
                  <a:lnTo>
                    <a:pt x="158" y="114"/>
                  </a:lnTo>
                  <a:lnTo>
                    <a:pt x="158" y="113"/>
                  </a:lnTo>
                  <a:lnTo>
                    <a:pt x="159" y="108"/>
                  </a:lnTo>
                  <a:lnTo>
                    <a:pt x="159" y="105"/>
                  </a:lnTo>
                  <a:lnTo>
                    <a:pt x="160" y="104"/>
                  </a:lnTo>
                  <a:lnTo>
                    <a:pt x="159" y="101"/>
                  </a:lnTo>
                  <a:lnTo>
                    <a:pt x="159" y="100"/>
                  </a:lnTo>
                  <a:lnTo>
                    <a:pt x="160" y="98"/>
                  </a:lnTo>
                  <a:lnTo>
                    <a:pt x="160" y="96"/>
                  </a:lnTo>
                  <a:lnTo>
                    <a:pt x="159" y="90"/>
                  </a:lnTo>
                  <a:lnTo>
                    <a:pt x="159" y="85"/>
                  </a:lnTo>
                  <a:lnTo>
                    <a:pt x="160" y="84"/>
                  </a:lnTo>
                  <a:lnTo>
                    <a:pt x="160" y="82"/>
                  </a:lnTo>
                  <a:lnTo>
                    <a:pt x="161" y="74"/>
                  </a:lnTo>
                  <a:lnTo>
                    <a:pt x="161" y="69"/>
                  </a:lnTo>
                  <a:lnTo>
                    <a:pt x="162" y="68"/>
                  </a:lnTo>
                  <a:lnTo>
                    <a:pt x="162" y="67"/>
                  </a:lnTo>
                  <a:lnTo>
                    <a:pt x="163" y="63"/>
                  </a:lnTo>
                  <a:lnTo>
                    <a:pt x="164" y="60"/>
                  </a:lnTo>
                  <a:lnTo>
                    <a:pt x="165" y="59"/>
                  </a:lnTo>
                  <a:lnTo>
                    <a:pt x="165" y="58"/>
                  </a:lnTo>
                  <a:lnTo>
                    <a:pt x="164" y="55"/>
                  </a:lnTo>
                  <a:lnTo>
                    <a:pt x="164" y="51"/>
                  </a:lnTo>
                  <a:lnTo>
                    <a:pt x="165" y="50"/>
                  </a:lnTo>
                  <a:lnTo>
                    <a:pt x="165" y="48"/>
                  </a:lnTo>
                  <a:lnTo>
                    <a:pt x="164" y="39"/>
                  </a:lnTo>
                  <a:lnTo>
                    <a:pt x="164" y="33"/>
                  </a:lnTo>
                  <a:lnTo>
                    <a:pt x="165" y="32"/>
                  </a:lnTo>
                  <a:lnTo>
                    <a:pt x="164" y="31"/>
                  </a:lnTo>
                  <a:lnTo>
                    <a:pt x="161" y="26"/>
                  </a:lnTo>
                  <a:lnTo>
                    <a:pt x="159" y="23"/>
                  </a:lnTo>
                  <a:lnTo>
                    <a:pt x="159" y="22"/>
                  </a:lnTo>
                  <a:lnTo>
                    <a:pt x="154" y="20"/>
                  </a:lnTo>
                  <a:lnTo>
                    <a:pt x="152" y="19"/>
                  </a:lnTo>
                  <a:lnTo>
                    <a:pt x="152" y="18"/>
                  </a:lnTo>
                  <a:lnTo>
                    <a:pt x="151" y="19"/>
                  </a:lnTo>
                  <a:lnTo>
                    <a:pt x="149" y="23"/>
                  </a:lnTo>
                  <a:lnTo>
                    <a:pt x="148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3" y="25"/>
                  </a:lnTo>
                  <a:lnTo>
                    <a:pt x="142" y="25"/>
                  </a:lnTo>
                  <a:lnTo>
                    <a:pt x="142" y="24"/>
                  </a:lnTo>
                  <a:lnTo>
                    <a:pt x="138" y="22"/>
                  </a:lnTo>
                  <a:lnTo>
                    <a:pt x="137" y="21"/>
                  </a:lnTo>
                  <a:lnTo>
                    <a:pt x="137" y="20"/>
                  </a:lnTo>
                  <a:lnTo>
                    <a:pt x="136" y="21"/>
                  </a:lnTo>
                  <a:lnTo>
                    <a:pt x="135" y="22"/>
                  </a:lnTo>
                  <a:lnTo>
                    <a:pt x="130" y="26"/>
                  </a:lnTo>
                  <a:lnTo>
                    <a:pt x="127" y="30"/>
                  </a:lnTo>
                  <a:lnTo>
                    <a:pt x="127" y="30"/>
                  </a:lnTo>
                  <a:lnTo>
                    <a:pt x="126" y="30"/>
                  </a:lnTo>
                  <a:lnTo>
                    <a:pt x="125" y="30"/>
                  </a:lnTo>
                  <a:lnTo>
                    <a:pt x="120" y="30"/>
                  </a:lnTo>
                  <a:lnTo>
                    <a:pt x="117" y="30"/>
                  </a:lnTo>
                  <a:lnTo>
                    <a:pt x="117" y="30"/>
                  </a:lnTo>
                  <a:lnTo>
                    <a:pt x="116" y="30"/>
                  </a:lnTo>
                  <a:lnTo>
                    <a:pt x="115" y="30"/>
                  </a:lnTo>
                  <a:lnTo>
                    <a:pt x="112" y="30"/>
                  </a:lnTo>
                  <a:lnTo>
                    <a:pt x="108" y="30"/>
                  </a:lnTo>
                  <a:lnTo>
                    <a:pt x="108" y="28"/>
                  </a:lnTo>
                  <a:lnTo>
                    <a:pt x="106" y="30"/>
                  </a:lnTo>
                  <a:lnTo>
                    <a:pt x="103" y="31"/>
                  </a:lnTo>
                  <a:lnTo>
                    <a:pt x="100" y="32"/>
                  </a:lnTo>
                  <a:lnTo>
                    <a:pt x="100" y="32"/>
                  </a:lnTo>
                  <a:lnTo>
                    <a:pt x="95" y="34"/>
                  </a:lnTo>
                  <a:lnTo>
                    <a:pt x="93" y="34"/>
                  </a:lnTo>
                  <a:lnTo>
                    <a:pt x="93" y="34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9" y="36"/>
                  </a:lnTo>
                  <a:lnTo>
                    <a:pt x="88" y="36"/>
                  </a:lnTo>
                  <a:lnTo>
                    <a:pt x="85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3" y="36"/>
                  </a:lnTo>
                  <a:lnTo>
                    <a:pt x="81" y="36"/>
                  </a:lnTo>
                  <a:lnTo>
                    <a:pt x="73" y="35"/>
                  </a:lnTo>
                  <a:lnTo>
                    <a:pt x="68" y="34"/>
                  </a:lnTo>
                  <a:lnTo>
                    <a:pt x="68" y="33"/>
                  </a:lnTo>
                  <a:lnTo>
                    <a:pt x="67" y="33"/>
                  </a:lnTo>
                  <a:lnTo>
                    <a:pt x="66" y="33"/>
                  </a:lnTo>
                  <a:lnTo>
                    <a:pt x="61" y="32"/>
                  </a:lnTo>
                  <a:lnTo>
                    <a:pt x="58" y="32"/>
                  </a:lnTo>
                  <a:lnTo>
                    <a:pt x="58" y="31"/>
                  </a:lnTo>
                  <a:lnTo>
                    <a:pt x="56" y="30"/>
                  </a:lnTo>
                  <a:lnTo>
                    <a:pt x="53" y="26"/>
                  </a:lnTo>
                  <a:lnTo>
                    <a:pt x="49" y="23"/>
                  </a:lnTo>
                  <a:lnTo>
                    <a:pt x="49" y="22"/>
                  </a:lnTo>
                  <a:lnTo>
                    <a:pt x="47" y="21"/>
                  </a:lnTo>
                  <a:lnTo>
                    <a:pt x="43" y="18"/>
                  </a:lnTo>
                  <a:lnTo>
                    <a:pt x="39" y="15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9" y="9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2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2054160" y="3576600"/>
            <a:ext cx="341280" cy="695520"/>
          </a:xfrm>
          <a:custGeom>
            <a:avLst/>
            <a:gdLst/>
            <a:ahLst/>
            <a:rect l="l" t="t" r="r" b="b"/>
            <a:pathLst>
              <a:path w="1192" h="2542">
                <a:moveTo>
                  <a:pt x="845" y="2449"/>
                </a:moveTo>
                <a:lnTo>
                  <a:pt x="848" y="2439"/>
                </a:lnTo>
                <a:lnTo>
                  <a:pt x="855" y="2419"/>
                </a:lnTo>
                <a:lnTo>
                  <a:pt x="869" y="2380"/>
                </a:lnTo>
                <a:lnTo>
                  <a:pt x="874" y="2338"/>
                </a:lnTo>
                <a:lnTo>
                  <a:pt x="872" y="2326"/>
                </a:lnTo>
                <a:lnTo>
                  <a:pt x="865" y="2330"/>
                </a:lnTo>
                <a:lnTo>
                  <a:pt x="850" y="2335"/>
                </a:lnTo>
                <a:lnTo>
                  <a:pt x="837" y="2338"/>
                </a:lnTo>
                <a:lnTo>
                  <a:pt x="811" y="2345"/>
                </a:lnTo>
                <a:lnTo>
                  <a:pt x="795" y="2361"/>
                </a:lnTo>
                <a:lnTo>
                  <a:pt x="798" y="2352"/>
                </a:lnTo>
                <a:lnTo>
                  <a:pt x="808" y="2336"/>
                </a:lnTo>
                <a:lnTo>
                  <a:pt x="821" y="2322"/>
                </a:lnTo>
                <a:lnTo>
                  <a:pt x="850" y="2297"/>
                </a:lnTo>
                <a:lnTo>
                  <a:pt x="871" y="2274"/>
                </a:lnTo>
                <a:lnTo>
                  <a:pt x="869" y="2271"/>
                </a:lnTo>
                <a:lnTo>
                  <a:pt x="868" y="2268"/>
                </a:lnTo>
                <a:lnTo>
                  <a:pt x="866" y="2264"/>
                </a:lnTo>
                <a:lnTo>
                  <a:pt x="863" y="2255"/>
                </a:lnTo>
                <a:lnTo>
                  <a:pt x="865" y="2249"/>
                </a:lnTo>
                <a:lnTo>
                  <a:pt x="861" y="2251"/>
                </a:lnTo>
                <a:lnTo>
                  <a:pt x="858" y="2249"/>
                </a:lnTo>
                <a:lnTo>
                  <a:pt x="855" y="2248"/>
                </a:lnTo>
                <a:lnTo>
                  <a:pt x="852" y="2246"/>
                </a:lnTo>
                <a:lnTo>
                  <a:pt x="848" y="2242"/>
                </a:lnTo>
                <a:lnTo>
                  <a:pt x="842" y="2239"/>
                </a:lnTo>
                <a:lnTo>
                  <a:pt x="836" y="2238"/>
                </a:lnTo>
                <a:lnTo>
                  <a:pt x="830" y="2240"/>
                </a:lnTo>
                <a:lnTo>
                  <a:pt x="830" y="2240"/>
                </a:lnTo>
                <a:lnTo>
                  <a:pt x="832" y="2238"/>
                </a:lnTo>
                <a:lnTo>
                  <a:pt x="832" y="2236"/>
                </a:lnTo>
                <a:lnTo>
                  <a:pt x="830" y="2233"/>
                </a:lnTo>
                <a:lnTo>
                  <a:pt x="827" y="2232"/>
                </a:lnTo>
                <a:lnTo>
                  <a:pt x="824" y="2230"/>
                </a:lnTo>
                <a:lnTo>
                  <a:pt x="819" y="2227"/>
                </a:lnTo>
                <a:lnTo>
                  <a:pt x="817" y="2220"/>
                </a:lnTo>
                <a:lnTo>
                  <a:pt x="821" y="2216"/>
                </a:lnTo>
                <a:lnTo>
                  <a:pt x="823" y="2216"/>
                </a:lnTo>
                <a:lnTo>
                  <a:pt x="824" y="2216"/>
                </a:lnTo>
                <a:lnTo>
                  <a:pt x="829" y="2216"/>
                </a:lnTo>
                <a:lnTo>
                  <a:pt x="833" y="2214"/>
                </a:lnTo>
                <a:lnTo>
                  <a:pt x="836" y="2213"/>
                </a:lnTo>
                <a:lnTo>
                  <a:pt x="842" y="2200"/>
                </a:lnTo>
                <a:lnTo>
                  <a:pt x="848" y="2172"/>
                </a:lnTo>
                <a:lnTo>
                  <a:pt x="846" y="2143"/>
                </a:lnTo>
                <a:lnTo>
                  <a:pt x="840" y="2117"/>
                </a:lnTo>
                <a:lnTo>
                  <a:pt x="829" y="2091"/>
                </a:lnTo>
                <a:lnTo>
                  <a:pt x="813" y="2070"/>
                </a:lnTo>
                <a:lnTo>
                  <a:pt x="804" y="2058"/>
                </a:lnTo>
                <a:lnTo>
                  <a:pt x="803" y="2062"/>
                </a:lnTo>
                <a:lnTo>
                  <a:pt x="800" y="2070"/>
                </a:lnTo>
                <a:lnTo>
                  <a:pt x="791" y="2083"/>
                </a:lnTo>
                <a:lnTo>
                  <a:pt x="781" y="2091"/>
                </a:lnTo>
                <a:lnTo>
                  <a:pt x="778" y="2093"/>
                </a:lnTo>
                <a:lnTo>
                  <a:pt x="779" y="2081"/>
                </a:lnTo>
                <a:lnTo>
                  <a:pt x="784" y="2056"/>
                </a:lnTo>
                <a:lnTo>
                  <a:pt x="788" y="2007"/>
                </a:lnTo>
                <a:lnTo>
                  <a:pt x="785" y="1959"/>
                </a:lnTo>
                <a:lnTo>
                  <a:pt x="784" y="1946"/>
                </a:lnTo>
                <a:lnTo>
                  <a:pt x="781" y="1943"/>
                </a:lnTo>
                <a:lnTo>
                  <a:pt x="777" y="1936"/>
                </a:lnTo>
                <a:lnTo>
                  <a:pt x="771" y="1930"/>
                </a:lnTo>
                <a:lnTo>
                  <a:pt x="759" y="1916"/>
                </a:lnTo>
                <a:lnTo>
                  <a:pt x="753" y="1903"/>
                </a:lnTo>
                <a:lnTo>
                  <a:pt x="749" y="1890"/>
                </a:lnTo>
                <a:lnTo>
                  <a:pt x="743" y="1862"/>
                </a:lnTo>
                <a:lnTo>
                  <a:pt x="737" y="1807"/>
                </a:lnTo>
                <a:lnTo>
                  <a:pt x="732" y="1752"/>
                </a:lnTo>
                <a:lnTo>
                  <a:pt x="729" y="1738"/>
                </a:lnTo>
                <a:lnTo>
                  <a:pt x="727" y="1733"/>
                </a:lnTo>
                <a:lnTo>
                  <a:pt x="727" y="1722"/>
                </a:lnTo>
                <a:lnTo>
                  <a:pt x="729" y="1710"/>
                </a:lnTo>
                <a:lnTo>
                  <a:pt x="736" y="1687"/>
                </a:lnTo>
                <a:lnTo>
                  <a:pt x="743" y="1670"/>
                </a:lnTo>
                <a:lnTo>
                  <a:pt x="737" y="1672"/>
                </a:lnTo>
                <a:lnTo>
                  <a:pt x="727" y="1675"/>
                </a:lnTo>
                <a:lnTo>
                  <a:pt x="708" y="1681"/>
                </a:lnTo>
                <a:lnTo>
                  <a:pt x="698" y="1681"/>
                </a:lnTo>
                <a:lnTo>
                  <a:pt x="688" y="1678"/>
                </a:lnTo>
                <a:lnTo>
                  <a:pt x="684" y="1675"/>
                </a:lnTo>
                <a:lnTo>
                  <a:pt x="675" y="1670"/>
                </a:lnTo>
                <a:lnTo>
                  <a:pt x="664" y="1654"/>
                </a:lnTo>
                <a:lnTo>
                  <a:pt x="658" y="1636"/>
                </a:lnTo>
                <a:lnTo>
                  <a:pt x="658" y="1617"/>
                </a:lnTo>
                <a:lnTo>
                  <a:pt x="664" y="1600"/>
                </a:lnTo>
                <a:lnTo>
                  <a:pt x="675" y="1583"/>
                </a:lnTo>
                <a:lnTo>
                  <a:pt x="682" y="1574"/>
                </a:lnTo>
                <a:lnTo>
                  <a:pt x="681" y="1578"/>
                </a:lnTo>
                <a:lnTo>
                  <a:pt x="677" y="1586"/>
                </a:lnTo>
                <a:lnTo>
                  <a:pt x="671" y="1590"/>
                </a:lnTo>
                <a:lnTo>
                  <a:pt x="665" y="1593"/>
                </a:lnTo>
                <a:lnTo>
                  <a:pt x="658" y="1593"/>
                </a:lnTo>
                <a:lnTo>
                  <a:pt x="652" y="1591"/>
                </a:lnTo>
                <a:lnTo>
                  <a:pt x="649" y="1588"/>
                </a:lnTo>
                <a:lnTo>
                  <a:pt x="646" y="1587"/>
                </a:lnTo>
                <a:lnTo>
                  <a:pt x="643" y="1584"/>
                </a:lnTo>
                <a:lnTo>
                  <a:pt x="642" y="1581"/>
                </a:lnTo>
                <a:lnTo>
                  <a:pt x="640" y="1574"/>
                </a:lnTo>
                <a:lnTo>
                  <a:pt x="639" y="1567"/>
                </a:lnTo>
                <a:lnTo>
                  <a:pt x="636" y="1559"/>
                </a:lnTo>
                <a:lnTo>
                  <a:pt x="632" y="1552"/>
                </a:lnTo>
                <a:lnTo>
                  <a:pt x="630" y="1548"/>
                </a:lnTo>
                <a:lnTo>
                  <a:pt x="632" y="1552"/>
                </a:lnTo>
                <a:lnTo>
                  <a:pt x="636" y="1561"/>
                </a:lnTo>
                <a:lnTo>
                  <a:pt x="645" y="1578"/>
                </a:lnTo>
                <a:lnTo>
                  <a:pt x="648" y="1587"/>
                </a:lnTo>
                <a:lnTo>
                  <a:pt x="646" y="1596"/>
                </a:lnTo>
                <a:lnTo>
                  <a:pt x="645" y="1599"/>
                </a:lnTo>
                <a:lnTo>
                  <a:pt x="640" y="1604"/>
                </a:lnTo>
                <a:lnTo>
                  <a:pt x="635" y="1615"/>
                </a:lnTo>
                <a:lnTo>
                  <a:pt x="624" y="1633"/>
                </a:lnTo>
                <a:lnTo>
                  <a:pt x="620" y="1654"/>
                </a:lnTo>
                <a:lnTo>
                  <a:pt x="621" y="1659"/>
                </a:lnTo>
                <a:lnTo>
                  <a:pt x="611" y="1662"/>
                </a:lnTo>
                <a:lnTo>
                  <a:pt x="604" y="1665"/>
                </a:lnTo>
                <a:lnTo>
                  <a:pt x="588" y="1674"/>
                </a:lnTo>
                <a:lnTo>
                  <a:pt x="574" y="1686"/>
                </a:lnTo>
                <a:lnTo>
                  <a:pt x="561" y="1694"/>
                </a:lnTo>
                <a:lnTo>
                  <a:pt x="545" y="1699"/>
                </a:lnTo>
                <a:lnTo>
                  <a:pt x="527" y="1694"/>
                </a:lnTo>
                <a:lnTo>
                  <a:pt x="527" y="1694"/>
                </a:lnTo>
                <a:lnTo>
                  <a:pt x="526" y="1693"/>
                </a:lnTo>
                <a:lnTo>
                  <a:pt x="526" y="1691"/>
                </a:lnTo>
                <a:lnTo>
                  <a:pt x="526" y="1690"/>
                </a:lnTo>
                <a:lnTo>
                  <a:pt x="526" y="1686"/>
                </a:lnTo>
                <a:lnTo>
                  <a:pt x="526" y="1681"/>
                </a:lnTo>
                <a:lnTo>
                  <a:pt x="526" y="1680"/>
                </a:lnTo>
                <a:lnTo>
                  <a:pt x="520" y="1680"/>
                </a:lnTo>
                <a:lnTo>
                  <a:pt x="519" y="1681"/>
                </a:lnTo>
                <a:lnTo>
                  <a:pt x="517" y="1683"/>
                </a:lnTo>
                <a:lnTo>
                  <a:pt x="516" y="1686"/>
                </a:lnTo>
                <a:lnTo>
                  <a:pt x="513" y="1690"/>
                </a:lnTo>
                <a:lnTo>
                  <a:pt x="503" y="1696"/>
                </a:lnTo>
                <a:lnTo>
                  <a:pt x="500" y="1694"/>
                </a:lnTo>
                <a:lnTo>
                  <a:pt x="498" y="1700"/>
                </a:lnTo>
                <a:lnTo>
                  <a:pt x="495" y="1710"/>
                </a:lnTo>
                <a:lnTo>
                  <a:pt x="493" y="1730"/>
                </a:lnTo>
                <a:lnTo>
                  <a:pt x="491" y="1751"/>
                </a:lnTo>
                <a:lnTo>
                  <a:pt x="491" y="1755"/>
                </a:lnTo>
                <a:lnTo>
                  <a:pt x="490" y="1759"/>
                </a:lnTo>
                <a:lnTo>
                  <a:pt x="488" y="1761"/>
                </a:lnTo>
                <a:lnTo>
                  <a:pt x="487" y="1762"/>
                </a:lnTo>
                <a:lnTo>
                  <a:pt x="485" y="1764"/>
                </a:lnTo>
                <a:lnTo>
                  <a:pt x="482" y="1765"/>
                </a:lnTo>
                <a:lnTo>
                  <a:pt x="477" y="1765"/>
                </a:lnTo>
                <a:lnTo>
                  <a:pt x="466" y="1771"/>
                </a:lnTo>
                <a:lnTo>
                  <a:pt x="466" y="1772"/>
                </a:lnTo>
                <a:lnTo>
                  <a:pt x="466" y="1770"/>
                </a:lnTo>
                <a:lnTo>
                  <a:pt x="466" y="1767"/>
                </a:lnTo>
                <a:lnTo>
                  <a:pt x="466" y="1764"/>
                </a:lnTo>
                <a:lnTo>
                  <a:pt x="464" y="1762"/>
                </a:lnTo>
                <a:lnTo>
                  <a:pt x="462" y="1761"/>
                </a:lnTo>
                <a:lnTo>
                  <a:pt x="459" y="1759"/>
                </a:lnTo>
                <a:lnTo>
                  <a:pt x="453" y="1757"/>
                </a:lnTo>
                <a:lnTo>
                  <a:pt x="448" y="1746"/>
                </a:lnTo>
                <a:lnTo>
                  <a:pt x="449" y="1746"/>
                </a:lnTo>
                <a:lnTo>
                  <a:pt x="445" y="1749"/>
                </a:lnTo>
                <a:lnTo>
                  <a:pt x="440" y="1751"/>
                </a:lnTo>
                <a:lnTo>
                  <a:pt x="437" y="1755"/>
                </a:lnTo>
                <a:lnTo>
                  <a:pt x="432" y="1762"/>
                </a:lnTo>
                <a:lnTo>
                  <a:pt x="426" y="1770"/>
                </a:lnTo>
                <a:lnTo>
                  <a:pt x="420" y="1774"/>
                </a:lnTo>
                <a:lnTo>
                  <a:pt x="410" y="1775"/>
                </a:lnTo>
                <a:lnTo>
                  <a:pt x="406" y="1772"/>
                </a:lnTo>
                <a:lnTo>
                  <a:pt x="400" y="1771"/>
                </a:lnTo>
                <a:lnTo>
                  <a:pt x="398" y="1768"/>
                </a:lnTo>
                <a:lnTo>
                  <a:pt x="395" y="1765"/>
                </a:lnTo>
                <a:lnTo>
                  <a:pt x="395" y="1762"/>
                </a:lnTo>
                <a:lnTo>
                  <a:pt x="397" y="1758"/>
                </a:lnTo>
                <a:lnTo>
                  <a:pt x="398" y="1755"/>
                </a:lnTo>
                <a:lnTo>
                  <a:pt x="400" y="1752"/>
                </a:lnTo>
                <a:lnTo>
                  <a:pt x="403" y="1746"/>
                </a:lnTo>
                <a:lnTo>
                  <a:pt x="409" y="1735"/>
                </a:lnTo>
                <a:lnTo>
                  <a:pt x="419" y="1723"/>
                </a:lnTo>
                <a:lnTo>
                  <a:pt x="423" y="1720"/>
                </a:lnTo>
                <a:lnTo>
                  <a:pt x="416" y="1725"/>
                </a:lnTo>
                <a:lnTo>
                  <a:pt x="404" y="1732"/>
                </a:lnTo>
                <a:lnTo>
                  <a:pt x="378" y="1741"/>
                </a:lnTo>
                <a:lnTo>
                  <a:pt x="352" y="1746"/>
                </a:lnTo>
                <a:lnTo>
                  <a:pt x="346" y="1746"/>
                </a:lnTo>
                <a:lnTo>
                  <a:pt x="346" y="1743"/>
                </a:lnTo>
                <a:lnTo>
                  <a:pt x="345" y="1736"/>
                </a:lnTo>
                <a:lnTo>
                  <a:pt x="343" y="1722"/>
                </a:lnTo>
                <a:lnTo>
                  <a:pt x="346" y="1715"/>
                </a:lnTo>
                <a:lnTo>
                  <a:pt x="351" y="1709"/>
                </a:lnTo>
                <a:lnTo>
                  <a:pt x="355" y="1704"/>
                </a:lnTo>
                <a:lnTo>
                  <a:pt x="349" y="1707"/>
                </a:lnTo>
                <a:lnTo>
                  <a:pt x="340" y="1713"/>
                </a:lnTo>
                <a:lnTo>
                  <a:pt x="332" y="1720"/>
                </a:lnTo>
                <a:lnTo>
                  <a:pt x="319" y="1735"/>
                </a:lnTo>
                <a:lnTo>
                  <a:pt x="310" y="1743"/>
                </a:lnTo>
                <a:lnTo>
                  <a:pt x="303" y="1748"/>
                </a:lnTo>
                <a:lnTo>
                  <a:pt x="296" y="1749"/>
                </a:lnTo>
                <a:lnTo>
                  <a:pt x="291" y="1749"/>
                </a:lnTo>
                <a:lnTo>
                  <a:pt x="285" y="1748"/>
                </a:lnTo>
                <a:lnTo>
                  <a:pt x="281" y="1745"/>
                </a:lnTo>
                <a:lnTo>
                  <a:pt x="278" y="1741"/>
                </a:lnTo>
                <a:lnTo>
                  <a:pt x="275" y="1735"/>
                </a:lnTo>
                <a:lnTo>
                  <a:pt x="274" y="1730"/>
                </a:lnTo>
                <a:lnTo>
                  <a:pt x="274" y="1717"/>
                </a:lnTo>
                <a:lnTo>
                  <a:pt x="277" y="1706"/>
                </a:lnTo>
                <a:lnTo>
                  <a:pt x="278" y="1706"/>
                </a:lnTo>
                <a:lnTo>
                  <a:pt x="280" y="1701"/>
                </a:lnTo>
                <a:lnTo>
                  <a:pt x="284" y="1693"/>
                </a:lnTo>
                <a:lnTo>
                  <a:pt x="290" y="1674"/>
                </a:lnTo>
                <a:lnTo>
                  <a:pt x="296" y="1657"/>
                </a:lnTo>
                <a:lnTo>
                  <a:pt x="298" y="1651"/>
                </a:lnTo>
                <a:lnTo>
                  <a:pt x="298" y="1648"/>
                </a:lnTo>
                <a:lnTo>
                  <a:pt x="298" y="1645"/>
                </a:lnTo>
                <a:lnTo>
                  <a:pt x="298" y="1641"/>
                </a:lnTo>
                <a:lnTo>
                  <a:pt x="296" y="1632"/>
                </a:lnTo>
                <a:lnTo>
                  <a:pt x="293" y="1613"/>
                </a:lnTo>
                <a:lnTo>
                  <a:pt x="296" y="1600"/>
                </a:lnTo>
                <a:lnTo>
                  <a:pt x="304" y="1584"/>
                </a:lnTo>
                <a:lnTo>
                  <a:pt x="314" y="1549"/>
                </a:lnTo>
                <a:lnTo>
                  <a:pt x="316" y="1516"/>
                </a:lnTo>
                <a:lnTo>
                  <a:pt x="313" y="1484"/>
                </a:lnTo>
                <a:lnTo>
                  <a:pt x="293" y="1420"/>
                </a:lnTo>
                <a:lnTo>
                  <a:pt x="288" y="1403"/>
                </a:lnTo>
                <a:lnTo>
                  <a:pt x="285" y="1399"/>
                </a:lnTo>
                <a:lnTo>
                  <a:pt x="281" y="1388"/>
                </a:lnTo>
                <a:lnTo>
                  <a:pt x="271" y="1368"/>
                </a:lnTo>
                <a:lnTo>
                  <a:pt x="261" y="1346"/>
                </a:lnTo>
                <a:lnTo>
                  <a:pt x="259" y="1339"/>
                </a:lnTo>
                <a:lnTo>
                  <a:pt x="252" y="1344"/>
                </a:lnTo>
                <a:lnTo>
                  <a:pt x="242" y="1354"/>
                </a:lnTo>
                <a:lnTo>
                  <a:pt x="233" y="1365"/>
                </a:lnTo>
                <a:lnTo>
                  <a:pt x="216" y="1388"/>
                </a:lnTo>
                <a:lnTo>
                  <a:pt x="198" y="1400"/>
                </a:lnTo>
                <a:lnTo>
                  <a:pt x="197" y="1394"/>
                </a:lnTo>
                <a:lnTo>
                  <a:pt x="198" y="1383"/>
                </a:lnTo>
                <a:lnTo>
                  <a:pt x="203" y="1361"/>
                </a:lnTo>
                <a:lnTo>
                  <a:pt x="210" y="1338"/>
                </a:lnTo>
                <a:lnTo>
                  <a:pt x="213" y="1331"/>
                </a:lnTo>
                <a:lnTo>
                  <a:pt x="214" y="1322"/>
                </a:lnTo>
                <a:lnTo>
                  <a:pt x="214" y="1315"/>
                </a:lnTo>
                <a:lnTo>
                  <a:pt x="211" y="1307"/>
                </a:lnTo>
                <a:lnTo>
                  <a:pt x="210" y="1300"/>
                </a:lnTo>
                <a:lnTo>
                  <a:pt x="201" y="1288"/>
                </a:lnTo>
                <a:lnTo>
                  <a:pt x="194" y="1277"/>
                </a:lnTo>
                <a:lnTo>
                  <a:pt x="187" y="1262"/>
                </a:lnTo>
                <a:lnTo>
                  <a:pt x="184" y="1245"/>
                </a:lnTo>
                <a:lnTo>
                  <a:pt x="184" y="1245"/>
                </a:lnTo>
                <a:lnTo>
                  <a:pt x="182" y="1241"/>
                </a:lnTo>
                <a:lnTo>
                  <a:pt x="181" y="1236"/>
                </a:lnTo>
                <a:lnTo>
                  <a:pt x="180" y="1233"/>
                </a:lnTo>
                <a:lnTo>
                  <a:pt x="177" y="1231"/>
                </a:lnTo>
                <a:lnTo>
                  <a:pt x="174" y="1229"/>
                </a:lnTo>
                <a:lnTo>
                  <a:pt x="169" y="1228"/>
                </a:lnTo>
                <a:lnTo>
                  <a:pt x="161" y="1226"/>
                </a:lnTo>
                <a:lnTo>
                  <a:pt x="139" y="1222"/>
                </a:lnTo>
                <a:lnTo>
                  <a:pt x="139" y="1222"/>
                </a:lnTo>
                <a:lnTo>
                  <a:pt x="133" y="1222"/>
                </a:lnTo>
                <a:lnTo>
                  <a:pt x="129" y="1219"/>
                </a:lnTo>
                <a:lnTo>
                  <a:pt x="116" y="1209"/>
                </a:lnTo>
                <a:lnTo>
                  <a:pt x="103" y="1196"/>
                </a:lnTo>
                <a:lnTo>
                  <a:pt x="80" y="1157"/>
                </a:lnTo>
                <a:lnTo>
                  <a:pt x="72" y="1133"/>
                </a:lnTo>
                <a:lnTo>
                  <a:pt x="69" y="1128"/>
                </a:lnTo>
                <a:lnTo>
                  <a:pt x="65" y="1122"/>
                </a:lnTo>
                <a:lnTo>
                  <a:pt x="59" y="1118"/>
                </a:lnTo>
                <a:lnTo>
                  <a:pt x="52" y="1113"/>
                </a:lnTo>
                <a:lnTo>
                  <a:pt x="36" y="1107"/>
                </a:lnTo>
                <a:lnTo>
                  <a:pt x="22" y="1102"/>
                </a:lnTo>
                <a:lnTo>
                  <a:pt x="9" y="1094"/>
                </a:lnTo>
                <a:lnTo>
                  <a:pt x="4" y="1089"/>
                </a:lnTo>
                <a:lnTo>
                  <a:pt x="3" y="1080"/>
                </a:lnTo>
                <a:lnTo>
                  <a:pt x="3" y="1080"/>
                </a:lnTo>
                <a:lnTo>
                  <a:pt x="1" y="1071"/>
                </a:lnTo>
                <a:lnTo>
                  <a:pt x="0" y="1054"/>
                </a:lnTo>
                <a:lnTo>
                  <a:pt x="3" y="1038"/>
                </a:lnTo>
                <a:lnTo>
                  <a:pt x="10" y="1023"/>
                </a:lnTo>
                <a:lnTo>
                  <a:pt x="20" y="1012"/>
                </a:lnTo>
                <a:lnTo>
                  <a:pt x="38" y="1002"/>
                </a:lnTo>
                <a:lnTo>
                  <a:pt x="49" y="997"/>
                </a:lnTo>
                <a:lnTo>
                  <a:pt x="55" y="996"/>
                </a:lnTo>
                <a:lnTo>
                  <a:pt x="58" y="991"/>
                </a:lnTo>
                <a:lnTo>
                  <a:pt x="61" y="986"/>
                </a:lnTo>
                <a:lnTo>
                  <a:pt x="61" y="980"/>
                </a:lnTo>
                <a:lnTo>
                  <a:pt x="59" y="974"/>
                </a:lnTo>
                <a:lnTo>
                  <a:pt x="55" y="960"/>
                </a:lnTo>
                <a:lnTo>
                  <a:pt x="51" y="947"/>
                </a:lnTo>
                <a:lnTo>
                  <a:pt x="51" y="933"/>
                </a:lnTo>
                <a:lnTo>
                  <a:pt x="54" y="926"/>
                </a:lnTo>
                <a:lnTo>
                  <a:pt x="58" y="922"/>
                </a:lnTo>
                <a:lnTo>
                  <a:pt x="64" y="919"/>
                </a:lnTo>
                <a:lnTo>
                  <a:pt x="69" y="918"/>
                </a:lnTo>
                <a:lnTo>
                  <a:pt x="77" y="916"/>
                </a:lnTo>
                <a:lnTo>
                  <a:pt x="93" y="916"/>
                </a:lnTo>
                <a:lnTo>
                  <a:pt x="106" y="915"/>
                </a:lnTo>
                <a:lnTo>
                  <a:pt x="113" y="913"/>
                </a:lnTo>
                <a:lnTo>
                  <a:pt x="117" y="910"/>
                </a:lnTo>
                <a:lnTo>
                  <a:pt x="122" y="905"/>
                </a:lnTo>
                <a:lnTo>
                  <a:pt x="123" y="897"/>
                </a:lnTo>
                <a:lnTo>
                  <a:pt x="125" y="897"/>
                </a:lnTo>
                <a:lnTo>
                  <a:pt x="126" y="889"/>
                </a:lnTo>
                <a:lnTo>
                  <a:pt x="129" y="870"/>
                </a:lnTo>
                <a:lnTo>
                  <a:pt x="133" y="829"/>
                </a:lnTo>
                <a:lnTo>
                  <a:pt x="130" y="789"/>
                </a:lnTo>
                <a:lnTo>
                  <a:pt x="129" y="778"/>
                </a:lnTo>
                <a:lnTo>
                  <a:pt x="136" y="780"/>
                </a:lnTo>
                <a:lnTo>
                  <a:pt x="146" y="778"/>
                </a:lnTo>
                <a:lnTo>
                  <a:pt x="151" y="776"/>
                </a:lnTo>
                <a:lnTo>
                  <a:pt x="152" y="773"/>
                </a:lnTo>
                <a:lnTo>
                  <a:pt x="154" y="768"/>
                </a:lnTo>
                <a:lnTo>
                  <a:pt x="152" y="764"/>
                </a:lnTo>
                <a:lnTo>
                  <a:pt x="154" y="754"/>
                </a:lnTo>
                <a:lnTo>
                  <a:pt x="155" y="738"/>
                </a:lnTo>
                <a:lnTo>
                  <a:pt x="164" y="720"/>
                </a:lnTo>
                <a:lnTo>
                  <a:pt x="168" y="715"/>
                </a:lnTo>
                <a:lnTo>
                  <a:pt x="169" y="710"/>
                </a:lnTo>
                <a:lnTo>
                  <a:pt x="174" y="699"/>
                </a:lnTo>
                <a:lnTo>
                  <a:pt x="175" y="687"/>
                </a:lnTo>
                <a:lnTo>
                  <a:pt x="174" y="673"/>
                </a:lnTo>
                <a:lnTo>
                  <a:pt x="165" y="647"/>
                </a:lnTo>
                <a:lnTo>
                  <a:pt x="164" y="639"/>
                </a:lnTo>
                <a:lnTo>
                  <a:pt x="172" y="639"/>
                </a:lnTo>
                <a:lnTo>
                  <a:pt x="182" y="642"/>
                </a:lnTo>
                <a:lnTo>
                  <a:pt x="204" y="648"/>
                </a:lnTo>
                <a:lnTo>
                  <a:pt x="243" y="658"/>
                </a:lnTo>
                <a:lnTo>
                  <a:pt x="274" y="638"/>
                </a:lnTo>
                <a:lnTo>
                  <a:pt x="274" y="635"/>
                </a:lnTo>
                <a:lnTo>
                  <a:pt x="275" y="632"/>
                </a:lnTo>
                <a:lnTo>
                  <a:pt x="275" y="625"/>
                </a:lnTo>
                <a:lnTo>
                  <a:pt x="275" y="610"/>
                </a:lnTo>
                <a:lnTo>
                  <a:pt x="278" y="600"/>
                </a:lnTo>
                <a:lnTo>
                  <a:pt x="285" y="593"/>
                </a:lnTo>
                <a:lnTo>
                  <a:pt x="298" y="577"/>
                </a:lnTo>
                <a:lnTo>
                  <a:pt x="319" y="544"/>
                </a:lnTo>
                <a:lnTo>
                  <a:pt x="336" y="507"/>
                </a:lnTo>
                <a:lnTo>
                  <a:pt x="342" y="499"/>
                </a:lnTo>
                <a:lnTo>
                  <a:pt x="343" y="494"/>
                </a:lnTo>
                <a:lnTo>
                  <a:pt x="345" y="489"/>
                </a:lnTo>
                <a:lnTo>
                  <a:pt x="345" y="483"/>
                </a:lnTo>
                <a:lnTo>
                  <a:pt x="343" y="477"/>
                </a:lnTo>
                <a:lnTo>
                  <a:pt x="340" y="464"/>
                </a:lnTo>
                <a:lnTo>
                  <a:pt x="335" y="438"/>
                </a:lnTo>
                <a:lnTo>
                  <a:pt x="338" y="423"/>
                </a:lnTo>
                <a:lnTo>
                  <a:pt x="339" y="418"/>
                </a:lnTo>
                <a:lnTo>
                  <a:pt x="346" y="408"/>
                </a:lnTo>
                <a:lnTo>
                  <a:pt x="364" y="389"/>
                </a:lnTo>
                <a:lnTo>
                  <a:pt x="382" y="368"/>
                </a:lnTo>
                <a:lnTo>
                  <a:pt x="387" y="363"/>
                </a:lnTo>
                <a:lnTo>
                  <a:pt x="390" y="358"/>
                </a:lnTo>
                <a:lnTo>
                  <a:pt x="393" y="348"/>
                </a:lnTo>
                <a:lnTo>
                  <a:pt x="394" y="337"/>
                </a:lnTo>
                <a:lnTo>
                  <a:pt x="393" y="326"/>
                </a:lnTo>
                <a:lnTo>
                  <a:pt x="390" y="316"/>
                </a:lnTo>
                <a:lnTo>
                  <a:pt x="387" y="306"/>
                </a:lnTo>
                <a:lnTo>
                  <a:pt x="385" y="300"/>
                </a:lnTo>
                <a:lnTo>
                  <a:pt x="384" y="297"/>
                </a:lnTo>
                <a:lnTo>
                  <a:pt x="384" y="293"/>
                </a:lnTo>
                <a:lnTo>
                  <a:pt x="385" y="287"/>
                </a:lnTo>
                <a:lnTo>
                  <a:pt x="388" y="283"/>
                </a:lnTo>
                <a:lnTo>
                  <a:pt x="395" y="273"/>
                </a:lnTo>
                <a:lnTo>
                  <a:pt x="406" y="264"/>
                </a:lnTo>
                <a:lnTo>
                  <a:pt x="424" y="245"/>
                </a:lnTo>
                <a:lnTo>
                  <a:pt x="426" y="245"/>
                </a:lnTo>
                <a:lnTo>
                  <a:pt x="429" y="244"/>
                </a:lnTo>
                <a:lnTo>
                  <a:pt x="430" y="244"/>
                </a:lnTo>
                <a:lnTo>
                  <a:pt x="436" y="244"/>
                </a:lnTo>
                <a:lnTo>
                  <a:pt x="449" y="244"/>
                </a:lnTo>
                <a:lnTo>
                  <a:pt x="456" y="241"/>
                </a:lnTo>
                <a:lnTo>
                  <a:pt x="459" y="238"/>
                </a:lnTo>
                <a:lnTo>
                  <a:pt x="468" y="231"/>
                </a:lnTo>
                <a:lnTo>
                  <a:pt x="484" y="215"/>
                </a:lnTo>
                <a:lnTo>
                  <a:pt x="500" y="199"/>
                </a:lnTo>
                <a:lnTo>
                  <a:pt x="504" y="194"/>
                </a:lnTo>
                <a:lnTo>
                  <a:pt x="508" y="190"/>
                </a:lnTo>
                <a:lnTo>
                  <a:pt x="519" y="183"/>
                </a:lnTo>
                <a:lnTo>
                  <a:pt x="532" y="179"/>
                </a:lnTo>
                <a:lnTo>
                  <a:pt x="559" y="170"/>
                </a:lnTo>
                <a:lnTo>
                  <a:pt x="581" y="161"/>
                </a:lnTo>
                <a:lnTo>
                  <a:pt x="587" y="160"/>
                </a:lnTo>
                <a:lnTo>
                  <a:pt x="594" y="161"/>
                </a:lnTo>
                <a:lnTo>
                  <a:pt x="600" y="164"/>
                </a:lnTo>
                <a:lnTo>
                  <a:pt x="606" y="168"/>
                </a:lnTo>
                <a:lnTo>
                  <a:pt x="619" y="179"/>
                </a:lnTo>
                <a:lnTo>
                  <a:pt x="630" y="190"/>
                </a:lnTo>
                <a:lnTo>
                  <a:pt x="642" y="197"/>
                </a:lnTo>
                <a:lnTo>
                  <a:pt x="653" y="194"/>
                </a:lnTo>
                <a:lnTo>
                  <a:pt x="655" y="194"/>
                </a:lnTo>
                <a:lnTo>
                  <a:pt x="656" y="193"/>
                </a:lnTo>
                <a:lnTo>
                  <a:pt x="656" y="192"/>
                </a:lnTo>
                <a:lnTo>
                  <a:pt x="656" y="187"/>
                </a:lnTo>
                <a:lnTo>
                  <a:pt x="656" y="184"/>
                </a:lnTo>
                <a:lnTo>
                  <a:pt x="653" y="176"/>
                </a:lnTo>
                <a:lnTo>
                  <a:pt x="645" y="157"/>
                </a:lnTo>
                <a:lnTo>
                  <a:pt x="643" y="148"/>
                </a:lnTo>
                <a:lnTo>
                  <a:pt x="643" y="138"/>
                </a:lnTo>
                <a:lnTo>
                  <a:pt x="646" y="129"/>
                </a:lnTo>
                <a:lnTo>
                  <a:pt x="650" y="121"/>
                </a:lnTo>
                <a:lnTo>
                  <a:pt x="656" y="113"/>
                </a:lnTo>
                <a:lnTo>
                  <a:pt x="672" y="99"/>
                </a:lnTo>
                <a:lnTo>
                  <a:pt x="685" y="84"/>
                </a:lnTo>
                <a:lnTo>
                  <a:pt x="691" y="76"/>
                </a:lnTo>
                <a:lnTo>
                  <a:pt x="694" y="67"/>
                </a:lnTo>
                <a:lnTo>
                  <a:pt x="694" y="57"/>
                </a:lnTo>
                <a:lnTo>
                  <a:pt x="691" y="44"/>
                </a:lnTo>
                <a:lnTo>
                  <a:pt x="691" y="44"/>
                </a:lnTo>
                <a:lnTo>
                  <a:pt x="700" y="44"/>
                </a:lnTo>
                <a:lnTo>
                  <a:pt x="704" y="42"/>
                </a:lnTo>
                <a:lnTo>
                  <a:pt x="707" y="39"/>
                </a:lnTo>
                <a:lnTo>
                  <a:pt x="708" y="35"/>
                </a:lnTo>
                <a:lnTo>
                  <a:pt x="708" y="31"/>
                </a:lnTo>
                <a:lnTo>
                  <a:pt x="707" y="28"/>
                </a:lnTo>
                <a:lnTo>
                  <a:pt x="706" y="26"/>
                </a:lnTo>
                <a:lnTo>
                  <a:pt x="703" y="22"/>
                </a:lnTo>
                <a:lnTo>
                  <a:pt x="700" y="13"/>
                </a:lnTo>
                <a:lnTo>
                  <a:pt x="698" y="3"/>
                </a:lnTo>
                <a:lnTo>
                  <a:pt x="700" y="0"/>
                </a:lnTo>
                <a:lnTo>
                  <a:pt x="701" y="2"/>
                </a:lnTo>
                <a:lnTo>
                  <a:pt x="706" y="3"/>
                </a:lnTo>
                <a:lnTo>
                  <a:pt x="711" y="0"/>
                </a:lnTo>
                <a:lnTo>
                  <a:pt x="716" y="0"/>
                </a:lnTo>
                <a:lnTo>
                  <a:pt x="724" y="0"/>
                </a:lnTo>
                <a:lnTo>
                  <a:pt x="726" y="0"/>
                </a:lnTo>
                <a:lnTo>
                  <a:pt x="733" y="6"/>
                </a:lnTo>
                <a:lnTo>
                  <a:pt x="749" y="18"/>
                </a:lnTo>
                <a:lnTo>
                  <a:pt x="777" y="42"/>
                </a:lnTo>
                <a:lnTo>
                  <a:pt x="797" y="71"/>
                </a:lnTo>
                <a:lnTo>
                  <a:pt x="800" y="79"/>
                </a:lnTo>
                <a:lnTo>
                  <a:pt x="800" y="86"/>
                </a:lnTo>
                <a:lnTo>
                  <a:pt x="801" y="97"/>
                </a:lnTo>
                <a:lnTo>
                  <a:pt x="801" y="118"/>
                </a:lnTo>
                <a:lnTo>
                  <a:pt x="803" y="126"/>
                </a:lnTo>
                <a:lnTo>
                  <a:pt x="808" y="134"/>
                </a:lnTo>
                <a:lnTo>
                  <a:pt x="814" y="135"/>
                </a:lnTo>
                <a:lnTo>
                  <a:pt x="819" y="137"/>
                </a:lnTo>
                <a:lnTo>
                  <a:pt x="821" y="135"/>
                </a:lnTo>
                <a:lnTo>
                  <a:pt x="829" y="134"/>
                </a:lnTo>
                <a:lnTo>
                  <a:pt x="843" y="131"/>
                </a:lnTo>
                <a:lnTo>
                  <a:pt x="855" y="132"/>
                </a:lnTo>
                <a:lnTo>
                  <a:pt x="858" y="137"/>
                </a:lnTo>
                <a:lnTo>
                  <a:pt x="863" y="144"/>
                </a:lnTo>
                <a:lnTo>
                  <a:pt x="872" y="164"/>
                </a:lnTo>
                <a:lnTo>
                  <a:pt x="872" y="176"/>
                </a:lnTo>
                <a:lnTo>
                  <a:pt x="869" y="187"/>
                </a:lnTo>
                <a:lnTo>
                  <a:pt x="868" y="193"/>
                </a:lnTo>
                <a:lnTo>
                  <a:pt x="863" y="202"/>
                </a:lnTo>
                <a:lnTo>
                  <a:pt x="863" y="209"/>
                </a:lnTo>
                <a:lnTo>
                  <a:pt x="865" y="216"/>
                </a:lnTo>
                <a:lnTo>
                  <a:pt x="868" y="223"/>
                </a:lnTo>
                <a:lnTo>
                  <a:pt x="876" y="238"/>
                </a:lnTo>
                <a:lnTo>
                  <a:pt x="885" y="254"/>
                </a:lnTo>
                <a:lnTo>
                  <a:pt x="890" y="270"/>
                </a:lnTo>
                <a:lnTo>
                  <a:pt x="887" y="287"/>
                </a:lnTo>
                <a:lnTo>
                  <a:pt x="887" y="287"/>
                </a:lnTo>
                <a:lnTo>
                  <a:pt x="882" y="294"/>
                </a:lnTo>
                <a:lnTo>
                  <a:pt x="874" y="309"/>
                </a:lnTo>
                <a:lnTo>
                  <a:pt x="858" y="335"/>
                </a:lnTo>
                <a:lnTo>
                  <a:pt x="855" y="350"/>
                </a:lnTo>
                <a:lnTo>
                  <a:pt x="859" y="364"/>
                </a:lnTo>
                <a:lnTo>
                  <a:pt x="865" y="371"/>
                </a:lnTo>
                <a:lnTo>
                  <a:pt x="859" y="374"/>
                </a:lnTo>
                <a:lnTo>
                  <a:pt x="849" y="380"/>
                </a:lnTo>
                <a:lnTo>
                  <a:pt x="833" y="394"/>
                </a:lnTo>
                <a:lnTo>
                  <a:pt x="827" y="402"/>
                </a:lnTo>
                <a:lnTo>
                  <a:pt x="824" y="410"/>
                </a:lnTo>
                <a:lnTo>
                  <a:pt x="824" y="415"/>
                </a:lnTo>
                <a:lnTo>
                  <a:pt x="823" y="425"/>
                </a:lnTo>
                <a:lnTo>
                  <a:pt x="820" y="434"/>
                </a:lnTo>
                <a:lnTo>
                  <a:pt x="816" y="441"/>
                </a:lnTo>
                <a:lnTo>
                  <a:pt x="811" y="447"/>
                </a:lnTo>
                <a:lnTo>
                  <a:pt x="798" y="457"/>
                </a:lnTo>
                <a:lnTo>
                  <a:pt x="784" y="465"/>
                </a:lnTo>
                <a:lnTo>
                  <a:pt x="755" y="480"/>
                </a:lnTo>
                <a:lnTo>
                  <a:pt x="755" y="480"/>
                </a:lnTo>
                <a:lnTo>
                  <a:pt x="749" y="484"/>
                </a:lnTo>
                <a:lnTo>
                  <a:pt x="745" y="489"/>
                </a:lnTo>
                <a:lnTo>
                  <a:pt x="740" y="494"/>
                </a:lnTo>
                <a:lnTo>
                  <a:pt x="735" y="506"/>
                </a:lnTo>
                <a:lnTo>
                  <a:pt x="730" y="519"/>
                </a:lnTo>
                <a:lnTo>
                  <a:pt x="724" y="531"/>
                </a:lnTo>
                <a:lnTo>
                  <a:pt x="714" y="541"/>
                </a:lnTo>
                <a:lnTo>
                  <a:pt x="708" y="544"/>
                </a:lnTo>
                <a:lnTo>
                  <a:pt x="713" y="554"/>
                </a:lnTo>
                <a:lnTo>
                  <a:pt x="724" y="574"/>
                </a:lnTo>
                <a:lnTo>
                  <a:pt x="739" y="616"/>
                </a:lnTo>
                <a:lnTo>
                  <a:pt x="737" y="636"/>
                </a:lnTo>
                <a:lnTo>
                  <a:pt x="726" y="657"/>
                </a:lnTo>
                <a:lnTo>
                  <a:pt x="717" y="665"/>
                </a:lnTo>
                <a:lnTo>
                  <a:pt x="724" y="663"/>
                </a:lnTo>
                <a:lnTo>
                  <a:pt x="739" y="654"/>
                </a:lnTo>
                <a:lnTo>
                  <a:pt x="768" y="638"/>
                </a:lnTo>
                <a:lnTo>
                  <a:pt x="798" y="623"/>
                </a:lnTo>
                <a:lnTo>
                  <a:pt x="807" y="619"/>
                </a:lnTo>
                <a:lnTo>
                  <a:pt x="813" y="618"/>
                </a:lnTo>
                <a:lnTo>
                  <a:pt x="827" y="613"/>
                </a:lnTo>
                <a:lnTo>
                  <a:pt x="858" y="610"/>
                </a:lnTo>
                <a:lnTo>
                  <a:pt x="891" y="621"/>
                </a:lnTo>
                <a:lnTo>
                  <a:pt x="900" y="623"/>
                </a:lnTo>
                <a:lnTo>
                  <a:pt x="891" y="628"/>
                </a:lnTo>
                <a:lnTo>
                  <a:pt x="887" y="634"/>
                </a:lnTo>
                <a:lnTo>
                  <a:pt x="882" y="639"/>
                </a:lnTo>
                <a:lnTo>
                  <a:pt x="879" y="647"/>
                </a:lnTo>
                <a:lnTo>
                  <a:pt x="879" y="655"/>
                </a:lnTo>
                <a:lnTo>
                  <a:pt x="881" y="673"/>
                </a:lnTo>
                <a:lnTo>
                  <a:pt x="885" y="689"/>
                </a:lnTo>
                <a:lnTo>
                  <a:pt x="892" y="703"/>
                </a:lnTo>
                <a:lnTo>
                  <a:pt x="897" y="709"/>
                </a:lnTo>
                <a:lnTo>
                  <a:pt x="898" y="713"/>
                </a:lnTo>
                <a:lnTo>
                  <a:pt x="900" y="718"/>
                </a:lnTo>
                <a:lnTo>
                  <a:pt x="900" y="720"/>
                </a:lnTo>
                <a:lnTo>
                  <a:pt x="898" y="725"/>
                </a:lnTo>
                <a:lnTo>
                  <a:pt x="897" y="732"/>
                </a:lnTo>
                <a:lnTo>
                  <a:pt x="894" y="739"/>
                </a:lnTo>
                <a:lnTo>
                  <a:pt x="892" y="745"/>
                </a:lnTo>
                <a:lnTo>
                  <a:pt x="891" y="751"/>
                </a:lnTo>
                <a:lnTo>
                  <a:pt x="892" y="751"/>
                </a:lnTo>
                <a:lnTo>
                  <a:pt x="895" y="758"/>
                </a:lnTo>
                <a:lnTo>
                  <a:pt x="900" y="761"/>
                </a:lnTo>
                <a:lnTo>
                  <a:pt x="905" y="764"/>
                </a:lnTo>
                <a:lnTo>
                  <a:pt x="913" y="764"/>
                </a:lnTo>
                <a:lnTo>
                  <a:pt x="920" y="764"/>
                </a:lnTo>
                <a:lnTo>
                  <a:pt x="934" y="763"/>
                </a:lnTo>
                <a:lnTo>
                  <a:pt x="947" y="760"/>
                </a:lnTo>
                <a:lnTo>
                  <a:pt x="958" y="761"/>
                </a:lnTo>
                <a:lnTo>
                  <a:pt x="961" y="764"/>
                </a:lnTo>
                <a:lnTo>
                  <a:pt x="962" y="774"/>
                </a:lnTo>
                <a:lnTo>
                  <a:pt x="961" y="786"/>
                </a:lnTo>
                <a:lnTo>
                  <a:pt x="959" y="796"/>
                </a:lnTo>
                <a:lnTo>
                  <a:pt x="952" y="818"/>
                </a:lnTo>
                <a:lnTo>
                  <a:pt x="939" y="864"/>
                </a:lnTo>
                <a:lnTo>
                  <a:pt x="947" y="897"/>
                </a:lnTo>
                <a:lnTo>
                  <a:pt x="952" y="903"/>
                </a:lnTo>
                <a:lnTo>
                  <a:pt x="958" y="906"/>
                </a:lnTo>
                <a:lnTo>
                  <a:pt x="963" y="907"/>
                </a:lnTo>
                <a:lnTo>
                  <a:pt x="972" y="909"/>
                </a:lnTo>
                <a:lnTo>
                  <a:pt x="988" y="909"/>
                </a:lnTo>
                <a:lnTo>
                  <a:pt x="1005" y="907"/>
                </a:lnTo>
                <a:lnTo>
                  <a:pt x="1021" y="910"/>
                </a:lnTo>
                <a:lnTo>
                  <a:pt x="1027" y="915"/>
                </a:lnTo>
                <a:lnTo>
                  <a:pt x="1033" y="919"/>
                </a:lnTo>
                <a:lnTo>
                  <a:pt x="1034" y="919"/>
                </a:lnTo>
                <a:lnTo>
                  <a:pt x="1036" y="923"/>
                </a:lnTo>
                <a:lnTo>
                  <a:pt x="1037" y="926"/>
                </a:lnTo>
                <a:lnTo>
                  <a:pt x="1037" y="931"/>
                </a:lnTo>
                <a:lnTo>
                  <a:pt x="1037" y="935"/>
                </a:lnTo>
                <a:lnTo>
                  <a:pt x="1034" y="944"/>
                </a:lnTo>
                <a:lnTo>
                  <a:pt x="1030" y="952"/>
                </a:lnTo>
                <a:lnTo>
                  <a:pt x="1020" y="968"/>
                </a:lnTo>
                <a:lnTo>
                  <a:pt x="1020" y="968"/>
                </a:lnTo>
                <a:lnTo>
                  <a:pt x="1029" y="970"/>
                </a:lnTo>
                <a:lnTo>
                  <a:pt x="1034" y="973"/>
                </a:lnTo>
                <a:lnTo>
                  <a:pt x="1045" y="978"/>
                </a:lnTo>
                <a:lnTo>
                  <a:pt x="1053" y="981"/>
                </a:lnTo>
                <a:lnTo>
                  <a:pt x="1055" y="983"/>
                </a:lnTo>
                <a:lnTo>
                  <a:pt x="1055" y="984"/>
                </a:lnTo>
                <a:lnTo>
                  <a:pt x="1053" y="987"/>
                </a:lnTo>
                <a:lnTo>
                  <a:pt x="1052" y="989"/>
                </a:lnTo>
                <a:lnTo>
                  <a:pt x="1049" y="993"/>
                </a:lnTo>
                <a:lnTo>
                  <a:pt x="1045" y="1000"/>
                </a:lnTo>
                <a:lnTo>
                  <a:pt x="1046" y="1000"/>
                </a:lnTo>
                <a:lnTo>
                  <a:pt x="1058" y="1002"/>
                </a:lnTo>
                <a:lnTo>
                  <a:pt x="1082" y="999"/>
                </a:lnTo>
                <a:lnTo>
                  <a:pt x="1107" y="991"/>
                </a:lnTo>
                <a:lnTo>
                  <a:pt x="1155" y="976"/>
                </a:lnTo>
                <a:lnTo>
                  <a:pt x="1192" y="968"/>
                </a:lnTo>
                <a:lnTo>
                  <a:pt x="1191" y="973"/>
                </a:lnTo>
                <a:lnTo>
                  <a:pt x="1188" y="978"/>
                </a:lnTo>
                <a:lnTo>
                  <a:pt x="1185" y="984"/>
                </a:lnTo>
                <a:lnTo>
                  <a:pt x="1182" y="993"/>
                </a:lnTo>
                <a:lnTo>
                  <a:pt x="1182" y="996"/>
                </a:lnTo>
                <a:lnTo>
                  <a:pt x="1181" y="996"/>
                </a:lnTo>
                <a:lnTo>
                  <a:pt x="1182" y="996"/>
                </a:lnTo>
                <a:lnTo>
                  <a:pt x="1181" y="996"/>
                </a:lnTo>
                <a:lnTo>
                  <a:pt x="1182" y="996"/>
                </a:lnTo>
                <a:lnTo>
                  <a:pt x="1178" y="997"/>
                </a:lnTo>
                <a:lnTo>
                  <a:pt x="1173" y="1000"/>
                </a:lnTo>
                <a:lnTo>
                  <a:pt x="1172" y="1002"/>
                </a:lnTo>
                <a:lnTo>
                  <a:pt x="1169" y="1007"/>
                </a:lnTo>
                <a:lnTo>
                  <a:pt x="1162" y="1013"/>
                </a:lnTo>
                <a:lnTo>
                  <a:pt x="1158" y="1010"/>
                </a:lnTo>
                <a:lnTo>
                  <a:pt x="1158" y="1016"/>
                </a:lnTo>
                <a:lnTo>
                  <a:pt x="1156" y="1022"/>
                </a:lnTo>
                <a:lnTo>
                  <a:pt x="1156" y="1028"/>
                </a:lnTo>
                <a:lnTo>
                  <a:pt x="1158" y="1029"/>
                </a:lnTo>
                <a:lnTo>
                  <a:pt x="1153" y="1029"/>
                </a:lnTo>
                <a:lnTo>
                  <a:pt x="1145" y="1029"/>
                </a:lnTo>
                <a:lnTo>
                  <a:pt x="1137" y="1032"/>
                </a:lnTo>
                <a:lnTo>
                  <a:pt x="1131" y="1036"/>
                </a:lnTo>
                <a:lnTo>
                  <a:pt x="1126" y="1042"/>
                </a:lnTo>
                <a:lnTo>
                  <a:pt x="1120" y="1047"/>
                </a:lnTo>
                <a:lnTo>
                  <a:pt x="1118" y="1048"/>
                </a:lnTo>
                <a:lnTo>
                  <a:pt x="1116" y="1051"/>
                </a:lnTo>
                <a:lnTo>
                  <a:pt x="1114" y="1054"/>
                </a:lnTo>
                <a:lnTo>
                  <a:pt x="1114" y="1057"/>
                </a:lnTo>
                <a:lnTo>
                  <a:pt x="1114" y="1060"/>
                </a:lnTo>
                <a:lnTo>
                  <a:pt x="1114" y="1068"/>
                </a:lnTo>
                <a:lnTo>
                  <a:pt x="1114" y="1083"/>
                </a:lnTo>
                <a:lnTo>
                  <a:pt x="1113" y="1087"/>
                </a:lnTo>
                <a:lnTo>
                  <a:pt x="1107" y="1091"/>
                </a:lnTo>
                <a:lnTo>
                  <a:pt x="1097" y="1099"/>
                </a:lnTo>
                <a:lnTo>
                  <a:pt x="1075" y="1112"/>
                </a:lnTo>
                <a:lnTo>
                  <a:pt x="1056" y="1123"/>
                </a:lnTo>
                <a:lnTo>
                  <a:pt x="1053" y="1126"/>
                </a:lnTo>
                <a:lnTo>
                  <a:pt x="1052" y="1126"/>
                </a:lnTo>
                <a:lnTo>
                  <a:pt x="1050" y="1126"/>
                </a:lnTo>
                <a:lnTo>
                  <a:pt x="1046" y="1126"/>
                </a:lnTo>
                <a:lnTo>
                  <a:pt x="1043" y="1126"/>
                </a:lnTo>
                <a:lnTo>
                  <a:pt x="1043" y="1126"/>
                </a:lnTo>
                <a:lnTo>
                  <a:pt x="1036" y="1126"/>
                </a:lnTo>
                <a:lnTo>
                  <a:pt x="1024" y="1128"/>
                </a:lnTo>
                <a:lnTo>
                  <a:pt x="1000" y="1131"/>
                </a:lnTo>
                <a:lnTo>
                  <a:pt x="975" y="1136"/>
                </a:lnTo>
                <a:lnTo>
                  <a:pt x="971" y="1138"/>
                </a:lnTo>
                <a:lnTo>
                  <a:pt x="968" y="1139"/>
                </a:lnTo>
                <a:lnTo>
                  <a:pt x="968" y="1142"/>
                </a:lnTo>
                <a:lnTo>
                  <a:pt x="968" y="1144"/>
                </a:lnTo>
                <a:lnTo>
                  <a:pt x="969" y="1146"/>
                </a:lnTo>
                <a:lnTo>
                  <a:pt x="974" y="1154"/>
                </a:lnTo>
                <a:lnTo>
                  <a:pt x="981" y="1168"/>
                </a:lnTo>
                <a:lnTo>
                  <a:pt x="982" y="1173"/>
                </a:lnTo>
                <a:lnTo>
                  <a:pt x="976" y="1180"/>
                </a:lnTo>
                <a:lnTo>
                  <a:pt x="971" y="1184"/>
                </a:lnTo>
                <a:lnTo>
                  <a:pt x="963" y="1186"/>
                </a:lnTo>
                <a:lnTo>
                  <a:pt x="956" y="1186"/>
                </a:lnTo>
                <a:lnTo>
                  <a:pt x="949" y="1184"/>
                </a:lnTo>
                <a:lnTo>
                  <a:pt x="933" y="1180"/>
                </a:lnTo>
                <a:lnTo>
                  <a:pt x="919" y="1177"/>
                </a:lnTo>
                <a:lnTo>
                  <a:pt x="913" y="1177"/>
                </a:lnTo>
                <a:lnTo>
                  <a:pt x="907" y="1178"/>
                </a:lnTo>
                <a:lnTo>
                  <a:pt x="904" y="1181"/>
                </a:lnTo>
                <a:lnTo>
                  <a:pt x="904" y="1181"/>
                </a:lnTo>
                <a:lnTo>
                  <a:pt x="901" y="1186"/>
                </a:lnTo>
                <a:lnTo>
                  <a:pt x="900" y="1190"/>
                </a:lnTo>
                <a:lnTo>
                  <a:pt x="898" y="1194"/>
                </a:lnTo>
                <a:lnTo>
                  <a:pt x="897" y="1206"/>
                </a:lnTo>
                <a:lnTo>
                  <a:pt x="894" y="1216"/>
                </a:lnTo>
                <a:lnTo>
                  <a:pt x="891" y="1225"/>
                </a:lnTo>
                <a:lnTo>
                  <a:pt x="885" y="1231"/>
                </a:lnTo>
                <a:lnTo>
                  <a:pt x="881" y="1231"/>
                </a:lnTo>
                <a:lnTo>
                  <a:pt x="869" y="1233"/>
                </a:lnTo>
                <a:lnTo>
                  <a:pt x="848" y="1233"/>
                </a:lnTo>
                <a:lnTo>
                  <a:pt x="804" y="1232"/>
                </a:lnTo>
                <a:lnTo>
                  <a:pt x="787" y="1233"/>
                </a:lnTo>
                <a:lnTo>
                  <a:pt x="779" y="1236"/>
                </a:lnTo>
                <a:lnTo>
                  <a:pt x="774" y="1242"/>
                </a:lnTo>
                <a:lnTo>
                  <a:pt x="771" y="1248"/>
                </a:lnTo>
                <a:lnTo>
                  <a:pt x="771" y="1248"/>
                </a:lnTo>
                <a:lnTo>
                  <a:pt x="768" y="1255"/>
                </a:lnTo>
                <a:lnTo>
                  <a:pt x="762" y="1268"/>
                </a:lnTo>
                <a:lnTo>
                  <a:pt x="753" y="1296"/>
                </a:lnTo>
                <a:lnTo>
                  <a:pt x="748" y="1325"/>
                </a:lnTo>
                <a:lnTo>
                  <a:pt x="748" y="1332"/>
                </a:lnTo>
                <a:lnTo>
                  <a:pt x="748" y="1335"/>
                </a:lnTo>
                <a:lnTo>
                  <a:pt x="748" y="1338"/>
                </a:lnTo>
                <a:lnTo>
                  <a:pt x="750" y="1348"/>
                </a:lnTo>
                <a:lnTo>
                  <a:pt x="750" y="1355"/>
                </a:lnTo>
                <a:lnTo>
                  <a:pt x="750" y="1355"/>
                </a:lnTo>
                <a:lnTo>
                  <a:pt x="742" y="1361"/>
                </a:lnTo>
                <a:lnTo>
                  <a:pt x="727" y="1371"/>
                </a:lnTo>
                <a:lnTo>
                  <a:pt x="704" y="1396"/>
                </a:lnTo>
                <a:lnTo>
                  <a:pt x="700" y="1410"/>
                </a:lnTo>
                <a:lnTo>
                  <a:pt x="700" y="1426"/>
                </a:lnTo>
                <a:lnTo>
                  <a:pt x="703" y="1435"/>
                </a:lnTo>
                <a:lnTo>
                  <a:pt x="710" y="1458"/>
                </a:lnTo>
                <a:lnTo>
                  <a:pt x="732" y="1499"/>
                </a:lnTo>
                <a:lnTo>
                  <a:pt x="781" y="1574"/>
                </a:lnTo>
                <a:lnTo>
                  <a:pt x="827" y="1654"/>
                </a:lnTo>
                <a:lnTo>
                  <a:pt x="836" y="1675"/>
                </a:lnTo>
                <a:lnTo>
                  <a:pt x="837" y="1681"/>
                </a:lnTo>
                <a:lnTo>
                  <a:pt x="843" y="1690"/>
                </a:lnTo>
                <a:lnTo>
                  <a:pt x="852" y="1697"/>
                </a:lnTo>
                <a:lnTo>
                  <a:pt x="863" y="1703"/>
                </a:lnTo>
                <a:lnTo>
                  <a:pt x="876" y="1707"/>
                </a:lnTo>
                <a:lnTo>
                  <a:pt x="891" y="1707"/>
                </a:lnTo>
                <a:lnTo>
                  <a:pt x="900" y="1704"/>
                </a:lnTo>
                <a:lnTo>
                  <a:pt x="891" y="1710"/>
                </a:lnTo>
                <a:lnTo>
                  <a:pt x="876" y="1723"/>
                </a:lnTo>
                <a:lnTo>
                  <a:pt x="868" y="1738"/>
                </a:lnTo>
                <a:lnTo>
                  <a:pt x="862" y="1755"/>
                </a:lnTo>
                <a:lnTo>
                  <a:pt x="859" y="1771"/>
                </a:lnTo>
                <a:lnTo>
                  <a:pt x="858" y="1790"/>
                </a:lnTo>
                <a:lnTo>
                  <a:pt x="858" y="1799"/>
                </a:lnTo>
                <a:lnTo>
                  <a:pt x="856" y="1804"/>
                </a:lnTo>
                <a:lnTo>
                  <a:pt x="853" y="1809"/>
                </a:lnTo>
                <a:lnTo>
                  <a:pt x="849" y="1813"/>
                </a:lnTo>
                <a:lnTo>
                  <a:pt x="843" y="1816"/>
                </a:lnTo>
                <a:lnTo>
                  <a:pt x="830" y="1820"/>
                </a:lnTo>
                <a:lnTo>
                  <a:pt x="805" y="1833"/>
                </a:lnTo>
                <a:lnTo>
                  <a:pt x="797" y="1843"/>
                </a:lnTo>
                <a:lnTo>
                  <a:pt x="792" y="1852"/>
                </a:lnTo>
                <a:lnTo>
                  <a:pt x="791" y="1868"/>
                </a:lnTo>
                <a:lnTo>
                  <a:pt x="792" y="1885"/>
                </a:lnTo>
                <a:lnTo>
                  <a:pt x="797" y="1901"/>
                </a:lnTo>
                <a:lnTo>
                  <a:pt x="811" y="1936"/>
                </a:lnTo>
                <a:lnTo>
                  <a:pt x="816" y="1943"/>
                </a:lnTo>
                <a:lnTo>
                  <a:pt x="819" y="1951"/>
                </a:lnTo>
                <a:lnTo>
                  <a:pt x="821" y="1956"/>
                </a:lnTo>
                <a:lnTo>
                  <a:pt x="832" y="1965"/>
                </a:lnTo>
                <a:lnTo>
                  <a:pt x="845" y="1972"/>
                </a:lnTo>
                <a:lnTo>
                  <a:pt x="871" y="1988"/>
                </a:lnTo>
                <a:lnTo>
                  <a:pt x="882" y="1997"/>
                </a:lnTo>
                <a:lnTo>
                  <a:pt x="887" y="2003"/>
                </a:lnTo>
                <a:lnTo>
                  <a:pt x="894" y="2014"/>
                </a:lnTo>
                <a:lnTo>
                  <a:pt x="905" y="2038"/>
                </a:lnTo>
                <a:lnTo>
                  <a:pt x="911" y="2062"/>
                </a:lnTo>
                <a:lnTo>
                  <a:pt x="913" y="2068"/>
                </a:lnTo>
                <a:lnTo>
                  <a:pt x="913" y="2078"/>
                </a:lnTo>
                <a:lnTo>
                  <a:pt x="916" y="2100"/>
                </a:lnTo>
                <a:lnTo>
                  <a:pt x="919" y="2143"/>
                </a:lnTo>
                <a:lnTo>
                  <a:pt x="916" y="2162"/>
                </a:lnTo>
                <a:lnTo>
                  <a:pt x="905" y="2181"/>
                </a:lnTo>
                <a:lnTo>
                  <a:pt x="900" y="2188"/>
                </a:lnTo>
                <a:lnTo>
                  <a:pt x="904" y="2193"/>
                </a:lnTo>
                <a:lnTo>
                  <a:pt x="910" y="2196"/>
                </a:lnTo>
                <a:lnTo>
                  <a:pt x="914" y="2197"/>
                </a:lnTo>
                <a:lnTo>
                  <a:pt x="920" y="2197"/>
                </a:lnTo>
                <a:lnTo>
                  <a:pt x="932" y="2196"/>
                </a:lnTo>
                <a:lnTo>
                  <a:pt x="942" y="2193"/>
                </a:lnTo>
                <a:lnTo>
                  <a:pt x="949" y="2191"/>
                </a:lnTo>
                <a:lnTo>
                  <a:pt x="952" y="2193"/>
                </a:lnTo>
                <a:lnTo>
                  <a:pt x="953" y="2193"/>
                </a:lnTo>
                <a:lnTo>
                  <a:pt x="962" y="2212"/>
                </a:lnTo>
                <a:lnTo>
                  <a:pt x="972" y="2248"/>
                </a:lnTo>
                <a:lnTo>
                  <a:pt x="969" y="2285"/>
                </a:lnTo>
                <a:lnTo>
                  <a:pt x="958" y="2323"/>
                </a:lnTo>
                <a:lnTo>
                  <a:pt x="939" y="2358"/>
                </a:lnTo>
                <a:lnTo>
                  <a:pt x="916" y="2393"/>
                </a:lnTo>
                <a:lnTo>
                  <a:pt x="904" y="2407"/>
                </a:lnTo>
                <a:lnTo>
                  <a:pt x="898" y="2414"/>
                </a:lnTo>
                <a:lnTo>
                  <a:pt x="888" y="2427"/>
                </a:lnTo>
                <a:lnTo>
                  <a:pt x="872" y="2456"/>
                </a:lnTo>
                <a:lnTo>
                  <a:pt x="859" y="2485"/>
                </a:lnTo>
                <a:lnTo>
                  <a:pt x="856" y="2493"/>
                </a:lnTo>
                <a:lnTo>
                  <a:pt x="853" y="2501"/>
                </a:lnTo>
                <a:lnTo>
                  <a:pt x="846" y="2524"/>
                </a:lnTo>
                <a:lnTo>
                  <a:pt x="840" y="2542"/>
                </a:lnTo>
                <a:lnTo>
                  <a:pt x="840" y="2542"/>
                </a:lnTo>
                <a:lnTo>
                  <a:pt x="837" y="2539"/>
                </a:lnTo>
                <a:lnTo>
                  <a:pt x="837" y="2538"/>
                </a:lnTo>
                <a:lnTo>
                  <a:pt x="834" y="2530"/>
                </a:lnTo>
                <a:lnTo>
                  <a:pt x="833" y="2516"/>
                </a:lnTo>
                <a:lnTo>
                  <a:pt x="834" y="2485"/>
                </a:lnTo>
                <a:lnTo>
                  <a:pt x="842" y="2456"/>
                </a:lnTo>
                <a:lnTo>
                  <a:pt x="845" y="2449"/>
                </a:lnTo>
                <a:lnTo>
                  <a:pt x="845" y="2449"/>
                </a:lnTo>
                <a:close/>
              </a:path>
            </a:pathLst>
          </a:custGeom>
          <a:noFill/>
          <a:ln w="4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349800" y="5634000"/>
            <a:ext cx="294840" cy="310680"/>
            <a:chOff x="3349800" y="5634000"/>
            <a:chExt cx="294840" cy="310680"/>
          </a:xfrm>
        </p:grpSpPr>
        <p:sp>
          <p:nvSpPr>
            <p:cNvPr id="499" name=""/>
            <p:cNvSpPr/>
            <p:nvPr/>
          </p:nvSpPr>
          <p:spPr>
            <a:xfrm>
              <a:off x="3504600" y="5634000"/>
              <a:ext cx="140040" cy="166320"/>
            </a:xfrm>
            <a:custGeom>
              <a:avLst/>
              <a:gdLst/>
              <a:ahLst/>
              <a:rect l="l" t="t" r="r" b="b"/>
              <a:pathLst>
                <a:path w="575" h="959">
                  <a:moveTo>
                    <a:pt x="21" y="0"/>
                  </a:moveTo>
                  <a:lnTo>
                    <a:pt x="22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2"/>
                  </a:lnTo>
                  <a:lnTo>
                    <a:pt x="28" y="19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33" y="34"/>
                  </a:lnTo>
                  <a:lnTo>
                    <a:pt x="34" y="38"/>
                  </a:lnTo>
                  <a:lnTo>
                    <a:pt x="35" y="38"/>
                  </a:lnTo>
                  <a:lnTo>
                    <a:pt x="37" y="44"/>
                  </a:lnTo>
                  <a:lnTo>
                    <a:pt x="38" y="46"/>
                  </a:lnTo>
                  <a:lnTo>
                    <a:pt x="39" y="46"/>
                  </a:lnTo>
                  <a:lnTo>
                    <a:pt x="38" y="48"/>
                  </a:lnTo>
                  <a:lnTo>
                    <a:pt x="38" y="51"/>
                  </a:lnTo>
                  <a:lnTo>
                    <a:pt x="38" y="54"/>
                  </a:lnTo>
                  <a:lnTo>
                    <a:pt x="38" y="54"/>
                  </a:lnTo>
                  <a:lnTo>
                    <a:pt x="39" y="57"/>
                  </a:lnTo>
                  <a:lnTo>
                    <a:pt x="40" y="58"/>
                  </a:lnTo>
                  <a:lnTo>
                    <a:pt x="41" y="60"/>
                  </a:lnTo>
                  <a:lnTo>
                    <a:pt x="46" y="67"/>
                  </a:lnTo>
                  <a:lnTo>
                    <a:pt x="49" y="71"/>
                  </a:lnTo>
                  <a:lnTo>
                    <a:pt x="50" y="71"/>
                  </a:lnTo>
                  <a:lnTo>
                    <a:pt x="55" y="68"/>
                  </a:lnTo>
                  <a:lnTo>
                    <a:pt x="58" y="67"/>
                  </a:lnTo>
                  <a:lnTo>
                    <a:pt x="59" y="66"/>
                  </a:lnTo>
                  <a:lnTo>
                    <a:pt x="60" y="65"/>
                  </a:lnTo>
                  <a:lnTo>
                    <a:pt x="64" y="59"/>
                  </a:lnTo>
                  <a:lnTo>
                    <a:pt x="68" y="55"/>
                  </a:lnTo>
                  <a:lnTo>
                    <a:pt x="69" y="54"/>
                  </a:lnTo>
                  <a:lnTo>
                    <a:pt x="69" y="55"/>
                  </a:lnTo>
                  <a:lnTo>
                    <a:pt x="70" y="58"/>
                  </a:lnTo>
                  <a:lnTo>
                    <a:pt x="70" y="59"/>
                  </a:lnTo>
                  <a:lnTo>
                    <a:pt x="71" y="59"/>
                  </a:lnTo>
                  <a:lnTo>
                    <a:pt x="70" y="61"/>
                  </a:lnTo>
                  <a:lnTo>
                    <a:pt x="69" y="66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70" y="69"/>
                  </a:lnTo>
                  <a:lnTo>
                    <a:pt x="76" y="69"/>
                  </a:lnTo>
                  <a:lnTo>
                    <a:pt x="81" y="69"/>
                  </a:lnTo>
                  <a:lnTo>
                    <a:pt x="82" y="69"/>
                  </a:lnTo>
                  <a:lnTo>
                    <a:pt x="83" y="69"/>
                  </a:lnTo>
                  <a:lnTo>
                    <a:pt x="87" y="68"/>
                  </a:lnTo>
                  <a:lnTo>
                    <a:pt x="91" y="68"/>
                  </a:lnTo>
                  <a:lnTo>
                    <a:pt x="92" y="67"/>
                  </a:lnTo>
                  <a:lnTo>
                    <a:pt x="93" y="69"/>
                  </a:lnTo>
                  <a:lnTo>
                    <a:pt x="97" y="72"/>
                  </a:lnTo>
                  <a:lnTo>
                    <a:pt x="101" y="76"/>
                  </a:lnTo>
                  <a:lnTo>
                    <a:pt x="102" y="76"/>
                  </a:lnTo>
                  <a:lnTo>
                    <a:pt x="103" y="76"/>
                  </a:lnTo>
                  <a:lnTo>
                    <a:pt x="109" y="76"/>
                  </a:lnTo>
                  <a:lnTo>
                    <a:pt x="114" y="76"/>
                  </a:lnTo>
                  <a:lnTo>
                    <a:pt x="115" y="76"/>
                  </a:lnTo>
                  <a:lnTo>
                    <a:pt x="116" y="76"/>
                  </a:lnTo>
                  <a:lnTo>
                    <a:pt x="120" y="76"/>
                  </a:lnTo>
                  <a:lnTo>
                    <a:pt x="123" y="76"/>
                  </a:lnTo>
                  <a:lnTo>
                    <a:pt x="125" y="76"/>
                  </a:lnTo>
                  <a:lnTo>
                    <a:pt x="132" y="82"/>
                  </a:lnTo>
                  <a:lnTo>
                    <a:pt x="137" y="85"/>
                  </a:lnTo>
                  <a:lnTo>
                    <a:pt x="138" y="85"/>
                  </a:lnTo>
                  <a:lnTo>
                    <a:pt x="141" y="90"/>
                  </a:lnTo>
                  <a:lnTo>
                    <a:pt x="142" y="91"/>
                  </a:lnTo>
                  <a:lnTo>
                    <a:pt x="143" y="91"/>
                  </a:lnTo>
                  <a:lnTo>
                    <a:pt x="142" y="92"/>
                  </a:lnTo>
                  <a:lnTo>
                    <a:pt x="141" y="93"/>
                  </a:lnTo>
                  <a:lnTo>
                    <a:pt x="141" y="93"/>
                  </a:lnTo>
                  <a:lnTo>
                    <a:pt x="140" y="94"/>
                  </a:lnTo>
                  <a:lnTo>
                    <a:pt x="133" y="97"/>
                  </a:lnTo>
                  <a:lnTo>
                    <a:pt x="129" y="100"/>
                  </a:lnTo>
                  <a:lnTo>
                    <a:pt x="129" y="100"/>
                  </a:lnTo>
                  <a:lnTo>
                    <a:pt x="132" y="102"/>
                  </a:lnTo>
                  <a:lnTo>
                    <a:pt x="142" y="108"/>
                  </a:lnTo>
                  <a:lnTo>
                    <a:pt x="150" y="113"/>
                  </a:lnTo>
                  <a:lnTo>
                    <a:pt x="151" y="113"/>
                  </a:lnTo>
                  <a:lnTo>
                    <a:pt x="151" y="112"/>
                  </a:lnTo>
                  <a:lnTo>
                    <a:pt x="152" y="108"/>
                  </a:lnTo>
                  <a:lnTo>
                    <a:pt x="152" y="106"/>
                  </a:lnTo>
                  <a:lnTo>
                    <a:pt x="153" y="105"/>
                  </a:lnTo>
                  <a:lnTo>
                    <a:pt x="154" y="106"/>
                  </a:lnTo>
                  <a:lnTo>
                    <a:pt x="158" y="109"/>
                  </a:lnTo>
                  <a:lnTo>
                    <a:pt x="162" y="112"/>
                  </a:lnTo>
                  <a:lnTo>
                    <a:pt x="163" y="112"/>
                  </a:lnTo>
                  <a:lnTo>
                    <a:pt x="163" y="113"/>
                  </a:lnTo>
                  <a:lnTo>
                    <a:pt x="163" y="114"/>
                  </a:lnTo>
                  <a:lnTo>
                    <a:pt x="163" y="119"/>
                  </a:lnTo>
                  <a:lnTo>
                    <a:pt x="163" y="123"/>
                  </a:lnTo>
                  <a:lnTo>
                    <a:pt x="164" y="123"/>
                  </a:lnTo>
                  <a:lnTo>
                    <a:pt x="164" y="124"/>
                  </a:lnTo>
                  <a:lnTo>
                    <a:pt x="164" y="125"/>
                  </a:lnTo>
                  <a:lnTo>
                    <a:pt x="166" y="131"/>
                  </a:lnTo>
                  <a:lnTo>
                    <a:pt x="167" y="136"/>
                  </a:lnTo>
                  <a:lnTo>
                    <a:pt x="168" y="136"/>
                  </a:lnTo>
                  <a:lnTo>
                    <a:pt x="169" y="138"/>
                  </a:lnTo>
                  <a:lnTo>
                    <a:pt x="173" y="141"/>
                  </a:lnTo>
                  <a:lnTo>
                    <a:pt x="176" y="143"/>
                  </a:lnTo>
                  <a:lnTo>
                    <a:pt x="177" y="143"/>
                  </a:lnTo>
                  <a:lnTo>
                    <a:pt x="178" y="146"/>
                  </a:lnTo>
                  <a:lnTo>
                    <a:pt x="181" y="149"/>
                  </a:lnTo>
                  <a:lnTo>
                    <a:pt x="184" y="151"/>
                  </a:lnTo>
                  <a:lnTo>
                    <a:pt x="185" y="151"/>
                  </a:lnTo>
                  <a:lnTo>
                    <a:pt x="185" y="152"/>
                  </a:lnTo>
                  <a:lnTo>
                    <a:pt x="186" y="155"/>
                  </a:lnTo>
                  <a:lnTo>
                    <a:pt x="186" y="157"/>
                  </a:lnTo>
                  <a:lnTo>
                    <a:pt x="187" y="157"/>
                  </a:lnTo>
                  <a:lnTo>
                    <a:pt x="187" y="158"/>
                  </a:lnTo>
                  <a:lnTo>
                    <a:pt x="187" y="159"/>
                  </a:lnTo>
                  <a:lnTo>
                    <a:pt x="187" y="165"/>
                  </a:lnTo>
                  <a:lnTo>
                    <a:pt x="187" y="170"/>
                  </a:lnTo>
                  <a:lnTo>
                    <a:pt x="188" y="170"/>
                  </a:lnTo>
                  <a:lnTo>
                    <a:pt x="188" y="171"/>
                  </a:lnTo>
                  <a:lnTo>
                    <a:pt x="188" y="173"/>
                  </a:lnTo>
                  <a:lnTo>
                    <a:pt x="189" y="179"/>
                  </a:lnTo>
                  <a:lnTo>
                    <a:pt x="190" y="184"/>
                  </a:lnTo>
                  <a:lnTo>
                    <a:pt x="191" y="184"/>
                  </a:lnTo>
                  <a:lnTo>
                    <a:pt x="188" y="183"/>
                  </a:lnTo>
                  <a:lnTo>
                    <a:pt x="187" y="182"/>
                  </a:lnTo>
                  <a:lnTo>
                    <a:pt x="187" y="181"/>
                  </a:lnTo>
                  <a:lnTo>
                    <a:pt x="184" y="179"/>
                  </a:lnTo>
                  <a:lnTo>
                    <a:pt x="177" y="176"/>
                  </a:lnTo>
                  <a:lnTo>
                    <a:pt x="172" y="173"/>
                  </a:lnTo>
                  <a:lnTo>
                    <a:pt x="172" y="172"/>
                  </a:lnTo>
                  <a:lnTo>
                    <a:pt x="169" y="173"/>
                  </a:lnTo>
                  <a:lnTo>
                    <a:pt x="164" y="174"/>
                  </a:lnTo>
                  <a:lnTo>
                    <a:pt x="161" y="174"/>
                  </a:lnTo>
                  <a:lnTo>
                    <a:pt x="161" y="174"/>
                  </a:lnTo>
                  <a:lnTo>
                    <a:pt x="161" y="175"/>
                  </a:lnTo>
                  <a:lnTo>
                    <a:pt x="161" y="176"/>
                  </a:lnTo>
                  <a:lnTo>
                    <a:pt x="162" y="183"/>
                  </a:lnTo>
                  <a:lnTo>
                    <a:pt x="163" y="187"/>
                  </a:lnTo>
                  <a:lnTo>
                    <a:pt x="164" y="187"/>
                  </a:lnTo>
                  <a:lnTo>
                    <a:pt x="166" y="189"/>
                  </a:lnTo>
                  <a:lnTo>
                    <a:pt x="167" y="189"/>
                  </a:lnTo>
                  <a:lnTo>
                    <a:pt x="169" y="189"/>
                  </a:lnTo>
                  <a:lnTo>
                    <a:pt x="170" y="189"/>
                  </a:lnTo>
                  <a:lnTo>
                    <a:pt x="172" y="188"/>
                  </a:lnTo>
                  <a:lnTo>
                    <a:pt x="175" y="193"/>
                  </a:lnTo>
                  <a:lnTo>
                    <a:pt x="177" y="195"/>
                  </a:lnTo>
                  <a:lnTo>
                    <a:pt x="178" y="195"/>
                  </a:lnTo>
                  <a:lnTo>
                    <a:pt x="178" y="196"/>
                  </a:lnTo>
                  <a:lnTo>
                    <a:pt x="178" y="198"/>
                  </a:lnTo>
                  <a:lnTo>
                    <a:pt x="180" y="205"/>
                  </a:lnTo>
                  <a:lnTo>
                    <a:pt x="181" y="209"/>
                  </a:lnTo>
                  <a:lnTo>
                    <a:pt x="183" y="209"/>
                  </a:lnTo>
                  <a:lnTo>
                    <a:pt x="184" y="211"/>
                  </a:lnTo>
                  <a:lnTo>
                    <a:pt x="189" y="218"/>
                  </a:lnTo>
                  <a:lnTo>
                    <a:pt x="193" y="222"/>
                  </a:lnTo>
                  <a:lnTo>
                    <a:pt x="195" y="222"/>
                  </a:lnTo>
                  <a:lnTo>
                    <a:pt x="196" y="227"/>
                  </a:lnTo>
                  <a:lnTo>
                    <a:pt x="201" y="236"/>
                  </a:lnTo>
                  <a:lnTo>
                    <a:pt x="205" y="244"/>
                  </a:lnTo>
                  <a:lnTo>
                    <a:pt x="207" y="244"/>
                  </a:lnTo>
                  <a:lnTo>
                    <a:pt x="208" y="246"/>
                  </a:lnTo>
                  <a:lnTo>
                    <a:pt x="212" y="252"/>
                  </a:lnTo>
                  <a:lnTo>
                    <a:pt x="215" y="256"/>
                  </a:lnTo>
                  <a:lnTo>
                    <a:pt x="216" y="256"/>
                  </a:lnTo>
                  <a:lnTo>
                    <a:pt x="216" y="257"/>
                  </a:lnTo>
                  <a:lnTo>
                    <a:pt x="216" y="259"/>
                  </a:lnTo>
                  <a:lnTo>
                    <a:pt x="216" y="260"/>
                  </a:lnTo>
                  <a:lnTo>
                    <a:pt x="217" y="260"/>
                  </a:lnTo>
                  <a:lnTo>
                    <a:pt x="216" y="262"/>
                  </a:lnTo>
                  <a:lnTo>
                    <a:pt x="215" y="263"/>
                  </a:lnTo>
                  <a:lnTo>
                    <a:pt x="210" y="269"/>
                  </a:lnTo>
                  <a:lnTo>
                    <a:pt x="207" y="274"/>
                  </a:lnTo>
                  <a:lnTo>
                    <a:pt x="207" y="274"/>
                  </a:lnTo>
                  <a:lnTo>
                    <a:pt x="205" y="277"/>
                  </a:lnTo>
                  <a:lnTo>
                    <a:pt x="203" y="283"/>
                  </a:lnTo>
                  <a:lnTo>
                    <a:pt x="202" y="288"/>
                  </a:lnTo>
                  <a:lnTo>
                    <a:pt x="202" y="288"/>
                  </a:lnTo>
                  <a:lnTo>
                    <a:pt x="202" y="289"/>
                  </a:lnTo>
                  <a:lnTo>
                    <a:pt x="202" y="292"/>
                  </a:lnTo>
                  <a:lnTo>
                    <a:pt x="202" y="293"/>
                  </a:lnTo>
                  <a:lnTo>
                    <a:pt x="203" y="293"/>
                  </a:lnTo>
                  <a:lnTo>
                    <a:pt x="208" y="295"/>
                  </a:lnTo>
                  <a:lnTo>
                    <a:pt x="210" y="295"/>
                  </a:lnTo>
                  <a:lnTo>
                    <a:pt x="211" y="295"/>
                  </a:lnTo>
                  <a:lnTo>
                    <a:pt x="210" y="299"/>
                  </a:lnTo>
                  <a:lnTo>
                    <a:pt x="209" y="305"/>
                  </a:lnTo>
                  <a:lnTo>
                    <a:pt x="208" y="310"/>
                  </a:lnTo>
                  <a:lnTo>
                    <a:pt x="208" y="310"/>
                  </a:lnTo>
                  <a:lnTo>
                    <a:pt x="203" y="311"/>
                  </a:lnTo>
                  <a:lnTo>
                    <a:pt x="202" y="311"/>
                  </a:lnTo>
                  <a:lnTo>
                    <a:pt x="202" y="311"/>
                  </a:lnTo>
                  <a:lnTo>
                    <a:pt x="201" y="312"/>
                  </a:lnTo>
                  <a:lnTo>
                    <a:pt x="198" y="316"/>
                  </a:lnTo>
                  <a:lnTo>
                    <a:pt x="196" y="320"/>
                  </a:lnTo>
                  <a:lnTo>
                    <a:pt x="196" y="320"/>
                  </a:lnTo>
                  <a:lnTo>
                    <a:pt x="197" y="322"/>
                  </a:lnTo>
                  <a:lnTo>
                    <a:pt x="198" y="323"/>
                  </a:lnTo>
                  <a:lnTo>
                    <a:pt x="199" y="323"/>
                  </a:lnTo>
                  <a:lnTo>
                    <a:pt x="202" y="323"/>
                  </a:lnTo>
                  <a:lnTo>
                    <a:pt x="203" y="323"/>
                  </a:lnTo>
                  <a:lnTo>
                    <a:pt x="204" y="323"/>
                  </a:lnTo>
                  <a:lnTo>
                    <a:pt x="205" y="324"/>
                  </a:lnTo>
                  <a:lnTo>
                    <a:pt x="209" y="325"/>
                  </a:lnTo>
                  <a:lnTo>
                    <a:pt x="211" y="326"/>
                  </a:lnTo>
                  <a:lnTo>
                    <a:pt x="212" y="326"/>
                  </a:lnTo>
                  <a:lnTo>
                    <a:pt x="213" y="328"/>
                  </a:lnTo>
                  <a:lnTo>
                    <a:pt x="214" y="328"/>
                  </a:lnTo>
                  <a:lnTo>
                    <a:pt x="222" y="330"/>
                  </a:lnTo>
                  <a:lnTo>
                    <a:pt x="226" y="330"/>
                  </a:lnTo>
                  <a:lnTo>
                    <a:pt x="227" y="330"/>
                  </a:lnTo>
                  <a:lnTo>
                    <a:pt x="231" y="328"/>
                  </a:lnTo>
                  <a:lnTo>
                    <a:pt x="232" y="327"/>
                  </a:lnTo>
                  <a:lnTo>
                    <a:pt x="233" y="326"/>
                  </a:lnTo>
                  <a:lnTo>
                    <a:pt x="234" y="326"/>
                  </a:lnTo>
                  <a:lnTo>
                    <a:pt x="239" y="325"/>
                  </a:lnTo>
                  <a:lnTo>
                    <a:pt x="244" y="324"/>
                  </a:lnTo>
                  <a:lnTo>
                    <a:pt x="245" y="323"/>
                  </a:lnTo>
                  <a:lnTo>
                    <a:pt x="246" y="324"/>
                  </a:lnTo>
                  <a:lnTo>
                    <a:pt x="249" y="325"/>
                  </a:lnTo>
                  <a:lnTo>
                    <a:pt x="251" y="326"/>
                  </a:lnTo>
                  <a:lnTo>
                    <a:pt x="252" y="326"/>
                  </a:lnTo>
                  <a:lnTo>
                    <a:pt x="252" y="327"/>
                  </a:lnTo>
                  <a:lnTo>
                    <a:pt x="252" y="329"/>
                  </a:lnTo>
                  <a:lnTo>
                    <a:pt x="252" y="337"/>
                  </a:lnTo>
                  <a:lnTo>
                    <a:pt x="252" y="344"/>
                  </a:lnTo>
                  <a:lnTo>
                    <a:pt x="254" y="344"/>
                  </a:lnTo>
                  <a:lnTo>
                    <a:pt x="254" y="345"/>
                  </a:lnTo>
                  <a:lnTo>
                    <a:pt x="254" y="347"/>
                  </a:lnTo>
                  <a:lnTo>
                    <a:pt x="255" y="353"/>
                  </a:lnTo>
                  <a:lnTo>
                    <a:pt x="256" y="359"/>
                  </a:lnTo>
                  <a:lnTo>
                    <a:pt x="257" y="359"/>
                  </a:lnTo>
                  <a:lnTo>
                    <a:pt x="263" y="362"/>
                  </a:lnTo>
                  <a:lnTo>
                    <a:pt x="268" y="363"/>
                  </a:lnTo>
                  <a:lnTo>
                    <a:pt x="269" y="363"/>
                  </a:lnTo>
                  <a:lnTo>
                    <a:pt x="270" y="362"/>
                  </a:lnTo>
                  <a:lnTo>
                    <a:pt x="273" y="356"/>
                  </a:lnTo>
                  <a:lnTo>
                    <a:pt x="277" y="351"/>
                  </a:lnTo>
                  <a:lnTo>
                    <a:pt x="278" y="350"/>
                  </a:lnTo>
                  <a:lnTo>
                    <a:pt x="278" y="347"/>
                  </a:lnTo>
                  <a:lnTo>
                    <a:pt x="278" y="335"/>
                  </a:lnTo>
                  <a:lnTo>
                    <a:pt x="278" y="326"/>
                  </a:lnTo>
                  <a:lnTo>
                    <a:pt x="279" y="325"/>
                  </a:lnTo>
                  <a:lnTo>
                    <a:pt x="279" y="322"/>
                  </a:lnTo>
                  <a:lnTo>
                    <a:pt x="278" y="311"/>
                  </a:lnTo>
                  <a:lnTo>
                    <a:pt x="278" y="302"/>
                  </a:lnTo>
                  <a:lnTo>
                    <a:pt x="279" y="301"/>
                  </a:lnTo>
                  <a:lnTo>
                    <a:pt x="279" y="300"/>
                  </a:lnTo>
                  <a:lnTo>
                    <a:pt x="278" y="294"/>
                  </a:lnTo>
                  <a:lnTo>
                    <a:pt x="278" y="291"/>
                  </a:lnTo>
                  <a:lnTo>
                    <a:pt x="279" y="290"/>
                  </a:lnTo>
                  <a:lnTo>
                    <a:pt x="277" y="288"/>
                  </a:lnTo>
                  <a:lnTo>
                    <a:pt x="272" y="280"/>
                  </a:lnTo>
                  <a:lnTo>
                    <a:pt x="269" y="274"/>
                  </a:lnTo>
                  <a:lnTo>
                    <a:pt x="269" y="272"/>
                  </a:lnTo>
                  <a:lnTo>
                    <a:pt x="270" y="272"/>
                  </a:lnTo>
                  <a:lnTo>
                    <a:pt x="273" y="271"/>
                  </a:lnTo>
                  <a:lnTo>
                    <a:pt x="275" y="271"/>
                  </a:lnTo>
                  <a:lnTo>
                    <a:pt x="277" y="270"/>
                  </a:lnTo>
                  <a:lnTo>
                    <a:pt x="277" y="271"/>
                  </a:lnTo>
                  <a:lnTo>
                    <a:pt x="277" y="272"/>
                  </a:lnTo>
                  <a:lnTo>
                    <a:pt x="279" y="278"/>
                  </a:lnTo>
                  <a:lnTo>
                    <a:pt x="280" y="282"/>
                  </a:lnTo>
                  <a:lnTo>
                    <a:pt x="281" y="282"/>
                  </a:lnTo>
                  <a:lnTo>
                    <a:pt x="283" y="283"/>
                  </a:lnTo>
                  <a:lnTo>
                    <a:pt x="290" y="286"/>
                  </a:lnTo>
                  <a:lnTo>
                    <a:pt x="294" y="287"/>
                  </a:lnTo>
                  <a:lnTo>
                    <a:pt x="295" y="287"/>
                  </a:lnTo>
                  <a:lnTo>
                    <a:pt x="302" y="289"/>
                  </a:lnTo>
                  <a:lnTo>
                    <a:pt x="306" y="289"/>
                  </a:lnTo>
                  <a:lnTo>
                    <a:pt x="307" y="289"/>
                  </a:lnTo>
                  <a:lnTo>
                    <a:pt x="307" y="292"/>
                  </a:lnTo>
                  <a:lnTo>
                    <a:pt x="306" y="302"/>
                  </a:lnTo>
                  <a:lnTo>
                    <a:pt x="306" y="310"/>
                  </a:lnTo>
                  <a:lnTo>
                    <a:pt x="307" y="310"/>
                  </a:lnTo>
                  <a:lnTo>
                    <a:pt x="308" y="312"/>
                  </a:lnTo>
                  <a:lnTo>
                    <a:pt x="309" y="313"/>
                  </a:lnTo>
                  <a:lnTo>
                    <a:pt x="309" y="314"/>
                  </a:lnTo>
                  <a:lnTo>
                    <a:pt x="309" y="316"/>
                  </a:lnTo>
                  <a:lnTo>
                    <a:pt x="309" y="323"/>
                  </a:lnTo>
                  <a:lnTo>
                    <a:pt x="309" y="328"/>
                  </a:lnTo>
                  <a:lnTo>
                    <a:pt x="310" y="328"/>
                  </a:lnTo>
                  <a:lnTo>
                    <a:pt x="310" y="329"/>
                  </a:lnTo>
                  <a:lnTo>
                    <a:pt x="310" y="330"/>
                  </a:lnTo>
                  <a:lnTo>
                    <a:pt x="312" y="336"/>
                  </a:lnTo>
                  <a:lnTo>
                    <a:pt x="312" y="339"/>
                  </a:lnTo>
                  <a:lnTo>
                    <a:pt x="313" y="339"/>
                  </a:lnTo>
                  <a:lnTo>
                    <a:pt x="313" y="341"/>
                  </a:lnTo>
                  <a:lnTo>
                    <a:pt x="312" y="346"/>
                  </a:lnTo>
                  <a:lnTo>
                    <a:pt x="312" y="349"/>
                  </a:lnTo>
                  <a:lnTo>
                    <a:pt x="313" y="349"/>
                  </a:lnTo>
                  <a:lnTo>
                    <a:pt x="312" y="351"/>
                  </a:lnTo>
                  <a:lnTo>
                    <a:pt x="310" y="355"/>
                  </a:lnTo>
                  <a:lnTo>
                    <a:pt x="310" y="357"/>
                  </a:lnTo>
                  <a:lnTo>
                    <a:pt x="310" y="357"/>
                  </a:lnTo>
                  <a:lnTo>
                    <a:pt x="310" y="358"/>
                  </a:lnTo>
                  <a:lnTo>
                    <a:pt x="310" y="360"/>
                  </a:lnTo>
                  <a:lnTo>
                    <a:pt x="310" y="367"/>
                  </a:lnTo>
                  <a:lnTo>
                    <a:pt x="310" y="371"/>
                  </a:lnTo>
                  <a:lnTo>
                    <a:pt x="312" y="371"/>
                  </a:lnTo>
                  <a:lnTo>
                    <a:pt x="315" y="376"/>
                  </a:lnTo>
                  <a:lnTo>
                    <a:pt x="317" y="379"/>
                  </a:lnTo>
                  <a:lnTo>
                    <a:pt x="318" y="379"/>
                  </a:lnTo>
                  <a:lnTo>
                    <a:pt x="318" y="380"/>
                  </a:lnTo>
                  <a:lnTo>
                    <a:pt x="318" y="381"/>
                  </a:lnTo>
                  <a:lnTo>
                    <a:pt x="320" y="386"/>
                  </a:lnTo>
                  <a:lnTo>
                    <a:pt x="321" y="390"/>
                  </a:lnTo>
                  <a:lnTo>
                    <a:pt x="322" y="390"/>
                  </a:lnTo>
                  <a:lnTo>
                    <a:pt x="322" y="391"/>
                  </a:lnTo>
                  <a:lnTo>
                    <a:pt x="322" y="393"/>
                  </a:lnTo>
                  <a:lnTo>
                    <a:pt x="324" y="403"/>
                  </a:lnTo>
                  <a:lnTo>
                    <a:pt x="324" y="410"/>
                  </a:lnTo>
                  <a:lnTo>
                    <a:pt x="325" y="410"/>
                  </a:lnTo>
                  <a:lnTo>
                    <a:pt x="326" y="412"/>
                  </a:lnTo>
                  <a:lnTo>
                    <a:pt x="332" y="418"/>
                  </a:lnTo>
                  <a:lnTo>
                    <a:pt x="337" y="422"/>
                  </a:lnTo>
                  <a:lnTo>
                    <a:pt x="338" y="422"/>
                  </a:lnTo>
                  <a:lnTo>
                    <a:pt x="340" y="422"/>
                  </a:lnTo>
                  <a:lnTo>
                    <a:pt x="346" y="422"/>
                  </a:lnTo>
                  <a:lnTo>
                    <a:pt x="352" y="422"/>
                  </a:lnTo>
                  <a:lnTo>
                    <a:pt x="353" y="421"/>
                  </a:lnTo>
                  <a:lnTo>
                    <a:pt x="355" y="425"/>
                  </a:lnTo>
                  <a:lnTo>
                    <a:pt x="365" y="431"/>
                  </a:lnTo>
                  <a:lnTo>
                    <a:pt x="372" y="437"/>
                  </a:lnTo>
                  <a:lnTo>
                    <a:pt x="373" y="437"/>
                  </a:lnTo>
                  <a:lnTo>
                    <a:pt x="376" y="439"/>
                  </a:lnTo>
                  <a:lnTo>
                    <a:pt x="387" y="442"/>
                  </a:lnTo>
                  <a:lnTo>
                    <a:pt x="395" y="444"/>
                  </a:lnTo>
                  <a:lnTo>
                    <a:pt x="396" y="444"/>
                  </a:lnTo>
                  <a:lnTo>
                    <a:pt x="399" y="445"/>
                  </a:lnTo>
                  <a:lnTo>
                    <a:pt x="411" y="449"/>
                  </a:lnTo>
                  <a:lnTo>
                    <a:pt x="420" y="451"/>
                  </a:lnTo>
                  <a:lnTo>
                    <a:pt x="421" y="451"/>
                  </a:lnTo>
                  <a:lnTo>
                    <a:pt x="423" y="453"/>
                  </a:lnTo>
                  <a:lnTo>
                    <a:pt x="430" y="456"/>
                  </a:lnTo>
                  <a:lnTo>
                    <a:pt x="434" y="458"/>
                  </a:lnTo>
                  <a:lnTo>
                    <a:pt x="435" y="458"/>
                  </a:lnTo>
                  <a:lnTo>
                    <a:pt x="441" y="461"/>
                  </a:lnTo>
                  <a:lnTo>
                    <a:pt x="444" y="462"/>
                  </a:lnTo>
                  <a:lnTo>
                    <a:pt x="445" y="462"/>
                  </a:lnTo>
                  <a:lnTo>
                    <a:pt x="446" y="462"/>
                  </a:lnTo>
                  <a:lnTo>
                    <a:pt x="449" y="462"/>
                  </a:lnTo>
                  <a:lnTo>
                    <a:pt x="453" y="462"/>
                  </a:lnTo>
                  <a:lnTo>
                    <a:pt x="454" y="461"/>
                  </a:lnTo>
                  <a:lnTo>
                    <a:pt x="455" y="460"/>
                  </a:lnTo>
                  <a:lnTo>
                    <a:pt x="459" y="454"/>
                  </a:lnTo>
                  <a:lnTo>
                    <a:pt x="462" y="450"/>
                  </a:lnTo>
                  <a:lnTo>
                    <a:pt x="463" y="449"/>
                  </a:lnTo>
                  <a:lnTo>
                    <a:pt x="465" y="449"/>
                  </a:lnTo>
                  <a:lnTo>
                    <a:pt x="468" y="449"/>
                  </a:lnTo>
                  <a:lnTo>
                    <a:pt x="470" y="449"/>
                  </a:lnTo>
                  <a:lnTo>
                    <a:pt x="471" y="449"/>
                  </a:lnTo>
                  <a:lnTo>
                    <a:pt x="472" y="446"/>
                  </a:lnTo>
                  <a:lnTo>
                    <a:pt x="475" y="440"/>
                  </a:lnTo>
                  <a:lnTo>
                    <a:pt x="479" y="435"/>
                  </a:lnTo>
                  <a:lnTo>
                    <a:pt x="480" y="434"/>
                  </a:lnTo>
                  <a:lnTo>
                    <a:pt x="481" y="433"/>
                  </a:lnTo>
                  <a:lnTo>
                    <a:pt x="484" y="430"/>
                  </a:lnTo>
                  <a:lnTo>
                    <a:pt x="486" y="427"/>
                  </a:lnTo>
                  <a:lnTo>
                    <a:pt x="488" y="426"/>
                  </a:lnTo>
                  <a:lnTo>
                    <a:pt x="492" y="422"/>
                  </a:lnTo>
                  <a:lnTo>
                    <a:pt x="495" y="421"/>
                  </a:lnTo>
                  <a:lnTo>
                    <a:pt x="496" y="420"/>
                  </a:lnTo>
                  <a:lnTo>
                    <a:pt x="497" y="419"/>
                  </a:lnTo>
                  <a:lnTo>
                    <a:pt x="502" y="416"/>
                  </a:lnTo>
                  <a:lnTo>
                    <a:pt x="505" y="412"/>
                  </a:lnTo>
                  <a:lnTo>
                    <a:pt x="506" y="411"/>
                  </a:lnTo>
                  <a:lnTo>
                    <a:pt x="508" y="410"/>
                  </a:lnTo>
                  <a:lnTo>
                    <a:pt x="515" y="407"/>
                  </a:lnTo>
                  <a:lnTo>
                    <a:pt x="519" y="404"/>
                  </a:lnTo>
                  <a:lnTo>
                    <a:pt x="520" y="403"/>
                  </a:lnTo>
                  <a:lnTo>
                    <a:pt x="524" y="399"/>
                  </a:lnTo>
                  <a:lnTo>
                    <a:pt x="526" y="397"/>
                  </a:lnTo>
                  <a:lnTo>
                    <a:pt x="527" y="396"/>
                  </a:lnTo>
                  <a:lnTo>
                    <a:pt x="528" y="396"/>
                  </a:lnTo>
                  <a:lnTo>
                    <a:pt x="533" y="394"/>
                  </a:lnTo>
                  <a:lnTo>
                    <a:pt x="537" y="393"/>
                  </a:lnTo>
                  <a:lnTo>
                    <a:pt x="538" y="392"/>
                  </a:lnTo>
                  <a:lnTo>
                    <a:pt x="540" y="393"/>
                  </a:lnTo>
                  <a:lnTo>
                    <a:pt x="547" y="394"/>
                  </a:lnTo>
                  <a:lnTo>
                    <a:pt x="552" y="394"/>
                  </a:lnTo>
                  <a:lnTo>
                    <a:pt x="553" y="394"/>
                  </a:lnTo>
                  <a:lnTo>
                    <a:pt x="560" y="399"/>
                  </a:lnTo>
                  <a:lnTo>
                    <a:pt x="564" y="403"/>
                  </a:lnTo>
                  <a:lnTo>
                    <a:pt x="565" y="403"/>
                  </a:lnTo>
                  <a:lnTo>
                    <a:pt x="571" y="408"/>
                  </a:lnTo>
                  <a:lnTo>
                    <a:pt x="574" y="410"/>
                  </a:lnTo>
                  <a:lnTo>
                    <a:pt x="575" y="410"/>
                  </a:lnTo>
                  <a:lnTo>
                    <a:pt x="575" y="412"/>
                  </a:lnTo>
                  <a:lnTo>
                    <a:pt x="574" y="417"/>
                  </a:lnTo>
                  <a:lnTo>
                    <a:pt x="574" y="420"/>
                  </a:lnTo>
                  <a:lnTo>
                    <a:pt x="575" y="420"/>
                  </a:lnTo>
                  <a:lnTo>
                    <a:pt x="574" y="423"/>
                  </a:lnTo>
                  <a:lnTo>
                    <a:pt x="572" y="431"/>
                  </a:lnTo>
                  <a:lnTo>
                    <a:pt x="571" y="438"/>
                  </a:lnTo>
                  <a:lnTo>
                    <a:pt x="571" y="438"/>
                  </a:lnTo>
                  <a:lnTo>
                    <a:pt x="570" y="440"/>
                  </a:lnTo>
                  <a:lnTo>
                    <a:pt x="567" y="445"/>
                  </a:lnTo>
                  <a:lnTo>
                    <a:pt x="566" y="450"/>
                  </a:lnTo>
                  <a:lnTo>
                    <a:pt x="566" y="450"/>
                  </a:lnTo>
                  <a:lnTo>
                    <a:pt x="565" y="451"/>
                  </a:lnTo>
                  <a:lnTo>
                    <a:pt x="564" y="453"/>
                  </a:lnTo>
                  <a:lnTo>
                    <a:pt x="561" y="460"/>
                  </a:lnTo>
                  <a:lnTo>
                    <a:pt x="559" y="465"/>
                  </a:lnTo>
                  <a:lnTo>
                    <a:pt x="559" y="465"/>
                  </a:lnTo>
                  <a:lnTo>
                    <a:pt x="557" y="470"/>
                  </a:lnTo>
                  <a:lnTo>
                    <a:pt x="556" y="486"/>
                  </a:lnTo>
                  <a:lnTo>
                    <a:pt x="556" y="497"/>
                  </a:lnTo>
                  <a:lnTo>
                    <a:pt x="556" y="497"/>
                  </a:lnTo>
                  <a:lnTo>
                    <a:pt x="555" y="498"/>
                  </a:lnTo>
                  <a:lnTo>
                    <a:pt x="554" y="501"/>
                  </a:lnTo>
                  <a:lnTo>
                    <a:pt x="553" y="503"/>
                  </a:lnTo>
                  <a:lnTo>
                    <a:pt x="553" y="503"/>
                  </a:lnTo>
                  <a:lnTo>
                    <a:pt x="553" y="505"/>
                  </a:lnTo>
                  <a:lnTo>
                    <a:pt x="552" y="512"/>
                  </a:lnTo>
                  <a:lnTo>
                    <a:pt x="552" y="516"/>
                  </a:lnTo>
                  <a:lnTo>
                    <a:pt x="553" y="516"/>
                  </a:lnTo>
                  <a:lnTo>
                    <a:pt x="552" y="520"/>
                  </a:lnTo>
                  <a:lnTo>
                    <a:pt x="549" y="527"/>
                  </a:lnTo>
                  <a:lnTo>
                    <a:pt x="547" y="534"/>
                  </a:lnTo>
                  <a:lnTo>
                    <a:pt x="547" y="534"/>
                  </a:lnTo>
                  <a:lnTo>
                    <a:pt x="545" y="535"/>
                  </a:lnTo>
                  <a:lnTo>
                    <a:pt x="543" y="537"/>
                  </a:lnTo>
                  <a:lnTo>
                    <a:pt x="536" y="544"/>
                  </a:lnTo>
                  <a:lnTo>
                    <a:pt x="530" y="548"/>
                  </a:lnTo>
                  <a:lnTo>
                    <a:pt x="530" y="548"/>
                  </a:lnTo>
                  <a:lnTo>
                    <a:pt x="527" y="549"/>
                  </a:lnTo>
                  <a:lnTo>
                    <a:pt x="519" y="553"/>
                  </a:lnTo>
                  <a:lnTo>
                    <a:pt x="514" y="554"/>
                  </a:lnTo>
                  <a:lnTo>
                    <a:pt x="514" y="554"/>
                  </a:lnTo>
                  <a:lnTo>
                    <a:pt x="513" y="556"/>
                  </a:lnTo>
                  <a:lnTo>
                    <a:pt x="512" y="561"/>
                  </a:lnTo>
                  <a:lnTo>
                    <a:pt x="512" y="566"/>
                  </a:lnTo>
                  <a:lnTo>
                    <a:pt x="512" y="566"/>
                  </a:lnTo>
                  <a:lnTo>
                    <a:pt x="510" y="569"/>
                  </a:lnTo>
                  <a:lnTo>
                    <a:pt x="509" y="575"/>
                  </a:lnTo>
                  <a:lnTo>
                    <a:pt x="508" y="581"/>
                  </a:lnTo>
                  <a:lnTo>
                    <a:pt x="508" y="581"/>
                  </a:lnTo>
                  <a:lnTo>
                    <a:pt x="507" y="582"/>
                  </a:lnTo>
                  <a:lnTo>
                    <a:pt x="504" y="585"/>
                  </a:lnTo>
                  <a:lnTo>
                    <a:pt x="503" y="588"/>
                  </a:lnTo>
                  <a:lnTo>
                    <a:pt x="503" y="588"/>
                  </a:lnTo>
                  <a:lnTo>
                    <a:pt x="503" y="589"/>
                  </a:lnTo>
                  <a:lnTo>
                    <a:pt x="503" y="591"/>
                  </a:lnTo>
                  <a:lnTo>
                    <a:pt x="503" y="598"/>
                  </a:lnTo>
                  <a:lnTo>
                    <a:pt x="503" y="604"/>
                  </a:lnTo>
                  <a:lnTo>
                    <a:pt x="504" y="604"/>
                  </a:lnTo>
                  <a:lnTo>
                    <a:pt x="506" y="606"/>
                  </a:lnTo>
                  <a:lnTo>
                    <a:pt x="507" y="607"/>
                  </a:lnTo>
                  <a:lnTo>
                    <a:pt x="508" y="607"/>
                  </a:lnTo>
                  <a:lnTo>
                    <a:pt x="508" y="609"/>
                  </a:lnTo>
                  <a:lnTo>
                    <a:pt x="507" y="613"/>
                  </a:lnTo>
                  <a:lnTo>
                    <a:pt x="507" y="615"/>
                  </a:lnTo>
                  <a:lnTo>
                    <a:pt x="508" y="615"/>
                  </a:lnTo>
                  <a:lnTo>
                    <a:pt x="507" y="616"/>
                  </a:lnTo>
                  <a:lnTo>
                    <a:pt x="506" y="618"/>
                  </a:lnTo>
                  <a:lnTo>
                    <a:pt x="501" y="625"/>
                  </a:lnTo>
                  <a:lnTo>
                    <a:pt x="497" y="629"/>
                  </a:lnTo>
                  <a:lnTo>
                    <a:pt x="497" y="629"/>
                  </a:lnTo>
                  <a:lnTo>
                    <a:pt x="496" y="626"/>
                  </a:lnTo>
                  <a:lnTo>
                    <a:pt x="495" y="615"/>
                  </a:lnTo>
                  <a:lnTo>
                    <a:pt x="495" y="606"/>
                  </a:lnTo>
                  <a:lnTo>
                    <a:pt x="495" y="605"/>
                  </a:lnTo>
                  <a:lnTo>
                    <a:pt x="490" y="604"/>
                  </a:lnTo>
                  <a:lnTo>
                    <a:pt x="488" y="603"/>
                  </a:lnTo>
                  <a:lnTo>
                    <a:pt x="488" y="602"/>
                  </a:lnTo>
                  <a:lnTo>
                    <a:pt x="485" y="603"/>
                  </a:lnTo>
                  <a:lnTo>
                    <a:pt x="480" y="604"/>
                  </a:lnTo>
                  <a:lnTo>
                    <a:pt x="475" y="604"/>
                  </a:lnTo>
                  <a:lnTo>
                    <a:pt x="475" y="604"/>
                  </a:lnTo>
                  <a:lnTo>
                    <a:pt x="472" y="605"/>
                  </a:lnTo>
                  <a:lnTo>
                    <a:pt x="466" y="606"/>
                  </a:lnTo>
                  <a:lnTo>
                    <a:pt x="460" y="607"/>
                  </a:lnTo>
                  <a:lnTo>
                    <a:pt x="460" y="607"/>
                  </a:lnTo>
                  <a:lnTo>
                    <a:pt x="457" y="608"/>
                  </a:lnTo>
                  <a:lnTo>
                    <a:pt x="450" y="608"/>
                  </a:lnTo>
                  <a:lnTo>
                    <a:pt x="446" y="608"/>
                  </a:lnTo>
                  <a:lnTo>
                    <a:pt x="446" y="608"/>
                  </a:lnTo>
                  <a:lnTo>
                    <a:pt x="444" y="609"/>
                  </a:lnTo>
                  <a:lnTo>
                    <a:pt x="438" y="612"/>
                  </a:lnTo>
                  <a:lnTo>
                    <a:pt x="435" y="613"/>
                  </a:lnTo>
                  <a:lnTo>
                    <a:pt x="435" y="613"/>
                  </a:lnTo>
                  <a:lnTo>
                    <a:pt x="434" y="614"/>
                  </a:lnTo>
                  <a:lnTo>
                    <a:pt x="433" y="615"/>
                  </a:lnTo>
                  <a:lnTo>
                    <a:pt x="428" y="620"/>
                  </a:lnTo>
                  <a:lnTo>
                    <a:pt x="425" y="624"/>
                  </a:lnTo>
                  <a:lnTo>
                    <a:pt x="425" y="624"/>
                  </a:lnTo>
                  <a:lnTo>
                    <a:pt x="424" y="625"/>
                  </a:lnTo>
                  <a:lnTo>
                    <a:pt x="422" y="627"/>
                  </a:lnTo>
                  <a:lnTo>
                    <a:pt x="415" y="635"/>
                  </a:lnTo>
                  <a:lnTo>
                    <a:pt x="410" y="641"/>
                  </a:lnTo>
                  <a:lnTo>
                    <a:pt x="410" y="641"/>
                  </a:lnTo>
                  <a:lnTo>
                    <a:pt x="409" y="642"/>
                  </a:lnTo>
                  <a:lnTo>
                    <a:pt x="408" y="643"/>
                  </a:lnTo>
                  <a:lnTo>
                    <a:pt x="404" y="648"/>
                  </a:lnTo>
                  <a:lnTo>
                    <a:pt x="401" y="651"/>
                  </a:lnTo>
                  <a:lnTo>
                    <a:pt x="401" y="651"/>
                  </a:lnTo>
                  <a:lnTo>
                    <a:pt x="400" y="652"/>
                  </a:lnTo>
                  <a:lnTo>
                    <a:pt x="399" y="654"/>
                  </a:lnTo>
                  <a:lnTo>
                    <a:pt x="393" y="661"/>
                  </a:lnTo>
                  <a:lnTo>
                    <a:pt x="390" y="666"/>
                  </a:lnTo>
                  <a:lnTo>
                    <a:pt x="390" y="666"/>
                  </a:lnTo>
                  <a:lnTo>
                    <a:pt x="390" y="667"/>
                  </a:lnTo>
                  <a:lnTo>
                    <a:pt x="390" y="668"/>
                  </a:lnTo>
                  <a:lnTo>
                    <a:pt x="390" y="672"/>
                  </a:lnTo>
                  <a:lnTo>
                    <a:pt x="390" y="675"/>
                  </a:lnTo>
                  <a:lnTo>
                    <a:pt x="391" y="675"/>
                  </a:lnTo>
                  <a:lnTo>
                    <a:pt x="393" y="674"/>
                  </a:lnTo>
                  <a:lnTo>
                    <a:pt x="395" y="673"/>
                  </a:lnTo>
                  <a:lnTo>
                    <a:pt x="396" y="672"/>
                  </a:lnTo>
                  <a:lnTo>
                    <a:pt x="396" y="673"/>
                  </a:lnTo>
                  <a:lnTo>
                    <a:pt x="396" y="675"/>
                  </a:lnTo>
                  <a:lnTo>
                    <a:pt x="398" y="683"/>
                  </a:lnTo>
                  <a:lnTo>
                    <a:pt x="399" y="688"/>
                  </a:lnTo>
                  <a:lnTo>
                    <a:pt x="400" y="688"/>
                  </a:lnTo>
                  <a:lnTo>
                    <a:pt x="401" y="689"/>
                  </a:lnTo>
                  <a:lnTo>
                    <a:pt x="404" y="693"/>
                  </a:lnTo>
                  <a:lnTo>
                    <a:pt x="407" y="694"/>
                  </a:lnTo>
                  <a:lnTo>
                    <a:pt x="408" y="694"/>
                  </a:lnTo>
                  <a:lnTo>
                    <a:pt x="407" y="697"/>
                  </a:lnTo>
                  <a:lnTo>
                    <a:pt x="404" y="706"/>
                  </a:lnTo>
                  <a:lnTo>
                    <a:pt x="403" y="712"/>
                  </a:lnTo>
                  <a:lnTo>
                    <a:pt x="403" y="712"/>
                  </a:lnTo>
                  <a:lnTo>
                    <a:pt x="402" y="713"/>
                  </a:lnTo>
                  <a:lnTo>
                    <a:pt x="401" y="716"/>
                  </a:lnTo>
                  <a:lnTo>
                    <a:pt x="397" y="725"/>
                  </a:lnTo>
                  <a:lnTo>
                    <a:pt x="393" y="733"/>
                  </a:lnTo>
                  <a:lnTo>
                    <a:pt x="393" y="733"/>
                  </a:lnTo>
                  <a:lnTo>
                    <a:pt x="392" y="734"/>
                  </a:lnTo>
                  <a:lnTo>
                    <a:pt x="391" y="736"/>
                  </a:lnTo>
                  <a:lnTo>
                    <a:pt x="387" y="744"/>
                  </a:lnTo>
                  <a:lnTo>
                    <a:pt x="384" y="749"/>
                  </a:lnTo>
                  <a:lnTo>
                    <a:pt x="384" y="749"/>
                  </a:lnTo>
                  <a:lnTo>
                    <a:pt x="383" y="751"/>
                  </a:lnTo>
                  <a:lnTo>
                    <a:pt x="381" y="753"/>
                  </a:lnTo>
                  <a:lnTo>
                    <a:pt x="378" y="760"/>
                  </a:lnTo>
                  <a:lnTo>
                    <a:pt x="375" y="766"/>
                  </a:lnTo>
                  <a:lnTo>
                    <a:pt x="375" y="766"/>
                  </a:lnTo>
                  <a:lnTo>
                    <a:pt x="374" y="767"/>
                  </a:lnTo>
                  <a:lnTo>
                    <a:pt x="373" y="769"/>
                  </a:lnTo>
                  <a:lnTo>
                    <a:pt x="367" y="777"/>
                  </a:lnTo>
                  <a:lnTo>
                    <a:pt x="364" y="782"/>
                  </a:lnTo>
                  <a:lnTo>
                    <a:pt x="364" y="782"/>
                  </a:lnTo>
                  <a:lnTo>
                    <a:pt x="363" y="784"/>
                  </a:lnTo>
                  <a:lnTo>
                    <a:pt x="362" y="791"/>
                  </a:lnTo>
                  <a:lnTo>
                    <a:pt x="361" y="795"/>
                  </a:lnTo>
                  <a:lnTo>
                    <a:pt x="361" y="795"/>
                  </a:lnTo>
                  <a:lnTo>
                    <a:pt x="360" y="796"/>
                  </a:lnTo>
                  <a:lnTo>
                    <a:pt x="359" y="798"/>
                  </a:lnTo>
                  <a:lnTo>
                    <a:pt x="352" y="804"/>
                  </a:lnTo>
                  <a:lnTo>
                    <a:pt x="348" y="808"/>
                  </a:lnTo>
                  <a:lnTo>
                    <a:pt x="348" y="808"/>
                  </a:lnTo>
                  <a:lnTo>
                    <a:pt x="346" y="810"/>
                  </a:lnTo>
                  <a:lnTo>
                    <a:pt x="345" y="812"/>
                  </a:lnTo>
                  <a:lnTo>
                    <a:pt x="340" y="819"/>
                  </a:lnTo>
                  <a:lnTo>
                    <a:pt x="336" y="826"/>
                  </a:lnTo>
                  <a:lnTo>
                    <a:pt x="336" y="826"/>
                  </a:lnTo>
                  <a:lnTo>
                    <a:pt x="334" y="827"/>
                  </a:lnTo>
                  <a:lnTo>
                    <a:pt x="332" y="831"/>
                  </a:lnTo>
                  <a:lnTo>
                    <a:pt x="325" y="845"/>
                  </a:lnTo>
                  <a:lnTo>
                    <a:pt x="318" y="856"/>
                  </a:lnTo>
                  <a:lnTo>
                    <a:pt x="318" y="856"/>
                  </a:lnTo>
                  <a:lnTo>
                    <a:pt x="317" y="857"/>
                  </a:lnTo>
                  <a:lnTo>
                    <a:pt x="314" y="862"/>
                  </a:lnTo>
                  <a:lnTo>
                    <a:pt x="302" y="882"/>
                  </a:lnTo>
                  <a:lnTo>
                    <a:pt x="292" y="896"/>
                  </a:lnTo>
                  <a:lnTo>
                    <a:pt x="292" y="896"/>
                  </a:lnTo>
                  <a:lnTo>
                    <a:pt x="291" y="897"/>
                  </a:lnTo>
                  <a:lnTo>
                    <a:pt x="287" y="901"/>
                  </a:lnTo>
                  <a:lnTo>
                    <a:pt x="277" y="917"/>
                  </a:lnTo>
                  <a:lnTo>
                    <a:pt x="269" y="928"/>
                  </a:lnTo>
                  <a:lnTo>
                    <a:pt x="269" y="928"/>
                  </a:lnTo>
                  <a:lnTo>
                    <a:pt x="268" y="929"/>
                  </a:lnTo>
                  <a:lnTo>
                    <a:pt x="263" y="932"/>
                  </a:lnTo>
                  <a:lnTo>
                    <a:pt x="248" y="943"/>
                  </a:lnTo>
                  <a:lnTo>
                    <a:pt x="236" y="951"/>
                  </a:lnTo>
                  <a:lnTo>
                    <a:pt x="236" y="951"/>
                  </a:lnTo>
                  <a:lnTo>
                    <a:pt x="235" y="952"/>
                  </a:lnTo>
                  <a:lnTo>
                    <a:pt x="233" y="953"/>
                  </a:lnTo>
                  <a:lnTo>
                    <a:pt x="226" y="956"/>
                  </a:lnTo>
                  <a:lnTo>
                    <a:pt x="222" y="959"/>
                  </a:lnTo>
                  <a:lnTo>
                    <a:pt x="222" y="959"/>
                  </a:lnTo>
                  <a:lnTo>
                    <a:pt x="220" y="958"/>
                  </a:lnTo>
                  <a:lnTo>
                    <a:pt x="214" y="953"/>
                  </a:lnTo>
                  <a:lnTo>
                    <a:pt x="210" y="949"/>
                  </a:lnTo>
                  <a:lnTo>
                    <a:pt x="210" y="947"/>
                  </a:lnTo>
                  <a:lnTo>
                    <a:pt x="209" y="945"/>
                  </a:lnTo>
                  <a:lnTo>
                    <a:pt x="205" y="939"/>
                  </a:lnTo>
                  <a:lnTo>
                    <a:pt x="203" y="934"/>
                  </a:lnTo>
                  <a:lnTo>
                    <a:pt x="203" y="933"/>
                  </a:lnTo>
                  <a:lnTo>
                    <a:pt x="197" y="934"/>
                  </a:lnTo>
                  <a:lnTo>
                    <a:pt x="179" y="935"/>
                  </a:lnTo>
                  <a:lnTo>
                    <a:pt x="166" y="936"/>
                  </a:lnTo>
                  <a:lnTo>
                    <a:pt x="166" y="936"/>
                  </a:lnTo>
                  <a:lnTo>
                    <a:pt x="165" y="934"/>
                  </a:lnTo>
                  <a:lnTo>
                    <a:pt x="163" y="928"/>
                  </a:lnTo>
                  <a:lnTo>
                    <a:pt x="162" y="923"/>
                  </a:lnTo>
                  <a:lnTo>
                    <a:pt x="162" y="922"/>
                  </a:lnTo>
                  <a:lnTo>
                    <a:pt x="162" y="920"/>
                  </a:lnTo>
                  <a:lnTo>
                    <a:pt x="162" y="910"/>
                  </a:lnTo>
                  <a:lnTo>
                    <a:pt x="162" y="904"/>
                  </a:lnTo>
                  <a:lnTo>
                    <a:pt x="163" y="903"/>
                  </a:lnTo>
                  <a:lnTo>
                    <a:pt x="163" y="905"/>
                  </a:lnTo>
                  <a:lnTo>
                    <a:pt x="162" y="909"/>
                  </a:lnTo>
                  <a:lnTo>
                    <a:pt x="162" y="912"/>
                  </a:lnTo>
                  <a:lnTo>
                    <a:pt x="163" y="912"/>
                  </a:lnTo>
                  <a:lnTo>
                    <a:pt x="164" y="910"/>
                  </a:lnTo>
                  <a:lnTo>
                    <a:pt x="168" y="904"/>
                  </a:lnTo>
                  <a:lnTo>
                    <a:pt x="172" y="899"/>
                  </a:lnTo>
                  <a:lnTo>
                    <a:pt x="173" y="898"/>
                  </a:lnTo>
                  <a:lnTo>
                    <a:pt x="175" y="895"/>
                  </a:lnTo>
                  <a:lnTo>
                    <a:pt x="176" y="894"/>
                  </a:lnTo>
                  <a:lnTo>
                    <a:pt x="177" y="893"/>
                  </a:lnTo>
                  <a:lnTo>
                    <a:pt x="178" y="891"/>
                  </a:lnTo>
                  <a:lnTo>
                    <a:pt x="184" y="881"/>
                  </a:lnTo>
                  <a:lnTo>
                    <a:pt x="187" y="874"/>
                  </a:lnTo>
                  <a:lnTo>
                    <a:pt x="188" y="873"/>
                  </a:lnTo>
                  <a:lnTo>
                    <a:pt x="189" y="871"/>
                  </a:lnTo>
                  <a:lnTo>
                    <a:pt x="196" y="864"/>
                  </a:lnTo>
                  <a:lnTo>
                    <a:pt x="200" y="860"/>
                  </a:lnTo>
                  <a:lnTo>
                    <a:pt x="201" y="859"/>
                  </a:lnTo>
                  <a:lnTo>
                    <a:pt x="202" y="856"/>
                  </a:lnTo>
                  <a:lnTo>
                    <a:pt x="208" y="845"/>
                  </a:lnTo>
                  <a:lnTo>
                    <a:pt x="211" y="836"/>
                  </a:lnTo>
                  <a:lnTo>
                    <a:pt x="212" y="835"/>
                  </a:lnTo>
                  <a:lnTo>
                    <a:pt x="212" y="831"/>
                  </a:lnTo>
                  <a:lnTo>
                    <a:pt x="215" y="821"/>
                  </a:lnTo>
                  <a:lnTo>
                    <a:pt x="216" y="812"/>
                  </a:lnTo>
                  <a:lnTo>
                    <a:pt x="217" y="811"/>
                  </a:lnTo>
                  <a:lnTo>
                    <a:pt x="217" y="808"/>
                  </a:lnTo>
                  <a:lnTo>
                    <a:pt x="221" y="800"/>
                  </a:lnTo>
                  <a:lnTo>
                    <a:pt x="222" y="793"/>
                  </a:lnTo>
                  <a:lnTo>
                    <a:pt x="223" y="792"/>
                  </a:lnTo>
                  <a:lnTo>
                    <a:pt x="223" y="790"/>
                  </a:lnTo>
                  <a:lnTo>
                    <a:pt x="224" y="783"/>
                  </a:lnTo>
                  <a:lnTo>
                    <a:pt x="225" y="778"/>
                  </a:lnTo>
                  <a:lnTo>
                    <a:pt x="226" y="777"/>
                  </a:lnTo>
                  <a:lnTo>
                    <a:pt x="225" y="775"/>
                  </a:lnTo>
                  <a:lnTo>
                    <a:pt x="222" y="768"/>
                  </a:lnTo>
                  <a:lnTo>
                    <a:pt x="220" y="764"/>
                  </a:lnTo>
                  <a:lnTo>
                    <a:pt x="220" y="763"/>
                  </a:lnTo>
                  <a:lnTo>
                    <a:pt x="217" y="760"/>
                  </a:lnTo>
                  <a:lnTo>
                    <a:pt x="212" y="754"/>
                  </a:lnTo>
                  <a:lnTo>
                    <a:pt x="209" y="749"/>
                  </a:lnTo>
                  <a:lnTo>
                    <a:pt x="209" y="748"/>
                  </a:lnTo>
                  <a:lnTo>
                    <a:pt x="207" y="746"/>
                  </a:lnTo>
                  <a:lnTo>
                    <a:pt x="200" y="738"/>
                  </a:lnTo>
                  <a:lnTo>
                    <a:pt x="196" y="733"/>
                  </a:lnTo>
                  <a:lnTo>
                    <a:pt x="196" y="732"/>
                  </a:lnTo>
                  <a:lnTo>
                    <a:pt x="195" y="732"/>
                  </a:lnTo>
                  <a:lnTo>
                    <a:pt x="191" y="732"/>
                  </a:lnTo>
                  <a:lnTo>
                    <a:pt x="181" y="732"/>
                  </a:lnTo>
                  <a:lnTo>
                    <a:pt x="174" y="732"/>
                  </a:lnTo>
                  <a:lnTo>
                    <a:pt x="174" y="731"/>
                  </a:lnTo>
                  <a:lnTo>
                    <a:pt x="170" y="730"/>
                  </a:lnTo>
                  <a:lnTo>
                    <a:pt x="161" y="725"/>
                  </a:lnTo>
                  <a:lnTo>
                    <a:pt x="154" y="722"/>
                  </a:lnTo>
                  <a:lnTo>
                    <a:pt x="154" y="721"/>
                  </a:lnTo>
                  <a:lnTo>
                    <a:pt x="149" y="717"/>
                  </a:lnTo>
                  <a:lnTo>
                    <a:pt x="136" y="701"/>
                  </a:lnTo>
                  <a:lnTo>
                    <a:pt x="125" y="690"/>
                  </a:lnTo>
                  <a:lnTo>
                    <a:pt x="125" y="689"/>
                  </a:lnTo>
                  <a:lnTo>
                    <a:pt x="123" y="689"/>
                  </a:lnTo>
                  <a:lnTo>
                    <a:pt x="121" y="689"/>
                  </a:lnTo>
                  <a:lnTo>
                    <a:pt x="111" y="689"/>
                  </a:lnTo>
                  <a:lnTo>
                    <a:pt x="105" y="689"/>
                  </a:lnTo>
                  <a:lnTo>
                    <a:pt x="105" y="688"/>
                  </a:lnTo>
                  <a:lnTo>
                    <a:pt x="102" y="686"/>
                  </a:lnTo>
                  <a:lnTo>
                    <a:pt x="94" y="676"/>
                  </a:lnTo>
                  <a:lnTo>
                    <a:pt x="88" y="668"/>
                  </a:lnTo>
                  <a:lnTo>
                    <a:pt x="88" y="667"/>
                  </a:lnTo>
                  <a:lnTo>
                    <a:pt x="88" y="664"/>
                  </a:lnTo>
                  <a:lnTo>
                    <a:pt x="90" y="652"/>
                  </a:lnTo>
                  <a:lnTo>
                    <a:pt x="91" y="643"/>
                  </a:lnTo>
                  <a:lnTo>
                    <a:pt x="92" y="642"/>
                  </a:lnTo>
                  <a:lnTo>
                    <a:pt x="94" y="640"/>
                  </a:lnTo>
                  <a:lnTo>
                    <a:pt x="103" y="631"/>
                  </a:lnTo>
                  <a:lnTo>
                    <a:pt x="109" y="625"/>
                  </a:lnTo>
                  <a:lnTo>
                    <a:pt x="110" y="624"/>
                  </a:lnTo>
                  <a:lnTo>
                    <a:pt x="113" y="623"/>
                  </a:lnTo>
                  <a:lnTo>
                    <a:pt x="121" y="617"/>
                  </a:lnTo>
                  <a:lnTo>
                    <a:pt x="128" y="613"/>
                  </a:lnTo>
                  <a:lnTo>
                    <a:pt x="129" y="612"/>
                  </a:lnTo>
                  <a:lnTo>
                    <a:pt x="132" y="610"/>
                  </a:lnTo>
                  <a:lnTo>
                    <a:pt x="144" y="606"/>
                  </a:lnTo>
                  <a:lnTo>
                    <a:pt x="153" y="603"/>
                  </a:lnTo>
                  <a:lnTo>
                    <a:pt x="154" y="602"/>
                  </a:lnTo>
                  <a:lnTo>
                    <a:pt x="156" y="600"/>
                  </a:lnTo>
                  <a:lnTo>
                    <a:pt x="164" y="591"/>
                  </a:lnTo>
                  <a:lnTo>
                    <a:pt x="169" y="584"/>
                  </a:lnTo>
                  <a:lnTo>
                    <a:pt x="170" y="583"/>
                  </a:lnTo>
                  <a:lnTo>
                    <a:pt x="172" y="580"/>
                  </a:lnTo>
                  <a:lnTo>
                    <a:pt x="175" y="567"/>
                  </a:lnTo>
                  <a:lnTo>
                    <a:pt x="177" y="557"/>
                  </a:lnTo>
                  <a:lnTo>
                    <a:pt x="178" y="556"/>
                  </a:lnTo>
                  <a:lnTo>
                    <a:pt x="178" y="553"/>
                  </a:lnTo>
                  <a:lnTo>
                    <a:pt x="179" y="542"/>
                  </a:lnTo>
                  <a:lnTo>
                    <a:pt x="179" y="534"/>
                  </a:lnTo>
                  <a:lnTo>
                    <a:pt x="180" y="533"/>
                  </a:lnTo>
                  <a:lnTo>
                    <a:pt x="180" y="531"/>
                  </a:lnTo>
                  <a:lnTo>
                    <a:pt x="181" y="521"/>
                  </a:lnTo>
                  <a:lnTo>
                    <a:pt x="183" y="513"/>
                  </a:lnTo>
                  <a:lnTo>
                    <a:pt x="184" y="512"/>
                  </a:lnTo>
                  <a:lnTo>
                    <a:pt x="185" y="509"/>
                  </a:lnTo>
                  <a:lnTo>
                    <a:pt x="188" y="498"/>
                  </a:lnTo>
                  <a:lnTo>
                    <a:pt x="190" y="490"/>
                  </a:lnTo>
                  <a:lnTo>
                    <a:pt x="191" y="489"/>
                  </a:lnTo>
                  <a:lnTo>
                    <a:pt x="198" y="490"/>
                  </a:lnTo>
                  <a:lnTo>
                    <a:pt x="202" y="490"/>
                  </a:lnTo>
                  <a:lnTo>
                    <a:pt x="203" y="490"/>
                  </a:lnTo>
                  <a:lnTo>
                    <a:pt x="205" y="487"/>
                  </a:lnTo>
                  <a:lnTo>
                    <a:pt x="207" y="485"/>
                  </a:lnTo>
                  <a:lnTo>
                    <a:pt x="208" y="484"/>
                  </a:lnTo>
                  <a:lnTo>
                    <a:pt x="208" y="481"/>
                  </a:lnTo>
                  <a:lnTo>
                    <a:pt x="207" y="474"/>
                  </a:lnTo>
                  <a:lnTo>
                    <a:pt x="207" y="467"/>
                  </a:lnTo>
                  <a:lnTo>
                    <a:pt x="208" y="466"/>
                  </a:lnTo>
                  <a:lnTo>
                    <a:pt x="207" y="464"/>
                  </a:lnTo>
                  <a:lnTo>
                    <a:pt x="205" y="456"/>
                  </a:lnTo>
                  <a:lnTo>
                    <a:pt x="205" y="450"/>
                  </a:lnTo>
                  <a:lnTo>
                    <a:pt x="205" y="449"/>
                  </a:lnTo>
                  <a:lnTo>
                    <a:pt x="207" y="447"/>
                  </a:lnTo>
                  <a:lnTo>
                    <a:pt x="212" y="443"/>
                  </a:lnTo>
                  <a:lnTo>
                    <a:pt x="215" y="440"/>
                  </a:lnTo>
                  <a:lnTo>
                    <a:pt x="216" y="439"/>
                  </a:lnTo>
                  <a:lnTo>
                    <a:pt x="213" y="435"/>
                  </a:lnTo>
                  <a:lnTo>
                    <a:pt x="212" y="433"/>
                  </a:lnTo>
                  <a:lnTo>
                    <a:pt x="212" y="432"/>
                  </a:lnTo>
                  <a:lnTo>
                    <a:pt x="211" y="429"/>
                  </a:lnTo>
                  <a:lnTo>
                    <a:pt x="209" y="416"/>
                  </a:lnTo>
                  <a:lnTo>
                    <a:pt x="208" y="406"/>
                  </a:lnTo>
                  <a:lnTo>
                    <a:pt x="208" y="405"/>
                  </a:lnTo>
                  <a:lnTo>
                    <a:pt x="208" y="402"/>
                  </a:lnTo>
                  <a:lnTo>
                    <a:pt x="210" y="392"/>
                  </a:lnTo>
                  <a:lnTo>
                    <a:pt x="211" y="384"/>
                  </a:lnTo>
                  <a:lnTo>
                    <a:pt x="212" y="383"/>
                  </a:lnTo>
                  <a:lnTo>
                    <a:pt x="211" y="384"/>
                  </a:lnTo>
                  <a:lnTo>
                    <a:pt x="207" y="385"/>
                  </a:lnTo>
                  <a:lnTo>
                    <a:pt x="204" y="386"/>
                  </a:lnTo>
                  <a:lnTo>
                    <a:pt x="204" y="386"/>
                  </a:lnTo>
                  <a:lnTo>
                    <a:pt x="201" y="384"/>
                  </a:lnTo>
                  <a:lnTo>
                    <a:pt x="195" y="376"/>
                  </a:lnTo>
                  <a:lnTo>
                    <a:pt x="190" y="371"/>
                  </a:lnTo>
                  <a:lnTo>
                    <a:pt x="190" y="370"/>
                  </a:lnTo>
                  <a:lnTo>
                    <a:pt x="188" y="363"/>
                  </a:lnTo>
                  <a:lnTo>
                    <a:pt x="187" y="359"/>
                  </a:lnTo>
                  <a:lnTo>
                    <a:pt x="187" y="358"/>
                  </a:lnTo>
                  <a:lnTo>
                    <a:pt x="188" y="358"/>
                  </a:lnTo>
                  <a:lnTo>
                    <a:pt x="193" y="357"/>
                  </a:lnTo>
                  <a:lnTo>
                    <a:pt x="198" y="356"/>
                  </a:lnTo>
                  <a:lnTo>
                    <a:pt x="199" y="355"/>
                  </a:lnTo>
                  <a:lnTo>
                    <a:pt x="202" y="350"/>
                  </a:lnTo>
                  <a:lnTo>
                    <a:pt x="203" y="348"/>
                  </a:lnTo>
                  <a:lnTo>
                    <a:pt x="204" y="347"/>
                  </a:lnTo>
                  <a:lnTo>
                    <a:pt x="204" y="346"/>
                  </a:lnTo>
                  <a:lnTo>
                    <a:pt x="205" y="342"/>
                  </a:lnTo>
                  <a:lnTo>
                    <a:pt x="205" y="340"/>
                  </a:lnTo>
                  <a:lnTo>
                    <a:pt x="207" y="339"/>
                  </a:lnTo>
                  <a:lnTo>
                    <a:pt x="207" y="338"/>
                  </a:lnTo>
                  <a:lnTo>
                    <a:pt x="205" y="335"/>
                  </a:lnTo>
                  <a:lnTo>
                    <a:pt x="205" y="333"/>
                  </a:lnTo>
                  <a:lnTo>
                    <a:pt x="207" y="332"/>
                  </a:lnTo>
                  <a:lnTo>
                    <a:pt x="205" y="332"/>
                  </a:lnTo>
                  <a:lnTo>
                    <a:pt x="204" y="332"/>
                  </a:lnTo>
                  <a:lnTo>
                    <a:pt x="200" y="332"/>
                  </a:lnTo>
                  <a:lnTo>
                    <a:pt x="197" y="332"/>
                  </a:lnTo>
                  <a:lnTo>
                    <a:pt x="197" y="330"/>
                  </a:lnTo>
                  <a:lnTo>
                    <a:pt x="193" y="332"/>
                  </a:lnTo>
                  <a:lnTo>
                    <a:pt x="185" y="335"/>
                  </a:lnTo>
                  <a:lnTo>
                    <a:pt x="178" y="337"/>
                  </a:lnTo>
                  <a:lnTo>
                    <a:pt x="178" y="337"/>
                  </a:lnTo>
                  <a:lnTo>
                    <a:pt x="176" y="335"/>
                  </a:lnTo>
                  <a:lnTo>
                    <a:pt x="172" y="326"/>
                  </a:lnTo>
                  <a:lnTo>
                    <a:pt x="168" y="320"/>
                  </a:lnTo>
                  <a:lnTo>
                    <a:pt x="168" y="318"/>
                  </a:lnTo>
                  <a:lnTo>
                    <a:pt x="166" y="315"/>
                  </a:lnTo>
                  <a:lnTo>
                    <a:pt x="162" y="305"/>
                  </a:lnTo>
                  <a:lnTo>
                    <a:pt x="158" y="298"/>
                  </a:lnTo>
                  <a:lnTo>
                    <a:pt x="158" y="297"/>
                  </a:lnTo>
                  <a:lnTo>
                    <a:pt x="156" y="293"/>
                  </a:lnTo>
                  <a:lnTo>
                    <a:pt x="153" y="281"/>
                  </a:lnTo>
                  <a:lnTo>
                    <a:pt x="151" y="271"/>
                  </a:lnTo>
                  <a:lnTo>
                    <a:pt x="151" y="270"/>
                  </a:lnTo>
                  <a:lnTo>
                    <a:pt x="154" y="279"/>
                  </a:lnTo>
                  <a:lnTo>
                    <a:pt x="155" y="283"/>
                  </a:lnTo>
                  <a:lnTo>
                    <a:pt x="156" y="283"/>
                  </a:lnTo>
                  <a:lnTo>
                    <a:pt x="158" y="289"/>
                  </a:lnTo>
                  <a:lnTo>
                    <a:pt x="160" y="292"/>
                  </a:lnTo>
                  <a:lnTo>
                    <a:pt x="161" y="292"/>
                  </a:lnTo>
                  <a:lnTo>
                    <a:pt x="162" y="291"/>
                  </a:lnTo>
                  <a:lnTo>
                    <a:pt x="165" y="288"/>
                  </a:lnTo>
                  <a:lnTo>
                    <a:pt x="167" y="285"/>
                  </a:lnTo>
                  <a:lnTo>
                    <a:pt x="168" y="283"/>
                  </a:lnTo>
                  <a:lnTo>
                    <a:pt x="168" y="280"/>
                  </a:lnTo>
                  <a:lnTo>
                    <a:pt x="170" y="269"/>
                  </a:lnTo>
                  <a:lnTo>
                    <a:pt x="172" y="260"/>
                  </a:lnTo>
                  <a:lnTo>
                    <a:pt x="173" y="259"/>
                  </a:lnTo>
                  <a:lnTo>
                    <a:pt x="170" y="260"/>
                  </a:lnTo>
                  <a:lnTo>
                    <a:pt x="167" y="260"/>
                  </a:lnTo>
                  <a:lnTo>
                    <a:pt x="164" y="260"/>
                  </a:lnTo>
                  <a:lnTo>
                    <a:pt x="164" y="260"/>
                  </a:lnTo>
                  <a:lnTo>
                    <a:pt x="158" y="258"/>
                  </a:lnTo>
                  <a:lnTo>
                    <a:pt x="156" y="257"/>
                  </a:lnTo>
                  <a:lnTo>
                    <a:pt x="156" y="256"/>
                  </a:lnTo>
                  <a:lnTo>
                    <a:pt x="160" y="253"/>
                  </a:lnTo>
                  <a:lnTo>
                    <a:pt x="161" y="251"/>
                  </a:lnTo>
                  <a:lnTo>
                    <a:pt x="162" y="249"/>
                  </a:lnTo>
                  <a:lnTo>
                    <a:pt x="161" y="243"/>
                  </a:lnTo>
                  <a:lnTo>
                    <a:pt x="161" y="240"/>
                  </a:lnTo>
                  <a:lnTo>
                    <a:pt x="161" y="239"/>
                  </a:lnTo>
                  <a:lnTo>
                    <a:pt x="161" y="237"/>
                  </a:lnTo>
                  <a:lnTo>
                    <a:pt x="162" y="232"/>
                  </a:lnTo>
                  <a:lnTo>
                    <a:pt x="162" y="229"/>
                  </a:lnTo>
                  <a:lnTo>
                    <a:pt x="163" y="228"/>
                  </a:lnTo>
                  <a:lnTo>
                    <a:pt x="157" y="224"/>
                  </a:lnTo>
                  <a:lnTo>
                    <a:pt x="155" y="223"/>
                  </a:lnTo>
                  <a:lnTo>
                    <a:pt x="155" y="222"/>
                  </a:lnTo>
                  <a:lnTo>
                    <a:pt x="154" y="223"/>
                  </a:lnTo>
                  <a:lnTo>
                    <a:pt x="151" y="229"/>
                  </a:lnTo>
                  <a:lnTo>
                    <a:pt x="150" y="232"/>
                  </a:lnTo>
                  <a:lnTo>
                    <a:pt x="150" y="232"/>
                  </a:lnTo>
                  <a:lnTo>
                    <a:pt x="149" y="232"/>
                  </a:lnTo>
                  <a:lnTo>
                    <a:pt x="148" y="232"/>
                  </a:lnTo>
                  <a:lnTo>
                    <a:pt x="142" y="231"/>
                  </a:lnTo>
                  <a:lnTo>
                    <a:pt x="138" y="230"/>
                  </a:lnTo>
                  <a:lnTo>
                    <a:pt x="138" y="229"/>
                  </a:lnTo>
                  <a:lnTo>
                    <a:pt x="137" y="231"/>
                  </a:lnTo>
                  <a:lnTo>
                    <a:pt x="136" y="236"/>
                  </a:lnTo>
                  <a:lnTo>
                    <a:pt x="136" y="241"/>
                  </a:lnTo>
                  <a:lnTo>
                    <a:pt x="136" y="241"/>
                  </a:lnTo>
                  <a:lnTo>
                    <a:pt x="136" y="242"/>
                  </a:lnTo>
                  <a:lnTo>
                    <a:pt x="136" y="243"/>
                  </a:lnTo>
                  <a:lnTo>
                    <a:pt x="137" y="247"/>
                  </a:lnTo>
                  <a:lnTo>
                    <a:pt x="137" y="251"/>
                  </a:lnTo>
                  <a:lnTo>
                    <a:pt x="138" y="251"/>
                  </a:lnTo>
                  <a:lnTo>
                    <a:pt x="138" y="252"/>
                  </a:lnTo>
                  <a:lnTo>
                    <a:pt x="137" y="255"/>
                  </a:lnTo>
                  <a:lnTo>
                    <a:pt x="137" y="256"/>
                  </a:lnTo>
                  <a:lnTo>
                    <a:pt x="138" y="256"/>
                  </a:lnTo>
                  <a:lnTo>
                    <a:pt x="133" y="251"/>
                  </a:lnTo>
                  <a:lnTo>
                    <a:pt x="122" y="231"/>
                  </a:lnTo>
                  <a:lnTo>
                    <a:pt x="115" y="216"/>
                  </a:lnTo>
                  <a:lnTo>
                    <a:pt x="115" y="214"/>
                  </a:lnTo>
                  <a:lnTo>
                    <a:pt x="109" y="208"/>
                  </a:lnTo>
                  <a:lnTo>
                    <a:pt x="93" y="188"/>
                  </a:lnTo>
                  <a:lnTo>
                    <a:pt x="81" y="172"/>
                  </a:lnTo>
                  <a:lnTo>
                    <a:pt x="81" y="171"/>
                  </a:lnTo>
                  <a:lnTo>
                    <a:pt x="79" y="169"/>
                  </a:lnTo>
                  <a:lnTo>
                    <a:pt x="75" y="160"/>
                  </a:lnTo>
                  <a:lnTo>
                    <a:pt x="72" y="153"/>
                  </a:lnTo>
                  <a:lnTo>
                    <a:pt x="72" y="152"/>
                  </a:lnTo>
                  <a:lnTo>
                    <a:pt x="71" y="149"/>
                  </a:lnTo>
                  <a:lnTo>
                    <a:pt x="71" y="147"/>
                  </a:lnTo>
                  <a:lnTo>
                    <a:pt x="72" y="146"/>
                  </a:lnTo>
                  <a:lnTo>
                    <a:pt x="73" y="144"/>
                  </a:lnTo>
                  <a:lnTo>
                    <a:pt x="76" y="139"/>
                  </a:lnTo>
                  <a:lnTo>
                    <a:pt x="79" y="135"/>
                  </a:lnTo>
                  <a:lnTo>
                    <a:pt x="80" y="134"/>
                  </a:lnTo>
                  <a:lnTo>
                    <a:pt x="81" y="131"/>
                  </a:lnTo>
                  <a:lnTo>
                    <a:pt x="84" y="125"/>
                  </a:lnTo>
                  <a:lnTo>
                    <a:pt x="86" y="119"/>
                  </a:lnTo>
                  <a:lnTo>
                    <a:pt x="87" y="118"/>
                  </a:lnTo>
                  <a:lnTo>
                    <a:pt x="83" y="116"/>
                  </a:lnTo>
                  <a:lnTo>
                    <a:pt x="82" y="115"/>
                  </a:lnTo>
                  <a:lnTo>
                    <a:pt x="82" y="114"/>
                  </a:lnTo>
                  <a:lnTo>
                    <a:pt x="81" y="115"/>
                  </a:lnTo>
                  <a:lnTo>
                    <a:pt x="79" y="119"/>
                  </a:lnTo>
                  <a:lnTo>
                    <a:pt x="78" y="123"/>
                  </a:lnTo>
                  <a:lnTo>
                    <a:pt x="78" y="123"/>
                  </a:lnTo>
                  <a:lnTo>
                    <a:pt x="76" y="124"/>
                  </a:lnTo>
                  <a:lnTo>
                    <a:pt x="75" y="126"/>
                  </a:lnTo>
                  <a:lnTo>
                    <a:pt x="70" y="132"/>
                  </a:lnTo>
                  <a:lnTo>
                    <a:pt x="66" y="137"/>
                  </a:lnTo>
                  <a:lnTo>
                    <a:pt x="66" y="137"/>
                  </a:lnTo>
                  <a:lnTo>
                    <a:pt x="62" y="135"/>
                  </a:lnTo>
                  <a:lnTo>
                    <a:pt x="56" y="127"/>
                  </a:lnTo>
                  <a:lnTo>
                    <a:pt x="50" y="122"/>
                  </a:lnTo>
                  <a:lnTo>
                    <a:pt x="50" y="120"/>
                  </a:lnTo>
                  <a:lnTo>
                    <a:pt x="49" y="118"/>
                  </a:lnTo>
                  <a:lnTo>
                    <a:pt x="46" y="109"/>
                  </a:lnTo>
                  <a:lnTo>
                    <a:pt x="44" y="103"/>
                  </a:lnTo>
                  <a:lnTo>
                    <a:pt x="44" y="102"/>
                  </a:lnTo>
                  <a:lnTo>
                    <a:pt x="44" y="101"/>
                  </a:lnTo>
                  <a:lnTo>
                    <a:pt x="43" y="97"/>
                  </a:lnTo>
                  <a:lnTo>
                    <a:pt x="43" y="94"/>
                  </a:lnTo>
                  <a:lnTo>
                    <a:pt x="44" y="93"/>
                  </a:lnTo>
                  <a:lnTo>
                    <a:pt x="45" y="91"/>
                  </a:lnTo>
                  <a:lnTo>
                    <a:pt x="46" y="89"/>
                  </a:lnTo>
                  <a:lnTo>
                    <a:pt x="45" y="87"/>
                  </a:lnTo>
                  <a:lnTo>
                    <a:pt x="41" y="78"/>
                  </a:lnTo>
                  <a:lnTo>
                    <a:pt x="40" y="71"/>
                  </a:lnTo>
                  <a:lnTo>
                    <a:pt x="40" y="70"/>
                  </a:lnTo>
                  <a:lnTo>
                    <a:pt x="36" y="65"/>
                  </a:lnTo>
                  <a:lnTo>
                    <a:pt x="24" y="45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9" y="22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5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49800" y="5779080"/>
              <a:ext cx="183240" cy="149040"/>
            </a:xfrm>
            <a:custGeom>
              <a:avLst/>
              <a:gdLst/>
              <a:ahLst/>
              <a:rect l="l" t="t" r="r" b="b"/>
              <a:pathLst>
                <a:path w="755" h="860">
                  <a:moveTo>
                    <a:pt x="557" y="69"/>
                  </a:moveTo>
                  <a:lnTo>
                    <a:pt x="557" y="68"/>
                  </a:lnTo>
                  <a:lnTo>
                    <a:pt x="556" y="63"/>
                  </a:lnTo>
                  <a:lnTo>
                    <a:pt x="556" y="60"/>
                  </a:lnTo>
                  <a:lnTo>
                    <a:pt x="557" y="59"/>
                  </a:lnTo>
                  <a:lnTo>
                    <a:pt x="557" y="57"/>
                  </a:lnTo>
                  <a:lnTo>
                    <a:pt x="557" y="49"/>
                  </a:lnTo>
                  <a:lnTo>
                    <a:pt x="557" y="44"/>
                  </a:lnTo>
                  <a:lnTo>
                    <a:pt x="558" y="43"/>
                  </a:lnTo>
                  <a:lnTo>
                    <a:pt x="562" y="39"/>
                  </a:lnTo>
                  <a:lnTo>
                    <a:pt x="565" y="37"/>
                  </a:lnTo>
                  <a:lnTo>
                    <a:pt x="566" y="36"/>
                  </a:lnTo>
                  <a:lnTo>
                    <a:pt x="570" y="34"/>
                  </a:lnTo>
                  <a:lnTo>
                    <a:pt x="573" y="33"/>
                  </a:lnTo>
                  <a:lnTo>
                    <a:pt x="574" y="32"/>
                  </a:lnTo>
                  <a:lnTo>
                    <a:pt x="577" y="29"/>
                  </a:lnTo>
                  <a:lnTo>
                    <a:pt x="583" y="20"/>
                  </a:lnTo>
                  <a:lnTo>
                    <a:pt x="587" y="13"/>
                  </a:lnTo>
                  <a:lnTo>
                    <a:pt x="589" y="12"/>
                  </a:lnTo>
                  <a:lnTo>
                    <a:pt x="590" y="12"/>
                  </a:lnTo>
                  <a:lnTo>
                    <a:pt x="593" y="12"/>
                  </a:lnTo>
                  <a:lnTo>
                    <a:pt x="595" y="12"/>
                  </a:lnTo>
                  <a:lnTo>
                    <a:pt x="596" y="11"/>
                  </a:lnTo>
                  <a:lnTo>
                    <a:pt x="597" y="8"/>
                  </a:lnTo>
                  <a:lnTo>
                    <a:pt x="598" y="5"/>
                  </a:lnTo>
                  <a:lnTo>
                    <a:pt x="599" y="4"/>
                  </a:lnTo>
                  <a:lnTo>
                    <a:pt x="604" y="2"/>
                  </a:lnTo>
                  <a:lnTo>
                    <a:pt x="606" y="1"/>
                  </a:lnTo>
                  <a:lnTo>
                    <a:pt x="607" y="0"/>
                  </a:lnTo>
                  <a:lnTo>
                    <a:pt x="609" y="4"/>
                  </a:lnTo>
                  <a:lnTo>
                    <a:pt x="610" y="5"/>
                  </a:lnTo>
                  <a:lnTo>
                    <a:pt x="612" y="5"/>
                  </a:lnTo>
                  <a:lnTo>
                    <a:pt x="610" y="9"/>
                  </a:lnTo>
                  <a:lnTo>
                    <a:pt x="609" y="19"/>
                  </a:lnTo>
                  <a:lnTo>
                    <a:pt x="609" y="26"/>
                  </a:lnTo>
                  <a:lnTo>
                    <a:pt x="609" y="26"/>
                  </a:lnTo>
                  <a:lnTo>
                    <a:pt x="613" y="34"/>
                  </a:lnTo>
                  <a:lnTo>
                    <a:pt x="615" y="37"/>
                  </a:lnTo>
                  <a:lnTo>
                    <a:pt x="616" y="37"/>
                  </a:lnTo>
                  <a:lnTo>
                    <a:pt x="620" y="39"/>
                  </a:lnTo>
                  <a:lnTo>
                    <a:pt x="624" y="40"/>
                  </a:lnTo>
                  <a:lnTo>
                    <a:pt x="625" y="40"/>
                  </a:lnTo>
                  <a:lnTo>
                    <a:pt x="626" y="40"/>
                  </a:lnTo>
                  <a:lnTo>
                    <a:pt x="631" y="39"/>
                  </a:lnTo>
                  <a:lnTo>
                    <a:pt x="634" y="38"/>
                  </a:lnTo>
                  <a:lnTo>
                    <a:pt x="636" y="37"/>
                  </a:lnTo>
                  <a:lnTo>
                    <a:pt x="637" y="39"/>
                  </a:lnTo>
                  <a:lnTo>
                    <a:pt x="640" y="45"/>
                  </a:lnTo>
                  <a:lnTo>
                    <a:pt x="642" y="49"/>
                  </a:lnTo>
                  <a:lnTo>
                    <a:pt x="643" y="49"/>
                  </a:lnTo>
                  <a:lnTo>
                    <a:pt x="642" y="55"/>
                  </a:lnTo>
                  <a:lnTo>
                    <a:pt x="641" y="70"/>
                  </a:lnTo>
                  <a:lnTo>
                    <a:pt x="640" y="81"/>
                  </a:lnTo>
                  <a:lnTo>
                    <a:pt x="640" y="81"/>
                  </a:lnTo>
                  <a:lnTo>
                    <a:pt x="643" y="89"/>
                  </a:lnTo>
                  <a:lnTo>
                    <a:pt x="644" y="93"/>
                  </a:lnTo>
                  <a:lnTo>
                    <a:pt x="645" y="93"/>
                  </a:lnTo>
                  <a:lnTo>
                    <a:pt x="647" y="94"/>
                  </a:lnTo>
                  <a:lnTo>
                    <a:pt x="652" y="97"/>
                  </a:lnTo>
                  <a:lnTo>
                    <a:pt x="655" y="99"/>
                  </a:lnTo>
                  <a:lnTo>
                    <a:pt x="656" y="99"/>
                  </a:lnTo>
                  <a:lnTo>
                    <a:pt x="657" y="98"/>
                  </a:lnTo>
                  <a:lnTo>
                    <a:pt x="661" y="95"/>
                  </a:lnTo>
                  <a:lnTo>
                    <a:pt x="663" y="93"/>
                  </a:lnTo>
                  <a:lnTo>
                    <a:pt x="664" y="92"/>
                  </a:lnTo>
                  <a:lnTo>
                    <a:pt x="669" y="89"/>
                  </a:lnTo>
                  <a:lnTo>
                    <a:pt x="673" y="86"/>
                  </a:lnTo>
                  <a:lnTo>
                    <a:pt x="674" y="85"/>
                  </a:lnTo>
                  <a:lnTo>
                    <a:pt x="675" y="83"/>
                  </a:lnTo>
                  <a:lnTo>
                    <a:pt x="676" y="81"/>
                  </a:lnTo>
                  <a:lnTo>
                    <a:pt x="679" y="79"/>
                  </a:lnTo>
                  <a:lnTo>
                    <a:pt x="680" y="78"/>
                  </a:lnTo>
                  <a:lnTo>
                    <a:pt x="681" y="77"/>
                  </a:lnTo>
                  <a:lnTo>
                    <a:pt x="686" y="73"/>
                  </a:lnTo>
                  <a:lnTo>
                    <a:pt x="689" y="72"/>
                  </a:lnTo>
                  <a:lnTo>
                    <a:pt x="690" y="71"/>
                  </a:lnTo>
                  <a:lnTo>
                    <a:pt x="691" y="70"/>
                  </a:lnTo>
                  <a:lnTo>
                    <a:pt x="695" y="67"/>
                  </a:lnTo>
                  <a:lnTo>
                    <a:pt x="697" y="64"/>
                  </a:lnTo>
                  <a:lnTo>
                    <a:pt x="698" y="63"/>
                  </a:lnTo>
                  <a:lnTo>
                    <a:pt x="699" y="61"/>
                  </a:lnTo>
                  <a:lnTo>
                    <a:pt x="700" y="59"/>
                  </a:lnTo>
                  <a:lnTo>
                    <a:pt x="701" y="58"/>
                  </a:lnTo>
                  <a:lnTo>
                    <a:pt x="707" y="55"/>
                  </a:lnTo>
                  <a:lnTo>
                    <a:pt x="711" y="52"/>
                  </a:lnTo>
                  <a:lnTo>
                    <a:pt x="712" y="51"/>
                  </a:lnTo>
                  <a:lnTo>
                    <a:pt x="715" y="49"/>
                  </a:lnTo>
                  <a:lnTo>
                    <a:pt x="716" y="48"/>
                  </a:lnTo>
                  <a:lnTo>
                    <a:pt x="718" y="47"/>
                  </a:lnTo>
                  <a:lnTo>
                    <a:pt x="722" y="46"/>
                  </a:lnTo>
                  <a:lnTo>
                    <a:pt x="724" y="45"/>
                  </a:lnTo>
                  <a:lnTo>
                    <a:pt x="725" y="44"/>
                  </a:lnTo>
                  <a:lnTo>
                    <a:pt x="726" y="46"/>
                  </a:lnTo>
                  <a:lnTo>
                    <a:pt x="727" y="47"/>
                  </a:lnTo>
                  <a:lnTo>
                    <a:pt x="728" y="47"/>
                  </a:lnTo>
                  <a:lnTo>
                    <a:pt x="727" y="48"/>
                  </a:lnTo>
                  <a:lnTo>
                    <a:pt x="726" y="49"/>
                  </a:lnTo>
                  <a:lnTo>
                    <a:pt x="721" y="55"/>
                  </a:lnTo>
                  <a:lnTo>
                    <a:pt x="718" y="58"/>
                  </a:lnTo>
                  <a:lnTo>
                    <a:pt x="718" y="58"/>
                  </a:lnTo>
                  <a:lnTo>
                    <a:pt x="720" y="60"/>
                  </a:lnTo>
                  <a:lnTo>
                    <a:pt x="721" y="60"/>
                  </a:lnTo>
                  <a:lnTo>
                    <a:pt x="721" y="61"/>
                  </a:lnTo>
                  <a:lnTo>
                    <a:pt x="721" y="63"/>
                  </a:lnTo>
                  <a:lnTo>
                    <a:pt x="721" y="70"/>
                  </a:lnTo>
                  <a:lnTo>
                    <a:pt x="721" y="74"/>
                  </a:lnTo>
                  <a:lnTo>
                    <a:pt x="722" y="74"/>
                  </a:lnTo>
                  <a:lnTo>
                    <a:pt x="720" y="78"/>
                  </a:lnTo>
                  <a:lnTo>
                    <a:pt x="716" y="86"/>
                  </a:lnTo>
                  <a:lnTo>
                    <a:pt x="714" y="93"/>
                  </a:lnTo>
                  <a:lnTo>
                    <a:pt x="714" y="93"/>
                  </a:lnTo>
                  <a:lnTo>
                    <a:pt x="719" y="90"/>
                  </a:lnTo>
                  <a:lnTo>
                    <a:pt x="721" y="89"/>
                  </a:lnTo>
                  <a:lnTo>
                    <a:pt x="722" y="87"/>
                  </a:lnTo>
                  <a:lnTo>
                    <a:pt x="728" y="84"/>
                  </a:lnTo>
                  <a:lnTo>
                    <a:pt x="733" y="82"/>
                  </a:lnTo>
                  <a:lnTo>
                    <a:pt x="734" y="81"/>
                  </a:lnTo>
                  <a:lnTo>
                    <a:pt x="733" y="80"/>
                  </a:lnTo>
                  <a:lnTo>
                    <a:pt x="731" y="75"/>
                  </a:lnTo>
                  <a:lnTo>
                    <a:pt x="730" y="72"/>
                  </a:lnTo>
                  <a:lnTo>
                    <a:pt x="730" y="71"/>
                  </a:lnTo>
                  <a:lnTo>
                    <a:pt x="731" y="69"/>
                  </a:lnTo>
                  <a:lnTo>
                    <a:pt x="734" y="63"/>
                  </a:lnTo>
                  <a:lnTo>
                    <a:pt x="735" y="60"/>
                  </a:lnTo>
                  <a:lnTo>
                    <a:pt x="736" y="59"/>
                  </a:lnTo>
                  <a:lnTo>
                    <a:pt x="737" y="58"/>
                  </a:lnTo>
                  <a:lnTo>
                    <a:pt x="738" y="56"/>
                  </a:lnTo>
                  <a:lnTo>
                    <a:pt x="741" y="55"/>
                  </a:lnTo>
                  <a:lnTo>
                    <a:pt x="742" y="54"/>
                  </a:lnTo>
                  <a:lnTo>
                    <a:pt x="743" y="52"/>
                  </a:lnTo>
                  <a:lnTo>
                    <a:pt x="746" y="52"/>
                  </a:lnTo>
                  <a:lnTo>
                    <a:pt x="747" y="52"/>
                  </a:lnTo>
                  <a:lnTo>
                    <a:pt x="748" y="52"/>
                  </a:lnTo>
                  <a:lnTo>
                    <a:pt x="749" y="56"/>
                  </a:lnTo>
                  <a:lnTo>
                    <a:pt x="750" y="57"/>
                  </a:lnTo>
                  <a:lnTo>
                    <a:pt x="751" y="57"/>
                  </a:lnTo>
                  <a:lnTo>
                    <a:pt x="751" y="58"/>
                  </a:lnTo>
                  <a:lnTo>
                    <a:pt x="753" y="61"/>
                  </a:lnTo>
                  <a:lnTo>
                    <a:pt x="753" y="63"/>
                  </a:lnTo>
                  <a:lnTo>
                    <a:pt x="754" y="63"/>
                  </a:lnTo>
                  <a:lnTo>
                    <a:pt x="755" y="66"/>
                  </a:lnTo>
                  <a:lnTo>
                    <a:pt x="754" y="67"/>
                  </a:lnTo>
                  <a:lnTo>
                    <a:pt x="751" y="71"/>
                  </a:lnTo>
                  <a:lnTo>
                    <a:pt x="750" y="74"/>
                  </a:lnTo>
                  <a:lnTo>
                    <a:pt x="750" y="74"/>
                  </a:lnTo>
                  <a:lnTo>
                    <a:pt x="749" y="75"/>
                  </a:lnTo>
                  <a:lnTo>
                    <a:pt x="746" y="80"/>
                  </a:lnTo>
                  <a:lnTo>
                    <a:pt x="745" y="82"/>
                  </a:lnTo>
                  <a:lnTo>
                    <a:pt x="745" y="82"/>
                  </a:lnTo>
                  <a:lnTo>
                    <a:pt x="744" y="83"/>
                  </a:lnTo>
                  <a:lnTo>
                    <a:pt x="741" y="86"/>
                  </a:lnTo>
                  <a:lnTo>
                    <a:pt x="739" y="87"/>
                  </a:lnTo>
                  <a:lnTo>
                    <a:pt x="739" y="87"/>
                  </a:lnTo>
                  <a:lnTo>
                    <a:pt x="743" y="87"/>
                  </a:lnTo>
                  <a:lnTo>
                    <a:pt x="744" y="87"/>
                  </a:lnTo>
                  <a:lnTo>
                    <a:pt x="745" y="87"/>
                  </a:lnTo>
                  <a:lnTo>
                    <a:pt x="745" y="89"/>
                  </a:lnTo>
                  <a:lnTo>
                    <a:pt x="745" y="90"/>
                  </a:lnTo>
                  <a:lnTo>
                    <a:pt x="747" y="95"/>
                  </a:lnTo>
                  <a:lnTo>
                    <a:pt x="748" y="99"/>
                  </a:lnTo>
                  <a:lnTo>
                    <a:pt x="749" y="99"/>
                  </a:lnTo>
                  <a:lnTo>
                    <a:pt x="748" y="101"/>
                  </a:lnTo>
                  <a:lnTo>
                    <a:pt x="745" y="106"/>
                  </a:lnTo>
                  <a:lnTo>
                    <a:pt x="744" y="109"/>
                  </a:lnTo>
                  <a:lnTo>
                    <a:pt x="744" y="109"/>
                  </a:lnTo>
                  <a:lnTo>
                    <a:pt x="743" y="112"/>
                  </a:lnTo>
                  <a:lnTo>
                    <a:pt x="742" y="116"/>
                  </a:lnTo>
                  <a:lnTo>
                    <a:pt x="741" y="119"/>
                  </a:lnTo>
                  <a:lnTo>
                    <a:pt x="741" y="119"/>
                  </a:lnTo>
                  <a:lnTo>
                    <a:pt x="741" y="120"/>
                  </a:lnTo>
                  <a:lnTo>
                    <a:pt x="741" y="121"/>
                  </a:lnTo>
                  <a:lnTo>
                    <a:pt x="743" y="127"/>
                  </a:lnTo>
                  <a:lnTo>
                    <a:pt x="744" y="131"/>
                  </a:lnTo>
                  <a:lnTo>
                    <a:pt x="745" y="131"/>
                  </a:lnTo>
                  <a:lnTo>
                    <a:pt x="745" y="132"/>
                  </a:lnTo>
                  <a:lnTo>
                    <a:pt x="745" y="136"/>
                  </a:lnTo>
                  <a:lnTo>
                    <a:pt x="748" y="145"/>
                  </a:lnTo>
                  <a:lnTo>
                    <a:pt x="750" y="153"/>
                  </a:lnTo>
                  <a:lnTo>
                    <a:pt x="751" y="153"/>
                  </a:lnTo>
                  <a:lnTo>
                    <a:pt x="750" y="154"/>
                  </a:lnTo>
                  <a:lnTo>
                    <a:pt x="747" y="162"/>
                  </a:lnTo>
                  <a:lnTo>
                    <a:pt x="746" y="166"/>
                  </a:lnTo>
                  <a:lnTo>
                    <a:pt x="746" y="166"/>
                  </a:lnTo>
                  <a:lnTo>
                    <a:pt x="745" y="167"/>
                  </a:lnTo>
                  <a:lnTo>
                    <a:pt x="744" y="168"/>
                  </a:lnTo>
                  <a:lnTo>
                    <a:pt x="739" y="174"/>
                  </a:lnTo>
                  <a:lnTo>
                    <a:pt x="736" y="178"/>
                  </a:lnTo>
                  <a:lnTo>
                    <a:pt x="736" y="178"/>
                  </a:lnTo>
                  <a:lnTo>
                    <a:pt x="735" y="179"/>
                  </a:lnTo>
                  <a:lnTo>
                    <a:pt x="734" y="182"/>
                  </a:lnTo>
                  <a:lnTo>
                    <a:pt x="731" y="188"/>
                  </a:lnTo>
                  <a:lnTo>
                    <a:pt x="727" y="192"/>
                  </a:lnTo>
                  <a:lnTo>
                    <a:pt x="727" y="192"/>
                  </a:lnTo>
                  <a:lnTo>
                    <a:pt x="726" y="195"/>
                  </a:lnTo>
                  <a:lnTo>
                    <a:pt x="724" y="200"/>
                  </a:lnTo>
                  <a:lnTo>
                    <a:pt x="723" y="204"/>
                  </a:lnTo>
                  <a:lnTo>
                    <a:pt x="723" y="204"/>
                  </a:lnTo>
                  <a:lnTo>
                    <a:pt x="722" y="206"/>
                  </a:lnTo>
                  <a:lnTo>
                    <a:pt x="721" y="208"/>
                  </a:lnTo>
                  <a:lnTo>
                    <a:pt x="715" y="217"/>
                  </a:lnTo>
                  <a:lnTo>
                    <a:pt x="712" y="223"/>
                  </a:lnTo>
                  <a:lnTo>
                    <a:pt x="712" y="223"/>
                  </a:lnTo>
                  <a:lnTo>
                    <a:pt x="710" y="224"/>
                  </a:lnTo>
                  <a:lnTo>
                    <a:pt x="704" y="225"/>
                  </a:lnTo>
                  <a:lnTo>
                    <a:pt x="700" y="225"/>
                  </a:lnTo>
                  <a:lnTo>
                    <a:pt x="700" y="225"/>
                  </a:lnTo>
                  <a:lnTo>
                    <a:pt x="699" y="227"/>
                  </a:lnTo>
                  <a:lnTo>
                    <a:pt x="698" y="231"/>
                  </a:lnTo>
                  <a:lnTo>
                    <a:pt x="698" y="234"/>
                  </a:lnTo>
                  <a:lnTo>
                    <a:pt x="698" y="234"/>
                  </a:lnTo>
                  <a:lnTo>
                    <a:pt x="697" y="235"/>
                  </a:lnTo>
                  <a:lnTo>
                    <a:pt x="696" y="236"/>
                  </a:lnTo>
                  <a:lnTo>
                    <a:pt x="692" y="241"/>
                  </a:lnTo>
                  <a:lnTo>
                    <a:pt x="690" y="244"/>
                  </a:lnTo>
                  <a:lnTo>
                    <a:pt x="690" y="244"/>
                  </a:lnTo>
                  <a:lnTo>
                    <a:pt x="689" y="245"/>
                  </a:lnTo>
                  <a:lnTo>
                    <a:pt x="688" y="246"/>
                  </a:lnTo>
                  <a:lnTo>
                    <a:pt x="683" y="253"/>
                  </a:lnTo>
                  <a:lnTo>
                    <a:pt x="678" y="257"/>
                  </a:lnTo>
                  <a:lnTo>
                    <a:pt x="678" y="257"/>
                  </a:lnTo>
                  <a:lnTo>
                    <a:pt x="677" y="258"/>
                  </a:lnTo>
                  <a:lnTo>
                    <a:pt x="676" y="260"/>
                  </a:lnTo>
                  <a:lnTo>
                    <a:pt x="673" y="270"/>
                  </a:lnTo>
                  <a:lnTo>
                    <a:pt x="669" y="278"/>
                  </a:lnTo>
                  <a:lnTo>
                    <a:pt x="669" y="278"/>
                  </a:lnTo>
                  <a:lnTo>
                    <a:pt x="668" y="279"/>
                  </a:lnTo>
                  <a:lnTo>
                    <a:pt x="666" y="283"/>
                  </a:lnTo>
                  <a:lnTo>
                    <a:pt x="659" y="299"/>
                  </a:lnTo>
                  <a:lnTo>
                    <a:pt x="653" y="310"/>
                  </a:lnTo>
                  <a:lnTo>
                    <a:pt x="653" y="310"/>
                  </a:lnTo>
                  <a:lnTo>
                    <a:pt x="652" y="311"/>
                  </a:lnTo>
                  <a:lnTo>
                    <a:pt x="651" y="312"/>
                  </a:lnTo>
                  <a:lnTo>
                    <a:pt x="650" y="312"/>
                  </a:lnTo>
                  <a:lnTo>
                    <a:pt x="649" y="313"/>
                  </a:lnTo>
                  <a:lnTo>
                    <a:pt x="645" y="317"/>
                  </a:lnTo>
                  <a:lnTo>
                    <a:pt x="643" y="320"/>
                  </a:lnTo>
                  <a:lnTo>
                    <a:pt x="643" y="320"/>
                  </a:lnTo>
                  <a:lnTo>
                    <a:pt x="642" y="322"/>
                  </a:lnTo>
                  <a:lnTo>
                    <a:pt x="638" y="324"/>
                  </a:lnTo>
                  <a:lnTo>
                    <a:pt x="636" y="325"/>
                  </a:lnTo>
                  <a:lnTo>
                    <a:pt x="636" y="325"/>
                  </a:lnTo>
                  <a:lnTo>
                    <a:pt x="636" y="323"/>
                  </a:lnTo>
                  <a:lnTo>
                    <a:pt x="634" y="324"/>
                  </a:lnTo>
                  <a:lnTo>
                    <a:pt x="633" y="325"/>
                  </a:lnTo>
                  <a:lnTo>
                    <a:pt x="632" y="326"/>
                  </a:lnTo>
                  <a:lnTo>
                    <a:pt x="632" y="326"/>
                  </a:lnTo>
                  <a:lnTo>
                    <a:pt x="631" y="327"/>
                  </a:lnTo>
                  <a:lnTo>
                    <a:pt x="629" y="330"/>
                  </a:lnTo>
                  <a:lnTo>
                    <a:pt x="628" y="332"/>
                  </a:lnTo>
                  <a:lnTo>
                    <a:pt x="628" y="332"/>
                  </a:lnTo>
                  <a:lnTo>
                    <a:pt x="627" y="334"/>
                  </a:lnTo>
                  <a:lnTo>
                    <a:pt x="622" y="337"/>
                  </a:lnTo>
                  <a:lnTo>
                    <a:pt x="619" y="339"/>
                  </a:lnTo>
                  <a:lnTo>
                    <a:pt x="619" y="339"/>
                  </a:lnTo>
                  <a:lnTo>
                    <a:pt x="618" y="340"/>
                  </a:lnTo>
                  <a:lnTo>
                    <a:pt x="615" y="343"/>
                  </a:lnTo>
                  <a:lnTo>
                    <a:pt x="613" y="346"/>
                  </a:lnTo>
                  <a:lnTo>
                    <a:pt x="613" y="346"/>
                  </a:lnTo>
                  <a:lnTo>
                    <a:pt x="612" y="346"/>
                  </a:lnTo>
                  <a:lnTo>
                    <a:pt x="612" y="346"/>
                  </a:lnTo>
                  <a:lnTo>
                    <a:pt x="610" y="346"/>
                  </a:lnTo>
                  <a:lnTo>
                    <a:pt x="612" y="346"/>
                  </a:lnTo>
                  <a:lnTo>
                    <a:pt x="610" y="346"/>
                  </a:lnTo>
                  <a:lnTo>
                    <a:pt x="612" y="346"/>
                  </a:lnTo>
                  <a:lnTo>
                    <a:pt x="610" y="347"/>
                  </a:lnTo>
                  <a:lnTo>
                    <a:pt x="609" y="348"/>
                  </a:lnTo>
                  <a:lnTo>
                    <a:pt x="608" y="348"/>
                  </a:lnTo>
                  <a:lnTo>
                    <a:pt x="607" y="349"/>
                  </a:lnTo>
                  <a:lnTo>
                    <a:pt x="606" y="350"/>
                  </a:lnTo>
                  <a:lnTo>
                    <a:pt x="606" y="350"/>
                  </a:lnTo>
                  <a:lnTo>
                    <a:pt x="605" y="350"/>
                  </a:lnTo>
                  <a:lnTo>
                    <a:pt x="606" y="350"/>
                  </a:lnTo>
                  <a:lnTo>
                    <a:pt x="605" y="350"/>
                  </a:lnTo>
                  <a:lnTo>
                    <a:pt x="606" y="350"/>
                  </a:lnTo>
                  <a:lnTo>
                    <a:pt x="605" y="351"/>
                  </a:lnTo>
                  <a:lnTo>
                    <a:pt x="604" y="354"/>
                  </a:lnTo>
                  <a:lnTo>
                    <a:pt x="603" y="357"/>
                  </a:lnTo>
                  <a:lnTo>
                    <a:pt x="603" y="357"/>
                  </a:lnTo>
                  <a:lnTo>
                    <a:pt x="601" y="355"/>
                  </a:lnTo>
                  <a:lnTo>
                    <a:pt x="599" y="358"/>
                  </a:lnTo>
                  <a:lnTo>
                    <a:pt x="599" y="363"/>
                  </a:lnTo>
                  <a:lnTo>
                    <a:pt x="599" y="366"/>
                  </a:lnTo>
                  <a:lnTo>
                    <a:pt x="599" y="366"/>
                  </a:lnTo>
                  <a:lnTo>
                    <a:pt x="598" y="369"/>
                  </a:lnTo>
                  <a:lnTo>
                    <a:pt x="597" y="374"/>
                  </a:lnTo>
                  <a:lnTo>
                    <a:pt x="596" y="378"/>
                  </a:lnTo>
                  <a:lnTo>
                    <a:pt x="596" y="378"/>
                  </a:lnTo>
                  <a:lnTo>
                    <a:pt x="595" y="381"/>
                  </a:lnTo>
                  <a:lnTo>
                    <a:pt x="594" y="387"/>
                  </a:lnTo>
                  <a:lnTo>
                    <a:pt x="594" y="392"/>
                  </a:lnTo>
                  <a:lnTo>
                    <a:pt x="594" y="392"/>
                  </a:lnTo>
                  <a:lnTo>
                    <a:pt x="594" y="394"/>
                  </a:lnTo>
                  <a:lnTo>
                    <a:pt x="593" y="397"/>
                  </a:lnTo>
                  <a:lnTo>
                    <a:pt x="593" y="400"/>
                  </a:lnTo>
                  <a:lnTo>
                    <a:pt x="594" y="400"/>
                  </a:lnTo>
                  <a:lnTo>
                    <a:pt x="593" y="402"/>
                  </a:lnTo>
                  <a:lnTo>
                    <a:pt x="591" y="408"/>
                  </a:lnTo>
                  <a:lnTo>
                    <a:pt x="590" y="412"/>
                  </a:lnTo>
                  <a:lnTo>
                    <a:pt x="590" y="412"/>
                  </a:lnTo>
                  <a:lnTo>
                    <a:pt x="589" y="415"/>
                  </a:lnTo>
                  <a:lnTo>
                    <a:pt x="589" y="418"/>
                  </a:lnTo>
                  <a:lnTo>
                    <a:pt x="589" y="421"/>
                  </a:lnTo>
                  <a:lnTo>
                    <a:pt x="589" y="421"/>
                  </a:lnTo>
                  <a:lnTo>
                    <a:pt x="591" y="422"/>
                  </a:lnTo>
                  <a:lnTo>
                    <a:pt x="592" y="422"/>
                  </a:lnTo>
                  <a:lnTo>
                    <a:pt x="599" y="424"/>
                  </a:lnTo>
                  <a:lnTo>
                    <a:pt x="604" y="425"/>
                  </a:lnTo>
                  <a:lnTo>
                    <a:pt x="605" y="425"/>
                  </a:lnTo>
                  <a:lnTo>
                    <a:pt x="606" y="427"/>
                  </a:lnTo>
                  <a:lnTo>
                    <a:pt x="612" y="430"/>
                  </a:lnTo>
                  <a:lnTo>
                    <a:pt x="615" y="432"/>
                  </a:lnTo>
                  <a:lnTo>
                    <a:pt x="616" y="432"/>
                  </a:lnTo>
                  <a:lnTo>
                    <a:pt x="616" y="433"/>
                  </a:lnTo>
                  <a:lnTo>
                    <a:pt x="616" y="435"/>
                  </a:lnTo>
                  <a:lnTo>
                    <a:pt x="617" y="442"/>
                  </a:lnTo>
                  <a:lnTo>
                    <a:pt x="618" y="447"/>
                  </a:lnTo>
                  <a:lnTo>
                    <a:pt x="619" y="447"/>
                  </a:lnTo>
                  <a:lnTo>
                    <a:pt x="617" y="452"/>
                  </a:lnTo>
                  <a:lnTo>
                    <a:pt x="617" y="454"/>
                  </a:lnTo>
                  <a:lnTo>
                    <a:pt x="617" y="454"/>
                  </a:lnTo>
                  <a:lnTo>
                    <a:pt x="612" y="447"/>
                  </a:lnTo>
                  <a:lnTo>
                    <a:pt x="608" y="443"/>
                  </a:lnTo>
                  <a:lnTo>
                    <a:pt x="608" y="442"/>
                  </a:lnTo>
                  <a:lnTo>
                    <a:pt x="607" y="444"/>
                  </a:lnTo>
                  <a:lnTo>
                    <a:pt x="606" y="451"/>
                  </a:lnTo>
                  <a:lnTo>
                    <a:pt x="606" y="455"/>
                  </a:lnTo>
                  <a:lnTo>
                    <a:pt x="606" y="455"/>
                  </a:lnTo>
                  <a:lnTo>
                    <a:pt x="605" y="455"/>
                  </a:lnTo>
                  <a:lnTo>
                    <a:pt x="603" y="455"/>
                  </a:lnTo>
                  <a:lnTo>
                    <a:pt x="595" y="452"/>
                  </a:lnTo>
                  <a:lnTo>
                    <a:pt x="590" y="450"/>
                  </a:lnTo>
                  <a:lnTo>
                    <a:pt x="590" y="448"/>
                  </a:lnTo>
                  <a:lnTo>
                    <a:pt x="589" y="448"/>
                  </a:lnTo>
                  <a:lnTo>
                    <a:pt x="586" y="448"/>
                  </a:lnTo>
                  <a:lnTo>
                    <a:pt x="578" y="445"/>
                  </a:lnTo>
                  <a:lnTo>
                    <a:pt x="571" y="444"/>
                  </a:lnTo>
                  <a:lnTo>
                    <a:pt x="571" y="443"/>
                  </a:lnTo>
                  <a:lnTo>
                    <a:pt x="563" y="440"/>
                  </a:lnTo>
                  <a:lnTo>
                    <a:pt x="560" y="438"/>
                  </a:lnTo>
                  <a:lnTo>
                    <a:pt x="560" y="436"/>
                  </a:lnTo>
                  <a:lnTo>
                    <a:pt x="559" y="438"/>
                  </a:lnTo>
                  <a:lnTo>
                    <a:pt x="556" y="439"/>
                  </a:lnTo>
                  <a:lnTo>
                    <a:pt x="555" y="440"/>
                  </a:lnTo>
                  <a:lnTo>
                    <a:pt x="555" y="440"/>
                  </a:lnTo>
                  <a:lnTo>
                    <a:pt x="554" y="442"/>
                  </a:lnTo>
                  <a:lnTo>
                    <a:pt x="554" y="448"/>
                  </a:lnTo>
                  <a:lnTo>
                    <a:pt x="554" y="453"/>
                  </a:lnTo>
                  <a:lnTo>
                    <a:pt x="554" y="453"/>
                  </a:lnTo>
                  <a:lnTo>
                    <a:pt x="552" y="454"/>
                  </a:lnTo>
                  <a:lnTo>
                    <a:pt x="549" y="458"/>
                  </a:lnTo>
                  <a:lnTo>
                    <a:pt x="547" y="460"/>
                  </a:lnTo>
                  <a:lnTo>
                    <a:pt x="547" y="460"/>
                  </a:lnTo>
                  <a:lnTo>
                    <a:pt x="543" y="457"/>
                  </a:lnTo>
                  <a:lnTo>
                    <a:pt x="542" y="455"/>
                  </a:lnTo>
                  <a:lnTo>
                    <a:pt x="542" y="454"/>
                  </a:lnTo>
                  <a:lnTo>
                    <a:pt x="540" y="454"/>
                  </a:lnTo>
                  <a:lnTo>
                    <a:pt x="537" y="453"/>
                  </a:lnTo>
                  <a:lnTo>
                    <a:pt x="535" y="453"/>
                  </a:lnTo>
                  <a:lnTo>
                    <a:pt x="535" y="452"/>
                  </a:lnTo>
                  <a:lnTo>
                    <a:pt x="534" y="454"/>
                  </a:lnTo>
                  <a:lnTo>
                    <a:pt x="533" y="460"/>
                  </a:lnTo>
                  <a:lnTo>
                    <a:pt x="533" y="465"/>
                  </a:lnTo>
                  <a:lnTo>
                    <a:pt x="533" y="465"/>
                  </a:lnTo>
                  <a:lnTo>
                    <a:pt x="532" y="466"/>
                  </a:lnTo>
                  <a:lnTo>
                    <a:pt x="530" y="467"/>
                  </a:lnTo>
                  <a:lnTo>
                    <a:pt x="523" y="470"/>
                  </a:lnTo>
                  <a:lnTo>
                    <a:pt x="518" y="473"/>
                  </a:lnTo>
                  <a:lnTo>
                    <a:pt x="518" y="473"/>
                  </a:lnTo>
                  <a:lnTo>
                    <a:pt x="516" y="474"/>
                  </a:lnTo>
                  <a:lnTo>
                    <a:pt x="510" y="477"/>
                  </a:lnTo>
                  <a:lnTo>
                    <a:pt x="505" y="478"/>
                  </a:lnTo>
                  <a:lnTo>
                    <a:pt x="505" y="478"/>
                  </a:lnTo>
                  <a:lnTo>
                    <a:pt x="504" y="479"/>
                  </a:lnTo>
                  <a:lnTo>
                    <a:pt x="501" y="482"/>
                  </a:lnTo>
                  <a:lnTo>
                    <a:pt x="499" y="483"/>
                  </a:lnTo>
                  <a:lnTo>
                    <a:pt x="499" y="483"/>
                  </a:lnTo>
                  <a:lnTo>
                    <a:pt x="498" y="485"/>
                  </a:lnTo>
                  <a:lnTo>
                    <a:pt x="497" y="486"/>
                  </a:lnTo>
                  <a:lnTo>
                    <a:pt x="492" y="489"/>
                  </a:lnTo>
                  <a:lnTo>
                    <a:pt x="489" y="491"/>
                  </a:lnTo>
                  <a:lnTo>
                    <a:pt x="489" y="491"/>
                  </a:lnTo>
                  <a:lnTo>
                    <a:pt x="488" y="491"/>
                  </a:lnTo>
                  <a:lnTo>
                    <a:pt x="487" y="491"/>
                  </a:lnTo>
                  <a:lnTo>
                    <a:pt x="484" y="491"/>
                  </a:lnTo>
                  <a:lnTo>
                    <a:pt x="480" y="491"/>
                  </a:lnTo>
                  <a:lnTo>
                    <a:pt x="480" y="490"/>
                  </a:lnTo>
                  <a:lnTo>
                    <a:pt x="478" y="486"/>
                  </a:lnTo>
                  <a:lnTo>
                    <a:pt x="478" y="482"/>
                  </a:lnTo>
                  <a:lnTo>
                    <a:pt x="478" y="481"/>
                  </a:lnTo>
                  <a:lnTo>
                    <a:pt x="474" y="480"/>
                  </a:lnTo>
                  <a:lnTo>
                    <a:pt x="473" y="479"/>
                  </a:lnTo>
                  <a:lnTo>
                    <a:pt x="473" y="478"/>
                  </a:lnTo>
                  <a:lnTo>
                    <a:pt x="470" y="479"/>
                  </a:lnTo>
                  <a:lnTo>
                    <a:pt x="469" y="479"/>
                  </a:lnTo>
                  <a:lnTo>
                    <a:pt x="469" y="479"/>
                  </a:lnTo>
                  <a:lnTo>
                    <a:pt x="469" y="481"/>
                  </a:lnTo>
                  <a:lnTo>
                    <a:pt x="468" y="485"/>
                  </a:lnTo>
                  <a:lnTo>
                    <a:pt x="468" y="488"/>
                  </a:lnTo>
                  <a:lnTo>
                    <a:pt x="469" y="488"/>
                  </a:lnTo>
                  <a:lnTo>
                    <a:pt x="468" y="490"/>
                  </a:lnTo>
                  <a:lnTo>
                    <a:pt x="468" y="493"/>
                  </a:lnTo>
                  <a:lnTo>
                    <a:pt x="468" y="497"/>
                  </a:lnTo>
                  <a:lnTo>
                    <a:pt x="468" y="497"/>
                  </a:lnTo>
                  <a:lnTo>
                    <a:pt x="467" y="501"/>
                  </a:lnTo>
                  <a:lnTo>
                    <a:pt x="464" y="511"/>
                  </a:lnTo>
                  <a:lnTo>
                    <a:pt x="463" y="518"/>
                  </a:lnTo>
                  <a:lnTo>
                    <a:pt x="463" y="518"/>
                  </a:lnTo>
                  <a:lnTo>
                    <a:pt x="462" y="520"/>
                  </a:lnTo>
                  <a:lnTo>
                    <a:pt x="461" y="523"/>
                  </a:lnTo>
                  <a:lnTo>
                    <a:pt x="454" y="533"/>
                  </a:lnTo>
                  <a:lnTo>
                    <a:pt x="450" y="540"/>
                  </a:lnTo>
                  <a:lnTo>
                    <a:pt x="450" y="540"/>
                  </a:lnTo>
                  <a:lnTo>
                    <a:pt x="449" y="545"/>
                  </a:lnTo>
                  <a:lnTo>
                    <a:pt x="445" y="555"/>
                  </a:lnTo>
                  <a:lnTo>
                    <a:pt x="444" y="562"/>
                  </a:lnTo>
                  <a:lnTo>
                    <a:pt x="444" y="562"/>
                  </a:lnTo>
                  <a:lnTo>
                    <a:pt x="443" y="568"/>
                  </a:lnTo>
                  <a:lnTo>
                    <a:pt x="442" y="584"/>
                  </a:lnTo>
                  <a:lnTo>
                    <a:pt x="441" y="596"/>
                  </a:lnTo>
                  <a:lnTo>
                    <a:pt x="441" y="596"/>
                  </a:lnTo>
                  <a:lnTo>
                    <a:pt x="440" y="597"/>
                  </a:lnTo>
                  <a:lnTo>
                    <a:pt x="439" y="598"/>
                  </a:lnTo>
                  <a:lnTo>
                    <a:pt x="433" y="602"/>
                  </a:lnTo>
                  <a:lnTo>
                    <a:pt x="430" y="604"/>
                  </a:lnTo>
                  <a:lnTo>
                    <a:pt x="430" y="604"/>
                  </a:lnTo>
                  <a:lnTo>
                    <a:pt x="430" y="606"/>
                  </a:lnTo>
                  <a:lnTo>
                    <a:pt x="429" y="609"/>
                  </a:lnTo>
                  <a:lnTo>
                    <a:pt x="429" y="611"/>
                  </a:lnTo>
                  <a:lnTo>
                    <a:pt x="430" y="611"/>
                  </a:lnTo>
                  <a:lnTo>
                    <a:pt x="430" y="613"/>
                  </a:lnTo>
                  <a:lnTo>
                    <a:pt x="430" y="614"/>
                  </a:lnTo>
                  <a:lnTo>
                    <a:pt x="430" y="620"/>
                  </a:lnTo>
                  <a:lnTo>
                    <a:pt x="430" y="625"/>
                  </a:lnTo>
                  <a:lnTo>
                    <a:pt x="431" y="625"/>
                  </a:lnTo>
                  <a:lnTo>
                    <a:pt x="430" y="626"/>
                  </a:lnTo>
                  <a:lnTo>
                    <a:pt x="429" y="627"/>
                  </a:lnTo>
                  <a:lnTo>
                    <a:pt x="426" y="631"/>
                  </a:lnTo>
                  <a:lnTo>
                    <a:pt x="422" y="634"/>
                  </a:lnTo>
                  <a:lnTo>
                    <a:pt x="422" y="634"/>
                  </a:lnTo>
                  <a:lnTo>
                    <a:pt x="421" y="636"/>
                  </a:lnTo>
                  <a:lnTo>
                    <a:pt x="420" y="637"/>
                  </a:lnTo>
                  <a:lnTo>
                    <a:pt x="417" y="642"/>
                  </a:lnTo>
                  <a:lnTo>
                    <a:pt x="414" y="645"/>
                  </a:lnTo>
                  <a:lnTo>
                    <a:pt x="414" y="645"/>
                  </a:lnTo>
                  <a:lnTo>
                    <a:pt x="413" y="648"/>
                  </a:lnTo>
                  <a:lnTo>
                    <a:pt x="411" y="652"/>
                  </a:lnTo>
                  <a:lnTo>
                    <a:pt x="411" y="655"/>
                  </a:lnTo>
                  <a:lnTo>
                    <a:pt x="411" y="655"/>
                  </a:lnTo>
                  <a:lnTo>
                    <a:pt x="410" y="657"/>
                  </a:lnTo>
                  <a:lnTo>
                    <a:pt x="409" y="664"/>
                  </a:lnTo>
                  <a:lnTo>
                    <a:pt x="408" y="668"/>
                  </a:lnTo>
                  <a:lnTo>
                    <a:pt x="408" y="668"/>
                  </a:lnTo>
                  <a:lnTo>
                    <a:pt x="407" y="672"/>
                  </a:lnTo>
                  <a:lnTo>
                    <a:pt x="406" y="678"/>
                  </a:lnTo>
                  <a:lnTo>
                    <a:pt x="406" y="684"/>
                  </a:lnTo>
                  <a:lnTo>
                    <a:pt x="406" y="684"/>
                  </a:lnTo>
                  <a:lnTo>
                    <a:pt x="405" y="685"/>
                  </a:lnTo>
                  <a:lnTo>
                    <a:pt x="402" y="691"/>
                  </a:lnTo>
                  <a:lnTo>
                    <a:pt x="399" y="696"/>
                  </a:lnTo>
                  <a:lnTo>
                    <a:pt x="399" y="696"/>
                  </a:lnTo>
                  <a:lnTo>
                    <a:pt x="398" y="697"/>
                  </a:lnTo>
                  <a:lnTo>
                    <a:pt x="396" y="700"/>
                  </a:lnTo>
                  <a:lnTo>
                    <a:pt x="395" y="702"/>
                  </a:lnTo>
                  <a:lnTo>
                    <a:pt x="395" y="702"/>
                  </a:lnTo>
                  <a:lnTo>
                    <a:pt x="394" y="703"/>
                  </a:lnTo>
                  <a:lnTo>
                    <a:pt x="393" y="704"/>
                  </a:lnTo>
                  <a:lnTo>
                    <a:pt x="389" y="710"/>
                  </a:lnTo>
                  <a:lnTo>
                    <a:pt x="385" y="713"/>
                  </a:lnTo>
                  <a:lnTo>
                    <a:pt x="385" y="713"/>
                  </a:lnTo>
                  <a:lnTo>
                    <a:pt x="384" y="714"/>
                  </a:lnTo>
                  <a:lnTo>
                    <a:pt x="382" y="719"/>
                  </a:lnTo>
                  <a:lnTo>
                    <a:pt x="381" y="722"/>
                  </a:lnTo>
                  <a:lnTo>
                    <a:pt x="381" y="722"/>
                  </a:lnTo>
                  <a:lnTo>
                    <a:pt x="380" y="724"/>
                  </a:lnTo>
                  <a:lnTo>
                    <a:pt x="380" y="725"/>
                  </a:lnTo>
                  <a:lnTo>
                    <a:pt x="380" y="725"/>
                  </a:lnTo>
                  <a:lnTo>
                    <a:pt x="380" y="726"/>
                  </a:lnTo>
                  <a:lnTo>
                    <a:pt x="381" y="730"/>
                  </a:lnTo>
                  <a:lnTo>
                    <a:pt x="381" y="731"/>
                  </a:lnTo>
                  <a:lnTo>
                    <a:pt x="382" y="731"/>
                  </a:lnTo>
                  <a:lnTo>
                    <a:pt x="381" y="735"/>
                  </a:lnTo>
                  <a:lnTo>
                    <a:pt x="381" y="736"/>
                  </a:lnTo>
                  <a:lnTo>
                    <a:pt x="381" y="736"/>
                  </a:lnTo>
                  <a:lnTo>
                    <a:pt x="380" y="737"/>
                  </a:lnTo>
                  <a:lnTo>
                    <a:pt x="376" y="741"/>
                  </a:lnTo>
                  <a:lnTo>
                    <a:pt x="374" y="743"/>
                  </a:lnTo>
                  <a:lnTo>
                    <a:pt x="374" y="743"/>
                  </a:lnTo>
                  <a:lnTo>
                    <a:pt x="379" y="745"/>
                  </a:lnTo>
                  <a:lnTo>
                    <a:pt x="381" y="745"/>
                  </a:lnTo>
                  <a:lnTo>
                    <a:pt x="382" y="745"/>
                  </a:lnTo>
                  <a:lnTo>
                    <a:pt x="381" y="747"/>
                  </a:lnTo>
                  <a:lnTo>
                    <a:pt x="379" y="753"/>
                  </a:lnTo>
                  <a:lnTo>
                    <a:pt x="378" y="756"/>
                  </a:lnTo>
                  <a:lnTo>
                    <a:pt x="378" y="756"/>
                  </a:lnTo>
                  <a:lnTo>
                    <a:pt x="375" y="757"/>
                  </a:lnTo>
                  <a:lnTo>
                    <a:pt x="369" y="757"/>
                  </a:lnTo>
                  <a:lnTo>
                    <a:pt x="364" y="757"/>
                  </a:lnTo>
                  <a:lnTo>
                    <a:pt x="364" y="757"/>
                  </a:lnTo>
                  <a:lnTo>
                    <a:pt x="363" y="758"/>
                  </a:lnTo>
                  <a:lnTo>
                    <a:pt x="361" y="759"/>
                  </a:lnTo>
                  <a:lnTo>
                    <a:pt x="355" y="763"/>
                  </a:lnTo>
                  <a:lnTo>
                    <a:pt x="350" y="767"/>
                  </a:lnTo>
                  <a:lnTo>
                    <a:pt x="350" y="767"/>
                  </a:lnTo>
                  <a:lnTo>
                    <a:pt x="349" y="768"/>
                  </a:lnTo>
                  <a:lnTo>
                    <a:pt x="348" y="769"/>
                  </a:lnTo>
                  <a:lnTo>
                    <a:pt x="344" y="776"/>
                  </a:lnTo>
                  <a:lnTo>
                    <a:pt x="340" y="780"/>
                  </a:lnTo>
                  <a:lnTo>
                    <a:pt x="340" y="780"/>
                  </a:lnTo>
                  <a:lnTo>
                    <a:pt x="339" y="781"/>
                  </a:lnTo>
                  <a:lnTo>
                    <a:pt x="338" y="782"/>
                  </a:lnTo>
                  <a:lnTo>
                    <a:pt x="335" y="788"/>
                  </a:lnTo>
                  <a:lnTo>
                    <a:pt x="332" y="792"/>
                  </a:lnTo>
                  <a:lnTo>
                    <a:pt x="332" y="792"/>
                  </a:lnTo>
                  <a:lnTo>
                    <a:pt x="331" y="793"/>
                  </a:lnTo>
                  <a:lnTo>
                    <a:pt x="328" y="794"/>
                  </a:lnTo>
                  <a:lnTo>
                    <a:pt x="322" y="797"/>
                  </a:lnTo>
                  <a:lnTo>
                    <a:pt x="317" y="801"/>
                  </a:lnTo>
                  <a:lnTo>
                    <a:pt x="317" y="801"/>
                  </a:lnTo>
                  <a:lnTo>
                    <a:pt x="315" y="802"/>
                  </a:lnTo>
                  <a:lnTo>
                    <a:pt x="310" y="804"/>
                  </a:lnTo>
                  <a:lnTo>
                    <a:pt x="305" y="805"/>
                  </a:lnTo>
                  <a:lnTo>
                    <a:pt x="305" y="805"/>
                  </a:lnTo>
                  <a:lnTo>
                    <a:pt x="304" y="806"/>
                  </a:lnTo>
                  <a:lnTo>
                    <a:pt x="301" y="807"/>
                  </a:lnTo>
                  <a:lnTo>
                    <a:pt x="300" y="808"/>
                  </a:lnTo>
                  <a:lnTo>
                    <a:pt x="300" y="808"/>
                  </a:lnTo>
                  <a:lnTo>
                    <a:pt x="299" y="811"/>
                  </a:lnTo>
                  <a:lnTo>
                    <a:pt x="299" y="814"/>
                  </a:lnTo>
                  <a:lnTo>
                    <a:pt x="299" y="817"/>
                  </a:lnTo>
                  <a:lnTo>
                    <a:pt x="299" y="817"/>
                  </a:lnTo>
                  <a:lnTo>
                    <a:pt x="297" y="818"/>
                  </a:lnTo>
                  <a:lnTo>
                    <a:pt x="292" y="819"/>
                  </a:lnTo>
                  <a:lnTo>
                    <a:pt x="289" y="819"/>
                  </a:lnTo>
                  <a:lnTo>
                    <a:pt x="289" y="819"/>
                  </a:lnTo>
                  <a:lnTo>
                    <a:pt x="288" y="821"/>
                  </a:lnTo>
                  <a:lnTo>
                    <a:pt x="287" y="825"/>
                  </a:lnTo>
                  <a:lnTo>
                    <a:pt x="287" y="827"/>
                  </a:lnTo>
                  <a:lnTo>
                    <a:pt x="287" y="827"/>
                  </a:lnTo>
                  <a:lnTo>
                    <a:pt x="285" y="831"/>
                  </a:lnTo>
                  <a:lnTo>
                    <a:pt x="285" y="832"/>
                  </a:lnTo>
                  <a:lnTo>
                    <a:pt x="285" y="832"/>
                  </a:lnTo>
                  <a:lnTo>
                    <a:pt x="284" y="834"/>
                  </a:lnTo>
                  <a:lnTo>
                    <a:pt x="279" y="836"/>
                  </a:lnTo>
                  <a:lnTo>
                    <a:pt x="277" y="837"/>
                  </a:lnTo>
                  <a:lnTo>
                    <a:pt x="277" y="837"/>
                  </a:lnTo>
                  <a:lnTo>
                    <a:pt x="276" y="838"/>
                  </a:lnTo>
                  <a:lnTo>
                    <a:pt x="272" y="840"/>
                  </a:lnTo>
                  <a:lnTo>
                    <a:pt x="268" y="841"/>
                  </a:lnTo>
                  <a:lnTo>
                    <a:pt x="268" y="841"/>
                  </a:lnTo>
                  <a:lnTo>
                    <a:pt x="267" y="842"/>
                  </a:lnTo>
                  <a:lnTo>
                    <a:pt x="264" y="843"/>
                  </a:lnTo>
                  <a:lnTo>
                    <a:pt x="253" y="849"/>
                  </a:lnTo>
                  <a:lnTo>
                    <a:pt x="244" y="852"/>
                  </a:lnTo>
                  <a:lnTo>
                    <a:pt x="244" y="852"/>
                  </a:lnTo>
                  <a:lnTo>
                    <a:pt x="243" y="852"/>
                  </a:lnTo>
                  <a:lnTo>
                    <a:pt x="240" y="852"/>
                  </a:lnTo>
                  <a:lnTo>
                    <a:pt x="239" y="852"/>
                  </a:lnTo>
                  <a:lnTo>
                    <a:pt x="239" y="852"/>
                  </a:lnTo>
                  <a:lnTo>
                    <a:pt x="238" y="853"/>
                  </a:lnTo>
                  <a:lnTo>
                    <a:pt x="233" y="854"/>
                  </a:lnTo>
                  <a:lnTo>
                    <a:pt x="231" y="855"/>
                  </a:lnTo>
                  <a:lnTo>
                    <a:pt x="231" y="855"/>
                  </a:lnTo>
                  <a:lnTo>
                    <a:pt x="229" y="856"/>
                  </a:lnTo>
                  <a:lnTo>
                    <a:pt x="223" y="859"/>
                  </a:lnTo>
                  <a:lnTo>
                    <a:pt x="220" y="860"/>
                  </a:lnTo>
                  <a:lnTo>
                    <a:pt x="220" y="860"/>
                  </a:lnTo>
                  <a:lnTo>
                    <a:pt x="214" y="858"/>
                  </a:lnTo>
                  <a:lnTo>
                    <a:pt x="210" y="856"/>
                  </a:lnTo>
                  <a:lnTo>
                    <a:pt x="210" y="855"/>
                  </a:lnTo>
                  <a:lnTo>
                    <a:pt x="208" y="848"/>
                  </a:lnTo>
                  <a:lnTo>
                    <a:pt x="207" y="843"/>
                  </a:lnTo>
                  <a:lnTo>
                    <a:pt x="207" y="842"/>
                  </a:lnTo>
                  <a:lnTo>
                    <a:pt x="206" y="842"/>
                  </a:lnTo>
                  <a:lnTo>
                    <a:pt x="203" y="842"/>
                  </a:lnTo>
                  <a:lnTo>
                    <a:pt x="202" y="842"/>
                  </a:lnTo>
                  <a:lnTo>
                    <a:pt x="202" y="841"/>
                  </a:lnTo>
                  <a:lnTo>
                    <a:pt x="200" y="842"/>
                  </a:lnTo>
                  <a:lnTo>
                    <a:pt x="196" y="846"/>
                  </a:lnTo>
                  <a:lnTo>
                    <a:pt x="193" y="848"/>
                  </a:lnTo>
                  <a:lnTo>
                    <a:pt x="193" y="848"/>
                  </a:lnTo>
                  <a:lnTo>
                    <a:pt x="191" y="849"/>
                  </a:lnTo>
                  <a:lnTo>
                    <a:pt x="185" y="851"/>
                  </a:lnTo>
                  <a:lnTo>
                    <a:pt x="182" y="852"/>
                  </a:lnTo>
                  <a:lnTo>
                    <a:pt x="182" y="852"/>
                  </a:lnTo>
                  <a:lnTo>
                    <a:pt x="181" y="852"/>
                  </a:lnTo>
                  <a:lnTo>
                    <a:pt x="178" y="852"/>
                  </a:lnTo>
                  <a:lnTo>
                    <a:pt x="176" y="852"/>
                  </a:lnTo>
                  <a:lnTo>
                    <a:pt x="176" y="851"/>
                  </a:lnTo>
                  <a:lnTo>
                    <a:pt x="175" y="848"/>
                  </a:lnTo>
                  <a:lnTo>
                    <a:pt x="176" y="847"/>
                  </a:lnTo>
                  <a:lnTo>
                    <a:pt x="175" y="848"/>
                  </a:lnTo>
                  <a:lnTo>
                    <a:pt x="170" y="851"/>
                  </a:lnTo>
                  <a:lnTo>
                    <a:pt x="167" y="852"/>
                  </a:lnTo>
                  <a:lnTo>
                    <a:pt x="167" y="852"/>
                  </a:lnTo>
                  <a:lnTo>
                    <a:pt x="164" y="847"/>
                  </a:lnTo>
                  <a:lnTo>
                    <a:pt x="164" y="843"/>
                  </a:lnTo>
                  <a:lnTo>
                    <a:pt x="164" y="842"/>
                  </a:lnTo>
                  <a:lnTo>
                    <a:pt x="163" y="836"/>
                  </a:lnTo>
                  <a:lnTo>
                    <a:pt x="163" y="832"/>
                  </a:lnTo>
                  <a:lnTo>
                    <a:pt x="163" y="831"/>
                  </a:lnTo>
                  <a:lnTo>
                    <a:pt x="162" y="832"/>
                  </a:lnTo>
                  <a:lnTo>
                    <a:pt x="161" y="834"/>
                  </a:lnTo>
                  <a:lnTo>
                    <a:pt x="161" y="835"/>
                  </a:lnTo>
                  <a:lnTo>
                    <a:pt x="160" y="835"/>
                  </a:lnTo>
                  <a:lnTo>
                    <a:pt x="159" y="835"/>
                  </a:lnTo>
                  <a:lnTo>
                    <a:pt x="158" y="835"/>
                  </a:lnTo>
                  <a:lnTo>
                    <a:pt x="158" y="835"/>
                  </a:lnTo>
                  <a:lnTo>
                    <a:pt x="157" y="835"/>
                  </a:lnTo>
                  <a:lnTo>
                    <a:pt x="156" y="835"/>
                  </a:lnTo>
                  <a:lnTo>
                    <a:pt x="150" y="832"/>
                  </a:lnTo>
                  <a:lnTo>
                    <a:pt x="147" y="831"/>
                  </a:lnTo>
                  <a:lnTo>
                    <a:pt x="147" y="830"/>
                  </a:lnTo>
                  <a:lnTo>
                    <a:pt x="146" y="830"/>
                  </a:lnTo>
                  <a:lnTo>
                    <a:pt x="145" y="830"/>
                  </a:lnTo>
                  <a:lnTo>
                    <a:pt x="141" y="830"/>
                  </a:lnTo>
                  <a:lnTo>
                    <a:pt x="138" y="830"/>
                  </a:lnTo>
                  <a:lnTo>
                    <a:pt x="138" y="830"/>
                  </a:lnTo>
                  <a:lnTo>
                    <a:pt x="134" y="831"/>
                  </a:lnTo>
                  <a:lnTo>
                    <a:pt x="123" y="831"/>
                  </a:lnTo>
                  <a:lnTo>
                    <a:pt x="115" y="831"/>
                  </a:lnTo>
                  <a:lnTo>
                    <a:pt x="115" y="831"/>
                  </a:lnTo>
                  <a:lnTo>
                    <a:pt x="114" y="829"/>
                  </a:lnTo>
                  <a:lnTo>
                    <a:pt x="113" y="819"/>
                  </a:lnTo>
                  <a:lnTo>
                    <a:pt x="112" y="813"/>
                  </a:lnTo>
                  <a:lnTo>
                    <a:pt x="112" y="812"/>
                  </a:lnTo>
                  <a:lnTo>
                    <a:pt x="110" y="811"/>
                  </a:lnTo>
                  <a:lnTo>
                    <a:pt x="106" y="807"/>
                  </a:lnTo>
                  <a:lnTo>
                    <a:pt x="104" y="805"/>
                  </a:lnTo>
                  <a:lnTo>
                    <a:pt x="104" y="804"/>
                  </a:lnTo>
                  <a:lnTo>
                    <a:pt x="103" y="804"/>
                  </a:lnTo>
                  <a:lnTo>
                    <a:pt x="101" y="804"/>
                  </a:lnTo>
                  <a:lnTo>
                    <a:pt x="94" y="803"/>
                  </a:lnTo>
                  <a:lnTo>
                    <a:pt x="89" y="803"/>
                  </a:lnTo>
                  <a:lnTo>
                    <a:pt x="89" y="802"/>
                  </a:lnTo>
                  <a:lnTo>
                    <a:pt x="88" y="803"/>
                  </a:lnTo>
                  <a:lnTo>
                    <a:pt x="85" y="806"/>
                  </a:lnTo>
                  <a:lnTo>
                    <a:pt x="82" y="808"/>
                  </a:lnTo>
                  <a:lnTo>
                    <a:pt x="82" y="808"/>
                  </a:lnTo>
                  <a:lnTo>
                    <a:pt x="81" y="809"/>
                  </a:lnTo>
                  <a:lnTo>
                    <a:pt x="78" y="814"/>
                  </a:lnTo>
                  <a:lnTo>
                    <a:pt x="76" y="816"/>
                  </a:lnTo>
                  <a:lnTo>
                    <a:pt x="76" y="816"/>
                  </a:lnTo>
                  <a:lnTo>
                    <a:pt x="73" y="817"/>
                  </a:lnTo>
                  <a:lnTo>
                    <a:pt x="66" y="818"/>
                  </a:lnTo>
                  <a:lnTo>
                    <a:pt x="61" y="819"/>
                  </a:lnTo>
                  <a:lnTo>
                    <a:pt x="61" y="819"/>
                  </a:lnTo>
                  <a:lnTo>
                    <a:pt x="59" y="819"/>
                  </a:lnTo>
                  <a:lnTo>
                    <a:pt x="57" y="819"/>
                  </a:lnTo>
                  <a:lnTo>
                    <a:pt x="51" y="818"/>
                  </a:lnTo>
                  <a:lnTo>
                    <a:pt x="45" y="818"/>
                  </a:lnTo>
                  <a:lnTo>
                    <a:pt x="45" y="817"/>
                  </a:lnTo>
                  <a:lnTo>
                    <a:pt x="42" y="818"/>
                  </a:lnTo>
                  <a:lnTo>
                    <a:pt x="34" y="818"/>
                  </a:lnTo>
                  <a:lnTo>
                    <a:pt x="28" y="818"/>
                  </a:lnTo>
                  <a:lnTo>
                    <a:pt x="28" y="818"/>
                  </a:lnTo>
                  <a:lnTo>
                    <a:pt x="21" y="815"/>
                  </a:lnTo>
                  <a:lnTo>
                    <a:pt x="18" y="813"/>
                  </a:lnTo>
                  <a:lnTo>
                    <a:pt x="18" y="812"/>
                  </a:lnTo>
                  <a:lnTo>
                    <a:pt x="21" y="805"/>
                  </a:lnTo>
                  <a:lnTo>
                    <a:pt x="22" y="801"/>
                  </a:lnTo>
                  <a:lnTo>
                    <a:pt x="23" y="800"/>
                  </a:lnTo>
                  <a:lnTo>
                    <a:pt x="24" y="798"/>
                  </a:lnTo>
                  <a:lnTo>
                    <a:pt x="29" y="792"/>
                  </a:lnTo>
                  <a:lnTo>
                    <a:pt x="32" y="788"/>
                  </a:lnTo>
                  <a:lnTo>
                    <a:pt x="33" y="786"/>
                  </a:lnTo>
                  <a:lnTo>
                    <a:pt x="33" y="785"/>
                  </a:lnTo>
                  <a:lnTo>
                    <a:pt x="35" y="780"/>
                  </a:lnTo>
                  <a:lnTo>
                    <a:pt x="36" y="777"/>
                  </a:lnTo>
                  <a:lnTo>
                    <a:pt x="38" y="776"/>
                  </a:lnTo>
                  <a:lnTo>
                    <a:pt x="36" y="777"/>
                  </a:lnTo>
                  <a:lnTo>
                    <a:pt x="33" y="781"/>
                  </a:lnTo>
                  <a:lnTo>
                    <a:pt x="32" y="783"/>
                  </a:lnTo>
                  <a:lnTo>
                    <a:pt x="32" y="783"/>
                  </a:lnTo>
                  <a:lnTo>
                    <a:pt x="31" y="784"/>
                  </a:lnTo>
                  <a:lnTo>
                    <a:pt x="29" y="785"/>
                  </a:lnTo>
                  <a:lnTo>
                    <a:pt x="22" y="792"/>
                  </a:lnTo>
                  <a:lnTo>
                    <a:pt x="18" y="796"/>
                  </a:lnTo>
                  <a:lnTo>
                    <a:pt x="18" y="796"/>
                  </a:lnTo>
                  <a:lnTo>
                    <a:pt x="17" y="797"/>
                  </a:lnTo>
                  <a:lnTo>
                    <a:pt x="16" y="798"/>
                  </a:lnTo>
                  <a:lnTo>
                    <a:pt x="15" y="798"/>
                  </a:lnTo>
                  <a:lnTo>
                    <a:pt x="15" y="797"/>
                  </a:lnTo>
                  <a:lnTo>
                    <a:pt x="16" y="792"/>
                  </a:lnTo>
                  <a:lnTo>
                    <a:pt x="16" y="788"/>
                  </a:lnTo>
                  <a:lnTo>
                    <a:pt x="17" y="786"/>
                  </a:lnTo>
                  <a:lnTo>
                    <a:pt x="19" y="782"/>
                  </a:lnTo>
                  <a:lnTo>
                    <a:pt x="20" y="780"/>
                  </a:lnTo>
                  <a:lnTo>
                    <a:pt x="21" y="779"/>
                  </a:lnTo>
                  <a:lnTo>
                    <a:pt x="20" y="777"/>
                  </a:lnTo>
                  <a:lnTo>
                    <a:pt x="20" y="776"/>
                  </a:lnTo>
                  <a:lnTo>
                    <a:pt x="20" y="774"/>
                  </a:lnTo>
                  <a:lnTo>
                    <a:pt x="19" y="776"/>
                  </a:lnTo>
                  <a:lnTo>
                    <a:pt x="17" y="780"/>
                  </a:lnTo>
                  <a:lnTo>
                    <a:pt x="16" y="782"/>
                  </a:lnTo>
                  <a:lnTo>
                    <a:pt x="16" y="782"/>
                  </a:lnTo>
                  <a:lnTo>
                    <a:pt x="14" y="783"/>
                  </a:lnTo>
                  <a:lnTo>
                    <a:pt x="7" y="785"/>
                  </a:lnTo>
                  <a:lnTo>
                    <a:pt x="3" y="786"/>
                  </a:lnTo>
                  <a:lnTo>
                    <a:pt x="3" y="786"/>
                  </a:lnTo>
                  <a:lnTo>
                    <a:pt x="0" y="780"/>
                  </a:lnTo>
                  <a:lnTo>
                    <a:pt x="0" y="776"/>
                  </a:lnTo>
                  <a:lnTo>
                    <a:pt x="0" y="774"/>
                  </a:lnTo>
                  <a:lnTo>
                    <a:pt x="2" y="770"/>
                  </a:lnTo>
                  <a:lnTo>
                    <a:pt x="3" y="768"/>
                  </a:lnTo>
                  <a:lnTo>
                    <a:pt x="4" y="767"/>
                  </a:lnTo>
                  <a:lnTo>
                    <a:pt x="8" y="763"/>
                  </a:lnTo>
                  <a:lnTo>
                    <a:pt x="11" y="762"/>
                  </a:lnTo>
                  <a:lnTo>
                    <a:pt x="12" y="761"/>
                  </a:lnTo>
                  <a:lnTo>
                    <a:pt x="15" y="761"/>
                  </a:lnTo>
                  <a:lnTo>
                    <a:pt x="21" y="760"/>
                  </a:lnTo>
                  <a:lnTo>
                    <a:pt x="26" y="759"/>
                  </a:lnTo>
                  <a:lnTo>
                    <a:pt x="27" y="758"/>
                  </a:lnTo>
                  <a:lnTo>
                    <a:pt x="28" y="757"/>
                  </a:lnTo>
                  <a:lnTo>
                    <a:pt x="33" y="751"/>
                  </a:lnTo>
                  <a:lnTo>
                    <a:pt x="38" y="748"/>
                  </a:lnTo>
                  <a:lnTo>
                    <a:pt x="39" y="747"/>
                  </a:lnTo>
                  <a:lnTo>
                    <a:pt x="38" y="747"/>
                  </a:lnTo>
                  <a:lnTo>
                    <a:pt x="35" y="747"/>
                  </a:lnTo>
                  <a:lnTo>
                    <a:pt x="34" y="747"/>
                  </a:lnTo>
                  <a:lnTo>
                    <a:pt x="34" y="746"/>
                  </a:lnTo>
                  <a:lnTo>
                    <a:pt x="32" y="744"/>
                  </a:lnTo>
                  <a:lnTo>
                    <a:pt x="31" y="743"/>
                  </a:lnTo>
                  <a:lnTo>
                    <a:pt x="31" y="742"/>
                  </a:lnTo>
                  <a:lnTo>
                    <a:pt x="35" y="738"/>
                  </a:lnTo>
                  <a:lnTo>
                    <a:pt x="39" y="736"/>
                  </a:lnTo>
                  <a:lnTo>
                    <a:pt x="40" y="735"/>
                  </a:lnTo>
                  <a:lnTo>
                    <a:pt x="40" y="734"/>
                  </a:lnTo>
                  <a:lnTo>
                    <a:pt x="42" y="728"/>
                  </a:lnTo>
                  <a:lnTo>
                    <a:pt x="43" y="724"/>
                  </a:lnTo>
                  <a:lnTo>
                    <a:pt x="44" y="723"/>
                  </a:lnTo>
                  <a:lnTo>
                    <a:pt x="42" y="724"/>
                  </a:lnTo>
                  <a:lnTo>
                    <a:pt x="39" y="724"/>
                  </a:lnTo>
                  <a:lnTo>
                    <a:pt x="35" y="724"/>
                  </a:lnTo>
                  <a:lnTo>
                    <a:pt x="35" y="724"/>
                  </a:lnTo>
                  <a:lnTo>
                    <a:pt x="34" y="724"/>
                  </a:lnTo>
                  <a:lnTo>
                    <a:pt x="33" y="724"/>
                  </a:lnTo>
                  <a:lnTo>
                    <a:pt x="30" y="723"/>
                  </a:lnTo>
                  <a:lnTo>
                    <a:pt x="28" y="723"/>
                  </a:lnTo>
                  <a:lnTo>
                    <a:pt x="28" y="722"/>
                  </a:lnTo>
                  <a:lnTo>
                    <a:pt x="26" y="716"/>
                  </a:lnTo>
                  <a:lnTo>
                    <a:pt x="26" y="713"/>
                  </a:lnTo>
                  <a:lnTo>
                    <a:pt x="26" y="712"/>
                  </a:lnTo>
                  <a:lnTo>
                    <a:pt x="27" y="712"/>
                  </a:lnTo>
                  <a:lnTo>
                    <a:pt x="32" y="712"/>
                  </a:lnTo>
                  <a:lnTo>
                    <a:pt x="35" y="712"/>
                  </a:lnTo>
                  <a:lnTo>
                    <a:pt x="36" y="712"/>
                  </a:lnTo>
                  <a:lnTo>
                    <a:pt x="39" y="707"/>
                  </a:lnTo>
                  <a:lnTo>
                    <a:pt x="40" y="703"/>
                  </a:lnTo>
                  <a:lnTo>
                    <a:pt x="41" y="702"/>
                  </a:lnTo>
                  <a:lnTo>
                    <a:pt x="38" y="701"/>
                  </a:lnTo>
                  <a:lnTo>
                    <a:pt x="36" y="700"/>
                  </a:lnTo>
                  <a:lnTo>
                    <a:pt x="36" y="699"/>
                  </a:lnTo>
                  <a:lnTo>
                    <a:pt x="36" y="698"/>
                  </a:lnTo>
                  <a:lnTo>
                    <a:pt x="35" y="695"/>
                  </a:lnTo>
                  <a:lnTo>
                    <a:pt x="35" y="692"/>
                  </a:lnTo>
                  <a:lnTo>
                    <a:pt x="36" y="691"/>
                  </a:lnTo>
                  <a:lnTo>
                    <a:pt x="38" y="691"/>
                  </a:lnTo>
                  <a:lnTo>
                    <a:pt x="41" y="691"/>
                  </a:lnTo>
                  <a:lnTo>
                    <a:pt x="43" y="691"/>
                  </a:lnTo>
                  <a:lnTo>
                    <a:pt x="44" y="690"/>
                  </a:lnTo>
                  <a:lnTo>
                    <a:pt x="46" y="693"/>
                  </a:lnTo>
                  <a:lnTo>
                    <a:pt x="47" y="695"/>
                  </a:lnTo>
                  <a:lnTo>
                    <a:pt x="49" y="695"/>
                  </a:lnTo>
                  <a:lnTo>
                    <a:pt x="50" y="695"/>
                  </a:lnTo>
                  <a:lnTo>
                    <a:pt x="53" y="693"/>
                  </a:lnTo>
                  <a:lnTo>
                    <a:pt x="56" y="692"/>
                  </a:lnTo>
                  <a:lnTo>
                    <a:pt x="57" y="691"/>
                  </a:lnTo>
                  <a:lnTo>
                    <a:pt x="61" y="691"/>
                  </a:lnTo>
                  <a:lnTo>
                    <a:pt x="62" y="691"/>
                  </a:lnTo>
                  <a:lnTo>
                    <a:pt x="63" y="691"/>
                  </a:lnTo>
                  <a:lnTo>
                    <a:pt x="65" y="690"/>
                  </a:lnTo>
                  <a:lnTo>
                    <a:pt x="66" y="689"/>
                  </a:lnTo>
                  <a:lnTo>
                    <a:pt x="67" y="688"/>
                  </a:lnTo>
                  <a:lnTo>
                    <a:pt x="66" y="686"/>
                  </a:lnTo>
                  <a:lnTo>
                    <a:pt x="66" y="685"/>
                  </a:lnTo>
                  <a:lnTo>
                    <a:pt x="65" y="685"/>
                  </a:lnTo>
                  <a:lnTo>
                    <a:pt x="64" y="685"/>
                  </a:lnTo>
                  <a:lnTo>
                    <a:pt x="61" y="685"/>
                  </a:lnTo>
                  <a:lnTo>
                    <a:pt x="58" y="685"/>
                  </a:lnTo>
                  <a:lnTo>
                    <a:pt x="58" y="684"/>
                  </a:lnTo>
                  <a:lnTo>
                    <a:pt x="54" y="680"/>
                  </a:lnTo>
                  <a:lnTo>
                    <a:pt x="52" y="678"/>
                  </a:lnTo>
                  <a:lnTo>
                    <a:pt x="52" y="677"/>
                  </a:lnTo>
                  <a:lnTo>
                    <a:pt x="52" y="676"/>
                  </a:lnTo>
                  <a:lnTo>
                    <a:pt x="53" y="672"/>
                  </a:lnTo>
                  <a:lnTo>
                    <a:pt x="53" y="668"/>
                  </a:lnTo>
                  <a:lnTo>
                    <a:pt x="54" y="667"/>
                  </a:lnTo>
                  <a:lnTo>
                    <a:pt x="54" y="666"/>
                  </a:lnTo>
                  <a:lnTo>
                    <a:pt x="55" y="662"/>
                  </a:lnTo>
                  <a:lnTo>
                    <a:pt x="56" y="658"/>
                  </a:lnTo>
                  <a:lnTo>
                    <a:pt x="57" y="657"/>
                  </a:lnTo>
                  <a:lnTo>
                    <a:pt x="57" y="656"/>
                  </a:lnTo>
                  <a:lnTo>
                    <a:pt x="58" y="651"/>
                  </a:lnTo>
                  <a:lnTo>
                    <a:pt x="58" y="648"/>
                  </a:lnTo>
                  <a:lnTo>
                    <a:pt x="59" y="646"/>
                  </a:lnTo>
                  <a:lnTo>
                    <a:pt x="61" y="643"/>
                  </a:lnTo>
                  <a:lnTo>
                    <a:pt x="62" y="642"/>
                  </a:lnTo>
                  <a:lnTo>
                    <a:pt x="63" y="641"/>
                  </a:lnTo>
                  <a:lnTo>
                    <a:pt x="64" y="640"/>
                  </a:lnTo>
                  <a:lnTo>
                    <a:pt x="67" y="637"/>
                  </a:lnTo>
                  <a:lnTo>
                    <a:pt x="70" y="633"/>
                  </a:lnTo>
                  <a:lnTo>
                    <a:pt x="71" y="632"/>
                  </a:lnTo>
                  <a:lnTo>
                    <a:pt x="75" y="631"/>
                  </a:lnTo>
                  <a:lnTo>
                    <a:pt x="77" y="631"/>
                  </a:lnTo>
                  <a:lnTo>
                    <a:pt x="78" y="630"/>
                  </a:lnTo>
                  <a:lnTo>
                    <a:pt x="80" y="634"/>
                  </a:lnTo>
                  <a:lnTo>
                    <a:pt x="81" y="636"/>
                  </a:lnTo>
                  <a:lnTo>
                    <a:pt x="82" y="636"/>
                  </a:lnTo>
                  <a:lnTo>
                    <a:pt x="82" y="638"/>
                  </a:lnTo>
                  <a:lnTo>
                    <a:pt x="81" y="643"/>
                  </a:lnTo>
                  <a:lnTo>
                    <a:pt x="81" y="646"/>
                  </a:lnTo>
                  <a:lnTo>
                    <a:pt x="82" y="646"/>
                  </a:lnTo>
                  <a:lnTo>
                    <a:pt x="85" y="649"/>
                  </a:lnTo>
                  <a:lnTo>
                    <a:pt x="87" y="649"/>
                  </a:lnTo>
                  <a:lnTo>
                    <a:pt x="88" y="649"/>
                  </a:lnTo>
                  <a:lnTo>
                    <a:pt x="89" y="649"/>
                  </a:lnTo>
                  <a:lnTo>
                    <a:pt x="90" y="649"/>
                  </a:lnTo>
                  <a:lnTo>
                    <a:pt x="92" y="645"/>
                  </a:lnTo>
                  <a:lnTo>
                    <a:pt x="93" y="643"/>
                  </a:lnTo>
                  <a:lnTo>
                    <a:pt x="94" y="642"/>
                  </a:lnTo>
                  <a:lnTo>
                    <a:pt x="93" y="640"/>
                  </a:lnTo>
                  <a:lnTo>
                    <a:pt x="92" y="632"/>
                  </a:lnTo>
                  <a:lnTo>
                    <a:pt x="92" y="626"/>
                  </a:lnTo>
                  <a:lnTo>
                    <a:pt x="92" y="625"/>
                  </a:lnTo>
                  <a:lnTo>
                    <a:pt x="92" y="623"/>
                  </a:lnTo>
                  <a:lnTo>
                    <a:pt x="92" y="620"/>
                  </a:lnTo>
                  <a:lnTo>
                    <a:pt x="92" y="618"/>
                  </a:lnTo>
                  <a:lnTo>
                    <a:pt x="93" y="617"/>
                  </a:lnTo>
                  <a:lnTo>
                    <a:pt x="97" y="617"/>
                  </a:lnTo>
                  <a:lnTo>
                    <a:pt x="99" y="617"/>
                  </a:lnTo>
                  <a:lnTo>
                    <a:pt x="100" y="616"/>
                  </a:lnTo>
                  <a:lnTo>
                    <a:pt x="100" y="614"/>
                  </a:lnTo>
                  <a:lnTo>
                    <a:pt x="102" y="605"/>
                  </a:lnTo>
                  <a:lnTo>
                    <a:pt x="103" y="598"/>
                  </a:lnTo>
                  <a:lnTo>
                    <a:pt x="104" y="597"/>
                  </a:lnTo>
                  <a:lnTo>
                    <a:pt x="106" y="597"/>
                  </a:lnTo>
                  <a:lnTo>
                    <a:pt x="113" y="594"/>
                  </a:lnTo>
                  <a:lnTo>
                    <a:pt x="118" y="593"/>
                  </a:lnTo>
                  <a:lnTo>
                    <a:pt x="120" y="592"/>
                  </a:lnTo>
                  <a:lnTo>
                    <a:pt x="121" y="591"/>
                  </a:lnTo>
                  <a:lnTo>
                    <a:pt x="125" y="585"/>
                  </a:lnTo>
                  <a:lnTo>
                    <a:pt x="128" y="582"/>
                  </a:lnTo>
                  <a:lnTo>
                    <a:pt x="129" y="581"/>
                  </a:lnTo>
                  <a:lnTo>
                    <a:pt x="129" y="579"/>
                  </a:lnTo>
                  <a:lnTo>
                    <a:pt x="131" y="570"/>
                  </a:lnTo>
                  <a:lnTo>
                    <a:pt x="132" y="563"/>
                  </a:lnTo>
                  <a:lnTo>
                    <a:pt x="133" y="562"/>
                  </a:lnTo>
                  <a:lnTo>
                    <a:pt x="134" y="560"/>
                  </a:lnTo>
                  <a:lnTo>
                    <a:pt x="137" y="553"/>
                  </a:lnTo>
                  <a:lnTo>
                    <a:pt x="140" y="549"/>
                  </a:lnTo>
                  <a:lnTo>
                    <a:pt x="141" y="548"/>
                  </a:lnTo>
                  <a:lnTo>
                    <a:pt x="143" y="547"/>
                  </a:lnTo>
                  <a:lnTo>
                    <a:pt x="148" y="544"/>
                  </a:lnTo>
                  <a:lnTo>
                    <a:pt x="151" y="541"/>
                  </a:lnTo>
                  <a:lnTo>
                    <a:pt x="152" y="540"/>
                  </a:lnTo>
                  <a:lnTo>
                    <a:pt x="153" y="537"/>
                  </a:lnTo>
                  <a:lnTo>
                    <a:pt x="157" y="525"/>
                  </a:lnTo>
                  <a:lnTo>
                    <a:pt x="159" y="515"/>
                  </a:lnTo>
                  <a:lnTo>
                    <a:pt x="160" y="514"/>
                  </a:lnTo>
                  <a:lnTo>
                    <a:pt x="161" y="514"/>
                  </a:lnTo>
                  <a:lnTo>
                    <a:pt x="164" y="514"/>
                  </a:lnTo>
                  <a:lnTo>
                    <a:pt x="167" y="514"/>
                  </a:lnTo>
                  <a:lnTo>
                    <a:pt x="168" y="513"/>
                  </a:lnTo>
                  <a:lnTo>
                    <a:pt x="169" y="512"/>
                  </a:lnTo>
                  <a:lnTo>
                    <a:pt x="173" y="509"/>
                  </a:lnTo>
                  <a:lnTo>
                    <a:pt x="176" y="505"/>
                  </a:lnTo>
                  <a:lnTo>
                    <a:pt x="178" y="504"/>
                  </a:lnTo>
                  <a:lnTo>
                    <a:pt x="179" y="504"/>
                  </a:lnTo>
                  <a:lnTo>
                    <a:pt x="183" y="503"/>
                  </a:lnTo>
                  <a:lnTo>
                    <a:pt x="186" y="503"/>
                  </a:lnTo>
                  <a:lnTo>
                    <a:pt x="187" y="502"/>
                  </a:lnTo>
                  <a:lnTo>
                    <a:pt x="196" y="499"/>
                  </a:lnTo>
                  <a:lnTo>
                    <a:pt x="200" y="497"/>
                  </a:lnTo>
                  <a:lnTo>
                    <a:pt x="202" y="495"/>
                  </a:lnTo>
                  <a:lnTo>
                    <a:pt x="203" y="495"/>
                  </a:lnTo>
                  <a:lnTo>
                    <a:pt x="208" y="495"/>
                  </a:lnTo>
                  <a:lnTo>
                    <a:pt x="213" y="495"/>
                  </a:lnTo>
                  <a:lnTo>
                    <a:pt x="214" y="494"/>
                  </a:lnTo>
                  <a:lnTo>
                    <a:pt x="216" y="494"/>
                  </a:lnTo>
                  <a:lnTo>
                    <a:pt x="222" y="491"/>
                  </a:lnTo>
                  <a:lnTo>
                    <a:pt x="228" y="490"/>
                  </a:lnTo>
                  <a:lnTo>
                    <a:pt x="229" y="489"/>
                  </a:lnTo>
                  <a:lnTo>
                    <a:pt x="230" y="488"/>
                  </a:lnTo>
                  <a:lnTo>
                    <a:pt x="237" y="482"/>
                  </a:lnTo>
                  <a:lnTo>
                    <a:pt x="241" y="479"/>
                  </a:lnTo>
                  <a:lnTo>
                    <a:pt x="242" y="478"/>
                  </a:lnTo>
                  <a:lnTo>
                    <a:pt x="243" y="477"/>
                  </a:lnTo>
                  <a:lnTo>
                    <a:pt x="250" y="470"/>
                  </a:lnTo>
                  <a:lnTo>
                    <a:pt x="254" y="466"/>
                  </a:lnTo>
                  <a:lnTo>
                    <a:pt x="255" y="465"/>
                  </a:lnTo>
                  <a:lnTo>
                    <a:pt x="256" y="464"/>
                  </a:lnTo>
                  <a:lnTo>
                    <a:pt x="262" y="458"/>
                  </a:lnTo>
                  <a:lnTo>
                    <a:pt x="266" y="455"/>
                  </a:lnTo>
                  <a:lnTo>
                    <a:pt x="267" y="454"/>
                  </a:lnTo>
                  <a:lnTo>
                    <a:pt x="270" y="452"/>
                  </a:lnTo>
                  <a:lnTo>
                    <a:pt x="282" y="443"/>
                  </a:lnTo>
                  <a:lnTo>
                    <a:pt x="291" y="436"/>
                  </a:lnTo>
                  <a:lnTo>
                    <a:pt x="292" y="435"/>
                  </a:lnTo>
                  <a:lnTo>
                    <a:pt x="293" y="433"/>
                  </a:lnTo>
                  <a:lnTo>
                    <a:pt x="300" y="427"/>
                  </a:lnTo>
                  <a:lnTo>
                    <a:pt x="304" y="422"/>
                  </a:lnTo>
                  <a:lnTo>
                    <a:pt x="305" y="421"/>
                  </a:lnTo>
                  <a:lnTo>
                    <a:pt x="308" y="419"/>
                  </a:lnTo>
                  <a:lnTo>
                    <a:pt x="316" y="412"/>
                  </a:lnTo>
                  <a:lnTo>
                    <a:pt x="323" y="407"/>
                  </a:lnTo>
                  <a:lnTo>
                    <a:pt x="324" y="406"/>
                  </a:lnTo>
                  <a:lnTo>
                    <a:pt x="327" y="404"/>
                  </a:lnTo>
                  <a:lnTo>
                    <a:pt x="339" y="396"/>
                  </a:lnTo>
                  <a:lnTo>
                    <a:pt x="348" y="390"/>
                  </a:lnTo>
                  <a:lnTo>
                    <a:pt x="349" y="389"/>
                  </a:lnTo>
                  <a:lnTo>
                    <a:pt x="349" y="387"/>
                  </a:lnTo>
                  <a:lnTo>
                    <a:pt x="350" y="381"/>
                  </a:lnTo>
                  <a:lnTo>
                    <a:pt x="351" y="375"/>
                  </a:lnTo>
                  <a:lnTo>
                    <a:pt x="352" y="374"/>
                  </a:lnTo>
                  <a:lnTo>
                    <a:pt x="354" y="373"/>
                  </a:lnTo>
                  <a:lnTo>
                    <a:pt x="357" y="370"/>
                  </a:lnTo>
                  <a:lnTo>
                    <a:pt x="359" y="366"/>
                  </a:lnTo>
                  <a:lnTo>
                    <a:pt x="360" y="365"/>
                  </a:lnTo>
                  <a:lnTo>
                    <a:pt x="361" y="364"/>
                  </a:lnTo>
                  <a:lnTo>
                    <a:pt x="367" y="359"/>
                  </a:lnTo>
                  <a:lnTo>
                    <a:pt x="371" y="355"/>
                  </a:lnTo>
                  <a:lnTo>
                    <a:pt x="372" y="354"/>
                  </a:lnTo>
                  <a:lnTo>
                    <a:pt x="373" y="353"/>
                  </a:lnTo>
                  <a:lnTo>
                    <a:pt x="378" y="350"/>
                  </a:lnTo>
                  <a:lnTo>
                    <a:pt x="381" y="348"/>
                  </a:lnTo>
                  <a:lnTo>
                    <a:pt x="382" y="347"/>
                  </a:lnTo>
                  <a:lnTo>
                    <a:pt x="383" y="347"/>
                  </a:lnTo>
                  <a:lnTo>
                    <a:pt x="389" y="346"/>
                  </a:lnTo>
                  <a:lnTo>
                    <a:pt x="392" y="346"/>
                  </a:lnTo>
                  <a:lnTo>
                    <a:pt x="393" y="345"/>
                  </a:lnTo>
                  <a:lnTo>
                    <a:pt x="395" y="343"/>
                  </a:lnTo>
                  <a:lnTo>
                    <a:pt x="403" y="337"/>
                  </a:lnTo>
                  <a:lnTo>
                    <a:pt x="409" y="332"/>
                  </a:lnTo>
                  <a:lnTo>
                    <a:pt x="410" y="331"/>
                  </a:lnTo>
                  <a:lnTo>
                    <a:pt x="411" y="330"/>
                  </a:lnTo>
                  <a:lnTo>
                    <a:pt x="417" y="324"/>
                  </a:lnTo>
                  <a:lnTo>
                    <a:pt x="421" y="319"/>
                  </a:lnTo>
                  <a:lnTo>
                    <a:pt x="422" y="318"/>
                  </a:lnTo>
                  <a:lnTo>
                    <a:pt x="423" y="317"/>
                  </a:lnTo>
                  <a:lnTo>
                    <a:pt x="427" y="313"/>
                  </a:lnTo>
                  <a:lnTo>
                    <a:pt x="429" y="310"/>
                  </a:lnTo>
                  <a:lnTo>
                    <a:pt x="430" y="308"/>
                  </a:lnTo>
                  <a:lnTo>
                    <a:pt x="431" y="306"/>
                  </a:lnTo>
                  <a:lnTo>
                    <a:pt x="434" y="300"/>
                  </a:lnTo>
                  <a:lnTo>
                    <a:pt x="438" y="295"/>
                  </a:lnTo>
                  <a:lnTo>
                    <a:pt x="439" y="294"/>
                  </a:lnTo>
                  <a:lnTo>
                    <a:pt x="440" y="293"/>
                  </a:lnTo>
                  <a:lnTo>
                    <a:pt x="445" y="287"/>
                  </a:lnTo>
                  <a:lnTo>
                    <a:pt x="449" y="282"/>
                  </a:lnTo>
                  <a:lnTo>
                    <a:pt x="450" y="281"/>
                  </a:lnTo>
                  <a:lnTo>
                    <a:pt x="450" y="280"/>
                  </a:lnTo>
                  <a:lnTo>
                    <a:pt x="451" y="273"/>
                  </a:lnTo>
                  <a:lnTo>
                    <a:pt x="451" y="269"/>
                  </a:lnTo>
                  <a:lnTo>
                    <a:pt x="452" y="268"/>
                  </a:lnTo>
                  <a:lnTo>
                    <a:pt x="453" y="266"/>
                  </a:lnTo>
                  <a:lnTo>
                    <a:pt x="454" y="265"/>
                  </a:lnTo>
                  <a:lnTo>
                    <a:pt x="455" y="264"/>
                  </a:lnTo>
                  <a:lnTo>
                    <a:pt x="455" y="261"/>
                  </a:lnTo>
                  <a:lnTo>
                    <a:pt x="458" y="254"/>
                  </a:lnTo>
                  <a:lnTo>
                    <a:pt x="460" y="248"/>
                  </a:lnTo>
                  <a:lnTo>
                    <a:pt x="461" y="247"/>
                  </a:lnTo>
                  <a:lnTo>
                    <a:pt x="461" y="246"/>
                  </a:lnTo>
                  <a:lnTo>
                    <a:pt x="461" y="242"/>
                  </a:lnTo>
                  <a:lnTo>
                    <a:pt x="461" y="238"/>
                  </a:lnTo>
                  <a:lnTo>
                    <a:pt x="462" y="237"/>
                  </a:lnTo>
                  <a:lnTo>
                    <a:pt x="462" y="235"/>
                  </a:lnTo>
                  <a:lnTo>
                    <a:pt x="464" y="229"/>
                  </a:lnTo>
                  <a:lnTo>
                    <a:pt x="465" y="224"/>
                  </a:lnTo>
                  <a:lnTo>
                    <a:pt x="466" y="223"/>
                  </a:lnTo>
                  <a:lnTo>
                    <a:pt x="466" y="221"/>
                  </a:lnTo>
                  <a:lnTo>
                    <a:pt x="467" y="213"/>
                  </a:lnTo>
                  <a:lnTo>
                    <a:pt x="467" y="207"/>
                  </a:lnTo>
                  <a:lnTo>
                    <a:pt x="468" y="206"/>
                  </a:lnTo>
                  <a:lnTo>
                    <a:pt x="469" y="202"/>
                  </a:lnTo>
                  <a:lnTo>
                    <a:pt x="474" y="191"/>
                  </a:lnTo>
                  <a:lnTo>
                    <a:pt x="477" y="184"/>
                  </a:lnTo>
                  <a:lnTo>
                    <a:pt x="478" y="183"/>
                  </a:lnTo>
                  <a:lnTo>
                    <a:pt x="479" y="182"/>
                  </a:lnTo>
                  <a:lnTo>
                    <a:pt x="485" y="178"/>
                  </a:lnTo>
                  <a:lnTo>
                    <a:pt x="489" y="176"/>
                  </a:lnTo>
                  <a:lnTo>
                    <a:pt x="490" y="175"/>
                  </a:lnTo>
                  <a:lnTo>
                    <a:pt x="491" y="174"/>
                  </a:lnTo>
                  <a:lnTo>
                    <a:pt x="495" y="171"/>
                  </a:lnTo>
                  <a:lnTo>
                    <a:pt x="498" y="167"/>
                  </a:lnTo>
                  <a:lnTo>
                    <a:pt x="499" y="166"/>
                  </a:lnTo>
                  <a:lnTo>
                    <a:pt x="500" y="165"/>
                  </a:lnTo>
                  <a:lnTo>
                    <a:pt x="507" y="161"/>
                  </a:lnTo>
                  <a:lnTo>
                    <a:pt x="511" y="157"/>
                  </a:lnTo>
                  <a:lnTo>
                    <a:pt x="512" y="156"/>
                  </a:lnTo>
                  <a:lnTo>
                    <a:pt x="513" y="156"/>
                  </a:lnTo>
                  <a:lnTo>
                    <a:pt x="519" y="154"/>
                  </a:lnTo>
                  <a:lnTo>
                    <a:pt x="522" y="153"/>
                  </a:lnTo>
                  <a:lnTo>
                    <a:pt x="523" y="152"/>
                  </a:lnTo>
                  <a:lnTo>
                    <a:pt x="524" y="151"/>
                  </a:lnTo>
                  <a:lnTo>
                    <a:pt x="527" y="144"/>
                  </a:lnTo>
                  <a:lnTo>
                    <a:pt x="530" y="140"/>
                  </a:lnTo>
                  <a:lnTo>
                    <a:pt x="531" y="139"/>
                  </a:lnTo>
                  <a:lnTo>
                    <a:pt x="532" y="136"/>
                  </a:lnTo>
                  <a:lnTo>
                    <a:pt x="537" y="125"/>
                  </a:lnTo>
                  <a:lnTo>
                    <a:pt x="540" y="117"/>
                  </a:lnTo>
                  <a:lnTo>
                    <a:pt x="542" y="116"/>
                  </a:lnTo>
                  <a:lnTo>
                    <a:pt x="542" y="114"/>
                  </a:lnTo>
                  <a:lnTo>
                    <a:pt x="544" y="107"/>
                  </a:lnTo>
                  <a:lnTo>
                    <a:pt x="545" y="103"/>
                  </a:lnTo>
                  <a:lnTo>
                    <a:pt x="546" y="102"/>
                  </a:lnTo>
                  <a:lnTo>
                    <a:pt x="546" y="99"/>
                  </a:lnTo>
                  <a:lnTo>
                    <a:pt x="548" y="90"/>
                  </a:lnTo>
                  <a:lnTo>
                    <a:pt x="549" y="82"/>
                  </a:lnTo>
                  <a:lnTo>
                    <a:pt x="550" y="81"/>
                  </a:lnTo>
                  <a:lnTo>
                    <a:pt x="550" y="80"/>
                  </a:lnTo>
                  <a:lnTo>
                    <a:pt x="550" y="74"/>
                  </a:lnTo>
                  <a:lnTo>
                    <a:pt x="550" y="70"/>
                  </a:lnTo>
                  <a:lnTo>
                    <a:pt x="551" y="69"/>
                  </a:lnTo>
                  <a:lnTo>
                    <a:pt x="555" y="69"/>
                  </a:lnTo>
                  <a:lnTo>
                    <a:pt x="556" y="69"/>
                  </a:lnTo>
                  <a:lnTo>
                    <a:pt x="557" y="69"/>
                  </a:lnTo>
                  <a:lnTo>
                    <a:pt x="557" y="69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370320" y="5930280"/>
              <a:ext cx="13320" cy="14400"/>
            </a:xfrm>
            <a:custGeom>
              <a:avLst/>
              <a:gdLst/>
              <a:ahLst/>
              <a:rect l="l" t="t" r="r" b="b"/>
              <a:pathLst>
                <a:path w="58" h="85">
                  <a:moveTo>
                    <a:pt x="42" y="0"/>
                  </a:moveTo>
                  <a:lnTo>
                    <a:pt x="42" y="1"/>
                  </a:lnTo>
                  <a:lnTo>
                    <a:pt x="42" y="2"/>
                  </a:lnTo>
                  <a:lnTo>
                    <a:pt x="42" y="5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6" y="13"/>
                  </a:lnTo>
                  <a:lnTo>
                    <a:pt x="47" y="15"/>
                  </a:lnTo>
                  <a:lnTo>
                    <a:pt x="48" y="15"/>
                  </a:lnTo>
                  <a:lnTo>
                    <a:pt x="50" y="19"/>
                  </a:lnTo>
                  <a:lnTo>
                    <a:pt x="51" y="21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53" y="26"/>
                  </a:lnTo>
                  <a:lnTo>
                    <a:pt x="53" y="28"/>
                  </a:lnTo>
                  <a:lnTo>
                    <a:pt x="54" y="28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48" y="30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44" y="32"/>
                  </a:lnTo>
                  <a:lnTo>
                    <a:pt x="44" y="34"/>
                  </a:lnTo>
                  <a:lnTo>
                    <a:pt x="51" y="36"/>
                  </a:lnTo>
                  <a:lnTo>
                    <a:pt x="54" y="37"/>
                  </a:lnTo>
                  <a:lnTo>
                    <a:pt x="55" y="37"/>
                  </a:lnTo>
                  <a:lnTo>
                    <a:pt x="56" y="40"/>
                  </a:lnTo>
                  <a:lnTo>
                    <a:pt x="58" y="41"/>
                  </a:lnTo>
                  <a:lnTo>
                    <a:pt x="58" y="43"/>
                  </a:lnTo>
                  <a:lnTo>
                    <a:pt x="56" y="47"/>
                  </a:lnTo>
                  <a:lnTo>
                    <a:pt x="56" y="50"/>
                  </a:lnTo>
                  <a:lnTo>
                    <a:pt x="58" y="50"/>
                  </a:lnTo>
                  <a:lnTo>
                    <a:pt x="56" y="51"/>
                  </a:lnTo>
                  <a:lnTo>
                    <a:pt x="52" y="52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49" y="54"/>
                  </a:lnTo>
                  <a:lnTo>
                    <a:pt x="48" y="55"/>
                  </a:lnTo>
                  <a:lnTo>
                    <a:pt x="44" y="61"/>
                  </a:lnTo>
                  <a:lnTo>
                    <a:pt x="41" y="64"/>
                  </a:lnTo>
                  <a:lnTo>
                    <a:pt x="41" y="64"/>
                  </a:lnTo>
                  <a:lnTo>
                    <a:pt x="40" y="65"/>
                  </a:lnTo>
                  <a:lnTo>
                    <a:pt x="36" y="66"/>
                  </a:lnTo>
                  <a:lnTo>
                    <a:pt x="33" y="67"/>
                  </a:lnTo>
                  <a:lnTo>
                    <a:pt x="33" y="67"/>
                  </a:lnTo>
                  <a:lnTo>
                    <a:pt x="28" y="64"/>
                  </a:lnTo>
                  <a:lnTo>
                    <a:pt x="26" y="63"/>
                  </a:lnTo>
                  <a:lnTo>
                    <a:pt x="26" y="62"/>
                  </a:lnTo>
                  <a:lnTo>
                    <a:pt x="25" y="63"/>
                  </a:lnTo>
                  <a:lnTo>
                    <a:pt x="21" y="64"/>
                  </a:lnTo>
                  <a:lnTo>
                    <a:pt x="20" y="65"/>
                  </a:lnTo>
                  <a:lnTo>
                    <a:pt x="20" y="65"/>
                  </a:lnTo>
                  <a:lnTo>
                    <a:pt x="19" y="66"/>
                  </a:lnTo>
                  <a:lnTo>
                    <a:pt x="16" y="71"/>
                  </a:lnTo>
                  <a:lnTo>
                    <a:pt x="15" y="73"/>
                  </a:lnTo>
                  <a:lnTo>
                    <a:pt x="15" y="73"/>
                  </a:lnTo>
                  <a:lnTo>
                    <a:pt x="14" y="75"/>
                  </a:lnTo>
                  <a:lnTo>
                    <a:pt x="12" y="81"/>
                  </a:lnTo>
                  <a:lnTo>
                    <a:pt x="11" y="85"/>
                  </a:lnTo>
                  <a:lnTo>
                    <a:pt x="11" y="85"/>
                  </a:lnTo>
                  <a:lnTo>
                    <a:pt x="9" y="85"/>
                  </a:lnTo>
                  <a:lnTo>
                    <a:pt x="8" y="85"/>
                  </a:lnTo>
                  <a:lnTo>
                    <a:pt x="5" y="84"/>
                  </a:lnTo>
                  <a:lnTo>
                    <a:pt x="3" y="84"/>
                  </a:lnTo>
                  <a:lnTo>
                    <a:pt x="3" y="83"/>
                  </a:lnTo>
                  <a:lnTo>
                    <a:pt x="2" y="82"/>
                  </a:lnTo>
                  <a:lnTo>
                    <a:pt x="1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3" y="64"/>
                  </a:lnTo>
                  <a:lnTo>
                    <a:pt x="5" y="58"/>
                  </a:lnTo>
                  <a:lnTo>
                    <a:pt x="6" y="56"/>
                  </a:lnTo>
                  <a:lnTo>
                    <a:pt x="7" y="54"/>
                  </a:lnTo>
                  <a:lnTo>
                    <a:pt x="8" y="53"/>
                  </a:lnTo>
                  <a:lnTo>
                    <a:pt x="9" y="52"/>
                  </a:lnTo>
                  <a:lnTo>
                    <a:pt x="12" y="48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5" y="39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20" y="28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3" y="23"/>
                  </a:lnTo>
                  <a:lnTo>
                    <a:pt x="21" y="16"/>
                  </a:lnTo>
                  <a:lnTo>
                    <a:pt x="21" y="12"/>
                  </a:lnTo>
                  <a:lnTo>
                    <a:pt x="23" y="11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5" y="5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3"/>
                  </a:lnTo>
                  <a:lnTo>
                    <a:pt x="41" y="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2054160" y="4262400"/>
            <a:ext cx="426960" cy="422280"/>
          </a:xfrm>
          <a:custGeom>
            <a:avLst/>
            <a:gdLst/>
            <a:ahLst/>
            <a:rect l="l" t="t" r="r" b="b"/>
            <a:pathLst>
              <a:path w="1483" h="1543">
                <a:moveTo>
                  <a:pt x="9" y="14"/>
                </a:moveTo>
                <a:lnTo>
                  <a:pt x="4" y="19"/>
                </a:lnTo>
                <a:lnTo>
                  <a:pt x="3" y="23"/>
                </a:lnTo>
                <a:lnTo>
                  <a:pt x="1" y="27"/>
                </a:lnTo>
                <a:lnTo>
                  <a:pt x="0" y="32"/>
                </a:lnTo>
                <a:lnTo>
                  <a:pt x="1" y="37"/>
                </a:lnTo>
                <a:lnTo>
                  <a:pt x="3" y="48"/>
                </a:lnTo>
                <a:lnTo>
                  <a:pt x="9" y="58"/>
                </a:lnTo>
                <a:lnTo>
                  <a:pt x="13" y="65"/>
                </a:lnTo>
                <a:lnTo>
                  <a:pt x="17" y="68"/>
                </a:lnTo>
                <a:lnTo>
                  <a:pt x="26" y="78"/>
                </a:lnTo>
                <a:lnTo>
                  <a:pt x="45" y="100"/>
                </a:lnTo>
                <a:lnTo>
                  <a:pt x="78" y="143"/>
                </a:lnTo>
                <a:lnTo>
                  <a:pt x="116" y="181"/>
                </a:lnTo>
                <a:lnTo>
                  <a:pt x="127" y="188"/>
                </a:lnTo>
                <a:lnTo>
                  <a:pt x="153" y="205"/>
                </a:lnTo>
                <a:lnTo>
                  <a:pt x="201" y="242"/>
                </a:lnTo>
                <a:lnTo>
                  <a:pt x="281" y="329"/>
                </a:lnTo>
                <a:lnTo>
                  <a:pt x="345" y="427"/>
                </a:lnTo>
                <a:lnTo>
                  <a:pt x="359" y="452"/>
                </a:lnTo>
                <a:lnTo>
                  <a:pt x="385" y="461"/>
                </a:lnTo>
                <a:lnTo>
                  <a:pt x="432" y="484"/>
                </a:lnTo>
                <a:lnTo>
                  <a:pt x="466" y="520"/>
                </a:lnTo>
                <a:lnTo>
                  <a:pt x="492" y="563"/>
                </a:lnTo>
                <a:lnTo>
                  <a:pt x="511" y="613"/>
                </a:lnTo>
                <a:lnTo>
                  <a:pt x="524" y="666"/>
                </a:lnTo>
                <a:lnTo>
                  <a:pt x="529" y="692"/>
                </a:lnTo>
                <a:lnTo>
                  <a:pt x="532" y="698"/>
                </a:lnTo>
                <a:lnTo>
                  <a:pt x="535" y="704"/>
                </a:lnTo>
                <a:lnTo>
                  <a:pt x="543" y="713"/>
                </a:lnTo>
                <a:lnTo>
                  <a:pt x="550" y="716"/>
                </a:lnTo>
                <a:lnTo>
                  <a:pt x="569" y="720"/>
                </a:lnTo>
                <a:lnTo>
                  <a:pt x="604" y="734"/>
                </a:lnTo>
                <a:lnTo>
                  <a:pt x="634" y="759"/>
                </a:lnTo>
                <a:lnTo>
                  <a:pt x="659" y="788"/>
                </a:lnTo>
                <a:lnTo>
                  <a:pt x="700" y="855"/>
                </a:lnTo>
                <a:lnTo>
                  <a:pt x="708" y="871"/>
                </a:lnTo>
                <a:lnTo>
                  <a:pt x="711" y="881"/>
                </a:lnTo>
                <a:lnTo>
                  <a:pt x="720" y="898"/>
                </a:lnTo>
                <a:lnTo>
                  <a:pt x="737" y="934"/>
                </a:lnTo>
                <a:lnTo>
                  <a:pt x="758" y="972"/>
                </a:lnTo>
                <a:lnTo>
                  <a:pt x="763" y="981"/>
                </a:lnTo>
                <a:lnTo>
                  <a:pt x="765" y="985"/>
                </a:lnTo>
                <a:lnTo>
                  <a:pt x="765" y="988"/>
                </a:lnTo>
                <a:lnTo>
                  <a:pt x="766" y="997"/>
                </a:lnTo>
                <a:lnTo>
                  <a:pt x="765" y="1005"/>
                </a:lnTo>
                <a:lnTo>
                  <a:pt x="765" y="1023"/>
                </a:lnTo>
                <a:lnTo>
                  <a:pt x="768" y="1031"/>
                </a:lnTo>
                <a:lnTo>
                  <a:pt x="771" y="1040"/>
                </a:lnTo>
                <a:lnTo>
                  <a:pt x="779" y="1055"/>
                </a:lnTo>
                <a:lnTo>
                  <a:pt x="789" y="1065"/>
                </a:lnTo>
                <a:lnTo>
                  <a:pt x="801" y="1075"/>
                </a:lnTo>
                <a:lnTo>
                  <a:pt x="826" y="1097"/>
                </a:lnTo>
                <a:lnTo>
                  <a:pt x="833" y="1102"/>
                </a:lnTo>
                <a:lnTo>
                  <a:pt x="834" y="1107"/>
                </a:lnTo>
                <a:lnTo>
                  <a:pt x="834" y="1110"/>
                </a:lnTo>
                <a:lnTo>
                  <a:pt x="834" y="1115"/>
                </a:lnTo>
                <a:lnTo>
                  <a:pt x="834" y="1127"/>
                </a:lnTo>
                <a:lnTo>
                  <a:pt x="837" y="1134"/>
                </a:lnTo>
                <a:lnTo>
                  <a:pt x="847" y="1152"/>
                </a:lnTo>
                <a:lnTo>
                  <a:pt x="872" y="1182"/>
                </a:lnTo>
                <a:lnTo>
                  <a:pt x="929" y="1233"/>
                </a:lnTo>
                <a:lnTo>
                  <a:pt x="991" y="1281"/>
                </a:lnTo>
                <a:lnTo>
                  <a:pt x="1005" y="1294"/>
                </a:lnTo>
                <a:lnTo>
                  <a:pt x="1008" y="1298"/>
                </a:lnTo>
                <a:lnTo>
                  <a:pt x="1016" y="1308"/>
                </a:lnTo>
                <a:lnTo>
                  <a:pt x="1031" y="1327"/>
                </a:lnTo>
                <a:lnTo>
                  <a:pt x="1047" y="1346"/>
                </a:lnTo>
                <a:lnTo>
                  <a:pt x="1053" y="1349"/>
                </a:lnTo>
                <a:lnTo>
                  <a:pt x="1056" y="1353"/>
                </a:lnTo>
                <a:lnTo>
                  <a:pt x="1065" y="1359"/>
                </a:lnTo>
                <a:lnTo>
                  <a:pt x="1085" y="1370"/>
                </a:lnTo>
                <a:lnTo>
                  <a:pt x="1105" y="1379"/>
                </a:lnTo>
                <a:lnTo>
                  <a:pt x="1111" y="1381"/>
                </a:lnTo>
                <a:lnTo>
                  <a:pt x="1124" y="1388"/>
                </a:lnTo>
                <a:lnTo>
                  <a:pt x="1137" y="1397"/>
                </a:lnTo>
                <a:lnTo>
                  <a:pt x="1156" y="1420"/>
                </a:lnTo>
                <a:lnTo>
                  <a:pt x="1173" y="1446"/>
                </a:lnTo>
                <a:lnTo>
                  <a:pt x="1208" y="1497"/>
                </a:lnTo>
                <a:lnTo>
                  <a:pt x="1233" y="1515"/>
                </a:lnTo>
                <a:lnTo>
                  <a:pt x="1231" y="1511"/>
                </a:lnTo>
                <a:lnTo>
                  <a:pt x="1231" y="1501"/>
                </a:lnTo>
                <a:lnTo>
                  <a:pt x="1233" y="1492"/>
                </a:lnTo>
                <a:lnTo>
                  <a:pt x="1236" y="1485"/>
                </a:lnTo>
                <a:lnTo>
                  <a:pt x="1240" y="1478"/>
                </a:lnTo>
                <a:lnTo>
                  <a:pt x="1246" y="1470"/>
                </a:lnTo>
                <a:lnTo>
                  <a:pt x="1250" y="1465"/>
                </a:lnTo>
                <a:lnTo>
                  <a:pt x="1259" y="1470"/>
                </a:lnTo>
                <a:lnTo>
                  <a:pt x="1275" y="1478"/>
                </a:lnTo>
                <a:lnTo>
                  <a:pt x="1288" y="1482"/>
                </a:lnTo>
                <a:lnTo>
                  <a:pt x="1301" y="1479"/>
                </a:lnTo>
                <a:lnTo>
                  <a:pt x="1313" y="1472"/>
                </a:lnTo>
                <a:lnTo>
                  <a:pt x="1323" y="1457"/>
                </a:lnTo>
                <a:lnTo>
                  <a:pt x="1328" y="1447"/>
                </a:lnTo>
                <a:lnTo>
                  <a:pt x="1336" y="1453"/>
                </a:lnTo>
                <a:lnTo>
                  <a:pt x="1349" y="1466"/>
                </a:lnTo>
                <a:lnTo>
                  <a:pt x="1360" y="1481"/>
                </a:lnTo>
                <a:lnTo>
                  <a:pt x="1378" y="1514"/>
                </a:lnTo>
                <a:lnTo>
                  <a:pt x="1391" y="1540"/>
                </a:lnTo>
                <a:lnTo>
                  <a:pt x="1392" y="1543"/>
                </a:lnTo>
                <a:lnTo>
                  <a:pt x="1394" y="1543"/>
                </a:lnTo>
                <a:lnTo>
                  <a:pt x="1395" y="1543"/>
                </a:lnTo>
                <a:lnTo>
                  <a:pt x="1399" y="1543"/>
                </a:lnTo>
                <a:lnTo>
                  <a:pt x="1408" y="1543"/>
                </a:lnTo>
                <a:lnTo>
                  <a:pt x="1414" y="1541"/>
                </a:lnTo>
                <a:lnTo>
                  <a:pt x="1411" y="1531"/>
                </a:lnTo>
                <a:lnTo>
                  <a:pt x="1408" y="1510"/>
                </a:lnTo>
                <a:lnTo>
                  <a:pt x="1408" y="1466"/>
                </a:lnTo>
                <a:lnTo>
                  <a:pt x="1415" y="1423"/>
                </a:lnTo>
                <a:lnTo>
                  <a:pt x="1420" y="1411"/>
                </a:lnTo>
                <a:lnTo>
                  <a:pt x="1420" y="1404"/>
                </a:lnTo>
                <a:lnTo>
                  <a:pt x="1421" y="1397"/>
                </a:lnTo>
                <a:lnTo>
                  <a:pt x="1418" y="1382"/>
                </a:lnTo>
                <a:lnTo>
                  <a:pt x="1412" y="1366"/>
                </a:lnTo>
                <a:lnTo>
                  <a:pt x="1405" y="1334"/>
                </a:lnTo>
                <a:lnTo>
                  <a:pt x="1407" y="1317"/>
                </a:lnTo>
                <a:lnTo>
                  <a:pt x="1408" y="1313"/>
                </a:lnTo>
                <a:lnTo>
                  <a:pt x="1412" y="1302"/>
                </a:lnTo>
                <a:lnTo>
                  <a:pt x="1420" y="1292"/>
                </a:lnTo>
                <a:lnTo>
                  <a:pt x="1430" y="1273"/>
                </a:lnTo>
                <a:lnTo>
                  <a:pt x="1430" y="1257"/>
                </a:lnTo>
                <a:lnTo>
                  <a:pt x="1427" y="1253"/>
                </a:lnTo>
                <a:lnTo>
                  <a:pt x="1421" y="1244"/>
                </a:lnTo>
                <a:lnTo>
                  <a:pt x="1410" y="1228"/>
                </a:lnTo>
                <a:lnTo>
                  <a:pt x="1407" y="1220"/>
                </a:lnTo>
                <a:lnTo>
                  <a:pt x="1405" y="1211"/>
                </a:lnTo>
                <a:lnTo>
                  <a:pt x="1408" y="1205"/>
                </a:lnTo>
                <a:lnTo>
                  <a:pt x="1408" y="1204"/>
                </a:lnTo>
                <a:lnTo>
                  <a:pt x="1410" y="1200"/>
                </a:lnTo>
                <a:lnTo>
                  <a:pt x="1417" y="1191"/>
                </a:lnTo>
                <a:lnTo>
                  <a:pt x="1421" y="1188"/>
                </a:lnTo>
                <a:lnTo>
                  <a:pt x="1428" y="1188"/>
                </a:lnTo>
                <a:lnTo>
                  <a:pt x="1433" y="1188"/>
                </a:lnTo>
                <a:lnTo>
                  <a:pt x="1433" y="1184"/>
                </a:lnTo>
                <a:lnTo>
                  <a:pt x="1431" y="1172"/>
                </a:lnTo>
                <a:lnTo>
                  <a:pt x="1427" y="1150"/>
                </a:lnTo>
                <a:lnTo>
                  <a:pt x="1427" y="1140"/>
                </a:lnTo>
                <a:lnTo>
                  <a:pt x="1430" y="1134"/>
                </a:lnTo>
                <a:lnTo>
                  <a:pt x="1434" y="1131"/>
                </a:lnTo>
                <a:lnTo>
                  <a:pt x="1440" y="1129"/>
                </a:lnTo>
                <a:lnTo>
                  <a:pt x="1450" y="1121"/>
                </a:lnTo>
                <a:lnTo>
                  <a:pt x="1457" y="1114"/>
                </a:lnTo>
                <a:lnTo>
                  <a:pt x="1462" y="1105"/>
                </a:lnTo>
                <a:lnTo>
                  <a:pt x="1476" y="1088"/>
                </a:lnTo>
                <a:lnTo>
                  <a:pt x="1483" y="1084"/>
                </a:lnTo>
                <a:lnTo>
                  <a:pt x="1479" y="1085"/>
                </a:lnTo>
                <a:lnTo>
                  <a:pt x="1473" y="1085"/>
                </a:lnTo>
                <a:lnTo>
                  <a:pt x="1462" y="1085"/>
                </a:lnTo>
                <a:lnTo>
                  <a:pt x="1452" y="1084"/>
                </a:lnTo>
                <a:lnTo>
                  <a:pt x="1450" y="1082"/>
                </a:lnTo>
                <a:lnTo>
                  <a:pt x="1440" y="1078"/>
                </a:lnTo>
                <a:lnTo>
                  <a:pt x="1423" y="1066"/>
                </a:lnTo>
                <a:lnTo>
                  <a:pt x="1386" y="1043"/>
                </a:lnTo>
                <a:lnTo>
                  <a:pt x="1352" y="1023"/>
                </a:lnTo>
                <a:lnTo>
                  <a:pt x="1343" y="1018"/>
                </a:lnTo>
                <a:lnTo>
                  <a:pt x="1336" y="1017"/>
                </a:lnTo>
                <a:lnTo>
                  <a:pt x="1327" y="1015"/>
                </a:lnTo>
                <a:lnTo>
                  <a:pt x="1311" y="1017"/>
                </a:lnTo>
                <a:lnTo>
                  <a:pt x="1295" y="1023"/>
                </a:lnTo>
                <a:lnTo>
                  <a:pt x="1279" y="1031"/>
                </a:lnTo>
                <a:lnTo>
                  <a:pt x="1268" y="1043"/>
                </a:lnTo>
                <a:lnTo>
                  <a:pt x="1259" y="1058"/>
                </a:lnTo>
                <a:lnTo>
                  <a:pt x="1259" y="1058"/>
                </a:lnTo>
                <a:lnTo>
                  <a:pt x="1253" y="1050"/>
                </a:lnTo>
                <a:lnTo>
                  <a:pt x="1250" y="1040"/>
                </a:lnTo>
                <a:lnTo>
                  <a:pt x="1249" y="1030"/>
                </a:lnTo>
                <a:lnTo>
                  <a:pt x="1249" y="1011"/>
                </a:lnTo>
                <a:lnTo>
                  <a:pt x="1247" y="992"/>
                </a:lnTo>
                <a:lnTo>
                  <a:pt x="1246" y="985"/>
                </a:lnTo>
                <a:lnTo>
                  <a:pt x="1243" y="979"/>
                </a:lnTo>
                <a:lnTo>
                  <a:pt x="1236" y="973"/>
                </a:lnTo>
                <a:lnTo>
                  <a:pt x="1227" y="972"/>
                </a:lnTo>
                <a:lnTo>
                  <a:pt x="1215" y="971"/>
                </a:lnTo>
                <a:lnTo>
                  <a:pt x="1215" y="971"/>
                </a:lnTo>
                <a:lnTo>
                  <a:pt x="1218" y="962"/>
                </a:lnTo>
                <a:lnTo>
                  <a:pt x="1221" y="942"/>
                </a:lnTo>
                <a:lnTo>
                  <a:pt x="1221" y="921"/>
                </a:lnTo>
                <a:lnTo>
                  <a:pt x="1215" y="881"/>
                </a:lnTo>
                <a:lnTo>
                  <a:pt x="1215" y="849"/>
                </a:lnTo>
                <a:lnTo>
                  <a:pt x="1205" y="855"/>
                </a:lnTo>
                <a:lnTo>
                  <a:pt x="1188" y="860"/>
                </a:lnTo>
                <a:lnTo>
                  <a:pt x="1169" y="862"/>
                </a:lnTo>
                <a:lnTo>
                  <a:pt x="1152" y="859"/>
                </a:lnTo>
                <a:lnTo>
                  <a:pt x="1136" y="853"/>
                </a:lnTo>
                <a:lnTo>
                  <a:pt x="1120" y="845"/>
                </a:lnTo>
                <a:lnTo>
                  <a:pt x="1114" y="839"/>
                </a:lnTo>
                <a:lnTo>
                  <a:pt x="1107" y="833"/>
                </a:lnTo>
                <a:lnTo>
                  <a:pt x="1102" y="827"/>
                </a:lnTo>
                <a:lnTo>
                  <a:pt x="1102" y="821"/>
                </a:lnTo>
                <a:lnTo>
                  <a:pt x="1102" y="817"/>
                </a:lnTo>
                <a:lnTo>
                  <a:pt x="1105" y="811"/>
                </a:lnTo>
                <a:lnTo>
                  <a:pt x="1108" y="807"/>
                </a:lnTo>
                <a:lnTo>
                  <a:pt x="1118" y="797"/>
                </a:lnTo>
                <a:lnTo>
                  <a:pt x="1129" y="787"/>
                </a:lnTo>
                <a:lnTo>
                  <a:pt x="1136" y="772"/>
                </a:lnTo>
                <a:lnTo>
                  <a:pt x="1137" y="772"/>
                </a:lnTo>
                <a:lnTo>
                  <a:pt x="1133" y="772"/>
                </a:lnTo>
                <a:lnTo>
                  <a:pt x="1126" y="772"/>
                </a:lnTo>
                <a:lnTo>
                  <a:pt x="1111" y="772"/>
                </a:lnTo>
                <a:lnTo>
                  <a:pt x="1097" y="772"/>
                </a:lnTo>
                <a:lnTo>
                  <a:pt x="1094" y="772"/>
                </a:lnTo>
                <a:lnTo>
                  <a:pt x="1098" y="769"/>
                </a:lnTo>
                <a:lnTo>
                  <a:pt x="1107" y="760"/>
                </a:lnTo>
                <a:lnTo>
                  <a:pt x="1121" y="745"/>
                </a:lnTo>
                <a:lnTo>
                  <a:pt x="1133" y="726"/>
                </a:lnTo>
                <a:lnTo>
                  <a:pt x="1137" y="720"/>
                </a:lnTo>
                <a:lnTo>
                  <a:pt x="1130" y="717"/>
                </a:lnTo>
                <a:lnTo>
                  <a:pt x="1117" y="710"/>
                </a:lnTo>
                <a:lnTo>
                  <a:pt x="1095" y="697"/>
                </a:lnTo>
                <a:lnTo>
                  <a:pt x="1085" y="688"/>
                </a:lnTo>
                <a:lnTo>
                  <a:pt x="1079" y="676"/>
                </a:lnTo>
                <a:lnTo>
                  <a:pt x="1078" y="668"/>
                </a:lnTo>
                <a:lnTo>
                  <a:pt x="1071" y="671"/>
                </a:lnTo>
                <a:lnTo>
                  <a:pt x="1063" y="674"/>
                </a:lnTo>
                <a:lnTo>
                  <a:pt x="1060" y="674"/>
                </a:lnTo>
                <a:lnTo>
                  <a:pt x="1059" y="674"/>
                </a:lnTo>
                <a:lnTo>
                  <a:pt x="1058" y="674"/>
                </a:lnTo>
                <a:lnTo>
                  <a:pt x="1050" y="676"/>
                </a:lnTo>
                <a:lnTo>
                  <a:pt x="1046" y="679"/>
                </a:lnTo>
                <a:lnTo>
                  <a:pt x="1049" y="679"/>
                </a:lnTo>
                <a:lnTo>
                  <a:pt x="1052" y="679"/>
                </a:lnTo>
                <a:lnTo>
                  <a:pt x="1055" y="679"/>
                </a:lnTo>
                <a:lnTo>
                  <a:pt x="1055" y="681"/>
                </a:lnTo>
                <a:lnTo>
                  <a:pt x="1052" y="682"/>
                </a:lnTo>
                <a:lnTo>
                  <a:pt x="1049" y="682"/>
                </a:lnTo>
                <a:lnTo>
                  <a:pt x="1047" y="681"/>
                </a:lnTo>
                <a:lnTo>
                  <a:pt x="1044" y="678"/>
                </a:lnTo>
                <a:lnTo>
                  <a:pt x="1042" y="675"/>
                </a:lnTo>
                <a:lnTo>
                  <a:pt x="1040" y="669"/>
                </a:lnTo>
                <a:lnTo>
                  <a:pt x="1040" y="669"/>
                </a:lnTo>
                <a:lnTo>
                  <a:pt x="1034" y="660"/>
                </a:lnTo>
                <a:lnTo>
                  <a:pt x="1024" y="646"/>
                </a:lnTo>
                <a:lnTo>
                  <a:pt x="1010" y="637"/>
                </a:lnTo>
                <a:lnTo>
                  <a:pt x="992" y="633"/>
                </a:lnTo>
                <a:lnTo>
                  <a:pt x="975" y="630"/>
                </a:lnTo>
                <a:lnTo>
                  <a:pt x="956" y="631"/>
                </a:lnTo>
                <a:lnTo>
                  <a:pt x="947" y="633"/>
                </a:lnTo>
                <a:lnTo>
                  <a:pt x="946" y="624"/>
                </a:lnTo>
                <a:lnTo>
                  <a:pt x="943" y="617"/>
                </a:lnTo>
                <a:lnTo>
                  <a:pt x="939" y="603"/>
                </a:lnTo>
                <a:lnTo>
                  <a:pt x="936" y="591"/>
                </a:lnTo>
                <a:lnTo>
                  <a:pt x="931" y="581"/>
                </a:lnTo>
                <a:lnTo>
                  <a:pt x="921" y="563"/>
                </a:lnTo>
                <a:lnTo>
                  <a:pt x="910" y="547"/>
                </a:lnTo>
                <a:lnTo>
                  <a:pt x="894" y="534"/>
                </a:lnTo>
                <a:lnTo>
                  <a:pt x="862" y="508"/>
                </a:lnTo>
                <a:lnTo>
                  <a:pt x="855" y="501"/>
                </a:lnTo>
                <a:lnTo>
                  <a:pt x="847" y="494"/>
                </a:lnTo>
                <a:lnTo>
                  <a:pt x="832" y="478"/>
                </a:lnTo>
                <a:lnTo>
                  <a:pt x="797" y="447"/>
                </a:lnTo>
                <a:lnTo>
                  <a:pt x="779" y="442"/>
                </a:lnTo>
                <a:lnTo>
                  <a:pt x="769" y="443"/>
                </a:lnTo>
                <a:lnTo>
                  <a:pt x="761" y="447"/>
                </a:lnTo>
                <a:lnTo>
                  <a:pt x="753" y="455"/>
                </a:lnTo>
                <a:lnTo>
                  <a:pt x="753" y="455"/>
                </a:lnTo>
                <a:lnTo>
                  <a:pt x="752" y="458"/>
                </a:lnTo>
                <a:lnTo>
                  <a:pt x="752" y="461"/>
                </a:lnTo>
                <a:lnTo>
                  <a:pt x="753" y="463"/>
                </a:lnTo>
                <a:lnTo>
                  <a:pt x="755" y="466"/>
                </a:lnTo>
                <a:lnTo>
                  <a:pt x="759" y="475"/>
                </a:lnTo>
                <a:lnTo>
                  <a:pt x="771" y="494"/>
                </a:lnTo>
                <a:lnTo>
                  <a:pt x="775" y="504"/>
                </a:lnTo>
                <a:lnTo>
                  <a:pt x="756" y="497"/>
                </a:lnTo>
                <a:lnTo>
                  <a:pt x="723" y="478"/>
                </a:lnTo>
                <a:lnTo>
                  <a:pt x="695" y="453"/>
                </a:lnTo>
                <a:lnTo>
                  <a:pt x="648" y="394"/>
                </a:lnTo>
                <a:lnTo>
                  <a:pt x="613" y="347"/>
                </a:lnTo>
                <a:lnTo>
                  <a:pt x="610" y="343"/>
                </a:lnTo>
                <a:lnTo>
                  <a:pt x="608" y="340"/>
                </a:lnTo>
                <a:lnTo>
                  <a:pt x="608" y="334"/>
                </a:lnTo>
                <a:lnTo>
                  <a:pt x="610" y="329"/>
                </a:lnTo>
                <a:lnTo>
                  <a:pt x="608" y="317"/>
                </a:lnTo>
                <a:lnTo>
                  <a:pt x="608" y="314"/>
                </a:lnTo>
                <a:lnTo>
                  <a:pt x="597" y="301"/>
                </a:lnTo>
                <a:lnTo>
                  <a:pt x="571" y="281"/>
                </a:lnTo>
                <a:lnTo>
                  <a:pt x="542" y="266"/>
                </a:lnTo>
                <a:lnTo>
                  <a:pt x="484" y="239"/>
                </a:lnTo>
                <a:lnTo>
                  <a:pt x="453" y="205"/>
                </a:lnTo>
                <a:lnTo>
                  <a:pt x="449" y="198"/>
                </a:lnTo>
                <a:lnTo>
                  <a:pt x="443" y="182"/>
                </a:lnTo>
                <a:lnTo>
                  <a:pt x="432" y="146"/>
                </a:lnTo>
                <a:lnTo>
                  <a:pt x="411" y="113"/>
                </a:lnTo>
                <a:lnTo>
                  <a:pt x="404" y="104"/>
                </a:lnTo>
                <a:lnTo>
                  <a:pt x="403" y="101"/>
                </a:lnTo>
                <a:lnTo>
                  <a:pt x="401" y="95"/>
                </a:lnTo>
                <a:lnTo>
                  <a:pt x="403" y="91"/>
                </a:lnTo>
                <a:lnTo>
                  <a:pt x="401" y="82"/>
                </a:lnTo>
                <a:lnTo>
                  <a:pt x="401" y="81"/>
                </a:lnTo>
                <a:lnTo>
                  <a:pt x="391" y="72"/>
                </a:lnTo>
                <a:lnTo>
                  <a:pt x="369" y="61"/>
                </a:lnTo>
                <a:lnTo>
                  <a:pt x="346" y="55"/>
                </a:lnTo>
                <a:lnTo>
                  <a:pt x="322" y="53"/>
                </a:lnTo>
                <a:lnTo>
                  <a:pt x="274" y="55"/>
                </a:lnTo>
                <a:lnTo>
                  <a:pt x="264" y="53"/>
                </a:lnTo>
                <a:lnTo>
                  <a:pt x="255" y="53"/>
                </a:lnTo>
                <a:lnTo>
                  <a:pt x="239" y="55"/>
                </a:lnTo>
                <a:lnTo>
                  <a:pt x="204" y="61"/>
                </a:lnTo>
                <a:lnTo>
                  <a:pt x="187" y="61"/>
                </a:lnTo>
                <a:lnTo>
                  <a:pt x="169" y="56"/>
                </a:lnTo>
                <a:lnTo>
                  <a:pt x="162" y="52"/>
                </a:lnTo>
                <a:lnTo>
                  <a:pt x="149" y="45"/>
                </a:lnTo>
                <a:lnTo>
                  <a:pt x="123" y="29"/>
                </a:lnTo>
                <a:lnTo>
                  <a:pt x="72" y="4"/>
                </a:lnTo>
                <a:lnTo>
                  <a:pt x="46" y="0"/>
                </a:lnTo>
                <a:lnTo>
                  <a:pt x="20" y="7"/>
                </a:lnTo>
                <a:lnTo>
                  <a:pt x="9" y="14"/>
                </a:lnTo>
                <a:lnTo>
                  <a:pt x="9" y="14"/>
                </a:lnTo>
                <a:close/>
              </a:path>
            </a:pathLst>
          </a:custGeom>
          <a:noFill/>
          <a:ln w="4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14720" y="3968640"/>
            <a:ext cx="22320" cy="63720"/>
          </a:xfrm>
          <a:custGeom>
            <a:avLst/>
            <a:gdLst/>
            <a:ahLst/>
            <a:rect l="l" t="t" r="r" b="b"/>
            <a:pathLst>
              <a:path w="80" h="233">
                <a:moveTo>
                  <a:pt x="20" y="124"/>
                </a:moveTo>
                <a:lnTo>
                  <a:pt x="26" y="114"/>
                </a:lnTo>
                <a:lnTo>
                  <a:pt x="35" y="93"/>
                </a:lnTo>
                <a:lnTo>
                  <a:pt x="40" y="69"/>
                </a:lnTo>
                <a:lnTo>
                  <a:pt x="52" y="26"/>
                </a:lnTo>
                <a:lnTo>
                  <a:pt x="77" y="0"/>
                </a:lnTo>
                <a:lnTo>
                  <a:pt x="80" y="22"/>
                </a:lnTo>
                <a:lnTo>
                  <a:pt x="77" y="62"/>
                </a:lnTo>
                <a:lnTo>
                  <a:pt x="66" y="100"/>
                </a:lnTo>
                <a:lnTo>
                  <a:pt x="49" y="137"/>
                </a:lnTo>
                <a:lnTo>
                  <a:pt x="19" y="213"/>
                </a:lnTo>
                <a:lnTo>
                  <a:pt x="16" y="233"/>
                </a:lnTo>
                <a:lnTo>
                  <a:pt x="14" y="233"/>
                </a:lnTo>
                <a:lnTo>
                  <a:pt x="11" y="232"/>
                </a:lnTo>
                <a:lnTo>
                  <a:pt x="6" y="229"/>
                </a:lnTo>
                <a:lnTo>
                  <a:pt x="0" y="226"/>
                </a:lnTo>
                <a:lnTo>
                  <a:pt x="0" y="224"/>
                </a:lnTo>
                <a:lnTo>
                  <a:pt x="3" y="217"/>
                </a:lnTo>
                <a:lnTo>
                  <a:pt x="6" y="200"/>
                </a:lnTo>
                <a:lnTo>
                  <a:pt x="7" y="182"/>
                </a:lnTo>
                <a:lnTo>
                  <a:pt x="10" y="148"/>
                </a:lnTo>
                <a:lnTo>
                  <a:pt x="20" y="124"/>
                </a:lnTo>
                <a:lnTo>
                  <a:pt x="20" y="124"/>
                </a:lnTo>
                <a:close/>
              </a:path>
            </a:pathLst>
          </a:custGeom>
          <a:noFill/>
          <a:ln w="4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48200" y="1930320"/>
            <a:ext cx="497160" cy="549360"/>
          </a:xfrm>
          <a:custGeom>
            <a:avLst/>
            <a:gdLst/>
            <a:ahLst/>
            <a:rect l="l" t="t" r="r" b="b"/>
            <a:pathLst>
              <a:path w="1440" h="1679">
                <a:moveTo>
                  <a:pt x="1168" y="1570"/>
                </a:moveTo>
                <a:lnTo>
                  <a:pt x="1156" y="1553"/>
                </a:lnTo>
                <a:lnTo>
                  <a:pt x="1150" y="1533"/>
                </a:lnTo>
                <a:lnTo>
                  <a:pt x="1147" y="1509"/>
                </a:lnTo>
                <a:lnTo>
                  <a:pt x="1147" y="1457"/>
                </a:lnTo>
                <a:lnTo>
                  <a:pt x="1152" y="1350"/>
                </a:lnTo>
                <a:lnTo>
                  <a:pt x="1139" y="1281"/>
                </a:lnTo>
                <a:lnTo>
                  <a:pt x="1136" y="1278"/>
                </a:lnTo>
                <a:lnTo>
                  <a:pt x="1129" y="1267"/>
                </a:lnTo>
                <a:lnTo>
                  <a:pt x="1111" y="1247"/>
                </a:lnTo>
                <a:lnTo>
                  <a:pt x="1095" y="1227"/>
                </a:lnTo>
                <a:lnTo>
                  <a:pt x="1094" y="1221"/>
                </a:lnTo>
                <a:lnTo>
                  <a:pt x="1076" y="1220"/>
                </a:lnTo>
                <a:lnTo>
                  <a:pt x="1062" y="1215"/>
                </a:lnTo>
                <a:lnTo>
                  <a:pt x="1050" y="1207"/>
                </a:lnTo>
                <a:lnTo>
                  <a:pt x="1042" y="1196"/>
                </a:lnTo>
                <a:lnTo>
                  <a:pt x="1033" y="1183"/>
                </a:lnTo>
                <a:lnTo>
                  <a:pt x="1023" y="1153"/>
                </a:lnTo>
                <a:lnTo>
                  <a:pt x="1014" y="1121"/>
                </a:lnTo>
                <a:lnTo>
                  <a:pt x="1007" y="1089"/>
                </a:lnTo>
                <a:lnTo>
                  <a:pt x="1003" y="1075"/>
                </a:lnTo>
                <a:lnTo>
                  <a:pt x="995" y="1059"/>
                </a:lnTo>
                <a:lnTo>
                  <a:pt x="987" y="1043"/>
                </a:lnTo>
                <a:lnTo>
                  <a:pt x="962" y="1008"/>
                </a:lnTo>
                <a:lnTo>
                  <a:pt x="904" y="939"/>
                </a:lnTo>
                <a:lnTo>
                  <a:pt x="865" y="865"/>
                </a:lnTo>
                <a:lnTo>
                  <a:pt x="862" y="856"/>
                </a:lnTo>
                <a:lnTo>
                  <a:pt x="855" y="839"/>
                </a:lnTo>
                <a:lnTo>
                  <a:pt x="837" y="802"/>
                </a:lnTo>
                <a:lnTo>
                  <a:pt x="817" y="766"/>
                </a:lnTo>
                <a:lnTo>
                  <a:pt x="813" y="756"/>
                </a:lnTo>
                <a:lnTo>
                  <a:pt x="801" y="765"/>
                </a:lnTo>
                <a:lnTo>
                  <a:pt x="782" y="782"/>
                </a:lnTo>
                <a:lnTo>
                  <a:pt x="749" y="821"/>
                </a:lnTo>
                <a:lnTo>
                  <a:pt x="713" y="855"/>
                </a:lnTo>
                <a:lnTo>
                  <a:pt x="703" y="859"/>
                </a:lnTo>
                <a:lnTo>
                  <a:pt x="697" y="859"/>
                </a:lnTo>
                <a:lnTo>
                  <a:pt x="681" y="857"/>
                </a:lnTo>
                <a:lnTo>
                  <a:pt x="642" y="847"/>
                </a:lnTo>
                <a:lnTo>
                  <a:pt x="611" y="834"/>
                </a:lnTo>
                <a:lnTo>
                  <a:pt x="608" y="831"/>
                </a:lnTo>
                <a:lnTo>
                  <a:pt x="623" y="826"/>
                </a:lnTo>
                <a:lnTo>
                  <a:pt x="653" y="811"/>
                </a:lnTo>
                <a:lnTo>
                  <a:pt x="707" y="782"/>
                </a:lnTo>
                <a:lnTo>
                  <a:pt x="726" y="769"/>
                </a:lnTo>
                <a:lnTo>
                  <a:pt x="739" y="757"/>
                </a:lnTo>
                <a:lnTo>
                  <a:pt x="742" y="750"/>
                </a:lnTo>
                <a:lnTo>
                  <a:pt x="726" y="746"/>
                </a:lnTo>
                <a:lnTo>
                  <a:pt x="710" y="744"/>
                </a:lnTo>
                <a:lnTo>
                  <a:pt x="691" y="746"/>
                </a:lnTo>
                <a:lnTo>
                  <a:pt x="652" y="756"/>
                </a:lnTo>
                <a:lnTo>
                  <a:pt x="611" y="772"/>
                </a:lnTo>
                <a:lnTo>
                  <a:pt x="540" y="810"/>
                </a:lnTo>
                <a:lnTo>
                  <a:pt x="529" y="817"/>
                </a:lnTo>
                <a:lnTo>
                  <a:pt x="521" y="817"/>
                </a:lnTo>
                <a:lnTo>
                  <a:pt x="506" y="814"/>
                </a:lnTo>
                <a:lnTo>
                  <a:pt x="472" y="804"/>
                </a:lnTo>
                <a:lnTo>
                  <a:pt x="442" y="792"/>
                </a:lnTo>
                <a:lnTo>
                  <a:pt x="437" y="789"/>
                </a:lnTo>
                <a:lnTo>
                  <a:pt x="422" y="801"/>
                </a:lnTo>
                <a:lnTo>
                  <a:pt x="403" y="808"/>
                </a:lnTo>
                <a:lnTo>
                  <a:pt x="378" y="814"/>
                </a:lnTo>
                <a:lnTo>
                  <a:pt x="323" y="820"/>
                </a:lnTo>
                <a:lnTo>
                  <a:pt x="262" y="815"/>
                </a:lnTo>
                <a:lnTo>
                  <a:pt x="209" y="804"/>
                </a:lnTo>
                <a:lnTo>
                  <a:pt x="168" y="784"/>
                </a:lnTo>
                <a:lnTo>
                  <a:pt x="156" y="770"/>
                </a:lnTo>
                <a:lnTo>
                  <a:pt x="146" y="770"/>
                </a:lnTo>
                <a:lnTo>
                  <a:pt x="135" y="768"/>
                </a:lnTo>
                <a:lnTo>
                  <a:pt x="107" y="759"/>
                </a:lnTo>
                <a:lnTo>
                  <a:pt x="48" y="731"/>
                </a:lnTo>
                <a:lnTo>
                  <a:pt x="0" y="707"/>
                </a:lnTo>
                <a:lnTo>
                  <a:pt x="26" y="699"/>
                </a:lnTo>
                <a:lnTo>
                  <a:pt x="54" y="698"/>
                </a:lnTo>
                <a:lnTo>
                  <a:pt x="84" y="701"/>
                </a:lnTo>
                <a:lnTo>
                  <a:pt x="148" y="717"/>
                </a:lnTo>
                <a:lnTo>
                  <a:pt x="281" y="755"/>
                </a:lnTo>
                <a:lnTo>
                  <a:pt x="377" y="747"/>
                </a:lnTo>
                <a:lnTo>
                  <a:pt x="378" y="747"/>
                </a:lnTo>
                <a:lnTo>
                  <a:pt x="382" y="746"/>
                </a:lnTo>
                <a:lnTo>
                  <a:pt x="393" y="740"/>
                </a:lnTo>
                <a:lnTo>
                  <a:pt x="416" y="727"/>
                </a:lnTo>
                <a:lnTo>
                  <a:pt x="435" y="718"/>
                </a:lnTo>
                <a:lnTo>
                  <a:pt x="433" y="710"/>
                </a:lnTo>
                <a:lnTo>
                  <a:pt x="430" y="699"/>
                </a:lnTo>
                <a:lnTo>
                  <a:pt x="422" y="679"/>
                </a:lnTo>
                <a:lnTo>
                  <a:pt x="408" y="659"/>
                </a:lnTo>
                <a:lnTo>
                  <a:pt x="378" y="621"/>
                </a:lnTo>
                <a:lnTo>
                  <a:pt x="365" y="605"/>
                </a:lnTo>
                <a:lnTo>
                  <a:pt x="364" y="605"/>
                </a:lnTo>
                <a:lnTo>
                  <a:pt x="361" y="605"/>
                </a:lnTo>
                <a:lnTo>
                  <a:pt x="348" y="605"/>
                </a:lnTo>
                <a:lnTo>
                  <a:pt x="339" y="605"/>
                </a:lnTo>
                <a:lnTo>
                  <a:pt x="339" y="605"/>
                </a:lnTo>
                <a:lnTo>
                  <a:pt x="339" y="597"/>
                </a:lnTo>
                <a:lnTo>
                  <a:pt x="342" y="586"/>
                </a:lnTo>
                <a:lnTo>
                  <a:pt x="353" y="566"/>
                </a:lnTo>
                <a:lnTo>
                  <a:pt x="368" y="544"/>
                </a:lnTo>
                <a:lnTo>
                  <a:pt x="403" y="508"/>
                </a:lnTo>
                <a:lnTo>
                  <a:pt x="420" y="495"/>
                </a:lnTo>
                <a:lnTo>
                  <a:pt x="411" y="489"/>
                </a:lnTo>
                <a:lnTo>
                  <a:pt x="395" y="478"/>
                </a:lnTo>
                <a:lnTo>
                  <a:pt x="380" y="465"/>
                </a:lnTo>
                <a:lnTo>
                  <a:pt x="366" y="450"/>
                </a:lnTo>
                <a:lnTo>
                  <a:pt x="362" y="430"/>
                </a:lnTo>
                <a:lnTo>
                  <a:pt x="366" y="402"/>
                </a:lnTo>
                <a:lnTo>
                  <a:pt x="374" y="385"/>
                </a:lnTo>
                <a:lnTo>
                  <a:pt x="378" y="386"/>
                </a:lnTo>
                <a:lnTo>
                  <a:pt x="387" y="388"/>
                </a:lnTo>
                <a:lnTo>
                  <a:pt x="407" y="391"/>
                </a:lnTo>
                <a:lnTo>
                  <a:pt x="416" y="391"/>
                </a:lnTo>
                <a:lnTo>
                  <a:pt x="423" y="389"/>
                </a:lnTo>
                <a:lnTo>
                  <a:pt x="426" y="386"/>
                </a:lnTo>
                <a:lnTo>
                  <a:pt x="420" y="365"/>
                </a:lnTo>
                <a:lnTo>
                  <a:pt x="422" y="346"/>
                </a:lnTo>
                <a:lnTo>
                  <a:pt x="429" y="331"/>
                </a:lnTo>
                <a:lnTo>
                  <a:pt x="439" y="320"/>
                </a:lnTo>
                <a:lnTo>
                  <a:pt x="455" y="313"/>
                </a:lnTo>
                <a:lnTo>
                  <a:pt x="472" y="305"/>
                </a:lnTo>
                <a:lnTo>
                  <a:pt x="516" y="300"/>
                </a:lnTo>
                <a:lnTo>
                  <a:pt x="561" y="297"/>
                </a:lnTo>
                <a:lnTo>
                  <a:pt x="601" y="294"/>
                </a:lnTo>
                <a:lnTo>
                  <a:pt x="603" y="294"/>
                </a:lnTo>
                <a:lnTo>
                  <a:pt x="603" y="300"/>
                </a:lnTo>
                <a:lnTo>
                  <a:pt x="601" y="317"/>
                </a:lnTo>
                <a:lnTo>
                  <a:pt x="601" y="330"/>
                </a:lnTo>
                <a:lnTo>
                  <a:pt x="603" y="330"/>
                </a:lnTo>
                <a:lnTo>
                  <a:pt x="611" y="334"/>
                </a:lnTo>
                <a:lnTo>
                  <a:pt x="642" y="347"/>
                </a:lnTo>
                <a:lnTo>
                  <a:pt x="665" y="358"/>
                </a:lnTo>
                <a:lnTo>
                  <a:pt x="666" y="358"/>
                </a:lnTo>
                <a:lnTo>
                  <a:pt x="671" y="355"/>
                </a:lnTo>
                <a:lnTo>
                  <a:pt x="678" y="347"/>
                </a:lnTo>
                <a:lnTo>
                  <a:pt x="692" y="337"/>
                </a:lnTo>
                <a:lnTo>
                  <a:pt x="695" y="330"/>
                </a:lnTo>
                <a:lnTo>
                  <a:pt x="695" y="320"/>
                </a:lnTo>
                <a:lnTo>
                  <a:pt x="694" y="313"/>
                </a:lnTo>
                <a:lnTo>
                  <a:pt x="697" y="313"/>
                </a:lnTo>
                <a:lnTo>
                  <a:pt x="700" y="313"/>
                </a:lnTo>
                <a:lnTo>
                  <a:pt x="711" y="310"/>
                </a:lnTo>
                <a:lnTo>
                  <a:pt x="739" y="302"/>
                </a:lnTo>
                <a:lnTo>
                  <a:pt x="759" y="298"/>
                </a:lnTo>
                <a:lnTo>
                  <a:pt x="752" y="292"/>
                </a:lnTo>
                <a:lnTo>
                  <a:pt x="745" y="285"/>
                </a:lnTo>
                <a:lnTo>
                  <a:pt x="723" y="269"/>
                </a:lnTo>
                <a:lnTo>
                  <a:pt x="671" y="234"/>
                </a:lnTo>
                <a:lnTo>
                  <a:pt x="629" y="192"/>
                </a:lnTo>
                <a:lnTo>
                  <a:pt x="630" y="188"/>
                </a:lnTo>
                <a:lnTo>
                  <a:pt x="637" y="178"/>
                </a:lnTo>
                <a:lnTo>
                  <a:pt x="652" y="155"/>
                </a:lnTo>
                <a:lnTo>
                  <a:pt x="669" y="133"/>
                </a:lnTo>
                <a:lnTo>
                  <a:pt x="675" y="127"/>
                </a:lnTo>
                <a:lnTo>
                  <a:pt x="675" y="120"/>
                </a:lnTo>
                <a:lnTo>
                  <a:pt x="674" y="94"/>
                </a:lnTo>
                <a:lnTo>
                  <a:pt x="674" y="75"/>
                </a:lnTo>
                <a:lnTo>
                  <a:pt x="675" y="74"/>
                </a:lnTo>
                <a:lnTo>
                  <a:pt x="684" y="76"/>
                </a:lnTo>
                <a:lnTo>
                  <a:pt x="708" y="84"/>
                </a:lnTo>
                <a:lnTo>
                  <a:pt x="763" y="102"/>
                </a:lnTo>
                <a:lnTo>
                  <a:pt x="805" y="123"/>
                </a:lnTo>
                <a:lnTo>
                  <a:pt x="811" y="127"/>
                </a:lnTo>
                <a:lnTo>
                  <a:pt x="810" y="133"/>
                </a:lnTo>
                <a:lnTo>
                  <a:pt x="808" y="142"/>
                </a:lnTo>
                <a:lnTo>
                  <a:pt x="804" y="159"/>
                </a:lnTo>
                <a:lnTo>
                  <a:pt x="795" y="172"/>
                </a:lnTo>
                <a:lnTo>
                  <a:pt x="794" y="173"/>
                </a:lnTo>
                <a:lnTo>
                  <a:pt x="795" y="181"/>
                </a:lnTo>
                <a:lnTo>
                  <a:pt x="803" y="195"/>
                </a:lnTo>
                <a:lnTo>
                  <a:pt x="827" y="221"/>
                </a:lnTo>
                <a:lnTo>
                  <a:pt x="842" y="229"/>
                </a:lnTo>
                <a:lnTo>
                  <a:pt x="858" y="231"/>
                </a:lnTo>
                <a:lnTo>
                  <a:pt x="868" y="229"/>
                </a:lnTo>
                <a:lnTo>
                  <a:pt x="866" y="223"/>
                </a:lnTo>
                <a:lnTo>
                  <a:pt x="865" y="207"/>
                </a:lnTo>
                <a:lnTo>
                  <a:pt x="859" y="176"/>
                </a:lnTo>
                <a:lnTo>
                  <a:pt x="850" y="145"/>
                </a:lnTo>
                <a:lnTo>
                  <a:pt x="849" y="137"/>
                </a:lnTo>
                <a:lnTo>
                  <a:pt x="855" y="126"/>
                </a:lnTo>
                <a:lnTo>
                  <a:pt x="863" y="102"/>
                </a:lnTo>
                <a:lnTo>
                  <a:pt x="876" y="53"/>
                </a:lnTo>
                <a:lnTo>
                  <a:pt x="889" y="10"/>
                </a:lnTo>
                <a:lnTo>
                  <a:pt x="894" y="0"/>
                </a:lnTo>
                <a:lnTo>
                  <a:pt x="911" y="1"/>
                </a:lnTo>
                <a:lnTo>
                  <a:pt x="949" y="5"/>
                </a:lnTo>
                <a:lnTo>
                  <a:pt x="1027" y="21"/>
                </a:lnTo>
                <a:lnTo>
                  <a:pt x="1104" y="40"/>
                </a:lnTo>
                <a:lnTo>
                  <a:pt x="1123" y="45"/>
                </a:lnTo>
                <a:lnTo>
                  <a:pt x="1127" y="46"/>
                </a:lnTo>
                <a:lnTo>
                  <a:pt x="1142" y="47"/>
                </a:lnTo>
                <a:lnTo>
                  <a:pt x="1176" y="55"/>
                </a:lnTo>
                <a:lnTo>
                  <a:pt x="1207" y="58"/>
                </a:lnTo>
                <a:lnTo>
                  <a:pt x="1213" y="55"/>
                </a:lnTo>
                <a:lnTo>
                  <a:pt x="1220" y="65"/>
                </a:lnTo>
                <a:lnTo>
                  <a:pt x="1236" y="85"/>
                </a:lnTo>
                <a:lnTo>
                  <a:pt x="1257" y="133"/>
                </a:lnTo>
                <a:lnTo>
                  <a:pt x="1266" y="181"/>
                </a:lnTo>
                <a:lnTo>
                  <a:pt x="1268" y="192"/>
                </a:lnTo>
                <a:lnTo>
                  <a:pt x="1281" y="208"/>
                </a:lnTo>
                <a:lnTo>
                  <a:pt x="1314" y="243"/>
                </a:lnTo>
                <a:lnTo>
                  <a:pt x="1381" y="324"/>
                </a:lnTo>
                <a:lnTo>
                  <a:pt x="1431" y="408"/>
                </a:lnTo>
                <a:lnTo>
                  <a:pt x="1440" y="427"/>
                </a:lnTo>
                <a:lnTo>
                  <a:pt x="1431" y="439"/>
                </a:lnTo>
                <a:lnTo>
                  <a:pt x="1373" y="520"/>
                </a:lnTo>
                <a:lnTo>
                  <a:pt x="1173" y="795"/>
                </a:lnTo>
                <a:lnTo>
                  <a:pt x="1021" y="1005"/>
                </a:lnTo>
                <a:lnTo>
                  <a:pt x="1014" y="1015"/>
                </a:lnTo>
                <a:lnTo>
                  <a:pt x="1023" y="1018"/>
                </a:lnTo>
                <a:lnTo>
                  <a:pt x="1052" y="1025"/>
                </a:lnTo>
                <a:lnTo>
                  <a:pt x="1073" y="1031"/>
                </a:lnTo>
                <a:lnTo>
                  <a:pt x="1075" y="1031"/>
                </a:lnTo>
                <a:lnTo>
                  <a:pt x="1078" y="1039"/>
                </a:lnTo>
                <a:lnTo>
                  <a:pt x="1088" y="1060"/>
                </a:lnTo>
                <a:lnTo>
                  <a:pt x="1097" y="1078"/>
                </a:lnTo>
                <a:lnTo>
                  <a:pt x="1098" y="1078"/>
                </a:lnTo>
                <a:lnTo>
                  <a:pt x="1095" y="1088"/>
                </a:lnTo>
                <a:lnTo>
                  <a:pt x="1091" y="1118"/>
                </a:lnTo>
                <a:lnTo>
                  <a:pt x="1087" y="1141"/>
                </a:lnTo>
                <a:lnTo>
                  <a:pt x="1087" y="1141"/>
                </a:lnTo>
                <a:lnTo>
                  <a:pt x="1101" y="1143"/>
                </a:lnTo>
                <a:lnTo>
                  <a:pt x="1146" y="1147"/>
                </a:lnTo>
                <a:lnTo>
                  <a:pt x="1181" y="1150"/>
                </a:lnTo>
                <a:lnTo>
                  <a:pt x="1184" y="1150"/>
                </a:lnTo>
                <a:lnTo>
                  <a:pt x="1184" y="1157"/>
                </a:lnTo>
                <a:lnTo>
                  <a:pt x="1184" y="1196"/>
                </a:lnTo>
                <a:lnTo>
                  <a:pt x="1188" y="1336"/>
                </a:lnTo>
                <a:lnTo>
                  <a:pt x="1189" y="1440"/>
                </a:lnTo>
                <a:lnTo>
                  <a:pt x="1191" y="1446"/>
                </a:lnTo>
                <a:lnTo>
                  <a:pt x="1208" y="1466"/>
                </a:lnTo>
                <a:lnTo>
                  <a:pt x="1231" y="1502"/>
                </a:lnTo>
                <a:lnTo>
                  <a:pt x="1239" y="1534"/>
                </a:lnTo>
                <a:lnTo>
                  <a:pt x="1234" y="1567"/>
                </a:lnTo>
                <a:lnTo>
                  <a:pt x="1220" y="1602"/>
                </a:lnTo>
                <a:lnTo>
                  <a:pt x="1198" y="1643"/>
                </a:lnTo>
                <a:lnTo>
                  <a:pt x="1187" y="1665"/>
                </a:lnTo>
                <a:lnTo>
                  <a:pt x="1185" y="1670"/>
                </a:lnTo>
                <a:lnTo>
                  <a:pt x="1184" y="1675"/>
                </a:lnTo>
                <a:lnTo>
                  <a:pt x="1181" y="1678"/>
                </a:lnTo>
                <a:lnTo>
                  <a:pt x="1178" y="1679"/>
                </a:lnTo>
                <a:lnTo>
                  <a:pt x="1173" y="1679"/>
                </a:lnTo>
                <a:lnTo>
                  <a:pt x="1171" y="1678"/>
                </a:lnTo>
                <a:lnTo>
                  <a:pt x="1166" y="1675"/>
                </a:lnTo>
                <a:lnTo>
                  <a:pt x="1163" y="1670"/>
                </a:lnTo>
                <a:lnTo>
                  <a:pt x="1160" y="1666"/>
                </a:lnTo>
                <a:lnTo>
                  <a:pt x="1159" y="1662"/>
                </a:lnTo>
                <a:lnTo>
                  <a:pt x="1158" y="1654"/>
                </a:lnTo>
                <a:lnTo>
                  <a:pt x="1158" y="1647"/>
                </a:lnTo>
                <a:lnTo>
                  <a:pt x="1159" y="1647"/>
                </a:lnTo>
                <a:lnTo>
                  <a:pt x="1152" y="1641"/>
                </a:lnTo>
                <a:lnTo>
                  <a:pt x="1149" y="1636"/>
                </a:lnTo>
                <a:lnTo>
                  <a:pt x="1146" y="1628"/>
                </a:lnTo>
                <a:lnTo>
                  <a:pt x="1146" y="1622"/>
                </a:lnTo>
                <a:lnTo>
                  <a:pt x="1146" y="1617"/>
                </a:lnTo>
                <a:lnTo>
                  <a:pt x="1147" y="1609"/>
                </a:lnTo>
                <a:lnTo>
                  <a:pt x="1153" y="1598"/>
                </a:lnTo>
                <a:lnTo>
                  <a:pt x="1166" y="1570"/>
                </a:lnTo>
                <a:lnTo>
                  <a:pt x="1168" y="1570"/>
                </a:lnTo>
                <a:lnTo>
                  <a:pt x="1168" y="157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54760" y="1698480"/>
            <a:ext cx="520920" cy="474840"/>
          </a:xfrm>
          <a:custGeom>
            <a:avLst/>
            <a:gdLst/>
            <a:ahLst/>
            <a:rect l="l" t="t" r="r" b="b"/>
            <a:pathLst>
              <a:path w="1514" h="1452">
                <a:moveTo>
                  <a:pt x="756" y="1070"/>
                </a:moveTo>
                <a:lnTo>
                  <a:pt x="749" y="1070"/>
                </a:lnTo>
                <a:lnTo>
                  <a:pt x="735" y="1067"/>
                </a:lnTo>
                <a:lnTo>
                  <a:pt x="719" y="1061"/>
                </a:lnTo>
                <a:lnTo>
                  <a:pt x="694" y="1043"/>
                </a:lnTo>
                <a:lnTo>
                  <a:pt x="684" y="1023"/>
                </a:lnTo>
                <a:lnTo>
                  <a:pt x="691" y="1025"/>
                </a:lnTo>
                <a:lnTo>
                  <a:pt x="709" y="1025"/>
                </a:lnTo>
                <a:lnTo>
                  <a:pt x="740" y="1025"/>
                </a:lnTo>
                <a:lnTo>
                  <a:pt x="772" y="1026"/>
                </a:lnTo>
                <a:lnTo>
                  <a:pt x="781" y="1026"/>
                </a:lnTo>
                <a:lnTo>
                  <a:pt x="780" y="1030"/>
                </a:lnTo>
                <a:lnTo>
                  <a:pt x="778" y="1039"/>
                </a:lnTo>
                <a:lnTo>
                  <a:pt x="774" y="1048"/>
                </a:lnTo>
                <a:lnTo>
                  <a:pt x="764" y="1062"/>
                </a:lnTo>
                <a:lnTo>
                  <a:pt x="756" y="1070"/>
                </a:lnTo>
                <a:lnTo>
                  <a:pt x="756" y="1070"/>
                </a:lnTo>
                <a:close/>
                <a:moveTo>
                  <a:pt x="70" y="371"/>
                </a:moveTo>
                <a:lnTo>
                  <a:pt x="62" y="349"/>
                </a:lnTo>
                <a:lnTo>
                  <a:pt x="51" y="315"/>
                </a:lnTo>
                <a:lnTo>
                  <a:pt x="35" y="265"/>
                </a:lnTo>
                <a:lnTo>
                  <a:pt x="39" y="215"/>
                </a:lnTo>
                <a:lnTo>
                  <a:pt x="45" y="196"/>
                </a:lnTo>
                <a:lnTo>
                  <a:pt x="45" y="189"/>
                </a:lnTo>
                <a:lnTo>
                  <a:pt x="45" y="173"/>
                </a:lnTo>
                <a:lnTo>
                  <a:pt x="49" y="135"/>
                </a:lnTo>
                <a:lnTo>
                  <a:pt x="52" y="102"/>
                </a:lnTo>
                <a:lnTo>
                  <a:pt x="54" y="94"/>
                </a:lnTo>
                <a:lnTo>
                  <a:pt x="65" y="93"/>
                </a:lnTo>
                <a:lnTo>
                  <a:pt x="77" y="96"/>
                </a:lnTo>
                <a:lnTo>
                  <a:pt x="84" y="103"/>
                </a:lnTo>
                <a:lnTo>
                  <a:pt x="90" y="112"/>
                </a:lnTo>
                <a:lnTo>
                  <a:pt x="94" y="123"/>
                </a:lnTo>
                <a:lnTo>
                  <a:pt x="97" y="136"/>
                </a:lnTo>
                <a:lnTo>
                  <a:pt x="100" y="162"/>
                </a:lnTo>
                <a:lnTo>
                  <a:pt x="102" y="184"/>
                </a:lnTo>
                <a:lnTo>
                  <a:pt x="103" y="193"/>
                </a:lnTo>
                <a:lnTo>
                  <a:pt x="104" y="196"/>
                </a:lnTo>
                <a:lnTo>
                  <a:pt x="106" y="196"/>
                </a:lnTo>
                <a:lnTo>
                  <a:pt x="109" y="190"/>
                </a:lnTo>
                <a:lnTo>
                  <a:pt x="112" y="181"/>
                </a:lnTo>
                <a:lnTo>
                  <a:pt x="113" y="170"/>
                </a:lnTo>
                <a:lnTo>
                  <a:pt x="116" y="142"/>
                </a:lnTo>
                <a:lnTo>
                  <a:pt x="122" y="115"/>
                </a:lnTo>
                <a:lnTo>
                  <a:pt x="133" y="91"/>
                </a:lnTo>
                <a:lnTo>
                  <a:pt x="144" y="83"/>
                </a:lnTo>
                <a:lnTo>
                  <a:pt x="155" y="78"/>
                </a:lnTo>
                <a:lnTo>
                  <a:pt x="171" y="77"/>
                </a:lnTo>
                <a:lnTo>
                  <a:pt x="172" y="77"/>
                </a:lnTo>
                <a:lnTo>
                  <a:pt x="172" y="80"/>
                </a:lnTo>
                <a:lnTo>
                  <a:pt x="174" y="94"/>
                </a:lnTo>
                <a:lnTo>
                  <a:pt x="181" y="146"/>
                </a:lnTo>
                <a:lnTo>
                  <a:pt x="187" y="186"/>
                </a:lnTo>
                <a:lnTo>
                  <a:pt x="188" y="187"/>
                </a:lnTo>
                <a:lnTo>
                  <a:pt x="190" y="177"/>
                </a:lnTo>
                <a:lnTo>
                  <a:pt x="191" y="167"/>
                </a:lnTo>
                <a:lnTo>
                  <a:pt x="194" y="141"/>
                </a:lnTo>
                <a:lnTo>
                  <a:pt x="199" y="116"/>
                </a:lnTo>
                <a:lnTo>
                  <a:pt x="203" y="107"/>
                </a:lnTo>
                <a:lnTo>
                  <a:pt x="207" y="102"/>
                </a:lnTo>
                <a:lnTo>
                  <a:pt x="212" y="100"/>
                </a:lnTo>
                <a:lnTo>
                  <a:pt x="217" y="103"/>
                </a:lnTo>
                <a:lnTo>
                  <a:pt x="219" y="103"/>
                </a:lnTo>
                <a:lnTo>
                  <a:pt x="222" y="106"/>
                </a:lnTo>
                <a:lnTo>
                  <a:pt x="225" y="110"/>
                </a:lnTo>
                <a:lnTo>
                  <a:pt x="226" y="116"/>
                </a:lnTo>
                <a:lnTo>
                  <a:pt x="230" y="129"/>
                </a:lnTo>
                <a:lnTo>
                  <a:pt x="238" y="152"/>
                </a:lnTo>
                <a:lnTo>
                  <a:pt x="243" y="155"/>
                </a:lnTo>
                <a:lnTo>
                  <a:pt x="245" y="154"/>
                </a:lnTo>
                <a:lnTo>
                  <a:pt x="246" y="151"/>
                </a:lnTo>
                <a:lnTo>
                  <a:pt x="246" y="145"/>
                </a:lnTo>
                <a:lnTo>
                  <a:pt x="246" y="132"/>
                </a:lnTo>
                <a:lnTo>
                  <a:pt x="246" y="106"/>
                </a:lnTo>
                <a:lnTo>
                  <a:pt x="251" y="99"/>
                </a:lnTo>
                <a:lnTo>
                  <a:pt x="257" y="99"/>
                </a:lnTo>
                <a:lnTo>
                  <a:pt x="265" y="100"/>
                </a:lnTo>
                <a:lnTo>
                  <a:pt x="272" y="103"/>
                </a:lnTo>
                <a:lnTo>
                  <a:pt x="278" y="107"/>
                </a:lnTo>
                <a:lnTo>
                  <a:pt x="281" y="110"/>
                </a:lnTo>
                <a:lnTo>
                  <a:pt x="286" y="112"/>
                </a:lnTo>
                <a:lnTo>
                  <a:pt x="288" y="112"/>
                </a:lnTo>
                <a:lnTo>
                  <a:pt x="286" y="107"/>
                </a:lnTo>
                <a:lnTo>
                  <a:pt x="278" y="94"/>
                </a:lnTo>
                <a:lnTo>
                  <a:pt x="259" y="67"/>
                </a:lnTo>
                <a:lnTo>
                  <a:pt x="228" y="44"/>
                </a:lnTo>
                <a:lnTo>
                  <a:pt x="219" y="41"/>
                </a:lnTo>
                <a:lnTo>
                  <a:pt x="219" y="39"/>
                </a:lnTo>
                <a:lnTo>
                  <a:pt x="222" y="35"/>
                </a:lnTo>
                <a:lnTo>
                  <a:pt x="225" y="32"/>
                </a:lnTo>
                <a:lnTo>
                  <a:pt x="235" y="25"/>
                </a:lnTo>
                <a:lnTo>
                  <a:pt x="257" y="9"/>
                </a:lnTo>
                <a:lnTo>
                  <a:pt x="264" y="0"/>
                </a:lnTo>
                <a:lnTo>
                  <a:pt x="287" y="19"/>
                </a:lnTo>
                <a:lnTo>
                  <a:pt x="335" y="57"/>
                </a:lnTo>
                <a:lnTo>
                  <a:pt x="436" y="120"/>
                </a:lnTo>
                <a:lnTo>
                  <a:pt x="548" y="161"/>
                </a:lnTo>
                <a:lnTo>
                  <a:pt x="580" y="165"/>
                </a:lnTo>
                <a:lnTo>
                  <a:pt x="593" y="155"/>
                </a:lnTo>
                <a:lnTo>
                  <a:pt x="610" y="144"/>
                </a:lnTo>
                <a:lnTo>
                  <a:pt x="616" y="142"/>
                </a:lnTo>
                <a:lnTo>
                  <a:pt x="617" y="142"/>
                </a:lnTo>
                <a:lnTo>
                  <a:pt x="620" y="144"/>
                </a:lnTo>
                <a:lnTo>
                  <a:pt x="622" y="145"/>
                </a:lnTo>
                <a:lnTo>
                  <a:pt x="623" y="146"/>
                </a:lnTo>
                <a:lnTo>
                  <a:pt x="625" y="151"/>
                </a:lnTo>
                <a:lnTo>
                  <a:pt x="626" y="158"/>
                </a:lnTo>
                <a:lnTo>
                  <a:pt x="632" y="178"/>
                </a:lnTo>
                <a:lnTo>
                  <a:pt x="643" y="207"/>
                </a:lnTo>
                <a:lnTo>
                  <a:pt x="648" y="215"/>
                </a:lnTo>
                <a:lnTo>
                  <a:pt x="661" y="215"/>
                </a:lnTo>
                <a:lnTo>
                  <a:pt x="684" y="207"/>
                </a:lnTo>
                <a:lnTo>
                  <a:pt x="704" y="200"/>
                </a:lnTo>
                <a:lnTo>
                  <a:pt x="722" y="196"/>
                </a:lnTo>
                <a:lnTo>
                  <a:pt x="730" y="196"/>
                </a:lnTo>
                <a:lnTo>
                  <a:pt x="739" y="200"/>
                </a:lnTo>
                <a:lnTo>
                  <a:pt x="746" y="206"/>
                </a:lnTo>
                <a:lnTo>
                  <a:pt x="755" y="217"/>
                </a:lnTo>
                <a:lnTo>
                  <a:pt x="764" y="232"/>
                </a:lnTo>
                <a:lnTo>
                  <a:pt x="765" y="232"/>
                </a:lnTo>
                <a:lnTo>
                  <a:pt x="795" y="232"/>
                </a:lnTo>
                <a:lnTo>
                  <a:pt x="845" y="233"/>
                </a:lnTo>
                <a:lnTo>
                  <a:pt x="877" y="244"/>
                </a:lnTo>
                <a:lnTo>
                  <a:pt x="885" y="252"/>
                </a:lnTo>
                <a:lnTo>
                  <a:pt x="891" y="262"/>
                </a:lnTo>
                <a:lnTo>
                  <a:pt x="891" y="274"/>
                </a:lnTo>
                <a:lnTo>
                  <a:pt x="887" y="287"/>
                </a:lnTo>
                <a:lnTo>
                  <a:pt x="878" y="304"/>
                </a:lnTo>
                <a:lnTo>
                  <a:pt x="865" y="322"/>
                </a:lnTo>
                <a:lnTo>
                  <a:pt x="848" y="342"/>
                </a:lnTo>
                <a:lnTo>
                  <a:pt x="848" y="342"/>
                </a:lnTo>
                <a:lnTo>
                  <a:pt x="855" y="352"/>
                </a:lnTo>
                <a:lnTo>
                  <a:pt x="877" y="380"/>
                </a:lnTo>
                <a:lnTo>
                  <a:pt x="894" y="402"/>
                </a:lnTo>
                <a:lnTo>
                  <a:pt x="895" y="402"/>
                </a:lnTo>
                <a:lnTo>
                  <a:pt x="903" y="402"/>
                </a:lnTo>
                <a:lnTo>
                  <a:pt x="924" y="397"/>
                </a:lnTo>
                <a:lnTo>
                  <a:pt x="975" y="380"/>
                </a:lnTo>
                <a:lnTo>
                  <a:pt x="995" y="368"/>
                </a:lnTo>
                <a:lnTo>
                  <a:pt x="1003" y="362"/>
                </a:lnTo>
                <a:lnTo>
                  <a:pt x="1006" y="355"/>
                </a:lnTo>
                <a:lnTo>
                  <a:pt x="1007" y="352"/>
                </a:lnTo>
                <a:lnTo>
                  <a:pt x="1007" y="348"/>
                </a:lnTo>
                <a:lnTo>
                  <a:pt x="1007" y="348"/>
                </a:lnTo>
                <a:lnTo>
                  <a:pt x="1017" y="351"/>
                </a:lnTo>
                <a:lnTo>
                  <a:pt x="1042" y="352"/>
                </a:lnTo>
                <a:lnTo>
                  <a:pt x="1090" y="355"/>
                </a:lnTo>
                <a:lnTo>
                  <a:pt x="1108" y="361"/>
                </a:lnTo>
                <a:lnTo>
                  <a:pt x="1114" y="365"/>
                </a:lnTo>
                <a:lnTo>
                  <a:pt x="1119" y="373"/>
                </a:lnTo>
                <a:lnTo>
                  <a:pt x="1120" y="380"/>
                </a:lnTo>
                <a:lnTo>
                  <a:pt x="1121" y="380"/>
                </a:lnTo>
                <a:lnTo>
                  <a:pt x="1120" y="381"/>
                </a:lnTo>
                <a:lnTo>
                  <a:pt x="1117" y="383"/>
                </a:lnTo>
                <a:lnTo>
                  <a:pt x="1108" y="393"/>
                </a:lnTo>
                <a:lnTo>
                  <a:pt x="1103" y="406"/>
                </a:lnTo>
                <a:lnTo>
                  <a:pt x="1103" y="407"/>
                </a:lnTo>
                <a:lnTo>
                  <a:pt x="1094" y="409"/>
                </a:lnTo>
                <a:lnTo>
                  <a:pt x="1077" y="412"/>
                </a:lnTo>
                <a:lnTo>
                  <a:pt x="1033" y="426"/>
                </a:lnTo>
                <a:lnTo>
                  <a:pt x="997" y="445"/>
                </a:lnTo>
                <a:lnTo>
                  <a:pt x="993" y="449"/>
                </a:lnTo>
                <a:lnTo>
                  <a:pt x="1000" y="452"/>
                </a:lnTo>
                <a:lnTo>
                  <a:pt x="1019" y="457"/>
                </a:lnTo>
                <a:lnTo>
                  <a:pt x="1066" y="461"/>
                </a:lnTo>
                <a:lnTo>
                  <a:pt x="1106" y="465"/>
                </a:lnTo>
                <a:lnTo>
                  <a:pt x="1111" y="467"/>
                </a:lnTo>
                <a:lnTo>
                  <a:pt x="1116" y="462"/>
                </a:lnTo>
                <a:lnTo>
                  <a:pt x="1124" y="452"/>
                </a:lnTo>
                <a:lnTo>
                  <a:pt x="1145" y="430"/>
                </a:lnTo>
                <a:lnTo>
                  <a:pt x="1156" y="422"/>
                </a:lnTo>
                <a:lnTo>
                  <a:pt x="1169" y="417"/>
                </a:lnTo>
                <a:lnTo>
                  <a:pt x="1177" y="416"/>
                </a:lnTo>
                <a:lnTo>
                  <a:pt x="1178" y="430"/>
                </a:lnTo>
                <a:lnTo>
                  <a:pt x="1187" y="461"/>
                </a:lnTo>
                <a:lnTo>
                  <a:pt x="1208" y="525"/>
                </a:lnTo>
                <a:lnTo>
                  <a:pt x="1227" y="587"/>
                </a:lnTo>
                <a:lnTo>
                  <a:pt x="1232" y="600"/>
                </a:lnTo>
                <a:lnTo>
                  <a:pt x="1226" y="617"/>
                </a:lnTo>
                <a:lnTo>
                  <a:pt x="1217" y="652"/>
                </a:lnTo>
                <a:lnTo>
                  <a:pt x="1217" y="720"/>
                </a:lnTo>
                <a:lnTo>
                  <a:pt x="1230" y="748"/>
                </a:lnTo>
                <a:lnTo>
                  <a:pt x="1252" y="768"/>
                </a:lnTo>
                <a:lnTo>
                  <a:pt x="1268" y="774"/>
                </a:lnTo>
                <a:lnTo>
                  <a:pt x="1268" y="787"/>
                </a:lnTo>
                <a:lnTo>
                  <a:pt x="1268" y="820"/>
                </a:lnTo>
                <a:lnTo>
                  <a:pt x="1266" y="897"/>
                </a:lnTo>
                <a:lnTo>
                  <a:pt x="1263" y="933"/>
                </a:lnTo>
                <a:lnTo>
                  <a:pt x="1255" y="959"/>
                </a:lnTo>
                <a:lnTo>
                  <a:pt x="1249" y="968"/>
                </a:lnTo>
                <a:lnTo>
                  <a:pt x="1250" y="984"/>
                </a:lnTo>
                <a:lnTo>
                  <a:pt x="1256" y="999"/>
                </a:lnTo>
                <a:lnTo>
                  <a:pt x="1263" y="1012"/>
                </a:lnTo>
                <a:lnTo>
                  <a:pt x="1287" y="1038"/>
                </a:lnTo>
                <a:lnTo>
                  <a:pt x="1313" y="1061"/>
                </a:lnTo>
                <a:lnTo>
                  <a:pt x="1337" y="1085"/>
                </a:lnTo>
                <a:lnTo>
                  <a:pt x="1355" y="1112"/>
                </a:lnTo>
                <a:lnTo>
                  <a:pt x="1359" y="1125"/>
                </a:lnTo>
                <a:lnTo>
                  <a:pt x="1365" y="1152"/>
                </a:lnTo>
                <a:lnTo>
                  <a:pt x="1390" y="1201"/>
                </a:lnTo>
                <a:lnTo>
                  <a:pt x="1423" y="1243"/>
                </a:lnTo>
                <a:lnTo>
                  <a:pt x="1488" y="1319"/>
                </a:lnTo>
                <a:lnTo>
                  <a:pt x="1514" y="1372"/>
                </a:lnTo>
                <a:lnTo>
                  <a:pt x="1513" y="1378"/>
                </a:lnTo>
                <a:lnTo>
                  <a:pt x="1511" y="1387"/>
                </a:lnTo>
                <a:lnTo>
                  <a:pt x="1505" y="1403"/>
                </a:lnTo>
                <a:lnTo>
                  <a:pt x="1497" y="1417"/>
                </a:lnTo>
                <a:lnTo>
                  <a:pt x="1495" y="1419"/>
                </a:lnTo>
                <a:lnTo>
                  <a:pt x="1469" y="1417"/>
                </a:lnTo>
                <a:lnTo>
                  <a:pt x="1449" y="1411"/>
                </a:lnTo>
                <a:lnTo>
                  <a:pt x="1433" y="1404"/>
                </a:lnTo>
                <a:lnTo>
                  <a:pt x="1411" y="1390"/>
                </a:lnTo>
                <a:lnTo>
                  <a:pt x="1403" y="1384"/>
                </a:lnTo>
                <a:lnTo>
                  <a:pt x="1397" y="1381"/>
                </a:lnTo>
                <a:lnTo>
                  <a:pt x="1394" y="1381"/>
                </a:lnTo>
                <a:lnTo>
                  <a:pt x="1391" y="1381"/>
                </a:lnTo>
                <a:lnTo>
                  <a:pt x="1388" y="1384"/>
                </a:lnTo>
                <a:lnTo>
                  <a:pt x="1385" y="1388"/>
                </a:lnTo>
                <a:lnTo>
                  <a:pt x="1381" y="1394"/>
                </a:lnTo>
                <a:lnTo>
                  <a:pt x="1374" y="1411"/>
                </a:lnTo>
                <a:lnTo>
                  <a:pt x="1363" y="1436"/>
                </a:lnTo>
                <a:lnTo>
                  <a:pt x="1359" y="1452"/>
                </a:lnTo>
                <a:lnTo>
                  <a:pt x="1329" y="1440"/>
                </a:lnTo>
                <a:lnTo>
                  <a:pt x="1277" y="1419"/>
                </a:lnTo>
                <a:lnTo>
                  <a:pt x="1181" y="1384"/>
                </a:lnTo>
                <a:lnTo>
                  <a:pt x="1085" y="1346"/>
                </a:lnTo>
                <a:lnTo>
                  <a:pt x="1059" y="1333"/>
                </a:lnTo>
                <a:lnTo>
                  <a:pt x="1046" y="1317"/>
                </a:lnTo>
                <a:lnTo>
                  <a:pt x="1030" y="1304"/>
                </a:lnTo>
                <a:lnTo>
                  <a:pt x="1011" y="1294"/>
                </a:lnTo>
                <a:lnTo>
                  <a:pt x="971" y="1278"/>
                </a:lnTo>
                <a:lnTo>
                  <a:pt x="890" y="1245"/>
                </a:lnTo>
                <a:lnTo>
                  <a:pt x="848" y="1194"/>
                </a:lnTo>
                <a:lnTo>
                  <a:pt x="845" y="1190"/>
                </a:lnTo>
                <a:lnTo>
                  <a:pt x="838" y="1177"/>
                </a:lnTo>
                <a:lnTo>
                  <a:pt x="819" y="1142"/>
                </a:lnTo>
                <a:lnTo>
                  <a:pt x="798" y="1112"/>
                </a:lnTo>
                <a:lnTo>
                  <a:pt x="794" y="1106"/>
                </a:lnTo>
                <a:lnTo>
                  <a:pt x="795" y="1101"/>
                </a:lnTo>
                <a:lnTo>
                  <a:pt x="801" y="1093"/>
                </a:lnTo>
                <a:lnTo>
                  <a:pt x="814" y="1074"/>
                </a:lnTo>
                <a:lnTo>
                  <a:pt x="826" y="1056"/>
                </a:lnTo>
                <a:lnTo>
                  <a:pt x="829" y="1051"/>
                </a:lnTo>
                <a:lnTo>
                  <a:pt x="822" y="1045"/>
                </a:lnTo>
                <a:lnTo>
                  <a:pt x="810" y="1030"/>
                </a:lnTo>
                <a:lnTo>
                  <a:pt x="784" y="1006"/>
                </a:lnTo>
                <a:lnTo>
                  <a:pt x="768" y="1000"/>
                </a:lnTo>
                <a:lnTo>
                  <a:pt x="751" y="1000"/>
                </a:lnTo>
                <a:lnTo>
                  <a:pt x="740" y="1003"/>
                </a:lnTo>
                <a:lnTo>
                  <a:pt x="719" y="1004"/>
                </a:lnTo>
                <a:lnTo>
                  <a:pt x="687" y="1007"/>
                </a:lnTo>
                <a:lnTo>
                  <a:pt x="668" y="1010"/>
                </a:lnTo>
                <a:lnTo>
                  <a:pt x="662" y="1010"/>
                </a:lnTo>
                <a:lnTo>
                  <a:pt x="659" y="1010"/>
                </a:lnTo>
                <a:lnTo>
                  <a:pt x="658" y="1009"/>
                </a:lnTo>
                <a:lnTo>
                  <a:pt x="656" y="1007"/>
                </a:lnTo>
                <a:lnTo>
                  <a:pt x="656" y="1006"/>
                </a:lnTo>
                <a:lnTo>
                  <a:pt x="656" y="1004"/>
                </a:lnTo>
                <a:lnTo>
                  <a:pt x="655" y="997"/>
                </a:lnTo>
                <a:lnTo>
                  <a:pt x="655" y="977"/>
                </a:lnTo>
                <a:lnTo>
                  <a:pt x="656" y="977"/>
                </a:lnTo>
                <a:lnTo>
                  <a:pt x="658" y="975"/>
                </a:lnTo>
                <a:lnTo>
                  <a:pt x="661" y="974"/>
                </a:lnTo>
                <a:lnTo>
                  <a:pt x="668" y="972"/>
                </a:lnTo>
                <a:lnTo>
                  <a:pt x="685" y="968"/>
                </a:lnTo>
                <a:lnTo>
                  <a:pt x="722" y="959"/>
                </a:lnTo>
                <a:lnTo>
                  <a:pt x="735" y="949"/>
                </a:lnTo>
                <a:lnTo>
                  <a:pt x="711" y="941"/>
                </a:lnTo>
                <a:lnTo>
                  <a:pt x="678" y="928"/>
                </a:lnTo>
                <a:lnTo>
                  <a:pt x="658" y="922"/>
                </a:lnTo>
                <a:lnTo>
                  <a:pt x="651" y="920"/>
                </a:lnTo>
                <a:lnTo>
                  <a:pt x="645" y="923"/>
                </a:lnTo>
                <a:lnTo>
                  <a:pt x="639" y="926"/>
                </a:lnTo>
                <a:lnTo>
                  <a:pt x="633" y="933"/>
                </a:lnTo>
                <a:lnTo>
                  <a:pt x="627" y="942"/>
                </a:lnTo>
                <a:lnTo>
                  <a:pt x="611" y="965"/>
                </a:lnTo>
                <a:lnTo>
                  <a:pt x="611" y="965"/>
                </a:lnTo>
                <a:lnTo>
                  <a:pt x="600" y="964"/>
                </a:lnTo>
                <a:lnTo>
                  <a:pt x="585" y="956"/>
                </a:lnTo>
                <a:lnTo>
                  <a:pt x="578" y="945"/>
                </a:lnTo>
                <a:lnTo>
                  <a:pt x="574" y="930"/>
                </a:lnTo>
                <a:lnTo>
                  <a:pt x="568" y="913"/>
                </a:lnTo>
                <a:lnTo>
                  <a:pt x="559" y="894"/>
                </a:lnTo>
                <a:lnTo>
                  <a:pt x="554" y="884"/>
                </a:lnTo>
                <a:lnTo>
                  <a:pt x="539" y="871"/>
                </a:lnTo>
                <a:lnTo>
                  <a:pt x="520" y="858"/>
                </a:lnTo>
                <a:lnTo>
                  <a:pt x="468" y="833"/>
                </a:lnTo>
                <a:lnTo>
                  <a:pt x="342" y="791"/>
                </a:lnTo>
                <a:lnTo>
                  <a:pt x="246" y="765"/>
                </a:lnTo>
                <a:lnTo>
                  <a:pt x="235" y="778"/>
                </a:lnTo>
                <a:lnTo>
                  <a:pt x="204" y="803"/>
                </a:lnTo>
                <a:lnTo>
                  <a:pt x="165" y="822"/>
                </a:lnTo>
                <a:lnTo>
                  <a:pt x="126" y="829"/>
                </a:lnTo>
                <a:lnTo>
                  <a:pt x="109" y="828"/>
                </a:lnTo>
                <a:lnTo>
                  <a:pt x="94" y="819"/>
                </a:lnTo>
                <a:lnTo>
                  <a:pt x="83" y="806"/>
                </a:lnTo>
                <a:lnTo>
                  <a:pt x="74" y="786"/>
                </a:lnTo>
                <a:lnTo>
                  <a:pt x="73" y="757"/>
                </a:lnTo>
                <a:lnTo>
                  <a:pt x="73" y="757"/>
                </a:lnTo>
                <a:lnTo>
                  <a:pt x="96" y="749"/>
                </a:lnTo>
                <a:lnTo>
                  <a:pt x="112" y="743"/>
                </a:lnTo>
                <a:lnTo>
                  <a:pt x="116" y="741"/>
                </a:lnTo>
                <a:lnTo>
                  <a:pt x="119" y="738"/>
                </a:lnTo>
                <a:lnTo>
                  <a:pt x="120" y="736"/>
                </a:lnTo>
                <a:lnTo>
                  <a:pt x="120" y="735"/>
                </a:lnTo>
                <a:lnTo>
                  <a:pt x="120" y="733"/>
                </a:lnTo>
                <a:lnTo>
                  <a:pt x="119" y="732"/>
                </a:lnTo>
                <a:lnTo>
                  <a:pt x="117" y="730"/>
                </a:lnTo>
                <a:lnTo>
                  <a:pt x="113" y="729"/>
                </a:lnTo>
                <a:lnTo>
                  <a:pt x="109" y="728"/>
                </a:lnTo>
                <a:lnTo>
                  <a:pt x="96" y="725"/>
                </a:lnTo>
                <a:lnTo>
                  <a:pt x="64" y="720"/>
                </a:lnTo>
                <a:lnTo>
                  <a:pt x="28" y="716"/>
                </a:lnTo>
                <a:lnTo>
                  <a:pt x="9" y="712"/>
                </a:lnTo>
                <a:lnTo>
                  <a:pt x="15" y="688"/>
                </a:lnTo>
                <a:lnTo>
                  <a:pt x="32" y="651"/>
                </a:lnTo>
                <a:lnTo>
                  <a:pt x="51" y="625"/>
                </a:lnTo>
                <a:lnTo>
                  <a:pt x="64" y="604"/>
                </a:lnTo>
                <a:lnTo>
                  <a:pt x="65" y="596"/>
                </a:lnTo>
                <a:lnTo>
                  <a:pt x="65" y="591"/>
                </a:lnTo>
                <a:lnTo>
                  <a:pt x="64" y="587"/>
                </a:lnTo>
                <a:lnTo>
                  <a:pt x="61" y="583"/>
                </a:lnTo>
                <a:lnTo>
                  <a:pt x="55" y="578"/>
                </a:lnTo>
                <a:lnTo>
                  <a:pt x="42" y="568"/>
                </a:lnTo>
                <a:lnTo>
                  <a:pt x="22" y="557"/>
                </a:lnTo>
                <a:lnTo>
                  <a:pt x="22" y="557"/>
                </a:lnTo>
                <a:lnTo>
                  <a:pt x="17" y="545"/>
                </a:lnTo>
                <a:lnTo>
                  <a:pt x="12" y="513"/>
                </a:lnTo>
                <a:lnTo>
                  <a:pt x="3" y="438"/>
                </a:lnTo>
                <a:lnTo>
                  <a:pt x="0" y="373"/>
                </a:lnTo>
                <a:lnTo>
                  <a:pt x="0" y="361"/>
                </a:lnTo>
                <a:lnTo>
                  <a:pt x="4" y="362"/>
                </a:lnTo>
                <a:lnTo>
                  <a:pt x="16" y="364"/>
                </a:lnTo>
                <a:lnTo>
                  <a:pt x="41" y="371"/>
                </a:lnTo>
                <a:lnTo>
                  <a:pt x="54" y="374"/>
                </a:lnTo>
                <a:lnTo>
                  <a:pt x="64" y="374"/>
                </a:lnTo>
                <a:lnTo>
                  <a:pt x="70" y="371"/>
                </a:lnTo>
                <a:lnTo>
                  <a:pt x="70" y="371"/>
                </a:lnTo>
                <a:close/>
                <a:moveTo>
                  <a:pt x="948" y="351"/>
                </a:moveTo>
                <a:lnTo>
                  <a:pt x="951" y="345"/>
                </a:lnTo>
                <a:lnTo>
                  <a:pt x="953" y="341"/>
                </a:lnTo>
                <a:lnTo>
                  <a:pt x="961" y="333"/>
                </a:lnTo>
                <a:lnTo>
                  <a:pt x="965" y="331"/>
                </a:lnTo>
                <a:lnTo>
                  <a:pt x="969" y="329"/>
                </a:lnTo>
                <a:lnTo>
                  <a:pt x="975" y="331"/>
                </a:lnTo>
                <a:lnTo>
                  <a:pt x="981" y="333"/>
                </a:lnTo>
                <a:lnTo>
                  <a:pt x="987" y="341"/>
                </a:lnTo>
                <a:lnTo>
                  <a:pt x="991" y="349"/>
                </a:lnTo>
                <a:lnTo>
                  <a:pt x="993" y="349"/>
                </a:lnTo>
                <a:lnTo>
                  <a:pt x="990" y="351"/>
                </a:lnTo>
                <a:lnTo>
                  <a:pt x="982" y="351"/>
                </a:lnTo>
                <a:lnTo>
                  <a:pt x="968" y="352"/>
                </a:lnTo>
                <a:lnTo>
                  <a:pt x="951" y="352"/>
                </a:lnTo>
                <a:lnTo>
                  <a:pt x="948" y="351"/>
                </a:lnTo>
                <a:lnTo>
                  <a:pt x="948" y="351"/>
                </a:lnTo>
                <a:close/>
                <a:moveTo>
                  <a:pt x="894" y="332"/>
                </a:moveTo>
                <a:lnTo>
                  <a:pt x="894" y="325"/>
                </a:lnTo>
                <a:lnTo>
                  <a:pt x="897" y="319"/>
                </a:lnTo>
                <a:lnTo>
                  <a:pt x="901" y="313"/>
                </a:lnTo>
                <a:lnTo>
                  <a:pt x="906" y="307"/>
                </a:lnTo>
                <a:lnTo>
                  <a:pt x="911" y="304"/>
                </a:lnTo>
                <a:lnTo>
                  <a:pt x="917" y="302"/>
                </a:lnTo>
                <a:lnTo>
                  <a:pt x="923" y="300"/>
                </a:lnTo>
                <a:lnTo>
                  <a:pt x="929" y="300"/>
                </a:lnTo>
                <a:lnTo>
                  <a:pt x="933" y="303"/>
                </a:lnTo>
                <a:lnTo>
                  <a:pt x="937" y="306"/>
                </a:lnTo>
                <a:lnTo>
                  <a:pt x="939" y="312"/>
                </a:lnTo>
                <a:lnTo>
                  <a:pt x="940" y="319"/>
                </a:lnTo>
                <a:lnTo>
                  <a:pt x="940" y="319"/>
                </a:lnTo>
                <a:lnTo>
                  <a:pt x="935" y="322"/>
                </a:lnTo>
                <a:lnTo>
                  <a:pt x="927" y="326"/>
                </a:lnTo>
                <a:lnTo>
                  <a:pt x="913" y="333"/>
                </a:lnTo>
                <a:lnTo>
                  <a:pt x="906" y="335"/>
                </a:lnTo>
                <a:lnTo>
                  <a:pt x="898" y="335"/>
                </a:lnTo>
                <a:lnTo>
                  <a:pt x="894" y="332"/>
                </a:lnTo>
                <a:lnTo>
                  <a:pt x="894" y="332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089840" y="2031840"/>
            <a:ext cx="33120" cy="17640"/>
          </a:xfrm>
          <a:custGeom>
            <a:avLst/>
            <a:gdLst/>
            <a:ahLst/>
            <a:rect l="l" t="t" r="r" b="b"/>
            <a:pathLst>
              <a:path w="97" h="47">
                <a:moveTo>
                  <a:pt x="72" y="47"/>
                </a:moveTo>
                <a:lnTo>
                  <a:pt x="65" y="47"/>
                </a:lnTo>
                <a:lnTo>
                  <a:pt x="51" y="44"/>
                </a:lnTo>
                <a:lnTo>
                  <a:pt x="35" y="38"/>
                </a:lnTo>
                <a:lnTo>
                  <a:pt x="10" y="20"/>
                </a:lnTo>
                <a:lnTo>
                  <a:pt x="0" y="0"/>
                </a:lnTo>
                <a:lnTo>
                  <a:pt x="7" y="2"/>
                </a:lnTo>
                <a:lnTo>
                  <a:pt x="25" y="2"/>
                </a:lnTo>
                <a:lnTo>
                  <a:pt x="56" y="2"/>
                </a:lnTo>
                <a:lnTo>
                  <a:pt x="88" y="3"/>
                </a:lnTo>
                <a:lnTo>
                  <a:pt x="97" y="3"/>
                </a:lnTo>
                <a:lnTo>
                  <a:pt x="96" y="7"/>
                </a:lnTo>
                <a:lnTo>
                  <a:pt x="94" y="16"/>
                </a:lnTo>
                <a:lnTo>
                  <a:pt x="90" y="25"/>
                </a:lnTo>
                <a:lnTo>
                  <a:pt x="80" y="39"/>
                </a:lnTo>
                <a:lnTo>
                  <a:pt x="72" y="47"/>
                </a:lnTo>
                <a:lnTo>
                  <a:pt x="72" y="47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4760" y="1698480"/>
            <a:ext cx="520920" cy="474840"/>
          </a:xfrm>
          <a:custGeom>
            <a:avLst/>
            <a:gdLst/>
            <a:ahLst/>
            <a:rect l="l" t="t" r="r" b="b"/>
            <a:pathLst>
              <a:path w="1514" h="1452">
                <a:moveTo>
                  <a:pt x="70" y="371"/>
                </a:moveTo>
                <a:lnTo>
                  <a:pt x="62" y="349"/>
                </a:lnTo>
                <a:lnTo>
                  <a:pt x="51" y="315"/>
                </a:lnTo>
                <a:lnTo>
                  <a:pt x="35" y="265"/>
                </a:lnTo>
                <a:lnTo>
                  <a:pt x="39" y="215"/>
                </a:lnTo>
                <a:lnTo>
                  <a:pt x="45" y="196"/>
                </a:lnTo>
                <a:lnTo>
                  <a:pt x="45" y="189"/>
                </a:lnTo>
                <a:lnTo>
                  <a:pt x="45" y="173"/>
                </a:lnTo>
                <a:lnTo>
                  <a:pt x="49" y="135"/>
                </a:lnTo>
                <a:lnTo>
                  <a:pt x="52" y="102"/>
                </a:lnTo>
                <a:lnTo>
                  <a:pt x="54" y="94"/>
                </a:lnTo>
                <a:lnTo>
                  <a:pt x="65" y="93"/>
                </a:lnTo>
                <a:lnTo>
                  <a:pt x="77" y="96"/>
                </a:lnTo>
                <a:lnTo>
                  <a:pt x="84" y="103"/>
                </a:lnTo>
                <a:lnTo>
                  <a:pt x="90" y="112"/>
                </a:lnTo>
                <a:lnTo>
                  <a:pt x="94" y="123"/>
                </a:lnTo>
                <a:lnTo>
                  <a:pt x="97" y="136"/>
                </a:lnTo>
                <a:lnTo>
                  <a:pt x="100" y="162"/>
                </a:lnTo>
                <a:lnTo>
                  <a:pt x="102" y="184"/>
                </a:lnTo>
                <a:lnTo>
                  <a:pt x="103" y="193"/>
                </a:lnTo>
                <a:lnTo>
                  <a:pt x="104" y="196"/>
                </a:lnTo>
                <a:lnTo>
                  <a:pt x="106" y="196"/>
                </a:lnTo>
                <a:lnTo>
                  <a:pt x="109" y="190"/>
                </a:lnTo>
                <a:lnTo>
                  <a:pt x="112" y="181"/>
                </a:lnTo>
                <a:lnTo>
                  <a:pt x="113" y="170"/>
                </a:lnTo>
                <a:lnTo>
                  <a:pt x="116" y="142"/>
                </a:lnTo>
                <a:lnTo>
                  <a:pt x="122" y="115"/>
                </a:lnTo>
                <a:lnTo>
                  <a:pt x="133" y="91"/>
                </a:lnTo>
                <a:lnTo>
                  <a:pt x="144" y="83"/>
                </a:lnTo>
                <a:lnTo>
                  <a:pt x="155" y="78"/>
                </a:lnTo>
                <a:lnTo>
                  <a:pt x="171" y="77"/>
                </a:lnTo>
                <a:lnTo>
                  <a:pt x="172" y="77"/>
                </a:lnTo>
                <a:lnTo>
                  <a:pt x="172" y="80"/>
                </a:lnTo>
                <a:lnTo>
                  <a:pt x="174" y="94"/>
                </a:lnTo>
                <a:lnTo>
                  <a:pt x="181" y="146"/>
                </a:lnTo>
                <a:lnTo>
                  <a:pt x="187" y="186"/>
                </a:lnTo>
                <a:lnTo>
                  <a:pt x="188" y="187"/>
                </a:lnTo>
                <a:lnTo>
                  <a:pt x="190" y="177"/>
                </a:lnTo>
                <a:lnTo>
                  <a:pt x="191" y="167"/>
                </a:lnTo>
                <a:lnTo>
                  <a:pt x="194" y="141"/>
                </a:lnTo>
                <a:lnTo>
                  <a:pt x="199" y="116"/>
                </a:lnTo>
                <a:lnTo>
                  <a:pt x="203" y="107"/>
                </a:lnTo>
                <a:lnTo>
                  <a:pt x="207" y="102"/>
                </a:lnTo>
                <a:lnTo>
                  <a:pt x="212" y="100"/>
                </a:lnTo>
                <a:lnTo>
                  <a:pt x="217" y="103"/>
                </a:lnTo>
                <a:lnTo>
                  <a:pt x="219" y="103"/>
                </a:lnTo>
                <a:lnTo>
                  <a:pt x="222" y="106"/>
                </a:lnTo>
                <a:lnTo>
                  <a:pt x="225" y="110"/>
                </a:lnTo>
                <a:lnTo>
                  <a:pt x="226" y="116"/>
                </a:lnTo>
                <a:lnTo>
                  <a:pt x="230" y="129"/>
                </a:lnTo>
                <a:lnTo>
                  <a:pt x="238" y="152"/>
                </a:lnTo>
                <a:lnTo>
                  <a:pt x="243" y="155"/>
                </a:lnTo>
                <a:lnTo>
                  <a:pt x="245" y="154"/>
                </a:lnTo>
                <a:lnTo>
                  <a:pt x="246" y="151"/>
                </a:lnTo>
                <a:lnTo>
                  <a:pt x="246" y="145"/>
                </a:lnTo>
                <a:lnTo>
                  <a:pt x="246" y="132"/>
                </a:lnTo>
                <a:lnTo>
                  <a:pt x="246" y="106"/>
                </a:lnTo>
                <a:lnTo>
                  <a:pt x="251" y="99"/>
                </a:lnTo>
                <a:lnTo>
                  <a:pt x="257" y="99"/>
                </a:lnTo>
                <a:lnTo>
                  <a:pt x="265" y="100"/>
                </a:lnTo>
                <a:lnTo>
                  <a:pt x="272" y="103"/>
                </a:lnTo>
                <a:lnTo>
                  <a:pt x="278" y="107"/>
                </a:lnTo>
                <a:lnTo>
                  <a:pt x="281" y="110"/>
                </a:lnTo>
                <a:lnTo>
                  <a:pt x="286" y="112"/>
                </a:lnTo>
                <a:lnTo>
                  <a:pt x="288" y="112"/>
                </a:lnTo>
                <a:lnTo>
                  <a:pt x="286" y="107"/>
                </a:lnTo>
                <a:lnTo>
                  <a:pt x="278" y="94"/>
                </a:lnTo>
                <a:lnTo>
                  <a:pt x="259" y="67"/>
                </a:lnTo>
                <a:lnTo>
                  <a:pt x="228" y="44"/>
                </a:lnTo>
                <a:lnTo>
                  <a:pt x="219" y="41"/>
                </a:lnTo>
                <a:lnTo>
                  <a:pt x="219" y="39"/>
                </a:lnTo>
                <a:lnTo>
                  <a:pt x="222" y="35"/>
                </a:lnTo>
                <a:lnTo>
                  <a:pt x="225" y="32"/>
                </a:lnTo>
                <a:lnTo>
                  <a:pt x="235" y="25"/>
                </a:lnTo>
                <a:lnTo>
                  <a:pt x="257" y="9"/>
                </a:lnTo>
                <a:lnTo>
                  <a:pt x="264" y="0"/>
                </a:lnTo>
                <a:lnTo>
                  <a:pt x="287" y="19"/>
                </a:lnTo>
                <a:lnTo>
                  <a:pt x="335" y="57"/>
                </a:lnTo>
                <a:lnTo>
                  <a:pt x="436" y="120"/>
                </a:lnTo>
                <a:lnTo>
                  <a:pt x="548" y="161"/>
                </a:lnTo>
                <a:lnTo>
                  <a:pt x="580" y="165"/>
                </a:lnTo>
                <a:lnTo>
                  <a:pt x="593" y="155"/>
                </a:lnTo>
                <a:lnTo>
                  <a:pt x="610" y="144"/>
                </a:lnTo>
                <a:lnTo>
                  <a:pt x="616" y="142"/>
                </a:lnTo>
                <a:lnTo>
                  <a:pt x="617" y="142"/>
                </a:lnTo>
                <a:lnTo>
                  <a:pt x="620" y="144"/>
                </a:lnTo>
                <a:lnTo>
                  <a:pt x="622" y="145"/>
                </a:lnTo>
                <a:lnTo>
                  <a:pt x="623" y="146"/>
                </a:lnTo>
                <a:lnTo>
                  <a:pt x="625" y="151"/>
                </a:lnTo>
                <a:lnTo>
                  <a:pt x="626" y="158"/>
                </a:lnTo>
                <a:lnTo>
                  <a:pt x="632" y="178"/>
                </a:lnTo>
                <a:lnTo>
                  <a:pt x="643" y="207"/>
                </a:lnTo>
                <a:lnTo>
                  <a:pt x="648" y="215"/>
                </a:lnTo>
                <a:lnTo>
                  <a:pt x="661" y="215"/>
                </a:lnTo>
                <a:lnTo>
                  <a:pt x="684" y="207"/>
                </a:lnTo>
                <a:lnTo>
                  <a:pt x="704" y="200"/>
                </a:lnTo>
                <a:lnTo>
                  <a:pt x="722" y="196"/>
                </a:lnTo>
                <a:lnTo>
                  <a:pt x="730" y="196"/>
                </a:lnTo>
                <a:lnTo>
                  <a:pt x="739" y="200"/>
                </a:lnTo>
                <a:lnTo>
                  <a:pt x="746" y="206"/>
                </a:lnTo>
                <a:lnTo>
                  <a:pt x="755" y="217"/>
                </a:lnTo>
                <a:lnTo>
                  <a:pt x="764" y="232"/>
                </a:lnTo>
                <a:lnTo>
                  <a:pt x="765" y="232"/>
                </a:lnTo>
                <a:lnTo>
                  <a:pt x="795" y="232"/>
                </a:lnTo>
                <a:lnTo>
                  <a:pt x="845" y="233"/>
                </a:lnTo>
                <a:lnTo>
                  <a:pt x="877" y="244"/>
                </a:lnTo>
                <a:lnTo>
                  <a:pt x="885" y="252"/>
                </a:lnTo>
                <a:lnTo>
                  <a:pt x="891" y="262"/>
                </a:lnTo>
                <a:lnTo>
                  <a:pt x="891" y="274"/>
                </a:lnTo>
                <a:lnTo>
                  <a:pt x="887" y="287"/>
                </a:lnTo>
                <a:lnTo>
                  <a:pt x="878" y="304"/>
                </a:lnTo>
                <a:lnTo>
                  <a:pt x="865" y="322"/>
                </a:lnTo>
                <a:lnTo>
                  <a:pt x="848" y="342"/>
                </a:lnTo>
                <a:lnTo>
                  <a:pt x="848" y="342"/>
                </a:lnTo>
                <a:lnTo>
                  <a:pt x="855" y="352"/>
                </a:lnTo>
                <a:lnTo>
                  <a:pt x="877" y="380"/>
                </a:lnTo>
                <a:lnTo>
                  <a:pt x="894" y="402"/>
                </a:lnTo>
                <a:lnTo>
                  <a:pt x="895" y="402"/>
                </a:lnTo>
                <a:lnTo>
                  <a:pt x="903" y="402"/>
                </a:lnTo>
                <a:lnTo>
                  <a:pt x="924" y="397"/>
                </a:lnTo>
                <a:lnTo>
                  <a:pt x="975" y="380"/>
                </a:lnTo>
                <a:lnTo>
                  <a:pt x="995" y="368"/>
                </a:lnTo>
                <a:lnTo>
                  <a:pt x="1003" y="362"/>
                </a:lnTo>
                <a:lnTo>
                  <a:pt x="1006" y="355"/>
                </a:lnTo>
                <a:lnTo>
                  <a:pt x="1007" y="352"/>
                </a:lnTo>
                <a:lnTo>
                  <a:pt x="1007" y="348"/>
                </a:lnTo>
                <a:lnTo>
                  <a:pt x="1007" y="348"/>
                </a:lnTo>
                <a:lnTo>
                  <a:pt x="1017" y="351"/>
                </a:lnTo>
                <a:lnTo>
                  <a:pt x="1042" y="352"/>
                </a:lnTo>
                <a:lnTo>
                  <a:pt x="1090" y="355"/>
                </a:lnTo>
                <a:lnTo>
                  <a:pt x="1108" y="361"/>
                </a:lnTo>
                <a:lnTo>
                  <a:pt x="1114" y="365"/>
                </a:lnTo>
                <a:lnTo>
                  <a:pt x="1119" y="373"/>
                </a:lnTo>
                <a:lnTo>
                  <a:pt x="1120" y="380"/>
                </a:lnTo>
                <a:lnTo>
                  <a:pt x="1121" y="380"/>
                </a:lnTo>
                <a:lnTo>
                  <a:pt x="1120" y="381"/>
                </a:lnTo>
                <a:lnTo>
                  <a:pt x="1117" y="383"/>
                </a:lnTo>
                <a:lnTo>
                  <a:pt x="1108" y="393"/>
                </a:lnTo>
                <a:lnTo>
                  <a:pt x="1103" y="406"/>
                </a:lnTo>
                <a:lnTo>
                  <a:pt x="1103" y="407"/>
                </a:lnTo>
                <a:lnTo>
                  <a:pt x="1094" y="409"/>
                </a:lnTo>
                <a:lnTo>
                  <a:pt x="1077" y="412"/>
                </a:lnTo>
                <a:lnTo>
                  <a:pt x="1033" y="426"/>
                </a:lnTo>
                <a:lnTo>
                  <a:pt x="997" y="445"/>
                </a:lnTo>
                <a:lnTo>
                  <a:pt x="993" y="449"/>
                </a:lnTo>
                <a:lnTo>
                  <a:pt x="1000" y="452"/>
                </a:lnTo>
                <a:lnTo>
                  <a:pt x="1019" y="457"/>
                </a:lnTo>
                <a:lnTo>
                  <a:pt x="1066" y="461"/>
                </a:lnTo>
                <a:lnTo>
                  <a:pt x="1106" y="465"/>
                </a:lnTo>
                <a:lnTo>
                  <a:pt x="1111" y="467"/>
                </a:lnTo>
                <a:lnTo>
                  <a:pt x="1116" y="462"/>
                </a:lnTo>
                <a:lnTo>
                  <a:pt x="1124" y="452"/>
                </a:lnTo>
                <a:lnTo>
                  <a:pt x="1145" y="430"/>
                </a:lnTo>
                <a:lnTo>
                  <a:pt x="1156" y="422"/>
                </a:lnTo>
                <a:lnTo>
                  <a:pt x="1169" y="417"/>
                </a:lnTo>
                <a:lnTo>
                  <a:pt x="1177" y="416"/>
                </a:lnTo>
                <a:lnTo>
                  <a:pt x="1178" y="430"/>
                </a:lnTo>
                <a:lnTo>
                  <a:pt x="1187" y="461"/>
                </a:lnTo>
                <a:lnTo>
                  <a:pt x="1208" y="525"/>
                </a:lnTo>
                <a:lnTo>
                  <a:pt x="1227" y="587"/>
                </a:lnTo>
                <a:lnTo>
                  <a:pt x="1232" y="600"/>
                </a:lnTo>
                <a:lnTo>
                  <a:pt x="1226" y="617"/>
                </a:lnTo>
                <a:lnTo>
                  <a:pt x="1217" y="652"/>
                </a:lnTo>
                <a:lnTo>
                  <a:pt x="1217" y="720"/>
                </a:lnTo>
                <a:lnTo>
                  <a:pt x="1230" y="748"/>
                </a:lnTo>
                <a:lnTo>
                  <a:pt x="1252" y="768"/>
                </a:lnTo>
                <a:lnTo>
                  <a:pt x="1268" y="774"/>
                </a:lnTo>
                <a:lnTo>
                  <a:pt x="1268" y="787"/>
                </a:lnTo>
                <a:lnTo>
                  <a:pt x="1268" y="820"/>
                </a:lnTo>
                <a:lnTo>
                  <a:pt x="1266" y="897"/>
                </a:lnTo>
                <a:lnTo>
                  <a:pt x="1263" y="933"/>
                </a:lnTo>
                <a:lnTo>
                  <a:pt x="1255" y="959"/>
                </a:lnTo>
                <a:lnTo>
                  <a:pt x="1249" y="968"/>
                </a:lnTo>
                <a:lnTo>
                  <a:pt x="1250" y="984"/>
                </a:lnTo>
                <a:lnTo>
                  <a:pt x="1256" y="999"/>
                </a:lnTo>
                <a:lnTo>
                  <a:pt x="1263" y="1012"/>
                </a:lnTo>
                <a:lnTo>
                  <a:pt x="1287" y="1038"/>
                </a:lnTo>
                <a:lnTo>
                  <a:pt x="1313" y="1061"/>
                </a:lnTo>
                <a:lnTo>
                  <a:pt x="1337" y="1085"/>
                </a:lnTo>
                <a:lnTo>
                  <a:pt x="1355" y="1112"/>
                </a:lnTo>
                <a:lnTo>
                  <a:pt x="1359" y="1125"/>
                </a:lnTo>
                <a:lnTo>
                  <a:pt x="1365" y="1152"/>
                </a:lnTo>
                <a:lnTo>
                  <a:pt x="1390" y="1201"/>
                </a:lnTo>
                <a:lnTo>
                  <a:pt x="1423" y="1243"/>
                </a:lnTo>
                <a:lnTo>
                  <a:pt x="1488" y="1319"/>
                </a:lnTo>
                <a:lnTo>
                  <a:pt x="1514" y="1372"/>
                </a:lnTo>
                <a:lnTo>
                  <a:pt x="1513" y="1378"/>
                </a:lnTo>
                <a:lnTo>
                  <a:pt x="1511" y="1387"/>
                </a:lnTo>
                <a:lnTo>
                  <a:pt x="1505" y="1403"/>
                </a:lnTo>
                <a:lnTo>
                  <a:pt x="1497" y="1417"/>
                </a:lnTo>
                <a:lnTo>
                  <a:pt x="1495" y="1419"/>
                </a:lnTo>
                <a:lnTo>
                  <a:pt x="1469" y="1417"/>
                </a:lnTo>
                <a:lnTo>
                  <a:pt x="1449" y="1411"/>
                </a:lnTo>
                <a:lnTo>
                  <a:pt x="1433" y="1404"/>
                </a:lnTo>
                <a:lnTo>
                  <a:pt x="1411" y="1390"/>
                </a:lnTo>
                <a:lnTo>
                  <a:pt x="1403" y="1384"/>
                </a:lnTo>
                <a:lnTo>
                  <a:pt x="1397" y="1381"/>
                </a:lnTo>
                <a:lnTo>
                  <a:pt x="1394" y="1381"/>
                </a:lnTo>
                <a:lnTo>
                  <a:pt x="1391" y="1381"/>
                </a:lnTo>
                <a:lnTo>
                  <a:pt x="1388" y="1384"/>
                </a:lnTo>
                <a:lnTo>
                  <a:pt x="1385" y="1388"/>
                </a:lnTo>
                <a:lnTo>
                  <a:pt x="1381" y="1394"/>
                </a:lnTo>
                <a:lnTo>
                  <a:pt x="1374" y="1411"/>
                </a:lnTo>
                <a:lnTo>
                  <a:pt x="1363" y="1436"/>
                </a:lnTo>
                <a:lnTo>
                  <a:pt x="1359" y="1452"/>
                </a:lnTo>
                <a:lnTo>
                  <a:pt x="1329" y="1440"/>
                </a:lnTo>
                <a:lnTo>
                  <a:pt x="1277" y="1419"/>
                </a:lnTo>
                <a:lnTo>
                  <a:pt x="1181" y="1384"/>
                </a:lnTo>
                <a:lnTo>
                  <a:pt x="1085" y="1346"/>
                </a:lnTo>
                <a:lnTo>
                  <a:pt x="1059" y="1333"/>
                </a:lnTo>
                <a:lnTo>
                  <a:pt x="1046" y="1317"/>
                </a:lnTo>
                <a:lnTo>
                  <a:pt x="1030" y="1304"/>
                </a:lnTo>
                <a:lnTo>
                  <a:pt x="1011" y="1294"/>
                </a:lnTo>
                <a:lnTo>
                  <a:pt x="971" y="1278"/>
                </a:lnTo>
                <a:lnTo>
                  <a:pt x="890" y="1245"/>
                </a:lnTo>
                <a:lnTo>
                  <a:pt x="848" y="1194"/>
                </a:lnTo>
                <a:lnTo>
                  <a:pt x="845" y="1190"/>
                </a:lnTo>
                <a:lnTo>
                  <a:pt x="838" y="1177"/>
                </a:lnTo>
                <a:lnTo>
                  <a:pt x="819" y="1142"/>
                </a:lnTo>
                <a:lnTo>
                  <a:pt x="798" y="1112"/>
                </a:lnTo>
                <a:lnTo>
                  <a:pt x="794" y="1106"/>
                </a:lnTo>
                <a:lnTo>
                  <a:pt x="795" y="1101"/>
                </a:lnTo>
                <a:lnTo>
                  <a:pt x="801" y="1093"/>
                </a:lnTo>
                <a:lnTo>
                  <a:pt x="814" y="1074"/>
                </a:lnTo>
                <a:lnTo>
                  <a:pt x="826" y="1056"/>
                </a:lnTo>
                <a:lnTo>
                  <a:pt x="829" y="1051"/>
                </a:lnTo>
                <a:lnTo>
                  <a:pt x="822" y="1045"/>
                </a:lnTo>
                <a:lnTo>
                  <a:pt x="810" y="1030"/>
                </a:lnTo>
                <a:lnTo>
                  <a:pt x="784" y="1006"/>
                </a:lnTo>
                <a:lnTo>
                  <a:pt x="768" y="1000"/>
                </a:lnTo>
                <a:lnTo>
                  <a:pt x="751" y="1000"/>
                </a:lnTo>
                <a:lnTo>
                  <a:pt x="740" y="1003"/>
                </a:lnTo>
                <a:lnTo>
                  <a:pt x="719" y="1004"/>
                </a:lnTo>
                <a:lnTo>
                  <a:pt x="687" y="1007"/>
                </a:lnTo>
                <a:lnTo>
                  <a:pt x="668" y="1010"/>
                </a:lnTo>
                <a:lnTo>
                  <a:pt x="662" y="1010"/>
                </a:lnTo>
                <a:lnTo>
                  <a:pt x="659" y="1010"/>
                </a:lnTo>
                <a:lnTo>
                  <a:pt x="658" y="1009"/>
                </a:lnTo>
                <a:lnTo>
                  <a:pt x="656" y="1007"/>
                </a:lnTo>
                <a:lnTo>
                  <a:pt x="656" y="1006"/>
                </a:lnTo>
                <a:lnTo>
                  <a:pt x="656" y="1004"/>
                </a:lnTo>
                <a:lnTo>
                  <a:pt x="655" y="997"/>
                </a:lnTo>
                <a:lnTo>
                  <a:pt x="655" y="977"/>
                </a:lnTo>
                <a:lnTo>
                  <a:pt x="656" y="977"/>
                </a:lnTo>
                <a:lnTo>
                  <a:pt x="658" y="975"/>
                </a:lnTo>
                <a:lnTo>
                  <a:pt x="661" y="974"/>
                </a:lnTo>
                <a:lnTo>
                  <a:pt x="668" y="972"/>
                </a:lnTo>
                <a:lnTo>
                  <a:pt x="685" y="968"/>
                </a:lnTo>
                <a:lnTo>
                  <a:pt x="722" y="959"/>
                </a:lnTo>
                <a:lnTo>
                  <a:pt x="735" y="949"/>
                </a:lnTo>
                <a:lnTo>
                  <a:pt x="711" y="941"/>
                </a:lnTo>
                <a:lnTo>
                  <a:pt x="678" y="928"/>
                </a:lnTo>
                <a:lnTo>
                  <a:pt x="658" y="922"/>
                </a:lnTo>
                <a:lnTo>
                  <a:pt x="651" y="920"/>
                </a:lnTo>
                <a:lnTo>
                  <a:pt x="645" y="923"/>
                </a:lnTo>
                <a:lnTo>
                  <a:pt x="639" y="926"/>
                </a:lnTo>
                <a:lnTo>
                  <a:pt x="633" y="933"/>
                </a:lnTo>
                <a:lnTo>
                  <a:pt x="627" y="942"/>
                </a:lnTo>
                <a:lnTo>
                  <a:pt x="611" y="965"/>
                </a:lnTo>
                <a:lnTo>
                  <a:pt x="611" y="965"/>
                </a:lnTo>
                <a:lnTo>
                  <a:pt x="600" y="964"/>
                </a:lnTo>
                <a:lnTo>
                  <a:pt x="585" y="956"/>
                </a:lnTo>
                <a:lnTo>
                  <a:pt x="578" y="945"/>
                </a:lnTo>
                <a:lnTo>
                  <a:pt x="574" y="930"/>
                </a:lnTo>
                <a:lnTo>
                  <a:pt x="568" y="913"/>
                </a:lnTo>
                <a:lnTo>
                  <a:pt x="559" y="894"/>
                </a:lnTo>
                <a:lnTo>
                  <a:pt x="554" y="884"/>
                </a:lnTo>
                <a:lnTo>
                  <a:pt x="539" y="871"/>
                </a:lnTo>
                <a:lnTo>
                  <a:pt x="520" y="858"/>
                </a:lnTo>
                <a:lnTo>
                  <a:pt x="468" y="833"/>
                </a:lnTo>
                <a:lnTo>
                  <a:pt x="342" y="791"/>
                </a:lnTo>
                <a:lnTo>
                  <a:pt x="246" y="765"/>
                </a:lnTo>
                <a:lnTo>
                  <a:pt x="235" y="778"/>
                </a:lnTo>
                <a:lnTo>
                  <a:pt x="204" y="803"/>
                </a:lnTo>
                <a:lnTo>
                  <a:pt x="165" y="822"/>
                </a:lnTo>
                <a:lnTo>
                  <a:pt x="126" y="829"/>
                </a:lnTo>
                <a:lnTo>
                  <a:pt x="109" y="828"/>
                </a:lnTo>
                <a:lnTo>
                  <a:pt x="94" y="819"/>
                </a:lnTo>
                <a:lnTo>
                  <a:pt x="83" y="806"/>
                </a:lnTo>
                <a:lnTo>
                  <a:pt x="74" y="786"/>
                </a:lnTo>
                <a:lnTo>
                  <a:pt x="73" y="757"/>
                </a:lnTo>
                <a:lnTo>
                  <a:pt x="73" y="757"/>
                </a:lnTo>
                <a:lnTo>
                  <a:pt x="96" y="749"/>
                </a:lnTo>
                <a:lnTo>
                  <a:pt x="112" y="743"/>
                </a:lnTo>
                <a:lnTo>
                  <a:pt x="116" y="741"/>
                </a:lnTo>
                <a:lnTo>
                  <a:pt x="119" y="738"/>
                </a:lnTo>
                <a:lnTo>
                  <a:pt x="120" y="736"/>
                </a:lnTo>
                <a:lnTo>
                  <a:pt x="120" y="735"/>
                </a:lnTo>
                <a:lnTo>
                  <a:pt x="120" y="733"/>
                </a:lnTo>
                <a:lnTo>
                  <a:pt x="119" y="732"/>
                </a:lnTo>
                <a:lnTo>
                  <a:pt x="117" y="730"/>
                </a:lnTo>
                <a:lnTo>
                  <a:pt x="113" y="729"/>
                </a:lnTo>
                <a:lnTo>
                  <a:pt x="109" y="728"/>
                </a:lnTo>
                <a:lnTo>
                  <a:pt x="96" y="725"/>
                </a:lnTo>
                <a:lnTo>
                  <a:pt x="64" y="720"/>
                </a:lnTo>
                <a:lnTo>
                  <a:pt x="28" y="716"/>
                </a:lnTo>
                <a:lnTo>
                  <a:pt x="9" y="712"/>
                </a:lnTo>
                <a:lnTo>
                  <a:pt x="15" y="688"/>
                </a:lnTo>
                <a:lnTo>
                  <a:pt x="32" y="651"/>
                </a:lnTo>
                <a:lnTo>
                  <a:pt x="51" y="625"/>
                </a:lnTo>
                <a:lnTo>
                  <a:pt x="64" y="604"/>
                </a:lnTo>
                <a:lnTo>
                  <a:pt x="65" y="596"/>
                </a:lnTo>
                <a:lnTo>
                  <a:pt x="65" y="591"/>
                </a:lnTo>
                <a:lnTo>
                  <a:pt x="64" y="587"/>
                </a:lnTo>
                <a:lnTo>
                  <a:pt x="61" y="583"/>
                </a:lnTo>
                <a:lnTo>
                  <a:pt x="55" y="578"/>
                </a:lnTo>
                <a:lnTo>
                  <a:pt x="42" y="568"/>
                </a:lnTo>
                <a:lnTo>
                  <a:pt x="22" y="557"/>
                </a:lnTo>
                <a:lnTo>
                  <a:pt x="22" y="557"/>
                </a:lnTo>
                <a:lnTo>
                  <a:pt x="17" y="545"/>
                </a:lnTo>
                <a:lnTo>
                  <a:pt x="12" y="513"/>
                </a:lnTo>
                <a:lnTo>
                  <a:pt x="3" y="438"/>
                </a:lnTo>
                <a:lnTo>
                  <a:pt x="0" y="373"/>
                </a:lnTo>
                <a:lnTo>
                  <a:pt x="0" y="361"/>
                </a:lnTo>
                <a:lnTo>
                  <a:pt x="4" y="362"/>
                </a:lnTo>
                <a:lnTo>
                  <a:pt x="16" y="364"/>
                </a:lnTo>
                <a:lnTo>
                  <a:pt x="41" y="371"/>
                </a:lnTo>
                <a:lnTo>
                  <a:pt x="54" y="374"/>
                </a:lnTo>
                <a:lnTo>
                  <a:pt x="64" y="374"/>
                </a:lnTo>
                <a:lnTo>
                  <a:pt x="70" y="371"/>
                </a:lnTo>
                <a:lnTo>
                  <a:pt x="70" y="37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487800">
            <a:off x="7181640" y="1807920"/>
            <a:ext cx="14040" cy="468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22"/>
                </a:moveTo>
                <a:lnTo>
                  <a:pt x="3" y="16"/>
                </a:lnTo>
                <a:lnTo>
                  <a:pt x="5" y="12"/>
                </a:lnTo>
                <a:lnTo>
                  <a:pt x="13" y="4"/>
                </a:lnTo>
                <a:lnTo>
                  <a:pt x="17" y="2"/>
                </a:lnTo>
                <a:lnTo>
                  <a:pt x="21" y="0"/>
                </a:lnTo>
                <a:lnTo>
                  <a:pt x="27" y="2"/>
                </a:lnTo>
                <a:lnTo>
                  <a:pt x="33" y="4"/>
                </a:lnTo>
                <a:lnTo>
                  <a:pt x="39" y="12"/>
                </a:lnTo>
                <a:lnTo>
                  <a:pt x="43" y="20"/>
                </a:lnTo>
                <a:lnTo>
                  <a:pt x="45" y="20"/>
                </a:lnTo>
                <a:lnTo>
                  <a:pt x="42" y="22"/>
                </a:lnTo>
                <a:lnTo>
                  <a:pt x="34" y="22"/>
                </a:lnTo>
                <a:lnTo>
                  <a:pt x="20" y="23"/>
                </a:lnTo>
                <a:lnTo>
                  <a:pt x="3" y="23"/>
                </a:lnTo>
                <a:lnTo>
                  <a:pt x="0" y="22"/>
                </a:lnTo>
                <a:lnTo>
                  <a:pt x="0" y="2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162920" y="1795320"/>
            <a:ext cx="14040" cy="1296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2"/>
                </a:moveTo>
                <a:lnTo>
                  <a:pt x="0" y="25"/>
                </a:lnTo>
                <a:lnTo>
                  <a:pt x="3" y="19"/>
                </a:lnTo>
                <a:lnTo>
                  <a:pt x="7" y="13"/>
                </a:lnTo>
                <a:lnTo>
                  <a:pt x="12" y="7"/>
                </a:lnTo>
                <a:lnTo>
                  <a:pt x="17" y="4"/>
                </a:lnTo>
                <a:lnTo>
                  <a:pt x="23" y="2"/>
                </a:lnTo>
                <a:lnTo>
                  <a:pt x="29" y="0"/>
                </a:lnTo>
                <a:lnTo>
                  <a:pt x="35" y="0"/>
                </a:lnTo>
                <a:lnTo>
                  <a:pt x="39" y="3"/>
                </a:lnTo>
                <a:lnTo>
                  <a:pt x="43" y="6"/>
                </a:lnTo>
                <a:lnTo>
                  <a:pt x="45" y="12"/>
                </a:lnTo>
                <a:lnTo>
                  <a:pt x="46" y="19"/>
                </a:lnTo>
                <a:lnTo>
                  <a:pt x="46" y="19"/>
                </a:lnTo>
                <a:lnTo>
                  <a:pt x="41" y="22"/>
                </a:lnTo>
                <a:lnTo>
                  <a:pt x="33" y="26"/>
                </a:lnTo>
                <a:lnTo>
                  <a:pt x="19" y="33"/>
                </a:lnTo>
                <a:lnTo>
                  <a:pt x="12" y="35"/>
                </a:lnTo>
                <a:lnTo>
                  <a:pt x="4" y="35"/>
                </a:lnTo>
                <a:lnTo>
                  <a:pt x="0" y="32"/>
                </a:lnTo>
                <a:lnTo>
                  <a:pt x="0" y="3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16480" y="2454120"/>
            <a:ext cx="20880" cy="44640"/>
          </a:xfrm>
          <a:custGeom>
            <a:avLst/>
            <a:gdLst/>
            <a:ahLst/>
            <a:rect l="l" t="t" r="r" b="b"/>
            <a:pathLst>
              <a:path w="60" h="136">
                <a:moveTo>
                  <a:pt x="0" y="126"/>
                </a:moveTo>
                <a:lnTo>
                  <a:pt x="6" y="132"/>
                </a:lnTo>
                <a:lnTo>
                  <a:pt x="15" y="136"/>
                </a:lnTo>
                <a:lnTo>
                  <a:pt x="19" y="136"/>
                </a:lnTo>
                <a:lnTo>
                  <a:pt x="22" y="135"/>
                </a:lnTo>
                <a:lnTo>
                  <a:pt x="25" y="132"/>
                </a:lnTo>
                <a:lnTo>
                  <a:pt x="26" y="129"/>
                </a:lnTo>
                <a:lnTo>
                  <a:pt x="32" y="123"/>
                </a:lnTo>
                <a:lnTo>
                  <a:pt x="38" y="115"/>
                </a:lnTo>
                <a:lnTo>
                  <a:pt x="42" y="110"/>
                </a:lnTo>
                <a:lnTo>
                  <a:pt x="42" y="103"/>
                </a:lnTo>
                <a:lnTo>
                  <a:pt x="44" y="87"/>
                </a:lnTo>
                <a:lnTo>
                  <a:pt x="52" y="55"/>
                </a:lnTo>
                <a:lnTo>
                  <a:pt x="58" y="23"/>
                </a:lnTo>
                <a:lnTo>
                  <a:pt x="60" y="15"/>
                </a:lnTo>
                <a:lnTo>
                  <a:pt x="57" y="13"/>
                </a:lnTo>
                <a:lnTo>
                  <a:pt x="52" y="12"/>
                </a:lnTo>
                <a:lnTo>
                  <a:pt x="44" y="9"/>
                </a:lnTo>
                <a:lnTo>
                  <a:pt x="21" y="3"/>
                </a:lnTo>
                <a:lnTo>
                  <a:pt x="3" y="0"/>
                </a:lnTo>
                <a:lnTo>
                  <a:pt x="3" y="13"/>
                </a:lnTo>
                <a:lnTo>
                  <a:pt x="3" y="35"/>
                </a:lnTo>
                <a:lnTo>
                  <a:pt x="3" y="74"/>
                </a:lnTo>
                <a:lnTo>
                  <a:pt x="0" y="116"/>
                </a:lnTo>
                <a:lnTo>
                  <a:pt x="0" y="126"/>
                </a:lnTo>
                <a:lnTo>
                  <a:pt x="0" y="126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229440" y="2416320"/>
            <a:ext cx="17280" cy="28440"/>
          </a:xfrm>
          <a:custGeom>
            <a:avLst/>
            <a:gdLst/>
            <a:ahLst/>
            <a:rect l="l" t="t" r="r" b="b"/>
            <a:pathLst>
              <a:path w="48" h="93">
                <a:moveTo>
                  <a:pt x="12" y="72"/>
                </a:moveTo>
                <a:lnTo>
                  <a:pt x="9" y="75"/>
                </a:lnTo>
                <a:lnTo>
                  <a:pt x="5" y="77"/>
                </a:lnTo>
                <a:lnTo>
                  <a:pt x="0" y="78"/>
                </a:lnTo>
                <a:lnTo>
                  <a:pt x="0" y="83"/>
                </a:lnTo>
                <a:lnTo>
                  <a:pt x="0" y="84"/>
                </a:lnTo>
                <a:lnTo>
                  <a:pt x="0" y="87"/>
                </a:lnTo>
                <a:lnTo>
                  <a:pt x="2" y="88"/>
                </a:lnTo>
                <a:lnTo>
                  <a:pt x="3" y="90"/>
                </a:lnTo>
                <a:lnTo>
                  <a:pt x="9" y="91"/>
                </a:lnTo>
                <a:lnTo>
                  <a:pt x="12" y="93"/>
                </a:lnTo>
                <a:lnTo>
                  <a:pt x="18" y="93"/>
                </a:lnTo>
                <a:lnTo>
                  <a:pt x="19" y="93"/>
                </a:lnTo>
                <a:lnTo>
                  <a:pt x="21" y="91"/>
                </a:lnTo>
                <a:lnTo>
                  <a:pt x="27" y="87"/>
                </a:lnTo>
                <a:lnTo>
                  <a:pt x="38" y="80"/>
                </a:lnTo>
                <a:lnTo>
                  <a:pt x="43" y="75"/>
                </a:lnTo>
                <a:lnTo>
                  <a:pt x="47" y="69"/>
                </a:lnTo>
                <a:lnTo>
                  <a:pt x="48" y="65"/>
                </a:lnTo>
                <a:lnTo>
                  <a:pt x="44" y="59"/>
                </a:lnTo>
                <a:lnTo>
                  <a:pt x="44" y="52"/>
                </a:lnTo>
                <a:lnTo>
                  <a:pt x="41" y="36"/>
                </a:lnTo>
                <a:lnTo>
                  <a:pt x="40" y="7"/>
                </a:lnTo>
                <a:lnTo>
                  <a:pt x="41" y="1"/>
                </a:lnTo>
                <a:lnTo>
                  <a:pt x="37" y="1"/>
                </a:lnTo>
                <a:lnTo>
                  <a:pt x="29" y="1"/>
                </a:lnTo>
                <a:lnTo>
                  <a:pt x="22" y="0"/>
                </a:lnTo>
                <a:lnTo>
                  <a:pt x="18" y="0"/>
                </a:lnTo>
                <a:lnTo>
                  <a:pt x="15" y="1"/>
                </a:lnTo>
                <a:lnTo>
                  <a:pt x="14" y="3"/>
                </a:lnTo>
                <a:lnTo>
                  <a:pt x="11" y="7"/>
                </a:lnTo>
                <a:lnTo>
                  <a:pt x="9" y="12"/>
                </a:lnTo>
                <a:lnTo>
                  <a:pt x="9" y="16"/>
                </a:lnTo>
                <a:lnTo>
                  <a:pt x="9" y="16"/>
                </a:lnTo>
                <a:lnTo>
                  <a:pt x="8" y="23"/>
                </a:lnTo>
                <a:lnTo>
                  <a:pt x="6" y="35"/>
                </a:lnTo>
                <a:lnTo>
                  <a:pt x="3" y="56"/>
                </a:lnTo>
                <a:lnTo>
                  <a:pt x="3" y="65"/>
                </a:lnTo>
                <a:lnTo>
                  <a:pt x="5" y="68"/>
                </a:lnTo>
                <a:lnTo>
                  <a:pt x="8" y="71"/>
                </a:lnTo>
                <a:lnTo>
                  <a:pt x="11" y="72"/>
                </a:lnTo>
                <a:lnTo>
                  <a:pt x="12" y="72"/>
                </a:lnTo>
                <a:lnTo>
                  <a:pt x="12" y="7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35560" y="2394000"/>
            <a:ext cx="9720" cy="15840"/>
          </a:xfrm>
          <a:custGeom>
            <a:avLst/>
            <a:gdLst/>
            <a:ahLst/>
            <a:rect l="l" t="t" r="r" b="b"/>
            <a:pathLst>
              <a:path w="27" h="41">
                <a:moveTo>
                  <a:pt x="27" y="9"/>
                </a:moveTo>
                <a:lnTo>
                  <a:pt x="22" y="4"/>
                </a:lnTo>
                <a:lnTo>
                  <a:pt x="17" y="2"/>
                </a:lnTo>
                <a:lnTo>
                  <a:pt x="13" y="0"/>
                </a:lnTo>
                <a:lnTo>
                  <a:pt x="10" y="0"/>
                </a:lnTo>
                <a:lnTo>
                  <a:pt x="7" y="2"/>
                </a:lnTo>
                <a:lnTo>
                  <a:pt x="4" y="4"/>
                </a:lnTo>
                <a:lnTo>
                  <a:pt x="3" y="7"/>
                </a:lnTo>
                <a:lnTo>
                  <a:pt x="1" y="12"/>
                </a:lnTo>
                <a:lnTo>
                  <a:pt x="0" y="22"/>
                </a:lnTo>
                <a:lnTo>
                  <a:pt x="0" y="32"/>
                </a:lnTo>
                <a:lnTo>
                  <a:pt x="1" y="32"/>
                </a:lnTo>
                <a:lnTo>
                  <a:pt x="6" y="38"/>
                </a:lnTo>
                <a:lnTo>
                  <a:pt x="11" y="41"/>
                </a:lnTo>
                <a:lnTo>
                  <a:pt x="14" y="41"/>
                </a:lnTo>
                <a:lnTo>
                  <a:pt x="19" y="41"/>
                </a:lnTo>
                <a:lnTo>
                  <a:pt x="22" y="39"/>
                </a:lnTo>
                <a:lnTo>
                  <a:pt x="23" y="36"/>
                </a:lnTo>
                <a:lnTo>
                  <a:pt x="25" y="32"/>
                </a:lnTo>
                <a:lnTo>
                  <a:pt x="26" y="28"/>
                </a:lnTo>
                <a:lnTo>
                  <a:pt x="26" y="19"/>
                </a:lnTo>
                <a:lnTo>
                  <a:pt x="26" y="9"/>
                </a:lnTo>
                <a:lnTo>
                  <a:pt x="27" y="9"/>
                </a:lnTo>
                <a:lnTo>
                  <a:pt x="27" y="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213600" y="2384280"/>
            <a:ext cx="25200" cy="22320"/>
          </a:xfrm>
          <a:custGeom>
            <a:avLst/>
            <a:gdLst/>
            <a:ahLst/>
            <a:rect l="l" t="t" r="r" b="b"/>
            <a:pathLst>
              <a:path w="72" h="70">
                <a:moveTo>
                  <a:pt x="0" y="63"/>
                </a:moveTo>
                <a:lnTo>
                  <a:pt x="6" y="68"/>
                </a:lnTo>
                <a:lnTo>
                  <a:pt x="12" y="70"/>
                </a:lnTo>
                <a:lnTo>
                  <a:pt x="19" y="70"/>
                </a:lnTo>
                <a:lnTo>
                  <a:pt x="25" y="68"/>
                </a:lnTo>
                <a:lnTo>
                  <a:pt x="30" y="64"/>
                </a:lnTo>
                <a:lnTo>
                  <a:pt x="36" y="60"/>
                </a:lnTo>
                <a:lnTo>
                  <a:pt x="48" y="48"/>
                </a:lnTo>
                <a:lnTo>
                  <a:pt x="55" y="37"/>
                </a:lnTo>
                <a:lnTo>
                  <a:pt x="59" y="26"/>
                </a:lnTo>
                <a:lnTo>
                  <a:pt x="61" y="26"/>
                </a:lnTo>
                <a:lnTo>
                  <a:pt x="64" y="19"/>
                </a:lnTo>
                <a:lnTo>
                  <a:pt x="68" y="8"/>
                </a:lnTo>
                <a:lnTo>
                  <a:pt x="72" y="2"/>
                </a:lnTo>
                <a:lnTo>
                  <a:pt x="72" y="0"/>
                </a:lnTo>
                <a:lnTo>
                  <a:pt x="71" y="0"/>
                </a:lnTo>
                <a:lnTo>
                  <a:pt x="70" y="0"/>
                </a:lnTo>
                <a:lnTo>
                  <a:pt x="67" y="2"/>
                </a:lnTo>
                <a:lnTo>
                  <a:pt x="54" y="3"/>
                </a:lnTo>
                <a:lnTo>
                  <a:pt x="45" y="5"/>
                </a:lnTo>
                <a:lnTo>
                  <a:pt x="39" y="6"/>
                </a:lnTo>
                <a:lnTo>
                  <a:pt x="35" y="9"/>
                </a:lnTo>
                <a:lnTo>
                  <a:pt x="32" y="12"/>
                </a:lnTo>
                <a:lnTo>
                  <a:pt x="23" y="19"/>
                </a:lnTo>
                <a:lnTo>
                  <a:pt x="16" y="29"/>
                </a:lnTo>
                <a:lnTo>
                  <a:pt x="3" y="55"/>
                </a:lnTo>
                <a:lnTo>
                  <a:pt x="0" y="63"/>
                </a:lnTo>
                <a:lnTo>
                  <a:pt x="0" y="6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219720" y="2344680"/>
            <a:ext cx="20880" cy="36720"/>
          </a:xfrm>
          <a:custGeom>
            <a:avLst/>
            <a:gdLst/>
            <a:ahLst/>
            <a:rect l="l" t="t" r="r" b="b"/>
            <a:pathLst>
              <a:path w="62" h="108">
                <a:moveTo>
                  <a:pt x="0" y="66"/>
                </a:moveTo>
                <a:lnTo>
                  <a:pt x="0" y="71"/>
                </a:lnTo>
                <a:lnTo>
                  <a:pt x="0" y="77"/>
                </a:lnTo>
                <a:lnTo>
                  <a:pt x="1" y="82"/>
                </a:lnTo>
                <a:lnTo>
                  <a:pt x="4" y="83"/>
                </a:lnTo>
                <a:lnTo>
                  <a:pt x="7" y="86"/>
                </a:lnTo>
                <a:lnTo>
                  <a:pt x="11" y="90"/>
                </a:lnTo>
                <a:lnTo>
                  <a:pt x="14" y="92"/>
                </a:lnTo>
                <a:lnTo>
                  <a:pt x="11" y="93"/>
                </a:lnTo>
                <a:lnTo>
                  <a:pt x="7" y="96"/>
                </a:lnTo>
                <a:lnTo>
                  <a:pt x="2" y="100"/>
                </a:lnTo>
                <a:lnTo>
                  <a:pt x="0" y="106"/>
                </a:lnTo>
                <a:lnTo>
                  <a:pt x="0" y="108"/>
                </a:lnTo>
                <a:lnTo>
                  <a:pt x="4" y="108"/>
                </a:lnTo>
                <a:lnTo>
                  <a:pt x="8" y="106"/>
                </a:lnTo>
                <a:lnTo>
                  <a:pt x="17" y="105"/>
                </a:lnTo>
                <a:lnTo>
                  <a:pt x="21" y="103"/>
                </a:lnTo>
                <a:lnTo>
                  <a:pt x="28" y="100"/>
                </a:lnTo>
                <a:lnTo>
                  <a:pt x="43" y="90"/>
                </a:lnTo>
                <a:lnTo>
                  <a:pt x="55" y="77"/>
                </a:lnTo>
                <a:lnTo>
                  <a:pt x="60" y="61"/>
                </a:lnTo>
                <a:lnTo>
                  <a:pt x="62" y="44"/>
                </a:lnTo>
                <a:lnTo>
                  <a:pt x="60" y="27"/>
                </a:lnTo>
                <a:lnTo>
                  <a:pt x="57" y="16"/>
                </a:lnTo>
                <a:lnTo>
                  <a:pt x="52" y="8"/>
                </a:lnTo>
                <a:lnTo>
                  <a:pt x="46" y="2"/>
                </a:lnTo>
                <a:lnTo>
                  <a:pt x="43" y="0"/>
                </a:lnTo>
                <a:lnTo>
                  <a:pt x="40" y="0"/>
                </a:lnTo>
                <a:lnTo>
                  <a:pt x="37" y="0"/>
                </a:lnTo>
                <a:lnTo>
                  <a:pt x="34" y="2"/>
                </a:lnTo>
                <a:lnTo>
                  <a:pt x="33" y="3"/>
                </a:lnTo>
                <a:lnTo>
                  <a:pt x="27" y="9"/>
                </a:lnTo>
                <a:lnTo>
                  <a:pt x="23" y="15"/>
                </a:lnTo>
                <a:lnTo>
                  <a:pt x="14" y="31"/>
                </a:lnTo>
                <a:lnTo>
                  <a:pt x="8" y="45"/>
                </a:lnTo>
                <a:lnTo>
                  <a:pt x="8" y="50"/>
                </a:lnTo>
                <a:lnTo>
                  <a:pt x="11" y="57"/>
                </a:lnTo>
                <a:lnTo>
                  <a:pt x="14" y="64"/>
                </a:lnTo>
                <a:lnTo>
                  <a:pt x="15" y="67"/>
                </a:lnTo>
                <a:lnTo>
                  <a:pt x="15" y="69"/>
                </a:lnTo>
                <a:lnTo>
                  <a:pt x="13" y="69"/>
                </a:lnTo>
                <a:lnTo>
                  <a:pt x="11" y="69"/>
                </a:lnTo>
                <a:lnTo>
                  <a:pt x="5" y="67"/>
                </a:lnTo>
                <a:lnTo>
                  <a:pt x="0" y="66"/>
                </a:lnTo>
                <a:lnTo>
                  <a:pt x="0" y="66"/>
                </a:lnTo>
                <a:lnTo>
                  <a:pt x="0" y="66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05520" y="2206800"/>
            <a:ext cx="41400" cy="28440"/>
          </a:xfrm>
          <a:custGeom>
            <a:avLst/>
            <a:gdLst/>
            <a:ahLst/>
            <a:rect l="l" t="t" r="r" b="b"/>
            <a:pathLst>
              <a:path w="124" h="87">
                <a:moveTo>
                  <a:pt x="73" y="29"/>
                </a:moveTo>
                <a:lnTo>
                  <a:pt x="84" y="33"/>
                </a:lnTo>
                <a:lnTo>
                  <a:pt x="99" y="38"/>
                </a:lnTo>
                <a:lnTo>
                  <a:pt x="110" y="39"/>
                </a:lnTo>
                <a:lnTo>
                  <a:pt x="114" y="39"/>
                </a:lnTo>
                <a:lnTo>
                  <a:pt x="117" y="40"/>
                </a:lnTo>
                <a:lnTo>
                  <a:pt x="118" y="43"/>
                </a:lnTo>
                <a:lnTo>
                  <a:pt x="121" y="48"/>
                </a:lnTo>
                <a:lnTo>
                  <a:pt x="121" y="55"/>
                </a:lnTo>
                <a:lnTo>
                  <a:pt x="123" y="74"/>
                </a:lnTo>
                <a:lnTo>
                  <a:pt x="124" y="74"/>
                </a:lnTo>
                <a:lnTo>
                  <a:pt x="121" y="78"/>
                </a:lnTo>
                <a:lnTo>
                  <a:pt x="120" y="81"/>
                </a:lnTo>
                <a:lnTo>
                  <a:pt x="115" y="83"/>
                </a:lnTo>
                <a:lnTo>
                  <a:pt x="111" y="84"/>
                </a:lnTo>
                <a:lnTo>
                  <a:pt x="107" y="85"/>
                </a:lnTo>
                <a:lnTo>
                  <a:pt x="97" y="85"/>
                </a:lnTo>
                <a:lnTo>
                  <a:pt x="76" y="85"/>
                </a:lnTo>
                <a:lnTo>
                  <a:pt x="73" y="84"/>
                </a:lnTo>
                <a:lnTo>
                  <a:pt x="71" y="78"/>
                </a:lnTo>
                <a:lnTo>
                  <a:pt x="71" y="71"/>
                </a:lnTo>
                <a:lnTo>
                  <a:pt x="69" y="68"/>
                </a:lnTo>
                <a:lnTo>
                  <a:pt x="68" y="71"/>
                </a:lnTo>
                <a:lnTo>
                  <a:pt x="66" y="74"/>
                </a:lnTo>
                <a:lnTo>
                  <a:pt x="60" y="80"/>
                </a:lnTo>
                <a:lnTo>
                  <a:pt x="50" y="87"/>
                </a:lnTo>
                <a:lnTo>
                  <a:pt x="50" y="87"/>
                </a:lnTo>
                <a:lnTo>
                  <a:pt x="49" y="80"/>
                </a:lnTo>
                <a:lnTo>
                  <a:pt x="49" y="69"/>
                </a:lnTo>
                <a:lnTo>
                  <a:pt x="47" y="67"/>
                </a:lnTo>
                <a:lnTo>
                  <a:pt x="46" y="65"/>
                </a:lnTo>
                <a:lnTo>
                  <a:pt x="42" y="67"/>
                </a:lnTo>
                <a:lnTo>
                  <a:pt x="39" y="69"/>
                </a:lnTo>
                <a:lnTo>
                  <a:pt x="30" y="74"/>
                </a:lnTo>
                <a:lnTo>
                  <a:pt x="26" y="77"/>
                </a:lnTo>
                <a:lnTo>
                  <a:pt x="26" y="69"/>
                </a:lnTo>
                <a:lnTo>
                  <a:pt x="26" y="58"/>
                </a:lnTo>
                <a:lnTo>
                  <a:pt x="26" y="51"/>
                </a:lnTo>
                <a:lnTo>
                  <a:pt x="26" y="49"/>
                </a:lnTo>
                <a:lnTo>
                  <a:pt x="24" y="49"/>
                </a:lnTo>
                <a:lnTo>
                  <a:pt x="23" y="51"/>
                </a:lnTo>
                <a:lnTo>
                  <a:pt x="20" y="54"/>
                </a:lnTo>
                <a:lnTo>
                  <a:pt x="15" y="58"/>
                </a:lnTo>
                <a:lnTo>
                  <a:pt x="11" y="64"/>
                </a:lnTo>
                <a:lnTo>
                  <a:pt x="10" y="67"/>
                </a:lnTo>
                <a:lnTo>
                  <a:pt x="2" y="62"/>
                </a:lnTo>
                <a:lnTo>
                  <a:pt x="0" y="59"/>
                </a:lnTo>
                <a:lnTo>
                  <a:pt x="0" y="58"/>
                </a:lnTo>
                <a:lnTo>
                  <a:pt x="0" y="56"/>
                </a:lnTo>
                <a:lnTo>
                  <a:pt x="1" y="45"/>
                </a:lnTo>
                <a:lnTo>
                  <a:pt x="8" y="16"/>
                </a:lnTo>
                <a:lnTo>
                  <a:pt x="14" y="6"/>
                </a:lnTo>
                <a:lnTo>
                  <a:pt x="18" y="1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4" y="3"/>
                </a:lnTo>
                <a:lnTo>
                  <a:pt x="43" y="6"/>
                </a:lnTo>
                <a:lnTo>
                  <a:pt x="49" y="10"/>
                </a:lnTo>
                <a:lnTo>
                  <a:pt x="53" y="16"/>
                </a:lnTo>
                <a:lnTo>
                  <a:pt x="66" y="26"/>
                </a:lnTo>
                <a:lnTo>
                  <a:pt x="73" y="29"/>
                </a:lnTo>
                <a:lnTo>
                  <a:pt x="73" y="2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19760" y="2149560"/>
            <a:ext cx="23760" cy="11160"/>
          </a:xfrm>
          <a:custGeom>
            <a:avLst/>
            <a:gdLst/>
            <a:ahLst/>
            <a:rect l="l" t="t" r="r" b="b"/>
            <a:pathLst>
              <a:path w="65" h="39">
                <a:moveTo>
                  <a:pt x="65" y="39"/>
                </a:moveTo>
                <a:lnTo>
                  <a:pt x="59" y="38"/>
                </a:lnTo>
                <a:lnTo>
                  <a:pt x="49" y="35"/>
                </a:lnTo>
                <a:lnTo>
                  <a:pt x="26" y="29"/>
                </a:lnTo>
                <a:lnTo>
                  <a:pt x="4" y="23"/>
                </a:lnTo>
                <a:lnTo>
                  <a:pt x="0" y="20"/>
                </a:lnTo>
                <a:lnTo>
                  <a:pt x="4" y="16"/>
                </a:lnTo>
                <a:lnTo>
                  <a:pt x="11" y="7"/>
                </a:lnTo>
                <a:lnTo>
                  <a:pt x="16" y="3"/>
                </a:lnTo>
                <a:lnTo>
                  <a:pt x="17" y="3"/>
                </a:lnTo>
                <a:lnTo>
                  <a:pt x="24" y="2"/>
                </a:lnTo>
                <a:lnTo>
                  <a:pt x="37" y="0"/>
                </a:lnTo>
                <a:lnTo>
                  <a:pt x="48" y="4"/>
                </a:lnTo>
                <a:lnTo>
                  <a:pt x="55" y="12"/>
                </a:lnTo>
                <a:lnTo>
                  <a:pt x="61" y="22"/>
                </a:lnTo>
                <a:lnTo>
                  <a:pt x="64" y="33"/>
                </a:lnTo>
                <a:lnTo>
                  <a:pt x="65" y="39"/>
                </a:lnTo>
                <a:lnTo>
                  <a:pt x="65" y="3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92760" y="2133720"/>
            <a:ext cx="27000" cy="14040"/>
          </a:xfrm>
          <a:custGeom>
            <a:avLst/>
            <a:gdLst/>
            <a:ahLst/>
            <a:rect l="l" t="t" r="r" b="b"/>
            <a:pathLst>
              <a:path w="80" h="35">
                <a:moveTo>
                  <a:pt x="80" y="0"/>
                </a:moveTo>
                <a:lnTo>
                  <a:pt x="78" y="4"/>
                </a:lnTo>
                <a:lnTo>
                  <a:pt x="77" y="18"/>
                </a:lnTo>
                <a:lnTo>
                  <a:pt x="77" y="28"/>
                </a:lnTo>
                <a:lnTo>
                  <a:pt x="77" y="28"/>
                </a:lnTo>
                <a:lnTo>
                  <a:pt x="70" y="31"/>
                </a:lnTo>
                <a:lnTo>
                  <a:pt x="52" y="35"/>
                </a:lnTo>
                <a:lnTo>
                  <a:pt x="33" y="35"/>
                </a:lnTo>
                <a:lnTo>
                  <a:pt x="17" y="31"/>
                </a:lnTo>
                <a:lnTo>
                  <a:pt x="10" y="28"/>
                </a:lnTo>
                <a:lnTo>
                  <a:pt x="6" y="23"/>
                </a:lnTo>
                <a:lnTo>
                  <a:pt x="2" y="18"/>
                </a:lnTo>
                <a:lnTo>
                  <a:pt x="0" y="12"/>
                </a:lnTo>
                <a:lnTo>
                  <a:pt x="2" y="3"/>
                </a:lnTo>
                <a:lnTo>
                  <a:pt x="3" y="3"/>
                </a:lnTo>
                <a:lnTo>
                  <a:pt x="4" y="3"/>
                </a:lnTo>
                <a:lnTo>
                  <a:pt x="15" y="3"/>
                </a:lnTo>
                <a:lnTo>
                  <a:pt x="51" y="2"/>
                </a:lnTo>
                <a:lnTo>
                  <a:pt x="77" y="2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34120" y="2616120"/>
            <a:ext cx="1082520" cy="647640"/>
          </a:xfrm>
          <a:custGeom>
            <a:avLst/>
            <a:gdLst/>
            <a:ahLst/>
            <a:rect l="l" t="t" r="r" b="b"/>
            <a:pathLst>
              <a:path w="3137" h="1980">
                <a:moveTo>
                  <a:pt x="1612" y="1917"/>
                </a:moveTo>
                <a:lnTo>
                  <a:pt x="1606" y="1888"/>
                </a:lnTo>
                <a:lnTo>
                  <a:pt x="1607" y="1861"/>
                </a:lnTo>
                <a:lnTo>
                  <a:pt x="1614" y="1838"/>
                </a:lnTo>
                <a:lnTo>
                  <a:pt x="1626" y="1819"/>
                </a:lnTo>
                <a:lnTo>
                  <a:pt x="1643" y="1800"/>
                </a:lnTo>
                <a:lnTo>
                  <a:pt x="1662" y="1784"/>
                </a:lnTo>
                <a:lnTo>
                  <a:pt x="1706" y="1756"/>
                </a:lnTo>
                <a:lnTo>
                  <a:pt x="1782" y="1706"/>
                </a:lnTo>
                <a:lnTo>
                  <a:pt x="1784" y="1706"/>
                </a:lnTo>
                <a:lnTo>
                  <a:pt x="1777" y="1700"/>
                </a:lnTo>
                <a:lnTo>
                  <a:pt x="1774" y="1694"/>
                </a:lnTo>
                <a:lnTo>
                  <a:pt x="1772" y="1690"/>
                </a:lnTo>
                <a:lnTo>
                  <a:pt x="1772" y="1688"/>
                </a:lnTo>
                <a:lnTo>
                  <a:pt x="1772" y="1687"/>
                </a:lnTo>
                <a:lnTo>
                  <a:pt x="1774" y="1685"/>
                </a:lnTo>
                <a:lnTo>
                  <a:pt x="1775" y="1684"/>
                </a:lnTo>
                <a:lnTo>
                  <a:pt x="1777" y="1683"/>
                </a:lnTo>
                <a:lnTo>
                  <a:pt x="1778" y="1683"/>
                </a:lnTo>
                <a:lnTo>
                  <a:pt x="1782" y="1683"/>
                </a:lnTo>
                <a:lnTo>
                  <a:pt x="1787" y="1683"/>
                </a:lnTo>
                <a:lnTo>
                  <a:pt x="1798" y="1684"/>
                </a:lnTo>
                <a:lnTo>
                  <a:pt x="1810" y="1688"/>
                </a:lnTo>
                <a:lnTo>
                  <a:pt x="1811" y="1688"/>
                </a:lnTo>
                <a:lnTo>
                  <a:pt x="1820" y="1685"/>
                </a:lnTo>
                <a:lnTo>
                  <a:pt x="1839" y="1678"/>
                </a:lnTo>
                <a:lnTo>
                  <a:pt x="1881" y="1675"/>
                </a:lnTo>
                <a:lnTo>
                  <a:pt x="1920" y="1685"/>
                </a:lnTo>
                <a:lnTo>
                  <a:pt x="1930" y="1688"/>
                </a:lnTo>
                <a:lnTo>
                  <a:pt x="1932" y="1687"/>
                </a:lnTo>
                <a:lnTo>
                  <a:pt x="1938" y="1681"/>
                </a:lnTo>
                <a:lnTo>
                  <a:pt x="1951" y="1672"/>
                </a:lnTo>
                <a:lnTo>
                  <a:pt x="1964" y="1662"/>
                </a:lnTo>
                <a:lnTo>
                  <a:pt x="1966" y="1659"/>
                </a:lnTo>
                <a:lnTo>
                  <a:pt x="1981" y="1667"/>
                </a:lnTo>
                <a:lnTo>
                  <a:pt x="2010" y="1680"/>
                </a:lnTo>
                <a:lnTo>
                  <a:pt x="2068" y="1697"/>
                </a:lnTo>
                <a:lnTo>
                  <a:pt x="2097" y="1696"/>
                </a:lnTo>
                <a:lnTo>
                  <a:pt x="2126" y="1683"/>
                </a:lnTo>
                <a:lnTo>
                  <a:pt x="2140" y="1669"/>
                </a:lnTo>
                <a:lnTo>
                  <a:pt x="2133" y="1661"/>
                </a:lnTo>
                <a:lnTo>
                  <a:pt x="2123" y="1648"/>
                </a:lnTo>
                <a:lnTo>
                  <a:pt x="2114" y="1635"/>
                </a:lnTo>
                <a:lnTo>
                  <a:pt x="2113" y="1632"/>
                </a:lnTo>
                <a:lnTo>
                  <a:pt x="2117" y="1632"/>
                </a:lnTo>
                <a:lnTo>
                  <a:pt x="2136" y="1627"/>
                </a:lnTo>
                <a:lnTo>
                  <a:pt x="2191" y="1613"/>
                </a:lnTo>
                <a:lnTo>
                  <a:pt x="2216" y="1604"/>
                </a:lnTo>
                <a:lnTo>
                  <a:pt x="2230" y="1598"/>
                </a:lnTo>
                <a:lnTo>
                  <a:pt x="2232" y="1596"/>
                </a:lnTo>
                <a:lnTo>
                  <a:pt x="2235" y="1596"/>
                </a:lnTo>
                <a:lnTo>
                  <a:pt x="2265" y="1596"/>
                </a:lnTo>
                <a:lnTo>
                  <a:pt x="2368" y="1591"/>
                </a:lnTo>
                <a:lnTo>
                  <a:pt x="2446" y="1588"/>
                </a:lnTo>
                <a:lnTo>
                  <a:pt x="2450" y="1587"/>
                </a:lnTo>
                <a:lnTo>
                  <a:pt x="2452" y="1585"/>
                </a:lnTo>
                <a:lnTo>
                  <a:pt x="2456" y="1585"/>
                </a:lnTo>
                <a:lnTo>
                  <a:pt x="2461" y="1585"/>
                </a:lnTo>
                <a:lnTo>
                  <a:pt x="2471" y="1585"/>
                </a:lnTo>
                <a:lnTo>
                  <a:pt x="2482" y="1588"/>
                </a:lnTo>
                <a:lnTo>
                  <a:pt x="2511" y="1598"/>
                </a:lnTo>
                <a:lnTo>
                  <a:pt x="2568" y="1627"/>
                </a:lnTo>
                <a:lnTo>
                  <a:pt x="2587" y="1642"/>
                </a:lnTo>
                <a:lnTo>
                  <a:pt x="2582" y="1669"/>
                </a:lnTo>
                <a:lnTo>
                  <a:pt x="2585" y="1696"/>
                </a:lnTo>
                <a:lnTo>
                  <a:pt x="2594" y="1722"/>
                </a:lnTo>
                <a:lnTo>
                  <a:pt x="2607" y="1745"/>
                </a:lnTo>
                <a:lnTo>
                  <a:pt x="2645" y="1790"/>
                </a:lnTo>
                <a:lnTo>
                  <a:pt x="2689" y="1827"/>
                </a:lnTo>
                <a:lnTo>
                  <a:pt x="2776" y="1881"/>
                </a:lnTo>
                <a:lnTo>
                  <a:pt x="2778" y="1881"/>
                </a:lnTo>
                <a:lnTo>
                  <a:pt x="2789" y="1851"/>
                </a:lnTo>
                <a:lnTo>
                  <a:pt x="2798" y="1794"/>
                </a:lnTo>
                <a:lnTo>
                  <a:pt x="2788" y="1742"/>
                </a:lnTo>
                <a:lnTo>
                  <a:pt x="2766" y="1694"/>
                </a:lnTo>
                <a:lnTo>
                  <a:pt x="2737" y="1646"/>
                </a:lnTo>
                <a:lnTo>
                  <a:pt x="2708" y="1596"/>
                </a:lnTo>
                <a:lnTo>
                  <a:pt x="2697" y="1568"/>
                </a:lnTo>
                <a:lnTo>
                  <a:pt x="2692" y="1558"/>
                </a:lnTo>
                <a:lnTo>
                  <a:pt x="2682" y="1532"/>
                </a:lnTo>
                <a:lnTo>
                  <a:pt x="2655" y="1462"/>
                </a:lnTo>
                <a:lnTo>
                  <a:pt x="2640" y="1397"/>
                </a:lnTo>
                <a:lnTo>
                  <a:pt x="2642" y="1384"/>
                </a:lnTo>
                <a:lnTo>
                  <a:pt x="2646" y="1380"/>
                </a:lnTo>
                <a:lnTo>
                  <a:pt x="2652" y="1372"/>
                </a:lnTo>
                <a:lnTo>
                  <a:pt x="2669" y="1354"/>
                </a:lnTo>
                <a:lnTo>
                  <a:pt x="2705" y="1316"/>
                </a:lnTo>
                <a:lnTo>
                  <a:pt x="2724" y="1301"/>
                </a:lnTo>
                <a:lnTo>
                  <a:pt x="2730" y="1287"/>
                </a:lnTo>
                <a:lnTo>
                  <a:pt x="2745" y="1259"/>
                </a:lnTo>
                <a:lnTo>
                  <a:pt x="2775" y="1216"/>
                </a:lnTo>
                <a:lnTo>
                  <a:pt x="2813" y="1175"/>
                </a:lnTo>
                <a:lnTo>
                  <a:pt x="2824" y="1164"/>
                </a:lnTo>
                <a:lnTo>
                  <a:pt x="2821" y="1157"/>
                </a:lnTo>
                <a:lnTo>
                  <a:pt x="2820" y="1152"/>
                </a:lnTo>
                <a:lnTo>
                  <a:pt x="2816" y="1143"/>
                </a:lnTo>
                <a:lnTo>
                  <a:pt x="2814" y="1136"/>
                </a:lnTo>
                <a:lnTo>
                  <a:pt x="2816" y="1135"/>
                </a:lnTo>
                <a:lnTo>
                  <a:pt x="2826" y="1125"/>
                </a:lnTo>
                <a:lnTo>
                  <a:pt x="2865" y="1086"/>
                </a:lnTo>
                <a:lnTo>
                  <a:pt x="2894" y="1057"/>
                </a:lnTo>
                <a:lnTo>
                  <a:pt x="2897" y="1054"/>
                </a:lnTo>
                <a:lnTo>
                  <a:pt x="2894" y="1046"/>
                </a:lnTo>
                <a:lnTo>
                  <a:pt x="2892" y="1029"/>
                </a:lnTo>
                <a:lnTo>
                  <a:pt x="2894" y="987"/>
                </a:lnTo>
                <a:lnTo>
                  <a:pt x="2895" y="944"/>
                </a:lnTo>
                <a:lnTo>
                  <a:pt x="2897" y="933"/>
                </a:lnTo>
                <a:lnTo>
                  <a:pt x="2894" y="932"/>
                </a:lnTo>
                <a:lnTo>
                  <a:pt x="2887" y="926"/>
                </a:lnTo>
                <a:lnTo>
                  <a:pt x="2863" y="906"/>
                </a:lnTo>
                <a:lnTo>
                  <a:pt x="2830" y="870"/>
                </a:lnTo>
                <a:lnTo>
                  <a:pt x="2821" y="857"/>
                </a:lnTo>
                <a:lnTo>
                  <a:pt x="2811" y="844"/>
                </a:lnTo>
                <a:lnTo>
                  <a:pt x="2800" y="819"/>
                </a:lnTo>
                <a:lnTo>
                  <a:pt x="2792" y="796"/>
                </a:lnTo>
                <a:lnTo>
                  <a:pt x="2791" y="775"/>
                </a:lnTo>
                <a:lnTo>
                  <a:pt x="2794" y="757"/>
                </a:lnTo>
                <a:lnTo>
                  <a:pt x="2798" y="739"/>
                </a:lnTo>
                <a:lnTo>
                  <a:pt x="2802" y="731"/>
                </a:lnTo>
                <a:lnTo>
                  <a:pt x="2805" y="742"/>
                </a:lnTo>
                <a:lnTo>
                  <a:pt x="2814" y="764"/>
                </a:lnTo>
                <a:lnTo>
                  <a:pt x="2837" y="809"/>
                </a:lnTo>
                <a:lnTo>
                  <a:pt x="2865" y="845"/>
                </a:lnTo>
                <a:lnTo>
                  <a:pt x="2872" y="849"/>
                </a:lnTo>
                <a:lnTo>
                  <a:pt x="2879" y="842"/>
                </a:lnTo>
                <a:lnTo>
                  <a:pt x="2884" y="832"/>
                </a:lnTo>
                <a:lnTo>
                  <a:pt x="2885" y="822"/>
                </a:lnTo>
                <a:lnTo>
                  <a:pt x="2884" y="810"/>
                </a:lnTo>
                <a:lnTo>
                  <a:pt x="2881" y="797"/>
                </a:lnTo>
                <a:lnTo>
                  <a:pt x="2869" y="770"/>
                </a:lnTo>
                <a:lnTo>
                  <a:pt x="2847" y="710"/>
                </a:lnTo>
                <a:lnTo>
                  <a:pt x="2846" y="694"/>
                </a:lnTo>
                <a:lnTo>
                  <a:pt x="2852" y="697"/>
                </a:lnTo>
                <a:lnTo>
                  <a:pt x="2858" y="699"/>
                </a:lnTo>
                <a:lnTo>
                  <a:pt x="2869" y="704"/>
                </a:lnTo>
                <a:lnTo>
                  <a:pt x="2891" y="717"/>
                </a:lnTo>
                <a:lnTo>
                  <a:pt x="2898" y="720"/>
                </a:lnTo>
                <a:lnTo>
                  <a:pt x="2897" y="693"/>
                </a:lnTo>
                <a:lnTo>
                  <a:pt x="2898" y="673"/>
                </a:lnTo>
                <a:lnTo>
                  <a:pt x="2902" y="660"/>
                </a:lnTo>
                <a:lnTo>
                  <a:pt x="2910" y="651"/>
                </a:lnTo>
                <a:lnTo>
                  <a:pt x="2917" y="646"/>
                </a:lnTo>
                <a:lnTo>
                  <a:pt x="2926" y="645"/>
                </a:lnTo>
                <a:lnTo>
                  <a:pt x="2933" y="645"/>
                </a:lnTo>
                <a:lnTo>
                  <a:pt x="2940" y="645"/>
                </a:lnTo>
                <a:lnTo>
                  <a:pt x="2944" y="646"/>
                </a:lnTo>
                <a:lnTo>
                  <a:pt x="2946" y="646"/>
                </a:lnTo>
                <a:lnTo>
                  <a:pt x="2947" y="645"/>
                </a:lnTo>
                <a:lnTo>
                  <a:pt x="2947" y="644"/>
                </a:lnTo>
                <a:lnTo>
                  <a:pt x="2946" y="642"/>
                </a:lnTo>
                <a:lnTo>
                  <a:pt x="2944" y="638"/>
                </a:lnTo>
                <a:lnTo>
                  <a:pt x="2942" y="633"/>
                </a:lnTo>
                <a:lnTo>
                  <a:pt x="2942" y="633"/>
                </a:lnTo>
                <a:lnTo>
                  <a:pt x="2934" y="625"/>
                </a:lnTo>
                <a:lnTo>
                  <a:pt x="2926" y="606"/>
                </a:lnTo>
                <a:lnTo>
                  <a:pt x="2923" y="590"/>
                </a:lnTo>
                <a:lnTo>
                  <a:pt x="2924" y="575"/>
                </a:lnTo>
                <a:lnTo>
                  <a:pt x="2926" y="562"/>
                </a:lnTo>
                <a:lnTo>
                  <a:pt x="2927" y="548"/>
                </a:lnTo>
                <a:lnTo>
                  <a:pt x="2929" y="541"/>
                </a:lnTo>
                <a:lnTo>
                  <a:pt x="2937" y="541"/>
                </a:lnTo>
                <a:lnTo>
                  <a:pt x="2946" y="541"/>
                </a:lnTo>
                <a:lnTo>
                  <a:pt x="2962" y="544"/>
                </a:lnTo>
                <a:lnTo>
                  <a:pt x="2978" y="548"/>
                </a:lnTo>
                <a:lnTo>
                  <a:pt x="2991" y="552"/>
                </a:lnTo>
                <a:lnTo>
                  <a:pt x="2998" y="552"/>
                </a:lnTo>
                <a:lnTo>
                  <a:pt x="3004" y="551"/>
                </a:lnTo>
                <a:lnTo>
                  <a:pt x="3008" y="546"/>
                </a:lnTo>
                <a:lnTo>
                  <a:pt x="3013" y="541"/>
                </a:lnTo>
                <a:lnTo>
                  <a:pt x="3014" y="541"/>
                </a:lnTo>
                <a:lnTo>
                  <a:pt x="3008" y="538"/>
                </a:lnTo>
                <a:lnTo>
                  <a:pt x="3007" y="533"/>
                </a:lnTo>
                <a:lnTo>
                  <a:pt x="3002" y="522"/>
                </a:lnTo>
                <a:lnTo>
                  <a:pt x="2994" y="496"/>
                </a:lnTo>
                <a:lnTo>
                  <a:pt x="2988" y="487"/>
                </a:lnTo>
                <a:lnTo>
                  <a:pt x="2997" y="484"/>
                </a:lnTo>
                <a:lnTo>
                  <a:pt x="3014" y="477"/>
                </a:lnTo>
                <a:lnTo>
                  <a:pt x="3047" y="467"/>
                </a:lnTo>
                <a:lnTo>
                  <a:pt x="3062" y="460"/>
                </a:lnTo>
                <a:lnTo>
                  <a:pt x="3073" y="447"/>
                </a:lnTo>
                <a:lnTo>
                  <a:pt x="3079" y="438"/>
                </a:lnTo>
                <a:lnTo>
                  <a:pt x="3078" y="433"/>
                </a:lnTo>
                <a:lnTo>
                  <a:pt x="3076" y="429"/>
                </a:lnTo>
                <a:lnTo>
                  <a:pt x="3072" y="423"/>
                </a:lnTo>
                <a:lnTo>
                  <a:pt x="3063" y="413"/>
                </a:lnTo>
                <a:lnTo>
                  <a:pt x="3062" y="409"/>
                </a:lnTo>
                <a:lnTo>
                  <a:pt x="3060" y="410"/>
                </a:lnTo>
                <a:lnTo>
                  <a:pt x="3050" y="419"/>
                </a:lnTo>
                <a:lnTo>
                  <a:pt x="3018" y="445"/>
                </a:lnTo>
                <a:lnTo>
                  <a:pt x="2994" y="467"/>
                </a:lnTo>
                <a:lnTo>
                  <a:pt x="2994" y="467"/>
                </a:lnTo>
                <a:lnTo>
                  <a:pt x="2992" y="447"/>
                </a:lnTo>
                <a:lnTo>
                  <a:pt x="2998" y="412"/>
                </a:lnTo>
                <a:lnTo>
                  <a:pt x="3011" y="383"/>
                </a:lnTo>
                <a:lnTo>
                  <a:pt x="3024" y="361"/>
                </a:lnTo>
                <a:lnTo>
                  <a:pt x="3033" y="345"/>
                </a:lnTo>
                <a:lnTo>
                  <a:pt x="3034" y="342"/>
                </a:lnTo>
                <a:lnTo>
                  <a:pt x="3034" y="339"/>
                </a:lnTo>
                <a:lnTo>
                  <a:pt x="3033" y="336"/>
                </a:lnTo>
                <a:lnTo>
                  <a:pt x="3031" y="335"/>
                </a:lnTo>
                <a:lnTo>
                  <a:pt x="3027" y="332"/>
                </a:lnTo>
                <a:lnTo>
                  <a:pt x="3024" y="331"/>
                </a:lnTo>
                <a:lnTo>
                  <a:pt x="3024" y="331"/>
                </a:lnTo>
                <a:lnTo>
                  <a:pt x="3015" y="329"/>
                </a:lnTo>
                <a:lnTo>
                  <a:pt x="3014" y="328"/>
                </a:lnTo>
                <a:lnTo>
                  <a:pt x="3013" y="326"/>
                </a:lnTo>
                <a:lnTo>
                  <a:pt x="3013" y="325"/>
                </a:lnTo>
                <a:lnTo>
                  <a:pt x="3014" y="323"/>
                </a:lnTo>
                <a:lnTo>
                  <a:pt x="3015" y="322"/>
                </a:lnTo>
                <a:lnTo>
                  <a:pt x="3021" y="319"/>
                </a:lnTo>
                <a:lnTo>
                  <a:pt x="3036" y="313"/>
                </a:lnTo>
                <a:lnTo>
                  <a:pt x="3052" y="306"/>
                </a:lnTo>
                <a:lnTo>
                  <a:pt x="3066" y="294"/>
                </a:lnTo>
                <a:lnTo>
                  <a:pt x="3071" y="287"/>
                </a:lnTo>
                <a:lnTo>
                  <a:pt x="3072" y="281"/>
                </a:lnTo>
                <a:lnTo>
                  <a:pt x="3071" y="276"/>
                </a:lnTo>
                <a:lnTo>
                  <a:pt x="3068" y="271"/>
                </a:lnTo>
                <a:lnTo>
                  <a:pt x="3063" y="267"/>
                </a:lnTo>
                <a:lnTo>
                  <a:pt x="3057" y="264"/>
                </a:lnTo>
                <a:lnTo>
                  <a:pt x="3046" y="258"/>
                </a:lnTo>
                <a:lnTo>
                  <a:pt x="3039" y="254"/>
                </a:lnTo>
                <a:lnTo>
                  <a:pt x="3039" y="248"/>
                </a:lnTo>
                <a:lnTo>
                  <a:pt x="3044" y="244"/>
                </a:lnTo>
                <a:lnTo>
                  <a:pt x="3050" y="241"/>
                </a:lnTo>
                <a:lnTo>
                  <a:pt x="3066" y="229"/>
                </a:lnTo>
                <a:lnTo>
                  <a:pt x="3101" y="199"/>
                </a:lnTo>
                <a:lnTo>
                  <a:pt x="3131" y="168"/>
                </a:lnTo>
                <a:lnTo>
                  <a:pt x="3137" y="161"/>
                </a:lnTo>
                <a:lnTo>
                  <a:pt x="3128" y="157"/>
                </a:lnTo>
                <a:lnTo>
                  <a:pt x="3111" y="145"/>
                </a:lnTo>
                <a:lnTo>
                  <a:pt x="3082" y="123"/>
                </a:lnTo>
                <a:lnTo>
                  <a:pt x="3056" y="94"/>
                </a:lnTo>
                <a:lnTo>
                  <a:pt x="3050" y="84"/>
                </a:lnTo>
                <a:lnTo>
                  <a:pt x="3047" y="71"/>
                </a:lnTo>
                <a:lnTo>
                  <a:pt x="3043" y="32"/>
                </a:lnTo>
                <a:lnTo>
                  <a:pt x="3039" y="3"/>
                </a:lnTo>
                <a:lnTo>
                  <a:pt x="3039" y="0"/>
                </a:lnTo>
                <a:lnTo>
                  <a:pt x="3036" y="2"/>
                </a:lnTo>
                <a:lnTo>
                  <a:pt x="3026" y="3"/>
                </a:lnTo>
                <a:lnTo>
                  <a:pt x="2988" y="7"/>
                </a:lnTo>
                <a:lnTo>
                  <a:pt x="2959" y="10"/>
                </a:lnTo>
                <a:lnTo>
                  <a:pt x="2958" y="10"/>
                </a:lnTo>
                <a:lnTo>
                  <a:pt x="2955" y="25"/>
                </a:lnTo>
                <a:lnTo>
                  <a:pt x="2950" y="52"/>
                </a:lnTo>
                <a:lnTo>
                  <a:pt x="2942" y="113"/>
                </a:lnTo>
                <a:lnTo>
                  <a:pt x="2927" y="177"/>
                </a:lnTo>
                <a:lnTo>
                  <a:pt x="2921" y="191"/>
                </a:lnTo>
                <a:lnTo>
                  <a:pt x="2920" y="193"/>
                </a:lnTo>
                <a:lnTo>
                  <a:pt x="2915" y="194"/>
                </a:lnTo>
                <a:lnTo>
                  <a:pt x="2913" y="196"/>
                </a:lnTo>
                <a:lnTo>
                  <a:pt x="2913" y="196"/>
                </a:lnTo>
                <a:lnTo>
                  <a:pt x="2911" y="197"/>
                </a:lnTo>
                <a:lnTo>
                  <a:pt x="2911" y="199"/>
                </a:lnTo>
                <a:lnTo>
                  <a:pt x="2910" y="205"/>
                </a:lnTo>
                <a:lnTo>
                  <a:pt x="2898" y="219"/>
                </a:lnTo>
                <a:lnTo>
                  <a:pt x="2869" y="231"/>
                </a:lnTo>
                <a:lnTo>
                  <a:pt x="2858" y="232"/>
                </a:lnTo>
                <a:lnTo>
                  <a:pt x="2839" y="234"/>
                </a:lnTo>
                <a:lnTo>
                  <a:pt x="2805" y="235"/>
                </a:lnTo>
                <a:lnTo>
                  <a:pt x="2772" y="239"/>
                </a:lnTo>
                <a:lnTo>
                  <a:pt x="2763" y="241"/>
                </a:lnTo>
                <a:lnTo>
                  <a:pt x="2760" y="245"/>
                </a:lnTo>
                <a:lnTo>
                  <a:pt x="2747" y="267"/>
                </a:lnTo>
                <a:lnTo>
                  <a:pt x="2704" y="339"/>
                </a:lnTo>
                <a:lnTo>
                  <a:pt x="2671" y="396"/>
                </a:lnTo>
                <a:lnTo>
                  <a:pt x="2669" y="399"/>
                </a:lnTo>
                <a:lnTo>
                  <a:pt x="2665" y="412"/>
                </a:lnTo>
                <a:lnTo>
                  <a:pt x="2658" y="432"/>
                </a:lnTo>
                <a:lnTo>
                  <a:pt x="2636" y="464"/>
                </a:lnTo>
                <a:lnTo>
                  <a:pt x="2592" y="493"/>
                </a:lnTo>
                <a:lnTo>
                  <a:pt x="2576" y="500"/>
                </a:lnTo>
                <a:lnTo>
                  <a:pt x="2575" y="502"/>
                </a:lnTo>
                <a:lnTo>
                  <a:pt x="2574" y="506"/>
                </a:lnTo>
                <a:lnTo>
                  <a:pt x="2566" y="522"/>
                </a:lnTo>
                <a:lnTo>
                  <a:pt x="2562" y="533"/>
                </a:lnTo>
                <a:lnTo>
                  <a:pt x="2562" y="533"/>
                </a:lnTo>
                <a:lnTo>
                  <a:pt x="2561" y="538"/>
                </a:lnTo>
                <a:lnTo>
                  <a:pt x="2561" y="542"/>
                </a:lnTo>
                <a:lnTo>
                  <a:pt x="2561" y="552"/>
                </a:lnTo>
                <a:lnTo>
                  <a:pt x="2561" y="573"/>
                </a:lnTo>
                <a:lnTo>
                  <a:pt x="2552" y="584"/>
                </a:lnTo>
                <a:lnTo>
                  <a:pt x="2542" y="589"/>
                </a:lnTo>
                <a:lnTo>
                  <a:pt x="2532" y="594"/>
                </a:lnTo>
                <a:lnTo>
                  <a:pt x="2503" y="613"/>
                </a:lnTo>
                <a:lnTo>
                  <a:pt x="2437" y="660"/>
                </a:lnTo>
                <a:lnTo>
                  <a:pt x="2390" y="697"/>
                </a:lnTo>
                <a:lnTo>
                  <a:pt x="2390" y="691"/>
                </a:lnTo>
                <a:lnTo>
                  <a:pt x="2391" y="671"/>
                </a:lnTo>
                <a:lnTo>
                  <a:pt x="2391" y="655"/>
                </a:lnTo>
                <a:lnTo>
                  <a:pt x="2392" y="654"/>
                </a:lnTo>
                <a:lnTo>
                  <a:pt x="2391" y="645"/>
                </a:lnTo>
                <a:lnTo>
                  <a:pt x="2391" y="626"/>
                </a:lnTo>
                <a:lnTo>
                  <a:pt x="2390" y="589"/>
                </a:lnTo>
                <a:lnTo>
                  <a:pt x="2392" y="573"/>
                </a:lnTo>
                <a:lnTo>
                  <a:pt x="2398" y="560"/>
                </a:lnTo>
                <a:lnTo>
                  <a:pt x="2404" y="554"/>
                </a:lnTo>
                <a:lnTo>
                  <a:pt x="2397" y="545"/>
                </a:lnTo>
                <a:lnTo>
                  <a:pt x="2375" y="519"/>
                </a:lnTo>
                <a:lnTo>
                  <a:pt x="2358" y="499"/>
                </a:lnTo>
                <a:lnTo>
                  <a:pt x="2358" y="497"/>
                </a:lnTo>
                <a:lnTo>
                  <a:pt x="2348" y="496"/>
                </a:lnTo>
                <a:lnTo>
                  <a:pt x="2342" y="496"/>
                </a:lnTo>
                <a:lnTo>
                  <a:pt x="2339" y="499"/>
                </a:lnTo>
                <a:lnTo>
                  <a:pt x="2339" y="500"/>
                </a:lnTo>
                <a:lnTo>
                  <a:pt x="2340" y="504"/>
                </a:lnTo>
                <a:lnTo>
                  <a:pt x="2343" y="513"/>
                </a:lnTo>
                <a:lnTo>
                  <a:pt x="2343" y="518"/>
                </a:lnTo>
                <a:lnTo>
                  <a:pt x="2340" y="523"/>
                </a:lnTo>
                <a:lnTo>
                  <a:pt x="2336" y="531"/>
                </a:lnTo>
                <a:lnTo>
                  <a:pt x="2329" y="536"/>
                </a:lnTo>
                <a:lnTo>
                  <a:pt x="2329" y="536"/>
                </a:lnTo>
                <a:lnTo>
                  <a:pt x="2321" y="538"/>
                </a:lnTo>
                <a:lnTo>
                  <a:pt x="2311" y="538"/>
                </a:lnTo>
                <a:lnTo>
                  <a:pt x="2307" y="539"/>
                </a:lnTo>
                <a:lnTo>
                  <a:pt x="2301" y="538"/>
                </a:lnTo>
                <a:lnTo>
                  <a:pt x="2297" y="533"/>
                </a:lnTo>
                <a:lnTo>
                  <a:pt x="2287" y="525"/>
                </a:lnTo>
                <a:lnTo>
                  <a:pt x="2281" y="518"/>
                </a:lnTo>
                <a:lnTo>
                  <a:pt x="2284" y="512"/>
                </a:lnTo>
                <a:lnTo>
                  <a:pt x="2291" y="494"/>
                </a:lnTo>
                <a:lnTo>
                  <a:pt x="2307" y="451"/>
                </a:lnTo>
                <a:lnTo>
                  <a:pt x="2313" y="409"/>
                </a:lnTo>
                <a:lnTo>
                  <a:pt x="2311" y="400"/>
                </a:lnTo>
                <a:lnTo>
                  <a:pt x="2303" y="396"/>
                </a:lnTo>
                <a:lnTo>
                  <a:pt x="2287" y="389"/>
                </a:lnTo>
                <a:lnTo>
                  <a:pt x="2256" y="383"/>
                </a:lnTo>
                <a:lnTo>
                  <a:pt x="2243" y="384"/>
                </a:lnTo>
                <a:lnTo>
                  <a:pt x="2232" y="390"/>
                </a:lnTo>
                <a:lnTo>
                  <a:pt x="2227" y="393"/>
                </a:lnTo>
                <a:lnTo>
                  <a:pt x="2226" y="394"/>
                </a:lnTo>
                <a:lnTo>
                  <a:pt x="2221" y="404"/>
                </a:lnTo>
                <a:lnTo>
                  <a:pt x="2206" y="438"/>
                </a:lnTo>
                <a:lnTo>
                  <a:pt x="2193" y="464"/>
                </a:lnTo>
                <a:lnTo>
                  <a:pt x="2193" y="464"/>
                </a:lnTo>
                <a:lnTo>
                  <a:pt x="2194" y="467"/>
                </a:lnTo>
                <a:lnTo>
                  <a:pt x="2194" y="468"/>
                </a:lnTo>
                <a:lnTo>
                  <a:pt x="2191" y="470"/>
                </a:lnTo>
                <a:lnTo>
                  <a:pt x="2187" y="470"/>
                </a:lnTo>
                <a:lnTo>
                  <a:pt x="2182" y="470"/>
                </a:lnTo>
                <a:lnTo>
                  <a:pt x="2172" y="468"/>
                </a:lnTo>
                <a:lnTo>
                  <a:pt x="2158" y="464"/>
                </a:lnTo>
                <a:lnTo>
                  <a:pt x="2159" y="464"/>
                </a:lnTo>
                <a:lnTo>
                  <a:pt x="2158" y="468"/>
                </a:lnTo>
                <a:lnTo>
                  <a:pt x="2158" y="480"/>
                </a:lnTo>
                <a:lnTo>
                  <a:pt x="2153" y="507"/>
                </a:lnTo>
                <a:lnTo>
                  <a:pt x="2148" y="528"/>
                </a:lnTo>
                <a:lnTo>
                  <a:pt x="2146" y="529"/>
                </a:lnTo>
                <a:lnTo>
                  <a:pt x="2145" y="532"/>
                </a:lnTo>
                <a:lnTo>
                  <a:pt x="2148" y="539"/>
                </a:lnTo>
                <a:lnTo>
                  <a:pt x="2151" y="548"/>
                </a:lnTo>
                <a:lnTo>
                  <a:pt x="2162" y="574"/>
                </a:lnTo>
                <a:lnTo>
                  <a:pt x="2185" y="631"/>
                </a:lnTo>
                <a:lnTo>
                  <a:pt x="2191" y="648"/>
                </a:lnTo>
                <a:lnTo>
                  <a:pt x="2187" y="655"/>
                </a:lnTo>
                <a:lnTo>
                  <a:pt x="2178" y="668"/>
                </a:lnTo>
                <a:lnTo>
                  <a:pt x="2158" y="691"/>
                </a:lnTo>
                <a:lnTo>
                  <a:pt x="2146" y="700"/>
                </a:lnTo>
                <a:lnTo>
                  <a:pt x="2135" y="704"/>
                </a:lnTo>
                <a:lnTo>
                  <a:pt x="2129" y="704"/>
                </a:lnTo>
                <a:lnTo>
                  <a:pt x="2122" y="704"/>
                </a:lnTo>
                <a:lnTo>
                  <a:pt x="2116" y="704"/>
                </a:lnTo>
                <a:lnTo>
                  <a:pt x="2111" y="702"/>
                </a:lnTo>
                <a:lnTo>
                  <a:pt x="2107" y="697"/>
                </a:lnTo>
                <a:lnTo>
                  <a:pt x="2104" y="693"/>
                </a:lnTo>
                <a:lnTo>
                  <a:pt x="2101" y="688"/>
                </a:lnTo>
                <a:lnTo>
                  <a:pt x="2098" y="677"/>
                </a:lnTo>
                <a:lnTo>
                  <a:pt x="2091" y="654"/>
                </a:lnTo>
                <a:lnTo>
                  <a:pt x="2091" y="654"/>
                </a:lnTo>
                <a:lnTo>
                  <a:pt x="2088" y="648"/>
                </a:lnTo>
                <a:lnTo>
                  <a:pt x="2087" y="636"/>
                </a:lnTo>
                <a:lnTo>
                  <a:pt x="2087" y="607"/>
                </a:lnTo>
                <a:lnTo>
                  <a:pt x="2090" y="536"/>
                </a:lnTo>
                <a:lnTo>
                  <a:pt x="2098" y="483"/>
                </a:lnTo>
                <a:lnTo>
                  <a:pt x="2098" y="478"/>
                </a:lnTo>
                <a:lnTo>
                  <a:pt x="2095" y="475"/>
                </a:lnTo>
                <a:lnTo>
                  <a:pt x="2093" y="475"/>
                </a:lnTo>
                <a:lnTo>
                  <a:pt x="2087" y="478"/>
                </a:lnTo>
                <a:lnTo>
                  <a:pt x="2081" y="481"/>
                </a:lnTo>
                <a:lnTo>
                  <a:pt x="2066" y="490"/>
                </a:lnTo>
                <a:lnTo>
                  <a:pt x="2053" y="496"/>
                </a:lnTo>
                <a:lnTo>
                  <a:pt x="2048" y="493"/>
                </a:lnTo>
                <a:lnTo>
                  <a:pt x="2048" y="486"/>
                </a:lnTo>
                <a:lnTo>
                  <a:pt x="2049" y="478"/>
                </a:lnTo>
                <a:lnTo>
                  <a:pt x="2055" y="462"/>
                </a:lnTo>
                <a:lnTo>
                  <a:pt x="2065" y="447"/>
                </a:lnTo>
                <a:lnTo>
                  <a:pt x="2084" y="416"/>
                </a:lnTo>
                <a:lnTo>
                  <a:pt x="2091" y="399"/>
                </a:lnTo>
                <a:lnTo>
                  <a:pt x="2116" y="389"/>
                </a:lnTo>
                <a:lnTo>
                  <a:pt x="2191" y="357"/>
                </a:lnTo>
                <a:lnTo>
                  <a:pt x="2249" y="332"/>
                </a:lnTo>
                <a:lnTo>
                  <a:pt x="2253" y="331"/>
                </a:lnTo>
                <a:lnTo>
                  <a:pt x="2256" y="329"/>
                </a:lnTo>
                <a:lnTo>
                  <a:pt x="2256" y="328"/>
                </a:lnTo>
                <a:lnTo>
                  <a:pt x="2255" y="325"/>
                </a:lnTo>
                <a:lnTo>
                  <a:pt x="2250" y="322"/>
                </a:lnTo>
                <a:lnTo>
                  <a:pt x="2243" y="319"/>
                </a:lnTo>
                <a:lnTo>
                  <a:pt x="2227" y="312"/>
                </a:lnTo>
                <a:lnTo>
                  <a:pt x="2191" y="296"/>
                </a:lnTo>
                <a:lnTo>
                  <a:pt x="2185" y="290"/>
                </a:lnTo>
                <a:lnTo>
                  <a:pt x="2190" y="291"/>
                </a:lnTo>
                <a:lnTo>
                  <a:pt x="2188" y="294"/>
                </a:lnTo>
                <a:lnTo>
                  <a:pt x="2182" y="299"/>
                </a:lnTo>
                <a:lnTo>
                  <a:pt x="2174" y="305"/>
                </a:lnTo>
                <a:lnTo>
                  <a:pt x="2149" y="316"/>
                </a:lnTo>
                <a:lnTo>
                  <a:pt x="2108" y="335"/>
                </a:lnTo>
                <a:lnTo>
                  <a:pt x="2113" y="335"/>
                </a:lnTo>
                <a:lnTo>
                  <a:pt x="2100" y="335"/>
                </a:lnTo>
                <a:lnTo>
                  <a:pt x="2085" y="335"/>
                </a:lnTo>
                <a:lnTo>
                  <a:pt x="2081" y="335"/>
                </a:lnTo>
                <a:lnTo>
                  <a:pt x="2077" y="332"/>
                </a:lnTo>
                <a:lnTo>
                  <a:pt x="2075" y="331"/>
                </a:lnTo>
                <a:lnTo>
                  <a:pt x="2071" y="325"/>
                </a:lnTo>
                <a:lnTo>
                  <a:pt x="2058" y="316"/>
                </a:lnTo>
                <a:lnTo>
                  <a:pt x="2048" y="310"/>
                </a:lnTo>
                <a:lnTo>
                  <a:pt x="2045" y="312"/>
                </a:lnTo>
                <a:lnTo>
                  <a:pt x="2043" y="315"/>
                </a:lnTo>
                <a:lnTo>
                  <a:pt x="2039" y="322"/>
                </a:lnTo>
                <a:lnTo>
                  <a:pt x="2029" y="329"/>
                </a:lnTo>
                <a:lnTo>
                  <a:pt x="2013" y="335"/>
                </a:lnTo>
                <a:lnTo>
                  <a:pt x="2004" y="335"/>
                </a:lnTo>
                <a:lnTo>
                  <a:pt x="2006" y="328"/>
                </a:lnTo>
                <a:lnTo>
                  <a:pt x="2013" y="305"/>
                </a:lnTo>
                <a:lnTo>
                  <a:pt x="2017" y="286"/>
                </a:lnTo>
                <a:lnTo>
                  <a:pt x="2019" y="284"/>
                </a:lnTo>
                <a:lnTo>
                  <a:pt x="2006" y="296"/>
                </a:lnTo>
                <a:lnTo>
                  <a:pt x="1987" y="315"/>
                </a:lnTo>
                <a:lnTo>
                  <a:pt x="1951" y="339"/>
                </a:lnTo>
                <a:lnTo>
                  <a:pt x="1910" y="358"/>
                </a:lnTo>
                <a:lnTo>
                  <a:pt x="1897" y="364"/>
                </a:lnTo>
                <a:lnTo>
                  <a:pt x="1898" y="349"/>
                </a:lnTo>
                <a:lnTo>
                  <a:pt x="1900" y="332"/>
                </a:lnTo>
                <a:lnTo>
                  <a:pt x="1901" y="323"/>
                </a:lnTo>
                <a:lnTo>
                  <a:pt x="1903" y="323"/>
                </a:lnTo>
                <a:lnTo>
                  <a:pt x="1906" y="325"/>
                </a:lnTo>
                <a:lnTo>
                  <a:pt x="1907" y="326"/>
                </a:lnTo>
                <a:lnTo>
                  <a:pt x="1910" y="328"/>
                </a:lnTo>
                <a:lnTo>
                  <a:pt x="1914" y="328"/>
                </a:lnTo>
                <a:lnTo>
                  <a:pt x="1917" y="326"/>
                </a:lnTo>
                <a:lnTo>
                  <a:pt x="1907" y="331"/>
                </a:lnTo>
                <a:lnTo>
                  <a:pt x="1893" y="336"/>
                </a:lnTo>
                <a:lnTo>
                  <a:pt x="1872" y="339"/>
                </a:lnTo>
                <a:lnTo>
                  <a:pt x="1845" y="339"/>
                </a:lnTo>
                <a:lnTo>
                  <a:pt x="1835" y="338"/>
                </a:lnTo>
                <a:lnTo>
                  <a:pt x="1839" y="329"/>
                </a:lnTo>
                <a:lnTo>
                  <a:pt x="1853" y="310"/>
                </a:lnTo>
                <a:lnTo>
                  <a:pt x="1872" y="291"/>
                </a:lnTo>
                <a:lnTo>
                  <a:pt x="1916" y="258"/>
                </a:lnTo>
                <a:lnTo>
                  <a:pt x="1951" y="236"/>
                </a:lnTo>
                <a:lnTo>
                  <a:pt x="1948" y="238"/>
                </a:lnTo>
                <a:lnTo>
                  <a:pt x="1933" y="239"/>
                </a:lnTo>
                <a:lnTo>
                  <a:pt x="1881" y="244"/>
                </a:lnTo>
                <a:lnTo>
                  <a:pt x="1842" y="248"/>
                </a:lnTo>
                <a:lnTo>
                  <a:pt x="1840" y="248"/>
                </a:lnTo>
                <a:lnTo>
                  <a:pt x="1836" y="248"/>
                </a:lnTo>
                <a:lnTo>
                  <a:pt x="1817" y="244"/>
                </a:lnTo>
                <a:lnTo>
                  <a:pt x="1748" y="228"/>
                </a:lnTo>
                <a:lnTo>
                  <a:pt x="1696" y="216"/>
                </a:lnTo>
                <a:lnTo>
                  <a:pt x="1693" y="215"/>
                </a:lnTo>
                <a:lnTo>
                  <a:pt x="1691" y="206"/>
                </a:lnTo>
                <a:lnTo>
                  <a:pt x="1690" y="180"/>
                </a:lnTo>
                <a:lnTo>
                  <a:pt x="1688" y="160"/>
                </a:lnTo>
                <a:lnTo>
                  <a:pt x="1688" y="158"/>
                </a:lnTo>
                <a:lnTo>
                  <a:pt x="1687" y="158"/>
                </a:lnTo>
                <a:lnTo>
                  <a:pt x="1680" y="158"/>
                </a:lnTo>
                <a:lnTo>
                  <a:pt x="1656" y="158"/>
                </a:lnTo>
                <a:lnTo>
                  <a:pt x="1639" y="158"/>
                </a:lnTo>
                <a:lnTo>
                  <a:pt x="1639" y="157"/>
                </a:lnTo>
                <a:lnTo>
                  <a:pt x="1636" y="164"/>
                </a:lnTo>
                <a:lnTo>
                  <a:pt x="1632" y="186"/>
                </a:lnTo>
                <a:lnTo>
                  <a:pt x="1629" y="203"/>
                </a:lnTo>
                <a:lnTo>
                  <a:pt x="1629" y="203"/>
                </a:lnTo>
                <a:lnTo>
                  <a:pt x="1619" y="205"/>
                </a:lnTo>
                <a:lnTo>
                  <a:pt x="1552" y="205"/>
                </a:lnTo>
                <a:lnTo>
                  <a:pt x="1325" y="209"/>
                </a:lnTo>
                <a:lnTo>
                  <a:pt x="1151" y="210"/>
                </a:lnTo>
                <a:lnTo>
                  <a:pt x="1142" y="210"/>
                </a:lnTo>
                <a:lnTo>
                  <a:pt x="1125" y="209"/>
                </a:lnTo>
                <a:lnTo>
                  <a:pt x="1007" y="189"/>
                </a:lnTo>
                <a:lnTo>
                  <a:pt x="607" y="120"/>
                </a:lnTo>
                <a:lnTo>
                  <a:pt x="303" y="68"/>
                </a:lnTo>
                <a:lnTo>
                  <a:pt x="287" y="65"/>
                </a:lnTo>
                <a:lnTo>
                  <a:pt x="290" y="74"/>
                </a:lnTo>
                <a:lnTo>
                  <a:pt x="295" y="91"/>
                </a:lnTo>
                <a:lnTo>
                  <a:pt x="296" y="106"/>
                </a:lnTo>
                <a:lnTo>
                  <a:pt x="295" y="120"/>
                </a:lnTo>
                <a:lnTo>
                  <a:pt x="293" y="147"/>
                </a:lnTo>
                <a:lnTo>
                  <a:pt x="296" y="151"/>
                </a:lnTo>
                <a:lnTo>
                  <a:pt x="296" y="157"/>
                </a:lnTo>
                <a:lnTo>
                  <a:pt x="293" y="161"/>
                </a:lnTo>
                <a:lnTo>
                  <a:pt x="289" y="165"/>
                </a:lnTo>
                <a:lnTo>
                  <a:pt x="282" y="170"/>
                </a:lnTo>
                <a:lnTo>
                  <a:pt x="264" y="177"/>
                </a:lnTo>
                <a:lnTo>
                  <a:pt x="234" y="187"/>
                </a:lnTo>
                <a:lnTo>
                  <a:pt x="231" y="189"/>
                </a:lnTo>
                <a:lnTo>
                  <a:pt x="229" y="186"/>
                </a:lnTo>
                <a:lnTo>
                  <a:pt x="231" y="181"/>
                </a:lnTo>
                <a:lnTo>
                  <a:pt x="234" y="177"/>
                </a:lnTo>
                <a:lnTo>
                  <a:pt x="238" y="173"/>
                </a:lnTo>
                <a:lnTo>
                  <a:pt x="247" y="161"/>
                </a:lnTo>
                <a:lnTo>
                  <a:pt x="255" y="149"/>
                </a:lnTo>
                <a:lnTo>
                  <a:pt x="258" y="135"/>
                </a:lnTo>
                <a:lnTo>
                  <a:pt x="257" y="126"/>
                </a:lnTo>
                <a:lnTo>
                  <a:pt x="254" y="118"/>
                </a:lnTo>
                <a:lnTo>
                  <a:pt x="254" y="118"/>
                </a:lnTo>
                <a:lnTo>
                  <a:pt x="247" y="109"/>
                </a:lnTo>
                <a:lnTo>
                  <a:pt x="231" y="93"/>
                </a:lnTo>
                <a:lnTo>
                  <a:pt x="212" y="78"/>
                </a:lnTo>
                <a:lnTo>
                  <a:pt x="193" y="68"/>
                </a:lnTo>
                <a:lnTo>
                  <a:pt x="176" y="63"/>
                </a:lnTo>
                <a:lnTo>
                  <a:pt x="170" y="63"/>
                </a:lnTo>
                <a:lnTo>
                  <a:pt x="167" y="63"/>
                </a:lnTo>
                <a:lnTo>
                  <a:pt x="166" y="64"/>
                </a:lnTo>
                <a:lnTo>
                  <a:pt x="164" y="65"/>
                </a:lnTo>
                <a:lnTo>
                  <a:pt x="164" y="67"/>
                </a:lnTo>
                <a:lnTo>
                  <a:pt x="164" y="67"/>
                </a:lnTo>
                <a:lnTo>
                  <a:pt x="161" y="78"/>
                </a:lnTo>
                <a:lnTo>
                  <a:pt x="158" y="109"/>
                </a:lnTo>
                <a:lnTo>
                  <a:pt x="155" y="191"/>
                </a:lnTo>
                <a:lnTo>
                  <a:pt x="155" y="265"/>
                </a:lnTo>
                <a:lnTo>
                  <a:pt x="155" y="277"/>
                </a:lnTo>
                <a:lnTo>
                  <a:pt x="154" y="299"/>
                </a:lnTo>
                <a:lnTo>
                  <a:pt x="145" y="341"/>
                </a:lnTo>
                <a:lnTo>
                  <a:pt x="129" y="381"/>
                </a:lnTo>
                <a:lnTo>
                  <a:pt x="80" y="458"/>
                </a:lnTo>
                <a:lnTo>
                  <a:pt x="34" y="510"/>
                </a:lnTo>
                <a:lnTo>
                  <a:pt x="42" y="523"/>
                </a:lnTo>
                <a:lnTo>
                  <a:pt x="48" y="535"/>
                </a:lnTo>
                <a:lnTo>
                  <a:pt x="50" y="549"/>
                </a:lnTo>
                <a:lnTo>
                  <a:pt x="50" y="562"/>
                </a:lnTo>
                <a:lnTo>
                  <a:pt x="47" y="575"/>
                </a:lnTo>
                <a:lnTo>
                  <a:pt x="37" y="603"/>
                </a:lnTo>
                <a:lnTo>
                  <a:pt x="22" y="631"/>
                </a:lnTo>
                <a:lnTo>
                  <a:pt x="9" y="655"/>
                </a:lnTo>
                <a:lnTo>
                  <a:pt x="5" y="667"/>
                </a:lnTo>
                <a:lnTo>
                  <a:pt x="0" y="667"/>
                </a:lnTo>
                <a:lnTo>
                  <a:pt x="0" y="671"/>
                </a:lnTo>
                <a:lnTo>
                  <a:pt x="0" y="675"/>
                </a:lnTo>
                <a:lnTo>
                  <a:pt x="5" y="691"/>
                </a:lnTo>
                <a:lnTo>
                  <a:pt x="16" y="738"/>
                </a:lnTo>
                <a:lnTo>
                  <a:pt x="48" y="835"/>
                </a:lnTo>
                <a:lnTo>
                  <a:pt x="60" y="851"/>
                </a:lnTo>
                <a:lnTo>
                  <a:pt x="58" y="857"/>
                </a:lnTo>
                <a:lnTo>
                  <a:pt x="58" y="868"/>
                </a:lnTo>
                <a:lnTo>
                  <a:pt x="54" y="896"/>
                </a:lnTo>
                <a:lnTo>
                  <a:pt x="51" y="920"/>
                </a:lnTo>
                <a:lnTo>
                  <a:pt x="51" y="925"/>
                </a:lnTo>
                <a:lnTo>
                  <a:pt x="57" y="932"/>
                </a:lnTo>
                <a:lnTo>
                  <a:pt x="70" y="946"/>
                </a:lnTo>
                <a:lnTo>
                  <a:pt x="80" y="961"/>
                </a:lnTo>
                <a:lnTo>
                  <a:pt x="86" y="975"/>
                </a:lnTo>
                <a:lnTo>
                  <a:pt x="84" y="991"/>
                </a:lnTo>
                <a:lnTo>
                  <a:pt x="76" y="1007"/>
                </a:lnTo>
                <a:lnTo>
                  <a:pt x="69" y="1016"/>
                </a:lnTo>
                <a:lnTo>
                  <a:pt x="77" y="1026"/>
                </a:lnTo>
                <a:lnTo>
                  <a:pt x="93" y="1045"/>
                </a:lnTo>
                <a:lnTo>
                  <a:pt x="118" y="1086"/>
                </a:lnTo>
                <a:lnTo>
                  <a:pt x="125" y="1132"/>
                </a:lnTo>
                <a:lnTo>
                  <a:pt x="124" y="1145"/>
                </a:lnTo>
                <a:lnTo>
                  <a:pt x="124" y="1148"/>
                </a:lnTo>
                <a:lnTo>
                  <a:pt x="125" y="1154"/>
                </a:lnTo>
                <a:lnTo>
                  <a:pt x="128" y="1159"/>
                </a:lnTo>
                <a:lnTo>
                  <a:pt x="135" y="1170"/>
                </a:lnTo>
                <a:lnTo>
                  <a:pt x="142" y="1172"/>
                </a:lnTo>
                <a:lnTo>
                  <a:pt x="158" y="1183"/>
                </a:lnTo>
                <a:lnTo>
                  <a:pt x="199" y="1209"/>
                </a:lnTo>
                <a:lnTo>
                  <a:pt x="279" y="1280"/>
                </a:lnTo>
                <a:lnTo>
                  <a:pt x="305" y="1317"/>
                </a:lnTo>
                <a:lnTo>
                  <a:pt x="312" y="1335"/>
                </a:lnTo>
                <a:lnTo>
                  <a:pt x="313" y="1352"/>
                </a:lnTo>
                <a:lnTo>
                  <a:pt x="310" y="1367"/>
                </a:lnTo>
                <a:lnTo>
                  <a:pt x="310" y="1367"/>
                </a:lnTo>
                <a:lnTo>
                  <a:pt x="313" y="1367"/>
                </a:lnTo>
                <a:lnTo>
                  <a:pt x="335" y="1367"/>
                </a:lnTo>
                <a:lnTo>
                  <a:pt x="410" y="1367"/>
                </a:lnTo>
                <a:lnTo>
                  <a:pt x="468" y="1367"/>
                </a:lnTo>
                <a:lnTo>
                  <a:pt x="473" y="1365"/>
                </a:lnTo>
                <a:lnTo>
                  <a:pt x="480" y="1374"/>
                </a:lnTo>
                <a:lnTo>
                  <a:pt x="506" y="1397"/>
                </a:lnTo>
                <a:lnTo>
                  <a:pt x="526" y="1416"/>
                </a:lnTo>
                <a:lnTo>
                  <a:pt x="528" y="1416"/>
                </a:lnTo>
                <a:lnTo>
                  <a:pt x="534" y="1419"/>
                </a:lnTo>
                <a:lnTo>
                  <a:pt x="554" y="1427"/>
                </a:lnTo>
                <a:lnTo>
                  <a:pt x="570" y="1433"/>
                </a:lnTo>
                <a:lnTo>
                  <a:pt x="571" y="1433"/>
                </a:lnTo>
                <a:lnTo>
                  <a:pt x="583" y="1441"/>
                </a:lnTo>
                <a:lnTo>
                  <a:pt x="612" y="1461"/>
                </a:lnTo>
                <a:lnTo>
                  <a:pt x="678" y="1510"/>
                </a:lnTo>
                <a:lnTo>
                  <a:pt x="744" y="1545"/>
                </a:lnTo>
                <a:lnTo>
                  <a:pt x="758" y="1546"/>
                </a:lnTo>
                <a:lnTo>
                  <a:pt x="760" y="1546"/>
                </a:lnTo>
                <a:lnTo>
                  <a:pt x="773" y="1546"/>
                </a:lnTo>
                <a:lnTo>
                  <a:pt x="815" y="1546"/>
                </a:lnTo>
                <a:lnTo>
                  <a:pt x="848" y="1546"/>
                </a:lnTo>
                <a:lnTo>
                  <a:pt x="851" y="1546"/>
                </a:lnTo>
                <a:lnTo>
                  <a:pt x="858" y="1546"/>
                </a:lnTo>
                <a:lnTo>
                  <a:pt x="865" y="1543"/>
                </a:lnTo>
                <a:lnTo>
                  <a:pt x="871" y="1541"/>
                </a:lnTo>
                <a:lnTo>
                  <a:pt x="876" y="1536"/>
                </a:lnTo>
                <a:lnTo>
                  <a:pt x="884" y="1527"/>
                </a:lnTo>
                <a:lnTo>
                  <a:pt x="893" y="1517"/>
                </a:lnTo>
                <a:lnTo>
                  <a:pt x="900" y="1510"/>
                </a:lnTo>
                <a:lnTo>
                  <a:pt x="909" y="1507"/>
                </a:lnTo>
                <a:lnTo>
                  <a:pt x="910" y="1507"/>
                </a:lnTo>
                <a:lnTo>
                  <a:pt x="929" y="1509"/>
                </a:lnTo>
                <a:lnTo>
                  <a:pt x="960" y="1510"/>
                </a:lnTo>
                <a:lnTo>
                  <a:pt x="1002" y="1527"/>
                </a:lnTo>
                <a:lnTo>
                  <a:pt x="1041" y="1559"/>
                </a:lnTo>
                <a:lnTo>
                  <a:pt x="1054" y="1569"/>
                </a:lnTo>
                <a:lnTo>
                  <a:pt x="1055" y="1572"/>
                </a:lnTo>
                <a:lnTo>
                  <a:pt x="1067" y="1590"/>
                </a:lnTo>
                <a:lnTo>
                  <a:pt x="1107" y="1649"/>
                </a:lnTo>
                <a:lnTo>
                  <a:pt x="1138" y="1696"/>
                </a:lnTo>
                <a:lnTo>
                  <a:pt x="1141" y="1697"/>
                </a:lnTo>
                <a:lnTo>
                  <a:pt x="1142" y="1700"/>
                </a:lnTo>
                <a:lnTo>
                  <a:pt x="1152" y="1709"/>
                </a:lnTo>
                <a:lnTo>
                  <a:pt x="1186" y="1732"/>
                </a:lnTo>
                <a:lnTo>
                  <a:pt x="1202" y="1738"/>
                </a:lnTo>
                <a:lnTo>
                  <a:pt x="1209" y="1739"/>
                </a:lnTo>
                <a:lnTo>
                  <a:pt x="1216" y="1738"/>
                </a:lnTo>
                <a:lnTo>
                  <a:pt x="1220" y="1733"/>
                </a:lnTo>
                <a:lnTo>
                  <a:pt x="1222" y="1733"/>
                </a:lnTo>
                <a:lnTo>
                  <a:pt x="1228" y="1726"/>
                </a:lnTo>
                <a:lnTo>
                  <a:pt x="1245" y="1706"/>
                </a:lnTo>
                <a:lnTo>
                  <a:pt x="1259" y="1688"/>
                </a:lnTo>
                <a:lnTo>
                  <a:pt x="1261" y="1687"/>
                </a:lnTo>
                <a:lnTo>
                  <a:pt x="1265" y="1685"/>
                </a:lnTo>
                <a:lnTo>
                  <a:pt x="1273" y="1684"/>
                </a:lnTo>
                <a:lnTo>
                  <a:pt x="1283" y="1685"/>
                </a:lnTo>
                <a:lnTo>
                  <a:pt x="1309" y="1690"/>
                </a:lnTo>
                <a:lnTo>
                  <a:pt x="1362" y="1706"/>
                </a:lnTo>
                <a:lnTo>
                  <a:pt x="1383" y="1722"/>
                </a:lnTo>
                <a:lnTo>
                  <a:pt x="1383" y="1726"/>
                </a:lnTo>
                <a:lnTo>
                  <a:pt x="1384" y="1733"/>
                </a:lnTo>
                <a:lnTo>
                  <a:pt x="1383" y="1740"/>
                </a:lnTo>
                <a:lnTo>
                  <a:pt x="1381" y="1746"/>
                </a:lnTo>
                <a:lnTo>
                  <a:pt x="1380" y="1761"/>
                </a:lnTo>
                <a:lnTo>
                  <a:pt x="1381" y="1765"/>
                </a:lnTo>
                <a:lnTo>
                  <a:pt x="1386" y="1772"/>
                </a:lnTo>
                <a:lnTo>
                  <a:pt x="1401" y="1791"/>
                </a:lnTo>
                <a:lnTo>
                  <a:pt x="1438" y="1836"/>
                </a:lnTo>
                <a:lnTo>
                  <a:pt x="1464" y="1869"/>
                </a:lnTo>
                <a:lnTo>
                  <a:pt x="1465" y="1871"/>
                </a:lnTo>
                <a:lnTo>
                  <a:pt x="1464" y="1881"/>
                </a:lnTo>
                <a:lnTo>
                  <a:pt x="1464" y="1907"/>
                </a:lnTo>
                <a:lnTo>
                  <a:pt x="1464" y="1927"/>
                </a:lnTo>
                <a:lnTo>
                  <a:pt x="1464" y="1927"/>
                </a:lnTo>
                <a:lnTo>
                  <a:pt x="1483" y="1932"/>
                </a:lnTo>
                <a:lnTo>
                  <a:pt x="1509" y="1935"/>
                </a:lnTo>
                <a:lnTo>
                  <a:pt x="1541" y="1945"/>
                </a:lnTo>
                <a:lnTo>
                  <a:pt x="1587" y="1965"/>
                </a:lnTo>
                <a:lnTo>
                  <a:pt x="1607" y="1974"/>
                </a:lnTo>
                <a:lnTo>
                  <a:pt x="1623" y="1980"/>
                </a:lnTo>
                <a:lnTo>
                  <a:pt x="1635" y="1980"/>
                </a:lnTo>
                <a:lnTo>
                  <a:pt x="1639" y="1980"/>
                </a:lnTo>
                <a:lnTo>
                  <a:pt x="1642" y="1978"/>
                </a:lnTo>
                <a:lnTo>
                  <a:pt x="1643" y="1975"/>
                </a:lnTo>
                <a:lnTo>
                  <a:pt x="1643" y="1972"/>
                </a:lnTo>
                <a:lnTo>
                  <a:pt x="1643" y="1969"/>
                </a:lnTo>
                <a:lnTo>
                  <a:pt x="1642" y="1967"/>
                </a:lnTo>
                <a:lnTo>
                  <a:pt x="1639" y="1958"/>
                </a:lnTo>
                <a:lnTo>
                  <a:pt x="1633" y="1949"/>
                </a:lnTo>
                <a:lnTo>
                  <a:pt x="1622" y="1933"/>
                </a:lnTo>
                <a:lnTo>
                  <a:pt x="1613" y="1920"/>
                </a:lnTo>
                <a:lnTo>
                  <a:pt x="1612" y="1917"/>
                </a:lnTo>
                <a:lnTo>
                  <a:pt x="1612" y="1917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05600" y="3429000"/>
            <a:ext cx="33480" cy="58680"/>
          </a:xfrm>
          <a:custGeom>
            <a:avLst/>
            <a:gdLst/>
            <a:ahLst/>
            <a:rect l="l" t="t" r="r" b="b"/>
            <a:pathLst>
              <a:path w="99" h="181">
                <a:moveTo>
                  <a:pt x="99" y="6"/>
                </a:moveTo>
                <a:lnTo>
                  <a:pt x="94" y="4"/>
                </a:lnTo>
                <a:lnTo>
                  <a:pt x="90" y="1"/>
                </a:lnTo>
                <a:lnTo>
                  <a:pt x="80" y="0"/>
                </a:lnTo>
                <a:lnTo>
                  <a:pt x="70" y="0"/>
                </a:lnTo>
                <a:lnTo>
                  <a:pt x="48" y="1"/>
                </a:lnTo>
                <a:lnTo>
                  <a:pt x="39" y="1"/>
                </a:lnTo>
                <a:lnTo>
                  <a:pt x="38" y="3"/>
                </a:lnTo>
                <a:lnTo>
                  <a:pt x="33" y="7"/>
                </a:lnTo>
                <a:lnTo>
                  <a:pt x="32" y="8"/>
                </a:lnTo>
                <a:lnTo>
                  <a:pt x="32" y="8"/>
                </a:lnTo>
                <a:lnTo>
                  <a:pt x="32" y="11"/>
                </a:lnTo>
                <a:lnTo>
                  <a:pt x="32" y="17"/>
                </a:lnTo>
                <a:lnTo>
                  <a:pt x="32" y="32"/>
                </a:lnTo>
                <a:lnTo>
                  <a:pt x="31" y="42"/>
                </a:lnTo>
                <a:lnTo>
                  <a:pt x="31" y="43"/>
                </a:lnTo>
                <a:lnTo>
                  <a:pt x="28" y="48"/>
                </a:lnTo>
                <a:lnTo>
                  <a:pt x="26" y="49"/>
                </a:lnTo>
                <a:lnTo>
                  <a:pt x="17" y="53"/>
                </a:lnTo>
                <a:lnTo>
                  <a:pt x="2" y="64"/>
                </a:lnTo>
                <a:lnTo>
                  <a:pt x="0" y="69"/>
                </a:lnTo>
                <a:lnTo>
                  <a:pt x="3" y="78"/>
                </a:lnTo>
                <a:lnTo>
                  <a:pt x="6" y="88"/>
                </a:lnTo>
                <a:lnTo>
                  <a:pt x="9" y="111"/>
                </a:lnTo>
                <a:lnTo>
                  <a:pt x="7" y="136"/>
                </a:lnTo>
                <a:lnTo>
                  <a:pt x="3" y="175"/>
                </a:lnTo>
                <a:lnTo>
                  <a:pt x="3" y="181"/>
                </a:lnTo>
                <a:lnTo>
                  <a:pt x="13" y="181"/>
                </a:lnTo>
                <a:lnTo>
                  <a:pt x="48" y="181"/>
                </a:lnTo>
                <a:lnTo>
                  <a:pt x="74" y="181"/>
                </a:lnTo>
                <a:lnTo>
                  <a:pt x="75" y="179"/>
                </a:lnTo>
                <a:lnTo>
                  <a:pt x="78" y="177"/>
                </a:lnTo>
                <a:lnTo>
                  <a:pt x="88" y="166"/>
                </a:lnTo>
                <a:lnTo>
                  <a:pt x="96" y="159"/>
                </a:lnTo>
                <a:lnTo>
                  <a:pt x="97" y="158"/>
                </a:lnTo>
                <a:lnTo>
                  <a:pt x="94" y="145"/>
                </a:lnTo>
                <a:lnTo>
                  <a:pt x="93" y="119"/>
                </a:lnTo>
                <a:lnTo>
                  <a:pt x="96" y="69"/>
                </a:lnTo>
                <a:lnTo>
                  <a:pt x="99" y="20"/>
                </a:lnTo>
                <a:lnTo>
                  <a:pt x="99" y="6"/>
                </a:lnTo>
                <a:lnTo>
                  <a:pt x="99" y="6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340320" y="3063960"/>
            <a:ext cx="720720" cy="471240"/>
          </a:xfrm>
          <a:custGeom>
            <a:avLst/>
            <a:gdLst/>
            <a:ahLst/>
            <a:rect l="l" t="t" r="r" b="b"/>
            <a:pathLst>
              <a:path w="2093" h="1439">
                <a:moveTo>
                  <a:pt x="1847" y="1319"/>
                </a:moveTo>
                <a:lnTo>
                  <a:pt x="1847" y="1314"/>
                </a:lnTo>
                <a:lnTo>
                  <a:pt x="1850" y="1297"/>
                </a:lnTo>
                <a:lnTo>
                  <a:pt x="1851" y="1284"/>
                </a:lnTo>
                <a:lnTo>
                  <a:pt x="1853" y="1283"/>
                </a:lnTo>
                <a:lnTo>
                  <a:pt x="1851" y="1278"/>
                </a:lnTo>
                <a:lnTo>
                  <a:pt x="1848" y="1274"/>
                </a:lnTo>
                <a:lnTo>
                  <a:pt x="1844" y="1271"/>
                </a:lnTo>
                <a:lnTo>
                  <a:pt x="1838" y="1267"/>
                </a:lnTo>
                <a:lnTo>
                  <a:pt x="1825" y="1258"/>
                </a:lnTo>
                <a:lnTo>
                  <a:pt x="1812" y="1249"/>
                </a:lnTo>
                <a:lnTo>
                  <a:pt x="1801" y="1241"/>
                </a:lnTo>
                <a:lnTo>
                  <a:pt x="1798" y="1227"/>
                </a:lnTo>
                <a:lnTo>
                  <a:pt x="1798" y="1227"/>
                </a:lnTo>
                <a:lnTo>
                  <a:pt x="1802" y="1220"/>
                </a:lnTo>
                <a:lnTo>
                  <a:pt x="1817" y="1197"/>
                </a:lnTo>
                <a:lnTo>
                  <a:pt x="1828" y="1180"/>
                </a:lnTo>
                <a:lnTo>
                  <a:pt x="1830" y="1178"/>
                </a:lnTo>
                <a:lnTo>
                  <a:pt x="1844" y="1180"/>
                </a:lnTo>
                <a:lnTo>
                  <a:pt x="1890" y="1183"/>
                </a:lnTo>
                <a:lnTo>
                  <a:pt x="1925" y="1184"/>
                </a:lnTo>
                <a:lnTo>
                  <a:pt x="1928" y="1184"/>
                </a:lnTo>
                <a:lnTo>
                  <a:pt x="1932" y="1181"/>
                </a:lnTo>
                <a:lnTo>
                  <a:pt x="1947" y="1171"/>
                </a:lnTo>
                <a:lnTo>
                  <a:pt x="1959" y="1164"/>
                </a:lnTo>
                <a:lnTo>
                  <a:pt x="1960" y="1162"/>
                </a:lnTo>
                <a:lnTo>
                  <a:pt x="1959" y="1152"/>
                </a:lnTo>
                <a:lnTo>
                  <a:pt x="1960" y="1135"/>
                </a:lnTo>
                <a:lnTo>
                  <a:pt x="1961" y="1126"/>
                </a:lnTo>
                <a:lnTo>
                  <a:pt x="1964" y="1122"/>
                </a:lnTo>
                <a:lnTo>
                  <a:pt x="1967" y="1120"/>
                </a:lnTo>
                <a:lnTo>
                  <a:pt x="1976" y="1120"/>
                </a:lnTo>
                <a:lnTo>
                  <a:pt x="2002" y="1120"/>
                </a:lnTo>
                <a:lnTo>
                  <a:pt x="2022" y="1120"/>
                </a:lnTo>
                <a:lnTo>
                  <a:pt x="2024" y="1119"/>
                </a:lnTo>
                <a:lnTo>
                  <a:pt x="2024" y="1101"/>
                </a:lnTo>
                <a:lnTo>
                  <a:pt x="2031" y="1065"/>
                </a:lnTo>
                <a:lnTo>
                  <a:pt x="2057" y="997"/>
                </a:lnTo>
                <a:lnTo>
                  <a:pt x="2085" y="935"/>
                </a:lnTo>
                <a:lnTo>
                  <a:pt x="2090" y="920"/>
                </a:lnTo>
                <a:lnTo>
                  <a:pt x="2093" y="899"/>
                </a:lnTo>
                <a:lnTo>
                  <a:pt x="2089" y="881"/>
                </a:lnTo>
                <a:lnTo>
                  <a:pt x="2080" y="870"/>
                </a:lnTo>
                <a:lnTo>
                  <a:pt x="2067" y="862"/>
                </a:lnTo>
                <a:lnTo>
                  <a:pt x="2051" y="858"/>
                </a:lnTo>
                <a:lnTo>
                  <a:pt x="2032" y="857"/>
                </a:lnTo>
                <a:lnTo>
                  <a:pt x="1993" y="861"/>
                </a:lnTo>
                <a:lnTo>
                  <a:pt x="1957" y="868"/>
                </a:lnTo>
                <a:lnTo>
                  <a:pt x="1935" y="874"/>
                </a:lnTo>
                <a:lnTo>
                  <a:pt x="1935" y="874"/>
                </a:lnTo>
                <a:lnTo>
                  <a:pt x="1908" y="886"/>
                </a:lnTo>
                <a:lnTo>
                  <a:pt x="1869" y="909"/>
                </a:lnTo>
                <a:lnTo>
                  <a:pt x="1846" y="935"/>
                </a:lnTo>
                <a:lnTo>
                  <a:pt x="1832" y="964"/>
                </a:lnTo>
                <a:lnTo>
                  <a:pt x="1824" y="1000"/>
                </a:lnTo>
                <a:lnTo>
                  <a:pt x="1812" y="1043"/>
                </a:lnTo>
                <a:lnTo>
                  <a:pt x="1805" y="1070"/>
                </a:lnTo>
                <a:lnTo>
                  <a:pt x="1802" y="1074"/>
                </a:lnTo>
                <a:lnTo>
                  <a:pt x="1799" y="1077"/>
                </a:lnTo>
                <a:lnTo>
                  <a:pt x="1795" y="1081"/>
                </a:lnTo>
                <a:lnTo>
                  <a:pt x="1785" y="1087"/>
                </a:lnTo>
                <a:lnTo>
                  <a:pt x="1754" y="1101"/>
                </a:lnTo>
                <a:lnTo>
                  <a:pt x="1679" y="1127"/>
                </a:lnTo>
                <a:lnTo>
                  <a:pt x="1634" y="1141"/>
                </a:lnTo>
                <a:lnTo>
                  <a:pt x="1622" y="1142"/>
                </a:lnTo>
                <a:lnTo>
                  <a:pt x="1606" y="1143"/>
                </a:lnTo>
                <a:lnTo>
                  <a:pt x="1595" y="1149"/>
                </a:lnTo>
                <a:lnTo>
                  <a:pt x="1583" y="1155"/>
                </a:lnTo>
                <a:lnTo>
                  <a:pt x="1548" y="1174"/>
                </a:lnTo>
                <a:lnTo>
                  <a:pt x="1534" y="1178"/>
                </a:lnTo>
                <a:lnTo>
                  <a:pt x="1522" y="1170"/>
                </a:lnTo>
                <a:lnTo>
                  <a:pt x="1511" y="1162"/>
                </a:lnTo>
                <a:lnTo>
                  <a:pt x="1482" y="1148"/>
                </a:lnTo>
                <a:lnTo>
                  <a:pt x="1427" y="1117"/>
                </a:lnTo>
                <a:lnTo>
                  <a:pt x="1407" y="1068"/>
                </a:lnTo>
                <a:lnTo>
                  <a:pt x="1360" y="1062"/>
                </a:lnTo>
                <a:lnTo>
                  <a:pt x="1327" y="1043"/>
                </a:lnTo>
                <a:lnTo>
                  <a:pt x="1302" y="1013"/>
                </a:lnTo>
                <a:lnTo>
                  <a:pt x="1288" y="977"/>
                </a:lnTo>
                <a:lnTo>
                  <a:pt x="1279" y="933"/>
                </a:lnTo>
                <a:lnTo>
                  <a:pt x="1276" y="887"/>
                </a:lnTo>
                <a:lnTo>
                  <a:pt x="1283" y="790"/>
                </a:lnTo>
                <a:lnTo>
                  <a:pt x="1301" y="646"/>
                </a:lnTo>
                <a:lnTo>
                  <a:pt x="1302" y="646"/>
                </a:lnTo>
                <a:lnTo>
                  <a:pt x="1302" y="642"/>
                </a:lnTo>
                <a:lnTo>
                  <a:pt x="1304" y="639"/>
                </a:lnTo>
                <a:lnTo>
                  <a:pt x="1307" y="632"/>
                </a:lnTo>
                <a:lnTo>
                  <a:pt x="1309" y="625"/>
                </a:lnTo>
                <a:lnTo>
                  <a:pt x="1309" y="617"/>
                </a:lnTo>
                <a:lnTo>
                  <a:pt x="1307" y="612"/>
                </a:lnTo>
                <a:lnTo>
                  <a:pt x="1307" y="612"/>
                </a:lnTo>
                <a:lnTo>
                  <a:pt x="1291" y="604"/>
                </a:lnTo>
                <a:lnTo>
                  <a:pt x="1266" y="593"/>
                </a:lnTo>
                <a:lnTo>
                  <a:pt x="1227" y="578"/>
                </a:lnTo>
                <a:lnTo>
                  <a:pt x="1178" y="565"/>
                </a:lnTo>
                <a:lnTo>
                  <a:pt x="1160" y="561"/>
                </a:lnTo>
                <a:lnTo>
                  <a:pt x="1160" y="554"/>
                </a:lnTo>
                <a:lnTo>
                  <a:pt x="1160" y="528"/>
                </a:lnTo>
                <a:lnTo>
                  <a:pt x="1160" y="507"/>
                </a:lnTo>
                <a:lnTo>
                  <a:pt x="1162" y="506"/>
                </a:lnTo>
                <a:lnTo>
                  <a:pt x="1157" y="503"/>
                </a:lnTo>
                <a:lnTo>
                  <a:pt x="1144" y="488"/>
                </a:lnTo>
                <a:lnTo>
                  <a:pt x="1108" y="448"/>
                </a:lnTo>
                <a:lnTo>
                  <a:pt x="1079" y="409"/>
                </a:lnTo>
                <a:lnTo>
                  <a:pt x="1078" y="402"/>
                </a:lnTo>
                <a:lnTo>
                  <a:pt x="1076" y="397"/>
                </a:lnTo>
                <a:lnTo>
                  <a:pt x="1075" y="391"/>
                </a:lnTo>
                <a:lnTo>
                  <a:pt x="1076" y="381"/>
                </a:lnTo>
                <a:lnTo>
                  <a:pt x="1076" y="360"/>
                </a:lnTo>
                <a:lnTo>
                  <a:pt x="1063" y="344"/>
                </a:lnTo>
                <a:lnTo>
                  <a:pt x="1056" y="342"/>
                </a:lnTo>
                <a:lnTo>
                  <a:pt x="1039" y="336"/>
                </a:lnTo>
                <a:lnTo>
                  <a:pt x="999" y="326"/>
                </a:lnTo>
                <a:lnTo>
                  <a:pt x="963" y="322"/>
                </a:lnTo>
                <a:lnTo>
                  <a:pt x="956" y="322"/>
                </a:lnTo>
                <a:lnTo>
                  <a:pt x="944" y="336"/>
                </a:lnTo>
                <a:lnTo>
                  <a:pt x="924" y="357"/>
                </a:lnTo>
                <a:lnTo>
                  <a:pt x="907" y="368"/>
                </a:lnTo>
                <a:lnTo>
                  <a:pt x="898" y="371"/>
                </a:lnTo>
                <a:lnTo>
                  <a:pt x="889" y="371"/>
                </a:lnTo>
                <a:lnTo>
                  <a:pt x="881" y="368"/>
                </a:lnTo>
                <a:lnTo>
                  <a:pt x="872" y="362"/>
                </a:lnTo>
                <a:lnTo>
                  <a:pt x="860" y="355"/>
                </a:lnTo>
                <a:lnTo>
                  <a:pt x="837" y="331"/>
                </a:lnTo>
                <a:lnTo>
                  <a:pt x="837" y="331"/>
                </a:lnTo>
                <a:lnTo>
                  <a:pt x="828" y="319"/>
                </a:lnTo>
                <a:lnTo>
                  <a:pt x="815" y="296"/>
                </a:lnTo>
                <a:lnTo>
                  <a:pt x="791" y="255"/>
                </a:lnTo>
                <a:lnTo>
                  <a:pt x="759" y="216"/>
                </a:lnTo>
                <a:lnTo>
                  <a:pt x="750" y="204"/>
                </a:lnTo>
                <a:lnTo>
                  <a:pt x="734" y="193"/>
                </a:lnTo>
                <a:lnTo>
                  <a:pt x="711" y="173"/>
                </a:lnTo>
                <a:lnTo>
                  <a:pt x="676" y="151"/>
                </a:lnTo>
                <a:lnTo>
                  <a:pt x="624" y="144"/>
                </a:lnTo>
                <a:lnTo>
                  <a:pt x="604" y="142"/>
                </a:lnTo>
                <a:lnTo>
                  <a:pt x="592" y="144"/>
                </a:lnTo>
                <a:lnTo>
                  <a:pt x="585" y="145"/>
                </a:lnTo>
                <a:lnTo>
                  <a:pt x="581" y="149"/>
                </a:lnTo>
                <a:lnTo>
                  <a:pt x="578" y="152"/>
                </a:lnTo>
                <a:lnTo>
                  <a:pt x="578" y="158"/>
                </a:lnTo>
                <a:lnTo>
                  <a:pt x="576" y="162"/>
                </a:lnTo>
                <a:lnTo>
                  <a:pt x="575" y="167"/>
                </a:lnTo>
                <a:lnTo>
                  <a:pt x="573" y="171"/>
                </a:lnTo>
                <a:lnTo>
                  <a:pt x="569" y="176"/>
                </a:lnTo>
                <a:lnTo>
                  <a:pt x="562" y="178"/>
                </a:lnTo>
                <a:lnTo>
                  <a:pt x="552" y="181"/>
                </a:lnTo>
                <a:lnTo>
                  <a:pt x="539" y="181"/>
                </a:lnTo>
                <a:lnTo>
                  <a:pt x="539" y="181"/>
                </a:lnTo>
                <a:lnTo>
                  <a:pt x="536" y="181"/>
                </a:lnTo>
                <a:lnTo>
                  <a:pt x="524" y="181"/>
                </a:lnTo>
                <a:lnTo>
                  <a:pt x="485" y="181"/>
                </a:lnTo>
                <a:lnTo>
                  <a:pt x="456" y="181"/>
                </a:lnTo>
                <a:lnTo>
                  <a:pt x="455" y="181"/>
                </a:lnTo>
                <a:lnTo>
                  <a:pt x="439" y="180"/>
                </a:lnTo>
                <a:lnTo>
                  <a:pt x="423" y="174"/>
                </a:lnTo>
                <a:lnTo>
                  <a:pt x="388" y="157"/>
                </a:lnTo>
                <a:lnTo>
                  <a:pt x="353" y="132"/>
                </a:lnTo>
                <a:lnTo>
                  <a:pt x="289" y="83"/>
                </a:lnTo>
                <a:lnTo>
                  <a:pt x="268" y="68"/>
                </a:lnTo>
                <a:lnTo>
                  <a:pt x="259" y="65"/>
                </a:lnTo>
                <a:lnTo>
                  <a:pt x="237" y="57"/>
                </a:lnTo>
                <a:lnTo>
                  <a:pt x="220" y="49"/>
                </a:lnTo>
                <a:lnTo>
                  <a:pt x="220" y="48"/>
                </a:lnTo>
                <a:lnTo>
                  <a:pt x="217" y="47"/>
                </a:lnTo>
                <a:lnTo>
                  <a:pt x="214" y="44"/>
                </a:lnTo>
                <a:lnTo>
                  <a:pt x="205" y="35"/>
                </a:lnTo>
                <a:lnTo>
                  <a:pt x="182" y="13"/>
                </a:lnTo>
                <a:lnTo>
                  <a:pt x="169" y="0"/>
                </a:lnTo>
                <a:lnTo>
                  <a:pt x="165" y="2"/>
                </a:lnTo>
                <a:lnTo>
                  <a:pt x="142" y="2"/>
                </a:lnTo>
                <a:lnTo>
                  <a:pt x="63" y="2"/>
                </a:lnTo>
                <a:lnTo>
                  <a:pt x="3" y="2"/>
                </a:lnTo>
                <a:lnTo>
                  <a:pt x="0" y="2"/>
                </a:lnTo>
                <a:lnTo>
                  <a:pt x="3" y="19"/>
                </a:lnTo>
                <a:lnTo>
                  <a:pt x="11" y="51"/>
                </a:lnTo>
                <a:lnTo>
                  <a:pt x="33" y="110"/>
                </a:lnTo>
                <a:lnTo>
                  <a:pt x="46" y="176"/>
                </a:lnTo>
                <a:lnTo>
                  <a:pt x="47" y="194"/>
                </a:lnTo>
                <a:lnTo>
                  <a:pt x="55" y="207"/>
                </a:lnTo>
                <a:lnTo>
                  <a:pt x="72" y="231"/>
                </a:lnTo>
                <a:lnTo>
                  <a:pt x="111" y="281"/>
                </a:lnTo>
                <a:lnTo>
                  <a:pt x="147" y="329"/>
                </a:lnTo>
                <a:lnTo>
                  <a:pt x="156" y="341"/>
                </a:lnTo>
                <a:lnTo>
                  <a:pt x="147" y="354"/>
                </a:lnTo>
                <a:lnTo>
                  <a:pt x="134" y="367"/>
                </a:lnTo>
                <a:lnTo>
                  <a:pt x="129" y="370"/>
                </a:lnTo>
                <a:lnTo>
                  <a:pt x="124" y="370"/>
                </a:lnTo>
                <a:lnTo>
                  <a:pt x="118" y="370"/>
                </a:lnTo>
                <a:lnTo>
                  <a:pt x="108" y="368"/>
                </a:lnTo>
                <a:lnTo>
                  <a:pt x="94" y="373"/>
                </a:lnTo>
                <a:lnTo>
                  <a:pt x="75" y="387"/>
                </a:lnTo>
                <a:lnTo>
                  <a:pt x="75" y="387"/>
                </a:lnTo>
                <a:lnTo>
                  <a:pt x="88" y="400"/>
                </a:lnTo>
                <a:lnTo>
                  <a:pt x="127" y="431"/>
                </a:lnTo>
                <a:lnTo>
                  <a:pt x="217" y="504"/>
                </a:lnTo>
                <a:lnTo>
                  <a:pt x="250" y="541"/>
                </a:lnTo>
                <a:lnTo>
                  <a:pt x="260" y="558"/>
                </a:lnTo>
                <a:lnTo>
                  <a:pt x="263" y="575"/>
                </a:lnTo>
                <a:lnTo>
                  <a:pt x="259" y="590"/>
                </a:lnTo>
                <a:lnTo>
                  <a:pt x="259" y="590"/>
                </a:lnTo>
                <a:lnTo>
                  <a:pt x="256" y="594"/>
                </a:lnTo>
                <a:lnTo>
                  <a:pt x="250" y="603"/>
                </a:lnTo>
                <a:lnTo>
                  <a:pt x="243" y="622"/>
                </a:lnTo>
                <a:lnTo>
                  <a:pt x="239" y="641"/>
                </a:lnTo>
                <a:lnTo>
                  <a:pt x="239" y="645"/>
                </a:lnTo>
                <a:lnTo>
                  <a:pt x="252" y="652"/>
                </a:lnTo>
                <a:lnTo>
                  <a:pt x="281" y="670"/>
                </a:lnTo>
                <a:lnTo>
                  <a:pt x="342" y="715"/>
                </a:lnTo>
                <a:lnTo>
                  <a:pt x="404" y="781"/>
                </a:lnTo>
                <a:lnTo>
                  <a:pt x="421" y="801"/>
                </a:lnTo>
                <a:lnTo>
                  <a:pt x="429" y="793"/>
                </a:lnTo>
                <a:lnTo>
                  <a:pt x="436" y="777"/>
                </a:lnTo>
                <a:lnTo>
                  <a:pt x="436" y="762"/>
                </a:lnTo>
                <a:lnTo>
                  <a:pt x="431" y="748"/>
                </a:lnTo>
                <a:lnTo>
                  <a:pt x="426" y="733"/>
                </a:lnTo>
                <a:lnTo>
                  <a:pt x="421" y="719"/>
                </a:lnTo>
                <a:lnTo>
                  <a:pt x="421" y="709"/>
                </a:lnTo>
                <a:lnTo>
                  <a:pt x="408" y="699"/>
                </a:lnTo>
                <a:lnTo>
                  <a:pt x="400" y="693"/>
                </a:lnTo>
                <a:lnTo>
                  <a:pt x="391" y="691"/>
                </a:lnTo>
                <a:lnTo>
                  <a:pt x="385" y="690"/>
                </a:lnTo>
                <a:lnTo>
                  <a:pt x="381" y="691"/>
                </a:lnTo>
                <a:lnTo>
                  <a:pt x="378" y="691"/>
                </a:lnTo>
                <a:lnTo>
                  <a:pt x="376" y="691"/>
                </a:lnTo>
                <a:lnTo>
                  <a:pt x="375" y="690"/>
                </a:lnTo>
                <a:lnTo>
                  <a:pt x="375" y="688"/>
                </a:lnTo>
                <a:lnTo>
                  <a:pt x="375" y="686"/>
                </a:lnTo>
                <a:lnTo>
                  <a:pt x="373" y="677"/>
                </a:lnTo>
                <a:lnTo>
                  <a:pt x="373" y="641"/>
                </a:lnTo>
                <a:lnTo>
                  <a:pt x="375" y="626"/>
                </a:lnTo>
                <a:lnTo>
                  <a:pt x="365" y="610"/>
                </a:lnTo>
                <a:lnTo>
                  <a:pt x="353" y="581"/>
                </a:lnTo>
                <a:lnTo>
                  <a:pt x="339" y="538"/>
                </a:lnTo>
                <a:lnTo>
                  <a:pt x="313" y="500"/>
                </a:lnTo>
                <a:lnTo>
                  <a:pt x="302" y="488"/>
                </a:lnTo>
                <a:lnTo>
                  <a:pt x="288" y="474"/>
                </a:lnTo>
                <a:lnTo>
                  <a:pt x="274" y="446"/>
                </a:lnTo>
                <a:lnTo>
                  <a:pt x="271" y="423"/>
                </a:lnTo>
                <a:lnTo>
                  <a:pt x="272" y="400"/>
                </a:lnTo>
                <a:lnTo>
                  <a:pt x="269" y="374"/>
                </a:lnTo>
                <a:lnTo>
                  <a:pt x="253" y="345"/>
                </a:lnTo>
                <a:lnTo>
                  <a:pt x="239" y="326"/>
                </a:lnTo>
                <a:lnTo>
                  <a:pt x="221" y="307"/>
                </a:lnTo>
                <a:lnTo>
                  <a:pt x="194" y="270"/>
                </a:lnTo>
                <a:lnTo>
                  <a:pt x="159" y="194"/>
                </a:lnTo>
                <a:lnTo>
                  <a:pt x="147" y="126"/>
                </a:lnTo>
                <a:lnTo>
                  <a:pt x="147" y="110"/>
                </a:lnTo>
                <a:lnTo>
                  <a:pt x="156" y="109"/>
                </a:lnTo>
                <a:lnTo>
                  <a:pt x="175" y="109"/>
                </a:lnTo>
                <a:lnTo>
                  <a:pt x="194" y="113"/>
                </a:lnTo>
                <a:lnTo>
                  <a:pt x="213" y="122"/>
                </a:lnTo>
                <a:lnTo>
                  <a:pt x="229" y="133"/>
                </a:lnTo>
                <a:lnTo>
                  <a:pt x="242" y="149"/>
                </a:lnTo>
                <a:lnTo>
                  <a:pt x="247" y="157"/>
                </a:lnTo>
                <a:lnTo>
                  <a:pt x="247" y="161"/>
                </a:lnTo>
                <a:lnTo>
                  <a:pt x="249" y="187"/>
                </a:lnTo>
                <a:lnTo>
                  <a:pt x="262" y="273"/>
                </a:lnTo>
                <a:lnTo>
                  <a:pt x="274" y="313"/>
                </a:lnTo>
                <a:lnTo>
                  <a:pt x="282" y="328"/>
                </a:lnTo>
                <a:lnTo>
                  <a:pt x="291" y="338"/>
                </a:lnTo>
                <a:lnTo>
                  <a:pt x="297" y="341"/>
                </a:lnTo>
                <a:lnTo>
                  <a:pt x="301" y="341"/>
                </a:lnTo>
                <a:lnTo>
                  <a:pt x="302" y="341"/>
                </a:lnTo>
                <a:lnTo>
                  <a:pt x="317" y="358"/>
                </a:lnTo>
                <a:lnTo>
                  <a:pt x="345" y="393"/>
                </a:lnTo>
                <a:lnTo>
                  <a:pt x="392" y="461"/>
                </a:lnTo>
                <a:lnTo>
                  <a:pt x="449" y="516"/>
                </a:lnTo>
                <a:lnTo>
                  <a:pt x="466" y="525"/>
                </a:lnTo>
                <a:lnTo>
                  <a:pt x="462" y="533"/>
                </a:lnTo>
                <a:lnTo>
                  <a:pt x="453" y="551"/>
                </a:lnTo>
                <a:lnTo>
                  <a:pt x="446" y="570"/>
                </a:lnTo>
                <a:lnTo>
                  <a:pt x="442" y="586"/>
                </a:lnTo>
                <a:lnTo>
                  <a:pt x="443" y="593"/>
                </a:lnTo>
                <a:lnTo>
                  <a:pt x="446" y="600"/>
                </a:lnTo>
                <a:lnTo>
                  <a:pt x="452" y="604"/>
                </a:lnTo>
                <a:lnTo>
                  <a:pt x="462" y="607"/>
                </a:lnTo>
                <a:lnTo>
                  <a:pt x="475" y="607"/>
                </a:lnTo>
                <a:lnTo>
                  <a:pt x="476" y="607"/>
                </a:lnTo>
                <a:lnTo>
                  <a:pt x="491" y="630"/>
                </a:lnTo>
                <a:lnTo>
                  <a:pt x="531" y="677"/>
                </a:lnTo>
                <a:lnTo>
                  <a:pt x="623" y="774"/>
                </a:lnTo>
                <a:lnTo>
                  <a:pt x="660" y="828"/>
                </a:lnTo>
                <a:lnTo>
                  <a:pt x="682" y="883"/>
                </a:lnTo>
                <a:lnTo>
                  <a:pt x="686" y="912"/>
                </a:lnTo>
                <a:lnTo>
                  <a:pt x="695" y="919"/>
                </a:lnTo>
                <a:lnTo>
                  <a:pt x="708" y="930"/>
                </a:lnTo>
                <a:lnTo>
                  <a:pt x="714" y="945"/>
                </a:lnTo>
                <a:lnTo>
                  <a:pt x="714" y="959"/>
                </a:lnTo>
                <a:lnTo>
                  <a:pt x="707" y="977"/>
                </a:lnTo>
                <a:lnTo>
                  <a:pt x="694" y="994"/>
                </a:lnTo>
                <a:lnTo>
                  <a:pt x="686" y="1003"/>
                </a:lnTo>
                <a:lnTo>
                  <a:pt x="718" y="1046"/>
                </a:lnTo>
                <a:lnTo>
                  <a:pt x="817" y="1138"/>
                </a:lnTo>
                <a:lnTo>
                  <a:pt x="947" y="1226"/>
                </a:lnTo>
                <a:lnTo>
                  <a:pt x="1243" y="1354"/>
                </a:lnTo>
                <a:lnTo>
                  <a:pt x="1440" y="1359"/>
                </a:lnTo>
                <a:lnTo>
                  <a:pt x="1469" y="1346"/>
                </a:lnTo>
                <a:lnTo>
                  <a:pt x="1521" y="1333"/>
                </a:lnTo>
                <a:lnTo>
                  <a:pt x="1567" y="1338"/>
                </a:lnTo>
                <a:lnTo>
                  <a:pt x="1611" y="1356"/>
                </a:lnTo>
                <a:lnTo>
                  <a:pt x="1653" y="1384"/>
                </a:lnTo>
                <a:lnTo>
                  <a:pt x="1696" y="1420"/>
                </a:lnTo>
                <a:lnTo>
                  <a:pt x="1721" y="1439"/>
                </a:lnTo>
                <a:lnTo>
                  <a:pt x="1724" y="1413"/>
                </a:lnTo>
                <a:lnTo>
                  <a:pt x="1731" y="1371"/>
                </a:lnTo>
                <a:lnTo>
                  <a:pt x="1741" y="1342"/>
                </a:lnTo>
                <a:lnTo>
                  <a:pt x="1748" y="1332"/>
                </a:lnTo>
                <a:lnTo>
                  <a:pt x="1759" y="1325"/>
                </a:lnTo>
                <a:lnTo>
                  <a:pt x="1770" y="1320"/>
                </a:lnTo>
                <a:lnTo>
                  <a:pt x="1785" y="1317"/>
                </a:lnTo>
                <a:lnTo>
                  <a:pt x="1801" y="1317"/>
                </a:lnTo>
                <a:lnTo>
                  <a:pt x="1846" y="1319"/>
                </a:lnTo>
                <a:lnTo>
                  <a:pt x="1847" y="1319"/>
                </a:lnTo>
                <a:lnTo>
                  <a:pt x="1847" y="1319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934320" y="3448080"/>
            <a:ext cx="104760" cy="101520"/>
          </a:xfrm>
          <a:custGeom>
            <a:avLst/>
            <a:gdLst/>
            <a:ahLst/>
            <a:rect l="l" t="t" r="r" b="b"/>
            <a:pathLst>
              <a:path w="306" h="312">
                <a:moveTo>
                  <a:pt x="0" y="262"/>
                </a:moveTo>
                <a:lnTo>
                  <a:pt x="0" y="261"/>
                </a:lnTo>
                <a:lnTo>
                  <a:pt x="1" y="252"/>
                </a:lnTo>
                <a:lnTo>
                  <a:pt x="1" y="247"/>
                </a:lnTo>
                <a:lnTo>
                  <a:pt x="3" y="245"/>
                </a:lnTo>
                <a:lnTo>
                  <a:pt x="1" y="222"/>
                </a:lnTo>
                <a:lnTo>
                  <a:pt x="9" y="184"/>
                </a:lnTo>
                <a:lnTo>
                  <a:pt x="25" y="158"/>
                </a:lnTo>
                <a:lnTo>
                  <a:pt x="48" y="144"/>
                </a:lnTo>
                <a:lnTo>
                  <a:pt x="77" y="138"/>
                </a:lnTo>
                <a:lnTo>
                  <a:pt x="109" y="138"/>
                </a:lnTo>
                <a:lnTo>
                  <a:pt x="126" y="138"/>
                </a:lnTo>
                <a:lnTo>
                  <a:pt x="126" y="132"/>
                </a:lnTo>
                <a:lnTo>
                  <a:pt x="129" y="115"/>
                </a:lnTo>
                <a:lnTo>
                  <a:pt x="130" y="100"/>
                </a:lnTo>
                <a:lnTo>
                  <a:pt x="132" y="99"/>
                </a:lnTo>
                <a:lnTo>
                  <a:pt x="129" y="96"/>
                </a:lnTo>
                <a:lnTo>
                  <a:pt x="125" y="93"/>
                </a:lnTo>
                <a:lnTo>
                  <a:pt x="120" y="89"/>
                </a:lnTo>
                <a:lnTo>
                  <a:pt x="107" y="81"/>
                </a:lnTo>
                <a:lnTo>
                  <a:pt x="82" y="65"/>
                </a:lnTo>
                <a:lnTo>
                  <a:pt x="78" y="49"/>
                </a:lnTo>
                <a:lnTo>
                  <a:pt x="82" y="49"/>
                </a:lnTo>
                <a:lnTo>
                  <a:pt x="91" y="48"/>
                </a:lnTo>
                <a:lnTo>
                  <a:pt x="96" y="47"/>
                </a:lnTo>
                <a:lnTo>
                  <a:pt x="97" y="45"/>
                </a:lnTo>
                <a:lnTo>
                  <a:pt x="96" y="41"/>
                </a:lnTo>
                <a:lnTo>
                  <a:pt x="93" y="38"/>
                </a:lnTo>
                <a:lnTo>
                  <a:pt x="85" y="29"/>
                </a:lnTo>
                <a:lnTo>
                  <a:pt x="85" y="29"/>
                </a:lnTo>
                <a:lnTo>
                  <a:pt x="88" y="25"/>
                </a:lnTo>
                <a:lnTo>
                  <a:pt x="100" y="12"/>
                </a:lnTo>
                <a:lnTo>
                  <a:pt x="109" y="2"/>
                </a:lnTo>
                <a:lnTo>
                  <a:pt x="110" y="0"/>
                </a:lnTo>
                <a:lnTo>
                  <a:pt x="111" y="0"/>
                </a:lnTo>
                <a:lnTo>
                  <a:pt x="113" y="0"/>
                </a:lnTo>
                <a:lnTo>
                  <a:pt x="125" y="2"/>
                </a:lnTo>
                <a:lnTo>
                  <a:pt x="161" y="5"/>
                </a:lnTo>
                <a:lnTo>
                  <a:pt x="198" y="6"/>
                </a:lnTo>
                <a:lnTo>
                  <a:pt x="207" y="6"/>
                </a:lnTo>
                <a:lnTo>
                  <a:pt x="206" y="7"/>
                </a:lnTo>
                <a:lnTo>
                  <a:pt x="207" y="6"/>
                </a:lnTo>
                <a:lnTo>
                  <a:pt x="209" y="13"/>
                </a:lnTo>
                <a:lnTo>
                  <a:pt x="213" y="25"/>
                </a:lnTo>
                <a:lnTo>
                  <a:pt x="216" y="47"/>
                </a:lnTo>
                <a:lnTo>
                  <a:pt x="216" y="58"/>
                </a:lnTo>
                <a:lnTo>
                  <a:pt x="216" y="58"/>
                </a:lnTo>
                <a:lnTo>
                  <a:pt x="214" y="70"/>
                </a:lnTo>
                <a:lnTo>
                  <a:pt x="211" y="100"/>
                </a:lnTo>
                <a:lnTo>
                  <a:pt x="210" y="123"/>
                </a:lnTo>
                <a:lnTo>
                  <a:pt x="210" y="123"/>
                </a:lnTo>
                <a:lnTo>
                  <a:pt x="211" y="123"/>
                </a:lnTo>
                <a:lnTo>
                  <a:pt x="220" y="123"/>
                </a:lnTo>
                <a:lnTo>
                  <a:pt x="255" y="122"/>
                </a:lnTo>
                <a:lnTo>
                  <a:pt x="281" y="120"/>
                </a:lnTo>
                <a:lnTo>
                  <a:pt x="284" y="119"/>
                </a:lnTo>
                <a:lnTo>
                  <a:pt x="287" y="119"/>
                </a:lnTo>
                <a:lnTo>
                  <a:pt x="293" y="119"/>
                </a:lnTo>
                <a:lnTo>
                  <a:pt x="297" y="119"/>
                </a:lnTo>
                <a:lnTo>
                  <a:pt x="300" y="122"/>
                </a:lnTo>
                <a:lnTo>
                  <a:pt x="303" y="126"/>
                </a:lnTo>
                <a:lnTo>
                  <a:pt x="304" y="132"/>
                </a:lnTo>
                <a:lnTo>
                  <a:pt x="306" y="136"/>
                </a:lnTo>
                <a:lnTo>
                  <a:pt x="293" y="149"/>
                </a:lnTo>
                <a:lnTo>
                  <a:pt x="272" y="171"/>
                </a:lnTo>
                <a:lnTo>
                  <a:pt x="252" y="206"/>
                </a:lnTo>
                <a:lnTo>
                  <a:pt x="242" y="228"/>
                </a:lnTo>
                <a:lnTo>
                  <a:pt x="240" y="231"/>
                </a:lnTo>
                <a:lnTo>
                  <a:pt x="239" y="234"/>
                </a:lnTo>
                <a:lnTo>
                  <a:pt x="230" y="244"/>
                </a:lnTo>
                <a:lnTo>
                  <a:pt x="200" y="281"/>
                </a:lnTo>
                <a:lnTo>
                  <a:pt x="177" y="310"/>
                </a:lnTo>
                <a:lnTo>
                  <a:pt x="177" y="312"/>
                </a:lnTo>
                <a:lnTo>
                  <a:pt x="156" y="310"/>
                </a:lnTo>
                <a:lnTo>
                  <a:pt x="123" y="306"/>
                </a:lnTo>
                <a:lnTo>
                  <a:pt x="65" y="296"/>
                </a:lnTo>
                <a:lnTo>
                  <a:pt x="13" y="273"/>
                </a:lnTo>
                <a:lnTo>
                  <a:pt x="0" y="262"/>
                </a:lnTo>
                <a:lnTo>
                  <a:pt x="0" y="262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997680" y="3524400"/>
            <a:ext cx="60480" cy="36360"/>
          </a:xfrm>
          <a:custGeom>
            <a:avLst/>
            <a:gdLst/>
            <a:ahLst/>
            <a:rect l="l" t="t" r="r" b="b"/>
            <a:pathLst>
              <a:path w="178" h="114">
                <a:moveTo>
                  <a:pt x="172" y="42"/>
                </a:moveTo>
                <a:lnTo>
                  <a:pt x="171" y="39"/>
                </a:lnTo>
                <a:lnTo>
                  <a:pt x="167" y="37"/>
                </a:lnTo>
                <a:lnTo>
                  <a:pt x="162" y="36"/>
                </a:lnTo>
                <a:lnTo>
                  <a:pt x="156" y="34"/>
                </a:lnTo>
                <a:lnTo>
                  <a:pt x="142" y="34"/>
                </a:lnTo>
                <a:lnTo>
                  <a:pt x="117" y="37"/>
                </a:lnTo>
                <a:lnTo>
                  <a:pt x="114" y="37"/>
                </a:lnTo>
                <a:lnTo>
                  <a:pt x="106" y="32"/>
                </a:lnTo>
                <a:lnTo>
                  <a:pt x="81" y="14"/>
                </a:lnTo>
                <a:lnTo>
                  <a:pt x="62" y="1"/>
                </a:lnTo>
                <a:lnTo>
                  <a:pt x="62" y="0"/>
                </a:lnTo>
                <a:lnTo>
                  <a:pt x="61" y="3"/>
                </a:lnTo>
                <a:lnTo>
                  <a:pt x="52" y="13"/>
                </a:lnTo>
                <a:lnTo>
                  <a:pt x="23" y="50"/>
                </a:lnTo>
                <a:lnTo>
                  <a:pt x="0" y="79"/>
                </a:lnTo>
                <a:lnTo>
                  <a:pt x="0" y="81"/>
                </a:lnTo>
                <a:lnTo>
                  <a:pt x="14" y="90"/>
                </a:lnTo>
                <a:lnTo>
                  <a:pt x="42" y="101"/>
                </a:lnTo>
                <a:lnTo>
                  <a:pt x="96" y="114"/>
                </a:lnTo>
                <a:lnTo>
                  <a:pt x="159" y="114"/>
                </a:lnTo>
                <a:lnTo>
                  <a:pt x="178" y="111"/>
                </a:lnTo>
                <a:lnTo>
                  <a:pt x="177" y="101"/>
                </a:lnTo>
                <a:lnTo>
                  <a:pt x="174" y="69"/>
                </a:lnTo>
                <a:lnTo>
                  <a:pt x="172" y="43"/>
                </a:lnTo>
                <a:lnTo>
                  <a:pt x="172" y="42"/>
                </a:lnTo>
                <a:lnTo>
                  <a:pt x="172" y="42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8560" y="1789200"/>
            <a:ext cx="1298880" cy="1771560"/>
          </a:xfrm>
          <a:custGeom>
            <a:avLst/>
            <a:gdLst/>
            <a:ahLst/>
            <a:rect l="l" t="t" r="r" b="b"/>
            <a:pathLst>
              <a:path w="3761" h="5418">
                <a:moveTo>
                  <a:pt x="2562" y="5336"/>
                </a:moveTo>
                <a:lnTo>
                  <a:pt x="2559" y="5338"/>
                </a:lnTo>
                <a:lnTo>
                  <a:pt x="2557" y="5343"/>
                </a:lnTo>
                <a:lnTo>
                  <a:pt x="2557" y="5346"/>
                </a:lnTo>
                <a:lnTo>
                  <a:pt x="2557" y="5350"/>
                </a:lnTo>
                <a:lnTo>
                  <a:pt x="2556" y="5353"/>
                </a:lnTo>
                <a:lnTo>
                  <a:pt x="2551" y="5357"/>
                </a:lnTo>
                <a:lnTo>
                  <a:pt x="2550" y="5359"/>
                </a:lnTo>
                <a:lnTo>
                  <a:pt x="2543" y="5366"/>
                </a:lnTo>
                <a:lnTo>
                  <a:pt x="2528" y="5376"/>
                </a:lnTo>
                <a:lnTo>
                  <a:pt x="2501" y="5394"/>
                </a:lnTo>
                <a:lnTo>
                  <a:pt x="2472" y="5412"/>
                </a:lnTo>
                <a:lnTo>
                  <a:pt x="2465" y="5418"/>
                </a:lnTo>
                <a:lnTo>
                  <a:pt x="2460" y="5411"/>
                </a:lnTo>
                <a:lnTo>
                  <a:pt x="2459" y="5405"/>
                </a:lnTo>
                <a:lnTo>
                  <a:pt x="2457" y="5391"/>
                </a:lnTo>
                <a:lnTo>
                  <a:pt x="2454" y="5360"/>
                </a:lnTo>
                <a:lnTo>
                  <a:pt x="2454" y="5344"/>
                </a:lnTo>
                <a:lnTo>
                  <a:pt x="2449" y="5343"/>
                </a:lnTo>
                <a:lnTo>
                  <a:pt x="2438" y="5343"/>
                </a:lnTo>
                <a:lnTo>
                  <a:pt x="2428" y="5343"/>
                </a:lnTo>
                <a:lnTo>
                  <a:pt x="2408" y="5343"/>
                </a:lnTo>
                <a:lnTo>
                  <a:pt x="2395" y="5340"/>
                </a:lnTo>
                <a:lnTo>
                  <a:pt x="2386" y="5334"/>
                </a:lnTo>
                <a:lnTo>
                  <a:pt x="2362" y="5317"/>
                </a:lnTo>
                <a:lnTo>
                  <a:pt x="2343" y="5305"/>
                </a:lnTo>
                <a:lnTo>
                  <a:pt x="2343" y="5304"/>
                </a:lnTo>
                <a:lnTo>
                  <a:pt x="2344" y="5295"/>
                </a:lnTo>
                <a:lnTo>
                  <a:pt x="2353" y="5278"/>
                </a:lnTo>
                <a:lnTo>
                  <a:pt x="2378" y="5243"/>
                </a:lnTo>
                <a:lnTo>
                  <a:pt x="2405" y="5214"/>
                </a:lnTo>
                <a:lnTo>
                  <a:pt x="2412" y="5208"/>
                </a:lnTo>
                <a:lnTo>
                  <a:pt x="2438" y="5207"/>
                </a:lnTo>
                <a:lnTo>
                  <a:pt x="2502" y="5194"/>
                </a:lnTo>
                <a:lnTo>
                  <a:pt x="2643" y="5165"/>
                </a:lnTo>
                <a:lnTo>
                  <a:pt x="2709" y="5162"/>
                </a:lnTo>
                <a:lnTo>
                  <a:pt x="2766" y="5179"/>
                </a:lnTo>
                <a:lnTo>
                  <a:pt x="2789" y="5195"/>
                </a:lnTo>
                <a:lnTo>
                  <a:pt x="2791" y="5199"/>
                </a:lnTo>
                <a:lnTo>
                  <a:pt x="2793" y="5205"/>
                </a:lnTo>
                <a:lnTo>
                  <a:pt x="2799" y="5218"/>
                </a:lnTo>
                <a:lnTo>
                  <a:pt x="2801" y="5236"/>
                </a:lnTo>
                <a:lnTo>
                  <a:pt x="2801" y="5241"/>
                </a:lnTo>
                <a:lnTo>
                  <a:pt x="2795" y="5243"/>
                </a:lnTo>
                <a:lnTo>
                  <a:pt x="2791" y="5244"/>
                </a:lnTo>
                <a:lnTo>
                  <a:pt x="2775" y="5250"/>
                </a:lnTo>
                <a:lnTo>
                  <a:pt x="2730" y="5263"/>
                </a:lnTo>
                <a:lnTo>
                  <a:pt x="2620" y="5302"/>
                </a:lnTo>
                <a:lnTo>
                  <a:pt x="2562" y="5336"/>
                </a:lnTo>
                <a:lnTo>
                  <a:pt x="2562" y="5336"/>
                </a:lnTo>
                <a:close/>
                <a:moveTo>
                  <a:pt x="3364" y="10"/>
                </a:moveTo>
                <a:lnTo>
                  <a:pt x="3366" y="12"/>
                </a:lnTo>
                <a:lnTo>
                  <a:pt x="3374" y="16"/>
                </a:lnTo>
                <a:lnTo>
                  <a:pt x="3380" y="19"/>
                </a:lnTo>
                <a:lnTo>
                  <a:pt x="3382" y="19"/>
                </a:lnTo>
                <a:lnTo>
                  <a:pt x="3386" y="19"/>
                </a:lnTo>
                <a:lnTo>
                  <a:pt x="3390" y="18"/>
                </a:lnTo>
                <a:lnTo>
                  <a:pt x="3401" y="13"/>
                </a:lnTo>
                <a:lnTo>
                  <a:pt x="3424" y="2"/>
                </a:lnTo>
                <a:lnTo>
                  <a:pt x="3456" y="0"/>
                </a:lnTo>
                <a:lnTo>
                  <a:pt x="3461" y="5"/>
                </a:lnTo>
                <a:lnTo>
                  <a:pt x="3469" y="9"/>
                </a:lnTo>
                <a:lnTo>
                  <a:pt x="3482" y="24"/>
                </a:lnTo>
                <a:lnTo>
                  <a:pt x="3495" y="41"/>
                </a:lnTo>
                <a:lnTo>
                  <a:pt x="3521" y="74"/>
                </a:lnTo>
                <a:lnTo>
                  <a:pt x="3535" y="86"/>
                </a:lnTo>
                <a:lnTo>
                  <a:pt x="3534" y="87"/>
                </a:lnTo>
                <a:lnTo>
                  <a:pt x="3531" y="89"/>
                </a:lnTo>
                <a:lnTo>
                  <a:pt x="3518" y="97"/>
                </a:lnTo>
                <a:lnTo>
                  <a:pt x="3508" y="103"/>
                </a:lnTo>
                <a:lnTo>
                  <a:pt x="3508" y="103"/>
                </a:lnTo>
                <a:lnTo>
                  <a:pt x="3514" y="110"/>
                </a:lnTo>
                <a:lnTo>
                  <a:pt x="3528" y="128"/>
                </a:lnTo>
                <a:lnTo>
                  <a:pt x="3554" y="167"/>
                </a:lnTo>
                <a:lnTo>
                  <a:pt x="3563" y="187"/>
                </a:lnTo>
                <a:lnTo>
                  <a:pt x="3566" y="210"/>
                </a:lnTo>
                <a:lnTo>
                  <a:pt x="3564" y="221"/>
                </a:lnTo>
                <a:lnTo>
                  <a:pt x="3560" y="225"/>
                </a:lnTo>
                <a:lnTo>
                  <a:pt x="3556" y="228"/>
                </a:lnTo>
                <a:lnTo>
                  <a:pt x="3544" y="237"/>
                </a:lnTo>
                <a:lnTo>
                  <a:pt x="3518" y="260"/>
                </a:lnTo>
                <a:lnTo>
                  <a:pt x="3508" y="292"/>
                </a:lnTo>
                <a:lnTo>
                  <a:pt x="3508" y="300"/>
                </a:lnTo>
                <a:lnTo>
                  <a:pt x="3506" y="312"/>
                </a:lnTo>
                <a:lnTo>
                  <a:pt x="3506" y="316"/>
                </a:lnTo>
                <a:lnTo>
                  <a:pt x="3503" y="319"/>
                </a:lnTo>
                <a:lnTo>
                  <a:pt x="3502" y="322"/>
                </a:lnTo>
                <a:lnTo>
                  <a:pt x="3499" y="323"/>
                </a:lnTo>
                <a:lnTo>
                  <a:pt x="3495" y="325"/>
                </a:lnTo>
                <a:lnTo>
                  <a:pt x="3486" y="328"/>
                </a:lnTo>
                <a:lnTo>
                  <a:pt x="3474" y="334"/>
                </a:lnTo>
                <a:lnTo>
                  <a:pt x="3474" y="334"/>
                </a:lnTo>
                <a:lnTo>
                  <a:pt x="3473" y="331"/>
                </a:lnTo>
                <a:lnTo>
                  <a:pt x="3473" y="328"/>
                </a:lnTo>
                <a:lnTo>
                  <a:pt x="3469" y="319"/>
                </a:lnTo>
                <a:lnTo>
                  <a:pt x="3460" y="300"/>
                </a:lnTo>
                <a:lnTo>
                  <a:pt x="3456" y="286"/>
                </a:lnTo>
                <a:lnTo>
                  <a:pt x="3448" y="287"/>
                </a:lnTo>
                <a:lnTo>
                  <a:pt x="3438" y="290"/>
                </a:lnTo>
                <a:lnTo>
                  <a:pt x="3432" y="295"/>
                </a:lnTo>
                <a:lnTo>
                  <a:pt x="3427" y="302"/>
                </a:lnTo>
                <a:lnTo>
                  <a:pt x="3424" y="309"/>
                </a:lnTo>
                <a:lnTo>
                  <a:pt x="3419" y="318"/>
                </a:lnTo>
                <a:lnTo>
                  <a:pt x="3418" y="322"/>
                </a:lnTo>
                <a:lnTo>
                  <a:pt x="3415" y="322"/>
                </a:lnTo>
                <a:lnTo>
                  <a:pt x="3409" y="321"/>
                </a:lnTo>
                <a:lnTo>
                  <a:pt x="3403" y="319"/>
                </a:lnTo>
                <a:lnTo>
                  <a:pt x="3390" y="315"/>
                </a:lnTo>
                <a:lnTo>
                  <a:pt x="3382" y="312"/>
                </a:lnTo>
                <a:lnTo>
                  <a:pt x="3380" y="308"/>
                </a:lnTo>
                <a:lnTo>
                  <a:pt x="3380" y="299"/>
                </a:lnTo>
                <a:lnTo>
                  <a:pt x="3376" y="283"/>
                </a:lnTo>
                <a:lnTo>
                  <a:pt x="3373" y="270"/>
                </a:lnTo>
                <a:lnTo>
                  <a:pt x="3373" y="267"/>
                </a:lnTo>
                <a:lnTo>
                  <a:pt x="3370" y="273"/>
                </a:lnTo>
                <a:lnTo>
                  <a:pt x="3366" y="283"/>
                </a:lnTo>
                <a:lnTo>
                  <a:pt x="3357" y="303"/>
                </a:lnTo>
                <a:lnTo>
                  <a:pt x="3347" y="321"/>
                </a:lnTo>
                <a:lnTo>
                  <a:pt x="3345" y="322"/>
                </a:lnTo>
                <a:lnTo>
                  <a:pt x="3343" y="322"/>
                </a:lnTo>
                <a:lnTo>
                  <a:pt x="3340" y="322"/>
                </a:lnTo>
                <a:lnTo>
                  <a:pt x="3335" y="319"/>
                </a:lnTo>
                <a:lnTo>
                  <a:pt x="3330" y="316"/>
                </a:lnTo>
                <a:lnTo>
                  <a:pt x="3325" y="313"/>
                </a:lnTo>
                <a:lnTo>
                  <a:pt x="3322" y="309"/>
                </a:lnTo>
                <a:lnTo>
                  <a:pt x="3321" y="303"/>
                </a:lnTo>
                <a:lnTo>
                  <a:pt x="3322" y="303"/>
                </a:lnTo>
                <a:lnTo>
                  <a:pt x="3319" y="293"/>
                </a:lnTo>
                <a:lnTo>
                  <a:pt x="3319" y="287"/>
                </a:lnTo>
                <a:lnTo>
                  <a:pt x="3319" y="286"/>
                </a:lnTo>
                <a:lnTo>
                  <a:pt x="3316" y="280"/>
                </a:lnTo>
                <a:lnTo>
                  <a:pt x="3315" y="277"/>
                </a:lnTo>
                <a:lnTo>
                  <a:pt x="3309" y="270"/>
                </a:lnTo>
                <a:lnTo>
                  <a:pt x="3298" y="257"/>
                </a:lnTo>
                <a:lnTo>
                  <a:pt x="3295" y="252"/>
                </a:lnTo>
                <a:lnTo>
                  <a:pt x="3293" y="247"/>
                </a:lnTo>
                <a:lnTo>
                  <a:pt x="3293" y="235"/>
                </a:lnTo>
                <a:lnTo>
                  <a:pt x="3296" y="218"/>
                </a:lnTo>
                <a:lnTo>
                  <a:pt x="3299" y="212"/>
                </a:lnTo>
                <a:lnTo>
                  <a:pt x="3306" y="206"/>
                </a:lnTo>
                <a:lnTo>
                  <a:pt x="3311" y="203"/>
                </a:lnTo>
                <a:lnTo>
                  <a:pt x="3322" y="208"/>
                </a:lnTo>
                <a:lnTo>
                  <a:pt x="3357" y="218"/>
                </a:lnTo>
                <a:lnTo>
                  <a:pt x="3383" y="226"/>
                </a:lnTo>
                <a:lnTo>
                  <a:pt x="3386" y="226"/>
                </a:lnTo>
                <a:lnTo>
                  <a:pt x="3379" y="219"/>
                </a:lnTo>
                <a:lnTo>
                  <a:pt x="3363" y="200"/>
                </a:lnTo>
                <a:lnTo>
                  <a:pt x="3337" y="157"/>
                </a:lnTo>
                <a:lnTo>
                  <a:pt x="3332" y="135"/>
                </a:lnTo>
                <a:lnTo>
                  <a:pt x="3334" y="125"/>
                </a:lnTo>
                <a:lnTo>
                  <a:pt x="3338" y="116"/>
                </a:lnTo>
                <a:lnTo>
                  <a:pt x="3344" y="108"/>
                </a:lnTo>
                <a:lnTo>
                  <a:pt x="3345" y="108"/>
                </a:lnTo>
                <a:lnTo>
                  <a:pt x="3343" y="103"/>
                </a:lnTo>
                <a:lnTo>
                  <a:pt x="3338" y="95"/>
                </a:lnTo>
                <a:lnTo>
                  <a:pt x="3332" y="74"/>
                </a:lnTo>
                <a:lnTo>
                  <a:pt x="3338" y="45"/>
                </a:lnTo>
                <a:lnTo>
                  <a:pt x="3343" y="37"/>
                </a:lnTo>
                <a:lnTo>
                  <a:pt x="3345" y="34"/>
                </a:lnTo>
                <a:lnTo>
                  <a:pt x="3356" y="21"/>
                </a:lnTo>
                <a:lnTo>
                  <a:pt x="3363" y="12"/>
                </a:lnTo>
                <a:lnTo>
                  <a:pt x="3364" y="10"/>
                </a:lnTo>
                <a:lnTo>
                  <a:pt x="3364" y="10"/>
                </a:lnTo>
                <a:close/>
                <a:moveTo>
                  <a:pt x="3276" y="2255"/>
                </a:moveTo>
                <a:lnTo>
                  <a:pt x="3276" y="2259"/>
                </a:lnTo>
                <a:lnTo>
                  <a:pt x="3280" y="2268"/>
                </a:lnTo>
                <a:lnTo>
                  <a:pt x="3286" y="2288"/>
                </a:lnTo>
                <a:lnTo>
                  <a:pt x="3285" y="2293"/>
                </a:lnTo>
                <a:lnTo>
                  <a:pt x="3283" y="2296"/>
                </a:lnTo>
                <a:lnTo>
                  <a:pt x="3282" y="2300"/>
                </a:lnTo>
                <a:lnTo>
                  <a:pt x="3277" y="2303"/>
                </a:lnTo>
                <a:lnTo>
                  <a:pt x="3272" y="2304"/>
                </a:lnTo>
                <a:lnTo>
                  <a:pt x="3272" y="2304"/>
                </a:lnTo>
                <a:lnTo>
                  <a:pt x="3261" y="2306"/>
                </a:lnTo>
                <a:lnTo>
                  <a:pt x="3243" y="2303"/>
                </a:lnTo>
                <a:lnTo>
                  <a:pt x="3225" y="2296"/>
                </a:lnTo>
                <a:lnTo>
                  <a:pt x="3209" y="2287"/>
                </a:lnTo>
                <a:lnTo>
                  <a:pt x="3174" y="2274"/>
                </a:lnTo>
                <a:lnTo>
                  <a:pt x="3166" y="2272"/>
                </a:lnTo>
                <a:lnTo>
                  <a:pt x="3170" y="2264"/>
                </a:lnTo>
                <a:lnTo>
                  <a:pt x="3173" y="2259"/>
                </a:lnTo>
                <a:lnTo>
                  <a:pt x="3174" y="2258"/>
                </a:lnTo>
                <a:lnTo>
                  <a:pt x="3186" y="2256"/>
                </a:lnTo>
                <a:lnTo>
                  <a:pt x="3205" y="2254"/>
                </a:lnTo>
                <a:lnTo>
                  <a:pt x="3235" y="2254"/>
                </a:lnTo>
                <a:lnTo>
                  <a:pt x="3266" y="2255"/>
                </a:lnTo>
                <a:lnTo>
                  <a:pt x="3276" y="2255"/>
                </a:lnTo>
                <a:lnTo>
                  <a:pt x="3276" y="2255"/>
                </a:lnTo>
                <a:close/>
                <a:moveTo>
                  <a:pt x="3273" y="2455"/>
                </a:moveTo>
                <a:lnTo>
                  <a:pt x="3287" y="2464"/>
                </a:lnTo>
                <a:lnTo>
                  <a:pt x="3306" y="2471"/>
                </a:lnTo>
                <a:lnTo>
                  <a:pt x="3311" y="2472"/>
                </a:lnTo>
                <a:lnTo>
                  <a:pt x="3316" y="2471"/>
                </a:lnTo>
                <a:lnTo>
                  <a:pt x="3319" y="2469"/>
                </a:lnTo>
                <a:lnTo>
                  <a:pt x="3324" y="2467"/>
                </a:lnTo>
                <a:lnTo>
                  <a:pt x="3335" y="2461"/>
                </a:lnTo>
                <a:lnTo>
                  <a:pt x="3356" y="2456"/>
                </a:lnTo>
                <a:lnTo>
                  <a:pt x="3373" y="2455"/>
                </a:lnTo>
                <a:lnTo>
                  <a:pt x="3372" y="2461"/>
                </a:lnTo>
                <a:lnTo>
                  <a:pt x="3370" y="2469"/>
                </a:lnTo>
                <a:lnTo>
                  <a:pt x="3366" y="2487"/>
                </a:lnTo>
                <a:lnTo>
                  <a:pt x="3363" y="2506"/>
                </a:lnTo>
                <a:lnTo>
                  <a:pt x="3364" y="2510"/>
                </a:lnTo>
                <a:lnTo>
                  <a:pt x="3356" y="2509"/>
                </a:lnTo>
                <a:lnTo>
                  <a:pt x="3334" y="2507"/>
                </a:lnTo>
                <a:lnTo>
                  <a:pt x="3286" y="2497"/>
                </a:lnTo>
                <a:lnTo>
                  <a:pt x="3277" y="2493"/>
                </a:lnTo>
                <a:lnTo>
                  <a:pt x="3272" y="2487"/>
                </a:lnTo>
                <a:lnTo>
                  <a:pt x="3267" y="2478"/>
                </a:lnTo>
                <a:lnTo>
                  <a:pt x="3267" y="2468"/>
                </a:lnTo>
                <a:lnTo>
                  <a:pt x="3272" y="2455"/>
                </a:lnTo>
                <a:lnTo>
                  <a:pt x="3273" y="2455"/>
                </a:lnTo>
                <a:lnTo>
                  <a:pt x="3273" y="2455"/>
                </a:lnTo>
                <a:close/>
                <a:moveTo>
                  <a:pt x="3374" y="2400"/>
                </a:moveTo>
                <a:lnTo>
                  <a:pt x="3367" y="2400"/>
                </a:lnTo>
                <a:lnTo>
                  <a:pt x="3361" y="2397"/>
                </a:lnTo>
                <a:lnTo>
                  <a:pt x="3357" y="2393"/>
                </a:lnTo>
                <a:lnTo>
                  <a:pt x="3353" y="2388"/>
                </a:lnTo>
                <a:lnTo>
                  <a:pt x="3350" y="2383"/>
                </a:lnTo>
                <a:lnTo>
                  <a:pt x="3345" y="2372"/>
                </a:lnTo>
                <a:lnTo>
                  <a:pt x="3345" y="2367"/>
                </a:lnTo>
                <a:lnTo>
                  <a:pt x="3347" y="2361"/>
                </a:lnTo>
                <a:lnTo>
                  <a:pt x="3350" y="2358"/>
                </a:lnTo>
                <a:lnTo>
                  <a:pt x="3354" y="2355"/>
                </a:lnTo>
                <a:lnTo>
                  <a:pt x="3360" y="2354"/>
                </a:lnTo>
                <a:lnTo>
                  <a:pt x="3361" y="2354"/>
                </a:lnTo>
                <a:lnTo>
                  <a:pt x="3363" y="2356"/>
                </a:lnTo>
                <a:lnTo>
                  <a:pt x="3369" y="2364"/>
                </a:lnTo>
                <a:lnTo>
                  <a:pt x="3377" y="2380"/>
                </a:lnTo>
                <a:lnTo>
                  <a:pt x="3379" y="2388"/>
                </a:lnTo>
                <a:lnTo>
                  <a:pt x="3377" y="2397"/>
                </a:lnTo>
                <a:lnTo>
                  <a:pt x="3374" y="2400"/>
                </a:lnTo>
                <a:lnTo>
                  <a:pt x="3374" y="2400"/>
                </a:lnTo>
                <a:close/>
                <a:moveTo>
                  <a:pt x="3419" y="2433"/>
                </a:moveTo>
                <a:lnTo>
                  <a:pt x="3424" y="2429"/>
                </a:lnTo>
                <a:lnTo>
                  <a:pt x="3431" y="2416"/>
                </a:lnTo>
                <a:lnTo>
                  <a:pt x="3438" y="2401"/>
                </a:lnTo>
                <a:lnTo>
                  <a:pt x="3451" y="2375"/>
                </a:lnTo>
                <a:lnTo>
                  <a:pt x="3464" y="2362"/>
                </a:lnTo>
                <a:lnTo>
                  <a:pt x="3466" y="2365"/>
                </a:lnTo>
                <a:lnTo>
                  <a:pt x="3473" y="2374"/>
                </a:lnTo>
                <a:lnTo>
                  <a:pt x="3492" y="2398"/>
                </a:lnTo>
                <a:lnTo>
                  <a:pt x="3503" y="2419"/>
                </a:lnTo>
                <a:lnTo>
                  <a:pt x="3505" y="2420"/>
                </a:lnTo>
                <a:lnTo>
                  <a:pt x="3505" y="2432"/>
                </a:lnTo>
                <a:lnTo>
                  <a:pt x="3505" y="2449"/>
                </a:lnTo>
                <a:lnTo>
                  <a:pt x="3505" y="2458"/>
                </a:lnTo>
                <a:lnTo>
                  <a:pt x="3503" y="2462"/>
                </a:lnTo>
                <a:lnTo>
                  <a:pt x="3500" y="2465"/>
                </a:lnTo>
                <a:lnTo>
                  <a:pt x="3496" y="2467"/>
                </a:lnTo>
                <a:lnTo>
                  <a:pt x="3492" y="2469"/>
                </a:lnTo>
                <a:lnTo>
                  <a:pt x="3474" y="2477"/>
                </a:lnTo>
                <a:lnTo>
                  <a:pt x="3464" y="2481"/>
                </a:lnTo>
                <a:lnTo>
                  <a:pt x="3463" y="2478"/>
                </a:lnTo>
                <a:lnTo>
                  <a:pt x="3460" y="2475"/>
                </a:lnTo>
                <a:lnTo>
                  <a:pt x="3457" y="2474"/>
                </a:lnTo>
                <a:lnTo>
                  <a:pt x="3453" y="2471"/>
                </a:lnTo>
                <a:lnTo>
                  <a:pt x="3443" y="2467"/>
                </a:lnTo>
                <a:lnTo>
                  <a:pt x="3432" y="2461"/>
                </a:lnTo>
                <a:lnTo>
                  <a:pt x="3424" y="2451"/>
                </a:lnTo>
                <a:lnTo>
                  <a:pt x="3419" y="2433"/>
                </a:lnTo>
                <a:lnTo>
                  <a:pt x="3419" y="2433"/>
                </a:lnTo>
                <a:lnTo>
                  <a:pt x="3419" y="2433"/>
                </a:lnTo>
                <a:close/>
                <a:moveTo>
                  <a:pt x="3754" y="2207"/>
                </a:moveTo>
                <a:lnTo>
                  <a:pt x="3747" y="2207"/>
                </a:lnTo>
                <a:lnTo>
                  <a:pt x="3738" y="2207"/>
                </a:lnTo>
                <a:lnTo>
                  <a:pt x="3725" y="2203"/>
                </a:lnTo>
                <a:lnTo>
                  <a:pt x="3712" y="2200"/>
                </a:lnTo>
                <a:lnTo>
                  <a:pt x="3708" y="2198"/>
                </a:lnTo>
                <a:lnTo>
                  <a:pt x="3705" y="2201"/>
                </a:lnTo>
                <a:lnTo>
                  <a:pt x="3700" y="2207"/>
                </a:lnTo>
                <a:lnTo>
                  <a:pt x="3692" y="2219"/>
                </a:lnTo>
                <a:lnTo>
                  <a:pt x="3686" y="2229"/>
                </a:lnTo>
                <a:lnTo>
                  <a:pt x="3684" y="2229"/>
                </a:lnTo>
                <a:lnTo>
                  <a:pt x="3683" y="2223"/>
                </a:lnTo>
                <a:lnTo>
                  <a:pt x="3682" y="2209"/>
                </a:lnTo>
                <a:lnTo>
                  <a:pt x="3684" y="2177"/>
                </a:lnTo>
                <a:lnTo>
                  <a:pt x="3690" y="2148"/>
                </a:lnTo>
                <a:lnTo>
                  <a:pt x="3692" y="2141"/>
                </a:lnTo>
                <a:lnTo>
                  <a:pt x="3692" y="2136"/>
                </a:lnTo>
                <a:lnTo>
                  <a:pt x="3692" y="2129"/>
                </a:lnTo>
                <a:lnTo>
                  <a:pt x="3693" y="2116"/>
                </a:lnTo>
                <a:lnTo>
                  <a:pt x="3693" y="2097"/>
                </a:lnTo>
                <a:lnTo>
                  <a:pt x="3695" y="2088"/>
                </a:lnTo>
                <a:lnTo>
                  <a:pt x="3703" y="2090"/>
                </a:lnTo>
                <a:lnTo>
                  <a:pt x="3715" y="2093"/>
                </a:lnTo>
                <a:lnTo>
                  <a:pt x="3718" y="2094"/>
                </a:lnTo>
                <a:lnTo>
                  <a:pt x="3719" y="2097"/>
                </a:lnTo>
                <a:lnTo>
                  <a:pt x="3721" y="2099"/>
                </a:lnTo>
                <a:lnTo>
                  <a:pt x="3725" y="2109"/>
                </a:lnTo>
                <a:lnTo>
                  <a:pt x="3760" y="2143"/>
                </a:lnTo>
                <a:lnTo>
                  <a:pt x="3761" y="2143"/>
                </a:lnTo>
                <a:lnTo>
                  <a:pt x="3761" y="2149"/>
                </a:lnTo>
                <a:lnTo>
                  <a:pt x="3761" y="2159"/>
                </a:lnTo>
                <a:lnTo>
                  <a:pt x="3761" y="2184"/>
                </a:lnTo>
                <a:lnTo>
                  <a:pt x="3760" y="2196"/>
                </a:lnTo>
                <a:lnTo>
                  <a:pt x="3755" y="2204"/>
                </a:lnTo>
                <a:lnTo>
                  <a:pt x="3754" y="2207"/>
                </a:lnTo>
                <a:lnTo>
                  <a:pt x="3754" y="2207"/>
                </a:lnTo>
                <a:close/>
                <a:moveTo>
                  <a:pt x="3522" y="2084"/>
                </a:moveTo>
                <a:lnTo>
                  <a:pt x="3529" y="2080"/>
                </a:lnTo>
                <a:lnTo>
                  <a:pt x="3545" y="2068"/>
                </a:lnTo>
                <a:lnTo>
                  <a:pt x="3571" y="2046"/>
                </a:lnTo>
                <a:lnTo>
                  <a:pt x="3598" y="2022"/>
                </a:lnTo>
                <a:lnTo>
                  <a:pt x="3605" y="2014"/>
                </a:lnTo>
                <a:lnTo>
                  <a:pt x="3608" y="2019"/>
                </a:lnTo>
                <a:lnTo>
                  <a:pt x="3613" y="2030"/>
                </a:lnTo>
                <a:lnTo>
                  <a:pt x="3618" y="2042"/>
                </a:lnTo>
                <a:lnTo>
                  <a:pt x="3622" y="2067"/>
                </a:lnTo>
                <a:lnTo>
                  <a:pt x="3622" y="2084"/>
                </a:lnTo>
                <a:lnTo>
                  <a:pt x="3628" y="2080"/>
                </a:lnTo>
                <a:lnTo>
                  <a:pt x="3645" y="2064"/>
                </a:lnTo>
                <a:lnTo>
                  <a:pt x="3660" y="2051"/>
                </a:lnTo>
                <a:lnTo>
                  <a:pt x="3661" y="2049"/>
                </a:lnTo>
                <a:lnTo>
                  <a:pt x="3661" y="2062"/>
                </a:lnTo>
                <a:lnTo>
                  <a:pt x="3661" y="2100"/>
                </a:lnTo>
                <a:lnTo>
                  <a:pt x="3656" y="2197"/>
                </a:lnTo>
                <a:lnTo>
                  <a:pt x="3642" y="2238"/>
                </a:lnTo>
                <a:lnTo>
                  <a:pt x="3632" y="2252"/>
                </a:lnTo>
                <a:lnTo>
                  <a:pt x="3619" y="2262"/>
                </a:lnTo>
                <a:lnTo>
                  <a:pt x="3605" y="2265"/>
                </a:lnTo>
                <a:lnTo>
                  <a:pt x="3605" y="2265"/>
                </a:lnTo>
                <a:lnTo>
                  <a:pt x="3605" y="2262"/>
                </a:lnTo>
                <a:lnTo>
                  <a:pt x="3605" y="2255"/>
                </a:lnTo>
                <a:lnTo>
                  <a:pt x="3609" y="2236"/>
                </a:lnTo>
                <a:lnTo>
                  <a:pt x="3612" y="2219"/>
                </a:lnTo>
                <a:lnTo>
                  <a:pt x="3613" y="2214"/>
                </a:lnTo>
                <a:lnTo>
                  <a:pt x="3590" y="2216"/>
                </a:lnTo>
                <a:lnTo>
                  <a:pt x="3554" y="2225"/>
                </a:lnTo>
                <a:lnTo>
                  <a:pt x="3528" y="2239"/>
                </a:lnTo>
                <a:lnTo>
                  <a:pt x="3506" y="2259"/>
                </a:lnTo>
                <a:lnTo>
                  <a:pt x="3458" y="2304"/>
                </a:lnTo>
                <a:lnTo>
                  <a:pt x="3443" y="2314"/>
                </a:lnTo>
                <a:lnTo>
                  <a:pt x="3443" y="2313"/>
                </a:lnTo>
                <a:lnTo>
                  <a:pt x="3444" y="2303"/>
                </a:lnTo>
                <a:lnTo>
                  <a:pt x="3450" y="2264"/>
                </a:lnTo>
                <a:lnTo>
                  <a:pt x="3454" y="2229"/>
                </a:lnTo>
                <a:lnTo>
                  <a:pt x="3456" y="2225"/>
                </a:lnTo>
                <a:lnTo>
                  <a:pt x="3447" y="2222"/>
                </a:lnTo>
                <a:lnTo>
                  <a:pt x="3437" y="2216"/>
                </a:lnTo>
                <a:lnTo>
                  <a:pt x="3428" y="2210"/>
                </a:lnTo>
                <a:lnTo>
                  <a:pt x="3427" y="2207"/>
                </a:lnTo>
                <a:lnTo>
                  <a:pt x="3422" y="2188"/>
                </a:lnTo>
                <a:lnTo>
                  <a:pt x="3414" y="2127"/>
                </a:lnTo>
                <a:lnTo>
                  <a:pt x="3408" y="2081"/>
                </a:lnTo>
                <a:lnTo>
                  <a:pt x="3408" y="2078"/>
                </a:lnTo>
                <a:lnTo>
                  <a:pt x="3406" y="2064"/>
                </a:lnTo>
                <a:lnTo>
                  <a:pt x="3406" y="2028"/>
                </a:lnTo>
                <a:lnTo>
                  <a:pt x="3414" y="1954"/>
                </a:lnTo>
                <a:lnTo>
                  <a:pt x="3418" y="1941"/>
                </a:lnTo>
                <a:lnTo>
                  <a:pt x="3424" y="1932"/>
                </a:lnTo>
                <a:lnTo>
                  <a:pt x="3427" y="1929"/>
                </a:lnTo>
                <a:lnTo>
                  <a:pt x="3429" y="1928"/>
                </a:lnTo>
                <a:lnTo>
                  <a:pt x="3434" y="1929"/>
                </a:lnTo>
                <a:lnTo>
                  <a:pt x="3437" y="1930"/>
                </a:lnTo>
                <a:lnTo>
                  <a:pt x="3441" y="1935"/>
                </a:lnTo>
                <a:lnTo>
                  <a:pt x="3445" y="1941"/>
                </a:lnTo>
                <a:lnTo>
                  <a:pt x="3447" y="1941"/>
                </a:lnTo>
                <a:lnTo>
                  <a:pt x="3451" y="1951"/>
                </a:lnTo>
                <a:lnTo>
                  <a:pt x="3458" y="1972"/>
                </a:lnTo>
                <a:lnTo>
                  <a:pt x="3463" y="1997"/>
                </a:lnTo>
                <a:lnTo>
                  <a:pt x="3466" y="2048"/>
                </a:lnTo>
                <a:lnTo>
                  <a:pt x="3467" y="2078"/>
                </a:lnTo>
                <a:lnTo>
                  <a:pt x="3474" y="2074"/>
                </a:lnTo>
                <a:lnTo>
                  <a:pt x="3489" y="2062"/>
                </a:lnTo>
                <a:lnTo>
                  <a:pt x="3498" y="2055"/>
                </a:lnTo>
                <a:lnTo>
                  <a:pt x="3502" y="2054"/>
                </a:lnTo>
                <a:lnTo>
                  <a:pt x="3505" y="2052"/>
                </a:lnTo>
                <a:lnTo>
                  <a:pt x="3508" y="2054"/>
                </a:lnTo>
                <a:lnTo>
                  <a:pt x="3509" y="2055"/>
                </a:lnTo>
                <a:lnTo>
                  <a:pt x="3511" y="2058"/>
                </a:lnTo>
                <a:lnTo>
                  <a:pt x="3514" y="2064"/>
                </a:lnTo>
                <a:lnTo>
                  <a:pt x="3518" y="2072"/>
                </a:lnTo>
                <a:lnTo>
                  <a:pt x="3521" y="2084"/>
                </a:lnTo>
                <a:lnTo>
                  <a:pt x="3522" y="2084"/>
                </a:lnTo>
                <a:lnTo>
                  <a:pt x="3522" y="2084"/>
                </a:lnTo>
                <a:close/>
                <a:moveTo>
                  <a:pt x="252" y="2461"/>
                </a:moveTo>
                <a:lnTo>
                  <a:pt x="241" y="2448"/>
                </a:lnTo>
                <a:lnTo>
                  <a:pt x="222" y="2425"/>
                </a:lnTo>
                <a:lnTo>
                  <a:pt x="186" y="2401"/>
                </a:lnTo>
                <a:lnTo>
                  <a:pt x="171" y="2398"/>
                </a:lnTo>
                <a:lnTo>
                  <a:pt x="157" y="2398"/>
                </a:lnTo>
                <a:lnTo>
                  <a:pt x="151" y="2400"/>
                </a:lnTo>
                <a:lnTo>
                  <a:pt x="151" y="2407"/>
                </a:lnTo>
                <a:lnTo>
                  <a:pt x="152" y="2419"/>
                </a:lnTo>
                <a:lnTo>
                  <a:pt x="157" y="2432"/>
                </a:lnTo>
                <a:lnTo>
                  <a:pt x="165" y="2448"/>
                </a:lnTo>
                <a:lnTo>
                  <a:pt x="199" y="2488"/>
                </a:lnTo>
                <a:lnTo>
                  <a:pt x="212" y="2501"/>
                </a:lnTo>
                <a:lnTo>
                  <a:pt x="216" y="2509"/>
                </a:lnTo>
                <a:lnTo>
                  <a:pt x="223" y="2520"/>
                </a:lnTo>
                <a:lnTo>
                  <a:pt x="226" y="2532"/>
                </a:lnTo>
                <a:lnTo>
                  <a:pt x="226" y="2542"/>
                </a:lnTo>
                <a:lnTo>
                  <a:pt x="229" y="2553"/>
                </a:lnTo>
                <a:lnTo>
                  <a:pt x="233" y="2564"/>
                </a:lnTo>
                <a:lnTo>
                  <a:pt x="239" y="2568"/>
                </a:lnTo>
                <a:lnTo>
                  <a:pt x="245" y="2574"/>
                </a:lnTo>
                <a:lnTo>
                  <a:pt x="251" y="2578"/>
                </a:lnTo>
                <a:lnTo>
                  <a:pt x="259" y="2580"/>
                </a:lnTo>
                <a:lnTo>
                  <a:pt x="275" y="2582"/>
                </a:lnTo>
                <a:lnTo>
                  <a:pt x="291" y="2582"/>
                </a:lnTo>
                <a:lnTo>
                  <a:pt x="314" y="2580"/>
                </a:lnTo>
                <a:lnTo>
                  <a:pt x="317" y="2580"/>
                </a:lnTo>
                <a:lnTo>
                  <a:pt x="316" y="2571"/>
                </a:lnTo>
                <a:lnTo>
                  <a:pt x="313" y="2555"/>
                </a:lnTo>
                <a:lnTo>
                  <a:pt x="306" y="2538"/>
                </a:lnTo>
                <a:lnTo>
                  <a:pt x="294" y="2520"/>
                </a:lnTo>
                <a:lnTo>
                  <a:pt x="261" y="2475"/>
                </a:lnTo>
                <a:lnTo>
                  <a:pt x="252" y="2461"/>
                </a:lnTo>
                <a:lnTo>
                  <a:pt x="252" y="2461"/>
                </a:lnTo>
                <a:close/>
                <a:moveTo>
                  <a:pt x="1701" y="2733"/>
                </a:moveTo>
                <a:lnTo>
                  <a:pt x="1702" y="2726"/>
                </a:lnTo>
                <a:lnTo>
                  <a:pt x="1708" y="2704"/>
                </a:lnTo>
                <a:lnTo>
                  <a:pt x="1713" y="2687"/>
                </a:lnTo>
                <a:lnTo>
                  <a:pt x="1714" y="2685"/>
                </a:lnTo>
                <a:lnTo>
                  <a:pt x="1721" y="2687"/>
                </a:lnTo>
                <a:lnTo>
                  <a:pt x="1744" y="2690"/>
                </a:lnTo>
                <a:lnTo>
                  <a:pt x="1762" y="2691"/>
                </a:lnTo>
                <a:lnTo>
                  <a:pt x="1763" y="2691"/>
                </a:lnTo>
                <a:lnTo>
                  <a:pt x="1762" y="2700"/>
                </a:lnTo>
                <a:lnTo>
                  <a:pt x="1762" y="2726"/>
                </a:lnTo>
                <a:lnTo>
                  <a:pt x="1762" y="2745"/>
                </a:lnTo>
                <a:lnTo>
                  <a:pt x="1762" y="2745"/>
                </a:lnTo>
                <a:lnTo>
                  <a:pt x="1766" y="2746"/>
                </a:lnTo>
                <a:lnTo>
                  <a:pt x="1775" y="2748"/>
                </a:lnTo>
                <a:lnTo>
                  <a:pt x="1797" y="2755"/>
                </a:lnTo>
                <a:lnTo>
                  <a:pt x="1855" y="2771"/>
                </a:lnTo>
                <a:lnTo>
                  <a:pt x="1911" y="2777"/>
                </a:lnTo>
                <a:lnTo>
                  <a:pt x="1913" y="2777"/>
                </a:lnTo>
                <a:lnTo>
                  <a:pt x="1927" y="2777"/>
                </a:lnTo>
                <a:lnTo>
                  <a:pt x="1976" y="2772"/>
                </a:lnTo>
                <a:lnTo>
                  <a:pt x="2014" y="2771"/>
                </a:lnTo>
                <a:lnTo>
                  <a:pt x="2017" y="2769"/>
                </a:lnTo>
                <a:lnTo>
                  <a:pt x="2024" y="2768"/>
                </a:lnTo>
                <a:lnTo>
                  <a:pt x="2033" y="2765"/>
                </a:lnTo>
                <a:lnTo>
                  <a:pt x="2039" y="2759"/>
                </a:lnTo>
                <a:lnTo>
                  <a:pt x="2046" y="2753"/>
                </a:lnTo>
                <a:lnTo>
                  <a:pt x="2056" y="2736"/>
                </a:lnTo>
                <a:lnTo>
                  <a:pt x="2066" y="2719"/>
                </a:lnTo>
                <a:lnTo>
                  <a:pt x="2089" y="2684"/>
                </a:lnTo>
                <a:lnTo>
                  <a:pt x="2091" y="2684"/>
                </a:lnTo>
                <a:lnTo>
                  <a:pt x="2099" y="2685"/>
                </a:lnTo>
                <a:lnTo>
                  <a:pt x="2118" y="2688"/>
                </a:lnTo>
                <a:lnTo>
                  <a:pt x="2134" y="2694"/>
                </a:lnTo>
                <a:lnTo>
                  <a:pt x="2173" y="2714"/>
                </a:lnTo>
                <a:lnTo>
                  <a:pt x="2217" y="2735"/>
                </a:lnTo>
                <a:lnTo>
                  <a:pt x="2226" y="2739"/>
                </a:lnTo>
                <a:lnTo>
                  <a:pt x="2252" y="2749"/>
                </a:lnTo>
                <a:lnTo>
                  <a:pt x="2272" y="2756"/>
                </a:lnTo>
                <a:lnTo>
                  <a:pt x="2273" y="2756"/>
                </a:lnTo>
                <a:lnTo>
                  <a:pt x="2276" y="2762"/>
                </a:lnTo>
                <a:lnTo>
                  <a:pt x="2278" y="2768"/>
                </a:lnTo>
                <a:lnTo>
                  <a:pt x="2276" y="2775"/>
                </a:lnTo>
                <a:lnTo>
                  <a:pt x="2275" y="2781"/>
                </a:lnTo>
                <a:lnTo>
                  <a:pt x="2270" y="2795"/>
                </a:lnTo>
                <a:lnTo>
                  <a:pt x="2266" y="2811"/>
                </a:lnTo>
                <a:lnTo>
                  <a:pt x="2265" y="2824"/>
                </a:lnTo>
                <a:lnTo>
                  <a:pt x="2269" y="2835"/>
                </a:lnTo>
                <a:lnTo>
                  <a:pt x="2270" y="2835"/>
                </a:lnTo>
                <a:lnTo>
                  <a:pt x="2275" y="2836"/>
                </a:lnTo>
                <a:lnTo>
                  <a:pt x="2285" y="2839"/>
                </a:lnTo>
                <a:lnTo>
                  <a:pt x="2295" y="2843"/>
                </a:lnTo>
                <a:lnTo>
                  <a:pt x="2317" y="2852"/>
                </a:lnTo>
                <a:lnTo>
                  <a:pt x="2331" y="2855"/>
                </a:lnTo>
                <a:lnTo>
                  <a:pt x="2343" y="2858"/>
                </a:lnTo>
                <a:lnTo>
                  <a:pt x="2369" y="2861"/>
                </a:lnTo>
                <a:lnTo>
                  <a:pt x="2421" y="2859"/>
                </a:lnTo>
                <a:lnTo>
                  <a:pt x="2470" y="2865"/>
                </a:lnTo>
                <a:lnTo>
                  <a:pt x="2482" y="2868"/>
                </a:lnTo>
                <a:lnTo>
                  <a:pt x="2483" y="2868"/>
                </a:lnTo>
                <a:lnTo>
                  <a:pt x="2495" y="2868"/>
                </a:lnTo>
                <a:lnTo>
                  <a:pt x="2530" y="2868"/>
                </a:lnTo>
                <a:lnTo>
                  <a:pt x="2549" y="2872"/>
                </a:lnTo>
                <a:lnTo>
                  <a:pt x="2556" y="2875"/>
                </a:lnTo>
                <a:lnTo>
                  <a:pt x="2562" y="2880"/>
                </a:lnTo>
                <a:lnTo>
                  <a:pt x="2565" y="2885"/>
                </a:lnTo>
                <a:lnTo>
                  <a:pt x="2566" y="2885"/>
                </a:lnTo>
                <a:lnTo>
                  <a:pt x="2563" y="2888"/>
                </a:lnTo>
                <a:lnTo>
                  <a:pt x="2562" y="2893"/>
                </a:lnTo>
                <a:lnTo>
                  <a:pt x="2560" y="2897"/>
                </a:lnTo>
                <a:lnTo>
                  <a:pt x="2560" y="2903"/>
                </a:lnTo>
                <a:lnTo>
                  <a:pt x="2560" y="2916"/>
                </a:lnTo>
                <a:lnTo>
                  <a:pt x="2559" y="2942"/>
                </a:lnTo>
                <a:lnTo>
                  <a:pt x="2554" y="2949"/>
                </a:lnTo>
                <a:lnTo>
                  <a:pt x="2549" y="2951"/>
                </a:lnTo>
                <a:lnTo>
                  <a:pt x="2543" y="2951"/>
                </a:lnTo>
                <a:lnTo>
                  <a:pt x="2534" y="2948"/>
                </a:lnTo>
                <a:lnTo>
                  <a:pt x="2515" y="2942"/>
                </a:lnTo>
                <a:lnTo>
                  <a:pt x="2485" y="2926"/>
                </a:lnTo>
                <a:lnTo>
                  <a:pt x="2483" y="2924"/>
                </a:lnTo>
                <a:lnTo>
                  <a:pt x="2483" y="2937"/>
                </a:lnTo>
                <a:lnTo>
                  <a:pt x="2486" y="2964"/>
                </a:lnTo>
                <a:lnTo>
                  <a:pt x="2495" y="3024"/>
                </a:lnTo>
                <a:lnTo>
                  <a:pt x="2495" y="3052"/>
                </a:lnTo>
                <a:lnTo>
                  <a:pt x="2491" y="3072"/>
                </a:lnTo>
                <a:lnTo>
                  <a:pt x="2486" y="3079"/>
                </a:lnTo>
                <a:lnTo>
                  <a:pt x="2480" y="3084"/>
                </a:lnTo>
                <a:lnTo>
                  <a:pt x="2476" y="3090"/>
                </a:lnTo>
                <a:lnTo>
                  <a:pt x="2472" y="3100"/>
                </a:lnTo>
                <a:lnTo>
                  <a:pt x="2467" y="3126"/>
                </a:lnTo>
                <a:lnTo>
                  <a:pt x="2465" y="3152"/>
                </a:lnTo>
                <a:lnTo>
                  <a:pt x="2466" y="3174"/>
                </a:lnTo>
                <a:lnTo>
                  <a:pt x="2469" y="3181"/>
                </a:lnTo>
                <a:lnTo>
                  <a:pt x="2472" y="3184"/>
                </a:lnTo>
                <a:lnTo>
                  <a:pt x="2475" y="3181"/>
                </a:lnTo>
                <a:lnTo>
                  <a:pt x="2476" y="3181"/>
                </a:lnTo>
                <a:lnTo>
                  <a:pt x="2485" y="3166"/>
                </a:lnTo>
                <a:lnTo>
                  <a:pt x="2515" y="3123"/>
                </a:lnTo>
                <a:lnTo>
                  <a:pt x="2538" y="3090"/>
                </a:lnTo>
                <a:lnTo>
                  <a:pt x="2540" y="3087"/>
                </a:lnTo>
                <a:lnTo>
                  <a:pt x="2541" y="3087"/>
                </a:lnTo>
                <a:lnTo>
                  <a:pt x="2554" y="3085"/>
                </a:lnTo>
                <a:lnTo>
                  <a:pt x="2599" y="3078"/>
                </a:lnTo>
                <a:lnTo>
                  <a:pt x="2634" y="3074"/>
                </a:lnTo>
                <a:lnTo>
                  <a:pt x="2637" y="3072"/>
                </a:lnTo>
                <a:lnTo>
                  <a:pt x="2638" y="3066"/>
                </a:lnTo>
                <a:lnTo>
                  <a:pt x="2646" y="3049"/>
                </a:lnTo>
                <a:lnTo>
                  <a:pt x="2650" y="3035"/>
                </a:lnTo>
                <a:lnTo>
                  <a:pt x="2651" y="3033"/>
                </a:lnTo>
                <a:lnTo>
                  <a:pt x="2651" y="3032"/>
                </a:lnTo>
                <a:lnTo>
                  <a:pt x="2649" y="3029"/>
                </a:lnTo>
                <a:lnTo>
                  <a:pt x="2643" y="3027"/>
                </a:lnTo>
                <a:lnTo>
                  <a:pt x="2634" y="3027"/>
                </a:lnTo>
                <a:lnTo>
                  <a:pt x="2614" y="3026"/>
                </a:lnTo>
                <a:lnTo>
                  <a:pt x="2583" y="3026"/>
                </a:lnTo>
                <a:lnTo>
                  <a:pt x="2588" y="3026"/>
                </a:lnTo>
                <a:lnTo>
                  <a:pt x="2596" y="3019"/>
                </a:lnTo>
                <a:lnTo>
                  <a:pt x="2621" y="2998"/>
                </a:lnTo>
                <a:lnTo>
                  <a:pt x="2680" y="2953"/>
                </a:lnTo>
                <a:lnTo>
                  <a:pt x="2709" y="2937"/>
                </a:lnTo>
                <a:lnTo>
                  <a:pt x="2734" y="2929"/>
                </a:lnTo>
                <a:lnTo>
                  <a:pt x="2744" y="2929"/>
                </a:lnTo>
                <a:lnTo>
                  <a:pt x="2746" y="2926"/>
                </a:lnTo>
                <a:lnTo>
                  <a:pt x="2757" y="2907"/>
                </a:lnTo>
                <a:lnTo>
                  <a:pt x="2799" y="2838"/>
                </a:lnTo>
                <a:lnTo>
                  <a:pt x="2830" y="2785"/>
                </a:lnTo>
                <a:lnTo>
                  <a:pt x="2833" y="2781"/>
                </a:lnTo>
                <a:lnTo>
                  <a:pt x="2833" y="2778"/>
                </a:lnTo>
                <a:lnTo>
                  <a:pt x="2835" y="2775"/>
                </a:lnTo>
                <a:lnTo>
                  <a:pt x="2840" y="2772"/>
                </a:lnTo>
                <a:lnTo>
                  <a:pt x="2844" y="2771"/>
                </a:lnTo>
                <a:lnTo>
                  <a:pt x="2857" y="2769"/>
                </a:lnTo>
                <a:lnTo>
                  <a:pt x="2873" y="2768"/>
                </a:lnTo>
                <a:lnTo>
                  <a:pt x="2909" y="2767"/>
                </a:lnTo>
                <a:lnTo>
                  <a:pt x="2944" y="2764"/>
                </a:lnTo>
                <a:lnTo>
                  <a:pt x="2960" y="2759"/>
                </a:lnTo>
                <a:lnTo>
                  <a:pt x="2973" y="2752"/>
                </a:lnTo>
                <a:lnTo>
                  <a:pt x="2982" y="2740"/>
                </a:lnTo>
                <a:lnTo>
                  <a:pt x="2986" y="2726"/>
                </a:lnTo>
                <a:lnTo>
                  <a:pt x="2988" y="2726"/>
                </a:lnTo>
                <a:lnTo>
                  <a:pt x="2990" y="2726"/>
                </a:lnTo>
                <a:lnTo>
                  <a:pt x="2993" y="2724"/>
                </a:lnTo>
                <a:lnTo>
                  <a:pt x="2996" y="2722"/>
                </a:lnTo>
                <a:lnTo>
                  <a:pt x="2999" y="2717"/>
                </a:lnTo>
                <a:lnTo>
                  <a:pt x="3004" y="2706"/>
                </a:lnTo>
                <a:lnTo>
                  <a:pt x="3008" y="2690"/>
                </a:lnTo>
                <a:lnTo>
                  <a:pt x="3015" y="2652"/>
                </a:lnTo>
                <a:lnTo>
                  <a:pt x="3027" y="2572"/>
                </a:lnTo>
                <a:lnTo>
                  <a:pt x="3033" y="2543"/>
                </a:lnTo>
                <a:lnTo>
                  <a:pt x="3037" y="2543"/>
                </a:lnTo>
                <a:lnTo>
                  <a:pt x="3050" y="2542"/>
                </a:lnTo>
                <a:lnTo>
                  <a:pt x="3080" y="2538"/>
                </a:lnTo>
                <a:lnTo>
                  <a:pt x="3108" y="2535"/>
                </a:lnTo>
                <a:lnTo>
                  <a:pt x="3114" y="2533"/>
                </a:lnTo>
                <a:lnTo>
                  <a:pt x="3114" y="2536"/>
                </a:lnTo>
                <a:lnTo>
                  <a:pt x="3115" y="2546"/>
                </a:lnTo>
                <a:lnTo>
                  <a:pt x="3119" y="2585"/>
                </a:lnTo>
                <a:lnTo>
                  <a:pt x="3124" y="2614"/>
                </a:lnTo>
                <a:lnTo>
                  <a:pt x="3125" y="2616"/>
                </a:lnTo>
                <a:lnTo>
                  <a:pt x="3130" y="2624"/>
                </a:lnTo>
                <a:lnTo>
                  <a:pt x="3141" y="2640"/>
                </a:lnTo>
                <a:lnTo>
                  <a:pt x="3169" y="2665"/>
                </a:lnTo>
                <a:lnTo>
                  <a:pt x="3202" y="2687"/>
                </a:lnTo>
                <a:lnTo>
                  <a:pt x="3212" y="2693"/>
                </a:lnTo>
                <a:lnTo>
                  <a:pt x="3230" y="2671"/>
                </a:lnTo>
                <a:lnTo>
                  <a:pt x="3259" y="2638"/>
                </a:lnTo>
                <a:lnTo>
                  <a:pt x="3293" y="2601"/>
                </a:lnTo>
                <a:lnTo>
                  <a:pt x="3319" y="2581"/>
                </a:lnTo>
                <a:lnTo>
                  <a:pt x="3328" y="2575"/>
                </a:lnTo>
                <a:lnTo>
                  <a:pt x="3316" y="2601"/>
                </a:lnTo>
                <a:lnTo>
                  <a:pt x="3298" y="2640"/>
                </a:lnTo>
                <a:lnTo>
                  <a:pt x="3283" y="2671"/>
                </a:lnTo>
                <a:lnTo>
                  <a:pt x="3276" y="2694"/>
                </a:lnTo>
                <a:lnTo>
                  <a:pt x="3276" y="2706"/>
                </a:lnTo>
                <a:lnTo>
                  <a:pt x="3279" y="2716"/>
                </a:lnTo>
                <a:lnTo>
                  <a:pt x="3285" y="2726"/>
                </a:lnTo>
                <a:lnTo>
                  <a:pt x="3295" y="2738"/>
                </a:lnTo>
                <a:lnTo>
                  <a:pt x="3308" y="2749"/>
                </a:lnTo>
                <a:lnTo>
                  <a:pt x="3309" y="2749"/>
                </a:lnTo>
                <a:lnTo>
                  <a:pt x="3325" y="2740"/>
                </a:lnTo>
                <a:lnTo>
                  <a:pt x="3348" y="2722"/>
                </a:lnTo>
                <a:lnTo>
                  <a:pt x="3360" y="2701"/>
                </a:lnTo>
                <a:lnTo>
                  <a:pt x="3364" y="2678"/>
                </a:lnTo>
                <a:lnTo>
                  <a:pt x="3366" y="2656"/>
                </a:lnTo>
                <a:lnTo>
                  <a:pt x="3369" y="2633"/>
                </a:lnTo>
                <a:lnTo>
                  <a:pt x="3373" y="2620"/>
                </a:lnTo>
                <a:lnTo>
                  <a:pt x="3379" y="2622"/>
                </a:lnTo>
                <a:lnTo>
                  <a:pt x="3382" y="2620"/>
                </a:lnTo>
                <a:lnTo>
                  <a:pt x="3386" y="2617"/>
                </a:lnTo>
                <a:lnTo>
                  <a:pt x="3396" y="2609"/>
                </a:lnTo>
                <a:lnTo>
                  <a:pt x="3421" y="2587"/>
                </a:lnTo>
                <a:lnTo>
                  <a:pt x="3467" y="2530"/>
                </a:lnTo>
                <a:lnTo>
                  <a:pt x="3486" y="2501"/>
                </a:lnTo>
                <a:lnTo>
                  <a:pt x="3485" y="2501"/>
                </a:lnTo>
                <a:lnTo>
                  <a:pt x="3480" y="2501"/>
                </a:lnTo>
                <a:lnTo>
                  <a:pt x="3464" y="2500"/>
                </a:lnTo>
                <a:lnTo>
                  <a:pt x="3451" y="2498"/>
                </a:lnTo>
                <a:lnTo>
                  <a:pt x="3451" y="2497"/>
                </a:lnTo>
                <a:lnTo>
                  <a:pt x="3448" y="2498"/>
                </a:lnTo>
                <a:lnTo>
                  <a:pt x="3437" y="2504"/>
                </a:lnTo>
                <a:lnTo>
                  <a:pt x="3405" y="2517"/>
                </a:lnTo>
                <a:lnTo>
                  <a:pt x="3377" y="2529"/>
                </a:lnTo>
                <a:lnTo>
                  <a:pt x="3376" y="2530"/>
                </a:lnTo>
                <a:lnTo>
                  <a:pt x="3356" y="2538"/>
                </a:lnTo>
                <a:lnTo>
                  <a:pt x="3318" y="2540"/>
                </a:lnTo>
                <a:lnTo>
                  <a:pt x="3283" y="2530"/>
                </a:lnTo>
                <a:lnTo>
                  <a:pt x="3253" y="2511"/>
                </a:lnTo>
                <a:lnTo>
                  <a:pt x="3230" y="2485"/>
                </a:lnTo>
                <a:lnTo>
                  <a:pt x="3214" y="2455"/>
                </a:lnTo>
                <a:lnTo>
                  <a:pt x="3211" y="2438"/>
                </a:lnTo>
                <a:lnTo>
                  <a:pt x="3206" y="2439"/>
                </a:lnTo>
                <a:lnTo>
                  <a:pt x="3199" y="2440"/>
                </a:lnTo>
                <a:lnTo>
                  <a:pt x="3180" y="2446"/>
                </a:lnTo>
                <a:lnTo>
                  <a:pt x="3134" y="2464"/>
                </a:lnTo>
                <a:lnTo>
                  <a:pt x="3105" y="2471"/>
                </a:lnTo>
                <a:lnTo>
                  <a:pt x="3105" y="2462"/>
                </a:lnTo>
                <a:lnTo>
                  <a:pt x="3109" y="2454"/>
                </a:lnTo>
                <a:lnTo>
                  <a:pt x="3118" y="2445"/>
                </a:lnTo>
                <a:lnTo>
                  <a:pt x="3130" y="2435"/>
                </a:lnTo>
                <a:lnTo>
                  <a:pt x="3157" y="2417"/>
                </a:lnTo>
                <a:lnTo>
                  <a:pt x="3208" y="2377"/>
                </a:lnTo>
                <a:lnTo>
                  <a:pt x="3218" y="2354"/>
                </a:lnTo>
                <a:lnTo>
                  <a:pt x="3188" y="2342"/>
                </a:lnTo>
                <a:lnTo>
                  <a:pt x="3140" y="2336"/>
                </a:lnTo>
                <a:lnTo>
                  <a:pt x="3102" y="2351"/>
                </a:lnTo>
                <a:lnTo>
                  <a:pt x="3073" y="2378"/>
                </a:lnTo>
                <a:lnTo>
                  <a:pt x="3046" y="2416"/>
                </a:lnTo>
                <a:lnTo>
                  <a:pt x="3015" y="2455"/>
                </a:lnTo>
                <a:lnTo>
                  <a:pt x="2999" y="2474"/>
                </a:lnTo>
                <a:lnTo>
                  <a:pt x="2995" y="2462"/>
                </a:lnTo>
                <a:lnTo>
                  <a:pt x="2993" y="2449"/>
                </a:lnTo>
                <a:lnTo>
                  <a:pt x="2996" y="2435"/>
                </a:lnTo>
                <a:lnTo>
                  <a:pt x="3001" y="2422"/>
                </a:lnTo>
                <a:lnTo>
                  <a:pt x="3012" y="2393"/>
                </a:lnTo>
                <a:lnTo>
                  <a:pt x="3040" y="2336"/>
                </a:lnTo>
                <a:lnTo>
                  <a:pt x="3046" y="2307"/>
                </a:lnTo>
                <a:lnTo>
                  <a:pt x="3057" y="2284"/>
                </a:lnTo>
                <a:lnTo>
                  <a:pt x="3076" y="2264"/>
                </a:lnTo>
                <a:lnTo>
                  <a:pt x="3099" y="2249"/>
                </a:lnTo>
                <a:lnTo>
                  <a:pt x="3127" y="2236"/>
                </a:lnTo>
                <a:lnTo>
                  <a:pt x="3186" y="2217"/>
                </a:lnTo>
                <a:lnTo>
                  <a:pt x="3245" y="2200"/>
                </a:lnTo>
                <a:lnTo>
                  <a:pt x="3296" y="2174"/>
                </a:lnTo>
                <a:lnTo>
                  <a:pt x="3315" y="2156"/>
                </a:lnTo>
                <a:lnTo>
                  <a:pt x="3327" y="2133"/>
                </a:lnTo>
                <a:lnTo>
                  <a:pt x="3328" y="2133"/>
                </a:lnTo>
                <a:lnTo>
                  <a:pt x="3331" y="2123"/>
                </a:lnTo>
                <a:lnTo>
                  <a:pt x="3335" y="2100"/>
                </a:lnTo>
                <a:lnTo>
                  <a:pt x="3340" y="2055"/>
                </a:lnTo>
                <a:lnTo>
                  <a:pt x="3356" y="2014"/>
                </a:lnTo>
                <a:lnTo>
                  <a:pt x="3364" y="2004"/>
                </a:lnTo>
                <a:lnTo>
                  <a:pt x="3374" y="1990"/>
                </a:lnTo>
                <a:lnTo>
                  <a:pt x="3389" y="1955"/>
                </a:lnTo>
                <a:lnTo>
                  <a:pt x="3393" y="1914"/>
                </a:lnTo>
                <a:lnTo>
                  <a:pt x="3389" y="1877"/>
                </a:lnTo>
                <a:lnTo>
                  <a:pt x="3373" y="1842"/>
                </a:lnTo>
                <a:lnTo>
                  <a:pt x="3345" y="1819"/>
                </a:lnTo>
                <a:lnTo>
                  <a:pt x="3328" y="1812"/>
                </a:lnTo>
                <a:lnTo>
                  <a:pt x="3327" y="1813"/>
                </a:lnTo>
                <a:lnTo>
                  <a:pt x="3321" y="1816"/>
                </a:lnTo>
                <a:lnTo>
                  <a:pt x="3301" y="1825"/>
                </a:lnTo>
                <a:lnTo>
                  <a:pt x="3286" y="1830"/>
                </a:lnTo>
                <a:lnTo>
                  <a:pt x="3286" y="1830"/>
                </a:lnTo>
                <a:lnTo>
                  <a:pt x="3280" y="1828"/>
                </a:lnTo>
                <a:lnTo>
                  <a:pt x="3264" y="1819"/>
                </a:lnTo>
                <a:lnTo>
                  <a:pt x="3253" y="1812"/>
                </a:lnTo>
                <a:lnTo>
                  <a:pt x="3253" y="1810"/>
                </a:lnTo>
                <a:lnTo>
                  <a:pt x="3243" y="1817"/>
                </a:lnTo>
                <a:lnTo>
                  <a:pt x="3234" y="1829"/>
                </a:lnTo>
                <a:lnTo>
                  <a:pt x="3227" y="1845"/>
                </a:lnTo>
                <a:lnTo>
                  <a:pt x="3215" y="1881"/>
                </a:lnTo>
                <a:lnTo>
                  <a:pt x="3198" y="1954"/>
                </a:lnTo>
                <a:lnTo>
                  <a:pt x="3186" y="1971"/>
                </a:lnTo>
                <a:lnTo>
                  <a:pt x="3186" y="1967"/>
                </a:lnTo>
                <a:lnTo>
                  <a:pt x="3186" y="1959"/>
                </a:lnTo>
                <a:lnTo>
                  <a:pt x="3185" y="1939"/>
                </a:lnTo>
                <a:lnTo>
                  <a:pt x="3180" y="1887"/>
                </a:lnTo>
                <a:lnTo>
                  <a:pt x="3186" y="1848"/>
                </a:lnTo>
                <a:lnTo>
                  <a:pt x="3189" y="1842"/>
                </a:lnTo>
                <a:lnTo>
                  <a:pt x="3198" y="1828"/>
                </a:lnTo>
                <a:lnTo>
                  <a:pt x="3217" y="1796"/>
                </a:lnTo>
                <a:lnTo>
                  <a:pt x="3222" y="1783"/>
                </a:lnTo>
                <a:lnTo>
                  <a:pt x="3222" y="1777"/>
                </a:lnTo>
                <a:lnTo>
                  <a:pt x="3222" y="1772"/>
                </a:lnTo>
                <a:lnTo>
                  <a:pt x="3222" y="1770"/>
                </a:lnTo>
                <a:lnTo>
                  <a:pt x="3212" y="1774"/>
                </a:lnTo>
                <a:lnTo>
                  <a:pt x="3188" y="1781"/>
                </a:lnTo>
                <a:lnTo>
                  <a:pt x="3161" y="1784"/>
                </a:lnTo>
                <a:lnTo>
                  <a:pt x="3109" y="1788"/>
                </a:lnTo>
                <a:lnTo>
                  <a:pt x="3082" y="1793"/>
                </a:lnTo>
                <a:lnTo>
                  <a:pt x="3075" y="1790"/>
                </a:lnTo>
                <a:lnTo>
                  <a:pt x="3059" y="1781"/>
                </a:lnTo>
                <a:lnTo>
                  <a:pt x="3030" y="1768"/>
                </a:lnTo>
                <a:lnTo>
                  <a:pt x="3004" y="1752"/>
                </a:lnTo>
                <a:lnTo>
                  <a:pt x="2999" y="1748"/>
                </a:lnTo>
                <a:lnTo>
                  <a:pt x="3002" y="1745"/>
                </a:lnTo>
                <a:lnTo>
                  <a:pt x="3011" y="1735"/>
                </a:lnTo>
                <a:lnTo>
                  <a:pt x="3017" y="1722"/>
                </a:lnTo>
                <a:lnTo>
                  <a:pt x="3018" y="1719"/>
                </a:lnTo>
                <a:lnTo>
                  <a:pt x="3001" y="1704"/>
                </a:lnTo>
                <a:lnTo>
                  <a:pt x="2959" y="1673"/>
                </a:lnTo>
                <a:lnTo>
                  <a:pt x="2859" y="1612"/>
                </a:lnTo>
                <a:lnTo>
                  <a:pt x="2763" y="1545"/>
                </a:lnTo>
                <a:lnTo>
                  <a:pt x="2744" y="1526"/>
                </a:lnTo>
                <a:lnTo>
                  <a:pt x="2738" y="1535"/>
                </a:lnTo>
                <a:lnTo>
                  <a:pt x="2734" y="1544"/>
                </a:lnTo>
                <a:lnTo>
                  <a:pt x="2733" y="1555"/>
                </a:lnTo>
                <a:lnTo>
                  <a:pt x="2731" y="1567"/>
                </a:lnTo>
                <a:lnTo>
                  <a:pt x="2734" y="1591"/>
                </a:lnTo>
                <a:lnTo>
                  <a:pt x="2747" y="1639"/>
                </a:lnTo>
                <a:lnTo>
                  <a:pt x="2753" y="1655"/>
                </a:lnTo>
                <a:lnTo>
                  <a:pt x="2750" y="1661"/>
                </a:lnTo>
                <a:lnTo>
                  <a:pt x="2744" y="1674"/>
                </a:lnTo>
                <a:lnTo>
                  <a:pt x="2728" y="1704"/>
                </a:lnTo>
                <a:lnTo>
                  <a:pt x="2712" y="1733"/>
                </a:lnTo>
                <a:lnTo>
                  <a:pt x="2708" y="1738"/>
                </a:lnTo>
                <a:lnTo>
                  <a:pt x="2701" y="1733"/>
                </a:lnTo>
                <a:lnTo>
                  <a:pt x="2688" y="1726"/>
                </a:lnTo>
                <a:lnTo>
                  <a:pt x="2664" y="1716"/>
                </a:lnTo>
                <a:lnTo>
                  <a:pt x="2640" y="1712"/>
                </a:lnTo>
                <a:lnTo>
                  <a:pt x="2634" y="1710"/>
                </a:lnTo>
                <a:lnTo>
                  <a:pt x="2624" y="1693"/>
                </a:lnTo>
                <a:lnTo>
                  <a:pt x="2607" y="1657"/>
                </a:lnTo>
                <a:lnTo>
                  <a:pt x="2565" y="1599"/>
                </a:lnTo>
                <a:lnTo>
                  <a:pt x="2536" y="1580"/>
                </a:lnTo>
                <a:lnTo>
                  <a:pt x="2499" y="1573"/>
                </a:lnTo>
                <a:lnTo>
                  <a:pt x="2479" y="1573"/>
                </a:lnTo>
                <a:lnTo>
                  <a:pt x="2467" y="1573"/>
                </a:lnTo>
                <a:lnTo>
                  <a:pt x="2457" y="1568"/>
                </a:lnTo>
                <a:lnTo>
                  <a:pt x="2449" y="1564"/>
                </a:lnTo>
                <a:lnTo>
                  <a:pt x="2431" y="1551"/>
                </a:lnTo>
                <a:lnTo>
                  <a:pt x="2395" y="1526"/>
                </a:lnTo>
                <a:lnTo>
                  <a:pt x="2360" y="1526"/>
                </a:lnTo>
                <a:lnTo>
                  <a:pt x="2357" y="1528"/>
                </a:lnTo>
                <a:lnTo>
                  <a:pt x="2354" y="1529"/>
                </a:lnTo>
                <a:lnTo>
                  <a:pt x="2352" y="1533"/>
                </a:lnTo>
                <a:lnTo>
                  <a:pt x="2346" y="1541"/>
                </a:lnTo>
                <a:lnTo>
                  <a:pt x="2336" y="1562"/>
                </a:lnTo>
                <a:lnTo>
                  <a:pt x="2334" y="1573"/>
                </a:lnTo>
                <a:lnTo>
                  <a:pt x="2325" y="1571"/>
                </a:lnTo>
                <a:lnTo>
                  <a:pt x="2307" y="1568"/>
                </a:lnTo>
                <a:lnTo>
                  <a:pt x="2265" y="1568"/>
                </a:lnTo>
                <a:lnTo>
                  <a:pt x="2244" y="1573"/>
                </a:lnTo>
                <a:lnTo>
                  <a:pt x="2228" y="1578"/>
                </a:lnTo>
                <a:lnTo>
                  <a:pt x="2224" y="1583"/>
                </a:lnTo>
                <a:lnTo>
                  <a:pt x="2224" y="1591"/>
                </a:lnTo>
                <a:lnTo>
                  <a:pt x="2226" y="1600"/>
                </a:lnTo>
                <a:lnTo>
                  <a:pt x="2233" y="1622"/>
                </a:lnTo>
                <a:lnTo>
                  <a:pt x="2247" y="1668"/>
                </a:lnTo>
                <a:lnTo>
                  <a:pt x="2252" y="1701"/>
                </a:lnTo>
                <a:lnTo>
                  <a:pt x="2265" y="1720"/>
                </a:lnTo>
                <a:lnTo>
                  <a:pt x="2288" y="1749"/>
                </a:lnTo>
                <a:lnTo>
                  <a:pt x="2302" y="1771"/>
                </a:lnTo>
                <a:lnTo>
                  <a:pt x="2310" y="1791"/>
                </a:lnTo>
                <a:lnTo>
                  <a:pt x="2308" y="1816"/>
                </a:lnTo>
                <a:lnTo>
                  <a:pt x="2296" y="1846"/>
                </a:lnTo>
                <a:lnTo>
                  <a:pt x="2288" y="1867"/>
                </a:lnTo>
                <a:lnTo>
                  <a:pt x="2305" y="1877"/>
                </a:lnTo>
                <a:lnTo>
                  <a:pt x="2339" y="1896"/>
                </a:lnTo>
                <a:lnTo>
                  <a:pt x="2392" y="1942"/>
                </a:lnTo>
                <a:lnTo>
                  <a:pt x="2428" y="2004"/>
                </a:lnTo>
                <a:lnTo>
                  <a:pt x="2434" y="2023"/>
                </a:lnTo>
                <a:lnTo>
                  <a:pt x="2436" y="2041"/>
                </a:lnTo>
                <a:lnTo>
                  <a:pt x="2436" y="2056"/>
                </a:lnTo>
                <a:lnTo>
                  <a:pt x="2431" y="2070"/>
                </a:lnTo>
                <a:lnTo>
                  <a:pt x="2425" y="2083"/>
                </a:lnTo>
                <a:lnTo>
                  <a:pt x="2418" y="2094"/>
                </a:lnTo>
                <a:lnTo>
                  <a:pt x="2401" y="2114"/>
                </a:lnTo>
                <a:lnTo>
                  <a:pt x="2365" y="2158"/>
                </a:lnTo>
                <a:lnTo>
                  <a:pt x="2360" y="2171"/>
                </a:lnTo>
                <a:lnTo>
                  <a:pt x="2359" y="2183"/>
                </a:lnTo>
                <a:lnTo>
                  <a:pt x="2363" y="2196"/>
                </a:lnTo>
                <a:lnTo>
                  <a:pt x="2369" y="2212"/>
                </a:lnTo>
                <a:lnTo>
                  <a:pt x="2388" y="2248"/>
                </a:lnTo>
                <a:lnTo>
                  <a:pt x="2436" y="2323"/>
                </a:lnTo>
                <a:lnTo>
                  <a:pt x="2460" y="2364"/>
                </a:lnTo>
                <a:lnTo>
                  <a:pt x="2454" y="2375"/>
                </a:lnTo>
                <a:lnTo>
                  <a:pt x="2450" y="2393"/>
                </a:lnTo>
                <a:lnTo>
                  <a:pt x="2449" y="2401"/>
                </a:lnTo>
                <a:lnTo>
                  <a:pt x="2447" y="2406"/>
                </a:lnTo>
                <a:lnTo>
                  <a:pt x="2444" y="2409"/>
                </a:lnTo>
                <a:lnTo>
                  <a:pt x="2440" y="2411"/>
                </a:lnTo>
                <a:lnTo>
                  <a:pt x="2433" y="2414"/>
                </a:lnTo>
                <a:lnTo>
                  <a:pt x="2408" y="2423"/>
                </a:lnTo>
                <a:lnTo>
                  <a:pt x="2389" y="2427"/>
                </a:lnTo>
                <a:lnTo>
                  <a:pt x="2362" y="2403"/>
                </a:lnTo>
                <a:lnTo>
                  <a:pt x="2318" y="2367"/>
                </a:lnTo>
                <a:lnTo>
                  <a:pt x="2288" y="2339"/>
                </a:lnTo>
                <a:lnTo>
                  <a:pt x="2268" y="2313"/>
                </a:lnTo>
                <a:lnTo>
                  <a:pt x="2256" y="2275"/>
                </a:lnTo>
                <a:lnTo>
                  <a:pt x="2252" y="2219"/>
                </a:lnTo>
                <a:lnTo>
                  <a:pt x="2252" y="2180"/>
                </a:lnTo>
                <a:lnTo>
                  <a:pt x="2241" y="2172"/>
                </a:lnTo>
                <a:lnTo>
                  <a:pt x="2233" y="2167"/>
                </a:lnTo>
                <a:lnTo>
                  <a:pt x="2227" y="2165"/>
                </a:lnTo>
                <a:lnTo>
                  <a:pt x="2221" y="2165"/>
                </a:lnTo>
                <a:lnTo>
                  <a:pt x="2215" y="2167"/>
                </a:lnTo>
                <a:lnTo>
                  <a:pt x="2211" y="2170"/>
                </a:lnTo>
                <a:lnTo>
                  <a:pt x="2199" y="2178"/>
                </a:lnTo>
                <a:lnTo>
                  <a:pt x="2183" y="2185"/>
                </a:lnTo>
                <a:lnTo>
                  <a:pt x="2160" y="2188"/>
                </a:lnTo>
                <a:lnTo>
                  <a:pt x="2160" y="2188"/>
                </a:lnTo>
                <a:lnTo>
                  <a:pt x="2134" y="2188"/>
                </a:lnTo>
                <a:lnTo>
                  <a:pt x="2105" y="2181"/>
                </a:lnTo>
                <a:lnTo>
                  <a:pt x="2040" y="2155"/>
                </a:lnTo>
                <a:lnTo>
                  <a:pt x="1901" y="2097"/>
                </a:lnTo>
                <a:lnTo>
                  <a:pt x="1795" y="2106"/>
                </a:lnTo>
                <a:lnTo>
                  <a:pt x="1789" y="2097"/>
                </a:lnTo>
                <a:lnTo>
                  <a:pt x="1781" y="2075"/>
                </a:lnTo>
                <a:lnTo>
                  <a:pt x="1765" y="2025"/>
                </a:lnTo>
                <a:lnTo>
                  <a:pt x="1750" y="1978"/>
                </a:lnTo>
                <a:lnTo>
                  <a:pt x="1749" y="1968"/>
                </a:lnTo>
                <a:lnTo>
                  <a:pt x="1743" y="1970"/>
                </a:lnTo>
                <a:lnTo>
                  <a:pt x="1733" y="1970"/>
                </a:lnTo>
                <a:lnTo>
                  <a:pt x="1711" y="1974"/>
                </a:lnTo>
                <a:lnTo>
                  <a:pt x="1691" y="1977"/>
                </a:lnTo>
                <a:lnTo>
                  <a:pt x="1687" y="1977"/>
                </a:lnTo>
                <a:lnTo>
                  <a:pt x="1663" y="1949"/>
                </a:lnTo>
                <a:lnTo>
                  <a:pt x="1653" y="1919"/>
                </a:lnTo>
                <a:lnTo>
                  <a:pt x="1650" y="1887"/>
                </a:lnTo>
                <a:lnTo>
                  <a:pt x="1656" y="1855"/>
                </a:lnTo>
                <a:lnTo>
                  <a:pt x="1668" y="1822"/>
                </a:lnTo>
                <a:lnTo>
                  <a:pt x="1704" y="1759"/>
                </a:lnTo>
                <a:lnTo>
                  <a:pt x="1746" y="1701"/>
                </a:lnTo>
                <a:lnTo>
                  <a:pt x="1782" y="1655"/>
                </a:lnTo>
                <a:lnTo>
                  <a:pt x="1795" y="1636"/>
                </a:lnTo>
                <a:lnTo>
                  <a:pt x="1794" y="1632"/>
                </a:lnTo>
                <a:lnTo>
                  <a:pt x="1792" y="1629"/>
                </a:lnTo>
                <a:lnTo>
                  <a:pt x="1788" y="1623"/>
                </a:lnTo>
                <a:lnTo>
                  <a:pt x="1779" y="1613"/>
                </a:lnTo>
                <a:lnTo>
                  <a:pt x="1778" y="1609"/>
                </a:lnTo>
                <a:lnTo>
                  <a:pt x="1782" y="1604"/>
                </a:lnTo>
                <a:lnTo>
                  <a:pt x="1798" y="1586"/>
                </a:lnTo>
                <a:lnTo>
                  <a:pt x="1842" y="1535"/>
                </a:lnTo>
                <a:lnTo>
                  <a:pt x="1879" y="1484"/>
                </a:lnTo>
                <a:lnTo>
                  <a:pt x="1886" y="1473"/>
                </a:lnTo>
                <a:lnTo>
                  <a:pt x="1885" y="1474"/>
                </a:lnTo>
                <a:lnTo>
                  <a:pt x="1882" y="1474"/>
                </a:lnTo>
                <a:lnTo>
                  <a:pt x="1876" y="1474"/>
                </a:lnTo>
                <a:lnTo>
                  <a:pt x="1873" y="1474"/>
                </a:lnTo>
                <a:lnTo>
                  <a:pt x="1866" y="1473"/>
                </a:lnTo>
                <a:lnTo>
                  <a:pt x="1849" y="1468"/>
                </a:lnTo>
                <a:lnTo>
                  <a:pt x="1808" y="1452"/>
                </a:lnTo>
                <a:lnTo>
                  <a:pt x="1779" y="1436"/>
                </a:lnTo>
                <a:lnTo>
                  <a:pt x="1776" y="1432"/>
                </a:lnTo>
                <a:lnTo>
                  <a:pt x="1776" y="1429"/>
                </a:lnTo>
                <a:lnTo>
                  <a:pt x="1776" y="1428"/>
                </a:lnTo>
                <a:lnTo>
                  <a:pt x="1778" y="1425"/>
                </a:lnTo>
                <a:lnTo>
                  <a:pt x="1781" y="1423"/>
                </a:lnTo>
                <a:lnTo>
                  <a:pt x="1785" y="1422"/>
                </a:lnTo>
                <a:lnTo>
                  <a:pt x="1794" y="1422"/>
                </a:lnTo>
                <a:lnTo>
                  <a:pt x="1823" y="1420"/>
                </a:lnTo>
                <a:lnTo>
                  <a:pt x="1868" y="1425"/>
                </a:lnTo>
                <a:lnTo>
                  <a:pt x="1882" y="1426"/>
                </a:lnTo>
                <a:lnTo>
                  <a:pt x="1879" y="1423"/>
                </a:lnTo>
                <a:lnTo>
                  <a:pt x="1878" y="1419"/>
                </a:lnTo>
                <a:lnTo>
                  <a:pt x="1876" y="1413"/>
                </a:lnTo>
                <a:lnTo>
                  <a:pt x="1875" y="1399"/>
                </a:lnTo>
                <a:lnTo>
                  <a:pt x="1873" y="1367"/>
                </a:lnTo>
                <a:lnTo>
                  <a:pt x="1869" y="1352"/>
                </a:lnTo>
                <a:lnTo>
                  <a:pt x="1878" y="1354"/>
                </a:lnTo>
                <a:lnTo>
                  <a:pt x="1907" y="1358"/>
                </a:lnTo>
                <a:lnTo>
                  <a:pt x="1930" y="1361"/>
                </a:lnTo>
                <a:lnTo>
                  <a:pt x="1931" y="1361"/>
                </a:lnTo>
                <a:lnTo>
                  <a:pt x="1940" y="1355"/>
                </a:lnTo>
                <a:lnTo>
                  <a:pt x="1957" y="1339"/>
                </a:lnTo>
                <a:lnTo>
                  <a:pt x="1986" y="1306"/>
                </a:lnTo>
                <a:lnTo>
                  <a:pt x="2008" y="1270"/>
                </a:lnTo>
                <a:lnTo>
                  <a:pt x="2014" y="1260"/>
                </a:lnTo>
                <a:lnTo>
                  <a:pt x="2008" y="1255"/>
                </a:lnTo>
                <a:lnTo>
                  <a:pt x="1999" y="1242"/>
                </a:lnTo>
                <a:lnTo>
                  <a:pt x="1978" y="1212"/>
                </a:lnTo>
                <a:lnTo>
                  <a:pt x="1962" y="1183"/>
                </a:lnTo>
                <a:lnTo>
                  <a:pt x="1960" y="1177"/>
                </a:lnTo>
                <a:lnTo>
                  <a:pt x="1960" y="1175"/>
                </a:lnTo>
                <a:lnTo>
                  <a:pt x="1960" y="1170"/>
                </a:lnTo>
                <a:lnTo>
                  <a:pt x="1965" y="1154"/>
                </a:lnTo>
                <a:lnTo>
                  <a:pt x="1968" y="1136"/>
                </a:lnTo>
                <a:lnTo>
                  <a:pt x="1969" y="1131"/>
                </a:lnTo>
                <a:lnTo>
                  <a:pt x="1959" y="1126"/>
                </a:lnTo>
                <a:lnTo>
                  <a:pt x="1936" y="1118"/>
                </a:lnTo>
                <a:lnTo>
                  <a:pt x="1886" y="1104"/>
                </a:lnTo>
                <a:lnTo>
                  <a:pt x="1863" y="1106"/>
                </a:lnTo>
                <a:lnTo>
                  <a:pt x="1840" y="1115"/>
                </a:lnTo>
                <a:lnTo>
                  <a:pt x="1831" y="1122"/>
                </a:lnTo>
                <a:lnTo>
                  <a:pt x="1837" y="1136"/>
                </a:lnTo>
                <a:lnTo>
                  <a:pt x="1847" y="1165"/>
                </a:lnTo>
                <a:lnTo>
                  <a:pt x="1853" y="1223"/>
                </a:lnTo>
                <a:lnTo>
                  <a:pt x="1847" y="1251"/>
                </a:lnTo>
                <a:lnTo>
                  <a:pt x="1833" y="1275"/>
                </a:lnTo>
                <a:lnTo>
                  <a:pt x="1823" y="1287"/>
                </a:lnTo>
                <a:lnTo>
                  <a:pt x="1820" y="1283"/>
                </a:lnTo>
                <a:lnTo>
                  <a:pt x="1814" y="1268"/>
                </a:lnTo>
                <a:lnTo>
                  <a:pt x="1802" y="1231"/>
                </a:lnTo>
                <a:lnTo>
                  <a:pt x="1795" y="1194"/>
                </a:lnTo>
                <a:lnTo>
                  <a:pt x="1795" y="1187"/>
                </a:lnTo>
                <a:lnTo>
                  <a:pt x="1792" y="1186"/>
                </a:lnTo>
                <a:lnTo>
                  <a:pt x="1787" y="1181"/>
                </a:lnTo>
                <a:lnTo>
                  <a:pt x="1771" y="1173"/>
                </a:lnTo>
                <a:lnTo>
                  <a:pt x="1753" y="1170"/>
                </a:lnTo>
                <a:lnTo>
                  <a:pt x="1749" y="1168"/>
                </a:lnTo>
                <a:lnTo>
                  <a:pt x="1743" y="1181"/>
                </a:lnTo>
                <a:lnTo>
                  <a:pt x="1733" y="1200"/>
                </a:lnTo>
                <a:lnTo>
                  <a:pt x="1726" y="1213"/>
                </a:lnTo>
                <a:lnTo>
                  <a:pt x="1724" y="1215"/>
                </a:lnTo>
                <a:lnTo>
                  <a:pt x="1721" y="1216"/>
                </a:lnTo>
                <a:lnTo>
                  <a:pt x="1720" y="1216"/>
                </a:lnTo>
                <a:lnTo>
                  <a:pt x="1718" y="1215"/>
                </a:lnTo>
                <a:lnTo>
                  <a:pt x="1717" y="1213"/>
                </a:lnTo>
                <a:lnTo>
                  <a:pt x="1716" y="1209"/>
                </a:lnTo>
                <a:lnTo>
                  <a:pt x="1714" y="1204"/>
                </a:lnTo>
                <a:lnTo>
                  <a:pt x="1713" y="1194"/>
                </a:lnTo>
                <a:lnTo>
                  <a:pt x="1713" y="1158"/>
                </a:lnTo>
                <a:lnTo>
                  <a:pt x="1713" y="1158"/>
                </a:lnTo>
                <a:lnTo>
                  <a:pt x="1710" y="1157"/>
                </a:lnTo>
                <a:lnTo>
                  <a:pt x="1702" y="1152"/>
                </a:lnTo>
                <a:lnTo>
                  <a:pt x="1694" y="1148"/>
                </a:lnTo>
                <a:lnTo>
                  <a:pt x="1673" y="1139"/>
                </a:lnTo>
                <a:lnTo>
                  <a:pt x="1659" y="1131"/>
                </a:lnTo>
                <a:lnTo>
                  <a:pt x="1658" y="1123"/>
                </a:lnTo>
                <a:lnTo>
                  <a:pt x="1658" y="1100"/>
                </a:lnTo>
                <a:lnTo>
                  <a:pt x="1647" y="1045"/>
                </a:lnTo>
                <a:lnTo>
                  <a:pt x="1634" y="1020"/>
                </a:lnTo>
                <a:lnTo>
                  <a:pt x="1616" y="1002"/>
                </a:lnTo>
                <a:lnTo>
                  <a:pt x="1604" y="994"/>
                </a:lnTo>
                <a:lnTo>
                  <a:pt x="1575" y="989"/>
                </a:lnTo>
                <a:lnTo>
                  <a:pt x="1555" y="989"/>
                </a:lnTo>
                <a:lnTo>
                  <a:pt x="1547" y="993"/>
                </a:lnTo>
                <a:lnTo>
                  <a:pt x="1542" y="997"/>
                </a:lnTo>
                <a:lnTo>
                  <a:pt x="1536" y="1003"/>
                </a:lnTo>
                <a:lnTo>
                  <a:pt x="1533" y="1009"/>
                </a:lnTo>
                <a:lnTo>
                  <a:pt x="1532" y="1018"/>
                </a:lnTo>
                <a:lnTo>
                  <a:pt x="1530" y="1035"/>
                </a:lnTo>
                <a:lnTo>
                  <a:pt x="1532" y="1055"/>
                </a:lnTo>
                <a:lnTo>
                  <a:pt x="1542" y="1096"/>
                </a:lnTo>
                <a:lnTo>
                  <a:pt x="1553" y="1128"/>
                </a:lnTo>
                <a:lnTo>
                  <a:pt x="1559" y="1139"/>
                </a:lnTo>
                <a:lnTo>
                  <a:pt x="1568" y="1144"/>
                </a:lnTo>
                <a:lnTo>
                  <a:pt x="1582" y="1154"/>
                </a:lnTo>
                <a:lnTo>
                  <a:pt x="1594" y="1165"/>
                </a:lnTo>
                <a:lnTo>
                  <a:pt x="1603" y="1180"/>
                </a:lnTo>
                <a:lnTo>
                  <a:pt x="1618" y="1215"/>
                </a:lnTo>
                <a:lnTo>
                  <a:pt x="1624" y="1223"/>
                </a:lnTo>
                <a:lnTo>
                  <a:pt x="1621" y="1235"/>
                </a:lnTo>
                <a:lnTo>
                  <a:pt x="1617" y="1257"/>
                </a:lnTo>
                <a:lnTo>
                  <a:pt x="1603" y="1302"/>
                </a:lnTo>
                <a:lnTo>
                  <a:pt x="1589" y="1342"/>
                </a:lnTo>
                <a:lnTo>
                  <a:pt x="1588" y="1351"/>
                </a:lnTo>
                <a:lnTo>
                  <a:pt x="1581" y="1335"/>
                </a:lnTo>
                <a:lnTo>
                  <a:pt x="1560" y="1284"/>
                </a:lnTo>
                <a:lnTo>
                  <a:pt x="1546" y="1246"/>
                </a:lnTo>
                <a:lnTo>
                  <a:pt x="1546" y="1244"/>
                </a:lnTo>
                <a:lnTo>
                  <a:pt x="1539" y="1245"/>
                </a:lnTo>
                <a:lnTo>
                  <a:pt x="1517" y="1249"/>
                </a:lnTo>
                <a:lnTo>
                  <a:pt x="1500" y="1252"/>
                </a:lnTo>
                <a:lnTo>
                  <a:pt x="1500" y="1252"/>
                </a:lnTo>
                <a:lnTo>
                  <a:pt x="1500" y="1255"/>
                </a:lnTo>
                <a:lnTo>
                  <a:pt x="1500" y="1261"/>
                </a:lnTo>
                <a:lnTo>
                  <a:pt x="1501" y="1274"/>
                </a:lnTo>
                <a:lnTo>
                  <a:pt x="1503" y="1286"/>
                </a:lnTo>
                <a:lnTo>
                  <a:pt x="1504" y="1287"/>
                </a:lnTo>
                <a:lnTo>
                  <a:pt x="1489" y="1291"/>
                </a:lnTo>
                <a:lnTo>
                  <a:pt x="1471" y="1294"/>
                </a:lnTo>
                <a:lnTo>
                  <a:pt x="1427" y="1296"/>
                </a:lnTo>
                <a:lnTo>
                  <a:pt x="1382" y="1291"/>
                </a:lnTo>
                <a:lnTo>
                  <a:pt x="1343" y="1277"/>
                </a:lnTo>
                <a:lnTo>
                  <a:pt x="1329" y="1267"/>
                </a:lnTo>
                <a:lnTo>
                  <a:pt x="1320" y="1254"/>
                </a:lnTo>
                <a:lnTo>
                  <a:pt x="1319" y="1238"/>
                </a:lnTo>
                <a:lnTo>
                  <a:pt x="1323" y="1218"/>
                </a:lnTo>
                <a:lnTo>
                  <a:pt x="1324" y="1218"/>
                </a:lnTo>
                <a:lnTo>
                  <a:pt x="1320" y="1218"/>
                </a:lnTo>
                <a:lnTo>
                  <a:pt x="1313" y="1218"/>
                </a:lnTo>
                <a:lnTo>
                  <a:pt x="1292" y="1215"/>
                </a:lnTo>
                <a:lnTo>
                  <a:pt x="1245" y="1215"/>
                </a:lnTo>
                <a:lnTo>
                  <a:pt x="1220" y="1239"/>
                </a:lnTo>
                <a:lnTo>
                  <a:pt x="1220" y="1244"/>
                </a:lnTo>
                <a:lnTo>
                  <a:pt x="1224" y="1245"/>
                </a:lnTo>
                <a:lnTo>
                  <a:pt x="1230" y="1246"/>
                </a:lnTo>
                <a:lnTo>
                  <a:pt x="1236" y="1248"/>
                </a:lnTo>
                <a:lnTo>
                  <a:pt x="1253" y="1248"/>
                </a:lnTo>
                <a:lnTo>
                  <a:pt x="1282" y="1248"/>
                </a:lnTo>
                <a:lnTo>
                  <a:pt x="1290" y="1252"/>
                </a:lnTo>
                <a:lnTo>
                  <a:pt x="1288" y="1257"/>
                </a:lnTo>
                <a:lnTo>
                  <a:pt x="1284" y="1261"/>
                </a:lnTo>
                <a:lnTo>
                  <a:pt x="1278" y="1267"/>
                </a:lnTo>
                <a:lnTo>
                  <a:pt x="1259" y="1280"/>
                </a:lnTo>
                <a:lnTo>
                  <a:pt x="1219" y="1304"/>
                </a:lnTo>
                <a:lnTo>
                  <a:pt x="1203" y="1309"/>
                </a:lnTo>
                <a:lnTo>
                  <a:pt x="1201" y="1307"/>
                </a:lnTo>
                <a:lnTo>
                  <a:pt x="1195" y="1300"/>
                </a:lnTo>
                <a:lnTo>
                  <a:pt x="1184" y="1281"/>
                </a:lnTo>
                <a:lnTo>
                  <a:pt x="1172" y="1267"/>
                </a:lnTo>
                <a:lnTo>
                  <a:pt x="1172" y="1264"/>
                </a:lnTo>
                <a:lnTo>
                  <a:pt x="1169" y="1264"/>
                </a:lnTo>
                <a:lnTo>
                  <a:pt x="1162" y="1262"/>
                </a:lnTo>
                <a:lnTo>
                  <a:pt x="1143" y="1262"/>
                </a:lnTo>
                <a:lnTo>
                  <a:pt x="1095" y="1262"/>
                </a:lnTo>
                <a:lnTo>
                  <a:pt x="1069" y="1261"/>
                </a:lnTo>
                <a:lnTo>
                  <a:pt x="1064" y="1258"/>
                </a:lnTo>
                <a:lnTo>
                  <a:pt x="1058" y="1257"/>
                </a:lnTo>
                <a:lnTo>
                  <a:pt x="1045" y="1251"/>
                </a:lnTo>
                <a:lnTo>
                  <a:pt x="1020" y="1241"/>
                </a:lnTo>
                <a:lnTo>
                  <a:pt x="1011" y="1236"/>
                </a:lnTo>
                <a:lnTo>
                  <a:pt x="1010" y="1235"/>
                </a:lnTo>
                <a:lnTo>
                  <a:pt x="1011" y="1233"/>
                </a:lnTo>
                <a:lnTo>
                  <a:pt x="1013" y="1233"/>
                </a:lnTo>
                <a:lnTo>
                  <a:pt x="1017" y="1233"/>
                </a:lnTo>
                <a:lnTo>
                  <a:pt x="1027" y="1232"/>
                </a:lnTo>
                <a:lnTo>
                  <a:pt x="1050" y="1231"/>
                </a:lnTo>
                <a:lnTo>
                  <a:pt x="1061" y="1229"/>
                </a:lnTo>
                <a:lnTo>
                  <a:pt x="1065" y="1228"/>
                </a:lnTo>
                <a:lnTo>
                  <a:pt x="1068" y="1225"/>
                </a:lnTo>
                <a:lnTo>
                  <a:pt x="1068" y="1222"/>
                </a:lnTo>
                <a:lnTo>
                  <a:pt x="1068" y="1220"/>
                </a:lnTo>
                <a:lnTo>
                  <a:pt x="1068" y="1219"/>
                </a:lnTo>
                <a:lnTo>
                  <a:pt x="1066" y="1216"/>
                </a:lnTo>
                <a:lnTo>
                  <a:pt x="1062" y="1212"/>
                </a:lnTo>
                <a:lnTo>
                  <a:pt x="1056" y="1206"/>
                </a:lnTo>
                <a:lnTo>
                  <a:pt x="1035" y="1191"/>
                </a:lnTo>
                <a:lnTo>
                  <a:pt x="1001" y="1173"/>
                </a:lnTo>
                <a:lnTo>
                  <a:pt x="968" y="1154"/>
                </a:lnTo>
                <a:lnTo>
                  <a:pt x="965" y="1151"/>
                </a:lnTo>
                <a:lnTo>
                  <a:pt x="958" y="1142"/>
                </a:lnTo>
                <a:lnTo>
                  <a:pt x="933" y="1119"/>
                </a:lnTo>
                <a:lnTo>
                  <a:pt x="875" y="1067"/>
                </a:lnTo>
                <a:lnTo>
                  <a:pt x="856" y="1048"/>
                </a:lnTo>
                <a:lnTo>
                  <a:pt x="853" y="1049"/>
                </a:lnTo>
                <a:lnTo>
                  <a:pt x="851" y="1051"/>
                </a:lnTo>
                <a:lnTo>
                  <a:pt x="846" y="1054"/>
                </a:lnTo>
                <a:lnTo>
                  <a:pt x="840" y="1062"/>
                </a:lnTo>
                <a:lnTo>
                  <a:pt x="826" y="1080"/>
                </a:lnTo>
                <a:lnTo>
                  <a:pt x="819" y="1084"/>
                </a:lnTo>
                <a:lnTo>
                  <a:pt x="822" y="1065"/>
                </a:lnTo>
                <a:lnTo>
                  <a:pt x="824" y="1036"/>
                </a:lnTo>
                <a:lnTo>
                  <a:pt x="823" y="1028"/>
                </a:lnTo>
                <a:lnTo>
                  <a:pt x="820" y="1022"/>
                </a:lnTo>
                <a:lnTo>
                  <a:pt x="819" y="1020"/>
                </a:lnTo>
                <a:lnTo>
                  <a:pt x="816" y="1019"/>
                </a:lnTo>
                <a:lnTo>
                  <a:pt x="813" y="1018"/>
                </a:lnTo>
                <a:lnTo>
                  <a:pt x="810" y="1018"/>
                </a:lnTo>
                <a:lnTo>
                  <a:pt x="807" y="1019"/>
                </a:lnTo>
                <a:lnTo>
                  <a:pt x="804" y="1020"/>
                </a:lnTo>
                <a:lnTo>
                  <a:pt x="797" y="1023"/>
                </a:lnTo>
                <a:lnTo>
                  <a:pt x="788" y="1031"/>
                </a:lnTo>
                <a:lnTo>
                  <a:pt x="771" y="1048"/>
                </a:lnTo>
                <a:lnTo>
                  <a:pt x="771" y="1048"/>
                </a:lnTo>
                <a:lnTo>
                  <a:pt x="771" y="1032"/>
                </a:lnTo>
                <a:lnTo>
                  <a:pt x="771" y="1000"/>
                </a:lnTo>
                <a:lnTo>
                  <a:pt x="769" y="977"/>
                </a:lnTo>
                <a:lnTo>
                  <a:pt x="768" y="967"/>
                </a:lnTo>
                <a:lnTo>
                  <a:pt x="764" y="961"/>
                </a:lnTo>
                <a:lnTo>
                  <a:pt x="758" y="957"/>
                </a:lnTo>
                <a:lnTo>
                  <a:pt x="751" y="955"/>
                </a:lnTo>
                <a:lnTo>
                  <a:pt x="740" y="958"/>
                </a:lnTo>
                <a:lnTo>
                  <a:pt x="727" y="964"/>
                </a:lnTo>
                <a:lnTo>
                  <a:pt x="711" y="974"/>
                </a:lnTo>
                <a:lnTo>
                  <a:pt x="711" y="974"/>
                </a:lnTo>
                <a:lnTo>
                  <a:pt x="703" y="970"/>
                </a:lnTo>
                <a:lnTo>
                  <a:pt x="690" y="965"/>
                </a:lnTo>
                <a:lnTo>
                  <a:pt x="652" y="958"/>
                </a:lnTo>
                <a:lnTo>
                  <a:pt x="552" y="944"/>
                </a:lnTo>
                <a:lnTo>
                  <a:pt x="483" y="938"/>
                </a:lnTo>
                <a:lnTo>
                  <a:pt x="477" y="934"/>
                </a:lnTo>
                <a:lnTo>
                  <a:pt x="467" y="920"/>
                </a:lnTo>
                <a:lnTo>
                  <a:pt x="448" y="889"/>
                </a:lnTo>
                <a:lnTo>
                  <a:pt x="432" y="861"/>
                </a:lnTo>
                <a:lnTo>
                  <a:pt x="429" y="855"/>
                </a:lnTo>
                <a:lnTo>
                  <a:pt x="420" y="868"/>
                </a:lnTo>
                <a:lnTo>
                  <a:pt x="361" y="949"/>
                </a:lnTo>
                <a:lnTo>
                  <a:pt x="161" y="1228"/>
                </a:lnTo>
                <a:lnTo>
                  <a:pt x="7" y="1439"/>
                </a:lnTo>
                <a:lnTo>
                  <a:pt x="0" y="1451"/>
                </a:lnTo>
                <a:lnTo>
                  <a:pt x="19" y="1457"/>
                </a:lnTo>
                <a:lnTo>
                  <a:pt x="48" y="1467"/>
                </a:lnTo>
                <a:lnTo>
                  <a:pt x="67" y="1481"/>
                </a:lnTo>
                <a:lnTo>
                  <a:pt x="75" y="1500"/>
                </a:lnTo>
                <a:lnTo>
                  <a:pt x="77" y="1525"/>
                </a:lnTo>
                <a:lnTo>
                  <a:pt x="73" y="1558"/>
                </a:lnTo>
                <a:lnTo>
                  <a:pt x="70" y="1577"/>
                </a:lnTo>
                <a:lnTo>
                  <a:pt x="84" y="1578"/>
                </a:lnTo>
                <a:lnTo>
                  <a:pt x="130" y="1583"/>
                </a:lnTo>
                <a:lnTo>
                  <a:pt x="165" y="1584"/>
                </a:lnTo>
                <a:lnTo>
                  <a:pt x="168" y="1584"/>
                </a:lnTo>
                <a:lnTo>
                  <a:pt x="168" y="1591"/>
                </a:lnTo>
                <a:lnTo>
                  <a:pt x="170" y="1632"/>
                </a:lnTo>
                <a:lnTo>
                  <a:pt x="174" y="1772"/>
                </a:lnTo>
                <a:lnTo>
                  <a:pt x="177" y="1878"/>
                </a:lnTo>
                <a:lnTo>
                  <a:pt x="178" y="1884"/>
                </a:lnTo>
                <a:lnTo>
                  <a:pt x="194" y="1901"/>
                </a:lnTo>
                <a:lnTo>
                  <a:pt x="216" y="1933"/>
                </a:lnTo>
                <a:lnTo>
                  <a:pt x="223" y="1962"/>
                </a:lnTo>
                <a:lnTo>
                  <a:pt x="220" y="1991"/>
                </a:lnTo>
                <a:lnTo>
                  <a:pt x="209" y="2025"/>
                </a:lnTo>
                <a:lnTo>
                  <a:pt x="188" y="2062"/>
                </a:lnTo>
                <a:lnTo>
                  <a:pt x="177" y="2084"/>
                </a:lnTo>
                <a:lnTo>
                  <a:pt x="175" y="2091"/>
                </a:lnTo>
                <a:lnTo>
                  <a:pt x="174" y="2109"/>
                </a:lnTo>
                <a:lnTo>
                  <a:pt x="174" y="2123"/>
                </a:lnTo>
                <a:lnTo>
                  <a:pt x="174" y="2123"/>
                </a:lnTo>
                <a:lnTo>
                  <a:pt x="174" y="2129"/>
                </a:lnTo>
                <a:lnTo>
                  <a:pt x="173" y="2142"/>
                </a:lnTo>
                <a:lnTo>
                  <a:pt x="173" y="2152"/>
                </a:lnTo>
                <a:lnTo>
                  <a:pt x="174" y="2152"/>
                </a:lnTo>
                <a:lnTo>
                  <a:pt x="174" y="2165"/>
                </a:lnTo>
                <a:lnTo>
                  <a:pt x="174" y="2185"/>
                </a:lnTo>
                <a:lnTo>
                  <a:pt x="167" y="2219"/>
                </a:lnTo>
                <a:lnTo>
                  <a:pt x="155" y="2259"/>
                </a:lnTo>
                <a:lnTo>
                  <a:pt x="154" y="2271"/>
                </a:lnTo>
                <a:lnTo>
                  <a:pt x="154" y="2274"/>
                </a:lnTo>
                <a:lnTo>
                  <a:pt x="154" y="2277"/>
                </a:lnTo>
                <a:lnTo>
                  <a:pt x="157" y="2280"/>
                </a:lnTo>
                <a:lnTo>
                  <a:pt x="159" y="2287"/>
                </a:lnTo>
                <a:lnTo>
                  <a:pt x="168" y="2297"/>
                </a:lnTo>
                <a:lnTo>
                  <a:pt x="173" y="2298"/>
                </a:lnTo>
                <a:lnTo>
                  <a:pt x="170" y="2301"/>
                </a:lnTo>
                <a:lnTo>
                  <a:pt x="165" y="2307"/>
                </a:lnTo>
                <a:lnTo>
                  <a:pt x="157" y="2323"/>
                </a:lnTo>
                <a:lnTo>
                  <a:pt x="154" y="2340"/>
                </a:lnTo>
                <a:lnTo>
                  <a:pt x="154" y="2345"/>
                </a:lnTo>
                <a:lnTo>
                  <a:pt x="161" y="2351"/>
                </a:lnTo>
                <a:lnTo>
                  <a:pt x="167" y="2354"/>
                </a:lnTo>
                <a:lnTo>
                  <a:pt x="186" y="2361"/>
                </a:lnTo>
                <a:lnTo>
                  <a:pt x="226" y="2380"/>
                </a:lnTo>
                <a:lnTo>
                  <a:pt x="249" y="2393"/>
                </a:lnTo>
                <a:lnTo>
                  <a:pt x="254" y="2400"/>
                </a:lnTo>
                <a:lnTo>
                  <a:pt x="261" y="2411"/>
                </a:lnTo>
                <a:lnTo>
                  <a:pt x="278" y="2446"/>
                </a:lnTo>
                <a:lnTo>
                  <a:pt x="320" y="2535"/>
                </a:lnTo>
                <a:lnTo>
                  <a:pt x="361" y="2596"/>
                </a:lnTo>
                <a:lnTo>
                  <a:pt x="377" y="2600"/>
                </a:lnTo>
                <a:lnTo>
                  <a:pt x="496" y="2620"/>
                </a:lnTo>
                <a:lnTo>
                  <a:pt x="900" y="2690"/>
                </a:lnTo>
                <a:lnTo>
                  <a:pt x="1208" y="2743"/>
                </a:lnTo>
                <a:lnTo>
                  <a:pt x="1226" y="2746"/>
                </a:lnTo>
                <a:lnTo>
                  <a:pt x="1234" y="2746"/>
                </a:lnTo>
                <a:lnTo>
                  <a:pt x="1300" y="2745"/>
                </a:lnTo>
                <a:lnTo>
                  <a:pt x="1521" y="2739"/>
                </a:lnTo>
                <a:lnTo>
                  <a:pt x="1691" y="2735"/>
                </a:lnTo>
                <a:lnTo>
                  <a:pt x="1701" y="2733"/>
                </a:lnTo>
                <a:lnTo>
                  <a:pt x="1701" y="2733"/>
                </a:lnTo>
                <a:close/>
                <a:moveTo>
                  <a:pt x="1048" y="1131"/>
                </a:moveTo>
                <a:lnTo>
                  <a:pt x="1037" y="1131"/>
                </a:lnTo>
                <a:lnTo>
                  <a:pt x="1022" y="1128"/>
                </a:lnTo>
                <a:lnTo>
                  <a:pt x="1007" y="1122"/>
                </a:lnTo>
                <a:lnTo>
                  <a:pt x="995" y="1113"/>
                </a:lnTo>
                <a:lnTo>
                  <a:pt x="988" y="1102"/>
                </a:lnTo>
                <a:lnTo>
                  <a:pt x="984" y="1086"/>
                </a:lnTo>
                <a:lnTo>
                  <a:pt x="984" y="1077"/>
                </a:lnTo>
                <a:lnTo>
                  <a:pt x="985" y="1077"/>
                </a:lnTo>
                <a:lnTo>
                  <a:pt x="988" y="1077"/>
                </a:lnTo>
                <a:lnTo>
                  <a:pt x="997" y="1073"/>
                </a:lnTo>
                <a:lnTo>
                  <a:pt x="1014" y="1064"/>
                </a:lnTo>
                <a:lnTo>
                  <a:pt x="1029" y="1058"/>
                </a:lnTo>
                <a:lnTo>
                  <a:pt x="1033" y="1061"/>
                </a:lnTo>
                <a:lnTo>
                  <a:pt x="1045" y="1065"/>
                </a:lnTo>
                <a:lnTo>
                  <a:pt x="1074" y="1071"/>
                </a:lnTo>
                <a:lnTo>
                  <a:pt x="1100" y="1070"/>
                </a:lnTo>
                <a:lnTo>
                  <a:pt x="1106" y="1067"/>
                </a:lnTo>
                <a:lnTo>
                  <a:pt x="1100" y="1061"/>
                </a:lnTo>
                <a:lnTo>
                  <a:pt x="1091" y="1055"/>
                </a:lnTo>
                <a:lnTo>
                  <a:pt x="1072" y="1045"/>
                </a:lnTo>
                <a:lnTo>
                  <a:pt x="1050" y="1038"/>
                </a:lnTo>
                <a:lnTo>
                  <a:pt x="1003" y="1026"/>
                </a:lnTo>
                <a:lnTo>
                  <a:pt x="984" y="1020"/>
                </a:lnTo>
                <a:lnTo>
                  <a:pt x="984" y="1016"/>
                </a:lnTo>
                <a:lnTo>
                  <a:pt x="985" y="1012"/>
                </a:lnTo>
                <a:lnTo>
                  <a:pt x="990" y="1003"/>
                </a:lnTo>
                <a:lnTo>
                  <a:pt x="995" y="994"/>
                </a:lnTo>
                <a:lnTo>
                  <a:pt x="1008" y="980"/>
                </a:lnTo>
                <a:lnTo>
                  <a:pt x="1014" y="974"/>
                </a:lnTo>
                <a:lnTo>
                  <a:pt x="1014" y="967"/>
                </a:lnTo>
                <a:lnTo>
                  <a:pt x="1023" y="938"/>
                </a:lnTo>
                <a:lnTo>
                  <a:pt x="1058" y="865"/>
                </a:lnTo>
                <a:lnTo>
                  <a:pt x="1071" y="851"/>
                </a:lnTo>
                <a:lnTo>
                  <a:pt x="1085" y="842"/>
                </a:lnTo>
                <a:lnTo>
                  <a:pt x="1101" y="839"/>
                </a:lnTo>
                <a:lnTo>
                  <a:pt x="1119" y="845"/>
                </a:lnTo>
                <a:lnTo>
                  <a:pt x="1136" y="858"/>
                </a:lnTo>
                <a:lnTo>
                  <a:pt x="1137" y="858"/>
                </a:lnTo>
                <a:lnTo>
                  <a:pt x="1136" y="868"/>
                </a:lnTo>
                <a:lnTo>
                  <a:pt x="1132" y="883"/>
                </a:lnTo>
                <a:lnTo>
                  <a:pt x="1129" y="890"/>
                </a:lnTo>
                <a:lnTo>
                  <a:pt x="1127" y="891"/>
                </a:lnTo>
                <a:lnTo>
                  <a:pt x="1129" y="893"/>
                </a:lnTo>
                <a:lnTo>
                  <a:pt x="1132" y="891"/>
                </a:lnTo>
                <a:lnTo>
                  <a:pt x="1135" y="891"/>
                </a:lnTo>
                <a:lnTo>
                  <a:pt x="1142" y="890"/>
                </a:lnTo>
                <a:lnTo>
                  <a:pt x="1166" y="884"/>
                </a:lnTo>
                <a:lnTo>
                  <a:pt x="1177" y="881"/>
                </a:lnTo>
                <a:lnTo>
                  <a:pt x="1178" y="886"/>
                </a:lnTo>
                <a:lnTo>
                  <a:pt x="1178" y="889"/>
                </a:lnTo>
                <a:lnTo>
                  <a:pt x="1178" y="894"/>
                </a:lnTo>
                <a:lnTo>
                  <a:pt x="1177" y="907"/>
                </a:lnTo>
                <a:lnTo>
                  <a:pt x="1177" y="920"/>
                </a:lnTo>
                <a:lnTo>
                  <a:pt x="1178" y="932"/>
                </a:lnTo>
                <a:lnTo>
                  <a:pt x="1182" y="938"/>
                </a:lnTo>
                <a:lnTo>
                  <a:pt x="1184" y="938"/>
                </a:lnTo>
                <a:lnTo>
                  <a:pt x="1187" y="939"/>
                </a:lnTo>
                <a:lnTo>
                  <a:pt x="1191" y="938"/>
                </a:lnTo>
                <a:lnTo>
                  <a:pt x="1192" y="934"/>
                </a:lnTo>
                <a:lnTo>
                  <a:pt x="1195" y="929"/>
                </a:lnTo>
                <a:lnTo>
                  <a:pt x="1197" y="923"/>
                </a:lnTo>
                <a:lnTo>
                  <a:pt x="1200" y="909"/>
                </a:lnTo>
                <a:lnTo>
                  <a:pt x="1203" y="897"/>
                </a:lnTo>
                <a:lnTo>
                  <a:pt x="1206" y="890"/>
                </a:lnTo>
                <a:lnTo>
                  <a:pt x="1208" y="889"/>
                </a:lnTo>
                <a:lnTo>
                  <a:pt x="1216" y="891"/>
                </a:lnTo>
                <a:lnTo>
                  <a:pt x="1226" y="896"/>
                </a:lnTo>
                <a:lnTo>
                  <a:pt x="1236" y="902"/>
                </a:lnTo>
                <a:lnTo>
                  <a:pt x="1239" y="902"/>
                </a:lnTo>
                <a:lnTo>
                  <a:pt x="1239" y="909"/>
                </a:lnTo>
                <a:lnTo>
                  <a:pt x="1239" y="923"/>
                </a:lnTo>
                <a:lnTo>
                  <a:pt x="1242" y="952"/>
                </a:lnTo>
                <a:lnTo>
                  <a:pt x="1248" y="977"/>
                </a:lnTo>
                <a:lnTo>
                  <a:pt x="1250" y="981"/>
                </a:lnTo>
                <a:lnTo>
                  <a:pt x="1255" y="977"/>
                </a:lnTo>
                <a:lnTo>
                  <a:pt x="1258" y="970"/>
                </a:lnTo>
                <a:lnTo>
                  <a:pt x="1261" y="962"/>
                </a:lnTo>
                <a:lnTo>
                  <a:pt x="1263" y="945"/>
                </a:lnTo>
                <a:lnTo>
                  <a:pt x="1263" y="926"/>
                </a:lnTo>
                <a:lnTo>
                  <a:pt x="1263" y="890"/>
                </a:lnTo>
                <a:lnTo>
                  <a:pt x="1263" y="881"/>
                </a:lnTo>
                <a:lnTo>
                  <a:pt x="1272" y="877"/>
                </a:lnTo>
                <a:lnTo>
                  <a:pt x="1290" y="868"/>
                </a:lnTo>
                <a:lnTo>
                  <a:pt x="1326" y="854"/>
                </a:lnTo>
                <a:lnTo>
                  <a:pt x="1343" y="854"/>
                </a:lnTo>
                <a:lnTo>
                  <a:pt x="1359" y="860"/>
                </a:lnTo>
                <a:lnTo>
                  <a:pt x="1366" y="864"/>
                </a:lnTo>
                <a:lnTo>
                  <a:pt x="1358" y="876"/>
                </a:lnTo>
                <a:lnTo>
                  <a:pt x="1350" y="889"/>
                </a:lnTo>
                <a:lnTo>
                  <a:pt x="1339" y="919"/>
                </a:lnTo>
                <a:lnTo>
                  <a:pt x="1332" y="955"/>
                </a:lnTo>
                <a:lnTo>
                  <a:pt x="1332" y="1028"/>
                </a:lnTo>
                <a:lnTo>
                  <a:pt x="1339" y="1058"/>
                </a:lnTo>
                <a:lnTo>
                  <a:pt x="1342" y="1065"/>
                </a:lnTo>
                <a:lnTo>
                  <a:pt x="1348" y="1071"/>
                </a:lnTo>
                <a:lnTo>
                  <a:pt x="1355" y="1078"/>
                </a:lnTo>
                <a:lnTo>
                  <a:pt x="1372" y="1089"/>
                </a:lnTo>
                <a:lnTo>
                  <a:pt x="1410" y="1109"/>
                </a:lnTo>
                <a:lnTo>
                  <a:pt x="1430" y="1122"/>
                </a:lnTo>
                <a:lnTo>
                  <a:pt x="1429" y="1125"/>
                </a:lnTo>
                <a:lnTo>
                  <a:pt x="1429" y="1131"/>
                </a:lnTo>
                <a:lnTo>
                  <a:pt x="1424" y="1144"/>
                </a:lnTo>
                <a:lnTo>
                  <a:pt x="1421" y="1157"/>
                </a:lnTo>
                <a:lnTo>
                  <a:pt x="1421" y="1158"/>
                </a:lnTo>
                <a:lnTo>
                  <a:pt x="1419" y="1158"/>
                </a:lnTo>
                <a:lnTo>
                  <a:pt x="1411" y="1158"/>
                </a:lnTo>
                <a:lnTo>
                  <a:pt x="1395" y="1158"/>
                </a:lnTo>
                <a:lnTo>
                  <a:pt x="1379" y="1158"/>
                </a:lnTo>
                <a:lnTo>
                  <a:pt x="1378" y="1158"/>
                </a:lnTo>
                <a:lnTo>
                  <a:pt x="1384" y="1165"/>
                </a:lnTo>
                <a:lnTo>
                  <a:pt x="1392" y="1177"/>
                </a:lnTo>
                <a:lnTo>
                  <a:pt x="1395" y="1187"/>
                </a:lnTo>
                <a:lnTo>
                  <a:pt x="1397" y="1196"/>
                </a:lnTo>
                <a:lnTo>
                  <a:pt x="1395" y="1203"/>
                </a:lnTo>
                <a:lnTo>
                  <a:pt x="1397" y="1212"/>
                </a:lnTo>
                <a:lnTo>
                  <a:pt x="1400" y="1216"/>
                </a:lnTo>
                <a:lnTo>
                  <a:pt x="1397" y="1218"/>
                </a:lnTo>
                <a:lnTo>
                  <a:pt x="1394" y="1218"/>
                </a:lnTo>
                <a:lnTo>
                  <a:pt x="1385" y="1216"/>
                </a:lnTo>
                <a:lnTo>
                  <a:pt x="1363" y="1215"/>
                </a:lnTo>
                <a:lnTo>
                  <a:pt x="1346" y="1212"/>
                </a:lnTo>
                <a:lnTo>
                  <a:pt x="1343" y="1212"/>
                </a:lnTo>
                <a:lnTo>
                  <a:pt x="1340" y="1210"/>
                </a:lnTo>
                <a:lnTo>
                  <a:pt x="1337" y="1207"/>
                </a:lnTo>
                <a:lnTo>
                  <a:pt x="1332" y="1202"/>
                </a:lnTo>
                <a:lnTo>
                  <a:pt x="1320" y="1186"/>
                </a:lnTo>
                <a:lnTo>
                  <a:pt x="1314" y="1177"/>
                </a:lnTo>
                <a:lnTo>
                  <a:pt x="1308" y="1175"/>
                </a:lnTo>
                <a:lnTo>
                  <a:pt x="1304" y="1174"/>
                </a:lnTo>
                <a:lnTo>
                  <a:pt x="1297" y="1174"/>
                </a:lnTo>
                <a:lnTo>
                  <a:pt x="1290" y="1174"/>
                </a:lnTo>
                <a:lnTo>
                  <a:pt x="1272" y="1178"/>
                </a:lnTo>
                <a:lnTo>
                  <a:pt x="1232" y="1193"/>
                </a:lnTo>
                <a:lnTo>
                  <a:pt x="1137" y="1219"/>
                </a:lnTo>
                <a:lnTo>
                  <a:pt x="1078" y="1204"/>
                </a:lnTo>
                <a:lnTo>
                  <a:pt x="1078" y="1200"/>
                </a:lnTo>
                <a:lnTo>
                  <a:pt x="1078" y="1194"/>
                </a:lnTo>
                <a:lnTo>
                  <a:pt x="1078" y="1189"/>
                </a:lnTo>
                <a:lnTo>
                  <a:pt x="1072" y="1175"/>
                </a:lnTo>
                <a:lnTo>
                  <a:pt x="1065" y="1161"/>
                </a:lnTo>
                <a:lnTo>
                  <a:pt x="1049" y="1136"/>
                </a:lnTo>
                <a:lnTo>
                  <a:pt x="1048" y="1131"/>
                </a:lnTo>
                <a:lnTo>
                  <a:pt x="1048" y="1131"/>
                </a:lnTo>
                <a:close/>
                <a:moveTo>
                  <a:pt x="1434" y="1203"/>
                </a:moveTo>
                <a:lnTo>
                  <a:pt x="1445" y="1200"/>
                </a:lnTo>
                <a:lnTo>
                  <a:pt x="1463" y="1194"/>
                </a:lnTo>
                <a:lnTo>
                  <a:pt x="1475" y="1189"/>
                </a:lnTo>
                <a:lnTo>
                  <a:pt x="1482" y="1181"/>
                </a:lnTo>
                <a:lnTo>
                  <a:pt x="1489" y="1168"/>
                </a:lnTo>
                <a:lnTo>
                  <a:pt x="1498" y="1147"/>
                </a:lnTo>
                <a:lnTo>
                  <a:pt x="1504" y="1131"/>
                </a:lnTo>
                <a:lnTo>
                  <a:pt x="1514" y="1133"/>
                </a:lnTo>
                <a:lnTo>
                  <a:pt x="1524" y="1138"/>
                </a:lnTo>
                <a:lnTo>
                  <a:pt x="1534" y="1145"/>
                </a:lnTo>
                <a:lnTo>
                  <a:pt x="1543" y="1154"/>
                </a:lnTo>
                <a:lnTo>
                  <a:pt x="1559" y="1175"/>
                </a:lnTo>
                <a:lnTo>
                  <a:pt x="1581" y="1212"/>
                </a:lnTo>
                <a:lnTo>
                  <a:pt x="1588" y="1218"/>
                </a:lnTo>
                <a:lnTo>
                  <a:pt x="1576" y="1219"/>
                </a:lnTo>
                <a:lnTo>
                  <a:pt x="1552" y="1220"/>
                </a:lnTo>
                <a:lnTo>
                  <a:pt x="1495" y="1219"/>
                </a:lnTo>
                <a:lnTo>
                  <a:pt x="1445" y="1209"/>
                </a:lnTo>
                <a:lnTo>
                  <a:pt x="1434" y="1203"/>
                </a:lnTo>
                <a:lnTo>
                  <a:pt x="1434" y="1203"/>
                </a:lnTo>
                <a:close/>
                <a:moveTo>
                  <a:pt x="1491" y="822"/>
                </a:moveTo>
                <a:lnTo>
                  <a:pt x="1498" y="823"/>
                </a:lnTo>
                <a:lnTo>
                  <a:pt x="1510" y="825"/>
                </a:lnTo>
                <a:lnTo>
                  <a:pt x="1517" y="826"/>
                </a:lnTo>
                <a:lnTo>
                  <a:pt x="1518" y="828"/>
                </a:lnTo>
                <a:lnTo>
                  <a:pt x="1520" y="831"/>
                </a:lnTo>
                <a:lnTo>
                  <a:pt x="1521" y="834"/>
                </a:lnTo>
                <a:lnTo>
                  <a:pt x="1521" y="836"/>
                </a:lnTo>
                <a:lnTo>
                  <a:pt x="1523" y="848"/>
                </a:lnTo>
                <a:lnTo>
                  <a:pt x="1523" y="854"/>
                </a:lnTo>
                <a:lnTo>
                  <a:pt x="1520" y="857"/>
                </a:lnTo>
                <a:lnTo>
                  <a:pt x="1516" y="865"/>
                </a:lnTo>
                <a:lnTo>
                  <a:pt x="1504" y="889"/>
                </a:lnTo>
                <a:lnTo>
                  <a:pt x="1498" y="909"/>
                </a:lnTo>
                <a:lnTo>
                  <a:pt x="1498" y="912"/>
                </a:lnTo>
                <a:lnTo>
                  <a:pt x="1501" y="915"/>
                </a:lnTo>
                <a:lnTo>
                  <a:pt x="1505" y="915"/>
                </a:lnTo>
                <a:lnTo>
                  <a:pt x="1516" y="916"/>
                </a:lnTo>
                <a:lnTo>
                  <a:pt x="1524" y="915"/>
                </a:lnTo>
                <a:lnTo>
                  <a:pt x="1533" y="916"/>
                </a:lnTo>
                <a:lnTo>
                  <a:pt x="1539" y="919"/>
                </a:lnTo>
                <a:lnTo>
                  <a:pt x="1542" y="925"/>
                </a:lnTo>
                <a:lnTo>
                  <a:pt x="1543" y="925"/>
                </a:lnTo>
                <a:lnTo>
                  <a:pt x="1543" y="932"/>
                </a:lnTo>
                <a:lnTo>
                  <a:pt x="1542" y="951"/>
                </a:lnTo>
                <a:lnTo>
                  <a:pt x="1542" y="965"/>
                </a:lnTo>
                <a:lnTo>
                  <a:pt x="1543" y="965"/>
                </a:lnTo>
                <a:lnTo>
                  <a:pt x="1542" y="971"/>
                </a:lnTo>
                <a:lnTo>
                  <a:pt x="1539" y="974"/>
                </a:lnTo>
                <a:lnTo>
                  <a:pt x="1536" y="977"/>
                </a:lnTo>
                <a:lnTo>
                  <a:pt x="1533" y="980"/>
                </a:lnTo>
                <a:lnTo>
                  <a:pt x="1526" y="984"/>
                </a:lnTo>
                <a:lnTo>
                  <a:pt x="1517" y="989"/>
                </a:lnTo>
                <a:lnTo>
                  <a:pt x="1508" y="993"/>
                </a:lnTo>
                <a:lnTo>
                  <a:pt x="1503" y="999"/>
                </a:lnTo>
                <a:lnTo>
                  <a:pt x="1503" y="999"/>
                </a:lnTo>
                <a:lnTo>
                  <a:pt x="1500" y="1002"/>
                </a:lnTo>
                <a:lnTo>
                  <a:pt x="1498" y="1005"/>
                </a:lnTo>
                <a:lnTo>
                  <a:pt x="1495" y="1013"/>
                </a:lnTo>
                <a:lnTo>
                  <a:pt x="1488" y="1032"/>
                </a:lnTo>
                <a:lnTo>
                  <a:pt x="1474" y="1041"/>
                </a:lnTo>
                <a:lnTo>
                  <a:pt x="1468" y="1031"/>
                </a:lnTo>
                <a:lnTo>
                  <a:pt x="1455" y="1012"/>
                </a:lnTo>
                <a:lnTo>
                  <a:pt x="1426" y="978"/>
                </a:lnTo>
                <a:lnTo>
                  <a:pt x="1391" y="949"/>
                </a:lnTo>
                <a:lnTo>
                  <a:pt x="1382" y="942"/>
                </a:lnTo>
                <a:lnTo>
                  <a:pt x="1381" y="936"/>
                </a:lnTo>
                <a:lnTo>
                  <a:pt x="1382" y="926"/>
                </a:lnTo>
                <a:lnTo>
                  <a:pt x="1382" y="919"/>
                </a:lnTo>
                <a:lnTo>
                  <a:pt x="1385" y="916"/>
                </a:lnTo>
                <a:lnTo>
                  <a:pt x="1391" y="912"/>
                </a:lnTo>
                <a:lnTo>
                  <a:pt x="1400" y="906"/>
                </a:lnTo>
                <a:lnTo>
                  <a:pt x="1405" y="900"/>
                </a:lnTo>
                <a:lnTo>
                  <a:pt x="1417" y="902"/>
                </a:lnTo>
                <a:lnTo>
                  <a:pt x="1430" y="903"/>
                </a:lnTo>
                <a:lnTo>
                  <a:pt x="1433" y="906"/>
                </a:lnTo>
                <a:lnTo>
                  <a:pt x="1430" y="910"/>
                </a:lnTo>
                <a:lnTo>
                  <a:pt x="1430" y="913"/>
                </a:lnTo>
                <a:lnTo>
                  <a:pt x="1437" y="916"/>
                </a:lnTo>
                <a:lnTo>
                  <a:pt x="1446" y="916"/>
                </a:lnTo>
                <a:lnTo>
                  <a:pt x="1445" y="910"/>
                </a:lnTo>
                <a:lnTo>
                  <a:pt x="1442" y="905"/>
                </a:lnTo>
                <a:lnTo>
                  <a:pt x="1434" y="887"/>
                </a:lnTo>
                <a:lnTo>
                  <a:pt x="1429" y="870"/>
                </a:lnTo>
                <a:lnTo>
                  <a:pt x="1426" y="854"/>
                </a:lnTo>
                <a:lnTo>
                  <a:pt x="1427" y="847"/>
                </a:lnTo>
                <a:lnTo>
                  <a:pt x="1432" y="842"/>
                </a:lnTo>
                <a:lnTo>
                  <a:pt x="1439" y="838"/>
                </a:lnTo>
                <a:lnTo>
                  <a:pt x="1449" y="836"/>
                </a:lnTo>
                <a:lnTo>
                  <a:pt x="1450" y="836"/>
                </a:lnTo>
                <a:lnTo>
                  <a:pt x="1453" y="839"/>
                </a:lnTo>
                <a:lnTo>
                  <a:pt x="1456" y="841"/>
                </a:lnTo>
                <a:lnTo>
                  <a:pt x="1461" y="842"/>
                </a:lnTo>
                <a:lnTo>
                  <a:pt x="1468" y="844"/>
                </a:lnTo>
                <a:lnTo>
                  <a:pt x="1475" y="845"/>
                </a:lnTo>
                <a:lnTo>
                  <a:pt x="1479" y="848"/>
                </a:lnTo>
                <a:lnTo>
                  <a:pt x="1481" y="852"/>
                </a:lnTo>
                <a:lnTo>
                  <a:pt x="1479" y="855"/>
                </a:lnTo>
                <a:lnTo>
                  <a:pt x="1479" y="852"/>
                </a:lnTo>
                <a:lnTo>
                  <a:pt x="1479" y="845"/>
                </a:lnTo>
                <a:lnTo>
                  <a:pt x="1481" y="834"/>
                </a:lnTo>
                <a:lnTo>
                  <a:pt x="1482" y="829"/>
                </a:lnTo>
                <a:lnTo>
                  <a:pt x="1487" y="825"/>
                </a:lnTo>
                <a:lnTo>
                  <a:pt x="1491" y="822"/>
                </a:lnTo>
                <a:lnTo>
                  <a:pt x="1491" y="822"/>
                </a:lnTo>
                <a:close/>
                <a:moveTo>
                  <a:pt x="1562" y="826"/>
                </a:moveTo>
                <a:lnTo>
                  <a:pt x="1569" y="820"/>
                </a:lnTo>
                <a:lnTo>
                  <a:pt x="1578" y="818"/>
                </a:lnTo>
                <a:lnTo>
                  <a:pt x="1587" y="816"/>
                </a:lnTo>
                <a:lnTo>
                  <a:pt x="1594" y="815"/>
                </a:lnTo>
                <a:lnTo>
                  <a:pt x="1603" y="816"/>
                </a:lnTo>
                <a:lnTo>
                  <a:pt x="1617" y="822"/>
                </a:lnTo>
                <a:lnTo>
                  <a:pt x="1627" y="828"/>
                </a:lnTo>
                <a:lnTo>
                  <a:pt x="1631" y="831"/>
                </a:lnTo>
                <a:lnTo>
                  <a:pt x="1633" y="834"/>
                </a:lnTo>
                <a:lnTo>
                  <a:pt x="1633" y="834"/>
                </a:lnTo>
                <a:lnTo>
                  <a:pt x="1634" y="835"/>
                </a:lnTo>
                <a:lnTo>
                  <a:pt x="1637" y="836"/>
                </a:lnTo>
                <a:lnTo>
                  <a:pt x="1645" y="838"/>
                </a:lnTo>
                <a:lnTo>
                  <a:pt x="1662" y="842"/>
                </a:lnTo>
                <a:lnTo>
                  <a:pt x="1672" y="847"/>
                </a:lnTo>
                <a:lnTo>
                  <a:pt x="1672" y="861"/>
                </a:lnTo>
                <a:lnTo>
                  <a:pt x="1671" y="877"/>
                </a:lnTo>
                <a:lnTo>
                  <a:pt x="1669" y="881"/>
                </a:lnTo>
                <a:lnTo>
                  <a:pt x="1665" y="881"/>
                </a:lnTo>
                <a:lnTo>
                  <a:pt x="1662" y="881"/>
                </a:lnTo>
                <a:lnTo>
                  <a:pt x="1658" y="881"/>
                </a:lnTo>
                <a:lnTo>
                  <a:pt x="1656" y="883"/>
                </a:lnTo>
                <a:lnTo>
                  <a:pt x="1656" y="889"/>
                </a:lnTo>
                <a:lnTo>
                  <a:pt x="1655" y="896"/>
                </a:lnTo>
                <a:lnTo>
                  <a:pt x="1656" y="896"/>
                </a:lnTo>
                <a:lnTo>
                  <a:pt x="1647" y="897"/>
                </a:lnTo>
                <a:lnTo>
                  <a:pt x="1640" y="899"/>
                </a:lnTo>
                <a:lnTo>
                  <a:pt x="1633" y="903"/>
                </a:lnTo>
                <a:lnTo>
                  <a:pt x="1627" y="907"/>
                </a:lnTo>
                <a:lnTo>
                  <a:pt x="1617" y="918"/>
                </a:lnTo>
                <a:lnTo>
                  <a:pt x="1610" y="932"/>
                </a:lnTo>
                <a:lnTo>
                  <a:pt x="1605" y="949"/>
                </a:lnTo>
                <a:lnTo>
                  <a:pt x="1604" y="965"/>
                </a:lnTo>
                <a:lnTo>
                  <a:pt x="1605" y="965"/>
                </a:lnTo>
                <a:lnTo>
                  <a:pt x="1598" y="967"/>
                </a:lnTo>
                <a:lnTo>
                  <a:pt x="1591" y="967"/>
                </a:lnTo>
                <a:lnTo>
                  <a:pt x="1585" y="967"/>
                </a:lnTo>
                <a:lnTo>
                  <a:pt x="1584" y="967"/>
                </a:lnTo>
                <a:lnTo>
                  <a:pt x="1571" y="954"/>
                </a:lnTo>
                <a:lnTo>
                  <a:pt x="1555" y="931"/>
                </a:lnTo>
                <a:lnTo>
                  <a:pt x="1549" y="912"/>
                </a:lnTo>
                <a:lnTo>
                  <a:pt x="1552" y="899"/>
                </a:lnTo>
                <a:lnTo>
                  <a:pt x="1556" y="891"/>
                </a:lnTo>
                <a:lnTo>
                  <a:pt x="1560" y="887"/>
                </a:lnTo>
                <a:lnTo>
                  <a:pt x="1562" y="886"/>
                </a:lnTo>
                <a:lnTo>
                  <a:pt x="1562" y="877"/>
                </a:lnTo>
                <a:lnTo>
                  <a:pt x="1560" y="849"/>
                </a:lnTo>
                <a:lnTo>
                  <a:pt x="1560" y="828"/>
                </a:lnTo>
                <a:lnTo>
                  <a:pt x="1562" y="826"/>
                </a:lnTo>
                <a:lnTo>
                  <a:pt x="1562" y="826"/>
                </a:lnTo>
                <a:close/>
                <a:moveTo>
                  <a:pt x="2062" y="1484"/>
                </a:moveTo>
                <a:lnTo>
                  <a:pt x="2063" y="1494"/>
                </a:lnTo>
                <a:lnTo>
                  <a:pt x="2068" y="1500"/>
                </a:lnTo>
                <a:lnTo>
                  <a:pt x="2072" y="1504"/>
                </a:lnTo>
                <a:lnTo>
                  <a:pt x="2078" y="1507"/>
                </a:lnTo>
                <a:lnTo>
                  <a:pt x="2084" y="1507"/>
                </a:lnTo>
                <a:lnTo>
                  <a:pt x="2089" y="1507"/>
                </a:lnTo>
                <a:lnTo>
                  <a:pt x="2102" y="1503"/>
                </a:lnTo>
                <a:lnTo>
                  <a:pt x="2114" y="1500"/>
                </a:lnTo>
                <a:lnTo>
                  <a:pt x="2120" y="1499"/>
                </a:lnTo>
                <a:lnTo>
                  <a:pt x="2123" y="1499"/>
                </a:lnTo>
                <a:lnTo>
                  <a:pt x="2124" y="1499"/>
                </a:lnTo>
                <a:lnTo>
                  <a:pt x="2123" y="1512"/>
                </a:lnTo>
                <a:lnTo>
                  <a:pt x="2118" y="1522"/>
                </a:lnTo>
                <a:lnTo>
                  <a:pt x="2112" y="1529"/>
                </a:lnTo>
                <a:lnTo>
                  <a:pt x="2105" y="1535"/>
                </a:lnTo>
                <a:lnTo>
                  <a:pt x="2098" y="1539"/>
                </a:lnTo>
                <a:lnTo>
                  <a:pt x="2088" y="1541"/>
                </a:lnTo>
                <a:lnTo>
                  <a:pt x="2078" y="1541"/>
                </a:lnTo>
                <a:lnTo>
                  <a:pt x="2057" y="1538"/>
                </a:lnTo>
                <a:lnTo>
                  <a:pt x="2040" y="1532"/>
                </a:lnTo>
                <a:lnTo>
                  <a:pt x="2033" y="1526"/>
                </a:lnTo>
                <a:lnTo>
                  <a:pt x="2026" y="1532"/>
                </a:lnTo>
                <a:lnTo>
                  <a:pt x="2013" y="1544"/>
                </a:lnTo>
                <a:lnTo>
                  <a:pt x="1994" y="1573"/>
                </a:lnTo>
                <a:lnTo>
                  <a:pt x="1979" y="1603"/>
                </a:lnTo>
                <a:lnTo>
                  <a:pt x="1978" y="1609"/>
                </a:lnTo>
                <a:lnTo>
                  <a:pt x="1963" y="1609"/>
                </a:lnTo>
                <a:lnTo>
                  <a:pt x="1953" y="1606"/>
                </a:lnTo>
                <a:lnTo>
                  <a:pt x="1947" y="1603"/>
                </a:lnTo>
                <a:lnTo>
                  <a:pt x="1944" y="1597"/>
                </a:lnTo>
                <a:lnTo>
                  <a:pt x="1944" y="1593"/>
                </a:lnTo>
                <a:lnTo>
                  <a:pt x="1943" y="1588"/>
                </a:lnTo>
                <a:lnTo>
                  <a:pt x="1943" y="1584"/>
                </a:lnTo>
                <a:lnTo>
                  <a:pt x="1940" y="1580"/>
                </a:lnTo>
                <a:lnTo>
                  <a:pt x="1936" y="1578"/>
                </a:lnTo>
                <a:lnTo>
                  <a:pt x="1927" y="1578"/>
                </a:lnTo>
                <a:lnTo>
                  <a:pt x="1914" y="1580"/>
                </a:lnTo>
                <a:lnTo>
                  <a:pt x="1895" y="1583"/>
                </a:lnTo>
                <a:lnTo>
                  <a:pt x="1895" y="1583"/>
                </a:lnTo>
                <a:lnTo>
                  <a:pt x="1894" y="1573"/>
                </a:lnTo>
                <a:lnTo>
                  <a:pt x="1894" y="1559"/>
                </a:lnTo>
                <a:lnTo>
                  <a:pt x="1897" y="1528"/>
                </a:lnTo>
                <a:lnTo>
                  <a:pt x="1905" y="1455"/>
                </a:lnTo>
                <a:lnTo>
                  <a:pt x="1904" y="1399"/>
                </a:lnTo>
                <a:lnTo>
                  <a:pt x="1905" y="1399"/>
                </a:lnTo>
                <a:lnTo>
                  <a:pt x="1908" y="1399"/>
                </a:lnTo>
                <a:lnTo>
                  <a:pt x="1917" y="1402"/>
                </a:lnTo>
                <a:lnTo>
                  <a:pt x="1946" y="1410"/>
                </a:lnTo>
                <a:lnTo>
                  <a:pt x="2017" y="1442"/>
                </a:lnTo>
                <a:lnTo>
                  <a:pt x="2062" y="1484"/>
                </a:lnTo>
                <a:lnTo>
                  <a:pt x="2062" y="1484"/>
                </a:lnTo>
                <a:close/>
                <a:moveTo>
                  <a:pt x="2041" y="1662"/>
                </a:moveTo>
                <a:lnTo>
                  <a:pt x="2023" y="1661"/>
                </a:lnTo>
                <a:lnTo>
                  <a:pt x="2011" y="1658"/>
                </a:lnTo>
                <a:lnTo>
                  <a:pt x="2004" y="1655"/>
                </a:lnTo>
                <a:lnTo>
                  <a:pt x="2002" y="1654"/>
                </a:lnTo>
                <a:lnTo>
                  <a:pt x="2001" y="1651"/>
                </a:lnTo>
                <a:lnTo>
                  <a:pt x="2001" y="1648"/>
                </a:lnTo>
                <a:lnTo>
                  <a:pt x="2001" y="1645"/>
                </a:lnTo>
                <a:lnTo>
                  <a:pt x="2002" y="1642"/>
                </a:lnTo>
                <a:lnTo>
                  <a:pt x="2005" y="1636"/>
                </a:lnTo>
                <a:lnTo>
                  <a:pt x="2010" y="1629"/>
                </a:lnTo>
                <a:lnTo>
                  <a:pt x="2021" y="1610"/>
                </a:lnTo>
                <a:lnTo>
                  <a:pt x="2027" y="1588"/>
                </a:lnTo>
                <a:lnTo>
                  <a:pt x="2028" y="1581"/>
                </a:lnTo>
                <a:lnTo>
                  <a:pt x="2031" y="1581"/>
                </a:lnTo>
                <a:lnTo>
                  <a:pt x="2036" y="1578"/>
                </a:lnTo>
                <a:lnTo>
                  <a:pt x="2039" y="1575"/>
                </a:lnTo>
                <a:lnTo>
                  <a:pt x="2047" y="1568"/>
                </a:lnTo>
                <a:lnTo>
                  <a:pt x="2055" y="1562"/>
                </a:lnTo>
                <a:lnTo>
                  <a:pt x="2060" y="1561"/>
                </a:lnTo>
                <a:lnTo>
                  <a:pt x="2066" y="1561"/>
                </a:lnTo>
                <a:lnTo>
                  <a:pt x="2073" y="1564"/>
                </a:lnTo>
                <a:lnTo>
                  <a:pt x="2081" y="1570"/>
                </a:lnTo>
                <a:lnTo>
                  <a:pt x="2089" y="1577"/>
                </a:lnTo>
                <a:lnTo>
                  <a:pt x="2091" y="1577"/>
                </a:lnTo>
                <a:lnTo>
                  <a:pt x="2089" y="1587"/>
                </a:lnTo>
                <a:lnTo>
                  <a:pt x="2085" y="1603"/>
                </a:lnTo>
                <a:lnTo>
                  <a:pt x="2078" y="1616"/>
                </a:lnTo>
                <a:lnTo>
                  <a:pt x="2068" y="1628"/>
                </a:lnTo>
                <a:lnTo>
                  <a:pt x="2046" y="1655"/>
                </a:lnTo>
                <a:lnTo>
                  <a:pt x="2041" y="1662"/>
                </a:lnTo>
                <a:lnTo>
                  <a:pt x="2041" y="1662"/>
                </a:lnTo>
                <a:close/>
                <a:moveTo>
                  <a:pt x="2183" y="1658"/>
                </a:moveTo>
                <a:lnTo>
                  <a:pt x="2176" y="1655"/>
                </a:lnTo>
                <a:lnTo>
                  <a:pt x="2165" y="1648"/>
                </a:lnTo>
                <a:lnTo>
                  <a:pt x="2155" y="1638"/>
                </a:lnTo>
                <a:lnTo>
                  <a:pt x="2149" y="1626"/>
                </a:lnTo>
                <a:lnTo>
                  <a:pt x="2149" y="1613"/>
                </a:lnTo>
                <a:lnTo>
                  <a:pt x="2157" y="1599"/>
                </a:lnTo>
                <a:lnTo>
                  <a:pt x="2165" y="1590"/>
                </a:lnTo>
                <a:lnTo>
                  <a:pt x="2166" y="1590"/>
                </a:lnTo>
                <a:lnTo>
                  <a:pt x="2168" y="1590"/>
                </a:lnTo>
                <a:lnTo>
                  <a:pt x="2170" y="1588"/>
                </a:lnTo>
                <a:lnTo>
                  <a:pt x="2172" y="1586"/>
                </a:lnTo>
                <a:lnTo>
                  <a:pt x="2173" y="1583"/>
                </a:lnTo>
                <a:lnTo>
                  <a:pt x="2176" y="1581"/>
                </a:lnTo>
                <a:lnTo>
                  <a:pt x="2181" y="1588"/>
                </a:lnTo>
                <a:lnTo>
                  <a:pt x="2183" y="1594"/>
                </a:lnTo>
                <a:lnTo>
                  <a:pt x="2186" y="1600"/>
                </a:lnTo>
                <a:lnTo>
                  <a:pt x="2188" y="1613"/>
                </a:lnTo>
                <a:lnTo>
                  <a:pt x="2186" y="1628"/>
                </a:lnTo>
                <a:lnTo>
                  <a:pt x="2183" y="1652"/>
                </a:lnTo>
                <a:lnTo>
                  <a:pt x="2183" y="1658"/>
                </a:lnTo>
                <a:lnTo>
                  <a:pt x="2183" y="1658"/>
                </a:lnTo>
                <a:close/>
                <a:moveTo>
                  <a:pt x="2150" y="1148"/>
                </a:moveTo>
                <a:lnTo>
                  <a:pt x="2150" y="1154"/>
                </a:lnTo>
                <a:lnTo>
                  <a:pt x="2150" y="1162"/>
                </a:lnTo>
                <a:lnTo>
                  <a:pt x="2155" y="1174"/>
                </a:lnTo>
                <a:lnTo>
                  <a:pt x="2156" y="1196"/>
                </a:lnTo>
                <a:lnTo>
                  <a:pt x="2157" y="1203"/>
                </a:lnTo>
                <a:lnTo>
                  <a:pt x="2156" y="1204"/>
                </a:lnTo>
                <a:lnTo>
                  <a:pt x="2150" y="1207"/>
                </a:lnTo>
                <a:lnTo>
                  <a:pt x="2128" y="1218"/>
                </a:lnTo>
                <a:lnTo>
                  <a:pt x="2111" y="1226"/>
                </a:lnTo>
                <a:lnTo>
                  <a:pt x="2111" y="1226"/>
                </a:lnTo>
                <a:lnTo>
                  <a:pt x="2104" y="1220"/>
                </a:lnTo>
                <a:lnTo>
                  <a:pt x="2097" y="1204"/>
                </a:lnTo>
                <a:lnTo>
                  <a:pt x="2094" y="1190"/>
                </a:lnTo>
                <a:lnTo>
                  <a:pt x="2095" y="1174"/>
                </a:lnTo>
                <a:lnTo>
                  <a:pt x="2099" y="1160"/>
                </a:lnTo>
                <a:lnTo>
                  <a:pt x="2107" y="1144"/>
                </a:lnTo>
                <a:lnTo>
                  <a:pt x="2111" y="1136"/>
                </a:lnTo>
                <a:lnTo>
                  <a:pt x="2115" y="1138"/>
                </a:lnTo>
                <a:lnTo>
                  <a:pt x="2124" y="1138"/>
                </a:lnTo>
                <a:lnTo>
                  <a:pt x="2133" y="1141"/>
                </a:lnTo>
                <a:lnTo>
                  <a:pt x="2144" y="1147"/>
                </a:lnTo>
                <a:lnTo>
                  <a:pt x="2150" y="1148"/>
                </a:lnTo>
                <a:lnTo>
                  <a:pt x="2150" y="1148"/>
                </a:lnTo>
                <a:close/>
                <a:moveTo>
                  <a:pt x="1820" y="816"/>
                </a:moveTo>
                <a:lnTo>
                  <a:pt x="1818" y="818"/>
                </a:lnTo>
                <a:lnTo>
                  <a:pt x="1821" y="822"/>
                </a:lnTo>
                <a:lnTo>
                  <a:pt x="1827" y="828"/>
                </a:lnTo>
                <a:lnTo>
                  <a:pt x="1849" y="844"/>
                </a:lnTo>
                <a:lnTo>
                  <a:pt x="1901" y="877"/>
                </a:lnTo>
                <a:lnTo>
                  <a:pt x="1921" y="889"/>
                </a:lnTo>
                <a:lnTo>
                  <a:pt x="1920" y="893"/>
                </a:lnTo>
                <a:lnTo>
                  <a:pt x="1918" y="902"/>
                </a:lnTo>
                <a:lnTo>
                  <a:pt x="1917" y="907"/>
                </a:lnTo>
                <a:lnTo>
                  <a:pt x="1917" y="909"/>
                </a:lnTo>
                <a:lnTo>
                  <a:pt x="1918" y="907"/>
                </a:lnTo>
                <a:lnTo>
                  <a:pt x="1926" y="900"/>
                </a:lnTo>
                <a:lnTo>
                  <a:pt x="1933" y="893"/>
                </a:lnTo>
                <a:lnTo>
                  <a:pt x="1937" y="894"/>
                </a:lnTo>
                <a:lnTo>
                  <a:pt x="1946" y="896"/>
                </a:lnTo>
                <a:lnTo>
                  <a:pt x="1955" y="900"/>
                </a:lnTo>
                <a:lnTo>
                  <a:pt x="1966" y="907"/>
                </a:lnTo>
                <a:lnTo>
                  <a:pt x="1975" y="909"/>
                </a:lnTo>
                <a:lnTo>
                  <a:pt x="1975" y="903"/>
                </a:lnTo>
                <a:lnTo>
                  <a:pt x="1975" y="891"/>
                </a:lnTo>
                <a:lnTo>
                  <a:pt x="1981" y="867"/>
                </a:lnTo>
                <a:lnTo>
                  <a:pt x="1991" y="847"/>
                </a:lnTo>
                <a:lnTo>
                  <a:pt x="1995" y="842"/>
                </a:lnTo>
                <a:lnTo>
                  <a:pt x="2002" y="847"/>
                </a:lnTo>
                <a:lnTo>
                  <a:pt x="2017" y="854"/>
                </a:lnTo>
                <a:lnTo>
                  <a:pt x="2040" y="871"/>
                </a:lnTo>
                <a:lnTo>
                  <a:pt x="2047" y="881"/>
                </a:lnTo>
                <a:lnTo>
                  <a:pt x="2052" y="894"/>
                </a:lnTo>
                <a:lnTo>
                  <a:pt x="2053" y="900"/>
                </a:lnTo>
                <a:lnTo>
                  <a:pt x="2055" y="899"/>
                </a:lnTo>
                <a:lnTo>
                  <a:pt x="2059" y="894"/>
                </a:lnTo>
                <a:lnTo>
                  <a:pt x="2062" y="890"/>
                </a:lnTo>
                <a:lnTo>
                  <a:pt x="2063" y="889"/>
                </a:lnTo>
                <a:lnTo>
                  <a:pt x="2066" y="889"/>
                </a:lnTo>
                <a:lnTo>
                  <a:pt x="2079" y="889"/>
                </a:lnTo>
                <a:lnTo>
                  <a:pt x="2089" y="889"/>
                </a:lnTo>
                <a:lnTo>
                  <a:pt x="2091" y="889"/>
                </a:lnTo>
                <a:lnTo>
                  <a:pt x="2091" y="890"/>
                </a:lnTo>
                <a:lnTo>
                  <a:pt x="2094" y="897"/>
                </a:lnTo>
                <a:lnTo>
                  <a:pt x="2102" y="920"/>
                </a:lnTo>
                <a:lnTo>
                  <a:pt x="2108" y="939"/>
                </a:lnTo>
                <a:lnTo>
                  <a:pt x="2110" y="939"/>
                </a:lnTo>
                <a:lnTo>
                  <a:pt x="2110" y="932"/>
                </a:lnTo>
                <a:lnTo>
                  <a:pt x="2110" y="920"/>
                </a:lnTo>
                <a:lnTo>
                  <a:pt x="2112" y="899"/>
                </a:lnTo>
                <a:lnTo>
                  <a:pt x="2121" y="881"/>
                </a:lnTo>
                <a:lnTo>
                  <a:pt x="2126" y="877"/>
                </a:lnTo>
                <a:lnTo>
                  <a:pt x="2128" y="880"/>
                </a:lnTo>
                <a:lnTo>
                  <a:pt x="2134" y="883"/>
                </a:lnTo>
                <a:lnTo>
                  <a:pt x="2147" y="891"/>
                </a:lnTo>
                <a:lnTo>
                  <a:pt x="2157" y="899"/>
                </a:lnTo>
                <a:lnTo>
                  <a:pt x="2160" y="900"/>
                </a:lnTo>
                <a:lnTo>
                  <a:pt x="2159" y="902"/>
                </a:lnTo>
                <a:lnTo>
                  <a:pt x="2156" y="909"/>
                </a:lnTo>
                <a:lnTo>
                  <a:pt x="2143" y="932"/>
                </a:lnTo>
                <a:lnTo>
                  <a:pt x="2133" y="949"/>
                </a:lnTo>
                <a:lnTo>
                  <a:pt x="2133" y="949"/>
                </a:lnTo>
                <a:lnTo>
                  <a:pt x="2139" y="945"/>
                </a:lnTo>
                <a:lnTo>
                  <a:pt x="2159" y="929"/>
                </a:lnTo>
                <a:lnTo>
                  <a:pt x="2175" y="916"/>
                </a:lnTo>
                <a:lnTo>
                  <a:pt x="2176" y="915"/>
                </a:lnTo>
                <a:lnTo>
                  <a:pt x="2175" y="916"/>
                </a:lnTo>
                <a:lnTo>
                  <a:pt x="2173" y="918"/>
                </a:lnTo>
                <a:lnTo>
                  <a:pt x="2170" y="920"/>
                </a:lnTo>
                <a:lnTo>
                  <a:pt x="2166" y="928"/>
                </a:lnTo>
                <a:lnTo>
                  <a:pt x="2160" y="949"/>
                </a:lnTo>
                <a:lnTo>
                  <a:pt x="2163" y="967"/>
                </a:lnTo>
                <a:lnTo>
                  <a:pt x="2166" y="965"/>
                </a:lnTo>
                <a:lnTo>
                  <a:pt x="2178" y="955"/>
                </a:lnTo>
                <a:lnTo>
                  <a:pt x="2212" y="929"/>
                </a:lnTo>
                <a:lnTo>
                  <a:pt x="2230" y="919"/>
                </a:lnTo>
                <a:lnTo>
                  <a:pt x="2236" y="916"/>
                </a:lnTo>
                <a:lnTo>
                  <a:pt x="2241" y="916"/>
                </a:lnTo>
                <a:lnTo>
                  <a:pt x="2244" y="916"/>
                </a:lnTo>
                <a:lnTo>
                  <a:pt x="2246" y="916"/>
                </a:lnTo>
                <a:lnTo>
                  <a:pt x="2244" y="923"/>
                </a:lnTo>
                <a:lnTo>
                  <a:pt x="2244" y="935"/>
                </a:lnTo>
                <a:lnTo>
                  <a:pt x="2240" y="957"/>
                </a:lnTo>
                <a:lnTo>
                  <a:pt x="2236" y="967"/>
                </a:lnTo>
                <a:lnTo>
                  <a:pt x="2230" y="974"/>
                </a:lnTo>
                <a:lnTo>
                  <a:pt x="2226" y="977"/>
                </a:lnTo>
                <a:lnTo>
                  <a:pt x="2230" y="976"/>
                </a:lnTo>
                <a:lnTo>
                  <a:pt x="2240" y="968"/>
                </a:lnTo>
                <a:lnTo>
                  <a:pt x="2250" y="958"/>
                </a:lnTo>
                <a:lnTo>
                  <a:pt x="2266" y="936"/>
                </a:lnTo>
                <a:lnTo>
                  <a:pt x="2276" y="920"/>
                </a:lnTo>
                <a:lnTo>
                  <a:pt x="2281" y="922"/>
                </a:lnTo>
                <a:lnTo>
                  <a:pt x="2285" y="923"/>
                </a:lnTo>
                <a:lnTo>
                  <a:pt x="2289" y="925"/>
                </a:lnTo>
                <a:lnTo>
                  <a:pt x="2294" y="928"/>
                </a:lnTo>
                <a:lnTo>
                  <a:pt x="2295" y="931"/>
                </a:lnTo>
                <a:lnTo>
                  <a:pt x="2298" y="935"/>
                </a:lnTo>
                <a:lnTo>
                  <a:pt x="2301" y="944"/>
                </a:lnTo>
                <a:lnTo>
                  <a:pt x="2302" y="952"/>
                </a:lnTo>
                <a:lnTo>
                  <a:pt x="2302" y="962"/>
                </a:lnTo>
                <a:lnTo>
                  <a:pt x="2304" y="962"/>
                </a:lnTo>
                <a:lnTo>
                  <a:pt x="2301" y="965"/>
                </a:lnTo>
                <a:lnTo>
                  <a:pt x="2295" y="971"/>
                </a:lnTo>
                <a:lnTo>
                  <a:pt x="2283" y="981"/>
                </a:lnTo>
                <a:lnTo>
                  <a:pt x="2270" y="986"/>
                </a:lnTo>
                <a:lnTo>
                  <a:pt x="2266" y="986"/>
                </a:lnTo>
                <a:lnTo>
                  <a:pt x="2270" y="987"/>
                </a:lnTo>
                <a:lnTo>
                  <a:pt x="2281" y="987"/>
                </a:lnTo>
                <a:lnTo>
                  <a:pt x="2296" y="991"/>
                </a:lnTo>
                <a:lnTo>
                  <a:pt x="2311" y="1002"/>
                </a:lnTo>
                <a:lnTo>
                  <a:pt x="2315" y="1005"/>
                </a:lnTo>
                <a:lnTo>
                  <a:pt x="2312" y="1007"/>
                </a:lnTo>
                <a:lnTo>
                  <a:pt x="2308" y="1012"/>
                </a:lnTo>
                <a:lnTo>
                  <a:pt x="2298" y="1022"/>
                </a:lnTo>
                <a:lnTo>
                  <a:pt x="2286" y="1029"/>
                </a:lnTo>
                <a:lnTo>
                  <a:pt x="2285" y="1029"/>
                </a:lnTo>
                <a:lnTo>
                  <a:pt x="2308" y="1035"/>
                </a:lnTo>
                <a:lnTo>
                  <a:pt x="2357" y="1045"/>
                </a:lnTo>
                <a:lnTo>
                  <a:pt x="2457" y="1061"/>
                </a:lnTo>
                <a:lnTo>
                  <a:pt x="2560" y="1067"/>
                </a:lnTo>
                <a:lnTo>
                  <a:pt x="2586" y="1067"/>
                </a:lnTo>
                <a:lnTo>
                  <a:pt x="2572" y="1093"/>
                </a:lnTo>
                <a:lnTo>
                  <a:pt x="2559" y="1128"/>
                </a:lnTo>
                <a:lnTo>
                  <a:pt x="2557" y="1141"/>
                </a:lnTo>
                <a:lnTo>
                  <a:pt x="2559" y="1149"/>
                </a:lnTo>
                <a:lnTo>
                  <a:pt x="2562" y="1157"/>
                </a:lnTo>
                <a:lnTo>
                  <a:pt x="2566" y="1162"/>
                </a:lnTo>
                <a:lnTo>
                  <a:pt x="2572" y="1168"/>
                </a:lnTo>
                <a:lnTo>
                  <a:pt x="2582" y="1183"/>
                </a:lnTo>
                <a:lnTo>
                  <a:pt x="2585" y="1206"/>
                </a:lnTo>
                <a:lnTo>
                  <a:pt x="2586" y="1206"/>
                </a:lnTo>
                <a:lnTo>
                  <a:pt x="2578" y="1206"/>
                </a:lnTo>
                <a:lnTo>
                  <a:pt x="2559" y="1206"/>
                </a:lnTo>
                <a:lnTo>
                  <a:pt x="2518" y="1204"/>
                </a:lnTo>
                <a:lnTo>
                  <a:pt x="2480" y="1197"/>
                </a:lnTo>
                <a:lnTo>
                  <a:pt x="2475" y="1194"/>
                </a:lnTo>
                <a:lnTo>
                  <a:pt x="2470" y="1194"/>
                </a:lnTo>
                <a:lnTo>
                  <a:pt x="2462" y="1189"/>
                </a:lnTo>
                <a:lnTo>
                  <a:pt x="2454" y="1183"/>
                </a:lnTo>
                <a:lnTo>
                  <a:pt x="2438" y="1168"/>
                </a:lnTo>
                <a:lnTo>
                  <a:pt x="2427" y="1160"/>
                </a:lnTo>
                <a:lnTo>
                  <a:pt x="2421" y="1165"/>
                </a:lnTo>
                <a:lnTo>
                  <a:pt x="2417" y="1177"/>
                </a:lnTo>
                <a:lnTo>
                  <a:pt x="2415" y="1189"/>
                </a:lnTo>
                <a:lnTo>
                  <a:pt x="2418" y="1200"/>
                </a:lnTo>
                <a:lnTo>
                  <a:pt x="2423" y="1226"/>
                </a:lnTo>
                <a:lnTo>
                  <a:pt x="2424" y="1233"/>
                </a:lnTo>
                <a:lnTo>
                  <a:pt x="2436" y="1235"/>
                </a:lnTo>
                <a:lnTo>
                  <a:pt x="2454" y="1239"/>
                </a:lnTo>
                <a:lnTo>
                  <a:pt x="2507" y="1252"/>
                </a:lnTo>
                <a:lnTo>
                  <a:pt x="2565" y="1275"/>
                </a:lnTo>
                <a:lnTo>
                  <a:pt x="2612" y="1307"/>
                </a:lnTo>
                <a:lnTo>
                  <a:pt x="2627" y="1325"/>
                </a:lnTo>
                <a:lnTo>
                  <a:pt x="2633" y="1345"/>
                </a:lnTo>
                <a:lnTo>
                  <a:pt x="2627" y="1368"/>
                </a:lnTo>
                <a:lnTo>
                  <a:pt x="2609" y="1391"/>
                </a:lnTo>
                <a:lnTo>
                  <a:pt x="2609" y="1391"/>
                </a:lnTo>
                <a:lnTo>
                  <a:pt x="2601" y="1391"/>
                </a:lnTo>
                <a:lnTo>
                  <a:pt x="2583" y="1388"/>
                </a:lnTo>
                <a:lnTo>
                  <a:pt x="2541" y="1377"/>
                </a:lnTo>
                <a:lnTo>
                  <a:pt x="2521" y="1374"/>
                </a:lnTo>
                <a:lnTo>
                  <a:pt x="2504" y="1375"/>
                </a:lnTo>
                <a:lnTo>
                  <a:pt x="2498" y="1377"/>
                </a:lnTo>
                <a:lnTo>
                  <a:pt x="2495" y="1378"/>
                </a:lnTo>
                <a:lnTo>
                  <a:pt x="2494" y="1380"/>
                </a:lnTo>
                <a:lnTo>
                  <a:pt x="2494" y="1383"/>
                </a:lnTo>
                <a:lnTo>
                  <a:pt x="2494" y="1386"/>
                </a:lnTo>
                <a:lnTo>
                  <a:pt x="2494" y="1387"/>
                </a:lnTo>
                <a:lnTo>
                  <a:pt x="2494" y="1387"/>
                </a:lnTo>
                <a:lnTo>
                  <a:pt x="2505" y="1390"/>
                </a:lnTo>
                <a:lnTo>
                  <a:pt x="2533" y="1394"/>
                </a:lnTo>
                <a:lnTo>
                  <a:pt x="2592" y="1412"/>
                </a:lnTo>
                <a:lnTo>
                  <a:pt x="2614" y="1429"/>
                </a:lnTo>
                <a:lnTo>
                  <a:pt x="2620" y="1441"/>
                </a:lnTo>
                <a:lnTo>
                  <a:pt x="2622" y="1454"/>
                </a:lnTo>
                <a:lnTo>
                  <a:pt x="2621" y="1470"/>
                </a:lnTo>
                <a:lnTo>
                  <a:pt x="2621" y="1470"/>
                </a:lnTo>
                <a:lnTo>
                  <a:pt x="2609" y="1470"/>
                </a:lnTo>
                <a:lnTo>
                  <a:pt x="2582" y="1467"/>
                </a:lnTo>
                <a:lnTo>
                  <a:pt x="2518" y="1467"/>
                </a:lnTo>
                <a:lnTo>
                  <a:pt x="2488" y="1473"/>
                </a:lnTo>
                <a:lnTo>
                  <a:pt x="2462" y="1484"/>
                </a:lnTo>
                <a:lnTo>
                  <a:pt x="2452" y="1493"/>
                </a:lnTo>
                <a:lnTo>
                  <a:pt x="2437" y="1483"/>
                </a:lnTo>
                <a:lnTo>
                  <a:pt x="2412" y="1458"/>
                </a:lnTo>
                <a:lnTo>
                  <a:pt x="2388" y="1429"/>
                </a:lnTo>
                <a:lnTo>
                  <a:pt x="2331" y="1380"/>
                </a:lnTo>
                <a:lnTo>
                  <a:pt x="2269" y="1364"/>
                </a:lnTo>
                <a:lnTo>
                  <a:pt x="2260" y="1371"/>
                </a:lnTo>
                <a:lnTo>
                  <a:pt x="2247" y="1384"/>
                </a:lnTo>
                <a:lnTo>
                  <a:pt x="2221" y="1409"/>
                </a:lnTo>
                <a:lnTo>
                  <a:pt x="2195" y="1435"/>
                </a:lnTo>
                <a:lnTo>
                  <a:pt x="2188" y="1442"/>
                </a:lnTo>
                <a:lnTo>
                  <a:pt x="2181" y="1439"/>
                </a:lnTo>
                <a:lnTo>
                  <a:pt x="2172" y="1435"/>
                </a:lnTo>
                <a:lnTo>
                  <a:pt x="2165" y="1431"/>
                </a:lnTo>
                <a:lnTo>
                  <a:pt x="2160" y="1426"/>
                </a:lnTo>
                <a:lnTo>
                  <a:pt x="2157" y="1420"/>
                </a:lnTo>
                <a:lnTo>
                  <a:pt x="2155" y="1410"/>
                </a:lnTo>
                <a:lnTo>
                  <a:pt x="2153" y="1403"/>
                </a:lnTo>
                <a:lnTo>
                  <a:pt x="2156" y="1394"/>
                </a:lnTo>
                <a:lnTo>
                  <a:pt x="2162" y="1384"/>
                </a:lnTo>
                <a:lnTo>
                  <a:pt x="2178" y="1368"/>
                </a:lnTo>
                <a:lnTo>
                  <a:pt x="2198" y="1354"/>
                </a:lnTo>
                <a:lnTo>
                  <a:pt x="2241" y="1333"/>
                </a:lnTo>
                <a:lnTo>
                  <a:pt x="2262" y="1326"/>
                </a:lnTo>
                <a:lnTo>
                  <a:pt x="2266" y="1326"/>
                </a:lnTo>
                <a:lnTo>
                  <a:pt x="2273" y="1323"/>
                </a:lnTo>
                <a:lnTo>
                  <a:pt x="2279" y="1319"/>
                </a:lnTo>
                <a:lnTo>
                  <a:pt x="2282" y="1313"/>
                </a:lnTo>
                <a:lnTo>
                  <a:pt x="2283" y="1307"/>
                </a:lnTo>
                <a:lnTo>
                  <a:pt x="2283" y="1300"/>
                </a:lnTo>
                <a:lnTo>
                  <a:pt x="2285" y="1296"/>
                </a:lnTo>
                <a:lnTo>
                  <a:pt x="2279" y="1294"/>
                </a:lnTo>
                <a:lnTo>
                  <a:pt x="2270" y="1289"/>
                </a:lnTo>
                <a:lnTo>
                  <a:pt x="2254" y="1273"/>
                </a:lnTo>
                <a:lnTo>
                  <a:pt x="2246" y="1252"/>
                </a:lnTo>
                <a:lnTo>
                  <a:pt x="2246" y="1245"/>
                </a:lnTo>
                <a:lnTo>
                  <a:pt x="2249" y="1242"/>
                </a:lnTo>
                <a:lnTo>
                  <a:pt x="2254" y="1235"/>
                </a:lnTo>
                <a:lnTo>
                  <a:pt x="2269" y="1223"/>
                </a:lnTo>
                <a:lnTo>
                  <a:pt x="2292" y="1219"/>
                </a:lnTo>
                <a:lnTo>
                  <a:pt x="2301" y="1218"/>
                </a:lnTo>
                <a:lnTo>
                  <a:pt x="2305" y="1223"/>
                </a:lnTo>
                <a:lnTo>
                  <a:pt x="2317" y="1231"/>
                </a:lnTo>
                <a:lnTo>
                  <a:pt x="2328" y="1233"/>
                </a:lnTo>
                <a:lnTo>
                  <a:pt x="2339" y="1235"/>
                </a:lnTo>
                <a:lnTo>
                  <a:pt x="2350" y="1235"/>
                </a:lnTo>
                <a:lnTo>
                  <a:pt x="2362" y="1235"/>
                </a:lnTo>
                <a:lnTo>
                  <a:pt x="2369" y="1233"/>
                </a:lnTo>
                <a:lnTo>
                  <a:pt x="2372" y="1231"/>
                </a:lnTo>
                <a:lnTo>
                  <a:pt x="2375" y="1223"/>
                </a:lnTo>
                <a:lnTo>
                  <a:pt x="2378" y="1216"/>
                </a:lnTo>
                <a:lnTo>
                  <a:pt x="2378" y="1209"/>
                </a:lnTo>
                <a:lnTo>
                  <a:pt x="2378" y="1194"/>
                </a:lnTo>
                <a:lnTo>
                  <a:pt x="2378" y="1190"/>
                </a:lnTo>
                <a:lnTo>
                  <a:pt x="2370" y="1191"/>
                </a:lnTo>
                <a:lnTo>
                  <a:pt x="2357" y="1191"/>
                </a:lnTo>
                <a:lnTo>
                  <a:pt x="2331" y="1194"/>
                </a:lnTo>
                <a:lnTo>
                  <a:pt x="2307" y="1199"/>
                </a:lnTo>
                <a:lnTo>
                  <a:pt x="2301" y="1199"/>
                </a:lnTo>
                <a:lnTo>
                  <a:pt x="2294" y="1200"/>
                </a:lnTo>
                <a:lnTo>
                  <a:pt x="2279" y="1202"/>
                </a:lnTo>
                <a:lnTo>
                  <a:pt x="2246" y="1197"/>
                </a:lnTo>
                <a:lnTo>
                  <a:pt x="2220" y="1187"/>
                </a:lnTo>
                <a:lnTo>
                  <a:pt x="2215" y="1183"/>
                </a:lnTo>
                <a:lnTo>
                  <a:pt x="2214" y="1177"/>
                </a:lnTo>
                <a:lnTo>
                  <a:pt x="2211" y="1170"/>
                </a:lnTo>
                <a:lnTo>
                  <a:pt x="2204" y="1155"/>
                </a:lnTo>
                <a:lnTo>
                  <a:pt x="2195" y="1141"/>
                </a:lnTo>
                <a:lnTo>
                  <a:pt x="2178" y="1118"/>
                </a:lnTo>
                <a:lnTo>
                  <a:pt x="2176" y="1110"/>
                </a:lnTo>
                <a:lnTo>
                  <a:pt x="2168" y="1107"/>
                </a:lnTo>
                <a:lnTo>
                  <a:pt x="2160" y="1104"/>
                </a:lnTo>
                <a:lnTo>
                  <a:pt x="2144" y="1093"/>
                </a:lnTo>
                <a:lnTo>
                  <a:pt x="2128" y="1083"/>
                </a:lnTo>
                <a:lnTo>
                  <a:pt x="2112" y="1077"/>
                </a:lnTo>
                <a:lnTo>
                  <a:pt x="2095" y="1078"/>
                </a:lnTo>
                <a:lnTo>
                  <a:pt x="2076" y="1090"/>
                </a:lnTo>
                <a:lnTo>
                  <a:pt x="2076" y="1090"/>
                </a:lnTo>
                <a:lnTo>
                  <a:pt x="2076" y="1076"/>
                </a:lnTo>
                <a:lnTo>
                  <a:pt x="2075" y="1051"/>
                </a:lnTo>
                <a:lnTo>
                  <a:pt x="2069" y="1035"/>
                </a:lnTo>
                <a:lnTo>
                  <a:pt x="2057" y="1022"/>
                </a:lnTo>
                <a:lnTo>
                  <a:pt x="2039" y="1009"/>
                </a:lnTo>
                <a:lnTo>
                  <a:pt x="2015" y="994"/>
                </a:lnTo>
                <a:lnTo>
                  <a:pt x="2002" y="986"/>
                </a:lnTo>
                <a:lnTo>
                  <a:pt x="2001" y="987"/>
                </a:lnTo>
                <a:lnTo>
                  <a:pt x="1998" y="991"/>
                </a:lnTo>
                <a:lnTo>
                  <a:pt x="1994" y="1002"/>
                </a:lnTo>
                <a:lnTo>
                  <a:pt x="1991" y="1012"/>
                </a:lnTo>
                <a:lnTo>
                  <a:pt x="1991" y="1013"/>
                </a:lnTo>
                <a:lnTo>
                  <a:pt x="1994" y="1018"/>
                </a:lnTo>
                <a:lnTo>
                  <a:pt x="1999" y="1023"/>
                </a:lnTo>
                <a:lnTo>
                  <a:pt x="2011" y="1041"/>
                </a:lnTo>
                <a:lnTo>
                  <a:pt x="2017" y="1058"/>
                </a:lnTo>
                <a:lnTo>
                  <a:pt x="2018" y="1062"/>
                </a:lnTo>
                <a:lnTo>
                  <a:pt x="2001" y="1054"/>
                </a:lnTo>
                <a:lnTo>
                  <a:pt x="1971" y="1041"/>
                </a:lnTo>
                <a:lnTo>
                  <a:pt x="1946" y="1036"/>
                </a:lnTo>
                <a:lnTo>
                  <a:pt x="1924" y="1041"/>
                </a:lnTo>
                <a:lnTo>
                  <a:pt x="1902" y="1054"/>
                </a:lnTo>
                <a:lnTo>
                  <a:pt x="1879" y="1074"/>
                </a:lnTo>
                <a:lnTo>
                  <a:pt x="1868" y="1087"/>
                </a:lnTo>
                <a:lnTo>
                  <a:pt x="1850" y="1087"/>
                </a:lnTo>
                <a:lnTo>
                  <a:pt x="1824" y="1086"/>
                </a:lnTo>
                <a:lnTo>
                  <a:pt x="1781" y="1071"/>
                </a:lnTo>
                <a:lnTo>
                  <a:pt x="1739" y="1038"/>
                </a:lnTo>
                <a:lnTo>
                  <a:pt x="1727" y="1025"/>
                </a:lnTo>
                <a:lnTo>
                  <a:pt x="1743" y="1025"/>
                </a:lnTo>
                <a:lnTo>
                  <a:pt x="1766" y="1023"/>
                </a:lnTo>
                <a:lnTo>
                  <a:pt x="1773" y="1022"/>
                </a:lnTo>
                <a:lnTo>
                  <a:pt x="1775" y="1020"/>
                </a:lnTo>
                <a:lnTo>
                  <a:pt x="1776" y="1019"/>
                </a:lnTo>
                <a:lnTo>
                  <a:pt x="1776" y="1018"/>
                </a:lnTo>
                <a:lnTo>
                  <a:pt x="1776" y="1016"/>
                </a:lnTo>
                <a:lnTo>
                  <a:pt x="1773" y="1015"/>
                </a:lnTo>
                <a:lnTo>
                  <a:pt x="1771" y="1013"/>
                </a:lnTo>
                <a:lnTo>
                  <a:pt x="1763" y="1009"/>
                </a:lnTo>
                <a:lnTo>
                  <a:pt x="1737" y="1000"/>
                </a:lnTo>
                <a:lnTo>
                  <a:pt x="1705" y="991"/>
                </a:lnTo>
                <a:lnTo>
                  <a:pt x="1704" y="978"/>
                </a:lnTo>
                <a:lnTo>
                  <a:pt x="1701" y="954"/>
                </a:lnTo>
                <a:lnTo>
                  <a:pt x="1700" y="932"/>
                </a:lnTo>
                <a:lnTo>
                  <a:pt x="1700" y="928"/>
                </a:lnTo>
                <a:lnTo>
                  <a:pt x="1700" y="919"/>
                </a:lnTo>
                <a:lnTo>
                  <a:pt x="1704" y="900"/>
                </a:lnTo>
                <a:lnTo>
                  <a:pt x="1716" y="861"/>
                </a:lnTo>
                <a:lnTo>
                  <a:pt x="1723" y="823"/>
                </a:lnTo>
                <a:lnTo>
                  <a:pt x="1724" y="813"/>
                </a:lnTo>
                <a:lnTo>
                  <a:pt x="1727" y="813"/>
                </a:lnTo>
                <a:lnTo>
                  <a:pt x="1737" y="813"/>
                </a:lnTo>
                <a:lnTo>
                  <a:pt x="1755" y="815"/>
                </a:lnTo>
                <a:lnTo>
                  <a:pt x="1768" y="819"/>
                </a:lnTo>
                <a:lnTo>
                  <a:pt x="1771" y="819"/>
                </a:lnTo>
                <a:lnTo>
                  <a:pt x="1769" y="826"/>
                </a:lnTo>
                <a:lnTo>
                  <a:pt x="1769" y="851"/>
                </a:lnTo>
                <a:lnTo>
                  <a:pt x="1773" y="920"/>
                </a:lnTo>
                <a:lnTo>
                  <a:pt x="1784" y="951"/>
                </a:lnTo>
                <a:lnTo>
                  <a:pt x="1791" y="962"/>
                </a:lnTo>
                <a:lnTo>
                  <a:pt x="1801" y="971"/>
                </a:lnTo>
                <a:lnTo>
                  <a:pt x="1814" y="973"/>
                </a:lnTo>
                <a:lnTo>
                  <a:pt x="1815" y="973"/>
                </a:lnTo>
                <a:lnTo>
                  <a:pt x="1817" y="971"/>
                </a:lnTo>
                <a:lnTo>
                  <a:pt x="1823" y="965"/>
                </a:lnTo>
                <a:lnTo>
                  <a:pt x="1836" y="951"/>
                </a:lnTo>
                <a:lnTo>
                  <a:pt x="1842" y="944"/>
                </a:lnTo>
                <a:lnTo>
                  <a:pt x="1844" y="935"/>
                </a:lnTo>
                <a:lnTo>
                  <a:pt x="1844" y="931"/>
                </a:lnTo>
                <a:lnTo>
                  <a:pt x="1840" y="926"/>
                </a:lnTo>
                <a:lnTo>
                  <a:pt x="1836" y="920"/>
                </a:lnTo>
                <a:lnTo>
                  <a:pt x="1829" y="916"/>
                </a:lnTo>
                <a:lnTo>
                  <a:pt x="1814" y="909"/>
                </a:lnTo>
                <a:lnTo>
                  <a:pt x="1802" y="902"/>
                </a:lnTo>
                <a:lnTo>
                  <a:pt x="1800" y="899"/>
                </a:lnTo>
                <a:lnTo>
                  <a:pt x="1800" y="896"/>
                </a:lnTo>
                <a:lnTo>
                  <a:pt x="1800" y="894"/>
                </a:lnTo>
                <a:lnTo>
                  <a:pt x="1802" y="891"/>
                </a:lnTo>
                <a:lnTo>
                  <a:pt x="1805" y="889"/>
                </a:lnTo>
                <a:lnTo>
                  <a:pt x="1810" y="887"/>
                </a:lnTo>
                <a:lnTo>
                  <a:pt x="1823" y="881"/>
                </a:lnTo>
                <a:lnTo>
                  <a:pt x="1831" y="877"/>
                </a:lnTo>
                <a:lnTo>
                  <a:pt x="1826" y="873"/>
                </a:lnTo>
                <a:lnTo>
                  <a:pt x="1808" y="857"/>
                </a:lnTo>
                <a:lnTo>
                  <a:pt x="1795" y="844"/>
                </a:lnTo>
                <a:lnTo>
                  <a:pt x="1795" y="842"/>
                </a:lnTo>
                <a:lnTo>
                  <a:pt x="1797" y="841"/>
                </a:lnTo>
                <a:lnTo>
                  <a:pt x="1798" y="839"/>
                </a:lnTo>
                <a:lnTo>
                  <a:pt x="1802" y="836"/>
                </a:lnTo>
                <a:lnTo>
                  <a:pt x="1813" y="834"/>
                </a:lnTo>
                <a:lnTo>
                  <a:pt x="1817" y="835"/>
                </a:lnTo>
                <a:lnTo>
                  <a:pt x="1818" y="834"/>
                </a:lnTo>
                <a:lnTo>
                  <a:pt x="1820" y="832"/>
                </a:lnTo>
                <a:lnTo>
                  <a:pt x="1820" y="831"/>
                </a:lnTo>
                <a:lnTo>
                  <a:pt x="1820" y="829"/>
                </a:lnTo>
                <a:lnTo>
                  <a:pt x="1820" y="826"/>
                </a:lnTo>
                <a:lnTo>
                  <a:pt x="1818" y="816"/>
                </a:lnTo>
                <a:lnTo>
                  <a:pt x="1820" y="816"/>
                </a:lnTo>
                <a:lnTo>
                  <a:pt x="1820" y="816"/>
                </a:lnTo>
                <a:close/>
                <a:moveTo>
                  <a:pt x="1956" y="839"/>
                </a:moveTo>
                <a:lnTo>
                  <a:pt x="1949" y="841"/>
                </a:lnTo>
                <a:lnTo>
                  <a:pt x="1927" y="841"/>
                </a:lnTo>
                <a:lnTo>
                  <a:pt x="1911" y="841"/>
                </a:lnTo>
                <a:lnTo>
                  <a:pt x="1911" y="841"/>
                </a:lnTo>
                <a:lnTo>
                  <a:pt x="1907" y="838"/>
                </a:lnTo>
                <a:lnTo>
                  <a:pt x="1901" y="831"/>
                </a:lnTo>
                <a:lnTo>
                  <a:pt x="1889" y="813"/>
                </a:lnTo>
                <a:lnTo>
                  <a:pt x="1878" y="797"/>
                </a:lnTo>
                <a:lnTo>
                  <a:pt x="1875" y="793"/>
                </a:lnTo>
                <a:lnTo>
                  <a:pt x="1873" y="789"/>
                </a:lnTo>
                <a:lnTo>
                  <a:pt x="1875" y="781"/>
                </a:lnTo>
                <a:lnTo>
                  <a:pt x="1875" y="777"/>
                </a:lnTo>
                <a:lnTo>
                  <a:pt x="1878" y="774"/>
                </a:lnTo>
                <a:lnTo>
                  <a:pt x="1882" y="771"/>
                </a:lnTo>
                <a:lnTo>
                  <a:pt x="1888" y="768"/>
                </a:lnTo>
                <a:lnTo>
                  <a:pt x="1894" y="765"/>
                </a:lnTo>
                <a:lnTo>
                  <a:pt x="1900" y="771"/>
                </a:lnTo>
                <a:lnTo>
                  <a:pt x="1908" y="778"/>
                </a:lnTo>
                <a:lnTo>
                  <a:pt x="1915" y="781"/>
                </a:lnTo>
                <a:lnTo>
                  <a:pt x="1917" y="781"/>
                </a:lnTo>
                <a:lnTo>
                  <a:pt x="1928" y="781"/>
                </a:lnTo>
                <a:lnTo>
                  <a:pt x="1949" y="784"/>
                </a:lnTo>
                <a:lnTo>
                  <a:pt x="1962" y="792"/>
                </a:lnTo>
                <a:lnTo>
                  <a:pt x="1966" y="797"/>
                </a:lnTo>
                <a:lnTo>
                  <a:pt x="1969" y="803"/>
                </a:lnTo>
                <a:lnTo>
                  <a:pt x="1969" y="810"/>
                </a:lnTo>
                <a:lnTo>
                  <a:pt x="1969" y="818"/>
                </a:lnTo>
                <a:lnTo>
                  <a:pt x="1966" y="825"/>
                </a:lnTo>
                <a:lnTo>
                  <a:pt x="1962" y="832"/>
                </a:lnTo>
                <a:lnTo>
                  <a:pt x="1956" y="839"/>
                </a:lnTo>
                <a:lnTo>
                  <a:pt x="1956" y="839"/>
                </a:lnTo>
                <a:lnTo>
                  <a:pt x="1956" y="839"/>
                </a:lnTo>
                <a:close/>
                <a:moveTo>
                  <a:pt x="1507" y="726"/>
                </a:moveTo>
                <a:lnTo>
                  <a:pt x="1498" y="734"/>
                </a:lnTo>
                <a:lnTo>
                  <a:pt x="1487" y="745"/>
                </a:lnTo>
                <a:lnTo>
                  <a:pt x="1479" y="755"/>
                </a:lnTo>
                <a:lnTo>
                  <a:pt x="1472" y="761"/>
                </a:lnTo>
                <a:lnTo>
                  <a:pt x="1468" y="763"/>
                </a:lnTo>
                <a:lnTo>
                  <a:pt x="1462" y="761"/>
                </a:lnTo>
                <a:lnTo>
                  <a:pt x="1456" y="760"/>
                </a:lnTo>
                <a:lnTo>
                  <a:pt x="1447" y="757"/>
                </a:lnTo>
                <a:lnTo>
                  <a:pt x="1437" y="749"/>
                </a:lnTo>
                <a:lnTo>
                  <a:pt x="1437" y="749"/>
                </a:lnTo>
                <a:lnTo>
                  <a:pt x="1439" y="745"/>
                </a:lnTo>
                <a:lnTo>
                  <a:pt x="1443" y="736"/>
                </a:lnTo>
                <a:lnTo>
                  <a:pt x="1450" y="728"/>
                </a:lnTo>
                <a:lnTo>
                  <a:pt x="1463" y="710"/>
                </a:lnTo>
                <a:lnTo>
                  <a:pt x="1468" y="696"/>
                </a:lnTo>
                <a:lnTo>
                  <a:pt x="1472" y="696"/>
                </a:lnTo>
                <a:lnTo>
                  <a:pt x="1482" y="696"/>
                </a:lnTo>
                <a:lnTo>
                  <a:pt x="1491" y="696"/>
                </a:lnTo>
                <a:lnTo>
                  <a:pt x="1495" y="697"/>
                </a:lnTo>
                <a:lnTo>
                  <a:pt x="1498" y="700"/>
                </a:lnTo>
                <a:lnTo>
                  <a:pt x="1501" y="702"/>
                </a:lnTo>
                <a:lnTo>
                  <a:pt x="1504" y="706"/>
                </a:lnTo>
                <a:lnTo>
                  <a:pt x="1505" y="712"/>
                </a:lnTo>
                <a:lnTo>
                  <a:pt x="1505" y="719"/>
                </a:lnTo>
                <a:lnTo>
                  <a:pt x="1505" y="726"/>
                </a:lnTo>
                <a:lnTo>
                  <a:pt x="1507" y="726"/>
                </a:lnTo>
                <a:lnTo>
                  <a:pt x="1507" y="726"/>
                </a:lnTo>
                <a:close/>
                <a:moveTo>
                  <a:pt x="1445" y="587"/>
                </a:moveTo>
                <a:lnTo>
                  <a:pt x="1452" y="597"/>
                </a:lnTo>
                <a:lnTo>
                  <a:pt x="1463" y="612"/>
                </a:lnTo>
                <a:lnTo>
                  <a:pt x="1468" y="625"/>
                </a:lnTo>
                <a:lnTo>
                  <a:pt x="1466" y="635"/>
                </a:lnTo>
                <a:lnTo>
                  <a:pt x="1463" y="648"/>
                </a:lnTo>
                <a:lnTo>
                  <a:pt x="1461" y="664"/>
                </a:lnTo>
                <a:lnTo>
                  <a:pt x="1461" y="673"/>
                </a:lnTo>
                <a:lnTo>
                  <a:pt x="1453" y="686"/>
                </a:lnTo>
                <a:lnTo>
                  <a:pt x="1445" y="703"/>
                </a:lnTo>
                <a:lnTo>
                  <a:pt x="1437" y="716"/>
                </a:lnTo>
                <a:lnTo>
                  <a:pt x="1430" y="723"/>
                </a:lnTo>
                <a:lnTo>
                  <a:pt x="1421" y="726"/>
                </a:lnTo>
                <a:lnTo>
                  <a:pt x="1405" y="728"/>
                </a:lnTo>
                <a:lnTo>
                  <a:pt x="1395" y="728"/>
                </a:lnTo>
                <a:lnTo>
                  <a:pt x="1388" y="728"/>
                </a:lnTo>
                <a:lnTo>
                  <a:pt x="1384" y="725"/>
                </a:lnTo>
                <a:lnTo>
                  <a:pt x="1379" y="722"/>
                </a:lnTo>
                <a:lnTo>
                  <a:pt x="1376" y="718"/>
                </a:lnTo>
                <a:lnTo>
                  <a:pt x="1375" y="713"/>
                </a:lnTo>
                <a:lnTo>
                  <a:pt x="1375" y="707"/>
                </a:lnTo>
                <a:lnTo>
                  <a:pt x="1375" y="703"/>
                </a:lnTo>
                <a:lnTo>
                  <a:pt x="1378" y="694"/>
                </a:lnTo>
                <a:lnTo>
                  <a:pt x="1382" y="689"/>
                </a:lnTo>
                <a:lnTo>
                  <a:pt x="1385" y="686"/>
                </a:lnTo>
                <a:lnTo>
                  <a:pt x="1388" y="681"/>
                </a:lnTo>
                <a:lnTo>
                  <a:pt x="1391" y="674"/>
                </a:lnTo>
                <a:lnTo>
                  <a:pt x="1391" y="671"/>
                </a:lnTo>
                <a:lnTo>
                  <a:pt x="1390" y="670"/>
                </a:lnTo>
                <a:lnTo>
                  <a:pt x="1388" y="670"/>
                </a:lnTo>
                <a:lnTo>
                  <a:pt x="1385" y="670"/>
                </a:lnTo>
                <a:lnTo>
                  <a:pt x="1376" y="670"/>
                </a:lnTo>
                <a:lnTo>
                  <a:pt x="1366" y="667"/>
                </a:lnTo>
                <a:lnTo>
                  <a:pt x="1366" y="667"/>
                </a:lnTo>
                <a:lnTo>
                  <a:pt x="1365" y="664"/>
                </a:lnTo>
                <a:lnTo>
                  <a:pt x="1363" y="658"/>
                </a:lnTo>
                <a:lnTo>
                  <a:pt x="1363" y="654"/>
                </a:lnTo>
                <a:lnTo>
                  <a:pt x="1363" y="651"/>
                </a:lnTo>
                <a:lnTo>
                  <a:pt x="1366" y="648"/>
                </a:lnTo>
                <a:lnTo>
                  <a:pt x="1371" y="644"/>
                </a:lnTo>
                <a:lnTo>
                  <a:pt x="1375" y="641"/>
                </a:lnTo>
                <a:lnTo>
                  <a:pt x="1379" y="642"/>
                </a:lnTo>
                <a:lnTo>
                  <a:pt x="1388" y="644"/>
                </a:lnTo>
                <a:lnTo>
                  <a:pt x="1397" y="648"/>
                </a:lnTo>
                <a:lnTo>
                  <a:pt x="1411" y="658"/>
                </a:lnTo>
                <a:lnTo>
                  <a:pt x="1419" y="663"/>
                </a:lnTo>
                <a:lnTo>
                  <a:pt x="1420" y="658"/>
                </a:lnTo>
                <a:lnTo>
                  <a:pt x="1426" y="647"/>
                </a:lnTo>
                <a:lnTo>
                  <a:pt x="1433" y="619"/>
                </a:lnTo>
                <a:lnTo>
                  <a:pt x="1442" y="593"/>
                </a:lnTo>
                <a:lnTo>
                  <a:pt x="1445" y="587"/>
                </a:lnTo>
                <a:lnTo>
                  <a:pt x="1445" y="587"/>
                </a:lnTo>
                <a:close/>
                <a:moveTo>
                  <a:pt x="1294" y="616"/>
                </a:moveTo>
                <a:lnTo>
                  <a:pt x="1294" y="622"/>
                </a:lnTo>
                <a:lnTo>
                  <a:pt x="1297" y="634"/>
                </a:lnTo>
                <a:lnTo>
                  <a:pt x="1301" y="664"/>
                </a:lnTo>
                <a:lnTo>
                  <a:pt x="1304" y="692"/>
                </a:lnTo>
                <a:lnTo>
                  <a:pt x="1305" y="697"/>
                </a:lnTo>
                <a:lnTo>
                  <a:pt x="1310" y="700"/>
                </a:lnTo>
                <a:lnTo>
                  <a:pt x="1314" y="702"/>
                </a:lnTo>
                <a:lnTo>
                  <a:pt x="1317" y="706"/>
                </a:lnTo>
                <a:lnTo>
                  <a:pt x="1324" y="715"/>
                </a:lnTo>
                <a:lnTo>
                  <a:pt x="1329" y="723"/>
                </a:lnTo>
                <a:lnTo>
                  <a:pt x="1330" y="734"/>
                </a:lnTo>
                <a:lnTo>
                  <a:pt x="1327" y="744"/>
                </a:lnTo>
                <a:lnTo>
                  <a:pt x="1326" y="747"/>
                </a:lnTo>
                <a:lnTo>
                  <a:pt x="1317" y="747"/>
                </a:lnTo>
                <a:lnTo>
                  <a:pt x="1303" y="747"/>
                </a:lnTo>
                <a:lnTo>
                  <a:pt x="1277" y="745"/>
                </a:lnTo>
                <a:lnTo>
                  <a:pt x="1249" y="747"/>
                </a:lnTo>
                <a:lnTo>
                  <a:pt x="1242" y="748"/>
                </a:lnTo>
                <a:lnTo>
                  <a:pt x="1232" y="749"/>
                </a:lnTo>
                <a:lnTo>
                  <a:pt x="1224" y="752"/>
                </a:lnTo>
                <a:lnTo>
                  <a:pt x="1219" y="755"/>
                </a:lnTo>
                <a:lnTo>
                  <a:pt x="1213" y="760"/>
                </a:lnTo>
                <a:lnTo>
                  <a:pt x="1204" y="768"/>
                </a:lnTo>
                <a:lnTo>
                  <a:pt x="1195" y="778"/>
                </a:lnTo>
                <a:lnTo>
                  <a:pt x="1185" y="786"/>
                </a:lnTo>
                <a:lnTo>
                  <a:pt x="1171" y="789"/>
                </a:lnTo>
                <a:lnTo>
                  <a:pt x="1171" y="789"/>
                </a:lnTo>
                <a:lnTo>
                  <a:pt x="1166" y="787"/>
                </a:lnTo>
                <a:lnTo>
                  <a:pt x="1164" y="784"/>
                </a:lnTo>
                <a:lnTo>
                  <a:pt x="1161" y="781"/>
                </a:lnTo>
                <a:lnTo>
                  <a:pt x="1159" y="776"/>
                </a:lnTo>
                <a:lnTo>
                  <a:pt x="1159" y="771"/>
                </a:lnTo>
                <a:lnTo>
                  <a:pt x="1159" y="760"/>
                </a:lnTo>
                <a:lnTo>
                  <a:pt x="1161" y="741"/>
                </a:lnTo>
                <a:lnTo>
                  <a:pt x="1162" y="738"/>
                </a:lnTo>
                <a:lnTo>
                  <a:pt x="1165" y="736"/>
                </a:lnTo>
                <a:lnTo>
                  <a:pt x="1175" y="734"/>
                </a:lnTo>
                <a:lnTo>
                  <a:pt x="1197" y="729"/>
                </a:lnTo>
                <a:lnTo>
                  <a:pt x="1216" y="722"/>
                </a:lnTo>
                <a:lnTo>
                  <a:pt x="1220" y="719"/>
                </a:lnTo>
                <a:lnTo>
                  <a:pt x="1211" y="718"/>
                </a:lnTo>
                <a:lnTo>
                  <a:pt x="1195" y="715"/>
                </a:lnTo>
                <a:lnTo>
                  <a:pt x="1177" y="716"/>
                </a:lnTo>
                <a:lnTo>
                  <a:pt x="1137" y="721"/>
                </a:lnTo>
                <a:lnTo>
                  <a:pt x="1113" y="722"/>
                </a:lnTo>
                <a:lnTo>
                  <a:pt x="1110" y="718"/>
                </a:lnTo>
                <a:lnTo>
                  <a:pt x="1103" y="705"/>
                </a:lnTo>
                <a:lnTo>
                  <a:pt x="1098" y="694"/>
                </a:lnTo>
                <a:lnTo>
                  <a:pt x="1098" y="693"/>
                </a:lnTo>
                <a:lnTo>
                  <a:pt x="1106" y="687"/>
                </a:lnTo>
                <a:lnTo>
                  <a:pt x="1120" y="677"/>
                </a:lnTo>
                <a:lnTo>
                  <a:pt x="1135" y="671"/>
                </a:lnTo>
                <a:lnTo>
                  <a:pt x="1149" y="667"/>
                </a:lnTo>
                <a:lnTo>
                  <a:pt x="1159" y="658"/>
                </a:lnTo>
                <a:lnTo>
                  <a:pt x="1168" y="642"/>
                </a:lnTo>
                <a:lnTo>
                  <a:pt x="1171" y="631"/>
                </a:lnTo>
                <a:lnTo>
                  <a:pt x="1187" y="631"/>
                </a:lnTo>
                <a:lnTo>
                  <a:pt x="1201" y="632"/>
                </a:lnTo>
                <a:lnTo>
                  <a:pt x="1211" y="636"/>
                </a:lnTo>
                <a:lnTo>
                  <a:pt x="1219" y="642"/>
                </a:lnTo>
                <a:lnTo>
                  <a:pt x="1223" y="650"/>
                </a:lnTo>
                <a:lnTo>
                  <a:pt x="1226" y="657"/>
                </a:lnTo>
                <a:lnTo>
                  <a:pt x="1229" y="664"/>
                </a:lnTo>
                <a:lnTo>
                  <a:pt x="1233" y="680"/>
                </a:lnTo>
                <a:lnTo>
                  <a:pt x="1236" y="687"/>
                </a:lnTo>
                <a:lnTo>
                  <a:pt x="1240" y="693"/>
                </a:lnTo>
                <a:lnTo>
                  <a:pt x="1246" y="697"/>
                </a:lnTo>
                <a:lnTo>
                  <a:pt x="1248" y="697"/>
                </a:lnTo>
                <a:lnTo>
                  <a:pt x="1255" y="689"/>
                </a:lnTo>
                <a:lnTo>
                  <a:pt x="1259" y="680"/>
                </a:lnTo>
                <a:lnTo>
                  <a:pt x="1261" y="671"/>
                </a:lnTo>
                <a:lnTo>
                  <a:pt x="1259" y="663"/>
                </a:lnTo>
                <a:lnTo>
                  <a:pt x="1258" y="654"/>
                </a:lnTo>
                <a:lnTo>
                  <a:pt x="1256" y="639"/>
                </a:lnTo>
                <a:lnTo>
                  <a:pt x="1256" y="634"/>
                </a:lnTo>
                <a:lnTo>
                  <a:pt x="1259" y="628"/>
                </a:lnTo>
                <a:lnTo>
                  <a:pt x="1266" y="623"/>
                </a:lnTo>
                <a:lnTo>
                  <a:pt x="1277" y="619"/>
                </a:lnTo>
                <a:lnTo>
                  <a:pt x="1292" y="616"/>
                </a:lnTo>
                <a:lnTo>
                  <a:pt x="1294" y="616"/>
                </a:lnTo>
                <a:lnTo>
                  <a:pt x="1294" y="616"/>
                </a:lnTo>
                <a:close/>
                <a:moveTo>
                  <a:pt x="868" y="951"/>
                </a:moveTo>
                <a:lnTo>
                  <a:pt x="868" y="945"/>
                </a:lnTo>
                <a:lnTo>
                  <a:pt x="868" y="932"/>
                </a:lnTo>
                <a:lnTo>
                  <a:pt x="865" y="919"/>
                </a:lnTo>
                <a:lnTo>
                  <a:pt x="859" y="907"/>
                </a:lnTo>
                <a:lnTo>
                  <a:pt x="851" y="896"/>
                </a:lnTo>
                <a:lnTo>
                  <a:pt x="839" y="884"/>
                </a:lnTo>
                <a:lnTo>
                  <a:pt x="832" y="878"/>
                </a:lnTo>
                <a:lnTo>
                  <a:pt x="833" y="877"/>
                </a:lnTo>
                <a:lnTo>
                  <a:pt x="848" y="860"/>
                </a:lnTo>
                <a:lnTo>
                  <a:pt x="897" y="802"/>
                </a:lnTo>
                <a:lnTo>
                  <a:pt x="935" y="758"/>
                </a:lnTo>
                <a:lnTo>
                  <a:pt x="937" y="755"/>
                </a:lnTo>
                <a:lnTo>
                  <a:pt x="932" y="751"/>
                </a:lnTo>
                <a:lnTo>
                  <a:pt x="924" y="744"/>
                </a:lnTo>
                <a:lnTo>
                  <a:pt x="920" y="738"/>
                </a:lnTo>
                <a:lnTo>
                  <a:pt x="920" y="735"/>
                </a:lnTo>
                <a:lnTo>
                  <a:pt x="919" y="732"/>
                </a:lnTo>
                <a:lnTo>
                  <a:pt x="920" y="729"/>
                </a:lnTo>
                <a:lnTo>
                  <a:pt x="922" y="726"/>
                </a:lnTo>
                <a:lnTo>
                  <a:pt x="923" y="722"/>
                </a:lnTo>
                <a:lnTo>
                  <a:pt x="929" y="712"/>
                </a:lnTo>
                <a:lnTo>
                  <a:pt x="930" y="712"/>
                </a:lnTo>
                <a:lnTo>
                  <a:pt x="940" y="713"/>
                </a:lnTo>
                <a:lnTo>
                  <a:pt x="974" y="713"/>
                </a:lnTo>
                <a:lnTo>
                  <a:pt x="1000" y="713"/>
                </a:lnTo>
                <a:lnTo>
                  <a:pt x="1001" y="713"/>
                </a:lnTo>
                <a:lnTo>
                  <a:pt x="1006" y="715"/>
                </a:lnTo>
                <a:lnTo>
                  <a:pt x="1010" y="715"/>
                </a:lnTo>
                <a:lnTo>
                  <a:pt x="1014" y="718"/>
                </a:lnTo>
                <a:lnTo>
                  <a:pt x="1016" y="722"/>
                </a:lnTo>
                <a:lnTo>
                  <a:pt x="1017" y="725"/>
                </a:lnTo>
                <a:lnTo>
                  <a:pt x="1022" y="732"/>
                </a:lnTo>
                <a:lnTo>
                  <a:pt x="1029" y="742"/>
                </a:lnTo>
                <a:lnTo>
                  <a:pt x="1035" y="748"/>
                </a:lnTo>
                <a:lnTo>
                  <a:pt x="1042" y="754"/>
                </a:lnTo>
                <a:lnTo>
                  <a:pt x="1049" y="758"/>
                </a:lnTo>
                <a:lnTo>
                  <a:pt x="1068" y="764"/>
                </a:lnTo>
                <a:lnTo>
                  <a:pt x="1085" y="771"/>
                </a:lnTo>
                <a:lnTo>
                  <a:pt x="1100" y="780"/>
                </a:lnTo>
                <a:lnTo>
                  <a:pt x="1106" y="787"/>
                </a:lnTo>
                <a:lnTo>
                  <a:pt x="1110" y="794"/>
                </a:lnTo>
                <a:lnTo>
                  <a:pt x="1111" y="806"/>
                </a:lnTo>
                <a:lnTo>
                  <a:pt x="1111" y="819"/>
                </a:lnTo>
                <a:lnTo>
                  <a:pt x="1111" y="819"/>
                </a:lnTo>
                <a:lnTo>
                  <a:pt x="1085" y="832"/>
                </a:lnTo>
                <a:lnTo>
                  <a:pt x="1050" y="848"/>
                </a:lnTo>
                <a:lnTo>
                  <a:pt x="1016" y="873"/>
                </a:lnTo>
                <a:lnTo>
                  <a:pt x="981" y="925"/>
                </a:lnTo>
                <a:lnTo>
                  <a:pt x="965" y="948"/>
                </a:lnTo>
                <a:lnTo>
                  <a:pt x="949" y="949"/>
                </a:lnTo>
                <a:lnTo>
                  <a:pt x="904" y="951"/>
                </a:lnTo>
                <a:lnTo>
                  <a:pt x="869" y="951"/>
                </a:lnTo>
                <a:lnTo>
                  <a:pt x="868" y="951"/>
                </a:lnTo>
                <a:lnTo>
                  <a:pt x="868" y="951"/>
                </a:lnTo>
                <a:close/>
                <a:moveTo>
                  <a:pt x="1187" y="555"/>
                </a:moveTo>
                <a:lnTo>
                  <a:pt x="1185" y="563"/>
                </a:lnTo>
                <a:lnTo>
                  <a:pt x="1184" y="567"/>
                </a:lnTo>
                <a:lnTo>
                  <a:pt x="1181" y="571"/>
                </a:lnTo>
                <a:lnTo>
                  <a:pt x="1178" y="574"/>
                </a:lnTo>
                <a:lnTo>
                  <a:pt x="1171" y="580"/>
                </a:lnTo>
                <a:lnTo>
                  <a:pt x="1165" y="587"/>
                </a:lnTo>
                <a:lnTo>
                  <a:pt x="1161" y="594"/>
                </a:lnTo>
                <a:lnTo>
                  <a:pt x="1159" y="606"/>
                </a:lnTo>
                <a:lnTo>
                  <a:pt x="1161" y="606"/>
                </a:lnTo>
                <a:lnTo>
                  <a:pt x="1148" y="610"/>
                </a:lnTo>
                <a:lnTo>
                  <a:pt x="1129" y="615"/>
                </a:lnTo>
                <a:lnTo>
                  <a:pt x="1103" y="619"/>
                </a:lnTo>
                <a:lnTo>
                  <a:pt x="1093" y="623"/>
                </a:lnTo>
                <a:lnTo>
                  <a:pt x="1081" y="635"/>
                </a:lnTo>
                <a:lnTo>
                  <a:pt x="1075" y="644"/>
                </a:lnTo>
                <a:lnTo>
                  <a:pt x="1064" y="642"/>
                </a:lnTo>
                <a:lnTo>
                  <a:pt x="1046" y="639"/>
                </a:lnTo>
                <a:lnTo>
                  <a:pt x="1035" y="635"/>
                </a:lnTo>
                <a:lnTo>
                  <a:pt x="1027" y="629"/>
                </a:lnTo>
                <a:lnTo>
                  <a:pt x="1023" y="619"/>
                </a:lnTo>
                <a:lnTo>
                  <a:pt x="1019" y="605"/>
                </a:lnTo>
                <a:lnTo>
                  <a:pt x="1019" y="593"/>
                </a:lnTo>
                <a:lnTo>
                  <a:pt x="1026" y="589"/>
                </a:lnTo>
                <a:lnTo>
                  <a:pt x="1043" y="579"/>
                </a:lnTo>
                <a:lnTo>
                  <a:pt x="1066" y="570"/>
                </a:lnTo>
                <a:lnTo>
                  <a:pt x="1113" y="552"/>
                </a:lnTo>
                <a:lnTo>
                  <a:pt x="1143" y="536"/>
                </a:lnTo>
                <a:lnTo>
                  <a:pt x="1148" y="538"/>
                </a:lnTo>
                <a:lnTo>
                  <a:pt x="1156" y="541"/>
                </a:lnTo>
                <a:lnTo>
                  <a:pt x="1166" y="545"/>
                </a:lnTo>
                <a:lnTo>
                  <a:pt x="1181" y="554"/>
                </a:lnTo>
                <a:lnTo>
                  <a:pt x="1187" y="555"/>
                </a:lnTo>
                <a:lnTo>
                  <a:pt x="1187" y="555"/>
                </a:lnTo>
                <a:close/>
                <a:moveTo>
                  <a:pt x="1305" y="471"/>
                </a:moveTo>
                <a:lnTo>
                  <a:pt x="1301" y="476"/>
                </a:lnTo>
                <a:lnTo>
                  <a:pt x="1294" y="486"/>
                </a:lnTo>
                <a:lnTo>
                  <a:pt x="1279" y="505"/>
                </a:lnTo>
                <a:lnTo>
                  <a:pt x="1271" y="510"/>
                </a:lnTo>
                <a:lnTo>
                  <a:pt x="1259" y="513"/>
                </a:lnTo>
                <a:lnTo>
                  <a:pt x="1253" y="512"/>
                </a:lnTo>
                <a:lnTo>
                  <a:pt x="1248" y="509"/>
                </a:lnTo>
                <a:lnTo>
                  <a:pt x="1246" y="505"/>
                </a:lnTo>
                <a:lnTo>
                  <a:pt x="1245" y="500"/>
                </a:lnTo>
                <a:lnTo>
                  <a:pt x="1242" y="489"/>
                </a:lnTo>
                <a:lnTo>
                  <a:pt x="1242" y="484"/>
                </a:lnTo>
                <a:lnTo>
                  <a:pt x="1243" y="480"/>
                </a:lnTo>
                <a:lnTo>
                  <a:pt x="1246" y="476"/>
                </a:lnTo>
                <a:lnTo>
                  <a:pt x="1250" y="474"/>
                </a:lnTo>
                <a:lnTo>
                  <a:pt x="1255" y="474"/>
                </a:lnTo>
                <a:lnTo>
                  <a:pt x="1262" y="476"/>
                </a:lnTo>
                <a:lnTo>
                  <a:pt x="1263" y="476"/>
                </a:lnTo>
                <a:lnTo>
                  <a:pt x="1266" y="473"/>
                </a:lnTo>
                <a:lnTo>
                  <a:pt x="1274" y="470"/>
                </a:lnTo>
                <a:lnTo>
                  <a:pt x="1279" y="468"/>
                </a:lnTo>
                <a:lnTo>
                  <a:pt x="1287" y="468"/>
                </a:lnTo>
                <a:lnTo>
                  <a:pt x="1294" y="470"/>
                </a:lnTo>
                <a:lnTo>
                  <a:pt x="1301" y="471"/>
                </a:lnTo>
                <a:lnTo>
                  <a:pt x="1305" y="471"/>
                </a:lnTo>
                <a:lnTo>
                  <a:pt x="1305" y="471"/>
                </a:lnTo>
                <a:close/>
                <a:moveTo>
                  <a:pt x="1242" y="570"/>
                </a:moveTo>
                <a:lnTo>
                  <a:pt x="1232" y="563"/>
                </a:lnTo>
                <a:lnTo>
                  <a:pt x="1226" y="557"/>
                </a:lnTo>
                <a:lnTo>
                  <a:pt x="1224" y="551"/>
                </a:lnTo>
                <a:lnTo>
                  <a:pt x="1224" y="548"/>
                </a:lnTo>
                <a:lnTo>
                  <a:pt x="1224" y="545"/>
                </a:lnTo>
                <a:lnTo>
                  <a:pt x="1226" y="544"/>
                </a:lnTo>
                <a:lnTo>
                  <a:pt x="1229" y="541"/>
                </a:lnTo>
                <a:lnTo>
                  <a:pt x="1232" y="539"/>
                </a:lnTo>
                <a:lnTo>
                  <a:pt x="1237" y="536"/>
                </a:lnTo>
                <a:lnTo>
                  <a:pt x="1245" y="534"/>
                </a:lnTo>
                <a:lnTo>
                  <a:pt x="1261" y="529"/>
                </a:lnTo>
                <a:lnTo>
                  <a:pt x="1275" y="529"/>
                </a:lnTo>
                <a:lnTo>
                  <a:pt x="1279" y="528"/>
                </a:lnTo>
                <a:lnTo>
                  <a:pt x="1279" y="534"/>
                </a:lnTo>
                <a:lnTo>
                  <a:pt x="1279" y="538"/>
                </a:lnTo>
                <a:lnTo>
                  <a:pt x="1278" y="544"/>
                </a:lnTo>
                <a:lnTo>
                  <a:pt x="1275" y="548"/>
                </a:lnTo>
                <a:lnTo>
                  <a:pt x="1268" y="557"/>
                </a:lnTo>
                <a:lnTo>
                  <a:pt x="1259" y="564"/>
                </a:lnTo>
                <a:lnTo>
                  <a:pt x="1250" y="568"/>
                </a:lnTo>
                <a:lnTo>
                  <a:pt x="1242" y="570"/>
                </a:lnTo>
                <a:lnTo>
                  <a:pt x="1242" y="570"/>
                </a:lnTo>
                <a:lnTo>
                  <a:pt x="1242" y="570"/>
                </a:lnTo>
                <a:close/>
                <a:moveTo>
                  <a:pt x="1437" y="471"/>
                </a:moveTo>
                <a:lnTo>
                  <a:pt x="1443" y="477"/>
                </a:lnTo>
                <a:lnTo>
                  <a:pt x="1450" y="489"/>
                </a:lnTo>
                <a:lnTo>
                  <a:pt x="1455" y="502"/>
                </a:lnTo>
                <a:lnTo>
                  <a:pt x="1456" y="515"/>
                </a:lnTo>
                <a:lnTo>
                  <a:pt x="1456" y="529"/>
                </a:lnTo>
                <a:lnTo>
                  <a:pt x="1456" y="542"/>
                </a:lnTo>
                <a:lnTo>
                  <a:pt x="1456" y="548"/>
                </a:lnTo>
                <a:lnTo>
                  <a:pt x="1455" y="548"/>
                </a:lnTo>
                <a:lnTo>
                  <a:pt x="1450" y="548"/>
                </a:lnTo>
                <a:lnTo>
                  <a:pt x="1439" y="547"/>
                </a:lnTo>
                <a:lnTo>
                  <a:pt x="1430" y="547"/>
                </a:lnTo>
                <a:lnTo>
                  <a:pt x="1430" y="545"/>
                </a:lnTo>
                <a:lnTo>
                  <a:pt x="1429" y="541"/>
                </a:lnTo>
                <a:lnTo>
                  <a:pt x="1424" y="532"/>
                </a:lnTo>
                <a:lnTo>
                  <a:pt x="1420" y="526"/>
                </a:lnTo>
                <a:lnTo>
                  <a:pt x="1419" y="525"/>
                </a:lnTo>
                <a:lnTo>
                  <a:pt x="1416" y="525"/>
                </a:lnTo>
                <a:lnTo>
                  <a:pt x="1414" y="525"/>
                </a:lnTo>
                <a:lnTo>
                  <a:pt x="1411" y="526"/>
                </a:lnTo>
                <a:lnTo>
                  <a:pt x="1410" y="531"/>
                </a:lnTo>
                <a:lnTo>
                  <a:pt x="1408" y="535"/>
                </a:lnTo>
                <a:lnTo>
                  <a:pt x="1408" y="541"/>
                </a:lnTo>
                <a:lnTo>
                  <a:pt x="1408" y="541"/>
                </a:lnTo>
                <a:lnTo>
                  <a:pt x="1407" y="541"/>
                </a:lnTo>
                <a:lnTo>
                  <a:pt x="1401" y="539"/>
                </a:lnTo>
                <a:lnTo>
                  <a:pt x="1382" y="532"/>
                </a:lnTo>
                <a:lnTo>
                  <a:pt x="1368" y="528"/>
                </a:lnTo>
                <a:lnTo>
                  <a:pt x="1368" y="526"/>
                </a:lnTo>
                <a:lnTo>
                  <a:pt x="1368" y="523"/>
                </a:lnTo>
                <a:lnTo>
                  <a:pt x="1369" y="518"/>
                </a:lnTo>
                <a:lnTo>
                  <a:pt x="1372" y="512"/>
                </a:lnTo>
                <a:lnTo>
                  <a:pt x="1375" y="506"/>
                </a:lnTo>
                <a:lnTo>
                  <a:pt x="1384" y="497"/>
                </a:lnTo>
                <a:lnTo>
                  <a:pt x="1387" y="494"/>
                </a:lnTo>
                <a:lnTo>
                  <a:pt x="1388" y="499"/>
                </a:lnTo>
                <a:lnTo>
                  <a:pt x="1388" y="497"/>
                </a:lnTo>
                <a:lnTo>
                  <a:pt x="1388" y="493"/>
                </a:lnTo>
                <a:lnTo>
                  <a:pt x="1385" y="476"/>
                </a:lnTo>
                <a:lnTo>
                  <a:pt x="1382" y="457"/>
                </a:lnTo>
                <a:lnTo>
                  <a:pt x="1381" y="448"/>
                </a:lnTo>
                <a:lnTo>
                  <a:pt x="1382" y="442"/>
                </a:lnTo>
                <a:lnTo>
                  <a:pt x="1385" y="438"/>
                </a:lnTo>
                <a:lnTo>
                  <a:pt x="1390" y="439"/>
                </a:lnTo>
                <a:lnTo>
                  <a:pt x="1395" y="444"/>
                </a:lnTo>
                <a:lnTo>
                  <a:pt x="1397" y="444"/>
                </a:lnTo>
                <a:lnTo>
                  <a:pt x="1401" y="445"/>
                </a:lnTo>
                <a:lnTo>
                  <a:pt x="1405" y="447"/>
                </a:lnTo>
                <a:lnTo>
                  <a:pt x="1408" y="448"/>
                </a:lnTo>
                <a:lnTo>
                  <a:pt x="1410" y="451"/>
                </a:lnTo>
                <a:lnTo>
                  <a:pt x="1411" y="455"/>
                </a:lnTo>
                <a:lnTo>
                  <a:pt x="1414" y="461"/>
                </a:lnTo>
                <a:lnTo>
                  <a:pt x="1419" y="468"/>
                </a:lnTo>
                <a:lnTo>
                  <a:pt x="1429" y="471"/>
                </a:lnTo>
                <a:lnTo>
                  <a:pt x="1437" y="471"/>
                </a:lnTo>
                <a:lnTo>
                  <a:pt x="1437" y="471"/>
                </a:lnTo>
                <a:close/>
                <a:moveTo>
                  <a:pt x="1529" y="509"/>
                </a:moveTo>
                <a:lnTo>
                  <a:pt x="1526" y="516"/>
                </a:lnTo>
                <a:lnTo>
                  <a:pt x="1520" y="534"/>
                </a:lnTo>
                <a:lnTo>
                  <a:pt x="1516" y="548"/>
                </a:lnTo>
                <a:lnTo>
                  <a:pt x="1516" y="548"/>
                </a:lnTo>
                <a:lnTo>
                  <a:pt x="1511" y="548"/>
                </a:lnTo>
                <a:lnTo>
                  <a:pt x="1504" y="545"/>
                </a:lnTo>
                <a:lnTo>
                  <a:pt x="1492" y="538"/>
                </a:lnTo>
                <a:lnTo>
                  <a:pt x="1482" y="529"/>
                </a:lnTo>
                <a:lnTo>
                  <a:pt x="1481" y="526"/>
                </a:lnTo>
                <a:lnTo>
                  <a:pt x="1479" y="519"/>
                </a:lnTo>
                <a:lnTo>
                  <a:pt x="1479" y="506"/>
                </a:lnTo>
                <a:lnTo>
                  <a:pt x="1481" y="499"/>
                </a:lnTo>
                <a:lnTo>
                  <a:pt x="1482" y="492"/>
                </a:lnTo>
                <a:lnTo>
                  <a:pt x="1485" y="487"/>
                </a:lnTo>
                <a:lnTo>
                  <a:pt x="1492" y="480"/>
                </a:lnTo>
                <a:lnTo>
                  <a:pt x="1497" y="474"/>
                </a:lnTo>
                <a:lnTo>
                  <a:pt x="1500" y="477"/>
                </a:lnTo>
                <a:lnTo>
                  <a:pt x="1505" y="483"/>
                </a:lnTo>
                <a:lnTo>
                  <a:pt x="1511" y="489"/>
                </a:lnTo>
                <a:lnTo>
                  <a:pt x="1520" y="502"/>
                </a:lnTo>
                <a:lnTo>
                  <a:pt x="1529" y="509"/>
                </a:lnTo>
                <a:lnTo>
                  <a:pt x="1529" y="509"/>
                </a:lnTo>
                <a:close/>
                <a:moveTo>
                  <a:pt x="1607" y="668"/>
                </a:moveTo>
                <a:lnTo>
                  <a:pt x="1616" y="673"/>
                </a:lnTo>
                <a:lnTo>
                  <a:pt x="1634" y="680"/>
                </a:lnTo>
                <a:lnTo>
                  <a:pt x="1672" y="689"/>
                </a:lnTo>
                <a:lnTo>
                  <a:pt x="1713" y="692"/>
                </a:lnTo>
                <a:lnTo>
                  <a:pt x="1724" y="692"/>
                </a:lnTo>
                <a:lnTo>
                  <a:pt x="1727" y="696"/>
                </a:lnTo>
                <a:lnTo>
                  <a:pt x="1731" y="696"/>
                </a:lnTo>
                <a:lnTo>
                  <a:pt x="1737" y="694"/>
                </a:lnTo>
                <a:lnTo>
                  <a:pt x="1742" y="692"/>
                </a:lnTo>
                <a:lnTo>
                  <a:pt x="1746" y="687"/>
                </a:lnTo>
                <a:lnTo>
                  <a:pt x="1756" y="674"/>
                </a:lnTo>
                <a:lnTo>
                  <a:pt x="1771" y="652"/>
                </a:lnTo>
                <a:lnTo>
                  <a:pt x="1773" y="650"/>
                </a:lnTo>
                <a:lnTo>
                  <a:pt x="1782" y="650"/>
                </a:lnTo>
                <a:lnTo>
                  <a:pt x="1811" y="650"/>
                </a:lnTo>
                <a:lnTo>
                  <a:pt x="1834" y="650"/>
                </a:lnTo>
                <a:lnTo>
                  <a:pt x="1836" y="650"/>
                </a:lnTo>
                <a:lnTo>
                  <a:pt x="1839" y="657"/>
                </a:lnTo>
                <a:lnTo>
                  <a:pt x="1843" y="670"/>
                </a:lnTo>
                <a:lnTo>
                  <a:pt x="1847" y="693"/>
                </a:lnTo>
                <a:lnTo>
                  <a:pt x="1840" y="719"/>
                </a:lnTo>
                <a:lnTo>
                  <a:pt x="1836" y="726"/>
                </a:lnTo>
                <a:lnTo>
                  <a:pt x="1830" y="726"/>
                </a:lnTo>
                <a:lnTo>
                  <a:pt x="1821" y="726"/>
                </a:lnTo>
                <a:lnTo>
                  <a:pt x="1801" y="725"/>
                </a:lnTo>
                <a:lnTo>
                  <a:pt x="1782" y="725"/>
                </a:lnTo>
                <a:lnTo>
                  <a:pt x="1778" y="723"/>
                </a:lnTo>
                <a:lnTo>
                  <a:pt x="1772" y="732"/>
                </a:lnTo>
                <a:lnTo>
                  <a:pt x="1759" y="747"/>
                </a:lnTo>
                <a:lnTo>
                  <a:pt x="1742" y="758"/>
                </a:lnTo>
                <a:lnTo>
                  <a:pt x="1720" y="764"/>
                </a:lnTo>
                <a:lnTo>
                  <a:pt x="1698" y="767"/>
                </a:lnTo>
                <a:lnTo>
                  <a:pt x="1676" y="763"/>
                </a:lnTo>
                <a:lnTo>
                  <a:pt x="1666" y="758"/>
                </a:lnTo>
                <a:lnTo>
                  <a:pt x="1658" y="755"/>
                </a:lnTo>
                <a:lnTo>
                  <a:pt x="1646" y="748"/>
                </a:lnTo>
                <a:lnTo>
                  <a:pt x="1637" y="745"/>
                </a:lnTo>
                <a:lnTo>
                  <a:pt x="1634" y="745"/>
                </a:lnTo>
                <a:lnTo>
                  <a:pt x="1633" y="747"/>
                </a:lnTo>
                <a:lnTo>
                  <a:pt x="1630" y="749"/>
                </a:lnTo>
                <a:lnTo>
                  <a:pt x="1629" y="752"/>
                </a:lnTo>
                <a:lnTo>
                  <a:pt x="1627" y="758"/>
                </a:lnTo>
                <a:lnTo>
                  <a:pt x="1621" y="773"/>
                </a:lnTo>
                <a:lnTo>
                  <a:pt x="1621" y="773"/>
                </a:lnTo>
                <a:lnTo>
                  <a:pt x="1616" y="773"/>
                </a:lnTo>
                <a:lnTo>
                  <a:pt x="1604" y="773"/>
                </a:lnTo>
                <a:lnTo>
                  <a:pt x="1584" y="768"/>
                </a:lnTo>
                <a:lnTo>
                  <a:pt x="1560" y="761"/>
                </a:lnTo>
                <a:lnTo>
                  <a:pt x="1553" y="758"/>
                </a:lnTo>
                <a:lnTo>
                  <a:pt x="1546" y="757"/>
                </a:lnTo>
                <a:lnTo>
                  <a:pt x="1540" y="752"/>
                </a:lnTo>
                <a:lnTo>
                  <a:pt x="1536" y="745"/>
                </a:lnTo>
                <a:lnTo>
                  <a:pt x="1533" y="736"/>
                </a:lnTo>
                <a:lnTo>
                  <a:pt x="1527" y="716"/>
                </a:lnTo>
                <a:lnTo>
                  <a:pt x="1523" y="677"/>
                </a:lnTo>
                <a:lnTo>
                  <a:pt x="1523" y="667"/>
                </a:lnTo>
                <a:lnTo>
                  <a:pt x="1518" y="664"/>
                </a:lnTo>
                <a:lnTo>
                  <a:pt x="1505" y="651"/>
                </a:lnTo>
                <a:lnTo>
                  <a:pt x="1497" y="642"/>
                </a:lnTo>
                <a:lnTo>
                  <a:pt x="1497" y="641"/>
                </a:lnTo>
                <a:lnTo>
                  <a:pt x="1500" y="634"/>
                </a:lnTo>
                <a:lnTo>
                  <a:pt x="1505" y="619"/>
                </a:lnTo>
                <a:lnTo>
                  <a:pt x="1520" y="599"/>
                </a:lnTo>
                <a:lnTo>
                  <a:pt x="1529" y="593"/>
                </a:lnTo>
                <a:lnTo>
                  <a:pt x="1542" y="589"/>
                </a:lnTo>
                <a:lnTo>
                  <a:pt x="1550" y="587"/>
                </a:lnTo>
                <a:lnTo>
                  <a:pt x="1552" y="592"/>
                </a:lnTo>
                <a:lnTo>
                  <a:pt x="1553" y="594"/>
                </a:lnTo>
                <a:lnTo>
                  <a:pt x="1555" y="597"/>
                </a:lnTo>
                <a:lnTo>
                  <a:pt x="1556" y="600"/>
                </a:lnTo>
                <a:lnTo>
                  <a:pt x="1555" y="607"/>
                </a:lnTo>
                <a:lnTo>
                  <a:pt x="1555" y="616"/>
                </a:lnTo>
                <a:lnTo>
                  <a:pt x="1552" y="631"/>
                </a:lnTo>
                <a:lnTo>
                  <a:pt x="1553" y="631"/>
                </a:lnTo>
                <a:lnTo>
                  <a:pt x="1559" y="632"/>
                </a:lnTo>
                <a:lnTo>
                  <a:pt x="1568" y="631"/>
                </a:lnTo>
                <a:lnTo>
                  <a:pt x="1574" y="629"/>
                </a:lnTo>
                <a:lnTo>
                  <a:pt x="1578" y="626"/>
                </a:lnTo>
                <a:lnTo>
                  <a:pt x="1582" y="621"/>
                </a:lnTo>
                <a:lnTo>
                  <a:pt x="1591" y="610"/>
                </a:lnTo>
                <a:lnTo>
                  <a:pt x="1598" y="603"/>
                </a:lnTo>
                <a:lnTo>
                  <a:pt x="1601" y="607"/>
                </a:lnTo>
                <a:lnTo>
                  <a:pt x="1603" y="613"/>
                </a:lnTo>
                <a:lnTo>
                  <a:pt x="1605" y="623"/>
                </a:lnTo>
                <a:lnTo>
                  <a:pt x="1607" y="635"/>
                </a:lnTo>
                <a:lnTo>
                  <a:pt x="1607" y="658"/>
                </a:lnTo>
                <a:lnTo>
                  <a:pt x="1607" y="668"/>
                </a:lnTo>
                <a:lnTo>
                  <a:pt x="1607" y="668"/>
                </a:lnTo>
                <a:close/>
                <a:moveTo>
                  <a:pt x="1658" y="429"/>
                </a:moveTo>
                <a:lnTo>
                  <a:pt x="1656" y="432"/>
                </a:lnTo>
                <a:lnTo>
                  <a:pt x="1647" y="444"/>
                </a:lnTo>
                <a:lnTo>
                  <a:pt x="1618" y="483"/>
                </a:lnTo>
                <a:lnTo>
                  <a:pt x="1595" y="513"/>
                </a:lnTo>
                <a:lnTo>
                  <a:pt x="1595" y="515"/>
                </a:lnTo>
                <a:lnTo>
                  <a:pt x="1587" y="515"/>
                </a:lnTo>
                <a:lnTo>
                  <a:pt x="1572" y="510"/>
                </a:lnTo>
                <a:lnTo>
                  <a:pt x="1562" y="503"/>
                </a:lnTo>
                <a:lnTo>
                  <a:pt x="1555" y="493"/>
                </a:lnTo>
                <a:lnTo>
                  <a:pt x="1550" y="481"/>
                </a:lnTo>
                <a:lnTo>
                  <a:pt x="1545" y="468"/>
                </a:lnTo>
                <a:lnTo>
                  <a:pt x="1543" y="461"/>
                </a:lnTo>
                <a:lnTo>
                  <a:pt x="1545" y="460"/>
                </a:lnTo>
                <a:lnTo>
                  <a:pt x="1552" y="451"/>
                </a:lnTo>
                <a:lnTo>
                  <a:pt x="1558" y="445"/>
                </a:lnTo>
                <a:lnTo>
                  <a:pt x="1559" y="444"/>
                </a:lnTo>
                <a:lnTo>
                  <a:pt x="1547" y="435"/>
                </a:lnTo>
                <a:lnTo>
                  <a:pt x="1533" y="426"/>
                </a:lnTo>
                <a:lnTo>
                  <a:pt x="1523" y="426"/>
                </a:lnTo>
                <a:lnTo>
                  <a:pt x="1520" y="426"/>
                </a:lnTo>
                <a:lnTo>
                  <a:pt x="1518" y="426"/>
                </a:lnTo>
                <a:lnTo>
                  <a:pt x="1514" y="422"/>
                </a:lnTo>
                <a:lnTo>
                  <a:pt x="1511" y="415"/>
                </a:lnTo>
                <a:lnTo>
                  <a:pt x="1507" y="386"/>
                </a:lnTo>
                <a:lnTo>
                  <a:pt x="1507" y="386"/>
                </a:lnTo>
                <a:lnTo>
                  <a:pt x="1503" y="371"/>
                </a:lnTo>
                <a:lnTo>
                  <a:pt x="1500" y="347"/>
                </a:lnTo>
                <a:lnTo>
                  <a:pt x="1503" y="328"/>
                </a:lnTo>
                <a:lnTo>
                  <a:pt x="1508" y="315"/>
                </a:lnTo>
                <a:lnTo>
                  <a:pt x="1516" y="305"/>
                </a:lnTo>
                <a:lnTo>
                  <a:pt x="1521" y="295"/>
                </a:lnTo>
                <a:lnTo>
                  <a:pt x="1523" y="289"/>
                </a:lnTo>
                <a:lnTo>
                  <a:pt x="1527" y="290"/>
                </a:lnTo>
                <a:lnTo>
                  <a:pt x="1533" y="296"/>
                </a:lnTo>
                <a:lnTo>
                  <a:pt x="1546" y="312"/>
                </a:lnTo>
                <a:lnTo>
                  <a:pt x="1578" y="345"/>
                </a:lnTo>
                <a:lnTo>
                  <a:pt x="1592" y="352"/>
                </a:lnTo>
                <a:lnTo>
                  <a:pt x="1603" y="366"/>
                </a:lnTo>
                <a:lnTo>
                  <a:pt x="1633" y="402"/>
                </a:lnTo>
                <a:lnTo>
                  <a:pt x="1656" y="428"/>
                </a:lnTo>
                <a:lnTo>
                  <a:pt x="1658" y="429"/>
                </a:lnTo>
                <a:lnTo>
                  <a:pt x="1658" y="429"/>
                </a:lnTo>
                <a:close/>
                <a:moveTo>
                  <a:pt x="1689" y="345"/>
                </a:moveTo>
                <a:lnTo>
                  <a:pt x="1685" y="342"/>
                </a:lnTo>
                <a:lnTo>
                  <a:pt x="1684" y="339"/>
                </a:lnTo>
                <a:lnTo>
                  <a:pt x="1682" y="337"/>
                </a:lnTo>
                <a:lnTo>
                  <a:pt x="1682" y="334"/>
                </a:lnTo>
                <a:lnTo>
                  <a:pt x="1684" y="331"/>
                </a:lnTo>
                <a:lnTo>
                  <a:pt x="1685" y="328"/>
                </a:lnTo>
                <a:lnTo>
                  <a:pt x="1687" y="325"/>
                </a:lnTo>
                <a:lnTo>
                  <a:pt x="1692" y="318"/>
                </a:lnTo>
                <a:lnTo>
                  <a:pt x="1700" y="309"/>
                </a:lnTo>
                <a:lnTo>
                  <a:pt x="1704" y="303"/>
                </a:lnTo>
                <a:lnTo>
                  <a:pt x="1710" y="296"/>
                </a:lnTo>
                <a:lnTo>
                  <a:pt x="1711" y="292"/>
                </a:lnTo>
                <a:lnTo>
                  <a:pt x="1711" y="290"/>
                </a:lnTo>
                <a:lnTo>
                  <a:pt x="1707" y="290"/>
                </a:lnTo>
                <a:lnTo>
                  <a:pt x="1705" y="290"/>
                </a:lnTo>
                <a:lnTo>
                  <a:pt x="1698" y="293"/>
                </a:lnTo>
                <a:lnTo>
                  <a:pt x="1682" y="302"/>
                </a:lnTo>
                <a:lnTo>
                  <a:pt x="1665" y="310"/>
                </a:lnTo>
                <a:lnTo>
                  <a:pt x="1650" y="316"/>
                </a:lnTo>
                <a:lnTo>
                  <a:pt x="1647" y="315"/>
                </a:lnTo>
                <a:lnTo>
                  <a:pt x="1636" y="313"/>
                </a:lnTo>
                <a:lnTo>
                  <a:pt x="1614" y="309"/>
                </a:lnTo>
                <a:lnTo>
                  <a:pt x="1576" y="295"/>
                </a:lnTo>
                <a:lnTo>
                  <a:pt x="1565" y="287"/>
                </a:lnTo>
                <a:lnTo>
                  <a:pt x="1560" y="284"/>
                </a:lnTo>
                <a:lnTo>
                  <a:pt x="1559" y="281"/>
                </a:lnTo>
                <a:lnTo>
                  <a:pt x="1559" y="279"/>
                </a:lnTo>
                <a:lnTo>
                  <a:pt x="1563" y="268"/>
                </a:lnTo>
                <a:lnTo>
                  <a:pt x="1569" y="248"/>
                </a:lnTo>
                <a:lnTo>
                  <a:pt x="1572" y="231"/>
                </a:lnTo>
                <a:lnTo>
                  <a:pt x="1575" y="215"/>
                </a:lnTo>
                <a:lnTo>
                  <a:pt x="1585" y="200"/>
                </a:lnTo>
                <a:lnTo>
                  <a:pt x="1605" y="190"/>
                </a:lnTo>
                <a:lnTo>
                  <a:pt x="1623" y="184"/>
                </a:lnTo>
                <a:lnTo>
                  <a:pt x="1630" y="181"/>
                </a:lnTo>
                <a:lnTo>
                  <a:pt x="1637" y="177"/>
                </a:lnTo>
                <a:lnTo>
                  <a:pt x="1656" y="161"/>
                </a:lnTo>
                <a:lnTo>
                  <a:pt x="1698" y="124"/>
                </a:lnTo>
                <a:lnTo>
                  <a:pt x="1733" y="93"/>
                </a:lnTo>
                <a:lnTo>
                  <a:pt x="1737" y="96"/>
                </a:lnTo>
                <a:lnTo>
                  <a:pt x="1755" y="105"/>
                </a:lnTo>
                <a:lnTo>
                  <a:pt x="1768" y="110"/>
                </a:lnTo>
                <a:lnTo>
                  <a:pt x="1769" y="110"/>
                </a:lnTo>
                <a:lnTo>
                  <a:pt x="1773" y="109"/>
                </a:lnTo>
                <a:lnTo>
                  <a:pt x="1784" y="106"/>
                </a:lnTo>
                <a:lnTo>
                  <a:pt x="1805" y="103"/>
                </a:lnTo>
                <a:lnTo>
                  <a:pt x="1827" y="103"/>
                </a:lnTo>
                <a:lnTo>
                  <a:pt x="1833" y="102"/>
                </a:lnTo>
                <a:lnTo>
                  <a:pt x="1833" y="110"/>
                </a:lnTo>
                <a:lnTo>
                  <a:pt x="1833" y="129"/>
                </a:lnTo>
                <a:lnTo>
                  <a:pt x="1830" y="171"/>
                </a:lnTo>
                <a:lnTo>
                  <a:pt x="1823" y="190"/>
                </a:lnTo>
                <a:lnTo>
                  <a:pt x="1811" y="203"/>
                </a:lnTo>
                <a:lnTo>
                  <a:pt x="1804" y="208"/>
                </a:lnTo>
                <a:lnTo>
                  <a:pt x="1811" y="212"/>
                </a:lnTo>
                <a:lnTo>
                  <a:pt x="1834" y="225"/>
                </a:lnTo>
                <a:lnTo>
                  <a:pt x="1852" y="235"/>
                </a:lnTo>
                <a:lnTo>
                  <a:pt x="1853" y="235"/>
                </a:lnTo>
                <a:lnTo>
                  <a:pt x="1850" y="248"/>
                </a:lnTo>
                <a:lnTo>
                  <a:pt x="1844" y="274"/>
                </a:lnTo>
                <a:lnTo>
                  <a:pt x="1830" y="331"/>
                </a:lnTo>
                <a:lnTo>
                  <a:pt x="1814" y="373"/>
                </a:lnTo>
                <a:lnTo>
                  <a:pt x="1810" y="377"/>
                </a:lnTo>
                <a:lnTo>
                  <a:pt x="1811" y="390"/>
                </a:lnTo>
                <a:lnTo>
                  <a:pt x="1815" y="415"/>
                </a:lnTo>
                <a:lnTo>
                  <a:pt x="1815" y="470"/>
                </a:lnTo>
                <a:lnTo>
                  <a:pt x="1802" y="523"/>
                </a:lnTo>
                <a:lnTo>
                  <a:pt x="1797" y="535"/>
                </a:lnTo>
                <a:lnTo>
                  <a:pt x="1804" y="539"/>
                </a:lnTo>
                <a:lnTo>
                  <a:pt x="1830" y="552"/>
                </a:lnTo>
                <a:lnTo>
                  <a:pt x="1850" y="561"/>
                </a:lnTo>
                <a:lnTo>
                  <a:pt x="1852" y="561"/>
                </a:lnTo>
                <a:lnTo>
                  <a:pt x="1850" y="567"/>
                </a:lnTo>
                <a:lnTo>
                  <a:pt x="1849" y="576"/>
                </a:lnTo>
                <a:lnTo>
                  <a:pt x="1843" y="592"/>
                </a:lnTo>
                <a:lnTo>
                  <a:pt x="1834" y="606"/>
                </a:lnTo>
                <a:lnTo>
                  <a:pt x="1833" y="607"/>
                </a:lnTo>
                <a:lnTo>
                  <a:pt x="1827" y="607"/>
                </a:lnTo>
                <a:lnTo>
                  <a:pt x="1818" y="606"/>
                </a:lnTo>
                <a:lnTo>
                  <a:pt x="1802" y="602"/>
                </a:lnTo>
                <a:lnTo>
                  <a:pt x="1789" y="599"/>
                </a:lnTo>
                <a:lnTo>
                  <a:pt x="1788" y="597"/>
                </a:lnTo>
                <a:lnTo>
                  <a:pt x="1778" y="603"/>
                </a:lnTo>
                <a:lnTo>
                  <a:pt x="1758" y="612"/>
                </a:lnTo>
                <a:lnTo>
                  <a:pt x="1710" y="625"/>
                </a:lnTo>
                <a:lnTo>
                  <a:pt x="1662" y="623"/>
                </a:lnTo>
                <a:lnTo>
                  <a:pt x="1650" y="619"/>
                </a:lnTo>
                <a:lnTo>
                  <a:pt x="1650" y="609"/>
                </a:lnTo>
                <a:lnTo>
                  <a:pt x="1655" y="577"/>
                </a:lnTo>
                <a:lnTo>
                  <a:pt x="1656" y="552"/>
                </a:lnTo>
                <a:lnTo>
                  <a:pt x="1658" y="551"/>
                </a:lnTo>
                <a:lnTo>
                  <a:pt x="1662" y="550"/>
                </a:lnTo>
                <a:lnTo>
                  <a:pt x="1673" y="545"/>
                </a:lnTo>
                <a:lnTo>
                  <a:pt x="1700" y="539"/>
                </a:lnTo>
                <a:lnTo>
                  <a:pt x="1724" y="536"/>
                </a:lnTo>
                <a:lnTo>
                  <a:pt x="1730" y="535"/>
                </a:lnTo>
                <a:lnTo>
                  <a:pt x="1724" y="534"/>
                </a:lnTo>
                <a:lnTo>
                  <a:pt x="1711" y="529"/>
                </a:lnTo>
                <a:lnTo>
                  <a:pt x="1673" y="515"/>
                </a:lnTo>
                <a:lnTo>
                  <a:pt x="1658" y="506"/>
                </a:lnTo>
                <a:lnTo>
                  <a:pt x="1647" y="499"/>
                </a:lnTo>
                <a:lnTo>
                  <a:pt x="1647" y="494"/>
                </a:lnTo>
                <a:lnTo>
                  <a:pt x="1649" y="493"/>
                </a:lnTo>
                <a:lnTo>
                  <a:pt x="1653" y="490"/>
                </a:lnTo>
                <a:lnTo>
                  <a:pt x="1660" y="484"/>
                </a:lnTo>
                <a:lnTo>
                  <a:pt x="1679" y="458"/>
                </a:lnTo>
                <a:lnTo>
                  <a:pt x="1688" y="425"/>
                </a:lnTo>
                <a:lnTo>
                  <a:pt x="1687" y="413"/>
                </a:lnTo>
                <a:lnTo>
                  <a:pt x="1684" y="405"/>
                </a:lnTo>
                <a:lnTo>
                  <a:pt x="1681" y="399"/>
                </a:lnTo>
                <a:lnTo>
                  <a:pt x="1676" y="393"/>
                </a:lnTo>
                <a:lnTo>
                  <a:pt x="1671" y="390"/>
                </a:lnTo>
                <a:lnTo>
                  <a:pt x="1665" y="387"/>
                </a:lnTo>
                <a:lnTo>
                  <a:pt x="1655" y="383"/>
                </a:lnTo>
                <a:lnTo>
                  <a:pt x="1650" y="381"/>
                </a:lnTo>
                <a:lnTo>
                  <a:pt x="1647" y="377"/>
                </a:lnTo>
                <a:lnTo>
                  <a:pt x="1647" y="371"/>
                </a:lnTo>
                <a:lnTo>
                  <a:pt x="1647" y="364"/>
                </a:lnTo>
                <a:lnTo>
                  <a:pt x="1649" y="364"/>
                </a:lnTo>
                <a:lnTo>
                  <a:pt x="1652" y="358"/>
                </a:lnTo>
                <a:lnTo>
                  <a:pt x="1659" y="355"/>
                </a:lnTo>
                <a:lnTo>
                  <a:pt x="1668" y="355"/>
                </a:lnTo>
                <a:lnTo>
                  <a:pt x="1676" y="357"/>
                </a:lnTo>
                <a:lnTo>
                  <a:pt x="1688" y="361"/>
                </a:lnTo>
                <a:lnTo>
                  <a:pt x="1708" y="373"/>
                </a:lnTo>
                <a:lnTo>
                  <a:pt x="1736" y="389"/>
                </a:lnTo>
                <a:lnTo>
                  <a:pt x="1737" y="387"/>
                </a:lnTo>
                <a:lnTo>
                  <a:pt x="1733" y="384"/>
                </a:lnTo>
                <a:lnTo>
                  <a:pt x="1730" y="381"/>
                </a:lnTo>
                <a:lnTo>
                  <a:pt x="1721" y="374"/>
                </a:lnTo>
                <a:lnTo>
                  <a:pt x="1701" y="358"/>
                </a:lnTo>
                <a:lnTo>
                  <a:pt x="1689" y="345"/>
                </a:lnTo>
                <a:lnTo>
                  <a:pt x="1689" y="345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018200" y="3476520"/>
            <a:ext cx="157320" cy="84240"/>
          </a:xfrm>
          <a:custGeom>
            <a:avLst/>
            <a:gdLst/>
            <a:ahLst/>
            <a:rect l="l" t="t" r="r" b="b"/>
            <a:pathLst>
              <a:path w="458" h="256">
                <a:moveTo>
                  <a:pt x="219" y="174"/>
                </a:moveTo>
                <a:lnTo>
                  <a:pt x="216" y="176"/>
                </a:lnTo>
                <a:lnTo>
                  <a:pt x="214" y="181"/>
                </a:lnTo>
                <a:lnTo>
                  <a:pt x="214" y="184"/>
                </a:lnTo>
                <a:lnTo>
                  <a:pt x="214" y="188"/>
                </a:lnTo>
                <a:lnTo>
                  <a:pt x="213" y="191"/>
                </a:lnTo>
                <a:lnTo>
                  <a:pt x="208" y="195"/>
                </a:lnTo>
                <a:lnTo>
                  <a:pt x="207" y="197"/>
                </a:lnTo>
                <a:lnTo>
                  <a:pt x="200" y="204"/>
                </a:lnTo>
                <a:lnTo>
                  <a:pt x="185" y="214"/>
                </a:lnTo>
                <a:lnTo>
                  <a:pt x="158" y="232"/>
                </a:lnTo>
                <a:lnTo>
                  <a:pt x="129" y="250"/>
                </a:lnTo>
                <a:lnTo>
                  <a:pt x="122" y="256"/>
                </a:lnTo>
                <a:lnTo>
                  <a:pt x="117" y="249"/>
                </a:lnTo>
                <a:lnTo>
                  <a:pt x="116" y="243"/>
                </a:lnTo>
                <a:lnTo>
                  <a:pt x="114" y="229"/>
                </a:lnTo>
                <a:lnTo>
                  <a:pt x="111" y="198"/>
                </a:lnTo>
                <a:lnTo>
                  <a:pt x="111" y="182"/>
                </a:lnTo>
                <a:lnTo>
                  <a:pt x="106" y="181"/>
                </a:lnTo>
                <a:lnTo>
                  <a:pt x="95" y="181"/>
                </a:lnTo>
                <a:lnTo>
                  <a:pt x="85" y="181"/>
                </a:lnTo>
                <a:lnTo>
                  <a:pt x="65" y="181"/>
                </a:lnTo>
                <a:lnTo>
                  <a:pt x="52" y="178"/>
                </a:lnTo>
                <a:lnTo>
                  <a:pt x="43" y="172"/>
                </a:lnTo>
                <a:lnTo>
                  <a:pt x="19" y="155"/>
                </a:lnTo>
                <a:lnTo>
                  <a:pt x="0" y="143"/>
                </a:lnTo>
                <a:lnTo>
                  <a:pt x="0" y="142"/>
                </a:lnTo>
                <a:lnTo>
                  <a:pt x="1" y="133"/>
                </a:lnTo>
                <a:lnTo>
                  <a:pt x="10" y="116"/>
                </a:lnTo>
                <a:lnTo>
                  <a:pt x="35" y="81"/>
                </a:lnTo>
                <a:lnTo>
                  <a:pt x="62" y="52"/>
                </a:lnTo>
                <a:lnTo>
                  <a:pt x="69" y="46"/>
                </a:lnTo>
                <a:lnTo>
                  <a:pt x="95" y="45"/>
                </a:lnTo>
                <a:lnTo>
                  <a:pt x="159" y="32"/>
                </a:lnTo>
                <a:lnTo>
                  <a:pt x="300" y="3"/>
                </a:lnTo>
                <a:lnTo>
                  <a:pt x="366" y="0"/>
                </a:lnTo>
                <a:lnTo>
                  <a:pt x="423" y="17"/>
                </a:lnTo>
                <a:lnTo>
                  <a:pt x="446" y="33"/>
                </a:lnTo>
                <a:lnTo>
                  <a:pt x="448" y="37"/>
                </a:lnTo>
                <a:lnTo>
                  <a:pt x="450" y="43"/>
                </a:lnTo>
                <a:lnTo>
                  <a:pt x="456" y="56"/>
                </a:lnTo>
                <a:lnTo>
                  <a:pt x="458" y="74"/>
                </a:lnTo>
                <a:lnTo>
                  <a:pt x="458" y="79"/>
                </a:lnTo>
                <a:lnTo>
                  <a:pt x="452" y="81"/>
                </a:lnTo>
                <a:lnTo>
                  <a:pt x="448" y="82"/>
                </a:lnTo>
                <a:lnTo>
                  <a:pt x="432" y="88"/>
                </a:lnTo>
                <a:lnTo>
                  <a:pt x="387" y="101"/>
                </a:lnTo>
                <a:lnTo>
                  <a:pt x="277" y="140"/>
                </a:lnTo>
                <a:lnTo>
                  <a:pt x="219" y="174"/>
                </a:lnTo>
                <a:lnTo>
                  <a:pt x="219" y="174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45440" y="1789200"/>
            <a:ext cx="95040" cy="109440"/>
          </a:xfrm>
          <a:custGeom>
            <a:avLst/>
            <a:gdLst/>
            <a:ahLst/>
            <a:rect l="l" t="t" r="r" b="b"/>
            <a:pathLst>
              <a:path w="273" h="334">
                <a:moveTo>
                  <a:pt x="71" y="10"/>
                </a:moveTo>
                <a:lnTo>
                  <a:pt x="73" y="12"/>
                </a:lnTo>
                <a:lnTo>
                  <a:pt x="81" y="16"/>
                </a:lnTo>
                <a:lnTo>
                  <a:pt x="87" y="19"/>
                </a:lnTo>
                <a:lnTo>
                  <a:pt x="89" y="19"/>
                </a:lnTo>
                <a:lnTo>
                  <a:pt x="93" y="19"/>
                </a:lnTo>
                <a:lnTo>
                  <a:pt x="97" y="18"/>
                </a:lnTo>
                <a:lnTo>
                  <a:pt x="108" y="13"/>
                </a:lnTo>
                <a:lnTo>
                  <a:pt x="131" y="2"/>
                </a:lnTo>
                <a:lnTo>
                  <a:pt x="163" y="0"/>
                </a:lnTo>
                <a:lnTo>
                  <a:pt x="168" y="5"/>
                </a:lnTo>
                <a:lnTo>
                  <a:pt x="176" y="9"/>
                </a:lnTo>
                <a:lnTo>
                  <a:pt x="189" y="24"/>
                </a:lnTo>
                <a:lnTo>
                  <a:pt x="202" y="41"/>
                </a:lnTo>
                <a:lnTo>
                  <a:pt x="228" y="74"/>
                </a:lnTo>
                <a:lnTo>
                  <a:pt x="242" y="86"/>
                </a:lnTo>
                <a:lnTo>
                  <a:pt x="241" y="87"/>
                </a:lnTo>
                <a:lnTo>
                  <a:pt x="238" y="89"/>
                </a:lnTo>
                <a:lnTo>
                  <a:pt x="225" y="97"/>
                </a:lnTo>
                <a:lnTo>
                  <a:pt x="215" y="103"/>
                </a:lnTo>
                <a:lnTo>
                  <a:pt x="215" y="103"/>
                </a:lnTo>
                <a:lnTo>
                  <a:pt x="221" y="110"/>
                </a:lnTo>
                <a:lnTo>
                  <a:pt x="235" y="128"/>
                </a:lnTo>
                <a:lnTo>
                  <a:pt x="261" y="167"/>
                </a:lnTo>
                <a:lnTo>
                  <a:pt x="270" y="187"/>
                </a:lnTo>
                <a:lnTo>
                  <a:pt x="273" y="210"/>
                </a:lnTo>
                <a:lnTo>
                  <a:pt x="271" y="221"/>
                </a:lnTo>
                <a:lnTo>
                  <a:pt x="267" y="225"/>
                </a:lnTo>
                <a:lnTo>
                  <a:pt x="263" y="228"/>
                </a:lnTo>
                <a:lnTo>
                  <a:pt x="251" y="237"/>
                </a:lnTo>
                <a:lnTo>
                  <a:pt x="225" y="260"/>
                </a:lnTo>
                <a:lnTo>
                  <a:pt x="215" y="292"/>
                </a:lnTo>
                <a:lnTo>
                  <a:pt x="215" y="300"/>
                </a:lnTo>
                <a:lnTo>
                  <a:pt x="213" y="312"/>
                </a:lnTo>
                <a:lnTo>
                  <a:pt x="213" y="316"/>
                </a:lnTo>
                <a:lnTo>
                  <a:pt x="210" y="319"/>
                </a:lnTo>
                <a:lnTo>
                  <a:pt x="209" y="322"/>
                </a:lnTo>
                <a:lnTo>
                  <a:pt x="206" y="323"/>
                </a:lnTo>
                <a:lnTo>
                  <a:pt x="202" y="325"/>
                </a:lnTo>
                <a:lnTo>
                  <a:pt x="193" y="328"/>
                </a:lnTo>
                <a:lnTo>
                  <a:pt x="181" y="334"/>
                </a:lnTo>
                <a:lnTo>
                  <a:pt x="181" y="334"/>
                </a:lnTo>
                <a:lnTo>
                  <a:pt x="180" y="331"/>
                </a:lnTo>
                <a:lnTo>
                  <a:pt x="180" y="328"/>
                </a:lnTo>
                <a:lnTo>
                  <a:pt x="176" y="319"/>
                </a:lnTo>
                <a:lnTo>
                  <a:pt x="167" y="300"/>
                </a:lnTo>
                <a:lnTo>
                  <a:pt x="163" y="286"/>
                </a:lnTo>
                <a:lnTo>
                  <a:pt x="155" y="287"/>
                </a:lnTo>
                <a:lnTo>
                  <a:pt x="145" y="290"/>
                </a:lnTo>
                <a:lnTo>
                  <a:pt x="139" y="295"/>
                </a:lnTo>
                <a:lnTo>
                  <a:pt x="134" y="302"/>
                </a:lnTo>
                <a:lnTo>
                  <a:pt x="131" y="309"/>
                </a:lnTo>
                <a:lnTo>
                  <a:pt x="126" y="318"/>
                </a:lnTo>
                <a:lnTo>
                  <a:pt x="125" y="322"/>
                </a:lnTo>
                <a:lnTo>
                  <a:pt x="122" y="322"/>
                </a:lnTo>
                <a:lnTo>
                  <a:pt x="116" y="321"/>
                </a:lnTo>
                <a:lnTo>
                  <a:pt x="110" y="319"/>
                </a:lnTo>
                <a:lnTo>
                  <a:pt x="97" y="315"/>
                </a:lnTo>
                <a:lnTo>
                  <a:pt x="89" y="312"/>
                </a:lnTo>
                <a:lnTo>
                  <a:pt x="87" y="308"/>
                </a:lnTo>
                <a:lnTo>
                  <a:pt x="87" y="299"/>
                </a:lnTo>
                <a:lnTo>
                  <a:pt x="83" y="283"/>
                </a:lnTo>
                <a:lnTo>
                  <a:pt x="80" y="270"/>
                </a:lnTo>
                <a:lnTo>
                  <a:pt x="80" y="267"/>
                </a:lnTo>
                <a:lnTo>
                  <a:pt x="77" y="273"/>
                </a:lnTo>
                <a:lnTo>
                  <a:pt x="73" y="283"/>
                </a:lnTo>
                <a:lnTo>
                  <a:pt x="64" y="303"/>
                </a:lnTo>
                <a:lnTo>
                  <a:pt x="54" y="321"/>
                </a:lnTo>
                <a:lnTo>
                  <a:pt x="52" y="322"/>
                </a:lnTo>
                <a:lnTo>
                  <a:pt x="50" y="322"/>
                </a:lnTo>
                <a:lnTo>
                  <a:pt x="47" y="322"/>
                </a:lnTo>
                <a:lnTo>
                  <a:pt x="42" y="319"/>
                </a:lnTo>
                <a:lnTo>
                  <a:pt x="37" y="316"/>
                </a:lnTo>
                <a:lnTo>
                  <a:pt x="32" y="313"/>
                </a:lnTo>
                <a:lnTo>
                  <a:pt x="29" y="309"/>
                </a:lnTo>
                <a:lnTo>
                  <a:pt x="28" y="303"/>
                </a:lnTo>
                <a:lnTo>
                  <a:pt x="29" y="303"/>
                </a:lnTo>
                <a:lnTo>
                  <a:pt x="26" y="293"/>
                </a:lnTo>
                <a:lnTo>
                  <a:pt x="26" y="287"/>
                </a:lnTo>
                <a:lnTo>
                  <a:pt x="26" y="286"/>
                </a:lnTo>
                <a:lnTo>
                  <a:pt x="23" y="280"/>
                </a:lnTo>
                <a:lnTo>
                  <a:pt x="22" y="277"/>
                </a:lnTo>
                <a:lnTo>
                  <a:pt x="16" y="270"/>
                </a:lnTo>
                <a:lnTo>
                  <a:pt x="5" y="257"/>
                </a:lnTo>
                <a:lnTo>
                  <a:pt x="2" y="252"/>
                </a:lnTo>
                <a:lnTo>
                  <a:pt x="0" y="247"/>
                </a:lnTo>
                <a:lnTo>
                  <a:pt x="0" y="235"/>
                </a:lnTo>
                <a:lnTo>
                  <a:pt x="3" y="218"/>
                </a:lnTo>
                <a:lnTo>
                  <a:pt x="6" y="212"/>
                </a:lnTo>
                <a:lnTo>
                  <a:pt x="13" y="206"/>
                </a:lnTo>
                <a:lnTo>
                  <a:pt x="18" y="203"/>
                </a:lnTo>
                <a:lnTo>
                  <a:pt x="29" y="208"/>
                </a:lnTo>
                <a:lnTo>
                  <a:pt x="64" y="218"/>
                </a:lnTo>
                <a:lnTo>
                  <a:pt x="90" y="226"/>
                </a:lnTo>
                <a:lnTo>
                  <a:pt x="93" y="226"/>
                </a:lnTo>
                <a:lnTo>
                  <a:pt x="86" y="219"/>
                </a:lnTo>
                <a:lnTo>
                  <a:pt x="70" y="200"/>
                </a:lnTo>
                <a:lnTo>
                  <a:pt x="44" y="157"/>
                </a:lnTo>
                <a:lnTo>
                  <a:pt x="39" y="135"/>
                </a:lnTo>
                <a:lnTo>
                  <a:pt x="41" y="125"/>
                </a:lnTo>
                <a:lnTo>
                  <a:pt x="45" y="116"/>
                </a:lnTo>
                <a:lnTo>
                  <a:pt x="51" y="108"/>
                </a:lnTo>
                <a:lnTo>
                  <a:pt x="52" y="108"/>
                </a:lnTo>
                <a:lnTo>
                  <a:pt x="50" y="103"/>
                </a:lnTo>
                <a:lnTo>
                  <a:pt x="45" y="95"/>
                </a:lnTo>
                <a:lnTo>
                  <a:pt x="39" y="74"/>
                </a:lnTo>
                <a:lnTo>
                  <a:pt x="45" y="45"/>
                </a:lnTo>
                <a:lnTo>
                  <a:pt x="50" y="37"/>
                </a:lnTo>
                <a:lnTo>
                  <a:pt x="52" y="34"/>
                </a:lnTo>
                <a:lnTo>
                  <a:pt x="63" y="21"/>
                </a:lnTo>
                <a:lnTo>
                  <a:pt x="70" y="12"/>
                </a:lnTo>
                <a:lnTo>
                  <a:pt x="71" y="10"/>
                </a:lnTo>
                <a:lnTo>
                  <a:pt x="71" y="1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00800" y="2525760"/>
            <a:ext cx="42840" cy="15840"/>
          </a:xfrm>
          <a:custGeom>
            <a:avLst/>
            <a:gdLst/>
            <a:ahLst/>
            <a:rect l="l" t="t" r="r" b="b"/>
            <a:pathLst>
              <a:path w="120" h="52">
                <a:moveTo>
                  <a:pt x="110" y="1"/>
                </a:moveTo>
                <a:lnTo>
                  <a:pt x="110" y="5"/>
                </a:lnTo>
                <a:lnTo>
                  <a:pt x="114" y="14"/>
                </a:lnTo>
                <a:lnTo>
                  <a:pt x="120" y="34"/>
                </a:lnTo>
                <a:lnTo>
                  <a:pt x="119" y="39"/>
                </a:lnTo>
                <a:lnTo>
                  <a:pt x="117" y="42"/>
                </a:lnTo>
                <a:lnTo>
                  <a:pt x="116" y="46"/>
                </a:lnTo>
                <a:lnTo>
                  <a:pt x="111" y="49"/>
                </a:lnTo>
                <a:lnTo>
                  <a:pt x="106" y="50"/>
                </a:lnTo>
                <a:lnTo>
                  <a:pt x="106" y="50"/>
                </a:lnTo>
                <a:lnTo>
                  <a:pt x="95" y="52"/>
                </a:lnTo>
                <a:lnTo>
                  <a:pt x="77" y="49"/>
                </a:lnTo>
                <a:lnTo>
                  <a:pt x="59" y="42"/>
                </a:lnTo>
                <a:lnTo>
                  <a:pt x="43" y="33"/>
                </a:lnTo>
                <a:lnTo>
                  <a:pt x="8" y="20"/>
                </a:lnTo>
                <a:lnTo>
                  <a:pt x="0" y="18"/>
                </a:lnTo>
                <a:lnTo>
                  <a:pt x="4" y="10"/>
                </a:lnTo>
                <a:lnTo>
                  <a:pt x="7" y="5"/>
                </a:lnTo>
                <a:lnTo>
                  <a:pt x="8" y="4"/>
                </a:lnTo>
                <a:lnTo>
                  <a:pt x="20" y="2"/>
                </a:lnTo>
                <a:lnTo>
                  <a:pt x="39" y="0"/>
                </a:lnTo>
                <a:lnTo>
                  <a:pt x="69" y="0"/>
                </a:lnTo>
                <a:lnTo>
                  <a:pt x="100" y="1"/>
                </a:lnTo>
                <a:lnTo>
                  <a:pt x="110" y="1"/>
                </a:lnTo>
                <a:lnTo>
                  <a:pt x="110" y="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335720" y="2590920"/>
            <a:ext cx="36720" cy="19080"/>
          </a:xfrm>
          <a:custGeom>
            <a:avLst/>
            <a:gdLst/>
            <a:ahLst/>
            <a:rect l="l" t="t" r="r" b="b"/>
            <a:pathLst>
              <a:path w="106" h="55">
                <a:moveTo>
                  <a:pt x="6" y="0"/>
                </a:moveTo>
                <a:lnTo>
                  <a:pt x="20" y="9"/>
                </a:lnTo>
                <a:lnTo>
                  <a:pt x="39" y="16"/>
                </a:lnTo>
                <a:lnTo>
                  <a:pt x="44" y="17"/>
                </a:lnTo>
                <a:lnTo>
                  <a:pt x="49" y="16"/>
                </a:lnTo>
                <a:lnTo>
                  <a:pt x="52" y="14"/>
                </a:lnTo>
                <a:lnTo>
                  <a:pt x="57" y="12"/>
                </a:lnTo>
                <a:lnTo>
                  <a:pt x="68" y="6"/>
                </a:lnTo>
                <a:lnTo>
                  <a:pt x="89" y="1"/>
                </a:lnTo>
                <a:lnTo>
                  <a:pt x="106" y="0"/>
                </a:lnTo>
                <a:lnTo>
                  <a:pt x="105" y="6"/>
                </a:lnTo>
                <a:lnTo>
                  <a:pt x="103" y="14"/>
                </a:lnTo>
                <a:lnTo>
                  <a:pt x="99" y="32"/>
                </a:lnTo>
                <a:lnTo>
                  <a:pt x="96" y="51"/>
                </a:lnTo>
                <a:lnTo>
                  <a:pt x="97" y="55"/>
                </a:lnTo>
                <a:lnTo>
                  <a:pt x="89" y="54"/>
                </a:lnTo>
                <a:lnTo>
                  <a:pt x="67" y="52"/>
                </a:lnTo>
                <a:lnTo>
                  <a:pt x="19" y="42"/>
                </a:lnTo>
                <a:lnTo>
                  <a:pt x="10" y="38"/>
                </a:lnTo>
                <a:lnTo>
                  <a:pt x="5" y="32"/>
                </a:lnTo>
                <a:lnTo>
                  <a:pt x="0" y="23"/>
                </a:lnTo>
                <a:lnTo>
                  <a:pt x="0" y="13"/>
                </a:lnTo>
                <a:lnTo>
                  <a:pt x="5" y="0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362720" y="2558880"/>
            <a:ext cx="12960" cy="16200"/>
          </a:xfrm>
          <a:custGeom>
            <a:avLst/>
            <a:gdLst/>
            <a:ahLst/>
            <a:rect l="l" t="t" r="r" b="b"/>
            <a:pathLst>
              <a:path w="34" h="46">
                <a:moveTo>
                  <a:pt x="29" y="46"/>
                </a:moveTo>
                <a:lnTo>
                  <a:pt x="22" y="46"/>
                </a:lnTo>
                <a:lnTo>
                  <a:pt x="16" y="43"/>
                </a:lnTo>
                <a:lnTo>
                  <a:pt x="12" y="39"/>
                </a:lnTo>
                <a:lnTo>
                  <a:pt x="8" y="34"/>
                </a:lnTo>
                <a:lnTo>
                  <a:pt x="5" y="29"/>
                </a:lnTo>
                <a:lnTo>
                  <a:pt x="0" y="18"/>
                </a:lnTo>
                <a:lnTo>
                  <a:pt x="0" y="13"/>
                </a:lnTo>
                <a:lnTo>
                  <a:pt x="2" y="7"/>
                </a:lnTo>
                <a:lnTo>
                  <a:pt x="5" y="4"/>
                </a:lnTo>
                <a:lnTo>
                  <a:pt x="9" y="1"/>
                </a:lnTo>
                <a:lnTo>
                  <a:pt x="15" y="0"/>
                </a:lnTo>
                <a:lnTo>
                  <a:pt x="16" y="0"/>
                </a:lnTo>
                <a:lnTo>
                  <a:pt x="18" y="2"/>
                </a:lnTo>
                <a:lnTo>
                  <a:pt x="24" y="10"/>
                </a:lnTo>
                <a:lnTo>
                  <a:pt x="32" y="26"/>
                </a:lnTo>
                <a:lnTo>
                  <a:pt x="34" y="34"/>
                </a:lnTo>
                <a:lnTo>
                  <a:pt x="32" y="43"/>
                </a:lnTo>
                <a:lnTo>
                  <a:pt x="29" y="46"/>
                </a:lnTo>
                <a:lnTo>
                  <a:pt x="29" y="46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388280" y="2562120"/>
            <a:ext cx="30240" cy="39960"/>
          </a:xfrm>
          <a:custGeom>
            <a:avLst/>
            <a:gdLst/>
            <a:ahLst/>
            <a:rect l="l" t="t" r="r" b="b"/>
            <a:pathLst>
              <a:path w="86" h="119">
                <a:moveTo>
                  <a:pt x="0" y="71"/>
                </a:moveTo>
                <a:lnTo>
                  <a:pt x="5" y="67"/>
                </a:lnTo>
                <a:lnTo>
                  <a:pt x="12" y="54"/>
                </a:lnTo>
                <a:lnTo>
                  <a:pt x="19" y="39"/>
                </a:lnTo>
                <a:lnTo>
                  <a:pt x="32" y="13"/>
                </a:lnTo>
                <a:lnTo>
                  <a:pt x="45" y="0"/>
                </a:lnTo>
                <a:lnTo>
                  <a:pt x="47" y="3"/>
                </a:lnTo>
                <a:lnTo>
                  <a:pt x="54" y="12"/>
                </a:lnTo>
                <a:lnTo>
                  <a:pt x="73" y="36"/>
                </a:lnTo>
                <a:lnTo>
                  <a:pt x="84" y="57"/>
                </a:lnTo>
                <a:lnTo>
                  <a:pt x="86" y="58"/>
                </a:lnTo>
                <a:lnTo>
                  <a:pt x="86" y="70"/>
                </a:lnTo>
                <a:lnTo>
                  <a:pt x="86" y="87"/>
                </a:lnTo>
                <a:lnTo>
                  <a:pt x="86" y="96"/>
                </a:lnTo>
                <a:lnTo>
                  <a:pt x="84" y="100"/>
                </a:lnTo>
                <a:lnTo>
                  <a:pt x="81" y="103"/>
                </a:lnTo>
                <a:lnTo>
                  <a:pt x="77" y="105"/>
                </a:lnTo>
                <a:lnTo>
                  <a:pt x="73" y="107"/>
                </a:lnTo>
                <a:lnTo>
                  <a:pt x="55" y="115"/>
                </a:lnTo>
                <a:lnTo>
                  <a:pt x="45" y="119"/>
                </a:lnTo>
                <a:lnTo>
                  <a:pt x="44" y="116"/>
                </a:lnTo>
                <a:lnTo>
                  <a:pt x="41" y="113"/>
                </a:lnTo>
                <a:lnTo>
                  <a:pt x="38" y="112"/>
                </a:lnTo>
                <a:lnTo>
                  <a:pt x="34" y="109"/>
                </a:lnTo>
                <a:lnTo>
                  <a:pt x="24" y="105"/>
                </a:lnTo>
                <a:lnTo>
                  <a:pt x="13" y="99"/>
                </a:lnTo>
                <a:lnTo>
                  <a:pt x="5" y="89"/>
                </a:lnTo>
                <a:lnTo>
                  <a:pt x="0" y="71"/>
                </a:lnTo>
                <a:lnTo>
                  <a:pt x="0" y="71"/>
                </a:lnTo>
                <a:lnTo>
                  <a:pt x="0" y="7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478640" y="2471760"/>
            <a:ext cx="28800" cy="46080"/>
          </a:xfrm>
          <a:custGeom>
            <a:avLst/>
            <a:gdLst/>
            <a:ahLst/>
            <a:rect l="l" t="t" r="r" b="b"/>
            <a:pathLst>
              <a:path w="79" h="141">
                <a:moveTo>
                  <a:pt x="72" y="119"/>
                </a:moveTo>
                <a:lnTo>
                  <a:pt x="65" y="119"/>
                </a:lnTo>
                <a:lnTo>
                  <a:pt x="56" y="119"/>
                </a:lnTo>
                <a:lnTo>
                  <a:pt x="43" y="115"/>
                </a:lnTo>
                <a:lnTo>
                  <a:pt x="30" y="112"/>
                </a:lnTo>
                <a:lnTo>
                  <a:pt x="26" y="110"/>
                </a:lnTo>
                <a:lnTo>
                  <a:pt x="23" y="113"/>
                </a:lnTo>
                <a:lnTo>
                  <a:pt x="18" y="119"/>
                </a:lnTo>
                <a:lnTo>
                  <a:pt x="10" y="131"/>
                </a:lnTo>
                <a:lnTo>
                  <a:pt x="4" y="141"/>
                </a:lnTo>
                <a:lnTo>
                  <a:pt x="2" y="141"/>
                </a:lnTo>
                <a:lnTo>
                  <a:pt x="1" y="135"/>
                </a:lnTo>
                <a:lnTo>
                  <a:pt x="0" y="121"/>
                </a:lnTo>
                <a:lnTo>
                  <a:pt x="2" y="89"/>
                </a:lnTo>
                <a:lnTo>
                  <a:pt x="8" y="60"/>
                </a:lnTo>
                <a:lnTo>
                  <a:pt x="10" y="53"/>
                </a:lnTo>
                <a:lnTo>
                  <a:pt x="10" y="48"/>
                </a:lnTo>
                <a:lnTo>
                  <a:pt x="10" y="41"/>
                </a:lnTo>
                <a:lnTo>
                  <a:pt x="11" y="28"/>
                </a:lnTo>
                <a:lnTo>
                  <a:pt x="11" y="9"/>
                </a:lnTo>
                <a:lnTo>
                  <a:pt x="13" y="0"/>
                </a:lnTo>
                <a:lnTo>
                  <a:pt x="21" y="2"/>
                </a:lnTo>
                <a:lnTo>
                  <a:pt x="33" y="5"/>
                </a:lnTo>
                <a:lnTo>
                  <a:pt x="36" y="6"/>
                </a:lnTo>
                <a:lnTo>
                  <a:pt x="37" y="9"/>
                </a:lnTo>
                <a:lnTo>
                  <a:pt x="39" y="11"/>
                </a:lnTo>
                <a:lnTo>
                  <a:pt x="43" y="21"/>
                </a:lnTo>
                <a:lnTo>
                  <a:pt x="78" y="55"/>
                </a:lnTo>
                <a:lnTo>
                  <a:pt x="79" y="55"/>
                </a:lnTo>
                <a:lnTo>
                  <a:pt x="79" y="61"/>
                </a:lnTo>
                <a:lnTo>
                  <a:pt x="79" y="71"/>
                </a:lnTo>
                <a:lnTo>
                  <a:pt x="79" y="96"/>
                </a:lnTo>
                <a:lnTo>
                  <a:pt x="78" y="108"/>
                </a:lnTo>
                <a:lnTo>
                  <a:pt x="73" y="116"/>
                </a:lnTo>
                <a:lnTo>
                  <a:pt x="72" y="119"/>
                </a:lnTo>
                <a:lnTo>
                  <a:pt x="72" y="11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385040" y="2419200"/>
            <a:ext cx="85680" cy="127080"/>
          </a:xfrm>
          <a:custGeom>
            <a:avLst/>
            <a:gdLst/>
            <a:ahLst/>
            <a:rect l="l" t="t" r="r" b="b"/>
            <a:pathLst>
              <a:path w="255" h="386">
                <a:moveTo>
                  <a:pt x="116" y="156"/>
                </a:moveTo>
                <a:lnTo>
                  <a:pt x="123" y="152"/>
                </a:lnTo>
                <a:lnTo>
                  <a:pt x="139" y="140"/>
                </a:lnTo>
                <a:lnTo>
                  <a:pt x="165" y="118"/>
                </a:lnTo>
                <a:lnTo>
                  <a:pt x="192" y="94"/>
                </a:lnTo>
                <a:lnTo>
                  <a:pt x="199" y="86"/>
                </a:lnTo>
                <a:lnTo>
                  <a:pt x="202" y="91"/>
                </a:lnTo>
                <a:lnTo>
                  <a:pt x="207" y="102"/>
                </a:lnTo>
                <a:lnTo>
                  <a:pt x="212" y="114"/>
                </a:lnTo>
                <a:lnTo>
                  <a:pt x="216" y="139"/>
                </a:lnTo>
                <a:lnTo>
                  <a:pt x="216" y="156"/>
                </a:lnTo>
                <a:lnTo>
                  <a:pt x="222" y="152"/>
                </a:lnTo>
                <a:lnTo>
                  <a:pt x="239" y="136"/>
                </a:lnTo>
                <a:lnTo>
                  <a:pt x="254" y="123"/>
                </a:lnTo>
                <a:lnTo>
                  <a:pt x="255" y="121"/>
                </a:lnTo>
                <a:lnTo>
                  <a:pt x="255" y="134"/>
                </a:lnTo>
                <a:lnTo>
                  <a:pt x="255" y="172"/>
                </a:lnTo>
                <a:lnTo>
                  <a:pt x="250" y="269"/>
                </a:lnTo>
                <a:lnTo>
                  <a:pt x="236" y="310"/>
                </a:lnTo>
                <a:lnTo>
                  <a:pt x="226" y="324"/>
                </a:lnTo>
                <a:lnTo>
                  <a:pt x="213" y="334"/>
                </a:lnTo>
                <a:lnTo>
                  <a:pt x="199" y="337"/>
                </a:lnTo>
                <a:lnTo>
                  <a:pt x="199" y="337"/>
                </a:lnTo>
                <a:lnTo>
                  <a:pt x="199" y="334"/>
                </a:lnTo>
                <a:lnTo>
                  <a:pt x="199" y="327"/>
                </a:lnTo>
                <a:lnTo>
                  <a:pt x="203" y="308"/>
                </a:lnTo>
                <a:lnTo>
                  <a:pt x="206" y="291"/>
                </a:lnTo>
                <a:lnTo>
                  <a:pt x="207" y="286"/>
                </a:lnTo>
                <a:lnTo>
                  <a:pt x="184" y="288"/>
                </a:lnTo>
                <a:lnTo>
                  <a:pt x="148" y="297"/>
                </a:lnTo>
                <a:lnTo>
                  <a:pt x="122" y="311"/>
                </a:lnTo>
                <a:lnTo>
                  <a:pt x="100" y="331"/>
                </a:lnTo>
                <a:lnTo>
                  <a:pt x="52" y="376"/>
                </a:lnTo>
                <a:lnTo>
                  <a:pt x="37" y="386"/>
                </a:lnTo>
                <a:lnTo>
                  <a:pt x="37" y="385"/>
                </a:lnTo>
                <a:lnTo>
                  <a:pt x="38" y="375"/>
                </a:lnTo>
                <a:lnTo>
                  <a:pt x="44" y="336"/>
                </a:lnTo>
                <a:lnTo>
                  <a:pt x="48" y="301"/>
                </a:lnTo>
                <a:lnTo>
                  <a:pt x="50" y="297"/>
                </a:lnTo>
                <a:lnTo>
                  <a:pt x="41" y="294"/>
                </a:lnTo>
                <a:lnTo>
                  <a:pt x="31" y="288"/>
                </a:lnTo>
                <a:lnTo>
                  <a:pt x="22" y="282"/>
                </a:lnTo>
                <a:lnTo>
                  <a:pt x="21" y="279"/>
                </a:lnTo>
                <a:lnTo>
                  <a:pt x="16" y="260"/>
                </a:lnTo>
                <a:lnTo>
                  <a:pt x="8" y="199"/>
                </a:lnTo>
                <a:lnTo>
                  <a:pt x="2" y="153"/>
                </a:lnTo>
                <a:lnTo>
                  <a:pt x="2" y="150"/>
                </a:lnTo>
                <a:lnTo>
                  <a:pt x="0" y="136"/>
                </a:lnTo>
                <a:lnTo>
                  <a:pt x="0" y="100"/>
                </a:lnTo>
                <a:lnTo>
                  <a:pt x="8" y="26"/>
                </a:lnTo>
                <a:lnTo>
                  <a:pt x="12" y="13"/>
                </a:lnTo>
                <a:lnTo>
                  <a:pt x="18" y="4"/>
                </a:lnTo>
                <a:lnTo>
                  <a:pt x="21" y="1"/>
                </a:lnTo>
                <a:lnTo>
                  <a:pt x="23" y="0"/>
                </a:lnTo>
                <a:lnTo>
                  <a:pt x="28" y="1"/>
                </a:lnTo>
                <a:lnTo>
                  <a:pt x="31" y="2"/>
                </a:lnTo>
                <a:lnTo>
                  <a:pt x="35" y="7"/>
                </a:lnTo>
                <a:lnTo>
                  <a:pt x="39" y="13"/>
                </a:lnTo>
                <a:lnTo>
                  <a:pt x="41" y="13"/>
                </a:lnTo>
                <a:lnTo>
                  <a:pt x="45" y="23"/>
                </a:lnTo>
                <a:lnTo>
                  <a:pt x="52" y="44"/>
                </a:lnTo>
                <a:lnTo>
                  <a:pt x="57" y="69"/>
                </a:lnTo>
                <a:lnTo>
                  <a:pt x="60" y="120"/>
                </a:lnTo>
                <a:lnTo>
                  <a:pt x="61" y="150"/>
                </a:lnTo>
                <a:lnTo>
                  <a:pt x="68" y="146"/>
                </a:lnTo>
                <a:lnTo>
                  <a:pt x="83" y="134"/>
                </a:lnTo>
                <a:lnTo>
                  <a:pt x="92" y="127"/>
                </a:lnTo>
                <a:lnTo>
                  <a:pt x="96" y="126"/>
                </a:lnTo>
                <a:lnTo>
                  <a:pt x="99" y="124"/>
                </a:lnTo>
                <a:lnTo>
                  <a:pt x="102" y="126"/>
                </a:lnTo>
                <a:lnTo>
                  <a:pt x="103" y="127"/>
                </a:lnTo>
                <a:lnTo>
                  <a:pt x="105" y="130"/>
                </a:lnTo>
                <a:lnTo>
                  <a:pt x="108" y="136"/>
                </a:lnTo>
                <a:lnTo>
                  <a:pt x="112" y="144"/>
                </a:lnTo>
                <a:lnTo>
                  <a:pt x="115" y="156"/>
                </a:lnTo>
                <a:lnTo>
                  <a:pt x="116" y="156"/>
                </a:lnTo>
                <a:lnTo>
                  <a:pt x="116" y="156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61120" y="2573280"/>
            <a:ext cx="57240" cy="60480"/>
          </a:xfrm>
          <a:custGeom>
            <a:avLst/>
            <a:gdLst/>
            <a:ahLst/>
            <a:rect l="l" t="t" r="r" b="b"/>
            <a:pathLst>
              <a:path w="166" h="184">
                <a:moveTo>
                  <a:pt x="101" y="63"/>
                </a:moveTo>
                <a:lnTo>
                  <a:pt x="90" y="50"/>
                </a:lnTo>
                <a:lnTo>
                  <a:pt x="71" y="27"/>
                </a:lnTo>
                <a:lnTo>
                  <a:pt x="35" y="3"/>
                </a:lnTo>
                <a:lnTo>
                  <a:pt x="20" y="0"/>
                </a:lnTo>
                <a:lnTo>
                  <a:pt x="6" y="0"/>
                </a:lnTo>
                <a:lnTo>
                  <a:pt x="0" y="2"/>
                </a:lnTo>
                <a:lnTo>
                  <a:pt x="0" y="9"/>
                </a:lnTo>
                <a:lnTo>
                  <a:pt x="1" y="21"/>
                </a:lnTo>
                <a:lnTo>
                  <a:pt x="6" y="34"/>
                </a:lnTo>
                <a:lnTo>
                  <a:pt x="14" y="50"/>
                </a:lnTo>
                <a:lnTo>
                  <a:pt x="48" y="90"/>
                </a:lnTo>
                <a:lnTo>
                  <a:pt x="61" y="103"/>
                </a:lnTo>
                <a:lnTo>
                  <a:pt x="65" y="111"/>
                </a:lnTo>
                <a:lnTo>
                  <a:pt x="72" y="122"/>
                </a:lnTo>
                <a:lnTo>
                  <a:pt x="75" y="134"/>
                </a:lnTo>
                <a:lnTo>
                  <a:pt x="75" y="144"/>
                </a:lnTo>
                <a:lnTo>
                  <a:pt x="78" y="155"/>
                </a:lnTo>
                <a:lnTo>
                  <a:pt x="82" y="166"/>
                </a:lnTo>
                <a:lnTo>
                  <a:pt x="88" y="170"/>
                </a:lnTo>
                <a:lnTo>
                  <a:pt x="94" y="176"/>
                </a:lnTo>
                <a:lnTo>
                  <a:pt x="100" y="180"/>
                </a:lnTo>
                <a:lnTo>
                  <a:pt x="108" y="182"/>
                </a:lnTo>
                <a:lnTo>
                  <a:pt x="124" y="184"/>
                </a:lnTo>
                <a:lnTo>
                  <a:pt x="140" y="184"/>
                </a:lnTo>
                <a:lnTo>
                  <a:pt x="163" y="182"/>
                </a:lnTo>
                <a:lnTo>
                  <a:pt x="166" y="182"/>
                </a:lnTo>
                <a:lnTo>
                  <a:pt x="165" y="173"/>
                </a:lnTo>
                <a:lnTo>
                  <a:pt x="162" y="157"/>
                </a:lnTo>
                <a:lnTo>
                  <a:pt x="155" y="140"/>
                </a:lnTo>
                <a:lnTo>
                  <a:pt x="143" y="122"/>
                </a:lnTo>
                <a:lnTo>
                  <a:pt x="110" y="77"/>
                </a:lnTo>
                <a:lnTo>
                  <a:pt x="101" y="63"/>
                </a:lnTo>
                <a:lnTo>
                  <a:pt x="101" y="6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208560" y="2068560"/>
            <a:ext cx="1203480" cy="762120"/>
          </a:xfrm>
          <a:custGeom>
            <a:avLst/>
            <a:gdLst/>
            <a:ahLst/>
            <a:rect l="l" t="t" r="r" b="b"/>
            <a:pathLst>
              <a:path w="3486" h="2329">
                <a:moveTo>
                  <a:pt x="1701" y="1878"/>
                </a:moveTo>
                <a:lnTo>
                  <a:pt x="1702" y="1871"/>
                </a:lnTo>
                <a:lnTo>
                  <a:pt x="1708" y="1849"/>
                </a:lnTo>
                <a:lnTo>
                  <a:pt x="1713" y="1832"/>
                </a:lnTo>
                <a:lnTo>
                  <a:pt x="1714" y="1830"/>
                </a:lnTo>
                <a:lnTo>
                  <a:pt x="1721" y="1832"/>
                </a:lnTo>
                <a:lnTo>
                  <a:pt x="1744" y="1835"/>
                </a:lnTo>
                <a:lnTo>
                  <a:pt x="1762" y="1836"/>
                </a:lnTo>
                <a:lnTo>
                  <a:pt x="1763" y="1836"/>
                </a:lnTo>
                <a:lnTo>
                  <a:pt x="1762" y="1845"/>
                </a:lnTo>
                <a:lnTo>
                  <a:pt x="1762" y="1871"/>
                </a:lnTo>
                <a:lnTo>
                  <a:pt x="1762" y="1890"/>
                </a:lnTo>
                <a:lnTo>
                  <a:pt x="1762" y="1890"/>
                </a:lnTo>
                <a:lnTo>
                  <a:pt x="1766" y="1891"/>
                </a:lnTo>
                <a:lnTo>
                  <a:pt x="1775" y="1893"/>
                </a:lnTo>
                <a:lnTo>
                  <a:pt x="1797" y="1900"/>
                </a:lnTo>
                <a:lnTo>
                  <a:pt x="1855" y="1916"/>
                </a:lnTo>
                <a:lnTo>
                  <a:pt x="1911" y="1922"/>
                </a:lnTo>
                <a:lnTo>
                  <a:pt x="1913" y="1922"/>
                </a:lnTo>
                <a:lnTo>
                  <a:pt x="1927" y="1922"/>
                </a:lnTo>
                <a:lnTo>
                  <a:pt x="1976" y="1917"/>
                </a:lnTo>
                <a:lnTo>
                  <a:pt x="2014" y="1916"/>
                </a:lnTo>
                <a:lnTo>
                  <a:pt x="2017" y="1914"/>
                </a:lnTo>
                <a:lnTo>
                  <a:pt x="2024" y="1913"/>
                </a:lnTo>
                <a:lnTo>
                  <a:pt x="2033" y="1910"/>
                </a:lnTo>
                <a:lnTo>
                  <a:pt x="2039" y="1904"/>
                </a:lnTo>
                <a:lnTo>
                  <a:pt x="2046" y="1898"/>
                </a:lnTo>
                <a:lnTo>
                  <a:pt x="2056" y="1881"/>
                </a:lnTo>
                <a:lnTo>
                  <a:pt x="2066" y="1864"/>
                </a:lnTo>
                <a:lnTo>
                  <a:pt x="2089" y="1829"/>
                </a:lnTo>
                <a:lnTo>
                  <a:pt x="2091" y="1829"/>
                </a:lnTo>
                <a:lnTo>
                  <a:pt x="2099" y="1830"/>
                </a:lnTo>
                <a:lnTo>
                  <a:pt x="2118" y="1833"/>
                </a:lnTo>
                <a:lnTo>
                  <a:pt x="2134" y="1839"/>
                </a:lnTo>
                <a:lnTo>
                  <a:pt x="2173" y="1859"/>
                </a:lnTo>
                <a:lnTo>
                  <a:pt x="2217" y="1880"/>
                </a:lnTo>
                <a:lnTo>
                  <a:pt x="2226" y="1884"/>
                </a:lnTo>
                <a:lnTo>
                  <a:pt x="2252" y="1894"/>
                </a:lnTo>
                <a:lnTo>
                  <a:pt x="2272" y="1901"/>
                </a:lnTo>
                <a:lnTo>
                  <a:pt x="2273" y="1901"/>
                </a:lnTo>
                <a:lnTo>
                  <a:pt x="2276" y="1907"/>
                </a:lnTo>
                <a:lnTo>
                  <a:pt x="2278" y="1913"/>
                </a:lnTo>
                <a:lnTo>
                  <a:pt x="2276" y="1920"/>
                </a:lnTo>
                <a:lnTo>
                  <a:pt x="2275" y="1926"/>
                </a:lnTo>
                <a:lnTo>
                  <a:pt x="2270" y="1940"/>
                </a:lnTo>
                <a:lnTo>
                  <a:pt x="2266" y="1956"/>
                </a:lnTo>
                <a:lnTo>
                  <a:pt x="2265" y="1969"/>
                </a:lnTo>
                <a:lnTo>
                  <a:pt x="2269" y="1980"/>
                </a:lnTo>
                <a:lnTo>
                  <a:pt x="2270" y="1980"/>
                </a:lnTo>
                <a:lnTo>
                  <a:pt x="2275" y="1981"/>
                </a:lnTo>
                <a:lnTo>
                  <a:pt x="2285" y="1984"/>
                </a:lnTo>
                <a:lnTo>
                  <a:pt x="2295" y="1988"/>
                </a:lnTo>
                <a:lnTo>
                  <a:pt x="2317" y="1997"/>
                </a:lnTo>
                <a:lnTo>
                  <a:pt x="2331" y="2000"/>
                </a:lnTo>
                <a:lnTo>
                  <a:pt x="2343" y="2003"/>
                </a:lnTo>
                <a:lnTo>
                  <a:pt x="2369" y="2006"/>
                </a:lnTo>
                <a:lnTo>
                  <a:pt x="2421" y="2004"/>
                </a:lnTo>
                <a:lnTo>
                  <a:pt x="2470" y="2010"/>
                </a:lnTo>
                <a:lnTo>
                  <a:pt x="2482" y="2013"/>
                </a:lnTo>
                <a:lnTo>
                  <a:pt x="2483" y="2013"/>
                </a:lnTo>
                <a:lnTo>
                  <a:pt x="2495" y="2013"/>
                </a:lnTo>
                <a:lnTo>
                  <a:pt x="2530" y="2013"/>
                </a:lnTo>
                <a:lnTo>
                  <a:pt x="2549" y="2017"/>
                </a:lnTo>
                <a:lnTo>
                  <a:pt x="2556" y="2020"/>
                </a:lnTo>
                <a:lnTo>
                  <a:pt x="2562" y="2025"/>
                </a:lnTo>
                <a:lnTo>
                  <a:pt x="2565" y="2030"/>
                </a:lnTo>
                <a:lnTo>
                  <a:pt x="2566" y="2030"/>
                </a:lnTo>
                <a:lnTo>
                  <a:pt x="2563" y="2033"/>
                </a:lnTo>
                <a:lnTo>
                  <a:pt x="2562" y="2038"/>
                </a:lnTo>
                <a:lnTo>
                  <a:pt x="2560" y="2042"/>
                </a:lnTo>
                <a:lnTo>
                  <a:pt x="2560" y="2048"/>
                </a:lnTo>
                <a:lnTo>
                  <a:pt x="2560" y="2061"/>
                </a:lnTo>
                <a:lnTo>
                  <a:pt x="2559" y="2087"/>
                </a:lnTo>
                <a:lnTo>
                  <a:pt x="2554" y="2094"/>
                </a:lnTo>
                <a:lnTo>
                  <a:pt x="2549" y="2096"/>
                </a:lnTo>
                <a:lnTo>
                  <a:pt x="2543" y="2096"/>
                </a:lnTo>
                <a:lnTo>
                  <a:pt x="2534" y="2093"/>
                </a:lnTo>
                <a:lnTo>
                  <a:pt x="2515" y="2087"/>
                </a:lnTo>
                <a:lnTo>
                  <a:pt x="2485" y="2071"/>
                </a:lnTo>
                <a:lnTo>
                  <a:pt x="2483" y="2069"/>
                </a:lnTo>
                <a:lnTo>
                  <a:pt x="2483" y="2082"/>
                </a:lnTo>
                <a:lnTo>
                  <a:pt x="2486" y="2109"/>
                </a:lnTo>
                <a:lnTo>
                  <a:pt x="2495" y="2169"/>
                </a:lnTo>
                <a:lnTo>
                  <a:pt x="2495" y="2197"/>
                </a:lnTo>
                <a:lnTo>
                  <a:pt x="2491" y="2217"/>
                </a:lnTo>
                <a:lnTo>
                  <a:pt x="2486" y="2224"/>
                </a:lnTo>
                <a:lnTo>
                  <a:pt x="2480" y="2229"/>
                </a:lnTo>
                <a:lnTo>
                  <a:pt x="2476" y="2235"/>
                </a:lnTo>
                <a:lnTo>
                  <a:pt x="2472" y="2245"/>
                </a:lnTo>
                <a:lnTo>
                  <a:pt x="2467" y="2271"/>
                </a:lnTo>
                <a:lnTo>
                  <a:pt x="2465" y="2297"/>
                </a:lnTo>
                <a:lnTo>
                  <a:pt x="2466" y="2319"/>
                </a:lnTo>
                <a:lnTo>
                  <a:pt x="2469" y="2326"/>
                </a:lnTo>
                <a:lnTo>
                  <a:pt x="2472" y="2329"/>
                </a:lnTo>
                <a:lnTo>
                  <a:pt x="2475" y="2326"/>
                </a:lnTo>
                <a:lnTo>
                  <a:pt x="2476" y="2326"/>
                </a:lnTo>
                <a:lnTo>
                  <a:pt x="2485" y="2311"/>
                </a:lnTo>
                <a:lnTo>
                  <a:pt x="2515" y="2268"/>
                </a:lnTo>
                <a:lnTo>
                  <a:pt x="2538" y="2235"/>
                </a:lnTo>
                <a:lnTo>
                  <a:pt x="2540" y="2232"/>
                </a:lnTo>
                <a:lnTo>
                  <a:pt x="2541" y="2232"/>
                </a:lnTo>
                <a:lnTo>
                  <a:pt x="2554" y="2230"/>
                </a:lnTo>
                <a:lnTo>
                  <a:pt x="2599" y="2223"/>
                </a:lnTo>
                <a:lnTo>
                  <a:pt x="2634" y="2219"/>
                </a:lnTo>
                <a:lnTo>
                  <a:pt x="2637" y="2217"/>
                </a:lnTo>
                <a:lnTo>
                  <a:pt x="2638" y="2211"/>
                </a:lnTo>
                <a:lnTo>
                  <a:pt x="2646" y="2194"/>
                </a:lnTo>
                <a:lnTo>
                  <a:pt x="2650" y="2180"/>
                </a:lnTo>
                <a:lnTo>
                  <a:pt x="2651" y="2178"/>
                </a:lnTo>
                <a:lnTo>
                  <a:pt x="2651" y="2177"/>
                </a:lnTo>
                <a:lnTo>
                  <a:pt x="2649" y="2174"/>
                </a:lnTo>
                <a:lnTo>
                  <a:pt x="2643" y="2172"/>
                </a:lnTo>
                <a:lnTo>
                  <a:pt x="2634" y="2172"/>
                </a:lnTo>
                <a:lnTo>
                  <a:pt x="2614" y="2171"/>
                </a:lnTo>
                <a:lnTo>
                  <a:pt x="2583" y="2171"/>
                </a:lnTo>
                <a:lnTo>
                  <a:pt x="2588" y="2171"/>
                </a:lnTo>
                <a:lnTo>
                  <a:pt x="2596" y="2164"/>
                </a:lnTo>
                <a:lnTo>
                  <a:pt x="2621" y="2143"/>
                </a:lnTo>
                <a:lnTo>
                  <a:pt x="2680" y="2098"/>
                </a:lnTo>
                <a:lnTo>
                  <a:pt x="2709" y="2082"/>
                </a:lnTo>
                <a:lnTo>
                  <a:pt x="2734" y="2074"/>
                </a:lnTo>
                <a:lnTo>
                  <a:pt x="2744" y="2074"/>
                </a:lnTo>
                <a:lnTo>
                  <a:pt x="2746" y="2071"/>
                </a:lnTo>
                <a:lnTo>
                  <a:pt x="2757" y="2052"/>
                </a:lnTo>
                <a:lnTo>
                  <a:pt x="2799" y="1983"/>
                </a:lnTo>
                <a:lnTo>
                  <a:pt x="2830" y="1930"/>
                </a:lnTo>
                <a:lnTo>
                  <a:pt x="2833" y="1926"/>
                </a:lnTo>
                <a:lnTo>
                  <a:pt x="2833" y="1923"/>
                </a:lnTo>
                <a:lnTo>
                  <a:pt x="2835" y="1920"/>
                </a:lnTo>
                <a:lnTo>
                  <a:pt x="2840" y="1917"/>
                </a:lnTo>
                <a:lnTo>
                  <a:pt x="2844" y="1916"/>
                </a:lnTo>
                <a:lnTo>
                  <a:pt x="2857" y="1914"/>
                </a:lnTo>
                <a:lnTo>
                  <a:pt x="2873" y="1913"/>
                </a:lnTo>
                <a:lnTo>
                  <a:pt x="2909" y="1912"/>
                </a:lnTo>
                <a:lnTo>
                  <a:pt x="2944" y="1909"/>
                </a:lnTo>
                <a:lnTo>
                  <a:pt x="2960" y="1904"/>
                </a:lnTo>
                <a:lnTo>
                  <a:pt x="2973" y="1897"/>
                </a:lnTo>
                <a:lnTo>
                  <a:pt x="2982" y="1885"/>
                </a:lnTo>
                <a:lnTo>
                  <a:pt x="2986" y="1871"/>
                </a:lnTo>
                <a:lnTo>
                  <a:pt x="2988" y="1871"/>
                </a:lnTo>
                <a:lnTo>
                  <a:pt x="2990" y="1871"/>
                </a:lnTo>
                <a:lnTo>
                  <a:pt x="2993" y="1869"/>
                </a:lnTo>
                <a:lnTo>
                  <a:pt x="2996" y="1867"/>
                </a:lnTo>
                <a:lnTo>
                  <a:pt x="2999" y="1862"/>
                </a:lnTo>
                <a:lnTo>
                  <a:pt x="3004" y="1851"/>
                </a:lnTo>
                <a:lnTo>
                  <a:pt x="3008" y="1835"/>
                </a:lnTo>
                <a:lnTo>
                  <a:pt x="3015" y="1797"/>
                </a:lnTo>
                <a:lnTo>
                  <a:pt x="3027" y="1717"/>
                </a:lnTo>
                <a:lnTo>
                  <a:pt x="3033" y="1688"/>
                </a:lnTo>
                <a:lnTo>
                  <a:pt x="3037" y="1688"/>
                </a:lnTo>
                <a:lnTo>
                  <a:pt x="3050" y="1687"/>
                </a:lnTo>
                <a:lnTo>
                  <a:pt x="3080" y="1683"/>
                </a:lnTo>
                <a:lnTo>
                  <a:pt x="3108" y="1680"/>
                </a:lnTo>
                <a:lnTo>
                  <a:pt x="3114" y="1678"/>
                </a:lnTo>
                <a:lnTo>
                  <a:pt x="3114" y="1681"/>
                </a:lnTo>
                <a:lnTo>
                  <a:pt x="3115" y="1691"/>
                </a:lnTo>
                <a:lnTo>
                  <a:pt x="3119" y="1730"/>
                </a:lnTo>
                <a:lnTo>
                  <a:pt x="3124" y="1759"/>
                </a:lnTo>
                <a:lnTo>
                  <a:pt x="3125" y="1761"/>
                </a:lnTo>
                <a:lnTo>
                  <a:pt x="3130" y="1769"/>
                </a:lnTo>
                <a:lnTo>
                  <a:pt x="3141" y="1785"/>
                </a:lnTo>
                <a:lnTo>
                  <a:pt x="3169" y="1810"/>
                </a:lnTo>
                <a:lnTo>
                  <a:pt x="3202" y="1832"/>
                </a:lnTo>
                <a:lnTo>
                  <a:pt x="3212" y="1838"/>
                </a:lnTo>
                <a:lnTo>
                  <a:pt x="3230" y="1816"/>
                </a:lnTo>
                <a:lnTo>
                  <a:pt x="3259" y="1783"/>
                </a:lnTo>
                <a:lnTo>
                  <a:pt x="3293" y="1746"/>
                </a:lnTo>
                <a:lnTo>
                  <a:pt x="3319" y="1726"/>
                </a:lnTo>
                <a:lnTo>
                  <a:pt x="3328" y="1720"/>
                </a:lnTo>
                <a:lnTo>
                  <a:pt x="3316" y="1746"/>
                </a:lnTo>
                <a:lnTo>
                  <a:pt x="3298" y="1785"/>
                </a:lnTo>
                <a:lnTo>
                  <a:pt x="3283" y="1816"/>
                </a:lnTo>
                <a:lnTo>
                  <a:pt x="3276" y="1839"/>
                </a:lnTo>
                <a:lnTo>
                  <a:pt x="3276" y="1851"/>
                </a:lnTo>
                <a:lnTo>
                  <a:pt x="3279" y="1861"/>
                </a:lnTo>
                <a:lnTo>
                  <a:pt x="3285" y="1871"/>
                </a:lnTo>
                <a:lnTo>
                  <a:pt x="3295" y="1883"/>
                </a:lnTo>
                <a:lnTo>
                  <a:pt x="3308" y="1894"/>
                </a:lnTo>
                <a:lnTo>
                  <a:pt x="3309" y="1894"/>
                </a:lnTo>
                <a:lnTo>
                  <a:pt x="3325" y="1885"/>
                </a:lnTo>
                <a:lnTo>
                  <a:pt x="3348" y="1867"/>
                </a:lnTo>
                <a:lnTo>
                  <a:pt x="3360" y="1846"/>
                </a:lnTo>
                <a:lnTo>
                  <a:pt x="3364" y="1823"/>
                </a:lnTo>
                <a:lnTo>
                  <a:pt x="3366" y="1801"/>
                </a:lnTo>
                <a:lnTo>
                  <a:pt x="3369" y="1778"/>
                </a:lnTo>
                <a:lnTo>
                  <a:pt x="3373" y="1765"/>
                </a:lnTo>
                <a:lnTo>
                  <a:pt x="3379" y="1767"/>
                </a:lnTo>
                <a:lnTo>
                  <a:pt x="3382" y="1765"/>
                </a:lnTo>
                <a:lnTo>
                  <a:pt x="3386" y="1762"/>
                </a:lnTo>
                <a:lnTo>
                  <a:pt x="3396" y="1754"/>
                </a:lnTo>
                <a:lnTo>
                  <a:pt x="3421" y="1732"/>
                </a:lnTo>
                <a:lnTo>
                  <a:pt x="3467" y="1675"/>
                </a:lnTo>
                <a:lnTo>
                  <a:pt x="3486" y="1646"/>
                </a:lnTo>
                <a:lnTo>
                  <a:pt x="3485" y="1646"/>
                </a:lnTo>
                <a:lnTo>
                  <a:pt x="3480" y="1646"/>
                </a:lnTo>
                <a:lnTo>
                  <a:pt x="3464" y="1645"/>
                </a:lnTo>
                <a:lnTo>
                  <a:pt x="3451" y="1643"/>
                </a:lnTo>
                <a:lnTo>
                  <a:pt x="3451" y="1642"/>
                </a:lnTo>
                <a:lnTo>
                  <a:pt x="3448" y="1643"/>
                </a:lnTo>
                <a:lnTo>
                  <a:pt x="3437" y="1649"/>
                </a:lnTo>
                <a:lnTo>
                  <a:pt x="3405" y="1662"/>
                </a:lnTo>
                <a:lnTo>
                  <a:pt x="3377" y="1674"/>
                </a:lnTo>
                <a:lnTo>
                  <a:pt x="3376" y="1675"/>
                </a:lnTo>
                <a:lnTo>
                  <a:pt x="3356" y="1683"/>
                </a:lnTo>
                <a:lnTo>
                  <a:pt x="3318" y="1685"/>
                </a:lnTo>
                <a:lnTo>
                  <a:pt x="3283" y="1675"/>
                </a:lnTo>
                <a:lnTo>
                  <a:pt x="3253" y="1656"/>
                </a:lnTo>
                <a:lnTo>
                  <a:pt x="3230" y="1630"/>
                </a:lnTo>
                <a:lnTo>
                  <a:pt x="3214" y="1600"/>
                </a:lnTo>
                <a:lnTo>
                  <a:pt x="3211" y="1583"/>
                </a:lnTo>
                <a:lnTo>
                  <a:pt x="3206" y="1584"/>
                </a:lnTo>
                <a:lnTo>
                  <a:pt x="3199" y="1585"/>
                </a:lnTo>
                <a:lnTo>
                  <a:pt x="3180" y="1591"/>
                </a:lnTo>
                <a:lnTo>
                  <a:pt x="3134" y="1609"/>
                </a:lnTo>
                <a:lnTo>
                  <a:pt x="3105" y="1616"/>
                </a:lnTo>
                <a:lnTo>
                  <a:pt x="3105" y="1607"/>
                </a:lnTo>
                <a:lnTo>
                  <a:pt x="3109" y="1599"/>
                </a:lnTo>
                <a:lnTo>
                  <a:pt x="3118" y="1590"/>
                </a:lnTo>
                <a:lnTo>
                  <a:pt x="3130" y="1580"/>
                </a:lnTo>
                <a:lnTo>
                  <a:pt x="3157" y="1562"/>
                </a:lnTo>
                <a:lnTo>
                  <a:pt x="3208" y="1522"/>
                </a:lnTo>
                <a:lnTo>
                  <a:pt x="3218" y="1499"/>
                </a:lnTo>
                <a:lnTo>
                  <a:pt x="3188" y="1487"/>
                </a:lnTo>
                <a:lnTo>
                  <a:pt x="3140" y="1481"/>
                </a:lnTo>
                <a:lnTo>
                  <a:pt x="3102" y="1496"/>
                </a:lnTo>
                <a:lnTo>
                  <a:pt x="3073" y="1523"/>
                </a:lnTo>
                <a:lnTo>
                  <a:pt x="3046" y="1561"/>
                </a:lnTo>
                <a:lnTo>
                  <a:pt x="3015" y="1600"/>
                </a:lnTo>
                <a:lnTo>
                  <a:pt x="2999" y="1619"/>
                </a:lnTo>
                <a:lnTo>
                  <a:pt x="2995" y="1607"/>
                </a:lnTo>
                <a:lnTo>
                  <a:pt x="2993" y="1594"/>
                </a:lnTo>
                <a:lnTo>
                  <a:pt x="2996" y="1580"/>
                </a:lnTo>
                <a:lnTo>
                  <a:pt x="3001" y="1567"/>
                </a:lnTo>
                <a:lnTo>
                  <a:pt x="3012" y="1538"/>
                </a:lnTo>
                <a:lnTo>
                  <a:pt x="3040" y="1481"/>
                </a:lnTo>
                <a:lnTo>
                  <a:pt x="3046" y="1452"/>
                </a:lnTo>
                <a:lnTo>
                  <a:pt x="3057" y="1429"/>
                </a:lnTo>
                <a:lnTo>
                  <a:pt x="3076" y="1409"/>
                </a:lnTo>
                <a:lnTo>
                  <a:pt x="3099" y="1394"/>
                </a:lnTo>
                <a:lnTo>
                  <a:pt x="3127" y="1381"/>
                </a:lnTo>
                <a:lnTo>
                  <a:pt x="3186" y="1362"/>
                </a:lnTo>
                <a:lnTo>
                  <a:pt x="3245" y="1345"/>
                </a:lnTo>
                <a:lnTo>
                  <a:pt x="3296" y="1319"/>
                </a:lnTo>
                <a:lnTo>
                  <a:pt x="3315" y="1301"/>
                </a:lnTo>
                <a:lnTo>
                  <a:pt x="3327" y="1278"/>
                </a:lnTo>
                <a:lnTo>
                  <a:pt x="3328" y="1278"/>
                </a:lnTo>
                <a:lnTo>
                  <a:pt x="3331" y="1268"/>
                </a:lnTo>
                <a:lnTo>
                  <a:pt x="3335" y="1245"/>
                </a:lnTo>
                <a:lnTo>
                  <a:pt x="3340" y="1200"/>
                </a:lnTo>
                <a:lnTo>
                  <a:pt x="3356" y="1159"/>
                </a:lnTo>
                <a:lnTo>
                  <a:pt x="3364" y="1149"/>
                </a:lnTo>
                <a:lnTo>
                  <a:pt x="3374" y="1135"/>
                </a:lnTo>
                <a:lnTo>
                  <a:pt x="3389" y="1100"/>
                </a:lnTo>
                <a:lnTo>
                  <a:pt x="3393" y="1059"/>
                </a:lnTo>
                <a:lnTo>
                  <a:pt x="3389" y="1022"/>
                </a:lnTo>
                <a:lnTo>
                  <a:pt x="3373" y="987"/>
                </a:lnTo>
                <a:lnTo>
                  <a:pt x="3345" y="964"/>
                </a:lnTo>
                <a:lnTo>
                  <a:pt x="3328" y="957"/>
                </a:lnTo>
                <a:lnTo>
                  <a:pt x="3327" y="958"/>
                </a:lnTo>
                <a:lnTo>
                  <a:pt x="3321" y="961"/>
                </a:lnTo>
                <a:lnTo>
                  <a:pt x="3301" y="970"/>
                </a:lnTo>
                <a:lnTo>
                  <a:pt x="3286" y="975"/>
                </a:lnTo>
                <a:lnTo>
                  <a:pt x="3286" y="975"/>
                </a:lnTo>
                <a:lnTo>
                  <a:pt x="3280" y="973"/>
                </a:lnTo>
                <a:lnTo>
                  <a:pt x="3264" y="964"/>
                </a:lnTo>
                <a:lnTo>
                  <a:pt x="3253" y="957"/>
                </a:lnTo>
                <a:lnTo>
                  <a:pt x="3253" y="955"/>
                </a:lnTo>
                <a:lnTo>
                  <a:pt x="3243" y="962"/>
                </a:lnTo>
                <a:lnTo>
                  <a:pt x="3234" y="974"/>
                </a:lnTo>
                <a:lnTo>
                  <a:pt x="3227" y="990"/>
                </a:lnTo>
                <a:lnTo>
                  <a:pt x="3215" y="1026"/>
                </a:lnTo>
                <a:lnTo>
                  <a:pt x="3198" y="1099"/>
                </a:lnTo>
                <a:lnTo>
                  <a:pt x="3186" y="1116"/>
                </a:lnTo>
                <a:lnTo>
                  <a:pt x="3186" y="1112"/>
                </a:lnTo>
                <a:lnTo>
                  <a:pt x="3186" y="1104"/>
                </a:lnTo>
                <a:lnTo>
                  <a:pt x="3185" y="1084"/>
                </a:lnTo>
                <a:lnTo>
                  <a:pt x="3180" y="1032"/>
                </a:lnTo>
                <a:lnTo>
                  <a:pt x="3186" y="993"/>
                </a:lnTo>
                <a:lnTo>
                  <a:pt x="3189" y="987"/>
                </a:lnTo>
                <a:lnTo>
                  <a:pt x="3198" y="973"/>
                </a:lnTo>
                <a:lnTo>
                  <a:pt x="3217" y="941"/>
                </a:lnTo>
                <a:lnTo>
                  <a:pt x="3222" y="928"/>
                </a:lnTo>
                <a:lnTo>
                  <a:pt x="3222" y="922"/>
                </a:lnTo>
                <a:lnTo>
                  <a:pt x="3222" y="917"/>
                </a:lnTo>
                <a:lnTo>
                  <a:pt x="3222" y="915"/>
                </a:lnTo>
                <a:lnTo>
                  <a:pt x="3212" y="919"/>
                </a:lnTo>
                <a:lnTo>
                  <a:pt x="3188" y="926"/>
                </a:lnTo>
                <a:lnTo>
                  <a:pt x="3161" y="929"/>
                </a:lnTo>
                <a:lnTo>
                  <a:pt x="3109" y="933"/>
                </a:lnTo>
                <a:lnTo>
                  <a:pt x="3082" y="938"/>
                </a:lnTo>
                <a:lnTo>
                  <a:pt x="3075" y="935"/>
                </a:lnTo>
                <a:lnTo>
                  <a:pt x="3059" y="926"/>
                </a:lnTo>
                <a:lnTo>
                  <a:pt x="3030" y="913"/>
                </a:lnTo>
                <a:lnTo>
                  <a:pt x="3004" y="897"/>
                </a:lnTo>
                <a:lnTo>
                  <a:pt x="2999" y="893"/>
                </a:lnTo>
                <a:lnTo>
                  <a:pt x="3002" y="890"/>
                </a:lnTo>
                <a:lnTo>
                  <a:pt x="3011" y="880"/>
                </a:lnTo>
                <a:lnTo>
                  <a:pt x="3017" y="867"/>
                </a:lnTo>
                <a:lnTo>
                  <a:pt x="3018" y="864"/>
                </a:lnTo>
                <a:lnTo>
                  <a:pt x="3001" y="849"/>
                </a:lnTo>
                <a:lnTo>
                  <a:pt x="2959" y="818"/>
                </a:lnTo>
                <a:lnTo>
                  <a:pt x="2859" y="757"/>
                </a:lnTo>
                <a:lnTo>
                  <a:pt x="2763" y="690"/>
                </a:lnTo>
                <a:lnTo>
                  <a:pt x="2744" y="671"/>
                </a:lnTo>
                <a:lnTo>
                  <a:pt x="2738" y="680"/>
                </a:lnTo>
                <a:lnTo>
                  <a:pt x="2734" y="689"/>
                </a:lnTo>
                <a:lnTo>
                  <a:pt x="2733" y="700"/>
                </a:lnTo>
                <a:lnTo>
                  <a:pt x="2731" y="712"/>
                </a:lnTo>
                <a:lnTo>
                  <a:pt x="2734" y="736"/>
                </a:lnTo>
                <a:lnTo>
                  <a:pt x="2747" y="784"/>
                </a:lnTo>
                <a:lnTo>
                  <a:pt x="2753" y="800"/>
                </a:lnTo>
                <a:lnTo>
                  <a:pt x="2750" y="806"/>
                </a:lnTo>
                <a:lnTo>
                  <a:pt x="2744" y="819"/>
                </a:lnTo>
                <a:lnTo>
                  <a:pt x="2728" y="849"/>
                </a:lnTo>
                <a:lnTo>
                  <a:pt x="2712" y="878"/>
                </a:lnTo>
                <a:lnTo>
                  <a:pt x="2708" y="883"/>
                </a:lnTo>
                <a:lnTo>
                  <a:pt x="2701" y="878"/>
                </a:lnTo>
                <a:lnTo>
                  <a:pt x="2688" y="871"/>
                </a:lnTo>
                <a:lnTo>
                  <a:pt x="2664" y="861"/>
                </a:lnTo>
                <a:lnTo>
                  <a:pt x="2640" y="857"/>
                </a:lnTo>
                <a:lnTo>
                  <a:pt x="2634" y="855"/>
                </a:lnTo>
                <a:lnTo>
                  <a:pt x="2624" y="838"/>
                </a:lnTo>
                <a:lnTo>
                  <a:pt x="2607" y="802"/>
                </a:lnTo>
                <a:lnTo>
                  <a:pt x="2565" y="744"/>
                </a:lnTo>
                <a:lnTo>
                  <a:pt x="2536" y="725"/>
                </a:lnTo>
                <a:lnTo>
                  <a:pt x="2499" y="718"/>
                </a:lnTo>
                <a:lnTo>
                  <a:pt x="2479" y="718"/>
                </a:lnTo>
                <a:lnTo>
                  <a:pt x="2467" y="718"/>
                </a:lnTo>
                <a:lnTo>
                  <a:pt x="2457" y="713"/>
                </a:lnTo>
                <a:lnTo>
                  <a:pt x="2449" y="709"/>
                </a:lnTo>
                <a:lnTo>
                  <a:pt x="2431" y="696"/>
                </a:lnTo>
                <a:lnTo>
                  <a:pt x="2395" y="671"/>
                </a:lnTo>
                <a:lnTo>
                  <a:pt x="2360" y="671"/>
                </a:lnTo>
                <a:lnTo>
                  <a:pt x="2357" y="673"/>
                </a:lnTo>
                <a:lnTo>
                  <a:pt x="2354" y="674"/>
                </a:lnTo>
                <a:lnTo>
                  <a:pt x="2352" y="678"/>
                </a:lnTo>
                <a:lnTo>
                  <a:pt x="2346" y="686"/>
                </a:lnTo>
                <a:lnTo>
                  <a:pt x="2336" y="707"/>
                </a:lnTo>
                <a:lnTo>
                  <a:pt x="2334" y="718"/>
                </a:lnTo>
                <a:lnTo>
                  <a:pt x="2325" y="716"/>
                </a:lnTo>
                <a:lnTo>
                  <a:pt x="2307" y="713"/>
                </a:lnTo>
                <a:lnTo>
                  <a:pt x="2265" y="713"/>
                </a:lnTo>
                <a:lnTo>
                  <a:pt x="2244" y="718"/>
                </a:lnTo>
                <a:lnTo>
                  <a:pt x="2228" y="723"/>
                </a:lnTo>
                <a:lnTo>
                  <a:pt x="2224" y="728"/>
                </a:lnTo>
                <a:lnTo>
                  <a:pt x="2224" y="736"/>
                </a:lnTo>
                <a:lnTo>
                  <a:pt x="2226" y="745"/>
                </a:lnTo>
                <a:lnTo>
                  <a:pt x="2233" y="767"/>
                </a:lnTo>
                <a:lnTo>
                  <a:pt x="2247" y="813"/>
                </a:lnTo>
                <a:lnTo>
                  <a:pt x="2252" y="846"/>
                </a:lnTo>
                <a:lnTo>
                  <a:pt x="2265" y="865"/>
                </a:lnTo>
                <a:lnTo>
                  <a:pt x="2288" y="894"/>
                </a:lnTo>
                <a:lnTo>
                  <a:pt x="2302" y="916"/>
                </a:lnTo>
                <a:lnTo>
                  <a:pt x="2310" y="936"/>
                </a:lnTo>
                <a:lnTo>
                  <a:pt x="2308" y="961"/>
                </a:lnTo>
                <a:lnTo>
                  <a:pt x="2296" y="991"/>
                </a:lnTo>
                <a:lnTo>
                  <a:pt x="2288" y="1012"/>
                </a:lnTo>
                <a:lnTo>
                  <a:pt x="2305" y="1022"/>
                </a:lnTo>
                <a:lnTo>
                  <a:pt x="2339" y="1041"/>
                </a:lnTo>
                <a:lnTo>
                  <a:pt x="2392" y="1087"/>
                </a:lnTo>
                <a:lnTo>
                  <a:pt x="2428" y="1149"/>
                </a:lnTo>
                <a:lnTo>
                  <a:pt x="2434" y="1168"/>
                </a:lnTo>
                <a:lnTo>
                  <a:pt x="2436" y="1186"/>
                </a:lnTo>
                <a:lnTo>
                  <a:pt x="2436" y="1201"/>
                </a:lnTo>
                <a:lnTo>
                  <a:pt x="2431" y="1215"/>
                </a:lnTo>
                <a:lnTo>
                  <a:pt x="2425" y="1228"/>
                </a:lnTo>
                <a:lnTo>
                  <a:pt x="2418" y="1239"/>
                </a:lnTo>
                <a:lnTo>
                  <a:pt x="2401" y="1259"/>
                </a:lnTo>
                <a:lnTo>
                  <a:pt x="2365" y="1303"/>
                </a:lnTo>
                <a:lnTo>
                  <a:pt x="2360" y="1316"/>
                </a:lnTo>
                <a:lnTo>
                  <a:pt x="2359" y="1328"/>
                </a:lnTo>
                <a:lnTo>
                  <a:pt x="2363" y="1341"/>
                </a:lnTo>
                <a:lnTo>
                  <a:pt x="2369" y="1357"/>
                </a:lnTo>
                <a:lnTo>
                  <a:pt x="2388" y="1393"/>
                </a:lnTo>
                <a:lnTo>
                  <a:pt x="2436" y="1468"/>
                </a:lnTo>
                <a:lnTo>
                  <a:pt x="2460" y="1509"/>
                </a:lnTo>
                <a:lnTo>
                  <a:pt x="2454" y="1520"/>
                </a:lnTo>
                <a:lnTo>
                  <a:pt x="2450" y="1538"/>
                </a:lnTo>
                <a:lnTo>
                  <a:pt x="2449" y="1546"/>
                </a:lnTo>
                <a:lnTo>
                  <a:pt x="2447" y="1551"/>
                </a:lnTo>
                <a:lnTo>
                  <a:pt x="2444" y="1554"/>
                </a:lnTo>
                <a:lnTo>
                  <a:pt x="2440" y="1556"/>
                </a:lnTo>
                <a:lnTo>
                  <a:pt x="2433" y="1559"/>
                </a:lnTo>
                <a:lnTo>
                  <a:pt x="2408" y="1568"/>
                </a:lnTo>
                <a:lnTo>
                  <a:pt x="2389" y="1572"/>
                </a:lnTo>
                <a:lnTo>
                  <a:pt x="2362" y="1548"/>
                </a:lnTo>
                <a:lnTo>
                  <a:pt x="2318" y="1512"/>
                </a:lnTo>
                <a:lnTo>
                  <a:pt x="2288" y="1484"/>
                </a:lnTo>
                <a:lnTo>
                  <a:pt x="2268" y="1458"/>
                </a:lnTo>
                <a:lnTo>
                  <a:pt x="2256" y="1420"/>
                </a:lnTo>
                <a:lnTo>
                  <a:pt x="2252" y="1364"/>
                </a:lnTo>
                <a:lnTo>
                  <a:pt x="2252" y="1325"/>
                </a:lnTo>
                <a:lnTo>
                  <a:pt x="2241" y="1317"/>
                </a:lnTo>
                <a:lnTo>
                  <a:pt x="2233" y="1312"/>
                </a:lnTo>
                <a:lnTo>
                  <a:pt x="2227" y="1310"/>
                </a:lnTo>
                <a:lnTo>
                  <a:pt x="2221" y="1310"/>
                </a:lnTo>
                <a:lnTo>
                  <a:pt x="2215" y="1312"/>
                </a:lnTo>
                <a:lnTo>
                  <a:pt x="2211" y="1315"/>
                </a:lnTo>
                <a:lnTo>
                  <a:pt x="2199" y="1323"/>
                </a:lnTo>
                <a:lnTo>
                  <a:pt x="2183" y="1330"/>
                </a:lnTo>
                <a:lnTo>
                  <a:pt x="2160" y="1333"/>
                </a:lnTo>
                <a:lnTo>
                  <a:pt x="2160" y="1333"/>
                </a:lnTo>
                <a:lnTo>
                  <a:pt x="2134" y="1333"/>
                </a:lnTo>
                <a:lnTo>
                  <a:pt x="2105" y="1326"/>
                </a:lnTo>
                <a:lnTo>
                  <a:pt x="2040" y="1300"/>
                </a:lnTo>
                <a:lnTo>
                  <a:pt x="1901" y="1242"/>
                </a:lnTo>
                <a:lnTo>
                  <a:pt x="1795" y="1251"/>
                </a:lnTo>
                <a:lnTo>
                  <a:pt x="1789" y="1242"/>
                </a:lnTo>
                <a:lnTo>
                  <a:pt x="1781" y="1220"/>
                </a:lnTo>
                <a:lnTo>
                  <a:pt x="1765" y="1170"/>
                </a:lnTo>
                <a:lnTo>
                  <a:pt x="1750" y="1123"/>
                </a:lnTo>
                <a:lnTo>
                  <a:pt x="1749" y="1113"/>
                </a:lnTo>
                <a:lnTo>
                  <a:pt x="1743" y="1115"/>
                </a:lnTo>
                <a:lnTo>
                  <a:pt x="1733" y="1115"/>
                </a:lnTo>
                <a:lnTo>
                  <a:pt x="1711" y="1119"/>
                </a:lnTo>
                <a:lnTo>
                  <a:pt x="1691" y="1122"/>
                </a:lnTo>
                <a:lnTo>
                  <a:pt x="1687" y="1122"/>
                </a:lnTo>
                <a:lnTo>
                  <a:pt x="1663" y="1094"/>
                </a:lnTo>
                <a:lnTo>
                  <a:pt x="1653" y="1064"/>
                </a:lnTo>
                <a:lnTo>
                  <a:pt x="1650" y="1032"/>
                </a:lnTo>
                <a:lnTo>
                  <a:pt x="1656" y="1000"/>
                </a:lnTo>
                <a:lnTo>
                  <a:pt x="1668" y="967"/>
                </a:lnTo>
                <a:lnTo>
                  <a:pt x="1704" y="904"/>
                </a:lnTo>
                <a:lnTo>
                  <a:pt x="1746" y="846"/>
                </a:lnTo>
                <a:lnTo>
                  <a:pt x="1782" y="800"/>
                </a:lnTo>
                <a:lnTo>
                  <a:pt x="1795" y="781"/>
                </a:lnTo>
                <a:lnTo>
                  <a:pt x="1794" y="777"/>
                </a:lnTo>
                <a:lnTo>
                  <a:pt x="1792" y="774"/>
                </a:lnTo>
                <a:lnTo>
                  <a:pt x="1788" y="768"/>
                </a:lnTo>
                <a:lnTo>
                  <a:pt x="1779" y="758"/>
                </a:lnTo>
                <a:lnTo>
                  <a:pt x="1778" y="754"/>
                </a:lnTo>
                <a:lnTo>
                  <a:pt x="1782" y="749"/>
                </a:lnTo>
                <a:lnTo>
                  <a:pt x="1798" y="731"/>
                </a:lnTo>
                <a:lnTo>
                  <a:pt x="1842" y="680"/>
                </a:lnTo>
                <a:lnTo>
                  <a:pt x="1879" y="629"/>
                </a:lnTo>
                <a:lnTo>
                  <a:pt x="1886" y="618"/>
                </a:lnTo>
                <a:lnTo>
                  <a:pt x="1885" y="619"/>
                </a:lnTo>
                <a:lnTo>
                  <a:pt x="1882" y="619"/>
                </a:lnTo>
                <a:lnTo>
                  <a:pt x="1876" y="619"/>
                </a:lnTo>
                <a:lnTo>
                  <a:pt x="1873" y="619"/>
                </a:lnTo>
                <a:lnTo>
                  <a:pt x="1866" y="618"/>
                </a:lnTo>
                <a:lnTo>
                  <a:pt x="1849" y="613"/>
                </a:lnTo>
                <a:lnTo>
                  <a:pt x="1808" y="597"/>
                </a:lnTo>
                <a:lnTo>
                  <a:pt x="1779" y="581"/>
                </a:lnTo>
                <a:lnTo>
                  <a:pt x="1776" y="577"/>
                </a:lnTo>
                <a:lnTo>
                  <a:pt x="1776" y="574"/>
                </a:lnTo>
                <a:lnTo>
                  <a:pt x="1776" y="573"/>
                </a:lnTo>
                <a:lnTo>
                  <a:pt x="1778" y="570"/>
                </a:lnTo>
                <a:lnTo>
                  <a:pt x="1781" y="568"/>
                </a:lnTo>
                <a:lnTo>
                  <a:pt x="1785" y="567"/>
                </a:lnTo>
                <a:lnTo>
                  <a:pt x="1794" y="567"/>
                </a:lnTo>
                <a:lnTo>
                  <a:pt x="1823" y="565"/>
                </a:lnTo>
                <a:lnTo>
                  <a:pt x="1868" y="570"/>
                </a:lnTo>
                <a:lnTo>
                  <a:pt x="1882" y="571"/>
                </a:lnTo>
                <a:lnTo>
                  <a:pt x="1879" y="568"/>
                </a:lnTo>
                <a:lnTo>
                  <a:pt x="1878" y="564"/>
                </a:lnTo>
                <a:lnTo>
                  <a:pt x="1876" y="558"/>
                </a:lnTo>
                <a:lnTo>
                  <a:pt x="1875" y="544"/>
                </a:lnTo>
                <a:lnTo>
                  <a:pt x="1873" y="512"/>
                </a:lnTo>
                <a:lnTo>
                  <a:pt x="1869" y="497"/>
                </a:lnTo>
                <a:lnTo>
                  <a:pt x="1878" y="499"/>
                </a:lnTo>
                <a:lnTo>
                  <a:pt x="1907" y="503"/>
                </a:lnTo>
                <a:lnTo>
                  <a:pt x="1930" y="506"/>
                </a:lnTo>
                <a:lnTo>
                  <a:pt x="1931" y="506"/>
                </a:lnTo>
                <a:lnTo>
                  <a:pt x="1940" y="500"/>
                </a:lnTo>
                <a:lnTo>
                  <a:pt x="1957" y="484"/>
                </a:lnTo>
                <a:lnTo>
                  <a:pt x="1986" y="451"/>
                </a:lnTo>
                <a:lnTo>
                  <a:pt x="2008" y="415"/>
                </a:lnTo>
                <a:lnTo>
                  <a:pt x="2014" y="405"/>
                </a:lnTo>
                <a:lnTo>
                  <a:pt x="2008" y="400"/>
                </a:lnTo>
                <a:lnTo>
                  <a:pt x="1999" y="387"/>
                </a:lnTo>
                <a:lnTo>
                  <a:pt x="1978" y="357"/>
                </a:lnTo>
                <a:lnTo>
                  <a:pt x="1962" y="328"/>
                </a:lnTo>
                <a:lnTo>
                  <a:pt x="1960" y="322"/>
                </a:lnTo>
                <a:lnTo>
                  <a:pt x="1960" y="320"/>
                </a:lnTo>
                <a:lnTo>
                  <a:pt x="1960" y="315"/>
                </a:lnTo>
                <a:lnTo>
                  <a:pt x="1965" y="299"/>
                </a:lnTo>
                <a:lnTo>
                  <a:pt x="1968" y="281"/>
                </a:lnTo>
                <a:lnTo>
                  <a:pt x="1969" y="276"/>
                </a:lnTo>
                <a:lnTo>
                  <a:pt x="1959" y="271"/>
                </a:lnTo>
                <a:lnTo>
                  <a:pt x="1936" y="263"/>
                </a:lnTo>
                <a:lnTo>
                  <a:pt x="1886" y="249"/>
                </a:lnTo>
                <a:lnTo>
                  <a:pt x="1863" y="251"/>
                </a:lnTo>
                <a:lnTo>
                  <a:pt x="1840" y="260"/>
                </a:lnTo>
                <a:lnTo>
                  <a:pt x="1831" y="267"/>
                </a:lnTo>
                <a:lnTo>
                  <a:pt x="1837" y="281"/>
                </a:lnTo>
                <a:lnTo>
                  <a:pt x="1847" y="310"/>
                </a:lnTo>
                <a:lnTo>
                  <a:pt x="1853" y="368"/>
                </a:lnTo>
                <a:lnTo>
                  <a:pt x="1847" y="396"/>
                </a:lnTo>
                <a:lnTo>
                  <a:pt x="1833" y="420"/>
                </a:lnTo>
                <a:lnTo>
                  <a:pt x="1823" y="432"/>
                </a:lnTo>
                <a:lnTo>
                  <a:pt x="1820" y="428"/>
                </a:lnTo>
                <a:lnTo>
                  <a:pt x="1814" y="413"/>
                </a:lnTo>
                <a:lnTo>
                  <a:pt x="1802" y="376"/>
                </a:lnTo>
                <a:lnTo>
                  <a:pt x="1795" y="339"/>
                </a:lnTo>
                <a:lnTo>
                  <a:pt x="1795" y="332"/>
                </a:lnTo>
                <a:lnTo>
                  <a:pt x="1792" y="331"/>
                </a:lnTo>
                <a:lnTo>
                  <a:pt x="1787" y="326"/>
                </a:lnTo>
                <a:lnTo>
                  <a:pt x="1771" y="318"/>
                </a:lnTo>
                <a:lnTo>
                  <a:pt x="1753" y="315"/>
                </a:lnTo>
                <a:lnTo>
                  <a:pt x="1749" y="313"/>
                </a:lnTo>
                <a:lnTo>
                  <a:pt x="1743" y="326"/>
                </a:lnTo>
                <a:lnTo>
                  <a:pt x="1733" y="345"/>
                </a:lnTo>
                <a:lnTo>
                  <a:pt x="1726" y="358"/>
                </a:lnTo>
                <a:lnTo>
                  <a:pt x="1724" y="360"/>
                </a:lnTo>
                <a:lnTo>
                  <a:pt x="1721" y="361"/>
                </a:lnTo>
                <a:lnTo>
                  <a:pt x="1720" y="361"/>
                </a:lnTo>
                <a:lnTo>
                  <a:pt x="1718" y="360"/>
                </a:lnTo>
                <a:lnTo>
                  <a:pt x="1717" y="358"/>
                </a:lnTo>
                <a:lnTo>
                  <a:pt x="1716" y="354"/>
                </a:lnTo>
                <a:lnTo>
                  <a:pt x="1714" y="349"/>
                </a:lnTo>
                <a:lnTo>
                  <a:pt x="1713" y="339"/>
                </a:lnTo>
                <a:lnTo>
                  <a:pt x="1713" y="303"/>
                </a:lnTo>
                <a:lnTo>
                  <a:pt x="1713" y="303"/>
                </a:lnTo>
                <a:lnTo>
                  <a:pt x="1710" y="302"/>
                </a:lnTo>
                <a:lnTo>
                  <a:pt x="1702" y="297"/>
                </a:lnTo>
                <a:lnTo>
                  <a:pt x="1694" y="293"/>
                </a:lnTo>
                <a:lnTo>
                  <a:pt x="1673" y="284"/>
                </a:lnTo>
                <a:lnTo>
                  <a:pt x="1659" y="276"/>
                </a:lnTo>
                <a:lnTo>
                  <a:pt x="1658" y="268"/>
                </a:lnTo>
                <a:lnTo>
                  <a:pt x="1658" y="245"/>
                </a:lnTo>
                <a:lnTo>
                  <a:pt x="1647" y="190"/>
                </a:lnTo>
                <a:lnTo>
                  <a:pt x="1634" y="165"/>
                </a:lnTo>
                <a:lnTo>
                  <a:pt x="1616" y="147"/>
                </a:lnTo>
                <a:lnTo>
                  <a:pt x="1604" y="139"/>
                </a:lnTo>
                <a:lnTo>
                  <a:pt x="1575" y="134"/>
                </a:lnTo>
                <a:lnTo>
                  <a:pt x="1555" y="134"/>
                </a:lnTo>
                <a:lnTo>
                  <a:pt x="1547" y="138"/>
                </a:lnTo>
                <a:lnTo>
                  <a:pt x="1542" y="142"/>
                </a:lnTo>
                <a:lnTo>
                  <a:pt x="1536" y="148"/>
                </a:lnTo>
                <a:lnTo>
                  <a:pt x="1533" y="154"/>
                </a:lnTo>
                <a:lnTo>
                  <a:pt x="1532" y="163"/>
                </a:lnTo>
                <a:lnTo>
                  <a:pt x="1530" y="180"/>
                </a:lnTo>
                <a:lnTo>
                  <a:pt x="1532" y="200"/>
                </a:lnTo>
                <a:lnTo>
                  <a:pt x="1542" y="241"/>
                </a:lnTo>
                <a:lnTo>
                  <a:pt x="1553" y="273"/>
                </a:lnTo>
                <a:lnTo>
                  <a:pt x="1559" y="284"/>
                </a:lnTo>
                <a:lnTo>
                  <a:pt x="1568" y="289"/>
                </a:lnTo>
                <a:lnTo>
                  <a:pt x="1582" y="299"/>
                </a:lnTo>
                <a:lnTo>
                  <a:pt x="1594" y="310"/>
                </a:lnTo>
                <a:lnTo>
                  <a:pt x="1603" y="325"/>
                </a:lnTo>
                <a:lnTo>
                  <a:pt x="1618" y="360"/>
                </a:lnTo>
                <a:lnTo>
                  <a:pt x="1624" y="368"/>
                </a:lnTo>
                <a:lnTo>
                  <a:pt x="1621" y="380"/>
                </a:lnTo>
                <a:lnTo>
                  <a:pt x="1617" y="402"/>
                </a:lnTo>
                <a:lnTo>
                  <a:pt x="1603" y="447"/>
                </a:lnTo>
                <a:lnTo>
                  <a:pt x="1589" y="487"/>
                </a:lnTo>
                <a:lnTo>
                  <a:pt x="1588" y="496"/>
                </a:lnTo>
                <a:lnTo>
                  <a:pt x="1581" y="480"/>
                </a:lnTo>
                <a:lnTo>
                  <a:pt x="1560" y="429"/>
                </a:lnTo>
                <a:lnTo>
                  <a:pt x="1546" y="391"/>
                </a:lnTo>
                <a:lnTo>
                  <a:pt x="1546" y="389"/>
                </a:lnTo>
                <a:lnTo>
                  <a:pt x="1539" y="390"/>
                </a:lnTo>
                <a:lnTo>
                  <a:pt x="1517" y="394"/>
                </a:lnTo>
                <a:lnTo>
                  <a:pt x="1500" y="397"/>
                </a:lnTo>
                <a:lnTo>
                  <a:pt x="1500" y="397"/>
                </a:lnTo>
                <a:lnTo>
                  <a:pt x="1500" y="400"/>
                </a:lnTo>
                <a:lnTo>
                  <a:pt x="1500" y="406"/>
                </a:lnTo>
                <a:lnTo>
                  <a:pt x="1501" y="419"/>
                </a:lnTo>
                <a:lnTo>
                  <a:pt x="1503" y="431"/>
                </a:lnTo>
                <a:lnTo>
                  <a:pt x="1504" y="432"/>
                </a:lnTo>
                <a:lnTo>
                  <a:pt x="1489" y="436"/>
                </a:lnTo>
                <a:lnTo>
                  <a:pt x="1471" y="439"/>
                </a:lnTo>
                <a:lnTo>
                  <a:pt x="1427" y="441"/>
                </a:lnTo>
                <a:lnTo>
                  <a:pt x="1382" y="436"/>
                </a:lnTo>
                <a:lnTo>
                  <a:pt x="1343" y="422"/>
                </a:lnTo>
                <a:lnTo>
                  <a:pt x="1329" y="412"/>
                </a:lnTo>
                <a:lnTo>
                  <a:pt x="1320" y="399"/>
                </a:lnTo>
                <a:lnTo>
                  <a:pt x="1319" y="383"/>
                </a:lnTo>
                <a:lnTo>
                  <a:pt x="1323" y="363"/>
                </a:lnTo>
                <a:lnTo>
                  <a:pt x="1324" y="363"/>
                </a:lnTo>
                <a:lnTo>
                  <a:pt x="1320" y="363"/>
                </a:lnTo>
                <a:lnTo>
                  <a:pt x="1313" y="363"/>
                </a:lnTo>
                <a:lnTo>
                  <a:pt x="1292" y="360"/>
                </a:lnTo>
                <a:lnTo>
                  <a:pt x="1245" y="360"/>
                </a:lnTo>
                <a:lnTo>
                  <a:pt x="1220" y="384"/>
                </a:lnTo>
                <a:lnTo>
                  <a:pt x="1220" y="389"/>
                </a:lnTo>
                <a:lnTo>
                  <a:pt x="1224" y="390"/>
                </a:lnTo>
                <a:lnTo>
                  <a:pt x="1230" y="391"/>
                </a:lnTo>
                <a:lnTo>
                  <a:pt x="1236" y="393"/>
                </a:lnTo>
                <a:lnTo>
                  <a:pt x="1253" y="393"/>
                </a:lnTo>
                <a:lnTo>
                  <a:pt x="1282" y="393"/>
                </a:lnTo>
                <a:lnTo>
                  <a:pt x="1290" y="397"/>
                </a:lnTo>
                <a:lnTo>
                  <a:pt x="1288" y="402"/>
                </a:lnTo>
                <a:lnTo>
                  <a:pt x="1284" y="406"/>
                </a:lnTo>
                <a:lnTo>
                  <a:pt x="1278" y="412"/>
                </a:lnTo>
                <a:lnTo>
                  <a:pt x="1259" y="425"/>
                </a:lnTo>
                <a:lnTo>
                  <a:pt x="1219" y="449"/>
                </a:lnTo>
                <a:lnTo>
                  <a:pt x="1203" y="454"/>
                </a:lnTo>
                <a:lnTo>
                  <a:pt x="1201" y="452"/>
                </a:lnTo>
                <a:lnTo>
                  <a:pt x="1195" y="445"/>
                </a:lnTo>
                <a:lnTo>
                  <a:pt x="1184" y="426"/>
                </a:lnTo>
                <a:lnTo>
                  <a:pt x="1172" y="412"/>
                </a:lnTo>
                <a:lnTo>
                  <a:pt x="1172" y="409"/>
                </a:lnTo>
                <a:lnTo>
                  <a:pt x="1169" y="409"/>
                </a:lnTo>
                <a:lnTo>
                  <a:pt x="1162" y="407"/>
                </a:lnTo>
                <a:lnTo>
                  <a:pt x="1143" y="407"/>
                </a:lnTo>
                <a:lnTo>
                  <a:pt x="1095" y="407"/>
                </a:lnTo>
                <a:lnTo>
                  <a:pt x="1069" y="406"/>
                </a:lnTo>
                <a:lnTo>
                  <a:pt x="1064" y="403"/>
                </a:lnTo>
                <a:lnTo>
                  <a:pt x="1058" y="402"/>
                </a:lnTo>
                <a:lnTo>
                  <a:pt x="1045" y="396"/>
                </a:lnTo>
                <a:lnTo>
                  <a:pt x="1020" y="386"/>
                </a:lnTo>
                <a:lnTo>
                  <a:pt x="1011" y="381"/>
                </a:lnTo>
                <a:lnTo>
                  <a:pt x="1010" y="380"/>
                </a:lnTo>
                <a:lnTo>
                  <a:pt x="1011" y="378"/>
                </a:lnTo>
                <a:lnTo>
                  <a:pt x="1013" y="378"/>
                </a:lnTo>
                <a:lnTo>
                  <a:pt x="1017" y="378"/>
                </a:lnTo>
                <a:lnTo>
                  <a:pt x="1027" y="377"/>
                </a:lnTo>
                <a:lnTo>
                  <a:pt x="1050" y="376"/>
                </a:lnTo>
                <a:lnTo>
                  <a:pt x="1061" y="374"/>
                </a:lnTo>
                <a:lnTo>
                  <a:pt x="1065" y="373"/>
                </a:lnTo>
                <a:lnTo>
                  <a:pt x="1068" y="370"/>
                </a:lnTo>
                <a:lnTo>
                  <a:pt x="1068" y="367"/>
                </a:lnTo>
                <a:lnTo>
                  <a:pt x="1068" y="365"/>
                </a:lnTo>
                <a:lnTo>
                  <a:pt x="1068" y="364"/>
                </a:lnTo>
                <a:lnTo>
                  <a:pt x="1066" y="361"/>
                </a:lnTo>
                <a:lnTo>
                  <a:pt x="1062" y="357"/>
                </a:lnTo>
                <a:lnTo>
                  <a:pt x="1056" y="351"/>
                </a:lnTo>
                <a:lnTo>
                  <a:pt x="1035" y="336"/>
                </a:lnTo>
                <a:lnTo>
                  <a:pt x="1001" y="318"/>
                </a:lnTo>
                <a:lnTo>
                  <a:pt x="968" y="299"/>
                </a:lnTo>
                <a:lnTo>
                  <a:pt x="965" y="296"/>
                </a:lnTo>
                <a:lnTo>
                  <a:pt x="958" y="287"/>
                </a:lnTo>
                <a:lnTo>
                  <a:pt x="933" y="264"/>
                </a:lnTo>
                <a:lnTo>
                  <a:pt x="875" y="212"/>
                </a:lnTo>
                <a:lnTo>
                  <a:pt x="856" y="193"/>
                </a:lnTo>
                <a:lnTo>
                  <a:pt x="853" y="194"/>
                </a:lnTo>
                <a:lnTo>
                  <a:pt x="851" y="196"/>
                </a:lnTo>
                <a:lnTo>
                  <a:pt x="846" y="199"/>
                </a:lnTo>
                <a:lnTo>
                  <a:pt x="840" y="207"/>
                </a:lnTo>
                <a:lnTo>
                  <a:pt x="826" y="225"/>
                </a:lnTo>
                <a:lnTo>
                  <a:pt x="819" y="229"/>
                </a:lnTo>
                <a:lnTo>
                  <a:pt x="822" y="210"/>
                </a:lnTo>
                <a:lnTo>
                  <a:pt x="824" y="181"/>
                </a:lnTo>
                <a:lnTo>
                  <a:pt x="823" y="173"/>
                </a:lnTo>
                <a:lnTo>
                  <a:pt x="820" y="167"/>
                </a:lnTo>
                <a:lnTo>
                  <a:pt x="819" y="165"/>
                </a:lnTo>
                <a:lnTo>
                  <a:pt x="816" y="164"/>
                </a:lnTo>
                <a:lnTo>
                  <a:pt x="813" y="163"/>
                </a:lnTo>
                <a:lnTo>
                  <a:pt x="810" y="163"/>
                </a:lnTo>
                <a:lnTo>
                  <a:pt x="807" y="164"/>
                </a:lnTo>
                <a:lnTo>
                  <a:pt x="804" y="165"/>
                </a:lnTo>
                <a:lnTo>
                  <a:pt x="797" y="168"/>
                </a:lnTo>
                <a:lnTo>
                  <a:pt x="788" y="176"/>
                </a:lnTo>
                <a:lnTo>
                  <a:pt x="771" y="193"/>
                </a:lnTo>
                <a:lnTo>
                  <a:pt x="771" y="193"/>
                </a:lnTo>
                <a:lnTo>
                  <a:pt x="771" y="177"/>
                </a:lnTo>
                <a:lnTo>
                  <a:pt x="771" y="145"/>
                </a:lnTo>
                <a:lnTo>
                  <a:pt x="769" y="122"/>
                </a:lnTo>
                <a:lnTo>
                  <a:pt x="768" y="112"/>
                </a:lnTo>
                <a:lnTo>
                  <a:pt x="764" y="106"/>
                </a:lnTo>
                <a:lnTo>
                  <a:pt x="758" y="102"/>
                </a:lnTo>
                <a:lnTo>
                  <a:pt x="751" y="100"/>
                </a:lnTo>
                <a:lnTo>
                  <a:pt x="740" y="103"/>
                </a:lnTo>
                <a:lnTo>
                  <a:pt x="727" y="109"/>
                </a:lnTo>
                <a:lnTo>
                  <a:pt x="711" y="119"/>
                </a:lnTo>
                <a:lnTo>
                  <a:pt x="711" y="119"/>
                </a:lnTo>
                <a:lnTo>
                  <a:pt x="703" y="115"/>
                </a:lnTo>
                <a:lnTo>
                  <a:pt x="690" y="110"/>
                </a:lnTo>
                <a:lnTo>
                  <a:pt x="652" y="103"/>
                </a:lnTo>
                <a:lnTo>
                  <a:pt x="552" y="89"/>
                </a:lnTo>
                <a:lnTo>
                  <a:pt x="483" y="83"/>
                </a:lnTo>
                <a:lnTo>
                  <a:pt x="477" y="79"/>
                </a:lnTo>
                <a:lnTo>
                  <a:pt x="467" y="65"/>
                </a:lnTo>
                <a:lnTo>
                  <a:pt x="448" y="34"/>
                </a:lnTo>
                <a:lnTo>
                  <a:pt x="432" y="6"/>
                </a:lnTo>
                <a:lnTo>
                  <a:pt x="429" y="0"/>
                </a:lnTo>
                <a:lnTo>
                  <a:pt x="420" y="13"/>
                </a:lnTo>
                <a:lnTo>
                  <a:pt x="361" y="94"/>
                </a:lnTo>
                <a:lnTo>
                  <a:pt x="161" y="373"/>
                </a:lnTo>
                <a:lnTo>
                  <a:pt x="7" y="584"/>
                </a:lnTo>
                <a:lnTo>
                  <a:pt x="0" y="596"/>
                </a:lnTo>
                <a:lnTo>
                  <a:pt x="19" y="602"/>
                </a:lnTo>
                <a:lnTo>
                  <a:pt x="48" y="612"/>
                </a:lnTo>
                <a:lnTo>
                  <a:pt x="67" y="626"/>
                </a:lnTo>
                <a:lnTo>
                  <a:pt x="75" y="645"/>
                </a:lnTo>
                <a:lnTo>
                  <a:pt x="77" y="670"/>
                </a:lnTo>
                <a:lnTo>
                  <a:pt x="73" y="703"/>
                </a:lnTo>
                <a:lnTo>
                  <a:pt x="70" y="722"/>
                </a:lnTo>
                <a:lnTo>
                  <a:pt x="84" y="723"/>
                </a:lnTo>
                <a:lnTo>
                  <a:pt x="130" y="728"/>
                </a:lnTo>
                <a:lnTo>
                  <a:pt x="165" y="729"/>
                </a:lnTo>
                <a:lnTo>
                  <a:pt x="168" y="729"/>
                </a:lnTo>
                <a:lnTo>
                  <a:pt x="168" y="736"/>
                </a:lnTo>
                <a:lnTo>
                  <a:pt x="170" y="777"/>
                </a:lnTo>
                <a:lnTo>
                  <a:pt x="174" y="917"/>
                </a:lnTo>
                <a:lnTo>
                  <a:pt x="177" y="1023"/>
                </a:lnTo>
                <a:lnTo>
                  <a:pt x="178" y="1029"/>
                </a:lnTo>
                <a:lnTo>
                  <a:pt x="194" y="1046"/>
                </a:lnTo>
                <a:lnTo>
                  <a:pt x="216" y="1078"/>
                </a:lnTo>
                <a:lnTo>
                  <a:pt x="223" y="1107"/>
                </a:lnTo>
                <a:lnTo>
                  <a:pt x="220" y="1136"/>
                </a:lnTo>
                <a:lnTo>
                  <a:pt x="209" y="1170"/>
                </a:lnTo>
                <a:lnTo>
                  <a:pt x="188" y="1207"/>
                </a:lnTo>
                <a:lnTo>
                  <a:pt x="177" y="1229"/>
                </a:lnTo>
                <a:lnTo>
                  <a:pt x="175" y="1236"/>
                </a:lnTo>
                <a:lnTo>
                  <a:pt x="174" y="1254"/>
                </a:lnTo>
                <a:lnTo>
                  <a:pt x="174" y="1268"/>
                </a:lnTo>
                <a:lnTo>
                  <a:pt x="174" y="1268"/>
                </a:lnTo>
                <a:lnTo>
                  <a:pt x="174" y="1274"/>
                </a:lnTo>
                <a:lnTo>
                  <a:pt x="173" y="1287"/>
                </a:lnTo>
                <a:lnTo>
                  <a:pt x="173" y="1297"/>
                </a:lnTo>
                <a:lnTo>
                  <a:pt x="174" y="1297"/>
                </a:lnTo>
                <a:lnTo>
                  <a:pt x="174" y="1310"/>
                </a:lnTo>
                <a:lnTo>
                  <a:pt x="174" y="1330"/>
                </a:lnTo>
                <a:lnTo>
                  <a:pt x="167" y="1364"/>
                </a:lnTo>
                <a:lnTo>
                  <a:pt x="155" y="1404"/>
                </a:lnTo>
                <a:lnTo>
                  <a:pt x="154" y="1416"/>
                </a:lnTo>
                <a:lnTo>
                  <a:pt x="154" y="1419"/>
                </a:lnTo>
                <a:lnTo>
                  <a:pt x="154" y="1422"/>
                </a:lnTo>
                <a:lnTo>
                  <a:pt x="157" y="1425"/>
                </a:lnTo>
                <a:lnTo>
                  <a:pt x="159" y="1432"/>
                </a:lnTo>
                <a:lnTo>
                  <a:pt x="168" y="1442"/>
                </a:lnTo>
                <a:lnTo>
                  <a:pt x="173" y="1443"/>
                </a:lnTo>
                <a:lnTo>
                  <a:pt x="170" y="1446"/>
                </a:lnTo>
                <a:lnTo>
                  <a:pt x="165" y="1452"/>
                </a:lnTo>
                <a:lnTo>
                  <a:pt x="157" y="1468"/>
                </a:lnTo>
                <a:lnTo>
                  <a:pt x="154" y="1485"/>
                </a:lnTo>
                <a:lnTo>
                  <a:pt x="154" y="1490"/>
                </a:lnTo>
                <a:lnTo>
                  <a:pt x="161" y="1496"/>
                </a:lnTo>
                <a:lnTo>
                  <a:pt x="167" y="1499"/>
                </a:lnTo>
                <a:lnTo>
                  <a:pt x="186" y="1506"/>
                </a:lnTo>
                <a:lnTo>
                  <a:pt x="226" y="1525"/>
                </a:lnTo>
                <a:lnTo>
                  <a:pt x="249" y="1538"/>
                </a:lnTo>
                <a:lnTo>
                  <a:pt x="254" y="1545"/>
                </a:lnTo>
                <a:lnTo>
                  <a:pt x="261" y="1556"/>
                </a:lnTo>
                <a:lnTo>
                  <a:pt x="278" y="1591"/>
                </a:lnTo>
                <a:lnTo>
                  <a:pt x="320" y="1680"/>
                </a:lnTo>
                <a:lnTo>
                  <a:pt x="361" y="1741"/>
                </a:lnTo>
                <a:lnTo>
                  <a:pt x="377" y="1745"/>
                </a:lnTo>
                <a:lnTo>
                  <a:pt x="496" y="1765"/>
                </a:lnTo>
                <a:lnTo>
                  <a:pt x="900" y="1835"/>
                </a:lnTo>
                <a:lnTo>
                  <a:pt x="1208" y="1888"/>
                </a:lnTo>
                <a:lnTo>
                  <a:pt x="1226" y="1891"/>
                </a:lnTo>
                <a:lnTo>
                  <a:pt x="1234" y="1891"/>
                </a:lnTo>
                <a:lnTo>
                  <a:pt x="1300" y="1890"/>
                </a:lnTo>
                <a:lnTo>
                  <a:pt x="1521" y="1884"/>
                </a:lnTo>
                <a:lnTo>
                  <a:pt x="1691" y="1880"/>
                </a:lnTo>
                <a:lnTo>
                  <a:pt x="1701" y="1878"/>
                </a:lnTo>
                <a:lnTo>
                  <a:pt x="1701" y="1878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548400" y="2063880"/>
            <a:ext cx="155520" cy="123840"/>
          </a:xfrm>
          <a:custGeom>
            <a:avLst/>
            <a:gdLst/>
            <a:ahLst/>
            <a:rect l="l" t="t" r="r" b="b"/>
            <a:pathLst>
              <a:path w="446" h="380">
                <a:moveTo>
                  <a:pt x="64" y="292"/>
                </a:moveTo>
                <a:lnTo>
                  <a:pt x="53" y="292"/>
                </a:lnTo>
                <a:lnTo>
                  <a:pt x="38" y="289"/>
                </a:lnTo>
                <a:lnTo>
                  <a:pt x="23" y="283"/>
                </a:lnTo>
                <a:lnTo>
                  <a:pt x="11" y="274"/>
                </a:lnTo>
                <a:lnTo>
                  <a:pt x="4" y="263"/>
                </a:lnTo>
                <a:lnTo>
                  <a:pt x="0" y="247"/>
                </a:lnTo>
                <a:lnTo>
                  <a:pt x="0" y="238"/>
                </a:lnTo>
                <a:lnTo>
                  <a:pt x="1" y="238"/>
                </a:lnTo>
                <a:lnTo>
                  <a:pt x="4" y="238"/>
                </a:lnTo>
                <a:lnTo>
                  <a:pt x="13" y="234"/>
                </a:lnTo>
                <a:lnTo>
                  <a:pt x="30" y="225"/>
                </a:lnTo>
                <a:lnTo>
                  <a:pt x="45" y="219"/>
                </a:lnTo>
                <a:lnTo>
                  <a:pt x="49" y="222"/>
                </a:lnTo>
                <a:lnTo>
                  <a:pt x="61" y="226"/>
                </a:lnTo>
                <a:lnTo>
                  <a:pt x="90" y="232"/>
                </a:lnTo>
                <a:lnTo>
                  <a:pt x="116" y="231"/>
                </a:lnTo>
                <a:lnTo>
                  <a:pt x="122" y="228"/>
                </a:lnTo>
                <a:lnTo>
                  <a:pt x="116" y="222"/>
                </a:lnTo>
                <a:lnTo>
                  <a:pt x="107" y="216"/>
                </a:lnTo>
                <a:lnTo>
                  <a:pt x="88" y="206"/>
                </a:lnTo>
                <a:lnTo>
                  <a:pt x="66" y="199"/>
                </a:lnTo>
                <a:lnTo>
                  <a:pt x="19" y="187"/>
                </a:lnTo>
                <a:lnTo>
                  <a:pt x="0" y="181"/>
                </a:lnTo>
                <a:lnTo>
                  <a:pt x="0" y="177"/>
                </a:lnTo>
                <a:lnTo>
                  <a:pt x="1" y="173"/>
                </a:lnTo>
                <a:lnTo>
                  <a:pt x="6" y="164"/>
                </a:lnTo>
                <a:lnTo>
                  <a:pt x="11" y="155"/>
                </a:lnTo>
                <a:lnTo>
                  <a:pt x="24" y="141"/>
                </a:lnTo>
                <a:lnTo>
                  <a:pt x="30" y="135"/>
                </a:lnTo>
                <a:lnTo>
                  <a:pt x="30" y="128"/>
                </a:lnTo>
                <a:lnTo>
                  <a:pt x="39" y="99"/>
                </a:lnTo>
                <a:lnTo>
                  <a:pt x="74" y="26"/>
                </a:lnTo>
                <a:lnTo>
                  <a:pt x="87" y="12"/>
                </a:lnTo>
                <a:lnTo>
                  <a:pt x="101" y="3"/>
                </a:lnTo>
                <a:lnTo>
                  <a:pt x="117" y="0"/>
                </a:lnTo>
                <a:lnTo>
                  <a:pt x="135" y="6"/>
                </a:lnTo>
                <a:lnTo>
                  <a:pt x="152" y="19"/>
                </a:lnTo>
                <a:lnTo>
                  <a:pt x="153" y="19"/>
                </a:lnTo>
                <a:lnTo>
                  <a:pt x="152" y="29"/>
                </a:lnTo>
                <a:lnTo>
                  <a:pt x="148" y="44"/>
                </a:lnTo>
                <a:lnTo>
                  <a:pt x="145" y="51"/>
                </a:lnTo>
                <a:lnTo>
                  <a:pt x="143" y="52"/>
                </a:lnTo>
                <a:lnTo>
                  <a:pt x="145" y="54"/>
                </a:lnTo>
                <a:lnTo>
                  <a:pt x="148" y="52"/>
                </a:lnTo>
                <a:lnTo>
                  <a:pt x="151" y="52"/>
                </a:lnTo>
                <a:lnTo>
                  <a:pt x="158" y="51"/>
                </a:lnTo>
                <a:lnTo>
                  <a:pt x="182" y="45"/>
                </a:lnTo>
                <a:lnTo>
                  <a:pt x="193" y="42"/>
                </a:lnTo>
                <a:lnTo>
                  <a:pt x="194" y="47"/>
                </a:lnTo>
                <a:lnTo>
                  <a:pt x="194" y="50"/>
                </a:lnTo>
                <a:lnTo>
                  <a:pt x="194" y="55"/>
                </a:lnTo>
                <a:lnTo>
                  <a:pt x="193" y="68"/>
                </a:lnTo>
                <a:lnTo>
                  <a:pt x="193" y="81"/>
                </a:lnTo>
                <a:lnTo>
                  <a:pt x="194" y="93"/>
                </a:lnTo>
                <a:lnTo>
                  <a:pt x="198" y="99"/>
                </a:lnTo>
                <a:lnTo>
                  <a:pt x="200" y="99"/>
                </a:lnTo>
                <a:lnTo>
                  <a:pt x="203" y="100"/>
                </a:lnTo>
                <a:lnTo>
                  <a:pt x="207" y="99"/>
                </a:lnTo>
                <a:lnTo>
                  <a:pt x="208" y="95"/>
                </a:lnTo>
                <a:lnTo>
                  <a:pt x="211" y="90"/>
                </a:lnTo>
                <a:lnTo>
                  <a:pt x="213" y="84"/>
                </a:lnTo>
                <a:lnTo>
                  <a:pt x="216" y="70"/>
                </a:lnTo>
                <a:lnTo>
                  <a:pt x="219" y="58"/>
                </a:lnTo>
                <a:lnTo>
                  <a:pt x="222" y="51"/>
                </a:lnTo>
                <a:lnTo>
                  <a:pt x="224" y="50"/>
                </a:lnTo>
                <a:lnTo>
                  <a:pt x="232" y="52"/>
                </a:lnTo>
                <a:lnTo>
                  <a:pt x="242" y="57"/>
                </a:lnTo>
                <a:lnTo>
                  <a:pt x="252" y="63"/>
                </a:lnTo>
                <a:lnTo>
                  <a:pt x="255" y="63"/>
                </a:lnTo>
                <a:lnTo>
                  <a:pt x="255" y="70"/>
                </a:lnTo>
                <a:lnTo>
                  <a:pt x="255" y="84"/>
                </a:lnTo>
                <a:lnTo>
                  <a:pt x="258" y="113"/>
                </a:lnTo>
                <a:lnTo>
                  <a:pt x="264" y="138"/>
                </a:lnTo>
                <a:lnTo>
                  <a:pt x="266" y="142"/>
                </a:lnTo>
                <a:lnTo>
                  <a:pt x="271" y="138"/>
                </a:lnTo>
                <a:lnTo>
                  <a:pt x="274" y="131"/>
                </a:lnTo>
                <a:lnTo>
                  <a:pt x="277" y="123"/>
                </a:lnTo>
                <a:lnTo>
                  <a:pt x="279" y="106"/>
                </a:lnTo>
                <a:lnTo>
                  <a:pt x="279" y="87"/>
                </a:lnTo>
                <a:lnTo>
                  <a:pt x="279" y="51"/>
                </a:lnTo>
                <a:lnTo>
                  <a:pt x="279" y="42"/>
                </a:lnTo>
                <a:lnTo>
                  <a:pt x="288" y="38"/>
                </a:lnTo>
                <a:lnTo>
                  <a:pt x="306" y="29"/>
                </a:lnTo>
                <a:lnTo>
                  <a:pt x="342" y="15"/>
                </a:lnTo>
                <a:lnTo>
                  <a:pt x="359" y="15"/>
                </a:lnTo>
                <a:lnTo>
                  <a:pt x="375" y="21"/>
                </a:lnTo>
                <a:lnTo>
                  <a:pt x="382" y="25"/>
                </a:lnTo>
                <a:lnTo>
                  <a:pt x="374" y="37"/>
                </a:lnTo>
                <a:lnTo>
                  <a:pt x="366" y="50"/>
                </a:lnTo>
                <a:lnTo>
                  <a:pt x="355" y="80"/>
                </a:lnTo>
                <a:lnTo>
                  <a:pt x="348" y="116"/>
                </a:lnTo>
                <a:lnTo>
                  <a:pt x="348" y="189"/>
                </a:lnTo>
                <a:lnTo>
                  <a:pt x="355" y="219"/>
                </a:lnTo>
                <a:lnTo>
                  <a:pt x="358" y="226"/>
                </a:lnTo>
                <a:lnTo>
                  <a:pt x="364" y="232"/>
                </a:lnTo>
                <a:lnTo>
                  <a:pt x="371" y="239"/>
                </a:lnTo>
                <a:lnTo>
                  <a:pt x="388" y="250"/>
                </a:lnTo>
                <a:lnTo>
                  <a:pt x="426" y="270"/>
                </a:lnTo>
                <a:lnTo>
                  <a:pt x="446" y="283"/>
                </a:lnTo>
                <a:lnTo>
                  <a:pt x="445" y="286"/>
                </a:lnTo>
                <a:lnTo>
                  <a:pt x="445" y="292"/>
                </a:lnTo>
                <a:lnTo>
                  <a:pt x="440" y="305"/>
                </a:lnTo>
                <a:lnTo>
                  <a:pt x="437" y="318"/>
                </a:lnTo>
                <a:lnTo>
                  <a:pt x="437" y="319"/>
                </a:lnTo>
                <a:lnTo>
                  <a:pt x="435" y="319"/>
                </a:lnTo>
                <a:lnTo>
                  <a:pt x="427" y="319"/>
                </a:lnTo>
                <a:lnTo>
                  <a:pt x="411" y="319"/>
                </a:lnTo>
                <a:lnTo>
                  <a:pt x="395" y="319"/>
                </a:lnTo>
                <a:lnTo>
                  <a:pt x="394" y="319"/>
                </a:lnTo>
                <a:lnTo>
                  <a:pt x="400" y="326"/>
                </a:lnTo>
                <a:lnTo>
                  <a:pt x="408" y="338"/>
                </a:lnTo>
                <a:lnTo>
                  <a:pt x="411" y="348"/>
                </a:lnTo>
                <a:lnTo>
                  <a:pt x="413" y="357"/>
                </a:lnTo>
                <a:lnTo>
                  <a:pt x="411" y="364"/>
                </a:lnTo>
                <a:lnTo>
                  <a:pt x="413" y="373"/>
                </a:lnTo>
                <a:lnTo>
                  <a:pt x="416" y="377"/>
                </a:lnTo>
                <a:lnTo>
                  <a:pt x="413" y="379"/>
                </a:lnTo>
                <a:lnTo>
                  <a:pt x="410" y="379"/>
                </a:lnTo>
                <a:lnTo>
                  <a:pt x="401" y="377"/>
                </a:lnTo>
                <a:lnTo>
                  <a:pt x="379" y="376"/>
                </a:lnTo>
                <a:lnTo>
                  <a:pt x="362" y="373"/>
                </a:lnTo>
                <a:lnTo>
                  <a:pt x="359" y="373"/>
                </a:lnTo>
                <a:lnTo>
                  <a:pt x="356" y="371"/>
                </a:lnTo>
                <a:lnTo>
                  <a:pt x="353" y="368"/>
                </a:lnTo>
                <a:lnTo>
                  <a:pt x="348" y="363"/>
                </a:lnTo>
                <a:lnTo>
                  <a:pt x="336" y="347"/>
                </a:lnTo>
                <a:lnTo>
                  <a:pt x="330" y="338"/>
                </a:lnTo>
                <a:lnTo>
                  <a:pt x="324" y="336"/>
                </a:lnTo>
                <a:lnTo>
                  <a:pt x="320" y="335"/>
                </a:lnTo>
                <a:lnTo>
                  <a:pt x="313" y="335"/>
                </a:lnTo>
                <a:lnTo>
                  <a:pt x="306" y="335"/>
                </a:lnTo>
                <a:lnTo>
                  <a:pt x="288" y="339"/>
                </a:lnTo>
                <a:lnTo>
                  <a:pt x="248" y="354"/>
                </a:lnTo>
                <a:lnTo>
                  <a:pt x="153" y="380"/>
                </a:lnTo>
                <a:lnTo>
                  <a:pt x="94" y="365"/>
                </a:lnTo>
                <a:lnTo>
                  <a:pt x="94" y="361"/>
                </a:lnTo>
                <a:lnTo>
                  <a:pt x="94" y="355"/>
                </a:lnTo>
                <a:lnTo>
                  <a:pt x="94" y="350"/>
                </a:lnTo>
                <a:lnTo>
                  <a:pt x="88" y="336"/>
                </a:lnTo>
                <a:lnTo>
                  <a:pt x="81" y="322"/>
                </a:lnTo>
                <a:lnTo>
                  <a:pt x="65" y="297"/>
                </a:lnTo>
                <a:lnTo>
                  <a:pt x="64" y="292"/>
                </a:lnTo>
                <a:lnTo>
                  <a:pt x="64" y="29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703920" y="2160720"/>
            <a:ext cx="52560" cy="27000"/>
          </a:xfrm>
          <a:custGeom>
            <a:avLst/>
            <a:gdLst/>
            <a:ahLst/>
            <a:rect l="l" t="t" r="r" b="b"/>
            <a:pathLst>
              <a:path w="154" h="89">
                <a:moveTo>
                  <a:pt x="0" y="72"/>
                </a:moveTo>
                <a:lnTo>
                  <a:pt x="11" y="69"/>
                </a:lnTo>
                <a:lnTo>
                  <a:pt x="29" y="63"/>
                </a:lnTo>
                <a:lnTo>
                  <a:pt x="41" y="58"/>
                </a:lnTo>
                <a:lnTo>
                  <a:pt x="48" y="50"/>
                </a:lnTo>
                <a:lnTo>
                  <a:pt x="55" y="37"/>
                </a:lnTo>
                <a:lnTo>
                  <a:pt x="64" y="16"/>
                </a:lnTo>
                <a:lnTo>
                  <a:pt x="70" y="0"/>
                </a:lnTo>
                <a:lnTo>
                  <a:pt x="80" y="2"/>
                </a:lnTo>
                <a:lnTo>
                  <a:pt x="90" y="7"/>
                </a:lnTo>
                <a:lnTo>
                  <a:pt x="100" y="14"/>
                </a:lnTo>
                <a:lnTo>
                  <a:pt x="109" y="23"/>
                </a:lnTo>
                <a:lnTo>
                  <a:pt x="125" y="44"/>
                </a:lnTo>
                <a:lnTo>
                  <a:pt x="147" y="81"/>
                </a:lnTo>
                <a:lnTo>
                  <a:pt x="154" y="87"/>
                </a:lnTo>
                <a:lnTo>
                  <a:pt x="142" y="88"/>
                </a:lnTo>
                <a:lnTo>
                  <a:pt x="118" y="89"/>
                </a:lnTo>
                <a:lnTo>
                  <a:pt x="61" y="88"/>
                </a:lnTo>
                <a:lnTo>
                  <a:pt x="11" y="78"/>
                </a:lnTo>
                <a:lnTo>
                  <a:pt x="0" y="72"/>
                </a:lnTo>
                <a:lnTo>
                  <a:pt x="0" y="7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684840" y="2057400"/>
            <a:ext cx="55800" cy="73080"/>
          </a:xfrm>
          <a:custGeom>
            <a:avLst/>
            <a:gdLst/>
            <a:ahLst/>
            <a:rect l="l" t="t" r="r" b="b"/>
            <a:pathLst>
              <a:path w="162" h="219">
                <a:moveTo>
                  <a:pt x="110" y="0"/>
                </a:moveTo>
                <a:lnTo>
                  <a:pt x="117" y="1"/>
                </a:lnTo>
                <a:lnTo>
                  <a:pt x="129" y="3"/>
                </a:lnTo>
                <a:lnTo>
                  <a:pt x="136" y="4"/>
                </a:lnTo>
                <a:lnTo>
                  <a:pt x="137" y="6"/>
                </a:lnTo>
                <a:lnTo>
                  <a:pt x="139" y="9"/>
                </a:lnTo>
                <a:lnTo>
                  <a:pt x="140" y="12"/>
                </a:lnTo>
                <a:lnTo>
                  <a:pt x="140" y="14"/>
                </a:lnTo>
                <a:lnTo>
                  <a:pt x="142" y="26"/>
                </a:lnTo>
                <a:lnTo>
                  <a:pt x="142" y="32"/>
                </a:lnTo>
                <a:lnTo>
                  <a:pt x="139" y="35"/>
                </a:lnTo>
                <a:lnTo>
                  <a:pt x="135" y="43"/>
                </a:lnTo>
                <a:lnTo>
                  <a:pt x="123" y="67"/>
                </a:lnTo>
                <a:lnTo>
                  <a:pt x="117" y="87"/>
                </a:lnTo>
                <a:lnTo>
                  <a:pt x="117" y="90"/>
                </a:lnTo>
                <a:lnTo>
                  <a:pt x="120" y="93"/>
                </a:lnTo>
                <a:lnTo>
                  <a:pt x="124" y="93"/>
                </a:lnTo>
                <a:lnTo>
                  <a:pt x="135" y="94"/>
                </a:lnTo>
                <a:lnTo>
                  <a:pt x="143" y="93"/>
                </a:lnTo>
                <a:lnTo>
                  <a:pt x="152" y="94"/>
                </a:lnTo>
                <a:lnTo>
                  <a:pt x="158" y="97"/>
                </a:lnTo>
                <a:lnTo>
                  <a:pt x="161" y="103"/>
                </a:lnTo>
                <a:lnTo>
                  <a:pt x="162" y="103"/>
                </a:lnTo>
                <a:lnTo>
                  <a:pt x="162" y="110"/>
                </a:lnTo>
                <a:lnTo>
                  <a:pt x="161" y="129"/>
                </a:lnTo>
                <a:lnTo>
                  <a:pt x="161" y="143"/>
                </a:lnTo>
                <a:lnTo>
                  <a:pt x="162" y="143"/>
                </a:lnTo>
                <a:lnTo>
                  <a:pt x="161" y="149"/>
                </a:lnTo>
                <a:lnTo>
                  <a:pt x="158" y="152"/>
                </a:lnTo>
                <a:lnTo>
                  <a:pt x="155" y="155"/>
                </a:lnTo>
                <a:lnTo>
                  <a:pt x="152" y="158"/>
                </a:lnTo>
                <a:lnTo>
                  <a:pt x="145" y="162"/>
                </a:lnTo>
                <a:lnTo>
                  <a:pt x="136" y="167"/>
                </a:lnTo>
                <a:lnTo>
                  <a:pt x="127" y="171"/>
                </a:lnTo>
                <a:lnTo>
                  <a:pt x="122" y="177"/>
                </a:lnTo>
                <a:lnTo>
                  <a:pt x="122" y="177"/>
                </a:lnTo>
                <a:lnTo>
                  <a:pt x="119" y="180"/>
                </a:lnTo>
                <a:lnTo>
                  <a:pt x="117" y="183"/>
                </a:lnTo>
                <a:lnTo>
                  <a:pt x="114" y="191"/>
                </a:lnTo>
                <a:lnTo>
                  <a:pt x="107" y="210"/>
                </a:lnTo>
                <a:lnTo>
                  <a:pt x="93" y="219"/>
                </a:lnTo>
                <a:lnTo>
                  <a:pt x="87" y="209"/>
                </a:lnTo>
                <a:lnTo>
                  <a:pt x="74" y="190"/>
                </a:lnTo>
                <a:lnTo>
                  <a:pt x="45" y="156"/>
                </a:lnTo>
                <a:lnTo>
                  <a:pt x="10" y="127"/>
                </a:lnTo>
                <a:lnTo>
                  <a:pt x="1" y="120"/>
                </a:lnTo>
                <a:lnTo>
                  <a:pt x="0" y="114"/>
                </a:lnTo>
                <a:lnTo>
                  <a:pt x="1" y="104"/>
                </a:lnTo>
                <a:lnTo>
                  <a:pt x="1" y="97"/>
                </a:lnTo>
                <a:lnTo>
                  <a:pt x="4" y="94"/>
                </a:lnTo>
                <a:lnTo>
                  <a:pt x="10" y="90"/>
                </a:lnTo>
                <a:lnTo>
                  <a:pt x="19" y="84"/>
                </a:lnTo>
                <a:lnTo>
                  <a:pt x="24" y="78"/>
                </a:lnTo>
                <a:lnTo>
                  <a:pt x="36" y="80"/>
                </a:lnTo>
                <a:lnTo>
                  <a:pt x="49" y="81"/>
                </a:lnTo>
                <a:lnTo>
                  <a:pt x="52" y="84"/>
                </a:lnTo>
                <a:lnTo>
                  <a:pt x="49" y="88"/>
                </a:lnTo>
                <a:lnTo>
                  <a:pt x="49" y="91"/>
                </a:lnTo>
                <a:lnTo>
                  <a:pt x="56" y="94"/>
                </a:lnTo>
                <a:lnTo>
                  <a:pt x="65" y="94"/>
                </a:lnTo>
                <a:lnTo>
                  <a:pt x="64" y="88"/>
                </a:lnTo>
                <a:lnTo>
                  <a:pt x="61" y="83"/>
                </a:lnTo>
                <a:lnTo>
                  <a:pt x="53" y="65"/>
                </a:lnTo>
                <a:lnTo>
                  <a:pt x="48" y="48"/>
                </a:lnTo>
                <a:lnTo>
                  <a:pt x="45" y="32"/>
                </a:lnTo>
                <a:lnTo>
                  <a:pt x="46" y="25"/>
                </a:lnTo>
                <a:lnTo>
                  <a:pt x="51" y="20"/>
                </a:lnTo>
                <a:lnTo>
                  <a:pt x="58" y="16"/>
                </a:lnTo>
                <a:lnTo>
                  <a:pt x="68" y="14"/>
                </a:lnTo>
                <a:lnTo>
                  <a:pt x="69" y="14"/>
                </a:lnTo>
                <a:lnTo>
                  <a:pt x="72" y="17"/>
                </a:lnTo>
                <a:lnTo>
                  <a:pt x="75" y="19"/>
                </a:lnTo>
                <a:lnTo>
                  <a:pt x="80" y="20"/>
                </a:lnTo>
                <a:lnTo>
                  <a:pt x="87" y="22"/>
                </a:lnTo>
                <a:lnTo>
                  <a:pt x="94" y="23"/>
                </a:lnTo>
                <a:lnTo>
                  <a:pt x="98" y="26"/>
                </a:lnTo>
                <a:lnTo>
                  <a:pt x="100" y="30"/>
                </a:lnTo>
                <a:lnTo>
                  <a:pt x="98" y="33"/>
                </a:lnTo>
                <a:lnTo>
                  <a:pt x="98" y="30"/>
                </a:lnTo>
                <a:lnTo>
                  <a:pt x="98" y="23"/>
                </a:lnTo>
                <a:lnTo>
                  <a:pt x="100" y="12"/>
                </a:lnTo>
                <a:lnTo>
                  <a:pt x="101" y="7"/>
                </a:lnTo>
                <a:lnTo>
                  <a:pt x="106" y="3"/>
                </a:lnTo>
                <a:lnTo>
                  <a:pt x="110" y="0"/>
                </a:lnTo>
                <a:lnTo>
                  <a:pt x="110" y="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743880" y="2055960"/>
            <a:ext cx="42840" cy="48960"/>
          </a:xfrm>
          <a:custGeom>
            <a:avLst/>
            <a:gdLst/>
            <a:ahLst/>
            <a:rect l="l" t="t" r="r" b="b"/>
            <a:pathLst>
              <a:path w="123" h="152">
                <a:moveTo>
                  <a:pt x="13" y="11"/>
                </a:moveTo>
                <a:lnTo>
                  <a:pt x="20" y="5"/>
                </a:lnTo>
                <a:lnTo>
                  <a:pt x="29" y="3"/>
                </a:lnTo>
                <a:lnTo>
                  <a:pt x="38" y="1"/>
                </a:lnTo>
                <a:lnTo>
                  <a:pt x="45" y="0"/>
                </a:lnTo>
                <a:lnTo>
                  <a:pt x="54" y="1"/>
                </a:lnTo>
                <a:lnTo>
                  <a:pt x="68" y="7"/>
                </a:lnTo>
                <a:lnTo>
                  <a:pt x="78" y="13"/>
                </a:lnTo>
                <a:lnTo>
                  <a:pt x="82" y="16"/>
                </a:lnTo>
                <a:lnTo>
                  <a:pt x="84" y="19"/>
                </a:lnTo>
                <a:lnTo>
                  <a:pt x="84" y="19"/>
                </a:lnTo>
                <a:lnTo>
                  <a:pt x="85" y="20"/>
                </a:lnTo>
                <a:lnTo>
                  <a:pt x="88" y="21"/>
                </a:lnTo>
                <a:lnTo>
                  <a:pt x="96" y="23"/>
                </a:lnTo>
                <a:lnTo>
                  <a:pt x="113" y="27"/>
                </a:lnTo>
                <a:lnTo>
                  <a:pt x="123" y="32"/>
                </a:lnTo>
                <a:lnTo>
                  <a:pt x="123" y="46"/>
                </a:lnTo>
                <a:lnTo>
                  <a:pt x="122" y="62"/>
                </a:lnTo>
                <a:lnTo>
                  <a:pt x="120" y="66"/>
                </a:lnTo>
                <a:lnTo>
                  <a:pt x="116" y="66"/>
                </a:lnTo>
                <a:lnTo>
                  <a:pt x="113" y="66"/>
                </a:lnTo>
                <a:lnTo>
                  <a:pt x="109" y="66"/>
                </a:lnTo>
                <a:lnTo>
                  <a:pt x="107" y="68"/>
                </a:lnTo>
                <a:lnTo>
                  <a:pt x="107" y="74"/>
                </a:lnTo>
                <a:lnTo>
                  <a:pt x="106" y="81"/>
                </a:lnTo>
                <a:lnTo>
                  <a:pt x="107" y="81"/>
                </a:lnTo>
                <a:lnTo>
                  <a:pt x="98" y="82"/>
                </a:lnTo>
                <a:lnTo>
                  <a:pt x="91" y="84"/>
                </a:lnTo>
                <a:lnTo>
                  <a:pt x="84" y="88"/>
                </a:lnTo>
                <a:lnTo>
                  <a:pt x="78" y="92"/>
                </a:lnTo>
                <a:lnTo>
                  <a:pt x="68" y="103"/>
                </a:lnTo>
                <a:lnTo>
                  <a:pt x="61" y="117"/>
                </a:lnTo>
                <a:lnTo>
                  <a:pt x="56" y="134"/>
                </a:lnTo>
                <a:lnTo>
                  <a:pt x="55" y="150"/>
                </a:lnTo>
                <a:lnTo>
                  <a:pt x="56" y="150"/>
                </a:lnTo>
                <a:lnTo>
                  <a:pt x="49" y="152"/>
                </a:lnTo>
                <a:lnTo>
                  <a:pt x="42" y="152"/>
                </a:lnTo>
                <a:lnTo>
                  <a:pt x="36" y="152"/>
                </a:lnTo>
                <a:lnTo>
                  <a:pt x="35" y="152"/>
                </a:lnTo>
                <a:lnTo>
                  <a:pt x="22" y="139"/>
                </a:lnTo>
                <a:lnTo>
                  <a:pt x="6" y="116"/>
                </a:lnTo>
                <a:lnTo>
                  <a:pt x="0" y="97"/>
                </a:lnTo>
                <a:lnTo>
                  <a:pt x="3" y="84"/>
                </a:lnTo>
                <a:lnTo>
                  <a:pt x="7" y="76"/>
                </a:lnTo>
                <a:lnTo>
                  <a:pt x="11" y="72"/>
                </a:lnTo>
                <a:lnTo>
                  <a:pt x="13" y="71"/>
                </a:lnTo>
                <a:lnTo>
                  <a:pt x="13" y="62"/>
                </a:lnTo>
                <a:lnTo>
                  <a:pt x="11" y="34"/>
                </a:lnTo>
                <a:lnTo>
                  <a:pt x="11" y="13"/>
                </a:lnTo>
                <a:lnTo>
                  <a:pt x="13" y="11"/>
                </a:lnTo>
                <a:lnTo>
                  <a:pt x="13" y="1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62680" y="2247840"/>
            <a:ext cx="79560" cy="68400"/>
          </a:xfrm>
          <a:custGeom>
            <a:avLst/>
            <a:gdLst/>
            <a:ahLst/>
            <a:rect l="l" t="t" r="r" b="b"/>
            <a:pathLst>
              <a:path w="230" h="210">
                <a:moveTo>
                  <a:pt x="168" y="85"/>
                </a:moveTo>
                <a:lnTo>
                  <a:pt x="169" y="95"/>
                </a:lnTo>
                <a:lnTo>
                  <a:pt x="174" y="101"/>
                </a:lnTo>
                <a:lnTo>
                  <a:pt x="178" y="105"/>
                </a:lnTo>
                <a:lnTo>
                  <a:pt x="184" y="108"/>
                </a:lnTo>
                <a:lnTo>
                  <a:pt x="190" y="108"/>
                </a:lnTo>
                <a:lnTo>
                  <a:pt x="195" y="108"/>
                </a:lnTo>
                <a:lnTo>
                  <a:pt x="208" y="104"/>
                </a:lnTo>
                <a:lnTo>
                  <a:pt x="220" y="101"/>
                </a:lnTo>
                <a:lnTo>
                  <a:pt x="226" y="100"/>
                </a:lnTo>
                <a:lnTo>
                  <a:pt x="229" y="100"/>
                </a:lnTo>
                <a:lnTo>
                  <a:pt x="230" y="100"/>
                </a:lnTo>
                <a:lnTo>
                  <a:pt x="229" y="113"/>
                </a:lnTo>
                <a:lnTo>
                  <a:pt x="224" y="123"/>
                </a:lnTo>
                <a:lnTo>
                  <a:pt x="218" y="130"/>
                </a:lnTo>
                <a:lnTo>
                  <a:pt x="211" y="136"/>
                </a:lnTo>
                <a:lnTo>
                  <a:pt x="204" y="140"/>
                </a:lnTo>
                <a:lnTo>
                  <a:pt x="194" y="142"/>
                </a:lnTo>
                <a:lnTo>
                  <a:pt x="184" y="142"/>
                </a:lnTo>
                <a:lnTo>
                  <a:pt x="163" y="139"/>
                </a:lnTo>
                <a:lnTo>
                  <a:pt x="146" y="133"/>
                </a:lnTo>
                <a:lnTo>
                  <a:pt x="139" y="127"/>
                </a:lnTo>
                <a:lnTo>
                  <a:pt x="132" y="133"/>
                </a:lnTo>
                <a:lnTo>
                  <a:pt x="119" y="145"/>
                </a:lnTo>
                <a:lnTo>
                  <a:pt x="100" y="174"/>
                </a:lnTo>
                <a:lnTo>
                  <a:pt x="85" y="204"/>
                </a:lnTo>
                <a:lnTo>
                  <a:pt x="84" y="210"/>
                </a:lnTo>
                <a:lnTo>
                  <a:pt x="69" y="210"/>
                </a:lnTo>
                <a:lnTo>
                  <a:pt x="59" y="207"/>
                </a:lnTo>
                <a:lnTo>
                  <a:pt x="53" y="204"/>
                </a:lnTo>
                <a:lnTo>
                  <a:pt x="50" y="198"/>
                </a:lnTo>
                <a:lnTo>
                  <a:pt x="50" y="194"/>
                </a:lnTo>
                <a:lnTo>
                  <a:pt x="49" y="189"/>
                </a:lnTo>
                <a:lnTo>
                  <a:pt x="49" y="185"/>
                </a:lnTo>
                <a:lnTo>
                  <a:pt x="46" y="181"/>
                </a:lnTo>
                <a:lnTo>
                  <a:pt x="42" y="179"/>
                </a:lnTo>
                <a:lnTo>
                  <a:pt x="33" y="179"/>
                </a:lnTo>
                <a:lnTo>
                  <a:pt x="20" y="181"/>
                </a:lnTo>
                <a:lnTo>
                  <a:pt x="1" y="184"/>
                </a:lnTo>
                <a:lnTo>
                  <a:pt x="1" y="184"/>
                </a:lnTo>
                <a:lnTo>
                  <a:pt x="0" y="174"/>
                </a:lnTo>
                <a:lnTo>
                  <a:pt x="0" y="160"/>
                </a:lnTo>
                <a:lnTo>
                  <a:pt x="3" y="129"/>
                </a:lnTo>
                <a:lnTo>
                  <a:pt x="11" y="56"/>
                </a:lnTo>
                <a:lnTo>
                  <a:pt x="10" y="0"/>
                </a:lnTo>
                <a:lnTo>
                  <a:pt x="11" y="0"/>
                </a:lnTo>
                <a:lnTo>
                  <a:pt x="14" y="0"/>
                </a:lnTo>
                <a:lnTo>
                  <a:pt x="23" y="3"/>
                </a:lnTo>
                <a:lnTo>
                  <a:pt x="52" y="11"/>
                </a:lnTo>
                <a:lnTo>
                  <a:pt x="123" y="43"/>
                </a:lnTo>
                <a:lnTo>
                  <a:pt x="168" y="85"/>
                </a:lnTo>
                <a:lnTo>
                  <a:pt x="168" y="85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99400" y="2298600"/>
            <a:ext cx="29880" cy="34920"/>
          </a:xfrm>
          <a:custGeom>
            <a:avLst/>
            <a:gdLst/>
            <a:ahLst/>
            <a:rect l="l" t="t" r="r" b="b"/>
            <a:pathLst>
              <a:path w="90" h="101">
                <a:moveTo>
                  <a:pt x="40" y="101"/>
                </a:moveTo>
                <a:lnTo>
                  <a:pt x="22" y="100"/>
                </a:lnTo>
                <a:lnTo>
                  <a:pt x="10" y="97"/>
                </a:lnTo>
                <a:lnTo>
                  <a:pt x="3" y="94"/>
                </a:lnTo>
                <a:lnTo>
                  <a:pt x="1" y="93"/>
                </a:lnTo>
                <a:lnTo>
                  <a:pt x="0" y="90"/>
                </a:lnTo>
                <a:lnTo>
                  <a:pt x="0" y="87"/>
                </a:lnTo>
                <a:lnTo>
                  <a:pt x="0" y="84"/>
                </a:lnTo>
                <a:lnTo>
                  <a:pt x="1" y="81"/>
                </a:lnTo>
                <a:lnTo>
                  <a:pt x="4" y="75"/>
                </a:lnTo>
                <a:lnTo>
                  <a:pt x="9" y="68"/>
                </a:lnTo>
                <a:lnTo>
                  <a:pt x="20" y="49"/>
                </a:lnTo>
                <a:lnTo>
                  <a:pt x="26" y="27"/>
                </a:lnTo>
                <a:lnTo>
                  <a:pt x="27" y="20"/>
                </a:lnTo>
                <a:lnTo>
                  <a:pt x="30" y="20"/>
                </a:lnTo>
                <a:lnTo>
                  <a:pt x="35" y="17"/>
                </a:lnTo>
                <a:lnTo>
                  <a:pt x="38" y="14"/>
                </a:lnTo>
                <a:lnTo>
                  <a:pt x="46" y="7"/>
                </a:lnTo>
                <a:lnTo>
                  <a:pt x="54" y="1"/>
                </a:lnTo>
                <a:lnTo>
                  <a:pt x="59" y="0"/>
                </a:lnTo>
                <a:lnTo>
                  <a:pt x="65" y="0"/>
                </a:lnTo>
                <a:lnTo>
                  <a:pt x="72" y="3"/>
                </a:lnTo>
                <a:lnTo>
                  <a:pt x="80" y="9"/>
                </a:lnTo>
                <a:lnTo>
                  <a:pt x="88" y="16"/>
                </a:lnTo>
                <a:lnTo>
                  <a:pt x="90" y="16"/>
                </a:lnTo>
                <a:lnTo>
                  <a:pt x="88" y="26"/>
                </a:lnTo>
                <a:lnTo>
                  <a:pt x="84" y="42"/>
                </a:lnTo>
                <a:lnTo>
                  <a:pt x="77" y="55"/>
                </a:lnTo>
                <a:lnTo>
                  <a:pt x="67" y="67"/>
                </a:lnTo>
                <a:lnTo>
                  <a:pt x="45" y="94"/>
                </a:lnTo>
                <a:lnTo>
                  <a:pt x="40" y="101"/>
                </a:lnTo>
                <a:lnTo>
                  <a:pt x="40" y="10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50160" y="2306520"/>
            <a:ext cx="14040" cy="23760"/>
          </a:xfrm>
          <a:custGeom>
            <a:avLst/>
            <a:gdLst/>
            <a:ahLst/>
            <a:rect l="l" t="t" r="r" b="b"/>
            <a:pathLst>
              <a:path w="39" h="77">
                <a:moveTo>
                  <a:pt x="34" y="77"/>
                </a:moveTo>
                <a:lnTo>
                  <a:pt x="27" y="74"/>
                </a:lnTo>
                <a:lnTo>
                  <a:pt x="16" y="67"/>
                </a:lnTo>
                <a:lnTo>
                  <a:pt x="6" y="57"/>
                </a:lnTo>
                <a:lnTo>
                  <a:pt x="0" y="45"/>
                </a:lnTo>
                <a:lnTo>
                  <a:pt x="0" y="32"/>
                </a:lnTo>
                <a:lnTo>
                  <a:pt x="8" y="18"/>
                </a:lnTo>
                <a:lnTo>
                  <a:pt x="16" y="9"/>
                </a:lnTo>
                <a:lnTo>
                  <a:pt x="17" y="9"/>
                </a:lnTo>
                <a:lnTo>
                  <a:pt x="19" y="9"/>
                </a:lnTo>
                <a:lnTo>
                  <a:pt x="21" y="7"/>
                </a:lnTo>
                <a:lnTo>
                  <a:pt x="23" y="5"/>
                </a:lnTo>
                <a:lnTo>
                  <a:pt x="24" y="2"/>
                </a:lnTo>
                <a:lnTo>
                  <a:pt x="27" y="0"/>
                </a:lnTo>
                <a:lnTo>
                  <a:pt x="32" y="7"/>
                </a:lnTo>
                <a:lnTo>
                  <a:pt x="34" y="13"/>
                </a:lnTo>
                <a:lnTo>
                  <a:pt x="37" y="19"/>
                </a:lnTo>
                <a:lnTo>
                  <a:pt x="39" y="32"/>
                </a:lnTo>
                <a:lnTo>
                  <a:pt x="37" y="47"/>
                </a:lnTo>
                <a:lnTo>
                  <a:pt x="34" y="71"/>
                </a:lnTo>
                <a:lnTo>
                  <a:pt x="34" y="77"/>
                </a:lnTo>
                <a:lnTo>
                  <a:pt x="34" y="77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931080" y="2160720"/>
            <a:ext cx="22320" cy="28440"/>
          </a:xfrm>
          <a:custGeom>
            <a:avLst/>
            <a:gdLst/>
            <a:ahLst/>
            <a:rect l="l" t="t" r="r" b="b"/>
            <a:pathLst>
              <a:path w="63" h="90">
                <a:moveTo>
                  <a:pt x="56" y="12"/>
                </a:moveTo>
                <a:lnTo>
                  <a:pt x="56" y="18"/>
                </a:lnTo>
                <a:lnTo>
                  <a:pt x="56" y="26"/>
                </a:lnTo>
                <a:lnTo>
                  <a:pt x="61" y="38"/>
                </a:lnTo>
                <a:lnTo>
                  <a:pt x="62" y="60"/>
                </a:lnTo>
                <a:lnTo>
                  <a:pt x="63" y="67"/>
                </a:lnTo>
                <a:lnTo>
                  <a:pt x="62" y="68"/>
                </a:lnTo>
                <a:lnTo>
                  <a:pt x="56" y="71"/>
                </a:lnTo>
                <a:lnTo>
                  <a:pt x="34" y="82"/>
                </a:lnTo>
                <a:lnTo>
                  <a:pt x="17" y="90"/>
                </a:lnTo>
                <a:lnTo>
                  <a:pt x="17" y="90"/>
                </a:lnTo>
                <a:lnTo>
                  <a:pt x="10" y="84"/>
                </a:lnTo>
                <a:lnTo>
                  <a:pt x="3" y="68"/>
                </a:lnTo>
                <a:lnTo>
                  <a:pt x="0" y="54"/>
                </a:lnTo>
                <a:lnTo>
                  <a:pt x="1" y="38"/>
                </a:lnTo>
                <a:lnTo>
                  <a:pt x="5" y="24"/>
                </a:lnTo>
                <a:lnTo>
                  <a:pt x="13" y="8"/>
                </a:lnTo>
                <a:lnTo>
                  <a:pt x="17" y="0"/>
                </a:lnTo>
                <a:lnTo>
                  <a:pt x="21" y="2"/>
                </a:lnTo>
                <a:lnTo>
                  <a:pt x="30" y="2"/>
                </a:lnTo>
                <a:lnTo>
                  <a:pt x="39" y="5"/>
                </a:lnTo>
                <a:lnTo>
                  <a:pt x="50" y="11"/>
                </a:lnTo>
                <a:lnTo>
                  <a:pt x="56" y="12"/>
                </a:lnTo>
                <a:lnTo>
                  <a:pt x="56" y="1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796080" y="2055960"/>
            <a:ext cx="320760" cy="220680"/>
          </a:xfrm>
          <a:custGeom>
            <a:avLst/>
            <a:gdLst/>
            <a:ahLst/>
            <a:rect l="l" t="t" r="r" b="b"/>
            <a:pathLst>
              <a:path w="933" h="680">
                <a:moveTo>
                  <a:pt x="120" y="3"/>
                </a:moveTo>
                <a:lnTo>
                  <a:pt x="118" y="5"/>
                </a:lnTo>
                <a:lnTo>
                  <a:pt x="121" y="9"/>
                </a:lnTo>
                <a:lnTo>
                  <a:pt x="127" y="15"/>
                </a:lnTo>
                <a:lnTo>
                  <a:pt x="149" y="31"/>
                </a:lnTo>
                <a:lnTo>
                  <a:pt x="201" y="64"/>
                </a:lnTo>
                <a:lnTo>
                  <a:pt x="221" y="76"/>
                </a:lnTo>
                <a:lnTo>
                  <a:pt x="220" y="80"/>
                </a:lnTo>
                <a:lnTo>
                  <a:pt x="218" y="89"/>
                </a:lnTo>
                <a:lnTo>
                  <a:pt x="217" y="94"/>
                </a:lnTo>
                <a:lnTo>
                  <a:pt x="217" y="96"/>
                </a:lnTo>
                <a:lnTo>
                  <a:pt x="218" y="94"/>
                </a:lnTo>
                <a:lnTo>
                  <a:pt x="226" y="87"/>
                </a:lnTo>
                <a:lnTo>
                  <a:pt x="233" y="80"/>
                </a:lnTo>
                <a:lnTo>
                  <a:pt x="237" y="81"/>
                </a:lnTo>
                <a:lnTo>
                  <a:pt x="246" y="83"/>
                </a:lnTo>
                <a:lnTo>
                  <a:pt x="255" y="87"/>
                </a:lnTo>
                <a:lnTo>
                  <a:pt x="266" y="94"/>
                </a:lnTo>
                <a:lnTo>
                  <a:pt x="275" y="96"/>
                </a:lnTo>
                <a:lnTo>
                  <a:pt x="275" y="90"/>
                </a:lnTo>
                <a:lnTo>
                  <a:pt x="275" y="78"/>
                </a:lnTo>
                <a:lnTo>
                  <a:pt x="281" y="54"/>
                </a:lnTo>
                <a:lnTo>
                  <a:pt x="291" y="34"/>
                </a:lnTo>
                <a:lnTo>
                  <a:pt x="295" y="29"/>
                </a:lnTo>
                <a:lnTo>
                  <a:pt x="302" y="34"/>
                </a:lnTo>
                <a:lnTo>
                  <a:pt x="317" y="41"/>
                </a:lnTo>
                <a:lnTo>
                  <a:pt x="340" y="58"/>
                </a:lnTo>
                <a:lnTo>
                  <a:pt x="347" y="68"/>
                </a:lnTo>
                <a:lnTo>
                  <a:pt x="352" y="81"/>
                </a:lnTo>
                <a:lnTo>
                  <a:pt x="353" y="87"/>
                </a:lnTo>
                <a:lnTo>
                  <a:pt x="355" y="86"/>
                </a:lnTo>
                <a:lnTo>
                  <a:pt x="359" y="81"/>
                </a:lnTo>
                <a:lnTo>
                  <a:pt x="362" y="77"/>
                </a:lnTo>
                <a:lnTo>
                  <a:pt x="363" y="76"/>
                </a:lnTo>
                <a:lnTo>
                  <a:pt x="366" y="76"/>
                </a:lnTo>
                <a:lnTo>
                  <a:pt x="379" y="76"/>
                </a:lnTo>
                <a:lnTo>
                  <a:pt x="389" y="76"/>
                </a:lnTo>
                <a:lnTo>
                  <a:pt x="391" y="76"/>
                </a:lnTo>
                <a:lnTo>
                  <a:pt x="391" y="77"/>
                </a:lnTo>
                <a:lnTo>
                  <a:pt x="394" y="84"/>
                </a:lnTo>
                <a:lnTo>
                  <a:pt x="402" y="107"/>
                </a:lnTo>
                <a:lnTo>
                  <a:pt x="408" y="126"/>
                </a:lnTo>
                <a:lnTo>
                  <a:pt x="410" y="126"/>
                </a:lnTo>
                <a:lnTo>
                  <a:pt x="410" y="119"/>
                </a:lnTo>
                <a:lnTo>
                  <a:pt x="410" y="107"/>
                </a:lnTo>
                <a:lnTo>
                  <a:pt x="412" y="86"/>
                </a:lnTo>
                <a:lnTo>
                  <a:pt x="421" y="68"/>
                </a:lnTo>
                <a:lnTo>
                  <a:pt x="426" y="64"/>
                </a:lnTo>
                <a:lnTo>
                  <a:pt x="428" y="67"/>
                </a:lnTo>
                <a:lnTo>
                  <a:pt x="434" y="70"/>
                </a:lnTo>
                <a:lnTo>
                  <a:pt x="447" y="78"/>
                </a:lnTo>
                <a:lnTo>
                  <a:pt x="457" y="86"/>
                </a:lnTo>
                <a:lnTo>
                  <a:pt x="460" y="87"/>
                </a:lnTo>
                <a:lnTo>
                  <a:pt x="459" y="89"/>
                </a:lnTo>
                <a:lnTo>
                  <a:pt x="456" y="96"/>
                </a:lnTo>
                <a:lnTo>
                  <a:pt x="443" y="119"/>
                </a:lnTo>
                <a:lnTo>
                  <a:pt x="433" y="136"/>
                </a:lnTo>
                <a:lnTo>
                  <a:pt x="433" y="136"/>
                </a:lnTo>
                <a:lnTo>
                  <a:pt x="439" y="132"/>
                </a:lnTo>
                <a:lnTo>
                  <a:pt x="459" y="116"/>
                </a:lnTo>
                <a:lnTo>
                  <a:pt x="475" y="103"/>
                </a:lnTo>
                <a:lnTo>
                  <a:pt x="476" y="102"/>
                </a:lnTo>
                <a:lnTo>
                  <a:pt x="475" y="103"/>
                </a:lnTo>
                <a:lnTo>
                  <a:pt x="473" y="105"/>
                </a:lnTo>
                <a:lnTo>
                  <a:pt x="470" y="107"/>
                </a:lnTo>
                <a:lnTo>
                  <a:pt x="466" y="115"/>
                </a:lnTo>
                <a:lnTo>
                  <a:pt x="460" y="136"/>
                </a:lnTo>
                <a:lnTo>
                  <a:pt x="463" y="154"/>
                </a:lnTo>
                <a:lnTo>
                  <a:pt x="466" y="152"/>
                </a:lnTo>
                <a:lnTo>
                  <a:pt x="478" y="142"/>
                </a:lnTo>
                <a:lnTo>
                  <a:pt x="512" y="116"/>
                </a:lnTo>
                <a:lnTo>
                  <a:pt x="530" y="106"/>
                </a:lnTo>
                <a:lnTo>
                  <a:pt x="536" y="103"/>
                </a:lnTo>
                <a:lnTo>
                  <a:pt x="541" y="103"/>
                </a:lnTo>
                <a:lnTo>
                  <a:pt x="544" y="103"/>
                </a:lnTo>
                <a:lnTo>
                  <a:pt x="546" y="103"/>
                </a:lnTo>
                <a:lnTo>
                  <a:pt x="544" y="110"/>
                </a:lnTo>
                <a:lnTo>
                  <a:pt x="544" y="122"/>
                </a:lnTo>
                <a:lnTo>
                  <a:pt x="540" y="144"/>
                </a:lnTo>
                <a:lnTo>
                  <a:pt x="536" y="154"/>
                </a:lnTo>
                <a:lnTo>
                  <a:pt x="530" y="161"/>
                </a:lnTo>
                <a:lnTo>
                  <a:pt x="526" y="164"/>
                </a:lnTo>
                <a:lnTo>
                  <a:pt x="530" y="163"/>
                </a:lnTo>
                <a:lnTo>
                  <a:pt x="540" y="155"/>
                </a:lnTo>
                <a:lnTo>
                  <a:pt x="550" y="145"/>
                </a:lnTo>
                <a:lnTo>
                  <a:pt x="566" y="123"/>
                </a:lnTo>
                <a:lnTo>
                  <a:pt x="576" y="107"/>
                </a:lnTo>
                <a:lnTo>
                  <a:pt x="581" y="109"/>
                </a:lnTo>
                <a:lnTo>
                  <a:pt x="585" y="110"/>
                </a:lnTo>
                <a:lnTo>
                  <a:pt x="589" y="112"/>
                </a:lnTo>
                <a:lnTo>
                  <a:pt x="594" y="115"/>
                </a:lnTo>
                <a:lnTo>
                  <a:pt x="595" y="118"/>
                </a:lnTo>
                <a:lnTo>
                  <a:pt x="598" y="122"/>
                </a:lnTo>
                <a:lnTo>
                  <a:pt x="601" y="131"/>
                </a:lnTo>
                <a:lnTo>
                  <a:pt x="602" y="139"/>
                </a:lnTo>
                <a:lnTo>
                  <a:pt x="602" y="149"/>
                </a:lnTo>
                <a:lnTo>
                  <a:pt x="604" y="149"/>
                </a:lnTo>
                <a:lnTo>
                  <a:pt x="601" y="152"/>
                </a:lnTo>
                <a:lnTo>
                  <a:pt x="595" y="158"/>
                </a:lnTo>
                <a:lnTo>
                  <a:pt x="583" y="168"/>
                </a:lnTo>
                <a:lnTo>
                  <a:pt x="570" y="173"/>
                </a:lnTo>
                <a:lnTo>
                  <a:pt x="566" y="173"/>
                </a:lnTo>
                <a:lnTo>
                  <a:pt x="570" y="174"/>
                </a:lnTo>
                <a:lnTo>
                  <a:pt x="581" y="174"/>
                </a:lnTo>
                <a:lnTo>
                  <a:pt x="596" y="178"/>
                </a:lnTo>
                <a:lnTo>
                  <a:pt x="611" y="189"/>
                </a:lnTo>
                <a:lnTo>
                  <a:pt x="615" y="192"/>
                </a:lnTo>
                <a:lnTo>
                  <a:pt x="612" y="194"/>
                </a:lnTo>
                <a:lnTo>
                  <a:pt x="608" y="199"/>
                </a:lnTo>
                <a:lnTo>
                  <a:pt x="598" y="209"/>
                </a:lnTo>
                <a:lnTo>
                  <a:pt x="586" y="216"/>
                </a:lnTo>
                <a:lnTo>
                  <a:pt x="585" y="216"/>
                </a:lnTo>
                <a:lnTo>
                  <a:pt x="608" y="222"/>
                </a:lnTo>
                <a:lnTo>
                  <a:pt x="657" y="232"/>
                </a:lnTo>
                <a:lnTo>
                  <a:pt x="757" y="248"/>
                </a:lnTo>
                <a:lnTo>
                  <a:pt x="860" y="254"/>
                </a:lnTo>
                <a:lnTo>
                  <a:pt x="886" y="254"/>
                </a:lnTo>
                <a:lnTo>
                  <a:pt x="872" y="280"/>
                </a:lnTo>
                <a:lnTo>
                  <a:pt x="859" y="315"/>
                </a:lnTo>
                <a:lnTo>
                  <a:pt x="857" y="328"/>
                </a:lnTo>
                <a:lnTo>
                  <a:pt x="859" y="336"/>
                </a:lnTo>
                <a:lnTo>
                  <a:pt x="862" y="344"/>
                </a:lnTo>
                <a:lnTo>
                  <a:pt x="866" y="349"/>
                </a:lnTo>
                <a:lnTo>
                  <a:pt x="872" y="355"/>
                </a:lnTo>
                <a:lnTo>
                  <a:pt x="882" y="370"/>
                </a:lnTo>
                <a:lnTo>
                  <a:pt x="885" y="393"/>
                </a:lnTo>
                <a:lnTo>
                  <a:pt x="886" y="393"/>
                </a:lnTo>
                <a:lnTo>
                  <a:pt x="878" y="393"/>
                </a:lnTo>
                <a:lnTo>
                  <a:pt x="859" y="393"/>
                </a:lnTo>
                <a:lnTo>
                  <a:pt x="818" y="391"/>
                </a:lnTo>
                <a:lnTo>
                  <a:pt x="780" y="384"/>
                </a:lnTo>
                <a:lnTo>
                  <a:pt x="775" y="381"/>
                </a:lnTo>
                <a:lnTo>
                  <a:pt x="770" y="381"/>
                </a:lnTo>
                <a:lnTo>
                  <a:pt x="762" y="376"/>
                </a:lnTo>
                <a:lnTo>
                  <a:pt x="754" y="370"/>
                </a:lnTo>
                <a:lnTo>
                  <a:pt x="738" y="355"/>
                </a:lnTo>
                <a:lnTo>
                  <a:pt x="727" y="347"/>
                </a:lnTo>
                <a:lnTo>
                  <a:pt x="721" y="352"/>
                </a:lnTo>
                <a:lnTo>
                  <a:pt x="717" y="364"/>
                </a:lnTo>
                <a:lnTo>
                  <a:pt x="715" y="376"/>
                </a:lnTo>
                <a:lnTo>
                  <a:pt x="718" y="387"/>
                </a:lnTo>
                <a:lnTo>
                  <a:pt x="723" y="413"/>
                </a:lnTo>
                <a:lnTo>
                  <a:pt x="724" y="420"/>
                </a:lnTo>
                <a:lnTo>
                  <a:pt x="736" y="422"/>
                </a:lnTo>
                <a:lnTo>
                  <a:pt x="754" y="426"/>
                </a:lnTo>
                <a:lnTo>
                  <a:pt x="807" y="439"/>
                </a:lnTo>
                <a:lnTo>
                  <a:pt x="865" y="462"/>
                </a:lnTo>
                <a:lnTo>
                  <a:pt x="912" y="494"/>
                </a:lnTo>
                <a:lnTo>
                  <a:pt x="927" y="512"/>
                </a:lnTo>
                <a:lnTo>
                  <a:pt x="933" y="532"/>
                </a:lnTo>
                <a:lnTo>
                  <a:pt x="927" y="555"/>
                </a:lnTo>
                <a:lnTo>
                  <a:pt x="909" y="578"/>
                </a:lnTo>
                <a:lnTo>
                  <a:pt x="909" y="578"/>
                </a:lnTo>
                <a:lnTo>
                  <a:pt x="901" y="578"/>
                </a:lnTo>
                <a:lnTo>
                  <a:pt x="883" y="575"/>
                </a:lnTo>
                <a:lnTo>
                  <a:pt x="841" y="564"/>
                </a:lnTo>
                <a:lnTo>
                  <a:pt x="821" y="561"/>
                </a:lnTo>
                <a:lnTo>
                  <a:pt x="804" y="562"/>
                </a:lnTo>
                <a:lnTo>
                  <a:pt x="798" y="564"/>
                </a:lnTo>
                <a:lnTo>
                  <a:pt x="795" y="565"/>
                </a:lnTo>
                <a:lnTo>
                  <a:pt x="794" y="567"/>
                </a:lnTo>
                <a:lnTo>
                  <a:pt x="794" y="570"/>
                </a:lnTo>
                <a:lnTo>
                  <a:pt x="794" y="573"/>
                </a:lnTo>
                <a:lnTo>
                  <a:pt x="794" y="574"/>
                </a:lnTo>
                <a:lnTo>
                  <a:pt x="794" y="574"/>
                </a:lnTo>
                <a:lnTo>
                  <a:pt x="805" y="577"/>
                </a:lnTo>
                <a:lnTo>
                  <a:pt x="833" y="581"/>
                </a:lnTo>
                <a:lnTo>
                  <a:pt x="892" y="599"/>
                </a:lnTo>
                <a:lnTo>
                  <a:pt x="914" y="616"/>
                </a:lnTo>
                <a:lnTo>
                  <a:pt x="920" y="628"/>
                </a:lnTo>
                <a:lnTo>
                  <a:pt x="922" y="641"/>
                </a:lnTo>
                <a:lnTo>
                  <a:pt x="921" y="657"/>
                </a:lnTo>
                <a:lnTo>
                  <a:pt x="921" y="657"/>
                </a:lnTo>
                <a:lnTo>
                  <a:pt x="909" y="657"/>
                </a:lnTo>
                <a:lnTo>
                  <a:pt x="882" y="654"/>
                </a:lnTo>
                <a:lnTo>
                  <a:pt x="818" y="654"/>
                </a:lnTo>
                <a:lnTo>
                  <a:pt x="788" y="660"/>
                </a:lnTo>
                <a:lnTo>
                  <a:pt x="762" y="671"/>
                </a:lnTo>
                <a:lnTo>
                  <a:pt x="752" y="680"/>
                </a:lnTo>
                <a:lnTo>
                  <a:pt x="737" y="670"/>
                </a:lnTo>
                <a:lnTo>
                  <a:pt x="712" y="645"/>
                </a:lnTo>
                <a:lnTo>
                  <a:pt x="688" y="616"/>
                </a:lnTo>
                <a:lnTo>
                  <a:pt x="631" y="567"/>
                </a:lnTo>
                <a:lnTo>
                  <a:pt x="569" y="551"/>
                </a:lnTo>
                <a:lnTo>
                  <a:pt x="560" y="558"/>
                </a:lnTo>
                <a:lnTo>
                  <a:pt x="547" y="571"/>
                </a:lnTo>
                <a:lnTo>
                  <a:pt x="521" y="596"/>
                </a:lnTo>
                <a:lnTo>
                  <a:pt x="495" y="622"/>
                </a:lnTo>
                <a:lnTo>
                  <a:pt x="488" y="629"/>
                </a:lnTo>
                <a:lnTo>
                  <a:pt x="481" y="626"/>
                </a:lnTo>
                <a:lnTo>
                  <a:pt x="472" y="622"/>
                </a:lnTo>
                <a:lnTo>
                  <a:pt x="465" y="618"/>
                </a:lnTo>
                <a:lnTo>
                  <a:pt x="460" y="613"/>
                </a:lnTo>
                <a:lnTo>
                  <a:pt x="457" y="607"/>
                </a:lnTo>
                <a:lnTo>
                  <a:pt x="455" y="597"/>
                </a:lnTo>
                <a:lnTo>
                  <a:pt x="453" y="590"/>
                </a:lnTo>
                <a:lnTo>
                  <a:pt x="456" y="581"/>
                </a:lnTo>
                <a:lnTo>
                  <a:pt x="462" y="571"/>
                </a:lnTo>
                <a:lnTo>
                  <a:pt x="478" y="555"/>
                </a:lnTo>
                <a:lnTo>
                  <a:pt x="498" y="541"/>
                </a:lnTo>
                <a:lnTo>
                  <a:pt x="541" y="520"/>
                </a:lnTo>
                <a:lnTo>
                  <a:pt x="562" y="513"/>
                </a:lnTo>
                <a:lnTo>
                  <a:pt x="566" y="513"/>
                </a:lnTo>
                <a:lnTo>
                  <a:pt x="573" y="510"/>
                </a:lnTo>
                <a:lnTo>
                  <a:pt x="579" y="506"/>
                </a:lnTo>
                <a:lnTo>
                  <a:pt x="582" y="500"/>
                </a:lnTo>
                <a:lnTo>
                  <a:pt x="583" y="494"/>
                </a:lnTo>
                <a:lnTo>
                  <a:pt x="583" y="487"/>
                </a:lnTo>
                <a:lnTo>
                  <a:pt x="585" y="483"/>
                </a:lnTo>
                <a:lnTo>
                  <a:pt x="579" y="481"/>
                </a:lnTo>
                <a:lnTo>
                  <a:pt x="570" y="476"/>
                </a:lnTo>
                <a:lnTo>
                  <a:pt x="554" y="460"/>
                </a:lnTo>
                <a:lnTo>
                  <a:pt x="546" y="439"/>
                </a:lnTo>
                <a:lnTo>
                  <a:pt x="546" y="432"/>
                </a:lnTo>
                <a:lnTo>
                  <a:pt x="549" y="429"/>
                </a:lnTo>
                <a:lnTo>
                  <a:pt x="554" y="422"/>
                </a:lnTo>
                <a:lnTo>
                  <a:pt x="569" y="410"/>
                </a:lnTo>
                <a:lnTo>
                  <a:pt x="592" y="406"/>
                </a:lnTo>
                <a:lnTo>
                  <a:pt x="601" y="405"/>
                </a:lnTo>
                <a:lnTo>
                  <a:pt x="605" y="410"/>
                </a:lnTo>
                <a:lnTo>
                  <a:pt x="617" y="418"/>
                </a:lnTo>
                <a:lnTo>
                  <a:pt x="628" y="420"/>
                </a:lnTo>
                <a:lnTo>
                  <a:pt x="639" y="422"/>
                </a:lnTo>
                <a:lnTo>
                  <a:pt x="650" y="422"/>
                </a:lnTo>
                <a:lnTo>
                  <a:pt x="662" y="422"/>
                </a:lnTo>
                <a:lnTo>
                  <a:pt x="669" y="420"/>
                </a:lnTo>
                <a:lnTo>
                  <a:pt x="672" y="418"/>
                </a:lnTo>
                <a:lnTo>
                  <a:pt x="675" y="410"/>
                </a:lnTo>
                <a:lnTo>
                  <a:pt x="678" y="403"/>
                </a:lnTo>
                <a:lnTo>
                  <a:pt x="678" y="396"/>
                </a:lnTo>
                <a:lnTo>
                  <a:pt x="678" y="381"/>
                </a:lnTo>
                <a:lnTo>
                  <a:pt x="678" y="377"/>
                </a:lnTo>
                <a:lnTo>
                  <a:pt x="670" y="378"/>
                </a:lnTo>
                <a:lnTo>
                  <a:pt x="657" y="378"/>
                </a:lnTo>
                <a:lnTo>
                  <a:pt x="631" y="381"/>
                </a:lnTo>
                <a:lnTo>
                  <a:pt x="607" y="386"/>
                </a:lnTo>
                <a:lnTo>
                  <a:pt x="601" y="386"/>
                </a:lnTo>
                <a:lnTo>
                  <a:pt x="594" y="387"/>
                </a:lnTo>
                <a:lnTo>
                  <a:pt x="579" y="389"/>
                </a:lnTo>
                <a:lnTo>
                  <a:pt x="546" y="384"/>
                </a:lnTo>
                <a:lnTo>
                  <a:pt x="520" y="374"/>
                </a:lnTo>
                <a:lnTo>
                  <a:pt x="515" y="370"/>
                </a:lnTo>
                <a:lnTo>
                  <a:pt x="514" y="364"/>
                </a:lnTo>
                <a:lnTo>
                  <a:pt x="511" y="357"/>
                </a:lnTo>
                <a:lnTo>
                  <a:pt x="504" y="342"/>
                </a:lnTo>
                <a:lnTo>
                  <a:pt x="495" y="328"/>
                </a:lnTo>
                <a:lnTo>
                  <a:pt x="478" y="305"/>
                </a:lnTo>
                <a:lnTo>
                  <a:pt x="476" y="297"/>
                </a:lnTo>
                <a:lnTo>
                  <a:pt x="468" y="294"/>
                </a:lnTo>
                <a:lnTo>
                  <a:pt x="460" y="291"/>
                </a:lnTo>
                <a:lnTo>
                  <a:pt x="444" y="280"/>
                </a:lnTo>
                <a:lnTo>
                  <a:pt x="428" y="270"/>
                </a:lnTo>
                <a:lnTo>
                  <a:pt x="412" y="264"/>
                </a:lnTo>
                <a:lnTo>
                  <a:pt x="395" y="265"/>
                </a:lnTo>
                <a:lnTo>
                  <a:pt x="376" y="277"/>
                </a:lnTo>
                <a:lnTo>
                  <a:pt x="376" y="277"/>
                </a:lnTo>
                <a:lnTo>
                  <a:pt x="376" y="263"/>
                </a:lnTo>
                <a:lnTo>
                  <a:pt x="375" y="238"/>
                </a:lnTo>
                <a:lnTo>
                  <a:pt x="369" y="222"/>
                </a:lnTo>
                <a:lnTo>
                  <a:pt x="357" y="209"/>
                </a:lnTo>
                <a:lnTo>
                  <a:pt x="339" y="196"/>
                </a:lnTo>
                <a:lnTo>
                  <a:pt x="315" y="181"/>
                </a:lnTo>
                <a:lnTo>
                  <a:pt x="302" y="173"/>
                </a:lnTo>
                <a:lnTo>
                  <a:pt x="301" y="174"/>
                </a:lnTo>
                <a:lnTo>
                  <a:pt x="298" y="178"/>
                </a:lnTo>
                <a:lnTo>
                  <a:pt x="294" y="189"/>
                </a:lnTo>
                <a:lnTo>
                  <a:pt x="291" y="199"/>
                </a:lnTo>
                <a:lnTo>
                  <a:pt x="291" y="200"/>
                </a:lnTo>
                <a:lnTo>
                  <a:pt x="294" y="205"/>
                </a:lnTo>
                <a:lnTo>
                  <a:pt x="299" y="210"/>
                </a:lnTo>
                <a:lnTo>
                  <a:pt x="311" y="228"/>
                </a:lnTo>
                <a:lnTo>
                  <a:pt x="317" y="245"/>
                </a:lnTo>
                <a:lnTo>
                  <a:pt x="318" y="249"/>
                </a:lnTo>
                <a:lnTo>
                  <a:pt x="301" y="241"/>
                </a:lnTo>
                <a:lnTo>
                  <a:pt x="271" y="228"/>
                </a:lnTo>
                <a:lnTo>
                  <a:pt x="246" y="223"/>
                </a:lnTo>
                <a:lnTo>
                  <a:pt x="224" y="228"/>
                </a:lnTo>
                <a:lnTo>
                  <a:pt x="202" y="241"/>
                </a:lnTo>
                <a:lnTo>
                  <a:pt x="179" y="261"/>
                </a:lnTo>
                <a:lnTo>
                  <a:pt x="168" y="274"/>
                </a:lnTo>
                <a:lnTo>
                  <a:pt x="150" y="274"/>
                </a:lnTo>
                <a:lnTo>
                  <a:pt x="124" y="273"/>
                </a:lnTo>
                <a:lnTo>
                  <a:pt x="81" y="258"/>
                </a:lnTo>
                <a:lnTo>
                  <a:pt x="39" y="225"/>
                </a:lnTo>
                <a:lnTo>
                  <a:pt x="27" y="212"/>
                </a:lnTo>
                <a:lnTo>
                  <a:pt x="43" y="212"/>
                </a:lnTo>
                <a:lnTo>
                  <a:pt x="66" y="210"/>
                </a:lnTo>
                <a:lnTo>
                  <a:pt x="73" y="209"/>
                </a:lnTo>
                <a:lnTo>
                  <a:pt x="75" y="207"/>
                </a:lnTo>
                <a:lnTo>
                  <a:pt x="76" y="206"/>
                </a:lnTo>
                <a:lnTo>
                  <a:pt x="76" y="205"/>
                </a:lnTo>
                <a:lnTo>
                  <a:pt x="76" y="203"/>
                </a:lnTo>
                <a:lnTo>
                  <a:pt x="73" y="202"/>
                </a:lnTo>
                <a:lnTo>
                  <a:pt x="71" y="200"/>
                </a:lnTo>
                <a:lnTo>
                  <a:pt x="63" y="196"/>
                </a:lnTo>
                <a:lnTo>
                  <a:pt x="37" y="187"/>
                </a:lnTo>
                <a:lnTo>
                  <a:pt x="5" y="178"/>
                </a:lnTo>
                <a:lnTo>
                  <a:pt x="4" y="165"/>
                </a:lnTo>
                <a:lnTo>
                  <a:pt x="1" y="141"/>
                </a:lnTo>
                <a:lnTo>
                  <a:pt x="0" y="119"/>
                </a:lnTo>
                <a:lnTo>
                  <a:pt x="0" y="115"/>
                </a:lnTo>
                <a:lnTo>
                  <a:pt x="0" y="106"/>
                </a:lnTo>
                <a:lnTo>
                  <a:pt x="4" y="87"/>
                </a:lnTo>
                <a:lnTo>
                  <a:pt x="16" y="48"/>
                </a:lnTo>
                <a:lnTo>
                  <a:pt x="23" y="10"/>
                </a:lnTo>
                <a:lnTo>
                  <a:pt x="24" y="0"/>
                </a:lnTo>
                <a:lnTo>
                  <a:pt x="27" y="0"/>
                </a:lnTo>
                <a:lnTo>
                  <a:pt x="37" y="0"/>
                </a:lnTo>
                <a:lnTo>
                  <a:pt x="55" y="2"/>
                </a:lnTo>
                <a:lnTo>
                  <a:pt x="68" y="6"/>
                </a:lnTo>
                <a:lnTo>
                  <a:pt x="71" y="6"/>
                </a:lnTo>
                <a:lnTo>
                  <a:pt x="69" y="13"/>
                </a:lnTo>
                <a:lnTo>
                  <a:pt x="69" y="38"/>
                </a:lnTo>
                <a:lnTo>
                  <a:pt x="73" y="107"/>
                </a:lnTo>
                <a:lnTo>
                  <a:pt x="84" y="138"/>
                </a:lnTo>
                <a:lnTo>
                  <a:pt x="91" y="149"/>
                </a:lnTo>
                <a:lnTo>
                  <a:pt x="101" y="158"/>
                </a:lnTo>
                <a:lnTo>
                  <a:pt x="114" y="160"/>
                </a:lnTo>
                <a:lnTo>
                  <a:pt x="115" y="160"/>
                </a:lnTo>
                <a:lnTo>
                  <a:pt x="117" y="158"/>
                </a:lnTo>
                <a:lnTo>
                  <a:pt x="123" y="152"/>
                </a:lnTo>
                <a:lnTo>
                  <a:pt x="136" y="138"/>
                </a:lnTo>
                <a:lnTo>
                  <a:pt x="142" y="131"/>
                </a:lnTo>
                <a:lnTo>
                  <a:pt x="144" y="122"/>
                </a:lnTo>
                <a:lnTo>
                  <a:pt x="144" y="118"/>
                </a:lnTo>
                <a:lnTo>
                  <a:pt x="140" y="113"/>
                </a:lnTo>
                <a:lnTo>
                  <a:pt x="136" y="107"/>
                </a:lnTo>
                <a:lnTo>
                  <a:pt x="129" y="103"/>
                </a:lnTo>
                <a:lnTo>
                  <a:pt x="114" y="96"/>
                </a:lnTo>
                <a:lnTo>
                  <a:pt x="102" y="89"/>
                </a:lnTo>
                <a:lnTo>
                  <a:pt x="100" y="86"/>
                </a:lnTo>
                <a:lnTo>
                  <a:pt x="100" y="83"/>
                </a:lnTo>
                <a:lnTo>
                  <a:pt x="100" y="81"/>
                </a:lnTo>
                <a:lnTo>
                  <a:pt x="102" y="78"/>
                </a:lnTo>
                <a:lnTo>
                  <a:pt x="105" y="76"/>
                </a:lnTo>
                <a:lnTo>
                  <a:pt x="110" y="74"/>
                </a:lnTo>
                <a:lnTo>
                  <a:pt x="123" y="68"/>
                </a:lnTo>
                <a:lnTo>
                  <a:pt x="131" y="64"/>
                </a:lnTo>
                <a:lnTo>
                  <a:pt x="126" y="60"/>
                </a:lnTo>
                <a:lnTo>
                  <a:pt x="108" y="44"/>
                </a:lnTo>
                <a:lnTo>
                  <a:pt x="95" y="31"/>
                </a:lnTo>
                <a:lnTo>
                  <a:pt x="95" y="29"/>
                </a:lnTo>
                <a:lnTo>
                  <a:pt x="97" y="28"/>
                </a:lnTo>
                <a:lnTo>
                  <a:pt x="98" y="26"/>
                </a:lnTo>
                <a:lnTo>
                  <a:pt x="102" y="23"/>
                </a:lnTo>
                <a:lnTo>
                  <a:pt x="113" y="21"/>
                </a:lnTo>
                <a:lnTo>
                  <a:pt x="117" y="22"/>
                </a:lnTo>
                <a:lnTo>
                  <a:pt x="118" y="21"/>
                </a:lnTo>
                <a:lnTo>
                  <a:pt x="120" y="19"/>
                </a:lnTo>
                <a:lnTo>
                  <a:pt x="120" y="18"/>
                </a:lnTo>
                <a:lnTo>
                  <a:pt x="120" y="16"/>
                </a:lnTo>
                <a:lnTo>
                  <a:pt x="120" y="13"/>
                </a:lnTo>
                <a:lnTo>
                  <a:pt x="118" y="3"/>
                </a:lnTo>
                <a:lnTo>
                  <a:pt x="120" y="3"/>
                </a:lnTo>
                <a:lnTo>
                  <a:pt x="120" y="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854760" y="2039760"/>
            <a:ext cx="33480" cy="24120"/>
          </a:xfrm>
          <a:custGeom>
            <a:avLst/>
            <a:gdLst/>
            <a:ahLst/>
            <a:rect l="l" t="t" r="r" b="b"/>
            <a:pathLst>
              <a:path w="96" h="76">
                <a:moveTo>
                  <a:pt x="83" y="74"/>
                </a:moveTo>
                <a:lnTo>
                  <a:pt x="76" y="76"/>
                </a:lnTo>
                <a:lnTo>
                  <a:pt x="54" y="76"/>
                </a:lnTo>
                <a:lnTo>
                  <a:pt x="38" y="76"/>
                </a:lnTo>
                <a:lnTo>
                  <a:pt x="38" y="76"/>
                </a:lnTo>
                <a:lnTo>
                  <a:pt x="34" y="73"/>
                </a:lnTo>
                <a:lnTo>
                  <a:pt x="28" y="66"/>
                </a:lnTo>
                <a:lnTo>
                  <a:pt x="16" y="48"/>
                </a:lnTo>
                <a:lnTo>
                  <a:pt x="5" y="32"/>
                </a:lnTo>
                <a:lnTo>
                  <a:pt x="2" y="28"/>
                </a:lnTo>
                <a:lnTo>
                  <a:pt x="0" y="24"/>
                </a:lnTo>
                <a:lnTo>
                  <a:pt x="2" y="16"/>
                </a:lnTo>
                <a:lnTo>
                  <a:pt x="2" y="12"/>
                </a:lnTo>
                <a:lnTo>
                  <a:pt x="5" y="9"/>
                </a:lnTo>
                <a:lnTo>
                  <a:pt x="9" y="6"/>
                </a:lnTo>
                <a:lnTo>
                  <a:pt x="15" y="3"/>
                </a:lnTo>
                <a:lnTo>
                  <a:pt x="21" y="0"/>
                </a:lnTo>
                <a:lnTo>
                  <a:pt x="27" y="6"/>
                </a:lnTo>
                <a:lnTo>
                  <a:pt x="35" y="13"/>
                </a:lnTo>
                <a:lnTo>
                  <a:pt x="42" y="16"/>
                </a:lnTo>
                <a:lnTo>
                  <a:pt x="44" y="16"/>
                </a:lnTo>
                <a:lnTo>
                  <a:pt x="55" y="16"/>
                </a:lnTo>
                <a:lnTo>
                  <a:pt x="76" y="19"/>
                </a:lnTo>
                <a:lnTo>
                  <a:pt x="89" y="27"/>
                </a:lnTo>
                <a:lnTo>
                  <a:pt x="93" y="32"/>
                </a:lnTo>
                <a:lnTo>
                  <a:pt x="96" y="38"/>
                </a:lnTo>
                <a:lnTo>
                  <a:pt x="96" y="45"/>
                </a:lnTo>
                <a:lnTo>
                  <a:pt x="96" y="53"/>
                </a:lnTo>
                <a:lnTo>
                  <a:pt x="93" y="60"/>
                </a:lnTo>
                <a:lnTo>
                  <a:pt x="89" y="67"/>
                </a:lnTo>
                <a:lnTo>
                  <a:pt x="83" y="74"/>
                </a:lnTo>
                <a:lnTo>
                  <a:pt x="83" y="74"/>
                </a:lnTo>
                <a:lnTo>
                  <a:pt x="83" y="74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3920" y="2016000"/>
            <a:ext cx="23760" cy="22320"/>
          </a:xfrm>
          <a:custGeom>
            <a:avLst/>
            <a:gdLst/>
            <a:ahLst/>
            <a:rect l="l" t="t" r="r" b="b"/>
            <a:pathLst>
              <a:path w="70" h="67">
                <a:moveTo>
                  <a:pt x="70" y="30"/>
                </a:moveTo>
                <a:lnTo>
                  <a:pt x="61" y="38"/>
                </a:lnTo>
                <a:lnTo>
                  <a:pt x="50" y="49"/>
                </a:lnTo>
                <a:lnTo>
                  <a:pt x="42" y="59"/>
                </a:lnTo>
                <a:lnTo>
                  <a:pt x="35" y="65"/>
                </a:lnTo>
                <a:lnTo>
                  <a:pt x="31" y="67"/>
                </a:lnTo>
                <a:lnTo>
                  <a:pt x="25" y="65"/>
                </a:lnTo>
                <a:lnTo>
                  <a:pt x="19" y="64"/>
                </a:lnTo>
                <a:lnTo>
                  <a:pt x="10" y="61"/>
                </a:lnTo>
                <a:lnTo>
                  <a:pt x="0" y="53"/>
                </a:lnTo>
                <a:lnTo>
                  <a:pt x="0" y="53"/>
                </a:lnTo>
                <a:lnTo>
                  <a:pt x="2" y="49"/>
                </a:lnTo>
                <a:lnTo>
                  <a:pt x="6" y="40"/>
                </a:lnTo>
                <a:lnTo>
                  <a:pt x="13" y="32"/>
                </a:lnTo>
                <a:lnTo>
                  <a:pt x="26" y="14"/>
                </a:lnTo>
                <a:lnTo>
                  <a:pt x="31" y="0"/>
                </a:lnTo>
                <a:lnTo>
                  <a:pt x="35" y="0"/>
                </a:lnTo>
                <a:lnTo>
                  <a:pt x="45" y="0"/>
                </a:lnTo>
                <a:lnTo>
                  <a:pt x="54" y="0"/>
                </a:lnTo>
                <a:lnTo>
                  <a:pt x="58" y="1"/>
                </a:lnTo>
                <a:lnTo>
                  <a:pt x="61" y="4"/>
                </a:lnTo>
                <a:lnTo>
                  <a:pt x="64" y="6"/>
                </a:lnTo>
                <a:lnTo>
                  <a:pt x="67" y="10"/>
                </a:lnTo>
                <a:lnTo>
                  <a:pt x="68" y="16"/>
                </a:lnTo>
                <a:lnTo>
                  <a:pt x="68" y="23"/>
                </a:lnTo>
                <a:lnTo>
                  <a:pt x="68" y="30"/>
                </a:lnTo>
                <a:lnTo>
                  <a:pt x="70" y="30"/>
                </a:lnTo>
                <a:lnTo>
                  <a:pt x="70" y="3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676920" y="1979640"/>
            <a:ext cx="38160" cy="47520"/>
          </a:xfrm>
          <a:custGeom>
            <a:avLst/>
            <a:gdLst/>
            <a:ahLst/>
            <a:rect l="l" t="t" r="r" b="b"/>
            <a:pathLst>
              <a:path w="105" h="141">
                <a:moveTo>
                  <a:pt x="82" y="0"/>
                </a:moveTo>
                <a:lnTo>
                  <a:pt x="89" y="10"/>
                </a:lnTo>
                <a:lnTo>
                  <a:pt x="100" y="25"/>
                </a:lnTo>
                <a:lnTo>
                  <a:pt x="105" y="38"/>
                </a:lnTo>
                <a:lnTo>
                  <a:pt x="103" y="48"/>
                </a:lnTo>
                <a:lnTo>
                  <a:pt x="100" y="61"/>
                </a:lnTo>
                <a:lnTo>
                  <a:pt x="98" y="77"/>
                </a:lnTo>
                <a:lnTo>
                  <a:pt x="98" y="86"/>
                </a:lnTo>
                <a:lnTo>
                  <a:pt x="90" y="99"/>
                </a:lnTo>
                <a:lnTo>
                  <a:pt x="82" y="116"/>
                </a:lnTo>
                <a:lnTo>
                  <a:pt x="74" y="129"/>
                </a:lnTo>
                <a:lnTo>
                  <a:pt x="67" y="136"/>
                </a:lnTo>
                <a:lnTo>
                  <a:pt x="58" y="139"/>
                </a:lnTo>
                <a:lnTo>
                  <a:pt x="42" y="141"/>
                </a:lnTo>
                <a:lnTo>
                  <a:pt x="32" y="141"/>
                </a:lnTo>
                <a:lnTo>
                  <a:pt x="25" y="141"/>
                </a:lnTo>
                <a:lnTo>
                  <a:pt x="21" y="138"/>
                </a:lnTo>
                <a:lnTo>
                  <a:pt x="16" y="135"/>
                </a:lnTo>
                <a:lnTo>
                  <a:pt x="13" y="131"/>
                </a:lnTo>
                <a:lnTo>
                  <a:pt x="12" y="126"/>
                </a:lnTo>
                <a:lnTo>
                  <a:pt x="12" y="120"/>
                </a:lnTo>
                <a:lnTo>
                  <a:pt x="12" y="116"/>
                </a:lnTo>
                <a:lnTo>
                  <a:pt x="15" y="107"/>
                </a:lnTo>
                <a:lnTo>
                  <a:pt x="19" y="102"/>
                </a:lnTo>
                <a:lnTo>
                  <a:pt x="22" y="99"/>
                </a:lnTo>
                <a:lnTo>
                  <a:pt x="25" y="94"/>
                </a:lnTo>
                <a:lnTo>
                  <a:pt x="28" y="87"/>
                </a:lnTo>
                <a:lnTo>
                  <a:pt x="28" y="84"/>
                </a:lnTo>
                <a:lnTo>
                  <a:pt x="27" y="83"/>
                </a:lnTo>
                <a:lnTo>
                  <a:pt x="25" y="83"/>
                </a:lnTo>
                <a:lnTo>
                  <a:pt x="22" y="83"/>
                </a:lnTo>
                <a:lnTo>
                  <a:pt x="13" y="83"/>
                </a:lnTo>
                <a:lnTo>
                  <a:pt x="3" y="80"/>
                </a:lnTo>
                <a:lnTo>
                  <a:pt x="3" y="80"/>
                </a:lnTo>
                <a:lnTo>
                  <a:pt x="2" y="77"/>
                </a:lnTo>
                <a:lnTo>
                  <a:pt x="0" y="71"/>
                </a:lnTo>
                <a:lnTo>
                  <a:pt x="0" y="67"/>
                </a:lnTo>
                <a:lnTo>
                  <a:pt x="0" y="64"/>
                </a:lnTo>
                <a:lnTo>
                  <a:pt x="3" y="61"/>
                </a:lnTo>
                <a:lnTo>
                  <a:pt x="8" y="57"/>
                </a:lnTo>
                <a:lnTo>
                  <a:pt x="12" y="54"/>
                </a:lnTo>
                <a:lnTo>
                  <a:pt x="16" y="55"/>
                </a:lnTo>
                <a:lnTo>
                  <a:pt x="25" y="57"/>
                </a:lnTo>
                <a:lnTo>
                  <a:pt x="34" y="61"/>
                </a:lnTo>
                <a:lnTo>
                  <a:pt x="48" y="71"/>
                </a:lnTo>
                <a:lnTo>
                  <a:pt x="56" y="76"/>
                </a:lnTo>
                <a:lnTo>
                  <a:pt x="57" y="71"/>
                </a:lnTo>
                <a:lnTo>
                  <a:pt x="63" y="60"/>
                </a:lnTo>
                <a:lnTo>
                  <a:pt x="70" y="32"/>
                </a:lnTo>
                <a:lnTo>
                  <a:pt x="79" y="6"/>
                </a:lnTo>
                <a:lnTo>
                  <a:pt x="82" y="0"/>
                </a:lnTo>
                <a:lnTo>
                  <a:pt x="82" y="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88000" y="1990800"/>
            <a:ext cx="79560" cy="57240"/>
          </a:xfrm>
          <a:custGeom>
            <a:avLst/>
            <a:gdLst/>
            <a:ahLst/>
            <a:rect l="l" t="t" r="r" b="b"/>
            <a:pathLst>
              <a:path w="232" h="173">
                <a:moveTo>
                  <a:pt x="196" y="0"/>
                </a:moveTo>
                <a:lnTo>
                  <a:pt x="196" y="6"/>
                </a:lnTo>
                <a:lnTo>
                  <a:pt x="199" y="18"/>
                </a:lnTo>
                <a:lnTo>
                  <a:pt x="203" y="48"/>
                </a:lnTo>
                <a:lnTo>
                  <a:pt x="206" y="76"/>
                </a:lnTo>
                <a:lnTo>
                  <a:pt x="207" y="81"/>
                </a:lnTo>
                <a:lnTo>
                  <a:pt x="212" y="84"/>
                </a:lnTo>
                <a:lnTo>
                  <a:pt x="216" y="86"/>
                </a:lnTo>
                <a:lnTo>
                  <a:pt x="219" y="90"/>
                </a:lnTo>
                <a:lnTo>
                  <a:pt x="226" y="99"/>
                </a:lnTo>
                <a:lnTo>
                  <a:pt x="231" y="107"/>
                </a:lnTo>
                <a:lnTo>
                  <a:pt x="232" y="118"/>
                </a:lnTo>
                <a:lnTo>
                  <a:pt x="229" y="128"/>
                </a:lnTo>
                <a:lnTo>
                  <a:pt x="228" y="131"/>
                </a:lnTo>
                <a:lnTo>
                  <a:pt x="219" y="131"/>
                </a:lnTo>
                <a:lnTo>
                  <a:pt x="205" y="131"/>
                </a:lnTo>
                <a:lnTo>
                  <a:pt x="179" y="129"/>
                </a:lnTo>
                <a:lnTo>
                  <a:pt x="151" y="131"/>
                </a:lnTo>
                <a:lnTo>
                  <a:pt x="144" y="132"/>
                </a:lnTo>
                <a:lnTo>
                  <a:pt x="134" y="133"/>
                </a:lnTo>
                <a:lnTo>
                  <a:pt x="126" y="136"/>
                </a:lnTo>
                <a:lnTo>
                  <a:pt x="121" y="139"/>
                </a:lnTo>
                <a:lnTo>
                  <a:pt x="115" y="144"/>
                </a:lnTo>
                <a:lnTo>
                  <a:pt x="106" y="152"/>
                </a:lnTo>
                <a:lnTo>
                  <a:pt x="97" y="162"/>
                </a:lnTo>
                <a:lnTo>
                  <a:pt x="87" y="170"/>
                </a:lnTo>
                <a:lnTo>
                  <a:pt x="73" y="173"/>
                </a:lnTo>
                <a:lnTo>
                  <a:pt x="73" y="173"/>
                </a:lnTo>
                <a:lnTo>
                  <a:pt x="68" y="171"/>
                </a:lnTo>
                <a:lnTo>
                  <a:pt x="66" y="168"/>
                </a:lnTo>
                <a:lnTo>
                  <a:pt x="63" y="165"/>
                </a:lnTo>
                <a:lnTo>
                  <a:pt x="61" y="160"/>
                </a:lnTo>
                <a:lnTo>
                  <a:pt x="61" y="155"/>
                </a:lnTo>
                <a:lnTo>
                  <a:pt x="61" y="144"/>
                </a:lnTo>
                <a:lnTo>
                  <a:pt x="63" y="125"/>
                </a:lnTo>
                <a:lnTo>
                  <a:pt x="64" y="122"/>
                </a:lnTo>
                <a:lnTo>
                  <a:pt x="67" y="120"/>
                </a:lnTo>
                <a:lnTo>
                  <a:pt x="77" y="118"/>
                </a:lnTo>
                <a:lnTo>
                  <a:pt x="99" y="113"/>
                </a:lnTo>
                <a:lnTo>
                  <a:pt x="118" y="106"/>
                </a:lnTo>
                <a:lnTo>
                  <a:pt x="122" y="103"/>
                </a:lnTo>
                <a:lnTo>
                  <a:pt x="113" y="102"/>
                </a:lnTo>
                <a:lnTo>
                  <a:pt x="97" y="99"/>
                </a:lnTo>
                <a:lnTo>
                  <a:pt x="79" y="100"/>
                </a:lnTo>
                <a:lnTo>
                  <a:pt x="39" y="105"/>
                </a:lnTo>
                <a:lnTo>
                  <a:pt x="15" y="106"/>
                </a:lnTo>
                <a:lnTo>
                  <a:pt x="12" y="102"/>
                </a:lnTo>
                <a:lnTo>
                  <a:pt x="5" y="89"/>
                </a:lnTo>
                <a:lnTo>
                  <a:pt x="0" y="78"/>
                </a:lnTo>
                <a:lnTo>
                  <a:pt x="0" y="77"/>
                </a:lnTo>
                <a:lnTo>
                  <a:pt x="8" y="71"/>
                </a:lnTo>
                <a:lnTo>
                  <a:pt x="22" y="61"/>
                </a:lnTo>
                <a:lnTo>
                  <a:pt x="37" y="55"/>
                </a:lnTo>
                <a:lnTo>
                  <a:pt x="51" y="51"/>
                </a:lnTo>
                <a:lnTo>
                  <a:pt x="61" y="42"/>
                </a:lnTo>
                <a:lnTo>
                  <a:pt x="70" y="26"/>
                </a:lnTo>
                <a:lnTo>
                  <a:pt x="73" y="15"/>
                </a:lnTo>
                <a:lnTo>
                  <a:pt x="89" y="15"/>
                </a:lnTo>
                <a:lnTo>
                  <a:pt x="103" y="16"/>
                </a:lnTo>
                <a:lnTo>
                  <a:pt x="113" y="20"/>
                </a:lnTo>
                <a:lnTo>
                  <a:pt x="121" y="26"/>
                </a:lnTo>
                <a:lnTo>
                  <a:pt x="125" y="34"/>
                </a:lnTo>
                <a:lnTo>
                  <a:pt x="128" y="41"/>
                </a:lnTo>
                <a:lnTo>
                  <a:pt x="131" y="48"/>
                </a:lnTo>
                <a:lnTo>
                  <a:pt x="135" y="64"/>
                </a:lnTo>
                <a:lnTo>
                  <a:pt x="138" y="71"/>
                </a:lnTo>
                <a:lnTo>
                  <a:pt x="142" y="77"/>
                </a:lnTo>
                <a:lnTo>
                  <a:pt x="148" y="81"/>
                </a:lnTo>
                <a:lnTo>
                  <a:pt x="150" y="81"/>
                </a:lnTo>
                <a:lnTo>
                  <a:pt x="157" y="73"/>
                </a:lnTo>
                <a:lnTo>
                  <a:pt x="161" y="64"/>
                </a:lnTo>
                <a:lnTo>
                  <a:pt x="163" y="55"/>
                </a:lnTo>
                <a:lnTo>
                  <a:pt x="161" y="47"/>
                </a:lnTo>
                <a:lnTo>
                  <a:pt x="160" y="38"/>
                </a:lnTo>
                <a:lnTo>
                  <a:pt x="158" y="23"/>
                </a:lnTo>
                <a:lnTo>
                  <a:pt x="158" y="18"/>
                </a:lnTo>
                <a:lnTo>
                  <a:pt x="161" y="12"/>
                </a:lnTo>
                <a:lnTo>
                  <a:pt x="168" y="7"/>
                </a:lnTo>
                <a:lnTo>
                  <a:pt x="179" y="3"/>
                </a:lnTo>
                <a:lnTo>
                  <a:pt x="194" y="0"/>
                </a:lnTo>
                <a:lnTo>
                  <a:pt x="196" y="0"/>
                </a:lnTo>
                <a:lnTo>
                  <a:pt x="196" y="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96200" y="2022480"/>
            <a:ext cx="96840" cy="77760"/>
          </a:xfrm>
          <a:custGeom>
            <a:avLst/>
            <a:gdLst/>
            <a:ahLst/>
            <a:rect l="l" t="t" r="r" b="b"/>
            <a:pathLst>
              <a:path w="279" h="239">
                <a:moveTo>
                  <a:pt x="36" y="239"/>
                </a:moveTo>
                <a:lnTo>
                  <a:pt x="36" y="233"/>
                </a:lnTo>
                <a:lnTo>
                  <a:pt x="36" y="220"/>
                </a:lnTo>
                <a:lnTo>
                  <a:pt x="33" y="207"/>
                </a:lnTo>
                <a:lnTo>
                  <a:pt x="27" y="195"/>
                </a:lnTo>
                <a:lnTo>
                  <a:pt x="19" y="184"/>
                </a:lnTo>
                <a:lnTo>
                  <a:pt x="7" y="172"/>
                </a:lnTo>
                <a:lnTo>
                  <a:pt x="0" y="166"/>
                </a:lnTo>
                <a:lnTo>
                  <a:pt x="1" y="165"/>
                </a:lnTo>
                <a:lnTo>
                  <a:pt x="16" y="148"/>
                </a:lnTo>
                <a:lnTo>
                  <a:pt x="65" y="90"/>
                </a:lnTo>
                <a:lnTo>
                  <a:pt x="103" y="46"/>
                </a:lnTo>
                <a:lnTo>
                  <a:pt x="105" y="43"/>
                </a:lnTo>
                <a:lnTo>
                  <a:pt x="100" y="39"/>
                </a:lnTo>
                <a:lnTo>
                  <a:pt x="92" y="32"/>
                </a:lnTo>
                <a:lnTo>
                  <a:pt x="88" y="26"/>
                </a:lnTo>
                <a:lnTo>
                  <a:pt x="88" y="23"/>
                </a:lnTo>
                <a:lnTo>
                  <a:pt x="87" y="20"/>
                </a:lnTo>
                <a:lnTo>
                  <a:pt x="88" y="17"/>
                </a:lnTo>
                <a:lnTo>
                  <a:pt x="90" y="14"/>
                </a:lnTo>
                <a:lnTo>
                  <a:pt x="91" y="10"/>
                </a:lnTo>
                <a:lnTo>
                  <a:pt x="97" y="0"/>
                </a:lnTo>
                <a:lnTo>
                  <a:pt x="98" y="0"/>
                </a:lnTo>
                <a:lnTo>
                  <a:pt x="108" y="1"/>
                </a:lnTo>
                <a:lnTo>
                  <a:pt x="142" y="1"/>
                </a:lnTo>
                <a:lnTo>
                  <a:pt x="168" y="1"/>
                </a:lnTo>
                <a:lnTo>
                  <a:pt x="169" y="1"/>
                </a:lnTo>
                <a:lnTo>
                  <a:pt x="174" y="3"/>
                </a:lnTo>
                <a:lnTo>
                  <a:pt x="178" y="3"/>
                </a:lnTo>
                <a:lnTo>
                  <a:pt x="182" y="6"/>
                </a:lnTo>
                <a:lnTo>
                  <a:pt x="184" y="10"/>
                </a:lnTo>
                <a:lnTo>
                  <a:pt x="185" y="13"/>
                </a:lnTo>
                <a:lnTo>
                  <a:pt x="190" y="20"/>
                </a:lnTo>
                <a:lnTo>
                  <a:pt x="197" y="30"/>
                </a:lnTo>
                <a:lnTo>
                  <a:pt x="203" y="36"/>
                </a:lnTo>
                <a:lnTo>
                  <a:pt x="210" y="42"/>
                </a:lnTo>
                <a:lnTo>
                  <a:pt x="217" y="46"/>
                </a:lnTo>
                <a:lnTo>
                  <a:pt x="236" y="52"/>
                </a:lnTo>
                <a:lnTo>
                  <a:pt x="253" y="59"/>
                </a:lnTo>
                <a:lnTo>
                  <a:pt x="268" y="68"/>
                </a:lnTo>
                <a:lnTo>
                  <a:pt x="274" y="75"/>
                </a:lnTo>
                <a:lnTo>
                  <a:pt x="278" y="82"/>
                </a:lnTo>
                <a:lnTo>
                  <a:pt x="279" y="94"/>
                </a:lnTo>
                <a:lnTo>
                  <a:pt x="279" y="107"/>
                </a:lnTo>
                <a:lnTo>
                  <a:pt x="279" y="107"/>
                </a:lnTo>
                <a:lnTo>
                  <a:pt x="253" y="120"/>
                </a:lnTo>
                <a:lnTo>
                  <a:pt x="218" y="136"/>
                </a:lnTo>
                <a:lnTo>
                  <a:pt x="184" y="161"/>
                </a:lnTo>
                <a:lnTo>
                  <a:pt x="149" y="213"/>
                </a:lnTo>
                <a:lnTo>
                  <a:pt x="133" y="236"/>
                </a:lnTo>
                <a:lnTo>
                  <a:pt x="117" y="237"/>
                </a:lnTo>
                <a:lnTo>
                  <a:pt x="72" y="239"/>
                </a:lnTo>
                <a:lnTo>
                  <a:pt x="37" y="239"/>
                </a:lnTo>
                <a:lnTo>
                  <a:pt x="36" y="239"/>
                </a:lnTo>
                <a:lnTo>
                  <a:pt x="36" y="23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559560" y="1965240"/>
            <a:ext cx="58680" cy="34920"/>
          </a:xfrm>
          <a:custGeom>
            <a:avLst/>
            <a:gdLst/>
            <a:ahLst/>
            <a:rect l="l" t="t" r="r" b="b"/>
            <a:pathLst>
              <a:path w="168" h="108">
                <a:moveTo>
                  <a:pt x="168" y="19"/>
                </a:moveTo>
                <a:lnTo>
                  <a:pt x="166" y="27"/>
                </a:lnTo>
                <a:lnTo>
                  <a:pt x="165" y="31"/>
                </a:lnTo>
                <a:lnTo>
                  <a:pt x="162" y="35"/>
                </a:lnTo>
                <a:lnTo>
                  <a:pt x="159" y="38"/>
                </a:lnTo>
                <a:lnTo>
                  <a:pt x="152" y="44"/>
                </a:lnTo>
                <a:lnTo>
                  <a:pt x="146" y="51"/>
                </a:lnTo>
                <a:lnTo>
                  <a:pt x="142" y="58"/>
                </a:lnTo>
                <a:lnTo>
                  <a:pt x="140" y="70"/>
                </a:lnTo>
                <a:lnTo>
                  <a:pt x="142" y="70"/>
                </a:lnTo>
                <a:lnTo>
                  <a:pt x="129" y="74"/>
                </a:lnTo>
                <a:lnTo>
                  <a:pt x="110" y="79"/>
                </a:lnTo>
                <a:lnTo>
                  <a:pt x="84" y="83"/>
                </a:lnTo>
                <a:lnTo>
                  <a:pt x="74" y="87"/>
                </a:lnTo>
                <a:lnTo>
                  <a:pt x="62" y="99"/>
                </a:lnTo>
                <a:lnTo>
                  <a:pt x="56" y="108"/>
                </a:lnTo>
                <a:lnTo>
                  <a:pt x="45" y="106"/>
                </a:lnTo>
                <a:lnTo>
                  <a:pt x="27" y="103"/>
                </a:lnTo>
                <a:lnTo>
                  <a:pt x="16" y="99"/>
                </a:lnTo>
                <a:lnTo>
                  <a:pt x="8" y="93"/>
                </a:lnTo>
                <a:lnTo>
                  <a:pt x="4" y="83"/>
                </a:lnTo>
                <a:lnTo>
                  <a:pt x="0" y="69"/>
                </a:lnTo>
                <a:lnTo>
                  <a:pt x="0" y="57"/>
                </a:lnTo>
                <a:lnTo>
                  <a:pt x="7" y="53"/>
                </a:lnTo>
                <a:lnTo>
                  <a:pt x="24" y="43"/>
                </a:lnTo>
                <a:lnTo>
                  <a:pt x="47" y="34"/>
                </a:lnTo>
                <a:lnTo>
                  <a:pt x="94" y="16"/>
                </a:lnTo>
                <a:lnTo>
                  <a:pt x="124" y="0"/>
                </a:lnTo>
                <a:lnTo>
                  <a:pt x="129" y="2"/>
                </a:lnTo>
                <a:lnTo>
                  <a:pt x="137" y="5"/>
                </a:lnTo>
                <a:lnTo>
                  <a:pt x="147" y="9"/>
                </a:lnTo>
                <a:lnTo>
                  <a:pt x="162" y="18"/>
                </a:lnTo>
                <a:lnTo>
                  <a:pt x="168" y="19"/>
                </a:lnTo>
                <a:lnTo>
                  <a:pt x="168" y="1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635880" y="1943280"/>
            <a:ext cx="23760" cy="14040"/>
          </a:xfrm>
          <a:custGeom>
            <a:avLst/>
            <a:gdLst/>
            <a:ahLst/>
            <a:rect l="l" t="t" r="r" b="b"/>
            <a:pathLst>
              <a:path w="63" h="45">
                <a:moveTo>
                  <a:pt x="63" y="3"/>
                </a:moveTo>
                <a:lnTo>
                  <a:pt x="59" y="8"/>
                </a:lnTo>
                <a:lnTo>
                  <a:pt x="52" y="18"/>
                </a:lnTo>
                <a:lnTo>
                  <a:pt x="37" y="37"/>
                </a:lnTo>
                <a:lnTo>
                  <a:pt x="29" y="42"/>
                </a:lnTo>
                <a:lnTo>
                  <a:pt x="17" y="45"/>
                </a:lnTo>
                <a:lnTo>
                  <a:pt x="11" y="44"/>
                </a:lnTo>
                <a:lnTo>
                  <a:pt x="6" y="41"/>
                </a:lnTo>
                <a:lnTo>
                  <a:pt x="4" y="37"/>
                </a:lnTo>
                <a:lnTo>
                  <a:pt x="3" y="32"/>
                </a:lnTo>
                <a:lnTo>
                  <a:pt x="0" y="21"/>
                </a:lnTo>
                <a:lnTo>
                  <a:pt x="0" y="16"/>
                </a:lnTo>
                <a:lnTo>
                  <a:pt x="1" y="12"/>
                </a:lnTo>
                <a:lnTo>
                  <a:pt x="4" y="8"/>
                </a:lnTo>
                <a:lnTo>
                  <a:pt x="8" y="6"/>
                </a:lnTo>
                <a:lnTo>
                  <a:pt x="13" y="6"/>
                </a:lnTo>
                <a:lnTo>
                  <a:pt x="20" y="8"/>
                </a:lnTo>
                <a:lnTo>
                  <a:pt x="21" y="8"/>
                </a:lnTo>
                <a:lnTo>
                  <a:pt x="24" y="5"/>
                </a:lnTo>
                <a:lnTo>
                  <a:pt x="32" y="2"/>
                </a:lnTo>
                <a:lnTo>
                  <a:pt x="37" y="0"/>
                </a:lnTo>
                <a:lnTo>
                  <a:pt x="45" y="0"/>
                </a:lnTo>
                <a:lnTo>
                  <a:pt x="52" y="2"/>
                </a:lnTo>
                <a:lnTo>
                  <a:pt x="59" y="3"/>
                </a:lnTo>
                <a:lnTo>
                  <a:pt x="63" y="3"/>
                </a:lnTo>
                <a:lnTo>
                  <a:pt x="63" y="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30840" y="1962000"/>
            <a:ext cx="19080" cy="14400"/>
          </a:xfrm>
          <a:custGeom>
            <a:avLst/>
            <a:gdLst/>
            <a:ahLst/>
            <a:rect l="l" t="t" r="r" b="b"/>
            <a:pathLst>
              <a:path w="55" h="42">
                <a:moveTo>
                  <a:pt x="18" y="42"/>
                </a:moveTo>
                <a:lnTo>
                  <a:pt x="8" y="35"/>
                </a:lnTo>
                <a:lnTo>
                  <a:pt x="2" y="29"/>
                </a:lnTo>
                <a:lnTo>
                  <a:pt x="0" y="23"/>
                </a:lnTo>
                <a:lnTo>
                  <a:pt x="0" y="20"/>
                </a:lnTo>
                <a:lnTo>
                  <a:pt x="0" y="17"/>
                </a:lnTo>
                <a:lnTo>
                  <a:pt x="2" y="16"/>
                </a:lnTo>
                <a:lnTo>
                  <a:pt x="5" y="13"/>
                </a:lnTo>
                <a:lnTo>
                  <a:pt x="8" y="11"/>
                </a:lnTo>
                <a:lnTo>
                  <a:pt x="13" y="8"/>
                </a:lnTo>
                <a:lnTo>
                  <a:pt x="21" y="6"/>
                </a:lnTo>
                <a:lnTo>
                  <a:pt x="37" y="1"/>
                </a:lnTo>
                <a:lnTo>
                  <a:pt x="51" y="1"/>
                </a:lnTo>
                <a:lnTo>
                  <a:pt x="55" y="0"/>
                </a:lnTo>
                <a:lnTo>
                  <a:pt x="55" y="6"/>
                </a:lnTo>
                <a:lnTo>
                  <a:pt x="55" y="10"/>
                </a:lnTo>
                <a:lnTo>
                  <a:pt x="54" y="16"/>
                </a:lnTo>
                <a:lnTo>
                  <a:pt x="51" y="20"/>
                </a:lnTo>
                <a:lnTo>
                  <a:pt x="44" y="29"/>
                </a:lnTo>
                <a:lnTo>
                  <a:pt x="35" y="36"/>
                </a:lnTo>
                <a:lnTo>
                  <a:pt x="26" y="40"/>
                </a:lnTo>
                <a:lnTo>
                  <a:pt x="18" y="42"/>
                </a:lnTo>
                <a:lnTo>
                  <a:pt x="18" y="42"/>
                </a:lnTo>
                <a:lnTo>
                  <a:pt x="18" y="4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680160" y="1932120"/>
            <a:ext cx="31680" cy="36360"/>
          </a:xfrm>
          <a:custGeom>
            <a:avLst/>
            <a:gdLst/>
            <a:ahLst/>
            <a:rect l="l" t="t" r="r" b="b"/>
            <a:pathLst>
              <a:path w="88" h="110">
                <a:moveTo>
                  <a:pt x="69" y="33"/>
                </a:moveTo>
                <a:lnTo>
                  <a:pt x="75" y="39"/>
                </a:lnTo>
                <a:lnTo>
                  <a:pt x="82" y="51"/>
                </a:lnTo>
                <a:lnTo>
                  <a:pt x="87" y="64"/>
                </a:lnTo>
                <a:lnTo>
                  <a:pt x="88" y="77"/>
                </a:lnTo>
                <a:lnTo>
                  <a:pt x="88" y="91"/>
                </a:lnTo>
                <a:lnTo>
                  <a:pt x="88" y="104"/>
                </a:lnTo>
                <a:lnTo>
                  <a:pt x="88" y="110"/>
                </a:lnTo>
                <a:lnTo>
                  <a:pt x="87" y="110"/>
                </a:lnTo>
                <a:lnTo>
                  <a:pt x="82" y="110"/>
                </a:lnTo>
                <a:lnTo>
                  <a:pt x="71" y="109"/>
                </a:lnTo>
                <a:lnTo>
                  <a:pt x="62" y="109"/>
                </a:lnTo>
                <a:lnTo>
                  <a:pt x="62" y="107"/>
                </a:lnTo>
                <a:lnTo>
                  <a:pt x="61" y="103"/>
                </a:lnTo>
                <a:lnTo>
                  <a:pt x="56" y="94"/>
                </a:lnTo>
                <a:lnTo>
                  <a:pt x="52" y="88"/>
                </a:lnTo>
                <a:lnTo>
                  <a:pt x="51" y="87"/>
                </a:lnTo>
                <a:lnTo>
                  <a:pt x="48" y="87"/>
                </a:lnTo>
                <a:lnTo>
                  <a:pt x="46" y="87"/>
                </a:lnTo>
                <a:lnTo>
                  <a:pt x="43" y="88"/>
                </a:lnTo>
                <a:lnTo>
                  <a:pt x="42" y="93"/>
                </a:lnTo>
                <a:lnTo>
                  <a:pt x="40" y="97"/>
                </a:lnTo>
                <a:lnTo>
                  <a:pt x="40" y="103"/>
                </a:lnTo>
                <a:lnTo>
                  <a:pt x="40" y="103"/>
                </a:lnTo>
                <a:lnTo>
                  <a:pt x="39" y="103"/>
                </a:lnTo>
                <a:lnTo>
                  <a:pt x="33" y="101"/>
                </a:lnTo>
                <a:lnTo>
                  <a:pt x="14" y="94"/>
                </a:lnTo>
                <a:lnTo>
                  <a:pt x="0" y="90"/>
                </a:lnTo>
                <a:lnTo>
                  <a:pt x="0" y="88"/>
                </a:lnTo>
                <a:lnTo>
                  <a:pt x="0" y="85"/>
                </a:lnTo>
                <a:lnTo>
                  <a:pt x="1" y="80"/>
                </a:lnTo>
                <a:lnTo>
                  <a:pt x="4" y="74"/>
                </a:lnTo>
                <a:lnTo>
                  <a:pt x="7" y="68"/>
                </a:lnTo>
                <a:lnTo>
                  <a:pt x="16" y="59"/>
                </a:lnTo>
                <a:lnTo>
                  <a:pt x="19" y="56"/>
                </a:lnTo>
                <a:lnTo>
                  <a:pt x="20" y="61"/>
                </a:lnTo>
                <a:lnTo>
                  <a:pt x="20" y="59"/>
                </a:lnTo>
                <a:lnTo>
                  <a:pt x="20" y="55"/>
                </a:lnTo>
                <a:lnTo>
                  <a:pt x="17" y="38"/>
                </a:lnTo>
                <a:lnTo>
                  <a:pt x="14" y="19"/>
                </a:lnTo>
                <a:lnTo>
                  <a:pt x="13" y="10"/>
                </a:lnTo>
                <a:lnTo>
                  <a:pt x="14" y="4"/>
                </a:lnTo>
                <a:lnTo>
                  <a:pt x="17" y="0"/>
                </a:lnTo>
                <a:lnTo>
                  <a:pt x="22" y="1"/>
                </a:lnTo>
                <a:lnTo>
                  <a:pt x="27" y="6"/>
                </a:lnTo>
                <a:lnTo>
                  <a:pt x="29" y="6"/>
                </a:lnTo>
                <a:lnTo>
                  <a:pt x="33" y="7"/>
                </a:lnTo>
                <a:lnTo>
                  <a:pt x="37" y="9"/>
                </a:lnTo>
                <a:lnTo>
                  <a:pt x="40" y="10"/>
                </a:lnTo>
                <a:lnTo>
                  <a:pt x="42" y="13"/>
                </a:lnTo>
                <a:lnTo>
                  <a:pt x="43" y="17"/>
                </a:lnTo>
                <a:lnTo>
                  <a:pt x="46" y="23"/>
                </a:lnTo>
                <a:lnTo>
                  <a:pt x="51" y="30"/>
                </a:lnTo>
                <a:lnTo>
                  <a:pt x="61" y="33"/>
                </a:lnTo>
                <a:lnTo>
                  <a:pt x="69" y="33"/>
                </a:lnTo>
                <a:lnTo>
                  <a:pt x="69" y="3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18320" y="1944720"/>
            <a:ext cx="17280" cy="23760"/>
          </a:xfrm>
          <a:custGeom>
            <a:avLst/>
            <a:gdLst/>
            <a:ahLst/>
            <a:rect l="l" t="t" r="r" b="b"/>
            <a:pathLst>
              <a:path w="50" h="74">
                <a:moveTo>
                  <a:pt x="50" y="35"/>
                </a:moveTo>
                <a:lnTo>
                  <a:pt x="47" y="42"/>
                </a:lnTo>
                <a:lnTo>
                  <a:pt x="41" y="60"/>
                </a:lnTo>
                <a:lnTo>
                  <a:pt x="37" y="74"/>
                </a:lnTo>
                <a:lnTo>
                  <a:pt x="37" y="74"/>
                </a:lnTo>
                <a:lnTo>
                  <a:pt x="32" y="74"/>
                </a:lnTo>
                <a:lnTo>
                  <a:pt x="25" y="71"/>
                </a:lnTo>
                <a:lnTo>
                  <a:pt x="13" y="64"/>
                </a:lnTo>
                <a:lnTo>
                  <a:pt x="3" y="55"/>
                </a:lnTo>
                <a:lnTo>
                  <a:pt x="2" y="52"/>
                </a:lnTo>
                <a:lnTo>
                  <a:pt x="0" y="45"/>
                </a:lnTo>
                <a:lnTo>
                  <a:pt x="0" y="32"/>
                </a:lnTo>
                <a:lnTo>
                  <a:pt x="2" y="25"/>
                </a:lnTo>
                <a:lnTo>
                  <a:pt x="3" y="18"/>
                </a:lnTo>
                <a:lnTo>
                  <a:pt x="6" y="13"/>
                </a:lnTo>
                <a:lnTo>
                  <a:pt x="13" y="6"/>
                </a:lnTo>
                <a:lnTo>
                  <a:pt x="18" y="0"/>
                </a:lnTo>
                <a:lnTo>
                  <a:pt x="21" y="3"/>
                </a:lnTo>
                <a:lnTo>
                  <a:pt x="26" y="9"/>
                </a:lnTo>
                <a:lnTo>
                  <a:pt x="32" y="15"/>
                </a:lnTo>
                <a:lnTo>
                  <a:pt x="41" y="28"/>
                </a:lnTo>
                <a:lnTo>
                  <a:pt x="50" y="35"/>
                </a:lnTo>
                <a:lnTo>
                  <a:pt x="50" y="35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726240" y="1979640"/>
            <a:ext cx="119160" cy="63360"/>
          </a:xfrm>
          <a:custGeom>
            <a:avLst/>
            <a:gdLst/>
            <a:ahLst/>
            <a:rect l="l" t="t" r="r" b="b"/>
            <a:pathLst>
              <a:path w="350" h="186">
                <a:moveTo>
                  <a:pt x="110" y="81"/>
                </a:moveTo>
                <a:lnTo>
                  <a:pt x="119" y="86"/>
                </a:lnTo>
                <a:lnTo>
                  <a:pt x="137" y="93"/>
                </a:lnTo>
                <a:lnTo>
                  <a:pt x="175" y="102"/>
                </a:lnTo>
                <a:lnTo>
                  <a:pt x="216" y="105"/>
                </a:lnTo>
                <a:lnTo>
                  <a:pt x="227" y="105"/>
                </a:lnTo>
                <a:lnTo>
                  <a:pt x="230" y="109"/>
                </a:lnTo>
                <a:lnTo>
                  <a:pt x="234" y="109"/>
                </a:lnTo>
                <a:lnTo>
                  <a:pt x="240" y="107"/>
                </a:lnTo>
                <a:lnTo>
                  <a:pt x="245" y="105"/>
                </a:lnTo>
                <a:lnTo>
                  <a:pt x="249" y="100"/>
                </a:lnTo>
                <a:lnTo>
                  <a:pt x="259" y="87"/>
                </a:lnTo>
                <a:lnTo>
                  <a:pt x="274" y="65"/>
                </a:lnTo>
                <a:lnTo>
                  <a:pt x="276" y="63"/>
                </a:lnTo>
                <a:lnTo>
                  <a:pt x="285" y="63"/>
                </a:lnTo>
                <a:lnTo>
                  <a:pt x="314" y="63"/>
                </a:lnTo>
                <a:lnTo>
                  <a:pt x="337" y="63"/>
                </a:lnTo>
                <a:lnTo>
                  <a:pt x="339" y="63"/>
                </a:lnTo>
                <a:lnTo>
                  <a:pt x="342" y="70"/>
                </a:lnTo>
                <a:lnTo>
                  <a:pt x="346" y="83"/>
                </a:lnTo>
                <a:lnTo>
                  <a:pt x="350" y="106"/>
                </a:lnTo>
                <a:lnTo>
                  <a:pt x="343" y="132"/>
                </a:lnTo>
                <a:lnTo>
                  <a:pt x="339" y="139"/>
                </a:lnTo>
                <a:lnTo>
                  <a:pt x="333" y="139"/>
                </a:lnTo>
                <a:lnTo>
                  <a:pt x="324" y="139"/>
                </a:lnTo>
                <a:lnTo>
                  <a:pt x="304" y="138"/>
                </a:lnTo>
                <a:lnTo>
                  <a:pt x="285" y="138"/>
                </a:lnTo>
                <a:lnTo>
                  <a:pt x="281" y="136"/>
                </a:lnTo>
                <a:lnTo>
                  <a:pt x="275" y="145"/>
                </a:lnTo>
                <a:lnTo>
                  <a:pt x="262" y="160"/>
                </a:lnTo>
                <a:lnTo>
                  <a:pt x="245" y="171"/>
                </a:lnTo>
                <a:lnTo>
                  <a:pt x="223" y="177"/>
                </a:lnTo>
                <a:lnTo>
                  <a:pt x="201" y="180"/>
                </a:lnTo>
                <a:lnTo>
                  <a:pt x="179" y="176"/>
                </a:lnTo>
                <a:lnTo>
                  <a:pt x="169" y="171"/>
                </a:lnTo>
                <a:lnTo>
                  <a:pt x="161" y="168"/>
                </a:lnTo>
                <a:lnTo>
                  <a:pt x="149" y="161"/>
                </a:lnTo>
                <a:lnTo>
                  <a:pt x="140" y="158"/>
                </a:lnTo>
                <a:lnTo>
                  <a:pt x="137" y="158"/>
                </a:lnTo>
                <a:lnTo>
                  <a:pt x="136" y="160"/>
                </a:lnTo>
                <a:lnTo>
                  <a:pt x="133" y="162"/>
                </a:lnTo>
                <a:lnTo>
                  <a:pt x="132" y="165"/>
                </a:lnTo>
                <a:lnTo>
                  <a:pt x="130" y="171"/>
                </a:lnTo>
                <a:lnTo>
                  <a:pt x="124" y="186"/>
                </a:lnTo>
                <a:lnTo>
                  <a:pt x="124" y="186"/>
                </a:lnTo>
                <a:lnTo>
                  <a:pt x="119" y="186"/>
                </a:lnTo>
                <a:lnTo>
                  <a:pt x="107" y="186"/>
                </a:lnTo>
                <a:lnTo>
                  <a:pt x="87" y="181"/>
                </a:lnTo>
                <a:lnTo>
                  <a:pt x="63" y="174"/>
                </a:lnTo>
                <a:lnTo>
                  <a:pt x="56" y="171"/>
                </a:lnTo>
                <a:lnTo>
                  <a:pt x="49" y="170"/>
                </a:lnTo>
                <a:lnTo>
                  <a:pt x="43" y="165"/>
                </a:lnTo>
                <a:lnTo>
                  <a:pt x="39" y="158"/>
                </a:lnTo>
                <a:lnTo>
                  <a:pt x="36" y="149"/>
                </a:lnTo>
                <a:lnTo>
                  <a:pt x="30" y="129"/>
                </a:lnTo>
                <a:lnTo>
                  <a:pt x="26" y="90"/>
                </a:lnTo>
                <a:lnTo>
                  <a:pt x="26" y="80"/>
                </a:lnTo>
                <a:lnTo>
                  <a:pt x="21" y="77"/>
                </a:lnTo>
                <a:lnTo>
                  <a:pt x="8" y="64"/>
                </a:lnTo>
                <a:lnTo>
                  <a:pt x="0" y="55"/>
                </a:lnTo>
                <a:lnTo>
                  <a:pt x="0" y="54"/>
                </a:lnTo>
                <a:lnTo>
                  <a:pt x="3" y="47"/>
                </a:lnTo>
                <a:lnTo>
                  <a:pt x="8" y="32"/>
                </a:lnTo>
                <a:lnTo>
                  <a:pt x="23" y="12"/>
                </a:lnTo>
                <a:lnTo>
                  <a:pt x="32" y="6"/>
                </a:lnTo>
                <a:lnTo>
                  <a:pt x="45" y="2"/>
                </a:lnTo>
                <a:lnTo>
                  <a:pt x="53" y="0"/>
                </a:lnTo>
                <a:lnTo>
                  <a:pt x="55" y="5"/>
                </a:lnTo>
                <a:lnTo>
                  <a:pt x="56" y="7"/>
                </a:lnTo>
                <a:lnTo>
                  <a:pt x="58" y="10"/>
                </a:lnTo>
                <a:lnTo>
                  <a:pt x="59" y="13"/>
                </a:lnTo>
                <a:lnTo>
                  <a:pt x="58" y="20"/>
                </a:lnTo>
                <a:lnTo>
                  <a:pt x="58" y="29"/>
                </a:lnTo>
                <a:lnTo>
                  <a:pt x="55" y="44"/>
                </a:lnTo>
                <a:lnTo>
                  <a:pt x="56" y="44"/>
                </a:lnTo>
                <a:lnTo>
                  <a:pt x="62" y="45"/>
                </a:lnTo>
                <a:lnTo>
                  <a:pt x="71" y="44"/>
                </a:lnTo>
                <a:lnTo>
                  <a:pt x="77" y="42"/>
                </a:lnTo>
                <a:lnTo>
                  <a:pt x="81" y="39"/>
                </a:lnTo>
                <a:lnTo>
                  <a:pt x="85" y="34"/>
                </a:lnTo>
                <a:lnTo>
                  <a:pt x="94" y="23"/>
                </a:lnTo>
                <a:lnTo>
                  <a:pt x="101" y="16"/>
                </a:lnTo>
                <a:lnTo>
                  <a:pt x="104" y="20"/>
                </a:lnTo>
                <a:lnTo>
                  <a:pt x="106" y="26"/>
                </a:lnTo>
                <a:lnTo>
                  <a:pt x="108" y="36"/>
                </a:lnTo>
                <a:lnTo>
                  <a:pt x="110" y="48"/>
                </a:lnTo>
                <a:lnTo>
                  <a:pt x="110" y="71"/>
                </a:lnTo>
                <a:lnTo>
                  <a:pt x="110" y="81"/>
                </a:lnTo>
                <a:lnTo>
                  <a:pt x="110" y="8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726240" y="1884240"/>
            <a:ext cx="55440" cy="73080"/>
          </a:xfrm>
          <a:custGeom>
            <a:avLst/>
            <a:gdLst/>
            <a:ahLst/>
            <a:rect l="l" t="t" r="r" b="b"/>
            <a:pathLst>
              <a:path w="158" h="226">
                <a:moveTo>
                  <a:pt x="158" y="140"/>
                </a:moveTo>
                <a:lnTo>
                  <a:pt x="156" y="143"/>
                </a:lnTo>
                <a:lnTo>
                  <a:pt x="147" y="155"/>
                </a:lnTo>
                <a:lnTo>
                  <a:pt x="118" y="194"/>
                </a:lnTo>
                <a:lnTo>
                  <a:pt x="95" y="224"/>
                </a:lnTo>
                <a:lnTo>
                  <a:pt x="95" y="226"/>
                </a:lnTo>
                <a:lnTo>
                  <a:pt x="87" y="226"/>
                </a:lnTo>
                <a:lnTo>
                  <a:pt x="72" y="221"/>
                </a:lnTo>
                <a:lnTo>
                  <a:pt x="62" y="214"/>
                </a:lnTo>
                <a:lnTo>
                  <a:pt x="55" y="204"/>
                </a:lnTo>
                <a:lnTo>
                  <a:pt x="50" y="192"/>
                </a:lnTo>
                <a:lnTo>
                  <a:pt x="45" y="179"/>
                </a:lnTo>
                <a:lnTo>
                  <a:pt x="43" y="172"/>
                </a:lnTo>
                <a:lnTo>
                  <a:pt x="45" y="171"/>
                </a:lnTo>
                <a:lnTo>
                  <a:pt x="52" y="162"/>
                </a:lnTo>
                <a:lnTo>
                  <a:pt x="58" y="156"/>
                </a:lnTo>
                <a:lnTo>
                  <a:pt x="59" y="155"/>
                </a:lnTo>
                <a:lnTo>
                  <a:pt x="47" y="146"/>
                </a:lnTo>
                <a:lnTo>
                  <a:pt x="33" y="137"/>
                </a:lnTo>
                <a:lnTo>
                  <a:pt x="23" y="137"/>
                </a:lnTo>
                <a:lnTo>
                  <a:pt x="20" y="137"/>
                </a:lnTo>
                <a:lnTo>
                  <a:pt x="18" y="137"/>
                </a:lnTo>
                <a:lnTo>
                  <a:pt x="14" y="133"/>
                </a:lnTo>
                <a:lnTo>
                  <a:pt x="11" y="126"/>
                </a:lnTo>
                <a:lnTo>
                  <a:pt x="7" y="97"/>
                </a:lnTo>
                <a:lnTo>
                  <a:pt x="7" y="97"/>
                </a:lnTo>
                <a:lnTo>
                  <a:pt x="3" y="82"/>
                </a:lnTo>
                <a:lnTo>
                  <a:pt x="0" y="58"/>
                </a:lnTo>
                <a:lnTo>
                  <a:pt x="3" y="39"/>
                </a:lnTo>
                <a:lnTo>
                  <a:pt x="8" y="26"/>
                </a:lnTo>
                <a:lnTo>
                  <a:pt x="16" y="16"/>
                </a:lnTo>
                <a:lnTo>
                  <a:pt x="21" y="6"/>
                </a:lnTo>
                <a:lnTo>
                  <a:pt x="23" y="0"/>
                </a:lnTo>
                <a:lnTo>
                  <a:pt x="27" y="1"/>
                </a:lnTo>
                <a:lnTo>
                  <a:pt x="33" y="7"/>
                </a:lnTo>
                <a:lnTo>
                  <a:pt x="46" y="23"/>
                </a:lnTo>
                <a:lnTo>
                  <a:pt x="78" y="56"/>
                </a:lnTo>
                <a:lnTo>
                  <a:pt x="92" y="63"/>
                </a:lnTo>
                <a:lnTo>
                  <a:pt x="103" y="77"/>
                </a:lnTo>
                <a:lnTo>
                  <a:pt x="133" y="113"/>
                </a:lnTo>
                <a:lnTo>
                  <a:pt x="156" y="139"/>
                </a:lnTo>
                <a:lnTo>
                  <a:pt x="158" y="140"/>
                </a:lnTo>
                <a:lnTo>
                  <a:pt x="158" y="14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746760" y="1820880"/>
            <a:ext cx="101880" cy="173160"/>
          </a:xfrm>
          <a:custGeom>
            <a:avLst/>
            <a:gdLst/>
            <a:ahLst/>
            <a:rect l="l" t="t" r="r" b="b"/>
            <a:pathLst>
              <a:path w="294" h="532">
                <a:moveTo>
                  <a:pt x="130" y="252"/>
                </a:moveTo>
                <a:lnTo>
                  <a:pt x="126" y="249"/>
                </a:lnTo>
                <a:lnTo>
                  <a:pt x="125" y="246"/>
                </a:lnTo>
                <a:lnTo>
                  <a:pt x="123" y="244"/>
                </a:lnTo>
                <a:lnTo>
                  <a:pt x="123" y="241"/>
                </a:lnTo>
                <a:lnTo>
                  <a:pt x="125" y="238"/>
                </a:lnTo>
                <a:lnTo>
                  <a:pt x="126" y="235"/>
                </a:lnTo>
                <a:lnTo>
                  <a:pt x="128" y="232"/>
                </a:lnTo>
                <a:lnTo>
                  <a:pt x="133" y="225"/>
                </a:lnTo>
                <a:lnTo>
                  <a:pt x="141" y="216"/>
                </a:lnTo>
                <a:lnTo>
                  <a:pt x="145" y="210"/>
                </a:lnTo>
                <a:lnTo>
                  <a:pt x="151" y="203"/>
                </a:lnTo>
                <a:lnTo>
                  <a:pt x="152" y="199"/>
                </a:lnTo>
                <a:lnTo>
                  <a:pt x="152" y="197"/>
                </a:lnTo>
                <a:lnTo>
                  <a:pt x="148" y="197"/>
                </a:lnTo>
                <a:lnTo>
                  <a:pt x="146" y="197"/>
                </a:lnTo>
                <a:lnTo>
                  <a:pt x="139" y="200"/>
                </a:lnTo>
                <a:lnTo>
                  <a:pt x="123" y="209"/>
                </a:lnTo>
                <a:lnTo>
                  <a:pt x="106" y="217"/>
                </a:lnTo>
                <a:lnTo>
                  <a:pt x="91" y="223"/>
                </a:lnTo>
                <a:lnTo>
                  <a:pt x="88" y="222"/>
                </a:lnTo>
                <a:lnTo>
                  <a:pt x="77" y="220"/>
                </a:lnTo>
                <a:lnTo>
                  <a:pt x="55" y="216"/>
                </a:lnTo>
                <a:lnTo>
                  <a:pt x="17" y="202"/>
                </a:lnTo>
                <a:lnTo>
                  <a:pt x="6" y="194"/>
                </a:lnTo>
                <a:lnTo>
                  <a:pt x="1" y="191"/>
                </a:lnTo>
                <a:lnTo>
                  <a:pt x="0" y="188"/>
                </a:lnTo>
                <a:lnTo>
                  <a:pt x="0" y="186"/>
                </a:lnTo>
                <a:lnTo>
                  <a:pt x="4" y="175"/>
                </a:lnTo>
                <a:lnTo>
                  <a:pt x="10" y="155"/>
                </a:lnTo>
                <a:lnTo>
                  <a:pt x="13" y="138"/>
                </a:lnTo>
                <a:lnTo>
                  <a:pt x="16" y="122"/>
                </a:lnTo>
                <a:lnTo>
                  <a:pt x="26" y="107"/>
                </a:lnTo>
                <a:lnTo>
                  <a:pt x="46" y="97"/>
                </a:lnTo>
                <a:lnTo>
                  <a:pt x="64" y="91"/>
                </a:lnTo>
                <a:lnTo>
                  <a:pt x="71" y="88"/>
                </a:lnTo>
                <a:lnTo>
                  <a:pt x="78" y="84"/>
                </a:lnTo>
                <a:lnTo>
                  <a:pt x="97" y="68"/>
                </a:lnTo>
                <a:lnTo>
                  <a:pt x="139" y="31"/>
                </a:lnTo>
                <a:lnTo>
                  <a:pt x="174" y="0"/>
                </a:lnTo>
                <a:lnTo>
                  <a:pt x="178" y="3"/>
                </a:lnTo>
                <a:lnTo>
                  <a:pt x="196" y="12"/>
                </a:lnTo>
                <a:lnTo>
                  <a:pt x="209" y="17"/>
                </a:lnTo>
                <a:lnTo>
                  <a:pt x="210" y="17"/>
                </a:lnTo>
                <a:lnTo>
                  <a:pt x="214" y="16"/>
                </a:lnTo>
                <a:lnTo>
                  <a:pt x="225" y="13"/>
                </a:lnTo>
                <a:lnTo>
                  <a:pt x="246" y="10"/>
                </a:lnTo>
                <a:lnTo>
                  <a:pt x="268" y="10"/>
                </a:lnTo>
                <a:lnTo>
                  <a:pt x="274" y="9"/>
                </a:lnTo>
                <a:lnTo>
                  <a:pt x="274" y="17"/>
                </a:lnTo>
                <a:lnTo>
                  <a:pt x="274" y="36"/>
                </a:lnTo>
                <a:lnTo>
                  <a:pt x="271" y="78"/>
                </a:lnTo>
                <a:lnTo>
                  <a:pt x="264" y="97"/>
                </a:lnTo>
                <a:lnTo>
                  <a:pt x="252" y="110"/>
                </a:lnTo>
                <a:lnTo>
                  <a:pt x="245" y="115"/>
                </a:lnTo>
                <a:lnTo>
                  <a:pt x="252" y="119"/>
                </a:lnTo>
                <a:lnTo>
                  <a:pt x="275" y="132"/>
                </a:lnTo>
                <a:lnTo>
                  <a:pt x="293" y="142"/>
                </a:lnTo>
                <a:lnTo>
                  <a:pt x="294" y="142"/>
                </a:lnTo>
                <a:lnTo>
                  <a:pt x="291" y="155"/>
                </a:lnTo>
                <a:lnTo>
                  <a:pt x="285" y="181"/>
                </a:lnTo>
                <a:lnTo>
                  <a:pt x="271" y="238"/>
                </a:lnTo>
                <a:lnTo>
                  <a:pt x="255" y="280"/>
                </a:lnTo>
                <a:lnTo>
                  <a:pt x="251" y="284"/>
                </a:lnTo>
                <a:lnTo>
                  <a:pt x="252" y="297"/>
                </a:lnTo>
                <a:lnTo>
                  <a:pt x="256" y="322"/>
                </a:lnTo>
                <a:lnTo>
                  <a:pt x="256" y="377"/>
                </a:lnTo>
                <a:lnTo>
                  <a:pt x="243" y="430"/>
                </a:lnTo>
                <a:lnTo>
                  <a:pt x="238" y="442"/>
                </a:lnTo>
                <a:lnTo>
                  <a:pt x="245" y="446"/>
                </a:lnTo>
                <a:lnTo>
                  <a:pt x="271" y="459"/>
                </a:lnTo>
                <a:lnTo>
                  <a:pt x="291" y="468"/>
                </a:lnTo>
                <a:lnTo>
                  <a:pt x="293" y="468"/>
                </a:lnTo>
                <a:lnTo>
                  <a:pt x="291" y="474"/>
                </a:lnTo>
                <a:lnTo>
                  <a:pt x="290" y="483"/>
                </a:lnTo>
                <a:lnTo>
                  <a:pt x="284" y="499"/>
                </a:lnTo>
                <a:lnTo>
                  <a:pt x="275" y="513"/>
                </a:lnTo>
                <a:lnTo>
                  <a:pt x="274" y="514"/>
                </a:lnTo>
                <a:lnTo>
                  <a:pt x="268" y="514"/>
                </a:lnTo>
                <a:lnTo>
                  <a:pt x="259" y="513"/>
                </a:lnTo>
                <a:lnTo>
                  <a:pt x="243" y="509"/>
                </a:lnTo>
                <a:lnTo>
                  <a:pt x="230" y="506"/>
                </a:lnTo>
                <a:lnTo>
                  <a:pt x="229" y="504"/>
                </a:lnTo>
                <a:lnTo>
                  <a:pt x="219" y="510"/>
                </a:lnTo>
                <a:lnTo>
                  <a:pt x="199" y="519"/>
                </a:lnTo>
                <a:lnTo>
                  <a:pt x="151" y="532"/>
                </a:lnTo>
                <a:lnTo>
                  <a:pt x="103" y="530"/>
                </a:lnTo>
                <a:lnTo>
                  <a:pt x="91" y="526"/>
                </a:lnTo>
                <a:lnTo>
                  <a:pt x="91" y="516"/>
                </a:lnTo>
                <a:lnTo>
                  <a:pt x="96" y="484"/>
                </a:lnTo>
                <a:lnTo>
                  <a:pt x="97" y="459"/>
                </a:lnTo>
                <a:lnTo>
                  <a:pt x="99" y="458"/>
                </a:lnTo>
                <a:lnTo>
                  <a:pt x="103" y="457"/>
                </a:lnTo>
                <a:lnTo>
                  <a:pt x="114" y="452"/>
                </a:lnTo>
                <a:lnTo>
                  <a:pt x="141" y="446"/>
                </a:lnTo>
                <a:lnTo>
                  <a:pt x="165" y="443"/>
                </a:lnTo>
                <a:lnTo>
                  <a:pt x="171" y="442"/>
                </a:lnTo>
                <a:lnTo>
                  <a:pt x="165" y="441"/>
                </a:lnTo>
                <a:lnTo>
                  <a:pt x="152" y="436"/>
                </a:lnTo>
                <a:lnTo>
                  <a:pt x="114" y="422"/>
                </a:lnTo>
                <a:lnTo>
                  <a:pt x="99" y="413"/>
                </a:lnTo>
                <a:lnTo>
                  <a:pt x="88" y="406"/>
                </a:lnTo>
                <a:lnTo>
                  <a:pt x="88" y="401"/>
                </a:lnTo>
                <a:lnTo>
                  <a:pt x="90" y="400"/>
                </a:lnTo>
                <a:lnTo>
                  <a:pt x="94" y="397"/>
                </a:lnTo>
                <a:lnTo>
                  <a:pt x="101" y="391"/>
                </a:lnTo>
                <a:lnTo>
                  <a:pt x="120" y="365"/>
                </a:lnTo>
                <a:lnTo>
                  <a:pt x="129" y="332"/>
                </a:lnTo>
                <a:lnTo>
                  <a:pt x="128" y="320"/>
                </a:lnTo>
                <a:lnTo>
                  <a:pt x="125" y="312"/>
                </a:lnTo>
                <a:lnTo>
                  <a:pt x="122" y="306"/>
                </a:lnTo>
                <a:lnTo>
                  <a:pt x="117" y="300"/>
                </a:lnTo>
                <a:lnTo>
                  <a:pt x="112" y="297"/>
                </a:lnTo>
                <a:lnTo>
                  <a:pt x="106" y="294"/>
                </a:lnTo>
                <a:lnTo>
                  <a:pt x="96" y="290"/>
                </a:lnTo>
                <a:lnTo>
                  <a:pt x="91" y="288"/>
                </a:lnTo>
                <a:lnTo>
                  <a:pt x="88" y="284"/>
                </a:lnTo>
                <a:lnTo>
                  <a:pt x="88" y="278"/>
                </a:lnTo>
                <a:lnTo>
                  <a:pt x="88" y="271"/>
                </a:lnTo>
                <a:lnTo>
                  <a:pt x="90" y="271"/>
                </a:lnTo>
                <a:lnTo>
                  <a:pt x="93" y="265"/>
                </a:lnTo>
                <a:lnTo>
                  <a:pt x="100" y="262"/>
                </a:lnTo>
                <a:lnTo>
                  <a:pt x="109" y="262"/>
                </a:lnTo>
                <a:lnTo>
                  <a:pt x="117" y="264"/>
                </a:lnTo>
                <a:lnTo>
                  <a:pt x="129" y="268"/>
                </a:lnTo>
                <a:lnTo>
                  <a:pt x="149" y="280"/>
                </a:lnTo>
                <a:lnTo>
                  <a:pt x="177" y="296"/>
                </a:lnTo>
                <a:lnTo>
                  <a:pt x="178" y="294"/>
                </a:lnTo>
                <a:lnTo>
                  <a:pt x="174" y="291"/>
                </a:lnTo>
                <a:lnTo>
                  <a:pt x="171" y="288"/>
                </a:lnTo>
                <a:lnTo>
                  <a:pt x="162" y="281"/>
                </a:lnTo>
                <a:lnTo>
                  <a:pt x="142" y="265"/>
                </a:lnTo>
                <a:lnTo>
                  <a:pt x="130" y="252"/>
                </a:lnTo>
                <a:lnTo>
                  <a:pt x="130" y="25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196040" y="3592440"/>
            <a:ext cx="163440" cy="66600"/>
          </a:xfrm>
          <a:custGeom>
            <a:avLst/>
            <a:gdLst/>
            <a:ahLst/>
            <a:rect l="l" t="t" r="r" b="b"/>
            <a:pathLst>
              <a:path w="475" h="200">
                <a:moveTo>
                  <a:pt x="0" y="48"/>
                </a:moveTo>
                <a:lnTo>
                  <a:pt x="14" y="61"/>
                </a:lnTo>
                <a:lnTo>
                  <a:pt x="36" y="78"/>
                </a:lnTo>
                <a:lnTo>
                  <a:pt x="50" y="90"/>
                </a:lnTo>
                <a:lnTo>
                  <a:pt x="65" y="96"/>
                </a:lnTo>
                <a:lnTo>
                  <a:pt x="86" y="99"/>
                </a:lnTo>
                <a:lnTo>
                  <a:pt x="120" y="100"/>
                </a:lnTo>
                <a:lnTo>
                  <a:pt x="143" y="102"/>
                </a:lnTo>
                <a:lnTo>
                  <a:pt x="162" y="84"/>
                </a:lnTo>
                <a:lnTo>
                  <a:pt x="208" y="49"/>
                </a:lnTo>
                <a:lnTo>
                  <a:pt x="314" y="3"/>
                </a:lnTo>
                <a:lnTo>
                  <a:pt x="368" y="0"/>
                </a:lnTo>
                <a:lnTo>
                  <a:pt x="415" y="18"/>
                </a:lnTo>
                <a:lnTo>
                  <a:pt x="439" y="35"/>
                </a:lnTo>
                <a:lnTo>
                  <a:pt x="436" y="44"/>
                </a:lnTo>
                <a:lnTo>
                  <a:pt x="437" y="52"/>
                </a:lnTo>
                <a:lnTo>
                  <a:pt x="440" y="58"/>
                </a:lnTo>
                <a:lnTo>
                  <a:pt x="446" y="64"/>
                </a:lnTo>
                <a:lnTo>
                  <a:pt x="453" y="70"/>
                </a:lnTo>
                <a:lnTo>
                  <a:pt x="466" y="81"/>
                </a:lnTo>
                <a:lnTo>
                  <a:pt x="470" y="87"/>
                </a:lnTo>
                <a:lnTo>
                  <a:pt x="473" y="93"/>
                </a:lnTo>
                <a:lnTo>
                  <a:pt x="472" y="99"/>
                </a:lnTo>
                <a:lnTo>
                  <a:pt x="466" y="107"/>
                </a:lnTo>
                <a:lnTo>
                  <a:pt x="456" y="115"/>
                </a:lnTo>
                <a:lnTo>
                  <a:pt x="456" y="115"/>
                </a:lnTo>
                <a:lnTo>
                  <a:pt x="466" y="123"/>
                </a:lnTo>
                <a:lnTo>
                  <a:pt x="473" y="131"/>
                </a:lnTo>
                <a:lnTo>
                  <a:pt x="475" y="138"/>
                </a:lnTo>
                <a:lnTo>
                  <a:pt x="473" y="144"/>
                </a:lnTo>
                <a:lnTo>
                  <a:pt x="470" y="149"/>
                </a:lnTo>
                <a:lnTo>
                  <a:pt x="465" y="154"/>
                </a:lnTo>
                <a:lnTo>
                  <a:pt x="457" y="158"/>
                </a:lnTo>
                <a:lnTo>
                  <a:pt x="444" y="165"/>
                </a:lnTo>
                <a:lnTo>
                  <a:pt x="440" y="168"/>
                </a:lnTo>
                <a:lnTo>
                  <a:pt x="439" y="170"/>
                </a:lnTo>
                <a:lnTo>
                  <a:pt x="437" y="171"/>
                </a:lnTo>
                <a:lnTo>
                  <a:pt x="437" y="173"/>
                </a:lnTo>
                <a:lnTo>
                  <a:pt x="439" y="173"/>
                </a:lnTo>
                <a:lnTo>
                  <a:pt x="427" y="165"/>
                </a:lnTo>
                <a:lnTo>
                  <a:pt x="405" y="148"/>
                </a:lnTo>
                <a:lnTo>
                  <a:pt x="365" y="106"/>
                </a:lnTo>
                <a:lnTo>
                  <a:pt x="328" y="62"/>
                </a:lnTo>
                <a:lnTo>
                  <a:pt x="320" y="52"/>
                </a:lnTo>
                <a:lnTo>
                  <a:pt x="304" y="61"/>
                </a:lnTo>
                <a:lnTo>
                  <a:pt x="281" y="81"/>
                </a:lnTo>
                <a:lnTo>
                  <a:pt x="262" y="107"/>
                </a:lnTo>
                <a:lnTo>
                  <a:pt x="246" y="135"/>
                </a:lnTo>
                <a:lnTo>
                  <a:pt x="211" y="189"/>
                </a:lnTo>
                <a:lnTo>
                  <a:pt x="201" y="200"/>
                </a:lnTo>
                <a:lnTo>
                  <a:pt x="186" y="200"/>
                </a:lnTo>
                <a:lnTo>
                  <a:pt x="162" y="193"/>
                </a:lnTo>
                <a:lnTo>
                  <a:pt x="139" y="180"/>
                </a:lnTo>
                <a:lnTo>
                  <a:pt x="94" y="154"/>
                </a:lnTo>
                <a:lnTo>
                  <a:pt x="56" y="145"/>
                </a:lnTo>
                <a:lnTo>
                  <a:pt x="52" y="149"/>
                </a:lnTo>
                <a:lnTo>
                  <a:pt x="47" y="155"/>
                </a:lnTo>
                <a:lnTo>
                  <a:pt x="37" y="168"/>
                </a:lnTo>
                <a:lnTo>
                  <a:pt x="30" y="173"/>
                </a:lnTo>
                <a:lnTo>
                  <a:pt x="21" y="174"/>
                </a:lnTo>
                <a:lnTo>
                  <a:pt x="15" y="174"/>
                </a:lnTo>
                <a:lnTo>
                  <a:pt x="13" y="155"/>
                </a:lnTo>
                <a:lnTo>
                  <a:pt x="5" y="96"/>
                </a:lnTo>
                <a:lnTo>
                  <a:pt x="0" y="51"/>
                </a:lnTo>
                <a:lnTo>
                  <a:pt x="0" y="48"/>
                </a:lnTo>
                <a:lnTo>
                  <a:pt x="0" y="48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059600" y="3502080"/>
            <a:ext cx="117360" cy="111240"/>
          </a:xfrm>
          <a:custGeom>
            <a:avLst/>
            <a:gdLst/>
            <a:ahLst/>
            <a:rect l="l" t="t" r="r" b="b"/>
            <a:pathLst>
              <a:path w="338" h="336">
                <a:moveTo>
                  <a:pt x="245" y="269"/>
                </a:moveTo>
                <a:lnTo>
                  <a:pt x="228" y="271"/>
                </a:lnTo>
                <a:lnTo>
                  <a:pt x="202" y="271"/>
                </a:lnTo>
                <a:lnTo>
                  <a:pt x="183" y="275"/>
                </a:lnTo>
                <a:lnTo>
                  <a:pt x="169" y="283"/>
                </a:lnTo>
                <a:lnTo>
                  <a:pt x="157" y="297"/>
                </a:lnTo>
                <a:lnTo>
                  <a:pt x="144" y="322"/>
                </a:lnTo>
                <a:lnTo>
                  <a:pt x="138" y="336"/>
                </a:lnTo>
                <a:lnTo>
                  <a:pt x="129" y="327"/>
                </a:lnTo>
                <a:lnTo>
                  <a:pt x="111" y="304"/>
                </a:lnTo>
                <a:lnTo>
                  <a:pt x="66" y="248"/>
                </a:lnTo>
                <a:lnTo>
                  <a:pt x="13" y="191"/>
                </a:lnTo>
                <a:lnTo>
                  <a:pt x="0" y="178"/>
                </a:lnTo>
                <a:lnTo>
                  <a:pt x="3" y="177"/>
                </a:lnTo>
                <a:lnTo>
                  <a:pt x="19" y="165"/>
                </a:lnTo>
                <a:lnTo>
                  <a:pt x="61" y="130"/>
                </a:lnTo>
                <a:lnTo>
                  <a:pt x="90" y="101"/>
                </a:lnTo>
                <a:lnTo>
                  <a:pt x="93" y="97"/>
                </a:lnTo>
                <a:lnTo>
                  <a:pt x="106" y="88"/>
                </a:lnTo>
                <a:lnTo>
                  <a:pt x="142" y="70"/>
                </a:lnTo>
                <a:lnTo>
                  <a:pt x="234" y="30"/>
                </a:lnTo>
                <a:lnTo>
                  <a:pt x="316" y="4"/>
                </a:lnTo>
                <a:lnTo>
                  <a:pt x="332" y="0"/>
                </a:lnTo>
                <a:lnTo>
                  <a:pt x="331" y="7"/>
                </a:lnTo>
                <a:lnTo>
                  <a:pt x="328" y="20"/>
                </a:lnTo>
                <a:lnTo>
                  <a:pt x="318" y="45"/>
                </a:lnTo>
                <a:lnTo>
                  <a:pt x="306" y="62"/>
                </a:lnTo>
                <a:lnTo>
                  <a:pt x="305" y="64"/>
                </a:lnTo>
                <a:lnTo>
                  <a:pt x="305" y="72"/>
                </a:lnTo>
                <a:lnTo>
                  <a:pt x="308" y="91"/>
                </a:lnTo>
                <a:lnTo>
                  <a:pt x="321" y="135"/>
                </a:lnTo>
                <a:lnTo>
                  <a:pt x="335" y="175"/>
                </a:lnTo>
                <a:lnTo>
                  <a:pt x="338" y="183"/>
                </a:lnTo>
                <a:lnTo>
                  <a:pt x="329" y="191"/>
                </a:lnTo>
                <a:lnTo>
                  <a:pt x="318" y="203"/>
                </a:lnTo>
                <a:lnTo>
                  <a:pt x="313" y="210"/>
                </a:lnTo>
                <a:lnTo>
                  <a:pt x="311" y="219"/>
                </a:lnTo>
                <a:lnTo>
                  <a:pt x="312" y="232"/>
                </a:lnTo>
                <a:lnTo>
                  <a:pt x="313" y="251"/>
                </a:lnTo>
                <a:lnTo>
                  <a:pt x="315" y="264"/>
                </a:lnTo>
                <a:lnTo>
                  <a:pt x="308" y="265"/>
                </a:lnTo>
                <a:lnTo>
                  <a:pt x="295" y="265"/>
                </a:lnTo>
                <a:lnTo>
                  <a:pt x="271" y="268"/>
                </a:lnTo>
                <a:lnTo>
                  <a:pt x="250" y="269"/>
                </a:lnTo>
                <a:lnTo>
                  <a:pt x="245" y="269"/>
                </a:lnTo>
                <a:lnTo>
                  <a:pt x="245" y="269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07120" y="3587760"/>
            <a:ext cx="92160" cy="61920"/>
          </a:xfrm>
          <a:custGeom>
            <a:avLst/>
            <a:gdLst/>
            <a:ahLst/>
            <a:rect l="l" t="t" r="r" b="b"/>
            <a:pathLst>
              <a:path w="270" h="188">
                <a:moveTo>
                  <a:pt x="178" y="0"/>
                </a:moveTo>
                <a:lnTo>
                  <a:pt x="168" y="1"/>
                </a:lnTo>
                <a:lnTo>
                  <a:pt x="148" y="1"/>
                </a:lnTo>
                <a:lnTo>
                  <a:pt x="107" y="5"/>
                </a:lnTo>
                <a:lnTo>
                  <a:pt x="68" y="5"/>
                </a:lnTo>
                <a:lnTo>
                  <a:pt x="59" y="4"/>
                </a:lnTo>
                <a:lnTo>
                  <a:pt x="49" y="4"/>
                </a:lnTo>
                <a:lnTo>
                  <a:pt x="41" y="7"/>
                </a:lnTo>
                <a:lnTo>
                  <a:pt x="35" y="10"/>
                </a:lnTo>
                <a:lnTo>
                  <a:pt x="28" y="16"/>
                </a:lnTo>
                <a:lnTo>
                  <a:pt x="23" y="21"/>
                </a:lnTo>
                <a:lnTo>
                  <a:pt x="15" y="36"/>
                </a:lnTo>
                <a:lnTo>
                  <a:pt x="9" y="52"/>
                </a:lnTo>
                <a:lnTo>
                  <a:pt x="3" y="68"/>
                </a:lnTo>
                <a:lnTo>
                  <a:pt x="0" y="74"/>
                </a:lnTo>
                <a:lnTo>
                  <a:pt x="3" y="76"/>
                </a:lnTo>
                <a:lnTo>
                  <a:pt x="15" y="85"/>
                </a:lnTo>
                <a:lnTo>
                  <a:pt x="49" y="103"/>
                </a:lnTo>
                <a:lnTo>
                  <a:pt x="81" y="116"/>
                </a:lnTo>
                <a:lnTo>
                  <a:pt x="87" y="116"/>
                </a:lnTo>
                <a:lnTo>
                  <a:pt x="87" y="105"/>
                </a:lnTo>
                <a:lnTo>
                  <a:pt x="88" y="91"/>
                </a:lnTo>
                <a:lnTo>
                  <a:pt x="90" y="87"/>
                </a:lnTo>
                <a:lnTo>
                  <a:pt x="91" y="85"/>
                </a:lnTo>
                <a:lnTo>
                  <a:pt x="93" y="84"/>
                </a:lnTo>
                <a:lnTo>
                  <a:pt x="94" y="84"/>
                </a:lnTo>
                <a:lnTo>
                  <a:pt x="97" y="85"/>
                </a:lnTo>
                <a:lnTo>
                  <a:pt x="99" y="87"/>
                </a:lnTo>
                <a:lnTo>
                  <a:pt x="100" y="90"/>
                </a:lnTo>
                <a:lnTo>
                  <a:pt x="103" y="94"/>
                </a:lnTo>
                <a:lnTo>
                  <a:pt x="109" y="104"/>
                </a:lnTo>
                <a:lnTo>
                  <a:pt x="112" y="107"/>
                </a:lnTo>
                <a:lnTo>
                  <a:pt x="120" y="107"/>
                </a:lnTo>
                <a:lnTo>
                  <a:pt x="146" y="107"/>
                </a:lnTo>
                <a:lnTo>
                  <a:pt x="167" y="107"/>
                </a:lnTo>
                <a:lnTo>
                  <a:pt x="168" y="107"/>
                </a:lnTo>
                <a:lnTo>
                  <a:pt x="168" y="120"/>
                </a:lnTo>
                <a:lnTo>
                  <a:pt x="171" y="136"/>
                </a:lnTo>
                <a:lnTo>
                  <a:pt x="175" y="140"/>
                </a:lnTo>
                <a:lnTo>
                  <a:pt x="181" y="143"/>
                </a:lnTo>
                <a:lnTo>
                  <a:pt x="186" y="147"/>
                </a:lnTo>
                <a:lnTo>
                  <a:pt x="188" y="161"/>
                </a:lnTo>
                <a:lnTo>
                  <a:pt x="190" y="172"/>
                </a:lnTo>
                <a:lnTo>
                  <a:pt x="193" y="175"/>
                </a:lnTo>
                <a:lnTo>
                  <a:pt x="201" y="179"/>
                </a:lnTo>
                <a:lnTo>
                  <a:pt x="225" y="185"/>
                </a:lnTo>
                <a:lnTo>
                  <a:pt x="252" y="188"/>
                </a:lnTo>
                <a:lnTo>
                  <a:pt x="259" y="188"/>
                </a:lnTo>
                <a:lnTo>
                  <a:pt x="264" y="176"/>
                </a:lnTo>
                <a:lnTo>
                  <a:pt x="270" y="156"/>
                </a:lnTo>
                <a:lnTo>
                  <a:pt x="270" y="139"/>
                </a:lnTo>
                <a:lnTo>
                  <a:pt x="265" y="121"/>
                </a:lnTo>
                <a:lnTo>
                  <a:pt x="257" y="78"/>
                </a:lnTo>
                <a:lnTo>
                  <a:pt x="257" y="63"/>
                </a:lnTo>
                <a:lnTo>
                  <a:pt x="249" y="58"/>
                </a:lnTo>
                <a:lnTo>
                  <a:pt x="236" y="46"/>
                </a:lnTo>
                <a:lnTo>
                  <a:pt x="209" y="24"/>
                </a:lnTo>
                <a:lnTo>
                  <a:pt x="183" y="4"/>
                </a:lnTo>
                <a:lnTo>
                  <a:pt x="178" y="0"/>
                </a:lnTo>
                <a:lnTo>
                  <a:pt x="178" y="0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440480" y="3289320"/>
            <a:ext cx="84240" cy="68400"/>
          </a:xfrm>
          <a:custGeom>
            <a:avLst/>
            <a:gdLst/>
            <a:ahLst/>
            <a:rect l="l" t="t" r="r" b="b"/>
            <a:pathLst>
              <a:path w="249" h="207">
                <a:moveTo>
                  <a:pt x="0" y="31"/>
                </a:moveTo>
                <a:lnTo>
                  <a:pt x="6" y="26"/>
                </a:lnTo>
                <a:lnTo>
                  <a:pt x="15" y="19"/>
                </a:lnTo>
                <a:lnTo>
                  <a:pt x="28" y="10"/>
                </a:lnTo>
                <a:lnTo>
                  <a:pt x="36" y="6"/>
                </a:lnTo>
                <a:lnTo>
                  <a:pt x="39" y="5"/>
                </a:lnTo>
                <a:lnTo>
                  <a:pt x="49" y="2"/>
                </a:lnTo>
                <a:lnTo>
                  <a:pt x="60" y="0"/>
                </a:lnTo>
                <a:lnTo>
                  <a:pt x="70" y="2"/>
                </a:lnTo>
                <a:lnTo>
                  <a:pt x="90" y="7"/>
                </a:lnTo>
                <a:lnTo>
                  <a:pt x="110" y="16"/>
                </a:lnTo>
                <a:lnTo>
                  <a:pt x="145" y="41"/>
                </a:lnTo>
                <a:lnTo>
                  <a:pt x="152" y="45"/>
                </a:lnTo>
                <a:lnTo>
                  <a:pt x="158" y="45"/>
                </a:lnTo>
                <a:lnTo>
                  <a:pt x="173" y="44"/>
                </a:lnTo>
                <a:lnTo>
                  <a:pt x="206" y="38"/>
                </a:lnTo>
                <a:lnTo>
                  <a:pt x="235" y="36"/>
                </a:lnTo>
                <a:lnTo>
                  <a:pt x="241" y="36"/>
                </a:lnTo>
                <a:lnTo>
                  <a:pt x="241" y="44"/>
                </a:lnTo>
                <a:lnTo>
                  <a:pt x="242" y="55"/>
                </a:lnTo>
                <a:lnTo>
                  <a:pt x="244" y="73"/>
                </a:lnTo>
                <a:lnTo>
                  <a:pt x="248" y="94"/>
                </a:lnTo>
                <a:lnTo>
                  <a:pt x="249" y="100"/>
                </a:lnTo>
                <a:lnTo>
                  <a:pt x="239" y="103"/>
                </a:lnTo>
                <a:lnTo>
                  <a:pt x="219" y="112"/>
                </a:lnTo>
                <a:lnTo>
                  <a:pt x="199" y="122"/>
                </a:lnTo>
                <a:lnTo>
                  <a:pt x="157" y="145"/>
                </a:lnTo>
                <a:lnTo>
                  <a:pt x="128" y="151"/>
                </a:lnTo>
                <a:lnTo>
                  <a:pt x="125" y="149"/>
                </a:lnTo>
                <a:lnTo>
                  <a:pt x="122" y="144"/>
                </a:lnTo>
                <a:lnTo>
                  <a:pt x="116" y="132"/>
                </a:lnTo>
                <a:lnTo>
                  <a:pt x="110" y="121"/>
                </a:lnTo>
                <a:lnTo>
                  <a:pt x="109" y="118"/>
                </a:lnTo>
                <a:lnTo>
                  <a:pt x="107" y="119"/>
                </a:lnTo>
                <a:lnTo>
                  <a:pt x="104" y="121"/>
                </a:lnTo>
                <a:lnTo>
                  <a:pt x="99" y="123"/>
                </a:lnTo>
                <a:lnTo>
                  <a:pt x="86" y="132"/>
                </a:lnTo>
                <a:lnTo>
                  <a:pt x="80" y="138"/>
                </a:lnTo>
                <a:lnTo>
                  <a:pt x="74" y="142"/>
                </a:lnTo>
                <a:lnTo>
                  <a:pt x="65" y="154"/>
                </a:lnTo>
                <a:lnTo>
                  <a:pt x="60" y="165"/>
                </a:lnTo>
                <a:lnTo>
                  <a:pt x="55" y="178"/>
                </a:lnTo>
                <a:lnTo>
                  <a:pt x="44" y="203"/>
                </a:lnTo>
                <a:lnTo>
                  <a:pt x="41" y="207"/>
                </a:lnTo>
                <a:lnTo>
                  <a:pt x="39" y="205"/>
                </a:lnTo>
                <a:lnTo>
                  <a:pt x="38" y="202"/>
                </a:lnTo>
                <a:lnTo>
                  <a:pt x="33" y="197"/>
                </a:lnTo>
                <a:lnTo>
                  <a:pt x="26" y="194"/>
                </a:lnTo>
                <a:lnTo>
                  <a:pt x="20" y="193"/>
                </a:lnTo>
                <a:lnTo>
                  <a:pt x="12" y="194"/>
                </a:lnTo>
                <a:lnTo>
                  <a:pt x="9" y="196"/>
                </a:lnTo>
                <a:lnTo>
                  <a:pt x="9" y="187"/>
                </a:lnTo>
                <a:lnTo>
                  <a:pt x="12" y="161"/>
                </a:lnTo>
                <a:lnTo>
                  <a:pt x="12" y="99"/>
                </a:lnTo>
                <a:lnTo>
                  <a:pt x="3" y="41"/>
                </a:lnTo>
                <a:lnTo>
                  <a:pt x="0" y="31"/>
                </a:lnTo>
                <a:lnTo>
                  <a:pt x="0" y="31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02440" y="3278160"/>
            <a:ext cx="341280" cy="115920"/>
          </a:xfrm>
          <a:custGeom>
            <a:avLst/>
            <a:gdLst/>
            <a:ahLst/>
            <a:rect l="l" t="t" r="r" b="b"/>
            <a:pathLst>
              <a:path w="988" h="346">
                <a:moveTo>
                  <a:pt x="956" y="209"/>
                </a:moveTo>
                <a:lnTo>
                  <a:pt x="950" y="204"/>
                </a:lnTo>
                <a:lnTo>
                  <a:pt x="946" y="201"/>
                </a:lnTo>
                <a:lnTo>
                  <a:pt x="943" y="200"/>
                </a:lnTo>
                <a:lnTo>
                  <a:pt x="942" y="200"/>
                </a:lnTo>
                <a:lnTo>
                  <a:pt x="940" y="201"/>
                </a:lnTo>
                <a:lnTo>
                  <a:pt x="939" y="204"/>
                </a:lnTo>
                <a:lnTo>
                  <a:pt x="939" y="207"/>
                </a:lnTo>
                <a:lnTo>
                  <a:pt x="937" y="216"/>
                </a:lnTo>
                <a:lnTo>
                  <a:pt x="933" y="225"/>
                </a:lnTo>
                <a:lnTo>
                  <a:pt x="930" y="227"/>
                </a:lnTo>
                <a:lnTo>
                  <a:pt x="926" y="229"/>
                </a:lnTo>
                <a:lnTo>
                  <a:pt x="919" y="230"/>
                </a:lnTo>
                <a:lnTo>
                  <a:pt x="894" y="233"/>
                </a:lnTo>
                <a:lnTo>
                  <a:pt x="830" y="236"/>
                </a:lnTo>
                <a:lnTo>
                  <a:pt x="798" y="214"/>
                </a:lnTo>
                <a:lnTo>
                  <a:pt x="806" y="214"/>
                </a:lnTo>
                <a:lnTo>
                  <a:pt x="814" y="211"/>
                </a:lnTo>
                <a:lnTo>
                  <a:pt x="839" y="206"/>
                </a:lnTo>
                <a:lnTo>
                  <a:pt x="894" y="190"/>
                </a:lnTo>
                <a:lnTo>
                  <a:pt x="917" y="178"/>
                </a:lnTo>
                <a:lnTo>
                  <a:pt x="914" y="172"/>
                </a:lnTo>
                <a:lnTo>
                  <a:pt x="910" y="165"/>
                </a:lnTo>
                <a:lnTo>
                  <a:pt x="904" y="158"/>
                </a:lnTo>
                <a:lnTo>
                  <a:pt x="888" y="143"/>
                </a:lnTo>
                <a:lnTo>
                  <a:pt x="855" y="114"/>
                </a:lnTo>
                <a:lnTo>
                  <a:pt x="852" y="98"/>
                </a:lnTo>
                <a:lnTo>
                  <a:pt x="856" y="93"/>
                </a:lnTo>
                <a:lnTo>
                  <a:pt x="868" y="84"/>
                </a:lnTo>
                <a:lnTo>
                  <a:pt x="878" y="77"/>
                </a:lnTo>
                <a:lnTo>
                  <a:pt x="890" y="74"/>
                </a:lnTo>
                <a:lnTo>
                  <a:pt x="900" y="72"/>
                </a:lnTo>
                <a:lnTo>
                  <a:pt x="910" y="75"/>
                </a:lnTo>
                <a:lnTo>
                  <a:pt x="916" y="77"/>
                </a:lnTo>
                <a:lnTo>
                  <a:pt x="917" y="77"/>
                </a:lnTo>
                <a:lnTo>
                  <a:pt x="920" y="74"/>
                </a:lnTo>
                <a:lnTo>
                  <a:pt x="924" y="71"/>
                </a:lnTo>
                <a:lnTo>
                  <a:pt x="935" y="61"/>
                </a:lnTo>
                <a:lnTo>
                  <a:pt x="948" y="52"/>
                </a:lnTo>
                <a:lnTo>
                  <a:pt x="953" y="51"/>
                </a:lnTo>
                <a:lnTo>
                  <a:pt x="959" y="49"/>
                </a:lnTo>
                <a:lnTo>
                  <a:pt x="965" y="52"/>
                </a:lnTo>
                <a:lnTo>
                  <a:pt x="971" y="58"/>
                </a:lnTo>
                <a:lnTo>
                  <a:pt x="975" y="67"/>
                </a:lnTo>
                <a:lnTo>
                  <a:pt x="977" y="67"/>
                </a:lnTo>
                <a:lnTo>
                  <a:pt x="979" y="78"/>
                </a:lnTo>
                <a:lnTo>
                  <a:pt x="985" y="97"/>
                </a:lnTo>
                <a:lnTo>
                  <a:pt x="988" y="138"/>
                </a:lnTo>
                <a:lnTo>
                  <a:pt x="984" y="206"/>
                </a:lnTo>
                <a:lnTo>
                  <a:pt x="982" y="230"/>
                </a:lnTo>
                <a:lnTo>
                  <a:pt x="978" y="229"/>
                </a:lnTo>
                <a:lnTo>
                  <a:pt x="971" y="225"/>
                </a:lnTo>
                <a:lnTo>
                  <a:pt x="961" y="217"/>
                </a:lnTo>
                <a:lnTo>
                  <a:pt x="958" y="214"/>
                </a:lnTo>
                <a:lnTo>
                  <a:pt x="956" y="211"/>
                </a:lnTo>
                <a:lnTo>
                  <a:pt x="956" y="209"/>
                </a:lnTo>
                <a:lnTo>
                  <a:pt x="956" y="209"/>
                </a:lnTo>
                <a:close/>
                <a:moveTo>
                  <a:pt x="535" y="319"/>
                </a:moveTo>
                <a:lnTo>
                  <a:pt x="533" y="313"/>
                </a:lnTo>
                <a:lnTo>
                  <a:pt x="532" y="309"/>
                </a:lnTo>
                <a:lnTo>
                  <a:pt x="530" y="300"/>
                </a:lnTo>
                <a:lnTo>
                  <a:pt x="530" y="293"/>
                </a:lnTo>
                <a:lnTo>
                  <a:pt x="532" y="290"/>
                </a:lnTo>
                <a:lnTo>
                  <a:pt x="535" y="288"/>
                </a:lnTo>
                <a:lnTo>
                  <a:pt x="539" y="290"/>
                </a:lnTo>
                <a:lnTo>
                  <a:pt x="543" y="291"/>
                </a:lnTo>
                <a:lnTo>
                  <a:pt x="545" y="291"/>
                </a:lnTo>
                <a:lnTo>
                  <a:pt x="577" y="297"/>
                </a:lnTo>
                <a:lnTo>
                  <a:pt x="625" y="301"/>
                </a:lnTo>
                <a:lnTo>
                  <a:pt x="652" y="303"/>
                </a:lnTo>
                <a:lnTo>
                  <a:pt x="659" y="303"/>
                </a:lnTo>
                <a:lnTo>
                  <a:pt x="662" y="304"/>
                </a:lnTo>
                <a:lnTo>
                  <a:pt x="664" y="307"/>
                </a:lnTo>
                <a:lnTo>
                  <a:pt x="662" y="310"/>
                </a:lnTo>
                <a:lnTo>
                  <a:pt x="659" y="313"/>
                </a:lnTo>
                <a:lnTo>
                  <a:pt x="655" y="322"/>
                </a:lnTo>
                <a:lnTo>
                  <a:pt x="640" y="345"/>
                </a:lnTo>
                <a:lnTo>
                  <a:pt x="640" y="345"/>
                </a:lnTo>
                <a:lnTo>
                  <a:pt x="629" y="346"/>
                </a:lnTo>
                <a:lnTo>
                  <a:pt x="604" y="346"/>
                </a:lnTo>
                <a:lnTo>
                  <a:pt x="561" y="345"/>
                </a:lnTo>
                <a:lnTo>
                  <a:pt x="545" y="339"/>
                </a:lnTo>
                <a:lnTo>
                  <a:pt x="539" y="335"/>
                </a:lnTo>
                <a:lnTo>
                  <a:pt x="535" y="327"/>
                </a:lnTo>
                <a:lnTo>
                  <a:pt x="535" y="319"/>
                </a:lnTo>
                <a:lnTo>
                  <a:pt x="535" y="319"/>
                </a:lnTo>
                <a:lnTo>
                  <a:pt x="535" y="319"/>
                </a:lnTo>
                <a:close/>
                <a:moveTo>
                  <a:pt x="361" y="3"/>
                </a:moveTo>
                <a:lnTo>
                  <a:pt x="372" y="17"/>
                </a:lnTo>
                <a:lnTo>
                  <a:pt x="390" y="30"/>
                </a:lnTo>
                <a:lnTo>
                  <a:pt x="396" y="32"/>
                </a:lnTo>
                <a:lnTo>
                  <a:pt x="400" y="30"/>
                </a:lnTo>
                <a:lnTo>
                  <a:pt x="404" y="27"/>
                </a:lnTo>
                <a:lnTo>
                  <a:pt x="410" y="23"/>
                </a:lnTo>
                <a:lnTo>
                  <a:pt x="426" y="13"/>
                </a:lnTo>
                <a:lnTo>
                  <a:pt x="452" y="4"/>
                </a:lnTo>
                <a:lnTo>
                  <a:pt x="471" y="3"/>
                </a:lnTo>
                <a:lnTo>
                  <a:pt x="483" y="9"/>
                </a:lnTo>
                <a:lnTo>
                  <a:pt x="506" y="20"/>
                </a:lnTo>
                <a:lnTo>
                  <a:pt x="542" y="48"/>
                </a:lnTo>
                <a:lnTo>
                  <a:pt x="582" y="68"/>
                </a:lnTo>
                <a:lnTo>
                  <a:pt x="596" y="69"/>
                </a:lnTo>
                <a:lnTo>
                  <a:pt x="610" y="72"/>
                </a:lnTo>
                <a:lnTo>
                  <a:pt x="643" y="74"/>
                </a:lnTo>
                <a:lnTo>
                  <a:pt x="719" y="80"/>
                </a:lnTo>
                <a:lnTo>
                  <a:pt x="752" y="87"/>
                </a:lnTo>
                <a:lnTo>
                  <a:pt x="780" y="100"/>
                </a:lnTo>
                <a:lnTo>
                  <a:pt x="791" y="107"/>
                </a:lnTo>
                <a:lnTo>
                  <a:pt x="780" y="109"/>
                </a:lnTo>
                <a:lnTo>
                  <a:pt x="759" y="111"/>
                </a:lnTo>
                <a:lnTo>
                  <a:pt x="742" y="119"/>
                </a:lnTo>
                <a:lnTo>
                  <a:pt x="710" y="139"/>
                </a:lnTo>
                <a:lnTo>
                  <a:pt x="690" y="158"/>
                </a:lnTo>
                <a:lnTo>
                  <a:pt x="684" y="158"/>
                </a:lnTo>
                <a:lnTo>
                  <a:pt x="672" y="158"/>
                </a:lnTo>
                <a:lnTo>
                  <a:pt x="648" y="154"/>
                </a:lnTo>
                <a:lnTo>
                  <a:pt x="627" y="151"/>
                </a:lnTo>
                <a:lnTo>
                  <a:pt x="626" y="149"/>
                </a:lnTo>
                <a:lnTo>
                  <a:pt x="613" y="156"/>
                </a:lnTo>
                <a:lnTo>
                  <a:pt x="587" y="168"/>
                </a:lnTo>
                <a:lnTo>
                  <a:pt x="559" y="174"/>
                </a:lnTo>
                <a:lnTo>
                  <a:pt x="538" y="175"/>
                </a:lnTo>
                <a:lnTo>
                  <a:pt x="535" y="174"/>
                </a:lnTo>
                <a:lnTo>
                  <a:pt x="532" y="172"/>
                </a:lnTo>
                <a:lnTo>
                  <a:pt x="530" y="171"/>
                </a:lnTo>
                <a:lnTo>
                  <a:pt x="530" y="169"/>
                </a:lnTo>
                <a:lnTo>
                  <a:pt x="530" y="168"/>
                </a:lnTo>
                <a:lnTo>
                  <a:pt x="532" y="165"/>
                </a:lnTo>
                <a:lnTo>
                  <a:pt x="533" y="164"/>
                </a:lnTo>
                <a:lnTo>
                  <a:pt x="536" y="159"/>
                </a:lnTo>
                <a:lnTo>
                  <a:pt x="548" y="149"/>
                </a:lnTo>
                <a:lnTo>
                  <a:pt x="561" y="139"/>
                </a:lnTo>
                <a:lnTo>
                  <a:pt x="549" y="136"/>
                </a:lnTo>
                <a:lnTo>
                  <a:pt x="523" y="130"/>
                </a:lnTo>
                <a:lnTo>
                  <a:pt x="474" y="119"/>
                </a:lnTo>
                <a:lnTo>
                  <a:pt x="451" y="107"/>
                </a:lnTo>
                <a:lnTo>
                  <a:pt x="433" y="90"/>
                </a:lnTo>
                <a:lnTo>
                  <a:pt x="426" y="77"/>
                </a:lnTo>
                <a:lnTo>
                  <a:pt x="409" y="91"/>
                </a:lnTo>
                <a:lnTo>
                  <a:pt x="391" y="98"/>
                </a:lnTo>
                <a:lnTo>
                  <a:pt x="374" y="103"/>
                </a:lnTo>
                <a:lnTo>
                  <a:pt x="355" y="103"/>
                </a:lnTo>
                <a:lnTo>
                  <a:pt x="316" y="97"/>
                </a:lnTo>
                <a:lnTo>
                  <a:pt x="278" y="88"/>
                </a:lnTo>
                <a:lnTo>
                  <a:pt x="242" y="83"/>
                </a:lnTo>
                <a:lnTo>
                  <a:pt x="209" y="88"/>
                </a:lnTo>
                <a:lnTo>
                  <a:pt x="209" y="88"/>
                </a:lnTo>
                <a:lnTo>
                  <a:pt x="206" y="88"/>
                </a:lnTo>
                <a:lnTo>
                  <a:pt x="204" y="87"/>
                </a:lnTo>
                <a:lnTo>
                  <a:pt x="203" y="85"/>
                </a:lnTo>
                <a:lnTo>
                  <a:pt x="201" y="83"/>
                </a:lnTo>
                <a:lnTo>
                  <a:pt x="197" y="77"/>
                </a:lnTo>
                <a:lnTo>
                  <a:pt x="180" y="64"/>
                </a:lnTo>
                <a:lnTo>
                  <a:pt x="165" y="56"/>
                </a:lnTo>
                <a:lnTo>
                  <a:pt x="158" y="58"/>
                </a:lnTo>
                <a:lnTo>
                  <a:pt x="149" y="59"/>
                </a:lnTo>
                <a:lnTo>
                  <a:pt x="133" y="67"/>
                </a:lnTo>
                <a:lnTo>
                  <a:pt x="119" y="78"/>
                </a:lnTo>
                <a:lnTo>
                  <a:pt x="107" y="94"/>
                </a:lnTo>
                <a:lnTo>
                  <a:pt x="101" y="113"/>
                </a:lnTo>
                <a:lnTo>
                  <a:pt x="103" y="133"/>
                </a:lnTo>
                <a:lnTo>
                  <a:pt x="104" y="133"/>
                </a:lnTo>
                <a:lnTo>
                  <a:pt x="86" y="136"/>
                </a:lnTo>
                <a:lnTo>
                  <a:pt x="58" y="142"/>
                </a:lnTo>
                <a:lnTo>
                  <a:pt x="42" y="152"/>
                </a:lnTo>
                <a:lnTo>
                  <a:pt x="35" y="162"/>
                </a:lnTo>
                <a:lnTo>
                  <a:pt x="29" y="171"/>
                </a:lnTo>
                <a:lnTo>
                  <a:pt x="28" y="174"/>
                </a:lnTo>
                <a:lnTo>
                  <a:pt x="25" y="177"/>
                </a:lnTo>
                <a:lnTo>
                  <a:pt x="22" y="177"/>
                </a:lnTo>
                <a:lnTo>
                  <a:pt x="22" y="177"/>
                </a:lnTo>
                <a:lnTo>
                  <a:pt x="16" y="174"/>
                </a:lnTo>
                <a:lnTo>
                  <a:pt x="4" y="161"/>
                </a:lnTo>
                <a:lnTo>
                  <a:pt x="0" y="151"/>
                </a:lnTo>
                <a:lnTo>
                  <a:pt x="2" y="139"/>
                </a:lnTo>
                <a:lnTo>
                  <a:pt x="6" y="132"/>
                </a:lnTo>
                <a:lnTo>
                  <a:pt x="35" y="103"/>
                </a:lnTo>
                <a:lnTo>
                  <a:pt x="88" y="55"/>
                </a:lnTo>
                <a:lnTo>
                  <a:pt x="188" y="6"/>
                </a:lnTo>
                <a:lnTo>
                  <a:pt x="317" y="0"/>
                </a:lnTo>
                <a:lnTo>
                  <a:pt x="361" y="3"/>
                </a:lnTo>
                <a:lnTo>
                  <a:pt x="361" y="3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78560" y="3295800"/>
            <a:ext cx="65160" cy="60120"/>
          </a:xfrm>
          <a:custGeom>
            <a:avLst/>
            <a:gdLst/>
            <a:ahLst/>
            <a:rect l="l" t="t" r="r" b="b"/>
            <a:pathLst>
              <a:path w="190" h="187">
                <a:moveTo>
                  <a:pt x="158" y="160"/>
                </a:moveTo>
                <a:lnTo>
                  <a:pt x="152" y="155"/>
                </a:lnTo>
                <a:lnTo>
                  <a:pt x="148" y="152"/>
                </a:lnTo>
                <a:lnTo>
                  <a:pt x="145" y="151"/>
                </a:lnTo>
                <a:lnTo>
                  <a:pt x="144" y="151"/>
                </a:lnTo>
                <a:lnTo>
                  <a:pt x="142" y="152"/>
                </a:lnTo>
                <a:lnTo>
                  <a:pt x="141" y="155"/>
                </a:lnTo>
                <a:lnTo>
                  <a:pt x="141" y="158"/>
                </a:lnTo>
                <a:lnTo>
                  <a:pt x="139" y="167"/>
                </a:lnTo>
                <a:lnTo>
                  <a:pt x="135" y="176"/>
                </a:lnTo>
                <a:lnTo>
                  <a:pt x="132" y="178"/>
                </a:lnTo>
                <a:lnTo>
                  <a:pt x="128" y="180"/>
                </a:lnTo>
                <a:lnTo>
                  <a:pt x="121" y="181"/>
                </a:lnTo>
                <a:lnTo>
                  <a:pt x="96" y="184"/>
                </a:lnTo>
                <a:lnTo>
                  <a:pt x="32" y="187"/>
                </a:lnTo>
                <a:lnTo>
                  <a:pt x="0" y="165"/>
                </a:lnTo>
                <a:lnTo>
                  <a:pt x="8" y="165"/>
                </a:lnTo>
                <a:lnTo>
                  <a:pt x="16" y="162"/>
                </a:lnTo>
                <a:lnTo>
                  <a:pt x="41" y="157"/>
                </a:lnTo>
                <a:lnTo>
                  <a:pt x="96" y="141"/>
                </a:lnTo>
                <a:lnTo>
                  <a:pt x="119" y="129"/>
                </a:lnTo>
                <a:lnTo>
                  <a:pt x="116" y="123"/>
                </a:lnTo>
                <a:lnTo>
                  <a:pt x="112" y="116"/>
                </a:lnTo>
                <a:lnTo>
                  <a:pt x="106" y="109"/>
                </a:lnTo>
                <a:lnTo>
                  <a:pt x="90" y="94"/>
                </a:lnTo>
                <a:lnTo>
                  <a:pt x="57" y="65"/>
                </a:lnTo>
                <a:lnTo>
                  <a:pt x="54" y="49"/>
                </a:lnTo>
                <a:lnTo>
                  <a:pt x="58" y="44"/>
                </a:lnTo>
                <a:lnTo>
                  <a:pt x="70" y="35"/>
                </a:lnTo>
                <a:lnTo>
                  <a:pt x="80" y="28"/>
                </a:lnTo>
                <a:lnTo>
                  <a:pt x="92" y="25"/>
                </a:lnTo>
                <a:lnTo>
                  <a:pt x="102" y="23"/>
                </a:lnTo>
                <a:lnTo>
                  <a:pt x="112" y="26"/>
                </a:lnTo>
                <a:lnTo>
                  <a:pt x="118" y="28"/>
                </a:lnTo>
                <a:lnTo>
                  <a:pt x="119" y="28"/>
                </a:lnTo>
                <a:lnTo>
                  <a:pt x="122" y="25"/>
                </a:lnTo>
                <a:lnTo>
                  <a:pt x="126" y="22"/>
                </a:lnTo>
                <a:lnTo>
                  <a:pt x="137" y="12"/>
                </a:lnTo>
                <a:lnTo>
                  <a:pt x="150" y="3"/>
                </a:lnTo>
                <a:lnTo>
                  <a:pt x="155" y="2"/>
                </a:lnTo>
                <a:lnTo>
                  <a:pt x="161" y="0"/>
                </a:lnTo>
                <a:lnTo>
                  <a:pt x="167" y="3"/>
                </a:lnTo>
                <a:lnTo>
                  <a:pt x="173" y="9"/>
                </a:lnTo>
                <a:lnTo>
                  <a:pt x="177" y="18"/>
                </a:lnTo>
                <a:lnTo>
                  <a:pt x="179" y="18"/>
                </a:lnTo>
                <a:lnTo>
                  <a:pt x="181" y="29"/>
                </a:lnTo>
                <a:lnTo>
                  <a:pt x="187" y="48"/>
                </a:lnTo>
                <a:lnTo>
                  <a:pt x="190" y="89"/>
                </a:lnTo>
                <a:lnTo>
                  <a:pt x="186" y="157"/>
                </a:lnTo>
                <a:lnTo>
                  <a:pt x="184" y="181"/>
                </a:lnTo>
                <a:lnTo>
                  <a:pt x="180" y="180"/>
                </a:lnTo>
                <a:lnTo>
                  <a:pt x="173" y="176"/>
                </a:lnTo>
                <a:lnTo>
                  <a:pt x="163" y="168"/>
                </a:lnTo>
                <a:lnTo>
                  <a:pt x="160" y="165"/>
                </a:lnTo>
                <a:lnTo>
                  <a:pt x="158" y="162"/>
                </a:lnTo>
                <a:lnTo>
                  <a:pt x="158" y="160"/>
                </a:lnTo>
                <a:lnTo>
                  <a:pt x="158" y="16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286760" y="3373560"/>
            <a:ext cx="46080" cy="20520"/>
          </a:xfrm>
          <a:custGeom>
            <a:avLst/>
            <a:gdLst/>
            <a:ahLst/>
            <a:rect l="l" t="t" r="r" b="b"/>
            <a:pathLst>
              <a:path w="134" h="58">
                <a:moveTo>
                  <a:pt x="5" y="31"/>
                </a:moveTo>
                <a:lnTo>
                  <a:pt x="3" y="25"/>
                </a:lnTo>
                <a:lnTo>
                  <a:pt x="2" y="21"/>
                </a:lnTo>
                <a:lnTo>
                  <a:pt x="0" y="12"/>
                </a:lnTo>
                <a:lnTo>
                  <a:pt x="0" y="5"/>
                </a:lnTo>
                <a:lnTo>
                  <a:pt x="2" y="2"/>
                </a:lnTo>
                <a:lnTo>
                  <a:pt x="5" y="0"/>
                </a:lnTo>
                <a:lnTo>
                  <a:pt x="9" y="2"/>
                </a:lnTo>
                <a:lnTo>
                  <a:pt x="13" y="3"/>
                </a:lnTo>
                <a:lnTo>
                  <a:pt x="15" y="3"/>
                </a:lnTo>
                <a:lnTo>
                  <a:pt x="47" y="9"/>
                </a:lnTo>
                <a:lnTo>
                  <a:pt x="95" y="13"/>
                </a:lnTo>
                <a:lnTo>
                  <a:pt x="122" y="15"/>
                </a:lnTo>
                <a:lnTo>
                  <a:pt x="129" y="15"/>
                </a:lnTo>
                <a:lnTo>
                  <a:pt x="132" y="16"/>
                </a:lnTo>
                <a:lnTo>
                  <a:pt x="134" y="19"/>
                </a:lnTo>
                <a:lnTo>
                  <a:pt x="132" y="22"/>
                </a:lnTo>
                <a:lnTo>
                  <a:pt x="129" y="25"/>
                </a:lnTo>
                <a:lnTo>
                  <a:pt x="125" y="34"/>
                </a:lnTo>
                <a:lnTo>
                  <a:pt x="110" y="57"/>
                </a:lnTo>
                <a:lnTo>
                  <a:pt x="110" y="57"/>
                </a:lnTo>
                <a:lnTo>
                  <a:pt x="99" y="58"/>
                </a:lnTo>
                <a:lnTo>
                  <a:pt x="74" y="58"/>
                </a:lnTo>
                <a:lnTo>
                  <a:pt x="31" y="57"/>
                </a:lnTo>
                <a:lnTo>
                  <a:pt x="15" y="51"/>
                </a:lnTo>
                <a:lnTo>
                  <a:pt x="9" y="47"/>
                </a:lnTo>
                <a:lnTo>
                  <a:pt x="5" y="39"/>
                </a:lnTo>
                <a:lnTo>
                  <a:pt x="5" y="31"/>
                </a:lnTo>
                <a:lnTo>
                  <a:pt x="5" y="31"/>
                </a:lnTo>
                <a:lnTo>
                  <a:pt x="5" y="3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102440" y="3278160"/>
            <a:ext cx="273240" cy="58680"/>
          </a:xfrm>
          <a:custGeom>
            <a:avLst/>
            <a:gdLst/>
            <a:ahLst/>
            <a:rect l="l" t="t" r="r" b="b"/>
            <a:pathLst>
              <a:path w="791" h="177">
                <a:moveTo>
                  <a:pt x="361" y="3"/>
                </a:moveTo>
                <a:lnTo>
                  <a:pt x="372" y="17"/>
                </a:lnTo>
                <a:lnTo>
                  <a:pt x="390" y="30"/>
                </a:lnTo>
                <a:lnTo>
                  <a:pt x="396" y="32"/>
                </a:lnTo>
                <a:lnTo>
                  <a:pt x="400" y="30"/>
                </a:lnTo>
                <a:lnTo>
                  <a:pt x="404" y="27"/>
                </a:lnTo>
                <a:lnTo>
                  <a:pt x="410" y="23"/>
                </a:lnTo>
                <a:lnTo>
                  <a:pt x="426" y="13"/>
                </a:lnTo>
                <a:lnTo>
                  <a:pt x="452" y="4"/>
                </a:lnTo>
                <a:lnTo>
                  <a:pt x="471" y="3"/>
                </a:lnTo>
                <a:lnTo>
                  <a:pt x="483" y="9"/>
                </a:lnTo>
                <a:lnTo>
                  <a:pt x="506" y="20"/>
                </a:lnTo>
                <a:lnTo>
                  <a:pt x="542" y="48"/>
                </a:lnTo>
                <a:lnTo>
                  <a:pt x="582" y="68"/>
                </a:lnTo>
                <a:lnTo>
                  <a:pt x="596" y="69"/>
                </a:lnTo>
                <a:lnTo>
                  <a:pt x="610" y="72"/>
                </a:lnTo>
                <a:lnTo>
                  <a:pt x="643" y="74"/>
                </a:lnTo>
                <a:lnTo>
                  <a:pt x="719" y="80"/>
                </a:lnTo>
                <a:lnTo>
                  <a:pt x="752" y="87"/>
                </a:lnTo>
                <a:lnTo>
                  <a:pt x="780" y="100"/>
                </a:lnTo>
                <a:lnTo>
                  <a:pt x="791" y="107"/>
                </a:lnTo>
                <a:lnTo>
                  <a:pt x="780" y="109"/>
                </a:lnTo>
                <a:lnTo>
                  <a:pt x="759" y="111"/>
                </a:lnTo>
                <a:lnTo>
                  <a:pt x="742" y="119"/>
                </a:lnTo>
                <a:lnTo>
                  <a:pt x="710" y="139"/>
                </a:lnTo>
                <a:lnTo>
                  <a:pt x="690" y="158"/>
                </a:lnTo>
                <a:lnTo>
                  <a:pt x="684" y="158"/>
                </a:lnTo>
                <a:lnTo>
                  <a:pt x="672" y="158"/>
                </a:lnTo>
                <a:lnTo>
                  <a:pt x="648" y="154"/>
                </a:lnTo>
                <a:lnTo>
                  <a:pt x="627" y="151"/>
                </a:lnTo>
                <a:lnTo>
                  <a:pt x="626" y="149"/>
                </a:lnTo>
                <a:lnTo>
                  <a:pt x="613" y="156"/>
                </a:lnTo>
                <a:lnTo>
                  <a:pt x="587" y="168"/>
                </a:lnTo>
                <a:lnTo>
                  <a:pt x="559" y="174"/>
                </a:lnTo>
                <a:lnTo>
                  <a:pt x="538" y="175"/>
                </a:lnTo>
                <a:lnTo>
                  <a:pt x="535" y="174"/>
                </a:lnTo>
                <a:lnTo>
                  <a:pt x="532" y="172"/>
                </a:lnTo>
                <a:lnTo>
                  <a:pt x="530" y="171"/>
                </a:lnTo>
                <a:lnTo>
                  <a:pt x="530" y="169"/>
                </a:lnTo>
                <a:lnTo>
                  <a:pt x="530" y="168"/>
                </a:lnTo>
                <a:lnTo>
                  <a:pt x="532" y="165"/>
                </a:lnTo>
                <a:lnTo>
                  <a:pt x="533" y="164"/>
                </a:lnTo>
                <a:lnTo>
                  <a:pt x="536" y="159"/>
                </a:lnTo>
                <a:lnTo>
                  <a:pt x="548" y="149"/>
                </a:lnTo>
                <a:lnTo>
                  <a:pt x="561" y="139"/>
                </a:lnTo>
                <a:lnTo>
                  <a:pt x="549" y="136"/>
                </a:lnTo>
                <a:lnTo>
                  <a:pt x="523" y="130"/>
                </a:lnTo>
                <a:lnTo>
                  <a:pt x="474" y="119"/>
                </a:lnTo>
                <a:lnTo>
                  <a:pt x="451" y="107"/>
                </a:lnTo>
                <a:lnTo>
                  <a:pt x="433" y="90"/>
                </a:lnTo>
                <a:lnTo>
                  <a:pt x="426" y="77"/>
                </a:lnTo>
                <a:lnTo>
                  <a:pt x="409" y="91"/>
                </a:lnTo>
                <a:lnTo>
                  <a:pt x="391" y="98"/>
                </a:lnTo>
                <a:lnTo>
                  <a:pt x="374" y="103"/>
                </a:lnTo>
                <a:lnTo>
                  <a:pt x="355" y="103"/>
                </a:lnTo>
                <a:lnTo>
                  <a:pt x="316" y="97"/>
                </a:lnTo>
                <a:lnTo>
                  <a:pt x="278" y="88"/>
                </a:lnTo>
                <a:lnTo>
                  <a:pt x="242" y="83"/>
                </a:lnTo>
                <a:lnTo>
                  <a:pt x="209" y="88"/>
                </a:lnTo>
                <a:lnTo>
                  <a:pt x="209" y="88"/>
                </a:lnTo>
                <a:lnTo>
                  <a:pt x="206" y="88"/>
                </a:lnTo>
                <a:lnTo>
                  <a:pt x="204" y="87"/>
                </a:lnTo>
                <a:lnTo>
                  <a:pt x="203" y="85"/>
                </a:lnTo>
                <a:lnTo>
                  <a:pt x="201" y="83"/>
                </a:lnTo>
                <a:lnTo>
                  <a:pt x="197" y="77"/>
                </a:lnTo>
                <a:lnTo>
                  <a:pt x="180" y="64"/>
                </a:lnTo>
                <a:lnTo>
                  <a:pt x="165" y="56"/>
                </a:lnTo>
                <a:lnTo>
                  <a:pt x="158" y="58"/>
                </a:lnTo>
                <a:lnTo>
                  <a:pt x="149" y="59"/>
                </a:lnTo>
                <a:lnTo>
                  <a:pt x="133" y="67"/>
                </a:lnTo>
                <a:lnTo>
                  <a:pt x="119" y="78"/>
                </a:lnTo>
                <a:lnTo>
                  <a:pt x="107" y="94"/>
                </a:lnTo>
                <a:lnTo>
                  <a:pt x="101" y="113"/>
                </a:lnTo>
                <a:lnTo>
                  <a:pt x="103" y="133"/>
                </a:lnTo>
                <a:lnTo>
                  <a:pt x="104" y="133"/>
                </a:lnTo>
                <a:lnTo>
                  <a:pt x="86" y="136"/>
                </a:lnTo>
                <a:lnTo>
                  <a:pt x="58" y="142"/>
                </a:lnTo>
                <a:lnTo>
                  <a:pt x="42" y="152"/>
                </a:lnTo>
                <a:lnTo>
                  <a:pt x="35" y="162"/>
                </a:lnTo>
                <a:lnTo>
                  <a:pt x="29" y="171"/>
                </a:lnTo>
                <a:lnTo>
                  <a:pt x="28" y="174"/>
                </a:lnTo>
                <a:lnTo>
                  <a:pt x="25" y="177"/>
                </a:lnTo>
                <a:lnTo>
                  <a:pt x="22" y="177"/>
                </a:lnTo>
                <a:lnTo>
                  <a:pt x="22" y="177"/>
                </a:lnTo>
                <a:lnTo>
                  <a:pt x="16" y="174"/>
                </a:lnTo>
                <a:lnTo>
                  <a:pt x="4" y="161"/>
                </a:lnTo>
                <a:lnTo>
                  <a:pt x="0" y="151"/>
                </a:lnTo>
                <a:lnTo>
                  <a:pt x="2" y="139"/>
                </a:lnTo>
                <a:lnTo>
                  <a:pt x="6" y="132"/>
                </a:lnTo>
                <a:lnTo>
                  <a:pt x="35" y="103"/>
                </a:lnTo>
                <a:lnTo>
                  <a:pt x="88" y="55"/>
                </a:lnTo>
                <a:lnTo>
                  <a:pt x="188" y="6"/>
                </a:lnTo>
                <a:lnTo>
                  <a:pt x="317" y="0"/>
                </a:lnTo>
                <a:lnTo>
                  <a:pt x="361" y="3"/>
                </a:lnTo>
                <a:lnTo>
                  <a:pt x="361" y="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62960" y="5121360"/>
            <a:ext cx="17280" cy="38160"/>
          </a:xfrm>
          <a:custGeom>
            <a:avLst/>
            <a:gdLst/>
            <a:ahLst/>
            <a:rect l="l" t="t" r="r" b="b"/>
            <a:pathLst>
              <a:path w="57" h="115">
                <a:moveTo>
                  <a:pt x="57" y="0"/>
                </a:moveTo>
                <a:lnTo>
                  <a:pt x="56" y="2"/>
                </a:lnTo>
                <a:lnTo>
                  <a:pt x="53" y="3"/>
                </a:lnTo>
                <a:lnTo>
                  <a:pt x="40" y="9"/>
                </a:lnTo>
                <a:lnTo>
                  <a:pt x="30" y="13"/>
                </a:lnTo>
                <a:lnTo>
                  <a:pt x="30" y="13"/>
                </a:lnTo>
                <a:lnTo>
                  <a:pt x="28" y="15"/>
                </a:lnTo>
                <a:lnTo>
                  <a:pt x="24" y="25"/>
                </a:lnTo>
                <a:lnTo>
                  <a:pt x="10" y="60"/>
                </a:lnTo>
                <a:lnTo>
                  <a:pt x="0" y="86"/>
                </a:lnTo>
                <a:lnTo>
                  <a:pt x="0" y="86"/>
                </a:lnTo>
                <a:lnTo>
                  <a:pt x="4" y="91"/>
                </a:lnTo>
                <a:lnTo>
                  <a:pt x="18" y="104"/>
                </a:lnTo>
                <a:lnTo>
                  <a:pt x="28" y="115"/>
                </a:lnTo>
                <a:lnTo>
                  <a:pt x="30" y="115"/>
                </a:lnTo>
                <a:lnTo>
                  <a:pt x="31" y="113"/>
                </a:lnTo>
                <a:lnTo>
                  <a:pt x="39" y="106"/>
                </a:lnTo>
                <a:lnTo>
                  <a:pt x="43" y="102"/>
                </a:lnTo>
                <a:lnTo>
                  <a:pt x="44" y="100"/>
                </a:lnTo>
                <a:lnTo>
                  <a:pt x="44" y="97"/>
                </a:lnTo>
                <a:lnTo>
                  <a:pt x="43" y="84"/>
                </a:lnTo>
                <a:lnTo>
                  <a:pt x="43" y="74"/>
                </a:lnTo>
                <a:lnTo>
                  <a:pt x="44" y="73"/>
                </a:lnTo>
                <a:lnTo>
                  <a:pt x="46" y="67"/>
                </a:lnTo>
                <a:lnTo>
                  <a:pt x="52" y="45"/>
                </a:lnTo>
                <a:lnTo>
                  <a:pt x="56" y="29"/>
                </a:lnTo>
                <a:lnTo>
                  <a:pt x="57" y="28"/>
                </a:lnTo>
                <a:lnTo>
                  <a:pt x="56" y="28"/>
                </a:lnTo>
                <a:lnTo>
                  <a:pt x="57" y="28"/>
                </a:lnTo>
                <a:lnTo>
                  <a:pt x="56" y="28"/>
                </a:lnTo>
                <a:lnTo>
                  <a:pt x="57" y="28"/>
                </a:lnTo>
                <a:lnTo>
                  <a:pt x="57" y="25"/>
                </a:lnTo>
                <a:lnTo>
                  <a:pt x="56" y="12"/>
                </a:lnTo>
                <a:lnTo>
                  <a:pt x="56" y="2"/>
                </a:lnTo>
                <a:lnTo>
                  <a:pt x="57" y="0"/>
                </a:lnTo>
                <a:lnTo>
                  <a:pt x="57" y="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78800" y="5124600"/>
            <a:ext cx="22320" cy="28440"/>
          </a:xfrm>
          <a:custGeom>
            <a:avLst/>
            <a:gdLst/>
            <a:ahLst/>
            <a:rect l="l" t="t" r="r" b="b"/>
            <a:pathLst>
              <a:path w="58" h="87">
                <a:moveTo>
                  <a:pt x="16" y="15"/>
                </a:moveTo>
                <a:lnTo>
                  <a:pt x="13" y="22"/>
                </a:lnTo>
                <a:lnTo>
                  <a:pt x="6" y="44"/>
                </a:lnTo>
                <a:lnTo>
                  <a:pt x="1" y="60"/>
                </a:lnTo>
                <a:lnTo>
                  <a:pt x="1" y="60"/>
                </a:lnTo>
                <a:lnTo>
                  <a:pt x="1" y="64"/>
                </a:lnTo>
                <a:lnTo>
                  <a:pt x="0" y="77"/>
                </a:lnTo>
                <a:lnTo>
                  <a:pt x="0" y="87"/>
                </a:lnTo>
                <a:lnTo>
                  <a:pt x="1" y="87"/>
                </a:lnTo>
                <a:lnTo>
                  <a:pt x="6" y="86"/>
                </a:lnTo>
                <a:lnTo>
                  <a:pt x="19" y="78"/>
                </a:lnTo>
                <a:lnTo>
                  <a:pt x="29" y="74"/>
                </a:lnTo>
                <a:lnTo>
                  <a:pt x="30" y="73"/>
                </a:lnTo>
                <a:lnTo>
                  <a:pt x="30" y="68"/>
                </a:lnTo>
                <a:lnTo>
                  <a:pt x="29" y="55"/>
                </a:lnTo>
                <a:lnTo>
                  <a:pt x="29" y="45"/>
                </a:lnTo>
                <a:lnTo>
                  <a:pt x="30" y="44"/>
                </a:lnTo>
                <a:lnTo>
                  <a:pt x="33" y="42"/>
                </a:lnTo>
                <a:lnTo>
                  <a:pt x="46" y="36"/>
                </a:lnTo>
                <a:lnTo>
                  <a:pt x="57" y="32"/>
                </a:lnTo>
                <a:lnTo>
                  <a:pt x="58" y="31"/>
                </a:lnTo>
                <a:lnTo>
                  <a:pt x="58" y="29"/>
                </a:lnTo>
                <a:lnTo>
                  <a:pt x="57" y="22"/>
                </a:lnTo>
                <a:lnTo>
                  <a:pt x="57" y="16"/>
                </a:lnTo>
                <a:lnTo>
                  <a:pt x="58" y="15"/>
                </a:lnTo>
                <a:lnTo>
                  <a:pt x="54" y="13"/>
                </a:lnTo>
                <a:lnTo>
                  <a:pt x="41" y="6"/>
                </a:lnTo>
                <a:lnTo>
                  <a:pt x="30" y="2"/>
                </a:lnTo>
                <a:lnTo>
                  <a:pt x="30" y="0"/>
                </a:lnTo>
                <a:lnTo>
                  <a:pt x="29" y="0"/>
                </a:lnTo>
                <a:lnTo>
                  <a:pt x="30" y="0"/>
                </a:lnTo>
                <a:lnTo>
                  <a:pt x="29" y="0"/>
                </a:lnTo>
                <a:lnTo>
                  <a:pt x="30" y="0"/>
                </a:lnTo>
                <a:lnTo>
                  <a:pt x="29" y="2"/>
                </a:lnTo>
                <a:lnTo>
                  <a:pt x="28" y="3"/>
                </a:lnTo>
                <a:lnTo>
                  <a:pt x="20" y="10"/>
                </a:lnTo>
                <a:lnTo>
                  <a:pt x="16" y="15"/>
                </a:lnTo>
                <a:lnTo>
                  <a:pt x="16" y="15"/>
                </a:lnTo>
                <a:lnTo>
                  <a:pt x="16" y="15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404120" y="5103720"/>
            <a:ext cx="11160" cy="22320"/>
          </a:xfrm>
          <a:custGeom>
            <a:avLst/>
            <a:gdLst/>
            <a:ahLst/>
            <a:rect l="l" t="t" r="r" b="b"/>
            <a:pathLst>
              <a:path w="30" h="69">
                <a:moveTo>
                  <a:pt x="0" y="5"/>
                </a:moveTo>
                <a:lnTo>
                  <a:pt x="0" y="6"/>
                </a:lnTo>
                <a:lnTo>
                  <a:pt x="0" y="15"/>
                </a:lnTo>
                <a:lnTo>
                  <a:pt x="1" y="45"/>
                </a:lnTo>
                <a:lnTo>
                  <a:pt x="3" y="69"/>
                </a:lnTo>
                <a:lnTo>
                  <a:pt x="4" y="69"/>
                </a:lnTo>
                <a:lnTo>
                  <a:pt x="7" y="66"/>
                </a:lnTo>
                <a:lnTo>
                  <a:pt x="20" y="56"/>
                </a:lnTo>
                <a:lnTo>
                  <a:pt x="29" y="48"/>
                </a:lnTo>
                <a:lnTo>
                  <a:pt x="30" y="47"/>
                </a:lnTo>
                <a:lnTo>
                  <a:pt x="29" y="43"/>
                </a:lnTo>
                <a:lnTo>
                  <a:pt x="24" y="29"/>
                </a:lnTo>
                <a:lnTo>
                  <a:pt x="23" y="19"/>
                </a:lnTo>
                <a:lnTo>
                  <a:pt x="23" y="18"/>
                </a:lnTo>
                <a:lnTo>
                  <a:pt x="27" y="8"/>
                </a:lnTo>
                <a:lnTo>
                  <a:pt x="29" y="2"/>
                </a:lnTo>
                <a:lnTo>
                  <a:pt x="30" y="0"/>
                </a:lnTo>
                <a:lnTo>
                  <a:pt x="29" y="0"/>
                </a:lnTo>
                <a:lnTo>
                  <a:pt x="27" y="0"/>
                </a:lnTo>
                <a:lnTo>
                  <a:pt x="20" y="0"/>
                </a:lnTo>
                <a:lnTo>
                  <a:pt x="14" y="0"/>
                </a:lnTo>
                <a:lnTo>
                  <a:pt x="14" y="0"/>
                </a:lnTo>
                <a:lnTo>
                  <a:pt x="13" y="0"/>
                </a:lnTo>
                <a:lnTo>
                  <a:pt x="14" y="0"/>
                </a:lnTo>
                <a:lnTo>
                  <a:pt x="13" y="0"/>
                </a:lnTo>
                <a:lnTo>
                  <a:pt x="14" y="0"/>
                </a:lnTo>
                <a:lnTo>
                  <a:pt x="11" y="2"/>
                </a:lnTo>
                <a:lnTo>
                  <a:pt x="4" y="3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442280" y="5186520"/>
            <a:ext cx="14040" cy="14040"/>
          </a:xfrm>
          <a:custGeom>
            <a:avLst/>
            <a:gdLst/>
            <a:ahLst/>
            <a:rect l="l" t="t" r="r" b="b"/>
            <a:pathLst>
              <a:path w="37" h="42">
                <a:moveTo>
                  <a:pt x="3" y="0"/>
                </a:moveTo>
                <a:lnTo>
                  <a:pt x="2" y="4"/>
                </a:lnTo>
                <a:lnTo>
                  <a:pt x="0" y="17"/>
                </a:lnTo>
                <a:lnTo>
                  <a:pt x="0" y="27"/>
                </a:lnTo>
                <a:lnTo>
                  <a:pt x="0" y="27"/>
                </a:lnTo>
                <a:lnTo>
                  <a:pt x="3" y="30"/>
                </a:lnTo>
                <a:lnTo>
                  <a:pt x="13" y="38"/>
                </a:lnTo>
                <a:lnTo>
                  <a:pt x="21" y="42"/>
                </a:lnTo>
                <a:lnTo>
                  <a:pt x="22" y="42"/>
                </a:lnTo>
                <a:lnTo>
                  <a:pt x="24" y="39"/>
                </a:lnTo>
                <a:lnTo>
                  <a:pt x="31" y="30"/>
                </a:lnTo>
                <a:lnTo>
                  <a:pt x="35" y="25"/>
                </a:lnTo>
                <a:lnTo>
                  <a:pt x="37" y="23"/>
                </a:lnTo>
                <a:lnTo>
                  <a:pt x="34" y="22"/>
                </a:lnTo>
                <a:lnTo>
                  <a:pt x="29" y="17"/>
                </a:lnTo>
                <a:lnTo>
                  <a:pt x="26" y="14"/>
                </a:lnTo>
                <a:lnTo>
                  <a:pt x="26" y="13"/>
                </a:lnTo>
                <a:lnTo>
                  <a:pt x="25" y="13"/>
                </a:lnTo>
                <a:lnTo>
                  <a:pt x="26" y="13"/>
                </a:lnTo>
                <a:lnTo>
                  <a:pt x="25" y="13"/>
                </a:lnTo>
                <a:lnTo>
                  <a:pt x="26" y="13"/>
                </a:lnTo>
                <a:lnTo>
                  <a:pt x="22" y="12"/>
                </a:lnTo>
                <a:lnTo>
                  <a:pt x="12" y="6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481880" y="5226120"/>
            <a:ext cx="27000" cy="15840"/>
          </a:xfrm>
          <a:custGeom>
            <a:avLst/>
            <a:gdLst/>
            <a:ahLst/>
            <a:rect l="l" t="t" r="r" b="b"/>
            <a:pathLst>
              <a:path w="80" h="41">
                <a:moveTo>
                  <a:pt x="7" y="0"/>
                </a:moveTo>
                <a:lnTo>
                  <a:pt x="6" y="2"/>
                </a:lnTo>
                <a:lnTo>
                  <a:pt x="1" y="10"/>
                </a:lnTo>
                <a:lnTo>
                  <a:pt x="0" y="15"/>
                </a:lnTo>
                <a:lnTo>
                  <a:pt x="0" y="15"/>
                </a:lnTo>
                <a:lnTo>
                  <a:pt x="3" y="19"/>
                </a:lnTo>
                <a:lnTo>
                  <a:pt x="13" y="32"/>
                </a:lnTo>
                <a:lnTo>
                  <a:pt x="20" y="41"/>
                </a:lnTo>
                <a:lnTo>
                  <a:pt x="22" y="41"/>
                </a:lnTo>
                <a:lnTo>
                  <a:pt x="27" y="39"/>
                </a:lnTo>
                <a:lnTo>
                  <a:pt x="45" y="33"/>
                </a:lnTo>
                <a:lnTo>
                  <a:pt x="59" y="29"/>
                </a:lnTo>
                <a:lnTo>
                  <a:pt x="61" y="28"/>
                </a:lnTo>
                <a:lnTo>
                  <a:pt x="64" y="28"/>
                </a:lnTo>
                <a:lnTo>
                  <a:pt x="72" y="26"/>
                </a:lnTo>
                <a:lnTo>
                  <a:pt x="78" y="26"/>
                </a:lnTo>
                <a:lnTo>
                  <a:pt x="80" y="25"/>
                </a:lnTo>
                <a:lnTo>
                  <a:pt x="80" y="23"/>
                </a:lnTo>
                <a:lnTo>
                  <a:pt x="78" y="16"/>
                </a:lnTo>
                <a:lnTo>
                  <a:pt x="78" y="10"/>
                </a:lnTo>
                <a:lnTo>
                  <a:pt x="80" y="9"/>
                </a:lnTo>
                <a:lnTo>
                  <a:pt x="78" y="9"/>
                </a:lnTo>
                <a:lnTo>
                  <a:pt x="74" y="9"/>
                </a:lnTo>
                <a:lnTo>
                  <a:pt x="59" y="9"/>
                </a:lnTo>
                <a:lnTo>
                  <a:pt x="49" y="9"/>
                </a:lnTo>
                <a:lnTo>
                  <a:pt x="49" y="7"/>
                </a:lnTo>
                <a:lnTo>
                  <a:pt x="48" y="7"/>
                </a:lnTo>
                <a:lnTo>
                  <a:pt x="49" y="7"/>
                </a:lnTo>
                <a:lnTo>
                  <a:pt x="48" y="7"/>
                </a:lnTo>
                <a:lnTo>
                  <a:pt x="49" y="7"/>
                </a:lnTo>
                <a:lnTo>
                  <a:pt x="48" y="7"/>
                </a:lnTo>
                <a:lnTo>
                  <a:pt x="42" y="7"/>
                </a:lnTo>
                <a:lnTo>
                  <a:pt x="22" y="3"/>
                </a:lnTo>
                <a:lnTo>
                  <a:pt x="7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910640" y="3925800"/>
            <a:ext cx="9360" cy="4680"/>
          </a:xfrm>
          <a:custGeom>
            <a:avLst/>
            <a:gdLst/>
            <a:ahLst/>
            <a:rect l="l" t="t" r="r" b="b"/>
            <a:pathLst>
              <a:path w="27" h="16">
                <a:moveTo>
                  <a:pt x="3" y="0"/>
                </a:moveTo>
                <a:lnTo>
                  <a:pt x="1" y="3"/>
                </a:lnTo>
                <a:lnTo>
                  <a:pt x="0" y="10"/>
                </a:lnTo>
                <a:lnTo>
                  <a:pt x="0" y="16"/>
                </a:lnTo>
                <a:lnTo>
                  <a:pt x="0" y="16"/>
                </a:lnTo>
                <a:lnTo>
                  <a:pt x="1" y="16"/>
                </a:lnTo>
                <a:lnTo>
                  <a:pt x="9" y="16"/>
                </a:lnTo>
                <a:lnTo>
                  <a:pt x="14" y="16"/>
                </a:lnTo>
                <a:lnTo>
                  <a:pt x="16" y="16"/>
                </a:lnTo>
                <a:lnTo>
                  <a:pt x="17" y="15"/>
                </a:lnTo>
                <a:lnTo>
                  <a:pt x="22" y="9"/>
                </a:lnTo>
                <a:lnTo>
                  <a:pt x="26" y="5"/>
                </a:lnTo>
                <a:lnTo>
                  <a:pt x="27" y="3"/>
                </a:lnTo>
                <a:lnTo>
                  <a:pt x="26" y="3"/>
                </a:lnTo>
                <a:lnTo>
                  <a:pt x="25" y="3"/>
                </a:lnTo>
                <a:lnTo>
                  <a:pt x="16" y="2"/>
                </a:lnTo>
                <a:lnTo>
                  <a:pt x="10" y="2"/>
                </a:lnTo>
                <a:lnTo>
                  <a:pt x="10" y="0"/>
                </a:lnTo>
                <a:lnTo>
                  <a:pt x="9" y="0"/>
                </a:lnTo>
                <a:lnTo>
                  <a:pt x="10" y="0"/>
                </a:lnTo>
                <a:lnTo>
                  <a:pt x="9" y="0"/>
                </a:lnTo>
                <a:lnTo>
                  <a:pt x="10" y="0"/>
                </a:lnTo>
                <a:lnTo>
                  <a:pt x="9" y="0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935840" y="3905280"/>
            <a:ext cx="22320" cy="15840"/>
          </a:xfrm>
          <a:custGeom>
            <a:avLst/>
            <a:gdLst/>
            <a:ahLst/>
            <a:rect l="l" t="t" r="r" b="b"/>
            <a:pathLst>
              <a:path w="61" h="49">
                <a:moveTo>
                  <a:pt x="0" y="28"/>
                </a:moveTo>
                <a:lnTo>
                  <a:pt x="0" y="29"/>
                </a:lnTo>
                <a:lnTo>
                  <a:pt x="0" y="32"/>
                </a:lnTo>
                <a:lnTo>
                  <a:pt x="1" y="42"/>
                </a:lnTo>
                <a:lnTo>
                  <a:pt x="3" y="49"/>
                </a:lnTo>
                <a:lnTo>
                  <a:pt x="4" y="49"/>
                </a:lnTo>
                <a:lnTo>
                  <a:pt x="10" y="49"/>
                </a:lnTo>
                <a:lnTo>
                  <a:pt x="27" y="49"/>
                </a:lnTo>
                <a:lnTo>
                  <a:pt x="40" y="49"/>
                </a:lnTo>
                <a:lnTo>
                  <a:pt x="42" y="49"/>
                </a:lnTo>
                <a:lnTo>
                  <a:pt x="42" y="46"/>
                </a:lnTo>
                <a:lnTo>
                  <a:pt x="42" y="38"/>
                </a:lnTo>
                <a:lnTo>
                  <a:pt x="42" y="32"/>
                </a:lnTo>
                <a:lnTo>
                  <a:pt x="43" y="30"/>
                </a:lnTo>
                <a:lnTo>
                  <a:pt x="53" y="26"/>
                </a:lnTo>
                <a:lnTo>
                  <a:pt x="59" y="23"/>
                </a:lnTo>
                <a:lnTo>
                  <a:pt x="61" y="22"/>
                </a:lnTo>
                <a:lnTo>
                  <a:pt x="56" y="20"/>
                </a:lnTo>
                <a:lnTo>
                  <a:pt x="46" y="12"/>
                </a:lnTo>
                <a:lnTo>
                  <a:pt x="39" y="6"/>
                </a:lnTo>
                <a:lnTo>
                  <a:pt x="39" y="4"/>
                </a:lnTo>
                <a:lnTo>
                  <a:pt x="37" y="4"/>
                </a:lnTo>
                <a:lnTo>
                  <a:pt x="35" y="4"/>
                </a:lnTo>
                <a:lnTo>
                  <a:pt x="24" y="3"/>
                </a:lnTo>
                <a:lnTo>
                  <a:pt x="17" y="2"/>
                </a:lnTo>
                <a:lnTo>
                  <a:pt x="17" y="0"/>
                </a:lnTo>
                <a:lnTo>
                  <a:pt x="16" y="0"/>
                </a:lnTo>
                <a:lnTo>
                  <a:pt x="17" y="0"/>
                </a:lnTo>
                <a:lnTo>
                  <a:pt x="16" y="0"/>
                </a:lnTo>
                <a:lnTo>
                  <a:pt x="17" y="0"/>
                </a:lnTo>
                <a:lnTo>
                  <a:pt x="16" y="2"/>
                </a:lnTo>
                <a:lnTo>
                  <a:pt x="14" y="4"/>
                </a:lnTo>
                <a:lnTo>
                  <a:pt x="6" y="17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594560" y="3654360"/>
            <a:ext cx="27000" cy="20880"/>
          </a:xfrm>
          <a:custGeom>
            <a:avLst/>
            <a:gdLst/>
            <a:ahLst/>
            <a:rect l="l" t="t" r="r" b="b"/>
            <a:pathLst>
              <a:path w="86" h="59">
                <a:moveTo>
                  <a:pt x="0" y="29"/>
                </a:moveTo>
                <a:lnTo>
                  <a:pt x="0" y="30"/>
                </a:lnTo>
                <a:lnTo>
                  <a:pt x="0" y="33"/>
                </a:lnTo>
                <a:lnTo>
                  <a:pt x="5" y="46"/>
                </a:lnTo>
                <a:lnTo>
                  <a:pt x="8" y="56"/>
                </a:lnTo>
                <a:lnTo>
                  <a:pt x="9" y="56"/>
                </a:lnTo>
                <a:lnTo>
                  <a:pt x="15" y="55"/>
                </a:lnTo>
                <a:lnTo>
                  <a:pt x="32" y="50"/>
                </a:lnTo>
                <a:lnTo>
                  <a:pt x="47" y="46"/>
                </a:lnTo>
                <a:lnTo>
                  <a:pt x="48" y="44"/>
                </a:lnTo>
                <a:lnTo>
                  <a:pt x="53" y="55"/>
                </a:lnTo>
                <a:lnTo>
                  <a:pt x="56" y="59"/>
                </a:lnTo>
                <a:lnTo>
                  <a:pt x="57" y="59"/>
                </a:lnTo>
                <a:lnTo>
                  <a:pt x="61" y="59"/>
                </a:lnTo>
                <a:lnTo>
                  <a:pt x="74" y="56"/>
                </a:lnTo>
                <a:lnTo>
                  <a:pt x="84" y="55"/>
                </a:lnTo>
                <a:lnTo>
                  <a:pt x="86" y="53"/>
                </a:lnTo>
                <a:lnTo>
                  <a:pt x="83" y="47"/>
                </a:lnTo>
                <a:lnTo>
                  <a:pt x="77" y="30"/>
                </a:lnTo>
                <a:lnTo>
                  <a:pt x="73" y="15"/>
                </a:lnTo>
                <a:lnTo>
                  <a:pt x="73" y="14"/>
                </a:lnTo>
                <a:lnTo>
                  <a:pt x="67" y="13"/>
                </a:lnTo>
                <a:lnTo>
                  <a:pt x="54" y="5"/>
                </a:lnTo>
                <a:lnTo>
                  <a:pt x="44" y="1"/>
                </a:lnTo>
                <a:lnTo>
                  <a:pt x="44" y="0"/>
                </a:lnTo>
                <a:lnTo>
                  <a:pt x="42" y="0"/>
                </a:lnTo>
                <a:lnTo>
                  <a:pt x="44" y="0"/>
                </a:lnTo>
                <a:lnTo>
                  <a:pt x="42" y="0"/>
                </a:lnTo>
                <a:lnTo>
                  <a:pt x="44" y="0"/>
                </a:lnTo>
                <a:lnTo>
                  <a:pt x="42" y="1"/>
                </a:lnTo>
                <a:lnTo>
                  <a:pt x="37" y="5"/>
                </a:lnTo>
                <a:lnTo>
                  <a:pt x="16" y="18"/>
                </a:lnTo>
                <a:lnTo>
                  <a:pt x="0" y="29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135920" y="3639960"/>
            <a:ext cx="333360" cy="395640"/>
          </a:xfrm>
          <a:custGeom>
            <a:avLst/>
            <a:gdLst/>
            <a:ahLst/>
            <a:rect l="l" t="t" r="r" b="b"/>
            <a:pathLst>
              <a:path w="966" h="1212">
                <a:moveTo>
                  <a:pt x="0" y="846"/>
                </a:moveTo>
                <a:lnTo>
                  <a:pt x="19" y="853"/>
                </a:lnTo>
                <a:lnTo>
                  <a:pt x="75" y="873"/>
                </a:lnTo>
                <a:lnTo>
                  <a:pt x="118" y="889"/>
                </a:lnTo>
                <a:lnTo>
                  <a:pt x="121" y="889"/>
                </a:lnTo>
                <a:lnTo>
                  <a:pt x="121" y="897"/>
                </a:lnTo>
                <a:lnTo>
                  <a:pt x="120" y="918"/>
                </a:lnTo>
                <a:lnTo>
                  <a:pt x="120" y="934"/>
                </a:lnTo>
                <a:lnTo>
                  <a:pt x="121" y="934"/>
                </a:lnTo>
                <a:lnTo>
                  <a:pt x="124" y="934"/>
                </a:lnTo>
                <a:lnTo>
                  <a:pt x="146" y="933"/>
                </a:lnTo>
                <a:lnTo>
                  <a:pt x="220" y="926"/>
                </a:lnTo>
                <a:lnTo>
                  <a:pt x="276" y="921"/>
                </a:lnTo>
                <a:lnTo>
                  <a:pt x="281" y="920"/>
                </a:lnTo>
                <a:lnTo>
                  <a:pt x="288" y="920"/>
                </a:lnTo>
                <a:lnTo>
                  <a:pt x="310" y="920"/>
                </a:lnTo>
                <a:lnTo>
                  <a:pt x="327" y="920"/>
                </a:lnTo>
                <a:lnTo>
                  <a:pt x="329" y="918"/>
                </a:lnTo>
                <a:lnTo>
                  <a:pt x="330" y="921"/>
                </a:lnTo>
                <a:lnTo>
                  <a:pt x="343" y="940"/>
                </a:lnTo>
                <a:lnTo>
                  <a:pt x="389" y="1001"/>
                </a:lnTo>
                <a:lnTo>
                  <a:pt x="424" y="1049"/>
                </a:lnTo>
                <a:lnTo>
                  <a:pt x="427" y="1050"/>
                </a:lnTo>
                <a:lnTo>
                  <a:pt x="429" y="1050"/>
                </a:lnTo>
                <a:lnTo>
                  <a:pt x="449" y="1050"/>
                </a:lnTo>
                <a:lnTo>
                  <a:pt x="517" y="1050"/>
                </a:lnTo>
                <a:lnTo>
                  <a:pt x="569" y="1050"/>
                </a:lnTo>
                <a:lnTo>
                  <a:pt x="572" y="1050"/>
                </a:lnTo>
                <a:lnTo>
                  <a:pt x="588" y="1056"/>
                </a:lnTo>
                <a:lnTo>
                  <a:pt x="636" y="1069"/>
                </a:lnTo>
                <a:lnTo>
                  <a:pt x="672" y="1079"/>
                </a:lnTo>
                <a:lnTo>
                  <a:pt x="675" y="1079"/>
                </a:lnTo>
                <a:lnTo>
                  <a:pt x="675" y="1101"/>
                </a:lnTo>
                <a:lnTo>
                  <a:pt x="673" y="1163"/>
                </a:lnTo>
                <a:lnTo>
                  <a:pt x="673" y="1211"/>
                </a:lnTo>
                <a:lnTo>
                  <a:pt x="675" y="1212"/>
                </a:lnTo>
                <a:lnTo>
                  <a:pt x="679" y="1212"/>
                </a:lnTo>
                <a:lnTo>
                  <a:pt x="692" y="1212"/>
                </a:lnTo>
                <a:lnTo>
                  <a:pt x="702" y="1212"/>
                </a:lnTo>
                <a:lnTo>
                  <a:pt x="704" y="1212"/>
                </a:lnTo>
                <a:lnTo>
                  <a:pt x="704" y="1208"/>
                </a:lnTo>
                <a:lnTo>
                  <a:pt x="714" y="1176"/>
                </a:lnTo>
                <a:lnTo>
                  <a:pt x="749" y="1066"/>
                </a:lnTo>
                <a:lnTo>
                  <a:pt x="775" y="983"/>
                </a:lnTo>
                <a:lnTo>
                  <a:pt x="776" y="978"/>
                </a:lnTo>
                <a:lnTo>
                  <a:pt x="766" y="972"/>
                </a:lnTo>
                <a:lnTo>
                  <a:pt x="740" y="952"/>
                </a:lnTo>
                <a:lnTo>
                  <a:pt x="718" y="936"/>
                </a:lnTo>
                <a:lnTo>
                  <a:pt x="718" y="934"/>
                </a:lnTo>
                <a:lnTo>
                  <a:pt x="718" y="928"/>
                </a:lnTo>
                <a:lnTo>
                  <a:pt x="717" y="907"/>
                </a:lnTo>
                <a:lnTo>
                  <a:pt x="717" y="891"/>
                </a:lnTo>
                <a:lnTo>
                  <a:pt x="718" y="889"/>
                </a:lnTo>
                <a:lnTo>
                  <a:pt x="727" y="881"/>
                </a:lnTo>
                <a:lnTo>
                  <a:pt x="753" y="855"/>
                </a:lnTo>
                <a:lnTo>
                  <a:pt x="775" y="833"/>
                </a:lnTo>
                <a:lnTo>
                  <a:pt x="776" y="831"/>
                </a:lnTo>
                <a:lnTo>
                  <a:pt x="775" y="831"/>
                </a:lnTo>
                <a:lnTo>
                  <a:pt x="769" y="830"/>
                </a:lnTo>
                <a:lnTo>
                  <a:pt x="749" y="823"/>
                </a:lnTo>
                <a:lnTo>
                  <a:pt x="733" y="818"/>
                </a:lnTo>
                <a:lnTo>
                  <a:pt x="733" y="817"/>
                </a:lnTo>
                <a:lnTo>
                  <a:pt x="733" y="813"/>
                </a:lnTo>
                <a:lnTo>
                  <a:pt x="731" y="798"/>
                </a:lnTo>
                <a:lnTo>
                  <a:pt x="731" y="788"/>
                </a:lnTo>
                <a:lnTo>
                  <a:pt x="733" y="786"/>
                </a:lnTo>
                <a:lnTo>
                  <a:pt x="737" y="786"/>
                </a:lnTo>
                <a:lnTo>
                  <a:pt x="750" y="786"/>
                </a:lnTo>
                <a:lnTo>
                  <a:pt x="760" y="786"/>
                </a:lnTo>
                <a:lnTo>
                  <a:pt x="762" y="786"/>
                </a:lnTo>
                <a:lnTo>
                  <a:pt x="770" y="792"/>
                </a:lnTo>
                <a:lnTo>
                  <a:pt x="797" y="807"/>
                </a:lnTo>
                <a:lnTo>
                  <a:pt x="818" y="817"/>
                </a:lnTo>
                <a:lnTo>
                  <a:pt x="820" y="817"/>
                </a:lnTo>
                <a:lnTo>
                  <a:pt x="828" y="815"/>
                </a:lnTo>
                <a:lnTo>
                  <a:pt x="856" y="808"/>
                </a:lnTo>
                <a:lnTo>
                  <a:pt x="878" y="804"/>
                </a:lnTo>
                <a:lnTo>
                  <a:pt x="879" y="802"/>
                </a:lnTo>
                <a:lnTo>
                  <a:pt x="885" y="813"/>
                </a:lnTo>
                <a:lnTo>
                  <a:pt x="907" y="840"/>
                </a:lnTo>
                <a:lnTo>
                  <a:pt x="923" y="862"/>
                </a:lnTo>
                <a:lnTo>
                  <a:pt x="924" y="862"/>
                </a:lnTo>
                <a:lnTo>
                  <a:pt x="930" y="862"/>
                </a:lnTo>
                <a:lnTo>
                  <a:pt x="950" y="862"/>
                </a:lnTo>
                <a:lnTo>
                  <a:pt x="965" y="862"/>
                </a:lnTo>
                <a:lnTo>
                  <a:pt x="966" y="862"/>
                </a:lnTo>
                <a:lnTo>
                  <a:pt x="960" y="856"/>
                </a:lnTo>
                <a:lnTo>
                  <a:pt x="947" y="834"/>
                </a:lnTo>
                <a:lnTo>
                  <a:pt x="937" y="818"/>
                </a:lnTo>
                <a:lnTo>
                  <a:pt x="937" y="817"/>
                </a:lnTo>
                <a:lnTo>
                  <a:pt x="937" y="811"/>
                </a:lnTo>
                <a:lnTo>
                  <a:pt x="936" y="791"/>
                </a:lnTo>
                <a:lnTo>
                  <a:pt x="936" y="775"/>
                </a:lnTo>
                <a:lnTo>
                  <a:pt x="937" y="773"/>
                </a:lnTo>
                <a:lnTo>
                  <a:pt x="936" y="772"/>
                </a:lnTo>
                <a:lnTo>
                  <a:pt x="927" y="760"/>
                </a:lnTo>
                <a:lnTo>
                  <a:pt x="901" y="720"/>
                </a:lnTo>
                <a:lnTo>
                  <a:pt x="879" y="689"/>
                </a:lnTo>
                <a:lnTo>
                  <a:pt x="879" y="686"/>
                </a:lnTo>
                <a:lnTo>
                  <a:pt x="879" y="685"/>
                </a:lnTo>
                <a:lnTo>
                  <a:pt x="881" y="676"/>
                </a:lnTo>
                <a:lnTo>
                  <a:pt x="886" y="642"/>
                </a:lnTo>
                <a:lnTo>
                  <a:pt x="891" y="615"/>
                </a:lnTo>
                <a:lnTo>
                  <a:pt x="892" y="613"/>
                </a:lnTo>
                <a:lnTo>
                  <a:pt x="888" y="610"/>
                </a:lnTo>
                <a:lnTo>
                  <a:pt x="875" y="597"/>
                </a:lnTo>
                <a:lnTo>
                  <a:pt x="866" y="586"/>
                </a:lnTo>
                <a:lnTo>
                  <a:pt x="866" y="585"/>
                </a:lnTo>
                <a:lnTo>
                  <a:pt x="866" y="584"/>
                </a:lnTo>
                <a:lnTo>
                  <a:pt x="868" y="568"/>
                </a:lnTo>
                <a:lnTo>
                  <a:pt x="873" y="513"/>
                </a:lnTo>
                <a:lnTo>
                  <a:pt x="878" y="471"/>
                </a:lnTo>
                <a:lnTo>
                  <a:pt x="879" y="468"/>
                </a:lnTo>
                <a:lnTo>
                  <a:pt x="876" y="469"/>
                </a:lnTo>
                <a:lnTo>
                  <a:pt x="857" y="471"/>
                </a:lnTo>
                <a:lnTo>
                  <a:pt x="797" y="478"/>
                </a:lnTo>
                <a:lnTo>
                  <a:pt x="749" y="484"/>
                </a:lnTo>
                <a:lnTo>
                  <a:pt x="747" y="484"/>
                </a:lnTo>
                <a:lnTo>
                  <a:pt x="743" y="482"/>
                </a:lnTo>
                <a:lnTo>
                  <a:pt x="713" y="471"/>
                </a:lnTo>
                <a:lnTo>
                  <a:pt x="611" y="429"/>
                </a:lnTo>
                <a:lnTo>
                  <a:pt x="533" y="398"/>
                </a:lnTo>
                <a:lnTo>
                  <a:pt x="530" y="395"/>
                </a:lnTo>
                <a:lnTo>
                  <a:pt x="529" y="394"/>
                </a:lnTo>
                <a:lnTo>
                  <a:pt x="520" y="382"/>
                </a:lnTo>
                <a:lnTo>
                  <a:pt x="492" y="340"/>
                </a:lnTo>
                <a:lnTo>
                  <a:pt x="471" y="310"/>
                </a:lnTo>
                <a:lnTo>
                  <a:pt x="471" y="307"/>
                </a:lnTo>
                <a:lnTo>
                  <a:pt x="463" y="310"/>
                </a:lnTo>
                <a:lnTo>
                  <a:pt x="443" y="315"/>
                </a:lnTo>
                <a:lnTo>
                  <a:pt x="427" y="320"/>
                </a:lnTo>
                <a:lnTo>
                  <a:pt x="427" y="320"/>
                </a:lnTo>
                <a:lnTo>
                  <a:pt x="433" y="305"/>
                </a:lnTo>
                <a:lnTo>
                  <a:pt x="453" y="258"/>
                </a:lnTo>
                <a:lnTo>
                  <a:pt x="469" y="223"/>
                </a:lnTo>
                <a:lnTo>
                  <a:pt x="471" y="220"/>
                </a:lnTo>
                <a:lnTo>
                  <a:pt x="465" y="210"/>
                </a:lnTo>
                <a:lnTo>
                  <a:pt x="452" y="175"/>
                </a:lnTo>
                <a:lnTo>
                  <a:pt x="442" y="149"/>
                </a:lnTo>
                <a:lnTo>
                  <a:pt x="442" y="146"/>
                </a:lnTo>
                <a:lnTo>
                  <a:pt x="449" y="143"/>
                </a:lnTo>
                <a:lnTo>
                  <a:pt x="469" y="133"/>
                </a:lnTo>
                <a:lnTo>
                  <a:pt x="486" y="124"/>
                </a:lnTo>
                <a:lnTo>
                  <a:pt x="488" y="123"/>
                </a:lnTo>
                <a:lnTo>
                  <a:pt x="488" y="121"/>
                </a:lnTo>
                <a:lnTo>
                  <a:pt x="494" y="107"/>
                </a:lnTo>
                <a:lnTo>
                  <a:pt x="514" y="56"/>
                </a:lnTo>
                <a:lnTo>
                  <a:pt x="529" y="18"/>
                </a:lnTo>
                <a:lnTo>
                  <a:pt x="530" y="16"/>
                </a:lnTo>
                <a:lnTo>
                  <a:pt x="529" y="16"/>
                </a:lnTo>
                <a:lnTo>
                  <a:pt x="523" y="14"/>
                </a:lnTo>
                <a:lnTo>
                  <a:pt x="501" y="7"/>
                </a:lnTo>
                <a:lnTo>
                  <a:pt x="485" y="1"/>
                </a:lnTo>
                <a:lnTo>
                  <a:pt x="485" y="0"/>
                </a:lnTo>
                <a:lnTo>
                  <a:pt x="484" y="1"/>
                </a:lnTo>
                <a:lnTo>
                  <a:pt x="479" y="5"/>
                </a:lnTo>
                <a:lnTo>
                  <a:pt x="466" y="20"/>
                </a:lnTo>
                <a:lnTo>
                  <a:pt x="456" y="31"/>
                </a:lnTo>
                <a:lnTo>
                  <a:pt x="456" y="31"/>
                </a:lnTo>
                <a:lnTo>
                  <a:pt x="450" y="34"/>
                </a:lnTo>
                <a:lnTo>
                  <a:pt x="418" y="50"/>
                </a:lnTo>
                <a:lnTo>
                  <a:pt x="310" y="104"/>
                </a:lnTo>
                <a:lnTo>
                  <a:pt x="227" y="145"/>
                </a:lnTo>
                <a:lnTo>
                  <a:pt x="223" y="146"/>
                </a:lnTo>
                <a:lnTo>
                  <a:pt x="221" y="155"/>
                </a:lnTo>
                <a:lnTo>
                  <a:pt x="220" y="176"/>
                </a:lnTo>
                <a:lnTo>
                  <a:pt x="220" y="194"/>
                </a:lnTo>
                <a:lnTo>
                  <a:pt x="220" y="194"/>
                </a:lnTo>
                <a:lnTo>
                  <a:pt x="218" y="197"/>
                </a:lnTo>
                <a:lnTo>
                  <a:pt x="213" y="214"/>
                </a:lnTo>
                <a:lnTo>
                  <a:pt x="194" y="273"/>
                </a:lnTo>
                <a:lnTo>
                  <a:pt x="179" y="318"/>
                </a:lnTo>
                <a:lnTo>
                  <a:pt x="179" y="320"/>
                </a:lnTo>
                <a:lnTo>
                  <a:pt x="178" y="321"/>
                </a:lnTo>
                <a:lnTo>
                  <a:pt x="169" y="326"/>
                </a:lnTo>
                <a:lnTo>
                  <a:pt x="143" y="340"/>
                </a:lnTo>
                <a:lnTo>
                  <a:pt x="121" y="352"/>
                </a:lnTo>
                <a:lnTo>
                  <a:pt x="121" y="352"/>
                </a:lnTo>
                <a:lnTo>
                  <a:pt x="118" y="363"/>
                </a:lnTo>
                <a:lnTo>
                  <a:pt x="111" y="398"/>
                </a:lnTo>
                <a:lnTo>
                  <a:pt x="107" y="424"/>
                </a:lnTo>
                <a:lnTo>
                  <a:pt x="107" y="424"/>
                </a:lnTo>
                <a:lnTo>
                  <a:pt x="107" y="429"/>
                </a:lnTo>
                <a:lnTo>
                  <a:pt x="113" y="450"/>
                </a:lnTo>
                <a:lnTo>
                  <a:pt x="133" y="526"/>
                </a:lnTo>
                <a:lnTo>
                  <a:pt x="147" y="582"/>
                </a:lnTo>
                <a:lnTo>
                  <a:pt x="149" y="585"/>
                </a:lnTo>
                <a:lnTo>
                  <a:pt x="147" y="586"/>
                </a:lnTo>
                <a:lnTo>
                  <a:pt x="145" y="589"/>
                </a:lnTo>
                <a:lnTo>
                  <a:pt x="132" y="602"/>
                </a:lnTo>
                <a:lnTo>
                  <a:pt x="121" y="613"/>
                </a:lnTo>
                <a:lnTo>
                  <a:pt x="121" y="613"/>
                </a:lnTo>
                <a:lnTo>
                  <a:pt x="121" y="615"/>
                </a:lnTo>
                <a:lnTo>
                  <a:pt x="124" y="624"/>
                </a:lnTo>
                <a:lnTo>
                  <a:pt x="137" y="659"/>
                </a:lnTo>
                <a:lnTo>
                  <a:pt x="147" y="685"/>
                </a:lnTo>
                <a:lnTo>
                  <a:pt x="149" y="686"/>
                </a:lnTo>
                <a:lnTo>
                  <a:pt x="147" y="686"/>
                </a:lnTo>
                <a:lnTo>
                  <a:pt x="149" y="686"/>
                </a:lnTo>
                <a:lnTo>
                  <a:pt x="147" y="686"/>
                </a:lnTo>
                <a:lnTo>
                  <a:pt x="149" y="686"/>
                </a:lnTo>
                <a:lnTo>
                  <a:pt x="145" y="691"/>
                </a:lnTo>
                <a:lnTo>
                  <a:pt x="124" y="713"/>
                </a:lnTo>
                <a:lnTo>
                  <a:pt x="55" y="786"/>
                </a:lnTo>
                <a:lnTo>
                  <a:pt x="3" y="843"/>
                </a:lnTo>
                <a:lnTo>
                  <a:pt x="0" y="846"/>
                </a:lnTo>
                <a:lnTo>
                  <a:pt x="0" y="846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02440" y="3914640"/>
            <a:ext cx="130320" cy="149400"/>
          </a:xfrm>
          <a:custGeom>
            <a:avLst/>
            <a:gdLst/>
            <a:ahLst/>
            <a:rect l="l" t="t" r="r" b="b"/>
            <a:pathLst>
              <a:path w="378" h="454">
                <a:moveTo>
                  <a:pt x="42" y="60"/>
                </a:moveTo>
                <a:lnTo>
                  <a:pt x="41" y="64"/>
                </a:lnTo>
                <a:lnTo>
                  <a:pt x="35" y="87"/>
                </a:lnTo>
                <a:lnTo>
                  <a:pt x="15" y="170"/>
                </a:lnTo>
                <a:lnTo>
                  <a:pt x="0" y="232"/>
                </a:lnTo>
                <a:lnTo>
                  <a:pt x="0" y="235"/>
                </a:lnTo>
                <a:lnTo>
                  <a:pt x="0" y="238"/>
                </a:lnTo>
                <a:lnTo>
                  <a:pt x="2" y="247"/>
                </a:lnTo>
                <a:lnTo>
                  <a:pt x="6" y="281"/>
                </a:lnTo>
                <a:lnTo>
                  <a:pt x="10" y="308"/>
                </a:lnTo>
                <a:lnTo>
                  <a:pt x="12" y="309"/>
                </a:lnTo>
                <a:lnTo>
                  <a:pt x="16" y="309"/>
                </a:lnTo>
                <a:lnTo>
                  <a:pt x="30" y="309"/>
                </a:lnTo>
                <a:lnTo>
                  <a:pt x="41" y="309"/>
                </a:lnTo>
                <a:lnTo>
                  <a:pt x="42" y="309"/>
                </a:lnTo>
                <a:lnTo>
                  <a:pt x="46" y="300"/>
                </a:lnTo>
                <a:lnTo>
                  <a:pt x="59" y="271"/>
                </a:lnTo>
                <a:lnTo>
                  <a:pt x="70" y="248"/>
                </a:lnTo>
                <a:lnTo>
                  <a:pt x="71" y="247"/>
                </a:lnTo>
                <a:lnTo>
                  <a:pt x="72" y="251"/>
                </a:lnTo>
                <a:lnTo>
                  <a:pt x="80" y="260"/>
                </a:lnTo>
                <a:lnTo>
                  <a:pt x="86" y="267"/>
                </a:lnTo>
                <a:lnTo>
                  <a:pt x="87" y="267"/>
                </a:lnTo>
                <a:lnTo>
                  <a:pt x="86" y="270"/>
                </a:lnTo>
                <a:lnTo>
                  <a:pt x="84" y="286"/>
                </a:lnTo>
                <a:lnTo>
                  <a:pt x="77" y="339"/>
                </a:lnTo>
                <a:lnTo>
                  <a:pt x="71" y="380"/>
                </a:lnTo>
                <a:lnTo>
                  <a:pt x="71" y="381"/>
                </a:lnTo>
                <a:lnTo>
                  <a:pt x="72" y="383"/>
                </a:lnTo>
                <a:lnTo>
                  <a:pt x="81" y="393"/>
                </a:lnTo>
                <a:lnTo>
                  <a:pt x="116" y="428"/>
                </a:lnTo>
                <a:lnTo>
                  <a:pt x="142" y="454"/>
                </a:lnTo>
                <a:lnTo>
                  <a:pt x="145" y="454"/>
                </a:lnTo>
                <a:lnTo>
                  <a:pt x="146" y="452"/>
                </a:lnTo>
                <a:lnTo>
                  <a:pt x="162" y="437"/>
                </a:lnTo>
                <a:lnTo>
                  <a:pt x="216" y="383"/>
                </a:lnTo>
                <a:lnTo>
                  <a:pt x="256" y="341"/>
                </a:lnTo>
                <a:lnTo>
                  <a:pt x="259" y="338"/>
                </a:lnTo>
                <a:lnTo>
                  <a:pt x="259" y="329"/>
                </a:lnTo>
                <a:lnTo>
                  <a:pt x="258" y="302"/>
                </a:lnTo>
                <a:lnTo>
                  <a:pt x="258" y="280"/>
                </a:lnTo>
                <a:lnTo>
                  <a:pt x="259" y="279"/>
                </a:lnTo>
                <a:lnTo>
                  <a:pt x="272" y="273"/>
                </a:lnTo>
                <a:lnTo>
                  <a:pt x="314" y="253"/>
                </a:lnTo>
                <a:lnTo>
                  <a:pt x="345" y="237"/>
                </a:lnTo>
                <a:lnTo>
                  <a:pt x="348" y="235"/>
                </a:lnTo>
                <a:lnTo>
                  <a:pt x="348" y="232"/>
                </a:lnTo>
                <a:lnTo>
                  <a:pt x="352" y="210"/>
                </a:lnTo>
                <a:lnTo>
                  <a:pt x="367" y="135"/>
                </a:lnTo>
                <a:lnTo>
                  <a:pt x="377" y="79"/>
                </a:lnTo>
                <a:lnTo>
                  <a:pt x="378" y="74"/>
                </a:lnTo>
                <a:lnTo>
                  <a:pt x="374" y="76"/>
                </a:lnTo>
                <a:lnTo>
                  <a:pt x="352" y="77"/>
                </a:lnTo>
                <a:lnTo>
                  <a:pt x="277" y="84"/>
                </a:lnTo>
                <a:lnTo>
                  <a:pt x="220" y="90"/>
                </a:lnTo>
                <a:lnTo>
                  <a:pt x="217" y="90"/>
                </a:lnTo>
                <a:lnTo>
                  <a:pt x="217" y="84"/>
                </a:lnTo>
                <a:lnTo>
                  <a:pt x="216" y="63"/>
                </a:lnTo>
                <a:lnTo>
                  <a:pt x="216" y="47"/>
                </a:lnTo>
                <a:lnTo>
                  <a:pt x="217" y="45"/>
                </a:lnTo>
                <a:lnTo>
                  <a:pt x="214" y="45"/>
                </a:lnTo>
                <a:lnTo>
                  <a:pt x="199" y="40"/>
                </a:lnTo>
                <a:lnTo>
                  <a:pt x="142" y="18"/>
                </a:lnTo>
                <a:lnTo>
                  <a:pt x="99" y="2"/>
                </a:lnTo>
                <a:lnTo>
                  <a:pt x="97" y="0"/>
                </a:lnTo>
                <a:lnTo>
                  <a:pt x="96" y="0"/>
                </a:lnTo>
                <a:lnTo>
                  <a:pt x="97" y="0"/>
                </a:lnTo>
                <a:lnTo>
                  <a:pt x="96" y="0"/>
                </a:lnTo>
                <a:lnTo>
                  <a:pt x="97" y="0"/>
                </a:lnTo>
                <a:lnTo>
                  <a:pt x="96" y="2"/>
                </a:lnTo>
                <a:lnTo>
                  <a:pt x="88" y="11"/>
                </a:lnTo>
                <a:lnTo>
                  <a:pt x="62" y="38"/>
                </a:lnTo>
                <a:lnTo>
                  <a:pt x="42" y="60"/>
                </a:lnTo>
                <a:lnTo>
                  <a:pt x="42" y="60"/>
                </a:lnTo>
                <a:lnTo>
                  <a:pt x="42" y="6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283520" y="3654360"/>
            <a:ext cx="377640" cy="266760"/>
          </a:xfrm>
          <a:custGeom>
            <a:avLst/>
            <a:gdLst/>
            <a:ahLst/>
            <a:rect l="l" t="t" r="r" b="b"/>
            <a:pathLst>
              <a:path w="1089" h="817">
                <a:moveTo>
                  <a:pt x="85" y="160"/>
                </a:moveTo>
                <a:lnTo>
                  <a:pt x="94" y="168"/>
                </a:lnTo>
                <a:lnTo>
                  <a:pt x="120" y="188"/>
                </a:lnTo>
                <a:lnTo>
                  <a:pt x="142" y="204"/>
                </a:lnTo>
                <a:lnTo>
                  <a:pt x="143" y="204"/>
                </a:lnTo>
                <a:lnTo>
                  <a:pt x="143" y="198"/>
                </a:lnTo>
                <a:lnTo>
                  <a:pt x="142" y="178"/>
                </a:lnTo>
                <a:lnTo>
                  <a:pt x="142" y="162"/>
                </a:lnTo>
                <a:lnTo>
                  <a:pt x="143" y="160"/>
                </a:lnTo>
                <a:lnTo>
                  <a:pt x="137" y="152"/>
                </a:lnTo>
                <a:lnTo>
                  <a:pt x="124" y="124"/>
                </a:lnTo>
                <a:lnTo>
                  <a:pt x="114" y="102"/>
                </a:lnTo>
                <a:lnTo>
                  <a:pt x="114" y="101"/>
                </a:lnTo>
                <a:lnTo>
                  <a:pt x="120" y="98"/>
                </a:lnTo>
                <a:lnTo>
                  <a:pt x="140" y="85"/>
                </a:lnTo>
                <a:lnTo>
                  <a:pt x="156" y="75"/>
                </a:lnTo>
                <a:lnTo>
                  <a:pt x="157" y="73"/>
                </a:lnTo>
                <a:lnTo>
                  <a:pt x="157" y="72"/>
                </a:lnTo>
                <a:lnTo>
                  <a:pt x="159" y="63"/>
                </a:lnTo>
                <a:lnTo>
                  <a:pt x="166" y="29"/>
                </a:lnTo>
                <a:lnTo>
                  <a:pt x="170" y="2"/>
                </a:lnTo>
                <a:lnTo>
                  <a:pt x="172" y="0"/>
                </a:lnTo>
                <a:lnTo>
                  <a:pt x="194" y="4"/>
                </a:lnTo>
                <a:lnTo>
                  <a:pt x="263" y="17"/>
                </a:lnTo>
                <a:lnTo>
                  <a:pt x="315" y="27"/>
                </a:lnTo>
                <a:lnTo>
                  <a:pt x="318" y="27"/>
                </a:lnTo>
                <a:lnTo>
                  <a:pt x="326" y="37"/>
                </a:lnTo>
                <a:lnTo>
                  <a:pt x="346" y="65"/>
                </a:lnTo>
                <a:lnTo>
                  <a:pt x="363" y="86"/>
                </a:lnTo>
                <a:lnTo>
                  <a:pt x="365" y="86"/>
                </a:lnTo>
                <a:lnTo>
                  <a:pt x="372" y="86"/>
                </a:lnTo>
                <a:lnTo>
                  <a:pt x="433" y="82"/>
                </a:lnTo>
                <a:lnTo>
                  <a:pt x="636" y="68"/>
                </a:lnTo>
                <a:lnTo>
                  <a:pt x="792" y="56"/>
                </a:lnTo>
                <a:lnTo>
                  <a:pt x="801" y="55"/>
                </a:lnTo>
                <a:lnTo>
                  <a:pt x="801" y="56"/>
                </a:lnTo>
                <a:lnTo>
                  <a:pt x="801" y="60"/>
                </a:lnTo>
                <a:lnTo>
                  <a:pt x="802" y="76"/>
                </a:lnTo>
                <a:lnTo>
                  <a:pt x="802" y="89"/>
                </a:lnTo>
                <a:lnTo>
                  <a:pt x="804" y="89"/>
                </a:lnTo>
                <a:lnTo>
                  <a:pt x="822" y="98"/>
                </a:lnTo>
                <a:lnTo>
                  <a:pt x="882" y="123"/>
                </a:lnTo>
                <a:lnTo>
                  <a:pt x="927" y="142"/>
                </a:lnTo>
                <a:lnTo>
                  <a:pt x="930" y="142"/>
                </a:lnTo>
                <a:lnTo>
                  <a:pt x="930" y="152"/>
                </a:lnTo>
                <a:lnTo>
                  <a:pt x="928" y="181"/>
                </a:lnTo>
                <a:lnTo>
                  <a:pt x="928" y="202"/>
                </a:lnTo>
                <a:lnTo>
                  <a:pt x="930" y="202"/>
                </a:lnTo>
                <a:lnTo>
                  <a:pt x="933" y="204"/>
                </a:lnTo>
                <a:lnTo>
                  <a:pt x="954" y="213"/>
                </a:lnTo>
                <a:lnTo>
                  <a:pt x="1028" y="242"/>
                </a:lnTo>
                <a:lnTo>
                  <a:pt x="1085" y="263"/>
                </a:lnTo>
                <a:lnTo>
                  <a:pt x="1089" y="263"/>
                </a:lnTo>
                <a:lnTo>
                  <a:pt x="1086" y="265"/>
                </a:lnTo>
                <a:lnTo>
                  <a:pt x="1070" y="270"/>
                </a:lnTo>
                <a:lnTo>
                  <a:pt x="1017" y="291"/>
                </a:lnTo>
                <a:lnTo>
                  <a:pt x="975" y="307"/>
                </a:lnTo>
                <a:lnTo>
                  <a:pt x="973" y="307"/>
                </a:lnTo>
                <a:lnTo>
                  <a:pt x="979" y="314"/>
                </a:lnTo>
                <a:lnTo>
                  <a:pt x="1001" y="334"/>
                </a:lnTo>
                <a:lnTo>
                  <a:pt x="1017" y="350"/>
                </a:lnTo>
                <a:lnTo>
                  <a:pt x="1018" y="350"/>
                </a:lnTo>
                <a:lnTo>
                  <a:pt x="1017" y="352"/>
                </a:lnTo>
                <a:lnTo>
                  <a:pt x="1012" y="357"/>
                </a:lnTo>
                <a:lnTo>
                  <a:pt x="999" y="379"/>
                </a:lnTo>
                <a:lnTo>
                  <a:pt x="989" y="395"/>
                </a:lnTo>
                <a:lnTo>
                  <a:pt x="989" y="395"/>
                </a:lnTo>
                <a:lnTo>
                  <a:pt x="988" y="395"/>
                </a:lnTo>
                <a:lnTo>
                  <a:pt x="983" y="395"/>
                </a:lnTo>
                <a:lnTo>
                  <a:pt x="969" y="395"/>
                </a:lnTo>
                <a:lnTo>
                  <a:pt x="959" y="395"/>
                </a:lnTo>
                <a:lnTo>
                  <a:pt x="959" y="395"/>
                </a:lnTo>
                <a:lnTo>
                  <a:pt x="959" y="398"/>
                </a:lnTo>
                <a:lnTo>
                  <a:pt x="963" y="411"/>
                </a:lnTo>
                <a:lnTo>
                  <a:pt x="977" y="459"/>
                </a:lnTo>
                <a:lnTo>
                  <a:pt x="988" y="495"/>
                </a:lnTo>
                <a:lnTo>
                  <a:pt x="989" y="497"/>
                </a:lnTo>
                <a:lnTo>
                  <a:pt x="988" y="499"/>
                </a:lnTo>
                <a:lnTo>
                  <a:pt x="983" y="511"/>
                </a:lnTo>
                <a:lnTo>
                  <a:pt x="969" y="550"/>
                </a:lnTo>
                <a:lnTo>
                  <a:pt x="959" y="581"/>
                </a:lnTo>
                <a:lnTo>
                  <a:pt x="959" y="582"/>
                </a:lnTo>
                <a:lnTo>
                  <a:pt x="956" y="582"/>
                </a:lnTo>
                <a:lnTo>
                  <a:pt x="943" y="582"/>
                </a:lnTo>
                <a:lnTo>
                  <a:pt x="895" y="582"/>
                </a:lnTo>
                <a:lnTo>
                  <a:pt x="859" y="582"/>
                </a:lnTo>
                <a:lnTo>
                  <a:pt x="857" y="582"/>
                </a:lnTo>
                <a:lnTo>
                  <a:pt x="856" y="583"/>
                </a:lnTo>
                <a:lnTo>
                  <a:pt x="851" y="588"/>
                </a:lnTo>
                <a:lnTo>
                  <a:pt x="838" y="601"/>
                </a:lnTo>
                <a:lnTo>
                  <a:pt x="828" y="611"/>
                </a:lnTo>
                <a:lnTo>
                  <a:pt x="828" y="611"/>
                </a:lnTo>
                <a:lnTo>
                  <a:pt x="825" y="611"/>
                </a:lnTo>
                <a:lnTo>
                  <a:pt x="805" y="602"/>
                </a:lnTo>
                <a:lnTo>
                  <a:pt x="737" y="576"/>
                </a:lnTo>
                <a:lnTo>
                  <a:pt x="685" y="556"/>
                </a:lnTo>
                <a:lnTo>
                  <a:pt x="683" y="554"/>
                </a:lnTo>
                <a:lnTo>
                  <a:pt x="682" y="556"/>
                </a:lnTo>
                <a:lnTo>
                  <a:pt x="678" y="559"/>
                </a:lnTo>
                <a:lnTo>
                  <a:pt x="665" y="572"/>
                </a:lnTo>
                <a:lnTo>
                  <a:pt x="654" y="582"/>
                </a:lnTo>
                <a:lnTo>
                  <a:pt x="654" y="582"/>
                </a:lnTo>
                <a:lnTo>
                  <a:pt x="656" y="585"/>
                </a:lnTo>
                <a:lnTo>
                  <a:pt x="672" y="601"/>
                </a:lnTo>
                <a:lnTo>
                  <a:pt x="725" y="654"/>
                </a:lnTo>
                <a:lnTo>
                  <a:pt x="766" y="696"/>
                </a:lnTo>
                <a:lnTo>
                  <a:pt x="769" y="698"/>
                </a:lnTo>
                <a:lnTo>
                  <a:pt x="766" y="701"/>
                </a:lnTo>
                <a:lnTo>
                  <a:pt x="750" y="717"/>
                </a:lnTo>
                <a:lnTo>
                  <a:pt x="696" y="773"/>
                </a:lnTo>
                <a:lnTo>
                  <a:pt x="656" y="815"/>
                </a:lnTo>
                <a:lnTo>
                  <a:pt x="654" y="817"/>
                </a:lnTo>
                <a:lnTo>
                  <a:pt x="652" y="817"/>
                </a:lnTo>
                <a:lnTo>
                  <a:pt x="636" y="817"/>
                </a:lnTo>
                <a:lnTo>
                  <a:pt x="579" y="817"/>
                </a:lnTo>
                <a:lnTo>
                  <a:pt x="536" y="817"/>
                </a:lnTo>
                <a:lnTo>
                  <a:pt x="534" y="815"/>
                </a:lnTo>
                <a:lnTo>
                  <a:pt x="530" y="810"/>
                </a:lnTo>
                <a:lnTo>
                  <a:pt x="518" y="789"/>
                </a:lnTo>
                <a:lnTo>
                  <a:pt x="510" y="775"/>
                </a:lnTo>
                <a:lnTo>
                  <a:pt x="510" y="773"/>
                </a:lnTo>
                <a:lnTo>
                  <a:pt x="510" y="768"/>
                </a:lnTo>
                <a:lnTo>
                  <a:pt x="508" y="747"/>
                </a:lnTo>
                <a:lnTo>
                  <a:pt x="508" y="733"/>
                </a:lnTo>
                <a:lnTo>
                  <a:pt x="510" y="731"/>
                </a:lnTo>
                <a:lnTo>
                  <a:pt x="508" y="730"/>
                </a:lnTo>
                <a:lnTo>
                  <a:pt x="499" y="718"/>
                </a:lnTo>
                <a:lnTo>
                  <a:pt x="472" y="676"/>
                </a:lnTo>
                <a:lnTo>
                  <a:pt x="450" y="644"/>
                </a:lnTo>
                <a:lnTo>
                  <a:pt x="450" y="641"/>
                </a:lnTo>
                <a:lnTo>
                  <a:pt x="450" y="640"/>
                </a:lnTo>
                <a:lnTo>
                  <a:pt x="452" y="631"/>
                </a:lnTo>
                <a:lnTo>
                  <a:pt x="456" y="597"/>
                </a:lnTo>
                <a:lnTo>
                  <a:pt x="460" y="570"/>
                </a:lnTo>
                <a:lnTo>
                  <a:pt x="462" y="568"/>
                </a:lnTo>
                <a:lnTo>
                  <a:pt x="457" y="565"/>
                </a:lnTo>
                <a:lnTo>
                  <a:pt x="446" y="552"/>
                </a:lnTo>
                <a:lnTo>
                  <a:pt x="437" y="541"/>
                </a:lnTo>
                <a:lnTo>
                  <a:pt x="437" y="540"/>
                </a:lnTo>
                <a:lnTo>
                  <a:pt x="437" y="539"/>
                </a:lnTo>
                <a:lnTo>
                  <a:pt x="439" y="523"/>
                </a:lnTo>
                <a:lnTo>
                  <a:pt x="444" y="468"/>
                </a:lnTo>
                <a:lnTo>
                  <a:pt x="449" y="426"/>
                </a:lnTo>
                <a:lnTo>
                  <a:pt x="450" y="423"/>
                </a:lnTo>
                <a:lnTo>
                  <a:pt x="447" y="424"/>
                </a:lnTo>
                <a:lnTo>
                  <a:pt x="427" y="426"/>
                </a:lnTo>
                <a:lnTo>
                  <a:pt x="357" y="433"/>
                </a:lnTo>
                <a:lnTo>
                  <a:pt x="305" y="439"/>
                </a:lnTo>
                <a:lnTo>
                  <a:pt x="304" y="439"/>
                </a:lnTo>
                <a:lnTo>
                  <a:pt x="299" y="437"/>
                </a:lnTo>
                <a:lnTo>
                  <a:pt x="269" y="426"/>
                </a:lnTo>
                <a:lnTo>
                  <a:pt x="166" y="384"/>
                </a:lnTo>
                <a:lnTo>
                  <a:pt x="88" y="353"/>
                </a:lnTo>
                <a:lnTo>
                  <a:pt x="85" y="350"/>
                </a:lnTo>
                <a:lnTo>
                  <a:pt x="84" y="349"/>
                </a:lnTo>
                <a:lnTo>
                  <a:pt x="78" y="337"/>
                </a:lnTo>
                <a:lnTo>
                  <a:pt x="57" y="295"/>
                </a:lnTo>
                <a:lnTo>
                  <a:pt x="42" y="265"/>
                </a:lnTo>
                <a:lnTo>
                  <a:pt x="42" y="262"/>
                </a:lnTo>
                <a:lnTo>
                  <a:pt x="34" y="265"/>
                </a:lnTo>
                <a:lnTo>
                  <a:pt x="14" y="273"/>
                </a:lnTo>
                <a:lnTo>
                  <a:pt x="0" y="279"/>
                </a:lnTo>
                <a:lnTo>
                  <a:pt x="0" y="279"/>
                </a:lnTo>
                <a:lnTo>
                  <a:pt x="0" y="278"/>
                </a:lnTo>
                <a:lnTo>
                  <a:pt x="5" y="263"/>
                </a:lnTo>
                <a:lnTo>
                  <a:pt x="26" y="215"/>
                </a:lnTo>
                <a:lnTo>
                  <a:pt x="40" y="178"/>
                </a:lnTo>
                <a:lnTo>
                  <a:pt x="42" y="175"/>
                </a:lnTo>
                <a:lnTo>
                  <a:pt x="36" y="165"/>
                </a:lnTo>
                <a:lnTo>
                  <a:pt x="23" y="130"/>
                </a:lnTo>
                <a:lnTo>
                  <a:pt x="13" y="104"/>
                </a:lnTo>
                <a:lnTo>
                  <a:pt x="13" y="101"/>
                </a:lnTo>
                <a:lnTo>
                  <a:pt x="18" y="98"/>
                </a:lnTo>
                <a:lnTo>
                  <a:pt x="39" y="88"/>
                </a:lnTo>
                <a:lnTo>
                  <a:pt x="55" y="79"/>
                </a:lnTo>
                <a:lnTo>
                  <a:pt x="56" y="78"/>
                </a:lnTo>
                <a:lnTo>
                  <a:pt x="55" y="78"/>
                </a:lnTo>
                <a:lnTo>
                  <a:pt x="56" y="78"/>
                </a:lnTo>
                <a:lnTo>
                  <a:pt x="55" y="78"/>
                </a:lnTo>
                <a:lnTo>
                  <a:pt x="56" y="78"/>
                </a:lnTo>
                <a:lnTo>
                  <a:pt x="56" y="81"/>
                </a:lnTo>
                <a:lnTo>
                  <a:pt x="60" y="91"/>
                </a:lnTo>
                <a:lnTo>
                  <a:pt x="73" y="130"/>
                </a:lnTo>
                <a:lnTo>
                  <a:pt x="84" y="159"/>
                </a:lnTo>
                <a:lnTo>
                  <a:pt x="85" y="160"/>
                </a:lnTo>
                <a:lnTo>
                  <a:pt x="85" y="16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99200" y="3940200"/>
            <a:ext cx="351000" cy="444600"/>
          </a:xfrm>
          <a:custGeom>
            <a:avLst/>
            <a:gdLst/>
            <a:ahLst/>
            <a:rect l="l" t="t" r="r" b="b"/>
            <a:pathLst>
              <a:path w="1020" h="1356">
                <a:moveTo>
                  <a:pt x="0" y="384"/>
                </a:moveTo>
                <a:lnTo>
                  <a:pt x="0" y="387"/>
                </a:lnTo>
                <a:lnTo>
                  <a:pt x="3" y="404"/>
                </a:lnTo>
                <a:lnTo>
                  <a:pt x="16" y="462"/>
                </a:lnTo>
                <a:lnTo>
                  <a:pt x="26" y="507"/>
                </a:lnTo>
                <a:lnTo>
                  <a:pt x="28" y="508"/>
                </a:lnTo>
                <a:lnTo>
                  <a:pt x="29" y="510"/>
                </a:lnTo>
                <a:lnTo>
                  <a:pt x="44" y="518"/>
                </a:lnTo>
                <a:lnTo>
                  <a:pt x="91" y="546"/>
                </a:lnTo>
                <a:lnTo>
                  <a:pt x="128" y="568"/>
                </a:lnTo>
                <a:lnTo>
                  <a:pt x="131" y="568"/>
                </a:lnTo>
                <a:lnTo>
                  <a:pt x="131" y="571"/>
                </a:lnTo>
                <a:lnTo>
                  <a:pt x="135" y="582"/>
                </a:lnTo>
                <a:lnTo>
                  <a:pt x="149" y="623"/>
                </a:lnTo>
                <a:lnTo>
                  <a:pt x="159" y="653"/>
                </a:lnTo>
                <a:lnTo>
                  <a:pt x="161" y="655"/>
                </a:lnTo>
                <a:lnTo>
                  <a:pt x="170" y="658"/>
                </a:lnTo>
                <a:lnTo>
                  <a:pt x="196" y="665"/>
                </a:lnTo>
                <a:lnTo>
                  <a:pt x="217" y="669"/>
                </a:lnTo>
                <a:lnTo>
                  <a:pt x="219" y="669"/>
                </a:lnTo>
                <a:lnTo>
                  <a:pt x="219" y="674"/>
                </a:lnTo>
                <a:lnTo>
                  <a:pt x="225" y="695"/>
                </a:lnTo>
                <a:lnTo>
                  <a:pt x="245" y="771"/>
                </a:lnTo>
                <a:lnTo>
                  <a:pt x="259" y="827"/>
                </a:lnTo>
                <a:lnTo>
                  <a:pt x="261" y="830"/>
                </a:lnTo>
                <a:lnTo>
                  <a:pt x="264" y="833"/>
                </a:lnTo>
                <a:lnTo>
                  <a:pt x="284" y="850"/>
                </a:lnTo>
                <a:lnTo>
                  <a:pt x="354" y="908"/>
                </a:lnTo>
                <a:lnTo>
                  <a:pt x="406" y="952"/>
                </a:lnTo>
                <a:lnTo>
                  <a:pt x="410" y="953"/>
                </a:lnTo>
                <a:lnTo>
                  <a:pt x="410" y="956"/>
                </a:lnTo>
                <a:lnTo>
                  <a:pt x="412" y="971"/>
                </a:lnTo>
                <a:lnTo>
                  <a:pt x="419" y="1020"/>
                </a:lnTo>
                <a:lnTo>
                  <a:pt x="425" y="1057"/>
                </a:lnTo>
                <a:lnTo>
                  <a:pt x="426" y="1059"/>
                </a:lnTo>
                <a:lnTo>
                  <a:pt x="429" y="1063"/>
                </a:lnTo>
                <a:lnTo>
                  <a:pt x="452" y="1084"/>
                </a:lnTo>
                <a:lnTo>
                  <a:pt x="535" y="1156"/>
                </a:lnTo>
                <a:lnTo>
                  <a:pt x="597" y="1210"/>
                </a:lnTo>
                <a:lnTo>
                  <a:pt x="601" y="1213"/>
                </a:lnTo>
                <a:lnTo>
                  <a:pt x="604" y="1214"/>
                </a:lnTo>
                <a:lnTo>
                  <a:pt x="635" y="1220"/>
                </a:lnTo>
                <a:lnTo>
                  <a:pt x="735" y="1239"/>
                </a:lnTo>
                <a:lnTo>
                  <a:pt x="811" y="1253"/>
                </a:lnTo>
                <a:lnTo>
                  <a:pt x="816" y="1253"/>
                </a:lnTo>
                <a:lnTo>
                  <a:pt x="826" y="1271"/>
                </a:lnTo>
                <a:lnTo>
                  <a:pt x="858" y="1318"/>
                </a:lnTo>
                <a:lnTo>
                  <a:pt x="882" y="1355"/>
                </a:lnTo>
                <a:lnTo>
                  <a:pt x="884" y="1356"/>
                </a:lnTo>
                <a:lnTo>
                  <a:pt x="885" y="1355"/>
                </a:lnTo>
                <a:lnTo>
                  <a:pt x="900" y="1334"/>
                </a:lnTo>
                <a:lnTo>
                  <a:pt x="951" y="1265"/>
                </a:lnTo>
                <a:lnTo>
                  <a:pt x="988" y="1213"/>
                </a:lnTo>
                <a:lnTo>
                  <a:pt x="991" y="1210"/>
                </a:lnTo>
                <a:lnTo>
                  <a:pt x="988" y="1197"/>
                </a:lnTo>
                <a:lnTo>
                  <a:pt x="982" y="1155"/>
                </a:lnTo>
                <a:lnTo>
                  <a:pt x="978" y="1124"/>
                </a:lnTo>
                <a:lnTo>
                  <a:pt x="978" y="1121"/>
                </a:lnTo>
                <a:lnTo>
                  <a:pt x="978" y="1120"/>
                </a:lnTo>
                <a:lnTo>
                  <a:pt x="984" y="1101"/>
                </a:lnTo>
                <a:lnTo>
                  <a:pt x="1004" y="1040"/>
                </a:lnTo>
                <a:lnTo>
                  <a:pt x="1019" y="992"/>
                </a:lnTo>
                <a:lnTo>
                  <a:pt x="1020" y="989"/>
                </a:lnTo>
                <a:lnTo>
                  <a:pt x="1017" y="986"/>
                </a:lnTo>
                <a:lnTo>
                  <a:pt x="1004" y="965"/>
                </a:lnTo>
                <a:lnTo>
                  <a:pt x="956" y="891"/>
                </a:lnTo>
                <a:lnTo>
                  <a:pt x="920" y="834"/>
                </a:lnTo>
                <a:lnTo>
                  <a:pt x="919" y="830"/>
                </a:lnTo>
                <a:lnTo>
                  <a:pt x="916" y="830"/>
                </a:lnTo>
                <a:lnTo>
                  <a:pt x="907" y="827"/>
                </a:lnTo>
                <a:lnTo>
                  <a:pt x="872" y="814"/>
                </a:lnTo>
                <a:lnTo>
                  <a:pt x="846" y="804"/>
                </a:lnTo>
                <a:lnTo>
                  <a:pt x="845" y="802"/>
                </a:lnTo>
                <a:lnTo>
                  <a:pt x="845" y="792"/>
                </a:lnTo>
                <a:lnTo>
                  <a:pt x="843" y="758"/>
                </a:lnTo>
                <a:lnTo>
                  <a:pt x="843" y="731"/>
                </a:lnTo>
                <a:lnTo>
                  <a:pt x="845" y="729"/>
                </a:lnTo>
                <a:lnTo>
                  <a:pt x="838" y="724"/>
                </a:lnTo>
                <a:lnTo>
                  <a:pt x="817" y="710"/>
                </a:lnTo>
                <a:lnTo>
                  <a:pt x="803" y="700"/>
                </a:lnTo>
                <a:lnTo>
                  <a:pt x="803" y="698"/>
                </a:lnTo>
                <a:lnTo>
                  <a:pt x="800" y="700"/>
                </a:lnTo>
                <a:lnTo>
                  <a:pt x="791" y="705"/>
                </a:lnTo>
                <a:lnTo>
                  <a:pt x="756" y="727"/>
                </a:lnTo>
                <a:lnTo>
                  <a:pt x="730" y="743"/>
                </a:lnTo>
                <a:lnTo>
                  <a:pt x="729" y="743"/>
                </a:lnTo>
                <a:lnTo>
                  <a:pt x="719" y="734"/>
                </a:lnTo>
                <a:lnTo>
                  <a:pt x="691" y="708"/>
                </a:lnTo>
                <a:lnTo>
                  <a:pt x="669" y="687"/>
                </a:lnTo>
                <a:lnTo>
                  <a:pt x="669" y="685"/>
                </a:lnTo>
                <a:lnTo>
                  <a:pt x="668" y="687"/>
                </a:lnTo>
                <a:lnTo>
                  <a:pt x="659" y="695"/>
                </a:lnTo>
                <a:lnTo>
                  <a:pt x="633" y="721"/>
                </a:lnTo>
                <a:lnTo>
                  <a:pt x="612" y="743"/>
                </a:lnTo>
                <a:lnTo>
                  <a:pt x="612" y="743"/>
                </a:lnTo>
                <a:lnTo>
                  <a:pt x="604" y="726"/>
                </a:lnTo>
                <a:lnTo>
                  <a:pt x="584" y="671"/>
                </a:lnTo>
                <a:lnTo>
                  <a:pt x="568" y="629"/>
                </a:lnTo>
                <a:lnTo>
                  <a:pt x="568" y="626"/>
                </a:lnTo>
                <a:lnTo>
                  <a:pt x="568" y="624"/>
                </a:lnTo>
                <a:lnTo>
                  <a:pt x="574" y="608"/>
                </a:lnTo>
                <a:lnTo>
                  <a:pt x="594" y="553"/>
                </a:lnTo>
                <a:lnTo>
                  <a:pt x="610" y="511"/>
                </a:lnTo>
                <a:lnTo>
                  <a:pt x="612" y="508"/>
                </a:lnTo>
                <a:lnTo>
                  <a:pt x="612" y="500"/>
                </a:lnTo>
                <a:lnTo>
                  <a:pt x="610" y="474"/>
                </a:lnTo>
                <a:lnTo>
                  <a:pt x="610" y="452"/>
                </a:lnTo>
                <a:lnTo>
                  <a:pt x="612" y="450"/>
                </a:lnTo>
                <a:lnTo>
                  <a:pt x="614" y="447"/>
                </a:lnTo>
                <a:lnTo>
                  <a:pt x="643" y="426"/>
                </a:lnTo>
                <a:lnTo>
                  <a:pt x="738" y="353"/>
                </a:lnTo>
                <a:lnTo>
                  <a:pt x="811" y="297"/>
                </a:lnTo>
                <a:lnTo>
                  <a:pt x="816" y="292"/>
                </a:lnTo>
                <a:lnTo>
                  <a:pt x="814" y="292"/>
                </a:lnTo>
                <a:lnTo>
                  <a:pt x="810" y="292"/>
                </a:lnTo>
                <a:lnTo>
                  <a:pt x="797" y="292"/>
                </a:lnTo>
                <a:lnTo>
                  <a:pt x="787" y="292"/>
                </a:lnTo>
                <a:lnTo>
                  <a:pt x="787" y="292"/>
                </a:lnTo>
                <a:lnTo>
                  <a:pt x="787" y="272"/>
                </a:lnTo>
                <a:lnTo>
                  <a:pt x="785" y="210"/>
                </a:lnTo>
                <a:lnTo>
                  <a:pt x="785" y="162"/>
                </a:lnTo>
                <a:lnTo>
                  <a:pt x="787" y="159"/>
                </a:lnTo>
                <a:lnTo>
                  <a:pt x="784" y="159"/>
                </a:lnTo>
                <a:lnTo>
                  <a:pt x="771" y="155"/>
                </a:lnTo>
                <a:lnTo>
                  <a:pt x="725" y="142"/>
                </a:lnTo>
                <a:lnTo>
                  <a:pt x="690" y="132"/>
                </a:lnTo>
                <a:lnTo>
                  <a:pt x="688" y="130"/>
                </a:lnTo>
                <a:lnTo>
                  <a:pt x="684" y="130"/>
                </a:lnTo>
                <a:lnTo>
                  <a:pt x="664" y="130"/>
                </a:lnTo>
                <a:lnTo>
                  <a:pt x="594" y="130"/>
                </a:lnTo>
                <a:lnTo>
                  <a:pt x="542" y="130"/>
                </a:lnTo>
                <a:lnTo>
                  <a:pt x="539" y="130"/>
                </a:lnTo>
                <a:lnTo>
                  <a:pt x="523" y="110"/>
                </a:lnTo>
                <a:lnTo>
                  <a:pt x="475" y="49"/>
                </a:lnTo>
                <a:lnTo>
                  <a:pt x="439" y="3"/>
                </a:lnTo>
                <a:lnTo>
                  <a:pt x="438" y="0"/>
                </a:lnTo>
                <a:lnTo>
                  <a:pt x="436" y="0"/>
                </a:lnTo>
                <a:lnTo>
                  <a:pt x="430" y="0"/>
                </a:lnTo>
                <a:lnTo>
                  <a:pt x="409" y="0"/>
                </a:lnTo>
                <a:lnTo>
                  <a:pt x="393" y="0"/>
                </a:lnTo>
                <a:lnTo>
                  <a:pt x="393" y="0"/>
                </a:lnTo>
                <a:lnTo>
                  <a:pt x="391" y="4"/>
                </a:lnTo>
                <a:lnTo>
                  <a:pt x="387" y="26"/>
                </a:lnTo>
                <a:lnTo>
                  <a:pt x="374" y="100"/>
                </a:lnTo>
                <a:lnTo>
                  <a:pt x="364" y="156"/>
                </a:lnTo>
                <a:lnTo>
                  <a:pt x="364" y="159"/>
                </a:lnTo>
                <a:lnTo>
                  <a:pt x="361" y="161"/>
                </a:lnTo>
                <a:lnTo>
                  <a:pt x="349" y="166"/>
                </a:lnTo>
                <a:lnTo>
                  <a:pt x="307" y="188"/>
                </a:lnTo>
                <a:lnTo>
                  <a:pt x="277" y="204"/>
                </a:lnTo>
                <a:lnTo>
                  <a:pt x="275" y="204"/>
                </a:lnTo>
                <a:lnTo>
                  <a:pt x="275" y="216"/>
                </a:lnTo>
                <a:lnTo>
                  <a:pt x="274" y="246"/>
                </a:lnTo>
                <a:lnTo>
                  <a:pt x="274" y="269"/>
                </a:lnTo>
                <a:lnTo>
                  <a:pt x="275" y="269"/>
                </a:lnTo>
                <a:lnTo>
                  <a:pt x="272" y="272"/>
                </a:lnTo>
                <a:lnTo>
                  <a:pt x="257" y="287"/>
                </a:lnTo>
                <a:lnTo>
                  <a:pt x="202" y="339"/>
                </a:lnTo>
                <a:lnTo>
                  <a:pt x="159" y="378"/>
                </a:lnTo>
                <a:lnTo>
                  <a:pt x="158" y="379"/>
                </a:lnTo>
                <a:lnTo>
                  <a:pt x="157" y="378"/>
                </a:lnTo>
                <a:lnTo>
                  <a:pt x="146" y="369"/>
                </a:lnTo>
                <a:lnTo>
                  <a:pt x="113" y="334"/>
                </a:lnTo>
                <a:lnTo>
                  <a:pt x="87" y="308"/>
                </a:lnTo>
                <a:lnTo>
                  <a:pt x="87" y="305"/>
                </a:lnTo>
                <a:lnTo>
                  <a:pt x="86" y="305"/>
                </a:lnTo>
                <a:lnTo>
                  <a:pt x="87" y="305"/>
                </a:lnTo>
                <a:lnTo>
                  <a:pt x="86" y="305"/>
                </a:lnTo>
                <a:lnTo>
                  <a:pt x="87" y="305"/>
                </a:lnTo>
                <a:lnTo>
                  <a:pt x="84" y="308"/>
                </a:lnTo>
                <a:lnTo>
                  <a:pt x="73" y="319"/>
                </a:lnTo>
                <a:lnTo>
                  <a:pt x="32" y="355"/>
                </a:lnTo>
                <a:lnTo>
                  <a:pt x="2" y="382"/>
                </a:lnTo>
                <a:lnTo>
                  <a:pt x="0" y="384"/>
                </a:lnTo>
                <a:lnTo>
                  <a:pt x="0" y="384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402680" y="4359240"/>
            <a:ext cx="144360" cy="863640"/>
          </a:xfrm>
          <a:custGeom>
            <a:avLst/>
            <a:gdLst/>
            <a:ahLst/>
            <a:rect l="l" t="t" r="r" b="b"/>
            <a:pathLst>
              <a:path w="421" h="2640">
                <a:moveTo>
                  <a:pt x="50" y="149"/>
                </a:moveTo>
                <a:lnTo>
                  <a:pt x="50" y="160"/>
                </a:lnTo>
                <a:lnTo>
                  <a:pt x="51" y="225"/>
                </a:lnTo>
                <a:lnTo>
                  <a:pt x="58" y="448"/>
                </a:lnTo>
                <a:lnTo>
                  <a:pt x="63" y="617"/>
                </a:lnTo>
                <a:lnTo>
                  <a:pt x="64" y="626"/>
                </a:lnTo>
                <a:lnTo>
                  <a:pt x="70" y="632"/>
                </a:lnTo>
                <a:lnTo>
                  <a:pt x="92" y="646"/>
                </a:lnTo>
                <a:lnTo>
                  <a:pt x="108" y="657"/>
                </a:lnTo>
                <a:lnTo>
                  <a:pt x="109" y="657"/>
                </a:lnTo>
                <a:lnTo>
                  <a:pt x="108" y="658"/>
                </a:lnTo>
                <a:lnTo>
                  <a:pt x="99" y="668"/>
                </a:lnTo>
                <a:lnTo>
                  <a:pt x="71" y="703"/>
                </a:lnTo>
                <a:lnTo>
                  <a:pt x="50" y="729"/>
                </a:lnTo>
                <a:lnTo>
                  <a:pt x="50" y="729"/>
                </a:lnTo>
                <a:lnTo>
                  <a:pt x="48" y="733"/>
                </a:lnTo>
                <a:lnTo>
                  <a:pt x="47" y="762"/>
                </a:lnTo>
                <a:lnTo>
                  <a:pt x="41" y="857"/>
                </a:lnTo>
                <a:lnTo>
                  <a:pt x="37" y="930"/>
                </a:lnTo>
                <a:lnTo>
                  <a:pt x="37" y="933"/>
                </a:lnTo>
                <a:lnTo>
                  <a:pt x="45" y="951"/>
                </a:lnTo>
                <a:lnTo>
                  <a:pt x="73" y="999"/>
                </a:lnTo>
                <a:lnTo>
                  <a:pt x="95" y="1035"/>
                </a:lnTo>
                <a:lnTo>
                  <a:pt x="96" y="1036"/>
                </a:lnTo>
                <a:lnTo>
                  <a:pt x="95" y="1043"/>
                </a:lnTo>
                <a:lnTo>
                  <a:pt x="90" y="1087"/>
                </a:lnTo>
                <a:lnTo>
                  <a:pt x="76" y="1236"/>
                </a:lnTo>
                <a:lnTo>
                  <a:pt x="64" y="1351"/>
                </a:lnTo>
                <a:lnTo>
                  <a:pt x="64" y="1356"/>
                </a:lnTo>
                <a:lnTo>
                  <a:pt x="63" y="1359"/>
                </a:lnTo>
                <a:lnTo>
                  <a:pt x="57" y="1378"/>
                </a:lnTo>
                <a:lnTo>
                  <a:pt x="37" y="1439"/>
                </a:lnTo>
                <a:lnTo>
                  <a:pt x="21" y="1487"/>
                </a:lnTo>
                <a:lnTo>
                  <a:pt x="21" y="1488"/>
                </a:lnTo>
                <a:lnTo>
                  <a:pt x="27" y="1504"/>
                </a:lnTo>
                <a:lnTo>
                  <a:pt x="47" y="1552"/>
                </a:lnTo>
                <a:lnTo>
                  <a:pt x="63" y="1587"/>
                </a:lnTo>
                <a:lnTo>
                  <a:pt x="64" y="1588"/>
                </a:lnTo>
                <a:lnTo>
                  <a:pt x="64" y="1591"/>
                </a:lnTo>
                <a:lnTo>
                  <a:pt x="66" y="1611"/>
                </a:lnTo>
                <a:lnTo>
                  <a:pt x="74" y="1680"/>
                </a:lnTo>
                <a:lnTo>
                  <a:pt x="80" y="1732"/>
                </a:lnTo>
                <a:lnTo>
                  <a:pt x="82" y="1733"/>
                </a:lnTo>
                <a:lnTo>
                  <a:pt x="90" y="1746"/>
                </a:lnTo>
                <a:lnTo>
                  <a:pt x="116" y="1785"/>
                </a:lnTo>
                <a:lnTo>
                  <a:pt x="137" y="1814"/>
                </a:lnTo>
                <a:lnTo>
                  <a:pt x="138" y="1816"/>
                </a:lnTo>
                <a:lnTo>
                  <a:pt x="138" y="1817"/>
                </a:lnTo>
                <a:lnTo>
                  <a:pt x="140" y="1824"/>
                </a:lnTo>
                <a:lnTo>
                  <a:pt x="148" y="1848"/>
                </a:lnTo>
                <a:lnTo>
                  <a:pt x="154" y="1865"/>
                </a:lnTo>
                <a:lnTo>
                  <a:pt x="155" y="1865"/>
                </a:lnTo>
                <a:lnTo>
                  <a:pt x="154" y="1867"/>
                </a:lnTo>
                <a:lnTo>
                  <a:pt x="148" y="1874"/>
                </a:lnTo>
                <a:lnTo>
                  <a:pt x="131" y="1900"/>
                </a:lnTo>
                <a:lnTo>
                  <a:pt x="116" y="1919"/>
                </a:lnTo>
                <a:lnTo>
                  <a:pt x="116" y="1919"/>
                </a:lnTo>
                <a:lnTo>
                  <a:pt x="124" y="1935"/>
                </a:lnTo>
                <a:lnTo>
                  <a:pt x="148" y="1978"/>
                </a:lnTo>
                <a:lnTo>
                  <a:pt x="167" y="2011"/>
                </a:lnTo>
                <a:lnTo>
                  <a:pt x="169" y="2013"/>
                </a:lnTo>
                <a:lnTo>
                  <a:pt x="166" y="2023"/>
                </a:lnTo>
                <a:lnTo>
                  <a:pt x="158" y="2051"/>
                </a:lnTo>
                <a:lnTo>
                  <a:pt x="153" y="2072"/>
                </a:lnTo>
                <a:lnTo>
                  <a:pt x="153" y="2072"/>
                </a:lnTo>
                <a:lnTo>
                  <a:pt x="150" y="2074"/>
                </a:lnTo>
                <a:lnTo>
                  <a:pt x="135" y="2081"/>
                </a:lnTo>
                <a:lnTo>
                  <a:pt x="87" y="2107"/>
                </a:lnTo>
                <a:lnTo>
                  <a:pt x="51" y="2126"/>
                </a:lnTo>
                <a:lnTo>
                  <a:pt x="50" y="2126"/>
                </a:lnTo>
                <a:lnTo>
                  <a:pt x="50" y="2132"/>
                </a:lnTo>
                <a:lnTo>
                  <a:pt x="48" y="2146"/>
                </a:lnTo>
                <a:lnTo>
                  <a:pt x="48" y="2158"/>
                </a:lnTo>
                <a:lnTo>
                  <a:pt x="50" y="2158"/>
                </a:lnTo>
                <a:lnTo>
                  <a:pt x="58" y="2161"/>
                </a:lnTo>
                <a:lnTo>
                  <a:pt x="86" y="2168"/>
                </a:lnTo>
                <a:lnTo>
                  <a:pt x="108" y="2174"/>
                </a:lnTo>
                <a:lnTo>
                  <a:pt x="109" y="2174"/>
                </a:lnTo>
                <a:lnTo>
                  <a:pt x="109" y="2184"/>
                </a:lnTo>
                <a:lnTo>
                  <a:pt x="108" y="2210"/>
                </a:lnTo>
                <a:lnTo>
                  <a:pt x="108" y="2230"/>
                </a:lnTo>
                <a:lnTo>
                  <a:pt x="109" y="2230"/>
                </a:lnTo>
                <a:lnTo>
                  <a:pt x="115" y="2233"/>
                </a:lnTo>
                <a:lnTo>
                  <a:pt x="137" y="2242"/>
                </a:lnTo>
                <a:lnTo>
                  <a:pt x="153" y="2248"/>
                </a:lnTo>
                <a:lnTo>
                  <a:pt x="154" y="2248"/>
                </a:lnTo>
                <a:lnTo>
                  <a:pt x="151" y="2258"/>
                </a:lnTo>
                <a:lnTo>
                  <a:pt x="144" y="2284"/>
                </a:lnTo>
                <a:lnTo>
                  <a:pt x="138" y="2304"/>
                </a:lnTo>
                <a:lnTo>
                  <a:pt x="138" y="2304"/>
                </a:lnTo>
                <a:lnTo>
                  <a:pt x="138" y="2323"/>
                </a:lnTo>
                <a:lnTo>
                  <a:pt x="137" y="2377"/>
                </a:lnTo>
                <a:lnTo>
                  <a:pt x="137" y="2419"/>
                </a:lnTo>
                <a:lnTo>
                  <a:pt x="138" y="2420"/>
                </a:lnTo>
                <a:lnTo>
                  <a:pt x="144" y="2435"/>
                </a:lnTo>
                <a:lnTo>
                  <a:pt x="164" y="2474"/>
                </a:lnTo>
                <a:lnTo>
                  <a:pt x="179" y="2504"/>
                </a:lnTo>
                <a:lnTo>
                  <a:pt x="180" y="2506"/>
                </a:lnTo>
                <a:lnTo>
                  <a:pt x="184" y="2510"/>
                </a:lnTo>
                <a:lnTo>
                  <a:pt x="199" y="2520"/>
                </a:lnTo>
                <a:lnTo>
                  <a:pt x="211" y="2529"/>
                </a:lnTo>
                <a:lnTo>
                  <a:pt x="212" y="2529"/>
                </a:lnTo>
                <a:lnTo>
                  <a:pt x="212" y="2532"/>
                </a:lnTo>
                <a:lnTo>
                  <a:pt x="216" y="2542"/>
                </a:lnTo>
                <a:lnTo>
                  <a:pt x="229" y="2579"/>
                </a:lnTo>
                <a:lnTo>
                  <a:pt x="240" y="2608"/>
                </a:lnTo>
                <a:lnTo>
                  <a:pt x="241" y="2610"/>
                </a:lnTo>
                <a:lnTo>
                  <a:pt x="244" y="2610"/>
                </a:lnTo>
                <a:lnTo>
                  <a:pt x="257" y="2610"/>
                </a:lnTo>
                <a:lnTo>
                  <a:pt x="267" y="2610"/>
                </a:lnTo>
                <a:lnTo>
                  <a:pt x="268" y="2610"/>
                </a:lnTo>
                <a:lnTo>
                  <a:pt x="271" y="2608"/>
                </a:lnTo>
                <a:lnTo>
                  <a:pt x="280" y="2600"/>
                </a:lnTo>
                <a:lnTo>
                  <a:pt x="287" y="2594"/>
                </a:lnTo>
                <a:lnTo>
                  <a:pt x="289" y="2592"/>
                </a:lnTo>
                <a:lnTo>
                  <a:pt x="289" y="2590"/>
                </a:lnTo>
                <a:lnTo>
                  <a:pt x="293" y="2578"/>
                </a:lnTo>
                <a:lnTo>
                  <a:pt x="296" y="2569"/>
                </a:lnTo>
                <a:lnTo>
                  <a:pt x="297" y="2568"/>
                </a:lnTo>
                <a:lnTo>
                  <a:pt x="299" y="2571"/>
                </a:lnTo>
                <a:lnTo>
                  <a:pt x="306" y="2577"/>
                </a:lnTo>
                <a:lnTo>
                  <a:pt x="311" y="2581"/>
                </a:lnTo>
                <a:lnTo>
                  <a:pt x="312" y="2581"/>
                </a:lnTo>
                <a:lnTo>
                  <a:pt x="309" y="2588"/>
                </a:lnTo>
                <a:lnTo>
                  <a:pt x="305" y="2610"/>
                </a:lnTo>
                <a:lnTo>
                  <a:pt x="300" y="2626"/>
                </a:lnTo>
                <a:lnTo>
                  <a:pt x="300" y="2626"/>
                </a:lnTo>
                <a:lnTo>
                  <a:pt x="306" y="2629"/>
                </a:lnTo>
                <a:lnTo>
                  <a:pt x="326" y="2636"/>
                </a:lnTo>
                <a:lnTo>
                  <a:pt x="341" y="2640"/>
                </a:lnTo>
                <a:lnTo>
                  <a:pt x="342" y="2640"/>
                </a:lnTo>
                <a:lnTo>
                  <a:pt x="351" y="2633"/>
                </a:lnTo>
                <a:lnTo>
                  <a:pt x="377" y="2613"/>
                </a:lnTo>
                <a:lnTo>
                  <a:pt x="399" y="2595"/>
                </a:lnTo>
                <a:lnTo>
                  <a:pt x="400" y="2594"/>
                </a:lnTo>
                <a:lnTo>
                  <a:pt x="403" y="2588"/>
                </a:lnTo>
                <a:lnTo>
                  <a:pt x="412" y="2568"/>
                </a:lnTo>
                <a:lnTo>
                  <a:pt x="419" y="2552"/>
                </a:lnTo>
                <a:lnTo>
                  <a:pt x="421" y="2550"/>
                </a:lnTo>
                <a:lnTo>
                  <a:pt x="419" y="2550"/>
                </a:lnTo>
                <a:lnTo>
                  <a:pt x="413" y="2550"/>
                </a:lnTo>
                <a:lnTo>
                  <a:pt x="392" y="2549"/>
                </a:lnTo>
                <a:lnTo>
                  <a:pt x="376" y="2549"/>
                </a:lnTo>
                <a:lnTo>
                  <a:pt x="376" y="2548"/>
                </a:lnTo>
                <a:lnTo>
                  <a:pt x="374" y="2549"/>
                </a:lnTo>
                <a:lnTo>
                  <a:pt x="373" y="2550"/>
                </a:lnTo>
                <a:lnTo>
                  <a:pt x="364" y="2559"/>
                </a:lnTo>
                <a:lnTo>
                  <a:pt x="358" y="2565"/>
                </a:lnTo>
                <a:lnTo>
                  <a:pt x="358" y="2565"/>
                </a:lnTo>
                <a:lnTo>
                  <a:pt x="357" y="2565"/>
                </a:lnTo>
                <a:lnTo>
                  <a:pt x="348" y="2562"/>
                </a:lnTo>
                <a:lnTo>
                  <a:pt x="321" y="2553"/>
                </a:lnTo>
                <a:lnTo>
                  <a:pt x="299" y="2546"/>
                </a:lnTo>
                <a:lnTo>
                  <a:pt x="299" y="2545"/>
                </a:lnTo>
                <a:lnTo>
                  <a:pt x="296" y="2540"/>
                </a:lnTo>
                <a:lnTo>
                  <a:pt x="289" y="2523"/>
                </a:lnTo>
                <a:lnTo>
                  <a:pt x="283" y="2510"/>
                </a:lnTo>
                <a:lnTo>
                  <a:pt x="283" y="2508"/>
                </a:lnTo>
                <a:lnTo>
                  <a:pt x="280" y="2508"/>
                </a:lnTo>
                <a:lnTo>
                  <a:pt x="271" y="2507"/>
                </a:lnTo>
                <a:lnTo>
                  <a:pt x="237" y="2501"/>
                </a:lnTo>
                <a:lnTo>
                  <a:pt x="211" y="2497"/>
                </a:lnTo>
                <a:lnTo>
                  <a:pt x="209" y="2495"/>
                </a:lnTo>
                <a:lnTo>
                  <a:pt x="206" y="2482"/>
                </a:lnTo>
                <a:lnTo>
                  <a:pt x="200" y="2440"/>
                </a:lnTo>
                <a:lnTo>
                  <a:pt x="196" y="2410"/>
                </a:lnTo>
                <a:lnTo>
                  <a:pt x="196" y="2407"/>
                </a:lnTo>
                <a:lnTo>
                  <a:pt x="202" y="2397"/>
                </a:lnTo>
                <a:lnTo>
                  <a:pt x="224" y="2362"/>
                </a:lnTo>
                <a:lnTo>
                  <a:pt x="240" y="2336"/>
                </a:lnTo>
                <a:lnTo>
                  <a:pt x="241" y="2335"/>
                </a:lnTo>
                <a:lnTo>
                  <a:pt x="241" y="2324"/>
                </a:lnTo>
                <a:lnTo>
                  <a:pt x="240" y="2290"/>
                </a:lnTo>
                <a:lnTo>
                  <a:pt x="240" y="2264"/>
                </a:lnTo>
                <a:lnTo>
                  <a:pt x="241" y="2261"/>
                </a:lnTo>
                <a:lnTo>
                  <a:pt x="234" y="2256"/>
                </a:lnTo>
                <a:lnTo>
                  <a:pt x="212" y="2242"/>
                </a:lnTo>
                <a:lnTo>
                  <a:pt x="196" y="2232"/>
                </a:lnTo>
                <a:lnTo>
                  <a:pt x="196" y="2230"/>
                </a:lnTo>
                <a:lnTo>
                  <a:pt x="196" y="2229"/>
                </a:lnTo>
                <a:lnTo>
                  <a:pt x="195" y="2222"/>
                </a:lnTo>
                <a:lnTo>
                  <a:pt x="195" y="2217"/>
                </a:lnTo>
                <a:lnTo>
                  <a:pt x="196" y="2216"/>
                </a:lnTo>
                <a:lnTo>
                  <a:pt x="200" y="2210"/>
                </a:lnTo>
                <a:lnTo>
                  <a:pt x="213" y="2190"/>
                </a:lnTo>
                <a:lnTo>
                  <a:pt x="224" y="2175"/>
                </a:lnTo>
                <a:lnTo>
                  <a:pt x="225" y="2174"/>
                </a:lnTo>
                <a:lnTo>
                  <a:pt x="225" y="2165"/>
                </a:lnTo>
                <a:lnTo>
                  <a:pt x="224" y="2137"/>
                </a:lnTo>
                <a:lnTo>
                  <a:pt x="224" y="2116"/>
                </a:lnTo>
                <a:lnTo>
                  <a:pt x="225" y="2114"/>
                </a:lnTo>
                <a:lnTo>
                  <a:pt x="226" y="2110"/>
                </a:lnTo>
                <a:lnTo>
                  <a:pt x="234" y="2097"/>
                </a:lnTo>
                <a:lnTo>
                  <a:pt x="240" y="2087"/>
                </a:lnTo>
                <a:lnTo>
                  <a:pt x="241" y="2085"/>
                </a:lnTo>
                <a:lnTo>
                  <a:pt x="242" y="2077"/>
                </a:lnTo>
                <a:lnTo>
                  <a:pt x="248" y="2051"/>
                </a:lnTo>
                <a:lnTo>
                  <a:pt x="253" y="2029"/>
                </a:lnTo>
                <a:lnTo>
                  <a:pt x="254" y="2027"/>
                </a:lnTo>
                <a:lnTo>
                  <a:pt x="251" y="2022"/>
                </a:lnTo>
                <a:lnTo>
                  <a:pt x="245" y="2001"/>
                </a:lnTo>
                <a:lnTo>
                  <a:pt x="241" y="1985"/>
                </a:lnTo>
                <a:lnTo>
                  <a:pt x="241" y="1984"/>
                </a:lnTo>
                <a:lnTo>
                  <a:pt x="240" y="1974"/>
                </a:lnTo>
                <a:lnTo>
                  <a:pt x="231" y="1900"/>
                </a:lnTo>
                <a:lnTo>
                  <a:pt x="202" y="1648"/>
                </a:lnTo>
                <a:lnTo>
                  <a:pt x="180" y="1456"/>
                </a:lnTo>
                <a:lnTo>
                  <a:pt x="180" y="1445"/>
                </a:lnTo>
                <a:lnTo>
                  <a:pt x="193" y="1439"/>
                </a:lnTo>
                <a:lnTo>
                  <a:pt x="235" y="1417"/>
                </a:lnTo>
                <a:lnTo>
                  <a:pt x="266" y="1401"/>
                </a:lnTo>
                <a:lnTo>
                  <a:pt x="268" y="1400"/>
                </a:lnTo>
                <a:lnTo>
                  <a:pt x="268" y="1394"/>
                </a:lnTo>
                <a:lnTo>
                  <a:pt x="267" y="1374"/>
                </a:lnTo>
                <a:lnTo>
                  <a:pt x="267" y="1358"/>
                </a:lnTo>
                <a:lnTo>
                  <a:pt x="268" y="1356"/>
                </a:lnTo>
                <a:lnTo>
                  <a:pt x="267" y="1356"/>
                </a:lnTo>
                <a:lnTo>
                  <a:pt x="258" y="1355"/>
                </a:lnTo>
                <a:lnTo>
                  <a:pt x="231" y="1348"/>
                </a:lnTo>
                <a:lnTo>
                  <a:pt x="209" y="1343"/>
                </a:lnTo>
                <a:lnTo>
                  <a:pt x="209" y="1342"/>
                </a:lnTo>
                <a:lnTo>
                  <a:pt x="209" y="1341"/>
                </a:lnTo>
                <a:lnTo>
                  <a:pt x="211" y="1320"/>
                </a:lnTo>
                <a:lnTo>
                  <a:pt x="218" y="1252"/>
                </a:lnTo>
                <a:lnTo>
                  <a:pt x="224" y="1200"/>
                </a:lnTo>
                <a:lnTo>
                  <a:pt x="225" y="1197"/>
                </a:lnTo>
                <a:lnTo>
                  <a:pt x="224" y="1194"/>
                </a:lnTo>
                <a:lnTo>
                  <a:pt x="213" y="1165"/>
                </a:lnTo>
                <a:lnTo>
                  <a:pt x="180" y="1070"/>
                </a:lnTo>
                <a:lnTo>
                  <a:pt x="154" y="996"/>
                </a:lnTo>
                <a:lnTo>
                  <a:pt x="154" y="991"/>
                </a:lnTo>
                <a:lnTo>
                  <a:pt x="155" y="986"/>
                </a:lnTo>
                <a:lnTo>
                  <a:pt x="167" y="942"/>
                </a:lnTo>
                <a:lnTo>
                  <a:pt x="208" y="793"/>
                </a:lnTo>
                <a:lnTo>
                  <a:pt x="238" y="678"/>
                </a:lnTo>
                <a:lnTo>
                  <a:pt x="241" y="671"/>
                </a:lnTo>
                <a:lnTo>
                  <a:pt x="238" y="654"/>
                </a:lnTo>
                <a:lnTo>
                  <a:pt x="231" y="599"/>
                </a:lnTo>
                <a:lnTo>
                  <a:pt x="225" y="557"/>
                </a:lnTo>
                <a:lnTo>
                  <a:pt x="225" y="554"/>
                </a:lnTo>
                <a:lnTo>
                  <a:pt x="229" y="545"/>
                </a:lnTo>
                <a:lnTo>
                  <a:pt x="242" y="519"/>
                </a:lnTo>
                <a:lnTo>
                  <a:pt x="253" y="497"/>
                </a:lnTo>
                <a:lnTo>
                  <a:pt x="254" y="496"/>
                </a:lnTo>
                <a:lnTo>
                  <a:pt x="260" y="499"/>
                </a:lnTo>
                <a:lnTo>
                  <a:pt x="282" y="506"/>
                </a:lnTo>
                <a:lnTo>
                  <a:pt x="297" y="510"/>
                </a:lnTo>
                <a:lnTo>
                  <a:pt x="299" y="510"/>
                </a:lnTo>
                <a:lnTo>
                  <a:pt x="300" y="507"/>
                </a:lnTo>
                <a:lnTo>
                  <a:pt x="308" y="494"/>
                </a:lnTo>
                <a:lnTo>
                  <a:pt x="312" y="484"/>
                </a:lnTo>
                <a:lnTo>
                  <a:pt x="313" y="483"/>
                </a:lnTo>
                <a:lnTo>
                  <a:pt x="311" y="473"/>
                </a:lnTo>
                <a:lnTo>
                  <a:pt x="303" y="438"/>
                </a:lnTo>
                <a:lnTo>
                  <a:pt x="299" y="412"/>
                </a:lnTo>
                <a:lnTo>
                  <a:pt x="299" y="409"/>
                </a:lnTo>
                <a:lnTo>
                  <a:pt x="289" y="403"/>
                </a:lnTo>
                <a:lnTo>
                  <a:pt x="263" y="383"/>
                </a:lnTo>
                <a:lnTo>
                  <a:pt x="241" y="367"/>
                </a:lnTo>
                <a:lnTo>
                  <a:pt x="241" y="365"/>
                </a:lnTo>
                <a:lnTo>
                  <a:pt x="238" y="360"/>
                </a:lnTo>
                <a:lnTo>
                  <a:pt x="222" y="309"/>
                </a:lnTo>
                <a:lnTo>
                  <a:pt x="166" y="139"/>
                </a:lnTo>
                <a:lnTo>
                  <a:pt x="124" y="9"/>
                </a:lnTo>
                <a:lnTo>
                  <a:pt x="122" y="2"/>
                </a:lnTo>
                <a:lnTo>
                  <a:pt x="121" y="2"/>
                </a:lnTo>
                <a:lnTo>
                  <a:pt x="112" y="2"/>
                </a:lnTo>
                <a:lnTo>
                  <a:pt x="83" y="2"/>
                </a:lnTo>
                <a:lnTo>
                  <a:pt x="60" y="2"/>
                </a:lnTo>
                <a:lnTo>
                  <a:pt x="60" y="0"/>
                </a:lnTo>
                <a:lnTo>
                  <a:pt x="58" y="3"/>
                </a:lnTo>
                <a:lnTo>
                  <a:pt x="50" y="13"/>
                </a:lnTo>
                <a:lnTo>
                  <a:pt x="24" y="48"/>
                </a:lnTo>
                <a:lnTo>
                  <a:pt x="2" y="74"/>
                </a:lnTo>
                <a:lnTo>
                  <a:pt x="2" y="76"/>
                </a:lnTo>
                <a:lnTo>
                  <a:pt x="0" y="76"/>
                </a:lnTo>
                <a:lnTo>
                  <a:pt x="2" y="76"/>
                </a:lnTo>
                <a:lnTo>
                  <a:pt x="0" y="76"/>
                </a:lnTo>
                <a:lnTo>
                  <a:pt x="2" y="76"/>
                </a:lnTo>
                <a:lnTo>
                  <a:pt x="9" y="87"/>
                </a:lnTo>
                <a:lnTo>
                  <a:pt x="31" y="122"/>
                </a:lnTo>
                <a:lnTo>
                  <a:pt x="48" y="148"/>
                </a:lnTo>
                <a:lnTo>
                  <a:pt x="50" y="149"/>
                </a:lnTo>
                <a:lnTo>
                  <a:pt x="50" y="149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413480" y="5024520"/>
            <a:ext cx="14400" cy="12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0" y="18"/>
                </a:moveTo>
                <a:lnTo>
                  <a:pt x="2" y="22"/>
                </a:lnTo>
                <a:lnTo>
                  <a:pt x="8" y="31"/>
                </a:lnTo>
                <a:lnTo>
                  <a:pt x="12" y="38"/>
                </a:lnTo>
                <a:lnTo>
                  <a:pt x="13" y="38"/>
                </a:lnTo>
                <a:lnTo>
                  <a:pt x="16" y="37"/>
                </a:lnTo>
                <a:lnTo>
                  <a:pt x="28" y="28"/>
                </a:lnTo>
                <a:lnTo>
                  <a:pt x="37" y="22"/>
                </a:lnTo>
                <a:lnTo>
                  <a:pt x="38" y="21"/>
                </a:lnTo>
                <a:lnTo>
                  <a:pt x="34" y="19"/>
                </a:lnTo>
                <a:lnTo>
                  <a:pt x="25" y="12"/>
                </a:lnTo>
                <a:lnTo>
                  <a:pt x="19" y="6"/>
                </a:lnTo>
                <a:lnTo>
                  <a:pt x="19" y="5"/>
                </a:lnTo>
                <a:lnTo>
                  <a:pt x="12" y="3"/>
                </a:lnTo>
                <a:lnTo>
                  <a:pt x="9" y="2"/>
                </a:lnTo>
                <a:lnTo>
                  <a:pt x="9" y="0"/>
                </a:lnTo>
                <a:lnTo>
                  <a:pt x="8" y="0"/>
                </a:lnTo>
                <a:lnTo>
                  <a:pt x="9" y="0"/>
                </a:lnTo>
                <a:lnTo>
                  <a:pt x="8" y="0"/>
                </a:lnTo>
                <a:lnTo>
                  <a:pt x="9" y="0"/>
                </a:lnTo>
                <a:lnTo>
                  <a:pt x="8" y="2"/>
                </a:lnTo>
                <a:lnTo>
                  <a:pt x="3" y="12"/>
                </a:lnTo>
                <a:lnTo>
                  <a:pt x="0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412040" y="4946760"/>
            <a:ext cx="17640" cy="39600"/>
          </a:xfrm>
          <a:custGeom>
            <a:avLst/>
            <a:gdLst/>
            <a:ahLst/>
            <a:rect l="l" t="t" r="r" b="b"/>
            <a:pathLst>
              <a:path w="53" h="118">
                <a:moveTo>
                  <a:pt x="0" y="22"/>
                </a:moveTo>
                <a:lnTo>
                  <a:pt x="0" y="23"/>
                </a:lnTo>
                <a:lnTo>
                  <a:pt x="2" y="28"/>
                </a:lnTo>
                <a:lnTo>
                  <a:pt x="6" y="45"/>
                </a:lnTo>
                <a:lnTo>
                  <a:pt x="11" y="58"/>
                </a:lnTo>
                <a:lnTo>
                  <a:pt x="12" y="58"/>
                </a:lnTo>
                <a:lnTo>
                  <a:pt x="12" y="66"/>
                </a:lnTo>
                <a:lnTo>
                  <a:pt x="11" y="87"/>
                </a:lnTo>
                <a:lnTo>
                  <a:pt x="11" y="103"/>
                </a:lnTo>
                <a:lnTo>
                  <a:pt x="12" y="103"/>
                </a:lnTo>
                <a:lnTo>
                  <a:pt x="16" y="106"/>
                </a:lnTo>
                <a:lnTo>
                  <a:pt x="29" y="113"/>
                </a:lnTo>
                <a:lnTo>
                  <a:pt x="40" y="118"/>
                </a:lnTo>
                <a:lnTo>
                  <a:pt x="41" y="118"/>
                </a:lnTo>
                <a:lnTo>
                  <a:pt x="42" y="116"/>
                </a:lnTo>
                <a:lnTo>
                  <a:pt x="47" y="109"/>
                </a:lnTo>
                <a:lnTo>
                  <a:pt x="51" y="105"/>
                </a:lnTo>
                <a:lnTo>
                  <a:pt x="53" y="103"/>
                </a:lnTo>
                <a:lnTo>
                  <a:pt x="50" y="99"/>
                </a:lnTo>
                <a:lnTo>
                  <a:pt x="45" y="83"/>
                </a:lnTo>
                <a:lnTo>
                  <a:pt x="41" y="70"/>
                </a:lnTo>
                <a:lnTo>
                  <a:pt x="41" y="68"/>
                </a:lnTo>
                <a:lnTo>
                  <a:pt x="41" y="61"/>
                </a:lnTo>
                <a:lnTo>
                  <a:pt x="42" y="41"/>
                </a:lnTo>
                <a:lnTo>
                  <a:pt x="44" y="23"/>
                </a:lnTo>
                <a:lnTo>
                  <a:pt x="45" y="22"/>
                </a:lnTo>
                <a:lnTo>
                  <a:pt x="41" y="19"/>
                </a:lnTo>
                <a:lnTo>
                  <a:pt x="29" y="9"/>
                </a:lnTo>
                <a:lnTo>
                  <a:pt x="21" y="2"/>
                </a:lnTo>
                <a:lnTo>
                  <a:pt x="21" y="0"/>
                </a:lnTo>
                <a:lnTo>
                  <a:pt x="19" y="0"/>
                </a:lnTo>
                <a:lnTo>
                  <a:pt x="21" y="0"/>
                </a:lnTo>
                <a:lnTo>
                  <a:pt x="19" y="0"/>
                </a:lnTo>
                <a:lnTo>
                  <a:pt x="21" y="0"/>
                </a:lnTo>
                <a:lnTo>
                  <a:pt x="19" y="2"/>
                </a:lnTo>
                <a:lnTo>
                  <a:pt x="16" y="5"/>
                </a:lnTo>
                <a:lnTo>
                  <a:pt x="8" y="15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520040" y="5211720"/>
            <a:ext cx="68040" cy="71640"/>
          </a:xfrm>
          <a:custGeom>
            <a:avLst/>
            <a:gdLst/>
            <a:ahLst/>
            <a:rect l="l" t="t" r="r" b="b"/>
            <a:pathLst>
              <a:path w="203" h="216">
                <a:moveTo>
                  <a:pt x="74" y="39"/>
                </a:moveTo>
                <a:lnTo>
                  <a:pt x="74" y="40"/>
                </a:lnTo>
                <a:lnTo>
                  <a:pt x="76" y="49"/>
                </a:lnTo>
                <a:lnTo>
                  <a:pt x="83" y="75"/>
                </a:lnTo>
                <a:lnTo>
                  <a:pt x="87" y="97"/>
                </a:lnTo>
                <a:lnTo>
                  <a:pt x="89" y="97"/>
                </a:lnTo>
                <a:lnTo>
                  <a:pt x="86" y="98"/>
                </a:lnTo>
                <a:lnTo>
                  <a:pt x="76" y="103"/>
                </a:lnTo>
                <a:lnTo>
                  <a:pt x="41" y="117"/>
                </a:lnTo>
                <a:lnTo>
                  <a:pt x="15" y="127"/>
                </a:lnTo>
                <a:lnTo>
                  <a:pt x="14" y="127"/>
                </a:lnTo>
                <a:lnTo>
                  <a:pt x="11" y="135"/>
                </a:lnTo>
                <a:lnTo>
                  <a:pt x="5" y="156"/>
                </a:lnTo>
                <a:lnTo>
                  <a:pt x="0" y="172"/>
                </a:lnTo>
                <a:lnTo>
                  <a:pt x="0" y="172"/>
                </a:lnTo>
                <a:lnTo>
                  <a:pt x="2" y="172"/>
                </a:lnTo>
                <a:lnTo>
                  <a:pt x="14" y="171"/>
                </a:lnTo>
                <a:lnTo>
                  <a:pt x="54" y="165"/>
                </a:lnTo>
                <a:lnTo>
                  <a:pt x="85" y="161"/>
                </a:lnTo>
                <a:lnTo>
                  <a:pt x="87" y="159"/>
                </a:lnTo>
                <a:lnTo>
                  <a:pt x="92" y="166"/>
                </a:lnTo>
                <a:lnTo>
                  <a:pt x="106" y="188"/>
                </a:lnTo>
                <a:lnTo>
                  <a:pt x="116" y="204"/>
                </a:lnTo>
                <a:lnTo>
                  <a:pt x="118" y="204"/>
                </a:lnTo>
                <a:lnTo>
                  <a:pt x="124" y="207"/>
                </a:lnTo>
                <a:lnTo>
                  <a:pt x="145" y="211"/>
                </a:lnTo>
                <a:lnTo>
                  <a:pt x="161" y="216"/>
                </a:lnTo>
                <a:lnTo>
                  <a:pt x="163" y="216"/>
                </a:lnTo>
                <a:lnTo>
                  <a:pt x="169" y="210"/>
                </a:lnTo>
                <a:lnTo>
                  <a:pt x="187" y="191"/>
                </a:lnTo>
                <a:lnTo>
                  <a:pt x="202" y="177"/>
                </a:lnTo>
                <a:lnTo>
                  <a:pt x="203" y="175"/>
                </a:lnTo>
                <a:lnTo>
                  <a:pt x="198" y="166"/>
                </a:lnTo>
                <a:lnTo>
                  <a:pt x="180" y="137"/>
                </a:lnTo>
                <a:lnTo>
                  <a:pt x="167" y="116"/>
                </a:lnTo>
                <a:lnTo>
                  <a:pt x="167" y="114"/>
                </a:lnTo>
                <a:lnTo>
                  <a:pt x="160" y="97"/>
                </a:lnTo>
                <a:lnTo>
                  <a:pt x="138" y="43"/>
                </a:lnTo>
                <a:lnTo>
                  <a:pt x="122" y="3"/>
                </a:lnTo>
                <a:lnTo>
                  <a:pt x="122" y="0"/>
                </a:lnTo>
                <a:lnTo>
                  <a:pt x="121" y="0"/>
                </a:lnTo>
                <a:lnTo>
                  <a:pt x="122" y="0"/>
                </a:lnTo>
                <a:lnTo>
                  <a:pt x="121" y="0"/>
                </a:lnTo>
                <a:lnTo>
                  <a:pt x="122" y="0"/>
                </a:lnTo>
                <a:lnTo>
                  <a:pt x="121" y="1"/>
                </a:lnTo>
                <a:lnTo>
                  <a:pt x="113" y="7"/>
                </a:lnTo>
                <a:lnTo>
                  <a:pt x="92" y="24"/>
                </a:lnTo>
                <a:lnTo>
                  <a:pt x="74" y="39"/>
                </a:lnTo>
                <a:lnTo>
                  <a:pt x="74" y="39"/>
                </a:lnTo>
                <a:lnTo>
                  <a:pt x="74" y="39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561440" y="5213520"/>
            <a:ext cx="72720" cy="60120"/>
          </a:xfrm>
          <a:custGeom>
            <a:avLst/>
            <a:gdLst/>
            <a:ahLst/>
            <a:rect l="l" t="t" r="r" b="b"/>
            <a:pathLst>
              <a:path w="217" h="185">
                <a:moveTo>
                  <a:pt x="43" y="110"/>
                </a:moveTo>
                <a:lnTo>
                  <a:pt x="49" y="120"/>
                </a:lnTo>
                <a:lnTo>
                  <a:pt x="66" y="149"/>
                </a:lnTo>
                <a:lnTo>
                  <a:pt x="81" y="172"/>
                </a:lnTo>
                <a:lnTo>
                  <a:pt x="82" y="172"/>
                </a:lnTo>
                <a:lnTo>
                  <a:pt x="91" y="175"/>
                </a:lnTo>
                <a:lnTo>
                  <a:pt x="120" y="181"/>
                </a:lnTo>
                <a:lnTo>
                  <a:pt x="142" y="185"/>
                </a:lnTo>
                <a:lnTo>
                  <a:pt x="143" y="185"/>
                </a:lnTo>
                <a:lnTo>
                  <a:pt x="145" y="185"/>
                </a:lnTo>
                <a:lnTo>
                  <a:pt x="153" y="181"/>
                </a:lnTo>
                <a:lnTo>
                  <a:pt x="188" y="166"/>
                </a:lnTo>
                <a:lnTo>
                  <a:pt x="214" y="156"/>
                </a:lnTo>
                <a:lnTo>
                  <a:pt x="217" y="155"/>
                </a:lnTo>
                <a:lnTo>
                  <a:pt x="210" y="149"/>
                </a:lnTo>
                <a:lnTo>
                  <a:pt x="188" y="127"/>
                </a:lnTo>
                <a:lnTo>
                  <a:pt x="172" y="111"/>
                </a:lnTo>
                <a:lnTo>
                  <a:pt x="172" y="110"/>
                </a:lnTo>
                <a:lnTo>
                  <a:pt x="166" y="111"/>
                </a:lnTo>
                <a:lnTo>
                  <a:pt x="153" y="111"/>
                </a:lnTo>
                <a:lnTo>
                  <a:pt x="143" y="111"/>
                </a:lnTo>
                <a:lnTo>
                  <a:pt x="143" y="111"/>
                </a:lnTo>
                <a:lnTo>
                  <a:pt x="142" y="111"/>
                </a:lnTo>
                <a:lnTo>
                  <a:pt x="136" y="110"/>
                </a:lnTo>
                <a:lnTo>
                  <a:pt x="116" y="101"/>
                </a:lnTo>
                <a:lnTo>
                  <a:pt x="100" y="95"/>
                </a:lnTo>
                <a:lnTo>
                  <a:pt x="100" y="94"/>
                </a:lnTo>
                <a:lnTo>
                  <a:pt x="98" y="92"/>
                </a:lnTo>
                <a:lnTo>
                  <a:pt x="90" y="81"/>
                </a:lnTo>
                <a:lnTo>
                  <a:pt x="61" y="39"/>
                </a:lnTo>
                <a:lnTo>
                  <a:pt x="39" y="8"/>
                </a:lnTo>
                <a:lnTo>
                  <a:pt x="39" y="5"/>
                </a:lnTo>
                <a:lnTo>
                  <a:pt x="37" y="5"/>
                </a:lnTo>
                <a:lnTo>
                  <a:pt x="32" y="5"/>
                </a:lnTo>
                <a:lnTo>
                  <a:pt x="14" y="3"/>
                </a:lnTo>
                <a:lnTo>
                  <a:pt x="1" y="1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lnTo>
                  <a:pt x="7" y="17"/>
                </a:lnTo>
                <a:lnTo>
                  <a:pt x="27" y="69"/>
                </a:lnTo>
                <a:lnTo>
                  <a:pt x="42" y="108"/>
                </a:lnTo>
                <a:lnTo>
                  <a:pt x="43" y="110"/>
                </a:lnTo>
                <a:lnTo>
                  <a:pt x="43" y="11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456320" y="4459320"/>
            <a:ext cx="384480" cy="738000"/>
          </a:xfrm>
          <a:custGeom>
            <a:avLst/>
            <a:gdLst/>
            <a:ahLst/>
            <a:rect l="l" t="t" r="r" b="b"/>
            <a:pathLst>
              <a:path w="1119" h="2255">
                <a:moveTo>
                  <a:pt x="159" y="170"/>
                </a:moveTo>
                <a:lnTo>
                  <a:pt x="158" y="171"/>
                </a:lnTo>
                <a:lnTo>
                  <a:pt x="157" y="176"/>
                </a:lnTo>
                <a:lnTo>
                  <a:pt x="149" y="190"/>
                </a:lnTo>
                <a:lnTo>
                  <a:pt x="145" y="200"/>
                </a:lnTo>
                <a:lnTo>
                  <a:pt x="145" y="200"/>
                </a:lnTo>
                <a:lnTo>
                  <a:pt x="143" y="200"/>
                </a:lnTo>
                <a:lnTo>
                  <a:pt x="138" y="199"/>
                </a:lnTo>
                <a:lnTo>
                  <a:pt x="116" y="192"/>
                </a:lnTo>
                <a:lnTo>
                  <a:pt x="100" y="187"/>
                </a:lnTo>
                <a:lnTo>
                  <a:pt x="100" y="186"/>
                </a:lnTo>
                <a:lnTo>
                  <a:pt x="99" y="187"/>
                </a:lnTo>
                <a:lnTo>
                  <a:pt x="94" y="194"/>
                </a:lnTo>
                <a:lnTo>
                  <a:pt x="80" y="218"/>
                </a:lnTo>
                <a:lnTo>
                  <a:pt x="70" y="236"/>
                </a:lnTo>
                <a:lnTo>
                  <a:pt x="70" y="236"/>
                </a:lnTo>
                <a:lnTo>
                  <a:pt x="70" y="239"/>
                </a:lnTo>
                <a:lnTo>
                  <a:pt x="71" y="254"/>
                </a:lnTo>
                <a:lnTo>
                  <a:pt x="80" y="306"/>
                </a:lnTo>
                <a:lnTo>
                  <a:pt x="86" y="345"/>
                </a:lnTo>
                <a:lnTo>
                  <a:pt x="87" y="347"/>
                </a:lnTo>
                <a:lnTo>
                  <a:pt x="84" y="354"/>
                </a:lnTo>
                <a:lnTo>
                  <a:pt x="72" y="400"/>
                </a:lnTo>
                <a:lnTo>
                  <a:pt x="32" y="557"/>
                </a:lnTo>
                <a:lnTo>
                  <a:pt x="1" y="676"/>
                </a:lnTo>
                <a:lnTo>
                  <a:pt x="0" y="681"/>
                </a:lnTo>
                <a:lnTo>
                  <a:pt x="0" y="686"/>
                </a:lnTo>
                <a:lnTo>
                  <a:pt x="10" y="715"/>
                </a:lnTo>
                <a:lnTo>
                  <a:pt x="45" y="810"/>
                </a:lnTo>
                <a:lnTo>
                  <a:pt x="71" y="884"/>
                </a:lnTo>
                <a:lnTo>
                  <a:pt x="72" y="887"/>
                </a:lnTo>
                <a:lnTo>
                  <a:pt x="71" y="890"/>
                </a:lnTo>
                <a:lnTo>
                  <a:pt x="70" y="910"/>
                </a:lnTo>
                <a:lnTo>
                  <a:pt x="62" y="978"/>
                </a:lnTo>
                <a:lnTo>
                  <a:pt x="58" y="1031"/>
                </a:lnTo>
                <a:lnTo>
                  <a:pt x="58" y="1032"/>
                </a:lnTo>
                <a:lnTo>
                  <a:pt x="67" y="1035"/>
                </a:lnTo>
                <a:lnTo>
                  <a:pt x="93" y="1042"/>
                </a:lnTo>
                <a:lnTo>
                  <a:pt x="113" y="1046"/>
                </a:lnTo>
                <a:lnTo>
                  <a:pt x="114" y="1046"/>
                </a:lnTo>
                <a:lnTo>
                  <a:pt x="114" y="1054"/>
                </a:lnTo>
                <a:lnTo>
                  <a:pt x="113" y="1074"/>
                </a:lnTo>
                <a:lnTo>
                  <a:pt x="113" y="1090"/>
                </a:lnTo>
                <a:lnTo>
                  <a:pt x="114" y="1090"/>
                </a:lnTo>
                <a:lnTo>
                  <a:pt x="112" y="1091"/>
                </a:lnTo>
                <a:lnTo>
                  <a:pt x="100" y="1097"/>
                </a:lnTo>
                <a:lnTo>
                  <a:pt x="58" y="1119"/>
                </a:lnTo>
                <a:lnTo>
                  <a:pt x="28" y="1135"/>
                </a:lnTo>
                <a:lnTo>
                  <a:pt x="26" y="1135"/>
                </a:lnTo>
                <a:lnTo>
                  <a:pt x="26" y="1146"/>
                </a:lnTo>
                <a:lnTo>
                  <a:pt x="35" y="1220"/>
                </a:lnTo>
                <a:lnTo>
                  <a:pt x="64" y="1472"/>
                </a:lnTo>
                <a:lnTo>
                  <a:pt x="86" y="1664"/>
                </a:lnTo>
                <a:lnTo>
                  <a:pt x="87" y="1674"/>
                </a:lnTo>
                <a:lnTo>
                  <a:pt x="87" y="1675"/>
                </a:lnTo>
                <a:lnTo>
                  <a:pt x="88" y="1681"/>
                </a:lnTo>
                <a:lnTo>
                  <a:pt x="94" y="1701"/>
                </a:lnTo>
                <a:lnTo>
                  <a:pt x="99" y="1717"/>
                </a:lnTo>
                <a:lnTo>
                  <a:pt x="100" y="1717"/>
                </a:lnTo>
                <a:lnTo>
                  <a:pt x="97" y="1727"/>
                </a:lnTo>
                <a:lnTo>
                  <a:pt x="93" y="1755"/>
                </a:lnTo>
                <a:lnTo>
                  <a:pt x="90" y="1777"/>
                </a:lnTo>
                <a:lnTo>
                  <a:pt x="90" y="1777"/>
                </a:lnTo>
                <a:lnTo>
                  <a:pt x="88" y="1778"/>
                </a:lnTo>
                <a:lnTo>
                  <a:pt x="86" y="1784"/>
                </a:lnTo>
                <a:lnTo>
                  <a:pt x="75" y="1801"/>
                </a:lnTo>
                <a:lnTo>
                  <a:pt x="68" y="1816"/>
                </a:lnTo>
                <a:lnTo>
                  <a:pt x="68" y="1816"/>
                </a:lnTo>
                <a:lnTo>
                  <a:pt x="68" y="1817"/>
                </a:lnTo>
                <a:lnTo>
                  <a:pt x="68" y="1825"/>
                </a:lnTo>
                <a:lnTo>
                  <a:pt x="70" y="1849"/>
                </a:lnTo>
                <a:lnTo>
                  <a:pt x="70" y="1868"/>
                </a:lnTo>
                <a:lnTo>
                  <a:pt x="71" y="1868"/>
                </a:lnTo>
                <a:lnTo>
                  <a:pt x="70" y="1869"/>
                </a:lnTo>
                <a:lnTo>
                  <a:pt x="65" y="1874"/>
                </a:lnTo>
                <a:lnTo>
                  <a:pt x="51" y="1890"/>
                </a:lnTo>
                <a:lnTo>
                  <a:pt x="41" y="1901"/>
                </a:lnTo>
                <a:lnTo>
                  <a:pt x="41" y="1901"/>
                </a:lnTo>
                <a:lnTo>
                  <a:pt x="41" y="1903"/>
                </a:lnTo>
                <a:lnTo>
                  <a:pt x="41" y="1906"/>
                </a:lnTo>
                <a:lnTo>
                  <a:pt x="41" y="1914"/>
                </a:lnTo>
                <a:lnTo>
                  <a:pt x="41" y="1920"/>
                </a:lnTo>
                <a:lnTo>
                  <a:pt x="42" y="1920"/>
                </a:lnTo>
                <a:lnTo>
                  <a:pt x="48" y="1926"/>
                </a:lnTo>
                <a:lnTo>
                  <a:pt x="70" y="1940"/>
                </a:lnTo>
                <a:lnTo>
                  <a:pt x="86" y="1951"/>
                </a:lnTo>
                <a:lnTo>
                  <a:pt x="87" y="1951"/>
                </a:lnTo>
                <a:lnTo>
                  <a:pt x="87" y="1962"/>
                </a:lnTo>
                <a:lnTo>
                  <a:pt x="86" y="1997"/>
                </a:lnTo>
                <a:lnTo>
                  <a:pt x="86" y="2023"/>
                </a:lnTo>
                <a:lnTo>
                  <a:pt x="87" y="2023"/>
                </a:lnTo>
                <a:lnTo>
                  <a:pt x="86" y="2026"/>
                </a:lnTo>
                <a:lnTo>
                  <a:pt x="80" y="2035"/>
                </a:lnTo>
                <a:lnTo>
                  <a:pt x="58" y="2069"/>
                </a:lnTo>
                <a:lnTo>
                  <a:pt x="41" y="2096"/>
                </a:lnTo>
                <a:lnTo>
                  <a:pt x="41" y="2097"/>
                </a:lnTo>
                <a:lnTo>
                  <a:pt x="41" y="2100"/>
                </a:lnTo>
                <a:lnTo>
                  <a:pt x="42" y="2111"/>
                </a:lnTo>
                <a:lnTo>
                  <a:pt x="49" y="2151"/>
                </a:lnTo>
                <a:lnTo>
                  <a:pt x="54" y="2181"/>
                </a:lnTo>
                <a:lnTo>
                  <a:pt x="55" y="2182"/>
                </a:lnTo>
                <a:lnTo>
                  <a:pt x="67" y="2187"/>
                </a:lnTo>
                <a:lnTo>
                  <a:pt x="106" y="2200"/>
                </a:lnTo>
                <a:lnTo>
                  <a:pt x="135" y="2209"/>
                </a:lnTo>
                <a:lnTo>
                  <a:pt x="138" y="2209"/>
                </a:lnTo>
                <a:lnTo>
                  <a:pt x="138" y="2210"/>
                </a:lnTo>
                <a:lnTo>
                  <a:pt x="138" y="2213"/>
                </a:lnTo>
                <a:lnTo>
                  <a:pt x="142" y="2226"/>
                </a:lnTo>
                <a:lnTo>
                  <a:pt x="143" y="2235"/>
                </a:lnTo>
                <a:lnTo>
                  <a:pt x="145" y="2235"/>
                </a:lnTo>
                <a:lnTo>
                  <a:pt x="154" y="2239"/>
                </a:lnTo>
                <a:lnTo>
                  <a:pt x="181" y="2248"/>
                </a:lnTo>
                <a:lnTo>
                  <a:pt x="203" y="2255"/>
                </a:lnTo>
                <a:lnTo>
                  <a:pt x="204" y="2255"/>
                </a:lnTo>
                <a:lnTo>
                  <a:pt x="206" y="2253"/>
                </a:lnTo>
                <a:lnTo>
                  <a:pt x="213" y="2246"/>
                </a:lnTo>
                <a:lnTo>
                  <a:pt x="217" y="2240"/>
                </a:lnTo>
                <a:lnTo>
                  <a:pt x="219" y="2239"/>
                </a:lnTo>
                <a:lnTo>
                  <a:pt x="226" y="2240"/>
                </a:lnTo>
                <a:lnTo>
                  <a:pt x="248" y="2242"/>
                </a:lnTo>
                <a:lnTo>
                  <a:pt x="265" y="2242"/>
                </a:lnTo>
                <a:lnTo>
                  <a:pt x="267" y="2242"/>
                </a:lnTo>
                <a:lnTo>
                  <a:pt x="268" y="2238"/>
                </a:lnTo>
                <a:lnTo>
                  <a:pt x="272" y="2225"/>
                </a:lnTo>
                <a:lnTo>
                  <a:pt x="277" y="2214"/>
                </a:lnTo>
                <a:lnTo>
                  <a:pt x="278" y="2213"/>
                </a:lnTo>
                <a:lnTo>
                  <a:pt x="274" y="2207"/>
                </a:lnTo>
                <a:lnTo>
                  <a:pt x="265" y="2190"/>
                </a:lnTo>
                <a:lnTo>
                  <a:pt x="259" y="2175"/>
                </a:lnTo>
                <a:lnTo>
                  <a:pt x="259" y="2174"/>
                </a:lnTo>
                <a:lnTo>
                  <a:pt x="259" y="2168"/>
                </a:lnTo>
                <a:lnTo>
                  <a:pt x="258" y="2148"/>
                </a:lnTo>
                <a:lnTo>
                  <a:pt x="258" y="2133"/>
                </a:lnTo>
                <a:lnTo>
                  <a:pt x="259" y="2132"/>
                </a:lnTo>
                <a:lnTo>
                  <a:pt x="262" y="2129"/>
                </a:lnTo>
                <a:lnTo>
                  <a:pt x="281" y="2107"/>
                </a:lnTo>
                <a:lnTo>
                  <a:pt x="351" y="2029"/>
                </a:lnTo>
                <a:lnTo>
                  <a:pt x="403" y="1969"/>
                </a:lnTo>
                <a:lnTo>
                  <a:pt x="407" y="1965"/>
                </a:lnTo>
                <a:lnTo>
                  <a:pt x="401" y="1952"/>
                </a:lnTo>
                <a:lnTo>
                  <a:pt x="387" y="1912"/>
                </a:lnTo>
                <a:lnTo>
                  <a:pt x="377" y="1881"/>
                </a:lnTo>
                <a:lnTo>
                  <a:pt x="377" y="1878"/>
                </a:lnTo>
                <a:lnTo>
                  <a:pt x="375" y="1878"/>
                </a:lnTo>
                <a:lnTo>
                  <a:pt x="367" y="1877"/>
                </a:lnTo>
                <a:lnTo>
                  <a:pt x="341" y="1869"/>
                </a:lnTo>
                <a:lnTo>
                  <a:pt x="320" y="1865"/>
                </a:lnTo>
                <a:lnTo>
                  <a:pt x="320" y="1864"/>
                </a:lnTo>
                <a:lnTo>
                  <a:pt x="320" y="1851"/>
                </a:lnTo>
                <a:lnTo>
                  <a:pt x="319" y="1810"/>
                </a:lnTo>
                <a:lnTo>
                  <a:pt x="319" y="1780"/>
                </a:lnTo>
                <a:lnTo>
                  <a:pt x="320" y="1777"/>
                </a:lnTo>
                <a:lnTo>
                  <a:pt x="332" y="1771"/>
                </a:lnTo>
                <a:lnTo>
                  <a:pt x="371" y="1749"/>
                </a:lnTo>
                <a:lnTo>
                  <a:pt x="400" y="1733"/>
                </a:lnTo>
                <a:lnTo>
                  <a:pt x="403" y="1732"/>
                </a:lnTo>
                <a:lnTo>
                  <a:pt x="403" y="1730"/>
                </a:lnTo>
                <a:lnTo>
                  <a:pt x="404" y="1710"/>
                </a:lnTo>
                <a:lnTo>
                  <a:pt x="413" y="1641"/>
                </a:lnTo>
                <a:lnTo>
                  <a:pt x="419" y="1588"/>
                </a:lnTo>
                <a:lnTo>
                  <a:pt x="420" y="1585"/>
                </a:lnTo>
                <a:lnTo>
                  <a:pt x="433" y="1580"/>
                </a:lnTo>
                <a:lnTo>
                  <a:pt x="475" y="1561"/>
                </a:lnTo>
                <a:lnTo>
                  <a:pt x="506" y="1546"/>
                </a:lnTo>
                <a:lnTo>
                  <a:pt x="509" y="1545"/>
                </a:lnTo>
                <a:lnTo>
                  <a:pt x="506" y="1541"/>
                </a:lnTo>
                <a:lnTo>
                  <a:pt x="498" y="1526"/>
                </a:lnTo>
                <a:lnTo>
                  <a:pt x="494" y="1514"/>
                </a:lnTo>
                <a:lnTo>
                  <a:pt x="494" y="1513"/>
                </a:lnTo>
                <a:lnTo>
                  <a:pt x="493" y="1513"/>
                </a:lnTo>
                <a:lnTo>
                  <a:pt x="487" y="1513"/>
                </a:lnTo>
                <a:lnTo>
                  <a:pt x="469" y="1513"/>
                </a:lnTo>
                <a:lnTo>
                  <a:pt x="455" y="1513"/>
                </a:lnTo>
                <a:lnTo>
                  <a:pt x="455" y="1512"/>
                </a:lnTo>
                <a:lnTo>
                  <a:pt x="458" y="1504"/>
                </a:lnTo>
                <a:lnTo>
                  <a:pt x="467" y="1484"/>
                </a:lnTo>
                <a:lnTo>
                  <a:pt x="474" y="1467"/>
                </a:lnTo>
                <a:lnTo>
                  <a:pt x="475" y="1465"/>
                </a:lnTo>
                <a:lnTo>
                  <a:pt x="491" y="1458"/>
                </a:lnTo>
                <a:lnTo>
                  <a:pt x="540" y="1432"/>
                </a:lnTo>
                <a:lnTo>
                  <a:pt x="578" y="1412"/>
                </a:lnTo>
                <a:lnTo>
                  <a:pt x="581" y="1410"/>
                </a:lnTo>
                <a:lnTo>
                  <a:pt x="581" y="1409"/>
                </a:lnTo>
                <a:lnTo>
                  <a:pt x="582" y="1397"/>
                </a:lnTo>
                <a:lnTo>
                  <a:pt x="590" y="1357"/>
                </a:lnTo>
                <a:lnTo>
                  <a:pt x="594" y="1326"/>
                </a:lnTo>
                <a:lnTo>
                  <a:pt x="596" y="1323"/>
                </a:lnTo>
                <a:lnTo>
                  <a:pt x="593" y="1319"/>
                </a:lnTo>
                <a:lnTo>
                  <a:pt x="585" y="1306"/>
                </a:lnTo>
                <a:lnTo>
                  <a:pt x="581" y="1296"/>
                </a:lnTo>
                <a:lnTo>
                  <a:pt x="581" y="1294"/>
                </a:lnTo>
                <a:lnTo>
                  <a:pt x="584" y="1294"/>
                </a:lnTo>
                <a:lnTo>
                  <a:pt x="613" y="1287"/>
                </a:lnTo>
                <a:lnTo>
                  <a:pt x="710" y="1261"/>
                </a:lnTo>
                <a:lnTo>
                  <a:pt x="784" y="1242"/>
                </a:lnTo>
                <a:lnTo>
                  <a:pt x="788" y="1241"/>
                </a:lnTo>
                <a:lnTo>
                  <a:pt x="790" y="1239"/>
                </a:lnTo>
                <a:lnTo>
                  <a:pt x="803" y="1229"/>
                </a:lnTo>
                <a:lnTo>
                  <a:pt x="848" y="1193"/>
                </a:lnTo>
                <a:lnTo>
                  <a:pt x="882" y="1167"/>
                </a:lnTo>
                <a:lnTo>
                  <a:pt x="885" y="1164"/>
                </a:lnTo>
                <a:lnTo>
                  <a:pt x="885" y="1142"/>
                </a:lnTo>
                <a:lnTo>
                  <a:pt x="884" y="1073"/>
                </a:lnTo>
                <a:lnTo>
                  <a:pt x="884" y="1020"/>
                </a:lnTo>
                <a:lnTo>
                  <a:pt x="885" y="1017"/>
                </a:lnTo>
                <a:lnTo>
                  <a:pt x="871" y="997"/>
                </a:lnTo>
                <a:lnTo>
                  <a:pt x="830" y="936"/>
                </a:lnTo>
                <a:lnTo>
                  <a:pt x="800" y="890"/>
                </a:lnTo>
                <a:lnTo>
                  <a:pt x="798" y="887"/>
                </a:lnTo>
                <a:lnTo>
                  <a:pt x="797" y="884"/>
                </a:lnTo>
                <a:lnTo>
                  <a:pt x="795" y="861"/>
                </a:lnTo>
                <a:lnTo>
                  <a:pt x="788" y="778"/>
                </a:lnTo>
                <a:lnTo>
                  <a:pt x="784" y="716"/>
                </a:lnTo>
                <a:lnTo>
                  <a:pt x="784" y="712"/>
                </a:lnTo>
                <a:lnTo>
                  <a:pt x="785" y="709"/>
                </a:lnTo>
                <a:lnTo>
                  <a:pt x="797" y="687"/>
                </a:lnTo>
                <a:lnTo>
                  <a:pt x="837" y="612"/>
                </a:lnTo>
                <a:lnTo>
                  <a:pt x="868" y="554"/>
                </a:lnTo>
                <a:lnTo>
                  <a:pt x="871" y="549"/>
                </a:lnTo>
                <a:lnTo>
                  <a:pt x="875" y="547"/>
                </a:lnTo>
                <a:lnTo>
                  <a:pt x="908" y="523"/>
                </a:lnTo>
                <a:lnTo>
                  <a:pt x="1024" y="442"/>
                </a:lnTo>
                <a:lnTo>
                  <a:pt x="1113" y="380"/>
                </a:lnTo>
                <a:lnTo>
                  <a:pt x="1119" y="376"/>
                </a:lnTo>
                <a:lnTo>
                  <a:pt x="1116" y="358"/>
                </a:lnTo>
                <a:lnTo>
                  <a:pt x="1108" y="305"/>
                </a:lnTo>
                <a:lnTo>
                  <a:pt x="1103" y="263"/>
                </a:lnTo>
                <a:lnTo>
                  <a:pt x="1103" y="260"/>
                </a:lnTo>
                <a:lnTo>
                  <a:pt x="1101" y="260"/>
                </a:lnTo>
                <a:lnTo>
                  <a:pt x="1095" y="260"/>
                </a:lnTo>
                <a:lnTo>
                  <a:pt x="1075" y="260"/>
                </a:lnTo>
                <a:lnTo>
                  <a:pt x="1059" y="260"/>
                </a:lnTo>
                <a:lnTo>
                  <a:pt x="1059" y="260"/>
                </a:lnTo>
                <a:lnTo>
                  <a:pt x="1058" y="263"/>
                </a:lnTo>
                <a:lnTo>
                  <a:pt x="1052" y="271"/>
                </a:lnTo>
                <a:lnTo>
                  <a:pt x="1030" y="306"/>
                </a:lnTo>
                <a:lnTo>
                  <a:pt x="1014" y="332"/>
                </a:lnTo>
                <a:lnTo>
                  <a:pt x="1014" y="334"/>
                </a:lnTo>
                <a:lnTo>
                  <a:pt x="1011" y="336"/>
                </a:lnTo>
                <a:lnTo>
                  <a:pt x="995" y="348"/>
                </a:lnTo>
                <a:lnTo>
                  <a:pt x="942" y="387"/>
                </a:lnTo>
                <a:lnTo>
                  <a:pt x="900" y="418"/>
                </a:lnTo>
                <a:lnTo>
                  <a:pt x="898" y="419"/>
                </a:lnTo>
                <a:lnTo>
                  <a:pt x="895" y="419"/>
                </a:lnTo>
                <a:lnTo>
                  <a:pt x="877" y="419"/>
                </a:lnTo>
                <a:lnTo>
                  <a:pt x="816" y="419"/>
                </a:lnTo>
                <a:lnTo>
                  <a:pt x="769" y="419"/>
                </a:lnTo>
                <a:lnTo>
                  <a:pt x="768" y="419"/>
                </a:lnTo>
                <a:lnTo>
                  <a:pt x="764" y="413"/>
                </a:lnTo>
                <a:lnTo>
                  <a:pt x="751" y="393"/>
                </a:lnTo>
                <a:lnTo>
                  <a:pt x="740" y="377"/>
                </a:lnTo>
                <a:lnTo>
                  <a:pt x="740" y="376"/>
                </a:lnTo>
                <a:lnTo>
                  <a:pt x="742" y="374"/>
                </a:lnTo>
                <a:lnTo>
                  <a:pt x="753" y="358"/>
                </a:lnTo>
                <a:lnTo>
                  <a:pt x="793" y="305"/>
                </a:lnTo>
                <a:lnTo>
                  <a:pt x="823" y="263"/>
                </a:lnTo>
                <a:lnTo>
                  <a:pt x="826" y="260"/>
                </a:lnTo>
                <a:lnTo>
                  <a:pt x="823" y="258"/>
                </a:lnTo>
                <a:lnTo>
                  <a:pt x="807" y="250"/>
                </a:lnTo>
                <a:lnTo>
                  <a:pt x="753" y="215"/>
                </a:lnTo>
                <a:lnTo>
                  <a:pt x="711" y="189"/>
                </a:lnTo>
                <a:lnTo>
                  <a:pt x="710" y="186"/>
                </a:lnTo>
                <a:lnTo>
                  <a:pt x="709" y="186"/>
                </a:lnTo>
                <a:lnTo>
                  <a:pt x="700" y="186"/>
                </a:lnTo>
                <a:lnTo>
                  <a:pt x="674" y="186"/>
                </a:lnTo>
                <a:lnTo>
                  <a:pt x="653" y="186"/>
                </a:lnTo>
                <a:lnTo>
                  <a:pt x="653" y="186"/>
                </a:lnTo>
                <a:lnTo>
                  <a:pt x="648" y="177"/>
                </a:lnTo>
                <a:lnTo>
                  <a:pt x="635" y="151"/>
                </a:lnTo>
                <a:lnTo>
                  <a:pt x="624" y="129"/>
                </a:lnTo>
                <a:lnTo>
                  <a:pt x="624" y="128"/>
                </a:lnTo>
                <a:lnTo>
                  <a:pt x="622" y="128"/>
                </a:lnTo>
                <a:lnTo>
                  <a:pt x="610" y="128"/>
                </a:lnTo>
                <a:lnTo>
                  <a:pt x="568" y="128"/>
                </a:lnTo>
                <a:lnTo>
                  <a:pt x="538" y="128"/>
                </a:lnTo>
                <a:lnTo>
                  <a:pt x="536" y="128"/>
                </a:lnTo>
                <a:lnTo>
                  <a:pt x="535" y="126"/>
                </a:lnTo>
                <a:lnTo>
                  <a:pt x="525" y="110"/>
                </a:lnTo>
                <a:lnTo>
                  <a:pt x="490" y="58"/>
                </a:lnTo>
                <a:lnTo>
                  <a:pt x="464" y="18"/>
                </a:lnTo>
                <a:lnTo>
                  <a:pt x="464" y="15"/>
                </a:lnTo>
                <a:lnTo>
                  <a:pt x="462" y="15"/>
                </a:lnTo>
                <a:lnTo>
                  <a:pt x="452" y="15"/>
                </a:lnTo>
                <a:lnTo>
                  <a:pt x="417" y="15"/>
                </a:lnTo>
                <a:lnTo>
                  <a:pt x="391" y="15"/>
                </a:lnTo>
                <a:lnTo>
                  <a:pt x="391" y="15"/>
                </a:lnTo>
                <a:lnTo>
                  <a:pt x="390" y="16"/>
                </a:lnTo>
                <a:lnTo>
                  <a:pt x="385" y="23"/>
                </a:lnTo>
                <a:lnTo>
                  <a:pt x="372" y="50"/>
                </a:lnTo>
                <a:lnTo>
                  <a:pt x="362" y="70"/>
                </a:lnTo>
                <a:lnTo>
                  <a:pt x="362" y="70"/>
                </a:lnTo>
                <a:lnTo>
                  <a:pt x="361" y="70"/>
                </a:lnTo>
                <a:lnTo>
                  <a:pt x="359" y="70"/>
                </a:lnTo>
                <a:lnTo>
                  <a:pt x="352" y="70"/>
                </a:lnTo>
                <a:lnTo>
                  <a:pt x="348" y="70"/>
                </a:lnTo>
                <a:lnTo>
                  <a:pt x="348" y="70"/>
                </a:lnTo>
                <a:lnTo>
                  <a:pt x="336" y="60"/>
                </a:lnTo>
                <a:lnTo>
                  <a:pt x="301" y="28"/>
                </a:lnTo>
                <a:lnTo>
                  <a:pt x="275" y="2"/>
                </a:lnTo>
                <a:lnTo>
                  <a:pt x="274" y="0"/>
                </a:lnTo>
                <a:lnTo>
                  <a:pt x="272" y="0"/>
                </a:lnTo>
                <a:lnTo>
                  <a:pt x="264" y="0"/>
                </a:lnTo>
                <a:lnTo>
                  <a:pt x="238" y="0"/>
                </a:lnTo>
                <a:lnTo>
                  <a:pt x="216" y="0"/>
                </a:lnTo>
                <a:lnTo>
                  <a:pt x="216" y="0"/>
                </a:lnTo>
                <a:lnTo>
                  <a:pt x="214" y="3"/>
                </a:lnTo>
                <a:lnTo>
                  <a:pt x="209" y="15"/>
                </a:lnTo>
                <a:lnTo>
                  <a:pt x="188" y="54"/>
                </a:lnTo>
                <a:lnTo>
                  <a:pt x="174" y="84"/>
                </a:lnTo>
                <a:lnTo>
                  <a:pt x="174" y="86"/>
                </a:lnTo>
                <a:lnTo>
                  <a:pt x="172" y="87"/>
                </a:lnTo>
                <a:lnTo>
                  <a:pt x="168" y="89"/>
                </a:lnTo>
                <a:lnTo>
                  <a:pt x="154" y="96"/>
                </a:lnTo>
                <a:lnTo>
                  <a:pt x="143" y="102"/>
                </a:lnTo>
                <a:lnTo>
                  <a:pt x="143" y="102"/>
                </a:lnTo>
                <a:lnTo>
                  <a:pt x="142" y="102"/>
                </a:lnTo>
                <a:lnTo>
                  <a:pt x="143" y="102"/>
                </a:lnTo>
                <a:lnTo>
                  <a:pt x="142" y="102"/>
                </a:lnTo>
                <a:lnTo>
                  <a:pt x="143" y="102"/>
                </a:lnTo>
                <a:lnTo>
                  <a:pt x="143" y="103"/>
                </a:lnTo>
                <a:lnTo>
                  <a:pt x="145" y="113"/>
                </a:lnTo>
                <a:lnTo>
                  <a:pt x="152" y="145"/>
                </a:lnTo>
                <a:lnTo>
                  <a:pt x="158" y="170"/>
                </a:lnTo>
                <a:lnTo>
                  <a:pt x="159" y="170"/>
                </a:lnTo>
                <a:lnTo>
                  <a:pt x="159" y="17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726320" y="4638600"/>
            <a:ext cx="130320" cy="125640"/>
          </a:xfrm>
          <a:custGeom>
            <a:avLst/>
            <a:gdLst/>
            <a:ahLst/>
            <a:rect l="l" t="t" r="r" b="b"/>
            <a:pathLst>
              <a:path w="381" h="383">
                <a:moveTo>
                  <a:pt x="145" y="29"/>
                </a:moveTo>
                <a:lnTo>
                  <a:pt x="145" y="31"/>
                </a:lnTo>
                <a:lnTo>
                  <a:pt x="146" y="40"/>
                </a:lnTo>
                <a:lnTo>
                  <a:pt x="153" y="66"/>
                </a:lnTo>
                <a:lnTo>
                  <a:pt x="159" y="87"/>
                </a:lnTo>
                <a:lnTo>
                  <a:pt x="161" y="87"/>
                </a:lnTo>
                <a:lnTo>
                  <a:pt x="169" y="87"/>
                </a:lnTo>
                <a:lnTo>
                  <a:pt x="195" y="87"/>
                </a:lnTo>
                <a:lnTo>
                  <a:pt x="216" y="87"/>
                </a:lnTo>
                <a:lnTo>
                  <a:pt x="217" y="87"/>
                </a:lnTo>
                <a:lnTo>
                  <a:pt x="219" y="89"/>
                </a:lnTo>
                <a:lnTo>
                  <a:pt x="230" y="98"/>
                </a:lnTo>
                <a:lnTo>
                  <a:pt x="269" y="127"/>
                </a:lnTo>
                <a:lnTo>
                  <a:pt x="300" y="148"/>
                </a:lnTo>
                <a:lnTo>
                  <a:pt x="303" y="148"/>
                </a:lnTo>
                <a:lnTo>
                  <a:pt x="303" y="155"/>
                </a:lnTo>
                <a:lnTo>
                  <a:pt x="301" y="176"/>
                </a:lnTo>
                <a:lnTo>
                  <a:pt x="301" y="190"/>
                </a:lnTo>
                <a:lnTo>
                  <a:pt x="303" y="190"/>
                </a:lnTo>
                <a:lnTo>
                  <a:pt x="304" y="192"/>
                </a:lnTo>
                <a:lnTo>
                  <a:pt x="314" y="202"/>
                </a:lnTo>
                <a:lnTo>
                  <a:pt x="350" y="234"/>
                </a:lnTo>
                <a:lnTo>
                  <a:pt x="378" y="260"/>
                </a:lnTo>
                <a:lnTo>
                  <a:pt x="381" y="260"/>
                </a:lnTo>
                <a:lnTo>
                  <a:pt x="378" y="263"/>
                </a:lnTo>
                <a:lnTo>
                  <a:pt x="366" y="280"/>
                </a:lnTo>
                <a:lnTo>
                  <a:pt x="323" y="338"/>
                </a:lnTo>
                <a:lnTo>
                  <a:pt x="290" y="382"/>
                </a:lnTo>
                <a:lnTo>
                  <a:pt x="288" y="383"/>
                </a:lnTo>
                <a:lnTo>
                  <a:pt x="284" y="383"/>
                </a:lnTo>
                <a:lnTo>
                  <a:pt x="261" y="383"/>
                </a:lnTo>
                <a:lnTo>
                  <a:pt x="180" y="382"/>
                </a:lnTo>
                <a:lnTo>
                  <a:pt x="117" y="382"/>
                </a:lnTo>
                <a:lnTo>
                  <a:pt x="114" y="380"/>
                </a:lnTo>
                <a:lnTo>
                  <a:pt x="98" y="374"/>
                </a:lnTo>
                <a:lnTo>
                  <a:pt x="51" y="354"/>
                </a:lnTo>
                <a:lnTo>
                  <a:pt x="16" y="340"/>
                </a:lnTo>
                <a:lnTo>
                  <a:pt x="14" y="338"/>
                </a:lnTo>
                <a:lnTo>
                  <a:pt x="13" y="335"/>
                </a:lnTo>
                <a:lnTo>
                  <a:pt x="11" y="312"/>
                </a:lnTo>
                <a:lnTo>
                  <a:pt x="4" y="229"/>
                </a:lnTo>
                <a:lnTo>
                  <a:pt x="0" y="167"/>
                </a:lnTo>
                <a:lnTo>
                  <a:pt x="0" y="163"/>
                </a:lnTo>
                <a:lnTo>
                  <a:pt x="1" y="160"/>
                </a:lnTo>
                <a:lnTo>
                  <a:pt x="13" y="138"/>
                </a:lnTo>
                <a:lnTo>
                  <a:pt x="53" y="63"/>
                </a:lnTo>
                <a:lnTo>
                  <a:pt x="84" y="5"/>
                </a:lnTo>
                <a:lnTo>
                  <a:pt x="87" y="0"/>
                </a:lnTo>
                <a:lnTo>
                  <a:pt x="85" y="0"/>
                </a:lnTo>
                <a:lnTo>
                  <a:pt x="87" y="0"/>
                </a:lnTo>
                <a:lnTo>
                  <a:pt x="85" y="0"/>
                </a:lnTo>
                <a:lnTo>
                  <a:pt x="87" y="0"/>
                </a:lnTo>
                <a:lnTo>
                  <a:pt x="95" y="6"/>
                </a:lnTo>
                <a:lnTo>
                  <a:pt x="122" y="19"/>
                </a:lnTo>
                <a:lnTo>
                  <a:pt x="143" y="29"/>
                </a:lnTo>
                <a:lnTo>
                  <a:pt x="145" y="29"/>
                </a:lnTo>
                <a:lnTo>
                  <a:pt x="145" y="29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413480" y="4173480"/>
            <a:ext cx="330480" cy="319320"/>
          </a:xfrm>
          <a:custGeom>
            <a:avLst/>
            <a:gdLst/>
            <a:ahLst/>
            <a:rect l="l" t="t" r="r" b="b"/>
            <a:pathLst>
              <a:path w="956" h="973">
                <a:moveTo>
                  <a:pt x="87" y="566"/>
                </a:moveTo>
                <a:lnTo>
                  <a:pt x="88" y="573"/>
                </a:lnTo>
                <a:lnTo>
                  <a:pt x="106" y="623"/>
                </a:lnTo>
                <a:lnTo>
                  <a:pt x="162" y="792"/>
                </a:lnTo>
                <a:lnTo>
                  <a:pt x="206" y="921"/>
                </a:lnTo>
                <a:lnTo>
                  <a:pt x="208" y="927"/>
                </a:lnTo>
                <a:lnTo>
                  <a:pt x="216" y="934"/>
                </a:lnTo>
                <a:lnTo>
                  <a:pt x="242" y="956"/>
                </a:lnTo>
                <a:lnTo>
                  <a:pt x="262" y="973"/>
                </a:lnTo>
                <a:lnTo>
                  <a:pt x="263" y="973"/>
                </a:lnTo>
                <a:lnTo>
                  <a:pt x="268" y="970"/>
                </a:lnTo>
                <a:lnTo>
                  <a:pt x="284" y="962"/>
                </a:lnTo>
                <a:lnTo>
                  <a:pt x="297" y="956"/>
                </a:lnTo>
                <a:lnTo>
                  <a:pt x="298" y="954"/>
                </a:lnTo>
                <a:lnTo>
                  <a:pt x="304" y="941"/>
                </a:lnTo>
                <a:lnTo>
                  <a:pt x="321" y="902"/>
                </a:lnTo>
                <a:lnTo>
                  <a:pt x="336" y="872"/>
                </a:lnTo>
                <a:lnTo>
                  <a:pt x="337" y="869"/>
                </a:lnTo>
                <a:lnTo>
                  <a:pt x="346" y="869"/>
                </a:lnTo>
                <a:lnTo>
                  <a:pt x="374" y="869"/>
                </a:lnTo>
                <a:lnTo>
                  <a:pt x="395" y="869"/>
                </a:lnTo>
                <a:lnTo>
                  <a:pt x="397" y="869"/>
                </a:lnTo>
                <a:lnTo>
                  <a:pt x="407" y="881"/>
                </a:lnTo>
                <a:lnTo>
                  <a:pt x="437" y="915"/>
                </a:lnTo>
                <a:lnTo>
                  <a:pt x="462" y="941"/>
                </a:lnTo>
                <a:lnTo>
                  <a:pt x="463" y="941"/>
                </a:lnTo>
                <a:lnTo>
                  <a:pt x="466" y="941"/>
                </a:lnTo>
                <a:lnTo>
                  <a:pt x="476" y="941"/>
                </a:lnTo>
                <a:lnTo>
                  <a:pt x="485" y="941"/>
                </a:lnTo>
                <a:lnTo>
                  <a:pt x="487" y="941"/>
                </a:lnTo>
                <a:lnTo>
                  <a:pt x="489" y="934"/>
                </a:lnTo>
                <a:lnTo>
                  <a:pt x="501" y="908"/>
                </a:lnTo>
                <a:lnTo>
                  <a:pt x="510" y="888"/>
                </a:lnTo>
                <a:lnTo>
                  <a:pt x="511" y="886"/>
                </a:lnTo>
                <a:lnTo>
                  <a:pt x="513" y="886"/>
                </a:lnTo>
                <a:lnTo>
                  <a:pt x="521" y="886"/>
                </a:lnTo>
                <a:lnTo>
                  <a:pt x="556" y="886"/>
                </a:lnTo>
                <a:lnTo>
                  <a:pt x="582" y="886"/>
                </a:lnTo>
                <a:lnTo>
                  <a:pt x="585" y="886"/>
                </a:lnTo>
                <a:lnTo>
                  <a:pt x="585" y="885"/>
                </a:lnTo>
                <a:lnTo>
                  <a:pt x="589" y="869"/>
                </a:lnTo>
                <a:lnTo>
                  <a:pt x="605" y="812"/>
                </a:lnTo>
                <a:lnTo>
                  <a:pt x="617" y="770"/>
                </a:lnTo>
                <a:lnTo>
                  <a:pt x="618" y="768"/>
                </a:lnTo>
                <a:lnTo>
                  <a:pt x="634" y="759"/>
                </a:lnTo>
                <a:lnTo>
                  <a:pt x="682" y="731"/>
                </a:lnTo>
                <a:lnTo>
                  <a:pt x="718" y="710"/>
                </a:lnTo>
                <a:lnTo>
                  <a:pt x="721" y="708"/>
                </a:lnTo>
                <a:lnTo>
                  <a:pt x="724" y="708"/>
                </a:lnTo>
                <a:lnTo>
                  <a:pt x="746" y="704"/>
                </a:lnTo>
                <a:lnTo>
                  <a:pt x="821" y="691"/>
                </a:lnTo>
                <a:lnTo>
                  <a:pt x="879" y="681"/>
                </a:lnTo>
                <a:lnTo>
                  <a:pt x="884" y="679"/>
                </a:lnTo>
                <a:lnTo>
                  <a:pt x="884" y="686"/>
                </a:lnTo>
                <a:lnTo>
                  <a:pt x="882" y="707"/>
                </a:lnTo>
                <a:lnTo>
                  <a:pt x="882" y="723"/>
                </a:lnTo>
                <a:lnTo>
                  <a:pt x="884" y="723"/>
                </a:lnTo>
                <a:lnTo>
                  <a:pt x="889" y="725"/>
                </a:lnTo>
                <a:lnTo>
                  <a:pt x="910" y="733"/>
                </a:lnTo>
                <a:lnTo>
                  <a:pt x="926" y="737"/>
                </a:lnTo>
                <a:lnTo>
                  <a:pt x="927" y="737"/>
                </a:lnTo>
                <a:lnTo>
                  <a:pt x="927" y="731"/>
                </a:lnTo>
                <a:lnTo>
                  <a:pt x="926" y="711"/>
                </a:lnTo>
                <a:lnTo>
                  <a:pt x="926" y="695"/>
                </a:lnTo>
                <a:lnTo>
                  <a:pt x="927" y="694"/>
                </a:lnTo>
                <a:lnTo>
                  <a:pt x="931" y="688"/>
                </a:lnTo>
                <a:lnTo>
                  <a:pt x="944" y="666"/>
                </a:lnTo>
                <a:lnTo>
                  <a:pt x="955" y="650"/>
                </a:lnTo>
                <a:lnTo>
                  <a:pt x="956" y="649"/>
                </a:lnTo>
                <a:lnTo>
                  <a:pt x="955" y="646"/>
                </a:lnTo>
                <a:lnTo>
                  <a:pt x="944" y="624"/>
                </a:lnTo>
                <a:lnTo>
                  <a:pt x="910" y="549"/>
                </a:lnTo>
                <a:lnTo>
                  <a:pt x="884" y="491"/>
                </a:lnTo>
                <a:lnTo>
                  <a:pt x="884" y="486"/>
                </a:lnTo>
                <a:lnTo>
                  <a:pt x="881" y="486"/>
                </a:lnTo>
                <a:lnTo>
                  <a:pt x="865" y="485"/>
                </a:lnTo>
                <a:lnTo>
                  <a:pt x="810" y="478"/>
                </a:lnTo>
                <a:lnTo>
                  <a:pt x="768" y="473"/>
                </a:lnTo>
                <a:lnTo>
                  <a:pt x="766" y="472"/>
                </a:lnTo>
                <a:lnTo>
                  <a:pt x="760" y="462"/>
                </a:lnTo>
                <a:lnTo>
                  <a:pt x="746" y="427"/>
                </a:lnTo>
                <a:lnTo>
                  <a:pt x="736" y="401"/>
                </a:lnTo>
                <a:lnTo>
                  <a:pt x="736" y="398"/>
                </a:lnTo>
                <a:lnTo>
                  <a:pt x="730" y="397"/>
                </a:lnTo>
                <a:lnTo>
                  <a:pt x="717" y="389"/>
                </a:lnTo>
                <a:lnTo>
                  <a:pt x="707" y="384"/>
                </a:lnTo>
                <a:lnTo>
                  <a:pt x="707" y="382"/>
                </a:lnTo>
                <a:lnTo>
                  <a:pt x="707" y="379"/>
                </a:lnTo>
                <a:lnTo>
                  <a:pt x="705" y="366"/>
                </a:lnTo>
                <a:lnTo>
                  <a:pt x="705" y="356"/>
                </a:lnTo>
                <a:lnTo>
                  <a:pt x="707" y="355"/>
                </a:lnTo>
                <a:lnTo>
                  <a:pt x="711" y="350"/>
                </a:lnTo>
                <a:lnTo>
                  <a:pt x="724" y="336"/>
                </a:lnTo>
                <a:lnTo>
                  <a:pt x="734" y="326"/>
                </a:lnTo>
                <a:lnTo>
                  <a:pt x="736" y="324"/>
                </a:lnTo>
                <a:lnTo>
                  <a:pt x="731" y="323"/>
                </a:lnTo>
                <a:lnTo>
                  <a:pt x="701" y="304"/>
                </a:lnTo>
                <a:lnTo>
                  <a:pt x="598" y="243"/>
                </a:lnTo>
                <a:lnTo>
                  <a:pt x="518" y="195"/>
                </a:lnTo>
                <a:lnTo>
                  <a:pt x="516" y="192"/>
                </a:lnTo>
                <a:lnTo>
                  <a:pt x="513" y="192"/>
                </a:lnTo>
                <a:lnTo>
                  <a:pt x="498" y="192"/>
                </a:lnTo>
                <a:lnTo>
                  <a:pt x="450" y="192"/>
                </a:lnTo>
                <a:lnTo>
                  <a:pt x="413" y="192"/>
                </a:lnTo>
                <a:lnTo>
                  <a:pt x="411" y="192"/>
                </a:lnTo>
                <a:lnTo>
                  <a:pt x="408" y="191"/>
                </a:lnTo>
                <a:lnTo>
                  <a:pt x="400" y="182"/>
                </a:lnTo>
                <a:lnTo>
                  <a:pt x="365" y="147"/>
                </a:lnTo>
                <a:lnTo>
                  <a:pt x="339" y="121"/>
                </a:lnTo>
                <a:lnTo>
                  <a:pt x="337" y="118"/>
                </a:lnTo>
                <a:lnTo>
                  <a:pt x="343" y="114"/>
                </a:lnTo>
                <a:lnTo>
                  <a:pt x="365" y="101"/>
                </a:lnTo>
                <a:lnTo>
                  <a:pt x="381" y="91"/>
                </a:lnTo>
                <a:lnTo>
                  <a:pt x="382" y="89"/>
                </a:lnTo>
                <a:lnTo>
                  <a:pt x="382" y="76"/>
                </a:lnTo>
                <a:lnTo>
                  <a:pt x="381" y="34"/>
                </a:lnTo>
                <a:lnTo>
                  <a:pt x="381" y="2"/>
                </a:lnTo>
                <a:lnTo>
                  <a:pt x="382" y="0"/>
                </a:lnTo>
                <a:lnTo>
                  <a:pt x="381" y="0"/>
                </a:lnTo>
                <a:lnTo>
                  <a:pt x="375" y="0"/>
                </a:lnTo>
                <a:lnTo>
                  <a:pt x="353" y="0"/>
                </a:lnTo>
                <a:lnTo>
                  <a:pt x="337" y="0"/>
                </a:lnTo>
                <a:lnTo>
                  <a:pt x="337" y="0"/>
                </a:lnTo>
                <a:lnTo>
                  <a:pt x="333" y="1"/>
                </a:lnTo>
                <a:lnTo>
                  <a:pt x="308" y="10"/>
                </a:lnTo>
                <a:lnTo>
                  <a:pt x="226" y="37"/>
                </a:lnTo>
                <a:lnTo>
                  <a:pt x="164" y="59"/>
                </a:lnTo>
                <a:lnTo>
                  <a:pt x="161" y="59"/>
                </a:lnTo>
                <a:lnTo>
                  <a:pt x="158" y="57"/>
                </a:lnTo>
                <a:lnTo>
                  <a:pt x="150" y="50"/>
                </a:lnTo>
                <a:lnTo>
                  <a:pt x="146" y="46"/>
                </a:lnTo>
                <a:lnTo>
                  <a:pt x="146" y="44"/>
                </a:lnTo>
                <a:lnTo>
                  <a:pt x="136" y="47"/>
                </a:lnTo>
                <a:lnTo>
                  <a:pt x="108" y="55"/>
                </a:lnTo>
                <a:lnTo>
                  <a:pt x="87" y="59"/>
                </a:lnTo>
                <a:lnTo>
                  <a:pt x="87" y="59"/>
                </a:lnTo>
                <a:lnTo>
                  <a:pt x="84" y="69"/>
                </a:lnTo>
                <a:lnTo>
                  <a:pt x="77" y="97"/>
                </a:lnTo>
                <a:lnTo>
                  <a:pt x="72" y="118"/>
                </a:lnTo>
                <a:lnTo>
                  <a:pt x="72" y="118"/>
                </a:lnTo>
                <a:lnTo>
                  <a:pt x="71" y="118"/>
                </a:lnTo>
                <a:lnTo>
                  <a:pt x="61" y="118"/>
                </a:lnTo>
                <a:lnTo>
                  <a:pt x="26" y="117"/>
                </a:lnTo>
                <a:lnTo>
                  <a:pt x="0" y="115"/>
                </a:lnTo>
                <a:lnTo>
                  <a:pt x="0" y="114"/>
                </a:lnTo>
                <a:lnTo>
                  <a:pt x="1" y="118"/>
                </a:lnTo>
                <a:lnTo>
                  <a:pt x="16" y="140"/>
                </a:lnTo>
                <a:lnTo>
                  <a:pt x="64" y="218"/>
                </a:lnTo>
                <a:lnTo>
                  <a:pt x="100" y="276"/>
                </a:lnTo>
                <a:lnTo>
                  <a:pt x="103" y="279"/>
                </a:lnTo>
                <a:lnTo>
                  <a:pt x="101" y="282"/>
                </a:lnTo>
                <a:lnTo>
                  <a:pt x="95" y="301"/>
                </a:lnTo>
                <a:lnTo>
                  <a:pt x="75" y="363"/>
                </a:lnTo>
                <a:lnTo>
                  <a:pt x="59" y="411"/>
                </a:lnTo>
                <a:lnTo>
                  <a:pt x="59" y="413"/>
                </a:lnTo>
                <a:lnTo>
                  <a:pt x="59" y="415"/>
                </a:lnTo>
                <a:lnTo>
                  <a:pt x="61" y="426"/>
                </a:lnTo>
                <a:lnTo>
                  <a:pt x="66" y="465"/>
                </a:lnTo>
                <a:lnTo>
                  <a:pt x="71" y="494"/>
                </a:lnTo>
                <a:lnTo>
                  <a:pt x="72" y="495"/>
                </a:lnTo>
                <a:lnTo>
                  <a:pt x="71" y="497"/>
                </a:lnTo>
                <a:lnTo>
                  <a:pt x="64" y="507"/>
                </a:lnTo>
                <a:lnTo>
                  <a:pt x="40" y="539"/>
                </a:lnTo>
                <a:lnTo>
                  <a:pt x="22" y="563"/>
                </a:lnTo>
                <a:lnTo>
                  <a:pt x="22" y="563"/>
                </a:lnTo>
                <a:lnTo>
                  <a:pt x="20" y="563"/>
                </a:lnTo>
                <a:lnTo>
                  <a:pt x="22" y="563"/>
                </a:lnTo>
                <a:lnTo>
                  <a:pt x="20" y="563"/>
                </a:lnTo>
                <a:lnTo>
                  <a:pt x="22" y="563"/>
                </a:lnTo>
                <a:lnTo>
                  <a:pt x="32" y="565"/>
                </a:lnTo>
                <a:lnTo>
                  <a:pt x="62" y="566"/>
                </a:lnTo>
                <a:lnTo>
                  <a:pt x="85" y="566"/>
                </a:lnTo>
                <a:lnTo>
                  <a:pt x="87" y="566"/>
                </a:lnTo>
                <a:lnTo>
                  <a:pt x="87" y="566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615080" y="4395960"/>
            <a:ext cx="214560" cy="201600"/>
          </a:xfrm>
          <a:custGeom>
            <a:avLst/>
            <a:gdLst/>
            <a:ahLst/>
            <a:rect l="l" t="t" r="r" b="b"/>
            <a:pathLst>
              <a:path w="622" h="612">
                <a:moveTo>
                  <a:pt x="342" y="173"/>
                </a:moveTo>
                <a:lnTo>
                  <a:pt x="348" y="181"/>
                </a:lnTo>
                <a:lnTo>
                  <a:pt x="368" y="202"/>
                </a:lnTo>
                <a:lnTo>
                  <a:pt x="384" y="218"/>
                </a:lnTo>
                <a:lnTo>
                  <a:pt x="386" y="218"/>
                </a:lnTo>
                <a:lnTo>
                  <a:pt x="391" y="217"/>
                </a:lnTo>
                <a:lnTo>
                  <a:pt x="412" y="210"/>
                </a:lnTo>
                <a:lnTo>
                  <a:pt x="428" y="205"/>
                </a:lnTo>
                <a:lnTo>
                  <a:pt x="429" y="204"/>
                </a:lnTo>
                <a:lnTo>
                  <a:pt x="430" y="205"/>
                </a:lnTo>
                <a:lnTo>
                  <a:pt x="449" y="214"/>
                </a:lnTo>
                <a:lnTo>
                  <a:pt x="513" y="242"/>
                </a:lnTo>
                <a:lnTo>
                  <a:pt x="561" y="263"/>
                </a:lnTo>
                <a:lnTo>
                  <a:pt x="564" y="263"/>
                </a:lnTo>
                <a:lnTo>
                  <a:pt x="564" y="275"/>
                </a:lnTo>
                <a:lnTo>
                  <a:pt x="562" y="310"/>
                </a:lnTo>
                <a:lnTo>
                  <a:pt x="562" y="336"/>
                </a:lnTo>
                <a:lnTo>
                  <a:pt x="564" y="336"/>
                </a:lnTo>
                <a:lnTo>
                  <a:pt x="572" y="342"/>
                </a:lnTo>
                <a:lnTo>
                  <a:pt x="598" y="355"/>
                </a:lnTo>
                <a:lnTo>
                  <a:pt x="620" y="365"/>
                </a:lnTo>
                <a:lnTo>
                  <a:pt x="622" y="365"/>
                </a:lnTo>
                <a:lnTo>
                  <a:pt x="622" y="379"/>
                </a:lnTo>
                <a:lnTo>
                  <a:pt x="620" y="421"/>
                </a:lnTo>
                <a:lnTo>
                  <a:pt x="620" y="453"/>
                </a:lnTo>
                <a:lnTo>
                  <a:pt x="622" y="455"/>
                </a:lnTo>
                <a:lnTo>
                  <a:pt x="620" y="455"/>
                </a:lnTo>
                <a:lnTo>
                  <a:pt x="617" y="455"/>
                </a:lnTo>
                <a:lnTo>
                  <a:pt x="604" y="455"/>
                </a:lnTo>
                <a:lnTo>
                  <a:pt x="594" y="455"/>
                </a:lnTo>
                <a:lnTo>
                  <a:pt x="594" y="455"/>
                </a:lnTo>
                <a:lnTo>
                  <a:pt x="593" y="456"/>
                </a:lnTo>
                <a:lnTo>
                  <a:pt x="587" y="466"/>
                </a:lnTo>
                <a:lnTo>
                  <a:pt x="565" y="499"/>
                </a:lnTo>
                <a:lnTo>
                  <a:pt x="549" y="526"/>
                </a:lnTo>
                <a:lnTo>
                  <a:pt x="549" y="526"/>
                </a:lnTo>
                <a:lnTo>
                  <a:pt x="546" y="528"/>
                </a:lnTo>
                <a:lnTo>
                  <a:pt x="530" y="540"/>
                </a:lnTo>
                <a:lnTo>
                  <a:pt x="477" y="581"/>
                </a:lnTo>
                <a:lnTo>
                  <a:pt x="435" y="611"/>
                </a:lnTo>
                <a:lnTo>
                  <a:pt x="433" y="612"/>
                </a:lnTo>
                <a:lnTo>
                  <a:pt x="430" y="612"/>
                </a:lnTo>
                <a:lnTo>
                  <a:pt x="412" y="612"/>
                </a:lnTo>
                <a:lnTo>
                  <a:pt x="349" y="612"/>
                </a:lnTo>
                <a:lnTo>
                  <a:pt x="301" y="612"/>
                </a:lnTo>
                <a:lnTo>
                  <a:pt x="300" y="611"/>
                </a:lnTo>
                <a:lnTo>
                  <a:pt x="296" y="605"/>
                </a:lnTo>
                <a:lnTo>
                  <a:pt x="284" y="586"/>
                </a:lnTo>
                <a:lnTo>
                  <a:pt x="275" y="572"/>
                </a:lnTo>
                <a:lnTo>
                  <a:pt x="275" y="570"/>
                </a:lnTo>
                <a:lnTo>
                  <a:pt x="277" y="569"/>
                </a:lnTo>
                <a:lnTo>
                  <a:pt x="287" y="553"/>
                </a:lnTo>
                <a:lnTo>
                  <a:pt x="325" y="499"/>
                </a:lnTo>
                <a:lnTo>
                  <a:pt x="354" y="457"/>
                </a:lnTo>
                <a:lnTo>
                  <a:pt x="357" y="455"/>
                </a:lnTo>
                <a:lnTo>
                  <a:pt x="354" y="453"/>
                </a:lnTo>
                <a:lnTo>
                  <a:pt x="339" y="443"/>
                </a:lnTo>
                <a:lnTo>
                  <a:pt x="291" y="408"/>
                </a:lnTo>
                <a:lnTo>
                  <a:pt x="255" y="382"/>
                </a:lnTo>
                <a:lnTo>
                  <a:pt x="254" y="379"/>
                </a:lnTo>
                <a:lnTo>
                  <a:pt x="252" y="379"/>
                </a:lnTo>
                <a:lnTo>
                  <a:pt x="242" y="379"/>
                </a:lnTo>
                <a:lnTo>
                  <a:pt x="212" y="379"/>
                </a:lnTo>
                <a:lnTo>
                  <a:pt x="188" y="379"/>
                </a:lnTo>
                <a:lnTo>
                  <a:pt x="188" y="379"/>
                </a:lnTo>
                <a:lnTo>
                  <a:pt x="183" y="371"/>
                </a:lnTo>
                <a:lnTo>
                  <a:pt x="170" y="344"/>
                </a:lnTo>
                <a:lnTo>
                  <a:pt x="159" y="323"/>
                </a:lnTo>
                <a:lnTo>
                  <a:pt x="159" y="321"/>
                </a:lnTo>
                <a:lnTo>
                  <a:pt x="157" y="321"/>
                </a:lnTo>
                <a:lnTo>
                  <a:pt x="145" y="321"/>
                </a:lnTo>
                <a:lnTo>
                  <a:pt x="104" y="321"/>
                </a:lnTo>
                <a:lnTo>
                  <a:pt x="74" y="321"/>
                </a:lnTo>
                <a:lnTo>
                  <a:pt x="73" y="321"/>
                </a:lnTo>
                <a:lnTo>
                  <a:pt x="71" y="320"/>
                </a:lnTo>
                <a:lnTo>
                  <a:pt x="61" y="304"/>
                </a:lnTo>
                <a:lnTo>
                  <a:pt x="26" y="250"/>
                </a:lnTo>
                <a:lnTo>
                  <a:pt x="0" y="210"/>
                </a:lnTo>
                <a:lnTo>
                  <a:pt x="0" y="207"/>
                </a:lnTo>
                <a:lnTo>
                  <a:pt x="0" y="205"/>
                </a:lnTo>
                <a:lnTo>
                  <a:pt x="4" y="189"/>
                </a:lnTo>
                <a:lnTo>
                  <a:pt x="20" y="133"/>
                </a:lnTo>
                <a:lnTo>
                  <a:pt x="32" y="89"/>
                </a:lnTo>
                <a:lnTo>
                  <a:pt x="33" y="87"/>
                </a:lnTo>
                <a:lnTo>
                  <a:pt x="49" y="78"/>
                </a:lnTo>
                <a:lnTo>
                  <a:pt x="97" y="50"/>
                </a:lnTo>
                <a:lnTo>
                  <a:pt x="133" y="29"/>
                </a:lnTo>
                <a:lnTo>
                  <a:pt x="136" y="27"/>
                </a:lnTo>
                <a:lnTo>
                  <a:pt x="139" y="27"/>
                </a:lnTo>
                <a:lnTo>
                  <a:pt x="161" y="24"/>
                </a:lnTo>
                <a:lnTo>
                  <a:pt x="236" y="11"/>
                </a:lnTo>
                <a:lnTo>
                  <a:pt x="293" y="1"/>
                </a:lnTo>
                <a:lnTo>
                  <a:pt x="297" y="0"/>
                </a:lnTo>
                <a:lnTo>
                  <a:pt x="297" y="1"/>
                </a:lnTo>
                <a:lnTo>
                  <a:pt x="297" y="7"/>
                </a:lnTo>
                <a:lnTo>
                  <a:pt x="297" y="27"/>
                </a:lnTo>
                <a:lnTo>
                  <a:pt x="297" y="42"/>
                </a:lnTo>
                <a:lnTo>
                  <a:pt x="299" y="42"/>
                </a:lnTo>
                <a:lnTo>
                  <a:pt x="304" y="44"/>
                </a:lnTo>
                <a:lnTo>
                  <a:pt x="325" y="52"/>
                </a:lnTo>
                <a:lnTo>
                  <a:pt x="341" y="56"/>
                </a:lnTo>
                <a:lnTo>
                  <a:pt x="342" y="56"/>
                </a:lnTo>
                <a:lnTo>
                  <a:pt x="341" y="56"/>
                </a:lnTo>
                <a:lnTo>
                  <a:pt x="342" y="56"/>
                </a:lnTo>
                <a:lnTo>
                  <a:pt x="341" y="56"/>
                </a:lnTo>
                <a:lnTo>
                  <a:pt x="342" y="56"/>
                </a:lnTo>
                <a:lnTo>
                  <a:pt x="342" y="75"/>
                </a:lnTo>
                <a:lnTo>
                  <a:pt x="341" y="130"/>
                </a:lnTo>
                <a:lnTo>
                  <a:pt x="341" y="172"/>
                </a:lnTo>
                <a:lnTo>
                  <a:pt x="342" y="173"/>
                </a:lnTo>
                <a:lnTo>
                  <a:pt x="342" y="173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615080" y="3740040"/>
            <a:ext cx="139680" cy="169920"/>
          </a:xfrm>
          <a:custGeom>
            <a:avLst/>
            <a:gdLst/>
            <a:ahLst/>
            <a:rect l="l" t="t" r="r" b="b"/>
            <a:pathLst>
              <a:path w="402" h="514">
                <a:moveTo>
                  <a:pt x="63" y="14"/>
                </a:moveTo>
                <a:lnTo>
                  <a:pt x="62" y="16"/>
                </a:lnTo>
                <a:lnTo>
                  <a:pt x="56" y="20"/>
                </a:lnTo>
                <a:lnTo>
                  <a:pt x="34" y="33"/>
                </a:lnTo>
                <a:lnTo>
                  <a:pt x="18" y="43"/>
                </a:lnTo>
                <a:lnTo>
                  <a:pt x="18" y="43"/>
                </a:lnTo>
                <a:lnTo>
                  <a:pt x="24" y="50"/>
                </a:lnTo>
                <a:lnTo>
                  <a:pt x="42" y="71"/>
                </a:lnTo>
                <a:lnTo>
                  <a:pt x="55" y="85"/>
                </a:lnTo>
                <a:lnTo>
                  <a:pt x="56" y="85"/>
                </a:lnTo>
                <a:lnTo>
                  <a:pt x="55" y="87"/>
                </a:lnTo>
                <a:lnTo>
                  <a:pt x="52" y="92"/>
                </a:lnTo>
                <a:lnTo>
                  <a:pt x="39" y="114"/>
                </a:lnTo>
                <a:lnTo>
                  <a:pt x="29" y="130"/>
                </a:lnTo>
                <a:lnTo>
                  <a:pt x="29" y="130"/>
                </a:lnTo>
                <a:lnTo>
                  <a:pt x="27" y="130"/>
                </a:lnTo>
                <a:lnTo>
                  <a:pt x="23" y="130"/>
                </a:lnTo>
                <a:lnTo>
                  <a:pt x="10" y="130"/>
                </a:lnTo>
                <a:lnTo>
                  <a:pt x="0" y="130"/>
                </a:lnTo>
                <a:lnTo>
                  <a:pt x="0" y="130"/>
                </a:lnTo>
                <a:lnTo>
                  <a:pt x="0" y="132"/>
                </a:lnTo>
                <a:lnTo>
                  <a:pt x="3" y="142"/>
                </a:lnTo>
                <a:lnTo>
                  <a:pt x="13" y="176"/>
                </a:lnTo>
                <a:lnTo>
                  <a:pt x="21" y="203"/>
                </a:lnTo>
                <a:lnTo>
                  <a:pt x="23" y="203"/>
                </a:lnTo>
                <a:lnTo>
                  <a:pt x="33" y="207"/>
                </a:lnTo>
                <a:lnTo>
                  <a:pt x="66" y="216"/>
                </a:lnTo>
                <a:lnTo>
                  <a:pt x="92" y="221"/>
                </a:lnTo>
                <a:lnTo>
                  <a:pt x="94" y="221"/>
                </a:lnTo>
                <a:lnTo>
                  <a:pt x="94" y="229"/>
                </a:lnTo>
                <a:lnTo>
                  <a:pt x="92" y="249"/>
                </a:lnTo>
                <a:lnTo>
                  <a:pt x="92" y="265"/>
                </a:lnTo>
                <a:lnTo>
                  <a:pt x="94" y="265"/>
                </a:lnTo>
                <a:lnTo>
                  <a:pt x="98" y="268"/>
                </a:lnTo>
                <a:lnTo>
                  <a:pt x="111" y="275"/>
                </a:lnTo>
                <a:lnTo>
                  <a:pt x="121" y="281"/>
                </a:lnTo>
                <a:lnTo>
                  <a:pt x="123" y="281"/>
                </a:lnTo>
                <a:lnTo>
                  <a:pt x="123" y="285"/>
                </a:lnTo>
                <a:lnTo>
                  <a:pt x="127" y="311"/>
                </a:lnTo>
                <a:lnTo>
                  <a:pt x="140" y="401"/>
                </a:lnTo>
                <a:lnTo>
                  <a:pt x="150" y="469"/>
                </a:lnTo>
                <a:lnTo>
                  <a:pt x="152" y="472"/>
                </a:lnTo>
                <a:lnTo>
                  <a:pt x="156" y="479"/>
                </a:lnTo>
                <a:lnTo>
                  <a:pt x="171" y="500"/>
                </a:lnTo>
                <a:lnTo>
                  <a:pt x="181" y="514"/>
                </a:lnTo>
                <a:lnTo>
                  <a:pt x="182" y="514"/>
                </a:lnTo>
                <a:lnTo>
                  <a:pt x="185" y="514"/>
                </a:lnTo>
                <a:lnTo>
                  <a:pt x="216" y="504"/>
                </a:lnTo>
                <a:lnTo>
                  <a:pt x="318" y="469"/>
                </a:lnTo>
                <a:lnTo>
                  <a:pt x="398" y="443"/>
                </a:lnTo>
                <a:lnTo>
                  <a:pt x="402" y="442"/>
                </a:lnTo>
                <a:lnTo>
                  <a:pt x="395" y="431"/>
                </a:lnTo>
                <a:lnTo>
                  <a:pt x="373" y="397"/>
                </a:lnTo>
                <a:lnTo>
                  <a:pt x="358" y="371"/>
                </a:lnTo>
                <a:lnTo>
                  <a:pt x="358" y="369"/>
                </a:lnTo>
                <a:lnTo>
                  <a:pt x="346" y="365"/>
                </a:lnTo>
                <a:lnTo>
                  <a:pt x="311" y="350"/>
                </a:lnTo>
                <a:lnTo>
                  <a:pt x="285" y="340"/>
                </a:lnTo>
                <a:lnTo>
                  <a:pt x="285" y="339"/>
                </a:lnTo>
                <a:lnTo>
                  <a:pt x="285" y="326"/>
                </a:lnTo>
                <a:lnTo>
                  <a:pt x="284" y="284"/>
                </a:lnTo>
                <a:lnTo>
                  <a:pt x="284" y="253"/>
                </a:lnTo>
                <a:lnTo>
                  <a:pt x="285" y="250"/>
                </a:lnTo>
                <a:lnTo>
                  <a:pt x="287" y="249"/>
                </a:lnTo>
                <a:lnTo>
                  <a:pt x="302" y="233"/>
                </a:lnTo>
                <a:lnTo>
                  <a:pt x="358" y="176"/>
                </a:lnTo>
                <a:lnTo>
                  <a:pt x="400" y="134"/>
                </a:lnTo>
                <a:lnTo>
                  <a:pt x="402" y="132"/>
                </a:lnTo>
                <a:lnTo>
                  <a:pt x="400" y="133"/>
                </a:lnTo>
                <a:lnTo>
                  <a:pt x="381" y="134"/>
                </a:lnTo>
                <a:lnTo>
                  <a:pt x="317" y="142"/>
                </a:lnTo>
                <a:lnTo>
                  <a:pt x="268" y="146"/>
                </a:lnTo>
                <a:lnTo>
                  <a:pt x="266" y="146"/>
                </a:lnTo>
                <a:lnTo>
                  <a:pt x="263" y="145"/>
                </a:lnTo>
                <a:lnTo>
                  <a:pt x="245" y="124"/>
                </a:lnTo>
                <a:lnTo>
                  <a:pt x="179" y="55"/>
                </a:lnTo>
                <a:lnTo>
                  <a:pt x="130" y="3"/>
                </a:lnTo>
                <a:lnTo>
                  <a:pt x="129" y="0"/>
                </a:lnTo>
                <a:lnTo>
                  <a:pt x="127" y="0"/>
                </a:lnTo>
                <a:lnTo>
                  <a:pt x="129" y="0"/>
                </a:lnTo>
                <a:lnTo>
                  <a:pt x="127" y="0"/>
                </a:lnTo>
                <a:lnTo>
                  <a:pt x="129" y="0"/>
                </a:lnTo>
                <a:lnTo>
                  <a:pt x="117" y="3"/>
                </a:lnTo>
                <a:lnTo>
                  <a:pt x="87" y="10"/>
                </a:lnTo>
                <a:lnTo>
                  <a:pt x="63" y="14"/>
                </a:lnTo>
                <a:lnTo>
                  <a:pt x="63" y="14"/>
                </a:lnTo>
                <a:lnTo>
                  <a:pt x="63" y="14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713720" y="3782880"/>
            <a:ext cx="111240" cy="103320"/>
          </a:xfrm>
          <a:custGeom>
            <a:avLst/>
            <a:gdLst/>
            <a:ahLst/>
            <a:rect l="l" t="t" r="r" b="b"/>
            <a:pathLst>
              <a:path w="324" h="314">
                <a:moveTo>
                  <a:pt x="1" y="121"/>
                </a:moveTo>
                <a:lnTo>
                  <a:pt x="1" y="136"/>
                </a:lnTo>
                <a:lnTo>
                  <a:pt x="0" y="178"/>
                </a:lnTo>
                <a:lnTo>
                  <a:pt x="0" y="208"/>
                </a:lnTo>
                <a:lnTo>
                  <a:pt x="1" y="210"/>
                </a:lnTo>
                <a:lnTo>
                  <a:pt x="13" y="216"/>
                </a:lnTo>
                <a:lnTo>
                  <a:pt x="49" y="230"/>
                </a:lnTo>
                <a:lnTo>
                  <a:pt x="76" y="242"/>
                </a:lnTo>
                <a:lnTo>
                  <a:pt x="79" y="242"/>
                </a:lnTo>
                <a:lnTo>
                  <a:pt x="85" y="253"/>
                </a:lnTo>
                <a:lnTo>
                  <a:pt x="103" y="288"/>
                </a:lnTo>
                <a:lnTo>
                  <a:pt x="116" y="314"/>
                </a:lnTo>
                <a:lnTo>
                  <a:pt x="117" y="314"/>
                </a:lnTo>
                <a:lnTo>
                  <a:pt x="123" y="307"/>
                </a:lnTo>
                <a:lnTo>
                  <a:pt x="145" y="287"/>
                </a:lnTo>
                <a:lnTo>
                  <a:pt x="160" y="269"/>
                </a:lnTo>
                <a:lnTo>
                  <a:pt x="162" y="268"/>
                </a:lnTo>
                <a:lnTo>
                  <a:pt x="171" y="274"/>
                </a:lnTo>
                <a:lnTo>
                  <a:pt x="198" y="288"/>
                </a:lnTo>
                <a:lnTo>
                  <a:pt x="220" y="298"/>
                </a:lnTo>
                <a:lnTo>
                  <a:pt x="221" y="298"/>
                </a:lnTo>
                <a:lnTo>
                  <a:pt x="223" y="298"/>
                </a:lnTo>
                <a:lnTo>
                  <a:pt x="231" y="297"/>
                </a:lnTo>
                <a:lnTo>
                  <a:pt x="266" y="289"/>
                </a:lnTo>
                <a:lnTo>
                  <a:pt x="292" y="285"/>
                </a:lnTo>
                <a:lnTo>
                  <a:pt x="295" y="284"/>
                </a:lnTo>
                <a:lnTo>
                  <a:pt x="295" y="282"/>
                </a:lnTo>
                <a:lnTo>
                  <a:pt x="300" y="266"/>
                </a:lnTo>
                <a:lnTo>
                  <a:pt x="313" y="211"/>
                </a:lnTo>
                <a:lnTo>
                  <a:pt x="323" y="169"/>
                </a:lnTo>
                <a:lnTo>
                  <a:pt x="324" y="166"/>
                </a:lnTo>
                <a:lnTo>
                  <a:pt x="318" y="160"/>
                </a:lnTo>
                <a:lnTo>
                  <a:pt x="305" y="139"/>
                </a:lnTo>
                <a:lnTo>
                  <a:pt x="295" y="123"/>
                </a:lnTo>
                <a:lnTo>
                  <a:pt x="295" y="121"/>
                </a:lnTo>
                <a:lnTo>
                  <a:pt x="298" y="114"/>
                </a:lnTo>
                <a:lnTo>
                  <a:pt x="310" y="88"/>
                </a:lnTo>
                <a:lnTo>
                  <a:pt x="318" y="68"/>
                </a:lnTo>
                <a:lnTo>
                  <a:pt x="320" y="66"/>
                </a:lnTo>
                <a:lnTo>
                  <a:pt x="318" y="66"/>
                </a:lnTo>
                <a:lnTo>
                  <a:pt x="308" y="66"/>
                </a:lnTo>
                <a:lnTo>
                  <a:pt x="278" y="62"/>
                </a:lnTo>
                <a:lnTo>
                  <a:pt x="253" y="61"/>
                </a:lnTo>
                <a:lnTo>
                  <a:pt x="253" y="59"/>
                </a:lnTo>
                <a:lnTo>
                  <a:pt x="237" y="50"/>
                </a:lnTo>
                <a:lnTo>
                  <a:pt x="189" y="23"/>
                </a:lnTo>
                <a:lnTo>
                  <a:pt x="153" y="1"/>
                </a:lnTo>
                <a:lnTo>
                  <a:pt x="152" y="0"/>
                </a:lnTo>
                <a:lnTo>
                  <a:pt x="146" y="1"/>
                </a:lnTo>
                <a:lnTo>
                  <a:pt x="130" y="3"/>
                </a:lnTo>
                <a:lnTo>
                  <a:pt x="117" y="3"/>
                </a:lnTo>
                <a:lnTo>
                  <a:pt x="117" y="3"/>
                </a:lnTo>
                <a:lnTo>
                  <a:pt x="116" y="3"/>
                </a:lnTo>
                <a:lnTo>
                  <a:pt x="117" y="3"/>
                </a:lnTo>
                <a:lnTo>
                  <a:pt x="116" y="3"/>
                </a:lnTo>
                <a:lnTo>
                  <a:pt x="117" y="3"/>
                </a:lnTo>
                <a:lnTo>
                  <a:pt x="114" y="5"/>
                </a:lnTo>
                <a:lnTo>
                  <a:pt x="98" y="21"/>
                </a:lnTo>
                <a:lnTo>
                  <a:pt x="45" y="78"/>
                </a:lnTo>
                <a:lnTo>
                  <a:pt x="3" y="120"/>
                </a:lnTo>
                <a:lnTo>
                  <a:pt x="1" y="121"/>
                </a:lnTo>
                <a:lnTo>
                  <a:pt x="1" y="121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815240" y="3805200"/>
            <a:ext cx="57240" cy="81000"/>
          </a:xfrm>
          <a:custGeom>
            <a:avLst/>
            <a:gdLst/>
            <a:ahLst/>
            <a:rect l="l" t="t" r="r" b="b"/>
            <a:pathLst>
              <a:path w="167" h="248">
                <a:moveTo>
                  <a:pt x="0" y="56"/>
                </a:moveTo>
                <a:lnTo>
                  <a:pt x="5" y="64"/>
                </a:lnTo>
                <a:lnTo>
                  <a:pt x="18" y="85"/>
                </a:lnTo>
                <a:lnTo>
                  <a:pt x="28" y="101"/>
                </a:lnTo>
                <a:lnTo>
                  <a:pt x="29" y="101"/>
                </a:lnTo>
                <a:lnTo>
                  <a:pt x="28" y="104"/>
                </a:lnTo>
                <a:lnTo>
                  <a:pt x="23" y="120"/>
                </a:lnTo>
                <a:lnTo>
                  <a:pt x="10" y="175"/>
                </a:lnTo>
                <a:lnTo>
                  <a:pt x="0" y="217"/>
                </a:lnTo>
                <a:lnTo>
                  <a:pt x="0" y="219"/>
                </a:lnTo>
                <a:lnTo>
                  <a:pt x="6" y="224"/>
                </a:lnTo>
                <a:lnTo>
                  <a:pt x="26" y="237"/>
                </a:lnTo>
                <a:lnTo>
                  <a:pt x="42" y="248"/>
                </a:lnTo>
                <a:lnTo>
                  <a:pt x="44" y="248"/>
                </a:lnTo>
                <a:lnTo>
                  <a:pt x="49" y="246"/>
                </a:lnTo>
                <a:lnTo>
                  <a:pt x="71" y="239"/>
                </a:lnTo>
                <a:lnTo>
                  <a:pt x="87" y="235"/>
                </a:lnTo>
                <a:lnTo>
                  <a:pt x="89" y="233"/>
                </a:lnTo>
                <a:lnTo>
                  <a:pt x="90" y="230"/>
                </a:lnTo>
                <a:lnTo>
                  <a:pt x="100" y="210"/>
                </a:lnTo>
                <a:lnTo>
                  <a:pt x="136" y="140"/>
                </a:lnTo>
                <a:lnTo>
                  <a:pt x="164" y="87"/>
                </a:lnTo>
                <a:lnTo>
                  <a:pt x="167" y="82"/>
                </a:lnTo>
                <a:lnTo>
                  <a:pt x="164" y="81"/>
                </a:lnTo>
                <a:lnTo>
                  <a:pt x="149" y="71"/>
                </a:lnTo>
                <a:lnTo>
                  <a:pt x="99" y="36"/>
                </a:lnTo>
                <a:lnTo>
                  <a:pt x="61" y="10"/>
                </a:lnTo>
                <a:lnTo>
                  <a:pt x="60" y="7"/>
                </a:lnTo>
                <a:lnTo>
                  <a:pt x="58" y="7"/>
                </a:lnTo>
                <a:lnTo>
                  <a:pt x="54" y="7"/>
                </a:lnTo>
                <a:lnTo>
                  <a:pt x="38" y="3"/>
                </a:lnTo>
                <a:lnTo>
                  <a:pt x="25" y="1"/>
                </a:lnTo>
                <a:lnTo>
                  <a:pt x="25" y="0"/>
                </a:lnTo>
                <a:lnTo>
                  <a:pt x="23" y="0"/>
                </a:lnTo>
                <a:lnTo>
                  <a:pt x="25" y="0"/>
                </a:lnTo>
                <a:lnTo>
                  <a:pt x="23" y="0"/>
                </a:lnTo>
                <a:lnTo>
                  <a:pt x="25" y="0"/>
                </a:lnTo>
                <a:lnTo>
                  <a:pt x="23" y="1"/>
                </a:lnTo>
                <a:lnTo>
                  <a:pt x="20" y="10"/>
                </a:lnTo>
                <a:lnTo>
                  <a:pt x="9" y="36"/>
                </a:lnTo>
                <a:lnTo>
                  <a:pt x="0" y="56"/>
                </a:lnTo>
                <a:lnTo>
                  <a:pt x="0" y="56"/>
                </a:lnTo>
                <a:lnTo>
                  <a:pt x="0" y="56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294680" y="3808440"/>
            <a:ext cx="1028520" cy="915840"/>
          </a:xfrm>
          <a:custGeom>
            <a:avLst/>
            <a:gdLst/>
            <a:ahLst/>
            <a:rect l="l" t="t" r="r" b="b"/>
            <a:pathLst>
              <a:path w="2983" h="2805">
                <a:moveTo>
                  <a:pt x="1716" y="100"/>
                </a:moveTo>
                <a:lnTo>
                  <a:pt x="1727" y="118"/>
                </a:lnTo>
                <a:lnTo>
                  <a:pt x="1761" y="172"/>
                </a:lnTo>
                <a:lnTo>
                  <a:pt x="1787" y="214"/>
                </a:lnTo>
                <a:lnTo>
                  <a:pt x="1789" y="215"/>
                </a:lnTo>
                <a:lnTo>
                  <a:pt x="1798" y="221"/>
                </a:lnTo>
                <a:lnTo>
                  <a:pt x="1825" y="236"/>
                </a:lnTo>
                <a:lnTo>
                  <a:pt x="1847" y="246"/>
                </a:lnTo>
                <a:lnTo>
                  <a:pt x="1848" y="246"/>
                </a:lnTo>
                <a:lnTo>
                  <a:pt x="1844" y="252"/>
                </a:lnTo>
                <a:lnTo>
                  <a:pt x="1822" y="281"/>
                </a:lnTo>
                <a:lnTo>
                  <a:pt x="1747" y="385"/>
                </a:lnTo>
                <a:lnTo>
                  <a:pt x="1689" y="463"/>
                </a:lnTo>
                <a:lnTo>
                  <a:pt x="1686" y="468"/>
                </a:lnTo>
                <a:lnTo>
                  <a:pt x="1687" y="468"/>
                </a:lnTo>
                <a:lnTo>
                  <a:pt x="1700" y="465"/>
                </a:lnTo>
                <a:lnTo>
                  <a:pt x="1745" y="455"/>
                </a:lnTo>
                <a:lnTo>
                  <a:pt x="1779" y="446"/>
                </a:lnTo>
                <a:lnTo>
                  <a:pt x="1782" y="444"/>
                </a:lnTo>
                <a:lnTo>
                  <a:pt x="1792" y="437"/>
                </a:lnTo>
                <a:lnTo>
                  <a:pt x="1822" y="413"/>
                </a:lnTo>
                <a:lnTo>
                  <a:pt x="1847" y="394"/>
                </a:lnTo>
                <a:lnTo>
                  <a:pt x="1848" y="392"/>
                </a:lnTo>
                <a:lnTo>
                  <a:pt x="1857" y="394"/>
                </a:lnTo>
                <a:lnTo>
                  <a:pt x="1884" y="394"/>
                </a:lnTo>
                <a:lnTo>
                  <a:pt x="1906" y="394"/>
                </a:lnTo>
                <a:lnTo>
                  <a:pt x="1908" y="394"/>
                </a:lnTo>
                <a:lnTo>
                  <a:pt x="1905" y="404"/>
                </a:lnTo>
                <a:lnTo>
                  <a:pt x="1897" y="431"/>
                </a:lnTo>
                <a:lnTo>
                  <a:pt x="1893" y="453"/>
                </a:lnTo>
                <a:lnTo>
                  <a:pt x="1893" y="453"/>
                </a:lnTo>
                <a:lnTo>
                  <a:pt x="1890" y="455"/>
                </a:lnTo>
                <a:lnTo>
                  <a:pt x="1880" y="456"/>
                </a:lnTo>
                <a:lnTo>
                  <a:pt x="1845" y="463"/>
                </a:lnTo>
                <a:lnTo>
                  <a:pt x="1819" y="468"/>
                </a:lnTo>
                <a:lnTo>
                  <a:pt x="1818" y="468"/>
                </a:lnTo>
                <a:lnTo>
                  <a:pt x="1831" y="473"/>
                </a:lnTo>
                <a:lnTo>
                  <a:pt x="1873" y="486"/>
                </a:lnTo>
                <a:lnTo>
                  <a:pt x="1905" y="497"/>
                </a:lnTo>
                <a:lnTo>
                  <a:pt x="1908" y="497"/>
                </a:lnTo>
                <a:lnTo>
                  <a:pt x="1918" y="486"/>
                </a:lnTo>
                <a:lnTo>
                  <a:pt x="1953" y="452"/>
                </a:lnTo>
                <a:lnTo>
                  <a:pt x="1979" y="426"/>
                </a:lnTo>
                <a:lnTo>
                  <a:pt x="1980" y="423"/>
                </a:lnTo>
                <a:lnTo>
                  <a:pt x="1983" y="423"/>
                </a:lnTo>
                <a:lnTo>
                  <a:pt x="2009" y="421"/>
                </a:lnTo>
                <a:lnTo>
                  <a:pt x="2095" y="414"/>
                </a:lnTo>
                <a:lnTo>
                  <a:pt x="2161" y="410"/>
                </a:lnTo>
                <a:lnTo>
                  <a:pt x="2166" y="408"/>
                </a:lnTo>
                <a:lnTo>
                  <a:pt x="2166" y="410"/>
                </a:lnTo>
                <a:lnTo>
                  <a:pt x="2167" y="414"/>
                </a:lnTo>
                <a:lnTo>
                  <a:pt x="2174" y="431"/>
                </a:lnTo>
                <a:lnTo>
                  <a:pt x="2179" y="444"/>
                </a:lnTo>
                <a:lnTo>
                  <a:pt x="2180" y="444"/>
                </a:lnTo>
                <a:lnTo>
                  <a:pt x="2184" y="444"/>
                </a:lnTo>
                <a:lnTo>
                  <a:pt x="2197" y="440"/>
                </a:lnTo>
                <a:lnTo>
                  <a:pt x="2208" y="439"/>
                </a:lnTo>
                <a:lnTo>
                  <a:pt x="2209" y="437"/>
                </a:lnTo>
                <a:lnTo>
                  <a:pt x="2209" y="447"/>
                </a:lnTo>
                <a:lnTo>
                  <a:pt x="2208" y="475"/>
                </a:lnTo>
                <a:lnTo>
                  <a:pt x="2208" y="497"/>
                </a:lnTo>
                <a:lnTo>
                  <a:pt x="2209" y="497"/>
                </a:lnTo>
                <a:lnTo>
                  <a:pt x="2215" y="499"/>
                </a:lnTo>
                <a:lnTo>
                  <a:pt x="2235" y="507"/>
                </a:lnTo>
                <a:lnTo>
                  <a:pt x="2250" y="513"/>
                </a:lnTo>
                <a:lnTo>
                  <a:pt x="2251" y="513"/>
                </a:lnTo>
                <a:lnTo>
                  <a:pt x="2250" y="514"/>
                </a:lnTo>
                <a:lnTo>
                  <a:pt x="2248" y="517"/>
                </a:lnTo>
                <a:lnTo>
                  <a:pt x="2242" y="528"/>
                </a:lnTo>
                <a:lnTo>
                  <a:pt x="2238" y="537"/>
                </a:lnTo>
                <a:lnTo>
                  <a:pt x="2238" y="537"/>
                </a:lnTo>
                <a:lnTo>
                  <a:pt x="2239" y="537"/>
                </a:lnTo>
                <a:lnTo>
                  <a:pt x="2258" y="536"/>
                </a:lnTo>
                <a:lnTo>
                  <a:pt x="2322" y="530"/>
                </a:lnTo>
                <a:lnTo>
                  <a:pt x="2371" y="526"/>
                </a:lnTo>
                <a:lnTo>
                  <a:pt x="2374" y="524"/>
                </a:lnTo>
                <a:lnTo>
                  <a:pt x="2376" y="526"/>
                </a:lnTo>
                <a:lnTo>
                  <a:pt x="2392" y="533"/>
                </a:lnTo>
                <a:lnTo>
                  <a:pt x="2444" y="555"/>
                </a:lnTo>
                <a:lnTo>
                  <a:pt x="2483" y="572"/>
                </a:lnTo>
                <a:lnTo>
                  <a:pt x="2486" y="572"/>
                </a:lnTo>
                <a:lnTo>
                  <a:pt x="2494" y="563"/>
                </a:lnTo>
                <a:lnTo>
                  <a:pt x="2523" y="534"/>
                </a:lnTo>
                <a:lnTo>
                  <a:pt x="2545" y="513"/>
                </a:lnTo>
                <a:lnTo>
                  <a:pt x="2547" y="511"/>
                </a:lnTo>
                <a:lnTo>
                  <a:pt x="2555" y="514"/>
                </a:lnTo>
                <a:lnTo>
                  <a:pt x="2581" y="521"/>
                </a:lnTo>
                <a:lnTo>
                  <a:pt x="2602" y="527"/>
                </a:lnTo>
                <a:lnTo>
                  <a:pt x="2603" y="527"/>
                </a:lnTo>
                <a:lnTo>
                  <a:pt x="2606" y="531"/>
                </a:lnTo>
                <a:lnTo>
                  <a:pt x="2632" y="553"/>
                </a:lnTo>
                <a:lnTo>
                  <a:pt x="2719" y="626"/>
                </a:lnTo>
                <a:lnTo>
                  <a:pt x="2786" y="682"/>
                </a:lnTo>
                <a:lnTo>
                  <a:pt x="2790" y="685"/>
                </a:lnTo>
                <a:lnTo>
                  <a:pt x="2797" y="686"/>
                </a:lnTo>
                <a:lnTo>
                  <a:pt x="2822" y="688"/>
                </a:lnTo>
                <a:lnTo>
                  <a:pt x="2841" y="688"/>
                </a:lnTo>
                <a:lnTo>
                  <a:pt x="2842" y="688"/>
                </a:lnTo>
                <a:lnTo>
                  <a:pt x="2849" y="683"/>
                </a:lnTo>
                <a:lnTo>
                  <a:pt x="2873" y="670"/>
                </a:lnTo>
                <a:lnTo>
                  <a:pt x="2891" y="660"/>
                </a:lnTo>
                <a:lnTo>
                  <a:pt x="2893" y="659"/>
                </a:lnTo>
                <a:lnTo>
                  <a:pt x="2900" y="665"/>
                </a:lnTo>
                <a:lnTo>
                  <a:pt x="2926" y="678"/>
                </a:lnTo>
                <a:lnTo>
                  <a:pt x="2945" y="688"/>
                </a:lnTo>
                <a:lnTo>
                  <a:pt x="2946" y="688"/>
                </a:lnTo>
                <a:lnTo>
                  <a:pt x="2946" y="692"/>
                </a:lnTo>
                <a:lnTo>
                  <a:pt x="2951" y="720"/>
                </a:lnTo>
                <a:lnTo>
                  <a:pt x="2968" y="812"/>
                </a:lnTo>
                <a:lnTo>
                  <a:pt x="2981" y="883"/>
                </a:lnTo>
                <a:lnTo>
                  <a:pt x="2983" y="886"/>
                </a:lnTo>
                <a:lnTo>
                  <a:pt x="2981" y="889"/>
                </a:lnTo>
                <a:lnTo>
                  <a:pt x="2977" y="902"/>
                </a:lnTo>
                <a:lnTo>
                  <a:pt x="2962" y="947"/>
                </a:lnTo>
                <a:lnTo>
                  <a:pt x="2952" y="982"/>
                </a:lnTo>
                <a:lnTo>
                  <a:pt x="2952" y="983"/>
                </a:lnTo>
                <a:lnTo>
                  <a:pt x="2951" y="985"/>
                </a:lnTo>
                <a:lnTo>
                  <a:pt x="2941" y="989"/>
                </a:lnTo>
                <a:lnTo>
                  <a:pt x="2910" y="1004"/>
                </a:lnTo>
                <a:lnTo>
                  <a:pt x="2886" y="1014"/>
                </a:lnTo>
                <a:lnTo>
                  <a:pt x="2886" y="1014"/>
                </a:lnTo>
                <a:lnTo>
                  <a:pt x="2881" y="1018"/>
                </a:lnTo>
                <a:lnTo>
                  <a:pt x="2858" y="1047"/>
                </a:lnTo>
                <a:lnTo>
                  <a:pt x="2780" y="1147"/>
                </a:lnTo>
                <a:lnTo>
                  <a:pt x="2720" y="1224"/>
                </a:lnTo>
                <a:lnTo>
                  <a:pt x="2718" y="1227"/>
                </a:lnTo>
                <a:lnTo>
                  <a:pt x="2716" y="1228"/>
                </a:lnTo>
                <a:lnTo>
                  <a:pt x="2709" y="1234"/>
                </a:lnTo>
                <a:lnTo>
                  <a:pt x="2683" y="1251"/>
                </a:lnTo>
                <a:lnTo>
                  <a:pt x="2664" y="1266"/>
                </a:lnTo>
                <a:lnTo>
                  <a:pt x="2664" y="1266"/>
                </a:lnTo>
                <a:lnTo>
                  <a:pt x="2664" y="1269"/>
                </a:lnTo>
                <a:lnTo>
                  <a:pt x="2665" y="1288"/>
                </a:lnTo>
                <a:lnTo>
                  <a:pt x="2670" y="1351"/>
                </a:lnTo>
                <a:lnTo>
                  <a:pt x="2673" y="1399"/>
                </a:lnTo>
                <a:lnTo>
                  <a:pt x="2674" y="1401"/>
                </a:lnTo>
                <a:lnTo>
                  <a:pt x="2673" y="1404"/>
                </a:lnTo>
                <a:lnTo>
                  <a:pt x="2667" y="1420"/>
                </a:lnTo>
                <a:lnTo>
                  <a:pt x="2649" y="1472"/>
                </a:lnTo>
                <a:lnTo>
                  <a:pt x="2636" y="1512"/>
                </a:lnTo>
                <a:lnTo>
                  <a:pt x="2636" y="1514"/>
                </a:lnTo>
                <a:lnTo>
                  <a:pt x="2636" y="1533"/>
                </a:lnTo>
                <a:lnTo>
                  <a:pt x="2635" y="1589"/>
                </a:lnTo>
                <a:lnTo>
                  <a:pt x="2635" y="1631"/>
                </a:lnTo>
                <a:lnTo>
                  <a:pt x="2636" y="1633"/>
                </a:lnTo>
                <a:lnTo>
                  <a:pt x="2632" y="1640"/>
                </a:lnTo>
                <a:lnTo>
                  <a:pt x="2606" y="1688"/>
                </a:lnTo>
                <a:lnTo>
                  <a:pt x="2516" y="1848"/>
                </a:lnTo>
                <a:lnTo>
                  <a:pt x="2448" y="1972"/>
                </a:lnTo>
                <a:lnTo>
                  <a:pt x="2445" y="1977"/>
                </a:lnTo>
                <a:lnTo>
                  <a:pt x="2444" y="1979"/>
                </a:lnTo>
                <a:lnTo>
                  <a:pt x="2438" y="1983"/>
                </a:lnTo>
                <a:lnTo>
                  <a:pt x="2418" y="1999"/>
                </a:lnTo>
                <a:lnTo>
                  <a:pt x="2402" y="2011"/>
                </a:lnTo>
                <a:lnTo>
                  <a:pt x="2402" y="2011"/>
                </a:lnTo>
                <a:lnTo>
                  <a:pt x="2386" y="2012"/>
                </a:lnTo>
                <a:lnTo>
                  <a:pt x="2339" y="2014"/>
                </a:lnTo>
                <a:lnTo>
                  <a:pt x="2305" y="2014"/>
                </a:lnTo>
                <a:lnTo>
                  <a:pt x="2303" y="2014"/>
                </a:lnTo>
                <a:lnTo>
                  <a:pt x="2300" y="2017"/>
                </a:lnTo>
                <a:lnTo>
                  <a:pt x="2283" y="2027"/>
                </a:lnTo>
                <a:lnTo>
                  <a:pt x="2225" y="2066"/>
                </a:lnTo>
                <a:lnTo>
                  <a:pt x="2181" y="2095"/>
                </a:lnTo>
                <a:lnTo>
                  <a:pt x="2180" y="2096"/>
                </a:lnTo>
                <a:lnTo>
                  <a:pt x="2179" y="2096"/>
                </a:lnTo>
                <a:lnTo>
                  <a:pt x="2170" y="2096"/>
                </a:lnTo>
                <a:lnTo>
                  <a:pt x="2142" y="2096"/>
                </a:lnTo>
                <a:lnTo>
                  <a:pt x="2121" y="2096"/>
                </a:lnTo>
                <a:lnTo>
                  <a:pt x="2121" y="2096"/>
                </a:lnTo>
                <a:lnTo>
                  <a:pt x="2116" y="2099"/>
                </a:lnTo>
                <a:lnTo>
                  <a:pt x="2092" y="2118"/>
                </a:lnTo>
                <a:lnTo>
                  <a:pt x="2005" y="2179"/>
                </a:lnTo>
                <a:lnTo>
                  <a:pt x="1938" y="2227"/>
                </a:lnTo>
                <a:lnTo>
                  <a:pt x="1935" y="2228"/>
                </a:lnTo>
                <a:lnTo>
                  <a:pt x="1934" y="2232"/>
                </a:lnTo>
                <a:lnTo>
                  <a:pt x="1932" y="2260"/>
                </a:lnTo>
                <a:lnTo>
                  <a:pt x="1925" y="2353"/>
                </a:lnTo>
                <a:lnTo>
                  <a:pt x="1921" y="2424"/>
                </a:lnTo>
                <a:lnTo>
                  <a:pt x="1921" y="2427"/>
                </a:lnTo>
                <a:lnTo>
                  <a:pt x="1916" y="2432"/>
                </a:lnTo>
                <a:lnTo>
                  <a:pt x="1892" y="2470"/>
                </a:lnTo>
                <a:lnTo>
                  <a:pt x="1809" y="2596"/>
                </a:lnTo>
                <a:lnTo>
                  <a:pt x="1745" y="2693"/>
                </a:lnTo>
                <a:lnTo>
                  <a:pt x="1742" y="2698"/>
                </a:lnTo>
                <a:lnTo>
                  <a:pt x="1735" y="2700"/>
                </a:lnTo>
                <a:lnTo>
                  <a:pt x="1716" y="2705"/>
                </a:lnTo>
                <a:lnTo>
                  <a:pt x="1702" y="2708"/>
                </a:lnTo>
                <a:lnTo>
                  <a:pt x="1702" y="2708"/>
                </a:lnTo>
                <a:lnTo>
                  <a:pt x="1702" y="2705"/>
                </a:lnTo>
                <a:lnTo>
                  <a:pt x="1708" y="2683"/>
                </a:lnTo>
                <a:lnTo>
                  <a:pt x="1728" y="2608"/>
                </a:lnTo>
                <a:lnTo>
                  <a:pt x="1742" y="2550"/>
                </a:lnTo>
                <a:lnTo>
                  <a:pt x="1744" y="2545"/>
                </a:lnTo>
                <a:lnTo>
                  <a:pt x="1742" y="2547"/>
                </a:lnTo>
                <a:lnTo>
                  <a:pt x="1740" y="2548"/>
                </a:lnTo>
                <a:lnTo>
                  <a:pt x="1727" y="2556"/>
                </a:lnTo>
                <a:lnTo>
                  <a:pt x="1716" y="2560"/>
                </a:lnTo>
                <a:lnTo>
                  <a:pt x="1716" y="2560"/>
                </a:lnTo>
                <a:lnTo>
                  <a:pt x="1713" y="2566"/>
                </a:lnTo>
                <a:lnTo>
                  <a:pt x="1702" y="2599"/>
                </a:lnTo>
                <a:lnTo>
                  <a:pt x="1663" y="2714"/>
                </a:lnTo>
                <a:lnTo>
                  <a:pt x="1632" y="2800"/>
                </a:lnTo>
                <a:lnTo>
                  <a:pt x="1631" y="2805"/>
                </a:lnTo>
                <a:lnTo>
                  <a:pt x="1618" y="2795"/>
                </a:lnTo>
                <a:lnTo>
                  <a:pt x="1582" y="2763"/>
                </a:lnTo>
                <a:lnTo>
                  <a:pt x="1554" y="2737"/>
                </a:lnTo>
                <a:lnTo>
                  <a:pt x="1553" y="2735"/>
                </a:lnTo>
                <a:lnTo>
                  <a:pt x="1553" y="2729"/>
                </a:lnTo>
                <a:lnTo>
                  <a:pt x="1551" y="2709"/>
                </a:lnTo>
                <a:lnTo>
                  <a:pt x="1551" y="2695"/>
                </a:lnTo>
                <a:lnTo>
                  <a:pt x="1553" y="2693"/>
                </a:lnTo>
                <a:lnTo>
                  <a:pt x="1538" y="2685"/>
                </a:lnTo>
                <a:lnTo>
                  <a:pt x="1498" y="2656"/>
                </a:lnTo>
                <a:lnTo>
                  <a:pt x="1467" y="2634"/>
                </a:lnTo>
                <a:lnTo>
                  <a:pt x="1466" y="2632"/>
                </a:lnTo>
                <a:lnTo>
                  <a:pt x="1464" y="2632"/>
                </a:lnTo>
                <a:lnTo>
                  <a:pt x="1457" y="2632"/>
                </a:lnTo>
                <a:lnTo>
                  <a:pt x="1432" y="2632"/>
                </a:lnTo>
                <a:lnTo>
                  <a:pt x="1414" y="2632"/>
                </a:lnTo>
                <a:lnTo>
                  <a:pt x="1414" y="2632"/>
                </a:lnTo>
                <a:lnTo>
                  <a:pt x="1411" y="2624"/>
                </a:lnTo>
                <a:lnTo>
                  <a:pt x="1403" y="2598"/>
                </a:lnTo>
                <a:lnTo>
                  <a:pt x="1399" y="2576"/>
                </a:lnTo>
                <a:lnTo>
                  <a:pt x="1399" y="2574"/>
                </a:lnTo>
                <a:lnTo>
                  <a:pt x="1389" y="2570"/>
                </a:lnTo>
                <a:lnTo>
                  <a:pt x="1361" y="2557"/>
                </a:lnTo>
                <a:lnTo>
                  <a:pt x="1340" y="2547"/>
                </a:lnTo>
                <a:lnTo>
                  <a:pt x="1340" y="2545"/>
                </a:lnTo>
                <a:lnTo>
                  <a:pt x="1344" y="2543"/>
                </a:lnTo>
                <a:lnTo>
                  <a:pt x="1377" y="2518"/>
                </a:lnTo>
                <a:lnTo>
                  <a:pt x="1492" y="2435"/>
                </a:lnTo>
                <a:lnTo>
                  <a:pt x="1579" y="2372"/>
                </a:lnTo>
                <a:lnTo>
                  <a:pt x="1585" y="2367"/>
                </a:lnTo>
                <a:lnTo>
                  <a:pt x="1582" y="2351"/>
                </a:lnTo>
                <a:lnTo>
                  <a:pt x="1573" y="2301"/>
                </a:lnTo>
                <a:lnTo>
                  <a:pt x="1567" y="2261"/>
                </a:lnTo>
                <a:lnTo>
                  <a:pt x="1567" y="2259"/>
                </a:lnTo>
                <a:lnTo>
                  <a:pt x="1566" y="2259"/>
                </a:lnTo>
                <a:lnTo>
                  <a:pt x="1564" y="2259"/>
                </a:lnTo>
                <a:lnTo>
                  <a:pt x="1557" y="2259"/>
                </a:lnTo>
                <a:lnTo>
                  <a:pt x="1553" y="2259"/>
                </a:lnTo>
                <a:lnTo>
                  <a:pt x="1553" y="2259"/>
                </a:lnTo>
                <a:lnTo>
                  <a:pt x="1553" y="2246"/>
                </a:lnTo>
                <a:lnTo>
                  <a:pt x="1551" y="2203"/>
                </a:lnTo>
                <a:lnTo>
                  <a:pt x="1551" y="2172"/>
                </a:lnTo>
                <a:lnTo>
                  <a:pt x="1553" y="2169"/>
                </a:lnTo>
                <a:lnTo>
                  <a:pt x="1543" y="2164"/>
                </a:lnTo>
                <a:lnTo>
                  <a:pt x="1516" y="2151"/>
                </a:lnTo>
                <a:lnTo>
                  <a:pt x="1495" y="2141"/>
                </a:lnTo>
                <a:lnTo>
                  <a:pt x="1495" y="2140"/>
                </a:lnTo>
                <a:lnTo>
                  <a:pt x="1495" y="2130"/>
                </a:lnTo>
                <a:lnTo>
                  <a:pt x="1493" y="2095"/>
                </a:lnTo>
                <a:lnTo>
                  <a:pt x="1493" y="2069"/>
                </a:lnTo>
                <a:lnTo>
                  <a:pt x="1495" y="2067"/>
                </a:lnTo>
                <a:lnTo>
                  <a:pt x="1473" y="2059"/>
                </a:lnTo>
                <a:lnTo>
                  <a:pt x="1409" y="2031"/>
                </a:lnTo>
                <a:lnTo>
                  <a:pt x="1361" y="2009"/>
                </a:lnTo>
                <a:lnTo>
                  <a:pt x="1360" y="2008"/>
                </a:lnTo>
                <a:lnTo>
                  <a:pt x="1353" y="2011"/>
                </a:lnTo>
                <a:lnTo>
                  <a:pt x="1332" y="2018"/>
                </a:lnTo>
                <a:lnTo>
                  <a:pt x="1317" y="2022"/>
                </a:lnTo>
                <a:lnTo>
                  <a:pt x="1317" y="2022"/>
                </a:lnTo>
                <a:lnTo>
                  <a:pt x="1309" y="2018"/>
                </a:lnTo>
                <a:lnTo>
                  <a:pt x="1289" y="2001"/>
                </a:lnTo>
                <a:lnTo>
                  <a:pt x="1273" y="1988"/>
                </a:lnTo>
                <a:lnTo>
                  <a:pt x="1273" y="1986"/>
                </a:lnTo>
                <a:lnTo>
                  <a:pt x="1273" y="1960"/>
                </a:lnTo>
                <a:lnTo>
                  <a:pt x="1272" y="1882"/>
                </a:lnTo>
                <a:lnTo>
                  <a:pt x="1272" y="1821"/>
                </a:lnTo>
                <a:lnTo>
                  <a:pt x="1273" y="1817"/>
                </a:lnTo>
                <a:lnTo>
                  <a:pt x="1277" y="1811"/>
                </a:lnTo>
                <a:lnTo>
                  <a:pt x="1290" y="1789"/>
                </a:lnTo>
                <a:lnTo>
                  <a:pt x="1301" y="1773"/>
                </a:lnTo>
                <a:lnTo>
                  <a:pt x="1302" y="1772"/>
                </a:lnTo>
                <a:lnTo>
                  <a:pt x="1301" y="1769"/>
                </a:lnTo>
                <a:lnTo>
                  <a:pt x="1290" y="1747"/>
                </a:lnTo>
                <a:lnTo>
                  <a:pt x="1256" y="1672"/>
                </a:lnTo>
                <a:lnTo>
                  <a:pt x="1230" y="1614"/>
                </a:lnTo>
                <a:lnTo>
                  <a:pt x="1230" y="1609"/>
                </a:lnTo>
                <a:lnTo>
                  <a:pt x="1227" y="1609"/>
                </a:lnTo>
                <a:lnTo>
                  <a:pt x="1211" y="1608"/>
                </a:lnTo>
                <a:lnTo>
                  <a:pt x="1156" y="1601"/>
                </a:lnTo>
                <a:lnTo>
                  <a:pt x="1114" y="1596"/>
                </a:lnTo>
                <a:lnTo>
                  <a:pt x="1112" y="1595"/>
                </a:lnTo>
                <a:lnTo>
                  <a:pt x="1106" y="1585"/>
                </a:lnTo>
                <a:lnTo>
                  <a:pt x="1093" y="1550"/>
                </a:lnTo>
                <a:lnTo>
                  <a:pt x="1083" y="1524"/>
                </a:lnTo>
                <a:lnTo>
                  <a:pt x="1083" y="1521"/>
                </a:lnTo>
                <a:lnTo>
                  <a:pt x="1077" y="1520"/>
                </a:lnTo>
                <a:lnTo>
                  <a:pt x="1064" y="1514"/>
                </a:lnTo>
                <a:lnTo>
                  <a:pt x="1054" y="1509"/>
                </a:lnTo>
                <a:lnTo>
                  <a:pt x="1054" y="1508"/>
                </a:lnTo>
                <a:lnTo>
                  <a:pt x="1053" y="1505"/>
                </a:lnTo>
                <a:lnTo>
                  <a:pt x="1051" y="1493"/>
                </a:lnTo>
                <a:lnTo>
                  <a:pt x="1051" y="1485"/>
                </a:lnTo>
                <a:lnTo>
                  <a:pt x="1051" y="1483"/>
                </a:lnTo>
                <a:lnTo>
                  <a:pt x="1056" y="1479"/>
                </a:lnTo>
                <a:lnTo>
                  <a:pt x="1072" y="1462"/>
                </a:lnTo>
                <a:lnTo>
                  <a:pt x="1085" y="1449"/>
                </a:lnTo>
                <a:lnTo>
                  <a:pt x="1086" y="1447"/>
                </a:lnTo>
                <a:lnTo>
                  <a:pt x="1080" y="1446"/>
                </a:lnTo>
                <a:lnTo>
                  <a:pt x="1050" y="1427"/>
                </a:lnTo>
                <a:lnTo>
                  <a:pt x="941" y="1366"/>
                </a:lnTo>
                <a:lnTo>
                  <a:pt x="859" y="1318"/>
                </a:lnTo>
                <a:lnTo>
                  <a:pt x="854" y="1315"/>
                </a:lnTo>
                <a:lnTo>
                  <a:pt x="851" y="1315"/>
                </a:lnTo>
                <a:lnTo>
                  <a:pt x="838" y="1315"/>
                </a:lnTo>
                <a:lnTo>
                  <a:pt x="793" y="1315"/>
                </a:lnTo>
                <a:lnTo>
                  <a:pt x="759" y="1315"/>
                </a:lnTo>
                <a:lnTo>
                  <a:pt x="757" y="1315"/>
                </a:lnTo>
                <a:lnTo>
                  <a:pt x="756" y="1314"/>
                </a:lnTo>
                <a:lnTo>
                  <a:pt x="746" y="1305"/>
                </a:lnTo>
                <a:lnTo>
                  <a:pt x="711" y="1270"/>
                </a:lnTo>
                <a:lnTo>
                  <a:pt x="685" y="1244"/>
                </a:lnTo>
                <a:lnTo>
                  <a:pt x="685" y="1241"/>
                </a:lnTo>
                <a:lnTo>
                  <a:pt x="691" y="1237"/>
                </a:lnTo>
                <a:lnTo>
                  <a:pt x="711" y="1224"/>
                </a:lnTo>
                <a:lnTo>
                  <a:pt x="727" y="1214"/>
                </a:lnTo>
                <a:lnTo>
                  <a:pt x="728" y="1212"/>
                </a:lnTo>
                <a:lnTo>
                  <a:pt x="728" y="1199"/>
                </a:lnTo>
                <a:lnTo>
                  <a:pt x="727" y="1157"/>
                </a:lnTo>
                <a:lnTo>
                  <a:pt x="727" y="1125"/>
                </a:lnTo>
                <a:lnTo>
                  <a:pt x="728" y="1123"/>
                </a:lnTo>
                <a:lnTo>
                  <a:pt x="727" y="1123"/>
                </a:lnTo>
                <a:lnTo>
                  <a:pt x="721" y="1123"/>
                </a:lnTo>
                <a:lnTo>
                  <a:pt x="701" y="1123"/>
                </a:lnTo>
                <a:lnTo>
                  <a:pt x="685" y="1123"/>
                </a:lnTo>
                <a:lnTo>
                  <a:pt x="685" y="1123"/>
                </a:lnTo>
                <a:lnTo>
                  <a:pt x="680" y="1124"/>
                </a:lnTo>
                <a:lnTo>
                  <a:pt x="656" y="1133"/>
                </a:lnTo>
                <a:lnTo>
                  <a:pt x="573" y="1159"/>
                </a:lnTo>
                <a:lnTo>
                  <a:pt x="511" y="1180"/>
                </a:lnTo>
                <a:lnTo>
                  <a:pt x="508" y="1180"/>
                </a:lnTo>
                <a:lnTo>
                  <a:pt x="505" y="1179"/>
                </a:lnTo>
                <a:lnTo>
                  <a:pt x="498" y="1172"/>
                </a:lnTo>
                <a:lnTo>
                  <a:pt x="492" y="1167"/>
                </a:lnTo>
                <a:lnTo>
                  <a:pt x="492" y="1166"/>
                </a:lnTo>
                <a:lnTo>
                  <a:pt x="482" y="1169"/>
                </a:lnTo>
                <a:lnTo>
                  <a:pt x="456" y="1176"/>
                </a:lnTo>
                <a:lnTo>
                  <a:pt x="434" y="1180"/>
                </a:lnTo>
                <a:lnTo>
                  <a:pt x="434" y="1180"/>
                </a:lnTo>
                <a:lnTo>
                  <a:pt x="431" y="1191"/>
                </a:lnTo>
                <a:lnTo>
                  <a:pt x="424" y="1220"/>
                </a:lnTo>
                <a:lnTo>
                  <a:pt x="418" y="1241"/>
                </a:lnTo>
                <a:lnTo>
                  <a:pt x="418" y="1241"/>
                </a:lnTo>
                <a:lnTo>
                  <a:pt x="417" y="1241"/>
                </a:lnTo>
                <a:lnTo>
                  <a:pt x="407" y="1241"/>
                </a:lnTo>
                <a:lnTo>
                  <a:pt x="376" y="1241"/>
                </a:lnTo>
                <a:lnTo>
                  <a:pt x="353" y="1241"/>
                </a:lnTo>
                <a:lnTo>
                  <a:pt x="353" y="1241"/>
                </a:lnTo>
                <a:lnTo>
                  <a:pt x="350" y="1241"/>
                </a:lnTo>
                <a:lnTo>
                  <a:pt x="340" y="1237"/>
                </a:lnTo>
                <a:lnTo>
                  <a:pt x="302" y="1224"/>
                </a:lnTo>
                <a:lnTo>
                  <a:pt x="273" y="1214"/>
                </a:lnTo>
                <a:lnTo>
                  <a:pt x="272" y="1212"/>
                </a:lnTo>
                <a:lnTo>
                  <a:pt x="272" y="1211"/>
                </a:lnTo>
                <a:lnTo>
                  <a:pt x="272" y="1201"/>
                </a:lnTo>
                <a:lnTo>
                  <a:pt x="272" y="1165"/>
                </a:lnTo>
                <a:lnTo>
                  <a:pt x="272" y="1137"/>
                </a:lnTo>
                <a:lnTo>
                  <a:pt x="273" y="1134"/>
                </a:lnTo>
                <a:lnTo>
                  <a:pt x="268" y="1131"/>
                </a:lnTo>
                <a:lnTo>
                  <a:pt x="252" y="1120"/>
                </a:lnTo>
                <a:lnTo>
                  <a:pt x="240" y="1111"/>
                </a:lnTo>
                <a:lnTo>
                  <a:pt x="240" y="1109"/>
                </a:lnTo>
                <a:lnTo>
                  <a:pt x="237" y="1111"/>
                </a:lnTo>
                <a:lnTo>
                  <a:pt x="227" y="1117"/>
                </a:lnTo>
                <a:lnTo>
                  <a:pt x="191" y="1137"/>
                </a:lnTo>
                <a:lnTo>
                  <a:pt x="163" y="1153"/>
                </a:lnTo>
                <a:lnTo>
                  <a:pt x="162" y="1153"/>
                </a:lnTo>
                <a:lnTo>
                  <a:pt x="153" y="1144"/>
                </a:lnTo>
                <a:lnTo>
                  <a:pt x="127" y="1118"/>
                </a:lnTo>
                <a:lnTo>
                  <a:pt x="107" y="1096"/>
                </a:lnTo>
                <a:lnTo>
                  <a:pt x="107" y="1095"/>
                </a:lnTo>
                <a:lnTo>
                  <a:pt x="105" y="1096"/>
                </a:lnTo>
                <a:lnTo>
                  <a:pt x="97" y="1105"/>
                </a:lnTo>
                <a:lnTo>
                  <a:pt x="66" y="1131"/>
                </a:lnTo>
                <a:lnTo>
                  <a:pt x="43" y="1153"/>
                </a:lnTo>
                <a:lnTo>
                  <a:pt x="43" y="1153"/>
                </a:lnTo>
                <a:lnTo>
                  <a:pt x="36" y="1134"/>
                </a:lnTo>
                <a:lnTo>
                  <a:pt x="15" y="1076"/>
                </a:lnTo>
                <a:lnTo>
                  <a:pt x="0" y="1033"/>
                </a:lnTo>
                <a:lnTo>
                  <a:pt x="0" y="1030"/>
                </a:lnTo>
                <a:lnTo>
                  <a:pt x="0" y="1028"/>
                </a:lnTo>
                <a:lnTo>
                  <a:pt x="5" y="1012"/>
                </a:lnTo>
                <a:lnTo>
                  <a:pt x="26" y="959"/>
                </a:lnTo>
                <a:lnTo>
                  <a:pt x="40" y="918"/>
                </a:lnTo>
                <a:lnTo>
                  <a:pt x="42" y="915"/>
                </a:lnTo>
                <a:lnTo>
                  <a:pt x="42" y="908"/>
                </a:lnTo>
                <a:lnTo>
                  <a:pt x="40" y="882"/>
                </a:lnTo>
                <a:lnTo>
                  <a:pt x="40" y="863"/>
                </a:lnTo>
                <a:lnTo>
                  <a:pt x="42" y="862"/>
                </a:lnTo>
                <a:lnTo>
                  <a:pt x="44" y="859"/>
                </a:lnTo>
                <a:lnTo>
                  <a:pt x="73" y="837"/>
                </a:lnTo>
                <a:lnTo>
                  <a:pt x="168" y="762"/>
                </a:lnTo>
                <a:lnTo>
                  <a:pt x="241" y="705"/>
                </a:lnTo>
                <a:lnTo>
                  <a:pt x="246" y="701"/>
                </a:lnTo>
                <a:lnTo>
                  <a:pt x="246" y="697"/>
                </a:lnTo>
                <a:lnTo>
                  <a:pt x="256" y="665"/>
                </a:lnTo>
                <a:lnTo>
                  <a:pt x="288" y="556"/>
                </a:lnTo>
                <a:lnTo>
                  <a:pt x="314" y="473"/>
                </a:lnTo>
                <a:lnTo>
                  <a:pt x="315" y="468"/>
                </a:lnTo>
                <a:lnTo>
                  <a:pt x="305" y="462"/>
                </a:lnTo>
                <a:lnTo>
                  <a:pt x="279" y="444"/>
                </a:lnTo>
                <a:lnTo>
                  <a:pt x="257" y="431"/>
                </a:lnTo>
                <a:lnTo>
                  <a:pt x="257" y="430"/>
                </a:lnTo>
                <a:lnTo>
                  <a:pt x="257" y="423"/>
                </a:lnTo>
                <a:lnTo>
                  <a:pt x="256" y="399"/>
                </a:lnTo>
                <a:lnTo>
                  <a:pt x="256" y="381"/>
                </a:lnTo>
                <a:lnTo>
                  <a:pt x="257" y="379"/>
                </a:lnTo>
                <a:lnTo>
                  <a:pt x="266" y="371"/>
                </a:lnTo>
                <a:lnTo>
                  <a:pt x="292" y="343"/>
                </a:lnTo>
                <a:lnTo>
                  <a:pt x="314" y="321"/>
                </a:lnTo>
                <a:lnTo>
                  <a:pt x="315" y="320"/>
                </a:lnTo>
                <a:lnTo>
                  <a:pt x="314" y="320"/>
                </a:lnTo>
                <a:lnTo>
                  <a:pt x="311" y="320"/>
                </a:lnTo>
                <a:lnTo>
                  <a:pt x="301" y="315"/>
                </a:lnTo>
                <a:lnTo>
                  <a:pt x="294" y="313"/>
                </a:lnTo>
                <a:lnTo>
                  <a:pt x="294" y="311"/>
                </a:lnTo>
                <a:lnTo>
                  <a:pt x="292" y="311"/>
                </a:lnTo>
                <a:lnTo>
                  <a:pt x="289" y="311"/>
                </a:lnTo>
                <a:lnTo>
                  <a:pt x="279" y="308"/>
                </a:lnTo>
                <a:lnTo>
                  <a:pt x="272" y="307"/>
                </a:lnTo>
                <a:lnTo>
                  <a:pt x="272" y="305"/>
                </a:lnTo>
                <a:lnTo>
                  <a:pt x="272" y="301"/>
                </a:lnTo>
                <a:lnTo>
                  <a:pt x="272" y="285"/>
                </a:lnTo>
                <a:lnTo>
                  <a:pt x="272" y="273"/>
                </a:lnTo>
                <a:lnTo>
                  <a:pt x="273" y="272"/>
                </a:lnTo>
                <a:lnTo>
                  <a:pt x="278" y="272"/>
                </a:lnTo>
                <a:lnTo>
                  <a:pt x="292" y="272"/>
                </a:lnTo>
                <a:lnTo>
                  <a:pt x="302" y="272"/>
                </a:lnTo>
                <a:lnTo>
                  <a:pt x="304" y="272"/>
                </a:lnTo>
                <a:lnTo>
                  <a:pt x="312" y="278"/>
                </a:lnTo>
                <a:lnTo>
                  <a:pt x="343" y="292"/>
                </a:lnTo>
                <a:lnTo>
                  <a:pt x="366" y="302"/>
                </a:lnTo>
                <a:lnTo>
                  <a:pt x="368" y="302"/>
                </a:lnTo>
                <a:lnTo>
                  <a:pt x="375" y="301"/>
                </a:lnTo>
                <a:lnTo>
                  <a:pt x="398" y="297"/>
                </a:lnTo>
                <a:lnTo>
                  <a:pt x="417" y="292"/>
                </a:lnTo>
                <a:lnTo>
                  <a:pt x="418" y="291"/>
                </a:lnTo>
                <a:lnTo>
                  <a:pt x="425" y="301"/>
                </a:lnTo>
                <a:lnTo>
                  <a:pt x="447" y="327"/>
                </a:lnTo>
                <a:lnTo>
                  <a:pt x="465" y="347"/>
                </a:lnTo>
                <a:lnTo>
                  <a:pt x="466" y="347"/>
                </a:lnTo>
                <a:lnTo>
                  <a:pt x="469" y="347"/>
                </a:lnTo>
                <a:lnTo>
                  <a:pt x="491" y="347"/>
                </a:lnTo>
                <a:lnTo>
                  <a:pt x="565" y="347"/>
                </a:lnTo>
                <a:lnTo>
                  <a:pt x="621" y="347"/>
                </a:lnTo>
                <a:lnTo>
                  <a:pt x="625" y="347"/>
                </a:lnTo>
                <a:lnTo>
                  <a:pt x="627" y="346"/>
                </a:lnTo>
                <a:lnTo>
                  <a:pt x="643" y="330"/>
                </a:lnTo>
                <a:lnTo>
                  <a:pt x="696" y="273"/>
                </a:lnTo>
                <a:lnTo>
                  <a:pt x="737" y="231"/>
                </a:lnTo>
                <a:lnTo>
                  <a:pt x="740" y="228"/>
                </a:lnTo>
                <a:lnTo>
                  <a:pt x="737" y="227"/>
                </a:lnTo>
                <a:lnTo>
                  <a:pt x="721" y="211"/>
                </a:lnTo>
                <a:lnTo>
                  <a:pt x="667" y="157"/>
                </a:lnTo>
                <a:lnTo>
                  <a:pt x="627" y="115"/>
                </a:lnTo>
                <a:lnTo>
                  <a:pt x="625" y="113"/>
                </a:lnTo>
                <a:lnTo>
                  <a:pt x="630" y="110"/>
                </a:lnTo>
                <a:lnTo>
                  <a:pt x="644" y="97"/>
                </a:lnTo>
                <a:lnTo>
                  <a:pt x="654" y="86"/>
                </a:lnTo>
                <a:lnTo>
                  <a:pt x="656" y="85"/>
                </a:lnTo>
                <a:lnTo>
                  <a:pt x="678" y="95"/>
                </a:lnTo>
                <a:lnTo>
                  <a:pt x="747" y="121"/>
                </a:lnTo>
                <a:lnTo>
                  <a:pt x="799" y="143"/>
                </a:lnTo>
                <a:lnTo>
                  <a:pt x="802" y="143"/>
                </a:lnTo>
                <a:lnTo>
                  <a:pt x="807" y="139"/>
                </a:lnTo>
                <a:lnTo>
                  <a:pt x="820" y="126"/>
                </a:lnTo>
                <a:lnTo>
                  <a:pt x="830" y="115"/>
                </a:lnTo>
                <a:lnTo>
                  <a:pt x="831" y="114"/>
                </a:lnTo>
                <a:lnTo>
                  <a:pt x="833" y="114"/>
                </a:lnTo>
                <a:lnTo>
                  <a:pt x="846" y="114"/>
                </a:lnTo>
                <a:lnTo>
                  <a:pt x="892" y="114"/>
                </a:lnTo>
                <a:lnTo>
                  <a:pt x="927" y="114"/>
                </a:lnTo>
                <a:lnTo>
                  <a:pt x="930" y="113"/>
                </a:lnTo>
                <a:lnTo>
                  <a:pt x="930" y="111"/>
                </a:lnTo>
                <a:lnTo>
                  <a:pt x="934" y="101"/>
                </a:lnTo>
                <a:lnTo>
                  <a:pt x="947" y="62"/>
                </a:lnTo>
                <a:lnTo>
                  <a:pt x="957" y="33"/>
                </a:lnTo>
                <a:lnTo>
                  <a:pt x="959" y="30"/>
                </a:lnTo>
                <a:lnTo>
                  <a:pt x="957" y="26"/>
                </a:lnTo>
                <a:lnTo>
                  <a:pt x="953" y="11"/>
                </a:lnTo>
                <a:lnTo>
                  <a:pt x="951" y="1"/>
                </a:lnTo>
                <a:lnTo>
                  <a:pt x="951" y="0"/>
                </a:lnTo>
                <a:lnTo>
                  <a:pt x="962" y="4"/>
                </a:lnTo>
                <a:lnTo>
                  <a:pt x="996" y="14"/>
                </a:lnTo>
                <a:lnTo>
                  <a:pt x="1022" y="21"/>
                </a:lnTo>
                <a:lnTo>
                  <a:pt x="1024" y="21"/>
                </a:lnTo>
                <a:lnTo>
                  <a:pt x="1024" y="29"/>
                </a:lnTo>
                <a:lnTo>
                  <a:pt x="1022" y="47"/>
                </a:lnTo>
                <a:lnTo>
                  <a:pt x="1022" y="62"/>
                </a:lnTo>
                <a:lnTo>
                  <a:pt x="1024" y="62"/>
                </a:lnTo>
                <a:lnTo>
                  <a:pt x="1028" y="65"/>
                </a:lnTo>
                <a:lnTo>
                  <a:pt x="1041" y="72"/>
                </a:lnTo>
                <a:lnTo>
                  <a:pt x="1051" y="78"/>
                </a:lnTo>
                <a:lnTo>
                  <a:pt x="1053" y="78"/>
                </a:lnTo>
                <a:lnTo>
                  <a:pt x="1053" y="82"/>
                </a:lnTo>
                <a:lnTo>
                  <a:pt x="1057" y="108"/>
                </a:lnTo>
                <a:lnTo>
                  <a:pt x="1072" y="197"/>
                </a:lnTo>
                <a:lnTo>
                  <a:pt x="1082" y="265"/>
                </a:lnTo>
                <a:lnTo>
                  <a:pt x="1083" y="268"/>
                </a:lnTo>
                <a:lnTo>
                  <a:pt x="1088" y="275"/>
                </a:lnTo>
                <a:lnTo>
                  <a:pt x="1101" y="295"/>
                </a:lnTo>
                <a:lnTo>
                  <a:pt x="1111" y="311"/>
                </a:lnTo>
                <a:lnTo>
                  <a:pt x="1112" y="311"/>
                </a:lnTo>
                <a:lnTo>
                  <a:pt x="1115" y="311"/>
                </a:lnTo>
                <a:lnTo>
                  <a:pt x="1144" y="301"/>
                </a:lnTo>
                <a:lnTo>
                  <a:pt x="1244" y="266"/>
                </a:lnTo>
                <a:lnTo>
                  <a:pt x="1319" y="240"/>
                </a:lnTo>
                <a:lnTo>
                  <a:pt x="1324" y="239"/>
                </a:lnTo>
                <a:lnTo>
                  <a:pt x="1331" y="233"/>
                </a:lnTo>
                <a:lnTo>
                  <a:pt x="1356" y="211"/>
                </a:lnTo>
                <a:lnTo>
                  <a:pt x="1374" y="195"/>
                </a:lnTo>
                <a:lnTo>
                  <a:pt x="1376" y="194"/>
                </a:lnTo>
                <a:lnTo>
                  <a:pt x="1386" y="200"/>
                </a:lnTo>
                <a:lnTo>
                  <a:pt x="1416" y="214"/>
                </a:lnTo>
                <a:lnTo>
                  <a:pt x="1441" y="224"/>
                </a:lnTo>
                <a:lnTo>
                  <a:pt x="1443" y="224"/>
                </a:lnTo>
                <a:lnTo>
                  <a:pt x="1444" y="224"/>
                </a:lnTo>
                <a:lnTo>
                  <a:pt x="1453" y="223"/>
                </a:lnTo>
                <a:lnTo>
                  <a:pt x="1487" y="215"/>
                </a:lnTo>
                <a:lnTo>
                  <a:pt x="1514" y="210"/>
                </a:lnTo>
                <a:lnTo>
                  <a:pt x="1516" y="208"/>
                </a:lnTo>
                <a:lnTo>
                  <a:pt x="1522" y="213"/>
                </a:lnTo>
                <a:lnTo>
                  <a:pt x="1543" y="226"/>
                </a:lnTo>
                <a:lnTo>
                  <a:pt x="1558" y="234"/>
                </a:lnTo>
                <a:lnTo>
                  <a:pt x="1560" y="234"/>
                </a:lnTo>
                <a:lnTo>
                  <a:pt x="1566" y="233"/>
                </a:lnTo>
                <a:lnTo>
                  <a:pt x="1583" y="228"/>
                </a:lnTo>
                <a:lnTo>
                  <a:pt x="1596" y="226"/>
                </a:lnTo>
                <a:lnTo>
                  <a:pt x="1598" y="224"/>
                </a:lnTo>
                <a:lnTo>
                  <a:pt x="1599" y="221"/>
                </a:lnTo>
                <a:lnTo>
                  <a:pt x="1609" y="201"/>
                </a:lnTo>
                <a:lnTo>
                  <a:pt x="1645" y="130"/>
                </a:lnTo>
                <a:lnTo>
                  <a:pt x="1673" y="76"/>
                </a:lnTo>
                <a:lnTo>
                  <a:pt x="1676" y="72"/>
                </a:lnTo>
                <a:lnTo>
                  <a:pt x="1674" y="72"/>
                </a:lnTo>
                <a:lnTo>
                  <a:pt x="1676" y="72"/>
                </a:lnTo>
                <a:lnTo>
                  <a:pt x="1674" y="72"/>
                </a:lnTo>
                <a:lnTo>
                  <a:pt x="1676" y="72"/>
                </a:lnTo>
                <a:lnTo>
                  <a:pt x="1682" y="76"/>
                </a:lnTo>
                <a:lnTo>
                  <a:pt x="1700" y="89"/>
                </a:lnTo>
                <a:lnTo>
                  <a:pt x="1715" y="100"/>
                </a:lnTo>
                <a:lnTo>
                  <a:pt x="1716" y="100"/>
                </a:lnTo>
                <a:lnTo>
                  <a:pt x="1716" y="10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rot="20711400">
            <a:off x="3959280" y="2280960"/>
            <a:ext cx="1888920" cy="1752480"/>
          </a:xfrm>
          <a:custGeom>
            <a:avLst/>
            <a:gdLst>
              <a:gd name="textAreaLeft" fmla="*/ 0 w 1888920"/>
              <a:gd name="textAreaRight" fmla="*/ 1889280 w 18889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2256" y="11141"/>
                </a:moveTo>
                <a:arcTo wR="-8551" hR="-8551" stAng="10662884" swAng="-7830807"/>
                <a:lnTo>
                  <a:pt x="3462" y="2876"/>
                </a:lnTo>
                <a:arcTo wR="10800" hR="10800" stAng="-7967923" swAng="7830807"/>
                <a:lnTo>
                  <a:pt x="24289" y="10262"/>
                </a:lnTo>
                <a:lnTo>
                  <a:pt x="20620" y="14236"/>
                </a:lnTo>
                <a:lnTo>
                  <a:pt x="16646" y="1056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9699000">
            <a:off x="4111560" y="2433600"/>
            <a:ext cx="1835280" cy="1736640"/>
          </a:xfrm>
          <a:custGeom>
            <a:avLst/>
            <a:gdLst>
              <a:gd name="textAreaLeft" fmla="*/ 0 w 1835280"/>
              <a:gd name="textAreaRight" fmla="*/ 1835640 w 1835280"/>
              <a:gd name="textAreaTop" fmla="*/ 0 h 1736640"/>
              <a:gd name="textAreaBottom" fmla="*/ 1737000 h 1736640"/>
            </a:gdLst>
            <a:ahLst/>
            <a:rect l="textAreaLeft" t="textAreaTop" r="textAreaRight" b="textAreaBottom"/>
            <a:pathLst>
              <a:path w="21600" h="21600">
                <a:moveTo>
                  <a:pt x="2256" y="11141"/>
                </a:moveTo>
                <a:arcTo wR="-8551" hR="-8551" stAng="10662884" swAng="-7830807"/>
                <a:lnTo>
                  <a:pt x="3462" y="2876"/>
                </a:lnTo>
                <a:arcTo wR="10800" hR="10800" stAng="-7967923" swAng="7830807"/>
                <a:lnTo>
                  <a:pt x="24289" y="10262"/>
                </a:lnTo>
                <a:lnTo>
                  <a:pt x="20620" y="14236"/>
                </a:lnTo>
                <a:lnTo>
                  <a:pt x="16646" y="1056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102280" y="62434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407200" y="5634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59280" y="5634000"/>
            <a:ext cx="5943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III. México recibirá mayores flujos de inversión japones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2560" y="6700680"/>
            <a:ext cx="922032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79000" y="0"/>
            <a:ext cx="182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89400" y="635040"/>
            <a:ext cx="7439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Con el Acuerdo de Asociación Económ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453960" y="2052720"/>
            <a:ext cx="929664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226360" y="0"/>
            <a:ext cx="137340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78000" y="1062000"/>
            <a:ext cx="94820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e una alta correlación entre la disminución de las barreras arancelarias y los flujos de 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578400" y="6765840"/>
            <a:ext cx="66261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Fuente: Consejería Comercial de Bancomext en Tok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225360" y="2795760"/>
          <a:ext cx="9601200" cy="390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2795760"/>
                    <a:ext cx="9601200" cy="39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"/>
          <p:cNvSpPr/>
          <p:nvPr/>
        </p:nvSpPr>
        <p:spPr>
          <a:xfrm>
            <a:off x="1749600" y="2433600"/>
            <a:ext cx="72165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nversión directa japonesa anunciada acumulada. Millones de dó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453960" y="1976400"/>
            <a:ext cx="929664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225280" y="29988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78000" y="1062000"/>
            <a:ext cx="94820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cios de mayores flujos de la Inversión japones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53960" y="296712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11360" y="4033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87480" y="411012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53960" y="2433600"/>
            <a:ext cx="9372600" cy="3733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29560" y="2738520"/>
            <a:ext cx="13222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.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8000" y="3348000"/>
            <a:ext cx="944856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Las </a:t>
            </a:r>
            <a:r>
              <a:rPr b="0" lang="es-ES_tradnl" sz="2000" spc="-1" strike="noStrike">
                <a:solidFill>
                  <a:srgbClr val="0000cc"/>
                </a:solidFill>
                <a:latin typeface="Arial"/>
              </a:rPr>
              <a:t>empresas japonesas del sector manufacturero emplean 132,137 perso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Arial"/>
              </a:rPr>
              <a:t>El 3% de los empleos del total de empleos registrados en el sector manufacturero en el IMSS corresponden a empresas japonesas establecidas en Méx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Arial"/>
              </a:rPr>
              <a:t>Se estima que con la entrada en vigor del AAE, se generarán 820,000 empl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Arial"/>
              </a:rPr>
              <a:t>durante los próximos diez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239240" y="6548400"/>
            <a:ext cx="25124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Fuente: JETRO MÉX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453960" y="1976400"/>
            <a:ext cx="929664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225280" y="29988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8000" y="1062000"/>
            <a:ext cx="94820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cios de mayores flujos de la Inversión japones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3960" y="296712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11360" y="4033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987480" y="411012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53960" y="2433600"/>
            <a:ext cx="9372600" cy="3733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50360" y="2738520"/>
            <a:ext cx="3077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I. Capacit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53960" y="3348000"/>
            <a:ext cx="9372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anasonic</a:t>
            </a:r>
            <a:r>
              <a:rPr b="0" lang="es-MX" sz="2000" spc="-1" strike="noStrike">
                <a:solidFill>
                  <a:srgbClr val="0000cc"/>
                </a:solidFill>
                <a:latin typeface="Arial"/>
              </a:rPr>
              <a:t> estableció cursos de educación primaria y secundaria para adul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cc"/>
                </a:solidFill>
                <a:latin typeface="Arial"/>
              </a:rPr>
              <a:t>Toyota estableció el Instituto Técnico Automotriz para beneficio de todas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cc"/>
                </a:solidFill>
                <a:latin typeface="Arial"/>
              </a:rPr>
              <a:t>empresas automotrices mexic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cc"/>
                </a:solidFill>
                <a:latin typeface="Arial"/>
              </a:rPr>
              <a:t>Nissan contribuyó con 25 mil dólares a la Asociación Nacional de Oportunid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cc"/>
                </a:solidFill>
                <a:latin typeface="Arial"/>
              </a:rPr>
              <a:t>equitativas en Educación Superi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010640" y="6548400"/>
            <a:ext cx="25124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Fuente: JETRO MÉX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53960" y="1976400"/>
            <a:ext cx="929664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225280" y="29988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8000" y="1062000"/>
            <a:ext cx="94820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cios de mayores flujos de la Inversión japones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53960" y="296712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511360" y="4033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987480" y="411012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53960" y="2433600"/>
            <a:ext cx="9372600" cy="3733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960" y="2738520"/>
            <a:ext cx="46429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II.  Inversión de Alto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53960" y="3348000"/>
            <a:ext cx="937260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cc"/>
                </a:solidFill>
                <a:latin typeface="Arial"/>
              </a:rPr>
              <a:t>Expansión de capacidad en la industria automotriz y reconversión a product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cc"/>
                </a:solidFill>
                <a:latin typeface="Arial"/>
              </a:rPr>
              <a:t>alto valor agregado en el sector electrón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cc"/>
                </a:solidFill>
                <a:latin typeface="Arial"/>
              </a:rPr>
              <a:t>IV. Transferencia de Tecnología y métodos de organ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cc"/>
                </a:solidFill>
                <a:latin typeface="Arial"/>
              </a:rPr>
              <a:t>Aprendizaje de las últimas técnicas de manufactura y de administración de Jap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934320" y="6624720"/>
            <a:ext cx="25124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Fuente: JETRO MÉX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987480" y="2509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30280" y="182412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82560" y="83340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2560" y="1138320"/>
            <a:ext cx="922032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311960" y="1214280"/>
            <a:ext cx="193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116000" y="1287360"/>
            <a:ext cx="2635200" cy="1282680"/>
          </a:xfrm>
          <a:custGeom>
            <a:avLst/>
            <a:gdLst/>
            <a:ahLst/>
            <a:rect l="l" t="t" r="r" b="b"/>
            <a:pathLst>
              <a:path w="3048" h="1564">
                <a:moveTo>
                  <a:pt x="58" y="1390"/>
                </a:moveTo>
                <a:lnTo>
                  <a:pt x="59" y="1390"/>
                </a:lnTo>
                <a:lnTo>
                  <a:pt x="69" y="1385"/>
                </a:lnTo>
                <a:lnTo>
                  <a:pt x="103" y="1367"/>
                </a:lnTo>
                <a:lnTo>
                  <a:pt x="129" y="1352"/>
                </a:lnTo>
                <a:lnTo>
                  <a:pt x="132" y="1352"/>
                </a:lnTo>
                <a:lnTo>
                  <a:pt x="134" y="1350"/>
                </a:lnTo>
                <a:lnTo>
                  <a:pt x="155" y="1341"/>
                </a:lnTo>
                <a:lnTo>
                  <a:pt x="223" y="1308"/>
                </a:lnTo>
                <a:lnTo>
                  <a:pt x="291" y="1261"/>
                </a:lnTo>
                <a:lnTo>
                  <a:pt x="280" y="1281"/>
                </a:lnTo>
                <a:lnTo>
                  <a:pt x="284" y="1276"/>
                </a:lnTo>
                <a:lnTo>
                  <a:pt x="318" y="1234"/>
                </a:lnTo>
                <a:lnTo>
                  <a:pt x="405" y="1125"/>
                </a:lnTo>
                <a:lnTo>
                  <a:pt x="476" y="1036"/>
                </a:lnTo>
                <a:lnTo>
                  <a:pt x="481" y="1031"/>
                </a:lnTo>
                <a:lnTo>
                  <a:pt x="485" y="1028"/>
                </a:lnTo>
                <a:lnTo>
                  <a:pt x="514" y="1005"/>
                </a:lnTo>
                <a:lnTo>
                  <a:pt x="613" y="928"/>
                </a:lnTo>
                <a:lnTo>
                  <a:pt x="689" y="869"/>
                </a:lnTo>
                <a:lnTo>
                  <a:pt x="693" y="866"/>
                </a:lnTo>
                <a:lnTo>
                  <a:pt x="694" y="863"/>
                </a:lnTo>
                <a:lnTo>
                  <a:pt x="699" y="850"/>
                </a:lnTo>
                <a:lnTo>
                  <a:pt x="719" y="803"/>
                </a:lnTo>
                <a:lnTo>
                  <a:pt x="732" y="767"/>
                </a:lnTo>
                <a:lnTo>
                  <a:pt x="734" y="765"/>
                </a:lnTo>
                <a:lnTo>
                  <a:pt x="736" y="764"/>
                </a:lnTo>
                <a:lnTo>
                  <a:pt x="750" y="760"/>
                </a:lnTo>
                <a:lnTo>
                  <a:pt x="772" y="748"/>
                </a:lnTo>
                <a:lnTo>
                  <a:pt x="820" y="746"/>
                </a:lnTo>
                <a:lnTo>
                  <a:pt x="834" y="748"/>
                </a:lnTo>
                <a:lnTo>
                  <a:pt x="832" y="772"/>
                </a:lnTo>
                <a:lnTo>
                  <a:pt x="836" y="754"/>
                </a:lnTo>
                <a:lnTo>
                  <a:pt x="834" y="802"/>
                </a:lnTo>
                <a:lnTo>
                  <a:pt x="836" y="864"/>
                </a:lnTo>
                <a:lnTo>
                  <a:pt x="836" y="867"/>
                </a:lnTo>
                <a:lnTo>
                  <a:pt x="834" y="868"/>
                </a:lnTo>
                <a:lnTo>
                  <a:pt x="825" y="879"/>
                </a:lnTo>
                <a:lnTo>
                  <a:pt x="792" y="917"/>
                </a:lnTo>
                <a:lnTo>
                  <a:pt x="767" y="946"/>
                </a:lnTo>
                <a:lnTo>
                  <a:pt x="765" y="947"/>
                </a:lnTo>
                <a:lnTo>
                  <a:pt x="773" y="944"/>
                </a:lnTo>
                <a:lnTo>
                  <a:pt x="796" y="936"/>
                </a:lnTo>
                <a:lnTo>
                  <a:pt x="814" y="930"/>
                </a:lnTo>
                <a:lnTo>
                  <a:pt x="815" y="929"/>
                </a:lnTo>
                <a:lnTo>
                  <a:pt x="817" y="929"/>
                </a:lnTo>
                <a:lnTo>
                  <a:pt x="852" y="932"/>
                </a:lnTo>
                <a:lnTo>
                  <a:pt x="886" y="908"/>
                </a:lnTo>
                <a:lnTo>
                  <a:pt x="885" y="882"/>
                </a:lnTo>
                <a:lnTo>
                  <a:pt x="887" y="880"/>
                </a:lnTo>
                <a:lnTo>
                  <a:pt x="888" y="881"/>
                </a:lnTo>
                <a:lnTo>
                  <a:pt x="895" y="885"/>
                </a:lnTo>
                <a:lnTo>
                  <a:pt x="920" y="901"/>
                </a:lnTo>
                <a:lnTo>
                  <a:pt x="939" y="914"/>
                </a:lnTo>
                <a:lnTo>
                  <a:pt x="940" y="914"/>
                </a:lnTo>
                <a:lnTo>
                  <a:pt x="940" y="907"/>
                </a:lnTo>
                <a:lnTo>
                  <a:pt x="940" y="887"/>
                </a:lnTo>
                <a:lnTo>
                  <a:pt x="940" y="872"/>
                </a:lnTo>
                <a:lnTo>
                  <a:pt x="940" y="871"/>
                </a:lnTo>
                <a:lnTo>
                  <a:pt x="939" y="871"/>
                </a:lnTo>
                <a:lnTo>
                  <a:pt x="932" y="867"/>
                </a:lnTo>
                <a:lnTo>
                  <a:pt x="908" y="856"/>
                </a:lnTo>
                <a:lnTo>
                  <a:pt x="889" y="847"/>
                </a:lnTo>
                <a:lnTo>
                  <a:pt x="888" y="846"/>
                </a:lnTo>
                <a:lnTo>
                  <a:pt x="887" y="845"/>
                </a:lnTo>
                <a:lnTo>
                  <a:pt x="885" y="836"/>
                </a:lnTo>
                <a:lnTo>
                  <a:pt x="877" y="804"/>
                </a:lnTo>
                <a:lnTo>
                  <a:pt x="871" y="780"/>
                </a:lnTo>
                <a:lnTo>
                  <a:pt x="871" y="779"/>
                </a:lnTo>
                <a:lnTo>
                  <a:pt x="872" y="778"/>
                </a:lnTo>
                <a:lnTo>
                  <a:pt x="883" y="773"/>
                </a:lnTo>
                <a:lnTo>
                  <a:pt x="916" y="757"/>
                </a:lnTo>
                <a:lnTo>
                  <a:pt x="941" y="744"/>
                </a:lnTo>
                <a:lnTo>
                  <a:pt x="943" y="744"/>
                </a:lnTo>
                <a:lnTo>
                  <a:pt x="948" y="747"/>
                </a:lnTo>
                <a:lnTo>
                  <a:pt x="962" y="753"/>
                </a:lnTo>
                <a:lnTo>
                  <a:pt x="972" y="758"/>
                </a:lnTo>
                <a:lnTo>
                  <a:pt x="973" y="758"/>
                </a:lnTo>
                <a:lnTo>
                  <a:pt x="974" y="761"/>
                </a:lnTo>
                <a:lnTo>
                  <a:pt x="1024" y="820"/>
                </a:lnTo>
                <a:lnTo>
                  <a:pt x="1044" y="840"/>
                </a:lnTo>
                <a:lnTo>
                  <a:pt x="1056" y="842"/>
                </a:lnTo>
                <a:lnTo>
                  <a:pt x="1044" y="856"/>
                </a:lnTo>
                <a:lnTo>
                  <a:pt x="1042" y="853"/>
                </a:lnTo>
                <a:lnTo>
                  <a:pt x="1056" y="838"/>
                </a:lnTo>
                <a:lnTo>
                  <a:pt x="1006" y="761"/>
                </a:lnTo>
                <a:lnTo>
                  <a:pt x="986" y="706"/>
                </a:lnTo>
                <a:lnTo>
                  <a:pt x="984" y="703"/>
                </a:lnTo>
                <a:lnTo>
                  <a:pt x="988" y="701"/>
                </a:lnTo>
                <a:lnTo>
                  <a:pt x="1024" y="668"/>
                </a:lnTo>
                <a:lnTo>
                  <a:pt x="1062" y="650"/>
                </a:lnTo>
                <a:lnTo>
                  <a:pt x="1110" y="652"/>
                </a:lnTo>
                <a:lnTo>
                  <a:pt x="1156" y="606"/>
                </a:lnTo>
                <a:lnTo>
                  <a:pt x="1160" y="604"/>
                </a:lnTo>
                <a:lnTo>
                  <a:pt x="1167" y="606"/>
                </a:lnTo>
                <a:lnTo>
                  <a:pt x="1188" y="610"/>
                </a:lnTo>
                <a:lnTo>
                  <a:pt x="1204" y="613"/>
                </a:lnTo>
                <a:lnTo>
                  <a:pt x="1206" y="613"/>
                </a:lnTo>
                <a:lnTo>
                  <a:pt x="1207" y="612"/>
                </a:lnTo>
                <a:lnTo>
                  <a:pt x="1216" y="605"/>
                </a:lnTo>
                <a:lnTo>
                  <a:pt x="1245" y="581"/>
                </a:lnTo>
                <a:lnTo>
                  <a:pt x="1268" y="563"/>
                </a:lnTo>
                <a:lnTo>
                  <a:pt x="1270" y="562"/>
                </a:lnTo>
                <a:lnTo>
                  <a:pt x="1272" y="562"/>
                </a:lnTo>
                <a:lnTo>
                  <a:pt x="1289" y="561"/>
                </a:lnTo>
                <a:lnTo>
                  <a:pt x="1347" y="559"/>
                </a:lnTo>
                <a:lnTo>
                  <a:pt x="1391" y="557"/>
                </a:lnTo>
                <a:lnTo>
                  <a:pt x="1394" y="557"/>
                </a:lnTo>
                <a:lnTo>
                  <a:pt x="1394" y="558"/>
                </a:lnTo>
                <a:lnTo>
                  <a:pt x="1400" y="561"/>
                </a:lnTo>
                <a:lnTo>
                  <a:pt x="1419" y="574"/>
                </a:lnTo>
                <a:lnTo>
                  <a:pt x="1432" y="583"/>
                </a:lnTo>
                <a:lnTo>
                  <a:pt x="1433" y="584"/>
                </a:lnTo>
                <a:lnTo>
                  <a:pt x="1432" y="585"/>
                </a:lnTo>
                <a:lnTo>
                  <a:pt x="1423" y="595"/>
                </a:lnTo>
                <a:lnTo>
                  <a:pt x="1390" y="627"/>
                </a:lnTo>
                <a:lnTo>
                  <a:pt x="1346" y="660"/>
                </a:lnTo>
                <a:lnTo>
                  <a:pt x="1365" y="653"/>
                </a:lnTo>
                <a:lnTo>
                  <a:pt x="1364" y="655"/>
                </a:lnTo>
                <a:lnTo>
                  <a:pt x="1363" y="662"/>
                </a:lnTo>
                <a:lnTo>
                  <a:pt x="1346" y="686"/>
                </a:lnTo>
                <a:lnTo>
                  <a:pt x="1350" y="708"/>
                </a:lnTo>
                <a:lnTo>
                  <a:pt x="1354" y="708"/>
                </a:lnTo>
                <a:lnTo>
                  <a:pt x="1354" y="709"/>
                </a:lnTo>
                <a:lnTo>
                  <a:pt x="1355" y="708"/>
                </a:lnTo>
                <a:lnTo>
                  <a:pt x="1380" y="702"/>
                </a:lnTo>
                <a:lnTo>
                  <a:pt x="1402" y="657"/>
                </a:lnTo>
                <a:lnTo>
                  <a:pt x="1429" y="628"/>
                </a:lnTo>
                <a:lnTo>
                  <a:pt x="1431" y="626"/>
                </a:lnTo>
                <a:lnTo>
                  <a:pt x="1433" y="626"/>
                </a:lnTo>
                <a:lnTo>
                  <a:pt x="1452" y="623"/>
                </a:lnTo>
                <a:lnTo>
                  <a:pt x="1533" y="631"/>
                </a:lnTo>
                <a:lnTo>
                  <a:pt x="1590" y="634"/>
                </a:lnTo>
                <a:lnTo>
                  <a:pt x="1586" y="624"/>
                </a:lnTo>
                <a:lnTo>
                  <a:pt x="1584" y="630"/>
                </a:lnTo>
                <a:lnTo>
                  <a:pt x="1588" y="628"/>
                </a:lnTo>
                <a:lnTo>
                  <a:pt x="1586" y="638"/>
                </a:lnTo>
                <a:lnTo>
                  <a:pt x="1587" y="622"/>
                </a:lnTo>
                <a:lnTo>
                  <a:pt x="1608" y="598"/>
                </a:lnTo>
                <a:lnTo>
                  <a:pt x="1610" y="596"/>
                </a:lnTo>
                <a:lnTo>
                  <a:pt x="1616" y="604"/>
                </a:lnTo>
                <a:lnTo>
                  <a:pt x="1616" y="598"/>
                </a:lnTo>
                <a:lnTo>
                  <a:pt x="1617" y="592"/>
                </a:lnTo>
                <a:lnTo>
                  <a:pt x="1645" y="577"/>
                </a:lnTo>
                <a:lnTo>
                  <a:pt x="1648" y="576"/>
                </a:lnTo>
                <a:lnTo>
                  <a:pt x="1649" y="577"/>
                </a:lnTo>
                <a:lnTo>
                  <a:pt x="1665" y="604"/>
                </a:lnTo>
                <a:lnTo>
                  <a:pt x="1692" y="599"/>
                </a:lnTo>
                <a:lnTo>
                  <a:pt x="1707" y="616"/>
                </a:lnTo>
                <a:lnTo>
                  <a:pt x="1718" y="611"/>
                </a:lnTo>
                <a:lnTo>
                  <a:pt x="1721" y="612"/>
                </a:lnTo>
                <a:lnTo>
                  <a:pt x="1722" y="612"/>
                </a:lnTo>
                <a:lnTo>
                  <a:pt x="1734" y="612"/>
                </a:lnTo>
                <a:lnTo>
                  <a:pt x="1776" y="640"/>
                </a:lnTo>
                <a:lnTo>
                  <a:pt x="1807" y="612"/>
                </a:lnTo>
                <a:lnTo>
                  <a:pt x="1808" y="612"/>
                </a:lnTo>
                <a:lnTo>
                  <a:pt x="1807" y="611"/>
                </a:lnTo>
                <a:lnTo>
                  <a:pt x="1802" y="608"/>
                </a:lnTo>
                <a:lnTo>
                  <a:pt x="1782" y="597"/>
                </a:lnTo>
                <a:lnTo>
                  <a:pt x="1766" y="589"/>
                </a:lnTo>
                <a:lnTo>
                  <a:pt x="1765" y="588"/>
                </a:lnTo>
                <a:lnTo>
                  <a:pt x="1767" y="588"/>
                </a:lnTo>
                <a:lnTo>
                  <a:pt x="1779" y="581"/>
                </a:lnTo>
                <a:lnTo>
                  <a:pt x="1822" y="558"/>
                </a:lnTo>
                <a:lnTo>
                  <a:pt x="1855" y="541"/>
                </a:lnTo>
                <a:lnTo>
                  <a:pt x="1857" y="540"/>
                </a:lnTo>
                <a:lnTo>
                  <a:pt x="1857" y="539"/>
                </a:lnTo>
                <a:lnTo>
                  <a:pt x="1852" y="535"/>
                </a:lnTo>
                <a:lnTo>
                  <a:pt x="1837" y="521"/>
                </a:lnTo>
                <a:lnTo>
                  <a:pt x="1825" y="510"/>
                </a:lnTo>
                <a:lnTo>
                  <a:pt x="1825" y="509"/>
                </a:lnTo>
                <a:lnTo>
                  <a:pt x="1825" y="509"/>
                </a:lnTo>
                <a:lnTo>
                  <a:pt x="1828" y="502"/>
                </a:lnTo>
                <a:lnTo>
                  <a:pt x="1835" y="482"/>
                </a:lnTo>
                <a:lnTo>
                  <a:pt x="1842" y="466"/>
                </a:lnTo>
                <a:lnTo>
                  <a:pt x="1842" y="465"/>
                </a:lnTo>
                <a:lnTo>
                  <a:pt x="1845" y="465"/>
                </a:lnTo>
                <a:lnTo>
                  <a:pt x="1864" y="460"/>
                </a:lnTo>
                <a:lnTo>
                  <a:pt x="1929" y="445"/>
                </a:lnTo>
                <a:lnTo>
                  <a:pt x="1977" y="434"/>
                </a:lnTo>
                <a:lnTo>
                  <a:pt x="1980" y="433"/>
                </a:lnTo>
                <a:lnTo>
                  <a:pt x="1981" y="433"/>
                </a:lnTo>
                <a:lnTo>
                  <a:pt x="1993" y="423"/>
                </a:lnTo>
                <a:lnTo>
                  <a:pt x="2030" y="393"/>
                </a:lnTo>
                <a:lnTo>
                  <a:pt x="2059" y="371"/>
                </a:lnTo>
                <a:lnTo>
                  <a:pt x="2062" y="369"/>
                </a:lnTo>
                <a:lnTo>
                  <a:pt x="2064" y="369"/>
                </a:lnTo>
                <a:lnTo>
                  <a:pt x="2083" y="368"/>
                </a:lnTo>
                <a:lnTo>
                  <a:pt x="2151" y="364"/>
                </a:lnTo>
                <a:lnTo>
                  <a:pt x="2203" y="361"/>
                </a:lnTo>
                <a:lnTo>
                  <a:pt x="2206" y="361"/>
                </a:lnTo>
                <a:lnTo>
                  <a:pt x="2205" y="360"/>
                </a:lnTo>
                <a:lnTo>
                  <a:pt x="2195" y="355"/>
                </a:lnTo>
                <a:lnTo>
                  <a:pt x="2166" y="337"/>
                </a:lnTo>
                <a:lnTo>
                  <a:pt x="2141" y="324"/>
                </a:lnTo>
                <a:lnTo>
                  <a:pt x="2141" y="323"/>
                </a:lnTo>
                <a:lnTo>
                  <a:pt x="2141" y="322"/>
                </a:lnTo>
                <a:lnTo>
                  <a:pt x="2143" y="318"/>
                </a:lnTo>
                <a:lnTo>
                  <a:pt x="2149" y="303"/>
                </a:lnTo>
                <a:lnTo>
                  <a:pt x="2155" y="293"/>
                </a:lnTo>
                <a:lnTo>
                  <a:pt x="2156" y="291"/>
                </a:lnTo>
                <a:lnTo>
                  <a:pt x="2157" y="291"/>
                </a:lnTo>
                <a:lnTo>
                  <a:pt x="2170" y="287"/>
                </a:lnTo>
                <a:lnTo>
                  <a:pt x="2213" y="271"/>
                </a:lnTo>
                <a:lnTo>
                  <a:pt x="2247" y="259"/>
                </a:lnTo>
                <a:lnTo>
                  <a:pt x="2249" y="259"/>
                </a:lnTo>
                <a:lnTo>
                  <a:pt x="2247" y="258"/>
                </a:lnTo>
                <a:lnTo>
                  <a:pt x="2235" y="255"/>
                </a:lnTo>
                <a:lnTo>
                  <a:pt x="2197" y="241"/>
                </a:lnTo>
                <a:lnTo>
                  <a:pt x="2169" y="231"/>
                </a:lnTo>
                <a:lnTo>
                  <a:pt x="2167" y="230"/>
                </a:lnTo>
                <a:lnTo>
                  <a:pt x="2169" y="228"/>
                </a:lnTo>
                <a:lnTo>
                  <a:pt x="2182" y="211"/>
                </a:lnTo>
                <a:lnTo>
                  <a:pt x="2212" y="172"/>
                </a:lnTo>
                <a:lnTo>
                  <a:pt x="2246" y="144"/>
                </a:lnTo>
                <a:lnTo>
                  <a:pt x="2257" y="102"/>
                </a:lnTo>
                <a:lnTo>
                  <a:pt x="2259" y="102"/>
                </a:lnTo>
                <a:lnTo>
                  <a:pt x="2272" y="104"/>
                </a:lnTo>
                <a:lnTo>
                  <a:pt x="2314" y="90"/>
                </a:lnTo>
                <a:lnTo>
                  <a:pt x="2344" y="83"/>
                </a:lnTo>
                <a:lnTo>
                  <a:pt x="2347" y="82"/>
                </a:lnTo>
                <a:lnTo>
                  <a:pt x="2340" y="78"/>
                </a:lnTo>
                <a:lnTo>
                  <a:pt x="2322" y="63"/>
                </a:lnTo>
                <a:lnTo>
                  <a:pt x="2309" y="52"/>
                </a:lnTo>
                <a:lnTo>
                  <a:pt x="2308" y="51"/>
                </a:lnTo>
                <a:lnTo>
                  <a:pt x="2309" y="50"/>
                </a:lnTo>
                <a:lnTo>
                  <a:pt x="2318" y="44"/>
                </a:lnTo>
                <a:lnTo>
                  <a:pt x="2346" y="20"/>
                </a:lnTo>
                <a:lnTo>
                  <a:pt x="2368" y="2"/>
                </a:lnTo>
                <a:lnTo>
                  <a:pt x="2369" y="0"/>
                </a:lnTo>
                <a:lnTo>
                  <a:pt x="2369" y="1"/>
                </a:lnTo>
                <a:lnTo>
                  <a:pt x="2375" y="3"/>
                </a:lnTo>
                <a:lnTo>
                  <a:pt x="2393" y="12"/>
                </a:lnTo>
                <a:lnTo>
                  <a:pt x="2408" y="18"/>
                </a:lnTo>
                <a:lnTo>
                  <a:pt x="2409" y="18"/>
                </a:lnTo>
                <a:lnTo>
                  <a:pt x="2409" y="19"/>
                </a:lnTo>
                <a:lnTo>
                  <a:pt x="2410" y="24"/>
                </a:lnTo>
                <a:lnTo>
                  <a:pt x="2413" y="39"/>
                </a:lnTo>
                <a:lnTo>
                  <a:pt x="2415" y="51"/>
                </a:lnTo>
                <a:lnTo>
                  <a:pt x="2416" y="51"/>
                </a:lnTo>
                <a:lnTo>
                  <a:pt x="2424" y="52"/>
                </a:lnTo>
                <a:lnTo>
                  <a:pt x="2449" y="56"/>
                </a:lnTo>
                <a:lnTo>
                  <a:pt x="2469" y="59"/>
                </a:lnTo>
                <a:lnTo>
                  <a:pt x="2470" y="59"/>
                </a:lnTo>
                <a:lnTo>
                  <a:pt x="2470" y="60"/>
                </a:lnTo>
                <a:lnTo>
                  <a:pt x="2470" y="63"/>
                </a:lnTo>
                <a:lnTo>
                  <a:pt x="2472" y="80"/>
                </a:lnTo>
                <a:lnTo>
                  <a:pt x="2473" y="92"/>
                </a:lnTo>
                <a:lnTo>
                  <a:pt x="2474" y="92"/>
                </a:lnTo>
                <a:lnTo>
                  <a:pt x="2472" y="94"/>
                </a:lnTo>
                <a:lnTo>
                  <a:pt x="2461" y="100"/>
                </a:lnTo>
                <a:lnTo>
                  <a:pt x="2422" y="122"/>
                </a:lnTo>
                <a:lnTo>
                  <a:pt x="2393" y="139"/>
                </a:lnTo>
                <a:lnTo>
                  <a:pt x="2391" y="140"/>
                </a:lnTo>
                <a:lnTo>
                  <a:pt x="2399" y="142"/>
                </a:lnTo>
                <a:lnTo>
                  <a:pt x="2423" y="146"/>
                </a:lnTo>
                <a:lnTo>
                  <a:pt x="2442" y="149"/>
                </a:lnTo>
                <a:lnTo>
                  <a:pt x="2443" y="149"/>
                </a:lnTo>
                <a:lnTo>
                  <a:pt x="2444" y="150"/>
                </a:lnTo>
                <a:lnTo>
                  <a:pt x="2451" y="157"/>
                </a:lnTo>
                <a:lnTo>
                  <a:pt x="2480" y="183"/>
                </a:lnTo>
                <a:lnTo>
                  <a:pt x="2502" y="202"/>
                </a:lnTo>
                <a:lnTo>
                  <a:pt x="2503" y="203"/>
                </a:lnTo>
                <a:lnTo>
                  <a:pt x="2505" y="202"/>
                </a:lnTo>
                <a:lnTo>
                  <a:pt x="2519" y="199"/>
                </a:lnTo>
                <a:lnTo>
                  <a:pt x="2570" y="186"/>
                </a:lnTo>
                <a:lnTo>
                  <a:pt x="2608" y="176"/>
                </a:lnTo>
                <a:lnTo>
                  <a:pt x="2610" y="175"/>
                </a:lnTo>
                <a:lnTo>
                  <a:pt x="2612" y="176"/>
                </a:lnTo>
                <a:lnTo>
                  <a:pt x="2618" y="181"/>
                </a:lnTo>
                <a:lnTo>
                  <a:pt x="2623" y="184"/>
                </a:lnTo>
                <a:lnTo>
                  <a:pt x="2623" y="184"/>
                </a:lnTo>
                <a:lnTo>
                  <a:pt x="2623" y="185"/>
                </a:lnTo>
                <a:lnTo>
                  <a:pt x="2618" y="192"/>
                </a:lnTo>
                <a:lnTo>
                  <a:pt x="2603" y="215"/>
                </a:lnTo>
                <a:lnTo>
                  <a:pt x="2592" y="234"/>
                </a:lnTo>
                <a:lnTo>
                  <a:pt x="2592" y="234"/>
                </a:lnTo>
                <a:lnTo>
                  <a:pt x="2594" y="237"/>
                </a:lnTo>
                <a:lnTo>
                  <a:pt x="2637" y="286"/>
                </a:lnTo>
                <a:lnTo>
                  <a:pt x="2670" y="313"/>
                </a:lnTo>
                <a:lnTo>
                  <a:pt x="2713" y="357"/>
                </a:lnTo>
                <a:lnTo>
                  <a:pt x="2716" y="360"/>
                </a:lnTo>
                <a:lnTo>
                  <a:pt x="2715" y="361"/>
                </a:lnTo>
                <a:lnTo>
                  <a:pt x="2711" y="371"/>
                </a:lnTo>
                <a:lnTo>
                  <a:pt x="2699" y="404"/>
                </a:lnTo>
                <a:lnTo>
                  <a:pt x="2688" y="428"/>
                </a:lnTo>
                <a:lnTo>
                  <a:pt x="2688" y="429"/>
                </a:lnTo>
                <a:lnTo>
                  <a:pt x="2688" y="431"/>
                </a:lnTo>
                <a:lnTo>
                  <a:pt x="2693" y="441"/>
                </a:lnTo>
                <a:lnTo>
                  <a:pt x="2706" y="476"/>
                </a:lnTo>
                <a:lnTo>
                  <a:pt x="2717" y="502"/>
                </a:lnTo>
                <a:lnTo>
                  <a:pt x="2717" y="504"/>
                </a:lnTo>
                <a:lnTo>
                  <a:pt x="2719" y="505"/>
                </a:lnTo>
                <a:lnTo>
                  <a:pt x="2736" y="508"/>
                </a:lnTo>
                <a:lnTo>
                  <a:pt x="2826" y="511"/>
                </a:lnTo>
                <a:lnTo>
                  <a:pt x="2834" y="530"/>
                </a:lnTo>
                <a:lnTo>
                  <a:pt x="2836" y="530"/>
                </a:lnTo>
                <a:lnTo>
                  <a:pt x="2838" y="531"/>
                </a:lnTo>
                <a:lnTo>
                  <a:pt x="2843" y="539"/>
                </a:lnTo>
                <a:lnTo>
                  <a:pt x="2877" y="592"/>
                </a:lnTo>
                <a:lnTo>
                  <a:pt x="2862" y="566"/>
                </a:lnTo>
                <a:lnTo>
                  <a:pt x="2876" y="586"/>
                </a:lnTo>
                <a:lnTo>
                  <a:pt x="2878" y="587"/>
                </a:lnTo>
                <a:lnTo>
                  <a:pt x="2879" y="588"/>
                </a:lnTo>
                <a:lnTo>
                  <a:pt x="2889" y="596"/>
                </a:lnTo>
                <a:lnTo>
                  <a:pt x="2886" y="616"/>
                </a:lnTo>
                <a:lnTo>
                  <a:pt x="2929" y="620"/>
                </a:lnTo>
                <a:lnTo>
                  <a:pt x="2925" y="649"/>
                </a:lnTo>
                <a:lnTo>
                  <a:pt x="2957" y="639"/>
                </a:lnTo>
                <a:lnTo>
                  <a:pt x="2960" y="639"/>
                </a:lnTo>
                <a:lnTo>
                  <a:pt x="2960" y="641"/>
                </a:lnTo>
                <a:lnTo>
                  <a:pt x="2968" y="653"/>
                </a:lnTo>
                <a:lnTo>
                  <a:pt x="2985" y="691"/>
                </a:lnTo>
                <a:lnTo>
                  <a:pt x="2994" y="694"/>
                </a:lnTo>
                <a:lnTo>
                  <a:pt x="3013" y="726"/>
                </a:lnTo>
                <a:lnTo>
                  <a:pt x="3015" y="727"/>
                </a:lnTo>
                <a:lnTo>
                  <a:pt x="3015" y="728"/>
                </a:lnTo>
                <a:lnTo>
                  <a:pt x="3016" y="733"/>
                </a:lnTo>
                <a:lnTo>
                  <a:pt x="3020" y="754"/>
                </a:lnTo>
                <a:lnTo>
                  <a:pt x="3023" y="769"/>
                </a:lnTo>
                <a:lnTo>
                  <a:pt x="3024" y="770"/>
                </a:lnTo>
                <a:lnTo>
                  <a:pt x="3021" y="769"/>
                </a:lnTo>
                <a:lnTo>
                  <a:pt x="3000" y="787"/>
                </a:lnTo>
                <a:lnTo>
                  <a:pt x="2955" y="775"/>
                </a:lnTo>
                <a:lnTo>
                  <a:pt x="2895" y="736"/>
                </a:lnTo>
                <a:lnTo>
                  <a:pt x="2878" y="718"/>
                </a:lnTo>
                <a:lnTo>
                  <a:pt x="2875" y="717"/>
                </a:lnTo>
                <a:lnTo>
                  <a:pt x="2871" y="721"/>
                </a:lnTo>
                <a:lnTo>
                  <a:pt x="2817" y="697"/>
                </a:lnTo>
                <a:lnTo>
                  <a:pt x="2784" y="661"/>
                </a:lnTo>
                <a:lnTo>
                  <a:pt x="2758" y="635"/>
                </a:lnTo>
                <a:lnTo>
                  <a:pt x="2755" y="632"/>
                </a:lnTo>
                <a:lnTo>
                  <a:pt x="2738" y="609"/>
                </a:lnTo>
                <a:lnTo>
                  <a:pt x="2724" y="577"/>
                </a:lnTo>
                <a:lnTo>
                  <a:pt x="2688" y="523"/>
                </a:lnTo>
                <a:lnTo>
                  <a:pt x="2646" y="481"/>
                </a:lnTo>
                <a:lnTo>
                  <a:pt x="2632" y="468"/>
                </a:lnTo>
                <a:lnTo>
                  <a:pt x="2620" y="465"/>
                </a:lnTo>
                <a:lnTo>
                  <a:pt x="2616" y="460"/>
                </a:lnTo>
                <a:lnTo>
                  <a:pt x="2545" y="452"/>
                </a:lnTo>
                <a:lnTo>
                  <a:pt x="2543" y="451"/>
                </a:lnTo>
                <a:lnTo>
                  <a:pt x="2543" y="453"/>
                </a:lnTo>
                <a:lnTo>
                  <a:pt x="2543" y="461"/>
                </a:lnTo>
                <a:lnTo>
                  <a:pt x="2550" y="478"/>
                </a:lnTo>
                <a:lnTo>
                  <a:pt x="2544" y="487"/>
                </a:lnTo>
                <a:lnTo>
                  <a:pt x="2545" y="507"/>
                </a:lnTo>
                <a:lnTo>
                  <a:pt x="2545" y="508"/>
                </a:lnTo>
                <a:lnTo>
                  <a:pt x="2546" y="509"/>
                </a:lnTo>
                <a:lnTo>
                  <a:pt x="2552" y="516"/>
                </a:lnTo>
                <a:lnTo>
                  <a:pt x="2572" y="538"/>
                </a:lnTo>
                <a:lnTo>
                  <a:pt x="2588" y="554"/>
                </a:lnTo>
                <a:lnTo>
                  <a:pt x="2590" y="555"/>
                </a:lnTo>
                <a:lnTo>
                  <a:pt x="2590" y="556"/>
                </a:lnTo>
                <a:lnTo>
                  <a:pt x="2594" y="566"/>
                </a:lnTo>
                <a:lnTo>
                  <a:pt x="2607" y="599"/>
                </a:lnTo>
                <a:lnTo>
                  <a:pt x="2617" y="625"/>
                </a:lnTo>
                <a:lnTo>
                  <a:pt x="2618" y="626"/>
                </a:lnTo>
                <a:lnTo>
                  <a:pt x="2617" y="627"/>
                </a:lnTo>
                <a:lnTo>
                  <a:pt x="2615" y="635"/>
                </a:lnTo>
                <a:lnTo>
                  <a:pt x="2609" y="661"/>
                </a:lnTo>
                <a:lnTo>
                  <a:pt x="2605" y="680"/>
                </a:lnTo>
                <a:lnTo>
                  <a:pt x="2605" y="681"/>
                </a:lnTo>
                <a:lnTo>
                  <a:pt x="2602" y="682"/>
                </a:lnTo>
                <a:lnTo>
                  <a:pt x="2592" y="685"/>
                </a:lnTo>
                <a:lnTo>
                  <a:pt x="2555" y="697"/>
                </a:lnTo>
                <a:lnTo>
                  <a:pt x="2527" y="705"/>
                </a:lnTo>
                <a:lnTo>
                  <a:pt x="2526" y="705"/>
                </a:lnTo>
                <a:lnTo>
                  <a:pt x="2524" y="707"/>
                </a:lnTo>
                <a:lnTo>
                  <a:pt x="2514" y="719"/>
                </a:lnTo>
                <a:lnTo>
                  <a:pt x="2478" y="759"/>
                </a:lnTo>
                <a:lnTo>
                  <a:pt x="2451" y="790"/>
                </a:lnTo>
                <a:lnTo>
                  <a:pt x="2450" y="791"/>
                </a:lnTo>
                <a:lnTo>
                  <a:pt x="2450" y="795"/>
                </a:lnTo>
                <a:lnTo>
                  <a:pt x="2452" y="820"/>
                </a:lnTo>
                <a:lnTo>
                  <a:pt x="2461" y="907"/>
                </a:lnTo>
                <a:lnTo>
                  <a:pt x="2468" y="972"/>
                </a:lnTo>
                <a:lnTo>
                  <a:pt x="2468" y="976"/>
                </a:lnTo>
                <a:lnTo>
                  <a:pt x="2470" y="976"/>
                </a:lnTo>
                <a:lnTo>
                  <a:pt x="2484" y="979"/>
                </a:lnTo>
                <a:lnTo>
                  <a:pt x="2531" y="990"/>
                </a:lnTo>
                <a:lnTo>
                  <a:pt x="2568" y="999"/>
                </a:lnTo>
                <a:lnTo>
                  <a:pt x="2571" y="999"/>
                </a:lnTo>
                <a:lnTo>
                  <a:pt x="2571" y="999"/>
                </a:lnTo>
                <a:lnTo>
                  <a:pt x="2571" y="993"/>
                </a:lnTo>
                <a:lnTo>
                  <a:pt x="2572" y="973"/>
                </a:lnTo>
                <a:lnTo>
                  <a:pt x="2573" y="958"/>
                </a:lnTo>
                <a:lnTo>
                  <a:pt x="2574" y="958"/>
                </a:lnTo>
                <a:lnTo>
                  <a:pt x="2575" y="958"/>
                </a:lnTo>
                <a:lnTo>
                  <a:pt x="2581" y="956"/>
                </a:lnTo>
                <a:lnTo>
                  <a:pt x="2664" y="988"/>
                </a:lnTo>
                <a:lnTo>
                  <a:pt x="2706" y="988"/>
                </a:lnTo>
                <a:lnTo>
                  <a:pt x="2709" y="997"/>
                </a:lnTo>
                <a:lnTo>
                  <a:pt x="2766" y="1030"/>
                </a:lnTo>
                <a:lnTo>
                  <a:pt x="2799" y="1069"/>
                </a:lnTo>
                <a:lnTo>
                  <a:pt x="2853" y="1084"/>
                </a:lnTo>
                <a:lnTo>
                  <a:pt x="2889" y="1099"/>
                </a:lnTo>
                <a:lnTo>
                  <a:pt x="2916" y="1150"/>
                </a:lnTo>
                <a:lnTo>
                  <a:pt x="2937" y="1180"/>
                </a:lnTo>
                <a:lnTo>
                  <a:pt x="2973" y="1207"/>
                </a:lnTo>
                <a:lnTo>
                  <a:pt x="3009" y="1218"/>
                </a:lnTo>
                <a:lnTo>
                  <a:pt x="3048" y="1284"/>
                </a:lnTo>
                <a:lnTo>
                  <a:pt x="3040" y="1309"/>
                </a:lnTo>
                <a:lnTo>
                  <a:pt x="3036" y="1325"/>
                </a:lnTo>
                <a:lnTo>
                  <a:pt x="3020" y="1491"/>
                </a:lnTo>
                <a:lnTo>
                  <a:pt x="2953" y="1541"/>
                </a:lnTo>
                <a:lnTo>
                  <a:pt x="2930" y="1556"/>
                </a:lnTo>
                <a:lnTo>
                  <a:pt x="2908" y="1559"/>
                </a:lnTo>
                <a:lnTo>
                  <a:pt x="2827" y="1564"/>
                </a:lnTo>
                <a:lnTo>
                  <a:pt x="2810" y="1498"/>
                </a:lnTo>
                <a:lnTo>
                  <a:pt x="2814" y="1497"/>
                </a:lnTo>
                <a:lnTo>
                  <a:pt x="2808" y="1487"/>
                </a:lnTo>
                <a:lnTo>
                  <a:pt x="2818" y="1497"/>
                </a:lnTo>
                <a:lnTo>
                  <a:pt x="2806" y="1486"/>
                </a:lnTo>
                <a:lnTo>
                  <a:pt x="2747" y="1458"/>
                </a:lnTo>
                <a:lnTo>
                  <a:pt x="2725" y="1457"/>
                </a:lnTo>
                <a:lnTo>
                  <a:pt x="2701" y="1460"/>
                </a:lnTo>
                <a:lnTo>
                  <a:pt x="2701" y="1469"/>
                </a:lnTo>
                <a:lnTo>
                  <a:pt x="2705" y="1484"/>
                </a:lnTo>
                <a:lnTo>
                  <a:pt x="2638" y="1475"/>
                </a:lnTo>
                <a:lnTo>
                  <a:pt x="2666" y="1482"/>
                </a:lnTo>
                <a:lnTo>
                  <a:pt x="2627" y="1460"/>
                </a:lnTo>
                <a:lnTo>
                  <a:pt x="2611" y="1445"/>
                </a:lnTo>
                <a:lnTo>
                  <a:pt x="2597" y="1435"/>
                </a:lnTo>
                <a:lnTo>
                  <a:pt x="2579" y="1416"/>
                </a:lnTo>
                <a:lnTo>
                  <a:pt x="2572" y="1412"/>
                </a:lnTo>
                <a:lnTo>
                  <a:pt x="2528" y="1391"/>
                </a:lnTo>
                <a:lnTo>
                  <a:pt x="2542" y="1393"/>
                </a:lnTo>
                <a:lnTo>
                  <a:pt x="2544" y="1392"/>
                </a:lnTo>
                <a:lnTo>
                  <a:pt x="2530" y="1390"/>
                </a:lnTo>
                <a:lnTo>
                  <a:pt x="2516" y="1379"/>
                </a:lnTo>
                <a:lnTo>
                  <a:pt x="2496" y="1364"/>
                </a:lnTo>
                <a:lnTo>
                  <a:pt x="2493" y="1369"/>
                </a:lnTo>
                <a:lnTo>
                  <a:pt x="2493" y="1367"/>
                </a:lnTo>
                <a:lnTo>
                  <a:pt x="2490" y="1376"/>
                </a:lnTo>
                <a:lnTo>
                  <a:pt x="2473" y="1359"/>
                </a:lnTo>
                <a:lnTo>
                  <a:pt x="2496" y="1381"/>
                </a:lnTo>
                <a:lnTo>
                  <a:pt x="2493" y="1374"/>
                </a:lnTo>
                <a:lnTo>
                  <a:pt x="2519" y="1388"/>
                </a:lnTo>
                <a:lnTo>
                  <a:pt x="2491" y="1363"/>
                </a:lnTo>
                <a:lnTo>
                  <a:pt x="2457" y="1355"/>
                </a:lnTo>
                <a:lnTo>
                  <a:pt x="2451" y="1312"/>
                </a:lnTo>
                <a:lnTo>
                  <a:pt x="2440" y="1300"/>
                </a:lnTo>
                <a:lnTo>
                  <a:pt x="2445" y="1298"/>
                </a:lnTo>
                <a:lnTo>
                  <a:pt x="2425" y="1289"/>
                </a:lnTo>
                <a:lnTo>
                  <a:pt x="2422" y="1273"/>
                </a:lnTo>
                <a:lnTo>
                  <a:pt x="2410" y="1261"/>
                </a:lnTo>
                <a:lnTo>
                  <a:pt x="2428" y="1274"/>
                </a:lnTo>
                <a:lnTo>
                  <a:pt x="2422" y="1274"/>
                </a:lnTo>
                <a:lnTo>
                  <a:pt x="2430" y="1271"/>
                </a:lnTo>
                <a:lnTo>
                  <a:pt x="2420" y="1263"/>
                </a:lnTo>
                <a:lnTo>
                  <a:pt x="2418" y="1262"/>
                </a:lnTo>
                <a:lnTo>
                  <a:pt x="2426" y="1266"/>
                </a:lnTo>
                <a:lnTo>
                  <a:pt x="2381" y="1247"/>
                </a:lnTo>
                <a:lnTo>
                  <a:pt x="2426" y="1269"/>
                </a:lnTo>
                <a:lnTo>
                  <a:pt x="2355" y="1240"/>
                </a:lnTo>
                <a:lnTo>
                  <a:pt x="2301" y="1216"/>
                </a:lnTo>
                <a:lnTo>
                  <a:pt x="2298" y="1218"/>
                </a:lnTo>
                <a:lnTo>
                  <a:pt x="2304" y="1218"/>
                </a:lnTo>
                <a:lnTo>
                  <a:pt x="2289" y="1211"/>
                </a:lnTo>
                <a:lnTo>
                  <a:pt x="2256" y="1218"/>
                </a:lnTo>
                <a:lnTo>
                  <a:pt x="2256" y="1218"/>
                </a:lnTo>
                <a:lnTo>
                  <a:pt x="2254" y="1218"/>
                </a:lnTo>
                <a:lnTo>
                  <a:pt x="2248" y="1221"/>
                </a:lnTo>
                <a:lnTo>
                  <a:pt x="2271" y="1216"/>
                </a:lnTo>
                <a:lnTo>
                  <a:pt x="2245" y="1221"/>
                </a:lnTo>
                <a:lnTo>
                  <a:pt x="2208" y="1223"/>
                </a:lnTo>
                <a:lnTo>
                  <a:pt x="2207" y="1224"/>
                </a:lnTo>
                <a:lnTo>
                  <a:pt x="2208" y="1225"/>
                </a:lnTo>
                <a:lnTo>
                  <a:pt x="2213" y="1230"/>
                </a:lnTo>
                <a:lnTo>
                  <a:pt x="2232" y="1247"/>
                </a:lnTo>
                <a:lnTo>
                  <a:pt x="2247" y="1261"/>
                </a:lnTo>
                <a:lnTo>
                  <a:pt x="2249" y="1262"/>
                </a:lnTo>
                <a:lnTo>
                  <a:pt x="2248" y="1263"/>
                </a:lnTo>
                <a:lnTo>
                  <a:pt x="2246" y="1270"/>
                </a:lnTo>
                <a:lnTo>
                  <a:pt x="2240" y="1296"/>
                </a:lnTo>
                <a:lnTo>
                  <a:pt x="2235" y="1316"/>
                </a:lnTo>
                <a:lnTo>
                  <a:pt x="2235" y="1316"/>
                </a:lnTo>
                <a:lnTo>
                  <a:pt x="2239" y="1320"/>
                </a:lnTo>
                <a:lnTo>
                  <a:pt x="2251" y="1334"/>
                </a:lnTo>
                <a:lnTo>
                  <a:pt x="2260" y="1343"/>
                </a:lnTo>
                <a:lnTo>
                  <a:pt x="2261" y="1343"/>
                </a:lnTo>
                <a:lnTo>
                  <a:pt x="2260" y="1344"/>
                </a:lnTo>
                <a:lnTo>
                  <a:pt x="2255" y="1349"/>
                </a:lnTo>
                <a:lnTo>
                  <a:pt x="2236" y="1367"/>
                </a:lnTo>
                <a:lnTo>
                  <a:pt x="2223" y="1380"/>
                </a:lnTo>
                <a:lnTo>
                  <a:pt x="2222" y="1381"/>
                </a:lnTo>
                <a:lnTo>
                  <a:pt x="2220" y="1381"/>
                </a:lnTo>
                <a:lnTo>
                  <a:pt x="2209" y="1381"/>
                </a:lnTo>
                <a:lnTo>
                  <a:pt x="2171" y="1381"/>
                </a:lnTo>
                <a:lnTo>
                  <a:pt x="2142" y="1381"/>
                </a:lnTo>
                <a:lnTo>
                  <a:pt x="2141" y="1381"/>
                </a:lnTo>
                <a:lnTo>
                  <a:pt x="2138" y="1381"/>
                </a:lnTo>
                <a:lnTo>
                  <a:pt x="2123" y="1389"/>
                </a:lnTo>
                <a:lnTo>
                  <a:pt x="2066" y="1415"/>
                </a:lnTo>
                <a:lnTo>
                  <a:pt x="2023" y="1435"/>
                </a:lnTo>
                <a:lnTo>
                  <a:pt x="2022" y="1435"/>
                </a:lnTo>
                <a:lnTo>
                  <a:pt x="2018" y="1436"/>
                </a:lnTo>
                <a:lnTo>
                  <a:pt x="2002" y="1434"/>
                </a:lnTo>
                <a:lnTo>
                  <a:pt x="2014" y="1412"/>
                </a:lnTo>
                <a:lnTo>
                  <a:pt x="2024" y="1392"/>
                </a:lnTo>
                <a:lnTo>
                  <a:pt x="2020" y="1362"/>
                </a:lnTo>
                <a:lnTo>
                  <a:pt x="1992" y="1362"/>
                </a:lnTo>
                <a:lnTo>
                  <a:pt x="1958" y="1368"/>
                </a:lnTo>
                <a:lnTo>
                  <a:pt x="1940" y="1346"/>
                </a:lnTo>
                <a:lnTo>
                  <a:pt x="1894" y="1356"/>
                </a:lnTo>
                <a:lnTo>
                  <a:pt x="1872" y="1368"/>
                </a:lnTo>
                <a:lnTo>
                  <a:pt x="1916" y="1348"/>
                </a:lnTo>
                <a:lnTo>
                  <a:pt x="1860" y="1382"/>
                </a:lnTo>
                <a:lnTo>
                  <a:pt x="1832" y="1400"/>
                </a:lnTo>
                <a:lnTo>
                  <a:pt x="1784" y="1410"/>
                </a:lnTo>
                <a:lnTo>
                  <a:pt x="1852" y="1390"/>
                </a:lnTo>
                <a:lnTo>
                  <a:pt x="1816" y="1402"/>
                </a:lnTo>
                <a:lnTo>
                  <a:pt x="1766" y="1414"/>
                </a:lnTo>
                <a:lnTo>
                  <a:pt x="1692" y="1406"/>
                </a:lnTo>
                <a:lnTo>
                  <a:pt x="1752" y="1410"/>
                </a:lnTo>
                <a:lnTo>
                  <a:pt x="1726" y="1412"/>
                </a:lnTo>
                <a:lnTo>
                  <a:pt x="1660" y="1400"/>
                </a:lnTo>
                <a:lnTo>
                  <a:pt x="1619" y="1378"/>
                </a:lnTo>
                <a:lnTo>
                  <a:pt x="1592" y="1374"/>
                </a:lnTo>
                <a:lnTo>
                  <a:pt x="1568" y="1371"/>
                </a:lnTo>
                <a:lnTo>
                  <a:pt x="1570" y="1340"/>
                </a:lnTo>
                <a:lnTo>
                  <a:pt x="1559" y="1367"/>
                </a:lnTo>
                <a:lnTo>
                  <a:pt x="1546" y="1342"/>
                </a:lnTo>
                <a:lnTo>
                  <a:pt x="1518" y="1338"/>
                </a:lnTo>
                <a:lnTo>
                  <a:pt x="1492" y="1340"/>
                </a:lnTo>
                <a:lnTo>
                  <a:pt x="1478" y="1350"/>
                </a:lnTo>
                <a:lnTo>
                  <a:pt x="1446" y="1348"/>
                </a:lnTo>
                <a:lnTo>
                  <a:pt x="1426" y="1342"/>
                </a:lnTo>
                <a:lnTo>
                  <a:pt x="1396" y="1330"/>
                </a:lnTo>
                <a:lnTo>
                  <a:pt x="1380" y="1290"/>
                </a:lnTo>
                <a:lnTo>
                  <a:pt x="1352" y="1270"/>
                </a:lnTo>
                <a:lnTo>
                  <a:pt x="1326" y="1268"/>
                </a:lnTo>
                <a:lnTo>
                  <a:pt x="1296" y="1264"/>
                </a:lnTo>
                <a:lnTo>
                  <a:pt x="1260" y="1250"/>
                </a:lnTo>
                <a:lnTo>
                  <a:pt x="1240" y="1232"/>
                </a:lnTo>
                <a:lnTo>
                  <a:pt x="1246" y="1248"/>
                </a:lnTo>
                <a:lnTo>
                  <a:pt x="1216" y="1260"/>
                </a:lnTo>
                <a:lnTo>
                  <a:pt x="1214" y="1280"/>
                </a:lnTo>
                <a:lnTo>
                  <a:pt x="1217" y="1364"/>
                </a:lnTo>
                <a:lnTo>
                  <a:pt x="1211" y="1378"/>
                </a:lnTo>
                <a:lnTo>
                  <a:pt x="1202" y="1383"/>
                </a:lnTo>
                <a:lnTo>
                  <a:pt x="1208" y="1388"/>
                </a:lnTo>
                <a:lnTo>
                  <a:pt x="1193" y="1395"/>
                </a:lnTo>
                <a:lnTo>
                  <a:pt x="1223" y="1359"/>
                </a:lnTo>
                <a:lnTo>
                  <a:pt x="1208" y="1383"/>
                </a:lnTo>
                <a:lnTo>
                  <a:pt x="1217" y="1362"/>
                </a:lnTo>
                <a:lnTo>
                  <a:pt x="1211" y="1383"/>
                </a:lnTo>
                <a:lnTo>
                  <a:pt x="1223" y="1367"/>
                </a:lnTo>
                <a:lnTo>
                  <a:pt x="1187" y="1397"/>
                </a:lnTo>
                <a:lnTo>
                  <a:pt x="1181" y="1392"/>
                </a:lnTo>
                <a:lnTo>
                  <a:pt x="1173" y="1390"/>
                </a:lnTo>
                <a:lnTo>
                  <a:pt x="1217" y="1357"/>
                </a:lnTo>
                <a:lnTo>
                  <a:pt x="1181" y="1388"/>
                </a:lnTo>
                <a:lnTo>
                  <a:pt x="1187" y="1390"/>
                </a:lnTo>
                <a:lnTo>
                  <a:pt x="1187" y="1385"/>
                </a:lnTo>
                <a:lnTo>
                  <a:pt x="1199" y="1388"/>
                </a:lnTo>
                <a:lnTo>
                  <a:pt x="1217" y="1364"/>
                </a:lnTo>
                <a:lnTo>
                  <a:pt x="1170" y="1390"/>
                </a:lnTo>
                <a:lnTo>
                  <a:pt x="1128" y="1385"/>
                </a:lnTo>
                <a:lnTo>
                  <a:pt x="1146" y="1385"/>
                </a:lnTo>
                <a:lnTo>
                  <a:pt x="1167" y="1390"/>
                </a:lnTo>
                <a:lnTo>
                  <a:pt x="1090" y="1381"/>
                </a:lnTo>
                <a:lnTo>
                  <a:pt x="1155" y="1376"/>
                </a:lnTo>
                <a:lnTo>
                  <a:pt x="1161" y="1385"/>
                </a:lnTo>
                <a:lnTo>
                  <a:pt x="1167" y="1390"/>
                </a:lnTo>
                <a:lnTo>
                  <a:pt x="1122" y="1390"/>
                </a:lnTo>
                <a:lnTo>
                  <a:pt x="1113" y="1376"/>
                </a:lnTo>
                <a:lnTo>
                  <a:pt x="1122" y="1381"/>
                </a:lnTo>
                <a:lnTo>
                  <a:pt x="1111" y="1376"/>
                </a:lnTo>
                <a:lnTo>
                  <a:pt x="1111" y="1381"/>
                </a:lnTo>
                <a:lnTo>
                  <a:pt x="1063" y="1369"/>
                </a:lnTo>
                <a:lnTo>
                  <a:pt x="1078" y="1383"/>
                </a:lnTo>
                <a:lnTo>
                  <a:pt x="1096" y="1383"/>
                </a:lnTo>
                <a:lnTo>
                  <a:pt x="1128" y="1388"/>
                </a:lnTo>
                <a:lnTo>
                  <a:pt x="1116" y="1378"/>
                </a:lnTo>
                <a:lnTo>
                  <a:pt x="1057" y="1376"/>
                </a:lnTo>
                <a:lnTo>
                  <a:pt x="1054" y="1371"/>
                </a:lnTo>
                <a:lnTo>
                  <a:pt x="988" y="1344"/>
                </a:lnTo>
                <a:lnTo>
                  <a:pt x="1022" y="1357"/>
                </a:lnTo>
                <a:lnTo>
                  <a:pt x="1043" y="1364"/>
                </a:lnTo>
                <a:lnTo>
                  <a:pt x="1028" y="1357"/>
                </a:lnTo>
                <a:lnTo>
                  <a:pt x="1040" y="1367"/>
                </a:lnTo>
                <a:lnTo>
                  <a:pt x="1046" y="1369"/>
                </a:lnTo>
                <a:lnTo>
                  <a:pt x="975" y="1348"/>
                </a:lnTo>
                <a:lnTo>
                  <a:pt x="933" y="1344"/>
                </a:lnTo>
                <a:lnTo>
                  <a:pt x="780" y="1416"/>
                </a:lnTo>
                <a:lnTo>
                  <a:pt x="792" y="1442"/>
                </a:lnTo>
                <a:lnTo>
                  <a:pt x="992" y="1345"/>
                </a:lnTo>
                <a:lnTo>
                  <a:pt x="995" y="1345"/>
                </a:lnTo>
                <a:lnTo>
                  <a:pt x="902" y="1353"/>
                </a:lnTo>
                <a:lnTo>
                  <a:pt x="871" y="1378"/>
                </a:lnTo>
                <a:lnTo>
                  <a:pt x="824" y="1404"/>
                </a:lnTo>
                <a:lnTo>
                  <a:pt x="874" y="1375"/>
                </a:lnTo>
                <a:lnTo>
                  <a:pt x="961" y="1344"/>
                </a:lnTo>
                <a:lnTo>
                  <a:pt x="851" y="1381"/>
                </a:lnTo>
                <a:lnTo>
                  <a:pt x="788" y="1422"/>
                </a:lnTo>
                <a:lnTo>
                  <a:pt x="811" y="1394"/>
                </a:lnTo>
                <a:lnTo>
                  <a:pt x="810" y="1446"/>
                </a:lnTo>
                <a:lnTo>
                  <a:pt x="801" y="1449"/>
                </a:lnTo>
                <a:lnTo>
                  <a:pt x="771" y="1457"/>
                </a:lnTo>
                <a:lnTo>
                  <a:pt x="746" y="1464"/>
                </a:lnTo>
                <a:lnTo>
                  <a:pt x="745" y="1464"/>
                </a:lnTo>
                <a:lnTo>
                  <a:pt x="744" y="1464"/>
                </a:lnTo>
                <a:lnTo>
                  <a:pt x="738" y="1460"/>
                </a:lnTo>
                <a:lnTo>
                  <a:pt x="721" y="1447"/>
                </a:lnTo>
                <a:lnTo>
                  <a:pt x="707" y="1439"/>
                </a:lnTo>
                <a:lnTo>
                  <a:pt x="706" y="1438"/>
                </a:lnTo>
                <a:lnTo>
                  <a:pt x="704" y="1438"/>
                </a:lnTo>
                <a:lnTo>
                  <a:pt x="698" y="1438"/>
                </a:lnTo>
                <a:lnTo>
                  <a:pt x="676" y="1438"/>
                </a:lnTo>
                <a:lnTo>
                  <a:pt x="660" y="1438"/>
                </a:lnTo>
                <a:lnTo>
                  <a:pt x="660" y="1438"/>
                </a:lnTo>
                <a:lnTo>
                  <a:pt x="661" y="1435"/>
                </a:lnTo>
                <a:lnTo>
                  <a:pt x="665" y="1424"/>
                </a:lnTo>
                <a:lnTo>
                  <a:pt x="669" y="1416"/>
                </a:lnTo>
                <a:lnTo>
                  <a:pt x="669" y="1415"/>
                </a:lnTo>
                <a:lnTo>
                  <a:pt x="665" y="1414"/>
                </a:lnTo>
                <a:lnTo>
                  <a:pt x="654" y="1406"/>
                </a:lnTo>
                <a:lnTo>
                  <a:pt x="643" y="1400"/>
                </a:lnTo>
                <a:lnTo>
                  <a:pt x="643" y="1399"/>
                </a:lnTo>
                <a:lnTo>
                  <a:pt x="639" y="1399"/>
                </a:lnTo>
                <a:lnTo>
                  <a:pt x="645" y="1408"/>
                </a:lnTo>
                <a:lnTo>
                  <a:pt x="618" y="1389"/>
                </a:lnTo>
                <a:lnTo>
                  <a:pt x="618" y="1388"/>
                </a:lnTo>
                <a:lnTo>
                  <a:pt x="615" y="1389"/>
                </a:lnTo>
                <a:lnTo>
                  <a:pt x="598" y="1391"/>
                </a:lnTo>
                <a:lnTo>
                  <a:pt x="535" y="1397"/>
                </a:lnTo>
                <a:lnTo>
                  <a:pt x="487" y="1402"/>
                </a:lnTo>
                <a:lnTo>
                  <a:pt x="484" y="1402"/>
                </a:lnTo>
                <a:lnTo>
                  <a:pt x="482" y="1403"/>
                </a:lnTo>
                <a:lnTo>
                  <a:pt x="474" y="1403"/>
                </a:lnTo>
                <a:lnTo>
                  <a:pt x="513" y="1405"/>
                </a:lnTo>
                <a:lnTo>
                  <a:pt x="418" y="1411"/>
                </a:lnTo>
                <a:lnTo>
                  <a:pt x="417" y="1411"/>
                </a:lnTo>
                <a:lnTo>
                  <a:pt x="416" y="1411"/>
                </a:lnTo>
                <a:lnTo>
                  <a:pt x="411" y="1410"/>
                </a:lnTo>
                <a:lnTo>
                  <a:pt x="392" y="1409"/>
                </a:lnTo>
                <a:lnTo>
                  <a:pt x="378" y="1407"/>
                </a:lnTo>
                <a:lnTo>
                  <a:pt x="377" y="1407"/>
                </a:lnTo>
                <a:lnTo>
                  <a:pt x="376" y="1407"/>
                </a:lnTo>
                <a:lnTo>
                  <a:pt x="374" y="1409"/>
                </a:lnTo>
                <a:lnTo>
                  <a:pt x="366" y="1416"/>
                </a:lnTo>
                <a:lnTo>
                  <a:pt x="360" y="1421"/>
                </a:lnTo>
                <a:lnTo>
                  <a:pt x="360" y="1421"/>
                </a:lnTo>
                <a:lnTo>
                  <a:pt x="362" y="1423"/>
                </a:lnTo>
                <a:lnTo>
                  <a:pt x="369" y="1430"/>
                </a:lnTo>
                <a:lnTo>
                  <a:pt x="375" y="1435"/>
                </a:lnTo>
                <a:lnTo>
                  <a:pt x="375" y="1435"/>
                </a:lnTo>
                <a:lnTo>
                  <a:pt x="371" y="1435"/>
                </a:lnTo>
                <a:lnTo>
                  <a:pt x="360" y="1437"/>
                </a:lnTo>
                <a:lnTo>
                  <a:pt x="350" y="1438"/>
                </a:lnTo>
                <a:lnTo>
                  <a:pt x="350" y="1438"/>
                </a:lnTo>
                <a:lnTo>
                  <a:pt x="349" y="1438"/>
                </a:lnTo>
                <a:lnTo>
                  <a:pt x="348" y="1439"/>
                </a:lnTo>
                <a:lnTo>
                  <a:pt x="341" y="1443"/>
                </a:lnTo>
                <a:lnTo>
                  <a:pt x="337" y="1446"/>
                </a:lnTo>
                <a:lnTo>
                  <a:pt x="337" y="1446"/>
                </a:lnTo>
                <a:lnTo>
                  <a:pt x="337" y="1446"/>
                </a:lnTo>
                <a:lnTo>
                  <a:pt x="337" y="1449"/>
                </a:lnTo>
                <a:lnTo>
                  <a:pt x="338" y="1457"/>
                </a:lnTo>
                <a:lnTo>
                  <a:pt x="339" y="1462"/>
                </a:lnTo>
                <a:lnTo>
                  <a:pt x="340" y="1462"/>
                </a:lnTo>
                <a:lnTo>
                  <a:pt x="339" y="1462"/>
                </a:lnTo>
                <a:lnTo>
                  <a:pt x="336" y="1462"/>
                </a:lnTo>
                <a:lnTo>
                  <a:pt x="325" y="1462"/>
                </a:lnTo>
                <a:lnTo>
                  <a:pt x="316" y="1461"/>
                </a:lnTo>
                <a:lnTo>
                  <a:pt x="316" y="1461"/>
                </a:lnTo>
                <a:lnTo>
                  <a:pt x="315" y="1461"/>
                </a:lnTo>
                <a:lnTo>
                  <a:pt x="314" y="1462"/>
                </a:lnTo>
                <a:lnTo>
                  <a:pt x="308" y="1465"/>
                </a:lnTo>
                <a:lnTo>
                  <a:pt x="304" y="1468"/>
                </a:lnTo>
                <a:lnTo>
                  <a:pt x="304" y="1468"/>
                </a:lnTo>
                <a:lnTo>
                  <a:pt x="305" y="1471"/>
                </a:lnTo>
                <a:lnTo>
                  <a:pt x="311" y="1477"/>
                </a:lnTo>
                <a:lnTo>
                  <a:pt x="315" y="1483"/>
                </a:lnTo>
                <a:lnTo>
                  <a:pt x="316" y="1483"/>
                </a:lnTo>
                <a:lnTo>
                  <a:pt x="319" y="1483"/>
                </a:lnTo>
                <a:lnTo>
                  <a:pt x="329" y="1486"/>
                </a:lnTo>
                <a:lnTo>
                  <a:pt x="336" y="1486"/>
                </a:lnTo>
                <a:lnTo>
                  <a:pt x="337" y="1486"/>
                </a:lnTo>
                <a:lnTo>
                  <a:pt x="337" y="1487"/>
                </a:lnTo>
                <a:lnTo>
                  <a:pt x="337" y="1490"/>
                </a:lnTo>
                <a:lnTo>
                  <a:pt x="341" y="1501"/>
                </a:lnTo>
                <a:lnTo>
                  <a:pt x="343" y="1508"/>
                </a:lnTo>
                <a:lnTo>
                  <a:pt x="344" y="1508"/>
                </a:lnTo>
                <a:lnTo>
                  <a:pt x="343" y="1508"/>
                </a:lnTo>
                <a:lnTo>
                  <a:pt x="339" y="1510"/>
                </a:lnTo>
                <a:lnTo>
                  <a:pt x="326" y="1515"/>
                </a:lnTo>
                <a:lnTo>
                  <a:pt x="316" y="1520"/>
                </a:lnTo>
                <a:lnTo>
                  <a:pt x="316" y="1520"/>
                </a:lnTo>
                <a:lnTo>
                  <a:pt x="312" y="1519"/>
                </a:lnTo>
                <a:lnTo>
                  <a:pt x="301" y="1512"/>
                </a:lnTo>
                <a:lnTo>
                  <a:pt x="293" y="1508"/>
                </a:lnTo>
                <a:lnTo>
                  <a:pt x="293" y="1508"/>
                </a:lnTo>
                <a:lnTo>
                  <a:pt x="292" y="1508"/>
                </a:lnTo>
                <a:lnTo>
                  <a:pt x="288" y="1508"/>
                </a:lnTo>
                <a:lnTo>
                  <a:pt x="271" y="1507"/>
                </a:lnTo>
                <a:lnTo>
                  <a:pt x="258" y="1506"/>
                </a:lnTo>
                <a:lnTo>
                  <a:pt x="257" y="1506"/>
                </a:lnTo>
                <a:lnTo>
                  <a:pt x="257" y="1505"/>
                </a:lnTo>
                <a:lnTo>
                  <a:pt x="253" y="1501"/>
                </a:lnTo>
                <a:lnTo>
                  <a:pt x="242" y="1488"/>
                </a:lnTo>
                <a:lnTo>
                  <a:pt x="235" y="1477"/>
                </a:lnTo>
                <a:lnTo>
                  <a:pt x="235" y="1476"/>
                </a:lnTo>
                <a:lnTo>
                  <a:pt x="232" y="1476"/>
                </a:lnTo>
                <a:lnTo>
                  <a:pt x="222" y="1475"/>
                </a:lnTo>
                <a:lnTo>
                  <a:pt x="183" y="1471"/>
                </a:lnTo>
                <a:lnTo>
                  <a:pt x="154" y="1468"/>
                </a:lnTo>
                <a:lnTo>
                  <a:pt x="152" y="1467"/>
                </a:lnTo>
                <a:lnTo>
                  <a:pt x="151" y="1468"/>
                </a:lnTo>
                <a:lnTo>
                  <a:pt x="146" y="1469"/>
                </a:lnTo>
                <a:lnTo>
                  <a:pt x="129" y="1476"/>
                </a:lnTo>
                <a:lnTo>
                  <a:pt x="116" y="1481"/>
                </a:lnTo>
                <a:lnTo>
                  <a:pt x="115" y="1481"/>
                </a:lnTo>
                <a:lnTo>
                  <a:pt x="113" y="1475"/>
                </a:lnTo>
                <a:lnTo>
                  <a:pt x="109" y="1455"/>
                </a:lnTo>
                <a:lnTo>
                  <a:pt x="106" y="1439"/>
                </a:lnTo>
                <a:lnTo>
                  <a:pt x="106" y="1439"/>
                </a:lnTo>
                <a:lnTo>
                  <a:pt x="101" y="1434"/>
                </a:lnTo>
                <a:lnTo>
                  <a:pt x="86" y="1421"/>
                </a:lnTo>
                <a:lnTo>
                  <a:pt x="74" y="1410"/>
                </a:lnTo>
                <a:lnTo>
                  <a:pt x="73" y="1410"/>
                </a:lnTo>
                <a:lnTo>
                  <a:pt x="71" y="1410"/>
                </a:lnTo>
                <a:lnTo>
                  <a:pt x="61" y="1410"/>
                </a:lnTo>
                <a:lnTo>
                  <a:pt x="28" y="1409"/>
                </a:lnTo>
                <a:lnTo>
                  <a:pt x="2" y="1409"/>
                </a:lnTo>
                <a:lnTo>
                  <a:pt x="1" y="1408"/>
                </a:lnTo>
                <a:lnTo>
                  <a:pt x="0" y="1408"/>
                </a:lnTo>
                <a:lnTo>
                  <a:pt x="1" y="1408"/>
                </a:lnTo>
                <a:lnTo>
                  <a:pt x="0" y="1408"/>
                </a:lnTo>
                <a:lnTo>
                  <a:pt x="1" y="1408"/>
                </a:lnTo>
                <a:lnTo>
                  <a:pt x="9" y="1406"/>
                </a:lnTo>
                <a:lnTo>
                  <a:pt x="36" y="1397"/>
                </a:lnTo>
                <a:lnTo>
                  <a:pt x="56" y="1391"/>
                </a:lnTo>
                <a:lnTo>
                  <a:pt x="58" y="1390"/>
                </a:lnTo>
                <a:lnTo>
                  <a:pt x="58" y="1390"/>
                </a:lnTo>
                <a:close/>
              </a:path>
            </a:pathLst>
          </a:custGeom>
          <a:noFill/>
          <a:ln w="64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20760" y="2241720"/>
            <a:ext cx="2322720" cy="1393560"/>
          </a:xfrm>
          <a:custGeom>
            <a:avLst/>
            <a:gdLst/>
            <a:ahLst/>
            <a:rect l="l" t="t" r="r" b="b"/>
            <a:pathLst>
              <a:path w="8064" h="5105">
                <a:moveTo>
                  <a:pt x="1837" y="773"/>
                </a:moveTo>
                <a:lnTo>
                  <a:pt x="1831" y="771"/>
                </a:lnTo>
                <a:lnTo>
                  <a:pt x="1823" y="770"/>
                </a:lnTo>
                <a:lnTo>
                  <a:pt x="1815" y="768"/>
                </a:lnTo>
                <a:lnTo>
                  <a:pt x="1808" y="770"/>
                </a:lnTo>
                <a:lnTo>
                  <a:pt x="1792" y="771"/>
                </a:lnTo>
                <a:lnTo>
                  <a:pt x="1789" y="770"/>
                </a:lnTo>
                <a:lnTo>
                  <a:pt x="1786" y="771"/>
                </a:lnTo>
                <a:lnTo>
                  <a:pt x="1785" y="773"/>
                </a:lnTo>
                <a:lnTo>
                  <a:pt x="1782" y="774"/>
                </a:lnTo>
                <a:lnTo>
                  <a:pt x="1779" y="778"/>
                </a:lnTo>
                <a:lnTo>
                  <a:pt x="1775" y="784"/>
                </a:lnTo>
                <a:lnTo>
                  <a:pt x="1775" y="786"/>
                </a:lnTo>
                <a:lnTo>
                  <a:pt x="1775" y="789"/>
                </a:lnTo>
                <a:lnTo>
                  <a:pt x="1775" y="791"/>
                </a:lnTo>
                <a:lnTo>
                  <a:pt x="1776" y="793"/>
                </a:lnTo>
                <a:lnTo>
                  <a:pt x="1781" y="797"/>
                </a:lnTo>
                <a:lnTo>
                  <a:pt x="1788" y="806"/>
                </a:lnTo>
                <a:lnTo>
                  <a:pt x="1789" y="812"/>
                </a:lnTo>
                <a:lnTo>
                  <a:pt x="1785" y="819"/>
                </a:lnTo>
                <a:lnTo>
                  <a:pt x="1778" y="831"/>
                </a:lnTo>
                <a:lnTo>
                  <a:pt x="1768" y="839"/>
                </a:lnTo>
                <a:lnTo>
                  <a:pt x="1744" y="857"/>
                </a:lnTo>
                <a:lnTo>
                  <a:pt x="1727" y="868"/>
                </a:lnTo>
                <a:lnTo>
                  <a:pt x="1721" y="871"/>
                </a:lnTo>
                <a:lnTo>
                  <a:pt x="1715" y="873"/>
                </a:lnTo>
                <a:lnTo>
                  <a:pt x="1708" y="874"/>
                </a:lnTo>
                <a:lnTo>
                  <a:pt x="1695" y="874"/>
                </a:lnTo>
                <a:lnTo>
                  <a:pt x="1665" y="873"/>
                </a:lnTo>
                <a:lnTo>
                  <a:pt x="1646" y="877"/>
                </a:lnTo>
                <a:lnTo>
                  <a:pt x="1642" y="878"/>
                </a:lnTo>
                <a:lnTo>
                  <a:pt x="1634" y="880"/>
                </a:lnTo>
                <a:lnTo>
                  <a:pt x="1620" y="884"/>
                </a:lnTo>
                <a:lnTo>
                  <a:pt x="1614" y="889"/>
                </a:lnTo>
                <a:lnTo>
                  <a:pt x="1611" y="896"/>
                </a:lnTo>
                <a:lnTo>
                  <a:pt x="1611" y="899"/>
                </a:lnTo>
                <a:lnTo>
                  <a:pt x="1610" y="907"/>
                </a:lnTo>
                <a:lnTo>
                  <a:pt x="1608" y="925"/>
                </a:lnTo>
                <a:lnTo>
                  <a:pt x="1610" y="960"/>
                </a:lnTo>
                <a:lnTo>
                  <a:pt x="1615" y="975"/>
                </a:lnTo>
                <a:lnTo>
                  <a:pt x="1626" y="990"/>
                </a:lnTo>
                <a:lnTo>
                  <a:pt x="1633" y="996"/>
                </a:lnTo>
                <a:lnTo>
                  <a:pt x="1633" y="999"/>
                </a:lnTo>
                <a:lnTo>
                  <a:pt x="1633" y="1002"/>
                </a:lnTo>
                <a:lnTo>
                  <a:pt x="1631" y="1003"/>
                </a:lnTo>
                <a:lnTo>
                  <a:pt x="1629" y="1007"/>
                </a:lnTo>
                <a:lnTo>
                  <a:pt x="1623" y="1017"/>
                </a:lnTo>
                <a:lnTo>
                  <a:pt x="1621" y="1020"/>
                </a:lnTo>
                <a:lnTo>
                  <a:pt x="1618" y="1026"/>
                </a:lnTo>
                <a:lnTo>
                  <a:pt x="1620" y="1032"/>
                </a:lnTo>
                <a:lnTo>
                  <a:pt x="1621" y="1036"/>
                </a:lnTo>
                <a:lnTo>
                  <a:pt x="1624" y="1042"/>
                </a:lnTo>
                <a:lnTo>
                  <a:pt x="1630" y="1051"/>
                </a:lnTo>
                <a:lnTo>
                  <a:pt x="1637" y="1061"/>
                </a:lnTo>
                <a:lnTo>
                  <a:pt x="1642" y="1070"/>
                </a:lnTo>
                <a:lnTo>
                  <a:pt x="1640" y="1078"/>
                </a:lnTo>
                <a:lnTo>
                  <a:pt x="1640" y="1078"/>
                </a:lnTo>
                <a:lnTo>
                  <a:pt x="1633" y="1088"/>
                </a:lnTo>
                <a:lnTo>
                  <a:pt x="1615" y="1107"/>
                </a:lnTo>
                <a:lnTo>
                  <a:pt x="1575" y="1135"/>
                </a:lnTo>
                <a:lnTo>
                  <a:pt x="1555" y="1141"/>
                </a:lnTo>
                <a:lnTo>
                  <a:pt x="1536" y="1142"/>
                </a:lnTo>
                <a:lnTo>
                  <a:pt x="1527" y="1139"/>
                </a:lnTo>
                <a:lnTo>
                  <a:pt x="1508" y="1135"/>
                </a:lnTo>
                <a:lnTo>
                  <a:pt x="1473" y="1128"/>
                </a:lnTo>
                <a:lnTo>
                  <a:pt x="1404" y="1120"/>
                </a:lnTo>
                <a:lnTo>
                  <a:pt x="1336" y="1104"/>
                </a:lnTo>
                <a:lnTo>
                  <a:pt x="1320" y="1096"/>
                </a:lnTo>
                <a:lnTo>
                  <a:pt x="1314" y="1094"/>
                </a:lnTo>
                <a:lnTo>
                  <a:pt x="1307" y="1093"/>
                </a:lnTo>
                <a:lnTo>
                  <a:pt x="1300" y="1094"/>
                </a:lnTo>
                <a:lnTo>
                  <a:pt x="1284" y="1099"/>
                </a:lnTo>
                <a:lnTo>
                  <a:pt x="1269" y="1107"/>
                </a:lnTo>
                <a:lnTo>
                  <a:pt x="1258" y="1119"/>
                </a:lnTo>
                <a:lnTo>
                  <a:pt x="1250" y="1133"/>
                </a:lnTo>
                <a:lnTo>
                  <a:pt x="1250" y="1141"/>
                </a:lnTo>
                <a:lnTo>
                  <a:pt x="1249" y="1161"/>
                </a:lnTo>
                <a:lnTo>
                  <a:pt x="1246" y="1199"/>
                </a:lnTo>
                <a:lnTo>
                  <a:pt x="1226" y="1271"/>
                </a:lnTo>
                <a:lnTo>
                  <a:pt x="1200" y="1341"/>
                </a:lnTo>
                <a:lnTo>
                  <a:pt x="1194" y="1357"/>
                </a:lnTo>
                <a:lnTo>
                  <a:pt x="1198" y="1358"/>
                </a:lnTo>
                <a:lnTo>
                  <a:pt x="1204" y="1358"/>
                </a:lnTo>
                <a:lnTo>
                  <a:pt x="1208" y="1361"/>
                </a:lnTo>
                <a:lnTo>
                  <a:pt x="1211" y="1364"/>
                </a:lnTo>
                <a:lnTo>
                  <a:pt x="1216" y="1367"/>
                </a:lnTo>
                <a:lnTo>
                  <a:pt x="1220" y="1375"/>
                </a:lnTo>
                <a:lnTo>
                  <a:pt x="1226" y="1383"/>
                </a:lnTo>
                <a:lnTo>
                  <a:pt x="1230" y="1391"/>
                </a:lnTo>
                <a:lnTo>
                  <a:pt x="1234" y="1394"/>
                </a:lnTo>
                <a:lnTo>
                  <a:pt x="1236" y="1399"/>
                </a:lnTo>
                <a:lnTo>
                  <a:pt x="1237" y="1401"/>
                </a:lnTo>
                <a:lnTo>
                  <a:pt x="1239" y="1407"/>
                </a:lnTo>
                <a:lnTo>
                  <a:pt x="1237" y="1415"/>
                </a:lnTo>
                <a:lnTo>
                  <a:pt x="1236" y="1420"/>
                </a:lnTo>
                <a:lnTo>
                  <a:pt x="1232" y="1423"/>
                </a:lnTo>
                <a:lnTo>
                  <a:pt x="1229" y="1423"/>
                </a:lnTo>
                <a:lnTo>
                  <a:pt x="1216" y="1423"/>
                </a:lnTo>
                <a:lnTo>
                  <a:pt x="1192" y="1423"/>
                </a:lnTo>
                <a:lnTo>
                  <a:pt x="1149" y="1416"/>
                </a:lnTo>
                <a:lnTo>
                  <a:pt x="1104" y="1397"/>
                </a:lnTo>
                <a:lnTo>
                  <a:pt x="1094" y="1390"/>
                </a:lnTo>
                <a:lnTo>
                  <a:pt x="1084" y="1387"/>
                </a:lnTo>
                <a:lnTo>
                  <a:pt x="1074" y="1384"/>
                </a:lnTo>
                <a:lnTo>
                  <a:pt x="1062" y="1384"/>
                </a:lnTo>
                <a:lnTo>
                  <a:pt x="1039" y="1388"/>
                </a:lnTo>
                <a:lnTo>
                  <a:pt x="1014" y="1396"/>
                </a:lnTo>
                <a:lnTo>
                  <a:pt x="964" y="1410"/>
                </a:lnTo>
                <a:lnTo>
                  <a:pt x="952" y="1412"/>
                </a:lnTo>
                <a:lnTo>
                  <a:pt x="945" y="1413"/>
                </a:lnTo>
                <a:lnTo>
                  <a:pt x="932" y="1416"/>
                </a:lnTo>
                <a:lnTo>
                  <a:pt x="908" y="1426"/>
                </a:lnTo>
                <a:lnTo>
                  <a:pt x="890" y="1442"/>
                </a:lnTo>
                <a:lnTo>
                  <a:pt x="887" y="1446"/>
                </a:lnTo>
                <a:lnTo>
                  <a:pt x="882" y="1455"/>
                </a:lnTo>
                <a:lnTo>
                  <a:pt x="881" y="1462"/>
                </a:lnTo>
                <a:lnTo>
                  <a:pt x="881" y="1468"/>
                </a:lnTo>
                <a:lnTo>
                  <a:pt x="882" y="1474"/>
                </a:lnTo>
                <a:lnTo>
                  <a:pt x="885" y="1478"/>
                </a:lnTo>
                <a:lnTo>
                  <a:pt x="890" y="1483"/>
                </a:lnTo>
                <a:lnTo>
                  <a:pt x="895" y="1486"/>
                </a:lnTo>
                <a:lnTo>
                  <a:pt x="903" y="1487"/>
                </a:lnTo>
                <a:lnTo>
                  <a:pt x="917" y="1490"/>
                </a:lnTo>
                <a:lnTo>
                  <a:pt x="933" y="1487"/>
                </a:lnTo>
                <a:lnTo>
                  <a:pt x="935" y="1487"/>
                </a:lnTo>
                <a:lnTo>
                  <a:pt x="935" y="1499"/>
                </a:lnTo>
                <a:lnTo>
                  <a:pt x="933" y="1522"/>
                </a:lnTo>
                <a:lnTo>
                  <a:pt x="929" y="1565"/>
                </a:lnTo>
                <a:lnTo>
                  <a:pt x="932" y="1587"/>
                </a:lnTo>
                <a:lnTo>
                  <a:pt x="940" y="1607"/>
                </a:lnTo>
                <a:lnTo>
                  <a:pt x="949" y="1617"/>
                </a:lnTo>
                <a:lnTo>
                  <a:pt x="950" y="1622"/>
                </a:lnTo>
                <a:lnTo>
                  <a:pt x="950" y="1625"/>
                </a:lnTo>
                <a:lnTo>
                  <a:pt x="950" y="1628"/>
                </a:lnTo>
                <a:lnTo>
                  <a:pt x="949" y="1630"/>
                </a:lnTo>
                <a:lnTo>
                  <a:pt x="946" y="1638"/>
                </a:lnTo>
                <a:lnTo>
                  <a:pt x="942" y="1645"/>
                </a:lnTo>
                <a:lnTo>
                  <a:pt x="942" y="1652"/>
                </a:lnTo>
                <a:lnTo>
                  <a:pt x="943" y="1659"/>
                </a:lnTo>
                <a:lnTo>
                  <a:pt x="945" y="1659"/>
                </a:lnTo>
                <a:lnTo>
                  <a:pt x="949" y="1667"/>
                </a:lnTo>
                <a:lnTo>
                  <a:pt x="959" y="1678"/>
                </a:lnTo>
                <a:lnTo>
                  <a:pt x="982" y="1703"/>
                </a:lnTo>
                <a:lnTo>
                  <a:pt x="990" y="1716"/>
                </a:lnTo>
                <a:lnTo>
                  <a:pt x="991" y="1729"/>
                </a:lnTo>
                <a:lnTo>
                  <a:pt x="991" y="1736"/>
                </a:lnTo>
                <a:lnTo>
                  <a:pt x="987" y="1746"/>
                </a:lnTo>
                <a:lnTo>
                  <a:pt x="981" y="1754"/>
                </a:lnTo>
                <a:lnTo>
                  <a:pt x="974" y="1759"/>
                </a:lnTo>
                <a:lnTo>
                  <a:pt x="965" y="1764"/>
                </a:lnTo>
                <a:lnTo>
                  <a:pt x="946" y="1771"/>
                </a:lnTo>
                <a:lnTo>
                  <a:pt x="929" y="1780"/>
                </a:lnTo>
                <a:lnTo>
                  <a:pt x="917" y="1790"/>
                </a:lnTo>
                <a:lnTo>
                  <a:pt x="913" y="1797"/>
                </a:lnTo>
                <a:lnTo>
                  <a:pt x="911" y="1806"/>
                </a:lnTo>
                <a:lnTo>
                  <a:pt x="913" y="1806"/>
                </a:lnTo>
                <a:lnTo>
                  <a:pt x="913" y="1813"/>
                </a:lnTo>
                <a:lnTo>
                  <a:pt x="916" y="1825"/>
                </a:lnTo>
                <a:lnTo>
                  <a:pt x="921" y="1838"/>
                </a:lnTo>
                <a:lnTo>
                  <a:pt x="932" y="1864"/>
                </a:lnTo>
                <a:lnTo>
                  <a:pt x="935" y="1885"/>
                </a:lnTo>
                <a:lnTo>
                  <a:pt x="933" y="1890"/>
                </a:lnTo>
                <a:lnTo>
                  <a:pt x="932" y="1893"/>
                </a:lnTo>
                <a:lnTo>
                  <a:pt x="927" y="1903"/>
                </a:lnTo>
                <a:lnTo>
                  <a:pt x="913" y="1923"/>
                </a:lnTo>
                <a:lnTo>
                  <a:pt x="900" y="1933"/>
                </a:lnTo>
                <a:lnTo>
                  <a:pt x="877" y="1941"/>
                </a:lnTo>
                <a:lnTo>
                  <a:pt x="835" y="1954"/>
                </a:lnTo>
                <a:lnTo>
                  <a:pt x="758" y="1978"/>
                </a:lnTo>
                <a:lnTo>
                  <a:pt x="682" y="2013"/>
                </a:lnTo>
                <a:lnTo>
                  <a:pt x="664" y="2025"/>
                </a:lnTo>
                <a:lnTo>
                  <a:pt x="648" y="2033"/>
                </a:lnTo>
                <a:lnTo>
                  <a:pt x="617" y="2045"/>
                </a:lnTo>
                <a:lnTo>
                  <a:pt x="585" y="2052"/>
                </a:lnTo>
                <a:lnTo>
                  <a:pt x="523" y="2056"/>
                </a:lnTo>
                <a:lnTo>
                  <a:pt x="478" y="2065"/>
                </a:lnTo>
                <a:lnTo>
                  <a:pt x="467" y="2071"/>
                </a:lnTo>
                <a:lnTo>
                  <a:pt x="456" y="2077"/>
                </a:lnTo>
                <a:lnTo>
                  <a:pt x="449" y="2085"/>
                </a:lnTo>
                <a:lnTo>
                  <a:pt x="433" y="2104"/>
                </a:lnTo>
                <a:lnTo>
                  <a:pt x="403" y="2146"/>
                </a:lnTo>
                <a:lnTo>
                  <a:pt x="371" y="2168"/>
                </a:lnTo>
                <a:lnTo>
                  <a:pt x="365" y="2171"/>
                </a:lnTo>
                <a:lnTo>
                  <a:pt x="355" y="2172"/>
                </a:lnTo>
                <a:lnTo>
                  <a:pt x="336" y="2174"/>
                </a:lnTo>
                <a:lnTo>
                  <a:pt x="316" y="2178"/>
                </a:lnTo>
                <a:lnTo>
                  <a:pt x="312" y="2180"/>
                </a:lnTo>
                <a:lnTo>
                  <a:pt x="310" y="2175"/>
                </a:lnTo>
                <a:lnTo>
                  <a:pt x="309" y="2174"/>
                </a:lnTo>
                <a:lnTo>
                  <a:pt x="306" y="2169"/>
                </a:lnTo>
                <a:lnTo>
                  <a:pt x="301" y="2161"/>
                </a:lnTo>
                <a:lnTo>
                  <a:pt x="303" y="2152"/>
                </a:lnTo>
                <a:lnTo>
                  <a:pt x="293" y="2149"/>
                </a:lnTo>
                <a:lnTo>
                  <a:pt x="275" y="2148"/>
                </a:lnTo>
                <a:lnTo>
                  <a:pt x="258" y="2149"/>
                </a:lnTo>
                <a:lnTo>
                  <a:pt x="241" y="2154"/>
                </a:lnTo>
                <a:lnTo>
                  <a:pt x="206" y="2162"/>
                </a:lnTo>
                <a:lnTo>
                  <a:pt x="199" y="2162"/>
                </a:lnTo>
                <a:lnTo>
                  <a:pt x="193" y="2164"/>
                </a:lnTo>
                <a:lnTo>
                  <a:pt x="185" y="2167"/>
                </a:lnTo>
                <a:lnTo>
                  <a:pt x="177" y="2172"/>
                </a:lnTo>
                <a:lnTo>
                  <a:pt x="171" y="2178"/>
                </a:lnTo>
                <a:lnTo>
                  <a:pt x="159" y="2193"/>
                </a:lnTo>
                <a:lnTo>
                  <a:pt x="157" y="2196"/>
                </a:lnTo>
                <a:lnTo>
                  <a:pt x="152" y="2201"/>
                </a:lnTo>
                <a:lnTo>
                  <a:pt x="148" y="2204"/>
                </a:lnTo>
                <a:lnTo>
                  <a:pt x="143" y="2206"/>
                </a:lnTo>
                <a:lnTo>
                  <a:pt x="139" y="2206"/>
                </a:lnTo>
                <a:lnTo>
                  <a:pt x="135" y="2206"/>
                </a:lnTo>
                <a:lnTo>
                  <a:pt x="130" y="2204"/>
                </a:lnTo>
                <a:lnTo>
                  <a:pt x="125" y="2201"/>
                </a:lnTo>
                <a:lnTo>
                  <a:pt x="119" y="2198"/>
                </a:lnTo>
                <a:lnTo>
                  <a:pt x="114" y="2198"/>
                </a:lnTo>
                <a:lnTo>
                  <a:pt x="114" y="2198"/>
                </a:lnTo>
                <a:lnTo>
                  <a:pt x="109" y="2203"/>
                </a:lnTo>
                <a:lnTo>
                  <a:pt x="99" y="2211"/>
                </a:lnTo>
                <a:lnTo>
                  <a:pt x="77" y="2232"/>
                </a:lnTo>
                <a:lnTo>
                  <a:pt x="71" y="2243"/>
                </a:lnTo>
                <a:lnTo>
                  <a:pt x="70" y="2259"/>
                </a:lnTo>
                <a:lnTo>
                  <a:pt x="72" y="2267"/>
                </a:lnTo>
                <a:lnTo>
                  <a:pt x="72" y="2275"/>
                </a:lnTo>
                <a:lnTo>
                  <a:pt x="72" y="2282"/>
                </a:lnTo>
                <a:lnTo>
                  <a:pt x="68" y="2290"/>
                </a:lnTo>
                <a:lnTo>
                  <a:pt x="64" y="2297"/>
                </a:lnTo>
                <a:lnTo>
                  <a:pt x="51" y="2309"/>
                </a:lnTo>
                <a:lnTo>
                  <a:pt x="38" y="2320"/>
                </a:lnTo>
                <a:lnTo>
                  <a:pt x="28" y="2332"/>
                </a:lnTo>
                <a:lnTo>
                  <a:pt x="26" y="2338"/>
                </a:lnTo>
                <a:lnTo>
                  <a:pt x="25" y="2342"/>
                </a:lnTo>
                <a:lnTo>
                  <a:pt x="26" y="2342"/>
                </a:lnTo>
                <a:lnTo>
                  <a:pt x="28" y="2355"/>
                </a:lnTo>
                <a:lnTo>
                  <a:pt x="32" y="2381"/>
                </a:lnTo>
                <a:lnTo>
                  <a:pt x="51" y="2436"/>
                </a:lnTo>
                <a:lnTo>
                  <a:pt x="64" y="2456"/>
                </a:lnTo>
                <a:lnTo>
                  <a:pt x="72" y="2464"/>
                </a:lnTo>
                <a:lnTo>
                  <a:pt x="83" y="2466"/>
                </a:lnTo>
                <a:lnTo>
                  <a:pt x="93" y="2466"/>
                </a:lnTo>
                <a:lnTo>
                  <a:pt x="94" y="2466"/>
                </a:lnTo>
                <a:lnTo>
                  <a:pt x="101" y="2466"/>
                </a:lnTo>
                <a:lnTo>
                  <a:pt x="119" y="2464"/>
                </a:lnTo>
                <a:lnTo>
                  <a:pt x="154" y="2464"/>
                </a:lnTo>
                <a:lnTo>
                  <a:pt x="168" y="2468"/>
                </a:lnTo>
                <a:lnTo>
                  <a:pt x="181" y="2477"/>
                </a:lnTo>
                <a:lnTo>
                  <a:pt x="187" y="2482"/>
                </a:lnTo>
                <a:lnTo>
                  <a:pt x="188" y="2490"/>
                </a:lnTo>
                <a:lnTo>
                  <a:pt x="190" y="2495"/>
                </a:lnTo>
                <a:lnTo>
                  <a:pt x="190" y="2509"/>
                </a:lnTo>
                <a:lnTo>
                  <a:pt x="185" y="2517"/>
                </a:lnTo>
                <a:lnTo>
                  <a:pt x="183" y="2524"/>
                </a:lnTo>
                <a:lnTo>
                  <a:pt x="183" y="2530"/>
                </a:lnTo>
                <a:lnTo>
                  <a:pt x="184" y="2537"/>
                </a:lnTo>
                <a:lnTo>
                  <a:pt x="187" y="2543"/>
                </a:lnTo>
                <a:lnTo>
                  <a:pt x="194" y="2558"/>
                </a:lnTo>
                <a:lnTo>
                  <a:pt x="200" y="2572"/>
                </a:lnTo>
                <a:lnTo>
                  <a:pt x="203" y="2588"/>
                </a:lnTo>
                <a:lnTo>
                  <a:pt x="199" y="2603"/>
                </a:lnTo>
                <a:lnTo>
                  <a:pt x="199" y="2603"/>
                </a:lnTo>
                <a:lnTo>
                  <a:pt x="201" y="2606"/>
                </a:lnTo>
                <a:lnTo>
                  <a:pt x="204" y="2607"/>
                </a:lnTo>
                <a:lnTo>
                  <a:pt x="207" y="2610"/>
                </a:lnTo>
                <a:lnTo>
                  <a:pt x="209" y="2613"/>
                </a:lnTo>
                <a:lnTo>
                  <a:pt x="209" y="2616"/>
                </a:lnTo>
                <a:lnTo>
                  <a:pt x="210" y="2623"/>
                </a:lnTo>
                <a:lnTo>
                  <a:pt x="210" y="2630"/>
                </a:lnTo>
                <a:lnTo>
                  <a:pt x="213" y="2636"/>
                </a:lnTo>
                <a:lnTo>
                  <a:pt x="216" y="2637"/>
                </a:lnTo>
                <a:lnTo>
                  <a:pt x="199" y="2642"/>
                </a:lnTo>
                <a:lnTo>
                  <a:pt x="161" y="2646"/>
                </a:lnTo>
                <a:lnTo>
                  <a:pt x="78" y="2656"/>
                </a:lnTo>
                <a:lnTo>
                  <a:pt x="43" y="2662"/>
                </a:lnTo>
                <a:lnTo>
                  <a:pt x="19" y="2672"/>
                </a:lnTo>
                <a:lnTo>
                  <a:pt x="13" y="2677"/>
                </a:lnTo>
                <a:lnTo>
                  <a:pt x="12" y="2681"/>
                </a:lnTo>
                <a:lnTo>
                  <a:pt x="9" y="2690"/>
                </a:lnTo>
                <a:lnTo>
                  <a:pt x="7" y="2695"/>
                </a:lnTo>
                <a:lnTo>
                  <a:pt x="7" y="2695"/>
                </a:lnTo>
                <a:lnTo>
                  <a:pt x="6" y="2700"/>
                </a:lnTo>
                <a:lnTo>
                  <a:pt x="1" y="2710"/>
                </a:lnTo>
                <a:lnTo>
                  <a:pt x="0" y="2719"/>
                </a:lnTo>
                <a:lnTo>
                  <a:pt x="0" y="2719"/>
                </a:lnTo>
                <a:lnTo>
                  <a:pt x="3" y="2723"/>
                </a:lnTo>
                <a:lnTo>
                  <a:pt x="7" y="2726"/>
                </a:lnTo>
                <a:lnTo>
                  <a:pt x="16" y="2729"/>
                </a:lnTo>
                <a:lnTo>
                  <a:pt x="26" y="2729"/>
                </a:lnTo>
                <a:lnTo>
                  <a:pt x="39" y="2724"/>
                </a:lnTo>
                <a:lnTo>
                  <a:pt x="48" y="2719"/>
                </a:lnTo>
                <a:lnTo>
                  <a:pt x="55" y="2713"/>
                </a:lnTo>
                <a:lnTo>
                  <a:pt x="72" y="2703"/>
                </a:lnTo>
                <a:lnTo>
                  <a:pt x="104" y="2688"/>
                </a:lnTo>
                <a:lnTo>
                  <a:pt x="135" y="2682"/>
                </a:lnTo>
                <a:lnTo>
                  <a:pt x="143" y="2682"/>
                </a:lnTo>
                <a:lnTo>
                  <a:pt x="151" y="2684"/>
                </a:lnTo>
                <a:lnTo>
                  <a:pt x="170" y="2687"/>
                </a:lnTo>
                <a:lnTo>
                  <a:pt x="207" y="2693"/>
                </a:lnTo>
                <a:lnTo>
                  <a:pt x="233" y="2697"/>
                </a:lnTo>
                <a:lnTo>
                  <a:pt x="238" y="2697"/>
                </a:lnTo>
                <a:lnTo>
                  <a:pt x="242" y="2698"/>
                </a:lnTo>
                <a:lnTo>
                  <a:pt x="246" y="2697"/>
                </a:lnTo>
                <a:lnTo>
                  <a:pt x="255" y="2697"/>
                </a:lnTo>
                <a:lnTo>
                  <a:pt x="280" y="2701"/>
                </a:lnTo>
                <a:lnTo>
                  <a:pt x="301" y="2713"/>
                </a:lnTo>
                <a:lnTo>
                  <a:pt x="307" y="2719"/>
                </a:lnTo>
                <a:lnTo>
                  <a:pt x="320" y="2730"/>
                </a:lnTo>
                <a:lnTo>
                  <a:pt x="341" y="2752"/>
                </a:lnTo>
                <a:lnTo>
                  <a:pt x="355" y="2778"/>
                </a:lnTo>
                <a:lnTo>
                  <a:pt x="359" y="2784"/>
                </a:lnTo>
                <a:lnTo>
                  <a:pt x="358" y="2794"/>
                </a:lnTo>
                <a:lnTo>
                  <a:pt x="354" y="2807"/>
                </a:lnTo>
                <a:lnTo>
                  <a:pt x="352" y="2811"/>
                </a:lnTo>
                <a:lnTo>
                  <a:pt x="349" y="2816"/>
                </a:lnTo>
                <a:lnTo>
                  <a:pt x="346" y="2824"/>
                </a:lnTo>
                <a:lnTo>
                  <a:pt x="343" y="2830"/>
                </a:lnTo>
                <a:lnTo>
                  <a:pt x="343" y="2837"/>
                </a:lnTo>
                <a:lnTo>
                  <a:pt x="345" y="2843"/>
                </a:lnTo>
                <a:lnTo>
                  <a:pt x="349" y="2850"/>
                </a:lnTo>
                <a:lnTo>
                  <a:pt x="354" y="2853"/>
                </a:lnTo>
                <a:lnTo>
                  <a:pt x="358" y="2858"/>
                </a:lnTo>
                <a:lnTo>
                  <a:pt x="365" y="2864"/>
                </a:lnTo>
                <a:lnTo>
                  <a:pt x="380" y="2868"/>
                </a:lnTo>
                <a:lnTo>
                  <a:pt x="394" y="2866"/>
                </a:lnTo>
                <a:lnTo>
                  <a:pt x="400" y="2865"/>
                </a:lnTo>
                <a:lnTo>
                  <a:pt x="403" y="2865"/>
                </a:lnTo>
                <a:lnTo>
                  <a:pt x="410" y="2864"/>
                </a:lnTo>
                <a:lnTo>
                  <a:pt x="422" y="2865"/>
                </a:lnTo>
                <a:lnTo>
                  <a:pt x="436" y="2872"/>
                </a:lnTo>
                <a:lnTo>
                  <a:pt x="442" y="2874"/>
                </a:lnTo>
                <a:lnTo>
                  <a:pt x="448" y="2878"/>
                </a:lnTo>
                <a:lnTo>
                  <a:pt x="471" y="2887"/>
                </a:lnTo>
                <a:lnTo>
                  <a:pt x="530" y="2910"/>
                </a:lnTo>
                <a:lnTo>
                  <a:pt x="572" y="2926"/>
                </a:lnTo>
                <a:lnTo>
                  <a:pt x="575" y="2926"/>
                </a:lnTo>
                <a:lnTo>
                  <a:pt x="577" y="2927"/>
                </a:lnTo>
                <a:lnTo>
                  <a:pt x="584" y="2930"/>
                </a:lnTo>
                <a:lnTo>
                  <a:pt x="588" y="2929"/>
                </a:lnTo>
                <a:lnTo>
                  <a:pt x="594" y="2926"/>
                </a:lnTo>
                <a:lnTo>
                  <a:pt x="598" y="2923"/>
                </a:lnTo>
                <a:lnTo>
                  <a:pt x="610" y="2911"/>
                </a:lnTo>
                <a:lnTo>
                  <a:pt x="656" y="2878"/>
                </a:lnTo>
                <a:lnTo>
                  <a:pt x="732" y="2853"/>
                </a:lnTo>
                <a:lnTo>
                  <a:pt x="755" y="2852"/>
                </a:lnTo>
                <a:lnTo>
                  <a:pt x="761" y="2853"/>
                </a:lnTo>
                <a:lnTo>
                  <a:pt x="782" y="2855"/>
                </a:lnTo>
                <a:lnTo>
                  <a:pt x="806" y="2861"/>
                </a:lnTo>
                <a:lnTo>
                  <a:pt x="811" y="2862"/>
                </a:lnTo>
                <a:lnTo>
                  <a:pt x="813" y="2864"/>
                </a:lnTo>
                <a:lnTo>
                  <a:pt x="827" y="2871"/>
                </a:lnTo>
                <a:lnTo>
                  <a:pt x="878" y="2898"/>
                </a:lnTo>
                <a:lnTo>
                  <a:pt x="921" y="2921"/>
                </a:lnTo>
                <a:lnTo>
                  <a:pt x="926" y="2924"/>
                </a:lnTo>
                <a:lnTo>
                  <a:pt x="927" y="2927"/>
                </a:lnTo>
                <a:lnTo>
                  <a:pt x="932" y="2932"/>
                </a:lnTo>
                <a:lnTo>
                  <a:pt x="935" y="2936"/>
                </a:lnTo>
                <a:lnTo>
                  <a:pt x="937" y="2940"/>
                </a:lnTo>
                <a:lnTo>
                  <a:pt x="937" y="2948"/>
                </a:lnTo>
                <a:lnTo>
                  <a:pt x="936" y="2956"/>
                </a:lnTo>
                <a:lnTo>
                  <a:pt x="935" y="2961"/>
                </a:lnTo>
                <a:lnTo>
                  <a:pt x="930" y="2968"/>
                </a:lnTo>
                <a:lnTo>
                  <a:pt x="921" y="2987"/>
                </a:lnTo>
                <a:lnTo>
                  <a:pt x="893" y="3030"/>
                </a:lnTo>
                <a:lnTo>
                  <a:pt x="866" y="3066"/>
                </a:lnTo>
                <a:lnTo>
                  <a:pt x="864" y="3071"/>
                </a:lnTo>
                <a:lnTo>
                  <a:pt x="862" y="3072"/>
                </a:lnTo>
                <a:lnTo>
                  <a:pt x="858" y="3078"/>
                </a:lnTo>
                <a:lnTo>
                  <a:pt x="839" y="3098"/>
                </a:lnTo>
                <a:lnTo>
                  <a:pt x="803" y="3126"/>
                </a:lnTo>
                <a:lnTo>
                  <a:pt x="791" y="3132"/>
                </a:lnTo>
                <a:lnTo>
                  <a:pt x="790" y="3132"/>
                </a:lnTo>
                <a:lnTo>
                  <a:pt x="781" y="3132"/>
                </a:lnTo>
                <a:lnTo>
                  <a:pt x="752" y="3129"/>
                </a:lnTo>
                <a:lnTo>
                  <a:pt x="730" y="3127"/>
                </a:lnTo>
                <a:lnTo>
                  <a:pt x="730" y="3126"/>
                </a:lnTo>
                <a:lnTo>
                  <a:pt x="729" y="3127"/>
                </a:lnTo>
                <a:lnTo>
                  <a:pt x="727" y="3130"/>
                </a:lnTo>
                <a:lnTo>
                  <a:pt x="722" y="3140"/>
                </a:lnTo>
                <a:lnTo>
                  <a:pt x="717" y="3148"/>
                </a:lnTo>
                <a:lnTo>
                  <a:pt x="717" y="3148"/>
                </a:lnTo>
                <a:lnTo>
                  <a:pt x="714" y="3152"/>
                </a:lnTo>
                <a:lnTo>
                  <a:pt x="710" y="3158"/>
                </a:lnTo>
                <a:lnTo>
                  <a:pt x="707" y="3162"/>
                </a:lnTo>
                <a:lnTo>
                  <a:pt x="706" y="3165"/>
                </a:lnTo>
                <a:lnTo>
                  <a:pt x="706" y="3169"/>
                </a:lnTo>
                <a:lnTo>
                  <a:pt x="709" y="3177"/>
                </a:lnTo>
                <a:lnTo>
                  <a:pt x="711" y="3181"/>
                </a:lnTo>
                <a:lnTo>
                  <a:pt x="716" y="3191"/>
                </a:lnTo>
                <a:lnTo>
                  <a:pt x="727" y="3208"/>
                </a:lnTo>
                <a:lnTo>
                  <a:pt x="756" y="3237"/>
                </a:lnTo>
                <a:lnTo>
                  <a:pt x="791" y="3262"/>
                </a:lnTo>
                <a:lnTo>
                  <a:pt x="801" y="3266"/>
                </a:lnTo>
                <a:lnTo>
                  <a:pt x="810" y="3274"/>
                </a:lnTo>
                <a:lnTo>
                  <a:pt x="814" y="3282"/>
                </a:lnTo>
                <a:lnTo>
                  <a:pt x="817" y="3290"/>
                </a:lnTo>
                <a:lnTo>
                  <a:pt x="816" y="3300"/>
                </a:lnTo>
                <a:lnTo>
                  <a:pt x="814" y="3308"/>
                </a:lnTo>
                <a:lnTo>
                  <a:pt x="808" y="3319"/>
                </a:lnTo>
                <a:lnTo>
                  <a:pt x="797" y="3339"/>
                </a:lnTo>
                <a:lnTo>
                  <a:pt x="775" y="3381"/>
                </a:lnTo>
                <a:lnTo>
                  <a:pt x="775" y="3381"/>
                </a:lnTo>
                <a:lnTo>
                  <a:pt x="774" y="3382"/>
                </a:lnTo>
                <a:lnTo>
                  <a:pt x="772" y="3384"/>
                </a:lnTo>
                <a:lnTo>
                  <a:pt x="769" y="3388"/>
                </a:lnTo>
                <a:lnTo>
                  <a:pt x="764" y="3391"/>
                </a:lnTo>
                <a:lnTo>
                  <a:pt x="758" y="3392"/>
                </a:lnTo>
                <a:lnTo>
                  <a:pt x="751" y="3392"/>
                </a:lnTo>
                <a:lnTo>
                  <a:pt x="745" y="3390"/>
                </a:lnTo>
                <a:lnTo>
                  <a:pt x="745" y="3390"/>
                </a:lnTo>
                <a:lnTo>
                  <a:pt x="740" y="3388"/>
                </a:lnTo>
                <a:lnTo>
                  <a:pt x="735" y="3382"/>
                </a:lnTo>
                <a:lnTo>
                  <a:pt x="722" y="3371"/>
                </a:lnTo>
                <a:lnTo>
                  <a:pt x="710" y="3361"/>
                </a:lnTo>
                <a:lnTo>
                  <a:pt x="709" y="3358"/>
                </a:lnTo>
                <a:lnTo>
                  <a:pt x="704" y="3356"/>
                </a:lnTo>
                <a:lnTo>
                  <a:pt x="700" y="3355"/>
                </a:lnTo>
                <a:lnTo>
                  <a:pt x="695" y="3355"/>
                </a:lnTo>
                <a:lnTo>
                  <a:pt x="687" y="3356"/>
                </a:lnTo>
                <a:lnTo>
                  <a:pt x="678" y="3359"/>
                </a:lnTo>
                <a:lnTo>
                  <a:pt x="672" y="3363"/>
                </a:lnTo>
                <a:lnTo>
                  <a:pt x="671" y="3366"/>
                </a:lnTo>
                <a:lnTo>
                  <a:pt x="671" y="3369"/>
                </a:lnTo>
                <a:lnTo>
                  <a:pt x="671" y="3371"/>
                </a:lnTo>
                <a:lnTo>
                  <a:pt x="672" y="3371"/>
                </a:lnTo>
                <a:lnTo>
                  <a:pt x="678" y="3384"/>
                </a:lnTo>
                <a:lnTo>
                  <a:pt x="690" y="3408"/>
                </a:lnTo>
                <a:lnTo>
                  <a:pt x="704" y="3458"/>
                </a:lnTo>
                <a:lnTo>
                  <a:pt x="698" y="3508"/>
                </a:lnTo>
                <a:lnTo>
                  <a:pt x="693" y="3520"/>
                </a:lnTo>
                <a:lnTo>
                  <a:pt x="697" y="3520"/>
                </a:lnTo>
                <a:lnTo>
                  <a:pt x="701" y="3520"/>
                </a:lnTo>
                <a:lnTo>
                  <a:pt x="706" y="3520"/>
                </a:lnTo>
                <a:lnTo>
                  <a:pt x="713" y="3523"/>
                </a:lnTo>
                <a:lnTo>
                  <a:pt x="730" y="3529"/>
                </a:lnTo>
                <a:lnTo>
                  <a:pt x="746" y="3524"/>
                </a:lnTo>
                <a:lnTo>
                  <a:pt x="751" y="3523"/>
                </a:lnTo>
                <a:lnTo>
                  <a:pt x="756" y="3523"/>
                </a:lnTo>
                <a:lnTo>
                  <a:pt x="761" y="3526"/>
                </a:lnTo>
                <a:lnTo>
                  <a:pt x="765" y="3529"/>
                </a:lnTo>
                <a:lnTo>
                  <a:pt x="768" y="3533"/>
                </a:lnTo>
                <a:lnTo>
                  <a:pt x="774" y="3545"/>
                </a:lnTo>
                <a:lnTo>
                  <a:pt x="779" y="3556"/>
                </a:lnTo>
                <a:lnTo>
                  <a:pt x="785" y="3565"/>
                </a:lnTo>
                <a:lnTo>
                  <a:pt x="790" y="3566"/>
                </a:lnTo>
                <a:lnTo>
                  <a:pt x="804" y="3575"/>
                </a:lnTo>
                <a:lnTo>
                  <a:pt x="835" y="3589"/>
                </a:lnTo>
                <a:lnTo>
                  <a:pt x="894" y="3621"/>
                </a:lnTo>
                <a:lnTo>
                  <a:pt x="949" y="3659"/>
                </a:lnTo>
                <a:lnTo>
                  <a:pt x="962" y="3669"/>
                </a:lnTo>
                <a:lnTo>
                  <a:pt x="971" y="3676"/>
                </a:lnTo>
                <a:lnTo>
                  <a:pt x="975" y="3681"/>
                </a:lnTo>
                <a:lnTo>
                  <a:pt x="977" y="3681"/>
                </a:lnTo>
                <a:lnTo>
                  <a:pt x="978" y="3682"/>
                </a:lnTo>
                <a:lnTo>
                  <a:pt x="982" y="3687"/>
                </a:lnTo>
                <a:lnTo>
                  <a:pt x="987" y="3689"/>
                </a:lnTo>
                <a:lnTo>
                  <a:pt x="988" y="3689"/>
                </a:lnTo>
                <a:lnTo>
                  <a:pt x="992" y="3685"/>
                </a:lnTo>
                <a:lnTo>
                  <a:pt x="997" y="3684"/>
                </a:lnTo>
                <a:lnTo>
                  <a:pt x="1001" y="3684"/>
                </a:lnTo>
                <a:lnTo>
                  <a:pt x="1004" y="3687"/>
                </a:lnTo>
                <a:lnTo>
                  <a:pt x="1008" y="3691"/>
                </a:lnTo>
                <a:lnTo>
                  <a:pt x="1013" y="3695"/>
                </a:lnTo>
                <a:lnTo>
                  <a:pt x="1021" y="3707"/>
                </a:lnTo>
                <a:lnTo>
                  <a:pt x="1030" y="3718"/>
                </a:lnTo>
                <a:lnTo>
                  <a:pt x="1039" y="3726"/>
                </a:lnTo>
                <a:lnTo>
                  <a:pt x="1040" y="3726"/>
                </a:lnTo>
                <a:lnTo>
                  <a:pt x="1039" y="3718"/>
                </a:lnTo>
                <a:lnTo>
                  <a:pt x="1039" y="3710"/>
                </a:lnTo>
                <a:lnTo>
                  <a:pt x="1040" y="3702"/>
                </a:lnTo>
                <a:lnTo>
                  <a:pt x="1042" y="3700"/>
                </a:lnTo>
                <a:lnTo>
                  <a:pt x="1045" y="3697"/>
                </a:lnTo>
                <a:lnTo>
                  <a:pt x="1046" y="3694"/>
                </a:lnTo>
                <a:lnTo>
                  <a:pt x="1050" y="3691"/>
                </a:lnTo>
                <a:lnTo>
                  <a:pt x="1061" y="3685"/>
                </a:lnTo>
                <a:lnTo>
                  <a:pt x="1068" y="3681"/>
                </a:lnTo>
                <a:lnTo>
                  <a:pt x="1069" y="3679"/>
                </a:lnTo>
                <a:lnTo>
                  <a:pt x="1075" y="3675"/>
                </a:lnTo>
                <a:lnTo>
                  <a:pt x="1088" y="3669"/>
                </a:lnTo>
                <a:lnTo>
                  <a:pt x="1094" y="3668"/>
                </a:lnTo>
                <a:lnTo>
                  <a:pt x="1100" y="3669"/>
                </a:lnTo>
                <a:lnTo>
                  <a:pt x="1104" y="3669"/>
                </a:lnTo>
                <a:lnTo>
                  <a:pt x="1114" y="3676"/>
                </a:lnTo>
                <a:lnTo>
                  <a:pt x="1134" y="3688"/>
                </a:lnTo>
                <a:lnTo>
                  <a:pt x="1174" y="3713"/>
                </a:lnTo>
                <a:lnTo>
                  <a:pt x="1213" y="3736"/>
                </a:lnTo>
                <a:lnTo>
                  <a:pt x="1224" y="3740"/>
                </a:lnTo>
                <a:lnTo>
                  <a:pt x="1232" y="3745"/>
                </a:lnTo>
                <a:lnTo>
                  <a:pt x="1247" y="3753"/>
                </a:lnTo>
                <a:lnTo>
                  <a:pt x="1279" y="3771"/>
                </a:lnTo>
                <a:lnTo>
                  <a:pt x="1304" y="3794"/>
                </a:lnTo>
                <a:lnTo>
                  <a:pt x="1310" y="3800"/>
                </a:lnTo>
                <a:lnTo>
                  <a:pt x="1313" y="3807"/>
                </a:lnTo>
                <a:lnTo>
                  <a:pt x="1320" y="3821"/>
                </a:lnTo>
                <a:lnTo>
                  <a:pt x="1339" y="3849"/>
                </a:lnTo>
                <a:lnTo>
                  <a:pt x="1349" y="3859"/>
                </a:lnTo>
                <a:lnTo>
                  <a:pt x="1355" y="3860"/>
                </a:lnTo>
                <a:lnTo>
                  <a:pt x="1359" y="3862"/>
                </a:lnTo>
                <a:lnTo>
                  <a:pt x="1363" y="3859"/>
                </a:lnTo>
                <a:lnTo>
                  <a:pt x="1365" y="3859"/>
                </a:lnTo>
                <a:lnTo>
                  <a:pt x="1368" y="3856"/>
                </a:lnTo>
                <a:lnTo>
                  <a:pt x="1371" y="3852"/>
                </a:lnTo>
                <a:lnTo>
                  <a:pt x="1374" y="3847"/>
                </a:lnTo>
                <a:lnTo>
                  <a:pt x="1378" y="3836"/>
                </a:lnTo>
                <a:lnTo>
                  <a:pt x="1384" y="3826"/>
                </a:lnTo>
                <a:lnTo>
                  <a:pt x="1387" y="3823"/>
                </a:lnTo>
                <a:lnTo>
                  <a:pt x="1389" y="3821"/>
                </a:lnTo>
                <a:lnTo>
                  <a:pt x="1394" y="3821"/>
                </a:lnTo>
                <a:lnTo>
                  <a:pt x="1398" y="3823"/>
                </a:lnTo>
                <a:lnTo>
                  <a:pt x="1402" y="3827"/>
                </a:lnTo>
                <a:lnTo>
                  <a:pt x="1404" y="3827"/>
                </a:lnTo>
                <a:lnTo>
                  <a:pt x="1407" y="3831"/>
                </a:lnTo>
                <a:lnTo>
                  <a:pt x="1410" y="3836"/>
                </a:lnTo>
                <a:lnTo>
                  <a:pt x="1413" y="3846"/>
                </a:lnTo>
                <a:lnTo>
                  <a:pt x="1416" y="3858"/>
                </a:lnTo>
                <a:lnTo>
                  <a:pt x="1423" y="3882"/>
                </a:lnTo>
                <a:lnTo>
                  <a:pt x="1429" y="3892"/>
                </a:lnTo>
                <a:lnTo>
                  <a:pt x="1431" y="3897"/>
                </a:lnTo>
                <a:lnTo>
                  <a:pt x="1434" y="3900"/>
                </a:lnTo>
                <a:lnTo>
                  <a:pt x="1439" y="3902"/>
                </a:lnTo>
                <a:lnTo>
                  <a:pt x="1449" y="3905"/>
                </a:lnTo>
                <a:lnTo>
                  <a:pt x="1459" y="3907"/>
                </a:lnTo>
                <a:lnTo>
                  <a:pt x="1478" y="3915"/>
                </a:lnTo>
                <a:lnTo>
                  <a:pt x="1484" y="3918"/>
                </a:lnTo>
                <a:lnTo>
                  <a:pt x="1487" y="3921"/>
                </a:lnTo>
                <a:lnTo>
                  <a:pt x="1491" y="3923"/>
                </a:lnTo>
                <a:lnTo>
                  <a:pt x="1495" y="3923"/>
                </a:lnTo>
                <a:lnTo>
                  <a:pt x="1501" y="3923"/>
                </a:lnTo>
                <a:lnTo>
                  <a:pt x="1511" y="3921"/>
                </a:lnTo>
                <a:lnTo>
                  <a:pt x="1530" y="3917"/>
                </a:lnTo>
                <a:lnTo>
                  <a:pt x="1540" y="3918"/>
                </a:lnTo>
                <a:lnTo>
                  <a:pt x="1542" y="3920"/>
                </a:lnTo>
                <a:lnTo>
                  <a:pt x="1544" y="3923"/>
                </a:lnTo>
                <a:lnTo>
                  <a:pt x="1550" y="3929"/>
                </a:lnTo>
                <a:lnTo>
                  <a:pt x="1555" y="3934"/>
                </a:lnTo>
                <a:lnTo>
                  <a:pt x="1560" y="3950"/>
                </a:lnTo>
                <a:lnTo>
                  <a:pt x="1565" y="3958"/>
                </a:lnTo>
                <a:lnTo>
                  <a:pt x="1566" y="3960"/>
                </a:lnTo>
                <a:lnTo>
                  <a:pt x="1569" y="3965"/>
                </a:lnTo>
                <a:lnTo>
                  <a:pt x="1572" y="3966"/>
                </a:lnTo>
                <a:lnTo>
                  <a:pt x="1576" y="3966"/>
                </a:lnTo>
                <a:lnTo>
                  <a:pt x="1581" y="3965"/>
                </a:lnTo>
                <a:lnTo>
                  <a:pt x="1587" y="3962"/>
                </a:lnTo>
                <a:lnTo>
                  <a:pt x="1589" y="3960"/>
                </a:lnTo>
                <a:lnTo>
                  <a:pt x="1594" y="3960"/>
                </a:lnTo>
                <a:lnTo>
                  <a:pt x="1600" y="3960"/>
                </a:lnTo>
                <a:lnTo>
                  <a:pt x="1604" y="3962"/>
                </a:lnTo>
                <a:lnTo>
                  <a:pt x="1608" y="3965"/>
                </a:lnTo>
                <a:lnTo>
                  <a:pt x="1617" y="3971"/>
                </a:lnTo>
                <a:lnTo>
                  <a:pt x="1626" y="3978"/>
                </a:lnTo>
                <a:lnTo>
                  <a:pt x="1636" y="3979"/>
                </a:lnTo>
                <a:lnTo>
                  <a:pt x="1644" y="3976"/>
                </a:lnTo>
                <a:lnTo>
                  <a:pt x="1646" y="3976"/>
                </a:lnTo>
                <a:lnTo>
                  <a:pt x="1646" y="3979"/>
                </a:lnTo>
                <a:lnTo>
                  <a:pt x="1647" y="3986"/>
                </a:lnTo>
                <a:lnTo>
                  <a:pt x="1653" y="3998"/>
                </a:lnTo>
                <a:lnTo>
                  <a:pt x="1657" y="4002"/>
                </a:lnTo>
                <a:lnTo>
                  <a:pt x="1663" y="4002"/>
                </a:lnTo>
                <a:lnTo>
                  <a:pt x="1666" y="4001"/>
                </a:lnTo>
                <a:lnTo>
                  <a:pt x="1671" y="4000"/>
                </a:lnTo>
                <a:lnTo>
                  <a:pt x="1676" y="3998"/>
                </a:lnTo>
                <a:lnTo>
                  <a:pt x="1681" y="3998"/>
                </a:lnTo>
                <a:lnTo>
                  <a:pt x="1686" y="4000"/>
                </a:lnTo>
                <a:lnTo>
                  <a:pt x="1697" y="4002"/>
                </a:lnTo>
                <a:lnTo>
                  <a:pt x="1707" y="4007"/>
                </a:lnTo>
                <a:lnTo>
                  <a:pt x="1717" y="4008"/>
                </a:lnTo>
                <a:lnTo>
                  <a:pt x="1726" y="4004"/>
                </a:lnTo>
                <a:lnTo>
                  <a:pt x="1727" y="4004"/>
                </a:lnTo>
                <a:lnTo>
                  <a:pt x="1728" y="4001"/>
                </a:lnTo>
                <a:lnTo>
                  <a:pt x="1728" y="4000"/>
                </a:lnTo>
                <a:lnTo>
                  <a:pt x="1728" y="3998"/>
                </a:lnTo>
                <a:lnTo>
                  <a:pt x="1730" y="3994"/>
                </a:lnTo>
                <a:lnTo>
                  <a:pt x="1731" y="3994"/>
                </a:lnTo>
                <a:lnTo>
                  <a:pt x="1739" y="3992"/>
                </a:lnTo>
                <a:lnTo>
                  <a:pt x="1755" y="3992"/>
                </a:lnTo>
                <a:lnTo>
                  <a:pt x="1769" y="3995"/>
                </a:lnTo>
                <a:lnTo>
                  <a:pt x="1784" y="4001"/>
                </a:lnTo>
                <a:lnTo>
                  <a:pt x="1810" y="4017"/>
                </a:lnTo>
                <a:lnTo>
                  <a:pt x="1817" y="4020"/>
                </a:lnTo>
                <a:lnTo>
                  <a:pt x="1827" y="4026"/>
                </a:lnTo>
                <a:lnTo>
                  <a:pt x="1847" y="4030"/>
                </a:lnTo>
                <a:lnTo>
                  <a:pt x="1866" y="4033"/>
                </a:lnTo>
                <a:lnTo>
                  <a:pt x="1904" y="4030"/>
                </a:lnTo>
                <a:lnTo>
                  <a:pt x="1939" y="4026"/>
                </a:lnTo>
                <a:lnTo>
                  <a:pt x="1941" y="4026"/>
                </a:lnTo>
                <a:lnTo>
                  <a:pt x="1955" y="4026"/>
                </a:lnTo>
                <a:lnTo>
                  <a:pt x="1965" y="4026"/>
                </a:lnTo>
                <a:lnTo>
                  <a:pt x="1966" y="4024"/>
                </a:lnTo>
                <a:lnTo>
                  <a:pt x="1970" y="4021"/>
                </a:lnTo>
                <a:lnTo>
                  <a:pt x="1978" y="4018"/>
                </a:lnTo>
                <a:lnTo>
                  <a:pt x="1981" y="4015"/>
                </a:lnTo>
                <a:lnTo>
                  <a:pt x="1992" y="4010"/>
                </a:lnTo>
                <a:lnTo>
                  <a:pt x="1999" y="4005"/>
                </a:lnTo>
                <a:lnTo>
                  <a:pt x="2007" y="4004"/>
                </a:lnTo>
                <a:lnTo>
                  <a:pt x="2014" y="4002"/>
                </a:lnTo>
                <a:lnTo>
                  <a:pt x="2020" y="4002"/>
                </a:lnTo>
                <a:lnTo>
                  <a:pt x="2025" y="4005"/>
                </a:lnTo>
                <a:lnTo>
                  <a:pt x="2028" y="4010"/>
                </a:lnTo>
                <a:lnTo>
                  <a:pt x="2030" y="4013"/>
                </a:lnTo>
                <a:lnTo>
                  <a:pt x="2028" y="4020"/>
                </a:lnTo>
                <a:lnTo>
                  <a:pt x="2030" y="4031"/>
                </a:lnTo>
                <a:lnTo>
                  <a:pt x="2033" y="4055"/>
                </a:lnTo>
                <a:lnTo>
                  <a:pt x="2041" y="4075"/>
                </a:lnTo>
                <a:lnTo>
                  <a:pt x="2044" y="4079"/>
                </a:lnTo>
                <a:lnTo>
                  <a:pt x="2044" y="4081"/>
                </a:lnTo>
                <a:lnTo>
                  <a:pt x="2043" y="4085"/>
                </a:lnTo>
                <a:lnTo>
                  <a:pt x="2044" y="4085"/>
                </a:lnTo>
                <a:lnTo>
                  <a:pt x="2046" y="4082"/>
                </a:lnTo>
                <a:lnTo>
                  <a:pt x="2049" y="4079"/>
                </a:lnTo>
                <a:lnTo>
                  <a:pt x="2053" y="4075"/>
                </a:lnTo>
                <a:lnTo>
                  <a:pt x="2063" y="4068"/>
                </a:lnTo>
                <a:lnTo>
                  <a:pt x="2073" y="4060"/>
                </a:lnTo>
                <a:lnTo>
                  <a:pt x="2079" y="4052"/>
                </a:lnTo>
                <a:lnTo>
                  <a:pt x="2081" y="4046"/>
                </a:lnTo>
                <a:lnTo>
                  <a:pt x="2079" y="4040"/>
                </a:lnTo>
                <a:lnTo>
                  <a:pt x="2078" y="4033"/>
                </a:lnTo>
                <a:lnTo>
                  <a:pt x="2078" y="4033"/>
                </a:lnTo>
                <a:lnTo>
                  <a:pt x="2082" y="4034"/>
                </a:lnTo>
                <a:lnTo>
                  <a:pt x="2086" y="4033"/>
                </a:lnTo>
                <a:lnTo>
                  <a:pt x="2089" y="4031"/>
                </a:lnTo>
                <a:lnTo>
                  <a:pt x="2091" y="4030"/>
                </a:lnTo>
                <a:lnTo>
                  <a:pt x="2094" y="4027"/>
                </a:lnTo>
                <a:lnTo>
                  <a:pt x="2095" y="4026"/>
                </a:lnTo>
                <a:lnTo>
                  <a:pt x="2098" y="4024"/>
                </a:lnTo>
                <a:lnTo>
                  <a:pt x="2102" y="4020"/>
                </a:lnTo>
                <a:lnTo>
                  <a:pt x="2107" y="4014"/>
                </a:lnTo>
                <a:lnTo>
                  <a:pt x="2114" y="4001"/>
                </a:lnTo>
                <a:lnTo>
                  <a:pt x="2123" y="3994"/>
                </a:lnTo>
                <a:lnTo>
                  <a:pt x="2127" y="3991"/>
                </a:lnTo>
                <a:lnTo>
                  <a:pt x="2136" y="3985"/>
                </a:lnTo>
                <a:lnTo>
                  <a:pt x="2154" y="3971"/>
                </a:lnTo>
                <a:lnTo>
                  <a:pt x="2175" y="3960"/>
                </a:lnTo>
                <a:lnTo>
                  <a:pt x="2182" y="3959"/>
                </a:lnTo>
                <a:lnTo>
                  <a:pt x="2182" y="3962"/>
                </a:lnTo>
                <a:lnTo>
                  <a:pt x="2183" y="3963"/>
                </a:lnTo>
                <a:lnTo>
                  <a:pt x="2185" y="3963"/>
                </a:lnTo>
                <a:lnTo>
                  <a:pt x="2188" y="3965"/>
                </a:lnTo>
                <a:lnTo>
                  <a:pt x="2191" y="3965"/>
                </a:lnTo>
                <a:lnTo>
                  <a:pt x="2195" y="3971"/>
                </a:lnTo>
                <a:lnTo>
                  <a:pt x="2195" y="3972"/>
                </a:lnTo>
                <a:lnTo>
                  <a:pt x="2199" y="3973"/>
                </a:lnTo>
                <a:lnTo>
                  <a:pt x="2202" y="3973"/>
                </a:lnTo>
                <a:lnTo>
                  <a:pt x="2208" y="3972"/>
                </a:lnTo>
                <a:lnTo>
                  <a:pt x="2217" y="3969"/>
                </a:lnTo>
                <a:lnTo>
                  <a:pt x="2223" y="3969"/>
                </a:lnTo>
                <a:lnTo>
                  <a:pt x="2224" y="3972"/>
                </a:lnTo>
                <a:lnTo>
                  <a:pt x="2228" y="3976"/>
                </a:lnTo>
                <a:lnTo>
                  <a:pt x="2237" y="3985"/>
                </a:lnTo>
                <a:lnTo>
                  <a:pt x="2249" y="3991"/>
                </a:lnTo>
                <a:lnTo>
                  <a:pt x="2252" y="3991"/>
                </a:lnTo>
                <a:lnTo>
                  <a:pt x="2256" y="3992"/>
                </a:lnTo>
                <a:lnTo>
                  <a:pt x="2266" y="3995"/>
                </a:lnTo>
                <a:lnTo>
                  <a:pt x="2286" y="4000"/>
                </a:lnTo>
                <a:lnTo>
                  <a:pt x="2307" y="4004"/>
                </a:lnTo>
                <a:lnTo>
                  <a:pt x="2312" y="4004"/>
                </a:lnTo>
                <a:lnTo>
                  <a:pt x="2317" y="4005"/>
                </a:lnTo>
                <a:lnTo>
                  <a:pt x="2321" y="4005"/>
                </a:lnTo>
                <a:lnTo>
                  <a:pt x="2331" y="4004"/>
                </a:lnTo>
                <a:lnTo>
                  <a:pt x="2341" y="4001"/>
                </a:lnTo>
                <a:lnTo>
                  <a:pt x="2359" y="3997"/>
                </a:lnTo>
                <a:lnTo>
                  <a:pt x="2366" y="3998"/>
                </a:lnTo>
                <a:lnTo>
                  <a:pt x="2370" y="4002"/>
                </a:lnTo>
                <a:lnTo>
                  <a:pt x="2379" y="4011"/>
                </a:lnTo>
                <a:lnTo>
                  <a:pt x="2388" y="4021"/>
                </a:lnTo>
                <a:lnTo>
                  <a:pt x="2402" y="4044"/>
                </a:lnTo>
                <a:lnTo>
                  <a:pt x="2415" y="4062"/>
                </a:lnTo>
                <a:lnTo>
                  <a:pt x="2418" y="4060"/>
                </a:lnTo>
                <a:lnTo>
                  <a:pt x="2431" y="4055"/>
                </a:lnTo>
                <a:lnTo>
                  <a:pt x="2441" y="4050"/>
                </a:lnTo>
                <a:lnTo>
                  <a:pt x="2443" y="4049"/>
                </a:lnTo>
                <a:lnTo>
                  <a:pt x="2451" y="4047"/>
                </a:lnTo>
                <a:lnTo>
                  <a:pt x="2467" y="4044"/>
                </a:lnTo>
                <a:lnTo>
                  <a:pt x="2498" y="4039"/>
                </a:lnTo>
                <a:lnTo>
                  <a:pt x="2531" y="4033"/>
                </a:lnTo>
                <a:lnTo>
                  <a:pt x="2541" y="4030"/>
                </a:lnTo>
                <a:lnTo>
                  <a:pt x="2535" y="4018"/>
                </a:lnTo>
                <a:lnTo>
                  <a:pt x="2535" y="4010"/>
                </a:lnTo>
                <a:lnTo>
                  <a:pt x="2537" y="4002"/>
                </a:lnTo>
                <a:lnTo>
                  <a:pt x="2541" y="3997"/>
                </a:lnTo>
                <a:lnTo>
                  <a:pt x="2549" y="3992"/>
                </a:lnTo>
                <a:lnTo>
                  <a:pt x="2556" y="3989"/>
                </a:lnTo>
                <a:lnTo>
                  <a:pt x="2573" y="3982"/>
                </a:lnTo>
                <a:lnTo>
                  <a:pt x="2588" y="3973"/>
                </a:lnTo>
                <a:lnTo>
                  <a:pt x="2593" y="3968"/>
                </a:lnTo>
                <a:lnTo>
                  <a:pt x="2596" y="3959"/>
                </a:lnTo>
                <a:lnTo>
                  <a:pt x="2598" y="3959"/>
                </a:lnTo>
                <a:lnTo>
                  <a:pt x="2599" y="3953"/>
                </a:lnTo>
                <a:lnTo>
                  <a:pt x="2604" y="3942"/>
                </a:lnTo>
                <a:lnTo>
                  <a:pt x="2617" y="3926"/>
                </a:lnTo>
                <a:lnTo>
                  <a:pt x="2633" y="3914"/>
                </a:lnTo>
                <a:lnTo>
                  <a:pt x="2638" y="3911"/>
                </a:lnTo>
                <a:lnTo>
                  <a:pt x="2643" y="3910"/>
                </a:lnTo>
                <a:lnTo>
                  <a:pt x="2656" y="3908"/>
                </a:lnTo>
                <a:lnTo>
                  <a:pt x="2669" y="3910"/>
                </a:lnTo>
                <a:lnTo>
                  <a:pt x="2696" y="3910"/>
                </a:lnTo>
                <a:lnTo>
                  <a:pt x="2714" y="3905"/>
                </a:lnTo>
                <a:lnTo>
                  <a:pt x="2722" y="3900"/>
                </a:lnTo>
                <a:lnTo>
                  <a:pt x="2731" y="3892"/>
                </a:lnTo>
                <a:lnTo>
                  <a:pt x="2747" y="3875"/>
                </a:lnTo>
                <a:lnTo>
                  <a:pt x="2777" y="3840"/>
                </a:lnTo>
                <a:lnTo>
                  <a:pt x="2817" y="3830"/>
                </a:lnTo>
                <a:lnTo>
                  <a:pt x="2821" y="3833"/>
                </a:lnTo>
                <a:lnTo>
                  <a:pt x="2831" y="3837"/>
                </a:lnTo>
                <a:lnTo>
                  <a:pt x="2854" y="3850"/>
                </a:lnTo>
                <a:lnTo>
                  <a:pt x="2880" y="3859"/>
                </a:lnTo>
                <a:lnTo>
                  <a:pt x="2888" y="3859"/>
                </a:lnTo>
                <a:lnTo>
                  <a:pt x="2892" y="3860"/>
                </a:lnTo>
                <a:lnTo>
                  <a:pt x="2896" y="3866"/>
                </a:lnTo>
                <a:lnTo>
                  <a:pt x="2896" y="3869"/>
                </a:lnTo>
                <a:lnTo>
                  <a:pt x="2896" y="3872"/>
                </a:lnTo>
                <a:lnTo>
                  <a:pt x="2896" y="3873"/>
                </a:lnTo>
                <a:lnTo>
                  <a:pt x="2905" y="3871"/>
                </a:lnTo>
                <a:lnTo>
                  <a:pt x="2914" y="3866"/>
                </a:lnTo>
                <a:lnTo>
                  <a:pt x="2931" y="3853"/>
                </a:lnTo>
                <a:lnTo>
                  <a:pt x="2947" y="3839"/>
                </a:lnTo>
                <a:lnTo>
                  <a:pt x="2961" y="3827"/>
                </a:lnTo>
                <a:lnTo>
                  <a:pt x="2979" y="3821"/>
                </a:lnTo>
                <a:lnTo>
                  <a:pt x="2989" y="3823"/>
                </a:lnTo>
                <a:lnTo>
                  <a:pt x="2998" y="3826"/>
                </a:lnTo>
                <a:lnTo>
                  <a:pt x="2999" y="3826"/>
                </a:lnTo>
                <a:lnTo>
                  <a:pt x="3003" y="3830"/>
                </a:lnTo>
                <a:lnTo>
                  <a:pt x="3008" y="3836"/>
                </a:lnTo>
                <a:lnTo>
                  <a:pt x="3011" y="3840"/>
                </a:lnTo>
                <a:lnTo>
                  <a:pt x="3014" y="3846"/>
                </a:lnTo>
                <a:lnTo>
                  <a:pt x="3014" y="3852"/>
                </a:lnTo>
                <a:lnTo>
                  <a:pt x="3014" y="3859"/>
                </a:lnTo>
                <a:lnTo>
                  <a:pt x="3011" y="3872"/>
                </a:lnTo>
                <a:lnTo>
                  <a:pt x="3005" y="3887"/>
                </a:lnTo>
                <a:lnTo>
                  <a:pt x="3001" y="3900"/>
                </a:lnTo>
                <a:lnTo>
                  <a:pt x="3001" y="3900"/>
                </a:lnTo>
                <a:lnTo>
                  <a:pt x="3003" y="3898"/>
                </a:lnTo>
                <a:lnTo>
                  <a:pt x="3012" y="3892"/>
                </a:lnTo>
                <a:lnTo>
                  <a:pt x="3028" y="3882"/>
                </a:lnTo>
                <a:lnTo>
                  <a:pt x="3045" y="3875"/>
                </a:lnTo>
                <a:lnTo>
                  <a:pt x="3051" y="3873"/>
                </a:lnTo>
                <a:lnTo>
                  <a:pt x="3051" y="3878"/>
                </a:lnTo>
                <a:lnTo>
                  <a:pt x="3053" y="3881"/>
                </a:lnTo>
                <a:lnTo>
                  <a:pt x="3056" y="3884"/>
                </a:lnTo>
                <a:lnTo>
                  <a:pt x="3059" y="3885"/>
                </a:lnTo>
                <a:lnTo>
                  <a:pt x="3064" y="3891"/>
                </a:lnTo>
                <a:lnTo>
                  <a:pt x="3069" y="3895"/>
                </a:lnTo>
                <a:lnTo>
                  <a:pt x="3072" y="3901"/>
                </a:lnTo>
                <a:lnTo>
                  <a:pt x="3069" y="3907"/>
                </a:lnTo>
                <a:lnTo>
                  <a:pt x="3069" y="3907"/>
                </a:lnTo>
                <a:lnTo>
                  <a:pt x="3064" y="3913"/>
                </a:lnTo>
                <a:lnTo>
                  <a:pt x="3056" y="3921"/>
                </a:lnTo>
                <a:lnTo>
                  <a:pt x="3045" y="3929"/>
                </a:lnTo>
                <a:lnTo>
                  <a:pt x="3027" y="3939"/>
                </a:lnTo>
                <a:lnTo>
                  <a:pt x="3011" y="3944"/>
                </a:lnTo>
                <a:lnTo>
                  <a:pt x="3009" y="3946"/>
                </a:lnTo>
                <a:lnTo>
                  <a:pt x="3008" y="3947"/>
                </a:lnTo>
                <a:lnTo>
                  <a:pt x="3008" y="3949"/>
                </a:lnTo>
                <a:lnTo>
                  <a:pt x="3008" y="3950"/>
                </a:lnTo>
                <a:lnTo>
                  <a:pt x="3008" y="3952"/>
                </a:lnTo>
                <a:lnTo>
                  <a:pt x="3009" y="3953"/>
                </a:lnTo>
                <a:lnTo>
                  <a:pt x="3012" y="3956"/>
                </a:lnTo>
                <a:lnTo>
                  <a:pt x="3016" y="3959"/>
                </a:lnTo>
                <a:lnTo>
                  <a:pt x="3018" y="3959"/>
                </a:lnTo>
                <a:lnTo>
                  <a:pt x="3025" y="3960"/>
                </a:lnTo>
                <a:lnTo>
                  <a:pt x="3041" y="3959"/>
                </a:lnTo>
                <a:lnTo>
                  <a:pt x="3069" y="3959"/>
                </a:lnTo>
                <a:lnTo>
                  <a:pt x="3096" y="3966"/>
                </a:lnTo>
                <a:lnTo>
                  <a:pt x="3105" y="3969"/>
                </a:lnTo>
                <a:lnTo>
                  <a:pt x="3105" y="3963"/>
                </a:lnTo>
                <a:lnTo>
                  <a:pt x="3106" y="3958"/>
                </a:lnTo>
                <a:lnTo>
                  <a:pt x="3111" y="3956"/>
                </a:lnTo>
                <a:lnTo>
                  <a:pt x="3116" y="3959"/>
                </a:lnTo>
                <a:lnTo>
                  <a:pt x="3122" y="3962"/>
                </a:lnTo>
                <a:lnTo>
                  <a:pt x="3128" y="3962"/>
                </a:lnTo>
                <a:lnTo>
                  <a:pt x="3131" y="3960"/>
                </a:lnTo>
                <a:lnTo>
                  <a:pt x="3140" y="3968"/>
                </a:lnTo>
                <a:lnTo>
                  <a:pt x="3145" y="3972"/>
                </a:lnTo>
                <a:lnTo>
                  <a:pt x="3147" y="3972"/>
                </a:lnTo>
                <a:lnTo>
                  <a:pt x="3148" y="3973"/>
                </a:lnTo>
                <a:lnTo>
                  <a:pt x="3153" y="3976"/>
                </a:lnTo>
                <a:lnTo>
                  <a:pt x="3156" y="3978"/>
                </a:lnTo>
                <a:lnTo>
                  <a:pt x="3157" y="3978"/>
                </a:lnTo>
                <a:lnTo>
                  <a:pt x="3161" y="3978"/>
                </a:lnTo>
                <a:lnTo>
                  <a:pt x="3169" y="3976"/>
                </a:lnTo>
                <a:lnTo>
                  <a:pt x="3173" y="3973"/>
                </a:lnTo>
                <a:lnTo>
                  <a:pt x="3174" y="3969"/>
                </a:lnTo>
                <a:lnTo>
                  <a:pt x="3173" y="3965"/>
                </a:lnTo>
                <a:lnTo>
                  <a:pt x="3173" y="3963"/>
                </a:lnTo>
                <a:lnTo>
                  <a:pt x="3173" y="3962"/>
                </a:lnTo>
                <a:lnTo>
                  <a:pt x="3172" y="3960"/>
                </a:lnTo>
                <a:lnTo>
                  <a:pt x="3169" y="3956"/>
                </a:lnTo>
                <a:lnTo>
                  <a:pt x="3166" y="3947"/>
                </a:lnTo>
                <a:lnTo>
                  <a:pt x="3164" y="3937"/>
                </a:lnTo>
                <a:lnTo>
                  <a:pt x="3166" y="3934"/>
                </a:lnTo>
                <a:lnTo>
                  <a:pt x="3167" y="3936"/>
                </a:lnTo>
                <a:lnTo>
                  <a:pt x="3172" y="3937"/>
                </a:lnTo>
                <a:lnTo>
                  <a:pt x="3177" y="3934"/>
                </a:lnTo>
                <a:lnTo>
                  <a:pt x="3182" y="3934"/>
                </a:lnTo>
                <a:lnTo>
                  <a:pt x="3190" y="3934"/>
                </a:lnTo>
                <a:lnTo>
                  <a:pt x="3192" y="3934"/>
                </a:lnTo>
                <a:lnTo>
                  <a:pt x="3199" y="3940"/>
                </a:lnTo>
                <a:lnTo>
                  <a:pt x="3215" y="3952"/>
                </a:lnTo>
                <a:lnTo>
                  <a:pt x="3243" y="3976"/>
                </a:lnTo>
                <a:lnTo>
                  <a:pt x="3263" y="4005"/>
                </a:lnTo>
                <a:lnTo>
                  <a:pt x="3266" y="4013"/>
                </a:lnTo>
                <a:lnTo>
                  <a:pt x="3266" y="4020"/>
                </a:lnTo>
                <a:lnTo>
                  <a:pt x="3267" y="4031"/>
                </a:lnTo>
                <a:lnTo>
                  <a:pt x="3267" y="4052"/>
                </a:lnTo>
                <a:lnTo>
                  <a:pt x="3269" y="4060"/>
                </a:lnTo>
                <a:lnTo>
                  <a:pt x="3274" y="4068"/>
                </a:lnTo>
                <a:lnTo>
                  <a:pt x="3280" y="4069"/>
                </a:lnTo>
                <a:lnTo>
                  <a:pt x="3285" y="4071"/>
                </a:lnTo>
                <a:lnTo>
                  <a:pt x="3287" y="4069"/>
                </a:lnTo>
                <a:lnTo>
                  <a:pt x="3295" y="4068"/>
                </a:lnTo>
                <a:lnTo>
                  <a:pt x="3309" y="4065"/>
                </a:lnTo>
                <a:lnTo>
                  <a:pt x="3321" y="4066"/>
                </a:lnTo>
                <a:lnTo>
                  <a:pt x="3324" y="4071"/>
                </a:lnTo>
                <a:lnTo>
                  <a:pt x="3329" y="4078"/>
                </a:lnTo>
                <a:lnTo>
                  <a:pt x="3338" y="4098"/>
                </a:lnTo>
                <a:lnTo>
                  <a:pt x="3338" y="4110"/>
                </a:lnTo>
                <a:lnTo>
                  <a:pt x="3335" y="4121"/>
                </a:lnTo>
                <a:lnTo>
                  <a:pt x="3334" y="4127"/>
                </a:lnTo>
                <a:lnTo>
                  <a:pt x="3329" y="4136"/>
                </a:lnTo>
                <a:lnTo>
                  <a:pt x="3329" y="4143"/>
                </a:lnTo>
                <a:lnTo>
                  <a:pt x="3331" y="4150"/>
                </a:lnTo>
                <a:lnTo>
                  <a:pt x="3334" y="4157"/>
                </a:lnTo>
                <a:lnTo>
                  <a:pt x="3342" y="4172"/>
                </a:lnTo>
                <a:lnTo>
                  <a:pt x="3351" y="4188"/>
                </a:lnTo>
                <a:lnTo>
                  <a:pt x="3356" y="4204"/>
                </a:lnTo>
                <a:lnTo>
                  <a:pt x="3353" y="4221"/>
                </a:lnTo>
                <a:lnTo>
                  <a:pt x="3353" y="4221"/>
                </a:lnTo>
                <a:lnTo>
                  <a:pt x="3348" y="4228"/>
                </a:lnTo>
                <a:lnTo>
                  <a:pt x="3340" y="4243"/>
                </a:lnTo>
                <a:lnTo>
                  <a:pt x="3324" y="4269"/>
                </a:lnTo>
                <a:lnTo>
                  <a:pt x="3321" y="4284"/>
                </a:lnTo>
                <a:lnTo>
                  <a:pt x="3325" y="4298"/>
                </a:lnTo>
                <a:lnTo>
                  <a:pt x="3331" y="4305"/>
                </a:lnTo>
                <a:lnTo>
                  <a:pt x="3325" y="4308"/>
                </a:lnTo>
                <a:lnTo>
                  <a:pt x="3315" y="4314"/>
                </a:lnTo>
                <a:lnTo>
                  <a:pt x="3299" y="4328"/>
                </a:lnTo>
                <a:lnTo>
                  <a:pt x="3293" y="4336"/>
                </a:lnTo>
                <a:lnTo>
                  <a:pt x="3290" y="4344"/>
                </a:lnTo>
                <a:lnTo>
                  <a:pt x="3290" y="4349"/>
                </a:lnTo>
                <a:lnTo>
                  <a:pt x="3289" y="4359"/>
                </a:lnTo>
                <a:lnTo>
                  <a:pt x="3286" y="4368"/>
                </a:lnTo>
                <a:lnTo>
                  <a:pt x="3282" y="4375"/>
                </a:lnTo>
                <a:lnTo>
                  <a:pt x="3277" y="4381"/>
                </a:lnTo>
                <a:lnTo>
                  <a:pt x="3264" y="4391"/>
                </a:lnTo>
                <a:lnTo>
                  <a:pt x="3250" y="4399"/>
                </a:lnTo>
                <a:lnTo>
                  <a:pt x="3221" y="4414"/>
                </a:lnTo>
                <a:lnTo>
                  <a:pt x="3221" y="4414"/>
                </a:lnTo>
                <a:lnTo>
                  <a:pt x="3215" y="4418"/>
                </a:lnTo>
                <a:lnTo>
                  <a:pt x="3211" y="4423"/>
                </a:lnTo>
                <a:lnTo>
                  <a:pt x="3206" y="4428"/>
                </a:lnTo>
                <a:lnTo>
                  <a:pt x="3201" y="4440"/>
                </a:lnTo>
                <a:lnTo>
                  <a:pt x="3196" y="4453"/>
                </a:lnTo>
                <a:lnTo>
                  <a:pt x="3190" y="4465"/>
                </a:lnTo>
                <a:lnTo>
                  <a:pt x="3180" y="4475"/>
                </a:lnTo>
                <a:lnTo>
                  <a:pt x="3174" y="4478"/>
                </a:lnTo>
                <a:lnTo>
                  <a:pt x="3179" y="4488"/>
                </a:lnTo>
                <a:lnTo>
                  <a:pt x="3190" y="4508"/>
                </a:lnTo>
                <a:lnTo>
                  <a:pt x="3205" y="4550"/>
                </a:lnTo>
                <a:lnTo>
                  <a:pt x="3203" y="4570"/>
                </a:lnTo>
                <a:lnTo>
                  <a:pt x="3192" y="4591"/>
                </a:lnTo>
                <a:lnTo>
                  <a:pt x="3183" y="4599"/>
                </a:lnTo>
                <a:lnTo>
                  <a:pt x="3190" y="4597"/>
                </a:lnTo>
                <a:lnTo>
                  <a:pt x="3205" y="4588"/>
                </a:lnTo>
                <a:lnTo>
                  <a:pt x="3234" y="4572"/>
                </a:lnTo>
                <a:lnTo>
                  <a:pt x="3264" y="4557"/>
                </a:lnTo>
                <a:lnTo>
                  <a:pt x="3273" y="4553"/>
                </a:lnTo>
                <a:lnTo>
                  <a:pt x="3279" y="4552"/>
                </a:lnTo>
                <a:lnTo>
                  <a:pt x="3293" y="4547"/>
                </a:lnTo>
                <a:lnTo>
                  <a:pt x="3324" y="4544"/>
                </a:lnTo>
                <a:lnTo>
                  <a:pt x="3357" y="4555"/>
                </a:lnTo>
                <a:lnTo>
                  <a:pt x="3366" y="4557"/>
                </a:lnTo>
                <a:lnTo>
                  <a:pt x="3357" y="4562"/>
                </a:lnTo>
                <a:lnTo>
                  <a:pt x="3353" y="4568"/>
                </a:lnTo>
                <a:lnTo>
                  <a:pt x="3348" y="4573"/>
                </a:lnTo>
                <a:lnTo>
                  <a:pt x="3345" y="4581"/>
                </a:lnTo>
                <a:lnTo>
                  <a:pt x="3345" y="4589"/>
                </a:lnTo>
                <a:lnTo>
                  <a:pt x="3347" y="4607"/>
                </a:lnTo>
                <a:lnTo>
                  <a:pt x="3351" y="4623"/>
                </a:lnTo>
                <a:lnTo>
                  <a:pt x="3358" y="4637"/>
                </a:lnTo>
                <a:lnTo>
                  <a:pt x="3363" y="4643"/>
                </a:lnTo>
                <a:lnTo>
                  <a:pt x="3364" y="4647"/>
                </a:lnTo>
                <a:lnTo>
                  <a:pt x="3366" y="4652"/>
                </a:lnTo>
                <a:lnTo>
                  <a:pt x="3366" y="4654"/>
                </a:lnTo>
                <a:lnTo>
                  <a:pt x="3364" y="4659"/>
                </a:lnTo>
                <a:lnTo>
                  <a:pt x="3363" y="4666"/>
                </a:lnTo>
                <a:lnTo>
                  <a:pt x="3360" y="4673"/>
                </a:lnTo>
                <a:lnTo>
                  <a:pt x="3358" y="4679"/>
                </a:lnTo>
                <a:lnTo>
                  <a:pt x="3357" y="4685"/>
                </a:lnTo>
                <a:lnTo>
                  <a:pt x="3358" y="4685"/>
                </a:lnTo>
                <a:lnTo>
                  <a:pt x="3361" y="4692"/>
                </a:lnTo>
                <a:lnTo>
                  <a:pt x="3366" y="4695"/>
                </a:lnTo>
                <a:lnTo>
                  <a:pt x="3371" y="4698"/>
                </a:lnTo>
                <a:lnTo>
                  <a:pt x="3379" y="4698"/>
                </a:lnTo>
                <a:lnTo>
                  <a:pt x="3386" y="4698"/>
                </a:lnTo>
                <a:lnTo>
                  <a:pt x="3400" y="4697"/>
                </a:lnTo>
                <a:lnTo>
                  <a:pt x="3413" y="4694"/>
                </a:lnTo>
                <a:lnTo>
                  <a:pt x="3424" y="4695"/>
                </a:lnTo>
                <a:lnTo>
                  <a:pt x="3427" y="4698"/>
                </a:lnTo>
                <a:lnTo>
                  <a:pt x="3428" y="4708"/>
                </a:lnTo>
                <a:lnTo>
                  <a:pt x="3427" y="4720"/>
                </a:lnTo>
                <a:lnTo>
                  <a:pt x="3425" y="4730"/>
                </a:lnTo>
                <a:lnTo>
                  <a:pt x="3418" y="4752"/>
                </a:lnTo>
                <a:lnTo>
                  <a:pt x="3405" y="4798"/>
                </a:lnTo>
                <a:lnTo>
                  <a:pt x="3413" y="4831"/>
                </a:lnTo>
                <a:lnTo>
                  <a:pt x="3418" y="4837"/>
                </a:lnTo>
                <a:lnTo>
                  <a:pt x="3424" y="4840"/>
                </a:lnTo>
                <a:lnTo>
                  <a:pt x="3429" y="4841"/>
                </a:lnTo>
                <a:lnTo>
                  <a:pt x="3438" y="4843"/>
                </a:lnTo>
                <a:lnTo>
                  <a:pt x="3454" y="4843"/>
                </a:lnTo>
                <a:lnTo>
                  <a:pt x="3471" y="4841"/>
                </a:lnTo>
                <a:lnTo>
                  <a:pt x="3487" y="4844"/>
                </a:lnTo>
                <a:lnTo>
                  <a:pt x="3493" y="4849"/>
                </a:lnTo>
                <a:lnTo>
                  <a:pt x="3499" y="4853"/>
                </a:lnTo>
                <a:lnTo>
                  <a:pt x="3500" y="4853"/>
                </a:lnTo>
                <a:lnTo>
                  <a:pt x="3502" y="4857"/>
                </a:lnTo>
                <a:lnTo>
                  <a:pt x="3503" y="4860"/>
                </a:lnTo>
                <a:lnTo>
                  <a:pt x="3503" y="4865"/>
                </a:lnTo>
                <a:lnTo>
                  <a:pt x="3503" y="4869"/>
                </a:lnTo>
                <a:lnTo>
                  <a:pt x="3500" y="4878"/>
                </a:lnTo>
                <a:lnTo>
                  <a:pt x="3496" y="4886"/>
                </a:lnTo>
                <a:lnTo>
                  <a:pt x="3486" y="4902"/>
                </a:lnTo>
                <a:lnTo>
                  <a:pt x="3486" y="4902"/>
                </a:lnTo>
                <a:lnTo>
                  <a:pt x="3495" y="4904"/>
                </a:lnTo>
                <a:lnTo>
                  <a:pt x="3500" y="4907"/>
                </a:lnTo>
                <a:lnTo>
                  <a:pt x="3511" y="4912"/>
                </a:lnTo>
                <a:lnTo>
                  <a:pt x="3519" y="4915"/>
                </a:lnTo>
                <a:lnTo>
                  <a:pt x="3521" y="4917"/>
                </a:lnTo>
                <a:lnTo>
                  <a:pt x="3521" y="4918"/>
                </a:lnTo>
                <a:lnTo>
                  <a:pt x="3519" y="4921"/>
                </a:lnTo>
                <a:lnTo>
                  <a:pt x="3518" y="4923"/>
                </a:lnTo>
                <a:lnTo>
                  <a:pt x="3515" y="4927"/>
                </a:lnTo>
                <a:lnTo>
                  <a:pt x="3511" y="4934"/>
                </a:lnTo>
                <a:lnTo>
                  <a:pt x="3512" y="4934"/>
                </a:lnTo>
                <a:lnTo>
                  <a:pt x="3524" y="4936"/>
                </a:lnTo>
                <a:lnTo>
                  <a:pt x="3548" y="4933"/>
                </a:lnTo>
                <a:lnTo>
                  <a:pt x="3573" y="4925"/>
                </a:lnTo>
                <a:lnTo>
                  <a:pt x="3621" y="4910"/>
                </a:lnTo>
                <a:lnTo>
                  <a:pt x="3658" y="4902"/>
                </a:lnTo>
                <a:lnTo>
                  <a:pt x="3657" y="4905"/>
                </a:lnTo>
                <a:lnTo>
                  <a:pt x="3655" y="4910"/>
                </a:lnTo>
                <a:lnTo>
                  <a:pt x="3654" y="4914"/>
                </a:lnTo>
                <a:lnTo>
                  <a:pt x="3653" y="4915"/>
                </a:lnTo>
                <a:lnTo>
                  <a:pt x="3653" y="4915"/>
                </a:lnTo>
                <a:lnTo>
                  <a:pt x="3651" y="4918"/>
                </a:lnTo>
                <a:lnTo>
                  <a:pt x="3650" y="4925"/>
                </a:lnTo>
                <a:lnTo>
                  <a:pt x="3648" y="4930"/>
                </a:lnTo>
                <a:lnTo>
                  <a:pt x="3648" y="4930"/>
                </a:lnTo>
                <a:lnTo>
                  <a:pt x="3654" y="4936"/>
                </a:lnTo>
                <a:lnTo>
                  <a:pt x="3676" y="4953"/>
                </a:lnTo>
                <a:lnTo>
                  <a:pt x="3697" y="4967"/>
                </a:lnTo>
                <a:lnTo>
                  <a:pt x="3702" y="4969"/>
                </a:lnTo>
                <a:lnTo>
                  <a:pt x="3703" y="4970"/>
                </a:lnTo>
                <a:lnTo>
                  <a:pt x="3709" y="4973"/>
                </a:lnTo>
                <a:lnTo>
                  <a:pt x="3722" y="4973"/>
                </a:lnTo>
                <a:lnTo>
                  <a:pt x="3729" y="4972"/>
                </a:lnTo>
                <a:lnTo>
                  <a:pt x="3737" y="4967"/>
                </a:lnTo>
                <a:lnTo>
                  <a:pt x="3741" y="4963"/>
                </a:lnTo>
                <a:lnTo>
                  <a:pt x="3744" y="4959"/>
                </a:lnTo>
                <a:lnTo>
                  <a:pt x="3747" y="4954"/>
                </a:lnTo>
                <a:lnTo>
                  <a:pt x="3748" y="4949"/>
                </a:lnTo>
                <a:lnTo>
                  <a:pt x="3748" y="4943"/>
                </a:lnTo>
                <a:lnTo>
                  <a:pt x="3747" y="4931"/>
                </a:lnTo>
                <a:lnTo>
                  <a:pt x="3744" y="4921"/>
                </a:lnTo>
                <a:lnTo>
                  <a:pt x="3739" y="4910"/>
                </a:lnTo>
                <a:lnTo>
                  <a:pt x="3741" y="4910"/>
                </a:lnTo>
                <a:lnTo>
                  <a:pt x="3737" y="4905"/>
                </a:lnTo>
                <a:lnTo>
                  <a:pt x="3724" y="4888"/>
                </a:lnTo>
                <a:lnTo>
                  <a:pt x="3713" y="4863"/>
                </a:lnTo>
                <a:lnTo>
                  <a:pt x="3713" y="4856"/>
                </a:lnTo>
                <a:lnTo>
                  <a:pt x="3712" y="4850"/>
                </a:lnTo>
                <a:lnTo>
                  <a:pt x="3710" y="4840"/>
                </a:lnTo>
                <a:lnTo>
                  <a:pt x="3708" y="4830"/>
                </a:lnTo>
                <a:lnTo>
                  <a:pt x="3706" y="4828"/>
                </a:lnTo>
                <a:lnTo>
                  <a:pt x="3705" y="4827"/>
                </a:lnTo>
                <a:lnTo>
                  <a:pt x="3703" y="4825"/>
                </a:lnTo>
                <a:lnTo>
                  <a:pt x="3699" y="4823"/>
                </a:lnTo>
                <a:lnTo>
                  <a:pt x="3697" y="4821"/>
                </a:lnTo>
                <a:lnTo>
                  <a:pt x="3696" y="4815"/>
                </a:lnTo>
                <a:lnTo>
                  <a:pt x="3695" y="4808"/>
                </a:lnTo>
                <a:lnTo>
                  <a:pt x="3695" y="4801"/>
                </a:lnTo>
                <a:lnTo>
                  <a:pt x="3697" y="4792"/>
                </a:lnTo>
                <a:lnTo>
                  <a:pt x="3700" y="4788"/>
                </a:lnTo>
                <a:lnTo>
                  <a:pt x="3703" y="4785"/>
                </a:lnTo>
                <a:lnTo>
                  <a:pt x="3710" y="4781"/>
                </a:lnTo>
                <a:lnTo>
                  <a:pt x="3719" y="4778"/>
                </a:lnTo>
                <a:lnTo>
                  <a:pt x="3728" y="4778"/>
                </a:lnTo>
                <a:lnTo>
                  <a:pt x="3737" y="4778"/>
                </a:lnTo>
                <a:lnTo>
                  <a:pt x="3744" y="4781"/>
                </a:lnTo>
                <a:lnTo>
                  <a:pt x="3748" y="4781"/>
                </a:lnTo>
                <a:lnTo>
                  <a:pt x="3751" y="4782"/>
                </a:lnTo>
                <a:lnTo>
                  <a:pt x="3758" y="4786"/>
                </a:lnTo>
                <a:lnTo>
                  <a:pt x="3779" y="4796"/>
                </a:lnTo>
                <a:lnTo>
                  <a:pt x="3796" y="4804"/>
                </a:lnTo>
                <a:lnTo>
                  <a:pt x="3800" y="4804"/>
                </a:lnTo>
                <a:lnTo>
                  <a:pt x="3802" y="4802"/>
                </a:lnTo>
                <a:lnTo>
                  <a:pt x="3803" y="4798"/>
                </a:lnTo>
                <a:lnTo>
                  <a:pt x="3805" y="4792"/>
                </a:lnTo>
                <a:lnTo>
                  <a:pt x="3806" y="4791"/>
                </a:lnTo>
                <a:lnTo>
                  <a:pt x="3806" y="4785"/>
                </a:lnTo>
                <a:lnTo>
                  <a:pt x="3809" y="4775"/>
                </a:lnTo>
                <a:lnTo>
                  <a:pt x="3812" y="4762"/>
                </a:lnTo>
                <a:lnTo>
                  <a:pt x="3819" y="4746"/>
                </a:lnTo>
                <a:lnTo>
                  <a:pt x="3822" y="4740"/>
                </a:lnTo>
                <a:lnTo>
                  <a:pt x="3825" y="4739"/>
                </a:lnTo>
                <a:lnTo>
                  <a:pt x="3828" y="4739"/>
                </a:lnTo>
                <a:lnTo>
                  <a:pt x="3832" y="4739"/>
                </a:lnTo>
                <a:lnTo>
                  <a:pt x="3842" y="4740"/>
                </a:lnTo>
                <a:lnTo>
                  <a:pt x="3845" y="4740"/>
                </a:lnTo>
                <a:lnTo>
                  <a:pt x="3848" y="4747"/>
                </a:lnTo>
                <a:lnTo>
                  <a:pt x="3857" y="4757"/>
                </a:lnTo>
                <a:lnTo>
                  <a:pt x="3867" y="4766"/>
                </a:lnTo>
                <a:lnTo>
                  <a:pt x="3879" y="4773"/>
                </a:lnTo>
                <a:lnTo>
                  <a:pt x="3890" y="4776"/>
                </a:lnTo>
                <a:lnTo>
                  <a:pt x="3900" y="4778"/>
                </a:lnTo>
                <a:lnTo>
                  <a:pt x="3906" y="4776"/>
                </a:lnTo>
                <a:lnTo>
                  <a:pt x="3909" y="4776"/>
                </a:lnTo>
                <a:lnTo>
                  <a:pt x="3912" y="4773"/>
                </a:lnTo>
                <a:lnTo>
                  <a:pt x="3915" y="4769"/>
                </a:lnTo>
                <a:lnTo>
                  <a:pt x="3918" y="4766"/>
                </a:lnTo>
                <a:lnTo>
                  <a:pt x="3922" y="4756"/>
                </a:lnTo>
                <a:lnTo>
                  <a:pt x="3926" y="4746"/>
                </a:lnTo>
                <a:lnTo>
                  <a:pt x="3934" y="4739"/>
                </a:lnTo>
                <a:lnTo>
                  <a:pt x="3941" y="4734"/>
                </a:lnTo>
                <a:lnTo>
                  <a:pt x="3942" y="4734"/>
                </a:lnTo>
                <a:lnTo>
                  <a:pt x="3950" y="4734"/>
                </a:lnTo>
                <a:lnTo>
                  <a:pt x="3965" y="4733"/>
                </a:lnTo>
                <a:lnTo>
                  <a:pt x="3979" y="4736"/>
                </a:lnTo>
                <a:lnTo>
                  <a:pt x="3990" y="4741"/>
                </a:lnTo>
                <a:lnTo>
                  <a:pt x="4000" y="4752"/>
                </a:lnTo>
                <a:lnTo>
                  <a:pt x="4008" y="4765"/>
                </a:lnTo>
                <a:lnTo>
                  <a:pt x="4012" y="4772"/>
                </a:lnTo>
                <a:lnTo>
                  <a:pt x="4016" y="4770"/>
                </a:lnTo>
                <a:lnTo>
                  <a:pt x="4025" y="4768"/>
                </a:lnTo>
                <a:lnTo>
                  <a:pt x="4044" y="4759"/>
                </a:lnTo>
                <a:lnTo>
                  <a:pt x="4060" y="4744"/>
                </a:lnTo>
                <a:lnTo>
                  <a:pt x="4063" y="4739"/>
                </a:lnTo>
                <a:lnTo>
                  <a:pt x="4064" y="4740"/>
                </a:lnTo>
                <a:lnTo>
                  <a:pt x="4067" y="4743"/>
                </a:lnTo>
                <a:lnTo>
                  <a:pt x="4068" y="4746"/>
                </a:lnTo>
                <a:lnTo>
                  <a:pt x="4070" y="4749"/>
                </a:lnTo>
                <a:lnTo>
                  <a:pt x="4071" y="4752"/>
                </a:lnTo>
                <a:lnTo>
                  <a:pt x="4071" y="4754"/>
                </a:lnTo>
                <a:lnTo>
                  <a:pt x="4071" y="4756"/>
                </a:lnTo>
                <a:lnTo>
                  <a:pt x="4076" y="4757"/>
                </a:lnTo>
                <a:lnTo>
                  <a:pt x="4081" y="4757"/>
                </a:lnTo>
                <a:lnTo>
                  <a:pt x="4086" y="4756"/>
                </a:lnTo>
                <a:lnTo>
                  <a:pt x="4087" y="4754"/>
                </a:lnTo>
                <a:lnTo>
                  <a:pt x="4089" y="4753"/>
                </a:lnTo>
                <a:lnTo>
                  <a:pt x="4089" y="4752"/>
                </a:lnTo>
                <a:lnTo>
                  <a:pt x="4089" y="4750"/>
                </a:lnTo>
                <a:lnTo>
                  <a:pt x="4089" y="4747"/>
                </a:lnTo>
                <a:lnTo>
                  <a:pt x="4089" y="4741"/>
                </a:lnTo>
                <a:lnTo>
                  <a:pt x="4090" y="4740"/>
                </a:lnTo>
                <a:lnTo>
                  <a:pt x="4093" y="4737"/>
                </a:lnTo>
                <a:lnTo>
                  <a:pt x="4102" y="4734"/>
                </a:lnTo>
                <a:lnTo>
                  <a:pt x="4109" y="4734"/>
                </a:lnTo>
                <a:lnTo>
                  <a:pt x="4118" y="4734"/>
                </a:lnTo>
                <a:lnTo>
                  <a:pt x="4125" y="4737"/>
                </a:lnTo>
                <a:lnTo>
                  <a:pt x="4135" y="4739"/>
                </a:lnTo>
                <a:lnTo>
                  <a:pt x="4141" y="4739"/>
                </a:lnTo>
                <a:lnTo>
                  <a:pt x="4138" y="4730"/>
                </a:lnTo>
                <a:lnTo>
                  <a:pt x="4135" y="4712"/>
                </a:lnTo>
                <a:lnTo>
                  <a:pt x="4136" y="4697"/>
                </a:lnTo>
                <a:lnTo>
                  <a:pt x="4141" y="4682"/>
                </a:lnTo>
                <a:lnTo>
                  <a:pt x="4148" y="4670"/>
                </a:lnTo>
                <a:lnTo>
                  <a:pt x="4160" y="4660"/>
                </a:lnTo>
                <a:lnTo>
                  <a:pt x="4168" y="4656"/>
                </a:lnTo>
                <a:lnTo>
                  <a:pt x="4174" y="4654"/>
                </a:lnTo>
                <a:lnTo>
                  <a:pt x="4181" y="4653"/>
                </a:lnTo>
                <a:lnTo>
                  <a:pt x="4189" y="4653"/>
                </a:lnTo>
                <a:lnTo>
                  <a:pt x="4196" y="4654"/>
                </a:lnTo>
                <a:lnTo>
                  <a:pt x="4212" y="4662"/>
                </a:lnTo>
                <a:lnTo>
                  <a:pt x="4226" y="4672"/>
                </a:lnTo>
                <a:lnTo>
                  <a:pt x="4238" y="4686"/>
                </a:lnTo>
                <a:lnTo>
                  <a:pt x="4248" y="4701"/>
                </a:lnTo>
                <a:lnTo>
                  <a:pt x="4249" y="4701"/>
                </a:lnTo>
                <a:lnTo>
                  <a:pt x="4252" y="4707"/>
                </a:lnTo>
                <a:lnTo>
                  <a:pt x="4257" y="4710"/>
                </a:lnTo>
                <a:lnTo>
                  <a:pt x="4262" y="4712"/>
                </a:lnTo>
                <a:lnTo>
                  <a:pt x="4270" y="4714"/>
                </a:lnTo>
                <a:lnTo>
                  <a:pt x="4283" y="4712"/>
                </a:lnTo>
                <a:lnTo>
                  <a:pt x="4316" y="4714"/>
                </a:lnTo>
                <a:lnTo>
                  <a:pt x="4332" y="4720"/>
                </a:lnTo>
                <a:lnTo>
                  <a:pt x="4336" y="4723"/>
                </a:lnTo>
                <a:lnTo>
                  <a:pt x="4341" y="4723"/>
                </a:lnTo>
                <a:lnTo>
                  <a:pt x="4347" y="4723"/>
                </a:lnTo>
                <a:lnTo>
                  <a:pt x="4351" y="4721"/>
                </a:lnTo>
                <a:lnTo>
                  <a:pt x="4361" y="4717"/>
                </a:lnTo>
                <a:lnTo>
                  <a:pt x="4371" y="4714"/>
                </a:lnTo>
                <a:lnTo>
                  <a:pt x="4380" y="4712"/>
                </a:lnTo>
                <a:lnTo>
                  <a:pt x="4387" y="4715"/>
                </a:lnTo>
                <a:lnTo>
                  <a:pt x="4389" y="4715"/>
                </a:lnTo>
                <a:lnTo>
                  <a:pt x="4390" y="4718"/>
                </a:lnTo>
                <a:lnTo>
                  <a:pt x="4391" y="4720"/>
                </a:lnTo>
                <a:lnTo>
                  <a:pt x="4394" y="4720"/>
                </a:lnTo>
                <a:lnTo>
                  <a:pt x="4402" y="4723"/>
                </a:lnTo>
                <a:lnTo>
                  <a:pt x="4406" y="4724"/>
                </a:lnTo>
                <a:lnTo>
                  <a:pt x="4409" y="4728"/>
                </a:lnTo>
                <a:lnTo>
                  <a:pt x="4409" y="4734"/>
                </a:lnTo>
                <a:lnTo>
                  <a:pt x="4407" y="4737"/>
                </a:lnTo>
                <a:lnTo>
                  <a:pt x="4403" y="4746"/>
                </a:lnTo>
                <a:lnTo>
                  <a:pt x="4397" y="4760"/>
                </a:lnTo>
                <a:lnTo>
                  <a:pt x="4389" y="4791"/>
                </a:lnTo>
                <a:lnTo>
                  <a:pt x="4377" y="4820"/>
                </a:lnTo>
                <a:lnTo>
                  <a:pt x="4374" y="4825"/>
                </a:lnTo>
                <a:lnTo>
                  <a:pt x="4381" y="4825"/>
                </a:lnTo>
                <a:lnTo>
                  <a:pt x="4389" y="4827"/>
                </a:lnTo>
                <a:lnTo>
                  <a:pt x="4396" y="4830"/>
                </a:lnTo>
                <a:lnTo>
                  <a:pt x="4402" y="4834"/>
                </a:lnTo>
                <a:lnTo>
                  <a:pt x="4412" y="4844"/>
                </a:lnTo>
                <a:lnTo>
                  <a:pt x="4422" y="4856"/>
                </a:lnTo>
                <a:lnTo>
                  <a:pt x="4431" y="4867"/>
                </a:lnTo>
                <a:lnTo>
                  <a:pt x="4442" y="4875"/>
                </a:lnTo>
                <a:lnTo>
                  <a:pt x="4444" y="4875"/>
                </a:lnTo>
                <a:lnTo>
                  <a:pt x="4449" y="4878"/>
                </a:lnTo>
                <a:lnTo>
                  <a:pt x="4461" y="4882"/>
                </a:lnTo>
                <a:lnTo>
                  <a:pt x="4487" y="4886"/>
                </a:lnTo>
                <a:lnTo>
                  <a:pt x="4515" y="4888"/>
                </a:lnTo>
                <a:lnTo>
                  <a:pt x="4522" y="4888"/>
                </a:lnTo>
                <a:lnTo>
                  <a:pt x="4526" y="4891"/>
                </a:lnTo>
                <a:lnTo>
                  <a:pt x="4532" y="4894"/>
                </a:lnTo>
                <a:lnTo>
                  <a:pt x="4538" y="4901"/>
                </a:lnTo>
                <a:lnTo>
                  <a:pt x="4541" y="4902"/>
                </a:lnTo>
                <a:lnTo>
                  <a:pt x="4544" y="4910"/>
                </a:lnTo>
                <a:lnTo>
                  <a:pt x="4545" y="4912"/>
                </a:lnTo>
                <a:lnTo>
                  <a:pt x="4546" y="4912"/>
                </a:lnTo>
                <a:lnTo>
                  <a:pt x="4562" y="4914"/>
                </a:lnTo>
                <a:lnTo>
                  <a:pt x="4580" y="4915"/>
                </a:lnTo>
                <a:lnTo>
                  <a:pt x="4580" y="4920"/>
                </a:lnTo>
                <a:lnTo>
                  <a:pt x="4575" y="4923"/>
                </a:lnTo>
                <a:lnTo>
                  <a:pt x="4577" y="4927"/>
                </a:lnTo>
                <a:lnTo>
                  <a:pt x="4593" y="4928"/>
                </a:lnTo>
                <a:lnTo>
                  <a:pt x="4610" y="4928"/>
                </a:lnTo>
                <a:lnTo>
                  <a:pt x="4620" y="4915"/>
                </a:lnTo>
                <a:lnTo>
                  <a:pt x="4632" y="4907"/>
                </a:lnTo>
                <a:lnTo>
                  <a:pt x="4645" y="4904"/>
                </a:lnTo>
                <a:lnTo>
                  <a:pt x="4658" y="4902"/>
                </a:lnTo>
                <a:lnTo>
                  <a:pt x="4673" y="4905"/>
                </a:lnTo>
                <a:lnTo>
                  <a:pt x="4687" y="4911"/>
                </a:lnTo>
                <a:lnTo>
                  <a:pt x="4716" y="4925"/>
                </a:lnTo>
                <a:lnTo>
                  <a:pt x="4772" y="4954"/>
                </a:lnTo>
                <a:lnTo>
                  <a:pt x="4774" y="4954"/>
                </a:lnTo>
                <a:lnTo>
                  <a:pt x="4770" y="4962"/>
                </a:lnTo>
                <a:lnTo>
                  <a:pt x="4767" y="4975"/>
                </a:lnTo>
                <a:lnTo>
                  <a:pt x="4764" y="4999"/>
                </a:lnTo>
                <a:lnTo>
                  <a:pt x="4767" y="5025"/>
                </a:lnTo>
                <a:lnTo>
                  <a:pt x="4770" y="5031"/>
                </a:lnTo>
                <a:lnTo>
                  <a:pt x="4772" y="5046"/>
                </a:lnTo>
                <a:lnTo>
                  <a:pt x="4787" y="5070"/>
                </a:lnTo>
                <a:lnTo>
                  <a:pt x="4806" y="5088"/>
                </a:lnTo>
                <a:lnTo>
                  <a:pt x="4829" y="5099"/>
                </a:lnTo>
                <a:lnTo>
                  <a:pt x="4855" y="5105"/>
                </a:lnTo>
                <a:lnTo>
                  <a:pt x="4881" y="5102"/>
                </a:lnTo>
                <a:lnTo>
                  <a:pt x="4894" y="5098"/>
                </a:lnTo>
                <a:lnTo>
                  <a:pt x="4897" y="5096"/>
                </a:lnTo>
                <a:lnTo>
                  <a:pt x="4899" y="5095"/>
                </a:lnTo>
                <a:lnTo>
                  <a:pt x="4899" y="5094"/>
                </a:lnTo>
                <a:lnTo>
                  <a:pt x="4897" y="5092"/>
                </a:lnTo>
                <a:lnTo>
                  <a:pt x="4896" y="5091"/>
                </a:lnTo>
                <a:lnTo>
                  <a:pt x="4891" y="5086"/>
                </a:lnTo>
                <a:lnTo>
                  <a:pt x="4888" y="5082"/>
                </a:lnTo>
                <a:lnTo>
                  <a:pt x="4890" y="5073"/>
                </a:lnTo>
                <a:lnTo>
                  <a:pt x="4896" y="5067"/>
                </a:lnTo>
                <a:lnTo>
                  <a:pt x="4888" y="5065"/>
                </a:lnTo>
                <a:lnTo>
                  <a:pt x="4883" y="5062"/>
                </a:lnTo>
                <a:lnTo>
                  <a:pt x="4868" y="5059"/>
                </a:lnTo>
                <a:lnTo>
                  <a:pt x="4857" y="5057"/>
                </a:lnTo>
                <a:lnTo>
                  <a:pt x="4846" y="5054"/>
                </a:lnTo>
                <a:lnTo>
                  <a:pt x="4842" y="5052"/>
                </a:lnTo>
                <a:lnTo>
                  <a:pt x="4839" y="5047"/>
                </a:lnTo>
                <a:lnTo>
                  <a:pt x="4839" y="5041"/>
                </a:lnTo>
                <a:lnTo>
                  <a:pt x="4839" y="5034"/>
                </a:lnTo>
                <a:lnTo>
                  <a:pt x="4841" y="5034"/>
                </a:lnTo>
                <a:lnTo>
                  <a:pt x="4843" y="5021"/>
                </a:lnTo>
                <a:lnTo>
                  <a:pt x="4852" y="4994"/>
                </a:lnTo>
                <a:lnTo>
                  <a:pt x="4875" y="4943"/>
                </a:lnTo>
                <a:lnTo>
                  <a:pt x="4909" y="4902"/>
                </a:lnTo>
                <a:lnTo>
                  <a:pt x="4919" y="4894"/>
                </a:lnTo>
                <a:lnTo>
                  <a:pt x="4932" y="4886"/>
                </a:lnTo>
                <a:lnTo>
                  <a:pt x="4946" y="4883"/>
                </a:lnTo>
                <a:lnTo>
                  <a:pt x="4962" y="4882"/>
                </a:lnTo>
                <a:lnTo>
                  <a:pt x="4994" y="4885"/>
                </a:lnTo>
                <a:lnTo>
                  <a:pt x="5027" y="4891"/>
                </a:lnTo>
                <a:lnTo>
                  <a:pt x="5061" y="4894"/>
                </a:lnTo>
                <a:lnTo>
                  <a:pt x="5091" y="4888"/>
                </a:lnTo>
                <a:lnTo>
                  <a:pt x="5107" y="4879"/>
                </a:lnTo>
                <a:lnTo>
                  <a:pt x="5113" y="4875"/>
                </a:lnTo>
                <a:lnTo>
                  <a:pt x="5126" y="4867"/>
                </a:lnTo>
                <a:lnTo>
                  <a:pt x="5155" y="4857"/>
                </a:lnTo>
                <a:lnTo>
                  <a:pt x="5181" y="4849"/>
                </a:lnTo>
                <a:lnTo>
                  <a:pt x="5188" y="4846"/>
                </a:lnTo>
                <a:lnTo>
                  <a:pt x="5194" y="4843"/>
                </a:lnTo>
                <a:lnTo>
                  <a:pt x="5201" y="4836"/>
                </a:lnTo>
                <a:lnTo>
                  <a:pt x="5213" y="4821"/>
                </a:lnTo>
                <a:lnTo>
                  <a:pt x="5239" y="4791"/>
                </a:lnTo>
                <a:lnTo>
                  <a:pt x="5275" y="4785"/>
                </a:lnTo>
                <a:lnTo>
                  <a:pt x="5277" y="4786"/>
                </a:lnTo>
                <a:lnTo>
                  <a:pt x="5278" y="4788"/>
                </a:lnTo>
                <a:lnTo>
                  <a:pt x="5280" y="4789"/>
                </a:lnTo>
                <a:lnTo>
                  <a:pt x="5282" y="4794"/>
                </a:lnTo>
                <a:lnTo>
                  <a:pt x="5288" y="4802"/>
                </a:lnTo>
                <a:lnTo>
                  <a:pt x="5294" y="4804"/>
                </a:lnTo>
                <a:lnTo>
                  <a:pt x="5296" y="4805"/>
                </a:lnTo>
                <a:lnTo>
                  <a:pt x="5297" y="4805"/>
                </a:lnTo>
                <a:lnTo>
                  <a:pt x="5298" y="4805"/>
                </a:lnTo>
                <a:lnTo>
                  <a:pt x="5300" y="4805"/>
                </a:lnTo>
                <a:lnTo>
                  <a:pt x="5300" y="4802"/>
                </a:lnTo>
                <a:lnTo>
                  <a:pt x="5307" y="4791"/>
                </a:lnTo>
                <a:lnTo>
                  <a:pt x="5323" y="4776"/>
                </a:lnTo>
                <a:lnTo>
                  <a:pt x="5329" y="4772"/>
                </a:lnTo>
                <a:lnTo>
                  <a:pt x="5327" y="4773"/>
                </a:lnTo>
                <a:lnTo>
                  <a:pt x="5327" y="4775"/>
                </a:lnTo>
                <a:lnTo>
                  <a:pt x="5327" y="4778"/>
                </a:lnTo>
                <a:lnTo>
                  <a:pt x="5327" y="4779"/>
                </a:lnTo>
                <a:lnTo>
                  <a:pt x="5329" y="4781"/>
                </a:lnTo>
                <a:lnTo>
                  <a:pt x="5330" y="4782"/>
                </a:lnTo>
                <a:lnTo>
                  <a:pt x="5333" y="4783"/>
                </a:lnTo>
                <a:lnTo>
                  <a:pt x="5338" y="4783"/>
                </a:lnTo>
                <a:lnTo>
                  <a:pt x="5342" y="4783"/>
                </a:lnTo>
                <a:lnTo>
                  <a:pt x="5348" y="4782"/>
                </a:lnTo>
                <a:lnTo>
                  <a:pt x="5349" y="4782"/>
                </a:lnTo>
                <a:lnTo>
                  <a:pt x="5356" y="4779"/>
                </a:lnTo>
                <a:lnTo>
                  <a:pt x="5380" y="4773"/>
                </a:lnTo>
                <a:lnTo>
                  <a:pt x="5391" y="4773"/>
                </a:lnTo>
                <a:lnTo>
                  <a:pt x="5397" y="4775"/>
                </a:lnTo>
                <a:lnTo>
                  <a:pt x="5401" y="4778"/>
                </a:lnTo>
                <a:lnTo>
                  <a:pt x="5404" y="4781"/>
                </a:lnTo>
                <a:lnTo>
                  <a:pt x="5406" y="4781"/>
                </a:lnTo>
                <a:lnTo>
                  <a:pt x="5410" y="4792"/>
                </a:lnTo>
                <a:lnTo>
                  <a:pt x="5413" y="4798"/>
                </a:lnTo>
                <a:lnTo>
                  <a:pt x="5414" y="4798"/>
                </a:lnTo>
                <a:lnTo>
                  <a:pt x="5420" y="4794"/>
                </a:lnTo>
                <a:lnTo>
                  <a:pt x="5433" y="4783"/>
                </a:lnTo>
                <a:lnTo>
                  <a:pt x="5465" y="4768"/>
                </a:lnTo>
                <a:lnTo>
                  <a:pt x="5500" y="4762"/>
                </a:lnTo>
                <a:lnTo>
                  <a:pt x="5510" y="4760"/>
                </a:lnTo>
                <a:lnTo>
                  <a:pt x="5511" y="4760"/>
                </a:lnTo>
                <a:lnTo>
                  <a:pt x="5513" y="4759"/>
                </a:lnTo>
                <a:lnTo>
                  <a:pt x="5517" y="4756"/>
                </a:lnTo>
                <a:lnTo>
                  <a:pt x="5527" y="4750"/>
                </a:lnTo>
                <a:lnTo>
                  <a:pt x="5536" y="4747"/>
                </a:lnTo>
                <a:lnTo>
                  <a:pt x="5545" y="4746"/>
                </a:lnTo>
                <a:lnTo>
                  <a:pt x="5564" y="4744"/>
                </a:lnTo>
                <a:lnTo>
                  <a:pt x="5598" y="4746"/>
                </a:lnTo>
                <a:lnTo>
                  <a:pt x="5630" y="4744"/>
                </a:lnTo>
                <a:lnTo>
                  <a:pt x="5639" y="4743"/>
                </a:lnTo>
                <a:lnTo>
                  <a:pt x="5652" y="4739"/>
                </a:lnTo>
                <a:lnTo>
                  <a:pt x="5664" y="4731"/>
                </a:lnTo>
                <a:lnTo>
                  <a:pt x="5674" y="4721"/>
                </a:lnTo>
                <a:lnTo>
                  <a:pt x="5691" y="4699"/>
                </a:lnTo>
                <a:lnTo>
                  <a:pt x="5726" y="4656"/>
                </a:lnTo>
                <a:lnTo>
                  <a:pt x="5761" y="4641"/>
                </a:lnTo>
                <a:lnTo>
                  <a:pt x="5774" y="4641"/>
                </a:lnTo>
                <a:lnTo>
                  <a:pt x="5785" y="4639"/>
                </a:lnTo>
                <a:lnTo>
                  <a:pt x="5795" y="4633"/>
                </a:lnTo>
                <a:lnTo>
                  <a:pt x="5806" y="4627"/>
                </a:lnTo>
                <a:lnTo>
                  <a:pt x="5823" y="4611"/>
                </a:lnTo>
                <a:lnTo>
                  <a:pt x="5859" y="4578"/>
                </a:lnTo>
                <a:lnTo>
                  <a:pt x="5882" y="4565"/>
                </a:lnTo>
                <a:lnTo>
                  <a:pt x="5876" y="4559"/>
                </a:lnTo>
                <a:lnTo>
                  <a:pt x="5872" y="4552"/>
                </a:lnTo>
                <a:lnTo>
                  <a:pt x="5872" y="4547"/>
                </a:lnTo>
                <a:lnTo>
                  <a:pt x="5874" y="4543"/>
                </a:lnTo>
                <a:lnTo>
                  <a:pt x="5875" y="4540"/>
                </a:lnTo>
                <a:lnTo>
                  <a:pt x="5887" y="4524"/>
                </a:lnTo>
                <a:lnTo>
                  <a:pt x="5911" y="4497"/>
                </a:lnTo>
                <a:lnTo>
                  <a:pt x="5972" y="4455"/>
                </a:lnTo>
                <a:lnTo>
                  <a:pt x="6043" y="4434"/>
                </a:lnTo>
                <a:lnTo>
                  <a:pt x="6063" y="4431"/>
                </a:lnTo>
                <a:lnTo>
                  <a:pt x="6068" y="4431"/>
                </a:lnTo>
                <a:lnTo>
                  <a:pt x="6072" y="4430"/>
                </a:lnTo>
                <a:lnTo>
                  <a:pt x="6081" y="4426"/>
                </a:lnTo>
                <a:lnTo>
                  <a:pt x="6089" y="4420"/>
                </a:lnTo>
                <a:lnTo>
                  <a:pt x="6105" y="4407"/>
                </a:lnTo>
                <a:lnTo>
                  <a:pt x="6116" y="4401"/>
                </a:lnTo>
                <a:lnTo>
                  <a:pt x="6107" y="4397"/>
                </a:lnTo>
                <a:lnTo>
                  <a:pt x="6100" y="4395"/>
                </a:lnTo>
                <a:lnTo>
                  <a:pt x="6094" y="4395"/>
                </a:lnTo>
                <a:lnTo>
                  <a:pt x="6087" y="4397"/>
                </a:lnTo>
                <a:lnTo>
                  <a:pt x="6079" y="4399"/>
                </a:lnTo>
                <a:lnTo>
                  <a:pt x="6066" y="4405"/>
                </a:lnTo>
                <a:lnTo>
                  <a:pt x="6055" y="4410"/>
                </a:lnTo>
                <a:lnTo>
                  <a:pt x="6050" y="4411"/>
                </a:lnTo>
                <a:lnTo>
                  <a:pt x="6046" y="4410"/>
                </a:lnTo>
                <a:lnTo>
                  <a:pt x="6043" y="4405"/>
                </a:lnTo>
                <a:lnTo>
                  <a:pt x="6043" y="4405"/>
                </a:lnTo>
                <a:lnTo>
                  <a:pt x="6039" y="4399"/>
                </a:lnTo>
                <a:lnTo>
                  <a:pt x="6037" y="4394"/>
                </a:lnTo>
                <a:lnTo>
                  <a:pt x="6039" y="4389"/>
                </a:lnTo>
                <a:lnTo>
                  <a:pt x="6042" y="4384"/>
                </a:lnTo>
                <a:lnTo>
                  <a:pt x="6047" y="4378"/>
                </a:lnTo>
                <a:lnTo>
                  <a:pt x="6059" y="4368"/>
                </a:lnTo>
                <a:lnTo>
                  <a:pt x="6068" y="4355"/>
                </a:lnTo>
                <a:lnTo>
                  <a:pt x="6071" y="4342"/>
                </a:lnTo>
                <a:lnTo>
                  <a:pt x="6069" y="4333"/>
                </a:lnTo>
                <a:lnTo>
                  <a:pt x="6068" y="4331"/>
                </a:lnTo>
                <a:lnTo>
                  <a:pt x="6065" y="4326"/>
                </a:lnTo>
                <a:lnTo>
                  <a:pt x="6063" y="4317"/>
                </a:lnTo>
                <a:lnTo>
                  <a:pt x="6063" y="4313"/>
                </a:lnTo>
                <a:lnTo>
                  <a:pt x="6065" y="4310"/>
                </a:lnTo>
                <a:lnTo>
                  <a:pt x="6066" y="4307"/>
                </a:lnTo>
                <a:lnTo>
                  <a:pt x="6075" y="4295"/>
                </a:lnTo>
                <a:lnTo>
                  <a:pt x="6092" y="4271"/>
                </a:lnTo>
                <a:lnTo>
                  <a:pt x="6126" y="4227"/>
                </a:lnTo>
                <a:lnTo>
                  <a:pt x="6160" y="4184"/>
                </a:lnTo>
                <a:lnTo>
                  <a:pt x="6171" y="4172"/>
                </a:lnTo>
                <a:lnTo>
                  <a:pt x="6181" y="4157"/>
                </a:lnTo>
                <a:lnTo>
                  <a:pt x="6202" y="4127"/>
                </a:lnTo>
                <a:lnTo>
                  <a:pt x="6242" y="4066"/>
                </a:lnTo>
                <a:lnTo>
                  <a:pt x="6289" y="4010"/>
                </a:lnTo>
                <a:lnTo>
                  <a:pt x="6305" y="3997"/>
                </a:lnTo>
                <a:lnTo>
                  <a:pt x="6310" y="3992"/>
                </a:lnTo>
                <a:lnTo>
                  <a:pt x="6314" y="3986"/>
                </a:lnTo>
                <a:lnTo>
                  <a:pt x="6317" y="3981"/>
                </a:lnTo>
                <a:lnTo>
                  <a:pt x="6320" y="3968"/>
                </a:lnTo>
                <a:lnTo>
                  <a:pt x="6321" y="3955"/>
                </a:lnTo>
                <a:lnTo>
                  <a:pt x="6326" y="3942"/>
                </a:lnTo>
                <a:lnTo>
                  <a:pt x="6333" y="3930"/>
                </a:lnTo>
                <a:lnTo>
                  <a:pt x="6339" y="3924"/>
                </a:lnTo>
                <a:lnTo>
                  <a:pt x="6340" y="3923"/>
                </a:lnTo>
                <a:lnTo>
                  <a:pt x="6340" y="3920"/>
                </a:lnTo>
                <a:lnTo>
                  <a:pt x="6342" y="3915"/>
                </a:lnTo>
                <a:lnTo>
                  <a:pt x="6340" y="3911"/>
                </a:lnTo>
                <a:lnTo>
                  <a:pt x="6337" y="3907"/>
                </a:lnTo>
                <a:lnTo>
                  <a:pt x="6334" y="3902"/>
                </a:lnTo>
                <a:lnTo>
                  <a:pt x="6331" y="3900"/>
                </a:lnTo>
                <a:lnTo>
                  <a:pt x="6337" y="3888"/>
                </a:lnTo>
                <a:lnTo>
                  <a:pt x="6350" y="3865"/>
                </a:lnTo>
                <a:lnTo>
                  <a:pt x="6376" y="3817"/>
                </a:lnTo>
                <a:lnTo>
                  <a:pt x="6410" y="3775"/>
                </a:lnTo>
                <a:lnTo>
                  <a:pt x="6421" y="3765"/>
                </a:lnTo>
                <a:lnTo>
                  <a:pt x="6424" y="3763"/>
                </a:lnTo>
                <a:lnTo>
                  <a:pt x="6427" y="3763"/>
                </a:lnTo>
                <a:lnTo>
                  <a:pt x="6433" y="3762"/>
                </a:lnTo>
                <a:lnTo>
                  <a:pt x="6444" y="3758"/>
                </a:lnTo>
                <a:lnTo>
                  <a:pt x="6449" y="3752"/>
                </a:lnTo>
                <a:lnTo>
                  <a:pt x="6450" y="3745"/>
                </a:lnTo>
                <a:lnTo>
                  <a:pt x="6450" y="3727"/>
                </a:lnTo>
                <a:lnTo>
                  <a:pt x="6449" y="3711"/>
                </a:lnTo>
                <a:lnTo>
                  <a:pt x="6446" y="3676"/>
                </a:lnTo>
                <a:lnTo>
                  <a:pt x="6453" y="3649"/>
                </a:lnTo>
                <a:lnTo>
                  <a:pt x="6443" y="3646"/>
                </a:lnTo>
                <a:lnTo>
                  <a:pt x="6426" y="3639"/>
                </a:lnTo>
                <a:lnTo>
                  <a:pt x="6392" y="3627"/>
                </a:lnTo>
                <a:lnTo>
                  <a:pt x="6358" y="3617"/>
                </a:lnTo>
                <a:lnTo>
                  <a:pt x="6349" y="3614"/>
                </a:lnTo>
                <a:lnTo>
                  <a:pt x="6350" y="3610"/>
                </a:lnTo>
                <a:lnTo>
                  <a:pt x="6350" y="3605"/>
                </a:lnTo>
                <a:lnTo>
                  <a:pt x="6349" y="3601"/>
                </a:lnTo>
                <a:lnTo>
                  <a:pt x="6347" y="3598"/>
                </a:lnTo>
                <a:lnTo>
                  <a:pt x="6346" y="3594"/>
                </a:lnTo>
                <a:lnTo>
                  <a:pt x="6340" y="3589"/>
                </a:lnTo>
                <a:lnTo>
                  <a:pt x="6336" y="3584"/>
                </a:lnTo>
                <a:lnTo>
                  <a:pt x="6334" y="3576"/>
                </a:lnTo>
                <a:lnTo>
                  <a:pt x="6336" y="3572"/>
                </a:lnTo>
                <a:lnTo>
                  <a:pt x="6336" y="3565"/>
                </a:lnTo>
                <a:lnTo>
                  <a:pt x="6339" y="3547"/>
                </a:lnTo>
                <a:lnTo>
                  <a:pt x="6347" y="3517"/>
                </a:lnTo>
                <a:lnTo>
                  <a:pt x="6355" y="3503"/>
                </a:lnTo>
                <a:lnTo>
                  <a:pt x="6368" y="3491"/>
                </a:lnTo>
                <a:lnTo>
                  <a:pt x="6376" y="3485"/>
                </a:lnTo>
                <a:lnTo>
                  <a:pt x="6371" y="3485"/>
                </a:lnTo>
                <a:lnTo>
                  <a:pt x="6359" y="3484"/>
                </a:lnTo>
                <a:lnTo>
                  <a:pt x="6339" y="3484"/>
                </a:lnTo>
                <a:lnTo>
                  <a:pt x="6318" y="3482"/>
                </a:lnTo>
                <a:lnTo>
                  <a:pt x="6314" y="3481"/>
                </a:lnTo>
                <a:lnTo>
                  <a:pt x="6305" y="3481"/>
                </a:lnTo>
                <a:lnTo>
                  <a:pt x="6288" y="3482"/>
                </a:lnTo>
                <a:lnTo>
                  <a:pt x="6271" y="3487"/>
                </a:lnTo>
                <a:lnTo>
                  <a:pt x="6236" y="3494"/>
                </a:lnTo>
                <a:lnTo>
                  <a:pt x="6211" y="3491"/>
                </a:lnTo>
                <a:lnTo>
                  <a:pt x="6201" y="3488"/>
                </a:lnTo>
                <a:lnTo>
                  <a:pt x="6184" y="3478"/>
                </a:lnTo>
                <a:lnTo>
                  <a:pt x="6149" y="3456"/>
                </a:lnTo>
                <a:lnTo>
                  <a:pt x="6108" y="3443"/>
                </a:lnTo>
                <a:lnTo>
                  <a:pt x="6098" y="3442"/>
                </a:lnTo>
                <a:lnTo>
                  <a:pt x="6110" y="3442"/>
                </a:lnTo>
                <a:lnTo>
                  <a:pt x="6133" y="3443"/>
                </a:lnTo>
                <a:lnTo>
                  <a:pt x="6179" y="3450"/>
                </a:lnTo>
                <a:lnTo>
                  <a:pt x="6223" y="3455"/>
                </a:lnTo>
                <a:lnTo>
                  <a:pt x="6234" y="3452"/>
                </a:lnTo>
                <a:lnTo>
                  <a:pt x="6239" y="3450"/>
                </a:lnTo>
                <a:lnTo>
                  <a:pt x="6245" y="3447"/>
                </a:lnTo>
                <a:lnTo>
                  <a:pt x="6249" y="3443"/>
                </a:lnTo>
                <a:lnTo>
                  <a:pt x="6259" y="3432"/>
                </a:lnTo>
                <a:lnTo>
                  <a:pt x="6278" y="3405"/>
                </a:lnTo>
                <a:lnTo>
                  <a:pt x="6298" y="3394"/>
                </a:lnTo>
                <a:lnTo>
                  <a:pt x="6302" y="3394"/>
                </a:lnTo>
                <a:lnTo>
                  <a:pt x="6311" y="3391"/>
                </a:lnTo>
                <a:lnTo>
                  <a:pt x="6327" y="3384"/>
                </a:lnTo>
                <a:lnTo>
                  <a:pt x="6343" y="3375"/>
                </a:lnTo>
                <a:lnTo>
                  <a:pt x="6349" y="3372"/>
                </a:lnTo>
                <a:lnTo>
                  <a:pt x="6342" y="3371"/>
                </a:lnTo>
                <a:lnTo>
                  <a:pt x="6329" y="3365"/>
                </a:lnTo>
                <a:lnTo>
                  <a:pt x="6301" y="3352"/>
                </a:lnTo>
                <a:lnTo>
                  <a:pt x="6279" y="3339"/>
                </a:lnTo>
                <a:lnTo>
                  <a:pt x="6276" y="3334"/>
                </a:lnTo>
                <a:lnTo>
                  <a:pt x="6268" y="3324"/>
                </a:lnTo>
                <a:lnTo>
                  <a:pt x="6252" y="3301"/>
                </a:lnTo>
                <a:lnTo>
                  <a:pt x="6227" y="3252"/>
                </a:lnTo>
                <a:lnTo>
                  <a:pt x="6208" y="3198"/>
                </a:lnTo>
                <a:lnTo>
                  <a:pt x="6204" y="3184"/>
                </a:lnTo>
                <a:lnTo>
                  <a:pt x="6200" y="3177"/>
                </a:lnTo>
                <a:lnTo>
                  <a:pt x="6194" y="3171"/>
                </a:lnTo>
                <a:lnTo>
                  <a:pt x="6187" y="3166"/>
                </a:lnTo>
                <a:lnTo>
                  <a:pt x="6178" y="3163"/>
                </a:lnTo>
                <a:lnTo>
                  <a:pt x="6159" y="3159"/>
                </a:lnTo>
                <a:lnTo>
                  <a:pt x="6139" y="3155"/>
                </a:lnTo>
                <a:lnTo>
                  <a:pt x="6121" y="3146"/>
                </a:lnTo>
                <a:lnTo>
                  <a:pt x="6108" y="3130"/>
                </a:lnTo>
                <a:lnTo>
                  <a:pt x="6108" y="3130"/>
                </a:lnTo>
                <a:lnTo>
                  <a:pt x="6105" y="3126"/>
                </a:lnTo>
                <a:lnTo>
                  <a:pt x="6103" y="3114"/>
                </a:lnTo>
                <a:lnTo>
                  <a:pt x="6097" y="3090"/>
                </a:lnTo>
                <a:lnTo>
                  <a:pt x="6089" y="3068"/>
                </a:lnTo>
                <a:lnTo>
                  <a:pt x="6087" y="3062"/>
                </a:lnTo>
                <a:lnTo>
                  <a:pt x="6084" y="3061"/>
                </a:lnTo>
                <a:lnTo>
                  <a:pt x="6081" y="3058"/>
                </a:lnTo>
                <a:lnTo>
                  <a:pt x="6076" y="3056"/>
                </a:lnTo>
                <a:lnTo>
                  <a:pt x="6069" y="3053"/>
                </a:lnTo>
                <a:lnTo>
                  <a:pt x="6050" y="3049"/>
                </a:lnTo>
                <a:lnTo>
                  <a:pt x="6037" y="3043"/>
                </a:lnTo>
                <a:lnTo>
                  <a:pt x="6043" y="3042"/>
                </a:lnTo>
                <a:lnTo>
                  <a:pt x="6047" y="3039"/>
                </a:lnTo>
                <a:lnTo>
                  <a:pt x="6050" y="3035"/>
                </a:lnTo>
                <a:lnTo>
                  <a:pt x="6052" y="3030"/>
                </a:lnTo>
                <a:lnTo>
                  <a:pt x="6053" y="3026"/>
                </a:lnTo>
                <a:lnTo>
                  <a:pt x="6055" y="3016"/>
                </a:lnTo>
                <a:lnTo>
                  <a:pt x="6056" y="3006"/>
                </a:lnTo>
                <a:lnTo>
                  <a:pt x="6061" y="2997"/>
                </a:lnTo>
                <a:lnTo>
                  <a:pt x="6065" y="2992"/>
                </a:lnTo>
                <a:lnTo>
                  <a:pt x="6071" y="2990"/>
                </a:lnTo>
                <a:lnTo>
                  <a:pt x="6082" y="2982"/>
                </a:lnTo>
                <a:lnTo>
                  <a:pt x="6105" y="2969"/>
                </a:lnTo>
                <a:lnTo>
                  <a:pt x="6126" y="2952"/>
                </a:lnTo>
                <a:lnTo>
                  <a:pt x="6130" y="2946"/>
                </a:lnTo>
                <a:lnTo>
                  <a:pt x="6134" y="2939"/>
                </a:lnTo>
                <a:lnTo>
                  <a:pt x="6143" y="2921"/>
                </a:lnTo>
                <a:lnTo>
                  <a:pt x="6156" y="2885"/>
                </a:lnTo>
                <a:lnTo>
                  <a:pt x="6153" y="2848"/>
                </a:lnTo>
                <a:lnTo>
                  <a:pt x="6150" y="2837"/>
                </a:lnTo>
                <a:lnTo>
                  <a:pt x="6158" y="2845"/>
                </a:lnTo>
                <a:lnTo>
                  <a:pt x="6168" y="2850"/>
                </a:lnTo>
                <a:lnTo>
                  <a:pt x="6176" y="2853"/>
                </a:lnTo>
                <a:lnTo>
                  <a:pt x="6185" y="2855"/>
                </a:lnTo>
                <a:lnTo>
                  <a:pt x="6204" y="2853"/>
                </a:lnTo>
                <a:lnTo>
                  <a:pt x="6221" y="2846"/>
                </a:lnTo>
                <a:lnTo>
                  <a:pt x="6237" y="2837"/>
                </a:lnTo>
                <a:lnTo>
                  <a:pt x="6247" y="2824"/>
                </a:lnTo>
                <a:lnTo>
                  <a:pt x="6249" y="2824"/>
                </a:lnTo>
                <a:lnTo>
                  <a:pt x="6266" y="2803"/>
                </a:lnTo>
                <a:lnTo>
                  <a:pt x="6308" y="2768"/>
                </a:lnTo>
                <a:lnTo>
                  <a:pt x="6355" y="2745"/>
                </a:lnTo>
                <a:lnTo>
                  <a:pt x="6405" y="2729"/>
                </a:lnTo>
                <a:lnTo>
                  <a:pt x="6513" y="2717"/>
                </a:lnTo>
                <a:lnTo>
                  <a:pt x="6540" y="2716"/>
                </a:lnTo>
                <a:lnTo>
                  <a:pt x="6543" y="2713"/>
                </a:lnTo>
                <a:lnTo>
                  <a:pt x="6543" y="2708"/>
                </a:lnTo>
                <a:lnTo>
                  <a:pt x="6543" y="2704"/>
                </a:lnTo>
                <a:lnTo>
                  <a:pt x="6544" y="2691"/>
                </a:lnTo>
                <a:lnTo>
                  <a:pt x="6552" y="2659"/>
                </a:lnTo>
                <a:lnTo>
                  <a:pt x="6562" y="2643"/>
                </a:lnTo>
                <a:lnTo>
                  <a:pt x="6563" y="2642"/>
                </a:lnTo>
                <a:lnTo>
                  <a:pt x="6565" y="2637"/>
                </a:lnTo>
                <a:lnTo>
                  <a:pt x="6568" y="2629"/>
                </a:lnTo>
                <a:lnTo>
                  <a:pt x="6569" y="2620"/>
                </a:lnTo>
                <a:lnTo>
                  <a:pt x="6569" y="2611"/>
                </a:lnTo>
                <a:lnTo>
                  <a:pt x="6566" y="2603"/>
                </a:lnTo>
                <a:lnTo>
                  <a:pt x="6563" y="2598"/>
                </a:lnTo>
                <a:lnTo>
                  <a:pt x="6563" y="2598"/>
                </a:lnTo>
                <a:lnTo>
                  <a:pt x="6549" y="2593"/>
                </a:lnTo>
                <a:lnTo>
                  <a:pt x="6517" y="2580"/>
                </a:lnTo>
                <a:lnTo>
                  <a:pt x="6450" y="2565"/>
                </a:lnTo>
                <a:lnTo>
                  <a:pt x="6418" y="2571"/>
                </a:lnTo>
                <a:lnTo>
                  <a:pt x="6394" y="2590"/>
                </a:lnTo>
                <a:lnTo>
                  <a:pt x="6384" y="2603"/>
                </a:lnTo>
                <a:lnTo>
                  <a:pt x="6368" y="2588"/>
                </a:lnTo>
                <a:lnTo>
                  <a:pt x="6331" y="2566"/>
                </a:lnTo>
                <a:lnTo>
                  <a:pt x="6292" y="2552"/>
                </a:lnTo>
                <a:lnTo>
                  <a:pt x="6250" y="2545"/>
                </a:lnTo>
                <a:lnTo>
                  <a:pt x="6162" y="2542"/>
                </a:lnTo>
                <a:lnTo>
                  <a:pt x="6142" y="2542"/>
                </a:lnTo>
                <a:lnTo>
                  <a:pt x="6142" y="2548"/>
                </a:lnTo>
                <a:lnTo>
                  <a:pt x="6142" y="2558"/>
                </a:lnTo>
                <a:lnTo>
                  <a:pt x="6142" y="2578"/>
                </a:lnTo>
                <a:lnTo>
                  <a:pt x="6139" y="2597"/>
                </a:lnTo>
                <a:lnTo>
                  <a:pt x="6139" y="2601"/>
                </a:lnTo>
                <a:lnTo>
                  <a:pt x="6134" y="2616"/>
                </a:lnTo>
                <a:lnTo>
                  <a:pt x="6121" y="2639"/>
                </a:lnTo>
                <a:lnTo>
                  <a:pt x="6103" y="2658"/>
                </a:lnTo>
                <a:lnTo>
                  <a:pt x="6081" y="2671"/>
                </a:lnTo>
                <a:lnTo>
                  <a:pt x="6056" y="2681"/>
                </a:lnTo>
                <a:lnTo>
                  <a:pt x="6032" y="2688"/>
                </a:lnTo>
                <a:lnTo>
                  <a:pt x="6020" y="2690"/>
                </a:lnTo>
                <a:lnTo>
                  <a:pt x="6018" y="2677"/>
                </a:lnTo>
                <a:lnTo>
                  <a:pt x="6021" y="2649"/>
                </a:lnTo>
                <a:lnTo>
                  <a:pt x="6029" y="2622"/>
                </a:lnTo>
                <a:lnTo>
                  <a:pt x="6037" y="2571"/>
                </a:lnTo>
                <a:lnTo>
                  <a:pt x="6023" y="2540"/>
                </a:lnTo>
                <a:lnTo>
                  <a:pt x="6011" y="2533"/>
                </a:lnTo>
                <a:lnTo>
                  <a:pt x="6000" y="2527"/>
                </a:lnTo>
                <a:lnTo>
                  <a:pt x="5988" y="2524"/>
                </a:lnTo>
                <a:lnTo>
                  <a:pt x="5959" y="2523"/>
                </a:lnTo>
                <a:lnTo>
                  <a:pt x="5930" y="2524"/>
                </a:lnTo>
                <a:lnTo>
                  <a:pt x="5871" y="2520"/>
                </a:lnTo>
                <a:lnTo>
                  <a:pt x="5858" y="2514"/>
                </a:lnTo>
                <a:lnTo>
                  <a:pt x="5849" y="2510"/>
                </a:lnTo>
                <a:lnTo>
                  <a:pt x="5834" y="2497"/>
                </a:lnTo>
                <a:lnTo>
                  <a:pt x="5824" y="2482"/>
                </a:lnTo>
                <a:lnTo>
                  <a:pt x="5820" y="2465"/>
                </a:lnTo>
                <a:lnTo>
                  <a:pt x="5820" y="2448"/>
                </a:lnTo>
                <a:lnTo>
                  <a:pt x="5827" y="2432"/>
                </a:lnTo>
                <a:lnTo>
                  <a:pt x="5833" y="2423"/>
                </a:lnTo>
                <a:lnTo>
                  <a:pt x="5836" y="2419"/>
                </a:lnTo>
                <a:lnTo>
                  <a:pt x="5846" y="2409"/>
                </a:lnTo>
                <a:lnTo>
                  <a:pt x="5865" y="2394"/>
                </a:lnTo>
                <a:lnTo>
                  <a:pt x="5891" y="2387"/>
                </a:lnTo>
                <a:lnTo>
                  <a:pt x="5900" y="2385"/>
                </a:lnTo>
                <a:lnTo>
                  <a:pt x="5898" y="2390"/>
                </a:lnTo>
                <a:lnTo>
                  <a:pt x="5901" y="2393"/>
                </a:lnTo>
                <a:lnTo>
                  <a:pt x="5903" y="2394"/>
                </a:lnTo>
                <a:lnTo>
                  <a:pt x="5905" y="2394"/>
                </a:lnTo>
                <a:lnTo>
                  <a:pt x="5911" y="2395"/>
                </a:lnTo>
                <a:lnTo>
                  <a:pt x="5917" y="2401"/>
                </a:lnTo>
                <a:lnTo>
                  <a:pt x="5917" y="2404"/>
                </a:lnTo>
                <a:lnTo>
                  <a:pt x="5924" y="2404"/>
                </a:lnTo>
                <a:lnTo>
                  <a:pt x="5942" y="2403"/>
                </a:lnTo>
                <a:lnTo>
                  <a:pt x="5975" y="2394"/>
                </a:lnTo>
                <a:lnTo>
                  <a:pt x="6010" y="2387"/>
                </a:lnTo>
                <a:lnTo>
                  <a:pt x="6020" y="2385"/>
                </a:lnTo>
                <a:lnTo>
                  <a:pt x="6020" y="2381"/>
                </a:lnTo>
                <a:lnTo>
                  <a:pt x="6021" y="2377"/>
                </a:lnTo>
                <a:lnTo>
                  <a:pt x="6024" y="2374"/>
                </a:lnTo>
                <a:lnTo>
                  <a:pt x="6027" y="2372"/>
                </a:lnTo>
                <a:lnTo>
                  <a:pt x="6032" y="2371"/>
                </a:lnTo>
                <a:lnTo>
                  <a:pt x="6039" y="2369"/>
                </a:lnTo>
                <a:lnTo>
                  <a:pt x="6046" y="2368"/>
                </a:lnTo>
                <a:lnTo>
                  <a:pt x="6052" y="2365"/>
                </a:lnTo>
                <a:lnTo>
                  <a:pt x="6053" y="2361"/>
                </a:lnTo>
                <a:lnTo>
                  <a:pt x="6053" y="2355"/>
                </a:lnTo>
                <a:lnTo>
                  <a:pt x="6053" y="2342"/>
                </a:lnTo>
                <a:lnTo>
                  <a:pt x="6056" y="2314"/>
                </a:lnTo>
                <a:lnTo>
                  <a:pt x="6062" y="2291"/>
                </a:lnTo>
                <a:lnTo>
                  <a:pt x="6066" y="2285"/>
                </a:lnTo>
                <a:lnTo>
                  <a:pt x="6072" y="2278"/>
                </a:lnTo>
                <a:lnTo>
                  <a:pt x="6088" y="2265"/>
                </a:lnTo>
                <a:lnTo>
                  <a:pt x="6107" y="2258"/>
                </a:lnTo>
                <a:lnTo>
                  <a:pt x="6126" y="2251"/>
                </a:lnTo>
                <a:lnTo>
                  <a:pt x="6165" y="2236"/>
                </a:lnTo>
                <a:lnTo>
                  <a:pt x="6175" y="2230"/>
                </a:lnTo>
                <a:lnTo>
                  <a:pt x="6182" y="2225"/>
                </a:lnTo>
                <a:lnTo>
                  <a:pt x="6198" y="2211"/>
                </a:lnTo>
                <a:lnTo>
                  <a:pt x="6230" y="2188"/>
                </a:lnTo>
                <a:lnTo>
                  <a:pt x="6263" y="2171"/>
                </a:lnTo>
                <a:lnTo>
                  <a:pt x="6272" y="2167"/>
                </a:lnTo>
                <a:lnTo>
                  <a:pt x="6278" y="2165"/>
                </a:lnTo>
                <a:lnTo>
                  <a:pt x="6291" y="2164"/>
                </a:lnTo>
                <a:lnTo>
                  <a:pt x="6321" y="2161"/>
                </a:lnTo>
                <a:lnTo>
                  <a:pt x="6349" y="2165"/>
                </a:lnTo>
                <a:lnTo>
                  <a:pt x="6355" y="2167"/>
                </a:lnTo>
                <a:lnTo>
                  <a:pt x="6358" y="2169"/>
                </a:lnTo>
                <a:lnTo>
                  <a:pt x="6360" y="2172"/>
                </a:lnTo>
                <a:lnTo>
                  <a:pt x="6360" y="2177"/>
                </a:lnTo>
                <a:lnTo>
                  <a:pt x="6362" y="2182"/>
                </a:lnTo>
                <a:lnTo>
                  <a:pt x="6360" y="2187"/>
                </a:lnTo>
                <a:lnTo>
                  <a:pt x="6359" y="2200"/>
                </a:lnTo>
                <a:lnTo>
                  <a:pt x="6353" y="2225"/>
                </a:lnTo>
                <a:lnTo>
                  <a:pt x="6353" y="2230"/>
                </a:lnTo>
                <a:lnTo>
                  <a:pt x="6352" y="2236"/>
                </a:lnTo>
                <a:lnTo>
                  <a:pt x="6350" y="2246"/>
                </a:lnTo>
                <a:lnTo>
                  <a:pt x="6346" y="2255"/>
                </a:lnTo>
                <a:lnTo>
                  <a:pt x="6340" y="2264"/>
                </a:lnTo>
                <a:lnTo>
                  <a:pt x="6324" y="2277"/>
                </a:lnTo>
                <a:lnTo>
                  <a:pt x="6321" y="2278"/>
                </a:lnTo>
                <a:lnTo>
                  <a:pt x="6315" y="2281"/>
                </a:lnTo>
                <a:lnTo>
                  <a:pt x="6304" y="2287"/>
                </a:lnTo>
                <a:lnTo>
                  <a:pt x="6285" y="2298"/>
                </a:lnTo>
                <a:lnTo>
                  <a:pt x="6278" y="2304"/>
                </a:lnTo>
                <a:lnTo>
                  <a:pt x="6275" y="2313"/>
                </a:lnTo>
                <a:lnTo>
                  <a:pt x="6276" y="2316"/>
                </a:lnTo>
                <a:lnTo>
                  <a:pt x="6278" y="2327"/>
                </a:lnTo>
                <a:lnTo>
                  <a:pt x="6282" y="2336"/>
                </a:lnTo>
                <a:lnTo>
                  <a:pt x="6288" y="2342"/>
                </a:lnTo>
                <a:lnTo>
                  <a:pt x="6295" y="2346"/>
                </a:lnTo>
                <a:lnTo>
                  <a:pt x="6304" y="2348"/>
                </a:lnTo>
                <a:lnTo>
                  <a:pt x="6314" y="2349"/>
                </a:lnTo>
                <a:lnTo>
                  <a:pt x="6337" y="2349"/>
                </a:lnTo>
                <a:lnTo>
                  <a:pt x="6382" y="2352"/>
                </a:lnTo>
                <a:lnTo>
                  <a:pt x="6384" y="2352"/>
                </a:lnTo>
                <a:lnTo>
                  <a:pt x="6378" y="2364"/>
                </a:lnTo>
                <a:lnTo>
                  <a:pt x="6365" y="2385"/>
                </a:lnTo>
                <a:lnTo>
                  <a:pt x="6333" y="2422"/>
                </a:lnTo>
                <a:lnTo>
                  <a:pt x="6292" y="2451"/>
                </a:lnTo>
                <a:lnTo>
                  <a:pt x="6281" y="2456"/>
                </a:lnTo>
                <a:lnTo>
                  <a:pt x="6284" y="2461"/>
                </a:lnTo>
                <a:lnTo>
                  <a:pt x="6294" y="2468"/>
                </a:lnTo>
                <a:lnTo>
                  <a:pt x="6315" y="2477"/>
                </a:lnTo>
                <a:lnTo>
                  <a:pt x="6321" y="2477"/>
                </a:lnTo>
                <a:lnTo>
                  <a:pt x="6326" y="2475"/>
                </a:lnTo>
                <a:lnTo>
                  <a:pt x="6329" y="2474"/>
                </a:lnTo>
                <a:lnTo>
                  <a:pt x="6331" y="2469"/>
                </a:lnTo>
                <a:lnTo>
                  <a:pt x="6333" y="2464"/>
                </a:lnTo>
                <a:lnTo>
                  <a:pt x="6334" y="2464"/>
                </a:lnTo>
                <a:lnTo>
                  <a:pt x="6339" y="2445"/>
                </a:lnTo>
                <a:lnTo>
                  <a:pt x="6346" y="2429"/>
                </a:lnTo>
                <a:lnTo>
                  <a:pt x="6356" y="2413"/>
                </a:lnTo>
                <a:lnTo>
                  <a:pt x="6382" y="2390"/>
                </a:lnTo>
                <a:lnTo>
                  <a:pt x="6414" y="2372"/>
                </a:lnTo>
                <a:lnTo>
                  <a:pt x="6446" y="2358"/>
                </a:lnTo>
                <a:lnTo>
                  <a:pt x="6478" y="2345"/>
                </a:lnTo>
                <a:lnTo>
                  <a:pt x="6494" y="2338"/>
                </a:lnTo>
                <a:lnTo>
                  <a:pt x="6508" y="2330"/>
                </a:lnTo>
                <a:lnTo>
                  <a:pt x="6542" y="2317"/>
                </a:lnTo>
                <a:lnTo>
                  <a:pt x="6608" y="2291"/>
                </a:lnTo>
                <a:lnTo>
                  <a:pt x="6679" y="2271"/>
                </a:lnTo>
                <a:lnTo>
                  <a:pt x="6698" y="2267"/>
                </a:lnTo>
                <a:lnTo>
                  <a:pt x="6698" y="2265"/>
                </a:lnTo>
                <a:lnTo>
                  <a:pt x="6697" y="2261"/>
                </a:lnTo>
                <a:lnTo>
                  <a:pt x="6697" y="2256"/>
                </a:lnTo>
                <a:lnTo>
                  <a:pt x="6698" y="2255"/>
                </a:lnTo>
                <a:lnTo>
                  <a:pt x="6695" y="2252"/>
                </a:lnTo>
                <a:lnTo>
                  <a:pt x="6692" y="2245"/>
                </a:lnTo>
                <a:lnTo>
                  <a:pt x="6691" y="2227"/>
                </a:lnTo>
                <a:lnTo>
                  <a:pt x="6692" y="2220"/>
                </a:lnTo>
                <a:lnTo>
                  <a:pt x="6697" y="2213"/>
                </a:lnTo>
                <a:lnTo>
                  <a:pt x="6699" y="2209"/>
                </a:lnTo>
                <a:lnTo>
                  <a:pt x="6718" y="2190"/>
                </a:lnTo>
                <a:lnTo>
                  <a:pt x="6763" y="2158"/>
                </a:lnTo>
                <a:lnTo>
                  <a:pt x="6812" y="2133"/>
                </a:lnTo>
                <a:lnTo>
                  <a:pt x="6914" y="2087"/>
                </a:lnTo>
                <a:lnTo>
                  <a:pt x="6979" y="2030"/>
                </a:lnTo>
                <a:lnTo>
                  <a:pt x="6981" y="2027"/>
                </a:lnTo>
                <a:lnTo>
                  <a:pt x="6983" y="2023"/>
                </a:lnTo>
                <a:lnTo>
                  <a:pt x="6986" y="2013"/>
                </a:lnTo>
                <a:lnTo>
                  <a:pt x="6992" y="1994"/>
                </a:lnTo>
                <a:lnTo>
                  <a:pt x="7007" y="1983"/>
                </a:lnTo>
                <a:lnTo>
                  <a:pt x="7011" y="1983"/>
                </a:lnTo>
                <a:lnTo>
                  <a:pt x="7021" y="1980"/>
                </a:lnTo>
                <a:lnTo>
                  <a:pt x="7040" y="1974"/>
                </a:lnTo>
                <a:lnTo>
                  <a:pt x="7047" y="1972"/>
                </a:lnTo>
                <a:lnTo>
                  <a:pt x="7052" y="1972"/>
                </a:lnTo>
                <a:lnTo>
                  <a:pt x="7053" y="1972"/>
                </a:lnTo>
                <a:lnTo>
                  <a:pt x="7056" y="1985"/>
                </a:lnTo>
                <a:lnTo>
                  <a:pt x="7069" y="2007"/>
                </a:lnTo>
                <a:lnTo>
                  <a:pt x="7085" y="2022"/>
                </a:lnTo>
                <a:lnTo>
                  <a:pt x="7105" y="2032"/>
                </a:lnTo>
                <a:lnTo>
                  <a:pt x="7128" y="2038"/>
                </a:lnTo>
                <a:lnTo>
                  <a:pt x="7150" y="2038"/>
                </a:lnTo>
                <a:lnTo>
                  <a:pt x="7162" y="2036"/>
                </a:lnTo>
                <a:lnTo>
                  <a:pt x="7173" y="2035"/>
                </a:lnTo>
                <a:lnTo>
                  <a:pt x="7182" y="2030"/>
                </a:lnTo>
                <a:lnTo>
                  <a:pt x="7188" y="2025"/>
                </a:lnTo>
                <a:lnTo>
                  <a:pt x="7191" y="2019"/>
                </a:lnTo>
                <a:lnTo>
                  <a:pt x="7191" y="2010"/>
                </a:lnTo>
                <a:lnTo>
                  <a:pt x="7191" y="2003"/>
                </a:lnTo>
                <a:lnTo>
                  <a:pt x="7186" y="1985"/>
                </a:lnTo>
                <a:lnTo>
                  <a:pt x="7183" y="1967"/>
                </a:lnTo>
                <a:lnTo>
                  <a:pt x="7186" y="1949"/>
                </a:lnTo>
                <a:lnTo>
                  <a:pt x="7188" y="1949"/>
                </a:lnTo>
                <a:lnTo>
                  <a:pt x="7191" y="1945"/>
                </a:lnTo>
                <a:lnTo>
                  <a:pt x="7196" y="1941"/>
                </a:lnTo>
                <a:lnTo>
                  <a:pt x="7204" y="1938"/>
                </a:lnTo>
                <a:lnTo>
                  <a:pt x="7212" y="1938"/>
                </a:lnTo>
                <a:lnTo>
                  <a:pt x="7231" y="1938"/>
                </a:lnTo>
                <a:lnTo>
                  <a:pt x="7272" y="1939"/>
                </a:lnTo>
                <a:lnTo>
                  <a:pt x="7288" y="1932"/>
                </a:lnTo>
                <a:lnTo>
                  <a:pt x="7292" y="1929"/>
                </a:lnTo>
                <a:lnTo>
                  <a:pt x="7304" y="1920"/>
                </a:lnTo>
                <a:lnTo>
                  <a:pt x="7327" y="1903"/>
                </a:lnTo>
                <a:lnTo>
                  <a:pt x="7349" y="1884"/>
                </a:lnTo>
                <a:lnTo>
                  <a:pt x="7354" y="1878"/>
                </a:lnTo>
                <a:lnTo>
                  <a:pt x="7360" y="1877"/>
                </a:lnTo>
                <a:lnTo>
                  <a:pt x="7364" y="1877"/>
                </a:lnTo>
                <a:lnTo>
                  <a:pt x="7373" y="1877"/>
                </a:lnTo>
                <a:lnTo>
                  <a:pt x="7391" y="1878"/>
                </a:lnTo>
                <a:lnTo>
                  <a:pt x="7401" y="1874"/>
                </a:lnTo>
                <a:lnTo>
                  <a:pt x="7404" y="1871"/>
                </a:lnTo>
                <a:lnTo>
                  <a:pt x="7405" y="1867"/>
                </a:lnTo>
                <a:lnTo>
                  <a:pt x="7408" y="1861"/>
                </a:lnTo>
                <a:lnTo>
                  <a:pt x="7409" y="1849"/>
                </a:lnTo>
                <a:lnTo>
                  <a:pt x="7412" y="1826"/>
                </a:lnTo>
                <a:lnTo>
                  <a:pt x="7418" y="1810"/>
                </a:lnTo>
                <a:lnTo>
                  <a:pt x="7425" y="1801"/>
                </a:lnTo>
                <a:lnTo>
                  <a:pt x="7434" y="1796"/>
                </a:lnTo>
                <a:lnTo>
                  <a:pt x="7441" y="1794"/>
                </a:lnTo>
                <a:lnTo>
                  <a:pt x="7450" y="1797"/>
                </a:lnTo>
                <a:lnTo>
                  <a:pt x="7459" y="1801"/>
                </a:lnTo>
                <a:lnTo>
                  <a:pt x="7466" y="1807"/>
                </a:lnTo>
                <a:lnTo>
                  <a:pt x="7482" y="1823"/>
                </a:lnTo>
                <a:lnTo>
                  <a:pt x="7499" y="1839"/>
                </a:lnTo>
                <a:lnTo>
                  <a:pt x="7515" y="1849"/>
                </a:lnTo>
                <a:lnTo>
                  <a:pt x="7517" y="1849"/>
                </a:lnTo>
                <a:lnTo>
                  <a:pt x="7518" y="1848"/>
                </a:lnTo>
                <a:lnTo>
                  <a:pt x="7527" y="1843"/>
                </a:lnTo>
                <a:lnTo>
                  <a:pt x="7533" y="1841"/>
                </a:lnTo>
                <a:lnTo>
                  <a:pt x="7534" y="1839"/>
                </a:lnTo>
                <a:lnTo>
                  <a:pt x="7540" y="1836"/>
                </a:lnTo>
                <a:lnTo>
                  <a:pt x="7551" y="1826"/>
                </a:lnTo>
                <a:lnTo>
                  <a:pt x="7572" y="1806"/>
                </a:lnTo>
                <a:lnTo>
                  <a:pt x="7585" y="1784"/>
                </a:lnTo>
                <a:lnTo>
                  <a:pt x="7588" y="1780"/>
                </a:lnTo>
                <a:lnTo>
                  <a:pt x="7589" y="1774"/>
                </a:lnTo>
                <a:lnTo>
                  <a:pt x="7596" y="1761"/>
                </a:lnTo>
                <a:lnTo>
                  <a:pt x="7609" y="1738"/>
                </a:lnTo>
                <a:lnTo>
                  <a:pt x="7619" y="1712"/>
                </a:lnTo>
                <a:lnTo>
                  <a:pt x="7621" y="1703"/>
                </a:lnTo>
                <a:lnTo>
                  <a:pt x="7617" y="1704"/>
                </a:lnTo>
                <a:lnTo>
                  <a:pt x="7614" y="1704"/>
                </a:lnTo>
                <a:lnTo>
                  <a:pt x="7612" y="1703"/>
                </a:lnTo>
                <a:lnTo>
                  <a:pt x="7611" y="1701"/>
                </a:lnTo>
                <a:lnTo>
                  <a:pt x="7611" y="1699"/>
                </a:lnTo>
                <a:lnTo>
                  <a:pt x="7611" y="1697"/>
                </a:lnTo>
                <a:lnTo>
                  <a:pt x="7609" y="1691"/>
                </a:lnTo>
                <a:lnTo>
                  <a:pt x="7608" y="1687"/>
                </a:lnTo>
                <a:lnTo>
                  <a:pt x="7604" y="1685"/>
                </a:lnTo>
                <a:lnTo>
                  <a:pt x="7604" y="1685"/>
                </a:lnTo>
                <a:lnTo>
                  <a:pt x="7606" y="1670"/>
                </a:lnTo>
                <a:lnTo>
                  <a:pt x="7611" y="1636"/>
                </a:lnTo>
                <a:lnTo>
                  <a:pt x="7605" y="1571"/>
                </a:lnTo>
                <a:lnTo>
                  <a:pt x="7579" y="1509"/>
                </a:lnTo>
                <a:lnTo>
                  <a:pt x="7569" y="1494"/>
                </a:lnTo>
                <a:lnTo>
                  <a:pt x="7579" y="1490"/>
                </a:lnTo>
                <a:lnTo>
                  <a:pt x="7598" y="1480"/>
                </a:lnTo>
                <a:lnTo>
                  <a:pt x="7634" y="1452"/>
                </a:lnTo>
                <a:lnTo>
                  <a:pt x="7664" y="1419"/>
                </a:lnTo>
                <a:lnTo>
                  <a:pt x="7672" y="1409"/>
                </a:lnTo>
                <a:lnTo>
                  <a:pt x="7679" y="1415"/>
                </a:lnTo>
                <a:lnTo>
                  <a:pt x="7692" y="1426"/>
                </a:lnTo>
                <a:lnTo>
                  <a:pt x="7718" y="1439"/>
                </a:lnTo>
                <a:lnTo>
                  <a:pt x="7732" y="1442"/>
                </a:lnTo>
                <a:lnTo>
                  <a:pt x="7748" y="1439"/>
                </a:lnTo>
                <a:lnTo>
                  <a:pt x="7759" y="1435"/>
                </a:lnTo>
                <a:lnTo>
                  <a:pt x="7757" y="1439"/>
                </a:lnTo>
                <a:lnTo>
                  <a:pt x="7759" y="1443"/>
                </a:lnTo>
                <a:lnTo>
                  <a:pt x="7760" y="1448"/>
                </a:lnTo>
                <a:lnTo>
                  <a:pt x="7764" y="1449"/>
                </a:lnTo>
                <a:lnTo>
                  <a:pt x="7769" y="1451"/>
                </a:lnTo>
                <a:lnTo>
                  <a:pt x="7774" y="1451"/>
                </a:lnTo>
                <a:lnTo>
                  <a:pt x="7777" y="1451"/>
                </a:lnTo>
                <a:lnTo>
                  <a:pt x="7782" y="1452"/>
                </a:lnTo>
                <a:lnTo>
                  <a:pt x="7793" y="1454"/>
                </a:lnTo>
                <a:lnTo>
                  <a:pt x="7805" y="1452"/>
                </a:lnTo>
                <a:lnTo>
                  <a:pt x="7828" y="1448"/>
                </a:lnTo>
                <a:lnTo>
                  <a:pt x="7845" y="1443"/>
                </a:lnTo>
                <a:lnTo>
                  <a:pt x="7844" y="1436"/>
                </a:lnTo>
                <a:lnTo>
                  <a:pt x="7844" y="1422"/>
                </a:lnTo>
                <a:lnTo>
                  <a:pt x="7848" y="1407"/>
                </a:lnTo>
                <a:lnTo>
                  <a:pt x="7856" y="1393"/>
                </a:lnTo>
                <a:lnTo>
                  <a:pt x="7866" y="1381"/>
                </a:lnTo>
                <a:lnTo>
                  <a:pt x="7877" y="1370"/>
                </a:lnTo>
                <a:lnTo>
                  <a:pt x="7886" y="1364"/>
                </a:lnTo>
                <a:lnTo>
                  <a:pt x="7887" y="1361"/>
                </a:lnTo>
                <a:lnTo>
                  <a:pt x="7889" y="1358"/>
                </a:lnTo>
                <a:lnTo>
                  <a:pt x="7889" y="1357"/>
                </a:lnTo>
                <a:lnTo>
                  <a:pt x="7887" y="1349"/>
                </a:lnTo>
                <a:lnTo>
                  <a:pt x="7887" y="1338"/>
                </a:lnTo>
                <a:lnTo>
                  <a:pt x="7890" y="1332"/>
                </a:lnTo>
                <a:lnTo>
                  <a:pt x="7895" y="1328"/>
                </a:lnTo>
                <a:lnTo>
                  <a:pt x="7903" y="1316"/>
                </a:lnTo>
                <a:lnTo>
                  <a:pt x="7921" y="1294"/>
                </a:lnTo>
                <a:lnTo>
                  <a:pt x="7940" y="1274"/>
                </a:lnTo>
                <a:lnTo>
                  <a:pt x="7945" y="1268"/>
                </a:lnTo>
                <a:lnTo>
                  <a:pt x="7947" y="1265"/>
                </a:lnTo>
                <a:lnTo>
                  <a:pt x="7948" y="1262"/>
                </a:lnTo>
                <a:lnTo>
                  <a:pt x="7950" y="1254"/>
                </a:lnTo>
                <a:lnTo>
                  <a:pt x="7950" y="1245"/>
                </a:lnTo>
                <a:lnTo>
                  <a:pt x="7948" y="1236"/>
                </a:lnTo>
                <a:lnTo>
                  <a:pt x="7941" y="1219"/>
                </a:lnTo>
                <a:lnTo>
                  <a:pt x="7941" y="1219"/>
                </a:lnTo>
                <a:lnTo>
                  <a:pt x="7945" y="1217"/>
                </a:lnTo>
                <a:lnTo>
                  <a:pt x="7953" y="1212"/>
                </a:lnTo>
                <a:lnTo>
                  <a:pt x="7958" y="1203"/>
                </a:lnTo>
                <a:lnTo>
                  <a:pt x="7970" y="1187"/>
                </a:lnTo>
                <a:lnTo>
                  <a:pt x="7980" y="1174"/>
                </a:lnTo>
                <a:lnTo>
                  <a:pt x="7982" y="1171"/>
                </a:lnTo>
                <a:lnTo>
                  <a:pt x="7983" y="1167"/>
                </a:lnTo>
                <a:lnTo>
                  <a:pt x="7983" y="1162"/>
                </a:lnTo>
                <a:lnTo>
                  <a:pt x="7983" y="1158"/>
                </a:lnTo>
                <a:lnTo>
                  <a:pt x="7980" y="1148"/>
                </a:lnTo>
                <a:lnTo>
                  <a:pt x="7976" y="1139"/>
                </a:lnTo>
                <a:lnTo>
                  <a:pt x="7974" y="1133"/>
                </a:lnTo>
                <a:lnTo>
                  <a:pt x="7976" y="1128"/>
                </a:lnTo>
                <a:lnTo>
                  <a:pt x="7977" y="1128"/>
                </a:lnTo>
                <a:lnTo>
                  <a:pt x="7985" y="1123"/>
                </a:lnTo>
                <a:lnTo>
                  <a:pt x="7995" y="1113"/>
                </a:lnTo>
                <a:lnTo>
                  <a:pt x="7999" y="1102"/>
                </a:lnTo>
                <a:lnTo>
                  <a:pt x="8000" y="1090"/>
                </a:lnTo>
                <a:lnTo>
                  <a:pt x="8000" y="1077"/>
                </a:lnTo>
                <a:lnTo>
                  <a:pt x="7999" y="1062"/>
                </a:lnTo>
                <a:lnTo>
                  <a:pt x="8000" y="1055"/>
                </a:lnTo>
                <a:lnTo>
                  <a:pt x="8008" y="1057"/>
                </a:lnTo>
                <a:lnTo>
                  <a:pt x="8024" y="1055"/>
                </a:lnTo>
                <a:lnTo>
                  <a:pt x="8040" y="1052"/>
                </a:lnTo>
                <a:lnTo>
                  <a:pt x="8054" y="1045"/>
                </a:lnTo>
                <a:lnTo>
                  <a:pt x="8063" y="1035"/>
                </a:lnTo>
                <a:lnTo>
                  <a:pt x="8064" y="1028"/>
                </a:lnTo>
                <a:lnTo>
                  <a:pt x="8064" y="1022"/>
                </a:lnTo>
                <a:lnTo>
                  <a:pt x="8063" y="1013"/>
                </a:lnTo>
                <a:lnTo>
                  <a:pt x="8063" y="1013"/>
                </a:lnTo>
                <a:lnTo>
                  <a:pt x="8060" y="1007"/>
                </a:lnTo>
                <a:lnTo>
                  <a:pt x="8056" y="996"/>
                </a:lnTo>
                <a:lnTo>
                  <a:pt x="8048" y="973"/>
                </a:lnTo>
                <a:lnTo>
                  <a:pt x="8045" y="949"/>
                </a:lnTo>
                <a:lnTo>
                  <a:pt x="8047" y="942"/>
                </a:lnTo>
                <a:lnTo>
                  <a:pt x="8047" y="941"/>
                </a:lnTo>
                <a:lnTo>
                  <a:pt x="8048" y="935"/>
                </a:lnTo>
                <a:lnTo>
                  <a:pt x="8051" y="922"/>
                </a:lnTo>
                <a:lnTo>
                  <a:pt x="8058" y="910"/>
                </a:lnTo>
                <a:lnTo>
                  <a:pt x="8061" y="907"/>
                </a:lnTo>
                <a:lnTo>
                  <a:pt x="8056" y="909"/>
                </a:lnTo>
                <a:lnTo>
                  <a:pt x="8050" y="907"/>
                </a:lnTo>
                <a:lnTo>
                  <a:pt x="8041" y="904"/>
                </a:lnTo>
                <a:lnTo>
                  <a:pt x="8031" y="900"/>
                </a:lnTo>
                <a:lnTo>
                  <a:pt x="8024" y="896"/>
                </a:lnTo>
                <a:lnTo>
                  <a:pt x="8016" y="894"/>
                </a:lnTo>
                <a:lnTo>
                  <a:pt x="8011" y="894"/>
                </a:lnTo>
                <a:lnTo>
                  <a:pt x="8011" y="894"/>
                </a:lnTo>
                <a:lnTo>
                  <a:pt x="7996" y="902"/>
                </a:lnTo>
                <a:lnTo>
                  <a:pt x="7967" y="910"/>
                </a:lnTo>
                <a:lnTo>
                  <a:pt x="7938" y="915"/>
                </a:lnTo>
                <a:lnTo>
                  <a:pt x="7879" y="920"/>
                </a:lnTo>
                <a:lnTo>
                  <a:pt x="7838" y="931"/>
                </a:lnTo>
                <a:lnTo>
                  <a:pt x="7831" y="933"/>
                </a:lnTo>
                <a:lnTo>
                  <a:pt x="7821" y="942"/>
                </a:lnTo>
                <a:lnTo>
                  <a:pt x="7799" y="960"/>
                </a:lnTo>
                <a:lnTo>
                  <a:pt x="7774" y="974"/>
                </a:lnTo>
                <a:lnTo>
                  <a:pt x="7767" y="975"/>
                </a:lnTo>
                <a:lnTo>
                  <a:pt x="7769" y="977"/>
                </a:lnTo>
                <a:lnTo>
                  <a:pt x="7772" y="980"/>
                </a:lnTo>
                <a:lnTo>
                  <a:pt x="7776" y="986"/>
                </a:lnTo>
                <a:lnTo>
                  <a:pt x="7776" y="991"/>
                </a:lnTo>
                <a:lnTo>
                  <a:pt x="7776" y="993"/>
                </a:lnTo>
                <a:lnTo>
                  <a:pt x="7764" y="1000"/>
                </a:lnTo>
                <a:lnTo>
                  <a:pt x="7741" y="1009"/>
                </a:lnTo>
                <a:lnTo>
                  <a:pt x="7718" y="1013"/>
                </a:lnTo>
                <a:lnTo>
                  <a:pt x="7695" y="1013"/>
                </a:lnTo>
                <a:lnTo>
                  <a:pt x="7670" y="1009"/>
                </a:lnTo>
                <a:lnTo>
                  <a:pt x="7647" y="1002"/>
                </a:lnTo>
                <a:lnTo>
                  <a:pt x="7637" y="996"/>
                </a:lnTo>
                <a:lnTo>
                  <a:pt x="7632" y="994"/>
                </a:lnTo>
                <a:lnTo>
                  <a:pt x="7624" y="993"/>
                </a:lnTo>
                <a:lnTo>
                  <a:pt x="7615" y="994"/>
                </a:lnTo>
                <a:lnTo>
                  <a:pt x="7606" y="996"/>
                </a:lnTo>
                <a:lnTo>
                  <a:pt x="7598" y="1000"/>
                </a:lnTo>
                <a:lnTo>
                  <a:pt x="7589" y="1006"/>
                </a:lnTo>
                <a:lnTo>
                  <a:pt x="7585" y="1009"/>
                </a:lnTo>
                <a:lnTo>
                  <a:pt x="7582" y="1010"/>
                </a:lnTo>
                <a:lnTo>
                  <a:pt x="7580" y="1012"/>
                </a:lnTo>
                <a:lnTo>
                  <a:pt x="7576" y="1013"/>
                </a:lnTo>
                <a:lnTo>
                  <a:pt x="7570" y="1013"/>
                </a:lnTo>
                <a:lnTo>
                  <a:pt x="7566" y="1012"/>
                </a:lnTo>
                <a:lnTo>
                  <a:pt x="7563" y="1009"/>
                </a:lnTo>
                <a:lnTo>
                  <a:pt x="7561" y="1003"/>
                </a:lnTo>
                <a:lnTo>
                  <a:pt x="7563" y="1003"/>
                </a:lnTo>
                <a:lnTo>
                  <a:pt x="7561" y="999"/>
                </a:lnTo>
                <a:lnTo>
                  <a:pt x="7560" y="996"/>
                </a:lnTo>
                <a:lnTo>
                  <a:pt x="7556" y="990"/>
                </a:lnTo>
                <a:lnTo>
                  <a:pt x="7554" y="984"/>
                </a:lnTo>
                <a:lnTo>
                  <a:pt x="7554" y="981"/>
                </a:lnTo>
                <a:lnTo>
                  <a:pt x="7556" y="980"/>
                </a:lnTo>
                <a:lnTo>
                  <a:pt x="7557" y="978"/>
                </a:lnTo>
                <a:lnTo>
                  <a:pt x="7561" y="977"/>
                </a:lnTo>
                <a:lnTo>
                  <a:pt x="7567" y="975"/>
                </a:lnTo>
                <a:lnTo>
                  <a:pt x="7569" y="975"/>
                </a:lnTo>
                <a:lnTo>
                  <a:pt x="7566" y="974"/>
                </a:lnTo>
                <a:lnTo>
                  <a:pt x="7563" y="971"/>
                </a:lnTo>
                <a:lnTo>
                  <a:pt x="7556" y="967"/>
                </a:lnTo>
                <a:lnTo>
                  <a:pt x="7543" y="961"/>
                </a:lnTo>
                <a:lnTo>
                  <a:pt x="7537" y="951"/>
                </a:lnTo>
                <a:lnTo>
                  <a:pt x="7537" y="941"/>
                </a:lnTo>
                <a:lnTo>
                  <a:pt x="7537" y="922"/>
                </a:lnTo>
                <a:lnTo>
                  <a:pt x="7530" y="889"/>
                </a:lnTo>
                <a:lnTo>
                  <a:pt x="7514" y="855"/>
                </a:lnTo>
                <a:lnTo>
                  <a:pt x="7508" y="847"/>
                </a:lnTo>
                <a:lnTo>
                  <a:pt x="7511" y="845"/>
                </a:lnTo>
                <a:lnTo>
                  <a:pt x="7515" y="844"/>
                </a:lnTo>
                <a:lnTo>
                  <a:pt x="7517" y="841"/>
                </a:lnTo>
                <a:lnTo>
                  <a:pt x="7518" y="838"/>
                </a:lnTo>
                <a:lnTo>
                  <a:pt x="7519" y="833"/>
                </a:lnTo>
                <a:lnTo>
                  <a:pt x="7522" y="826"/>
                </a:lnTo>
                <a:lnTo>
                  <a:pt x="7524" y="819"/>
                </a:lnTo>
                <a:lnTo>
                  <a:pt x="7530" y="815"/>
                </a:lnTo>
                <a:lnTo>
                  <a:pt x="7534" y="812"/>
                </a:lnTo>
                <a:lnTo>
                  <a:pt x="7525" y="813"/>
                </a:lnTo>
                <a:lnTo>
                  <a:pt x="7508" y="815"/>
                </a:lnTo>
                <a:lnTo>
                  <a:pt x="7476" y="809"/>
                </a:lnTo>
                <a:lnTo>
                  <a:pt x="7447" y="797"/>
                </a:lnTo>
                <a:lnTo>
                  <a:pt x="7440" y="793"/>
                </a:lnTo>
                <a:lnTo>
                  <a:pt x="7435" y="791"/>
                </a:lnTo>
                <a:lnTo>
                  <a:pt x="7433" y="789"/>
                </a:lnTo>
                <a:lnTo>
                  <a:pt x="7430" y="786"/>
                </a:lnTo>
                <a:lnTo>
                  <a:pt x="7427" y="780"/>
                </a:lnTo>
                <a:lnTo>
                  <a:pt x="7424" y="773"/>
                </a:lnTo>
                <a:lnTo>
                  <a:pt x="7420" y="757"/>
                </a:lnTo>
                <a:lnTo>
                  <a:pt x="7420" y="752"/>
                </a:lnTo>
                <a:lnTo>
                  <a:pt x="7414" y="744"/>
                </a:lnTo>
                <a:lnTo>
                  <a:pt x="7406" y="738"/>
                </a:lnTo>
                <a:lnTo>
                  <a:pt x="7399" y="733"/>
                </a:lnTo>
                <a:lnTo>
                  <a:pt x="7391" y="731"/>
                </a:lnTo>
                <a:lnTo>
                  <a:pt x="7382" y="729"/>
                </a:lnTo>
                <a:lnTo>
                  <a:pt x="7363" y="728"/>
                </a:lnTo>
                <a:lnTo>
                  <a:pt x="7328" y="725"/>
                </a:lnTo>
                <a:lnTo>
                  <a:pt x="7321" y="720"/>
                </a:lnTo>
                <a:lnTo>
                  <a:pt x="7315" y="719"/>
                </a:lnTo>
                <a:lnTo>
                  <a:pt x="7305" y="713"/>
                </a:lnTo>
                <a:lnTo>
                  <a:pt x="7283" y="705"/>
                </a:lnTo>
                <a:lnTo>
                  <a:pt x="7260" y="697"/>
                </a:lnTo>
                <a:lnTo>
                  <a:pt x="7256" y="694"/>
                </a:lnTo>
                <a:lnTo>
                  <a:pt x="7249" y="693"/>
                </a:lnTo>
                <a:lnTo>
                  <a:pt x="7234" y="690"/>
                </a:lnTo>
                <a:lnTo>
                  <a:pt x="7202" y="690"/>
                </a:lnTo>
                <a:lnTo>
                  <a:pt x="7169" y="690"/>
                </a:lnTo>
                <a:lnTo>
                  <a:pt x="7162" y="690"/>
                </a:lnTo>
                <a:lnTo>
                  <a:pt x="7160" y="686"/>
                </a:lnTo>
                <a:lnTo>
                  <a:pt x="7159" y="681"/>
                </a:lnTo>
                <a:lnTo>
                  <a:pt x="7156" y="678"/>
                </a:lnTo>
                <a:lnTo>
                  <a:pt x="7153" y="676"/>
                </a:lnTo>
                <a:lnTo>
                  <a:pt x="7150" y="674"/>
                </a:lnTo>
                <a:lnTo>
                  <a:pt x="7141" y="670"/>
                </a:lnTo>
                <a:lnTo>
                  <a:pt x="7134" y="667"/>
                </a:lnTo>
                <a:lnTo>
                  <a:pt x="7128" y="661"/>
                </a:lnTo>
                <a:lnTo>
                  <a:pt x="7127" y="657"/>
                </a:lnTo>
                <a:lnTo>
                  <a:pt x="7125" y="652"/>
                </a:lnTo>
                <a:lnTo>
                  <a:pt x="7127" y="647"/>
                </a:lnTo>
                <a:lnTo>
                  <a:pt x="7128" y="642"/>
                </a:lnTo>
                <a:lnTo>
                  <a:pt x="7133" y="632"/>
                </a:lnTo>
                <a:lnTo>
                  <a:pt x="7138" y="612"/>
                </a:lnTo>
                <a:lnTo>
                  <a:pt x="7136" y="596"/>
                </a:lnTo>
                <a:lnTo>
                  <a:pt x="7133" y="594"/>
                </a:lnTo>
                <a:lnTo>
                  <a:pt x="7125" y="589"/>
                </a:lnTo>
                <a:lnTo>
                  <a:pt x="7114" y="578"/>
                </a:lnTo>
                <a:lnTo>
                  <a:pt x="7109" y="574"/>
                </a:lnTo>
                <a:lnTo>
                  <a:pt x="7107" y="571"/>
                </a:lnTo>
                <a:lnTo>
                  <a:pt x="7107" y="570"/>
                </a:lnTo>
                <a:lnTo>
                  <a:pt x="7104" y="552"/>
                </a:lnTo>
                <a:lnTo>
                  <a:pt x="7098" y="519"/>
                </a:lnTo>
                <a:lnTo>
                  <a:pt x="7069" y="461"/>
                </a:lnTo>
                <a:lnTo>
                  <a:pt x="7028" y="409"/>
                </a:lnTo>
                <a:lnTo>
                  <a:pt x="7017" y="394"/>
                </a:lnTo>
                <a:lnTo>
                  <a:pt x="7014" y="392"/>
                </a:lnTo>
                <a:lnTo>
                  <a:pt x="7014" y="389"/>
                </a:lnTo>
                <a:lnTo>
                  <a:pt x="7015" y="386"/>
                </a:lnTo>
                <a:lnTo>
                  <a:pt x="7017" y="381"/>
                </a:lnTo>
                <a:lnTo>
                  <a:pt x="7020" y="378"/>
                </a:lnTo>
                <a:lnTo>
                  <a:pt x="7025" y="373"/>
                </a:lnTo>
                <a:lnTo>
                  <a:pt x="7031" y="367"/>
                </a:lnTo>
                <a:lnTo>
                  <a:pt x="7033" y="358"/>
                </a:lnTo>
                <a:lnTo>
                  <a:pt x="7031" y="354"/>
                </a:lnTo>
                <a:lnTo>
                  <a:pt x="7023" y="341"/>
                </a:lnTo>
                <a:lnTo>
                  <a:pt x="7008" y="312"/>
                </a:lnTo>
                <a:lnTo>
                  <a:pt x="6981" y="255"/>
                </a:lnTo>
                <a:lnTo>
                  <a:pt x="6954" y="199"/>
                </a:lnTo>
                <a:lnTo>
                  <a:pt x="6947" y="184"/>
                </a:lnTo>
                <a:lnTo>
                  <a:pt x="6943" y="179"/>
                </a:lnTo>
                <a:lnTo>
                  <a:pt x="6936" y="165"/>
                </a:lnTo>
                <a:lnTo>
                  <a:pt x="6918" y="136"/>
                </a:lnTo>
                <a:lnTo>
                  <a:pt x="6898" y="110"/>
                </a:lnTo>
                <a:lnTo>
                  <a:pt x="6892" y="105"/>
                </a:lnTo>
                <a:lnTo>
                  <a:pt x="6888" y="103"/>
                </a:lnTo>
                <a:lnTo>
                  <a:pt x="6881" y="100"/>
                </a:lnTo>
                <a:lnTo>
                  <a:pt x="6863" y="93"/>
                </a:lnTo>
                <a:lnTo>
                  <a:pt x="6846" y="89"/>
                </a:lnTo>
                <a:lnTo>
                  <a:pt x="6841" y="87"/>
                </a:lnTo>
                <a:lnTo>
                  <a:pt x="6833" y="87"/>
                </a:lnTo>
                <a:lnTo>
                  <a:pt x="6817" y="86"/>
                </a:lnTo>
                <a:lnTo>
                  <a:pt x="6785" y="86"/>
                </a:lnTo>
                <a:lnTo>
                  <a:pt x="6754" y="84"/>
                </a:lnTo>
                <a:lnTo>
                  <a:pt x="6749" y="81"/>
                </a:lnTo>
                <a:lnTo>
                  <a:pt x="6741" y="79"/>
                </a:lnTo>
                <a:lnTo>
                  <a:pt x="6727" y="71"/>
                </a:lnTo>
                <a:lnTo>
                  <a:pt x="6698" y="54"/>
                </a:lnTo>
                <a:lnTo>
                  <a:pt x="6670" y="37"/>
                </a:lnTo>
                <a:lnTo>
                  <a:pt x="6665" y="32"/>
                </a:lnTo>
                <a:lnTo>
                  <a:pt x="6653" y="26"/>
                </a:lnTo>
                <a:lnTo>
                  <a:pt x="6631" y="16"/>
                </a:lnTo>
                <a:lnTo>
                  <a:pt x="6579" y="3"/>
                </a:lnTo>
                <a:lnTo>
                  <a:pt x="6527" y="2"/>
                </a:lnTo>
                <a:lnTo>
                  <a:pt x="6514" y="3"/>
                </a:lnTo>
                <a:lnTo>
                  <a:pt x="6511" y="5"/>
                </a:lnTo>
                <a:lnTo>
                  <a:pt x="6508" y="6"/>
                </a:lnTo>
                <a:lnTo>
                  <a:pt x="6498" y="9"/>
                </a:lnTo>
                <a:lnTo>
                  <a:pt x="6486" y="13"/>
                </a:lnTo>
                <a:lnTo>
                  <a:pt x="6485" y="13"/>
                </a:lnTo>
                <a:lnTo>
                  <a:pt x="6478" y="16"/>
                </a:lnTo>
                <a:lnTo>
                  <a:pt x="6472" y="18"/>
                </a:lnTo>
                <a:lnTo>
                  <a:pt x="6466" y="16"/>
                </a:lnTo>
                <a:lnTo>
                  <a:pt x="6459" y="15"/>
                </a:lnTo>
                <a:lnTo>
                  <a:pt x="6446" y="9"/>
                </a:lnTo>
                <a:lnTo>
                  <a:pt x="6433" y="3"/>
                </a:lnTo>
                <a:lnTo>
                  <a:pt x="6421" y="0"/>
                </a:lnTo>
                <a:lnTo>
                  <a:pt x="6413" y="3"/>
                </a:lnTo>
                <a:lnTo>
                  <a:pt x="6413" y="3"/>
                </a:lnTo>
                <a:lnTo>
                  <a:pt x="6400" y="13"/>
                </a:lnTo>
                <a:lnTo>
                  <a:pt x="6386" y="19"/>
                </a:lnTo>
                <a:lnTo>
                  <a:pt x="6359" y="25"/>
                </a:lnTo>
                <a:lnTo>
                  <a:pt x="6331" y="28"/>
                </a:lnTo>
                <a:lnTo>
                  <a:pt x="6279" y="32"/>
                </a:lnTo>
                <a:lnTo>
                  <a:pt x="6258" y="41"/>
                </a:lnTo>
                <a:lnTo>
                  <a:pt x="6247" y="48"/>
                </a:lnTo>
                <a:lnTo>
                  <a:pt x="6230" y="61"/>
                </a:lnTo>
                <a:lnTo>
                  <a:pt x="6194" y="89"/>
                </a:lnTo>
                <a:lnTo>
                  <a:pt x="6153" y="112"/>
                </a:lnTo>
                <a:lnTo>
                  <a:pt x="6143" y="116"/>
                </a:lnTo>
                <a:lnTo>
                  <a:pt x="6140" y="118"/>
                </a:lnTo>
                <a:lnTo>
                  <a:pt x="6139" y="121"/>
                </a:lnTo>
                <a:lnTo>
                  <a:pt x="6136" y="125"/>
                </a:lnTo>
                <a:lnTo>
                  <a:pt x="6133" y="134"/>
                </a:lnTo>
                <a:lnTo>
                  <a:pt x="6131" y="144"/>
                </a:lnTo>
                <a:lnTo>
                  <a:pt x="6133" y="152"/>
                </a:lnTo>
                <a:lnTo>
                  <a:pt x="6137" y="157"/>
                </a:lnTo>
                <a:lnTo>
                  <a:pt x="6142" y="157"/>
                </a:lnTo>
                <a:lnTo>
                  <a:pt x="6158" y="158"/>
                </a:lnTo>
                <a:lnTo>
                  <a:pt x="6184" y="167"/>
                </a:lnTo>
                <a:lnTo>
                  <a:pt x="6204" y="183"/>
                </a:lnTo>
                <a:lnTo>
                  <a:pt x="6217" y="203"/>
                </a:lnTo>
                <a:lnTo>
                  <a:pt x="6224" y="225"/>
                </a:lnTo>
                <a:lnTo>
                  <a:pt x="6226" y="248"/>
                </a:lnTo>
                <a:lnTo>
                  <a:pt x="6226" y="258"/>
                </a:lnTo>
                <a:lnTo>
                  <a:pt x="6223" y="270"/>
                </a:lnTo>
                <a:lnTo>
                  <a:pt x="6218" y="280"/>
                </a:lnTo>
                <a:lnTo>
                  <a:pt x="6213" y="289"/>
                </a:lnTo>
                <a:lnTo>
                  <a:pt x="6195" y="307"/>
                </a:lnTo>
                <a:lnTo>
                  <a:pt x="6175" y="326"/>
                </a:lnTo>
                <a:lnTo>
                  <a:pt x="6133" y="367"/>
                </a:lnTo>
                <a:lnTo>
                  <a:pt x="6124" y="378"/>
                </a:lnTo>
                <a:lnTo>
                  <a:pt x="6120" y="386"/>
                </a:lnTo>
                <a:lnTo>
                  <a:pt x="6114" y="400"/>
                </a:lnTo>
                <a:lnTo>
                  <a:pt x="6110" y="415"/>
                </a:lnTo>
                <a:lnTo>
                  <a:pt x="6101" y="442"/>
                </a:lnTo>
                <a:lnTo>
                  <a:pt x="6088" y="454"/>
                </a:lnTo>
                <a:lnTo>
                  <a:pt x="6084" y="457"/>
                </a:lnTo>
                <a:lnTo>
                  <a:pt x="6078" y="461"/>
                </a:lnTo>
                <a:lnTo>
                  <a:pt x="6072" y="467"/>
                </a:lnTo>
                <a:lnTo>
                  <a:pt x="6065" y="478"/>
                </a:lnTo>
                <a:lnTo>
                  <a:pt x="6058" y="486"/>
                </a:lnTo>
                <a:lnTo>
                  <a:pt x="6049" y="494"/>
                </a:lnTo>
                <a:lnTo>
                  <a:pt x="6045" y="503"/>
                </a:lnTo>
                <a:lnTo>
                  <a:pt x="6043" y="512"/>
                </a:lnTo>
                <a:lnTo>
                  <a:pt x="6042" y="522"/>
                </a:lnTo>
                <a:lnTo>
                  <a:pt x="6043" y="532"/>
                </a:lnTo>
                <a:lnTo>
                  <a:pt x="6047" y="552"/>
                </a:lnTo>
                <a:lnTo>
                  <a:pt x="6050" y="574"/>
                </a:lnTo>
                <a:lnTo>
                  <a:pt x="6049" y="594"/>
                </a:lnTo>
                <a:lnTo>
                  <a:pt x="6046" y="603"/>
                </a:lnTo>
                <a:lnTo>
                  <a:pt x="6050" y="603"/>
                </a:lnTo>
                <a:lnTo>
                  <a:pt x="6055" y="603"/>
                </a:lnTo>
                <a:lnTo>
                  <a:pt x="6061" y="603"/>
                </a:lnTo>
                <a:lnTo>
                  <a:pt x="6063" y="603"/>
                </a:lnTo>
                <a:lnTo>
                  <a:pt x="6059" y="605"/>
                </a:lnTo>
                <a:lnTo>
                  <a:pt x="6052" y="609"/>
                </a:lnTo>
                <a:lnTo>
                  <a:pt x="6046" y="615"/>
                </a:lnTo>
                <a:lnTo>
                  <a:pt x="6037" y="623"/>
                </a:lnTo>
                <a:lnTo>
                  <a:pt x="6030" y="626"/>
                </a:lnTo>
                <a:lnTo>
                  <a:pt x="6014" y="628"/>
                </a:lnTo>
                <a:lnTo>
                  <a:pt x="5985" y="632"/>
                </a:lnTo>
                <a:lnTo>
                  <a:pt x="5958" y="642"/>
                </a:lnTo>
                <a:lnTo>
                  <a:pt x="5908" y="667"/>
                </a:lnTo>
                <a:lnTo>
                  <a:pt x="5871" y="686"/>
                </a:lnTo>
                <a:lnTo>
                  <a:pt x="5858" y="690"/>
                </a:lnTo>
                <a:lnTo>
                  <a:pt x="5845" y="691"/>
                </a:lnTo>
                <a:lnTo>
                  <a:pt x="5833" y="691"/>
                </a:lnTo>
                <a:lnTo>
                  <a:pt x="5807" y="684"/>
                </a:lnTo>
                <a:lnTo>
                  <a:pt x="5782" y="673"/>
                </a:lnTo>
                <a:lnTo>
                  <a:pt x="5730" y="652"/>
                </a:lnTo>
                <a:lnTo>
                  <a:pt x="5717" y="648"/>
                </a:lnTo>
                <a:lnTo>
                  <a:pt x="5711" y="647"/>
                </a:lnTo>
                <a:lnTo>
                  <a:pt x="5698" y="639"/>
                </a:lnTo>
                <a:lnTo>
                  <a:pt x="5688" y="635"/>
                </a:lnTo>
                <a:lnTo>
                  <a:pt x="5688" y="634"/>
                </a:lnTo>
                <a:lnTo>
                  <a:pt x="5691" y="641"/>
                </a:lnTo>
                <a:lnTo>
                  <a:pt x="5695" y="652"/>
                </a:lnTo>
                <a:lnTo>
                  <a:pt x="5697" y="662"/>
                </a:lnTo>
                <a:lnTo>
                  <a:pt x="5695" y="671"/>
                </a:lnTo>
                <a:lnTo>
                  <a:pt x="5694" y="678"/>
                </a:lnTo>
                <a:lnTo>
                  <a:pt x="5690" y="687"/>
                </a:lnTo>
                <a:lnTo>
                  <a:pt x="5688" y="690"/>
                </a:lnTo>
                <a:lnTo>
                  <a:pt x="5681" y="705"/>
                </a:lnTo>
                <a:lnTo>
                  <a:pt x="5666" y="731"/>
                </a:lnTo>
                <a:lnTo>
                  <a:pt x="5635" y="781"/>
                </a:lnTo>
                <a:lnTo>
                  <a:pt x="5603" y="833"/>
                </a:lnTo>
                <a:lnTo>
                  <a:pt x="5597" y="847"/>
                </a:lnTo>
                <a:lnTo>
                  <a:pt x="5595" y="851"/>
                </a:lnTo>
                <a:lnTo>
                  <a:pt x="5594" y="855"/>
                </a:lnTo>
                <a:lnTo>
                  <a:pt x="5595" y="864"/>
                </a:lnTo>
                <a:lnTo>
                  <a:pt x="5597" y="873"/>
                </a:lnTo>
                <a:lnTo>
                  <a:pt x="5603" y="890"/>
                </a:lnTo>
                <a:lnTo>
                  <a:pt x="5604" y="899"/>
                </a:lnTo>
                <a:lnTo>
                  <a:pt x="5597" y="900"/>
                </a:lnTo>
                <a:lnTo>
                  <a:pt x="5585" y="902"/>
                </a:lnTo>
                <a:lnTo>
                  <a:pt x="5562" y="909"/>
                </a:lnTo>
                <a:lnTo>
                  <a:pt x="5545" y="919"/>
                </a:lnTo>
                <a:lnTo>
                  <a:pt x="5542" y="920"/>
                </a:lnTo>
                <a:lnTo>
                  <a:pt x="5536" y="928"/>
                </a:lnTo>
                <a:lnTo>
                  <a:pt x="5535" y="935"/>
                </a:lnTo>
                <a:lnTo>
                  <a:pt x="5533" y="944"/>
                </a:lnTo>
                <a:lnTo>
                  <a:pt x="5533" y="952"/>
                </a:lnTo>
                <a:lnTo>
                  <a:pt x="5536" y="960"/>
                </a:lnTo>
                <a:lnTo>
                  <a:pt x="5543" y="977"/>
                </a:lnTo>
                <a:lnTo>
                  <a:pt x="5555" y="989"/>
                </a:lnTo>
                <a:lnTo>
                  <a:pt x="5571" y="996"/>
                </a:lnTo>
                <a:lnTo>
                  <a:pt x="5579" y="996"/>
                </a:lnTo>
                <a:lnTo>
                  <a:pt x="5582" y="996"/>
                </a:lnTo>
                <a:lnTo>
                  <a:pt x="5587" y="996"/>
                </a:lnTo>
                <a:lnTo>
                  <a:pt x="5595" y="993"/>
                </a:lnTo>
                <a:lnTo>
                  <a:pt x="5613" y="986"/>
                </a:lnTo>
                <a:lnTo>
                  <a:pt x="5630" y="981"/>
                </a:lnTo>
                <a:lnTo>
                  <a:pt x="5640" y="983"/>
                </a:lnTo>
                <a:lnTo>
                  <a:pt x="5661" y="983"/>
                </a:lnTo>
                <a:lnTo>
                  <a:pt x="5701" y="984"/>
                </a:lnTo>
                <a:lnTo>
                  <a:pt x="5739" y="993"/>
                </a:lnTo>
                <a:lnTo>
                  <a:pt x="5749" y="997"/>
                </a:lnTo>
                <a:lnTo>
                  <a:pt x="5750" y="999"/>
                </a:lnTo>
                <a:lnTo>
                  <a:pt x="5753" y="1002"/>
                </a:lnTo>
                <a:lnTo>
                  <a:pt x="5759" y="1006"/>
                </a:lnTo>
                <a:lnTo>
                  <a:pt x="5766" y="1010"/>
                </a:lnTo>
                <a:lnTo>
                  <a:pt x="5769" y="1010"/>
                </a:lnTo>
                <a:lnTo>
                  <a:pt x="5777" y="1012"/>
                </a:lnTo>
                <a:lnTo>
                  <a:pt x="5791" y="1010"/>
                </a:lnTo>
                <a:lnTo>
                  <a:pt x="5804" y="1004"/>
                </a:lnTo>
                <a:lnTo>
                  <a:pt x="5817" y="997"/>
                </a:lnTo>
                <a:lnTo>
                  <a:pt x="5842" y="981"/>
                </a:lnTo>
                <a:lnTo>
                  <a:pt x="5849" y="978"/>
                </a:lnTo>
                <a:lnTo>
                  <a:pt x="5865" y="973"/>
                </a:lnTo>
                <a:lnTo>
                  <a:pt x="5900" y="968"/>
                </a:lnTo>
                <a:lnTo>
                  <a:pt x="5933" y="974"/>
                </a:lnTo>
                <a:lnTo>
                  <a:pt x="5965" y="987"/>
                </a:lnTo>
                <a:lnTo>
                  <a:pt x="5994" y="1007"/>
                </a:lnTo>
                <a:lnTo>
                  <a:pt x="6020" y="1035"/>
                </a:lnTo>
                <a:lnTo>
                  <a:pt x="6033" y="1051"/>
                </a:lnTo>
                <a:lnTo>
                  <a:pt x="6034" y="1055"/>
                </a:lnTo>
                <a:lnTo>
                  <a:pt x="6043" y="1061"/>
                </a:lnTo>
                <a:lnTo>
                  <a:pt x="6052" y="1067"/>
                </a:lnTo>
                <a:lnTo>
                  <a:pt x="6072" y="1077"/>
                </a:lnTo>
                <a:lnTo>
                  <a:pt x="6088" y="1084"/>
                </a:lnTo>
                <a:lnTo>
                  <a:pt x="6094" y="1088"/>
                </a:lnTo>
                <a:lnTo>
                  <a:pt x="6104" y="1097"/>
                </a:lnTo>
                <a:lnTo>
                  <a:pt x="6114" y="1109"/>
                </a:lnTo>
                <a:lnTo>
                  <a:pt x="6120" y="1122"/>
                </a:lnTo>
                <a:lnTo>
                  <a:pt x="6123" y="1136"/>
                </a:lnTo>
                <a:lnTo>
                  <a:pt x="6121" y="1151"/>
                </a:lnTo>
                <a:lnTo>
                  <a:pt x="6120" y="1157"/>
                </a:lnTo>
                <a:lnTo>
                  <a:pt x="6118" y="1159"/>
                </a:lnTo>
                <a:lnTo>
                  <a:pt x="6116" y="1164"/>
                </a:lnTo>
                <a:lnTo>
                  <a:pt x="6110" y="1175"/>
                </a:lnTo>
                <a:lnTo>
                  <a:pt x="6105" y="1180"/>
                </a:lnTo>
                <a:lnTo>
                  <a:pt x="6101" y="1183"/>
                </a:lnTo>
                <a:lnTo>
                  <a:pt x="6098" y="1183"/>
                </a:lnTo>
                <a:lnTo>
                  <a:pt x="6088" y="1184"/>
                </a:lnTo>
                <a:lnTo>
                  <a:pt x="6071" y="1184"/>
                </a:lnTo>
                <a:lnTo>
                  <a:pt x="6034" y="1183"/>
                </a:lnTo>
                <a:lnTo>
                  <a:pt x="6000" y="1175"/>
                </a:lnTo>
                <a:lnTo>
                  <a:pt x="5992" y="1171"/>
                </a:lnTo>
                <a:lnTo>
                  <a:pt x="5976" y="1167"/>
                </a:lnTo>
                <a:lnTo>
                  <a:pt x="5962" y="1164"/>
                </a:lnTo>
                <a:lnTo>
                  <a:pt x="5933" y="1165"/>
                </a:lnTo>
                <a:lnTo>
                  <a:pt x="5904" y="1174"/>
                </a:lnTo>
                <a:lnTo>
                  <a:pt x="5843" y="1193"/>
                </a:lnTo>
                <a:lnTo>
                  <a:pt x="5813" y="1197"/>
                </a:lnTo>
                <a:lnTo>
                  <a:pt x="5808" y="1199"/>
                </a:lnTo>
                <a:lnTo>
                  <a:pt x="5804" y="1200"/>
                </a:lnTo>
                <a:lnTo>
                  <a:pt x="5801" y="1203"/>
                </a:lnTo>
                <a:lnTo>
                  <a:pt x="5794" y="1209"/>
                </a:lnTo>
                <a:lnTo>
                  <a:pt x="5787" y="1217"/>
                </a:lnTo>
                <a:lnTo>
                  <a:pt x="5772" y="1232"/>
                </a:lnTo>
                <a:lnTo>
                  <a:pt x="5769" y="1233"/>
                </a:lnTo>
                <a:lnTo>
                  <a:pt x="5765" y="1236"/>
                </a:lnTo>
                <a:lnTo>
                  <a:pt x="5761" y="1236"/>
                </a:lnTo>
                <a:lnTo>
                  <a:pt x="5752" y="1238"/>
                </a:lnTo>
                <a:lnTo>
                  <a:pt x="5743" y="1236"/>
                </a:lnTo>
                <a:lnTo>
                  <a:pt x="5726" y="1235"/>
                </a:lnTo>
                <a:lnTo>
                  <a:pt x="5719" y="1236"/>
                </a:lnTo>
                <a:lnTo>
                  <a:pt x="5703" y="1245"/>
                </a:lnTo>
                <a:lnTo>
                  <a:pt x="5679" y="1267"/>
                </a:lnTo>
                <a:lnTo>
                  <a:pt x="5662" y="1291"/>
                </a:lnTo>
                <a:lnTo>
                  <a:pt x="5646" y="1319"/>
                </a:lnTo>
                <a:lnTo>
                  <a:pt x="5613" y="1368"/>
                </a:lnTo>
                <a:lnTo>
                  <a:pt x="5603" y="1378"/>
                </a:lnTo>
                <a:lnTo>
                  <a:pt x="5591" y="1386"/>
                </a:lnTo>
                <a:lnTo>
                  <a:pt x="5578" y="1391"/>
                </a:lnTo>
                <a:lnTo>
                  <a:pt x="5553" y="1396"/>
                </a:lnTo>
                <a:lnTo>
                  <a:pt x="5527" y="1394"/>
                </a:lnTo>
                <a:lnTo>
                  <a:pt x="5475" y="1391"/>
                </a:lnTo>
                <a:lnTo>
                  <a:pt x="5451" y="1394"/>
                </a:lnTo>
                <a:lnTo>
                  <a:pt x="5442" y="1397"/>
                </a:lnTo>
                <a:lnTo>
                  <a:pt x="5429" y="1404"/>
                </a:lnTo>
                <a:lnTo>
                  <a:pt x="5417" y="1415"/>
                </a:lnTo>
                <a:lnTo>
                  <a:pt x="5397" y="1438"/>
                </a:lnTo>
                <a:lnTo>
                  <a:pt x="5382" y="1457"/>
                </a:lnTo>
                <a:lnTo>
                  <a:pt x="5374" y="1467"/>
                </a:lnTo>
                <a:lnTo>
                  <a:pt x="5353" y="1483"/>
                </a:lnTo>
                <a:lnTo>
                  <a:pt x="5329" y="1493"/>
                </a:lnTo>
                <a:lnTo>
                  <a:pt x="5303" y="1499"/>
                </a:lnTo>
                <a:lnTo>
                  <a:pt x="5275" y="1500"/>
                </a:lnTo>
                <a:lnTo>
                  <a:pt x="5248" y="1497"/>
                </a:lnTo>
                <a:lnTo>
                  <a:pt x="5235" y="1494"/>
                </a:lnTo>
                <a:lnTo>
                  <a:pt x="5220" y="1491"/>
                </a:lnTo>
                <a:lnTo>
                  <a:pt x="5194" y="1481"/>
                </a:lnTo>
                <a:lnTo>
                  <a:pt x="5142" y="1459"/>
                </a:lnTo>
                <a:lnTo>
                  <a:pt x="5116" y="1455"/>
                </a:lnTo>
                <a:lnTo>
                  <a:pt x="5091" y="1455"/>
                </a:lnTo>
                <a:lnTo>
                  <a:pt x="5080" y="1458"/>
                </a:lnTo>
                <a:lnTo>
                  <a:pt x="5067" y="1464"/>
                </a:lnTo>
                <a:lnTo>
                  <a:pt x="5045" y="1480"/>
                </a:lnTo>
                <a:lnTo>
                  <a:pt x="5026" y="1500"/>
                </a:lnTo>
                <a:lnTo>
                  <a:pt x="5013" y="1525"/>
                </a:lnTo>
                <a:lnTo>
                  <a:pt x="5009" y="1551"/>
                </a:lnTo>
                <a:lnTo>
                  <a:pt x="5013" y="1575"/>
                </a:lnTo>
                <a:lnTo>
                  <a:pt x="5022" y="1587"/>
                </a:lnTo>
                <a:lnTo>
                  <a:pt x="5027" y="1596"/>
                </a:lnTo>
                <a:lnTo>
                  <a:pt x="5043" y="1612"/>
                </a:lnTo>
                <a:lnTo>
                  <a:pt x="5075" y="1642"/>
                </a:lnTo>
                <a:lnTo>
                  <a:pt x="5084" y="1658"/>
                </a:lnTo>
                <a:lnTo>
                  <a:pt x="5085" y="1665"/>
                </a:lnTo>
                <a:lnTo>
                  <a:pt x="5084" y="1672"/>
                </a:lnTo>
                <a:lnTo>
                  <a:pt x="5080" y="1680"/>
                </a:lnTo>
                <a:lnTo>
                  <a:pt x="5080" y="1680"/>
                </a:lnTo>
                <a:lnTo>
                  <a:pt x="5071" y="1688"/>
                </a:lnTo>
                <a:lnTo>
                  <a:pt x="5051" y="1701"/>
                </a:lnTo>
                <a:lnTo>
                  <a:pt x="5027" y="1710"/>
                </a:lnTo>
                <a:lnTo>
                  <a:pt x="4978" y="1728"/>
                </a:lnTo>
                <a:lnTo>
                  <a:pt x="4943" y="1743"/>
                </a:lnTo>
                <a:lnTo>
                  <a:pt x="4930" y="1754"/>
                </a:lnTo>
                <a:lnTo>
                  <a:pt x="4906" y="1774"/>
                </a:lnTo>
                <a:lnTo>
                  <a:pt x="4862" y="1819"/>
                </a:lnTo>
                <a:lnTo>
                  <a:pt x="4817" y="1854"/>
                </a:lnTo>
                <a:lnTo>
                  <a:pt x="4806" y="1858"/>
                </a:lnTo>
                <a:lnTo>
                  <a:pt x="4768" y="1871"/>
                </a:lnTo>
                <a:lnTo>
                  <a:pt x="4690" y="1883"/>
                </a:lnTo>
                <a:lnTo>
                  <a:pt x="4612" y="1885"/>
                </a:lnTo>
                <a:lnTo>
                  <a:pt x="4452" y="1887"/>
                </a:lnTo>
                <a:lnTo>
                  <a:pt x="4336" y="1910"/>
                </a:lnTo>
                <a:lnTo>
                  <a:pt x="4322" y="1916"/>
                </a:lnTo>
                <a:lnTo>
                  <a:pt x="4297" y="1932"/>
                </a:lnTo>
                <a:lnTo>
                  <a:pt x="4274" y="1952"/>
                </a:lnTo>
                <a:lnTo>
                  <a:pt x="4223" y="1988"/>
                </a:lnTo>
                <a:lnTo>
                  <a:pt x="4178" y="1996"/>
                </a:lnTo>
                <a:lnTo>
                  <a:pt x="4171" y="1996"/>
                </a:lnTo>
                <a:lnTo>
                  <a:pt x="4160" y="1991"/>
                </a:lnTo>
                <a:lnTo>
                  <a:pt x="4134" y="1983"/>
                </a:lnTo>
                <a:lnTo>
                  <a:pt x="4121" y="1981"/>
                </a:lnTo>
                <a:lnTo>
                  <a:pt x="4106" y="1983"/>
                </a:lnTo>
                <a:lnTo>
                  <a:pt x="4099" y="1985"/>
                </a:lnTo>
                <a:lnTo>
                  <a:pt x="4096" y="1987"/>
                </a:lnTo>
                <a:lnTo>
                  <a:pt x="4094" y="1987"/>
                </a:lnTo>
                <a:lnTo>
                  <a:pt x="4093" y="1985"/>
                </a:lnTo>
                <a:lnTo>
                  <a:pt x="4093" y="1983"/>
                </a:lnTo>
                <a:lnTo>
                  <a:pt x="4090" y="1974"/>
                </a:lnTo>
                <a:lnTo>
                  <a:pt x="4084" y="1965"/>
                </a:lnTo>
                <a:lnTo>
                  <a:pt x="4083" y="1964"/>
                </a:lnTo>
                <a:lnTo>
                  <a:pt x="4052" y="1964"/>
                </a:lnTo>
                <a:lnTo>
                  <a:pt x="3993" y="1959"/>
                </a:lnTo>
                <a:lnTo>
                  <a:pt x="3876" y="1935"/>
                </a:lnTo>
                <a:lnTo>
                  <a:pt x="3763" y="1891"/>
                </a:lnTo>
                <a:lnTo>
                  <a:pt x="3737" y="1877"/>
                </a:lnTo>
                <a:lnTo>
                  <a:pt x="3721" y="1871"/>
                </a:lnTo>
                <a:lnTo>
                  <a:pt x="3692" y="1858"/>
                </a:lnTo>
                <a:lnTo>
                  <a:pt x="3631" y="1842"/>
                </a:lnTo>
                <a:lnTo>
                  <a:pt x="3570" y="1838"/>
                </a:lnTo>
                <a:lnTo>
                  <a:pt x="3555" y="1839"/>
                </a:lnTo>
                <a:lnTo>
                  <a:pt x="3499" y="1846"/>
                </a:lnTo>
                <a:lnTo>
                  <a:pt x="3379" y="1859"/>
                </a:lnTo>
                <a:lnTo>
                  <a:pt x="3140" y="1843"/>
                </a:lnTo>
                <a:lnTo>
                  <a:pt x="3040" y="1797"/>
                </a:lnTo>
                <a:lnTo>
                  <a:pt x="2961" y="1713"/>
                </a:lnTo>
                <a:lnTo>
                  <a:pt x="2935" y="1654"/>
                </a:lnTo>
                <a:lnTo>
                  <a:pt x="2932" y="1648"/>
                </a:lnTo>
                <a:lnTo>
                  <a:pt x="2925" y="1635"/>
                </a:lnTo>
                <a:lnTo>
                  <a:pt x="2908" y="1609"/>
                </a:lnTo>
                <a:lnTo>
                  <a:pt x="2885" y="1590"/>
                </a:lnTo>
                <a:lnTo>
                  <a:pt x="2879" y="1585"/>
                </a:lnTo>
                <a:lnTo>
                  <a:pt x="2867" y="1581"/>
                </a:lnTo>
                <a:lnTo>
                  <a:pt x="2847" y="1574"/>
                </a:lnTo>
                <a:lnTo>
                  <a:pt x="2805" y="1559"/>
                </a:lnTo>
                <a:lnTo>
                  <a:pt x="2763" y="1546"/>
                </a:lnTo>
                <a:lnTo>
                  <a:pt x="2753" y="1542"/>
                </a:lnTo>
                <a:lnTo>
                  <a:pt x="2741" y="1539"/>
                </a:lnTo>
                <a:lnTo>
                  <a:pt x="2722" y="1529"/>
                </a:lnTo>
                <a:lnTo>
                  <a:pt x="2705" y="1514"/>
                </a:lnTo>
                <a:lnTo>
                  <a:pt x="2669" y="1486"/>
                </a:lnTo>
                <a:lnTo>
                  <a:pt x="2638" y="1471"/>
                </a:lnTo>
                <a:lnTo>
                  <a:pt x="2611" y="1467"/>
                </a:lnTo>
                <a:lnTo>
                  <a:pt x="2556" y="1459"/>
                </a:lnTo>
                <a:lnTo>
                  <a:pt x="2450" y="1457"/>
                </a:lnTo>
                <a:lnTo>
                  <a:pt x="2344" y="1442"/>
                </a:lnTo>
                <a:lnTo>
                  <a:pt x="2320" y="1433"/>
                </a:lnTo>
                <a:lnTo>
                  <a:pt x="2312" y="1430"/>
                </a:lnTo>
                <a:lnTo>
                  <a:pt x="2301" y="1423"/>
                </a:lnTo>
                <a:lnTo>
                  <a:pt x="2294" y="1412"/>
                </a:lnTo>
                <a:lnTo>
                  <a:pt x="2286" y="1399"/>
                </a:lnTo>
                <a:lnTo>
                  <a:pt x="2278" y="1371"/>
                </a:lnTo>
                <a:lnTo>
                  <a:pt x="2276" y="1364"/>
                </a:lnTo>
                <a:lnTo>
                  <a:pt x="2273" y="1354"/>
                </a:lnTo>
                <a:lnTo>
                  <a:pt x="2276" y="1344"/>
                </a:lnTo>
                <a:lnTo>
                  <a:pt x="2280" y="1335"/>
                </a:lnTo>
                <a:lnTo>
                  <a:pt x="2286" y="1326"/>
                </a:lnTo>
                <a:lnTo>
                  <a:pt x="2294" y="1317"/>
                </a:lnTo>
                <a:lnTo>
                  <a:pt x="2311" y="1303"/>
                </a:lnTo>
                <a:lnTo>
                  <a:pt x="2327" y="1288"/>
                </a:lnTo>
                <a:lnTo>
                  <a:pt x="2333" y="1281"/>
                </a:lnTo>
                <a:lnTo>
                  <a:pt x="2336" y="1273"/>
                </a:lnTo>
                <a:lnTo>
                  <a:pt x="2337" y="1264"/>
                </a:lnTo>
                <a:lnTo>
                  <a:pt x="2337" y="1264"/>
                </a:lnTo>
                <a:lnTo>
                  <a:pt x="2334" y="1255"/>
                </a:lnTo>
                <a:lnTo>
                  <a:pt x="2336" y="1235"/>
                </a:lnTo>
                <a:lnTo>
                  <a:pt x="2337" y="1216"/>
                </a:lnTo>
                <a:lnTo>
                  <a:pt x="2341" y="1183"/>
                </a:lnTo>
                <a:lnTo>
                  <a:pt x="2337" y="1164"/>
                </a:lnTo>
                <a:lnTo>
                  <a:pt x="2327" y="1154"/>
                </a:lnTo>
                <a:lnTo>
                  <a:pt x="2309" y="1131"/>
                </a:lnTo>
                <a:lnTo>
                  <a:pt x="2282" y="1077"/>
                </a:lnTo>
                <a:lnTo>
                  <a:pt x="2254" y="1026"/>
                </a:lnTo>
                <a:lnTo>
                  <a:pt x="2247" y="1013"/>
                </a:lnTo>
                <a:lnTo>
                  <a:pt x="2234" y="1000"/>
                </a:lnTo>
                <a:lnTo>
                  <a:pt x="2221" y="989"/>
                </a:lnTo>
                <a:lnTo>
                  <a:pt x="2208" y="981"/>
                </a:lnTo>
                <a:lnTo>
                  <a:pt x="2194" y="975"/>
                </a:lnTo>
                <a:lnTo>
                  <a:pt x="2163" y="971"/>
                </a:lnTo>
                <a:lnTo>
                  <a:pt x="2131" y="970"/>
                </a:lnTo>
                <a:lnTo>
                  <a:pt x="2069" y="957"/>
                </a:lnTo>
                <a:lnTo>
                  <a:pt x="2069" y="957"/>
                </a:lnTo>
                <a:lnTo>
                  <a:pt x="2054" y="951"/>
                </a:lnTo>
                <a:lnTo>
                  <a:pt x="2028" y="933"/>
                </a:lnTo>
                <a:lnTo>
                  <a:pt x="1979" y="896"/>
                </a:lnTo>
                <a:lnTo>
                  <a:pt x="1931" y="857"/>
                </a:lnTo>
                <a:lnTo>
                  <a:pt x="1920" y="847"/>
                </a:lnTo>
                <a:lnTo>
                  <a:pt x="1927" y="844"/>
                </a:lnTo>
                <a:lnTo>
                  <a:pt x="1931" y="842"/>
                </a:lnTo>
                <a:lnTo>
                  <a:pt x="1936" y="841"/>
                </a:lnTo>
                <a:lnTo>
                  <a:pt x="1937" y="838"/>
                </a:lnTo>
                <a:lnTo>
                  <a:pt x="1937" y="833"/>
                </a:lnTo>
                <a:lnTo>
                  <a:pt x="1936" y="831"/>
                </a:lnTo>
                <a:lnTo>
                  <a:pt x="1933" y="829"/>
                </a:lnTo>
                <a:lnTo>
                  <a:pt x="1930" y="826"/>
                </a:lnTo>
                <a:lnTo>
                  <a:pt x="1921" y="819"/>
                </a:lnTo>
                <a:lnTo>
                  <a:pt x="1915" y="813"/>
                </a:lnTo>
                <a:lnTo>
                  <a:pt x="1915" y="812"/>
                </a:lnTo>
                <a:lnTo>
                  <a:pt x="1915" y="806"/>
                </a:lnTo>
                <a:lnTo>
                  <a:pt x="1920" y="784"/>
                </a:lnTo>
                <a:lnTo>
                  <a:pt x="1921" y="768"/>
                </a:lnTo>
                <a:lnTo>
                  <a:pt x="1923" y="767"/>
                </a:lnTo>
                <a:lnTo>
                  <a:pt x="1914" y="761"/>
                </a:lnTo>
                <a:lnTo>
                  <a:pt x="1905" y="758"/>
                </a:lnTo>
                <a:lnTo>
                  <a:pt x="1898" y="757"/>
                </a:lnTo>
                <a:lnTo>
                  <a:pt x="1891" y="758"/>
                </a:lnTo>
                <a:lnTo>
                  <a:pt x="1885" y="761"/>
                </a:lnTo>
                <a:lnTo>
                  <a:pt x="1878" y="765"/>
                </a:lnTo>
                <a:lnTo>
                  <a:pt x="1865" y="773"/>
                </a:lnTo>
                <a:lnTo>
                  <a:pt x="1852" y="777"/>
                </a:lnTo>
                <a:lnTo>
                  <a:pt x="1844" y="777"/>
                </a:lnTo>
                <a:lnTo>
                  <a:pt x="1837" y="773"/>
                </a:lnTo>
                <a:lnTo>
                  <a:pt x="1837" y="773"/>
                </a:lnTo>
                <a:lnTo>
                  <a:pt x="1837" y="773"/>
                </a:lnTo>
                <a:close/>
              </a:path>
            </a:pathLst>
          </a:custGeom>
          <a:noFill/>
          <a:ln w="4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08480" y="2843280"/>
            <a:ext cx="404640" cy="279360"/>
          </a:xfrm>
          <a:custGeom>
            <a:avLst/>
            <a:gdLst/>
            <a:ahLst/>
            <a:rect l="l" t="t" r="r" b="b"/>
            <a:pathLst>
              <a:path w="1408" h="1023">
                <a:moveTo>
                  <a:pt x="390" y="852"/>
                </a:moveTo>
                <a:lnTo>
                  <a:pt x="385" y="855"/>
                </a:lnTo>
                <a:lnTo>
                  <a:pt x="381" y="857"/>
                </a:lnTo>
                <a:lnTo>
                  <a:pt x="377" y="862"/>
                </a:lnTo>
                <a:lnTo>
                  <a:pt x="368" y="873"/>
                </a:lnTo>
                <a:lnTo>
                  <a:pt x="348" y="894"/>
                </a:lnTo>
                <a:lnTo>
                  <a:pt x="327" y="898"/>
                </a:lnTo>
                <a:lnTo>
                  <a:pt x="327" y="901"/>
                </a:lnTo>
                <a:lnTo>
                  <a:pt x="327" y="904"/>
                </a:lnTo>
                <a:lnTo>
                  <a:pt x="327" y="911"/>
                </a:lnTo>
                <a:lnTo>
                  <a:pt x="327" y="914"/>
                </a:lnTo>
                <a:lnTo>
                  <a:pt x="327" y="914"/>
                </a:lnTo>
                <a:lnTo>
                  <a:pt x="323" y="917"/>
                </a:lnTo>
                <a:lnTo>
                  <a:pt x="319" y="917"/>
                </a:lnTo>
                <a:lnTo>
                  <a:pt x="316" y="917"/>
                </a:lnTo>
                <a:lnTo>
                  <a:pt x="311" y="915"/>
                </a:lnTo>
                <a:lnTo>
                  <a:pt x="304" y="913"/>
                </a:lnTo>
                <a:lnTo>
                  <a:pt x="298" y="908"/>
                </a:lnTo>
                <a:lnTo>
                  <a:pt x="291" y="905"/>
                </a:lnTo>
                <a:lnTo>
                  <a:pt x="285" y="902"/>
                </a:lnTo>
                <a:lnTo>
                  <a:pt x="285" y="902"/>
                </a:lnTo>
                <a:lnTo>
                  <a:pt x="272" y="904"/>
                </a:lnTo>
                <a:lnTo>
                  <a:pt x="249" y="907"/>
                </a:lnTo>
                <a:lnTo>
                  <a:pt x="206" y="914"/>
                </a:lnTo>
                <a:lnTo>
                  <a:pt x="158" y="914"/>
                </a:lnTo>
                <a:lnTo>
                  <a:pt x="146" y="911"/>
                </a:lnTo>
                <a:lnTo>
                  <a:pt x="142" y="911"/>
                </a:lnTo>
                <a:lnTo>
                  <a:pt x="139" y="913"/>
                </a:lnTo>
                <a:lnTo>
                  <a:pt x="139" y="915"/>
                </a:lnTo>
                <a:lnTo>
                  <a:pt x="137" y="920"/>
                </a:lnTo>
                <a:lnTo>
                  <a:pt x="139" y="924"/>
                </a:lnTo>
                <a:lnTo>
                  <a:pt x="139" y="936"/>
                </a:lnTo>
                <a:lnTo>
                  <a:pt x="136" y="944"/>
                </a:lnTo>
                <a:lnTo>
                  <a:pt x="127" y="950"/>
                </a:lnTo>
                <a:lnTo>
                  <a:pt x="122" y="950"/>
                </a:lnTo>
                <a:lnTo>
                  <a:pt x="123" y="956"/>
                </a:lnTo>
                <a:lnTo>
                  <a:pt x="127" y="966"/>
                </a:lnTo>
                <a:lnTo>
                  <a:pt x="139" y="982"/>
                </a:lnTo>
                <a:lnTo>
                  <a:pt x="146" y="986"/>
                </a:lnTo>
                <a:lnTo>
                  <a:pt x="156" y="988"/>
                </a:lnTo>
                <a:lnTo>
                  <a:pt x="164" y="985"/>
                </a:lnTo>
                <a:lnTo>
                  <a:pt x="164" y="988"/>
                </a:lnTo>
                <a:lnTo>
                  <a:pt x="164" y="992"/>
                </a:lnTo>
                <a:lnTo>
                  <a:pt x="164" y="995"/>
                </a:lnTo>
                <a:lnTo>
                  <a:pt x="161" y="998"/>
                </a:lnTo>
                <a:lnTo>
                  <a:pt x="159" y="999"/>
                </a:lnTo>
                <a:lnTo>
                  <a:pt x="156" y="1001"/>
                </a:lnTo>
                <a:lnTo>
                  <a:pt x="155" y="1001"/>
                </a:lnTo>
                <a:lnTo>
                  <a:pt x="152" y="1002"/>
                </a:lnTo>
                <a:lnTo>
                  <a:pt x="148" y="1004"/>
                </a:lnTo>
                <a:lnTo>
                  <a:pt x="137" y="1004"/>
                </a:lnTo>
                <a:lnTo>
                  <a:pt x="132" y="1002"/>
                </a:lnTo>
                <a:lnTo>
                  <a:pt x="132" y="1001"/>
                </a:lnTo>
                <a:lnTo>
                  <a:pt x="124" y="989"/>
                </a:lnTo>
                <a:lnTo>
                  <a:pt x="116" y="981"/>
                </a:lnTo>
                <a:lnTo>
                  <a:pt x="106" y="975"/>
                </a:lnTo>
                <a:lnTo>
                  <a:pt x="94" y="972"/>
                </a:lnTo>
                <a:lnTo>
                  <a:pt x="82" y="971"/>
                </a:lnTo>
                <a:lnTo>
                  <a:pt x="58" y="971"/>
                </a:lnTo>
                <a:lnTo>
                  <a:pt x="33" y="972"/>
                </a:lnTo>
                <a:lnTo>
                  <a:pt x="13" y="968"/>
                </a:lnTo>
                <a:lnTo>
                  <a:pt x="6" y="962"/>
                </a:lnTo>
                <a:lnTo>
                  <a:pt x="1" y="956"/>
                </a:lnTo>
                <a:lnTo>
                  <a:pt x="0" y="949"/>
                </a:lnTo>
                <a:lnTo>
                  <a:pt x="0" y="942"/>
                </a:lnTo>
                <a:lnTo>
                  <a:pt x="3" y="934"/>
                </a:lnTo>
                <a:lnTo>
                  <a:pt x="7" y="927"/>
                </a:lnTo>
                <a:lnTo>
                  <a:pt x="13" y="921"/>
                </a:lnTo>
                <a:lnTo>
                  <a:pt x="20" y="917"/>
                </a:lnTo>
                <a:lnTo>
                  <a:pt x="29" y="913"/>
                </a:lnTo>
                <a:lnTo>
                  <a:pt x="39" y="910"/>
                </a:lnTo>
                <a:lnTo>
                  <a:pt x="48" y="910"/>
                </a:lnTo>
                <a:lnTo>
                  <a:pt x="58" y="911"/>
                </a:lnTo>
                <a:lnTo>
                  <a:pt x="68" y="915"/>
                </a:lnTo>
                <a:lnTo>
                  <a:pt x="69" y="915"/>
                </a:lnTo>
                <a:lnTo>
                  <a:pt x="72" y="917"/>
                </a:lnTo>
                <a:lnTo>
                  <a:pt x="78" y="917"/>
                </a:lnTo>
                <a:lnTo>
                  <a:pt x="84" y="914"/>
                </a:lnTo>
                <a:lnTo>
                  <a:pt x="90" y="911"/>
                </a:lnTo>
                <a:lnTo>
                  <a:pt x="104" y="900"/>
                </a:lnTo>
                <a:lnTo>
                  <a:pt x="137" y="875"/>
                </a:lnTo>
                <a:lnTo>
                  <a:pt x="155" y="862"/>
                </a:lnTo>
                <a:lnTo>
                  <a:pt x="155" y="859"/>
                </a:lnTo>
                <a:lnTo>
                  <a:pt x="155" y="857"/>
                </a:lnTo>
                <a:lnTo>
                  <a:pt x="155" y="853"/>
                </a:lnTo>
                <a:lnTo>
                  <a:pt x="155" y="849"/>
                </a:lnTo>
                <a:lnTo>
                  <a:pt x="156" y="847"/>
                </a:lnTo>
                <a:lnTo>
                  <a:pt x="161" y="847"/>
                </a:lnTo>
                <a:lnTo>
                  <a:pt x="165" y="846"/>
                </a:lnTo>
                <a:lnTo>
                  <a:pt x="177" y="847"/>
                </a:lnTo>
                <a:lnTo>
                  <a:pt x="198" y="847"/>
                </a:lnTo>
                <a:lnTo>
                  <a:pt x="211" y="836"/>
                </a:lnTo>
                <a:lnTo>
                  <a:pt x="217" y="823"/>
                </a:lnTo>
                <a:lnTo>
                  <a:pt x="224" y="810"/>
                </a:lnTo>
                <a:lnTo>
                  <a:pt x="245" y="791"/>
                </a:lnTo>
                <a:lnTo>
                  <a:pt x="269" y="776"/>
                </a:lnTo>
                <a:lnTo>
                  <a:pt x="295" y="765"/>
                </a:lnTo>
                <a:lnTo>
                  <a:pt x="348" y="739"/>
                </a:lnTo>
                <a:lnTo>
                  <a:pt x="349" y="739"/>
                </a:lnTo>
                <a:lnTo>
                  <a:pt x="352" y="739"/>
                </a:lnTo>
                <a:lnTo>
                  <a:pt x="356" y="737"/>
                </a:lnTo>
                <a:lnTo>
                  <a:pt x="361" y="739"/>
                </a:lnTo>
                <a:lnTo>
                  <a:pt x="365" y="740"/>
                </a:lnTo>
                <a:lnTo>
                  <a:pt x="375" y="746"/>
                </a:lnTo>
                <a:lnTo>
                  <a:pt x="382" y="755"/>
                </a:lnTo>
                <a:lnTo>
                  <a:pt x="387" y="765"/>
                </a:lnTo>
                <a:lnTo>
                  <a:pt x="387" y="776"/>
                </a:lnTo>
                <a:lnTo>
                  <a:pt x="387" y="776"/>
                </a:lnTo>
                <a:lnTo>
                  <a:pt x="403" y="778"/>
                </a:lnTo>
                <a:lnTo>
                  <a:pt x="432" y="772"/>
                </a:lnTo>
                <a:lnTo>
                  <a:pt x="459" y="759"/>
                </a:lnTo>
                <a:lnTo>
                  <a:pt x="484" y="742"/>
                </a:lnTo>
                <a:lnTo>
                  <a:pt x="537" y="707"/>
                </a:lnTo>
                <a:lnTo>
                  <a:pt x="552" y="700"/>
                </a:lnTo>
                <a:lnTo>
                  <a:pt x="552" y="704"/>
                </a:lnTo>
                <a:lnTo>
                  <a:pt x="550" y="708"/>
                </a:lnTo>
                <a:lnTo>
                  <a:pt x="549" y="715"/>
                </a:lnTo>
                <a:lnTo>
                  <a:pt x="546" y="724"/>
                </a:lnTo>
                <a:lnTo>
                  <a:pt x="543" y="731"/>
                </a:lnTo>
                <a:lnTo>
                  <a:pt x="542" y="736"/>
                </a:lnTo>
                <a:lnTo>
                  <a:pt x="543" y="737"/>
                </a:lnTo>
                <a:lnTo>
                  <a:pt x="545" y="737"/>
                </a:lnTo>
                <a:lnTo>
                  <a:pt x="552" y="740"/>
                </a:lnTo>
                <a:lnTo>
                  <a:pt x="568" y="742"/>
                </a:lnTo>
                <a:lnTo>
                  <a:pt x="585" y="740"/>
                </a:lnTo>
                <a:lnTo>
                  <a:pt x="620" y="731"/>
                </a:lnTo>
                <a:lnTo>
                  <a:pt x="645" y="723"/>
                </a:lnTo>
                <a:lnTo>
                  <a:pt x="647" y="721"/>
                </a:lnTo>
                <a:lnTo>
                  <a:pt x="650" y="718"/>
                </a:lnTo>
                <a:lnTo>
                  <a:pt x="653" y="715"/>
                </a:lnTo>
                <a:lnTo>
                  <a:pt x="653" y="711"/>
                </a:lnTo>
                <a:lnTo>
                  <a:pt x="655" y="707"/>
                </a:lnTo>
                <a:lnTo>
                  <a:pt x="655" y="697"/>
                </a:lnTo>
                <a:lnTo>
                  <a:pt x="653" y="688"/>
                </a:lnTo>
                <a:lnTo>
                  <a:pt x="655" y="681"/>
                </a:lnTo>
                <a:lnTo>
                  <a:pt x="658" y="676"/>
                </a:lnTo>
                <a:lnTo>
                  <a:pt x="665" y="668"/>
                </a:lnTo>
                <a:lnTo>
                  <a:pt x="681" y="655"/>
                </a:lnTo>
                <a:lnTo>
                  <a:pt x="698" y="643"/>
                </a:lnTo>
                <a:lnTo>
                  <a:pt x="730" y="620"/>
                </a:lnTo>
                <a:lnTo>
                  <a:pt x="747" y="595"/>
                </a:lnTo>
                <a:lnTo>
                  <a:pt x="749" y="589"/>
                </a:lnTo>
                <a:lnTo>
                  <a:pt x="750" y="582"/>
                </a:lnTo>
                <a:lnTo>
                  <a:pt x="749" y="568"/>
                </a:lnTo>
                <a:lnTo>
                  <a:pt x="746" y="552"/>
                </a:lnTo>
                <a:lnTo>
                  <a:pt x="739" y="524"/>
                </a:lnTo>
                <a:lnTo>
                  <a:pt x="740" y="511"/>
                </a:lnTo>
                <a:lnTo>
                  <a:pt x="740" y="507"/>
                </a:lnTo>
                <a:lnTo>
                  <a:pt x="746" y="497"/>
                </a:lnTo>
                <a:lnTo>
                  <a:pt x="752" y="485"/>
                </a:lnTo>
                <a:lnTo>
                  <a:pt x="769" y="463"/>
                </a:lnTo>
                <a:lnTo>
                  <a:pt x="785" y="449"/>
                </a:lnTo>
                <a:lnTo>
                  <a:pt x="785" y="456"/>
                </a:lnTo>
                <a:lnTo>
                  <a:pt x="784" y="471"/>
                </a:lnTo>
                <a:lnTo>
                  <a:pt x="778" y="500"/>
                </a:lnTo>
                <a:lnTo>
                  <a:pt x="775" y="529"/>
                </a:lnTo>
                <a:lnTo>
                  <a:pt x="776" y="536"/>
                </a:lnTo>
                <a:lnTo>
                  <a:pt x="778" y="536"/>
                </a:lnTo>
                <a:lnTo>
                  <a:pt x="781" y="536"/>
                </a:lnTo>
                <a:lnTo>
                  <a:pt x="784" y="536"/>
                </a:lnTo>
                <a:lnTo>
                  <a:pt x="785" y="537"/>
                </a:lnTo>
                <a:lnTo>
                  <a:pt x="787" y="539"/>
                </a:lnTo>
                <a:lnTo>
                  <a:pt x="791" y="542"/>
                </a:lnTo>
                <a:lnTo>
                  <a:pt x="800" y="546"/>
                </a:lnTo>
                <a:lnTo>
                  <a:pt x="802" y="544"/>
                </a:lnTo>
                <a:lnTo>
                  <a:pt x="801" y="549"/>
                </a:lnTo>
                <a:lnTo>
                  <a:pt x="801" y="556"/>
                </a:lnTo>
                <a:lnTo>
                  <a:pt x="801" y="571"/>
                </a:lnTo>
                <a:lnTo>
                  <a:pt x="802" y="584"/>
                </a:lnTo>
                <a:lnTo>
                  <a:pt x="804" y="587"/>
                </a:lnTo>
                <a:lnTo>
                  <a:pt x="807" y="588"/>
                </a:lnTo>
                <a:lnTo>
                  <a:pt x="808" y="588"/>
                </a:lnTo>
                <a:lnTo>
                  <a:pt x="811" y="588"/>
                </a:lnTo>
                <a:lnTo>
                  <a:pt x="817" y="588"/>
                </a:lnTo>
                <a:lnTo>
                  <a:pt x="820" y="587"/>
                </a:lnTo>
                <a:lnTo>
                  <a:pt x="818" y="581"/>
                </a:lnTo>
                <a:lnTo>
                  <a:pt x="820" y="569"/>
                </a:lnTo>
                <a:lnTo>
                  <a:pt x="824" y="558"/>
                </a:lnTo>
                <a:lnTo>
                  <a:pt x="830" y="547"/>
                </a:lnTo>
                <a:lnTo>
                  <a:pt x="836" y="540"/>
                </a:lnTo>
                <a:lnTo>
                  <a:pt x="843" y="534"/>
                </a:lnTo>
                <a:lnTo>
                  <a:pt x="847" y="531"/>
                </a:lnTo>
                <a:lnTo>
                  <a:pt x="865" y="523"/>
                </a:lnTo>
                <a:lnTo>
                  <a:pt x="901" y="504"/>
                </a:lnTo>
                <a:lnTo>
                  <a:pt x="972" y="462"/>
                </a:lnTo>
                <a:lnTo>
                  <a:pt x="1039" y="413"/>
                </a:lnTo>
                <a:lnTo>
                  <a:pt x="1056" y="400"/>
                </a:lnTo>
                <a:lnTo>
                  <a:pt x="1059" y="397"/>
                </a:lnTo>
                <a:lnTo>
                  <a:pt x="1069" y="391"/>
                </a:lnTo>
                <a:lnTo>
                  <a:pt x="1091" y="382"/>
                </a:lnTo>
                <a:lnTo>
                  <a:pt x="1115" y="379"/>
                </a:lnTo>
                <a:lnTo>
                  <a:pt x="1123" y="379"/>
                </a:lnTo>
                <a:lnTo>
                  <a:pt x="1123" y="374"/>
                </a:lnTo>
                <a:lnTo>
                  <a:pt x="1124" y="366"/>
                </a:lnTo>
                <a:lnTo>
                  <a:pt x="1127" y="362"/>
                </a:lnTo>
                <a:lnTo>
                  <a:pt x="1130" y="356"/>
                </a:lnTo>
                <a:lnTo>
                  <a:pt x="1139" y="347"/>
                </a:lnTo>
                <a:lnTo>
                  <a:pt x="1147" y="339"/>
                </a:lnTo>
                <a:lnTo>
                  <a:pt x="1153" y="330"/>
                </a:lnTo>
                <a:lnTo>
                  <a:pt x="1155" y="320"/>
                </a:lnTo>
                <a:lnTo>
                  <a:pt x="1155" y="320"/>
                </a:lnTo>
                <a:lnTo>
                  <a:pt x="1152" y="316"/>
                </a:lnTo>
                <a:lnTo>
                  <a:pt x="1144" y="305"/>
                </a:lnTo>
                <a:lnTo>
                  <a:pt x="1136" y="297"/>
                </a:lnTo>
                <a:lnTo>
                  <a:pt x="1126" y="289"/>
                </a:lnTo>
                <a:lnTo>
                  <a:pt x="1114" y="285"/>
                </a:lnTo>
                <a:lnTo>
                  <a:pt x="1102" y="285"/>
                </a:lnTo>
                <a:lnTo>
                  <a:pt x="1097" y="285"/>
                </a:lnTo>
                <a:lnTo>
                  <a:pt x="1110" y="276"/>
                </a:lnTo>
                <a:lnTo>
                  <a:pt x="1134" y="255"/>
                </a:lnTo>
                <a:lnTo>
                  <a:pt x="1153" y="230"/>
                </a:lnTo>
                <a:lnTo>
                  <a:pt x="1166" y="203"/>
                </a:lnTo>
                <a:lnTo>
                  <a:pt x="1173" y="172"/>
                </a:lnTo>
                <a:lnTo>
                  <a:pt x="1175" y="139"/>
                </a:lnTo>
                <a:lnTo>
                  <a:pt x="1173" y="120"/>
                </a:lnTo>
                <a:lnTo>
                  <a:pt x="1173" y="110"/>
                </a:lnTo>
                <a:lnTo>
                  <a:pt x="1176" y="100"/>
                </a:lnTo>
                <a:lnTo>
                  <a:pt x="1181" y="91"/>
                </a:lnTo>
                <a:lnTo>
                  <a:pt x="1188" y="82"/>
                </a:lnTo>
                <a:lnTo>
                  <a:pt x="1197" y="76"/>
                </a:lnTo>
                <a:lnTo>
                  <a:pt x="1218" y="62"/>
                </a:lnTo>
                <a:lnTo>
                  <a:pt x="1260" y="34"/>
                </a:lnTo>
                <a:lnTo>
                  <a:pt x="1270" y="24"/>
                </a:lnTo>
                <a:lnTo>
                  <a:pt x="1275" y="34"/>
                </a:lnTo>
                <a:lnTo>
                  <a:pt x="1288" y="52"/>
                </a:lnTo>
                <a:lnTo>
                  <a:pt x="1305" y="65"/>
                </a:lnTo>
                <a:lnTo>
                  <a:pt x="1325" y="72"/>
                </a:lnTo>
                <a:lnTo>
                  <a:pt x="1347" y="72"/>
                </a:lnTo>
                <a:lnTo>
                  <a:pt x="1370" y="65"/>
                </a:lnTo>
                <a:lnTo>
                  <a:pt x="1382" y="58"/>
                </a:lnTo>
                <a:lnTo>
                  <a:pt x="1382" y="55"/>
                </a:lnTo>
                <a:lnTo>
                  <a:pt x="1382" y="53"/>
                </a:lnTo>
                <a:lnTo>
                  <a:pt x="1382" y="47"/>
                </a:lnTo>
                <a:lnTo>
                  <a:pt x="1382" y="39"/>
                </a:lnTo>
                <a:lnTo>
                  <a:pt x="1382" y="33"/>
                </a:lnTo>
                <a:lnTo>
                  <a:pt x="1378" y="34"/>
                </a:lnTo>
                <a:lnTo>
                  <a:pt x="1370" y="34"/>
                </a:lnTo>
                <a:lnTo>
                  <a:pt x="1363" y="33"/>
                </a:lnTo>
                <a:lnTo>
                  <a:pt x="1356" y="32"/>
                </a:lnTo>
                <a:lnTo>
                  <a:pt x="1341" y="26"/>
                </a:lnTo>
                <a:lnTo>
                  <a:pt x="1339" y="24"/>
                </a:lnTo>
                <a:lnTo>
                  <a:pt x="1343" y="21"/>
                </a:lnTo>
                <a:lnTo>
                  <a:pt x="1353" y="14"/>
                </a:lnTo>
                <a:lnTo>
                  <a:pt x="1376" y="5"/>
                </a:lnTo>
                <a:lnTo>
                  <a:pt x="1401" y="1"/>
                </a:lnTo>
                <a:lnTo>
                  <a:pt x="1408" y="0"/>
                </a:lnTo>
                <a:lnTo>
                  <a:pt x="1405" y="17"/>
                </a:lnTo>
                <a:lnTo>
                  <a:pt x="1402" y="50"/>
                </a:lnTo>
                <a:lnTo>
                  <a:pt x="1394" y="116"/>
                </a:lnTo>
                <a:lnTo>
                  <a:pt x="1388" y="182"/>
                </a:lnTo>
                <a:lnTo>
                  <a:pt x="1386" y="198"/>
                </a:lnTo>
                <a:lnTo>
                  <a:pt x="1385" y="204"/>
                </a:lnTo>
                <a:lnTo>
                  <a:pt x="1385" y="213"/>
                </a:lnTo>
                <a:lnTo>
                  <a:pt x="1381" y="233"/>
                </a:lnTo>
                <a:lnTo>
                  <a:pt x="1373" y="253"/>
                </a:lnTo>
                <a:lnTo>
                  <a:pt x="1372" y="258"/>
                </a:lnTo>
                <a:lnTo>
                  <a:pt x="1368" y="268"/>
                </a:lnTo>
                <a:lnTo>
                  <a:pt x="1356" y="285"/>
                </a:lnTo>
                <a:lnTo>
                  <a:pt x="1341" y="298"/>
                </a:lnTo>
                <a:lnTo>
                  <a:pt x="1308" y="324"/>
                </a:lnTo>
                <a:lnTo>
                  <a:pt x="1286" y="346"/>
                </a:lnTo>
                <a:lnTo>
                  <a:pt x="1289" y="346"/>
                </a:lnTo>
                <a:lnTo>
                  <a:pt x="1292" y="347"/>
                </a:lnTo>
                <a:lnTo>
                  <a:pt x="1294" y="349"/>
                </a:lnTo>
                <a:lnTo>
                  <a:pt x="1295" y="352"/>
                </a:lnTo>
                <a:lnTo>
                  <a:pt x="1297" y="353"/>
                </a:lnTo>
                <a:lnTo>
                  <a:pt x="1299" y="359"/>
                </a:lnTo>
                <a:lnTo>
                  <a:pt x="1308" y="363"/>
                </a:lnTo>
                <a:lnTo>
                  <a:pt x="1312" y="362"/>
                </a:lnTo>
                <a:lnTo>
                  <a:pt x="1311" y="362"/>
                </a:lnTo>
                <a:lnTo>
                  <a:pt x="1308" y="362"/>
                </a:lnTo>
                <a:lnTo>
                  <a:pt x="1302" y="362"/>
                </a:lnTo>
                <a:lnTo>
                  <a:pt x="1297" y="363"/>
                </a:lnTo>
                <a:lnTo>
                  <a:pt x="1297" y="363"/>
                </a:lnTo>
                <a:lnTo>
                  <a:pt x="1285" y="376"/>
                </a:lnTo>
                <a:lnTo>
                  <a:pt x="1276" y="389"/>
                </a:lnTo>
                <a:lnTo>
                  <a:pt x="1272" y="404"/>
                </a:lnTo>
                <a:lnTo>
                  <a:pt x="1269" y="418"/>
                </a:lnTo>
                <a:lnTo>
                  <a:pt x="1269" y="447"/>
                </a:lnTo>
                <a:lnTo>
                  <a:pt x="1272" y="478"/>
                </a:lnTo>
                <a:lnTo>
                  <a:pt x="1269" y="507"/>
                </a:lnTo>
                <a:lnTo>
                  <a:pt x="1260" y="534"/>
                </a:lnTo>
                <a:lnTo>
                  <a:pt x="1260" y="534"/>
                </a:lnTo>
                <a:lnTo>
                  <a:pt x="1255" y="542"/>
                </a:lnTo>
                <a:lnTo>
                  <a:pt x="1244" y="556"/>
                </a:lnTo>
                <a:lnTo>
                  <a:pt x="1226" y="585"/>
                </a:lnTo>
                <a:lnTo>
                  <a:pt x="1215" y="614"/>
                </a:lnTo>
                <a:lnTo>
                  <a:pt x="1215" y="621"/>
                </a:lnTo>
                <a:lnTo>
                  <a:pt x="1214" y="629"/>
                </a:lnTo>
                <a:lnTo>
                  <a:pt x="1215" y="642"/>
                </a:lnTo>
                <a:lnTo>
                  <a:pt x="1224" y="668"/>
                </a:lnTo>
                <a:lnTo>
                  <a:pt x="1244" y="688"/>
                </a:lnTo>
                <a:lnTo>
                  <a:pt x="1252" y="691"/>
                </a:lnTo>
                <a:lnTo>
                  <a:pt x="1247" y="691"/>
                </a:lnTo>
                <a:lnTo>
                  <a:pt x="1239" y="691"/>
                </a:lnTo>
                <a:lnTo>
                  <a:pt x="1230" y="694"/>
                </a:lnTo>
                <a:lnTo>
                  <a:pt x="1224" y="698"/>
                </a:lnTo>
                <a:lnTo>
                  <a:pt x="1218" y="702"/>
                </a:lnTo>
                <a:lnTo>
                  <a:pt x="1214" y="708"/>
                </a:lnTo>
                <a:lnTo>
                  <a:pt x="1212" y="710"/>
                </a:lnTo>
                <a:lnTo>
                  <a:pt x="1208" y="717"/>
                </a:lnTo>
                <a:lnTo>
                  <a:pt x="1204" y="731"/>
                </a:lnTo>
                <a:lnTo>
                  <a:pt x="1197" y="762"/>
                </a:lnTo>
                <a:lnTo>
                  <a:pt x="1185" y="788"/>
                </a:lnTo>
                <a:lnTo>
                  <a:pt x="1181" y="792"/>
                </a:lnTo>
                <a:lnTo>
                  <a:pt x="1173" y="800"/>
                </a:lnTo>
                <a:lnTo>
                  <a:pt x="1157" y="811"/>
                </a:lnTo>
                <a:lnTo>
                  <a:pt x="1140" y="820"/>
                </a:lnTo>
                <a:lnTo>
                  <a:pt x="1105" y="826"/>
                </a:lnTo>
                <a:lnTo>
                  <a:pt x="1084" y="821"/>
                </a:lnTo>
                <a:lnTo>
                  <a:pt x="1079" y="820"/>
                </a:lnTo>
                <a:lnTo>
                  <a:pt x="1078" y="815"/>
                </a:lnTo>
                <a:lnTo>
                  <a:pt x="1078" y="811"/>
                </a:lnTo>
                <a:lnTo>
                  <a:pt x="1079" y="805"/>
                </a:lnTo>
                <a:lnTo>
                  <a:pt x="1082" y="800"/>
                </a:lnTo>
                <a:lnTo>
                  <a:pt x="1088" y="786"/>
                </a:lnTo>
                <a:lnTo>
                  <a:pt x="1094" y="772"/>
                </a:lnTo>
                <a:lnTo>
                  <a:pt x="1095" y="759"/>
                </a:lnTo>
                <a:lnTo>
                  <a:pt x="1094" y="753"/>
                </a:lnTo>
                <a:lnTo>
                  <a:pt x="1091" y="752"/>
                </a:lnTo>
                <a:lnTo>
                  <a:pt x="1088" y="750"/>
                </a:lnTo>
                <a:lnTo>
                  <a:pt x="1085" y="750"/>
                </a:lnTo>
                <a:lnTo>
                  <a:pt x="1082" y="750"/>
                </a:lnTo>
                <a:lnTo>
                  <a:pt x="1079" y="752"/>
                </a:lnTo>
                <a:lnTo>
                  <a:pt x="1072" y="755"/>
                </a:lnTo>
                <a:lnTo>
                  <a:pt x="1057" y="763"/>
                </a:lnTo>
                <a:lnTo>
                  <a:pt x="1056" y="763"/>
                </a:lnTo>
                <a:lnTo>
                  <a:pt x="1049" y="769"/>
                </a:lnTo>
                <a:lnTo>
                  <a:pt x="1043" y="775"/>
                </a:lnTo>
                <a:lnTo>
                  <a:pt x="1040" y="782"/>
                </a:lnTo>
                <a:lnTo>
                  <a:pt x="1039" y="791"/>
                </a:lnTo>
                <a:lnTo>
                  <a:pt x="1036" y="808"/>
                </a:lnTo>
                <a:lnTo>
                  <a:pt x="1034" y="826"/>
                </a:lnTo>
                <a:lnTo>
                  <a:pt x="1028" y="842"/>
                </a:lnTo>
                <a:lnTo>
                  <a:pt x="1023" y="847"/>
                </a:lnTo>
                <a:lnTo>
                  <a:pt x="1017" y="852"/>
                </a:lnTo>
                <a:lnTo>
                  <a:pt x="1017" y="852"/>
                </a:lnTo>
                <a:lnTo>
                  <a:pt x="1010" y="855"/>
                </a:lnTo>
                <a:lnTo>
                  <a:pt x="1004" y="855"/>
                </a:lnTo>
                <a:lnTo>
                  <a:pt x="998" y="855"/>
                </a:lnTo>
                <a:lnTo>
                  <a:pt x="991" y="852"/>
                </a:lnTo>
                <a:lnTo>
                  <a:pt x="979" y="846"/>
                </a:lnTo>
                <a:lnTo>
                  <a:pt x="966" y="837"/>
                </a:lnTo>
                <a:lnTo>
                  <a:pt x="944" y="821"/>
                </a:lnTo>
                <a:lnTo>
                  <a:pt x="944" y="821"/>
                </a:lnTo>
                <a:lnTo>
                  <a:pt x="939" y="818"/>
                </a:lnTo>
                <a:lnTo>
                  <a:pt x="934" y="814"/>
                </a:lnTo>
                <a:lnTo>
                  <a:pt x="933" y="810"/>
                </a:lnTo>
                <a:lnTo>
                  <a:pt x="934" y="804"/>
                </a:lnTo>
                <a:lnTo>
                  <a:pt x="936" y="798"/>
                </a:lnTo>
                <a:lnTo>
                  <a:pt x="942" y="784"/>
                </a:lnTo>
                <a:lnTo>
                  <a:pt x="955" y="752"/>
                </a:lnTo>
                <a:lnTo>
                  <a:pt x="957" y="743"/>
                </a:lnTo>
                <a:lnTo>
                  <a:pt x="952" y="743"/>
                </a:lnTo>
                <a:lnTo>
                  <a:pt x="943" y="746"/>
                </a:lnTo>
                <a:lnTo>
                  <a:pt x="934" y="749"/>
                </a:lnTo>
                <a:lnTo>
                  <a:pt x="929" y="755"/>
                </a:lnTo>
                <a:lnTo>
                  <a:pt x="923" y="760"/>
                </a:lnTo>
                <a:lnTo>
                  <a:pt x="918" y="766"/>
                </a:lnTo>
                <a:lnTo>
                  <a:pt x="918" y="769"/>
                </a:lnTo>
                <a:lnTo>
                  <a:pt x="915" y="775"/>
                </a:lnTo>
                <a:lnTo>
                  <a:pt x="914" y="778"/>
                </a:lnTo>
                <a:lnTo>
                  <a:pt x="907" y="786"/>
                </a:lnTo>
                <a:lnTo>
                  <a:pt x="901" y="794"/>
                </a:lnTo>
                <a:lnTo>
                  <a:pt x="895" y="801"/>
                </a:lnTo>
                <a:lnTo>
                  <a:pt x="894" y="811"/>
                </a:lnTo>
                <a:lnTo>
                  <a:pt x="897" y="821"/>
                </a:lnTo>
                <a:lnTo>
                  <a:pt x="898" y="821"/>
                </a:lnTo>
                <a:lnTo>
                  <a:pt x="885" y="821"/>
                </a:lnTo>
                <a:lnTo>
                  <a:pt x="862" y="824"/>
                </a:lnTo>
                <a:lnTo>
                  <a:pt x="814" y="830"/>
                </a:lnTo>
                <a:lnTo>
                  <a:pt x="791" y="829"/>
                </a:lnTo>
                <a:lnTo>
                  <a:pt x="769" y="820"/>
                </a:lnTo>
                <a:lnTo>
                  <a:pt x="759" y="811"/>
                </a:lnTo>
                <a:lnTo>
                  <a:pt x="759" y="815"/>
                </a:lnTo>
                <a:lnTo>
                  <a:pt x="759" y="820"/>
                </a:lnTo>
                <a:lnTo>
                  <a:pt x="758" y="824"/>
                </a:lnTo>
                <a:lnTo>
                  <a:pt x="756" y="829"/>
                </a:lnTo>
                <a:lnTo>
                  <a:pt x="752" y="836"/>
                </a:lnTo>
                <a:lnTo>
                  <a:pt x="749" y="843"/>
                </a:lnTo>
                <a:lnTo>
                  <a:pt x="747" y="849"/>
                </a:lnTo>
                <a:lnTo>
                  <a:pt x="750" y="853"/>
                </a:lnTo>
                <a:lnTo>
                  <a:pt x="752" y="853"/>
                </a:lnTo>
                <a:lnTo>
                  <a:pt x="753" y="855"/>
                </a:lnTo>
                <a:lnTo>
                  <a:pt x="756" y="856"/>
                </a:lnTo>
                <a:lnTo>
                  <a:pt x="759" y="856"/>
                </a:lnTo>
                <a:lnTo>
                  <a:pt x="765" y="856"/>
                </a:lnTo>
                <a:lnTo>
                  <a:pt x="778" y="856"/>
                </a:lnTo>
                <a:lnTo>
                  <a:pt x="782" y="856"/>
                </a:lnTo>
                <a:lnTo>
                  <a:pt x="785" y="871"/>
                </a:lnTo>
                <a:lnTo>
                  <a:pt x="785" y="881"/>
                </a:lnTo>
                <a:lnTo>
                  <a:pt x="781" y="888"/>
                </a:lnTo>
                <a:lnTo>
                  <a:pt x="773" y="892"/>
                </a:lnTo>
                <a:lnTo>
                  <a:pt x="763" y="895"/>
                </a:lnTo>
                <a:lnTo>
                  <a:pt x="753" y="897"/>
                </a:lnTo>
                <a:lnTo>
                  <a:pt x="730" y="898"/>
                </a:lnTo>
                <a:lnTo>
                  <a:pt x="708" y="901"/>
                </a:lnTo>
                <a:lnTo>
                  <a:pt x="701" y="904"/>
                </a:lnTo>
                <a:lnTo>
                  <a:pt x="700" y="907"/>
                </a:lnTo>
                <a:lnTo>
                  <a:pt x="698" y="910"/>
                </a:lnTo>
                <a:lnTo>
                  <a:pt x="698" y="910"/>
                </a:lnTo>
                <a:lnTo>
                  <a:pt x="694" y="920"/>
                </a:lnTo>
                <a:lnTo>
                  <a:pt x="685" y="940"/>
                </a:lnTo>
                <a:lnTo>
                  <a:pt x="665" y="979"/>
                </a:lnTo>
                <a:lnTo>
                  <a:pt x="636" y="1011"/>
                </a:lnTo>
                <a:lnTo>
                  <a:pt x="627" y="1017"/>
                </a:lnTo>
                <a:lnTo>
                  <a:pt x="620" y="1021"/>
                </a:lnTo>
                <a:lnTo>
                  <a:pt x="614" y="1023"/>
                </a:lnTo>
                <a:lnTo>
                  <a:pt x="608" y="1023"/>
                </a:lnTo>
                <a:lnTo>
                  <a:pt x="603" y="1021"/>
                </a:lnTo>
                <a:lnTo>
                  <a:pt x="597" y="1020"/>
                </a:lnTo>
                <a:lnTo>
                  <a:pt x="584" y="1014"/>
                </a:lnTo>
                <a:lnTo>
                  <a:pt x="558" y="1004"/>
                </a:lnTo>
                <a:lnTo>
                  <a:pt x="552" y="1002"/>
                </a:lnTo>
                <a:lnTo>
                  <a:pt x="552" y="994"/>
                </a:lnTo>
                <a:lnTo>
                  <a:pt x="550" y="986"/>
                </a:lnTo>
                <a:lnTo>
                  <a:pt x="546" y="981"/>
                </a:lnTo>
                <a:lnTo>
                  <a:pt x="543" y="975"/>
                </a:lnTo>
                <a:lnTo>
                  <a:pt x="537" y="971"/>
                </a:lnTo>
                <a:lnTo>
                  <a:pt x="526" y="963"/>
                </a:lnTo>
                <a:lnTo>
                  <a:pt x="516" y="956"/>
                </a:lnTo>
                <a:lnTo>
                  <a:pt x="505" y="947"/>
                </a:lnTo>
                <a:lnTo>
                  <a:pt x="504" y="940"/>
                </a:lnTo>
                <a:lnTo>
                  <a:pt x="503" y="933"/>
                </a:lnTo>
                <a:lnTo>
                  <a:pt x="503" y="927"/>
                </a:lnTo>
                <a:lnTo>
                  <a:pt x="505" y="921"/>
                </a:lnTo>
                <a:lnTo>
                  <a:pt x="510" y="915"/>
                </a:lnTo>
                <a:lnTo>
                  <a:pt x="514" y="911"/>
                </a:lnTo>
                <a:lnTo>
                  <a:pt x="527" y="904"/>
                </a:lnTo>
                <a:lnTo>
                  <a:pt x="555" y="886"/>
                </a:lnTo>
                <a:lnTo>
                  <a:pt x="561" y="881"/>
                </a:lnTo>
                <a:lnTo>
                  <a:pt x="556" y="882"/>
                </a:lnTo>
                <a:lnTo>
                  <a:pt x="549" y="884"/>
                </a:lnTo>
                <a:lnTo>
                  <a:pt x="534" y="888"/>
                </a:lnTo>
                <a:lnTo>
                  <a:pt x="500" y="904"/>
                </a:lnTo>
                <a:lnTo>
                  <a:pt x="482" y="924"/>
                </a:lnTo>
                <a:lnTo>
                  <a:pt x="478" y="921"/>
                </a:lnTo>
                <a:lnTo>
                  <a:pt x="475" y="917"/>
                </a:lnTo>
                <a:lnTo>
                  <a:pt x="474" y="914"/>
                </a:lnTo>
                <a:lnTo>
                  <a:pt x="472" y="910"/>
                </a:lnTo>
                <a:lnTo>
                  <a:pt x="472" y="907"/>
                </a:lnTo>
                <a:lnTo>
                  <a:pt x="474" y="902"/>
                </a:lnTo>
                <a:lnTo>
                  <a:pt x="476" y="895"/>
                </a:lnTo>
                <a:lnTo>
                  <a:pt x="481" y="889"/>
                </a:lnTo>
                <a:lnTo>
                  <a:pt x="484" y="884"/>
                </a:lnTo>
                <a:lnTo>
                  <a:pt x="485" y="884"/>
                </a:lnTo>
                <a:lnTo>
                  <a:pt x="487" y="882"/>
                </a:lnTo>
                <a:lnTo>
                  <a:pt x="491" y="879"/>
                </a:lnTo>
                <a:lnTo>
                  <a:pt x="494" y="878"/>
                </a:lnTo>
                <a:lnTo>
                  <a:pt x="497" y="876"/>
                </a:lnTo>
                <a:lnTo>
                  <a:pt x="508" y="872"/>
                </a:lnTo>
                <a:lnTo>
                  <a:pt x="513" y="869"/>
                </a:lnTo>
                <a:lnTo>
                  <a:pt x="508" y="868"/>
                </a:lnTo>
                <a:lnTo>
                  <a:pt x="497" y="860"/>
                </a:lnTo>
                <a:lnTo>
                  <a:pt x="488" y="856"/>
                </a:lnTo>
                <a:lnTo>
                  <a:pt x="488" y="855"/>
                </a:lnTo>
                <a:lnTo>
                  <a:pt x="479" y="847"/>
                </a:lnTo>
                <a:lnTo>
                  <a:pt x="472" y="843"/>
                </a:lnTo>
                <a:lnTo>
                  <a:pt x="463" y="839"/>
                </a:lnTo>
                <a:lnTo>
                  <a:pt x="455" y="837"/>
                </a:lnTo>
                <a:lnTo>
                  <a:pt x="437" y="837"/>
                </a:lnTo>
                <a:lnTo>
                  <a:pt x="421" y="842"/>
                </a:lnTo>
                <a:lnTo>
                  <a:pt x="390" y="852"/>
                </a:lnTo>
                <a:lnTo>
                  <a:pt x="390" y="852"/>
                </a:lnTo>
                <a:lnTo>
                  <a:pt x="390" y="852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197160" y="3348000"/>
            <a:ext cx="104760" cy="74520"/>
          </a:xfrm>
          <a:custGeom>
            <a:avLst/>
            <a:gdLst/>
            <a:ahLst/>
            <a:rect l="l" t="t" r="r" b="b"/>
            <a:pathLst>
              <a:path w="169" h="106">
                <a:moveTo>
                  <a:pt x="2" y="102"/>
                </a:moveTo>
                <a:lnTo>
                  <a:pt x="5" y="104"/>
                </a:lnTo>
                <a:lnTo>
                  <a:pt x="7" y="104"/>
                </a:lnTo>
                <a:lnTo>
                  <a:pt x="15" y="106"/>
                </a:lnTo>
                <a:lnTo>
                  <a:pt x="34" y="106"/>
                </a:lnTo>
                <a:lnTo>
                  <a:pt x="46" y="100"/>
                </a:lnTo>
                <a:lnTo>
                  <a:pt x="47" y="99"/>
                </a:lnTo>
                <a:lnTo>
                  <a:pt x="49" y="96"/>
                </a:lnTo>
                <a:lnTo>
                  <a:pt x="49" y="94"/>
                </a:lnTo>
                <a:lnTo>
                  <a:pt x="49" y="89"/>
                </a:lnTo>
                <a:lnTo>
                  <a:pt x="49" y="81"/>
                </a:lnTo>
                <a:lnTo>
                  <a:pt x="47" y="68"/>
                </a:lnTo>
                <a:lnTo>
                  <a:pt x="49" y="68"/>
                </a:lnTo>
                <a:lnTo>
                  <a:pt x="65" y="74"/>
                </a:lnTo>
                <a:lnTo>
                  <a:pt x="89" y="74"/>
                </a:lnTo>
                <a:lnTo>
                  <a:pt x="108" y="64"/>
                </a:lnTo>
                <a:lnTo>
                  <a:pt x="123" y="47"/>
                </a:lnTo>
                <a:lnTo>
                  <a:pt x="137" y="28"/>
                </a:lnTo>
                <a:lnTo>
                  <a:pt x="156" y="9"/>
                </a:lnTo>
                <a:lnTo>
                  <a:pt x="169" y="0"/>
                </a:lnTo>
                <a:lnTo>
                  <a:pt x="153" y="7"/>
                </a:lnTo>
                <a:lnTo>
                  <a:pt x="115" y="15"/>
                </a:lnTo>
                <a:lnTo>
                  <a:pt x="39" y="33"/>
                </a:lnTo>
                <a:lnTo>
                  <a:pt x="23" y="41"/>
                </a:lnTo>
                <a:lnTo>
                  <a:pt x="11" y="51"/>
                </a:lnTo>
                <a:lnTo>
                  <a:pt x="2" y="64"/>
                </a:lnTo>
                <a:lnTo>
                  <a:pt x="0" y="81"/>
                </a:lnTo>
                <a:lnTo>
                  <a:pt x="1" y="102"/>
                </a:lnTo>
                <a:lnTo>
                  <a:pt x="2" y="102"/>
                </a:lnTo>
                <a:lnTo>
                  <a:pt x="2" y="102"/>
                </a:lnTo>
                <a:close/>
              </a:path>
            </a:pathLst>
          </a:custGeom>
          <a:solidFill>
            <a:srgbClr val="ff3300"/>
          </a:solidFill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741840" y="2627280"/>
            <a:ext cx="152280" cy="227160"/>
          </a:xfrm>
          <a:custGeom>
            <a:avLst/>
            <a:gdLst/>
            <a:ahLst/>
            <a:rect l="l" t="t" r="r" b="b"/>
            <a:pathLst>
              <a:path w="529" h="825">
                <a:moveTo>
                  <a:pt x="3" y="812"/>
                </a:moveTo>
                <a:lnTo>
                  <a:pt x="4" y="815"/>
                </a:lnTo>
                <a:lnTo>
                  <a:pt x="12" y="819"/>
                </a:lnTo>
                <a:lnTo>
                  <a:pt x="26" y="825"/>
                </a:lnTo>
                <a:lnTo>
                  <a:pt x="33" y="825"/>
                </a:lnTo>
                <a:lnTo>
                  <a:pt x="39" y="823"/>
                </a:lnTo>
                <a:lnTo>
                  <a:pt x="42" y="821"/>
                </a:lnTo>
                <a:lnTo>
                  <a:pt x="52" y="808"/>
                </a:lnTo>
                <a:lnTo>
                  <a:pt x="75" y="786"/>
                </a:lnTo>
                <a:lnTo>
                  <a:pt x="100" y="774"/>
                </a:lnTo>
                <a:lnTo>
                  <a:pt x="127" y="767"/>
                </a:lnTo>
                <a:lnTo>
                  <a:pt x="156" y="765"/>
                </a:lnTo>
                <a:lnTo>
                  <a:pt x="185" y="767"/>
                </a:lnTo>
                <a:lnTo>
                  <a:pt x="201" y="767"/>
                </a:lnTo>
                <a:lnTo>
                  <a:pt x="203" y="767"/>
                </a:lnTo>
                <a:lnTo>
                  <a:pt x="204" y="765"/>
                </a:lnTo>
                <a:lnTo>
                  <a:pt x="207" y="764"/>
                </a:lnTo>
                <a:lnTo>
                  <a:pt x="212" y="760"/>
                </a:lnTo>
                <a:lnTo>
                  <a:pt x="214" y="752"/>
                </a:lnTo>
                <a:lnTo>
                  <a:pt x="217" y="747"/>
                </a:lnTo>
                <a:lnTo>
                  <a:pt x="216" y="742"/>
                </a:lnTo>
                <a:lnTo>
                  <a:pt x="214" y="739"/>
                </a:lnTo>
                <a:lnTo>
                  <a:pt x="204" y="732"/>
                </a:lnTo>
                <a:lnTo>
                  <a:pt x="198" y="722"/>
                </a:lnTo>
                <a:lnTo>
                  <a:pt x="193" y="713"/>
                </a:lnTo>
                <a:lnTo>
                  <a:pt x="188" y="693"/>
                </a:lnTo>
                <a:lnTo>
                  <a:pt x="185" y="673"/>
                </a:lnTo>
                <a:lnTo>
                  <a:pt x="181" y="635"/>
                </a:lnTo>
                <a:lnTo>
                  <a:pt x="178" y="626"/>
                </a:lnTo>
                <a:lnTo>
                  <a:pt x="172" y="622"/>
                </a:lnTo>
                <a:lnTo>
                  <a:pt x="169" y="621"/>
                </a:lnTo>
                <a:lnTo>
                  <a:pt x="162" y="615"/>
                </a:lnTo>
                <a:lnTo>
                  <a:pt x="148" y="605"/>
                </a:lnTo>
                <a:lnTo>
                  <a:pt x="143" y="597"/>
                </a:lnTo>
                <a:lnTo>
                  <a:pt x="142" y="590"/>
                </a:lnTo>
                <a:lnTo>
                  <a:pt x="141" y="577"/>
                </a:lnTo>
                <a:lnTo>
                  <a:pt x="135" y="555"/>
                </a:lnTo>
                <a:lnTo>
                  <a:pt x="120" y="535"/>
                </a:lnTo>
                <a:lnTo>
                  <a:pt x="114" y="528"/>
                </a:lnTo>
                <a:lnTo>
                  <a:pt x="113" y="526"/>
                </a:lnTo>
                <a:lnTo>
                  <a:pt x="112" y="524"/>
                </a:lnTo>
                <a:lnTo>
                  <a:pt x="113" y="521"/>
                </a:lnTo>
                <a:lnTo>
                  <a:pt x="114" y="519"/>
                </a:lnTo>
                <a:lnTo>
                  <a:pt x="117" y="516"/>
                </a:lnTo>
                <a:lnTo>
                  <a:pt x="119" y="512"/>
                </a:lnTo>
                <a:lnTo>
                  <a:pt x="120" y="512"/>
                </a:lnTo>
                <a:lnTo>
                  <a:pt x="119" y="509"/>
                </a:lnTo>
                <a:lnTo>
                  <a:pt x="117" y="506"/>
                </a:lnTo>
                <a:lnTo>
                  <a:pt x="114" y="505"/>
                </a:lnTo>
                <a:lnTo>
                  <a:pt x="112" y="502"/>
                </a:lnTo>
                <a:lnTo>
                  <a:pt x="106" y="499"/>
                </a:lnTo>
                <a:lnTo>
                  <a:pt x="93" y="490"/>
                </a:lnTo>
                <a:lnTo>
                  <a:pt x="88" y="484"/>
                </a:lnTo>
                <a:lnTo>
                  <a:pt x="93" y="483"/>
                </a:lnTo>
                <a:lnTo>
                  <a:pt x="94" y="480"/>
                </a:lnTo>
                <a:lnTo>
                  <a:pt x="96" y="477"/>
                </a:lnTo>
                <a:lnTo>
                  <a:pt x="96" y="474"/>
                </a:lnTo>
                <a:lnTo>
                  <a:pt x="96" y="470"/>
                </a:lnTo>
                <a:lnTo>
                  <a:pt x="94" y="458"/>
                </a:lnTo>
                <a:lnTo>
                  <a:pt x="96" y="458"/>
                </a:lnTo>
                <a:lnTo>
                  <a:pt x="109" y="463"/>
                </a:lnTo>
                <a:lnTo>
                  <a:pt x="133" y="474"/>
                </a:lnTo>
                <a:lnTo>
                  <a:pt x="183" y="500"/>
                </a:lnTo>
                <a:lnTo>
                  <a:pt x="236" y="512"/>
                </a:lnTo>
                <a:lnTo>
                  <a:pt x="252" y="510"/>
                </a:lnTo>
                <a:lnTo>
                  <a:pt x="252" y="505"/>
                </a:lnTo>
                <a:lnTo>
                  <a:pt x="254" y="502"/>
                </a:lnTo>
                <a:lnTo>
                  <a:pt x="255" y="499"/>
                </a:lnTo>
                <a:lnTo>
                  <a:pt x="259" y="493"/>
                </a:lnTo>
                <a:lnTo>
                  <a:pt x="268" y="483"/>
                </a:lnTo>
                <a:lnTo>
                  <a:pt x="269" y="476"/>
                </a:lnTo>
                <a:lnTo>
                  <a:pt x="284" y="479"/>
                </a:lnTo>
                <a:lnTo>
                  <a:pt x="314" y="484"/>
                </a:lnTo>
                <a:lnTo>
                  <a:pt x="375" y="496"/>
                </a:lnTo>
                <a:lnTo>
                  <a:pt x="433" y="495"/>
                </a:lnTo>
                <a:lnTo>
                  <a:pt x="449" y="489"/>
                </a:lnTo>
                <a:lnTo>
                  <a:pt x="451" y="486"/>
                </a:lnTo>
                <a:lnTo>
                  <a:pt x="448" y="481"/>
                </a:lnTo>
                <a:lnTo>
                  <a:pt x="446" y="479"/>
                </a:lnTo>
                <a:lnTo>
                  <a:pt x="440" y="471"/>
                </a:lnTo>
                <a:lnTo>
                  <a:pt x="436" y="464"/>
                </a:lnTo>
                <a:lnTo>
                  <a:pt x="435" y="455"/>
                </a:lnTo>
                <a:lnTo>
                  <a:pt x="436" y="451"/>
                </a:lnTo>
                <a:lnTo>
                  <a:pt x="439" y="444"/>
                </a:lnTo>
                <a:lnTo>
                  <a:pt x="446" y="426"/>
                </a:lnTo>
                <a:lnTo>
                  <a:pt x="465" y="395"/>
                </a:lnTo>
                <a:lnTo>
                  <a:pt x="487" y="363"/>
                </a:lnTo>
                <a:lnTo>
                  <a:pt x="493" y="354"/>
                </a:lnTo>
                <a:lnTo>
                  <a:pt x="500" y="342"/>
                </a:lnTo>
                <a:lnTo>
                  <a:pt x="513" y="318"/>
                </a:lnTo>
                <a:lnTo>
                  <a:pt x="529" y="267"/>
                </a:lnTo>
                <a:lnTo>
                  <a:pt x="529" y="241"/>
                </a:lnTo>
                <a:lnTo>
                  <a:pt x="520" y="216"/>
                </a:lnTo>
                <a:lnTo>
                  <a:pt x="514" y="203"/>
                </a:lnTo>
                <a:lnTo>
                  <a:pt x="511" y="202"/>
                </a:lnTo>
                <a:lnTo>
                  <a:pt x="509" y="202"/>
                </a:lnTo>
                <a:lnTo>
                  <a:pt x="506" y="200"/>
                </a:lnTo>
                <a:lnTo>
                  <a:pt x="495" y="199"/>
                </a:lnTo>
                <a:lnTo>
                  <a:pt x="475" y="196"/>
                </a:lnTo>
                <a:lnTo>
                  <a:pt x="464" y="187"/>
                </a:lnTo>
                <a:lnTo>
                  <a:pt x="449" y="170"/>
                </a:lnTo>
                <a:lnTo>
                  <a:pt x="422" y="135"/>
                </a:lnTo>
                <a:lnTo>
                  <a:pt x="362" y="73"/>
                </a:lnTo>
                <a:lnTo>
                  <a:pt x="294" y="16"/>
                </a:lnTo>
                <a:lnTo>
                  <a:pt x="277" y="2"/>
                </a:lnTo>
                <a:lnTo>
                  <a:pt x="272" y="0"/>
                </a:lnTo>
                <a:lnTo>
                  <a:pt x="269" y="0"/>
                </a:lnTo>
                <a:lnTo>
                  <a:pt x="265" y="0"/>
                </a:lnTo>
                <a:lnTo>
                  <a:pt x="262" y="2"/>
                </a:lnTo>
                <a:lnTo>
                  <a:pt x="259" y="3"/>
                </a:lnTo>
                <a:lnTo>
                  <a:pt x="252" y="8"/>
                </a:lnTo>
                <a:lnTo>
                  <a:pt x="245" y="11"/>
                </a:lnTo>
                <a:lnTo>
                  <a:pt x="238" y="11"/>
                </a:lnTo>
                <a:lnTo>
                  <a:pt x="235" y="9"/>
                </a:lnTo>
                <a:lnTo>
                  <a:pt x="235" y="21"/>
                </a:lnTo>
                <a:lnTo>
                  <a:pt x="238" y="31"/>
                </a:lnTo>
                <a:lnTo>
                  <a:pt x="243" y="41"/>
                </a:lnTo>
                <a:lnTo>
                  <a:pt x="256" y="57"/>
                </a:lnTo>
                <a:lnTo>
                  <a:pt x="271" y="73"/>
                </a:lnTo>
                <a:lnTo>
                  <a:pt x="285" y="87"/>
                </a:lnTo>
                <a:lnTo>
                  <a:pt x="296" y="105"/>
                </a:lnTo>
                <a:lnTo>
                  <a:pt x="298" y="113"/>
                </a:lnTo>
                <a:lnTo>
                  <a:pt x="300" y="125"/>
                </a:lnTo>
                <a:lnTo>
                  <a:pt x="304" y="145"/>
                </a:lnTo>
                <a:lnTo>
                  <a:pt x="309" y="186"/>
                </a:lnTo>
                <a:lnTo>
                  <a:pt x="297" y="226"/>
                </a:lnTo>
                <a:lnTo>
                  <a:pt x="291" y="237"/>
                </a:lnTo>
                <a:lnTo>
                  <a:pt x="290" y="239"/>
                </a:lnTo>
                <a:lnTo>
                  <a:pt x="288" y="242"/>
                </a:lnTo>
                <a:lnTo>
                  <a:pt x="288" y="247"/>
                </a:lnTo>
                <a:lnTo>
                  <a:pt x="290" y="250"/>
                </a:lnTo>
                <a:lnTo>
                  <a:pt x="293" y="257"/>
                </a:lnTo>
                <a:lnTo>
                  <a:pt x="297" y="266"/>
                </a:lnTo>
                <a:lnTo>
                  <a:pt x="304" y="273"/>
                </a:lnTo>
                <a:lnTo>
                  <a:pt x="311" y="277"/>
                </a:lnTo>
                <a:lnTo>
                  <a:pt x="313" y="277"/>
                </a:lnTo>
                <a:lnTo>
                  <a:pt x="306" y="283"/>
                </a:lnTo>
                <a:lnTo>
                  <a:pt x="294" y="297"/>
                </a:lnTo>
                <a:lnTo>
                  <a:pt x="285" y="311"/>
                </a:lnTo>
                <a:lnTo>
                  <a:pt x="267" y="338"/>
                </a:lnTo>
                <a:lnTo>
                  <a:pt x="249" y="351"/>
                </a:lnTo>
                <a:lnTo>
                  <a:pt x="245" y="354"/>
                </a:lnTo>
                <a:lnTo>
                  <a:pt x="236" y="357"/>
                </a:lnTo>
                <a:lnTo>
                  <a:pt x="214" y="361"/>
                </a:lnTo>
                <a:lnTo>
                  <a:pt x="196" y="361"/>
                </a:lnTo>
                <a:lnTo>
                  <a:pt x="193" y="360"/>
                </a:lnTo>
                <a:lnTo>
                  <a:pt x="183" y="357"/>
                </a:lnTo>
                <a:lnTo>
                  <a:pt x="165" y="348"/>
                </a:lnTo>
                <a:lnTo>
                  <a:pt x="129" y="332"/>
                </a:lnTo>
                <a:lnTo>
                  <a:pt x="94" y="312"/>
                </a:lnTo>
                <a:lnTo>
                  <a:pt x="85" y="306"/>
                </a:lnTo>
                <a:lnTo>
                  <a:pt x="81" y="305"/>
                </a:lnTo>
                <a:lnTo>
                  <a:pt x="75" y="303"/>
                </a:lnTo>
                <a:lnTo>
                  <a:pt x="71" y="302"/>
                </a:lnTo>
                <a:lnTo>
                  <a:pt x="61" y="302"/>
                </a:lnTo>
                <a:lnTo>
                  <a:pt x="51" y="305"/>
                </a:lnTo>
                <a:lnTo>
                  <a:pt x="41" y="311"/>
                </a:lnTo>
                <a:lnTo>
                  <a:pt x="30" y="318"/>
                </a:lnTo>
                <a:lnTo>
                  <a:pt x="28" y="321"/>
                </a:lnTo>
                <a:lnTo>
                  <a:pt x="33" y="325"/>
                </a:lnTo>
                <a:lnTo>
                  <a:pt x="45" y="332"/>
                </a:lnTo>
                <a:lnTo>
                  <a:pt x="68" y="350"/>
                </a:lnTo>
                <a:lnTo>
                  <a:pt x="77" y="358"/>
                </a:lnTo>
                <a:lnTo>
                  <a:pt x="81" y="368"/>
                </a:lnTo>
                <a:lnTo>
                  <a:pt x="83" y="373"/>
                </a:lnTo>
                <a:lnTo>
                  <a:pt x="80" y="382"/>
                </a:lnTo>
                <a:lnTo>
                  <a:pt x="77" y="387"/>
                </a:lnTo>
                <a:lnTo>
                  <a:pt x="71" y="395"/>
                </a:lnTo>
                <a:lnTo>
                  <a:pt x="65" y="399"/>
                </a:lnTo>
                <a:lnTo>
                  <a:pt x="49" y="410"/>
                </a:lnTo>
                <a:lnTo>
                  <a:pt x="20" y="435"/>
                </a:lnTo>
                <a:lnTo>
                  <a:pt x="12" y="451"/>
                </a:lnTo>
                <a:lnTo>
                  <a:pt x="10" y="460"/>
                </a:lnTo>
                <a:lnTo>
                  <a:pt x="10" y="468"/>
                </a:lnTo>
                <a:lnTo>
                  <a:pt x="13" y="476"/>
                </a:lnTo>
                <a:lnTo>
                  <a:pt x="16" y="483"/>
                </a:lnTo>
                <a:lnTo>
                  <a:pt x="26" y="495"/>
                </a:lnTo>
                <a:lnTo>
                  <a:pt x="38" y="506"/>
                </a:lnTo>
                <a:lnTo>
                  <a:pt x="56" y="529"/>
                </a:lnTo>
                <a:lnTo>
                  <a:pt x="58" y="529"/>
                </a:lnTo>
                <a:lnTo>
                  <a:pt x="59" y="537"/>
                </a:lnTo>
                <a:lnTo>
                  <a:pt x="59" y="542"/>
                </a:lnTo>
                <a:lnTo>
                  <a:pt x="58" y="548"/>
                </a:lnTo>
                <a:lnTo>
                  <a:pt x="56" y="554"/>
                </a:lnTo>
                <a:lnTo>
                  <a:pt x="49" y="566"/>
                </a:lnTo>
                <a:lnTo>
                  <a:pt x="39" y="577"/>
                </a:lnTo>
                <a:lnTo>
                  <a:pt x="19" y="597"/>
                </a:lnTo>
                <a:lnTo>
                  <a:pt x="19" y="597"/>
                </a:lnTo>
                <a:lnTo>
                  <a:pt x="29" y="602"/>
                </a:lnTo>
                <a:lnTo>
                  <a:pt x="45" y="610"/>
                </a:lnTo>
                <a:lnTo>
                  <a:pt x="49" y="615"/>
                </a:lnTo>
                <a:lnTo>
                  <a:pt x="52" y="621"/>
                </a:lnTo>
                <a:lnTo>
                  <a:pt x="52" y="628"/>
                </a:lnTo>
                <a:lnTo>
                  <a:pt x="52" y="634"/>
                </a:lnTo>
                <a:lnTo>
                  <a:pt x="51" y="641"/>
                </a:lnTo>
                <a:lnTo>
                  <a:pt x="43" y="658"/>
                </a:lnTo>
                <a:lnTo>
                  <a:pt x="35" y="676"/>
                </a:lnTo>
                <a:lnTo>
                  <a:pt x="35" y="676"/>
                </a:lnTo>
                <a:lnTo>
                  <a:pt x="38" y="677"/>
                </a:lnTo>
                <a:lnTo>
                  <a:pt x="46" y="681"/>
                </a:lnTo>
                <a:lnTo>
                  <a:pt x="61" y="692"/>
                </a:lnTo>
                <a:lnTo>
                  <a:pt x="75" y="700"/>
                </a:lnTo>
                <a:lnTo>
                  <a:pt x="80" y="702"/>
                </a:lnTo>
                <a:lnTo>
                  <a:pt x="75" y="708"/>
                </a:lnTo>
                <a:lnTo>
                  <a:pt x="72" y="712"/>
                </a:lnTo>
                <a:lnTo>
                  <a:pt x="70" y="723"/>
                </a:lnTo>
                <a:lnTo>
                  <a:pt x="68" y="734"/>
                </a:lnTo>
                <a:lnTo>
                  <a:pt x="65" y="745"/>
                </a:lnTo>
                <a:lnTo>
                  <a:pt x="61" y="755"/>
                </a:lnTo>
                <a:lnTo>
                  <a:pt x="52" y="761"/>
                </a:lnTo>
                <a:lnTo>
                  <a:pt x="52" y="761"/>
                </a:lnTo>
                <a:lnTo>
                  <a:pt x="49" y="763"/>
                </a:lnTo>
                <a:lnTo>
                  <a:pt x="46" y="763"/>
                </a:lnTo>
                <a:lnTo>
                  <a:pt x="42" y="764"/>
                </a:lnTo>
                <a:lnTo>
                  <a:pt x="33" y="764"/>
                </a:lnTo>
                <a:lnTo>
                  <a:pt x="28" y="763"/>
                </a:lnTo>
                <a:lnTo>
                  <a:pt x="30" y="764"/>
                </a:lnTo>
                <a:lnTo>
                  <a:pt x="29" y="764"/>
                </a:lnTo>
                <a:lnTo>
                  <a:pt x="25" y="764"/>
                </a:lnTo>
                <a:lnTo>
                  <a:pt x="22" y="765"/>
                </a:lnTo>
                <a:lnTo>
                  <a:pt x="20" y="768"/>
                </a:lnTo>
                <a:lnTo>
                  <a:pt x="20" y="771"/>
                </a:lnTo>
                <a:lnTo>
                  <a:pt x="16" y="776"/>
                </a:lnTo>
                <a:lnTo>
                  <a:pt x="9" y="781"/>
                </a:lnTo>
                <a:lnTo>
                  <a:pt x="1" y="796"/>
                </a:lnTo>
                <a:lnTo>
                  <a:pt x="0" y="803"/>
                </a:lnTo>
                <a:lnTo>
                  <a:pt x="0" y="810"/>
                </a:lnTo>
                <a:lnTo>
                  <a:pt x="3" y="812"/>
                </a:lnTo>
                <a:lnTo>
                  <a:pt x="3" y="812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282760" y="3500280"/>
            <a:ext cx="306360" cy="543240"/>
          </a:xfrm>
          <a:custGeom>
            <a:avLst/>
            <a:gdLst/>
            <a:ahLst/>
            <a:rect l="l" t="t" r="r" b="b"/>
            <a:pathLst>
              <a:path w="1063" h="1991">
                <a:moveTo>
                  <a:pt x="288" y="1911"/>
                </a:moveTo>
                <a:lnTo>
                  <a:pt x="281" y="1906"/>
                </a:lnTo>
                <a:lnTo>
                  <a:pt x="276" y="1898"/>
                </a:lnTo>
                <a:lnTo>
                  <a:pt x="274" y="1891"/>
                </a:lnTo>
                <a:lnTo>
                  <a:pt x="274" y="1882"/>
                </a:lnTo>
                <a:lnTo>
                  <a:pt x="274" y="1874"/>
                </a:lnTo>
                <a:lnTo>
                  <a:pt x="278" y="1856"/>
                </a:lnTo>
                <a:lnTo>
                  <a:pt x="284" y="1839"/>
                </a:lnTo>
                <a:lnTo>
                  <a:pt x="291" y="1822"/>
                </a:lnTo>
                <a:lnTo>
                  <a:pt x="294" y="1813"/>
                </a:lnTo>
                <a:lnTo>
                  <a:pt x="287" y="1814"/>
                </a:lnTo>
                <a:lnTo>
                  <a:pt x="282" y="1813"/>
                </a:lnTo>
                <a:lnTo>
                  <a:pt x="279" y="1810"/>
                </a:lnTo>
                <a:lnTo>
                  <a:pt x="276" y="1807"/>
                </a:lnTo>
                <a:lnTo>
                  <a:pt x="276" y="1803"/>
                </a:lnTo>
                <a:lnTo>
                  <a:pt x="275" y="1798"/>
                </a:lnTo>
                <a:lnTo>
                  <a:pt x="275" y="1790"/>
                </a:lnTo>
                <a:lnTo>
                  <a:pt x="274" y="1782"/>
                </a:lnTo>
                <a:lnTo>
                  <a:pt x="268" y="1777"/>
                </a:lnTo>
                <a:lnTo>
                  <a:pt x="268" y="1777"/>
                </a:lnTo>
                <a:lnTo>
                  <a:pt x="262" y="1775"/>
                </a:lnTo>
                <a:lnTo>
                  <a:pt x="250" y="1774"/>
                </a:lnTo>
                <a:lnTo>
                  <a:pt x="229" y="1768"/>
                </a:lnTo>
                <a:lnTo>
                  <a:pt x="219" y="1764"/>
                </a:lnTo>
                <a:lnTo>
                  <a:pt x="213" y="1756"/>
                </a:lnTo>
                <a:lnTo>
                  <a:pt x="211" y="1751"/>
                </a:lnTo>
                <a:lnTo>
                  <a:pt x="208" y="1746"/>
                </a:lnTo>
                <a:lnTo>
                  <a:pt x="205" y="1735"/>
                </a:lnTo>
                <a:lnTo>
                  <a:pt x="200" y="1711"/>
                </a:lnTo>
                <a:lnTo>
                  <a:pt x="195" y="1688"/>
                </a:lnTo>
                <a:lnTo>
                  <a:pt x="195" y="1682"/>
                </a:lnTo>
                <a:lnTo>
                  <a:pt x="194" y="1678"/>
                </a:lnTo>
                <a:lnTo>
                  <a:pt x="192" y="1675"/>
                </a:lnTo>
                <a:lnTo>
                  <a:pt x="190" y="1672"/>
                </a:lnTo>
                <a:lnTo>
                  <a:pt x="184" y="1668"/>
                </a:lnTo>
                <a:lnTo>
                  <a:pt x="178" y="1665"/>
                </a:lnTo>
                <a:lnTo>
                  <a:pt x="172" y="1665"/>
                </a:lnTo>
                <a:lnTo>
                  <a:pt x="166" y="1666"/>
                </a:lnTo>
                <a:lnTo>
                  <a:pt x="166" y="1666"/>
                </a:lnTo>
                <a:lnTo>
                  <a:pt x="159" y="1672"/>
                </a:lnTo>
                <a:lnTo>
                  <a:pt x="153" y="1678"/>
                </a:lnTo>
                <a:lnTo>
                  <a:pt x="145" y="1693"/>
                </a:lnTo>
                <a:lnTo>
                  <a:pt x="136" y="1707"/>
                </a:lnTo>
                <a:lnTo>
                  <a:pt x="133" y="1713"/>
                </a:lnTo>
                <a:lnTo>
                  <a:pt x="129" y="1716"/>
                </a:lnTo>
                <a:lnTo>
                  <a:pt x="124" y="1719"/>
                </a:lnTo>
                <a:lnTo>
                  <a:pt x="121" y="1719"/>
                </a:lnTo>
                <a:lnTo>
                  <a:pt x="119" y="1717"/>
                </a:lnTo>
                <a:lnTo>
                  <a:pt x="116" y="1716"/>
                </a:lnTo>
                <a:lnTo>
                  <a:pt x="113" y="1713"/>
                </a:lnTo>
                <a:lnTo>
                  <a:pt x="107" y="1706"/>
                </a:lnTo>
                <a:lnTo>
                  <a:pt x="107" y="1706"/>
                </a:lnTo>
                <a:lnTo>
                  <a:pt x="103" y="1701"/>
                </a:lnTo>
                <a:lnTo>
                  <a:pt x="101" y="1695"/>
                </a:lnTo>
                <a:lnTo>
                  <a:pt x="101" y="1690"/>
                </a:lnTo>
                <a:lnTo>
                  <a:pt x="103" y="1682"/>
                </a:lnTo>
                <a:lnTo>
                  <a:pt x="107" y="1669"/>
                </a:lnTo>
                <a:lnTo>
                  <a:pt x="110" y="1658"/>
                </a:lnTo>
                <a:lnTo>
                  <a:pt x="111" y="1645"/>
                </a:lnTo>
                <a:lnTo>
                  <a:pt x="108" y="1633"/>
                </a:lnTo>
                <a:lnTo>
                  <a:pt x="108" y="1633"/>
                </a:lnTo>
                <a:lnTo>
                  <a:pt x="103" y="1624"/>
                </a:lnTo>
                <a:lnTo>
                  <a:pt x="97" y="1607"/>
                </a:lnTo>
                <a:lnTo>
                  <a:pt x="95" y="1588"/>
                </a:lnTo>
                <a:lnTo>
                  <a:pt x="97" y="1571"/>
                </a:lnTo>
                <a:lnTo>
                  <a:pt x="107" y="1536"/>
                </a:lnTo>
                <a:lnTo>
                  <a:pt x="110" y="1527"/>
                </a:lnTo>
                <a:lnTo>
                  <a:pt x="116" y="1507"/>
                </a:lnTo>
                <a:lnTo>
                  <a:pt x="126" y="1464"/>
                </a:lnTo>
                <a:lnTo>
                  <a:pt x="150" y="1377"/>
                </a:lnTo>
                <a:lnTo>
                  <a:pt x="190" y="1297"/>
                </a:lnTo>
                <a:lnTo>
                  <a:pt x="204" y="1278"/>
                </a:lnTo>
                <a:lnTo>
                  <a:pt x="216" y="1264"/>
                </a:lnTo>
                <a:lnTo>
                  <a:pt x="239" y="1229"/>
                </a:lnTo>
                <a:lnTo>
                  <a:pt x="269" y="1156"/>
                </a:lnTo>
                <a:lnTo>
                  <a:pt x="272" y="1119"/>
                </a:lnTo>
                <a:lnTo>
                  <a:pt x="262" y="1083"/>
                </a:lnTo>
                <a:lnTo>
                  <a:pt x="253" y="1064"/>
                </a:lnTo>
                <a:lnTo>
                  <a:pt x="252" y="1062"/>
                </a:lnTo>
                <a:lnTo>
                  <a:pt x="249" y="1062"/>
                </a:lnTo>
                <a:lnTo>
                  <a:pt x="246" y="1062"/>
                </a:lnTo>
                <a:lnTo>
                  <a:pt x="242" y="1064"/>
                </a:lnTo>
                <a:lnTo>
                  <a:pt x="232" y="1067"/>
                </a:lnTo>
                <a:lnTo>
                  <a:pt x="220" y="1068"/>
                </a:lnTo>
                <a:lnTo>
                  <a:pt x="210" y="1067"/>
                </a:lnTo>
                <a:lnTo>
                  <a:pt x="200" y="1059"/>
                </a:lnTo>
                <a:lnTo>
                  <a:pt x="200" y="1059"/>
                </a:lnTo>
                <a:lnTo>
                  <a:pt x="205" y="1052"/>
                </a:lnTo>
                <a:lnTo>
                  <a:pt x="211" y="1043"/>
                </a:lnTo>
                <a:lnTo>
                  <a:pt x="217" y="1025"/>
                </a:lnTo>
                <a:lnTo>
                  <a:pt x="219" y="1003"/>
                </a:lnTo>
                <a:lnTo>
                  <a:pt x="217" y="981"/>
                </a:lnTo>
                <a:lnTo>
                  <a:pt x="213" y="939"/>
                </a:lnTo>
                <a:lnTo>
                  <a:pt x="213" y="939"/>
                </a:lnTo>
                <a:lnTo>
                  <a:pt x="211" y="933"/>
                </a:lnTo>
                <a:lnTo>
                  <a:pt x="208" y="922"/>
                </a:lnTo>
                <a:lnTo>
                  <a:pt x="201" y="897"/>
                </a:lnTo>
                <a:lnTo>
                  <a:pt x="187" y="874"/>
                </a:lnTo>
                <a:lnTo>
                  <a:pt x="182" y="868"/>
                </a:lnTo>
                <a:lnTo>
                  <a:pt x="176" y="864"/>
                </a:lnTo>
                <a:lnTo>
                  <a:pt x="163" y="855"/>
                </a:lnTo>
                <a:lnTo>
                  <a:pt x="139" y="841"/>
                </a:lnTo>
                <a:lnTo>
                  <a:pt x="127" y="832"/>
                </a:lnTo>
                <a:lnTo>
                  <a:pt x="119" y="822"/>
                </a:lnTo>
                <a:lnTo>
                  <a:pt x="116" y="814"/>
                </a:lnTo>
                <a:lnTo>
                  <a:pt x="111" y="807"/>
                </a:lnTo>
                <a:lnTo>
                  <a:pt x="104" y="790"/>
                </a:lnTo>
                <a:lnTo>
                  <a:pt x="92" y="756"/>
                </a:lnTo>
                <a:lnTo>
                  <a:pt x="91" y="739"/>
                </a:lnTo>
                <a:lnTo>
                  <a:pt x="92" y="723"/>
                </a:lnTo>
                <a:lnTo>
                  <a:pt x="97" y="714"/>
                </a:lnTo>
                <a:lnTo>
                  <a:pt x="100" y="709"/>
                </a:lnTo>
                <a:lnTo>
                  <a:pt x="105" y="704"/>
                </a:lnTo>
                <a:lnTo>
                  <a:pt x="111" y="700"/>
                </a:lnTo>
                <a:lnTo>
                  <a:pt x="124" y="694"/>
                </a:lnTo>
                <a:lnTo>
                  <a:pt x="137" y="688"/>
                </a:lnTo>
                <a:lnTo>
                  <a:pt x="149" y="684"/>
                </a:lnTo>
                <a:lnTo>
                  <a:pt x="156" y="675"/>
                </a:lnTo>
                <a:lnTo>
                  <a:pt x="158" y="670"/>
                </a:lnTo>
                <a:lnTo>
                  <a:pt x="158" y="661"/>
                </a:lnTo>
                <a:lnTo>
                  <a:pt x="159" y="642"/>
                </a:lnTo>
                <a:lnTo>
                  <a:pt x="168" y="609"/>
                </a:lnTo>
                <a:lnTo>
                  <a:pt x="191" y="581"/>
                </a:lnTo>
                <a:lnTo>
                  <a:pt x="200" y="575"/>
                </a:lnTo>
                <a:lnTo>
                  <a:pt x="191" y="578"/>
                </a:lnTo>
                <a:lnTo>
                  <a:pt x="176" y="578"/>
                </a:lnTo>
                <a:lnTo>
                  <a:pt x="163" y="574"/>
                </a:lnTo>
                <a:lnTo>
                  <a:pt x="152" y="568"/>
                </a:lnTo>
                <a:lnTo>
                  <a:pt x="143" y="561"/>
                </a:lnTo>
                <a:lnTo>
                  <a:pt x="137" y="552"/>
                </a:lnTo>
                <a:lnTo>
                  <a:pt x="136" y="546"/>
                </a:lnTo>
                <a:lnTo>
                  <a:pt x="127" y="525"/>
                </a:lnTo>
                <a:lnTo>
                  <a:pt x="107" y="484"/>
                </a:lnTo>
                <a:lnTo>
                  <a:pt x="56" y="407"/>
                </a:lnTo>
                <a:lnTo>
                  <a:pt x="10" y="329"/>
                </a:lnTo>
                <a:lnTo>
                  <a:pt x="3" y="306"/>
                </a:lnTo>
                <a:lnTo>
                  <a:pt x="0" y="297"/>
                </a:lnTo>
                <a:lnTo>
                  <a:pt x="0" y="281"/>
                </a:lnTo>
                <a:lnTo>
                  <a:pt x="4" y="267"/>
                </a:lnTo>
                <a:lnTo>
                  <a:pt x="14" y="254"/>
                </a:lnTo>
                <a:lnTo>
                  <a:pt x="27" y="242"/>
                </a:lnTo>
                <a:lnTo>
                  <a:pt x="42" y="232"/>
                </a:lnTo>
                <a:lnTo>
                  <a:pt x="50" y="226"/>
                </a:lnTo>
                <a:lnTo>
                  <a:pt x="50" y="223"/>
                </a:lnTo>
                <a:lnTo>
                  <a:pt x="50" y="220"/>
                </a:lnTo>
                <a:lnTo>
                  <a:pt x="50" y="216"/>
                </a:lnTo>
                <a:lnTo>
                  <a:pt x="48" y="207"/>
                </a:lnTo>
                <a:lnTo>
                  <a:pt x="48" y="203"/>
                </a:lnTo>
                <a:lnTo>
                  <a:pt x="48" y="196"/>
                </a:lnTo>
                <a:lnTo>
                  <a:pt x="49" y="181"/>
                </a:lnTo>
                <a:lnTo>
                  <a:pt x="58" y="154"/>
                </a:lnTo>
                <a:lnTo>
                  <a:pt x="68" y="126"/>
                </a:lnTo>
                <a:lnTo>
                  <a:pt x="71" y="119"/>
                </a:lnTo>
                <a:lnTo>
                  <a:pt x="74" y="113"/>
                </a:lnTo>
                <a:lnTo>
                  <a:pt x="79" y="107"/>
                </a:lnTo>
                <a:lnTo>
                  <a:pt x="87" y="104"/>
                </a:lnTo>
                <a:lnTo>
                  <a:pt x="95" y="103"/>
                </a:lnTo>
                <a:lnTo>
                  <a:pt x="104" y="103"/>
                </a:lnTo>
                <a:lnTo>
                  <a:pt x="124" y="103"/>
                </a:lnTo>
                <a:lnTo>
                  <a:pt x="169" y="104"/>
                </a:lnTo>
                <a:lnTo>
                  <a:pt x="181" y="102"/>
                </a:lnTo>
                <a:lnTo>
                  <a:pt x="185" y="102"/>
                </a:lnTo>
                <a:lnTo>
                  <a:pt x="188" y="99"/>
                </a:lnTo>
                <a:lnTo>
                  <a:pt x="191" y="96"/>
                </a:lnTo>
                <a:lnTo>
                  <a:pt x="194" y="91"/>
                </a:lnTo>
                <a:lnTo>
                  <a:pt x="194" y="87"/>
                </a:lnTo>
                <a:lnTo>
                  <a:pt x="197" y="77"/>
                </a:lnTo>
                <a:lnTo>
                  <a:pt x="201" y="57"/>
                </a:lnTo>
                <a:lnTo>
                  <a:pt x="204" y="52"/>
                </a:lnTo>
                <a:lnTo>
                  <a:pt x="207" y="49"/>
                </a:lnTo>
                <a:lnTo>
                  <a:pt x="213" y="48"/>
                </a:lnTo>
                <a:lnTo>
                  <a:pt x="219" y="48"/>
                </a:lnTo>
                <a:lnTo>
                  <a:pt x="226" y="49"/>
                </a:lnTo>
                <a:lnTo>
                  <a:pt x="240" y="54"/>
                </a:lnTo>
                <a:lnTo>
                  <a:pt x="256" y="57"/>
                </a:lnTo>
                <a:lnTo>
                  <a:pt x="263" y="57"/>
                </a:lnTo>
                <a:lnTo>
                  <a:pt x="271" y="55"/>
                </a:lnTo>
                <a:lnTo>
                  <a:pt x="276" y="51"/>
                </a:lnTo>
                <a:lnTo>
                  <a:pt x="281" y="44"/>
                </a:lnTo>
                <a:lnTo>
                  <a:pt x="282" y="44"/>
                </a:lnTo>
                <a:lnTo>
                  <a:pt x="282" y="42"/>
                </a:lnTo>
                <a:lnTo>
                  <a:pt x="281" y="39"/>
                </a:lnTo>
                <a:lnTo>
                  <a:pt x="276" y="29"/>
                </a:lnTo>
                <a:lnTo>
                  <a:pt x="271" y="22"/>
                </a:lnTo>
                <a:lnTo>
                  <a:pt x="268" y="15"/>
                </a:lnTo>
                <a:lnTo>
                  <a:pt x="268" y="10"/>
                </a:lnTo>
                <a:lnTo>
                  <a:pt x="271" y="9"/>
                </a:lnTo>
                <a:lnTo>
                  <a:pt x="281" y="6"/>
                </a:lnTo>
                <a:lnTo>
                  <a:pt x="304" y="0"/>
                </a:lnTo>
                <a:lnTo>
                  <a:pt x="352" y="0"/>
                </a:lnTo>
                <a:lnTo>
                  <a:pt x="374" y="6"/>
                </a:lnTo>
                <a:lnTo>
                  <a:pt x="392" y="17"/>
                </a:lnTo>
                <a:lnTo>
                  <a:pt x="401" y="25"/>
                </a:lnTo>
                <a:lnTo>
                  <a:pt x="404" y="31"/>
                </a:lnTo>
                <a:lnTo>
                  <a:pt x="405" y="38"/>
                </a:lnTo>
                <a:lnTo>
                  <a:pt x="407" y="45"/>
                </a:lnTo>
                <a:lnTo>
                  <a:pt x="408" y="61"/>
                </a:lnTo>
                <a:lnTo>
                  <a:pt x="411" y="90"/>
                </a:lnTo>
                <a:lnTo>
                  <a:pt x="426" y="102"/>
                </a:lnTo>
                <a:lnTo>
                  <a:pt x="431" y="104"/>
                </a:lnTo>
                <a:lnTo>
                  <a:pt x="445" y="106"/>
                </a:lnTo>
                <a:lnTo>
                  <a:pt x="473" y="106"/>
                </a:lnTo>
                <a:lnTo>
                  <a:pt x="502" y="107"/>
                </a:lnTo>
                <a:lnTo>
                  <a:pt x="511" y="107"/>
                </a:lnTo>
                <a:lnTo>
                  <a:pt x="510" y="110"/>
                </a:lnTo>
                <a:lnTo>
                  <a:pt x="510" y="113"/>
                </a:lnTo>
                <a:lnTo>
                  <a:pt x="510" y="116"/>
                </a:lnTo>
                <a:lnTo>
                  <a:pt x="511" y="117"/>
                </a:lnTo>
                <a:lnTo>
                  <a:pt x="513" y="120"/>
                </a:lnTo>
                <a:lnTo>
                  <a:pt x="516" y="123"/>
                </a:lnTo>
                <a:lnTo>
                  <a:pt x="518" y="131"/>
                </a:lnTo>
                <a:lnTo>
                  <a:pt x="517" y="132"/>
                </a:lnTo>
                <a:lnTo>
                  <a:pt x="511" y="136"/>
                </a:lnTo>
                <a:lnTo>
                  <a:pt x="508" y="142"/>
                </a:lnTo>
                <a:lnTo>
                  <a:pt x="505" y="146"/>
                </a:lnTo>
                <a:lnTo>
                  <a:pt x="504" y="152"/>
                </a:lnTo>
                <a:lnTo>
                  <a:pt x="504" y="157"/>
                </a:lnTo>
                <a:lnTo>
                  <a:pt x="504" y="162"/>
                </a:lnTo>
                <a:lnTo>
                  <a:pt x="508" y="173"/>
                </a:lnTo>
                <a:lnTo>
                  <a:pt x="516" y="181"/>
                </a:lnTo>
                <a:lnTo>
                  <a:pt x="524" y="187"/>
                </a:lnTo>
                <a:lnTo>
                  <a:pt x="526" y="187"/>
                </a:lnTo>
                <a:lnTo>
                  <a:pt x="527" y="190"/>
                </a:lnTo>
                <a:lnTo>
                  <a:pt x="527" y="191"/>
                </a:lnTo>
                <a:lnTo>
                  <a:pt x="529" y="196"/>
                </a:lnTo>
                <a:lnTo>
                  <a:pt x="529" y="202"/>
                </a:lnTo>
                <a:lnTo>
                  <a:pt x="526" y="209"/>
                </a:lnTo>
                <a:lnTo>
                  <a:pt x="526" y="209"/>
                </a:lnTo>
                <a:lnTo>
                  <a:pt x="523" y="212"/>
                </a:lnTo>
                <a:lnTo>
                  <a:pt x="518" y="216"/>
                </a:lnTo>
                <a:lnTo>
                  <a:pt x="508" y="225"/>
                </a:lnTo>
                <a:lnTo>
                  <a:pt x="495" y="229"/>
                </a:lnTo>
                <a:lnTo>
                  <a:pt x="492" y="229"/>
                </a:lnTo>
                <a:lnTo>
                  <a:pt x="494" y="236"/>
                </a:lnTo>
                <a:lnTo>
                  <a:pt x="495" y="248"/>
                </a:lnTo>
                <a:lnTo>
                  <a:pt x="495" y="258"/>
                </a:lnTo>
                <a:lnTo>
                  <a:pt x="491" y="265"/>
                </a:lnTo>
                <a:lnTo>
                  <a:pt x="485" y="274"/>
                </a:lnTo>
                <a:lnTo>
                  <a:pt x="475" y="283"/>
                </a:lnTo>
                <a:lnTo>
                  <a:pt x="471" y="286"/>
                </a:lnTo>
                <a:lnTo>
                  <a:pt x="466" y="290"/>
                </a:lnTo>
                <a:lnTo>
                  <a:pt x="466" y="293"/>
                </a:lnTo>
                <a:lnTo>
                  <a:pt x="466" y="296"/>
                </a:lnTo>
                <a:lnTo>
                  <a:pt x="468" y="299"/>
                </a:lnTo>
                <a:lnTo>
                  <a:pt x="471" y="303"/>
                </a:lnTo>
                <a:lnTo>
                  <a:pt x="479" y="309"/>
                </a:lnTo>
                <a:lnTo>
                  <a:pt x="488" y="316"/>
                </a:lnTo>
                <a:lnTo>
                  <a:pt x="494" y="322"/>
                </a:lnTo>
                <a:lnTo>
                  <a:pt x="495" y="325"/>
                </a:lnTo>
                <a:lnTo>
                  <a:pt x="494" y="333"/>
                </a:lnTo>
                <a:lnTo>
                  <a:pt x="491" y="342"/>
                </a:lnTo>
                <a:lnTo>
                  <a:pt x="487" y="349"/>
                </a:lnTo>
                <a:lnTo>
                  <a:pt x="475" y="365"/>
                </a:lnTo>
                <a:lnTo>
                  <a:pt x="466" y="378"/>
                </a:lnTo>
                <a:lnTo>
                  <a:pt x="463" y="384"/>
                </a:lnTo>
                <a:lnTo>
                  <a:pt x="463" y="390"/>
                </a:lnTo>
                <a:lnTo>
                  <a:pt x="465" y="393"/>
                </a:lnTo>
                <a:lnTo>
                  <a:pt x="466" y="396"/>
                </a:lnTo>
                <a:lnTo>
                  <a:pt x="469" y="399"/>
                </a:lnTo>
                <a:lnTo>
                  <a:pt x="473" y="401"/>
                </a:lnTo>
                <a:lnTo>
                  <a:pt x="485" y="406"/>
                </a:lnTo>
                <a:lnTo>
                  <a:pt x="487" y="406"/>
                </a:lnTo>
                <a:lnTo>
                  <a:pt x="498" y="409"/>
                </a:lnTo>
                <a:lnTo>
                  <a:pt x="511" y="407"/>
                </a:lnTo>
                <a:lnTo>
                  <a:pt x="523" y="403"/>
                </a:lnTo>
                <a:lnTo>
                  <a:pt x="533" y="397"/>
                </a:lnTo>
                <a:lnTo>
                  <a:pt x="543" y="388"/>
                </a:lnTo>
                <a:lnTo>
                  <a:pt x="562" y="367"/>
                </a:lnTo>
                <a:lnTo>
                  <a:pt x="598" y="329"/>
                </a:lnTo>
                <a:lnTo>
                  <a:pt x="608" y="322"/>
                </a:lnTo>
                <a:lnTo>
                  <a:pt x="614" y="320"/>
                </a:lnTo>
                <a:lnTo>
                  <a:pt x="621" y="320"/>
                </a:lnTo>
                <a:lnTo>
                  <a:pt x="629" y="323"/>
                </a:lnTo>
                <a:lnTo>
                  <a:pt x="637" y="328"/>
                </a:lnTo>
                <a:lnTo>
                  <a:pt x="652" y="338"/>
                </a:lnTo>
                <a:lnTo>
                  <a:pt x="684" y="358"/>
                </a:lnTo>
                <a:lnTo>
                  <a:pt x="701" y="361"/>
                </a:lnTo>
                <a:lnTo>
                  <a:pt x="708" y="361"/>
                </a:lnTo>
                <a:lnTo>
                  <a:pt x="714" y="357"/>
                </a:lnTo>
                <a:lnTo>
                  <a:pt x="721" y="352"/>
                </a:lnTo>
                <a:lnTo>
                  <a:pt x="727" y="346"/>
                </a:lnTo>
                <a:lnTo>
                  <a:pt x="739" y="332"/>
                </a:lnTo>
                <a:lnTo>
                  <a:pt x="766" y="304"/>
                </a:lnTo>
                <a:lnTo>
                  <a:pt x="786" y="297"/>
                </a:lnTo>
                <a:lnTo>
                  <a:pt x="794" y="297"/>
                </a:lnTo>
                <a:lnTo>
                  <a:pt x="811" y="299"/>
                </a:lnTo>
                <a:lnTo>
                  <a:pt x="840" y="303"/>
                </a:lnTo>
                <a:lnTo>
                  <a:pt x="866" y="300"/>
                </a:lnTo>
                <a:lnTo>
                  <a:pt x="873" y="297"/>
                </a:lnTo>
                <a:lnTo>
                  <a:pt x="878" y="309"/>
                </a:lnTo>
                <a:lnTo>
                  <a:pt x="889" y="330"/>
                </a:lnTo>
                <a:lnTo>
                  <a:pt x="917" y="368"/>
                </a:lnTo>
                <a:lnTo>
                  <a:pt x="949" y="403"/>
                </a:lnTo>
                <a:lnTo>
                  <a:pt x="957" y="412"/>
                </a:lnTo>
                <a:lnTo>
                  <a:pt x="959" y="415"/>
                </a:lnTo>
                <a:lnTo>
                  <a:pt x="965" y="420"/>
                </a:lnTo>
                <a:lnTo>
                  <a:pt x="975" y="433"/>
                </a:lnTo>
                <a:lnTo>
                  <a:pt x="976" y="441"/>
                </a:lnTo>
                <a:lnTo>
                  <a:pt x="976" y="449"/>
                </a:lnTo>
                <a:lnTo>
                  <a:pt x="976" y="452"/>
                </a:lnTo>
                <a:lnTo>
                  <a:pt x="973" y="458"/>
                </a:lnTo>
                <a:lnTo>
                  <a:pt x="968" y="468"/>
                </a:lnTo>
                <a:lnTo>
                  <a:pt x="959" y="488"/>
                </a:lnTo>
                <a:lnTo>
                  <a:pt x="959" y="499"/>
                </a:lnTo>
                <a:lnTo>
                  <a:pt x="960" y="509"/>
                </a:lnTo>
                <a:lnTo>
                  <a:pt x="963" y="513"/>
                </a:lnTo>
                <a:lnTo>
                  <a:pt x="976" y="536"/>
                </a:lnTo>
                <a:lnTo>
                  <a:pt x="1005" y="581"/>
                </a:lnTo>
                <a:lnTo>
                  <a:pt x="1053" y="672"/>
                </a:lnTo>
                <a:lnTo>
                  <a:pt x="1063" y="722"/>
                </a:lnTo>
                <a:lnTo>
                  <a:pt x="1062" y="772"/>
                </a:lnTo>
                <a:lnTo>
                  <a:pt x="1054" y="800"/>
                </a:lnTo>
                <a:lnTo>
                  <a:pt x="1053" y="801"/>
                </a:lnTo>
                <a:lnTo>
                  <a:pt x="1047" y="807"/>
                </a:lnTo>
                <a:lnTo>
                  <a:pt x="1026" y="827"/>
                </a:lnTo>
                <a:lnTo>
                  <a:pt x="1008" y="843"/>
                </a:lnTo>
                <a:lnTo>
                  <a:pt x="1008" y="843"/>
                </a:lnTo>
                <a:lnTo>
                  <a:pt x="1005" y="842"/>
                </a:lnTo>
                <a:lnTo>
                  <a:pt x="1002" y="838"/>
                </a:lnTo>
                <a:lnTo>
                  <a:pt x="994" y="829"/>
                </a:lnTo>
                <a:lnTo>
                  <a:pt x="986" y="820"/>
                </a:lnTo>
                <a:lnTo>
                  <a:pt x="985" y="819"/>
                </a:lnTo>
                <a:lnTo>
                  <a:pt x="978" y="817"/>
                </a:lnTo>
                <a:lnTo>
                  <a:pt x="972" y="816"/>
                </a:lnTo>
                <a:lnTo>
                  <a:pt x="966" y="816"/>
                </a:lnTo>
                <a:lnTo>
                  <a:pt x="955" y="819"/>
                </a:lnTo>
                <a:lnTo>
                  <a:pt x="943" y="823"/>
                </a:lnTo>
                <a:lnTo>
                  <a:pt x="920" y="836"/>
                </a:lnTo>
                <a:lnTo>
                  <a:pt x="915" y="838"/>
                </a:lnTo>
                <a:lnTo>
                  <a:pt x="910" y="841"/>
                </a:lnTo>
                <a:lnTo>
                  <a:pt x="898" y="842"/>
                </a:lnTo>
                <a:lnTo>
                  <a:pt x="885" y="841"/>
                </a:lnTo>
                <a:lnTo>
                  <a:pt x="859" y="836"/>
                </a:lnTo>
                <a:lnTo>
                  <a:pt x="839" y="835"/>
                </a:lnTo>
                <a:lnTo>
                  <a:pt x="834" y="835"/>
                </a:lnTo>
                <a:lnTo>
                  <a:pt x="827" y="833"/>
                </a:lnTo>
                <a:lnTo>
                  <a:pt x="820" y="829"/>
                </a:lnTo>
                <a:lnTo>
                  <a:pt x="805" y="825"/>
                </a:lnTo>
                <a:lnTo>
                  <a:pt x="797" y="826"/>
                </a:lnTo>
                <a:lnTo>
                  <a:pt x="791" y="830"/>
                </a:lnTo>
                <a:lnTo>
                  <a:pt x="782" y="835"/>
                </a:lnTo>
                <a:lnTo>
                  <a:pt x="766" y="841"/>
                </a:lnTo>
                <a:lnTo>
                  <a:pt x="749" y="845"/>
                </a:lnTo>
                <a:lnTo>
                  <a:pt x="744" y="845"/>
                </a:lnTo>
                <a:lnTo>
                  <a:pt x="740" y="848"/>
                </a:lnTo>
                <a:lnTo>
                  <a:pt x="737" y="849"/>
                </a:lnTo>
                <a:lnTo>
                  <a:pt x="734" y="852"/>
                </a:lnTo>
                <a:lnTo>
                  <a:pt x="731" y="855"/>
                </a:lnTo>
                <a:lnTo>
                  <a:pt x="728" y="862"/>
                </a:lnTo>
                <a:lnTo>
                  <a:pt x="727" y="871"/>
                </a:lnTo>
                <a:lnTo>
                  <a:pt x="723" y="884"/>
                </a:lnTo>
                <a:lnTo>
                  <a:pt x="723" y="884"/>
                </a:lnTo>
                <a:lnTo>
                  <a:pt x="715" y="893"/>
                </a:lnTo>
                <a:lnTo>
                  <a:pt x="701" y="909"/>
                </a:lnTo>
                <a:lnTo>
                  <a:pt x="668" y="935"/>
                </a:lnTo>
                <a:lnTo>
                  <a:pt x="639" y="965"/>
                </a:lnTo>
                <a:lnTo>
                  <a:pt x="634" y="974"/>
                </a:lnTo>
                <a:lnTo>
                  <a:pt x="633" y="977"/>
                </a:lnTo>
                <a:lnTo>
                  <a:pt x="636" y="980"/>
                </a:lnTo>
                <a:lnTo>
                  <a:pt x="637" y="980"/>
                </a:lnTo>
                <a:lnTo>
                  <a:pt x="640" y="981"/>
                </a:lnTo>
                <a:lnTo>
                  <a:pt x="646" y="983"/>
                </a:lnTo>
                <a:lnTo>
                  <a:pt x="655" y="988"/>
                </a:lnTo>
                <a:lnTo>
                  <a:pt x="656" y="990"/>
                </a:lnTo>
                <a:lnTo>
                  <a:pt x="656" y="994"/>
                </a:lnTo>
                <a:lnTo>
                  <a:pt x="656" y="1000"/>
                </a:lnTo>
                <a:lnTo>
                  <a:pt x="658" y="1012"/>
                </a:lnTo>
                <a:lnTo>
                  <a:pt x="655" y="1017"/>
                </a:lnTo>
                <a:lnTo>
                  <a:pt x="652" y="1023"/>
                </a:lnTo>
                <a:lnTo>
                  <a:pt x="649" y="1025"/>
                </a:lnTo>
                <a:lnTo>
                  <a:pt x="659" y="1048"/>
                </a:lnTo>
                <a:lnTo>
                  <a:pt x="676" y="1084"/>
                </a:lnTo>
                <a:lnTo>
                  <a:pt x="691" y="1139"/>
                </a:lnTo>
                <a:lnTo>
                  <a:pt x="692" y="1185"/>
                </a:lnTo>
                <a:lnTo>
                  <a:pt x="694" y="1197"/>
                </a:lnTo>
                <a:lnTo>
                  <a:pt x="692" y="1197"/>
                </a:lnTo>
                <a:lnTo>
                  <a:pt x="688" y="1197"/>
                </a:lnTo>
                <a:lnTo>
                  <a:pt x="686" y="1197"/>
                </a:lnTo>
                <a:lnTo>
                  <a:pt x="686" y="1197"/>
                </a:lnTo>
                <a:lnTo>
                  <a:pt x="681" y="1198"/>
                </a:lnTo>
                <a:lnTo>
                  <a:pt x="673" y="1198"/>
                </a:lnTo>
                <a:lnTo>
                  <a:pt x="659" y="1201"/>
                </a:lnTo>
                <a:lnTo>
                  <a:pt x="650" y="1206"/>
                </a:lnTo>
                <a:lnTo>
                  <a:pt x="649" y="1207"/>
                </a:lnTo>
                <a:lnTo>
                  <a:pt x="649" y="1203"/>
                </a:lnTo>
                <a:lnTo>
                  <a:pt x="650" y="1191"/>
                </a:lnTo>
                <a:lnTo>
                  <a:pt x="649" y="1180"/>
                </a:lnTo>
                <a:lnTo>
                  <a:pt x="642" y="1161"/>
                </a:lnTo>
                <a:lnTo>
                  <a:pt x="636" y="1149"/>
                </a:lnTo>
                <a:lnTo>
                  <a:pt x="630" y="1143"/>
                </a:lnTo>
                <a:lnTo>
                  <a:pt x="621" y="1129"/>
                </a:lnTo>
                <a:lnTo>
                  <a:pt x="605" y="1098"/>
                </a:lnTo>
                <a:lnTo>
                  <a:pt x="591" y="1068"/>
                </a:lnTo>
                <a:lnTo>
                  <a:pt x="588" y="1059"/>
                </a:lnTo>
                <a:lnTo>
                  <a:pt x="581" y="1065"/>
                </a:lnTo>
                <a:lnTo>
                  <a:pt x="575" y="1068"/>
                </a:lnTo>
                <a:lnTo>
                  <a:pt x="569" y="1069"/>
                </a:lnTo>
                <a:lnTo>
                  <a:pt x="565" y="1069"/>
                </a:lnTo>
                <a:lnTo>
                  <a:pt x="559" y="1068"/>
                </a:lnTo>
                <a:lnTo>
                  <a:pt x="555" y="1065"/>
                </a:lnTo>
                <a:lnTo>
                  <a:pt x="546" y="1058"/>
                </a:lnTo>
                <a:lnTo>
                  <a:pt x="527" y="1042"/>
                </a:lnTo>
                <a:lnTo>
                  <a:pt x="527" y="1042"/>
                </a:lnTo>
                <a:lnTo>
                  <a:pt x="527" y="1045"/>
                </a:lnTo>
                <a:lnTo>
                  <a:pt x="527" y="1049"/>
                </a:lnTo>
                <a:lnTo>
                  <a:pt x="526" y="1052"/>
                </a:lnTo>
                <a:lnTo>
                  <a:pt x="524" y="1055"/>
                </a:lnTo>
                <a:lnTo>
                  <a:pt x="521" y="1058"/>
                </a:lnTo>
                <a:lnTo>
                  <a:pt x="518" y="1058"/>
                </a:lnTo>
                <a:lnTo>
                  <a:pt x="518" y="1058"/>
                </a:lnTo>
                <a:lnTo>
                  <a:pt x="514" y="1059"/>
                </a:lnTo>
                <a:lnTo>
                  <a:pt x="505" y="1059"/>
                </a:lnTo>
                <a:lnTo>
                  <a:pt x="491" y="1064"/>
                </a:lnTo>
                <a:lnTo>
                  <a:pt x="478" y="1072"/>
                </a:lnTo>
                <a:lnTo>
                  <a:pt x="475" y="1074"/>
                </a:lnTo>
                <a:lnTo>
                  <a:pt x="469" y="1077"/>
                </a:lnTo>
                <a:lnTo>
                  <a:pt x="463" y="1078"/>
                </a:lnTo>
                <a:lnTo>
                  <a:pt x="456" y="1080"/>
                </a:lnTo>
                <a:lnTo>
                  <a:pt x="450" y="1078"/>
                </a:lnTo>
                <a:lnTo>
                  <a:pt x="440" y="1074"/>
                </a:lnTo>
                <a:lnTo>
                  <a:pt x="433" y="1067"/>
                </a:lnTo>
                <a:lnTo>
                  <a:pt x="431" y="1062"/>
                </a:lnTo>
                <a:lnTo>
                  <a:pt x="430" y="1056"/>
                </a:lnTo>
                <a:lnTo>
                  <a:pt x="431" y="1051"/>
                </a:lnTo>
                <a:lnTo>
                  <a:pt x="433" y="1043"/>
                </a:lnTo>
                <a:lnTo>
                  <a:pt x="434" y="1043"/>
                </a:lnTo>
                <a:lnTo>
                  <a:pt x="436" y="1039"/>
                </a:lnTo>
                <a:lnTo>
                  <a:pt x="442" y="1029"/>
                </a:lnTo>
                <a:lnTo>
                  <a:pt x="452" y="1004"/>
                </a:lnTo>
                <a:lnTo>
                  <a:pt x="453" y="991"/>
                </a:lnTo>
                <a:lnTo>
                  <a:pt x="452" y="980"/>
                </a:lnTo>
                <a:lnTo>
                  <a:pt x="449" y="972"/>
                </a:lnTo>
                <a:lnTo>
                  <a:pt x="442" y="964"/>
                </a:lnTo>
                <a:lnTo>
                  <a:pt x="429" y="951"/>
                </a:lnTo>
                <a:lnTo>
                  <a:pt x="411" y="941"/>
                </a:lnTo>
                <a:lnTo>
                  <a:pt x="392" y="936"/>
                </a:lnTo>
                <a:lnTo>
                  <a:pt x="374" y="936"/>
                </a:lnTo>
                <a:lnTo>
                  <a:pt x="355" y="939"/>
                </a:lnTo>
                <a:lnTo>
                  <a:pt x="346" y="941"/>
                </a:lnTo>
                <a:lnTo>
                  <a:pt x="343" y="942"/>
                </a:lnTo>
                <a:lnTo>
                  <a:pt x="340" y="945"/>
                </a:lnTo>
                <a:lnTo>
                  <a:pt x="339" y="948"/>
                </a:lnTo>
                <a:lnTo>
                  <a:pt x="337" y="951"/>
                </a:lnTo>
                <a:lnTo>
                  <a:pt x="336" y="958"/>
                </a:lnTo>
                <a:lnTo>
                  <a:pt x="336" y="965"/>
                </a:lnTo>
                <a:lnTo>
                  <a:pt x="336" y="981"/>
                </a:lnTo>
                <a:lnTo>
                  <a:pt x="337" y="981"/>
                </a:lnTo>
                <a:lnTo>
                  <a:pt x="339" y="981"/>
                </a:lnTo>
                <a:lnTo>
                  <a:pt x="343" y="981"/>
                </a:lnTo>
                <a:lnTo>
                  <a:pt x="346" y="983"/>
                </a:lnTo>
                <a:lnTo>
                  <a:pt x="349" y="984"/>
                </a:lnTo>
                <a:lnTo>
                  <a:pt x="352" y="985"/>
                </a:lnTo>
                <a:lnTo>
                  <a:pt x="353" y="988"/>
                </a:lnTo>
                <a:lnTo>
                  <a:pt x="355" y="990"/>
                </a:lnTo>
                <a:lnTo>
                  <a:pt x="355" y="993"/>
                </a:lnTo>
                <a:lnTo>
                  <a:pt x="355" y="997"/>
                </a:lnTo>
                <a:lnTo>
                  <a:pt x="355" y="1006"/>
                </a:lnTo>
                <a:lnTo>
                  <a:pt x="355" y="1014"/>
                </a:lnTo>
                <a:lnTo>
                  <a:pt x="355" y="1016"/>
                </a:lnTo>
                <a:lnTo>
                  <a:pt x="352" y="1014"/>
                </a:lnTo>
                <a:lnTo>
                  <a:pt x="349" y="1014"/>
                </a:lnTo>
                <a:lnTo>
                  <a:pt x="347" y="1014"/>
                </a:lnTo>
                <a:lnTo>
                  <a:pt x="346" y="1016"/>
                </a:lnTo>
                <a:lnTo>
                  <a:pt x="346" y="1017"/>
                </a:lnTo>
                <a:lnTo>
                  <a:pt x="345" y="1020"/>
                </a:lnTo>
                <a:lnTo>
                  <a:pt x="343" y="1025"/>
                </a:lnTo>
                <a:lnTo>
                  <a:pt x="342" y="1027"/>
                </a:lnTo>
                <a:lnTo>
                  <a:pt x="337" y="1025"/>
                </a:lnTo>
                <a:lnTo>
                  <a:pt x="337" y="1025"/>
                </a:lnTo>
                <a:lnTo>
                  <a:pt x="337" y="1032"/>
                </a:lnTo>
                <a:lnTo>
                  <a:pt x="340" y="1045"/>
                </a:lnTo>
                <a:lnTo>
                  <a:pt x="346" y="1069"/>
                </a:lnTo>
                <a:lnTo>
                  <a:pt x="346" y="1096"/>
                </a:lnTo>
                <a:lnTo>
                  <a:pt x="345" y="1101"/>
                </a:lnTo>
                <a:lnTo>
                  <a:pt x="337" y="1122"/>
                </a:lnTo>
                <a:lnTo>
                  <a:pt x="326" y="1159"/>
                </a:lnTo>
                <a:lnTo>
                  <a:pt x="304" y="1232"/>
                </a:lnTo>
                <a:lnTo>
                  <a:pt x="274" y="1304"/>
                </a:lnTo>
                <a:lnTo>
                  <a:pt x="263" y="1322"/>
                </a:lnTo>
                <a:lnTo>
                  <a:pt x="258" y="1330"/>
                </a:lnTo>
                <a:lnTo>
                  <a:pt x="247" y="1349"/>
                </a:lnTo>
                <a:lnTo>
                  <a:pt x="233" y="1388"/>
                </a:lnTo>
                <a:lnTo>
                  <a:pt x="232" y="1409"/>
                </a:lnTo>
                <a:lnTo>
                  <a:pt x="234" y="1429"/>
                </a:lnTo>
                <a:lnTo>
                  <a:pt x="239" y="1438"/>
                </a:lnTo>
                <a:lnTo>
                  <a:pt x="239" y="1442"/>
                </a:lnTo>
                <a:lnTo>
                  <a:pt x="240" y="1451"/>
                </a:lnTo>
                <a:lnTo>
                  <a:pt x="239" y="1459"/>
                </a:lnTo>
                <a:lnTo>
                  <a:pt x="239" y="1474"/>
                </a:lnTo>
                <a:lnTo>
                  <a:pt x="243" y="1481"/>
                </a:lnTo>
                <a:lnTo>
                  <a:pt x="250" y="1490"/>
                </a:lnTo>
                <a:lnTo>
                  <a:pt x="265" y="1504"/>
                </a:lnTo>
                <a:lnTo>
                  <a:pt x="295" y="1530"/>
                </a:lnTo>
                <a:lnTo>
                  <a:pt x="326" y="1558"/>
                </a:lnTo>
                <a:lnTo>
                  <a:pt x="334" y="1564"/>
                </a:lnTo>
                <a:lnTo>
                  <a:pt x="336" y="1566"/>
                </a:lnTo>
                <a:lnTo>
                  <a:pt x="336" y="1568"/>
                </a:lnTo>
                <a:lnTo>
                  <a:pt x="336" y="1569"/>
                </a:lnTo>
                <a:lnTo>
                  <a:pt x="336" y="1572"/>
                </a:lnTo>
                <a:lnTo>
                  <a:pt x="336" y="1577"/>
                </a:lnTo>
                <a:lnTo>
                  <a:pt x="333" y="1585"/>
                </a:lnTo>
                <a:lnTo>
                  <a:pt x="333" y="1587"/>
                </a:lnTo>
                <a:lnTo>
                  <a:pt x="332" y="1595"/>
                </a:lnTo>
                <a:lnTo>
                  <a:pt x="332" y="1604"/>
                </a:lnTo>
                <a:lnTo>
                  <a:pt x="334" y="1611"/>
                </a:lnTo>
                <a:lnTo>
                  <a:pt x="339" y="1617"/>
                </a:lnTo>
                <a:lnTo>
                  <a:pt x="343" y="1623"/>
                </a:lnTo>
                <a:lnTo>
                  <a:pt x="355" y="1635"/>
                </a:lnTo>
                <a:lnTo>
                  <a:pt x="375" y="1659"/>
                </a:lnTo>
                <a:lnTo>
                  <a:pt x="379" y="1665"/>
                </a:lnTo>
                <a:lnTo>
                  <a:pt x="379" y="1671"/>
                </a:lnTo>
                <a:lnTo>
                  <a:pt x="379" y="1682"/>
                </a:lnTo>
                <a:lnTo>
                  <a:pt x="378" y="1695"/>
                </a:lnTo>
                <a:lnTo>
                  <a:pt x="375" y="1719"/>
                </a:lnTo>
                <a:lnTo>
                  <a:pt x="378" y="1732"/>
                </a:lnTo>
                <a:lnTo>
                  <a:pt x="382" y="1743"/>
                </a:lnTo>
                <a:lnTo>
                  <a:pt x="392" y="1766"/>
                </a:lnTo>
                <a:lnTo>
                  <a:pt x="424" y="1807"/>
                </a:lnTo>
                <a:lnTo>
                  <a:pt x="465" y="1839"/>
                </a:lnTo>
                <a:lnTo>
                  <a:pt x="478" y="1845"/>
                </a:lnTo>
                <a:lnTo>
                  <a:pt x="482" y="1848"/>
                </a:lnTo>
                <a:lnTo>
                  <a:pt x="487" y="1848"/>
                </a:lnTo>
                <a:lnTo>
                  <a:pt x="492" y="1848"/>
                </a:lnTo>
                <a:lnTo>
                  <a:pt x="497" y="1846"/>
                </a:lnTo>
                <a:lnTo>
                  <a:pt x="505" y="1840"/>
                </a:lnTo>
                <a:lnTo>
                  <a:pt x="526" y="1830"/>
                </a:lnTo>
                <a:lnTo>
                  <a:pt x="537" y="1829"/>
                </a:lnTo>
                <a:lnTo>
                  <a:pt x="536" y="1836"/>
                </a:lnTo>
                <a:lnTo>
                  <a:pt x="537" y="1842"/>
                </a:lnTo>
                <a:lnTo>
                  <a:pt x="540" y="1846"/>
                </a:lnTo>
                <a:lnTo>
                  <a:pt x="543" y="1850"/>
                </a:lnTo>
                <a:lnTo>
                  <a:pt x="550" y="1859"/>
                </a:lnTo>
                <a:lnTo>
                  <a:pt x="558" y="1868"/>
                </a:lnTo>
                <a:lnTo>
                  <a:pt x="562" y="1878"/>
                </a:lnTo>
                <a:lnTo>
                  <a:pt x="562" y="1890"/>
                </a:lnTo>
                <a:lnTo>
                  <a:pt x="562" y="1890"/>
                </a:lnTo>
                <a:lnTo>
                  <a:pt x="566" y="1890"/>
                </a:lnTo>
                <a:lnTo>
                  <a:pt x="576" y="1890"/>
                </a:lnTo>
                <a:lnTo>
                  <a:pt x="585" y="1891"/>
                </a:lnTo>
                <a:lnTo>
                  <a:pt x="592" y="1897"/>
                </a:lnTo>
                <a:lnTo>
                  <a:pt x="598" y="1903"/>
                </a:lnTo>
                <a:lnTo>
                  <a:pt x="602" y="1911"/>
                </a:lnTo>
                <a:lnTo>
                  <a:pt x="604" y="1916"/>
                </a:lnTo>
                <a:lnTo>
                  <a:pt x="601" y="1921"/>
                </a:lnTo>
                <a:lnTo>
                  <a:pt x="601" y="1924"/>
                </a:lnTo>
                <a:lnTo>
                  <a:pt x="601" y="1924"/>
                </a:lnTo>
                <a:lnTo>
                  <a:pt x="600" y="1924"/>
                </a:lnTo>
                <a:lnTo>
                  <a:pt x="597" y="1924"/>
                </a:lnTo>
                <a:lnTo>
                  <a:pt x="592" y="1924"/>
                </a:lnTo>
                <a:lnTo>
                  <a:pt x="588" y="1924"/>
                </a:lnTo>
                <a:lnTo>
                  <a:pt x="588" y="1924"/>
                </a:lnTo>
                <a:lnTo>
                  <a:pt x="588" y="1932"/>
                </a:lnTo>
                <a:lnTo>
                  <a:pt x="585" y="1945"/>
                </a:lnTo>
                <a:lnTo>
                  <a:pt x="581" y="1953"/>
                </a:lnTo>
                <a:lnTo>
                  <a:pt x="572" y="1959"/>
                </a:lnTo>
                <a:lnTo>
                  <a:pt x="562" y="1964"/>
                </a:lnTo>
                <a:lnTo>
                  <a:pt x="550" y="1966"/>
                </a:lnTo>
                <a:lnTo>
                  <a:pt x="544" y="1966"/>
                </a:lnTo>
                <a:lnTo>
                  <a:pt x="544" y="1965"/>
                </a:lnTo>
                <a:lnTo>
                  <a:pt x="544" y="1962"/>
                </a:lnTo>
                <a:lnTo>
                  <a:pt x="544" y="1959"/>
                </a:lnTo>
                <a:lnTo>
                  <a:pt x="543" y="1956"/>
                </a:lnTo>
                <a:lnTo>
                  <a:pt x="540" y="1955"/>
                </a:lnTo>
                <a:lnTo>
                  <a:pt x="537" y="1953"/>
                </a:lnTo>
                <a:lnTo>
                  <a:pt x="537" y="1952"/>
                </a:lnTo>
                <a:lnTo>
                  <a:pt x="529" y="1952"/>
                </a:lnTo>
                <a:lnTo>
                  <a:pt x="523" y="1953"/>
                </a:lnTo>
                <a:lnTo>
                  <a:pt x="518" y="1956"/>
                </a:lnTo>
                <a:lnTo>
                  <a:pt x="516" y="1961"/>
                </a:lnTo>
                <a:lnTo>
                  <a:pt x="513" y="1966"/>
                </a:lnTo>
                <a:lnTo>
                  <a:pt x="511" y="1972"/>
                </a:lnTo>
                <a:lnTo>
                  <a:pt x="508" y="1984"/>
                </a:lnTo>
                <a:lnTo>
                  <a:pt x="504" y="1991"/>
                </a:lnTo>
                <a:lnTo>
                  <a:pt x="494" y="1991"/>
                </a:lnTo>
                <a:lnTo>
                  <a:pt x="494" y="1991"/>
                </a:lnTo>
                <a:lnTo>
                  <a:pt x="489" y="1991"/>
                </a:lnTo>
                <a:lnTo>
                  <a:pt x="484" y="1988"/>
                </a:lnTo>
                <a:lnTo>
                  <a:pt x="478" y="1984"/>
                </a:lnTo>
                <a:lnTo>
                  <a:pt x="468" y="1974"/>
                </a:lnTo>
                <a:lnTo>
                  <a:pt x="459" y="1966"/>
                </a:lnTo>
                <a:lnTo>
                  <a:pt x="466" y="1952"/>
                </a:lnTo>
                <a:lnTo>
                  <a:pt x="471" y="1937"/>
                </a:lnTo>
                <a:lnTo>
                  <a:pt x="472" y="1924"/>
                </a:lnTo>
                <a:lnTo>
                  <a:pt x="469" y="1913"/>
                </a:lnTo>
                <a:lnTo>
                  <a:pt x="463" y="1903"/>
                </a:lnTo>
                <a:lnTo>
                  <a:pt x="455" y="1894"/>
                </a:lnTo>
                <a:lnTo>
                  <a:pt x="445" y="1887"/>
                </a:lnTo>
                <a:lnTo>
                  <a:pt x="421" y="1874"/>
                </a:lnTo>
                <a:lnTo>
                  <a:pt x="394" y="1864"/>
                </a:lnTo>
                <a:lnTo>
                  <a:pt x="381" y="1858"/>
                </a:lnTo>
                <a:lnTo>
                  <a:pt x="378" y="1858"/>
                </a:lnTo>
                <a:lnTo>
                  <a:pt x="372" y="1856"/>
                </a:lnTo>
                <a:lnTo>
                  <a:pt x="368" y="1858"/>
                </a:lnTo>
                <a:lnTo>
                  <a:pt x="365" y="1859"/>
                </a:lnTo>
                <a:lnTo>
                  <a:pt x="362" y="1862"/>
                </a:lnTo>
                <a:lnTo>
                  <a:pt x="359" y="1865"/>
                </a:lnTo>
                <a:lnTo>
                  <a:pt x="359" y="1866"/>
                </a:lnTo>
                <a:lnTo>
                  <a:pt x="358" y="1868"/>
                </a:lnTo>
                <a:lnTo>
                  <a:pt x="356" y="1874"/>
                </a:lnTo>
                <a:lnTo>
                  <a:pt x="349" y="1891"/>
                </a:lnTo>
                <a:lnTo>
                  <a:pt x="343" y="1904"/>
                </a:lnTo>
                <a:lnTo>
                  <a:pt x="343" y="1904"/>
                </a:lnTo>
                <a:lnTo>
                  <a:pt x="340" y="1904"/>
                </a:lnTo>
                <a:lnTo>
                  <a:pt x="337" y="1906"/>
                </a:lnTo>
                <a:lnTo>
                  <a:pt x="334" y="1907"/>
                </a:lnTo>
                <a:lnTo>
                  <a:pt x="326" y="1911"/>
                </a:lnTo>
                <a:lnTo>
                  <a:pt x="316" y="1917"/>
                </a:lnTo>
                <a:lnTo>
                  <a:pt x="304" y="1919"/>
                </a:lnTo>
                <a:lnTo>
                  <a:pt x="292" y="1916"/>
                </a:lnTo>
                <a:lnTo>
                  <a:pt x="288" y="1911"/>
                </a:lnTo>
                <a:lnTo>
                  <a:pt x="288" y="1911"/>
                </a:lnTo>
                <a:close/>
              </a:path>
            </a:pathLst>
          </a:custGeom>
          <a:noFill/>
          <a:ln w="4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2359080" y="4871880"/>
            <a:ext cx="833040" cy="595080"/>
            <a:chOff x="2359080" y="4871880"/>
            <a:chExt cx="833040" cy="595080"/>
          </a:xfrm>
        </p:grpSpPr>
        <p:sp>
          <p:nvSpPr>
            <p:cNvPr id="646" name=""/>
            <p:cNvSpPr/>
            <p:nvPr/>
          </p:nvSpPr>
          <p:spPr>
            <a:xfrm>
              <a:off x="2359080" y="4871880"/>
              <a:ext cx="828720" cy="516240"/>
            </a:xfrm>
            <a:custGeom>
              <a:avLst/>
              <a:gdLst/>
              <a:ahLst/>
              <a:rect l="l" t="t" r="r" b="b"/>
              <a:pathLst>
                <a:path w="2197" h="1744">
                  <a:moveTo>
                    <a:pt x="4" y="889"/>
                  </a:moveTo>
                  <a:lnTo>
                    <a:pt x="3" y="893"/>
                  </a:lnTo>
                  <a:lnTo>
                    <a:pt x="2" y="900"/>
                  </a:lnTo>
                  <a:lnTo>
                    <a:pt x="2" y="906"/>
                  </a:lnTo>
                  <a:lnTo>
                    <a:pt x="2" y="906"/>
                  </a:lnTo>
                  <a:lnTo>
                    <a:pt x="2" y="907"/>
                  </a:lnTo>
                  <a:lnTo>
                    <a:pt x="2" y="909"/>
                  </a:lnTo>
                  <a:lnTo>
                    <a:pt x="3" y="915"/>
                  </a:lnTo>
                  <a:lnTo>
                    <a:pt x="3" y="920"/>
                  </a:lnTo>
                  <a:lnTo>
                    <a:pt x="4" y="920"/>
                  </a:lnTo>
                  <a:lnTo>
                    <a:pt x="6" y="924"/>
                  </a:lnTo>
                  <a:lnTo>
                    <a:pt x="14" y="935"/>
                  </a:lnTo>
                  <a:lnTo>
                    <a:pt x="20" y="943"/>
                  </a:lnTo>
                  <a:lnTo>
                    <a:pt x="21" y="943"/>
                  </a:lnTo>
                  <a:lnTo>
                    <a:pt x="22" y="946"/>
                  </a:lnTo>
                  <a:lnTo>
                    <a:pt x="28" y="955"/>
                  </a:lnTo>
                  <a:lnTo>
                    <a:pt x="33" y="961"/>
                  </a:lnTo>
                  <a:lnTo>
                    <a:pt x="34" y="961"/>
                  </a:lnTo>
                  <a:lnTo>
                    <a:pt x="36" y="966"/>
                  </a:lnTo>
                  <a:lnTo>
                    <a:pt x="37" y="967"/>
                  </a:lnTo>
                  <a:lnTo>
                    <a:pt x="38" y="967"/>
                  </a:lnTo>
                  <a:lnTo>
                    <a:pt x="40" y="971"/>
                  </a:lnTo>
                  <a:lnTo>
                    <a:pt x="41" y="972"/>
                  </a:lnTo>
                  <a:lnTo>
                    <a:pt x="42" y="972"/>
                  </a:lnTo>
                  <a:lnTo>
                    <a:pt x="42" y="973"/>
                  </a:lnTo>
                  <a:lnTo>
                    <a:pt x="42" y="976"/>
                  </a:lnTo>
                  <a:lnTo>
                    <a:pt x="42" y="977"/>
                  </a:lnTo>
                  <a:lnTo>
                    <a:pt x="44" y="977"/>
                  </a:lnTo>
                  <a:lnTo>
                    <a:pt x="45" y="979"/>
                  </a:lnTo>
                  <a:lnTo>
                    <a:pt x="48" y="984"/>
                  </a:lnTo>
                  <a:lnTo>
                    <a:pt x="51" y="988"/>
                  </a:lnTo>
                  <a:lnTo>
                    <a:pt x="52" y="988"/>
                  </a:lnTo>
                  <a:lnTo>
                    <a:pt x="53" y="989"/>
                  </a:lnTo>
                  <a:lnTo>
                    <a:pt x="57" y="992"/>
                  </a:lnTo>
                  <a:lnTo>
                    <a:pt x="59" y="994"/>
                  </a:lnTo>
                  <a:lnTo>
                    <a:pt x="60" y="994"/>
                  </a:lnTo>
                  <a:lnTo>
                    <a:pt x="60" y="995"/>
                  </a:lnTo>
                  <a:lnTo>
                    <a:pt x="60" y="998"/>
                  </a:lnTo>
                  <a:lnTo>
                    <a:pt x="63" y="1005"/>
                  </a:lnTo>
                  <a:lnTo>
                    <a:pt x="64" y="1012"/>
                  </a:lnTo>
                  <a:lnTo>
                    <a:pt x="65" y="1012"/>
                  </a:lnTo>
                  <a:lnTo>
                    <a:pt x="65" y="1014"/>
                  </a:lnTo>
                  <a:lnTo>
                    <a:pt x="64" y="1019"/>
                  </a:lnTo>
                  <a:lnTo>
                    <a:pt x="64" y="1024"/>
                  </a:lnTo>
                  <a:lnTo>
                    <a:pt x="65" y="1024"/>
                  </a:lnTo>
                  <a:lnTo>
                    <a:pt x="64" y="1025"/>
                  </a:lnTo>
                  <a:lnTo>
                    <a:pt x="62" y="1029"/>
                  </a:lnTo>
                  <a:lnTo>
                    <a:pt x="61" y="1033"/>
                  </a:lnTo>
                  <a:lnTo>
                    <a:pt x="61" y="1033"/>
                  </a:lnTo>
                  <a:lnTo>
                    <a:pt x="60" y="1033"/>
                  </a:lnTo>
                  <a:lnTo>
                    <a:pt x="59" y="1033"/>
                  </a:lnTo>
                  <a:lnTo>
                    <a:pt x="56" y="1033"/>
                  </a:lnTo>
                  <a:lnTo>
                    <a:pt x="53" y="1033"/>
                  </a:lnTo>
                  <a:lnTo>
                    <a:pt x="53" y="1033"/>
                  </a:lnTo>
                  <a:lnTo>
                    <a:pt x="51" y="1026"/>
                  </a:lnTo>
                  <a:lnTo>
                    <a:pt x="50" y="1022"/>
                  </a:lnTo>
                  <a:lnTo>
                    <a:pt x="50" y="1021"/>
                  </a:lnTo>
                  <a:lnTo>
                    <a:pt x="49" y="1019"/>
                  </a:lnTo>
                  <a:lnTo>
                    <a:pt x="47" y="1016"/>
                  </a:lnTo>
                  <a:lnTo>
                    <a:pt x="46" y="1014"/>
                  </a:lnTo>
                  <a:lnTo>
                    <a:pt x="46" y="1013"/>
                  </a:lnTo>
                  <a:lnTo>
                    <a:pt x="45" y="1014"/>
                  </a:lnTo>
                  <a:lnTo>
                    <a:pt x="41" y="1018"/>
                  </a:lnTo>
                  <a:lnTo>
                    <a:pt x="40" y="1022"/>
                  </a:lnTo>
                  <a:lnTo>
                    <a:pt x="40" y="1022"/>
                  </a:lnTo>
                  <a:lnTo>
                    <a:pt x="39" y="1021"/>
                  </a:lnTo>
                  <a:lnTo>
                    <a:pt x="37" y="1017"/>
                  </a:lnTo>
                  <a:lnTo>
                    <a:pt x="36" y="1014"/>
                  </a:lnTo>
                  <a:lnTo>
                    <a:pt x="36" y="1013"/>
                  </a:lnTo>
                  <a:lnTo>
                    <a:pt x="35" y="1012"/>
                  </a:lnTo>
                  <a:lnTo>
                    <a:pt x="32" y="1006"/>
                  </a:lnTo>
                  <a:lnTo>
                    <a:pt x="30" y="1002"/>
                  </a:lnTo>
                  <a:lnTo>
                    <a:pt x="30" y="1001"/>
                  </a:lnTo>
                  <a:lnTo>
                    <a:pt x="29" y="1000"/>
                  </a:lnTo>
                  <a:lnTo>
                    <a:pt x="26" y="995"/>
                  </a:lnTo>
                  <a:lnTo>
                    <a:pt x="24" y="992"/>
                  </a:lnTo>
                  <a:lnTo>
                    <a:pt x="24" y="991"/>
                  </a:lnTo>
                  <a:lnTo>
                    <a:pt x="21" y="990"/>
                  </a:lnTo>
                  <a:lnTo>
                    <a:pt x="20" y="989"/>
                  </a:lnTo>
                  <a:lnTo>
                    <a:pt x="20" y="990"/>
                  </a:lnTo>
                  <a:lnTo>
                    <a:pt x="20" y="991"/>
                  </a:lnTo>
                  <a:lnTo>
                    <a:pt x="21" y="995"/>
                  </a:lnTo>
                  <a:lnTo>
                    <a:pt x="21" y="999"/>
                  </a:lnTo>
                  <a:lnTo>
                    <a:pt x="22" y="999"/>
                  </a:lnTo>
                  <a:lnTo>
                    <a:pt x="24" y="1003"/>
                  </a:lnTo>
                  <a:lnTo>
                    <a:pt x="32" y="1016"/>
                  </a:lnTo>
                  <a:lnTo>
                    <a:pt x="37" y="1026"/>
                  </a:lnTo>
                  <a:lnTo>
                    <a:pt x="38" y="1026"/>
                  </a:lnTo>
                  <a:lnTo>
                    <a:pt x="39" y="1027"/>
                  </a:lnTo>
                  <a:lnTo>
                    <a:pt x="44" y="1030"/>
                  </a:lnTo>
                  <a:lnTo>
                    <a:pt x="47" y="1033"/>
                  </a:lnTo>
                  <a:lnTo>
                    <a:pt x="48" y="1033"/>
                  </a:lnTo>
                  <a:lnTo>
                    <a:pt x="48" y="1034"/>
                  </a:lnTo>
                  <a:lnTo>
                    <a:pt x="48" y="1035"/>
                  </a:lnTo>
                  <a:lnTo>
                    <a:pt x="49" y="1039"/>
                  </a:lnTo>
                  <a:lnTo>
                    <a:pt x="50" y="1042"/>
                  </a:lnTo>
                  <a:lnTo>
                    <a:pt x="51" y="1042"/>
                  </a:lnTo>
                  <a:lnTo>
                    <a:pt x="50" y="1043"/>
                  </a:lnTo>
                  <a:lnTo>
                    <a:pt x="48" y="1047"/>
                  </a:lnTo>
                  <a:lnTo>
                    <a:pt x="47" y="1048"/>
                  </a:lnTo>
                  <a:lnTo>
                    <a:pt x="47" y="1048"/>
                  </a:lnTo>
                  <a:lnTo>
                    <a:pt x="46" y="1048"/>
                  </a:lnTo>
                  <a:lnTo>
                    <a:pt x="45" y="1048"/>
                  </a:lnTo>
                  <a:lnTo>
                    <a:pt x="41" y="1048"/>
                  </a:lnTo>
                  <a:lnTo>
                    <a:pt x="39" y="1048"/>
                  </a:lnTo>
                  <a:lnTo>
                    <a:pt x="39" y="1048"/>
                  </a:lnTo>
                  <a:lnTo>
                    <a:pt x="37" y="1045"/>
                  </a:lnTo>
                  <a:lnTo>
                    <a:pt x="36" y="1043"/>
                  </a:lnTo>
                  <a:lnTo>
                    <a:pt x="36" y="1042"/>
                  </a:lnTo>
                  <a:lnTo>
                    <a:pt x="35" y="1043"/>
                  </a:lnTo>
                  <a:lnTo>
                    <a:pt x="34" y="1045"/>
                  </a:lnTo>
                  <a:lnTo>
                    <a:pt x="33" y="1046"/>
                  </a:lnTo>
                  <a:lnTo>
                    <a:pt x="33" y="1046"/>
                  </a:lnTo>
                  <a:lnTo>
                    <a:pt x="30" y="1040"/>
                  </a:lnTo>
                  <a:lnTo>
                    <a:pt x="29" y="1037"/>
                  </a:lnTo>
                  <a:lnTo>
                    <a:pt x="29" y="1036"/>
                  </a:lnTo>
                  <a:lnTo>
                    <a:pt x="26" y="1033"/>
                  </a:lnTo>
                  <a:lnTo>
                    <a:pt x="25" y="1030"/>
                  </a:lnTo>
                  <a:lnTo>
                    <a:pt x="25" y="1029"/>
                  </a:lnTo>
                  <a:lnTo>
                    <a:pt x="24" y="1029"/>
                  </a:lnTo>
                  <a:lnTo>
                    <a:pt x="23" y="1029"/>
                  </a:lnTo>
                  <a:lnTo>
                    <a:pt x="22" y="1029"/>
                  </a:lnTo>
                  <a:lnTo>
                    <a:pt x="22" y="1028"/>
                  </a:lnTo>
                  <a:lnTo>
                    <a:pt x="21" y="1028"/>
                  </a:lnTo>
                  <a:lnTo>
                    <a:pt x="18" y="1028"/>
                  </a:lnTo>
                  <a:lnTo>
                    <a:pt x="17" y="1028"/>
                  </a:lnTo>
                  <a:lnTo>
                    <a:pt x="17" y="1028"/>
                  </a:lnTo>
                  <a:lnTo>
                    <a:pt x="15" y="1026"/>
                  </a:lnTo>
                  <a:lnTo>
                    <a:pt x="14" y="1025"/>
                  </a:lnTo>
                  <a:lnTo>
                    <a:pt x="14" y="1024"/>
                  </a:lnTo>
                  <a:lnTo>
                    <a:pt x="14" y="1025"/>
                  </a:lnTo>
                  <a:lnTo>
                    <a:pt x="13" y="1028"/>
                  </a:lnTo>
                  <a:lnTo>
                    <a:pt x="13" y="1029"/>
                  </a:lnTo>
                  <a:lnTo>
                    <a:pt x="14" y="1029"/>
                  </a:lnTo>
                  <a:lnTo>
                    <a:pt x="15" y="1031"/>
                  </a:lnTo>
                  <a:lnTo>
                    <a:pt x="16" y="1033"/>
                  </a:lnTo>
                  <a:lnTo>
                    <a:pt x="17" y="1037"/>
                  </a:lnTo>
                  <a:lnTo>
                    <a:pt x="18" y="1038"/>
                  </a:lnTo>
                  <a:lnTo>
                    <a:pt x="20" y="1038"/>
                  </a:lnTo>
                  <a:lnTo>
                    <a:pt x="23" y="1041"/>
                  </a:lnTo>
                  <a:lnTo>
                    <a:pt x="25" y="1042"/>
                  </a:lnTo>
                  <a:lnTo>
                    <a:pt x="26" y="1042"/>
                  </a:lnTo>
                  <a:lnTo>
                    <a:pt x="28" y="1048"/>
                  </a:lnTo>
                  <a:lnTo>
                    <a:pt x="29" y="1050"/>
                  </a:lnTo>
                  <a:lnTo>
                    <a:pt x="30" y="1050"/>
                  </a:lnTo>
                  <a:lnTo>
                    <a:pt x="32" y="1052"/>
                  </a:lnTo>
                  <a:lnTo>
                    <a:pt x="35" y="1056"/>
                  </a:lnTo>
                  <a:lnTo>
                    <a:pt x="37" y="1058"/>
                  </a:lnTo>
                  <a:lnTo>
                    <a:pt x="38" y="1058"/>
                  </a:lnTo>
                  <a:lnTo>
                    <a:pt x="39" y="1060"/>
                  </a:lnTo>
                  <a:lnTo>
                    <a:pt x="44" y="1064"/>
                  </a:lnTo>
                  <a:lnTo>
                    <a:pt x="47" y="1068"/>
                  </a:lnTo>
                  <a:lnTo>
                    <a:pt x="48" y="1068"/>
                  </a:lnTo>
                  <a:lnTo>
                    <a:pt x="50" y="1069"/>
                  </a:lnTo>
                  <a:lnTo>
                    <a:pt x="57" y="1072"/>
                  </a:lnTo>
                  <a:lnTo>
                    <a:pt x="61" y="1073"/>
                  </a:lnTo>
                  <a:lnTo>
                    <a:pt x="62" y="1073"/>
                  </a:lnTo>
                  <a:lnTo>
                    <a:pt x="62" y="1074"/>
                  </a:lnTo>
                  <a:lnTo>
                    <a:pt x="63" y="1076"/>
                  </a:lnTo>
                  <a:lnTo>
                    <a:pt x="67" y="1085"/>
                  </a:lnTo>
                  <a:lnTo>
                    <a:pt x="69" y="1092"/>
                  </a:lnTo>
                  <a:lnTo>
                    <a:pt x="70" y="1092"/>
                  </a:lnTo>
                  <a:lnTo>
                    <a:pt x="71" y="1095"/>
                  </a:lnTo>
                  <a:lnTo>
                    <a:pt x="75" y="1101"/>
                  </a:lnTo>
                  <a:lnTo>
                    <a:pt x="79" y="1106"/>
                  </a:lnTo>
                  <a:lnTo>
                    <a:pt x="80" y="1106"/>
                  </a:lnTo>
                  <a:lnTo>
                    <a:pt x="80" y="1107"/>
                  </a:lnTo>
                  <a:lnTo>
                    <a:pt x="80" y="1109"/>
                  </a:lnTo>
                  <a:lnTo>
                    <a:pt x="83" y="1119"/>
                  </a:lnTo>
                  <a:lnTo>
                    <a:pt x="84" y="1127"/>
                  </a:lnTo>
                  <a:lnTo>
                    <a:pt x="85" y="1127"/>
                  </a:lnTo>
                  <a:lnTo>
                    <a:pt x="87" y="1130"/>
                  </a:lnTo>
                  <a:lnTo>
                    <a:pt x="94" y="1140"/>
                  </a:lnTo>
                  <a:lnTo>
                    <a:pt x="98" y="1146"/>
                  </a:lnTo>
                  <a:lnTo>
                    <a:pt x="99" y="1146"/>
                  </a:lnTo>
                  <a:lnTo>
                    <a:pt x="100" y="1149"/>
                  </a:lnTo>
                  <a:lnTo>
                    <a:pt x="106" y="1154"/>
                  </a:lnTo>
                  <a:lnTo>
                    <a:pt x="110" y="1158"/>
                  </a:lnTo>
                  <a:lnTo>
                    <a:pt x="111" y="1158"/>
                  </a:lnTo>
                  <a:lnTo>
                    <a:pt x="111" y="1159"/>
                  </a:lnTo>
                  <a:lnTo>
                    <a:pt x="111" y="1162"/>
                  </a:lnTo>
                  <a:lnTo>
                    <a:pt x="114" y="1168"/>
                  </a:lnTo>
                  <a:lnTo>
                    <a:pt x="115" y="1173"/>
                  </a:lnTo>
                  <a:lnTo>
                    <a:pt x="116" y="1173"/>
                  </a:lnTo>
                  <a:lnTo>
                    <a:pt x="117" y="1175"/>
                  </a:lnTo>
                  <a:lnTo>
                    <a:pt x="122" y="1180"/>
                  </a:lnTo>
                  <a:lnTo>
                    <a:pt x="126" y="1184"/>
                  </a:lnTo>
                  <a:lnTo>
                    <a:pt x="127" y="1184"/>
                  </a:lnTo>
                  <a:lnTo>
                    <a:pt x="130" y="1189"/>
                  </a:lnTo>
                  <a:lnTo>
                    <a:pt x="132" y="1191"/>
                  </a:lnTo>
                  <a:lnTo>
                    <a:pt x="133" y="1191"/>
                  </a:lnTo>
                  <a:lnTo>
                    <a:pt x="135" y="1196"/>
                  </a:lnTo>
                  <a:lnTo>
                    <a:pt x="136" y="1197"/>
                  </a:lnTo>
                  <a:lnTo>
                    <a:pt x="138" y="1197"/>
                  </a:lnTo>
                  <a:lnTo>
                    <a:pt x="138" y="1198"/>
                  </a:lnTo>
                  <a:lnTo>
                    <a:pt x="138" y="1199"/>
                  </a:lnTo>
                  <a:lnTo>
                    <a:pt x="140" y="1204"/>
                  </a:lnTo>
                  <a:lnTo>
                    <a:pt x="141" y="1208"/>
                  </a:lnTo>
                  <a:lnTo>
                    <a:pt x="142" y="1208"/>
                  </a:lnTo>
                  <a:lnTo>
                    <a:pt x="142" y="1209"/>
                  </a:lnTo>
                  <a:lnTo>
                    <a:pt x="142" y="1213"/>
                  </a:lnTo>
                  <a:lnTo>
                    <a:pt x="145" y="1227"/>
                  </a:lnTo>
                  <a:lnTo>
                    <a:pt x="146" y="1238"/>
                  </a:lnTo>
                  <a:lnTo>
                    <a:pt x="147" y="1238"/>
                  </a:lnTo>
                  <a:lnTo>
                    <a:pt x="147" y="1239"/>
                  </a:lnTo>
                  <a:lnTo>
                    <a:pt x="149" y="1243"/>
                  </a:lnTo>
                  <a:lnTo>
                    <a:pt x="152" y="1254"/>
                  </a:lnTo>
                  <a:lnTo>
                    <a:pt x="154" y="1262"/>
                  </a:lnTo>
                  <a:lnTo>
                    <a:pt x="155" y="1262"/>
                  </a:lnTo>
                  <a:lnTo>
                    <a:pt x="156" y="1266"/>
                  </a:lnTo>
                  <a:lnTo>
                    <a:pt x="161" y="1272"/>
                  </a:lnTo>
                  <a:lnTo>
                    <a:pt x="164" y="1278"/>
                  </a:lnTo>
                  <a:lnTo>
                    <a:pt x="165" y="1278"/>
                  </a:lnTo>
                  <a:lnTo>
                    <a:pt x="166" y="1280"/>
                  </a:lnTo>
                  <a:lnTo>
                    <a:pt x="169" y="1284"/>
                  </a:lnTo>
                  <a:lnTo>
                    <a:pt x="171" y="1287"/>
                  </a:lnTo>
                  <a:lnTo>
                    <a:pt x="173" y="1287"/>
                  </a:lnTo>
                  <a:lnTo>
                    <a:pt x="176" y="1292"/>
                  </a:lnTo>
                  <a:lnTo>
                    <a:pt x="178" y="1293"/>
                  </a:lnTo>
                  <a:lnTo>
                    <a:pt x="179" y="1293"/>
                  </a:lnTo>
                  <a:lnTo>
                    <a:pt x="181" y="1299"/>
                  </a:lnTo>
                  <a:lnTo>
                    <a:pt x="182" y="1303"/>
                  </a:lnTo>
                  <a:lnTo>
                    <a:pt x="184" y="1303"/>
                  </a:lnTo>
                  <a:lnTo>
                    <a:pt x="185" y="1305"/>
                  </a:lnTo>
                  <a:lnTo>
                    <a:pt x="188" y="1311"/>
                  </a:lnTo>
                  <a:lnTo>
                    <a:pt x="190" y="1316"/>
                  </a:lnTo>
                  <a:lnTo>
                    <a:pt x="191" y="1316"/>
                  </a:lnTo>
                  <a:lnTo>
                    <a:pt x="193" y="1319"/>
                  </a:lnTo>
                  <a:lnTo>
                    <a:pt x="200" y="1329"/>
                  </a:lnTo>
                  <a:lnTo>
                    <a:pt x="204" y="1337"/>
                  </a:lnTo>
                  <a:lnTo>
                    <a:pt x="205" y="1337"/>
                  </a:lnTo>
                  <a:lnTo>
                    <a:pt x="205" y="1338"/>
                  </a:lnTo>
                  <a:lnTo>
                    <a:pt x="205" y="1339"/>
                  </a:lnTo>
                  <a:lnTo>
                    <a:pt x="208" y="1345"/>
                  </a:lnTo>
                  <a:lnTo>
                    <a:pt x="209" y="1350"/>
                  </a:lnTo>
                  <a:lnTo>
                    <a:pt x="210" y="1350"/>
                  </a:lnTo>
                  <a:lnTo>
                    <a:pt x="210" y="1351"/>
                  </a:lnTo>
                  <a:lnTo>
                    <a:pt x="210" y="1353"/>
                  </a:lnTo>
                  <a:lnTo>
                    <a:pt x="210" y="1361"/>
                  </a:lnTo>
                  <a:lnTo>
                    <a:pt x="210" y="1366"/>
                  </a:lnTo>
                  <a:lnTo>
                    <a:pt x="211" y="1366"/>
                  </a:lnTo>
                  <a:lnTo>
                    <a:pt x="211" y="1367"/>
                  </a:lnTo>
                  <a:lnTo>
                    <a:pt x="211" y="1368"/>
                  </a:lnTo>
                  <a:lnTo>
                    <a:pt x="211" y="1372"/>
                  </a:lnTo>
                  <a:lnTo>
                    <a:pt x="211" y="1375"/>
                  </a:lnTo>
                  <a:lnTo>
                    <a:pt x="212" y="1375"/>
                  </a:lnTo>
                  <a:lnTo>
                    <a:pt x="212" y="1376"/>
                  </a:lnTo>
                  <a:lnTo>
                    <a:pt x="212" y="1377"/>
                  </a:lnTo>
                  <a:lnTo>
                    <a:pt x="213" y="1382"/>
                  </a:lnTo>
                  <a:lnTo>
                    <a:pt x="214" y="1385"/>
                  </a:lnTo>
                  <a:lnTo>
                    <a:pt x="215" y="1385"/>
                  </a:lnTo>
                  <a:lnTo>
                    <a:pt x="215" y="1387"/>
                  </a:lnTo>
                  <a:lnTo>
                    <a:pt x="214" y="1392"/>
                  </a:lnTo>
                  <a:lnTo>
                    <a:pt x="214" y="1396"/>
                  </a:lnTo>
                  <a:lnTo>
                    <a:pt x="215" y="1396"/>
                  </a:lnTo>
                  <a:lnTo>
                    <a:pt x="213" y="1394"/>
                  </a:lnTo>
                  <a:lnTo>
                    <a:pt x="212" y="1392"/>
                  </a:lnTo>
                  <a:lnTo>
                    <a:pt x="212" y="1391"/>
                  </a:lnTo>
                  <a:lnTo>
                    <a:pt x="212" y="1392"/>
                  </a:lnTo>
                  <a:lnTo>
                    <a:pt x="212" y="1394"/>
                  </a:lnTo>
                  <a:lnTo>
                    <a:pt x="213" y="1399"/>
                  </a:lnTo>
                  <a:lnTo>
                    <a:pt x="213" y="1403"/>
                  </a:lnTo>
                  <a:lnTo>
                    <a:pt x="214" y="1403"/>
                  </a:lnTo>
                  <a:lnTo>
                    <a:pt x="217" y="1411"/>
                  </a:lnTo>
                  <a:lnTo>
                    <a:pt x="218" y="1415"/>
                  </a:lnTo>
                  <a:lnTo>
                    <a:pt x="220" y="1415"/>
                  </a:lnTo>
                  <a:lnTo>
                    <a:pt x="220" y="1417"/>
                  </a:lnTo>
                  <a:lnTo>
                    <a:pt x="220" y="1418"/>
                  </a:lnTo>
                  <a:lnTo>
                    <a:pt x="221" y="1421"/>
                  </a:lnTo>
                  <a:lnTo>
                    <a:pt x="221" y="1424"/>
                  </a:lnTo>
                  <a:lnTo>
                    <a:pt x="222" y="1424"/>
                  </a:lnTo>
                  <a:lnTo>
                    <a:pt x="221" y="1426"/>
                  </a:lnTo>
                  <a:lnTo>
                    <a:pt x="220" y="1433"/>
                  </a:lnTo>
                  <a:lnTo>
                    <a:pt x="218" y="1437"/>
                  </a:lnTo>
                  <a:lnTo>
                    <a:pt x="218" y="1437"/>
                  </a:lnTo>
                  <a:lnTo>
                    <a:pt x="217" y="1441"/>
                  </a:lnTo>
                  <a:lnTo>
                    <a:pt x="214" y="1448"/>
                  </a:lnTo>
                  <a:lnTo>
                    <a:pt x="212" y="1455"/>
                  </a:lnTo>
                  <a:lnTo>
                    <a:pt x="212" y="1455"/>
                  </a:lnTo>
                  <a:lnTo>
                    <a:pt x="210" y="1456"/>
                  </a:lnTo>
                  <a:lnTo>
                    <a:pt x="206" y="1457"/>
                  </a:lnTo>
                  <a:lnTo>
                    <a:pt x="203" y="1457"/>
                  </a:lnTo>
                  <a:lnTo>
                    <a:pt x="203" y="1457"/>
                  </a:lnTo>
                  <a:lnTo>
                    <a:pt x="202" y="1457"/>
                  </a:lnTo>
                  <a:lnTo>
                    <a:pt x="201" y="1457"/>
                  </a:lnTo>
                  <a:lnTo>
                    <a:pt x="198" y="1457"/>
                  </a:lnTo>
                  <a:lnTo>
                    <a:pt x="196" y="1457"/>
                  </a:lnTo>
                  <a:lnTo>
                    <a:pt x="196" y="1456"/>
                  </a:lnTo>
                  <a:lnTo>
                    <a:pt x="194" y="1455"/>
                  </a:lnTo>
                  <a:lnTo>
                    <a:pt x="193" y="1455"/>
                  </a:lnTo>
                  <a:lnTo>
                    <a:pt x="193" y="1455"/>
                  </a:lnTo>
                  <a:lnTo>
                    <a:pt x="193" y="1456"/>
                  </a:lnTo>
                  <a:lnTo>
                    <a:pt x="193" y="1457"/>
                  </a:lnTo>
                  <a:lnTo>
                    <a:pt x="194" y="1462"/>
                  </a:lnTo>
                  <a:lnTo>
                    <a:pt x="194" y="1467"/>
                  </a:lnTo>
                  <a:lnTo>
                    <a:pt x="196" y="1467"/>
                  </a:lnTo>
                  <a:lnTo>
                    <a:pt x="196" y="1468"/>
                  </a:lnTo>
                  <a:lnTo>
                    <a:pt x="196" y="1471"/>
                  </a:lnTo>
                  <a:lnTo>
                    <a:pt x="199" y="1484"/>
                  </a:lnTo>
                  <a:lnTo>
                    <a:pt x="201" y="1494"/>
                  </a:lnTo>
                  <a:lnTo>
                    <a:pt x="202" y="1494"/>
                  </a:lnTo>
                  <a:lnTo>
                    <a:pt x="203" y="1494"/>
                  </a:lnTo>
                  <a:lnTo>
                    <a:pt x="209" y="1494"/>
                  </a:lnTo>
                  <a:lnTo>
                    <a:pt x="213" y="1494"/>
                  </a:lnTo>
                  <a:lnTo>
                    <a:pt x="214" y="1494"/>
                  </a:lnTo>
                  <a:lnTo>
                    <a:pt x="220" y="1496"/>
                  </a:lnTo>
                  <a:lnTo>
                    <a:pt x="223" y="1497"/>
                  </a:lnTo>
                  <a:lnTo>
                    <a:pt x="224" y="1497"/>
                  </a:lnTo>
                  <a:lnTo>
                    <a:pt x="225" y="1499"/>
                  </a:lnTo>
                  <a:lnTo>
                    <a:pt x="231" y="1502"/>
                  </a:lnTo>
                  <a:lnTo>
                    <a:pt x="234" y="1504"/>
                  </a:lnTo>
                  <a:lnTo>
                    <a:pt x="235" y="1504"/>
                  </a:lnTo>
                  <a:lnTo>
                    <a:pt x="236" y="1506"/>
                  </a:lnTo>
                  <a:lnTo>
                    <a:pt x="239" y="1509"/>
                  </a:lnTo>
                  <a:lnTo>
                    <a:pt x="243" y="1512"/>
                  </a:lnTo>
                  <a:lnTo>
                    <a:pt x="244" y="1512"/>
                  </a:lnTo>
                  <a:lnTo>
                    <a:pt x="246" y="1514"/>
                  </a:lnTo>
                  <a:lnTo>
                    <a:pt x="253" y="1519"/>
                  </a:lnTo>
                  <a:lnTo>
                    <a:pt x="259" y="1523"/>
                  </a:lnTo>
                  <a:lnTo>
                    <a:pt x="260" y="1523"/>
                  </a:lnTo>
                  <a:lnTo>
                    <a:pt x="261" y="1523"/>
                  </a:lnTo>
                  <a:lnTo>
                    <a:pt x="264" y="1523"/>
                  </a:lnTo>
                  <a:lnTo>
                    <a:pt x="268" y="1523"/>
                  </a:lnTo>
                  <a:lnTo>
                    <a:pt x="269" y="1522"/>
                  </a:lnTo>
                  <a:lnTo>
                    <a:pt x="270" y="1523"/>
                  </a:lnTo>
                  <a:lnTo>
                    <a:pt x="273" y="1524"/>
                  </a:lnTo>
                  <a:lnTo>
                    <a:pt x="275" y="1525"/>
                  </a:lnTo>
                  <a:lnTo>
                    <a:pt x="276" y="1525"/>
                  </a:lnTo>
                  <a:lnTo>
                    <a:pt x="278" y="1525"/>
                  </a:lnTo>
                  <a:lnTo>
                    <a:pt x="279" y="1525"/>
                  </a:lnTo>
                  <a:lnTo>
                    <a:pt x="281" y="1527"/>
                  </a:lnTo>
                  <a:lnTo>
                    <a:pt x="282" y="1527"/>
                  </a:lnTo>
                  <a:lnTo>
                    <a:pt x="284" y="1529"/>
                  </a:lnTo>
                  <a:lnTo>
                    <a:pt x="285" y="1529"/>
                  </a:lnTo>
                  <a:lnTo>
                    <a:pt x="287" y="1530"/>
                  </a:lnTo>
                  <a:lnTo>
                    <a:pt x="294" y="1530"/>
                  </a:lnTo>
                  <a:lnTo>
                    <a:pt x="298" y="1530"/>
                  </a:lnTo>
                  <a:lnTo>
                    <a:pt x="299" y="1530"/>
                  </a:lnTo>
                  <a:lnTo>
                    <a:pt x="300" y="1530"/>
                  </a:lnTo>
                  <a:lnTo>
                    <a:pt x="307" y="1529"/>
                  </a:lnTo>
                  <a:lnTo>
                    <a:pt x="311" y="1529"/>
                  </a:lnTo>
                  <a:lnTo>
                    <a:pt x="313" y="1528"/>
                  </a:lnTo>
                  <a:lnTo>
                    <a:pt x="314" y="1528"/>
                  </a:lnTo>
                  <a:lnTo>
                    <a:pt x="319" y="1527"/>
                  </a:lnTo>
                  <a:lnTo>
                    <a:pt x="323" y="1526"/>
                  </a:lnTo>
                  <a:lnTo>
                    <a:pt x="325" y="1525"/>
                  </a:lnTo>
                  <a:lnTo>
                    <a:pt x="327" y="1525"/>
                  </a:lnTo>
                  <a:lnTo>
                    <a:pt x="328" y="1525"/>
                  </a:lnTo>
                  <a:lnTo>
                    <a:pt x="329" y="1525"/>
                  </a:lnTo>
                  <a:lnTo>
                    <a:pt x="330" y="1526"/>
                  </a:lnTo>
                  <a:lnTo>
                    <a:pt x="333" y="1529"/>
                  </a:lnTo>
                  <a:lnTo>
                    <a:pt x="335" y="1530"/>
                  </a:lnTo>
                  <a:lnTo>
                    <a:pt x="337" y="1530"/>
                  </a:lnTo>
                  <a:lnTo>
                    <a:pt x="340" y="1528"/>
                  </a:lnTo>
                  <a:lnTo>
                    <a:pt x="342" y="1527"/>
                  </a:lnTo>
                  <a:lnTo>
                    <a:pt x="343" y="1526"/>
                  </a:lnTo>
                  <a:lnTo>
                    <a:pt x="346" y="1528"/>
                  </a:lnTo>
                  <a:lnTo>
                    <a:pt x="349" y="1528"/>
                  </a:lnTo>
                  <a:lnTo>
                    <a:pt x="350" y="1528"/>
                  </a:lnTo>
                  <a:lnTo>
                    <a:pt x="350" y="1527"/>
                  </a:lnTo>
                  <a:lnTo>
                    <a:pt x="349" y="1523"/>
                  </a:lnTo>
                  <a:lnTo>
                    <a:pt x="349" y="1519"/>
                  </a:lnTo>
                  <a:lnTo>
                    <a:pt x="350" y="1518"/>
                  </a:lnTo>
                  <a:lnTo>
                    <a:pt x="355" y="1520"/>
                  </a:lnTo>
                  <a:lnTo>
                    <a:pt x="358" y="1522"/>
                  </a:lnTo>
                  <a:lnTo>
                    <a:pt x="360" y="1522"/>
                  </a:lnTo>
                  <a:lnTo>
                    <a:pt x="363" y="1519"/>
                  </a:lnTo>
                  <a:lnTo>
                    <a:pt x="365" y="1518"/>
                  </a:lnTo>
                  <a:lnTo>
                    <a:pt x="366" y="1517"/>
                  </a:lnTo>
                  <a:lnTo>
                    <a:pt x="369" y="1514"/>
                  </a:lnTo>
                  <a:lnTo>
                    <a:pt x="372" y="1513"/>
                  </a:lnTo>
                  <a:lnTo>
                    <a:pt x="373" y="1512"/>
                  </a:lnTo>
                  <a:lnTo>
                    <a:pt x="374" y="1508"/>
                  </a:lnTo>
                  <a:lnTo>
                    <a:pt x="375" y="1506"/>
                  </a:lnTo>
                  <a:lnTo>
                    <a:pt x="376" y="1505"/>
                  </a:lnTo>
                  <a:lnTo>
                    <a:pt x="379" y="1499"/>
                  </a:lnTo>
                  <a:lnTo>
                    <a:pt x="381" y="1495"/>
                  </a:lnTo>
                  <a:lnTo>
                    <a:pt x="382" y="1494"/>
                  </a:lnTo>
                  <a:lnTo>
                    <a:pt x="387" y="1491"/>
                  </a:lnTo>
                  <a:lnTo>
                    <a:pt x="389" y="1490"/>
                  </a:lnTo>
                  <a:lnTo>
                    <a:pt x="390" y="1489"/>
                  </a:lnTo>
                  <a:lnTo>
                    <a:pt x="392" y="1485"/>
                  </a:lnTo>
                  <a:lnTo>
                    <a:pt x="393" y="1484"/>
                  </a:lnTo>
                  <a:lnTo>
                    <a:pt x="394" y="1483"/>
                  </a:lnTo>
                  <a:lnTo>
                    <a:pt x="397" y="1483"/>
                  </a:lnTo>
                  <a:lnTo>
                    <a:pt x="403" y="1482"/>
                  </a:lnTo>
                  <a:lnTo>
                    <a:pt x="409" y="1482"/>
                  </a:lnTo>
                  <a:lnTo>
                    <a:pt x="410" y="1481"/>
                  </a:lnTo>
                  <a:lnTo>
                    <a:pt x="415" y="1479"/>
                  </a:lnTo>
                  <a:lnTo>
                    <a:pt x="419" y="1478"/>
                  </a:lnTo>
                  <a:lnTo>
                    <a:pt x="420" y="1477"/>
                  </a:lnTo>
                  <a:lnTo>
                    <a:pt x="422" y="1473"/>
                  </a:lnTo>
                  <a:lnTo>
                    <a:pt x="423" y="1471"/>
                  </a:lnTo>
                  <a:lnTo>
                    <a:pt x="424" y="1470"/>
                  </a:lnTo>
                  <a:lnTo>
                    <a:pt x="426" y="1469"/>
                  </a:lnTo>
                  <a:lnTo>
                    <a:pt x="424" y="1467"/>
                  </a:lnTo>
                  <a:lnTo>
                    <a:pt x="424" y="1465"/>
                  </a:lnTo>
                  <a:lnTo>
                    <a:pt x="425" y="1460"/>
                  </a:lnTo>
                  <a:lnTo>
                    <a:pt x="426" y="1458"/>
                  </a:lnTo>
                  <a:lnTo>
                    <a:pt x="427" y="1457"/>
                  </a:lnTo>
                  <a:lnTo>
                    <a:pt x="428" y="1456"/>
                  </a:lnTo>
                  <a:lnTo>
                    <a:pt x="432" y="1453"/>
                  </a:lnTo>
                  <a:lnTo>
                    <a:pt x="434" y="1450"/>
                  </a:lnTo>
                  <a:lnTo>
                    <a:pt x="435" y="1449"/>
                  </a:lnTo>
                  <a:lnTo>
                    <a:pt x="440" y="1446"/>
                  </a:lnTo>
                  <a:lnTo>
                    <a:pt x="444" y="1445"/>
                  </a:lnTo>
                  <a:lnTo>
                    <a:pt x="445" y="1444"/>
                  </a:lnTo>
                  <a:lnTo>
                    <a:pt x="448" y="1444"/>
                  </a:lnTo>
                  <a:lnTo>
                    <a:pt x="460" y="1443"/>
                  </a:lnTo>
                  <a:lnTo>
                    <a:pt x="469" y="1443"/>
                  </a:lnTo>
                  <a:lnTo>
                    <a:pt x="470" y="1442"/>
                  </a:lnTo>
                  <a:lnTo>
                    <a:pt x="472" y="1442"/>
                  </a:lnTo>
                  <a:lnTo>
                    <a:pt x="479" y="1442"/>
                  </a:lnTo>
                  <a:lnTo>
                    <a:pt x="483" y="1442"/>
                  </a:lnTo>
                  <a:lnTo>
                    <a:pt x="484" y="1441"/>
                  </a:lnTo>
                  <a:lnTo>
                    <a:pt x="486" y="1439"/>
                  </a:lnTo>
                  <a:lnTo>
                    <a:pt x="493" y="1436"/>
                  </a:lnTo>
                  <a:lnTo>
                    <a:pt x="497" y="1433"/>
                  </a:lnTo>
                  <a:lnTo>
                    <a:pt x="498" y="1432"/>
                  </a:lnTo>
                  <a:lnTo>
                    <a:pt x="499" y="1432"/>
                  </a:lnTo>
                  <a:lnTo>
                    <a:pt x="505" y="1432"/>
                  </a:lnTo>
                  <a:lnTo>
                    <a:pt x="508" y="1432"/>
                  </a:lnTo>
                  <a:lnTo>
                    <a:pt x="509" y="1431"/>
                  </a:lnTo>
                  <a:lnTo>
                    <a:pt x="511" y="1432"/>
                  </a:lnTo>
                  <a:lnTo>
                    <a:pt x="519" y="1433"/>
                  </a:lnTo>
                  <a:lnTo>
                    <a:pt x="525" y="1433"/>
                  </a:lnTo>
                  <a:lnTo>
                    <a:pt x="526" y="1433"/>
                  </a:lnTo>
                  <a:lnTo>
                    <a:pt x="528" y="1433"/>
                  </a:lnTo>
                  <a:lnTo>
                    <a:pt x="534" y="1432"/>
                  </a:lnTo>
                  <a:lnTo>
                    <a:pt x="539" y="1431"/>
                  </a:lnTo>
                  <a:lnTo>
                    <a:pt x="540" y="1430"/>
                  </a:lnTo>
                  <a:lnTo>
                    <a:pt x="543" y="1429"/>
                  </a:lnTo>
                  <a:lnTo>
                    <a:pt x="544" y="1427"/>
                  </a:lnTo>
                  <a:lnTo>
                    <a:pt x="545" y="1426"/>
                  </a:lnTo>
                  <a:lnTo>
                    <a:pt x="548" y="1429"/>
                  </a:lnTo>
                  <a:lnTo>
                    <a:pt x="550" y="1429"/>
                  </a:lnTo>
                  <a:lnTo>
                    <a:pt x="553" y="1433"/>
                  </a:lnTo>
                  <a:lnTo>
                    <a:pt x="554" y="1434"/>
                  </a:lnTo>
                  <a:lnTo>
                    <a:pt x="555" y="1434"/>
                  </a:lnTo>
                  <a:lnTo>
                    <a:pt x="556" y="1434"/>
                  </a:lnTo>
                  <a:lnTo>
                    <a:pt x="561" y="1433"/>
                  </a:lnTo>
                  <a:lnTo>
                    <a:pt x="564" y="1432"/>
                  </a:lnTo>
                  <a:lnTo>
                    <a:pt x="565" y="1431"/>
                  </a:lnTo>
                  <a:lnTo>
                    <a:pt x="566" y="1431"/>
                  </a:lnTo>
                  <a:lnTo>
                    <a:pt x="572" y="1430"/>
                  </a:lnTo>
                  <a:lnTo>
                    <a:pt x="575" y="1429"/>
                  </a:lnTo>
                  <a:lnTo>
                    <a:pt x="576" y="1427"/>
                  </a:lnTo>
                  <a:lnTo>
                    <a:pt x="577" y="1427"/>
                  </a:lnTo>
                  <a:lnTo>
                    <a:pt x="580" y="1426"/>
                  </a:lnTo>
                  <a:lnTo>
                    <a:pt x="583" y="1426"/>
                  </a:lnTo>
                  <a:lnTo>
                    <a:pt x="584" y="1425"/>
                  </a:lnTo>
                  <a:lnTo>
                    <a:pt x="585" y="1425"/>
                  </a:lnTo>
                  <a:lnTo>
                    <a:pt x="590" y="1424"/>
                  </a:lnTo>
                  <a:lnTo>
                    <a:pt x="593" y="1424"/>
                  </a:lnTo>
                  <a:lnTo>
                    <a:pt x="595" y="1423"/>
                  </a:lnTo>
                  <a:lnTo>
                    <a:pt x="600" y="1425"/>
                  </a:lnTo>
                  <a:lnTo>
                    <a:pt x="603" y="1426"/>
                  </a:lnTo>
                  <a:lnTo>
                    <a:pt x="604" y="1426"/>
                  </a:lnTo>
                  <a:lnTo>
                    <a:pt x="605" y="1426"/>
                  </a:lnTo>
                  <a:lnTo>
                    <a:pt x="609" y="1426"/>
                  </a:lnTo>
                  <a:lnTo>
                    <a:pt x="611" y="1426"/>
                  </a:lnTo>
                  <a:lnTo>
                    <a:pt x="612" y="1425"/>
                  </a:lnTo>
                  <a:lnTo>
                    <a:pt x="613" y="1425"/>
                  </a:lnTo>
                  <a:lnTo>
                    <a:pt x="619" y="1424"/>
                  </a:lnTo>
                  <a:lnTo>
                    <a:pt x="622" y="1423"/>
                  </a:lnTo>
                  <a:lnTo>
                    <a:pt x="623" y="1422"/>
                  </a:lnTo>
                  <a:lnTo>
                    <a:pt x="626" y="1421"/>
                  </a:lnTo>
                  <a:lnTo>
                    <a:pt x="628" y="1420"/>
                  </a:lnTo>
                  <a:lnTo>
                    <a:pt x="630" y="1419"/>
                  </a:lnTo>
                  <a:lnTo>
                    <a:pt x="630" y="1418"/>
                  </a:lnTo>
                  <a:lnTo>
                    <a:pt x="631" y="1414"/>
                  </a:lnTo>
                  <a:lnTo>
                    <a:pt x="631" y="1412"/>
                  </a:lnTo>
                  <a:lnTo>
                    <a:pt x="632" y="1411"/>
                  </a:lnTo>
                  <a:lnTo>
                    <a:pt x="635" y="1406"/>
                  </a:lnTo>
                  <a:lnTo>
                    <a:pt x="636" y="1402"/>
                  </a:lnTo>
                  <a:lnTo>
                    <a:pt x="637" y="1401"/>
                  </a:lnTo>
                  <a:lnTo>
                    <a:pt x="638" y="1398"/>
                  </a:lnTo>
                  <a:lnTo>
                    <a:pt x="639" y="1397"/>
                  </a:lnTo>
                  <a:lnTo>
                    <a:pt x="640" y="1396"/>
                  </a:lnTo>
                  <a:lnTo>
                    <a:pt x="640" y="1394"/>
                  </a:lnTo>
                  <a:lnTo>
                    <a:pt x="642" y="1387"/>
                  </a:lnTo>
                  <a:lnTo>
                    <a:pt x="642" y="1383"/>
                  </a:lnTo>
                  <a:lnTo>
                    <a:pt x="643" y="1382"/>
                  </a:lnTo>
                  <a:lnTo>
                    <a:pt x="643" y="1380"/>
                  </a:lnTo>
                  <a:lnTo>
                    <a:pt x="645" y="1375"/>
                  </a:lnTo>
                  <a:lnTo>
                    <a:pt x="646" y="1371"/>
                  </a:lnTo>
                  <a:lnTo>
                    <a:pt x="647" y="1369"/>
                  </a:lnTo>
                  <a:lnTo>
                    <a:pt x="648" y="1368"/>
                  </a:lnTo>
                  <a:lnTo>
                    <a:pt x="654" y="1365"/>
                  </a:lnTo>
                  <a:lnTo>
                    <a:pt x="657" y="1363"/>
                  </a:lnTo>
                  <a:lnTo>
                    <a:pt x="658" y="1362"/>
                  </a:lnTo>
                  <a:lnTo>
                    <a:pt x="659" y="1362"/>
                  </a:lnTo>
                  <a:lnTo>
                    <a:pt x="665" y="1362"/>
                  </a:lnTo>
                  <a:lnTo>
                    <a:pt x="668" y="1362"/>
                  </a:lnTo>
                  <a:lnTo>
                    <a:pt x="669" y="1361"/>
                  </a:lnTo>
                  <a:lnTo>
                    <a:pt x="672" y="1359"/>
                  </a:lnTo>
                  <a:lnTo>
                    <a:pt x="674" y="1357"/>
                  </a:lnTo>
                  <a:lnTo>
                    <a:pt x="675" y="1356"/>
                  </a:lnTo>
                  <a:lnTo>
                    <a:pt x="677" y="1355"/>
                  </a:lnTo>
                  <a:lnTo>
                    <a:pt x="680" y="1352"/>
                  </a:lnTo>
                  <a:lnTo>
                    <a:pt x="682" y="1350"/>
                  </a:lnTo>
                  <a:lnTo>
                    <a:pt x="683" y="1349"/>
                  </a:lnTo>
                  <a:lnTo>
                    <a:pt x="685" y="1349"/>
                  </a:lnTo>
                  <a:lnTo>
                    <a:pt x="692" y="1345"/>
                  </a:lnTo>
                  <a:lnTo>
                    <a:pt x="697" y="1344"/>
                  </a:lnTo>
                  <a:lnTo>
                    <a:pt x="698" y="1343"/>
                  </a:lnTo>
                  <a:lnTo>
                    <a:pt x="699" y="1342"/>
                  </a:lnTo>
                  <a:lnTo>
                    <a:pt x="705" y="1339"/>
                  </a:lnTo>
                  <a:lnTo>
                    <a:pt x="709" y="1337"/>
                  </a:lnTo>
                  <a:lnTo>
                    <a:pt x="710" y="1336"/>
                  </a:lnTo>
                  <a:lnTo>
                    <a:pt x="712" y="1334"/>
                  </a:lnTo>
                  <a:lnTo>
                    <a:pt x="717" y="1331"/>
                  </a:lnTo>
                  <a:lnTo>
                    <a:pt x="720" y="1329"/>
                  </a:lnTo>
                  <a:lnTo>
                    <a:pt x="721" y="1328"/>
                  </a:lnTo>
                  <a:lnTo>
                    <a:pt x="722" y="1327"/>
                  </a:lnTo>
                  <a:lnTo>
                    <a:pt x="727" y="1324"/>
                  </a:lnTo>
                  <a:lnTo>
                    <a:pt x="730" y="1320"/>
                  </a:lnTo>
                  <a:lnTo>
                    <a:pt x="731" y="1319"/>
                  </a:lnTo>
                  <a:lnTo>
                    <a:pt x="739" y="1316"/>
                  </a:lnTo>
                  <a:lnTo>
                    <a:pt x="743" y="1315"/>
                  </a:lnTo>
                  <a:lnTo>
                    <a:pt x="744" y="1314"/>
                  </a:lnTo>
                  <a:lnTo>
                    <a:pt x="751" y="1316"/>
                  </a:lnTo>
                  <a:lnTo>
                    <a:pt x="754" y="1316"/>
                  </a:lnTo>
                  <a:lnTo>
                    <a:pt x="755" y="1316"/>
                  </a:lnTo>
                  <a:lnTo>
                    <a:pt x="757" y="1316"/>
                  </a:lnTo>
                  <a:lnTo>
                    <a:pt x="764" y="1316"/>
                  </a:lnTo>
                  <a:lnTo>
                    <a:pt x="769" y="1316"/>
                  </a:lnTo>
                  <a:lnTo>
                    <a:pt x="771" y="1316"/>
                  </a:lnTo>
                  <a:lnTo>
                    <a:pt x="774" y="1316"/>
                  </a:lnTo>
                  <a:lnTo>
                    <a:pt x="775" y="1316"/>
                  </a:lnTo>
                  <a:lnTo>
                    <a:pt x="776" y="1316"/>
                  </a:lnTo>
                  <a:lnTo>
                    <a:pt x="777" y="1316"/>
                  </a:lnTo>
                  <a:lnTo>
                    <a:pt x="784" y="1316"/>
                  </a:lnTo>
                  <a:lnTo>
                    <a:pt x="788" y="1316"/>
                  </a:lnTo>
                  <a:lnTo>
                    <a:pt x="789" y="1315"/>
                  </a:lnTo>
                  <a:lnTo>
                    <a:pt x="791" y="1315"/>
                  </a:lnTo>
                  <a:lnTo>
                    <a:pt x="801" y="1314"/>
                  </a:lnTo>
                  <a:lnTo>
                    <a:pt x="808" y="1313"/>
                  </a:lnTo>
                  <a:lnTo>
                    <a:pt x="809" y="1311"/>
                  </a:lnTo>
                  <a:lnTo>
                    <a:pt x="811" y="1310"/>
                  </a:lnTo>
                  <a:lnTo>
                    <a:pt x="818" y="1307"/>
                  </a:lnTo>
                  <a:lnTo>
                    <a:pt x="822" y="1304"/>
                  </a:lnTo>
                  <a:lnTo>
                    <a:pt x="823" y="1303"/>
                  </a:lnTo>
                  <a:lnTo>
                    <a:pt x="825" y="1303"/>
                  </a:lnTo>
                  <a:lnTo>
                    <a:pt x="832" y="1302"/>
                  </a:lnTo>
                  <a:lnTo>
                    <a:pt x="837" y="1302"/>
                  </a:lnTo>
                  <a:lnTo>
                    <a:pt x="838" y="1301"/>
                  </a:lnTo>
                  <a:lnTo>
                    <a:pt x="839" y="1301"/>
                  </a:lnTo>
                  <a:lnTo>
                    <a:pt x="843" y="1301"/>
                  </a:lnTo>
                  <a:lnTo>
                    <a:pt x="846" y="1301"/>
                  </a:lnTo>
                  <a:lnTo>
                    <a:pt x="847" y="1299"/>
                  </a:lnTo>
                  <a:lnTo>
                    <a:pt x="849" y="1298"/>
                  </a:lnTo>
                  <a:lnTo>
                    <a:pt x="858" y="1292"/>
                  </a:lnTo>
                  <a:lnTo>
                    <a:pt x="865" y="1287"/>
                  </a:lnTo>
                  <a:lnTo>
                    <a:pt x="866" y="1286"/>
                  </a:lnTo>
                  <a:lnTo>
                    <a:pt x="871" y="1284"/>
                  </a:lnTo>
                  <a:lnTo>
                    <a:pt x="889" y="1274"/>
                  </a:lnTo>
                  <a:lnTo>
                    <a:pt x="902" y="1268"/>
                  </a:lnTo>
                  <a:lnTo>
                    <a:pt x="903" y="1267"/>
                  </a:lnTo>
                  <a:lnTo>
                    <a:pt x="905" y="1267"/>
                  </a:lnTo>
                  <a:lnTo>
                    <a:pt x="913" y="1267"/>
                  </a:lnTo>
                  <a:lnTo>
                    <a:pt x="919" y="1267"/>
                  </a:lnTo>
                  <a:lnTo>
                    <a:pt x="920" y="1266"/>
                  </a:lnTo>
                  <a:lnTo>
                    <a:pt x="926" y="1266"/>
                  </a:lnTo>
                  <a:lnTo>
                    <a:pt x="944" y="1266"/>
                  </a:lnTo>
                  <a:lnTo>
                    <a:pt x="959" y="1266"/>
                  </a:lnTo>
                  <a:lnTo>
                    <a:pt x="960" y="1266"/>
                  </a:lnTo>
                  <a:lnTo>
                    <a:pt x="962" y="1266"/>
                  </a:lnTo>
                  <a:lnTo>
                    <a:pt x="968" y="1264"/>
                  </a:lnTo>
                  <a:lnTo>
                    <a:pt x="973" y="1264"/>
                  </a:lnTo>
                  <a:lnTo>
                    <a:pt x="974" y="1263"/>
                  </a:lnTo>
                  <a:lnTo>
                    <a:pt x="976" y="1263"/>
                  </a:lnTo>
                  <a:lnTo>
                    <a:pt x="984" y="1262"/>
                  </a:lnTo>
                  <a:lnTo>
                    <a:pt x="990" y="1261"/>
                  </a:lnTo>
                  <a:lnTo>
                    <a:pt x="991" y="1260"/>
                  </a:lnTo>
                  <a:lnTo>
                    <a:pt x="992" y="1260"/>
                  </a:lnTo>
                  <a:lnTo>
                    <a:pt x="997" y="1260"/>
                  </a:lnTo>
                  <a:lnTo>
                    <a:pt x="1000" y="1260"/>
                  </a:lnTo>
                  <a:lnTo>
                    <a:pt x="1001" y="1260"/>
                  </a:lnTo>
                  <a:lnTo>
                    <a:pt x="1002" y="1260"/>
                  </a:lnTo>
                  <a:lnTo>
                    <a:pt x="1007" y="1260"/>
                  </a:lnTo>
                  <a:lnTo>
                    <a:pt x="1010" y="1260"/>
                  </a:lnTo>
                  <a:lnTo>
                    <a:pt x="1011" y="1260"/>
                  </a:lnTo>
                  <a:lnTo>
                    <a:pt x="1018" y="1261"/>
                  </a:lnTo>
                  <a:lnTo>
                    <a:pt x="1021" y="1261"/>
                  </a:lnTo>
                  <a:lnTo>
                    <a:pt x="1022" y="1261"/>
                  </a:lnTo>
                  <a:lnTo>
                    <a:pt x="1027" y="1263"/>
                  </a:lnTo>
                  <a:lnTo>
                    <a:pt x="1031" y="1264"/>
                  </a:lnTo>
                  <a:lnTo>
                    <a:pt x="1032" y="1264"/>
                  </a:lnTo>
                  <a:lnTo>
                    <a:pt x="1034" y="1268"/>
                  </a:lnTo>
                  <a:lnTo>
                    <a:pt x="1044" y="1274"/>
                  </a:lnTo>
                  <a:lnTo>
                    <a:pt x="1050" y="1280"/>
                  </a:lnTo>
                  <a:lnTo>
                    <a:pt x="1052" y="1280"/>
                  </a:lnTo>
                  <a:lnTo>
                    <a:pt x="1053" y="1282"/>
                  </a:lnTo>
                  <a:lnTo>
                    <a:pt x="1056" y="1285"/>
                  </a:lnTo>
                  <a:lnTo>
                    <a:pt x="1058" y="1287"/>
                  </a:lnTo>
                  <a:lnTo>
                    <a:pt x="1059" y="1287"/>
                  </a:lnTo>
                  <a:lnTo>
                    <a:pt x="1062" y="1290"/>
                  </a:lnTo>
                  <a:lnTo>
                    <a:pt x="1065" y="1290"/>
                  </a:lnTo>
                  <a:lnTo>
                    <a:pt x="1066" y="1290"/>
                  </a:lnTo>
                  <a:lnTo>
                    <a:pt x="1067" y="1290"/>
                  </a:lnTo>
                  <a:lnTo>
                    <a:pt x="1068" y="1290"/>
                  </a:lnTo>
                  <a:lnTo>
                    <a:pt x="1070" y="1290"/>
                  </a:lnTo>
                  <a:lnTo>
                    <a:pt x="1071" y="1290"/>
                  </a:lnTo>
                  <a:lnTo>
                    <a:pt x="1072" y="1289"/>
                  </a:lnTo>
                  <a:lnTo>
                    <a:pt x="1073" y="1287"/>
                  </a:lnTo>
                  <a:lnTo>
                    <a:pt x="1074" y="1286"/>
                  </a:lnTo>
                  <a:lnTo>
                    <a:pt x="1076" y="1285"/>
                  </a:lnTo>
                  <a:lnTo>
                    <a:pt x="1079" y="1285"/>
                  </a:lnTo>
                  <a:lnTo>
                    <a:pt x="1081" y="1285"/>
                  </a:lnTo>
                  <a:lnTo>
                    <a:pt x="1082" y="1284"/>
                  </a:lnTo>
                  <a:lnTo>
                    <a:pt x="1084" y="1286"/>
                  </a:lnTo>
                  <a:lnTo>
                    <a:pt x="1094" y="1290"/>
                  </a:lnTo>
                  <a:lnTo>
                    <a:pt x="1102" y="1293"/>
                  </a:lnTo>
                  <a:lnTo>
                    <a:pt x="1103" y="1293"/>
                  </a:lnTo>
                  <a:lnTo>
                    <a:pt x="1104" y="1294"/>
                  </a:lnTo>
                  <a:lnTo>
                    <a:pt x="1107" y="1297"/>
                  </a:lnTo>
                  <a:lnTo>
                    <a:pt x="1111" y="1299"/>
                  </a:lnTo>
                  <a:lnTo>
                    <a:pt x="1112" y="1299"/>
                  </a:lnTo>
                  <a:lnTo>
                    <a:pt x="1113" y="1299"/>
                  </a:lnTo>
                  <a:lnTo>
                    <a:pt x="1117" y="1299"/>
                  </a:lnTo>
                  <a:lnTo>
                    <a:pt x="1120" y="1299"/>
                  </a:lnTo>
                  <a:lnTo>
                    <a:pt x="1121" y="1299"/>
                  </a:lnTo>
                  <a:lnTo>
                    <a:pt x="1120" y="1299"/>
                  </a:lnTo>
                  <a:lnTo>
                    <a:pt x="1121" y="1299"/>
                  </a:lnTo>
                  <a:lnTo>
                    <a:pt x="1120" y="1299"/>
                  </a:lnTo>
                  <a:lnTo>
                    <a:pt x="1121" y="1299"/>
                  </a:lnTo>
                  <a:lnTo>
                    <a:pt x="1119" y="1296"/>
                  </a:lnTo>
                  <a:lnTo>
                    <a:pt x="1119" y="1294"/>
                  </a:lnTo>
                  <a:lnTo>
                    <a:pt x="1119" y="1293"/>
                  </a:lnTo>
                  <a:lnTo>
                    <a:pt x="1123" y="1295"/>
                  </a:lnTo>
                  <a:lnTo>
                    <a:pt x="1124" y="1295"/>
                  </a:lnTo>
                  <a:lnTo>
                    <a:pt x="1125" y="1295"/>
                  </a:lnTo>
                  <a:lnTo>
                    <a:pt x="1127" y="1298"/>
                  </a:lnTo>
                  <a:lnTo>
                    <a:pt x="1137" y="1308"/>
                  </a:lnTo>
                  <a:lnTo>
                    <a:pt x="1144" y="1316"/>
                  </a:lnTo>
                  <a:lnTo>
                    <a:pt x="1146" y="1316"/>
                  </a:lnTo>
                  <a:lnTo>
                    <a:pt x="1150" y="1317"/>
                  </a:lnTo>
                  <a:lnTo>
                    <a:pt x="1152" y="1317"/>
                  </a:lnTo>
                  <a:lnTo>
                    <a:pt x="1153" y="1317"/>
                  </a:lnTo>
                  <a:lnTo>
                    <a:pt x="1160" y="1319"/>
                  </a:lnTo>
                  <a:lnTo>
                    <a:pt x="1164" y="1320"/>
                  </a:lnTo>
                  <a:lnTo>
                    <a:pt x="1165" y="1320"/>
                  </a:lnTo>
                  <a:lnTo>
                    <a:pt x="1164" y="1322"/>
                  </a:lnTo>
                  <a:lnTo>
                    <a:pt x="1163" y="1329"/>
                  </a:lnTo>
                  <a:lnTo>
                    <a:pt x="1163" y="1333"/>
                  </a:lnTo>
                  <a:lnTo>
                    <a:pt x="1163" y="1333"/>
                  </a:lnTo>
                  <a:lnTo>
                    <a:pt x="1162" y="1333"/>
                  </a:lnTo>
                  <a:lnTo>
                    <a:pt x="1160" y="1333"/>
                  </a:lnTo>
                  <a:lnTo>
                    <a:pt x="1159" y="1333"/>
                  </a:lnTo>
                  <a:lnTo>
                    <a:pt x="1159" y="1332"/>
                  </a:lnTo>
                  <a:lnTo>
                    <a:pt x="1159" y="1334"/>
                  </a:lnTo>
                  <a:lnTo>
                    <a:pt x="1158" y="1340"/>
                  </a:lnTo>
                  <a:lnTo>
                    <a:pt x="1158" y="1343"/>
                  </a:lnTo>
                  <a:lnTo>
                    <a:pt x="1159" y="1343"/>
                  </a:lnTo>
                  <a:lnTo>
                    <a:pt x="1162" y="1349"/>
                  </a:lnTo>
                  <a:lnTo>
                    <a:pt x="1164" y="1351"/>
                  </a:lnTo>
                  <a:lnTo>
                    <a:pt x="1165" y="1351"/>
                  </a:lnTo>
                  <a:lnTo>
                    <a:pt x="1166" y="1352"/>
                  </a:lnTo>
                  <a:lnTo>
                    <a:pt x="1170" y="1355"/>
                  </a:lnTo>
                  <a:lnTo>
                    <a:pt x="1173" y="1356"/>
                  </a:lnTo>
                  <a:lnTo>
                    <a:pt x="1174" y="1356"/>
                  </a:lnTo>
                  <a:lnTo>
                    <a:pt x="1175" y="1357"/>
                  </a:lnTo>
                  <a:lnTo>
                    <a:pt x="1181" y="1361"/>
                  </a:lnTo>
                  <a:lnTo>
                    <a:pt x="1184" y="1362"/>
                  </a:lnTo>
                  <a:lnTo>
                    <a:pt x="1185" y="1362"/>
                  </a:lnTo>
                  <a:lnTo>
                    <a:pt x="1187" y="1361"/>
                  </a:lnTo>
                  <a:lnTo>
                    <a:pt x="1188" y="1360"/>
                  </a:lnTo>
                  <a:lnTo>
                    <a:pt x="1189" y="1359"/>
                  </a:lnTo>
                  <a:lnTo>
                    <a:pt x="1191" y="1364"/>
                  </a:lnTo>
                  <a:lnTo>
                    <a:pt x="1193" y="1367"/>
                  </a:lnTo>
                  <a:lnTo>
                    <a:pt x="1194" y="1367"/>
                  </a:lnTo>
                  <a:lnTo>
                    <a:pt x="1196" y="1371"/>
                  </a:lnTo>
                  <a:lnTo>
                    <a:pt x="1197" y="1372"/>
                  </a:lnTo>
                  <a:lnTo>
                    <a:pt x="1198" y="1372"/>
                  </a:lnTo>
                  <a:lnTo>
                    <a:pt x="1198" y="1373"/>
                  </a:lnTo>
                  <a:lnTo>
                    <a:pt x="1198" y="1375"/>
                  </a:lnTo>
                  <a:lnTo>
                    <a:pt x="1199" y="1383"/>
                  </a:lnTo>
                  <a:lnTo>
                    <a:pt x="1200" y="1389"/>
                  </a:lnTo>
                  <a:lnTo>
                    <a:pt x="1201" y="1389"/>
                  </a:lnTo>
                  <a:lnTo>
                    <a:pt x="1202" y="1390"/>
                  </a:lnTo>
                  <a:lnTo>
                    <a:pt x="1206" y="1394"/>
                  </a:lnTo>
                  <a:lnTo>
                    <a:pt x="1209" y="1395"/>
                  </a:lnTo>
                  <a:lnTo>
                    <a:pt x="1210" y="1395"/>
                  </a:lnTo>
                  <a:lnTo>
                    <a:pt x="1213" y="1402"/>
                  </a:lnTo>
                  <a:lnTo>
                    <a:pt x="1215" y="1406"/>
                  </a:lnTo>
                  <a:lnTo>
                    <a:pt x="1217" y="1406"/>
                  </a:lnTo>
                  <a:lnTo>
                    <a:pt x="1217" y="1407"/>
                  </a:lnTo>
                  <a:lnTo>
                    <a:pt x="1217" y="1409"/>
                  </a:lnTo>
                  <a:lnTo>
                    <a:pt x="1218" y="1415"/>
                  </a:lnTo>
                  <a:lnTo>
                    <a:pt x="1218" y="1420"/>
                  </a:lnTo>
                  <a:lnTo>
                    <a:pt x="1219" y="1420"/>
                  </a:lnTo>
                  <a:lnTo>
                    <a:pt x="1221" y="1424"/>
                  </a:lnTo>
                  <a:lnTo>
                    <a:pt x="1222" y="1425"/>
                  </a:lnTo>
                  <a:lnTo>
                    <a:pt x="1223" y="1425"/>
                  </a:lnTo>
                  <a:lnTo>
                    <a:pt x="1223" y="1426"/>
                  </a:lnTo>
                  <a:lnTo>
                    <a:pt x="1223" y="1427"/>
                  </a:lnTo>
                  <a:lnTo>
                    <a:pt x="1225" y="1433"/>
                  </a:lnTo>
                  <a:lnTo>
                    <a:pt x="1226" y="1437"/>
                  </a:lnTo>
                  <a:lnTo>
                    <a:pt x="1228" y="1437"/>
                  </a:lnTo>
                  <a:lnTo>
                    <a:pt x="1226" y="1439"/>
                  </a:lnTo>
                  <a:lnTo>
                    <a:pt x="1225" y="1444"/>
                  </a:lnTo>
                  <a:lnTo>
                    <a:pt x="1225" y="1447"/>
                  </a:lnTo>
                  <a:lnTo>
                    <a:pt x="1225" y="1447"/>
                  </a:lnTo>
                  <a:lnTo>
                    <a:pt x="1223" y="1446"/>
                  </a:lnTo>
                  <a:lnTo>
                    <a:pt x="1218" y="1442"/>
                  </a:lnTo>
                  <a:lnTo>
                    <a:pt x="1214" y="1438"/>
                  </a:lnTo>
                  <a:lnTo>
                    <a:pt x="1214" y="1437"/>
                  </a:lnTo>
                  <a:lnTo>
                    <a:pt x="1212" y="1436"/>
                  </a:lnTo>
                  <a:lnTo>
                    <a:pt x="1211" y="1435"/>
                  </a:lnTo>
                  <a:lnTo>
                    <a:pt x="1211" y="1437"/>
                  </a:lnTo>
                  <a:lnTo>
                    <a:pt x="1210" y="1442"/>
                  </a:lnTo>
                  <a:lnTo>
                    <a:pt x="1210" y="1445"/>
                  </a:lnTo>
                  <a:lnTo>
                    <a:pt x="1211" y="1445"/>
                  </a:lnTo>
                  <a:lnTo>
                    <a:pt x="1215" y="1446"/>
                  </a:lnTo>
                  <a:lnTo>
                    <a:pt x="1218" y="1446"/>
                  </a:lnTo>
                  <a:lnTo>
                    <a:pt x="1219" y="1446"/>
                  </a:lnTo>
                  <a:lnTo>
                    <a:pt x="1221" y="1450"/>
                  </a:lnTo>
                  <a:lnTo>
                    <a:pt x="1222" y="1452"/>
                  </a:lnTo>
                  <a:lnTo>
                    <a:pt x="1223" y="1452"/>
                  </a:lnTo>
                  <a:lnTo>
                    <a:pt x="1224" y="1453"/>
                  </a:lnTo>
                  <a:lnTo>
                    <a:pt x="1229" y="1456"/>
                  </a:lnTo>
                  <a:lnTo>
                    <a:pt x="1232" y="1457"/>
                  </a:lnTo>
                  <a:lnTo>
                    <a:pt x="1233" y="1457"/>
                  </a:lnTo>
                  <a:lnTo>
                    <a:pt x="1234" y="1459"/>
                  </a:lnTo>
                  <a:lnTo>
                    <a:pt x="1237" y="1465"/>
                  </a:lnTo>
                  <a:lnTo>
                    <a:pt x="1241" y="1468"/>
                  </a:lnTo>
                  <a:lnTo>
                    <a:pt x="1242" y="1468"/>
                  </a:lnTo>
                  <a:lnTo>
                    <a:pt x="1245" y="1467"/>
                  </a:lnTo>
                  <a:lnTo>
                    <a:pt x="1246" y="1467"/>
                  </a:lnTo>
                  <a:lnTo>
                    <a:pt x="1247" y="1466"/>
                  </a:lnTo>
                  <a:lnTo>
                    <a:pt x="1250" y="1470"/>
                  </a:lnTo>
                  <a:lnTo>
                    <a:pt x="1253" y="1471"/>
                  </a:lnTo>
                  <a:lnTo>
                    <a:pt x="1254" y="1471"/>
                  </a:lnTo>
                  <a:lnTo>
                    <a:pt x="1254" y="1469"/>
                  </a:lnTo>
                  <a:lnTo>
                    <a:pt x="1253" y="1461"/>
                  </a:lnTo>
                  <a:lnTo>
                    <a:pt x="1253" y="1456"/>
                  </a:lnTo>
                  <a:lnTo>
                    <a:pt x="1254" y="1455"/>
                  </a:lnTo>
                  <a:lnTo>
                    <a:pt x="1253" y="1455"/>
                  </a:lnTo>
                  <a:lnTo>
                    <a:pt x="1249" y="1455"/>
                  </a:lnTo>
                  <a:lnTo>
                    <a:pt x="1247" y="1455"/>
                  </a:lnTo>
                  <a:lnTo>
                    <a:pt x="1247" y="1455"/>
                  </a:lnTo>
                  <a:lnTo>
                    <a:pt x="1248" y="1455"/>
                  </a:lnTo>
                  <a:lnTo>
                    <a:pt x="1248" y="1454"/>
                  </a:lnTo>
                  <a:lnTo>
                    <a:pt x="1249" y="1449"/>
                  </a:lnTo>
                  <a:lnTo>
                    <a:pt x="1250" y="1446"/>
                  </a:lnTo>
                  <a:lnTo>
                    <a:pt x="1252" y="1445"/>
                  </a:lnTo>
                  <a:lnTo>
                    <a:pt x="1253" y="1444"/>
                  </a:lnTo>
                  <a:lnTo>
                    <a:pt x="1256" y="1441"/>
                  </a:lnTo>
                  <a:lnTo>
                    <a:pt x="1259" y="1438"/>
                  </a:lnTo>
                  <a:lnTo>
                    <a:pt x="1260" y="1437"/>
                  </a:lnTo>
                  <a:lnTo>
                    <a:pt x="1261" y="1436"/>
                  </a:lnTo>
                  <a:lnTo>
                    <a:pt x="1266" y="1431"/>
                  </a:lnTo>
                  <a:lnTo>
                    <a:pt x="1269" y="1427"/>
                  </a:lnTo>
                  <a:lnTo>
                    <a:pt x="1270" y="1426"/>
                  </a:lnTo>
                  <a:lnTo>
                    <a:pt x="1270" y="1424"/>
                  </a:lnTo>
                  <a:lnTo>
                    <a:pt x="1273" y="1418"/>
                  </a:lnTo>
                  <a:lnTo>
                    <a:pt x="1275" y="1413"/>
                  </a:lnTo>
                  <a:lnTo>
                    <a:pt x="1276" y="1412"/>
                  </a:lnTo>
                  <a:lnTo>
                    <a:pt x="1279" y="1411"/>
                  </a:lnTo>
                  <a:lnTo>
                    <a:pt x="1281" y="1410"/>
                  </a:lnTo>
                  <a:lnTo>
                    <a:pt x="1282" y="1409"/>
                  </a:lnTo>
                  <a:lnTo>
                    <a:pt x="1285" y="1406"/>
                  </a:lnTo>
                  <a:lnTo>
                    <a:pt x="1287" y="1404"/>
                  </a:lnTo>
                  <a:lnTo>
                    <a:pt x="1288" y="1403"/>
                  </a:lnTo>
                  <a:lnTo>
                    <a:pt x="1289" y="1403"/>
                  </a:lnTo>
                  <a:lnTo>
                    <a:pt x="1295" y="1401"/>
                  </a:lnTo>
                  <a:lnTo>
                    <a:pt x="1300" y="1400"/>
                  </a:lnTo>
                  <a:lnTo>
                    <a:pt x="1301" y="1399"/>
                  </a:lnTo>
                  <a:lnTo>
                    <a:pt x="1300" y="1396"/>
                  </a:lnTo>
                  <a:lnTo>
                    <a:pt x="1300" y="1395"/>
                  </a:lnTo>
                  <a:lnTo>
                    <a:pt x="1301" y="1394"/>
                  </a:lnTo>
                  <a:lnTo>
                    <a:pt x="1303" y="1392"/>
                  </a:lnTo>
                  <a:lnTo>
                    <a:pt x="1305" y="1391"/>
                  </a:lnTo>
                  <a:lnTo>
                    <a:pt x="1311" y="1392"/>
                  </a:lnTo>
                  <a:lnTo>
                    <a:pt x="1314" y="1392"/>
                  </a:lnTo>
                  <a:lnTo>
                    <a:pt x="1315" y="1392"/>
                  </a:lnTo>
                  <a:lnTo>
                    <a:pt x="1318" y="1388"/>
                  </a:lnTo>
                  <a:lnTo>
                    <a:pt x="1319" y="1386"/>
                  </a:lnTo>
                  <a:lnTo>
                    <a:pt x="1320" y="1385"/>
                  </a:lnTo>
                  <a:lnTo>
                    <a:pt x="1320" y="1382"/>
                  </a:lnTo>
                  <a:lnTo>
                    <a:pt x="1320" y="1379"/>
                  </a:lnTo>
                  <a:lnTo>
                    <a:pt x="1322" y="1378"/>
                  </a:lnTo>
                  <a:lnTo>
                    <a:pt x="1325" y="1372"/>
                  </a:lnTo>
                  <a:lnTo>
                    <a:pt x="1326" y="1368"/>
                  </a:lnTo>
                  <a:lnTo>
                    <a:pt x="1327" y="1367"/>
                  </a:lnTo>
                  <a:lnTo>
                    <a:pt x="1330" y="1362"/>
                  </a:lnTo>
                  <a:lnTo>
                    <a:pt x="1331" y="1359"/>
                  </a:lnTo>
                  <a:lnTo>
                    <a:pt x="1332" y="1357"/>
                  </a:lnTo>
                  <a:lnTo>
                    <a:pt x="1336" y="1351"/>
                  </a:lnTo>
                  <a:lnTo>
                    <a:pt x="1338" y="1348"/>
                  </a:lnTo>
                  <a:lnTo>
                    <a:pt x="1339" y="1347"/>
                  </a:lnTo>
                  <a:lnTo>
                    <a:pt x="1342" y="1347"/>
                  </a:lnTo>
                  <a:lnTo>
                    <a:pt x="1343" y="1347"/>
                  </a:lnTo>
                  <a:lnTo>
                    <a:pt x="1344" y="1345"/>
                  </a:lnTo>
                  <a:lnTo>
                    <a:pt x="1344" y="1344"/>
                  </a:lnTo>
                  <a:lnTo>
                    <a:pt x="1343" y="1341"/>
                  </a:lnTo>
                  <a:lnTo>
                    <a:pt x="1343" y="1338"/>
                  </a:lnTo>
                  <a:lnTo>
                    <a:pt x="1344" y="1337"/>
                  </a:lnTo>
                  <a:lnTo>
                    <a:pt x="1344" y="1336"/>
                  </a:lnTo>
                  <a:lnTo>
                    <a:pt x="1343" y="1330"/>
                  </a:lnTo>
                  <a:lnTo>
                    <a:pt x="1343" y="1327"/>
                  </a:lnTo>
                  <a:lnTo>
                    <a:pt x="1344" y="1326"/>
                  </a:lnTo>
                  <a:lnTo>
                    <a:pt x="1346" y="1322"/>
                  </a:lnTo>
                  <a:lnTo>
                    <a:pt x="1347" y="1320"/>
                  </a:lnTo>
                  <a:lnTo>
                    <a:pt x="1348" y="1319"/>
                  </a:lnTo>
                  <a:lnTo>
                    <a:pt x="1350" y="1322"/>
                  </a:lnTo>
                  <a:lnTo>
                    <a:pt x="1351" y="1324"/>
                  </a:lnTo>
                  <a:lnTo>
                    <a:pt x="1352" y="1324"/>
                  </a:lnTo>
                  <a:lnTo>
                    <a:pt x="1352" y="1326"/>
                  </a:lnTo>
                  <a:lnTo>
                    <a:pt x="1351" y="1330"/>
                  </a:lnTo>
                  <a:lnTo>
                    <a:pt x="1351" y="1333"/>
                  </a:lnTo>
                  <a:lnTo>
                    <a:pt x="1352" y="1333"/>
                  </a:lnTo>
                  <a:lnTo>
                    <a:pt x="1354" y="1336"/>
                  </a:lnTo>
                  <a:lnTo>
                    <a:pt x="1355" y="1336"/>
                  </a:lnTo>
                  <a:lnTo>
                    <a:pt x="1354" y="1338"/>
                  </a:lnTo>
                  <a:lnTo>
                    <a:pt x="1354" y="1342"/>
                  </a:lnTo>
                  <a:lnTo>
                    <a:pt x="1354" y="1345"/>
                  </a:lnTo>
                  <a:lnTo>
                    <a:pt x="1354" y="1345"/>
                  </a:lnTo>
                  <a:lnTo>
                    <a:pt x="1355" y="1345"/>
                  </a:lnTo>
                  <a:lnTo>
                    <a:pt x="1355" y="1347"/>
                  </a:lnTo>
                  <a:lnTo>
                    <a:pt x="1357" y="1350"/>
                  </a:lnTo>
                  <a:lnTo>
                    <a:pt x="1357" y="1352"/>
                  </a:lnTo>
                  <a:lnTo>
                    <a:pt x="1358" y="1352"/>
                  </a:lnTo>
                  <a:lnTo>
                    <a:pt x="1358" y="1353"/>
                  </a:lnTo>
                  <a:lnTo>
                    <a:pt x="1358" y="1356"/>
                  </a:lnTo>
                  <a:lnTo>
                    <a:pt x="1358" y="1359"/>
                  </a:lnTo>
                  <a:lnTo>
                    <a:pt x="1359" y="1359"/>
                  </a:lnTo>
                  <a:lnTo>
                    <a:pt x="1358" y="1359"/>
                  </a:lnTo>
                  <a:lnTo>
                    <a:pt x="1354" y="1359"/>
                  </a:lnTo>
                  <a:lnTo>
                    <a:pt x="1353" y="1359"/>
                  </a:lnTo>
                  <a:lnTo>
                    <a:pt x="1353" y="1357"/>
                  </a:lnTo>
                  <a:lnTo>
                    <a:pt x="1352" y="1361"/>
                  </a:lnTo>
                  <a:lnTo>
                    <a:pt x="1352" y="1362"/>
                  </a:lnTo>
                  <a:lnTo>
                    <a:pt x="1352" y="1362"/>
                  </a:lnTo>
                  <a:lnTo>
                    <a:pt x="1352" y="1365"/>
                  </a:lnTo>
                  <a:lnTo>
                    <a:pt x="1351" y="1374"/>
                  </a:lnTo>
                  <a:lnTo>
                    <a:pt x="1351" y="1380"/>
                  </a:lnTo>
                  <a:lnTo>
                    <a:pt x="1352" y="1380"/>
                  </a:lnTo>
                  <a:lnTo>
                    <a:pt x="1351" y="1382"/>
                  </a:lnTo>
                  <a:lnTo>
                    <a:pt x="1348" y="1387"/>
                  </a:lnTo>
                  <a:lnTo>
                    <a:pt x="1347" y="1390"/>
                  </a:lnTo>
                  <a:lnTo>
                    <a:pt x="1347" y="1390"/>
                  </a:lnTo>
                  <a:lnTo>
                    <a:pt x="1346" y="1391"/>
                  </a:lnTo>
                  <a:lnTo>
                    <a:pt x="1342" y="1392"/>
                  </a:lnTo>
                  <a:lnTo>
                    <a:pt x="1341" y="1394"/>
                  </a:lnTo>
                  <a:lnTo>
                    <a:pt x="1341" y="1394"/>
                  </a:lnTo>
                  <a:lnTo>
                    <a:pt x="1340" y="1397"/>
                  </a:lnTo>
                  <a:lnTo>
                    <a:pt x="1337" y="1403"/>
                  </a:lnTo>
                  <a:lnTo>
                    <a:pt x="1336" y="1408"/>
                  </a:lnTo>
                  <a:lnTo>
                    <a:pt x="1336" y="1408"/>
                  </a:lnTo>
                  <a:lnTo>
                    <a:pt x="1335" y="1409"/>
                  </a:lnTo>
                  <a:lnTo>
                    <a:pt x="1331" y="1415"/>
                  </a:lnTo>
                  <a:lnTo>
                    <a:pt x="1329" y="1419"/>
                  </a:lnTo>
                  <a:lnTo>
                    <a:pt x="1329" y="1419"/>
                  </a:lnTo>
                  <a:lnTo>
                    <a:pt x="1329" y="1421"/>
                  </a:lnTo>
                  <a:lnTo>
                    <a:pt x="1328" y="1424"/>
                  </a:lnTo>
                  <a:lnTo>
                    <a:pt x="1328" y="1427"/>
                  </a:lnTo>
                  <a:lnTo>
                    <a:pt x="1329" y="1427"/>
                  </a:lnTo>
                  <a:lnTo>
                    <a:pt x="1328" y="1432"/>
                  </a:lnTo>
                  <a:lnTo>
                    <a:pt x="1328" y="1433"/>
                  </a:lnTo>
                  <a:lnTo>
                    <a:pt x="1328" y="1433"/>
                  </a:lnTo>
                  <a:lnTo>
                    <a:pt x="1328" y="1434"/>
                  </a:lnTo>
                  <a:lnTo>
                    <a:pt x="1328" y="1435"/>
                  </a:lnTo>
                  <a:lnTo>
                    <a:pt x="1329" y="1437"/>
                  </a:lnTo>
                  <a:lnTo>
                    <a:pt x="1330" y="1437"/>
                  </a:lnTo>
                  <a:lnTo>
                    <a:pt x="1329" y="1439"/>
                  </a:lnTo>
                  <a:lnTo>
                    <a:pt x="1329" y="1445"/>
                  </a:lnTo>
                  <a:lnTo>
                    <a:pt x="1329" y="1448"/>
                  </a:lnTo>
                  <a:lnTo>
                    <a:pt x="1329" y="1448"/>
                  </a:lnTo>
                  <a:lnTo>
                    <a:pt x="1328" y="1450"/>
                  </a:lnTo>
                  <a:lnTo>
                    <a:pt x="1327" y="1457"/>
                  </a:lnTo>
                  <a:lnTo>
                    <a:pt x="1326" y="1461"/>
                  </a:lnTo>
                  <a:lnTo>
                    <a:pt x="1326" y="1461"/>
                  </a:lnTo>
                  <a:lnTo>
                    <a:pt x="1325" y="1462"/>
                  </a:lnTo>
                  <a:lnTo>
                    <a:pt x="1319" y="1466"/>
                  </a:lnTo>
                  <a:lnTo>
                    <a:pt x="1316" y="1467"/>
                  </a:lnTo>
                  <a:lnTo>
                    <a:pt x="1316" y="1467"/>
                  </a:lnTo>
                  <a:lnTo>
                    <a:pt x="1315" y="1467"/>
                  </a:lnTo>
                  <a:lnTo>
                    <a:pt x="1314" y="1467"/>
                  </a:lnTo>
                  <a:lnTo>
                    <a:pt x="1307" y="1466"/>
                  </a:lnTo>
                  <a:lnTo>
                    <a:pt x="1303" y="1466"/>
                  </a:lnTo>
                  <a:lnTo>
                    <a:pt x="1303" y="1465"/>
                  </a:lnTo>
                  <a:lnTo>
                    <a:pt x="1302" y="1467"/>
                  </a:lnTo>
                  <a:lnTo>
                    <a:pt x="1301" y="1471"/>
                  </a:lnTo>
                  <a:lnTo>
                    <a:pt x="1301" y="1474"/>
                  </a:lnTo>
                  <a:lnTo>
                    <a:pt x="1301" y="1474"/>
                  </a:lnTo>
                  <a:lnTo>
                    <a:pt x="1300" y="1477"/>
                  </a:lnTo>
                  <a:lnTo>
                    <a:pt x="1299" y="1480"/>
                  </a:lnTo>
                  <a:lnTo>
                    <a:pt x="1299" y="1482"/>
                  </a:lnTo>
                  <a:lnTo>
                    <a:pt x="1299" y="1482"/>
                  </a:lnTo>
                  <a:lnTo>
                    <a:pt x="1302" y="1487"/>
                  </a:lnTo>
                  <a:lnTo>
                    <a:pt x="1303" y="1489"/>
                  </a:lnTo>
                  <a:lnTo>
                    <a:pt x="1304" y="1489"/>
                  </a:lnTo>
                  <a:lnTo>
                    <a:pt x="1308" y="1485"/>
                  </a:lnTo>
                  <a:lnTo>
                    <a:pt x="1312" y="1484"/>
                  </a:lnTo>
                  <a:lnTo>
                    <a:pt x="1313" y="1483"/>
                  </a:lnTo>
                  <a:lnTo>
                    <a:pt x="1314" y="1483"/>
                  </a:lnTo>
                  <a:lnTo>
                    <a:pt x="1319" y="1483"/>
                  </a:lnTo>
                  <a:lnTo>
                    <a:pt x="1324" y="1483"/>
                  </a:lnTo>
                  <a:lnTo>
                    <a:pt x="1325" y="1483"/>
                  </a:lnTo>
                  <a:lnTo>
                    <a:pt x="1330" y="1481"/>
                  </a:lnTo>
                  <a:lnTo>
                    <a:pt x="1334" y="1480"/>
                  </a:lnTo>
                  <a:lnTo>
                    <a:pt x="1335" y="1479"/>
                  </a:lnTo>
                  <a:lnTo>
                    <a:pt x="1338" y="1481"/>
                  </a:lnTo>
                  <a:lnTo>
                    <a:pt x="1340" y="1481"/>
                  </a:lnTo>
                  <a:lnTo>
                    <a:pt x="1341" y="1481"/>
                  </a:lnTo>
                  <a:lnTo>
                    <a:pt x="1342" y="1480"/>
                  </a:lnTo>
                  <a:lnTo>
                    <a:pt x="1343" y="1479"/>
                  </a:lnTo>
                  <a:lnTo>
                    <a:pt x="1344" y="1478"/>
                  </a:lnTo>
                  <a:lnTo>
                    <a:pt x="1344" y="1477"/>
                  </a:lnTo>
                  <a:lnTo>
                    <a:pt x="1344" y="1471"/>
                  </a:lnTo>
                  <a:lnTo>
                    <a:pt x="1344" y="1468"/>
                  </a:lnTo>
                  <a:lnTo>
                    <a:pt x="1346" y="1467"/>
                  </a:lnTo>
                  <a:lnTo>
                    <a:pt x="1346" y="1466"/>
                  </a:lnTo>
                  <a:lnTo>
                    <a:pt x="1347" y="1460"/>
                  </a:lnTo>
                  <a:lnTo>
                    <a:pt x="1348" y="1457"/>
                  </a:lnTo>
                  <a:lnTo>
                    <a:pt x="1349" y="1456"/>
                  </a:lnTo>
                  <a:lnTo>
                    <a:pt x="1349" y="1455"/>
                  </a:lnTo>
                  <a:lnTo>
                    <a:pt x="1349" y="1449"/>
                  </a:lnTo>
                  <a:lnTo>
                    <a:pt x="1349" y="1446"/>
                  </a:lnTo>
                  <a:lnTo>
                    <a:pt x="1350" y="1445"/>
                  </a:lnTo>
                  <a:lnTo>
                    <a:pt x="1353" y="1439"/>
                  </a:lnTo>
                  <a:lnTo>
                    <a:pt x="1354" y="1436"/>
                  </a:lnTo>
                  <a:lnTo>
                    <a:pt x="1355" y="1435"/>
                  </a:lnTo>
                  <a:lnTo>
                    <a:pt x="1359" y="1429"/>
                  </a:lnTo>
                  <a:lnTo>
                    <a:pt x="1361" y="1424"/>
                  </a:lnTo>
                  <a:lnTo>
                    <a:pt x="1362" y="1423"/>
                  </a:lnTo>
                  <a:lnTo>
                    <a:pt x="1365" y="1427"/>
                  </a:lnTo>
                  <a:lnTo>
                    <a:pt x="1367" y="1429"/>
                  </a:lnTo>
                  <a:lnTo>
                    <a:pt x="1369" y="1429"/>
                  </a:lnTo>
                  <a:lnTo>
                    <a:pt x="1370" y="1431"/>
                  </a:lnTo>
                  <a:lnTo>
                    <a:pt x="1373" y="1436"/>
                  </a:lnTo>
                  <a:lnTo>
                    <a:pt x="1375" y="1441"/>
                  </a:lnTo>
                  <a:lnTo>
                    <a:pt x="1376" y="1441"/>
                  </a:lnTo>
                  <a:lnTo>
                    <a:pt x="1376" y="1442"/>
                  </a:lnTo>
                  <a:lnTo>
                    <a:pt x="1376" y="1444"/>
                  </a:lnTo>
                  <a:lnTo>
                    <a:pt x="1378" y="1452"/>
                  </a:lnTo>
                  <a:lnTo>
                    <a:pt x="1379" y="1457"/>
                  </a:lnTo>
                  <a:lnTo>
                    <a:pt x="1381" y="1457"/>
                  </a:lnTo>
                  <a:lnTo>
                    <a:pt x="1381" y="1460"/>
                  </a:lnTo>
                  <a:lnTo>
                    <a:pt x="1379" y="1467"/>
                  </a:lnTo>
                  <a:lnTo>
                    <a:pt x="1379" y="1471"/>
                  </a:lnTo>
                  <a:lnTo>
                    <a:pt x="1381" y="1471"/>
                  </a:lnTo>
                  <a:lnTo>
                    <a:pt x="1379" y="1474"/>
                  </a:lnTo>
                  <a:lnTo>
                    <a:pt x="1378" y="1481"/>
                  </a:lnTo>
                  <a:lnTo>
                    <a:pt x="1377" y="1485"/>
                  </a:lnTo>
                  <a:lnTo>
                    <a:pt x="1377" y="1485"/>
                  </a:lnTo>
                  <a:lnTo>
                    <a:pt x="1376" y="1487"/>
                  </a:lnTo>
                  <a:lnTo>
                    <a:pt x="1375" y="1489"/>
                  </a:lnTo>
                  <a:lnTo>
                    <a:pt x="1372" y="1495"/>
                  </a:lnTo>
                  <a:lnTo>
                    <a:pt x="1370" y="1501"/>
                  </a:lnTo>
                  <a:lnTo>
                    <a:pt x="1370" y="1501"/>
                  </a:lnTo>
                  <a:lnTo>
                    <a:pt x="1369" y="1502"/>
                  </a:lnTo>
                  <a:lnTo>
                    <a:pt x="1365" y="1506"/>
                  </a:lnTo>
                  <a:lnTo>
                    <a:pt x="1363" y="1508"/>
                  </a:lnTo>
                  <a:lnTo>
                    <a:pt x="1363" y="1508"/>
                  </a:lnTo>
                  <a:lnTo>
                    <a:pt x="1366" y="1511"/>
                  </a:lnTo>
                  <a:lnTo>
                    <a:pt x="1367" y="1512"/>
                  </a:lnTo>
                  <a:lnTo>
                    <a:pt x="1369" y="1512"/>
                  </a:lnTo>
                  <a:lnTo>
                    <a:pt x="1372" y="1512"/>
                  </a:lnTo>
                  <a:lnTo>
                    <a:pt x="1374" y="1512"/>
                  </a:lnTo>
                  <a:lnTo>
                    <a:pt x="1375" y="1511"/>
                  </a:lnTo>
                  <a:lnTo>
                    <a:pt x="1376" y="1511"/>
                  </a:lnTo>
                  <a:lnTo>
                    <a:pt x="1377" y="1511"/>
                  </a:lnTo>
                  <a:lnTo>
                    <a:pt x="1378" y="1511"/>
                  </a:lnTo>
                  <a:lnTo>
                    <a:pt x="1382" y="1509"/>
                  </a:lnTo>
                  <a:lnTo>
                    <a:pt x="1384" y="1509"/>
                  </a:lnTo>
                  <a:lnTo>
                    <a:pt x="1385" y="1508"/>
                  </a:lnTo>
                  <a:lnTo>
                    <a:pt x="1386" y="1508"/>
                  </a:lnTo>
                  <a:lnTo>
                    <a:pt x="1389" y="1507"/>
                  </a:lnTo>
                  <a:lnTo>
                    <a:pt x="1393" y="1506"/>
                  </a:lnTo>
                  <a:lnTo>
                    <a:pt x="1394" y="1505"/>
                  </a:lnTo>
                  <a:lnTo>
                    <a:pt x="1397" y="1504"/>
                  </a:lnTo>
                  <a:lnTo>
                    <a:pt x="1398" y="1504"/>
                  </a:lnTo>
                  <a:lnTo>
                    <a:pt x="1399" y="1503"/>
                  </a:lnTo>
                  <a:lnTo>
                    <a:pt x="1400" y="1502"/>
                  </a:lnTo>
                  <a:lnTo>
                    <a:pt x="1402" y="1501"/>
                  </a:lnTo>
                  <a:lnTo>
                    <a:pt x="1406" y="1500"/>
                  </a:lnTo>
                  <a:lnTo>
                    <a:pt x="1407" y="1500"/>
                  </a:lnTo>
                  <a:lnTo>
                    <a:pt x="1408" y="1499"/>
                  </a:lnTo>
                  <a:lnTo>
                    <a:pt x="1409" y="1499"/>
                  </a:lnTo>
                  <a:lnTo>
                    <a:pt x="1416" y="1499"/>
                  </a:lnTo>
                  <a:lnTo>
                    <a:pt x="1420" y="1499"/>
                  </a:lnTo>
                  <a:lnTo>
                    <a:pt x="1421" y="1497"/>
                  </a:lnTo>
                  <a:lnTo>
                    <a:pt x="1421" y="1499"/>
                  </a:lnTo>
                  <a:lnTo>
                    <a:pt x="1421" y="1500"/>
                  </a:lnTo>
                  <a:lnTo>
                    <a:pt x="1421" y="1501"/>
                  </a:lnTo>
                  <a:lnTo>
                    <a:pt x="1422" y="1501"/>
                  </a:lnTo>
                  <a:lnTo>
                    <a:pt x="1421" y="1502"/>
                  </a:lnTo>
                  <a:lnTo>
                    <a:pt x="1418" y="1511"/>
                  </a:lnTo>
                  <a:lnTo>
                    <a:pt x="1416" y="1515"/>
                  </a:lnTo>
                  <a:lnTo>
                    <a:pt x="1416" y="1515"/>
                  </a:lnTo>
                  <a:lnTo>
                    <a:pt x="1417" y="1517"/>
                  </a:lnTo>
                  <a:lnTo>
                    <a:pt x="1418" y="1517"/>
                  </a:lnTo>
                  <a:lnTo>
                    <a:pt x="1421" y="1524"/>
                  </a:lnTo>
                  <a:lnTo>
                    <a:pt x="1423" y="1527"/>
                  </a:lnTo>
                  <a:lnTo>
                    <a:pt x="1424" y="1527"/>
                  </a:lnTo>
                  <a:lnTo>
                    <a:pt x="1425" y="1529"/>
                  </a:lnTo>
                  <a:lnTo>
                    <a:pt x="1429" y="1536"/>
                  </a:lnTo>
                  <a:lnTo>
                    <a:pt x="1432" y="1540"/>
                  </a:lnTo>
                  <a:lnTo>
                    <a:pt x="1433" y="1540"/>
                  </a:lnTo>
                  <a:lnTo>
                    <a:pt x="1433" y="1541"/>
                  </a:lnTo>
                  <a:lnTo>
                    <a:pt x="1433" y="1542"/>
                  </a:lnTo>
                  <a:lnTo>
                    <a:pt x="1433" y="1543"/>
                  </a:lnTo>
                  <a:lnTo>
                    <a:pt x="1434" y="1543"/>
                  </a:lnTo>
                  <a:lnTo>
                    <a:pt x="1434" y="1545"/>
                  </a:lnTo>
                  <a:lnTo>
                    <a:pt x="1435" y="1548"/>
                  </a:lnTo>
                  <a:lnTo>
                    <a:pt x="1435" y="1550"/>
                  </a:lnTo>
                  <a:lnTo>
                    <a:pt x="1436" y="1550"/>
                  </a:lnTo>
                  <a:lnTo>
                    <a:pt x="1436" y="1551"/>
                  </a:lnTo>
                  <a:lnTo>
                    <a:pt x="1436" y="1552"/>
                  </a:lnTo>
                  <a:lnTo>
                    <a:pt x="1437" y="1555"/>
                  </a:lnTo>
                  <a:lnTo>
                    <a:pt x="1437" y="1559"/>
                  </a:lnTo>
                  <a:lnTo>
                    <a:pt x="1438" y="1559"/>
                  </a:lnTo>
                  <a:lnTo>
                    <a:pt x="1441" y="1565"/>
                  </a:lnTo>
                  <a:lnTo>
                    <a:pt x="1442" y="1569"/>
                  </a:lnTo>
                  <a:lnTo>
                    <a:pt x="1443" y="1569"/>
                  </a:lnTo>
                  <a:lnTo>
                    <a:pt x="1442" y="1571"/>
                  </a:lnTo>
                  <a:lnTo>
                    <a:pt x="1442" y="1577"/>
                  </a:lnTo>
                  <a:lnTo>
                    <a:pt x="1442" y="1582"/>
                  </a:lnTo>
                  <a:lnTo>
                    <a:pt x="1442" y="1582"/>
                  </a:lnTo>
                  <a:lnTo>
                    <a:pt x="1441" y="1583"/>
                  </a:lnTo>
                  <a:lnTo>
                    <a:pt x="1437" y="1587"/>
                  </a:lnTo>
                  <a:lnTo>
                    <a:pt x="1436" y="1590"/>
                  </a:lnTo>
                  <a:lnTo>
                    <a:pt x="1436" y="1590"/>
                  </a:lnTo>
                  <a:lnTo>
                    <a:pt x="1436" y="1592"/>
                  </a:lnTo>
                  <a:lnTo>
                    <a:pt x="1435" y="1595"/>
                  </a:lnTo>
                  <a:lnTo>
                    <a:pt x="1436" y="1595"/>
                  </a:lnTo>
                  <a:lnTo>
                    <a:pt x="1436" y="1596"/>
                  </a:lnTo>
                  <a:lnTo>
                    <a:pt x="1436" y="1597"/>
                  </a:lnTo>
                  <a:lnTo>
                    <a:pt x="1438" y="1602"/>
                  </a:lnTo>
                  <a:lnTo>
                    <a:pt x="1440" y="1607"/>
                  </a:lnTo>
                  <a:lnTo>
                    <a:pt x="1441" y="1607"/>
                  </a:lnTo>
                  <a:lnTo>
                    <a:pt x="1444" y="1617"/>
                  </a:lnTo>
                  <a:lnTo>
                    <a:pt x="1446" y="1622"/>
                  </a:lnTo>
                  <a:lnTo>
                    <a:pt x="1447" y="1622"/>
                  </a:lnTo>
                  <a:lnTo>
                    <a:pt x="1448" y="1623"/>
                  </a:lnTo>
                  <a:lnTo>
                    <a:pt x="1452" y="1627"/>
                  </a:lnTo>
                  <a:lnTo>
                    <a:pt x="1455" y="1629"/>
                  </a:lnTo>
                  <a:lnTo>
                    <a:pt x="1456" y="1629"/>
                  </a:lnTo>
                  <a:lnTo>
                    <a:pt x="1456" y="1630"/>
                  </a:lnTo>
                  <a:lnTo>
                    <a:pt x="1456" y="1631"/>
                  </a:lnTo>
                  <a:lnTo>
                    <a:pt x="1458" y="1636"/>
                  </a:lnTo>
                  <a:lnTo>
                    <a:pt x="1459" y="1641"/>
                  </a:lnTo>
                  <a:lnTo>
                    <a:pt x="1460" y="1641"/>
                  </a:lnTo>
                  <a:lnTo>
                    <a:pt x="1461" y="1643"/>
                  </a:lnTo>
                  <a:lnTo>
                    <a:pt x="1465" y="1647"/>
                  </a:lnTo>
                  <a:lnTo>
                    <a:pt x="1467" y="1651"/>
                  </a:lnTo>
                  <a:lnTo>
                    <a:pt x="1468" y="1651"/>
                  </a:lnTo>
                  <a:lnTo>
                    <a:pt x="1475" y="1656"/>
                  </a:lnTo>
                  <a:lnTo>
                    <a:pt x="1479" y="1658"/>
                  </a:lnTo>
                  <a:lnTo>
                    <a:pt x="1480" y="1658"/>
                  </a:lnTo>
                  <a:lnTo>
                    <a:pt x="1482" y="1659"/>
                  </a:lnTo>
                  <a:lnTo>
                    <a:pt x="1490" y="1660"/>
                  </a:lnTo>
                  <a:lnTo>
                    <a:pt x="1495" y="1662"/>
                  </a:lnTo>
                  <a:lnTo>
                    <a:pt x="1496" y="1662"/>
                  </a:lnTo>
                  <a:lnTo>
                    <a:pt x="1499" y="1664"/>
                  </a:lnTo>
                  <a:lnTo>
                    <a:pt x="1505" y="1667"/>
                  </a:lnTo>
                  <a:lnTo>
                    <a:pt x="1511" y="1670"/>
                  </a:lnTo>
                  <a:lnTo>
                    <a:pt x="1512" y="1670"/>
                  </a:lnTo>
                  <a:lnTo>
                    <a:pt x="1515" y="1677"/>
                  </a:lnTo>
                  <a:lnTo>
                    <a:pt x="1516" y="1680"/>
                  </a:lnTo>
                  <a:lnTo>
                    <a:pt x="1517" y="1680"/>
                  </a:lnTo>
                  <a:lnTo>
                    <a:pt x="1518" y="1681"/>
                  </a:lnTo>
                  <a:lnTo>
                    <a:pt x="1519" y="1680"/>
                  </a:lnTo>
                  <a:lnTo>
                    <a:pt x="1523" y="1679"/>
                  </a:lnTo>
                  <a:lnTo>
                    <a:pt x="1525" y="1678"/>
                  </a:lnTo>
                  <a:lnTo>
                    <a:pt x="1526" y="1677"/>
                  </a:lnTo>
                  <a:lnTo>
                    <a:pt x="1527" y="1677"/>
                  </a:lnTo>
                  <a:lnTo>
                    <a:pt x="1530" y="1676"/>
                  </a:lnTo>
                  <a:lnTo>
                    <a:pt x="1533" y="1676"/>
                  </a:lnTo>
                  <a:lnTo>
                    <a:pt x="1534" y="1675"/>
                  </a:lnTo>
                  <a:lnTo>
                    <a:pt x="1537" y="1677"/>
                  </a:lnTo>
                  <a:lnTo>
                    <a:pt x="1539" y="1678"/>
                  </a:lnTo>
                  <a:lnTo>
                    <a:pt x="1540" y="1678"/>
                  </a:lnTo>
                  <a:lnTo>
                    <a:pt x="1547" y="1681"/>
                  </a:lnTo>
                  <a:lnTo>
                    <a:pt x="1550" y="1682"/>
                  </a:lnTo>
                  <a:lnTo>
                    <a:pt x="1551" y="1682"/>
                  </a:lnTo>
                  <a:lnTo>
                    <a:pt x="1559" y="1685"/>
                  </a:lnTo>
                  <a:lnTo>
                    <a:pt x="1563" y="1685"/>
                  </a:lnTo>
                  <a:lnTo>
                    <a:pt x="1564" y="1685"/>
                  </a:lnTo>
                  <a:lnTo>
                    <a:pt x="1565" y="1686"/>
                  </a:lnTo>
                  <a:lnTo>
                    <a:pt x="1569" y="1688"/>
                  </a:lnTo>
                  <a:lnTo>
                    <a:pt x="1571" y="1689"/>
                  </a:lnTo>
                  <a:lnTo>
                    <a:pt x="1572" y="1689"/>
                  </a:lnTo>
                  <a:lnTo>
                    <a:pt x="1574" y="1691"/>
                  </a:lnTo>
                  <a:lnTo>
                    <a:pt x="1581" y="1697"/>
                  </a:lnTo>
                  <a:lnTo>
                    <a:pt x="1585" y="1700"/>
                  </a:lnTo>
                  <a:lnTo>
                    <a:pt x="1586" y="1700"/>
                  </a:lnTo>
                  <a:lnTo>
                    <a:pt x="1588" y="1702"/>
                  </a:lnTo>
                  <a:lnTo>
                    <a:pt x="1596" y="1705"/>
                  </a:lnTo>
                  <a:lnTo>
                    <a:pt x="1602" y="1709"/>
                  </a:lnTo>
                  <a:lnTo>
                    <a:pt x="1604" y="1709"/>
                  </a:lnTo>
                  <a:lnTo>
                    <a:pt x="1605" y="1713"/>
                  </a:lnTo>
                  <a:lnTo>
                    <a:pt x="1606" y="1714"/>
                  </a:lnTo>
                  <a:lnTo>
                    <a:pt x="1607" y="1714"/>
                  </a:lnTo>
                  <a:lnTo>
                    <a:pt x="1608" y="1714"/>
                  </a:lnTo>
                  <a:lnTo>
                    <a:pt x="1613" y="1713"/>
                  </a:lnTo>
                  <a:lnTo>
                    <a:pt x="1617" y="1713"/>
                  </a:lnTo>
                  <a:lnTo>
                    <a:pt x="1618" y="1712"/>
                  </a:lnTo>
                  <a:lnTo>
                    <a:pt x="1619" y="1711"/>
                  </a:lnTo>
                  <a:lnTo>
                    <a:pt x="1621" y="1710"/>
                  </a:lnTo>
                  <a:lnTo>
                    <a:pt x="1629" y="1706"/>
                  </a:lnTo>
                  <a:lnTo>
                    <a:pt x="1633" y="1705"/>
                  </a:lnTo>
                  <a:lnTo>
                    <a:pt x="1634" y="1704"/>
                  </a:lnTo>
                  <a:lnTo>
                    <a:pt x="1635" y="1703"/>
                  </a:lnTo>
                  <a:lnTo>
                    <a:pt x="1640" y="1698"/>
                  </a:lnTo>
                  <a:lnTo>
                    <a:pt x="1643" y="1694"/>
                  </a:lnTo>
                  <a:lnTo>
                    <a:pt x="1644" y="1693"/>
                  </a:lnTo>
                  <a:lnTo>
                    <a:pt x="1645" y="1692"/>
                  </a:lnTo>
                  <a:lnTo>
                    <a:pt x="1649" y="1689"/>
                  </a:lnTo>
                  <a:lnTo>
                    <a:pt x="1653" y="1687"/>
                  </a:lnTo>
                  <a:lnTo>
                    <a:pt x="1654" y="1686"/>
                  </a:lnTo>
                  <a:lnTo>
                    <a:pt x="1655" y="1686"/>
                  </a:lnTo>
                  <a:lnTo>
                    <a:pt x="1659" y="1685"/>
                  </a:lnTo>
                  <a:lnTo>
                    <a:pt x="1663" y="1683"/>
                  </a:lnTo>
                  <a:lnTo>
                    <a:pt x="1664" y="1682"/>
                  </a:lnTo>
                  <a:lnTo>
                    <a:pt x="1665" y="1682"/>
                  </a:lnTo>
                  <a:lnTo>
                    <a:pt x="1668" y="1682"/>
                  </a:lnTo>
                  <a:lnTo>
                    <a:pt x="1670" y="1682"/>
                  </a:lnTo>
                  <a:lnTo>
                    <a:pt x="1671" y="1681"/>
                  </a:lnTo>
                  <a:lnTo>
                    <a:pt x="1671" y="1679"/>
                  </a:lnTo>
                  <a:lnTo>
                    <a:pt x="1669" y="1678"/>
                  </a:lnTo>
                  <a:lnTo>
                    <a:pt x="1664" y="1675"/>
                  </a:lnTo>
                  <a:lnTo>
                    <a:pt x="1660" y="1671"/>
                  </a:lnTo>
                  <a:lnTo>
                    <a:pt x="1660" y="1670"/>
                  </a:lnTo>
                  <a:lnTo>
                    <a:pt x="1662" y="1670"/>
                  </a:lnTo>
                  <a:lnTo>
                    <a:pt x="1665" y="1670"/>
                  </a:lnTo>
                  <a:lnTo>
                    <a:pt x="1668" y="1670"/>
                  </a:lnTo>
                  <a:lnTo>
                    <a:pt x="1669" y="1670"/>
                  </a:lnTo>
                  <a:lnTo>
                    <a:pt x="1675" y="1667"/>
                  </a:lnTo>
                  <a:lnTo>
                    <a:pt x="1678" y="1665"/>
                  </a:lnTo>
                  <a:lnTo>
                    <a:pt x="1679" y="1664"/>
                  </a:lnTo>
                  <a:lnTo>
                    <a:pt x="1681" y="1663"/>
                  </a:lnTo>
                  <a:lnTo>
                    <a:pt x="1683" y="1662"/>
                  </a:lnTo>
                  <a:lnTo>
                    <a:pt x="1684" y="1663"/>
                  </a:lnTo>
                  <a:lnTo>
                    <a:pt x="1688" y="1665"/>
                  </a:lnTo>
                  <a:lnTo>
                    <a:pt x="1691" y="1666"/>
                  </a:lnTo>
                  <a:lnTo>
                    <a:pt x="1692" y="1666"/>
                  </a:lnTo>
                  <a:lnTo>
                    <a:pt x="1691" y="1668"/>
                  </a:lnTo>
                  <a:lnTo>
                    <a:pt x="1691" y="1674"/>
                  </a:lnTo>
                  <a:lnTo>
                    <a:pt x="1691" y="1678"/>
                  </a:lnTo>
                  <a:lnTo>
                    <a:pt x="1691" y="1678"/>
                  </a:lnTo>
                  <a:lnTo>
                    <a:pt x="1690" y="1680"/>
                  </a:lnTo>
                  <a:lnTo>
                    <a:pt x="1689" y="1683"/>
                  </a:lnTo>
                  <a:lnTo>
                    <a:pt x="1688" y="1687"/>
                  </a:lnTo>
                  <a:lnTo>
                    <a:pt x="1688" y="1687"/>
                  </a:lnTo>
                  <a:lnTo>
                    <a:pt x="1687" y="1687"/>
                  </a:lnTo>
                  <a:lnTo>
                    <a:pt x="1686" y="1687"/>
                  </a:lnTo>
                  <a:lnTo>
                    <a:pt x="1680" y="1687"/>
                  </a:lnTo>
                  <a:lnTo>
                    <a:pt x="1676" y="1687"/>
                  </a:lnTo>
                  <a:lnTo>
                    <a:pt x="1676" y="1686"/>
                  </a:lnTo>
                  <a:lnTo>
                    <a:pt x="1678" y="1690"/>
                  </a:lnTo>
                  <a:lnTo>
                    <a:pt x="1679" y="1691"/>
                  </a:lnTo>
                  <a:lnTo>
                    <a:pt x="1680" y="1691"/>
                  </a:lnTo>
                  <a:lnTo>
                    <a:pt x="1681" y="1692"/>
                  </a:lnTo>
                  <a:lnTo>
                    <a:pt x="1684" y="1694"/>
                  </a:lnTo>
                  <a:lnTo>
                    <a:pt x="1688" y="1695"/>
                  </a:lnTo>
                  <a:lnTo>
                    <a:pt x="1689" y="1695"/>
                  </a:lnTo>
                  <a:lnTo>
                    <a:pt x="1690" y="1695"/>
                  </a:lnTo>
                  <a:lnTo>
                    <a:pt x="1693" y="1694"/>
                  </a:lnTo>
                  <a:lnTo>
                    <a:pt x="1696" y="1693"/>
                  </a:lnTo>
                  <a:lnTo>
                    <a:pt x="1698" y="1692"/>
                  </a:lnTo>
                  <a:lnTo>
                    <a:pt x="1701" y="1691"/>
                  </a:lnTo>
                  <a:lnTo>
                    <a:pt x="1702" y="1690"/>
                  </a:lnTo>
                  <a:lnTo>
                    <a:pt x="1703" y="1689"/>
                  </a:lnTo>
                  <a:lnTo>
                    <a:pt x="1706" y="1687"/>
                  </a:lnTo>
                  <a:lnTo>
                    <a:pt x="1707" y="1686"/>
                  </a:lnTo>
                  <a:lnTo>
                    <a:pt x="1709" y="1685"/>
                  </a:lnTo>
                  <a:lnTo>
                    <a:pt x="1712" y="1690"/>
                  </a:lnTo>
                  <a:lnTo>
                    <a:pt x="1714" y="1692"/>
                  </a:lnTo>
                  <a:lnTo>
                    <a:pt x="1715" y="1692"/>
                  </a:lnTo>
                  <a:lnTo>
                    <a:pt x="1714" y="1693"/>
                  </a:lnTo>
                  <a:lnTo>
                    <a:pt x="1712" y="1698"/>
                  </a:lnTo>
                  <a:lnTo>
                    <a:pt x="1711" y="1701"/>
                  </a:lnTo>
                  <a:lnTo>
                    <a:pt x="1711" y="1701"/>
                  </a:lnTo>
                  <a:lnTo>
                    <a:pt x="1711" y="1702"/>
                  </a:lnTo>
                  <a:lnTo>
                    <a:pt x="1710" y="1705"/>
                  </a:lnTo>
                  <a:lnTo>
                    <a:pt x="1711" y="1705"/>
                  </a:lnTo>
                  <a:lnTo>
                    <a:pt x="1714" y="1711"/>
                  </a:lnTo>
                  <a:lnTo>
                    <a:pt x="1716" y="1713"/>
                  </a:lnTo>
                  <a:lnTo>
                    <a:pt x="1717" y="1713"/>
                  </a:lnTo>
                  <a:lnTo>
                    <a:pt x="1721" y="1713"/>
                  </a:lnTo>
                  <a:lnTo>
                    <a:pt x="1722" y="1713"/>
                  </a:lnTo>
                  <a:lnTo>
                    <a:pt x="1723" y="1713"/>
                  </a:lnTo>
                  <a:lnTo>
                    <a:pt x="1725" y="1714"/>
                  </a:lnTo>
                  <a:lnTo>
                    <a:pt x="1726" y="1714"/>
                  </a:lnTo>
                  <a:lnTo>
                    <a:pt x="1727" y="1714"/>
                  </a:lnTo>
                  <a:lnTo>
                    <a:pt x="1727" y="1715"/>
                  </a:lnTo>
                  <a:lnTo>
                    <a:pt x="1727" y="1716"/>
                  </a:lnTo>
                  <a:lnTo>
                    <a:pt x="1728" y="1720"/>
                  </a:lnTo>
                  <a:lnTo>
                    <a:pt x="1728" y="1723"/>
                  </a:lnTo>
                  <a:lnTo>
                    <a:pt x="1729" y="1723"/>
                  </a:lnTo>
                  <a:lnTo>
                    <a:pt x="1730" y="1724"/>
                  </a:lnTo>
                  <a:lnTo>
                    <a:pt x="1734" y="1725"/>
                  </a:lnTo>
                  <a:lnTo>
                    <a:pt x="1736" y="1726"/>
                  </a:lnTo>
                  <a:lnTo>
                    <a:pt x="1737" y="1726"/>
                  </a:lnTo>
                  <a:lnTo>
                    <a:pt x="1739" y="1726"/>
                  </a:lnTo>
                  <a:lnTo>
                    <a:pt x="1740" y="1726"/>
                  </a:lnTo>
                  <a:lnTo>
                    <a:pt x="1741" y="1726"/>
                  </a:lnTo>
                  <a:lnTo>
                    <a:pt x="1742" y="1732"/>
                  </a:lnTo>
                  <a:lnTo>
                    <a:pt x="1744" y="1734"/>
                  </a:lnTo>
                  <a:lnTo>
                    <a:pt x="1745" y="1734"/>
                  </a:lnTo>
                  <a:lnTo>
                    <a:pt x="1748" y="1740"/>
                  </a:lnTo>
                  <a:lnTo>
                    <a:pt x="1750" y="1744"/>
                  </a:lnTo>
                  <a:lnTo>
                    <a:pt x="1751" y="1744"/>
                  </a:lnTo>
                  <a:lnTo>
                    <a:pt x="1752" y="1740"/>
                  </a:lnTo>
                  <a:lnTo>
                    <a:pt x="1753" y="1739"/>
                  </a:lnTo>
                  <a:lnTo>
                    <a:pt x="1754" y="1738"/>
                  </a:lnTo>
                  <a:lnTo>
                    <a:pt x="1754" y="1737"/>
                  </a:lnTo>
                  <a:lnTo>
                    <a:pt x="1756" y="1734"/>
                  </a:lnTo>
                  <a:lnTo>
                    <a:pt x="1756" y="1732"/>
                  </a:lnTo>
                  <a:lnTo>
                    <a:pt x="1757" y="1730"/>
                  </a:lnTo>
                  <a:lnTo>
                    <a:pt x="1759" y="1725"/>
                  </a:lnTo>
                  <a:lnTo>
                    <a:pt x="1760" y="1722"/>
                  </a:lnTo>
                  <a:lnTo>
                    <a:pt x="1761" y="1721"/>
                  </a:lnTo>
                  <a:lnTo>
                    <a:pt x="1760" y="1721"/>
                  </a:lnTo>
                  <a:lnTo>
                    <a:pt x="1759" y="1721"/>
                  </a:lnTo>
                  <a:lnTo>
                    <a:pt x="1758" y="1721"/>
                  </a:lnTo>
                  <a:lnTo>
                    <a:pt x="1758" y="1721"/>
                  </a:lnTo>
                  <a:lnTo>
                    <a:pt x="1757" y="1722"/>
                  </a:lnTo>
                  <a:lnTo>
                    <a:pt x="1753" y="1723"/>
                  </a:lnTo>
                  <a:lnTo>
                    <a:pt x="1751" y="1724"/>
                  </a:lnTo>
                  <a:lnTo>
                    <a:pt x="1751" y="1724"/>
                  </a:lnTo>
                  <a:lnTo>
                    <a:pt x="1750" y="1725"/>
                  </a:lnTo>
                  <a:lnTo>
                    <a:pt x="1749" y="1728"/>
                  </a:lnTo>
                  <a:lnTo>
                    <a:pt x="1748" y="1729"/>
                  </a:lnTo>
                  <a:lnTo>
                    <a:pt x="1748" y="1729"/>
                  </a:lnTo>
                  <a:lnTo>
                    <a:pt x="1746" y="1727"/>
                  </a:lnTo>
                  <a:lnTo>
                    <a:pt x="1746" y="1725"/>
                  </a:lnTo>
                  <a:lnTo>
                    <a:pt x="1746" y="1724"/>
                  </a:lnTo>
                  <a:lnTo>
                    <a:pt x="1746" y="1721"/>
                  </a:lnTo>
                  <a:lnTo>
                    <a:pt x="1746" y="1718"/>
                  </a:lnTo>
                  <a:lnTo>
                    <a:pt x="1747" y="1717"/>
                  </a:lnTo>
                  <a:lnTo>
                    <a:pt x="1749" y="1717"/>
                  </a:lnTo>
                  <a:lnTo>
                    <a:pt x="1750" y="1717"/>
                  </a:lnTo>
                  <a:lnTo>
                    <a:pt x="1751" y="1716"/>
                  </a:lnTo>
                  <a:lnTo>
                    <a:pt x="1754" y="1718"/>
                  </a:lnTo>
                  <a:lnTo>
                    <a:pt x="1756" y="1718"/>
                  </a:lnTo>
                  <a:lnTo>
                    <a:pt x="1757" y="1718"/>
                  </a:lnTo>
                  <a:lnTo>
                    <a:pt x="1758" y="1718"/>
                  </a:lnTo>
                  <a:lnTo>
                    <a:pt x="1761" y="1717"/>
                  </a:lnTo>
                  <a:lnTo>
                    <a:pt x="1763" y="1717"/>
                  </a:lnTo>
                  <a:lnTo>
                    <a:pt x="1764" y="1716"/>
                  </a:lnTo>
                  <a:lnTo>
                    <a:pt x="1768" y="1716"/>
                  </a:lnTo>
                  <a:lnTo>
                    <a:pt x="1769" y="1716"/>
                  </a:lnTo>
                  <a:lnTo>
                    <a:pt x="1770" y="1715"/>
                  </a:lnTo>
                  <a:lnTo>
                    <a:pt x="1771" y="1717"/>
                  </a:lnTo>
                  <a:lnTo>
                    <a:pt x="1772" y="1718"/>
                  </a:lnTo>
                  <a:lnTo>
                    <a:pt x="1775" y="1716"/>
                  </a:lnTo>
                  <a:lnTo>
                    <a:pt x="1776" y="1715"/>
                  </a:lnTo>
                  <a:lnTo>
                    <a:pt x="1777" y="1714"/>
                  </a:lnTo>
                  <a:lnTo>
                    <a:pt x="1784" y="1711"/>
                  </a:lnTo>
                  <a:lnTo>
                    <a:pt x="1787" y="1710"/>
                  </a:lnTo>
                  <a:lnTo>
                    <a:pt x="1788" y="1709"/>
                  </a:lnTo>
                  <a:lnTo>
                    <a:pt x="1789" y="1706"/>
                  </a:lnTo>
                  <a:lnTo>
                    <a:pt x="1791" y="1705"/>
                  </a:lnTo>
                  <a:lnTo>
                    <a:pt x="1792" y="1704"/>
                  </a:lnTo>
                  <a:lnTo>
                    <a:pt x="1793" y="1703"/>
                  </a:lnTo>
                  <a:lnTo>
                    <a:pt x="1795" y="1702"/>
                  </a:lnTo>
                  <a:lnTo>
                    <a:pt x="1797" y="1700"/>
                  </a:lnTo>
                  <a:lnTo>
                    <a:pt x="1798" y="1699"/>
                  </a:lnTo>
                  <a:lnTo>
                    <a:pt x="1799" y="1698"/>
                  </a:lnTo>
                  <a:lnTo>
                    <a:pt x="1806" y="1694"/>
                  </a:lnTo>
                  <a:lnTo>
                    <a:pt x="1810" y="1692"/>
                  </a:lnTo>
                  <a:lnTo>
                    <a:pt x="1811" y="1691"/>
                  </a:lnTo>
                  <a:lnTo>
                    <a:pt x="1812" y="1690"/>
                  </a:lnTo>
                  <a:lnTo>
                    <a:pt x="1816" y="1687"/>
                  </a:lnTo>
                  <a:lnTo>
                    <a:pt x="1819" y="1685"/>
                  </a:lnTo>
                  <a:lnTo>
                    <a:pt x="1820" y="1683"/>
                  </a:lnTo>
                  <a:lnTo>
                    <a:pt x="1821" y="1683"/>
                  </a:lnTo>
                  <a:lnTo>
                    <a:pt x="1827" y="1682"/>
                  </a:lnTo>
                  <a:lnTo>
                    <a:pt x="1830" y="1681"/>
                  </a:lnTo>
                  <a:lnTo>
                    <a:pt x="1831" y="1680"/>
                  </a:lnTo>
                  <a:lnTo>
                    <a:pt x="1836" y="1678"/>
                  </a:lnTo>
                  <a:lnTo>
                    <a:pt x="1840" y="1677"/>
                  </a:lnTo>
                  <a:lnTo>
                    <a:pt x="1841" y="1676"/>
                  </a:lnTo>
                  <a:lnTo>
                    <a:pt x="1842" y="1676"/>
                  </a:lnTo>
                  <a:lnTo>
                    <a:pt x="1847" y="1675"/>
                  </a:lnTo>
                  <a:lnTo>
                    <a:pt x="1852" y="1675"/>
                  </a:lnTo>
                  <a:lnTo>
                    <a:pt x="1853" y="1674"/>
                  </a:lnTo>
                  <a:lnTo>
                    <a:pt x="1854" y="1674"/>
                  </a:lnTo>
                  <a:lnTo>
                    <a:pt x="1857" y="1674"/>
                  </a:lnTo>
                  <a:lnTo>
                    <a:pt x="1860" y="1674"/>
                  </a:lnTo>
                  <a:lnTo>
                    <a:pt x="1862" y="1674"/>
                  </a:lnTo>
                  <a:lnTo>
                    <a:pt x="1865" y="1675"/>
                  </a:lnTo>
                  <a:lnTo>
                    <a:pt x="1877" y="1676"/>
                  </a:lnTo>
                  <a:lnTo>
                    <a:pt x="1886" y="1677"/>
                  </a:lnTo>
                  <a:lnTo>
                    <a:pt x="1887" y="1677"/>
                  </a:lnTo>
                  <a:lnTo>
                    <a:pt x="1894" y="1678"/>
                  </a:lnTo>
                  <a:lnTo>
                    <a:pt x="1899" y="1678"/>
                  </a:lnTo>
                  <a:lnTo>
                    <a:pt x="1900" y="1678"/>
                  </a:lnTo>
                  <a:lnTo>
                    <a:pt x="1902" y="1678"/>
                  </a:lnTo>
                  <a:lnTo>
                    <a:pt x="1911" y="1677"/>
                  </a:lnTo>
                  <a:lnTo>
                    <a:pt x="1917" y="1676"/>
                  </a:lnTo>
                  <a:lnTo>
                    <a:pt x="1918" y="1675"/>
                  </a:lnTo>
                  <a:lnTo>
                    <a:pt x="1918" y="1674"/>
                  </a:lnTo>
                  <a:lnTo>
                    <a:pt x="1920" y="1668"/>
                  </a:lnTo>
                  <a:lnTo>
                    <a:pt x="1921" y="1664"/>
                  </a:lnTo>
                  <a:lnTo>
                    <a:pt x="1922" y="1663"/>
                  </a:lnTo>
                  <a:lnTo>
                    <a:pt x="1923" y="1663"/>
                  </a:lnTo>
                  <a:lnTo>
                    <a:pt x="1924" y="1663"/>
                  </a:lnTo>
                  <a:lnTo>
                    <a:pt x="1925" y="1663"/>
                  </a:lnTo>
                  <a:lnTo>
                    <a:pt x="1926" y="1664"/>
                  </a:lnTo>
                  <a:lnTo>
                    <a:pt x="1929" y="1667"/>
                  </a:lnTo>
                  <a:lnTo>
                    <a:pt x="1932" y="1668"/>
                  </a:lnTo>
                  <a:lnTo>
                    <a:pt x="1933" y="1668"/>
                  </a:lnTo>
                  <a:lnTo>
                    <a:pt x="1934" y="1665"/>
                  </a:lnTo>
                  <a:lnTo>
                    <a:pt x="1934" y="1664"/>
                  </a:lnTo>
                  <a:lnTo>
                    <a:pt x="1935" y="1663"/>
                  </a:lnTo>
                  <a:lnTo>
                    <a:pt x="1935" y="1662"/>
                  </a:lnTo>
                  <a:lnTo>
                    <a:pt x="1936" y="1658"/>
                  </a:lnTo>
                  <a:lnTo>
                    <a:pt x="1937" y="1655"/>
                  </a:lnTo>
                  <a:lnTo>
                    <a:pt x="1938" y="1654"/>
                  </a:lnTo>
                  <a:lnTo>
                    <a:pt x="1938" y="1653"/>
                  </a:lnTo>
                  <a:lnTo>
                    <a:pt x="1937" y="1650"/>
                  </a:lnTo>
                  <a:lnTo>
                    <a:pt x="1937" y="1646"/>
                  </a:lnTo>
                  <a:lnTo>
                    <a:pt x="1938" y="1645"/>
                  </a:lnTo>
                  <a:lnTo>
                    <a:pt x="1937" y="1641"/>
                  </a:lnTo>
                  <a:lnTo>
                    <a:pt x="1937" y="1637"/>
                  </a:lnTo>
                  <a:lnTo>
                    <a:pt x="1937" y="1636"/>
                  </a:lnTo>
                  <a:lnTo>
                    <a:pt x="1937" y="1633"/>
                  </a:lnTo>
                  <a:lnTo>
                    <a:pt x="1937" y="1632"/>
                  </a:lnTo>
                  <a:lnTo>
                    <a:pt x="1938" y="1631"/>
                  </a:lnTo>
                  <a:lnTo>
                    <a:pt x="1938" y="1630"/>
                  </a:lnTo>
                  <a:lnTo>
                    <a:pt x="1939" y="1627"/>
                  </a:lnTo>
                  <a:lnTo>
                    <a:pt x="1939" y="1623"/>
                  </a:lnTo>
                  <a:lnTo>
                    <a:pt x="1940" y="1622"/>
                  </a:lnTo>
                  <a:lnTo>
                    <a:pt x="1942" y="1619"/>
                  </a:lnTo>
                  <a:lnTo>
                    <a:pt x="1944" y="1617"/>
                  </a:lnTo>
                  <a:lnTo>
                    <a:pt x="1945" y="1616"/>
                  </a:lnTo>
                  <a:lnTo>
                    <a:pt x="1946" y="1612"/>
                  </a:lnTo>
                  <a:lnTo>
                    <a:pt x="1947" y="1611"/>
                  </a:lnTo>
                  <a:lnTo>
                    <a:pt x="1948" y="1610"/>
                  </a:lnTo>
                  <a:lnTo>
                    <a:pt x="1948" y="1609"/>
                  </a:lnTo>
                  <a:lnTo>
                    <a:pt x="1949" y="1605"/>
                  </a:lnTo>
                  <a:lnTo>
                    <a:pt x="1950" y="1601"/>
                  </a:lnTo>
                  <a:lnTo>
                    <a:pt x="1951" y="1600"/>
                  </a:lnTo>
                  <a:lnTo>
                    <a:pt x="1952" y="1598"/>
                  </a:lnTo>
                  <a:lnTo>
                    <a:pt x="1953" y="1596"/>
                  </a:lnTo>
                  <a:lnTo>
                    <a:pt x="1952" y="1593"/>
                  </a:lnTo>
                  <a:lnTo>
                    <a:pt x="1952" y="1590"/>
                  </a:lnTo>
                  <a:lnTo>
                    <a:pt x="1952" y="1589"/>
                  </a:lnTo>
                  <a:lnTo>
                    <a:pt x="1953" y="1586"/>
                  </a:lnTo>
                  <a:lnTo>
                    <a:pt x="1953" y="1584"/>
                  </a:lnTo>
                  <a:lnTo>
                    <a:pt x="1954" y="1583"/>
                  </a:lnTo>
                  <a:lnTo>
                    <a:pt x="1954" y="1582"/>
                  </a:lnTo>
                  <a:lnTo>
                    <a:pt x="1956" y="1577"/>
                  </a:lnTo>
                  <a:lnTo>
                    <a:pt x="1957" y="1574"/>
                  </a:lnTo>
                  <a:lnTo>
                    <a:pt x="1958" y="1573"/>
                  </a:lnTo>
                  <a:lnTo>
                    <a:pt x="1958" y="1572"/>
                  </a:lnTo>
                  <a:lnTo>
                    <a:pt x="1959" y="1566"/>
                  </a:lnTo>
                  <a:lnTo>
                    <a:pt x="1960" y="1562"/>
                  </a:lnTo>
                  <a:lnTo>
                    <a:pt x="1961" y="1561"/>
                  </a:lnTo>
                  <a:lnTo>
                    <a:pt x="1962" y="1558"/>
                  </a:lnTo>
                  <a:lnTo>
                    <a:pt x="1963" y="1557"/>
                  </a:lnTo>
                  <a:lnTo>
                    <a:pt x="1964" y="1555"/>
                  </a:lnTo>
                  <a:lnTo>
                    <a:pt x="1965" y="1554"/>
                  </a:lnTo>
                  <a:lnTo>
                    <a:pt x="1968" y="1553"/>
                  </a:lnTo>
                  <a:lnTo>
                    <a:pt x="1970" y="1549"/>
                  </a:lnTo>
                  <a:lnTo>
                    <a:pt x="1971" y="1546"/>
                  </a:lnTo>
                  <a:lnTo>
                    <a:pt x="1972" y="1545"/>
                  </a:lnTo>
                  <a:lnTo>
                    <a:pt x="1975" y="1541"/>
                  </a:lnTo>
                  <a:lnTo>
                    <a:pt x="1976" y="1540"/>
                  </a:lnTo>
                  <a:lnTo>
                    <a:pt x="1977" y="1539"/>
                  </a:lnTo>
                  <a:lnTo>
                    <a:pt x="1979" y="1537"/>
                  </a:lnTo>
                  <a:lnTo>
                    <a:pt x="1982" y="1529"/>
                  </a:lnTo>
                  <a:lnTo>
                    <a:pt x="1985" y="1524"/>
                  </a:lnTo>
                  <a:lnTo>
                    <a:pt x="1986" y="1523"/>
                  </a:lnTo>
                  <a:lnTo>
                    <a:pt x="1988" y="1526"/>
                  </a:lnTo>
                  <a:lnTo>
                    <a:pt x="1989" y="1527"/>
                  </a:lnTo>
                  <a:lnTo>
                    <a:pt x="1991" y="1527"/>
                  </a:lnTo>
                  <a:lnTo>
                    <a:pt x="1992" y="1529"/>
                  </a:lnTo>
                  <a:lnTo>
                    <a:pt x="1993" y="1529"/>
                  </a:lnTo>
                  <a:lnTo>
                    <a:pt x="1993" y="1528"/>
                  </a:lnTo>
                  <a:lnTo>
                    <a:pt x="1994" y="1524"/>
                  </a:lnTo>
                  <a:lnTo>
                    <a:pt x="1994" y="1520"/>
                  </a:lnTo>
                  <a:lnTo>
                    <a:pt x="1995" y="1519"/>
                  </a:lnTo>
                  <a:lnTo>
                    <a:pt x="1996" y="1515"/>
                  </a:lnTo>
                  <a:lnTo>
                    <a:pt x="1997" y="1513"/>
                  </a:lnTo>
                  <a:lnTo>
                    <a:pt x="1998" y="1512"/>
                  </a:lnTo>
                  <a:lnTo>
                    <a:pt x="2000" y="1507"/>
                  </a:lnTo>
                  <a:lnTo>
                    <a:pt x="2007" y="1492"/>
                  </a:lnTo>
                  <a:lnTo>
                    <a:pt x="2012" y="1481"/>
                  </a:lnTo>
                  <a:lnTo>
                    <a:pt x="2014" y="1480"/>
                  </a:lnTo>
                  <a:lnTo>
                    <a:pt x="2015" y="1479"/>
                  </a:lnTo>
                  <a:lnTo>
                    <a:pt x="2018" y="1476"/>
                  </a:lnTo>
                  <a:lnTo>
                    <a:pt x="2021" y="1472"/>
                  </a:lnTo>
                  <a:lnTo>
                    <a:pt x="2022" y="1471"/>
                  </a:lnTo>
                  <a:lnTo>
                    <a:pt x="2022" y="1470"/>
                  </a:lnTo>
                  <a:lnTo>
                    <a:pt x="2023" y="1466"/>
                  </a:lnTo>
                  <a:lnTo>
                    <a:pt x="2023" y="1462"/>
                  </a:lnTo>
                  <a:lnTo>
                    <a:pt x="2024" y="1461"/>
                  </a:lnTo>
                  <a:lnTo>
                    <a:pt x="2026" y="1461"/>
                  </a:lnTo>
                  <a:lnTo>
                    <a:pt x="2027" y="1461"/>
                  </a:lnTo>
                  <a:lnTo>
                    <a:pt x="2028" y="1461"/>
                  </a:lnTo>
                  <a:lnTo>
                    <a:pt x="2031" y="1456"/>
                  </a:lnTo>
                  <a:lnTo>
                    <a:pt x="2032" y="1453"/>
                  </a:lnTo>
                  <a:lnTo>
                    <a:pt x="2033" y="1452"/>
                  </a:lnTo>
                  <a:lnTo>
                    <a:pt x="2033" y="1450"/>
                  </a:lnTo>
                  <a:lnTo>
                    <a:pt x="2034" y="1445"/>
                  </a:lnTo>
                  <a:lnTo>
                    <a:pt x="2034" y="1442"/>
                  </a:lnTo>
                  <a:lnTo>
                    <a:pt x="2035" y="1441"/>
                  </a:lnTo>
                  <a:lnTo>
                    <a:pt x="2031" y="1439"/>
                  </a:lnTo>
                  <a:lnTo>
                    <a:pt x="2030" y="1438"/>
                  </a:lnTo>
                  <a:lnTo>
                    <a:pt x="2030" y="1437"/>
                  </a:lnTo>
                  <a:lnTo>
                    <a:pt x="2031" y="1436"/>
                  </a:lnTo>
                  <a:lnTo>
                    <a:pt x="2032" y="1434"/>
                  </a:lnTo>
                  <a:lnTo>
                    <a:pt x="2033" y="1434"/>
                  </a:lnTo>
                  <a:lnTo>
                    <a:pt x="2034" y="1434"/>
                  </a:lnTo>
                  <a:lnTo>
                    <a:pt x="2035" y="1433"/>
                  </a:lnTo>
                  <a:lnTo>
                    <a:pt x="2039" y="1433"/>
                  </a:lnTo>
                  <a:lnTo>
                    <a:pt x="2041" y="1433"/>
                  </a:lnTo>
                  <a:lnTo>
                    <a:pt x="2042" y="1432"/>
                  </a:lnTo>
                  <a:lnTo>
                    <a:pt x="2043" y="1431"/>
                  </a:lnTo>
                  <a:lnTo>
                    <a:pt x="2046" y="1427"/>
                  </a:lnTo>
                  <a:lnTo>
                    <a:pt x="2049" y="1424"/>
                  </a:lnTo>
                  <a:lnTo>
                    <a:pt x="2050" y="1423"/>
                  </a:lnTo>
                  <a:lnTo>
                    <a:pt x="2053" y="1415"/>
                  </a:lnTo>
                  <a:lnTo>
                    <a:pt x="2055" y="1411"/>
                  </a:lnTo>
                  <a:lnTo>
                    <a:pt x="2056" y="1410"/>
                  </a:lnTo>
                  <a:lnTo>
                    <a:pt x="2061" y="1407"/>
                  </a:lnTo>
                  <a:lnTo>
                    <a:pt x="2063" y="1404"/>
                  </a:lnTo>
                  <a:lnTo>
                    <a:pt x="2064" y="1403"/>
                  </a:lnTo>
                  <a:lnTo>
                    <a:pt x="2066" y="1399"/>
                  </a:lnTo>
                  <a:lnTo>
                    <a:pt x="2067" y="1397"/>
                  </a:lnTo>
                  <a:lnTo>
                    <a:pt x="2068" y="1396"/>
                  </a:lnTo>
                  <a:lnTo>
                    <a:pt x="2071" y="1395"/>
                  </a:lnTo>
                  <a:lnTo>
                    <a:pt x="2074" y="1395"/>
                  </a:lnTo>
                  <a:lnTo>
                    <a:pt x="2075" y="1394"/>
                  </a:lnTo>
                  <a:lnTo>
                    <a:pt x="2076" y="1394"/>
                  </a:lnTo>
                  <a:lnTo>
                    <a:pt x="2081" y="1392"/>
                  </a:lnTo>
                  <a:lnTo>
                    <a:pt x="2085" y="1392"/>
                  </a:lnTo>
                  <a:lnTo>
                    <a:pt x="2086" y="1391"/>
                  </a:lnTo>
                  <a:lnTo>
                    <a:pt x="2081" y="1389"/>
                  </a:lnTo>
                  <a:lnTo>
                    <a:pt x="2080" y="1388"/>
                  </a:lnTo>
                  <a:lnTo>
                    <a:pt x="2080" y="1387"/>
                  </a:lnTo>
                  <a:lnTo>
                    <a:pt x="2081" y="1386"/>
                  </a:lnTo>
                  <a:lnTo>
                    <a:pt x="2082" y="1385"/>
                  </a:lnTo>
                  <a:lnTo>
                    <a:pt x="2086" y="1385"/>
                  </a:lnTo>
                  <a:lnTo>
                    <a:pt x="2088" y="1385"/>
                  </a:lnTo>
                  <a:lnTo>
                    <a:pt x="2089" y="1385"/>
                  </a:lnTo>
                  <a:lnTo>
                    <a:pt x="2090" y="1384"/>
                  </a:lnTo>
                  <a:lnTo>
                    <a:pt x="2096" y="1380"/>
                  </a:lnTo>
                  <a:lnTo>
                    <a:pt x="2099" y="1378"/>
                  </a:lnTo>
                  <a:lnTo>
                    <a:pt x="2100" y="1377"/>
                  </a:lnTo>
                  <a:lnTo>
                    <a:pt x="2103" y="1374"/>
                  </a:lnTo>
                  <a:lnTo>
                    <a:pt x="2104" y="1373"/>
                  </a:lnTo>
                  <a:lnTo>
                    <a:pt x="2105" y="1372"/>
                  </a:lnTo>
                  <a:lnTo>
                    <a:pt x="2104" y="1368"/>
                  </a:lnTo>
                  <a:lnTo>
                    <a:pt x="2104" y="1367"/>
                  </a:lnTo>
                  <a:lnTo>
                    <a:pt x="2104" y="1366"/>
                  </a:lnTo>
                  <a:lnTo>
                    <a:pt x="2104" y="1363"/>
                  </a:lnTo>
                  <a:lnTo>
                    <a:pt x="2104" y="1361"/>
                  </a:lnTo>
                  <a:lnTo>
                    <a:pt x="2105" y="1360"/>
                  </a:lnTo>
                  <a:lnTo>
                    <a:pt x="2109" y="1356"/>
                  </a:lnTo>
                  <a:lnTo>
                    <a:pt x="2111" y="1355"/>
                  </a:lnTo>
                  <a:lnTo>
                    <a:pt x="2112" y="1354"/>
                  </a:lnTo>
                  <a:lnTo>
                    <a:pt x="2114" y="1351"/>
                  </a:lnTo>
                  <a:lnTo>
                    <a:pt x="2115" y="1349"/>
                  </a:lnTo>
                  <a:lnTo>
                    <a:pt x="2116" y="1348"/>
                  </a:lnTo>
                  <a:lnTo>
                    <a:pt x="2120" y="1345"/>
                  </a:lnTo>
                  <a:lnTo>
                    <a:pt x="2121" y="1344"/>
                  </a:lnTo>
                  <a:lnTo>
                    <a:pt x="2122" y="1343"/>
                  </a:lnTo>
                  <a:lnTo>
                    <a:pt x="2124" y="1339"/>
                  </a:lnTo>
                  <a:lnTo>
                    <a:pt x="2125" y="1337"/>
                  </a:lnTo>
                  <a:lnTo>
                    <a:pt x="2126" y="1336"/>
                  </a:lnTo>
                  <a:lnTo>
                    <a:pt x="2126" y="1334"/>
                  </a:lnTo>
                  <a:lnTo>
                    <a:pt x="2126" y="1333"/>
                  </a:lnTo>
                  <a:lnTo>
                    <a:pt x="2127" y="1332"/>
                  </a:lnTo>
                  <a:lnTo>
                    <a:pt x="2129" y="1329"/>
                  </a:lnTo>
                  <a:lnTo>
                    <a:pt x="2136" y="1318"/>
                  </a:lnTo>
                  <a:lnTo>
                    <a:pt x="2140" y="1309"/>
                  </a:lnTo>
                  <a:lnTo>
                    <a:pt x="2141" y="1308"/>
                  </a:lnTo>
                  <a:lnTo>
                    <a:pt x="2141" y="1305"/>
                  </a:lnTo>
                  <a:lnTo>
                    <a:pt x="2141" y="1303"/>
                  </a:lnTo>
                  <a:lnTo>
                    <a:pt x="2143" y="1302"/>
                  </a:lnTo>
                  <a:lnTo>
                    <a:pt x="2145" y="1298"/>
                  </a:lnTo>
                  <a:lnTo>
                    <a:pt x="2146" y="1297"/>
                  </a:lnTo>
                  <a:lnTo>
                    <a:pt x="2147" y="1296"/>
                  </a:lnTo>
                  <a:lnTo>
                    <a:pt x="2147" y="1295"/>
                  </a:lnTo>
                  <a:lnTo>
                    <a:pt x="2146" y="1292"/>
                  </a:lnTo>
                  <a:lnTo>
                    <a:pt x="2146" y="1289"/>
                  </a:lnTo>
                  <a:lnTo>
                    <a:pt x="2147" y="1287"/>
                  </a:lnTo>
                  <a:lnTo>
                    <a:pt x="2147" y="1286"/>
                  </a:lnTo>
                  <a:lnTo>
                    <a:pt x="2146" y="1282"/>
                  </a:lnTo>
                  <a:lnTo>
                    <a:pt x="2146" y="1279"/>
                  </a:lnTo>
                  <a:lnTo>
                    <a:pt x="2147" y="1278"/>
                  </a:lnTo>
                  <a:lnTo>
                    <a:pt x="2148" y="1278"/>
                  </a:lnTo>
                  <a:lnTo>
                    <a:pt x="2148" y="1275"/>
                  </a:lnTo>
                  <a:lnTo>
                    <a:pt x="2148" y="1274"/>
                  </a:lnTo>
                  <a:lnTo>
                    <a:pt x="2149" y="1273"/>
                  </a:lnTo>
                  <a:lnTo>
                    <a:pt x="2149" y="1272"/>
                  </a:lnTo>
                  <a:lnTo>
                    <a:pt x="2150" y="1267"/>
                  </a:lnTo>
                  <a:lnTo>
                    <a:pt x="2151" y="1262"/>
                  </a:lnTo>
                  <a:lnTo>
                    <a:pt x="2152" y="1261"/>
                  </a:lnTo>
                  <a:lnTo>
                    <a:pt x="2155" y="1257"/>
                  </a:lnTo>
                  <a:lnTo>
                    <a:pt x="2156" y="1255"/>
                  </a:lnTo>
                  <a:lnTo>
                    <a:pt x="2157" y="1254"/>
                  </a:lnTo>
                  <a:lnTo>
                    <a:pt x="2160" y="1248"/>
                  </a:lnTo>
                  <a:lnTo>
                    <a:pt x="2161" y="1245"/>
                  </a:lnTo>
                  <a:lnTo>
                    <a:pt x="2162" y="1244"/>
                  </a:lnTo>
                  <a:lnTo>
                    <a:pt x="2163" y="1243"/>
                  </a:lnTo>
                  <a:lnTo>
                    <a:pt x="2164" y="1241"/>
                  </a:lnTo>
                  <a:lnTo>
                    <a:pt x="2165" y="1237"/>
                  </a:lnTo>
                  <a:lnTo>
                    <a:pt x="2169" y="1224"/>
                  </a:lnTo>
                  <a:lnTo>
                    <a:pt x="2172" y="1213"/>
                  </a:lnTo>
                  <a:lnTo>
                    <a:pt x="2173" y="1212"/>
                  </a:lnTo>
                  <a:lnTo>
                    <a:pt x="2173" y="1210"/>
                  </a:lnTo>
                  <a:lnTo>
                    <a:pt x="2176" y="1201"/>
                  </a:lnTo>
                  <a:lnTo>
                    <a:pt x="2178" y="1194"/>
                  </a:lnTo>
                  <a:lnTo>
                    <a:pt x="2179" y="1193"/>
                  </a:lnTo>
                  <a:lnTo>
                    <a:pt x="2182" y="1185"/>
                  </a:lnTo>
                  <a:lnTo>
                    <a:pt x="2184" y="1179"/>
                  </a:lnTo>
                  <a:lnTo>
                    <a:pt x="2185" y="1178"/>
                  </a:lnTo>
                  <a:lnTo>
                    <a:pt x="2187" y="1174"/>
                  </a:lnTo>
                  <a:lnTo>
                    <a:pt x="2188" y="1171"/>
                  </a:lnTo>
                  <a:lnTo>
                    <a:pt x="2190" y="1170"/>
                  </a:lnTo>
                  <a:lnTo>
                    <a:pt x="2190" y="1168"/>
                  </a:lnTo>
                  <a:lnTo>
                    <a:pt x="2192" y="1162"/>
                  </a:lnTo>
                  <a:lnTo>
                    <a:pt x="2193" y="1157"/>
                  </a:lnTo>
                  <a:lnTo>
                    <a:pt x="2194" y="1156"/>
                  </a:lnTo>
                  <a:lnTo>
                    <a:pt x="2194" y="1155"/>
                  </a:lnTo>
                  <a:lnTo>
                    <a:pt x="2195" y="1150"/>
                  </a:lnTo>
                  <a:lnTo>
                    <a:pt x="2195" y="1145"/>
                  </a:lnTo>
                  <a:lnTo>
                    <a:pt x="2196" y="1144"/>
                  </a:lnTo>
                  <a:lnTo>
                    <a:pt x="2196" y="1143"/>
                  </a:lnTo>
                  <a:lnTo>
                    <a:pt x="2195" y="1140"/>
                  </a:lnTo>
                  <a:lnTo>
                    <a:pt x="2195" y="1138"/>
                  </a:lnTo>
                  <a:lnTo>
                    <a:pt x="2196" y="1136"/>
                  </a:lnTo>
                  <a:lnTo>
                    <a:pt x="2196" y="1133"/>
                  </a:lnTo>
                  <a:lnTo>
                    <a:pt x="2196" y="1131"/>
                  </a:lnTo>
                  <a:lnTo>
                    <a:pt x="2197" y="1130"/>
                  </a:lnTo>
                  <a:lnTo>
                    <a:pt x="2196" y="1128"/>
                  </a:lnTo>
                  <a:lnTo>
                    <a:pt x="2195" y="1120"/>
                  </a:lnTo>
                  <a:lnTo>
                    <a:pt x="2195" y="1113"/>
                  </a:lnTo>
                  <a:lnTo>
                    <a:pt x="2195" y="1112"/>
                  </a:lnTo>
                  <a:lnTo>
                    <a:pt x="2194" y="1110"/>
                  </a:lnTo>
                  <a:lnTo>
                    <a:pt x="2194" y="1109"/>
                  </a:lnTo>
                  <a:lnTo>
                    <a:pt x="2194" y="1108"/>
                  </a:lnTo>
                  <a:lnTo>
                    <a:pt x="2194" y="1107"/>
                  </a:lnTo>
                  <a:lnTo>
                    <a:pt x="2193" y="1104"/>
                  </a:lnTo>
                  <a:lnTo>
                    <a:pt x="2193" y="1101"/>
                  </a:lnTo>
                  <a:lnTo>
                    <a:pt x="2194" y="1100"/>
                  </a:lnTo>
                  <a:lnTo>
                    <a:pt x="2193" y="1099"/>
                  </a:lnTo>
                  <a:lnTo>
                    <a:pt x="2191" y="1095"/>
                  </a:lnTo>
                  <a:lnTo>
                    <a:pt x="2190" y="1092"/>
                  </a:lnTo>
                  <a:lnTo>
                    <a:pt x="2190" y="1091"/>
                  </a:lnTo>
                  <a:lnTo>
                    <a:pt x="2188" y="1086"/>
                  </a:lnTo>
                  <a:lnTo>
                    <a:pt x="2188" y="1084"/>
                  </a:lnTo>
                  <a:lnTo>
                    <a:pt x="2188" y="1083"/>
                  </a:lnTo>
                  <a:lnTo>
                    <a:pt x="2188" y="1082"/>
                  </a:lnTo>
                  <a:lnTo>
                    <a:pt x="2187" y="1076"/>
                  </a:lnTo>
                  <a:lnTo>
                    <a:pt x="2187" y="1072"/>
                  </a:lnTo>
                  <a:lnTo>
                    <a:pt x="2188" y="1071"/>
                  </a:lnTo>
                  <a:lnTo>
                    <a:pt x="2186" y="1069"/>
                  </a:lnTo>
                  <a:lnTo>
                    <a:pt x="2185" y="1068"/>
                  </a:lnTo>
                  <a:lnTo>
                    <a:pt x="2185" y="1066"/>
                  </a:lnTo>
                  <a:lnTo>
                    <a:pt x="2184" y="1063"/>
                  </a:lnTo>
                  <a:lnTo>
                    <a:pt x="2184" y="1061"/>
                  </a:lnTo>
                  <a:lnTo>
                    <a:pt x="2185" y="1060"/>
                  </a:lnTo>
                  <a:lnTo>
                    <a:pt x="2184" y="1058"/>
                  </a:lnTo>
                  <a:lnTo>
                    <a:pt x="2184" y="1057"/>
                  </a:lnTo>
                  <a:lnTo>
                    <a:pt x="2185" y="1053"/>
                  </a:lnTo>
                  <a:lnTo>
                    <a:pt x="2185" y="1051"/>
                  </a:lnTo>
                  <a:lnTo>
                    <a:pt x="2186" y="1050"/>
                  </a:lnTo>
                  <a:lnTo>
                    <a:pt x="2188" y="1052"/>
                  </a:lnTo>
                  <a:lnTo>
                    <a:pt x="2191" y="1052"/>
                  </a:lnTo>
                  <a:lnTo>
                    <a:pt x="2188" y="1047"/>
                  </a:lnTo>
                  <a:lnTo>
                    <a:pt x="2188" y="1043"/>
                  </a:lnTo>
                  <a:lnTo>
                    <a:pt x="2188" y="1042"/>
                  </a:lnTo>
                  <a:lnTo>
                    <a:pt x="2188" y="1039"/>
                  </a:lnTo>
                  <a:lnTo>
                    <a:pt x="2188" y="1026"/>
                  </a:lnTo>
                  <a:lnTo>
                    <a:pt x="2188" y="1016"/>
                  </a:lnTo>
                  <a:lnTo>
                    <a:pt x="2190" y="1015"/>
                  </a:lnTo>
                  <a:lnTo>
                    <a:pt x="2188" y="1008"/>
                  </a:lnTo>
                  <a:lnTo>
                    <a:pt x="2188" y="1005"/>
                  </a:lnTo>
                  <a:lnTo>
                    <a:pt x="2188" y="1004"/>
                  </a:lnTo>
                  <a:lnTo>
                    <a:pt x="2188" y="1002"/>
                  </a:lnTo>
                  <a:lnTo>
                    <a:pt x="2192" y="995"/>
                  </a:lnTo>
                  <a:lnTo>
                    <a:pt x="2193" y="991"/>
                  </a:lnTo>
                  <a:lnTo>
                    <a:pt x="2194" y="990"/>
                  </a:lnTo>
                  <a:lnTo>
                    <a:pt x="2194" y="988"/>
                  </a:lnTo>
                  <a:lnTo>
                    <a:pt x="2193" y="981"/>
                  </a:lnTo>
                  <a:lnTo>
                    <a:pt x="2193" y="976"/>
                  </a:lnTo>
                  <a:lnTo>
                    <a:pt x="2194" y="975"/>
                  </a:lnTo>
                  <a:lnTo>
                    <a:pt x="2193" y="976"/>
                  </a:lnTo>
                  <a:lnTo>
                    <a:pt x="2191" y="979"/>
                  </a:lnTo>
                  <a:lnTo>
                    <a:pt x="2190" y="981"/>
                  </a:lnTo>
                  <a:lnTo>
                    <a:pt x="2190" y="981"/>
                  </a:lnTo>
                  <a:lnTo>
                    <a:pt x="2187" y="978"/>
                  </a:lnTo>
                  <a:lnTo>
                    <a:pt x="2187" y="976"/>
                  </a:lnTo>
                  <a:lnTo>
                    <a:pt x="2187" y="975"/>
                  </a:lnTo>
                  <a:lnTo>
                    <a:pt x="2185" y="969"/>
                  </a:lnTo>
                  <a:lnTo>
                    <a:pt x="2184" y="966"/>
                  </a:lnTo>
                  <a:lnTo>
                    <a:pt x="2184" y="965"/>
                  </a:lnTo>
                  <a:lnTo>
                    <a:pt x="2184" y="964"/>
                  </a:lnTo>
                  <a:lnTo>
                    <a:pt x="2183" y="959"/>
                  </a:lnTo>
                  <a:lnTo>
                    <a:pt x="2183" y="956"/>
                  </a:lnTo>
                  <a:lnTo>
                    <a:pt x="2184" y="955"/>
                  </a:lnTo>
                  <a:lnTo>
                    <a:pt x="2184" y="954"/>
                  </a:lnTo>
                  <a:lnTo>
                    <a:pt x="2183" y="951"/>
                  </a:lnTo>
                  <a:lnTo>
                    <a:pt x="2183" y="947"/>
                  </a:lnTo>
                  <a:lnTo>
                    <a:pt x="2184" y="946"/>
                  </a:lnTo>
                  <a:lnTo>
                    <a:pt x="2183" y="942"/>
                  </a:lnTo>
                  <a:lnTo>
                    <a:pt x="2183" y="938"/>
                  </a:lnTo>
                  <a:lnTo>
                    <a:pt x="2183" y="937"/>
                  </a:lnTo>
                  <a:lnTo>
                    <a:pt x="2175" y="934"/>
                  </a:lnTo>
                  <a:lnTo>
                    <a:pt x="2172" y="932"/>
                  </a:lnTo>
                  <a:lnTo>
                    <a:pt x="2172" y="931"/>
                  </a:lnTo>
                  <a:lnTo>
                    <a:pt x="2173" y="928"/>
                  </a:lnTo>
                  <a:lnTo>
                    <a:pt x="2173" y="926"/>
                  </a:lnTo>
                  <a:lnTo>
                    <a:pt x="2174" y="925"/>
                  </a:lnTo>
                  <a:lnTo>
                    <a:pt x="2173" y="924"/>
                  </a:lnTo>
                  <a:lnTo>
                    <a:pt x="2170" y="919"/>
                  </a:lnTo>
                  <a:lnTo>
                    <a:pt x="2168" y="915"/>
                  </a:lnTo>
                  <a:lnTo>
                    <a:pt x="2168" y="914"/>
                  </a:lnTo>
                  <a:lnTo>
                    <a:pt x="2165" y="909"/>
                  </a:lnTo>
                  <a:lnTo>
                    <a:pt x="2164" y="906"/>
                  </a:lnTo>
                  <a:lnTo>
                    <a:pt x="2164" y="905"/>
                  </a:lnTo>
                  <a:lnTo>
                    <a:pt x="2164" y="903"/>
                  </a:lnTo>
                  <a:lnTo>
                    <a:pt x="2164" y="902"/>
                  </a:lnTo>
                  <a:lnTo>
                    <a:pt x="2165" y="901"/>
                  </a:lnTo>
                  <a:lnTo>
                    <a:pt x="2159" y="899"/>
                  </a:lnTo>
                  <a:lnTo>
                    <a:pt x="2156" y="898"/>
                  </a:lnTo>
                  <a:lnTo>
                    <a:pt x="2156" y="897"/>
                  </a:lnTo>
                  <a:lnTo>
                    <a:pt x="2150" y="891"/>
                  </a:lnTo>
                  <a:lnTo>
                    <a:pt x="2148" y="888"/>
                  </a:lnTo>
                  <a:lnTo>
                    <a:pt x="2148" y="887"/>
                  </a:lnTo>
                  <a:lnTo>
                    <a:pt x="2147" y="884"/>
                  </a:lnTo>
                  <a:lnTo>
                    <a:pt x="2147" y="883"/>
                  </a:lnTo>
                  <a:lnTo>
                    <a:pt x="2147" y="882"/>
                  </a:lnTo>
                  <a:lnTo>
                    <a:pt x="2145" y="880"/>
                  </a:lnTo>
                  <a:lnTo>
                    <a:pt x="2139" y="877"/>
                  </a:lnTo>
                  <a:lnTo>
                    <a:pt x="2135" y="874"/>
                  </a:lnTo>
                  <a:lnTo>
                    <a:pt x="2135" y="873"/>
                  </a:lnTo>
                  <a:lnTo>
                    <a:pt x="2135" y="872"/>
                  </a:lnTo>
                  <a:lnTo>
                    <a:pt x="2135" y="866"/>
                  </a:lnTo>
                  <a:lnTo>
                    <a:pt x="2135" y="862"/>
                  </a:lnTo>
                  <a:lnTo>
                    <a:pt x="2136" y="861"/>
                  </a:lnTo>
                  <a:lnTo>
                    <a:pt x="2135" y="860"/>
                  </a:lnTo>
                  <a:lnTo>
                    <a:pt x="2132" y="856"/>
                  </a:lnTo>
                  <a:lnTo>
                    <a:pt x="2130" y="854"/>
                  </a:lnTo>
                  <a:lnTo>
                    <a:pt x="2130" y="853"/>
                  </a:lnTo>
                  <a:lnTo>
                    <a:pt x="2129" y="853"/>
                  </a:lnTo>
                  <a:lnTo>
                    <a:pt x="2128" y="853"/>
                  </a:lnTo>
                  <a:lnTo>
                    <a:pt x="2122" y="853"/>
                  </a:lnTo>
                  <a:lnTo>
                    <a:pt x="2117" y="853"/>
                  </a:lnTo>
                  <a:lnTo>
                    <a:pt x="2117" y="852"/>
                  </a:lnTo>
                  <a:lnTo>
                    <a:pt x="2112" y="849"/>
                  </a:lnTo>
                  <a:lnTo>
                    <a:pt x="2110" y="847"/>
                  </a:lnTo>
                  <a:lnTo>
                    <a:pt x="2110" y="845"/>
                  </a:lnTo>
                  <a:lnTo>
                    <a:pt x="2109" y="844"/>
                  </a:lnTo>
                  <a:lnTo>
                    <a:pt x="2105" y="841"/>
                  </a:lnTo>
                  <a:lnTo>
                    <a:pt x="2104" y="839"/>
                  </a:lnTo>
                  <a:lnTo>
                    <a:pt x="2104" y="838"/>
                  </a:lnTo>
                  <a:lnTo>
                    <a:pt x="2103" y="837"/>
                  </a:lnTo>
                  <a:lnTo>
                    <a:pt x="2100" y="833"/>
                  </a:lnTo>
                  <a:lnTo>
                    <a:pt x="2099" y="830"/>
                  </a:lnTo>
                  <a:lnTo>
                    <a:pt x="2099" y="829"/>
                  </a:lnTo>
                  <a:lnTo>
                    <a:pt x="2097" y="828"/>
                  </a:lnTo>
                  <a:lnTo>
                    <a:pt x="2093" y="825"/>
                  </a:lnTo>
                  <a:lnTo>
                    <a:pt x="2091" y="823"/>
                  </a:lnTo>
                  <a:lnTo>
                    <a:pt x="2091" y="821"/>
                  </a:lnTo>
                  <a:lnTo>
                    <a:pt x="2090" y="819"/>
                  </a:lnTo>
                  <a:lnTo>
                    <a:pt x="2089" y="813"/>
                  </a:lnTo>
                  <a:lnTo>
                    <a:pt x="2089" y="808"/>
                  </a:lnTo>
                  <a:lnTo>
                    <a:pt x="2089" y="807"/>
                  </a:lnTo>
                  <a:lnTo>
                    <a:pt x="2089" y="805"/>
                  </a:lnTo>
                  <a:lnTo>
                    <a:pt x="2089" y="798"/>
                  </a:lnTo>
                  <a:lnTo>
                    <a:pt x="2089" y="793"/>
                  </a:lnTo>
                  <a:lnTo>
                    <a:pt x="2090" y="792"/>
                  </a:lnTo>
                  <a:lnTo>
                    <a:pt x="2090" y="790"/>
                  </a:lnTo>
                  <a:lnTo>
                    <a:pt x="2090" y="782"/>
                  </a:lnTo>
                  <a:lnTo>
                    <a:pt x="2090" y="777"/>
                  </a:lnTo>
                  <a:lnTo>
                    <a:pt x="2091" y="775"/>
                  </a:lnTo>
                  <a:lnTo>
                    <a:pt x="2090" y="766"/>
                  </a:lnTo>
                  <a:lnTo>
                    <a:pt x="2090" y="760"/>
                  </a:lnTo>
                  <a:lnTo>
                    <a:pt x="2090" y="759"/>
                  </a:lnTo>
                  <a:lnTo>
                    <a:pt x="2088" y="758"/>
                  </a:lnTo>
                  <a:lnTo>
                    <a:pt x="2088" y="757"/>
                  </a:lnTo>
                  <a:lnTo>
                    <a:pt x="2088" y="756"/>
                  </a:lnTo>
                  <a:lnTo>
                    <a:pt x="2087" y="753"/>
                  </a:lnTo>
                  <a:lnTo>
                    <a:pt x="2087" y="750"/>
                  </a:lnTo>
                  <a:lnTo>
                    <a:pt x="2088" y="749"/>
                  </a:lnTo>
                  <a:lnTo>
                    <a:pt x="2085" y="747"/>
                  </a:lnTo>
                  <a:lnTo>
                    <a:pt x="2083" y="746"/>
                  </a:lnTo>
                  <a:lnTo>
                    <a:pt x="2083" y="745"/>
                  </a:lnTo>
                  <a:lnTo>
                    <a:pt x="2082" y="748"/>
                  </a:lnTo>
                  <a:lnTo>
                    <a:pt x="2081" y="755"/>
                  </a:lnTo>
                  <a:lnTo>
                    <a:pt x="2080" y="760"/>
                  </a:lnTo>
                  <a:lnTo>
                    <a:pt x="2080" y="760"/>
                  </a:lnTo>
                  <a:lnTo>
                    <a:pt x="2078" y="759"/>
                  </a:lnTo>
                  <a:lnTo>
                    <a:pt x="2075" y="756"/>
                  </a:lnTo>
                  <a:lnTo>
                    <a:pt x="2073" y="754"/>
                  </a:lnTo>
                  <a:lnTo>
                    <a:pt x="2073" y="753"/>
                  </a:lnTo>
                  <a:lnTo>
                    <a:pt x="2065" y="749"/>
                  </a:lnTo>
                  <a:lnTo>
                    <a:pt x="2062" y="747"/>
                  </a:lnTo>
                  <a:lnTo>
                    <a:pt x="2062" y="746"/>
                  </a:lnTo>
                  <a:lnTo>
                    <a:pt x="2057" y="743"/>
                  </a:lnTo>
                  <a:lnTo>
                    <a:pt x="2056" y="742"/>
                  </a:lnTo>
                  <a:lnTo>
                    <a:pt x="2056" y="740"/>
                  </a:lnTo>
                  <a:lnTo>
                    <a:pt x="2054" y="734"/>
                  </a:lnTo>
                  <a:lnTo>
                    <a:pt x="2054" y="731"/>
                  </a:lnTo>
                  <a:lnTo>
                    <a:pt x="2054" y="730"/>
                  </a:lnTo>
                  <a:lnTo>
                    <a:pt x="2053" y="731"/>
                  </a:lnTo>
                  <a:lnTo>
                    <a:pt x="2050" y="733"/>
                  </a:lnTo>
                  <a:lnTo>
                    <a:pt x="2047" y="734"/>
                  </a:lnTo>
                  <a:lnTo>
                    <a:pt x="2047" y="734"/>
                  </a:lnTo>
                  <a:lnTo>
                    <a:pt x="2046" y="737"/>
                  </a:lnTo>
                  <a:lnTo>
                    <a:pt x="2046" y="744"/>
                  </a:lnTo>
                  <a:lnTo>
                    <a:pt x="2046" y="749"/>
                  </a:lnTo>
                  <a:lnTo>
                    <a:pt x="2046" y="749"/>
                  </a:lnTo>
                  <a:lnTo>
                    <a:pt x="2045" y="749"/>
                  </a:lnTo>
                  <a:lnTo>
                    <a:pt x="2042" y="749"/>
                  </a:lnTo>
                  <a:lnTo>
                    <a:pt x="2040" y="749"/>
                  </a:lnTo>
                  <a:lnTo>
                    <a:pt x="2040" y="749"/>
                  </a:lnTo>
                  <a:lnTo>
                    <a:pt x="2039" y="750"/>
                  </a:lnTo>
                  <a:lnTo>
                    <a:pt x="2036" y="751"/>
                  </a:lnTo>
                  <a:lnTo>
                    <a:pt x="2035" y="751"/>
                  </a:lnTo>
                  <a:lnTo>
                    <a:pt x="2034" y="751"/>
                  </a:lnTo>
                  <a:lnTo>
                    <a:pt x="2033" y="751"/>
                  </a:lnTo>
                  <a:lnTo>
                    <a:pt x="2032" y="751"/>
                  </a:lnTo>
                  <a:lnTo>
                    <a:pt x="2032" y="750"/>
                  </a:lnTo>
                  <a:lnTo>
                    <a:pt x="2031" y="746"/>
                  </a:lnTo>
                  <a:lnTo>
                    <a:pt x="2031" y="743"/>
                  </a:lnTo>
                  <a:lnTo>
                    <a:pt x="2031" y="742"/>
                  </a:lnTo>
                  <a:lnTo>
                    <a:pt x="2029" y="738"/>
                  </a:lnTo>
                  <a:lnTo>
                    <a:pt x="2028" y="737"/>
                  </a:lnTo>
                  <a:lnTo>
                    <a:pt x="2028" y="736"/>
                  </a:lnTo>
                  <a:lnTo>
                    <a:pt x="2027" y="733"/>
                  </a:lnTo>
                  <a:lnTo>
                    <a:pt x="2027" y="732"/>
                  </a:lnTo>
                  <a:lnTo>
                    <a:pt x="2027" y="731"/>
                  </a:lnTo>
                  <a:lnTo>
                    <a:pt x="2027" y="727"/>
                  </a:lnTo>
                  <a:lnTo>
                    <a:pt x="2026" y="727"/>
                  </a:lnTo>
                  <a:lnTo>
                    <a:pt x="2027" y="727"/>
                  </a:lnTo>
                  <a:lnTo>
                    <a:pt x="2026" y="727"/>
                  </a:lnTo>
                  <a:lnTo>
                    <a:pt x="2027" y="727"/>
                  </a:lnTo>
                  <a:lnTo>
                    <a:pt x="2024" y="724"/>
                  </a:lnTo>
                  <a:lnTo>
                    <a:pt x="2024" y="723"/>
                  </a:lnTo>
                  <a:lnTo>
                    <a:pt x="2024" y="722"/>
                  </a:lnTo>
                  <a:lnTo>
                    <a:pt x="2024" y="721"/>
                  </a:lnTo>
                  <a:lnTo>
                    <a:pt x="2023" y="715"/>
                  </a:lnTo>
                  <a:lnTo>
                    <a:pt x="2023" y="712"/>
                  </a:lnTo>
                  <a:lnTo>
                    <a:pt x="2024" y="711"/>
                  </a:lnTo>
                  <a:lnTo>
                    <a:pt x="2024" y="709"/>
                  </a:lnTo>
                  <a:lnTo>
                    <a:pt x="2026" y="701"/>
                  </a:lnTo>
                  <a:lnTo>
                    <a:pt x="2026" y="696"/>
                  </a:lnTo>
                  <a:lnTo>
                    <a:pt x="2027" y="695"/>
                  </a:lnTo>
                  <a:lnTo>
                    <a:pt x="2026" y="691"/>
                  </a:lnTo>
                  <a:lnTo>
                    <a:pt x="2026" y="689"/>
                  </a:lnTo>
                  <a:lnTo>
                    <a:pt x="2026" y="688"/>
                  </a:lnTo>
                  <a:lnTo>
                    <a:pt x="2024" y="688"/>
                  </a:lnTo>
                  <a:lnTo>
                    <a:pt x="2021" y="687"/>
                  </a:lnTo>
                  <a:lnTo>
                    <a:pt x="2019" y="687"/>
                  </a:lnTo>
                  <a:lnTo>
                    <a:pt x="2019" y="686"/>
                  </a:lnTo>
                  <a:lnTo>
                    <a:pt x="2018" y="681"/>
                  </a:lnTo>
                  <a:lnTo>
                    <a:pt x="2018" y="678"/>
                  </a:lnTo>
                  <a:lnTo>
                    <a:pt x="2018" y="677"/>
                  </a:lnTo>
                  <a:lnTo>
                    <a:pt x="2016" y="674"/>
                  </a:lnTo>
                  <a:lnTo>
                    <a:pt x="2015" y="673"/>
                  </a:lnTo>
                  <a:lnTo>
                    <a:pt x="2015" y="672"/>
                  </a:lnTo>
                  <a:lnTo>
                    <a:pt x="2014" y="666"/>
                  </a:lnTo>
                  <a:lnTo>
                    <a:pt x="2014" y="663"/>
                  </a:lnTo>
                  <a:lnTo>
                    <a:pt x="2014" y="662"/>
                  </a:lnTo>
                  <a:lnTo>
                    <a:pt x="2012" y="661"/>
                  </a:lnTo>
                  <a:lnTo>
                    <a:pt x="2009" y="655"/>
                  </a:lnTo>
                  <a:lnTo>
                    <a:pt x="2007" y="652"/>
                  </a:lnTo>
                  <a:lnTo>
                    <a:pt x="2007" y="651"/>
                  </a:lnTo>
                  <a:lnTo>
                    <a:pt x="2005" y="647"/>
                  </a:lnTo>
                  <a:lnTo>
                    <a:pt x="2005" y="646"/>
                  </a:lnTo>
                  <a:lnTo>
                    <a:pt x="2005" y="645"/>
                  </a:lnTo>
                  <a:lnTo>
                    <a:pt x="2004" y="645"/>
                  </a:lnTo>
                  <a:lnTo>
                    <a:pt x="2003" y="645"/>
                  </a:lnTo>
                  <a:lnTo>
                    <a:pt x="1999" y="644"/>
                  </a:lnTo>
                  <a:lnTo>
                    <a:pt x="1996" y="644"/>
                  </a:lnTo>
                  <a:lnTo>
                    <a:pt x="1996" y="643"/>
                  </a:lnTo>
                  <a:lnTo>
                    <a:pt x="1992" y="640"/>
                  </a:lnTo>
                  <a:lnTo>
                    <a:pt x="1989" y="638"/>
                  </a:lnTo>
                  <a:lnTo>
                    <a:pt x="1989" y="637"/>
                  </a:lnTo>
                  <a:lnTo>
                    <a:pt x="1989" y="635"/>
                  </a:lnTo>
                  <a:lnTo>
                    <a:pt x="1991" y="629"/>
                  </a:lnTo>
                  <a:lnTo>
                    <a:pt x="1991" y="625"/>
                  </a:lnTo>
                  <a:lnTo>
                    <a:pt x="1992" y="623"/>
                  </a:lnTo>
                  <a:lnTo>
                    <a:pt x="1995" y="626"/>
                  </a:lnTo>
                  <a:lnTo>
                    <a:pt x="1997" y="626"/>
                  </a:lnTo>
                  <a:lnTo>
                    <a:pt x="1998" y="626"/>
                  </a:lnTo>
                  <a:lnTo>
                    <a:pt x="1999" y="626"/>
                  </a:lnTo>
                  <a:lnTo>
                    <a:pt x="1998" y="619"/>
                  </a:lnTo>
                  <a:lnTo>
                    <a:pt x="1998" y="615"/>
                  </a:lnTo>
                  <a:lnTo>
                    <a:pt x="1998" y="614"/>
                  </a:lnTo>
                  <a:lnTo>
                    <a:pt x="1995" y="611"/>
                  </a:lnTo>
                  <a:lnTo>
                    <a:pt x="1994" y="610"/>
                  </a:lnTo>
                  <a:lnTo>
                    <a:pt x="1994" y="609"/>
                  </a:lnTo>
                  <a:lnTo>
                    <a:pt x="1992" y="608"/>
                  </a:lnTo>
                  <a:lnTo>
                    <a:pt x="1986" y="605"/>
                  </a:lnTo>
                  <a:lnTo>
                    <a:pt x="1982" y="602"/>
                  </a:lnTo>
                  <a:lnTo>
                    <a:pt x="1982" y="600"/>
                  </a:lnTo>
                  <a:lnTo>
                    <a:pt x="1977" y="597"/>
                  </a:lnTo>
                  <a:lnTo>
                    <a:pt x="1976" y="596"/>
                  </a:lnTo>
                  <a:lnTo>
                    <a:pt x="1976" y="595"/>
                  </a:lnTo>
                  <a:lnTo>
                    <a:pt x="1975" y="596"/>
                  </a:lnTo>
                  <a:lnTo>
                    <a:pt x="1972" y="598"/>
                  </a:lnTo>
                  <a:lnTo>
                    <a:pt x="1971" y="599"/>
                  </a:lnTo>
                  <a:lnTo>
                    <a:pt x="1971" y="599"/>
                  </a:lnTo>
                  <a:lnTo>
                    <a:pt x="1970" y="598"/>
                  </a:lnTo>
                  <a:lnTo>
                    <a:pt x="1967" y="595"/>
                  </a:lnTo>
                  <a:lnTo>
                    <a:pt x="1964" y="593"/>
                  </a:lnTo>
                  <a:lnTo>
                    <a:pt x="1964" y="592"/>
                  </a:lnTo>
                  <a:lnTo>
                    <a:pt x="1963" y="591"/>
                  </a:lnTo>
                  <a:lnTo>
                    <a:pt x="1961" y="587"/>
                  </a:lnTo>
                  <a:lnTo>
                    <a:pt x="1960" y="584"/>
                  </a:lnTo>
                  <a:lnTo>
                    <a:pt x="1960" y="583"/>
                  </a:lnTo>
                  <a:lnTo>
                    <a:pt x="1959" y="583"/>
                  </a:lnTo>
                  <a:lnTo>
                    <a:pt x="1958" y="583"/>
                  </a:lnTo>
                  <a:lnTo>
                    <a:pt x="1953" y="582"/>
                  </a:lnTo>
                  <a:lnTo>
                    <a:pt x="1950" y="582"/>
                  </a:lnTo>
                  <a:lnTo>
                    <a:pt x="1950" y="581"/>
                  </a:lnTo>
                  <a:lnTo>
                    <a:pt x="1945" y="577"/>
                  </a:lnTo>
                  <a:lnTo>
                    <a:pt x="1942" y="575"/>
                  </a:lnTo>
                  <a:lnTo>
                    <a:pt x="1942" y="574"/>
                  </a:lnTo>
                  <a:lnTo>
                    <a:pt x="1939" y="575"/>
                  </a:lnTo>
                  <a:lnTo>
                    <a:pt x="1938" y="575"/>
                  </a:lnTo>
                  <a:lnTo>
                    <a:pt x="1938" y="575"/>
                  </a:lnTo>
                  <a:lnTo>
                    <a:pt x="1934" y="576"/>
                  </a:lnTo>
                  <a:lnTo>
                    <a:pt x="1933" y="576"/>
                  </a:lnTo>
                  <a:lnTo>
                    <a:pt x="1933" y="576"/>
                  </a:lnTo>
                  <a:lnTo>
                    <a:pt x="1928" y="573"/>
                  </a:lnTo>
                  <a:lnTo>
                    <a:pt x="1927" y="572"/>
                  </a:lnTo>
                  <a:lnTo>
                    <a:pt x="1927" y="571"/>
                  </a:lnTo>
                  <a:lnTo>
                    <a:pt x="1925" y="567"/>
                  </a:lnTo>
                  <a:lnTo>
                    <a:pt x="1924" y="563"/>
                  </a:lnTo>
                  <a:lnTo>
                    <a:pt x="1924" y="562"/>
                  </a:lnTo>
                  <a:lnTo>
                    <a:pt x="1923" y="560"/>
                  </a:lnTo>
                  <a:lnTo>
                    <a:pt x="1922" y="551"/>
                  </a:lnTo>
                  <a:lnTo>
                    <a:pt x="1922" y="545"/>
                  </a:lnTo>
                  <a:lnTo>
                    <a:pt x="1922" y="544"/>
                  </a:lnTo>
                  <a:lnTo>
                    <a:pt x="1921" y="545"/>
                  </a:lnTo>
                  <a:lnTo>
                    <a:pt x="1917" y="547"/>
                  </a:lnTo>
                  <a:lnTo>
                    <a:pt x="1916" y="548"/>
                  </a:lnTo>
                  <a:lnTo>
                    <a:pt x="1916" y="548"/>
                  </a:lnTo>
                  <a:lnTo>
                    <a:pt x="1915" y="548"/>
                  </a:lnTo>
                  <a:lnTo>
                    <a:pt x="1912" y="548"/>
                  </a:lnTo>
                  <a:lnTo>
                    <a:pt x="1911" y="548"/>
                  </a:lnTo>
                  <a:lnTo>
                    <a:pt x="1911" y="548"/>
                  </a:lnTo>
                  <a:lnTo>
                    <a:pt x="1904" y="546"/>
                  </a:lnTo>
                  <a:lnTo>
                    <a:pt x="1901" y="545"/>
                  </a:lnTo>
                  <a:lnTo>
                    <a:pt x="1901" y="544"/>
                  </a:lnTo>
                  <a:lnTo>
                    <a:pt x="1900" y="544"/>
                  </a:lnTo>
                  <a:lnTo>
                    <a:pt x="1899" y="544"/>
                  </a:lnTo>
                  <a:lnTo>
                    <a:pt x="1894" y="542"/>
                  </a:lnTo>
                  <a:lnTo>
                    <a:pt x="1891" y="541"/>
                  </a:lnTo>
                  <a:lnTo>
                    <a:pt x="1891" y="540"/>
                  </a:lnTo>
                  <a:lnTo>
                    <a:pt x="1886" y="538"/>
                  </a:lnTo>
                  <a:lnTo>
                    <a:pt x="1882" y="537"/>
                  </a:lnTo>
                  <a:lnTo>
                    <a:pt x="1882" y="536"/>
                  </a:lnTo>
                  <a:lnTo>
                    <a:pt x="1881" y="535"/>
                  </a:lnTo>
                  <a:lnTo>
                    <a:pt x="1878" y="532"/>
                  </a:lnTo>
                  <a:lnTo>
                    <a:pt x="1877" y="529"/>
                  </a:lnTo>
                  <a:lnTo>
                    <a:pt x="1877" y="528"/>
                  </a:lnTo>
                  <a:lnTo>
                    <a:pt x="1876" y="528"/>
                  </a:lnTo>
                  <a:lnTo>
                    <a:pt x="1875" y="528"/>
                  </a:lnTo>
                  <a:lnTo>
                    <a:pt x="1868" y="526"/>
                  </a:lnTo>
                  <a:lnTo>
                    <a:pt x="1864" y="525"/>
                  </a:lnTo>
                  <a:lnTo>
                    <a:pt x="1864" y="524"/>
                  </a:lnTo>
                  <a:lnTo>
                    <a:pt x="1862" y="517"/>
                  </a:lnTo>
                  <a:lnTo>
                    <a:pt x="1860" y="513"/>
                  </a:lnTo>
                  <a:lnTo>
                    <a:pt x="1860" y="512"/>
                  </a:lnTo>
                  <a:lnTo>
                    <a:pt x="1860" y="509"/>
                  </a:lnTo>
                  <a:lnTo>
                    <a:pt x="1860" y="506"/>
                  </a:lnTo>
                  <a:lnTo>
                    <a:pt x="1862" y="505"/>
                  </a:lnTo>
                  <a:lnTo>
                    <a:pt x="1860" y="504"/>
                  </a:lnTo>
                  <a:lnTo>
                    <a:pt x="1860" y="503"/>
                  </a:lnTo>
                  <a:lnTo>
                    <a:pt x="1862" y="501"/>
                  </a:lnTo>
                  <a:lnTo>
                    <a:pt x="1863" y="499"/>
                  </a:lnTo>
                  <a:lnTo>
                    <a:pt x="1860" y="500"/>
                  </a:lnTo>
                  <a:lnTo>
                    <a:pt x="1859" y="500"/>
                  </a:lnTo>
                  <a:lnTo>
                    <a:pt x="1859" y="500"/>
                  </a:lnTo>
                  <a:lnTo>
                    <a:pt x="1859" y="497"/>
                  </a:lnTo>
                  <a:lnTo>
                    <a:pt x="1859" y="495"/>
                  </a:lnTo>
                  <a:lnTo>
                    <a:pt x="1860" y="494"/>
                  </a:lnTo>
                  <a:lnTo>
                    <a:pt x="1859" y="494"/>
                  </a:lnTo>
                  <a:lnTo>
                    <a:pt x="1856" y="494"/>
                  </a:lnTo>
                  <a:lnTo>
                    <a:pt x="1855" y="494"/>
                  </a:lnTo>
                  <a:lnTo>
                    <a:pt x="1855" y="493"/>
                  </a:lnTo>
                  <a:lnTo>
                    <a:pt x="1854" y="492"/>
                  </a:lnTo>
                  <a:lnTo>
                    <a:pt x="1851" y="489"/>
                  </a:lnTo>
                  <a:lnTo>
                    <a:pt x="1848" y="487"/>
                  </a:lnTo>
                  <a:lnTo>
                    <a:pt x="1848" y="486"/>
                  </a:lnTo>
                  <a:lnTo>
                    <a:pt x="1847" y="479"/>
                  </a:lnTo>
                  <a:lnTo>
                    <a:pt x="1847" y="476"/>
                  </a:lnTo>
                  <a:lnTo>
                    <a:pt x="1847" y="475"/>
                  </a:lnTo>
                  <a:lnTo>
                    <a:pt x="1847" y="474"/>
                  </a:lnTo>
                  <a:lnTo>
                    <a:pt x="1847" y="469"/>
                  </a:lnTo>
                  <a:lnTo>
                    <a:pt x="1847" y="466"/>
                  </a:lnTo>
                  <a:lnTo>
                    <a:pt x="1848" y="465"/>
                  </a:lnTo>
                  <a:lnTo>
                    <a:pt x="1848" y="464"/>
                  </a:lnTo>
                  <a:lnTo>
                    <a:pt x="1850" y="460"/>
                  </a:lnTo>
                  <a:lnTo>
                    <a:pt x="1850" y="457"/>
                  </a:lnTo>
                  <a:lnTo>
                    <a:pt x="1851" y="456"/>
                  </a:lnTo>
                  <a:lnTo>
                    <a:pt x="1850" y="453"/>
                  </a:lnTo>
                  <a:lnTo>
                    <a:pt x="1850" y="452"/>
                  </a:lnTo>
                  <a:lnTo>
                    <a:pt x="1851" y="451"/>
                  </a:lnTo>
                  <a:lnTo>
                    <a:pt x="1851" y="449"/>
                  </a:lnTo>
                  <a:lnTo>
                    <a:pt x="1851" y="444"/>
                  </a:lnTo>
                  <a:lnTo>
                    <a:pt x="1851" y="441"/>
                  </a:lnTo>
                  <a:lnTo>
                    <a:pt x="1852" y="440"/>
                  </a:lnTo>
                  <a:lnTo>
                    <a:pt x="1851" y="432"/>
                  </a:lnTo>
                  <a:lnTo>
                    <a:pt x="1851" y="428"/>
                  </a:lnTo>
                  <a:lnTo>
                    <a:pt x="1851" y="427"/>
                  </a:lnTo>
                  <a:lnTo>
                    <a:pt x="1847" y="420"/>
                  </a:lnTo>
                  <a:lnTo>
                    <a:pt x="1846" y="417"/>
                  </a:lnTo>
                  <a:lnTo>
                    <a:pt x="1846" y="416"/>
                  </a:lnTo>
                  <a:lnTo>
                    <a:pt x="1844" y="409"/>
                  </a:lnTo>
                  <a:lnTo>
                    <a:pt x="1843" y="406"/>
                  </a:lnTo>
                  <a:lnTo>
                    <a:pt x="1843" y="405"/>
                  </a:lnTo>
                  <a:lnTo>
                    <a:pt x="1841" y="397"/>
                  </a:lnTo>
                  <a:lnTo>
                    <a:pt x="1841" y="393"/>
                  </a:lnTo>
                  <a:lnTo>
                    <a:pt x="1841" y="392"/>
                  </a:lnTo>
                  <a:lnTo>
                    <a:pt x="1840" y="392"/>
                  </a:lnTo>
                  <a:lnTo>
                    <a:pt x="1839" y="392"/>
                  </a:lnTo>
                  <a:lnTo>
                    <a:pt x="1835" y="392"/>
                  </a:lnTo>
                  <a:lnTo>
                    <a:pt x="1833" y="392"/>
                  </a:lnTo>
                  <a:lnTo>
                    <a:pt x="1833" y="390"/>
                  </a:lnTo>
                  <a:lnTo>
                    <a:pt x="1832" y="389"/>
                  </a:lnTo>
                  <a:lnTo>
                    <a:pt x="1829" y="385"/>
                  </a:lnTo>
                  <a:lnTo>
                    <a:pt x="1828" y="382"/>
                  </a:lnTo>
                  <a:lnTo>
                    <a:pt x="1828" y="381"/>
                  </a:lnTo>
                  <a:lnTo>
                    <a:pt x="1827" y="379"/>
                  </a:lnTo>
                  <a:lnTo>
                    <a:pt x="1823" y="375"/>
                  </a:lnTo>
                  <a:lnTo>
                    <a:pt x="1821" y="372"/>
                  </a:lnTo>
                  <a:lnTo>
                    <a:pt x="1821" y="371"/>
                  </a:lnTo>
                  <a:lnTo>
                    <a:pt x="1819" y="364"/>
                  </a:lnTo>
                  <a:lnTo>
                    <a:pt x="1818" y="360"/>
                  </a:lnTo>
                  <a:lnTo>
                    <a:pt x="1818" y="359"/>
                  </a:lnTo>
                  <a:lnTo>
                    <a:pt x="1818" y="355"/>
                  </a:lnTo>
                  <a:lnTo>
                    <a:pt x="1818" y="353"/>
                  </a:lnTo>
                  <a:lnTo>
                    <a:pt x="1819" y="352"/>
                  </a:lnTo>
                  <a:lnTo>
                    <a:pt x="1819" y="351"/>
                  </a:lnTo>
                  <a:lnTo>
                    <a:pt x="1818" y="346"/>
                  </a:lnTo>
                  <a:lnTo>
                    <a:pt x="1818" y="342"/>
                  </a:lnTo>
                  <a:lnTo>
                    <a:pt x="1819" y="341"/>
                  </a:lnTo>
                  <a:lnTo>
                    <a:pt x="1818" y="340"/>
                  </a:lnTo>
                  <a:lnTo>
                    <a:pt x="1816" y="336"/>
                  </a:lnTo>
                  <a:lnTo>
                    <a:pt x="1815" y="332"/>
                  </a:lnTo>
                  <a:lnTo>
                    <a:pt x="1815" y="331"/>
                  </a:lnTo>
                  <a:lnTo>
                    <a:pt x="1815" y="330"/>
                  </a:lnTo>
                  <a:lnTo>
                    <a:pt x="1813" y="326"/>
                  </a:lnTo>
                  <a:lnTo>
                    <a:pt x="1813" y="323"/>
                  </a:lnTo>
                  <a:lnTo>
                    <a:pt x="1815" y="321"/>
                  </a:lnTo>
                  <a:lnTo>
                    <a:pt x="1812" y="315"/>
                  </a:lnTo>
                  <a:lnTo>
                    <a:pt x="1811" y="312"/>
                  </a:lnTo>
                  <a:lnTo>
                    <a:pt x="1811" y="311"/>
                  </a:lnTo>
                  <a:lnTo>
                    <a:pt x="1811" y="309"/>
                  </a:lnTo>
                  <a:lnTo>
                    <a:pt x="1811" y="306"/>
                  </a:lnTo>
                  <a:lnTo>
                    <a:pt x="1811" y="303"/>
                  </a:lnTo>
                  <a:lnTo>
                    <a:pt x="1812" y="302"/>
                  </a:lnTo>
                  <a:lnTo>
                    <a:pt x="1812" y="301"/>
                  </a:lnTo>
                  <a:lnTo>
                    <a:pt x="1813" y="295"/>
                  </a:lnTo>
                  <a:lnTo>
                    <a:pt x="1813" y="292"/>
                  </a:lnTo>
                  <a:lnTo>
                    <a:pt x="1815" y="291"/>
                  </a:lnTo>
                  <a:lnTo>
                    <a:pt x="1812" y="288"/>
                  </a:lnTo>
                  <a:lnTo>
                    <a:pt x="1811" y="285"/>
                  </a:lnTo>
                  <a:lnTo>
                    <a:pt x="1811" y="284"/>
                  </a:lnTo>
                  <a:lnTo>
                    <a:pt x="1811" y="283"/>
                  </a:lnTo>
                  <a:lnTo>
                    <a:pt x="1812" y="278"/>
                  </a:lnTo>
                  <a:lnTo>
                    <a:pt x="1813" y="274"/>
                  </a:lnTo>
                  <a:lnTo>
                    <a:pt x="1815" y="273"/>
                  </a:lnTo>
                  <a:lnTo>
                    <a:pt x="1812" y="272"/>
                  </a:lnTo>
                  <a:lnTo>
                    <a:pt x="1809" y="268"/>
                  </a:lnTo>
                  <a:lnTo>
                    <a:pt x="1806" y="265"/>
                  </a:lnTo>
                  <a:lnTo>
                    <a:pt x="1806" y="264"/>
                  </a:lnTo>
                  <a:lnTo>
                    <a:pt x="1800" y="261"/>
                  </a:lnTo>
                  <a:lnTo>
                    <a:pt x="1797" y="260"/>
                  </a:lnTo>
                  <a:lnTo>
                    <a:pt x="1797" y="259"/>
                  </a:lnTo>
                  <a:lnTo>
                    <a:pt x="1792" y="253"/>
                  </a:lnTo>
                  <a:lnTo>
                    <a:pt x="1789" y="248"/>
                  </a:lnTo>
                  <a:lnTo>
                    <a:pt x="1789" y="247"/>
                  </a:lnTo>
                  <a:lnTo>
                    <a:pt x="1783" y="245"/>
                  </a:lnTo>
                  <a:lnTo>
                    <a:pt x="1780" y="244"/>
                  </a:lnTo>
                  <a:lnTo>
                    <a:pt x="1780" y="243"/>
                  </a:lnTo>
                  <a:lnTo>
                    <a:pt x="1777" y="237"/>
                  </a:lnTo>
                  <a:lnTo>
                    <a:pt x="1776" y="234"/>
                  </a:lnTo>
                  <a:lnTo>
                    <a:pt x="1776" y="233"/>
                  </a:lnTo>
                  <a:lnTo>
                    <a:pt x="1775" y="232"/>
                  </a:lnTo>
                  <a:lnTo>
                    <a:pt x="1774" y="229"/>
                  </a:lnTo>
                  <a:lnTo>
                    <a:pt x="1773" y="226"/>
                  </a:lnTo>
                  <a:lnTo>
                    <a:pt x="1773" y="225"/>
                  </a:lnTo>
                  <a:lnTo>
                    <a:pt x="1772" y="225"/>
                  </a:lnTo>
                  <a:lnTo>
                    <a:pt x="1771" y="225"/>
                  </a:lnTo>
                  <a:lnTo>
                    <a:pt x="1766" y="224"/>
                  </a:lnTo>
                  <a:lnTo>
                    <a:pt x="1763" y="224"/>
                  </a:lnTo>
                  <a:lnTo>
                    <a:pt x="1763" y="223"/>
                  </a:lnTo>
                  <a:lnTo>
                    <a:pt x="1761" y="224"/>
                  </a:lnTo>
                  <a:lnTo>
                    <a:pt x="1757" y="225"/>
                  </a:lnTo>
                  <a:lnTo>
                    <a:pt x="1753" y="225"/>
                  </a:lnTo>
                  <a:lnTo>
                    <a:pt x="1753" y="225"/>
                  </a:lnTo>
                  <a:lnTo>
                    <a:pt x="1752" y="226"/>
                  </a:lnTo>
                  <a:lnTo>
                    <a:pt x="1749" y="229"/>
                  </a:lnTo>
                  <a:lnTo>
                    <a:pt x="1747" y="230"/>
                  </a:lnTo>
                  <a:lnTo>
                    <a:pt x="1747" y="230"/>
                  </a:lnTo>
                  <a:lnTo>
                    <a:pt x="1746" y="231"/>
                  </a:lnTo>
                  <a:lnTo>
                    <a:pt x="1741" y="234"/>
                  </a:lnTo>
                  <a:lnTo>
                    <a:pt x="1739" y="235"/>
                  </a:lnTo>
                  <a:lnTo>
                    <a:pt x="1739" y="235"/>
                  </a:lnTo>
                  <a:lnTo>
                    <a:pt x="1733" y="233"/>
                  </a:lnTo>
                  <a:lnTo>
                    <a:pt x="1729" y="232"/>
                  </a:lnTo>
                  <a:lnTo>
                    <a:pt x="1729" y="231"/>
                  </a:lnTo>
                  <a:lnTo>
                    <a:pt x="1727" y="230"/>
                  </a:lnTo>
                  <a:lnTo>
                    <a:pt x="1724" y="226"/>
                  </a:lnTo>
                  <a:lnTo>
                    <a:pt x="1722" y="224"/>
                  </a:lnTo>
                  <a:lnTo>
                    <a:pt x="1722" y="223"/>
                  </a:lnTo>
                  <a:lnTo>
                    <a:pt x="1719" y="216"/>
                  </a:lnTo>
                  <a:lnTo>
                    <a:pt x="1718" y="212"/>
                  </a:lnTo>
                  <a:lnTo>
                    <a:pt x="1718" y="211"/>
                  </a:lnTo>
                  <a:lnTo>
                    <a:pt x="1717" y="204"/>
                  </a:lnTo>
                  <a:lnTo>
                    <a:pt x="1717" y="201"/>
                  </a:lnTo>
                  <a:lnTo>
                    <a:pt x="1717" y="200"/>
                  </a:lnTo>
                  <a:lnTo>
                    <a:pt x="1715" y="195"/>
                  </a:lnTo>
                  <a:lnTo>
                    <a:pt x="1714" y="191"/>
                  </a:lnTo>
                  <a:lnTo>
                    <a:pt x="1714" y="190"/>
                  </a:lnTo>
                  <a:lnTo>
                    <a:pt x="1714" y="189"/>
                  </a:lnTo>
                  <a:lnTo>
                    <a:pt x="1714" y="183"/>
                  </a:lnTo>
                  <a:lnTo>
                    <a:pt x="1714" y="178"/>
                  </a:lnTo>
                  <a:lnTo>
                    <a:pt x="1715" y="177"/>
                  </a:lnTo>
                  <a:lnTo>
                    <a:pt x="1715" y="176"/>
                  </a:lnTo>
                  <a:lnTo>
                    <a:pt x="1714" y="173"/>
                  </a:lnTo>
                  <a:lnTo>
                    <a:pt x="1714" y="171"/>
                  </a:lnTo>
                  <a:lnTo>
                    <a:pt x="1715" y="169"/>
                  </a:lnTo>
                  <a:lnTo>
                    <a:pt x="1714" y="167"/>
                  </a:lnTo>
                  <a:lnTo>
                    <a:pt x="1712" y="161"/>
                  </a:lnTo>
                  <a:lnTo>
                    <a:pt x="1711" y="156"/>
                  </a:lnTo>
                  <a:lnTo>
                    <a:pt x="1711" y="155"/>
                  </a:lnTo>
                  <a:lnTo>
                    <a:pt x="1710" y="153"/>
                  </a:lnTo>
                  <a:lnTo>
                    <a:pt x="1709" y="145"/>
                  </a:lnTo>
                  <a:lnTo>
                    <a:pt x="1709" y="140"/>
                  </a:lnTo>
                  <a:lnTo>
                    <a:pt x="1709" y="139"/>
                  </a:lnTo>
                  <a:lnTo>
                    <a:pt x="1704" y="138"/>
                  </a:lnTo>
                  <a:lnTo>
                    <a:pt x="1703" y="137"/>
                  </a:lnTo>
                  <a:lnTo>
                    <a:pt x="1703" y="136"/>
                  </a:lnTo>
                  <a:lnTo>
                    <a:pt x="1702" y="132"/>
                  </a:lnTo>
                  <a:lnTo>
                    <a:pt x="1703" y="131"/>
                  </a:lnTo>
                  <a:lnTo>
                    <a:pt x="1703" y="130"/>
                  </a:lnTo>
                  <a:lnTo>
                    <a:pt x="1702" y="126"/>
                  </a:lnTo>
                  <a:lnTo>
                    <a:pt x="1702" y="122"/>
                  </a:lnTo>
                  <a:lnTo>
                    <a:pt x="1703" y="121"/>
                  </a:lnTo>
                  <a:lnTo>
                    <a:pt x="1700" y="118"/>
                  </a:lnTo>
                  <a:lnTo>
                    <a:pt x="1699" y="117"/>
                  </a:lnTo>
                  <a:lnTo>
                    <a:pt x="1699" y="116"/>
                  </a:lnTo>
                  <a:lnTo>
                    <a:pt x="1695" y="109"/>
                  </a:lnTo>
                  <a:lnTo>
                    <a:pt x="1694" y="106"/>
                  </a:lnTo>
                  <a:lnTo>
                    <a:pt x="1694" y="105"/>
                  </a:lnTo>
                  <a:lnTo>
                    <a:pt x="1690" y="102"/>
                  </a:lnTo>
                  <a:lnTo>
                    <a:pt x="1688" y="99"/>
                  </a:lnTo>
                  <a:lnTo>
                    <a:pt x="1688" y="98"/>
                  </a:lnTo>
                  <a:lnTo>
                    <a:pt x="1688" y="97"/>
                  </a:lnTo>
                  <a:lnTo>
                    <a:pt x="1689" y="94"/>
                  </a:lnTo>
                  <a:lnTo>
                    <a:pt x="1689" y="92"/>
                  </a:lnTo>
                  <a:lnTo>
                    <a:pt x="1690" y="91"/>
                  </a:lnTo>
                  <a:lnTo>
                    <a:pt x="1689" y="87"/>
                  </a:lnTo>
                  <a:lnTo>
                    <a:pt x="1689" y="85"/>
                  </a:lnTo>
                  <a:lnTo>
                    <a:pt x="1690" y="84"/>
                  </a:lnTo>
                  <a:lnTo>
                    <a:pt x="1688" y="80"/>
                  </a:lnTo>
                  <a:lnTo>
                    <a:pt x="1688" y="76"/>
                  </a:lnTo>
                  <a:lnTo>
                    <a:pt x="1688" y="75"/>
                  </a:lnTo>
                  <a:lnTo>
                    <a:pt x="1687" y="75"/>
                  </a:lnTo>
                  <a:lnTo>
                    <a:pt x="1686" y="75"/>
                  </a:lnTo>
                  <a:lnTo>
                    <a:pt x="1680" y="75"/>
                  </a:lnTo>
                  <a:lnTo>
                    <a:pt x="1676" y="75"/>
                  </a:lnTo>
                  <a:lnTo>
                    <a:pt x="1676" y="75"/>
                  </a:lnTo>
                  <a:lnTo>
                    <a:pt x="1674" y="70"/>
                  </a:lnTo>
                  <a:lnTo>
                    <a:pt x="1674" y="67"/>
                  </a:lnTo>
                  <a:lnTo>
                    <a:pt x="1674" y="66"/>
                  </a:lnTo>
                  <a:lnTo>
                    <a:pt x="1674" y="63"/>
                  </a:lnTo>
                  <a:lnTo>
                    <a:pt x="1672" y="57"/>
                  </a:lnTo>
                  <a:lnTo>
                    <a:pt x="1672" y="51"/>
                  </a:lnTo>
                  <a:lnTo>
                    <a:pt x="1674" y="50"/>
                  </a:lnTo>
                  <a:lnTo>
                    <a:pt x="1674" y="48"/>
                  </a:lnTo>
                  <a:lnTo>
                    <a:pt x="1672" y="41"/>
                  </a:lnTo>
                  <a:lnTo>
                    <a:pt x="1672" y="37"/>
                  </a:lnTo>
                  <a:lnTo>
                    <a:pt x="1674" y="36"/>
                  </a:lnTo>
                  <a:lnTo>
                    <a:pt x="1672" y="31"/>
                  </a:lnTo>
                  <a:lnTo>
                    <a:pt x="1672" y="27"/>
                  </a:lnTo>
                  <a:lnTo>
                    <a:pt x="1672" y="26"/>
                  </a:lnTo>
                  <a:lnTo>
                    <a:pt x="1671" y="24"/>
                  </a:lnTo>
                  <a:lnTo>
                    <a:pt x="1671" y="23"/>
                  </a:lnTo>
                  <a:lnTo>
                    <a:pt x="1671" y="22"/>
                  </a:lnTo>
                  <a:lnTo>
                    <a:pt x="1671" y="21"/>
                  </a:lnTo>
                  <a:lnTo>
                    <a:pt x="1671" y="20"/>
                  </a:lnTo>
                  <a:lnTo>
                    <a:pt x="1674" y="18"/>
                  </a:lnTo>
                  <a:lnTo>
                    <a:pt x="1671" y="14"/>
                  </a:lnTo>
                  <a:lnTo>
                    <a:pt x="1671" y="12"/>
                  </a:lnTo>
                  <a:lnTo>
                    <a:pt x="1671" y="11"/>
                  </a:lnTo>
                  <a:lnTo>
                    <a:pt x="1670" y="8"/>
                  </a:lnTo>
                  <a:lnTo>
                    <a:pt x="1670" y="5"/>
                  </a:lnTo>
                  <a:lnTo>
                    <a:pt x="1671" y="4"/>
                  </a:lnTo>
                  <a:lnTo>
                    <a:pt x="1667" y="2"/>
                  </a:lnTo>
                  <a:lnTo>
                    <a:pt x="1666" y="1"/>
                  </a:lnTo>
                  <a:lnTo>
                    <a:pt x="1666" y="0"/>
                  </a:lnTo>
                  <a:lnTo>
                    <a:pt x="1665" y="1"/>
                  </a:lnTo>
                  <a:lnTo>
                    <a:pt x="1663" y="4"/>
                  </a:lnTo>
                  <a:lnTo>
                    <a:pt x="1662" y="6"/>
                  </a:lnTo>
                  <a:lnTo>
                    <a:pt x="1662" y="6"/>
                  </a:lnTo>
                  <a:lnTo>
                    <a:pt x="1660" y="8"/>
                  </a:lnTo>
                  <a:lnTo>
                    <a:pt x="1655" y="11"/>
                  </a:lnTo>
                  <a:lnTo>
                    <a:pt x="1652" y="12"/>
                  </a:lnTo>
                  <a:lnTo>
                    <a:pt x="1652" y="12"/>
                  </a:lnTo>
                  <a:lnTo>
                    <a:pt x="1651" y="12"/>
                  </a:lnTo>
                  <a:lnTo>
                    <a:pt x="1647" y="12"/>
                  </a:lnTo>
                  <a:lnTo>
                    <a:pt x="1646" y="12"/>
                  </a:lnTo>
                  <a:lnTo>
                    <a:pt x="1646" y="12"/>
                  </a:lnTo>
                  <a:lnTo>
                    <a:pt x="1645" y="13"/>
                  </a:lnTo>
                  <a:lnTo>
                    <a:pt x="1643" y="15"/>
                  </a:lnTo>
                  <a:lnTo>
                    <a:pt x="1642" y="16"/>
                  </a:lnTo>
                  <a:lnTo>
                    <a:pt x="1642" y="16"/>
                  </a:lnTo>
                  <a:lnTo>
                    <a:pt x="1642" y="17"/>
                  </a:lnTo>
                  <a:lnTo>
                    <a:pt x="1642" y="17"/>
                  </a:lnTo>
                  <a:lnTo>
                    <a:pt x="1641" y="21"/>
                  </a:lnTo>
                  <a:lnTo>
                    <a:pt x="1641" y="27"/>
                  </a:lnTo>
                  <a:lnTo>
                    <a:pt x="1641" y="33"/>
                  </a:lnTo>
                  <a:lnTo>
                    <a:pt x="1641" y="33"/>
                  </a:lnTo>
                  <a:lnTo>
                    <a:pt x="1640" y="34"/>
                  </a:lnTo>
                  <a:lnTo>
                    <a:pt x="1637" y="36"/>
                  </a:lnTo>
                  <a:lnTo>
                    <a:pt x="1631" y="44"/>
                  </a:lnTo>
                  <a:lnTo>
                    <a:pt x="1627" y="49"/>
                  </a:lnTo>
                  <a:lnTo>
                    <a:pt x="1627" y="49"/>
                  </a:lnTo>
                  <a:lnTo>
                    <a:pt x="1625" y="52"/>
                  </a:lnTo>
                  <a:lnTo>
                    <a:pt x="1623" y="62"/>
                  </a:lnTo>
                  <a:lnTo>
                    <a:pt x="1622" y="69"/>
                  </a:lnTo>
                  <a:lnTo>
                    <a:pt x="1622" y="69"/>
                  </a:lnTo>
                  <a:lnTo>
                    <a:pt x="1621" y="70"/>
                  </a:lnTo>
                  <a:lnTo>
                    <a:pt x="1618" y="74"/>
                  </a:lnTo>
                  <a:lnTo>
                    <a:pt x="1617" y="78"/>
                  </a:lnTo>
                  <a:lnTo>
                    <a:pt x="1617" y="78"/>
                  </a:lnTo>
                  <a:lnTo>
                    <a:pt x="1615" y="79"/>
                  </a:lnTo>
                  <a:lnTo>
                    <a:pt x="1609" y="80"/>
                  </a:lnTo>
                  <a:lnTo>
                    <a:pt x="1606" y="81"/>
                  </a:lnTo>
                  <a:lnTo>
                    <a:pt x="1606" y="81"/>
                  </a:lnTo>
                  <a:lnTo>
                    <a:pt x="1605" y="84"/>
                  </a:lnTo>
                  <a:lnTo>
                    <a:pt x="1601" y="94"/>
                  </a:lnTo>
                  <a:lnTo>
                    <a:pt x="1599" y="101"/>
                  </a:lnTo>
                  <a:lnTo>
                    <a:pt x="1599" y="101"/>
                  </a:lnTo>
                  <a:lnTo>
                    <a:pt x="1598" y="103"/>
                  </a:lnTo>
                  <a:lnTo>
                    <a:pt x="1598" y="109"/>
                  </a:lnTo>
                  <a:lnTo>
                    <a:pt x="1598" y="114"/>
                  </a:lnTo>
                  <a:lnTo>
                    <a:pt x="1598" y="114"/>
                  </a:lnTo>
                  <a:lnTo>
                    <a:pt x="1599" y="114"/>
                  </a:lnTo>
                  <a:lnTo>
                    <a:pt x="1604" y="116"/>
                  </a:lnTo>
                  <a:lnTo>
                    <a:pt x="1606" y="116"/>
                  </a:lnTo>
                  <a:lnTo>
                    <a:pt x="1607" y="116"/>
                  </a:lnTo>
                  <a:lnTo>
                    <a:pt x="1606" y="118"/>
                  </a:lnTo>
                  <a:lnTo>
                    <a:pt x="1606" y="122"/>
                  </a:lnTo>
                  <a:lnTo>
                    <a:pt x="1606" y="126"/>
                  </a:lnTo>
                  <a:lnTo>
                    <a:pt x="1606" y="126"/>
                  </a:lnTo>
                  <a:lnTo>
                    <a:pt x="1605" y="127"/>
                  </a:lnTo>
                  <a:lnTo>
                    <a:pt x="1601" y="133"/>
                  </a:lnTo>
                  <a:lnTo>
                    <a:pt x="1599" y="138"/>
                  </a:lnTo>
                  <a:lnTo>
                    <a:pt x="1599" y="138"/>
                  </a:lnTo>
                  <a:lnTo>
                    <a:pt x="1599" y="139"/>
                  </a:lnTo>
                  <a:lnTo>
                    <a:pt x="1598" y="142"/>
                  </a:lnTo>
                  <a:lnTo>
                    <a:pt x="1598" y="144"/>
                  </a:lnTo>
                  <a:lnTo>
                    <a:pt x="1599" y="144"/>
                  </a:lnTo>
                  <a:lnTo>
                    <a:pt x="1599" y="146"/>
                  </a:lnTo>
                  <a:lnTo>
                    <a:pt x="1598" y="152"/>
                  </a:lnTo>
                  <a:lnTo>
                    <a:pt x="1598" y="155"/>
                  </a:lnTo>
                  <a:lnTo>
                    <a:pt x="1599" y="155"/>
                  </a:lnTo>
                  <a:lnTo>
                    <a:pt x="1598" y="157"/>
                  </a:lnTo>
                  <a:lnTo>
                    <a:pt x="1597" y="161"/>
                  </a:lnTo>
                  <a:lnTo>
                    <a:pt x="1596" y="164"/>
                  </a:lnTo>
                  <a:lnTo>
                    <a:pt x="1596" y="164"/>
                  </a:lnTo>
                  <a:lnTo>
                    <a:pt x="1595" y="165"/>
                  </a:lnTo>
                  <a:lnTo>
                    <a:pt x="1592" y="172"/>
                  </a:lnTo>
                  <a:lnTo>
                    <a:pt x="1589" y="176"/>
                  </a:lnTo>
                  <a:lnTo>
                    <a:pt x="1589" y="176"/>
                  </a:lnTo>
                  <a:lnTo>
                    <a:pt x="1589" y="177"/>
                  </a:lnTo>
                  <a:lnTo>
                    <a:pt x="1589" y="180"/>
                  </a:lnTo>
                  <a:lnTo>
                    <a:pt x="1589" y="190"/>
                  </a:lnTo>
                  <a:lnTo>
                    <a:pt x="1589" y="198"/>
                  </a:lnTo>
                  <a:lnTo>
                    <a:pt x="1590" y="198"/>
                  </a:lnTo>
                  <a:lnTo>
                    <a:pt x="1590" y="199"/>
                  </a:lnTo>
                  <a:lnTo>
                    <a:pt x="1590" y="200"/>
                  </a:lnTo>
                  <a:lnTo>
                    <a:pt x="1590" y="207"/>
                  </a:lnTo>
                  <a:lnTo>
                    <a:pt x="1590" y="211"/>
                  </a:lnTo>
                  <a:lnTo>
                    <a:pt x="1592" y="211"/>
                  </a:lnTo>
                  <a:lnTo>
                    <a:pt x="1590" y="214"/>
                  </a:lnTo>
                  <a:lnTo>
                    <a:pt x="1589" y="222"/>
                  </a:lnTo>
                  <a:lnTo>
                    <a:pt x="1588" y="229"/>
                  </a:lnTo>
                  <a:lnTo>
                    <a:pt x="1588" y="229"/>
                  </a:lnTo>
                  <a:lnTo>
                    <a:pt x="1588" y="230"/>
                  </a:lnTo>
                  <a:lnTo>
                    <a:pt x="1588" y="232"/>
                  </a:lnTo>
                  <a:lnTo>
                    <a:pt x="1592" y="242"/>
                  </a:lnTo>
                  <a:lnTo>
                    <a:pt x="1593" y="249"/>
                  </a:lnTo>
                  <a:lnTo>
                    <a:pt x="1594" y="249"/>
                  </a:lnTo>
                  <a:lnTo>
                    <a:pt x="1594" y="250"/>
                  </a:lnTo>
                  <a:lnTo>
                    <a:pt x="1594" y="253"/>
                  </a:lnTo>
                  <a:lnTo>
                    <a:pt x="1594" y="259"/>
                  </a:lnTo>
                  <a:lnTo>
                    <a:pt x="1594" y="265"/>
                  </a:lnTo>
                  <a:lnTo>
                    <a:pt x="1595" y="265"/>
                  </a:lnTo>
                  <a:lnTo>
                    <a:pt x="1594" y="268"/>
                  </a:lnTo>
                  <a:lnTo>
                    <a:pt x="1593" y="274"/>
                  </a:lnTo>
                  <a:lnTo>
                    <a:pt x="1592" y="279"/>
                  </a:lnTo>
                  <a:lnTo>
                    <a:pt x="1592" y="279"/>
                  </a:lnTo>
                  <a:lnTo>
                    <a:pt x="1590" y="280"/>
                  </a:lnTo>
                  <a:lnTo>
                    <a:pt x="1587" y="286"/>
                  </a:lnTo>
                  <a:lnTo>
                    <a:pt x="1586" y="291"/>
                  </a:lnTo>
                  <a:lnTo>
                    <a:pt x="1586" y="291"/>
                  </a:lnTo>
                  <a:lnTo>
                    <a:pt x="1585" y="294"/>
                  </a:lnTo>
                  <a:lnTo>
                    <a:pt x="1582" y="302"/>
                  </a:lnTo>
                  <a:lnTo>
                    <a:pt x="1580" y="308"/>
                  </a:lnTo>
                  <a:lnTo>
                    <a:pt x="1580" y="308"/>
                  </a:lnTo>
                  <a:lnTo>
                    <a:pt x="1578" y="313"/>
                  </a:lnTo>
                  <a:lnTo>
                    <a:pt x="1575" y="323"/>
                  </a:lnTo>
                  <a:lnTo>
                    <a:pt x="1574" y="330"/>
                  </a:lnTo>
                  <a:lnTo>
                    <a:pt x="1574" y="330"/>
                  </a:lnTo>
                  <a:lnTo>
                    <a:pt x="1573" y="335"/>
                  </a:lnTo>
                  <a:lnTo>
                    <a:pt x="1570" y="347"/>
                  </a:lnTo>
                  <a:lnTo>
                    <a:pt x="1567" y="357"/>
                  </a:lnTo>
                  <a:lnTo>
                    <a:pt x="1567" y="357"/>
                  </a:lnTo>
                  <a:lnTo>
                    <a:pt x="1566" y="358"/>
                  </a:lnTo>
                  <a:lnTo>
                    <a:pt x="1564" y="361"/>
                  </a:lnTo>
                  <a:lnTo>
                    <a:pt x="1558" y="373"/>
                  </a:lnTo>
                  <a:lnTo>
                    <a:pt x="1552" y="383"/>
                  </a:lnTo>
                  <a:lnTo>
                    <a:pt x="1552" y="383"/>
                  </a:lnTo>
                  <a:lnTo>
                    <a:pt x="1551" y="386"/>
                  </a:lnTo>
                  <a:lnTo>
                    <a:pt x="1548" y="396"/>
                  </a:lnTo>
                  <a:lnTo>
                    <a:pt x="1547" y="404"/>
                  </a:lnTo>
                  <a:lnTo>
                    <a:pt x="1547" y="404"/>
                  </a:lnTo>
                  <a:lnTo>
                    <a:pt x="1546" y="405"/>
                  </a:lnTo>
                  <a:lnTo>
                    <a:pt x="1543" y="409"/>
                  </a:lnTo>
                  <a:lnTo>
                    <a:pt x="1542" y="411"/>
                  </a:lnTo>
                  <a:lnTo>
                    <a:pt x="1542" y="411"/>
                  </a:lnTo>
                  <a:lnTo>
                    <a:pt x="1539" y="412"/>
                  </a:lnTo>
                  <a:lnTo>
                    <a:pt x="1531" y="416"/>
                  </a:lnTo>
                  <a:lnTo>
                    <a:pt x="1525" y="417"/>
                  </a:lnTo>
                  <a:lnTo>
                    <a:pt x="1525" y="417"/>
                  </a:lnTo>
                  <a:lnTo>
                    <a:pt x="1523" y="418"/>
                  </a:lnTo>
                  <a:lnTo>
                    <a:pt x="1517" y="420"/>
                  </a:lnTo>
                  <a:lnTo>
                    <a:pt x="1513" y="421"/>
                  </a:lnTo>
                  <a:lnTo>
                    <a:pt x="1513" y="421"/>
                  </a:lnTo>
                  <a:lnTo>
                    <a:pt x="1510" y="422"/>
                  </a:lnTo>
                  <a:lnTo>
                    <a:pt x="1503" y="423"/>
                  </a:lnTo>
                  <a:lnTo>
                    <a:pt x="1499" y="423"/>
                  </a:lnTo>
                  <a:lnTo>
                    <a:pt x="1499" y="423"/>
                  </a:lnTo>
                  <a:lnTo>
                    <a:pt x="1492" y="421"/>
                  </a:lnTo>
                  <a:lnTo>
                    <a:pt x="1489" y="420"/>
                  </a:lnTo>
                  <a:lnTo>
                    <a:pt x="1489" y="419"/>
                  </a:lnTo>
                  <a:lnTo>
                    <a:pt x="1488" y="419"/>
                  </a:lnTo>
                  <a:lnTo>
                    <a:pt x="1484" y="418"/>
                  </a:lnTo>
                  <a:lnTo>
                    <a:pt x="1483" y="418"/>
                  </a:lnTo>
                  <a:lnTo>
                    <a:pt x="1483" y="417"/>
                  </a:lnTo>
                  <a:lnTo>
                    <a:pt x="1480" y="416"/>
                  </a:lnTo>
                  <a:lnTo>
                    <a:pt x="1473" y="410"/>
                  </a:lnTo>
                  <a:lnTo>
                    <a:pt x="1469" y="407"/>
                  </a:lnTo>
                  <a:lnTo>
                    <a:pt x="1469" y="406"/>
                  </a:lnTo>
                  <a:lnTo>
                    <a:pt x="1466" y="405"/>
                  </a:lnTo>
                  <a:lnTo>
                    <a:pt x="1457" y="399"/>
                  </a:lnTo>
                  <a:lnTo>
                    <a:pt x="1451" y="395"/>
                  </a:lnTo>
                  <a:lnTo>
                    <a:pt x="1451" y="394"/>
                  </a:lnTo>
                  <a:lnTo>
                    <a:pt x="1449" y="393"/>
                  </a:lnTo>
                  <a:lnTo>
                    <a:pt x="1447" y="389"/>
                  </a:lnTo>
                  <a:lnTo>
                    <a:pt x="1446" y="387"/>
                  </a:lnTo>
                  <a:lnTo>
                    <a:pt x="1446" y="386"/>
                  </a:lnTo>
                  <a:lnTo>
                    <a:pt x="1444" y="379"/>
                  </a:lnTo>
                  <a:lnTo>
                    <a:pt x="1443" y="375"/>
                  </a:lnTo>
                  <a:lnTo>
                    <a:pt x="1443" y="374"/>
                  </a:lnTo>
                  <a:lnTo>
                    <a:pt x="1441" y="373"/>
                  </a:lnTo>
                  <a:lnTo>
                    <a:pt x="1436" y="370"/>
                  </a:lnTo>
                  <a:lnTo>
                    <a:pt x="1433" y="367"/>
                  </a:lnTo>
                  <a:lnTo>
                    <a:pt x="1433" y="366"/>
                  </a:lnTo>
                  <a:lnTo>
                    <a:pt x="1432" y="366"/>
                  </a:lnTo>
                  <a:lnTo>
                    <a:pt x="1431" y="366"/>
                  </a:lnTo>
                  <a:lnTo>
                    <a:pt x="1425" y="365"/>
                  </a:lnTo>
                  <a:lnTo>
                    <a:pt x="1421" y="364"/>
                  </a:lnTo>
                  <a:lnTo>
                    <a:pt x="1421" y="363"/>
                  </a:lnTo>
                  <a:lnTo>
                    <a:pt x="1420" y="363"/>
                  </a:lnTo>
                  <a:lnTo>
                    <a:pt x="1418" y="363"/>
                  </a:lnTo>
                  <a:lnTo>
                    <a:pt x="1410" y="361"/>
                  </a:lnTo>
                  <a:lnTo>
                    <a:pt x="1404" y="360"/>
                  </a:lnTo>
                  <a:lnTo>
                    <a:pt x="1404" y="359"/>
                  </a:lnTo>
                  <a:lnTo>
                    <a:pt x="1398" y="357"/>
                  </a:lnTo>
                  <a:lnTo>
                    <a:pt x="1396" y="355"/>
                  </a:lnTo>
                  <a:lnTo>
                    <a:pt x="1396" y="354"/>
                  </a:lnTo>
                  <a:lnTo>
                    <a:pt x="1395" y="354"/>
                  </a:lnTo>
                  <a:lnTo>
                    <a:pt x="1394" y="354"/>
                  </a:lnTo>
                  <a:lnTo>
                    <a:pt x="1390" y="353"/>
                  </a:lnTo>
                  <a:lnTo>
                    <a:pt x="1387" y="353"/>
                  </a:lnTo>
                  <a:lnTo>
                    <a:pt x="1387" y="352"/>
                  </a:lnTo>
                  <a:lnTo>
                    <a:pt x="1385" y="351"/>
                  </a:lnTo>
                  <a:lnTo>
                    <a:pt x="1382" y="348"/>
                  </a:lnTo>
                  <a:lnTo>
                    <a:pt x="1378" y="346"/>
                  </a:lnTo>
                  <a:lnTo>
                    <a:pt x="1378" y="344"/>
                  </a:lnTo>
                  <a:lnTo>
                    <a:pt x="1377" y="343"/>
                  </a:lnTo>
                  <a:lnTo>
                    <a:pt x="1374" y="340"/>
                  </a:lnTo>
                  <a:lnTo>
                    <a:pt x="1372" y="337"/>
                  </a:lnTo>
                  <a:lnTo>
                    <a:pt x="1372" y="336"/>
                  </a:lnTo>
                  <a:lnTo>
                    <a:pt x="1366" y="332"/>
                  </a:lnTo>
                  <a:lnTo>
                    <a:pt x="1363" y="331"/>
                  </a:lnTo>
                  <a:lnTo>
                    <a:pt x="1363" y="330"/>
                  </a:lnTo>
                  <a:lnTo>
                    <a:pt x="1355" y="327"/>
                  </a:lnTo>
                  <a:lnTo>
                    <a:pt x="1351" y="326"/>
                  </a:lnTo>
                  <a:lnTo>
                    <a:pt x="1351" y="325"/>
                  </a:lnTo>
                  <a:lnTo>
                    <a:pt x="1349" y="324"/>
                  </a:lnTo>
                  <a:lnTo>
                    <a:pt x="1343" y="320"/>
                  </a:lnTo>
                  <a:lnTo>
                    <a:pt x="1340" y="318"/>
                  </a:lnTo>
                  <a:lnTo>
                    <a:pt x="1340" y="317"/>
                  </a:lnTo>
                  <a:lnTo>
                    <a:pt x="1339" y="316"/>
                  </a:lnTo>
                  <a:lnTo>
                    <a:pt x="1337" y="313"/>
                  </a:lnTo>
                  <a:lnTo>
                    <a:pt x="1336" y="311"/>
                  </a:lnTo>
                  <a:lnTo>
                    <a:pt x="1336" y="309"/>
                  </a:lnTo>
                  <a:lnTo>
                    <a:pt x="1332" y="311"/>
                  </a:lnTo>
                  <a:lnTo>
                    <a:pt x="1326" y="311"/>
                  </a:lnTo>
                  <a:lnTo>
                    <a:pt x="1320" y="311"/>
                  </a:lnTo>
                  <a:lnTo>
                    <a:pt x="1320" y="311"/>
                  </a:lnTo>
                  <a:lnTo>
                    <a:pt x="1319" y="311"/>
                  </a:lnTo>
                  <a:lnTo>
                    <a:pt x="1318" y="311"/>
                  </a:lnTo>
                  <a:lnTo>
                    <a:pt x="1313" y="309"/>
                  </a:lnTo>
                  <a:lnTo>
                    <a:pt x="1310" y="308"/>
                  </a:lnTo>
                  <a:lnTo>
                    <a:pt x="1310" y="307"/>
                  </a:lnTo>
                  <a:lnTo>
                    <a:pt x="1308" y="307"/>
                  </a:lnTo>
                  <a:lnTo>
                    <a:pt x="1307" y="307"/>
                  </a:lnTo>
                  <a:lnTo>
                    <a:pt x="1302" y="306"/>
                  </a:lnTo>
                  <a:lnTo>
                    <a:pt x="1297" y="305"/>
                  </a:lnTo>
                  <a:lnTo>
                    <a:pt x="1297" y="304"/>
                  </a:lnTo>
                  <a:lnTo>
                    <a:pt x="1296" y="305"/>
                  </a:lnTo>
                  <a:lnTo>
                    <a:pt x="1291" y="308"/>
                  </a:lnTo>
                  <a:lnTo>
                    <a:pt x="1288" y="311"/>
                  </a:lnTo>
                  <a:lnTo>
                    <a:pt x="1288" y="311"/>
                  </a:lnTo>
                  <a:lnTo>
                    <a:pt x="1288" y="308"/>
                  </a:lnTo>
                  <a:lnTo>
                    <a:pt x="1287" y="302"/>
                  </a:lnTo>
                  <a:lnTo>
                    <a:pt x="1287" y="296"/>
                  </a:lnTo>
                  <a:lnTo>
                    <a:pt x="1288" y="295"/>
                  </a:lnTo>
                  <a:lnTo>
                    <a:pt x="1287" y="294"/>
                  </a:lnTo>
                  <a:lnTo>
                    <a:pt x="1284" y="291"/>
                  </a:lnTo>
                  <a:lnTo>
                    <a:pt x="1283" y="288"/>
                  </a:lnTo>
                  <a:lnTo>
                    <a:pt x="1283" y="286"/>
                  </a:lnTo>
                  <a:lnTo>
                    <a:pt x="1281" y="280"/>
                  </a:lnTo>
                  <a:lnTo>
                    <a:pt x="1281" y="277"/>
                  </a:lnTo>
                  <a:lnTo>
                    <a:pt x="1281" y="276"/>
                  </a:lnTo>
                  <a:lnTo>
                    <a:pt x="1280" y="276"/>
                  </a:lnTo>
                  <a:lnTo>
                    <a:pt x="1279" y="276"/>
                  </a:lnTo>
                  <a:lnTo>
                    <a:pt x="1275" y="274"/>
                  </a:lnTo>
                  <a:lnTo>
                    <a:pt x="1271" y="273"/>
                  </a:lnTo>
                  <a:lnTo>
                    <a:pt x="1271" y="272"/>
                  </a:lnTo>
                  <a:lnTo>
                    <a:pt x="1267" y="271"/>
                  </a:lnTo>
                  <a:lnTo>
                    <a:pt x="1265" y="270"/>
                  </a:lnTo>
                  <a:lnTo>
                    <a:pt x="1265" y="269"/>
                  </a:lnTo>
                  <a:lnTo>
                    <a:pt x="1262" y="268"/>
                  </a:lnTo>
                  <a:lnTo>
                    <a:pt x="1261" y="267"/>
                  </a:lnTo>
                  <a:lnTo>
                    <a:pt x="1261" y="266"/>
                  </a:lnTo>
                  <a:lnTo>
                    <a:pt x="1257" y="262"/>
                  </a:lnTo>
                  <a:lnTo>
                    <a:pt x="1256" y="261"/>
                  </a:lnTo>
                  <a:lnTo>
                    <a:pt x="1256" y="260"/>
                  </a:lnTo>
                  <a:lnTo>
                    <a:pt x="1254" y="261"/>
                  </a:lnTo>
                  <a:lnTo>
                    <a:pt x="1250" y="261"/>
                  </a:lnTo>
                  <a:lnTo>
                    <a:pt x="1247" y="261"/>
                  </a:lnTo>
                  <a:lnTo>
                    <a:pt x="1247" y="261"/>
                  </a:lnTo>
                  <a:lnTo>
                    <a:pt x="1244" y="258"/>
                  </a:lnTo>
                  <a:lnTo>
                    <a:pt x="1243" y="256"/>
                  </a:lnTo>
                  <a:lnTo>
                    <a:pt x="1243" y="255"/>
                  </a:lnTo>
                  <a:lnTo>
                    <a:pt x="1238" y="253"/>
                  </a:lnTo>
                  <a:lnTo>
                    <a:pt x="1237" y="251"/>
                  </a:lnTo>
                  <a:lnTo>
                    <a:pt x="1237" y="250"/>
                  </a:lnTo>
                  <a:lnTo>
                    <a:pt x="1237" y="249"/>
                  </a:lnTo>
                  <a:lnTo>
                    <a:pt x="1236" y="244"/>
                  </a:lnTo>
                  <a:lnTo>
                    <a:pt x="1236" y="241"/>
                  </a:lnTo>
                  <a:lnTo>
                    <a:pt x="1237" y="239"/>
                  </a:lnTo>
                  <a:lnTo>
                    <a:pt x="1241" y="233"/>
                  </a:lnTo>
                  <a:lnTo>
                    <a:pt x="1243" y="230"/>
                  </a:lnTo>
                  <a:lnTo>
                    <a:pt x="1244" y="229"/>
                  </a:lnTo>
                  <a:lnTo>
                    <a:pt x="1244" y="227"/>
                  </a:lnTo>
                  <a:lnTo>
                    <a:pt x="1245" y="222"/>
                  </a:lnTo>
                  <a:lnTo>
                    <a:pt x="1246" y="218"/>
                  </a:lnTo>
                  <a:lnTo>
                    <a:pt x="1247" y="216"/>
                  </a:lnTo>
                  <a:lnTo>
                    <a:pt x="1248" y="214"/>
                  </a:lnTo>
                  <a:lnTo>
                    <a:pt x="1252" y="208"/>
                  </a:lnTo>
                  <a:lnTo>
                    <a:pt x="1255" y="203"/>
                  </a:lnTo>
                  <a:lnTo>
                    <a:pt x="1256" y="202"/>
                  </a:lnTo>
                  <a:lnTo>
                    <a:pt x="1257" y="199"/>
                  </a:lnTo>
                  <a:lnTo>
                    <a:pt x="1257" y="197"/>
                  </a:lnTo>
                  <a:lnTo>
                    <a:pt x="1258" y="196"/>
                  </a:lnTo>
                  <a:lnTo>
                    <a:pt x="1257" y="192"/>
                  </a:lnTo>
                  <a:lnTo>
                    <a:pt x="1258" y="191"/>
                  </a:lnTo>
                  <a:lnTo>
                    <a:pt x="1258" y="190"/>
                  </a:lnTo>
                  <a:lnTo>
                    <a:pt x="1259" y="185"/>
                  </a:lnTo>
                  <a:lnTo>
                    <a:pt x="1260" y="180"/>
                  </a:lnTo>
                  <a:lnTo>
                    <a:pt x="1261" y="179"/>
                  </a:lnTo>
                  <a:lnTo>
                    <a:pt x="1262" y="175"/>
                  </a:lnTo>
                  <a:lnTo>
                    <a:pt x="1264" y="173"/>
                  </a:lnTo>
                  <a:lnTo>
                    <a:pt x="1265" y="172"/>
                  </a:lnTo>
                  <a:lnTo>
                    <a:pt x="1262" y="173"/>
                  </a:lnTo>
                  <a:lnTo>
                    <a:pt x="1257" y="174"/>
                  </a:lnTo>
                  <a:lnTo>
                    <a:pt x="1254" y="175"/>
                  </a:lnTo>
                  <a:lnTo>
                    <a:pt x="1254" y="175"/>
                  </a:lnTo>
                  <a:lnTo>
                    <a:pt x="1253" y="172"/>
                  </a:lnTo>
                  <a:lnTo>
                    <a:pt x="1253" y="169"/>
                  </a:lnTo>
                  <a:lnTo>
                    <a:pt x="1254" y="168"/>
                  </a:lnTo>
                  <a:lnTo>
                    <a:pt x="1254" y="167"/>
                  </a:lnTo>
                  <a:lnTo>
                    <a:pt x="1255" y="162"/>
                  </a:lnTo>
                  <a:lnTo>
                    <a:pt x="1256" y="159"/>
                  </a:lnTo>
                  <a:lnTo>
                    <a:pt x="1257" y="157"/>
                  </a:lnTo>
                  <a:lnTo>
                    <a:pt x="1257" y="156"/>
                  </a:lnTo>
                  <a:lnTo>
                    <a:pt x="1258" y="151"/>
                  </a:lnTo>
                  <a:lnTo>
                    <a:pt x="1258" y="146"/>
                  </a:lnTo>
                  <a:lnTo>
                    <a:pt x="1259" y="145"/>
                  </a:lnTo>
                  <a:lnTo>
                    <a:pt x="1262" y="145"/>
                  </a:lnTo>
                  <a:lnTo>
                    <a:pt x="1264" y="145"/>
                  </a:lnTo>
                  <a:lnTo>
                    <a:pt x="1265" y="145"/>
                  </a:lnTo>
                  <a:lnTo>
                    <a:pt x="1267" y="151"/>
                  </a:lnTo>
                  <a:lnTo>
                    <a:pt x="1268" y="154"/>
                  </a:lnTo>
                  <a:lnTo>
                    <a:pt x="1269" y="154"/>
                  </a:lnTo>
                  <a:lnTo>
                    <a:pt x="1270" y="156"/>
                  </a:lnTo>
                  <a:lnTo>
                    <a:pt x="1271" y="157"/>
                  </a:lnTo>
                  <a:lnTo>
                    <a:pt x="1272" y="157"/>
                  </a:lnTo>
                  <a:lnTo>
                    <a:pt x="1270" y="155"/>
                  </a:lnTo>
                  <a:lnTo>
                    <a:pt x="1270" y="153"/>
                  </a:lnTo>
                  <a:lnTo>
                    <a:pt x="1269" y="148"/>
                  </a:lnTo>
                  <a:lnTo>
                    <a:pt x="1269" y="144"/>
                  </a:lnTo>
                  <a:lnTo>
                    <a:pt x="1269" y="143"/>
                  </a:lnTo>
                  <a:lnTo>
                    <a:pt x="1272" y="140"/>
                  </a:lnTo>
                  <a:lnTo>
                    <a:pt x="1273" y="139"/>
                  </a:lnTo>
                  <a:lnTo>
                    <a:pt x="1275" y="138"/>
                  </a:lnTo>
                  <a:lnTo>
                    <a:pt x="1275" y="139"/>
                  </a:lnTo>
                  <a:lnTo>
                    <a:pt x="1276" y="142"/>
                  </a:lnTo>
                  <a:lnTo>
                    <a:pt x="1276" y="143"/>
                  </a:lnTo>
                  <a:lnTo>
                    <a:pt x="1277" y="143"/>
                  </a:lnTo>
                  <a:lnTo>
                    <a:pt x="1281" y="145"/>
                  </a:lnTo>
                  <a:lnTo>
                    <a:pt x="1284" y="145"/>
                  </a:lnTo>
                  <a:lnTo>
                    <a:pt x="1285" y="145"/>
                  </a:lnTo>
                  <a:lnTo>
                    <a:pt x="1288" y="144"/>
                  </a:lnTo>
                  <a:lnTo>
                    <a:pt x="1290" y="143"/>
                  </a:lnTo>
                  <a:lnTo>
                    <a:pt x="1291" y="140"/>
                  </a:lnTo>
                  <a:lnTo>
                    <a:pt x="1292" y="139"/>
                  </a:lnTo>
                  <a:lnTo>
                    <a:pt x="1293" y="138"/>
                  </a:lnTo>
                  <a:lnTo>
                    <a:pt x="1295" y="133"/>
                  </a:lnTo>
                  <a:lnTo>
                    <a:pt x="1296" y="131"/>
                  </a:lnTo>
                  <a:lnTo>
                    <a:pt x="1297" y="130"/>
                  </a:lnTo>
                  <a:lnTo>
                    <a:pt x="1295" y="129"/>
                  </a:lnTo>
                  <a:lnTo>
                    <a:pt x="1294" y="128"/>
                  </a:lnTo>
                  <a:lnTo>
                    <a:pt x="1294" y="127"/>
                  </a:lnTo>
                  <a:lnTo>
                    <a:pt x="1293" y="125"/>
                  </a:lnTo>
                  <a:lnTo>
                    <a:pt x="1293" y="123"/>
                  </a:lnTo>
                  <a:lnTo>
                    <a:pt x="1291" y="122"/>
                  </a:lnTo>
                  <a:lnTo>
                    <a:pt x="1291" y="121"/>
                  </a:lnTo>
                  <a:lnTo>
                    <a:pt x="1292" y="120"/>
                  </a:lnTo>
                  <a:lnTo>
                    <a:pt x="1293" y="118"/>
                  </a:lnTo>
                  <a:lnTo>
                    <a:pt x="1295" y="118"/>
                  </a:lnTo>
                  <a:lnTo>
                    <a:pt x="1296" y="118"/>
                  </a:lnTo>
                  <a:lnTo>
                    <a:pt x="1297" y="118"/>
                  </a:lnTo>
                  <a:lnTo>
                    <a:pt x="1300" y="117"/>
                  </a:lnTo>
                  <a:lnTo>
                    <a:pt x="1301" y="116"/>
                  </a:lnTo>
                  <a:lnTo>
                    <a:pt x="1302" y="115"/>
                  </a:lnTo>
                  <a:lnTo>
                    <a:pt x="1305" y="108"/>
                  </a:lnTo>
                  <a:lnTo>
                    <a:pt x="1307" y="105"/>
                  </a:lnTo>
                  <a:lnTo>
                    <a:pt x="1308" y="104"/>
                  </a:lnTo>
                  <a:lnTo>
                    <a:pt x="1311" y="98"/>
                  </a:lnTo>
                  <a:lnTo>
                    <a:pt x="1312" y="95"/>
                  </a:lnTo>
                  <a:lnTo>
                    <a:pt x="1313" y="94"/>
                  </a:lnTo>
                  <a:lnTo>
                    <a:pt x="1314" y="92"/>
                  </a:lnTo>
                  <a:lnTo>
                    <a:pt x="1315" y="90"/>
                  </a:lnTo>
                  <a:lnTo>
                    <a:pt x="1311" y="86"/>
                  </a:lnTo>
                  <a:lnTo>
                    <a:pt x="1310" y="85"/>
                  </a:lnTo>
                  <a:lnTo>
                    <a:pt x="1310" y="84"/>
                  </a:lnTo>
                  <a:lnTo>
                    <a:pt x="1308" y="84"/>
                  </a:lnTo>
                  <a:lnTo>
                    <a:pt x="1305" y="84"/>
                  </a:lnTo>
                  <a:lnTo>
                    <a:pt x="1303" y="84"/>
                  </a:lnTo>
                  <a:lnTo>
                    <a:pt x="1303" y="84"/>
                  </a:lnTo>
                  <a:lnTo>
                    <a:pt x="1302" y="85"/>
                  </a:lnTo>
                  <a:lnTo>
                    <a:pt x="1297" y="88"/>
                  </a:lnTo>
                  <a:lnTo>
                    <a:pt x="1294" y="90"/>
                  </a:lnTo>
                  <a:lnTo>
                    <a:pt x="1294" y="90"/>
                  </a:lnTo>
                  <a:lnTo>
                    <a:pt x="1293" y="80"/>
                  </a:lnTo>
                  <a:lnTo>
                    <a:pt x="1293" y="74"/>
                  </a:lnTo>
                  <a:lnTo>
                    <a:pt x="1293" y="73"/>
                  </a:lnTo>
                  <a:lnTo>
                    <a:pt x="1291" y="70"/>
                  </a:lnTo>
                  <a:lnTo>
                    <a:pt x="1291" y="69"/>
                  </a:lnTo>
                  <a:lnTo>
                    <a:pt x="1291" y="68"/>
                  </a:lnTo>
                  <a:lnTo>
                    <a:pt x="1289" y="67"/>
                  </a:lnTo>
                  <a:lnTo>
                    <a:pt x="1288" y="66"/>
                  </a:lnTo>
                  <a:lnTo>
                    <a:pt x="1287" y="67"/>
                  </a:lnTo>
                  <a:lnTo>
                    <a:pt x="1285" y="68"/>
                  </a:lnTo>
                  <a:lnTo>
                    <a:pt x="1280" y="71"/>
                  </a:lnTo>
                  <a:lnTo>
                    <a:pt x="1276" y="74"/>
                  </a:lnTo>
                  <a:lnTo>
                    <a:pt x="1276" y="74"/>
                  </a:lnTo>
                  <a:lnTo>
                    <a:pt x="1275" y="76"/>
                  </a:lnTo>
                  <a:lnTo>
                    <a:pt x="1275" y="81"/>
                  </a:lnTo>
                  <a:lnTo>
                    <a:pt x="1275" y="84"/>
                  </a:lnTo>
                  <a:lnTo>
                    <a:pt x="1275" y="84"/>
                  </a:lnTo>
                  <a:lnTo>
                    <a:pt x="1276" y="86"/>
                  </a:lnTo>
                  <a:lnTo>
                    <a:pt x="1277" y="87"/>
                  </a:lnTo>
                  <a:lnTo>
                    <a:pt x="1276" y="88"/>
                  </a:lnTo>
                  <a:lnTo>
                    <a:pt x="1272" y="95"/>
                  </a:lnTo>
                  <a:lnTo>
                    <a:pt x="1270" y="99"/>
                  </a:lnTo>
                  <a:lnTo>
                    <a:pt x="1270" y="99"/>
                  </a:lnTo>
                  <a:lnTo>
                    <a:pt x="1266" y="101"/>
                  </a:lnTo>
                  <a:lnTo>
                    <a:pt x="1264" y="101"/>
                  </a:lnTo>
                  <a:lnTo>
                    <a:pt x="1264" y="101"/>
                  </a:lnTo>
                  <a:lnTo>
                    <a:pt x="1262" y="102"/>
                  </a:lnTo>
                  <a:lnTo>
                    <a:pt x="1261" y="103"/>
                  </a:lnTo>
                  <a:lnTo>
                    <a:pt x="1260" y="103"/>
                  </a:lnTo>
                  <a:lnTo>
                    <a:pt x="1259" y="101"/>
                  </a:lnTo>
                  <a:lnTo>
                    <a:pt x="1259" y="99"/>
                  </a:lnTo>
                  <a:lnTo>
                    <a:pt x="1259" y="98"/>
                  </a:lnTo>
                  <a:lnTo>
                    <a:pt x="1258" y="95"/>
                  </a:lnTo>
                  <a:lnTo>
                    <a:pt x="1258" y="92"/>
                  </a:lnTo>
                  <a:lnTo>
                    <a:pt x="1259" y="91"/>
                  </a:lnTo>
                  <a:lnTo>
                    <a:pt x="1259" y="87"/>
                  </a:lnTo>
                  <a:lnTo>
                    <a:pt x="1259" y="85"/>
                  </a:lnTo>
                  <a:lnTo>
                    <a:pt x="1260" y="84"/>
                  </a:lnTo>
                  <a:lnTo>
                    <a:pt x="1259" y="81"/>
                  </a:lnTo>
                  <a:lnTo>
                    <a:pt x="1260" y="80"/>
                  </a:lnTo>
                  <a:lnTo>
                    <a:pt x="1259" y="79"/>
                  </a:lnTo>
                  <a:lnTo>
                    <a:pt x="1259" y="78"/>
                  </a:lnTo>
                  <a:lnTo>
                    <a:pt x="1258" y="79"/>
                  </a:lnTo>
                  <a:lnTo>
                    <a:pt x="1255" y="81"/>
                  </a:lnTo>
                  <a:lnTo>
                    <a:pt x="1254" y="82"/>
                  </a:lnTo>
                  <a:lnTo>
                    <a:pt x="1254" y="82"/>
                  </a:lnTo>
                  <a:lnTo>
                    <a:pt x="1253" y="82"/>
                  </a:lnTo>
                  <a:lnTo>
                    <a:pt x="1252" y="82"/>
                  </a:lnTo>
                  <a:lnTo>
                    <a:pt x="1250" y="82"/>
                  </a:lnTo>
                  <a:lnTo>
                    <a:pt x="1250" y="81"/>
                  </a:lnTo>
                  <a:lnTo>
                    <a:pt x="1248" y="79"/>
                  </a:lnTo>
                  <a:lnTo>
                    <a:pt x="1248" y="78"/>
                  </a:lnTo>
                  <a:lnTo>
                    <a:pt x="1249" y="76"/>
                  </a:lnTo>
                  <a:lnTo>
                    <a:pt x="1253" y="71"/>
                  </a:lnTo>
                  <a:lnTo>
                    <a:pt x="1255" y="68"/>
                  </a:lnTo>
                  <a:lnTo>
                    <a:pt x="1256" y="67"/>
                  </a:lnTo>
                  <a:lnTo>
                    <a:pt x="1254" y="68"/>
                  </a:lnTo>
                  <a:lnTo>
                    <a:pt x="1248" y="70"/>
                  </a:lnTo>
                  <a:lnTo>
                    <a:pt x="1244" y="71"/>
                  </a:lnTo>
                  <a:lnTo>
                    <a:pt x="1244" y="71"/>
                  </a:lnTo>
                  <a:lnTo>
                    <a:pt x="1243" y="71"/>
                  </a:lnTo>
                  <a:lnTo>
                    <a:pt x="1242" y="71"/>
                  </a:lnTo>
                  <a:lnTo>
                    <a:pt x="1238" y="71"/>
                  </a:lnTo>
                  <a:lnTo>
                    <a:pt x="1235" y="71"/>
                  </a:lnTo>
                  <a:lnTo>
                    <a:pt x="1235" y="71"/>
                  </a:lnTo>
                  <a:lnTo>
                    <a:pt x="1233" y="70"/>
                  </a:lnTo>
                  <a:lnTo>
                    <a:pt x="1232" y="71"/>
                  </a:lnTo>
                  <a:lnTo>
                    <a:pt x="1230" y="72"/>
                  </a:lnTo>
                  <a:lnTo>
                    <a:pt x="1229" y="72"/>
                  </a:lnTo>
                  <a:lnTo>
                    <a:pt x="1224" y="74"/>
                  </a:lnTo>
                  <a:lnTo>
                    <a:pt x="1223" y="74"/>
                  </a:lnTo>
                  <a:lnTo>
                    <a:pt x="1223" y="74"/>
                  </a:lnTo>
                  <a:lnTo>
                    <a:pt x="1222" y="75"/>
                  </a:lnTo>
                  <a:lnTo>
                    <a:pt x="1219" y="79"/>
                  </a:lnTo>
                  <a:lnTo>
                    <a:pt x="1218" y="80"/>
                  </a:lnTo>
                  <a:lnTo>
                    <a:pt x="1218" y="80"/>
                  </a:lnTo>
                  <a:lnTo>
                    <a:pt x="1217" y="81"/>
                  </a:lnTo>
                  <a:lnTo>
                    <a:pt x="1213" y="84"/>
                  </a:lnTo>
                  <a:lnTo>
                    <a:pt x="1211" y="86"/>
                  </a:lnTo>
                  <a:lnTo>
                    <a:pt x="1211" y="86"/>
                  </a:lnTo>
                  <a:lnTo>
                    <a:pt x="1207" y="83"/>
                  </a:lnTo>
                  <a:lnTo>
                    <a:pt x="1206" y="81"/>
                  </a:lnTo>
                  <a:lnTo>
                    <a:pt x="1206" y="80"/>
                  </a:lnTo>
                  <a:lnTo>
                    <a:pt x="1202" y="78"/>
                  </a:lnTo>
                  <a:lnTo>
                    <a:pt x="1201" y="76"/>
                  </a:lnTo>
                  <a:lnTo>
                    <a:pt x="1201" y="75"/>
                  </a:lnTo>
                  <a:lnTo>
                    <a:pt x="1200" y="75"/>
                  </a:lnTo>
                  <a:lnTo>
                    <a:pt x="1199" y="75"/>
                  </a:lnTo>
                  <a:lnTo>
                    <a:pt x="1194" y="75"/>
                  </a:lnTo>
                  <a:lnTo>
                    <a:pt x="1189" y="75"/>
                  </a:lnTo>
                  <a:lnTo>
                    <a:pt x="1189" y="75"/>
                  </a:lnTo>
                  <a:lnTo>
                    <a:pt x="1185" y="72"/>
                  </a:lnTo>
                  <a:lnTo>
                    <a:pt x="1183" y="70"/>
                  </a:lnTo>
                  <a:lnTo>
                    <a:pt x="1183" y="69"/>
                  </a:lnTo>
                  <a:lnTo>
                    <a:pt x="1182" y="69"/>
                  </a:lnTo>
                  <a:lnTo>
                    <a:pt x="1181" y="69"/>
                  </a:lnTo>
                  <a:lnTo>
                    <a:pt x="1181" y="69"/>
                  </a:lnTo>
                  <a:lnTo>
                    <a:pt x="1179" y="70"/>
                  </a:lnTo>
                  <a:lnTo>
                    <a:pt x="1174" y="72"/>
                  </a:lnTo>
                  <a:lnTo>
                    <a:pt x="1171" y="73"/>
                  </a:lnTo>
                  <a:lnTo>
                    <a:pt x="1171" y="73"/>
                  </a:lnTo>
                  <a:lnTo>
                    <a:pt x="1170" y="73"/>
                  </a:lnTo>
                  <a:lnTo>
                    <a:pt x="1168" y="73"/>
                  </a:lnTo>
                  <a:lnTo>
                    <a:pt x="1165" y="72"/>
                  </a:lnTo>
                  <a:lnTo>
                    <a:pt x="1162" y="71"/>
                  </a:lnTo>
                  <a:lnTo>
                    <a:pt x="1162" y="70"/>
                  </a:lnTo>
                  <a:lnTo>
                    <a:pt x="1160" y="71"/>
                  </a:lnTo>
                  <a:lnTo>
                    <a:pt x="1155" y="72"/>
                  </a:lnTo>
                  <a:lnTo>
                    <a:pt x="1152" y="72"/>
                  </a:lnTo>
                  <a:lnTo>
                    <a:pt x="1152" y="72"/>
                  </a:lnTo>
                  <a:lnTo>
                    <a:pt x="1148" y="70"/>
                  </a:lnTo>
                  <a:lnTo>
                    <a:pt x="1146" y="69"/>
                  </a:lnTo>
                  <a:lnTo>
                    <a:pt x="1146" y="68"/>
                  </a:lnTo>
                  <a:lnTo>
                    <a:pt x="1142" y="67"/>
                  </a:lnTo>
                  <a:lnTo>
                    <a:pt x="1141" y="66"/>
                  </a:lnTo>
                  <a:lnTo>
                    <a:pt x="1141" y="64"/>
                  </a:lnTo>
                  <a:lnTo>
                    <a:pt x="1140" y="64"/>
                  </a:lnTo>
                  <a:lnTo>
                    <a:pt x="1139" y="64"/>
                  </a:lnTo>
                  <a:lnTo>
                    <a:pt x="1135" y="64"/>
                  </a:lnTo>
                  <a:lnTo>
                    <a:pt x="1131" y="64"/>
                  </a:lnTo>
                  <a:lnTo>
                    <a:pt x="1131" y="63"/>
                  </a:lnTo>
                  <a:lnTo>
                    <a:pt x="1130" y="63"/>
                  </a:lnTo>
                  <a:lnTo>
                    <a:pt x="1127" y="62"/>
                  </a:lnTo>
                  <a:lnTo>
                    <a:pt x="1126" y="62"/>
                  </a:lnTo>
                  <a:lnTo>
                    <a:pt x="1126" y="61"/>
                  </a:lnTo>
                  <a:lnTo>
                    <a:pt x="1126" y="60"/>
                  </a:lnTo>
                  <a:lnTo>
                    <a:pt x="1125" y="57"/>
                  </a:lnTo>
                  <a:lnTo>
                    <a:pt x="1125" y="55"/>
                  </a:lnTo>
                  <a:lnTo>
                    <a:pt x="1126" y="53"/>
                  </a:lnTo>
                  <a:lnTo>
                    <a:pt x="1125" y="55"/>
                  </a:lnTo>
                  <a:lnTo>
                    <a:pt x="1123" y="56"/>
                  </a:lnTo>
                  <a:lnTo>
                    <a:pt x="1121" y="56"/>
                  </a:lnTo>
                  <a:lnTo>
                    <a:pt x="1120" y="57"/>
                  </a:lnTo>
                  <a:lnTo>
                    <a:pt x="1116" y="59"/>
                  </a:lnTo>
                  <a:lnTo>
                    <a:pt x="1114" y="60"/>
                  </a:lnTo>
                  <a:lnTo>
                    <a:pt x="1114" y="60"/>
                  </a:lnTo>
                  <a:lnTo>
                    <a:pt x="1111" y="59"/>
                  </a:lnTo>
                  <a:lnTo>
                    <a:pt x="1109" y="58"/>
                  </a:lnTo>
                  <a:lnTo>
                    <a:pt x="1106" y="57"/>
                  </a:lnTo>
                  <a:lnTo>
                    <a:pt x="1105" y="56"/>
                  </a:lnTo>
                  <a:lnTo>
                    <a:pt x="1103" y="57"/>
                  </a:lnTo>
                  <a:lnTo>
                    <a:pt x="1102" y="57"/>
                  </a:lnTo>
                  <a:lnTo>
                    <a:pt x="1102" y="57"/>
                  </a:lnTo>
                  <a:lnTo>
                    <a:pt x="1096" y="56"/>
                  </a:lnTo>
                  <a:lnTo>
                    <a:pt x="1094" y="55"/>
                  </a:lnTo>
                  <a:lnTo>
                    <a:pt x="1094" y="53"/>
                  </a:lnTo>
                  <a:lnTo>
                    <a:pt x="1093" y="53"/>
                  </a:lnTo>
                  <a:lnTo>
                    <a:pt x="1092" y="53"/>
                  </a:lnTo>
                  <a:lnTo>
                    <a:pt x="1089" y="53"/>
                  </a:lnTo>
                  <a:lnTo>
                    <a:pt x="1085" y="53"/>
                  </a:lnTo>
                  <a:lnTo>
                    <a:pt x="1085" y="52"/>
                  </a:lnTo>
                  <a:lnTo>
                    <a:pt x="1083" y="51"/>
                  </a:lnTo>
                  <a:lnTo>
                    <a:pt x="1080" y="48"/>
                  </a:lnTo>
                  <a:lnTo>
                    <a:pt x="1078" y="45"/>
                  </a:lnTo>
                  <a:lnTo>
                    <a:pt x="1078" y="44"/>
                  </a:lnTo>
                  <a:lnTo>
                    <a:pt x="1074" y="40"/>
                  </a:lnTo>
                  <a:lnTo>
                    <a:pt x="1073" y="38"/>
                  </a:lnTo>
                  <a:lnTo>
                    <a:pt x="1073" y="37"/>
                  </a:lnTo>
                  <a:lnTo>
                    <a:pt x="1070" y="36"/>
                  </a:lnTo>
                  <a:lnTo>
                    <a:pt x="1069" y="35"/>
                  </a:lnTo>
                  <a:lnTo>
                    <a:pt x="1069" y="34"/>
                  </a:lnTo>
                  <a:lnTo>
                    <a:pt x="1065" y="36"/>
                  </a:lnTo>
                  <a:lnTo>
                    <a:pt x="1064" y="36"/>
                  </a:lnTo>
                  <a:lnTo>
                    <a:pt x="1064" y="36"/>
                  </a:lnTo>
                  <a:lnTo>
                    <a:pt x="1062" y="38"/>
                  </a:lnTo>
                  <a:lnTo>
                    <a:pt x="1061" y="41"/>
                  </a:lnTo>
                  <a:lnTo>
                    <a:pt x="1061" y="44"/>
                  </a:lnTo>
                  <a:lnTo>
                    <a:pt x="1061" y="44"/>
                  </a:lnTo>
                  <a:lnTo>
                    <a:pt x="1058" y="43"/>
                  </a:lnTo>
                  <a:lnTo>
                    <a:pt x="1057" y="41"/>
                  </a:lnTo>
                  <a:lnTo>
                    <a:pt x="1053" y="38"/>
                  </a:lnTo>
                  <a:lnTo>
                    <a:pt x="1052" y="37"/>
                  </a:lnTo>
                  <a:lnTo>
                    <a:pt x="1052" y="36"/>
                  </a:lnTo>
                  <a:lnTo>
                    <a:pt x="1047" y="34"/>
                  </a:lnTo>
                  <a:lnTo>
                    <a:pt x="1046" y="33"/>
                  </a:lnTo>
                  <a:lnTo>
                    <a:pt x="1046" y="32"/>
                  </a:lnTo>
                  <a:lnTo>
                    <a:pt x="1044" y="28"/>
                  </a:lnTo>
                  <a:lnTo>
                    <a:pt x="1044" y="26"/>
                  </a:lnTo>
                  <a:lnTo>
                    <a:pt x="1044" y="25"/>
                  </a:lnTo>
                  <a:lnTo>
                    <a:pt x="1039" y="26"/>
                  </a:lnTo>
                  <a:lnTo>
                    <a:pt x="1038" y="26"/>
                  </a:lnTo>
                  <a:lnTo>
                    <a:pt x="1038" y="26"/>
                  </a:lnTo>
                  <a:lnTo>
                    <a:pt x="1036" y="24"/>
                  </a:lnTo>
                  <a:lnTo>
                    <a:pt x="1035" y="23"/>
                  </a:lnTo>
                  <a:lnTo>
                    <a:pt x="1035" y="22"/>
                  </a:lnTo>
                  <a:lnTo>
                    <a:pt x="1034" y="22"/>
                  </a:lnTo>
                  <a:lnTo>
                    <a:pt x="1033" y="22"/>
                  </a:lnTo>
                  <a:lnTo>
                    <a:pt x="1032" y="22"/>
                  </a:lnTo>
                  <a:lnTo>
                    <a:pt x="1032" y="22"/>
                  </a:lnTo>
                  <a:lnTo>
                    <a:pt x="1031" y="23"/>
                  </a:lnTo>
                  <a:lnTo>
                    <a:pt x="1030" y="23"/>
                  </a:lnTo>
                  <a:lnTo>
                    <a:pt x="1030" y="25"/>
                  </a:lnTo>
                  <a:lnTo>
                    <a:pt x="1029" y="28"/>
                  </a:lnTo>
                  <a:lnTo>
                    <a:pt x="1029" y="32"/>
                  </a:lnTo>
                  <a:lnTo>
                    <a:pt x="1030" y="32"/>
                  </a:lnTo>
                  <a:lnTo>
                    <a:pt x="1029" y="33"/>
                  </a:lnTo>
                  <a:lnTo>
                    <a:pt x="1026" y="36"/>
                  </a:lnTo>
                  <a:lnTo>
                    <a:pt x="1025" y="37"/>
                  </a:lnTo>
                  <a:lnTo>
                    <a:pt x="1025" y="37"/>
                  </a:lnTo>
                  <a:lnTo>
                    <a:pt x="1023" y="35"/>
                  </a:lnTo>
                  <a:lnTo>
                    <a:pt x="1023" y="33"/>
                  </a:lnTo>
                  <a:lnTo>
                    <a:pt x="1022" y="28"/>
                  </a:lnTo>
                  <a:lnTo>
                    <a:pt x="1022" y="25"/>
                  </a:lnTo>
                  <a:lnTo>
                    <a:pt x="1022" y="24"/>
                  </a:lnTo>
                  <a:lnTo>
                    <a:pt x="1020" y="22"/>
                  </a:lnTo>
                  <a:lnTo>
                    <a:pt x="1019" y="21"/>
                  </a:lnTo>
                  <a:lnTo>
                    <a:pt x="1019" y="20"/>
                  </a:lnTo>
                  <a:lnTo>
                    <a:pt x="1018" y="21"/>
                  </a:lnTo>
                  <a:lnTo>
                    <a:pt x="1017" y="22"/>
                  </a:lnTo>
                  <a:lnTo>
                    <a:pt x="1015" y="23"/>
                  </a:lnTo>
                  <a:lnTo>
                    <a:pt x="1015" y="23"/>
                  </a:lnTo>
                  <a:lnTo>
                    <a:pt x="1013" y="27"/>
                  </a:lnTo>
                  <a:lnTo>
                    <a:pt x="1013" y="28"/>
                  </a:lnTo>
                  <a:lnTo>
                    <a:pt x="1013" y="28"/>
                  </a:lnTo>
                  <a:lnTo>
                    <a:pt x="1010" y="27"/>
                  </a:lnTo>
                  <a:lnTo>
                    <a:pt x="1009" y="26"/>
                  </a:lnTo>
                  <a:lnTo>
                    <a:pt x="1007" y="27"/>
                  </a:lnTo>
                  <a:lnTo>
                    <a:pt x="1006" y="27"/>
                  </a:lnTo>
                  <a:lnTo>
                    <a:pt x="1006" y="27"/>
                  </a:lnTo>
                  <a:lnTo>
                    <a:pt x="1004" y="28"/>
                  </a:lnTo>
                  <a:lnTo>
                    <a:pt x="1004" y="28"/>
                  </a:lnTo>
                  <a:lnTo>
                    <a:pt x="1010" y="31"/>
                  </a:lnTo>
                  <a:lnTo>
                    <a:pt x="1013" y="32"/>
                  </a:lnTo>
                  <a:lnTo>
                    <a:pt x="1014" y="32"/>
                  </a:lnTo>
                  <a:lnTo>
                    <a:pt x="1018" y="36"/>
                  </a:lnTo>
                  <a:lnTo>
                    <a:pt x="1019" y="38"/>
                  </a:lnTo>
                  <a:lnTo>
                    <a:pt x="1020" y="38"/>
                  </a:lnTo>
                  <a:lnTo>
                    <a:pt x="1021" y="39"/>
                  </a:lnTo>
                  <a:lnTo>
                    <a:pt x="1024" y="43"/>
                  </a:lnTo>
                  <a:lnTo>
                    <a:pt x="1027" y="44"/>
                  </a:lnTo>
                  <a:lnTo>
                    <a:pt x="1029" y="44"/>
                  </a:lnTo>
                  <a:lnTo>
                    <a:pt x="1030" y="44"/>
                  </a:lnTo>
                  <a:lnTo>
                    <a:pt x="1033" y="43"/>
                  </a:lnTo>
                  <a:lnTo>
                    <a:pt x="1036" y="43"/>
                  </a:lnTo>
                  <a:lnTo>
                    <a:pt x="1037" y="41"/>
                  </a:lnTo>
                  <a:lnTo>
                    <a:pt x="1044" y="43"/>
                  </a:lnTo>
                  <a:lnTo>
                    <a:pt x="1047" y="43"/>
                  </a:lnTo>
                  <a:lnTo>
                    <a:pt x="1048" y="43"/>
                  </a:lnTo>
                  <a:lnTo>
                    <a:pt x="1052" y="47"/>
                  </a:lnTo>
                  <a:lnTo>
                    <a:pt x="1054" y="49"/>
                  </a:lnTo>
                  <a:lnTo>
                    <a:pt x="1055" y="49"/>
                  </a:lnTo>
                  <a:lnTo>
                    <a:pt x="1055" y="52"/>
                  </a:lnTo>
                  <a:lnTo>
                    <a:pt x="1054" y="59"/>
                  </a:lnTo>
                  <a:lnTo>
                    <a:pt x="1054" y="63"/>
                  </a:lnTo>
                  <a:lnTo>
                    <a:pt x="1055" y="63"/>
                  </a:lnTo>
                  <a:lnTo>
                    <a:pt x="1055" y="64"/>
                  </a:lnTo>
                  <a:lnTo>
                    <a:pt x="1055" y="66"/>
                  </a:lnTo>
                  <a:lnTo>
                    <a:pt x="1055" y="71"/>
                  </a:lnTo>
                  <a:lnTo>
                    <a:pt x="1055" y="75"/>
                  </a:lnTo>
                  <a:lnTo>
                    <a:pt x="1056" y="75"/>
                  </a:lnTo>
                  <a:lnTo>
                    <a:pt x="1055" y="76"/>
                  </a:lnTo>
                  <a:lnTo>
                    <a:pt x="1049" y="80"/>
                  </a:lnTo>
                  <a:lnTo>
                    <a:pt x="1046" y="82"/>
                  </a:lnTo>
                  <a:lnTo>
                    <a:pt x="1046" y="82"/>
                  </a:lnTo>
                  <a:lnTo>
                    <a:pt x="1042" y="84"/>
                  </a:lnTo>
                  <a:lnTo>
                    <a:pt x="1039" y="84"/>
                  </a:lnTo>
                  <a:lnTo>
                    <a:pt x="1039" y="84"/>
                  </a:lnTo>
                  <a:lnTo>
                    <a:pt x="1036" y="85"/>
                  </a:lnTo>
                  <a:lnTo>
                    <a:pt x="1030" y="88"/>
                  </a:lnTo>
                  <a:lnTo>
                    <a:pt x="1024" y="90"/>
                  </a:lnTo>
                  <a:lnTo>
                    <a:pt x="1024" y="90"/>
                  </a:lnTo>
                  <a:lnTo>
                    <a:pt x="1023" y="90"/>
                  </a:lnTo>
                  <a:lnTo>
                    <a:pt x="1022" y="90"/>
                  </a:lnTo>
                  <a:lnTo>
                    <a:pt x="1019" y="90"/>
                  </a:lnTo>
                  <a:lnTo>
                    <a:pt x="1015" y="90"/>
                  </a:lnTo>
                  <a:lnTo>
                    <a:pt x="1015" y="90"/>
                  </a:lnTo>
                  <a:lnTo>
                    <a:pt x="1014" y="90"/>
                  </a:lnTo>
                  <a:lnTo>
                    <a:pt x="1013" y="90"/>
                  </a:lnTo>
                  <a:lnTo>
                    <a:pt x="1009" y="88"/>
                  </a:lnTo>
                  <a:lnTo>
                    <a:pt x="1006" y="88"/>
                  </a:lnTo>
                  <a:lnTo>
                    <a:pt x="1006" y="87"/>
                  </a:lnTo>
                  <a:lnTo>
                    <a:pt x="1002" y="88"/>
                  </a:lnTo>
                  <a:lnTo>
                    <a:pt x="996" y="90"/>
                  </a:lnTo>
                  <a:lnTo>
                    <a:pt x="991" y="90"/>
                  </a:lnTo>
                  <a:lnTo>
                    <a:pt x="991" y="90"/>
                  </a:lnTo>
                  <a:lnTo>
                    <a:pt x="990" y="90"/>
                  </a:lnTo>
                  <a:lnTo>
                    <a:pt x="989" y="90"/>
                  </a:lnTo>
                  <a:lnTo>
                    <a:pt x="986" y="88"/>
                  </a:lnTo>
                  <a:lnTo>
                    <a:pt x="983" y="88"/>
                  </a:lnTo>
                  <a:lnTo>
                    <a:pt x="983" y="87"/>
                  </a:lnTo>
                  <a:lnTo>
                    <a:pt x="982" y="87"/>
                  </a:lnTo>
                  <a:lnTo>
                    <a:pt x="979" y="87"/>
                  </a:lnTo>
                  <a:lnTo>
                    <a:pt x="978" y="87"/>
                  </a:lnTo>
                  <a:lnTo>
                    <a:pt x="978" y="87"/>
                  </a:lnTo>
                  <a:lnTo>
                    <a:pt x="977" y="92"/>
                  </a:lnTo>
                  <a:lnTo>
                    <a:pt x="977" y="93"/>
                  </a:lnTo>
                  <a:lnTo>
                    <a:pt x="977" y="93"/>
                  </a:lnTo>
                  <a:lnTo>
                    <a:pt x="972" y="92"/>
                  </a:lnTo>
                  <a:lnTo>
                    <a:pt x="970" y="91"/>
                  </a:lnTo>
                  <a:lnTo>
                    <a:pt x="970" y="90"/>
                  </a:lnTo>
                  <a:lnTo>
                    <a:pt x="968" y="90"/>
                  </a:lnTo>
                  <a:lnTo>
                    <a:pt x="965" y="88"/>
                  </a:lnTo>
                  <a:lnTo>
                    <a:pt x="963" y="88"/>
                  </a:lnTo>
                  <a:lnTo>
                    <a:pt x="963" y="87"/>
                  </a:lnTo>
                  <a:lnTo>
                    <a:pt x="962" y="88"/>
                  </a:lnTo>
                  <a:lnTo>
                    <a:pt x="959" y="94"/>
                  </a:lnTo>
                  <a:lnTo>
                    <a:pt x="956" y="97"/>
                  </a:lnTo>
                  <a:lnTo>
                    <a:pt x="956" y="97"/>
                  </a:lnTo>
                  <a:lnTo>
                    <a:pt x="955" y="98"/>
                  </a:lnTo>
                  <a:lnTo>
                    <a:pt x="954" y="99"/>
                  </a:lnTo>
                  <a:lnTo>
                    <a:pt x="953" y="99"/>
                  </a:lnTo>
                  <a:lnTo>
                    <a:pt x="956" y="106"/>
                  </a:lnTo>
                  <a:lnTo>
                    <a:pt x="959" y="109"/>
                  </a:lnTo>
                  <a:lnTo>
                    <a:pt x="960" y="109"/>
                  </a:lnTo>
                  <a:lnTo>
                    <a:pt x="959" y="111"/>
                  </a:lnTo>
                  <a:lnTo>
                    <a:pt x="959" y="115"/>
                  </a:lnTo>
                  <a:lnTo>
                    <a:pt x="959" y="118"/>
                  </a:lnTo>
                  <a:lnTo>
                    <a:pt x="959" y="118"/>
                  </a:lnTo>
                  <a:lnTo>
                    <a:pt x="957" y="117"/>
                  </a:lnTo>
                  <a:lnTo>
                    <a:pt x="955" y="114"/>
                  </a:lnTo>
                  <a:lnTo>
                    <a:pt x="954" y="111"/>
                  </a:lnTo>
                  <a:lnTo>
                    <a:pt x="954" y="110"/>
                  </a:lnTo>
                  <a:lnTo>
                    <a:pt x="949" y="107"/>
                  </a:lnTo>
                  <a:lnTo>
                    <a:pt x="947" y="106"/>
                  </a:lnTo>
                  <a:lnTo>
                    <a:pt x="947" y="105"/>
                  </a:lnTo>
                  <a:lnTo>
                    <a:pt x="945" y="105"/>
                  </a:lnTo>
                  <a:lnTo>
                    <a:pt x="944" y="105"/>
                  </a:lnTo>
                  <a:lnTo>
                    <a:pt x="941" y="105"/>
                  </a:lnTo>
                  <a:lnTo>
                    <a:pt x="938" y="105"/>
                  </a:lnTo>
                  <a:lnTo>
                    <a:pt x="938" y="104"/>
                  </a:lnTo>
                  <a:lnTo>
                    <a:pt x="937" y="106"/>
                  </a:lnTo>
                  <a:lnTo>
                    <a:pt x="937" y="109"/>
                  </a:lnTo>
                  <a:lnTo>
                    <a:pt x="937" y="113"/>
                  </a:lnTo>
                  <a:lnTo>
                    <a:pt x="937" y="113"/>
                  </a:lnTo>
                  <a:lnTo>
                    <a:pt x="935" y="114"/>
                  </a:lnTo>
                  <a:lnTo>
                    <a:pt x="930" y="115"/>
                  </a:lnTo>
                  <a:lnTo>
                    <a:pt x="927" y="116"/>
                  </a:lnTo>
                  <a:lnTo>
                    <a:pt x="927" y="116"/>
                  </a:lnTo>
                  <a:lnTo>
                    <a:pt x="925" y="117"/>
                  </a:lnTo>
                  <a:lnTo>
                    <a:pt x="920" y="118"/>
                  </a:lnTo>
                  <a:lnTo>
                    <a:pt x="917" y="119"/>
                  </a:lnTo>
                  <a:lnTo>
                    <a:pt x="917" y="119"/>
                  </a:lnTo>
                  <a:lnTo>
                    <a:pt x="916" y="121"/>
                  </a:lnTo>
                  <a:lnTo>
                    <a:pt x="914" y="127"/>
                  </a:lnTo>
                  <a:lnTo>
                    <a:pt x="913" y="131"/>
                  </a:lnTo>
                  <a:lnTo>
                    <a:pt x="913" y="131"/>
                  </a:lnTo>
                  <a:lnTo>
                    <a:pt x="913" y="133"/>
                  </a:lnTo>
                  <a:lnTo>
                    <a:pt x="912" y="138"/>
                  </a:lnTo>
                  <a:lnTo>
                    <a:pt x="912" y="141"/>
                  </a:lnTo>
                  <a:lnTo>
                    <a:pt x="913" y="141"/>
                  </a:lnTo>
                  <a:lnTo>
                    <a:pt x="910" y="145"/>
                  </a:lnTo>
                  <a:lnTo>
                    <a:pt x="910" y="148"/>
                  </a:lnTo>
                  <a:lnTo>
                    <a:pt x="910" y="148"/>
                  </a:lnTo>
                  <a:lnTo>
                    <a:pt x="912" y="148"/>
                  </a:lnTo>
                  <a:lnTo>
                    <a:pt x="915" y="148"/>
                  </a:lnTo>
                  <a:lnTo>
                    <a:pt x="918" y="148"/>
                  </a:lnTo>
                  <a:lnTo>
                    <a:pt x="919" y="148"/>
                  </a:lnTo>
                  <a:lnTo>
                    <a:pt x="919" y="149"/>
                  </a:lnTo>
                  <a:lnTo>
                    <a:pt x="919" y="150"/>
                  </a:lnTo>
                  <a:lnTo>
                    <a:pt x="919" y="156"/>
                  </a:lnTo>
                  <a:lnTo>
                    <a:pt x="919" y="161"/>
                  </a:lnTo>
                  <a:lnTo>
                    <a:pt x="920" y="161"/>
                  </a:lnTo>
                  <a:lnTo>
                    <a:pt x="919" y="162"/>
                  </a:lnTo>
                  <a:lnTo>
                    <a:pt x="916" y="165"/>
                  </a:lnTo>
                  <a:lnTo>
                    <a:pt x="914" y="167"/>
                  </a:lnTo>
                  <a:lnTo>
                    <a:pt x="914" y="167"/>
                  </a:lnTo>
                  <a:lnTo>
                    <a:pt x="912" y="168"/>
                  </a:lnTo>
                  <a:lnTo>
                    <a:pt x="906" y="168"/>
                  </a:lnTo>
                  <a:lnTo>
                    <a:pt x="903" y="168"/>
                  </a:lnTo>
                  <a:lnTo>
                    <a:pt x="903" y="168"/>
                  </a:lnTo>
                  <a:lnTo>
                    <a:pt x="902" y="168"/>
                  </a:lnTo>
                  <a:lnTo>
                    <a:pt x="901" y="168"/>
                  </a:lnTo>
                  <a:lnTo>
                    <a:pt x="897" y="167"/>
                  </a:lnTo>
                  <a:lnTo>
                    <a:pt x="895" y="167"/>
                  </a:lnTo>
                  <a:lnTo>
                    <a:pt x="895" y="166"/>
                  </a:lnTo>
                  <a:lnTo>
                    <a:pt x="894" y="167"/>
                  </a:lnTo>
                  <a:lnTo>
                    <a:pt x="891" y="172"/>
                  </a:lnTo>
                  <a:lnTo>
                    <a:pt x="890" y="174"/>
                  </a:lnTo>
                  <a:lnTo>
                    <a:pt x="890" y="174"/>
                  </a:lnTo>
                  <a:lnTo>
                    <a:pt x="890" y="175"/>
                  </a:lnTo>
                  <a:lnTo>
                    <a:pt x="890" y="176"/>
                  </a:lnTo>
                  <a:lnTo>
                    <a:pt x="890" y="179"/>
                  </a:lnTo>
                  <a:lnTo>
                    <a:pt x="890" y="181"/>
                  </a:lnTo>
                  <a:lnTo>
                    <a:pt x="891" y="181"/>
                  </a:lnTo>
                  <a:lnTo>
                    <a:pt x="890" y="183"/>
                  </a:lnTo>
                  <a:lnTo>
                    <a:pt x="886" y="189"/>
                  </a:lnTo>
                  <a:lnTo>
                    <a:pt x="884" y="194"/>
                  </a:lnTo>
                  <a:lnTo>
                    <a:pt x="884" y="194"/>
                  </a:lnTo>
                  <a:lnTo>
                    <a:pt x="883" y="195"/>
                  </a:lnTo>
                  <a:lnTo>
                    <a:pt x="880" y="198"/>
                  </a:lnTo>
                  <a:lnTo>
                    <a:pt x="879" y="200"/>
                  </a:lnTo>
                  <a:lnTo>
                    <a:pt x="879" y="200"/>
                  </a:lnTo>
                  <a:lnTo>
                    <a:pt x="878" y="201"/>
                  </a:lnTo>
                  <a:lnTo>
                    <a:pt x="876" y="202"/>
                  </a:lnTo>
                  <a:lnTo>
                    <a:pt x="874" y="203"/>
                  </a:lnTo>
                  <a:lnTo>
                    <a:pt x="874" y="203"/>
                  </a:lnTo>
                  <a:lnTo>
                    <a:pt x="872" y="202"/>
                  </a:lnTo>
                  <a:lnTo>
                    <a:pt x="871" y="201"/>
                  </a:lnTo>
                  <a:lnTo>
                    <a:pt x="870" y="204"/>
                  </a:lnTo>
                  <a:lnTo>
                    <a:pt x="867" y="212"/>
                  </a:lnTo>
                  <a:lnTo>
                    <a:pt x="866" y="219"/>
                  </a:lnTo>
                  <a:lnTo>
                    <a:pt x="866" y="219"/>
                  </a:lnTo>
                  <a:lnTo>
                    <a:pt x="867" y="221"/>
                  </a:lnTo>
                  <a:lnTo>
                    <a:pt x="871" y="226"/>
                  </a:lnTo>
                  <a:lnTo>
                    <a:pt x="874" y="231"/>
                  </a:lnTo>
                  <a:lnTo>
                    <a:pt x="876" y="231"/>
                  </a:lnTo>
                  <a:lnTo>
                    <a:pt x="878" y="234"/>
                  </a:lnTo>
                  <a:lnTo>
                    <a:pt x="884" y="242"/>
                  </a:lnTo>
                  <a:lnTo>
                    <a:pt x="889" y="247"/>
                  </a:lnTo>
                  <a:lnTo>
                    <a:pt x="890" y="247"/>
                  </a:lnTo>
                  <a:lnTo>
                    <a:pt x="889" y="248"/>
                  </a:lnTo>
                  <a:lnTo>
                    <a:pt x="889" y="248"/>
                  </a:lnTo>
                  <a:lnTo>
                    <a:pt x="888" y="249"/>
                  </a:lnTo>
                  <a:lnTo>
                    <a:pt x="883" y="251"/>
                  </a:lnTo>
                  <a:lnTo>
                    <a:pt x="881" y="253"/>
                  </a:lnTo>
                  <a:lnTo>
                    <a:pt x="881" y="253"/>
                  </a:lnTo>
                  <a:lnTo>
                    <a:pt x="881" y="254"/>
                  </a:lnTo>
                  <a:lnTo>
                    <a:pt x="881" y="256"/>
                  </a:lnTo>
                  <a:lnTo>
                    <a:pt x="883" y="264"/>
                  </a:lnTo>
                  <a:lnTo>
                    <a:pt x="884" y="269"/>
                  </a:lnTo>
                  <a:lnTo>
                    <a:pt x="885" y="269"/>
                  </a:lnTo>
                  <a:lnTo>
                    <a:pt x="882" y="270"/>
                  </a:lnTo>
                  <a:lnTo>
                    <a:pt x="881" y="270"/>
                  </a:lnTo>
                  <a:lnTo>
                    <a:pt x="881" y="270"/>
                  </a:lnTo>
                  <a:lnTo>
                    <a:pt x="878" y="269"/>
                  </a:lnTo>
                  <a:lnTo>
                    <a:pt x="871" y="262"/>
                  </a:lnTo>
                  <a:lnTo>
                    <a:pt x="866" y="258"/>
                  </a:lnTo>
                  <a:lnTo>
                    <a:pt x="866" y="257"/>
                  </a:lnTo>
                  <a:lnTo>
                    <a:pt x="861" y="254"/>
                  </a:lnTo>
                  <a:lnTo>
                    <a:pt x="860" y="253"/>
                  </a:lnTo>
                  <a:lnTo>
                    <a:pt x="860" y="251"/>
                  </a:lnTo>
                  <a:lnTo>
                    <a:pt x="856" y="250"/>
                  </a:lnTo>
                  <a:lnTo>
                    <a:pt x="854" y="249"/>
                  </a:lnTo>
                  <a:lnTo>
                    <a:pt x="854" y="248"/>
                  </a:lnTo>
                  <a:lnTo>
                    <a:pt x="851" y="249"/>
                  </a:lnTo>
                  <a:lnTo>
                    <a:pt x="845" y="250"/>
                  </a:lnTo>
                  <a:lnTo>
                    <a:pt x="841" y="250"/>
                  </a:lnTo>
                  <a:lnTo>
                    <a:pt x="841" y="250"/>
                  </a:lnTo>
                  <a:lnTo>
                    <a:pt x="838" y="251"/>
                  </a:lnTo>
                  <a:lnTo>
                    <a:pt x="832" y="251"/>
                  </a:lnTo>
                  <a:lnTo>
                    <a:pt x="827" y="251"/>
                  </a:lnTo>
                  <a:lnTo>
                    <a:pt x="827" y="251"/>
                  </a:lnTo>
                  <a:lnTo>
                    <a:pt x="826" y="251"/>
                  </a:lnTo>
                  <a:lnTo>
                    <a:pt x="825" y="251"/>
                  </a:lnTo>
                  <a:lnTo>
                    <a:pt x="821" y="250"/>
                  </a:lnTo>
                  <a:lnTo>
                    <a:pt x="818" y="249"/>
                  </a:lnTo>
                  <a:lnTo>
                    <a:pt x="818" y="248"/>
                  </a:lnTo>
                  <a:lnTo>
                    <a:pt x="816" y="249"/>
                  </a:lnTo>
                  <a:lnTo>
                    <a:pt x="814" y="250"/>
                  </a:lnTo>
                  <a:lnTo>
                    <a:pt x="813" y="251"/>
                  </a:lnTo>
                  <a:lnTo>
                    <a:pt x="813" y="251"/>
                  </a:lnTo>
                  <a:lnTo>
                    <a:pt x="813" y="253"/>
                  </a:lnTo>
                  <a:lnTo>
                    <a:pt x="813" y="256"/>
                  </a:lnTo>
                  <a:lnTo>
                    <a:pt x="813" y="258"/>
                  </a:lnTo>
                  <a:lnTo>
                    <a:pt x="814" y="258"/>
                  </a:lnTo>
                  <a:lnTo>
                    <a:pt x="813" y="258"/>
                  </a:lnTo>
                  <a:lnTo>
                    <a:pt x="812" y="258"/>
                  </a:lnTo>
                  <a:lnTo>
                    <a:pt x="809" y="258"/>
                  </a:lnTo>
                  <a:lnTo>
                    <a:pt x="807" y="258"/>
                  </a:lnTo>
                  <a:lnTo>
                    <a:pt x="807" y="257"/>
                  </a:lnTo>
                  <a:lnTo>
                    <a:pt x="806" y="258"/>
                  </a:lnTo>
                  <a:lnTo>
                    <a:pt x="806" y="258"/>
                  </a:lnTo>
                  <a:lnTo>
                    <a:pt x="804" y="258"/>
                  </a:lnTo>
                  <a:lnTo>
                    <a:pt x="803" y="258"/>
                  </a:lnTo>
                  <a:lnTo>
                    <a:pt x="802" y="258"/>
                  </a:lnTo>
                  <a:lnTo>
                    <a:pt x="802" y="258"/>
                  </a:lnTo>
                  <a:lnTo>
                    <a:pt x="801" y="259"/>
                  </a:lnTo>
                  <a:lnTo>
                    <a:pt x="798" y="262"/>
                  </a:lnTo>
                  <a:lnTo>
                    <a:pt x="797" y="264"/>
                  </a:lnTo>
                  <a:lnTo>
                    <a:pt x="797" y="264"/>
                  </a:lnTo>
                  <a:lnTo>
                    <a:pt x="797" y="265"/>
                  </a:lnTo>
                  <a:lnTo>
                    <a:pt x="797" y="265"/>
                  </a:lnTo>
                  <a:lnTo>
                    <a:pt x="798" y="267"/>
                  </a:lnTo>
                  <a:lnTo>
                    <a:pt x="797" y="269"/>
                  </a:lnTo>
                  <a:lnTo>
                    <a:pt x="797" y="272"/>
                  </a:lnTo>
                  <a:lnTo>
                    <a:pt x="797" y="274"/>
                  </a:lnTo>
                  <a:lnTo>
                    <a:pt x="797" y="274"/>
                  </a:lnTo>
                  <a:lnTo>
                    <a:pt x="796" y="276"/>
                  </a:lnTo>
                  <a:lnTo>
                    <a:pt x="795" y="277"/>
                  </a:lnTo>
                  <a:lnTo>
                    <a:pt x="795" y="278"/>
                  </a:lnTo>
                  <a:lnTo>
                    <a:pt x="792" y="277"/>
                  </a:lnTo>
                  <a:lnTo>
                    <a:pt x="791" y="279"/>
                  </a:lnTo>
                  <a:lnTo>
                    <a:pt x="791" y="283"/>
                  </a:lnTo>
                  <a:lnTo>
                    <a:pt x="791" y="286"/>
                  </a:lnTo>
                  <a:lnTo>
                    <a:pt x="791" y="286"/>
                  </a:lnTo>
                  <a:lnTo>
                    <a:pt x="790" y="288"/>
                  </a:lnTo>
                  <a:lnTo>
                    <a:pt x="789" y="289"/>
                  </a:lnTo>
                  <a:lnTo>
                    <a:pt x="786" y="294"/>
                  </a:lnTo>
                  <a:lnTo>
                    <a:pt x="783" y="299"/>
                  </a:lnTo>
                  <a:lnTo>
                    <a:pt x="783" y="299"/>
                  </a:lnTo>
                  <a:lnTo>
                    <a:pt x="783" y="297"/>
                  </a:lnTo>
                  <a:lnTo>
                    <a:pt x="784" y="294"/>
                  </a:lnTo>
                  <a:lnTo>
                    <a:pt x="785" y="291"/>
                  </a:lnTo>
                  <a:lnTo>
                    <a:pt x="786" y="290"/>
                  </a:lnTo>
                  <a:lnTo>
                    <a:pt x="787" y="286"/>
                  </a:lnTo>
                  <a:lnTo>
                    <a:pt x="788" y="285"/>
                  </a:lnTo>
                  <a:lnTo>
                    <a:pt x="789" y="284"/>
                  </a:lnTo>
                  <a:lnTo>
                    <a:pt x="789" y="283"/>
                  </a:lnTo>
                  <a:lnTo>
                    <a:pt x="790" y="279"/>
                  </a:lnTo>
                  <a:lnTo>
                    <a:pt x="790" y="276"/>
                  </a:lnTo>
                  <a:lnTo>
                    <a:pt x="791" y="274"/>
                  </a:lnTo>
                  <a:lnTo>
                    <a:pt x="791" y="273"/>
                  </a:lnTo>
                  <a:lnTo>
                    <a:pt x="790" y="268"/>
                  </a:lnTo>
                  <a:lnTo>
                    <a:pt x="790" y="264"/>
                  </a:lnTo>
                  <a:lnTo>
                    <a:pt x="791" y="262"/>
                  </a:lnTo>
                  <a:lnTo>
                    <a:pt x="791" y="260"/>
                  </a:lnTo>
                  <a:lnTo>
                    <a:pt x="792" y="251"/>
                  </a:lnTo>
                  <a:lnTo>
                    <a:pt x="794" y="245"/>
                  </a:lnTo>
                  <a:lnTo>
                    <a:pt x="795" y="244"/>
                  </a:lnTo>
                  <a:lnTo>
                    <a:pt x="789" y="242"/>
                  </a:lnTo>
                  <a:lnTo>
                    <a:pt x="787" y="241"/>
                  </a:lnTo>
                  <a:lnTo>
                    <a:pt x="787" y="239"/>
                  </a:lnTo>
                  <a:lnTo>
                    <a:pt x="781" y="236"/>
                  </a:lnTo>
                  <a:lnTo>
                    <a:pt x="778" y="235"/>
                  </a:lnTo>
                  <a:lnTo>
                    <a:pt x="778" y="234"/>
                  </a:lnTo>
                  <a:lnTo>
                    <a:pt x="775" y="231"/>
                  </a:lnTo>
                  <a:lnTo>
                    <a:pt x="766" y="220"/>
                  </a:lnTo>
                  <a:lnTo>
                    <a:pt x="760" y="212"/>
                  </a:lnTo>
                  <a:lnTo>
                    <a:pt x="760" y="211"/>
                  </a:lnTo>
                  <a:lnTo>
                    <a:pt x="757" y="210"/>
                  </a:lnTo>
                  <a:lnTo>
                    <a:pt x="754" y="207"/>
                  </a:lnTo>
                  <a:lnTo>
                    <a:pt x="751" y="204"/>
                  </a:lnTo>
                  <a:lnTo>
                    <a:pt x="751" y="203"/>
                  </a:lnTo>
                  <a:lnTo>
                    <a:pt x="744" y="200"/>
                  </a:lnTo>
                  <a:lnTo>
                    <a:pt x="741" y="199"/>
                  </a:lnTo>
                  <a:lnTo>
                    <a:pt x="741" y="198"/>
                  </a:lnTo>
                  <a:lnTo>
                    <a:pt x="739" y="199"/>
                  </a:lnTo>
                  <a:lnTo>
                    <a:pt x="733" y="199"/>
                  </a:lnTo>
                  <a:lnTo>
                    <a:pt x="729" y="199"/>
                  </a:lnTo>
                  <a:lnTo>
                    <a:pt x="729" y="199"/>
                  </a:lnTo>
                  <a:lnTo>
                    <a:pt x="728" y="199"/>
                  </a:lnTo>
                  <a:lnTo>
                    <a:pt x="727" y="199"/>
                  </a:lnTo>
                  <a:lnTo>
                    <a:pt x="724" y="198"/>
                  </a:lnTo>
                  <a:lnTo>
                    <a:pt x="720" y="197"/>
                  </a:lnTo>
                  <a:lnTo>
                    <a:pt x="720" y="196"/>
                  </a:lnTo>
                  <a:lnTo>
                    <a:pt x="718" y="195"/>
                  </a:lnTo>
                  <a:lnTo>
                    <a:pt x="717" y="194"/>
                  </a:lnTo>
                  <a:lnTo>
                    <a:pt x="715" y="195"/>
                  </a:lnTo>
                  <a:lnTo>
                    <a:pt x="712" y="195"/>
                  </a:lnTo>
                  <a:lnTo>
                    <a:pt x="708" y="195"/>
                  </a:lnTo>
                  <a:lnTo>
                    <a:pt x="708" y="195"/>
                  </a:lnTo>
                  <a:lnTo>
                    <a:pt x="709" y="200"/>
                  </a:lnTo>
                  <a:lnTo>
                    <a:pt x="710" y="202"/>
                  </a:lnTo>
                  <a:lnTo>
                    <a:pt x="712" y="202"/>
                  </a:lnTo>
                  <a:lnTo>
                    <a:pt x="710" y="203"/>
                  </a:lnTo>
                  <a:lnTo>
                    <a:pt x="708" y="204"/>
                  </a:lnTo>
                  <a:lnTo>
                    <a:pt x="707" y="206"/>
                  </a:lnTo>
                  <a:lnTo>
                    <a:pt x="707" y="206"/>
                  </a:lnTo>
                  <a:lnTo>
                    <a:pt x="706" y="207"/>
                  </a:lnTo>
                  <a:lnTo>
                    <a:pt x="705" y="208"/>
                  </a:lnTo>
                  <a:lnTo>
                    <a:pt x="699" y="211"/>
                  </a:lnTo>
                  <a:lnTo>
                    <a:pt x="695" y="214"/>
                  </a:lnTo>
                  <a:lnTo>
                    <a:pt x="695" y="214"/>
                  </a:lnTo>
                  <a:lnTo>
                    <a:pt x="691" y="215"/>
                  </a:lnTo>
                  <a:lnTo>
                    <a:pt x="689" y="215"/>
                  </a:lnTo>
                  <a:lnTo>
                    <a:pt x="689" y="215"/>
                  </a:lnTo>
                  <a:lnTo>
                    <a:pt x="687" y="212"/>
                  </a:lnTo>
                  <a:lnTo>
                    <a:pt x="687" y="211"/>
                  </a:lnTo>
                  <a:lnTo>
                    <a:pt x="687" y="210"/>
                  </a:lnTo>
                  <a:lnTo>
                    <a:pt x="685" y="209"/>
                  </a:lnTo>
                  <a:lnTo>
                    <a:pt x="684" y="210"/>
                  </a:lnTo>
                  <a:lnTo>
                    <a:pt x="682" y="214"/>
                  </a:lnTo>
                  <a:lnTo>
                    <a:pt x="681" y="216"/>
                  </a:lnTo>
                  <a:lnTo>
                    <a:pt x="681" y="216"/>
                  </a:lnTo>
                  <a:lnTo>
                    <a:pt x="680" y="218"/>
                  </a:lnTo>
                  <a:lnTo>
                    <a:pt x="677" y="220"/>
                  </a:lnTo>
                  <a:lnTo>
                    <a:pt x="674" y="221"/>
                  </a:lnTo>
                  <a:lnTo>
                    <a:pt x="674" y="221"/>
                  </a:lnTo>
                  <a:lnTo>
                    <a:pt x="672" y="216"/>
                  </a:lnTo>
                  <a:lnTo>
                    <a:pt x="672" y="213"/>
                  </a:lnTo>
                  <a:lnTo>
                    <a:pt x="672" y="212"/>
                  </a:lnTo>
                  <a:lnTo>
                    <a:pt x="668" y="209"/>
                  </a:lnTo>
                  <a:lnTo>
                    <a:pt x="667" y="207"/>
                  </a:lnTo>
                  <a:lnTo>
                    <a:pt x="667" y="206"/>
                  </a:lnTo>
                  <a:lnTo>
                    <a:pt x="666" y="207"/>
                  </a:lnTo>
                  <a:lnTo>
                    <a:pt x="665" y="210"/>
                  </a:lnTo>
                  <a:lnTo>
                    <a:pt x="663" y="212"/>
                  </a:lnTo>
                  <a:lnTo>
                    <a:pt x="663" y="212"/>
                  </a:lnTo>
                  <a:lnTo>
                    <a:pt x="667" y="218"/>
                  </a:lnTo>
                  <a:lnTo>
                    <a:pt x="669" y="220"/>
                  </a:lnTo>
                  <a:lnTo>
                    <a:pt x="670" y="220"/>
                  </a:lnTo>
                  <a:lnTo>
                    <a:pt x="670" y="221"/>
                  </a:lnTo>
                  <a:lnTo>
                    <a:pt x="669" y="224"/>
                  </a:lnTo>
                  <a:lnTo>
                    <a:pt x="669" y="225"/>
                  </a:lnTo>
                  <a:lnTo>
                    <a:pt x="670" y="225"/>
                  </a:lnTo>
                  <a:lnTo>
                    <a:pt x="669" y="227"/>
                  </a:lnTo>
                  <a:lnTo>
                    <a:pt x="667" y="234"/>
                  </a:lnTo>
                  <a:lnTo>
                    <a:pt x="666" y="238"/>
                  </a:lnTo>
                  <a:lnTo>
                    <a:pt x="666" y="238"/>
                  </a:lnTo>
                  <a:lnTo>
                    <a:pt x="665" y="239"/>
                  </a:lnTo>
                  <a:lnTo>
                    <a:pt x="663" y="241"/>
                  </a:lnTo>
                  <a:lnTo>
                    <a:pt x="660" y="244"/>
                  </a:lnTo>
                  <a:lnTo>
                    <a:pt x="658" y="246"/>
                  </a:lnTo>
                  <a:lnTo>
                    <a:pt x="658" y="246"/>
                  </a:lnTo>
                  <a:lnTo>
                    <a:pt x="657" y="247"/>
                  </a:lnTo>
                  <a:lnTo>
                    <a:pt x="654" y="248"/>
                  </a:lnTo>
                  <a:lnTo>
                    <a:pt x="651" y="249"/>
                  </a:lnTo>
                  <a:lnTo>
                    <a:pt x="651" y="249"/>
                  </a:lnTo>
                  <a:lnTo>
                    <a:pt x="650" y="245"/>
                  </a:lnTo>
                  <a:lnTo>
                    <a:pt x="650" y="242"/>
                  </a:lnTo>
                  <a:lnTo>
                    <a:pt x="650" y="241"/>
                  </a:lnTo>
                  <a:lnTo>
                    <a:pt x="649" y="241"/>
                  </a:lnTo>
                  <a:lnTo>
                    <a:pt x="648" y="241"/>
                  </a:lnTo>
                  <a:lnTo>
                    <a:pt x="645" y="241"/>
                  </a:lnTo>
                  <a:lnTo>
                    <a:pt x="643" y="241"/>
                  </a:lnTo>
                  <a:lnTo>
                    <a:pt x="643" y="241"/>
                  </a:lnTo>
                  <a:lnTo>
                    <a:pt x="642" y="242"/>
                  </a:lnTo>
                  <a:lnTo>
                    <a:pt x="640" y="242"/>
                  </a:lnTo>
                  <a:lnTo>
                    <a:pt x="639" y="243"/>
                  </a:lnTo>
                  <a:lnTo>
                    <a:pt x="636" y="244"/>
                  </a:lnTo>
                  <a:lnTo>
                    <a:pt x="634" y="245"/>
                  </a:lnTo>
                  <a:lnTo>
                    <a:pt x="634" y="245"/>
                  </a:lnTo>
                  <a:lnTo>
                    <a:pt x="630" y="246"/>
                  </a:lnTo>
                  <a:lnTo>
                    <a:pt x="628" y="246"/>
                  </a:lnTo>
                  <a:lnTo>
                    <a:pt x="628" y="246"/>
                  </a:lnTo>
                  <a:lnTo>
                    <a:pt x="627" y="247"/>
                  </a:lnTo>
                  <a:lnTo>
                    <a:pt x="623" y="249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20" y="253"/>
                  </a:lnTo>
                  <a:lnTo>
                    <a:pt x="619" y="259"/>
                  </a:lnTo>
                  <a:lnTo>
                    <a:pt x="619" y="264"/>
                  </a:lnTo>
                  <a:lnTo>
                    <a:pt x="620" y="264"/>
                  </a:lnTo>
                  <a:lnTo>
                    <a:pt x="621" y="266"/>
                  </a:lnTo>
                  <a:lnTo>
                    <a:pt x="624" y="270"/>
                  </a:lnTo>
                  <a:lnTo>
                    <a:pt x="627" y="273"/>
                  </a:lnTo>
                  <a:lnTo>
                    <a:pt x="628" y="273"/>
                  </a:lnTo>
                  <a:lnTo>
                    <a:pt x="628" y="274"/>
                  </a:lnTo>
                  <a:lnTo>
                    <a:pt x="627" y="278"/>
                  </a:lnTo>
                  <a:lnTo>
                    <a:pt x="627" y="279"/>
                  </a:lnTo>
                  <a:lnTo>
                    <a:pt x="628" y="279"/>
                  </a:lnTo>
                  <a:lnTo>
                    <a:pt x="627" y="279"/>
                  </a:lnTo>
                  <a:lnTo>
                    <a:pt x="626" y="279"/>
                  </a:lnTo>
                  <a:lnTo>
                    <a:pt x="621" y="278"/>
                  </a:lnTo>
                  <a:lnTo>
                    <a:pt x="618" y="277"/>
                  </a:lnTo>
                  <a:lnTo>
                    <a:pt x="618" y="276"/>
                  </a:lnTo>
                  <a:lnTo>
                    <a:pt x="616" y="276"/>
                  </a:lnTo>
                  <a:lnTo>
                    <a:pt x="615" y="276"/>
                  </a:lnTo>
                  <a:lnTo>
                    <a:pt x="612" y="274"/>
                  </a:lnTo>
                  <a:lnTo>
                    <a:pt x="609" y="274"/>
                  </a:lnTo>
                  <a:lnTo>
                    <a:pt x="609" y="273"/>
                  </a:lnTo>
                  <a:lnTo>
                    <a:pt x="608" y="274"/>
                  </a:lnTo>
                  <a:lnTo>
                    <a:pt x="607" y="278"/>
                  </a:lnTo>
                  <a:lnTo>
                    <a:pt x="605" y="280"/>
                  </a:lnTo>
                  <a:lnTo>
                    <a:pt x="605" y="280"/>
                  </a:lnTo>
                  <a:lnTo>
                    <a:pt x="604" y="284"/>
                  </a:lnTo>
                  <a:lnTo>
                    <a:pt x="604" y="286"/>
                  </a:lnTo>
                  <a:lnTo>
                    <a:pt x="604" y="286"/>
                  </a:lnTo>
                  <a:lnTo>
                    <a:pt x="605" y="291"/>
                  </a:lnTo>
                  <a:lnTo>
                    <a:pt x="607" y="292"/>
                  </a:lnTo>
                  <a:lnTo>
                    <a:pt x="608" y="292"/>
                  </a:lnTo>
                  <a:lnTo>
                    <a:pt x="609" y="296"/>
                  </a:lnTo>
                  <a:lnTo>
                    <a:pt x="610" y="299"/>
                  </a:lnTo>
                  <a:lnTo>
                    <a:pt x="611" y="299"/>
                  </a:lnTo>
                  <a:lnTo>
                    <a:pt x="610" y="300"/>
                  </a:lnTo>
                  <a:lnTo>
                    <a:pt x="609" y="301"/>
                  </a:lnTo>
                  <a:lnTo>
                    <a:pt x="609" y="302"/>
                  </a:lnTo>
                  <a:lnTo>
                    <a:pt x="600" y="299"/>
                  </a:lnTo>
                  <a:lnTo>
                    <a:pt x="596" y="297"/>
                  </a:lnTo>
                  <a:lnTo>
                    <a:pt x="596" y="296"/>
                  </a:lnTo>
                  <a:lnTo>
                    <a:pt x="593" y="297"/>
                  </a:lnTo>
                  <a:lnTo>
                    <a:pt x="590" y="299"/>
                  </a:lnTo>
                  <a:lnTo>
                    <a:pt x="588" y="299"/>
                  </a:lnTo>
                  <a:lnTo>
                    <a:pt x="588" y="299"/>
                  </a:lnTo>
                  <a:lnTo>
                    <a:pt x="587" y="300"/>
                  </a:lnTo>
                  <a:lnTo>
                    <a:pt x="585" y="304"/>
                  </a:lnTo>
                  <a:lnTo>
                    <a:pt x="584" y="306"/>
                  </a:lnTo>
                  <a:lnTo>
                    <a:pt x="584" y="306"/>
                  </a:lnTo>
                  <a:lnTo>
                    <a:pt x="584" y="307"/>
                  </a:lnTo>
                  <a:lnTo>
                    <a:pt x="584" y="309"/>
                  </a:lnTo>
                  <a:lnTo>
                    <a:pt x="587" y="317"/>
                  </a:lnTo>
                  <a:lnTo>
                    <a:pt x="588" y="324"/>
                  </a:lnTo>
                  <a:lnTo>
                    <a:pt x="589" y="324"/>
                  </a:lnTo>
                  <a:lnTo>
                    <a:pt x="588" y="325"/>
                  </a:lnTo>
                  <a:lnTo>
                    <a:pt x="587" y="328"/>
                  </a:lnTo>
                  <a:lnTo>
                    <a:pt x="586" y="330"/>
                  </a:lnTo>
                  <a:lnTo>
                    <a:pt x="586" y="330"/>
                  </a:lnTo>
                  <a:lnTo>
                    <a:pt x="585" y="331"/>
                  </a:lnTo>
                  <a:lnTo>
                    <a:pt x="581" y="335"/>
                  </a:lnTo>
                  <a:lnTo>
                    <a:pt x="580" y="337"/>
                  </a:lnTo>
                  <a:lnTo>
                    <a:pt x="580" y="337"/>
                  </a:lnTo>
                  <a:lnTo>
                    <a:pt x="579" y="338"/>
                  </a:lnTo>
                  <a:lnTo>
                    <a:pt x="577" y="341"/>
                  </a:lnTo>
                  <a:lnTo>
                    <a:pt x="576" y="342"/>
                  </a:lnTo>
                  <a:lnTo>
                    <a:pt x="576" y="342"/>
                  </a:lnTo>
                  <a:lnTo>
                    <a:pt x="576" y="344"/>
                  </a:lnTo>
                  <a:lnTo>
                    <a:pt x="575" y="351"/>
                  </a:lnTo>
                  <a:lnTo>
                    <a:pt x="575" y="355"/>
                  </a:lnTo>
                  <a:lnTo>
                    <a:pt x="576" y="355"/>
                  </a:lnTo>
                  <a:lnTo>
                    <a:pt x="580" y="358"/>
                  </a:lnTo>
                  <a:lnTo>
                    <a:pt x="584" y="359"/>
                  </a:lnTo>
                  <a:lnTo>
                    <a:pt x="585" y="359"/>
                  </a:lnTo>
                  <a:lnTo>
                    <a:pt x="584" y="361"/>
                  </a:lnTo>
                  <a:lnTo>
                    <a:pt x="584" y="364"/>
                  </a:lnTo>
                  <a:lnTo>
                    <a:pt x="584" y="366"/>
                  </a:lnTo>
                  <a:lnTo>
                    <a:pt x="584" y="366"/>
                  </a:lnTo>
                  <a:lnTo>
                    <a:pt x="583" y="366"/>
                  </a:lnTo>
                  <a:lnTo>
                    <a:pt x="581" y="366"/>
                  </a:lnTo>
                  <a:lnTo>
                    <a:pt x="577" y="366"/>
                  </a:lnTo>
                  <a:lnTo>
                    <a:pt x="574" y="366"/>
                  </a:lnTo>
                  <a:lnTo>
                    <a:pt x="574" y="366"/>
                  </a:lnTo>
                  <a:lnTo>
                    <a:pt x="573" y="366"/>
                  </a:lnTo>
                  <a:lnTo>
                    <a:pt x="572" y="366"/>
                  </a:lnTo>
                  <a:lnTo>
                    <a:pt x="568" y="366"/>
                  </a:lnTo>
                  <a:lnTo>
                    <a:pt x="565" y="366"/>
                  </a:lnTo>
                  <a:lnTo>
                    <a:pt x="565" y="366"/>
                  </a:lnTo>
                  <a:lnTo>
                    <a:pt x="560" y="361"/>
                  </a:lnTo>
                  <a:lnTo>
                    <a:pt x="557" y="358"/>
                  </a:lnTo>
                  <a:lnTo>
                    <a:pt x="557" y="357"/>
                  </a:lnTo>
                  <a:lnTo>
                    <a:pt x="556" y="355"/>
                  </a:lnTo>
                  <a:lnTo>
                    <a:pt x="553" y="352"/>
                  </a:lnTo>
                  <a:lnTo>
                    <a:pt x="552" y="350"/>
                  </a:lnTo>
                  <a:lnTo>
                    <a:pt x="552" y="349"/>
                  </a:lnTo>
                  <a:lnTo>
                    <a:pt x="550" y="350"/>
                  </a:lnTo>
                  <a:lnTo>
                    <a:pt x="545" y="351"/>
                  </a:lnTo>
                  <a:lnTo>
                    <a:pt x="542" y="352"/>
                  </a:lnTo>
                  <a:lnTo>
                    <a:pt x="542" y="352"/>
                  </a:lnTo>
                  <a:lnTo>
                    <a:pt x="541" y="352"/>
                  </a:lnTo>
                  <a:lnTo>
                    <a:pt x="540" y="352"/>
                  </a:lnTo>
                  <a:lnTo>
                    <a:pt x="534" y="350"/>
                  </a:lnTo>
                  <a:lnTo>
                    <a:pt x="531" y="349"/>
                  </a:lnTo>
                  <a:lnTo>
                    <a:pt x="531" y="348"/>
                  </a:lnTo>
                  <a:lnTo>
                    <a:pt x="530" y="349"/>
                  </a:lnTo>
                  <a:lnTo>
                    <a:pt x="527" y="351"/>
                  </a:lnTo>
                  <a:lnTo>
                    <a:pt x="526" y="352"/>
                  </a:lnTo>
                  <a:lnTo>
                    <a:pt x="526" y="352"/>
                  </a:lnTo>
                  <a:lnTo>
                    <a:pt x="526" y="353"/>
                  </a:lnTo>
                  <a:lnTo>
                    <a:pt x="526" y="355"/>
                  </a:lnTo>
                  <a:lnTo>
                    <a:pt x="527" y="362"/>
                  </a:lnTo>
                  <a:lnTo>
                    <a:pt x="527" y="367"/>
                  </a:lnTo>
                  <a:lnTo>
                    <a:pt x="528" y="367"/>
                  </a:lnTo>
                  <a:lnTo>
                    <a:pt x="528" y="369"/>
                  </a:lnTo>
                  <a:lnTo>
                    <a:pt x="528" y="370"/>
                  </a:lnTo>
                  <a:lnTo>
                    <a:pt x="528" y="371"/>
                  </a:lnTo>
                  <a:lnTo>
                    <a:pt x="529" y="371"/>
                  </a:lnTo>
                  <a:lnTo>
                    <a:pt x="528" y="372"/>
                  </a:lnTo>
                  <a:lnTo>
                    <a:pt x="527" y="374"/>
                  </a:lnTo>
                  <a:lnTo>
                    <a:pt x="527" y="375"/>
                  </a:lnTo>
                  <a:lnTo>
                    <a:pt x="530" y="378"/>
                  </a:lnTo>
                  <a:lnTo>
                    <a:pt x="531" y="379"/>
                  </a:lnTo>
                  <a:lnTo>
                    <a:pt x="532" y="379"/>
                  </a:lnTo>
                  <a:lnTo>
                    <a:pt x="533" y="382"/>
                  </a:lnTo>
                  <a:lnTo>
                    <a:pt x="537" y="387"/>
                  </a:lnTo>
                  <a:lnTo>
                    <a:pt x="540" y="392"/>
                  </a:lnTo>
                  <a:lnTo>
                    <a:pt x="541" y="392"/>
                  </a:lnTo>
                  <a:lnTo>
                    <a:pt x="541" y="393"/>
                  </a:lnTo>
                  <a:lnTo>
                    <a:pt x="541" y="394"/>
                  </a:lnTo>
                  <a:lnTo>
                    <a:pt x="542" y="399"/>
                  </a:lnTo>
                  <a:lnTo>
                    <a:pt x="542" y="404"/>
                  </a:lnTo>
                  <a:lnTo>
                    <a:pt x="543" y="404"/>
                  </a:lnTo>
                  <a:lnTo>
                    <a:pt x="541" y="405"/>
                  </a:lnTo>
                  <a:lnTo>
                    <a:pt x="538" y="406"/>
                  </a:lnTo>
                  <a:lnTo>
                    <a:pt x="536" y="406"/>
                  </a:lnTo>
                  <a:lnTo>
                    <a:pt x="536" y="406"/>
                  </a:lnTo>
                  <a:lnTo>
                    <a:pt x="534" y="406"/>
                  </a:lnTo>
                  <a:lnTo>
                    <a:pt x="533" y="406"/>
                  </a:lnTo>
                  <a:lnTo>
                    <a:pt x="533" y="406"/>
                  </a:lnTo>
                  <a:lnTo>
                    <a:pt x="533" y="407"/>
                  </a:lnTo>
                  <a:lnTo>
                    <a:pt x="533" y="409"/>
                  </a:lnTo>
                  <a:lnTo>
                    <a:pt x="533" y="417"/>
                  </a:lnTo>
                  <a:lnTo>
                    <a:pt x="533" y="422"/>
                  </a:lnTo>
                  <a:lnTo>
                    <a:pt x="534" y="422"/>
                  </a:lnTo>
                  <a:lnTo>
                    <a:pt x="533" y="424"/>
                  </a:lnTo>
                  <a:lnTo>
                    <a:pt x="531" y="430"/>
                  </a:lnTo>
                  <a:lnTo>
                    <a:pt x="530" y="434"/>
                  </a:lnTo>
                  <a:lnTo>
                    <a:pt x="530" y="434"/>
                  </a:lnTo>
                  <a:lnTo>
                    <a:pt x="527" y="431"/>
                  </a:lnTo>
                  <a:lnTo>
                    <a:pt x="526" y="430"/>
                  </a:lnTo>
                  <a:lnTo>
                    <a:pt x="526" y="429"/>
                  </a:lnTo>
                  <a:lnTo>
                    <a:pt x="525" y="428"/>
                  </a:lnTo>
                  <a:lnTo>
                    <a:pt x="521" y="424"/>
                  </a:lnTo>
                  <a:lnTo>
                    <a:pt x="520" y="422"/>
                  </a:lnTo>
                  <a:lnTo>
                    <a:pt x="520" y="421"/>
                  </a:lnTo>
                  <a:lnTo>
                    <a:pt x="516" y="418"/>
                  </a:lnTo>
                  <a:lnTo>
                    <a:pt x="514" y="416"/>
                  </a:lnTo>
                  <a:lnTo>
                    <a:pt x="514" y="414"/>
                  </a:lnTo>
                  <a:lnTo>
                    <a:pt x="511" y="412"/>
                  </a:lnTo>
                  <a:lnTo>
                    <a:pt x="508" y="406"/>
                  </a:lnTo>
                  <a:lnTo>
                    <a:pt x="506" y="401"/>
                  </a:lnTo>
                  <a:lnTo>
                    <a:pt x="506" y="400"/>
                  </a:lnTo>
                  <a:lnTo>
                    <a:pt x="504" y="398"/>
                  </a:lnTo>
                  <a:lnTo>
                    <a:pt x="501" y="392"/>
                  </a:lnTo>
                  <a:lnTo>
                    <a:pt x="498" y="386"/>
                  </a:lnTo>
                  <a:lnTo>
                    <a:pt x="498" y="385"/>
                  </a:lnTo>
                  <a:lnTo>
                    <a:pt x="494" y="382"/>
                  </a:lnTo>
                  <a:lnTo>
                    <a:pt x="493" y="379"/>
                  </a:lnTo>
                  <a:lnTo>
                    <a:pt x="493" y="378"/>
                  </a:lnTo>
                  <a:lnTo>
                    <a:pt x="491" y="373"/>
                  </a:lnTo>
                  <a:lnTo>
                    <a:pt x="490" y="370"/>
                  </a:lnTo>
                  <a:lnTo>
                    <a:pt x="490" y="369"/>
                  </a:lnTo>
                  <a:lnTo>
                    <a:pt x="489" y="370"/>
                  </a:lnTo>
                  <a:lnTo>
                    <a:pt x="487" y="370"/>
                  </a:lnTo>
                  <a:lnTo>
                    <a:pt x="486" y="372"/>
                  </a:lnTo>
                  <a:lnTo>
                    <a:pt x="484" y="378"/>
                  </a:lnTo>
                  <a:lnTo>
                    <a:pt x="483" y="383"/>
                  </a:lnTo>
                  <a:lnTo>
                    <a:pt x="483" y="383"/>
                  </a:lnTo>
                  <a:lnTo>
                    <a:pt x="483" y="384"/>
                  </a:lnTo>
                  <a:lnTo>
                    <a:pt x="483" y="386"/>
                  </a:lnTo>
                  <a:lnTo>
                    <a:pt x="483" y="387"/>
                  </a:lnTo>
                  <a:lnTo>
                    <a:pt x="484" y="387"/>
                  </a:lnTo>
                  <a:lnTo>
                    <a:pt x="481" y="388"/>
                  </a:lnTo>
                  <a:lnTo>
                    <a:pt x="480" y="388"/>
                  </a:lnTo>
                  <a:lnTo>
                    <a:pt x="480" y="388"/>
                  </a:lnTo>
                  <a:lnTo>
                    <a:pt x="479" y="389"/>
                  </a:lnTo>
                  <a:lnTo>
                    <a:pt x="478" y="390"/>
                  </a:lnTo>
                  <a:lnTo>
                    <a:pt x="474" y="394"/>
                  </a:lnTo>
                  <a:lnTo>
                    <a:pt x="472" y="397"/>
                  </a:lnTo>
                  <a:lnTo>
                    <a:pt x="472" y="397"/>
                  </a:lnTo>
                  <a:lnTo>
                    <a:pt x="471" y="399"/>
                  </a:lnTo>
                  <a:lnTo>
                    <a:pt x="470" y="402"/>
                  </a:lnTo>
                  <a:lnTo>
                    <a:pt x="470" y="405"/>
                  </a:lnTo>
                  <a:lnTo>
                    <a:pt x="470" y="405"/>
                  </a:lnTo>
                  <a:lnTo>
                    <a:pt x="469" y="405"/>
                  </a:lnTo>
                  <a:lnTo>
                    <a:pt x="466" y="405"/>
                  </a:lnTo>
                  <a:lnTo>
                    <a:pt x="463" y="405"/>
                  </a:lnTo>
                  <a:lnTo>
                    <a:pt x="463" y="405"/>
                  </a:lnTo>
                  <a:lnTo>
                    <a:pt x="462" y="406"/>
                  </a:lnTo>
                  <a:lnTo>
                    <a:pt x="459" y="407"/>
                  </a:lnTo>
                  <a:lnTo>
                    <a:pt x="458" y="408"/>
                  </a:lnTo>
                  <a:lnTo>
                    <a:pt x="458" y="408"/>
                  </a:lnTo>
                  <a:lnTo>
                    <a:pt x="457" y="409"/>
                  </a:lnTo>
                  <a:lnTo>
                    <a:pt x="454" y="418"/>
                  </a:lnTo>
                  <a:lnTo>
                    <a:pt x="451" y="422"/>
                  </a:lnTo>
                  <a:lnTo>
                    <a:pt x="451" y="422"/>
                  </a:lnTo>
                  <a:lnTo>
                    <a:pt x="450" y="425"/>
                  </a:lnTo>
                  <a:lnTo>
                    <a:pt x="450" y="432"/>
                  </a:lnTo>
                  <a:lnTo>
                    <a:pt x="450" y="436"/>
                  </a:lnTo>
                  <a:lnTo>
                    <a:pt x="450" y="436"/>
                  </a:lnTo>
                  <a:lnTo>
                    <a:pt x="451" y="442"/>
                  </a:lnTo>
                  <a:lnTo>
                    <a:pt x="452" y="444"/>
                  </a:lnTo>
                  <a:lnTo>
                    <a:pt x="454" y="444"/>
                  </a:lnTo>
                  <a:lnTo>
                    <a:pt x="454" y="445"/>
                  </a:lnTo>
                  <a:lnTo>
                    <a:pt x="454" y="446"/>
                  </a:lnTo>
                  <a:lnTo>
                    <a:pt x="456" y="452"/>
                  </a:lnTo>
                  <a:lnTo>
                    <a:pt x="457" y="456"/>
                  </a:lnTo>
                  <a:lnTo>
                    <a:pt x="458" y="456"/>
                  </a:lnTo>
                  <a:lnTo>
                    <a:pt x="458" y="457"/>
                  </a:lnTo>
                  <a:lnTo>
                    <a:pt x="458" y="458"/>
                  </a:lnTo>
                  <a:lnTo>
                    <a:pt x="459" y="464"/>
                  </a:lnTo>
                  <a:lnTo>
                    <a:pt x="459" y="467"/>
                  </a:lnTo>
                  <a:lnTo>
                    <a:pt x="460" y="467"/>
                  </a:lnTo>
                  <a:lnTo>
                    <a:pt x="463" y="469"/>
                  </a:lnTo>
                  <a:lnTo>
                    <a:pt x="464" y="469"/>
                  </a:lnTo>
                  <a:lnTo>
                    <a:pt x="466" y="469"/>
                  </a:lnTo>
                  <a:lnTo>
                    <a:pt x="464" y="470"/>
                  </a:lnTo>
                  <a:lnTo>
                    <a:pt x="463" y="474"/>
                  </a:lnTo>
                  <a:lnTo>
                    <a:pt x="462" y="475"/>
                  </a:lnTo>
                  <a:lnTo>
                    <a:pt x="462" y="475"/>
                  </a:lnTo>
                  <a:lnTo>
                    <a:pt x="461" y="476"/>
                  </a:lnTo>
                  <a:lnTo>
                    <a:pt x="460" y="478"/>
                  </a:lnTo>
                  <a:lnTo>
                    <a:pt x="455" y="484"/>
                  </a:lnTo>
                  <a:lnTo>
                    <a:pt x="450" y="489"/>
                  </a:lnTo>
                  <a:lnTo>
                    <a:pt x="450" y="489"/>
                  </a:lnTo>
                  <a:lnTo>
                    <a:pt x="449" y="490"/>
                  </a:lnTo>
                  <a:lnTo>
                    <a:pt x="448" y="491"/>
                  </a:lnTo>
                  <a:lnTo>
                    <a:pt x="445" y="495"/>
                  </a:lnTo>
                  <a:lnTo>
                    <a:pt x="443" y="499"/>
                  </a:lnTo>
                  <a:lnTo>
                    <a:pt x="443" y="499"/>
                  </a:lnTo>
                  <a:lnTo>
                    <a:pt x="441" y="499"/>
                  </a:lnTo>
                  <a:lnTo>
                    <a:pt x="440" y="499"/>
                  </a:lnTo>
                  <a:lnTo>
                    <a:pt x="437" y="499"/>
                  </a:lnTo>
                  <a:lnTo>
                    <a:pt x="434" y="499"/>
                  </a:lnTo>
                  <a:lnTo>
                    <a:pt x="434" y="499"/>
                  </a:lnTo>
                  <a:lnTo>
                    <a:pt x="434" y="501"/>
                  </a:lnTo>
                  <a:lnTo>
                    <a:pt x="433" y="504"/>
                  </a:lnTo>
                  <a:lnTo>
                    <a:pt x="433" y="506"/>
                  </a:lnTo>
                  <a:lnTo>
                    <a:pt x="434" y="506"/>
                  </a:lnTo>
                  <a:lnTo>
                    <a:pt x="433" y="510"/>
                  </a:lnTo>
                  <a:lnTo>
                    <a:pt x="433" y="511"/>
                  </a:lnTo>
                  <a:lnTo>
                    <a:pt x="433" y="511"/>
                  </a:lnTo>
                  <a:lnTo>
                    <a:pt x="432" y="512"/>
                  </a:lnTo>
                  <a:lnTo>
                    <a:pt x="428" y="519"/>
                  </a:lnTo>
                  <a:lnTo>
                    <a:pt x="426" y="524"/>
                  </a:lnTo>
                  <a:lnTo>
                    <a:pt x="426" y="524"/>
                  </a:lnTo>
                  <a:lnTo>
                    <a:pt x="425" y="526"/>
                  </a:lnTo>
                  <a:lnTo>
                    <a:pt x="425" y="530"/>
                  </a:lnTo>
                  <a:lnTo>
                    <a:pt x="425" y="534"/>
                  </a:lnTo>
                  <a:lnTo>
                    <a:pt x="425" y="534"/>
                  </a:lnTo>
                  <a:lnTo>
                    <a:pt x="424" y="536"/>
                  </a:lnTo>
                  <a:lnTo>
                    <a:pt x="423" y="539"/>
                  </a:lnTo>
                  <a:lnTo>
                    <a:pt x="423" y="541"/>
                  </a:lnTo>
                  <a:lnTo>
                    <a:pt x="423" y="541"/>
                  </a:lnTo>
                  <a:lnTo>
                    <a:pt x="422" y="542"/>
                  </a:lnTo>
                  <a:lnTo>
                    <a:pt x="421" y="544"/>
                  </a:lnTo>
                  <a:lnTo>
                    <a:pt x="417" y="548"/>
                  </a:lnTo>
                  <a:lnTo>
                    <a:pt x="414" y="551"/>
                  </a:lnTo>
                  <a:lnTo>
                    <a:pt x="414" y="551"/>
                  </a:lnTo>
                  <a:lnTo>
                    <a:pt x="413" y="552"/>
                  </a:lnTo>
                  <a:lnTo>
                    <a:pt x="412" y="553"/>
                  </a:lnTo>
                  <a:lnTo>
                    <a:pt x="409" y="557"/>
                  </a:lnTo>
                  <a:lnTo>
                    <a:pt x="405" y="560"/>
                  </a:lnTo>
                  <a:lnTo>
                    <a:pt x="405" y="560"/>
                  </a:lnTo>
                  <a:lnTo>
                    <a:pt x="404" y="561"/>
                  </a:lnTo>
                  <a:lnTo>
                    <a:pt x="401" y="564"/>
                  </a:lnTo>
                  <a:lnTo>
                    <a:pt x="400" y="567"/>
                  </a:lnTo>
                  <a:lnTo>
                    <a:pt x="400" y="567"/>
                  </a:lnTo>
                  <a:lnTo>
                    <a:pt x="399" y="568"/>
                  </a:lnTo>
                  <a:lnTo>
                    <a:pt x="396" y="571"/>
                  </a:lnTo>
                  <a:lnTo>
                    <a:pt x="393" y="573"/>
                  </a:lnTo>
                  <a:lnTo>
                    <a:pt x="393" y="573"/>
                  </a:lnTo>
                  <a:lnTo>
                    <a:pt x="392" y="574"/>
                  </a:lnTo>
                  <a:lnTo>
                    <a:pt x="386" y="577"/>
                  </a:lnTo>
                  <a:lnTo>
                    <a:pt x="382" y="580"/>
                  </a:lnTo>
                  <a:lnTo>
                    <a:pt x="382" y="580"/>
                  </a:lnTo>
                  <a:lnTo>
                    <a:pt x="380" y="581"/>
                  </a:lnTo>
                  <a:lnTo>
                    <a:pt x="375" y="583"/>
                  </a:lnTo>
                  <a:lnTo>
                    <a:pt x="370" y="584"/>
                  </a:lnTo>
                  <a:lnTo>
                    <a:pt x="370" y="584"/>
                  </a:lnTo>
                  <a:lnTo>
                    <a:pt x="368" y="585"/>
                  </a:lnTo>
                  <a:lnTo>
                    <a:pt x="362" y="586"/>
                  </a:lnTo>
                  <a:lnTo>
                    <a:pt x="357" y="587"/>
                  </a:lnTo>
                  <a:lnTo>
                    <a:pt x="357" y="587"/>
                  </a:lnTo>
                  <a:lnTo>
                    <a:pt x="356" y="588"/>
                  </a:lnTo>
                  <a:lnTo>
                    <a:pt x="355" y="590"/>
                  </a:lnTo>
                  <a:lnTo>
                    <a:pt x="351" y="593"/>
                  </a:lnTo>
                  <a:lnTo>
                    <a:pt x="347" y="595"/>
                  </a:lnTo>
                  <a:lnTo>
                    <a:pt x="347" y="595"/>
                  </a:lnTo>
                  <a:lnTo>
                    <a:pt x="345" y="596"/>
                  </a:lnTo>
                  <a:lnTo>
                    <a:pt x="342" y="597"/>
                  </a:lnTo>
                  <a:lnTo>
                    <a:pt x="339" y="597"/>
                  </a:lnTo>
                  <a:lnTo>
                    <a:pt x="339" y="597"/>
                  </a:lnTo>
                  <a:lnTo>
                    <a:pt x="335" y="598"/>
                  </a:lnTo>
                  <a:lnTo>
                    <a:pt x="329" y="599"/>
                  </a:lnTo>
                  <a:lnTo>
                    <a:pt x="325" y="599"/>
                  </a:lnTo>
                  <a:lnTo>
                    <a:pt x="325" y="599"/>
                  </a:lnTo>
                  <a:lnTo>
                    <a:pt x="323" y="600"/>
                  </a:lnTo>
                  <a:lnTo>
                    <a:pt x="317" y="604"/>
                  </a:lnTo>
                  <a:lnTo>
                    <a:pt x="313" y="606"/>
                  </a:lnTo>
                  <a:lnTo>
                    <a:pt x="313" y="606"/>
                  </a:lnTo>
                  <a:lnTo>
                    <a:pt x="311" y="606"/>
                  </a:lnTo>
                  <a:lnTo>
                    <a:pt x="310" y="606"/>
                  </a:lnTo>
                  <a:lnTo>
                    <a:pt x="306" y="605"/>
                  </a:lnTo>
                  <a:lnTo>
                    <a:pt x="303" y="604"/>
                  </a:lnTo>
                  <a:lnTo>
                    <a:pt x="303" y="603"/>
                  </a:lnTo>
                  <a:lnTo>
                    <a:pt x="299" y="604"/>
                  </a:lnTo>
                  <a:lnTo>
                    <a:pt x="293" y="605"/>
                  </a:lnTo>
                  <a:lnTo>
                    <a:pt x="288" y="605"/>
                  </a:lnTo>
                  <a:lnTo>
                    <a:pt x="288" y="605"/>
                  </a:lnTo>
                  <a:lnTo>
                    <a:pt x="287" y="606"/>
                  </a:lnTo>
                  <a:lnTo>
                    <a:pt x="286" y="607"/>
                  </a:lnTo>
                  <a:lnTo>
                    <a:pt x="283" y="610"/>
                  </a:lnTo>
                  <a:lnTo>
                    <a:pt x="281" y="614"/>
                  </a:lnTo>
                  <a:lnTo>
                    <a:pt x="281" y="614"/>
                  </a:lnTo>
                  <a:lnTo>
                    <a:pt x="280" y="615"/>
                  </a:lnTo>
                  <a:lnTo>
                    <a:pt x="279" y="617"/>
                  </a:lnTo>
                  <a:lnTo>
                    <a:pt x="272" y="623"/>
                  </a:lnTo>
                  <a:lnTo>
                    <a:pt x="268" y="628"/>
                  </a:lnTo>
                  <a:lnTo>
                    <a:pt x="268" y="628"/>
                  </a:lnTo>
                  <a:lnTo>
                    <a:pt x="265" y="629"/>
                  </a:lnTo>
                  <a:lnTo>
                    <a:pt x="261" y="630"/>
                  </a:lnTo>
                  <a:lnTo>
                    <a:pt x="258" y="630"/>
                  </a:lnTo>
                  <a:lnTo>
                    <a:pt x="258" y="630"/>
                  </a:lnTo>
                  <a:lnTo>
                    <a:pt x="256" y="631"/>
                  </a:lnTo>
                  <a:lnTo>
                    <a:pt x="250" y="632"/>
                  </a:lnTo>
                  <a:lnTo>
                    <a:pt x="247" y="632"/>
                  </a:lnTo>
                  <a:lnTo>
                    <a:pt x="247" y="632"/>
                  </a:lnTo>
                  <a:lnTo>
                    <a:pt x="246" y="633"/>
                  </a:lnTo>
                  <a:lnTo>
                    <a:pt x="240" y="635"/>
                  </a:lnTo>
                  <a:lnTo>
                    <a:pt x="237" y="637"/>
                  </a:lnTo>
                  <a:lnTo>
                    <a:pt x="237" y="637"/>
                  </a:lnTo>
                  <a:lnTo>
                    <a:pt x="236" y="638"/>
                  </a:lnTo>
                  <a:lnTo>
                    <a:pt x="231" y="641"/>
                  </a:lnTo>
                  <a:lnTo>
                    <a:pt x="227" y="643"/>
                  </a:lnTo>
                  <a:lnTo>
                    <a:pt x="227" y="643"/>
                  </a:lnTo>
                  <a:lnTo>
                    <a:pt x="226" y="644"/>
                  </a:lnTo>
                  <a:lnTo>
                    <a:pt x="225" y="645"/>
                  </a:lnTo>
                  <a:lnTo>
                    <a:pt x="221" y="651"/>
                  </a:lnTo>
                  <a:lnTo>
                    <a:pt x="217" y="654"/>
                  </a:lnTo>
                  <a:lnTo>
                    <a:pt x="217" y="654"/>
                  </a:lnTo>
                  <a:lnTo>
                    <a:pt x="215" y="655"/>
                  </a:lnTo>
                  <a:lnTo>
                    <a:pt x="212" y="656"/>
                  </a:lnTo>
                  <a:lnTo>
                    <a:pt x="209" y="657"/>
                  </a:lnTo>
                  <a:lnTo>
                    <a:pt x="209" y="657"/>
                  </a:lnTo>
                  <a:lnTo>
                    <a:pt x="208" y="658"/>
                  </a:lnTo>
                  <a:lnTo>
                    <a:pt x="203" y="660"/>
                  </a:lnTo>
                  <a:lnTo>
                    <a:pt x="201" y="661"/>
                  </a:lnTo>
                  <a:lnTo>
                    <a:pt x="201" y="661"/>
                  </a:lnTo>
                  <a:lnTo>
                    <a:pt x="200" y="661"/>
                  </a:lnTo>
                  <a:lnTo>
                    <a:pt x="199" y="661"/>
                  </a:lnTo>
                  <a:lnTo>
                    <a:pt x="193" y="661"/>
                  </a:lnTo>
                  <a:lnTo>
                    <a:pt x="189" y="661"/>
                  </a:lnTo>
                  <a:lnTo>
                    <a:pt x="189" y="661"/>
                  </a:lnTo>
                  <a:lnTo>
                    <a:pt x="188" y="661"/>
                  </a:lnTo>
                  <a:lnTo>
                    <a:pt x="187" y="661"/>
                  </a:lnTo>
                  <a:lnTo>
                    <a:pt x="184" y="661"/>
                  </a:lnTo>
                  <a:lnTo>
                    <a:pt x="180" y="661"/>
                  </a:lnTo>
                  <a:lnTo>
                    <a:pt x="180" y="660"/>
                  </a:lnTo>
                  <a:lnTo>
                    <a:pt x="179" y="660"/>
                  </a:lnTo>
                  <a:lnTo>
                    <a:pt x="178" y="660"/>
                  </a:lnTo>
                  <a:lnTo>
                    <a:pt x="175" y="660"/>
                  </a:lnTo>
                  <a:lnTo>
                    <a:pt x="173" y="660"/>
                  </a:lnTo>
                  <a:lnTo>
                    <a:pt x="173" y="660"/>
                  </a:lnTo>
                  <a:lnTo>
                    <a:pt x="171" y="660"/>
                  </a:lnTo>
                  <a:lnTo>
                    <a:pt x="170" y="660"/>
                  </a:lnTo>
                  <a:lnTo>
                    <a:pt x="166" y="660"/>
                  </a:lnTo>
                  <a:lnTo>
                    <a:pt x="163" y="660"/>
                  </a:lnTo>
                  <a:lnTo>
                    <a:pt x="163" y="660"/>
                  </a:lnTo>
                  <a:lnTo>
                    <a:pt x="161" y="658"/>
                  </a:lnTo>
                  <a:lnTo>
                    <a:pt x="159" y="657"/>
                  </a:lnTo>
                  <a:lnTo>
                    <a:pt x="158" y="658"/>
                  </a:lnTo>
                  <a:lnTo>
                    <a:pt x="157" y="660"/>
                  </a:lnTo>
                  <a:lnTo>
                    <a:pt x="157" y="660"/>
                  </a:lnTo>
                  <a:lnTo>
                    <a:pt x="156" y="661"/>
                  </a:lnTo>
                  <a:lnTo>
                    <a:pt x="152" y="663"/>
                  </a:lnTo>
                  <a:lnTo>
                    <a:pt x="150" y="664"/>
                  </a:lnTo>
                  <a:lnTo>
                    <a:pt x="150" y="664"/>
                  </a:lnTo>
                  <a:lnTo>
                    <a:pt x="149" y="665"/>
                  </a:lnTo>
                  <a:lnTo>
                    <a:pt x="147" y="666"/>
                  </a:lnTo>
                  <a:lnTo>
                    <a:pt x="143" y="670"/>
                  </a:lnTo>
                  <a:lnTo>
                    <a:pt x="140" y="674"/>
                  </a:lnTo>
                  <a:lnTo>
                    <a:pt x="140" y="674"/>
                  </a:lnTo>
                  <a:lnTo>
                    <a:pt x="139" y="675"/>
                  </a:lnTo>
                  <a:lnTo>
                    <a:pt x="135" y="678"/>
                  </a:lnTo>
                  <a:lnTo>
                    <a:pt x="133" y="679"/>
                  </a:lnTo>
                  <a:lnTo>
                    <a:pt x="133" y="679"/>
                  </a:lnTo>
                  <a:lnTo>
                    <a:pt x="132" y="680"/>
                  </a:lnTo>
                  <a:lnTo>
                    <a:pt x="129" y="684"/>
                  </a:lnTo>
                  <a:lnTo>
                    <a:pt x="128" y="685"/>
                  </a:lnTo>
                  <a:lnTo>
                    <a:pt x="128" y="685"/>
                  </a:lnTo>
                  <a:lnTo>
                    <a:pt x="127" y="686"/>
                  </a:lnTo>
                  <a:lnTo>
                    <a:pt x="122" y="688"/>
                  </a:lnTo>
                  <a:lnTo>
                    <a:pt x="120" y="689"/>
                  </a:lnTo>
                  <a:lnTo>
                    <a:pt x="120" y="689"/>
                  </a:lnTo>
                  <a:lnTo>
                    <a:pt x="119" y="690"/>
                  </a:lnTo>
                  <a:lnTo>
                    <a:pt x="116" y="692"/>
                  </a:lnTo>
                  <a:lnTo>
                    <a:pt x="114" y="693"/>
                  </a:lnTo>
                  <a:lnTo>
                    <a:pt x="114" y="693"/>
                  </a:lnTo>
                  <a:lnTo>
                    <a:pt x="112" y="696"/>
                  </a:lnTo>
                  <a:lnTo>
                    <a:pt x="110" y="701"/>
                  </a:lnTo>
                  <a:lnTo>
                    <a:pt x="109" y="705"/>
                  </a:lnTo>
                  <a:lnTo>
                    <a:pt x="109" y="705"/>
                  </a:lnTo>
                  <a:lnTo>
                    <a:pt x="108" y="707"/>
                  </a:lnTo>
                  <a:lnTo>
                    <a:pt x="104" y="710"/>
                  </a:lnTo>
                  <a:lnTo>
                    <a:pt x="102" y="711"/>
                  </a:lnTo>
                  <a:lnTo>
                    <a:pt x="102" y="711"/>
                  </a:lnTo>
                  <a:lnTo>
                    <a:pt x="100" y="712"/>
                  </a:lnTo>
                  <a:lnTo>
                    <a:pt x="97" y="716"/>
                  </a:lnTo>
                  <a:lnTo>
                    <a:pt x="95" y="720"/>
                  </a:lnTo>
                  <a:lnTo>
                    <a:pt x="95" y="720"/>
                  </a:lnTo>
                  <a:lnTo>
                    <a:pt x="94" y="722"/>
                  </a:lnTo>
                  <a:lnTo>
                    <a:pt x="93" y="725"/>
                  </a:lnTo>
                  <a:lnTo>
                    <a:pt x="92" y="728"/>
                  </a:lnTo>
                  <a:lnTo>
                    <a:pt x="92" y="728"/>
                  </a:lnTo>
                  <a:lnTo>
                    <a:pt x="89" y="730"/>
                  </a:lnTo>
                  <a:lnTo>
                    <a:pt x="84" y="732"/>
                  </a:lnTo>
                  <a:lnTo>
                    <a:pt x="80" y="733"/>
                  </a:lnTo>
                  <a:lnTo>
                    <a:pt x="80" y="733"/>
                  </a:lnTo>
                  <a:lnTo>
                    <a:pt x="77" y="734"/>
                  </a:lnTo>
                  <a:lnTo>
                    <a:pt x="74" y="735"/>
                  </a:lnTo>
                  <a:lnTo>
                    <a:pt x="72" y="735"/>
                  </a:lnTo>
                  <a:lnTo>
                    <a:pt x="72" y="735"/>
                  </a:lnTo>
                  <a:lnTo>
                    <a:pt x="71" y="736"/>
                  </a:lnTo>
                  <a:lnTo>
                    <a:pt x="68" y="740"/>
                  </a:lnTo>
                  <a:lnTo>
                    <a:pt x="65" y="744"/>
                  </a:lnTo>
                  <a:lnTo>
                    <a:pt x="65" y="744"/>
                  </a:lnTo>
                  <a:lnTo>
                    <a:pt x="61" y="746"/>
                  </a:lnTo>
                  <a:lnTo>
                    <a:pt x="60" y="746"/>
                  </a:lnTo>
                  <a:lnTo>
                    <a:pt x="60" y="746"/>
                  </a:lnTo>
                  <a:lnTo>
                    <a:pt x="59" y="747"/>
                  </a:lnTo>
                  <a:lnTo>
                    <a:pt x="55" y="750"/>
                  </a:lnTo>
                  <a:lnTo>
                    <a:pt x="51" y="751"/>
                  </a:lnTo>
                  <a:lnTo>
                    <a:pt x="51" y="751"/>
                  </a:lnTo>
                  <a:lnTo>
                    <a:pt x="50" y="753"/>
                  </a:lnTo>
                  <a:lnTo>
                    <a:pt x="47" y="756"/>
                  </a:lnTo>
                  <a:lnTo>
                    <a:pt x="45" y="757"/>
                  </a:lnTo>
                  <a:lnTo>
                    <a:pt x="45" y="757"/>
                  </a:lnTo>
                  <a:lnTo>
                    <a:pt x="44" y="759"/>
                  </a:lnTo>
                  <a:lnTo>
                    <a:pt x="42" y="763"/>
                  </a:lnTo>
                  <a:lnTo>
                    <a:pt x="41" y="767"/>
                  </a:lnTo>
                  <a:lnTo>
                    <a:pt x="41" y="767"/>
                  </a:lnTo>
                  <a:lnTo>
                    <a:pt x="40" y="768"/>
                  </a:lnTo>
                  <a:lnTo>
                    <a:pt x="39" y="772"/>
                  </a:lnTo>
                  <a:lnTo>
                    <a:pt x="38" y="774"/>
                  </a:lnTo>
                  <a:lnTo>
                    <a:pt x="38" y="774"/>
                  </a:lnTo>
                  <a:lnTo>
                    <a:pt x="37" y="778"/>
                  </a:lnTo>
                  <a:lnTo>
                    <a:pt x="36" y="784"/>
                  </a:lnTo>
                  <a:lnTo>
                    <a:pt x="36" y="789"/>
                  </a:lnTo>
                  <a:lnTo>
                    <a:pt x="36" y="789"/>
                  </a:lnTo>
                  <a:lnTo>
                    <a:pt x="35" y="790"/>
                  </a:lnTo>
                  <a:lnTo>
                    <a:pt x="34" y="791"/>
                  </a:lnTo>
                  <a:lnTo>
                    <a:pt x="30" y="794"/>
                  </a:lnTo>
                  <a:lnTo>
                    <a:pt x="28" y="797"/>
                  </a:lnTo>
                  <a:lnTo>
                    <a:pt x="28" y="797"/>
                  </a:lnTo>
                  <a:lnTo>
                    <a:pt x="27" y="797"/>
                  </a:lnTo>
                  <a:lnTo>
                    <a:pt x="24" y="797"/>
                  </a:lnTo>
                  <a:lnTo>
                    <a:pt x="22" y="797"/>
                  </a:lnTo>
                  <a:lnTo>
                    <a:pt x="22" y="797"/>
                  </a:lnTo>
                  <a:lnTo>
                    <a:pt x="22" y="794"/>
                  </a:lnTo>
                  <a:lnTo>
                    <a:pt x="22" y="792"/>
                  </a:lnTo>
                  <a:lnTo>
                    <a:pt x="23" y="791"/>
                  </a:lnTo>
                  <a:lnTo>
                    <a:pt x="23" y="790"/>
                  </a:lnTo>
                  <a:lnTo>
                    <a:pt x="22" y="786"/>
                  </a:lnTo>
                  <a:lnTo>
                    <a:pt x="22" y="784"/>
                  </a:lnTo>
                  <a:lnTo>
                    <a:pt x="23" y="783"/>
                  </a:lnTo>
                  <a:lnTo>
                    <a:pt x="21" y="782"/>
                  </a:lnTo>
                  <a:lnTo>
                    <a:pt x="20" y="781"/>
                  </a:lnTo>
                  <a:lnTo>
                    <a:pt x="18" y="778"/>
                  </a:lnTo>
                  <a:lnTo>
                    <a:pt x="18" y="777"/>
                  </a:lnTo>
                  <a:lnTo>
                    <a:pt x="20" y="775"/>
                  </a:lnTo>
                  <a:lnTo>
                    <a:pt x="21" y="774"/>
                  </a:lnTo>
                  <a:lnTo>
                    <a:pt x="22" y="772"/>
                  </a:lnTo>
                  <a:lnTo>
                    <a:pt x="22" y="769"/>
                  </a:lnTo>
                  <a:lnTo>
                    <a:pt x="21" y="765"/>
                  </a:lnTo>
                  <a:lnTo>
                    <a:pt x="21" y="762"/>
                  </a:lnTo>
                  <a:lnTo>
                    <a:pt x="21" y="761"/>
                  </a:lnTo>
                  <a:lnTo>
                    <a:pt x="20" y="757"/>
                  </a:lnTo>
                  <a:lnTo>
                    <a:pt x="20" y="754"/>
                  </a:lnTo>
                  <a:lnTo>
                    <a:pt x="20" y="753"/>
                  </a:lnTo>
                  <a:lnTo>
                    <a:pt x="18" y="754"/>
                  </a:lnTo>
                  <a:lnTo>
                    <a:pt x="15" y="757"/>
                  </a:lnTo>
                  <a:lnTo>
                    <a:pt x="14" y="759"/>
                  </a:lnTo>
                  <a:lnTo>
                    <a:pt x="14" y="759"/>
                  </a:lnTo>
                  <a:lnTo>
                    <a:pt x="13" y="760"/>
                  </a:lnTo>
                  <a:lnTo>
                    <a:pt x="12" y="762"/>
                  </a:lnTo>
                  <a:lnTo>
                    <a:pt x="11" y="763"/>
                  </a:lnTo>
                  <a:lnTo>
                    <a:pt x="11" y="763"/>
                  </a:lnTo>
                  <a:lnTo>
                    <a:pt x="10" y="767"/>
                  </a:lnTo>
                  <a:lnTo>
                    <a:pt x="7" y="773"/>
                  </a:lnTo>
                  <a:lnTo>
                    <a:pt x="6" y="779"/>
                  </a:lnTo>
                  <a:lnTo>
                    <a:pt x="6" y="779"/>
                  </a:lnTo>
                  <a:lnTo>
                    <a:pt x="5" y="780"/>
                  </a:lnTo>
                  <a:lnTo>
                    <a:pt x="3" y="785"/>
                  </a:lnTo>
                  <a:lnTo>
                    <a:pt x="2" y="789"/>
                  </a:lnTo>
                  <a:lnTo>
                    <a:pt x="2" y="789"/>
                  </a:lnTo>
                  <a:lnTo>
                    <a:pt x="2" y="791"/>
                  </a:lnTo>
                  <a:lnTo>
                    <a:pt x="1" y="797"/>
                  </a:lnTo>
                  <a:lnTo>
                    <a:pt x="1" y="802"/>
                  </a:lnTo>
                  <a:lnTo>
                    <a:pt x="2" y="802"/>
                  </a:lnTo>
                  <a:lnTo>
                    <a:pt x="1" y="804"/>
                  </a:lnTo>
                  <a:lnTo>
                    <a:pt x="0" y="809"/>
                  </a:lnTo>
                  <a:lnTo>
                    <a:pt x="0" y="813"/>
                  </a:lnTo>
                  <a:lnTo>
                    <a:pt x="0" y="813"/>
                  </a:lnTo>
                  <a:lnTo>
                    <a:pt x="1" y="815"/>
                  </a:lnTo>
                  <a:lnTo>
                    <a:pt x="5" y="820"/>
                  </a:lnTo>
                  <a:lnTo>
                    <a:pt x="9" y="824"/>
                  </a:lnTo>
                  <a:lnTo>
                    <a:pt x="10" y="824"/>
                  </a:lnTo>
                  <a:lnTo>
                    <a:pt x="10" y="825"/>
                  </a:lnTo>
                  <a:lnTo>
                    <a:pt x="10" y="826"/>
                  </a:lnTo>
                  <a:lnTo>
                    <a:pt x="11" y="829"/>
                  </a:lnTo>
                  <a:lnTo>
                    <a:pt x="11" y="831"/>
                  </a:lnTo>
                  <a:lnTo>
                    <a:pt x="12" y="831"/>
                  </a:lnTo>
                  <a:lnTo>
                    <a:pt x="12" y="835"/>
                  </a:lnTo>
                  <a:lnTo>
                    <a:pt x="11" y="841"/>
                  </a:lnTo>
                  <a:lnTo>
                    <a:pt x="11" y="845"/>
                  </a:lnTo>
                  <a:lnTo>
                    <a:pt x="12" y="845"/>
                  </a:lnTo>
                  <a:lnTo>
                    <a:pt x="12" y="847"/>
                  </a:lnTo>
                  <a:lnTo>
                    <a:pt x="12" y="848"/>
                  </a:lnTo>
                  <a:lnTo>
                    <a:pt x="13" y="851"/>
                  </a:lnTo>
                  <a:lnTo>
                    <a:pt x="13" y="853"/>
                  </a:lnTo>
                  <a:lnTo>
                    <a:pt x="14" y="853"/>
                  </a:lnTo>
                  <a:lnTo>
                    <a:pt x="14" y="855"/>
                  </a:lnTo>
                  <a:lnTo>
                    <a:pt x="13" y="860"/>
                  </a:lnTo>
                  <a:lnTo>
                    <a:pt x="13" y="863"/>
                  </a:lnTo>
                  <a:lnTo>
                    <a:pt x="14" y="863"/>
                  </a:lnTo>
                  <a:lnTo>
                    <a:pt x="13" y="866"/>
                  </a:lnTo>
                  <a:lnTo>
                    <a:pt x="13" y="875"/>
                  </a:lnTo>
                  <a:lnTo>
                    <a:pt x="13" y="882"/>
                  </a:lnTo>
                  <a:lnTo>
                    <a:pt x="13" y="882"/>
                  </a:lnTo>
                  <a:lnTo>
                    <a:pt x="12" y="883"/>
                  </a:lnTo>
                  <a:lnTo>
                    <a:pt x="11" y="884"/>
                  </a:lnTo>
                  <a:lnTo>
                    <a:pt x="7" y="887"/>
                  </a:lnTo>
                  <a:lnTo>
                    <a:pt x="4" y="889"/>
                  </a:lnTo>
                  <a:lnTo>
                    <a:pt x="4" y="889"/>
                  </a:lnTo>
                  <a:lnTo>
                    <a:pt x="4" y="889"/>
                  </a:lnTo>
                  <a:close/>
                </a:path>
              </a:pathLst>
            </a:custGeom>
            <a:noFill/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84920" y="5140440"/>
              <a:ext cx="7200" cy="1764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15" y="0"/>
                  </a:moveTo>
                  <a:lnTo>
                    <a:pt x="15" y="1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12"/>
                  </a:lnTo>
                  <a:lnTo>
                    <a:pt x="20" y="15"/>
                  </a:lnTo>
                  <a:lnTo>
                    <a:pt x="21" y="15"/>
                  </a:lnTo>
                  <a:lnTo>
                    <a:pt x="20" y="19"/>
                  </a:lnTo>
                  <a:lnTo>
                    <a:pt x="19" y="25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8" y="32"/>
                  </a:lnTo>
                  <a:lnTo>
                    <a:pt x="17" y="34"/>
                  </a:lnTo>
                  <a:lnTo>
                    <a:pt x="11" y="44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4" y="55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3" y="57"/>
                  </a:lnTo>
                  <a:lnTo>
                    <a:pt x="2" y="57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1" y="55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1" y="21"/>
                  </a:lnTo>
                  <a:lnTo>
                    <a:pt x="13" y="16"/>
                  </a:lnTo>
                  <a:lnTo>
                    <a:pt x="14" y="13"/>
                  </a:lnTo>
                  <a:lnTo>
                    <a:pt x="15" y="12"/>
                  </a:lnTo>
                  <a:lnTo>
                    <a:pt x="14" y="8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44880" y="5411520"/>
              <a:ext cx="5760" cy="216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2"/>
                  </a:moveTo>
                  <a:lnTo>
                    <a:pt x="1" y="2"/>
                  </a:lnTo>
                  <a:lnTo>
                    <a:pt x="7" y="2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4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44000" y="4922640"/>
              <a:ext cx="10440" cy="1044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4" y="4"/>
                  </a:moveTo>
                  <a:lnTo>
                    <a:pt x="4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8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3" y="14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4" y="22"/>
                  </a:lnTo>
                  <a:lnTo>
                    <a:pt x="24" y="25"/>
                  </a:lnTo>
                  <a:lnTo>
                    <a:pt x="24" y="27"/>
                  </a:lnTo>
                  <a:lnTo>
                    <a:pt x="25" y="27"/>
                  </a:lnTo>
                  <a:lnTo>
                    <a:pt x="26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7" y="31"/>
                  </a:lnTo>
                  <a:lnTo>
                    <a:pt x="23" y="34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7" y="35"/>
                  </a:lnTo>
                  <a:lnTo>
                    <a:pt x="11" y="35"/>
                  </a:lnTo>
                  <a:lnTo>
                    <a:pt x="6" y="35"/>
                  </a:lnTo>
                  <a:lnTo>
                    <a:pt x="6" y="34"/>
                  </a:lnTo>
                  <a:lnTo>
                    <a:pt x="5" y="33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0" y="13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844000" y="4876560"/>
              <a:ext cx="4680" cy="72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" y="25"/>
                  </a:moveTo>
                  <a:lnTo>
                    <a:pt x="0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6" y="5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2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705760" y="4879080"/>
              <a:ext cx="25560" cy="1152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2" y="5"/>
                  </a:move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1" y="11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31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6" y="8"/>
                  </a:lnTo>
                  <a:lnTo>
                    <a:pt x="48" y="7"/>
                  </a:lnTo>
                  <a:lnTo>
                    <a:pt x="49" y="5"/>
                  </a:lnTo>
                  <a:lnTo>
                    <a:pt x="53" y="2"/>
                  </a:lnTo>
                  <a:lnTo>
                    <a:pt x="55" y="1"/>
                  </a:lnTo>
                  <a:lnTo>
                    <a:pt x="56" y="0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2"/>
                  </a:lnTo>
                  <a:lnTo>
                    <a:pt x="65" y="7"/>
                  </a:lnTo>
                  <a:lnTo>
                    <a:pt x="66" y="9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67" y="12"/>
                  </a:lnTo>
                  <a:lnTo>
                    <a:pt x="67" y="13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8" y="17"/>
                  </a:lnTo>
                  <a:lnTo>
                    <a:pt x="68" y="20"/>
                  </a:lnTo>
                  <a:lnTo>
                    <a:pt x="69" y="20"/>
                  </a:lnTo>
                  <a:lnTo>
                    <a:pt x="68" y="21"/>
                  </a:lnTo>
                  <a:lnTo>
                    <a:pt x="65" y="23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3" y="25"/>
                  </a:lnTo>
                  <a:lnTo>
                    <a:pt x="60" y="28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58" y="31"/>
                  </a:lnTo>
                  <a:lnTo>
                    <a:pt x="56" y="32"/>
                  </a:lnTo>
                  <a:lnTo>
                    <a:pt x="49" y="37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3" y="40"/>
                  </a:lnTo>
                  <a:lnTo>
                    <a:pt x="42" y="40"/>
                  </a:lnTo>
                  <a:lnTo>
                    <a:pt x="38" y="40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1" y="37"/>
                  </a:lnTo>
                  <a:lnTo>
                    <a:pt x="29" y="36"/>
                  </a:lnTo>
                  <a:lnTo>
                    <a:pt x="29" y="35"/>
                  </a:lnTo>
                  <a:lnTo>
                    <a:pt x="21" y="32"/>
                  </a:lnTo>
                  <a:lnTo>
                    <a:pt x="18" y="31"/>
                  </a:lnTo>
                  <a:lnTo>
                    <a:pt x="18" y="29"/>
                  </a:lnTo>
                  <a:lnTo>
                    <a:pt x="13" y="27"/>
                  </a:lnTo>
                  <a:lnTo>
                    <a:pt x="11" y="26"/>
                  </a:lnTo>
                  <a:lnTo>
                    <a:pt x="11" y="25"/>
                  </a:lnTo>
                  <a:lnTo>
                    <a:pt x="10" y="24"/>
                  </a:lnTo>
                  <a:lnTo>
                    <a:pt x="9" y="21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2" y="9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699640" y="4882320"/>
              <a:ext cx="10440" cy="82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" y="27"/>
                  </a:move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5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6" y="13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7" y="23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4" y="25"/>
                  </a:lnTo>
                  <a:lnTo>
                    <a:pt x="18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9" y="26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905920" y="4972320"/>
              <a:ext cx="13320" cy="576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28" y="3"/>
                  </a:moveTo>
                  <a:lnTo>
                    <a:pt x="31" y="8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6"/>
                  </a:lnTo>
                  <a:lnTo>
                    <a:pt x="18" y="18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3" y="21"/>
                  </a:lnTo>
                  <a:lnTo>
                    <a:pt x="8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3" y="9"/>
                  </a:lnTo>
                  <a:lnTo>
                    <a:pt x="5" y="7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8" y="3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42920" y="5318280"/>
              <a:ext cx="28440" cy="8280"/>
            </a:xfrm>
            <a:custGeom>
              <a:avLst/>
              <a:gdLst/>
              <a:ahLst/>
              <a:rect l="l" t="t" r="r" b="b"/>
              <a:pathLst>
                <a:path w="78" h="31">
                  <a:moveTo>
                    <a:pt x="3" y="11"/>
                  </a:moveTo>
                  <a:lnTo>
                    <a:pt x="4" y="11"/>
                  </a:lnTo>
                  <a:lnTo>
                    <a:pt x="10" y="9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9" y="3"/>
                  </a:lnTo>
                  <a:lnTo>
                    <a:pt x="50" y="3"/>
                  </a:lnTo>
                  <a:lnTo>
                    <a:pt x="51" y="3"/>
                  </a:lnTo>
                  <a:lnTo>
                    <a:pt x="51" y="4"/>
                  </a:lnTo>
                  <a:lnTo>
                    <a:pt x="51" y="8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6" y="12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2" y="13"/>
                  </a:lnTo>
                  <a:lnTo>
                    <a:pt x="65" y="13"/>
                  </a:lnTo>
                  <a:lnTo>
                    <a:pt x="66" y="13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2" y="13"/>
                  </a:lnTo>
                  <a:lnTo>
                    <a:pt x="73" y="13"/>
                  </a:lnTo>
                  <a:lnTo>
                    <a:pt x="76" y="19"/>
                  </a:lnTo>
                  <a:lnTo>
                    <a:pt x="77" y="22"/>
                  </a:lnTo>
                  <a:lnTo>
                    <a:pt x="78" y="22"/>
                  </a:lnTo>
                  <a:lnTo>
                    <a:pt x="77" y="22"/>
                  </a:lnTo>
                  <a:lnTo>
                    <a:pt x="76" y="22"/>
                  </a:lnTo>
                  <a:lnTo>
                    <a:pt x="71" y="21"/>
                  </a:lnTo>
                  <a:lnTo>
                    <a:pt x="68" y="21"/>
                  </a:lnTo>
                  <a:lnTo>
                    <a:pt x="68" y="20"/>
                  </a:lnTo>
                  <a:lnTo>
                    <a:pt x="66" y="21"/>
                  </a:lnTo>
                  <a:lnTo>
                    <a:pt x="60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5" y="25"/>
                  </a:lnTo>
                  <a:lnTo>
                    <a:pt x="54" y="26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7" y="31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2" y="30"/>
                  </a:lnTo>
                  <a:lnTo>
                    <a:pt x="38" y="29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1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1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5" y="27"/>
                  </a:lnTo>
                  <a:lnTo>
                    <a:pt x="10" y="27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1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041640" y="5401080"/>
              <a:ext cx="7200" cy="936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0"/>
                  </a:moveTo>
                  <a:lnTo>
                    <a:pt x="8" y="2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7"/>
                  </a:lnTo>
                  <a:lnTo>
                    <a:pt x="19" y="22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19" y="30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2" y="33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8" y="29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7" y="19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984400" y="5414040"/>
              <a:ext cx="61560" cy="52920"/>
            </a:xfrm>
            <a:custGeom>
              <a:avLst/>
              <a:gdLst/>
              <a:ahLst/>
              <a:rect l="l" t="t" r="r" b="b"/>
              <a:pathLst>
                <a:path w="165" h="183">
                  <a:moveTo>
                    <a:pt x="3" y="20"/>
                  </a:moveTo>
                  <a:lnTo>
                    <a:pt x="2" y="22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7" y="50"/>
                  </a:lnTo>
                  <a:lnTo>
                    <a:pt x="7" y="51"/>
                  </a:lnTo>
                  <a:lnTo>
                    <a:pt x="7" y="54"/>
                  </a:lnTo>
                  <a:lnTo>
                    <a:pt x="10" y="61"/>
                  </a:lnTo>
                  <a:lnTo>
                    <a:pt x="11" y="67"/>
                  </a:lnTo>
                  <a:lnTo>
                    <a:pt x="12" y="67"/>
                  </a:lnTo>
                  <a:lnTo>
                    <a:pt x="12" y="68"/>
                  </a:lnTo>
                  <a:lnTo>
                    <a:pt x="12" y="69"/>
                  </a:lnTo>
                  <a:lnTo>
                    <a:pt x="14" y="74"/>
                  </a:lnTo>
                  <a:lnTo>
                    <a:pt x="15" y="78"/>
                  </a:lnTo>
                  <a:lnTo>
                    <a:pt x="17" y="78"/>
                  </a:lnTo>
                  <a:lnTo>
                    <a:pt x="17" y="79"/>
                  </a:lnTo>
                  <a:lnTo>
                    <a:pt x="17" y="80"/>
                  </a:lnTo>
                  <a:lnTo>
                    <a:pt x="18" y="83"/>
                  </a:lnTo>
                  <a:lnTo>
                    <a:pt x="19" y="86"/>
                  </a:lnTo>
                  <a:lnTo>
                    <a:pt x="20" y="86"/>
                  </a:lnTo>
                  <a:lnTo>
                    <a:pt x="22" y="92"/>
                  </a:lnTo>
                  <a:lnTo>
                    <a:pt x="23" y="95"/>
                  </a:lnTo>
                  <a:lnTo>
                    <a:pt x="24" y="95"/>
                  </a:lnTo>
                  <a:lnTo>
                    <a:pt x="27" y="98"/>
                  </a:lnTo>
                  <a:lnTo>
                    <a:pt x="30" y="100"/>
                  </a:lnTo>
                  <a:lnTo>
                    <a:pt x="31" y="100"/>
                  </a:lnTo>
                  <a:lnTo>
                    <a:pt x="30" y="101"/>
                  </a:lnTo>
                  <a:lnTo>
                    <a:pt x="29" y="102"/>
                  </a:lnTo>
                  <a:lnTo>
                    <a:pt x="25" y="106"/>
                  </a:lnTo>
                  <a:lnTo>
                    <a:pt x="23" y="109"/>
                  </a:lnTo>
                  <a:lnTo>
                    <a:pt x="23" y="109"/>
                  </a:lnTo>
                  <a:lnTo>
                    <a:pt x="22" y="108"/>
                  </a:lnTo>
                  <a:lnTo>
                    <a:pt x="20" y="104"/>
                  </a:lnTo>
                  <a:lnTo>
                    <a:pt x="19" y="101"/>
                  </a:lnTo>
                  <a:lnTo>
                    <a:pt x="19" y="100"/>
                  </a:lnTo>
                  <a:lnTo>
                    <a:pt x="17" y="94"/>
                  </a:lnTo>
                  <a:lnTo>
                    <a:pt x="15" y="91"/>
                  </a:lnTo>
                  <a:lnTo>
                    <a:pt x="15" y="90"/>
                  </a:lnTo>
                  <a:lnTo>
                    <a:pt x="15" y="91"/>
                  </a:lnTo>
                  <a:lnTo>
                    <a:pt x="15" y="92"/>
                  </a:lnTo>
                  <a:lnTo>
                    <a:pt x="15" y="97"/>
                  </a:lnTo>
                  <a:lnTo>
                    <a:pt x="15" y="101"/>
                  </a:lnTo>
                  <a:lnTo>
                    <a:pt x="17" y="101"/>
                  </a:lnTo>
                  <a:lnTo>
                    <a:pt x="17" y="102"/>
                  </a:lnTo>
                  <a:lnTo>
                    <a:pt x="17" y="105"/>
                  </a:lnTo>
                  <a:lnTo>
                    <a:pt x="19" y="117"/>
                  </a:lnTo>
                  <a:lnTo>
                    <a:pt x="20" y="126"/>
                  </a:lnTo>
                  <a:lnTo>
                    <a:pt x="21" y="126"/>
                  </a:lnTo>
                  <a:lnTo>
                    <a:pt x="22" y="130"/>
                  </a:lnTo>
                  <a:lnTo>
                    <a:pt x="23" y="132"/>
                  </a:lnTo>
                  <a:lnTo>
                    <a:pt x="24" y="132"/>
                  </a:lnTo>
                  <a:lnTo>
                    <a:pt x="25" y="135"/>
                  </a:lnTo>
                  <a:lnTo>
                    <a:pt x="26" y="136"/>
                  </a:lnTo>
                  <a:lnTo>
                    <a:pt x="29" y="138"/>
                  </a:lnTo>
                  <a:lnTo>
                    <a:pt x="30" y="138"/>
                  </a:lnTo>
                  <a:lnTo>
                    <a:pt x="31" y="143"/>
                  </a:lnTo>
                  <a:lnTo>
                    <a:pt x="32" y="146"/>
                  </a:lnTo>
                  <a:lnTo>
                    <a:pt x="33" y="146"/>
                  </a:lnTo>
                  <a:lnTo>
                    <a:pt x="33" y="147"/>
                  </a:lnTo>
                  <a:lnTo>
                    <a:pt x="33" y="148"/>
                  </a:lnTo>
                  <a:lnTo>
                    <a:pt x="35" y="153"/>
                  </a:lnTo>
                  <a:lnTo>
                    <a:pt x="36" y="156"/>
                  </a:lnTo>
                  <a:lnTo>
                    <a:pt x="37" y="156"/>
                  </a:lnTo>
                  <a:lnTo>
                    <a:pt x="38" y="158"/>
                  </a:lnTo>
                  <a:lnTo>
                    <a:pt x="42" y="160"/>
                  </a:lnTo>
                  <a:lnTo>
                    <a:pt x="44" y="161"/>
                  </a:lnTo>
                  <a:lnTo>
                    <a:pt x="45" y="161"/>
                  </a:lnTo>
                  <a:lnTo>
                    <a:pt x="49" y="162"/>
                  </a:lnTo>
                  <a:lnTo>
                    <a:pt x="52" y="162"/>
                  </a:lnTo>
                  <a:lnTo>
                    <a:pt x="53" y="162"/>
                  </a:lnTo>
                  <a:lnTo>
                    <a:pt x="52" y="163"/>
                  </a:lnTo>
                  <a:lnTo>
                    <a:pt x="49" y="165"/>
                  </a:lnTo>
                  <a:lnTo>
                    <a:pt x="48" y="166"/>
                  </a:lnTo>
                  <a:lnTo>
                    <a:pt x="48" y="166"/>
                  </a:lnTo>
                  <a:lnTo>
                    <a:pt x="44" y="168"/>
                  </a:lnTo>
                  <a:lnTo>
                    <a:pt x="43" y="168"/>
                  </a:lnTo>
                  <a:lnTo>
                    <a:pt x="43" y="168"/>
                  </a:lnTo>
                  <a:lnTo>
                    <a:pt x="43" y="170"/>
                  </a:lnTo>
                  <a:lnTo>
                    <a:pt x="44" y="173"/>
                  </a:lnTo>
                  <a:lnTo>
                    <a:pt x="44" y="174"/>
                  </a:lnTo>
                  <a:lnTo>
                    <a:pt x="45" y="174"/>
                  </a:lnTo>
                  <a:lnTo>
                    <a:pt x="46" y="174"/>
                  </a:lnTo>
                  <a:lnTo>
                    <a:pt x="49" y="174"/>
                  </a:lnTo>
                  <a:lnTo>
                    <a:pt x="52" y="174"/>
                  </a:lnTo>
                  <a:lnTo>
                    <a:pt x="53" y="174"/>
                  </a:lnTo>
                  <a:lnTo>
                    <a:pt x="54" y="175"/>
                  </a:lnTo>
                  <a:lnTo>
                    <a:pt x="57" y="177"/>
                  </a:lnTo>
                  <a:lnTo>
                    <a:pt x="60" y="178"/>
                  </a:lnTo>
                  <a:lnTo>
                    <a:pt x="61" y="178"/>
                  </a:lnTo>
                  <a:lnTo>
                    <a:pt x="64" y="177"/>
                  </a:lnTo>
                  <a:lnTo>
                    <a:pt x="66" y="176"/>
                  </a:lnTo>
                  <a:lnTo>
                    <a:pt x="69" y="178"/>
                  </a:lnTo>
                  <a:lnTo>
                    <a:pt x="70" y="178"/>
                  </a:lnTo>
                  <a:lnTo>
                    <a:pt x="71" y="178"/>
                  </a:lnTo>
                  <a:lnTo>
                    <a:pt x="72" y="182"/>
                  </a:lnTo>
                  <a:lnTo>
                    <a:pt x="73" y="183"/>
                  </a:lnTo>
                  <a:lnTo>
                    <a:pt x="74" y="183"/>
                  </a:lnTo>
                  <a:lnTo>
                    <a:pt x="78" y="183"/>
                  </a:lnTo>
                  <a:lnTo>
                    <a:pt x="79" y="183"/>
                  </a:lnTo>
                  <a:lnTo>
                    <a:pt x="80" y="182"/>
                  </a:lnTo>
                  <a:lnTo>
                    <a:pt x="83" y="178"/>
                  </a:lnTo>
                  <a:lnTo>
                    <a:pt x="85" y="177"/>
                  </a:lnTo>
                  <a:lnTo>
                    <a:pt x="87" y="176"/>
                  </a:lnTo>
                  <a:lnTo>
                    <a:pt x="87" y="175"/>
                  </a:lnTo>
                  <a:lnTo>
                    <a:pt x="88" y="172"/>
                  </a:lnTo>
                  <a:lnTo>
                    <a:pt x="88" y="170"/>
                  </a:lnTo>
                  <a:lnTo>
                    <a:pt x="89" y="168"/>
                  </a:lnTo>
                  <a:lnTo>
                    <a:pt x="89" y="167"/>
                  </a:lnTo>
                  <a:lnTo>
                    <a:pt x="90" y="164"/>
                  </a:lnTo>
                  <a:lnTo>
                    <a:pt x="90" y="162"/>
                  </a:lnTo>
                  <a:lnTo>
                    <a:pt x="91" y="161"/>
                  </a:lnTo>
                  <a:lnTo>
                    <a:pt x="92" y="159"/>
                  </a:lnTo>
                  <a:lnTo>
                    <a:pt x="93" y="158"/>
                  </a:lnTo>
                  <a:lnTo>
                    <a:pt x="94" y="156"/>
                  </a:lnTo>
                  <a:lnTo>
                    <a:pt x="97" y="159"/>
                  </a:lnTo>
                  <a:lnTo>
                    <a:pt x="99" y="159"/>
                  </a:lnTo>
                  <a:lnTo>
                    <a:pt x="100" y="159"/>
                  </a:lnTo>
                  <a:lnTo>
                    <a:pt x="100" y="160"/>
                  </a:lnTo>
                  <a:lnTo>
                    <a:pt x="101" y="163"/>
                  </a:lnTo>
                  <a:lnTo>
                    <a:pt x="101" y="164"/>
                  </a:lnTo>
                  <a:lnTo>
                    <a:pt x="102" y="164"/>
                  </a:lnTo>
                  <a:lnTo>
                    <a:pt x="103" y="160"/>
                  </a:lnTo>
                  <a:lnTo>
                    <a:pt x="104" y="158"/>
                  </a:lnTo>
                  <a:lnTo>
                    <a:pt x="105" y="156"/>
                  </a:lnTo>
                  <a:lnTo>
                    <a:pt x="108" y="154"/>
                  </a:lnTo>
                  <a:lnTo>
                    <a:pt x="111" y="153"/>
                  </a:lnTo>
                  <a:lnTo>
                    <a:pt x="112" y="152"/>
                  </a:lnTo>
                  <a:lnTo>
                    <a:pt x="114" y="150"/>
                  </a:lnTo>
                  <a:lnTo>
                    <a:pt x="115" y="149"/>
                  </a:lnTo>
                  <a:lnTo>
                    <a:pt x="116" y="148"/>
                  </a:lnTo>
                  <a:lnTo>
                    <a:pt x="115" y="144"/>
                  </a:lnTo>
                  <a:lnTo>
                    <a:pt x="115" y="142"/>
                  </a:lnTo>
                  <a:lnTo>
                    <a:pt x="116" y="141"/>
                  </a:lnTo>
                  <a:lnTo>
                    <a:pt x="117" y="140"/>
                  </a:lnTo>
                  <a:lnTo>
                    <a:pt x="118" y="138"/>
                  </a:lnTo>
                  <a:lnTo>
                    <a:pt x="119" y="139"/>
                  </a:lnTo>
                  <a:lnTo>
                    <a:pt x="123" y="140"/>
                  </a:lnTo>
                  <a:lnTo>
                    <a:pt x="125" y="141"/>
                  </a:lnTo>
                  <a:lnTo>
                    <a:pt x="126" y="141"/>
                  </a:lnTo>
                  <a:lnTo>
                    <a:pt x="129" y="142"/>
                  </a:lnTo>
                  <a:lnTo>
                    <a:pt x="130" y="142"/>
                  </a:lnTo>
                  <a:lnTo>
                    <a:pt x="131" y="142"/>
                  </a:lnTo>
                  <a:lnTo>
                    <a:pt x="134" y="141"/>
                  </a:lnTo>
                  <a:lnTo>
                    <a:pt x="135" y="140"/>
                  </a:lnTo>
                  <a:lnTo>
                    <a:pt x="136" y="139"/>
                  </a:lnTo>
                  <a:lnTo>
                    <a:pt x="136" y="137"/>
                  </a:lnTo>
                  <a:lnTo>
                    <a:pt x="137" y="130"/>
                  </a:lnTo>
                  <a:lnTo>
                    <a:pt x="138" y="125"/>
                  </a:lnTo>
                  <a:lnTo>
                    <a:pt x="139" y="124"/>
                  </a:lnTo>
                  <a:lnTo>
                    <a:pt x="140" y="124"/>
                  </a:lnTo>
                  <a:lnTo>
                    <a:pt x="141" y="124"/>
                  </a:lnTo>
                  <a:lnTo>
                    <a:pt x="142" y="123"/>
                  </a:lnTo>
                  <a:lnTo>
                    <a:pt x="142" y="121"/>
                  </a:lnTo>
                  <a:lnTo>
                    <a:pt x="143" y="116"/>
                  </a:lnTo>
                  <a:lnTo>
                    <a:pt x="143" y="113"/>
                  </a:lnTo>
                  <a:lnTo>
                    <a:pt x="144" y="112"/>
                  </a:lnTo>
                  <a:lnTo>
                    <a:pt x="148" y="107"/>
                  </a:lnTo>
                  <a:lnTo>
                    <a:pt x="149" y="105"/>
                  </a:lnTo>
                  <a:lnTo>
                    <a:pt x="150" y="104"/>
                  </a:lnTo>
                  <a:lnTo>
                    <a:pt x="153" y="101"/>
                  </a:lnTo>
                  <a:lnTo>
                    <a:pt x="154" y="98"/>
                  </a:lnTo>
                  <a:lnTo>
                    <a:pt x="155" y="97"/>
                  </a:lnTo>
                  <a:lnTo>
                    <a:pt x="155" y="94"/>
                  </a:lnTo>
                  <a:lnTo>
                    <a:pt x="155" y="93"/>
                  </a:lnTo>
                  <a:lnTo>
                    <a:pt x="156" y="92"/>
                  </a:lnTo>
                  <a:lnTo>
                    <a:pt x="156" y="93"/>
                  </a:lnTo>
                  <a:lnTo>
                    <a:pt x="158" y="96"/>
                  </a:lnTo>
                  <a:lnTo>
                    <a:pt x="158" y="98"/>
                  </a:lnTo>
                  <a:lnTo>
                    <a:pt x="159" y="98"/>
                  </a:lnTo>
                  <a:lnTo>
                    <a:pt x="158" y="101"/>
                  </a:lnTo>
                  <a:lnTo>
                    <a:pt x="158" y="104"/>
                  </a:lnTo>
                  <a:lnTo>
                    <a:pt x="158" y="106"/>
                  </a:lnTo>
                  <a:lnTo>
                    <a:pt x="158" y="106"/>
                  </a:lnTo>
                  <a:lnTo>
                    <a:pt x="158" y="108"/>
                  </a:lnTo>
                  <a:lnTo>
                    <a:pt x="156" y="112"/>
                  </a:lnTo>
                  <a:lnTo>
                    <a:pt x="156" y="114"/>
                  </a:lnTo>
                  <a:lnTo>
                    <a:pt x="158" y="114"/>
                  </a:lnTo>
                  <a:lnTo>
                    <a:pt x="158" y="113"/>
                  </a:lnTo>
                  <a:lnTo>
                    <a:pt x="159" y="108"/>
                  </a:lnTo>
                  <a:lnTo>
                    <a:pt x="159" y="105"/>
                  </a:lnTo>
                  <a:lnTo>
                    <a:pt x="160" y="104"/>
                  </a:lnTo>
                  <a:lnTo>
                    <a:pt x="159" y="101"/>
                  </a:lnTo>
                  <a:lnTo>
                    <a:pt x="159" y="100"/>
                  </a:lnTo>
                  <a:lnTo>
                    <a:pt x="160" y="98"/>
                  </a:lnTo>
                  <a:lnTo>
                    <a:pt x="160" y="96"/>
                  </a:lnTo>
                  <a:lnTo>
                    <a:pt x="159" y="90"/>
                  </a:lnTo>
                  <a:lnTo>
                    <a:pt x="159" y="85"/>
                  </a:lnTo>
                  <a:lnTo>
                    <a:pt x="160" y="84"/>
                  </a:lnTo>
                  <a:lnTo>
                    <a:pt x="160" y="82"/>
                  </a:lnTo>
                  <a:lnTo>
                    <a:pt x="161" y="74"/>
                  </a:lnTo>
                  <a:lnTo>
                    <a:pt x="161" y="69"/>
                  </a:lnTo>
                  <a:lnTo>
                    <a:pt x="162" y="68"/>
                  </a:lnTo>
                  <a:lnTo>
                    <a:pt x="162" y="67"/>
                  </a:lnTo>
                  <a:lnTo>
                    <a:pt x="163" y="63"/>
                  </a:lnTo>
                  <a:lnTo>
                    <a:pt x="164" y="60"/>
                  </a:lnTo>
                  <a:lnTo>
                    <a:pt x="165" y="59"/>
                  </a:lnTo>
                  <a:lnTo>
                    <a:pt x="165" y="58"/>
                  </a:lnTo>
                  <a:lnTo>
                    <a:pt x="164" y="55"/>
                  </a:lnTo>
                  <a:lnTo>
                    <a:pt x="164" y="51"/>
                  </a:lnTo>
                  <a:lnTo>
                    <a:pt x="165" y="50"/>
                  </a:lnTo>
                  <a:lnTo>
                    <a:pt x="165" y="48"/>
                  </a:lnTo>
                  <a:lnTo>
                    <a:pt x="164" y="39"/>
                  </a:lnTo>
                  <a:lnTo>
                    <a:pt x="164" y="33"/>
                  </a:lnTo>
                  <a:lnTo>
                    <a:pt x="165" y="32"/>
                  </a:lnTo>
                  <a:lnTo>
                    <a:pt x="164" y="31"/>
                  </a:lnTo>
                  <a:lnTo>
                    <a:pt x="161" y="26"/>
                  </a:lnTo>
                  <a:lnTo>
                    <a:pt x="159" y="23"/>
                  </a:lnTo>
                  <a:lnTo>
                    <a:pt x="159" y="22"/>
                  </a:lnTo>
                  <a:lnTo>
                    <a:pt x="154" y="20"/>
                  </a:lnTo>
                  <a:lnTo>
                    <a:pt x="152" y="19"/>
                  </a:lnTo>
                  <a:lnTo>
                    <a:pt x="152" y="18"/>
                  </a:lnTo>
                  <a:lnTo>
                    <a:pt x="151" y="19"/>
                  </a:lnTo>
                  <a:lnTo>
                    <a:pt x="149" y="23"/>
                  </a:lnTo>
                  <a:lnTo>
                    <a:pt x="148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3" y="25"/>
                  </a:lnTo>
                  <a:lnTo>
                    <a:pt x="142" y="25"/>
                  </a:lnTo>
                  <a:lnTo>
                    <a:pt x="142" y="24"/>
                  </a:lnTo>
                  <a:lnTo>
                    <a:pt x="138" y="22"/>
                  </a:lnTo>
                  <a:lnTo>
                    <a:pt x="137" y="21"/>
                  </a:lnTo>
                  <a:lnTo>
                    <a:pt x="137" y="20"/>
                  </a:lnTo>
                  <a:lnTo>
                    <a:pt x="136" y="21"/>
                  </a:lnTo>
                  <a:lnTo>
                    <a:pt x="135" y="22"/>
                  </a:lnTo>
                  <a:lnTo>
                    <a:pt x="130" y="26"/>
                  </a:lnTo>
                  <a:lnTo>
                    <a:pt x="127" y="30"/>
                  </a:lnTo>
                  <a:lnTo>
                    <a:pt x="127" y="30"/>
                  </a:lnTo>
                  <a:lnTo>
                    <a:pt x="126" y="30"/>
                  </a:lnTo>
                  <a:lnTo>
                    <a:pt x="125" y="30"/>
                  </a:lnTo>
                  <a:lnTo>
                    <a:pt x="120" y="30"/>
                  </a:lnTo>
                  <a:lnTo>
                    <a:pt x="117" y="30"/>
                  </a:lnTo>
                  <a:lnTo>
                    <a:pt x="117" y="30"/>
                  </a:lnTo>
                  <a:lnTo>
                    <a:pt x="116" y="30"/>
                  </a:lnTo>
                  <a:lnTo>
                    <a:pt x="115" y="30"/>
                  </a:lnTo>
                  <a:lnTo>
                    <a:pt x="112" y="30"/>
                  </a:lnTo>
                  <a:lnTo>
                    <a:pt x="108" y="30"/>
                  </a:lnTo>
                  <a:lnTo>
                    <a:pt x="108" y="28"/>
                  </a:lnTo>
                  <a:lnTo>
                    <a:pt x="106" y="30"/>
                  </a:lnTo>
                  <a:lnTo>
                    <a:pt x="103" y="31"/>
                  </a:lnTo>
                  <a:lnTo>
                    <a:pt x="100" y="32"/>
                  </a:lnTo>
                  <a:lnTo>
                    <a:pt x="100" y="32"/>
                  </a:lnTo>
                  <a:lnTo>
                    <a:pt x="95" y="34"/>
                  </a:lnTo>
                  <a:lnTo>
                    <a:pt x="93" y="34"/>
                  </a:lnTo>
                  <a:lnTo>
                    <a:pt x="93" y="34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9" y="36"/>
                  </a:lnTo>
                  <a:lnTo>
                    <a:pt x="88" y="36"/>
                  </a:lnTo>
                  <a:lnTo>
                    <a:pt x="85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3" y="36"/>
                  </a:lnTo>
                  <a:lnTo>
                    <a:pt x="81" y="36"/>
                  </a:lnTo>
                  <a:lnTo>
                    <a:pt x="73" y="35"/>
                  </a:lnTo>
                  <a:lnTo>
                    <a:pt x="68" y="34"/>
                  </a:lnTo>
                  <a:lnTo>
                    <a:pt x="68" y="33"/>
                  </a:lnTo>
                  <a:lnTo>
                    <a:pt x="67" y="33"/>
                  </a:lnTo>
                  <a:lnTo>
                    <a:pt x="66" y="33"/>
                  </a:lnTo>
                  <a:lnTo>
                    <a:pt x="61" y="32"/>
                  </a:lnTo>
                  <a:lnTo>
                    <a:pt x="58" y="32"/>
                  </a:lnTo>
                  <a:lnTo>
                    <a:pt x="58" y="31"/>
                  </a:lnTo>
                  <a:lnTo>
                    <a:pt x="56" y="30"/>
                  </a:lnTo>
                  <a:lnTo>
                    <a:pt x="53" y="26"/>
                  </a:lnTo>
                  <a:lnTo>
                    <a:pt x="49" y="23"/>
                  </a:lnTo>
                  <a:lnTo>
                    <a:pt x="49" y="22"/>
                  </a:lnTo>
                  <a:lnTo>
                    <a:pt x="47" y="21"/>
                  </a:lnTo>
                  <a:lnTo>
                    <a:pt x="43" y="18"/>
                  </a:lnTo>
                  <a:lnTo>
                    <a:pt x="39" y="15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9" y="9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2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2054160" y="3576600"/>
            <a:ext cx="341280" cy="695520"/>
          </a:xfrm>
          <a:custGeom>
            <a:avLst/>
            <a:gdLst/>
            <a:ahLst/>
            <a:rect l="l" t="t" r="r" b="b"/>
            <a:pathLst>
              <a:path w="1192" h="2542">
                <a:moveTo>
                  <a:pt x="845" y="2449"/>
                </a:moveTo>
                <a:lnTo>
                  <a:pt x="848" y="2439"/>
                </a:lnTo>
                <a:lnTo>
                  <a:pt x="855" y="2419"/>
                </a:lnTo>
                <a:lnTo>
                  <a:pt x="869" y="2380"/>
                </a:lnTo>
                <a:lnTo>
                  <a:pt x="874" y="2338"/>
                </a:lnTo>
                <a:lnTo>
                  <a:pt x="872" y="2326"/>
                </a:lnTo>
                <a:lnTo>
                  <a:pt x="865" y="2330"/>
                </a:lnTo>
                <a:lnTo>
                  <a:pt x="850" y="2335"/>
                </a:lnTo>
                <a:lnTo>
                  <a:pt x="837" y="2338"/>
                </a:lnTo>
                <a:lnTo>
                  <a:pt x="811" y="2345"/>
                </a:lnTo>
                <a:lnTo>
                  <a:pt x="795" y="2361"/>
                </a:lnTo>
                <a:lnTo>
                  <a:pt x="798" y="2352"/>
                </a:lnTo>
                <a:lnTo>
                  <a:pt x="808" y="2336"/>
                </a:lnTo>
                <a:lnTo>
                  <a:pt x="821" y="2322"/>
                </a:lnTo>
                <a:lnTo>
                  <a:pt x="850" y="2297"/>
                </a:lnTo>
                <a:lnTo>
                  <a:pt x="871" y="2274"/>
                </a:lnTo>
                <a:lnTo>
                  <a:pt x="869" y="2271"/>
                </a:lnTo>
                <a:lnTo>
                  <a:pt x="868" y="2268"/>
                </a:lnTo>
                <a:lnTo>
                  <a:pt x="866" y="2264"/>
                </a:lnTo>
                <a:lnTo>
                  <a:pt x="863" y="2255"/>
                </a:lnTo>
                <a:lnTo>
                  <a:pt x="865" y="2249"/>
                </a:lnTo>
                <a:lnTo>
                  <a:pt x="861" y="2251"/>
                </a:lnTo>
                <a:lnTo>
                  <a:pt x="858" y="2249"/>
                </a:lnTo>
                <a:lnTo>
                  <a:pt x="855" y="2248"/>
                </a:lnTo>
                <a:lnTo>
                  <a:pt x="852" y="2246"/>
                </a:lnTo>
                <a:lnTo>
                  <a:pt x="848" y="2242"/>
                </a:lnTo>
                <a:lnTo>
                  <a:pt x="842" y="2239"/>
                </a:lnTo>
                <a:lnTo>
                  <a:pt x="836" y="2238"/>
                </a:lnTo>
                <a:lnTo>
                  <a:pt x="830" y="2240"/>
                </a:lnTo>
                <a:lnTo>
                  <a:pt x="830" y="2240"/>
                </a:lnTo>
                <a:lnTo>
                  <a:pt x="832" y="2238"/>
                </a:lnTo>
                <a:lnTo>
                  <a:pt x="832" y="2236"/>
                </a:lnTo>
                <a:lnTo>
                  <a:pt x="830" y="2233"/>
                </a:lnTo>
                <a:lnTo>
                  <a:pt x="827" y="2232"/>
                </a:lnTo>
                <a:lnTo>
                  <a:pt x="824" y="2230"/>
                </a:lnTo>
                <a:lnTo>
                  <a:pt x="819" y="2227"/>
                </a:lnTo>
                <a:lnTo>
                  <a:pt x="817" y="2220"/>
                </a:lnTo>
                <a:lnTo>
                  <a:pt x="821" y="2216"/>
                </a:lnTo>
                <a:lnTo>
                  <a:pt x="823" y="2216"/>
                </a:lnTo>
                <a:lnTo>
                  <a:pt x="824" y="2216"/>
                </a:lnTo>
                <a:lnTo>
                  <a:pt x="829" y="2216"/>
                </a:lnTo>
                <a:lnTo>
                  <a:pt x="833" y="2214"/>
                </a:lnTo>
                <a:lnTo>
                  <a:pt x="836" y="2213"/>
                </a:lnTo>
                <a:lnTo>
                  <a:pt x="842" y="2200"/>
                </a:lnTo>
                <a:lnTo>
                  <a:pt x="848" y="2172"/>
                </a:lnTo>
                <a:lnTo>
                  <a:pt x="846" y="2143"/>
                </a:lnTo>
                <a:lnTo>
                  <a:pt x="840" y="2117"/>
                </a:lnTo>
                <a:lnTo>
                  <a:pt x="829" y="2091"/>
                </a:lnTo>
                <a:lnTo>
                  <a:pt x="813" y="2070"/>
                </a:lnTo>
                <a:lnTo>
                  <a:pt x="804" y="2058"/>
                </a:lnTo>
                <a:lnTo>
                  <a:pt x="803" y="2062"/>
                </a:lnTo>
                <a:lnTo>
                  <a:pt x="800" y="2070"/>
                </a:lnTo>
                <a:lnTo>
                  <a:pt x="791" y="2083"/>
                </a:lnTo>
                <a:lnTo>
                  <a:pt x="781" y="2091"/>
                </a:lnTo>
                <a:lnTo>
                  <a:pt x="778" y="2093"/>
                </a:lnTo>
                <a:lnTo>
                  <a:pt x="779" y="2081"/>
                </a:lnTo>
                <a:lnTo>
                  <a:pt x="784" y="2056"/>
                </a:lnTo>
                <a:lnTo>
                  <a:pt x="788" y="2007"/>
                </a:lnTo>
                <a:lnTo>
                  <a:pt x="785" y="1959"/>
                </a:lnTo>
                <a:lnTo>
                  <a:pt x="784" y="1946"/>
                </a:lnTo>
                <a:lnTo>
                  <a:pt x="781" y="1943"/>
                </a:lnTo>
                <a:lnTo>
                  <a:pt x="777" y="1936"/>
                </a:lnTo>
                <a:lnTo>
                  <a:pt x="771" y="1930"/>
                </a:lnTo>
                <a:lnTo>
                  <a:pt x="759" y="1916"/>
                </a:lnTo>
                <a:lnTo>
                  <a:pt x="753" y="1903"/>
                </a:lnTo>
                <a:lnTo>
                  <a:pt x="749" y="1890"/>
                </a:lnTo>
                <a:lnTo>
                  <a:pt x="743" y="1862"/>
                </a:lnTo>
                <a:lnTo>
                  <a:pt x="737" y="1807"/>
                </a:lnTo>
                <a:lnTo>
                  <a:pt x="732" y="1752"/>
                </a:lnTo>
                <a:lnTo>
                  <a:pt x="729" y="1738"/>
                </a:lnTo>
                <a:lnTo>
                  <a:pt x="727" y="1733"/>
                </a:lnTo>
                <a:lnTo>
                  <a:pt x="727" y="1722"/>
                </a:lnTo>
                <a:lnTo>
                  <a:pt x="729" y="1710"/>
                </a:lnTo>
                <a:lnTo>
                  <a:pt x="736" y="1687"/>
                </a:lnTo>
                <a:lnTo>
                  <a:pt x="743" y="1670"/>
                </a:lnTo>
                <a:lnTo>
                  <a:pt x="737" y="1672"/>
                </a:lnTo>
                <a:lnTo>
                  <a:pt x="727" y="1675"/>
                </a:lnTo>
                <a:lnTo>
                  <a:pt x="708" y="1681"/>
                </a:lnTo>
                <a:lnTo>
                  <a:pt x="698" y="1681"/>
                </a:lnTo>
                <a:lnTo>
                  <a:pt x="688" y="1678"/>
                </a:lnTo>
                <a:lnTo>
                  <a:pt x="684" y="1675"/>
                </a:lnTo>
                <a:lnTo>
                  <a:pt x="675" y="1670"/>
                </a:lnTo>
                <a:lnTo>
                  <a:pt x="664" y="1654"/>
                </a:lnTo>
                <a:lnTo>
                  <a:pt x="658" y="1636"/>
                </a:lnTo>
                <a:lnTo>
                  <a:pt x="658" y="1617"/>
                </a:lnTo>
                <a:lnTo>
                  <a:pt x="664" y="1600"/>
                </a:lnTo>
                <a:lnTo>
                  <a:pt x="675" y="1583"/>
                </a:lnTo>
                <a:lnTo>
                  <a:pt x="682" y="1574"/>
                </a:lnTo>
                <a:lnTo>
                  <a:pt x="681" y="1578"/>
                </a:lnTo>
                <a:lnTo>
                  <a:pt x="677" y="1586"/>
                </a:lnTo>
                <a:lnTo>
                  <a:pt x="671" y="1590"/>
                </a:lnTo>
                <a:lnTo>
                  <a:pt x="665" y="1593"/>
                </a:lnTo>
                <a:lnTo>
                  <a:pt x="658" y="1593"/>
                </a:lnTo>
                <a:lnTo>
                  <a:pt x="652" y="1591"/>
                </a:lnTo>
                <a:lnTo>
                  <a:pt x="649" y="1588"/>
                </a:lnTo>
                <a:lnTo>
                  <a:pt x="646" y="1587"/>
                </a:lnTo>
                <a:lnTo>
                  <a:pt x="643" y="1584"/>
                </a:lnTo>
                <a:lnTo>
                  <a:pt x="642" y="1581"/>
                </a:lnTo>
                <a:lnTo>
                  <a:pt x="640" y="1574"/>
                </a:lnTo>
                <a:lnTo>
                  <a:pt x="639" y="1567"/>
                </a:lnTo>
                <a:lnTo>
                  <a:pt x="636" y="1559"/>
                </a:lnTo>
                <a:lnTo>
                  <a:pt x="632" y="1552"/>
                </a:lnTo>
                <a:lnTo>
                  <a:pt x="630" y="1548"/>
                </a:lnTo>
                <a:lnTo>
                  <a:pt x="632" y="1552"/>
                </a:lnTo>
                <a:lnTo>
                  <a:pt x="636" y="1561"/>
                </a:lnTo>
                <a:lnTo>
                  <a:pt x="645" y="1578"/>
                </a:lnTo>
                <a:lnTo>
                  <a:pt x="648" y="1587"/>
                </a:lnTo>
                <a:lnTo>
                  <a:pt x="646" y="1596"/>
                </a:lnTo>
                <a:lnTo>
                  <a:pt x="645" y="1599"/>
                </a:lnTo>
                <a:lnTo>
                  <a:pt x="640" y="1604"/>
                </a:lnTo>
                <a:lnTo>
                  <a:pt x="635" y="1615"/>
                </a:lnTo>
                <a:lnTo>
                  <a:pt x="624" y="1633"/>
                </a:lnTo>
                <a:lnTo>
                  <a:pt x="620" y="1654"/>
                </a:lnTo>
                <a:lnTo>
                  <a:pt x="621" y="1659"/>
                </a:lnTo>
                <a:lnTo>
                  <a:pt x="611" y="1662"/>
                </a:lnTo>
                <a:lnTo>
                  <a:pt x="604" y="1665"/>
                </a:lnTo>
                <a:lnTo>
                  <a:pt x="588" y="1674"/>
                </a:lnTo>
                <a:lnTo>
                  <a:pt x="574" y="1686"/>
                </a:lnTo>
                <a:lnTo>
                  <a:pt x="561" y="1694"/>
                </a:lnTo>
                <a:lnTo>
                  <a:pt x="545" y="1699"/>
                </a:lnTo>
                <a:lnTo>
                  <a:pt x="527" y="1694"/>
                </a:lnTo>
                <a:lnTo>
                  <a:pt x="527" y="1694"/>
                </a:lnTo>
                <a:lnTo>
                  <a:pt x="526" y="1693"/>
                </a:lnTo>
                <a:lnTo>
                  <a:pt x="526" y="1691"/>
                </a:lnTo>
                <a:lnTo>
                  <a:pt x="526" y="1690"/>
                </a:lnTo>
                <a:lnTo>
                  <a:pt x="526" y="1686"/>
                </a:lnTo>
                <a:lnTo>
                  <a:pt x="526" y="1681"/>
                </a:lnTo>
                <a:lnTo>
                  <a:pt x="526" y="1680"/>
                </a:lnTo>
                <a:lnTo>
                  <a:pt x="520" y="1680"/>
                </a:lnTo>
                <a:lnTo>
                  <a:pt x="519" y="1681"/>
                </a:lnTo>
                <a:lnTo>
                  <a:pt x="517" y="1683"/>
                </a:lnTo>
                <a:lnTo>
                  <a:pt x="516" y="1686"/>
                </a:lnTo>
                <a:lnTo>
                  <a:pt x="513" y="1690"/>
                </a:lnTo>
                <a:lnTo>
                  <a:pt x="503" y="1696"/>
                </a:lnTo>
                <a:lnTo>
                  <a:pt x="500" y="1694"/>
                </a:lnTo>
                <a:lnTo>
                  <a:pt x="498" y="1700"/>
                </a:lnTo>
                <a:lnTo>
                  <a:pt x="495" y="1710"/>
                </a:lnTo>
                <a:lnTo>
                  <a:pt x="493" y="1730"/>
                </a:lnTo>
                <a:lnTo>
                  <a:pt x="491" y="1751"/>
                </a:lnTo>
                <a:lnTo>
                  <a:pt x="491" y="1755"/>
                </a:lnTo>
                <a:lnTo>
                  <a:pt x="490" y="1759"/>
                </a:lnTo>
                <a:lnTo>
                  <a:pt x="488" y="1761"/>
                </a:lnTo>
                <a:lnTo>
                  <a:pt x="487" y="1762"/>
                </a:lnTo>
                <a:lnTo>
                  <a:pt x="485" y="1764"/>
                </a:lnTo>
                <a:lnTo>
                  <a:pt x="482" y="1765"/>
                </a:lnTo>
                <a:lnTo>
                  <a:pt x="477" y="1765"/>
                </a:lnTo>
                <a:lnTo>
                  <a:pt x="466" y="1771"/>
                </a:lnTo>
                <a:lnTo>
                  <a:pt x="466" y="1772"/>
                </a:lnTo>
                <a:lnTo>
                  <a:pt x="466" y="1770"/>
                </a:lnTo>
                <a:lnTo>
                  <a:pt x="466" y="1767"/>
                </a:lnTo>
                <a:lnTo>
                  <a:pt x="466" y="1764"/>
                </a:lnTo>
                <a:lnTo>
                  <a:pt x="464" y="1762"/>
                </a:lnTo>
                <a:lnTo>
                  <a:pt x="462" y="1761"/>
                </a:lnTo>
                <a:lnTo>
                  <a:pt x="459" y="1759"/>
                </a:lnTo>
                <a:lnTo>
                  <a:pt x="453" y="1757"/>
                </a:lnTo>
                <a:lnTo>
                  <a:pt x="448" y="1746"/>
                </a:lnTo>
                <a:lnTo>
                  <a:pt x="449" y="1746"/>
                </a:lnTo>
                <a:lnTo>
                  <a:pt x="445" y="1749"/>
                </a:lnTo>
                <a:lnTo>
                  <a:pt x="440" y="1751"/>
                </a:lnTo>
                <a:lnTo>
                  <a:pt x="437" y="1755"/>
                </a:lnTo>
                <a:lnTo>
                  <a:pt x="432" y="1762"/>
                </a:lnTo>
                <a:lnTo>
                  <a:pt x="426" y="1770"/>
                </a:lnTo>
                <a:lnTo>
                  <a:pt x="420" y="1774"/>
                </a:lnTo>
                <a:lnTo>
                  <a:pt x="410" y="1775"/>
                </a:lnTo>
                <a:lnTo>
                  <a:pt x="406" y="1772"/>
                </a:lnTo>
                <a:lnTo>
                  <a:pt x="400" y="1771"/>
                </a:lnTo>
                <a:lnTo>
                  <a:pt x="398" y="1768"/>
                </a:lnTo>
                <a:lnTo>
                  <a:pt x="395" y="1765"/>
                </a:lnTo>
                <a:lnTo>
                  <a:pt x="395" y="1762"/>
                </a:lnTo>
                <a:lnTo>
                  <a:pt x="397" y="1758"/>
                </a:lnTo>
                <a:lnTo>
                  <a:pt x="398" y="1755"/>
                </a:lnTo>
                <a:lnTo>
                  <a:pt x="400" y="1752"/>
                </a:lnTo>
                <a:lnTo>
                  <a:pt x="403" y="1746"/>
                </a:lnTo>
                <a:lnTo>
                  <a:pt x="409" y="1735"/>
                </a:lnTo>
                <a:lnTo>
                  <a:pt x="419" y="1723"/>
                </a:lnTo>
                <a:lnTo>
                  <a:pt x="423" y="1720"/>
                </a:lnTo>
                <a:lnTo>
                  <a:pt x="416" y="1725"/>
                </a:lnTo>
                <a:lnTo>
                  <a:pt x="404" y="1732"/>
                </a:lnTo>
                <a:lnTo>
                  <a:pt x="378" y="1741"/>
                </a:lnTo>
                <a:lnTo>
                  <a:pt x="352" y="1746"/>
                </a:lnTo>
                <a:lnTo>
                  <a:pt x="346" y="1746"/>
                </a:lnTo>
                <a:lnTo>
                  <a:pt x="346" y="1743"/>
                </a:lnTo>
                <a:lnTo>
                  <a:pt x="345" y="1736"/>
                </a:lnTo>
                <a:lnTo>
                  <a:pt x="343" y="1722"/>
                </a:lnTo>
                <a:lnTo>
                  <a:pt x="346" y="1715"/>
                </a:lnTo>
                <a:lnTo>
                  <a:pt x="351" y="1709"/>
                </a:lnTo>
                <a:lnTo>
                  <a:pt x="355" y="1704"/>
                </a:lnTo>
                <a:lnTo>
                  <a:pt x="349" y="1707"/>
                </a:lnTo>
                <a:lnTo>
                  <a:pt x="340" y="1713"/>
                </a:lnTo>
                <a:lnTo>
                  <a:pt x="332" y="1720"/>
                </a:lnTo>
                <a:lnTo>
                  <a:pt x="319" y="1735"/>
                </a:lnTo>
                <a:lnTo>
                  <a:pt x="310" y="1743"/>
                </a:lnTo>
                <a:lnTo>
                  <a:pt x="303" y="1748"/>
                </a:lnTo>
                <a:lnTo>
                  <a:pt x="296" y="1749"/>
                </a:lnTo>
                <a:lnTo>
                  <a:pt x="291" y="1749"/>
                </a:lnTo>
                <a:lnTo>
                  <a:pt x="285" y="1748"/>
                </a:lnTo>
                <a:lnTo>
                  <a:pt x="281" y="1745"/>
                </a:lnTo>
                <a:lnTo>
                  <a:pt x="278" y="1741"/>
                </a:lnTo>
                <a:lnTo>
                  <a:pt x="275" y="1735"/>
                </a:lnTo>
                <a:lnTo>
                  <a:pt x="274" y="1730"/>
                </a:lnTo>
                <a:lnTo>
                  <a:pt x="274" y="1717"/>
                </a:lnTo>
                <a:lnTo>
                  <a:pt x="277" y="1706"/>
                </a:lnTo>
                <a:lnTo>
                  <a:pt x="278" y="1706"/>
                </a:lnTo>
                <a:lnTo>
                  <a:pt x="280" y="1701"/>
                </a:lnTo>
                <a:lnTo>
                  <a:pt x="284" y="1693"/>
                </a:lnTo>
                <a:lnTo>
                  <a:pt x="290" y="1674"/>
                </a:lnTo>
                <a:lnTo>
                  <a:pt x="296" y="1657"/>
                </a:lnTo>
                <a:lnTo>
                  <a:pt x="298" y="1651"/>
                </a:lnTo>
                <a:lnTo>
                  <a:pt x="298" y="1648"/>
                </a:lnTo>
                <a:lnTo>
                  <a:pt x="298" y="1645"/>
                </a:lnTo>
                <a:lnTo>
                  <a:pt x="298" y="1641"/>
                </a:lnTo>
                <a:lnTo>
                  <a:pt x="296" y="1632"/>
                </a:lnTo>
                <a:lnTo>
                  <a:pt x="293" y="1613"/>
                </a:lnTo>
                <a:lnTo>
                  <a:pt x="296" y="1600"/>
                </a:lnTo>
                <a:lnTo>
                  <a:pt x="304" y="1584"/>
                </a:lnTo>
                <a:lnTo>
                  <a:pt x="314" y="1549"/>
                </a:lnTo>
                <a:lnTo>
                  <a:pt x="316" y="1516"/>
                </a:lnTo>
                <a:lnTo>
                  <a:pt x="313" y="1484"/>
                </a:lnTo>
                <a:lnTo>
                  <a:pt x="293" y="1420"/>
                </a:lnTo>
                <a:lnTo>
                  <a:pt x="288" y="1403"/>
                </a:lnTo>
                <a:lnTo>
                  <a:pt x="285" y="1399"/>
                </a:lnTo>
                <a:lnTo>
                  <a:pt x="281" y="1388"/>
                </a:lnTo>
                <a:lnTo>
                  <a:pt x="271" y="1368"/>
                </a:lnTo>
                <a:lnTo>
                  <a:pt x="261" y="1346"/>
                </a:lnTo>
                <a:lnTo>
                  <a:pt x="259" y="1339"/>
                </a:lnTo>
                <a:lnTo>
                  <a:pt x="252" y="1344"/>
                </a:lnTo>
                <a:lnTo>
                  <a:pt x="242" y="1354"/>
                </a:lnTo>
                <a:lnTo>
                  <a:pt x="233" y="1365"/>
                </a:lnTo>
                <a:lnTo>
                  <a:pt x="216" y="1388"/>
                </a:lnTo>
                <a:lnTo>
                  <a:pt x="198" y="1400"/>
                </a:lnTo>
                <a:lnTo>
                  <a:pt x="197" y="1394"/>
                </a:lnTo>
                <a:lnTo>
                  <a:pt x="198" y="1383"/>
                </a:lnTo>
                <a:lnTo>
                  <a:pt x="203" y="1361"/>
                </a:lnTo>
                <a:lnTo>
                  <a:pt x="210" y="1338"/>
                </a:lnTo>
                <a:lnTo>
                  <a:pt x="213" y="1331"/>
                </a:lnTo>
                <a:lnTo>
                  <a:pt x="214" y="1322"/>
                </a:lnTo>
                <a:lnTo>
                  <a:pt x="214" y="1315"/>
                </a:lnTo>
                <a:lnTo>
                  <a:pt x="211" y="1307"/>
                </a:lnTo>
                <a:lnTo>
                  <a:pt x="210" y="1300"/>
                </a:lnTo>
                <a:lnTo>
                  <a:pt x="201" y="1288"/>
                </a:lnTo>
                <a:lnTo>
                  <a:pt x="194" y="1277"/>
                </a:lnTo>
                <a:lnTo>
                  <a:pt x="187" y="1262"/>
                </a:lnTo>
                <a:lnTo>
                  <a:pt x="184" y="1245"/>
                </a:lnTo>
                <a:lnTo>
                  <a:pt x="184" y="1245"/>
                </a:lnTo>
                <a:lnTo>
                  <a:pt x="182" y="1241"/>
                </a:lnTo>
                <a:lnTo>
                  <a:pt x="181" y="1236"/>
                </a:lnTo>
                <a:lnTo>
                  <a:pt x="180" y="1233"/>
                </a:lnTo>
                <a:lnTo>
                  <a:pt x="177" y="1231"/>
                </a:lnTo>
                <a:lnTo>
                  <a:pt x="174" y="1229"/>
                </a:lnTo>
                <a:lnTo>
                  <a:pt x="169" y="1228"/>
                </a:lnTo>
                <a:lnTo>
                  <a:pt x="161" y="1226"/>
                </a:lnTo>
                <a:lnTo>
                  <a:pt x="139" y="1222"/>
                </a:lnTo>
                <a:lnTo>
                  <a:pt x="139" y="1222"/>
                </a:lnTo>
                <a:lnTo>
                  <a:pt x="133" y="1222"/>
                </a:lnTo>
                <a:lnTo>
                  <a:pt x="129" y="1219"/>
                </a:lnTo>
                <a:lnTo>
                  <a:pt x="116" y="1209"/>
                </a:lnTo>
                <a:lnTo>
                  <a:pt x="103" y="1196"/>
                </a:lnTo>
                <a:lnTo>
                  <a:pt x="80" y="1157"/>
                </a:lnTo>
                <a:lnTo>
                  <a:pt x="72" y="1133"/>
                </a:lnTo>
                <a:lnTo>
                  <a:pt x="69" y="1128"/>
                </a:lnTo>
                <a:lnTo>
                  <a:pt x="65" y="1122"/>
                </a:lnTo>
                <a:lnTo>
                  <a:pt x="59" y="1118"/>
                </a:lnTo>
                <a:lnTo>
                  <a:pt x="52" y="1113"/>
                </a:lnTo>
                <a:lnTo>
                  <a:pt x="36" y="1107"/>
                </a:lnTo>
                <a:lnTo>
                  <a:pt x="22" y="1102"/>
                </a:lnTo>
                <a:lnTo>
                  <a:pt x="9" y="1094"/>
                </a:lnTo>
                <a:lnTo>
                  <a:pt x="4" y="1089"/>
                </a:lnTo>
                <a:lnTo>
                  <a:pt x="3" y="1080"/>
                </a:lnTo>
                <a:lnTo>
                  <a:pt x="3" y="1080"/>
                </a:lnTo>
                <a:lnTo>
                  <a:pt x="1" y="1071"/>
                </a:lnTo>
                <a:lnTo>
                  <a:pt x="0" y="1054"/>
                </a:lnTo>
                <a:lnTo>
                  <a:pt x="3" y="1038"/>
                </a:lnTo>
                <a:lnTo>
                  <a:pt x="10" y="1023"/>
                </a:lnTo>
                <a:lnTo>
                  <a:pt x="20" y="1012"/>
                </a:lnTo>
                <a:lnTo>
                  <a:pt x="38" y="1002"/>
                </a:lnTo>
                <a:lnTo>
                  <a:pt x="49" y="997"/>
                </a:lnTo>
                <a:lnTo>
                  <a:pt x="55" y="996"/>
                </a:lnTo>
                <a:lnTo>
                  <a:pt x="58" y="991"/>
                </a:lnTo>
                <a:lnTo>
                  <a:pt x="61" y="986"/>
                </a:lnTo>
                <a:lnTo>
                  <a:pt x="61" y="980"/>
                </a:lnTo>
                <a:lnTo>
                  <a:pt x="59" y="974"/>
                </a:lnTo>
                <a:lnTo>
                  <a:pt x="55" y="960"/>
                </a:lnTo>
                <a:lnTo>
                  <a:pt x="51" y="947"/>
                </a:lnTo>
                <a:lnTo>
                  <a:pt x="51" y="933"/>
                </a:lnTo>
                <a:lnTo>
                  <a:pt x="54" y="926"/>
                </a:lnTo>
                <a:lnTo>
                  <a:pt x="58" y="922"/>
                </a:lnTo>
                <a:lnTo>
                  <a:pt x="64" y="919"/>
                </a:lnTo>
                <a:lnTo>
                  <a:pt x="69" y="918"/>
                </a:lnTo>
                <a:lnTo>
                  <a:pt x="77" y="916"/>
                </a:lnTo>
                <a:lnTo>
                  <a:pt x="93" y="916"/>
                </a:lnTo>
                <a:lnTo>
                  <a:pt x="106" y="915"/>
                </a:lnTo>
                <a:lnTo>
                  <a:pt x="113" y="913"/>
                </a:lnTo>
                <a:lnTo>
                  <a:pt x="117" y="910"/>
                </a:lnTo>
                <a:lnTo>
                  <a:pt x="122" y="905"/>
                </a:lnTo>
                <a:lnTo>
                  <a:pt x="123" y="897"/>
                </a:lnTo>
                <a:lnTo>
                  <a:pt x="125" y="897"/>
                </a:lnTo>
                <a:lnTo>
                  <a:pt x="126" y="889"/>
                </a:lnTo>
                <a:lnTo>
                  <a:pt x="129" y="870"/>
                </a:lnTo>
                <a:lnTo>
                  <a:pt x="133" y="829"/>
                </a:lnTo>
                <a:lnTo>
                  <a:pt x="130" y="789"/>
                </a:lnTo>
                <a:lnTo>
                  <a:pt x="129" y="778"/>
                </a:lnTo>
                <a:lnTo>
                  <a:pt x="136" y="780"/>
                </a:lnTo>
                <a:lnTo>
                  <a:pt x="146" y="778"/>
                </a:lnTo>
                <a:lnTo>
                  <a:pt x="151" y="776"/>
                </a:lnTo>
                <a:lnTo>
                  <a:pt x="152" y="773"/>
                </a:lnTo>
                <a:lnTo>
                  <a:pt x="154" y="768"/>
                </a:lnTo>
                <a:lnTo>
                  <a:pt x="152" y="764"/>
                </a:lnTo>
                <a:lnTo>
                  <a:pt x="154" y="754"/>
                </a:lnTo>
                <a:lnTo>
                  <a:pt x="155" y="738"/>
                </a:lnTo>
                <a:lnTo>
                  <a:pt x="164" y="720"/>
                </a:lnTo>
                <a:lnTo>
                  <a:pt x="168" y="715"/>
                </a:lnTo>
                <a:lnTo>
                  <a:pt x="169" y="710"/>
                </a:lnTo>
                <a:lnTo>
                  <a:pt x="174" y="699"/>
                </a:lnTo>
                <a:lnTo>
                  <a:pt x="175" y="687"/>
                </a:lnTo>
                <a:lnTo>
                  <a:pt x="174" y="673"/>
                </a:lnTo>
                <a:lnTo>
                  <a:pt x="165" y="647"/>
                </a:lnTo>
                <a:lnTo>
                  <a:pt x="164" y="639"/>
                </a:lnTo>
                <a:lnTo>
                  <a:pt x="172" y="639"/>
                </a:lnTo>
                <a:lnTo>
                  <a:pt x="182" y="642"/>
                </a:lnTo>
                <a:lnTo>
                  <a:pt x="204" y="648"/>
                </a:lnTo>
                <a:lnTo>
                  <a:pt x="243" y="658"/>
                </a:lnTo>
                <a:lnTo>
                  <a:pt x="274" y="638"/>
                </a:lnTo>
                <a:lnTo>
                  <a:pt x="274" y="635"/>
                </a:lnTo>
                <a:lnTo>
                  <a:pt x="275" y="632"/>
                </a:lnTo>
                <a:lnTo>
                  <a:pt x="275" y="625"/>
                </a:lnTo>
                <a:lnTo>
                  <a:pt x="275" y="610"/>
                </a:lnTo>
                <a:lnTo>
                  <a:pt x="278" y="600"/>
                </a:lnTo>
                <a:lnTo>
                  <a:pt x="285" y="593"/>
                </a:lnTo>
                <a:lnTo>
                  <a:pt x="298" y="577"/>
                </a:lnTo>
                <a:lnTo>
                  <a:pt x="319" y="544"/>
                </a:lnTo>
                <a:lnTo>
                  <a:pt x="336" y="507"/>
                </a:lnTo>
                <a:lnTo>
                  <a:pt x="342" y="499"/>
                </a:lnTo>
                <a:lnTo>
                  <a:pt x="343" y="494"/>
                </a:lnTo>
                <a:lnTo>
                  <a:pt x="345" y="489"/>
                </a:lnTo>
                <a:lnTo>
                  <a:pt x="345" y="483"/>
                </a:lnTo>
                <a:lnTo>
                  <a:pt x="343" y="477"/>
                </a:lnTo>
                <a:lnTo>
                  <a:pt x="340" y="464"/>
                </a:lnTo>
                <a:lnTo>
                  <a:pt x="335" y="438"/>
                </a:lnTo>
                <a:lnTo>
                  <a:pt x="338" y="423"/>
                </a:lnTo>
                <a:lnTo>
                  <a:pt x="339" y="418"/>
                </a:lnTo>
                <a:lnTo>
                  <a:pt x="346" y="408"/>
                </a:lnTo>
                <a:lnTo>
                  <a:pt x="364" y="389"/>
                </a:lnTo>
                <a:lnTo>
                  <a:pt x="382" y="368"/>
                </a:lnTo>
                <a:lnTo>
                  <a:pt x="387" y="363"/>
                </a:lnTo>
                <a:lnTo>
                  <a:pt x="390" y="358"/>
                </a:lnTo>
                <a:lnTo>
                  <a:pt x="393" y="348"/>
                </a:lnTo>
                <a:lnTo>
                  <a:pt x="394" y="337"/>
                </a:lnTo>
                <a:lnTo>
                  <a:pt x="393" y="326"/>
                </a:lnTo>
                <a:lnTo>
                  <a:pt x="390" y="316"/>
                </a:lnTo>
                <a:lnTo>
                  <a:pt x="387" y="306"/>
                </a:lnTo>
                <a:lnTo>
                  <a:pt x="385" y="300"/>
                </a:lnTo>
                <a:lnTo>
                  <a:pt x="384" y="297"/>
                </a:lnTo>
                <a:lnTo>
                  <a:pt x="384" y="293"/>
                </a:lnTo>
                <a:lnTo>
                  <a:pt x="385" y="287"/>
                </a:lnTo>
                <a:lnTo>
                  <a:pt x="388" y="283"/>
                </a:lnTo>
                <a:lnTo>
                  <a:pt x="395" y="273"/>
                </a:lnTo>
                <a:lnTo>
                  <a:pt x="406" y="264"/>
                </a:lnTo>
                <a:lnTo>
                  <a:pt x="424" y="245"/>
                </a:lnTo>
                <a:lnTo>
                  <a:pt x="426" y="245"/>
                </a:lnTo>
                <a:lnTo>
                  <a:pt x="429" y="244"/>
                </a:lnTo>
                <a:lnTo>
                  <a:pt x="430" y="244"/>
                </a:lnTo>
                <a:lnTo>
                  <a:pt x="436" y="244"/>
                </a:lnTo>
                <a:lnTo>
                  <a:pt x="449" y="244"/>
                </a:lnTo>
                <a:lnTo>
                  <a:pt x="456" y="241"/>
                </a:lnTo>
                <a:lnTo>
                  <a:pt x="459" y="238"/>
                </a:lnTo>
                <a:lnTo>
                  <a:pt x="468" y="231"/>
                </a:lnTo>
                <a:lnTo>
                  <a:pt x="484" y="215"/>
                </a:lnTo>
                <a:lnTo>
                  <a:pt x="500" y="199"/>
                </a:lnTo>
                <a:lnTo>
                  <a:pt x="504" y="194"/>
                </a:lnTo>
                <a:lnTo>
                  <a:pt x="508" y="190"/>
                </a:lnTo>
                <a:lnTo>
                  <a:pt x="519" y="183"/>
                </a:lnTo>
                <a:lnTo>
                  <a:pt x="532" y="179"/>
                </a:lnTo>
                <a:lnTo>
                  <a:pt x="559" y="170"/>
                </a:lnTo>
                <a:lnTo>
                  <a:pt x="581" y="161"/>
                </a:lnTo>
                <a:lnTo>
                  <a:pt x="587" y="160"/>
                </a:lnTo>
                <a:lnTo>
                  <a:pt x="594" y="161"/>
                </a:lnTo>
                <a:lnTo>
                  <a:pt x="600" y="164"/>
                </a:lnTo>
                <a:lnTo>
                  <a:pt x="606" y="168"/>
                </a:lnTo>
                <a:lnTo>
                  <a:pt x="619" y="179"/>
                </a:lnTo>
                <a:lnTo>
                  <a:pt x="630" y="190"/>
                </a:lnTo>
                <a:lnTo>
                  <a:pt x="642" y="197"/>
                </a:lnTo>
                <a:lnTo>
                  <a:pt x="653" y="194"/>
                </a:lnTo>
                <a:lnTo>
                  <a:pt x="655" y="194"/>
                </a:lnTo>
                <a:lnTo>
                  <a:pt x="656" y="193"/>
                </a:lnTo>
                <a:lnTo>
                  <a:pt x="656" y="192"/>
                </a:lnTo>
                <a:lnTo>
                  <a:pt x="656" y="187"/>
                </a:lnTo>
                <a:lnTo>
                  <a:pt x="656" y="184"/>
                </a:lnTo>
                <a:lnTo>
                  <a:pt x="653" y="176"/>
                </a:lnTo>
                <a:lnTo>
                  <a:pt x="645" y="157"/>
                </a:lnTo>
                <a:lnTo>
                  <a:pt x="643" y="148"/>
                </a:lnTo>
                <a:lnTo>
                  <a:pt x="643" y="138"/>
                </a:lnTo>
                <a:lnTo>
                  <a:pt x="646" y="129"/>
                </a:lnTo>
                <a:lnTo>
                  <a:pt x="650" y="121"/>
                </a:lnTo>
                <a:lnTo>
                  <a:pt x="656" y="113"/>
                </a:lnTo>
                <a:lnTo>
                  <a:pt x="672" y="99"/>
                </a:lnTo>
                <a:lnTo>
                  <a:pt x="685" y="84"/>
                </a:lnTo>
                <a:lnTo>
                  <a:pt x="691" y="76"/>
                </a:lnTo>
                <a:lnTo>
                  <a:pt x="694" y="67"/>
                </a:lnTo>
                <a:lnTo>
                  <a:pt x="694" y="57"/>
                </a:lnTo>
                <a:lnTo>
                  <a:pt x="691" y="44"/>
                </a:lnTo>
                <a:lnTo>
                  <a:pt x="691" y="44"/>
                </a:lnTo>
                <a:lnTo>
                  <a:pt x="700" y="44"/>
                </a:lnTo>
                <a:lnTo>
                  <a:pt x="704" y="42"/>
                </a:lnTo>
                <a:lnTo>
                  <a:pt x="707" y="39"/>
                </a:lnTo>
                <a:lnTo>
                  <a:pt x="708" y="35"/>
                </a:lnTo>
                <a:lnTo>
                  <a:pt x="708" y="31"/>
                </a:lnTo>
                <a:lnTo>
                  <a:pt x="707" y="28"/>
                </a:lnTo>
                <a:lnTo>
                  <a:pt x="706" y="26"/>
                </a:lnTo>
                <a:lnTo>
                  <a:pt x="703" y="22"/>
                </a:lnTo>
                <a:lnTo>
                  <a:pt x="700" y="13"/>
                </a:lnTo>
                <a:lnTo>
                  <a:pt x="698" y="3"/>
                </a:lnTo>
                <a:lnTo>
                  <a:pt x="700" y="0"/>
                </a:lnTo>
                <a:lnTo>
                  <a:pt x="701" y="2"/>
                </a:lnTo>
                <a:lnTo>
                  <a:pt x="706" y="3"/>
                </a:lnTo>
                <a:lnTo>
                  <a:pt x="711" y="0"/>
                </a:lnTo>
                <a:lnTo>
                  <a:pt x="716" y="0"/>
                </a:lnTo>
                <a:lnTo>
                  <a:pt x="724" y="0"/>
                </a:lnTo>
                <a:lnTo>
                  <a:pt x="726" y="0"/>
                </a:lnTo>
                <a:lnTo>
                  <a:pt x="733" y="6"/>
                </a:lnTo>
                <a:lnTo>
                  <a:pt x="749" y="18"/>
                </a:lnTo>
                <a:lnTo>
                  <a:pt x="777" y="42"/>
                </a:lnTo>
                <a:lnTo>
                  <a:pt x="797" y="71"/>
                </a:lnTo>
                <a:lnTo>
                  <a:pt x="800" y="79"/>
                </a:lnTo>
                <a:lnTo>
                  <a:pt x="800" y="86"/>
                </a:lnTo>
                <a:lnTo>
                  <a:pt x="801" y="97"/>
                </a:lnTo>
                <a:lnTo>
                  <a:pt x="801" y="118"/>
                </a:lnTo>
                <a:lnTo>
                  <a:pt x="803" y="126"/>
                </a:lnTo>
                <a:lnTo>
                  <a:pt x="808" y="134"/>
                </a:lnTo>
                <a:lnTo>
                  <a:pt x="814" y="135"/>
                </a:lnTo>
                <a:lnTo>
                  <a:pt x="819" y="137"/>
                </a:lnTo>
                <a:lnTo>
                  <a:pt x="821" y="135"/>
                </a:lnTo>
                <a:lnTo>
                  <a:pt x="829" y="134"/>
                </a:lnTo>
                <a:lnTo>
                  <a:pt x="843" y="131"/>
                </a:lnTo>
                <a:lnTo>
                  <a:pt x="855" y="132"/>
                </a:lnTo>
                <a:lnTo>
                  <a:pt x="858" y="137"/>
                </a:lnTo>
                <a:lnTo>
                  <a:pt x="863" y="144"/>
                </a:lnTo>
                <a:lnTo>
                  <a:pt x="872" y="164"/>
                </a:lnTo>
                <a:lnTo>
                  <a:pt x="872" y="176"/>
                </a:lnTo>
                <a:lnTo>
                  <a:pt x="869" y="187"/>
                </a:lnTo>
                <a:lnTo>
                  <a:pt x="868" y="193"/>
                </a:lnTo>
                <a:lnTo>
                  <a:pt x="863" y="202"/>
                </a:lnTo>
                <a:lnTo>
                  <a:pt x="863" y="209"/>
                </a:lnTo>
                <a:lnTo>
                  <a:pt x="865" y="216"/>
                </a:lnTo>
                <a:lnTo>
                  <a:pt x="868" y="223"/>
                </a:lnTo>
                <a:lnTo>
                  <a:pt x="876" y="238"/>
                </a:lnTo>
                <a:lnTo>
                  <a:pt x="885" y="254"/>
                </a:lnTo>
                <a:lnTo>
                  <a:pt x="890" y="270"/>
                </a:lnTo>
                <a:lnTo>
                  <a:pt x="887" y="287"/>
                </a:lnTo>
                <a:lnTo>
                  <a:pt x="887" y="287"/>
                </a:lnTo>
                <a:lnTo>
                  <a:pt x="882" y="294"/>
                </a:lnTo>
                <a:lnTo>
                  <a:pt x="874" y="309"/>
                </a:lnTo>
                <a:lnTo>
                  <a:pt x="858" y="335"/>
                </a:lnTo>
                <a:lnTo>
                  <a:pt x="855" y="350"/>
                </a:lnTo>
                <a:lnTo>
                  <a:pt x="859" y="364"/>
                </a:lnTo>
                <a:lnTo>
                  <a:pt x="865" y="371"/>
                </a:lnTo>
                <a:lnTo>
                  <a:pt x="859" y="374"/>
                </a:lnTo>
                <a:lnTo>
                  <a:pt x="849" y="380"/>
                </a:lnTo>
                <a:lnTo>
                  <a:pt x="833" y="394"/>
                </a:lnTo>
                <a:lnTo>
                  <a:pt x="827" y="402"/>
                </a:lnTo>
                <a:lnTo>
                  <a:pt x="824" y="410"/>
                </a:lnTo>
                <a:lnTo>
                  <a:pt x="824" y="415"/>
                </a:lnTo>
                <a:lnTo>
                  <a:pt x="823" y="425"/>
                </a:lnTo>
                <a:lnTo>
                  <a:pt x="820" y="434"/>
                </a:lnTo>
                <a:lnTo>
                  <a:pt x="816" y="441"/>
                </a:lnTo>
                <a:lnTo>
                  <a:pt x="811" y="447"/>
                </a:lnTo>
                <a:lnTo>
                  <a:pt x="798" y="457"/>
                </a:lnTo>
                <a:lnTo>
                  <a:pt x="784" y="465"/>
                </a:lnTo>
                <a:lnTo>
                  <a:pt x="755" y="480"/>
                </a:lnTo>
                <a:lnTo>
                  <a:pt x="755" y="480"/>
                </a:lnTo>
                <a:lnTo>
                  <a:pt x="749" y="484"/>
                </a:lnTo>
                <a:lnTo>
                  <a:pt x="745" y="489"/>
                </a:lnTo>
                <a:lnTo>
                  <a:pt x="740" y="494"/>
                </a:lnTo>
                <a:lnTo>
                  <a:pt x="735" y="506"/>
                </a:lnTo>
                <a:lnTo>
                  <a:pt x="730" y="519"/>
                </a:lnTo>
                <a:lnTo>
                  <a:pt x="724" y="531"/>
                </a:lnTo>
                <a:lnTo>
                  <a:pt x="714" y="541"/>
                </a:lnTo>
                <a:lnTo>
                  <a:pt x="708" y="544"/>
                </a:lnTo>
                <a:lnTo>
                  <a:pt x="713" y="554"/>
                </a:lnTo>
                <a:lnTo>
                  <a:pt x="724" y="574"/>
                </a:lnTo>
                <a:lnTo>
                  <a:pt x="739" y="616"/>
                </a:lnTo>
                <a:lnTo>
                  <a:pt x="737" y="636"/>
                </a:lnTo>
                <a:lnTo>
                  <a:pt x="726" y="657"/>
                </a:lnTo>
                <a:lnTo>
                  <a:pt x="717" y="665"/>
                </a:lnTo>
                <a:lnTo>
                  <a:pt x="724" y="663"/>
                </a:lnTo>
                <a:lnTo>
                  <a:pt x="739" y="654"/>
                </a:lnTo>
                <a:lnTo>
                  <a:pt x="768" y="638"/>
                </a:lnTo>
                <a:lnTo>
                  <a:pt x="798" y="623"/>
                </a:lnTo>
                <a:lnTo>
                  <a:pt x="807" y="619"/>
                </a:lnTo>
                <a:lnTo>
                  <a:pt x="813" y="618"/>
                </a:lnTo>
                <a:lnTo>
                  <a:pt x="827" y="613"/>
                </a:lnTo>
                <a:lnTo>
                  <a:pt x="858" y="610"/>
                </a:lnTo>
                <a:lnTo>
                  <a:pt x="891" y="621"/>
                </a:lnTo>
                <a:lnTo>
                  <a:pt x="900" y="623"/>
                </a:lnTo>
                <a:lnTo>
                  <a:pt x="891" y="628"/>
                </a:lnTo>
                <a:lnTo>
                  <a:pt x="887" y="634"/>
                </a:lnTo>
                <a:lnTo>
                  <a:pt x="882" y="639"/>
                </a:lnTo>
                <a:lnTo>
                  <a:pt x="879" y="647"/>
                </a:lnTo>
                <a:lnTo>
                  <a:pt x="879" y="655"/>
                </a:lnTo>
                <a:lnTo>
                  <a:pt x="881" y="673"/>
                </a:lnTo>
                <a:lnTo>
                  <a:pt x="885" y="689"/>
                </a:lnTo>
                <a:lnTo>
                  <a:pt x="892" y="703"/>
                </a:lnTo>
                <a:lnTo>
                  <a:pt x="897" y="709"/>
                </a:lnTo>
                <a:lnTo>
                  <a:pt x="898" y="713"/>
                </a:lnTo>
                <a:lnTo>
                  <a:pt x="900" y="718"/>
                </a:lnTo>
                <a:lnTo>
                  <a:pt x="900" y="720"/>
                </a:lnTo>
                <a:lnTo>
                  <a:pt x="898" y="725"/>
                </a:lnTo>
                <a:lnTo>
                  <a:pt x="897" y="732"/>
                </a:lnTo>
                <a:lnTo>
                  <a:pt x="894" y="739"/>
                </a:lnTo>
                <a:lnTo>
                  <a:pt x="892" y="745"/>
                </a:lnTo>
                <a:lnTo>
                  <a:pt x="891" y="751"/>
                </a:lnTo>
                <a:lnTo>
                  <a:pt x="892" y="751"/>
                </a:lnTo>
                <a:lnTo>
                  <a:pt x="895" y="758"/>
                </a:lnTo>
                <a:lnTo>
                  <a:pt x="900" y="761"/>
                </a:lnTo>
                <a:lnTo>
                  <a:pt x="905" y="764"/>
                </a:lnTo>
                <a:lnTo>
                  <a:pt x="913" y="764"/>
                </a:lnTo>
                <a:lnTo>
                  <a:pt x="920" y="764"/>
                </a:lnTo>
                <a:lnTo>
                  <a:pt x="934" y="763"/>
                </a:lnTo>
                <a:lnTo>
                  <a:pt x="947" y="760"/>
                </a:lnTo>
                <a:lnTo>
                  <a:pt x="958" y="761"/>
                </a:lnTo>
                <a:lnTo>
                  <a:pt x="961" y="764"/>
                </a:lnTo>
                <a:lnTo>
                  <a:pt x="962" y="774"/>
                </a:lnTo>
                <a:lnTo>
                  <a:pt x="961" y="786"/>
                </a:lnTo>
                <a:lnTo>
                  <a:pt x="959" y="796"/>
                </a:lnTo>
                <a:lnTo>
                  <a:pt x="952" y="818"/>
                </a:lnTo>
                <a:lnTo>
                  <a:pt x="939" y="864"/>
                </a:lnTo>
                <a:lnTo>
                  <a:pt x="947" y="897"/>
                </a:lnTo>
                <a:lnTo>
                  <a:pt x="952" y="903"/>
                </a:lnTo>
                <a:lnTo>
                  <a:pt x="958" y="906"/>
                </a:lnTo>
                <a:lnTo>
                  <a:pt x="963" y="907"/>
                </a:lnTo>
                <a:lnTo>
                  <a:pt x="972" y="909"/>
                </a:lnTo>
                <a:lnTo>
                  <a:pt x="988" y="909"/>
                </a:lnTo>
                <a:lnTo>
                  <a:pt x="1005" y="907"/>
                </a:lnTo>
                <a:lnTo>
                  <a:pt x="1021" y="910"/>
                </a:lnTo>
                <a:lnTo>
                  <a:pt x="1027" y="915"/>
                </a:lnTo>
                <a:lnTo>
                  <a:pt x="1033" y="919"/>
                </a:lnTo>
                <a:lnTo>
                  <a:pt x="1034" y="919"/>
                </a:lnTo>
                <a:lnTo>
                  <a:pt x="1036" y="923"/>
                </a:lnTo>
                <a:lnTo>
                  <a:pt x="1037" y="926"/>
                </a:lnTo>
                <a:lnTo>
                  <a:pt x="1037" y="931"/>
                </a:lnTo>
                <a:lnTo>
                  <a:pt x="1037" y="935"/>
                </a:lnTo>
                <a:lnTo>
                  <a:pt x="1034" y="944"/>
                </a:lnTo>
                <a:lnTo>
                  <a:pt x="1030" y="952"/>
                </a:lnTo>
                <a:lnTo>
                  <a:pt x="1020" y="968"/>
                </a:lnTo>
                <a:lnTo>
                  <a:pt x="1020" y="968"/>
                </a:lnTo>
                <a:lnTo>
                  <a:pt x="1029" y="970"/>
                </a:lnTo>
                <a:lnTo>
                  <a:pt x="1034" y="973"/>
                </a:lnTo>
                <a:lnTo>
                  <a:pt x="1045" y="978"/>
                </a:lnTo>
                <a:lnTo>
                  <a:pt x="1053" y="981"/>
                </a:lnTo>
                <a:lnTo>
                  <a:pt x="1055" y="983"/>
                </a:lnTo>
                <a:lnTo>
                  <a:pt x="1055" y="984"/>
                </a:lnTo>
                <a:lnTo>
                  <a:pt x="1053" y="987"/>
                </a:lnTo>
                <a:lnTo>
                  <a:pt x="1052" y="989"/>
                </a:lnTo>
                <a:lnTo>
                  <a:pt x="1049" y="993"/>
                </a:lnTo>
                <a:lnTo>
                  <a:pt x="1045" y="1000"/>
                </a:lnTo>
                <a:lnTo>
                  <a:pt x="1046" y="1000"/>
                </a:lnTo>
                <a:lnTo>
                  <a:pt x="1058" y="1002"/>
                </a:lnTo>
                <a:lnTo>
                  <a:pt x="1082" y="999"/>
                </a:lnTo>
                <a:lnTo>
                  <a:pt x="1107" y="991"/>
                </a:lnTo>
                <a:lnTo>
                  <a:pt x="1155" y="976"/>
                </a:lnTo>
                <a:lnTo>
                  <a:pt x="1192" y="968"/>
                </a:lnTo>
                <a:lnTo>
                  <a:pt x="1191" y="973"/>
                </a:lnTo>
                <a:lnTo>
                  <a:pt x="1188" y="978"/>
                </a:lnTo>
                <a:lnTo>
                  <a:pt x="1185" y="984"/>
                </a:lnTo>
                <a:lnTo>
                  <a:pt x="1182" y="993"/>
                </a:lnTo>
                <a:lnTo>
                  <a:pt x="1182" y="996"/>
                </a:lnTo>
                <a:lnTo>
                  <a:pt x="1181" y="996"/>
                </a:lnTo>
                <a:lnTo>
                  <a:pt x="1182" y="996"/>
                </a:lnTo>
                <a:lnTo>
                  <a:pt x="1181" y="996"/>
                </a:lnTo>
                <a:lnTo>
                  <a:pt x="1182" y="996"/>
                </a:lnTo>
                <a:lnTo>
                  <a:pt x="1178" y="997"/>
                </a:lnTo>
                <a:lnTo>
                  <a:pt x="1173" y="1000"/>
                </a:lnTo>
                <a:lnTo>
                  <a:pt x="1172" y="1002"/>
                </a:lnTo>
                <a:lnTo>
                  <a:pt x="1169" y="1007"/>
                </a:lnTo>
                <a:lnTo>
                  <a:pt x="1162" y="1013"/>
                </a:lnTo>
                <a:lnTo>
                  <a:pt x="1158" y="1010"/>
                </a:lnTo>
                <a:lnTo>
                  <a:pt x="1158" y="1016"/>
                </a:lnTo>
                <a:lnTo>
                  <a:pt x="1156" y="1022"/>
                </a:lnTo>
                <a:lnTo>
                  <a:pt x="1156" y="1028"/>
                </a:lnTo>
                <a:lnTo>
                  <a:pt x="1158" y="1029"/>
                </a:lnTo>
                <a:lnTo>
                  <a:pt x="1153" y="1029"/>
                </a:lnTo>
                <a:lnTo>
                  <a:pt x="1145" y="1029"/>
                </a:lnTo>
                <a:lnTo>
                  <a:pt x="1137" y="1032"/>
                </a:lnTo>
                <a:lnTo>
                  <a:pt x="1131" y="1036"/>
                </a:lnTo>
                <a:lnTo>
                  <a:pt x="1126" y="1042"/>
                </a:lnTo>
                <a:lnTo>
                  <a:pt x="1120" y="1047"/>
                </a:lnTo>
                <a:lnTo>
                  <a:pt x="1118" y="1048"/>
                </a:lnTo>
                <a:lnTo>
                  <a:pt x="1116" y="1051"/>
                </a:lnTo>
                <a:lnTo>
                  <a:pt x="1114" y="1054"/>
                </a:lnTo>
                <a:lnTo>
                  <a:pt x="1114" y="1057"/>
                </a:lnTo>
                <a:lnTo>
                  <a:pt x="1114" y="1060"/>
                </a:lnTo>
                <a:lnTo>
                  <a:pt x="1114" y="1068"/>
                </a:lnTo>
                <a:lnTo>
                  <a:pt x="1114" y="1083"/>
                </a:lnTo>
                <a:lnTo>
                  <a:pt x="1113" y="1087"/>
                </a:lnTo>
                <a:lnTo>
                  <a:pt x="1107" y="1091"/>
                </a:lnTo>
                <a:lnTo>
                  <a:pt x="1097" y="1099"/>
                </a:lnTo>
                <a:lnTo>
                  <a:pt x="1075" y="1112"/>
                </a:lnTo>
                <a:lnTo>
                  <a:pt x="1056" y="1123"/>
                </a:lnTo>
                <a:lnTo>
                  <a:pt x="1053" y="1126"/>
                </a:lnTo>
                <a:lnTo>
                  <a:pt x="1052" y="1126"/>
                </a:lnTo>
                <a:lnTo>
                  <a:pt x="1050" y="1126"/>
                </a:lnTo>
                <a:lnTo>
                  <a:pt x="1046" y="1126"/>
                </a:lnTo>
                <a:lnTo>
                  <a:pt x="1043" y="1126"/>
                </a:lnTo>
                <a:lnTo>
                  <a:pt x="1043" y="1126"/>
                </a:lnTo>
                <a:lnTo>
                  <a:pt x="1036" y="1126"/>
                </a:lnTo>
                <a:lnTo>
                  <a:pt x="1024" y="1128"/>
                </a:lnTo>
                <a:lnTo>
                  <a:pt x="1000" y="1131"/>
                </a:lnTo>
                <a:lnTo>
                  <a:pt x="975" y="1136"/>
                </a:lnTo>
                <a:lnTo>
                  <a:pt x="971" y="1138"/>
                </a:lnTo>
                <a:lnTo>
                  <a:pt x="968" y="1139"/>
                </a:lnTo>
                <a:lnTo>
                  <a:pt x="968" y="1142"/>
                </a:lnTo>
                <a:lnTo>
                  <a:pt x="968" y="1144"/>
                </a:lnTo>
                <a:lnTo>
                  <a:pt x="969" y="1146"/>
                </a:lnTo>
                <a:lnTo>
                  <a:pt x="974" y="1154"/>
                </a:lnTo>
                <a:lnTo>
                  <a:pt x="981" y="1168"/>
                </a:lnTo>
                <a:lnTo>
                  <a:pt x="982" y="1173"/>
                </a:lnTo>
                <a:lnTo>
                  <a:pt x="976" y="1180"/>
                </a:lnTo>
                <a:lnTo>
                  <a:pt x="971" y="1184"/>
                </a:lnTo>
                <a:lnTo>
                  <a:pt x="963" y="1186"/>
                </a:lnTo>
                <a:lnTo>
                  <a:pt x="956" y="1186"/>
                </a:lnTo>
                <a:lnTo>
                  <a:pt x="949" y="1184"/>
                </a:lnTo>
                <a:lnTo>
                  <a:pt x="933" y="1180"/>
                </a:lnTo>
                <a:lnTo>
                  <a:pt x="919" y="1177"/>
                </a:lnTo>
                <a:lnTo>
                  <a:pt x="913" y="1177"/>
                </a:lnTo>
                <a:lnTo>
                  <a:pt x="907" y="1178"/>
                </a:lnTo>
                <a:lnTo>
                  <a:pt x="904" y="1181"/>
                </a:lnTo>
                <a:lnTo>
                  <a:pt x="904" y="1181"/>
                </a:lnTo>
                <a:lnTo>
                  <a:pt x="901" y="1186"/>
                </a:lnTo>
                <a:lnTo>
                  <a:pt x="900" y="1190"/>
                </a:lnTo>
                <a:lnTo>
                  <a:pt x="898" y="1194"/>
                </a:lnTo>
                <a:lnTo>
                  <a:pt x="897" y="1206"/>
                </a:lnTo>
                <a:lnTo>
                  <a:pt x="894" y="1216"/>
                </a:lnTo>
                <a:lnTo>
                  <a:pt x="891" y="1225"/>
                </a:lnTo>
                <a:lnTo>
                  <a:pt x="885" y="1231"/>
                </a:lnTo>
                <a:lnTo>
                  <a:pt x="881" y="1231"/>
                </a:lnTo>
                <a:lnTo>
                  <a:pt x="869" y="1233"/>
                </a:lnTo>
                <a:lnTo>
                  <a:pt x="848" y="1233"/>
                </a:lnTo>
                <a:lnTo>
                  <a:pt x="804" y="1232"/>
                </a:lnTo>
                <a:lnTo>
                  <a:pt x="787" y="1233"/>
                </a:lnTo>
                <a:lnTo>
                  <a:pt x="779" y="1236"/>
                </a:lnTo>
                <a:lnTo>
                  <a:pt x="774" y="1242"/>
                </a:lnTo>
                <a:lnTo>
                  <a:pt x="771" y="1248"/>
                </a:lnTo>
                <a:lnTo>
                  <a:pt x="771" y="1248"/>
                </a:lnTo>
                <a:lnTo>
                  <a:pt x="768" y="1255"/>
                </a:lnTo>
                <a:lnTo>
                  <a:pt x="762" y="1268"/>
                </a:lnTo>
                <a:lnTo>
                  <a:pt x="753" y="1296"/>
                </a:lnTo>
                <a:lnTo>
                  <a:pt x="748" y="1325"/>
                </a:lnTo>
                <a:lnTo>
                  <a:pt x="748" y="1332"/>
                </a:lnTo>
                <a:lnTo>
                  <a:pt x="748" y="1335"/>
                </a:lnTo>
                <a:lnTo>
                  <a:pt x="748" y="1338"/>
                </a:lnTo>
                <a:lnTo>
                  <a:pt x="750" y="1348"/>
                </a:lnTo>
                <a:lnTo>
                  <a:pt x="750" y="1355"/>
                </a:lnTo>
                <a:lnTo>
                  <a:pt x="750" y="1355"/>
                </a:lnTo>
                <a:lnTo>
                  <a:pt x="742" y="1361"/>
                </a:lnTo>
                <a:lnTo>
                  <a:pt x="727" y="1371"/>
                </a:lnTo>
                <a:lnTo>
                  <a:pt x="704" y="1396"/>
                </a:lnTo>
                <a:lnTo>
                  <a:pt x="700" y="1410"/>
                </a:lnTo>
                <a:lnTo>
                  <a:pt x="700" y="1426"/>
                </a:lnTo>
                <a:lnTo>
                  <a:pt x="703" y="1435"/>
                </a:lnTo>
                <a:lnTo>
                  <a:pt x="710" y="1458"/>
                </a:lnTo>
                <a:lnTo>
                  <a:pt x="732" y="1499"/>
                </a:lnTo>
                <a:lnTo>
                  <a:pt x="781" y="1574"/>
                </a:lnTo>
                <a:lnTo>
                  <a:pt x="827" y="1654"/>
                </a:lnTo>
                <a:lnTo>
                  <a:pt x="836" y="1675"/>
                </a:lnTo>
                <a:lnTo>
                  <a:pt x="837" y="1681"/>
                </a:lnTo>
                <a:lnTo>
                  <a:pt x="843" y="1690"/>
                </a:lnTo>
                <a:lnTo>
                  <a:pt x="852" y="1697"/>
                </a:lnTo>
                <a:lnTo>
                  <a:pt x="863" y="1703"/>
                </a:lnTo>
                <a:lnTo>
                  <a:pt x="876" y="1707"/>
                </a:lnTo>
                <a:lnTo>
                  <a:pt x="891" y="1707"/>
                </a:lnTo>
                <a:lnTo>
                  <a:pt x="900" y="1704"/>
                </a:lnTo>
                <a:lnTo>
                  <a:pt x="891" y="1710"/>
                </a:lnTo>
                <a:lnTo>
                  <a:pt x="876" y="1723"/>
                </a:lnTo>
                <a:lnTo>
                  <a:pt x="868" y="1738"/>
                </a:lnTo>
                <a:lnTo>
                  <a:pt x="862" y="1755"/>
                </a:lnTo>
                <a:lnTo>
                  <a:pt x="859" y="1771"/>
                </a:lnTo>
                <a:lnTo>
                  <a:pt x="858" y="1790"/>
                </a:lnTo>
                <a:lnTo>
                  <a:pt x="858" y="1799"/>
                </a:lnTo>
                <a:lnTo>
                  <a:pt x="856" y="1804"/>
                </a:lnTo>
                <a:lnTo>
                  <a:pt x="853" y="1809"/>
                </a:lnTo>
                <a:lnTo>
                  <a:pt x="849" y="1813"/>
                </a:lnTo>
                <a:lnTo>
                  <a:pt x="843" y="1816"/>
                </a:lnTo>
                <a:lnTo>
                  <a:pt x="830" y="1820"/>
                </a:lnTo>
                <a:lnTo>
                  <a:pt x="805" y="1833"/>
                </a:lnTo>
                <a:lnTo>
                  <a:pt x="797" y="1843"/>
                </a:lnTo>
                <a:lnTo>
                  <a:pt x="792" y="1852"/>
                </a:lnTo>
                <a:lnTo>
                  <a:pt x="791" y="1868"/>
                </a:lnTo>
                <a:lnTo>
                  <a:pt x="792" y="1885"/>
                </a:lnTo>
                <a:lnTo>
                  <a:pt x="797" y="1901"/>
                </a:lnTo>
                <a:lnTo>
                  <a:pt x="811" y="1936"/>
                </a:lnTo>
                <a:lnTo>
                  <a:pt x="816" y="1943"/>
                </a:lnTo>
                <a:lnTo>
                  <a:pt x="819" y="1951"/>
                </a:lnTo>
                <a:lnTo>
                  <a:pt x="821" y="1956"/>
                </a:lnTo>
                <a:lnTo>
                  <a:pt x="832" y="1965"/>
                </a:lnTo>
                <a:lnTo>
                  <a:pt x="845" y="1972"/>
                </a:lnTo>
                <a:lnTo>
                  <a:pt x="871" y="1988"/>
                </a:lnTo>
                <a:lnTo>
                  <a:pt x="882" y="1997"/>
                </a:lnTo>
                <a:lnTo>
                  <a:pt x="887" y="2003"/>
                </a:lnTo>
                <a:lnTo>
                  <a:pt x="894" y="2014"/>
                </a:lnTo>
                <a:lnTo>
                  <a:pt x="905" y="2038"/>
                </a:lnTo>
                <a:lnTo>
                  <a:pt x="911" y="2062"/>
                </a:lnTo>
                <a:lnTo>
                  <a:pt x="913" y="2068"/>
                </a:lnTo>
                <a:lnTo>
                  <a:pt x="913" y="2078"/>
                </a:lnTo>
                <a:lnTo>
                  <a:pt x="916" y="2100"/>
                </a:lnTo>
                <a:lnTo>
                  <a:pt x="919" y="2143"/>
                </a:lnTo>
                <a:lnTo>
                  <a:pt x="916" y="2162"/>
                </a:lnTo>
                <a:lnTo>
                  <a:pt x="905" y="2181"/>
                </a:lnTo>
                <a:lnTo>
                  <a:pt x="900" y="2188"/>
                </a:lnTo>
                <a:lnTo>
                  <a:pt x="904" y="2193"/>
                </a:lnTo>
                <a:lnTo>
                  <a:pt x="910" y="2196"/>
                </a:lnTo>
                <a:lnTo>
                  <a:pt x="914" y="2197"/>
                </a:lnTo>
                <a:lnTo>
                  <a:pt x="920" y="2197"/>
                </a:lnTo>
                <a:lnTo>
                  <a:pt x="932" y="2196"/>
                </a:lnTo>
                <a:lnTo>
                  <a:pt x="942" y="2193"/>
                </a:lnTo>
                <a:lnTo>
                  <a:pt x="949" y="2191"/>
                </a:lnTo>
                <a:lnTo>
                  <a:pt x="952" y="2193"/>
                </a:lnTo>
                <a:lnTo>
                  <a:pt x="953" y="2193"/>
                </a:lnTo>
                <a:lnTo>
                  <a:pt x="962" y="2212"/>
                </a:lnTo>
                <a:lnTo>
                  <a:pt x="972" y="2248"/>
                </a:lnTo>
                <a:lnTo>
                  <a:pt x="969" y="2285"/>
                </a:lnTo>
                <a:lnTo>
                  <a:pt x="958" y="2323"/>
                </a:lnTo>
                <a:lnTo>
                  <a:pt x="939" y="2358"/>
                </a:lnTo>
                <a:lnTo>
                  <a:pt x="916" y="2393"/>
                </a:lnTo>
                <a:lnTo>
                  <a:pt x="904" y="2407"/>
                </a:lnTo>
                <a:lnTo>
                  <a:pt x="898" y="2414"/>
                </a:lnTo>
                <a:lnTo>
                  <a:pt x="888" y="2427"/>
                </a:lnTo>
                <a:lnTo>
                  <a:pt x="872" y="2456"/>
                </a:lnTo>
                <a:lnTo>
                  <a:pt x="859" y="2485"/>
                </a:lnTo>
                <a:lnTo>
                  <a:pt x="856" y="2493"/>
                </a:lnTo>
                <a:lnTo>
                  <a:pt x="853" y="2501"/>
                </a:lnTo>
                <a:lnTo>
                  <a:pt x="846" y="2524"/>
                </a:lnTo>
                <a:lnTo>
                  <a:pt x="840" y="2542"/>
                </a:lnTo>
                <a:lnTo>
                  <a:pt x="840" y="2542"/>
                </a:lnTo>
                <a:lnTo>
                  <a:pt x="837" y="2539"/>
                </a:lnTo>
                <a:lnTo>
                  <a:pt x="837" y="2538"/>
                </a:lnTo>
                <a:lnTo>
                  <a:pt x="834" y="2530"/>
                </a:lnTo>
                <a:lnTo>
                  <a:pt x="833" y="2516"/>
                </a:lnTo>
                <a:lnTo>
                  <a:pt x="834" y="2485"/>
                </a:lnTo>
                <a:lnTo>
                  <a:pt x="842" y="2456"/>
                </a:lnTo>
                <a:lnTo>
                  <a:pt x="845" y="2449"/>
                </a:lnTo>
                <a:lnTo>
                  <a:pt x="845" y="2449"/>
                </a:lnTo>
                <a:close/>
              </a:path>
            </a:pathLst>
          </a:custGeom>
          <a:noFill/>
          <a:ln w="4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349800" y="5634000"/>
            <a:ext cx="294840" cy="310680"/>
            <a:chOff x="3349800" y="5634000"/>
            <a:chExt cx="294840" cy="310680"/>
          </a:xfrm>
        </p:grpSpPr>
        <p:sp>
          <p:nvSpPr>
            <p:cNvPr id="659" name=""/>
            <p:cNvSpPr/>
            <p:nvPr/>
          </p:nvSpPr>
          <p:spPr>
            <a:xfrm>
              <a:off x="3504600" y="5634000"/>
              <a:ext cx="140040" cy="166320"/>
            </a:xfrm>
            <a:custGeom>
              <a:avLst/>
              <a:gdLst/>
              <a:ahLst/>
              <a:rect l="l" t="t" r="r" b="b"/>
              <a:pathLst>
                <a:path w="575" h="959">
                  <a:moveTo>
                    <a:pt x="21" y="0"/>
                  </a:moveTo>
                  <a:lnTo>
                    <a:pt x="22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2"/>
                  </a:lnTo>
                  <a:lnTo>
                    <a:pt x="28" y="19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33" y="34"/>
                  </a:lnTo>
                  <a:lnTo>
                    <a:pt x="34" y="38"/>
                  </a:lnTo>
                  <a:lnTo>
                    <a:pt x="35" y="38"/>
                  </a:lnTo>
                  <a:lnTo>
                    <a:pt x="37" y="44"/>
                  </a:lnTo>
                  <a:lnTo>
                    <a:pt x="38" y="46"/>
                  </a:lnTo>
                  <a:lnTo>
                    <a:pt x="39" y="46"/>
                  </a:lnTo>
                  <a:lnTo>
                    <a:pt x="38" y="48"/>
                  </a:lnTo>
                  <a:lnTo>
                    <a:pt x="38" y="51"/>
                  </a:lnTo>
                  <a:lnTo>
                    <a:pt x="38" y="54"/>
                  </a:lnTo>
                  <a:lnTo>
                    <a:pt x="38" y="54"/>
                  </a:lnTo>
                  <a:lnTo>
                    <a:pt x="39" y="57"/>
                  </a:lnTo>
                  <a:lnTo>
                    <a:pt x="40" y="58"/>
                  </a:lnTo>
                  <a:lnTo>
                    <a:pt x="41" y="60"/>
                  </a:lnTo>
                  <a:lnTo>
                    <a:pt x="46" y="67"/>
                  </a:lnTo>
                  <a:lnTo>
                    <a:pt x="49" y="71"/>
                  </a:lnTo>
                  <a:lnTo>
                    <a:pt x="50" y="71"/>
                  </a:lnTo>
                  <a:lnTo>
                    <a:pt x="55" y="68"/>
                  </a:lnTo>
                  <a:lnTo>
                    <a:pt x="58" y="67"/>
                  </a:lnTo>
                  <a:lnTo>
                    <a:pt x="59" y="66"/>
                  </a:lnTo>
                  <a:lnTo>
                    <a:pt x="60" y="65"/>
                  </a:lnTo>
                  <a:lnTo>
                    <a:pt x="64" y="59"/>
                  </a:lnTo>
                  <a:lnTo>
                    <a:pt x="68" y="55"/>
                  </a:lnTo>
                  <a:lnTo>
                    <a:pt x="69" y="54"/>
                  </a:lnTo>
                  <a:lnTo>
                    <a:pt x="69" y="55"/>
                  </a:lnTo>
                  <a:lnTo>
                    <a:pt x="70" y="58"/>
                  </a:lnTo>
                  <a:lnTo>
                    <a:pt x="70" y="59"/>
                  </a:lnTo>
                  <a:lnTo>
                    <a:pt x="71" y="59"/>
                  </a:lnTo>
                  <a:lnTo>
                    <a:pt x="70" y="61"/>
                  </a:lnTo>
                  <a:lnTo>
                    <a:pt x="69" y="66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70" y="69"/>
                  </a:lnTo>
                  <a:lnTo>
                    <a:pt x="76" y="69"/>
                  </a:lnTo>
                  <a:lnTo>
                    <a:pt x="81" y="69"/>
                  </a:lnTo>
                  <a:lnTo>
                    <a:pt x="82" y="69"/>
                  </a:lnTo>
                  <a:lnTo>
                    <a:pt x="83" y="69"/>
                  </a:lnTo>
                  <a:lnTo>
                    <a:pt x="87" y="68"/>
                  </a:lnTo>
                  <a:lnTo>
                    <a:pt x="91" y="68"/>
                  </a:lnTo>
                  <a:lnTo>
                    <a:pt x="92" y="67"/>
                  </a:lnTo>
                  <a:lnTo>
                    <a:pt x="93" y="69"/>
                  </a:lnTo>
                  <a:lnTo>
                    <a:pt x="97" y="72"/>
                  </a:lnTo>
                  <a:lnTo>
                    <a:pt x="101" y="76"/>
                  </a:lnTo>
                  <a:lnTo>
                    <a:pt x="102" y="76"/>
                  </a:lnTo>
                  <a:lnTo>
                    <a:pt x="103" y="76"/>
                  </a:lnTo>
                  <a:lnTo>
                    <a:pt x="109" y="76"/>
                  </a:lnTo>
                  <a:lnTo>
                    <a:pt x="114" y="76"/>
                  </a:lnTo>
                  <a:lnTo>
                    <a:pt x="115" y="76"/>
                  </a:lnTo>
                  <a:lnTo>
                    <a:pt x="116" y="76"/>
                  </a:lnTo>
                  <a:lnTo>
                    <a:pt x="120" y="76"/>
                  </a:lnTo>
                  <a:lnTo>
                    <a:pt x="123" y="76"/>
                  </a:lnTo>
                  <a:lnTo>
                    <a:pt x="125" y="76"/>
                  </a:lnTo>
                  <a:lnTo>
                    <a:pt x="132" y="82"/>
                  </a:lnTo>
                  <a:lnTo>
                    <a:pt x="137" y="85"/>
                  </a:lnTo>
                  <a:lnTo>
                    <a:pt x="138" y="85"/>
                  </a:lnTo>
                  <a:lnTo>
                    <a:pt x="141" y="90"/>
                  </a:lnTo>
                  <a:lnTo>
                    <a:pt x="142" y="91"/>
                  </a:lnTo>
                  <a:lnTo>
                    <a:pt x="143" y="91"/>
                  </a:lnTo>
                  <a:lnTo>
                    <a:pt x="142" y="92"/>
                  </a:lnTo>
                  <a:lnTo>
                    <a:pt x="141" y="93"/>
                  </a:lnTo>
                  <a:lnTo>
                    <a:pt x="141" y="93"/>
                  </a:lnTo>
                  <a:lnTo>
                    <a:pt x="140" y="94"/>
                  </a:lnTo>
                  <a:lnTo>
                    <a:pt x="133" y="97"/>
                  </a:lnTo>
                  <a:lnTo>
                    <a:pt x="129" y="100"/>
                  </a:lnTo>
                  <a:lnTo>
                    <a:pt x="129" y="100"/>
                  </a:lnTo>
                  <a:lnTo>
                    <a:pt x="132" y="102"/>
                  </a:lnTo>
                  <a:lnTo>
                    <a:pt x="142" y="108"/>
                  </a:lnTo>
                  <a:lnTo>
                    <a:pt x="150" y="113"/>
                  </a:lnTo>
                  <a:lnTo>
                    <a:pt x="151" y="113"/>
                  </a:lnTo>
                  <a:lnTo>
                    <a:pt x="151" y="112"/>
                  </a:lnTo>
                  <a:lnTo>
                    <a:pt x="152" y="108"/>
                  </a:lnTo>
                  <a:lnTo>
                    <a:pt x="152" y="106"/>
                  </a:lnTo>
                  <a:lnTo>
                    <a:pt x="153" y="105"/>
                  </a:lnTo>
                  <a:lnTo>
                    <a:pt x="154" y="106"/>
                  </a:lnTo>
                  <a:lnTo>
                    <a:pt x="158" y="109"/>
                  </a:lnTo>
                  <a:lnTo>
                    <a:pt x="162" y="112"/>
                  </a:lnTo>
                  <a:lnTo>
                    <a:pt x="163" y="112"/>
                  </a:lnTo>
                  <a:lnTo>
                    <a:pt x="163" y="113"/>
                  </a:lnTo>
                  <a:lnTo>
                    <a:pt x="163" y="114"/>
                  </a:lnTo>
                  <a:lnTo>
                    <a:pt x="163" y="119"/>
                  </a:lnTo>
                  <a:lnTo>
                    <a:pt x="163" y="123"/>
                  </a:lnTo>
                  <a:lnTo>
                    <a:pt x="164" y="123"/>
                  </a:lnTo>
                  <a:lnTo>
                    <a:pt x="164" y="124"/>
                  </a:lnTo>
                  <a:lnTo>
                    <a:pt x="164" y="125"/>
                  </a:lnTo>
                  <a:lnTo>
                    <a:pt x="166" y="131"/>
                  </a:lnTo>
                  <a:lnTo>
                    <a:pt x="167" y="136"/>
                  </a:lnTo>
                  <a:lnTo>
                    <a:pt x="168" y="136"/>
                  </a:lnTo>
                  <a:lnTo>
                    <a:pt x="169" y="138"/>
                  </a:lnTo>
                  <a:lnTo>
                    <a:pt x="173" y="141"/>
                  </a:lnTo>
                  <a:lnTo>
                    <a:pt x="176" y="143"/>
                  </a:lnTo>
                  <a:lnTo>
                    <a:pt x="177" y="143"/>
                  </a:lnTo>
                  <a:lnTo>
                    <a:pt x="178" y="146"/>
                  </a:lnTo>
                  <a:lnTo>
                    <a:pt x="181" y="149"/>
                  </a:lnTo>
                  <a:lnTo>
                    <a:pt x="184" y="151"/>
                  </a:lnTo>
                  <a:lnTo>
                    <a:pt x="185" y="151"/>
                  </a:lnTo>
                  <a:lnTo>
                    <a:pt x="185" y="152"/>
                  </a:lnTo>
                  <a:lnTo>
                    <a:pt x="186" y="155"/>
                  </a:lnTo>
                  <a:lnTo>
                    <a:pt x="186" y="157"/>
                  </a:lnTo>
                  <a:lnTo>
                    <a:pt x="187" y="157"/>
                  </a:lnTo>
                  <a:lnTo>
                    <a:pt x="187" y="158"/>
                  </a:lnTo>
                  <a:lnTo>
                    <a:pt x="187" y="159"/>
                  </a:lnTo>
                  <a:lnTo>
                    <a:pt x="187" y="165"/>
                  </a:lnTo>
                  <a:lnTo>
                    <a:pt x="187" y="170"/>
                  </a:lnTo>
                  <a:lnTo>
                    <a:pt x="188" y="170"/>
                  </a:lnTo>
                  <a:lnTo>
                    <a:pt x="188" y="171"/>
                  </a:lnTo>
                  <a:lnTo>
                    <a:pt x="188" y="173"/>
                  </a:lnTo>
                  <a:lnTo>
                    <a:pt x="189" y="179"/>
                  </a:lnTo>
                  <a:lnTo>
                    <a:pt x="190" y="184"/>
                  </a:lnTo>
                  <a:lnTo>
                    <a:pt x="191" y="184"/>
                  </a:lnTo>
                  <a:lnTo>
                    <a:pt x="188" y="183"/>
                  </a:lnTo>
                  <a:lnTo>
                    <a:pt x="187" y="182"/>
                  </a:lnTo>
                  <a:lnTo>
                    <a:pt x="187" y="181"/>
                  </a:lnTo>
                  <a:lnTo>
                    <a:pt x="184" y="179"/>
                  </a:lnTo>
                  <a:lnTo>
                    <a:pt x="177" y="176"/>
                  </a:lnTo>
                  <a:lnTo>
                    <a:pt x="172" y="173"/>
                  </a:lnTo>
                  <a:lnTo>
                    <a:pt x="172" y="172"/>
                  </a:lnTo>
                  <a:lnTo>
                    <a:pt x="169" y="173"/>
                  </a:lnTo>
                  <a:lnTo>
                    <a:pt x="164" y="174"/>
                  </a:lnTo>
                  <a:lnTo>
                    <a:pt x="161" y="174"/>
                  </a:lnTo>
                  <a:lnTo>
                    <a:pt x="161" y="174"/>
                  </a:lnTo>
                  <a:lnTo>
                    <a:pt x="161" y="175"/>
                  </a:lnTo>
                  <a:lnTo>
                    <a:pt x="161" y="176"/>
                  </a:lnTo>
                  <a:lnTo>
                    <a:pt x="162" y="183"/>
                  </a:lnTo>
                  <a:lnTo>
                    <a:pt x="163" y="187"/>
                  </a:lnTo>
                  <a:lnTo>
                    <a:pt x="164" y="187"/>
                  </a:lnTo>
                  <a:lnTo>
                    <a:pt x="166" y="189"/>
                  </a:lnTo>
                  <a:lnTo>
                    <a:pt x="167" y="189"/>
                  </a:lnTo>
                  <a:lnTo>
                    <a:pt x="169" y="189"/>
                  </a:lnTo>
                  <a:lnTo>
                    <a:pt x="170" y="189"/>
                  </a:lnTo>
                  <a:lnTo>
                    <a:pt x="172" y="188"/>
                  </a:lnTo>
                  <a:lnTo>
                    <a:pt x="175" y="193"/>
                  </a:lnTo>
                  <a:lnTo>
                    <a:pt x="177" y="195"/>
                  </a:lnTo>
                  <a:lnTo>
                    <a:pt x="178" y="195"/>
                  </a:lnTo>
                  <a:lnTo>
                    <a:pt x="178" y="196"/>
                  </a:lnTo>
                  <a:lnTo>
                    <a:pt x="178" y="198"/>
                  </a:lnTo>
                  <a:lnTo>
                    <a:pt x="180" y="205"/>
                  </a:lnTo>
                  <a:lnTo>
                    <a:pt x="181" y="209"/>
                  </a:lnTo>
                  <a:lnTo>
                    <a:pt x="183" y="209"/>
                  </a:lnTo>
                  <a:lnTo>
                    <a:pt x="184" y="211"/>
                  </a:lnTo>
                  <a:lnTo>
                    <a:pt x="189" y="218"/>
                  </a:lnTo>
                  <a:lnTo>
                    <a:pt x="193" y="222"/>
                  </a:lnTo>
                  <a:lnTo>
                    <a:pt x="195" y="222"/>
                  </a:lnTo>
                  <a:lnTo>
                    <a:pt x="196" y="227"/>
                  </a:lnTo>
                  <a:lnTo>
                    <a:pt x="201" y="236"/>
                  </a:lnTo>
                  <a:lnTo>
                    <a:pt x="205" y="244"/>
                  </a:lnTo>
                  <a:lnTo>
                    <a:pt x="207" y="244"/>
                  </a:lnTo>
                  <a:lnTo>
                    <a:pt x="208" y="246"/>
                  </a:lnTo>
                  <a:lnTo>
                    <a:pt x="212" y="252"/>
                  </a:lnTo>
                  <a:lnTo>
                    <a:pt x="215" y="256"/>
                  </a:lnTo>
                  <a:lnTo>
                    <a:pt x="216" y="256"/>
                  </a:lnTo>
                  <a:lnTo>
                    <a:pt x="216" y="257"/>
                  </a:lnTo>
                  <a:lnTo>
                    <a:pt x="216" y="259"/>
                  </a:lnTo>
                  <a:lnTo>
                    <a:pt x="216" y="260"/>
                  </a:lnTo>
                  <a:lnTo>
                    <a:pt x="217" y="260"/>
                  </a:lnTo>
                  <a:lnTo>
                    <a:pt x="216" y="262"/>
                  </a:lnTo>
                  <a:lnTo>
                    <a:pt x="215" y="263"/>
                  </a:lnTo>
                  <a:lnTo>
                    <a:pt x="210" y="269"/>
                  </a:lnTo>
                  <a:lnTo>
                    <a:pt x="207" y="274"/>
                  </a:lnTo>
                  <a:lnTo>
                    <a:pt x="207" y="274"/>
                  </a:lnTo>
                  <a:lnTo>
                    <a:pt x="205" y="277"/>
                  </a:lnTo>
                  <a:lnTo>
                    <a:pt x="203" y="283"/>
                  </a:lnTo>
                  <a:lnTo>
                    <a:pt x="202" y="288"/>
                  </a:lnTo>
                  <a:lnTo>
                    <a:pt x="202" y="288"/>
                  </a:lnTo>
                  <a:lnTo>
                    <a:pt x="202" y="289"/>
                  </a:lnTo>
                  <a:lnTo>
                    <a:pt x="202" y="292"/>
                  </a:lnTo>
                  <a:lnTo>
                    <a:pt x="202" y="293"/>
                  </a:lnTo>
                  <a:lnTo>
                    <a:pt x="203" y="293"/>
                  </a:lnTo>
                  <a:lnTo>
                    <a:pt x="208" y="295"/>
                  </a:lnTo>
                  <a:lnTo>
                    <a:pt x="210" y="295"/>
                  </a:lnTo>
                  <a:lnTo>
                    <a:pt x="211" y="295"/>
                  </a:lnTo>
                  <a:lnTo>
                    <a:pt x="210" y="299"/>
                  </a:lnTo>
                  <a:lnTo>
                    <a:pt x="209" y="305"/>
                  </a:lnTo>
                  <a:lnTo>
                    <a:pt x="208" y="310"/>
                  </a:lnTo>
                  <a:lnTo>
                    <a:pt x="208" y="310"/>
                  </a:lnTo>
                  <a:lnTo>
                    <a:pt x="203" y="311"/>
                  </a:lnTo>
                  <a:lnTo>
                    <a:pt x="202" y="311"/>
                  </a:lnTo>
                  <a:lnTo>
                    <a:pt x="202" y="311"/>
                  </a:lnTo>
                  <a:lnTo>
                    <a:pt x="201" y="312"/>
                  </a:lnTo>
                  <a:lnTo>
                    <a:pt x="198" y="316"/>
                  </a:lnTo>
                  <a:lnTo>
                    <a:pt x="196" y="320"/>
                  </a:lnTo>
                  <a:lnTo>
                    <a:pt x="196" y="320"/>
                  </a:lnTo>
                  <a:lnTo>
                    <a:pt x="197" y="322"/>
                  </a:lnTo>
                  <a:lnTo>
                    <a:pt x="198" y="323"/>
                  </a:lnTo>
                  <a:lnTo>
                    <a:pt x="199" y="323"/>
                  </a:lnTo>
                  <a:lnTo>
                    <a:pt x="202" y="323"/>
                  </a:lnTo>
                  <a:lnTo>
                    <a:pt x="203" y="323"/>
                  </a:lnTo>
                  <a:lnTo>
                    <a:pt x="204" y="323"/>
                  </a:lnTo>
                  <a:lnTo>
                    <a:pt x="205" y="324"/>
                  </a:lnTo>
                  <a:lnTo>
                    <a:pt x="209" y="325"/>
                  </a:lnTo>
                  <a:lnTo>
                    <a:pt x="211" y="326"/>
                  </a:lnTo>
                  <a:lnTo>
                    <a:pt x="212" y="326"/>
                  </a:lnTo>
                  <a:lnTo>
                    <a:pt x="213" y="328"/>
                  </a:lnTo>
                  <a:lnTo>
                    <a:pt x="214" y="328"/>
                  </a:lnTo>
                  <a:lnTo>
                    <a:pt x="222" y="330"/>
                  </a:lnTo>
                  <a:lnTo>
                    <a:pt x="226" y="330"/>
                  </a:lnTo>
                  <a:lnTo>
                    <a:pt x="227" y="330"/>
                  </a:lnTo>
                  <a:lnTo>
                    <a:pt x="231" y="328"/>
                  </a:lnTo>
                  <a:lnTo>
                    <a:pt x="232" y="327"/>
                  </a:lnTo>
                  <a:lnTo>
                    <a:pt x="233" y="326"/>
                  </a:lnTo>
                  <a:lnTo>
                    <a:pt x="234" y="326"/>
                  </a:lnTo>
                  <a:lnTo>
                    <a:pt x="239" y="325"/>
                  </a:lnTo>
                  <a:lnTo>
                    <a:pt x="244" y="324"/>
                  </a:lnTo>
                  <a:lnTo>
                    <a:pt x="245" y="323"/>
                  </a:lnTo>
                  <a:lnTo>
                    <a:pt x="246" y="324"/>
                  </a:lnTo>
                  <a:lnTo>
                    <a:pt x="249" y="325"/>
                  </a:lnTo>
                  <a:lnTo>
                    <a:pt x="251" y="326"/>
                  </a:lnTo>
                  <a:lnTo>
                    <a:pt x="252" y="326"/>
                  </a:lnTo>
                  <a:lnTo>
                    <a:pt x="252" y="327"/>
                  </a:lnTo>
                  <a:lnTo>
                    <a:pt x="252" y="329"/>
                  </a:lnTo>
                  <a:lnTo>
                    <a:pt x="252" y="337"/>
                  </a:lnTo>
                  <a:lnTo>
                    <a:pt x="252" y="344"/>
                  </a:lnTo>
                  <a:lnTo>
                    <a:pt x="254" y="344"/>
                  </a:lnTo>
                  <a:lnTo>
                    <a:pt x="254" y="345"/>
                  </a:lnTo>
                  <a:lnTo>
                    <a:pt x="254" y="347"/>
                  </a:lnTo>
                  <a:lnTo>
                    <a:pt x="255" y="353"/>
                  </a:lnTo>
                  <a:lnTo>
                    <a:pt x="256" y="359"/>
                  </a:lnTo>
                  <a:lnTo>
                    <a:pt x="257" y="359"/>
                  </a:lnTo>
                  <a:lnTo>
                    <a:pt x="263" y="362"/>
                  </a:lnTo>
                  <a:lnTo>
                    <a:pt x="268" y="363"/>
                  </a:lnTo>
                  <a:lnTo>
                    <a:pt x="269" y="363"/>
                  </a:lnTo>
                  <a:lnTo>
                    <a:pt x="270" y="362"/>
                  </a:lnTo>
                  <a:lnTo>
                    <a:pt x="273" y="356"/>
                  </a:lnTo>
                  <a:lnTo>
                    <a:pt x="277" y="351"/>
                  </a:lnTo>
                  <a:lnTo>
                    <a:pt x="278" y="350"/>
                  </a:lnTo>
                  <a:lnTo>
                    <a:pt x="278" y="347"/>
                  </a:lnTo>
                  <a:lnTo>
                    <a:pt x="278" y="335"/>
                  </a:lnTo>
                  <a:lnTo>
                    <a:pt x="278" y="326"/>
                  </a:lnTo>
                  <a:lnTo>
                    <a:pt x="279" y="325"/>
                  </a:lnTo>
                  <a:lnTo>
                    <a:pt x="279" y="322"/>
                  </a:lnTo>
                  <a:lnTo>
                    <a:pt x="278" y="311"/>
                  </a:lnTo>
                  <a:lnTo>
                    <a:pt x="278" y="302"/>
                  </a:lnTo>
                  <a:lnTo>
                    <a:pt x="279" y="301"/>
                  </a:lnTo>
                  <a:lnTo>
                    <a:pt x="279" y="300"/>
                  </a:lnTo>
                  <a:lnTo>
                    <a:pt x="278" y="294"/>
                  </a:lnTo>
                  <a:lnTo>
                    <a:pt x="278" y="291"/>
                  </a:lnTo>
                  <a:lnTo>
                    <a:pt x="279" y="290"/>
                  </a:lnTo>
                  <a:lnTo>
                    <a:pt x="277" y="288"/>
                  </a:lnTo>
                  <a:lnTo>
                    <a:pt x="272" y="280"/>
                  </a:lnTo>
                  <a:lnTo>
                    <a:pt x="269" y="274"/>
                  </a:lnTo>
                  <a:lnTo>
                    <a:pt x="269" y="272"/>
                  </a:lnTo>
                  <a:lnTo>
                    <a:pt x="270" y="272"/>
                  </a:lnTo>
                  <a:lnTo>
                    <a:pt x="273" y="271"/>
                  </a:lnTo>
                  <a:lnTo>
                    <a:pt x="275" y="271"/>
                  </a:lnTo>
                  <a:lnTo>
                    <a:pt x="277" y="270"/>
                  </a:lnTo>
                  <a:lnTo>
                    <a:pt x="277" y="271"/>
                  </a:lnTo>
                  <a:lnTo>
                    <a:pt x="277" y="272"/>
                  </a:lnTo>
                  <a:lnTo>
                    <a:pt x="279" y="278"/>
                  </a:lnTo>
                  <a:lnTo>
                    <a:pt x="280" y="282"/>
                  </a:lnTo>
                  <a:lnTo>
                    <a:pt x="281" y="282"/>
                  </a:lnTo>
                  <a:lnTo>
                    <a:pt x="283" y="283"/>
                  </a:lnTo>
                  <a:lnTo>
                    <a:pt x="290" y="286"/>
                  </a:lnTo>
                  <a:lnTo>
                    <a:pt x="294" y="287"/>
                  </a:lnTo>
                  <a:lnTo>
                    <a:pt x="295" y="287"/>
                  </a:lnTo>
                  <a:lnTo>
                    <a:pt x="302" y="289"/>
                  </a:lnTo>
                  <a:lnTo>
                    <a:pt x="306" y="289"/>
                  </a:lnTo>
                  <a:lnTo>
                    <a:pt x="307" y="289"/>
                  </a:lnTo>
                  <a:lnTo>
                    <a:pt x="307" y="292"/>
                  </a:lnTo>
                  <a:lnTo>
                    <a:pt x="306" y="302"/>
                  </a:lnTo>
                  <a:lnTo>
                    <a:pt x="306" y="310"/>
                  </a:lnTo>
                  <a:lnTo>
                    <a:pt x="307" y="310"/>
                  </a:lnTo>
                  <a:lnTo>
                    <a:pt x="308" y="312"/>
                  </a:lnTo>
                  <a:lnTo>
                    <a:pt x="309" y="313"/>
                  </a:lnTo>
                  <a:lnTo>
                    <a:pt x="309" y="314"/>
                  </a:lnTo>
                  <a:lnTo>
                    <a:pt x="309" y="316"/>
                  </a:lnTo>
                  <a:lnTo>
                    <a:pt x="309" y="323"/>
                  </a:lnTo>
                  <a:lnTo>
                    <a:pt x="309" y="328"/>
                  </a:lnTo>
                  <a:lnTo>
                    <a:pt x="310" y="328"/>
                  </a:lnTo>
                  <a:lnTo>
                    <a:pt x="310" y="329"/>
                  </a:lnTo>
                  <a:lnTo>
                    <a:pt x="310" y="330"/>
                  </a:lnTo>
                  <a:lnTo>
                    <a:pt x="312" y="336"/>
                  </a:lnTo>
                  <a:lnTo>
                    <a:pt x="312" y="339"/>
                  </a:lnTo>
                  <a:lnTo>
                    <a:pt x="313" y="339"/>
                  </a:lnTo>
                  <a:lnTo>
                    <a:pt x="313" y="341"/>
                  </a:lnTo>
                  <a:lnTo>
                    <a:pt x="312" y="346"/>
                  </a:lnTo>
                  <a:lnTo>
                    <a:pt x="312" y="349"/>
                  </a:lnTo>
                  <a:lnTo>
                    <a:pt x="313" y="349"/>
                  </a:lnTo>
                  <a:lnTo>
                    <a:pt x="312" y="351"/>
                  </a:lnTo>
                  <a:lnTo>
                    <a:pt x="310" y="355"/>
                  </a:lnTo>
                  <a:lnTo>
                    <a:pt x="310" y="357"/>
                  </a:lnTo>
                  <a:lnTo>
                    <a:pt x="310" y="357"/>
                  </a:lnTo>
                  <a:lnTo>
                    <a:pt x="310" y="358"/>
                  </a:lnTo>
                  <a:lnTo>
                    <a:pt x="310" y="360"/>
                  </a:lnTo>
                  <a:lnTo>
                    <a:pt x="310" y="367"/>
                  </a:lnTo>
                  <a:lnTo>
                    <a:pt x="310" y="371"/>
                  </a:lnTo>
                  <a:lnTo>
                    <a:pt x="312" y="371"/>
                  </a:lnTo>
                  <a:lnTo>
                    <a:pt x="315" y="376"/>
                  </a:lnTo>
                  <a:lnTo>
                    <a:pt x="317" y="379"/>
                  </a:lnTo>
                  <a:lnTo>
                    <a:pt x="318" y="379"/>
                  </a:lnTo>
                  <a:lnTo>
                    <a:pt x="318" y="380"/>
                  </a:lnTo>
                  <a:lnTo>
                    <a:pt x="318" y="381"/>
                  </a:lnTo>
                  <a:lnTo>
                    <a:pt x="320" y="386"/>
                  </a:lnTo>
                  <a:lnTo>
                    <a:pt x="321" y="390"/>
                  </a:lnTo>
                  <a:lnTo>
                    <a:pt x="322" y="390"/>
                  </a:lnTo>
                  <a:lnTo>
                    <a:pt x="322" y="391"/>
                  </a:lnTo>
                  <a:lnTo>
                    <a:pt x="322" y="393"/>
                  </a:lnTo>
                  <a:lnTo>
                    <a:pt x="324" y="403"/>
                  </a:lnTo>
                  <a:lnTo>
                    <a:pt x="324" y="410"/>
                  </a:lnTo>
                  <a:lnTo>
                    <a:pt x="325" y="410"/>
                  </a:lnTo>
                  <a:lnTo>
                    <a:pt x="326" y="412"/>
                  </a:lnTo>
                  <a:lnTo>
                    <a:pt x="332" y="418"/>
                  </a:lnTo>
                  <a:lnTo>
                    <a:pt x="337" y="422"/>
                  </a:lnTo>
                  <a:lnTo>
                    <a:pt x="338" y="422"/>
                  </a:lnTo>
                  <a:lnTo>
                    <a:pt x="340" y="422"/>
                  </a:lnTo>
                  <a:lnTo>
                    <a:pt x="346" y="422"/>
                  </a:lnTo>
                  <a:lnTo>
                    <a:pt x="352" y="422"/>
                  </a:lnTo>
                  <a:lnTo>
                    <a:pt x="353" y="421"/>
                  </a:lnTo>
                  <a:lnTo>
                    <a:pt x="355" y="425"/>
                  </a:lnTo>
                  <a:lnTo>
                    <a:pt x="365" y="431"/>
                  </a:lnTo>
                  <a:lnTo>
                    <a:pt x="372" y="437"/>
                  </a:lnTo>
                  <a:lnTo>
                    <a:pt x="373" y="437"/>
                  </a:lnTo>
                  <a:lnTo>
                    <a:pt x="376" y="439"/>
                  </a:lnTo>
                  <a:lnTo>
                    <a:pt x="387" y="442"/>
                  </a:lnTo>
                  <a:lnTo>
                    <a:pt x="395" y="444"/>
                  </a:lnTo>
                  <a:lnTo>
                    <a:pt x="396" y="444"/>
                  </a:lnTo>
                  <a:lnTo>
                    <a:pt x="399" y="445"/>
                  </a:lnTo>
                  <a:lnTo>
                    <a:pt x="411" y="449"/>
                  </a:lnTo>
                  <a:lnTo>
                    <a:pt x="420" y="451"/>
                  </a:lnTo>
                  <a:lnTo>
                    <a:pt x="421" y="451"/>
                  </a:lnTo>
                  <a:lnTo>
                    <a:pt x="423" y="453"/>
                  </a:lnTo>
                  <a:lnTo>
                    <a:pt x="430" y="456"/>
                  </a:lnTo>
                  <a:lnTo>
                    <a:pt x="434" y="458"/>
                  </a:lnTo>
                  <a:lnTo>
                    <a:pt x="435" y="458"/>
                  </a:lnTo>
                  <a:lnTo>
                    <a:pt x="441" y="461"/>
                  </a:lnTo>
                  <a:lnTo>
                    <a:pt x="444" y="462"/>
                  </a:lnTo>
                  <a:lnTo>
                    <a:pt x="445" y="462"/>
                  </a:lnTo>
                  <a:lnTo>
                    <a:pt x="446" y="462"/>
                  </a:lnTo>
                  <a:lnTo>
                    <a:pt x="449" y="462"/>
                  </a:lnTo>
                  <a:lnTo>
                    <a:pt x="453" y="462"/>
                  </a:lnTo>
                  <a:lnTo>
                    <a:pt x="454" y="461"/>
                  </a:lnTo>
                  <a:lnTo>
                    <a:pt x="455" y="460"/>
                  </a:lnTo>
                  <a:lnTo>
                    <a:pt x="459" y="454"/>
                  </a:lnTo>
                  <a:lnTo>
                    <a:pt x="462" y="450"/>
                  </a:lnTo>
                  <a:lnTo>
                    <a:pt x="463" y="449"/>
                  </a:lnTo>
                  <a:lnTo>
                    <a:pt x="465" y="449"/>
                  </a:lnTo>
                  <a:lnTo>
                    <a:pt x="468" y="449"/>
                  </a:lnTo>
                  <a:lnTo>
                    <a:pt x="470" y="449"/>
                  </a:lnTo>
                  <a:lnTo>
                    <a:pt x="471" y="449"/>
                  </a:lnTo>
                  <a:lnTo>
                    <a:pt x="472" y="446"/>
                  </a:lnTo>
                  <a:lnTo>
                    <a:pt x="475" y="440"/>
                  </a:lnTo>
                  <a:lnTo>
                    <a:pt x="479" y="435"/>
                  </a:lnTo>
                  <a:lnTo>
                    <a:pt x="480" y="434"/>
                  </a:lnTo>
                  <a:lnTo>
                    <a:pt x="481" y="433"/>
                  </a:lnTo>
                  <a:lnTo>
                    <a:pt x="484" y="430"/>
                  </a:lnTo>
                  <a:lnTo>
                    <a:pt x="486" y="427"/>
                  </a:lnTo>
                  <a:lnTo>
                    <a:pt x="488" y="426"/>
                  </a:lnTo>
                  <a:lnTo>
                    <a:pt x="492" y="422"/>
                  </a:lnTo>
                  <a:lnTo>
                    <a:pt x="495" y="421"/>
                  </a:lnTo>
                  <a:lnTo>
                    <a:pt x="496" y="420"/>
                  </a:lnTo>
                  <a:lnTo>
                    <a:pt x="497" y="419"/>
                  </a:lnTo>
                  <a:lnTo>
                    <a:pt x="502" y="416"/>
                  </a:lnTo>
                  <a:lnTo>
                    <a:pt x="505" y="412"/>
                  </a:lnTo>
                  <a:lnTo>
                    <a:pt x="506" y="411"/>
                  </a:lnTo>
                  <a:lnTo>
                    <a:pt x="508" y="410"/>
                  </a:lnTo>
                  <a:lnTo>
                    <a:pt x="515" y="407"/>
                  </a:lnTo>
                  <a:lnTo>
                    <a:pt x="519" y="404"/>
                  </a:lnTo>
                  <a:lnTo>
                    <a:pt x="520" y="403"/>
                  </a:lnTo>
                  <a:lnTo>
                    <a:pt x="524" y="399"/>
                  </a:lnTo>
                  <a:lnTo>
                    <a:pt x="526" y="397"/>
                  </a:lnTo>
                  <a:lnTo>
                    <a:pt x="527" y="396"/>
                  </a:lnTo>
                  <a:lnTo>
                    <a:pt x="528" y="396"/>
                  </a:lnTo>
                  <a:lnTo>
                    <a:pt x="533" y="394"/>
                  </a:lnTo>
                  <a:lnTo>
                    <a:pt x="537" y="393"/>
                  </a:lnTo>
                  <a:lnTo>
                    <a:pt x="538" y="392"/>
                  </a:lnTo>
                  <a:lnTo>
                    <a:pt x="540" y="393"/>
                  </a:lnTo>
                  <a:lnTo>
                    <a:pt x="547" y="394"/>
                  </a:lnTo>
                  <a:lnTo>
                    <a:pt x="552" y="394"/>
                  </a:lnTo>
                  <a:lnTo>
                    <a:pt x="553" y="394"/>
                  </a:lnTo>
                  <a:lnTo>
                    <a:pt x="560" y="399"/>
                  </a:lnTo>
                  <a:lnTo>
                    <a:pt x="564" y="403"/>
                  </a:lnTo>
                  <a:lnTo>
                    <a:pt x="565" y="403"/>
                  </a:lnTo>
                  <a:lnTo>
                    <a:pt x="571" y="408"/>
                  </a:lnTo>
                  <a:lnTo>
                    <a:pt x="574" y="410"/>
                  </a:lnTo>
                  <a:lnTo>
                    <a:pt x="575" y="410"/>
                  </a:lnTo>
                  <a:lnTo>
                    <a:pt x="575" y="412"/>
                  </a:lnTo>
                  <a:lnTo>
                    <a:pt x="574" y="417"/>
                  </a:lnTo>
                  <a:lnTo>
                    <a:pt x="574" y="420"/>
                  </a:lnTo>
                  <a:lnTo>
                    <a:pt x="575" y="420"/>
                  </a:lnTo>
                  <a:lnTo>
                    <a:pt x="574" y="423"/>
                  </a:lnTo>
                  <a:lnTo>
                    <a:pt x="572" y="431"/>
                  </a:lnTo>
                  <a:lnTo>
                    <a:pt x="571" y="438"/>
                  </a:lnTo>
                  <a:lnTo>
                    <a:pt x="571" y="438"/>
                  </a:lnTo>
                  <a:lnTo>
                    <a:pt x="570" y="440"/>
                  </a:lnTo>
                  <a:lnTo>
                    <a:pt x="567" y="445"/>
                  </a:lnTo>
                  <a:lnTo>
                    <a:pt x="566" y="450"/>
                  </a:lnTo>
                  <a:lnTo>
                    <a:pt x="566" y="450"/>
                  </a:lnTo>
                  <a:lnTo>
                    <a:pt x="565" y="451"/>
                  </a:lnTo>
                  <a:lnTo>
                    <a:pt x="564" y="453"/>
                  </a:lnTo>
                  <a:lnTo>
                    <a:pt x="561" y="460"/>
                  </a:lnTo>
                  <a:lnTo>
                    <a:pt x="559" y="465"/>
                  </a:lnTo>
                  <a:lnTo>
                    <a:pt x="559" y="465"/>
                  </a:lnTo>
                  <a:lnTo>
                    <a:pt x="557" y="470"/>
                  </a:lnTo>
                  <a:lnTo>
                    <a:pt x="556" y="486"/>
                  </a:lnTo>
                  <a:lnTo>
                    <a:pt x="556" y="497"/>
                  </a:lnTo>
                  <a:lnTo>
                    <a:pt x="556" y="497"/>
                  </a:lnTo>
                  <a:lnTo>
                    <a:pt x="555" y="498"/>
                  </a:lnTo>
                  <a:lnTo>
                    <a:pt x="554" y="501"/>
                  </a:lnTo>
                  <a:lnTo>
                    <a:pt x="553" y="503"/>
                  </a:lnTo>
                  <a:lnTo>
                    <a:pt x="553" y="503"/>
                  </a:lnTo>
                  <a:lnTo>
                    <a:pt x="553" y="505"/>
                  </a:lnTo>
                  <a:lnTo>
                    <a:pt x="552" y="512"/>
                  </a:lnTo>
                  <a:lnTo>
                    <a:pt x="552" y="516"/>
                  </a:lnTo>
                  <a:lnTo>
                    <a:pt x="553" y="516"/>
                  </a:lnTo>
                  <a:lnTo>
                    <a:pt x="552" y="520"/>
                  </a:lnTo>
                  <a:lnTo>
                    <a:pt x="549" y="527"/>
                  </a:lnTo>
                  <a:lnTo>
                    <a:pt x="547" y="534"/>
                  </a:lnTo>
                  <a:lnTo>
                    <a:pt x="547" y="534"/>
                  </a:lnTo>
                  <a:lnTo>
                    <a:pt x="545" y="535"/>
                  </a:lnTo>
                  <a:lnTo>
                    <a:pt x="543" y="537"/>
                  </a:lnTo>
                  <a:lnTo>
                    <a:pt x="536" y="544"/>
                  </a:lnTo>
                  <a:lnTo>
                    <a:pt x="530" y="548"/>
                  </a:lnTo>
                  <a:lnTo>
                    <a:pt x="530" y="548"/>
                  </a:lnTo>
                  <a:lnTo>
                    <a:pt x="527" y="549"/>
                  </a:lnTo>
                  <a:lnTo>
                    <a:pt x="519" y="553"/>
                  </a:lnTo>
                  <a:lnTo>
                    <a:pt x="514" y="554"/>
                  </a:lnTo>
                  <a:lnTo>
                    <a:pt x="514" y="554"/>
                  </a:lnTo>
                  <a:lnTo>
                    <a:pt x="513" y="556"/>
                  </a:lnTo>
                  <a:lnTo>
                    <a:pt x="512" y="561"/>
                  </a:lnTo>
                  <a:lnTo>
                    <a:pt x="512" y="566"/>
                  </a:lnTo>
                  <a:lnTo>
                    <a:pt x="512" y="566"/>
                  </a:lnTo>
                  <a:lnTo>
                    <a:pt x="510" y="569"/>
                  </a:lnTo>
                  <a:lnTo>
                    <a:pt x="509" y="575"/>
                  </a:lnTo>
                  <a:lnTo>
                    <a:pt x="508" y="581"/>
                  </a:lnTo>
                  <a:lnTo>
                    <a:pt x="508" y="581"/>
                  </a:lnTo>
                  <a:lnTo>
                    <a:pt x="507" y="582"/>
                  </a:lnTo>
                  <a:lnTo>
                    <a:pt x="504" y="585"/>
                  </a:lnTo>
                  <a:lnTo>
                    <a:pt x="503" y="588"/>
                  </a:lnTo>
                  <a:lnTo>
                    <a:pt x="503" y="588"/>
                  </a:lnTo>
                  <a:lnTo>
                    <a:pt x="503" y="589"/>
                  </a:lnTo>
                  <a:lnTo>
                    <a:pt x="503" y="591"/>
                  </a:lnTo>
                  <a:lnTo>
                    <a:pt x="503" y="598"/>
                  </a:lnTo>
                  <a:lnTo>
                    <a:pt x="503" y="604"/>
                  </a:lnTo>
                  <a:lnTo>
                    <a:pt x="504" y="604"/>
                  </a:lnTo>
                  <a:lnTo>
                    <a:pt x="506" y="606"/>
                  </a:lnTo>
                  <a:lnTo>
                    <a:pt x="507" y="607"/>
                  </a:lnTo>
                  <a:lnTo>
                    <a:pt x="508" y="607"/>
                  </a:lnTo>
                  <a:lnTo>
                    <a:pt x="508" y="609"/>
                  </a:lnTo>
                  <a:lnTo>
                    <a:pt x="507" y="613"/>
                  </a:lnTo>
                  <a:lnTo>
                    <a:pt x="507" y="615"/>
                  </a:lnTo>
                  <a:lnTo>
                    <a:pt x="508" y="615"/>
                  </a:lnTo>
                  <a:lnTo>
                    <a:pt x="507" y="616"/>
                  </a:lnTo>
                  <a:lnTo>
                    <a:pt x="506" y="618"/>
                  </a:lnTo>
                  <a:lnTo>
                    <a:pt x="501" y="625"/>
                  </a:lnTo>
                  <a:lnTo>
                    <a:pt x="497" y="629"/>
                  </a:lnTo>
                  <a:lnTo>
                    <a:pt x="497" y="629"/>
                  </a:lnTo>
                  <a:lnTo>
                    <a:pt x="496" y="626"/>
                  </a:lnTo>
                  <a:lnTo>
                    <a:pt x="495" y="615"/>
                  </a:lnTo>
                  <a:lnTo>
                    <a:pt x="495" y="606"/>
                  </a:lnTo>
                  <a:lnTo>
                    <a:pt x="495" y="605"/>
                  </a:lnTo>
                  <a:lnTo>
                    <a:pt x="490" y="604"/>
                  </a:lnTo>
                  <a:lnTo>
                    <a:pt x="488" y="603"/>
                  </a:lnTo>
                  <a:lnTo>
                    <a:pt x="488" y="602"/>
                  </a:lnTo>
                  <a:lnTo>
                    <a:pt x="485" y="603"/>
                  </a:lnTo>
                  <a:lnTo>
                    <a:pt x="480" y="604"/>
                  </a:lnTo>
                  <a:lnTo>
                    <a:pt x="475" y="604"/>
                  </a:lnTo>
                  <a:lnTo>
                    <a:pt x="475" y="604"/>
                  </a:lnTo>
                  <a:lnTo>
                    <a:pt x="472" y="605"/>
                  </a:lnTo>
                  <a:lnTo>
                    <a:pt x="466" y="606"/>
                  </a:lnTo>
                  <a:lnTo>
                    <a:pt x="460" y="607"/>
                  </a:lnTo>
                  <a:lnTo>
                    <a:pt x="460" y="607"/>
                  </a:lnTo>
                  <a:lnTo>
                    <a:pt x="457" y="608"/>
                  </a:lnTo>
                  <a:lnTo>
                    <a:pt x="450" y="608"/>
                  </a:lnTo>
                  <a:lnTo>
                    <a:pt x="446" y="608"/>
                  </a:lnTo>
                  <a:lnTo>
                    <a:pt x="446" y="608"/>
                  </a:lnTo>
                  <a:lnTo>
                    <a:pt x="444" y="609"/>
                  </a:lnTo>
                  <a:lnTo>
                    <a:pt x="438" y="612"/>
                  </a:lnTo>
                  <a:lnTo>
                    <a:pt x="435" y="613"/>
                  </a:lnTo>
                  <a:lnTo>
                    <a:pt x="435" y="613"/>
                  </a:lnTo>
                  <a:lnTo>
                    <a:pt x="434" y="614"/>
                  </a:lnTo>
                  <a:lnTo>
                    <a:pt x="433" y="615"/>
                  </a:lnTo>
                  <a:lnTo>
                    <a:pt x="428" y="620"/>
                  </a:lnTo>
                  <a:lnTo>
                    <a:pt x="425" y="624"/>
                  </a:lnTo>
                  <a:lnTo>
                    <a:pt x="425" y="624"/>
                  </a:lnTo>
                  <a:lnTo>
                    <a:pt x="424" y="625"/>
                  </a:lnTo>
                  <a:lnTo>
                    <a:pt x="422" y="627"/>
                  </a:lnTo>
                  <a:lnTo>
                    <a:pt x="415" y="635"/>
                  </a:lnTo>
                  <a:lnTo>
                    <a:pt x="410" y="641"/>
                  </a:lnTo>
                  <a:lnTo>
                    <a:pt x="410" y="641"/>
                  </a:lnTo>
                  <a:lnTo>
                    <a:pt x="409" y="642"/>
                  </a:lnTo>
                  <a:lnTo>
                    <a:pt x="408" y="643"/>
                  </a:lnTo>
                  <a:lnTo>
                    <a:pt x="404" y="648"/>
                  </a:lnTo>
                  <a:lnTo>
                    <a:pt x="401" y="651"/>
                  </a:lnTo>
                  <a:lnTo>
                    <a:pt x="401" y="651"/>
                  </a:lnTo>
                  <a:lnTo>
                    <a:pt x="400" y="652"/>
                  </a:lnTo>
                  <a:lnTo>
                    <a:pt x="399" y="654"/>
                  </a:lnTo>
                  <a:lnTo>
                    <a:pt x="393" y="661"/>
                  </a:lnTo>
                  <a:lnTo>
                    <a:pt x="390" y="666"/>
                  </a:lnTo>
                  <a:lnTo>
                    <a:pt x="390" y="666"/>
                  </a:lnTo>
                  <a:lnTo>
                    <a:pt x="390" y="667"/>
                  </a:lnTo>
                  <a:lnTo>
                    <a:pt x="390" y="668"/>
                  </a:lnTo>
                  <a:lnTo>
                    <a:pt x="390" y="672"/>
                  </a:lnTo>
                  <a:lnTo>
                    <a:pt x="390" y="675"/>
                  </a:lnTo>
                  <a:lnTo>
                    <a:pt x="391" y="675"/>
                  </a:lnTo>
                  <a:lnTo>
                    <a:pt x="393" y="674"/>
                  </a:lnTo>
                  <a:lnTo>
                    <a:pt x="395" y="673"/>
                  </a:lnTo>
                  <a:lnTo>
                    <a:pt x="396" y="672"/>
                  </a:lnTo>
                  <a:lnTo>
                    <a:pt x="396" y="673"/>
                  </a:lnTo>
                  <a:lnTo>
                    <a:pt x="396" y="675"/>
                  </a:lnTo>
                  <a:lnTo>
                    <a:pt x="398" y="683"/>
                  </a:lnTo>
                  <a:lnTo>
                    <a:pt x="399" y="688"/>
                  </a:lnTo>
                  <a:lnTo>
                    <a:pt x="400" y="688"/>
                  </a:lnTo>
                  <a:lnTo>
                    <a:pt x="401" y="689"/>
                  </a:lnTo>
                  <a:lnTo>
                    <a:pt x="404" y="693"/>
                  </a:lnTo>
                  <a:lnTo>
                    <a:pt x="407" y="694"/>
                  </a:lnTo>
                  <a:lnTo>
                    <a:pt x="408" y="694"/>
                  </a:lnTo>
                  <a:lnTo>
                    <a:pt x="407" y="697"/>
                  </a:lnTo>
                  <a:lnTo>
                    <a:pt x="404" y="706"/>
                  </a:lnTo>
                  <a:lnTo>
                    <a:pt x="403" y="712"/>
                  </a:lnTo>
                  <a:lnTo>
                    <a:pt x="403" y="712"/>
                  </a:lnTo>
                  <a:lnTo>
                    <a:pt x="402" y="713"/>
                  </a:lnTo>
                  <a:lnTo>
                    <a:pt x="401" y="716"/>
                  </a:lnTo>
                  <a:lnTo>
                    <a:pt x="397" y="725"/>
                  </a:lnTo>
                  <a:lnTo>
                    <a:pt x="393" y="733"/>
                  </a:lnTo>
                  <a:lnTo>
                    <a:pt x="393" y="733"/>
                  </a:lnTo>
                  <a:lnTo>
                    <a:pt x="392" y="734"/>
                  </a:lnTo>
                  <a:lnTo>
                    <a:pt x="391" y="736"/>
                  </a:lnTo>
                  <a:lnTo>
                    <a:pt x="387" y="744"/>
                  </a:lnTo>
                  <a:lnTo>
                    <a:pt x="384" y="749"/>
                  </a:lnTo>
                  <a:lnTo>
                    <a:pt x="384" y="749"/>
                  </a:lnTo>
                  <a:lnTo>
                    <a:pt x="383" y="751"/>
                  </a:lnTo>
                  <a:lnTo>
                    <a:pt x="381" y="753"/>
                  </a:lnTo>
                  <a:lnTo>
                    <a:pt x="378" y="760"/>
                  </a:lnTo>
                  <a:lnTo>
                    <a:pt x="375" y="766"/>
                  </a:lnTo>
                  <a:lnTo>
                    <a:pt x="375" y="766"/>
                  </a:lnTo>
                  <a:lnTo>
                    <a:pt x="374" y="767"/>
                  </a:lnTo>
                  <a:lnTo>
                    <a:pt x="373" y="769"/>
                  </a:lnTo>
                  <a:lnTo>
                    <a:pt x="367" y="777"/>
                  </a:lnTo>
                  <a:lnTo>
                    <a:pt x="364" y="782"/>
                  </a:lnTo>
                  <a:lnTo>
                    <a:pt x="364" y="782"/>
                  </a:lnTo>
                  <a:lnTo>
                    <a:pt x="363" y="784"/>
                  </a:lnTo>
                  <a:lnTo>
                    <a:pt x="362" y="791"/>
                  </a:lnTo>
                  <a:lnTo>
                    <a:pt x="361" y="795"/>
                  </a:lnTo>
                  <a:lnTo>
                    <a:pt x="361" y="795"/>
                  </a:lnTo>
                  <a:lnTo>
                    <a:pt x="360" y="796"/>
                  </a:lnTo>
                  <a:lnTo>
                    <a:pt x="359" y="798"/>
                  </a:lnTo>
                  <a:lnTo>
                    <a:pt x="352" y="804"/>
                  </a:lnTo>
                  <a:lnTo>
                    <a:pt x="348" y="808"/>
                  </a:lnTo>
                  <a:lnTo>
                    <a:pt x="348" y="808"/>
                  </a:lnTo>
                  <a:lnTo>
                    <a:pt x="346" y="810"/>
                  </a:lnTo>
                  <a:lnTo>
                    <a:pt x="345" y="812"/>
                  </a:lnTo>
                  <a:lnTo>
                    <a:pt x="340" y="819"/>
                  </a:lnTo>
                  <a:lnTo>
                    <a:pt x="336" y="826"/>
                  </a:lnTo>
                  <a:lnTo>
                    <a:pt x="336" y="826"/>
                  </a:lnTo>
                  <a:lnTo>
                    <a:pt x="334" y="827"/>
                  </a:lnTo>
                  <a:lnTo>
                    <a:pt x="332" y="831"/>
                  </a:lnTo>
                  <a:lnTo>
                    <a:pt x="325" y="845"/>
                  </a:lnTo>
                  <a:lnTo>
                    <a:pt x="318" y="856"/>
                  </a:lnTo>
                  <a:lnTo>
                    <a:pt x="318" y="856"/>
                  </a:lnTo>
                  <a:lnTo>
                    <a:pt x="317" y="857"/>
                  </a:lnTo>
                  <a:lnTo>
                    <a:pt x="314" y="862"/>
                  </a:lnTo>
                  <a:lnTo>
                    <a:pt x="302" y="882"/>
                  </a:lnTo>
                  <a:lnTo>
                    <a:pt x="292" y="896"/>
                  </a:lnTo>
                  <a:lnTo>
                    <a:pt x="292" y="896"/>
                  </a:lnTo>
                  <a:lnTo>
                    <a:pt x="291" y="897"/>
                  </a:lnTo>
                  <a:lnTo>
                    <a:pt x="287" y="901"/>
                  </a:lnTo>
                  <a:lnTo>
                    <a:pt x="277" y="917"/>
                  </a:lnTo>
                  <a:lnTo>
                    <a:pt x="269" y="928"/>
                  </a:lnTo>
                  <a:lnTo>
                    <a:pt x="269" y="928"/>
                  </a:lnTo>
                  <a:lnTo>
                    <a:pt x="268" y="929"/>
                  </a:lnTo>
                  <a:lnTo>
                    <a:pt x="263" y="932"/>
                  </a:lnTo>
                  <a:lnTo>
                    <a:pt x="248" y="943"/>
                  </a:lnTo>
                  <a:lnTo>
                    <a:pt x="236" y="951"/>
                  </a:lnTo>
                  <a:lnTo>
                    <a:pt x="236" y="951"/>
                  </a:lnTo>
                  <a:lnTo>
                    <a:pt x="235" y="952"/>
                  </a:lnTo>
                  <a:lnTo>
                    <a:pt x="233" y="953"/>
                  </a:lnTo>
                  <a:lnTo>
                    <a:pt x="226" y="956"/>
                  </a:lnTo>
                  <a:lnTo>
                    <a:pt x="222" y="959"/>
                  </a:lnTo>
                  <a:lnTo>
                    <a:pt x="222" y="959"/>
                  </a:lnTo>
                  <a:lnTo>
                    <a:pt x="220" y="958"/>
                  </a:lnTo>
                  <a:lnTo>
                    <a:pt x="214" y="953"/>
                  </a:lnTo>
                  <a:lnTo>
                    <a:pt x="210" y="949"/>
                  </a:lnTo>
                  <a:lnTo>
                    <a:pt x="210" y="947"/>
                  </a:lnTo>
                  <a:lnTo>
                    <a:pt x="209" y="945"/>
                  </a:lnTo>
                  <a:lnTo>
                    <a:pt x="205" y="939"/>
                  </a:lnTo>
                  <a:lnTo>
                    <a:pt x="203" y="934"/>
                  </a:lnTo>
                  <a:lnTo>
                    <a:pt x="203" y="933"/>
                  </a:lnTo>
                  <a:lnTo>
                    <a:pt x="197" y="934"/>
                  </a:lnTo>
                  <a:lnTo>
                    <a:pt x="179" y="935"/>
                  </a:lnTo>
                  <a:lnTo>
                    <a:pt x="166" y="936"/>
                  </a:lnTo>
                  <a:lnTo>
                    <a:pt x="166" y="936"/>
                  </a:lnTo>
                  <a:lnTo>
                    <a:pt x="165" y="934"/>
                  </a:lnTo>
                  <a:lnTo>
                    <a:pt x="163" y="928"/>
                  </a:lnTo>
                  <a:lnTo>
                    <a:pt x="162" y="923"/>
                  </a:lnTo>
                  <a:lnTo>
                    <a:pt x="162" y="922"/>
                  </a:lnTo>
                  <a:lnTo>
                    <a:pt x="162" y="920"/>
                  </a:lnTo>
                  <a:lnTo>
                    <a:pt x="162" y="910"/>
                  </a:lnTo>
                  <a:lnTo>
                    <a:pt x="162" y="904"/>
                  </a:lnTo>
                  <a:lnTo>
                    <a:pt x="163" y="903"/>
                  </a:lnTo>
                  <a:lnTo>
                    <a:pt x="163" y="905"/>
                  </a:lnTo>
                  <a:lnTo>
                    <a:pt x="162" y="909"/>
                  </a:lnTo>
                  <a:lnTo>
                    <a:pt x="162" y="912"/>
                  </a:lnTo>
                  <a:lnTo>
                    <a:pt x="163" y="912"/>
                  </a:lnTo>
                  <a:lnTo>
                    <a:pt x="164" y="910"/>
                  </a:lnTo>
                  <a:lnTo>
                    <a:pt x="168" y="904"/>
                  </a:lnTo>
                  <a:lnTo>
                    <a:pt x="172" y="899"/>
                  </a:lnTo>
                  <a:lnTo>
                    <a:pt x="173" y="898"/>
                  </a:lnTo>
                  <a:lnTo>
                    <a:pt x="175" y="895"/>
                  </a:lnTo>
                  <a:lnTo>
                    <a:pt x="176" y="894"/>
                  </a:lnTo>
                  <a:lnTo>
                    <a:pt x="177" y="893"/>
                  </a:lnTo>
                  <a:lnTo>
                    <a:pt x="178" y="891"/>
                  </a:lnTo>
                  <a:lnTo>
                    <a:pt x="184" y="881"/>
                  </a:lnTo>
                  <a:lnTo>
                    <a:pt x="187" y="874"/>
                  </a:lnTo>
                  <a:lnTo>
                    <a:pt x="188" y="873"/>
                  </a:lnTo>
                  <a:lnTo>
                    <a:pt x="189" y="871"/>
                  </a:lnTo>
                  <a:lnTo>
                    <a:pt x="196" y="864"/>
                  </a:lnTo>
                  <a:lnTo>
                    <a:pt x="200" y="860"/>
                  </a:lnTo>
                  <a:lnTo>
                    <a:pt x="201" y="859"/>
                  </a:lnTo>
                  <a:lnTo>
                    <a:pt x="202" y="856"/>
                  </a:lnTo>
                  <a:lnTo>
                    <a:pt x="208" y="845"/>
                  </a:lnTo>
                  <a:lnTo>
                    <a:pt x="211" y="836"/>
                  </a:lnTo>
                  <a:lnTo>
                    <a:pt x="212" y="835"/>
                  </a:lnTo>
                  <a:lnTo>
                    <a:pt x="212" y="831"/>
                  </a:lnTo>
                  <a:lnTo>
                    <a:pt x="215" y="821"/>
                  </a:lnTo>
                  <a:lnTo>
                    <a:pt x="216" y="812"/>
                  </a:lnTo>
                  <a:lnTo>
                    <a:pt x="217" y="811"/>
                  </a:lnTo>
                  <a:lnTo>
                    <a:pt x="217" y="808"/>
                  </a:lnTo>
                  <a:lnTo>
                    <a:pt x="221" y="800"/>
                  </a:lnTo>
                  <a:lnTo>
                    <a:pt x="222" y="793"/>
                  </a:lnTo>
                  <a:lnTo>
                    <a:pt x="223" y="792"/>
                  </a:lnTo>
                  <a:lnTo>
                    <a:pt x="223" y="790"/>
                  </a:lnTo>
                  <a:lnTo>
                    <a:pt x="224" y="783"/>
                  </a:lnTo>
                  <a:lnTo>
                    <a:pt x="225" y="778"/>
                  </a:lnTo>
                  <a:lnTo>
                    <a:pt x="226" y="777"/>
                  </a:lnTo>
                  <a:lnTo>
                    <a:pt x="225" y="775"/>
                  </a:lnTo>
                  <a:lnTo>
                    <a:pt x="222" y="768"/>
                  </a:lnTo>
                  <a:lnTo>
                    <a:pt x="220" y="764"/>
                  </a:lnTo>
                  <a:lnTo>
                    <a:pt x="220" y="763"/>
                  </a:lnTo>
                  <a:lnTo>
                    <a:pt x="217" y="760"/>
                  </a:lnTo>
                  <a:lnTo>
                    <a:pt x="212" y="754"/>
                  </a:lnTo>
                  <a:lnTo>
                    <a:pt x="209" y="749"/>
                  </a:lnTo>
                  <a:lnTo>
                    <a:pt x="209" y="748"/>
                  </a:lnTo>
                  <a:lnTo>
                    <a:pt x="207" y="746"/>
                  </a:lnTo>
                  <a:lnTo>
                    <a:pt x="200" y="738"/>
                  </a:lnTo>
                  <a:lnTo>
                    <a:pt x="196" y="733"/>
                  </a:lnTo>
                  <a:lnTo>
                    <a:pt x="196" y="732"/>
                  </a:lnTo>
                  <a:lnTo>
                    <a:pt x="195" y="732"/>
                  </a:lnTo>
                  <a:lnTo>
                    <a:pt x="191" y="732"/>
                  </a:lnTo>
                  <a:lnTo>
                    <a:pt x="181" y="732"/>
                  </a:lnTo>
                  <a:lnTo>
                    <a:pt x="174" y="732"/>
                  </a:lnTo>
                  <a:lnTo>
                    <a:pt x="174" y="731"/>
                  </a:lnTo>
                  <a:lnTo>
                    <a:pt x="170" y="730"/>
                  </a:lnTo>
                  <a:lnTo>
                    <a:pt x="161" y="725"/>
                  </a:lnTo>
                  <a:lnTo>
                    <a:pt x="154" y="722"/>
                  </a:lnTo>
                  <a:lnTo>
                    <a:pt x="154" y="721"/>
                  </a:lnTo>
                  <a:lnTo>
                    <a:pt x="149" y="717"/>
                  </a:lnTo>
                  <a:lnTo>
                    <a:pt x="136" y="701"/>
                  </a:lnTo>
                  <a:lnTo>
                    <a:pt x="125" y="690"/>
                  </a:lnTo>
                  <a:lnTo>
                    <a:pt x="125" y="689"/>
                  </a:lnTo>
                  <a:lnTo>
                    <a:pt x="123" y="689"/>
                  </a:lnTo>
                  <a:lnTo>
                    <a:pt x="121" y="689"/>
                  </a:lnTo>
                  <a:lnTo>
                    <a:pt x="111" y="689"/>
                  </a:lnTo>
                  <a:lnTo>
                    <a:pt x="105" y="689"/>
                  </a:lnTo>
                  <a:lnTo>
                    <a:pt x="105" y="688"/>
                  </a:lnTo>
                  <a:lnTo>
                    <a:pt x="102" y="686"/>
                  </a:lnTo>
                  <a:lnTo>
                    <a:pt x="94" y="676"/>
                  </a:lnTo>
                  <a:lnTo>
                    <a:pt x="88" y="668"/>
                  </a:lnTo>
                  <a:lnTo>
                    <a:pt x="88" y="667"/>
                  </a:lnTo>
                  <a:lnTo>
                    <a:pt x="88" y="664"/>
                  </a:lnTo>
                  <a:lnTo>
                    <a:pt x="90" y="652"/>
                  </a:lnTo>
                  <a:lnTo>
                    <a:pt x="91" y="643"/>
                  </a:lnTo>
                  <a:lnTo>
                    <a:pt x="92" y="642"/>
                  </a:lnTo>
                  <a:lnTo>
                    <a:pt x="94" y="640"/>
                  </a:lnTo>
                  <a:lnTo>
                    <a:pt x="103" y="631"/>
                  </a:lnTo>
                  <a:lnTo>
                    <a:pt x="109" y="625"/>
                  </a:lnTo>
                  <a:lnTo>
                    <a:pt x="110" y="624"/>
                  </a:lnTo>
                  <a:lnTo>
                    <a:pt x="113" y="623"/>
                  </a:lnTo>
                  <a:lnTo>
                    <a:pt x="121" y="617"/>
                  </a:lnTo>
                  <a:lnTo>
                    <a:pt x="128" y="613"/>
                  </a:lnTo>
                  <a:lnTo>
                    <a:pt x="129" y="612"/>
                  </a:lnTo>
                  <a:lnTo>
                    <a:pt x="132" y="610"/>
                  </a:lnTo>
                  <a:lnTo>
                    <a:pt x="144" y="606"/>
                  </a:lnTo>
                  <a:lnTo>
                    <a:pt x="153" y="603"/>
                  </a:lnTo>
                  <a:lnTo>
                    <a:pt x="154" y="602"/>
                  </a:lnTo>
                  <a:lnTo>
                    <a:pt x="156" y="600"/>
                  </a:lnTo>
                  <a:lnTo>
                    <a:pt x="164" y="591"/>
                  </a:lnTo>
                  <a:lnTo>
                    <a:pt x="169" y="584"/>
                  </a:lnTo>
                  <a:lnTo>
                    <a:pt x="170" y="583"/>
                  </a:lnTo>
                  <a:lnTo>
                    <a:pt x="172" y="580"/>
                  </a:lnTo>
                  <a:lnTo>
                    <a:pt x="175" y="567"/>
                  </a:lnTo>
                  <a:lnTo>
                    <a:pt x="177" y="557"/>
                  </a:lnTo>
                  <a:lnTo>
                    <a:pt x="178" y="556"/>
                  </a:lnTo>
                  <a:lnTo>
                    <a:pt x="178" y="553"/>
                  </a:lnTo>
                  <a:lnTo>
                    <a:pt x="179" y="542"/>
                  </a:lnTo>
                  <a:lnTo>
                    <a:pt x="179" y="534"/>
                  </a:lnTo>
                  <a:lnTo>
                    <a:pt x="180" y="533"/>
                  </a:lnTo>
                  <a:lnTo>
                    <a:pt x="180" y="531"/>
                  </a:lnTo>
                  <a:lnTo>
                    <a:pt x="181" y="521"/>
                  </a:lnTo>
                  <a:lnTo>
                    <a:pt x="183" y="513"/>
                  </a:lnTo>
                  <a:lnTo>
                    <a:pt x="184" y="512"/>
                  </a:lnTo>
                  <a:lnTo>
                    <a:pt x="185" y="509"/>
                  </a:lnTo>
                  <a:lnTo>
                    <a:pt x="188" y="498"/>
                  </a:lnTo>
                  <a:lnTo>
                    <a:pt x="190" y="490"/>
                  </a:lnTo>
                  <a:lnTo>
                    <a:pt x="191" y="489"/>
                  </a:lnTo>
                  <a:lnTo>
                    <a:pt x="198" y="490"/>
                  </a:lnTo>
                  <a:lnTo>
                    <a:pt x="202" y="490"/>
                  </a:lnTo>
                  <a:lnTo>
                    <a:pt x="203" y="490"/>
                  </a:lnTo>
                  <a:lnTo>
                    <a:pt x="205" y="487"/>
                  </a:lnTo>
                  <a:lnTo>
                    <a:pt x="207" y="485"/>
                  </a:lnTo>
                  <a:lnTo>
                    <a:pt x="208" y="484"/>
                  </a:lnTo>
                  <a:lnTo>
                    <a:pt x="208" y="481"/>
                  </a:lnTo>
                  <a:lnTo>
                    <a:pt x="207" y="474"/>
                  </a:lnTo>
                  <a:lnTo>
                    <a:pt x="207" y="467"/>
                  </a:lnTo>
                  <a:lnTo>
                    <a:pt x="208" y="466"/>
                  </a:lnTo>
                  <a:lnTo>
                    <a:pt x="207" y="464"/>
                  </a:lnTo>
                  <a:lnTo>
                    <a:pt x="205" y="456"/>
                  </a:lnTo>
                  <a:lnTo>
                    <a:pt x="205" y="450"/>
                  </a:lnTo>
                  <a:lnTo>
                    <a:pt x="205" y="449"/>
                  </a:lnTo>
                  <a:lnTo>
                    <a:pt x="207" y="447"/>
                  </a:lnTo>
                  <a:lnTo>
                    <a:pt x="212" y="443"/>
                  </a:lnTo>
                  <a:lnTo>
                    <a:pt x="215" y="440"/>
                  </a:lnTo>
                  <a:lnTo>
                    <a:pt x="216" y="439"/>
                  </a:lnTo>
                  <a:lnTo>
                    <a:pt x="213" y="435"/>
                  </a:lnTo>
                  <a:lnTo>
                    <a:pt x="212" y="433"/>
                  </a:lnTo>
                  <a:lnTo>
                    <a:pt x="212" y="432"/>
                  </a:lnTo>
                  <a:lnTo>
                    <a:pt x="211" y="429"/>
                  </a:lnTo>
                  <a:lnTo>
                    <a:pt x="209" y="416"/>
                  </a:lnTo>
                  <a:lnTo>
                    <a:pt x="208" y="406"/>
                  </a:lnTo>
                  <a:lnTo>
                    <a:pt x="208" y="405"/>
                  </a:lnTo>
                  <a:lnTo>
                    <a:pt x="208" y="402"/>
                  </a:lnTo>
                  <a:lnTo>
                    <a:pt x="210" y="392"/>
                  </a:lnTo>
                  <a:lnTo>
                    <a:pt x="211" y="384"/>
                  </a:lnTo>
                  <a:lnTo>
                    <a:pt x="212" y="383"/>
                  </a:lnTo>
                  <a:lnTo>
                    <a:pt x="211" y="384"/>
                  </a:lnTo>
                  <a:lnTo>
                    <a:pt x="207" y="385"/>
                  </a:lnTo>
                  <a:lnTo>
                    <a:pt x="204" y="386"/>
                  </a:lnTo>
                  <a:lnTo>
                    <a:pt x="204" y="386"/>
                  </a:lnTo>
                  <a:lnTo>
                    <a:pt x="201" y="384"/>
                  </a:lnTo>
                  <a:lnTo>
                    <a:pt x="195" y="376"/>
                  </a:lnTo>
                  <a:lnTo>
                    <a:pt x="190" y="371"/>
                  </a:lnTo>
                  <a:lnTo>
                    <a:pt x="190" y="370"/>
                  </a:lnTo>
                  <a:lnTo>
                    <a:pt x="188" y="363"/>
                  </a:lnTo>
                  <a:lnTo>
                    <a:pt x="187" y="359"/>
                  </a:lnTo>
                  <a:lnTo>
                    <a:pt x="187" y="358"/>
                  </a:lnTo>
                  <a:lnTo>
                    <a:pt x="188" y="358"/>
                  </a:lnTo>
                  <a:lnTo>
                    <a:pt x="193" y="357"/>
                  </a:lnTo>
                  <a:lnTo>
                    <a:pt x="198" y="356"/>
                  </a:lnTo>
                  <a:lnTo>
                    <a:pt x="199" y="355"/>
                  </a:lnTo>
                  <a:lnTo>
                    <a:pt x="202" y="350"/>
                  </a:lnTo>
                  <a:lnTo>
                    <a:pt x="203" y="348"/>
                  </a:lnTo>
                  <a:lnTo>
                    <a:pt x="204" y="347"/>
                  </a:lnTo>
                  <a:lnTo>
                    <a:pt x="204" y="346"/>
                  </a:lnTo>
                  <a:lnTo>
                    <a:pt x="205" y="342"/>
                  </a:lnTo>
                  <a:lnTo>
                    <a:pt x="205" y="340"/>
                  </a:lnTo>
                  <a:lnTo>
                    <a:pt x="207" y="339"/>
                  </a:lnTo>
                  <a:lnTo>
                    <a:pt x="207" y="338"/>
                  </a:lnTo>
                  <a:lnTo>
                    <a:pt x="205" y="335"/>
                  </a:lnTo>
                  <a:lnTo>
                    <a:pt x="205" y="333"/>
                  </a:lnTo>
                  <a:lnTo>
                    <a:pt x="207" y="332"/>
                  </a:lnTo>
                  <a:lnTo>
                    <a:pt x="205" y="332"/>
                  </a:lnTo>
                  <a:lnTo>
                    <a:pt x="204" y="332"/>
                  </a:lnTo>
                  <a:lnTo>
                    <a:pt x="200" y="332"/>
                  </a:lnTo>
                  <a:lnTo>
                    <a:pt x="197" y="332"/>
                  </a:lnTo>
                  <a:lnTo>
                    <a:pt x="197" y="330"/>
                  </a:lnTo>
                  <a:lnTo>
                    <a:pt x="193" y="332"/>
                  </a:lnTo>
                  <a:lnTo>
                    <a:pt x="185" y="335"/>
                  </a:lnTo>
                  <a:lnTo>
                    <a:pt x="178" y="337"/>
                  </a:lnTo>
                  <a:lnTo>
                    <a:pt x="178" y="337"/>
                  </a:lnTo>
                  <a:lnTo>
                    <a:pt x="176" y="335"/>
                  </a:lnTo>
                  <a:lnTo>
                    <a:pt x="172" y="326"/>
                  </a:lnTo>
                  <a:lnTo>
                    <a:pt x="168" y="320"/>
                  </a:lnTo>
                  <a:lnTo>
                    <a:pt x="168" y="318"/>
                  </a:lnTo>
                  <a:lnTo>
                    <a:pt x="166" y="315"/>
                  </a:lnTo>
                  <a:lnTo>
                    <a:pt x="162" y="305"/>
                  </a:lnTo>
                  <a:lnTo>
                    <a:pt x="158" y="298"/>
                  </a:lnTo>
                  <a:lnTo>
                    <a:pt x="158" y="297"/>
                  </a:lnTo>
                  <a:lnTo>
                    <a:pt x="156" y="293"/>
                  </a:lnTo>
                  <a:lnTo>
                    <a:pt x="153" y="281"/>
                  </a:lnTo>
                  <a:lnTo>
                    <a:pt x="151" y="271"/>
                  </a:lnTo>
                  <a:lnTo>
                    <a:pt x="151" y="270"/>
                  </a:lnTo>
                  <a:lnTo>
                    <a:pt x="154" y="279"/>
                  </a:lnTo>
                  <a:lnTo>
                    <a:pt x="155" y="283"/>
                  </a:lnTo>
                  <a:lnTo>
                    <a:pt x="156" y="283"/>
                  </a:lnTo>
                  <a:lnTo>
                    <a:pt x="158" y="289"/>
                  </a:lnTo>
                  <a:lnTo>
                    <a:pt x="160" y="292"/>
                  </a:lnTo>
                  <a:lnTo>
                    <a:pt x="161" y="292"/>
                  </a:lnTo>
                  <a:lnTo>
                    <a:pt x="162" y="291"/>
                  </a:lnTo>
                  <a:lnTo>
                    <a:pt x="165" y="288"/>
                  </a:lnTo>
                  <a:lnTo>
                    <a:pt x="167" y="285"/>
                  </a:lnTo>
                  <a:lnTo>
                    <a:pt x="168" y="283"/>
                  </a:lnTo>
                  <a:lnTo>
                    <a:pt x="168" y="280"/>
                  </a:lnTo>
                  <a:lnTo>
                    <a:pt x="170" y="269"/>
                  </a:lnTo>
                  <a:lnTo>
                    <a:pt x="172" y="260"/>
                  </a:lnTo>
                  <a:lnTo>
                    <a:pt x="173" y="259"/>
                  </a:lnTo>
                  <a:lnTo>
                    <a:pt x="170" y="260"/>
                  </a:lnTo>
                  <a:lnTo>
                    <a:pt x="167" y="260"/>
                  </a:lnTo>
                  <a:lnTo>
                    <a:pt x="164" y="260"/>
                  </a:lnTo>
                  <a:lnTo>
                    <a:pt x="164" y="260"/>
                  </a:lnTo>
                  <a:lnTo>
                    <a:pt x="158" y="258"/>
                  </a:lnTo>
                  <a:lnTo>
                    <a:pt x="156" y="257"/>
                  </a:lnTo>
                  <a:lnTo>
                    <a:pt x="156" y="256"/>
                  </a:lnTo>
                  <a:lnTo>
                    <a:pt x="160" y="253"/>
                  </a:lnTo>
                  <a:lnTo>
                    <a:pt x="161" y="251"/>
                  </a:lnTo>
                  <a:lnTo>
                    <a:pt x="162" y="249"/>
                  </a:lnTo>
                  <a:lnTo>
                    <a:pt x="161" y="243"/>
                  </a:lnTo>
                  <a:lnTo>
                    <a:pt x="161" y="240"/>
                  </a:lnTo>
                  <a:lnTo>
                    <a:pt x="161" y="239"/>
                  </a:lnTo>
                  <a:lnTo>
                    <a:pt x="161" y="237"/>
                  </a:lnTo>
                  <a:lnTo>
                    <a:pt x="162" y="232"/>
                  </a:lnTo>
                  <a:lnTo>
                    <a:pt x="162" y="229"/>
                  </a:lnTo>
                  <a:lnTo>
                    <a:pt x="163" y="228"/>
                  </a:lnTo>
                  <a:lnTo>
                    <a:pt x="157" y="224"/>
                  </a:lnTo>
                  <a:lnTo>
                    <a:pt x="155" y="223"/>
                  </a:lnTo>
                  <a:lnTo>
                    <a:pt x="155" y="222"/>
                  </a:lnTo>
                  <a:lnTo>
                    <a:pt x="154" y="223"/>
                  </a:lnTo>
                  <a:lnTo>
                    <a:pt x="151" y="229"/>
                  </a:lnTo>
                  <a:lnTo>
                    <a:pt x="150" y="232"/>
                  </a:lnTo>
                  <a:lnTo>
                    <a:pt x="150" y="232"/>
                  </a:lnTo>
                  <a:lnTo>
                    <a:pt x="149" y="232"/>
                  </a:lnTo>
                  <a:lnTo>
                    <a:pt x="148" y="232"/>
                  </a:lnTo>
                  <a:lnTo>
                    <a:pt x="142" y="231"/>
                  </a:lnTo>
                  <a:lnTo>
                    <a:pt x="138" y="230"/>
                  </a:lnTo>
                  <a:lnTo>
                    <a:pt x="138" y="229"/>
                  </a:lnTo>
                  <a:lnTo>
                    <a:pt x="137" y="231"/>
                  </a:lnTo>
                  <a:lnTo>
                    <a:pt x="136" y="236"/>
                  </a:lnTo>
                  <a:lnTo>
                    <a:pt x="136" y="241"/>
                  </a:lnTo>
                  <a:lnTo>
                    <a:pt x="136" y="241"/>
                  </a:lnTo>
                  <a:lnTo>
                    <a:pt x="136" y="242"/>
                  </a:lnTo>
                  <a:lnTo>
                    <a:pt x="136" y="243"/>
                  </a:lnTo>
                  <a:lnTo>
                    <a:pt x="137" y="247"/>
                  </a:lnTo>
                  <a:lnTo>
                    <a:pt x="137" y="251"/>
                  </a:lnTo>
                  <a:lnTo>
                    <a:pt x="138" y="251"/>
                  </a:lnTo>
                  <a:lnTo>
                    <a:pt x="138" y="252"/>
                  </a:lnTo>
                  <a:lnTo>
                    <a:pt x="137" y="255"/>
                  </a:lnTo>
                  <a:lnTo>
                    <a:pt x="137" y="256"/>
                  </a:lnTo>
                  <a:lnTo>
                    <a:pt x="138" y="256"/>
                  </a:lnTo>
                  <a:lnTo>
                    <a:pt x="133" y="251"/>
                  </a:lnTo>
                  <a:lnTo>
                    <a:pt x="122" y="231"/>
                  </a:lnTo>
                  <a:lnTo>
                    <a:pt x="115" y="216"/>
                  </a:lnTo>
                  <a:lnTo>
                    <a:pt x="115" y="214"/>
                  </a:lnTo>
                  <a:lnTo>
                    <a:pt x="109" y="208"/>
                  </a:lnTo>
                  <a:lnTo>
                    <a:pt x="93" y="188"/>
                  </a:lnTo>
                  <a:lnTo>
                    <a:pt x="81" y="172"/>
                  </a:lnTo>
                  <a:lnTo>
                    <a:pt x="81" y="171"/>
                  </a:lnTo>
                  <a:lnTo>
                    <a:pt x="79" y="169"/>
                  </a:lnTo>
                  <a:lnTo>
                    <a:pt x="75" y="160"/>
                  </a:lnTo>
                  <a:lnTo>
                    <a:pt x="72" y="153"/>
                  </a:lnTo>
                  <a:lnTo>
                    <a:pt x="72" y="152"/>
                  </a:lnTo>
                  <a:lnTo>
                    <a:pt x="71" y="149"/>
                  </a:lnTo>
                  <a:lnTo>
                    <a:pt x="71" y="147"/>
                  </a:lnTo>
                  <a:lnTo>
                    <a:pt x="72" y="146"/>
                  </a:lnTo>
                  <a:lnTo>
                    <a:pt x="73" y="144"/>
                  </a:lnTo>
                  <a:lnTo>
                    <a:pt x="76" y="139"/>
                  </a:lnTo>
                  <a:lnTo>
                    <a:pt x="79" y="135"/>
                  </a:lnTo>
                  <a:lnTo>
                    <a:pt x="80" y="134"/>
                  </a:lnTo>
                  <a:lnTo>
                    <a:pt x="81" y="131"/>
                  </a:lnTo>
                  <a:lnTo>
                    <a:pt x="84" y="125"/>
                  </a:lnTo>
                  <a:lnTo>
                    <a:pt x="86" y="119"/>
                  </a:lnTo>
                  <a:lnTo>
                    <a:pt x="87" y="118"/>
                  </a:lnTo>
                  <a:lnTo>
                    <a:pt x="83" y="116"/>
                  </a:lnTo>
                  <a:lnTo>
                    <a:pt x="82" y="115"/>
                  </a:lnTo>
                  <a:lnTo>
                    <a:pt x="82" y="114"/>
                  </a:lnTo>
                  <a:lnTo>
                    <a:pt x="81" y="115"/>
                  </a:lnTo>
                  <a:lnTo>
                    <a:pt x="79" y="119"/>
                  </a:lnTo>
                  <a:lnTo>
                    <a:pt x="78" y="123"/>
                  </a:lnTo>
                  <a:lnTo>
                    <a:pt x="78" y="123"/>
                  </a:lnTo>
                  <a:lnTo>
                    <a:pt x="76" y="124"/>
                  </a:lnTo>
                  <a:lnTo>
                    <a:pt x="75" y="126"/>
                  </a:lnTo>
                  <a:lnTo>
                    <a:pt x="70" y="132"/>
                  </a:lnTo>
                  <a:lnTo>
                    <a:pt x="66" y="137"/>
                  </a:lnTo>
                  <a:lnTo>
                    <a:pt x="66" y="137"/>
                  </a:lnTo>
                  <a:lnTo>
                    <a:pt x="62" y="135"/>
                  </a:lnTo>
                  <a:lnTo>
                    <a:pt x="56" y="127"/>
                  </a:lnTo>
                  <a:lnTo>
                    <a:pt x="50" y="122"/>
                  </a:lnTo>
                  <a:lnTo>
                    <a:pt x="50" y="120"/>
                  </a:lnTo>
                  <a:lnTo>
                    <a:pt x="49" y="118"/>
                  </a:lnTo>
                  <a:lnTo>
                    <a:pt x="46" y="109"/>
                  </a:lnTo>
                  <a:lnTo>
                    <a:pt x="44" y="103"/>
                  </a:lnTo>
                  <a:lnTo>
                    <a:pt x="44" y="102"/>
                  </a:lnTo>
                  <a:lnTo>
                    <a:pt x="44" y="101"/>
                  </a:lnTo>
                  <a:lnTo>
                    <a:pt x="43" y="97"/>
                  </a:lnTo>
                  <a:lnTo>
                    <a:pt x="43" y="94"/>
                  </a:lnTo>
                  <a:lnTo>
                    <a:pt x="44" y="93"/>
                  </a:lnTo>
                  <a:lnTo>
                    <a:pt x="45" y="91"/>
                  </a:lnTo>
                  <a:lnTo>
                    <a:pt x="46" y="89"/>
                  </a:lnTo>
                  <a:lnTo>
                    <a:pt x="45" y="87"/>
                  </a:lnTo>
                  <a:lnTo>
                    <a:pt x="41" y="78"/>
                  </a:lnTo>
                  <a:lnTo>
                    <a:pt x="40" y="71"/>
                  </a:lnTo>
                  <a:lnTo>
                    <a:pt x="40" y="70"/>
                  </a:lnTo>
                  <a:lnTo>
                    <a:pt x="36" y="65"/>
                  </a:lnTo>
                  <a:lnTo>
                    <a:pt x="24" y="45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9" y="22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5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349800" y="5779080"/>
              <a:ext cx="183240" cy="149040"/>
            </a:xfrm>
            <a:custGeom>
              <a:avLst/>
              <a:gdLst/>
              <a:ahLst/>
              <a:rect l="l" t="t" r="r" b="b"/>
              <a:pathLst>
                <a:path w="755" h="860">
                  <a:moveTo>
                    <a:pt x="557" y="69"/>
                  </a:moveTo>
                  <a:lnTo>
                    <a:pt x="557" y="68"/>
                  </a:lnTo>
                  <a:lnTo>
                    <a:pt x="556" y="63"/>
                  </a:lnTo>
                  <a:lnTo>
                    <a:pt x="556" y="60"/>
                  </a:lnTo>
                  <a:lnTo>
                    <a:pt x="557" y="59"/>
                  </a:lnTo>
                  <a:lnTo>
                    <a:pt x="557" y="57"/>
                  </a:lnTo>
                  <a:lnTo>
                    <a:pt x="557" y="49"/>
                  </a:lnTo>
                  <a:lnTo>
                    <a:pt x="557" y="44"/>
                  </a:lnTo>
                  <a:lnTo>
                    <a:pt x="558" y="43"/>
                  </a:lnTo>
                  <a:lnTo>
                    <a:pt x="562" y="39"/>
                  </a:lnTo>
                  <a:lnTo>
                    <a:pt x="565" y="37"/>
                  </a:lnTo>
                  <a:lnTo>
                    <a:pt x="566" y="36"/>
                  </a:lnTo>
                  <a:lnTo>
                    <a:pt x="570" y="34"/>
                  </a:lnTo>
                  <a:lnTo>
                    <a:pt x="573" y="33"/>
                  </a:lnTo>
                  <a:lnTo>
                    <a:pt x="574" y="32"/>
                  </a:lnTo>
                  <a:lnTo>
                    <a:pt x="577" y="29"/>
                  </a:lnTo>
                  <a:lnTo>
                    <a:pt x="583" y="20"/>
                  </a:lnTo>
                  <a:lnTo>
                    <a:pt x="587" y="13"/>
                  </a:lnTo>
                  <a:lnTo>
                    <a:pt x="589" y="12"/>
                  </a:lnTo>
                  <a:lnTo>
                    <a:pt x="590" y="12"/>
                  </a:lnTo>
                  <a:lnTo>
                    <a:pt x="593" y="12"/>
                  </a:lnTo>
                  <a:lnTo>
                    <a:pt x="595" y="12"/>
                  </a:lnTo>
                  <a:lnTo>
                    <a:pt x="596" y="11"/>
                  </a:lnTo>
                  <a:lnTo>
                    <a:pt x="597" y="8"/>
                  </a:lnTo>
                  <a:lnTo>
                    <a:pt x="598" y="5"/>
                  </a:lnTo>
                  <a:lnTo>
                    <a:pt x="599" y="4"/>
                  </a:lnTo>
                  <a:lnTo>
                    <a:pt x="604" y="2"/>
                  </a:lnTo>
                  <a:lnTo>
                    <a:pt x="606" y="1"/>
                  </a:lnTo>
                  <a:lnTo>
                    <a:pt x="607" y="0"/>
                  </a:lnTo>
                  <a:lnTo>
                    <a:pt x="609" y="4"/>
                  </a:lnTo>
                  <a:lnTo>
                    <a:pt x="610" y="5"/>
                  </a:lnTo>
                  <a:lnTo>
                    <a:pt x="612" y="5"/>
                  </a:lnTo>
                  <a:lnTo>
                    <a:pt x="610" y="9"/>
                  </a:lnTo>
                  <a:lnTo>
                    <a:pt x="609" y="19"/>
                  </a:lnTo>
                  <a:lnTo>
                    <a:pt x="609" y="26"/>
                  </a:lnTo>
                  <a:lnTo>
                    <a:pt x="609" y="26"/>
                  </a:lnTo>
                  <a:lnTo>
                    <a:pt x="613" y="34"/>
                  </a:lnTo>
                  <a:lnTo>
                    <a:pt x="615" y="37"/>
                  </a:lnTo>
                  <a:lnTo>
                    <a:pt x="616" y="37"/>
                  </a:lnTo>
                  <a:lnTo>
                    <a:pt x="620" y="39"/>
                  </a:lnTo>
                  <a:lnTo>
                    <a:pt x="624" y="40"/>
                  </a:lnTo>
                  <a:lnTo>
                    <a:pt x="625" y="40"/>
                  </a:lnTo>
                  <a:lnTo>
                    <a:pt x="626" y="40"/>
                  </a:lnTo>
                  <a:lnTo>
                    <a:pt x="631" y="39"/>
                  </a:lnTo>
                  <a:lnTo>
                    <a:pt x="634" y="38"/>
                  </a:lnTo>
                  <a:lnTo>
                    <a:pt x="636" y="37"/>
                  </a:lnTo>
                  <a:lnTo>
                    <a:pt x="637" y="39"/>
                  </a:lnTo>
                  <a:lnTo>
                    <a:pt x="640" y="45"/>
                  </a:lnTo>
                  <a:lnTo>
                    <a:pt x="642" y="49"/>
                  </a:lnTo>
                  <a:lnTo>
                    <a:pt x="643" y="49"/>
                  </a:lnTo>
                  <a:lnTo>
                    <a:pt x="642" y="55"/>
                  </a:lnTo>
                  <a:lnTo>
                    <a:pt x="641" y="70"/>
                  </a:lnTo>
                  <a:lnTo>
                    <a:pt x="640" y="81"/>
                  </a:lnTo>
                  <a:lnTo>
                    <a:pt x="640" y="81"/>
                  </a:lnTo>
                  <a:lnTo>
                    <a:pt x="643" y="89"/>
                  </a:lnTo>
                  <a:lnTo>
                    <a:pt x="644" y="93"/>
                  </a:lnTo>
                  <a:lnTo>
                    <a:pt x="645" y="93"/>
                  </a:lnTo>
                  <a:lnTo>
                    <a:pt x="647" y="94"/>
                  </a:lnTo>
                  <a:lnTo>
                    <a:pt x="652" y="97"/>
                  </a:lnTo>
                  <a:lnTo>
                    <a:pt x="655" y="99"/>
                  </a:lnTo>
                  <a:lnTo>
                    <a:pt x="656" y="99"/>
                  </a:lnTo>
                  <a:lnTo>
                    <a:pt x="657" y="98"/>
                  </a:lnTo>
                  <a:lnTo>
                    <a:pt x="661" y="95"/>
                  </a:lnTo>
                  <a:lnTo>
                    <a:pt x="663" y="93"/>
                  </a:lnTo>
                  <a:lnTo>
                    <a:pt x="664" y="92"/>
                  </a:lnTo>
                  <a:lnTo>
                    <a:pt x="669" y="89"/>
                  </a:lnTo>
                  <a:lnTo>
                    <a:pt x="673" y="86"/>
                  </a:lnTo>
                  <a:lnTo>
                    <a:pt x="674" y="85"/>
                  </a:lnTo>
                  <a:lnTo>
                    <a:pt x="675" y="83"/>
                  </a:lnTo>
                  <a:lnTo>
                    <a:pt x="676" y="81"/>
                  </a:lnTo>
                  <a:lnTo>
                    <a:pt x="679" y="79"/>
                  </a:lnTo>
                  <a:lnTo>
                    <a:pt x="680" y="78"/>
                  </a:lnTo>
                  <a:lnTo>
                    <a:pt x="681" y="77"/>
                  </a:lnTo>
                  <a:lnTo>
                    <a:pt x="686" y="73"/>
                  </a:lnTo>
                  <a:lnTo>
                    <a:pt x="689" y="72"/>
                  </a:lnTo>
                  <a:lnTo>
                    <a:pt x="690" y="71"/>
                  </a:lnTo>
                  <a:lnTo>
                    <a:pt x="691" y="70"/>
                  </a:lnTo>
                  <a:lnTo>
                    <a:pt x="695" y="67"/>
                  </a:lnTo>
                  <a:lnTo>
                    <a:pt x="697" y="64"/>
                  </a:lnTo>
                  <a:lnTo>
                    <a:pt x="698" y="63"/>
                  </a:lnTo>
                  <a:lnTo>
                    <a:pt x="699" y="61"/>
                  </a:lnTo>
                  <a:lnTo>
                    <a:pt x="700" y="59"/>
                  </a:lnTo>
                  <a:lnTo>
                    <a:pt x="701" y="58"/>
                  </a:lnTo>
                  <a:lnTo>
                    <a:pt x="707" y="55"/>
                  </a:lnTo>
                  <a:lnTo>
                    <a:pt x="711" y="52"/>
                  </a:lnTo>
                  <a:lnTo>
                    <a:pt x="712" y="51"/>
                  </a:lnTo>
                  <a:lnTo>
                    <a:pt x="715" y="49"/>
                  </a:lnTo>
                  <a:lnTo>
                    <a:pt x="716" y="48"/>
                  </a:lnTo>
                  <a:lnTo>
                    <a:pt x="718" y="47"/>
                  </a:lnTo>
                  <a:lnTo>
                    <a:pt x="722" y="46"/>
                  </a:lnTo>
                  <a:lnTo>
                    <a:pt x="724" y="45"/>
                  </a:lnTo>
                  <a:lnTo>
                    <a:pt x="725" y="44"/>
                  </a:lnTo>
                  <a:lnTo>
                    <a:pt x="726" y="46"/>
                  </a:lnTo>
                  <a:lnTo>
                    <a:pt x="727" y="47"/>
                  </a:lnTo>
                  <a:lnTo>
                    <a:pt x="728" y="47"/>
                  </a:lnTo>
                  <a:lnTo>
                    <a:pt x="727" y="48"/>
                  </a:lnTo>
                  <a:lnTo>
                    <a:pt x="726" y="49"/>
                  </a:lnTo>
                  <a:lnTo>
                    <a:pt x="721" y="55"/>
                  </a:lnTo>
                  <a:lnTo>
                    <a:pt x="718" y="58"/>
                  </a:lnTo>
                  <a:lnTo>
                    <a:pt x="718" y="58"/>
                  </a:lnTo>
                  <a:lnTo>
                    <a:pt x="720" y="60"/>
                  </a:lnTo>
                  <a:lnTo>
                    <a:pt x="721" y="60"/>
                  </a:lnTo>
                  <a:lnTo>
                    <a:pt x="721" y="61"/>
                  </a:lnTo>
                  <a:lnTo>
                    <a:pt x="721" y="63"/>
                  </a:lnTo>
                  <a:lnTo>
                    <a:pt x="721" y="70"/>
                  </a:lnTo>
                  <a:lnTo>
                    <a:pt x="721" y="74"/>
                  </a:lnTo>
                  <a:lnTo>
                    <a:pt x="722" y="74"/>
                  </a:lnTo>
                  <a:lnTo>
                    <a:pt x="720" y="78"/>
                  </a:lnTo>
                  <a:lnTo>
                    <a:pt x="716" y="86"/>
                  </a:lnTo>
                  <a:lnTo>
                    <a:pt x="714" y="93"/>
                  </a:lnTo>
                  <a:lnTo>
                    <a:pt x="714" y="93"/>
                  </a:lnTo>
                  <a:lnTo>
                    <a:pt x="719" y="90"/>
                  </a:lnTo>
                  <a:lnTo>
                    <a:pt x="721" y="89"/>
                  </a:lnTo>
                  <a:lnTo>
                    <a:pt x="722" y="87"/>
                  </a:lnTo>
                  <a:lnTo>
                    <a:pt x="728" y="84"/>
                  </a:lnTo>
                  <a:lnTo>
                    <a:pt x="733" y="82"/>
                  </a:lnTo>
                  <a:lnTo>
                    <a:pt x="734" y="81"/>
                  </a:lnTo>
                  <a:lnTo>
                    <a:pt x="733" y="80"/>
                  </a:lnTo>
                  <a:lnTo>
                    <a:pt x="731" y="75"/>
                  </a:lnTo>
                  <a:lnTo>
                    <a:pt x="730" y="72"/>
                  </a:lnTo>
                  <a:lnTo>
                    <a:pt x="730" y="71"/>
                  </a:lnTo>
                  <a:lnTo>
                    <a:pt x="731" y="69"/>
                  </a:lnTo>
                  <a:lnTo>
                    <a:pt x="734" y="63"/>
                  </a:lnTo>
                  <a:lnTo>
                    <a:pt x="735" y="60"/>
                  </a:lnTo>
                  <a:lnTo>
                    <a:pt x="736" y="59"/>
                  </a:lnTo>
                  <a:lnTo>
                    <a:pt x="737" y="58"/>
                  </a:lnTo>
                  <a:lnTo>
                    <a:pt x="738" y="56"/>
                  </a:lnTo>
                  <a:lnTo>
                    <a:pt x="741" y="55"/>
                  </a:lnTo>
                  <a:lnTo>
                    <a:pt x="742" y="54"/>
                  </a:lnTo>
                  <a:lnTo>
                    <a:pt x="743" y="52"/>
                  </a:lnTo>
                  <a:lnTo>
                    <a:pt x="746" y="52"/>
                  </a:lnTo>
                  <a:lnTo>
                    <a:pt x="747" y="52"/>
                  </a:lnTo>
                  <a:lnTo>
                    <a:pt x="748" y="52"/>
                  </a:lnTo>
                  <a:lnTo>
                    <a:pt x="749" y="56"/>
                  </a:lnTo>
                  <a:lnTo>
                    <a:pt x="750" y="57"/>
                  </a:lnTo>
                  <a:lnTo>
                    <a:pt x="751" y="57"/>
                  </a:lnTo>
                  <a:lnTo>
                    <a:pt x="751" y="58"/>
                  </a:lnTo>
                  <a:lnTo>
                    <a:pt x="753" y="61"/>
                  </a:lnTo>
                  <a:lnTo>
                    <a:pt x="753" y="63"/>
                  </a:lnTo>
                  <a:lnTo>
                    <a:pt x="754" y="63"/>
                  </a:lnTo>
                  <a:lnTo>
                    <a:pt x="755" y="66"/>
                  </a:lnTo>
                  <a:lnTo>
                    <a:pt x="754" y="67"/>
                  </a:lnTo>
                  <a:lnTo>
                    <a:pt x="751" y="71"/>
                  </a:lnTo>
                  <a:lnTo>
                    <a:pt x="750" y="74"/>
                  </a:lnTo>
                  <a:lnTo>
                    <a:pt x="750" y="74"/>
                  </a:lnTo>
                  <a:lnTo>
                    <a:pt x="749" y="75"/>
                  </a:lnTo>
                  <a:lnTo>
                    <a:pt x="746" y="80"/>
                  </a:lnTo>
                  <a:lnTo>
                    <a:pt x="745" y="82"/>
                  </a:lnTo>
                  <a:lnTo>
                    <a:pt x="745" y="82"/>
                  </a:lnTo>
                  <a:lnTo>
                    <a:pt x="744" y="83"/>
                  </a:lnTo>
                  <a:lnTo>
                    <a:pt x="741" y="86"/>
                  </a:lnTo>
                  <a:lnTo>
                    <a:pt x="739" y="87"/>
                  </a:lnTo>
                  <a:lnTo>
                    <a:pt x="739" y="87"/>
                  </a:lnTo>
                  <a:lnTo>
                    <a:pt x="743" y="87"/>
                  </a:lnTo>
                  <a:lnTo>
                    <a:pt x="744" y="87"/>
                  </a:lnTo>
                  <a:lnTo>
                    <a:pt x="745" y="87"/>
                  </a:lnTo>
                  <a:lnTo>
                    <a:pt x="745" y="89"/>
                  </a:lnTo>
                  <a:lnTo>
                    <a:pt x="745" y="90"/>
                  </a:lnTo>
                  <a:lnTo>
                    <a:pt x="747" y="95"/>
                  </a:lnTo>
                  <a:lnTo>
                    <a:pt x="748" y="99"/>
                  </a:lnTo>
                  <a:lnTo>
                    <a:pt x="749" y="99"/>
                  </a:lnTo>
                  <a:lnTo>
                    <a:pt x="748" y="101"/>
                  </a:lnTo>
                  <a:lnTo>
                    <a:pt x="745" y="106"/>
                  </a:lnTo>
                  <a:lnTo>
                    <a:pt x="744" y="109"/>
                  </a:lnTo>
                  <a:lnTo>
                    <a:pt x="744" y="109"/>
                  </a:lnTo>
                  <a:lnTo>
                    <a:pt x="743" y="112"/>
                  </a:lnTo>
                  <a:lnTo>
                    <a:pt x="742" y="116"/>
                  </a:lnTo>
                  <a:lnTo>
                    <a:pt x="741" y="119"/>
                  </a:lnTo>
                  <a:lnTo>
                    <a:pt x="741" y="119"/>
                  </a:lnTo>
                  <a:lnTo>
                    <a:pt x="741" y="120"/>
                  </a:lnTo>
                  <a:lnTo>
                    <a:pt x="741" y="121"/>
                  </a:lnTo>
                  <a:lnTo>
                    <a:pt x="743" y="127"/>
                  </a:lnTo>
                  <a:lnTo>
                    <a:pt x="744" y="131"/>
                  </a:lnTo>
                  <a:lnTo>
                    <a:pt x="745" y="131"/>
                  </a:lnTo>
                  <a:lnTo>
                    <a:pt x="745" y="132"/>
                  </a:lnTo>
                  <a:lnTo>
                    <a:pt x="745" y="136"/>
                  </a:lnTo>
                  <a:lnTo>
                    <a:pt x="748" y="145"/>
                  </a:lnTo>
                  <a:lnTo>
                    <a:pt x="750" y="153"/>
                  </a:lnTo>
                  <a:lnTo>
                    <a:pt x="751" y="153"/>
                  </a:lnTo>
                  <a:lnTo>
                    <a:pt x="750" y="154"/>
                  </a:lnTo>
                  <a:lnTo>
                    <a:pt x="747" y="162"/>
                  </a:lnTo>
                  <a:lnTo>
                    <a:pt x="746" y="166"/>
                  </a:lnTo>
                  <a:lnTo>
                    <a:pt x="746" y="166"/>
                  </a:lnTo>
                  <a:lnTo>
                    <a:pt x="745" y="167"/>
                  </a:lnTo>
                  <a:lnTo>
                    <a:pt x="744" y="168"/>
                  </a:lnTo>
                  <a:lnTo>
                    <a:pt x="739" y="174"/>
                  </a:lnTo>
                  <a:lnTo>
                    <a:pt x="736" y="178"/>
                  </a:lnTo>
                  <a:lnTo>
                    <a:pt x="736" y="178"/>
                  </a:lnTo>
                  <a:lnTo>
                    <a:pt x="735" y="179"/>
                  </a:lnTo>
                  <a:lnTo>
                    <a:pt x="734" y="182"/>
                  </a:lnTo>
                  <a:lnTo>
                    <a:pt x="731" y="188"/>
                  </a:lnTo>
                  <a:lnTo>
                    <a:pt x="727" y="192"/>
                  </a:lnTo>
                  <a:lnTo>
                    <a:pt x="727" y="192"/>
                  </a:lnTo>
                  <a:lnTo>
                    <a:pt x="726" y="195"/>
                  </a:lnTo>
                  <a:lnTo>
                    <a:pt x="724" y="200"/>
                  </a:lnTo>
                  <a:lnTo>
                    <a:pt x="723" y="204"/>
                  </a:lnTo>
                  <a:lnTo>
                    <a:pt x="723" y="204"/>
                  </a:lnTo>
                  <a:lnTo>
                    <a:pt x="722" y="206"/>
                  </a:lnTo>
                  <a:lnTo>
                    <a:pt x="721" y="208"/>
                  </a:lnTo>
                  <a:lnTo>
                    <a:pt x="715" y="217"/>
                  </a:lnTo>
                  <a:lnTo>
                    <a:pt x="712" y="223"/>
                  </a:lnTo>
                  <a:lnTo>
                    <a:pt x="712" y="223"/>
                  </a:lnTo>
                  <a:lnTo>
                    <a:pt x="710" y="224"/>
                  </a:lnTo>
                  <a:lnTo>
                    <a:pt x="704" y="225"/>
                  </a:lnTo>
                  <a:lnTo>
                    <a:pt x="700" y="225"/>
                  </a:lnTo>
                  <a:lnTo>
                    <a:pt x="700" y="225"/>
                  </a:lnTo>
                  <a:lnTo>
                    <a:pt x="699" y="227"/>
                  </a:lnTo>
                  <a:lnTo>
                    <a:pt x="698" y="231"/>
                  </a:lnTo>
                  <a:lnTo>
                    <a:pt x="698" y="234"/>
                  </a:lnTo>
                  <a:lnTo>
                    <a:pt x="698" y="234"/>
                  </a:lnTo>
                  <a:lnTo>
                    <a:pt x="697" y="235"/>
                  </a:lnTo>
                  <a:lnTo>
                    <a:pt x="696" y="236"/>
                  </a:lnTo>
                  <a:lnTo>
                    <a:pt x="692" y="241"/>
                  </a:lnTo>
                  <a:lnTo>
                    <a:pt x="690" y="244"/>
                  </a:lnTo>
                  <a:lnTo>
                    <a:pt x="690" y="244"/>
                  </a:lnTo>
                  <a:lnTo>
                    <a:pt x="689" y="245"/>
                  </a:lnTo>
                  <a:lnTo>
                    <a:pt x="688" y="246"/>
                  </a:lnTo>
                  <a:lnTo>
                    <a:pt x="683" y="253"/>
                  </a:lnTo>
                  <a:lnTo>
                    <a:pt x="678" y="257"/>
                  </a:lnTo>
                  <a:lnTo>
                    <a:pt x="678" y="257"/>
                  </a:lnTo>
                  <a:lnTo>
                    <a:pt x="677" y="258"/>
                  </a:lnTo>
                  <a:lnTo>
                    <a:pt x="676" y="260"/>
                  </a:lnTo>
                  <a:lnTo>
                    <a:pt x="673" y="270"/>
                  </a:lnTo>
                  <a:lnTo>
                    <a:pt x="669" y="278"/>
                  </a:lnTo>
                  <a:lnTo>
                    <a:pt x="669" y="278"/>
                  </a:lnTo>
                  <a:lnTo>
                    <a:pt x="668" y="279"/>
                  </a:lnTo>
                  <a:lnTo>
                    <a:pt x="666" y="283"/>
                  </a:lnTo>
                  <a:lnTo>
                    <a:pt x="659" y="299"/>
                  </a:lnTo>
                  <a:lnTo>
                    <a:pt x="653" y="310"/>
                  </a:lnTo>
                  <a:lnTo>
                    <a:pt x="653" y="310"/>
                  </a:lnTo>
                  <a:lnTo>
                    <a:pt x="652" y="311"/>
                  </a:lnTo>
                  <a:lnTo>
                    <a:pt x="651" y="312"/>
                  </a:lnTo>
                  <a:lnTo>
                    <a:pt x="650" y="312"/>
                  </a:lnTo>
                  <a:lnTo>
                    <a:pt x="649" y="313"/>
                  </a:lnTo>
                  <a:lnTo>
                    <a:pt x="645" y="317"/>
                  </a:lnTo>
                  <a:lnTo>
                    <a:pt x="643" y="320"/>
                  </a:lnTo>
                  <a:lnTo>
                    <a:pt x="643" y="320"/>
                  </a:lnTo>
                  <a:lnTo>
                    <a:pt x="642" y="322"/>
                  </a:lnTo>
                  <a:lnTo>
                    <a:pt x="638" y="324"/>
                  </a:lnTo>
                  <a:lnTo>
                    <a:pt x="636" y="325"/>
                  </a:lnTo>
                  <a:lnTo>
                    <a:pt x="636" y="325"/>
                  </a:lnTo>
                  <a:lnTo>
                    <a:pt x="636" y="323"/>
                  </a:lnTo>
                  <a:lnTo>
                    <a:pt x="634" y="324"/>
                  </a:lnTo>
                  <a:lnTo>
                    <a:pt x="633" y="325"/>
                  </a:lnTo>
                  <a:lnTo>
                    <a:pt x="632" y="326"/>
                  </a:lnTo>
                  <a:lnTo>
                    <a:pt x="632" y="326"/>
                  </a:lnTo>
                  <a:lnTo>
                    <a:pt x="631" y="327"/>
                  </a:lnTo>
                  <a:lnTo>
                    <a:pt x="629" y="330"/>
                  </a:lnTo>
                  <a:lnTo>
                    <a:pt x="628" y="332"/>
                  </a:lnTo>
                  <a:lnTo>
                    <a:pt x="628" y="332"/>
                  </a:lnTo>
                  <a:lnTo>
                    <a:pt x="627" y="334"/>
                  </a:lnTo>
                  <a:lnTo>
                    <a:pt x="622" y="337"/>
                  </a:lnTo>
                  <a:lnTo>
                    <a:pt x="619" y="339"/>
                  </a:lnTo>
                  <a:lnTo>
                    <a:pt x="619" y="339"/>
                  </a:lnTo>
                  <a:lnTo>
                    <a:pt x="618" y="340"/>
                  </a:lnTo>
                  <a:lnTo>
                    <a:pt x="615" y="343"/>
                  </a:lnTo>
                  <a:lnTo>
                    <a:pt x="613" y="346"/>
                  </a:lnTo>
                  <a:lnTo>
                    <a:pt x="613" y="346"/>
                  </a:lnTo>
                  <a:lnTo>
                    <a:pt x="612" y="346"/>
                  </a:lnTo>
                  <a:lnTo>
                    <a:pt x="612" y="346"/>
                  </a:lnTo>
                  <a:lnTo>
                    <a:pt x="610" y="346"/>
                  </a:lnTo>
                  <a:lnTo>
                    <a:pt x="612" y="346"/>
                  </a:lnTo>
                  <a:lnTo>
                    <a:pt x="610" y="346"/>
                  </a:lnTo>
                  <a:lnTo>
                    <a:pt x="612" y="346"/>
                  </a:lnTo>
                  <a:lnTo>
                    <a:pt x="610" y="347"/>
                  </a:lnTo>
                  <a:lnTo>
                    <a:pt x="609" y="348"/>
                  </a:lnTo>
                  <a:lnTo>
                    <a:pt x="608" y="348"/>
                  </a:lnTo>
                  <a:lnTo>
                    <a:pt x="607" y="349"/>
                  </a:lnTo>
                  <a:lnTo>
                    <a:pt x="606" y="350"/>
                  </a:lnTo>
                  <a:lnTo>
                    <a:pt x="606" y="350"/>
                  </a:lnTo>
                  <a:lnTo>
                    <a:pt x="605" y="350"/>
                  </a:lnTo>
                  <a:lnTo>
                    <a:pt x="606" y="350"/>
                  </a:lnTo>
                  <a:lnTo>
                    <a:pt x="605" y="350"/>
                  </a:lnTo>
                  <a:lnTo>
                    <a:pt x="606" y="350"/>
                  </a:lnTo>
                  <a:lnTo>
                    <a:pt x="605" y="351"/>
                  </a:lnTo>
                  <a:lnTo>
                    <a:pt x="604" y="354"/>
                  </a:lnTo>
                  <a:lnTo>
                    <a:pt x="603" y="357"/>
                  </a:lnTo>
                  <a:lnTo>
                    <a:pt x="603" y="357"/>
                  </a:lnTo>
                  <a:lnTo>
                    <a:pt x="601" y="355"/>
                  </a:lnTo>
                  <a:lnTo>
                    <a:pt x="599" y="358"/>
                  </a:lnTo>
                  <a:lnTo>
                    <a:pt x="599" y="363"/>
                  </a:lnTo>
                  <a:lnTo>
                    <a:pt x="599" y="366"/>
                  </a:lnTo>
                  <a:lnTo>
                    <a:pt x="599" y="366"/>
                  </a:lnTo>
                  <a:lnTo>
                    <a:pt x="598" y="369"/>
                  </a:lnTo>
                  <a:lnTo>
                    <a:pt x="597" y="374"/>
                  </a:lnTo>
                  <a:lnTo>
                    <a:pt x="596" y="378"/>
                  </a:lnTo>
                  <a:lnTo>
                    <a:pt x="596" y="378"/>
                  </a:lnTo>
                  <a:lnTo>
                    <a:pt x="595" y="381"/>
                  </a:lnTo>
                  <a:lnTo>
                    <a:pt x="594" y="387"/>
                  </a:lnTo>
                  <a:lnTo>
                    <a:pt x="594" y="392"/>
                  </a:lnTo>
                  <a:lnTo>
                    <a:pt x="594" y="392"/>
                  </a:lnTo>
                  <a:lnTo>
                    <a:pt x="594" y="394"/>
                  </a:lnTo>
                  <a:lnTo>
                    <a:pt x="593" y="397"/>
                  </a:lnTo>
                  <a:lnTo>
                    <a:pt x="593" y="400"/>
                  </a:lnTo>
                  <a:lnTo>
                    <a:pt x="594" y="400"/>
                  </a:lnTo>
                  <a:lnTo>
                    <a:pt x="593" y="402"/>
                  </a:lnTo>
                  <a:lnTo>
                    <a:pt x="591" y="408"/>
                  </a:lnTo>
                  <a:lnTo>
                    <a:pt x="590" y="412"/>
                  </a:lnTo>
                  <a:lnTo>
                    <a:pt x="590" y="412"/>
                  </a:lnTo>
                  <a:lnTo>
                    <a:pt x="589" y="415"/>
                  </a:lnTo>
                  <a:lnTo>
                    <a:pt x="589" y="418"/>
                  </a:lnTo>
                  <a:lnTo>
                    <a:pt x="589" y="421"/>
                  </a:lnTo>
                  <a:lnTo>
                    <a:pt x="589" y="421"/>
                  </a:lnTo>
                  <a:lnTo>
                    <a:pt x="591" y="422"/>
                  </a:lnTo>
                  <a:lnTo>
                    <a:pt x="592" y="422"/>
                  </a:lnTo>
                  <a:lnTo>
                    <a:pt x="599" y="424"/>
                  </a:lnTo>
                  <a:lnTo>
                    <a:pt x="604" y="425"/>
                  </a:lnTo>
                  <a:lnTo>
                    <a:pt x="605" y="425"/>
                  </a:lnTo>
                  <a:lnTo>
                    <a:pt x="606" y="427"/>
                  </a:lnTo>
                  <a:lnTo>
                    <a:pt x="612" y="430"/>
                  </a:lnTo>
                  <a:lnTo>
                    <a:pt x="615" y="432"/>
                  </a:lnTo>
                  <a:lnTo>
                    <a:pt x="616" y="432"/>
                  </a:lnTo>
                  <a:lnTo>
                    <a:pt x="616" y="433"/>
                  </a:lnTo>
                  <a:lnTo>
                    <a:pt x="616" y="435"/>
                  </a:lnTo>
                  <a:lnTo>
                    <a:pt x="617" y="442"/>
                  </a:lnTo>
                  <a:lnTo>
                    <a:pt x="618" y="447"/>
                  </a:lnTo>
                  <a:lnTo>
                    <a:pt x="619" y="447"/>
                  </a:lnTo>
                  <a:lnTo>
                    <a:pt x="617" y="452"/>
                  </a:lnTo>
                  <a:lnTo>
                    <a:pt x="617" y="454"/>
                  </a:lnTo>
                  <a:lnTo>
                    <a:pt x="617" y="454"/>
                  </a:lnTo>
                  <a:lnTo>
                    <a:pt x="612" y="447"/>
                  </a:lnTo>
                  <a:lnTo>
                    <a:pt x="608" y="443"/>
                  </a:lnTo>
                  <a:lnTo>
                    <a:pt x="608" y="442"/>
                  </a:lnTo>
                  <a:lnTo>
                    <a:pt x="607" y="444"/>
                  </a:lnTo>
                  <a:lnTo>
                    <a:pt x="606" y="451"/>
                  </a:lnTo>
                  <a:lnTo>
                    <a:pt x="606" y="455"/>
                  </a:lnTo>
                  <a:lnTo>
                    <a:pt x="606" y="455"/>
                  </a:lnTo>
                  <a:lnTo>
                    <a:pt x="605" y="455"/>
                  </a:lnTo>
                  <a:lnTo>
                    <a:pt x="603" y="455"/>
                  </a:lnTo>
                  <a:lnTo>
                    <a:pt x="595" y="452"/>
                  </a:lnTo>
                  <a:lnTo>
                    <a:pt x="590" y="450"/>
                  </a:lnTo>
                  <a:lnTo>
                    <a:pt x="590" y="448"/>
                  </a:lnTo>
                  <a:lnTo>
                    <a:pt x="589" y="448"/>
                  </a:lnTo>
                  <a:lnTo>
                    <a:pt x="586" y="448"/>
                  </a:lnTo>
                  <a:lnTo>
                    <a:pt x="578" y="445"/>
                  </a:lnTo>
                  <a:lnTo>
                    <a:pt x="571" y="444"/>
                  </a:lnTo>
                  <a:lnTo>
                    <a:pt x="571" y="443"/>
                  </a:lnTo>
                  <a:lnTo>
                    <a:pt x="563" y="440"/>
                  </a:lnTo>
                  <a:lnTo>
                    <a:pt x="560" y="438"/>
                  </a:lnTo>
                  <a:lnTo>
                    <a:pt x="560" y="436"/>
                  </a:lnTo>
                  <a:lnTo>
                    <a:pt x="559" y="438"/>
                  </a:lnTo>
                  <a:lnTo>
                    <a:pt x="556" y="439"/>
                  </a:lnTo>
                  <a:lnTo>
                    <a:pt x="555" y="440"/>
                  </a:lnTo>
                  <a:lnTo>
                    <a:pt x="555" y="440"/>
                  </a:lnTo>
                  <a:lnTo>
                    <a:pt x="554" y="442"/>
                  </a:lnTo>
                  <a:lnTo>
                    <a:pt x="554" y="448"/>
                  </a:lnTo>
                  <a:lnTo>
                    <a:pt x="554" y="453"/>
                  </a:lnTo>
                  <a:lnTo>
                    <a:pt x="554" y="453"/>
                  </a:lnTo>
                  <a:lnTo>
                    <a:pt x="552" y="454"/>
                  </a:lnTo>
                  <a:lnTo>
                    <a:pt x="549" y="458"/>
                  </a:lnTo>
                  <a:lnTo>
                    <a:pt x="547" y="460"/>
                  </a:lnTo>
                  <a:lnTo>
                    <a:pt x="547" y="460"/>
                  </a:lnTo>
                  <a:lnTo>
                    <a:pt x="543" y="457"/>
                  </a:lnTo>
                  <a:lnTo>
                    <a:pt x="542" y="455"/>
                  </a:lnTo>
                  <a:lnTo>
                    <a:pt x="542" y="454"/>
                  </a:lnTo>
                  <a:lnTo>
                    <a:pt x="540" y="454"/>
                  </a:lnTo>
                  <a:lnTo>
                    <a:pt x="537" y="453"/>
                  </a:lnTo>
                  <a:lnTo>
                    <a:pt x="535" y="453"/>
                  </a:lnTo>
                  <a:lnTo>
                    <a:pt x="535" y="452"/>
                  </a:lnTo>
                  <a:lnTo>
                    <a:pt x="534" y="454"/>
                  </a:lnTo>
                  <a:lnTo>
                    <a:pt x="533" y="460"/>
                  </a:lnTo>
                  <a:lnTo>
                    <a:pt x="533" y="465"/>
                  </a:lnTo>
                  <a:lnTo>
                    <a:pt x="533" y="465"/>
                  </a:lnTo>
                  <a:lnTo>
                    <a:pt x="532" y="466"/>
                  </a:lnTo>
                  <a:lnTo>
                    <a:pt x="530" y="467"/>
                  </a:lnTo>
                  <a:lnTo>
                    <a:pt x="523" y="470"/>
                  </a:lnTo>
                  <a:lnTo>
                    <a:pt x="518" y="473"/>
                  </a:lnTo>
                  <a:lnTo>
                    <a:pt x="518" y="473"/>
                  </a:lnTo>
                  <a:lnTo>
                    <a:pt x="516" y="474"/>
                  </a:lnTo>
                  <a:lnTo>
                    <a:pt x="510" y="477"/>
                  </a:lnTo>
                  <a:lnTo>
                    <a:pt x="505" y="478"/>
                  </a:lnTo>
                  <a:lnTo>
                    <a:pt x="505" y="478"/>
                  </a:lnTo>
                  <a:lnTo>
                    <a:pt x="504" y="479"/>
                  </a:lnTo>
                  <a:lnTo>
                    <a:pt x="501" y="482"/>
                  </a:lnTo>
                  <a:lnTo>
                    <a:pt x="499" y="483"/>
                  </a:lnTo>
                  <a:lnTo>
                    <a:pt x="499" y="483"/>
                  </a:lnTo>
                  <a:lnTo>
                    <a:pt x="498" y="485"/>
                  </a:lnTo>
                  <a:lnTo>
                    <a:pt x="497" y="486"/>
                  </a:lnTo>
                  <a:lnTo>
                    <a:pt x="492" y="489"/>
                  </a:lnTo>
                  <a:lnTo>
                    <a:pt x="489" y="491"/>
                  </a:lnTo>
                  <a:lnTo>
                    <a:pt x="489" y="491"/>
                  </a:lnTo>
                  <a:lnTo>
                    <a:pt x="488" y="491"/>
                  </a:lnTo>
                  <a:lnTo>
                    <a:pt x="487" y="491"/>
                  </a:lnTo>
                  <a:lnTo>
                    <a:pt x="484" y="491"/>
                  </a:lnTo>
                  <a:lnTo>
                    <a:pt x="480" y="491"/>
                  </a:lnTo>
                  <a:lnTo>
                    <a:pt x="480" y="490"/>
                  </a:lnTo>
                  <a:lnTo>
                    <a:pt x="478" y="486"/>
                  </a:lnTo>
                  <a:lnTo>
                    <a:pt x="478" y="482"/>
                  </a:lnTo>
                  <a:lnTo>
                    <a:pt x="478" y="481"/>
                  </a:lnTo>
                  <a:lnTo>
                    <a:pt x="474" y="480"/>
                  </a:lnTo>
                  <a:lnTo>
                    <a:pt x="473" y="479"/>
                  </a:lnTo>
                  <a:lnTo>
                    <a:pt x="473" y="478"/>
                  </a:lnTo>
                  <a:lnTo>
                    <a:pt x="470" y="479"/>
                  </a:lnTo>
                  <a:lnTo>
                    <a:pt x="469" y="479"/>
                  </a:lnTo>
                  <a:lnTo>
                    <a:pt x="469" y="479"/>
                  </a:lnTo>
                  <a:lnTo>
                    <a:pt x="469" y="481"/>
                  </a:lnTo>
                  <a:lnTo>
                    <a:pt x="468" y="485"/>
                  </a:lnTo>
                  <a:lnTo>
                    <a:pt x="468" y="488"/>
                  </a:lnTo>
                  <a:lnTo>
                    <a:pt x="469" y="488"/>
                  </a:lnTo>
                  <a:lnTo>
                    <a:pt x="468" y="490"/>
                  </a:lnTo>
                  <a:lnTo>
                    <a:pt x="468" y="493"/>
                  </a:lnTo>
                  <a:lnTo>
                    <a:pt x="468" y="497"/>
                  </a:lnTo>
                  <a:lnTo>
                    <a:pt x="468" y="497"/>
                  </a:lnTo>
                  <a:lnTo>
                    <a:pt x="467" y="501"/>
                  </a:lnTo>
                  <a:lnTo>
                    <a:pt x="464" y="511"/>
                  </a:lnTo>
                  <a:lnTo>
                    <a:pt x="463" y="518"/>
                  </a:lnTo>
                  <a:lnTo>
                    <a:pt x="463" y="518"/>
                  </a:lnTo>
                  <a:lnTo>
                    <a:pt x="462" y="520"/>
                  </a:lnTo>
                  <a:lnTo>
                    <a:pt x="461" y="523"/>
                  </a:lnTo>
                  <a:lnTo>
                    <a:pt x="454" y="533"/>
                  </a:lnTo>
                  <a:lnTo>
                    <a:pt x="450" y="540"/>
                  </a:lnTo>
                  <a:lnTo>
                    <a:pt x="450" y="540"/>
                  </a:lnTo>
                  <a:lnTo>
                    <a:pt x="449" y="545"/>
                  </a:lnTo>
                  <a:lnTo>
                    <a:pt x="445" y="555"/>
                  </a:lnTo>
                  <a:lnTo>
                    <a:pt x="444" y="562"/>
                  </a:lnTo>
                  <a:lnTo>
                    <a:pt x="444" y="562"/>
                  </a:lnTo>
                  <a:lnTo>
                    <a:pt x="443" y="568"/>
                  </a:lnTo>
                  <a:lnTo>
                    <a:pt x="442" y="584"/>
                  </a:lnTo>
                  <a:lnTo>
                    <a:pt x="441" y="596"/>
                  </a:lnTo>
                  <a:lnTo>
                    <a:pt x="441" y="596"/>
                  </a:lnTo>
                  <a:lnTo>
                    <a:pt x="440" y="597"/>
                  </a:lnTo>
                  <a:lnTo>
                    <a:pt x="439" y="598"/>
                  </a:lnTo>
                  <a:lnTo>
                    <a:pt x="433" y="602"/>
                  </a:lnTo>
                  <a:lnTo>
                    <a:pt x="430" y="604"/>
                  </a:lnTo>
                  <a:lnTo>
                    <a:pt x="430" y="604"/>
                  </a:lnTo>
                  <a:lnTo>
                    <a:pt x="430" y="606"/>
                  </a:lnTo>
                  <a:lnTo>
                    <a:pt x="429" y="609"/>
                  </a:lnTo>
                  <a:lnTo>
                    <a:pt x="429" y="611"/>
                  </a:lnTo>
                  <a:lnTo>
                    <a:pt x="430" y="611"/>
                  </a:lnTo>
                  <a:lnTo>
                    <a:pt x="430" y="613"/>
                  </a:lnTo>
                  <a:lnTo>
                    <a:pt x="430" y="614"/>
                  </a:lnTo>
                  <a:lnTo>
                    <a:pt x="430" y="620"/>
                  </a:lnTo>
                  <a:lnTo>
                    <a:pt x="430" y="625"/>
                  </a:lnTo>
                  <a:lnTo>
                    <a:pt x="431" y="625"/>
                  </a:lnTo>
                  <a:lnTo>
                    <a:pt x="430" y="626"/>
                  </a:lnTo>
                  <a:lnTo>
                    <a:pt x="429" y="627"/>
                  </a:lnTo>
                  <a:lnTo>
                    <a:pt x="426" y="631"/>
                  </a:lnTo>
                  <a:lnTo>
                    <a:pt x="422" y="634"/>
                  </a:lnTo>
                  <a:lnTo>
                    <a:pt x="422" y="634"/>
                  </a:lnTo>
                  <a:lnTo>
                    <a:pt x="421" y="636"/>
                  </a:lnTo>
                  <a:lnTo>
                    <a:pt x="420" y="637"/>
                  </a:lnTo>
                  <a:lnTo>
                    <a:pt x="417" y="642"/>
                  </a:lnTo>
                  <a:lnTo>
                    <a:pt x="414" y="645"/>
                  </a:lnTo>
                  <a:lnTo>
                    <a:pt x="414" y="645"/>
                  </a:lnTo>
                  <a:lnTo>
                    <a:pt x="413" y="648"/>
                  </a:lnTo>
                  <a:lnTo>
                    <a:pt x="411" y="652"/>
                  </a:lnTo>
                  <a:lnTo>
                    <a:pt x="411" y="655"/>
                  </a:lnTo>
                  <a:lnTo>
                    <a:pt x="411" y="655"/>
                  </a:lnTo>
                  <a:lnTo>
                    <a:pt x="410" y="657"/>
                  </a:lnTo>
                  <a:lnTo>
                    <a:pt x="409" y="664"/>
                  </a:lnTo>
                  <a:lnTo>
                    <a:pt x="408" y="668"/>
                  </a:lnTo>
                  <a:lnTo>
                    <a:pt x="408" y="668"/>
                  </a:lnTo>
                  <a:lnTo>
                    <a:pt x="407" y="672"/>
                  </a:lnTo>
                  <a:lnTo>
                    <a:pt x="406" y="678"/>
                  </a:lnTo>
                  <a:lnTo>
                    <a:pt x="406" y="684"/>
                  </a:lnTo>
                  <a:lnTo>
                    <a:pt x="406" y="684"/>
                  </a:lnTo>
                  <a:lnTo>
                    <a:pt x="405" y="685"/>
                  </a:lnTo>
                  <a:lnTo>
                    <a:pt x="402" y="691"/>
                  </a:lnTo>
                  <a:lnTo>
                    <a:pt x="399" y="696"/>
                  </a:lnTo>
                  <a:lnTo>
                    <a:pt x="399" y="696"/>
                  </a:lnTo>
                  <a:lnTo>
                    <a:pt x="398" y="697"/>
                  </a:lnTo>
                  <a:lnTo>
                    <a:pt x="396" y="700"/>
                  </a:lnTo>
                  <a:lnTo>
                    <a:pt x="395" y="702"/>
                  </a:lnTo>
                  <a:lnTo>
                    <a:pt x="395" y="702"/>
                  </a:lnTo>
                  <a:lnTo>
                    <a:pt x="394" y="703"/>
                  </a:lnTo>
                  <a:lnTo>
                    <a:pt x="393" y="704"/>
                  </a:lnTo>
                  <a:lnTo>
                    <a:pt x="389" y="710"/>
                  </a:lnTo>
                  <a:lnTo>
                    <a:pt x="385" y="713"/>
                  </a:lnTo>
                  <a:lnTo>
                    <a:pt x="385" y="713"/>
                  </a:lnTo>
                  <a:lnTo>
                    <a:pt x="384" y="714"/>
                  </a:lnTo>
                  <a:lnTo>
                    <a:pt x="382" y="719"/>
                  </a:lnTo>
                  <a:lnTo>
                    <a:pt x="381" y="722"/>
                  </a:lnTo>
                  <a:lnTo>
                    <a:pt x="381" y="722"/>
                  </a:lnTo>
                  <a:lnTo>
                    <a:pt x="380" y="724"/>
                  </a:lnTo>
                  <a:lnTo>
                    <a:pt x="380" y="725"/>
                  </a:lnTo>
                  <a:lnTo>
                    <a:pt x="380" y="725"/>
                  </a:lnTo>
                  <a:lnTo>
                    <a:pt x="380" y="726"/>
                  </a:lnTo>
                  <a:lnTo>
                    <a:pt x="381" y="730"/>
                  </a:lnTo>
                  <a:lnTo>
                    <a:pt x="381" y="731"/>
                  </a:lnTo>
                  <a:lnTo>
                    <a:pt x="382" y="731"/>
                  </a:lnTo>
                  <a:lnTo>
                    <a:pt x="381" y="735"/>
                  </a:lnTo>
                  <a:lnTo>
                    <a:pt x="381" y="736"/>
                  </a:lnTo>
                  <a:lnTo>
                    <a:pt x="381" y="736"/>
                  </a:lnTo>
                  <a:lnTo>
                    <a:pt x="380" y="737"/>
                  </a:lnTo>
                  <a:lnTo>
                    <a:pt x="376" y="741"/>
                  </a:lnTo>
                  <a:lnTo>
                    <a:pt x="374" y="743"/>
                  </a:lnTo>
                  <a:lnTo>
                    <a:pt x="374" y="743"/>
                  </a:lnTo>
                  <a:lnTo>
                    <a:pt x="379" y="745"/>
                  </a:lnTo>
                  <a:lnTo>
                    <a:pt x="381" y="745"/>
                  </a:lnTo>
                  <a:lnTo>
                    <a:pt x="382" y="745"/>
                  </a:lnTo>
                  <a:lnTo>
                    <a:pt x="381" y="747"/>
                  </a:lnTo>
                  <a:lnTo>
                    <a:pt x="379" y="753"/>
                  </a:lnTo>
                  <a:lnTo>
                    <a:pt x="378" y="756"/>
                  </a:lnTo>
                  <a:lnTo>
                    <a:pt x="378" y="756"/>
                  </a:lnTo>
                  <a:lnTo>
                    <a:pt x="375" y="757"/>
                  </a:lnTo>
                  <a:lnTo>
                    <a:pt x="369" y="757"/>
                  </a:lnTo>
                  <a:lnTo>
                    <a:pt x="364" y="757"/>
                  </a:lnTo>
                  <a:lnTo>
                    <a:pt x="364" y="757"/>
                  </a:lnTo>
                  <a:lnTo>
                    <a:pt x="363" y="758"/>
                  </a:lnTo>
                  <a:lnTo>
                    <a:pt x="361" y="759"/>
                  </a:lnTo>
                  <a:lnTo>
                    <a:pt x="355" y="763"/>
                  </a:lnTo>
                  <a:lnTo>
                    <a:pt x="350" y="767"/>
                  </a:lnTo>
                  <a:lnTo>
                    <a:pt x="350" y="767"/>
                  </a:lnTo>
                  <a:lnTo>
                    <a:pt x="349" y="768"/>
                  </a:lnTo>
                  <a:lnTo>
                    <a:pt x="348" y="769"/>
                  </a:lnTo>
                  <a:lnTo>
                    <a:pt x="344" y="776"/>
                  </a:lnTo>
                  <a:lnTo>
                    <a:pt x="340" y="780"/>
                  </a:lnTo>
                  <a:lnTo>
                    <a:pt x="340" y="780"/>
                  </a:lnTo>
                  <a:lnTo>
                    <a:pt x="339" y="781"/>
                  </a:lnTo>
                  <a:lnTo>
                    <a:pt x="338" y="782"/>
                  </a:lnTo>
                  <a:lnTo>
                    <a:pt x="335" y="788"/>
                  </a:lnTo>
                  <a:lnTo>
                    <a:pt x="332" y="792"/>
                  </a:lnTo>
                  <a:lnTo>
                    <a:pt x="332" y="792"/>
                  </a:lnTo>
                  <a:lnTo>
                    <a:pt x="331" y="793"/>
                  </a:lnTo>
                  <a:lnTo>
                    <a:pt x="328" y="794"/>
                  </a:lnTo>
                  <a:lnTo>
                    <a:pt x="322" y="797"/>
                  </a:lnTo>
                  <a:lnTo>
                    <a:pt x="317" y="801"/>
                  </a:lnTo>
                  <a:lnTo>
                    <a:pt x="317" y="801"/>
                  </a:lnTo>
                  <a:lnTo>
                    <a:pt x="315" y="802"/>
                  </a:lnTo>
                  <a:lnTo>
                    <a:pt x="310" y="804"/>
                  </a:lnTo>
                  <a:lnTo>
                    <a:pt x="305" y="805"/>
                  </a:lnTo>
                  <a:lnTo>
                    <a:pt x="305" y="805"/>
                  </a:lnTo>
                  <a:lnTo>
                    <a:pt x="304" y="806"/>
                  </a:lnTo>
                  <a:lnTo>
                    <a:pt x="301" y="807"/>
                  </a:lnTo>
                  <a:lnTo>
                    <a:pt x="300" y="808"/>
                  </a:lnTo>
                  <a:lnTo>
                    <a:pt x="300" y="808"/>
                  </a:lnTo>
                  <a:lnTo>
                    <a:pt x="299" y="811"/>
                  </a:lnTo>
                  <a:lnTo>
                    <a:pt x="299" y="814"/>
                  </a:lnTo>
                  <a:lnTo>
                    <a:pt x="299" y="817"/>
                  </a:lnTo>
                  <a:lnTo>
                    <a:pt x="299" y="817"/>
                  </a:lnTo>
                  <a:lnTo>
                    <a:pt x="297" y="818"/>
                  </a:lnTo>
                  <a:lnTo>
                    <a:pt x="292" y="819"/>
                  </a:lnTo>
                  <a:lnTo>
                    <a:pt x="289" y="819"/>
                  </a:lnTo>
                  <a:lnTo>
                    <a:pt x="289" y="819"/>
                  </a:lnTo>
                  <a:lnTo>
                    <a:pt x="288" y="821"/>
                  </a:lnTo>
                  <a:lnTo>
                    <a:pt x="287" y="825"/>
                  </a:lnTo>
                  <a:lnTo>
                    <a:pt x="287" y="827"/>
                  </a:lnTo>
                  <a:lnTo>
                    <a:pt x="287" y="827"/>
                  </a:lnTo>
                  <a:lnTo>
                    <a:pt x="285" y="831"/>
                  </a:lnTo>
                  <a:lnTo>
                    <a:pt x="285" y="832"/>
                  </a:lnTo>
                  <a:lnTo>
                    <a:pt x="285" y="832"/>
                  </a:lnTo>
                  <a:lnTo>
                    <a:pt x="284" y="834"/>
                  </a:lnTo>
                  <a:lnTo>
                    <a:pt x="279" y="836"/>
                  </a:lnTo>
                  <a:lnTo>
                    <a:pt x="277" y="837"/>
                  </a:lnTo>
                  <a:lnTo>
                    <a:pt x="277" y="837"/>
                  </a:lnTo>
                  <a:lnTo>
                    <a:pt x="276" y="838"/>
                  </a:lnTo>
                  <a:lnTo>
                    <a:pt x="272" y="840"/>
                  </a:lnTo>
                  <a:lnTo>
                    <a:pt x="268" y="841"/>
                  </a:lnTo>
                  <a:lnTo>
                    <a:pt x="268" y="841"/>
                  </a:lnTo>
                  <a:lnTo>
                    <a:pt x="267" y="842"/>
                  </a:lnTo>
                  <a:lnTo>
                    <a:pt x="264" y="843"/>
                  </a:lnTo>
                  <a:lnTo>
                    <a:pt x="253" y="849"/>
                  </a:lnTo>
                  <a:lnTo>
                    <a:pt x="244" y="852"/>
                  </a:lnTo>
                  <a:lnTo>
                    <a:pt x="244" y="852"/>
                  </a:lnTo>
                  <a:lnTo>
                    <a:pt x="243" y="852"/>
                  </a:lnTo>
                  <a:lnTo>
                    <a:pt x="240" y="852"/>
                  </a:lnTo>
                  <a:lnTo>
                    <a:pt x="239" y="852"/>
                  </a:lnTo>
                  <a:lnTo>
                    <a:pt x="239" y="852"/>
                  </a:lnTo>
                  <a:lnTo>
                    <a:pt x="238" y="853"/>
                  </a:lnTo>
                  <a:lnTo>
                    <a:pt x="233" y="854"/>
                  </a:lnTo>
                  <a:lnTo>
                    <a:pt x="231" y="855"/>
                  </a:lnTo>
                  <a:lnTo>
                    <a:pt x="231" y="855"/>
                  </a:lnTo>
                  <a:lnTo>
                    <a:pt x="229" y="856"/>
                  </a:lnTo>
                  <a:lnTo>
                    <a:pt x="223" y="859"/>
                  </a:lnTo>
                  <a:lnTo>
                    <a:pt x="220" y="860"/>
                  </a:lnTo>
                  <a:lnTo>
                    <a:pt x="220" y="860"/>
                  </a:lnTo>
                  <a:lnTo>
                    <a:pt x="214" y="858"/>
                  </a:lnTo>
                  <a:lnTo>
                    <a:pt x="210" y="856"/>
                  </a:lnTo>
                  <a:lnTo>
                    <a:pt x="210" y="855"/>
                  </a:lnTo>
                  <a:lnTo>
                    <a:pt x="208" y="848"/>
                  </a:lnTo>
                  <a:lnTo>
                    <a:pt x="207" y="843"/>
                  </a:lnTo>
                  <a:lnTo>
                    <a:pt x="207" y="842"/>
                  </a:lnTo>
                  <a:lnTo>
                    <a:pt x="206" y="842"/>
                  </a:lnTo>
                  <a:lnTo>
                    <a:pt x="203" y="842"/>
                  </a:lnTo>
                  <a:lnTo>
                    <a:pt x="202" y="842"/>
                  </a:lnTo>
                  <a:lnTo>
                    <a:pt x="202" y="841"/>
                  </a:lnTo>
                  <a:lnTo>
                    <a:pt x="200" y="842"/>
                  </a:lnTo>
                  <a:lnTo>
                    <a:pt x="196" y="846"/>
                  </a:lnTo>
                  <a:lnTo>
                    <a:pt x="193" y="848"/>
                  </a:lnTo>
                  <a:lnTo>
                    <a:pt x="193" y="848"/>
                  </a:lnTo>
                  <a:lnTo>
                    <a:pt x="191" y="849"/>
                  </a:lnTo>
                  <a:lnTo>
                    <a:pt x="185" y="851"/>
                  </a:lnTo>
                  <a:lnTo>
                    <a:pt x="182" y="852"/>
                  </a:lnTo>
                  <a:lnTo>
                    <a:pt x="182" y="852"/>
                  </a:lnTo>
                  <a:lnTo>
                    <a:pt x="181" y="852"/>
                  </a:lnTo>
                  <a:lnTo>
                    <a:pt x="178" y="852"/>
                  </a:lnTo>
                  <a:lnTo>
                    <a:pt x="176" y="852"/>
                  </a:lnTo>
                  <a:lnTo>
                    <a:pt x="176" y="851"/>
                  </a:lnTo>
                  <a:lnTo>
                    <a:pt x="175" y="848"/>
                  </a:lnTo>
                  <a:lnTo>
                    <a:pt x="176" y="847"/>
                  </a:lnTo>
                  <a:lnTo>
                    <a:pt x="175" y="848"/>
                  </a:lnTo>
                  <a:lnTo>
                    <a:pt x="170" y="851"/>
                  </a:lnTo>
                  <a:lnTo>
                    <a:pt x="167" y="852"/>
                  </a:lnTo>
                  <a:lnTo>
                    <a:pt x="167" y="852"/>
                  </a:lnTo>
                  <a:lnTo>
                    <a:pt x="164" y="847"/>
                  </a:lnTo>
                  <a:lnTo>
                    <a:pt x="164" y="843"/>
                  </a:lnTo>
                  <a:lnTo>
                    <a:pt x="164" y="842"/>
                  </a:lnTo>
                  <a:lnTo>
                    <a:pt x="163" y="836"/>
                  </a:lnTo>
                  <a:lnTo>
                    <a:pt x="163" y="832"/>
                  </a:lnTo>
                  <a:lnTo>
                    <a:pt x="163" y="831"/>
                  </a:lnTo>
                  <a:lnTo>
                    <a:pt x="162" y="832"/>
                  </a:lnTo>
                  <a:lnTo>
                    <a:pt x="161" y="834"/>
                  </a:lnTo>
                  <a:lnTo>
                    <a:pt x="161" y="835"/>
                  </a:lnTo>
                  <a:lnTo>
                    <a:pt x="160" y="835"/>
                  </a:lnTo>
                  <a:lnTo>
                    <a:pt x="159" y="835"/>
                  </a:lnTo>
                  <a:lnTo>
                    <a:pt x="158" y="835"/>
                  </a:lnTo>
                  <a:lnTo>
                    <a:pt x="158" y="835"/>
                  </a:lnTo>
                  <a:lnTo>
                    <a:pt x="157" y="835"/>
                  </a:lnTo>
                  <a:lnTo>
                    <a:pt x="156" y="835"/>
                  </a:lnTo>
                  <a:lnTo>
                    <a:pt x="150" y="832"/>
                  </a:lnTo>
                  <a:lnTo>
                    <a:pt x="147" y="831"/>
                  </a:lnTo>
                  <a:lnTo>
                    <a:pt x="147" y="830"/>
                  </a:lnTo>
                  <a:lnTo>
                    <a:pt x="146" y="830"/>
                  </a:lnTo>
                  <a:lnTo>
                    <a:pt x="145" y="830"/>
                  </a:lnTo>
                  <a:lnTo>
                    <a:pt x="141" y="830"/>
                  </a:lnTo>
                  <a:lnTo>
                    <a:pt x="138" y="830"/>
                  </a:lnTo>
                  <a:lnTo>
                    <a:pt x="138" y="830"/>
                  </a:lnTo>
                  <a:lnTo>
                    <a:pt x="134" y="831"/>
                  </a:lnTo>
                  <a:lnTo>
                    <a:pt x="123" y="831"/>
                  </a:lnTo>
                  <a:lnTo>
                    <a:pt x="115" y="831"/>
                  </a:lnTo>
                  <a:lnTo>
                    <a:pt x="115" y="831"/>
                  </a:lnTo>
                  <a:lnTo>
                    <a:pt x="114" y="829"/>
                  </a:lnTo>
                  <a:lnTo>
                    <a:pt x="113" y="819"/>
                  </a:lnTo>
                  <a:lnTo>
                    <a:pt x="112" y="813"/>
                  </a:lnTo>
                  <a:lnTo>
                    <a:pt x="112" y="812"/>
                  </a:lnTo>
                  <a:lnTo>
                    <a:pt x="110" y="811"/>
                  </a:lnTo>
                  <a:lnTo>
                    <a:pt x="106" y="807"/>
                  </a:lnTo>
                  <a:lnTo>
                    <a:pt x="104" y="805"/>
                  </a:lnTo>
                  <a:lnTo>
                    <a:pt x="104" y="804"/>
                  </a:lnTo>
                  <a:lnTo>
                    <a:pt x="103" y="804"/>
                  </a:lnTo>
                  <a:lnTo>
                    <a:pt x="101" y="804"/>
                  </a:lnTo>
                  <a:lnTo>
                    <a:pt x="94" y="803"/>
                  </a:lnTo>
                  <a:lnTo>
                    <a:pt x="89" y="803"/>
                  </a:lnTo>
                  <a:lnTo>
                    <a:pt x="89" y="802"/>
                  </a:lnTo>
                  <a:lnTo>
                    <a:pt x="88" y="803"/>
                  </a:lnTo>
                  <a:lnTo>
                    <a:pt x="85" y="806"/>
                  </a:lnTo>
                  <a:lnTo>
                    <a:pt x="82" y="808"/>
                  </a:lnTo>
                  <a:lnTo>
                    <a:pt x="82" y="808"/>
                  </a:lnTo>
                  <a:lnTo>
                    <a:pt x="81" y="809"/>
                  </a:lnTo>
                  <a:lnTo>
                    <a:pt x="78" y="814"/>
                  </a:lnTo>
                  <a:lnTo>
                    <a:pt x="76" y="816"/>
                  </a:lnTo>
                  <a:lnTo>
                    <a:pt x="76" y="816"/>
                  </a:lnTo>
                  <a:lnTo>
                    <a:pt x="73" y="817"/>
                  </a:lnTo>
                  <a:lnTo>
                    <a:pt x="66" y="818"/>
                  </a:lnTo>
                  <a:lnTo>
                    <a:pt x="61" y="819"/>
                  </a:lnTo>
                  <a:lnTo>
                    <a:pt x="61" y="819"/>
                  </a:lnTo>
                  <a:lnTo>
                    <a:pt x="59" y="819"/>
                  </a:lnTo>
                  <a:lnTo>
                    <a:pt x="57" y="819"/>
                  </a:lnTo>
                  <a:lnTo>
                    <a:pt x="51" y="818"/>
                  </a:lnTo>
                  <a:lnTo>
                    <a:pt x="45" y="818"/>
                  </a:lnTo>
                  <a:lnTo>
                    <a:pt x="45" y="817"/>
                  </a:lnTo>
                  <a:lnTo>
                    <a:pt x="42" y="818"/>
                  </a:lnTo>
                  <a:lnTo>
                    <a:pt x="34" y="818"/>
                  </a:lnTo>
                  <a:lnTo>
                    <a:pt x="28" y="818"/>
                  </a:lnTo>
                  <a:lnTo>
                    <a:pt x="28" y="818"/>
                  </a:lnTo>
                  <a:lnTo>
                    <a:pt x="21" y="815"/>
                  </a:lnTo>
                  <a:lnTo>
                    <a:pt x="18" y="813"/>
                  </a:lnTo>
                  <a:lnTo>
                    <a:pt x="18" y="812"/>
                  </a:lnTo>
                  <a:lnTo>
                    <a:pt x="21" y="805"/>
                  </a:lnTo>
                  <a:lnTo>
                    <a:pt x="22" y="801"/>
                  </a:lnTo>
                  <a:lnTo>
                    <a:pt x="23" y="800"/>
                  </a:lnTo>
                  <a:lnTo>
                    <a:pt x="24" y="798"/>
                  </a:lnTo>
                  <a:lnTo>
                    <a:pt x="29" y="792"/>
                  </a:lnTo>
                  <a:lnTo>
                    <a:pt x="32" y="788"/>
                  </a:lnTo>
                  <a:lnTo>
                    <a:pt x="33" y="786"/>
                  </a:lnTo>
                  <a:lnTo>
                    <a:pt x="33" y="785"/>
                  </a:lnTo>
                  <a:lnTo>
                    <a:pt x="35" y="780"/>
                  </a:lnTo>
                  <a:lnTo>
                    <a:pt x="36" y="777"/>
                  </a:lnTo>
                  <a:lnTo>
                    <a:pt x="38" y="776"/>
                  </a:lnTo>
                  <a:lnTo>
                    <a:pt x="36" y="777"/>
                  </a:lnTo>
                  <a:lnTo>
                    <a:pt x="33" y="781"/>
                  </a:lnTo>
                  <a:lnTo>
                    <a:pt x="32" y="783"/>
                  </a:lnTo>
                  <a:lnTo>
                    <a:pt x="32" y="783"/>
                  </a:lnTo>
                  <a:lnTo>
                    <a:pt x="31" y="784"/>
                  </a:lnTo>
                  <a:lnTo>
                    <a:pt x="29" y="785"/>
                  </a:lnTo>
                  <a:lnTo>
                    <a:pt x="22" y="792"/>
                  </a:lnTo>
                  <a:lnTo>
                    <a:pt x="18" y="796"/>
                  </a:lnTo>
                  <a:lnTo>
                    <a:pt x="18" y="796"/>
                  </a:lnTo>
                  <a:lnTo>
                    <a:pt x="17" y="797"/>
                  </a:lnTo>
                  <a:lnTo>
                    <a:pt x="16" y="798"/>
                  </a:lnTo>
                  <a:lnTo>
                    <a:pt x="15" y="798"/>
                  </a:lnTo>
                  <a:lnTo>
                    <a:pt x="15" y="797"/>
                  </a:lnTo>
                  <a:lnTo>
                    <a:pt x="16" y="792"/>
                  </a:lnTo>
                  <a:lnTo>
                    <a:pt x="16" y="788"/>
                  </a:lnTo>
                  <a:lnTo>
                    <a:pt x="17" y="786"/>
                  </a:lnTo>
                  <a:lnTo>
                    <a:pt x="19" y="782"/>
                  </a:lnTo>
                  <a:lnTo>
                    <a:pt x="20" y="780"/>
                  </a:lnTo>
                  <a:lnTo>
                    <a:pt x="21" y="779"/>
                  </a:lnTo>
                  <a:lnTo>
                    <a:pt x="20" y="777"/>
                  </a:lnTo>
                  <a:lnTo>
                    <a:pt x="20" y="776"/>
                  </a:lnTo>
                  <a:lnTo>
                    <a:pt x="20" y="774"/>
                  </a:lnTo>
                  <a:lnTo>
                    <a:pt x="19" y="776"/>
                  </a:lnTo>
                  <a:lnTo>
                    <a:pt x="17" y="780"/>
                  </a:lnTo>
                  <a:lnTo>
                    <a:pt x="16" y="782"/>
                  </a:lnTo>
                  <a:lnTo>
                    <a:pt x="16" y="782"/>
                  </a:lnTo>
                  <a:lnTo>
                    <a:pt x="14" y="783"/>
                  </a:lnTo>
                  <a:lnTo>
                    <a:pt x="7" y="785"/>
                  </a:lnTo>
                  <a:lnTo>
                    <a:pt x="3" y="786"/>
                  </a:lnTo>
                  <a:lnTo>
                    <a:pt x="3" y="786"/>
                  </a:lnTo>
                  <a:lnTo>
                    <a:pt x="0" y="780"/>
                  </a:lnTo>
                  <a:lnTo>
                    <a:pt x="0" y="776"/>
                  </a:lnTo>
                  <a:lnTo>
                    <a:pt x="0" y="774"/>
                  </a:lnTo>
                  <a:lnTo>
                    <a:pt x="2" y="770"/>
                  </a:lnTo>
                  <a:lnTo>
                    <a:pt x="3" y="768"/>
                  </a:lnTo>
                  <a:lnTo>
                    <a:pt x="4" y="767"/>
                  </a:lnTo>
                  <a:lnTo>
                    <a:pt x="8" y="763"/>
                  </a:lnTo>
                  <a:lnTo>
                    <a:pt x="11" y="762"/>
                  </a:lnTo>
                  <a:lnTo>
                    <a:pt x="12" y="761"/>
                  </a:lnTo>
                  <a:lnTo>
                    <a:pt x="15" y="761"/>
                  </a:lnTo>
                  <a:lnTo>
                    <a:pt x="21" y="760"/>
                  </a:lnTo>
                  <a:lnTo>
                    <a:pt x="26" y="759"/>
                  </a:lnTo>
                  <a:lnTo>
                    <a:pt x="27" y="758"/>
                  </a:lnTo>
                  <a:lnTo>
                    <a:pt x="28" y="757"/>
                  </a:lnTo>
                  <a:lnTo>
                    <a:pt x="33" y="751"/>
                  </a:lnTo>
                  <a:lnTo>
                    <a:pt x="38" y="748"/>
                  </a:lnTo>
                  <a:lnTo>
                    <a:pt x="39" y="747"/>
                  </a:lnTo>
                  <a:lnTo>
                    <a:pt x="38" y="747"/>
                  </a:lnTo>
                  <a:lnTo>
                    <a:pt x="35" y="747"/>
                  </a:lnTo>
                  <a:lnTo>
                    <a:pt x="34" y="747"/>
                  </a:lnTo>
                  <a:lnTo>
                    <a:pt x="34" y="746"/>
                  </a:lnTo>
                  <a:lnTo>
                    <a:pt x="32" y="744"/>
                  </a:lnTo>
                  <a:lnTo>
                    <a:pt x="31" y="743"/>
                  </a:lnTo>
                  <a:lnTo>
                    <a:pt x="31" y="742"/>
                  </a:lnTo>
                  <a:lnTo>
                    <a:pt x="35" y="738"/>
                  </a:lnTo>
                  <a:lnTo>
                    <a:pt x="39" y="736"/>
                  </a:lnTo>
                  <a:lnTo>
                    <a:pt x="40" y="735"/>
                  </a:lnTo>
                  <a:lnTo>
                    <a:pt x="40" y="734"/>
                  </a:lnTo>
                  <a:lnTo>
                    <a:pt x="42" y="728"/>
                  </a:lnTo>
                  <a:lnTo>
                    <a:pt x="43" y="724"/>
                  </a:lnTo>
                  <a:lnTo>
                    <a:pt x="44" y="723"/>
                  </a:lnTo>
                  <a:lnTo>
                    <a:pt x="42" y="724"/>
                  </a:lnTo>
                  <a:lnTo>
                    <a:pt x="39" y="724"/>
                  </a:lnTo>
                  <a:lnTo>
                    <a:pt x="35" y="724"/>
                  </a:lnTo>
                  <a:lnTo>
                    <a:pt x="35" y="724"/>
                  </a:lnTo>
                  <a:lnTo>
                    <a:pt x="34" y="724"/>
                  </a:lnTo>
                  <a:lnTo>
                    <a:pt x="33" y="724"/>
                  </a:lnTo>
                  <a:lnTo>
                    <a:pt x="30" y="723"/>
                  </a:lnTo>
                  <a:lnTo>
                    <a:pt x="28" y="723"/>
                  </a:lnTo>
                  <a:lnTo>
                    <a:pt x="28" y="722"/>
                  </a:lnTo>
                  <a:lnTo>
                    <a:pt x="26" y="716"/>
                  </a:lnTo>
                  <a:lnTo>
                    <a:pt x="26" y="713"/>
                  </a:lnTo>
                  <a:lnTo>
                    <a:pt x="26" y="712"/>
                  </a:lnTo>
                  <a:lnTo>
                    <a:pt x="27" y="712"/>
                  </a:lnTo>
                  <a:lnTo>
                    <a:pt x="32" y="712"/>
                  </a:lnTo>
                  <a:lnTo>
                    <a:pt x="35" y="712"/>
                  </a:lnTo>
                  <a:lnTo>
                    <a:pt x="36" y="712"/>
                  </a:lnTo>
                  <a:lnTo>
                    <a:pt x="39" y="707"/>
                  </a:lnTo>
                  <a:lnTo>
                    <a:pt x="40" y="703"/>
                  </a:lnTo>
                  <a:lnTo>
                    <a:pt x="41" y="702"/>
                  </a:lnTo>
                  <a:lnTo>
                    <a:pt x="38" y="701"/>
                  </a:lnTo>
                  <a:lnTo>
                    <a:pt x="36" y="700"/>
                  </a:lnTo>
                  <a:lnTo>
                    <a:pt x="36" y="699"/>
                  </a:lnTo>
                  <a:lnTo>
                    <a:pt x="36" y="698"/>
                  </a:lnTo>
                  <a:lnTo>
                    <a:pt x="35" y="695"/>
                  </a:lnTo>
                  <a:lnTo>
                    <a:pt x="35" y="692"/>
                  </a:lnTo>
                  <a:lnTo>
                    <a:pt x="36" y="691"/>
                  </a:lnTo>
                  <a:lnTo>
                    <a:pt x="38" y="691"/>
                  </a:lnTo>
                  <a:lnTo>
                    <a:pt x="41" y="691"/>
                  </a:lnTo>
                  <a:lnTo>
                    <a:pt x="43" y="691"/>
                  </a:lnTo>
                  <a:lnTo>
                    <a:pt x="44" y="690"/>
                  </a:lnTo>
                  <a:lnTo>
                    <a:pt x="46" y="693"/>
                  </a:lnTo>
                  <a:lnTo>
                    <a:pt x="47" y="695"/>
                  </a:lnTo>
                  <a:lnTo>
                    <a:pt x="49" y="695"/>
                  </a:lnTo>
                  <a:lnTo>
                    <a:pt x="50" y="695"/>
                  </a:lnTo>
                  <a:lnTo>
                    <a:pt x="53" y="693"/>
                  </a:lnTo>
                  <a:lnTo>
                    <a:pt x="56" y="692"/>
                  </a:lnTo>
                  <a:lnTo>
                    <a:pt x="57" y="691"/>
                  </a:lnTo>
                  <a:lnTo>
                    <a:pt x="61" y="691"/>
                  </a:lnTo>
                  <a:lnTo>
                    <a:pt x="62" y="691"/>
                  </a:lnTo>
                  <a:lnTo>
                    <a:pt x="63" y="691"/>
                  </a:lnTo>
                  <a:lnTo>
                    <a:pt x="65" y="690"/>
                  </a:lnTo>
                  <a:lnTo>
                    <a:pt x="66" y="689"/>
                  </a:lnTo>
                  <a:lnTo>
                    <a:pt x="67" y="688"/>
                  </a:lnTo>
                  <a:lnTo>
                    <a:pt x="66" y="686"/>
                  </a:lnTo>
                  <a:lnTo>
                    <a:pt x="66" y="685"/>
                  </a:lnTo>
                  <a:lnTo>
                    <a:pt x="65" y="685"/>
                  </a:lnTo>
                  <a:lnTo>
                    <a:pt x="64" y="685"/>
                  </a:lnTo>
                  <a:lnTo>
                    <a:pt x="61" y="685"/>
                  </a:lnTo>
                  <a:lnTo>
                    <a:pt x="58" y="685"/>
                  </a:lnTo>
                  <a:lnTo>
                    <a:pt x="58" y="684"/>
                  </a:lnTo>
                  <a:lnTo>
                    <a:pt x="54" y="680"/>
                  </a:lnTo>
                  <a:lnTo>
                    <a:pt x="52" y="678"/>
                  </a:lnTo>
                  <a:lnTo>
                    <a:pt x="52" y="677"/>
                  </a:lnTo>
                  <a:lnTo>
                    <a:pt x="52" y="676"/>
                  </a:lnTo>
                  <a:lnTo>
                    <a:pt x="53" y="672"/>
                  </a:lnTo>
                  <a:lnTo>
                    <a:pt x="53" y="668"/>
                  </a:lnTo>
                  <a:lnTo>
                    <a:pt x="54" y="667"/>
                  </a:lnTo>
                  <a:lnTo>
                    <a:pt x="54" y="666"/>
                  </a:lnTo>
                  <a:lnTo>
                    <a:pt x="55" y="662"/>
                  </a:lnTo>
                  <a:lnTo>
                    <a:pt x="56" y="658"/>
                  </a:lnTo>
                  <a:lnTo>
                    <a:pt x="57" y="657"/>
                  </a:lnTo>
                  <a:lnTo>
                    <a:pt x="57" y="656"/>
                  </a:lnTo>
                  <a:lnTo>
                    <a:pt x="58" y="651"/>
                  </a:lnTo>
                  <a:lnTo>
                    <a:pt x="58" y="648"/>
                  </a:lnTo>
                  <a:lnTo>
                    <a:pt x="59" y="646"/>
                  </a:lnTo>
                  <a:lnTo>
                    <a:pt x="61" y="643"/>
                  </a:lnTo>
                  <a:lnTo>
                    <a:pt x="62" y="642"/>
                  </a:lnTo>
                  <a:lnTo>
                    <a:pt x="63" y="641"/>
                  </a:lnTo>
                  <a:lnTo>
                    <a:pt x="64" y="640"/>
                  </a:lnTo>
                  <a:lnTo>
                    <a:pt x="67" y="637"/>
                  </a:lnTo>
                  <a:lnTo>
                    <a:pt x="70" y="633"/>
                  </a:lnTo>
                  <a:lnTo>
                    <a:pt x="71" y="632"/>
                  </a:lnTo>
                  <a:lnTo>
                    <a:pt x="75" y="631"/>
                  </a:lnTo>
                  <a:lnTo>
                    <a:pt x="77" y="631"/>
                  </a:lnTo>
                  <a:lnTo>
                    <a:pt x="78" y="630"/>
                  </a:lnTo>
                  <a:lnTo>
                    <a:pt x="80" y="634"/>
                  </a:lnTo>
                  <a:lnTo>
                    <a:pt x="81" y="636"/>
                  </a:lnTo>
                  <a:lnTo>
                    <a:pt x="82" y="636"/>
                  </a:lnTo>
                  <a:lnTo>
                    <a:pt x="82" y="638"/>
                  </a:lnTo>
                  <a:lnTo>
                    <a:pt x="81" y="643"/>
                  </a:lnTo>
                  <a:lnTo>
                    <a:pt x="81" y="646"/>
                  </a:lnTo>
                  <a:lnTo>
                    <a:pt x="82" y="646"/>
                  </a:lnTo>
                  <a:lnTo>
                    <a:pt x="85" y="649"/>
                  </a:lnTo>
                  <a:lnTo>
                    <a:pt x="87" y="649"/>
                  </a:lnTo>
                  <a:lnTo>
                    <a:pt x="88" y="649"/>
                  </a:lnTo>
                  <a:lnTo>
                    <a:pt x="89" y="649"/>
                  </a:lnTo>
                  <a:lnTo>
                    <a:pt x="90" y="649"/>
                  </a:lnTo>
                  <a:lnTo>
                    <a:pt x="92" y="645"/>
                  </a:lnTo>
                  <a:lnTo>
                    <a:pt x="93" y="643"/>
                  </a:lnTo>
                  <a:lnTo>
                    <a:pt x="94" y="642"/>
                  </a:lnTo>
                  <a:lnTo>
                    <a:pt x="93" y="640"/>
                  </a:lnTo>
                  <a:lnTo>
                    <a:pt x="92" y="632"/>
                  </a:lnTo>
                  <a:lnTo>
                    <a:pt x="92" y="626"/>
                  </a:lnTo>
                  <a:lnTo>
                    <a:pt x="92" y="625"/>
                  </a:lnTo>
                  <a:lnTo>
                    <a:pt x="92" y="623"/>
                  </a:lnTo>
                  <a:lnTo>
                    <a:pt x="92" y="620"/>
                  </a:lnTo>
                  <a:lnTo>
                    <a:pt x="92" y="618"/>
                  </a:lnTo>
                  <a:lnTo>
                    <a:pt x="93" y="617"/>
                  </a:lnTo>
                  <a:lnTo>
                    <a:pt x="97" y="617"/>
                  </a:lnTo>
                  <a:lnTo>
                    <a:pt x="99" y="617"/>
                  </a:lnTo>
                  <a:lnTo>
                    <a:pt x="100" y="616"/>
                  </a:lnTo>
                  <a:lnTo>
                    <a:pt x="100" y="614"/>
                  </a:lnTo>
                  <a:lnTo>
                    <a:pt x="102" y="605"/>
                  </a:lnTo>
                  <a:lnTo>
                    <a:pt x="103" y="598"/>
                  </a:lnTo>
                  <a:lnTo>
                    <a:pt x="104" y="597"/>
                  </a:lnTo>
                  <a:lnTo>
                    <a:pt x="106" y="597"/>
                  </a:lnTo>
                  <a:lnTo>
                    <a:pt x="113" y="594"/>
                  </a:lnTo>
                  <a:lnTo>
                    <a:pt x="118" y="593"/>
                  </a:lnTo>
                  <a:lnTo>
                    <a:pt x="120" y="592"/>
                  </a:lnTo>
                  <a:lnTo>
                    <a:pt x="121" y="591"/>
                  </a:lnTo>
                  <a:lnTo>
                    <a:pt x="125" y="585"/>
                  </a:lnTo>
                  <a:lnTo>
                    <a:pt x="128" y="582"/>
                  </a:lnTo>
                  <a:lnTo>
                    <a:pt x="129" y="581"/>
                  </a:lnTo>
                  <a:lnTo>
                    <a:pt x="129" y="579"/>
                  </a:lnTo>
                  <a:lnTo>
                    <a:pt x="131" y="570"/>
                  </a:lnTo>
                  <a:lnTo>
                    <a:pt x="132" y="563"/>
                  </a:lnTo>
                  <a:lnTo>
                    <a:pt x="133" y="562"/>
                  </a:lnTo>
                  <a:lnTo>
                    <a:pt x="134" y="560"/>
                  </a:lnTo>
                  <a:lnTo>
                    <a:pt x="137" y="553"/>
                  </a:lnTo>
                  <a:lnTo>
                    <a:pt x="140" y="549"/>
                  </a:lnTo>
                  <a:lnTo>
                    <a:pt x="141" y="548"/>
                  </a:lnTo>
                  <a:lnTo>
                    <a:pt x="143" y="547"/>
                  </a:lnTo>
                  <a:lnTo>
                    <a:pt x="148" y="544"/>
                  </a:lnTo>
                  <a:lnTo>
                    <a:pt x="151" y="541"/>
                  </a:lnTo>
                  <a:lnTo>
                    <a:pt x="152" y="540"/>
                  </a:lnTo>
                  <a:lnTo>
                    <a:pt x="153" y="537"/>
                  </a:lnTo>
                  <a:lnTo>
                    <a:pt x="157" y="525"/>
                  </a:lnTo>
                  <a:lnTo>
                    <a:pt x="159" y="515"/>
                  </a:lnTo>
                  <a:lnTo>
                    <a:pt x="160" y="514"/>
                  </a:lnTo>
                  <a:lnTo>
                    <a:pt x="161" y="514"/>
                  </a:lnTo>
                  <a:lnTo>
                    <a:pt x="164" y="514"/>
                  </a:lnTo>
                  <a:lnTo>
                    <a:pt x="167" y="514"/>
                  </a:lnTo>
                  <a:lnTo>
                    <a:pt x="168" y="513"/>
                  </a:lnTo>
                  <a:lnTo>
                    <a:pt x="169" y="512"/>
                  </a:lnTo>
                  <a:lnTo>
                    <a:pt x="173" y="509"/>
                  </a:lnTo>
                  <a:lnTo>
                    <a:pt x="176" y="505"/>
                  </a:lnTo>
                  <a:lnTo>
                    <a:pt x="178" y="504"/>
                  </a:lnTo>
                  <a:lnTo>
                    <a:pt x="179" y="504"/>
                  </a:lnTo>
                  <a:lnTo>
                    <a:pt x="183" y="503"/>
                  </a:lnTo>
                  <a:lnTo>
                    <a:pt x="186" y="503"/>
                  </a:lnTo>
                  <a:lnTo>
                    <a:pt x="187" y="502"/>
                  </a:lnTo>
                  <a:lnTo>
                    <a:pt x="196" y="499"/>
                  </a:lnTo>
                  <a:lnTo>
                    <a:pt x="200" y="497"/>
                  </a:lnTo>
                  <a:lnTo>
                    <a:pt x="202" y="495"/>
                  </a:lnTo>
                  <a:lnTo>
                    <a:pt x="203" y="495"/>
                  </a:lnTo>
                  <a:lnTo>
                    <a:pt x="208" y="495"/>
                  </a:lnTo>
                  <a:lnTo>
                    <a:pt x="213" y="495"/>
                  </a:lnTo>
                  <a:lnTo>
                    <a:pt x="214" y="494"/>
                  </a:lnTo>
                  <a:lnTo>
                    <a:pt x="216" y="494"/>
                  </a:lnTo>
                  <a:lnTo>
                    <a:pt x="222" y="491"/>
                  </a:lnTo>
                  <a:lnTo>
                    <a:pt x="228" y="490"/>
                  </a:lnTo>
                  <a:lnTo>
                    <a:pt x="229" y="489"/>
                  </a:lnTo>
                  <a:lnTo>
                    <a:pt x="230" y="488"/>
                  </a:lnTo>
                  <a:lnTo>
                    <a:pt x="237" y="482"/>
                  </a:lnTo>
                  <a:lnTo>
                    <a:pt x="241" y="479"/>
                  </a:lnTo>
                  <a:lnTo>
                    <a:pt x="242" y="478"/>
                  </a:lnTo>
                  <a:lnTo>
                    <a:pt x="243" y="477"/>
                  </a:lnTo>
                  <a:lnTo>
                    <a:pt x="250" y="470"/>
                  </a:lnTo>
                  <a:lnTo>
                    <a:pt x="254" y="466"/>
                  </a:lnTo>
                  <a:lnTo>
                    <a:pt x="255" y="465"/>
                  </a:lnTo>
                  <a:lnTo>
                    <a:pt x="256" y="464"/>
                  </a:lnTo>
                  <a:lnTo>
                    <a:pt x="262" y="458"/>
                  </a:lnTo>
                  <a:lnTo>
                    <a:pt x="266" y="455"/>
                  </a:lnTo>
                  <a:lnTo>
                    <a:pt x="267" y="454"/>
                  </a:lnTo>
                  <a:lnTo>
                    <a:pt x="270" y="452"/>
                  </a:lnTo>
                  <a:lnTo>
                    <a:pt x="282" y="443"/>
                  </a:lnTo>
                  <a:lnTo>
                    <a:pt x="291" y="436"/>
                  </a:lnTo>
                  <a:lnTo>
                    <a:pt x="292" y="435"/>
                  </a:lnTo>
                  <a:lnTo>
                    <a:pt x="293" y="433"/>
                  </a:lnTo>
                  <a:lnTo>
                    <a:pt x="300" y="427"/>
                  </a:lnTo>
                  <a:lnTo>
                    <a:pt x="304" y="422"/>
                  </a:lnTo>
                  <a:lnTo>
                    <a:pt x="305" y="421"/>
                  </a:lnTo>
                  <a:lnTo>
                    <a:pt x="308" y="419"/>
                  </a:lnTo>
                  <a:lnTo>
                    <a:pt x="316" y="412"/>
                  </a:lnTo>
                  <a:lnTo>
                    <a:pt x="323" y="407"/>
                  </a:lnTo>
                  <a:lnTo>
                    <a:pt x="324" y="406"/>
                  </a:lnTo>
                  <a:lnTo>
                    <a:pt x="327" y="404"/>
                  </a:lnTo>
                  <a:lnTo>
                    <a:pt x="339" y="396"/>
                  </a:lnTo>
                  <a:lnTo>
                    <a:pt x="348" y="390"/>
                  </a:lnTo>
                  <a:lnTo>
                    <a:pt x="349" y="389"/>
                  </a:lnTo>
                  <a:lnTo>
                    <a:pt x="349" y="387"/>
                  </a:lnTo>
                  <a:lnTo>
                    <a:pt x="350" y="381"/>
                  </a:lnTo>
                  <a:lnTo>
                    <a:pt x="351" y="375"/>
                  </a:lnTo>
                  <a:lnTo>
                    <a:pt x="352" y="374"/>
                  </a:lnTo>
                  <a:lnTo>
                    <a:pt x="354" y="373"/>
                  </a:lnTo>
                  <a:lnTo>
                    <a:pt x="357" y="370"/>
                  </a:lnTo>
                  <a:lnTo>
                    <a:pt x="359" y="366"/>
                  </a:lnTo>
                  <a:lnTo>
                    <a:pt x="360" y="365"/>
                  </a:lnTo>
                  <a:lnTo>
                    <a:pt x="361" y="364"/>
                  </a:lnTo>
                  <a:lnTo>
                    <a:pt x="367" y="359"/>
                  </a:lnTo>
                  <a:lnTo>
                    <a:pt x="371" y="355"/>
                  </a:lnTo>
                  <a:lnTo>
                    <a:pt x="372" y="354"/>
                  </a:lnTo>
                  <a:lnTo>
                    <a:pt x="373" y="353"/>
                  </a:lnTo>
                  <a:lnTo>
                    <a:pt x="378" y="350"/>
                  </a:lnTo>
                  <a:lnTo>
                    <a:pt x="381" y="348"/>
                  </a:lnTo>
                  <a:lnTo>
                    <a:pt x="382" y="347"/>
                  </a:lnTo>
                  <a:lnTo>
                    <a:pt x="383" y="347"/>
                  </a:lnTo>
                  <a:lnTo>
                    <a:pt x="389" y="346"/>
                  </a:lnTo>
                  <a:lnTo>
                    <a:pt x="392" y="346"/>
                  </a:lnTo>
                  <a:lnTo>
                    <a:pt x="393" y="345"/>
                  </a:lnTo>
                  <a:lnTo>
                    <a:pt x="395" y="343"/>
                  </a:lnTo>
                  <a:lnTo>
                    <a:pt x="403" y="337"/>
                  </a:lnTo>
                  <a:lnTo>
                    <a:pt x="409" y="332"/>
                  </a:lnTo>
                  <a:lnTo>
                    <a:pt x="410" y="331"/>
                  </a:lnTo>
                  <a:lnTo>
                    <a:pt x="411" y="330"/>
                  </a:lnTo>
                  <a:lnTo>
                    <a:pt x="417" y="324"/>
                  </a:lnTo>
                  <a:lnTo>
                    <a:pt x="421" y="319"/>
                  </a:lnTo>
                  <a:lnTo>
                    <a:pt x="422" y="318"/>
                  </a:lnTo>
                  <a:lnTo>
                    <a:pt x="423" y="317"/>
                  </a:lnTo>
                  <a:lnTo>
                    <a:pt x="427" y="313"/>
                  </a:lnTo>
                  <a:lnTo>
                    <a:pt x="429" y="310"/>
                  </a:lnTo>
                  <a:lnTo>
                    <a:pt x="430" y="308"/>
                  </a:lnTo>
                  <a:lnTo>
                    <a:pt x="431" y="306"/>
                  </a:lnTo>
                  <a:lnTo>
                    <a:pt x="434" y="300"/>
                  </a:lnTo>
                  <a:lnTo>
                    <a:pt x="438" y="295"/>
                  </a:lnTo>
                  <a:lnTo>
                    <a:pt x="439" y="294"/>
                  </a:lnTo>
                  <a:lnTo>
                    <a:pt x="440" y="293"/>
                  </a:lnTo>
                  <a:lnTo>
                    <a:pt x="445" y="287"/>
                  </a:lnTo>
                  <a:lnTo>
                    <a:pt x="449" y="282"/>
                  </a:lnTo>
                  <a:lnTo>
                    <a:pt x="450" y="281"/>
                  </a:lnTo>
                  <a:lnTo>
                    <a:pt x="450" y="280"/>
                  </a:lnTo>
                  <a:lnTo>
                    <a:pt x="451" y="273"/>
                  </a:lnTo>
                  <a:lnTo>
                    <a:pt x="451" y="269"/>
                  </a:lnTo>
                  <a:lnTo>
                    <a:pt x="452" y="268"/>
                  </a:lnTo>
                  <a:lnTo>
                    <a:pt x="453" y="266"/>
                  </a:lnTo>
                  <a:lnTo>
                    <a:pt x="454" y="265"/>
                  </a:lnTo>
                  <a:lnTo>
                    <a:pt x="455" y="264"/>
                  </a:lnTo>
                  <a:lnTo>
                    <a:pt x="455" y="261"/>
                  </a:lnTo>
                  <a:lnTo>
                    <a:pt x="458" y="254"/>
                  </a:lnTo>
                  <a:lnTo>
                    <a:pt x="460" y="248"/>
                  </a:lnTo>
                  <a:lnTo>
                    <a:pt x="461" y="247"/>
                  </a:lnTo>
                  <a:lnTo>
                    <a:pt x="461" y="246"/>
                  </a:lnTo>
                  <a:lnTo>
                    <a:pt x="461" y="242"/>
                  </a:lnTo>
                  <a:lnTo>
                    <a:pt x="461" y="238"/>
                  </a:lnTo>
                  <a:lnTo>
                    <a:pt x="462" y="237"/>
                  </a:lnTo>
                  <a:lnTo>
                    <a:pt x="462" y="235"/>
                  </a:lnTo>
                  <a:lnTo>
                    <a:pt x="464" y="229"/>
                  </a:lnTo>
                  <a:lnTo>
                    <a:pt x="465" y="224"/>
                  </a:lnTo>
                  <a:lnTo>
                    <a:pt x="466" y="223"/>
                  </a:lnTo>
                  <a:lnTo>
                    <a:pt x="466" y="221"/>
                  </a:lnTo>
                  <a:lnTo>
                    <a:pt x="467" y="213"/>
                  </a:lnTo>
                  <a:lnTo>
                    <a:pt x="467" y="207"/>
                  </a:lnTo>
                  <a:lnTo>
                    <a:pt x="468" y="206"/>
                  </a:lnTo>
                  <a:lnTo>
                    <a:pt x="469" y="202"/>
                  </a:lnTo>
                  <a:lnTo>
                    <a:pt x="474" y="191"/>
                  </a:lnTo>
                  <a:lnTo>
                    <a:pt x="477" y="184"/>
                  </a:lnTo>
                  <a:lnTo>
                    <a:pt x="478" y="183"/>
                  </a:lnTo>
                  <a:lnTo>
                    <a:pt x="479" y="182"/>
                  </a:lnTo>
                  <a:lnTo>
                    <a:pt x="485" y="178"/>
                  </a:lnTo>
                  <a:lnTo>
                    <a:pt x="489" y="176"/>
                  </a:lnTo>
                  <a:lnTo>
                    <a:pt x="490" y="175"/>
                  </a:lnTo>
                  <a:lnTo>
                    <a:pt x="491" y="174"/>
                  </a:lnTo>
                  <a:lnTo>
                    <a:pt x="495" y="171"/>
                  </a:lnTo>
                  <a:lnTo>
                    <a:pt x="498" y="167"/>
                  </a:lnTo>
                  <a:lnTo>
                    <a:pt x="499" y="166"/>
                  </a:lnTo>
                  <a:lnTo>
                    <a:pt x="500" y="165"/>
                  </a:lnTo>
                  <a:lnTo>
                    <a:pt x="507" y="161"/>
                  </a:lnTo>
                  <a:lnTo>
                    <a:pt x="511" y="157"/>
                  </a:lnTo>
                  <a:lnTo>
                    <a:pt x="512" y="156"/>
                  </a:lnTo>
                  <a:lnTo>
                    <a:pt x="513" y="156"/>
                  </a:lnTo>
                  <a:lnTo>
                    <a:pt x="519" y="154"/>
                  </a:lnTo>
                  <a:lnTo>
                    <a:pt x="522" y="153"/>
                  </a:lnTo>
                  <a:lnTo>
                    <a:pt x="523" y="152"/>
                  </a:lnTo>
                  <a:lnTo>
                    <a:pt x="524" y="151"/>
                  </a:lnTo>
                  <a:lnTo>
                    <a:pt x="527" y="144"/>
                  </a:lnTo>
                  <a:lnTo>
                    <a:pt x="530" y="140"/>
                  </a:lnTo>
                  <a:lnTo>
                    <a:pt x="531" y="139"/>
                  </a:lnTo>
                  <a:lnTo>
                    <a:pt x="532" y="136"/>
                  </a:lnTo>
                  <a:lnTo>
                    <a:pt x="537" y="125"/>
                  </a:lnTo>
                  <a:lnTo>
                    <a:pt x="540" y="117"/>
                  </a:lnTo>
                  <a:lnTo>
                    <a:pt x="542" y="116"/>
                  </a:lnTo>
                  <a:lnTo>
                    <a:pt x="542" y="114"/>
                  </a:lnTo>
                  <a:lnTo>
                    <a:pt x="544" y="107"/>
                  </a:lnTo>
                  <a:lnTo>
                    <a:pt x="545" y="103"/>
                  </a:lnTo>
                  <a:lnTo>
                    <a:pt x="546" y="102"/>
                  </a:lnTo>
                  <a:lnTo>
                    <a:pt x="546" y="99"/>
                  </a:lnTo>
                  <a:lnTo>
                    <a:pt x="548" y="90"/>
                  </a:lnTo>
                  <a:lnTo>
                    <a:pt x="549" y="82"/>
                  </a:lnTo>
                  <a:lnTo>
                    <a:pt x="550" y="81"/>
                  </a:lnTo>
                  <a:lnTo>
                    <a:pt x="550" y="80"/>
                  </a:lnTo>
                  <a:lnTo>
                    <a:pt x="550" y="74"/>
                  </a:lnTo>
                  <a:lnTo>
                    <a:pt x="550" y="70"/>
                  </a:lnTo>
                  <a:lnTo>
                    <a:pt x="551" y="69"/>
                  </a:lnTo>
                  <a:lnTo>
                    <a:pt x="555" y="69"/>
                  </a:lnTo>
                  <a:lnTo>
                    <a:pt x="556" y="69"/>
                  </a:lnTo>
                  <a:lnTo>
                    <a:pt x="557" y="69"/>
                  </a:lnTo>
                  <a:lnTo>
                    <a:pt x="557" y="69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370320" y="5930280"/>
              <a:ext cx="13320" cy="14400"/>
            </a:xfrm>
            <a:custGeom>
              <a:avLst/>
              <a:gdLst/>
              <a:ahLst/>
              <a:rect l="l" t="t" r="r" b="b"/>
              <a:pathLst>
                <a:path w="58" h="85">
                  <a:moveTo>
                    <a:pt x="42" y="0"/>
                  </a:moveTo>
                  <a:lnTo>
                    <a:pt x="42" y="1"/>
                  </a:lnTo>
                  <a:lnTo>
                    <a:pt x="42" y="2"/>
                  </a:lnTo>
                  <a:lnTo>
                    <a:pt x="42" y="5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6" y="13"/>
                  </a:lnTo>
                  <a:lnTo>
                    <a:pt x="47" y="15"/>
                  </a:lnTo>
                  <a:lnTo>
                    <a:pt x="48" y="15"/>
                  </a:lnTo>
                  <a:lnTo>
                    <a:pt x="50" y="19"/>
                  </a:lnTo>
                  <a:lnTo>
                    <a:pt x="51" y="21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53" y="26"/>
                  </a:lnTo>
                  <a:lnTo>
                    <a:pt x="53" y="28"/>
                  </a:lnTo>
                  <a:lnTo>
                    <a:pt x="54" y="28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48" y="30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44" y="32"/>
                  </a:lnTo>
                  <a:lnTo>
                    <a:pt x="44" y="34"/>
                  </a:lnTo>
                  <a:lnTo>
                    <a:pt x="51" y="36"/>
                  </a:lnTo>
                  <a:lnTo>
                    <a:pt x="54" y="37"/>
                  </a:lnTo>
                  <a:lnTo>
                    <a:pt x="55" y="37"/>
                  </a:lnTo>
                  <a:lnTo>
                    <a:pt x="56" y="40"/>
                  </a:lnTo>
                  <a:lnTo>
                    <a:pt x="58" y="41"/>
                  </a:lnTo>
                  <a:lnTo>
                    <a:pt x="58" y="43"/>
                  </a:lnTo>
                  <a:lnTo>
                    <a:pt x="56" y="47"/>
                  </a:lnTo>
                  <a:lnTo>
                    <a:pt x="56" y="50"/>
                  </a:lnTo>
                  <a:lnTo>
                    <a:pt x="58" y="50"/>
                  </a:lnTo>
                  <a:lnTo>
                    <a:pt x="56" y="51"/>
                  </a:lnTo>
                  <a:lnTo>
                    <a:pt x="52" y="52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49" y="54"/>
                  </a:lnTo>
                  <a:lnTo>
                    <a:pt x="48" y="55"/>
                  </a:lnTo>
                  <a:lnTo>
                    <a:pt x="44" y="61"/>
                  </a:lnTo>
                  <a:lnTo>
                    <a:pt x="41" y="64"/>
                  </a:lnTo>
                  <a:lnTo>
                    <a:pt x="41" y="64"/>
                  </a:lnTo>
                  <a:lnTo>
                    <a:pt x="40" y="65"/>
                  </a:lnTo>
                  <a:lnTo>
                    <a:pt x="36" y="66"/>
                  </a:lnTo>
                  <a:lnTo>
                    <a:pt x="33" y="67"/>
                  </a:lnTo>
                  <a:lnTo>
                    <a:pt x="33" y="67"/>
                  </a:lnTo>
                  <a:lnTo>
                    <a:pt x="28" y="64"/>
                  </a:lnTo>
                  <a:lnTo>
                    <a:pt x="26" y="63"/>
                  </a:lnTo>
                  <a:lnTo>
                    <a:pt x="26" y="62"/>
                  </a:lnTo>
                  <a:lnTo>
                    <a:pt x="25" y="63"/>
                  </a:lnTo>
                  <a:lnTo>
                    <a:pt x="21" y="64"/>
                  </a:lnTo>
                  <a:lnTo>
                    <a:pt x="20" y="65"/>
                  </a:lnTo>
                  <a:lnTo>
                    <a:pt x="20" y="65"/>
                  </a:lnTo>
                  <a:lnTo>
                    <a:pt x="19" y="66"/>
                  </a:lnTo>
                  <a:lnTo>
                    <a:pt x="16" y="71"/>
                  </a:lnTo>
                  <a:lnTo>
                    <a:pt x="15" y="73"/>
                  </a:lnTo>
                  <a:lnTo>
                    <a:pt x="15" y="73"/>
                  </a:lnTo>
                  <a:lnTo>
                    <a:pt x="14" y="75"/>
                  </a:lnTo>
                  <a:lnTo>
                    <a:pt x="12" y="81"/>
                  </a:lnTo>
                  <a:lnTo>
                    <a:pt x="11" y="85"/>
                  </a:lnTo>
                  <a:lnTo>
                    <a:pt x="11" y="85"/>
                  </a:lnTo>
                  <a:lnTo>
                    <a:pt x="9" y="85"/>
                  </a:lnTo>
                  <a:lnTo>
                    <a:pt x="8" y="85"/>
                  </a:lnTo>
                  <a:lnTo>
                    <a:pt x="5" y="84"/>
                  </a:lnTo>
                  <a:lnTo>
                    <a:pt x="3" y="84"/>
                  </a:lnTo>
                  <a:lnTo>
                    <a:pt x="3" y="83"/>
                  </a:lnTo>
                  <a:lnTo>
                    <a:pt x="2" y="82"/>
                  </a:lnTo>
                  <a:lnTo>
                    <a:pt x="1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3" y="64"/>
                  </a:lnTo>
                  <a:lnTo>
                    <a:pt x="5" y="58"/>
                  </a:lnTo>
                  <a:lnTo>
                    <a:pt x="6" y="56"/>
                  </a:lnTo>
                  <a:lnTo>
                    <a:pt x="7" y="54"/>
                  </a:lnTo>
                  <a:lnTo>
                    <a:pt x="8" y="53"/>
                  </a:lnTo>
                  <a:lnTo>
                    <a:pt x="9" y="52"/>
                  </a:lnTo>
                  <a:lnTo>
                    <a:pt x="12" y="48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5" y="39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20" y="28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3" y="23"/>
                  </a:lnTo>
                  <a:lnTo>
                    <a:pt x="21" y="16"/>
                  </a:lnTo>
                  <a:lnTo>
                    <a:pt x="21" y="12"/>
                  </a:lnTo>
                  <a:lnTo>
                    <a:pt x="23" y="11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5" y="5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3"/>
                  </a:lnTo>
                  <a:lnTo>
                    <a:pt x="41" y="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2054160" y="4262400"/>
            <a:ext cx="426960" cy="422280"/>
          </a:xfrm>
          <a:custGeom>
            <a:avLst/>
            <a:gdLst/>
            <a:ahLst/>
            <a:rect l="l" t="t" r="r" b="b"/>
            <a:pathLst>
              <a:path w="1483" h="1543">
                <a:moveTo>
                  <a:pt x="9" y="14"/>
                </a:moveTo>
                <a:lnTo>
                  <a:pt x="4" y="19"/>
                </a:lnTo>
                <a:lnTo>
                  <a:pt x="3" y="23"/>
                </a:lnTo>
                <a:lnTo>
                  <a:pt x="1" y="27"/>
                </a:lnTo>
                <a:lnTo>
                  <a:pt x="0" y="32"/>
                </a:lnTo>
                <a:lnTo>
                  <a:pt x="1" y="37"/>
                </a:lnTo>
                <a:lnTo>
                  <a:pt x="3" y="48"/>
                </a:lnTo>
                <a:lnTo>
                  <a:pt x="9" y="58"/>
                </a:lnTo>
                <a:lnTo>
                  <a:pt x="13" y="65"/>
                </a:lnTo>
                <a:lnTo>
                  <a:pt x="17" y="68"/>
                </a:lnTo>
                <a:lnTo>
                  <a:pt x="26" y="78"/>
                </a:lnTo>
                <a:lnTo>
                  <a:pt x="45" y="100"/>
                </a:lnTo>
                <a:lnTo>
                  <a:pt x="78" y="143"/>
                </a:lnTo>
                <a:lnTo>
                  <a:pt x="116" y="181"/>
                </a:lnTo>
                <a:lnTo>
                  <a:pt x="127" y="188"/>
                </a:lnTo>
                <a:lnTo>
                  <a:pt x="153" y="205"/>
                </a:lnTo>
                <a:lnTo>
                  <a:pt x="201" y="242"/>
                </a:lnTo>
                <a:lnTo>
                  <a:pt x="281" y="329"/>
                </a:lnTo>
                <a:lnTo>
                  <a:pt x="345" y="427"/>
                </a:lnTo>
                <a:lnTo>
                  <a:pt x="359" y="452"/>
                </a:lnTo>
                <a:lnTo>
                  <a:pt x="385" y="461"/>
                </a:lnTo>
                <a:lnTo>
                  <a:pt x="432" y="484"/>
                </a:lnTo>
                <a:lnTo>
                  <a:pt x="466" y="520"/>
                </a:lnTo>
                <a:lnTo>
                  <a:pt x="492" y="563"/>
                </a:lnTo>
                <a:lnTo>
                  <a:pt x="511" y="613"/>
                </a:lnTo>
                <a:lnTo>
                  <a:pt x="524" y="666"/>
                </a:lnTo>
                <a:lnTo>
                  <a:pt x="529" y="692"/>
                </a:lnTo>
                <a:lnTo>
                  <a:pt x="532" y="698"/>
                </a:lnTo>
                <a:lnTo>
                  <a:pt x="535" y="704"/>
                </a:lnTo>
                <a:lnTo>
                  <a:pt x="543" y="713"/>
                </a:lnTo>
                <a:lnTo>
                  <a:pt x="550" y="716"/>
                </a:lnTo>
                <a:lnTo>
                  <a:pt x="569" y="720"/>
                </a:lnTo>
                <a:lnTo>
                  <a:pt x="604" y="734"/>
                </a:lnTo>
                <a:lnTo>
                  <a:pt x="634" y="759"/>
                </a:lnTo>
                <a:lnTo>
                  <a:pt x="659" y="788"/>
                </a:lnTo>
                <a:lnTo>
                  <a:pt x="700" y="855"/>
                </a:lnTo>
                <a:lnTo>
                  <a:pt x="708" y="871"/>
                </a:lnTo>
                <a:lnTo>
                  <a:pt x="711" y="881"/>
                </a:lnTo>
                <a:lnTo>
                  <a:pt x="720" y="898"/>
                </a:lnTo>
                <a:lnTo>
                  <a:pt x="737" y="934"/>
                </a:lnTo>
                <a:lnTo>
                  <a:pt x="758" y="972"/>
                </a:lnTo>
                <a:lnTo>
                  <a:pt x="763" y="981"/>
                </a:lnTo>
                <a:lnTo>
                  <a:pt x="765" y="985"/>
                </a:lnTo>
                <a:lnTo>
                  <a:pt x="765" y="988"/>
                </a:lnTo>
                <a:lnTo>
                  <a:pt x="766" y="997"/>
                </a:lnTo>
                <a:lnTo>
                  <a:pt x="765" y="1005"/>
                </a:lnTo>
                <a:lnTo>
                  <a:pt x="765" y="1023"/>
                </a:lnTo>
                <a:lnTo>
                  <a:pt x="768" y="1031"/>
                </a:lnTo>
                <a:lnTo>
                  <a:pt x="771" y="1040"/>
                </a:lnTo>
                <a:lnTo>
                  <a:pt x="779" y="1055"/>
                </a:lnTo>
                <a:lnTo>
                  <a:pt x="789" y="1065"/>
                </a:lnTo>
                <a:lnTo>
                  <a:pt x="801" y="1075"/>
                </a:lnTo>
                <a:lnTo>
                  <a:pt x="826" y="1097"/>
                </a:lnTo>
                <a:lnTo>
                  <a:pt x="833" y="1102"/>
                </a:lnTo>
                <a:lnTo>
                  <a:pt x="834" y="1107"/>
                </a:lnTo>
                <a:lnTo>
                  <a:pt x="834" y="1110"/>
                </a:lnTo>
                <a:lnTo>
                  <a:pt x="834" y="1115"/>
                </a:lnTo>
                <a:lnTo>
                  <a:pt x="834" y="1127"/>
                </a:lnTo>
                <a:lnTo>
                  <a:pt x="837" y="1134"/>
                </a:lnTo>
                <a:lnTo>
                  <a:pt x="847" y="1152"/>
                </a:lnTo>
                <a:lnTo>
                  <a:pt x="872" y="1182"/>
                </a:lnTo>
                <a:lnTo>
                  <a:pt x="929" y="1233"/>
                </a:lnTo>
                <a:lnTo>
                  <a:pt x="991" y="1281"/>
                </a:lnTo>
                <a:lnTo>
                  <a:pt x="1005" y="1294"/>
                </a:lnTo>
                <a:lnTo>
                  <a:pt x="1008" y="1298"/>
                </a:lnTo>
                <a:lnTo>
                  <a:pt x="1016" y="1308"/>
                </a:lnTo>
                <a:lnTo>
                  <a:pt x="1031" y="1327"/>
                </a:lnTo>
                <a:lnTo>
                  <a:pt x="1047" y="1346"/>
                </a:lnTo>
                <a:lnTo>
                  <a:pt x="1053" y="1349"/>
                </a:lnTo>
                <a:lnTo>
                  <a:pt x="1056" y="1353"/>
                </a:lnTo>
                <a:lnTo>
                  <a:pt x="1065" y="1359"/>
                </a:lnTo>
                <a:lnTo>
                  <a:pt x="1085" y="1370"/>
                </a:lnTo>
                <a:lnTo>
                  <a:pt x="1105" y="1379"/>
                </a:lnTo>
                <a:lnTo>
                  <a:pt x="1111" y="1381"/>
                </a:lnTo>
                <a:lnTo>
                  <a:pt x="1124" y="1388"/>
                </a:lnTo>
                <a:lnTo>
                  <a:pt x="1137" y="1397"/>
                </a:lnTo>
                <a:lnTo>
                  <a:pt x="1156" y="1420"/>
                </a:lnTo>
                <a:lnTo>
                  <a:pt x="1173" y="1446"/>
                </a:lnTo>
                <a:lnTo>
                  <a:pt x="1208" y="1497"/>
                </a:lnTo>
                <a:lnTo>
                  <a:pt x="1233" y="1515"/>
                </a:lnTo>
                <a:lnTo>
                  <a:pt x="1231" y="1511"/>
                </a:lnTo>
                <a:lnTo>
                  <a:pt x="1231" y="1501"/>
                </a:lnTo>
                <a:lnTo>
                  <a:pt x="1233" y="1492"/>
                </a:lnTo>
                <a:lnTo>
                  <a:pt x="1236" y="1485"/>
                </a:lnTo>
                <a:lnTo>
                  <a:pt x="1240" y="1478"/>
                </a:lnTo>
                <a:lnTo>
                  <a:pt x="1246" y="1470"/>
                </a:lnTo>
                <a:lnTo>
                  <a:pt x="1250" y="1465"/>
                </a:lnTo>
                <a:lnTo>
                  <a:pt x="1259" y="1470"/>
                </a:lnTo>
                <a:lnTo>
                  <a:pt x="1275" y="1478"/>
                </a:lnTo>
                <a:lnTo>
                  <a:pt x="1288" y="1482"/>
                </a:lnTo>
                <a:lnTo>
                  <a:pt x="1301" y="1479"/>
                </a:lnTo>
                <a:lnTo>
                  <a:pt x="1313" y="1472"/>
                </a:lnTo>
                <a:lnTo>
                  <a:pt x="1323" y="1457"/>
                </a:lnTo>
                <a:lnTo>
                  <a:pt x="1328" y="1447"/>
                </a:lnTo>
                <a:lnTo>
                  <a:pt x="1336" y="1453"/>
                </a:lnTo>
                <a:lnTo>
                  <a:pt x="1349" y="1466"/>
                </a:lnTo>
                <a:lnTo>
                  <a:pt x="1360" y="1481"/>
                </a:lnTo>
                <a:lnTo>
                  <a:pt x="1378" y="1514"/>
                </a:lnTo>
                <a:lnTo>
                  <a:pt x="1391" y="1540"/>
                </a:lnTo>
                <a:lnTo>
                  <a:pt x="1392" y="1543"/>
                </a:lnTo>
                <a:lnTo>
                  <a:pt x="1394" y="1543"/>
                </a:lnTo>
                <a:lnTo>
                  <a:pt x="1395" y="1543"/>
                </a:lnTo>
                <a:lnTo>
                  <a:pt x="1399" y="1543"/>
                </a:lnTo>
                <a:lnTo>
                  <a:pt x="1408" y="1543"/>
                </a:lnTo>
                <a:lnTo>
                  <a:pt x="1414" y="1541"/>
                </a:lnTo>
                <a:lnTo>
                  <a:pt x="1411" y="1531"/>
                </a:lnTo>
                <a:lnTo>
                  <a:pt x="1408" y="1510"/>
                </a:lnTo>
                <a:lnTo>
                  <a:pt x="1408" y="1466"/>
                </a:lnTo>
                <a:lnTo>
                  <a:pt x="1415" y="1423"/>
                </a:lnTo>
                <a:lnTo>
                  <a:pt x="1420" y="1411"/>
                </a:lnTo>
                <a:lnTo>
                  <a:pt x="1420" y="1404"/>
                </a:lnTo>
                <a:lnTo>
                  <a:pt x="1421" y="1397"/>
                </a:lnTo>
                <a:lnTo>
                  <a:pt x="1418" y="1382"/>
                </a:lnTo>
                <a:lnTo>
                  <a:pt x="1412" y="1366"/>
                </a:lnTo>
                <a:lnTo>
                  <a:pt x="1405" y="1334"/>
                </a:lnTo>
                <a:lnTo>
                  <a:pt x="1407" y="1317"/>
                </a:lnTo>
                <a:lnTo>
                  <a:pt x="1408" y="1313"/>
                </a:lnTo>
                <a:lnTo>
                  <a:pt x="1412" y="1302"/>
                </a:lnTo>
                <a:lnTo>
                  <a:pt x="1420" y="1292"/>
                </a:lnTo>
                <a:lnTo>
                  <a:pt x="1430" y="1273"/>
                </a:lnTo>
                <a:lnTo>
                  <a:pt x="1430" y="1257"/>
                </a:lnTo>
                <a:lnTo>
                  <a:pt x="1427" y="1253"/>
                </a:lnTo>
                <a:lnTo>
                  <a:pt x="1421" y="1244"/>
                </a:lnTo>
                <a:lnTo>
                  <a:pt x="1410" y="1228"/>
                </a:lnTo>
                <a:lnTo>
                  <a:pt x="1407" y="1220"/>
                </a:lnTo>
                <a:lnTo>
                  <a:pt x="1405" y="1211"/>
                </a:lnTo>
                <a:lnTo>
                  <a:pt x="1408" y="1205"/>
                </a:lnTo>
                <a:lnTo>
                  <a:pt x="1408" y="1204"/>
                </a:lnTo>
                <a:lnTo>
                  <a:pt x="1410" y="1200"/>
                </a:lnTo>
                <a:lnTo>
                  <a:pt x="1417" y="1191"/>
                </a:lnTo>
                <a:lnTo>
                  <a:pt x="1421" y="1188"/>
                </a:lnTo>
                <a:lnTo>
                  <a:pt x="1428" y="1188"/>
                </a:lnTo>
                <a:lnTo>
                  <a:pt x="1433" y="1188"/>
                </a:lnTo>
                <a:lnTo>
                  <a:pt x="1433" y="1184"/>
                </a:lnTo>
                <a:lnTo>
                  <a:pt x="1431" y="1172"/>
                </a:lnTo>
                <a:lnTo>
                  <a:pt x="1427" y="1150"/>
                </a:lnTo>
                <a:lnTo>
                  <a:pt x="1427" y="1140"/>
                </a:lnTo>
                <a:lnTo>
                  <a:pt x="1430" y="1134"/>
                </a:lnTo>
                <a:lnTo>
                  <a:pt x="1434" y="1131"/>
                </a:lnTo>
                <a:lnTo>
                  <a:pt x="1440" y="1129"/>
                </a:lnTo>
                <a:lnTo>
                  <a:pt x="1450" y="1121"/>
                </a:lnTo>
                <a:lnTo>
                  <a:pt x="1457" y="1114"/>
                </a:lnTo>
                <a:lnTo>
                  <a:pt x="1462" y="1105"/>
                </a:lnTo>
                <a:lnTo>
                  <a:pt x="1476" y="1088"/>
                </a:lnTo>
                <a:lnTo>
                  <a:pt x="1483" y="1084"/>
                </a:lnTo>
                <a:lnTo>
                  <a:pt x="1479" y="1085"/>
                </a:lnTo>
                <a:lnTo>
                  <a:pt x="1473" y="1085"/>
                </a:lnTo>
                <a:lnTo>
                  <a:pt x="1462" y="1085"/>
                </a:lnTo>
                <a:lnTo>
                  <a:pt x="1452" y="1084"/>
                </a:lnTo>
                <a:lnTo>
                  <a:pt x="1450" y="1082"/>
                </a:lnTo>
                <a:lnTo>
                  <a:pt x="1440" y="1078"/>
                </a:lnTo>
                <a:lnTo>
                  <a:pt x="1423" y="1066"/>
                </a:lnTo>
                <a:lnTo>
                  <a:pt x="1386" y="1043"/>
                </a:lnTo>
                <a:lnTo>
                  <a:pt x="1352" y="1023"/>
                </a:lnTo>
                <a:lnTo>
                  <a:pt x="1343" y="1018"/>
                </a:lnTo>
                <a:lnTo>
                  <a:pt x="1336" y="1017"/>
                </a:lnTo>
                <a:lnTo>
                  <a:pt x="1327" y="1015"/>
                </a:lnTo>
                <a:lnTo>
                  <a:pt x="1311" y="1017"/>
                </a:lnTo>
                <a:lnTo>
                  <a:pt x="1295" y="1023"/>
                </a:lnTo>
                <a:lnTo>
                  <a:pt x="1279" y="1031"/>
                </a:lnTo>
                <a:lnTo>
                  <a:pt x="1268" y="1043"/>
                </a:lnTo>
                <a:lnTo>
                  <a:pt x="1259" y="1058"/>
                </a:lnTo>
                <a:lnTo>
                  <a:pt x="1259" y="1058"/>
                </a:lnTo>
                <a:lnTo>
                  <a:pt x="1253" y="1050"/>
                </a:lnTo>
                <a:lnTo>
                  <a:pt x="1250" y="1040"/>
                </a:lnTo>
                <a:lnTo>
                  <a:pt x="1249" y="1030"/>
                </a:lnTo>
                <a:lnTo>
                  <a:pt x="1249" y="1011"/>
                </a:lnTo>
                <a:lnTo>
                  <a:pt x="1247" y="992"/>
                </a:lnTo>
                <a:lnTo>
                  <a:pt x="1246" y="985"/>
                </a:lnTo>
                <a:lnTo>
                  <a:pt x="1243" y="979"/>
                </a:lnTo>
                <a:lnTo>
                  <a:pt x="1236" y="973"/>
                </a:lnTo>
                <a:lnTo>
                  <a:pt x="1227" y="972"/>
                </a:lnTo>
                <a:lnTo>
                  <a:pt x="1215" y="971"/>
                </a:lnTo>
                <a:lnTo>
                  <a:pt x="1215" y="971"/>
                </a:lnTo>
                <a:lnTo>
                  <a:pt x="1218" y="962"/>
                </a:lnTo>
                <a:lnTo>
                  <a:pt x="1221" y="942"/>
                </a:lnTo>
                <a:lnTo>
                  <a:pt x="1221" y="921"/>
                </a:lnTo>
                <a:lnTo>
                  <a:pt x="1215" y="881"/>
                </a:lnTo>
                <a:lnTo>
                  <a:pt x="1215" y="849"/>
                </a:lnTo>
                <a:lnTo>
                  <a:pt x="1205" y="855"/>
                </a:lnTo>
                <a:lnTo>
                  <a:pt x="1188" y="860"/>
                </a:lnTo>
                <a:lnTo>
                  <a:pt x="1169" y="862"/>
                </a:lnTo>
                <a:lnTo>
                  <a:pt x="1152" y="859"/>
                </a:lnTo>
                <a:lnTo>
                  <a:pt x="1136" y="853"/>
                </a:lnTo>
                <a:lnTo>
                  <a:pt x="1120" y="845"/>
                </a:lnTo>
                <a:lnTo>
                  <a:pt x="1114" y="839"/>
                </a:lnTo>
                <a:lnTo>
                  <a:pt x="1107" y="833"/>
                </a:lnTo>
                <a:lnTo>
                  <a:pt x="1102" y="827"/>
                </a:lnTo>
                <a:lnTo>
                  <a:pt x="1102" y="821"/>
                </a:lnTo>
                <a:lnTo>
                  <a:pt x="1102" y="817"/>
                </a:lnTo>
                <a:lnTo>
                  <a:pt x="1105" y="811"/>
                </a:lnTo>
                <a:lnTo>
                  <a:pt x="1108" y="807"/>
                </a:lnTo>
                <a:lnTo>
                  <a:pt x="1118" y="797"/>
                </a:lnTo>
                <a:lnTo>
                  <a:pt x="1129" y="787"/>
                </a:lnTo>
                <a:lnTo>
                  <a:pt x="1136" y="772"/>
                </a:lnTo>
                <a:lnTo>
                  <a:pt x="1137" y="772"/>
                </a:lnTo>
                <a:lnTo>
                  <a:pt x="1133" y="772"/>
                </a:lnTo>
                <a:lnTo>
                  <a:pt x="1126" y="772"/>
                </a:lnTo>
                <a:lnTo>
                  <a:pt x="1111" y="772"/>
                </a:lnTo>
                <a:lnTo>
                  <a:pt x="1097" y="772"/>
                </a:lnTo>
                <a:lnTo>
                  <a:pt x="1094" y="772"/>
                </a:lnTo>
                <a:lnTo>
                  <a:pt x="1098" y="769"/>
                </a:lnTo>
                <a:lnTo>
                  <a:pt x="1107" y="760"/>
                </a:lnTo>
                <a:lnTo>
                  <a:pt x="1121" y="745"/>
                </a:lnTo>
                <a:lnTo>
                  <a:pt x="1133" y="726"/>
                </a:lnTo>
                <a:lnTo>
                  <a:pt x="1137" y="720"/>
                </a:lnTo>
                <a:lnTo>
                  <a:pt x="1130" y="717"/>
                </a:lnTo>
                <a:lnTo>
                  <a:pt x="1117" y="710"/>
                </a:lnTo>
                <a:lnTo>
                  <a:pt x="1095" y="697"/>
                </a:lnTo>
                <a:lnTo>
                  <a:pt x="1085" y="688"/>
                </a:lnTo>
                <a:lnTo>
                  <a:pt x="1079" y="676"/>
                </a:lnTo>
                <a:lnTo>
                  <a:pt x="1078" y="668"/>
                </a:lnTo>
                <a:lnTo>
                  <a:pt x="1071" y="671"/>
                </a:lnTo>
                <a:lnTo>
                  <a:pt x="1063" y="674"/>
                </a:lnTo>
                <a:lnTo>
                  <a:pt x="1060" y="674"/>
                </a:lnTo>
                <a:lnTo>
                  <a:pt x="1059" y="674"/>
                </a:lnTo>
                <a:lnTo>
                  <a:pt x="1058" y="674"/>
                </a:lnTo>
                <a:lnTo>
                  <a:pt x="1050" y="676"/>
                </a:lnTo>
                <a:lnTo>
                  <a:pt x="1046" y="679"/>
                </a:lnTo>
                <a:lnTo>
                  <a:pt x="1049" y="679"/>
                </a:lnTo>
                <a:lnTo>
                  <a:pt x="1052" y="679"/>
                </a:lnTo>
                <a:lnTo>
                  <a:pt x="1055" y="679"/>
                </a:lnTo>
                <a:lnTo>
                  <a:pt x="1055" y="681"/>
                </a:lnTo>
                <a:lnTo>
                  <a:pt x="1052" y="682"/>
                </a:lnTo>
                <a:lnTo>
                  <a:pt x="1049" y="682"/>
                </a:lnTo>
                <a:lnTo>
                  <a:pt x="1047" y="681"/>
                </a:lnTo>
                <a:lnTo>
                  <a:pt x="1044" y="678"/>
                </a:lnTo>
                <a:lnTo>
                  <a:pt x="1042" y="675"/>
                </a:lnTo>
                <a:lnTo>
                  <a:pt x="1040" y="669"/>
                </a:lnTo>
                <a:lnTo>
                  <a:pt x="1040" y="669"/>
                </a:lnTo>
                <a:lnTo>
                  <a:pt x="1034" y="660"/>
                </a:lnTo>
                <a:lnTo>
                  <a:pt x="1024" y="646"/>
                </a:lnTo>
                <a:lnTo>
                  <a:pt x="1010" y="637"/>
                </a:lnTo>
                <a:lnTo>
                  <a:pt x="992" y="633"/>
                </a:lnTo>
                <a:lnTo>
                  <a:pt x="975" y="630"/>
                </a:lnTo>
                <a:lnTo>
                  <a:pt x="956" y="631"/>
                </a:lnTo>
                <a:lnTo>
                  <a:pt x="947" y="633"/>
                </a:lnTo>
                <a:lnTo>
                  <a:pt x="946" y="624"/>
                </a:lnTo>
                <a:lnTo>
                  <a:pt x="943" y="617"/>
                </a:lnTo>
                <a:lnTo>
                  <a:pt x="939" y="603"/>
                </a:lnTo>
                <a:lnTo>
                  <a:pt x="936" y="591"/>
                </a:lnTo>
                <a:lnTo>
                  <a:pt x="931" y="581"/>
                </a:lnTo>
                <a:lnTo>
                  <a:pt x="921" y="563"/>
                </a:lnTo>
                <a:lnTo>
                  <a:pt x="910" y="547"/>
                </a:lnTo>
                <a:lnTo>
                  <a:pt x="894" y="534"/>
                </a:lnTo>
                <a:lnTo>
                  <a:pt x="862" y="508"/>
                </a:lnTo>
                <a:lnTo>
                  <a:pt x="855" y="501"/>
                </a:lnTo>
                <a:lnTo>
                  <a:pt x="847" y="494"/>
                </a:lnTo>
                <a:lnTo>
                  <a:pt x="832" y="478"/>
                </a:lnTo>
                <a:lnTo>
                  <a:pt x="797" y="447"/>
                </a:lnTo>
                <a:lnTo>
                  <a:pt x="779" y="442"/>
                </a:lnTo>
                <a:lnTo>
                  <a:pt x="769" y="443"/>
                </a:lnTo>
                <a:lnTo>
                  <a:pt x="761" y="447"/>
                </a:lnTo>
                <a:lnTo>
                  <a:pt x="753" y="455"/>
                </a:lnTo>
                <a:lnTo>
                  <a:pt x="753" y="455"/>
                </a:lnTo>
                <a:lnTo>
                  <a:pt x="752" y="458"/>
                </a:lnTo>
                <a:lnTo>
                  <a:pt x="752" y="461"/>
                </a:lnTo>
                <a:lnTo>
                  <a:pt x="753" y="463"/>
                </a:lnTo>
                <a:lnTo>
                  <a:pt x="755" y="466"/>
                </a:lnTo>
                <a:lnTo>
                  <a:pt x="759" y="475"/>
                </a:lnTo>
                <a:lnTo>
                  <a:pt x="771" y="494"/>
                </a:lnTo>
                <a:lnTo>
                  <a:pt x="775" y="504"/>
                </a:lnTo>
                <a:lnTo>
                  <a:pt x="756" y="497"/>
                </a:lnTo>
                <a:lnTo>
                  <a:pt x="723" y="478"/>
                </a:lnTo>
                <a:lnTo>
                  <a:pt x="695" y="453"/>
                </a:lnTo>
                <a:lnTo>
                  <a:pt x="648" y="394"/>
                </a:lnTo>
                <a:lnTo>
                  <a:pt x="613" y="347"/>
                </a:lnTo>
                <a:lnTo>
                  <a:pt x="610" y="343"/>
                </a:lnTo>
                <a:lnTo>
                  <a:pt x="608" y="340"/>
                </a:lnTo>
                <a:lnTo>
                  <a:pt x="608" y="334"/>
                </a:lnTo>
                <a:lnTo>
                  <a:pt x="610" y="329"/>
                </a:lnTo>
                <a:lnTo>
                  <a:pt x="608" y="317"/>
                </a:lnTo>
                <a:lnTo>
                  <a:pt x="608" y="314"/>
                </a:lnTo>
                <a:lnTo>
                  <a:pt x="597" y="301"/>
                </a:lnTo>
                <a:lnTo>
                  <a:pt x="571" y="281"/>
                </a:lnTo>
                <a:lnTo>
                  <a:pt x="542" y="266"/>
                </a:lnTo>
                <a:lnTo>
                  <a:pt x="484" y="239"/>
                </a:lnTo>
                <a:lnTo>
                  <a:pt x="453" y="205"/>
                </a:lnTo>
                <a:lnTo>
                  <a:pt x="449" y="198"/>
                </a:lnTo>
                <a:lnTo>
                  <a:pt x="443" y="182"/>
                </a:lnTo>
                <a:lnTo>
                  <a:pt x="432" y="146"/>
                </a:lnTo>
                <a:lnTo>
                  <a:pt x="411" y="113"/>
                </a:lnTo>
                <a:lnTo>
                  <a:pt x="404" y="104"/>
                </a:lnTo>
                <a:lnTo>
                  <a:pt x="403" y="101"/>
                </a:lnTo>
                <a:lnTo>
                  <a:pt x="401" y="95"/>
                </a:lnTo>
                <a:lnTo>
                  <a:pt x="403" y="91"/>
                </a:lnTo>
                <a:lnTo>
                  <a:pt x="401" y="82"/>
                </a:lnTo>
                <a:lnTo>
                  <a:pt x="401" y="81"/>
                </a:lnTo>
                <a:lnTo>
                  <a:pt x="391" y="72"/>
                </a:lnTo>
                <a:lnTo>
                  <a:pt x="369" y="61"/>
                </a:lnTo>
                <a:lnTo>
                  <a:pt x="346" y="55"/>
                </a:lnTo>
                <a:lnTo>
                  <a:pt x="322" y="53"/>
                </a:lnTo>
                <a:lnTo>
                  <a:pt x="274" y="55"/>
                </a:lnTo>
                <a:lnTo>
                  <a:pt x="264" y="53"/>
                </a:lnTo>
                <a:lnTo>
                  <a:pt x="255" y="53"/>
                </a:lnTo>
                <a:lnTo>
                  <a:pt x="239" y="55"/>
                </a:lnTo>
                <a:lnTo>
                  <a:pt x="204" y="61"/>
                </a:lnTo>
                <a:lnTo>
                  <a:pt x="187" y="61"/>
                </a:lnTo>
                <a:lnTo>
                  <a:pt x="169" y="56"/>
                </a:lnTo>
                <a:lnTo>
                  <a:pt x="162" y="52"/>
                </a:lnTo>
                <a:lnTo>
                  <a:pt x="149" y="45"/>
                </a:lnTo>
                <a:lnTo>
                  <a:pt x="123" y="29"/>
                </a:lnTo>
                <a:lnTo>
                  <a:pt x="72" y="4"/>
                </a:lnTo>
                <a:lnTo>
                  <a:pt x="46" y="0"/>
                </a:lnTo>
                <a:lnTo>
                  <a:pt x="20" y="7"/>
                </a:lnTo>
                <a:lnTo>
                  <a:pt x="9" y="14"/>
                </a:lnTo>
                <a:lnTo>
                  <a:pt x="9" y="14"/>
                </a:lnTo>
                <a:close/>
              </a:path>
            </a:pathLst>
          </a:custGeom>
          <a:noFill/>
          <a:ln w="4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114720" y="3968640"/>
            <a:ext cx="22320" cy="63720"/>
          </a:xfrm>
          <a:custGeom>
            <a:avLst/>
            <a:gdLst/>
            <a:ahLst/>
            <a:rect l="l" t="t" r="r" b="b"/>
            <a:pathLst>
              <a:path w="80" h="233">
                <a:moveTo>
                  <a:pt x="20" y="124"/>
                </a:moveTo>
                <a:lnTo>
                  <a:pt x="26" y="114"/>
                </a:lnTo>
                <a:lnTo>
                  <a:pt x="35" y="93"/>
                </a:lnTo>
                <a:lnTo>
                  <a:pt x="40" y="69"/>
                </a:lnTo>
                <a:lnTo>
                  <a:pt x="52" y="26"/>
                </a:lnTo>
                <a:lnTo>
                  <a:pt x="77" y="0"/>
                </a:lnTo>
                <a:lnTo>
                  <a:pt x="80" y="22"/>
                </a:lnTo>
                <a:lnTo>
                  <a:pt x="77" y="62"/>
                </a:lnTo>
                <a:lnTo>
                  <a:pt x="66" y="100"/>
                </a:lnTo>
                <a:lnTo>
                  <a:pt x="49" y="137"/>
                </a:lnTo>
                <a:lnTo>
                  <a:pt x="19" y="213"/>
                </a:lnTo>
                <a:lnTo>
                  <a:pt x="16" y="233"/>
                </a:lnTo>
                <a:lnTo>
                  <a:pt x="14" y="233"/>
                </a:lnTo>
                <a:lnTo>
                  <a:pt x="11" y="232"/>
                </a:lnTo>
                <a:lnTo>
                  <a:pt x="6" y="229"/>
                </a:lnTo>
                <a:lnTo>
                  <a:pt x="0" y="226"/>
                </a:lnTo>
                <a:lnTo>
                  <a:pt x="0" y="224"/>
                </a:lnTo>
                <a:lnTo>
                  <a:pt x="3" y="217"/>
                </a:lnTo>
                <a:lnTo>
                  <a:pt x="6" y="200"/>
                </a:lnTo>
                <a:lnTo>
                  <a:pt x="7" y="182"/>
                </a:lnTo>
                <a:lnTo>
                  <a:pt x="10" y="148"/>
                </a:lnTo>
                <a:lnTo>
                  <a:pt x="20" y="124"/>
                </a:lnTo>
                <a:lnTo>
                  <a:pt x="20" y="124"/>
                </a:lnTo>
                <a:close/>
              </a:path>
            </a:pathLst>
          </a:custGeom>
          <a:noFill/>
          <a:ln w="4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48200" y="1930320"/>
            <a:ext cx="497160" cy="549360"/>
          </a:xfrm>
          <a:custGeom>
            <a:avLst/>
            <a:gdLst/>
            <a:ahLst/>
            <a:rect l="l" t="t" r="r" b="b"/>
            <a:pathLst>
              <a:path w="1440" h="1679">
                <a:moveTo>
                  <a:pt x="1168" y="1570"/>
                </a:moveTo>
                <a:lnTo>
                  <a:pt x="1156" y="1553"/>
                </a:lnTo>
                <a:lnTo>
                  <a:pt x="1150" y="1533"/>
                </a:lnTo>
                <a:lnTo>
                  <a:pt x="1147" y="1509"/>
                </a:lnTo>
                <a:lnTo>
                  <a:pt x="1147" y="1457"/>
                </a:lnTo>
                <a:lnTo>
                  <a:pt x="1152" y="1350"/>
                </a:lnTo>
                <a:lnTo>
                  <a:pt x="1139" y="1281"/>
                </a:lnTo>
                <a:lnTo>
                  <a:pt x="1136" y="1278"/>
                </a:lnTo>
                <a:lnTo>
                  <a:pt x="1129" y="1267"/>
                </a:lnTo>
                <a:lnTo>
                  <a:pt x="1111" y="1247"/>
                </a:lnTo>
                <a:lnTo>
                  <a:pt x="1095" y="1227"/>
                </a:lnTo>
                <a:lnTo>
                  <a:pt x="1094" y="1221"/>
                </a:lnTo>
                <a:lnTo>
                  <a:pt x="1076" y="1220"/>
                </a:lnTo>
                <a:lnTo>
                  <a:pt x="1062" y="1215"/>
                </a:lnTo>
                <a:lnTo>
                  <a:pt x="1050" y="1207"/>
                </a:lnTo>
                <a:lnTo>
                  <a:pt x="1042" y="1196"/>
                </a:lnTo>
                <a:lnTo>
                  <a:pt x="1033" y="1183"/>
                </a:lnTo>
                <a:lnTo>
                  <a:pt x="1023" y="1153"/>
                </a:lnTo>
                <a:lnTo>
                  <a:pt x="1014" y="1121"/>
                </a:lnTo>
                <a:lnTo>
                  <a:pt x="1007" y="1089"/>
                </a:lnTo>
                <a:lnTo>
                  <a:pt x="1003" y="1075"/>
                </a:lnTo>
                <a:lnTo>
                  <a:pt x="995" y="1059"/>
                </a:lnTo>
                <a:lnTo>
                  <a:pt x="987" y="1043"/>
                </a:lnTo>
                <a:lnTo>
                  <a:pt x="962" y="1008"/>
                </a:lnTo>
                <a:lnTo>
                  <a:pt x="904" y="939"/>
                </a:lnTo>
                <a:lnTo>
                  <a:pt x="865" y="865"/>
                </a:lnTo>
                <a:lnTo>
                  <a:pt x="862" y="856"/>
                </a:lnTo>
                <a:lnTo>
                  <a:pt x="855" y="839"/>
                </a:lnTo>
                <a:lnTo>
                  <a:pt x="837" y="802"/>
                </a:lnTo>
                <a:lnTo>
                  <a:pt x="817" y="766"/>
                </a:lnTo>
                <a:lnTo>
                  <a:pt x="813" y="756"/>
                </a:lnTo>
                <a:lnTo>
                  <a:pt x="801" y="765"/>
                </a:lnTo>
                <a:lnTo>
                  <a:pt x="782" y="782"/>
                </a:lnTo>
                <a:lnTo>
                  <a:pt x="749" y="821"/>
                </a:lnTo>
                <a:lnTo>
                  <a:pt x="713" y="855"/>
                </a:lnTo>
                <a:lnTo>
                  <a:pt x="703" y="859"/>
                </a:lnTo>
                <a:lnTo>
                  <a:pt x="697" y="859"/>
                </a:lnTo>
                <a:lnTo>
                  <a:pt x="681" y="857"/>
                </a:lnTo>
                <a:lnTo>
                  <a:pt x="642" y="847"/>
                </a:lnTo>
                <a:lnTo>
                  <a:pt x="611" y="834"/>
                </a:lnTo>
                <a:lnTo>
                  <a:pt x="608" y="831"/>
                </a:lnTo>
                <a:lnTo>
                  <a:pt x="623" y="826"/>
                </a:lnTo>
                <a:lnTo>
                  <a:pt x="653" y="811"/>
                </a:lnTo>
                <a:lnTo>
                  <a:pt x="707" y="782"/>
                </a:lnTo>
                <a:lnTo>
                  <a:pt x="726" y="769"/>
                </a:lnTo>
                <a:lnTo>
                  <a:pt x="739" y="757"/>
                </a:lnTo>
                <a:lnTo>
                  <a:pt x="742" y="750"/>
                </a:lnTo>
                <a:lnTo>
                  <a:pt x="726" y="746"/>
                </a:lnTo>
                <a:lnTo>
                  <a:pt x="710" y="744"/>
                </a:lnTo>
                <a:lnTo>
                  <a:pt x="691" y="746"/>
                </a:lnTo>
                <a:lnTo>
                  <a:pt x="652" y="756"/>
                </a:lnTo>
                <a:lnTo>
                  <a:pt x="611" y="772"/>
                </a:lnTo>
                <a:lnTo>
                  <a:pt x="540" y="810"/>
                </a:lnTo>
                <a:lnTo>
                  <a:pt x="529" y="817"/>
                </a:lnTo>
                <a:lnTo>
                  <a:pt x="521" y="817"/>
                </a:lnTo>
                <a:lnTo>
                  <a:pt x="506" y="814"/>
                </a:lnTo>
                <a:lnTo>
                  <a:pt x="472" y="804"/>
                </a:lnTo>
                <a:lnTo>
                  <a:pt x="442" y="792"/>
                </a:lnTo>
                <a:lnTo>
                  <a:pt x="437" y="789"/>
                </a:lnTo>
                <a:lnTo>
                  <a:pt x="422" y="801"/>
                </a:lnTo>
                <a:lnTo>
                  <a:pt x="403" y="808"/>
                </a:lnTo>
                <a:lnTo>
                  <a:pt x="378" y="814"/>
                </a:lnTo>
                <a:lnTo>
                  <a:pt x="323" y="820"/>
                </a:lnTo>
                <a:lnTo>
                  <a:pt x="262" y="815"/>
                </a:lnTo>
                <a:lnTo>
                  <a:pt x="209" y="804"/>
                </a:lnTo>
                <a:lnTo>
                  <a:pt x="168" y="784"/>
                </a:lnTo>
                <a:lnTo>
                  <a:pt x="156" y="770"/>
                </a:lnTo>
                <a:lnTo>
                  <a:pt x="146" y="770"/>
                </a:lnTo>
                <a:lnTo>
                  <a:pt x="135" y="768"/>
                </a:lnTo>
                <a:lnTo>
                  <a:pt x="107" y="759"/>
                </a:lnTo>
                <a:lnTo>
                  <a:pt x="48" y="731"/>
                </a:lnTo>
                <a:lnTo>
                  <a:pt x="0" y="707"/>
                </a:lnTo>
                <a:lnTo>
                  <a:pt x="26" y="699"/>
                </a:lnTo>
                <a:lnTo>
                  <a:pt x="54" y="698"/>
                </a:lnTo>
                <a:lnTo>
                  <a:pt x="84" y="701"/>
                </a:lnTo>
                <a:lnTo>
                  <a:pt x="148" y="717"/>
                </a:lnTo>
                <a:lnTo>
                  <a:pt x="281" y="755"/>
                </a:lnTo>
                <a:lnTo>
                  <a:pt x="377" y="747"/>
                </a:lnTo>
                <a:lnTo>
                  <a:pt x="378" y="747"/>
                </a:lnTo>
                <a:lnTo>
                  <a:pt x="382" y="746"/>
                </a:lnTo>
                <a:lnTo>
                  <a:pt x="393" y="740"/>
                </a:lnTo>
                <a:lnTo>
                  <a:pt x="416" y="727"/>
                </a:lnTo>
                <a:lnTo>
                  <a:pt x="435" y="718"/>
                </a:lnTo>
                <a:lnTo>
                  <a:pt x="433" y="710"/>
                </a:lnTo>
                <a:lnTo>
                  <a:pt x="430" y="699"/>
                </a:lnTo>
                <a:lnTo>
                  <a:pt x="422" y="679"/>
                </a:lnTo>
                <a:lnTo>
                  <a:pt x="408" y="659"/>
                </a:lnTo>
                <a:lnTo>
                  <a:pt x="378" y="621"/>
                </a:lnTo>
                <a:lnTo>
                  <a:pt x="365" y="605"/>
                </a:lnTo>
                <a:lnTo>
                  <a:pt x="364" y="605"/>
                </a:lnTo>
                <a:lnTo>
                  <a:pt x="361" y="605"/>
                </a:lnTo>
                <a:lnTo>
                  <a:pt x="348" y="605"/>
                </a:lnTo>
                <a:lnTo>
                  <a:pt x="339" y="605"/>
                </a:lnTo>
                <a:lnTo>
                  <a:pt x="339" y="605"/>
                </a:lnTo>
                <a:lnTo>
                  <a:pt x="339" y="597"/>
                </a:lnTo>
                <a:lnTo>
                  <a:pt x="342" y="586"/>
                </a:lnTo>
                <a:lnTo>
                  <a:pt x="353" y="566"/>
                </a:lnTo>
                <a:lnTo>
                  <a:pt x="368" y="544"/>
                </a:lnTo>
                <a:lnTo>
                  <a:pt x="403" y="508"/>
                </a:lnTo>
                <a:lnTo>
                  <a:pt x="420" y="495"/>
                </a:lnTo>
                <a:lnTo>
                  <a:pt x="411" y="489"/>
                </a:lnTo>
                <a:lnTo>
                  <a:pt x="395" y="478"/>
                </a:lnTo>
                <a:lnTo>
                  <a:pt x="380" y="465"/>
                </a:lnTo>
                <a:lnTo>
                  <a:pt x="366" y="450"/>
                </a:lnTo>
                <a:lnTo>
                  <a:pt x="362" y="430"/>
                </a:lnTo>
                <a:lnTo>
                  <a:pt x="366" y="402"/>
                </a:lnTo>
                <a:lnTo>
                  <a:pt x="374" y="385"/>
                </a:lnTo>
                <a:lnTo>
                  <a:pt x="378" y="386"/>
                </a:lnTo>
                <a:lnTo>
                  <a:pt x="387" y="388"/>
                </a:lnTo>
                <a:lnTo>
                  <a:pt x="407" y="391"/>
                </a:lnTo>
                <a:lnTo>
                  <a:pt x="416" y="391"/>
                </a:lnTo>
                <a:lnTo>
                  <a:pt x="423" y="389"/>
                </a:lnTo>
                <a:lnTo>
                  <a:pt x="426" y="386"/>
                </a:lnTo>
                <a:lnTo>
                  <a:pt x="420" y="365"/>
                </a:lnTo>
                <a:lnTo>
                  <a:pt x="422" y="346"/>
                </a:lnTo>
                <a:lnTo>
                  <a:pt x="429" y="331"/>
                </a:lnTo>
                <a:lnTo>
                  <a:pt x="439" y="320"/>
                </a:lnTo>
                <a:lnTo>
                  <a:pt x="455" y="313"/>
                </a:lnTo>
                <a:lnTo>
                  <a:pt x="472" y="305"/>
                </a:lnTo>
                <a:lnTo>
                  <a:pt x="516" y="300"/>
                </a:lnTo>
                <a:lnTo>
                  <a:pt x="561" y="297"/>
                </a:lnTo>
                <a:lnTo>
                  <a:pt x="601" y="294"/>
                </a:lnTo>
                <a:lnTo>
                  <a:pt x="603" y="294"/>
                </a:lnTo>
                <a:lnTo>
                  <a:pt x="603" y="300"/>
                </a:lnTo>
                <a:lnTo>
                  <a:pt x="601" y="317"/>
                </a:lnTo>
                <a:lnTo>
                  <a:pt x="601" y="330"/>
                </a:lnTo>
                <a:lnTo>
                  <a:pt x="603" y="330"/>
                </a:lnTo>
                <a:lnTo>
                  <a:pt x="611" y="334"/>
                </a:lnTo>
                <a:lnTo>
                  <a:pt x="642" y="347"/>
                </a:lnTo>
                <a:lnTo>
                  <a:pt x="665" y="358"/>
                </a:lnTo>
                <a:lnTo>
                  <a:pt x="666" y="358"/>
                </a:lnTo>
                <a:lnTo>
                  <a:pt x="671" y="355"/>
                </a:lnTo>
                <a:lnTo>
                  <a:pt x="678" y="347"/>
                </a:lnTo>
                <a:lnTo>
                  <a:pt x="692" y="337"/>
                </a:lnTo>
                <a:lnTo>
                  <a:pt x="695" y="330"/>
                </a:lnTo>
                <a:lnTo>
                  <a:pt x="695" y="320"/>
                </a:lnTo>
                <a:lnTo>
                  <a:pt x="694" y="313"/>
                </a:lnTo>
                <a:lnTo>
                  <a:pt x="697" y="313"/>
                </a:lnTo>
                <a:lnTo>
                  <a:pt x="700" y="313"/>
                </a:lnTo>
                <a:lnTo>
                  <a:pt x="711" y="310"/>
                </a:lnTo>
                <a:lnTo>
                  <a:pt x="739" y="302"/>
                </a:lnTo>
                <a:lnTo>
                  <a:pt x="759" y="298"/>
                </a:lnTo>
                <a:lnTo>
                  <a:pt x="752" y="292"/>
                </a:lnTo>
                <a:lnTo>
                  <a:pt x="745" y="285"/>
                </a:lnTo>
                <a:lnTo>
                  <a:pt x="723" y="269"/>
                </a:lnTo>
                <a:lnTo>
                  <a:pt x="671" y="234"/>
                </a:lnTo>
                <a:lnTo>
                  <a:pt x="629" y="192"/>
                </a:lnTo>
                <a:lnTo>
                  <a:pt x="630" y="188"/>
                </a:lnTo>
                <a:lnTo>
                  <a:pt x="637" y="178"/>
                </a:lnTo>
                <a:lnTo>
                  <a:pt x="652" y="155"/>
                </a:lnTo>
                <a:lnTo>
                  <a:pt x="669" y="133"/>
                </a:lnTo>
                <a:lnTo>
                  <a:pt x="675" y="127"/>
                </a:lnTo>
                <a:lnTo>
                  <a:pt x="675" y="120"/>
                </a:lnTo>
                <a:lnTo>
                  <a:pt x="674" y="94"/>
                </a:lnTo>
                <a:lnTo>
                  <a:pt x="674" y="75"/>
                </a:lnTo>
                <a:lnTo>
                  <a:pt x="675" y="74"/>
                </a:lnTo>
                <a:lnTo>
                  <a:pt x="684" y="76"/>
                </a:lnTo>
                <a:lnTo>
                  <a:pt x="708" y="84"/>
                </a:lnTo>
                <a:lnTo>
                  <a:pt x="763" y="102"/>
                </a:lnTo>
                <a:lnTo>
                  <a:pt x="805" y="123"/>
                </a:lnTo>
                <a:lnTo>
                  <a:pt x="811" y="127"/>
                </a:lnTo>
                <a:lnTo>
                  <a:pt x="810" y="133"/>
                </a:lnTo>
                <a:lnTo>
                  <a:pt x="808" y="142"/>
                </a:lnTo>
                <a:lnTo>
                  <a:pt x="804" y="159"/>
                </a:lnTo>
                <a:lnTo>
                  <a:pt x="795" y="172"/>
                </a:lnTo>
                <a:lnTo>
                  <a:pt x="794" y="173"/>
                </a:lnTo>
                <a:lnTo>
                  <a:pt x="795" y="181"/>
                </a:lnTo>
                <a:lnTo>
                  <a:pt x="803" y="195"/>
                </a:lnTo>
                <a:lnTo>
                  <a:pt x="827" y="221"/>
                </a:lnTo>
                <a:lnTo>
                  <a:pt x="842" y="229"/>
                </a:lnTo>
                <a:lnTo>
                  <a:pt x="858" y="231"/>
                </a:lnTo>
                <a:lnTo>
                  <a:pt x="868" y="229"/>
                </a:lnTo>
                <a:lnTo>
                  <a:pt x="866" y="223"/>
                </a:lnTo>
                <a:lnTo>
                  <a:pt x="865" y="207"/>
                </a:lnTo>
                <a:lnTo>
                  <a:pt x="859" y="176"/>
                </a:lnTo>
                <a:lnTo>
                  <a:pt x="850" y="145"/>
                </a:lnTo>
                <a:lnTo>
                  <a:pt x="849" y="137"/>
                </a:lnTo>
                <a:lnTo>
                  <a:pt x="855" y="126"/>
                </a:lnTo>
                <a:lnTo>
                  <a:pt x="863" y="102"/>
                </a:lnTo>
                <a:lnTo>
                  <a:pt x="876" y="53"/>
                </a:lnTo>
                <a:lnTo>
                  <a:pt x="889" y="10"/>
                </a:lnTo>
                <a:lnTo>
                  <a:pt x="894" y="0"/>
                </a:lnTo>
                <a:lnTo>
                  <a:pt x="911" y="1"/>
                </a:lnTo>
                <a:lnTo>
                  <a:pt x="949" y="5"/>
                </a:lnTo>
                <a:lnTo>
                  <a:pt x="1027" y="21"/>
                </a:lnTo>
                <a:lnTo>
                  <a:pt x="1104" y="40"/>
                </a:lnTo>
                <a:lnTo>
                  <a:pt x="1123" y="45"/>
                </a:lnTo>
                <a:lnTo>
                  <a:pt x="1127" y="46"/>
                </a:lnTo>
                <a:lnTo>
                  <a:pt x="1142" y="47"/>
                </a:lnTo>
                <a:lnTo>
                  <a:pt x="1176" y="55"/>
                </a:lnTo>
                <a:lnTo>
                  <a:pt x="1207" y="58"/>
                </a:lnTo>
                <a:lnTo>
                  <a:pt x="1213" y="55"/>
                </a:lnTo>
                <a:lnTo>
                  <a:pt x="1220" y="65"/>
                </a:lnTo>
                <a:lnTo>
                  <a:pt x="1236" y="85"/>
                </a:lnTo>
                <a:lnTo>
                  <a:pt x="1257" y="133"/>
                </a:lnTo>
                <a:lnTo>
                  <a:pt x="1266" y="181"/>
                </a:lnTo>
                <a:lnTo>
                  <a:pt x="1268" y="192"/>
                </a:lnTo>
                <a:lnTo>
                  <a:pt x="1281" y="208"/>
                </a:lnTo>
                <a:lnTo>
                  <a:pt x="1314" y="243"/>
                </a:lnTo>
                <a:lnTo>
                  <a:pt x="1381" y="324"/>
                </a:lnTo>
                <a:lnTo>
                  <a:pt x="1431" y="408"/>
                </a:lnTo>
                <a:lnTo>
                  <a:pt x="1440" y="427"/>
                </a:lnTo>
                <a:lnTo>
                  <a:pt x="1431" y="439"/>
                </a:lnTo>
                <a:lnTo>
                  <a:pt x="1373" y="520"/>
                </a:lnTo>
                <a:lnTo>
                  <a:pt x="1173" y="795"/>
                </a:lnTo>
                <a:lnTo>
                  <a:pt x="1021" y="1005"/>
                </a:lnTo>
                <a:lnTo>
                  <a:pt x="1014" y="1015"/>
                </a:lnTo>
                <a:lnTo>
                  <a:pt x="1023" y="1018"/>
                </a:lnTo>
                <a:lnTo>
                  <a:pt x="1052" y="1025"/>
                </a:lnTo>
                <a:lnTo>
                  <a:pt x="1073" y="1031"/>
                </a:lnTo>
                <a:lnTo>
                  <a:pt x="1075" y="1031"/>
                </a:lnTo>
                <a:lnTo>
                  <a:pt x="1078" y="1039"/>
                </a:lnTo>
                <a:lnTo>
                  <a:pt x="1088" y="1060"/>
                </a:lnTo>
                <a:lnTo>
                  <a:pt x="1097" y="1078"/>
                </a:lnTo>
                <a:lnTo>
                  <a:pt x="1098" y="1078"/>
                </a:lnTo>
                <a:lnTo>
                  <a:pt x="1095" y="1088"/>
                </a:lnTo>
                <a:lnTo>
                  <a:pt x="1091" y="1118"/>
                </a:lnTo>
                <a:lnTo>
                  <a:pt x="1087" y="1141"/>
                </a:lnTo>
                <a:lnTo>
                  <a:pt x="1087" y="1141"/>
                </a:lnTo>
                <a:lnTo>
                  <a:pt x="1101" y="1143"/>
                </a:lnTo>
                <a:lnTo>
                  <a:pt x="1146" y="1147"/>
                </a:lnTo>
                <a:lnTo>
                  <a:pt x="1181" y="1150"/>
                </a:lnTo>
                <a:lnTo>
                  <a:pt x="1184" y="1150"/>
                </a:lnTo>
                <a:lnTo>
                  <a:pt x="1184" y="1157"/>
                </a:lnTo>
                <a:lnTo>
                  <a:pt x="1184" y="1196"/>
                </a:lnTo>
                <a:lnTo>
                  <a:pt x="1188" y="1336"/>
                </a:lnTo>
                <a:lnTo>
                  <a:pt x="1189" y="1440"/>
                </a:lnTo>
                <a:lnTo>
                  <a:pt x="1191" y="1446"/>
                </a:lnTo>
                <a:lnTo>
                  <a:pt x="1208" y="1466"/>
                </a:lnTo>
                <a:lnTo>
                  <a:pt x="1231" y="1502"/>
                </a:lnTo>
                <a:lnTo>
                  <a:pt x="1239" y="1534"/>
                </a:lnTo>
                <a:lnTo>
                  <a:pt x="1234" y="1567"/>
                </a:lnTo>
                <a:lnTo>
                  <a:pt x="1220" y="1602"/>
                </a:lnTo>
                <a:lnTo>
                  <a:pt x="1198" y="1643"/>
                </a:lnTo>
                <a:lnTo>
                  <a:pt x="1187" y="1665"/>
                </a:lnTo>
                <a:lnTo>
                  <a:pt x="1185" y="1670"/>
                </a:lnTo>
                <a:lnTo>
                  <a:pt x="1184" y="1675"/>
                </a:lnTo>
                <a:lnTo>
                  <a:pt x="1181" y="1678"/>
                </a:lnTo>
                <a:lnTo>
                  <a:pt x="1178" y="1679"/>
                </a:lnTo>
                <a:lnTo>
                  <a:pt x="1173" y="1679"/>
                </a:lnTo>
                <a:lnTo>
                  <a:pt x="1171" y="1678"/>
                </a:lnTo>
                <a:lnTo>
                  <a:pt x="1166" y="1675"/>
                </a:lnTo>
                <a:lnTo>
                  <a:pt x="1163" y="1670"/>
                </a:lnTo>
                <a:lnTo>
                  <a:pt x="1160" y="1666"/>
                </a:lnTo>
                <a:lnTo>
                  <a:pt x="1159" y="1662"/>
                </a:lnTo>
                <a:lnTo>
                  <a:pt x="1158" y="1654"/>
                </a:lnTo>
                <a:lnTo>
                  <a:pt x="1158" y="1647"/>
                </a:lnTo>
                <a:lnTo>
                  <a:pt x="1159" y="1647"/>
                </a:lnTo>
                <a:lnTo>
                  <a:pt x="1152" y="1641"/>
                </a:lnTo>
                <a:lnTo>
                  <a:pt x="1149" y="1636"/>
                </a:lnTo>
                <a:lnTo>
                  <a:pt x="1146" y="1628"/>
                </a:lnTo>
                <a:lnTo>
                  <a:pt x="1146" y="1622"/>
                </a:lnTo>
                <a:lnTo>
                  <a:pt x="1146" y="1617"/>
                </a:lnTo>
                <a:lnTo>
                  <a:pt x="1147" y="1609"/>
                </a:lnTo>
                <a:lnTo>
                  <a:pt x="1153" y="1598"/>
                </a:lnTo>
                <a:lnTo>
                  <a:pt x="1166" y="1570"/>
                </a:lnTo>
                <a:lnTo>
                  <a:pt x="1168" y="1570"/>
                </a:lnTo>
                <a:lnTo>
                  <a:pt x="1168" y="157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854760" y="1698480"/>
            <a:ext cx="520920" cy="474840"/>
          </a:xfrm>
          <a:custGeom>
            <a:avLst/>
            <a:gdLst/>
            <a:ahLst/>
            <a:rect l="l" t="t" r="r" b="b"/>
            <a:pathLst>
              <a:path w="1514" h="1452">
                <a:moveTo>
                  <a:pt x="756" y="1070"/>
                </a:moveTo>
                <a:lnTo>
                  <a:pt x="749" y="1070"/>
                </a:lnTo>
                <a:lnTo>
                  <a:pt x="735" y="1067"/>
                </a:lnTo>
                <a:lnTo>
                  <a:pt x="719" y="1061"/>
                </a:lnTo>
                <a:lnTo>
                  <a:pt x="694" y="1043"/>
                </a:lnTo>
                <a:lnTo>
                  <a:pt x="684" y="1023"/>
                </a:lnTo>
                <a:lnTo>
                  <a:pt x="691" y="1025"/>
                </a:lnTo>
                <a:lnTo>
                  <a:pt x="709" y="1025"/>
                </a:lnTo>
                <a:lnTo>
                  <a:pt x="740" y="1025"/>
                </a:lnTo>
                <a:lnTo>
                  <a:pt x="772" y="1026"/>
                </a:lnTo>
                <a:lnTo>
                  <a:pt x="781" y="1026"/>
                </a:lnTo>
                <a:lnTo>
                  <a:pt x="780" y="1030"/>
                </a:lnTo>
                <a:lnTo>
                  <a:pt x="778" y="1039"/>
                </a:lnTo>
                <a:lnTo>
                  <a:pt x="774" y="1048"/>
                </a:lnTo>
                <a:lnTo>
                  <a:pt x="764" y="1062"/>
                </a:lnTo>
                <a:lnTo>
                  <a:pt x="756" y="1070"/>
                </a:lnTo>
                <a:lnTo>
                  <a:pt x="756" y="1070"/>
                </a:lnTo>
                <a:close/>
                <a:moveTo>
                  <a:pt x="70" y="371"/>
                </a:moveTo>
                <a:lnTo>
                  <a:pt x="62" y="349"/>
                </a:lnTo>
                <a:lnTo>
                  <a:pt x="51" y="315"/>
                </a:lnTo>
                <a:lnTo>
                  <a:pt x="35" y="265"/>
                </a:lnTo>
                <a:lnTo>
                  <a:pt x="39" y="215"/>
                </a:lnTo>
                <a:lnTo>
                  <a:pt x="45" y="196"/>
                </a:lnTo>
                <a:lnTo>
                  <a:pt x="45" y="189"/>
                </a:lnTo>
                <a:lnTo>
                  <a:pt x="45" y="173"/>
                </a:lnTo>
                <a:lnTo>
                  <a:pt x="49" y="135"/>
                </a:lnTo>
                <a:lnTo>
                  <a:pt x="52" y="102"/>
                </a:lnTo>
                <a:lnTo>
                  <a:pt x="54" y="94"/>
                </a:lnTo>
                <a:lnTo>
                  <a:pt x="65" y="93"/>
                </a:lnTo>
                <a:lnTo>
                  <a:pt x="77" y="96"/>
                </a:lnTo>
                <a:lnTo>
                  <a:pt x="84" y="103"/>
                </a:lnTo>
                <a:lnTo>
                  <a:pt x="90" y="112"/>
                </a:lnTo>
                <a:lnTo>
                  <a:pt x="94" y="123"/>
                </a:lnTo>
                <a:lnTo>
                  <a:pt x="97" y="136"/>
                </a:lnTo>
                <a:lnTo>
                  <a:pt x="100" y="162"/>
                </a:lnTo>
                <a:lnTo>
                  <a:pt x="102" y="184"/>
                </a:lnTo>
                <a:lnTo>
                  <a:pt x="103" y="193"/>
                </a:lnTo>
                <a:lnTo>
                  <a:pt x="104" y="196"/>
                </a:lnTo>
                <a:lnTo>
                  <a:pt x="106" y="196"/>
                </a:lnTo>
                <a:lnTo>
                  <a:pt x="109" y="190"/>
                </a:lnTo>
                <a:lnTo>
                  <a:pt x="112" y="181"/>
                </a:lnTo>
                <a:lnTo>
                  <a:pt x="113" y="170"/>
                </a:lnTo>
                <a:lnTo>
                  <a:pt x="116" y="142"/>
                </a:lnTo>
                <a:lnTo>
                  <a:pt x="122" y="115"/>
                </a:lnTo>
                <a:lnTo>
                  <a:pt x="133" y="91"/>
                </a:lnTo>
                <a:lnTo>
                  <a:pt x="144" y="83"/>
                </a:lnTo>
                <a:lnTo>
                  <a:pt x="155" y="78"/>
                </a:lnTo>
                <a:lnTo>
                  <a:pt x="171" y="77"/>
                </a:lnTo>
                <a:lnTo>
                  <a:pt x="172" y="77"/>
                </a:lnTo>
                <a:lnTo>
                  <a:pt x="172" y="80"/>
                </a:lnTo>
                <a:lnTo>
                  <a:pt x="174" y="94"/>
                </a:lnTo>
                <a:lnTo>
                  <a:pt x="181" y="146"/>
                </a:lnTo>
                <a:lnTo>
                  <a:pt x="187" y="186"/>
                </a:lnTo>
                <a:lnTo>
                  <a:pt x="188" y="187"/>
                </a:lnTo>
                <a:lnTo>
                  <a:pt x="190" y="177"/>
                </a:lnTo>
                <a:lnTo>
                  <a:pt x="191" y="167"/>
                </a:lnTo>
                <a:lnTo>
                  <a:pt x="194" y="141"/>
                </a:lnTo>
                <a:lnTo>
                  <a:pt x="199" y="116"/>
                </a:lnTo>
                <a:lnTo>
                  <a:pt x="203" y="107"/>
                </a:lnTo>
                <a:lnTo>
                  <a:pt x="207" y="102"/>
                </a:lnTo>
                <a:lnTo>
                  <a:pt x="212" y="100"/>
                </a:lnTo>
                <a:lnTo>
                  <a:pt x="217" y="103"/>
                </a:lnTo>
                <a:lnTo>
                  <a:pt x="219" y="103"/>
                </a:lnTo>
                <a:lnTo>
                  <a:pt x="222" y="106"/>
                </a:lnTo>
                <a:lnTo>
                  <a:pt x="225" y="110"/>
                </a:lnTo>
                <a:lnTo>
                  <a:pt x="226" y="116"/>
                </a:lnTo>
                <a:lnTo>
                  <a:pt x="230" y="129"/>
                </a:lnTo>
                <a:lnTo>
                  <a:pt x="238" y="152"/>
                </a:lnTo>
                <a:lnTo>
                  <a:pt x="243" y="155"/>
                </a:lnTo>
                <a:lnTo>
                  <a:pt x="245" y="154"/>
                </a:lnTo>
                <a:lnTo>
                  <a:pt x="246" y="151"/>
                </a:lnTo>
                <a:lnTo>
                  <a:pt x="246" y="145"/>
                </a:lnTo>
                <a:lnTo>
                  <a:pt x="246" y="132"/>
                </a:lnTo>
                <a:lnTo>
                  <a:pt x="246" y="106"/>
                </a:lnTo>
                <a:lnTo>
                  <a:pt x="251" y="99"/>
                </a:lnTo>
                <a:lnTo>
                  <a:pt x="257" y="99"/>
                </a:lnTo>
                <a:lnTo>
                  <a:pt x="265" y="100"/>
                </a:lnTo>
                <a:lnTo>
                  <a:pt x="272" y="103"/>
                </a:lnTo>
                <a:lnTo>
                  <a:pt x="278" y="107"/>
                </a:lnTo>
                <a:lnTo>
                  <a:pt x="281" y="110"/>
                </a:lnTo>
                <a:lnTo>
                  <a:pt x="286" y="112"/>
                </a:lnTo>
                <a:lnTo>
                  <a:pt x="288" y="112"/>
                </a:lnTo>
                <a:lnTo>
                  <a:pt x="286" y="107"/>
                </a:lnTo>
                <a:lnTo>
                  <a:pt x="278" y="94"/>
                </a:lnTo>
                <a:lnTo>
                  <a:pt x="259" y="67"/>
                </a:lnTo>
                <a:lnTo>
                  <a:pt x="228" y="44"/>
                </a:lnTo>
                <a:lnTo>
                  <a:pt x="219" y="41"/>
                </a:lnTo>
                <a:lnTo>
                  <a:pt x="219" y="39"/>
                </a:lnTo>
                <a:lnTo>
                  <a:pt x="222" y="35"/>
                </a:lnTo>
                <a:lnTo>
                  <a:pt x="225" y="32"/>
                </a:lnTo>
                <a:lnTo>
                  <a:pt x="235" y="25"/>
                </a:lnTo>
                <a:lnTo>
                  <a:pt x="257" y="9"/>
                </a:lnTo>
                <a:lnTo>
                  <a:pt x="264" y="0"/>
                </a:lnTo>
                <a:lnTo>
                  <a:pt x="287" y="19"/>
                </a:lnTo>
                <a:lnTo>
                  <a:pt x="335" y="57"/>
                </a:lnTo>
                <a:lnTo>
                  <a:pt x="436" y="120"/>
                </a:lnTo>
                <a:lnTo>
                  <a:pt x="548" y="161"/>
                </a:lnTo>
                <a:lnTo>
                  <a:pt x="580" y="165"/>
                </a:lnTo>
                <a:lnTo>
                  <a:pt x="593" y="155"/>
                </a:lnTo>
                <a:lnTo>
                  <a:pt x="610" y="144"/>
                </a:lnTo>
                <a:lnTo>
                  <a:pt x="616" y="142"/>
                </a:lnTo>
                <a:lnTo>
                  <a:pt x="617" y="142"/>
                </a:lnTo>
                <a:lnTo>
                  <a:pt x="620" y="144"/>
                </a:lnTo>
                <a:lnTo>
                  <a:pt x="622" y="145"/>
                </a:lnTo>
                <a:lnTo>
                  <a:pt x="623" y="146"/>
                </a:lnTo>
                <a:lnTo>
                  <a:pt x="625" y="151"/>
                </a:lnTo>
                <a:lnTo>
                  <a:pt x="626" y="158"/>
                </a:lnTo>
                <a:lnTo>
                  <a:pt x="632" y="178"/>
                </a:lnTo>
                <a:lnTo>
                  <a:pt x="643" y="207"/>
                </a:lnTo>
                <a:lnTo>
                  <a:pt x="648" y="215"/>
                </a:lnTo>
                <a:lnTo>
                  <a:pt x="661" y="215"/>
                </a:lnTo>
                <a:lnTo>
                  <a:pt x="684" y="207"/>
                </a:lnTo>
                <a:lnTo>
                  <a:pt x="704" y="200"/>
                </a:lnTo>
                <a:lnTo>
                  <a:pt x="722" y="196"/>
                </a:lnTo>
                <a:lnTo>
                  <a:pt x="730" y="196"/>
                </a:lnTo>
                <a:lnTo>
                  <a:pt x="739" y="200"/>
                </a:lnTo>
                <a:lnTo>
                  <a:pt x="746" y="206"/>
                </a:lnTo>
                <a:lnTo>
                  <a:pt x="755" y="217"/>
                </a:lnTo>
                <a:lnTo>
                  <a:pt x="764" y="232"/>
                </a:lnTo>
                <a:lnTo>
                  <a:pt x="765" y="232"/>
                </a:lnTo>
                <a:lnTo>
                  <a:pt x="795" y="232"/>
                </a:lnTo>
                <a:lnTo>
                  <a:pt x="845" y="233"/>
                </a:lnTo>
                <a:lnTo>
                  <a:pt x="877" y="244"/>
                </a:lnTo>
                <a:lnTo>
                  <a:pt x="885" y="252"/>
                </a:lnTo>
                <a:lnTo>
                  <a:pt x="891" y="262"/>
                </a:lnTo>
                <a:lnTo>
                  <a:pt x="891" y="274"/>
                </a:lnTo>
                <a:lnTo>
                  <a:pt x="887" y="287"/>
                </a:lnTo>
                <a:lnTo>
                  <a:pt x="878" y="304"/>
                </a:lnTo>
                <a:lnTo>
                  <a:pt x="865" y="322"/>
                </a:lnTo>
                <a:lnTo>
                  <a:pt x="848" y="342"/>
                </a:lnTo>
                <a:lnTo>
                  <a:pt x="848" y="342"/>
                </a:lnTo>
                <a:lnTo>
                  <a:pt x="855" y="352"/>
                </a:lnTo>
                <a:lnTo>
                  <a:pt x="877" y="380"/>
                </a:lnTo>
                <a:lnTo>
                  <a:pt x="894" y="402"/>
                </a:lnTo>
                <a:lnTo>
                  <a:pt x="895" y="402"/>
                </a:lnTo>
                <a:lnTo>
                  <a:pt x="903" y="402"/>
                </a:lnTo>
                <a:lnTo>
                  <a:pt x="924" y="397"/>
                </a:lnTo>
                <a:lnTo>
                  <a:pt x="975" y="380"/>
                </a:lnTo>
                <a:lnTo>
                  <a:pt x="995" y="368"/>
                </a:lnTo>
                <a:lnTo>
                  <a:pt x="1003" y="362"/>
                </a:lnTo>
                <a:lnTo>
                  <a:pt x="1006" y="355"/>
                </a:lnTo>
                <a:lnTo>
                  <a:pt x="1007" y="352"/>
                </a:lnTo>
                <a:lnTo>
                  <a:pt x="1007" y="348"/>
                </a:lnTo>
                <a:lnTo>
                  <a:pt x="1007" y="348"/>
                </a:lnTo>
                <a:lnTo>
                  <a:pt x="1017" y="351"/>
                </a:lnTo>
                <a:lnTo>
                  <a:pt x="1042" y="352"/>
                </a:lnTo>
                <a:lnTo>
                  <a:pt x="1090" y="355"/>
                </a:lnTo>
                <a:lnTo>
                  <a:pt x="1108" y="361"/>
                </a:lnTo>
                <a:lnTo>
                  <a:pt x="1114" y="365"/>
                </a:lnTo>
                <a:lnTo>
                  <a:pt x="1119" y="373"/>
                </a:lnTo>
                <a:lnTo>
                  <a:pt x="1120" y="380"/>
                </a:lnTo>
                <a:lnTo>
                  <a:pt x="1121" y="380"/>
                </a:lnTo>
                <a:lnTo>
                  <a:pt x="1120" y="381"/>
                </a:lnTo>
                <a:lnTo>
                  <a:pt x="1117" y="383"/>
                </a:lnTo>
                <a:lnTo>
                  <a:pt x="1108" y="393"/>
                </a:lnTo>
                <a:lnTo>
                  <a:pt x="1103" y="406"/>
                </a:lnTo>
                <a:lnTo>
                  <a:pt x="1103" y="407"/>
                </a:lnTo>
                <a:lnTo>
                  <a:pt x="1094" y="409"/>
                </a:lnTo>
                <a:lnTo>
                  <a:pt x="1077" y="412"/>
                </a:lnTo>
                <a:lnTo>
                  <a:pt x="1033" y="426"/>
                </a:lnTo>
                <a:lnTo>
                  <a:pt x="997" y="445"/>
                </a:lnTo>
                <a:lnTo>
                  <a:pt x="993" y="449"/>
                </a:lnTo>
                <a:lnTo>
                  <a:pt x="1000" y="452"/>
                </a:lnTo>
                <a:lnTo>
                  <a:pt x="1019" y="457"/>
                </a:lnTo>
                <a:lnTo>
                  <a:pt x="1066" y="461"/>
                </a:lnTo>
                <a:lnTo>
                  <a:pt x="1106" y="465"/>
                </a:lnTo>
                <a:lnTo>
                  <a:pt x="1111" y="467"/>
                </a:lnTo>
                <a:lnTo>
                  <a:pt x="1116" y="462"/>
                </a:lnTo>
                <a:lnTo>
                  <a:pt x="1124" y="452"/>
                </a:lnTo>
                <a:lnTo>
                  <a:pt x="1145" y="430"/>
                </a:lnTo>
                <a:lnTo>
                  <a:pt x="1156" y="422"/>
                </a:lnTo>
                <a:lnTo>
                  <a:pt x="1169" y="417"/>
                </a:lnTo>
                <a:lnTo>
                  <a:pt x="1177" y="416"/>
                </a:lnTo>
                <a:lnTo>
                  <a:pt x="1178" y="430"/>
                </a:lnTo>
                <a:lnTo>
                  <a:pt x="1187" y="461"/>
                </a:lnTo>
                <a:lnTo>
                  <a:pt x="1208" y="525"/>
                </a:lnTo>
                <a:lnTo>
                  <a:pt x="1227" y="587"/>
                </a:lnTo>
                <a:lnTo>
                  <a:pt x="1232" y="600"/>
                </a:lnTo>
                <a:lnTo>
                  <a:pt x="1226" y="617"/>
                </a:lnTo>
                <a:lnTo>
                  <a:pt x="1217" y="652"/>
                </a:lnTo>
                <a:lnTo>
                  <a:pt x="1217" y="720"/>
                </a:lnTo>
                <a:lnTo>
                  <a:pt x="1230" y="748"/>
                </a:lnTo>
                <a:lnTo>
                  <a:pt x="1252" y="768"/>
                </a:lnTo>
                <a:lnTo>
                  <a:pt x="1268" y="774"/>
                </a:lnTo>
                <a:lnTo>
                  <a:pt x="1268" y="787"/>
                </a:lnTo>
                <a:lnTo>
                  <a:pt x="1268" y="820"/>
                </a:lnTo>
                <a:lnTo>
                  <a:pt x="1266" y="897"/>
                </a:lnTo>
                <a:lnTo>
                  <a:pt x="1263" y="933"/>
                </a:lnTo>
                <a:lnTo>
                  <a:pt x="1255" y="959"/>
                </a:lnTo>
                <a:lnTo>
                  <a:pt x="1249" y="968"/>
                </a:lnTo>
                <a:lnTo>
                  <a:pt x="1250" y="984"/>
                </a:lnTo>
                <a:lnTo>
                  <a:pt x="1256" y="999"/>
                </a:lnTo>
                <a:lnTo>
                  <a:pt x="1263" y="1012"/>
                </a:lnTo>
                <a:lnTo>
                  <a:pt x="1287" y="1038"/>
                </a:lnTo>
                <a:lnTo>
                  <a:pt x="1313" y="1061"/>
                </a:lnTo>
                <a:lnTo>
                  <a:pt x="1337" y="1085"/>
                </a:lnTo>
                <a:lnTo>
                  <a:pt x="1355" y="1112"/>
                </a:lnTo>
                <a:lnTo>
                  <a:pt x="1359" y="1125"/>
                </a:lnTo>
                <a:lnTo>
                  <a:pt x="1365" y="1152"/>
                </a:lnTo>
                <a:lnTo>
                  <a:pt x="1390" y="1201"/>
                </a:lnTo>
                <a:lnTo>
                  <a:pt x="1423" y="1243"/>
                </a:lnTo>
                <a:lnTo>
                  <a:pt x="1488" y="1319"/>
                </a:lnTo>
                <a:lnTo>
                  <a:pt x="1514" y="1372"/>
                </a:lnTo>
                <a:lnTo>
                  <a:pt x="1513" y="1378"/>
                </a:lnTo>
                <a:lnTo>
                  <a:pt x="1511" y="1387"/>
                </a:lnTo>
                <a:lnTo>
                  <a:pt x="1505" y="1403"/>
                </a:lnTo>
                <a:lnTo>
                  <a:pt x="1497" y="1417"/>
                </a:lnTo>
                <a:lnTo>
                  <a:pt x="1495" y="1419"/>
                </a:lnTo>
                <a:lnTo>
                  <a:pt x="1469" y="1417"/>
                </a:lnTo>
                <a:lnTo>
                  <a:pt x="1449" y="1411"/>
                </a:lnTo>
                <a:lnTo>
                  <a:pt x="1433" y="1404"/>
                </a:lnTo>
                <a:lnTo>
                  <a:pt x="1411" y="1390"/>
                </a:lnTo>
                <a:lnTo>
                  <a:pt x="1403" y="1384"/>
                </a:lnTo>
                <a:lnTo>
                  <a:pt x="1397" y="1381"/>
                </a:lnTo>
                <a:lnTo>
                  <a:pt x="1394" y="1381"/>
                </a:lnTo>
                <a:lnTo>
                  <a:pt x="1391" y="1381"/>
                </a:lnTo>
                <a:lnTo>
                  <a:pt x="1388" y="1384"/>
                </a:lnTo>
                <a:lnTo>
                  <a:pt x="1385" y="1388"/>
                </a:lnTo>
                <a:lnTo>
                  <a:pt x="1381" y="1394"/>
                </a:lnTo>
                <a:lnTo>
                  <a:pt x="1374" y="1411"/>
                </a:lnTo>
                <a:lnTo>
                  <a:pt x="1363" y="1436"/>
                </a:lnTo>
                <a:lnTo>
                  <a:pt x="1359" y="1452"/>
                </a:lnTo>
                <a:lnTo>
                  <a:pt x="1329" y="1440"/>
                </a:lnTo>
                <a:lnTo>
                  <a:pt x="1277" y="1419"/>
                </a:lnTo>
                <a:lnTo>
                  <a:pt x="1181" y="1384"/>
                </a:lnTo>
                <a:lnTo>
                  <a:pt x="1085" y="1346"/>
                </a:lnTo>
                <a:lnTo>
                  <a:pt x="1059" y="1333"/>
                </a:lnTo>
                <a:lnTo>
                  <a:pt x="1046" y="1317"/>
                </a:lnTo>
                <a:lnTo>
                  <a:pt x="1030" y="1304"/>
                </a:lnTo>
                <a:lnTo>
                  <a:pt x="1011" y="1294"/>
                </a:lnTo>
                <a:lnTo>
                  <a:pt x="971" y="1278"/>
                </a:lnTo>
                <a:lnTo>
                  <a:pt x="890" y="1245"/>
                </a:lnTo>
                <a:lnTo>
                  <a:pt x="848" y="1194"/>
                </a:lnTo>
                <a:lnTo>
                  <a:pt x="845" y="1190"/>
                </a:lnTo>
                <a:lnTo>
                  <a:pt x="838" y="1177"/>
                </a:lnTo>
                <a:lnTo>
                  <a:pt x="819" y="1142"/>
                </a:lnTo>
                <a:lnTo>
                  <a:pt x="798" y="1112"/>
                </a:lnTo>
                <a:lnTo>
                  <a:pt x="794" y="1106"/>
                </a:lnTo>
                <a:lnTo>
                  <a:pt x="795" y="1101"/>
                </a:lnTo>
                <a:lnTo>
                  <a:pt x="801" y="1093"/>
                </a:lnTo>
                <a:lnTo>
                  <a:pt x="814" y="1074"/>
                </a:lnTo>
                <a:lnTo>
                  <a:pt x="826" y="1056"/>
                </a:lnTo>
                <a:lnTo>
                  <a:pt x="829" y="1051"/>
                </a:lnTo>
                <a:lnTo>
                  <a:pt x="822" y="1045"/>
                </a:lnTo>
                <a:lnTo>
                  <a:pt x="810" y="1030"/>
                </a:lnTo>
                <a:lnTo>
                  <a:pt x="784" y="1006"/>
                </a:lnTo>
                <a:lnTo>
                  <a:pt x="768" y="1000"/>
                </a:lnTo>
                <a:lnTo>
                  <a:pt x="751" y="1000"/>
                </a:lnTo>
                <a:lnTo>
                  <a:pt x="740" y="1003"/>
                </a:lnTo>
                <a:lnTo>
                  <a:pt x="719" y="1004"/>
                </a:lnTo>
                <a:lnTo>
                  <a:pt x="687" y="1007"/>
                </a:lnTo>
                <a:lnTo>
                  <a:pt x="668" y="1010"/>
                </a:lnTo>
                <a:lnTo>
                  <a:pt x="662" y="1010"/>
                </a:lnTo>
                <a:lnTo>
                  <a:pt x="659" y="1010"/>
                </a:lnTo>
                <a:lnTo>
                  <a:pt x="658" y="1009"/>
                </a:lnTo>
                <a:lnTo>
                  <a:pt x="656" y="1007"/>
                </a:lnTo>
                <a:lnTo>
                  <a:pt x="656" y="1006"/>
                </a:lnTo>
                <a:lnTo>
                  <a:pt x="656" y="1004"/>
                </a:lnTo>
                <a:lnTo>
                  <a:pt x="655" y="997"/>
                </a:lnTo>
                <a:lnTo>
                  <a:pt x="655" y="977"/>
                </a:lnTo>
                <a:lnTo>
                  <a:pt x="656" y="977"/>
                </a:lnTo>
                <a:lnTo>
                  <a:pt x="658" y="975"/>
                </a:lnTo>
                <a:lnTo>
                  <a:pt x="661" y="974"/>
                </a:lnTo>
                <a:lnTo>
                  <a:pt x="668" y="972"/>
                </a:lnTo>
                <a:lnTo>
                  <a:pt x="685" y="968"/>
                </a:lnTo>
                <a:lnTo>
                  <a:pt x="722" y="959"/>
                </a:lnTo>
                <a:lnTo>
                  <a:pt x="735" y="949"/>
                </a:lnTo>
                <a:lnTo>
                  <a:pt x="711" y="941"/>
                </a:lnTo>
                <a:lnTo>
                  <a:pt x="678" y="928"/>
                </a:lnTo>
                <a:lnTo>
                  <a:pt x="658" y="922"/>
                </a:lnTo>
                <a:lnTo>
                  <a:pt x="651" y="920"/>
                </a:lnTo>
                <a:lnTo>
                  <a:pt x="645" y="923"/>
                </a:lnTo>
                <a:lnTo>
                  <a:pt x="639" y="926"/>
                </a:lnTo>
                <a:lnTo>
                  <a:pt x="633" y="933"/>
                </a:lnTo>
                <a:lnTo>
                  <a:pt x="627" y="942"/>
                </a:lnTo>
                <a:lnTo>
                  <a:pt x="611" y="965"/>
                </a:lnTo>
                <a:lnTo>
                  <a:pt x="611" y="965"/>
                </a:lnTo>
                <a:lnTo>
                  <a:pt x="600" y="964"/>
                </a:lnTo>
                <a:lnTo>
                  <a:pt x="585" y="956"/>
                </a:lnTo>
                <a:lnTo>
                  <a:pt x="578" y="945"/>
                </a:lnTo>
                <a:lnTo>
                  <a:pt x="574" y="930"/>
                </a:lnTo>
                <a:lnTo>
                  <a:pt x="568" y="913"/>
                </a:lnTo>
                <a:lnTo>
                  <a:pt x="559" y="894"/>
                </a:lnTo>
                <a:lnTo>
                  <a:pt x="554" y="884"/>
                </a:lnTo>
                <a:lnTo>
                  <a:pt x="539" y="871"/>
                </a:lnTo>
                <a:lnTo>
                  <a:pt x="520" y="858"/>
                </a:lnTo>
                <a:lnTo>
                  <a:pt x="468" y="833"/>
                </a:lnTo>
                <a:lnTo>
                  <a:pt x="342" y="791"/>
                </a:lnTo>
                <a:lnTo>
                  <a:pt x="246" y="765"/>
                </a:lnTo>
                <a:lnTo>
                  <a:pt x="235" y="778"/>
                </a:lnTo>
                <a:lnTo>
                  <a:pt x="204" y="803"/>
                </a:lnTo>
                <a:lnTo>
                  <a:pt x="165" y="822"/>
                </a:lnTo>
                <a:lnTo>
                  <a:pt x="126" y="829"/>
                </a:lnTo>
                <a:lnTo>
                  <a:pt x="109" y="828"/>
                </a:lnTo>
                <a:lnTo>
                  <a:pt x="94" y="819"/>
                </a:lnTo>
                <a:lnTo>
                  <a:pt x="83" y="806"/>
                </a:lnTo>
                <a:lnTo>
                  <a:pt x="74" y="786"/>
                </a:lnTo>
                <a:lnTo>
                  <a:pt x="73" y="757"/>
                </a:lnTo>
                <a:lnTo>
                  <a:pt x="73" y="757"/>
                </a:lnTo>
                <a:lnTo>
                  <a:pt x="96" y="749"/>
                </a:lnTo>
                <a:lnTo>
                  <a:pt x="112" y="743"/>
                </a:lnTo>
                <a:lnTo>
                  <a:pt x="116" y="741"/>
                </a:lnTo>
                <a:lnTo>
                  <a:pt x="119" y="738"/>
                </a:lnTo>
                <a:lnTo>
                  <a:pt x="120" y="736"/>
                </a:lnTo>
                <a:lnTo>
                  <a:pt x="120" y="735"/>
                </a:lnTo>
                <a:lnTo>
                  <a:pt x="120" y="733"/>
                </a:lnTo>
                <a:lnTo>
                  <a:pt x="119" y="732"/>
                </a:lnTo>
                <a:lnTo>
                  <a:pt x="117" y="730"/>
                </a:lnTo>
                <a:lnTo>
                  <a:pt x="113" y="729"/>
                </a:lnTo>
                <a:lnTo>
                  <a:pt x="109" y="728"/>
                </a:lnTo>
                <a:lnTo>
                  <a:pt x="96" y="725"/>
                </a:lnTo>
                <a:lnTo>
                  <a:pt x="64" y="720"/>
                </a:lnTo>
                <a:lnTo>
                  <a:pt x="28" y="716"/>
                </a:lnTo>
                <a:lnTo>
                  <a:pt x="9" y="712"/>
                </a:lnTo>
                <a:lnTo>
                  <a:pt x="15" y="688"/>
                </a:lnTo>
                <a:lnTo>
                  <a:pt x="32" y="651"/>
                </a:lnTo>
                <a:lnTo>
                  <a:pt x="51" y="625"/>
                </a:lnTo>
                <a:lnTo>
                  <a:pt x="64" y="604"/>
                </a:lnTo>
                <a:lnTo>
                  <a:pt x="65" y="596"/>
                </a:lnTo>
                <a:lnTo>
                  <a:pt x="65" y="591"/>
                </a:lnTo>
                <a:lnTo>
                  <a:pt x="64" y="587"/>
                </a:lnTo>
                <a:lnTo>
                  <a:pt x="61" y="583"/>
                </a:lnTo>
                <a:lnTo>
                  <a:pt x="55" y="578"/>
                </a:lnTo>
                <a:lnTo>
                  <a:pt x="42" y="568"/>
                </a:lnTo>
                <a:lnTo>
                  <a:pt x="22" y="557"/>
                </a:lnTo>
                <a:lnTo>
                  <a:pt x="22" y="557"/>
                </a:lnTo>
                <a:lnTo>
                  <a:pt x="17" y="545"/>
                </a:lnTo>
                <a:lnTo>
                  <a:pt x="12" y="513"/>
                </a:lnTo>
                <a:lnTo>
                  <a:pt x="3" y="438"/>
                </a:lnTo>
                <a:lnTo>
                  <a:pt x="0" y="373"/>
                </a:lnTo>
                <a:lnTo>
                  <a:pt x="0" y="361"/>
                </a:lnTo>
                <a:lnTo>
                  <a:pt x="4" y="362"/>
                </a:lnTo>
                <a:lnTo>
                  <a:pt x="16" y="364"/>
                </a:lnTo>
                <a:lnTo>
                  <a:pt x="41" y="371"/>
                </a:lnTo>
                <a:lnTo>
                  <a:pt x="54" y="374"/>
                </a:lnTo>
                <a:lnTo>
                  <a:pt x="64" y="374"/>
                </a:lnTo>
                <a:lnTo>
                  <a:pt x="70" y="371"/>
                </a:lnTo>
                <a:lnTo>
                  <a:pt x="70" y="371"/>
                </a:lnTo>
                <a:close/>
                <a:moveTo>
                  <a:pt x="948" y="351"/>
                </a:moveTo>
                <a:lnTo>
                  <a:pt x="951" y="345"/>
                </a:lnTo>
                <a:lnTo>
                  <a:pt x="953" y="341"/>
                </a:lnTo>
                <a:lnTo>
                  <a:pt x="961" y="333"/>
                </a:lnTo>
                <a:lnTo>
                  <a:pt x="965" y="331"/>
                </a:lnTo>
                <a:lnTo>
                  <a:pt x="969" y="329"/>
                </a:lnTo>
                <a:lnTo>
                  <a:pt x="975" y="331"/>
                </a:lnTo>
                <a:lnTo>
                  <a:pt x="981" y="333"/>
                </a:lnTo>
                <a:lnTo>
                  <a:pt x="987" y="341"/>
                </a:lnTo>
                <a:lnTo>
                  <a:pt x="991" y="349"/>
                </a:lnTo>
                <a:lnTo>
                  <a:pt x="993" y="349"/>
                </a:lnTo>
                <a:lnTo>
                  <a:pt x="990" y="351"/>
                </a:lnTo>
                <a:lnTo>
                  <a:pt x="982" y="351"/>
                </a:lnTo>
                <a:lnTo>
                  <a:pt x="968" y="352"/>
                </a:lnTo>
                <a:lnTo>
                  <a:pt x="951" y="352"/>
                </a:lnTo>
                <a:lnTo>
                  <a:pt x="948" y="351"/>
                </a:lnTo>
                <a:lnTo>
                  <a:pt x="948" y="351"/>
                </a:lnTo>
                <a:close/>
                <a:moveTo>
                  <a:pt x="894" y="332"/>
                </a:moveTo>
                <a:lnTo>
                  <a:pt x="894" y="325"/>
                </a:lnTo>
                <a:lnTo>
                  <a:pt x="897" y="319"/>
                </a:lnTo>
                <a:lnTo>
                  <a:pt x="901" y="313"/>
                </a:lnTo>
                <a:lnTo>
                  <a:pt x="906" y="307"/>
                </a:lnTo>
                <a:lnTo>
                  <a:pt x="911" y="304"/>
                </a:lnTo>
                <a:lnTo>
                  <a:pt x="917" y="302"/>
                </a:lnTo>
                <a:lnTo>
                  <a:pt x="923" y="300"/>
                </a:lnTo>
                <a:lnTo>
                  <a:pt x="929" y="300"/>
                </a:lnTo>
                <a:lnTo>
                  <a:pt x="933" y="303"/>
                </a:lnTo>
                <a:lnTo>
                  <a:pt x="937" y="306"/>
                </a:lnTo>
                <a:lnTo>
                  <a:pt x="939" y="312"/>
                </a:lnTo>
                <a:lnTo>
                  <a:pt x="940" y="319"/>
                </a:lnTo>
                <a:lnTo>
                  <a:pt x="940" y="319"/>
                </a:lnTo>
                <a:lnTo>
                  <a:pt x="935" y="322"/>
                </a:lnTo>
                <a:lnTo>
                  <a:pt x="927" y="326"/>
                </a:lnTo>
                <a:lnTo>
                  <a:pt x="913" y="333"/>
                </a:lnTo>
                <a:lnTo>
                  <a:pt x="906" y="335"/>
                </a:lnTo>
                <a:lnTo>
                  <a:pt x="898" y="335"/>
                </a:lnTo>
                <a:lnTo>
                  <a:pt x="894" y="332"/>
                </a:lnTo>
                <a:lnTo>
                  <a:pt x="894" y="332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89840" y="2031840"/>
            <a:ext cx="33120" cy="17640"/>
          </a:xfrm>
          <a:custGeom>
            <a:avLst/>
            <a:gdLst/>
            <a:ahLst/>
            <a:rect l="l" t="t" r="r" b="b"/>
            <a:pathLst>
              <a:path w="97" h="47">
                <a:moveTo>
                  <a:pt x="72" y="47"/>
                </a:moveTo>
                <a:lnTo>
                  <a:pt x="65" y="47"/>
                </a:lnTo>
                <a:lnTo>
                  <a:pt x="51" y="44"/>
                </a:lnTo>
                <a:lnTo>
                  <a:pt x="35" y="38"/>
                </a:lnTo>
                <a:lnTo>
                  <a:pt x="10" y="20"/>
                </a:lnTo>
                <a:lnTo>
                  <a:pt x="0" y="0"/>
                </a:lnTo>
                <a:lnTo>
                  <a:pt x="7" y="2"/>
                </a:lnTo>
                <a:lnTo>
                  <a:pt x="25" y="2"/>
                </a:lnTo>
                <a:lnTo>
                  <a:pt x="56" y="2"/>
                </a:lnTo>
                <a:lnTo>
                  <a:pt x="88" y="3"/>
                </a:lnTo>
                <a:lnTo>
                  <a:pt x="97" y="3"/>
                </a:lnTo>
                <a:lnTo>
                  <a:pt x="96" y="7"/>
                </a:lnTo>
                <a:lnTo>
                  <a:pt x="94" y="16"/>
                </a:lnTo>
                <a:lnTo>
                  <a:pt x="90" y="25"/>
                </a:lnTo>
                <a:lnTo>
                  <a:pt x="80" y="39"/>
                </a:lnTo>
                <a:lnTo>
                  <a:pt x="72" y="47"/>
                </a:lnTo>
                <a:lnTo>
                  <a:pt x="72" y="47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54760" y="1698480"/>
            <a:ext cx="520920" cy="474840"/>
          </a:xfrm>
          <a:custGeom>
            <a:avLst/>
            <a:gdLst/>
            <a:ahLst/>
            <a:rect l="l" t="t" r="r" b="b"/>
            <a:pathLst>
              <a:path w="1514" h="1452">
                <a:moveTo>
                  <a:pt x="70" y="371"/>
                </a:moveTo>
                <a:lnTo>
                  <a:pt x="62" y="349"/>
                </a:lnTo>
                <a:lnTo>
                  <a:pt x="51" y="315"/>
                </a:lnTo>
                <a:lnTo>
                  <a:pt x="35" y="265"/>
                </a:lnTo>
                <a:lnTo>
                  <a:pt x="39" y="215"/>
                </a:lnTo>
                <a:lnTo>
                  <a:pt x="45" y="196"/>
                </a:lnTo>
                <a:lnTo>
                  <a:pt x="45" y="189"/>
                </a:lnTo>
                <a:lnTo>
                  <a:pt x="45" y="173"/>
                </a:lnTo>
                <a:lnTo>
                  <a:pt x="49" y="135"/>
                </a:lnTo>
                <a:lnTo>
                  <a:pt x="52" y="102"/>
                </a:lnTo>
                <a:lnTo>
                  <a:pt x="54" y="94"/>
                </a:lnTo>
                <a:lnTo>
                  <a:pt x="65" y="93"/>
                </a:lnTo>
                <a:lnTo>
                  <a:pt x="77" y="96"/>
                </a:lnTo>
                <a:lnTo>
                  <a:pt x="84" y="103"/>
                </a:lnTo>
                <a:lnTo>
                  <a:pt x="90" y="112"/>
                </a:lnTo>
                <a:lnTo>
                  <a:pt x="94" y="123"/>
                </a:lnTo>
                <a:lnTo>
                  <a:pt x="97" y="136"/>
                </a:lnTo>
                <a:lnTo>
                  <a:pt x="100" y="162"/>
                </a:lnTo>
                <a:lnTo>
                  <a:pt x="102" y="184"/>
                </a:lnTo>
                <a:lnTo>
                  <a:pt x="103" y="193"/>
                </a:lnTo>
                <a:lnTo>
                  <a:pt x="104" y="196"/>
                </a:lnTo>
                <a:lnTo>
                  <a:pt x="106" y="196"/>
                </a:lnTo>
                <a:lnTo>
                  <a:pt x="109" y="190"/>
                </a:lnTo>
                <a:lnTo>
                  <a:pt x="112" y="181"/>
                </a:lnTo>
                <a:lnTo>
                  <a:pt x="113" y="170"/>
                </a:lnTo>
                <a:lnTo>
                  <a:pt x="116" y="142"/>
                </a:lnTo>
                <a:lnTo>
                  <a:pt x="122" y="115"/>
                </a:lnTo>
                <a:lnTo>
                  <a:pt x="133" y="91"/>
                </a:lnTo>
                <a:lnTo>
                  <a:pt x="144" y="83"/>
                </a:lnTo>
                <a:lnTo>
                  <a:pt x="155" y="78"/>
                </a:lnTo>
                <a:lnTo>
                  <a:pt x="171" y="77"/>
                </a:lnTo>
                <a:lnTo>
                  <a:pt x="172" y="77"/>
                </a:lnTo>
                <a:lnTo>
                  <a:pt x="172" y="80"/>
                </a:lnTo>
                <a:lnTo>
                  <a:pt x="174" y="94"/>
                </a:lnTo>
                <a:lnTo>
                  <a:pt x="181" y="146"/>
                </a:lnTo>
                <a:lnTo>
                  <a:pt x="187" y="186"/>
                </a:lnTo>
                <a:lnTo>
                  <a:pt x="188" y="187"/>
                </a:lnTo>
                <a:lnTo>
                  <a:pt x="190" y="177"/>
                </a:lnTo>
                <a:lnTo>
                  <a:pt x="191" y="167"/>
                </a:lnTo>
                <a:lnTo>
                  <a:pt x="194" y="141"/>
                </a:lnTo>
                <a:lnTo>
                  <a:pt x="199" y="116"/>
                </a:lnTo>
                <a:lnTo>
                  <a:pt x="203" y="107"/>
                </a:lnTo>
                <a:lnTo>
                  <a:pt x="207" y="102"/>
                </a:lnTo>
                <a:lnTo>
                  <a:pt x="212" y="100"/>
                </a:lnTo>
                <a:lnTo>
                  <a:pt x="217" y="103"/>
                </a:lnTo>
                <a:lnTo>
                  <a:pt x="219" y="103"/>
                </a:lnTo>
                <a:lnTo>
                  <a:pt x="222" y="106"/>
                </a:lnTo>
                <a:lnTo>
                  <a:pt x="225" y="110"/>
                </a:lnTo>
                <a:lnTo>
                  <a:pt x="226" y="116"/>
                </a:lnTo>
                <a:lnTo>
                  <a:pt x="230" y="129"/>
                </a:lnTo>
                <a:lnTo>
                  <a:pt x="238" y="152"/>
                </a:lnTo>
                <a:lnTo>
                  <a:pt x="243" y="155"/>
                </a:lnTo>
                <a:lnTo>
                  <a:pt x="245" y="154"/>
                </a:lnTo>
                <a:lnTo>
                  <a:pt x="246" y="151"/>
                </a:lnTo>
                <a:lnTo>
                  <a:pt x="246" y="145"/>
                </a:lnTo>
                <a:lnTo>
                  <a:pt x="246" y="132"/>
                </a:lnTo>
                <a:lnTo>
                  <a:pt x="246" y="106"/>
                </a:lnTo>
                <a:lnTo>
                  <a:pt x="251" y="99"/>
                </a:lnTo>
                <a:lnTo>
                  <a:pt x="257" y="99"/>
                </a:lnTo>
                <a:lnTo>
                  <a:pt x="265" y="100"/>
                </a:lnTo>
                <a:lnTo>
                  <a:pt x="272" y="103"/>
                </a:lnTo>
                <a:lnTo>
                  <a:pt x="278" y="107"/>
                </a:lnTo>
                <a:lnTo>
                  <a:pt x="281" y="110"/>
                </a:lnTo>
                <a:lnTo>
                  <a:pt x="286" y="112"/>
                </a:lnTo>
                <a:lnTo>
                  <a:pt x="288" y="112"/>
                </a:lnTo>
                <a:lnTo>
                  <a:pt x="286" y="107"/>
                </a:lnTo>
                <a:lnTo>
                  <a:pt x="278" y="94"/>
                </a:lnTo>
                <a:lnTo>
                  <a:pt x="259" y="67"/>
                </a:lnTo>
                <a:lnTo>
                  <a:pt x="228" y="44"/>
                </a:lnTo>
                <a:lnTo>
                  <a:pt x="219" y="41"/>
                </a:lnTo>
                <a:lnTo>
                  <a:pt x="219" y="39"/>
                </a:lnTo>
                <a:lnTo>
                  <a:pt x="222" y="35"/>
                </a:lnTo>
                <a:lnTo>
                  <a:pt x="225" y="32"/>
                </a:lnTo>
                <a:lnTo>
                  <a:pt x="235" y="25"/>
                </a:lnTo>
                <a:lnTo>
                  <a:pt x="257" y="9"/>
                </a:lnTo>
                <a:lnTo>
                  <a:pt x="264" y="0"/>
                </a:lnTo>
                <a:lnTo>
                  <a:pt x="287" y="19"/>
                </a:lnTo>
                <a:lnTo>
                  <a:pt x="335" y="57"/>
                </a:lnTo>
                <a:lnTo>
                  <a:pt x="436" y="120"/>
                </a:lnTo>
                <a:lnTo>
                  <a:pt x="548" y="161"/>
                </a:lnTo>
                <a:lnTo>
                  <a:pt x="580" y="165"/>
                </a:lnTo>
                <a:lnTo>
                  <a:pt x="593" y="155"/>
                </a:lnTo>
                <a:lnTo>
                  <a:pt x="610" y="144"/>
                </a:lnTo>
                <a:lnTo>
                  <a:pt x="616" y="142"/>
                </a:lnTo>
                <a:lnTo>
                  <a:pt x="617" y="142"/>
                </a:lnTo>
                <a:lnTo>
                  <a:pt x="620" y="144"/>
                </a:lnTo>
                <a:lnTo>
                  <a:pt x="622" y="145"/>
                </a:lnTo>
                <a:lnTo>
                  <a:pt x="623" y="146"/>
                </a:lnTo>
                <a:lnTo>
                  <a:pt x="625" y="151"/>
                </a:lnTo>
                <a:lnTo>
                  <a:pt x="626" y="158"/>
                </a:lnTo>
                <a:lnTo>
                  <a:pt x="632" y="178"/>
                </a:lnTo>
                <a:lnTo>
                  <a:pt x="643" y="207"/>
                </a:lnTo>
                <a:lnTo>
                  <a:pt x="648" y="215"/>
                </a:lnTo>
                <a:lnTo>
                  <a:pt x="661" y="215"/>
                </a:lnTo>
                <a:lnTo>
                  <a:pt x="684" y="207"/>
                </a:lnTo>
                <a:lnTo>
                  <a:pt x="704" y="200"/>
                </a:lnTo>
                <a:lnTo>
                  <a:pt x="722" y="196"/>
                </a:lnTo>
                <a:lnTo>
                  <a:pt x="730" y="196"/>
                </a:lnTo>
                <a:lnTo>
                  <a:pt x="739" y="200"/>
                </a:lnTo>
                <a:lnTo>
                  <a:pt x="746" y="206"/>
                </a:lnTo>
                <a:lnTo>
                  <a:pt x="755" y="217"/>
                </a:lnTo>
                <a:lnTo>
                  <a:pt x="764" y="232"/>
                </a:lnTo>
                <a:lnTo>
                  <a:pt x="765" y="232"/>
                </a:lnTo>
                <a:lnTo>
                  <a:pt x="795" y="232"/>
                </a:lnTo>
                <a:lnTo>
                  <a:pt x="845" y="233"/>
                </a:lnTo>
                <a:lnTo>
                  <a:pt x="877" y="244"/>
                </a:lnTo>
                <a:lnTo>
                  <a:pt x="885" y="252"/>
                </a:lnTo>
                <a:lnTo>
                  <a:pt x="891" y="262"/>
                </a:lnTo>
                <a:lnTo>
                  <a:pt x="891" y="274"/>
                </a:lnTo>
                <a:lnTo>
                  <a:pt x="887" y="287"/>
                </a:lnTo>
                <a:lnTo>
                  <a:pt x="878" y="304"/>
                </a:lnTo>
                <a:lnTo>
                  <a:pt x="865" y="322"/>
                </a:lnTo>
                <a:lnTo>
                  <a:pt x="848" y="342"/>
                </a:lnTo>
                <a:lnTo>
                  <a:pt x="848" y="342"/>
                </a:lnTo>
                <a:lnTo>
                  <a:pt x="855" y="352"/>
                </a:lnTo>
                <a:lnTo>
                  <a:pt x="877" y="380"/>
                </a:lnTo>
                <a:lnTo>
                  <a:pt x="894" y="402"/>
                </a:lnTo>
                <a:lnTo>
                  <a:pt x="895" y="402"/>
                </a:lnTo>
                <a:lnTo>
                  <a:pt x="903" y="402"/>
                </a:lnTo>
                <a:lnTo>
                  <a:pt x="924" y="397"/>
                </a:lnTo>
                <a:lnTo>
                  <a:pt x="975" y="380"/>
                </a:lnTo>
                <a:lnTo>
                  <a:pt x="995" y="368"/>
                </a:lnTo>
                <a:lnTo>
                  <a:pt x="1003" y="362"/>
                </a:lnTo>
                <a:lnTo>
                  <a:pt x="1006" y="355"/>
                </a:lnTo>
                <a:lnTo>
                  <a:pt x="1007" y="352"/>
                </a:lnTo>
                <a:lnTo>
                  <a:pt x="1007" y="348"/>
                </a:lnTo>
                <a:lnTo>
                  <a:pt x="1007" y="348"/>
                </a:lnTo>
                <a:lnTo>
                  <a:pt x="1017" y="351"/>
                </a:lnTo>
                <a:lnTo>
                  <a:pt x="1042" y="352"/>
                </a:lnTo>
                <a:lnTo>
                  <a:pt x="1090" y="355"/>
                </a:lnTo>
                <a:lnTo>
                  <a:pt x="1108" y="361"/>
                </a:lnTo>
                <a:lnTo>
                  <a:pt x="1114" y="365"/>
                </a:lnTo>
                <a:lnTo>
                  <a:pt x="1119" y="373"/>
                </a:lnTo>
                <a:lnTo>
                  <a:pt x="1120" y="380"/>
                </a:lnTo>
                <a:lnTo>
                  <a:pt x="1121" y="380"/>
                </a:lnTo>
                <a:lnTo>
                  <a:pt x="1120" y="381"/>
                </a:lnTo>
                <a:lnTo>
                  <a:pt x="1117" y="383"/>
                </a:lnTo>
                <a:lnTo>
                  <a:pt x="1108" y="393"/>
                </a:lnTo>
                <a:lnTo>
                  <a:pt x="1103" y="406"/>
                </a:lnTo>
                <a:lnTo>
                  <a:pt x="1103" y="407"/>
                </a:lnTo>
                <a:lnTo>
                  <a:pt x="1094" y="409"/>
                </a:lnTo>
                <a:lnTo>
                  <a:pt x="1077" y="412"/>
                </a:lnTo>
                <a:lnTo>
                  <a:pt x="1033" y="426"/>
                </a:lnTo>
                <a:lnTo>
                  <a:pt x="997" y="445"/>
                </a:lnTo>
                <a:lnTo>
                  <a:pt x="993" y="449"/>
                </a:lnTo>
                <a:lnTo>
                  <a:pt x="1000" y="452"/>
                </a:lnTo>
                <a:lnTo>
                  <a:pt x="1019" y="457"/>
                </a:lnTo>
                <a:lnTo>
                  <a:pt x="1066" y="461"/>
                </a:lnTo>
                <a:lnTo>
                  <a:pt x="1106" y="465"/>
                </a:lnTo>
                <a:lnTo>
                  <a:pt x="1111" y="467"/>
                </a:lnTo>
                <a:lnTo>
                  <a:pt x="1116" y="462"/>
                </a:lnTo>
                <a:lnTo>
                  <a:pt x="1124" y="452"/>
                </a:lnTo>
                <a:lnTo>
                  <a:pt x="1145" y="430"/>
                </a:lnTo>
                <a:lnTo>
                  <a:pt x="1156" y="422"/>
                </a:lnTo>
                <a:lnTo>
                  <a:pt x="1169" y="417"/>
                </a:lnTo>
                <a:lnTo>
                  <a:pt x="1177" y="416"/>
                </a:lnTo>
                <a:lnTo>
                  <a:pt x="1178" y="430"/>
                </a:lnTo>
                <a:lnTo>
                  <a:pt x="1187" y="461"/>
                </a:lnTo>
                <a:lnTo>
                  <a:pt x="1208" y="525"/>
                </a:lnTo>
                <a:lnTo>
                  <a:pt x="1227" y="587"/>
                </a:lnTo>
                <a:lnTo>
                  <a:pt x="1232" y="600"/>
                </a:lnTo>
                <a:lnTo>
                  <a:pt x="1226" y="617"/>
                </a:lnTo>
                <a:lnTo>
                  <a:pt x="1217" y="652"/>
                </a:lnTo>
                <a:lnTo>
                  <a:pt x="1217" y="720"/>
                </a:lnTo>
                <a:lnTo>
                  <a:pt x="1230" y="748"/>
                </a:lnTo>
                <a:lnTo>
                  <a:pt x="1252" y="768"/>
                </a:lnTo>
                <a:lnTo>
                  <a:pt x="1268" y="774"/>
                </a:lnTo>
                <a:lnTo>
                  <a:pt x="1268" y="787"/>
                </a:lnTo>
                <a:lnTo>
                  <a:pt x="1268" y="820"/>
                </a:lnTo>
                <a:lnTo>
                  <a:pt x="1266" y="897"/>
                </a:lnTo>
                <a:lnTo>
                  <a:pt x="1263" y="933"/>
                </a:lnTo>
                <a:lnTo>
                  <a:pt x="1255" y="959"/>
                </a:lnTo>
                <a:lnTo>
                  <a:pt x="1249" y="968"/>
                </a:lnTo>
                <a:lnTo>
                  <a:pt x="1250" y="984"/>
                </a:lnTo>
                <a:lnTo>
                  <a:pt x="1256" y="999"/>
                </a:lnTo>
                <a:lnTo>
                  <a:pt x="1263" y="1012"/>
                </a:lnTo>
                <a:lnTo>
                  <a:pt x="1287" y="1038"/>
                </a:lnTo>
                <a:lnTo>
                  <a:pt x="1313" y="1061"/>
                </a:lnTo>
                <a:lnTo>
                  <a:pt x="1337" y="1085"/>
                </a:lnTo>
                <a:lnTo>
                  <a:pt x="1355" y="1112"/>
                </a:lnTo>
                <a:lnTo>
                  <a:pt x="1359" y="1125"/>
                </a:lnTo>
                <a:lnTo>
                  <a:pt x="1365" y="1152"/>
                </a:lnTo>
                <a:lnTo>
                  <a:pt x="1390" y="1201"/>
                </a:lnTo>
                <a:lnTo>
                  <a:pt x="1423" y="1243"/>
                </a:lnTo>
                <a:lnTo>
                  <a:pt x="1488" y="1319"/>
                </a:lnTo>
                <a:lnTo>
                  <a:pt x="1514" y="1372"/>
                </a:lnTo>
                <a:lnTo>
                  <a:pt x="1513" y="1378"/>
                </a:lnTo>
                <a:lnTo>
                  <a:pt x="1511" y="1387"/>
                </a:lnTo>
                <a:lnTo>
                  <a:pt x="1505" y="1403"/>
                </a:lnTo>
                <a:lnTo>
                  <a:pt x="1497" y="1417"/>
                </a:lnTo>
                <a:lnTo>
                  <a:pt x="1495" y="1419"/>
                </a:lnTo>
                <a:lnTo>
                  <a:pt x="1469" y="1417"/>
                </a:lnTo>
                <a:lnTo>
                  <a:pt x="1449" y="1411"/>
                </a:lnTo>
                <a:lnTo>
                  <a:pt x="1433" y="1404"/>
                </a:lnTo>
                <a:lnTo>
                  <a:pt x="1411" y="1390"/>
                </a:lnTo>
                <a:lnTo>
                  <a:pt x="1403" y="1384"/>
                </a:lnTo>
                <a:lnTo>
                  <a:pt x="1397" y="1381"/>
                </a:lnTo>
                <a:lnTo>
                  <a:pt x="1394" y="1381"/>
                </a:lnTo>
                <a:lnTo>
                  <a:pt x="1391" y="1381"/>
                </a:lnTo>
                <a:lnTo>
                  <a:pt x="1388" y="1384"/>
                </a:lnTo>
                <a:lnTo>
                  <a:pt x="1385" y="1388"/>
                </a:lnTo>
                <a:lnTo>
                  <a:pt x="1381" y="1394"/>
                </a:lnTo>
                <a:lnTo>
                  <a:pt x="1374" y="1411"/>
                </a:lnTo>
                <a:lnTo>
                  <a:pt x="1363" y="1436"/>
                </a:lnTo>
                <a:lnTo>
                  <a:pt x="1359" y="1452"/>
                </a:lnTo>
                <a:lnTo>
                  <a:pt x="1329" y="1440"/>
                </a:lnTo>
                <a:lnTo>
                  <a:pt x="1277" y="1419"/>
                </a:lnTo>
                <a:lnTo>
                  <a:pt x="1181" y="1384"/>
                </a:lnTo>
                <a:lnTo>
                  <a:pt x="1085" y="1346"/>
                </a:lnTo>
                <a:lnTo>
                  <a:pt x="1059" y="1333"/>
                </a:lnTo>
                <a:lnTo>
                  <a:pt x="1046" y="1317"/>
                </a:lnTo>
                <a:lnTo>
                  <a:pt x="1030" y="1304"/>
                </a:lnTo>
                <a:lnTo>
                  <a:pt x="1011" y="1294"/>
                </a:lnTo>
                <a:lnTo>
                  <a:pt x="971" y="1278"/>
                </a:lnTo>
                <a:lnTo>
                  <a:pt x="890" y="1245"/>
                </a:lnTo>
                <a:lnTo>
                  <a:pt x="848" y="1194"/>
                </a:lnTo>
                <a:lnTo>
                  <a:pt x="845" y="1190"/>
                </a:lnTo>
                <a:lnTo>
                  <a:pt x="838" y="1177"/>
                </a:lnTo>
                <a:lnTo>
                  <a:pt x="819" y="1142"/>
                </a:lnTo>
                <a:lnTo>
                  <a:pt x="798" y="1112"/>
                </a:lnTo>
                <a:lnTo>
                  <a:pt x="794" y="1106"/>
                </a:lnTo>
                <a:lnTo>
                  <a:pt x="795" y="1101"/>
                </a:lnTo>
                <a:lnTo>
                  <a:pt x="801" y="1093"/>
                </a:lnTo>
                <a:lnTo>
                  <a:pt x="814" y="1074"/>
                </a:lnTo>
                <a:lnTo>
                  <a:pt x="826" y="1056"/>
                </a:lnTo>
                <a:lnTo>
                  <a:pt x="829" y="1051"/>
                </a:lnTo>
                <a:lnTo>
                  <a:pt x="822" y="1045"/>
                </a:lnTo>
                <a:lnTo>
                  <a:pt x="810" y="1030"/>
                </a:lnTo>
                <a:lnTo>
                  <a:pt x="784" y="1006"/>
                </a:lnTo>
                <a:lnTo>
                  <a:pt x="768" y="1000"/>
                </a:lnTo>
                <a:lnTo>
                  <a:pt x="751" y="1000"/>
                </a:lnTo>
                <a:lnTo>
                  <a:pt x="740" y="1003"/>
                </a:lnTo>
                <a:lnTo>
                  <a:pt x="719" y="1004"/>
                </a:lnTo>
                <a:lnTo>
                  <a:pt x="687" y="1007"/>
                </a:lnTo>
                <a:lnTo>
                  <a:pt x="668" y="1010"/>
                </a:lnTo>
                <a:lnTo>
                  <a:pt x="662" y="1010"/>
                </a:lnTo>
                <a:lnTo>
                  <a:pt x="659" y="1010"/>
                </a:lnTo>
                <a:lnTo>
                  <a:pt x="658" y="1009"/>
                </a:lnTo>
                <a:lnTo>
                  <a:pt x="656" y="1007"/>
                </a:lnTo>
                <a:lnTo>
                  <a:pt x="656" y="1006"/>
                </a:lnTo>
                <a:lnTo>
                  <a:pt x="656" y="1004"/>
                </a:lnTo>
                <a:lnTo>
                  <a:pt x="655" y="997"/>
                </a:lnTo>
                <a:lnTo>
                  <a:pt x="655" y="977"/>
                </a:lnTo>
                <a:lnTo>
                  <a:pt x="656" y="977"/>
                </a:lnTo>
                <a:lnTo>
                  <a:pt x="658" y="975"/>
                </a:lnTo>
                <a:lnTo>
                  <a:pt x="661" y="974"/>
                </a:lnTo>
                <a:lnTo>
                  <a:pt x="668" y="972"/>
                </a:lnTo>
                <a:lnTo>
                  <a:pt x="685" y="968"/>
                </a:lnTo>
                <a:lnTo>
                  <a:pt x="722" y="959"/>
                </a:lnTo>
                <a:lnTo>
                  <a:pt x="735" y="949"/>
                </a:lnTo>
                <a:lnTo>
                  <a:pt x="711" y="941"/>
                </a:lnTo>
                <a:lnTo>
                  <a:pt x="678" y="928"/>
                </a:lnTo>
                <a:lnTo>
                  <a:pt x="658" y="922"/>
                </a:lnTo>
                <a:lnTo>
                  <a:pt x="651" y="920"/>
                </a:lnTo>
                <a:lnTo>
                  <a:pt x="645" y="923"/>
                </a:lnTo>
                <a:lnTo>
                  <a:pt x="639" y="926"/>
                </a:lnTo>
                <a:lnTo>
                  <a:pt x="633" y="933"/>
                </a:lnTo>
                <a:lnTo>
                  <a:pt x="627" y="942"/>
                </a:lnTo>
                <a:lnTo>
                  <a:pt x="611" y="965"/>
                </a:lnTo>
                <a:lnTo>
                  <a:pt x="611" y="965"/>
                </a:lnTo>
                <a:lnTo>
                  <a:pt x="600" y="964"/>
                </a:lnTo>
                <a:lnTo>
                  <a:pt x="585" y="956"/>
                </a:lnTo>
                <a:lnTo>
                  <a:pt x="578" y="945"/>
                </a:lnTo>
                <a:lnTo>
                  <a:pt x="574" y="930"/>
                </a:lnTo>
                <a:lnTo>
                  <a:pt x="568" y="913"/>
                </a:lnTo>
                <a:lnTo>
                  <a:pt x="559" y="894"/>
                </a:lnTo>
                <a:lnTo>
                  <a:pt x="554" y="884"/>
                </a:lnTo>
                <a:lnTo>
                  <a:pt x="539" y="871"/>
                </a:lnTo>
                <a:lnTo>
                  <a:pt x="520" y="858"/>
                </a:lnTo>
                <a:lnTo>
                  <a:pt x="468" y="833"/>
                </a:lnTo>
                <a:lnTo>
                  <a:pt x="342" y="791"/>
                </a:lnTo>
                <a:lnTo>
                  <a:pt x="246" y="765"/>
                </a:lnTo>
                <a:lnTo>
                  <a:pt x="235" y="778"/>
                </a:lnTo>
                <a:lnTo>
                  <a:pt x="204" y="803"/>
                </a:lnTo>
                <a:lnTo>
                  <a:pt x="165" y="822"/>
                </a:lnTo>
                <a:lnTo>
                  <a:pt x="126" y="829"/>
                </a:lnTo>
                <a:lnTo>
                  <a:pt x="109" y="828"/>
                </a:lnTo>
                <a:lnTo>
                  <a:pt x="94" y="819"/>
                </a:lnTo>
                <a:lnTo>
                  <a:pt x="83" y="806"/>
                </a:lnTo>
                <a:lnTo>
                  <a:pt x="74" y="786"/>
                </a:lnTo>
                <a:lnTo>
                  <a:pt x="73" y="757"/>
                </a:lnTo>
                <a:lnTo>
                  <a:pt x="73" y="757"/>
                </a:lnTo>
                <a:lnTo>
                  <a:pt x="96" y="749"/>
                </a:lnTo>
                <a:lnTo>
                  <a:pt x="112" y="743"/>
                </a:lnTo>
                <a:lnTo>
                  <a:pt x="116" y="741"/>
                </a:lnTo>
                <a:lnTo>
                  <a:pt x="119" y="738"/>
                </a:lnTo>
                <a:lnTo>
                  <a:pt x="120" y="736"/>
                </a:lnTo>
                <a:lnTo>
                  <a:pt x="120" y="735"/>
                </a:lnTo>
                <a:lnTo>
                  <a:pt x="120" y="733"/>
                </a:lnTo>
                <a:lnTo>
                  <a:pt x="119" y="732"/>
                </a:lnTo>
                <a:lnTo>
                  <a:pt x="117" y="730"/>
                </a:lnTo>
                <a:lnTo>
                  <a:pt x="113" y="729"/>
                </a:lnTo>
                <a:lnTo>
                  <a:pt x="109" y="728"/>
                </a:lnTo>
                <a:lnTo>
                  <a:pt x="96" y="725"/>
                </a:lnTo>
                <a:lnTo>
                  <a:pt x="64" y="720"/>
                </a:lnTo>
                <a:lnTo>
                  <a:pt x="28" y="716"/>
                </a:lnTo>
                <a:lnTo>
                  <a:pt x="9" y="712"/>
                </a:lnTo>
                <a:lnTo>
                  <a:pt x="15" y="688"/>
                </a:lnTo>
                <a:lnTo>
                  <a:pt x="32" y="651"/>
                </a:lnTo>
                <a:lnTo>
                  <a:pt x="51" y="625"/>
                </a:lnTo>
                <a:lnTo>
                  <a:pt x="64" y="604"/>
                </a:lnTo>
                <a:lnTo>
                  <a:pt x="65" y="596"/>
                </a:lnTo>
                <a:lnTo>
                  <a:pt x="65" y="591"/>
                </a:lnTo>
                <a:lnTo>
                  <a:pt x="64" y="587"/>
                </a:lnTo>
                <a:lnTo>
                  <a:pt x="61" y="583"/>
                </a:lnTo>
                <a:lnTo>
                  <a:pt x="55" y="578"/>
                </a:lnTo>
                <a:lnTo>
                  <a:pt x="42" y="568"/>
                </a:lnTo>
                <a:lnTo>
                  <a:pt x="22" y="557"/>
                </a:lnTo>
                <a:lnTo>
                  <a:pt x="22" y="557"/>
                </a:lnTo>
                <a:lnTo>
                  <a:pt x="17" y="545"/>
                </a:lnTo>
                <a:lnTo>
                  <a:pt x="12" y="513"/>
                </a:lnTo>
                <a:lnTo>
                  <a:pt x="3" y="438"/>
                </a:lnTo>
                <a:lnTo>
                  <a:pt x="0" y="373"/>
                </a:lnTo>
                <a:lnTo>
                  <a:pt x="0" y="361"/>
                </a:lnTo>
                <a:lnTo>
                  <a:pt x="4" y="362"/>
                </a:lnTo>
                <a:lnTo>
                  <a:pt x="16" y="364"/>
                </a:lnTo>
                <a:lnTo>
                  <a:pt x="41" y="371"/>
                </a:lnTo>
                <a:lnTo>
                  <a:pt x="54" y="374"/>
                </a:lnTo>
                <a:lnTo>
                  <a:pt x="64" y="374"/>
                </a:lnTo>
                <a:lnTo>
                  <a:pt x="70" y="371"/>
                </a:lnTo>
                <a:lnTo>
                  <a:pt x="70" y="37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487800">
            <a:off x="7181640" y="1807920"/>
            <a:ext cx="14040" cy="468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22"/>
                </a:moveTo>
                <a:lnTo>
                  <a:pt x="3" y="16"/>
                </a:lnTo>
                <a:lnTo>
                  <a:pt x="5" y="12"/>
                </a:lnTo>
                <a:lnTo>
                  <a:pt x="13" y="4"/>
                </a:lnTo>
                <a:lnTo>
                  <a:pt x="17" y="2"/>
                </a:lnTo>
                <a:lnTo>
                  <a:pt x="21" y="0"/>
                </a:lnTo>
                <a:lnTo>
                  <a:pt x="27" y="2"/>
                </a:lnTo>
                <a:lnTo>
                  <a:pt x="33" y="4"/>
                </a:lnTo>
                <a:lnTo>
                  <a:pt x="39" y="12"/>
                </a:lnTo>
                <a:lnTo>
                  <a:pt x="43" y="20"/>
                </a:lnTo>
                <a:lnTo>
                  <a:pt x="45" y="20"/>
                </a:lnTo>
                <a:lnTo>
                  <a:pt x="42" y="22"/>
                </a:lnTo>
                <a:lnTo>
                  <a:pt x="34" y="22"/>
                </a:lnTo>
                <a:lnTo>
                  <a:pt x="20" y="23"/>
                </a:lnTo>
                <a:lnTo>
                  <a:pt x="3" y="23"/>
                </a:lnTo>
                <a:lnTo>
                  <a:pt x="0" y="22"/>
                </a:lnTo>
                <a:lnTo>
                  <a:pt x="0" y="2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162920" y="1795320"/>
            <a:ext cx="14040" cy="1296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2"/>
                </a:moveTo>
                <a:lnTo>
                  <a:pt x="0" y="25"/>
                </a:lnTo>
                <a:lnTo>
                  <a:pt x="3" y="19"/>
                </a:lnTo>
                <a:lnTo>
                  <a:pt x="7" y="13"/>
                </a:lnTo>
                <a:lnTo>
                  <a:pt x="12" y="7"/>
                </a:lnTo>
                <a:lnTo>
                  <a:pt x="17" y="4"/>
                </a:lnTo>
                <a:lnTo>
                  <a:pt x="23" y="2"/>
                </a:lnTo>
                <a:lnTo>
                  <a:pt x="29" y="0"/>
                </a:lnTo>
                <a:lnTo>
                  <a:pt x="35" y="0"/>
                </a:lnTo>
                <a:lnTo>
                  <a:pt x="39" y="3"/>
                </a:lnTo>
                <a:lnTo>
                  <a:pt x="43" y="6"/>
                </a:lnTo>
                <a:lnTo>
                  <a:pt x="45" y="12"/>
                </a:lnTo>
                <a:lnTo>
                  <a:pt x="46" y="19"/>
                </a:lnTo>
                <a:lnTo>
                  <a:pt x="46" y="19"/>
                </a:lnTo>
                <a:lnTo>
                  <a:pt x="41" y="22"/>
                </a:lnTo>
                <a:lnTo>
                  <a:pt x="33" y="26"/>
                </a:lnTo>
                <a:lnTo>
                  <a:pt x="19" y="33"/>
                </a:lnTo>
                <a:lnTo>
                  <a:pt x="12" y="35"/>
                </a:lnTo>
                <a:lnTo>
                  <a:pt x="4" y="35"/>
                </a:lnTo>
                <a:lnTo>
                  <a:pt x="0" y="32"/>
                </a:lnTo>
                <a:lnTo>
                  <a:pt x="0" y="3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216480" y="2454120"/>
            <a:ext cx="20880" cy="44640"/>
          </a:xfrm>
          <a:custGeom>
            <a:avLst/>
            <a:gdLst/>
            <a:ahLst/>
            <a:rect l="l" t="t" r="r" b="b"/>
            <a:pathLst>
              <a:path w="60" h="136">
                <a:moveTo>
                  <a:pt x="0" y="126"/>
                </a:moveTo>
                <a:lnTo>
                  <a:pt x="6" y="132"/>
                </a:lnTo>
                <a:lnTo>
                  <a:pt x="15" y="136"/>
                </a:lnTo>
                <a:lnTo>
                  <a:pt x="19" y="136"/>
                </a:lnTo>
                <a:lnTo>
                  <a:pt x="22" y="135"/>
                </a:lnTo>
                <a:lnTo>
                  <a:pt x="25" y="132"/>
                </a:lnTo>
                <a:lnTo>
                  <a:pt x="26" y="129"/>
                </a:lnTo>
                <a:lnTo>
                  <a:pt x="32" y="123"/>
                </a:lnTo>
                <a:lnTo>
                  <a:pt x="38" y="115"/>
                </a:lnTo>
                <a:lnTo>
                  <a:pt x="42" y="110"/>
                </a:lnTo>
                <a:lnTo>
                  <a:pt x="42" y="103"/>
                </a:lnTo>
                <a:lnTo>
                  <a:pt x="44" y="87"/>
                </a:lnTo>
                <a:lnTo>
                  <a:pt x="52" y="55"/>
                </a:lnTo>
                <a:lnTo>
                  <a:pt x="58" y="23"/>
                </a:lnTo>
                <a:lnTo>
                  <a:pt x="60" y="15"/>
                </a:lnTo>
                <a:lnTo>
                  <a:pt x="57" y="13"/>
                </a:lnTo>
                <a:lnTo>
                  <a:pt x="52" y="12"/>
                </a:lnTo>
                <a:lnTo>
                  <a:pt x="44" y="9"/>
                </a:lnTo>
                <a:lnTo>
                  <a:pt x="21" y="3"/>
                </a:lnTo>
                <a:lnTo>
                  <a:pt x="3" y="0"/>
                </a:lnTo>
                <a:lnTo>
                  <a:pt x="3" y="13"/>
                </a:lnTo>
                <a:lnTo>
                  <a:pt x="3" y="35"/>
                </a:lnTo>
                <a:lnTo>
                  <a:pt x="3" y="74"/>
                </a:lnTo>
                <a:lnTo>
                  <a:pt x="0" y="116"/>
                </a:lnTo>
                <a:lnTo>
                  <a:pt x="0" y="126"/>
                </a:lnTo>
                <a:lnTo>
                  <a:pt x="0" y="126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29440" y="2416320"/>
            <a:ext cx="17280" cy="28440"/>
          </a:xfrm>
          <a:custGeom>
            <a:avLst/>
            <a:gdLst/>
            <a:ahLst/>
            <a:rect l="l" t="t" r="r" b="b"/>
            <a:pathLst>
              <a:path w="48" h="93">
                <a:moveTo>
                  <a:pt x="12" y="72"/>
                </a:moveTo>
                <a:lnTo>
                  <a:pt x="9" y="75"/>
                </a:lnTo>
                <a:lnTo>
                  <a:pt x="5" y="77"/>
                </a:lnTo>
                <a:lnTo>
                  <a:pt x="0" y="78"/>
                </a:lnTo>
                <a:lnTo>
                  <a:pt x="0" y="83"/>
                </a:lnTo>
                <a:lnTo>
                  <a:pt x="0" y="84"/>
                </a:lnTo>
                <a:lnTo>
                  <a:pt x="0" y="87"/>
                </a:lnTo>
                <a:lnTo>
                  <a:pt x="2" y="88"/>
                </a:lnTo>
                <a:lnTo>
                  <a:pt x="3" y="90"/>
                </a:lnTo>
                <a:lnTo>
                  <a:pt x="9" y="91"/>
                </a:lnTo>
                <a:lnTo>
                  <a:pt x="12" y="93"/>
                </a:lnTo>
                <a:lnTo>
                  <a:pt x="18" y="93"/>
                </a:lnTo>
                <a:lnTo>
                  <a:pt x="19" y="93"/>
                </a:lnTo>
                <a:lnTo>
                  <a:pt x="21" y="91"/>
                </a:lnTo>
                <a:lnTo>
                  <a:pt x="27" y="87"/>
                </a:lnTo>
                <a:lnTo>
                  <a:pt x="38" y="80"/>
                </a:lnTo>
                <a:lnTo>
                  <a:pt x="43" y="75"/>
                </a:lnTo>
                <a:lnTo>
                  <a:pt x="47" y="69"/>
                </a:lnTo>
                <a:lnTo>
                  <a:pt x="48" y="65"/>
                </a:lnTo>
                <a:lnTo>
                  <a:pt x="44" y="59"/>
                </a:lnTo>
                <a:lnTo>
                  <a:pt x="44" y="52"/>
                </a:lnTo>
                <a:lnTo>
                  <a:pt x="41" y="36"/>
                </a:lnTo>
                <a:lnTo>
                  <a:pt x="40" y="7"/>
                </a:lnTo>
                <a:lnTo>
                  <a:pt x="41" y="1"/>
                </a:lnTo>
                <a:lnTo>
                  <a:pt x="37" y="1"/>
                </a:lnTo>
                <a:lnTo>
                  <a:pt x="29" y="1"/>
                </a:lnTo>
                <a:lnTo>
                  <a:pt x="22" y="0"/>
                </a:lnTo>
                <a:lnTo>
                  <a:pt x="18" y="0"/>
                </a:lnTo>
                <a:lnTo>
                  <a:pt x="15" y="1"/>
                </a:lnTo>
                <a:lnTo>
                  <a:pt x="14" y="3"/>
                </a:lnTo>
                <a:lnTo>
                  <a:pt x="11" y="7"/>
                </a:lnTo>
                <a:lnTo>
                  <a:pt x="9" y="12"/>
                </a:lnTo>
                <a:lnTo>
                  <a:pt x="9" y="16"/>
                </a:lnTo>
                <a:lnTo>
                  <a:pt x="9" y="16"/>
                </a:lnTo>
                <a:lnTo>
                  <a:pt x="8" y="23"/>
                </a:lnTo>
                <a:lnTo>
                  <a:pt x="6" y="35"/>
                </a:lnTo>
                <a:lnTo>
                  <a:pt x="3" y="56"/>
                </a:lnTo>
                <a:lnTo>
                  <a:pt x="3" y="65"/>
                </a:lnTo>
                <a:lnTo>
                  <a:pt x="5" y="68"/>
                </a:lnTo>
                <a:lnTo>
                  <a:pt x="8" y="71"/>
                </a:lnTo>
                <a:lnTo>
                  <a:pt x="11" y="72"/>
                </a:lnTo>
                <a:lnTo>
                  <a:pt x="12" y="72"/>
                </a:lnTo>
                <a:lnTo>
                  <a:pt x="12" y="7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235560" y="2394000"/>
            <a:ext cx="9720" cy="15840"/>
          </a:xfrm>
          <a:custGeom>
            <a:avLst/>
            <a:gdLst/>
            <a:ahLst/>
            <a:rect l="l" t="t" r="r" b="b"/>
            <a:pathLst>
              <a:path w="27" h="41">
                <a:moveTo>
                  <a:pt x="27" y="9"/>
                </a:moveTo>
                <a:lnTo>
                  <a:pt x="22" y="4"/>
                </a:lnTo>
                <a:lnTo>
                  <a:pt x="17" y="2"/>
                </a:lnTo>
                <a:lnTo>
                  <a:pt x="13" y="0"/>
                </a:lnTo>
                <a:lnTo>
                  <a:pt x="10" y="0"/>
                </a:lnTo>
                <a:lnTo>
                  <a:pt x="7" y="2"/>
                </a:lnTo>
                <a:lnTo>
                  <a:pt x="4" y="4"/>
                </a:lnTo>
                <a:lnTo>
                  <a:pt x="3" y="7"/>
                </a:lnTo>
                <a:lnTo>
                  <a:pt x="1" y="12"/>
                </a:lnTo>
                <a:lnTo>
                  <a:pt x="0" y="22"/>
                </a:lnTo>
                <a:lnTo>
                  <a:pt x="0" y="32"/>
                </a:lnTo>
                <a:lnTo>
                  <a:pt x="1" y="32"/>
                </a:lnTo>
                <a:lnTo>
                  <a:pt x="6" y="38"/>
                </a:lnTo>
                <a:lnTo>
                  <a:pt x="11" y="41"/>
                </a:lnTo>
                <a:lnTo>
                  <a:pt x="14" y="41"/>
                </a:lnTo>
                <a:lnTo>
                  <a:pt x="19" y="41"/>
                </a:lnTo>
                <a:lnTo>
                  <a:pt x="22" y="39"/>
                </a:lnTo>
                <a:lnTo>
                  <a:pt x="23" y="36"/>
                </a:lnTo>
                <a:lnTo>
                  <a:pt x="25" y="32"/>
                </a:lnTo>
                <a:lnTo>
                  <a:pt x="26" y="28"/>
                </a:lnTo>
                <a:lnTo>
                  <a:pt x="26" y="19"/>
                </a:lnTo>
                <a:lnTo>
                  <a:pt x="26" y="9"/>
                </a:lnTo>
                <a:lnTo>
                  <a:pt x="27" y="9"/>
                </a:lnTo>
                <a:lnTo>
                  <a:pt x="27" y="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213600" y="2384280"/>
            <a:ext cx="25200" cy="22320"/>
          </a:xfrm>
          <a:custGeom>
            <a:avLst/>
            <a:gdLst/>
            <a:ahLst/>
            <a:rect l="l" t="t" r="r" b="b"/>
            <a:pathLst>
              <a:path w="72" h="70">
                <a:moveTo>
                  <a:pt x="0" y="63"/>
                </a:moveTo>
                <a:lnTo>
                  <a:pt x="6" y="68"/>
                </a:lnTo>
                <a:lnTo>
                  <a:pt x="12" y="70"/>
                </a:lnTo>
                <a:lnTo>
                  <a:pt x="19" y="70"/>
                </a:lnTo>
                <a:lnTo>
                  <a:pt x="25" y="68"/>
                </a:lnTo>
                <a:lnTo>
                  <a:pt x="30" y="64"/>
                </a:lnTo>
                <a:lnTo>
                  <a:pt x="36" y="60"/>
                </a:lnTo>
                <a:lnTo>
                  <a:pt x="48" y="48"/>
                </a:lnTo>
                <a:lnTo>
                  <a:pt x="55" y="37"/>
                </a:lnTo>
                <a:lnTo>
                  <a:pt x="59" y="26"/>
                </a:lnTo>
                <a:lnTo>
                  <a:pt x="61" y="26"/>
                </a:lnTo>
                <a:lnTo>
                  <a:pt x="64" y="19"/>
                </a:lnTo>
                <a:lnTo>
                  <a:pt x="68" y="8"/>
                </a:lnTo>
                <a:lnTo>
                  <a:pt x="72" y="2"/>
                </a:lnTo>
                <a:lnTo>
                  <a:pt x="72" y="0"/>
                </a:lnTo>
                <a:lnTo>
                  <a:pt x="71" y="0"/>
                </a:lnTo>
                <a:lnTo>
                  <a:pt x="70" y="0"/>
                </a:lnTo>
                <a:lnTo>
                  <a:pt x="67" y="2"/>
                </a:lnTo>
                <a:lnTo>
                  <a:pt x="54" y="3"/>
                </a:lnTo>
                <a:lnTo>
                  <a:pt x="45" y="5"/>
                </a:lnTo>
                <a:lnTo>
                  <a:pt x="39" y="6"/>
                </a:lnTo>
                <a:lnTo>
                  <a:pt x="35" y="9"/>
                </a:lnTo>
                <a:lnTo>
                  <a:pt x="32" y="12"/>
                </a:lnTo>
                <a:lnTo>
                  <a:pt x="23" y="19"/>
                </a:lnTo>
                <a:lnTo>
                  <a:pt x="16" y="29"/>
                </a:lnTo>
                <a:lnTo>
                  <a:pt x="3" y="55"/>
                </a:lnTo>
                <a:lnTo>
                  <a:pt x="0" y="63"/>
                </a:lnTo>
                <a:lnTo>
                  <a:pt x="0" y="6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219720" y="2344680"/>
            <a:ext cx="20880" cy="36720"/>
          </a:xfrm>
          <a:custGeom>
            <a:avLst/>
            <a:gdLst/>
            <a:ahLst/>
            <a:rect l="l" t="t" r="r" b="b"/>
            <a:pathLst>
              <a:path w="62" h="108">
                <a:moveTo>
                  <a:pt x="0" y="66"/>
                </a:moveTo>
                <a:lnTo>
                  <a:pt x="0" y="71"/>
                </a:lnTo>
                <a:lnTo>
                  <a:pt x="0" y="77"/>
                </a:lnTo>
                <a:lnTo>
                  <a:pt x="1" y="82"/>
                </a:lnTo>
                <a:lnTo>
                  <a:pt x="4" y="83"/>
                </a:lnTo>
                <a:lnTo>
                  <a:pt x="7" y="86"/>
                </a:lnTo>
                <a:lnTo>
                  <a:pt x="11" y="90"/>
                </a:lnTo>
                <a:lnTo>
                  <a:pt x="14" y="92"/>
                </a:lnTo>
                <a:lnTo>
                  <a:pt x="11" y="93"/>
                </a:lnTo>
                <a:lnTo>
                  <a:pt x="7" y="96"/>
                </a:lnTo>
                <a:lnTo>
                  <a:pt x="2" y="100"/>
                </a:lnTo>
                <a:lnTo>
                  <a:pt x="0" y="106"/>
                </a:lnTo>
                <a:lnTo>
                  <a:pt x="0" y="108"/>
                </a:lnTo>
                <a:lnTo>
                  <a:pt x="4" y="108"/>
                </a:lnTo>
                <a:lnTo>
                  <a:pt x="8" y="106"/>
                </a:lnTo>
                <a:lnTo>
                  <a:pt x="17" y="105"/>
                </a:lnTo>
                <a:lnTo>
                  <a:pt x="21" y="103"/>
                </a:lnTo>
                <a:lnTo>
                  <a:pt x="28" y="100"/>
                </a:lnTo>
                <a:lnTo>
                  <a:pt x="43" y="90"/>
                </a:lnTo>
                <a:lnTo>
                  <a:pt x="55" y="77"/>
                </a:lnTo>
                <a:lnTo>
                  <a:pt x="60" y="61"/>
                </a:lnTo>
                <a:lnTo>
                  <a:pt x="62" y="44"/>
                </a:lnTo>
                <a:lnTo>
                  <a:pt x="60" y="27"/>
                </a:lnTo>
                <a:lnTo>
                  <a:pt x="57" y="16"/>
                </a:lnTo>
                <a:lnTo>
                  <a:pt x="52" y="8"/>
                </a:lnTo>
                <a:lnTo>
                  <a:pt x="46" y="2"/>
                </a:lnTo>
                <a:lnTo>
                  <a:pt x="43" y="0"/>
                </a:lnTo>
                <a:lnTo>
                  <a:pt x="40" y="0"/>
                </a:lnTo>
                <a:lnTo>
                  <a:pt x="37" y="0"/>
                </a:lnTo>
                <a:lnTo>
                  <a:pt x="34" y="2"/>
                </a:lnTo>
                <a:lnTo>
                  <a:pt x="33" y="3"/>
                </a:lnTo>
                <a:lnTo>
                  <a:pt x="27" y="9"/>
                </a:lnTo>
                <a:lnTo>
                  <a:pt x="23" y="15"/>
                </a:lnTo>
                <a:lnTo>
                  <a:pt x="14" y="31"/>
                </a:lnTo>
                <a:lnTo>
                  <a:pt x="8" y="45"/>
                </a:lnTo>
                <a:lnTo>
                  <a:pt x="8" y="50"/>
                </a:lnTo>
                <a:lnTo>
                  <a:pt x="11" y="57"/>
                </a:lnTo>
                <a:lnTo>
                  <a:pt x="14" y="64"/>
                </a:lnTo>
                <a:lnTo>
                  <a:pt x="15" y="67"/>
                </a:lnTo>
                <a:lnTo>
                  <a:pt x="15" y="69"/>
                </a:lnTo>
                <a:lnTo>
                  <a:pt x="13" y="69"/>
                </a:lnTo>
                <a:lnTo>
                  <a:pt x="11" y="69"/>
                </a:lnTo>
                <a:lnTo>
                  <a:pt x="5" y="67"/>
                </a:lnTo>
                <a:lnTo>
                  <a:pt x="0" y="66"/>
                </a:lnTo>
                <a:lnTo>
                  <a:pt x="0" y="66"/>
                </a:lnTo>
                <a:lnTo>
                  <a:pt x="0" y="66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05520" y="2206800"/>
            <a:ext cx="41400" cy="28440"/>
          </a:xfrm>
          <a:custGeom>
            <a:avLst/>
            <a:gdLst/>
            <a:ahLst/>
            <a:rect l="l" t="t" r="r" b="b"/>
            <a:pathLst>
              <a:path w="124" h="87">
                <a:moveTo>
                  <a:pt x="73" y="29"/>
                </a:moveTo>
                <a:lnTo>
                  <a:pt x="84" y="33"/>
                </a:lnTo>
                <a:lnTo>
                  <a:pt x="99" y="38"/>
                </a:lnTo>
                <a:lnTo>
                  <a:pt x="110" y="39"/>
                </a:lnTo>
                <a:lnTo>
                  <a:pt x="114" y="39"/>
                </a:lnTo>
                <a:lnTo>
                  <a:pt x="117" y="40"/>
                </a:lnTo>
                <a:lnTo>
                  <a:pt x="118" y="43"/>
                </a:lnTo>
                <a:lnTo>
                  <a:pt x="121" y="48"/>
                </a:lnTo>
                <a:lnTo>
                  <a:pt x="121" y="55"/>
                </a:lnTo>
                <a:lnTo>
                  <a:pt x="123" y="74"/>
                </a:lnTo>
                <a:lnTo>
                  <a:pt x="124" y="74"/>
                </a:lnTo>
                <a:lnTo>
                  <a:pt x="121" y="78"/>
                </a:lnTo>
                <a:lnTo>
                  <a:pt x="120" y="81"/>
                </a:lnTo>
                <a:lnTo>
                  <a:pt x="115" y="83"/>
                </a:lnTo>
                <a:lnTo>
                  <a:pt x="111" y="84"/>
                </a:lnTo>
                <a:lnTo>
                  <a:pt x="107" y="85"/>
                </a:lnTo>
                <a:lnTo>
                  <a:pt x="97" y="85"/>
                </a:lnTo>
                <a:lnTo>
                  <a:pt x="76" y="85"/>
                </a:lnTo>
                <a:lnTo>
                  <a:pt x="73" y="84"/>
                </a:lnTo>
                <a:lnTo>
                  <a:pt x="71" y="78"/>
                </a:lnTo>
                <a:lnTo>
                  <a:pt x="71" y="71"/>
                </a:lnTo>
                <a:lnTo>
                  <a:pt x="69" y="68"/>
                </a:lnTo>
                <a:lnTo>
                  <a:pt x="68" y="71"/>
                </a:lnTo>
                <a:lnTo>
                  <a:pt x="66" y="74"/>
                </a:lnTo>
                <a:lnTo>
                  <a:pt x="60" y="80"/>
                </a:lnTo>
                <a:lnTo>
                  <a:pt x="50" y="87"/>
                </a:lnTo>
                <a:lnTo>
                  <a:pt x="50" y="87"/>
                </a:lnTo>
                <a:lnTo>
                  <a:pt x="49" y="80"/>
                </a:lnTo>
                <a:lnTo>
                  <a:pt x="49" y="69"/>
                </a:lnTo>
                <a:lnTo>
                  <a:pt x="47" y="67"/>
                </a:lnTo>
                <a:lnTo>
                  <a:pt x="46" y="65"/>
                </a:lnTo>
                <a:lnTo>
                  <a:pt x="42" y="67"/>
                </a:lnTo>
                <a:lnTo>
                  <a:pt x="39" y="69"/>
                </a:lnTo>
                <a:lnTo>
                  <a:pt x="30" y="74"/>
                </a:lnTo>
                <a:lnTo>
                  <a:pt x="26" y="77"/>
                </a:lnTo>
                <a:lnTo>
                  <a:pt x="26" y="69"/>
                </a:lnTo>
                <a:lnTo>
                  <a:pt x="26" y="58"/>
                </a:lnTo>
                <a:lnTo>
                  <a:pt x="26" y="51"/>
                </a:lnTo>
                <a:lnTo>
                  <a:pt x="26" y="49"/>
                </a:lnTo>
                <a:lnTo>
                  <a:pt x="24" y="49"/>
                </a:lnTo>
                <a:lnTo>
                  <a:pt x="23" y="51"/>
                </a:lnTo>
                <a:lnTo>
                  <a:pt x="20" y="54"/>
                </a:lnTo>
                <a:lnTo>
                  <a:pt x="15" y="58"/>
                </a:lnTo>
                <a:lnTo>
                  <a:pt x="11" y="64"/>
                </a:lnTo>
                <a:lnTo>
                  <a:pt x="10" y="67"/>
                </a:lnTo>
                <a:lnTo>
                  <a:pt x="2" y="62"/>
                </a:lnTo>
                <a:lnTo>
                  <a:pt x="0" y="59"/>
                </a:lnTo>
                <a:lnTo>
                  <a:pt x="0" y="58"/>
                </a:lnTo>
                <a:lnTo>
                  <a:pt x="0" y="56"/>
                </a:lnTo>
                <a:lnTo>
                  <a:pt x="1" y="45"/>
                </a:lnTo>
                <a:lnTo>
                  <a:pt x="8" y="16"/>
                </a:lnTo>
                <a:lnTo>
                  <a:pt x="14" y="6"/>
                </a:lnTo>
                <a:lnTo>
                  <a:pt x="18" y="1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4" y="3"/>
                </a:lnTo>
                <a:lnTo>
                  <a:pt x="43" y="6"/>
                </a:lnTo>
                <a:lnTo>
                  <a:pt x="49" y="10"/>
                </a:lnTo>
                <a:lnTo>
                  <a:pt x="53" y="16"/>
                </a:lnTo>
                <a:lnTo>
                  <a:pt x="66" y="26"/>
                </a:lnTo>
                <a:lnTo>
                  <a:pt x="73" y="29"/>
                </a:lnTo>
                <a:lnTo>
                  <a:pt x="73" y="2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19760" y="2149560"/>
            <a:ext cx="23760" cy="11160"/>
          </a:xfrm>
          <a:custGeom>
            <a:avLst/>
            <a:gdLst/>
            <a:ahLst/>
            <a:rect l="l" t="t" r="r" b="b"/>
            <a:pathLst>
              <a:path w="65" h="39">
                <a:moveTo>
                  <a:pt x="65" y="39"/>
                </a:moveTo>
                <a:lnTo>
                  <a:pt x="59" y="38"/>
                </a:lnTo>
                <a:lnTo>
                  <a:pt x="49" y="35"/>
                </a:lnTo>
                <a:lnTo>
                  <a:pt x="26" y="29"/>
                </a:lnTo>
                <a:lnTo>
                  <a:pt x="4" y="23"/>
                </a:lnTo>
                <a:lnTo>
                  <a:pt x="0" y="20"/>
                </a:lnTo>
                <a:lnTo>
                  <a:pt x="4" y="16"/>
                </a:lnTo>
                <a:lnTo>
                  <a:pt x="11" y="7"/>
                </a:lnTo>
                <a:lnTo>
                  <a:pt x="16" y="3"/>
                </a:lnTo>
                <a:lnTo>
                  <a:pt x="17" y="3"/>
                </a:lnTo>
                <a:lnTo>
                  <a:pt x="24" y="2"/>
                </a:lnTo>
                <a:lnTo>
                  <a:pt x="37" y="0"/>
                </a:lnTo>
                <a:lnTo>
                  <a:pt x="48" y="4"/>
                </a:lnTo>
                <a:lnTo>
                  <a:pt x="55" y="12"/>
                </a:lnTo>
                <a:lnTo>
                  <a:pt x="61" y="22"/>
                </a:lnTo>
                <a:lnTo>
                  <a:pt x="64" y="33"/>
                </a:lnTo>
                <a:lnTo>
                  <a:pt x="65" y="39"/>
                </a:lnTo>
                <a:lnTo>
                  <a:pt x="65" y="3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92760" y="2133720"/>
            <a:ext cx="27000" cy="14040"/>
          </a:xfrm>
          <a:custGeom>
            <a:avLst/>
            <a:gdLst/>
            <a:ahLst/>
            <a:rect l="l" t="t" r="r" b="b"/>
            <a:pathLst>
              <a:path w="80" h="35">
                <a:moveTo>
                  <a:pt x="80" y="0"/>
                </a:moveTo>
                <a:lnTo>
                  <a:pt x="78" y="4"/>
                </a:lnTo>
                <a:lnTo>
                  <a:pt x="77" y="18"/>
                </a:lnTo>
                <a:lnTo>
                  <a:pt x="77" y="28"/>
                </a:lnTo>
                <a:lnTo>
                  <a:pt x="77" y="28"/>
                </a:lnTo>
                <a:lnTo>
                  <a:pt x="70" y="31"/>
                </a:lnTo>
                <a:lnTo>
                  <a:pt x="52" y="35"/>
                </a:lnTo>
                <a:lnTo>
                  <a:pt x="33" y="35"/>
                </a:lnTo>
                <a:lnTo>
                  <a:pt x="17" y="31"/>
                </a:lnTo>
                <a:lnTo>
                  <a:pt x="10" y="28"/>
                </a:lnTo>
                <a:lnTo>
                  <a:pt x="6" y="23"/>
                </a:lnTo>
                <a:lnTo>
                  <a:pt x="2" y="18"/>
                </a:lnTo>
                <a:lnTo>
                  <a:pt x="0" y="12"/>
                </a:lnTo>
                <a:lnTo>
                  <a:pt x="2" y="3"/>
                </a:lnTo>
                <a:lnTo>
                  <a:pt x="3" y="3"/>
                </a:lnTo>
                <a:lnTo>
                  <a:pt x="4" y="3"/>
                </a:lnTo>
                <a:lnTo>
                  <a:pt x="15" y="3"/>
                </a:lnTo>
                <a:lnTo>
                  <a:pt x="51" y="2"/>
                </a:lnTo>
                <a:lnTo>
                  <a:pt x="77" y="2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4120" y="2616120"/>
            <a:ext cx="1082520" cy="647640"/>
          </a:xfrm>
          <a:custGeom>
            <a:avLst/>
            <a:gdLst/>
            <a:ahLst/>
            <a:rect l="l" t="t" r="r" b="b"/>
            <a:pathLst>
              <a:path w="3137" h="1980">
                <a:moveTo>
                  <a:pt x="1612" y="1917"/>
                </a:moveTo>
                <a:lnTo>
                  <a:pt x="1606" y="1888"/>
                </a:lnTo>
                <a:lnTo>
                  <a:pt x="1607" y="1861"/>
                </a:lnTo>
                <a:lnTo>
                  <a:pt x="1614" y="1838"/>
                </a:lnTo>
                <a:lnTo>
                  <a:pt x="1626" y="1819"/>
                </a:lnTo>
                <a:lnTo>
                  <a:pt x="1643" y="1800"/>
                </a:lnTo>
                <a:lnTo>
                  <a:pt x="1662" y="1784"/>
                </a:lnTo>
                <a:lnTo>
                  <a:pt x="1706" y="1756"/>
                </a:lnTo>
                <a:lnTo>
                  <a:pt x="1782" y="1706"/>
                </a:lnTo>
                <a:lnTo>
                  <a:pt x="1784" y="1706"/>
                </a:lnTo>
                <a:lnTo>
                  <a:pt x="1777" y="1700"/>
                </a:lnTo>
                <a:lnTo>
                  <a:pt x="1774" y="1694"/>
                </a:lnTo>
                <a:lnTo>
                  <a:pt x="1772" y="1690"/>
                </a:lnTo>
                <a:lnTo>
                  <a:pt x="1772" y="1688"/>
                </a:lnTo>
                <a:lnTo>
                  <a:pt x="1772" y="1687"/>
                </a:lnTo>
                <a:lnTo>
                  <a:pt x="1774" y="1685"/>
                </a:lnTo>
                <a:lnTo>
                  <a:pt x="1775" y="1684"/>
                </a:lnTo>
                <a:lnTo>
                  <a:pt x="1777" y="1683"/>
                </a:lnTo>
                <a:lnTo>
                  <a:pt x="1778" y="1683"/>
                </a:lnTo>
                <a:lnTo>
                  <a:pt x="1782" y="1683"/>
                </a:lnTo>
                <a:lnTo>
                  <a:pt x="1787" y="1683"/>
                </a:lnTo>
                <a:lnTo>
                  <a:pt x="1798" y="1684"/>
                </a:lnTo>
                <a:lnTo>
                  <a:pt x="1810" y="1688"/>
                </a:lnTo>
                <a:lnTo>
                  <a:pt x="1811" y="1688"/>
                </a:lnTo>
                <a:lnTo>
                  <a:pt x="1820" y="1685"/>
                </a:lnTo>
                <a:lnTo>
                  <a:pt x="1839" y="1678"/>
                </a:lnTo>
                <a:lnTo>
                  <a:pt x="1881" y="1675"/>
                </a:lnTo>
                <a:lnTo>
                  <a:pt x="1920" y="1685"/>
                </a:lnTo>
                <a:lnTo>
                  <a:pt x="1930" y="1688"/>
                </a:lnTo>
                <a:lnTo>
                  <a:pt x="1932" y="1687"/>
                </a:lnTo>
                <a:lnTo>
                  <a:pt x="1938" y="1681"/>
                </a:lnTo>
                <a:lnTo>
                  <a:pt x="1951" y="1672"/>
                </a:lnTo>
                <a:lnTo>
                  <a:pt x="1964" y="1662"/>
                </a:lnTo>
                <a:lnTo>
                  <a:pt x="1966" y="1659"/>
                </a:lnTo>
                <a:lnTo>
                  <a:pt x="1981" y="1667"/>
                </a:lnTo>
                <a:lnTo>
                  <a:pt x="2010" y="1680"/>
                </a:lnTo>
                <a:lnTo>
                  <a:pt x="2068" y="1697"/>
                </a:lnTo>
                <a:lnTo>
                  <a:pt x="2097" y="1696"/>
                </a:lnTo>
                <a:lnTo>
                  <a:pt x="2126" y="1683"/>
                </a:lnTo>
                <a:lnTo>
                  <a:pt x="2140" y="1669"/>
                </a:lnTo>
                <a:lnTo>
                  <a:pt x="2133" y="1661"/>
                </a:lnTo>
                <a:lnTo>
                  <a:pt x="2123" y="1648"/>
                </a:lnTo>
                <a:lnTo>
                  <a:pt x="2114" y="1635"/>
                </a:lnTo>
                <a:lnTo>
                  <a:pt x="2113" y="1632"/>
                </a:lnTo>
                <a:lnTo>
                  <a:pt x="2117" y="1632"/>
                </a:lnTo>
                <a:lnTo>
                  <a:pt x="2136" y="1627"/>
                </a:lnTo>
                <a:lnTo>
                  <a:pt x="2191" y="1613"/>
                </a:lnTo>
                <a:lnTo>
                  <a:pt x="2216" y="1604"/>
                </a:lnTo>
                <a:lnTo>
                  <a:pt x="2230" y="1598"/>
                </a:lnTo>
                <a:lnTo>
                  <a:pt x="2232" y="1596"/>
                </a:lnTo>
                <a:lnTo>
                  <a:pt x="2235" y="1596"/>
                </a:lnTo>
                <a:lnTo>
                  <a:pt x="2265" y="1596"/>
                </a:lnTo>
                <a:lnTo>
                  <a:pt x="2368" y="1591"/>
                </a:lnTo>
                <a:lnTo>
                  <a:pt x="2446" y="1588"/>
                </a:lnTo>
                <a:lnTo>
                  <a:pt x="2450" y="1587"/>
                </a:lnTo>
                <a:lnTo>
                  <a:pt x="2452" y="1585"/>
                </a:lnTo>
                <a:lnTo>
                  <a:pt x="2456" y="1585"/>
                </a:lnTo>
                <a:lnTo>
                  <a:pt x="2461" y="1585"/>
                </a:lnTo>
                <a:lnTo>
                  <a:pt x="2471" y="1585"/>
                </a:lnTo>
                <a:lnTo>
                  <a:pt x="2482" y="1588"/>
                </a:lnTo>
                <a:lnTo>
                  <a:pt x="2511" y="1598"/>
                </a:lnTo>
                <a:lnTo>
                  <a:pt x="2568" y="1627"/>
                </a:lnTo>
                <a:lnTo>
                  <a:pt x="2587" y="1642"/>
                </a:lnTo>
                <a:lnTo>
                  <a:pt x="2582" y="1669"/>
                </a:lnTo>
                <a:lnTo>
                  <a:pt x="2585" y="1696"/>
                </a:lnTo>
                <a:lnTo>
                  <a:pt x="2594" y="1722"/>
                </a:lnTo>
                <a:lnTo>
                  <a:pt x="2607" y="1745"/>
                </a:lnTo>
                <a:lnTo>
                  <a:pt x="2645" y="1790"/>
                </a:lnTo>
                <a:lnTo>
                  <a:pt x="2689" y="1827"/>
                </a:lnTo>
                <a:lnTo>
                  <a:pt x="2776" y="1881"/>
                </a:lnTo>
                <a:lnTo>
                  <a:pt x="2778" y="1881"/>
                </a:lnTo>
                <a:lnTo>
                  <a:pt x="2789" y="1851"/>
                </a:lnTo>
                <a:lnTo>
                  <a:pt x="2798" y="1794"/>
                </a:lnTo>
                <a:lnTo>
                  <a:pt x="2788" y="1742"/>
                </a:lnTo>
                <a:lnTo>
                  <a:pt x="2766" y="1694"/>
                </a:lnTo>
                <a:lnTo>
                  <a:pt x="2737" y="1646"/>
                </a:lnTo>
                <a:lnTo>
                  <a:pt x="2708" y="1596"/>
                </a:lnTo>
                <a:lnTo>
                  <a:pt x="2697" y="1568"/>
                </a:lnTo>
                <a:lnTo>
                  <a:pt x="2692" y="1558"/>
                </a:lnTo>
                <a:lnTo>
                  <a:pt x="2682" y="1532"/>
                </a:lnTo>
                <a:lnTo>
                  <a:pt x="2655" y="1462"/>
                </a:lnTo>
                <a:lnTo>
                  <a:pt x="2640" y="1397"/>
                </a:lnTo>
                <a:lnTo>
                  <a:pt x="2642" y="1384"/>
                </a:lnTo>
                <a:lnTo>
                  <a:pt x="2646" y="1380"/>
                </a:lnTo>
                <a:lnTo>
                  <a:pt x="2652" y="1372"/>
                </a:lnTo>
                <a:lnTo>
                  <a:pt x="2669" y="1354"/>
                </a:lnTo>
                <a:lnTo>
                  <a:pt x="2705" y="1316"/>
                </a:lnTo>
                <a:lnTo>
                  <a:pt x="2724" y="1301"/>
                </a:lnTo>
                <a:lnTo>
                  <a:pt x="2730" y="1287"/>
                </a:lnTo>
                <a:lnTo>
                  <a:pt x="2745" y="1259"/>
                </a:lnTo>
                <a:lnTo>
                  <a:pt x="2775" y="1216"/>
                </a:lnTo>
                <a:lnTo>
                  <a:pt x="2813" y="1175"/>
                </a:lnTo>
                <a:lnTo>
                  <a:pt x="2824" y="1164"/>
                </a:lnTo>
                <a:lnTo>
                  <a:pt x="2821" y="1157"/>
                </a:lnTo>
                <a:lnTo>
                  <a:pt x="2820" y="1152"/>
                </a:lnTo>
                <a:lnTo>
                  <a:pt x="2816" y="1143"/>
                </a:lnTo>
                <a:lnTo>
                  <a:pt x="2814" y="1136"/>
                </a:lnTo>
                <a:lnTo>
                  <a:pt x="2816" y="1135"/>
                </a:lnTo>
                <a:lnTo>
                  <a:pt x="2826" y="1125"/>
                </a:lnTo>
                <a:lnTo>
                  <a:pt x="2865" y="1086"/>
                </a:lnTo>
                <a:lnTo>
                  <a:pt x="2894" y="1057"/>
                </a:lnTo>
                <a:lnTo>
                  <a:pt x="2897" y="1054"/>
                </a:lnTo>
                <a:lnTo>
                  <a:pt x="2894" y="1046"/>
                </a:lnTo>
                <a:lnTo>
                  <a:pt x="2892" y="1029"/>
                </a:lnTo>
                <a:lnTo>
                  <a:pt x="2894" y="987"/>
                </a:lnTo>
                <a:lnTo>
                  <a:pt x="2895" y="944"/>
                </a:lnTo>
                <a:lnTo>
                  <a:pt x="2897" y="933"/>
                </a:lnTo>
                <a:lnTo>
                  <a:pt x="2894" y="932"/>
                </a:lnTo>
                <a:lnTo>
                  <a:pt x="2887" y="926"/>
                </a:lnTo>
                <a:lnTo>
                  <a:pt x="2863" y="906"/>
                </a:lnTo>
                <a:lnTo>
                  <a:pt x="2830" y="870"/>
                </a:lnTo>
                <a:lnTo>
                  <a:pt x="2821" y="857"/>
                </a:lnTo>
                <a:lnTo>
                  <a:pt x="2811" y="844"/>
                </a:lnTo>
                <a:lnTo>
                  <a:pt x="2800" y="819"/>
                </a:lnTo>
                <a:lnTo>
                  <a:pt x="2792" y="796"/>
                </a:lnTo>
                <a:lnTo>
                  <a:pt x="2791" y="775"/>
                </a:lnTo>
                <a:lnTo>
                  <a:pt x="2794" y="757"/>
                </a:lnTo>
                <a:lnTo>
                  <a:pt x="2798" y="739"/>
                </a:lnTo>
                <a:lnTo>
                  <a:pt x="2802" y="731"/>
                </a:lnTo>
                <a:lnTo>
                  <a:pt x="2805" y="742"/>
                </a:lnTo>
                <a:lnTo>
                  <a:pt x="2814" y="764"/>
                </a:lnTo>
                <a:lnTo>
                  <a:pt x="2837" y="809"/>
                </a:lnTo>
                <a:lnTo>
                  <a:pt x="2865" y="845"/>
                </a:lnTo>
                <a:lnTo>
                  <a:pt x="2872" y="849"/>
                </a:lnTo>
                <a:lnTo>
                  <a:pt x="2879" y="842"/>
                </a:lnTo>
                <a:lnTo>
                  <a:pt x="2884" y="832"/>
                </a:lnTo>
                <a:lnTo>
                  <a:pt x="2885" y="822"/>
                </a:lnTo>
                <a:lnTo>
                  <a:pt x="2884" y="810"/>
                </a:lnTo>
                <a:lnTo>
                  <a:pt x="2881" y="797"/>
                </a:lnTo>
                <a:lnTo>
                  <a:pt x="2869" y="770"/>
                </a:lnTo>
                <a:lnTo>
                  <a:pt x="2847" y="710"/>
                </a:lnTo>
                <a:lnTo>
                  <a:pt x="2846" y="694"/>
                </a:lnTo>
                <a:lnTo>
                  <a:pt x="2852" y="697"/>
                </a:lnTo>
                <a:lnTo>
                  <a:pt x="2858" y="699"/>
                </a:lnTo>
                <a:lnTo>
                  <a:pt x="2869" y="704"/>
                </a:lnTo>
                <a:lnTo>
                  <a:pt x="2891" y="717"/>
                </a:lnTo>
                <a:lnTo>
                  <a:pt x="2898" y="720"/>
                </a:lnTo>
                <a:lnTo>
                  <a:pt x="2897" y="693"/>
                </a:lnTo>
                <a:lnTo>
                  <a:pt x="2898" y="673"/>
                </a:lnTo>
                <a:lnTo>
                  <a:pt x="2902" y="660"/>
                </a:lnTo>
                <a:lnTo>
                  <a:pt x="2910" y="651"/>
                </a:lnTo>
                <a:lnTo>
                  <a:pt x="2917" y="646"/>
                </a:lnTo>
                <a:lnTo>
                  <a:pt x="2926" y="645"/>
                </a:lnTo>
                <a:lnTo>
                  <a:pt x="2933" y="645"/>
                </a:lnTo>
                <a:lnTo>
                  <a:pt x="2940" y="645"/>
                </a:lnTo>
                <a:lnTo>
                  <a:pt x="2944" y="646"/>
                </a:lnTo>
                <a:lnTo>
                  <a:pt x="2946" y="646"/>
                </a:lnTo>
                <a:lnTo>
                  <a:pt x="2947" y="645"/>
                </a:lnTo>
                <a:lnTo>
                  <a:pt x="2947" y="644"/>
                </a:lnTo>
                <a:lnTo>
                  <a:pt x="2946" y="642"/>
                </a:lnTo>
                <a:lnTo>
                  <a:pt x="2944" y="638"/>
                </a:lnTo>
                <a:lnTo>
                  <a:pt x="2942" y="633"/>
                </a:lnTo>
                <a:lnTo>
                  <a:pt x="2942" y="633"/>
                </a:lnTo>
                <a:lnTo>
                  <a:pt x="2934" y="625"/>
                </a:lnTo>
                <a:lnTo>
                  <a:pt x="2926" y="606"/>
                </a:lnTo>
                <a:lnTo>
                  <a:pt x="2923" y="590"/>
                </a:lnTo>
                <a:lnTo>
                  <a:pt x="2924" y="575"/>
                </a:lnTo>
                <a:lnTo>
                  <a:pt x="2926" y="562"/>
                </a:lnTo>
                <a:lnTo>
                  <a:pt x="2927" y="548"/>
                </a:lnTo>
                <a:lnTo>
                  <a:pt x="2929" y="541"/>
                </a:lnTo>
                <a:lnTo>
                  <a:pt x="2937" y="541"/>
                </a:lnTo>
                <a:lnTo>
                  <a:pt x="2946" y="541"/>
                </a:lnTo>
                <a:lnTo>
                  <a:pt x="2962" y="544"/>
                </a:lnTo>
                <a:lnTo>
                  <a:pt x="2978" y="548"/>
                </a:lnTo>
                <a:lnTo>
                  <a:pt x="2991" y="552"/>
                </a:lnTo>
                <a:lnTo>
                  <a:pt x="2998" y="552"/>
                </a:lnTo>
                <a:lnTo>
                  <a:pt x="3004" y="551"/>
                </a:lnTo>
                <a:lnTo>
                  <a:pt x="3008" y="546"/>
                </a:lnTo>
                <a:lnTo>
                  <a:pt x="3013" y="541"/>
                </a:lnTo>
                <a:lnTo>
                  <a:pt x="3014" y="541"/>
                </a:lnTo>
                <a:lnTo>
                  <a:pt x="3008" y="538"/>
                </a:lnTo>
                <a:lnTo>
                  <a:pt x="3007" y="533"/>
                </a:lnTo>
                <a:lnTo>
                  <a:pt x="3002" y="522"/>
                </a:lnTo>
                <a:lnTo>
                  <a:pt x="2994" y="496"/>
                </a:lnTo>
                <a:lnTo>
                  <a:pt x="2988" y="487"/>
                </a:lnTo>
                <a:lnTo>
                  <a:pt x="2997" y="484"/>
                </a:lnTo>
                <a:lnTo>
                  <a:pt x="3014" y="477"/>
                </a:lnTo>
                <a:lnTo>
                  <a:pt x="3047" y="467"/>
                </a:lnTo>
                <a:lnTo>
                  <a:pt x="3062" y="460"/>
                </a:lnTo>
                <a:lnTo>
                  <a:pt x="3073" y="447"/>
                </a:lnTo>
                <a:lnTo>
                  <a:pt x="3079" y="438"/>
                </a:lnTo>
                <a:lnTo>
                  <a:pt x="3078" y="433"/>
                </a:lnTo>
                <a:lnTo>
                  <a:pt x="3076" y="429"/>
                </a:lnTo>
                <a:lnTo>
                  <a:pt x="3072" y="423"/>
                </a:lnTo>
                <a:lnTo>
                  <a:pt x="3063" y="413"/>
                </a:lnTo>
                <a:lnTo>
                  <a:pt x="3062" y="409"/>
                </a:lnTo>
                <a:lnTo>
                  <a:pt x="3060" y="410"/>
                </a:lnTo>
                <a:lnTo>
                  <a:pt x="3050" y="419"/>
                </a:lnTo>
                <a:lnTo>
                  <a:pt x="3018" y="445"/>
                </a:lnTo>
                <a:lnTo>
                  <a:pt x="2994" y="467"/>
                </a:lnTo>
                <a:lnTo>
                  <a:pt x="2994" y="467"/>
                </a:lnTo>
                <a:lnTo>
                  <a:pt x="2992" y="447"/>
                </a:lnTo>
                <a:lnTo>
                  <a:pt x="2998" y="412"/>
                </a:lnTo>
                <a:lnTo>
                  <a:pt x="3011" y="383"/>
                </a:lnTo>
                <a:lnTo>
                  <a:pt x="3024" y="361"/>
                </a:lnTo>
                <a:lnTo>
                  <a:pt x="3033" y="345"/>
                </a:lnTo>
                <a:lnTo>
                  <a:pt x="3034" y="342"/>
                </a:lnTo>
                <a:lnTo>
                  <a:pt x="3034" y="339"/>
                </a:lnTo>
                <a:lnTo>
                  <a:pt x="3033" y="336"/>
                </a:lnTo>
                <a:lnTo>
                  <a:pt x="3031" y="335"/>
                </a:lnTo>
                <a:lnTo>
                  <a:pt x="3027" y="332"/>
                </a:lnTo>
                <a:lnTo>
                  <a:pt x="3024" y="331"/>
                </a:lnTo>
                <a:lnTo>
                  <a:pt x="3024" y="331"/>
                </a:lnTo>
                <a:lnTo>
                  <a:pt x="3015" y="329"/>
                </a:lnTo>
                <a:lnTo>
                  <a:pt x="3014" y="328"/>
                </a:lnTo>
                <a:lnTo>
                  <a:pt x="3013" y="326"/>
                </a:lnTo>
                <a:lnTo>
                  <a:pt x="3013" y="325"/>
                </a:lnTo>
                <a:lnTo>
                  <a:pt x="3014" y="323"/>
                </a:lnTo>
                <a:lnTo>
                  <a:pt x="3015" y="322"/>
                </a:lnTo>
                <a:lnTo>
                  <a:pt x="3021" y="319"/>
                </a:lnTo>
                <a:lnTo>
                  <a:pt x="3036" y="313"/>
                </a:lnTo>
                <a:lnTo>
                  <a:pt x="3052" y="306"/>
                </a:lnTo>
                <a:lnTo>
                  <a:pt x="3066" y="294"/>
                </a:lnTo>
                <a:lnTo>
                  <a:pt x="3071" y="287"/>
                </a:lnTo>
                <a:lnTo>
                  <a:pt x="3072" y="281"/>
                </a:lnTo>
                <a:lnTo>
                  <a:pt x="3071" y="276"/>
                </a:lnTo>
                <a:lnTo>
                  <a:pt x="3068" y="271"/>
                </a:lnTo>
                <a:lnTo>
                  <a:pt x="3063" y="267"/>
                </a:lnTo>
                <a:lnTo>
                  <a:pt x="3057" y="264"/>
                </a:lnTo>
                <a:lnTo>
                  <a:pt x="3046" y="258"/>
                </a:lnTo>
                <a:lnTo>
                  <a:pt x="3039" y="254"/>
                </a:lnTo>
                <a:lnTo>
                  <a:pt x="3039" y="248"/>
                </a:lnTo>
                <a:lnTo>
                  <a:pt x="3044" y="244"/>
                </a:lnTo>
                <a:lnTo>
                  <a:pt x="3050" y="241"/>
                </a:lnTo>
                <a:lnTo>
                  <a:pt x="3066" y="229"/>
                </a:lnTo>
                <a:lnTo>
                  <a:pt x="3101" y="199"/>
                </a:lnTo>
                <a:lnTo>
                  <a:pt x="3131" y="168"/>
                </a:lnTo>
                <a:lnTo>
                  <a:pt x="3137" y="161"/>
                </a:lnTo>
                <a:lnTo>
                  <a:pt x="3128" y="157"/>
                </a:lnTo>
                <a:lnTo>
                  <a:pt x="3111" y="145"/>
                </a:lnTo>
                <a:lnTo>
                  <a:pt x="3082" y="123"/>
                </a:lnTo>
                <a:lnTo>
                  <a:pt x="3056" y="94"/>
                </a:lnTo>
                <a:lnTo>
                  <a:pt x="3050" y="84"/>
                </a:lnTo>
                <a:lnTo>
                  <a:pt x="3047" y="71"/>
                </a:lnTo>
                <a:lnTo>
                  <a:pt x="3043" y="32"/>
                </a:lnTo>
                <a:lnTo>
                  <a:pt x="3039" y="3"/>
                </a:lnTo>
                <a:lnTo>
                  <a:pt x="3039" y="0"/>
                </a:lnTo>
                <a:lnTo>
                  <a:pt x="3036" y="2"/>
                </a:lnTo>
                <a:lnTo>
                  <a:pt x="3026" y="3"/>
                </a:lnTo>
                <a:lnTo>
                  <a:pt x="2988" y="7"/>
                </a:lnTo>
                <a:lnTo>
                  <a:pt x="2959" y="10"/>
                </a:lnTo>
                <a:lnTo>
                  <a:pt x="2958" y="10"/>
                </a:lnTo>
                <a:lnTo>
                  <a:pt x="2955" y="25"/>
                </a:lnTo>
                <a:lnTo>
                  <a:pt x="2950" y="52"/>
                </a:lnTo>
                <a:lnTo>
                  <a:pt x="2942" y="113"/>
                </a:lnTo>
                <a:lnTo>
                  <a:pt x="2927" y="177"/>
                </a:lnTo>
                <a:lnTo>
                  <a:pt x="2921" y="191"/>
                </a:lnTo>
                <a:lnTo>
                  <a:pt x="2920" y="193"/>
                </a:lnTo>
                <a:lnTo>
                  <a:pt x="2915" y="194"/>
                </a:lnTo>
                <a:lnTo>
                  <a:pt x="2913" y="196"/>
                </a:lnTo>
                <a:lnTo>
                  <a:pt x="2913" y="196"/>
                </a:lnTo>
                <a:lnTo>
                  <a:pt x="2911" y="197"/>
                </a:lnTo>
                <a:lnTo>
                  <a:pt x="2911" y="199"/>
                </a:lnTo>
                <a:lnTo>
                  <a:pt x="2910" y="205"/>
                </a:lnTo>
                <a:lnTo>
                  <a:pt x="2898" y="219"/>
                </a:lnTo>
                <a:lnTo>
                  <a:pt x="2869" y="231"/>
                </a:lnTo>
                <a:lnTo>
                  <a:pt x="2858" y="232"/>
                </a:lnTo>
                <a:lnTo>
                  <a:pt x="2839" y="234"/>
                </a:lnTo>
                <a:lnTo>
                  <a:pt x="2805" y="235"/>
                </a:lnTo>
                <a:lnTo>
                  <a:pt x="2772" y="239"/>
                </a:lnTo>
                <a:lnTo>
                  <a:pt x="2763" y="241"/>
                </a:lnTo>
                <a:lnTo>
                  <a:pt x="2760" y="245"/>
                </a:lnTo>
                <a:lnTo>
                  <a:pt x="2747" y="267"/>
                </a:lnTo>
                <a:lnTo>
                  <a:pt x="2704" y="339"/>
                </a:lnTo>
                <a:lnTo>
                  <a:pt x="2671" y="396"/>
                </a:lnTo>
                <a:lnTo>
                  <a:pt x="2669" y="399"/>
                </a:lnTo>
                <a:lnTo>
                  <a:pt x="2665" y="412"/>
                </a:lnTo>
                <a:lnTo>
                  <a:pt x="2658" y="432"/>
                </a:lnTo>
                <a:lnTo>
                  <a:pt x="2636" y="464"/>
                </a:lnTo>
                <a:lnTo>
                  <a:pt x="2592" y="493"/>
                </a:lnTo>
                <a:lnTo>
                  <a:pt x="2576" y="500"/>
                </a:lnTo>
                <a:lnTo>
                  <a:pt x="2575" y="502"/>
                </a:lnTo>
                <a:lnTo>
                  <a:pt x="2574" y="506"/>
                </a:lnTo>
                <a:lnTo>
                  <a:pt x="2566" y="522"/>
                </a:lnTo>
                <a:lnTo>
                  <a:pt x="2562" y="533"/>
                </a:lnTo>
                <a:lnTo>
                  <a:pt x="2562" y="533"/>
                </a:lnTo>
                <a:lnTo>
                  <a:pt x="2561" y="538"/>
                </a:lnTo>
                <a:lnTo>
                  <a:pt x="2561" y="542"/>
                </a:lnTo>
                <a:lnTo>
                  <a:pt x="2561" y="552"/>
                </a:lnTo>
                <a:lnTo>
                  <a:pt x="2561" y="573"/>
                </a:lnTo>
                <a:lnTo>
                  <a:pt x="2552" y="584"/>
                </a:lnTo>
                <a:lnTo>
                  <a:pt x="2542" y="589"/>
                </a:lnTo>
                <a:lnTo>
                  <a:pt x="2532" y="594"/>
                </a:lnTo>
                <a:lnTo>
                  <a:pt x="2503" y="613"/>
                </a:lnTo>
                <a:lnTo>
                  <a:pt x="2437" y="660"/>
                </a:lnTo>
                <a:lnTo>
                  <a:pt x="2390" y="697"/>
                </a:lnTo>
                <a:lnTo>
                  <a:pt x="2390" y="691"/>
                </a:lnTo>
                <a:lnTo>
                  <a:pt x="2391" y="671"/>
                </a:lnTo>
                <a:lnTo>
                  <a:pt x="2391" y="655"/>
                </a:lnTo>
                <a:lnTo>
                  <a:pt x="2392" y="654"/>
                </a:lnTo>
                <a:lnTo>
                  <a:pt x="2391" y="645"/>
                </a:lnTo>
                <a:lnTo>
                  <a:pt x="2391" y="626"/>
                </a:lnTo>
                <a:lnTo>
                  <a:pt x="2390" y="589"/>
                </a:lnTo>
                <a:lnTo>
                  <a:pt x="2392" y="573"/>
                </a:lnTo>
                <a:lnTo>
                  <a:pt x="2398" y="560"/>
                </a:lnTo>
                <a:lnTo>
                  <a:pt x="2404" y="554"/>
                </a:lnTo>
                <a:lnTo>
                  <a:pt x="2397" y="545"/>
                </a:lnTo>
                <a:lnTo>
                  <a:pt x="2375" y="519"/>
                </a:lnTo>
                <a:lnTo>
                  <a:pt x="2358" y="499"/>
                </a:lnTo>
                <a:lnTo>
                  <a:pt x="2358" y="497"/>
                </a:lnTo>
                <a:lnTo>
                  <a:pt x="2348" y="496"/>
                </a:lnTo>
                <a:lnTo>
                  <a:pt x="2342" y="496"/>
                </a:lnTo>
                <a:lnTo>
                  <a:pt x="2339" y="499"/>
                </a:lnTo>
                <a:lnTo>
                  <a:pt x="2339" y="500"/>
                </a:lnTo>
                <a:lnTo>
                  <a:pt x="2340" y="504"/>
                </a:lnTo>
                <a:lnTo>
                  <a:pt x="2343" y="513"/>
                </a:lnTo>
                <a:lnTo>
                  <a:pt x="2343" y="518"/>
                </a:lnTo>
                <a:lnTo>
                  <a:pt x="2340" y="523"/>
                </a:lnTo>
                <a:lnTo>
                  <a:pt x="2336" y="531"/>
                </a:lnTo>
                <a:lnTo>
                  <a:pt x="2329" y="536"/>
                </a:lnTo>
                <a:lnTo>
                  <a:pt x="2329" y="536"/>
                </a:lnTo>
                <a:lnTo>
                  <a:pt x="2321" y="538"/>
                </a:lnTo>
                <a:lnTo>
                  <a:pt x="2311" y="538"/>
                </a:lnTo>
                <a:lnTo>
                  <a:pt x="2307" y="539"/>
                </a:lnTo>
                <a:lnTo>
                  <a:pt x="2301" y="538"/>
                </a:lnTo>
                <a:lnTo>
                  <a:pt x="2297" y="533"/>
                </a:lnTo>
                <a:lnTo>
                  <a:pt x="2287" y="525"/>
                </a:lnTo>
                <a:lnTo>
                  <a:pt x="2281" y="518"/>
                </a:lnTo>
                <a:lnTo>
                  <a:pt x="2284" y="512"/>
                </a:lnTo>
                <a:lnTo>
                  <a:pt x="2291" y="494"/>
                </a:lnTo>
                <a:lnTo>
                  <a:pt x="2307" y="451"/>
                </a:lnTo>
                <a:lnTo>
                  <a:pt x="2313" y="409"/>
                </a:lnTo>
                <a:lnTo>
                  <a:pt x="2311" y="400"/>
                </a:lnTo>
                <a:lnTo>
                  <a:pt x="2303" y="396"/>
                </a:lnTo>
                <a:lnTo>
                  <a:pt x="2287" y="389"/>
                </a:lnTo>
                <a:lnTo>
                  <a:pt x="2256" y="383"/>
                </a:lnTo>
                <a:lnTo>
                  <a:pt x="2243" y="384"/>
                </a:lnTo>
                <a:lnTo>
                  <a:pt x="2232" y="390"/>
                </a:lnTo>
                <a:lnTo>
                  <a:pt x="2227" y="393"/>
                </a:lnTo>
                <a:lnTo>
                  <a:pt x="2226" y="394"/>
                </a:lnTo>
                <a:lnTo>
                  <a:pt x="2221" y="404"/>
                </a:lnTo>
                <a:lnTo>
                  <a:pt x="2206" y="438"/>
                </a:lnTo>
                <a:lnTo>
                  <a:pt x="2193" y="464"/>
                </a:lnTo>
                <a:lnTo>
                  <a:pt x="2193" y="464"/>
                </a:lnTo>
                <a:lnTo>
                  <a:pt x="2194" y="467"/>
                </a:lnTo>
                <a:lnTo>
                  <a:pt x="2194" y="468"/>
                </a:lnTo>
                <a:lnTo>
                  <a:pt x="2191" y="470"/>
                </a:lnTo>
                <a:lnTo>
                  <a:pt x="2187" y="470"/>
                </a:lnTo>
                <a:lnTo>
                  <a:pt x="2182" y="470"/>
                </a:lnTo>
                <a:lnTo>
                  <a:pt x="2172" y="468"/>
                </a:lnTo>
                <a:lnTo>
                  <a:pt x="2158" y="464"/>
                </a:lnTo>
                <a:lnTo>
                  <a:pt x="2159" y="464"/>
                </a:lnTo>
                <a:lnTo>
                  <a:pt x="2158" y="468"/>
                </a:lnTo>
                <a:lnTo>
                  <a:pt x="2158" y="480"/>
                </a:lnTo>
                <a:lnTo>
                  <a:pt x="2153" y="507"/>
                </a:lnTo>
                <a:lnTo>
                  <a:pt x="2148" y="528"/>
                </a:lnTo>
                <a:lnTo>
                  <a:pt x="2146" y="529"/>
                </a:lnTo>
                <a:lnTo>
                  <a:pt x="2145" y="532"/>
                </a:lnTo>
                <a:lnTo>
                  <a:pt x="2148" y="539"/>
                </a:lnTo>
                <a:lnTo>
                  <a:pt x="2151" y="548"/>
                </a:lnTo>
                <a:lnTo>
                  <a:pt x="2162" y="574"/>
                </a:lnTo>
                <a:lnTo>
                  <a:pt x="2185" y="631"/>
                </a:lnTo>
                <a:lnTo>
                  <a:pt x="2191" y="648"/>
                </a:lnTo>
                <a:lnTo>
                  <a:pt x="2187" y="655"/>
                </a:lnTo>
                <a:lnTo>
                  <a:pt x="2178" y="668"/>
                </a:lnTo>
                <a:lnTo>
                  <a:pt x="2158" y="691"/>
                </a:lnTo>
                <a:lnTo>
                  <a:pt x="2146" y="700"/>
                </a:lnTo>
                <a:lnTo>
                  <a:pt x="2135" y="704"/>
                </a:lnTo>
                <a:lnTo>
                  <a:pt x="2129" y="704"/>
                </a:lnTo>
                <a:lnTo>
                  <a:pt x="2122" y="704"/>
                </a:lnTo>
                <a:lnTo>
                  <a:pt x="2116" y="704"/>
                </a:lnTo>
                <a:lnTo>
                  <a:pt x="2111" y="702"/>
                </a:lnTo>
                <a:lnTo>
                  <a:pt x="2107" y="697"/>
                </a:lnTo>
                <a:lnTo>
                  <a:pt x="2104" y="693"/>
                </a:lnTo>
                <a:lnTo>
                  <a:pt x="2101" y="688"/>
                </a:lnTo>
                <a:lnTo>
                  <a:pt x="2098" y="677"/>
                </a:lnTo>
                <a:lnTo>
                  <a:pt x="2091" y="654"/>
                </a:lnTo>
                <a:lnTo>
                  <a:pt x="2091" y="654"/>
                </a:lnTo>
                <a:lnTo>
                  <a:pt x="2088" y="648"/>
                </a:lnTo>
                <a:lnTo>
                  <a:pt x="2087" y="636"/>
                </a:lnTo>
                <a:lnTo>
                  <a:pt x="2087" y="607"/>
                </a:lnTo>
                <a:lnTo>
                  <a:pt x="2090" y="536"/>
                </a:lnTo>
                <a:lnTo>
                  <a:pt x="2098" y="483"/>
                </a:lnTo>
                <a:lnTo>
                  <a:pt x="2098" y="478"/>
                </a:lnTo>
                <a:lnTo>
                  <a:pt x="2095" y="475"/>
                </a:lnTo>
                <a:lnTo>
                  <a:pt x="2093" y="475"/>
                </a:lnTo>
                <a:lnTo>
                  <a:pt x="2087" y="478"/>
                </a:lnTo>
                <a:lnTo>
                  <a:pt x="2081" y="481"/>
                </a:lnTo>
                <a:lnTo>
                  <a:pt x="2066" y="490"/>
                </a:lnTo>
                <a:lnTo>
                  <a:pt x="2053" y="496"/>
                </a:lnTo>
                <a:lnTo>
                  <a:pt x="2048" y="493"/>
                </a:lnTo>
                <a:lnTo>
                  <a:pt x="2048" y="486"/>
                </a:lnTo>
                <a:lnTo>
                  <a:pt x="2049" y="478"/>
                </a:lnTo>
                <a:lnTo>
                  <a:pt x="2055" y="462"/>
                </a:lnTo>
                <a:lnTo>
                  <a:pt x="2065" y="447"/>
                </a:lnTo>
                <a:lnTo>
                  <a:pt x="2084" y="416"/>
                </a:lnTo>
                <a:lnTo>
                  <a:pt x="2091" y="399"/>
                </a:lnTo>
                <a:lnTo>
                  <a:pt x="2116" y="389"/>
                </a:lnTo>
                <a:lnTo>
                  <a:pt x="2191" y="357"/>
                </a:lnTo>
                <a:lnTo>
                  <a:pt x="2249" y="332"/>
                </a:lnTo>
                <a:lnTo>
                  <a:pt x="2253" y="331"/>
                </a:lnTo>
                <a:lnTo>
                  <a:pt x="2256" y="329"/>
                </a:lnTo>
                <a:lnTo>
                  <a:pt x="2256" y="328"/>
                </a:lnTo>
                <a:lnTo>
                  <a:pt x="2255" y="325"/>
                </a:lnTo>
                <a:lnTo>
                  <a:pt x="2250" y="322"/>
                </a:lnTo>
                <a:lnTo>
                  <a:pt x="2243" y="319"/>
                </a:lnTo>
                <a:lnTo>
                  <a:pt x="2227" y="312"/>
                </a:lnTo>
                <a:lnTo>
                  <a:pt x="2191" y="296"/>
                </a:lnTo>
                <a:lnTo>
                  <a:pt x="2185" y="290"/>
                </a:lnTo>
                <a:lnTo>
                  <a:pt x="2190" y="291"/>
                </a:lnTo>
                <a:lnTo>
                  <a:pt x="2188" y="294"/>
                </a:lnTo>
                <a:lnTo>
                  <a:pt x="2182" y="299"/>
                </a:lnTo>
                <a:lnTo>
                  <a:pt x="2174" y="305"/>
                </a:lnTo>
                <a:lnTo>
                  <a:pt x="2149" y="316"/>
                </a:lnTo>
                <a:lnTo>
                  <a:pt x="2108" y="335"/>
                </a:lnTo>
                <a:lnTo>
                  <a:pt x="2113" y="335"/>
                </a:lnTo>
                <a:lnTo>
                  <a:pt x="2100" y="335"/>
                </a:lnTo>
                <a:lnTo>
                  <a:pt x="2085" y="335"/>
                </a:lnTo>
                <a:lnTo>
                  <a:pt x="2081" y="335"/>
                </a:lnTo>
                <a:lnTo>
                  <a:pt x="2077" y="332"/>
                </a:lnTo>
                <a:lnTo>
                  <a:pt x="2075" y="331"/>
                </a:lnTo>
                <a:lnTo>
                  <a:pt x="2071" y="325"/>
                </a:lnTo>
                <a:lnTo>
                  <a:pt x="2058" y="316"/>
                </a:lnTo>
                <a:lnTo>
                  <a:pt x="2048" y="310"/>
                </a:lnTo>
                <a:lnTo>
                  <a:pt x="2045" y="312"/>
                </a:lnTo>
                <a:lnTo>
                  <a:pt x="2043" y="315"/>
                </a:lnTo>
                <a:lnTo>
                  <a:pt x="2039" y="322"/>
                </a:lnTo>
                <a:lnTo>
                  <a:pt x="2029" y="329"/>
                </a:lnTo>
                <a:lnTo>
                  <a:pt x="2013" y="335"/>
                </a:lnTo>
                <a:lnTo>
                  <a:pt x="2004" y="335"/>
                </a:lnTo>
                <a:lnTo>
                  <a:pt x="2006" y="328"/>
                </a:lnTo>
                <a:lnTo>
                  <a:pt x="2013" y="305"/>
                </a:lnTo>
                <a:lnTo>
                  <a:pt x="2017" y="286"/>
                </a:lnTo>
                <a:lnTo>
                  <a:pt x="2019" y="284"/>
                </a:lnTo>
                <a:lnTo>
                  <a:pt x="2006" y="296"/>
                </a:lnTo>
                <a:lnTo>
                  <a:pt x="1987" y="315"/>
                </a:lnTo>
                <a:lnTo>
                  <a:pt x="1951" y="339"/>
                </a:lnTo>
                <a:lnTo>
                  <a:pt x="1910" y="358"/>
                </a:lnTo>
                <a:lnTo>
                  <a:pt x="1897" y="364"/>
                </a:lnTo>
                <a:lnTo>
                  <a:pt x="1898" y="349"/>
                </a:lnTo>
                <a:lnTo>
                  <a:pt x="1900" y="332"/>
                </a:lnTo>
                <a:lnTo>
                  <a:pt x="1901" y="323"/>
                </a:lnTo>
                <a:lnTo>
                  <a:pt x="1903" y="323"/>
                </a:lnTo>
                <a:lnTo>
                  <a:pt x="1906" y="325"/>
                </a:lnTo>
                <a:lnTo>
                  <a:pt x="1907" y="326"/>
                </a:lnTo>
                <a:lnTo>
                  <a:pt x="1910" y="328"/>
                </a:lnTo>
                <a:lnTo>
                  <a:pt x="1914" y="328"/>
                </a:lnTo>
                <a:lnTo>
                  <a:pt x="1917" y="326"/>
                </a:lnTo>
                <a:lnTo>
                  <a:pt x="1907" y="331"/>
                </a:lnTo>
                <a:lnTo>
                  <a:pt x="1893" y="336"/>
                </a:lnTo>
                <a:lnTo>
                  <a:pt x="1872" y="339"/>
                </a:lnTo>
                <a:lnTo>
                  <a:pt x="1845" y="339"/>
                </a:lnTo>
                <a:lnTo>
                  <a:pt x="1835" y="338"/>
                </a:lnTo>
                <a:lnTo>
                  <a:pt x="1839" y="329"/>
                </a:lnTo>
                <a:lnTo>
                  <a:pt x="1853" y="310"/>
                </a:lnTo>
                <a:lnTo>
                  <a:pt x="1872" y="291"/>
                </a:lnTo>
                <a:lnTo>
                  <a:pt x="1916" y="258"/>
                </a:lnTo>
                <a:lnTo>
                  <a:pt x="1951" y="236"/>
                </a:lnTo>
                <a:lnTo>
                  <a:pt x="1948" y="238"/>
                </a:lnTo>
                <a:lnTo>
                  <a:pt x="1933" y="239"/>
                </a:lnTo>
                <a:lnTo>
                  <a:pt x="1881" y="244"/>
                </a:lnTo>
                <a:lnTo>
                  <a:pt x="1842" y="248"/>
                </a:lnTo>
                <a:lnTo>
                  <a:pt x="1840" y="248"/>
                </a:lnTo>
                <a:lnTo>
                  <a:pt x="1836" y="248"/>
                </a:lnTo>
                <a:lnTo>
                  <a:pt x="1817" y="244"/>
                </a:lnTo>
                <a:lnTo>
                  <a:pt x="1748" y="228"/>
                </a:lnTo>
                <a:lnTo>
                  <a:pt x="1696" y="216"/>
                </a:lnTo>
                <a:lnTo>
                  <a:pt x="1693" y="215"/>
                </a:lnTo>
                <a:lnTo>
                  <a:pt x="1691" y="206"/>
                </a:lnTo>
                <a:lnTo>
                  <a:pt x="1690" y="180"/>
                </a:lnTo>
                <a:lnTo>
                  <a:pt x="1688" y="160"/>
                </a:lnTo>
                <a:lnTo>
                  <a:pt x="1688" y="158"/>
                </a:lnTo>
                <a:lnTo>
                  <a:pt x="1687" y="158"/>
                </a:lnTo>
                <a:lnTo>
                  <a:pt x="1680" y="158"/>
                </a:lnTo>
                <a:lnTo>
                  <a:pt x="1656" y="158"/>
                </a:lnTo>
                <a:lnTo>
                  <a:pt x="1639" y="158"/>
                </a:lnTo>
                <a:lnTo>
                  <a:pt x="1639" y="157"/>
                </a:lnTo>
                <a:lnTo>
                  <a:pt x="1636" y="164"/>
                </a:lnTo>
                <a:lnTo>
                  <a:pt x="1632" y="186"/>
                </a:lnTo>
                <a:lnTo>
                  <a:pt x="1629" y="203"/>
                </a:lnTo>
                <a:lnTo>
                  <a:pt x="1629" y="203"/>
                </a:lnTo>
                <a:lnTo>
                  <a:pt x="1619" y="205"/>
                </a:lnTo>
                <a:lnTo>
                  <a:pt x="1552" y="205"/>
                </a:lnTo>
                <a:lnTo>
                  <a:pt x="1325" y="209"/>
                </a:lnTo>
                <a:lnTo>
                  <a:pt x="1151" y="210"/>
                </a:lnTo>
                <a:lnTo>
                  <a:pt x="1142" y="210"/>
                </a:lnTo>
                <a:lnTo>
                  <a:pt x="1125" y="209"/>
                </a:lnTo>
                <a:lnTo>
                  <a:pt x="1007" y="189"/>
                </a:lnTo>
                <a:lnTo>
                  <a:pt x="607" y="120"/>
                </a:lnTo>
                <a:lnTo>
                  <a:pt x="303" y="68"/>
                </a:lnTo>
                <a:lnTo>
                  <a:pt x="287" y="65"/>
                </a:lnTo>
                <a:lnTo>
                  <a:pt x="290" y="74"/>
                </a:lnTo>
                <a:lnTo>
                  <a:pt x="295" y="91"/>
                </a:lnTo>
                <a:lnTo>
                  <a:pt x="296" y="106"/>
                </a:lnTo>
                <a:lnTo>
                  <a:pt x="295" y="120"/>
                </a:lnTo>
                <a:lnTo>
                  <a:pt x="293" y="147"/>
                </a:lnTo>
                <a:lnTo>
                  <a:pt x="296" y="151"/>
                </a:lnTo>
                <a:lnTo>
                  <a:pt x="296" y="157"/>
                </a:lnTo>
                <a:lnTo>
                  <a:pt x="293" y="161"/>
                </a:lnTo>
                <a:lnTo>
                  <a:pt x="289" y="165"/>
                </a:lnTo>
                <a:lnTo>
                  <a:pt x="282" y="170"/>
                </a:lnTo>
                <a:lnTo>
                  <a:pt x="264" y="177"/>
                </a:lnTo>
                <a:lnTo>
                  <a:pt x="234" y="187"/>
                </a:lnTo>
                <a:lnTo>
                  <a:pt x="231" y="189"/>
                </a:lnTo>
                <a:lnTo>
                  <a:pt x="229" y="186"/>
                </a:lnTo>
                <a:lnTo>
                  <a:pt x="231" y="181"/>
                </a:lnTo>
                <a:lnTo>
                  <a:pt x="234" y="177"/>
                </a:lnTo>
                <a:lnTo>
                  <a:pt x="238" y="173"/>
                </a:lnTo>
                <a:lnTo>
                  <a:pt x="247" y="161"/>
                </a:lnTo>
                <a:lnTo>
                  <a:pt x="255" y="149"/>
                </a:lnTo>
                <a:lnTo>
                  <a:pt x="258" y="135"/>
                </a:lnTo>
                <a:lnTo>
                  <a:pt x="257" y="126"/>
                </a:lnTo>
                <a:lnTo>
                  <a:pt x="254" y="118"/>
                </a:lnTo>
                <a:lnTo>
                  <a:pt x="254" y="118"/>
                </a:lnTo>
                <a:lnTo>
                  <a:pt x="247" y="109"/>
                </a:lnTo>
                <a:lnTo>
                  <a:pt x="231" y="93"/>
                </a:lnTo>
                <a:lnTo>
                  <a:pt x="212" y="78"/>
                </a:lnTo>
                <a:lnTo>
                  <a:pt x="193" y="68"/>
                </a:lnTo>
                <a:lnTo>
                  <a:pt x="176" y="63"/>
                </a:lnTo>
                <a:lnTo>
                  <a:pt x="170" y="63"/>
                </a:lnTo>
                <a:lnTo>
                  <a:pt x="167" y="63"/>
                </a:lnTo>
                <a:lnTo>
                  <a:pt x="166" y="64"/>
                </a:lnTo>
                <a:lnTo>
                  <a:pt x="164" y="65"/>
                </a:lnTo>
                <a:lnTo>
                  <a:pt x="164" y="67"/>
                </a:lnTo>
                <a:lnTo>
                  <a:pt x="164" y="67"/>
                </a:lnTo>
                <a:lnTo>
                  <a:pt x="161" y="78"/>
                </a:lnTo>
                <a:lnTo>
                  <a:pt x="158" y="109"/>
                </a:lnTo>
                <a:lnTo>
                  <a:pt x="155" y="191"/>
                </a:lnTo>
                <a:lnTo>
                  <a:pt x="155" y="265"/>
                </a:lnTo>
                <a:lnTo>
                  <a:pt x="155" y="277"/>
                </a:lnTo>
                <a:lnTo>
                  <a:pt x="154" y="299"/>
                </a:lnTo>
                <a:lnTo>
                  <a:pt x="145" y="341"/>
                </a:lnTo>
                <a:lnTo>
                  <a:pt x="129" y="381"/>
                </a:lnTo>
                <a:lnTo>
                  <a:pt x="80" y="458"/>
                </a:lnTo>
                <a:lnTo>
                  <a:pt x="34" y="510"/>
                </a:lnTo>
                <a:lnTo>
                  <a:pt x="42" y="523"/>
                </a:lnTo>
                <a:lnTo>
                  <a:pt x="48" y="535"/>
                </a:lnTo>
                <a:lnTo>
                  <a:pt x="50" y="549"/>
                </a:lnTo>
                <a:lnTo>
                  <a:pt x="50" y="562"/>
                </a:lnTo>
                <a:lnTo>
                  <a:pt x="47" y="575"/>
                </a:lnTo>
                <a:lnTo>
                  <a:pt x="37" y="603"/>
                </a:lnTo>
                <a:lnTo>
                  <a:pt x="22" y="631"/>
                </a:lnTo>
                <a:lnTo>
                  <a:pt x="9" y="655"/>
                </a:lnTo>
                <a:lnTo>
                  <a:pt x="5" y="667"/>
                </a:lnTo>
                <a:lnTo>
                  <a:pt x="0" y="667"/>
                </a:lnTo>
                <a:lnTo>
                  <a:pt x="0" y="671"/>
                </a:lnTo>
                <a:lnTo>
                  <a:pt x="0" y="675"/>
                </a:lnTo>
                <a:lnTo>
                  <a:pt x="5" y="691"/>
                </a:lnTo>
                <a:lnTo>
                  <a:pt x="16" y="738"/>
                </a:lnTo>
                <a:lnTo>
                  <a:pt x="48" y="835"/>
                </a:lnTo>
                <a:lnTo>
                  <a:pt x="60" y="851"/>
                </a:lnTo>
                <a:lnTo>
                  <a:pt x="58" y="857"/>
                </a:lnTo>
                <a:lnTo>
                  <a:pt x="58" y="868"/>
                </a:lnTo>
                <a:lnTo>
                  <a:pt x="54" y="896"/>
                </a:lnTo>
                <a:lnTo>
                  <a:pt x="51" y="920"/>
                </a:lnTo>
                <a:lnTo>
                  <a:pt x="51" y="925"/>
                </a:lnTo>
                <a:lnTo>
                  <a:pt x="57" y="932"/>
                </a:lnTo>
                <a:lnTo>
                  <a:pt x="70" y="946"/>
                </a:lnTo>
                <a:lnTo>
                  <a:pt x="80" y="961"/>
                </a:lnTo>
                <a:lnTo>
                  <a:pt x="86" y="975"/>
                </a:lnTo>
                <a:lnTo>
                  <a:pt x="84" y="991"/>
                </a:lnTo>
                <a:lnTo>
                  <a:pt x="76" y="1007"/>
                </a:lnTo>
                <a:lnTo>
                  <a:pt x="69" y="1016"/>
                </a:lnTo>
                <a:lnTo>
                  <a:pt x="77" y="1026"/>
                </a:lnTo>
                <a:lnTo>
                  <a:pt x="93" y="1045"/>
                </a:lnTo>
                <a:lnTo>
                  <a:pt x="118" y="1086"/>
                </a:lnTo>
                <a:lnTo>
                  <a:pt x="125" y="1132"/>
                </a:lnTo>
                <a:lnTo>
                  <a:pt x="124" y="1145"/>
                </a:lnTo>
                <a:lnTo>
                  <a:pt x="124" y="1148"/>
                </a:lnTo>
                <a:lnTo>
                  <a:pt x="125" y="1154"/>
                </a:lnTo>
                <a:lnTo>
                  <a:pt x="128" y="1159"/>
                </a:lnTo>
                <a:lnTo>
                  <a:pt x="135" y="1170"/>
                </a:lnTo>
                <a:lnTo>
                  <a:pt x="142" y="1172"/>
                </a:lnTo>
                <a:lnTo>
                  <a:pt x="158" y="1183"/>
                </a:lnTo>
                <a:lnTo>
                  <a:pt x="199" y="1209"/>
                </a:lnTo>
                <a:lnTo>
                  <a:pt x="279" y="1280"/>
                </a:lnTo>
                <a:lnTo>
                  <a:pt x="305" y="1317"/>
                </a:lnTo>
                <a:lnTo>
                  <a:pt x="312" y="1335"/>
                </a:lnTo>
                <a:lnTo>
                  <a:pt x="313" y="1352"/>
                </a:lnTo>
                <a:lnTo>
                  <a:pt x="310" y="1367"/>
                </a:lnTo>
                <a:lnTo>
                  <a:pt x="310" y="1367"/>
                </a:lnTo>
                <a:lnTo>
                  <a:pt x="313" y="1367"/>
                </a:lnTo>
                <a:lnTo>
                  <a:pt x="335" y="1367"/>
                </a:lnTo>
                <a:lnTo>
                  <a:pt x="410" y="1367"/>
                </a:lnTo>
                <a:lnTo>
                  <a:pt x="468" y="1367"/>
                </a:lnTo>
                <a:lnTo>
                  <a:pt x="473" y="1365"/>
                </a:lnTo>
                <a:lnTo>
                  <a:pt x="480" y="1374"/>
                </a:lnTo>
                <a:lnTo>
                  <a:pt x="506" y="1397"/>
                </a:lnTo>
                <a:lnTo>
                  <a:pt x="526" y="1416"/>
                </a:lnTo>
                <a:lnTo>
                  <a:pt x="528" y="1416"/>
                </a:lnTo>
                <a:lnTo>
                  <a:pt x="534" y="1419"/>
                </a:lnTo>
                <a:lnTo>
                  <a:pt x="554" y="1427"/>
                </a:lnTo>
                <a:lnTo>
                  <a:pt x="570" y="1433"/>
                </a:lnTo>
                <a:lnTo>
                  <a:pt x="571" y="1433"/>
                </a:lnTo>
                <a:lnTo>
                  <a:pt x="583" y="1441"/>
                </a:lnTo>
                <a:lnTo>
                  <a:pt x="612" y="1461"/>
                </a:lnTo>
                <a:lnTo>
                  <a:pt x="678" y="1510"/>
                </a:lnTo>
                <a:lnTo>
                  <a:pt x="744" y="1545"/>
                </a:lnTo>
                <a:lnTo>
                  <a:pt x="758" y="1546"/>
                </a:lnTo>
                <a:lnTo>
                  <a:pt x="760" y="1546"/>
                </a:lnTo>
                <a:lnTo>
                  <a:pt x="773" y="1546"/>
                </a:lnTo>
                <a:lnTo>
                  <a:pt x="815" y="1546"/>
                </a:lnTo>
                <a:lnTo>
                  <a:pt x="848" y="1546"/>
                </a:lnTo>
                <a:lnTo>
                  <a:pt x="851" y="1546"/>
                </a:lnTo>
                <a:lnTo>
                  <a:pt x="858" y="1546"/>
                </a:lnTo>
                <a:lnTo>
                  <a:pt x="865" y="1543"/>
                </a:lnTo>
                <a:lnTo>
                  <a:pt x="871" y="1541"/>
                </a:lnTo>
                <a:lnTo>
                  <a:pt x="876" y="1536"/>
                </a:lnTo>
                <a:lnTo>
                  <a:pt x="884" y="1527"/>
                </a:lnTo>
                <a:lnTo>
                  <a:pt x="893" y="1517"/>
                </a:lnTo>
                <a:lnTo>
                  <a:pt x="900" y="1510"/>
                </a:lnTo>
                <a:lnTo>
                  <a:pt x="909" y="1507"/>
                </a:lnTo>
                <a:lnTo>
                  <a:pt x="910" y="1507"/>
                </a:lnTo>
                <a:lnTo>
                  <a:pt x="929" y="1509"/>
                </a:lnTo>
                <a:lnTo>
                  <a:pt x="960" y="1510"/>
                </a:lnTo>
                <a:lnTo>
                  <a:pt x="1002" y="1527"/>
                </a:lnTo>
                <a:lnTo>
                  <a:pt x="1041" y="1559"/>
                </a:lnTo>
                <a:lnTo>
                  <a:pt x="1054" y="1569"/>
                </a:lnTo>
                <a:lnTo>
                  <a:pt x="1055" y="1572"/>
                </a:lnTo>
                <a:lnTo>
                  <a:pt x="1067" y="1590"/>
                </a:lnTo>
                <a:lnTo>
                  <a:pt x="1107" y="1649"/>
                </a:lnTo>
                <a:lnTo>
                  <a:pt x="1138" y="1696"/>
                </a:lnTo>
                <a:lnTo>
                  <a:pt x="1141" y="1697"/>
                </a:lnTo>
                <a:lnTo>
                  <a:pt x="1142" y="1700"/>
                </a:lnTo>
                <a:lnTo>
                  <a:pt x="1152" y="1709"/>
                </a:lnTo>
                <a:lnTo>
                  <a:pt x="1186" y="1732"/>
                </a:lnTo>
                <a:lnTo>
                  <a:pt x="1202" y="1738"/>
                </a:lnTo>
                <a:lnTo>
                  <a:pt x="1209" y="1739"/>
                </a:lnTo>
                <a:lnTo>
                  <a:pt x="1216" y="1738"/>
                </a:lnTo>
                <a:lnTo>
                  <a:pt x="1220" y="1733"/>
                </a:lnTo>
                <a:lnTo>
                  <a:pt x="1222" y="1733"/>
                </a:lnTo>
                <a:lnTo>
                  <a:pt x="1228" y="1726"/>
                </a:lnTo>
                <a:lnTo>
                  <a:pt x="1245" y="1706"/>
                </a:lnTo>
                <a:lnTo>
                  <a:pt x="1259" y="1688"/>
                </a:lnTo>
                <a:lnTo>
                  <a:pt x="1261" y="1687"/>
                </a:lnTo>
                <a:lnTo>
                  <a:pt x="1265" y="1685"/>
                </a:lnTo>
                <a:lnTo>
                  <a:pt x="1273" y="1684"/>
                </a:lnTo>
                <a:lnTo>
                  <a:pt x="1283" y="1685"/>
                </a:lnTo>
                <a:lnTo>
                  <a:pt x="1309" y="1690"/>
                </a:lnTo>
                <a:lnTo>
                  <a:pt x="1362" y="1706"/>
                </a:lnTo>
                <a:lnTo>
                  <a:pt x="1383" y="1722"/>
                </a:lnTo>
                <a:lnTo>
                  <a:pt x="1383" y="1726"/>
                </a:lnTo>
                <a:lnTo>
                  <a:pt x="1384" y="1733"/>
                </a:lnTo>
                <a:lnTo>
                  <a:pt x="1383" y="1740"/>
                </a:lnTo>
                <a:lnTo>
                  <a:pt x="1381" y="1746"/>
                </a:lnTo>
                <a:lnTo>
                  <a:pt x="1380" y="1761"/>
                </a:lnTo>
                <a:lnTo>
                  <a:pt x="1381" y="1765"/>
                </a:lnTo>
                <a:lnTo>
                  <a:pt x="1386" y="1772"/>
                </a:lnTo>
                <a:lnTo>
                  <a:pt x="1401" y="1791"/>
                </a:lnTo>
                <a:lnTo>
                  <a:pt x="1438" y="1836"/>
                </a:lnTo>
                <a:lnTo>
                  <a:pt x="1464" y="1869"/>
                </a:lnTo>
                <a:lnTo>
                  <a:pt x="1465" y="1871"/>
                </a:lnTo>
                <a:lnTo>
                  <a:pt x="1464" y="1881"/>
                </a:lnTo>
                <a:lnTo>
                  <a:pt x="1464" y="1907"/>
                </a:lnTo>
                <a:lnTo>
                  <a:pt x="1464" y="1927"/>
                </a:lnTo>
                <a:lnTo>
                  <a:pt x="1464" y="1927"/>
                </a:lnTo>
                <a:lnTo>
                  <a:pt x="1483" y="1932"/>
                </a:lnTo>
                <a:lnTo>
                  <a:pt x="1509" y="1935"/>
                </a:lnTo>
                <a:lnTo>
                  <a:pt x="1541" y="1945"/>
                </a:lnTo>
                <a:lnTo>
                  <a:pt x="1587" y="1965"/>
                </a:lnTo>
                <a:lnTo>
                  <a:pt x="1607" y="1974"/>
                </a:lnTo>
                <a:lnTo>
                  <a:pt x="1623" y="1980"/>
                </a:lnTo>
                <a:lnTo>
                  <a:pt x="1635" y="1980"/>
                </a:lnTo>
                <a:lnTo>
                  <a:pt x="1639" y="1980"/>
                </a:lnTo>
                <a:lnTo>
                  <a:pt x="1642" y="1978"/>
                </a:lnTo>
                <a:lnTo>
                  <a:pt x="1643" y="1975"/>
                </a:lnTo>
                <a:lnTo>
                  <a:pt x="1643" y="1972"/>
                </a:lnTo>
                <a:lnTo>
                  <a:pt x="1643" y="1969"/>
                </a:lnTo>
                <a:lnTo>
                  <a:pt x="1642" y="1967"/>
                </a:lnTo>
                <a:lnTo>
                  <a:pt x="1639" y="1958"/>
                </a:lnTo>
                <a:lnTo>
                  <a:pt x="1633" y="1949"/>
                </a:lnTo>
                <a:lnTo>
                  <a:pt x="1622" y="1933"/>
                </a:lnTo>
                <a:lnTo>
                  <a:pt x="1613" y="1920"/>
                </a:lnTo>
                <a:lnTo>
                  <a:pt x="1612" y="1917"/>
                </a:lnTo>
                <a:lnTo>
                  <a:pt x="1612" y="1917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05600" y="3429000"/>
            <a:ext cx="33480" cy="58680"/>
          </a:xfrm>
          <a:custGeom>
            <a:avLst/>
            <a:gdLst/>
            <a:ahLst/>
            <a:rect l="l" t="t" r="r" b="b"/>
            <a:pathLst>
              <a:path w="99" h="181">
                <a:moveTo>
                  <a:pt x="99" y="6"/>
                </a:moveTo>
                <a:lnTo>
                  <a:pt x="94" y="4"/>
                </a:lnTo>
                <a:lnTo>
                  <a:pt x="90" y="1"/>
                </a:lnTo>
                <a:lnTo>
                  <a:pt x="80" y="0"/>
                </a:lnTo>
                <a:lnTo>
                  <a:pt x="70" y="0"/>
                </a:lnTo>
                <a:lnTo>
                  <a:pt x="48" y="1"/>
                </a:lnTo>
                <a:lnTo>
                  <a:pt x="39" y="1"/>
                </a:lnTo>
                <a:lnTo>
                  <a:pt x="38" y="3"/>
                </a:lnTo>
                <a:lnTo>
                  <a:pt x="33" y="7"/>
                </a:lnTo>
                <a:lnTo>
                  <a:pt x="32" y="8"/>
                </a:lnTo>
                <a:lnTo>
                  <a:pt x="32" y="8"/>
                </a:lnTo>
                <a:lnTo>
                  <a:pt x="32" y="11"/>
                </a:lnTo>
                <a:lnTo>
                  <a:pt x="32" y="17"/>
                </a:lnTo>
                <a:lnTo>
                  <a:pt x="32" y="32"/>
                </a:lnTo>
                <a:lnTo>
                  <a:pt x="31" y="42"/>
                </a:lnTo>
                <a:lnTo>
                  <a:pt x="31" y="43"/>
                </a:lnTo>
                <a:lnTo>
                  <a:pt x="28" y="48"/>
                </a:lnTo>
                <a:lnTo>
                  <a:pt x="26" y="49"/>
                </a:lnTo>
                <a:lnTo>
                  <a:pt x="17" y="53"/>
                </a:lnTo>
                <a:lnTo>
                  <a:pt x="2" y="64"/>
                </a:lnTo>
                <a:lnTo>
                  <a:pt x="0" y="69"/>
                </a:lnTo>
                <a:lnTo>
                  <a:pt x="3" y="78"/>
                </a:lnTo>
                <a:lnTo>
                  <a:pt x="6" y="88"/>
                </a:lnTo>
                <a:lnTo>
                  <a:pt x="9" y="111"/>
                </a:lnTo>
                <a:lnTo>
                  <a:pt x="7" y="136"/>
                </a:lnTo>
                <a:lnTo>
                  <a:pt x="3" y="175"/>
                </a:lnTo>
                <a:lnTo>
                  <a:pt x="3" y="181"/>
                </a:lnTo>
                <a:lnTo>
                  <a:pt x="13" y="181"/>
                </a:lnTo>
                <a:lnTo>
                  <a:pt x="48" y="181"/>
                </a:lnTo>
                <a:lnTo>
                  <a:pt x="74" y="181"/>
                </a:lnTo>
                <a:lnTo>
                  <a:pt x="75" y="179"/>
                </a:lnTo>
                <a:lnTo>
                  <a:pt x="78" y="177"/>
                </a:lnTo>
                <a:lnTo>
                  <a:pt x="88" y="166"/>
                </a:lnTo>
                <a:lnTo>
                  <a:pt x="96" y="159"/>
                </a:lnTo>
                <a:lnTo>
                  <a:pt x="97" y="158"/>
                </a:lnTo>
                <a:lnTo>
                  <a:pt x="94" y="145"/>
                </a:lnTo>
                <a:lnTo>
                  <a:pt x="93" y="119"/>
                </a:lnTo>
                <a:lnTo>
                  <a:pt x="96" y="69"/>
                </a:lnTo>
                <a:lnTo>
                  <a:pt x="99" y="20"/>
                </a:lnTo>
                <a:lnTo>
                  <a:pt x="99" y="6"/>
                </a:lnTo>
                <a:lnTo>
                  <a:pt x="99" y="6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40320" y="3063960"/>
            <a:ext cx="720720" cy="471240"/>
          </a:xfrm>
          <a:custGeom>
            <a:avLst/>
            <a:gdLst/>
            <a:ahLst/>
            <a:rect l="l" t="t" r="r" b="b"/>
            <a:pathLst>
              <a:path w="2093" h="1439">
                <a:moveTo>
                  <a:pt x="1847" y="1319"/>
                </a:moveTo>
                <a:lnTo>
                  <a:pt x="1847" y="1314"/>
                </a:lnTo>
                <a:lnTo>
                  <a:pt x="1850" y="1297"/>
                </a:lnTo>
                <a:lnTo>
                  <a:pt x="1851" y="1284"/>
                </a:lnTo>
                <a:lnTo>
                  <a:pt x="1853" y="1283"/>
                </a:lnTo>
                <a:lnTo>
                  <a:pt x="1851" y="1278"/>
                </a:lnTo>
                <a:lnTo>
                  <a:pt x="1848" y="1274"/>
                </a:lnTo>
                <a:lnTo>
                  <a:pt x="1844" y="1271"/>
                </a:lnTo>
                <a:lnTo>
                  <a:pt x="1838" y="1267"/>
                </a:lnTo>
                <a:lnTo>
                  <a:pt x="1825" y="1258"/>
                </a:lnTo>
                <a:lnTo>
                  <a:pt x="1812" y="1249"/>
                </a:lnTo>
                <a:lnTo>
                  <a:pt x="1801" y="1241"/>
                </a:lnTo>
                <a:lnTo>
                  <a:pt x="1798" y="1227"/>
                </a:lnTo>
                <a:lnTo>
                  <a:pt x="1798" y="1227"/>
                </a:lnTo>
                <a:lnTo>
                  <a:pt x="1802" y="1220"/>
                </a:lnTo>
                <a:lnTo>
                  <a:pt x="1817" y="1197"/>
                </a:lnTo>
                <a:lnTo>
                  <a:pt x="1828" y="1180"/>
                </a:lnTo>
                <a:lnTo>
                  <a:pt x="1830" y="1178"/>
                </a:lnTo>
                <a:lnTo>
                  <a:pt x="1844" y="1180"/>
                </a:lnTo>
                <a:lnTo>
                  <a:pt x="1890" y="1183"/>
                </a:lnTo>
                <a:lnTo>
                  <a:pt x="1925" y="1184"/>
                </a:lnTo>
                <a:lnTo>
                  <a:pt x="1928" y="1184"/>
                </a:lnTo>
                <a:lnTo>
                  <a:pt x="1932" y="1181"/>
                </a:lnTo>
                <a:lnTo>
                  <a:pt x="1947" y="1171"/>
                </a:lnTo>
                <a:lnTo>
                  <a:pt x="1959" y="1164"/>
                </a:lnTo>
                <a:lnTo>
                  <a:pt x="1960" y="1162"/>
                </a:lnTo>
                <a:lnTo>
                  <a:pt x="1959" y="1152"/>
                </a:lnTo>
                <a:lnTo>
                  <a:pt x="1960" y="1135"/>
                </a:lnTo>
                <a:lnTo>
                  <a:pt x="1961" y="1126"/>
                </a:lnTo>
                <a:lnTo>
                  <a:pt x="1964" y="1122"/>
                </a:lnTo>
                <a:lnTo>
                  <a:pt x="1967" y="1120"/>
                </a:lnTo>
                <a:lnTo>
                  <a:pt x="1976" y="1120"/>
                </a:lnTo>
                <a:lnTo>
                  <a:pt x="2002" y="1120"/>
                </a:lnTo>
                <a:lnTo>
                  <a:pt x="2022" y="1120"/>
                </a:lnTo>
                <a:lnTo>
                  <a:pt x="2024" y="1119"/>
                </a:lnTo>
                <a:lnTo>
                  <a:pt x="2024" y="1101"/>
                </a:lnTo>
                <a:lnTo>
                  <a:pt x="2031" y="1065"/>
                </a:lnTo>
                <a:lnTo>
                  <a:pt x="2057" y="997"/>
                </a:lnTo>
                <a:lnTo>
                  <a:pt x="2085" y="935"/>
                </a:lnTo>
                <a:lnTo>
                  <a:pt x="2090" y="920"/>
                </a:lnTo>
                <a:lnTo>
                  <a:pt x="2093" y="899"/>
                </a:lnTo>
                <a:lnTo>
                  <a:pt x="2089" y="881"/>
                </a:lnTo>
                <a:lnTo>
                  <a:pt x="2080" y="870"/>
                </a:lnTo>
                <a:lnTo>
                  <a:pt x="2067" y="862"/>
                </a:lnTo>
                <a:lnTo>
                  <a:pt x="2051" y="858"/>
                </a:lnTo>
                <a:lnTo>
                  <a:pt x="2032" y="857"/>
                </a:lnTo>
                <a:lnTo>
                  <a:pt x="1993" y="861"/>
                </a:lnTo>
                <a:lnTo>
                  <a:pt x="1957" y="868"/>
                </a:lnTo>
                <a:lnTo>
                  <a:pt x="1935" y="874"/>
                </a:lnTo>
                <a:lnTo>
                  <a:pt x="1935" y="874"/>
                </a:lnTo>
                <a:lnTo>
                  <a:pt x="1908" y="886"/>
                </a:lnTo>
                <a:lnTo>
                  <a:pt x="1869" y="909"/>
                </a:lnTo>
                <a:lnTo>
                  <a:pt x="1846" y="935"/>
                </a:lnTo>
                <a:lnTo>
                  <a:pt x="1832" y="964"/>
                </a:lnTo>
                <a:lnTo>
                  <a:pt x="1824" y="1000"/>
                </a:lnTo>
                <a:lnTo>
                  <a:pt x="1812" y="1043"/>
                </a:lnTo>
                <a:lnTo>
                  <a:pt x="1805" y="1070"/>
                </a:lnTo>
                <a:lnTo>
                  <a:pt x="1802" y="1074"/>
                </a:lnTo>
                <a:lnTo>
                  <a:pt x="1799" y="1077"/>
                </a:lnTo>
                <a:lnTo>
                  <a:pt x="1795" y="1081"/>
                </a:lnTo>
                <a:lnTo>
                  <a:pt x="1785" y="1087"/>
                </a:lnTo>
                <a:lnTo>
                  <a:pt x="1754" y="1101"/>
                </a:lnTo>
                <a:lnTo>
                  <a:pt x="1679" y="1127"/>
                </a:lnTo>
                <a:lnTo>
                  <a:pt x="1634" y="1141"/>
                </a:lnTo>
                <a:lnTo>
                  <a:pt x="1622" y="1142"/>
                </a:lnTo>
                <a:lnTo>
                  <a:pt x="1606" y="1143"/>
                </a:lnTo>
                <a:lnTo>
                  <a:pt x="1595" y="1149"/>
                </a:lnTo>
                <a:lnTo>
                  <a:pt x="1583" y="1155"/>
                </a:lnTo>
                <a:lnTo>
                  <a:pt x="1548" y="1174"/>
                </a:lnTo>
                <a:lnTo>
                  <a:pt x="1534" y="1178"/>
                </a:lnTo>
                <a:lnTo>
                  <a:pt x="1522" y="1170"/>
                </a:lnTo>
                <a:lnTo>
                  <a:pt x="1511" y="1162"/>
                </a:lnTo>
                <a:lnTo>
                  <a:pt x="1482" y="1148"/>
                </a:lnTo>
                <a:lnTo>
                  <a:pt x="1427" y="1117"/>
                </a:lnTo>
                <a:lnTo>
                  <a:pt x="1407" y="1068"/>
                </a:lnTo>
                <a:lnTo>
                  <a:pt x="1360" y="1062"/>
                </a:lnTo>
                <a:lnTo>
                  <a:pt x="1327" y="1043"/>
                </a:lnTo>
                <a:lnTo>
                  <a:pt x="1302" y="1013"/>
                </a:lnTo>
                <a:lnTo>
                  <a:pt x="1288" y="977"/>
                </a:lnTo>
                <a:lnTo>
                  <a:pt x="1279" y="933"/>
                </a:lnTo>
                <a:lnTo>
                  <a:pt x="1276" y="887"/>
                </a:lnTo>
                <a:lnTo>
                  <a:pt x="1283" y="790"/>
                </a:lnTo>
                <a:lnTo>
                  <a:pt x="1301" y="646"/>
                </a:lnTo>
                <a:lnTo>
                  <a:pt x="1302" y="646"/>
                </a:lnTo>
                <a:lnTo>
                  <a:pt x="1302" y="642"/>
                </a:lnTo>
                <a:lnTo>
                  <a:pt x="1304" y="639"/>
                </a:lnTo>
                <a:lnTo>
                  <a:pt x="1307" y="632"/>
                </a:lnTo>
                <a:lnTo>
                  <a:pt x="1309" y="625"/>
                </a:lnTo>
                <a:lnTo>
                  <a:pt x="1309" y="617"/>
                </a:lnTo>
                <a:lnTo>
                  <a:pt x="1307" y="612"/>
                </a:lnTo>
                <a:lnTo>
                  <a:pt x="1307" y="612"/>
                </a:lnTo>
                <a:lnTo>
                  <a:pt x="1291" y="604"/>
                </a:lnTo>
                <a:lnTo>
                  <a:pt x="1266" y="593"/>
                </a:lnTo>
                <a:lnTo>
                  <a:pt x="1227" y="578"/>
                </a:lnTo>
                <a:lnTo>
                  <a:pt x="1178" y="565"/>
                </a:lnTo>
                <a:lnTo>
                  <a:pt x="1160" y="561"/>
                </a:lnTo>
                <a:lnTo>
                  <a:pt x="1160" y="554"/>
                </a:lnTo>
                <a:lnTo>
                  <a:pt x="1160" y="528"/>
                </a:lnTo>
                <a:lnTo>
                  <a:pt x="1160" y="507"/>
                </a:lnTo>
                <a:lnTo>
                  <a:pt x="1162" y="506"/>
                </a:lnTo>
                <a:lnTo>
                  <a:pt x="1157" y="503"/>
                </a:lnTo>
                <a:lnTo>
                  <a:pt x="1144" y="488"/>
                </a:lnTo>
                <a:lnTo>
                  <a:pt x="1108" y="448"/>
                </a:lnTo>
                <a:lnTo>
                  <a:pt x="1079" y="409"/>
                </a:lnTo>
                <a:lnTo>
                  <a:pt x="1078" y="402"/>
                </a:lnTo>
                <a:lnTo>
                  <a:pt x="1076" y="397"/>
                </a:lnTo>
                <a:lnTo>
                  <a:pt x="1075" y="391"/>
                </a:lnTo>
                <a:lnTo>
                  <a:pt x="1076" y="381"/>
                </a:lnTo>
                <a:lnTo>
                  <a:pt x="1076" y="360"/>
                </a:lnTo>
                <a:lnTo>
                  <a:pt x="1063" y="344"/>
                </a:lnTo>
                <a:lnTo>
                  <a:pt x="1056" y="342"/>
                </a:lnTo>
                <a:lnTo>
                  <a:pt x="1039" y="336"/>
                </a:lnTo>
                <a:lnTo>
                  <a:pt x="999" y="326"/>
                </a:lnTo>
                <a:lnTo>
                  <a:pt x="963" y="322"/>
                </a:lnTo>
                <a:lnTo>
                  <a:pt x="956" y="322"/>
                </a:lnTo>
                <a:lnTo>
                  <a:pt x="944" y="336"/>
                </a:lnTo>
                <a:lnTo>
                  <a:pt x="924" y="357"/>
                </a:lnTo>
                <a:lnTo>
                  <a:pt x="907" y="368"/>
                </a:lnTo>
                <a:lnTo>
                  <a:pt x="898" y="371"/>
                </a:lnTo>
                <a:lnTo>
                  <a:pt x="889" y="371"/>
                </a:lnTo>
                <a:lnTo>
                  <a:pt x="881" y="368"/>
                </a:lnTo>
                <a:lnTo>
                  <a:pt x="872" y="362"/>
                </a:lnTo>
                <a:lnTo>
                  <a:pt x="860" y="355"/>
                </a:lnTo>
                <a:lnTo>
                  <a:pt x="837" y="331"/>
                </a:lnTo>
                <a:lnTo>
                  <a:pt x="837" y="331"/>
                </a:lnTo>
                <a:lnTo>
                  <a:pt x="828" y="319"/>
                </a:lnTo>
                <a:lnTo>
                  <a:pt x="815" y="296"/>
                </a:lnTo>
                <a:lnTo>
                  <a:pt x="791" y="255"/>
                </a:lnTo>
                <a:lnTo>
                  <a:pt x="759" y="216"/>
                </a:lnTo>
                <a:lnTo>
                  <a:pt x="750" y="204"/>
                </a:lnTo>
                <a:lnTo>
                  <a:pt x="734" y="193"/>
                </a:lnTo>
                <a:lnTo>
                  <a:pt x="711" y="173"/>
                </a:lnTo>
                <a:lnTo>
                  <a:pt x="676" y="151"/>
                </a:lnTo>
                <a:lnTo>
                  <a:pt x="624" y="144"/>
                </a:lnTo>
                <a:lnTo>
                  <a:pt x="604" y="142"/>
                </a:lnTo>
                <a:lnTo>
                  <a:pt x="592" y="144"/>
                </a:lnTo>
                <a:lnTo>
                  <a:pt x="585" y="145"/>
                </a:lnTo>
                <a:lnTo>
                  <a:pt x="581" y="149"/>
                </a:lnTo>
                <a:lnTo>
                  <a:pt x="578" y="152"/>
                </a:lnTo>
                <a:lnTo>
                  <a:pt x="578" y="158"/>
                </a:lnTo>
                <a:lnTo>
                  <a:pt x="576" y="162"/>
                </a:lnTo>
                <a:lnTo>
                  <a:pt x="575" y="167"/>
                </a:lnTo>
                <a:lnTo>
                  <a:pt x="573" y="171"/>
                </a:lnTo>
                <a:lnTo>
                  <a:pt x="569" y="176"/>
                </a:lnTo>
                <a:lnTo>
                  <a:pt x="562" y="178"/>
                </a:lnTo>
                <a:lnTo>
                  <a:pt x="552" y="181"/>
                </a:lnTo>
                <a:lnTo>
                  <a:pt x="539" y="181"/>
                </a:lnTo>
                <a:lnTo>
                  <a:pt x="539" y="181"/>
                </a:lnTo>
                <a:lnTo>
                  <a:pt x="536" y="181"/>
                </a:lnTo>
                <a:lnTo>
                  <a:pt x="524" y="181"/>
                </a:lnTo>
                <a:lnTo>
                  <a:pt x="485" y="181"/>
                </a:lnTo>
                <a:lnTo>
                  <a:pt x="456" y="181"/>
                </a:lnTo>
                <a:lnTo>
                  <a:pt x="455" y="181"/>
                </a:lnTo>
                <a:lnTo>
                  <a:pt x="439" y="180"/>
                </a:lnTo>
                <a:lnTo>
                  <a:pt x="423" y="174"/>
                </a:lnTo>
                <a:lnTo>
                  <a:pt x="388" y="157"/>
                </a:lnTo>
                <a:lnTo>
                  <a:pt x="353" y="132"/>
                </a:lnTo>
                <a:lnTo>
                  <a:pt x="289" y="83"/>
                </a:lnTo>
                <a:lnTo>
                  <a:pt x="268" y="68"/>
                </a:lnTo>
                <a:lnTo>
                  <a:pt x="259" y="65"/>
                </a:lnTo>
                <a:lnTo>
                  <a:pt x="237" y="57"/>
                </a:lnTo>
                <a:lnTo>
                  <a:pt x="220" y="49"/>
                </a:lnTo>
                <a:lnTo>
                  <a:pt x="220" y="48"/>
                </a:lnTo>
                <a:lnTo>
                  <a:pt x="217" y="47"/>
                </a:lnTo>
                <a:lnTo>
                  <a:pt x="214" y="44"/>
                </a:lnTo>
                <a:lnTo>
                  <a:pt x="205" y="35"/>
                </a:lnTo>
                <a:lnTo>
                  <a:pt x="182" y="13"/>
                </a:lnTo>
                <a:lnTo>
                  <a:pt x="169" y="0"/>
                </a:lnTo>
                <a:lnTo>
                  <a:pt x="165" y="2"/>
                </a:lnTo>
                <a:lnTo>
                  <a:pt x="142" y="2"/>
                </a:lnTo>
                <a:lnTo>
                  <a:pt x="63" y="2"/>
                </a:lnTo>
                <a:lnTo>
                  <a:pt x="3" y="2"/>
                </a:lnTo>
                <a:lnTo>
                  <a:pt x="0" y="2"/>
                </a:lnTo>
                <a:lnTo>
                  <a:pt x="3" y="19"/>
                </a:lnTo>
                <a:lnTo>
                  <a:pt x="11" y="51"/>
                </a:lnTo>
                <a:lnTo>
                  <a:pt x="33" y="110"/>
                </a:lnTo>
                <a:lnTo>
                  <a:pt x="46" y="176"/>
                </a:lnTo>
                <a:lnTo>
                  <a:pt x="47" y="194"/>
                </a:lnTo>
                <a:lnTo>
                  <a:pt x="55" y="207"/>
                </a:lnTo>
                <a:lnTo>
                  <a:pt x="72" y="231"/>
                </a:lnTo>
                <a:lnTo>
                  <a:pt x="111" y="281"/>
                </a:lnTo>
                <a:lnTo>
                  <a:pt x="147" y="329"/>
                </a:lnTo>
                <a:lnTo>
                  <a:pt x="156" y="341"/>
                </a:lnTo>
                <a:lnTo>
                  <a:pt x="147" y="354"/>
                </a:lnTo>
                <a:lnTo>
                  <a:pt x="134" y="367"/>
                </a:lnTo>
                <a:lnTo>
                  <a:pt x="129" y="370"/>
                </a:lnTo>
                <a:lnTo>
                  <a:pt x="124" y="370"/>
                </a:lnTo>
                <a:lnTo>
                  <a:pt x="118" y="370"/>
                </a:lnTo>
                <a:lnTo>
                  <a:pt x="108" y="368"/>
                </a:lnTo>
                <a:lnTo>
                  <a:pt x="94" y="373"/>
                </a:lnTo>
                <a:lnTo>
                  <a:pt x="75" y="387"/>
                </a:lnTo>
                <a:lnTo>
                  <a:pt x="75" y="387"/>
                </a:lnTo>
                <a:lnTo>
                  <a:pt x="88" y="400"/>
                </a:lnTo>
                <a:lnTo>
                  <a:pt x="127" y="431"/>
                </a:lnTo>
                <a:lnTo>
                  <a:pt x="217" y="504"/>
                </a:lnTo>
                <a:lnTo>
                  <a:pt x="250" y="541"/>
                </a:lnTo>
                <a:lnTo>
                  <a:pt x="260" y="558"/>
                </a:lnTo>
                <a:lnTo>
                  <a:pt x="263" y="575"/>
                </a:lnTo>
                <a:lnTo>
                  <a:pt x="259" y="590"/>
                </a:lnTo>
                <a:lnTo>
                  <a:pt x="259" y="590"/>
                </a:lnTo>
                <a:lnTo>
                  <a:pt x="256" y="594"/>
                </a:lnTo>
                <a:lnTo>
                  <a:pt x="250" y="603"/>
                </a:lnTo>
                <a:lnTo>
                  <a:pt x="243" y="622"/>
                </a:lnTo>
                <a:lnTo>
                  <a:pt x="239" y="641"/>
                </a:lnTo>
                <a:lnTo>
                  <a:pt x="239" y="645"/>
                </a:lnTo>
                <a:lnTo>
                  <a:pt x="252" y="652"/>
                </a:lnTo>
                <a:lnTo>
                  <a:pt x="281" y="670"/>
                </a:lnTo>
                <a:lnTo>
                  <a:pt x="342" y="715"/>
                </a:lnTo>
                <a:lnTo>
                  <a:pt x="404" y="781"/>
                </a:lnTo>
                <a:lnTo>
                  <a:pt x="421" y="801"/>
                </a:lnTo>
                <a:lnTo>
                  <a:pt x="429" y="793"/>
                </a:lnTo>
                <a:lnTo>
                  <a:pt x="436" y="777"/>
                </a:lnTo>
                <a:lnTo>
                  <a:pt x="436" y="762"/>
                </a:lnTo>
                <a:lnTo>
                  <a:pt x="431" y="748"/>
                </a:lnTo>
                <a:lnTo>
                  <a:pt x="426" y="733"/>
                </a:lnTo>
                <a:lnTo>
                  <a:pt x="421" y="719"/>
                </a:lnTo>
                <a:lnTo>
                  <a:pt x="421" y="709"/>
                </a:lnTo>
                <a:lnTo>
                  <a:pt x="408" y="699"/>
                </a:lnTo>
                <a:lnTo>
                  <a:pt x="400" y="693"/>
                </a:lnTo>
                <a:lnTo>
                  <a:pt x="391" y="691"/>
                </a:lnTo>
                <a:lnTo>
                  <a:pt x="385" y="690"/>
                </a:lnTo>
                <a:lnTo>
                  <a:pt x="381" y="691"/>
                </a:lnTo>
                <a:lnTo>
                  <a:pt x="378" y="691"/>
                </a:lnTo>
                <a:lnTo>
                  <a:pt x="376" y="691"/>
                </a:lnTo>
                <a:lnTo>
                  <a:pt x="375" y="690"/>
                </a:lnTo>
                <a:lnTo>
                  <a:pt x="375" y="688"/>
                </a:lnTo>
                <a:lnTo>
                  <a:pt x="375" y="686"/>
                </a:lnTo>
                <a:lnTo>
                  <a:pt x="373" y="677"/>
                </a:lnTo>
                <a:lnTo>
                  <a:pt x="373" y="641"/>
                </a:lnTo>
                <a:lnTo>
                  <a:pt x="375" y="626"/>
                </a:lnTo>
                <a:lnTo>
                  <a:pt x="365" y="610"/>
                </a:lnTo>
                <a:lnTo>
                  <a:pt x="353" y="581"/>
                </a:lnTo>
                <a:lnTo>
                  <a:pt x="339" y="538"/>
                </a:lnTo>
                <a:lnTo>
                  <a:pt x="313" y="500"/>
                </a:lnTo>
                <a:lnTo>
                  <a:pt x="302" y="488"/>
                </a:lnTo>
                <a:lnTo>
                  <a:pt x="288" y="474"/>
                </a:lnTo>
                <a:lnTo>
                  <a:pt x="274" y="446"/>
                </a:lnTo>
                <a:lnTo>
                  <a:pt x="271" y="423"/>
                </a:lnTo>
                <a:lnTo>
                  <a:pt x="272" y="400"/>
                </a:lnTo>
                <a:lnTo>
                  <a:pt x="269" y="374"/>
                </a:lnTo>
                <a:lnTo>
                  <a:pt x="253" y="345"/>
                </a:lnTo>
                <a:lnTo>
                  <a:pt x="239" y="326"/>
                </a:lnTo>
                <a:lnTo>
                  <a:pt x="221" y="307"/>
                </a:lnTo>
                <a:lnTo>
                  <a:pt x="194" y="270"/>
                </a:lnTo>
                <a:lnTo>
                  <a:pt x="159" y="194"/>
                </a:lnTo>
                <a:lnTo>
                  <a:pt x="147" y="126"/>
                </a:lnTo>
                <a:lnTo>
                  <a:pt x="147" y="110"/>
                </a:lnTo>
                <a:lnTo>
                  <a:pt x="156" y="109"/>
                </a:lnTo>
                <a:lnTo>
                  <a:pt x="175" y="109"/>
                </a:lnTo>
                <a:lnTo>
                  <a:pt x="194" y="113"/>
                </a:lnTo>
                <a:lnTo>
                  <a:pt x="213" y="122"/>
                </a:lnTo>
                <a:lnTo>
                  <a:pt x="229" y="133"/>
                </a:lnTo>
                <a:lnTo>
                  <a:pt x="242" y="149"/>
                </a:lnTo>
                <a:lnTo>
                  <a:pt x="247" y="157"/>
                </a:lnTo>
                <a:lnTo>
                  <a:pt x="247" y="161"/>
                </a:lnTo>
                <a:lnTo>
                  <a:pt x="249" y="187"/>
                </a:lnTo>
                <a:lnTo>
                  <a:pt x="262" y="273"/>
                </a:lnTo>
                <a:lnTo>
                  <a:pt x="274" y="313"/>
                </a:lnTo>
                <a:lnTo>
                  <a:pt x="282" y="328"/>
                </a:lnTo>
                <a:lnTo>
                  <a:pt x="291" y="338"/>
                </a:lnTo>
                <a:lnTo>
                  <a:pt x="297" y="341"/>
                </a:lnTo>
                <a:lnTo>
                  <a:pt x="301" y="341"/>
                </a:lnTo>
                <a:lnTo>
                  <a:pt x="302" y="341"/>
                </a:lnTo>
                <a:lnTo>
                  <a:pt x="317" y="358"/>
                </a:lnTo>
                <a:lnTo>
                  <a:pt x="345" y="393"/>
                </a:lnTo>
                <a:lnTo>
                  <a:pt x="392" y="461"/>
                </a:lnTo>
                <a:lnTo>
                  <a:pt x="449" y="516"/>
                </a:lnTo>
                <a:lnTo>
                  <a:pt x="466" y="525"/>
                </a:lnTo>
                <a:lnTo>
                  <a:pt x="462" y="533"/>
                </a:lnTo>
                <a:lnTo>
                  <a:pt x="453" y="551"/>
                </a:lnTo>
                <a:lnTo>
                  <a:pt x="446" y="570"/>
                </a:lnTo>
                <a:lnTo>
                  <a:pt x="442" y="586"/>
                </a:lnTo>
                <a:lnTo>
                  <a:pt x="443" y="593"/>
                </a:lnTo>
                <a:lnTo>
                  <a:pt x="446" y="600"/>
                </a:lnTo>
                <a:lnTo>
                  <a:pt x="452" y="604"/>
                </a:lnTo>
                <a:lnTo>
                  <a:pt x="462" y="607"/>
                </a:lnTo>
                <a:lnTo>
                  <a:pt x="475" y="607"/>
                </a:lnTo>
                <a:lnTo>
                  <a:pt x="476" y="607"/>
                </a:lnTo>
                <a:lnTo>
                  <a:pt x="491" y="630"/>
                </a:lnTo>
                <a:lnTo>
                  <a:pt x="531" y="677"/>
                </a:lnTo>
                <a:lnTo>
                  <a:pt x="623" y="774"/>
                </a:lnTo>
                <a:lnTo>
                  <a:pt x="660" y="828"/>
                </a:lnTo>
                <a:lnTo>
                  <a:pt x="682" y="883"/>
                </a:lnTo>
                <a:lnTo>
                  <a:pt x="686" y="912"/>
                </a:lnTo>
                <a:lnTo>
                  <a:pt x="695" y="919"/>
                </a:lnTo>
                <a:lnTo>
                  <a:pt x="708" y="930"/>
                </a:lnTo>
                <a:lnTo>
                  <a:pt x="714" y="945"/>
                </a:lnTo>
                <a:lnTo>
                  <a:pt x="714" y="959"/>
                </a:lnTo>
                <a:lnTo>
                  <a:pt x="707" y="977"/>
                </a:lnTo>
                <a:lnTo>
                  <a:pt x="694" y="994"/>
                </a:lnTo>
                <a:lnTo>
                  <a:pt x="686" y="1003"/>
                </a:lnTo>
                <a:lnTo>
                  <a:pt x="718" y="1046"/>
                </a:lnTo>
                <a:lnTo>
                  <a:pt x="817" y="1138"/>
                </a:lnTo>
                <a:lnTo>
                  <a:pt x="947" y="1226"/>
                </a:lnTo>
                <a:lnTo>
                  <a:pt x="1243" y="1354"/>
                </a:lnTo>
                <a:lnTo>
                  <a:pt x="1440" y="1359"/>
                </a:lnTo>
                <a:lnTo>
                  <a:pt x="1469" y="1346"/>
                </a:lnTo>
                <a:lnTo>
                  <a:pt x="1521" y="1333"/>
                </a:lnTo>
                <a:lnTo>
                  <a:pt x="1567" y="1338"/>
                </a:lnTo>
                <a:lnTo>
                  <a:pt x="1611" y="1356"/>
                </a:lnTo>
                <a:lnTo>
                  <a:pt x="1653" y="1384"/>
                </a:lnTo>
                <a:lnTo>
                  <a:pt x="1696" y="1420"/>
                </a:lnTo>
                <a:lnTo>
                  <a:pt x="1721" y="1439"/>
                </a:lnTo>
                <a:lnTo>
                  <a:pt x="1724" y="1413"/>
                </a:lnTo>
                <a:lnTo>
                  <a:pt x="1731" y="1371"/>
                </a:lnTo>
                <a:lnTo>
                  <a:pt x="1741" y="1342"/>
                </a:lnTo>
                <a:lnTo>
                  <a:pt x="1748" y="1332"/>
                </a:lnTo>
                <a:lnTo>
                  <a:pt x="1759" y="1325"/>
                </a:lnTo>
                <a:lnTo>
                  <a:pt x="1770" y="1320"/>
                </a:lnTo>
                <a:lnTo>
                  <a:pt x="1785" y="1317"/>
                </a:lnTo>
                <a:lnTo>
                  <a:pt x="1801" y="1317"/>
                </a:lnTo>
                <a:lnTo>
                  <a:pt x="1846" y="1319"/>
                </a:lnTo>
                <a:lnTo>
                  <a:pt x="1847" y="1319"/>
                </a:lnTo>
                <a:lnTo>
                  <a:pt x="1847" y="1319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934320" y="3448080"/>
            <a:ext cx="104760" cy="101520"/>
          </a:xfrm>
          <a:custGeom>
            <a:avLst/>
            <a:gdLst/>
            <a:ahLst/>
            <a:rect l="l" t="t" r="r" b="b"/>
            <a:pathLst>
              <a:path w="306" h="312">
                <a:moveTo>
                  <a:pt x="0" y="262"/>
                </a:moveTo>
                <a:lnTo>
                  <a:pt x="0" y="261"/>
                </a:lnTo>
                <a:lnTo>
                  <a:pt x="1" y="252"/>
                </a:lnTo>
                <a:lnTo>
                  <a:pt x="1" y="247"/>
                </a:lnTo>
                <a:lnTo>
                  <a:pt x="3" y="245"/>
                </a:lnTo>
                <a:lnTo>
                  <a:pt x="1" y="222"/>
                </a:lnTo>
                <a:lnTo>
                  <a:pt x="9" y="184"/>
                </a:lnTo>
                <a:lnTo>
                  <a:pt x="25" y="158"/>
                </a:lnTo>
                <a:lnTo>
                  <a:pt x="48" y="144"/>
                </a:lnTo>
                <a:lnTo>
                  <a:pt x="77" y="138"/>
                </a:lnTo>
                <a:lnTo>
                  <a:pt x="109" y="138"/>
                </a:lnTo>
                <a:lnTo>
                  <a:pt x="126" y="138"/>
                </a:lnTo>
                <a:lnTo>
                  <a:pt x="126" y="132"/>
                </a:lnTo>
                <a:lnTo>
                  <a:pt x="129" y="115"/>
                </a:lnTo>
                <a:lnTo>
                  <a:pt x="130" y="100"/>
                </a:lnTo>
                <a:lnTo>
                  <a:pt x="132" y="99"/>
                </a:lnTo>
                <a:lnTo>
                  <a:pt x="129" y="96"/>
                </a:lnTo>
                <a:lnTo>
                  <a:pt x="125" y="93"/>
                </a:lnTo>
                <a:lnTo>
                  <a:pt x="120" y="89"/>
                </a:lnTo>
                <a:lnTo>
                  <a:pt x="107" y="81"/>
                </a:lnTo>
                <a:lnTo>
                  <a:pt x="82" y="65"/>
                </a:lnTo>
                <a:lnTo>
                  <a:pt x="78" y="49"/>
                </a:lnTo>
                <a:lnTo>
                  <a:pt x="82" y="49"/>
                </a:lnTo>
                <a:lnTo>
                  <a:pt x="91" y="48"/>
                </a:lnTo>
                <a:lnTo>
                  <a:pt x="96" y="47"/>
                </a:lnTo>
                <a:lnTo>
                  <a:pt x="97" y="45"/>
                </a:lnTo>
                <a:lnTo>
                  <a:pt x="96" y="41"/>
                </a:lnTo>
                <a:lnTo>
                  <a:pt x="93" y="38"/>
                </a:lnTo>
                <a:lnTo>
                  <a:pt x="85" y="29"/>
                </a:lnTo>
                <a:lnTo>
                  <a:pt x="85" y="29"/>
                </a:lnTo>
                <a:lnTo>
                  <a:pt x="88" y="25"/>
                </a:lnTo>
                <a:lnTo>
                  <a:pt x="100" y="12"/>
                </a:lnTo>
                <a:lnTo>
                  <a:pt x="109" y="2"/>
                </a:lnTo>
                <a:lnTo>
                  <a:pt x="110" y="0"/>
                </a:lnTo>
                <a:lnTo>
                  <a:pt x="111" y="0"/>
                </a:lnTo>
                <a:lnTo>
                  <a:pt x="113" y="0"/>
                </a:lnTo>
                <a:lnTo>
                  <a:pt x="125" y="2"/>
                </a:lnTo>
                <a:lnTo>
                  <a:pt x="161" y="5"/>
                </a:lnTo>
                <a:lnTo>
                  <a:pt x="198" y="6"/>
                </a:lnTo>
                <a:lnTo>
                  <a:pt x="207" y="6"/>
                </a:lnTo>
                <a:lnTo>
                  <a:pt x="206" y="7"/>
                </a:lnTo>
                <a:lnTo>
                  <a:pt x="207" y="6"/>
                </a:lnTo>
                <a:lnTo>
                  <a:pt x="209" y="13"/>
                </a:lnTo>
                <a:lnTo>
                  <a:pt x="213" y="25"/>
                </a:lnTo>
                <a:lnTo>
                  <a:pt x="216" y="47"/>
                </a:lnTo>
                <a:lnTo>
                  <a:pt x="216" y="58"/>
                </a:lnTo>
                <a:lnTo>
                  <a:pt x="216" y="58"/>
                </a:lnTo>
                <a:lnTo>
                  <a:pt x="214" y="70"/>
                </a:lnTo>
                <a:lnTo>
                  <a:pt x="211" y="100"/>
                </a:lnTo>
                <a:lnTo>
                  <a:pt x="210" y="123"/>
                </a:lnTo>
                <a:lnTo>
                  <a:pt x="210" y="123"/>
                </a:lnTo>
                <a:lnTo>
                  <a:pt x="211" y="123"/>
                </a:lnTo>
                <a:lnTo>
                  <a:pt x="220" y="123"/>
                </a:lnTo>
                <a:lnTo>
                  <a:pt x="255" y="122"/>
                </a:lnTo>
                <a:lnTo>
                  <a:pt x="281" y="120"/>
                </a:lnTo>
                <a:lnTo>
                  <a:pt x="284" y="119"/>
                </a:lnTo>
                <a:lnTo>
                  <a:pt x="287" y="119"/>
                </a:lnTo>
                <a:lnTo>
                  <a:pt x="293" y="119"/>
                </a:lnTo>
                <a:lnTo>
                  <a:pt x="297" y="119"/>
                </a:lnTo>
                <a:lnTo>
                  <a:pt x="300" y="122"/>
                </a:lnTo>
                <a:lnTo>
                  <a:pt x="303" y="126"/>
                </a:lnTo>
                <a:lnTo>
                  <a:pt x="304" y="132"/>
                </a:lnTo>
                <a:lnTo>
                  <a:pt x="306" y="136"/>
                </a:lnTo>
                <a:lnTo>
                  <a:pt x="293" y="149"/>
                </a:lnTo>
                <a:lnTo>
                  <a:pt x="272" y="171"/>
                </a:lnTo>
                <a:lnTo>
                  <a:pt x="252" y="206"/>
                </a:lnTo>
                <a:lnTo>
                  <a:pt x="242" y="228"/>
                </a:lnTo>
                <a:lnTo>
                  <a:pt x="240" y="231"/>
                </a:lnTo>
                <a:lnTo>
                  <a:pt x="239" y="234"/>
                </a:lnTo>
                <a:lnTo>
                  <a:pt x="230" y="244"/>
                </a:lnTo>
                <a:lnTo>
                  <a:pt x="200" y="281"/>
                </a:lnTo>
                <a:lnTo>
                  <a:pt x="177" y="310"/>
                </a:lnTo>
                <a:lnTo>
                  <a:pt x="177" y="312"/>
                </a:lnTo>
                <a:lnTo>
                  <a:pt x="156" y="310"/>
                </a:lnTo>
                <a:lnTo>
                  <a:pt x="123" y="306"/>
                </a:lnTo>
                <a:lnTo>
                  <a:pt x="65" y="296"/>
                </a:lnTo>
                <a:lnTo>
                  <a:pt x="13" y="273"/>
                </a:lnTo>
                <a:lnTo>
                  <a:pt x="0" y="262"/>
                </a:lnTo>
                <a:lnTo>
                  <a:pt x="0" y="262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997680" y="3524400"/>
            <a:ext cx="60480" cy="36360"/>
          </a:xfrm>
          <a:custGeom>
            <a:avLst/>
            <a:gdLst/>
            <a:ahLst/>
            <a:rect l="l" t="t" r="r" b="b"/>
            <a:pathLst>
              <a:path w="178" h="114">
                <a:moveTo>
                  <a:pt x="172" y="42"/>
                </a:moveTo>
                <a:lnTo>
                  <a:pt x="171" y="39"/>
                </a:lnTo>
                <a:lnTo>
                  <a:pt x="167" y="37"/>
                </a:lnTo>
                <a:lnTo>
                  <a:pt x="162" y="36"/>
                </a:lnTo>
                <a:lnTo>
                  <a:pt x="156" y="34"/>
                </a:lnTo>
                <a:lnTo>
                  <a:pt x="142" y="34"/>
                </a:lnTo>
                <a:lnTo>
                  <a:pt x="117" y="37"/>
                </a:lnTo>
                <a:lnTo>
                  <a:pt x="114" y="37"/>
                </a:lnTo>
                <a:lnTo>
                  <a:pt x="106" y="32"/>
                </a:lnTo>
                <a:lnTo>
                  <a:pt x="81" y="14"/>
                </a:lnTo>
                <a:lnTo>
                  <a:pt x="62" y="1"/>
                </a:lnTo>
                <a:lnTo>
                  <a:pt x="62" y="0"/>
                </a:lnTo>
                <a:lnTo>
                  <a:pt x="61" y="3"/>
                </a:lnTo>
                <a:lnTo>
                  <a:pt x="52" y="13"/>
                </a:lnTo>
                <a:lnTo>
                  <a:pt x="23" y="50"/>
                </a:lnTo>
                <a:lnTo>
                  <a:pt x="0" y="79"/>
                </a:lnTo>
                <a:lnTo>
                  <a:pt x="0" y="81"/>
                </a:lnTo>
                <a:lnTo>
                  <a:pt x="14" y="90"/>
                </a:lnTo>
                <a:lnTo>
                  <a:pt x="42" y="101"/>
                </a:lnTo>
                <a:lnTo>
                  <a:pt x="96" y="114"/>
                </a:lnTo>
                <a:lnTo>
                  <a:pt x="159" y="114"/>
                </a:lnTo>
                <a:lnTo>
                  <a:pt x="178" y="111"/>
                </a:lnTo>
                <a:lnTo>
                  <a:pt x="177" y="101"/>
                </a:lnTo>
                <a:lnTo>
                  <a:pt x="174" y="69"/>
                </a:lnTo>
                <a:lnTo>
                  <a:pt x="172" y="43"/>
                </a:lnTo>
                <a:lnTo>
                  <a:pt x="172" y="42"/>
                </a:lnTo>
                <a:lnTo>
                  <a:pt x="172" y="42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208560" y="1789200"/>
            <a:ext cx="1298880" cy="1771560"/>
          </a:xfrm>
          <a:custGeom>
            <a:avLst/>
            <a:gdLst/>
            <a:ahLst/>
            <a:rect l="l" t="t" r="r" b="b"/>
            <a:pathLst>
              <a:path w="3761" h="5418">
                <a:moveTo>
                  <a:pt x="2562" y="5336"/>
                </a:moveTo>
                <a:lnTo>
                  <a:pt x="2559" y="5338"/>
                </a:lnTo>
                <a:lnTo>
                  <a:pt x="2557" y="5343"/>
                </a:lnTo>
                <a:lnTo>
                  <a:pt x="2557" y="5346"/>
                </a:lnTo>
                <a:lnTo>
                  <a:pt x="2557" y="5350"/>
                </a:lnTo>
                <a:lnTo>
                  <a:pt x="2556" y="5353"/>
                </a:lnTo>
                <a:lnTo>
                  <a:pt x="2551" y="5357"/>
                </a:lnTo>
                <a:lnTo>
                  <a:pt x="2550" y="5359"/>
                </a:lnTo>
                <a:lnTo>
                  <a:pt x="2543" y="5366"/>
                </a:lnTo>
                <a:lnTo>
                  <a:pt x="2528" y="5376"/>
                </a:lnTo>
                <a:lnTo>
                  <a:pt x="2501" y="5394"/>
                </a:lnTo>
                <a:lnTo>
                  <a:pt x="2472" y="5412"/>
                </a:lnTo>
                <a:lnTo>
                  <a:pt x="2465" y="5418"/>
                </a:lnTo>
                <a:lnTo>
                  <a:pt x="2460" y="5411"/>
                </a:lnTo>
                <a:lnTo>
                  <a:pt x="2459" y="5405"/>
                </a:lnTo>
                <a:lnTo>
                  <a:pt x="2457" y="5391"/>
                </a:lnTo>
                <a:lnTo>
                  <a:pt x="2454" y="5360"/>
                </a:lnTo>
                <a:lnTo>
                  <a:pt x="2454" y="5344"/>
                </a:lnTo>
                <a:lnTo>
                  <a:pt x="2449" y="5343"/>
                </a:lnTo>
                <a:lnTo>
                  <a:pt x="2438" y="5343"/>
                </a:lnTo>
                <a:lnTo>
                  <a:pt x="2428" y="5343"/>
                </a:lnTo>
                <a:lnTo>
                  <a:pt x="2408" y="5343"/>
                </a:lnTo>
                <a:lnTo>
                  <a:pt x="2395" y="5340"/>
                </a:lnTo>
                <a:lnTo>
                  <a:pt x="2386" y="5334"/>
                </a:lnTo>
                <a:lnTo>
                  <a:pt x="2362" y="5317"/>
                </a:lnTo>
                <a:lnTo>
                  <a:pt x="2343" y="5305"/>
                </a:lnTo>
                <a:lnTo>
                  <a:pt x="2343" y="5304"/>
                </a:lnTo>
                <a:lnTo>
                  <a:pt x="2344" y="5295"/>
                </a:lnTo>
                <a:lnTo>
                  <a:pt x="2353" y="5278"/>
                </a:lnTo>
                <a:lnTo>
                  <a:pt x="2378" y="5243"/>
                </a:lnTo>
                <a:lnTo>
                  <a:pt x="2405" y="5214"/>
                </a:lnTo>
                <a:lnTo>
                  <a:pt x="2412" y="5208"/>
                </a:lnTo>
                <a:lnTo>
                  <a:pt x="2438" y="5207"/>
                </a:lnTo>
                <a:lnTo>
                  <a:pt x="2502" y="5194"/>
                </a:lnTo>
                <a:lnTo>
                  <a:pt x="2643" y="5165"/>
                </a:lnTo>
                <a:lnTo>
                  <a:pt x="2709" y="5162"/>
                </a:lnTo>
                <a:lnTo>
                  <a:pt x="2766" y="5179"/>
                </a:lnTo>
                <a:lnTo>
                  <a:pt x="2789" y="5195"/>
                </a:lnTo>
                <a:lnTo>
                  <a:pt x="2791" y="5199"/>
                </a:lnTo>
                <a:lnTo>
                  <a:pt x="2793" y="5205"/>
                </a:lnTo>
                <a:lnTo>
                  <a:pt x="2799" y="5218"/>
                </a:lnTo>
                <a:lnTo>
                  <a:pt x="2801" y="5236"/>
                </a:lnTo>
                <a:lnTo>
                  <a:pt x="2801" y="5241"/>
                </a:lnTo>
                <a:lnTo>
                  <a:pt x="2795" y="5243"/>
                </a:lnTo>
                <a:lnTo>
                  <a:pt x="2791" y="5244"/>
                </a:lnTo>
                <a:lnTo>
                  <a:pt x="2775" y="5250"/>
                </a:lnTo>
                <a:lnTo>
                  <a:pt x="2730" y="5263"/>
                </a:lnTo>
                <a:lnTo>
                  <a:pt x="2620" y="5302"/>
                </a:lnTo>
                <a:lnTo>
                  <a:pt x="2562" y="5336"/>
                </a:lnTo>
                <a:lnTo>
                  <a:pt x="2562" y="5336"/>
                </a:lnTo>
                <a:close/>
                <a:moveTo>
                  <a:pt x="3364" y="10"/>
                </a:moveTo>
                <a:lnTo>
                  <a:pt x="3366" y="12"/>
                </a:lnTo>
                <a:lnTo>
                  <a:pt x="3374" y="16"/>
                </a:lnTo>
                <a:lnTo>
                  <a:pt x="3380" y="19"/>
                </a:lnTo>
                <a:lnTo>
                  <a:pt x="3382" y="19"/>
                </a:lnTo>
                <a:lnTo>
                  <a:pt x="3386" y="19"/>
                </a:lnTo>
                <a:lnTo>
                  <a:pt x="3390" y="18"/>
                </a:lnTo>
                <a:lnTo>
                  <a:pt x="3401" y="13"/>
                </a:lnTo>
                <a:lnTo>
                  <a:pt x="3424" y="2"/>
                </a:lnTo>
                <a:lnTo>
                  <a:pt x="3456" y="0"/>
                </a:lnTo>
                <a:lnTo>
                  <a:pt x="3461" y="5"/>
                </a:lnTo>
                <a:lnTo>
                  <a:pt x="3469" y="9"/>
                </a:lnTo>
                <a:lnTo>
                  <a:pt x="3482" y="24"/>
                </a:lnTo>
                <a:lnTo>
                  <a:pt x="3495" y="41"/>
                </a:lnTo>
                <a:lnTo>
                  <a:pt x="3521" y="74"/>
                </a:lnTo>
                <a:lnTo>
                  <a:pt x="3535" y="86"/>
                </a:lnTo>
                <a:lnTo>
                  <a:pt x="3534" y="87"/>
                </a:lnTo>
                <a:lnTo>
                  <a:pt x="3531" y="89"/>
                </a:lnTo>
                <a:lnTo>
                  <a:pt x="3518" y="97"/>
                </a:lnTo>
                <a:lnTo>
                  <a:pt x="3508" y="103"/>
                </a:lnTo>
                <a:lnTo>
                  <a:pt x="3508" y="103"/>
                </a:lnTo>
                <a:lnTo>
                  <a:pt x="3514" y="110"/>
                </a:lnTo>
                <a:lnTo>
                  <a:pt x="3528" y="128"/>
                </a:lnTo>
                <a:lnTo>
                  <a:pt x="3554" y="167"/>
                </a:lnTo>
                <a:lnTo>
                  <a:pt x="3563" y="187"/>
                </a:lnTo>
                <a:lnTo>
                  <a:pt x="3566" y="210"/>
                </a:lnTo>
                <a:lnTo>
                  <a:pt x="3564" y="221"/>
                </a:lnTo>
                <a:lnTo>
                  <a:pt x="3560" y="225"/>
                </a:lnTo>
                <a:lnTo>
                  <a:pt x="3556" y="228"/>
                </a:lnTo>
                <a:lnTo>
                  <a:pt x="3544" y="237"/>
                </a:lnTo>
                <a:lnTo>
                  <a:pt x="3518" y="260"/>
                </a:lnTo>
                <a:lnTo>
                  <a:pt x="3508" y="292"/>
                </a:lnTo>
                <a:lnTo>
                  <a:pt x="3508" y="300"/>
                </a:lnTo>
                <a:lnTo>
                  <a:pt x="3506" y="312"/>
                </a:lnTo>
                <a:lnTo>
                  <a:pt x="3506" y="316"/>
                </a:lnTo>
                <a:lnTo>
                  <a:pt x="3503" y="319"/>
                </a:lnTo>
                <a:lnTo>
                  <a:pt x="3502" y="322"/>
                </a:lnTo>
                <a:lnTo>
                  <a:pt x="3499" y="323"/>
                </a:lnTo>
                <a:lnTo>
                  <a:pt x="3495" y="325"/>
                </a:lnTo>
                <a:lnTo>
                  <a:pt x="3486" y="328"/>
                </a:lnTo>
                <a:lnTo>
                  <a:pt x="3474" y="334"/>
                </a:lnTo>
                <a:lnTo>
                  <a:pt x="3474" y="334"/>
                </a:lnTo>
                <a:lnTo>
                  <a:pt x="3473" y="331"/>
                </a:lnTo>
                <a:lnTo>
                  <a:pt x="3473" y="328"/>
                </a:lnTo>
                <a:lnTo>
                  <a:pt x="3469" y="319"/>
                </a:lnTo>
                <a:lnTo>
                  <a:pt x="3460" y="300"/>
                </a:lnTo>
                <a:lnTo>
                  <a:pt x="3456" y="286"/>
                </a:lnTo>
                <a:lnTo>
                  <a:pt x="3448" y="287"/>
                </a:lnTo>
                <a:lnTo>
                  <a:pt x="3438" y="290"/>
                </a:lnTo>
                <a:lnTo>
                  <a:pt x="3432" y="295"/>
                </a:lnTo>
                <a:lnTo>
                  <a:pt x="3427" y="302"/>
                </a:lnTo>
                <a:lnTo>
                  <a:pt x="3424" y="309"/>
                </a:lnTo>
                <a:lnTo>
                  <a:pt x="3419" y="318"/>
                </a:lnTo>
                <a:lnTo>
                  <a:pt x="3418" y="322"/>
                </a:lnTo>
                <a:lnTo>
                  <a:pt x="3415" y="322"/>
                </a:lnTo>
                <a:lnTo>
                  <a:pt x="3409" y="321"/>
                </a:lnTo>
                <a:lnTo>
                  <a:pt x="3403" y="319"/>
                </a:lnTo>
                <a:lnTo>
                  <a:pt x="3390" y="315"/>
                </a:lnTo>
                <a:lnTo>
                  <a:pt x="3382" y="312"/>
                </a:lnTo>
                <a:lnTo>
                  <a:pt x="3380" y="308"/>
                </a:lnTo>
                <a:lnTo>
                  <a:pt x="3380" y="299"/>
                </a:lnTo>
                <a:lnTo>
                  <a:pt x="3376" y="283"/>
                </a:lnTo>
                <a:lnTo>
                  <a:pt x="3373" y="270"/>
                </a:lnTo>
                <a:lnTo>
                  <a:pt x="3373" y="267"/>
                </a:lnTo>
                <a:lnTo>
                  <a:pt x="3370" y="273"/>
                </a:lnTo>
                <a:lnTo>
                  <a:pt x="3366" y="283"/>
                </a:lnTo>
                <a:lnTo>
                  <a:pt x="3357" y="303"/>
                </a:lnTo>
                <a:lnTo>
                  <a:pt x="3347" y="321"/>
                </a:lnTo>
                <a:lnTo>
                  <a:pt x="3345" y="322"/>
                </a:lnTo>
                <a:lnTo>
                  <a:pt x="3343" y="322"/>
                </a:lnTo>
                <a:lnTo>
                  <a:pt x="3340" y="322"/>
                </a:lnTo>
                <a:lnTo>
                  <a:pt x="3335" y="319"/>
                </a:lnTo>
                <a:lnTo>
                  <a:pt x="3330" y="316"/>
                </a:lnTo>
                <a:lnTo>
                  <a:pt x="3325" y="313"/>
                </a:lnTo>
                <a:lnTo>
                  <a:pt x="3322" y="309"/>
                </a:lnTo>
                <a:lnTo>
                  <a:pt x="3321" y="303"/>
                </a:lnTo>
                <a:lnTo>
                  <a:pt x="3322" y="303"/>
                </a:lnTo>
                <a:lnTo>
                  <a:pt x="3319" y="293"/>
                </a:lnTo>
                <a:lnTo>
                  <a:pt x="3319" y="287"/>
                </a:lnTo>
                <a:lnTo>
                  <a:pt x="3319" y="286"/>
                </a:lnTo>
                <a:lnTo>
                  <a:pt x="3316" y="280"/>
                </a:lnTo>
                <a:lnTo>
                  <a:pt x="3315" y="277"/>
                </a:lnTo>
                <a:lnTo>
                  <a:pt x="3309" y="270"/>
                </a:lnTo>
                <a:lnTo>
                  <a:pt x="3298" y="257"/>
                </a:lnTo>
                <a:lnTo>
                  <a:pt x="3295" y="252"/>
                </a:lnTo>
                <a:lnTo>
                  <a:pt x="3293" y="247"/>
                </a:lnTo>
                <a:lnTo>
                  <a:pt x="3293" y="235"/>
                </a:lnTo>
                <a:lnTo>
                  <a:pt x="3296" y="218"/>
                </a:lnTo>
                <a:lnTo>
                  <a:pt x="3299" y="212"/>
                </a:lnTo>
                <a:lnTo>
                  <a:pt x="3306" y="206"/>
                </a:lnTo>
                <a:lnTo>
                  <a:pt x="3311" y="203"/>
                </a:lnTo>
                <a:lnTo>
                  <a:pt x="3322" y="208"/>
                </a:lnTo>
                <a:lnTo>
                  <a:pt x="3357" y="218"/>
                </a:lnTo>
                <a:lnTo>
                  <a:pt x="3383" y="226"/>
                </a:lnTo>
                <a:lnTo>
                  <a:pt x="3386" y="226"/>
                </a:lnTo>
                <a:lnTo>
                  <a:pt x="3379" y="219"/>
                </a:lnTo>
                <a:lnTo>
                  <a:pt x="3363" y="200"/>
                </a:lnTo>
                <a:lnTo>
                  <a:pt x="3337" y="157"/>
                </a:lnTo>
                <a:lnTo>
                  <a:pt x="3332" y="135"/>
                </a:lnTo>
                <a:lnTo>
                  <a:pt x="3334" y="125"/>
                </a:lnTo>
                <a:lnTo>
                  <a:pt x="3338" y="116"/>
                </a:lnTo>
                <a:lnTo>
                  <a:pt x="3344" y="108"/>
                </a:lnTo>
                <a:lnTo>
                  <a:pt x="3345" y="108"/>
                </a:lnTo>
                <a:lnTo>
                  <a:pt x="3343" y="103"/>
                </a:lnTo>
                <a:lnTo>
                  <a:pt x="3338" y="95"/>
                </a:lnTo>
                <a:lnTo>
                  <a:pt x="3332" y="74"/>
                </a:lnTo>
                <a:lnTo>
                  <a:pt x="3338" y="45"/>
                </a:lnTo>
                <a:lnTo>
                  <a:pt x="3343" y="37"/>
                </a:lnTo>
                <a:lnTo>
                  <a:pt x="3345" y="34"/>
                </a:lnTo>
                <a:lnTo>
                  <a:pt x="3356" y="21"/>
                </a:lnTo>
                <a:lnTo>
                  <a:pt x="3363" y="12"/>
                </a:lnTo>
                <a:lnTo>
                  <a:pt x="3364" y="10"/>
                </a:lnTo>
                <a:lnTo>
                  <a:pt x="3364" y="10"/>
                </a:lnTo>
                <a:close/>
                <a:moveTo>
                  <a:pt x="3276" y="2255"/>
                </a:moveTo>
                <a:lnTo>
                  <a:pt x="3276" y="2259"/>
                </a:lnTo>
                <a:lnTo>
                  <a:pt x="3280" y="2268"/>
                </a:lnTo>
                <a:lnTo>
                  <a:pt x="3286" y="2288"/>
                </a:lnTo>
                <a:lnTo>
                  <a:pt x="3285" y="2293"/>
                </a:lnTo>
                <a:lnTo>
                  <a:pt x="3283" y="2296"/>
                </a:lnTo>
                <a:lnTo>
                  <a:pt x="3282" y="2300"/>
                </a:lnTo>
                <a:lnTo>
                  <a:pt x="3277" y="2303"/>
                </a:lnTo>
                <a:lnTo>
                  <a:pt x="3272" y="2304"/>
                </a:lnTo>
                <a:lnTo>
                  <a:pt x="3272" y="2304"/>
                </a:lnTo>
                <a:lnTo>
                  <a:pt x="3261" y="2306"/>
                </a:lnTo>
                <a:lnTo>
                  <a:pt x="3243" y="2303"/>
                </a:lnTo>
                <a:lnTo>
                  <a:pt x="3225" y="2296"/>
                </a:lnTo>
                <a:lnTo>
                  <a:pt x="3209" y="2287"/>
                </a:lnTo>
                <a:lnTo>
                  <a:pt x="3174" y="2274"/>
                </a:lnTo>
                <a:lnTo>
                  <a:pt x="3166" y="2272"/>
                </a:lnTo>
                <a:lnTo>
                  <a:pt x="3170" y="2264"/>
                </a:lnTo>
                <a:lnTo>
                  <a:pt x="3173" y="2259"/>
                </a:lnTo>
                <a:lnTo>
                  <a:pt x="3174" y="2258"/>
                </a:lnTo>
                <a:lnTo>
                  <a:pt x="3186" y="2256"/>
                </a:lnTo>
                <a:lnTo>
                  <a:pt x="3205" y="2254"/>
                </a:lnTo>
                <a:lnTo>
                  <a:pt x="3235" y="2254"/>
                </a:lnTo>
                <a:lnTo>
                  <a:pt x="3266" y="2255"/>
                </a:lnTo>
                <a:lnTo>
                  <a:pt x="3276" y="2255"/>
                </a:lnTo>
                <a:lnTo>
                  <a:pt x="3276" y="2255"/>
                </a:lnTo>
                <a:close/>
                <a:moveTo>
                  <a:pt x="3273" y="2455"/>
                </a:moveTo>
                <a:lnTo>
                  <a:pt x="3287" y="2464"/>
                </a:lnTo>
                <a:lnTo>
                  <a:pt x="3306" y="2471"/>
                </a:lnTo>
                <a:lnTo>
                  <a:pt x="3311" y="2472"/>
                </a:lnTo>
                <a:lnTo>
                  <a:pt x="3316" y="2471"/>
                </a:lnTo>
                <a:lnTo>
                  <a:pt x="3319" y="2469"/>
                </a:lnTo>
                <a:lnTo>
                  <a:pt x="3324" y="2467"/>
                </a:lnTo>
                <a:lnTo>
                  <a:pt x="3335" y="2461"/>
                </a:lnTo>
                <a:lnTo>
                  <a:pt x="3356" y="2456"/>
                </a:lnTo>
                <a:lnTo>
                  <a:pt x="3373" y="2455"/>
                </a:lnTo>
                <a:lnTo>
                  <a:pt x="3372" y="2461"/>
                </a:lnTo>
                <a:lnTo>
                  <a:pt x="3370" y="2469"/>
                </a:lnTo>
                <a:lnTo>
                  <a:pt x="3366" y="2487"/>
                </a:lnTo>
                <a:lnTo>
                  <a:pt x="3363" y="2506"/>
                </a:lnTo>
                <a:lnTo>
                  <a:pt x="3364" y="2510"/>
                </a:lnTo>
                <a:lnTo>
                  <a:pt x="3356" y="2509"/>
                </a:lnTo>
                <a:lnTo>
                  <a:pt x="3334" y="2507"/>
                </a:lnTo>
                <a:lnTo>
                  <a:pt x="3286" y="2497"/>
                </a:lnTo>
                <a:lnTo>
                  <a:pt x="3277" y="2493"/>
                </a:lnTo>
                <a:lnTo>
                  <a:pt x="3272" y="2487"/>
                </a:lnTo>
                <a:lnTo>
                  <a:pt x="3267" y="2478"/>
                </a:lnTo>
                <a:lnTo>
                  <a:pt x="3267" y="2468"/>
                </a:lnTo>
                <a:lnTo>
                  <a:pt x="3272" y="2455"/>
                </a:lnTo>
                <a:lnTo>
                  <a:pt x="3273" y="2455"/>
                </a:lnTo>
                <a:lnTo>
                  <a:pt x="3273" y="2455"/>
                </a:lnTo>
                <a:close/>
                <a:moveTo>
                  <a:pt x="3374" y="2400"/>
                </a:moveTo>
                <a:lnTo>
                  <a:pt x="3367" y="2400"/>
                </a:lnTo>
                <a:lnTo>
                  <a:pt x="3361" y="2397"/>
                </a:lnTo>
                <a:lnTo>
                  <a:pt x="3357" y="2393"/>
                </a:lnTo>
                <a:lnTo>
                  <a:pt x="3353" y="2388"/>
                </a:lnTo>
                <a:lnTo>
                  <a:pt x="3350" y="2383"/>
                </a:lnTo>
                <a:lnTo>
                  <a:pt x="3345" y="2372"/>
                </a:lnTo>
                <a:lnTo>
                  <a:pt x="3345" y="2367"/>
                </a:lnTo>
                <a:lnTo>
                  <a:pt x="3347" y="2361"/>
                </a:lnTo>
                <a:lnTo>
                  <a:pt x="3350" y="2358"/>
                </a:lnTo>
                <a:lnTo>
                  <a:pt x="3354" y="2355"/>
                </a:lnTo>
                <a:lnTo>
                  <a:pt x="3360" y="2354"/>
                </a:lnTo>
                <a:lnTo>
                  <a:pt x="3361" y="2354"/>
                </a:lnTo>
                <a:lnTo>
                  <a:pt x="3363" y="2356"/>
                </a:lnTo>
                <a:lnTo>
                  <a:pt x="3369" y="2364"/>
                </a:lnTo>
                <a:lnTo>
                  <a:pt x="3377" y="2380"/>
                </a:lnTo>
                <a:lnTo>
                  <a:pt x="3379" y="2388"/>
                </a:lnTo>
                <a:lnTo>
                  <a:pt x="3377" y="2397"/>
                </a:lnTo>
                <a:lnTo>
                  <a:pt x="3374" y="2400"/>
                </a:lnTo>
                <a:lnTo>
                  <a:pt x="3374" y="2400"/>
                </a:lnTo>
                <a:close/>
                <a:moveTo>
                  <a:pt x="3419" y="2433"/>
                </a:moveTo>
                <a:lnTo>
                  <a:pt x="3424" y="2429"/>
                </a:lnTo>
                <a:lnTo>
                  <a:pt x="3431" y="2416"/>
                </a:lnTo>
                <a:lnTo>
                  <a:pt x="3438" y="2401"/>
                </a:lnTo>
                <a:lnTo>
                  <a:pt x="3451" y="2375"/>
                </a:lnTo>
                <a:lnTo>
                  <a:pt x="3464" y="2362"/>
                </a:lnTo>
                <a:lnTo>
                  <a:pt x="3466" y="2365"/>
                </a:lnTo>
                <a:lnTo>
                  <a:pt x="3473" y="2374"/>
                </a:lnTo>
                <a:lnTo>
                  <a:pt x="3492" y="2398"/>
                </a:lnTo>
                <a:lnTo>
                  <a:pt x="3503" y="2419"/>
                </a:lnTo>
                <a:lnTo>
                  <a:pt x="3505" y="2420"/>
                </a:lnTo>
                <a:lnTo>
                  <a:pt x="3505" y="2432"/>
                </a:lnTo>
                <a:lnTo>
                  <a:pt x="3505" y="2449"/>
                </a:lnTo>
                <a:lnTo>
                  <a:pt x="3505" y="2458"/>
                </a:lnTo>
                <a:lnTo>
                  <a:pt x="3503" y="2462"/>
                </a:lnTo>
                <a:lnTo>
                  <a:pt x="3500" y="2465"/>
                </a:lnTo>
                <a:lnTo>
                  <a:pt x="3496" y="2467"/>
                </a:lnTo>
                <a:lnTo>
                  <a:pt x="3492" y="2469"/>
                </a:lnTo>
                <a:lnTo>
                  <a:pt x="3474" y="2477"/>
                </a:lnTo>
                <a:lnTo>
                  <a:pt x="3464" y="2481"/>
                </a:lnTo>
                <a:lnTo>
                  <a:pt x="3463" y="2478"/>
                </a:lnTo>
                <a:lnTo>
                  <a:pt x="3460" y="2475"/>
                </a:lnTo>
                <a:lnTo>
                  <a:pt x="3457" y="2474"/>
                </a:lnTo>
                <a:lnTo>
                  <a:pt x="3453" y="2471"/>
                </a:lnTo>
                <a:lnTo>
                  <a:pt x="3443" y="2467"/>
                </a:lnTo>
                <a:lnTo>
                  <a:pt x="3432" y="2461"/>
                </a:lnTo>
                <a:lnTo>
                  <a:pt x="3424" y="2451"/>
                </a:lnTo>
                <a:lnTo>
                  <a:pt x="3419" y="2433"/>
                </a:lnTo>
                <a:lnTo>
                  <a:pt x="3419" y="2433"/>
                </a:lnTo>
                <a:lnTo>
                  <a:pt x="3419" y="2433"/>
                </a:lnTo>
                <a:close/>
                <a:moveTo>
                  <a:pt x="3754" y="2207"/>
                </a:moveTo>
                <a:lnTo>
                  <a:pt x="3747" y="2207"/>
                </a:lnTo>
                <a:lnTo>
                  <a:pt x="3738" y="2207"/>
                </a:lnTo>
                <a:lnTo>
                  <a:pt x="3725" y="2203"/>
                </a:lnTo>
                <a:lnTo>
                  <a:pt x="3712" y="2200"/>
                </a:lnTo>
                <a:lnTo>
                  <a:pt x="3708" y="2198"/>
                </a:lnTo>
                <a:lnTo>
                  <a:pt x="3705" y="2201"/>
                </a:lnTo>
                <a:lnTo>
                  <a:pt x="3700" y="2207"/>
                </a:lnTo>
                <a:lnTo>
                  <a:pt x="3692" y="2219"/>
                </a:lnTo>
                <a:lnTo>
                  <a:pt x="3686" y="2229"/>
                </a:lnTo>
                <a:lnTo>
                  <a:pt x="3684" y="2229"/>
                </a:lnTo>
                <a:lnTo>
                  <a:pt x="3683" y="2223"/>
                </a:lnTo>
                <a:lnTo>
                  <a:pt x="3682" y="2209"/>
                </a:lnTo>
                <a:lnTo>
                  <a:pt x="3684" y="2177"/>
                </a:lnTo>
                <a:lnTo>
                  <a:pt x="3690" y="2148"/>
                </a:lnTo>
                <a:lnTo>
                  <a:pt x="3692" y="2141"/>
                </a:lnTo>
                <a:lnTo>
                  <a:pt x="3692" y="2136"/>
                </a:lnTo>
                <a:lnTo>
                  <a:pt x="3692" y="2129"/>
                </a:lnTo>
                <a:lnTo>
                  <a:pt x="3693" y="2116"/>
                </a:lnTo>
                <a:lnTo>
                  <a:pt x="3693" y="2097"/>
                </a:lnTo>
                <a:lnTo>
                  <a:pt x="3695" y="2088"/>
                </a:lnTo>
                <a:lnTo>
                  <a:pt x="3703" y="2090"/>
                </a:lnTo>
                <a:lnTo>
                  <a:pt x="3715" y="2093"/>
                </a:lnTo>
                <a:lnTo>
                  <a:pt x="3718" y="2094"/>
                </a:lnTo>
                <a:lnTo>
                  <a:pt x="3719" y="2097"/>
                </a:lnTo>
                <a:lnTo>
                  <a:pt x="3721" y="2099"/>
                </a:lnTo>
                <a:lnTo>
                  <a:pt x="3725" y="2109"/>
                </a:lnTo>
                <a:lnTo>
                  <a:pt x="3760" y="2143"/>
                </a:lnTo>
                <a:lnTo>
                  <a:pt x="3761" y="2143"/>
                </a:lnTo>
                <a:lnTo>
                  <a:pt x="3761" y="2149"/>
                </a:lnTo>
                <a:lnTo>
                  <a:pt x="3761" y="2159"/>
                </a:lnTo>
                <a:lnTo>
                  <a:pt x="3761" y="2184"/>
                </a:lnTo>
                <a:lnTo>
                  <a:pt x="3760" y="2196"/>
                </a:lnTo>
                <a:lnTo>
                  <a:pt x="3755" y="2204"/>
                </a:lnTo>
                <a:lnTo>
                  <a:pt x="3754" y="2207"/>
                </a:lnTo>
                <a:lnTo>
                  <a:pt x="3754" y="2207"/>
                </a:lnTo>
                <a:close/>
                <a:moveTo>
                  <a:pt x="3522" y="2084"/>
                </a:moveTo>
                <a:lnTo>
                  <a:pt x="3529" y="2080"/>
                </a:lnTo>
                <a:lnTo>
                  <a:pt x="3545" y="2068"/>
                </a:lnTo>
                <a:lnTo>
                  <a:pt x="3571" y="2046"/>
                </a:lnTo>
                <a:lnTo>
                  <a:pt x="3598" y="2022"/>
                </a:lnTo>
                <a:lnTo>
                  <a:pt x="3605" y="2014"/>
                </a:lnTo>
                <a:lnTo>
                  <a:pt x="3608" y="2019"/>
                </a:lnTo>
                <a:lnTo>
                  <a:pt x="3613" y="2030"/>
                </a:lnTo>
                <a:lnTo>
                  <a:pt x="3618" y="2042"/>
                </a:lnTo>
                <a:lnTo>
                  <a:pt x="3622" y="2067"/>
                </a:lnTo>
                <a:lnTo>
                  <a:pt x="3622" y="2084"/>
                </a:lnTo>
                <a:lnTo>
                  <a:pt x="3628" y="2080"/>
                </a:lnTo>
                <a:lnTo>
                  <a:pt x="3645" y="2064"/>
                </a:lnTo>
                <a:lnTo>
                  <a:pt x="3660" y="2051"/>
                </a:lnTo>
                <a:lnTo>
                  <a:pt x="3661" y="2049"/>
                </a:lnTo>
                <a:lnTo>
                  <a:pt x="3661" y="2062"/>
                </a:lnTo>
                <a:lnTo>
                  <a:pt x="3661" y="2100"/>
                </a:lnTo>
                <a:lnTo>
                  <a:pt x="3656" y="2197"/>
                </a:lnTo>
                <a:lnTo>
                  <a:pt x="3642" y="2238"/>
                </a:lnTo>
                <a:lnTo>
                  <a:pt x="3632" y="2252"/>
                </a:lnTo>
                <a:lnTo>
                  <a:pt x="3619" y="2262"/>
                </a:lnTo>
                <a:lnTo>
                  <a:pt x="3605" y="2265"/>
                </a:lnTo>
                <a:lnTo>
                  <a:pt x="3605" y="2265"/>
                </a:lnTo>
                <a:lnTo>
                  <a:pt x="3605" y="2262"/>
                </a:lnTo>
                <a:lnTo>
                  <a:pt x="3605" y="2255"/>
                </a:lnTo>
                <a:lnTo>
                  <a:pt x="3609" y="2236"/>
                </a:lnTo>
                <a:lnTo>
                  <a:pt x="3612" y="2219"/>
                </a:lnTo>
                <a:lnTo>
                  <a:pt x="3613" y="2214"/>
                </a:lnTo>
                <a:lnTo>
                  <a:pt x="3590" y="2216"/>
                </a:lnTo>
                <a:lnTo>
                  <a:pt x="3554" y="2225"/>
                </a:lnTo>
                <a:lnTo>
                  <a:pt x="3528" y="2239"/>
                </a:lnTo>
                <a:lnTo>
                  <a:pt x="3506" y="2259"/>
                </a:lnTo>
                <a:lnTo>
                  <a:pt x="3458" y="2304"/>
                </a:lnTo>
                <a:lnTo>
                  <a:pt x="3443" y="2314"/>
                </a:lnTo>
                <a:lnTo>
                  <a:pt x="3443" y="2313"/>
                </a:lnTo>
                <a:lnTo>
                  <a:pt x="3444" y="2303"/>
                </a:lnTo>
                <a:lnTo>
                  <a:pt x="3450" y="2264"/>
                </a:lnTo>
                <a:lnTo>
                  <a:pt x="3454" y="2229"/>
                </a:lnTo>
                <a:lnTo>
                  <a:pt x="3456" y="2225"/>
                </a:lnTo>
                <a:lnTo>
                  <a:pt x="3447" y="2222"/>
                </a:lnTo>
                <a:lnTo>
                  <a:pt x="3437" y="2216"/>
                </a:lnTo>
                <a:lnTo>
                  <a:pt x="3428" y="2210"/>
                </a:lnTo>
                <a:lnTo>
                  <a:pt x="3427" y="2207"/>
                </a:lnTo>
                <a:lnTo>
                  <a:pt x="3422" y="2188"/>
                </a:lnTo>
                <a:lnTo>
                  <a:pt x="3414" y="2127"/>
                </a:lnTo>
                <a:lnTo>
                  <a:pt x="3408" y="2081"/>
                </a:lnTo>
                <a:lnTo>
                  <a:pt x="3408" y="2078"/>
                </a:lnTo>
                <a:lnTo>
                  <a:pt x="3406" y="2064"/>
                </a:lnTo>
                <a:lnTo>
                  <a:pt x="3406" y="2028"/>
                </a:lnTo>
                <a:lnTo>
                  <a:pt x="3414" y="1954"/>
                </a:lnTo>
                <a:lnTo>
                  <a:pt x="3418" y="1941"/>
                </a:lnTo>
                <a:lnTo>
                  <a:pt x="3424" y="1932"/>
                </a:lnTo>
                <a:lnTo>
                  <a:pt x="3427" y="1929"/>
                </a:lnTo>
                <a:lnTo>
                  <a:pt x="3429" y="1928"/>
                </a:lnTo>
                <a:lnTo>
                  <a:pt x="3434" y="1929"/>
                </a:lnTo>
                <a:lnTo>
                  <a:pt x="3437" y="1930"/>
                </a:lnTo>
                <a:lnTo>
                  <a:pt x="3441" y="1935"/>
                </a:lnTo>
                <a:lnTo>
                  <a:pt x="3445" y="1941"/>
                </a:lnTo>
                <a:lnTo>
                  <a:pt x="3447" y="1941"/>
                </a:lnTo>
                <a:lnTo>
                  <a:pt x="3451" y="1951"/>
                </a:lnTo>
                <a:lnTo>
                  <a:pt x="3458" y="1972"/>
                </a:lnTo>
                <a:lnTo>
                  <a:pt x="3463" y="1997"/>
                </a:lnTo>
                <a:lnTo>
                  <a:pt x="3466" y="2048"/>
                </a:lnTo>
                <a:lnTo>
                  <a:pt x="3467" y="2078"/>
                </a:lnTo>
                <a:lnTo>
                  <a:pt x="3474" y="2074"/>
                </a:lnTo>
                <a:lnTo>
                  <a:pt x="3489" y="2062"/>
                </a:lnTo>
                <a:lnTo>
                  <a:pt x="3498" y="2055"/>
                </a:lnTo>
                <a:lnTo>
                  <a:pt x="3502" y="2054"/>
                </a:lnTo>
                <a:lnTo>
                  <a:pt x="3505" y="2052"/>
                </a:lnTo>
                <a:lnTo>
                  <a:pt x="3508" y="2054"/>
                </a:lnTo>
                <a:lnTo>
                  <a:pt x="3509" y="2055"/>
                </a:lnTo>
                <a:lnTo>
                  <a:pt x="3511" y="2058"/>
                </a:lnTo>
                <a:lnTo>
                  <a:pt x="3514" y="2064"/>
                </a:lnTo>
                <a:lnTo>
                  <a:pt x="3518" y="2072"/>
                </a:lnTo>
                <a:lnTo>
                  <a:pt x="3521" y="2084"/>
                </a:lnTo>
                <a:lnTo>
                  <a:pt x="3522" y="2084"/>
                </a:lnTo>
                <a:lnTo>
                  <a:pt x="3522" y="2084"/>
                </a:lnTo>
                <a:close/>
                <a:moveTo>
                  <a:pt x="252" y="2461"/>
                </a:moveTo>
                <a:lnTo>
                  <a:pt x="241" y="2448"/>
                </a:lnTo>
                <a:lnTo>
                  <a:pt x="222" y="2425"/>
                </a:lnTo>
                <a:lnTo>
                  <a:pt x="186" y="2401"/>
                </a:lnTo>
                <a:lnTo>
                  <a:pt x="171" y="2398"/>
                </a:lnTo>
                <a:lnTo>
                  <a:pt x="157" y="2398"/>
                </a:lnTo>
                <a:lnTo>
                  <a:pt x="151" y="2400"/>
                </a:lnTo>
                <a:lnTo>
                  <a:pt x="151" y="2407"/>
                </a:lnTo>
                <a:lnTo>
                  <a:pt x="152" y="2419"/>
                </a:lnTo>
                <a:lnTo>
                  <a:pt x="157" y="2432"/>
                </a:lnTo>
                <a:lnTo>
                  <a:pt x="165" y="2448"/>
                </a:lnTo>
                <a:lnTo>
                  <a:pt x="199" y="2488"/>
                </a:lnTo>
                <a:lnTo>
                  <a:pt x="212" y="2501"/>
                </a:lnTo>
                <a:lnTo>
                  <a:pt x="216" y="2509"/>
                </a:lnTo>
                <a:lnTo>
                  <a:pt x="223" y="2520"/>
                </a:lnTo>
                <a:lnTo>
                  <a:pt x="226" y="2532"/>
                </a:lnTo>
                <a:lnTo>
                  <a:pt x="226" y="2542"/>
                </a:lnTo>
                <a:lnTo>
                  <a:pt x="229" y="2553"/>
                </a:lnTo>
                <a:lnTo>
                  <a:pt x="233" y="2564"/>
                </a:lnTo>
                <a:lnTo>
                  <a:pt x="239" y="2568"/>
                </a:lnTo>
                <a:lnTo>
                  <a:pt x="245" y="2574"/>
                </a:lnTo>
                <a:lnTo>
                  <a:pt x="251" y="2578"/>
                </a:lnTo>
                <a:lnTo>
                  <a:pt x="259" y="2580"/>
                </a:lnTo>
                <a:lnTo>
                  <a:pt x="275" y="2582"/>
                </a:lnTo>
                <a:lnTo>
                  <a:pt x="291" y="2582"/>
                </a:lnTo>
                <a:lnTo>
                  <a:pt x="314" y="2580"/>
                </a:lnTo>
                <a:lnTo>
                  <a:pt x="317" y="2580"/>
                </a:lnTo>
                <a:lnTo>
                  <a:pt x="316" y="2571"/>
                </a:lnTo>
                <a:lnTo>
                  <a:pt x="313" y="2555"/>
                </a:lnTo>
                <a:lnTo>
                  <a:pt x="306" y="2538"/>
                </a:lnTo>
                <a:lnTo>
                  <a:pt x="294" y="2520"/>
                </a:lnTo>
                <a:lnTo>
                  <a:pt x="261" y="2475"/>
                </a:lnTo>
                <a:lnTo>
                  <a:pt x="252" y="2461"/>
                </a:lnTo>
                <a:lnTo>
                  <a:pt x="252" y="2461"/>
                </a:lnTo>
                <a:close/>
                <a:moveTo>
                  <a:pt x="1701" y="2733"/>
                </a:moveTo>
                <a:lnTo>
                  <a:pt x="1702" y="2726"/>
                </a:lnTo>
                <a:lnTo>
                  <a:pt x="1708" y="2704"/>
                </a:lnTo>
                <a:lnTo>
                  <a:pt x="1713" y="2687"/>
                </a:lnTo>
                <a:lnTo>
                  <a:pt x="1714" y="2685"/>
                </a:lnTo>
                <a:lnTo>
                  <a:pt x="1721" y="2687"/>
                </a:lnTo>
                <a:lnTo>
                  <a:pt x="1744" y="2690"/>
                </a:lnTo>
                <a:lnTo>
                  <a:pt x="1762" y="2691"/>
                </a:lnTo>
                <a:lnTo>
                  <a:pt x="1763" y="2691"/>
                </a:lnTo>
                <a:lnTo>
                  <a:pt x="1762" y="2700"/>
                </a:lnTo>
                <a:lnTo>
                  <a:pt x="1762" y="2726"/>
                </a:lnTo>
                <a:lnTo>
                  <a:pt x="1762" y="2745"/>
                </a:lnTo>
                <a:lnTo>
                  <a:pt x="1762" y="2745"/>
                </a:lnTo>
                <a:lnTo>
                  <a:pt x="1766" y="2746"/>
                </a:lnTo>
                <a:lnTo>
                  <a:pt x="1775" y="2748"/>
                </a:lnTo>
                <a:lnTo>
                  <a:pt x="1797" y="2755"/>
                </a:lnTo>
                <a:lnTo>
                  <a:pt x="1855" y="2771"/>
                </a:lnTo>
                <a:lnTo>
                  <a:pt x="1911" y="2777"/>
                </a:lnTo>
                <a:lnTo>
                  <a:pt x="1913" y="2777"/>
                </a:lnTo>
                <a:lnTo>
                  <a:pt x="1927" y="2777"/>
                </a:lnTo>
                <a:lnTo>
                  <a:pt x="1976" y="2772"/>
                </a:lnTo>
                <a:lnTo>
                  <a:pt x="2014" y="2771"/>
                </a:lnTo>
                <a:lnTo>
                  <a:pt x="2017" y="2769"/>
                </a:lnTo>
                <a:lnTo>
                  <a:pt x="2024" y="2768"/>
                </a:lnTo>
                <a:lnTo>
                  <a:pt x="2033" y="2765"/>
                </a:lnTo>
                <a:lnTo>
                  <a:pt x="2039" y="2759"/>
                </a:lnTo>
                <a:lnTo>
                  <a:pt x="2046" y="2753"/>
                </a:lnTo>
                <a:lnTo>
                  <a:pt x="2056" y="2736"/>
                </a:lnTo>
                <a:lnTo>
                  <a:pt x="2066" y="2719"/>
                </a:lnTo>
                <a:lnTo>
                  <a:pt x="2089" y="2684"/>
                </a:lnTo>
                <a:lnTo>
                  <a:pt x="2091" y="2684"/>
                </a:lnTo>
                <a:lnTo>
                  <a:pt x="2099" y="2685"/>
                </a:lnTo>
                <a:lnTo>
                  <a:pt x="2118" y="2688"/>
                </a:lnTo>
                <a:lnTo>
                  <a:pt x="2134" y="2694"/>
                </a:lnTo>
                <a:lnTo>
                  <a:pt x="2173" y="2714"/>
                </a:lnTo>
                <a:lnTo>
                  <a:pt x="2217" y="2735"/>
                </a:lnTo>
                <a:lnTo>
                  <a:pt x="2226" y="2739"/>
                </a:lnTo>
                <a:lnTo>
                  <a:pt x="2252" y="2749"/>
                </a:lnTo>
                <a:lnTo>
                  <a:pt x="2272" y="2756"/>
                </a:lnTo>
                <a:lnTo>
                  <a:pt x="2273" y="2756"/>
                </a:lnTo>
                <a:lnTo>
                  <a:pt x="2276" y="2762"/>
                </a:lnTo>
                <a:lnTo>
                  <a:pt x="2278" y="2768"/>
                </a:lnTo>
                <a:lnTo>
                  <a:pt x="2276" y="2775"/>
                </a:lnTo>
                <a:lnTo>
                  <a:pt x="2275" y="2781"/>
                </a:lnTo>
                <a:lnTo>
                  <a:pt x="2270" y="2795"/>
                </a:lnTo>
                <a:lnTo>
                  <a:pt x="2266" y="2811"/>
                </a:lnTo>
                <a:lnTo>
                  <a:pt x="2265" y="2824"/>
                </a:lnTo>
                <a:lnTo>
                  <a:pt x="2269" y="2835"/>
                </a:lnTo>
                <a:lnTo>
                  <a:pt x="2270" y="2835"/>
                </a:lnTo>
                <a:lnTo>
                  <a:pt x="2275" y="2836"/>
                </a:lnTo>
                <a:lnTo>
                  <a:pt x="2285" y="2839"/>
                </a:lnTo>
                <a:lnTo>
                  <a:pt x="2295" y="2843"/>
                </a:lnTo>
                <a:lnTo>
                  <a:pt x="2317" y="2852"/>
                </a:lnTo>
                <a:lnTo>
                  <a:pt x="2331" y="2855"/>
                </a:lnTo>
                <a:lnTo>
                  <a:pt x="2343" y="2858"/>
                </a:lnTo>
                <a:lnTo>
                  <a:pt x="2369" y="2861"/>
                </a:lnTo>
                <a:lnTo>
                  <a:pt x="2421" y="2859"/>
                </a:lnTo>
                <a:lnTo>
                  <a:pt x="2470" y="2865"/>
                </a:lnTo>
                <a:lnTo>
                  <a:pt x="2482" y="2868"/>
                </a:lnTo>
                <a:lnTo>
                  <a:pt x="2483" y="2868"/>
                </a:lnTo>
                <a:lnTo>
                  <a:pt x="2495" y="2868"/>
                </a:lnTo>
                <a:lnTo>
                  <a:pt x="2530" y="2868"/>
                </a:lnTo>
                <a:lnTo>
                  <a:pt x="2549" y="2872"/>
                </a:lnTo>
                <a:lnTo>
                  <a:pt x="2556" y="2875"/>
                </a:lnTo>
                <a:lnTo>
                  <a:pt x="2562" y="2880"/>
                </a:lnTo>
                <a:lnTo>
                  <a:pt x="2565" y="2885"/>
                </a:lnTo>
                <a:lnTo>
                  <a:pt x="2566" y="2885"/>
                </a:lnTo>
                <a:lnTo>
                  <a:pt x="2563" y="2888"/>
                </a:lnTo>
                <a:lnTo>
                  <a:pt x="2562" y="2893"/>
                </a:lnTo>
                <a:lnTo>
                  <a:pt x="2560" y="2897"/>
                </a:lnTo>
                <a:lnTo>
                  <a:pt x="2560" y="2903"/>
                </a:lnTo>
                <a:lnTo>
                  <a:pt x="2560" y="2916"/>
                </a:lnTo>
                <a:lnTo>
                  <a:pt x="2559" y="2942"/>
                </a:lnTo>
                <a:lnTo>
                  <a:pt x="2554" y="2949"/>
                </a:lnTo>
                <a:lnTo>
                  <a:pt x="2549" y="2951"/>
                </a:lnTo>
                <a:lnTo>
                  <a:pt x="2543" y="2951"/>
                </a:lnTo>
                <a:lnTo>
                  <a:pt x="2534" y="2948"/>
                </a:lnTo>
                <a:lnTo>
                  <a:pt x="2515" y="2942"/>
                </a:lnTo>
                <a:lnTo>
                  <a:pt x="2485" y="2926"/>
                </a:lnTo>
                <a:lnTo>
                  <a:pt x="2483" y="2924"/>
                </a:lnTo>
                <a:lnTo>
                  <a:pt x="2483" y="2937"/>
                </a:lnTo>
                <a:lnTo>
                  <a:pt x="2486" y="2964"/>
                </a:lnTo>
                <a:lnTo>
                  <a:pt x="2495" y="3024"/>
                </a:lnTo>
                <a:lnTo>
                  <a:pt x="2495" y="3052"/>
                </a:lnTo>
                <a:lnTo>
                  <a:pt x="2491" y="3072"/>
                </a:lnTo>
                <a:lnTo>
                  <a:pt x="2486" y="3079"/>
                </a:lnTo>
                <a:lnTo>
                  <a:pt x="2480" y="3084"/>
                </a:lnTo>
                <a:lnTo>
                  <a:pt x="2476" y="3090"/>
                </a:lnTo>
                <a:lnTo>
                  <a:pt x="2472" y="3100"/>
                </a:lnTo>
                <a:lnTo>
                  <a:pt x="2467" y="3126"/>
                </a:lnTo>
                <a:lnTo>
                  <a:pt x="2465" y="3152"/>
                </a:lnTo>
                <a:lnTo>
                  <a:pt x="2466" y="3174"/>
                </a:lnTo>
                <a:lnTo>
                  <a:pt x="2469" y="3181"/>
                </a:lnTo>
                <a:lnTo>
                  <a:pt x="2472" y="3184"/>
                </a:lnTo>
                <a:lnTo>
                  <a:pt x="2475" y="3181"/>
                </a:lnTo>
                <a:lnTo>
                  <a:pt x="2476" y="3181"/>
                </a:lnTo>
                <a:lnTo>
                  <a:pt x="2485" y="3166"/>
                </a:lnTo>
                <a:lnTo>
                  <a:pt x="2515" y="3123"/>
                </a:lnTo>
                <a:lnTo>
                  <a:pt x="2538" y="3090"/>
                </a:lnTo>
                <a:lnTo>
                  <a:pt x="2540" y="3087"/>
                </a:lnTo>
                <a:lnTo>
                  <a:pt x="2541" y="3087"/>
                </a:lnTo>
                <a:lnTo>
                  <a:pt x="2554" y="3085"/>
                </a:lnTo>
                <a:lnTo>
                  <a:pt x="2599" y="3078"/>
                </a:lnTo>
                <a:lnTo>
                  <a:pt x="2634" y="3074"/>
                </a:lnTo>
                <a:lnTo>
                  <a:pt x="2637" y="3072"/>
                </a:lnTo>
                <a:lnTo>
                  <a:pt x="2638" y="3066"/>
                </a:lnTo>
                <a:lnTo>
                  <a:pt x="2646" y="3049"/>
                </a:lnTo>
                <a:lnTo>
                  <a:pt x="2650" y="3035"/>
                </a:lnTo>
                <a:lnTo>
                  <a:pt x="2651" y="3033"/>
                </a:lnTo>
                <a:lnTo>
                  <a:pt x="2651" y="3032"/>
                </a:lnTo>
                <a:lnTo>
                  <a:pt x="2649" y="3029"/>
                </a:lnTo>
                <a:lnTo>
                  <a:pt x="2643" y="3027"/>
                </a:lnTo>
                <a:lnTo>
                  <a:pt x="2634" y="3027"/>
                </a:lnTo>
                <a:lnTo>
                  <a:pt x="2614" y="3026"/>
                </a:lnTo>
                <a:lnTo>
                  <a:pt x="2583" y="3026"/>
                </a:lnTo>
                <a:lnTo>
                  <a:pt x="2588" y="3026"/>
                </a:lnTo>
                <a:lnTo>
                  <a:pt x="2596" y="3019"/>
                </a:lnTo>
                <a:lnTo>
                  <a:pt x="2621" y="2998"/>
                </a:lnTo>
                <a:lnTo>
                  <a:pt x="2680" y="2953"/>
                </a:lnTo>
                <a:lnTo>
                  <a:pt x="2709" y="2937"/>
                </a:lnTo>
                <a:lnTo>
                  <a:pt x="2734" y="2929"/>
                </a:lnTo>
                <a:lnTo>
                  <a:pt x="2744" y="2929"/>
                </a:lnTo>
                <a:lnTo>
                  <a:pt x="2746" y="2926"/>
                </a:lnTo>
                <a:lnTo>
                  <a:pt x="2757" y="2907"/>
                </a:lnTo>
                <a:lnTo>
                  <a:pt x="2799" y="2838"/>
                </a:lnTo>
                <a:lnTo>
                  <a:pt x="2830" y="2785"/>
                </a:lnTo>
                <a:lnTo>
                  <a:pt x="2833" y="2781"/>
                </a:lnTo>
                <a:lnTo>
                  <a:pt x="2833" y="2778"/>
                </a:lnTo>
                <a:lnTo>
                  <a:pt x="2835" y="2775"/>
                </a:lnTo>
                <a:lnTo>
                  <a:pt x="2840" y="2772"/>
                </a:lnTo>
                <a:lnTo>
                  <a:pt x="2844" y="2771"/>
                </a:lnTo>
                <a:lnTo>
                  <a:pt x="2857" y="2769"/>
                </a:lnTo>
                <a:lnTo>
                  <a:pt x="2873" y="2768"/>
                </a:lnTo>
                <a:lnTo>
                  <a:pt x="2909" y="2767"/>
                </a:lnTo>
                <a:lnTo>
                  <a:pt x="2944" y="2764"/>
                </a:lnTo>
                <a:lnTo>
                  <a:pt x="2960" y="2759"/>
                </a:lnTo>
                <a:lnTo>
                  <a:pt x="2973" y="2752"/>
                </a:lnTo>
                <a:lnTo>
                  <a:pt x="2982" y="2740"/>
                </a:lnTo>
                <a:lnTo>
                  <a:pt x="2986" y="2726"/>
                </a:lnTo>
                <a:lnTo>
                  <a:pt x="2988" y="2726"/>
                </a:lnTo>
                <a:lnTo>
                  <a:pt x="2990" y="2726"/>
                </a:lnTo>
                <a:lnTo>
                  <a:pt x="2993" y="2724"/>
                </a:lnTo>
                <a:lnTo>
                  <a:pt x="2996" y="2722"/>
                </a:lnTo>
                <a:lnTo>
                  <a:pt x="2999" y="2717"/>
                </a:lnTo>
                <a:lnTo>
                  <a:pt x="3004" y="2706"/>
                </a:lnTo>
                <a:lnTo>
                  <a:pt x="3008" y="2690"/>
                </a:lnTo>
                <a:lnTo>
                  <a:pt x="3015" y="2652"/>
                </a:lnTo>
                <a:lnTo>
                  <a:pt x="3027" y="2572"/>
                </a:lnTo>
                <a:lnTo>
                  <a:pt x="3033" y="2543"/>
                </a:lnTo>
                <a:lnTo>
                  <a:pt x="3037" y="2543"/>
                </a:lnTo>
                <a:lnTo>
                  <a:pt x="3050" y="2542"/>
                </a:lnTo>
                <a:lnTo>
                  <a:pt x="3080" y="2538"/>
                </a:lnTo>
                <a:lnTo>
                  <a:pt x="3108" y="2535"/>
                </a:lnTo>
                <a:lnTo>
                  <a:pt x="3114" y="2533"/>
                </a:lnTo>
                <a:lnTo>
                  <a:pt x="3114" y="2536"/>
                </a:lnTo>
                <a:lnTo>
                  <a:pt x="3115" y="2546"/>
                </a:lnTo>
                <a:lnTo>
                  <a:pt x="3119" y="2585"/>
                </a:lnTo>
                <a:lnTo>
                  <a:pt x="3124" y="2614"/>
                </a:lnTo>
                <a:lnTo>
                  <a:pt x="3125" y="2616"/>
                </a:lnTo>
                <a:lnTo>
                  <a:pt x="3130" y="2624"/>
                </a:lnTo>
                <a:lnTo>
                  <a:pt x="3141" y="2640"/>
                </a:lnTo>
                <a:lnTo>
                  <a:pt x="3169" y="2665"/>
                </a:lnTo>
                <a:lnTo>
                  <a:pt x="3202" y="2687"/>
                </a:lnTo>
                <a:lnTo>
                  <a:pt x="3212" y="2693"/>
                </a:lnTo>
                <a:lnTo>
                  <a:pt x="3230" y="2671"/>
                </a:lnTo>
                <a:lnTo>
                  <a:pt x="3259" y="2638"/>
                </a:lnTo>
                <a:lnTo>
                  <a:pt x="3293" y="2601"/>
                </a:lnTo>
                <a:lnTo>
                  <a:pt x="3319" y="2581"/>
                </a:lnTo>
                <a:lnTo>
                  <a:pt x="3328" y="2575"/>
                </a:lnTo>
                <a:lnTo>
                  <a:pt x="3316" y="2601"/>
                </a:lnTo>
                <a:lnTo>
                  <a:pt x="3298" y="2640"/>
                </a:lnTo>
                <a:lnTo>
                  <a:pt x="3283" y="2671"/>
                </a:lnTo>
                <a:lnTo>
                  <a:pt x="3276" y="2694"/>
                </a:lnTo>
                <a:lnTo>
                  <a:pt x="3276" y="2706"/>
                </a:lnTo>
                <a:lnTo>
                  <a:pt x="3279" y="2716"/>
                </a:lnTo>
                <a:lnTo>
                  <a:pt x="3285" y="2726"/>
                </a:lnTo>
                <a:lnTo>
                  <a:pt x="3295" y="2738"/>
                </a:lnTo>
                <a:lnTo>
                  <a:pt x="3308" y="2749"/>
                </a:lnTo>
                <a:lnTo>
                  <a:pt x="3309" y="2749"/>
                </a:lnTo>
                <a:lnTo>
                  <a:pt x="3325" y="2740"/>
                </a:lnTo>
                <a:lnTo>
                  <a:pt x="3348" y="2722"/>
                </a:lnTo>
                <a:lnTo>
                  <a:pt x="3360" y="2701"/>
                </a:lnTo>
                <a:lnTo>
                  <a:pt x="3364" y="2678"/>
                </a:lnTo>
                <a:lnTo>
                  <a:pt x="3366" y="2656"/>
                </a:lnTo>
                <a:lnTo>
                  <a:pt x="3369" y="2633"/>
                </a:lnTo>
                <a:lnTo>
                  <a:pt x="3373" y="2620"/>
                </a:lnTo>
                <a:lnTo>
                  <a:pt x="3379" y="2622"/>
                </a:lnTo>
                <a:lnTo>
                  <a:pt x="3382" y="2620"/>
                </a:lnTo>
                <a:lnTo>
                  <a:pt x="3386" y="2617"/>
                </a:lnTo>
                <a:lnTo>
                  <a:pt x="3396" y="2609"/>
                </a:lnTo>
                <a:lnTo>
                  <a:pt x="3421" y="2587"/>
                </a:lnTo>
                <a:lnTo>
                  <a:pt x="3467" y="2530"/>
                </a:lnTo>
                <a:lnTo>
                  <a:pt x="3486" y="2501"/>
                </a:lnTo>
                <a:lnTo>
                  <a:pt x="3485" y="2501"/>
                </a:lnTo>
                <a:lnTo>
                  <a:pt x="3480" y="2501"/>
                </a:lnTo>
                <a:lnTo>
                  <a:pt x="3464" y="2500"/>
                </a:lnTo>
                <a:lnTo>
                  <a:pt x="3451" y="2498"/>
                </a:lnTo>
                <a:lnTo>
                  <a:pt x="3451" y="2497"/>
                </a:lnTo>
                <a:lnTo>
                  <a:pt x="3448" y="2498"/>
                </a:lnTo>
                <a:lnTo>
                  <a:pt x="3437" y="2504"/>
                </a:lnTo>
                <a:lnTo>
                  <a:pt x="3405" y="2517"/>
                </a:lnTo>
                <a:lnTo>
                  <a:pt x="3377" y="2529"/>
                </a:lnTo>
                <a:lnTo>
                  <a:pt x="3376" y="2530"/>
                </a:lnTo>
                <a:lnTo>
                  <a:pt x="3356" y="2538"/>
                </a:lnTo>
                <a:lnTo>
                  <a:pt x="3318" y="2540"/>
                </a:lnTo>
                <a:lnTo>
                  <a:pt x="3283" y="2530"/>
                </a:lnTo>
                <a:lnTo>
                  <a:pt x="3253" y="2511"/>
                </a:lnTo>
                <a:lnTo>
                  <a:pt x="3230" y="2485"/>
                </a:lnTo>
                <a:lnTo>
                  <a:pt x="3214" y="2455"/>
                </a:lnTo>
                <a:lnTo>
                  <a:pt x="3211" y="2438"/>
                </a:lnTo>
                <a:lnTo>
                  <a:pt x="3206" y="2439"/>
                </a:lnTo>
                <a:lnTo>
                  <a:pt x="3199" y="2440"/>
                </a:lnTo>
                <a:lnTo>
                  <a:pt x="3180" y="2446"/>
                </a:lnTo>
                <a:lnTo>
                  <a:pt x="3134" y="2464"/>
                </a:lnTo>
                <a:lnTo>
                  <a:pt x="3105" y="2471"/>
                </a:lnTo>
                <a:lnTo>
                  <a:pt x="3105" y="2462"/>
                </a:lnTo>
                <a:lnTo>
                  <a:pt x="3109" y="2454"/>
                </a:lnTo>
                <a:lnTo>
                  <a:pt x="3118" y="2445"/>
                </a:lnTo>
                <a:lnTo>
                  <a:pt x="3130" y="2435"/>
                </a:lnTo>
                <a:lnTo>
                  <a:pt x="3157" y="2417"/>
                </a:lnTo>
                <a:lnTo>
                  <a:pt x="3208" y="2377"/>
                </a:lnTo>
                <a:lnTo>
                  <a:pt x="3218" y="2354"/>
                </a:lnTo>
                <a:lnTo>
                  <a:pt x="3188" y="2342"/>
                </a:lnTo>
                <a:lnTo>
                  <a:pt x="3140" y="2336"/>
                </a:lnTo>
                <a:lnTo>
                  <a:pt x="3102" y="2351"/>
                </a:lnTo>
                <a:lnTo>
                  <a:pt x="3073" y="2378"/>
                </a:lnTo>
                <a:lnTo>
                  <a:pt x="3046" y="2416"/>
                </a:lnTo>
                <a:lnTo>
                  <a:pt x="3015" y="2455"/>
                </a:lnTo>
                <a:lnTo>
                  <a:pt x="2999" y="2474"/>
                </a:lnTo>
                <a:lnTo>
                  <a:pt x="2995" y="2462"/>
                </a:lnTo>
                <a:lnTo>
                  <a:pt x="2993" y="2449"/>
                </a:lnTo>
                <a:lnTo>
                  <a:pt x="2996" y="2435"/>
                </a:lnTo>
                <a:lnTo>
                  <a:pt x="3001" y="2422"/>
                </a:lnTo>
                <a:lnTo>
                  <a:pt x="3012" y="2393"/>
                </a:lnTo>
                <a:lnTo>
                  <a:pt x="3040" y="2336"/>
                </a:lnTo>
                <a:lnTo>
                  <a:pt x="3046" y="2307"/>
                </a:lnTo>
                <a:lnTo>
                  <a:pt x="3057" y="2284"/>
                </a:lnTo>
                <a:lnTo>
                  <a:pt x="3076" y="2264"/>
                </a:lnTo>
                <a:lnTo>
                  <a:pt x="3099" y="2249"/>
                </a:lnTo>
                <a:lnTo>
                  <a:pt x="3127" y="2236"/>
                </a:lnTo>
                <a:lnTo>
                  <a:pt x="3186" y="2217"/>
                </a:lnTo>
                <a:lnTo>
                  <a:pt x="3245" y="2200"/>
                </a:lnTo>
                <a:lnTo>
                  <a:pt x="3296" y="2174"/>
                </a:lnTo>
                <a:lnTo>
                  <a:pt x="3315" y="2156"/>
                </a:lnTo>
                <a:lnTo>
                  <a:pt x="3327" y="2133"/>
                </a:lnTo>
                <a:lnTo>
                  <a:pt x="3328" y="2133"/>
                </a:lnTo>
                <a:lnTo>
                  <a:pt x="3331" y="2123"/>
                </a:lnTo>
                <a:lnTo>
                  <a:pt x="3335" y="2100"/>
                </a:lnTo>
                <a:lnTo>
                  <a:pt x="3340" y="2055"/>
                </a:lnTo>
                <a:lnTo>
                  <a:pt x="3356" y="2014"/>
                </a:lnTo>
                <a:lnTo>
                  <a:pt x="3364" y="2004"/>
                </a:lnTo>
                <a:lnTo>
                  <a:pt x="3374" y="1990"/>
                </a:lnTo>
                <a:lnTo>
                  <a:pt x="3389" y="1955"/>
                </a:lnTo>
                <a:lnTo>
                  <a:pt x="3393" y="1914"/>
                </a:lnTo>
                <a:lnTo>
                  <a:pt x="3389" y="1877"/>
                </a:lnTo>
                <a:lnTo>
                  <a:pt x="3373" y="1842"/>
                </a:lnTo>
                <a:lnTo>
                  <a:pt x="3345" y="1819"/>
                </a:lnTo>
                <a:lnTo>
                  <a:pt x="3328" y="1812"/>
                </a:lnTo>
                <a:lnTo>
                  <a:pt x="3327" y="1813"/>
                </a:lnTo>
                <a:lnTo>
                  <a:pt x="3321" y="1816"/>
                </a:lnTo>
                <a:lnTo>
                  <a:pt x="3301" y="1825"/>
                </a:lnTo>
                <a:lnTo>
                  <a:pt x="3286" y="1830"/>
                </a:lnTo>
                <a:lnTo>
                  <a:pt x="3286" y="1830"/>
                </a:lnTo>
                <a:lnTo>
                  <a:pt x="3280" y="1828"/>
                </a:lnTo>
                <a:lnTo>
                  <a:pt x="3264" y="1819"/>
                </a:lnTo>
                <a:lnTo>
                  <a:pt x="3253" y="1812"/>
                </a:lnTo>
                <a:lnTo>
                  <a:pt x="3253" y="1810"/>
                </a:lnTo>
                <a:lnTo>
                  <a:pt x="3243" y="1817"/>
                </a:lnTo>
                <a:lnTo>
                  <a:pt x="3234" y="1829"/>
                </a:lnTo>
                <a:lnTo>
                  <a:pt x="3227" y="1845"/>
                </a:lnTo>
                <a:lnTo>
                  <a:pt x="3215" y="1881"/>
                </a:lnTo>
                <a:lnTo>
                  <a:pt x="3198" y="1954"/>
                </a:lnTo>
                <a:lnTo>
                  <a:pt x="3186" y="1971"/>
                </a:lnTo>
                <a:lnTo>
                  <a:pt x="3186" y="1967"/>
                </a:lnTo>
                <a:lnTo>
                  <a:pt x="3186" y="1959"/>
                </a:lnTo>
                <a:lnTo>
                  <a:pt x="3185" y="1939"/>
                </a:lnTo>
                <a:lnTo>
                  <a:pt x="3180" y="1887"/>
                </a:lnTo>
                <a:lnTo>
                  <a:pt x="3186" y="1848"/>
                </a:lnTo>
                <a:lnTo>
                  <a:pt x="3189" y="1842"/>
                </a:lnTo>
                <a:lnTo>
                  <a:pt x="3198" y="1828"/>
                </a:lnTo>
                <a:lnTo>
                  <a:pt x="3217" y="1796"/>
                </a:lnTo>
                <a:lnTo>
                  <a:pt x="3222" y="1783"/>
                </a:lnTo>
                <a:lnTo>
                  <a:pt x="3222" y="1777"/>
                </a:lnTo>
                <a:lnTo>
                  <a:pt x="3222" y="1772"/>
                </a:lnTo>
                <a:lnTo>
                  <a:pt x="3222" y="1770"/>
                </a:lnTo>
                <a:lnTo>
                  <a:pt x="3212" y="1774"/>
                </a:lnTo>
                <a:lnTo>
                  <a:pt x="3188" y="1781"/>
                </a:lnTo>
                <a:lnTo>
                  <a:pt x="3161" y="1784"/>
                </a:lnTo>
                <a:lnTo>
                  <a:pt x="3109" y="1788"/>
                </a:lnTo>
                <a:lnTo>
                  <a:pt x="3082" y="1793"/>
                </a:lnTo>
                <a:lnTo>
                  <a:pt x="3075" y="1790"/>
                </a:lnTo>
                <a:lnTo>
                  <a:pt x="3059" y="1781"/>
                </a:lnTo>
                <a:lnTo>
                  <a:pt x="3030" y="1768"/>
                </a:lnTo>
                <a:lnTo>
                  <a:pt x="3004" y="1752"/>
                </a:lnTo>
                <a:lnTo>
                  <a:pt x="2999" y="1748"/>
                </a:lnTo>
                <a:lnTo>
                  <a:pt x="3002" y="1745"/>
                </a:lnTo>
                <a:lnTo>
                  <a:pt x="3011" y="1735"/>
                </a:lnTo>
                <a:lnTo>
                  <a:pt x="3017" y="1722"/>
                </a:lnTo>
                <a:lnTo>
                  <a:pt x="3018" y="1719"/>
                </a:lnTo>
                <a:lnTo>
                  <a:pt x="3001" y="1704"/>
                </a:lnTo>
                <a:lnTo>
                  <a:pt x="2959" y="1673"/>
                </a:lnTo>
                <a:lnTo>
                  <a:pt x="2859" y="1612"/>
                </a:lnTo>
                <a:lnTo>
                  <a:pt x="2763" y="1545"/>
                </a:lnTo>
                <a:lnTo>
                  <a:pt x="2744" y="1526"/>
                </a:lnTo>
                <a:lnTo>
                  <a:pt x="2738" y="1535"/>
                </a:lnTo>
                <a:lnTo>
                  <a:pt x="2734" y="1544"/>
                </a:lnTo>
                <a:lnTo>
                  <a:pt x="2733" y="1555"/>
                </a:lnTo>
                <a:lnTo>
                  <a:pt x="2731" y="1567"/>
                </a:lnTo>
                <a:lnTo>
                  <a:pt x="2734" y="1591"/>
                </a:lnTo>
                <a:lnTo>
                  <a:pt x="2747" y="1639"/>
                </a:lnTo>
                <a:lnTo>
                  <a:pt x="2753" y="1655"/>
                </a:lnTo>
                <a:lnTo>
                  <a:pt x="2750" y="1661"/>
                </a:lnTo>
                <a:lnTo>
                  <a:pt x="2744" y="1674"/>
                </a:lnTo>
                <a:lnTo>
                  <a:pt x="2728" y="1704"/>
                </a:lnTo>
                <a:lnTo>
                  <a:pt x="2712" y="1733"/>
                </a:lnTo>
                <a:lnTo>
                  <a:pt x="2708" y="1738"/>
                </a:lnTo>
                <a:lnTo>
                  <a:pt x="2701" y="1733"/>
                </a:lnTo>
                <a:lnTo>
                  <a:pt x="2688" y="1726"/>
                </a:lnTo>
                <a:lnTo>
                  <a:pt x="2664" y="1716"/>
                </a:lnTo>
                <a:lnTo>
                  <a:pt x="2640" y="1712"/>
                </a:lnTo>
                <a:lnTo>
                  <a:pt x="2634" y="1710"/>
                </a:lnTo>
                <a:lnTo>
                  <a:pt x="2624" y="1693"/>
                </a:lnTo>
                <a:lnTo>
                  <a:pt x="2607" y="1657"/>
                </a:lnTo>
                <a:lnTo>
                  <a:pt x="2565" y="1599"/>
                </a:lnTo>
                <a:lnTo>
                  <a:pt x="2536" y="1580"/>
                </a:lnTo>
                <a:lnTo>
                  <a:pt x="2499" y="1573"/>
                </a:lnTo>
                <a:lnTo>
                  <a:pt x="2479" y="1573"/>
                </a:lnTo>
                <a:lnTo>
                  <a:pt x="2467" y="1573"/>
                </a:lnTo>
                <a:lnTo>
                  <a:pt x="2457" y="1568"/>
                </a:lnTo>
                <a:lnTo>
                  <a:pt x="2449" y="1564"/>
                </a:lnTo>
                <a:lnTo>
                  <a:pt x="2431" y="1551"/>
                </a:lnTo>
                <a:lnTo>
                  <a:pt x="2395" y="1526"/>
                </a:lnTo>
                <a:lnTo>
                  <a:pt x="2360" y="1526"/>
                </a:lnTo>
                <a:lnTo>
                  <a:pt x="2357" y="1528"/>
                </a:lnTo>
                <a:lnTo>
                  <a:pt x="2354" y="1529"/>
                </a:lnTo>
                <a:lnTo>
                  <a:pt x="2352" y="1533"/>
                </a:lnTo>
                <a:lnTo>
                  <a:pt x="2346" y="1541"/>
                </a:lnTo>
                <a:lnTo>
                  <a:pt x="2336" y="1562"/>
                </a:lnTo>
                <a:lnTo>
                  <a:pt x="2334" y="1573"/>
                </a:lnTo>
                <a:lnTo>
                  <a:pt x="2325" y="1571"/>
                </a:lnTo>
                <a:lnTo>
                  <a:pt x="2307" y="1568"/>
                </a:lnTo>
                <a:lnTo>
                  <a:pt x="2265" y="1568"/>
                </a:lnTo>
                <a:lnTo>
                  <a:pt x="2244" y="1573"/>
                </a:lnTo>
                <a:lnTo>
                  <a:pt x="2228" y="1578"/>
                </a:lnTo>
                <a:lnTo>
                  <a:pt x="2224" y="1583"/>
                </a:lnTo>
                <a:lnTo>
                  <a:pt x="2224" y="1591"/>
                </a:lnTo>
                <a:lnTo>
                  <a:pt x="2226" y="1600"/>
                </a:lnTo>
                <a:lnTo>
                  <a:pt x="2233" y="1622"/>
                </a:lnTo>
                <a:lnTo>
                  <a:pt x="2247" y="1668"/>
                </a:lnTo>
                <a:lnTo>
                  <a:pt x="2252" y="1701"/>
                </a:lnTo>
                <a:lnTo>
                  <a:pt x="2265" y="1720"/>
                </a:lnTo>
                <a:lnTo>
                  <a:pt x="2288" y="1749"/>
                </a:lnTo>
                <a:lnTo>
                  <a:pt x="2302" y="1771"/>
                </a:lnTo>
                <a:lnTo>
                  <a:pt x="2310" y="1791"/>
                </a:lnTo>
                <a:lnTo>
                  <a:pt x="2308" y="1816"/>
                </a:lnTo>
                <a:lnTo>
                  <a:pt x="2296" y="1846"/>
                </a:lnTo>
                <a:lnTo>
                  <a:pt x="2288" y="1867"/>
                </a:lnTo>
                <a:lnTo>
                  <a:pt x="2305" y="1877"/>
                </a:lnTo>
                <a:lnTo>
                  <a:pt x="2339" y="1896"/>
                </a:lnTo>
                <a:lnTo>
                  <a:pt x="2392" y="1942"/>
                </a:lnTo>
                <a:lnTo>
                  <a:pt x="2428" y="2004"/>
                </a:lnTo>
                <a:lnTo>
                  <a:pt x="2434" y="2023"/>
                </a:lnTo>
                <a:lnTo>
                  <a:pt x="2436" y="2041"/>
                </a:lnTo>
                <a:lnTo>
                  <a:pt x="2436" y="2056"/>
                </a:lnTo>
                <a:lnTo>
                  <a:pt x="2431" y="2070"/>
                </a:lnTo>
                <a:lnTo>
                  <a:pt x="2425" y="2083"/>
                </a:lnTo>
                <a:lnTo>
                  <a:pt x="2418" y="2094"/>
                </a:lnTo>
                <a:lnTo>
                  <a:pt x="2401" y="2114"/>
                </a:lnTo>
                <a:lnTo>
                  <a:pt x="2365" y="2158"/>
                </a:lnTo>
                <a:lnTo>
                  <a:pt x="2360" y="2171"/>
                </a:lnTo>
                <a:lnTo>
                  <a:pt x="2359" y="2183"/>
                </a:lnTo>
                <a:lnTo>
                  <a:pt x="2363" y="2196"/>
                </a:lnTo>
                <a:lnTo>
                  <a:pt x="2369" y="2212"/>
                </a:lnTo>
                <a:lnTo>
                  <a:pt x="2388" y="2248"/>
                </a:lnTo>
                <a:lnTo>
                  <a:pt x="2436" y="2323"/>
                </a:lnTo>
                <a:lnTo>
                  <a:pt x="2460" y="2364"/>
                </a:lnTo>
                <a:lnTo>
                  <a:pt x="2454" y="2375"/>
                </a:lnTo>
                <a:lnTo>
                  <a:pt x="2450" y="2393"/>
                </a:lnTo>
                <a:lnTo>
                  <a:pt x="2449" y="2401"/>
                </a:lnTo>
                <a:lnTo>
                  <a:pt x="2447" y="2406"/>
                </a:lnTo>
                <a:lnTo>
                  <a:pt x="2444" y="2409"/>
                </a:lnTo>
                <a:lnTo>
                  <a:pt x="2440" y="2411"/>
                </a:lnTo>
                <a:lnTo>
                  <a:pt x="2433" y="2414"/>
                </a:lnTo>
                <a:lnTo>
                  <a:pt x="2408" y="2423"/>
                </a:lnTo>
                <a:lnTo>
                  <a:pt x="2389" y="2427"/>
                </a:lnTo>
                <a:lnTo>
                  <a:pt x="2362" y="2403"/>
                </a:lnTo>
                <a:lnTo>
                  <a:pt x="2318" y="2367"/>
                </a:lnTo>
                <a:lnTo>
                  <a:pt x="2288" y="2339"/>
                </a:lnTo>
                <a:lnTo>
                  <a:pt x="2268" y="2313"/>
                </a:lnTo>
                <a:lnTo>
                  <a:pt x="2256" y="2275"/>
                </a:lnTo>
                <a:lnTo>
                  <a:pt x="2252" y="2219"/>
                </a:lnTo>
                <a:lnTo>
                  <a:pt x="2252" y="2180"/>
                </a:lnTo>
                <a:lnTo>
                  <a:pt x="2241" y="2172"/>
                </a:lnTo>
                <a:lnTo>
                  <a:pt x="2233" y="2167"/>
                </a:lnTo>
                <a:lnTo>
                  <a:pt x="2227" y="2165"/>
                </a:lnTo>
                <a:lnTo>
                  <a:pt x="2221" y="2165"/>
                </a:lnTo>
                <a:lnTo>
                  <a:pt x="2215" y="2167"/>
                </a:lnTo>
                <a:lnTo>
                  <a:pt x="2211" y="2170"/>
                </a:lnTo>
                <a:lnTo>
                  <a:pt x="2199" y="2178"/>
                </a:lnTo>
                <a:lnTo>
                  <a:pt x="2183" y="2185"/>
                </a:lnTo>
                <a:lnTo>
                  <a:pt x="2160" y="2188"/>
                </a:lnTo>
                <a:lnTo>
                  <a:pt x="2160" y="2188"/>
                </a:lnTo>
                <a:lnTo>
                  <a:pt x="2134" y="2188"/>
                </a:lnTo>
                <a:lnTo>
                  <a:pt x="2105" y="2181"/>
                </a:lnTo>
                <a:lnTo>
                  <a:pt x="2040" y="2155"/>
                </a:lnTo>
                <a:lnTo>
                  <a:pt x="1901" y="2097"/>
                </a:lnTo>
                <a:lnTo>
                  <a:pt x="1795" y="2106"/>
                </a:lnTo>
                <a:lnTo>
                  <a:pt x="1789" y="2097"/>
                </a:lnTo>
                <a:lnTo>
                  <a:pt x="1781" y="2075"/>
                </a:lnTo>
                <a:lnTo>
                  <a:pt x="1765" y="2025"/>
                </a:lnTo>
                <a:lnTo>
                  <a:pt x="1750" y="1978"/>
                </a:lnTo>
                <a:lnTo>
                  <a:pt x="1749" y="1968"/>
                </a:lnTo>
                <a:lnTo>
                  <a:pt x="1743" y="1970"/>
                </a:lnTo>
                <a:lnTo>
                  <a:pt x="1733" y="1970"/>
                </a:lnTo>
                <a:lnTo>
                  <a:pt x="1711" y="1974"/>
                </a:lnTo>
                <a:lnTo>
                  <a:pt x="1691" y="1977"/>
                </a:lnTo>
                <a:lnTo>
                  <a:pt x="1687" y="1977"/>
                </a:lnTo>
                <a:lnTo>
                  <a:pt x="1663" y="1949"/>
                </a:lnTo>
                <a:lnTo>
                  <a:pt x="1653" y="1919"/>
                </a:lnTo>
                <a:lnTo>
                  <a:pt x="1650" y="1887"/>
                </a:lnTo>
                <a:lnTo>
                  <a:pt x="1656" y="1855"/>
                </a:lnTo>
                <a:lnTo>
                  <a:pt x="1668" y="1822"/>
                </a:lnTo>
                <a:lnTo>
                  <a:pt x="1704" y="1759"/>
                </a:lnTo>
                <a:lnTo>
                  <a:pt x="1746" y="1701"/>
                </a:lnTo>
                <a:lnTo>
                  <a:pt x="1782" y="1655"/>
                </a:lnTo>
                <a:lnTo>
                  <a:pt x="1795" y="1636"/>
                </a:lnTo>
                <a:lnTo>
                  <a:pt x="1794" y="1632"/>
                </a:lnTo>
                <a:lnTo>
                  <a:pt x="1792" y="1629"/>
                </a:lnTo>
                <a:lnTo>
                  <a:pt x="1788" y="1623"/>
                </a:lnTo>
                <a:lnTo>
                  <a:pt x="1779" y="1613"/>
                </a:lnTo>
                <a:lnTo>
                  <a:pt x="1778" y="1609"/>
                </a:lnTo>
                <a:lnTo>
                  <a:pt x="1782" y="1604"/>
                </a:lnTo>
                <a:lnTo>
                  <a:pt x="1798" y="1586"/>
                </a:lnTo>
                <a:lnTo>
                  <a:pt x="1842" y="1535"/>
                </a:lnTo>
                <a:lnTo>
                  <a:pt x="1879" y="1484"/>
                </a:lnTo>
                <a:lnTo>
                  <a:pt x="1886" y="1473"/>
                </a:lnTo>
                <a:lnTo>
                  <a:pt x="1885" y="1474"/>
                </a:lnTo>
                <a:lnTo>
                  <a:pt x="1882" y="1474"/>
                </a:lnTo>
                <a:lnTo>
                  <a:pt x="1876" y="1474"/>
                </a:lnTo>
                <a:lnTo>
                  <a:pt x="1873" y="1474"/>
                </a:lnTo>
                <a:lnTo>
                  <a:pt x="1866" y="1473"/>
                </a:lnTo>
                <a:lnTo>
                  <a:pt x="1849" y="1468"/>
                </a:lnTo>
                <a:lnTo>
                  <a:pt x="1808" y="1452"/>
                </a:lnTo>
                <a:lnTo>
                  <a:pt x="1779" y="1436"/>
                </a:lnTo>
                <a:lnTo>
                  <a:pt x="1776" y="1432"/>
                </a:lnTo>
                <a:lnTo>
                  <a:pt x="1776" y="1429"/>
                </a:lnTo>
                <a:lnTo>
                  <a:pt x="1776" y="1428"/>
                </a:lnTo>
                <a:lnTo>
                  <a:pt x="1778" y="1425"/>
                </a:lnTo>
                <a:lnTo>
                  <a:pt x="1781" y="1423"/>
                </a:lnTo>
                <a:lnTo>
                  <a:pt x="1785" y="1422"/>
                </a:lnTo>
                <a:lnTo>
                  <a:pt x="1794" y="1422"/>
                </a:lnTo>
                <a:lnTo>
                  <a:pt x="1823" y="1420"/>
                </a:lnTo>
                <a:lnTo>
                  <a:pt x="1868" y="1425"/>
                </a:lnTo>
                <a:lnTo>
                  <a:pt x="1882" y="1426"/>
                </a:lnTo>
                <a:lnTo>
                  <a:pt x="1879" y="1423"/>
                </a:lnTo>
                <a:lnTo>
                  <a:pt x="1878" y="1419"/>
                </a:lnTo>
                <a:lnTo>
                  <a:pt x="1876" y="1413"/>
                </a:lnTo>
                <a:lnTo>
                  <a:pt x="1875" y="1399"/>
                </a:lnTo>
                <a:lnTo>
                  <a:pt x="1873" y="1367"/>
                </a:lnTo>
                <a:lnTo>
                  <a:pt x="1869" y="1352"/>
                </a:lnTo>
                <a:lnTo>
                  <a:pt x="1878" y="1354"/>
                </a:lnTo>
                <a:lnTo>
                  <a:pt x="1907" y="1358"/>
                </a:lnTo>
                <a:lnTo>
                  <a:pt x="1930" y="1361"/>
                </a:lnTo>
                <a:lnTo>
                  <a:pt x="1931" y="1361"/>
                </a:lnTo>
                <a:lnTo>
                  <a:pt x="1940" y="1355"/>
                </a:lnTo>
                <a:lnTo>
                  <a:pt x="1957" y="1339"/>
                </a:lnTo>
                <a:lnTo>
                  <a:pt x="1986" y="1306"/>
                </a:lnTo>
                <a:lnTo>
                  <a:pt x="2008" y="1270"/>
                </a:lnTo>
                <a:lnTo>
                  <a:pt x="2014" y="1260"/>
                </a:lnTo>
                <a:lnTo>
                  <a:pt x="2008" y="1255"/>
                </a:lnTo>
                <a:lnTo>
                  <a:pt x="1999" y="1242"/>
                </a:lnTo>
                <a:lnTo>
                  <a:pt x="1978" y="1212"/>
                </a:lnTo>
                <a:lnTo>
                  <a:pt x="1962" y="1183"/>
                </a:lnTo>
                <a:lnTo>
                  <a:pt x="1960" y="1177"/>
                </a:lnTo>
                <a:lnTo>
                  <a:pt x="1960" y="1175"/>
                </a:lnTo>
                <a:lnTo>
                  <a:pt x="1960" y="1170"/>
                </a:lnTo>
                <a:lnTo>
                  <a:pt x="1965" y="1154"/>
                </a:lnTo>
                <a:lnTo>
                  <a:pt x="1968" y="1136"/>
                </a:lnTo>
                <a:lnTo>
                  <a:pt x="1969" y="1131"/>
                </a:lnTo>
                <a:lnTo>
                  <a:pt x="1959" y="1126"/>
                </a:lnTo>
                <a:lnTo>
                  <a:pt x="1936" y="1118"/>
                </a:lnTo>
                <a:lnTo>
                  <a:pt x="1886" y="1104"/>
                </a:lnTo>
                <a:lnTo>
                  <a:pt x="1863" y="1106"/>
                </a:lnTo>
                <a:lnTo>
                  <a:pt x="1840" y="1115"/>
                </a:lnTo>
                <a:lnTo>
                  <a:pt x="1831" y="1122"/>
                </a:lnTo>
                <a:lnTo>
                  <a:pt x="1837" y="1136"/>
                </a:lnTo>
                <a:lnTo>
                  <a:pt x="1847" y="1165"/>
                </a:lnTo>
                <a:lnTo>
                  <a:pt x="1853" y="1223"/>
                </a:lnTo>
                <a:lnTo>
                  <a:pt x="1847" y="1251"/>
                </a:lnTo>
                <a:lnTo>
                  <a:pt x="1833" y="1275"/>
                </a:lnTo>
                <a:lnTo>
                  <a:pt x="1823" y="1287"/>
                </a:lnTo>
                <a:lnTo>
                  <a:pt x="1820" y="1283"/>
                </a:lnTo>
                <a:lnTo>
                  <a:pt x="1814" y="1268"/>
                </a:lnTo>
                <a:lnTo>
                  <a:pt x="1802" y="1231"/>
                </a:lnTo>
                <a:lnTo>
                  <a:pt x="1795" y="1194"/>
                </a:lnTo>
                <a:lnTo>
                  <a:pt x="1795" y="1187"/>
                </a:lnTo>
                <a:lnTo>
                  <a:pt x="1792" y="1186"/>
                </a:lnTo>
                <a:lnTo>
                  <a:pt x="1787" y="1181"/>
                </a:lnTo>
                <a:lnTo>
                  <a:pt x="1771" y="1173"/>
                </a:lnTo>
                <a:lnTo>
                  <a:pt x="1753" y="1170"/>
                </a:lnTo>
                <a:lnTo>
                  <a:pt x="1749" y="1168"/>
                </a:lnTo>
                <a:lnTo>
                  <a:pt x="1743" y="1181"/>
                </a:lnTo>
                <a:lnTo>
                  <a:pt x="1733" y="1200"/>
                </a:lnTo>
                <a:lnTo>
                  <a:pt x="1726" y="1213"/>
                </a:lnTo>
                <a:lnTo>
                  <a:pt x="1724" y="1215"/>
                </a:lnTo>
                <a:lnTo>
                  <a:pt x="1721" y="1216"/>
                </a:lnTo>
                <a:lnTo>
                  <a:pt x="1720" y="1216"/>
                </a:lnTo>
                <a:lnTo>
                  <a:pt x="1718" y="1215"/>
                </a:lnTo>
                <a:lnTo>
                  <a:pt x="1717" y="1213"/>
                </a:lnTo>
                <a:lnTo>
                  <a:pt x="1716" y="1209"/>
                </a:lnTo>
                <a:lnTo>
                  <a:pt x="1714" y="1204"/>
                </a:lnTo>
                <a:lnTo>
                  <a:pt x="1713" y="1194"/>
                </a:lnTo>
                <a:lnTo>
                  <a:pt x="1713" y="1158"/>
                </a:lnTo>
                <a:lnTo>
                  <a:pt x="1713" y="1158"/>
                </a:lnTo>
                <a:lnTo>
                  <a:pt x="1710" y="1157"/>
                </a:lnTo>
                <a:lnTo>
                  <a:pt x="1702" y="1152"/>
                </a:lnTo>
                <a:lnTo>
                  <a:pt x="1694" y="1148"/>
                </a:lnTo>
                <a:lnTo>
                  <a:pt x="1673" y="1139"/>
                </a:lnTo>
                <a:lnTo>
                  <a:pt x="1659" y="1131"/>
                </a:lnTo>
                <a:lnTo>
                  <a:pt x="1658" y="1123"/>
                </a:lnTo>
                <a:lnTo>
                  <a:pt x="1658" y="1100"/>
                </a:lnTo>
                <a:lnTo>
                  <a:pt x="1647" y="1045"/>
                </a:lnTo>
                <a:lnTo>
                  <a:pt x="1634" y="1020"/>
                </a:lnTo>
                <a:lnTo>
                  <a:pt x="1616" y="1002"/>
                </a:lnTo>
                <a:lnTo>
                  <a:pt x="1604" y="994"/>
                </a:lnTo>
                <a:lnTo>
                  <a:pt x="1575" y="989"/>
                </a:lnTo>
                <a:lnTo>
                  <a:pt x="1555" y="989"/>
                </a:lnTo>
                <a:lnTo>
                  <a:pt x="1547" y="993"/>
                </a:lnTo>
                <a:lnTo>
                  <a:pt x="1542" y="997"/>
                </a:lnTo>
                <a:lnTo>
                  <a:pt x="1536" y="1003"/>
                </a:lnTo>
                <a:lnTo>
                  <a:pt x="1533" y="1009"/>
                </a:lnTo>
                <a:lnTo>
                  <a:pt x="1532" y="1018"/>
                </a:lnTo>
                <a:lnTo>
                  <a:pt x="1530" y="1035"/>
                </a:lnTo>
                <a:lnTo>
                  <a:pt x="1532" y="1055"/>
                </a:lnTo>
                <a:lnTo>
                  <a:pt x="1542" y="1096"/>
                </a:lnTo>
                <a:lnTo>
                  <a:pt x="1553" y="1128"/>
                </a:lnTo>
                <a:lnTo>
                  <a:pt x="1559" y="1139"/>
                </a:lnTo>
                <a:lnTo>
                  <a:pt x="1568" y="1144"/>
                </a:lnTo>
                <a:lnTo>
                  <a:pt x="1582" y="1154"/>
                </a:lnTo>
                <a:lnTo>
                  <a:pt x="1594" y="1165"/>
                </a:lnTo>
                <a:lnTo>
                  <a:pt x="1603" y="1180"/>
                </a:lnTo>
                <a:lnTo>
                  <a:pt x="1618" y="1215"/>
                </a:lnTo>
                <a:lnTo>
                  <a:pt x="1624" y="1223"/>
                </a:lnTo>
                <a:lnTo>
                  <a:pt x="1621" y="1235"/>
                </a:lnTo>
                <a:lnTo>
                  <a:pt x="1617" y="1257"/>
                </a:lnTo>
                <a:lnTo>
                  <a:pt x="1603" y="1302"/>
                </a:lnTo>
                <a:lnTo>
                  <a:pt x="1589" y="1342"/>
                </a:lnTo>
                <a:lnTo>
                  <a:pt x="1588" y="1351"/>
                </a:lnTo>
                <a:lnTo>
                  <a:pt x="1581" y="1335"/>
                </a:lnTo>
                <a:lnTo>
                  <a:pt x="1560" y="1284"/>
                </a:lnTo>
                <a:lnTo>
                  <a:pt x="1546" y="1246"/>
                </a:lnTo>
                <a:lnTo>
                  <a:pt x="1546" y="1244"/>
                </a:lnTo>
                <a:lnTo>
                  <a:pt x="1539" y="1245"/>
                </a:lnTo>
                <a:lnTo>
                  <a:pt x="1517" y="1249"/>
                </a:lnTo>
                <a:lnTo>
                  <a:pt x="1500" y="1252"/>
                </a:lnTo>
                <a:lnTo>
                  <a:pt x="1500" y="1252"/>
                </a:lnTo>
                <a:lnTo>
                  <a:pt x="1500" y="1255"/>
                </a:lnTo>
                <a:lnTo>
                  <a:pt x="1500" y="1261"/>
                </a:lnTo>
                <a:lnTo>
                  <a:pt x="1501" y="1274"/>
                </a:lnTo>
                <a:lnTo>
                  <a:pt x="1503" y="1286"/>
                </a:lnTo>
                <a:lnTo>
                  <a:pt x="1504" y="1287"/>
                </a:lnTo>
                <a:lnTo>
                  <a:pt x="1489" y="1291"/>
                </a:lnTo>
                <a:lnTo>
                  <a:pt x="1471" y="1294"/>
                </a:lnTo>
                <a:lnTo>
                  <a:pt x="1427" y="1296"/>
                </a:lnTo>
                <a:lnTo>
                  <a:pt x="1382" y="1291"/>
                </a:lnTo>
                <a:lnTo>
                  <a:pt x="1343" y="1277"/>
                </a:lnTo>
                <a:lnTo>
                  <a:pt x="1329" y="1267"/>
                </a:lnTo>
                <a:lnTo>
                  <a:pt x="1320" y="1254"/>
                </a:lnTo>
                <a:lnTo>
                  <a:pt x="1319" y="1238"/>
                </a:lnTo>
                <a:lnTo>
                  <a:pt x="1323" y="1218"/>
                </a:lnTo>
                <a:lnTo>
                  <a:pt x="1324" y="1218"/>
                </a:lnTo>
                <a:lnTo>
                  <a:pt x="1320" y="1218"/>
                </a:lnTo>
                <a:lnTo>
                  <a:pt x="1313" y="1218"/>
                </a:lnTo>
                <a:lnTo>
                  <a:pt x="1292" y="1215"/>
                </a:lnTo>
                <a:lnTo>
                  <a:pt x="1245" y="1215"/>
                </a:lnTo>
                <a:lnTo>
                  <a:pt x="1220" y="1239"/>
                </a:lnTo>
                <a:lnTo>
                  <a:pt x="1220" y="1244"/>
                </a:lnTo>
                <a:lnTo>
                  <a:pt x="1224" y="1245"/>
                </a:lnTo>
                <a:lnTo>
                  <a:pt x="1230" y="1246"/>
                </a:lnTo>
                <a:lnTo>
                  <a:pt x="1236" y="1248"/>
                </a:lnTo>
                <a:lnTo>
                  <a:pt x="1253" y="1248"/>
                </a:lnTo>
                <a:lnTo>
                  <a:pt x="1282" y="1248"/>
                </a:lnTo>
                <a:lnTo>
                  <a:pt x="1290" y="1252"/>
                </a:lnTo>
                <a:lnTo>
                  <a:pt x="1288" y="1257"/>
                </a:lnTo>
                <a:lnTo>
                  <a:pt x="1284" y="1261"/>
                </a:lnTo>
                <a:lnTo>
                  <a:pt x="1278" y="1267"/>
                </a:lnTo>
                <a:lnTo>
                  <a:pt x="1259" y="1280"/>
                </a:lnTo>
                <a:lnTo>
                  <a:pt x="1219" y="1304"/>
                </a:lnTo>
                <a:lnTo>
                  <a:pt x="1203" y="1309"/>
                </a:lnTo>
                <a:lnTo>
                  <a:pt x="1201" y="1307"/>
                </a:lnTo>
                <a:lnTo>
                  <a:pt x="1195" y="1300"/>
                </a:lnTo>
                <a:lnTo>
                  <a:pt x="1184" y="1281"/>
                </a:lnTo>
                <a:lnTo>
                  <a:pt x="1172" y="1267"/>
                </a:lnTo>
                <a:lnTo>
                  <a:pt x="1172" y="1264"/>
                </a:lnTo>
                <a:lnTo>
                  <a:pt x="1169" y="1264"/>
                </a:lnTo>
                <a:lnTo>
                  <a:pt x="1162" y="1262"/>
                </a:lnTo>
                <a:lnTo>
                  <a:pt x="1143" y="1262"/>
                </a:lnTo>
                <a:lnTo>
                  <a:pt x="1095" y="1262"/>
                </a:lnTo>
                <a:lnTo>
                  <a:pt x="1069" y="1261"/>
                </a:lnTo>
                <a:lnTo>
                  <a:pt x="1064" y="1258"/>
                </a:lnTo>
                <a:lnTo>
                  <a:pt x="1058" y="1257"/>
                </a:lnTo>
                <a:lnTo>
                  <a:pt x="1045" y="1251"/>
                </a:lnTo>
                <a:lnTo>
                  <a:pt x="1020" y="1241"/>
                </a:lnTo>
                <a:lnTo>
                  <a:pt x="1011" y="1236"/>
                </a:lnTo>
                <a:lnTo>
                  <a:pt x="1010" y="1235"/>
                </a:lnTo>
                <a:lnTo>
                  <a:pt x="1011" y="1233"/>
                </a:lnTo>
                <a:lnTo>
                  <a:pt x="1013" y="1233"/>
                </a:lnTo>
                <a:lnTo>
                  <a:pt x="1017" y="1233"/>
                </a:lnTo>
                <a:lnTo>
                  <a:pt x="1027" y="1232"/>
                </a:lnTo>
                <a:lnTo>
                  <a:pt x="1050" y="1231"/>
                </a:lnTo>
                <a:lnTo>
                  <a:pt x="1061" y="1229"/>
                </a:lnTo>
                <a:lnTo>
                  <a:pt x="1065" y="1228"/>
                </a:lnTo>
                <a:lnTo>
                  <a:pt x="1068" y="1225"/>
                </a:lnTo>
                <a:lnTo>
                  <a:pt x="1068" y="1222"/>
                </a:lnTo>
                <a:lnTo>
                  <a:pt x="1068" y="1220"/>
                </a:lnTo>
                <a:lnTo>
                  <a:pt x="1068" y="1219"/>
                </a:lnTo>
                <a:lnTo>
                  <a:pt x="1066" y="1216"/>
                </a:lnTo>
                <a:lnTo>
                  <a:pt x="1062" y="1212"/>
                </a:lnTo>
                <a:lnTo>
                  <a:pt x="1056" y="1206"/>
                </a:lnTo>
                <a:lnTo>
                  <a:pt x="1035" y="1191"/>
                </a:lnTo>
                <a:lnTo>
                  <a:pt x="1001" y="1173"/>
                </a:lnTo>
                <a:lnTo>
                  <a:pt x="968" y="1154"/>
                </a:lnTo>
                <a:lnTo>
                  <a:pt x="965" y="1151"/>
                </a:lnTo>
                <a:lnTo>
                  <a:pt x="958" y="1142"/>
                </a:lnTo>
                <a:lnTo>
                  <a:pt x="933" y="1119"/>
                </a:lnTo>
                <a:lnTo>
                  <a:pt x="875" y="1067"/>
                </a:lnTo>
                <a:lnTo>
                  <a:pt x="856" y="1048"/>
                </a:lnTo>
                <a:lnTo>
                  <a:pt x="853" y="1049"/>
                </a:lnTo>
                <a:lnTo>
                  <a:pt x="851" y="1051"/>
                </a:lnTo>
                <a:lnTo>
                  <a:pt x="846" y="1054"/>
                </a:lnTo>
                <a:lnTo>
                  <a:pt x="840" y="1062"/>
                </a:lnTo>
                <a:lnTo>
                  <a:pt x="826" y="1080"/>
                </a:lnTo>
                <a:lnTo>
                  <a:pt x="819" y="1084"/>
                </a:lnTo>
                <a:lnTo>
                  <a:pt x="822" y="1065"/>
                </a:lnTo>
                <a:lnTo>
                  <a:pt x="824" y="1036"/>
                </a:lnTo>
                <a:lnTo>
                  <a:pt x="823" y="1028"/>
                </a:lnTo>
                <a:lnTo>
                  <a:pt x="820" y="1022"/>
                </a:lnTo>
                <a:lnTo>
                  <a:pt x="819" y="1020"/>
                </a:lnTo>
                <a:lnTo>
                  <a:pt x="816" y="1019"/>
                </a:lnTo>
                <a:lnTo>
                  <a:pt x="813" y="1018"/>
                </a:lnTo>
                <a:lnTo>
                  <a:pt x="810" y="1018"/>
                </a:lnTo>
                <a:lnTo>
                  <a:pt x="807" y="1019"/>
                </a:lnTo>
                <a:lnTo>
                  <a:pt x="804" y="1020"/>
                </a:lnTo>
                <a:lnTo>
                  <a:pt x="797" y="1023"/>
                </a:lnTo>
                <a:lnTo>
                  <a:pt x="788" y="1031"/>
                </a:lnTo>
                <a:lnTo>
                  <a:pt x="771" y="1048"/>
                </a:lnTo>
                <a:lnTo>
                  <a:pt x="771" y="1048"/>
                </a:lnTo>
                <a:lnTo>
                  <a:pt x="771" y="1032"/>
                </a:lnTo>
                <a:lnTo>
                  <a:pt x="771" y="1000"/>
                </a:lnTo>
                <a:lnTo>
                  <a:pt x="769" y="977"/>
                </a:lnTo>
                <a:lnTo>
                  <a:pt x="768" y="967"/>
                </a:lnTo>
                <a:lnTo>
                  <a:pt x="764" y="961"/>
                </a:lnTo>
                <a:lnTo>
                  <a:pt x="758" y="957"/>
                </a:lnTo>
                <a:lnTo>
                  <a:pt x="751" y="955"/>
                </a:lnTo>
                <a:lnTo>
                  <a:pt x="740" y="958"/>
                </a:lnTo>
                <a:lnTo>
                  <a:pt x="727" y="964"/>
                </a:lnTo>
                <a:lnTo>
                  <a:pt x="711" y="974"/>
                </a:lnTo>
                <a:lnTo>
                  <a:pt x="711" y="974"/>
                </a:lnTo>
                <a:lnTo>
                  <a:pt x="703" y="970"/>
                </a:lnTo>
                <a:lnTo>
                  <a:pt x="690" y="965"/>
                </a:lnTo>
                <a:lnTo>
                  <a:pt x="652" y="958"/>
                </a:lnTo>
                <a:lnTo>
                  <a:pt x="552" y="944"/>
                </a:lnTo>
                <a:lnTo>
                  <a:pt x="483" y="938"/>
                </a:lnTo>
                <a:lnTo>
                  <a:pt x="477" y="934"/>
                </a:lnTo>
                <a:lnTo>
                  <a:pt x="467" y="920"/>
                </a:lnTo>
                <a:lnTo>
                  <a:pt x="448" y="889"/>
                </a:lnTo>
                <a:lnTo>
                  <a:pt x="432" y="861"/>
                </a:lnTo>
                <a:lnTo>
                  <a:pt x="429" y="855"/>
                </a:lnTo>
                <a:lnTo>
                  <a:pt x="420" y="868"/>
                </a:lnTo>
                <a:lnTo>
                  <a:pt x="361" y="949"/>
                </a:lnTo>
                <a:lnTo>
                  <a:pt x="161" y="1228"/>
                </a:lnTo>
                <a:lnTo>
                  <a:pt x="7" y="1439"/>
                </a:lnTo>
                <a:lnTo>
                  <a:pt x="0" y="1451"/>
                </a:lnTo>
                <a:lnTo>
                  <a:pt x="19" y="1457"/>
                </a:lnTo>
                <a:lnTo>
                  <a:pt x="48" y="1467"/>
                </a:lnTo>
                <a:lnTo>
                  <a:pt x="67" y="1481"/>
                </a:lnTo>
                <a:lnTo>
                  <a:pt x="75" y="1500"/>
                </a:lnTo>
                <a:lnTo>
                  <a:pt x="77" y="1525"/>
                </a:lnTo>
                <a:lnTo>
                  <a:pt x="73" y="1558"/>
                </a:lnTo>
                <a:lnTo>
                  <a:pt x="70" y="1577"/>
                </a:lnTo>
                <a:lnTo>
                  <a:pt x="84" y="1578"/>
                </a:lnTo>
                <a:lnTo>
                  <a:pt x="130" y="1583"/>
                </a:lnTo>
                <a:lnTo>
                  <a:pt x="165" y="1584"/>
                </a:lnTo>
                <a:lnTo>
                  <a:pt x="168" y="1584"/>
                </a:lnTo>
                <a:lnTo>
                  <a:pt x="168" y="1591"/>
                </a:lnTo>
                <a:lnTo>
                  <a:pt x="170" y="1632"/>
                </a:lnTo>
                <a:lnTo>
                  <a:pt x="174" y="1772"/>
                </a:lnTo>
                <a:lnTo>
                  <a:pt x="177" y="1878"/>
                </a:lnTo>
                <a:lnTo>
                  <a:pt x="178" y="1884"/>
                </a:lnTo>
                <a:lnTo>
                  <a:pt x="194" y="1901"/>
                </a:lnTo>
                <a:lnTo>
                  <a:pt x="216" y="1933"/>
                </a:lnTo>
                <a:lnTo>
                  <a:pt x="223" y="1962"/>
                </a:lnTo>
                <a:lnTo>
                  <a:pt x="220" y="1991"/>
                </a:lnTo>
                <a:lnTo>
                  <a:pt x="209" y="2025"/>
                </a:lnTo>
                <a:lnTo>
                  <a:pt x="188" y="2062"/>
                </a:lnTo>
                <a:lnTo>
                  <a:pt x="177" y="2084"/>
                </a:lnTo>
                <a:lnTo>
                  <a:pt x="175" y="2091"/>
                </a:lnTo>
                <a:lnTo>
                  <a:pt x="174" y="2109"/>
                </a:lnTo>
                <a:lnTo>
                  <a:pt x="174" y="2123"/>
                </a:lnTo>
                <a:lnTo>
                  <a:pt x="174" y="2123"/>
                </a:lnTo>
                <a:lnTo>
                  <a:pt x="174" y="2129"/>
                </a:lnTo>
                <a:lnTo>
                  <a:pt x="173" y="2142"/>
                </a:lnTo>
                <a:lnTo>
                  <a:pt x="173" y="2152"/>
                </a:lnTo>
                <a:lnTo>
                  <a:pt x="174" y="2152"/>
                </a:lnTo>
                <a:lnTo>
                  <a:pt x="174" y="2165"/>
                </a:lnTo>
                <a:lnTo>
                  <a:pt x="174" y="2185"/>
                </a:lnTo>
                <a:lnTo>
                  <a:pt x="167" y="2219"/>
                </a:lnTo>
                <a:lnTo>
                  <a:pt x="155" y="2259"/>
                </a:lnTo>
                <a:lnTo>
                  <a:pt x="154" y="2271"/>
                </a:lnTo>
                <a:lnTo>
                  <a:pt x="154" y="2274"/>
                </a:lnTo>
                <a:lnTo>
                  <a:pt x="154" y="2277"/>
                </a:lnTo>
                <a:lnTo>
                  <a:pt x="157" y="2280"/>
                </a:lnTo>
                <a:lnTo>
                  <a:pt x="159" y="2287"/>
                </a:lnTo>
                <a:lnTo>
                  <a:pt x="168" y="2297"/>
                </a:lnTo>
                <a:lnTo>
                  <a:pt x="173" y="2298"/>
                </a:lnTo>
                <a:lnTo>
                  <a:pt x="170" y="2301"/>
                </a:lnTo>
                <a:lnTo>
                  <a:pt x="165" y="2307"/>
                </a:lnTo>
                <a:lnTo>
                  <a:pt x="157" y="2323"/>
                </a:lnTo>
                <a:lnTo>
                  <a:pt x="154" y="2340"/>
                </a:lnTo>
                <a:lnTo>
                  <a:pt x="154" y="2345"/>
                </a:lnTo>
                <a:lnTo>
                  <a:pt x="161" y="2351"/>
                </a:lnTo>
                <a:lnTo>
                  <a:pt x="167" y="2354"/>
                </a:lnTo>
                <a:lnTo>
                  <a:pt x="186" y="2361"/>
                </a:lnTo>
                <a:lnTo>
                  <a:pt x="226" y="2380"/>
                </a:lnTo>
                <a:lnTo>
                  <a:pt x="249" y="2393"/>
                </a:lnTo>
                <a:lnTo>
                  <a:pt x="254" y="2400"/>
                </a:lnTo>
                <a:lnTo>
                  <a:pt x="261" y="2411"/>
                </a:lnTo>
                <a:lnTo>
                  <a:pt x="278" y="2446"/>
                </a:lnTo>
                <a:lnTo>
                  <a:pt x="320" y="2535"/>
                </a:lnTo>
                <a:lnTo>
                  <a:pt x="361" y="2596"/>
                </a:lnTo>
                <a:lnTo>
                  <a:pt x="377" y="2600"/>
                </a:lnTo>
                <a:lnTo>
                  <a:pt x="496" y="2620"/>
                </a:lnTo>
                <a:lnTo>
                  <a:pt x="900" y="2690"/>
                </a:lnTo>
                <a:lnTo>
                  <a:pt x="1208" y="2743"/>
                </a:lnTo>
                <a:lnTo>
                  <a:pt x="1226" y="2746"/>
                </a:lnTo>
                <a:lnTo>
                  <a:pt x="1234" y="2746"/>
                </a:lnTo>
                <a:lnTo>
                  <a:pt x="1300" y="2745"/>
                </a:lnTo>
                <a:lnTo>
                  <a:pt x="1521" y="2739"/>
                </a:lnTo>
                <a:lnTo>
                  <a:pt x="1691" y="2735"/>
                </a:lnTo>
                <a:lnTo>
                  <a:pt x="1701" y="2733"/>
                </a:lnTo>
                <a:lnTo>
                  <a:pt x="1701" y="2733"/>
                </a:lnTo>
                <a:close/>
                <a:moveTo>
                  <a:pt x="1048" y="1131"/>
                </a:moveTo>
                <a:lnTo>
                  <a:pt x="1037" y="1131"/>
                </a:lnTo>
                <a:lnTo>
                  <a:pt x="1022" y="1128"/>
                </a:lnTo>
                <a:lnTo>
                  <a:pt x="1007" y="1122"/>
                </a:lnTo>
                <a:lnTo>
                  <a:pt x="995" y="1113"/>
                </a:lnTo>
                <a:lnTo>
                  <a:pt x="988" y="1102"/>
                </a:lnTo>
                <a:lnTo>
                  <a:pt x="984" y="1086"/>
                </a:lnTo>
                <a:lnTo>
                  <a:pt x="984" y="1077"/>
                </a:lnTo>
                <a:lnTo>
                  <a:pt x="985" y="1077"/>
                </a:lnTo>
                <a:lnTo>
                  <a:pt x="988" y="1077"/>
                </a:lnTo>
                <a:lnTo>
                  <a:pt x="997" y="1073"/>
                </a:lnTo>
                <a:lnTo>
                  <a:pt x="1014" y="1064"/>
                </a:lnTo>
                <a:lnTo>
                  <a:pt x="1029" y="1058"/>
                </a:lnTo>
                <a:lnTo>
                  <a:pt x="1033" y="1061"/>
                </a:lnTo>
                <a:lnTo>
                  <a:pt x="1045" y="1065"/>
                </a:lnTo>
                <a:lnTo>
                  <a:pt x="1074" y="1071"/>
                </a:lnTo>
                <a:lnTo>
                  <a:pt x="1100" y="1070"/>
                </a:lnTo>
                <a:lnTo>
                  <a:pt x="1106" y="1067"/>
                </a:lnTo>
                <a:lnTo>
                  <a:pt x="1100" y="1061"/>
                </a:lnTo>
                <a:lnTo>
                  <a:pt x="1091" y="1055"/>
                </a:lnTo>
                <a:lnTo>
                  <a:pt x="1072" y="1045"/>
                </a:lnTo>
                <a:lnTo>
                  <a:pt x="1050" y="1038"/>
                </a:lnTo>
                <a:lnTo>
                  <a:pt x="1003" y="1026"/>
                </a:lnTo>
                <a:lnTo>
                  <a:pt x="984" y="1020"/>
                </a:lnTo>
                <a:lnTo>
                  <a:pt x="984" y="1016"/>
                </a:lnTo>
                <a:lnTo>
                  <a:pt x="985" y="1012"/>
                </a:lnTo>
                <a:lnTo>
                  <a:pt x="990" y="1003"/>
                </a:lnTo>
                <a:lnTo>
                  <a:pt x="995" y="994"/>
                </a:lnTo>
                <a:lnTo>
                  <a:pt x="1008" y="980"/>
                </a:lnTo>
                <a:lnTo>
                  <a:pt x="1014" y="974"/>
                </a:lnTo>
                <a:lnTo>
                  <a:pt x="1014" y="967"/>
                </a:lnTo>
                <a:lnTo>
                  <a:pt x="1023" y="938"/>
                </a:lnTo>
                <a:lnTo>
                  <a:pt x="1058" y="865"/>
                </a:lnTo>
                <a:lnTo>
                  <a:pt x="1071" y="851"/>
                </a:lnTo>
                <a:lnTo>
                  <a:pt x="1085" y="842"/>
                </a:lnTo>
                <a:lnTo>
                  <a:pt x="1101" y="839"/>
                </a:lnTo>
                <a:lnTo>
                  <a:pt x="1119" y="845"/>
                </a:lnTo>
                <a:lnTo>
                  <a:pt x="1136" y="858"/>
                </a:lnTo>
                <a:lnTo>
                  <a:pt x="1137" y="858"/>
                </a:lnTo>
                <a:lnTo>
                  <a:pt x="1136" y="868"/>
                </a:lnTo>
                <a:lnTo>
                  <a:pt x="1132" y="883"/>
                </a:lnTo>
                <a:lnTo>
                  <a:pt x="1129" y="890"/>
                </a:lnTo>
                <a:lnTo>
                  <a:pt x="1127" y="891"/>
                </a:lnTo>
                <a:lnTo>
                  <a:pt x="1129" y="893"/>
                </a:lnTo>
                <a:lnTo>
                  <a:pt x="1132" y="891"/>
                </a:lnTo>
                <a:lnTo>
                  <a:pt x="1135" y="891"/>
                </a:lnTo>
                <a:lnTo>
                  <a:pt x="1142" y="890"/>
                </a:lnTo>
                <a:lnTo>
                  <a:pt x="1166" y="884"/>
                </a:lnTo>
                <a:lnTo>
                  <a:pt x="1177" y="881"/>
                </a:lnTo>
                <a:lnTo>
                  <a:pt x="1178" y="886"/>
                </a:lnTo>
                <a:lnTo>
                  <a:pt x="1178" y="889"/>
                </a:lnTo>
                <a:lnTo>
                  <a:pt x="1178" y="894"/>
                </a:lnTo>
                <a:lnTo>
                  <a:pt x="1177" y="907"/>
                </a:lnTo>
                <a:lnTo>
                  <a:pt x="1177" y="920"/>
                </a:lnTo>
                <a:lnTo>
                  <a:pt x="1178" y="932"/>
                </a:lnTo>
                <a:lnTo>
                  <a:pt x="1182" y="938"/>
                </a:lnTo>
                <a:lnTo>
                  <a:pt x="1184" y="938"/>
                </a:lnTo>
                <a:lnTo>
                  <a:pt x="1187" y="939"/>
                </a:lnTo>
                <a:lnTo>
                  <a:pt x="1191" y="938"/>
                </a:lnTo>
                <a:lnTo>
                  <a:pt x="1192" y="934"/>
                </a:lnTo>
                <a:lnTo>
                  <a:pt x="1195" y="929"/>
                </a:lnTo>
                <a:lnTo>
                  <a:pt x="1197" y="923"/>
                </a:lnTo>
                <a:lnTo>
                  <a:pt x="1200" y="909"/>
                </a:lnTo>
                <a:lnTo>
                  <a:pt x="1203" y="897"/>
                </a:lnTo>
                <a:lnTo>
                  <a:pt x="1206" y="890"/>
                </a:lnTo>
                <a:lnTo>
                  <a:pt x="1208" y="889"/>
                </a:lnTo>
                <a:lnTo>
                  <a:pt x="1216" y="891"/>
                </a:lnTo>
                <a:lnTo>
                  <a:pt x="1226" y="896"/>
                </a:lnTo>
                <a:lnTo>
                  <a:pt x="1236" y="902"/>
                </a:lnTo>
                <a:lnTo>
                  <a:pt x="1239" y="902"/>
                </a:lnTo>
                <a:lnTo>
                  <a:pt x="1239" y="909"/>
                </a:lnTo>
                <a:lnTo>
                  <a:pt x="1239" y="923"/>
                </a:lnTo>
                <a:lnTo>
                  <a:pt x="1242" y="952"/>
                </a:lnTo>
                <a:lnTo>
                  <a:pt x="1248" y="977"/>
                </a:lnTo>
                <a:lnTo>
                  <a:pt x="1250" y="981"/>
                </a:lnTo>
                <a:lnTo>
                  <a:pt x="1255" y="977"/>
                </a:lnTo>
                <a:lnTo>
                  <a:pt x="1258" y="970"/>
                </a:lnTo>
                <a:lnTo>
                  <a:pt x="1261" y="962"/>
                </a:lnTo>
                <a:lnTo>
                  <a:pt x="1263" y="945"/>
                </a:lnTo>
                <a:lnTo>
                  <a:pt x="1263" y="926"/>
                </a:lnTo>
                <a:lnTo>
                  <a:pt x="1263" y="890"/>
                </a:lnTo>
                <a:lnTo>
                  <a:pt x="1263" y="881"/>
                </a:lnTo>
                <a:lnTo>
                  <a:pt x="1272" y="877"/>
                </a:lnTo>
                <a:lnTo>
                  <a:pt x="1290" y="868"/>
                </a:lnTo>
                <a:lnTo>
                  <a:pt x="1326" y="854"/>
                </a:lnTo>
                <a:lnTo>
                  <a:pt x="1343" y="854"/>
                </a:lnTo>
                <a:lnTo>
                  <a:pt x="1359" y="860"/>
                </a:lnTo>
                <a:lnTo>
                  <a:pt x="1366" y="864"/>
                </a:lnTo>
                <a:lnTo>
                  <a:pt x="1358" y="876"/>
                </a:lnTo>
                <a:lnTo>
                  <a:pt x="1350" y="889"/>
                </a:lnTo>
                <a:lnTo>
                  <a:pt x="1339" y="919"/>
                </a:lnTo>
                <a:lnTo>
                  <a:pt x="1332" y="955"/>
                </a:lnTo>
                <a:lnTo>
                  <a:pt x="1332" y="1028"/>
                </a:lnTo>
                <a:lnTo>
                  <a:pt x="1339" y="1058"/>
                </a:lnTo>
                <a:lnTo>
                  <a:pt x="1342" y="1065"/>
                </a:lnTo>
                <a:lnTo>
                  <a:pt x="1348" y="1071"/>
                </a:lnTo>
                <a:lnTo>
                  <a:pt x="1355" y="1078"/>
                </a:lnTo>
                <a:lnTo>
                  <a:pt x="1372" y="1089"/>
                </a:lnTo>
                <a:lnTo>
                  <a:pt x="1410" y="1109"/>
                </a:lnTo>
                <a:lnTo>
                  <a:pt x="1430" y="1122"/>
                </a:lnTo>
                <a:lnTo>
                  <a:pt x="1429" y="1125"/>
                </a:lnTo>
                <a:lnTo>
                  <a:pt x="1429" y="1131"/>
                </a:lnTo>
                <a:lnTo>
                  <a:pt x="1424" y="1144"/>
                </a:lnTo>
                <a:lnTo>
                  <a:pt x="1421" y="1157"/>
                </a:lnTo>
                <a:lnTo>
                  <a:pt x="1421" y="1158"/>
                </a:lnTo>
                <a:lnTo>
                  <a:pt x="1419" y="1158"/>
                </a:lnTo>
                <a:lnTo>
                  <a:pt x="1411" y="1158"/>
                </a:lnTo>
                <a:lnTo>
                  <a:pt x="1395" y="1158"/>
                </a:lnTo>
                <a:lnTo>
                  <a:pt x="1379" y="1158"/>
                </a:lnTo>
                <a:lnTo>
                  <a:pt x="1378" y="1158"/>
                </a:lnTo>
                <a:lnTo>
                  <a:pt x="1384" y="1165"/>
                </a:lnTo>
                <a:lnTo>
                  <a:pt x="1392" y="1177"/>
                </a:lnTo>
                <a:lnTo>
                  <a:pt x="1395" y="1187"/>
                </a:lnTo>
                <a:lnTo>
                  <a:pt x="1397" y="1196"/>
                </a:lnTo>
                <a:lnTo>
                  <a:pt x="1395" y="1203"/>
                </a:lnTo>
                <a:lnTo>
                  <a:pt x="1397" y="1212"/>
                </a:lnTo>
                <a:lnTo>
                  <a:pt x="1400" y="1216"/>
                </a:lnTo>
                <a:lnTo>
                  <a:pt x="1397" y="1218"/>
                </a:lnTo>
                <a:lnTo>
                  <a:pt x="1394" y="1218"/>
                </a:lnTo>
                <a:lnTo>
                  <a:pt x="1385" y="1216"/>
                </a:lnTo>
                <a:lnTo>
                  <a:pt x="1363" y="1215"/>
                </a:lnTo>
                <a:lnTo>
                  <a:pt x="1346" y="1212"/>
                </a:lnTo>
                <a:lnTo>
                  <a:pt x="1343" y="1212"/>
                </a:lnTo>
                <a:lnTo>
                  <a:pt x="1340" y="1210"/>
                </a:lnTo>
                <a:lnTo>
                  <a:pt x="1337" y="1207"/>
                </a:lnTo>
                <a:lnTo>
                  <a:pt x="1332" y="1202"/>
                </a:lnTo>
                <a:lnTo>
                  <a:pt x="1320" y="1186"/>
                </a:lnTo>
                <a:lnTo>
                  <a:pt x="1314" y="1177"/>
                </a:lnTo>
                <a:lnTo>
                  <a:pt x="1308" y="1175"/>
                </a:lnTo>
                <a:lnTo>
                  <a:pt x="1304" y="1174"/>
                </a:lnTo>
                <a:lnTo>
                  <a:pt x="1297" y="1174"/>
                </a:lnTo>
                <a:lnTo>
                  <a:pt x="1290" y="1174"/>
                </a:lnTo>
                <a:lnTo>
                  <a:pt x="1272" y="1178"/>
                </a:lnTo>
                <a:lnTo>
                  <a:pt x="1232" y="1193"/>
                </a:lnTo>
                <a:lnTo>
                  <a:pt x="1137" y="1219"/>
                </a:lnTo>
                <a:lnTo>
                  <a:pt x="1078" y="1204"/>
                </a:lnTo>
                <a:lnTo>
                  <a:pt x="1078" y="1200"/>
                </a:lnTo>
                <a:lnTo>
                  <a:pt x="1078" y="1194"/>
                </a:lnTo>
                <a:lnTo>
                  <a:pt x="1078" y="1189"/>
                </a:lnTo>
                <a:lnTo>
                  <a:pt x="1072" y="1175"/>
                </a:lnTo>
                <a:lnTo>
                  <a:pt x="1065" y="1161"/>
                </a:lnTo>
                <a:lnTo>
                  <a:pt x="1049" y="1136"/>
                </a:lnTo>
                <a:lnTo>
                  <a:pt x="1048" y="1131"/>
                </a:lnTo>
                <a:lnTo>
                  <a:pt x="1048" y="1131"/>
                </a:lnTo>
                <a:close/>
                <a:moveTo>
                  <a:pt x="1434" y="1203"/>
                </a:moveTo>
                <a:lnTo>
                  <a:pt x="1445" y="1200"/>
                </a:lnTo>
                <a:lnTo>
                  <a:pt x="1463" y="1194"/>
                </a:lnTo>
                <a:lnTo>
                  <a:pt x="1475" y="1189"/>
                </a:lnTo>
                <a:lnTo>
                  <a:pt x="1482" y="1181"/>
                </a:lnTo>
                <a:lnTo>
                  <a:pt x="1489" y="1168"/>
                </a:lnTo>
                <a:lnTo>
                  <a:pt x="1498" y="1147"/>
                </a:lnTo>
                <a:lnTo>
                  <a:pt x="1504" y="1131"/>
                </a:lnTo>
                <a:lnTo>
                  <a:pt x="1514" y="1133"/>
                </a:lnTo>
                <a:lnTo>
                  <a:pt x="1524" y="1138"/>
                </a:lnTo>
                <a:lnTo>
                  <a:pt x="1534" y="1145"/>
                </a:lnTo>
                <a:lnTo>
                  <a:pt x="1543" y="1154"/>
                </a:lnTo>
                <a:lnTo>
                  <a:pt x="1559" y="1175"/>
                </a:lnTo>
                <a:lnTo>
                  <a:pt x="1581" y="1212"/>
                </a:lnTo>
                <a:lnTo>
                  <a:pt x="1588" y="1218"/>
                </a:lnTo>
                <a:lnTo>
                  <a:pt x="1576" y="1219"/>
                </a:lnTo>
                <a:lnTo>
                  <a:pt x="1552" y="1220"/>
                </a:lnTo>
                <a:lnTo>
                  <a:pt x="1495" y="1219"/>
                </a:lnTo>
                <a:lnTo>
                  <a:pt x="1445" y="1209"/>
                </a:lnTo>
                <a:lnTo>
                  <a:pt x="1434" y="1203"/>
                </a:lnTo>
                <a:lnTo>
                  <a:pt x="1434" y="1203"/>
                </a:lnTo>
                <a:close/>
                <a:moveTo>
                  <a:pt x="1491" y="822"/>
                </a:moveTo>
                <a:lnTo>
                  <a:pt x="1498" y="823"/>
                </a:lnTo>
                <a:lnTo>
                  <a:pt x="1510" y="825"/>
                </a:lnTo>
                <a:lnTo>
                  <a:pt x="1517" y="826"/>
                </a:lnTo>
                <a:lnTo>
                  <a:pt x="1518" y="828"/>
                </a:lnTo>
                <a:lnTo>
                  <a:pt x="1520" y="831"/>
                </a:lnTo>
                <a:lnTo>
                  <a:pt x="1521" y="834"/>
                </a:lnTo>
                <a:lnTo>
                  <a:pt x="1521" y="836"/>
                </a:lnTo>
                <a:lnTo>
                  <a:pt x="1523" y="848"/>
                </a:lnTo>
                <a:lnTo>
                  <a:pt x="1523" y="854"/>
                </a:lnTo>
                <a:lnTo>
                  <a:pt x="1520" y="857"/>
                </a:lnTo>
                <a:lnTo>
                  <a:pt x="1516" y="865"/>
                </a:lnTo>
                <a:lnTo>
                  <a:pt x="1504" y="889"/>
                </a:lnTo>
                <a:lnTo>
                  <a:pt x="1498" y="909"/>
                </a:lnTo>
                <a:lnTo>
                  <a:pt x="1498" y="912"/>
                </a:lnTo>
                <a:lnTo>
                  <a:pt x="1501" y="915"/>
                </a:lnTo>
                <a:lnTo>
                  <a:pt x="1505" y="915"/>
                </a:lnTo>
                <a:lnTo>
                  <a:pt x="1516" y="916"/>
                </a:lnTo>
                <a:lnTo>
                  <a:pt x="1524" y="915"/>
                </a:lnTo>
                <a:lnTo>
                  <a:pt x="1533" y="916"/>
                </a:lnTo>
                <a:lnTo>
                  <a:pt x="1539" y="919"/>
                </a:lnTo>
                <a:lnTo>
                  <a:pt x="1542" y="925"/>
                </a:lnTo>
                <a:lnTo>
                  <a:pt x="1543" y="925"/>
                </a:lnTo>
                <a:lnTo>
                  <a:pt x="1543" y="932"/>
                </a:lnTo>
                <a:lnTo>
                  <a:pt x="1542" y="951"/>
                </a:lnTo>
                <a:lnTo>
                  <a:pt x="1542" y="965"/>
                </a:lnTo>
                <a:lnTo>
                  <a:pt x="1543" y="965"/>
                </a:lnTo>
                <a:lnTo>
                  <a:pt x="1542" y="971"/>
                </a:lnTo>
                <a:lnTo>
                  <a:pt x="1539" y="974"/>
                </a:lnTo>
                <a:lnTo>
                  <a:pt x="1536" y="977"/>
                </a:lnTo>
                <a:lnTo>
                  <a:pt x="1533" y="980"/>
                </a:lnTo>
                <a:lnTo>
                  <a:pt x="1526" y="984"/>
                </a:lnTo>
                <a:lnTo>
                  <a:pt x="1517" y="989"/>
                </a:lnTo>
                <a:lnTo>
                  <a:pt x="1508" y="993"/>
                </a:lnTo>
                <a:lnTo>
                  <a:pt x="1503" y="999"/>
                </a:lnTo>
                <a:lnTo>
                  <a:pt x="1503" y="999"/>
                </a:lnTo>
                <a:lnTo>
                  <a:pt x="1500" y="1002"/>
                </a:lnTo>
                <a:lnTo>
                  <a:pt x="1498" y="1005"/>
                </a:lnTo>
                <a:lnTo>
                  <a:pt x="1495" y="1013"/>
                </a:lnTo>
                <a:lnTo>
                  <a:pt x="1488" y="1032"/>
                </a:lnTo>
                <a:lnTo>
                  <a:pt x="1474" y="1041"/>
                </a:lnTo>
                <a:lnTo>
                  <a:pt x="1468" y="1031"/>
                </a:lnTo>
                <a:lnTo>
                  <a:pt x="1455" y="1012"/>
                </a:lnTo>
                <a:lnTo>
                  <a:pt x="1426" y="978"/>
                </a:lnTo>
                <a:lnTo>
                  <a:pt x="1391" y="949"/>
                </a:lnTo>
                <a:lnTo>
                  <a:pt x="1382" y="942"/>
                </a:lnTo>
                <a:lnTo>
                  <a:pt x="1381" y="936"/>
                </a:lnTo>
                <a:lnTo>
                  <a:pt x="1382" y="926"/>
                </a:lnTo>
                <a:lnTo>
                  <a:pt x="1382" y="919"/>
                </a:lnTo>
                <a:lnTo>
                  <a:pt x="1385" y="916"/>
                </a:lnTo>
                <a:lnTo>
                  <a:pt x="1391" y="912"/>
                </a:lnTo>
                <a:lnTo>
                  <a:pt x="1400" y="906"/>
                </a:lnTo>
                <a:lnTo>
                  <a:pt x="1405" y="900"/>
                </a:lnTo>
                <a:lnTo>
                  <a:pt x="1417" y="902"/>
                </a:lnTo>
                <a:lnTo>
                  <a:pt x="1430" y="903"/>
                </a:lnTo>
                <a:lnTo>
                  <a:pt x="1433" y="906"/>
                </a:lnTo>
                <a:lnTo>
                  <a:pt x="1430" y="910"/>
                </a:lnTo>
                <a:lnTo>
                  <a:pt x="1430" y="913"/>
                </a:lnTo>
                <a:lnTo>
                  <a:pt x="1437" y="916"/>
                </a:lnTo>
                <a:lnTo>
                  <a:pt x="1446" y="916"/>
                </a:lnTo>
                <a:lnTo>
                  <a:pt x="1445" y="910"/>
                </a:lnTo>
                <a:lnTo>
                  <a:pt x="1442" y="905"/>
                </a:lnTo>
                <a:lnTo>
                  <a:pt x="1434" y="887"/>
                </a:lnTo>
                <a:lnTo>
                  <a:pt x="1429" y="870"/>
                </a:lnTo>
                <a:lnTo>
                  <a:pt x="1426" y="854"/>
                </a:lnTo>
                <a:lnTo>
                  <a:pt x="1427" y="847"/>
                </a:lnTo>
                <a:lnTo>
                  <a:pt x="1432" y="842"/>
                </a:lnTo>
                <a:lnTo>
                  <a:pt x="1439" y="838"/>
                </a:lnTo>
                <a:lnTo>
                  <a:pt x="1449" y="836"/>
                </a:lnTo>
                <a:lnTo>
                  <a:pt x="1450" y="836"/>
                </a:lnTo>
                <a:lnTo>
                  <a:pt x="1453" y="839"/>
                </a:lnTo>
                <a:lnTo>
                  <a:pt x="1456" y="841"/>
                </a:lnTo>
                <a:lnTo>
                  <a:pt x="1461" y="842"/>
                </a:lnTo>
                <a:lnTo>
                  <a:pt x="1468" y="844"/>
                </a:lnTo>
                <a:lnTo>
                  <a:pt x="1475" y="845"/>
                </a:lnTo>
                <a:lnTo>
                  <a:pt x="1479" y="848"/>
                </a:lnTo>
                <a:lnTo>
                  <a:pt x="1481" y="852"/>
                </a:lnTo>
                <a:lnTo>
                  <a:pt x="1479" y="855"/>
                </a:lnTo>
                <a:lnTo>
                  <a:pt x="1479" y="852"/>
                </a:lnTo>
                <a:lnTo>
                  <a:pt x="1479" y="845"/>
                </a:lnTo>
                <a:lnTo>
                  <a:pt x="1481" y="834"/>
                </a:lnTo>
                <a:lnTo>
                  <a:pt x="1482" y="829"/>
                </a:lnTo>
                <a:lnTo>
                  <a:pt x="1487" y="825"/>
                </a:lnTo>
                <a:lnTo>
                  <a:pt x="1491" y="822"/>
                </a:lnTo>
                <a:lnTo>
                  <a:pt x="1491" y="822"/>
                </a:lnTo>
                <a:close/>
                <a:moveTo>
                  <a:pt x="1562" y="826"/>
                </a:moveTo>
                <a:lnTo>
                  <a:pt x="1569" y="820"/>
                </a:lnTo>
                <a:lnTo>
                  <a:pt x="1578" y="818"/>
                </a:lnTo>
                <a:lnTo>
                  <a:pt x="1587" y="816"/>
                </a:lnTo>
                <a:lnTo>
                  <a:pt x="1594" y="815"/>
                </a:lnTo>
                <a:lnTo>
                  <a:pt x="1603" y="816"/>
                </a:lnTo>
                <a:lnTo>
                  <a:pt x="1617" y="822"/>
                </a:lnTo>
                <a:lnTo>
                  <a:pt x="1627" y="828"/>
                </a:lnTo>
                <a:lnTo>
                  <a:pt x="1631" y="831"/>
                </a:lnTo>
                <a:lnTo>
                  <a:pt x="1633" y="834"/>
                </a:lnTo>
                <a:lnTo>
                  <a:pt x="1633" y="834"/>
                </a:lnTo>
                <a:lnTo>
                  <a:pt x="1634" y="835"/>
                </a:lnTo>
                <a:lnTo>
                  <a:pt x="1637" y="836"/>
                </a:lnTo>
                <a:lnTo>
                  <a:pt x="1645" y="838"/>
                </a:lnTo>
                <a:lnTo>
                  <a:pt x="1662" y="842"/>
                </a:lnTo>
                <a:lnTo>
                  <a:pt x="1672" y="847"/>
                </a:lnTo>
                <a:lnTo>
                  <a:pt x="1672" y="861"/>
                </a:lnTo>
                <a:lnTo>
                  <a:pt x="1671" y="877"/>
                </a:lnTo>
                <a:lnTo>
                  <a:pt x="1669" y="881"/>
                </a:lnTo>
                <a:lnTo>
                  <a:pt x="1665" y="881"/>
                </a:lnTo>
                <a:lnTo>
                  <a:pt x="1662" y="881"/>
                </a:lnTo>
                <a:lnTo>
                  <a:pt x="1658" y="881"/>
                </a:lnTo>
                <a:lnTo>
                  <a:pt x="1656" y="883"/>
                </a:lnTo>
                <a:lnTo>
                  <a:pt x="1656" y="889"/>
                </a:lnTo>
                <a:lnTo>
                  <a:pt x="1655" y="896"/>
                </a:lnTo>
                <a:lnTo>
                  <a:pt x="1656" y="896"/>
                </a:lnTo>
                <a:lnTo>
                  <a:pt x="1647" y="897"/>
                </a:lnTo>
                <a:lnTo>
                  <a:pt x="1640" y="899"/>
                </a:lnTo>
                <a:lnTo>
                  <a:pt x="1633" y="903"/>
                </a:lnTo>
                <a:lnTo>
                  <a:pt x="1627" y="907"/>
                </a:lnTo>
                <a:lnTo>
                  <a:pt x="1617" y="918"/>
                </a:lnTo>
                <a:lnTo>
                  <a:pt x="1610" y="932"/>
                </a:lnTo>
                <a:lnTo>
                  <a:pt x="1605" y="949"/>
                </a:lnTo>
                <a:lnTo>
                  <a:pt x="1604" y="965"/>
                </a:lnTo>
                <a:lnTo>
                  <a:pt x="1605" y="965"/>
                </a:lnTo>
                <a:lnTo>
                  <a:pt x="1598" y="967"/>
                </a:lnTo>
                <a:lnTo>
                  <a:pt x="1591" y="967"/>
                </a:lnTo>
                <a:lnTo>
                  <a:pt x="1585" y="967"/>
                </a:lnTo>
                <a:lnTo>
                  <a:pt x="1584" y="967"/>
                </a:lnTo>
                <a:lnTo>
                  <a:pt x="1571" y="954"/>
                </a:lnTo>
                <a:lnTo>
                  <a:pt x="1555" y="931"/>
                </a:lnTo>
                <a:lnTo>
                  <a:pt x="1549" y="912"/>
                </a:lnTo>
                <a:lnTo>
                  <a:pt x="1552" y="899"/>
                </a:lnTo>
                <a:lnTo>
                  <a:pt x="1556" y="891"/>
                </a:lnTo>
                <a:lnTo>
                  <a:pt x="1560" y="887"/>
                </a:lnTo>
                <a:lnTo>
                  <a:pt x="1562" y="886"/>
                </a:lnTo>
                <a:lnTo>
                  <a:pt x="1562" y="877"/>
                </a:lnTo>
                <a:lnTo>
                  <a:pt x="1560" y="849"/>
                </a:lnTo>
                <a:lnTo>
                  <a:pt x="1560" y="828"/>
                </a:lnTo>
                <a:lnTo>
                  <a:pt x="1562" y="826"/>
                </a:lnTo>
                <a:lnTo>
                  <a:pt x="1562" y="826"/>
                </a:lnTo>
                <a:close/>
                <a:moveTo>
                  <a:pt x="2062" y="1484"/>
                </a:moveTo>
                <a:lnTo>
                  <a:pt x="2063" y="1494"/>
                </a:lnTo>
                <a:lnTo>
                  <a:pt x="2068" y="1500"/>
                </a:lnTo>
                <a:lnTo>
                  <a:pt x="2072" y="1504"/>
                </a:lnTo>
                <a:lnTo>
                  <a:pt x="2078" y="1507"/>
                </a:lnTo>
                <a:lnTo>
                  <a:pt x="2084" y="1507"/>
                </a:lnTo>
                <a:lnTo>
                  <a:pt x="2089" y="1507"/>
                </a:lnTo>
                <a:lnTo>
                  <a:pt x="2102" y="1503"/>
                </a:lnTo>
                <a:lnTo>
                  <a:pt x="2114" y="1500"/>
                </a:lnTo>
                <a:lnTo>
                  <a:pt x="2120" y="1499"/>
                </a:lnTo>
                <a:lnTo>
                  <a:pt x="2123" y="1499"/>
                </a:lnTo>
                <a:lnTo>
                  <a:pt x="2124" y="1499"/>
                </a:lnTo>
                <a:lnTo>
                  <a:pt x="2123" y="1512"/>
                </a:lnTo>
                <a:lnTo>
                  <a:pt x="2118" y="1522"/>
                </a:lnTo>
                <a:lnTo>
                  <a:pt x="2112" y="1529"/>
                </a:lnTo>
                <a:lnTo>
                  <a:pt x="2105" y="1535"/>
                </a:lnTo>
                <a:lnTo>
                  <a:pt x="2098" y="1539"/>
                </a:lnTo>
                <a:lnTo>
                  <a:pt x="2088" y="1541"/>
                </a:lnTo>
                <a:lnTo>
                  <a:pt x="2078" y="1541"/>
                </a:lnTo>
                <a:lnTo>
                  <a:pt x="2057" y="1538"/>
                </a:lnTo>
                <a:lnTo>
                  <a:pt x="2040" y="1532"/>
                </a:lnTo>
                <a:lnTo>
                  <a:pt x="2033" y="1526"/>
                </a:lnTo>
                <a:lnTo>
                  <a:pt x="2026" y="1532"/>
                </a:lnTo>
                <a:lnTo>
                  <a:pt x="2013" y="1544"/>
                </a:lnTo>
                <a:lnTo>
                  <a:pt x="1994" y="1573"/>
                </a:lnTo>
                <a:lnTo>
                  <a:pt x="1979" y="1603"/>
                </a:lnTo>
                <a:lnTo>
                  <a:pt x="1978" y="1609"/>
                </a:lnTo>
                <a:lnTo>
                  <a:pt x="1963" y="1609"/>
                </a:lnTo>
                <a:lnTo>
                  <a:pt x="1953" y="1606"/>
                </a:lnTo>
                <a:lnTo>
                  <a:pt x="1947" y="1603"/>
                </a:lnTo>
                <a:lnTo>
                  <a:pt x="1944" y="1597"/>
                </a:lnTo>
                <a:lnTo>
                  <a:pt x="1944" y="1593"/>
                </a:lnTo>
                <a:lnTo>
                  <a:pt x="1943" y="1588"/>
                </a:lnTo>
                <a:lnTo>
                  <a:pt x="1943" y="1584"/>
                </a:lnTo>
                <a:lnTo>
                  <a:pt x="1940" y="1580"/>
                </a:lnTo>
                <a:lnTo>
                  <a:pt x="1936" y="1578"/>
                </a:lnTo>
                <a:lnTo>
                  <a:pt x="1927" y="1578"/>
                </a:lnTo>
                <a:lnTo>
                  <a:pt x="1914" y="1580"/>
                </a:lnTo>
                <a:lnTo>
                  <a:pt x="1895" y="1583"/>
                </a:lnTo>
                <a:lnTo>
                  <a:pt x="1895" y="1583"/>
                </a:lnTo>
                <a:lnTo>
                  <a:pt x="1894" y="1573"/>
                </a:lnTo>
                <a:lnTo>
                  <a:pt x="1894" y="1559"/>
                </a:lnTo>
                <a:lnTo>
                  <a:pt x="1897" y="1528"/>
                </a:lnTo>
                <a:lnTo>
                  <a:pt x="1905" y="1455"/>
                </a:lnTo>
                <a:lnTo>
                  <a:pt x="1904" y="1399"/>
                </a:lnTo>
                <a:lnTo>
                  <a:pt x="1905" y="1399"/>
                </a:lnTo>
                <a:lnTo>
                  <a:pt x="1908" y="1399"/>
                </a:lnTo>
                <a:lnTo>
                  <a:pt x="1917" y="1402"/>
                </a:lnTo>
                <a:lnTo>
                  <a:pt x="1946" y="1410"/>
                </a:lnTo>
                <a:lnTo>
                  <a:pt x="2017" y="1442"/>
                </a:lnTo>
                <a:lnTo>
                  <a:pt x="2062" y="1484"/>
                </a:lnTo>
                <a:lnTo>
                  <a:pt x="2062" y="1484"/>
                </a:lnTo>
                <a:close/>
                <a:moveTo>
                  <a:pt x="2041" y="1662"/>
                </a:moveTo>
                <a:lnTo>
                  <a:pt x="2023" y="1661"/>
                </a:lnTo>
                <a:lnTo>
                  <a:pt x="2011" y="1658"/>
                </a:lnTo>
                <a:lnTo>
                  <a:pt x="2004" y="1655"/>
                </a:lnTo>
                <a:lnTo>
                  <a:pt x="2002" y="1654"/>
                </a:lnTo>
                <a:lnTo>
                  <a:pt x="2001" y="1651"/>
                </a:lnTo>
                <a:lnTo>
                  <a:pt x="2001" y="1648"/>
                </a:lnTo>
                <a:lnTo>
                  <a:pt x="2001" y="1645"/>
                </a:lnTo>
                <a:lnTo>
                  <a:pt x="2002" y="1642"/>
                </a:lnTo>
                <a:lnTo>
                  <a:pt x="2005" y="1636"/>
                </a:lnTo>
                <a:lnTo>
                  <a:pt x="2010" y="1629"/>
                </a:lnTo>
                <a:lnTo>
                  <a:pt x="2021" y="1610"/>
                </a:lnTo>
                <a:lnTo>
                  <a:pt x="2027" y="1588"/>
                </a:lnTo>
                <a:lnTo>
                  <a:pt x="2028" y="1581"/>
                </a:lnTo>
                <a:lnTo>
                  <a:pt x="2031" y="1581"/>
                </a:lnTo>
                <a:lnTo>
                  <a:pt x="2036" y="1578"/>
                </a:lnTo>
                <a:lnTo>
                  <a:pt x="2039" y="1575"/>
                </a:lnTo>
                <a:lnTo>
                  <a:pt x="2047" y="1568"/>
                </a:lnTo>
                <a:lnTo>
                  <a:pt x="2055" y="1562"/>
                </a:lnTo>
                <a:lnTo>
                  <a:pt x="2060" y="1561"/>
                </a:lnTo>
                <a:lnTo>
                  <a:pt x="2066" y="1561"/>
                </a:lnTo>
                <a:lnTo>
                  <a:pt x="2073" y="1564"/>
                </a:lnTo>
                <a:lnTo>
                  <a:pt x="2081" y="1570"/>
                </a:lnTo>
                <a:lnTo>
                  <a:pt x="2089" y="1577"/>
                </a:lnTo>
                <a:lnTo>
                  <a:pt x="2091" y="1577"/>
                </a:lnTo>
                <a:lnTo>
                  <a:pt x="2089" y="1587"/>
                </a:lnTo>
                <a:lnTo>
                  <a:pt x="2085" y="1603"/>
                </a:lnTo>
                <a:lnTo>
                  <a:pt x="2078" y="1616"/>
                </a:lnTo>
                <a:lnTo>
                  <a:pt x="2068" y="1628"/>
                </a:lnTo>
                <a:lnTo>
                  <a:pt x="2046" y="1655"/>
                </a:lnTo>
                <a:lnTo>
                  <a:pt x="2041" y="1662"/>
                </a:lnTo>
                <a:lnTo>
                  <a:pt x="2041" y="1662"/>
                </a:lnTo>
                <a:close/>
                <a:moveTo>
                  <a:pt x="2183" y="1658"/>
                </a:moveTo>
                <a:lnTo>
                  <a:pt x="2176" y="1655"/>
                </a:lnTo>
                <a:lnTo>
                  <a:pt x="2165" y="1648"/>
                </a:lnTo>
                <a:lnTo>
                  <a:pt x="2155" y="1638"/>
                </a:lnTo>
                <a:lnTo>
                  <a:pt x="2149" y="1626"/>
                </a:lnTo>
                <a:lnTo>
                  <a:pt x="2149" y="1613"/>
                </a:lnTo>
                <a:lnTo>
                  <a:pt x="2157" y="1599"/>
                </a:lnTo>
                <a:lnTo>
                  <a:pt x="2165" y="1590"/>
                </a:lnTo>
                <a:lnTo>
                  <a:pt x="2166" y="1590"/>
                </a:lnTo>
                <a:lnTo>
                  <a:pt x="2168" y="1590"/>
                </a:lnTo>
                <a:lnTo>
                  <a:pt x="2170" y="1588"/>
                </a:lnTo>
                <a:lnTo>
                  <a:pt x="2172" y="1586"/>
                </a:lnTo>
                <a:lnTo>
                  <a:pt x="2173" y="1583"/>
                </a:lnTo>
                <a:lnTo>
                  <a:pt x="2176" y="1581"/>
                </a:lnTo>
                <a:lnTo>
                  <a:pt x="2181" y="1588"/>
                </a:lnTo>
                <a:lnTo>
                  <a:pt x="2183" y="1594"/>
                </a:lnTo>
                <a:lnTo>
                  <a:pt x="2186" y="1600"/>
                </a:lnTo>
                <a:lnTo>
                  <a:pt x="2188" y="1613"/>
                </a:lnTo>
                <a:lnTo>
                  <a:pt x="2186" y="1628"/>
                </a:lnTo>
                <a:lnTo>
                  <a:pt x="2183" y="1652"/>
                </a:lnTo>
                <a:lnTo>
                  <a:pt x="2183" y="1658"/>
                </a:lnTo>
                <a:lnTo>
                  <a:pt x="2183" y="1658"/>
                </a:lnTo>
                <a:close/>
                <a:moveTo>
                  <a:pt x="2150" y="1148"/>
                </a:moveTo>
                <a:lnTo>
                  <a:pt x="2150" y="1154"/>
                </a:lnTo>
                <a:lnTo>
                  <a:pt x="2150" y="1162"/>
                </a:lnTo>
                <a:lnTo>
                  <a:pt x="2155" y="1174"/>
                </a:lnTo>
                <a:lnTo>
                  <a:pt x="2156" y="1196"/>
                </a:lnTo>
                <a:lnTo>
                  <a:pt x="2157" y="1203"/>
                </a:lnTo>
                <a:lnTo>
                  <a:pt x="2156" y="1204"/>
                </a:lnTo>
                <a:lnTo>
                  <a:pt x="2150" y="1207"/>
                </a:lnTo>
                <a:lnTo>
                  <a:pt x="2128" y="1218"/>
                </a:lnTo>
                <a:lnTo>
                  <a:pt x="2111" y="1226"/>
                </a:lnTo>
                <a:lnTo>
                  <a:pt x="2111" y="1226"/>
                </a:lnTo>
                <a:lnTo>
                  <a:pt x="2104" y="1220"/>
                </a:lnTo>
                <a:lnTo>
                  <a:pt x="2097" y="1204"/>
                </a:lnTo>
                <a:lnTo>
                  <a:pt x="2094" y="1190"/>
                </a:lnTo>
                <a:lnTo>
                  <a:pt x="2095" y="1174"/>
                </a:lnTo>
                <a:lnTo>
                  <a:pt x="2099" y="1160"/>
                </a:lnTo>
                <a:lnTo>
                  <a:pt x="2107" y="1144"/>
                </a:lnTo>
                <a:lnTo>
                  <a:pt x="2111" y="1136"/>
                </a:lnTo>
                <a:lnTo>
                  <a:pt x="2115" y="1138"/>
                </a:lnTo>
                <a:lnTo>
                  <a:pt x="2124" y="1138"/>
                </a:lnTo>
                <a:lnTo>
                  <a:pt x="2133" y="1141"/>
                </a:lnTo>
                <a:lnTo>
                  <a:pt x="2144" y="1147"/>
                </a:lnTo>
                <a:lnTo>
                  <a:pt x="2150" y="1148"/>
                </a:lnTo>
                <a:lnTo>
                  <a:pt x="2150" y="1148"/>
                </a:lnTo>
                <a:close/>
                <a:moveTo>
                  <a:pt x="1820" y="816"/>
                </a:moveTo>
                <a:lnTo>
                  <a:pt x="1818" y="818"/>
                </a:lnTo>
                <a:lnTo>
                  <a:pt x="1821" y="822"/>
                </a:lnTo>
                <a:lnTo>
                  <a:pt x="1827" y="828"/>
                </a:lnTo>
                <a:lnTo>
                  <a:pt x="1849" y="844"/>
                </a:lnTo>
                <a:lnTo>
                  <a:pt x="1901" y="877"/>
                </a:lnTo>
                <a:lnTo>
                  <a:pt x="1921" y="889"/>
                </a:lnTo>
                <a:lnTo>
                  <a:pt x="1920" y="893"/>
                </a:lnTo>
                <a:lnTo>
                  <a:pt x="1918" y="902"/>
                </a:lnTo>
                <a:lnTo>
                  <a:pt x="1917" y="907"/>
                </a:lnTo>
                <a:lnTo>
                  <a:pt x="1917" y="909"/>
                </a:lnTo>
                <a:lnTo>
                  <a:pt x="1918" y="907"/>
                </a:lnTo>
                <a:lnTo>
                  <a:pt x="1926" y="900"/>
                </a:lnTo>
                <a:lnTo>
                  <a:pt x="1933" y="893"/>
                </a:lnTo>
                <a:lnTo>
                  <a:pt x="1937" y="894"/>
                </a:lnTo>
                <a:lnTo>
                  <a:pt x="1946" y="896"/>
                </a:lnTo>
                <a:lnTo>
                  <a:pt x="1955" y="900"/>
                </a:lnTo>
                <a:lnTo>
                  <a:pt x="1966" y="907"/>
                </a:lnTo>
                <a:lnTo>
                  <a:pt x="1975" y="909"/>
                </a:lnTo>
                <a:lnTo>
                  <a:pt x="1975" y="903"/>
                </a:lnTo>
                <a:lnTo>
                  <a:pt x="1975" y="891"/>
                </a:lnTo>
                <a:lnTo>
                  <a:pt x="1981" y="867"/>
                </a:lnTo>
                <a:lnTo>
                  <a:pt x="1991" y="847"/>
                </a:lnTo>
                <a:lnTo>
                  <a:pt x="1995" y="842"/>
                </a:lnTo>
                <a:lnTo>
                  <a:pt x="2002" y="847"/>
                </a:lnTo>
                <a:lnTo>
                  <a:pt x="2017" y="854"/>
                </a:lnTo>
                <a:lnTo>
                  <a:pt x="2040" y="871"/>
                </a:lnTo>
                <a:lnTo>
                  <a:pt x="2047" y="881"/>
                </a:lnTo>
                <a:lnTo>
                  <a:pt x="2052" y="894"/>
                </a:lnTo>
                <a:lnTo>
                  <a:pt x="2053" y="900"/>
                </a:lnTo>
                <a:lnTo>
                  <a:pt x="2055" y="899"/>
                </a:lnTo>
                <a:lnTo>
                  <a:pt x="2059" y="894"/>
                </a:lnTo>
                <a:lnTo>
                  <a:pt x="2062" y="890"/>
                </a:lnTo>
                <a:lnTo>
                  <a:pt x="2063" y="889"/>
                </a:lnTo>
                <a:lnTo>
                  <a:pt x="2066" y="889"/>
                </a:lnTo>
                <a:lnTo>
                  <a:pt x="2079" y="889"/>
                </a:lnTo>
                <a:lnTo>
                  <a:pt x="2089" y="889"/>
                </a:lnTo>
                <a:lnTo>
                  <a:pt x="2091" y="889"/>
                </a:lnTo>
                <a:lnTo>
                  <a:pt x="2091" y="890"/>
                </a:lnTo>
                <a:lnTo>
                  <a:pt x="2094" y="897"/>
                </a:lnTo>
                <a:lnTo>
                  <a:pt x="2102" y="920"/>
                </a:lnTo>
                <a:lnTo>
                  <a:pt x="2108" y="939"/>
                </a:lnTo>
                <a:lnTo>
                  <a:pt x="2110" y="939"/>
                </a:lnTo>
                <a:lnTo>
                  <a:pt x="2110" y="932"/>
                </a:lnTo>
                <a:lnTo>
                  <a:pt x="2110" y="920"/>
                </a:lnTo>
                <a:lnTo>
                  <a:pt x="2112" y="899"/>
                </a:lnTo>
                <a:lnTo>
                  <a:pt x="2121" y="881"/>
                </a:lnTo>
                <a:lnTo>
                  <a:pt x="2126" y="877"/>
                </a:lnTo>
                <a:lnTo>
                  <a:pt x="2128" y="880"/>
                </a:lnTo>
                <a:lnTo>
                  <a:pt x="2134" y="883"/>
                </a:lnTo>
                <a:lnTo>
                  <a:pt x="2147" y="891"/>
                </a:lnTo>
                <a:lnTo>
                  <a:pt x="2157" y="899"/>
                </a:lnTo>
                <a:lnTo>
                  <a:pt x="2160" y="900"/>
                </a:lnTo>
                <a:lnTo>
                  <a:pt x="2159" y="902"/>
                </a:lnTo>
                <a:lnTo>
                  <a:pt x="2156" y="909"/>
                </a:lnTo>
                <a:lnTo>
                  <a:pt x="2143" y="932"/>
                </a:lnTo>
                <a:lnTo>
                  <a:pt x="2133" y="949"/>
                </a:lnTo>
                <a:lnTo>
                  <a:pt x="2133" y="949"/>
                </a:lnTo>
                <a:lnTo>
                  <a:pt x="2139" y="945"/>
                </a:lnTo>
                <a:lnTo>
                  <a:pt x="2159" y="929"/>
                </a:lnTo>
                <a:lnTo>
                  <a:pt x="2175" y="916"/>
                </a:lnTo>
                <a:lnTo>
                  <a:pt x="2176" y="915"/>
                </a:lnTo>
                <a:lnTo>
                  <a:pt x="2175" y="916"/>
                </a:lnTo>
                <a:lnTo>
                  <a:pt x="2173" y="918"/>
                </a:lnTo>
                <a:lnTo>
                  <a:pt x="2170" y="920"/>
                </a:lnTo>
                <a:lnTo>
                  <a:pt x="2166" y="928"/>
                </a:lnTo>
                <a:lnTo>
                  <a:pt x="2160" y="949"/>
                </a:lnTo>
                <a:lnTo>
                  <a:pt x="2163" y="967"/>
                </a:lnTo>
                <a:lnTo>
                  <a:pt x="2166" y="965"/>
                </a:lnTo>
                <a:lnTo>
                  <a:pt x="2178" y="955"/>
                </a:lnTo>
                <a:lnTo>
                  <a:pt x="2212" y="929"/>
                </a:lnTo>
                <a:lnTo>
                  <a:pt x="2230" y="919"/>
                </a:lnTo>
                <a:lnTo>
                  <a:pt x="2236" y="916"/>
                </a:lnTo>
                <a:lnTo>
                  <a:pt x="2241" y="916"/>
                </a:lnTo>
                <a:lnTo>
                  <a:pt x="2244" y="916"/>
                </a:lnTo>
                <a:lnTo>
                  <a:pt x="2246" y="916"/>
                </a:lnTo>
                <a:lnTo>
                  <a:pt x="2244" y="923"/>
                </a:lnTo>
                <a:lnTo>
                  <a:pt x="2244" y="935"/>
                </a:lnTo>
                <a:lnTo>
                  <a:pt x="2240" y="957"/>
                </a:lnTo>
                <a:lnTo>
                  <a:pt x="2236" y="967"/>
                </a:lnTo>
                <a:lnTo>
                  <a:pt x="2230" y="974"/>
                </a:lnTo>
                <a:lnTo>
                  <a:pt x="2226" y="977"/>
                </a:lnTo>
                <a:lnTo>
                  <a:pt x="2230" y="976"/>
                </a:lnTo>
                <a:lnTo>
                  <a:pt x="2240" y="968"/>
                </a:lnTo>
                <a:lnTo>
                  <a:pt x="2250" y="958"/>
                </a:lnTo>
                <a:lnTo>
                  <a:pt x="2266" y="936"/>
                </a:lnTo>
                <a:lnTo>
                  <a:pt x="2276" y="920"/>
                </a:lnTo>
                <a:lnTo>
                  <a:pt x="2281" y="922"/>
                </a:lnTo>
                <a:lnTo>
                  <a:pt x="2285" y="923"/>
                </a:lnTo>
                <a:lnTo>
                  <a:pt x="2289" y="925"/>
                </a:lnTo>
                <a:lnTo>
                  <a:pt x="2294" y="928"/>
                </a:lnTo>
                <a:lnTo>
                  <a:pt x="2295" y="931"/>
                </a:lnTo>
                <a:lnTo>
                  <a:pt x="2298" y="935"/>
                </a:lnTo>
                <a:lnTo>
                  <a:pt x="2301" y="944"/>
                </a:lnTo>
                <a:lnTo>
                  <a:pt x="2302" y="952"/>
                </a:lnTo>
                <a:lnTo>
                  <a:pt x="2302" y="962"/>
                </a:lnTo>
                <a:lnTo>
                  <a:pt x="2304" y="962"/>
                </a:lnTo>
                <a:lnTo>
                  <a:pt x="2301" y="965"/>
                </a:lnTo>
                <a:lnTo>
                  <a:pt x="2295" y="971"/>
                </a:lnTo>
                <a:lnTo>
                  <a:pt x="2283" y="981"/>
                </a:lnTo>
                <a:lnTo>
                  <a:pt x="2270" y="986"/>
                </a:lnTo>
                <a:lnTo>
                  <a:pt x="2266" y="986"/>
                </a:lnTo>
                <a:lnTo>
                  <a:pt x="2270" y="987"/>
                </a:lnTo>
                <a:lnTo>
                  <a:pt x="2281" y="987"/>
                </a:lnTo>
                <a:lnTo>
                  <a:pt x="2296" y="991"/>
                </a:lnTo>
                <a:lnTo>
                  <a:pt x="2311" y="1002"/>
                </a:lnTo>
                <a:lnTo>
                  <a:pt x="2315" y="1005"/>
                </a:lnTo>
                <a:lnTo>
                  <a:pt x="2312" y="1007"/>
                </a:lnTo>
                <a:lnTo>
                  <a:pt x="2308" y="1012"/>
                </a:lnTo>
                <a:lnTo>
                  <a:pt x="2298" y="1022"/>
                </a:lnTo>
                <a:lnTo>
                  <a:pt x="2286" y="1029"/>
                </a:lnTo>
                <a:lnTo>
                  <a:pt x="2285" y="1029"/>
                </a:lnTo>
                <a:lnTo>
                  <a:pt x="2308" y="1035"/>
                </a:lnTo>
                <a:lnTo>
                  <a:pt x="2357" y="1045"/>
                </a:lnTo>
                <a:lnTo>
                  <a:pt x="2457" y="1061"/>
                </a:lnTo>
                <a:lnTo>
                  <a:pt x="2560" y="1067"/>
                </a:lnTo>
                <a:lnTo>
                  <a:pt x="2586" y="1067"/>
                </a:lnTo>
                <a:lnTo>
                  <a:pt x="2572" y="1093"/>
                </a:lnTo>
                <a:lnTo>
                  <a:pt x="2559" y="1128"/>
                </a:lnTo>
                <a:lnTo>
                  <a:pt x="2557" y="1141"/>
                </a:lnTo>
                <a:lnTo>
                  <a:pt x="2559" y="1149"/>
                </a:lnTo>
                <a:lnTo>
                  <a:pt x="2562" y="1157"/>
                </a:lnTo>
                <a:lnTo>
                  <a:pt x="2566" y="1162"/>
                </a:lnTo>
                <a:lnTo>
                  <a:pt x="2572" y="1168"/>
                </a:lnTo>
                <a:lnTo>
                  <a:pt x="2582" y="1183"/>
                </a:lnTo>
                <a:lnTo>
                  <a:pt x="2585" y="1206"/>
                </a:lnTo>
                <a:lnTo>
                  <a:pt x="2586" y="1206"/>
                </a:lnTo>
                <a:lnTo>
                  <a:pt x="2578" y="1206"/>
                </a:lnTo>
                <a:lnTo>
                  <a:pt x="2559" y="1206"/>
                </a:lnTo>
                <a:lnTo>
                  <a:pt x="2518" y="1204"/>
                </a:lnTo>
                <a:lnTo>
                  <a:pt x="2480" y="1197"/>
                </a:lnTo>
                <a:lnTo>
                  <a:pt x="2475" y="1194"/>
                </a:lnTo>
                <a:lnTo>
                  <a:pt x="2470" y="1194"/>
                </a:lnTo>
                <a:lnTo>
                  <a:pt x="2462" y="1189"/>
                </a:lnTo>
                <a:lnTo>
                  <a:pt x="2454" y="1183"/>
                </a:lnTo>
                <a:lnTo>
                  <a:pt x="2438" y="1168"/>
                </a:lnTo>
                <a:lnTo>
                  <a:pt x="2427" y="1160"/>
                </a:lnTo>
                <a:lnTo>
                  <a:pt x="2421" y="1165"/>
                </a:lnTo>
                <a:lnTo>
                  <a:pt x="2417" y="1177"/>
                </a:lnTo>
                <a:lnTo>
                  <a:pt x="2415" y="1189"/>
                </a:lnTo>
                <a:lnTo>
                  <a:pt x="2418" y="1200"/>
                </a:lnTo>
                <a:lnTo>
                  <a:pt x="2423" y="1226"/>
                </a:lnTo>
                <a:lnTo>
                  <a:pt x="2424" y="1233"/>
                </a:lnTo>
                <a:lnTo>
                  <a:pt x="2436" y="1235"/>
                </a:lnTo>
                <a:lnTo>
                  <a:pt x="2454" y="1239"/>
                </a:lnTo>
                <a:lnTo>
                  <a:pt x="2507" y="1252"/>
                </a:lnTo>
                <a:lnTo>
                  <a:pt x="2565" y="1275"/>
                </a:lnTo>
                <a:lnTo>
                  <a:pt x="2612" y="1307"/>
                </a:lnTo>
                <a:lnTo>
                  <a:pt x="2627" y="1325"/>
                </a:lnTo>
                <a:lnTo>
                  <a:pt x="2633" y="1345"/>
                </a:lnTo>
                <a:lnTo>
                  <a:pt x="2627" y="1368"/>
                </a:lnTo>
                <a:lnTo>
                  <a:pt x="2609" y="1391"/>
                </a:lnTo>
                <a:lnTo>
                  <a:pt x="2609" y="1391"/>
                </a:lnTo>
                <a:lnTo>
                  <a:pt x="2601" y="1391"/>
                </a:lnTo>
                <a:lnTo>
                  <a:pt x="2583" y="1388"/>
                </a:lnTo>
                <a:lnTo>
                  <a:pt x="2541" y="1377"/>
                </a:lnTo>
                <a:lnTo>
                  <a:pt x="2521" y="1374"/>
                </a:lnTo>
                <a:lnTo>
                  <a:pt x="2504" y="1375"/>
                </a:lnTo>
                <a:lnTo>
                  <a:pt x="2498" y="1377"/>
                </a:lnTo>
                <a:lnTo>
                  <a:pt x="2495" y="1378"/>
                </a:lnTo>
                <a:lnTo>
                  <a:pt x="2494" y="1380"/>
                </a:lnTo>
                <a:lnTo>
                  <a:pt x="2494" y="1383"/>
                </a:lnTo>
                <a:lnTo>
                  <a:pt x="2494" y="1386"/>
                </a:lnTo>
                <a:lnTo>
                  <a:pt x="2494" y="1387"/>
                </a:lnTo>
                <a:lnTo>
                  <a:pt x="2494" y="1387"/>
                </a:lnTo>
                <a:lnTo>
                  <a:pt x="2505" y="1390"/>
                </a:lnTo>
                <a:lnTo>
                  <a:pt x="2533" y="1394"/>
                </a:lnTo>
                <a:lnTo>
                  <a:pt x="2592" y="1412"/>
                </a:lnTo>
                <a:lnTo>
                  <a:pt x="2614" y="1429"/>
                </a:lnTo>
                <a:lnTo>
                  <a:pt x="2620" y="1441"/>
                </a:lnTo>
                <a:lnTo>
                  <a:pt x="2622" y="1454"/>
                </a:lnTo>
                <a:lnTo>
                  <a:pt x="2621" y="1470"/>
                </a:lnTo>
                <a:lnTo>
                  <a:pt x="2621" y="1470"/>
                </a:lnTo>
                <a:lnTo>
                  <a:pt x="2609" y="1470"/>
                </a:lnTo>
                <a:lnTo>
                  <a:pt x="2582" y="1467"/>
                </a:lnTo>
                <a:lnTo>
                  <a:pt x="2518" y="1467"/>
                </a:lnTo>
                <a:lnTo>
                  <a:pt x="2488" y="1473"/>
                </a:lnTo>
                <a:lnTo>
                  <a:pt x="2462" y="1484"/>
                </a:lnTo>
                <a:lnTo>
                  <a:pt x="2452" y="1493"/>
                </a:lnTo>
                <a:lnTo>
                  <a:pt x="2437" y="1483"/>
                </a:lnTo>
                <a:lnTo>
                  <a:pt x="2412" y="1458"/>
                </a:lnTo>
                <a:lnTo>
                  <a:pt x="2388" y="1429"/>
                </a:lnTo>
                <a:lnTo>
                  <a:pt x="2331" y="1380"/>
                </a:lnTo>
                <a:lnTo>
                  <a:pt x="2269" y="1364"/>
                </a:lnTo>
                <a:lnTo>
                  <a:pt x="2260" y="1371"/>
                </a:lnTo>
                <a:lnTo>
                  <a:pt x="2247" y="1384"/>
                </a:lnTo>
                <a:lnTo>
                  <a:pt x="2221" y="1409"/>
                </a:lnTo>
                <a:lnTo>
                  <a:pt x="2195" y="1435"/>
                </a:lnTo>
                <a:lnTo>
                  <a:pt x="2188" y="1442"/>
                </a:lnTo>
                <a:lnTo>
                  <a:pt x="2181" y="1439"/>
                </a:lnTo>
                <a:lnTo>
                  <a:pt x="2172" y="1435"/>
                </a:lnTo>
                <a:lnTo>
                  <a:pt x="2165" y="1431"/>
                </a:lnTo>
                <a:lnTo>
                  <a:pt x="2160" y="1426"/>
                </a:lnTo>
                <a:lnTo>
                  <a:pt x="2157" y="1420"/>
                </a:lnTo>
                <a:lnTo>
                  <a:pt x="2155" y="1410"/>
                </a:lnTo>
                <a:lnTo>
                  <a:pt x="2153" y="1403"/>
                </a:lnTo>
                <a:lnTo>
                  <a:pt x="2156" y="1394"/>
                </a:lnTo>
                <a:lnTo>
                  <a:pt x="2162" y="1384"/>
                </a:lnTo>
                <a:lnTo>
                  <a:pt x="2178" y="1368"/>
                </a:lnTo>
                <a:lnTo>
                  <a:pt x="2198" y="1354"/>
                </a:lnTo>
                <a:lnTo>
                  <a:pt x="2241" y="1333"/>
                </a:lnTo>
                <a:lnTo>
                  <a:pt x="2262" y="1326"/>
                </a:lnTo>
                <a:lnTo>
                  <a:pt x="2266" y="1326"/>
                </a:lnTo>
                <a:lnTo>
                  <a:pt x="2273" y="1323"/>
                </a:lnTo>
                <a:lnTo>
                  <a:pt x="2279" y="1319"/>
                </a:lnTo>
                <a:lnTo>
                  <a:pt x="2282" y="1313"/>
                </a:lnTo>
                <a:lnTo>
                  <a:pt x="2283" y="1307"/>
                </a:lnTo>
                <a:lnTo>
                  <a:pt x="2283" y="1300"/>
                </a:lnTo>
                <a:lnTo>
                  <a:pt x="2285" y="1296"/>
                </a:lnTo>
                <a:lnTo>
                  <a:pt x="2279" y="1294"/>
                </a:lnTo>
                <a:lnTo>
                  <a:pt x="2270" y="1289"/>
                </a:lnTo>
                <a:lnTo>
                  <a:pt x="2254" y="1273"/>
                </a:lnTo>
                <a:lnTo>
                  <a:pt x="2246" y="1252"/>
                </a:lnTo>
                <a:lnTo>
                  <a:pt x="2246" y="1245"/>
                </a:lnTo>
                <a:lnTo>
                  <a:pt x="2249" y="1242"/>
                </a:lnTo>
                <a:lnTo>
                  <a:pt x="2254" y="1235"/>
                </a:lnTo>
                <a:lnTo>
                  <a:pt x="2269" y="1223"/>
                </a:lnTo>
                <a:lnTo>
                  <a:pt x="2292" y="1219"/>
                </a:lnTo>
                <a:lnTo>
                  <a:pt x="2301" y="1218"/>
                </a:lnTo>
                <a:lnTo>
                  <a:pt x="2305" y="1223"/>
                </a:lnTo>
                <a:lnTo>
                  <a:pt x="2317" y="1231"/>
                </a:lnTo>
                <a:lnTo>
                  <a:pt x="2328" y="1233"/>
                </a:lnTo>
                <a:lnTo>
                  <a:pt x="2339" y="1235"/>
                </a:lnTo>
                <a:lnTo>
                  <a:pt x="2350" y="1235"/>
                </a:lnTo>
                <a:lnTo>
                  <a:pt x="2362" y="1235"/>
                </a:lnTo>
                <a:lnTo>
                  <a:pt x="2369" y="1233"/>
                </a:lnTo>
                <a:lnTo>
                  <a:pt x="2372" y="1231"/>
                </a:lnTo>
                <a:lnTo>
                  <a:pt x="2375" y="1223"/>
                </a:lnTo>
                <a:lnTo>
                  <a:pt x="2378" y="1216"/>
                </a:lnTo>
                <a:lnTo>
                  <a:pt x="2378" y="1209"/>
                </a:lnTo>
                <a:lnTo>
                  <a:pt x="2378" y="1194"/>
                </a:lnTo>
                <a:lnTo>
                  <a:pt x="2378" y="1190"/>
                </a:lnTo>
                <a:lnTo>
                  <a:pt x="2370" y="1191"/>
                </a:lnTo>
                <a:lnTo>
                  <a:pt x="2357" y="1191"/>
                </a:lnTo>
                <a:lnTo>
                  <a:pt x="2331" y="1194"/>
                </a:lnTo>
                <a:lnTo>
                  <a:pt x="2307" y="1199"/>
                </a:lnTo>
                <a:lnTo>
                  <a:pt x="2301" y="1199"/>
                </a:lnTo>
                <a:lnTo>
                  <a:pt x="2294" y="1200"/>
                </a:lnTo>
                <a:lnTo>
                  <a:pt x="2279" y="1202"/>
                </a:lnTo>
                <a:lnTo>
                  <a:pt x="2246" y="1197"/>
                </a:lnTo>
                <a:lnTo>
                  <a:pt x="2220" y="1187"/>
                </a:lnTo>
                <a:lnTo>
                  <a:pt x="2215" y="1183"/>
                </a:lnTo>
                <a:lnTo>
                  <a:pt x="2214" y="1177"/>
                </a:lnTo>
                <a:lnTo>
                  <a:pt x="2211" y="1170"/>
                </a:lnTo>
                <a:lnTo>
                  <a:pt x="2204" y="1155"/>
                </a:lnTo>
                <a:lnTo>
                  <a:pt x="2195" y="1141"/>
                </a:lnTo>
                <a:lnTo>
                  <a:pt x="2178" y="1118"/>
                </a:lnTo>
                <a:lnTo>
                  <a:pt x="2176" y="1110"/>
                </a:lnTo>
                <a:lnTo>
                  <a:pt x="2168" y="1107"/>
                </a:lnTo>
                <a:lnTo>
                  <a:pt x="2160" y="1104"/>
                </a:lnTo>
                <a:lnTo>
                  <a:pt x="2144" y="1093"/>
                </a:lnTo>
                <a:lnTo>
                  <a:pt x="2128" y="1083"/>
                </a:lnTo>
                <a:lnTo>
                  <a:pt x="2112" y="1077"/>
                </a:lnTo>
                <a:lnTo>
                  <a:pt x="2095" y="1078"/>
                </a:lnTo>
                <a:lnTo>
                  <a:pt x="2076" y="1090"/>
                </a:lnTo>
                <a:lnTo>
                  <a:pt x="2076" y="1090"/>
                </a:lnTo>
                <a:lnTo>
                  <a:pt x="2076" y="1076"/>
                </a:lnTo>
                <a:lnTo>
                  <a:pt x="2075" y="1051"/>
                </a:lnTo>
                <a:lnTo>
                  <a:pt x="2069" y="1035"/>
                </a:lnTo>
                <a:lnTo>
                  <a:pt x="2057" y="1022"/>
                </a:lnTo>
                <a:lnTo>
                  <a:pt x="2039" y="1009"/>
                </a:lnTo>
                <a:lnTo>
                  <a:pt x="2015" y="994"/>
                </a:lnTo>
                <a:lnTo>
                  <a:pt x="2002" y="986"/>
                </a:lnTo>
                <a:lnTo>
                  <a:pt x="2001" y="987"/>
                </a:lnTo>
                <a:lnTo>
                  <a:pt x="1998" y="991"/>
                </a:lnTo>
                <a:lnTo>
                  <a:pt x="1994" y="1002"/>
                </a:lnTo>
                <a:lnTo>
                  <a:pt x="1991" y="1012"/>
                </a:lnTo>
                <a:lnTo>
                  <a:pt x="1991" y="1013"/>
                </a:lnTo>
                <a:lnTo>
                  <a:pt x="1994" y="1018"/>
                </a:lnTo>
                <a:lnTo>
                  <a:pt x="1999" y="1023"/>
                </a:lnTo>
                <a:lnTo>
                  <a:pt x="2011" y="1041"/>
                </a:lnTo>
                <a:lnTo>
                  <a:pt x="2017" y="1058"/>
                </a:lnTo>
                <a:lnTo>
                  <a:pt x="2018" y="1062"/>
                </a:lnTo>
                <a:lnTo>
                  <a:pt x="2001" y="1054"/>
                </a:lnTo>
                <a:lnTo>
                  <a:pt x="1971" y="1041"/>
                </a:lnTo>
                <a:lnTo>
                  <a:pt x="1946" y="1036"/>
                </a:lnTo>
                <a:lnTo>
                  <a:pt x="1924" y="1041"/>
                </a:lnTo>
                <a:lnTo>
                  <a:pt x="1902" y="1054"/>
                </a:lnTo>
                <a:lnTo>
                  <a:pt x="1879" y="1074"/>
                </a:lnTo>
                <a:lnTo>
                  <a:pt x="1868" y="1087"/>
                </a:lnTo>
                <a:lnTo>
                  <a:pt x="1850" y="1087"/>
                </a:lnTo>
                <a:lnTo>
                  <a:pt x="1824" y="1086"/>
                </a:lnTo>
                <a:lnTo>
                  <a:pt x="1781" y="1071"/>
                </a:lnTo>
                <a:lnTo>
                  <a:pt x="1739" y="1038"/>
                </a:lnTo>
                <a:lnTo>
                  <a:pt x="1727" y="1025"/>
                </a:lnTo>
                <a:lnTo>
                  <a:pt x="1743" y="1025"/>
                </a:lnTo>
                <a:lnTo>
                  <a:pt x="1766" y="1023"/>
                </a:lnTo>
                <a:lnTo>
                  <a:pt x="1773" y="1022"/>
                </a:lnTo>
                <a:lnTo>
                  <a:pt x="1775" y="1020"/>
                </a:lnTo>
                <a:lnTo>
                  <a:pt x="1776" y="1019"/>
                </a:lnTo>
                <a:lnTo>
                  <a:pt x="1776" y="1018"/>
                </a:lnTo>
                <a:lnTo>
                  <a:pt x="1776" y="1016"/>
                </a:lnTo>
                <a:lnTo>
                  <a:pt x="1773" y="1015"/>
                </a:lnTo>
                <a:lnTo>
                  <a:pt x="1771" y="1013"/>
                </a:lnTo>
                <a:lnTo>
                  <a:pt x="1763" y="1009"/>
                </a:lnTo>
                <a:lnTo>
                  <a:pt x="1737" y="1000"/>
                </a:lnTo>
                <a:lnTo>
                  <a:pt x="1705" y="991"/>
                </a:lnTo>
                <a:lnTo>
                  <a:pt x="1704" y="978"/>
                </a:lnTo>
                <a:lnTo>
                  <a:pt x="1701" y="954"/>
                </a:lnTo>
                <a:lnTo>
                  <a:pt x="1700" y="932"/>
                </a:lnTo>
                <a:lnTo>
                  <a:pt x="1700" y="928"/>
                </a:lnTo>
                <a:lnTo>
                  <a:pt x="1700" y="919"/>
                </a:lnTo>
                <a:lnTo>
                  <a:pt x="1704" y="900"/>
                </a:lnTo>
                <a:lnTo>
                  <a:pt x="1716" y="861"/>
                </a:lnTo>
                <a:lnTo>
                  <a:pt x="1723" y="823"/>
                </a:lnTo>
                <a:lnTo>
                  <a:pt x="1724" y="813"/>
                </a:lnTo>
                <a:lnTo>
                  <a:pt x="1727" y="813"/>
                </a:lnTo>
                <a:lnTo>
                  <a:pt x="1737" y="813"/>
                </a:lnTo>
                <a:lnTo>
                  <a:pt x="1755" y="815"/>
                </a:lnTo>
                <a:lnTo>
                  <a:pt x="1768" y="819"/>
                </a:lnTo>
                <a:lnTo>
                  <a:pt x="1771" y="819"/>
                </a:lnTo>
                <a:lnTo>
                  <a:pt x="1769" y="826"/>
                </a:lnTo>
                <a:lnTo>
                  <a:pt x="1769" y="851"/>
                </a:lnTo>
                <a:lnTo>
                  <a:pt x="1773" y="920"/>
                </a:lnTo>
                <a:lnTo>
                  <a:pt x="1784" y="951"/>
                </a:lnTo>
                <a:lnTo>
                  <a:pt x="1791" y="962"/>
                </a:lnTo>
                <a:lnTo>
                  <a:pt x="1801" y="971"/>
                </a:lnTo>
                <a:lnTo>
                  <a:pt x="1814" y="973"/>
                </a:lnTo>
                <a:lnTo>
                  <a:pt x="1815" y="973"/>
                </a:lnTo>
                <a:lnTo>
                  <a:pt x="1817" y="971"/>
                </a:lnTo>
                <a:lnTo>
                  <a:pt x="1823" y="965"/>
                </a:lnTo>
                <a:lnTo>
                  <a:pt x="1836" y="951"/>
                </a:lnTo>
                <a:lnTo>
                  <a:pt x="1842" y="944"/>
                </a:lnTo>
                <a:lnTo>
                  <a:pt x="1844" y="935"/>
                </a:lnTo>
                <a:lnTo>
                  <a:pt x="1844" y="931"/>
                </a:lnTo>
                <a:lnTo>
                  <a:pt x="1840" y="926"/>
                </a:lnTo>
                <a:lnTo>
                  <a:pt x="1836" y="920"/>
                </a:lnTo>
                <a:lnTo>
                  <a:pt x="1829" y="916"/>
                </a:lnTo>
                <a:lnTo>
                  <a:pt x="1814" y="909"/>
                </a:lnTo>
                <a:lnTo>
                  <a:pt x="1802" y="902"/>
                </a:lnTo>
                <a:lnTo>
                  <a:pt x="1800" y="899"/>
                </a:lnTo>
                <a:lnTo>
                  <a:pt x="1800" y="896"/>
                </a:lnTo>
                <a:lnTo>
                  <a:pt x="1800" y="894"/>
                </a:lnTo>
                <a:lnTo>
                  <a:pt x="1802" y="891"/>
                </a:lnTo>
                <a:lnTo>
                  <a:pt x="1805" y="889"/>
                </a:lnTo>
                <a:lnTo>
                  <a:pt x="1810" y="887"/>
                </a:lnTo>
                <a:lnTo>
                  <a:pt x="1823" y="881"/>
                </a:lnTo>
                <a:lnTo>
                  <a:pt x="1831" y="877"/>
                </a:lnTo>
                <a:lnTo>
                  <a:pt x="1826" y="873"/>
                </a:lnTo>
                <a:lnTo>
                  <a:pt x="1808" y="857"/>
                </a:lnTo>
                <a:lnTo>
                  <a:pt x="1795" y="844"/>
                </a:lnTo>
                <a:lnTo>
                  <a:pt x="1795" y="842"/>
                </a:lnTo>
                <a:lnTo>
                  <a:pt x="1797" y="841"/>
                </a:lnTo>
                <a:lnTo>
                  <a:pt x="1798" y="839"/>
                </a:lnTo>
                <a:lnTo>
                  <a:pt x="1802" y="836"/>
                </a:lnTo>
                <a:lnTo>
                  <a:pt x="1813" y="834"/>
                </a:lnTo>
                <a:lnTo>
                  <a:pt x="1817" y="835"/>
                </a:lnTo>
                <a:lnTo>
                  <a:pt x="1818" y="834"/>
                </a:lnTo>
                <a:lnTo>
                  <a:pt x="1820" y="832"/>
                </a:lnTo>
                <a:lnTo>
                  <a:pt x="1820" y="831"/>
                </a:lnTo>
                <a:lnTo>
                  <a:pt x="1820" y="829"/>
                </a:lnTo>
                <a:lnTo>
                  <a:pt x="1820" y="826"/>
                </a:lnTo>
                <a:lnTo>
                  <a:pt x="1818" y="816"/>
                </a:lnTo>
                <a:lnTo>
                  <a:pt x="1820" y="816"/>
                </a:lnTo>
                <a:lnTo>
                  <a:pt x="1820" y="816"/>
                </a:lnTo>
                <a:close/>
                <a:moveTo>
                  <a:pt x="1956" y="839"/>
                </a:moveTo>
                <a:lnTo>
                  <a:pt x="1949" y="841"/>
                </a:lnTo>
                <a:lnTo>
                  <a:pt x="1927" y="841"/>
                </a:lnTo>
                <a:lnTo>
                  <a:pt x="1911" y="841"/>
                </a:lnTo>
                <a:lnTo>
                  <a:pt x="1911" y="841"/>
                </a:lnTo>
                <a:lnTo>
                  <a:pt x="1907" y="838"/>
                </a:lnTo>
                <a:lnTo>
                  <a:pt x="1901" y="831"/>
                </a:lnTo>
                <a:lnTo>
                  <a:pt x="1889" y="813"/>
                </a:lnTo>
                <a:lnTo>
                  <a:pt x="1878" y="797"/>
                </a:lnTo>
                <a:lnTo>
                  <a:pt x="1875" y="793"/>
                </a:lnTo>
                <a:lnTo>
                  <a:pt x="1873" y="789"/>
                </a:lnTo>
                <a:lnTo>
                  <a:pt x="1875" y="781"/>
                </a:lnTo>
                <a:lnTo>
                  <a:pt x="1875" y="777"/>
                </a:lnTo>
                <a:lnTo>
                  <a:pt x="1878" y="774"/>
                </a:lnTo>
                <a:lnTo>
                  <a:pt x="1882" y="771"/>
                </a:lnTo>
                <a:lnTo>
                  <a:pt x="1888" y="768"/>
                </a:lnTo>
                <a:lnTo>
                  <a:pt x="1894" y="765"/>
                </a:lnTo>
                <a:lnTo>
                  <a:pt x="1900" y="771"/>
                </a:lnTo>
                <a:lnTo>
                  <a:pt x="1908" y="778"/>
                </a:lnTo>
                <a:lnTo>
                  <a:pt x="1915" y="781"/>
                </a:lnTo>
                <a:lnTo>
                  <a:pt x="1917" y="781"/>
                </a:lnTo>
                <a:lnTo>
                  <a:pt x="1928" y="781"/>
                </a:lnTo>
                <a:lnTo>
                  <a:pt x="1949" y="784"/>
                </a:lnTo>
                <a:lnTo>
                  <a:pt x="1962" y="792"/>
                </a:lnTo>
                <a:lnTo>
                  <a:pt x="1966" y="797"/>
                </a:lnTo>
                <a:lnTo>
                  <a:pt x="1969" y="803"/>
                </a:lnTo>
                <a:lnTo>
                  <a:pt x="1969" y="810"/>
                </a:lnTo>
                <a:lnTo>
                  <a:pt x="1969" y="818"/>
                </a:lnTo>
                <a:lnTo>
                  <a:pt x="1966" y="825"/>
                </a:lnTo>
                <a:lnTo>
                  <a:pt x="1962" y="832"/>
                </a:lnTo>
                <a:lnTo>
                  <a:pt x="1956" y="839"/>
                </a:lnTo>
                <a:lnTo>
                  <a:pt x="1956" y="839"/>
                </a:lnTo>
                <a:lnTo>
                  <a:pt x="1956" y="839"/>
                </a:lnTo>
                <a:close/>
                <a:moveTo>
                  <a:pt x="1507" y="726"/>
                </a:moveTo>
                <a:lnTo>
                  <a:pt x="1498" y="734"/>
                </a:lnTo>
                <a:lnTo>
                  <a:pt x="1487" y="745"/>
                </a:lnTo>
                <a:lnTo>
                  <a:pt x="1479" y="755"/>
                </a:lnTo>
                <a:lnTo>
                  <a:pt x="1472" y="761"/>
                </a:lnTo>
                <a:lnTo>
                  <a:pt x="1468" y="763"/>
                </a:lnTo>
                <a:lnTo>
                  <a:pt x="1462" y="761"/>
                </a:lnTo>
                <a:lnTo>
                  <a:pt x="1456" y="760"/>
                </a:lnTo>
                <a:lnTo>
                  <a:pt x="1447" y="757"/>
                </a:lnTo>
                <a:lnTo>
                  <a:pt x="1437" y="749"/>
                </a:lnTo>
                <a:lnTo>
                  <a:pt x="1437" y="749"/>
                </a:lnTo>
                <a:lnTo>
                  <a:pt x="1439" y="745"/>
                </a:lnTo>
                <a:lnTo>
                  <a:pt x="1443" y="736"/>
                </a:lnTo>
                <a:lnTo>
                  <a:pt x="1450" y="728"/>
                </a:lnTo>
                <a:lnTo>
                  <a:pt x="1463" y="710"/>
                </a:lnTo>
                <a:lnTo>
                  <a:pt x="1468" y="696"/>
                </a:lnTo>
                <a:lnTo>
                  <a:pt x="1472" y="696"/>
                </a:lnTo>
                <a:lnTo>
                  <a:pt x="1482" y="696"/>
                </a:lnTo>
                <a:lnTo>
                  <a:pt x="1491" y="696"/>
                </a:lnTo>
                <a:lnTo>
                  <a:pt x="1495" y="697"/>
                </a:lnTo>
                <a:lnTo>
                  <a:pt x="1498" y="700"/>
                </a:lnTo>
                <a:lnTo>
                  <a:pt x="1501" y="702"/>
                </a:lnTo>
                <a:lnTo>
                  <a:pt x="1504" y="706"/>
                </a:lnTo>
                <a:lnTo>
                  <a:pt x="1505" y="712"/>
                </a:lnTo>
                <a:lnTo>
                  <a:pt x="1505" y="719"/>
                </a:lnTo>
                <a:lnTo>
                  <a:pt x="1505" y="726"/>
                </a:lnTo>
                <a:lnTo>
                  <a:pt x="1507" y="726"/>
                </a:lnTo>
                <a:lnTo>
                  <a:pt x="1507" y="726"/>
                </a:lnTo>
                <a:close/>
                <a:moveTo>
                  <a:pt x="1445" y="587"/>
                </a:moveTo>
                <a:lnTo>
                  <a:pt x="1452" y="597"/>
                </a:lnTo>
                <a:lnTo>
                  <a:pt x="1463" y="612"/>
                </a:lnTo>
                <a:lnTo>
                  <a:pt x="1468" y="625"/>
                </a:lnTo>
                <a:lnTo>
                  <a:pt x="1466" y="635"/>
                </a:lnTo>
                <a:lnTo>
                  <a:pt x="1463" y="648"/>
                </a:lnTo>
                <a:lnTo>
                  <a:pt x="1461" y="664"/>
                </a:lnTo>
                <a:lnTo>
                  <a:pt x="1461" y="673"/>
                </a:lnTo>
                <a:lnTo>
                  <a:pt x="1453" y="686"/>
                </a:lnTo>
                <a:lnTo>
                  <a:pt x="1445" y="703"/>
                </a:lnTo>
                <a:lnTo>
                  <a:pt x="1437" y="716"/>
                </a:lnTo>
                <a:lnTo>
                  <a:pt x="1430" y="723"/>
                </a:lnTo>
                <a:lnTo>
                  <a:pt x="1421" y="726"/>
                </a:lnTo>
                <a:lnTo>
                  <a:pt x="1405" y="728"/>
                </a:lnTo>
                <a:lnTo>
                  <a:pt x="1395" y="728"/>
                </a:lnTo>
                <a:lnTo>
                  <a:pt x="1388" y="728"/>
                </a:lnTo>
                <a:lnTo>
                  <a:pt x="1384" y="725"/>
                </a:lnTo>
                <a:lnTo>
                  <a:pt x="1379" y="722"/>
                </a:lnTo>
                <a:lnTo>
                  <a:pt x="1376" y="718"/>
                </a:lnTo>
                <a:lnTo>
                  <a:pt x="1375" y="713"/>
                </a:lnTo>
                <a:lnTo>
                  <a:pt x="1375" y="707"/>
                </a:lnTo>
                <a:lnTo>
                  <a:pt x="1375" y="703"/>
                </a:lnTo>
                <a:lnTo>
                  <a:pt x="1378" y="694"/>
                </a:lnTo>
                <a:lnTo>
                  <a:pt x="1382" y="689"/>
                </a:lnTo>
                <a:lnTo>
                  <a:pt x="1385" y="686"/>
                </a:lnTo>
                <a:lnTo>
                  <a:pt x="1388" y="681"/>
                </a:lnTo>
                <a:lnTo>
                  <a:pt x="1391" y="674"/>
                </a:lnTo>
                <a:lnTo>
                  <a:pt x="1391" y="671"/>
                </a:lnTo>
                <a:lnTo>
                  <a:pt x="1390" y="670"/>
                </a:lnTo>
                <a:lnTo>
                  <a:pt x="1388" y="670"/>
                </a:lnTo>
                <a:lnTo>
                  <a:pt x="1385" y="670"/>
                </a:lnTo>
                <a:lnTo>
                  <a:pt x="1376" y="670"/>
                </a:lnTo>
                <a:lnTo>
                  <a:pt x="1366" y="667"/>
                </a:lnTo>
                <a:lnTo>
                  <a:pt x="1366" y="667"/>
                </a:lnTo>
                <a:lnTo>
                  <a:pt x="1365" y="664"/>
                </a:lnTo>
                <a:lnTo>
                  <a:pt x="1363" y="658"/>
                </a:lnTo>
                <a:lnTo>
                  <a:pt x="1363" y="654"/>
                </a:lnTo>
                <a:lnTo>
                  <a:pt x="1363" y="651"/>
                </a:lnTo>
                <a:lnTo>
                  <a:pt x="1366" y="648"/>
                </a:lnTo>
                <a:lnTo>
                  <a:pt x="1371" y="644"/>
                </a:lnTo>
                <a:lnTo>
                  <a:pt x="1375" y="641"/>
                </a:lnTo>
                <a:lnTo>
                  <a:pt x="1379" y="642"/>
                </a:lnTo>
                <a:lnTo>
                  <a:pt x="1388" y="644"/>
                </a:lnTo>
                <a:lnTo>
                  <a:pt x="1397" y="648"/>
                </a:lnTo>
                <a:lnTo>
                  <a:pt x="1411" y="658"/>
                </a:lnTo>
                <a:lnTo>
                  <a:pt x="1419" y="663"/>
                </a:lnTo>
                <a:lnTo>
                  <a:pt x="1420" y="658"/>
                </a:lnTo>
                <a:lnTo>
                  <a:pt x="1426" y="647"/>
                </a:lnTo>
                <a:lnTo>
                  <a:pt x="1433" y="619"/>
                </a:lnTo>
                <a:lnTo>
                  <a:pt x="1442" y="593"/>
                </a:lnTo>
                <a:lnTo>
                  <a:pt x="1445" y="587"/>
                </a:lnTo>
                <a:lnTo>
                  <a:pt x="1445" y="587"/>
                </a:lnTo>
                <a:close/>
                <a:moveTo>
                  <a:pt x="1294" y="616"/>
                </a:moveTo>
                <a:lnTo>
                  <a:pt x="1294" y="622"/>
                </a:lnTo>
                <a:lnTo>
                  <a:pt x="1297" y="634"/>
                </a:lnTo>
                <a:lnTo>
                  <a:pt x="1301" y="664"/>
                </a:lnTo>
                <a:lnTo>
                  <a:pt x="1304" y="692"/>
                </a:lnTo>
                <a:lnTo>
                  <a:pt x="1305" y="697"/>
                </a:lnTo>
                <a:lnTo>
                  <a:pt x="1310" y="700"/>
                </a:lnTo>
                <a:lnTo>
                  <a:pt x="1314" y="702"/>
                </a:lnTo>
                <a:lnTo>
                  <a:pt x="1317" y="706"/>
                </a:lnTo>
                <a:lnTo>
                  <a:pt x="1324" y="715"/>
                </a:lnTo>
                <a:lnTo>
                  <a:pt x="1329" y="723"/>
                </a:lnTo>
                <a:lnTo>
                  <a:pt x="1330" y="734"/>
                </a:lnTo>
                <a:lnTo>
                  <a:pt x="1327" y="744"/>
                </a:lnTo>
                <a:lnTo>
                  <a:pt x="1326" y="747"/>
                </a:lnTo>
                <a:lnTo>
                  <a:pt x="1317" y="747"/>
                </a:lnTo>
                <a:lnTo>
                  <a:pt x="1303" y="747"/>
                </a:lnTo>
                <a:lnTo>
                  <a:pt x="1277" y="745"/>
                </a:lnTo>
                <a:lnTo>
                  <a:pt x="1249" y="747"/>
                </a:lnTo>
                <a:lnTo>
                  <a:pt x="1242" y="748"/>
                </a:lnTo>
                <a:lnTo>
                  <a:pt x="1232" y="749"/>
                </a:lnTo>
                <a:lnTo>
                  <a:pt x="1224" y="752"/>
                </a:lnTo>
                <a:lnTo>
                  <a:pt x="1219" y="755"/>
                </a:lnTo>
                <a:lnTo>
                  <a:pt x="1213" y="760"/>
                </a:lnTo>
                <a:lnTo>
                  <a:pt x="1204" y="768"/>
                </a:lnTo>
                <a:lnTo>
                  <a:pt x="1195" y="778"/>
                </a:lnTo>
                <a:lnTo>
                  <a:pt x="1185" y="786"/>
                </a:lnTo>
                <a:lnTo>
                  <a:pt x="1171" y="789"/>
                </a:lnTo>
                <a:lnTo>
                  <a:pt x="1171" y="789"/>
                </a:lnTo>
                <a:lnTo>
                  <a:pt x="1166" y="787"/>
                </a:lnTo>
                <a:lnTo>
                  <a:pt x="1164" y="784"/>
                </a:lnTo>
                <a:lnTo>
                  <a:pt x="1161" y="781"/>
                </a:lnTo>
                <a:lnTo>
                  <a:pt x="1159" y="776"/>
                </a:lnTo>
                <a:lnTo>
                  <a:pt x="1159" y="771"/>
                </a:lnTo>
                <a:lnTo>
                  <a:pt x="1159" y="760"/>
                </a:lnTo>
                <a:lnTo>
                  <a:pt x="1161" y="741"/>
                </a:lnTo>
                <a:lnTo>
                  <a:pt x="1162" y="738"/>
                </a:lnTo>
                <a:lnTo>
                  <a:pt x="1165" y="736"/>
                </a:lnTo>
                <a:lnTo>
                  <a:pt x="1175" y="734"/>
                </a:lnTo>
                <a:lnTo>
                  <a:pt x="1197" y="729"/>
                </a:lnTo>
                <a:lnTo>
                  <a:pt x="1216" y="722"/>
                </a:lnTo>
                <a:lnTo>
                  <a:pt x="1220" y="719"/>
                </a:lnTo>
                <a:lnTo>
                  <a:pt x="1211" y="718"/>
                </a:lnTo>
                <a:lnTo>
                  <a:pt x="1195" y="715"/>
                </a:lnTo>
                <a:lnTo>
                  <a:pt x="1177" y="716"/>
                </a:lnTo>
                <a:lnTo>
                  <a:pt x="1137" y="721"/>
                </a:lnTo>
                <a:lnTo>
                  <a:pt x="1113" y="722"/>
                </a:lnTo>
                <a:lnTo>
                  <a:pt x="1110" y="718"/>
                </a:lnTo>
                <a:lnTo>
                  <a:pt x="1103" y="705"/>
                </a:lnTo>
                <a:lnTo>
                  <a:pt x="1098" y="694"/>
                </a:lnTo>
                <a:lnTo>
                  <a:pt x="1098" y="693"/>
                </a:lnTo>
                <a:lnTo>
                  <a:pt x="1106" y="687"/>
                </a:lnTo>
                <a:lnTo>
                  <a:pt x="1120" y="677"/>
                </a:lnTo>
                <a:lnTo>
                  <a:pt x="1135" y="671"/>
                </a:lnTo>
                <a:lnTo>
                  <a:pt x="1149" y="667"/>
                </a:lnTo>
                <a:lnTo>
                  <a:pt x="1159" y="658"/>
                </a:lnTo>
                <a:lnTo>
                  <a:pt x="1168" y="642"/>
                </a:lnTo>
                <a:lnTo>
                  <a:pt x="1171" y="631"/>
                </a:lnTo>
                <a:lnTo>
                  <a:pt x="1187" y="631"/>
                </a:lnTo>
                <a:lnTo>
                  <a:pt x="1201" y="632"/>
                </a:lnTo>
                <a:lnTo>
                  <a:pt x="1211" y="636"/>
                </a:lnTo>
                <a:lnTo>
                  <a:pt x="1219" y="642"/>
                </a:lnTo>
                <a:lnTo>
                  <a:pt x="1223" y="650"/>
                </a:lnTo>
                <a:lnTo>
                  <a:pt x="1226" y="657"/>
                </a:lnTo>
                <a:lnTo>
                  <a:pt x="1229" y="664"/>
                </a:lnTo>
                <a:lnTo>
                  <a:pt x="1233" y="680"/>
                </a:lnTo>
                <a:lnTo>
                  <a:pt x="1236" y="687"/>
                </a:lnTo>
                <a:lnTo>
                  <a:pt x="1240" y="693"/>
                </a:lnTo>
                <a:lnTo>
                  <a:pt x="1246" y="697"/>
                </a:lnTo>
                <a:lnTo>
                  <a:pt x="1248" y="697"/>
                </a:lnTo>
                <a:lnTo>
                  <a:pt x="1255" y="689"/>
                </a:lnTo>
                <a:lnTo>
                  <a:pt x="1259" y="680"/>
                </a:lnTo>
                <a:lnTo>
                  <a:pt x="1261" y="671"/>
                </a:lnTo>
                <a:lnTo>
                  <a:pt x="1259" y="663"/>
                </a:lnTo>
                <a:lnTo>
                  <a:pt x="1258" y="654"/>
                </a:lnTo>
                <a:lnTo>
                  <a:pt x="1256" y="639"/>
                </a:lnTo>
                <a:lnTo>
                  <a:pt x="1256" y="634"/>
                </a:lnTo>
                <a:lnTo>
                  <a:pt x="1259" y="628"/>
                </a:lnTo>
                <a:lnTo>
                  <a:pt x="1266" y="623"/>
                </a:lnTo>
                <a:lnTo>
                  <a:pt x="1277" y="619"/>
                </a:lnTo>
                <a:lnTo>
                  <a:pt x="1292" y="616"/>
                </a:lnTo>
                <a:lnTo>
                  <a:pt x="1294" y="616"/>
                </a:lnTo>
                <a:lnTo>
                  <a:pt x="1294" y="616"/>
                </a:lnTo>
                <a:close/>
                <a:moveTo>
                  <a:pt x="868" y="951"/>
                </a:moveTo>
                <a:lnTo>
                  <a:pt x="868" y="945"/>
                </a:lnTo>
                <a:lnTo>
                  <a:pt x="868" y="932"/>
                </a:lnTo>
                <a:lnTo>
                  <a:pt x="865" y="919"/>
                </a:lnTo>
                <a:lnTo>
                  <a:pt x="859" y="907"/>
                </a:lnTo>
                <a:lnTo>
                  <a:pt x="851" y="896"/>
                </a:lnTo>
                <a:lnTo>
                  <a:pt x="839" y="884"/>
                </a:lnTo>
                <a:lnTo>
                  <a:pt x="832" y="878"/>
                </a:lnTo>
                <a:lnTo>
                  <a:pt x="833" y="877"/>
                </a:lnTo>
                <a:lnTo>
                  <a:pt x="848" y="860"/>
                </a:lnTo>
                <a:lnTo>
                  <a:pt x="897" y="802"/>
                </a:lnTo>
                <a:lnTo>
                  <a:pt x="935" y="758"/>
                </a:lnTo>
                <a:lnTo>
                  <a:pt x="937" y="755"/>
                </a:lnTo>
                <a:lnTo>
                  <a:pt x="932" y="751"/>
                </a:lnTo>
                <a:lnTo>
                  <a:pt x="924" y="744"/>
                </a:lnTo>
                <a:lnTo>
                  <a:pt x="920" y="738"/>
                </a:lnTo>
                <a:lnTo>
                  <a:pt x="920" y="735"/>
                </a:lnTo>
                <a:lnTo>
                  <a:pt x="919" y="732"/>
                </a:lnTo>
                <a:lnTo>
                  <a:pt x="920" y="729"/>
                </a:lnTo>
                <a:lnTo>
                  <a:pt x="922" y="726"/>
                </a:lnTo>
                <a:lnTo>
                  <a:pt x="923" y="722"/>
                </a:lnTo>
                <a:lnTo>
                  <a:pt x="929" y="712"/>
                </a:lnTo>
                <a:lnTo>
                  <a:pt x="930" y="712"/>
                </a:lnTo>
                <a:lnTo>
                  <a:pt x="940" y="713"/>
                </a:lnTo>
                <a:lnTo>
                  <a:pt x="974" y="713"/>
                </a:lnTo>
                <a:lnTo>
                  <a:pt x="1000" y="713"/>
                </a:lnTo>
                <a:lnTo>
                  <a:pt x="1001" y="713"/>
                </a:lnTo>
                <a:lnTo>
                  <a:pt x="1006" y="715"/>
                </a:lnTo>
                <a:lnTo>
                  <a:pt x="1010" y="715"/>
                </a:lnTo>
                <a:lnTo>
                  <a:pt x="1014" y="718"/>
                </a:lnTo>
                <a:lnTo>
                  <a:pt x="1016" y="722"/>
                </a:lnTo>
                <a:lnTo>
                  <a:pt x="1017" y="725"/>
                </a:lnTo>
                <a:lnTo>
                  <a:pt x="1022" y="732"/>
                </a:lnTo>
                <a:lnTo>
                  <a:pt x="1029" y="742"/>
                </a:lnTo>
                <a:lnTo>
                  <a:pt x="1035" y="748"/>
                </a:lnTo>
                <a:lnTo>
                  <a:pt x="1042" y="754"/>
                </a:lnTo>
                <a:lnTo>
                  <a:pt x="1049" y="758"/>
                </a:lnTo>
                <a:lnTo>
                  <a:pt x="1068" y="764"/>
                </a:lnTo>
                <a:lnTo>
                  <a:pt x="1085" y="771"/>
                </a:lnTo>
                <a:lnTo>
                  <a:pt x="1100" y="780"/>
                </a:lnTo>
                <a:lnTo>
                  <a:pt x="1106" y="787"/>
                </a:lnTo>
                <a:lnTo>
                  <a:pt x="1110" y="794"/>
                </a:lnTo>
                <a:lnTo>
                  <a:pt x="1111" y="806"/>
                </a:lnTo>
                <a:lnTo>
                  <a:pt x="1111" y="819"/>
                </a:lnTo>
                <a:lnTo>
                  <a:pt x="1111" y="819"/>
                </a:lnTo>
                <a:lnTo>
                  <a:pt x="1085" y="832"/>
                </a:lnTo>
                <a:lnTo>
                  <a:pt x="1050" y="848"/>
                </a:lnTo>
                <a:lnTo>
                  <a:pt x="1016" y="873"/>
                </a:lnTo>
                <a:lnTo>
                  <a:pt x="981" y="925"/>
                </a:lnTo>
                <a:lnTo>
                  <a:pt x="965" y="948"/>
                </a:lnTo>
                <a:lnTo>
                  <a:pt x="949" y="949"/>
                </a:lnTo>
                <a:lnTo>
                  <a:pt x="904" y="951"/>
                </a:lnTo>
                <a:lnTo>
                  <a:pt x="869" y="951"/>
                </a:lnTo>
                <a:lnTo>
                  <a:pt x="868" y="951"/>
                </a:lnTo>
                <a:lnTo>
                  <a:pt x="868" y="951"/>
                </a:lnTo>
                <a:close/>
                <a:moveTo>
                  <a:pt x="1187" y="555"/>
                </a:moveTo>
                <a:lnTo>
                  <a:pt x="1185" y="563"/>
                </a:lnTo>
                <a:lnTo>
                  <a:pt x="1184" y="567"/>
                </a:lnTo>
                <a:lnTo>
                  <a:pt x="1181" y="571"/>
                </a:lnTo>
                <a:lnTo>
                  <a:pt x="1178" y="574"/>
                </a:lnTo>
                <a:lnTo>
                  <a:pt x="1171" y="580"/>
                </a:lnTo>
                <a:lnTo>
                  <a:pt x="1165" y="587"/>
                </a:lnTo>
                <a:lnTo>
                  <a:pt x="1161" y="594"/>
                </a:lnTo>
                <a:lnTo>
                  <a:pt x="1159" y="606"/>
                </a:lnTo>
                <a:lnTo>
                  <a:pt x="1161" y="606"/>
                </a:lnTo>
                <a:lnTo>
                  <a:pt x="1148" y="610"/>
                </a:lnTo>
                <a:lnTo>
                  <a:pt x="1129" y="615"/>
                </a:lnTo>
                <a:lnTo>
                  <a:pt x="1103" y="619"/>
                </a:lnTo>
                <a:lnTo>
                  <a:pt x="1093" y="623"/>
                </a:lnTo>
                <a:lnTo>
                  <a:pt x="1081" y="635"/>
                </a:lnTo>
                <a:lnTo>
                  <a:pt x="1075" y="644"/>
                </a:lnTo>
                <a:lnTo>
                  <a:pt x="1064" y="642"/>
                </a:lnTo>
                <a:lnTo>
                  <a:pt x="1046" y="639"/>
                </a:lnTo>
                <a:lnTo>
                  <a:pt x="1035" y="635"/>
                </a:lnTo>
                <a:lnTo>
                  <a:pt x="1027" y="629"/>
                </a:lnTo>
                <a:lnTo>
                  <a:pt x="1023" y="619"/>
                </a:lnTo>
                <a:lnTo>
                  <a:pt x="1019" y="605"/>
                </a:lnTo>
                <a:lnTo>
                  <a:pt x="1019" y="593"/>
                </a:lnTo>
                <a:lnTo>
                  <a:pt x="1026" y="589"/>
                </a:lnTo>
                <a:lnTo>
                  <a:pt x="1043" y="579"/>
                </a:lnTo>
                <a:lnTo>
                  <a:pt x="1066" y="570"/>
                </a:lnTo>
                <a:lnTo>
                  <a:pt x="1113" y="552"/>
                </a:lnTo>
                <a:lnTo>
                  <a:pt x="1143" y="536"/>
                </a:lnTo>
                <a:lnTo>
                  <a:pt x="1148" y="538"/>
                </a:lnTo>
                <a:lnTo>
                  <a:pt x="1156" y="541"/>
                </a:lnTo>
                <a:lnTo>
                  <a:pt x="1166" y="545"/>
                </a:lnTo>
                <a:lnTo>
                  <a:pt x="1181" y="554"/>
                </a:lnTo>
                <a:lnTo>
                  <a:pt x="1187" y="555"/>
                </a:lnTo>
                <a:lnTo>
                  <a:pt x="1187" y="555"/>
                </a:lnTo>
                <a:close/>
                <a:moveTo>
                  <a:pt x="1305" y="471"/>
                </a:moveTo>
                <a:lnTo>
                  <a:pt x="1301" y="476"/>
                </a:lnTo>
                <a:lnTo>
                  <a:pt x="1294" y="486"/>
                </a:lnTo>
                <a:lnTo>
                  <a:pt x="1279" y="505"/>
                </a:lnTo>
                <a:lnTo>
                  <a:pt x="1271" y="510"/>
                </a:lnTo>
                <a:lnTo>
                  <a:pt x="1259" y="513"/>
                </a:lnTo>
                <a:lnTo>
                  <a:pt x="1253" y="512"/>
                </a:lnTo>
                <a:lnTo>
                  <a:pt x="1248" y="509"/>
                </a:lnTo>
                <a:lnTo>
                  <a:pt x="1246" y="505"/>
                </a:lnTo>
                <a:lnTo>
                  <a:pt x="1245" y="500"/>
                </a:lnTo>
                <a:lnTo>
                  <a:pt x="1242" y="489"/>
                </a:lnTo>
                <a:lnTo>
                  <a:pt x="1242" y="484"/>
                </a:lnTo>
                <a:lnTo>
                  <a:pt x="1243" y="480"/>
                </a:lnTo>
                <a:lnTo>
                  <a:pt x="1246" y="476"/>
                </a:lnTo>
                <a:lnTo>
                  <a:pt x="1250" y="474"/>
                </a:lnTo>
                <a:lnTo>
                  <a:pt x="1255" y="474"/>
                </a:lnTo>
                <a:lnTo>
                  <a:pt x="1262" y="476"/>
                </a:lnTo>
                <a:lnTo>
                  <a:pt x="1263" y="476"/>
                </a:lnTo>
                <a:lnTo>
                  <a:pt x="1266" y="473"/>
                </a:lnTo>
                <a:lnTo>
                  <a:pt x="1274" y="470"/>
                </a:lnTo>
                <a:lnTo>
                  <a:pt x="1279" y="468"/>
                </a:lnTo>
                <a:lnTo>
                  <a:pt x="1287" y="468"/>
                </a:lnTo>
                <a:lnTo>
                  <a:pt x="1294" y="470"/>
                </a:lnTo>
                <a:lnTo>
                  <a:pt x="1301" y="471"/>
                </a:lnTo>
                <a:lnTo>
                  <a:pt x="1305" y="471"/>
                </a:lnTo>
                <a:lnTo>
                  <a:pt x="1305" y="471"/>
                </a:lnTo>
                <a:close/>
                <a:moveTo>
                  <a:pt x="1242" y="570"/>
                </a:moveTo>
                <a:lnTo>
                  <a:pt x="1232" y="563"/>
                </a:lnTo>
                <a:lnTo>
                  <a:pt x="1226" y="557"/>
                </a:lnTo>
                <a:lnTo>
                  <a:pt x="1224" y="551"/>
                </a:lnTo>
                <a:lnTo>
                  <a:pt x="1224" y="548"/>
                </a:lnTo>
                <a:lnTo>
                  <a:pt x="1224" y="545"/>
                </a:lnTo>
                <a:lnTo>
                  <a:pt x="1226" y="544"/>
                </a:lnTo>
                <a:lnTo>
                  <a:pt x="1229" y="541"/>
                </a:lnTo>
                <a:lnTo>
                  <a:pt x="1232" y="539"/>
                </a:lnTo>
                <a:lnTo>
                  <a:pt x="1237" y="536"/>
                </a:lnTo>
                <a:lnTo>
                  <a:pt x="1245" y="534"/>
                </a:lnTo>
                <a:lnTo>
                  <a:pt x="1261" y="529"/>
                </a:lnTo>
                <a:lnTo>
                  <a:pt x="1275" y="529"/>
                </a:lnTo>
                <a:lnTo>
                  <a:pt x="1279" y="528"/>
                </a:lnTo>
                <a:lnTo>
                  <a:pt x="1279" y="534"/>
                </a:lnTo>
                <a:lnTo>
                  <a:pt x="1279" y="538"/>
                </a:lnTo>
                <a:lnTo>
                  <a:pt x="1278" y="544"/>
                </a:lnTo>
                <a:lnTo>
                  <a:pt x="1275" y="548"/>
                </a:lnTo>
                <a:lnTo>
                  <a:pt x="1268" y="557"/>
                </a:lnTo>
                <a:lnTo>
                  <a:pt x="1259" y="564"/>
                </a:lnTo>
                <a:lnTo>
                  <a:pt x="1250" y="568"/>
                </a:lnTo>
                <a:lnTo>
                  <a:pt x="1242" y="570"/>
                </a:lnTo>
                <a:lnTo>
                  <a:pt x="1242" y="570"/>
                </a:lnTo>
                <a:lnTo>
                  <a:pt x="1242" y="570"/>
                </a:lnTo>
                <a:close/>
                <a:moveTo>
                  <a:pt x="1437" y="471"/>
                </a:moveTo>
                <a:lnTo>
                  <a:pt x="1443" y="477"/>
                </a:lnTo>
                <a:lnTo>
                  <a:pt x="1450" y="489"/>
                </a:lnTo>
                <a:lnTo>
                  <a:pt x="1455" y="502"/>
                </a:lnTo>
                <a:lnTo>
                  <a:pt x="1456" y="515"/>
                </a:lnTo>
                <a:lnTo>
                  <a:pt x="1456" y="529"/>
                </a:lnTo>
                <a:lnTo>
                  <a:pt x="1456" y="542"/>
                </a:lnTo>
                <a:lnTo>
                  <a:pt x="1456" y="548"/>
                </a:lnTo>
                <a:lnTo>
                  <a:pt x="1455" y="548"/>
                </a:lnTo>
                <a:lnTo>
                  <a:pt x="1450" y="548"/>
                </a:lnTo>
                <a:lnTo>
                  <a:pt x="1439" y="547"/>
                </a:lnTo>
                <a:lnTo>
                  <a:pt x="1430" y="547"/>
                </a:lnTo>
                <a:lnTo>
                  <a:pt x="1430" y="545"/>
                </a:lnTo>
                <a:lnTo>
                  <a:pt x="1429" y="541"/>
                </a:lnTo>
                <a:lnTo>
                  <a:pt x="1424" y="532"/>
                </a:lnTo>
                <a:lnTo>
                  <a:pt x="1420" y="526"/>
                </a:lnTo>
                <a:lnTo>
                  <a:pt x="1419" y="525"/>
                </a:lnTo>
                <a:lnTo>
                  <a:pt x="1416" y="525"/>
                </a:lnTo>
                <a:lnTo>
                  <a:pt x="1414" y="525"/>
                </a:lnTo>
                <a:lnTo>
                  <a:pt x="1411" y="526"/>
                </a:lnTo>
                <a:lnTo>
                  <a:pt x="1410" y="531"/>
                </a:lnTo>
                <a:lnTo>
                  <a:pt x="1408" y="535"/>
                </a:lnTo>
                <a:lnTo>
                  <a:pt x="1408" y="541"/>
                </a:lnTo>
                <a:lnTo>
                  <a:pt x="1408" y="541"/>
                </a:lnTo>
                <a:lnTo>
                  <a:pt x="1407" y="541"/>
                </a:lnTo>
                <a:lnTo>
                  <a:pt x="1401" y="539"/>
                </a:lnTo>
                <a:lnTo>
                  <a:pt x="1382" y="532"/>
                </a:lnTo>
                <a:lnTo>
                  <a:pt x="1368" y="528"/>
                </a:lnTo>
                <a:lnTo>
                  <a:pt x="1368" y="526"/>
                </a:lnTo>
                <a:lnTo>
                  <a:pt x="1368" y="523"/>
                </a:lnTo>
                <a:lnTo>
                  <a:pt x="1369" y="518"/>
                </a:lnTo>
                <a:lnTo>
                  <a:pt x="1372" y="512"/>
                </a:lnTo>
                <a:lnTo>
                  <a:pt x="1375" y="506"/>
                </a:lnTo>
                <a:lnTo>
                  <a:pt x="1384" y="497"/>
                </a:lnTo>
                <a:lnTo>
                  <a:pt x="1387" y="494"/>
                </a:lnTo>
                <a:lnTo>
                  <a:pt x="1388" y="499"/>
                </a:lnTo>
                <a:lnTo>
                  <a:pt x="1388" y="497"/>
                </a:lnTo>
                <a:lnTo>
                  <a:pt x="1388" y="493"/>
                </a:lnTo>
                <a:lnTo>
                  <a:pt x="1385" y="476"/>
                </a:lnTo>
                <a:lnTo>
                  <a:pt x="1382" y="457"/>
                </a:lnTo>
                <a:lnTo>
                  <a:pt x="1381" y="448"/>
                </a:lnTo>
                <a:lnTo>
                  <a:pt x="1382" y="442"/>
                </a:lnTo>
                <a:lnTo>
                  <a:pt x="1385" y="438"/>
                </a:lnTo>
                <a:lnTo>
                  <a:pt x="1390" y="439"/>
                </a:lnTo>
                <a:lnTo>
                  <a:pt x="1395" y="444"/>
                </a:lnTo>
                <a:lnTo>
                  <a:pt x="1397" y="444"/>
                </a:lnTo>
                <a:lnTo>
                  <a:pt x="1401" y="445"/>
                </a:lnTo>
                <a:lnTo>
                  <a:pt x="1405" y="447"/>
                </a:lnTo>
                <a:lnTo>
                  <a:pt x="1408" y="448"/>
                </a:lnTo>
                <a:lnTo>
                  <a:pt x="1410" y="451"/>
                </a:lnTo>
                <a:lnTo>
                  <a:pt x="1411" y="455"/>
                </a:lnTo>
                <a:lnTo>
                  <a:pt x="1414" y="461"/>
                </a:lnTo>
                <a:lnTo>
                  <a:pt x="1419" y="468"/>
                </a:lnTo>
                <a:lnTo>
                  <a:pt x="1429" y="471"/>
                </a:lnTo>
                <a:lnTo>
                  <a:pt x="1437" y="471"/>
                </a:lnTo>
                <a:lnTo>
                  <a:pt x="1437" y="471"/>
                </a:lnTo>
                <a:close/>
                <a:moveTo>
                  <a:pt x="1529" y="509"/>
                </a:moveTo>
                <a:lnTo>
                  <a:pt x="1526" y="516"/>
                </a:lnTo>
                <a:lnTo>
                  <a:pt x="1520" y="534"/>
                </a:lnTo>
                <a:lnTo>
                  <a:pt x="1516" y="548"/>
                </a:lnTo>
                <a:lnTo>
                  <a:pt x="1516" y="548"/>
                </a:lnTo>
                <a:lnTo>
                  <a:pt x="1511" y="548"/>
                </a:lnTo>
                <a:lnTo>
                  <a:pt x="1504" y="545"/>
                </a:lnTo>
                <a:lnTo>
                  <a:pt x="1492" y="538"/>
                </a:lnTo>
                <a:lnTo>
                  <a:pt x="1482" y="529"/>
                </a:lnTo>
                <a:lnTo>
                  <a:pt x="1481" y="526"/>
                </a:lnTo>
                <a:lnTo>
                  <a:pt x="1479" y="519"/>
                </a:lnTo>
                <a:lnTo>
                  <a:pt x="1479" y="506"/>
                </a:lnTo>
                <a:lnTo>
                  <a:pt x="1481" y="499"/>
                </a:lnTo>
                <a:lnTo>
                  <a:pt x="1482" y="492"/>
                </a:lnTo>
                <a:lnTo>
                  <a:pt x="1485" y="487"/>
                </a:lnTo>
                <a:lnTo>
                  <a:pt x="1492" y="480"/>
                </a:lnTo>
                <a:lnTo>
                  <a:pt x="1497" y="474"/>
                </a:lnTo>
                <a:lnTo>
                  <a:pt x="1500" y="477"/>
                </a:lnTo>
                <a:lnTo>
                  <a:pt x="1505" y="483"/>
                </a:lnTo>
                <a:lnTo>
                  <a:pt x="1511" y="489"/>
                </a:lnTo>
                <a:lnTo>
                  <a:pt x="1520" y="502"/>
                </a:lnTo>
                <a:lnTo>
                  <a:pt x="1529" y="509"/>
                </a:lnTo>
                <a:lnTo>
                  <a:pt x="1529" y="509"/>
                </a:lnTo>
                <a:close/>
                <a:moveTo>
                  <a:pt x="1607" y="668"/>
                </a:moveTo>
                <a:lnTo>
                  <a:pt x="1616" y="673"/>
                </a:lnTo>
                <a:lnTo>
                  <a:pt x="1634" y="680"/>
                </a:lnTo>
                <a:lnTo>
                  <a:pt x="1672" y="689"/>
                </a:lnTo>
                <a:lnTo>
                  <a:pt x="1713" y="692"/>
                </a:lnTo>
                <a:lnTo>
                  <a:pt x="1724" y="692"/>
                </a:lnTo>
                <a:lnTo>
                  <a:pt x="1727" y="696"/>
                </a:lnTo>
                <a:lnTo>
                  <a:pt x="1731" y="696"/>
                </a:lnTo>
                <a:lnTo>
                  <a:pt x="1737" y="694"/>
                </a:lnTo>
                <a:lnTo>
                  <a:pt x="1742" y="692"/>
                </a:lnTo>
                <a:lnTo>
                  <a:pt x="1746" y="687"/>
                </a:lnTo>
                <a:lnTo>
                  <a:pt x="1756" y="674"/>
                </a:lnTo>
                <a:lnTo>
                  <a:pt x="1771" y="652"/>
                </a:lnTo>
                <a:lnTo>
                  <a:pt x="1773" y="650"/>
                </a:lnTo>
                <a:lnTo>
                  <a:pt x="1782" y="650"/>
                </a:lnTo>
                <a:lnTo>
                  <a:pt x="1811" y="650"/>
                </a:lnTo>
                <a:lnTo>
                  <a:pt x="1834" y="650"/>
                </a:lnTo>
                <a:lnTo>
                  <a:pt x="1836" y="650"/>
                </a:lnTo>
                <a:lnTo>
                  <a:pt x="1839" y="657"/>
                </a:lnTo>
                <a:lnTo>
                  <a:pt x="1843" y="670"/>
                </a:lnTo>
                <a:lnTo>
                  <a:pt x="1847" y="693"/>
                </a:lnTo>
                <a:lnTo>
                  <a:pt x="1840" y="719"/>
                </a:lnTo>
                <a:lnTo>
                  <a:pt x="1836" y="726"/>
                </a:lnTo>
                <a:lnTo>
                  <a:pt x="1830" y="726"/>
                </a:lnTo>
                <a:lnTo>
                  <a:pt x="1821" y="726"/>
                </a:lnTo>
                <a:lnTo>
                  <a:pt x="1801" y="725"/>
                </a:lnTo>
                <a:lnTo>
                  <a:pt x="1782" y="725"/>
                </a:lnTo>
                <a:lnTo>
                  <a:pt x="1778" y="723"/>
                </a:lnTo>
                <a:lnTo>
                  <a:pt x="1772" y="732"/>
                </a:lnTo>
                <a:lnTo>
                  <a:pt x="1759" y="747"/>
                </a:lnTo>
                <a:lnTo>
                  <a:pt x="1742" y="758"/>
                </a:lnTo>
                <a:lnTo>
                  <a:pt x="1720" y="764"/>
                </a:lnTo>
                <a:lnTo>
                  <a:pt x="1698" y="767"/>
                </a:lnTo>
                <a:lnTo>
                  <a:pt x="1676" y="763"/>
                </a:lnTo>
                <a:lnTo>
                  <a:pt x="1666" y="758"/>
                </a:lnTo>
                <a:lnTo>
                  <a:pt x="1658" y="755"/>
                </a:lnTo>
                <a:lnTo>
                  <a:pt x="1646" y="748"/>
                </a:lnTo>
                <a:lnTo>
                  <a:pt x="1637" y="745"/>
                </a:lnTo>
                <a:lnTo>
                  <a:pt x="1634" y="745"/>
                </a:lnTo>
                <a:lnTo>
                  <a:pt x="1633" y="747"/>
                </a:lnTo>
                <a:lnTo>
                  <a:pt x="1630" y="749"/>
                </a:lnTo>
                <a:lnTo>
                  <a:pt x="1629" y="752"/>
                </a:lnTo>
                <a:lnTo>
                  <a:pt x="1627" y="758"/>
                </a:lnTo>
                <a:lnTo>
                  <a:pt x="1621" y="773"/>
                </a:lnTo>
                <a:lnTo>
                  <a:pt x="1621" y="773"/>
                </a:lnTo>
                <a:lnTo>
                  <a:pt x="1616" y="773"/>
                </a:lnTo>
                <a:lnTo>
                  <a:pt x="1604" y="773"/>
                </a:lnTo>
                <a:lnTo>
                  <a:pt x="1584" y="768"/>
                </a:lnTo>
                <a:lnTo>
                  <a:pt x="1560" y="761"/>
                </a:lnTo>
                <a:lnTo>
                  <a:pt x="1553" y="758"/>
                </a:lnTo>
                <a:lnTo>
                  <a:pt x="1546" y="757"/>
                </a:lnTo>
                <a:lnTo>
                  <a:pt x="1540" y="752"/>
                </a:lnTo>
                <a:lnTo>
                  <a:pt x="1536" y="745"/>
                </a:lnTo>
                <a:lnTo>
                  <a:pt x="1533" y="736"/>
                </a:lnTo>
                <a:lnTo>
                  <a:pt x="1527" y="716"/>
                </a:lnTo>
                <a:lnTo>
                  <a:pt x="1523" y="677"/>
                </a:lnTo>
                <a:lnTo>
                  <a:pt x="1523" y="667"/>
                </a:lnTo>
                <a:lnTo>
                  <a:pt x="1518" y="664"/>
                </a:lnTo>
                <a:lnTo>
                  <a:pt x="1505" y="651"/>
                </a:lnTo>
                <a:lnTo>
                  <a:pt x="1497" y="642"/>
                </a:lnTo>
                <a:lnTo>
                  <a:pt x="1497" y="641"/>
                </a:lnTo>
                <a:lnTo>
                  <a:pt x="1500" y="634"/>
                </a:lnTo>
                <a:lnTo>
                  <a:pt x="1505" y="619"/>
                </a:lnTo>
                <a:lnTo>
                  <a:pt x="1520" y="599"/>
                </a:lnTo>
                <a:lnTo>
                  <a:pt x="1529" y="593"/>
                </a:lnTo>
                <a:lnTo>
                  <a:pt x="1542" y="589"/>
                </a:lnTo>
                <a:lnTo>
                  <a:pt x="1550" y="587"/>
                </a:lnTo>
                <a:lnTo>
                  <a:pt x="1552" y="592"/>
                </a:lnTo>
                <a:lnTo>
                  <a:pt x="1553" y="594"/>
                </a:lnTo>
                <a:lnTo>
                  <a:pt x="1555" y="597"/>
                </a:lnTo>
                <a:lnTo>
                  <a:pt x="1556" y="600"/>
                </a:lnTo>
                <a:lnTo>
                  <a:pt x="1555" y="607"/>
                </a:lnTo>
                <a:lnTo>
                  <a:pt x="1555" y="616"/>
                </a:lnTo>
                <a:lnTo>
                  <a:pt x="1552" y="631"/>
                </a:lnTo>
                <a:lnTo>
                  <a:pt x="1553" y="631"/>
                </a:lnTo>
                <a:lnTo>
                  <a:pt x="1559" y="632"/>
                </a:lnTo>
                <a:lnTo>
                  <a:pt x="1568" y="631"/>
                </a:lnTo>
                <a:lnTo>
                  <a:pt x="1574" y="629"/>
                </a:lnTo>
                <a:lnTo>
                  <a:pt x="1578" y="626"/>
                </a:lnTo>
                <a:lnTo>
                  <a:pt x="1582" y="621"/>
                </a:lnTo>
                <a:lnTo>
                  <a:pt x="1591" y="610"/>
                </a:lnTo>
                <a:lnTo>
                  <a:pt x="1598" y="603"/>
                </a:lnTo>
                <a:lnTo>
                  <a:pt x="1601" y="607"/>
                </a:lnTo>
                <a:lnTo>
                  <a:pt x="1603" y="613"/>
                </a:lnTo>
                <a:lnTo>
                  <a:pt x="1605" y="623"/>
                </a:lnTo>
                <a:lnTo>
                  <a:pt x="1607" y="635"/>
                </a:lnTo>
                <a:lnTo>
                  <a:pt x="1607" y="658"/>
                </a:lnTo>
                <a:lnTo>
                  <a:pt x="1607" y="668"/>
                </a:lnTo>
                <a:lnTo>
                  <a:pt x="1607" y="668"/>
                </a:lnTo>
                <a:close/>
                <a:moveTo>
                  <a:pt x="1658" y="429"/>
                </a:moveTo>
                <a:lnTo>
                  <a:pt x="1656" y="432"/>
                </a:lnTo>
                <a:lnTo>
                  <a:pt x="1647" y="444"/>
                </a:lnTo>
                <a:lnTo>
                  <a:pt x="1618" y="483"/>
                </a:lnTo>
                <a:lnTo>
                  <a:pt x="1595" y="513"/>
                </a:lnTo>
                <a:lnTo>
                  <a:pt x="1595" y="515"/>
                </a:lnTo>
                <a:lnTo>
                  <a:pt x="1587" y="515"/>
                </a:lnTo>
                <a:lnTo>
                  <a:pt x="1572" y="510"/>
                </a:lnTo>
                <a:lnTo>
                  <a:pt x="1562" y="503"/>
                </a:lnTo>
                <a:lnTo>
                  <a:pt x="1555" y="493"/>
                </a:lnTo>
                <a:lnTo>
                  <a:pt x="1550" y="481"/>
                </a:lnTo>
                <a:lnTo>
                  <a:pt x="1545" y="468"/>
                </a:lnTo>
                <a:lnTo>
                  <a:pt x="1543" y="461"/>
                </a:lnTo>
                <a:lnTo>
                  <a:pt x="1545" y="460"/>
                </a:lnTo>
                <a:lnTo>
                  <a:pt x="1552" y="451"/>
                </a:lnTo>
                <a:lnTo>
                  <a:pt x="1558" y="445"/>
                </a:lnTo>
                <a:lnTo>
                  <a:pt x="1559" y="444"/>
                </a:lnTo>
                <a:lnTo>
                  <a:pt x="1547" y="435"/>
                </a:lnTo>
                <a:lnTo>
                  <a:pt x="1533" y="426"/>
                </a:lnTo>
                <a:lnTo>
                  <a:pt x="1523" y="426"/>
                </a:lnTo>
                <a:lnTo>
                  <a:pt x="1520" y="426"/>
                </a:lnTo>
                <a:lnTo>
                  <a:pt x="1518" y="426"/>
                </a:lnTo>
                <a:lnTo>
                  <a:pt x="1514" y="422"/>
                </a:lnTo>
                <a:lnTo>
                  <a:pt x="1511" y="415"/>
                </a:lnTo>
                <a:lnTo>
                  <a:pt x="1507" y="386"/>
                </a:lnTo>
                <a:lnTo>
                  <a:pt x="1507" y="386"/>
                </a:lnTo>
                <a:lnTo>
                  <a:pt x="1503" y="371"/>
                </a:lnTo>
                <a:lnTo>
                  <a:pt x="1500" y="347"/>
                </a:lnTo>
                <a:lnTo>
                  <a:pt x="1503" y="328"/>
                </a:lnTo>
                <a:lnTo>
                  <a:pt x="1508" y="315"/>
                </a:lnTo>
                <a:lnTo>
                  <a:pt x="1516" y="305"/>
                </a:lnTo>
                <a:lnTo>
                  <a:pt x="1521" y="295"/>
                </a:lnTo>
                <a:lnTo>
                  <a:pt x="1523" y="289"/>
                </a:lnTo>
                <a:lnTo>
                  <a:pt x="1527" y="290"/>
                </a:lnTo>
                <a:lnTo>
                  <a:pt x="1533" y="296"/>
                </a:lnTo>
                <a:lnTo>
                  <a:pt x="1546" y="312"/>
                </a:lnTo>
                <a:lnTo>
                  <a:pt x="1578" y="345"/>
                </a:lnTo>
                <a:lnTo>
                  <a:pt x="1592" y="352"/>
                </a:lnTo>
                <a:lnTo>
                  <a:pt x="1603" y="366"/>
                </a:lnTo>
                <a:lnTo>
                  <a:pt x="1633" y="402"/>
                </a:lnTo>
                <a:lnTo>
                  <a:pt x="1656" y="428"/>
                </a:lnTo>
                <a:lnTo>
                  <a:pt x="1658" y="429"/>
                </a:lnTo>
                <a:lnTo>
                  <a:pt x="1658" y="429"/>
                </a:lnTo>
                <a:close/>
                <a:moveTo>
                  <a:pt x="1689" y="345"/>
                </a:moveTo>
                <a:lnTo>
                  <a:pt x="1685" y="342"/>
                </a:lnTo>
                <a:lnTo>
                  <a:pt x="1684" y="339"/>
                </a:lnTo>
                <a:lnTo>
                  <a:pt x="1682" y="337"/>
                </a:lnTo>
                <a:lnTo>
                  <a:pt x="1682" y="334"/>
                </a:lnTo>
                <a:lnTo>
                  <a:pt x="1684" y="331"/>
                </a:lnTo>
                <a:lnTo>
                  <a:pt x="1685" y="328"/>
                </a:lnTo>
                <a:lnTo>
                  <a:pt x="1687" y="325"/>
                </a:lnTo>
                <a:lnTo>
                  <a:pt x="1692" y="318"/>
                </a:lnTo>
                <a:lnTo>
                  <a:pt x="1700" y="309"/>
                </a:lnTo>
                <a:lnTo>
                  <a:pt x="1704" y="303"/>
                </a:lnTo>
                <a:lnTo>
                  <a:pt x="1710" y="296"/>
                </a:lnTo>
                <a:lnTo>
                  <a:pt x="1711" y="292"/>
                </a:lnTo>
                <a:lnTo>
                  <a:pt x="1711" y="290"/>
                </a:lnTo>
                <a:lnTo>
                  <a:pt x="1707" y="290"/>
                </a:lnTo>
                <a:lnTo>
                  <a:pt x="1705" y="290"/>
                </a:lnTo>
                <a:lnTo>
                  <a:pt x="1698" y="293"/>
                </a:lnTo>
                <a:lnTo>
                  <a:pt x="1682" y="302"/>
                </a:lnTo>
                <a:lnTo>
                  <a:pt x="1665" y="310"/>
                </a:lnTo>
                <a:lnTo>
                  <a:pt x="1650" y="316"/>
                </a:lnTo>
                <a:lnTo>
                  <a:pt x="1647" y="315"/>
                </a:lnTo>
                <a:lnTo>
                  <a:pt x="1636" y="313"/>
                </a:lnTo>
                <a:lnTo>
                  <a:pt x="1614" y="309"/>
                </a:lnTo>
                <a:lnTo>
                  <a:pt x="1576" y="295"/>
                </a:lnTo>
                <a:lnTo>
                  <a:pt x="1565" y="287"/>
                </a:lnTo>
                <a:lnTo>
                  <a:pt x="1560" y="284"/>
                </a:lnTo>
                <a:lnTo>
                  <a:pt x="1559" y="281"/>
                </a:lnTo>
                <a:lnTo>
                  <a:pt x="1559" y="279"/>
                </a:lnTo>
                <a:lnTo>
                  <a:pt x="1563" y="268"/>
                </a:lnTo>
                <a:lnTo>
                  <a:pt x="1569" y="248"/>
                </a:lnTo>
                <a:lnTo>
                  <a:pt x="1572" y="231"/>
                </a:lnTo>
                <a:lnTo>
                  <a:pt x="1575" y="215"/>
                </a:lnTo>
                <a:lnTo>
                  <a:pt x="1585" y="200"/>
                </a:lnTo>
                <a:lnTo>
                  <a:pt x="1605" y="190"/>
                </a:lnTo>
                <a:lnTo>
                  <a:pt x="1623" y="184"/>
                </a:lnTo>
                <a:lnTo>
                  <a:pt x="1630" y="181"/>
                </a:lnTo>
                <a:lnTo>
                  <a:pt x="1637" y="177"/>
                </a:lnTo>
                <a:lnTo>
                  <a:pt x="1656" y="161"/>
                </a:lnTo>
                <a:lnTo>
                  <a:pt x="1698" y="124"/>
                </a:lnTo>
                <a:lnTo>
                  <a:pt x="1733" y="93"/>
                </a:lnTo>
                <a:lnTo>
                  <a:pt x="1737" y="96"/>
                </a:lnTo>
                <a:lnTo>
                  <a:pt x="1755" y="105"/>
                </a:lnTo>
                <a:lnTo>
                  <a:pt x="1768" y="110"/>
                </a:lnTo>
                <a:lnTo>
                  <a:pt x="1769" y="110"/>
                </a:lnTo>
                <a:lnTo>
                  <a:pt x="1773" y="109"/>
                </a:lnTo>
                <a:lnTo>
                  <a:pt x="1784" y="106"/>
                </a:lnTo>
                <a:lnTo>
                  <a:pt x="1805" y="103"/>
                </a:lnTo>
                <a:lnTo>
                  <a:pt x="1827" y="103"/>
                </a:lnTo>
                <a:lnTo>
                  <a:pt x="1833" y="102"/>
                </a:lnTo>
                <a:lnTo>
                  <a:pt x="1833" y="110"/>
                </a:lnTo>
                <a:lnTo>
                  <a:pt x="1833" y="129"/>
                </a:lnTo>
                <a:lnTo>
                  <a:pt x="1830" y="171"/>
                </a:lnTo>
                <a:lnTo>
                  <a:pt x="1823" y="190"/>
                </a:lnTo>
                <a:lnTo>
                  <a:pt x="1811" y="203"/>
                </a:lnTo>
                <a:lnTo>
                  <a:pt x="1804" y="208"/>
                </a:lnTo>
                <a:lnTo>
                  <a:pt x="1811" y="212"/>
                </a:lnTo>
                <a:lnTo>
                  <a:pt x="1834" y="225"/>
                </a:lnTo>
                <a:lnTo>
                  <a:pt x="1852" y="235"/>
                </a:lnTo>
                <a:lnTo>
                  <a:pt x="1853" y="235"/>
                </a:lnTo>
                <a:lnTo>
                  <a:pt x="1850" y="248"/>
                </a:lnTo>
                <a:lnTo>
                  <a:pt x="1844" y="274"/>
                </a:lnTo>
                <a:lnTo>
                  <a:pt x="1830" y="331"/>
                </a:lnTo>
                <a:lnTo>
                  <a:pt x="1814" y="373"/>
                </a:lnTo>
                <a:lnTo>
                  <a:pt x="1810" y="377"/>
                </a:lnTo>
                <a:lnTo>
                  <a:pt x="1811" y="390"/>
                </a:lnTo>
                <a:lnTo>
                  <a:pt x="1815" y="415"/>
                </a:lnTo>
                <a:lnTo>
                  <a:pt x="1815" y="470"/>
                </a:lnTo>
                <a:lnTo>
                  <a:pt x="1802" y="523"/>
                </a:lnTo>
                <a:lnTo>
                  <a:pt x="1797" y="535"/>
                </a:lnTo>
                <a:lnTo>
                  <a:pt x="1804" y="539"/>
                </a:lnTo>
                <a:lnTo>
                  <a:pt x="1830" y="552"/>
                </a:lnTo>
                <a:lnTo>
                  <a:pt x="1850" y="561"/>
                </a:lnTo>
                <a:lnTo>
                  <a:pt x="1852" y="561"/>
                </a:lnTo>
                <a:lnTo>
                  <a:pt x="1850" y="567"/>
                </a:lnTo>
                <a:lnTo>
                  <a:pt x="1849" y="576"/>
                </a:lnTo>
                <a:lnTo>
                  <a:pt x="1843" y="592"/>
                </a:lnTo>
                <a:lnTo>
                  <a:pt x="1834" y="606"/>
                </a:lnTo>
                <a:lnTo>
                  <a:pt x="1833" y="607"/>
                </a:lnTo>
                <a:lnTo>
                  <a:pt x="1827" y="607"/>
                </a:lnTo>
                <a:lnTo>
                  <a:pt x="1818" y="606"/>
                </a:lnTo>
                <a:lnTo>
                  <a:pt x="1802" y="602"/>
                </a:lnTo>
                <a:lnTo>
                  <a:pt x="1789" y="599"/>
                </a:lnTo>
                <a:lnTo>
                  <a:pt x="1788" y="597"/>
                </a:lnTo>
                <a:lnTo>
                  <a:pt x="1778" y="603"/>
                </a:lnTo>
                <a:lnTo>
                  <a:pt x="1758" y="612"/>
                </a:lnTo>
                <a:lnTo>
                  <a:pt x="1710" y="625"/>
                </a:lnTo>
                <a:lnTo>
                  <a:pt x="1662" y="623"/>
                </a:lnTo>
                <a:lnTo>
                  <a:pt x="1650" y="619"/>
                </a:lnTo>
                <a:lnTo>
                  <a:pt x="1650" y="609"/>
                </a:lnTo>
                <a:lnTo>
                  <a:pt x="1655" y="577"/>
                </a:lnTo>
                <a:lnTo>
                  <a:pt x="1656" y="552"/>
                </a:lnTo>
                <a:lnTo>
                  <a:pt x="1658" y="551"/>
                </a:lnTo>
                <a:lnTo>
                  <a:pt x="1662" y="550"/>
                </a:lnTo>
                <a:lnTo>
                  <a:pt x="1673" y="545"/>
                </a:lnTo>
                <a:lnTo>
                  <a:pt x="1700" y="539"/>
                </a:lnTo>
                <a:lnTo>
                  <a:pt x="1724" y="536"/>
                </a:lnTo>
                <a:lnTo>
                  <a:pt x="1730" y="535"/>
                </a:lnTo>
                <a:lnTo>
                  <a:pt x="1724" y="534"/>
                </a:lnTo>
                <a:lnTo>
                  <a:pt x="1711" y="529"/>
                </a:lnTo>
                <a:lnTo>
                  <a:pt x="1673" y="515"/>
                </a:lnTo>
                <a:lnTo>
                  <a:pt x="1658" y="506"/>
                </a:lnTo>
                <a:lnTo>
                  <a:pt x="1647" y="499"/>
                </a:lnTo>
                <a:lnTo>
                  <a:pt x="1647" y="494"/>
                </a:lnTo>
                <a:lnTo>
                  <a:pt x="1649" y="493"/>
                </a:lnTo>
                <a:lnTo>
                  <a:pt x="1653" y="490"/>
                </a:lnTo>
                <a:lnTo>
                  <a:pt x="1660" y="484"/>
                </a:lnTo>
                <a:lnTo>
                  <a:pt x="1679" y="458"/>
                </a:lnTo>
                <a:lnTo>
                  <a:pt x="1688" y="425"/>
                </a:lnTo>
                <a:lnTo>
                  <a:pt x="1687" y="413"/>
                </a:lnTo>
                <a:lnTo>
                  <a:pt x="1684" y="405"/>
                </a:lnTo>
                <a:lnTo>
                  <a:pt x="1681" y="399"/>
                </a:lnTo>
                <a:lnTo>
                  <a:pt x="1676" y="393"/>
                </a:lnTo>
                <a:lnTo>
                  <a:pt x="1671" y="390"/>
                </a:lnTo>
                <a:lnTo>
                  <a:pt x="1665" y="387"/>
                </a:lnTo>
                <a:lnTo>
                  <a:pt x="1655" y="383"/>
                </a:lnTo>
                <a:lnTo>
                  <a:pt x="1650" y="381"/>
                </a:lnTo>
                <a:lnTo>
                  <a:pt x="1647" y="377"/>
                </a:lnTo>
                <a:lnTo>
                  <a:pt x="1647" y="371"/>
                </a:lnTo>
                <a:lnTo>
                  <a:pt x="1647" y="364"/>
                </a:lnTo>
                <a:lnTo>
                  <a:pt x="1649" y="364"/>
                </a:lnTo>
                <a:lnTo>
                  <a:pt x="1652" y="358"/>
                </a:lnTo>
                <a:lnTo>
                  <a:pt x="1659" y="355"/>
                </a:lnTo>
                <a:lnTo>
                  <a:pt x="1668" y="355"/>
                </a:lnTo>
                <a:lnTo>
                  <a:pt x="1676" y="357"/>
                </a:lnTo>
                <a:lnTo>
                  <a:pt x="1688" y="361"/>
                </a:lnTo>
                <a:lnTo>
                  <a:pt x="1708" y="373"/>
                </a:lnTo>
                <a:lnTo>
                  <a:pt x="1736" y="389"/>
                </a:lnTo>
                <a:lnTo>
                  <a:pt x="1737" y="387"/>
                </a:lnTo>
                <a:lnTo>
                  <a:pt x="1733" y="384"/>
                </a:lnTo>
                <a:lnTo>
                  <a:pt x="1730" y="381"/>
                </a:lnTo>
                <a:lnTo>
                  <a:pt x="1721" y="374"/>
                </a:lnTo>
                <a:lnTo>
                  <a:pt x="1701" y="358"/>
                </a:lnTo>
                <a:lnTo>
                  <a:pt x="1689" y="345"/>
                </a:lnTo>
                <a:lnTo>
                  <a:pt x="1689" y="345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018200" y="3476520"/>
            <a:ext cx="157320" cy="84240"/>
          </a:xfrm>
          <a:custGeom>
            <a:avLst/>
            <a:gdLst/>
            <a:ahLst/>
            <a:rect l="l" t="t" r="r" b="b"/>
            <a:pathLst>
              <a:path w="458" h="256">
                <a:moveTo>
                  <a:pt x="219" y="174"/>
                </a:moveTo>
                <a:lnTo>
                  <a:pt x="216" y="176"/>
                </a:lnTo>
                <a:lnTo>
                  <a:pt x="214" y="181"/>
                </a:lnTo>
                <a:lnTo>
                  <a:pt x="214" y="184"/>
                </a:lnTo>
                <a:lnTo>
                  <a:pt x="214" y="188"/>
                </a:lnTo>
                <a:lnTo>
                  <a:pt x="213" y="191"/>
                </a:lnTo>
                <a:lnTo>
                  <a:pt x="208" y="195"/>
                </a:lnTo>
                <a:lnTo>
                  <a:pt x="207" y="197"/>
                </a:lnTo>
                <a:lnTo>
                  <a:pt x="200" y="204"/>
                </a:lnTo>
                <a:lnTo>
                  <a:pt x="185" y="214"/>
                </a:lnTo>
                <a:lnTo>
                  <a:pt x="158" y="232"/>
                </a:lnTo>
                <a:lnTo>
                  <a:pt x="129" y="250"/>
                </a:lnTo>
                <a:lnTo>
                  <a:pt x="122" y="256"/>
                </a:lnTo>
                <a:lnTo>
                  <a:pt x="117" y="249"/>
                </a:lnTo>
                <a:lnTo>
                  <a:pt x="116" y="243"/>
                </a:lnTo>
                <a:lnTo>
                  <a:pt x="114" y="229"/>
                </a:lnTo>
                <a:lnTo>
                  <a:pt x="111" y="198"/>
                </a:lnTo>
                <a:lnTo>
                  <a:pt x="111" y="182"/>
                </a:lnTo>
                <a:lnTo>
                  <a:pt x="106" y="181"/>
                </a:lnTo>
                <a:lnTo>
                  <a:pt x="95" y="181"/>
                </a:lnTo>
                <a:lnTo>
                  <a:pt x="85" y="181"/>
                </a:lnTo>
                <a:lnTo>
                  <a:pt x="65" y="181"/>
                </a:lnTo>
                <a:lnTo>
                  <a:pt x="52" y="178"/>
                </a:lnTo>
                <a:lnTo>
                  <a:pt x="43" y="172"/>
                </a:lnTo>
                <a:lnTo>
                  <a:pt x="19" y="155"/>
                </a:lnTo>
                <a:lnTo>
                  <a:pt x="0" y="143"/>
                </a:lnTo>
                <a:lnTo>
                  <a:pt x="0" y="142"/>
                </a:lnTo>
                <a:lnTo>
                  <a:pt x="1" y="133"/>
                </a:lnTo>
                <a:lnTo>
                  <a:pt x="10" y="116"/>
                </a:lnTo>
                <a:lnTo>
                  <a:pt x="35" y="81"/>
                </a:lnTo>
                <a:lnTo>
                  <a:pt x="62" y="52"/>
                </a:lnTo>
                <a:lnTo>
                  <a:pt x="69" y="46"/>
                </a:lnTo>
                <a:lnTo>
                  <a:pt x="95" y="45"/>
                </a:lnTo>
                <a:lnTo>
                  <a:pt x="159" y="32"/>
                </a:lnTo>
                <a:lnTo>
                  <a:pt x="300" y="3"/>
                </a:lnTo>
                <a:lnTo>
                  <a:pt x="366" y="0"/>
                </a:lnTo>
                <a:lnTo>
                  <a:pt x="423" y="17"/>
                </a:lnTo>
                <a:lnTo>
                  <a:pt x="446" y="33"/>
                </a:lnTo>
                <a:lnTo>
                  <a:pt x="448" y="37"/>
                </a:lnTo>
                <a:lnTo>
                  <a:pt x="450" y="43"/>
                </a:lnTo>
                <a:lnTo>
                  <a:pt x="456" y="56"/>
                </a:lnTo>
                <a:lnTo>
                  <a:pt x="458" y="74"/>
                </a:lnTo>
                <a:lnTo>
                  <a:pt x="458" y="79"/>
                </a:lnTo>
                <a:lnTo>
                  <a:pt x="452" y="81"/>
                </a:lnTo>
                <a:lnTo>
                  <a:pt x="448" y="82"/>
                </a:lnTo>
                <a:lnTo>
                  <a:pt x="432" y="88"/>
                </a:lnTo>
                <a:lnTo>
                  <a:pt x="387" y="101"/>
                </a:lnTo>
                <a:lnTo>
                  <a:pt x="277" y="140"/>
                </a:lnTo>
                <a:lnTo>
                  <a:pt x="219" y="174"/>
                </a:lnTo>
                <a:lnTo>
                  <a:pt x="219" y="174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345440" y="1789200"/>
            <a:ext cx="95040" cy="109440"/>
          </a:xfrm>
          <a:custGeom>
            <a:avLst/>
            <a:gdLst/>
            <a:ahLst/>
            <a:rect l="l" t="t" r="r" b="b"/>
            <a:pathLst>
              <a:path w="273" h="334">
                <a:moveTo>
                  <a:pt x="71" y="10"/>
                </a:moveTo>
                <a:lnTo>
                  <a:pt x="73" y="12"/>
                </a:lnTo>
                <a:lnTo>
                  <a:pt x="81" y="16"/>
                </a:lnTo>
                <a:lnTo>
                  <a:pt x="87" y="19"/>
                </a:lnTo>
                <a:lnTo>
                  <a:pt x="89" y="19"/>
                </a:lnTo>
                <a:lnTo>
                  <a:pt x="93" y="19"/>
                </a:lnTo>
                <a:lnTo>
                  <a:pt x="97" y="18"/>
                </a:lnTo>
                <a:lnTo>
                  <a:pt x="108" y="13"/>
                </a:lnTo>
                <a:lnTo>
                  <a:pt x="131" y="2"/>
                </a:lnTo>
                <a:lnTo>
                  <a:pt x="163" y="0"/>
                </a:lnTo>
                <a:lnTo>
                  <a:pt x="168" y="5"/>
                </a:lnTo>
                <a:lnTo>
                  <a:pt x="176" y="9"/>
                </a:lnTo>
                <a:lnTo>
                  <a:pt x="189" y="24"/>
                </a:lnTo>
                <a:lnTo>
                  <a:pt x="202" y="41"/>
                </a:lnTo>
                <a:lnTo>
                  <a:pt x="228" y="74"/>
                </a:lnTo>
                <a:lnTo>
                  <a:pt x="242" y="86"/>
                </a:lnTo>
                <a:lnTo>
                  <a:pt x="241" y="87"/>
                </a:lnTo>
                <a:lnTo>
                  <a:pt x="238" y="89"/>
                </a:lnTo>
                <a:lnTo>
                  <a:pt x="225" y="97"/>
                </a:lnTo>
                <a:lnTo>
                  <a:pt x="215" y="103"/>
                </a:lnTo>
                <a:lnTo>
                  <a:pt x="215" y="103"/>
                </a:lnTo>
                <a:lnTo>
                  <a:pt x="221" y="110"/>
                </a:lnTo>
                <a:lnTo>
                  <a:pt x="235" y="128"/>
                </a:lnTo>
                <a:lnTo>
                  <a:pt x="261" y="167"/>
                </a:lnTo>
                <a:lnTo>
                  <a:pt x="270" y="187"/>
                </a:lnTo>
                <a:lnTo>
                  <a:pt x="273" y="210"/>
                </a:lnTo>
                <a:lnTo>
                  <a:pt x="271" y="221"/>
                </a:lnTo>
                <a:lnTo>
                  <a:pt x="267" y="225"/>
                </a:lnTo>
                <a:lnTo>
                  <a:pt x="263" y="228"/>
                </a:lnTo>
                <a:lnTo>
                  <a:pt x="251" y="237"/>
                </a:lnTo>
                <a:lnTo>
                  <a:pt x="225" y="260"/>
                </a:lnTo>
                <a:lnTo>
                  <a:pt x="215" y="292"/>
                </a:lnTo>
                <a:lnTo>
                  <a:pt x="215" y="300"/>
                </a:lnTo>
                <a:lnTo>
                  <a:pt x="213" y="312"/>
                </a:lnTo>
                <a:lnTo>
                  <a:pt x="213" y="316"/>
                </a:lnTo>
                <a:lnTo>
                  <a:pt x="210" y="319"/>
                </a:lnTo>
                <a:lnTo>
                  <a:pt x="209" y="322"/>
                </a:lnTo>
                <a:lnTo>
                  <a:pt x="206" y="323"/>
                </a:lnTo>
                <a:lnTo>
                  <a:pt x="202" y="325"/>
                </a:lnTo>
                <a:lnTo>
                  <a:pt x="193" y="328"/>
                </a:lnTo>
                <a:lnTo>
                  <a:pt x="181" y="334"/>
                </a:lnTo>
                <a:lnTo>
                  <a:pt x="181" y="334"/>
                </a:lnTo>
                <a:lnTo>
                  <a:pt x="180" y="331"/>
                </a:lnTo>
                <a:lnTo>
                  <a:pt x="180" y="328"/>
                </a:lnTo>
                <a:lnTo>
                  <a:pt x="176" y="319"/>
                </a:lnTo>
                <a:lnTo>
                  <a:pt x="167" y="300"/>
                </a:lnTo>
                <a:lnTo>
                  <a:pt x="163" y="286"/>
                </a:lnTo>
                <a:lnTo>
                  <a:pt x="155" y="287"/>
                </a:lnTo>
                <a:lnTo>
                  <a:pt x="145" y="290"/>
                </a:lnTo>
                <a:lnTo>
                  <a:pt x="139" y="295"/>
                </a:lnTo>
                <a:lnTo>
                  <a:pt x="134" y="302"/>
                </a:lnTo>
                <a:lnTo>
                  <a:pt x="131" y="309"/>
                </a:lnTo>
                <a:lnTo>
                  <a:pt x="126" y="318"/>
                </a:lnTo>
                <a:lnTo>
                  <a:pt x="125" y="322"/>
                </a:lnTo>
                <a:lnTo>
                  <a:pt x="122" y="322"/>
                </a:lnTo>
                <a:lnTo>
                  <a:pt x="116" y="321"/>
                </a:lnTo>
                <a:lnTo>
                  <a:pt x="110" y="319"/>
                </a:lnTo>
                <a:lnTo>
                  <a:pt x="97" y="315"/>
                </a:lnTo>
                <a:lnTo>
                  <a:pt x="89" y="312"/>
                </a:lnTo>
                <a:lnTo>
                  <a:pt x="87" y="308"/>
                </a:lnTo>
                <a:lnTo>
                  <a:pt x="87" y="299"/>
                </a:lnTo>
                <a:lnTo>
                  <a:pt x="83" y="283"/>
                </a:lnTo>
                <a:lnTo>
                  <a:pt x="80" y="270"/>
                </a:lnTo>
                <a:lnTo>
                  <a:pt x="80" y="267"/>
                </a:lnTo>
                <a:lnTo>
                  <a:pt x="77" y="273"/>
                </a:lnTo>
                <a:lnTo>
                  <a:pt x="73" y="283"/>
                </a:lnTo>
                <a:lnTo>
                  <a:pt x="64" y="303"/>
                </a:lnTo>
                <a:lnTo>
                  <a:pt x="54" y="321"/>
                </a:lnTo>
                <a:lnTo>
                  <a:pt x="52" y="322"/>
                </a:lnTo>
                <a:lnTo>
                  <a:pt x="50" y="322"/>
                </a:lnTo>
                <a:lnTo>
                  <a:pt x="47" y="322"/>
                </a:lnTo>
                <a:lnTo>
                  <a:pt x="42" y="319"/>
                </a:lnTo>
                <a:lnTo>
                  <a:pt x="37" y="316"/>
                </a:lnTo>
                <a:lnTo>
                  <a:pt x="32" y="313"/>
                </a:lnTo>
                <a:lnTo>
                  <a:pt x="29" y="309"/>
                </a:lnTo>
                <a:lnTo>
                  <a:pt x="28" y="303"/>
                </a:lnTo>
                <a:lnTo>
                  <a:pt x="29" y="303"/>
                </a:lnTo>
                <a:lnTo>
                  <a:pt x="26" y="293"/>
                </a:lnTo>
                <a:lnTo>
                  <a:pt x="26" y="287"/>
                </a:lnTo>
                <a:lnTo>
                  <a:pt x="26" y="286"/>
                </a:lnTo>
                <a:lnTo>
                  <a:pt x="23" y="280"/>
                </a:lnTo>
                <a:lnTo>
                  <a:pt x="22" y="277"/>
                </a:lnTo>
                <a:lnTo>
                  <a:pt x="16" y="270"/>
                </a:lnTo>
                <a:lnTo>
                  <a:pt x="5" y="257"/>
                </a:lnTo>
                <a:lnTo>
                  <a:pt x="2" y="252"/>
                </a:lnTo>
                <a:lnTo>
                  <a:pt x="0" y="247"/>
                </a:lnTo>
                <a:lnTo>
                  <a:pt x="0" y="235"/>
                </a:lnTo>
                <a:lnTo>
                  <a:pt x="3" y="218"/>
                </a:lnTo>
                <a:lnTo>
                  <a:pt x="6" y="212"/>
                </a:lnTo>
                <a:lnTo>
                  <a:pt x="13" y="206"/>
                </a:lnTo>
                <a:lnTo>
                  <a:pt x="18" y="203"/>
                </a:lnTo>
                <a:lnTo>
                  <a:pt x="29" y="208"/>
                </a:lnTo>
                <a:lnTo>
                  <a:pt x="64" y="218"/>
                </a:lnTo>
                <a:lnTo>
                  <a:pt x="90" y="226"/>
                </a:lnTo>
                <a:lnTo>
                  <a:pt x="93" y="226"/>
                </a:lnTo>
                <a:lnTo>
                  <a:pt x="86" y="219"/>
                </a:lnTo>
                <a:lnTo>
                  <a:pt x="70" y="200"/>
                </a:lnTo>
                <a:lnTo>
                  <a:pt x="44" y="157"/>
                </a:lnTo>
                <a:lnTo>
                  <a:pt x="39" y="135"/>
                </a:lnTo>
                <a:lnTo>
                  <a:pt x="41" y="125"/>
                </a:lnTo>
                <a:lnTo>
                  <a:pt x="45" y="116"/>
                </a:lnTo>
                <a:lnTo>
                  <a:pt x="51" y="108"/>
                </a:lnTo>
                <a:lnTo>
                  <a:pt x="52" y="108"/>
                </a:lnTo>
                <a:lnTo>
                  <a:pt x="50" y="103"/>
                </a:lnTo>
                <a:lnTo>
                  <a:pt x="45" y="95"/>
                </a:lnTo>
                <a:lnTo>
                  <a:pt x="39" y="74"/>
                </a:lnTo>
                <a:lnTo>
                  <a:pt x="45" y="45"/>
                </a:lnTo>
                <a:lnTo>
                  <a:pt x="50" y="37"/>
                </a:lnTo>
                <a:lnTo>
                  <a:pt x="52" y="34"/>
                </a:lnTo>
                <a:lnTo>
                  <a:pt x="63" y="21"/>
                </a:lnTo>
                <a:lnTo>
                  <a:pt x="70" y="12"/>
                </a:lnTo>
                <a:lnTo>
                  <a:pt x="71" y="10"/>
                </a:lnTo>
                <a:lnTo>
                  <a:pt x="71" y="1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300800" y="2525760"/>
            <a:ext cx="42840" cy="15840"/>
          </a:xfrm>
          <a:custGeom>
            <a:avLst/>
            <a:gdLst/>
            <a:ahLst/>
            <a:rect l="l" t="t" r="r" b="b"/>
            <a:pathLst>
              <a:path w="120" h="52">
                <a:moveTo>
                  <a:pt x="110" y="1"/>
                </a:moveTo>
                <a:lnTo>
                  <a:pt x="110" y="5"/>
                </a:lnTo>
                <a:lnTo>
                  <a:pt x="114" y="14"/>
                </a:lnTo>
                <a:lnTo>
                  <a:pt x="120" y="34"/>
                </a:lnTo>
                <a:lnTo>
                  <a:pt x="119" y="39"/>
                </a:lnTo>
                <a:lnTo>
                  <a:pt x="117" y="42"/>
                </a:lnTo>
                <a:lnTo>
                  <a:pt x="116" y="46"/>
                </a:lnTo>
                <a:lnTo>
                  <a:pt x="111" y="49"/>
                </a:lnTo>
                <a:lnTo>
                  <a:pt x="106" y="50"/>
                </a:lnTo>
                <a:lnTo>
                  <a:pt x="106" y="50"/>
                </a:lnTo>
                <a:lnTo>
                  <a:pt x="95" y="52"/>
                </a:lnTo>
                <a:lnTo>
                  <a:pt x="77" y="49"/>
                </a:lnTo>
                <a:lnTo>
                  <a:pt x="59" y="42"/>
                </a:lnTo>
                <a:lnTo>
                  <a:pt x="43" y="33"/>
                </a:lnTo>
                <a:lnTo>
                  <a:pt x="8" y="20"/>
                </a:lnTo>
                <a:lnTo>
                  <a:pt x="0" y="18"/>
                </a:lnTo>
                <a:lnTo>
                  <a:pt x="4" y="10"/>
                </a:lnTo>
                <a:lnTo>
                  <a:pt x="7" y="5"/>
                </a:lnTo>
                <a:lnTo>
                  <a:pt x="8" y="4"/>
                </a:lnTo>
                <a:lnTo>
                  <a:pt x="20" y="2"/>
                </a:lnTo>
                <a:lnTo>
                  <a:pt x="39" y="0"/>
                </a:lnTo>
                <a:lnTo>
                  <a:pt x="69" y="0"/>
                </a:lnTo>
                <a:lnTo>
                  <a:pt x="100" y="1"/>
                </a:lnTo>
                <a:lnTo>
                  <a:pt x="110" y="1"/>
                </a:lnTo>
                <a:lnTo>
                  <a:pt x="110" y="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335720" y="2590920"/>
            <a:ext cx="36720" cy="19080"/>
          </a:xfrm>
          <a:custGeom>
            <a:avLst/>
            <a:gdLst/>
            <a:ahLst/>
            <a:rect l="l" t="t" r="r" b="b"/>
            <a:pathLst>
              <a:path w="106" h="55">
                <a:moveTo>
                  <a:pt x="6" y="0"/>
                </a:moveTo>
                <a:lnTo>
                  <a:pt x="20" y="9"/>
                </a:lnTo>
                <a:lnTo>
                  <a:pt x="39" y="16"/>
                </a:lnTo>
                <a:lnTo>
                  <a:pt x="44" y="17"/>
                </a:lnTo>
                <a:lnTo>
                  <a:pt x="49" y="16"/>
                </a:lnTo>
                <a:lnTo>
                  <a:pt x="52" y="14"/>
                </a:lnTo>
                <a:lnTo>
                  <a:pt x="57" y="12"/>
                </a:lnTo>
                <a:lnTo>
                  <a:pt x="68" y="6"/>
                </a:lnTo>
                <a:lnTo>
                  <a:pt x="89" y="1"/>
                </a:lnTo>
                <a:lnTo>
                  <a:pt x="106" y="0"/>
                </a:lnTo>
                <a:lnTo>
                  <a:pt x="105" y="6"/>
                </a:lnTo>
                <a:lnTo>
                  <a:pt x="103" y="14"/>
                </a:lnTo>
                <a:lnTo>
                  <a:pt x="99" y="32"/>
                </a:lnTo>
                <a:lnTo>
                  <a:pt x="96" y="51"/>
                </a:lnTo>
                <a:lnTo>
                  <a:pt x="97" y="55"/>
                </a:lnTo>
                <a:lnTo>
                  <a:pt x="89" y="54"/>
                </a:lnTo>
                <a:lnTo>
                  <a:pt x="67" y="52"/>
                </a:lnTo>
                <a:lnTo>
                  <a:pt x="19" y="42"/>
                </a:lnTo>
                <a:lnTo>
                  <a:pt x="10" y="38"/>
                </a:lnTo>
                <a:lnTo>
                  <a:pt x="5" y="32"/>
                </a:lnTo>
                <a:lnTo>
                  <a:pt x="0" y="23"/>
                </a:lnTo>
                <a:lnTo>
                  <a:pt x="0" y="13"/>
                </a:lnTo>
                <a:lnTo>
                  <a:pt x="5" y="0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362720" y="2558880"/>
            <a:ext cx="12960" cy="16200"/>
          </a:xfrm>
          <a:custGeom>
            <a:avLst/>
            <a:gdLst/>
            <a:ahLst/>
            <a:rect l="l" t="t" r="r" b="b"/>
            <a:pathLst>
              <a:path w="34" h="46">
                <a:moveTo>
                  <a:pt x="29" y="46"/>
                </a:moveTo>
                <a:lnTo>
                  <a:pt x="22" y="46"/>
                </a:lnTo>
                <a:lnTo>
                  <a:pt x="16" y="43"/>
                </a:lnTo>
                <a:lnTo>
                  <a:pt x="12" y="39"/>
                </a:lnTo>
                <a:lnTo>
                  <a:pt x="8" y="34"/>
                </a:lnTo>
                <a:lnTo>
                  <a:pt x="5" y="29"/>
                </a:lnTo>
                <a:lnTo>
                  <a:pt x="0" y="18"/>
                </a:lnTo>
                <a:lnTo>
                  <a:pt x="0" y="13"/>
                </a:lnTo>
                <a:lnTo>
                  <a:pt x="2" y="7"/>
                </a:lnTo>
                <a:lnTo>
                  <a:pt x="5" y="4"/>
                </a:lnTo>
                <a:lnTo>
                  <a:pt x="9" y="1"/>
                </a:lnTo>
                <a:lnTo>
                  <a:pt x="15" y="0"/>
                </a:lnTo>
                <a:lnTo>
                  <a:pt x="16" y="0"/>
                </a:lnTo>
                <a:lnTo>
                  <a:pt x="18" y="2"/>
                </a:lnTo>
                <a:lnTo>
                  <a:pt x="24" y="10"/>
                </a:lnTo>
                <a:lnTo>
                  <a:pt x="32" y="26"/>
                </a:lnTo>
                <a:lnTo>
                  <a:pt x="34" y="34"/>
                </a:lnTo>
                <a:lnTo>
                  <a:pt x="32" y="43"/>
                </a:lnTo>
                <a:lnTo>
                  <a:pt x="29" y="46"/>
                </a:lnTo>
                <a:lnTo>
                  <a:pt x="29" y="46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388280" y="2562120"/>
            <a:ext cx="30240" cy="39960"/>
          </a:xfrm>
          <a:custGeom>
            <a:avLst/>
            <a:gdLst/>
            <a:ahLst/>
            <a:rect l="l" t="t" r="r" b="b"/>
            <a:pathLst>
              <a:path w="86" h="119">
                <a:moveTo>
                  <a:pt x="0" y="71"/>
                </a:moveTo>
                <a:lnTo>
                  <a:pt x="5" y="67"/>
                </a:lnTo>
                <a:lnTo>
                  <a:pt x="12" y="54"/>
                </a:lnTo>
                <a:lnTo>
                  <a:pt x="19" y="39"/>
                </a:lnTo>
                <a:lnTo>
                  <a:pt x="32" y="13"/>
                </a:lnTo>
                <a:lnTo>
                  <a:pt x="45" y="0"/>
                </a:lnTo>
                <a:lnTo>
                  <a:pt x="47" y="3"/>
                </a:lnTo>
                <a:lnTo>
                  <a:pt x="54" y="12"/>
                </a:lnTo>
                <a:lnTo>
                  <a:pt x="73" y="36"/>
                </a:lnTo>
                <a:lnTo>
                  <a:pt x="84" y="57"/>
                </a:lnTo>
                <a:lnTo>
                  <a:pt x="86" y="58"/>
                </a:lnTo>
                <a:lnTo>
                  <a:pt x="86" y="70"/>
                </a:lnTo>
                <a:lnTo>
                  <a:pt x="86" y="87"/>
                </a:lnTo>
                <a:lnTo>
                  <a:pt x="86" y="96"/>
                </a:lnTo>
                <a:lnTo>
                  <a:pt x="84" y="100"/>
                </a:lnTo>
                <a:lnTo>
                  <a:pt x="81" y="103"/>
                </a:lnTo>
                <a:lnTo>
                  <a:pt x="77" y="105"/>
                </a:lnTo>
                <a:lnTo>
                  <a:pt x="73" y="107"/>
                </a:lnTo>
                <a:lnTo>
                  <a:pt x="55" y="115"/>
                </a:lnTo>
                <a:lnTo>
                  <a:pt x="45" y="119"/>
                </a:lnTo>
                <a:lnTo>
                  <a:pt x="44" y="116"/>
                </a:lnTo>
                <a:lnTo>
                  <a:pt x="41" y="113"/>
                </a:lnTo>
                <a:lnTo>
                  <a:pt x="38" y="112"/>
                </a:lnTo>
                <a:lnTo>
                  <a:pt x="34" y="109"/>
                </a:lnTo>
                <a:lnTo>
                  <a:pt x="24" y="105"/>
                </a:lnTo>
                <a:lnTo>
                  <a:pt x="13" y="99"/>
                </a:lnTo>
                <a:lnTo>
                  <a:pt x="5" y="89"/>
                </a:lnTo>
                <a:lnTo>
                  <a:pt x="0" y="71"/>
                </a:lnTo>
                <a:lnTo>
                  <a:pt x="0" y="71"/>
                </a:lnTo>
                <a:lnTo>
                  <a:pt x="0" y="7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478640" y="2471760"/>
            <a:ext cx="28800" cy="46080"/>
          </a:xfrm>
          <a:custGeom>
            <a:avLst/>
            <a:gdLst/>
            <a:ahLst/>
            <a:rect l="l" t="t" r="r" b="b"/>
            <a:pathLst>
              <a:path w="79" h="141">
                <a:moveTo>
                  <a:pt x="72" y="119"/>
                </a:moveTo>
                <a:lnTo>
                  <a:pt x="65" y="119"/>
                </a:lnTo>
                <a:lnTo>
                  <a:pt x="56" y="119"/>
                </a:lnTo>
                <a:lnTo>
                  <a:pt x="43" y="115"/>
                </a:lnTo>
                <a:lnTo>
                  <a:pt x="30" y="112"/>
                </a:lnTo>
                <a:lnTo>
                  <a:pt x="26" y="110"/>
                </a:lnTo>
                <a:lnTo>
                  <a:pt x="23" y="113"/>
                </a:lnTo>
                <a:lnTo>
                  <a:pt x="18" y="119"/>
                </a:lnTo>
                <a:lnTo>
                  <a:pt x="10" y="131"/>
                </a:lnTo>
                <a:lnTo>
                  <a:pt x="4" y="141"/>
                </a:lnTo>
                <a:lnTo>
                  <a:pt x="2" y="141"/>
                </a:lnTo>
                <a:lnTo>
                  <a:pt x="1" y="135"/>
                </a:lnTo>
                <a:lnTo>
                  <a:pt x="0" y="121"/>
                </a:lnTo>
                <a:lnTo>
                  <a:pt x="2" y="89"/>
                </a:lnTo>
                <a:lnTo>
                  <a:pt x="8" y="60"/>
                </a:lnTo>
                <a:lnTo>
                  <a:pt x="10" y="53"/>
                </a:lnTo>
                <a:lnTo>
                  <a:pt x="10" y="48"/>
                </a:lnTo>
                <a:lnTo>
                  <a:pt x="10" y="41"/>
                </a:lnTo>
                <a:lnTo>
                  <a:pt x="11" y="28"/>
                </a:lnTo>
                <a:lnTo>
                  <a:pt x="11" y="9"/>
                </a:lnTo>
                <a:lnTo>
                  <a:pt x="13" y="0"/>
                </a:lnTo>
                <a:lnTo>
                  <a:pt x="21" y="2"/>
                </a:lnTo>
                <a:lnTo>
                  <a:pt x="33" y="5"/>
                </a:lnTo>
                <a:lnTo>
                  <a:pt x="36" y="6"/>
                </a:lnTo>
                <a:lnTo>
                  <a:pt x="37" y="9"/>
                </a:lnTo>
                <a:lnTo>
                  <a:pt x="39" y="11"/>
                </a:lnTo>
                <a:lnTo>
                  <a:pt x="43" y="21"/>
                </a:lnTo>
                <a:lnTo>
                  <a:pt x="78" y="55"/>
                </a:lnTo>
                <a:lnTo>
                  <a:pt x="79" y="55"/>
                </a:lnTo>
                <a:lnTo>
                  <a:pt x="79" y="61"/>
                </a:lnTo>
                <a:lnTo>
                  <a:pt x="79" y="71"/>
                </a:lnTo>
                <a:lnTo>
                  <a:pt x="79" y="96"/>
                </a:lnTo>
                <a:lnTo>
                  <a:pt x="78" y="108"/>
                </a:lnTo>
                <a:lnTo>
                  <a:pt x="73" y="116"/>
                </a:lnTo>
                <a:lnTo>
                  <a:pt x="72" y="119"/>
                </a:lnTo>
                <a:lnTo>
                  <a:pt x="72" y="11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385040" y="2419200"/>
            <a:ext cx="85680" cy="127080"/>
          </a:xfrm>
          <a:custGeom>
            <a:avLst/>
            <a:gdLst/>
            <a:ahLst/>
            <a:rect l="l" t="t" r="r" b="b"/>
            <a:pathLst>
              <a:path w="255" h="386">
                <a:moveTo>
                  <a:pt x="116" y="156"/>
                </a:moveTo>
                <a:lnTo>
                  <a:pt x="123" y="152"/>
                </a:lnTo>
                <a:lnTo>
                  <a:pt x="139" y="140"/>
                </a:lnTo>
                <a:lnTo>
                  <a:pt x="165" y="118"/>
                </a:lnTo>
                <a:lnTo>
                  <a:pt x="192" y="94"/>
                </a:lnTo>
                <a:lnTo>
                  <a:pt x="199" y="86"/>
                </a:lnTo>
                <a:lnTo>
                  <a:pt x="202" y="91"/>
                </a:lnTo>
                <a:lnTo>
                  <a:pt x="207" y="102"/>
                </a:lnTo>
                <a:lnTo>
                  <a:pt x="212" y="114"/>
                </a:lnTo>
                <a:lnTo>
                  <a:pt x="216" y="139"/>
                </a:lnTo>
                <a:lnTo>
                  <a:pt x="216" y="156"/>
                </a:lnTo>
                <a:lnTo>
                  <a:pt x="222" y="152"/>
                </a:lnTo>
                <a:lnTo>
                  <a:pt x="239" y="136"/>
                </a:lnTo>
                <a:lnTo>
                  <a:pt x="254" y="123"/>
                </a:lnTo>
                <a:lnTo>
                  <a:pt x="255" y="121"/>
                </a:lnTo>
                <a:lnTo>
                  <a:pt x="255" y="134"/>
                </a:lnTo>
                <a:lnTo>
                  <a:pt x="255" y="172"/>
                </a:lnTo>
                <a:lnTo>
                  <a:pt x="250" y="269"/>
                </a:lnTo>
                <a:lnTo>
                  <a:pt x="236" y="310"/>
                </a:lnTo>
                <a:lnTo>
                  <a:pt x="226" y="324"/>
                </a:lnTo>
                <a:lnTo>
                  <a:pt x="213" y="334"/>
                </a:lnTo>
                <a:lnTo>
                  <a:pt x="199" y="337"/>
                </a:lnTo>
                <a:lnTo>
                  <a:pt x="199" y="337"/>
                </a:lnTo>
                <a:lnTo>
                  <a:pt x="199" y="334"/>
                </a:lnTo>
                <a:lnTo>
                  <a:pt x="199" y="327"/>
                </a:lnTo>
                <a:lnTo>
                  <a:pt x="203" y="308"/>
                </a:lnTo>
                <a:lnTo>
                  <a:pt x="206" y="291"/>
                </a:lnTo>
                <a:lnTo>
                  <a:pt x="207" y="286"/>
                </a:lnTo>
                <a:lnTo>
                  <a:pt x="184" y="288"/>
                </a:lnTo>
                <a:lnTo>
                  <a:pt x="148" y="297"/>
                </a:lnTo>
                <a:lnTo>
                  <a:pt x="122" y="311"/>
                </a:lnTo>
                <a:lnTo>
                  <a:pt x="100" y="331"/>
                </a:lnTo>
                <a:lnTo>
                  <a:pt x="52" y="376"/>
                </a:lnTo>
                <a:lnTo>
                  <a:pt x="37" y="386"/>
                </a:lnTo>
                <a:lnTo>
                  <a:pt x="37" y="385"/>
                </a:lnTo>
                <a:lnTo>
                  <a:pt x="38" y="375"/>
                </a:lnTo>
                <a:lnTo>
                  <a:pt x="44" y="336"/>
                </a:lnTo>
                <a:lnTo>
                  <a:pt x="48" y="301"/>
                </a:lnTo>
                <a:lnTo>
                  <a:pt x="50" y="297"/>
                </a:lnTo>
                <a:lnTo>
                  <a:pt x="41" y="294"/>
                </a:lnTo>
                <a:lnTo>
                  <a:pt x="31" y="288"/>
                </a:lnTo>
                <a:lnTo>
                  <a:pt x="22" y="282"/>
                </a:lnTo>
                <a:lnTo>
                  <a:pt x="21" y="279"/>
                </a:lnTo>
                <a:lnTo>
                  <a:pt x="16" y="260"/>
                </a:lnTo>
                <a:lnTo>
                  <a:pt x="8" y="199"/>
                </a:lnTo>
                <a:lnTo>
                  <a:pt x="2" y="153"/>
                </a:lnTo>
                <a:lnTo>
                  <a:pt x="2" y="150"/>
                </a:lnTo>
                <a:lnTo>
                  <a:pt x="0" y="136"/>
                </a:lnTo>
                <a:lnTo>
                  <a:pt x="0" y="100"/>
                </a:lnTo>
                <a:lnTo>
                  <a:pt x="8" y="26"/>
                </a:lnTo>
                <a:lnTo>
                  <a:pt x="12" y="13"/>
                </a:lnTo>
                <a:lnTo>
                  <a:pt x="18" y="4"/>
                </a:lnTo>
                <a:lnTo>
                  <a:pt x="21" y="1"/>
                </a:lnTo>
                <a:lnTo>
                  <a:pt x="23" y="0"/>
                </a:lnTo>
                <a:lnTo>
                  <a:pt x="28" y="1"/>
                </a:lnTo>
                <a:lnTo>
                  <a:pt x="31" y="2"/>
                </a:lnTo>
                <a:lnTo>
                  <a:pt x="35" y="7"/>
                </a:lnTo>
                <a:lnTo>
                  <a:pt x="39" y="13"/>
                </a:lnTo>
                <a:lnTo>
                  <a:pt x="41" y="13"/>
                </a:lnTo>
                <a:lnTo>
                  <a:pt x="45" y="23"/>
                </a:lnTo>
                <a:lnTo>
                  <a:pt x="52" y="44"/>
                </a:lnTo>
                <a:lnTo>
                  <a:pt x="57" y="69"/>
                </a:lnTo>
                <a:lnTo>
                  <a:pt x="60" y="120"/>
                </a:lnTo>
                <a:lnTo>
                  <a:pt x="61" y="150"/>
                </a:lnTo>
                <a:lnTo>
                  <a:pt x="68" y="146"/>
                </a:lnTo>
                <a:lnTo>
                  <a:pt x="83" y="134"/>
                </a:lnTo>
                <a:lnTo>
                  <a:pt x="92" y="127"/>
                </a:lnTo>
                <a:lnTo>
                  <a:pt x="96" y="126"/>
                </a:lnTo>
                <a:lnTo>
                  <a:pt x="99" y="124"/>
                </a:lnTo>
                <a:lnTo>
                  <a:pt x="102" y="126"/>
                </a:lnTo>
                <a:lnTo>
                  <a:pt x="103" y="127"/>
                </a:lnTo>
                <a:lnTo>
                  <a:pt x="105" y="130"/>
                </a:lnTo>
                <a:lnTo>
                  <a:pt x="108" y="136"/>
                </a:lnTo>
                <a:lnTo>
                  <a:pt x="112" y="144"/>
                </a:lnTo>
                <a:lnTo>
                  <a:pt x="115" y="156"/>
                </a:lnTo>
                <a:lnTo>
                  <a:pt x="116" y="156"/>
                </a:lnTo>
                <a:lnTo>
                  <a:pt x="116" y="156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261120" y="2573280"/>
            <a:ext cx="57240" cy="60480"/>
          </a:xfrm>
          <a:custGeom>
            <a:avLst/>
            <a:gdLst/>
            <a:ahLst/>
            <a:rect l="l" t="t" r="r" b="b"/>
            <a:pathLst>
              <a:path w="166" h="184">
                <a:moveTo>
                  <a:pt x="101" y="63"/>
                </a:moveTo>
                <a:lnTo>
                  <a:pt x="90" y="50"/>
                </a:lnTo>
                <a:lnTo>
                  <a:pt x="71" y="27"/>
                </a:lnTo>
                <a:lnTo>
                  <a:pt x="35" y="3"/>
                </a:lnTo>
                <a:lnTo>
                  <a:pt x="20" y="0"/>
                </a:lnTo>
                <a:lnTo>
                  <a:pt x="6" y="0"/>
                </a:lnTo>
                <a:lnTo>
                  <a:pt x="0" y="2"/>
                </a:lnTo>
                <a:lnTo>
                  <a:pt x="0" y="9"/>
                </a:lnTo>
                <a:lnTo>
                  <a:pt x="1" y="21"/>
                </a:lnTo>
                <a:lnTo>
                  <a:pt x="6" y="34"/>
                </a:lnTo>
                <a:lnTo>
                  <a:pt x="14" y="50"/>
                </a:lnTo>
                <a:lnTo>
                  <a:pt x="48" y="90"/>
                </a:lnTo>
                <a:lnTo>
                  <a:pt x="61" y="103"/>
                </a:lnTo>
                <a:lnTo>
                  <a:pt x="65" y="111"/>
                </a:lnTo>
                <a:lnTo>
                  <a:pt x="72" y="122"/>
                </a:lnTo>
                <a:lnTo>
                  <a:pt x="75" y="134"/>
                </a:lnTo>
                <a:lnTo>
                  <a:pt x="75" y="144"/>
                </a:lnTo>
                <a:lnTo>
                  <a:pt x="78" y="155"/>
                </a:lnTo>
                <a:lnTo>
                  <a:pt x="82" y="166"/>
                </a:lnTo>
                <a:lnTo>
                  <a:pt x="88" y="170"/>
                </a:lnTo>
                <a:lnTo>
                  <a:pt x="94" y="176"/>
                </a:lnTo>
                <a:lnTo>
                  <a:pt x="100" y="180"/>
                </a:lnTo>
                <a:lnTo>
                  <a:pt x="108" y="182"/>
                </a:lnTo>
                <a:lnTo>
                  <a:pt x="124" y="184"/>
                </a:lnTo>
                <a:lnTo>
                  <a:pt x="140" y="184"/>
                </a:lnTo>
                <a:lnTo>
                  <a:pt x="163" y="182"/>
                </a:lnTo>
                <a:lnTo>
                  <a:pt x="166" y="182"/>
                </a:lnTo>
                <a:lnTo>
                  <a:pt x="165" y="173"/>
                </a:lnTo>
                <a:lnTo>
                  <a:pt x="162" y="157"/>
                </a:lnTo>
                <a:lnTo>
                  <a:pt x="155" y="140"/>
                </a:lnTo>
                <a:lnTo>
                  <a:pt x="143" y="122"/>
                </a:lnTo>
                <a:lnTo>
                  <a:pt x="110" y="77"/>
                </a:lnTo>
                <a:lnTo>
                  <a:pt x="101" y="63"/>
                </a:lnTo>
                <a:lnTo>
                  <a:pt x="101" y="6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208560" y="2068560"/>
            <a:ext cx="1203480" cy="762120"/>
          </a:xfrm>
          <a:custGeom>
            <a:avLst/>
            <a:gdLst/>
            <a:ahLst/>
            <a:rect l="l" t="t" r="r" b="b"/>
            <a:pathLst>
              <a:path w="3486" h="2329">
                <a:moveTo>
                  <a:pt x="1701" y="1878"/>
                </a:moveTo>
                <a:lnTo>
                  <a:pt x="1702" y="1871"/>
                </a:lnTo>
                <a:lnTo>
                  <a:pt x="1708" y="1849"/>
                </a:lnTo>
                <a:lnTo>
                  <a:pt x="1713" y="1832"/>
                </a:lnTo>
                <a:lnTo>
                  <a:pt x="1714" y="1830"/>
                </a:lnTo>
                <a:lnTo>
                  <a:pt x="1721" y="1832"/>
                </a:lnTo>
                <a:lnTo>
                  <a:pt x="1744" y="1835"/>
                </a:lnTo>
                <a:lnTo>
                  <a:pt x="1762" y="1836"/>
                </a:lnTo>
                <a:lnTo>
                  <a:pt x="1763" y="1836"/>
                </a:lnTo>
                <a:lnTo>
                  <a:pt x="1762" y="1845"/>
                </a:lnTo>
                <a:lnTo>
                  <a:pt x="1762" y="1871"/>
                </a:lnTo>
                <a:lnTo>
                  <a:pt x="1762" y="1890"/>
                </a:lnTo>
                <a:lnTo>
                  <a:pt x="1762" y="1890"/>
                </a:lnTo>
                <a:lnTo>
                  <a:pt x="1766" y="1891"/>
                </a:lnTo>
                <a:lnTo>
                  <a:pt x="1775" y="1893"/>
                </a:lnTo>
                <a:lnTo>
                  <a:pt x="1797" y="1900"/>
                </a:lnTo>
                <a:lnTo>
                  <a:pt x="1855" y="1916"/>
                </a:lnTo>
                <a:lnTo>
                  <a:pt x="1911" y="1922"/>
                </a:lnTo>
                <a:lnTo>
                  <a:pt x="1913" y="1922"/>
                </a:lnTo>
                <a:lnTo>
                  <a:pt x="1927" y="1922"/>
                </a:lnTo>
                <a:lnTo>
                  <a:pt x="1976" y="1917"/>
                </a:lnTo>
                <a:lnTo>
                  <a:pt x="2014" y="1916"/>
                </a:lnTo>
                <a:lnTo>
                  <a:pt x="2017" y="1914"/>
                </a:lnTo>
                <a:lnTo>
                  <a:pt x="2024" y="1913"/>
                </a:lnTo>
                <a:lnTo>
                  <a:pt x="2033" y="1910"/>
                </a:lnTo>
                <a:lnTo>
                  <a:pt x="2039" y="1904"/>
                </a:lnTo>
                <a:lnTo>
                  <a:pt x="2046" y="1898"/>
                </a:lnTo>
                <a:lnTo>
                  <a:pt x="2056" y="1881"/>
                </a:lnTo>
                <a:lnTo>
                  <a:pt x="2066" y="1864"/>
                </a:lnTo>
                <a:lnTo>
                  <a:pt x="2089" y="1829"/>
                </a:lnTo>
                <a:lnTo>
                  <a:pt x="2091" y="1829"/>
                </a:lnTo>
                <a:lnTo>
                  <a:pt x="2099" y="1830"/>
                </a:lnTo>
                <a:lnTo>
                  <a:pt x="2118" y="1833"/>
                </a:lnTo>
                <a:lnTo>
                  <a:pt x="2134" y="1839"/>
                </a:lnTo>
                <a:lnTo>
                  <a:pt x="2173" y="1859"/>
                </a:lnTo>
                <a:lnTo>
                  <a:pt x="2217" y="1880"/>
                </a:lnTo>
                <a:lnTo>
                  <a:pt x="2226" y="1884"/>
                </a:lnTo>
                <a:lnTo>
                  <a:pt x="2252" y="1894"/>
                </a:lnTo>
                <a:lnTo>
                  <a:pt x="2272" y="1901"/>
                </a:lnTo>
                <a:lnTo>
                  <a:pt x="2273" y="1901"/>
                </a:lnTo>
                <a:lnTo>
                  <a:pt x="2276" y="1907"/>
                </a:lnTo>
                <a:lnTo>
                  <a:pt x="2278" y="1913"/>
                </a:lnTo>
                <a:lnTo>
                  <a:pt x="2276" y="1920"/>
                </a:lnTo>
                <a:lnTo>
                  <a:pt x="2275" y="1926"/>
                </a:lnTo>
                <a:lnTo>
                  <a:pt x="2270" y="1940"/>
                </a:lnTo>
                <a:lnTo>
                  <a:pt x="2266" y="1956"/>
                </a:lnTo>
                <a:lnTo>
                  <a:pt x="2265" y="1969"/>
                </a:lnTo>
                <a:lnTo>
                  <a:pt x="2269" y="1980"/>
                </a:lnTo>
                <a:lnTo>
                  <a:pt x="2270" y="1980"/>
                </a:lnTo>
                <a:lnTo>
                  <a:pt x="2275" y="1981"/>
                </a:lnTo>
                <a:lnTo>
                  <a:pt x="2285" y="1984"/>
                </a:lnTo>
                <a:lnTo>
                  <a:pt x="2295" y="1988"/>
                </a:lnTo>
                <a:lnTo>
                  <a:pt x="2317" y="1997"/>
                </a:lnTo>
                <a:lnTo>
                  <a:pt x="2331" y="2000"/>
                </a:lnTo>
                <a:lnTo>
                  <a:pt x="2343" y="2003"/>
                </a:lnTo>
                <a:lnTo>
                  <a:pt x="2369" y="2006"/>
                </a:lnTo>
                <a:lnTo>
                  <a:pt x="2421" y="2004"/>
                </a:lnTo>
                <a:lnTo>
                  <a:pt x="2470" y="2010"/>
                </a:lnTo>
                <a:lnTo>
                  <a:pt x="2482" y="2013"/>
                </a:lnTo>
                <a:lnTo>
                  <a:pt x="2483" y="2013"/>
                </a:lnTo>
                <a:lnTo>
                  <a:pt x="2495" y="2013"/>
                </a:lnTo>
                <a:lnTo>
                  <a:pt x="2530" y="2013"/>
                </a:lnTo>
                <a:lnTo>
                  <a:pt x="2549" y="2017"/>
                </a:lnTo>
                <a:lnTo>
                  <a:pt x="2556" y="2020"/>
                </a:lnTo>
                <a:lnTo>
                  <a:pt x="2562" y="2025"/>
                </a:lnTo>
                <a:lnTo>
                  <a:pt x="2565" y="2030"/>
                </a:lnTo>
                <a:lnTo>
                  <a:pt x="2566" y="2030"/>
                </a:lnTo>
                <a:lnTo>
                  <a:pt x="2563" y="2033"/>
                </a:lnTo>
                <a:lnTo>
                  <a:pt x="2562" y="2038"/>
                </a:lnTo>
                <a:lnTo>
                  <a:pt x="2560" y="2042"/>
                </a:lnTo>
                <a:lnTo>
                  <a:pt x="2560" y="2048"/>
                </a:lnTo>
                <a:lnTo>
                  <a:pt x="2560" y="2061"/>
                </a:lnTo>
                <a:lnTo>
                  <a:pt x="2559" y="2087"/>
                </a:lnTo>
                <a:lnTo>
                  <a:pt x="2554" y="2094"/>
                </a:lnTo>
                <a:lnTo>
                  <a:pt x="2549" y="2096"/>
                </a:lnTo>
                <a:lnTo>
                  <a:pt x="2543" y="2096"/>
                </a:lnTo>
                <a:lnTo>
                  <a:pt x="2534" y="2093"/>
                </a:lnTo>
                <a:lnTo>
                  <a:pt x="2515" y="2087"/>
                </a:lnTo>
                <a:lnTo>
                  <a:pt x="2485" y="2071"/>
                </a:lnTo>
                <a:lnTo>
                  <a:pt x="2483" y="2069"/>
                </a:lnTo>
                <a:lnTo>
                  <a:pt x="2483" y="2082"/>
                </a:lnTo>
                <a:lnTo>
                  <a:pt x="2486" y="2109"/>
                </a:lnTo>
                <a:lnTo>
                  <a:pt x="2495" y="2169"/>
                </a:lnTo>
                <a:lnTo>
                  <a:pt x="2495" y="2197"/>
                </a:lnTo>
                <a:lnTo>
                  <a:pt x="2491" y="2217"/>
                </a:lnTo>
                <a:lnTo>
                  <a:pt x="2486" y="2224"/>
                </a:lnTo>
                <a:lnTo>
                  <a:pt x="2480" y="2229"/>
                </a:lnTo>
                <a:lnTo>
                  <a:pt x="2476" y="2235"/>
                </a:lnTo>
                <a:lnTo>
                  <a:pt x="2472" y="2245"/>
                </a:lnTo>
                <a:lnTo>
                  <a:pt x="2467" y="2271"/>
                </a:lnTo>
                <a:lnTo>
                  <a:pt x="2465" y="2297"/>
                </a:lnTo>
                <a:lnTo>
                  <a:pt x="2466" y="2319"/>
                </a:lnTo>
                <a:lnTo>
                  <a:pt x="2469" y="2326"/>
                </a:lnTo>
                <a:lnTo>
                  <a:pt x="2472" y="2329"/>
                </a:lnTo>
                <a:lnTo>
                  <a:pt x="2475" y="2326"/>
                </a:lnTo>
                <a:lnTo>
                  <a:pt x="2476" y="2326"/>
                </a:lnTo>
                <a:lnTo>
                  <a:pt x="2485" y="2311"/>
                </a:lnTo>
                <a:lnTo>
                  <a:pt x="2515" y="2268"/>
                </a:lnTo>
                <a:lnTo>
                  <a:pt x="2538" y="2235"/>
                </a:lnTo>
                <a:lnTo>
                  <a:pt x="2540" y="2232"/>
                </a:lnTo>
                <a:lnTo>
                  <a:pt x="2541" y="2232"/>
                </a:lnTo>
                <a:lnTo>
                  <a:pt x="2554" y="2230"/>
                </a:lnTo>
                <a:lnTo>
                  <a:pt x="2599" y="2223"/>
                </a:lnTo>
                <a:lnTo>
                  <a:pt x="2634" y="2219"/>
                </a:lnTo>
                <a:lnTo>
                  <a:pt x="2637" y="2217"/>
                </a:lnTo>
                <a:lnTo>
                  <a:pt x="2638" y="2211"/>
                </a:lnTo>
                <a:lnTo>
                  <a:pt x="2646" y="2194"/>
                </a:lnTo>
                <a:lnTo>
                  <a:pt x="2650" y="2180"/>
                </a:lnTo>
                <a:lnTo>
                  <a:pt x="2651" y="2178"/>
                </a:lnTo>
                <a:lnTo>
                  <a:pt x="2651" y="2177"/>
                </a:lnTo>
                <a:lnTo>
                  <a:pt x="2649" y="2174"/>
                </a:lnTo>
                <a:lnTo>
                  <a:pt x="2643" y="2172"/>
                </a:lnTo>
                <a:lnTo>
                  <a:pt x="2634" y="2172"/>
                </a:lnTo>
                <a:lnTo>
                  <a:pt x="2614" y="2171"/>
                </a:lnTo>
                <a:lnTo>
                  <a:pt x="2583" y="2171"/>
                </a:lnTo>
                <a:lnTo>
                  <a:pt x="2588" y="2171"/>
                </a:lnTo>
                <a:lnTo>
                  <a:pt x="2596" y="2164"/>
                </a:lnTo>
                <a:lnTo>
                  <a:pt x="2621" y="2143"/>
                </a:lnTo>
                <a:lnTo>
                  <a:pt x="2680" y="2098"/>
                </a:lnTo>
                <a:lnTo>
                  <a:pt x="2709" y="2082"/>
                </a:lnTo>
                <a:lnTo>
                  <a:pt x="2734" y="2074"/>
                </a:lnTo>
                <a:lnTo>
                  <a:pt x="2744" y="2074"/>
                </a:lnTo>
                <a:lnTo>
                  <a:pt x="2746" y="2071"/>
                </a:lnTo>
                <a:lnTo>
                  <a:pt x="2757" y="2052"/>
                </a:lnTo>
                <a:lnTo>
                  <a:pt x="2799" y="1983"/>
                </a:lnTo>
                <a:lnTo>
                  <a:pt x="2830" y="1930"/>
                </a:lnTo>
                <a:lnTo>
                  <a:pt x="2833" y="1926"/>
                </a:lnTo>
                <a:lnTo>
                  <a:pt x="2833" y="1923"/>
                </a:lnTo>
                <a:lnTo>
                  <a:pt x="2835" y="1920"/>
                </a:lnTo>
                <a:lnTo>
                  <a:pt x="2840" y="1917"/>
                </a:lnTo>
                <a:lnTo>
                  <a:pt x="2844" y="1916"/>
                </a:lnTo>
                <a:lnTo>
                  <a:pt x="2857" y="1914"/>
                </a:lnTo>
                <a:lnTo>
                  <a:pt x="2873" y="1913"/>
                </a:lnTo>
                <a:lnTo>
                  <a:pt x="2909" y="1912"/>
                </a:lnTo>
                <a:lnTo>
                  <a:pt x="2944" y="1909"/>
                </a:lnTo>
                <a:lnTo>
                  <a:pt x="2960" y="1904"/>
                </a:lnTo>
                <a:lnTo>
                  <a:pt x="2973" y="1897"/>
                </a:lnTo>
                <a:lnTo>
                  <a:pt x="2982" y="1885"/>
                </a:lnTo>
                <a:lnTo>
                  <a:pt x="2986" y="1871"/>
                </a:lnTo>
                <a:lnTo>
                  <a:pt x="2988" y="1871"/>
                </a:lnTo>
                <a:lnTo>
                  <a:pt x="2990" y="1871"/>
                </a:lnTo>
                <a:lnTo>
                  <a:pt x="2993" y="1869"/>
                </a:lnTo>
                <a:lnTo>
                  <a:pt x="2996" y="1867"/>
                </a:lnTo>
                <a:lnTo>
                  <a:pt x="2999" y="1862"/>
                </a:lnTo>
                <a:lnTo>
                  <a:pt x="3004" y="1851"/>
                </a:lnTo>
                <a:lnTo>
                  <a:pt x="3008" y="1835"/>
                </a:lnTo>
                <a:lnTo>
                  <a:pt x="3015" y="1797"/>
                </a:lnTo>
                <a:lnTo>
                  <a:pt x="3027" y="1717"/>
                </a:lnTo>
                <a:lnTo>
                  <a:pt x="3033" y="1688"/>
                </a:lnTo>
                <a:lnTo>
                  <a:pt x="3037" y="1688"/>
                </a:lnTo>
                <a:lnTo>
                  <a:pt x="3050" y="1687"/>
                </a:lnTo>
                <a:lnTo>
                  <a:pt x="3080" y="1683"/>
                </a:lnTo>
                <a:lnTo>
                  <a:pt x="3108" y="1680"/>
                </a:lnTo>
                <a:lnTo>
                  <a:pt x="3114" y="1678"/>
                </a:lnTo>
                <a:lnTo>
                  <a:pt x="3114" y="1681"/>
                </a:lnTo>
                <a:lnTo>
                  <a:pt x="3115" y="1691"/>
                </a:lnTo>
                <a:lnTo>
                  <a:pt x="3119" y="1730"/>
                </a:lnTo>
                <a:lnTo>
                  <a:pt x="3124" y="1759"/>
                </a:lnTo>
                <a:lnTo>
                  <a:pt x="3125" y="1761"/>
                </a:lnTo>
                <a:lnTo>
                  <a:pt x="3130" y="1769"/>
                </a:lnTo>
                <a:lnTo>
                  <a:pt x="3141" y="1785"/>
                </a:lnTo>
                <a:lnTo>
                  <a:pt x="3169" y="1810"/>
                </a:lnTo>
                <a:lnTo>
                  <a:pt x="3202" y="1832"/>
                </a:lnTo>
                <a:lnTo>
                  <a:pt x="3212" y="1838"/>
                </a:lnTo>
                <a:lnTo>
                  <a:pt x="3230" y="1816"/>
                </a:lnTo>
                <a:lnTo>
                  <a:pt x="3259" y="1783"/>
                </a:lnTo>
                <a:lnTo>
                  <a:pt x="3293" y="1746"/>
                </a:lnTo>
                <a:lnTo>
                  <a:pt x="3319" y="1726"/>
                </a:lnTo>
                <a:lnTo>
                  <a:pt x="3328" y="1720"/>
                </a:lnTo>
                <a:lnTo>
                  <a:pt x="3316" y="1746"/>
                </a:lnTo>
                <a:lnTo>
                  <a:pt x="3298" y="1785"/>
                </a:lnTo>
                <a:lnTo>
                  <a:pt x="3283" y="1816"/>
                </a:lnTo>
                <a:lnTo>
                  <a:pt x="3276" y="1839"/>
                </a:lnTo>
                <a:lnTo>
                  <a:pt x="3276" y="1851"/>
                </a:lnTo>
                <a:lnTo>
                  <a:pt x="3279" y="1861"/>
                </a:lnTo>
                <a:lnTo>
                  <a:pt x="3285" y="1871"/>
                </a:lnTo>
                <a:lnTo>
                  <a:pt x="3295" y="1883"/>
                </a:lnTo>
                <a:lnTo>
                  <a:pt x="3308" y="1894"/>
                </a:lnTo>
                <a:lnTo>
                  <a:pt x="3309" y="1894"/>
                </a:lnTo>
                <a:lnTo>
                  <a:pt x="3325" y="1885"/>
                </a:lnTo>
                <a:lnTo>
                  <a:pt x="3348" y="1867"/>
                </a:lnTo>
                <a:lnTo>
                  <a:pt x="3360" y="1846"/>
                </a:lnTo>
                <a:lnTo>
                  <a:pt x="3364" y="1823"/>
                </a:lnTo>
                <a:lnTo>
                  <a:pt x="3366" y="1801"/>
                </a:lnTo>
                <a:lnTo>
                  <a:pt x="3369" y="1778"/>
                </a:lnTo>
                <a:lnTo>
                  <a:pt x="3373" y="1765"/>
                </a:lnTo>
                <a:lnTo>
                  <a:pt x="3379" y="1767"/>
                </a:lnTo>
                <a:lnTo>
                  <a:pt x="3382" y="1765"/>
                </a:lnTo>
                <a:lnTo>
                  <a:pt x="3386" y="1762"/>
                </a:lnTo>
                <a:lnTo>
                  <a:pt x="3396" y="1754"/>
                </a:lnTo>
                <a:lnTo>
                  <a:pt x="3421" y="1732"/>
                </a:lnTo>
                <a:lnTo>
                  <a:pt x="3467" y="1675"/>
                </a:lnTo>
                <a:lnTo>
                  <a:pt x="3486" y="1646"/>
                </a:lnTo>
                <a:lnTo>
                  <a:pt x="3485" y="1646"/>
                </a:lnTo>
                <a:lnTo>
                  <a:pt x="3480" y="1646"/>
                </a:lnTo>
                <a:lnTo>
                  <a:pt x="3464" y="1645"/>
                </a:lnTo>
                <a:lnTo>
                  <a:pt x="3451" y="1643"/>
                </a:lnTo>
                <a:lnTo>
                  <a:pt x="3451" y="1642"/>
                </a:lnTo>
                <a:lnTo>
                  <a:pt x="3448" y="1643"/>
                </a:lnTo>
                <a:lnTo>
                  <a:pt x="3437" y="1649"/>
                </a:lnTo>
                <a:lnTo>
                  <a:pt x="3405" y="1662"/>
                </a:lnTo>
                <a:lnTo>
                  <a:pt x="3377" y="1674"/>
                </a:lnTo>
                <a:lnTo>
                  <a:pt x="3376" y="1675"/>
                </a:lnTo>
                <a:lnTo>
                  <a:pt x="3356" y="1683"/>
                </a:lnTo>
                <a:lnTo>
                  <a:pt x="3318" y="1685"/>
                </a:lnTo>
                <a:lnTo>
                  <a:pt x="3283" y="1675"/>
                </a:lnTo>
                <a:lnTo>
                  <a:pt x="3253" y="1656"/>
                </a:lnTo>
                <a:lnTo>
                  <a:pt x="3230" y="1630"/>
                </a:lnTo>
                <a:lnTo>
                  <a:pt x="3214" y="1600"/>
                </a:lnTo>
                <a:lnTo>
                  <a:pt x="3211" y="1583"/>
                </a:lnTo>
                <a:lnTo>
                  <a:pt x="3206" y="1584"/>
                </a:lnTo>
                <a:lnTo>
                  <a:pt x="3199" y="1585"/>
                </a:lnTo>
                <a:lnTo>
                  <a:pt x="3180" y="1591"/>
                </a:lnTo>
                <a:lnTo>
                  <a:pt x="3134" y="1609"/>
                </a:lnTo>
                <a:lnTo>
                  <a:pt x="3105" y="1616"/>
                </a:lnTo>
                <a:lnTo>
                  <a:pt x="3105" y="1607"/>
                </a:lnTo>
                <a:lnTo>
                  <a:pt x="3109" y="1599"/>
                </a:lnTo>
                <a:lnTo>
                  <a:pt x="3118" y="1590"/>
                </a:lnTo>
                <a:lnTo>
                  <a:pt x="3130" y="1580"/>
                </a:lnTo>
                <a:lnTo>
                  <a:pt x="3157" y="1562"/>
                </a:lnTo>
                <a:lnTo>
                  <a:pt x="3208" y="1522"/>
                </a:lnTo>
                <a:lnTo>
                  <a:pt x="3218" y="1499"/>
                </a:lnTo>
                <a:lnTo>
                  <a:pt x="3188" y="1487"/>
                </a:lnTo>
                <a:lnTo>
                  <a:pt x="3140" y="1481"/>
                </a:lnTo>
                <a:lnTo>
                  <a:pt x="3102" y="1496"/>
                </a:lnTo>
                <a:lnTo>
                  <a:pt x="3073" y="1523"/>
                </a:lnTo>
                <a:lnTo>
                  <a:pt x="3046" y="1561"/>
                </a:lnTo>
                <a:lnTo>
                  <a:pt x="3015" y="1600"/>
                </a:lnTo>
                <a:lnTo>
                  <a:pt x="2999" y="1619"/>
                </a:lnTo>
                <a:lnTo>
                  <a:pt x="2995" y="1607"/>
                </a:lnTo>
                <a:lnTo>
                  <a:pt x="2993" y="1594"/>
                </a:lnTo>
                <a:lnTo>
                  <a:pt x="2996" y="1580"/>
                </a:lnTo>
                <a:lnTo>
                  <a:pt x="3001" y="1567"/>
                </a:lnTo>
                <a:lnTo>
                  <a:pt x="3012" y="1538"/>
                </a:lnTo>
                <a:lnTo>
                  <a:pt x="3040" y="1481"/>
                </a:lnTo>
                <a:lnTo>
                  <a:pt x="3046" y="1452"/>
                </a:lnTo>
                <a:lnTo>
                  <a:pt x="3057" y="1429"/>
                </a:lnTo>
                <a:lnTo>
                  <a:pt x="3076" y="1409"/>
                </a:lnTo>
                <a:lnTo>
                  <a:pt x="3099" y="1394"/>
                </a:lnTo>
                <a:lnTo>
                  <a:pt x="3127" y="1381"/>
                </a:lnTo>
                <a:lnTo>
                  <a:pt x="3186" y="1362"/>
                </a:lnTo>
                <a:lnTo>
                  <a:pt x="3245" y="1345"/>
                </a:lnTo>
                <a:lnTo>
                  <a:pt x="3296" y="1319"/>
                </a:lnTo>
                <a:lnTo>
                  <a:pt x="3315" y="1301"/>
                </a:lnTo>
                <a:lnTo>
                  <a:pt x="3327" y="1278"/>
                </a:lnTo>
                <a:lnTo>
                  <a:pt x="3328" y="1278"/>
                </a:lnTo>
                <a:lnTo>
                  <a:pt x="3331" y="1268"/>
                </a:lnTo>
                <a:lnTo>
                  <a:pt x="3335" y="1245"/>
                </a:lnTo>
                <a:lnTo>
                  <a:pt x="3340" y="1200"/>
                </a:lnTo>
                <a:lnTo>
                  <a:pt x="3356" y="1159"/>
                </a:lnTo>
                <a:lnTo>
                  <a:pt x="3364" y="1149"/>
                </a:lnTo>
                <a:lnTo>
                  <a:pt x="3374" y="1135"/>
                </a:lnTo>
                <a:lnTo>
                  <a:pt x="3389" y="1100"/>
                </a:lnTo>
                <a:lnTo>
                  <a:pt x="3393" y="1059"/>
                </a:lnTo>
                <a:lnTo>
                  <a:pt x="3389" y="1022"/>
                </a:lnTo>
                <a:lnTo>
                  <a:pt x="3373" y="987"/>
                </a:lnTo>
                <a:lnTo>
                  <a:pt x="3345" y="964"/>
                </a:lnTo>
                <a:lnTo>
                  <a:pt x="3328" y="957"/>
                </a:lnTo>
                <a:lnTo>
                  <a:pt x="3327" y="958"/>
                </a:lnTo>
                <a:lnTo>
                  <a:pt x="3321" y="961"/>
                </a:lnTo>
                <a:lnTo>
                  <a:pt x="3301" y="970"/>
                </a:lnTo>
                <a:lnTo>
                  <a:pt x="3286" y="975"/>
                </a:lnTo>
                <a:lnTo>
                  <a:pt x="3286" y="975"/>
                </a:lnTo>
                <a:lnTo>
                  <a:pt x="3280" y="973"/>
                </a:lnTo>
                <a:lnTo>
                  <a:pt x="3264" y="964"/>
                </a:lnTo>
                <a:lnTo>
                  <a:pt x="3253" y="957"/>
                </a:lnTo>
                <a:lnTo>
                  <a:pt x="3253" y="955"/>
                </a:lnTo>
                <a:lnTo>
                  <a:pt x="3243" y="962"/>
                </a:lnTo>
                <a:lnTo>
                  <a:pt x="3234" y="974"/>
                </a:lnTo>
                <a:lnTo>
                  <a:pt x="3227" y="990"/>
                </a:lnTo>
                <a:lnTo>
                  <a:pt x="3215" y="1026"/>
                </a:lnTo>
                <a:lnTo>
                  <a:pt x="3198" y="1099"/>
                </a:lnTo>
                <a:lnTo>
                  <a:pt x="3186" y="1116"/>
                </a:lnTo>
                <a:lnTo>
                  <a:pt x="3186" y="1112"/>
                </a:lnTo>
                <a:lnTo>
                  <a:pt x="3186" y="1104"/>
                </a:lnTo>
                <a:lnTo>
                  <a:pt x="3185" y="1084"/>
                </a:lnTo>
                <a:lnTo>
                  <a:pt x="3180" y="1032"/>
                </a:lnTo>
                <a:lnTo>
                  <a:pt x="3186" y="993"/>
                </a:lnTo>
                <a:lnTo>
                  <a:pt x="3189" y="987"/>
                </a:lnTo>
                <a:lnTo>
                  <a:pt x="3198" y="973"/>
                </a:lnTo>
                <a:lnTo>
                  <a:pt x="3217" y="941"/>
                </a:lnTo>
                <a:lnTo>
                  <a:pt x="3222" y="928"/>
                </a:lnTo>
                <a:lnTo>
                  <a:pt x="3222" y="922"/>
                </a:lnTo>
                <a:lnTo>
                  <a:pt x="3222" y="917"/>
                </a:lnTo>
                <a:lnTo>
                  <a:pt x="3222" y="915"/>
                </a:lnTo>
                <a:lnTo>
                  <a:pt x="3212" y="919"/>
                </a:lnTo>
                <a:lnTo>
                  <a:pt x="3188" y="926"/>
                </a:lnTo>
                <a:lnTo>
                  <a:pt x="3161" y="929"/>
                </a:lnTo>
                <a:lnTo>
                  <a:pt x="3109" y="933"/>
                </a:lnTo>
                <a:lnTo>
                  <a:pt x="3082" y="938"/>
                </a:lnTo>
                <a:lnTo>
                  <a:pt x="3075" y="935"/>
                </a:lnTo>
                <a:lnTo>
                  <a:pt x="3059" y="926"/>
                </a:lnTo>
                <a:lnTo>
                  <a:pt x="3030" y="913"/>
                </a:lnTo>
                <a:lnTo>
                  <a:pt x="3004" y="897"/>
                </a:lnTo>
                <a:lnTo>
                  <a:pt x="2999" y="893"/>
                </a:lnTo>
                <a:lnTo>
                  <a:pt x="3002" y="890"/>
                </a:lnTo>
                <a:lnTo>
                  <a:pt x="3011" y="880"/>
                </a:lnTo>
                <a:lnTo>
                  <a:pt x="3017" y="867"/>
                </a:lnTo>
                <a:lnTo>
                  <a:pt x="3018" y="864"/>
                </a:lnTo>
                <a:lnTo>
                  <a:pt x="3001" y="849"/>
                </a:lnTo>
                <a:lnTo>
                  <a:pt x="2959" y="818"/>
                </a:lnTo>
                <a:lnTo>
                  <a:pt x="2859" y="757"/>
                </a:lnTo>
                <a:lnTo>
                  <a:pt x="2763" y="690"/>
                </a:lnTo>
                <a:lnTo>
                  <a:pt x="2744" y="671"/>
                </a:lnTo>
                <a:lnTo>
                  <a:pt x="2738" y="680"/>
                </a:lnTo>
                <a:lnTo>
                  <a:pt x="2734" y="689"/>
                </a:lnTo>
                <a:lnTo>
                  <a:pt x="2733" y="700"/>
                </a:lnTo>
                <a:lnTo>
                  <a:pt x="2731" y="712"/>
                </a:lnTo>
                <a:lnTo>
                  <a:pt x="2734" y="736"/>
                </a:lnTo>
                <a:lnTo>
                  <a:pt x="2747" y="784"/>
                </a:lnTo>
                <a:lnTo>
                  <a:pt x="2753" y="800"/>
                </a:lnTo>
                <a:lnTo>
                  <a:pt x="2750" y="806"/>
                </a:lnTo>
                <a:lnTo>
                  <a:pt x="2744" y="819"/>
                </a:lnTo>
                <a:lnTo>
                  <a:pt x="2728" y="849"/>
                </a:lnTo>
                <a:lnTo>
                  <a:pt x="2712" y="878"/>
                </a:lnTo>
                <a:lnTo>
                  <a:pt x="2708" y="883"/>
                </a:lnTo>
                <a:lnTo>
                  <a:pt x="2701" y="878"/>
                </a:lnTo>
                <a:lnTo>
                  <a:pt x="2688" y="871"/>
                </a:lnTo>
                <a:lnTo>
                  <a:pt x="2664" y="861"/>
                </a:lnTo>
                <a:lnTo>
                  <a:pt x="2640" y="857"/>
                </a:lnTo>
                <a:lnTo>
                  <a:pt x="2634" y="855"/>
                </a:lnTo>
                <a:lnTo>
                  <a:pt x="2624" y="838"/>
                </a:lnTo>
                <a:lnTo>
                  <a:pt x="2607" y="802"/>
                </a:lnTo>
                <a:lnTo>
                  <a:pt x="2565" y="744"/>
                </a:lnTo>
                <a:lnTo>
                  <a:pt x="2536" y="725"/>
                </a:lnTo>
                <a:lnTo>
                  <a:pt x="2499" y="718"/>
                </a:lnTo>
                <a:lnTo>
                  <a:pt x="2479" y="718"/>
                </a:lnTo>
                <a:lnTo>
                  <a:pt x="2467" y="718"/>
                </a:lnTo>
                <a:lnTo>
                  <a:pt x="2457" y="713"/>
                </a:lnTo>
                <a:lnTo>
                  <a:pt x="2449" y="709"/>
                </a:lnTo>
                <a:lnTo>
                  <a:pt x="2431" y="696"/>
                </a:lnTo>
                <a:lnTo>
                  <a:pt x="2395" y="671"/>
                </a:lnTo>
                <a:lnTo>
                  <a:pt x="2360" y="671"/>
                </a:lnTo>
                <a:lnTo>
                  <a:pt x="2357" y="673"/>
                </a:lnTo>
                <a:lnTo>
                  <a:pt x="2354" y="674"/>
                </a:lnTo>
                <a:lnTo>
                  <a:pt x="2352" y="678"/>
                </a:lnTo>
                <a:lnTo>
                  <a:pt x="2346" y="686"/>
                </a:lnTo>
                <a:lnTo>
                  <a:pt x="2336" y="707"/>
                </a:lnTo>
                <a:lnTo>
                  <a:pt x="2334" y="718"/>
                </a:lnTo>
                <a:lnTo>
                  <a:pt x="2325" y="716"/>
                </a:lnTo>
                <a:lnTo>
                  <a:pt x="2307" y="713"/>
                </a:lnTo>
                <a:lnTo>
                  <a:pt x="2265" y="713"/>
                </a:lnTo>
                <a:lnTo>
                  <a:pt x="2244" y="718"/>
                </a:lnTo>
                <a:lnTo>
                  <a:pt x="2228" y="723"/>
                </a:lnTo>
                <a:lnTo>
                  <a:pt x="2224" y="728"/>
                </a:lnTo>
                <a:lnTo>
                  <a:pt x="2224" y="736"/>
                </a:lnTo>
                <a:lnTo>
                  <a:pt x="2226" y="745"/>
                </a:lnTo>
                <a:lnTo>
                  <a:pt x="2233" y="767"/>
                </a:lnTo>
                <a:lnTo>
                  <a:pt x="2247" y="813"/>
                </a:lnTo>
                <a:lnTo>
                  <a:pt x="2252" y="846"/>
                </a:lnTo>
                <a:lnTo>
                  <a:pt x="2265" y="865"/>
                </a:lnTo>
                <a:lnTo>
                  <a:pt x="2288" y="894"/>
                </a:lnTo>
                <a:lnTo>
                  <a:pt x="2302" y="916"/>
                </a:lnTo>
                <a:lnTo>
                  <a:pt x="2310" y="936"/>
                </a:lnTo>
                <a:lnTo>
                  <a:pt x="2308" y="961"/>
                </a:lnTo>
                <a:lnTo>
                  <a:pt x="2296" y="991"/>
                </a:lnTo>
                <a:lnTo>
                  <a:pt x="2288" y="1012"/>
                </a:lnTo>
                <a:lnTo>
                  <a:pt x="2305" y="1022"/>
                </a:lnTo>
                <a:lnTo>
                  <a:pt x="2339" y="1041"/>
                </a:lnTo>
                <a:lnTo>
                  <a:pt x="2392" y="1087"/>
                </a:lnTo>
                <a:lnTo>
                  <a:pt x="2428" y="1149"/>
                </a:lnTo>
                <a:lnTo>
                  <a:pt x="2434" y="1168"/>
                </a:lnTo>
                <a:lnTo>
                  <a:pt x="2436" y="1186"/>
                </a:lnTo>
                <a:lnTo>
                  <a:pt x="2436" y="1201"/>
                </a:lnTo>
                <a:lnTo>
                  <a:pt x="2431" y="1215"/>
                </a:lnTo>
                <a:lnTo>
                  <a:pt x="2425" y="1228"/>
                </a:lnTo>
                <a:lnTo>
                  <a:pt x="2418" y="1239"/>
                </a:lnTo>
                <a:lnTo>
                  <a:pt x="2401" y="1259"/>
                </a:lnTo>
                <a:lnTo>
                  <a:pt x="2365" y="1303"/>
                </a:lnTo>
                <a:lnTo>
                  <a:pt x="2360" y="1316"/>
                </a:lnTo>
                <a:lnTo>
                  <a:pt x="2359" y="1328"/>
                </a:lnTo>
                <a:lnTo>
                  <a:pt x="2363" y="1341"/>
                </a:lnTo>
                <a:lnTo>
                  <a:pt x="2369" y="1357"/>
                </a:lnTo>
                <a:lnTo>
                  <a:pt x="2388" y="1393"/>
                </a:lnTo>
                <a:lnTo>
                  <a:pt x="2436" y="1468"/>
                </a:lnTo>
                <a:lnTo>
                  <a:pt x="2460" y="1509"/>
                </a:lnTo>
                <a:lnTo>
                  <a:pt x="2454" y="1520"/>
                </a:lnTo>
                <a:lnTo>
                  <a:pt x="2450" y="1538"/>
                </a:lnTo>
                <a:lnTo>
                  <a:pt x="2449" y="1546"/>
                </a:lnTo>
                <a:lnTo>
                  <a:pt x="2447" y="1551"/>
                </a:lnTo>
                <a:lnTo>
                  <a:pt x="2444" y="1554"/>
                </a:lnTo>
                <a:lnTo>
                  <a:pt x="2440" y="1556"/>
                </a:lnTo>
                <a:lnTo>
                  <a:pt x="2433" y="1559"/>
                </a:lnTo>
                <a:lnTo>
                  <a:pt x="2408" y="1568"/>
                </a:lnTo>
                <a:lnTo>
                  <a:pt x="2389" y="1572"/>
                </a:lnTo>
                <a:lnTo>
                  <a:pt x="2362" y="1548"/>
                </a:lnTo>
                <a:lnTo>
                  <a:pt x="2318" y="1512"/>
                </a:lnTo>
                <a:lnTo>
                  <a:pt x="2288" y="1484"/>
                </a:lnTo>
                <a:lnTo>
                  <a:pt x="2268" y="1458"/>
                </a:lnTo>
                <a:lnTo>
                  <a:pt x="2256" y="1420"/>
                </a:lnTo>
                <a:lnTo>
                  <a:pt x="2252" y="1364"/>
                </a:lnTo>
                <a:lnTo>
                  <a:pt x="2252" y="1325"/>
                </a:lnTo>
                <a:lnTo>
                  <a:pt x="2241" y="1317"/>
                </a:lnTo>
                <a:lnTo>
                  <a:pt x="2233" y="1312"/>
                </a:lnTo>
                <a:lnTo>
                  <a:pt x="2227" y="1310"/>
                </a:lnTo>
                <a:lnTo>
                  <a:pt x="2221" y="1310"/>
                </a:lnTo>
                <a:lnTo>
                  <a:pt x="2215" y="1312"/>
                </a:lnTo>
                <a:lnTo>
                  <a:pt x="2211" y="1315"/>
                </a:lnTo>
                <a:lnTo>
                  <a:pt x="2199" y="1323"/>
                </a:lnTo>
                <a:lnTo>
                  <a:pt x="2183" y="1330"/>
                </a:lnTo>
                <a:lnTo>
                  <a:pt x="2160" y="1333"/>
                </a:lnTo>
                <a:lnTo>
                  <a:pt x="2160" y="1333"/>
                </a:lnTo>
                <a:lnTo>
                  <a:pt x="2134" y="1333"/>
                </a:lnTo>
                <a:lnTo>
                  <a:pt x="2105" y="1326"/>
                </a:lnTo>
                <a:lnTo>
                  <a:pt x="2040" y="1300"/>
                </a:lnTo>
                <a:lnTo>
                  <a:pt x="1901" y="1242"/>
                </a:lnTo>
                <a:lnTo>
                  <a:pt x="1795" y="1251"/>
                </a:lnTo>
                <a:lnTo>
                  <a:pt x="1789" y="1242"/>
                </a:lnTo>
                <a:lnTo>
                  <a:pt x="1781" y="1220"/>
                </a:lnTo>
                <a:lnTo>
                  <a:pt x="1765" y="1170"/>
                </a:lnTo>
                <a:lnTo>
                  <a:pt x="1750" y="1123"/>
                </a:lnTo>
                <a:lnTo>
                  <a:pt x="1749" y="1113"/>
                </a:lnTo>
                <a:lnTo>
                  <a:pt x="1743" y="1115"/>
                </a:lnTo>
                <a:lnTo>
                  <a:pt x="1733" y="1115"/>
                </a:lnTo>
                <a:lnTo>
                  <a:pt x="1711" y="1119"/>
                </a:lnTo>
                <a:lnTo>
                  <a:pt x="1691" y="1122"/>
                </a:lnTo>
                <a:lnTo>
                  <a:pt x="1687" y="1122"/>
                </a:lnTo>
                <a:lnTo>
                  <a:pt x="1663" y="1094"/>
                </a:lnTo>
                <a:lnTo>
                  <a:pt x="1653" y="1064"/>
                </a:lnTo>
                <a:lnTo>
                  <a:pt x="1650" y="1032"/>
                </a:lnTo>
                <a:lnTo>
                  <a:pt x="1656" y="1000"/>
                </a:lnTo>
                <a:lnTo>
                  <a:pt x="1668" y="967"/>
                </a:lnTo>
                <a:lnTo>
                  <a:pt x="1704" y="904"/>
                </a:lnTo>
                <a:lnTo>
                  <a:pt x="1746" y="846"/>
                </a:lnTo>
                <a:lnTo>
                  <a:pt x="1782" y="800"/>
                </a:lnTo>
                <a:lnTo>
                  <a:pt x="1795" y="781"/>
                </a:lnTo>
                <a:lnTo>
                  <a:pt x="1794" y="777"/>
                </a:lnTo>
                <a:lnTo>
                  <a:pt x="1792" y="774"/>
                </a:lnTo>
                <a:lnTo>
                  <a:pt x="1788" y="768"/>
                </a:lnTo>
                <a:lnTo>
                  <a:pt x="1779" y="758"/>
                </a:lnTo>
                <a:lnTo>
                  <a:pt x="1778" y="754"/>
                </a:lnTo>
                <a:lnTo>
                  <a:pt x="1782" y="749"/>
                </a:lnTo>
                <a:lnTo>
                  <a:pt x="1798" y="731"/>
                </a:lnTo>
                <a:lnTo>
                  <a:pt x="1842" y="680"/>
                </a:lnTo>
                <a:lnTo>
                  <a:pt x="1879" y="629"/>
                </a:lnTo>
                <a:lnTo>
                  <a:pt x="1886" y="618"/>
                </a:lnTo>
                <a:lnTo>
                  <a:pt x="1885" y="619"/>
                </a:lnTo>
                <a:lnTo>
                  <a:pt x="1882" y="619"/>
                </a:lnTo>
                <a:lnTo>
                  <a:pt x="1876" y="619"/>
                </a:lnTo>
                <a:lnTo>
                  <a:pt x="1873" y="619"/>
                </a:lnTo>
                <a:lnTo>
                  <a:pt x="1866" y="618"/>
                </a:lnTo>
                <a:lnTo>
                  <a:pt x="1849" y="613"/>
                </a:lnTo>
                <a:lnTo>
                  <a:pt x="1808" y="597"/>
                </a:lnTo>
                <a:lnTo>
                  <a:pt x="1779" y="581"/>
                </a:lnTo>
                <a:lnTo>
                  <a:pt x="1776" y="577"/>
                </a:lnTo>
                <a:lnTo>
                  <a:pt x="1776" y="574"/>
                </a:lnTo>
                <a:lnTo>
                  <a:pt x="1776" y="573"/>
                </a:lnTo>
                <a:lnTo>
                  <a:pt x="1778" y="570"/>
                </a:lnTo>
                <a:lnTo>
                  <a:pt x="1781" y="568"/>
                </a:lnTo>
                <a:lnTo>
                  <a:pt x="1785" y="567"/>
                </a:lnTo>
                <a:lnTo>
                  <a:pt x="1794" y="567"/>
                </a:lnTo>
                <a:lnTo>
                  <a:pt x="1823" y="565"/>
                </a:lnTo>
                <a:lnTo>
                  <a:pt x="1868" y="570"/>
                </a:lnTo>
                <a:lnTo>
                  <a:pt x="1882" y="571"/>
                </a:lnTo>
                <a:lnTo>
                  <a:pt x="1879" y="568"/>
                </a:lnTo>
                <a:lnTo>
                  <a:pt x="1878" y="564"/>
                </a:lnTo>
                <a:lnTo>
                  <a:pt x="1876" y="558"/>
                </a:lnTo>
                <a:lnTo>
                  <a:pt x="1875" y="544"/>
                </a:lnTo>
                <a:lnTo>
                  <a:pt x="1873" y="512"/>
                </a:lnTo>
                <a:lnTo>
                  <a:pt x="1869" y="497"/>
                </a:lnTo>
                <a:lnTo>
                  <a:pt x="1878" y="499"/>
                </a:lnTo>
                <a:lnTo>
                  <a:pt x="1907" y="503"/>
                </a:lnTo>
                <a:lnTo>
                  <a:pt x="1930" y="506"/>
                </a:lnTo>
                <a:lnTo>
                  <a:pt x="1931" y="506"/>
                </a:lnTo>
                <a:lnTo>
                  <a:pt x="1940" y="500"/>
                </a:lnTo>
                <a:lnTo>
                  <a:pt x="1957" y="484"/>
                </a:lnTo>
                <a:lnTo>
                  <a:pt x="1986" y="451"/>
                </a:lnTo>
                <a:lnTo>
                  <a:pt x="2008" y="415"/>
                </a:lnTo>
                <a:lnTo>
                  <a:pt x="2014" y="405"/>
                </a:lnTo>
                <a:lnTo>
                  <a:pt x="2008" y="400"/>
                </a:lnTo>
                <a:lnTo>
                  <a:pt x="1999" y="387"/>
                </a:lnTo>
                <a:lnTo>
                  <a:pt x="1978" y="357"/>
                </a:lnTo>
                <a:lnTo>
                  <a:pt x="1962" y="328"/>
                </a:lnTo>
                <a:lnTo>
                  <a:pt x="1960" y="322"/>
                </a:lnTo>
                <a:lnTo>
                  <a:pt x="1960" y="320"/>
                </a:lnTo>
                <a:lnTo>
                  <a:pt x="1960" y="315"/>
                </a:lnTo>
                <a:lnTo>
                  <a:pt x="1965" y="299"/>
                </a:lnTo>
                <a:lnTo>
                  <a:pt x="1968" y="281"/>
                </a:lnTo>
                <a:lnTo>
                  <a:pt x="1969" y="276"/>
                </a:lnTo>
                <a:lnTo>
                  <a:pt x="1959" y="271"/>
                </a:lnTo>
                <a:lnTo>
                  <a:pt x="1936" y="263"/>
                </a:lnTo>
                <a:lnTo>
                  <a:pt x="1886" y="249"/>
                </a:lnTo>
                <a:lnTo>
                  <a:pt x="1863" y="251"/>
                </a:lnTo>
                <a:lnTo>
                  <a:pt x="1840" y="260"/>
                </a:lnTo>
                <a:lnTo>
                  <a:pt x="1831" y="267"/>
                </a:lnTo>
                <a:lnTo>
                  <a:pt x="1837" y="281"/>
                </a:lnTo>
                <a:lnTo>
                  <a:pt x="1847" y="310"/>
                </a:lnTo>
                <a:lnTo>
                  <a:pt x="1853" y="368"/>
                </a:lnTo>
                <a:lnTo>
                  <a:pt x="1847" y="396"/>
                </a:lnTo>
                <a:lnTo>
                  <a:pt x="1833" y="420"/>
                </a:lnTo>
                <a:lnTo>
                  <a:pt x="1823" y="432"/>
                </a:lnTo>
                <a:lnTo>
                  <a:pt x="1820" y="428"/>
                </a:lnTo>
                <a:lnTo>
                  <a:pt x="1814" y="413"/>
                </a:lnTo>
                <a:lnTo>
                  <a:pt x="1802" y="376"/>
                </a:lnTo>
                <a:lnTo>
                  <a:pt x="1795" y="339"/>
                </a:lnTo>
                <a:lnTo>
                  <a:pt x="1795" y="332"/>
                </a:lnTo>
                <a:lnTo>
                  <a:pt x="1792" y="331"/>
                </a:lnTo>
                <a:lnTo>
                  <a:pt x="1787" y="326"/>
                </a:lnTo>
                <a:lnTo>
                  <a:pt x="1771" y="318"/>
                </a:lnTo>
                <a:lnTo>
                  <a:pt x="1753" y="315"/>
                </a:lnTo>
                <a:lnTo>
                  <a:pt x="1749" y="313"/>
                </a:lnTo>
                <a:lnTo>
                  <a:pt x="1743" y="326"/>
                </a:lnTo>
                <a:lnTo>
                  <a:pt x="1733" y="345"/>
                </a:lnTo>
                <a:lnTo>
                  <a:pt x="1726" y="358"/>
                </a:lnTo>
                <a:lnTo>
                  <a:pt x="1724" y="360"/>
                </a:lnTo>
                <a:lnTo>
                  <a:pt x="1721" y="361"/>
                </a:lnTo>
                <a:lnTo>
                  <a:pt x="1720" y="361"/>
                </a:lnTo>
                <a:lnTo>
                  <a:pt x="1718" y="360"/>
                </a:lnTo>
                <a:lnTo>
                  <a:pt x="1717" y="358"/>
                </a:lnTo>
                <a:lnTo>
                  <a:pt x="1716" y="354"/>
                </a:lnTo>
                <a:lnTo>
                  <a:pt x="1714" y="349"/>
                </a:lnTo>
                <a:lnTo>
                  <a:pt x="1713" y="339"/>
                </a:lnTo>
                <a:lnTo>
                  <a:pt x="1713" y="303"/>
                </a:lnTo>
                <a:lnTo>
                  <a:pt x="1713" y="303"/>
                </a:lnTo>
                <a:lnTo>
                  <a:pt x="1710" y="302"/>
                </a:lnTo>
                <a:lnTo>
                  <a:pt x="1702" y="297"/>
                </a:lnTo>
                <a:lnTo>
                  <a:pt x="1694" y="293"/>
                </a:lnTo>
                <a:lnTo>
                  <a:pt x="1673" y="284"/>
                </a:lnTo>
                <a:lnTo>
                  <a:pt x="1659" y="276"/>
                </a:lnTo>
                <a:lnTo>
                  <a:pt x="1658" y="268"/>
                </a:lnTo>
                <a:lnTo>
                  <a:pt x="1658" y="245"/>
                </a:lnTo>
                <a:lnTo>
                  <a:pt x="1647" y="190"/>
                </a:lnTo>
                <a:lnTo>
                  <a:pt x="1634" y="165"/>
                </a:lnTo>
                <a:lnTo>
                  <a:pt x="1616" y="147"/>
                </a:lnTo>
                <a:lnTo>
                  <a:pt x="1604" y="139"/>
                </a:lnTo>
                <a:lnTo>
                  <a:pt x="1575" y="134"/>
                </a:lnTo>
                <a:lnTo>
                  <a:pt x="1555" y="134"/>
                </a:lnTo>
                <a:lnTo>
                  <a:pt x="1547" y="138"/>
                </a:lnTo>
                <a:lnTo>
                  <a:pt x="1542" y="142"/>
                </a:lnTo>
                <a:lnTo>
                  <a:pt x="1536" y="148"/>
                </a:lnTo>
                <a:lnTo>
                  <a:pt x="1533" y="154"/>
                </a:lnTo>
                <a:lnTo>
                  <a:pt x="1532" y="163"/>
                </a:lnTo>
                <a:lnTo>
                  <a:pt x="1530" y="180"/>
                </a:lnTo>
                <a:lnTo>
                  <a:pt x="1532" y="200"/>
                </a:lnTo>
                <a:lnTo>
                  <a:pt x="1542" y="241"/>
                </a:lnTo>
                <a:lnTo>
                  <a:pt x="1553" y="273"/>
                </a:lnTo>
                <a:lnTo>
                  <a:pt x="1559" y="284"/>
                </a:lnTo>
                <a:lnTo>
                  <a:pt x="1568" y="289"/>
                </a:lnTo>
                <a:lnTo>
                  <a:pt x="1582" y="299"/>
                </a:lnTo>
                <a:lnTo>
                  <a:pt x="1594" y="310"/>
                </a:lnTo>
                <a:lnTo>
                  <a:pt x="1603" y="325"/>
                </a:lnTo>
                <a:lnTo>
                  <a:pt x="1618" y="360"/>
                </a:lnTo>
                <a:lnTo>
                  <a:pt x="1624" y="368"/>
                </a:lnTo>
                <a:lnTo>
                  <a:pt x="1621" y="380"/>
                </a:lnTo>
                <a:lnTo>
                  <a:pt x="1617" y="402"/>
                </a:lnTo>
                <a:lnTo>
                  <a:pt x="1603" y="447"/>
                </a:lnTo>
                <a:lnTo>
                  <a:pt x="1589" y="487"/>
                </a:lnTo>
                <a:lnTo>
                  <a:pt x="1588" y="496"/>
                </a:lnTo>
                <a:lnTo>
                  <a:pt x="1581" y="480"/>
                </a:lnTo>
                <a:lnTo>
                  <a:pt x="1560" y="429"/>
                </a:lnTo>
                <a:lnTo>
                  <a:pt x="1546" y="391"/>
                </a:lnTo>
                <a:lnTo>
                  <a:pt x="1546" y="389"/>
                </a:lnTo>
                <a:lnTo>
                  <a:pt x="1539" y="390"/>
                </a:lnTo>
                <a:lnTo>
                  <a:pt x="1517" y="394"/>
                </a:lnTo>
                <a:lnTo>
                  <a:pt x="1500" y="397"/>
                </a:lnTo>
                <a:lnTo>
                  <a:pt x="1500" y="397"/>
                </a:lnTo>
                <a:lnTo>
                  <a:pt x="1500" y="400"/>
                </a:lnTo>
                <a:lnTo>
                  <a:pt x="1500" y="406"/>
                </a:lnTo>
                <a:lnTo>
                  <a:pt x="1501" y="419"/>
                </a:lnTo>
                <a:lnTo>
                  <a:pt x="1503" y="431"/>
                </a:lnTo>
                <a:lnTo>
                  <a:pt x="1504" y="432"/>
                </a:lnTo>
                <a:lnTo>
                  <a:pt x="1489" y="436"/>
                </a:lnTo>
                <a:lnTo>
                  <a:pt x="1471" y="439"/>
                </a:lnTo>
                <a:lnTo>
                  <a:pt x="1427" y="441"/>
                </a:lnTo>
                <a:lnTo>
                  <a:pt x="1382" y="436"/>
                </a:lnTo>
                <a:lnTo>
                  <a:pt x="1343" y="422"/>
                </a:lnTo>
                <a:lnTo>
                  <a:pt x="1329" y="412"/>
                </a:lnTo>
                <a:lnTo>
                  <a:pt x="1320" y="399"/>
                </a:lnTo>
                <a:lnTo>
                  <a:pt x="1319" y="383"/>
                </a:lnTo>
                <a:lnTo>
                  <a:pt x="1323" y="363"/>
                </a:lnTo>
                <a:lnTo>
                  <a:pt x="1324" y="363"/>
                </a:lnTo>
                <a:lnTo>
                  <a:pt x="1320" y="363"/>
                </a:lnTo>
                <a:lnTo>
                  <a:pt x="1313" y="363"/>
                </a:lnTo>
                <a:lnTo>
                  <a:pt x="1292" y="360"/>
                </a:lnTo>
                <a:lnTo>
                  <a:pt x="1245" y="360"/>
                </a:lnTo>
                <a:lnTo>
                  <a:pt x="1220" y="384"/>
                </a:lnTo>
                <a:lnTo>
                  <a:pt x="1220" y="389"/>
                </a:lnTo>
                <a:lnTo>
                  <a:pt x="1224" y="390"/>
                </a:lnTo>
                <a:lnTo>
                  <a:pt x="1230" y="391"/>
                </a:lnTo>
                <a:lnTo>
                  <a:pt x="1236" y="393"/>
                </a:lnTo>
                <a:lnTo>
                  <a:pt x="1253" y="393"/>
                </a:lnTo>
                <a:lnTo>
                  <a:pt x="1282" y="393"/>
                </a:lnTo>
                <a:lnTo>
                  <a:pt x="1290" y="397"/>
                </a:lnTo>
                <a:lnTo>
                  <a:pt x="1288" y="402"/>
                </a:lnTo>
                <a:lnTo>
                  <a:pt x="1284" y="406"/>
                </a:lnTo>
                <a:lnTo>
                  <a:pt x="1278" y="412"/>
                </a:lnTo>
                <a:lnTo>
                  <a:pt x="1259" y="425"/>
                </a:lnTo>
                <a:lnTo>
                  <a:pt x="1219" y="449"/>
                </a:lnTo>
                <a:lnTo>
                  <a:pt x="1203" y="454"/>
                </a:lnTo>
                <a:lnTo>
                  <a:pt x="1201" y="452"/>
                </a:lnTo>
                <a:lnTo>
                  <a:pt x="1195" y="445"/>
                </a:lnTo>
                <a:lnTo>
                  <a:pt x="1184" y="426"/>
                </a:lnTo>
                <a:lnTo>
                  <a:pt x="1172" y="412"/>
                </a:lnTo>
                <a:lnTo>
                  <a:pt x="1172" y="409"/>
                </a:lnTo>
                <a:lnTo>
                  <a:pt x="1169" y="409"/>
                </a:lnTo>
                <a:lnTo>
                  <a:pt x="1162" y="407"/>
                </a:lnTo>
                <a:lnTo>
                  <a:pt x="1143" y="407"/>
                </a:lnTo>
                <a:lnTo>
                  <a:pt x="1095" y="407"/>
                </a:lnTo>
                <a:lnTo>
                  <a:pt x="1069" y="406"/>
                </a:lnTo>
                <a:lnTo>
                  <a:pt x="1064" y="403"/>
                </a:lnTo>
                <a:lnTo>
                  <a:pt x="1058" y="402"/>
                </a:lnTo>
                <a:lnTo>
                  <a:pt x="1045" y="396"/>
                </a:lnTo>
                <a:lnTo>
                  <a:pt x="1020" y="386"/>
                </a:lnTo>
                <a:lnTo>
                  <a:pt x="1011" y="381"/>
                </a:lnTo>
                <a:lnTo>
                  <a:pt x="1010" y="380"/>
                </a:lnTo>
                <a:lnTo>
                  <a:pt x="1011" y="378"/>
                </a:lnTo>
                <a:lnTo>
                  <a:pt x="1013" y="378"/>
                </a:lnTo>
                <a:lnTo>
                  <a:pt x="1017" y="378"/>
                </a:lnTo>
                <a:lnTo>
                  <a:pt x="1027" y="377"/>
                </a:lnTo>
                <a:lnTo>
                  <a:pt x="1050" y="376"/>
                </a:lnTo>
                <a:lnTo>
                  <a:pt x="1061" y="374"/>
                </a:lnTo>
                <a:lnTo>
                  <a:pt x="1065" y="373"/>
                </a:lnTo>
                <a:lnTo>
                  <a:pt x="1068" y="370"/>
                </a:lnTo>
                <a:lnTo>
                  <a:pt x="1068" y="367"/>
                </a:lnTo>
                <a:lnTo>
                  <a:pt x="1068" y="365"/>
                </a:lnTo>
                <a:lnTo>
                  <a:pt x="1068" y="364"/>
                </a:lnTo>
                <a:lnTo>
                  <a:pt x="1066" y="361"/>
                </a:lnTo>
                <a:lnTo>
                  <a:pt x="1062" y="357"/>
                </a:lnTo>
                <a:lnTo>
                  <a:pt x="1056" y="351"/>
                </a:lnTo>
                <a:lnTo>
                  <a:pt x="1035" y="336"/>
                </a:lnTo>
                <a:lnTo>
                  <a:pt x="1001" y="318"/>
                </a:lnTo>
                <a:lnTo>
                  <a:pt x="968" y="299"/>
                </a:lnTo>
                <a:lnTo>
                  <a:pt x="965" y="296"/>
                </a:lnTo>
                <a:lnTo>
                  <a:pt x="958" y="287"/>
                </a:lnTo>
                <a:lnTo>
                  <a:pt x="933" y="264"/>
                </a:lnTo>
                <a:lnTo>
                  <a:pt x="875" y="212"/>
                </a:lnTo>
                <a:lnTo>
                  <a:pt x="856" y="193"/>
                </a:lnTo>
                <a:lnTo>
                  <a:pt x="853" y="194"/>
                </a:lnTo>
                <a:lnTo>
                  <a:pt x="851" y="196"/>
                </a:lnTo>
                <a:lnTo>
                  <a:pt x="846" y="199"/>
                </a:lnTo>
                <a:lnTo>
                  <a:pt x="840" y="207"/>
                </a:lnTo>
                <a:lnTo>
                  <a:pt x="826" y="225"/>
                </a:lnTo>
                <a:lnTo>
                  <a:pt x="819" y="229"/>
                </a:lnTo>
                <a:lnTo>
                  <a:pt x="822" y="210"/>
                </a:lnTo>
                <a:lnTo>
                  <a:pt x="824" y="181"/>
                </a:lnTo>
                <a:lnTo>
                  <a:pt x="823" y="173"/>
                </a:lnTo>
                <a:lnTo>
                  <a:pt x="820" y="167"/>
                </a:lnTo>
                <a:lnTo>
                  <a:pt x="819" y="165"/>
                </a:lnTo>
                <a:lnTo>
                  <a:pt x="816" y="164"/>
                </a:lnTo>
                <a:lnTo>
                  <a:pt x="813" y="163"/>
                </a:lnTo>
                <a:lnTo>
                  <a:pt x="810" y="163"/>
                </a:lnTo>
                <a:lnTo>
                  <a:pt x="807" y="164"/>
                </a:lnTo>
                <a:lnTo>
                  <a:pt x="804" y="165"/>
                </a:lnTo>
                <a:lnTo>
                  <a:pt x="797" y="168"/>
                </a:lnTo>
                <a:lnTo>
                  <a:pt x="788" y="176"/>
                </a:lnTo>
                <a:lnTo>
                  <a:pt x="771" y="193"/>
                </a:lnTo>
                <a:lnTo>
                  <a:pt x="771" y="193"/>
                </a:lnTo>
                <a:lnTo>
                  <a:pt x="771" y="177"/>
                </a:lnTo>
                <a:lnTo>
                  <a:pt x="771" y="145"/>
                </a:lnTo>
                <a:lnTo>
                  <a:pt x="769" y="122"/>
                </a:lnTo>
                <a:lnTo>
                  <a:pt x="768" y="112"/>
                </a:lnTo>
                <a:lnTo>
                  <a:pt x="764" y="106"/>
                </a:lnTo>
                <a:lnTo>
                  <a:pt x="758" y="102"/>
                </a:lnTo>
                <a:lnTo>
                  <a:pt x="751" y="100"/>
                </a:lnTo>
                <a:lnTo>
                  <a:pt x="740" y="103"/>
                </a:lnTo>
                <a:lnTo>
                  <a:pt x="727" y="109"/>
                </a:lnTo>
                <a:lnTo>
                  <a:pt x="711" y="119"/>
                </a:lnTo>
                <a:lnTo>
                  <a:pt x="711" y="119"/>
                </a:lnTo>
                <a:lnTo>
                  <a:pt x="703" y="115"/>
                </a:lnTo>
                <a:lnTo>
                  <a:pt x="690" y="110"/>
                </a:lnTo>
                <a:lnTo>
                  <a:pt x="652" y="103"/>
                </a:lnTo>
                <a:lnTo>
                  <a:pt x="552" y="89"/>
                </a:lnTo>
                <a:lnTo>
                  <a:pt x="483" y="83"/>
                </a:lnTo>
                <a:lnTo>
                  <a:pt x="477" y="79"/>
                </a:lnTo>
                <a:lnTo>
                  <a:pt x="467" y="65"/>
                </a:lnTo>
                <a:lnTo>
                  <a:pt x="448" y="34"/>
                </a:lnTo>
                <a:lnTo>
                  <a:pt x="432" y="6"/>
                </a:lnTo>
                <a:lnTo>
                  <a:pt x="429" y="0"/>
                </a:lnTo>
                <a:lnTo>
                  <a:pt x="420" y="13"/>
                </a:lnTo>
                <a:lnTo>
                  <a:pt x="361" y="94"/>
                </a:lnTo>
                <a:lnTo>
                  <a:pt x="161" y="373"/>
                </a:lnTo>
                <a:lnTo>
                  <a:pt x="7" y="584"/>
                </a:lnTo>
                <a:lnTo>
                  <a:pt x="0" y="596"/>
                </a:lnTo>
                <a:lnTo>
                  <a:pt x="19" y="602"/>
                </a:lnTo>
                <a:lnTo>
                  <a:pt x="48" y="612"/>
                </a:lnTo>
                <a:lnTo>
                  <a:pt x="67" y="626"/>
                </a:lnTo>
                <a:lnTo>
                  <a:pt x="75" y="645"/>
                </a:lnTo>
                <a:lnTo>
                  <a:pt x="77" y="670"/>
                </a:lnTo>
                <a:lnTo>
                  <a:pt x="73" y="703"/>
                </a:lnTo>
                <a:lnTo>
                  <a:pt x="70" y="722"/>
                </a:lnTo>
                <a:lnTo>
                  <a:pt x="84" y="723"/>
                </a:lnTo>
                <a:lnTo>
                  <a:pt x="130" y="728"/>
                </a:lnTo>
                <a:lnTo>
                  <a:pt x="165" y="729"/>
                </a:lnTo>
                <a:lnTo>
                  <a:pt x="168" y="729"/>
                </a:lnTo>
                <a:lnTo>
                  <a:pt x="168" y="736"/>
                </a:lnTo>
                <a:lnTo>
                  <a:pt x="170" y="777"/>
                </a:lnTo>
                <a:lnTo>
                  <a:pt x="174" y="917"/>
                </a:lnTo>
                <a:lnTo>
                  <a:pt x="177" y="1023"/>
                </a:lnTo>
                <a:lnTo>
                  <a:pt x="178" y="1029"/>
                </a:lnTo>
                <a:lnTo>
                  <a:pt x="194" y="1046"/>
                </a:lnTo>
                <a:lnTo>
                  <a:pt x="216" y="1078"/>
                </a:lnTo>
                <a:lnTo>
                  <a:pt x="223" y="1107"/>
                </a:lnTo>
                <a:lnTo>
                  <a:pt x="220" y="1136"/>
                </a:lnTo>
                <a:lnTo>
                  <a:pt x="209" y="1170"/>
                </a:lnTo>
                <a:lnTo>
                  <a:pt x="188" y="1207"/>
                </a:lnTo>
                <a:lnTo>
                  <a:pt x="177" y="1229"/>
                </a:lnTo>
                <a:lnTo>
                  <a:pt x="175" y="1236"/>
                </a:lnTo>
                <a:lnTo>
                  <a:pt x="174" y="1254"/>
                </a:lnTo>
                <a:lnTo>
                  <a:pt x="174" y="1268"/>
                </a:lnTo>
                <a:lnTo>
                  <a:pt x="174" y="1268"/>
                </a:lnTo>
                <a:lnTo>
                  <a:pt x="174" y="1274"/>
                </a:lnTo>
                <a:lnTo>
                  <a:pt x="173" y="1287"/>
                </a:lnTo>
                <a:lnTo>
                  <a:pt x="173" y="1297"/>
                </a:lnTo>
                <a:lnTo>
                  <a:pt x="174" y="1297"/>
                </a:lnTo>
                <a:lnTo>
                  <a:pt x="174" y="1310"/>
                </a:lnTo>
                <a:lnTo>
                  <a:pt x="174" y="1330"/>
                </a:lnTo>
                <a:lnTo>
                  <a:pt x="167" y="1364"/>
                </a:lnTo>
                <a:lnTo>
                  <a:pt x="155" y="1404"/>
                </a:lnTo>
                <a:lnTo>
                  <a:pt x="154" y="1416"/>
                </a:lnTo>
                <a:lnTo>
                  <a:pt x="154" y="1419"/>
                </a:lnTo>
                <a:lnTo>
                  <a:pt x="154" y="1422"/>
                </a:lnTo>
                <a:lnTo>
                  <a:pt x="157" y="1425"/>
                </a:lnTo>
                <a:lnTo>
                  <a:pt x="159" y="1432"/>
                </a:lnTo>
                <a:lnTo>
                  <a:pt x="168" y="1442"/>
                </a:lnTo>
                <a:lnTo>
                  <a:pt x="173" y="1443"/>
                </a:lnTo>
                <a:lnTo>
                  <a:pt x="170" y="1446"/>
                </a:lnTo>
                <a:lnTo>
                  <a:pt x="165" y="1452"/>
                </a:lnTo>
                <a:lnTo>
                  <a:pt x="157" y="1468"/>
                </a:lnTo>
                <a:lnTo>
                  <a:pt x="154" y="1485"/>
                </a:lnTo>
                <a:lnTo>
                  <a:pt x="154" y="1490"/>
                </a:lnTo>
                <a:lnTo>
                  <a:pt x="161" y="1496"/>
                </a:lnTo>
                <a:lnTo>
                  <a:pt x="167" y="1499"/>
                </a:lnTo>
                <a:lnTo>
                  <a:pt x="186" y="1506"/>
                </a:lnTo>
                <a:lnTo>
                  <a:pt x="226" y="1525"/>
                </a:lnTo>
                <a:lnTo>
                  <a:pt x="249" y="1538"/>
                </a:lnTo>
                <a:lnTo>
                  <a:pt x="254" y="1545"/>
                </a:lnTo>
                <a:lnTo>
                  <a:pt x="261" y="1556"/>
                </a:lnTo>
                <a:lnTo>
                  <a:pt x="278" y="1591"/>
                </a:lnTo>
                <a:lnTo>
                  <a:pt x="320" y="1680"/>
                </a:lnTo>
                <a:lnTo>
                  <a:pt x="361" y="1741"/>
                </a:lnTo>
                <a:lnTo>
                  <a:pt x="377" y="1745"/>
                </a:lnTo>
                <a:lnTo>
                  <a:pt x="496" y="1765"/>
                </a:lnTo>
                <a:lnTo>
                  <a:pt x="900" y="1835"/>
                </a:lnTo>
                <a:lnTo>
                  <a:pt x="1208" y="1888"/>
                </a:lnTo>
                <a:lnTo>
                  <a:pt x="1226" y="1891"/>
                </a:lnTo>
                <a:lnTo>
                  <a:pt x="1234" y="1891"/>
                </a:lnTo>
                <a:lnTo>
                  <a:pt x="1300" y="1890"/>
                </a:lnTo>
                <a:lnTo>
                  <a:pt x="1521" y="1884"/>
                </a:lnTo>
                <a:lnTo>
                  <a:pt x="1691" y="1880"/>
                </a:lnTo>
                <a:lnTo>
                  <a:pt x="1701" y="1878"/>
                </a:lnTo>
                <a:lnTo>
                  <a:pt x="1701" y="1878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548400" y="2063880"/>
            <a:ext cx="155520" cy="123840"/>
          </a:xfrm>
          <a:custGeom>
            <a:avLst/>
            <a:gdLst/>
            <a:ahLst/>
            <a:rect l="l" t="t" r="r" b="b"/>
            <a:pathLst>
              <a:path w="446" h="380">
                <a:moveTo>
                  <a:pt x="64" y="292"/>
                </a:moveTo>
                <a:lnTo>
                  <a:pt x="53" y="292"/>
                </a:lnTo>
                <a:lnTo>
                  <a:pt x="38" y="289"/>
                </a:lnTo>
                <a:lnTo>
                  <a:pt x="23" y="283"/>
                </a:lnTo>
                <a:lnTo>
                  <a:pt x="11" y="274"/>
                </a:lnTo>
                <a:lnTo>
                  <a:pt x="4" y="263"/>
                </a:lnTo>
                <a:lnTo>
                  <a:pt x="0" y="247"/>
                </a:lnTo>
                <a:lnTo>
                  <a:pt x="0" y="238"/>
                </a:lnTo>
                <a:lnTo>
                  <a:pt x="1" y="238"/>
                </a:lnTo>
                <a:lnTo>
                  <a:pt x="4" y="238"/>
                </a:lnTo>
                <a:lnTo>
                  <a:pt x="13" y="234"/>
                </a:lnTo>
                <a:lnTo>
                  <a:pt x="30" y="225"/>
                </a:lnTo>
                <a:lnTo>
                  <a:pt x="45" y="219"/>
                </a:lnTo>
                <a:lnTo>
                  <a:pt x="49" y="222"/>
                </a:lnTo>
                <a:lnTo>
                  <a:pt x="61" y="226"/>
                </a:lnTo>
                <a:lnTo>
                  <a:pt x="90" y="232"/>
                </a:lnTo>
                <a:lnTo>
                  <a:pt x="116" y="231"/>
                </a:lnTo>
                <a:lnTo>
                  <a:pt x="122" y="228"/>
                </a:lnTo>
                <a:lnTo>
                  <a:pt x="116" y="222"/>
                </a:lnTo>
                <a:lnTo>
                  <a:pt x="107" y="216"/>
                </a:lnTo>
                <a:lnTo>
                  <a:pt x="88" y="206"/>
                </a:lnTo>
                <a:lnTo>
                  <a:pt x="66" y="199"/>
                </a:lnTo>
                <a:lnTo>
                  <a:pt x="19" y="187"/>
                </a:lnTo>
                <a:lnTo>
                  <a:pt x="0" y="181"/>
                </a:lnTo>
                <a:lnTo>
                  <a:pt x="0" y="177"/>
                </a:lnTo>
                <a:lnTo>
                  <a:pt x="1" y="173"/>
                </a:lnTo>
                <a:lnTo>
                  <a:pt x="6" y="164"/>
                </a:lnTo>
                <a:lnTo>
                  <a:pt x="11" y="155"/>
                </a:lnTo>
                <a:lnTo>
                  <a:pt x="24" y="141"/>
                </a:lnTo>
                <a:lnTo>
                  <a:pt x="30" y="135"/>
                </a:lnTo>
                <a:lnTo>
                  <a:pt x="30" y="128"/>
                </a:lnTo>
                <a:lnTo>
                  <a:pt x="39" y="99"/>
                </a:lnTo>
                <a:lnTo>
                  <a:pt x="74" y="26"/>
                </a:lnTo>
                <a:lnTo>
                  <a:pt x="87" y="12"/>
                </a:lnTo>
                <a:lnTo>
                  <a:pt x="101" y="3"/>
                </a:lnTo>
                <a:lnTo>
                  <a:pt x="117" y="0"/>
                </a:lnTo>
                <a:lnTo>
                  <a:pt x="135" y="6"/>
                </a:lnTo>
                <a:lnTo>
                  <a:pt x="152" y="19"/>
                </a:lnTo>
                <a:lnTo>
                  <a:pt x="153" y="19"/>
                </a:lnTo>
                <a:lnTo>
                  <a:pt x="152" y="29"/>
                </a:lnTo>
                <a:lnTo>
                  <a:pt x="148" y="44"/>
                </a:lnTo>
                <a:lnTo>
                  <a:pt x="145" y="51"/>
                </a:lnTo>
                <a:lnTo>
                  <a:pt x="143" y="52"/>
                </a:lnTo>
                <a:lnTo>
                  <a:pt x="145" y="54"/>
                </a:lnTo>
                <a:lnTo>
                  <a:pt x="148" y="52"/>
                </a:lnTo>
                <a:lnTo>
                  <a:pt x="151" y="52"/>
                </a:lnTo>
                <a:lnTo>
                  <a:pt x="158" y="51"/>
                </a:lnTo>
                <a:lnTo>
                  <a:pt x="182" y="45"/>
                </a:lnTo>
                <a:lnTo>
                  <a:pt x="193" y="42"/>
                </a:lnTo>
                <a:lnTo>
                  <a:pt x="194" y="47"/>
                </a:lnTo>
                <a:lnTo>
                  <a:pt x="194" y="50"/>
                </a:lnTo>
                <a:lnTo>
                  <a:pt x="194" y="55"/>
                </a:lnTo>
                <a:lnTo>
                  <a:pt x="193" y="68"/>
                </a:lnTo>
                <a:lnTo>
                  <a:pt x="193" y="81"/>
                </a:lnTo>
                <a:lnTo>
                  <a:pt x="194" y="93"/>
                </a:lnTo>
                <a:lnTo>
                  <a:pt x="198" y="99"/>
                </a:lnTo>
                <a:lnTo>
                  <a:pt x="200" y="99"/>
                </a:lnTo>
                <a:lnTo>
                  <a:pt x="203" y="100"/>
                </a:lnTo>
                <a:lnTo>
                  <a:pt x="207" y="99"/>
                </a:lnTo>
                <a:lnTo>
                  <a:pt x="208" y="95"/>
                </a:lnTo>
                <a:lnTo>
                  <a:pt x="211" y="90"/>
                </a:lnTo>
                <a:lnTo>
                  <a:pt x="213" y="84"/>
                </a:lnTo>
                <a:lnTo>
                  <a:pt x="216" y="70"/>
                </a:lnTo>
                <a:lnTo>
                  <a:pt x="219" y="58"/>
                </a:lnTo>
                <a:lnTo>
                  <a:pt x="222" y="51"/>
                </a:lnTo>
                <a:lnTo>
                  <a:pt x="224" y="50"/>
                </a:lnTo>
                <a:lnTo>
                  <a:pt x="232" y="52"/>
                </a:lnTo>
                <a:lnTo>
                  <a:pt x="242" y="57"/>
                </a:lnTo>
                <a:lnTo>
                  <a:pt x="252" y="63"/>
                </a:lnTo>
                <a:lnTo>
                  <a:pt x="255" y="63"/>
                </a:lnTo>
                <a:lnTo>
                  <a:pt x="255" y="70"/>
                </a:lnTo>
                <a:lnTo>
                  <a:pt x="255" y="84"/>
                </a:lnTo>
                <a:lnTo>
                  <a:pt x="258" y="113"/>
                </a:lnTo>
                <a:lnTo>
                  <a:pt x="264" y="138"/>
                </a:lnTo>
                <a:lnTo>
                  <a:pt x="266" y="142"/>
                </a:lnTo>
                <a:lnTo>
                  <a:pt x="271" y="138"/>
                </a:lnTo>
                <a:lnTo>
                  <a:pt x="274" y="131"/>
                </a:lnTo>
                <a:lnTo>
                  <a:pt x="277" y="123"/>
                </a:lnTo>
                <a:lnTo>
                  <a:pt x="279" y="106"/>
                </a:lnTo>
                <a:lnTo>
                  <a:pt x="279" y="87"/>
                </a:lnTo>
                <a:lnTo>
                  <a:pt x="279" y="51"/>
                </a:lnTo>
                <a:lnTo>
                  <a:pt x="279" y="42"/>
                </a:lnTo>
                <a:lnTo>
                  <a:pt x="288" y="38"/>
                </a:lnTo>
                <a:lnTo>
                  <a:pt x="306" y="29"/>
                </a:lnTo>
                <a:lnTo>
                  <a:pt x="342" y="15"/>
                </a:lnTo>
                <a:lnTo>
                  <a:pt x="359" y="15"/>
                </a:lnTo>
                <a:lnTo>
                  <a:pt x="375" y="21"/>
                </a:lnTo>
                <a:lnTo>
                  <a:pt x="382" y="25"/>
                </a:lnTo>
                <a:lnTo>
                  <a:pt x="374" y="37"/>
                </a:lnTo>
                <a:lnTo>
                  <a:pt x="366" y="50"/>
                </a:lnTo>
                <a:lnTo>
                  <a:pt x="355" y="80"/>
                </a:lnTo>
                <a:lnTo>
                  <a:pt x="348" y="116"/>
                </a:lnTo>
                <a:lnTo>
                  <a:pt x="348" y="189"/>
                </a:lnTo>
                <a:lnTo>
                  <a:pt x="355" y="219"/>
                </a:lnTo>
                <a:lnTo>
                  <a:pt x="358" y="226"/>
                </a:lnTo>
                <a:lnTo>
                  <a:pt x="364" y="232"/>
                </a:lnTo>
                <a:lnTo>
                  <a:pt x="371" y="239"/>
                </a:lnTo>
                <a:lnTo>
                  <a:pt x="388" y="250"/>
                </a:lnTo>
                <a:lnTo>
                  <a:pt x="426" y="270"/>
                </a:lnTo>
                <a:lnTo>
                  <a:pt x="446" y="283"/>
                </a:lnTo>
                <a:lnTo>
                  <a:pt x="445" y="286"/>
                </a:lnTo>
                <a:lnTo>
                  <a:pt x="445" y="292"/>
                </a:lnTo>
                <a:lnTo>
                  <a:pt x="440" y="305"/>
                </a:lnTo>
                <a:lnTo>
                  <a:pt x="437" y="318"/>
                </a:lnTo>
                <a:lnTo>
                  <a:pt x="437" y="319"/>
                </a:lnTo>
                <a:lnTo>
                  <a:pt x="435" y="319"/>
                </a:lnTo>
                <a:lnTo>
                  <a:pt x="427" y="319"/>
                </a:lnTo>
                <a:lnTo>
                  <a:pt x="411" y="319"/>
                </a:lnTo>
                <a:lnTo>
                  <a:pt x="395" y="319"/>
                </a:lnTo>
                <a:lnTo>
                  <a:pt x="394" y="319"/>
                </a:lnTo>
                <a:lnTo>
                  <a:pt x="400" y="326"/>
                </a:lnTo>
                <a:lnTo>
                  <a:pt x="408" y="338"/>
                </a:lnTo>
                <a:lnTo>
                  <a:pt x="411" y="348"/>
                </a:lnTo>
                <a:lnTo>
                  <a:pt x="413" y="357"/>
                </a:lnTo>
                <a:lnTo>
                  <a:pt x="411" y="364"/>
                </a:lnTo>
                <a:lnTo>
                  <a:pt x="413" y="373"/>
                </a:lnTo>
                <a:lnTo>
                  <a:pt x="416" y="377"/>
                </a:lnTo>
                <a:lnTo>
                  <a:pt x="413" y="379"/>
                </a:lnTo>
                <a:lnTo>
                  <a:pt x="410" y="379"/>
                </a:lnTo>
                <a:lnTo>
                  <a:pt x="401" y="377"/>
                </a:lnTo>
                <a:lnTo>
                  <a:pt x="379" y="376"/>
                </a:lnTo>
                <a:lnTo>
                  <a:pt x="362" y="373"/>
                </a:lnTo>
                <a:lnTo>
                  <a:pt x="359" y="373"/>
                </a:lnTo>
                <a:lnTo>
                  <a:pt x="356" y="371"/>
                </a:lnTo>
                <a:lnTo>
                  <a:pt x="353" y="368"/>
                </a:lnTo>
                <a:lnTo>
                  <a:pt x="348" y="363"/>
                </a:lnTo>
                <a:lnTo>
                  <a:pt x="336" y="347"/>
                </a:lnTo>
                <a:lnTo>
                  <a:pt x="330" y="338"/>
                </a:lnTo>
                <a:lnTo>
                  <a:pt x="324" y="336"/>
                </a:lnTo>
                <a:lnTo>
                  <a:pt x="320" y="335"/>
                </a:lnTo>
                <a:lnTo>
                  <a:pt x="313" y="335"/>
                </a:lnTo>
                <a:lnTo>
                  <a:pt x="306" y="335"/>
                </a:lnTo>
                <a:lnTo>
                  <a:pt x="288" y="339"/>
                </a:lnTo>
                <a:lnTo>
                  <a:pt x="248" y="354"/>
                </a:lnTo>
                <a:lnTo>
                  <a:pt x="153" y="380"/>
                </a:lnTo>
                <a:lnTo>
                  <a:pt x="94" y="365"/>
                </a:lnTo>
                <a:lnTo>
                  <a:pt x="94" y="361"/>
                </a:lnTo>
                <a:lnTo>
                  <a:pt x="94" y="355"/>
                </a:lnTo>
                <a:lnTo>
                  <a:pt x="94" y="350"/>
                </a:lnTo>
                <a:lnTo>
                  <a:pt x="88" y="336"/>
                </a:lnTo>
                <a:lnTo>
                  <a:pt x="81" y="322"/>
                </a:lnTo>
                <a:lnTo>
                  <a:pt x="65" y="297"/>
                </a:lnTo>
                <a:lnTo>
                  <a:pt x="64" y="292"/>
                </a:lnTo>
                <a:lnTo>
                  <a:pt x="64" y="29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3920" y="2160720"/>
            <a:ext cx="52560" cy="27000"/>
          </a:xfrm>
          <a:custGeom>
            <a:avLst/>
            <a:gdLst/>
            <a:ahLst/>
            <a:rect l="l" t="t" r="r" b="b"/>
            <a:pathLst>
              <a:path w="154" h="89">
                <a:moveTo>
                  <a:pt x="0" y="72"/>
                </a:moveTo>
                <a:lnTo>
                  <a:pt x="11" y="69"/>
                </a:lnTo>
                <a:lnTo>
                  <a:pt x="29" y="63"/>
                </a:lnTo>
                <a:lnTo>
                  <a:pt x="41" y="58"/>
                </a:lnTo>
                <a:lnTo>
                  <a:pt x="48" y="50"/>
                </a:lnTo>
                <a:lnTo>
                  <a:pt x="55" y="37"/>
                </a:lnTo>
                <a:lnTo>
                  <a:pt x="64" y="16"/>
                </a:lnTo>
                <a:lnTo>
                  <a:pt x="70" y="0"/>
                </a:lnTo>
                <a:lnTo>
                  <a:pt x="80" y="2"/>
                </a:lnTo>
                <a:lnTo>
                  <a:pt x="90" y="7"/>
                </a:lnTo>
                <a:lnTo>
                  <a:pt x="100" y="14"/>
                </a:lnTo>
                <a:lnTo>
                  <a:pt x="109" y="23"/>
                </a:lnTo>
                <a:lnTo>
                  <a:pt x="125" y="44"/>
                </a:lnTo>
                <a:lnTo>
                  <a:pt x="147" y="81"/>
                </a:lnTo>
                <a:lnTo>
                  <a:pt x="154" y="87"/>
                </a:lnTo>
                <a:lnTo>
                  <a:pt x="142" y="88"/>
                </a:lnTo>
                <a:lnTo>
                  <a:pt x="118" y="89"/>
                </a:lnTo>
                <a:lnTo>
                  <a:pt x="61" y="88"/>
                </a:lnTo>
                <a:lnTo>
                  <a:pt x="11" y="78"/>
                </a:lnTo>
                <a:lnTo>
                  <a:pt x="0" y="72"/>
                </a:lnTo>
                <a:lnTo>
                  <a:pt x="0" y="7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684840" y="2057400"/>
            <a:ext cx="55800" cy="73080"/>
          </a:xfrm>
          <a:custGeom>
            <a:avLst/>
            <a:gdLst/>
            <a:ahLst/>
            <a:rect l="l" t="t" r="r" b="b"/>
            <a:pathLst>
              <a:path w="162" h="219">
                <a:moveTo>
                  <a:pt x="110" y="0"/>
                </a:moveTo>
                <a:lnTo>
                  <a:pt x="117" y="1"/>
                </a:lnTo>
                <a:lnTo>
                  <a:pt x="129" y="3"/>
                </a:lnTo>
                <a:lnTo>
                  <a:pt x="136" y="4"/>
                </a:lnTo>
                <a:lnTo>
                  <a:pt x="137" y="6"/>
                </a:lnTo>
                <a:lnTo>
                  <a:pt x="139" y="9"/>
                </a:lnTo>
                <a:lnTo>
                  <a:pt x="140" y="12"/>
                </a:lnTo>
                <a:lnTo>
                  <a:pt x="140" y="14"/>
                </a:lnTo>
                <a:lnTo>
                  <a:pt x="142" y="26"/>
                </a:lnTo>
                <a:lnTo>
                  <a:pt x="142" y="32"/>
                </a:lnTo>
                <a:lnTo>
                  <a:pt x="139" y="35"/>
                </a:lnTo>
                <a:lnTo>
                  <a:pt x="135" y="43"/>
                </a:lnTo>
                <a:lnTo>
                  <a:pt x="123" y="67"/>
                </a:lnTo>
                <a:lnTo>
                  <a:pt x="117" y="87"/>
                </a:lnTo>
                <a:lnTo>
                  <a:pt x="117" y="90"/>
                </a:lnTo>
                <a:lnTo>
                  <a:pt x="120" y="93"/>
                </a:lnTo>
                <a:lnTo>
                  <a:pt x="124" y="93"/>
                </a:lnTo>
                <a:lnTo>
                  <a:pt x="135" y="94"/>
                </a:lnTo>
                <a:lnTo>
                  <a:pt x="143" y="93"/>
                </a:lnTo>
                <a:lnTo>
                  <a:pt x="152" y="94"/>
                </a:lnTo>
                <a:lnTo>
                  <a:pt x="158" y="97"/>
                </a:lnTo>
                <a:lnTo>
                  <a:pt x="161" y="103"/>
                </a:lnTo>
                <a:lnTo>
                  <a:pt x="162" y="103"/>
                </a:lnTo>
                <a:lnTo>
                  <a:pt x="162" y="110"/>
                </a:lnTo>
                <a:lnTo>
                  <a:pt x="161" y="129"/>
                </a:lnTo>
                <a:lnTo>
                  <a:pt x="161" y="143"/>
                </a:lnTo>
                <a:lnTo>
                  <a:pt x="162" y="143"/>
                </a:lnTo>
                <a:lnTo>
                  <a:pt x="161" y="149"/>
                </a:lnTo>
                <a:lnTo>
                  <a:pt x="158" y="152"/>
                </a:lnTo>
                <a:lnTo>
                  <a:pt x="155" y="155"/>
                </a:lnTo>
                <a:lnTo>
                  <a:pt x="152" y="158"/>
                </a:lnTo>
                <a:lnTo>
                  <a:pt x="145" y="162"/>
                </a:lnTo>
                <a:lnTo>
                  <a:pt x="136" y="167"/>
                </a:lnTo>
                <a:lnTo>
                  <a:pt x="127" y="171"/>
                </a:lnTo>
                <a:lnTo>
                  <a:pt x="122" y="177"/>
                </a:lnTo>
                <a:lnTo>
                  <a:pt x="122" y="177"/>
                </a:lnTo>
                <a:lnTo>
                  <a:pt x="119" y="180"/>
                </a:lnTo>
                <a:lnTo>
                  <a:pt x="117" y="183"/>
                </a:lnTo>
                <a:lnTo>
                  <a:pt x="114" y="191"/>
                </a:lnTo>
                <a:lnTo>
                  <a:pt x="107" y="210"/>
                </a:lnTo>
                <a:lnTo>
                  <a:pt x="93" y="219"/>
                </a:lnTo>
                <a:lnTo>
                  <a:pt x="87" y="209"/>
                </a:lnTo>
                <a:lnTo>
                  <a:pt x="74" y="190"/>
                </a:lnTo>
                <a:lnTo>
                  <a:pt x="45" y="156"/>
                </a:lnTo>
                <a:lnTo>
                  <a:pt x="10" y="127"/>
                </a:lnTo>
                <a:lnTo>
                  <a:pt x="1" y="120"/>
                </a:lnTo>
                <a:lnTo>
                  <a:pt x="0" y="114"/>
                </a:lnTo>
                <a:lnTo>
                  <a:pt x="1" y="104"/>
                </a:lnTo>
                <a:lnTo>
                  <a:pt x="1" y="97"/>
                </a:lnTo>
                <a:lnTo>
                  <a:pt x="4" y="94"/>
                </a:lnTo>
                <a:lnTo>
                  <a:pt x="10" y="90"/>
                </a:lnTo>
                <a:lnTo>
                  <a:pt x="19" y="84"/>
                </a:lnTo>
                <a:lnTo>
                  <a:pt x="24" y="78"/>
                </a:lnTo>
                <a:lnTo>
                  <a:pt x="36" y="80"/>
                </a:lnTo>
                <a:lnTo>
                  <a:pt x="49" y="81"/>
                </a:lnTo>
                <a:lnTo>
                  <a:pt x="52" y="84"/>
                </a:lnTo>
                <a:lnTo>
                  <a:pt x="49" y="88"/>
                </a:lnTo>
                <a:lnTo>
                  <a:pt x="49" y="91"/>
                </a:lnTo>
                <a:lnTo>
                  <a:pt x="56" y="94"/>
                </a:lnTo>
                <a:lnTo>
                  <a:pt x="65" y="94"/>
                </a:lnTo>
                <a:lnTo>
                  <a:pt x="64" y="88"/>
                </a:lnTo>
                <a:lnTo>
                  <a:pt x="61" y="83"/>
                </a:lnTo>
                <a:lnTo>
                  <a:pt x="53" y="65"/>
                </a:lnTo>
                <a:lnTo>
                  <a:pt x="48" y="48"/>
                </a:lnTo>
                <a:lnTo>
                  <a:pt x="45" y="32"/>
                </a:lnTo>
                <a:lnTo>
                  <a:pt x="46" y="25"/>
                </a:lnTo>
                <a:lnTo>
                  <a:pt x="51" y="20"/>
                </a:lnTo>
                <a:lnTo>
                  <a:pt x="58" y="16"/>
                </a:lnTo>
                <a:lnTo>
                  <a:pt x="68" y="14"/>
                </a:lnTo>
                <a:lnTo>
                  <a:pt x="69" y="14"/>
                </a:lnTo>
                <a:lnTo>
                  <a:pt x="72" y="17"/>
                </a:lnTo>
                <a:lnTo>
                  <a:pt x="75" y="19"/>
                </a:lnTo>
                <a:lnTo>
                  <a:pt x="80" y="20"/>
                </a:lnTo>
                <a:lnTo>
                  <a:pt x="87" y="22"/>
                </a:lnTo>
                <a:lnTo>
                  <a:pt x="94" y="23"/>
                </a:lnTo>
                <a:lnTo>
                  <a:pt x="98" y="26"/>
                </a:lnTo>
                <a:lnTo>
                  <a:pt x="100" y="30"/>
                </a:lnTo>
                <a:lnTo>
                  <a:pt x="98" y="33"/>
                </a:lnTo>
                <a:lnTo>
                  <a:pt x="98" y="30"/>
                </a:lnTo>
                <a:lnTo>
                  <a:pt x="98" y="23"/>
                </a:lnTo>
                <a:lnTo>
                  <a:pt x="100" y="12"/>
                </a:lnTo>
                <a:lnTo>
                  <a:pt x="101" y="7"/>
                </a:lnTo>
                <a:lnTo>
                  <a:pt x="106" y="3"/>
                </a:lnTo>
                <a:lnTo>
                  <a:pt x="110" y="0"/>
                </a:lnTo>
                <a:lnTo>
                  <a:pt x="110" y="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743880" y="2055960"/>
            <a:ext cx="42840" cy="48960"/>
          </a:xfrm>
          <a:custGeom>
            <a:avLst/>
            <a:gdLst/>
            <a:ahLst/>
            <a:rect l="l" t="t" r="r" b="b"/>
            <a:pathLst>
              <a:path w="123" h="152">
                <a:moveTo>
                  <a:pt x="13" y="11"/>
                </a:moveTo>
                <a:lnTo>
                  <a:pt x="20" y="5"/>
                </a:lnTo>
                <a:lnTo>
                  <a:pt x="29" y="3"/>
                </a:lnTo>
                <a:lnTo>
                  <a:pt x="38" y="1"/>
                </a:lnTo>
                <a:lnTo>
                  <a:pt x="45" y="0"/>
                </a:lnTo>
                <a:lnTo>
                  <a:pt x="54" y="1"/>
                </a:lnTo>
                <a:lnTo>
                  <a:pt x="68" y="7"/>
                </a:lnTo>
                <a:lnTo>
                  <a:pt x="78" y="13"/>
                </a:lnTo>
                <a:lnTo>
                  <a:pt x="82" y="16"/>
                </a:lnTo>
                <a:lnTo>
                  <a:pt x="84" y="19"/>
                </a:lnTo>
                <a:lnTo>
                  <a:pt x="84" y="19"/>
                </a:lnTo>
                <a:lnTo>
                  <a:pt x="85" y="20"/>
                </a:lnTo>
                <a:lnTo>
                  <a:pt x="88" y="21"/>
                </a:lnTo>
                <a:lnTo>
                  <a:pt x="96" y="23"/>
                </a:lnTo>
                <a:lnTo>
                  <a:pt x="113" y="27"/>
                </a:lnTo>
                <a:lnTo>
                  <a:pt x="123" y="32"/>
                </a:lnTo>
                <a:lnTo>
                  <a:pt x="123" y="46"/>
                </a:lnTo>
                <a:lnTo>
                  <a:pt x="122" y="62"/>
                </a:lnTo>
                <a:lnTo>
                  <a:pt x="120" y="66"/>
                </a:lnTo>
                <a:lnTo>
                  <a:pt x="116" y="66"/>
                </a:lnTo>
                <a:lnTo>
                  <a:pt x="113" y="66"/>
                </a:lnTo>
                <a:lnTo>
                  <a:pt x="109" y="66"/>
                </a:lnTo>
                <a:lnTo>
                  <a:pt x="107" y="68"/>
                </a:lnTo>
                <a:lnTo>
                  <a:pt x="107" y="74"/>
                </a:lnTo>
                <a:lnTo>
                  <a:pt x="106" y="81"/>
                </a:lnTo>
                <a:lnTo>
                  <a:pt x="107" y="81"/>
                </a:lnTo>
                <a:lnTo>
                  <a:pt x="98" y="82"/>
                </a:lnTo>
                <a:lnTo>
                  <a:pt x="91" y="84"/>
                </a:lnTo>
                <a:lnTo>
                  <a:pt x="84" y="88"/>
                </a:lnTo>
                <a:lnTo>
                  <a:pt x="78" y="92"/>
                </a:lnTo>
                <a:lnTo>
                  <a:pt x="68" y="103"/>
                </a:lnTo>
                <a:lnTo>
                  <a:pt x="61" y="117"/>
                </a:lnTo>
                <a:lnTo>
                  <a:pt x="56" y="134"/>
                </a:lnTo>
                <a:lnTo>
                  <a:pt x="55" y="150"/>
                </a:lnTo>
                <a:lnTo>
                  <a:pt x="56" y="150"/>
                </a:lnTo>
                <a:lnTo>
                  <a:pt x="49" y="152"/>
                </a:lnTo>
                <a:lnTo>
                  <a:pt x="42" y="152"/>
                </a:lnTo>
                <a:lnTo>
                  <a:pt x="36" y="152"/>
                </a:lnTo>
                <a:lnTo>
                  <a:pt x="35" y="152"/>
                </a:lnTo>
                <a:lnTo>
                  <a:pt x="22" y="139"/>
                </a:lnTo>
                <a:lnTo>
                  <a:pt x="6" y="116"/>
                </a:lnTo>
                <a:lnTo>
                  <a:pt x="0" y="97"/>
                </a:lnTo>
                <a:lnTo>
                  <a:pt x="3" y="84"/>
                </a:lnTo>
                <a:lnTo>
                  <a:pt x="7" y="76"/>
                </a:lnTo>
                <a:lnTo>
                  <a:pt x="11" y="72"/>
                </a:lnTo>
                <a:lnTo>
                  <a:pt x="13" y="71"/>
                </a:lnTo>
                <a:lnTo>
                  <a:pt x="13" y="62"/>
                </a:lnTo>
                <a:lnTo>
                  <a:pt x="11" y="34"/>
                </a:lnTo>
                <a:lnTo>
                  <a:pt x="11" y="13"/>
                </a:lnTo>
                <a:lnTo>
                  <a:pt x="13" y="11"/>
                </a:lnTo>
                <a:lnTo>
                  <a:pt x="13" y="1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862680" y="2247840"/>
            <a:ext cx="79560" cy="68400"/>
          </a:xfrm>
          <a:custGeom>
            <a:avLst/>
            <a:gdLst/>
            <a:ahLst/>
            <a:rect l="l" t="t" r="r" b="b"/>
            <a:pathLst>
              <a:path w="230" h="210">
                <a:moveTo>
                  <a:pt x="168" y="85"/>
                </a:moveTo>
                <a:lnTo>
                  <a:pt x="169" y="95"/>
                </a:lnTo>
                <a:lnTo>
                  <a:pt x="174" y="101"/>
                </a:lnTo>
                <a:lnTo>
                  <a:pt x="178" y="105"/>
                </a:lnTo>
                <a:lnTo>
                  <a:pt x="184" y="108"/>
                </a:lnTo>
                <a:lnTo>
                  <a:pt x="190" y="108"/>
                </a:lnTo>
                <a:lnTo>
                  <a:pt x="195" y="108"/>
                </a:lnTo>
                <a:lnTo>
                  <a:pt x="208" y="104"/>
                </a:lnTo>
                <a:lnTo>
                  <a:pt x="220" y="101"/>
                </a:lnTo>
                <a:lnTo>
                  <a:pt x="226" y="100"/>
                </a:lnTo>
                <a:lnTo>
                  <a:pt x="229" y="100"/>
                </a:lnTo>
                <a:lnTo>
                  <a:pt x="230" y="100"/>
                </a:lnTo>
                <a:lnTo>
                  <a:pt x="229" y="113"/>
                </a:lnTo>
                <a:lnTo>
                  <a:pt x="224" y="123"/>
                </a:lnTo>
                <a:lnTo>
                  <a:pt x="218" y="130"/>
                </a:lnTo>
                <a:lnTo>
                  <a:pt x="211" y="136"/>
                </a:lnTo>
                <a:lnTo>
                  <a:pt x="204" y="140"/>
                </a:lnTo>
                <a:lnTo>
                  <a:pt x="194" y="142"/>
                </a:lnTo>
                <a:lnTo>
                  <a:pt x="184" y="142"/>
                </a:lnTo>
                <a:lnTo>
                  <a:pt x="163" y="139"/>
                </a:lnTo>
                <a:lnTo>
                  <a:pt x="146" y="133"/>
                </a:lnTo>
                <a:lnTo>
                  <a:pt x="139" y="127"/>
                </a:lnTo>
                <a:lnTo>
                  <a:pt x="132" y="133"/>
                </a:lnTo>
                <a:lnTo>
                  <a:pt x="119" y="145"/>
                </a:lnTo>
                <a:lnTo>
                  <a:pt x="100" y="174"/>
                </a:lnTo>
                <a:lnTo>
                  <a:pt x="85" y="204"/>
                </a:lnTo>
                <a:lnTo>
                  <a:pt x="84" y="210"/>
                </a:lnTo>
                <a:lnTo>
                  <a:pt x="69" y="210"/>
                </a:lnTo>
                <a:lnTo>
                  <a:pt x="59" y="207"/>
                </a:lnTo>
                <a:lnTo>
                  <a:pt x="53" y="204"/>
                </a:lnTo>
                <a:lnTo>
                  <a:pt x="50" y="198"/>
                </a:lnTo>
                <a:lnTo>
                  <a:pt x="50" y="194"/>
                </a:lnTo>
                <a:lnTo>
                  <a:pt x="49" y="189"/>
                </a:lnTo>
                <a:lnTo>
                  <a:pt x="49" y="185"/>
                </a:lnTo>
                <a:lnTo>
                  <a:pt x="46" y="181"/>
                </a:lnTo>
                <a:lnTo>
                  <a:pt x="42" y="179"/>
                </a:lnTo>
                <a:lnTo>
                  <a:pt x="33" y="179"/>
                </a:lnTo>
                <a:lnTo>
                  <a:pt x="20" y="181"/>
                </a:lnTo>
                <a:lnTo>
                  <a:pt x="1" y="184"/>
                </a:lnTo>
                <a:lnTo>
                  <a:pt x="1" y="184"/>
                </a:lnTo>
                <a:lnTo>
                  <a:pt x="0" y="174"/>
                </a:lnTo>
                <a:lnTo>
                  <a:pt x="0" y="160"/>
                </a:lnTo>
                <a:lnTo>
                  <a:pt x="3" y="129"/>
                </a:lnTo>
                <a:lnTo>
                  <a:pt x="11" y="56"/>
                </a:lnTo>
                <a:lnTo>
                  <a:pt x="10" y="0"/>
                </a:lnTo>
                <a:lnTo>
                  <a:pt x="11" y="0"/>
                </a:lnTo>
                <a:lnTo>
                  <a:pt x="14" y="0"/>
                </a:lnTo>
                <a:lnTo>
                  <a:pt x="23" y="3"/>
                </a:lnTo>
                <a:lnTo>
                  <a:pt x="52" y="11"/>
                </a:lnTo>
                <a:lnTo>
                  <a:pt x="123" y="43"/>
                </a:lnTo>
                <a:lnTo>
                  <a:pt x="168" y="85"/>
                </a:lnTo>
                <a:lnTo>
                  <a:pt x="168" y="85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99400" y="2298600"/>
            <a:ext cx="29880" cy="34920"/>
          </a:xfrm>
          <a:custGeom>
            <a:avLst/>
            <a:gdLst/>
            <a:ahLst/>
            <a:rect l="l" t="t" r="r" b="b"/>
            <a:pathLst>
              <a:path w="90" h="101">
                <a:moveTo>
                  <a:pt x="40" y="101"/>
                </a:moveTo>
                <a:lnTo>
                  <a:pt x="22" y="100"/>
                </a:lnTo>
                <a:lnTo>
                  <a:pt x="10" y="97"/>
                </a:lnTo>
                <a:lnTo>
                  <a:pt x="3" y="94"/>
                </a:lnTo>
                <a:lnTo>
                  <a:pt x="1" y="93"/>
                </a:lnTo>
                <a:lnTo>
                  <a:pt x="0" y="90"/>
                </a:lnTo>
                <a:lnTo>
                  <a:pt x="0" y="87"/>
                </a:lnTo>
                <a:lnTo>
                  <a:pt x="0" y="84"/>
                </a:lnTo>
                <a:lnTo>
                  <a:pt x="1" y="81"/>
                </a:lnTo>
                <a:lnTo>
                  <a:pt x="4" y="75"/>
                </a:lnTo>
                <a:lnTo>
                  <a:pt x="9" y="68"/>
                </a:lnTo>
                <a:lnTo>
                  <a:pt x="20" y="49"/>
                </a:lnTo>
                <a:lnTo>
                  <a:pt x="26" y="27"/>
                </a:lnTo>
                <a:lnTo>
                  <a:pt x="27" y="20"/>
                </a:lnTo>
                <a:lnTo>
                  <a:pt x="30" y="20"/>
                </a:lnTo>
                <a:lnTo>
                  <a:pt x="35" y="17"/>
                </a:lnTo>
                <a:lnTo>
                  <a:pt x="38" y="14"/>
                </a:lnTo>
                <a:lnTo>
                  <a:pt x="46" y="7"/>
                </a:lnTo>
                <a:lnTo>
                  <a:pt x="54" y="1"/>
                </a:lnTo>
                <a:lnTo>
                  <a:pt x="59" y="0"/>
                </a:lnTo>
                <a:lnTo>
                  <a:pt x="65" y="0"/>
                </a:lnTo>
                <a:lnTo>
                  <a:pt x="72" y="3"/>
                </a:lnTo>
                <a:lnTo>
                  <a:pt x="80" y="9"/>
                </a:lnTo>
                <a:lnTo>
                  <a:pt x="88" y="16"/>
                </a:lnTo>
                <a:lnTo>
                  <a:pt x="90" y="16"/>
                </a:lnTo>
                <a:lnTo>
                  <a:pt x="88" y="26"/>
                </a:lnTo>
                <a:lnTo>
                  <a:pt x="84" y="42"/>
                </a:lnTo>
                <a:lnTo>
                  <a:pt x="77" y="55"/>
                </a:lnTo>
                <a:lnTo>
                  <a:pt x="67" y="67"/>
                </a:lnTo>
                <a:lnTo>
                  <a:pt x="45" y="94"/>
                </a:lnTo>
                <a:lnTo>
                  <a:pt x="40" y="101"/>
                </a:lnTo>
                <a:lnTo>
                  <a:pt x="40" y="10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950160" y="2306520"/>
            <a:ext cx="14040" cy="23760"/>
          </a:xfrm>
          <a:custGeom>
            <a:avLst/>
            <a:gdLst/>
            <a:ahLst/>
            <a:rect l="l" t="t" r="r" b="b"/>
            <a:pathLst>
              <a:path w="39" h="77">
                <a:moveTo>
                  <a:pt x="34" y="77"/>
                </a:moveTo>
                <a:lnTo>
                  <a:pt x="27" y="74"/>
                </a:lnTo>
                <a:lnTo>
                  <a:pt x="16" y="67"/>
                </a:lnTo>
                <a:lnTo>
                  <a:pt x="6" y="57"/>
                </a:lnTo>
                <a:lnTo>
                  <a:pt x="0" y="45"/>
                </a:lnTo>
                <a:lnTo>
                  <a:pt x="0" y="32"/>
                </a:lnTo>
                <a:lnTo>
                  <a:pt x="8" y="18"/>
                </a:lnTo>
                <a:lnTo>
                  <a:pt x="16" y="9"/>
                </a:lnTo>
                <a:lnTo>
                  <a:pt x="17" y="9"/>
                </a:lnTo>
                <a:lnTo>
                  <a:pt x="19" y="9"/>
                </a:lnTo>
                <a:lnTo>
                  <a:pt x="21" y="7"/>
                </a:lnTo>
                <a:lnTo>
                  <a:pt x="23" y="5"/>
                </a:lnTo>
                <a:lnTo>
                  <a:pt x="24" y="2"/>
                </a:lnTo>
                <a:lnTo>
                  <a:pt x="27" y="0"/>
                </a:lnTo>
                <a:lnTo>
                  <a:pt x="32" y="7"/>
                </a:lnTo>
                <a:lnTo>
                  <a:pt x="34" y="13"/>
                </a:lnTo>
                <a:lnTo>
                  <a:pt x="37" y="19"/>
                </a:lnTo>
                <a:lnTo>
                  <a:pt x="39" y="32"/>
                </a:lnTo>
                <a:lnTo>
                  <a:pt x="37" y="47"/>
                </a:lnTo>
                <a:lnTo>
                  <a:pt x="34" y="71"/>
                </a:lnTo>
                <a:lnTo>
                  <a:pt x="34" y="77"/>
                </a:lnTo>
                <a:lnTo>
                  <a:pt x="34" y="77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931080" y="2160720"/>
            <a:ext cx="22320" cy="28440"/>
          </a:xfrm>
          <a:custGeom>
            <a:avLst/>
            <a:gdLst/>
            <a:ahLst/>
            <a:rect l="l" t="t" r="r" b="b"/>
            <a:pathLst>
              <a:path w="63" h="90">
                <a:moveTo>
                  <a:pt x="56" y="12"/>
                </a:moveTo>
                <a:lnTo>
                  <a:pt x="56" y="18"/>
                </a:lnTo>
                <a:lnTo>
                  <a:pt x="56" y="26"/>
                </a:lnTo>
                <a:lnTo>
                  <a:pt x="61" y="38"/>
                </a:lnTo>
                <a:lnTo>
                  <a:pt x="62" y="60"/>
                </a:lnTo>
                <a:lnTo>
                  <a:pt x="63" y="67"/>
                </a:lnTo>
                <a:lnTo>
                  <a:pt x="62" y="68"/>
                </a:lnTo>
                <a:lnTo>
                  <a:pt x="56" y="71"/>
                </a:lnTo>
                <a:lnTo>
                  <a:pt x="34" y="82"/>
                </a:lnTo>
                <a:lnTo>
                  <a:pt x="17" y="90"/>
                </a:lnTo>
                <a:lnTo>
                  <a:pt x="17" y="90"/>
                </a:lnTo>
                <a:lnTo>
                  <a:pt x="10" y="84"/>
                </a:lnTo>
                <a:lnTo>
                  <a:pt x="3" y="68"/>
                </a:lnTo>
                <a:lnTo>
                  <a:pt x="0" y="54"/>
                </a:lnTo>
                <a:lnTo>
                  <a:pt x="1" y="38"/>
                </a:lnTo>
                <a:lnTo>
                  <a:pt x="5" y="24"/>
                </a:lnTo>
                <a:lnTo>
                  <a:pt x="13" y="8"/>
                </a:lnTo>
                <a:lnTo>
                  <a:pt x="17" y="0"/>
                </a:lnTo>
                <a:lnTo>
                  <a:pt x="21" y="2"/>
                </a:lnTo>
                <a:lnTo>
                  <a:pt x="30" y="2"/>
                </a:lnTo>
                <a:lnTo>
                  <a:pt x="39" y="5"/>
                </a:lnTo>
                <a:lnTo>
                  <a:pt x="50" y="11"/>
                </a:lnTo>
                <a:lnTo>
                  <a:pt x="56" y="12"/>
                </a:lnTo>
                <a:lnTo>
                  <a:pt x="56" y="1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796080" y="2055960"/>
            <a:ext cx="320760" cy="220680"/>
          </a:xfrm>
          <a:custGeom>
            <a:avLst/>
            <a:gdLst/>
            <a:ahLst/>
            <a:rect l="l" t="t" r="r" b="b"/>
            <a:pathLst>
              <a:path w="933" h="680">
                <a:moveTo>
                  <a:pt x="120" y="3"/>
                </a:moveTo>
                <a:lnTo>
                  <a:pt x="118" y="5"/>
                </a:lnTo>
                <a:lnTo>
                  <a:pt x="121" y="9"/>
                </a:lnTo>
                <a:lnTo>
                  <a:pt x="127" y="15"/>
                </a:lnTo>
                <a:lnTo>
                  <a:pt x="149" y="31"/>
                </a:lnTo>
                <a:lnTo>
                  <a:pt x="201" y="64"/>
                </a:lnTo>
                <a:lnTo>
                  <a:pt x="221" y="76"/>
                </a:lnTo>
                <a:lnTo>
                  <a:pt x="220" y="80"/>
                </a:lnTo>
                <a:lnTo>
                  <a:pt x="218" y="89"/>
                </a:lnTo>
                <a:lnTo>
                  <a:pt x="217" y="94"/>
                </a:lnTo>
                <a:lnTo>
                  <a:pt x="217" y="96"/>
                </a:lnTo>
                <a:lnTo>
                  <a:pt x="218" y="94"/>
                </a:lnTo>
                <a:lnTo>
                  <a:pt x="226" y="87"/>
                </a:lnTo>
                <a:lnTo>
                  <a:pt x="233" y="80"/>
                </a:lnTo>
                <a:lnTo>
                  <a:pt x="237" y="81"/>
                </a:lnTo>
                <a:lnTo>
                  <a:pt x="246" y="83"/>
                </a:lnTo>
                <a:lnTo>
                  <a:pt x="255" y="87"/>
                </a:lnTo>
                <a:lnTo>
                  <a:pt x="266" y="94"/>
                </a:lnTo>
                <a:lnTo>
                  <a:pt x="275" y="96"/>
                </a:lnTo>
                <a:lnTo>
                  <a:pt x="275" y="90"/>
                </a:lnTo>
                <a:lnTo>
                  <a:pt x="275" y="78"/>
                </a:lnTo>
                <a:lnTo>
                  <a:pt x="281" y="54"/>
                </a:lnTo>
                <a:lnTo>
                  <a:pt x="291" y="34"/>
                </a:lnTo>
                <a:lnTo>
                  <a:pt x="295" y="29"/>
                </a:lnTo>
                <a:lnTo>
                  <a:pt x="302" y="34"/>
                </a:lnTo>
                <a:lnTo>
                  <a:pt x="317" y="41"/>
                </a:lnTo>
                <a:lnTo>
                  <a:pt x="340" y="58"/>
                </a:lnTo>
                <a:lnTo>
                  <a:pt x="347" y="68"/>
                </a:lnTo>
                <a:lnTo>
                  <a:pt x="352" y="81"/>
                </a:lnTo>
                <a:lnTo>
                  <a:pt x="353" y="87"/>
                </a:lnTo>
                <a:lnTo>
                  <a:pt x="355" y="86"/>
                </a:lnTo>
                <a:lnTo>
                  <a:pt x="359" y="81"/>
                </a:lnTo>
                <a:lnTo>
                  <a:pt x="362" y="77"/>
                </a:lnTo>
                <a:lnTo>
                  <a:pt x="363" y="76"/>
                </a:lnTo>
                <a:lnTo>
                  <a:pt x="366" y="76"/>
                </a:lnTo>
                <a:lnTo>
                  <a:pt x="379" y="76"/>
                </a:lnTo>
                <a:lnTo>
                  <a:pt x="389" y="76"/>
                </a:lnTo>
                <a:lnTo>
                  <a:pt x="391" y="76"/>
                </a:lnTo>
                <a:lnTo>
                  <a:pt x="391" y="77"/>
                </a:lnTo>
                <a:lnTo>
                  <a:pt x="394" y="84"/>
                </a:lnTo>
                <a:lnTo>
                  <a:pt x="402" y="107"/>
                </a:lnTo>
                <a:lnTo>
                  <a:pt x="408" y="126"/>
                </a:lnTo>
                <a:lnTo>
                  <a:pt x="410" y="126"/>
                </a:lnTo>
                <a:lnTo>
                  <a:pt x="410" y="119"/>
                </a:lnTo>
                <a:lnTo>
                  <a:pt x="410" y="107"/>
                </a:lnTo>
                <a:lnTo>
                  <a:pt x="412" y="86"/>
                </a:lnTo>
                <a:lnTo>
                  <a:pt x="421" y="68"/>
                </a:lnTo>
                <a:lnTo>
                  <a:pt x="426" y="64"/>
                </a:lnTo>
                <a:lnTo>
                  <a:pt x="428" y="67"/>
                </a:lnTo>
                <a:lnTo>
                  <a:pt x="434" y="70"/>
                </a:lnTo>
                <a:lnTo>
                  <a:pt x="447" y="78"/>
                </a:lnTo>
                <a:lnTo>
                  <a:pt x="457" y="86"/>
                </a:lnTo>
                <a:lnTo>
                  <a:pt x="460" y="87"/>
                </a:lnTo>
                <a:lnTo>
                  <a:pt x="459" y="89"/>
                </a:lnTo>
                <a:lnTo>
                  <a:pt x="456" y="96"/>
                </a:lnTo>
                <a:lnTo>
                  <a:pt x="443" y="119"/>
                </a:lnTo>
                <a:lnTo>
                  <a:pt x="433" y="136"/>
                </a:lnTo>
                <a:lnTo>
                  <a:pt x="433" y="136"/>
                </a:lnTo>
                <a:lnTo>
                  <a:pt x="439" y="132"/>
                </a:lnTo>
                <a:lnTo>
                  <a:pt x="459" y="116"/>
                </a:lnTo>
                <a:lnTo>
                  <a:pt x="475" y="103"/>
                </a:lnTo>
                <a:lnTo>
                  <a:pt x="476" y="102"/>
                </a:lnTo>
                <a:lnTo>
                  <a:pt x="475" y="103"/>
                </a:lnTo>
                <a:lnTo>
                  <a:pt x="473" y="105"/>
                </a:lnTo>
                <a:lnTo>
                  <a:pt x="470" y="107"/>
                </a:lnTo>
                <a:lnTo>
                  <a:pt x="466" y="115"/>
                </a:lnTo>
                <a:lnTo>
                  <a:pt x="460" y="136"/>
                </a:lnTo>
                <a:lnTo>
                  <a:pt x="463" y="154"/>
                </a:lnTo>
                <a:lnTo>
                  <a:pt x="466" y="152"/>
                </a:lnTo>
                <a:lnTo>
                  <a:pt x="478" y="142"/>
                </a:lnTo>
                <a:lnTo>
                  <a:pt x="512" y="116"/>
                </a:lnTo>
                <a:lnTo>
                  <a:pt x="530" y="106"/>
                </a:lnTo>
                <a:lnTo>
                  <a:pt x="536" y="103"/>
                </a:lnTo>
                <a:lnTo>
                  <a:pt x="541" y="103"/>
                </a:lnTo>
                <a:lnTo>
                  <a:pt x="544" y="103"/>
                </a:lnTo>
                <a:lnTo>
                  <a:pt x="546" y="103"/>
                </a:lnTo>
                <a:lnTo>
                  <a:pt x="544" y="110"/>
                </a:lnTo>
                <a:lnTo>
                  <a:pt x="544" y="122"/>
                </a:lnTo>
                <a:lnTo>
                  <a:pt x="540" y="144"/>
                </a:lnTo>
                <a:lnTo>
                  <a:pt x="536" y="154"/>
                </a:lnTo>
                <a:lnTo>
                  <a:pt x="530" y="161"/>
                </a:lnTo>
                <a:lnTo>
                  <a:pt x="526" y="164"/>
                </a:lnTo>
                <a:lnTo>
                  <a:pt x="530" y="163"/>
                </a:lnTo>
                <a:lnTo>
                  <a:pt x="540" y="155"/>
                </a:lnTo>
                <a:lnTo>
                  <a:pt x="550" y="145"/>
                </a:lnTo>
                <a:lnTo>
                  <a:pt x="566" y="123"/>
                </a:lnTo>
                <a:lnTo>
                  <a:pt x="576" y="107"/>
                </a:lnTo>
                <a:lnTo>
                  <a:pt x="581" y="109"/>
                </a:lnTo>
                <a:lnTo>
                  <a:pt x="585" y="110"/>
                </a:lnTo>
                <a:lnTo>
                  <a:pt x="589" y="112"/>
                </a:lnTo>
                <a:lnTo>
                  <a:pt x="594" y="115"/>
                </a:lnTo>
                <a:lnTo>
                  <a:pt x="595" y="118"/>
                </a:lnTo>
                <a:lnTo>
                  <a:pt x="598" y="122"/>
                </a:lnTo>
                <a:lnTo>
                  <a:pt x="601" y="131"/>
                </a:lnTo>
                <a:lnTo>
                  <a:pt x="602" y="139"/>
                </a:lnTo>
                <a:lnTo>
                  <a:pt x="602" y="149"/>
                </a:lnTo>
                <a:lnTo>
                  <a:pt x="604" y="149"/>
                </a:lnTo>
                <a:lnTo>
                  <a:pt x="601" y="152"/>
                </a:lnTo>
                <a:lnTo>
                  <a:pt x="595" y="158"/>
                </a:lnTo>
                <a:lnTo>
                  <a:pt x="583" y="168"/>
                </a:lnTo>
                <a:lnTo>
                  <a:pt x="570" y="173"/>
                </a:lnTo>
                <a:lnTo>
                  <a:pt x="566" y="173"/>
                </a:lnTo>
                <a:lnTo>
                  <a:pt x="570" y="174"/>
                </a:lnTo>
                <a:lnTo>
                  <a:pt x="581" y="174"/>
                </a:lnTo>
                <a:lnTo>
                  <a:pt x="596" y="178"/>
                </a:lnTo>
                <a:lnTo>
                  <a:pt x="611" y="189"/>
                </a:lnTo>
                <a:lnTo>
                  <a:pt x="615" y="192"/>
                </a:lnTo>
                <a:lnTo>
                  <a:pt x="612" y="194"/>
                </a:lnTo>
                <a:lnTo>
                  <a:pt x="608" y="199"/>
                </a:lnTo>
                <a:lnTo>
                  <a:pt x="598" y="209"/>
                </a:lnTo>
                <a:lnTo>
                  <a:pt x="586" y="216"/>
                </a:lnTo>
                <a:lnTo>
                  <a:pt x="585" y="216"/>
                </a:lnTo>
                <a:lnTo>
                  <a:pt x="608" y="222"/>
                </a:lnTo>
                <a:lnTo>
                  <a:pt x="657" y="232"/>
                </a:lnTo>
                <a:lnTo>
                  <a:pt x="757" y="248"/>
                </a:lnTo>
                <a:lnTo>
                  <a:pt x="860" y="254"/>
                </a:lnTo>
                <a:lnTo>
                  <a:pt x="886" y="254"/>
                </a:lnTo>
                <a:lnTo>
                  <a:pt x="872" y="280"/>
                </a:lnTo>
                <a:lnTo>
                  <a:pt x="859" y="315"/>
                </a:lnTo>
                <a:lnTo>
                  <a:pt x="857" y="328"/>
                </a:lnTo>
                <a:lnTo>
                  <a:pt x="859" y="336"/>
                </a:lnTo>
                <a:lnTo>
                  <a:pt x="862" y="344"/>
                </a:lnTo>
                <a:lnTo>
                  <a:pt x="866" y="349"/>
                </a:lnTo>
                <a:lnTo>
                  <a:pt x="872" y="355"/>
                </a:lnTo>
                <a:lnTo>
                  <a:pt x="882" y="370"/>
                </a:lnTo>
                <a:lnTo>
                  <a:pt x="885" y="393"/>
                </a:lnTo>
                <a:lnTo>
                  <a:pt x="886" y="393"/>
                </a:lnTo>
                <a:lnTo>
                  <a:pt x="878" y="393"/>
                </a:lnTo>
                <a:lnTo>
                  <a:pt x="859" y="393"/>
                </a:lnTo>
                <a:lnTo>
                  <a:pt x="818" y="391"/>
                </a:lnTo>
                <a:lnTo>
                  <a:pt x="780" y="384"/>
                </a:lnTo>
                <a:lnTo>
                  <a:pt x="775" y="381"/>
                </a:lnTo>
                <a:lnTo>
                  <a:pt x="770" y="381"/>
                </a:lnTo>
                <a:lnTo>
                  <a:pt x="762" y="376"/>
                </a:lnTo>
                <a:lnTo>
                  <a:pt x="754" y="370"/>
                </a:lnTo>
                <a:lnTo>
                  <a:pt x="738" y="355"/>
                </a:lnTo>
                <a:lnTo>
                  <a:pt x="727" y="347"/>
                </a:lnTo>
                <a:lnTo>
                  <a:pt x="721" y="352"/>
                </a:lnTo>
                <a:lnTo>
                  <a:pt x="717" y="364"/>
                </a:lnTo>
                <a:lnTo>
                  <a:pt x="715" y="376"/>
                </a:lnTo>
                <a:lnTo>
                  <a:pt x="718" y="387"/>
                </a:lnTo>
                <a:lnTo>
                  <a:pt x="723" y="413"/>
                </a:lnTo>
                <a:lnTo>
                  <a:pt x="724" y="420"/>
                </a:lnTo>
                <a:lnTo>
                  <a:pt x="736" y="422"/>
                </a:lnTo>
                <a:lnTo>
                  <a:pt x="754" y="426"/>
                </a:lnTo>
                <a:lnTo>
                  <a:pt x="807" y="439"/>
                </a:lnTo>
                <a:lnTo>
                  <a:pt x="865" y="462"/>
                </a:lnTo>
                <a:lnTo>
                  <a:pt x="912" y="494"/>
                </a:lnTo>
                <a:lnTo>
                  <a:pt x="927" y="512"/>
                </a:lnTo>
                <a:lnTo>
                  <a:pt x="933" y="532"/>
                </a:lnTo>
                <a:lnTo>
                  <a:pt x="927" y="555"/>
                </a:lnTo>
                <a:lnTo>
                  <a:pt x="909" y="578"/>
                </a:lnTo>
                <a:lnTo>
                  <a:pt x="909" y="578"/>
                </a:lnTo>
                <a:lnTo>
                  <a:pt x="901" y="578"/>
                </a:lnTo>
                <a:lnTo>
                  <a:pt x="883" y="575"/>
                </a:lnTo>
                <a:lnTo>
                  <a:pt x="841" y="564"/>
                </a:lnTo>
                <a:lnTo>
                  <a:pt x="821" y="561"/>
                </a:lnTo>
                <a:lnTo>
                  <a:pt x="804" y="562"/>
                </a:lnTo>
                <a:lnTo>
                  <a:pt x="798" y="564"/>
                </a:lnTo>
                <a:lnTo>
                  <a:pt x="795" y="565"/>
                </a:lnTo>
                <a:lnTo>
                  <a:pt x="794" y="567"/>
                </a:lnTo>
                <a:lnTo>
                  <a:pt x="794" y="570"/>
                </a:lnTo>
                <a:lnTo>
                  <a:pt x="794" y="573"/>
                </a:lnTo>
                <a:lnTo>
                  <a:pt x="794" y="574"/>
                </a:lnTo>
                <a:lnTo>
                  <a:pt x="794" y="574"/>
                </a:lnTo>
                <a:lnTo>
                  <a:pt x="805" y="577"/>
                </a:lnTo>
                <a:lnTo>
                  <a:pt x="833" y="581"/>
                </a:lnTo>
                <a:lnTo>
                  <a:pt x="892" y="599"/>
                </a:lnTo>
                <a:lnTo>
                  <a:pt x="914" y="616"/>
                </a:lnTo>
                <a:lnTo>
                  <a:pt x="920" y="628"/>
                </a:lnTo>
                <a:lnTo>
                  <a:pt x="922" y="641"/>
                </a:lnTo>
                <a:lnTo>
                  <a:pt x="921" y="657"/>
                </a:lnTo>
                <a:lnTo>
                  <a:pt x="921" y="657"/>
                </a:lnTo>
                <a:lnTo>
                  <a:pt x="909" y="657"/>
                </a:lnTo>
                <a:lnTo>
                  <a:pt x="882" y="654"/>
                </a:lnTo>
                <a:lnTo>
                  <a:pt x="818" y="654"/>
                </a:lnTo>
                <a:lnTo>
                  <a:pt x="788" y="660"/>
                </a:lnTo>
                <a:lnTo>
                  <a:pt x="762" y="671"/>
                </a:lnTo>
                <a:lnTo>
                  <a:pt x="752" y="680"/>
                </a:lnTo>
                <a:lnTo>
                  <a:pt x="737" y="670"/>
                </a:lnTo>
                <a:lnTo>
                  <a:pt x="712" y="645"/>
                </a:lnTo>
                <a:lnTo>
                  <a:pt x="688" y="616"/>
                </a:lnTo>
                <a:lnTo>
                  <a:pt x="631" y="567"/>
                </a:lnTo>
                <a:lnTo>
                  <a:pt x="569" y="551"/>
                </a:lnTo>
                <a:lnTo>
                  <a:pt x="560" y="558"/>
                </a:lnTo>
                <a:lnTo>
                  <a:pt x="547" y="571"/>
                </a:lnTo>
                <a:lnTo>
                  <a:pt x="521" y="596"/>
                </a:lnTo>
                <a:lnTo>
                  <a:pt x="495" y="622"/>
                </a:lnTo>
                <a:lnTo>
                  <a:pt x="488" y="629"/>
                </a:lnTo>
                <a:lnTo>
                  <a:pt x="481" y="626"/>
                </a:lnTo>
                <a:lnTo>
                  <a:pt x="472" y="622"/>
                </a:lnTo>
                <a:lnTo>
                  <a:pt x="465" y="618"/>
                </a:lnTo>
                <a:lnTo>
                  <a:pt x="460" y="613"/>
                </a:lnTo>
                <a:lnTo>
                  <a:pt x="457" y="607"/>
                </a:lnTo>
                <a:lnTo>
                  <a:pt x="455" y="597"/>
                </a:lnTo>
                <a:lnTo>
                  <a:pt x="453" y="590"/>
                </a:lnTo>
                <a:lnTo>
                  <a:pt x="456" y="581"/>
                </a:lnTo>
                <a:lnTo>
                  <a:pt x="462" y="571"/>
                </a:lnTo>
                <a:lnTo>
                  <a:pt x="478" y="555"/>
                </a:lnTo>
                <a:lnTo>
                  <a:pt x="498" y="541"/>
                </a:lnTo>
                <a:lnTo>
                  <a:pt x="541" y="520"/>
                </a:lnTo>
                <a:lnTo>
                  <a:pt x="562" y="513"/>
                </a:lnTo>
                <a:lnTo>
                  <a:pt x="566" y="513"/>
                </a:lnTo>
                <a:lnTo>
                  <a:pt x="573" y="510"/>
                </a:lnTo>
                <a:lnTo>
                  <a:pt x="579" y="506"/>
                </a:lnTo>
                <a:lnTo>
                  <a:pt x="582" y="500"/>
                </a:lnTo>
                <a:lnTo>
                  <a:pt x="583" y="494"/>
                </a:lnTo>
                <a:lnTo>
                  <a:pt x="583" y="487"/>
                </a:lnTo>
                <a:lnTo>
                  <a:pt x="585" y="483"/>
                </a:lnTo>
                <a:lnTo>
                  <a:pt x="579" y="481"/>
                </a:lnTo>
                <a:lnTo>
                  <a:pt x="570" y="476"/>
                </a:lnTo>
                <a:lnTo>
                  <a:pt x="554" y="460"/>
                </a:lnTo>
                <a:lnTo>
                  <a:pt x="546" y="439"/>
                </a:lnTo>
                <a:lnTo>
                  <a:pt x="546" y="432"/>
                </a:lnTo>
                <a:lnTo>
                  <a:pt x="549" y="429"/>
                </a:lnTo>
                <a:lnTo>
                  <a:pt x="554" y="422"/>
                </a:lnTo>
                <a:lnTo>
                  <a:pt x="569" y="410"/>
                </a:lnTo>
                <a:lnTo>
                  <a:pt x="592" y="406"/>
                </a:lnTo>
                <a:lnTo>
                  <a:pt x="601" y="405"/>
                </a:lnTo>
                <a:lnTo>
                  <a:pt x="605" y="410"/>
                </a:lnTo>
                <a:lnTo>
                  <a:pt x="617" y="418"/>
                </a:lnTo>
                <a:lnTo>
                  <a:pt x="628" y="420"/>
                </a:lnTo>
                <a:lnTo>
                  <a:pt x="639" y="422"/>
                </a:lnTo>
                <a:lnTo>
                  <a:pt x="650" y="422"/>
                </a:lnTo>
                <a:lnTo>
                  <a:pt x="662" y="422"/>
                </a:lnTo>
                <a:lnTo>
                  <a:pt x="669" y="420"/>
                </a:lnTo>
                <a:lnTo>
                  <a:pt x="672" y="418"/>
                </a:lnTo>
                <a:lnTo>
                  <a:pt x="675" y="410"/>
                </a:lnTo>
                <a:lnTo>
                  <a:pt x="678" y="403"/>
                </a:lnTo>
                <a:lnTo>
                  <a:pt x="678" y="396"/>
                </a:lnTo>
                <a:lnTo>
                  <a:pt x="678" y="381"/>
                </a:lnTo>
                <a:lnTo>
                  <a:pt x="678" y="377"/>
                </a:lnTo>
                <a:lnTo>
                  <a:pt x="670" y="378"/>
                </a:lnTo>
                <a:lnTo>
                  <a:pt x="657" y="378"/>
                </a:lnTo>
                <a:lnTo>
                  <a:pt x="631" y="381"/>
                </a:lnTo>
                <a:lnTo>
                  <a:pt x="607" y="386"/>
                </a:lnTo>
                <a:lnTo>
                  <a:pt x="601" y="386"/>
                </a:lnTo>
                <a:lnTo>
                  <a:pt x="594" y="387"/>
                </a:lnTo>
                <a:lnTo>
                  <a:pt x="579" y="389"/>
                </a:lnTo>
                <a:lnTo>
                  <a:pt x="546" y="384"/>
                </a:lnTo>
                <a:lnTo>
                  <a:pt x="520" y="374"/>
                </a:lnTo>
                <a:lnTo>
                  <a:pt x="515" y="370"/>
                </a:lnTo>
                <a:lnTo>
                  <a:pt x="514" y="364"/>
                </a:lnTo>
                <a:lnTo>
                  <a:pt x="511" y="357"/>
                </a:lnTo>
                <a:lnTo>
                  <a:pt x="504" y="342"/>
                </a:lnTo>
                <a:lnTo>
                  <a:pt x="495" y="328"/>
                </a:lnTo>
                <a:lnTo>
                  <a:pt x="478" y="305"/>
                </a:lnTo>
                <a:lnTo>
                  <a:pt x="476" y="297"/>
                </a:lnTo>
                <a:lnTo>
                  <a:pt x="468" y="294"/>
                </a:lnTo>
                <a:lnTo>
                  <a:pt x="460" y="291"/>
                </a:lnTo>
                <a:lnTo>
                  <a:pt x="444" y="280"/>
                </a:lnTo>
                <a:lnTo>
                  <a:pt x="428" y="270"/>
                </a:lnTo>
                <a:lnTo>
                  <a:pt x="412" y="264"/>
                </a:lnTo>
                <a:lnTo>
                  <a:pt x="395" y="265"/>
                </a:lnTo>
                <a:lnTo>
                  <a:pt x="376" y="277"/>
                </a:lnTo>
                <a:lnTo>
                  <a:pt x="376" y="277"/>
                </a:lnTo>
                <a:lnTo>
                  <a:pt x="376" y="263"/>
                </a:lnTo>
                <a:lnTo>
                  <a:pt x="375" y="238"/>
                </a:lnTo>
                <a:lnTo>
                  <a:pt x="369" y="222"/>
                </a:lnTo>
                <a:lnTo>
                  <a:pt x="357" y="209"/>
                </a:lnTo>
                <a:lnTo>
                  <a:pt x="339" y="196"/>
                </a:lnTo>
                <a:lnTo>
                  <a:pt x="315" y="181"/>
                </a:lnTo>
                <a:lnTo>
                  <a:pt x="302" y="173"/>
                </a:lnTo>
                <a:lnTo>
                  <a:pt x="301" y="174"/>
                </a:lnTo>
                <a:lnTo>
                  <a:pt x="298" y="178"/>
                </a:lnTo>
                <a:lnTo>
                  <a:pt x="294" y="189"/>
                </a:lnTo>
                <a:lnTo>
                  <a:pt x="291" y="199"/>
                </a:lnTo>
                <a:lnTo>
                  <a:pt x="291" y="200"/>
                </a:lnTo>
                <a:lnTo>
                  <a:pt x="294" y="205"/>
                </a:lnTo>
                <a:lnTo>
                  <a:pt x="299" y="210"/>
                </a:lnTo>
                <a:lnTo>
                  <a:pt x="311" y="228"/>
                </a:lnTo>
                <a:lnTo>
                  <a:pt x="317" y="245"/>
                </a:lnTo>
                <a:lnTo>
                  <a:pt x="318" y="249"/>
                </a:lnTo>
                <a:lnTo>
                  <a:pt x="301" y="241"/>
                </a:lnTo>
                <a:lnTo>
                  <a:pt x="271" y="228"/>
                </a:lnTo>
                <a:lnTo>
                  <a:pt x="246" y="223"/>
                </a:lnTo>
                <a:lnTo>
                  <a:pt x="224" y="228"/>
                </a:lnTo>
                <a:lnTo>
                  <a:pt x="202" y="241"/>
                </a:lnTo>
                <a:lnTo>
                  <a:pt x="179" y="261"/>
                </a:lnTo>
                <a:lnTo>
                  <a:pt x="168" y="274"/>
                </a:lnTo>
                <a:lnTo>
                  <a:pt x="150" y="274"/>
                </a:lnTo>
                <a:lnTo>
                  <a:pt x="124" y="273"/>
                </a:lnTo>
                <a:lnTo>
                  <a:pt x="81" y="258"/>
                </a:lnTo>
                <a:lnTo>
                  <a:pt x="39" y="225"/>
                </a:lnTo>
                <a:lnTo>
                  <a:pt x="27" y="212"/>
                </a:lnTo>
                <a:lnTo>
                  <a:pt x="43" y="212"/>
                </a:lnTo>
                <a:lnTo>
                  <a:pt x="66" y="210"/>
                </a:lnTo>
                <a:lnTo>
                  <a:pt x="73" y="209"/>
                </a:lnTo>
                <a:lnTo>
                  <a:pt x="75" y="207"/>
                </a:lnTo>
                <a:lnTo>
                  <a:pt x="76" y="206"/>
                </a:lnTo>
                <a:lnTo>
                  <a:pt x="76" y="205"/>
                </a:lnTo>
                <a:lnTo>
                  <a:pt x="76" y="203"/>
                </a:lnTo>
                <a:lnTo>
                  <a:pt x="73" y="202"/>
                </a:lnTo>
                <a:lnTo>
                  <a:pt x="71" y="200"/>
                </a:lnTo>
                <a:lnTo>
                  <a:pt x="63" y="196"/>
                </a:lnTo>
                <a:lnTo>
                  <a:pt x="37" y="187"/>
                </a:lnTo>
                <a:lnTo>
                  <a:pt x="5" y="178"/>
                </a:lnTo>
                <a:lnTo>
                  <a:pt x="4" y="165"/>
                </a:lnTo>
                <a:lnTo>
                  <a:pt x="1" y="141"/>
                </a:lnTo>
                <a:lnTo>
                  <a:pt x="0" y="119"/>
                </a:lnTo>
                <a:lnTo>
                  <a:pt x="0" y="115"/>
                </a:lnTo>
                <a:lnTo>
                  <a:pt x="0" y="106"/>
                </a:lnTo>
                <a:lnTo>
                  <a:pt x="4" y="87"/>
                </a:lnTo>
                <a:lnTo>
                  <a:pt x="16" y="48"/>
                </a:lnTo>
                <a:lnTo>
                  <a:pt x="23" y="10"/>
                </a:lnTo>
                <a:lnTo>
                  <a:pt x="24" y="0"/>
                </a:lnTo>
                <a:lnTo>
                  <a:pt x="27" y="0"/>
                </a:lnTo>
                <a:lnTo>
                  <a:pt x="37" y="0"/>
                </a:lnTo>
                <a:lnTo>
                  <a:pt x="55" y="2"/>
                </a:lnTo>
                <a:lnTo>
                  <a:pt x="68" y="6"/>
                </a:lnTo>
                <a:lnTo>
                  <a:pt x="71" y="6"/>
                </a:lnTo>
                <a:lnTo>
                  <a:pt x="69" y="13"/>
                </a:lnTo>
                <a:lnTo>
                  <a:pt x="69" y="38"/>
                </a:lnTo>
                <a:lnTo>
                  <a:pt x="73" y="107"/>
                </a:lnTo>
                <a:lnTo>
                  <a:pt x="84" y="138"/>
                </a:lnTo>
                <a:lnTo>
                  <a:pt x="91" y="149"/>
                </a:lnTo>
                <a:lnTo>
                  <a:pt x="101" y="158"/>
                </a:lnTo>
                <a:lnTo>
                  <a:pt x="114" y="160"/>
                </a:lnTo>
                <a:lnTo>
                  <a:pt x="115" y="160"/>
                </a:lnTo>
                <a:lnTo>
                  <a:pt x="117" y="158"/>
                </a:lnTo>
                <a:lnTo>
                  <a:pt x="123" y="152"/>
                </a:lnTo>
                <a:lnTo>
                  <a:pt x="136" y="138"/>
                </a:lnTo>
                <a:lnTo>
                  <a:pt x="142" y="131"/>
                </a:lnTo>
                <a:lnTo>
                  <a:pt x="144" y="122"/>
                </a:lnTo>
                <a:lnTo>
                  <a:pt x="144" y="118"/>
                </a:lnTo>
                <a:lnTo>
                  <a:pt x="140" y="113"/>
                </a:lnTo>
                <a:lnTo>
                  <a:pt x="136" y="107"/>
                </a:lnTo>
                <a:lnTo>
                  <a:pt x="129" y="103"/>
                </a:lnTo>
                <a:lnTo>
                  <a:pt x="114" y="96"/>
                </a:lnTo>
                <a:lnTo>
                  <a:pt x="102" y="89"/>
                </a:lnTo>
                <a:lnTo>
                  <a:pt x="100" y="86"/>
                </a:lnTo>
                <a:lnTo>
                  <a:pt x="100" y="83"/>
                </a:lnTo>
                <a:lnTo>
                  <a:pt x="100" y="81"/>
                </a:lnTo>
                <a:lnTo>
                  <a:pt x="102" y="78"/>
                </a:lnTo>
                <a:lnTo>
                  <a:pt x="105" y="76"/>
                </a:lnTo>
                <a:lnTo>
                  <a:pt x="110" y="74"/>
                </a:lnTo>
                <a:lnTo>
                  <a:pt x="123" y="68"/>
                </a:lnTo>
                <a:lnTo>
                  <a:pt x="131" y="64"/>
                </a:lnTo>
                <a:lnTo>
                  <a:pt x="126" y="60"/>
                </a:lnTo>
                <a:lnTo>
                  <a:pt x="108" y="44"/>
                </a:lnTo>
                <a:lnTo>
                  <a:pt x="95" y="31"/>
                </a:lnTo>
                <a:lnTo>
                  <a:pt x="95" y="29"/>
                </a:lnTo>
                <a:lnTo>
                  <a:pt x="97" y="28"/>
                </a:lnTo>
                <a:lnTo>
                  <a:pt x="98" y="26"/>
                </a:lnTo>
                <a:lnTo>
                  <a:pt x="102" y="23"/>
                </a:lnTo>
                <a:lnTo>
                  <a:pt x="113" y="21"/>
                </a:lnTo>
                <a:lnTo>
                  <a:pt x="117" y="22"/>
                </a:lnTo>
                <a:lnTo>
                  <a:pt x="118" y="21"/>
                </a:lnTo>
                <a:lnTo>
                  <a:pt x="120" y="19"/>
                </a:lnTo>
                <a:lnTo>
                  <a:pt x="120" y="18"/>
                </a:lnTo>
                <a:lnTo>
                  <a:pt x="120" y="16"/>
                </a:lnTo>
                <a:lnTo>
                  <a:pt x="120" y="13"/>
                </a:lnTo>
                <a:lnTo>
                  <a:pt x="118" y="3"/>
                </a:lnTo>
                <a:lnTo>
                  <a:pt x="120" y="3"/>
                </a:lnTo>
                <a:lnTo>
                  <a:pt x="120" y="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854760" y="2039760"/>
            <a:ext cx="33480" cy="24120"/>
          </a:xfrm>
          <a:custGeom>
            <a:avLst/>
            <a:gdLst/>
            <a:ahLst/>
            <a:rect l="l" t="t" r="r" b="b"/>
            <a:pathLst>
              <a:path w="96" h="76">
                <a:moveTo>
                  <a:pt x="83" y="74"/>
                </a:moveTo>
                <a:lnTo>
                  <a:pt x="76" y="76"/>
                </a:lnTo>
                <a:lnTo>
                  <a:pt x="54" y="76"/>
                </a:lnTo>
                <a:lnTo>
                  <a:pt x="38" y="76"/>
                </a:lnTo>
                <a:lnTo>
                  <a:pt x="38" y="76"/>
                </a:lnTo>
                <a:lnTo>
                  <a:pt x="34" y="73"/>
                </a:lnTo>
                <a:lnTo>
                  <a:pt x="28" y="66"/>
                </a:lnTo>
                <a:lnTo>
                  <a:pt x="16" y="48"/>
                </a:lnTo>
                <a:lnTo>
                  <a:pt x="5" y="32"/>
                </a:lnTo>
                <a:lnTo>
                  <a:pt x="2" y="28"/>
                </a:lnTo>
                <a:lnTo>
                  <a:pt x="0" y="24"/>
                </a:lnTo>
                <a:lnTo>
                  <a:pt x="2" y="16"/>
                </a:lnTo>
                <a:lnTo>
                  <a:pt x="2" y="12"/>
                </a:lnTo>
                <a:lnTo>
                  <a:pt x="5" y="9"/>
                </a:lnTo>
                <a:lnTo>
                  <a:pt x="9" y="6"/>
                </a:lnTo>
                <a:lnTo>
                  <a:pt x="15" y="3"/>
                </a:lnTo>
                <a:lnTo>
                  <a:pt x="21" y="0"/>
                </a:lnTo>
                <a:lnTo>
                  <a:pt x="27" y="6"/>
                </a:lnTo>
                <a:lnTo>
                  <a:pt x="35" y="13"/>
                </a:lnTo>
                <a:lnTo>
                  <a:pt x="42" y="16"/>
                </a:lnTo>
                <a:lnTo>
                  <a:pt x="44" y="16"/>
                </a:lnTo>
                <a:lnTo>
                  <a:pt x="55" y="16"/>
                </a:lnTo>
                <a:lnTo>
                  <a:pt x="76" y="19"/>
                </a:lnTo>
                <a:lnTo>
                  <a:pt x="89" y="27"/>
                </a:lnTo>
                <a:lnTo>
                  <a:pt x="93" y="32"/>
                </a:lnTo>
                <a:lnTo>
                  <a:pt x="96" y="38"/>
                </a:lnTo>
                <a:lnTo>
                  <a:pt x="96" y="45"/>
                </a:lnTo>
                <a:lnTo>
                  <a:pt x="96" y="53"/>
                </a:lnTo>
                <a:lnTo>
                  <a:pt x="93" y="60"/>
                </a:lnTo>
                <a:lnTo>
                  <a:pt x="89" y="67"/>
                </a:lnTo>
                <a:lnTo>
                  <a:pt x="83" y="74"/>
                </a:lnTo>
                <a:lnTo>
                  <a:pt x="83" y="74"/>
                </a:lnTo>
                <a:lnTo>
                  <a:pt x="83" y="74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703920" y="2016000"/>
            <a:ext cx="23760" cy="22320"/>
          </a:xfrm>
          <a:custGeom>
            <a:avLst/>
            <a:gdLst/>
            <a:ahLst/>
            <a:rect l="l" t="t" r="r" b="b"/>
            <a:pathLst>
              <a:path w="70" h="67">
                <a:moveTo>
                  <a:pt x="70" y="30"/>
                </a:moveTo>
                <a:lnTo>
                  <a:pt x="61" y="38"/>
                </a:lnTo>
                <a:lnTo>
                  <a:pt x="50" y="49"/>
                </a:lnTo>
                <a:lnTo>
                  <a:pt x="42" y="59"/>
                </a:lnTo>
                <a:lnTo>
                  <a:pt x="35" y="65"/>
                </a:lnTo>
                <a:lnTo>
                  <a:pt x="31" y="67"/>
                </a:lnTo>
                <a:lnTo>
                  <a:pt x="25" y="65"/>
                </a:lnTo>
                <a:lnTo>
                  <a:pt x="19" y="64"/>
                </a:lnTo>
                <a:lnTo>
                  <a:pt x="10" y="61"/>
                </a:lnTo>
                <a:lnTo>
                  <a:pt x="0" y="53"/>
                </a:lnTo>
                <a:lnTo>
                  <a:pt x="0" y="53"/>
                </a:lnTo>
                <a:lnTo>
                  <a:pt x="2" y="49"/>
                </a:lnTo>
                <a:lnTo>
                  <a:pt x="6" y="40"/>
                </a:lnTo>
                <a:lnTo>
                  <a:pt x="13" y="32"/>
                </a:lnTo>
                <a:lnTo>
                  <a:pt x="26" y="14"/>
                </a:lnTo>
                <a:lnTo>
                  <a:pt x="31" y="0"/>
                </a:lnTo>
                <a:lnTo>
                  <a:pt x="35" y="0"/>
                </a:lnTo>
                <a:lnTo>
                  <a:pt x="45" y="0"/>
                </a:lnTo>
                <a:lnTo>
                  <a:pt x="54" y="0"/>
                </a:lnTo>
                <a:lnTo>
                  <a:pt x="58" y="1"/>
                </a:lnTo>
                <a:lnTo>
                  <a:pt x="61" y="4"/>
                </a:lnTo>
                <a:lnTo>
                  <a:pt x="64" y="6"/>
                </a:lnTo>
                <a:lnTo>
                  <a:pt x="67" y="10"/>
                </a:lnTo>
                <a:lnTo>
                  <a:pt x="68" y="16"/>
                </a:lnTo>
                <a:lnTo>
                  <a:pt x="68" y="23"/>
                </a:lnTo>
                <a:lnTo>
                  <a:pt x="68" y="30"/>
                </a:lnTo>
                <a:lnTo>
                  <a:pt x="70" y="30"/>
                </a:lnTo>
                <a:lnTo>
                  <a:pt x="70" y="3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676920" y="1979640"/>
            <a:ext cx="38160" cy="47520"/>
          </a:xfrm>
          <a:custGeom>
            <a:avLst/>
            <a:gdLst/>
            <a:ahLst/>
            <a:rect l="l" t="t" r="r" b="b"/>
            <a:pathLst>
              <a:path w="105" h="141">
                <a:moveTo>
                  <a:pt x="82" y="0"/>
                </a:moveTo>
                <a:lnTo>
                  <a:pt x="89" y="10"/>
                </a:lnTo>
                <a:lnTo>
                  <a:pt x="100" y="25"/>
                </a:lnTo>
                <a:lnTo>
                  <a:pt x="105" y="38"/>
                </a:lnTo>
                <a:lnTo>
                  <a:pt x="103" y="48"/>
                </a:lnTo>
                <a:lnTo>
                  <a:pt x="100" y="61"/>
                </a:lnTo>
                <a:lnTo>
                  <a:pt x="98" y="77"/>
                </a:lnTo>
                <a:lnTo>
                  <a:pt x="98" y="86"/>
                </a:lnTo>
                <a:lnTo>
                  <a:pt x="90" y="99"/>
                </a:lnTo>
                <a:lnTo>
                  <a:pt x="82" y="116"/>
                </a:lnTo>
                <a:lnTo>
                  <a:pt x="74" y="129"/>
                </a:lnTo>
                <a:lnTo>
                  <a:pt x="67" y="136"/>
                </a:lnTo>
                <a:lnTo>
                  <a:pt x="58" y="139"/>
                </a:lnTo>
                <a:lnTo>
                  <a:pt x="42" y="141"/>
                </a:lnTo>
                <a:lnTo>
                  <a:pt x="32" y="141"/>
                </a:lnTo>
                <a:lnTo>
                  <a:pt x="25" y="141"/>
                </a:lnTo>
                <a:lnTo>
                  <a:pt x="21" y="138"/>
                </a:lnTo>
                <a:lnTo>
                  <a:pt x="16" y="135"/>
                </a:lnTo>
                <a:lnTo>
                  <a:pt x="13" y="131"/>
                </a:lnTo>
                <a:lnTo>
                  <a:pt x="12" y="126"/>
                </a:lnTo>
                <a:lnTo>
                  <a:pt x="12" y="120"/>
                </a:lnTo>
                <a:lnTo>
                  <a:pt x="12" y="116"/>
                </a:lnTo>
                <a:lnTo>
                  <a:pt x="15" y="107"/>
                </a:lnTo>
                <a:lnTo>
                  <a:pt x="19" y="102"/>
                </a:lnTo>
                <a:lnTo>
                  <a:pt x="22" y="99"/>
                </a:lnTo>
                <a:lnTo>
                  <a:pt x="25" y="94"/>
                </a:lnTo>
                <a:lnTo>
                  <a:pt x="28" y="87"/>
                </a:lnTo>
                <a:lnTo>
                  <a:pt x="28" y="84"/>
                </a:lnTo>
                <a:lnTo>
                  <a:pt x="27" y="83"/>
                </a:lnTo>
                <a:lnTo>
                  <a:pt x="25" y="83"/>
                </a:lnTo>
                <a:lnTo>
                  <a:pt x="22" y="83"/>
                </a:lnTo>
                <a:lnTo>
                  <a:pt x="13" y="83"/>
                </a:lnTo>
                <a:lnTo>
                  <a:pt x="3" y="80"/>
                </a:lnTo>
                <a:lnTo>
                  <a:pt x="3" y="80"/>
                </a:lnTo>
                <a:lnTo>
                  <a:pt x="2" y="77"/>
                </a:lnTo>
                <a:lnTo>
                  <a:pt x="0" y="71"/>
                </a:lnTo>
                <a:lnTo>
                  <a:pt x="0" y="67"/>
                </a:lnTo>
                <a:lnTo>
                  <a:pt x="0" y="64"/>
                </a:lnTo>
                <a:lnTo>
                  <a:pt x="3" y="61"/>
                </a:lnTo>
                <a:lnTo>
                  <a:pt x="8" y="57"/>
                </a:lnTo>
                <a:lnTo>
                  <a:pt x="12" y="54"/>
                </a:lnTo>
                <a:lnTo>
                  <a:pt x="16" y="55"/>
                </a:lnTo>
                <a:lnTo>
                  <a:pt x="25" y="57"/>
                </a:lnTo>
                <a:lnTo>
                  <a:pt x="34" y="61"/>
                </a:lnTo>
                <a:lnTo>
                  <a:pt x="48" y="71"/>
                </a:lnTo>
                <a:lnTo>
                  <a:pt x="56" y="76"/>
                </a:lnTo>
                <a:lnTo>
                  <a:pt x="57" y="71"/>
                </a:lnTo>
                <a:lnTo>
                  <a:pt x="63" y="60"/>
                </a:lnTo>
                <a:lnTo>
                  <a:pt x="70" y="32"/>
                </a:lnTo>
                <a:lnTo>
                  <a:pt x="79" y="6"/>
                </a:lnTo>
                <a:lnTo>
                  <a:pt x="82" y="0"/>
                </a:lnTo>
                <a:lnTo>
                  <a:pt x="82" y="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588000" y="1990800"/>
            <a:ext cx="79560" cy="57240"/>
          </a:xfrm>
          <a:custGeom>
            <a:avLst/>
            <a:gdLst/>
            <a:ahLst/>
            <a:rect l="l" t="t" r="r" b="b"/>
            <a:pathLst>
              <a:path w="232" h="173">
                <a:moveTo>
                  <a:pt x="196" y="0"/>
                </a:moveTo>
                <a:lnTo>
                  <a:pt x="196" y="6"/>
                </a:lnTo>
                <a:lnTo>
                  <a:pt x="199" y="18"/>
                </a:lnTo>
                <a:lnTo>
                  <a:pt x="203" y="48"/>
                </a:lnTo>
                <a:lnTo>
                  <a:pt x="206" y="76"/>
                </a:lnTo>
                <a:lnTo>
                  <a:pt x="207" y="81"/>
                </a:lnTo>
                <a:lnTo>
                  <a:pt x="212" y="84"/>
                </a:lnTo>
                <a:lnTo>
                  <a:pt x="216" y="86"/>
                </a:lnTo>
                <a:lnTo>
                  <a:pt x="219" y="90"/>
                </a:lnTo>
                <a:lnTo>
                  <a:pt x="226" y="99"/>
                </a:lnTo>
                <a:lnTo>
                  <a:pt x="231" y="107"/>
                </a:lnTo>
                <a:lnTo>
                  <a:pt x="232" y="118"/>
                </a:lnTo>
                <a:lnTo>
                  <a:pt x="229" y="128"/>
                </a:lnTo>
                <a:lnTo>
                  <a:pt x="228" y="131"/>
                </a:lnTo>
                <a:lnTo>
                  <a:pt x="219" y="131"/>
                </a:lnTo>
                <a:lnTo>
                  <a:pt x="205" y="131"/>
                </a:lnTo>
                <a:lnTo>
                  <a:pt x="179" y="129"/>
                </a:lnTo>
                <a:lnTo>
                  <a:pt x="151" y="131"/>
                </a:lnTo>
                <a:lnTo>
                  <a:pt x="144" y="132"/>
                </a:lnTo>
                <a:lnTo>
                  <a:pt x="134" y="133"/>
                </a:lnTo>
                <a:lnTo>
                  <a:pt x="126" y="136"/>
                </a:lnTo>
                <a:lnTo>
                  <a:pt x="121" y="139"/>
                </a:lnTo>
                <a:lnTo>
                  <a:pt x="115" y="144"/>
                </a:lnTo>
                <a:lnTo>
                  <a:pt x="106" y="152"/>
                </a:lnTo>
                <a:lnTo>
                  <a:pt x="97" y="162"/>
                </a:lnTo>
                <a:lnTo>
                  <a:pt x="87" y="170"/>
                </a:lnTo>
                <a:lnTo>
                  <a:pt x="73" y="173"/>
                </a:lnTo>
                <a:lnTo>
                  <a:pt x="73" y="173"/>
                </a:lnTo>
                <a:lnTo>
                  <a:pt x="68" y="171"/>
                </a:lnTo>
                <a:lnTo>
                  <a:pt x="66" y="168"/>
                </a:lnTo>
                <a:lnTo>
                  <a:pt x="63" y="165"/>
                </a:lnTo>
                <a:lnTo>
                  <a:pt x="61" y="160"/>
                </a:lnTo>
                <a:lnTo>
                  <a:pt x="61" y="155"/>
                </a:lnTo>
                <a:lnTo>
                  <a:pt x="61" y="144"/>
                </a:lnTo>
                <a:lnTo>
                  <a:pt x="63" y="125"/>
                </a:lnTo>
                <a:lnTo>
                  <a:pt x="64" y="122"/>
                </a:lnTo>
                <a:lnTo>
                  <a:pt x="67" y="120"/>
                </a:lnTo>
                <a:lnTo>
                  <a:pt x="77" y="118"/>
                </a:lnTo>
                <a:lnTo>
                  <a:pt x="99" y="113"/>
                </a:lnTo>
                <a:lnTo>
                  <a:pt x="118" y="106"/>
                </a:lnTo>
                <a:lnTo>
                  <a:pt x="122" y="103"/>
                </a:lnTo>
                <a:lnTo>
                  <a:pt x="113" y="102"/>
                </a:lnTo>
                <a:lnTo>
                  <a:pt x="97" y="99"/>
                </a:lnTo>
                <a:lnTo>
                  <a:pt x="79" y="100"/>
                </a:lnTo>
                <a:lnTo>
                  <a:pt x="39" y="105"/>
                </a:lnTo>
                <a:lnTo>
                  <a:pt x="15" y="106"/>
                </a:lnTo>
                <a:lnTo>
                  <a:pt x="12" y="102"/>
                </a:lnTo>
                <a:lnTo>
                  <a:pt x="5" y="89"/>
                </a:lnTo>
                <a:lnTo>
                  <a:pt x="0" y="78"/>
                </a:lnTo>
                <a:lnTo>
                  <a:pt x="0" y="77"/>
                </a:lnTo>
                <a:lnTo>
                  <a:pt x="8" y="71"/>
                </a:lnTo>
                <a:lnTo>
                  <a:pt x="22" y="61"/>
                </a:lnTo>
                <a:lnTo>
                  <a:pt x="37" y="55"/>
                </a:lnTo>
                <a:lnTo>
                  <a:pt x="51" y="51"/>
                </a:lnTo>
                <a:lnTo>
                  <a:pt x="61" y="42"/>
                </a:lnTo>
                <a:lnTo>
                  <a:pt x="70" y="26"/>
                </a:lnTo>
                <a:lnTo>
                  <a:pt x="73" y="15"/>
                </a:lnTo>
                <a:lnTo>
                  <a:pt x="89" y="15"/>
                </a:lnTo>
                <a:lnTo>
                  <a:pt x="103" y="16"/>
                </a:lnTo>
                <a:lnTo>
                  <a:pt x="113" y="20"/>
                </a:lnTo>
                <a:lnTo>
                  <a:pt x="121" y="26"/>
                </a:lnTo>
                <a:lnTo>
                  <a:pt x="125" y="34"/>
                </a:lnTo>
                <a:lnTo>
                  <a:pt x="128" y="41"/>
                </a:lnTo>
                <a:lnTo>
                  <a:pt x="131" y="48"/>
                </a:lnTo>
                <a:lnTo>
                  <a:pt x="135" y="64"/>
                </a:lnTo>
                <a:lnTo>
                  <a:pt x="138" y="71"/>
                </a:lnTo>
                <a:lnTo>
                  <a:pt x="142" y="77"/>
                </a:lnTo>
                <a:lnTo>
                  <a:pt x="148" y="81"/>
                </a:lnTo>
                <a:lnTo>
                  <a:pt x="150" y="81"/>
                </a:lnTo>
                <a:lnTo>
                  <a:pt x="157" y="73"/>
                </a:lnTo>
                <a:lnTo>
                  <a:pt x="161" y="64"/>
                </a:lnTo>
                <a:lnTo>
                  <a:pt x="163" y="55"/>
                </a:lnTo>
                <a:lnTo>
                  <a:pt x="161" y="47"/>
                </a:lnTo>
                <a:lnTo>
                  <a:pt x="160" y="38"/>
                </a:lnTo>
                <a:lnTo>
                  <a:pt x="158" y="23"/>
                </a:lnTo>
                <a:lnTo>
                  <a:pt x="158" y="18"/>
                </a:lnTo>
                <a:lnTo>
                  <a:pt x="161" y="12"/>
                </a:lnTo>
                <a:lnTo>
                  <a:pt x="168" y="7"/>
                </a:lnTo>
                <a:lnTo>
                  <a:pt x="179" y="3"/>
                </a:lnTo>
                <a:lnTo>
                  <a:pt x="194" y="0"/>
                </a:lnTo>
                <a:lnTo>
                  <a:pt x="196" y="0"/>
                </a:lnTo>
                <a:lnTo>
                  <a:pt x="196" y="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496200" y="2022480"/>
            <a:ext cx="96840" cy="77760"/>
          </a:xfrm>
          <a:custGeom>
            <a:avLst/>
            <a:gdLst/>
            <a:ahLst/>
            <a:rect l="l" t="t" r="r" b="b"/>
            <a:pathLst>
              <a:path w="279" h="239">
                <a:moveTo>
                  <a:pt x="36" y="239"/>
                </a:moveTo>
                <a:lnTo>
                  <a:pt x="36" y="233"/>
                </a:lnTo>
                <a:lnTo>
                  <a:pt x="36" y="220"/>
                </a:lnTo>
                <a:lnTo>
                  <a:pt x="33" y="207"/>
                </a:lnTo>
                <a:lnTo>
                  <a:pt x="27" y="195"/>
                </a:lnTo>
                <a:lnTo>
                  <a:pt x="19" y="184"/>
                </a:lnTo>
                <a:lnTo>
                  <a:pt x="7" y="172"/>
                </a:lnTo>
                <a:lnTo>
                  <a:pt x="0" y="166"/>
                </a:lnTo>
                <a:lnTo>
                  <a:pt x="1" y="165"/>
                </a:lnTo>
                <a:lnTo>
                  <a:pt x="16" y="148"/>
                </a:lnTo>
                <a:lnTo>
                  <a:pt x="65" y="90"/>
                </a:lnTo>
                <a:lnTo>
                  <a:pt x="103" y="46"/>
                </a:lnTo>
                <a:lnTo>
                  <a:pt x="105" y="43"/>
                </a:lnTo>
                <a:lnTo>
                  <a:pt x="100" y="39"/>
                </a:lnTo>
                <a:lnTo>
                  <a:pt x="92" y="32"/>
                </a:lnTo>
                <a:lnTo>
                  <a:pt x="88" y="26"/>
                </a:lnTo>
                <a:lnTo>
                  <a:pt x="88" y="23"/>
                </a:lnTo>
                <a:lnTo>
                  <a:pt x="87" y="20"/>
                </a:lnTo>
                <a:lnTo>
                  <a:pt x="88" y="17"/>
                </a:lnTo>
                <a:lnTo>
                  <a:pt x="90" y="14"/>
                </a:lnTo>
                <a:lnTo>
                  <a:pt x="91" y="10"/>
                </a:lnTo>
                <a:lnTo>
                  <a:pt x="97" y="0"/>
                </a:lnTo>
                <a:lnTo>
                  <a:pt x="98" y="0"/>
                </a:lnTo>
                <a:lnTo>
                  <a:pt x="108" y="1"/>
                </a:lnTo>
                <a:lnTo>
                  <a:pt x="142" y="1"/>
                </a:lnTo>
                <a:lnTo>
                  <a:pt x="168" y="1"/>
                </a:lnTo>
                <a:lnTo>
                  <a:pt x="169" y="1"/>
                </a:lnTo>
                <a:lnTo>
                  <a:pt x="174" y="3"/>
                </a:lnTo>
                <a:lnTo>
                  <a:pt x="178" y="3"/>
                </a:lnTo>
                <a:lnTo>
                  <a:pt x="182" y="6"/>
                </a:lnTo>
                <a:lnTo>
                  <a:pt x="184" y="10"/>
                </a:lnTo>
                <a:lnTo>
                  <a:pt x="185" y="13"/>
                </a:lnTo>
                <a:lnTo>
                  <a:pt x="190" y="20"/>
                </a:lnTo>
                <a:lnTo>
                  <a:pt x="197" y="30"/>
                </a:lnTo>
                <a:lnTo>
                  <a:pt x="203" y="36"/>
                </a:lnTo>
                <a:lnTo>
                  <a:pt x="210" y="42"/>
                </a:lnTo>
                <a:lnTo>
                  <a:pt x="217" y="46"/>
                </a:lnTo>
                <a:lnTo>
                  <a:pt x="236" y="52"/>
                </a:lnTo>
                <a:lnTo>
                  <a:pt x="253" y="59"/>
                </a:lnTo>
                <a:lnTo>
                  <a:pt x="268" y="68"/>
                </a:lnTo>
                <a:lnTo>
                  <a:pt x="274" y="75"/>
                </a:lnTo>
                <a:lnTo>
                  <a:pt x="278" y="82"/>
                </a:lnTo>
                <a:lnTo>
                  <a:pt x="279" y="94"/>
                </a:lnTo>
                <a:lnTo>
                  <a:pt x="279" y="107"/>
                </a:lnTo>
                <a:lnTo>
                  <a:pt x="279" y="107"/>
                </a:lnTo>
                <a:lnTo>
                  <a:pt x="253" y="120"/>
                </a:lnTo>
                <a:lnTo>
                  <a:pt x="218" y="136"/>
                </a:lnTo>
                <a:lnTo>
                  <a:pt x="184" y="161"/>
                </a:lnTo>
                <a:lnTo>
                  <a:pt x="149" y="213"/>
                </a:lnTo>
                <a:lnTo>
                  <a:pt x="133" y="236"/>
                </a:lnTo>
                <a:lnTo>
                  <a:pt x="117" y="237"/>
                </a:lnTo>
                <a:lnTo>
                  <a:pt x="72" y="239"/>
                </a:lnTo>
                <a:lnTo>
                  <a:pt x="37" y="239"/>
                </a:lnTo>
                <a:lnTo>
                  <a:pt x="36" y="239"/>
                </a:lnTo>
                <a:lnTo>
                  <a:pt x="36" y="23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559560" y="1965240"/>
            <a:ext cx="58680" cy="34920"/>
          </a:xfrm>
          <a:custGeom>
            <a:avLst/>
            <a:gdLst/>
            <a:ahLst/>
            <a:rect l="l" t="t" r="r" b="b"/>
            <a:pathLst>
              <a:path w="168" h="108">
                <a:moveTo>
                  <a:pt x="168" y="19"/>
                </a:moveTo>
                <a:lnTo>
                  <a:pt x="166" y="27"/>
                </a:lnTo>
                <a:lnTo>
                  <a:pt x="165" y="31"/>
                </a:lnTo>
                <a:lnTo>
                  <a:pt x="162" y="35"/>
                </a:lnTo>
                <a:lnTo>
                  <a:pt x="159" y="38"/>
                </a:lnTo>
                <a:lnTo>
                  <a:pt x="152" y="44"/>
                </a:lnTo>
                <a:lnTo>
                  <a:pt x="146" y="51"/>
                </a:lnTo>
                <a:lnTo>
                  <a:pt x="142" y="58"/>
                </a:lnTo>
                <a:lnTo>
                  <a:pt x="140" y="70"/>
                </a:lnTo>
                <a:lnTo>
                  <a:pt x="142" y="70"/>
                </a:lnTo>
                <a:lnTo>
                  <a:pt x="129" y="74"/>
                </a:lnTo>
                <a:lnTo>
                  <a:pt x="110" y="79"/>
                </a:lnTo>
                <a:lnTo>
                  <a:pt x="84" y="83"/>
                </a:lnTo>
                <a:lnTo>
                  <a:pt x="74" y="87"/>
                </a:lnTo>
                <a:lnTo>
                  <a:pt x="62" y="99"/>
                </a:lnTo>
                <a:lnTo>
                  <a:pt x="56" y="108"/>
                </a:lnTo>
                <a:lnTo>
                  <a:pt x="45" y="106"/>
                </a:lnTo>
                <a:lnTo>
                  <a:pt x="27" y="103"/>
                </a:lnTo>
                <a:lnTo>
                  <a:pt x="16" y="99"/>
                </a:lnTo>
                <a:lnTo>
                  <a:pt x="8" y="93"/>
                </a:lnTo>
                <a:lnTo>
                  <a:pt x="4" y="83"/>
                </a:lnTo>
                <a:lnTo>
                  <a:pt x="0" y="69"/>
                </a:lnTo>
                <a:lnTo>
                  <a:pt x="0" y="57"/>
                </a:lnTo>
                <a:lnTo>
                  <a:pt x="7" y="53"/>
                </a:lnTo>
                <a:lnTo>
                  <a:pt x="24" y="43"/>
                </a:lnTo>
                <a:lnTo>
                  <a:pt x="47" y="34"/>
                </a:lnTo>
                <a:lnTo>
                  <a:pt x="94" y="16"/>
                </a:lnTo>
                <a:lnTo>
                  <a:pt x="124" y="0"/>
                </a:lnTo>
                <a:lnTo>
                  <a:pt x="129" y="2"/>
                </a:lnTo>
                <a:lnTo>
                  <a:pt x="137" y="5"/>
                </a:lnTo>
                <a:lnTo>
                  <a:pt x="147" y="9"/>
                </a:lnTo>
                <a:lnTo>
                  <a:pt x="162" y="18"/>
                </a:lnTo>
                <a:lnTo>
                  <a:pt x="168" y="19"/>
                </a:lnTo>
                <a:lnTo>
                  <a:pt x="168" y="1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635880" y="1943280"/>
            <a:ext cx="23760" cy="14040"/>
          </a:xfrm>
          <a:custGeom>
            <a:avLst/>
            <a:gdLst/>
            <a:ahLst/>
            <a:rect l="l" t="t" r="r" b="b"/>
            <a:pathLst>
              <a:path w="63" h="45">
                <a:moveTo>
                  <a:pt x="63" y="3"/>
                </a:moveTo>
                <a:lnTo>
                  <a:pt x="59" y="8"/>
                </a:lnTo>
                <a:lnTo>
                  <a:pt x="52" y="18"/>
                </a:lnTo>
                <a:lnTo>
                  <a:pt x="37" y="37"/>
                </a:lnTo>
                <a:lnTo>
                  <a:pt x="29" y="42"/>
                </a:lnTo>
                <a:lnTo>
                  <a:pt x="17" y="45"/>
                </a:lnTo>
                <a:lnTo>
                  <a:pt x="11" y="44"/>
                </a:lnTo>
                <a:lnTo>
                  <a:pt x="6" y="41"/>
                </a:lnTo>
                <a:lnTo>
                  <a:pt x="4" y="37"/>
                </a:lnTo>
                <a:lnTo>
                  <a:pt x="3" y="32"/>
                </a:lnTo>
                <a:lnTo>
                  <a:pt x="0" y="21"/>
                </a:lnTo>
                <a:lnTo>
                  <a:pt x="0" y="16"/>
                </a:lnTo>
                <a:lnTo>
                  <a:pt x="1" y="12"/>
                </a:lnTo>
                <a:lnTo>
                  <a:pt x="4" y="8"/>
                </a:lnTo>
                <a:lnTo>
                  <a:pt x="8" y="6"/>
                </a:lnTo>
                <a:lnTo>
                  <a:pt x="13" y="6"/>
                </a:lnTo>
                <a:lnTo>
                  <a:pt x="20" y="8"/>
                </a:lnTo>
                <a:lnTo>
                  <a:pt x="21" y="8"/>
                </a:lnTo>
                <a:lnTo>
                  <a:pt x="24" y="5"/>
                </a:lnTo>
                <a:lnTo>
                  <a:pt x="32" y="2"/>
                </a:lnTo>
                <a:lnTo>
                  <a:pt x="37" y="0"/>
                </a:lnTo>
                <a:lnTo>
                  <a:pt x="45" y="0"/>
                </a:lnTo>
                <a:lnTo>
                  <a:pt x="52" y="2"/>
                </a:lnTo>
                <a:lnTo>
                  <a:pt x="59" y="3"/>
                </a:lnTo>
                <a:lnTo>
                  <a:pt x="63" y="3"/>
                </a:lnTo>
                <a:lnTo>
                  <a:pt x="63" y="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630840" y="1962000"/>
            <a:ext cx="19080" cy="14400"/>
          </a:xfrm>
          <a:custGeom>
            <a:avLst/>
            <a:gdLst/>
            <a:ahLst/>
            <a:rect l="l" t="t" r="r" b="b"/>
            <a:pathLst>
              <a:path w="55" h="42">
                <a:moveTo>
                  <a:pt x="18" y="42"/>
                </a:moveTo>
                <a:lnTo>
                  <a:pt x="8" y="35"/>
                </a:lnTo>
                <a:lnTo>
                  <a:pt x="2" y="29"/>
                </a:lnTo>
                <a:lnTo>
                  <a:pt x="0" y="23"/>
                </a:lnTo>
                <a:lnTo>
                  <a:pt x="0" y="20"/>
                </a:lnTo>
                <a:lnTo>
                  <a:pt x="0" y="17"/>
                </a:lnTo>
                <a:lnTo>
                  <a:pt x="2" y="16"/>
                </a:lnTo>
                <a:lnTo>
                  <a:pt x="5" y="13"/>
                </a:lnTo>
                <a:lnTo>
                  <a:pt x="8" y="11"/>
                </a:lnTo>
                <a:lnTo>
                  <a:pt x="13" y="8"/>
                </a:lnTo>
                <a:lnTo>
                  <a:pt x="21" y="6"/>
                </a:lnTo>
                <a:lnTo>
                  <a:pt x="37" y="1"/>
                </a:lnTo>
                <a:lnTo>
                  <a:pt x="51" y="1"/>
                </a:lnTo>
                <a:lnTo>
                  <a:pt x="55" y="0"/>
                </a:lnTo>
                <a:lnTo>
                  <a:pt x="55" y="6"/>
                </a:lnTo>
                <a:lnTo>
                  <a:pt x="55" y="10"/>
                </a:lnTo>
                <a:lnTo>
                  <a:pt x="54" y="16"/>
                </a:lnTo>
                <a:lnTo>
                  <a:pt x="51" y="20"/>
                </a:lnTo>
                <a:lnTo>
                  <a:pt x="44" y="29"/>
                </a:lnTo>
                <a:lnTo>
                  <a:pt x="35" y="36"/>
                </a:lnTo>
                <a:lnTo>
                  <a:pt x="26" y="40"/>
                </a:lnTo>
                <a:lnTo>
                  <a:pt x="18" y="42"/>
                </a:lnTo>
                <a:lnTo>
                  <a:pt x="18" y="42"/>
                </a:lnTo>
                <a:lnTo>
                  <a:pt x="18" y="4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680160" y="1932120"/>
            <a:ext cx="31680" cy="36360"/>
          </a:xfrm>
          <a:custGeom>
            <a:avLst/>
            <a:gdLst/>
            <a:ahLst/>
            <a:rect l="l" t="t" r="r" b="b"/>
            <a:pathLst>
              <a:path w="88" h="110">
                <a:moveTo>
                  <a:pt x="69" y="33"/>
                </a:moveTo>
                <a:lnTo>
                  <a:pt x="75" y="39"/>
                </a:lnTo>
                <a:lnTo>
                  <a:pt x="82" y="51"/>
                </a:lnTo>
                <a:lnTo>
                  <a:pt x="87" y="64"/>
                </a:lnTo>
                <a:lnTo>
                  <a:pt x="88" y="77"/>
                </a:lnTo>
                <a:lnTo>
                  <a:pt x="88" y="91"/>
                </a:lnTo>
                <a:lnTo>
                  <a:pt x="88" y="104"/>
                </a:lnTo>
                <a:lnTo>
                  <a:pt x="88" y="110"/>
                </a:lnTo>
                <a:lnTo>
                  <a:pt x="87" y="110"/>
                </a:lnTo>
                <a:lnTo>
                  <a:pt x="82" y="110"/>
                </a:lnTo>
                <a:lnTo>
                  <a:pt x="71" y="109"/>
                </a:lnTo>
                <a:lnTo>
                  <a:pt x="62" y="109"/>
                </a:lnTo>
                <a:lnTo>
                  <a:pt x="62" y="107"/>
                </a:lnTo>
                <a:lnTo>
                  <a:pt x="61" y="103"/>
                </a:lnTo>
                <a:lnTo>
                  <a:pt x="56" y="94"/>
                </a:lnTo>
                <a:lnTo>
                  <a:pt x="52" y="88"/>
                </a:lnTo>
                <a:lnTo>
                  <a:pt x="51" y="87"/>
                </a:lnTo>
                <a:lnTo>
                  <a:pt x="48" y="87"/>
                </a:lnTo>
                <a:lnTo>
                  <a:pt x="46" y="87"/>
                </a:lnTo>
                <a:lnTo>
                  <a:pt x="43" y="88"/>
                </a:lnTo>
                <a:lnTo>
                  <a:pt x="42" y="93"/>
                </a:lnTo>
                <a:lnTo>
                  <a:pt x="40" y="97"/>
                </a:lnTo>
                <a:lnTo>
                  <a:pt x="40" y="103"/>
                </a:lnTo>
                <a:lnTo>
                  <a:pt x="40" y="103"/>
                </a:lnTo>
                <a:lnTo>
                  <a:pt x="39" y="103"/>
                </a:lnTo>
                <a:lnTo>
                  <a:pt x="33" y="101"/>
                </a:lnTo>
                <a:lnTo>
                  <a:pt x="14" y="94"/>
                </a:lnTo>
                <a:lnTo>
                  <a:pt x="0" y="90"/>
                </a:lnTo>
                <a:lnTo>
                  <a:pt x="0" y="88"/>
                </a:lnTo>
                <a:lnTo>
                  <a:pt x="0" y="85"/>
                </a:lnTo>
                <a:lnTo>
                  <a:pt x="1" y="80"/>
                </a:lnTo>
                <a:lnTo>
                  <a:pt x="4" y="74"/>
                </a:lnTo>
                <a:lnTo>
                  <a:pt x="7" y="68"/>
                </a:lnTo>
                <a:lnTo>
                  <a:pt x="16" y="59"/>
                </a:lnTo>
                <a:lnTo>
                  <a:pt x="19" y="56"/>
                </a:lnTo>
                <a:lnTo>
                  <a:pt x="20" y="61"/>
                </a:lnTo>
                <a:lnTo>
                  <a:pt x="20" y="59"/>
                </a:lnTo>
                <a:lnTo>
                  <a:pt x="20" y="55"/>
                </a:lnTo>
                <a:lnTo>
                  <a:pt x="17" y="38"/>
                </a:lnTo>
                <a:lnTo>
                  <a:pt x="14" y="19"/>
                </a:lnTo>
                <a:lnTo>
                  <a:pt x="13" y="10"/>
                </a:lnTo>
                <a:lnTo>
                  <a:pt x="14" y="4"/>
                </a:lnTo>
                <a:lnTo>
                  <a:pt x="17" y="0"/>
                </a:lnTo>
                <a:lnTo>
                  <a:pt x="22" y="1"/>
                </a:lnTo>
                <a:lnTo>
                  <a:pt x="27" y="6"/>
                </a:lnTo>
                <a:lnTo>
                  <a:pt x="29" y="6"/>
                </a:lnTo>
                <a:lnTo>
                  <a:pt x="33" y="7"/>
                </a:lnTo>
                <a:lnTo>
                  <a:pt x="37" y="9"/>
                </a:lnTo>
                <a:lnTo>
                  <a:pt x="40" y="10"/>
                </a:lnTo>
                <a:lnTo>
                  <a:pt x="42" y="13"/>
                </a:lnTo>
                <a:lnTo>
                  <a:pt x="43" y="17"/>
                </a:lnTo>
                <a:lnTo>
                  <a:pt x="46" y="23"/>
                </a:lnTo>
                <a:lnTo>
                  <a:pt x="51" y="30"/>
                </a:lnTo>
                <a:lnTo>
                  <a:pt x="61" y="33"/>
                </a:lnTo>
                <a:lnTo>
                  <a:pt x="69" y="33"/>
                </a:lnTo>
                <a:lnTo>
                  <a:pt x="69" y="3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718320" y="1944720"/>
            <a:ext cx="17280" cy="23760"/>
          </a:xfrm>
          <a:custGeom>
            <a:avLst/>
            <a:gdLst/>
            <a:ahLst/>
            <a:rect l="l" t="t" r="r" b="b"/>
            <a:pathLst>
              <a:path w="50" h="74">
                <a:moveTo>
                  <a:pt x="50" y="35"/>
                </a:moveTo>
                <a:lnTo>
                  <a:pt x="47" y="42"/>
                </a:lnTo>
                <a:lnTo>
                  <a:pt x="41" y="60"/>
                </a:lnTo>
                <a:lnTo>
                  <a:pt x="37" y="74"/>
                </a:lnTo>
                <a:lnTo>
                  <a:pt x="37" y="74"/>
                </a:lnTo>
                <a:lnTo>
                  <a:pt x="32" y="74"/>
                </a:lnTo>
                <a:lnTo>
                  <a:pt x="25" y="71"/>
                </a:lnTo>
                <a:lnTo>
                  <a:pt x="13" y="64"/>
                </a:lnTo>
                <a:lnTo>
                  <a:pt x="3" y="55"/>
                </a:lnTo>
                <a:lnTo>
                  <a:pt x="2" y="52"/>
                </a:lnTo>
                <a:lnTo>
                  <a:pt x="0" y="45"/>
                </a:lnTo>
                <a:lnTo>
                  <a:pt x="0" y="32"/>
                </a:lnTo>
                <a:lnTo>
                  <a:pt x="2" y="25"/>
                </a:lnTo>
                <a:lnTo>
                  <a:pt x="3" y="18"/>
                </a:lnTo>
                <a:lnTo>
                  <a:pt x="6" y="13"/>
                </a:lnTo>
                <a:lnTo>
                  <a:pt x="13" y="6"/>
                </a:lnTo>
                <a:lnTo>
                  <a:pt x="18" y="0"/>
                </a:lnTo>
                <a:lnTo>
                  <a:pt x="21" y="3"/>
                </a:lnTo>
                <a:lnTo>
                  <a:pt x="26" y="9"/>
                </a:lnTo>
                <a:lnTo>
                  <a:pt x="32" y="15"/>
                </a:lnTo>
                <a:lnTo>
                  <a:pt x="41" y="28"/>
                </a:lnTo>
                <a:lnTo>
                  <a:pt x="50" y="35"/>
                </a:lnTo>
                <a:lnTo>
                  <a:pt x="50" y="35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26240" y="1979640"/>
            <a:ext cx="119160" cy="63360"/>
          </a:xfrm>
          <a:custGeom>
            <a:avLst/>
            <a:gdLst/>
            <a:ahLst/>
            <a:rect l="l" t="t" r="r" b="b"/>
            <a:pathLst>
              <a:path w="350" h="186">
                <a:moveTo>
                  <a:pt x="110" y="81"/>
                </a:moveTo>
                <a:lnTo>
                  <a:pt x="119" y="86"/>
                </a:lnTo>
                <a:lnTo>
                  <a:pt x="137" y="93"/>
                </a:lnTo>
                <a:lnTo>
                  <a:pt x="175" y="102"/>
                </a:lnTo>
                <a:lnTo>
                  <a:pt x="216" y="105"/>
                </a:lnTo>
                <a:lnTo>
                  <a:pt x="227" y="105"/>
                </a:lnTo>
                <a:lnTo>
                  <a:pt x="230" y="109"/>
                </a:lnTo>
                <a:lnTo>
                  <a:pt x="234" y="109"/>
                </a:lnTo>
                <a:lnTo>
                  <a:pt x="240" y="107"/>
                </a:lnTo>
                <a:lnTo>
                  <a:pt x="245" y="105"/>
                </a:lnTo>
                <a:lnTo>
                  <a:pt x="249" y="100"/>
                </a:lnTo>
                <a:lnTo>
                  <a:pt x="259" y="87"/>
                </a:lnTo>
                <a:lnTo>
                  <a:pt x="274" y="65"/>
                </a:lnTo>
                <a:lnTo>
                  <a:pt x="276" y="63"/>
                </a:lnTo>
                <a:lnTo>
                  <a:pt x="285" y="63"/>
                </a:lnTo>
                <a:lnTo>
                  <a:pt x="314" y="63"/>
                </a:lnTo>
                <a:lnTo>
                  <a:pt x="337" y="63"/>
                </a:lnTo>
                <a:lnTo>
                  <a:pt x="339" y="63"/>
                </a:lnTo>
                <a:lnTo>
                  <a:pt x="342" y="70"/>
                </a:lnTo>
                <a:lnTo>
                  <a:pt x="346" y="83"/>
                </a:lnTo>
                <a:lnTo>
                  <a:pt x="350" y="106"/>
                </a:lnTo>
                <a:lnTo>
                  <a:pt x="343" y="132"/>
                </a:lnTo>
                <a:lnTo>
                  <a:pt x="339" y="139"/>
                </a:lnTo>
                <a:lnTo>
                  <a:pt x="333" y="139"/>
                </a:lnTo>
                <a:lnTo>
                  <a:pt x="324" y="139"/>
                </a:lnTo>
                <a:lnTo>
                  <a:pt x="304" y="138"/>
                </a:lnTo>
                <a:lnTo>
                  <a:pt x="285" y="138"/>
                </a:lnTo>
                <a:lnTo>
                  <a:pt x="281" y="136"/>
                </a:lnTo>
                <a:lnTo>
                  <a:pt x="275" y="145"/>
                </a:lnTo>
                <a:lnTo>
                  <a:pt x="262" y="160"/>
                </a:lnTo>
                <a:lnTo>
                  <a:pt x="245" y="171"/>
                </a:lnTo>
                <a:lnTo>
                  <a:pt x="223" y="177"/>
                </a:lnTo>
                <a:lnTo>
                  <a:pt x="201" y="180"/>
                </a:lnTo>
                <a:lnTo>
                  <a:pt x="179" y="176"/>
                </a:lnTo>
                <a:lnTo>
                  <a:pt x="169" y="171"/>
                </a:lnTo>
                <a:lnTo>
                  <a:pt x="161" y="168"/>
                </a:lnTo>
                <a:lnTo>
                  <a:pt x="149" y="161"/>
                </a:lnTo>
                <a:lnTo>
                  <a:pt x="140" y="158"/>
                </a:lnTo>
                <a:lnTo>
                  <a:pt x="137" y="158"/>
                </a:lnTo>
                <a:lnTo>
                  <a:pt x="136" y="160"/>
                </a:lnTo>
                <a:lnTo>
                  <a:pt x="133" y="162"/>
                </a:lnTo>
                <a:lnTo>
                  <a:pt x="132" y="165"/>
                </a:lnTo>
                <a:lnTo>
                  <a:pt x="130" y="171"/>
                </a:lnTo>
                <a:lnTo>
                  <a:pt x="124" y="186"/>
                </a:lnTo>
                <a:lnTo>
                  <a:pt x="124" y="186"/>
                </a:lnTo>
                <a:lnTo>
                  <a:pt x="119" y="186"/>
                </a:lnTo>
                <a:lnTo>
                  <a:pt x="107" y="186"/>
                </a:lnTo>
                <a:lnTo>
                  <a:pt x="87" y="181"/>
                </a:lnTo>
                <a:lnTo>
                  <a:pt x="63" y="174"/>
                </a:lnTo>
                <a:lnTo>
                  <a:pt x="56" y="171"/>
                </a:lnTo>
                <a:lnTo>
                  <a:pt x="49" y="170"/>
                </a:lnTo>
                <a:lnTo>
                  <a:pt x="43" y="165"/>
                </a:lnTo>
                <a:lnTo>
                  <a:pt x="39" y="158"/>
                </a:lnTo>
                <a:lnTo>
                  <a:pt x="36" y="149"/>
                </a:lnTo>
                <a:lnTo>
                  <a:pt x="30" y="129"/>
                </a:lnTo>
                <a:lnTo>
                  <a:pt x="26" y="90"/>
                </a:lnTo>
                <a:lnTo>
                  <a:pt x="26" y="80"/>
                </a:lnTo>
                <a:lnTo>
                  <a:pt x="21" y="77"/>
                </a:lnTo>
                <a:lnTo>
                  <a:pt x="8" y="64"/>
                </a:lnTo>
                <a:lnTo>
                  <a:pt x="0" y="55"/>
                </a:lnTo>
                <a:lnTo>
                  <a:pt x="0" y="54"/>
                </a:lnTo>
                <a:lnTo>
                  <a:pt x="3" y="47"/>
                </a:lnTo>
                <a:lnTo>
                  <a:pt x="8" y="32"/>
                </a:lnTo>
                <a:lnTo>
                  <a:pt x="23" y="12"/>
                </a:lnTo>
                <a:lnTo>
                  <a:pt x="32" y="6"/>
                </a:lnTo>
                <a:lnTo>
                  <a:pt x="45" y="2"/>
                </a:lnTo>
                <a:lnTo>
                  <a:pt x="53" y="0"/>
                </a:lnTo>
                <a:lnTo>
                  <a:pt x="55" y="5"/>
                </a:lnTo>
                <a:lnTo>
                  <a:pt x="56" y="7"/>
                </a:lnTo>
                <a:lnTo>
                  <a:pt x="58" y="10"/>
                </a:lnTo>
                <a:lnTo>
                  <a:pt x="59" y="13"/>
                </a:lnTo>
                <a:lnTo>
                  <a:pt x="58" y="20"/>
                </a:lnTo>
                <a:lnTo>
                  <a:pt x="58" y="29"/>
                </a:lnTo>
                <a:lnTo>
                  <a:pt x="55" y="44"/>
                </a:lnTo>
                <a:lnTo>
                  <a:pt x="56" y="44"/>
                </a:lnTo>
                <a:lnTo>
                  <a:pt x="62" y="45"/>
                </a:lnTo>
                <a:lnTo>
                  <a:pt x="71" y="44"/>
                </a:lnTo>
                <a:lnTo>
                  <a:pt x="77" y="42"/>
                </a:lnTo>
                <a:lnTo>
                  <a:pt x="81" y="39"/>
                </a:lnTo>
                <a:lnTo>
                  <a:pt x="85" y="34"/>
                </a:lnTo>
                <a:lnTo>
                  <a:pt x="94" y="23"/>
                </a:lnTo>
                <a:lnTo>
                  <a:pt x="101" y="16"/>
                </a:lnTo>
                <a:lnTo>
                  <a:pt x="104" y="20"/>
                </a:lnTo>
                <a:lnTo>
                  <a:pt x="106" y="26"/>
                </a:lnTo>
                <a:lnTo>
                  <a:pt x="108" y="36"/>
                </a:lnTo>
                <a:lnTo>
                  <a:pt x="110" y="48"/>
                </a:lnTo>
                <a:lnTo>
                  <a:pt x="110" y="71"/>
                </a:lnTo>
                <a:lnTo>
                  <a:pt x="110" y="81"/>
                </a:lnTo>
                <a:lnTo>
                  <a:pt x="110" y="8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726240" y="1884240"/>
            <a:ext cx="55440" cy="73080"/>
          </a:xfrm>
          <a:custGeom>
            <a:avLst/>
            <a:gdLst/>
            <a:ahLst/>
            <a:rect l="l" t="t" r="r" b="b"/>
            <a:pathLst>
              <a:path w="158" h="226">
                <a:moveTo>
                  <a:pt x="158" y="140"/>
                </a:moveTo>
                <a:lnTo>
                  <a:pt x="156" y="143"/>
                </a:lnTo>
                <a:lnTo>
                  <a:pt x="147" y="155"/>
                </a:lnTo>
                <a:lnTo>
                  <a:pt x="118" y="194"/>
                </a:lnTo>
                <a:lnTo>
                  <a:pt x="95" y="224"/>
                </a:lnTo>
                <a:lnTo>
                  <a:pt x="95" y="226"/>
                </a:lnTo>
                <a:lnTo>
                  <a:pt x="87" y="226"/>
                </a:lnTo>
                <a:lnTo>
                  <a:pt x="72" y="221"/>
                </a:lnTo>
                <a:lnTo>
                  <a:pt x="62" y="214"/>
                </a:lnTo>
                <a:lnTo>
                  <a:pt x="55" y="204"/>
                </a:lnTo>
                <a:lnTo>
                  <a:pt x="50" y="192"/>
                </a:lnTo>
                <a:lnTo>
                  <a:pt x="45" y="179"/>
                </a:lnTo>
                <a:lnTo>
                  <a:pt x="43" y="172"/>
                </a:lnTo>
                <a:lnTo>
                  <a:pt x="45" y="171"/>
                </a:lnTo>
                <a:lnTo>
                  <a:pt x="52" y="162"/>
                </a:lnTo>
                <a:lnTo>
                  <a:pt x="58" y="156"/>
                </a:lnTo>
                <a:lnTo>
                  <a:pt x="59" y="155"/>
                </a:lnTo>
                <a:lnTo>
                  <a:pt x="47" y="146"/>
                </a:lnTo>
                <a:lnTo>
                  <a:pt x="33" y="137"/>
                </a:lnTo>
                <a:lnTo>
                  <a:pt x="23" y="137"/>
                </a:lnTo>
                <a:lnTo>
                  <a:pt x="20" y="137"/>
                </a:lnTo>
                <a:lnTo>
                  <a:pt x="18" y="137"/>
                </a:lnTo>
                <a:lnTo>
                  <a:pt x="14" y="133"/>
                </a:lnTo>
                <a:lnTo>
                  <a:pt x="11" y="126"/>
                </a:lnTo>
                <a:lnTo>
                  <a:pt x="7" y="97"/>
                </a:lnTo>
                <a:lnTo>
                  <a:pt x="7" y="97"/>
                </a:lnTo>
                <a:lnTo>
                  <a:pt x="3" y="82"/>
                </a:lnTo>
                <a:lnTo>
                  <a:pt x="0" y="58"/>
                </a:lnTo>
                <a:lnTo>
                  <a:pt x="3" y="39"/>
                </a:lnTo>
                <a:lnTo>
                  <a:pt x="8" y="26"/>
                </a:lnTo>
                <a:lnTo>
                  <a:pt x="16" y="16"/>
                </a:lnTo>
                <a:lnTo>
                  <a:pt x="21" y="6"/>
                </a:lnTo>
                <a:lnTo>
                  <a:pt x="23" y="0"/>
                </a:lnTo>
                <a:lnTo>
                  <a:pt x="27" y="1"/>
                </a:lnTo>
                <a:lnTo>
                  <a:pt x="33" y="7"/>
                </a:lnTo>
                <a:lnTo>
                  <a:pt x="46" y="23"/>
                </a:lnTo>
                <a:lnTo>
                  <a:pt x="78" y="56"/>
                </a:lnTo>
                <a:lnTo>
                  <a:pt x="92" y="63"/>
                </a:lnTo>
                <a:lnTo>
                  <a:pt x="103" y="77"/>
                </a:lnTo>
                <a:lnTo>
                  <a:pt x="133" y="113"/>
                </a:lnTo>
                <a:lnTo>
                  <a:pt x="156" y="139"/>
                </a:lnTo>
                <a:lnTo>
                  <a:pt x="158" y="140"/>
                </a:lnTo>
                <a:lnTo>
                  <a:pt x="158" y="14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46760" y="1820880"/>
            <a:ext cx="101880" cy="173160"/>
          </a:xfrm>
          <a:custGeom>
            <a:avLst/>
            <a:gdLst/>
            <a:ahLst/>
            <a:rect l="l" t="t" r="r" b="b"/>
            <a:pathLst>
              <a:path w="294" h="532">
                <a:moveTo>
                  <a:pt x="130" y="252"/>
                </a:moveTo>
                <a:lnTo>
                  <a:pt x="126" y="249"/>
                </a:lnTo>
                <a:lnTo>
                  <a:pt x="125" y="246"/>
                </a:lnTo>
                <a:lnTo>
                  <a:pt x="123" y="244"/>
                </a:lnTo>
                <a:lnTo>
                  <a:pt x="123" y="241"/>
                </a:lnTo>
                <a:lnTo>
                  <a:pt x="125" y="238"/>
                </a:lnTo>
                <a:lnTo>
                  <a:pt x="126" y="235"/>
                </a:lnTo>
                <a:lnTo>
                  <a:pt x="128" y="232"/>
                </a:lnTo>
                <a:lnTo>
                  <a:pt x="133" y="225"/>
                </a:lnTo>
                <a:lnTo>
                  <a:pt x="141" y="216"/>
                </a:lnTo>
                <a:lnTo>
                  <a:pt x="145" y="210"/>
                </a:lnTo>
                <a:lnTo>
                  <a:pt x="151" y="203"/>
                </a:lnTo>
                <a:lnTo>
                  <a:pt x="152" y="199"/>
                </a:lnTo>
                <a:lnTo>
                  <a:pt x="152" y="197"/>
                </a:lnTo>
                <a:lnTo>
                  <a:pt x="148" y="197"/>
                </a:lnTo>
                <a:lnTo>
                  <a:pt x="146" y="197"/>
                </a:lnTo>
                <a:lnTo>
                  <a:pt x="139" y="200"/>
                </a:lnTo>
                <a:lnTo>
                  <a:pt x="123" y="209"/>
                </a:lnTo>
                <a:lnTo>
                  <a:pt x="106" y="217"/>
                </a:lnTo>
                <a:lnTo>
                  <a:pt x="91" y="223"/>
                </a:lnTo>
                <a:lnTo>
                  <a:pt x="88" y="222"/>
                </a:lnTo>
                <a:lnTo>
                  <a:pt x="77" y="220"/>
                </a:lnTo>
                <a:lnTo>
                  <a:pt x="55" y="216"/>
                </a:lnTo>
                <a:lnTo>
                  <a:pt x="17" y="202"/>
                </a:lnTo>
                <a:lnTo>
                  <a:pt x="6" y="194"/>
                </a:lnTo>
                <a:lnTo>
                  <a:pt x="1" y="191"/>
                </a:lnTo>
                <a:lnTo>
                  <a:pt x="0" y="188"/>
                </a:lnTo>
                <a:lnTo>
                  <a:pt x="0" y="186"/>
                </a:lnTo>
                <a:lnTo>
                  <a:pt x="4" y="175"/>
                </a:lnTo>
                <a:lnTo>
                  <a:pt x="10" y="155"/>
                </a:lnTo>
                <a:lnTo>
                  <a:pt x="13" y="138"/>
                </a:lnTo>
                <a:lnTo>
                  <a:pt x="16" y="122"/>
                </a:lnTo>
                <a:lnTo>
                  <a:pt x="26" y="107"/>
                </a:lnTo>
                <a:lnTo>
                  <a:pt x="46" y="97"/>
                </a:lnTo>
                <a:lnTo>
                  <a:pt x="64" y="91"/>
                </a:lnTo>
                <a:lnTo>
                  <a:pt x="71" y="88"/>
                </a:lnTo>
                <a:lnTo>
                  <a:pt x="78" y="84"/>
                </a:lnTo>
                <a:lnTo>
                  <a:pt x="97" y="68"/>
                </a:lnTo>
                <a:lnTo>
                  <a:pt x="139" y="31"/>
                </a:lnTo>
                <a:lnTo>
                  <a:pt x="174" y="0"/>
                </a:lnTo>
                <a:lnTo>
                  <a:pt x="178" y="3"/>
                </a:lnTo>
                <a:lnTo>
                  <a:pt x="196" y="12"/>
                </a:lnTo>
                <a:lnTo>
                  <a:pt x="209" y="17"/>
                </a:lnTo>
                <a:lnTo>
                  <a:pt x="210" y="17"/>
                </a:lnTo>
                <a:lnTo>
                  <a:pt x="214" y="16"/>
                </a:lnTo>
                <a:lnTo>
                  <a:pt x="225" y="13"/>
                </a:lnTo>
                <a:lnTo>
                  <a:pt x="246" y="10"/>
                </a:lnTo>
                <a:lnTo>
                  <a:pt x="268" y="10"/>
                </a:lnTo>
                <a:lnTo>
                  <a:pt x="274" y="9"/>
                </a:lnTo>
                <a:lnTo>
                  <a:pt x="274" y="17"/>
                </a:lnTo>
                <a:lnTo>
                  <a:pt x="274" y="36"/>
                </a:lnTo>
                <a:lnTo>
                  <a:pt x="271" y="78"/>
                </a:lnTo>
                <a:lnTo>
                  <a:pt x="264" y="97"/>
                </a:lnTo>
                <a:lnTo>
                  <a:pt x="252" y="110"/>
                </a:lnTo>
                <a:lnTo>
                  <a:pt x="245" y="115"/>
                </a:lnTo>
                <a:lnTo>
                  <a:pt x="252" y="119"/>
                </a:lnTo>
                <a:lnTo>
                  <a:pt x="275" y="132"/>
                </a:lnTo>
                <a:lnTo>
                  <a:pt x="293" y="142"/>
                </a:lnTo>
                <a:lnTo>
                  <a:pt x="294" y="142"/>
                </a:lnTo>
                <a:lnTo>
                  <a:pt x="291" y="155"/>
                </a:lnTo>
                <a:lnTo>
                  <a:pt x="285" y="181"/>
                </a:lnTo>
                <a:lnTo>
                  <a:pt x="271" y="238"/>
                </a:lnTo>
                <a:lnTo>
                  <a:pt x="255" y="280"/>
                </a:lnTo>
                <a:lnTo>
                  <a:pt x="251" y="284"/>
                </a:lnTo>
                <a:lnTo>
                  <a:pt x="252" y="297"/>
                </a:lnTo>
                <a:lnTo>
                  <a:pt x="256" y="322"/>
                </a:lnTo>
                <a:lnTo>
                  <a:pt x="256" y="377"/>
                </a:lnTo>
                <a:lnTo>
                  <a:pt x="243" y="430"/>
                </a:lnTo>
                <a:lnTo>
                  <a:pt x="238" y="442"/>
                </a:lnTo>
                <a:lnTo>
                  <a:pt x="245" y="446"/>
                </a:lnTo>
                <a:lnTo>
                  <a:pt x="271" y="459"/>
                </a:lnTo>
                <a:lnTo>
                  <a:pt x="291" y="468"/>
                </a:lnTo>
                <a:lnTo>
                  <a:pt x="293" y="468"/>
                </a:lnTo>
                <a:lnTo>
                  <a:pt x="291" y="474"/>
                </a:lnTo>
                <a:lnTo>
                  <a:pt x="290" y="483"/>
                </a:lnTo>
                <a:lnTo>
                  <a:pt x="284" y="499"/>
                </a:lnTo>
                <a:lnTo>
                  <a:pt x="275" y="513"/>
                </a:lnTo>
                <a:lnTo>
                  <a:pt x="274" y="514"/>
                </a:lnTo>
                <a:lnTo>
                  <a:pt x="268" y="514"/>
                </a:lnTo>
                <a:lnTo>
                  <a:pt x="259" y="513"/>
                </a:lnTo>
                <a:lnTo>
                  <a:pt x="243" y="509"/>
                </a:lnTo>
                <a:lnTo>
                  <a:pt x="230" y="506"/>
                </a:lnTo>
                <a:lnTo>
                  <a:pt x="229" y="504"/>
                </a:lnTo>
                <a:lnTo>
                  <a:pt x="219" y="510"/>
                </a:lnTo>
                <a:lnTo>
                  <a:pt x="199" y="519"/>
                </a:lnTo>
                <a:lnTo>
                  <a:pt x="151" y="532"/>
                </a:lnTo>
                <a:lnTo>
                  <a:pt x="103" y="530"/>
                </a:lnTo>
                <a:lnTo>
                  <a:pt x="91" y="526"/>
                </a:lnTo>
                <a:lnTo>
                  <a:pt x="91" y="516"/>
                </a:lnTo>
                <a:lnTo>
                  <a:pt x="96" y="484"/>
                </a:lnTo>
                <a:lnTo>
                  <a:pt x="97" y="459"/>
                </a:lnTo>
                <a:lnTo>
                  <a:pt x="99" y="458"/>
                </a:lnTo>
                <a:lnTo>
                  <a:pt x="103" y="457"/>
                </a:lnTo>
                <a:lnTo>
                  <a:pt x="114" y="452"/>
                </a:lnTo>
                <a:lnTo>
                  <a:pt x="141" y="446"/>
                </a:lnTo>
                <a:lnTo>
                  <a:pt x="165" y="443"/>
                </a:lnTo>
                <a:lnTo>
                  <a:pt x="171" y="442"/>
                </a:lnTo>
                <a:lnTo>
                  <a:pt x="165" y="441"/>
                </a:lnTo>
                <a:lnTo>
                  <a:pt x="152" y="436"/>
                </a:lnTo>
                <a:lnTo>
                  <a:pt x="114" y="422"/>
                </a:lnTo>
                <a:lnTo>
                  <a:pt x="99" y="413"/>
                </a:lnTo>
                <a:lnTo>
                  <a:pt x="88" y="406"/>
                </a:lnTo>
                <a:lnTo>
                  <a:pt x="88" y="401"/>
                </a:lnTo>
                <a:lnTo>
                  <a:pt x="90" y="400"/>
                </a:lnTo>
                <a:lnTo>
                  <a:pt x="94" y="397"/>
                </a:lnTo>
                <a:lnTo>
                  <a:pt x="101" y="391"/>
                </a:lnTo>
                <a:lnTo>
                  <a:pt x="120" y="365"/>
                </a:lnTo>
                <a:lnTo>
                  <a:pt x="129" y="332"/>
                </a:lnTo>
                <a:lnTo>
                  <a:pt x="128" y="320"/>
                </a:lnTo>
                <a:lnTo>
                  <a:pt x="125" y="312"/>
                </a:lnTo>
                <a:lnTo>
                  <a:pt x="122" y="306"/>
                </a:lnTo>
                <a:lnTo>
                  <a:pt x="117" y="300"/>
                </a:lnTo>
                <a:lnTo>
                  <a:pt x="112" y="297"/>
                </a:lnTo>
                <a:lnTo>
                  <a:pt x="106" y="294"/>
                </a:lnTo>
                <a:lnTo>
                  <a:pt x="96" y="290"/>
                </a:lnTo>
                <a:lnTo>
                  <a:pt x="91" y="288"/>
                </a:lnTo>
                <a:lnTo>
                  <a:pt x="88" y="284"/>
                </a:lnTo>
                <a:lnTo>
                  <a:pt x="88" y="278"/>
                </a:lnTo>
                <a:lnTo>
                  <a:pt x="88" y="271"/>
                </a:lnTo>
                <a:lnTo>
                  <a:pt x="90" y="271"/>
                </a:lnTo>
                <a:lnTo>
                  <a:pt x="93" y="265"/>
                </a:lnTo>
                <a:lnTo>
                  <a:pt x="100" y="262"/>
                </a:lnTo>
                <a:lnTo>
                  <a:pt x="109" y="262"/>
                </a:lnTo>
                <a:lnTo>
                  <a:pt x="117" y="264"/>
                </a:lnTo>
                <a:lnTo>
                  <a:pt x="129" y="268"/>
                </a:lnTo>
                <a:lnTo>
                  <a:pt x="149" y="280"/>
                </a:lnTo>
                <a:lnTo>
                  <a:pt x="177" y="296"/>
                </a:lnTo>
                <a:lnTo>
                  <a:pt x="178" y="294"/>
                </a:lnTo>
                <a:lnTo>
                  <a:pt x="174" y="291"/>
                </a:lnTo>
                <a:lnTo>
                  <a:pt x="171" y="288"/>
                </a:lnTo>
                <a:lnTo>
                  <a:pt x="162" y="281"/>
                </a:lnTo>
                <a:lnTo>
                  <a:pt x="142" y="265"/>
                </a:lnTo>
                <a:lnTo>
                  <a:pt x="130" y="252"/>
                </a:lnTo>
                <a:lnTo>
                  <a:pt x="130" y="25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196040" y="3592440"/>
            <a:ext cx="163440" cy="66600"/>
          </a:xfrm>
          <a:custGeom>
            <a:avLst/>
            <a:gdLst/>
            <a:ahLst/>
            <a:rect l="l" t="t" r="r" b="b"/>
            <a:pathLst>
              <a:path w="475" h="200">
                <a:moveTo>
                  <a:pt x="0" y="48"/>
                </a:moveTo>
                <a:lnTo>
                  <a:pt x="14" y="61"/>
                </a:lnTo>
                <a:lnTo>
                  <a:pt x="36" y="78"/>
                </a:lnTo>
                <a:lnTo>
                  <a:pt x="50" y="90"/>
                </a:lnTo>
                <a:lnTo>
                  <a:pt x="65" y="96"/>
                </a:lnTo>
                <a:lnTo>
                  <a:pt x="86" y="99"/>
                </a:lnTo>
                <a:lnTo>
                  <a:pt x="120" y="100"/>
                </a:lnTo>
                <a:lnTo>
                  <a:pt x="143" y="102"/>
                </a:lnTo>
                <a:lnTo>
                  <a:pt x="162" y="84"/>
                </a:lnTo>
                <a:lnTo>
                  <a:pt x="208" y="49"/>
                </a:lnTo>
                <a:lnTo>
                  <a:pt x="314" y="3"/>
                </a:lnTo>
                <a:lnTo>
                  <a:pt x="368" y="0"/>
                </a:lnTo>
                <a:lnTo>
                  <a:pt x="415" y="18"/>
                </a:lnTo>
                <a:lnTo>
                  <a:pt x="439" y="35"/>
                </a:lnTo>
                <a:lnTo>
                  <a:pt x="436" y="44"/>
                </a:lnTo>
                <a:lnTo>
                  <a:pt x="437" y="52"/>
                </a:lnTo>
                <a:lnTo>
                  <a:pt x="440" y="58"/>
                </a:lnTo>
                <a:lnTo>
                  <a:pt x="446" y="64"/>
                </a:lnTo>
                <a:lnTo>
                  <a:pt x="453" y="70"/>
                </a:lnTo>
                <a:lnTo>
                  <a:pt x="466" y="81"/>
                </a:lnTo>
                <a:lnTo>
                  <a:pt x="470" y="87"/>
                </a:lnTo>
                <a:lnTo>
                  <a:pt x="473" y="93"/>
                </a:lnTo>
                <a:lnTo>
                  <a:pt x="472" y="99"/>
                </a:lnTo>
                <a:lnTo>
                  <a:pt x="466" y="107"/>
                </a:lnTo>
                <a:lnTo>
                  <a:pt x="456" y="115"/>
                </a:lnTo>
                <a:lnTo>
                  <a:pt x="456" y="115"/>
                </a:lnTo>
                <a:lnTo>
                  <a:pt x="466" y="123"/>
                </a:lnTo>
                <a:lnTo>
                  <a:pt x="473" y="131"/>
                </a:lnTo>
                <a:lnTo>
                  <a:pt x="475" y="138"/>
                </a:lnTo>
                <a:lnTo>
                  <a:pt x="473" y="144"/>
                </a:lnTo>
                <a:lnTo>
                  <a:pt x="470" y="149"/>
                </a:lnTo>
                <a:lnTo>
                  <a:pt x="465" y="154"/>
                </a:lnTo>
                <a:lnTo>
                  <a:pt x="457" y="158"/>
                </a:lnTo>
                <a:lnTo>
                  <a:pt x="444" y="165"/>
                </a:lnTo>
                <a:lnTo>
                  <a:pt x="440" y="168"/>
                </a:lnTo>
                <a:lnTo>
                  <a:pt x="439" y="170"/>
                </a:lnTo>
                <a:lnTo>
                  <a:pt x="437" y="171"/>
                </a:lnTo>
                <a:lnTo>
                  <a:pt x="437" y="173"/>
                </a:lnTo>
                <a:lnTo>
                  <a:pt x="439" y="173"/>
                </a:lnTo>
                <a:lnTo>
                  <a:pt x="427" y="165"/>
                </a:lnTo>
                <a:lnTo>
                  <a:pt x="405" y="148"/>
                </a:lnTo>
                <a:lnTo>
                  <a:pt x="365" y="106"/>
                </a:lnTo>
                <a:lnTo>
                  <a:pt x="328" y="62"/>
                </a:lnTo>
                <a:lnTo>
                  <a:pt x="320" y="52"/>
                </a:lnTo>
                <a:lnTo>
                  <a:pt x="304" y="61"/>
                </a:lnTo>
                <a:lnTo>
                  <a:pt x="281" y="81"/>
                </a:lnTo>
                <a:lnTo>
                  <a:pt x="262" y="107"/>
                </a:lnTo>
                <a:lnTo>
                  <a:pt x="246" y="135"/>
                </a:lnTo>
                <a:lnTo>
                  <a:pt x="211" y="189"/>
                </a:lnTo>
                <a:lnTo>
                  <a:pt x="201" y="200"/>
                </a:lnTo>
                <a:lnTo>
                  <a:pt x="186" y="200"/>
                </a:lnTo>
                <a:lnTo>
                  <a:pt x="162" y="193"/>
                </a:lnTo>
                <a:lnTo>
                  <a:pt x="139" y="180"/>
                </a:lnTo>
                <a:lnTo>
                  <a:pt x="94" y="154"/>
                </a:lnTo>
                <a:lnTo>
                  <a:pt x="56" y="145"/>
                </a:lnTo>
                <a:lnTo>
                  <a:pt x="52" y="149"/>
                </a:lnTo>
                <a:lnTo>
                  <a:pt x="47" y="155"/>
                </a:lnTo>
                <a:lnTo>
                  <a:pt x="37" y="168"/>
                </a:lnTo>
                <a:lnTo>
                  <a:pt x="30" y="173"/>
                </a:lnTo>
                <a:lnTo>
                  <a:pt x="21" y="174"/>
                </a:lnTo>
                <a:lnTo>
                  <a:pt x="15" y="174"/>
                </a:lnTo>
                <a:lnTo>
                  <a:pt x="13" y="155"/>
                </a:lnTo>
                <a:lnTo>
                  <a:pt x="5" y="96"/>
                </a:lnTo>
                <a:lnTo>
                  <a:pt x="0" y="51"/>
                </a:lnTo>
                <a:lnTo>
                  <a:pt x="0" y="48"/>
                </a:lnTo>
                <a:lnTo>
                  <a:pt x="0" y="48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059600" y="3502080"/>
            <a:ext cx="117360" cy="111240"/>
          </a:xfrm>
          <a:custGeom>
            <a:avLst/>
            <a:gdLst/>
            <a:ahLst/>
            <a:rect l="l" t="t" r="r" b="b"/>
            <a:pathLst>
              <a:path w="338" h="336">
                <a:moveTo>
                  <a:pt x="245" y="269"/>
                </a:moveTo>
                <a:lnTo>
                  <a:pt x="228" y="271"/>
                </a:lnTo>
                <a:lnTo>
                  <a:pt x="202" y="271"/>
                </a:lnTo>
                <a:lnTo>
                  <a:pt x="183" y="275"/>
                </a:lnTo>
                <a:lnTo>
                  <a:pt x="169" y="283"/>
                </a:lnTo>
                <a:lnTo>
                  <a:pt x="157" y="297"/>
                </a:lnTo>
                <a:lnTo>
                  <a:pt x="144" y="322"/>
                </a:lnTo>
                <a:lnTo>
                  <a:pt x="138" y="336"/>
                </a:lnTo>
                <a:lnTo>
                  <a:pt x="129" y="327"/>
                </a:lnTo>
                <a:lnTo>
                  <a:pt x="111" y="304"/>
                </a:lnTo>
                <a:lnTo>
                  <a:pt x="66" y="248"/>
                </a:lnTo>
                <a:lnTo>
                  <a:pt x="13" y="191"/>
                </a:lnTo>
                <a:lnTo>
                  <a:pt x="0" y="178"/>
                </a:lnTo>
                <a:lnTo>
                  <a:pt x="3" y="177"/>
                </a:lnTo>
                <a:lnTo>
                  <a:pt x="19" y="165"/>
                </a:lnTo>
                <a:lnTo>
                  <a:pt x="61" y="130"/>
                </a:lnTo>
                <a:lnTo>
                  <a:pt x="90" y="101"/>
                </a:lnTo>
                <a:lnTo>
                  <a:pt x="93" y="97"/>
                </a:lnTo>
                <a:lnTo>
                  <a:pt x="106" y="88"/>
                </a:lnTo>
                <a:lnTo>
                  <a:pt x="142" y="70"/>
                </a:lnTo>
                <a:lnTo>
                  <a:pt x="234" y="30"/>
                </a:lnTo>
                <a:lnTo>
                  <a:pt x="316" y="4"/>
                </a:lnTo>
                <a:lnTo>
                  <a:pt x="332" y="0"/>
                </a:lnTo>
                <a:lnTo>
                  <a:pt x="331" y="7"/>
                </a:lnTo>
                <a:lnTo>
                  <a:pt x="328" y="20"/>
                </a:lnTo>
                <a:lnTo>
                  <a:pt x="318" y="45"/>
                </a:lnTo>
                <a:lnTo>
                  <a:pt x="306" y="62"/>
                </a:lnTo>
                <a:lnTo>
                  <a:pt x="305" y="64"/>
                </a:lnTo>
                <a:lnTo>
                  <a:pt x="305" y="72"/>
                </a:lnTo>
                <a:lnTo>
                  <a:pt x="308" y="91"/>
                </a:lnTo>
                <a:lnTo>
                  <a:pt x="321" y="135"/>
                </a:lnTo>
                <a:lnTo>
                  <a:pt x="335" y="175"/>
                </a:lnTo>
                <a:lnTo>
                  <a:pt x="338" y="183"/>
                </a:lnTo>
                <a:lnTo>
                  <a:pt x="329" y="191"/>
                </a:lnTo>
                <a:lnTo>
                  <a:pt x="318" y="203"/>
                </a:lnTo>
                <a:lnTo>
                  <a:pt x="313" y="210"/>
                </a:lnTo>
                <a:lnTo>
                  <a:pt x="311" y="219"/>
                </a:lnTo>
                <a:lnTo>
                  <a:pt x="312" y="232"/>
                </a:lnTo>
                <a:lnTo>
                  <a:pt x="313" y="251"/>
                </a:lnTo>
                <a:lnTo>
                  <a:pt x="315" y="264"/>
                </a:lnTo>
                <a:lnTo>
                  <a:pt x="308" y="265"/>
                </a:lnTo>
                <a:lnTo>
                  <a:pt x="295" y="265"/>
                </a:lnTo>
                <a:lnTo>
                  <a:pt x="271" y="268"/>
                </a:lnTo>
                <a:lnTo>
                  <a:pt x="250" y="269"/>
                </a:lnTo>
                <a:lnTo>
                  <a:pt x="245" y="269"/>
                </a:lnTo>
                <a:lnTo>
                  <a:pt x="245" y="269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107120" y="3587760"/>
            <a:ext cx="92160" cy="61920"/>
          </a:xfrm>
          <a:custGeom>
            <a:avLst/>
            <a:gdLst/>
            <a:ahLst/>
            <a:rect l="l" t="t" r="r" b="b"/>
            <a:pathLst>
              <a:path w="270" h="188">
                <a:moveTo>
                  <a:pt x="178" y="0"/>
                </a:moveTo>
                <a:lnTo>
                  <a:pt x="168" y="1"/>
                </a:lnTo>
                <a:lnTo>
                  <a:pt x="148" y="1"/>
                </a:lnTo>
                <a:lnTo>
                  <a:pt x="107" y="5"/>
                </a:lnTo>
                <a:lnTo>
                  <a:pt x="68" y="5"/>
                </a:lnTo>
                <a:lnTo>
                  <a:pt x="59" y="4"/>
                </a:lnTo>
                <a:lnTo>
                  <a:pt x="49" y="4"/>
                </a:lnTo>
                <a:lnTo>
                  <a:pt x="41" y="7"/>
                </a:lnTo>
                <a:lnTo>
                  <a:pt x="35" y="10"/>
                </a:lnTo>
                <a:lnTo>
                  <a:pt x="28" y="16"/>
                </a:lnTo>
                <a:lnTo>
                  <a:pt x="23" y="21"/>
                </a:lnTo>
                <a:lnTo>
                  <a:pt x="15" y="36"/>
                </a:lnTo>
                <a:lnTo>
                  <a:pt x="9" y="52"/>
                </a:lnTo>
                <a:lnTo>
                  <a:pt x="3" y="68"/>
                </a:lnTo>
                <a:lnTo>
                  <a:pt x="0" y="74"/>
                </a:lnTo>
                <a:lnTo>
                  <a:pt x="3" y="76"/>
                </a:lnTo>
                <a:lnTo>
                  <a:pt x="15" y="85"/>
                </a:lnTo>
                <a:lnTo>
                  <a:pt x="49" y="103"/>
                </a:lnTo>
                <a:lnTo>
                  <a:pt x="81" y="116"/>
                </a:lnTo>
                <a:lnTo>
                  <a:pt x="87" y="116"/>
                </a:lnTo>
                <a:lnTo>
                  <a:pt x="87" y="105"/>
                </a:lnTo>
                <a:lnTo>
                  <a:pt x="88" y="91"/>
                </a:lnTo>
                <a:lnTo>
                  <a:pt x="90" y="87"/>
                </a:lnTo>
                <a:lnTo>
                  <a:pt x="91" y="85"/>
                </a:lnTo>
                <a:lnTo>
                  <a:pt x="93" y="84"/>
                </a:lnTo>
                <a:lnTo>
                  <a:pt x="94" y="84"/>
                </a:lnTo>
                <a:lnTo>
                  <a:pt x="97" y="85"/>
                </a:lnTo>
                <a:lnTo>
                  <a:pt x="99" y="87"/>
                </a:lnTo>
                <a:lnTo>
                  <a:pt x="100" y="90"/>
                </a:lnTo>
                <a:lnTo>
                  <a:pt x="103" y="94"/>
                </a:lnTo>
                <a:lnTo>
                  <a:pt x="109" y="104"/>
                </a:lnTo>
                <a:lnTo>
                  <a:pt x="112" y="107"/>
                </a:lnTo>
                <a:lnTo>
                  <a:pt x="120" y="107"/>
                </a:lnTo>
                <a:lnTo>
                  <a:pt x="146" y="107"/>
                </a:lnTo>
                <a:lnTo>
                  <a:pt x="167" y="107"/>
                </a:lnTo>
                <a:lnTo>
                  <a:pt x="168" y="107"/>
                </a:lnTo>
                <a:lnTo>
                  <a:pt x="168" y="120"/>
                </a:lnTo>
                <a:lnTo>
                  <a:pt x="171" y="136"/>
                </a:lnTo>
                <a:lnTo>
                  <a:pt x="175" y="140"/>
                </a:lnTo>
                <a:lnTo>
                  <a:pt x="181" y="143"/>
                </a:lnTo>
                <a:lnTo>
                  <a:pt x="186" y="147"/>
                </a:lnTo>
                <a:lnTo>
                  <a:pt x="188" y="161"/>
                </a:lnTo>
                <a:lnTo>
                  <a:pt x="190" y="172"/>
                </a:lnTo>
                <a:lnTo>
                  <a:pt x="193" y="175"/>
                </a:lnTo>
                <a:lnTo>
                  <a:pt x="201" y="179"/>
                </a:lnTo>
                <a:lnTo>
                  <a:pt x="225" y="185"/>
                </a:lnTo>
                <a:lnTo>
                  <a:pt x="252" y="188"/>
                </a:lnTo>
                <a:lnTo>
                  <a:pt x="259" y="188"/>
                </a:lnTo>
                <a:lnTo>
                  <a:pt x="264" y="176"/>
                </a:lnTo>
                <a:lnTo>
                  <a:pt x="270" y="156"/>
                </a:lnTo>
                <a:lnTo>
                  <a:pt x="270" y="139"/>
                </a:lnTo>
                <a:lnTo>
                  <a:pt x="265" y="121"/>
                </a:lnTo>
                <a:lnTo>
                  <a:pt x="257" y="78"/>
                </a:lnTo>
                <a:lnTo>
                  <a:pt x="257" y="63"/>
                </a:lnTo>
                <a:lnTo>
                  <a:pt x="249" y="58"/>
                </a:lnTo>
                <a:lnTo>
                  <a:pt x="236" y="46"/>
                </a:lnTo>
                <a:lnTo>
                  <a:pt x="209" y="24"/>
                </a:lnTo>
                <a:lnTo>
                  <a:pt x="183" y="4"/>
                </a:lnTo>
                <a:lnTo>
                  <a:pt x="178" y="0"/>
                </a:lnTo>
                <a:lnTo>
                  <a:pt x="178" y="0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440480" y="3289320"/>
            <a:ext cx="84240" cy="68400"/>
          </a:xfrm>
          <a:custGeom>
            <a:avLst/>
            <a:gdLst/>
            <a:ahLst/>
            <a:rect l="l" t="t" r="r" b="b"/>
            <a:pathLst>
              <a:path w="249" h="207">
                <a:moveTo>
                  <a:pt x="0" y="31"/>
                </a:moveTo>
                <a:lnTo>
                  <a:pt x="6" y="26"/>
                </a:lnTo>
                <a:lnTo>
                  <a:pt x="15" y="19"/>
                </a:lnTo>
                <a:lnTo>
                  <a:pt x="28" y="10"/>
                </a:lnTo>
                <a:lnTo>
                  <a:pt x="36" y="6"/>
                </a:lnTo>
                <a:lnTo>
                  <a:pt x="39" y="5"/>
                </a:lnTo>
                <a:lnTo>
                  <a:pt x="49" y="2"/>
                </a:lnTo>
                <a:lnTo>
                  <a:pt x="60" y="0"/>
                </a:lnTo>
                <a:lnTo>
                  <a:pt x="70" y="2"/>
                </a:lnTo>
                <a:lnTo>
                  <a:pt x="90" y="7"/>
                </a:lnTo>
                <a:lnTo>
                  <a:pt x="110" y="16"/>
                </a:lnTo>
                <a:lnTo>
                  <a:pt x="145" y="41"/>
                </a:lnTo>
                <a:lnTo>
                  <a:pt x="152" y="45"/>
                </a:lnTo>
                <a:lnTo>
                  <a:pt x="158" y="45"/>
                </a:lnTo>
                <a:lnTo>
                  <a:pt x="173" y="44"/>
                </a:lnTo>
                <a:lnTo>
                  <a:pt x="206" y="38"/>
                </a:lnTo>
                <a:lnTo>
                  <a:pt x="235" y="36"/>
                </a:lnTo>
                <a:lnTo>
                  <a:pt x="241" y="36"/>
                </a:lnTo>
                <a:lnTo>
                  <a:pt x="241" y="44"/>
                </a:lnTo>
                <a:lnTo>
                  <a:pt x="242" y="55"/>
                </a:lnTo>
                <a:lnTo>
                  <a:pt x="244" y="73"/>
                </a:lnTo>
                <a:lnTo>
                  <a:pt x="248" y="94"/>
                </a:lnTo>
                <a:lnTo>
                  <a:pt x="249" y="100"/>
                </a:lnTo>
                <a:lnTo>
                  <a:pt x="239" y="103"/>
                </a:lnTo>
                <a:lnTo>
                  <a:pt x="219" y="112"/>
                </a:lnTo>
                <a:lnTo>
                  <a:pt x="199" y="122"/>
                </a:lnTo>
                <a:lnTo>
                  <a:pt x="157" y="145"/>
                </a:lnTo>
                <a:lnTo>
                  <a:pt x="128" y="151"/>
                </a:lnTo>
                <a:lnTo>
                  <a:pt x="125" y="149"/>
                </a:lnTo>
                <a:lnTo>
                  <a:pt x="122" y="144"/>
                </a:lnTo>
                <a:lnTo>
                  <a:pt x="116" y="132"/>
                </a:lnTo>
                <a:lnTo>
                  <a:pt x="110" y="121"/>
                </a:lnTo>
                <a:lnTo>
                  <a:pt x="109" y="118"/>
                </a:lnTo>
                <a:lnTo>
                  <a:pt x="107" y="119"/>
                </a:lnTo>
                <a:lnTo>
                  <a:pt x="104" y="121"/>
                </a:lnTo>
                <a:lnTo>
                  <a:pt x="99" y="123"/>
                </a:lnTo>
                <a:lnTo>
                  <a:pt x="86" y="132"/>
                </a:lnTo>
                <a:lnTo>
                  <a:pt x="80" y="138"/>
                </a:lnTo>
                <a:lnTo>
                  <a:pt x="74" y="142"/>
                </a:lnTo>
                <a:lnTo>
                  <a:pt x="65" y="154"/>
                </a:lnTo>
                <a:lnTo>
                  <a:pt x="60" y="165"/>
                </a:lnTo>
                <a:lnTo>
                  <a:pt x="55" y="178"/>
                </a:lnTo>
                <a:lnTo>
                  <a:pt x="44" y="203"/>
                </a:lnTo>
                <a:lnTo>
                  <a:pt x="41" y="207"/>
                </a:lnTo>
                <a:lnTo>
                  <a:pt x="39" y="205"/>
                </a:lnTo>
                <a:lnTo>
                  <a:pt x="38" y="202"/>
                </a:lnTo>
                <a:lnTo>
                  <a:pt x="33" y="197"/>
                </a:lnTo>
                <a:lnTo>
                  <a:pt x="26" y="194"/>
                </a:lnTo>
                <a:lnTo>
                  <a:pt x="20" y="193"/>
                </a:lnTo>
                <a:lnTo>
                  <a:pt x="12" y="194"/>
                </a:lnTo>
                <a:lnTo>
                  <a:pt x="9" y="196"/>
                </a:lnTo>
                <a:lnTo>
                  <a:pt x="9" y="187"/>
                </a:lnTo>
                <a:lnTo>
                  <a:pt x="12" y="161"/>
                </a:lnTo>
                <a:lnTo>
                  <a:pt x="12" y="99"/>
                </a:lnTo>
                <a:lnTo>
                  <a:pt x="3" y="41"/>
                </a:lnTo>
                <a:lnTo>
                  <a:pt x="0" y="31"/>
                </a:lnTo>
                <a:lnTo>
                  <a:pt x="0" y="31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02440" y="3278160"/>
            <a:ext cx="341280" cy="115920"/>
          </a:xfrm>
          <a:custGeom>
            <a:avLst/>
            <a:gdLst/>
            <a:ahLst/>
            <a:rect l="l" t="t" r="r" b="b"/>
            <a:pathLst>
              <a:path w="988" h="346">
                <a:moveTo>
                  <a:pt x="956" y="209"/>
                </a:moveTo>
                <a:lnTo>
                  <a:pt x="950" y="204"/>
                </a:lnTo>
                <a:lnTo>
                  <a:pt x="946" y="201"/>
                </a:lnTo>
                <a:lnTo>
                  <a:pt x="943" y="200"/>
                </a:lnTo>
                <a:lnTo>
                  <a:pt x="942" y="200"/>
                </a:lnTo>
                <a:lnTo>
                  <a:pt x="940" y="201"/>
                </a:lnTo>
                <a:lnTo>
                  <a:pt x="939" y="204"/>
                </a:lnTo>
                <a:lnTo>
                  <a:pt x="939" y="207"/>
                </a:lnTo>
                <a:lnTo>
                  <a:pt x="937" y="216"/>
                </a:lnTo>
                <a:lnTo>
                  <a:pt x="933" y="225"/>
                </a:lnTo>
                <a:lnTo>
                  <a:pt x="930" y="227"/>
                </a:lnTo>
                <a:lnTo>
                  <a:pt x="926" y="229"/>
                </a:lnTo>
                <a:lnTo>
                  <a:pt x="919" y="230"/>
                </a:lnTo>
                <a:lnTo>
                  <a:pt x="894" y="233"/>
                </a:lnTo>
                <a:lnTo>
                  <a:pt x="830" y="236"/>
                </a:lnTo>
                <a:lnTo>
                  <a:pt x="798" y="214"/>
                </a:lnTo>
                <a:lnTo>
                  <a:pt x="806" y="214"/>
                </a:lnTo>
                <a:lnTo>
                  <a:pt x="814" y="211"/>
                </a:lnTo>
                <a:lnTo>
                  <a:pt x="839" y="206"/>
                </a:lnTo>
                <a:lnTo>
                  <a:pt x="894" y="190"/>
                </a:lnTo>
                <a:lnTo>
                  <a:pt x="917" y="178"/>
                </a:lnTo>
                <a:lnTo>
                  <a:pt x="914" y="172"/>
                </a:lnTo>
                <a:lnTo>
                  <a:pt x="910" y="165"/>
                </a:lnTo>
                <a:lnTo>
                  <a:pt x="904" y="158"/>
                </a:lnTo>
                <a:lnTo>
                  <a:pt x="888" y="143"/>
                </a:lnTo>
                <a:lnTo>
                  <a:pt x="855" y="114"/>
                </a:lnTo>
                <a:lnTo>
                  <a:pt x="852" y="98"/>
                </a:lnTo>
                <a:lnTo>
                  <a:pt x="856" y="93"/>
                </a:lnTo>
                <a:lnTo>
                  <a:pt x="868" y="84"/>
                </a:lnTo>
                <a:lnTo>
                  <a:pt x="878" y="77"/>
                </a:lnTo>
                <a:lnTo>
                  <a:pt x="890" y="74"/>
                </a:lnTo>
                <a:lnTo>
                  <a:pt x="900" y="72"/>
                </a:lnTo>
                <a:lnTo>
                  <a:pt x="910" y="75"/>
                </a:lnTo>
                <a:lnTo>
                  <a:pt x="916" y="77"/>
                </a:lnTo>
                <a:lnTo>
                  <a:pt x="917" y="77"/>
                </a:lnTo>
                <a:lnTo>
                  <a:pt x="920" y="74"/>
                </a:lnTo>
                <a:lnTo>
                  <a:pt x="924" y="71"/>
                </a:lnTo>
                <a:lnTo>
                  <a:pt x="935" y="61"/>
                </a:lnTo>
                <a:lnTo>
                  <a:pt x="948" y="52"/>
                </a:lnTo>
                <a:lnTo>
                  <a:pt x="953" y="51"/>
                </a:lnTo>
                <a:lnTo>
                  <a:pt x="959" y="49"/>
                </a:lnTo>
                <a:lnTo>
                  <a:pt x="965" y="52"/>
                </a:lnTo>
                <a:lnTo>
                  <a:pt x="971" y="58"/>
                </a:lnTo>
                <a:lnTo>
                  <a:pt x="975" y="67"/>
                </a:lnTo>
                <a:lnTo>
                  <a:pt x="977" y="67"/>
                </a:lnTo>
                <a:lnTo>
                  <a:pt x="979" y="78"/>
                </a:lnTo>
                <a:lnTo>
                  <a:pt x="985" y="97"/>
                </a:lnTo>
                <a:lnTo>
                  <a:pt x="988" y="138"/>
                </a:lnTo>
                <a:lnTo>
                  <a:pt x="984" y="206"/>
                </a:lnTo>
                <a:lnTo>
                  <a:pt x="982" y="230"/>
                </a:lnTo>
                <a:lnTo>
                  <a:pt x="978" y="229"/>
                </a:lnTo>
                <a:lnTo>
                  <a:pt x="971" y="225"/>
                </a:lnTo>
                <a:lnTo>
                  <a:pt x="961" y="217"/>
                </a:lnTo>
                <a:lnTo>
                  <a:pt x="958" y="214"/>
                </a:lnTo>
                <a:lnTo>
                  <a:pt x="956" y="211"/>
                </a:lnTo>
                <a:lnTo>
                  <a:pt x="956" y="209"/>
                </a:lnTo>
                <a:lnTo>
                  <a:pt x="956" y="209"/>
                </a:lnTo>
                <a:close/>
                <a:moveTo>
                  <a:pt x="535" y="319"/>
                </a:moveTo>
                <a:lnTo>
                  <a:pt x="533" y="313"/>
                </a:lnTo>
                <a:lnTo>
                  <a:pt x="532" y="309"/>
                </a:lnTo>
                <a:lnTo>
                  <a:pt x="530" y="300"/>
                </a:lnTo>
                <a:lnTo>
                  <a:pt x="530" y="293"/>
                </a:lnTo>
                <a:lnTo>
                  <a:pt x="532" y="290"/>
                </a:lnTo>
                <a:lnTo>
                  <a:pt x="535" y="288"/>
                </a:lnTo>
                <a:lnTo>
                  <a:pt x="539" y="290"/>
                </a:lnTo>
                <a:lnTo>
                  <a:pt x="543" y="291"/>
                </a:lnTo>
                <a:lnTo>
                  <a:pt x="545" y="291"/>
                </a:lnTo>
                <a:lnTo>
                  <a:pt x="577" y="297"/>
                </a:lnTo>
                <a:lnTo>
                  <a:pt x="625" y="301"/>
                </a:lnTo>
                <a:lnTo>
                  <a:pt x="652" y="303"/>
                </a:lnTo>
                <a:lnTo>
                  <a:pt x="659" y="303"/>
                </a:lnTo>
                <a:lnTo>
                  <a:pt x="662" y="304"/>
                </a:lnTo>
                <a:lnTo>
                  <a:pt x="664" y="307"/>
                </a:lnTo>
                <a:lnTo>
                  <a:pt x="662" y="310"/>
                </a:lnTo>
                <a:lnTo>
                  <a:pt x="659" y="313"/>
                </a:lnTo>
                <a:lnTo>
                  <a:pt x="655" y="322"/>
                </a:lnTo>
                <a:lnTo>
                  <a:pt x="640" y="345"/>
                </a:lnTo>
                <a:lnTo>
                  <a:pt x="640" y="345"/>
                </a:lnTo>
                <a:lnTo>
                  <a:pt x="629" y="346"/>
                </a:lnTo>
                <a:lnTo>
                  <a:pt x="604" y="346"/>
                </a:lnTo>
                <a:lnTo>
                  <a:pt x="561" y="345"/>
                </a:lnTo>
                <a:lnTo>
                  <a:pt x="545" y="339"/>
                </a:lnTo>
                <a:lnTo>
                  <a:pt x="539" y="335"/>
                </a:lnTo>
                <a:lnTo>
                  <a:pt x="535" y="327"/>
                </a:lnTo>
                <a:lnTo>
                  <a:pt x="535" y="319"/>
                </a:lnTo>
                <a:lnTo>
                  <a:pt x="535" y="319"/>
                </a:lnTo>
                <a:lnTo>
                  <a:pt x="535" y="319"/>
                </a:lnTo>
                <a:close/>
                <a:moveTo>
                  <a:pt x="361" y="3"/>
                </a:moveTo>
                <a:lnTo>
                  <a:pt x="372" y="17"/>
                </a:lnTo>
                <a:lnTo>
                  <a:pt x="390" y="30"/>
                </a:lnTo>
                <a:lnTo>
                  <a:pt x="396" y="32"/>
                </a:lnTo>
                <a:lnTo>
                  <a:pt x="400" y="30"/>
                </a:lnTo>
                <a:lnTo>
                  <a:pt x="404" y="27"/>
                </a:lnTo>
                <a:lnTo>
                  <a:pt x="410" y="23"/>
                </a:lnTo>
                <a:lnTo>
                  <a:pt x="426" y="13"/>
                </a:lnTo>
                <a:lnTo>
                  <a:pt x="452" y="4"/>
                </a:lnTo>
                <a:lnTo>
                  <a:pt x="471" y="3"/>
                </a:lnTo>
                <a:lnTo>
                  <a:pt x="483" y="9"/>
                </a:lnTo>
                <a:lnTo>
                  <a:pt x="506" y="20"/>
                </a:lnTo>
                <a:lnTo>
                  <a:pt x="542" y="48"/>
                </a:lnTo>
                <a:lnTo>
                  <a:pt x="582" y="68"/>
                </a:lnTo>
                <a:lnTo>
                  <a:pt x="596" y="69"/>
                </a:lnTo>
                <a:lnTo>
                  <a:pt x="610" y="72"/>
                </a:lnTo>
                <a:lnTo>
                  <a:pt x="643" y="74"/>
                </a:lnTo>
                <a:lnTo>
                  <a:pt x="719" y="80"/>
                </a:lnTo>
                <a:lnTo>
                  <a:pt x="752" y="87"/>
                </a:lnTo>
                <a:lnTo>
                  <a:pt x="780" y="100"/>
                </a:lnTo>
                <a:lnTo>
                  <a:pt x="791" y="107"/>
                </a:lnTo>
                <a:lnTo>
                  <a:pt x="780" y="109"/>
                </a:lnTo>
                <a:lnTo>
                  <a:pt x="759" y="111"/>
                </a:lnTo>
                <a:lnTo>
                  <a:pt x="742" y="119"/>
                </a:lnTo>
                <a:lnTo>
                  <a:pt x="710" y="139"/>
                </a:lnTo>
                <a:lnTo>
                  <a:pt x="690" y="158"/>
                </a:lnTo>
                <a:lnTo>
                  <a:pt x="684" y="158"/>
                </a:lnTo>
                <a:lnTo>
                  <a:pt x="672" y="158"/>
                </a:lnTo>
                <a:lnTo>
                  <a:pt x="648" y="154"/>
                </a:lnTo>
                <a:lnTo>
                  <a:pt x="627" y="151"/>
                </a:lnTo>
                <a:lnTo>
                  <a:pt x="626" y="149"/>
                </a:lnTo>
                <a:lnTo>
                  <a:pt x="613" y="156"/>
                </a:lnTo>
                <a:lnTo>
                  <a:pt x="587" y="168"/>
                </a:lnTo>
                <a:lnTo>
                  <a:pt x="559" y="174"/>
                </a:lnTo>
                <a:lnTo>
                  <a:pt x="538" y="175"/>
                </a:lnTo>
                <a:lnTo>
                  <a:pt x="535" y="174"/>
                </a:lnTo>
                <a:lnTo>
                  <a:pt x="532" y="172"/>
                </a:lnTo>
                <a:lnTo>
                  <a:pt x="530" y="171"/>
                </a:lnTo>
                <a:lnTo>
                  <a:pt x="530" y="169"/>
                </a:lnTo>
                <a:lnTo>
                  <a:pt x="530" y="168"/>
                </a:lnTo>
                <a:lnTo>
                  <a:pt x="532" y="165"/>
                </a:lnTo>
                <a:lnTo>
                  <a:pt x="533" y="164"/>
                </a:lnTo>
                <a:lnTo>
                  <a:pt x="536" y="159"/>
                </a:lnTo>
                <a:lnTo>
                  <a:pt x="548" y="149"/>
                </a:lnTo>
                <a:lnTo>
                  <a:pt x="561" y="139"/>
                </a:lnTo>
                <a:lnTo>
                  <a:pt x="549" y="136"/>
                </a:lnTo>
                <a:lnTo>
                  <a:pt x="523" y="130"/>
                </a:lnTo>
                <a:lnTo>
                  <a:pt x="474" y="119"/>
                </a:lnTo>
                <a:lnTo>
                  <a:pt x="451" y="107"/>
                </a:lnTo>
                <a:lnTo>
                  <a:pt x="433" y="90"/>
                </a:lnTo>
                <a:lnTo>
                  <a:pt x="426" y="77"/>
                </a:lnTo>
                <a:lnTo>
                  <a:pt x="409" y="91"/>
                </a:lnTo>
                <a:lnTo>
                  <a:pt x="391" y="98"/>
                </a:lnTo>
                <a:lnTo>
                  <a:pt x="374" y="103"/>
                </a:lnTo>
                <a:lnTo>
                  <a:pt x="355" y="103"/>
                </a:lnTo>
                <a:lnTo>
                  <a:pt x="316" y="97"/>
                </a:lnTo>
                <a:lnTo>
                  <a:pt x="278" y="88"/>
                </a:lnTo>
                <a:lnTo>
                  <a:pt x="242" y="83"/>
                </a:lnTo>
                <a:lnTo>
                  <a:pt x="209" y="88"/>
                </a:lnTo>
                <a:lnTo>
                  <a:pt x="209" y="88"/>
                </a:lnTo>
                <a:lnTo>
                  <a:pt x="206" y="88"/>
                </a:lnTo>
                <a:lnTo>
                  <a:pt x="204" y="87"/>
                </a:lnTo>
                <a:lnTo>
                  <a:pt x="203" y="85"/>
                </a:lnTo>
                <a:lnTo>
                  <a:pt x="201" y="83"/>
                </a:lnTo>
                <a:lnTo>
                  <a:pt x="197" y="77"/>
                </a:lnTo>
                <a:lnTo>
                  <a:pt x="180" y="64"/>
                </a:lnTo>
                <a:lnTo>
                  <a:pt x="165" y="56"/>
                </a:lnTo>
                <a:lnTo>
                  <a:pt x="158" y="58"/>
                </a:lnTo>
                <a:lnTo>
                  <a:pt x="149" y="59"/>
                </a:lnTo>
                <a:lnTo>
                  <a:pt x="133" y="67"/>
                </a:lnTo>
                <a:lnTo>
                  <a:pt x="119" y="78"/>
                </a:lnTo>
                <a:lnTo>
                  <a:pt x="107" y="94"/>
                </a:lnTo>
                <a:lnTo>
                  <a:pt x="101" y="113"/>
                </a:lnTo>
                <a:lnTo>
                  <a:pt x="103" y="133"/>
                </a:lnTo>
                <a:lnTo>
                  <a:pt x="104" y="133"/>
                </a:lnTo>
                <a:lnTo>
                  <a:pt x="86" y="136"/>
                </a:lnTo>
                <a:lnTo>
                  <a:pt x="58" y="142"/>
                </a:lnTo>
                <a:lnTo>
                  <a:pt x="42" y="152"/>
                </a:lnTo>
                <a:lnTo>
                  <a:pt x="35" y="162"/>
                </a:lnTo>
                <a:lnTo>
                  <a:pt x="29" y="171"/>
                </a:lnTo>
                <a:lnTo>
                  <a:pt x="28" y="174"/>
                </a:lnTo>
                <a:lnTo>
                  <a:pt x="25" y="177"/>
                </a:lnTo>
                <a:lnTo>
                  <a:pt x="22" y="177"/>
                </a:lnTo>
                <a:lnTo>
                  <a:pt x="22" y="177"/>
                </a:lnTo>
                <a:lnTo>
                  <a:pt x="16" y="174"/>
                </a:lnTo>
                <a:lnTo>
                  <a:pt x="4" y="161"/>
                </a:lnTo>
                <a:lnTo>
                  <a:pt x="0" y="151"/>
                </a:lnTo>
                <a:lnTo>
                  <a:pt x="2" y="139"/>
                </a:lnTo>
                <a:lnTo>
                  <a:pt x="6" y="132"/>
                </a:lnTo>
                <a:lnTo>
                  <a:pt x="35" y="103"/>
                </a:lnTo>
                <a:lnTo>
                  <a:pt x="88" y="55"/>
                </a:lnTo>
                <a:lnTo>
                  <a:pt x="188" y="6"/>
                </a:lnTo>
                <a:lnTo>
                  <a:pt x="317" y="0"/>
                </a:lnTo>
                <a:lnTo>
                  <a:pt x="361" y="3"/>
                </a:lnTo>
                <a:lnTo>
                  <a:pt x="361" y="3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378560" y="3295800"/>
            <a:ext cx="65160" cy="60120"/>
          </a:xfrm>
          <a:custGeom>
            <a:avLst/>
            <a:gdLst/>
            <a:ahLst/>
            <a:rect l="l" t="t" r="r" b="b"/>
            <a:pathLst>
              <a:path w="190" h="187">
                <a:moveTo>
                  <a:pt x="158" y="160"/>
                </a:moveTo>
                <a:lnTo>
                  <a:pt x="152" y="155"/>
                </a:lnTo>
                <a:lnTo>
                  <a:pt x="148" y="152"/>
                </a:lnTo>
                <a:lnTo>
                  <a:pt x="145" y="151"/>
                </a:lnTo>
                <a:lnTo>
                  <a:pt x="144" y="151"/>
                </a:lnTo>
                <a:lnTo>
                  <a:pt x="142" y="152"/>
                </a:lnTo>
                <a:lnTo>
                  <a:pt x="141" y="155"/>
                </a:lnTo>
                <a:lnTo>
                  <a:pt x="141" y="158"/>
                </a:lnTo>
                <a:lnTo>
                  <a:pt x="139" y="167"/>
                </a:lnTo>
                <a:lnTo>
                  <a:pt x="135" y="176"/>
                </a:lnTo>
                <a:lnTo>
                  <a:pt x="132" y="178"/>
                </a:lnTo>
                <a:lnTo>
                  <a:pt x="128" y="180"/>
                </a:lnTo>
                <a:lnTo>
                  <a:pt x="121" y="181"/>
                </a:lnTo>
                <a:lnTo>
                  <a:pt x="96" y="184"/>
                </a:lnTo>
                <a:lnTo>
                  <a:pt x="32" y="187"/>
                </a:lnTo>
                <a:lnTo>
                  <a:pt x="0" y="165"/>
                </a:lnTo>
                <a:lnTo>
                  <a:pt x="8" y="165"/>
                </a:lnTo>
                <a:lnTo>
                  <a:pt x="16" y="162"/>
                </a:lnTo>
                <a:lnTo>
                  <a:pt x="41" y="157"/>
                </a:lnTo>
                <a:lnTo>
                  <a:pt x="96" y="141"/>
                </a:lnTo>
                <a:lnTo>
                  <a:pt x="119" y="129"/>
                </a:lnTo>
                <a:lnTo>
                  <a:pt x="116" y="123"/>
                </a:lnTo>
                <a:lnTo>
                  <a:pt x="112" y="116"/>
                </a:lnTo>
                <a:lnTo>
                  <a:pt x="106" y="109"/>
                </a:lnTo>
                <a:lnTo>
                  <a:pt x="90" y="94"/>
                </a:lnTo>
                <a:lnTo>
                  <a:pt x="57" y="65"/>
                </a:lnTo>
                <a:lnTo>
                  <a:pt x="54" y="49"/>
                </a:lnTo>
                <a:lnTo>
                  <a:pt x="58" y="44"/>
                </a:lnTo>
                <a:lnTo>
                  <a:pt x="70" y="35"/>
                </a:lnTo>
                <a:lnTo>
                  <a:pt x="80" y="28"/>
                </a:lnTo>
                <a:lnTo>
                  <a:pt x="92" y="25"/>
                </a:lnTo>
                <a:lnTo>
                  <a:pt x="102" y="23"/>
                </a:lnTo>
                <a:lnTo>
                  <a:pt x="112" y="26"/>
                </a:lnTo>
                <a:lnTo>
                  <a:pt x="118" y="28"/>
                </a:lnTo>
                <a:lnTo>
                  <a:pt x="119" y="28"/>
                </a:lnTo>
                <a:lnTo>
                  <a:pt x="122" y="25"/>
                </a:lnTo>
                <a:lnTo>
                  <a:pt x="126" y="22"/>
                </a:lnTo>
                <a:lnTo>
                  <a:pt x="137" y="12"/>
                </a:lnTo>
                <a:lnTo>
                  <a:pt x="150" y="3"/>
                </a:lnTo>
                <a:lnTo>
                  <a:pt x="155" y="2"/>
                </a:lnTo>
                <a:lnTo>
                  <a:pt x="161" y="0"/>
                </a:lnTo>
                <a:lnTo>
                  <a:pt x="167" y="3"/>
                </a:lnTo>
                <a:lnTo>
                  <a:pt x="173" y="9"/>
                </a:lnTo>
                <a:lnTo>
                  <a:pt x="177" y="18"/>
                </a:lnTo>
                <a:lnTo>
                  <a:pt x="179" y="18"/>
                </a:lnTo>
                <a:lnTo>
                  <a:pt x="181" y="29"/>
                </a:lnTo>
                <a:lnTo>
                  <a:pt x="187" y="48"/>
                </a:lnTo>
                <a:lnTo>
                  <a:pt x="190" y="89"/>
                </a:lnTo>
                <a:lnTo>
                  <a:pt x="186" y="157"/>
                </a:lnTo>
                <a:lnTo>
                  <a:pt x="184" y="181"/>
                </a:lnTo>
                <a:lnTo>
                  <a:pt x="180" y="180"/>
                </a:lnTo>
                <a:lnTo>
                  <a:pt x="173" y="176"/>
                </a:lnTo>
                <a:lnTo>
                  <a:pt x="163" y="168"/>
                </a:lnTo>
                <a:lnTo>
                  <a:pt x="160" y="165"/>
                </a:lnTo>
                <a:lnTo>
                  <a:pt x="158" y="162"/>
                </a:lnTo>
                <a:lnTo>
                  <a:pt x="158" y="160"/>
                </a:lnTo>
                <a:lnTo>
                  <a:pt x="158" y="16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286760" y="3373560"/>
            <a:ext cx="46080" cy="20520"/>
          </a:xfrm>
          <a:custGeom>
            <a:avLst/>
            <a:gdLst/>
            <a:ahLst/>
            <a:rect l="l" t="t" r="r" b="b"/>
            <a:pathLst>
              <a:path w="134" h="58">
                <a:moveTo>
                  <a:pt x="5" y="31"/>
                </a:moveTo>
                <a:lnTo>
                  <a:pt x="3" y="25"/>
                </a:lnTo>
                <a:lnTo>
                  <a:pt x="2" y="21"/>
                </a:lnTo>
                <a:lnTo>
                  <a:pt x="0" y="12"/>
                </a:lnTo>
                <a:lnTo>
                  <a:pt x="0" y="5"/>
                </a:lnTo>
                <a:lnTo>
                  <a:pt x="2" y="2"/>
                </a:lnTo>
                <a:lnTo>
                  <a:pt x="5" y="0"/>
                </a:lnTo>
                <a:lnTo>
                  <a:pt x="9" y="2"/>
                </a:lnTo>
                <a:lnTo>
                  <a:pt x="13" y="3"/>
                </a:lnTo>
                <a:lnTo>
                  <a:pt x="15" y="3"/>
                </a:lnTo>
                <a:lnTo>
                  <a:pt x="47" y="9"/>
                </a:lnTo>
                <a:lnTo>
                  <a:pt x="95" y="13"/>
                </a:lnTo>
                <a:lnTo>
                  <a:pt x="122" y="15"/>
                </a:lnTo>
                <a:lnTo>
                  <a:pt x="129" y="15"/>
                </a:lnTo>
                <a:lnTo>
                  <a:pt x="132" y="16"/>
                </a:lnTo>
                <a:lnTo>
                  <a:pt x="134" y="19"/>
                </a:lnTo>
                <a:lnTo>
                  <a:pt x="132" y="22"/>
                </a:lnTo>
                <a:lnTo>
                  <a:pt x="129" y="25"/>
                </a:lnTo>
                <a:lnTo>
                  <a:pt x="125" y="34"/>
                </a:lnTo>
                <a:lnTo>
                  <a:pt x="110" y="57"/>
                </a:lnTo>
                <a:lnTo>
                  <a:pt x="110" y="57"/>
                </a:lnTo>
                <a:lnTo>
                  <a:pt x="99" y="58"/>
                </a:lnTo>
                <a:lnTo>
                  <a:pt x="74" y="58"/>
                </a:lnTo>
                <a:lnTo>
                  <a:pt x="31" y="57"/>
                </a:lnTo>
                <a:lnTo>
                  <a:pt x="15" y="51"/>
                </a:lnTo>
                <a:lnTo>
                  <a:pt x="9" y="47"/>
                </a:lnTo>
                <a:lnTo>
                  <a:pt x="5" y="39"/>
                </a:lnTo>
                <a:lnTo>
                  <a:pt x="5" y="31"/>
                </a:lnTo>
                <a:lnTo>
                  <a:pt x="5" y="31"/>
                </a:lnTo>
                <a:lnTo>
                  <a:pt x="5" y="3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102440" y="3278160"/>
            <a:ext cx="273240" cy="58680"/>
          </a:xfrm>
          <a:custGeom>
            <a:avLst/>
            <a:gdLst/>
            <a:ahLst/>
            <a:rect l="l" t="t" r="r" b="b"/>
            <a:pathLst>
              <a:path w="791" h="177">
                <a:moveTo>
                  <a:pt x="361" y="3"/>
                </a:moveTo>
                <a:lnTo>
                  <a:pt x="372" y="17"/>
                </a:lnTo>
                <a:lnTo>
                  <a:pt x="390" y="30"/>
                </a:lnTo>
                <a:lnTo>
                  <a:pt x="396" y="32"/>
                </a:lnTo>
                <a:lnTo>
                  <a:pt x="400" y="30"/>
                </a:lnTo>
                <a:lnTo>
                  <a:pt x="404" y="27"/>
                </a:lnTo>
                <a:lnTo>
                  <a:pt x="410" y="23"/>
                </a:lnTo>
                <a:lnTo>
                  <a:pt x="426" y="13"/>
                </a:lnTo>
                <a:lnTo>
                  <a:pt x="452" y="4"/>
                </a:lnTo>
                <a:lnTo>
                  <a:pt x="471" y="3"/>
                </a:lnTo>
                <a:lnTo>
                  <a:pt x="483" y="9"/>
                </a:lnTo>
                <a:lnTo>
                  <a:pt x="506" y="20"/>
                </a:lnTo>
                <a:lnTo>
                  <a:pt x="542" y="48"/>
                </a:lnTo>
                <a:lnTo>
                  <a:pt x="582" y="68"/>
                </a:lnTo>
                <a:lnTo>
                  <a:pt x="596" y="69"/>
                </a:lnTo>
                <a:lnTo>
                  <a:pt x="610" y="72"/>
                </a:lnTo>
                <a:lnTo>
                  <a:pt x="643" y="74"/>
                </a:lnTo>
                <a:lnTo>
                  <a:pt x="719" y="80"/>
                </a:lnTo>
                <a:lnTo>
                  <a:pt x="752" y="87"/>
                </a:lnTo>
                <a:lnTo>
                  <a:pt x="780" y="100"/>
                </a:lnTo>
                <a:lnTo>
                  <a:pt x="791" y="107"/>
                </a:lnTo>
                <a:lnTo>
                  <a:pt x="780" y="109"/>
                </a:lnTo>
                <a:lnTo>
                  <a:pt x="759" y="111"/>
                </a:lnTo>
                <a:lnTo>
                  <a:pt x="742" y="119"/>
                </a:lnTo>
                <a:lnTo>
                  <a:pt x="710" y="139"/>
                </a:lnTo>
                <a:lnTo>
                  <a:pt x="690" y="158"/>
                </a:lnTo>
                <a:lnTo>
                  <a:pt x="684" y="158"/>
                </a:lnTo>
                <a:lnTo>
                  <a:pt x="672" y="158"/>
                </a:lnTo>
                <a:lnTo>
                  <a:pt x="648" y="154"/>
                </a:lnTo>
                <a:lnTo>
                  <a:pt x="627" y="151"/>
                </a:lnTo>
                <a:lnTo>
                  <a:pt x="626" y="149"/>
                </a:lnTo>
                <a:lnTo>
                  <a:pt x="613" y="156"/>
                </a:lnTo>
                <a:lnTo>
                  <a:pt x="587" y="168"/>
                </a:lnTo>
                <a:lnTo>
                  <a:pt x="559" y="174"/>
                </a:lnTo>
                <a:lnTo>
                  <a:pt x="538" y="175"/>
                </a:lnTo>
                <a:lnTo>
                  <a:pt x="535" y="174"/>
                </a:lnTo>
                <a:lnTo>
                  <a:pt x="532" y="172"/>
                </a:lnTo>
                <a:lnTo>
                  <a:pt x="530" y="171"/>
                </a:lnTo>
                <a:lnTo>
                  <a:pt x="530" y="169"/>
                </a:lnTo>
                <a:lnTo>
                  <a:pt x="530" y="168"/>
                </a:lnTo>
                <a:lnTo>
                  <a:pt x="532" y="165"/>
                </a:lnTo>
                <a:lnTo>
                  <a:pt x="533" y="164"/>
                </a:lnTo>
                <a:lnTo>
                  <a:pt x="536" y="159"/>
                </a:lnTo>
                <a:lnTo>
                  <a:pt x="548" y="149"/>
                </a:lnTo>
                <a:lnTo>
                  <a:pt x="561" y="139"/>
                </a:lnTo>
                <a:lnTo>
                  <a:pt x="549" y="136"/>
                </a:lnTo>
                <a:lnTo>
                  <a:pt x="523" y="130"/>
                </a:lnTo>
                <a:lnTo>
                  <a:pt x="474" y="119"/>
                </a:lnTo>
                <a:lnTo>
                  <a:pt x="451" y="107"/>
                </a:lnTo>
                <a:lnTo>
                  <a:pt x="433" y="90"/>
                </a:lnTo>
                <a:lnTo>
                  <a:pt x="426" y="77"/>
                </a:lnTo>
                <a:lnTo>
                  <a:pt x="409" y="91"/>
                </a:lnTo>
                <a:lnTo>
                  <a:pt x="391" y="98"/>
                </a:lnTo>
                <a:lnTo>
                  <a:pt x="374" y="103"/>
                </a:lnTo>
                <a:lnTo>
                  <a:pt x="355" y="103"/>
                </a:lnTo>
                <a:lnTo>
                  <a:pt x="316" y="97"/>
                </a:lnTo>
                <a:lnTo>
                  <a:pt x="278" y="88"/>
                </a:lnTo>
                <a:lnTo>
                  <a:pt x="242" y="83"/>
                </a:lnTo>
                <a:lnTo>
                  <a:pt x="209" y="88"/>
                </a:lnTo>
                <a:lnTo>
                  <a:pt x="209" y="88"/>
                </a:lnTo>
                <a:lnTo>
                  <a:pt x="206" y="88"/>
                </a:lnTo>
                <a:lnTo>
                  <a:pt x="204" y="87"/>
                </a:lnTo>
                <a:lnTo>
                  <a:pt x="203" y="85"/>
                </a:lnTo>
                <a:lnTo>
                  <a:pt x="201" y="83"/>
                </a:lnTo>
                <a:lnTo>
                  <a:pt x="197" y="77"/>
                </a:lnTo>
                <a:lnTo>
                  <a:pt x="180" y="64"/>
                </a:lnTo>
                <a:lnTo>
                  <a:pt x="165" y="56"/>
                </a:lnTo>
                <a:lnTo>
                  <a:pt x="158" y="58"/>
                </a:lnTo>
                <a:lnTo>
                  <a:pt x="149" y="59"/>
                </a:lnTo>
                <a:lnTo>
                  <a:pt x="133" y="67"/>
                </a:lnTo>
                <a:lnTo>
                  <a:pt x="119" y="78"/>
                </a:lnTo>
                <a:lnTo>
                  <a:pt x="107" y="94"/>
                </a:lnTo>
                <a:lnTo>
                  <a:pt x="101" y="113"/>
                </a:lnTo>
                <a:lnTo>
                  <a:pt x="103" y="133"/>
                </a:lnTo>
                <a:lnTo>
                  <a:pt x="104" y="133"/>
                </a:lnTo>
                <a:lnTo>
                  <a:pt x="86" y="136"/>
                </a:lnTo>
                <a:lnTo>
                  <a:pt x="58" y="142"/>
                </a:lnTo>
                <a:lnTo>
                  <a:pt x="42" y="152"/>
                </a:lnTo>
                <a:lnTo>
                  <a:pt x="35" y="162"/>
                </a:lnTo>
                <a:lnTo>
                  <a:pt x="29" y="171"/>
                </a:lnTo>
                <a:lnTo>
                  <a:pt x="28" y="174"/>
                </a:lnTo>
                <a:lnTo>
                  <a:pt x="25" y="177"/>
                </a:lnTo>
                <a:lnTo>
                  <a:pt x="22" y="177"/>
                </a:lnTo>
                <a:lnTo>
                  <a:pt x="22" y="177"/>
                </a:lnTo>
                <a:lnTo>
                  <a:pt x="16" y="174"/>
                </a:lnTo>
                <a:lnTo>
                  <a:pt x="4" y="161"/>
                </a:lnTo>
                <a:lnTo>
                  <a:pt x="0" y="151"/>
                </a:lnTo>
                <a:lnTo>
                  <a:pt x="2" y="139"/>
                </a:lnTo>
                <a:lnTo>
                  <a:pt x="6" y="132"/>
                </a:lnTo>
                <a:lnTo>
                  <a:pt x="35" y="103"/>
                </a:lnTo>
                <a:lnTo>
                  <a:pt x="88" y="55"/>
                </a:lnTo>
                <a:lnTo>
                  <a:pt x="188" y="6"/>
                </a:lnTo>
                <a:lnTo>
                  <a:pt x="317" y="0"/>
                </a:lnTo>
                <a:lnTo>
                  <a:pt x="361" y="3"/>
                </a:lnTo>
                <a:lnTo>
                  <a:pt x="361" y="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662960" y="5121360"/>
            <a:ext cx="17280" cy="38160"/>
          </a:xfrm>
          <a:custGeom>
            <a:avLst/>
            <a:gdLst/>
            <a:ahLst/>
            <a:rect l="l" t="t" r="r" b="b"/>
            <a:pathLst>
              <a:path w="57" h="115">
                <a:moveTo>
                  <a:pt x="57" y="0"/>
                </a:moveTo>
                <a:lnTo>
                  <a:pt x="56" y="2"/>
                </a:lnTo>
                <a:lnTo>
                  <a:pt x="53" y="3"/>
                </a:lnTo>
                <a:lnTo>
                  <a:pt x="40" y="9"/>
                </a:lnTo>
                <a:lnTo>
                  <a:pt x="30" y="13"/>
                </a:lnTo>
                <a:lnTo>
                  <a:pt x="30" y="13"/>
                </a:lnTo>
                <a:lnTo>
                  <a:pt x="28" y="15"/>
                </a:lnTo>
                <a:lnTo>
                  <a:pt x="24" y="25"/>
                </a:lnTo>
                <a:lnTo>
                  <a:pt x="10" y="60"/>
                </a:lnTo>
                <a:lnTo>
                  <a:pt x="0" y="86"/>
                </a:lnTo>
                <a:lnTo>
                  <a:pt x="0" y="86"/>
                </a:lnTo>
                <a:lnTo>
                  <a:pt x="4" y="91"/>
                </a:lnTo>
                <a:lnTo>
                  <a:pt x="18" y="104"/>
                </a:lnTo>
                <a:lnTo>
                  <a:pt x="28" y="115"/>
                </a:lnTo>
                <a:lnTo>
                  <a:pt x="30" y="115"/>
                </a:lnTo>
                <a:lnTo>
                  <a:pt x="31" y="113"/>
                </a:lnTo>
                <a:lnTo>
                  <a:pt x="39" y="106"/>
                </a:lnTo>
                <a:lnTo>
                  <a:pt x="43" y="102"/>
                </a:lnTo>
                <a:lnTo>
                  <a:pt x="44" y="100"/>
                </a:lnTo>
                <a:lnTo>
                  <a:pt x="44" y="97"/>
                </a:lnTo>
                <a:lnTo>
                  <a:pt x="43" y="84"/>
                </a:lnTo>
                <a:lnTo>
                  <a:pt x="43" y="74"/>
                </a:lnTo>
                <a:lnTo>
                  <a:pt x="44" y="73"/>
                </a:lnTo>
                <a:lnTo>
                  <a:pt x="46" y="67"/>
                </a:lnTo>
                <a:lnTo>
                  <a:pt x="52" y="45"/>
                </a:lnTo>
                <a:lnTo>
                  <a:pt x="56" y="29"/>
                </a:lnTo>
                <a:lnTo>
                  <a:pt x="57" y="28"/>
                </a:lnTo>
                <a:lnTo>
                  <a:pt x="56" y="28"/>
                </a:lnTo>
                <a:lnTo>
                  <a:pt x="57" y="28"/>
                </a:lnTo>
                <a:lnTo>
                  <a:pt x="56" y="28"/>
                </a:lnTo>
                <a:lnTo>
                  <a:pt x="57" y="28"/>
                </a:lnTo>
                <a:lnTo>
                  <a:pt x="57" y="25"/>
                </a:lnTo>
                <a:lnTo>
                  <a:pt x="56" y="12"/>
                </a:lnTo>
                <a:lnTo>
                  <a:pt x="56" y="2"/>
                </a:lnTo>
                <a:lnTo>
                  <a:pt x="57" y="0"/>
                </a:lnTo>
                <a:lnTo>
                  <a:pt x="57" y="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678800" y="5124600"/>
            <a:ext cx="22320" cy="28440"/>
          </a:xfrm>
          <a:custGeom>
            <a:avLst/>
            <a:gdLst/>
            <a:ahLst/>
            <a:rect l="l" t="t" r="r" b="b"/>
            <a:pathLst>
              <a:path w="58" h="87">
                <a:moveTo>
                  <a:pt x="16" y="15"/>
                </a:moveTo>
                <a:lnTo>
                  <a:pt x="13" y="22"/>
                </a:lnTo>
                <a:lnTo>
                  <a:pt x="6" y="44"/>
                </a:lnTo>
                <a:lnTo>
                  <a:pt x="1" y="60"/>
                </a:lnTo>
                <a:lnTo>
                  <a:pt x="1" y="60"/>
                </a:lnTo>
                <a:lnTo>
                  <a:pt x="1" y="64"/>
                </a:lnTo>
                <a:lnTo>
                  <a:pt x="0" y="77"/>
                </a:lnTo>
                <a:lnTo>
                  <a:pt x="0" y="87"/>
                </a:lnTo>
                <a:lnTo>
                  <a:pt x="1" y="87"/>
                </a:lnTo>
                <a:lnTo>
                  <a:pt x="6" y="86"/>
                </a:lnTo>
                <a:lnTo>
                  <a:pt x="19" y="78"/>
                </a:lnTo>
                <a:lnTo>
                  <a:pt x="29" y="74"/>
                </a:lnTo>
                <a:lnTo>
                  <a:pt x="30" y="73"/>
                </a:lnTo>
                <a:lnTo>
                  <a:pt x="30" y="68"/>
                </a:lnTo>
                <a:lnTo>
                  <a:pt x="29" y="55"/>
                </a:lnTo>
                <a:lnTo>
                  <a:pt x="29" y="45"/>
                </a:lnTo>
                <a:lnTo>
                  <a:pt x="30" y="44"/>
                </a:lnTo>
                <a:lnTo>
                  <a:pt x="33" y="42"/>
                </a:lnTo>
                <a:lnTo>
                  <a:pt x="46" y="36"/>
                </a:lnTo>
                <a:lnTo>
                  <a:pt x="57" y="32"/>
                </a:lnTo>
                <a:lnTo>
                  <a:pt x="58" y="31"/>
                </a:lnTo>
                <a:lnTo>
                  <a:pt x="58" y="29"/>
                </a:lnTo>
                <a:lnTo>
                  <a:pt x="57" y="22"/>
                </a:lnTo>
                <a:lnTo>
                  <a:pt x="57" y="16"/>
                </a:lnTo>
                <a:lnTo>
                  <a:pt x="58" y="15"/>
                </a:lnTo>
                <a:lnTo>
                  <a:pt x="54" y="13"/>
                </a:lnTo>
                <a:lnTo>
                  <a:pt x="41" y="6"/>
                </a:lnTo>
                <a:lnTo>
                  <a:pt x="30" y="2"/>
                </a:lnTo>
                <a:lnTo>
                  <a:pt x="30" y="0"/>
                </a:lnTo>
                <a:lnTo>
                  <a:pt x="29" y="0"/>
                </a:lnTo>
                <a:lnTo>
                  <a:pt x="30" y="0"/>
                </a:lnTo>
                <a:lnTo>
                  <a:pt x="29" y="0"/>
                </a:lnTo>
                <a:lnTo>
                  <a:pt x="30" y="0"/>
                </a:lnTo>
                <a:lnTo>
                  <a:pt x="29" y="2"/>
                </a:lnTo>
                <a:lnTo>
                  <a:pt x="28" y="3"/>
                </a:lnTo>
                <a:lnTo>
                  <a:pt x="20" y="10"/>
                </a:lnTo>
                <a:lnTo>
                  <a:pt x="16" y="15"/>
                </a:lnTo>
                <a:lnTo>
                  <a:pt x="16" y="15"/>
                </a:lnTo>
                <a:lnTo>
                  <a:pt x="16" y="15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404120" y="5103720"/>
            <a:ext cx="11160" cy="22320"/>
          </a:xfrm>
          <a:custGeom>
            <a:avLst/>
            <a:gdLst/>
            <a:ahLst/>
            <a:rect l="l" t="t" r="r" b="b"/>
            <a:pathLst>
              <a:path w="30" h="69">
                <a:moveTo>
                  <a:pt x="0" y="5"/>
                </a:moveTo>
                <a:lnTo>
                  <a:pt x="0" y="6"/>
                </a:lnTo>
                <a:lnTo>
                  <a:pt x="0" y="15"/>
                </a:lnTo>
                <a:lnTo>
                  <a:pt x="1" y="45"/>
                </a:lnTo>
                <a:lnTo>
                  <a:pt x="3" y="69"/>
                </a:lnTo>
                <a:lnTo>
                  <a:pt x="4" y="69"/>
                </a:lnTo>
                <a:lnTo>
                  <a:pt x="7" y="66"/>
                </a:lnTo>
                <a:lnTo>
                  <a:pt x="20" y="56"/>
                </a:lnTo>
                <a:lnTo>
                  <a:pt x="29" y="48"/>
                </a:lnTo>
                <a:lnTo>
                  <a:pt x="30" y="47"/>
                </a:lnTo>
                <a:lnTo>
                  <a:pt x="29" y="43"/>
                </a:lnTo>
                <a:lnTo>
                  <a:pt x="24" y="29"/>
                </a:lnTo>
                <a:lnTo>
                  <a:pt x="23" y="19"/>
                </a:lnTo>
                <a:lnTo>
                  <a:pt x="23" y="18"/>
                </a:lnTo>
                <a:lnTo>
                  <a:pt x="27" y="8"/>
                </a:lnTo>
                <a:lnTo>
                  <a:pt x="29" y="2"/>
                </a:lnTo>
                <a:lnTo>
                  <a:pt x="30" y="0"/>
                </a:lnTo>
                <a:lnTo>
                  <a:pt x="29" y="0"/>
                </a:lnTo>
                <a:lnTo>
                  <a:pt x="27" y="0"/>
                </a:lnTo>
                <a:lnTo>
                  <a:pt x="20" y="0"/>
                </a:lnTo>
                <a:lnTo>
                  <a:pt x="14" y="0"/>
                </a:lnTo>
                <a:lnTo>
                  <a:pt x="14" y="0"/>
                </a:lnTo>
                <a:lnTo>
                  <a:pt x="13" y="0"/>
                </a:lnTo>
                <a:lnTo>
                  <a:pt x="14" y="0"/>
                </a:lnTo>
                <a:lnTo>
                  <a:pt x="13" y="0"/>
                </a:lnTo>
                <a:lnTo>
                  <a:pt x="14" y="0"/>
                </a:lnTo>
                <a:lnTo>
                  <a:pt x="11" y="2"/>
                </a:lnTo>
                <a:lnTo>
                  <a:pt x="4" y="3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442280" y="5186520"/>
            <a:ext cx="14040" cy="14040"/>
          </a:xfrm>
          <a:custGeom>
            <a:avLst/>
            <a:gdLst/>
            <a:ahLst/>
            <a:rect l="l" t="t" r="r" b="b"/>
            <a:pathLst>
              <a:path w="37" h="42">
                <a:moveTo>
                  <a:pt x="3" y="0"/>
                </a:moveTo>
                <a:lnTo>
                  <a:pt x="2" y="4"/>
                </a:lnTo>
                <a:lnTo>
                  <a:pt x="0" y="17"/>
                </a:lnTo>
                <a:lnTo>
                  <a:pt x="0" y="27"/>
                </a:lnTo>
                <a:lnTo>
                  <a:pt x="0" y="27"/>
                </a:lnTo>
                <a:lnTo>
                  <a:pt x="3" y="30"/>
                </a:lnTo>
                <a:lnTo>
                  <a:pt x="13" y="38"/>
                </a:lnTo>
                <a:lnTo>
                  <a:pt x="21" y="42"/>
                </a:lnTo>
                <a:lnTo>
                  <a:pt x="22" y="42"/>
                </a:lnTo>
                <a:lnTo>
                  <a:pt x="24" y="39"/>
                </a:lnTo>
                <a:lnTo>
                  <a:pt x="31" y="30"/>
                </a:lnTo>
                <a:lnTo>
                  <a:pt x="35" y="25"/>
                </a:lnTo>
                <a:lnTo>
                  <a:pt x="37" y="23"/>
                </a:lnTo>
                <a:lnTo>
                  <a:pt x="34" y="22"/>
                </a:lnTo>
                <a:lnTo>
                  <a:pt x="29" y="17"/>
                </a:lnTo>
                <a:lnTo>
                  <a:pt x="26" y="14"/>
                </a:lnTo>
                <a:lnTo>
                  <a:pt x="26" y="13"/>
                </a:lnTo>
                <a:lnTo>
                  <a:pt x="25" y="13"/>
                </a:lnTo>
                <a:lnTo>
                  <a:pt x="26" y="13"/>
                </a:lnTo>
                <a:lnTo>
                  <a:pt x="25" y="13"/>
                </a:lnTo>
                <a:lnTo>
                  <a:pt x="26" y="13"/>
                </a:lnTo>
                <a:lnTo>
                  <a:pt x="22" y="12"/>
                </a:lnTo>
                <a:lnTo>
                  <a:pt x="12" y="6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481880" y="5226120"/>
            <a:ext cx="27000" cy="15840"/>
          </a:xfrm>
          <a:custGeom>
            <a:avLst/>
            <a:gdLst/>
            <a:ahLst/>
            <a:rect l="l" t="t" r="r" b="b"/>
            <a:pathLst>
              <a:path w="80" h="41">
                <a:moveTo>
                  <a:pt x="7" y="0"/>
                </a:moveTo>
                <a:lnTo>
                  <a:pt x="6" y="2"/>
                </a:lnTo>
                <a:lnTo>
                  <a:pt x="1" y="10"/>
                </a:lnTo>
                <a:lnTo>
                  <a:pt x="0" y="15"/>
                </a:lnTo>
                <a:lnTo>
                  <a:pt x="0" y="15"/>
                </a:lnTo>
                <a:lnTo>
                  <a:pt x="3" y="19"/>
                </a:lnTo>
                <a:lnTo>
                  <a:pt x="13" y="32"/>
                </a:lnTo>
                <a:lnTo>
                  <a:pt x="20" y="41"/>
                </a:lnTo>
                <a:lnTo>
                  <a:pt x="22" y="41"/>
                </a:lnTo>
                <a:lnTo>
                  <a:pt x="27" y="39"/>
                </a:lnTo>
                <a:lnTo>
                  <a:pt x="45" y="33"/>
                </a:lnTo>
                <a:lnTo>
                  <a:pt x="59" y="29"/>
                </a:lnTo>
                <a:lnTo>
                  <a:pt x="61" y="28"/>
                </a:lnTo>
                <a:lnTo>
                  <a:pt x="64" y="28"/>
                </a:lnTo>
                <a:lnTo>
                  <a:pt x="72" y="26"/>
                </a:lnTo>
                <a:lnTo>
                  <a:pt x="78" y="26"/>
                </a:lnTo>
                <a:lnTo>
                  <a:pt x="80" y="25"/>
                </a:lnTo>
                <a:lnTo>
                  <a:pt x="80" y="23"/>
                </a:lnTo>
                <a:lnTo>
                  <a:pt x="78" y="16"/>
                </a:lnTo>
                <a:lnTo>
                  <a:pt x="78" y="10"/>
                </a:lnTo>
                <a:lnTo>
                  <a:pt x="80" y="9"/>
                </a:lnTo>
                <a:lnTo>
                  <a:pt x="78" y="9"/>
                </a:lnTo>
                <a:lnTo>
                  <a:pt x="74" y="9"/>
                </a:lnTo>
                <a:lnTo>
                  <a:pt x="59" y="9"/>
                </a:lnTo>
                <a:lnTo>
                  <a:pt x="49" y="9"/>
                </a:lnTo>
                <a:lnTo>
                  <a:pt x="49" y="7"/>
                </a:lnTo>
                <a:lnTo>
                  <a:pt x="48" y="7"/>
                </a:lnTo>
                <a:lnTo>
                  <a:pt x="49" y="7"/>
                </a:lnTo>
                <a:lnTo>
                  <a:pt x="48" y="7"/>
                </a:lnTo>
                <a:lnTo>
                  <a:pt x="49" y="7"/>
                </a:lnTo>
                <a:lnTo>
                  <a:pt x="48" y="7"/>
                </a:lnTo>
                <a:lnTo>
                  <a:pt x="42" y="7"/>
                </a:lnTo>
                <a:lnTo>
                  <a:pt x="22" y="3"/>
                </a:lnTo>
                <a:lnTo>
                  <a:pt x="7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910640" y="3925800"/>
            <a:ext cx="9360" cy="4680"/>
          </a:xfrm>
          <a:custGeom>
            <a:avLst/>
            <a:gdLst/>
            <a:ahLst/>
            <a:rect l="l" t="t" r="r" b="b"/>
            <a:pathLst>
              <a:path w="27" h="16">
                <a:moveTo>
                  <a:pt x="3" y="0"/>
                </a:moveTo>
                <a:lnTo>
                  <a:pt x="1" y="3"/>
                </a:lnTo>
                <a:lnTo>
                  <a:pt x="0" y="10"/>
                </a:lnTo>
                <a:lnTo>
                  <a:pt x="0" y="16"/>
                </a:lnTo>
                <a:lnTo>
                  <a:pt x="0" y="16"/>
                </a:lnTo>
                <a:lnTo>
                  <a:pt x="1" y="16"/>
                </a:lnTo>
                <a:lnTo>
                  <a:pt x="9" y="16"/>
                </a:lnTo>
                <a:lnTo>
                  <a:pt x="14" y="16"/>
                </a:lnTo>
                <a:lnTo>
                  <a:pt x="16" y="16"/>
                </a:lnTo>
                <a:lnTo>
                  <a:pt x="17" y="15"/>
                </a:lnTo>
                <a:lnTo>
                  <a:pt x="22" y="9"/>
                </a:lnTo>
                <a:lnTo>
                  <a:pt x="26" y="5"/>
                </a:lnTo>
                <a:lnTo>
                  <a:pt x="27" y="3"/>
                </a:lnTo>
                <a:lnTo>
                  <a:pt x="26" y="3"/>
                </a:lnTo>
                <a:lnTo>
                  <a:pt x="25" y="3"/>
                </a:lnTo>
                <a:lnTo>
                  <a:pt x="16" y="2"/>
                </a:lnTo>
                <a:lnTo>
                  <a:pt x="10" y="2"/>
                </a:lnTo>
                <a:lnTo>
                  <a:pt x="10" y="0"/>
                </a:lnTo>
                <a:lnTo>
                  <a:pt x="9" y="0"/>
                </a:lnTo>
                <a:lnTo>
                  <a:pt x="10" y="0"/>
                </a:lnTo>
                <a:lnTo>
                  <a:pt x="9" y="0"/>
                </a:lnTo>
                <a:lnTo>
                  <a:pt x="10" y="0"/>
                </a:lnTo>
                <a:lnTo>
                  <a:pt x="9" y="0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935840" y="3905280"/>
            <a:ext cx="22320" cy="15840"/>
          </a:xfrm>
          <a:custGeom>
            <a:avLst/>
            <a:gdLst/>
            <a:ahLst/>
            <a:rect l="l" t="t" r="r" b="b"/>
            <a:pathLst>
              <a:path w="61" h="49">
                <a:moveTo>
                  <a:pt x="0" y="28"/>
                </a:moveTo>
                <a:lnTo>
                  <a:pt x="0" y="29"/>
                </a:lnTo>
                <a:lnTo>
                  <a:pt x="0" y="32"/>
                </a:lnTo>
                <a:lnTo>
                  <a:pt x="1" y="42"/>
                </a:lnTo>
                <a:lnTo>
                  <a:pt x="3" y="49"/>
                </a:lnTo>
                <a:lnTo>
                  <a:pt x="4" y="49"/>
                </a:lnTo>
                <a:lnTo>
                  <a:pt x="10" y="49"/>
                </a:lnTo>
                <a:lnTo>
                  <a:pt x="27" y="49"/>
                </a:lnTo>
                <a:lnTo>
                  <a:pt x="40" y="49"/>
                </a:lnTo>
                <a:lnTo>
                  <a:pt x="42" y="49"/>
                </a:lnTo>
                <a:lnTo>
                  <a:pt x="42" y="46"/>
                </a:lnTo>
                <a:lnTo>
                  <a:pt x="42" y="38"/>
                </a:lnTo>
                <a:lnTo>
                  <a:pt x="42" y="32"/>
                </a:lnTo>
                <a:lnTo>
                  <a:pt x="43" y="30"/>
                </a:lnTo>
                <a:lnTo>
                  <a:pt x="53" y="26"/>
                </a:lnTo>
                <a:lnTo>
                  <a:pt x="59" y="23"/>
                </a:lnTo>
                <a:lnTo>
                  <a:pt x="61" y="22"/>
                </a:lnTo>
                <a:lnTo>
                  <a:pt x="56" y="20"/>
                </a:lnTo>
                <a:lnTo>
                  <a:pt x="46" y="12"/>
                </a:lnTo>
                <a:lnTo>
                  <a:pt x="39" y="6"/>
                </a:lnTo>
                <a:lnTo>
                  <a:pt x="39" y="4"/>
                </a:lnTo>
                <a:lnTo>
                  <a:pt x="37" y="4"/>
                </a:lnTo>
                <a:lnTo>
                  <a:pt x="35" y="4"/>
                </a:lnTo>
                <a:lnTo>
                  <a:pt x="24" y="3"/>
                </a:lnTo>
                <a:lnTo>
                  <a:pt x="17" y="2"/>
                </a:lnTo>
                <a:lnTo>
                  <a:pt x="17" y="0"/>
                </a:lnTo>
                <a:lnTo>
                  <a:pt x="16" y="0"/>
                </a:lnTo>
                <a:lnTo>
                  <a:pt x="17" y="0"/>
                </a:lnTo>
                <a:lnTo>
                  <a:pt x="16" y="0"/>
                </a:lnTo>
                <a:lnTo>
                  <a:pt x="17" y="0"/>
                </a:lnTo>
                <a:lnTo>
                  <a:pt x="16" y="2"/>
                </a:lnTo>
                <a:lnTo>
                  <a:pt x="14" y="4"/>
                </a:lnTo>
                <a:lnTo>
                  <a:pt x="6" y="17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594560" y="3654360"/>
            <a:ext cx="27000" cy="20880"/>
          </a:xfrm>
          <a:custGeom>
            <a:avLst/>
            <a:gdLst/>
            <a:ahLst/>
            <a:rect l="l" t="t" r="r" b="b"/>
            <a:pathLst>
              <a:path w="86" h="59">
                <a:moveTo>
                  <a:pt x="0" y="29"/>
                </a:moveTo>
                <a:lnTo>
                  <a:pt x="0" y="30"/>
                </a:lnTo>
                <a:lnTo>
                  <a:pt x="0" y="33"/>
                </a:lnTo>
                <a:lnTo>
                  <a:pt x="5" y="46"/>
                </a:lnTo>
                <a:lnTo>
                  <a:pt x="8" y="56"/>
                </a:lnTo>
                <a:lnTo>
                  <a:pt x="9" y="56"/>
                </a:lnTo>
                <a:lnTo>
                  <a:pt x="15" y="55"/>
                </a:lnTo>
                <a:lnTo>
                  <a:pt x="32" y="50"/>
                </a:lnTo>
                <a:lnTo>
                  <a:pt x="47" y="46"/>
                </a:lnTo>
                <a:lnTo>
                  <a:pt x="48" y="44"/>
                </a:lnTo>
                <a:lnTo>
                  <a:pt x="53" y="55"/>
                </a:lnTo>
                <a:lnTo>
                  <a:pt x="56" y="59"/>
                </a:lnTo>
                <a:lnTo>
                  <a:pt x="57" y="59"/>
                </a:lnTo>
                <a:lnTo>
                  <a:pt x="61" y="59"/>
                </a:lnTo>
                <a:lnTo>
                  <a:pt x="74" y="56"/>
                </a:lnTo>
                <a:lnTo>
                  <a:pt x="84" y="55"/>
                </a:lnTo>
                <a:lnTo>
                  <a:pt x="86" y="53"/>
                </a:lnTo>
                <a:lnTo>
                  <a:pt x="83" y="47"/>
                </a:lnTo>
                <a:lnTo>
                  <a:pt x="77" y="30"/>
                </a:lnTo>
                <a:lnTo>
                  <a:pt x="73" y="15"/>
                </a:lnTo>
                <a:lnTo>
                  <a:pt x="73" y="14"/>
                </a:lnTo>
                <a:lnTo>
                  <a:pt x="67" y="13"/>
                </a:lnTo>
                <a:lnTo>
                  <a:pt x="54" y="5"/>
                </a:lnTo>
                <a:lnTo>
                  <a:pt x="44" y="1"/>
                </a:lnTo>
                <a:lnTo>
                  <a:pt x="44" y="0"/>
                </a:lnTo>
                <a:lnTo>
                  <a:pt x="42" y="0"/>
                </a:lnTo>
                <a:lnTo>
                  <a:pt x="44" y="0"/>
                </a:lnTo>
                <a:lnTo>
                  <a:pt x="42" y="0"/>
                </a:lnTo>
                <a:lnTo>
                  <a:pt x="44" y="0"/>
                </a:lnTo>
                <a:lnTo>
                  <a:pt x="42" y="1"/>
                </a:lnTo>
                <a:lnTo>
                  <a:pt x="37" y="5"/>
                </a:lnTo>
                <a:lnTo>
                  <a:pt x="16" y="18"/>
                </a:lnTo>
                <a:lnTo>
                  <a:pt x="0" y="29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135920" y="3639960"/>
            <a:ext cx="333360" cy="395640"/>
          </a:xfrm>
          <a:custGeom>
            <a:avLst/>
            <a:gdLst/>
            <a:ahLst/>
            <a:rect l="l" t="t" r="r" b="b"/>
            <a:pathLst>
              <a:path w="966" h="1212">
                <a:moveTo>
                  <a:pt x="0" y="846"/>
                </a:moveTo>
                <a:lnTo>
                  <a:pt x="19" y="853"/>
                </a:lnTo>
                <a:lnTo>
                  <a:pt x="75" y="873"/>
                </a:lnTo>
                <a:lnTo>
                  <a:pt x="118" y="889"/>
                </a:lnTo>
                <a:lnTo>
                  <a:pt x="121" y="889"/>
                </a:lnTo>
                <a:lnTo>
                  <a:pt x="121" y="897"/>
                </a:lnTo>
                <a:lnTo>
                  <a:pt x="120" y="918"/>
                </a:lnTo>
                <a:lnTo>
                  <a:pt x="120" y="934"/>
                </a:lnTo>
                <a:lnTo>
                  <a:pt x="121" y="934"/>
                </a:lnTo>
                <a:lnTo>
                  <a:pt x="124" y="934"/>
                </a:lnTo>
                <a:lnTo>
                  <a:pt x="146" y="933"/>
                </a:lnTo>
                <a:lnTo>
                  <a:pt x="220" y="926"/>
                </a:lnTo>
                <a:lnTo>
                  <a:pt x="276" y="921"/>
                </a:lnTo>
                <a:lnTo>
                  <a:pt x="281" y="920"/>
                </a:lnTo>
                <a:lnTo>
                  <a:pt x="288" y="920"/>
                </a:lnTo>
                <a:lnTo>
                  <a:pt x="310" y="920"/>
                </a:lnTo>
                <a:lnTo>
                  <a:pt x="327" y="920"/>
                </a:lnTo>
                <a:lnTo>
                  <a:pt x="329" y="918"/>
                </a:lnTo>
                <a:lnTo>
                  <a:pt x="330" y="921"/>
                </a:lnTo>
                <a:lnTo>
                  <a:pt x="343" y="940"/>
                </a:lnTo>
                <a:lnTo>
                  <a:pt x="389" y="1001"/>
                </a:lnTo>
                <a:lnTo>
                  <a:pt x="424" y="1049"/>
                </a:lnTo>
                <a:lnTo>
                  <a:pt x="427" y="1050"/>
                </a:lnTo>
                <a:lnTo>
                  <a:pt x="429" y="1050"/>
                </a:lnTo>
                <a:lnTo>
                  <a:pt x="449" y="1050"/>
                </a:lnTo>
                <a:lnTo>
                  <a:pt x="517" y="1050"/>
                </a:lnTo>
                <a:lnTo>
                  <a:pt x="569" y="1050"/>
                </a:lnTo>
                <a:lnTo>
                  <a:pt x="572" y="1050"/>
                </a:lnTo>
                <a:lnTo>
                  <a:pt x="588" y="1056"/>
                </a:lnTo>
                <a:lnTo>
                  <a:pt x="636" y="1069"/>
                </a:lnTo>
                <a:lnTo>
                  <a:pt x="672" y="1079"/>
                </a:lnTo>
                <a:lnTo>
                  <a:pt x="675" y="1079"/>
                </a:lnTo>
                <a:lnTo>
                  <a:pt x="675" y="1101"/>
                </a:lnTo>
                <a:lnTo>
                  <a:pt x="673" y="1163"/>
                </a:lnTo>
                <a:lnTo>
                  <a:pt x="673" y="1211"/>
                </a:lnTo>
                <a:lnTo>
                  <a:pt x="675" y="1212"/>
                </a:lnTo>
                <a:lnTo>
                  <a:pt x="679" y="1212"/>
                </a:lnTo>
                <a:lnTo>
                  <a:pt x="692" y="1212"/>
                </a:lnTo>
                <a:lnTo>
                  <a:pt x="702" y="1212"/>
                </a:lnTo>
                <a:lnTo>
                  <a:pt x="704" y="1212"/>
                </a:lnTo>
                <a:lnTo>
                  <a:pt x="704" y="1208"/>
                </a:lnTo>
                <a:lnTo>
                  <a:pt x="714" y="1176"/>
                </a:lnTo>
                <a:lnTo>
                  <a:pt x="749" y="1066"/>
                </a:lnTo>
                <a:lnTo>
                  <a:pt x="775" y="983"/>
                </a:lnTo>
                <a:lnTo>
                  <a:pt x="776" y="978"/>
                </a:lnTo>
                <a:lnTo>
                  <a:pt x="766" y="972"/>
                </a:lnTo>
                <a:lnTo>
                  <a:pt x="740" y="952"/>
                </a:lnTo>
                <a:lnTo>
                  <a:pt x="718" y="936"/>
                </a:lnTo>
                <a:lnTo>
                  <a:pt x="718" y="934"/>
                </a:lnTo>
                <a:lnTo>
                  <a:pt x="718" y="928"/>
                </a:lnTo>
                <a:lnTo>
                  <a:pt x="717" y="907"/>
                </a:lnTo>
                <a:lnTo>
                  <a:pt x="717" y="891"/>
                </a:lnTo>
                <a:lnTo>
                  <a:pt x="718" y="889"/>
                </a:lnTo>
                <a:lnTo>
                  <a:pt x="727" y="881"/>
                </a:lnTo>
                <a:lnTo>
                  <a:pt x="753" y="855"/>
                </a:lnTo>
                <a:lnTo>
                  <a:pt x="775" y="833"/>
                </a:lnTo>
                <a:lnTo>
                  <a:pt x="776" y="831"/>
                </a:lnTo>
                <a:lnTo>
                  <a:pt x="775" y="831"/>
                </a:lnTo>
                <a:lnTo>
                  <a:pt x="769" y="830"/>
                </a:lnTo>
                <a:lnTo>
                  <a:pt x="749" y="823"/>
                </a:lnTo>
                <a:lnTo>
                  <a:pt x="733" y="818"/>
                </a:lnTo>
                <a:lnTo>
                  <a:pt x="733" y="817"/>
                </a:lnTo>
                <a:lnTo>
                  <a:pt x="733" y="813"/>
                </a:lnTo>
                <a:lnTo>
                  <a:pt x="731" y="798"/>
                </a:lnTo>
                <a:lnTo>
                  <a:pt x="731" y="788"/>
                </a:lnTo>
                <a:lnTo>
                  <a:pt x="733" y="786"/>
                </a:lnTo>
                <a:lnTo>
                  <a:pt x="737" y="786"/>
                </a:lnTo>
                <a:lnTo>
                  <a:pt x="750" y="786"/>
                </a:lnTo>
                <a:lnTo>
                  <a:pt x="760" y="786"/>
                </a:lnTo>
                <a:lnTo>
                  <a:pt x="762" y="786"/>
                </a:lnTo>
                <a:lnTo>
                  <a:pt x="770" y="792"/>
                </a:lnTo>
                <a:lnTo>
                  <a:pt x="797" y="807"/>
                </a:lnTo>
                <a:lnTo>
                  <a:pt x="818" y="817"/>
                </a:lnTo>
                <a:lnTo>
                  <a:pt x="820" y="817"/>
                </a:lnTo>
                <a:lnTo>
                  <a:pt x="828" y="815"/>
                </a:lnTo>
                <a:lnTo>
                  <a:pt x="856" y="808"/>
                </a:lnTo>
                <a:lnTo>
                  <a:pt x="878" y="804"/>
                </a:lnTo>
                <a:lnTo>
                  <a:pt x="879" y="802"/>
                </a:lnTo>
                <a:lnTo>
                  <a:pt x="885" y="813"/>
                </a:lnTo>
                <a:lnTo>
                  <a:pt x="907" y="840"/>
                </a:lnTo>
                <a:lnTo>
                  <a:pt x="923" y="862"/>
                </a:lnTo>
                <a:lnTo>
                  <a:pt x="924" y="862"/>
                </a:lnTo>
                <a:lnTo>
                  <a:pt x="930" y="862"/>
                </a:lnTo>
                <a:lnTo>
                  <a:pt x="950" y="862"/>
                </a:lnTo>
                <a:lnTo>
                  <a:pt x="965" y="862"/>
                </a:lnTo>
                <a:lnTo>
                  <a:pt x="966" y="862"/>
                </a:lnTo>
                <a:lnTo>
                  <a:pt x="960" y="856"/>
                </a:lnTo>
                <a:lnTo>
                  <a:pt x="947" y="834"/>
                </a:lnTo>
                <a:lnTo>
                  <a:pt x="937" y="818"/>
                </a:lnTo>
                <a:lnTo>
                  <a:pt x="937" y="817"/>
                </a:lnTo>
                <a:lnTo>
                  <a:pt x="937" y="811"/>
                </a:lnTo>
                <a:lnTo>
                  <a:pt x="936" y="791"/>
                </a:lnTo>
                <a:lnTo>
                  <a:pt x="936" y="775"/>
                </a:lnTo>
                <a:lnTo>
                  <a:pt x="937" y="773"/>
                </a:lnTo>
                <a:lnTo>
                  <a:pt x="936" y="772"/>
                </a:lnTo>
                <a:lnTo>
                  <a:pt x="927" y="760"/>
                </a:lnTo>
                <a:lnTo>
                  <a:pt x="901" y="720"/>
                </a:lnTo>
                <a:lnTo>
                  <a:pt x="879" y="689"/>
                </a:lnTo>
                <a:lnTo>
                  <a:pt x="879" y="686"/>
                </a:lnTo>
                <a:lnTo>
                  <a:pt x="879" y="685"/>
                </a:lnTo>
                <a:lnTo>
                  <a:pt x="881" y="676"/>
                </a:lnTo>
                <a:lnTo>
                  <a:pt x="886" y="642"/>
                </a:lnTo>
                <a:lnTo>
                  <a:pt x="891" y="615"/>
                </a:lnTo>
                <a:lnTo>
                  <a:pt x="892" y="613"/>
                </a:lnTo>
                <a:lnTo>
                  <a:pt x="888" y="610"/>
                </a:lnTo>
                <a:lnTo>
                  <a:pt x="875" y="597"/>
                </a:lnTo>
                <a:lnTo>
                  <a:pt x="866" y="586"/>
                </a:lnTo>
                <a:lnTo>
                  <a:pt x="866" y="585"/>
                </a:lnTo>
                <a:lnTo>
                  <a:pt x="866" y="584"/>
                </a:lnTo>
                <a:lnTo>
                  <a:pt x="868" y="568"/>
                </a:lnTo>
                <a:lnTo>
                  <a:pt x="873" y="513"/>
                </a:lnTo>
                <a:lnTo>
                  <a:pt x="878" y="471"/>
                </a:lnTo>
                <a:lnTo>
                  <a:pt x="879" y="468"/>
                </a:lnTo>
                <a:lnTo>
                  <a:pt x="876" y="469"/>
                </a:lnTo>
                <a:lnTo>
                  <a:pt x="857" y="471"/>
                </a:lnTo>
                <a:lnTo>
                  <a:pt x="797" y="478"/>
                </a:lnTo>
                <a:lnTo>
                  <a:pt x="749" y="484"/>
                </a:lnTo>
                <a:lnTo>
                  <a:pt x="747" y="484"/>
                </a:lnTo>
                <a:lnTo>
                  <a:pt x="743" y="482"/>
                </a:lnTo>
                <a:lnTo>
                  <a:pt x="713" y="471"/>
                </a:lnTo>
                <a:lnTo>
                  <a:pt x="611" y="429"/>
                </a:lnTo>
                <a:lnTo>
                  <a:pt x="533" y="398"/>
                </a:lnTo>
                <a:lnTo>
                  <a:pt x="530" y="395"/>
                </a:lnTo>
                <a:lnTo>
                  <a:pt x="529" y="394"/>
                </a:lnTo>
                <a:lnTo>
                  <a:pt x="520" y="382"/>
                </a:lnTo>
                <a:lnTo>
                  <a:pt x="492" y="340"/>
                </a:lnTo>
                <a:lnTo>
                  <a:pt x="471" y="310"/>
                </a:lnTo>
                <a:lnTo>
                  <a:pt x="471" y="307"/>
                </a:lnTo>
                <a:lnTo>
                  <a:pt x="463" y="310"/>
                </a:lnTo>
                <a:lnTo>
                  <a:pt x="443" y="315"/>
                </a:lnTo>
                <a:lnTo>
                  <a:pt x="427" y="320"/>
                </a:lnTo>
                <a:lnTo>
                  <a:pt x="427" y="320"/>
                </a:lnTo>
                <a:lnTo>
                  <a:pt x="433" y="305"/>
                </a:lnTo>
                <a:lnTo>
                  <a:pt x="453" y="258"/>
                </a:lnTo>
                <a:lnTo>
                  <a:pt x="469" y="223"/>
                </a:lnTo>
                <a:lnTo>
                  <a:pt x="471" y="220"/>
                </a:lnTo>
                <a:lnTo>
                  <a:pt x="465" y="210"/>
                </a:lnTo>
                <a:lnTo>
                  <a:pt x="452" y="175"/>
                </a:lnTo>
                <a:lnTo>
                  <a:pt x="442" y="149"/>
                </a:lnTo>
                <a:lnTo>
                  <a:pt x="442" y="146"/>
                </a:lnTo>
                <a:lnTo>
                  <a:pt x="449" y="143"/>
                </a:lnTo>
                <a:lnTo>
                  <a:pt x="469" y="133"/>
                </a:lnTo>
                <a:lnTo>
                  <a:pt x="486" y="124"/>
                </a:lnTo>
                <a:lnTo>
                  <a:pt x="488" y="123"/>
                </a:lnTo>
                <a:lnTo>
                  <a:pt x="488" y="121"/>
                </a:lnTo>
                <a:lnTo>
                  <a:pt x="494" y="107"/>
                </a:lnTo>
                <a:lnTo>
                  <a:pt x="514" y="56"/>
                </a:lnTo>
                <a:lnTo>
                  <a:pt x="529" y="18"/>
                </a:lnTo>
                <a:lnTo>
                  <a:pt x="530" y="16"/>
                </a:lnTo>
                <a:lnTo>
                  <a:pt x="529" y="16"/>
                </a:lnTo>
                <a:lnTo>
                  <a:pt x="523" y="14"/>
                </a:lnTo>
                <a:lnTo>
                  <a:pt x="501" y="7"/>
                </a:lnTo>
                <a:lnTo>
                  <a:pt x="485" y="1"/>
                </a:lnTo>
                <a:lnTo>
                  <a:pt x="485" y="0"/>
                </a:lnTo>
                <a:lnTo>
                  <a:pt x="484" y="1"/>
                </a:lnTo>
                <a:lnTo>
                  <a:pt x="479" y="5"/>
                </a:lnTo>
                <a:lnTo>
                  <a:pt x="466" y="20"/>
                </a:lnTo>
                <a:lnTo>
                  <a:pt x="456" y="31"/>
                </a:lnTo>
                <a:lnTo>
                  <a:pt x="456" y="31"/>
                </a:lnTo>
                <a:lnTo>
                  <a:pt x="450" y="34"/>
                </a:lnTo>
                <a:lnTo>
                  <a:pt x="418" y="50"/>
                </a:lnTo>
                <a:lnTo>
                  <a:pt x="310" y="104"/>
                </a:lnTo>
                <a:lnTo>
                  <a:pt x="227" y="145"/>
                </a:lnTo>
                <a:lnTo>
                  <a:pt x="223" y="146"/>
                </a:lnTo>
                <a:lnTo>
                  <a:pt x="221" y="155"/>
                </a:lnTo>
                <a:lnTo>
                  <a:pt x="220" y="176"/>
                </a:lnTo>
                <a:lnTo>
                  <a:pt x="220" y="194"/>
                </a:lnTo>
                <a:lnTo>
                  <a:pt x="220" y="194"/>
                </a:lnTo>
                <a:lnTo>
                  <a:pt x="218" y="197"/>
                </a:lnTo>
                <a:lnTo>
                  <a:pt x="213" y="214"/>
                </a:lnTo>
                <a:lnTo>
                  <a:pt x="194" y="273"/>
                </a:lnTo>
                <a:lnTo>
                  <a:pt x="179" y="318"/>
                </a:lnTo>
                <a:lnTo>
                  <a:pt x="179" y="320"/>
                </a:lnTo>
                <a:lnTo>
                  <a:pt x="178" y="321"/>
                </a:lnTo>
                <a:lnTo>
                  <a:pt x="169" y="326"/>
                </a:lnTo>
                <a:lnTo>
                  <a:pt x="143" y="340"/>
                </a:lnTo>
                <a:lnTo>
                  <a:pt x="121" y="352"/>
                </a:lnTo>
                <a:lnTo>
                  <a:pt x="121" y="352"/>
                </a:lnTo>
                <a:lnTo>
                  <a:pt x="118" y="363"/>
                </a:lnTo>
                <a:lnTo>
                  <a:pt x="111" y="398"/>
                </a:lnTo>
                <a:lnTo>
                  <a:pt x="107" y="424"/>
                </a:lnTo>
                <a:lnTo>
                  <a:pt x="107" y="424"/>
                </a:lnTo>
                <a:lnTo>
                  <a:pt x="107" y="429"/>
                </a:lnTo>
                <a:lnTo>
                  <a:pt x="113" y="450"/>
                </a:lnTo>
                <a:lnTo>
                  <a:pt x="133" y="526"/>
                </a:lnTo>
                <a:lnTo>
                  <a:pt x="147" y="582"/>
                </a:lnTo>
                <a:lnTo>
                  <a:pt x="149" y="585"/>
                </a:lnTo>
                <a:lnTo>
                  <a:pt x="147" y="586"/>
                </a:lnTo>
                <a:lnTo>
                  <a:pt x="145" y="589"/>
                </a:lnTo>
                <a:lnTo>
                  <a:pt x="132" y="602"/>
                </a:lnTo>
                <a:lnTo>
                  <a:pt x="121" y="613"/>
                </a:lnTo>
                <a:lnTo>
                  <a:pt x="121" y="613"/>
                </a:lnTo>
                <a:lnTo>
                  <a:pt x="121" y="615"/>
                </a:lnTo>
                <a:lnTo>
                  <a:pt x="124" y="624"/>
                </a:lnTo>
                <a:lnTo>
                  <a:pt x="137" y="659"/>
                </a:lnTo>
                <a:lnTo>
                  <a:pt x="147" y="685"/>
                </a:lnTo>
                <a:lnTo>
                  <a:pt x="149" y="686"/>
                </a:lnTo>
                <a:lnTo>
                  <a:pt x="147" y="686"/>
                </a:lnTo>
                <a:lnTo>
                  <a:pt x="149" y="686"/>
                </a:lnTo>
                <a:lnTo>
                  <a:pt x="147" y="686"/>
                </a:lnTo>
                <a:lnTo>
                  <a:pt x="149" y="686"/>
                </a:lnTo>
                <a:lnTo>
                  <a:pt x="145" y="691"/>
                </a:lnTo>
                <a:lnTo>
                  <a:pt x="124" y="713"/>
                </a:lnTo>
                <a:lnTo>
                  <a:pt x="55" y="786"/>
                </a:lnTo>
                <a:lnTo>
                  <a:pt x="3" y="843"/>
                </a:lnTo>
                <a:lnTo>
                  <a:pt x="0" y="846"/>
                </a:lnTo>
                <a:lnTo>
                  <a:pt x="0" y="846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102440" y="3914640"/>
            <a:ext cx="130320" cy="149400"/>
          </a:xfrm>
          <a:custGeom>
            <a:avLst/>
            <a:gdLst/>
            <a:ahLst/>
            <a:rect l="l" t="t" r="r" b="b"/>
            <a:pathLst>
              <a:path w="378" h="454">
                <a:moveTo>
                  <a:pt x="42" y="60"/>
                </a:moveTo>
                <a:lnTo>
                  <a:pt x="41" y="64"/>
                </a:lnTo>
                <a:lnTo>
                  <a:pt x="35" y="87"/>
                </a:lnTo>
                <a:lnTo>
                  <a:pt x="15" y="170"/>
                </a:lnTo>
                <a:lnTo>
                  <a:pt x="0" y="232"/>
                </a:lnTo>
                <a:lnTo>
                  <a:pt x="0" y="235"/>
                </a:lnTo>
                <a:lnTo>
                  <a:pt x="0" y="238"/>
                </a:lnTo>
                <a:lnTo>
                  <a:pt x="2" y="247"/>
                </a:lnTo>
                <a:lnTo>
                  <a:pt x="6" y="281"/>
                </a:lnTo>
                <a:lnTo>
                  <a:pt x="10" y="308"/>
                </a:lnTo>
                <a:lnTo>
                  <a:pt x="12" y="309"/>
                </a:lnTo>
                <a:lnTo>
                  <a:pt x="16" y="309"/>
                </a:lnTo>
                <a:lnTo>
                  <a:pt x="30" y="309"/>
                </a:lnTo>
                <a:lnTo>
                  <a:pt x="41" y="309"/>
                </a:lnTo>
                <a:lnTo>
                  <a:pt x="42" y="309"/>
                </a:lnTo>
                <a:lnTo>
                  <a:pt x="46" y="300"/>
                </a:lnTo>
                <a:lnTo>
                  <a:pt x="59" y="271"/>
                </a:lnTo>
                <a:lnTo>
                  <a:pt x="70" y="248"/>
                </a:lnTo>
                <a:lnTo>
                  <a:pt x="71" y="247"/>
                </a:lnTo>
                <a:lnTo>
                  <a:pt x="72" y="251"/>
                </a:lnTo>
                <a:lnTo>
                  <a:pt x="80" y="260"/>
                </a:lnTo>
                <a:lnTo>
                  <a:pt x="86" y="267"/>
                </a:lnTo>
                <a:lnTo>
                  <a:pt x="87" y="267"/>
                </a:lnTo>
                <a:lnTo>
                  <a:pt x="86" y="270"/>
                </a:lnTo>
                <a:lnTo>
                  <a:pt x="84" y="286"/>
                </a:lnTo>
                <a:lnTo>
                  <a:pt x="77" y="339"/>
                </a:lnTo>
                <a:lnTo>
                  <a:pt x="71" y="380"/>
                </a:lnTo>
                <a:lnTo>
                  <a:pt x="71" y="381"/>
                </a:lnTo>
                <a:lnTo>
                  <a:pt x="72" y="383"/>
                </a:lnTo>
                <a:lnTo>
                  <a:pt x="81" y="393"/>
                </a:lnTo>
                <a:lnTo>
                  <a:pt x="116" y="428"/>
                </a:lnTo>
                <a:lnTo>
                  <a:pt x="142" y="454"/>
                </a:lnTo>
                <a:lnTo>
                  <a:pt x="145" y="454"/>
                </a:lnTo>
                <a:lnTo>
                  <a:pt x="146" y="452"/>
                </a:lnTo>
                <a:lnTo>
                  <a:pt x="162" y="437"/>
                </a:lnTo>
                <a:lnTo>
                  <a:pt x="216" y="383"/>
                </a:lnTo>
                <a:lnTo>
                  <a:pt x="256" y="341"/>
                </a:lnTo>
                <a:lnTo>
                  <a:pt x="259" y="338"/>
                </a:lnTo>
                <a:lnTo>
                  <a:pt x="259" y="329"/>
                </a:lnTo>
                <a:lnTo>
                  <a:pt x="258" y="302"/>
                </a:lnTo>
                <a:lnTo>
                  <a:pt x="258" y="280"/>
                </a:lnTo>
                <a:lnTo>
                  <a:pt x="259" y="279"/>
                </a:lnTo>
                <a:lnTo>
                  <a:pt x="272" y="273"/>
                </a:lnTo>
                <a:lnTo>
                  <a:pt x="314" y="253"/>
                </a:lnTo>
                <a:lnTo>
                  <a:pt x="345" y="237"/>
                </a:lnTo>
                <a:lnTo>
                  <a:pt x="348" y="235"/>
                </a:lnTo>
                <a:lnTo>
                  <a:pt x="348" y="232"/>
                </a:lnTo>
                <a:lnTo>
                  <a:pt x="352" y="210"/>
                </a:lnTo>
                <a:lnTo>
                  <a:pt x="367" y="135"/>
                </a:lnTo>
                <a:lnTo>
                  <a:pt x="377" y="79"/>
                </a:lnTo>
                <a:lnTo>
                  <a:pt x="378" y="74"/>
                </a:lnTo>
                <a:lnTo>
                  <a:pt x="374" y="76"/>
                </a:lnTo>
                <a:lnTo>
                  <a:pt x="352" y="77"/>
                </a:lnTo>
                <a:lnTo>
                  <a:pt x="277" y="84"/>
                </a:lnTo>
                <a:lnTo>
                  <a:pt x="220" y="90"/>
                </a:lnTo>
                <a:lnTo>
                  <a:pt x="217" y="90"/>
                </a:lnTo>
                <a:lnTo>
                  <a:pt x="217" y="84"/>
                </a:lnTo>
                <a:lnTo>
                  <a:pt x="216" y="63"/>
                </a:lnTo>
                <a:lnTo>
                  <a:pt x="216" y="47"/>
                </a:lnTo>
                <a:lnTo>
                  <a:pt x="217" y="45"/>
                </a:lnTo>
                <a:lnTo>
                  <a:pt x="214" y="45"/>
                </a:lnTo>
                <a:lnTo>
                  <a:pt x="199" y="40"/>
                </a:lnTo>
                <a:lnTo>
                  <a:pt x="142" y="18"/>
                </a:lnTo>
                <a:lnTo>
                  <a:pt x="99" y="2"/>
                </a:lnTo>
                <a:lnTo>
                  <a:pt x="97" y="0"/>
                </a:lnTo>
                <a:lnTo>
                  <a:pt x="96" y="0"/>
                </a:lnTo>
                <a:lnTo>
                  <a:pt x="97" y="0"/>
                </a:lnTo>
                <a:lnTo>
                  <a:pt x="96" y="0"/>
                </a:lnTo>
                <a:lnTo>
                  <a:pt x="97" y="0"/>
                </a:lnTo>
                <a:lnTo>
                  <a:pt x="96" y="2"/>
                </a:lnTo>
                <a:lnTo>
                  <a:pt x="88" y="11"/>
                </a:lnTo>
                <a:lnTo>
                  <a:pt x="62" y="38"/>
                </a:lnTo>
                <a:lnTo>
                  <a:pt x="42" y="60"/>
                </a:lnTo>
                <a:lnTo>
                  <a:pt x="42" y="60"/>
                </a:lnTo>
                <a:lnTo>
                  <a:pt x="42" y="6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283520" y="3654360"/>
            <a:ext cx="377640" cy="266760"/>
          </a:xfrm>
          <a:custGeom>
            <a:avLst/>
            <a:gdLst/>
            <a:ahLst/>
            <a:rect l="l" t="t" r="r" b="b"/>
            <a:pathLst>
              <a:path w="1089" h="817">
                <a:moveTo>
                  <a:pt x="85" y="160"/>
                </a:moveTo>
                <a:lnTo>
                  <a:pt x="94" y="168"/>
                </a:lnTo>
                <a:lnTo>
                  <a:pt x="120" y="188"/>
                </a:lnTo>
                <a:lnTo>
                  <a:pt x="142" y="204"/>
                </a:lnTo>
                <a:lnTo>
                  <a:pt x="143" y="204"/>
                </a:lnTo>
                <a:lnTo>
                  <a:pt x="143" y="198"/>
                </a:lnTo>
                <a:lnTo>
                  <a:pt x="142" y="178"/>
                </a:lnTo>
                <a:lnTo>
                  <a:pt x="142" y="162"/>
                </a:lnTo>
                <a:lnTo>
                  <a:pt x="143" y="160"/>
                </a:lnTo>
                <a:lnTo>
                  <a:pt x="137" y="152"/>
                </a:lnTo>
                <a:lnTo>
                  <a:pt x="124" y="124"/>
                </a:lnTo>
                <a:lnTo>
                  <a:pt x="114" y="102"/>
                </a:lnTo>
                <a:lnTo>
                  <a:pt x="114" y="101"/>
                </a:lnTo>
                <a:lnTo>
                  <a:pt x="120" y="98"/>
                </a:lnTo>
                <a:lnTo>
                  <a:pt x="140" y="85"/>
                </a:lnTo>
                <a:lnTo>
                  <a:pt x="156" y="75"/>
                </a:lnTo>
                <a:lnTo>
                  <a:pt x="157" y="73"/>
                </a:lnTo>
                <a:lnTo>
                  <a:pt x="157" y="72"/>
                </a:lnTo>
                <a:lnTo>
                  <a:pt x="159" y="63"/>
                </a:lnTo>
                <a:lnTo>
                  <a:pt x="166" y="29"/>
                </a:lnTo>
                <a:lnTo>
                  <a:pt x="170" y="2"/>
                </a:lnTo>
                <a:lnTo>
                  <a:pt x="172" y="0"/>
                </a:lnTo>
                <a:lnTo>
                  <a:pt x="194" y="4"/>
                </a:lnTo>
                <a:lnTo>
                  <a:pt x="263" y="17"/>
                </a:lnTo>
                <a:lnTo>
                  <a:pt x="315" y="27"/>
                </a:lnTo>
                <a:lnTo>
                  <a:pt x="318" y="27"/>
                </a:lnTo>
                <a:lnTo>
                  <a:pt x="326" y="37"/>
                </a:lnTo>
                <a:lnTo>
                  <a:pt x="346" y="65"/>
                </a:lnTo>
                <a:lnTo>
                  <a:pt x="363" y="86"/>
                </a:lnTo>
                <a:lnTo>
                  <a:pt x="365" y="86"/>
                </a:lnTo>
                <a:lnTo>
                  <a:pt x="372" y="86"/>
                </a:lnTo>
                <a:lnTo>
                  <a:pt x="433" y="82"/>
                </a:lnTo>
                <a:lnTo>
                  <a:pt x="636" y="68"/>
                </a:lnTo>
                <a:lnTo>
                  <a:pt x="792" y="56"/>
                </a:lnTo>
                <a:lnTo>
                  <a:pt x="801" y="55"/>
                </a:lnTo>
                <a:lnTo>
                  <a:pt x="801" y="56"/>
                </a:lnTo>
                <a:lnTo>
                  <a:pt x="801" y="60"/>
                </a:lnTo>
                <a:lnTo>
                  <a:pt x="802" y="76"/>
                </a:lnTo>
                <a:lnTo>
                  <a:pt x="802" y="89"/>
                </a:lnTo>
                <a:lnTo>
                  <a:pt x="804" y="89"/>
                </a:lnTo>
                <a:lnTo>
                  <a:pt x="822" y="98"/>
                </a:lnTo>
                <a:lnTo>
                  <a:pt x="882" y="123"/>
                </a:lnTo>
                <a:lnTo>
                  <a:pt x="927" y="142"/>
                </a:lnTo>
                <a:lnTo>
                  <a:pt x="930" y="142"/>
                </a:lnTo>
                <a:lnTo>
                  <a:pt x="930" y="152"/>
                </a:lnTo>
                <a:lnTo>
                  <a:pt x="928" y="181"/>
                </a:lnTo>
                <a:lnTo>
                  <a:pt x="928" y="202"/>
                </a:lnTo>
                <a:lnTo>
                  <a:pt x="930" y="202"/>
                </a:lnTo>
                <a:lnTo>
                  <a:pt x="933" y="204"/>
                </a:lnTo>
                <a:lnTo>
                  <a:pt x="954" y="213"/>
                </a:lnTo>
                <a:lnTo>
                  <a:pt x="1028" y="242"/>
                </a:lnTo>
                <a:lnTo>
                  <a:pt x="1085" y="263"/>
                </a:lnTo>
                <a:lnTo>
                  <a:pt x="1089" y="263"/>
                </a:lnTo>
                <a:lnTo>
                  <a:pt x="1086" y="265"/>
                </a:lnTo>
                <a:lnTo>
                  <a:pt x="1070" y="270"/>
                </a:lnTo>
                <a:lnTo>
                  <a:pt x="1017" y="291"/>
                </a:lnTo>
                <a:lnTo>
                  <a:pt x="975" y="307"/>
                </a:lnTo>
                <a:lnTo>
                  <a:pt x="973" y="307"/>
                </a:lnTo>
                <a:lnTo>
                  <a:pt x="979" y="314"/>
                </a:lnTo>
                <a:lnTo>
                  <a:pt x="1001" y="334"/>
                </a:lnTo>
                <a:lnTo>
                  <a:pt x="1017" y="350"/>
                </a:lnTo>
                <a:lnTo>
                  <a:pt x="1018" y="350"/>
                </a:lnTo>
                <a:lnTo>
                  <a:pt x="1017" y="352"/>
                </a:lnTo>
                <a:lnTo>
                  <a:pt x="1012" y="357"/>
                </a:lnTo>
                <a:lnTo>
                  <a:pt x="999" y="379"/>
                </a:lnTo>
                <a:lnTo>
                  <a:pt x="989" y="395"/>
                </a:lnTo>
                <a:lnTo>
                  <a:pt x="989" y="395"/>
                </a:lnTo>
                <a:lnTo>
                  <a:pt x="988" y="395"/>
                </a:lnTo>
                <a:lnTo>
                  <a:pt x="983" y="395"/>
                </a:lnTo>
                <a:lnTo>
                  <a:pt x="969" y="395"/>
                </a:lnTo>
                <a:lnTo>
                  <a:pt x="959" y="395"/>
                </a:lnTo>
                <a:lnTo>
                  <a:pt x="959" y="395"/>
                </a:lnTo>
                <a:lnTo>
                  <a:pt x="959" y="398"/>
                </a:lnTo>
                <a:lnTo>
                  <a:pt x="963" y="411"/>
                </a:lnTo>
                <a:lnTo>
                  <a:pt x="977" y="459"/>
                </a:lnTo>
                <a:lnTo>
                  <a:pt x="988" y="495"/>
                </a:lnTo>
                <a:lnTo>
                  <a:pt x="989" y="497"/>
                </a:lnTo>
                <a:lnTo>
                  <a:pt x="988" y="499"/>
                </a:lnTo>
                <a:lnTo>
                  <a:pt x="983" y="511"/>
                </a:lnTo>
                <a:lnTo>
                  <a:pt x="969" y="550"/>
                </a:lnTo>
                <a:lnTo>
                  <a:pt x="959" y="581"/>
                </a:lnTo>
                <a:lnTo>
                  <a:pt x="959" y="582"/>
                </a:lnTo>
                <a:lnTo>
                  <a:pt x="956" y="582"/>
                </a:lnTo>
                <a:lnTo>
                  <a:pt x="943" y="582"/>
                </a:lnTo>
                <a:lnTo>
                  <a:pt x="895" y="582"/>
                </a:lnTo>
                <a:lnTo>
                  <a:pt x="859" y="582"/>
                </a:lnTo>
                <a:lnTo>
                  <a:pt x="857" y="582"/>
                </a:lnTo>
                <a:lnTo>
                  <a:pt x="856" y="583"/>
                </a:lnTo>
                <a:lnTo>
                  <a:pt x="851" y="588"/>
                </a:lnTo>
                <a:lnTo>
                  <a:pt x="838" y="601"/>
                </a:lnTo>
                <a:lnTo>
                  <a:pt x="828" y="611"/>
                </a:lnTo>
                <a:lnTo>
                  <a:pt x="828" y="611"/>
                </a:lnTo>
                <a:lnTo>
                  <a:pt x="825" y="611"/>
                </a:lnTo>
                <a:lnTo>
                  <a:pt x="805" y="602"/>
                </a:lnTo>
                <a:lnTo>
                  <a:pt x="737" y="576"/>
                </a:lnTo>
                <a:lnTo>
                  <a:pt x="685" y="556"/>
                </a:lnTo>
                <a:lnTo>
                  <a:pt x="683" y="554"/>
                </a:lnTo>
                <a:lnTo>
                  <a:pt x="682" y="556"/>
                </a:lnTo>
                <a:lnTo>
                  <a:pt x="678" y="559"/>
                </a:lnTo>
                <a:lnTo>
                  <a:pt x="665" y="572"/>
                </a:lnTo>
                <a:lnTo>
                  <a:pt x="654" y="582"/>
                </a:lnTo>
                <a:lnTo>
                  <a:pt x="654" y="582"/>
                </a:lnTo>
                <a:lnTo>
                  <a:pt x="656" y="585"/>
                </a:lnTo>
                <a:lnTo>
                  <a:pt x="672" y="601"/>
                </a:lnTo>
                <a:lnTo>
                  <a:pt x="725" y="654"/>
                </a:lnTo>
                <a:lnTo>
                  <a:pt x="766" y="696"/>
                </a:lnTo>
                <a:lnTo>
                  <a:pt x="769" y="698"/>
                </a:lnTo>
                <a:lnTo>
                  <a:pt x="766" y="701"/>
                </a:lnTo>
                <a:lnTo>
                  <a:pt x="750" y="717"/>
                </a:lnTo>
                <a:lnTo>
                  <a:pt x="696" y="773"/>
                </a:lnTo>
                <a:lnTo>
                  <a:pt x="656" y="815"/>
                </a:lnTo>
                <a:lnTo>
                  <a:pt x="654" y="817"/>
                </a:lnTo>
                <a:lnTo>
                  <a:pt x="652" y="817"/>
                </a:lnTo>
                <a:lnTo>
                  <a:pt x="636" y="817"/>
                </a:lnTo>
                <a:lnTo>
                  <a:pt x="579" y="817"/>
                </a:lnTo>
                <a:lnTo>
                  <a:pt x="536" y="817"/>
                </a:lnTo>
                <a:lnTo>
                  <a:pt x="534" y="815"/>
                </a:lnTo>
                <a:lnTo>
                  <a:pt x="530" y="810"/>
                </a:lnTo>
                <a:lnTo>
                  <a:pt x="518" y="789"/>
                </a:lnTo>
                <a:lnTo>
                  <a:pt x="510" y="775"/>
                </a:lnTo>
                <a:lnTo>
                  <a:pt x="510" y="773"/>
                </a:lnTo>
                <a:lnTo>
                  <a:pt x="510" y="768"/>
                </a:lnTo>
                <a:lnTo>
                  <a:pt x="508" y="747"/>
                </a:lnTo>
                <a:lnTo>
                  <a:pt x="508" y="733"/>
                </a:lnTo>
                <a:lnTo>
                  <a:pt x="510" y="731"/>
                </a:lnTo>
                <a:lnTo>
                  <a:pt x="508" y="730"/>
                </a:lnTo>
                <a:lnTo>
                  <a:pt x="499" y="718"/>
                </a:lnTo>
                <a:lnTo>
                  <a:pt x="472" y="676"/>
                </a:lnTo>
                <a:lnTo>
                  <a:pt x="450" y="644"/>
                </a:lnTo>
                <a:lnTo>
                  <a:pt x="450" y="641"/>
                </a:lnTo>
                <a:lnTo>
                  <a:pt x="450" y="640"/>
                </a:lnTo>
                <a:lnTo>
                  <a:pt x="452" y="631"/>
                </a:lnTo>
                <a:lnTo>
                  <a:pt x="456" y="597"/>
                </a:lnTo>
                <a:lnTo>
                  <a:pt x="460" y="570"/>
                </a:lnTo>
                <a:lnTo>
                  <a:pt x="462" y="568"/>
                </a:lnTo>
                <a:lnTo>
                  <a:pt x="457" y="565"/>
                </a:lnTo>
                <a:lnTo>
                  <a:pt x="446" y="552"/>
                </a:lnTo>
                <a:lnTo>
                  <a:pt x="437" y="541"/>
                </a:lnTo>
                <a:lnTo>
                  <a:pt x="437" y="540"/>
                </a:lnTo>
                <a:lnTo>
                  <a:pt x="437" y="539"/>
                </a:lnTo>
                <a:lnTo>
                  <a:pt x="439" y="523"/>
                </a:lnTo>
                <a:lnTo>
                  <a:pt x="444" y="468"/>
                </a:lnTo>
                <a:lnTo>
                  <a:pt x="449" y="426"/>
                </a:lnTo>
                <a:lnTo>
                  <a:pt x="450" y="423"/>
                </a:lnTo>
                <a:lnTo>
                  <a:pt x="447" y="424"/>
                </a:lnTo>
                <a:lnTo>
                  <a:pt x="427" y="426"/>
                </a:lnTo>
                <a:lnTo>
                  <a:pt x="357" y="433"/>
                </a:lnTo>
                <a:lnTo>
                  <a:pt x="305" y="439"/>
                </a:lnTo>
                <a:lnTo>
                  <a:pt x="304" y="439"/>
                </a:lnTo>
                <a:lnTo>
                  <a:pt x="299" y="437"/>
                </a:lnTo>
                <a:lnTo>
                  <a:pt x="269" y="426"/>
                </a:lnTo>
                <a:lnTo>
                  <a:pt x="166" y="384"/>
                </a:lnTo>
                <a:lnTo>
                  <a:pt x="88" y="353"/>
                </a:lnTo>
                <a:lnTo>
                  <a:pt x="85" y="350"/>
                </a:lnTo>
                <a:lnTo>
                  <a:pt x="84" y="349"/>
                </a:lnTo>
                <a:lnTo>
                  <a:pt x="78" y="337"/>
                </a:lnTo>
                <a:lnTo>
                  <a:pt x="57" y="295"/>
                </a:lnTo>
                <a:lnTo>
                  <a:pt x="42" y="265"/>
                </a:lnTo>
                <a:lnTo>
                  <a:pt x="42" y="262"/>
                </a:lnTo>
                <a:lnTo>
                  <a:pt x="34" y="265"/>
                </a:lnTo>
                <a:lnTo>
                  <a:pt x="14" y="273"/>
                </a:lnTo>
                <a:lnTo>
                  <a:pt x="0" y="279"/>
                </a:lnTo>
                <a:lnTo>
                  <a:pt x="0" y="279"/>
                </a:lnTo>
                <a:lnTo>
                  <a:pt x="0" y="278"/>
                </a:lnTo>
                <a:lnTo>
                  <a:pt x="5" y="263"/>
                </a:lnTo>
                <a:lnTo>
                  <a:pt x="26" y="215"/>
                </a:lnTo>
                <a:lnTo>
                  <a:pt x="40" y="178"/>
                </a:lnTo>
                <a:lnTo>
                  <a:pt x="42" y="175"/>
                </a:lnTo>
                <a:lnTo>
                  <a:pt x="36" y="165"/>
                </a:lnTo>
                <a:lnTo>
                  <a:pt x="23" y="130"/>
                </a:lnTo>
                <a:lnTo>
                  <a:pt x="13" y="104"/>
                </a:lnTo>
                <a:lnTo>
                  <a:pt x="13" y="101"/>
                </a:lnTo>
                <a:lnTo>
                  <a:pt x="18" y="98"/>
                </a:lnTo>
                <a:lnTo>
                  <a:pt x="39" y="88"/>
                </a:lnTo>
                <a:lnTo>
                  <a:pt x="55" y="79"/>
                </a:lnTo>
                <a:lnTo>
                  <a:pt x="56" y="78"/>
                </a:lnTo>
                <a:lnTo>
                  <a:pt x="55" y="78"/>
                </a:lnTo>
                <a:lnTo>
                  <a:pt x="56" y="78"/>
                </a:lnTo>
                <a:lnTo>
                  <a:pt x="55" y="78"/>
                </a:lnTo>
                <a:lnTo>
                  <a:pt x="56" y="78"/>
                </a:lnTo>
                <a:lnTo>
                  <a:pt x="56" y="81"/>
                </a:lnTo>
                <a:lnTo>
                  <a:pt x="60" y="91"/>
                </a:lnTo>
                <a:lnTo>
                  <a:pt x="73" y="130"/>
                </a:lnTo>
                <a:lnTo>
                  <a:pt x="84" y="159"/>
                </a:lnTo>
                <a:lnTo>
                  <a:pt x="85" y="160"/>
                </a:lnTo>
                <a:lnTo>
                  <a:pt x="85" y="16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099200" y="3940200"/>
            <a:ext cx="351000" cy="444600"/>
          </a:xfrm>
          <a:custGeom>
            <a:avLst/>
            <a:gdLst/>
            <a:ahLst/>
            <a:rect l="l" t="t" r="r" b="b"/>
            <a:pathLst>
              <a:path w="1020" h="1356">
                <a:moveTo>
                  <a:pt x="0" y="384"/>
                </a:moveTo>
                <a:lnTo>
                  <a:pt x="0" y="387"/>
                </a:lnTo>
                <a:lnTo>
                  <a:pt x="3" y="404"/>
                </a:lnTo>
                <a:lnTo>
                  <a:pt x="16" y="462"/>
                </a:lnTo>
                <a:lnTo>
                  <a:pt x="26" y="507"/>
                </a:lnTo>
                <a:lnTo>
                  <a:pt x="28" y="508"/>
                </a:lnTo>
                <a:lnTo>
                  <a:pt x="29" y="510"/>
                </a:lnTo>
                <a:lnTo>
                  <a:pt x="44" y="518"/>
                </a:lnTo>
                <a:lnTo>
                  <a:pt x="91" y="546"/>
                </a:lnTo>
                <a:lnTo>
                  <a:pt x="128" y="568"/>
                </a:lnTo>
                <a:lnTo>
                  <a:pt x="131" y="568"/>
                </a:lnTo>
                <a:lnTo>
                  <a:pt x="131" y="571"/>
                </a:lnTo>
                <a:lnTo>
                  <a:pt x="135" y="582"/>
                </a:lnTo>
                <a:lnTo>
                  <a:pt x="149" y="623"/>
                </a:lnTo>
                <a:lnTo>
                  <a:pt x="159" y="653"/>
                </a:lnTo>
                <a:lnTo>
                  <a:pt x="161" y="655"/>
                </a:lnTo>
                <a:lnTo>
                  <a:pt x="170" y="658"/>
                </a:lnTo>
                <a:lnTo>
                  <a:pt x="196" y="665"/>
                </a:lnTo>
                <a:lnTo>
                  <a:pt x="217" y="669"/>
                </a:lnTo>
                <a:lnTo>
                  <a:pt x="219" y="669"/>
                </a:lnTo>
                <a:lnTo>
                  <a:pt x="219" y="674"/>
                </a:lnTo>
                <a:lnTo>
                  <a:pt x="225" y="695"/>
                </a:lnTo>
                <a:lnTo>
                  <a:pt x="245" y="771"/>
                </a:lnTo>
                <a:lnTo>
                  <a:pt x="259" y="827"/>
                </a:lnTo>
                <a:lnTo>
                  <a:pt x="261" y="830"/>
                </a:lnTo>
                <a:lnTo>
                  <a:pt x="264" y="833"/>
                </a:lnTo>
                <a:lnTo>
                  <a:pt x="284" y="850"/>
                </a:lnTo>
                <a:lnTo>
                  <a:pt x="354" y="908"/>
                </a:lnTo>
                <a:lnTo>
                  <a:pt x="406" y="952"/>
                </a:lnTo>
                <a:lnTo>
                  <a:pt x="410" y="953"/>
                </a:lnTo>
                <a:lnTo>
                  <a:pt x="410" y="956"/>
                </a:lnTo>
                <a:lnTo>
                  <a:pt x="412" y="971"/>
                </a:lnTo>
                <a:lnTo>
                  <a:pt x="419" y="1020"/>
                </a:lnTo>
                <a:lnTo>
                  <a:pt x="425" y="1057"/>
                </a:lnTo>
                <a:lnTo>
                  <a:pt x="426" y="1059"/>
                </a:lnTo>
                <a:lnTo>
                  <a:pt x="429" y="1063"/>
                </a:lnTo>
                <a:lnTo>
                  <a:pt x="452" y="1084"/>
                </a:lnTo>
                <a:lnTo>
                  <a:pt x="535" y="1156"/>
                </a:lnTo>
                <a:lnTo>
                  <a:pt x="597" y="1210"/>
                </a:lnTo>
                <a:lnTo>
                  <a:pt x="601" y="1213"/>
                </a:lnTo>
                <a:lnTo>
                  <a:pt x="604" y="1214"/>
                </a:lnTo>
                <a:lnTo>
                  <a:pt x="635" y="1220"/>
                </a:lnTo>
                <a:lnTo>
                  <a:pt x="735" y="1239"/>
                </a:lnTo>
                <a:lnTo>
                  <a:pt x="811" y="1253"/>
                </a:lnTo>
                <a:lnTo>
                  <a:pt x="816" y="1253"/>
                </a:lnTo>
                <a:lnTo>
                  <a:pt x="826" y="1271"/>
                </a:lnTo>
                <a:lnTo>
                  <a:pt x="858" y="1318"/>
                </a:lnTo>
                <a:lnTo>
                  <a:pt x="882" y="1355"/>
                </a:lnTo>
                <a:lnTo>
                  <a:pt x="884" y="1356"/>
                </a:lnTo>
                <a:lnTo>
                  <a:pt x="885" y="1355"/>
                </a:lnTo>
                <a:lnTo>
                  <a:pt x="900" y="1334"/>
                </a:lnTo>
                <a:lnTo>
                  <a:pt x="951" y="1265"/>
                </a:lnTo>
                <a:lnTo>
                  <a:pt x="988" y="1213"/>
                </a:lnTo>
                <a:lnTo>
                  <a:pt x="991" y="1210"/>
                </a:lnTo>
                <a:lnTo>
                  <a:pt x="988" y="1197"/>
                </a:lnTo>
                <a:lnTo>
                  <a:pt x="982" y="1155"/>
                </a:lnTo>
                <a:lnTo>
                  <a:pt x="978" y="1124"/>
                </a:lnTo>
                <a:lnTo>
                  <a:pt x="978" y="1121"/>
                </a:lnTo>
                <a:lnTo>
                  <a:pt x="978" y="1120"/>
                </a:lnTo>
                <a:lnTo>
                  <a:pt x="984" y="1101"/>
                </a:lnTo>
                <a:lnTo>
                  <a:pt x="1004" y="1040"/>
                </a:lnTo>
                <a:lnTo>
                  <a:pt x="1019" y="992"/>
                </a:lnTo>
                <a:lnTo>
                  <a:pt x="1020" y="989"/>
                </a:lnTo>
                <a:lnTo>
                  <a:pt x="1017" y="986"/>
                </a:lnTo>
                <a:lnTo>
                  <a:pt x="1004" y="965"/>
                </a:lnTo>
                <a:lnTo>
                  <a:pt x="956" y="891"/>
                </a:lnTo>
                <a:lnTo>
                  <a:pt x="920" y="834"/>
                </a:lnTo>
                <a:lnTo>
                  <a:pt x="919" y="830"/>
                </a:lnTo>
                <a:lnTo>
                  <a:pt x="916" y="830"/>
                </a:lnTo>
                <a:lnTo>
                  <a:pt x="907" y="827"/>
                </a:lnTo>
                <a:lnTo>
                  <a:pt x="872" y="814"/>
                </a:lnTo>
                <a:lnTo>
                  <a:pt x="846" y="804"/>
                </a:lnTo>
                <a:lnTo>
                  <a:pt x="845" y="802"/>
                </a:lnTo>
                <a:lnTo>
                  <a:pt x="845" y="792"/>
                </a:lnTo>
                <a:lnTo>
                  <a:pt x="843" y="758"/>
                </a:lnTo>
                <a:lnTo>
                  <a:pt x="843" y="731"/>
                </a:lnTo>
                <a:lnTo>
                  <a:pt x="845" y="729"/>
                </a:lnTo>
                <a:lnTo>
                  <a:pt x="838" y="724"/>
                </a:lnTo>
                <a:lnTo>
                  <a:pt x="817" y="710"/>
                </a:lnTo>
                <a:lnTo>
                  <a:pt x="803" y="700"/>
                </a:lnTo>
                <a:lnTo>
                  <a:pt x="803" y="698"/>
                </a:lnTo>
                <a:lnTo>
                  <a:pt x="800" y="700"/>
                </a:lnTo>
                <a:lnTo>
                  <a:pt x="791" y="705"/>
                </a:lnTo>
                <a:lnTo>
                  <a:pt x="756" y="727"/>
                </a:lnTo>
                <a:lnTo>
                  <a:pt x="730" y="743"/>
                </a:lnTo>
                <a:lnTo>
                  <a:pt x="729" y="743"/>
                </a:lnTo>
                <a:lnTo>
                  <a:pt x="719" y="734"/>
                </a:lnTo>
                <a:lnTo>
                  <a:pt x="691" y="708"/>
                </a:lnTo>
                <a:lnTo>
                  <a:pt x="669" y="687"/>
                </a:lnTo>
                <a:lnTo>
                  <a:pt x="669" y="685"/>
                </a:lnTo>
                <a:lnTo>
                  <a:pt x="668" y="687"/>
                </a:lnTo>
                <a:lnTo>
                  <a:pt x="659" y="695"/>
                </a:lnTo>
                <a:lnTo>
                  <a:pt x="633" y="721"/>
                </a:lnTo>
                <a:lnTo>
                  <a:pt x="612" y="743"/>
                </a:lnTo>
                <a:lnTo>
                  <a:pt x="612" y="743"/>
                </a:lnTo>
                <a:lnTo>
                  <a:pt x="604" y="726"/>
                </a:lnTo>
                <a:lnTo>
                  <a:pt x="584" y="671"/>
                </a:lnTo>
                <a:lnTo>
                  <a:pt x="568" y="629"/>
                </a:lnTo>
                <a:lnTo>
                  <a:pt x="568" y="626"/>
                </a:lnTo>
                <a:lnTo>
                  <a:pt x="568" y="624"/>
                </a:lnTo>
                <a:lnTo>
                  <a:pt x="574" y="608"/>
                </a:lnTo>
                <a:lnTo>
                  <a:pt x="594" y="553"/>
                </a:lnTo>
                <a:lnTo>
                  <a:pt x="610" y="511"/>
                </a:lnTo>
                <a:lnTo>
                  <a:pt x="612" y="508"/>
                </a:lnTo>
                <a:lnTo>
                  <a:pt x="612" y="500"/>
                </a:lnTo>
                <a:lnTo>
                  <a:pt x="610" y="474"/>
                </a:lnTo>
                <a:lnTo>
                  <a:pt x="610" y="452"/>
                </a:lnTo>
                <a:lnTo>
                  <a:pt x="612" y="450"/>
                </a:lnTo>
                <a:lnTo>
                  <a:pt x="614" y="447"/>
                </a:lnTo>
                <a:lnTo>
                  <a:pt x="643" y="426"/>
                </a:lnTo>
                <a:lnTo>
                  <a:pt x="738" y="353"/>
                </a:lnTo>
                <a:lnTo>
                  <a:pt x="811" y="297"/>
                </a:lnTo>
                <a:lnTo>
                  <a:pt x="816" y="292"/>
                </a:lnTo>
                <a:lnTo>
                  <a:pt x="814" y="292"/>
                </a:lnTo>
                <a:lnTo>
                  <a:pt x="810" y="292"/>
                </a:lnTo>
                <a:lnTo>
                  <a:pt x="797" y="292"/>
                </a:lnTo>
                <a:lnTo>
                  <a:pt x="787" y="292"/>
                </a:lnTo>
                <a:lnTo>
                  <a:pt x="787" y="292"/>
                </a:lnTo>
                <a:lnTo>
                  <a:pt x="787" y="272"/>
                </a:lnTo>
                <a:lnTo>
                  <a:pt x="785" y="210"/>
                </a:lnTo>
                <a:lnTo>
                  <a:pt x="785" y="162"/>
                </a:lnTo>
                <a:lnTo>
                  <a:pt x="787" y="159"/>
                </a:lnTo>
                <a:lnTo>
                  <a:pt x="784" y="159"/>
                </a:lnTo>
                <a:lnTo>
                  <a:pt x="771" y="155"/>
                </a:lnTo>
                <a:lnTo>
                  <a:pt x="725" y="142"/>
                </a:lnTo>
                <a:lnTo>
                  <a:pt x="690" y="132"/>
                </a:lnTo>
                <a:lnTo>
                  <a:pt x="688" y="130"/>
                </a:lnTo>
                <a:lnTo>
                  <a:pt x="684" y="130"/>
                </a:lnTo>
                <a:lnTo>
                  <a:pt x="664" y="130"/>
                </a:lnTo>
                <a:lnTo>
                  <a:pt x="594" y="130"/>
                </a:lnTo>
                <a:lnTo>
                  <a:pt x="542" y="130"/>
                </a:lnTo>
                <a:lnTo>
                  <a:pt x="539" y="130"/>
                </a:lnTo>
                <a:lnTo>
                  <a:pt x="523" y="110"/>
                </a:lnTo>
                <a:lnTo>
                  <a:pt x="475" y="49"/>
                </a:lnTo>
                <a:lnTo>
                  <a:pt x="439" y="3"/>
                </a:lnTo>
                <a:lnTo>
                  <a:pt x="438" y="0"/>
                </a:lnTo>
                <a:lnTo>
                  <a:pt x="436" y="0"/>
                </a:lnTo>
                <a:lnTo>
                  <a:pt x="430" y="0"/>
                </a:lnTo>
                <a:lnTo>
                  <a:pt x="409" y="0"/>
                </a:lnTo>
                <a:lnTo>
                  <a:pt x="393" y="0"/>
                </a:lnTo>
                <a:lnTo>
                  <a:pt x="393" y="0"/>
                </a:lnTo>
                <a:lnTo>
                  <a:pt x="391" y="4"/>
                </a:lnTo>
                <a:lnTo>
                  <a:pt x="387" y="26"/>
                </a:lnTo>
                <a:lnTo>
                  <a:pt x="374" y="100"/>
                </a:lnTo>
                <a:lnTo>
                  <a:pt x="364" y="156"/>
                </a:lnTo>
                <a:lnTo>
                  <a:pt x="364" y="159"/>
                </a:lnTo>
                <a:lnTo>
                  <a:pt x="361" y="161"/>
                </a:lnTo>
                <a:lnTo>
                  <a:pt x="349" y="166"/>
                </a:lnTo>
                <a:lnTo>
                  <a:pt x="307" y="188"/>
                </a:lnTo>
                <a:lnTo>
                  <a:pt x="277" y="204"/>
                </a:lnTo>
                <a:lnTo>
                  <a:pt x="275" y="204"/>
                </a:lnTo>
                <a:lnTo>
                  <a:pt x="275" y="216"/>
                </a:lnTo>
                <a:lnTo>
                  <a:pt x="274" y="246"/>
                </a:lnTo>
                <a:lnTo>
                  <a:pt x="274" y="269"/>
                </a:lnTo>
                <a:lnTo>
                  <a:pt x="275" y="269"/>
                </a:lnTo>
                <a:lnTo>
                  <a:pt x="272" y="272"/>
                </a:lnTo>
                <a:lnTo>
                  <a:pt x="257" y="287"/>
                </a:lnTo>
                <a:lnTo>
                  <a:pt x="202" y="339"/>
                </a:lnTo>
                <a:lnTo>
                  <a:pt x="159" y="378"/>
                </a:lnTo>
                <a:lnTo>
                  <a:pt x="158" y="379"/>
                </a:lnTo>
                <a:lnTo>
                  <a:pt x="157" y="378"/>
                </a:lnTo>
                <a:lnTo>
                  <a:pt x="146" y="369"/>
                </a:lnTo>
                <a:lnTo>
                  <a:pt x="113" y="334"/>
                </a:lnTo>
                <a:lnTo>
                  <a:pt x="87" y="308"/>
                </a:lnTo>
                <a:lnTo>
                  <a:pt x="87" y="305"/>
                </a:lnTo>
                <a:lnTo>
                  <a:pt x="86" y="305"/>
                </a:lnTo>
                <a:lnTo>
                  <a:pt x="87" y="305"/>
                </a:lnTo>
                <a:lnTo>
                  <a:pt x="86" y="305"/>
                </a:lnTo>
                <a:lnTo>
                  <a:pt x="87" y="305"/>
                </a:lnTo>
                <a:lnTo>
                  <a:pt x="84" y="308"/>
                </a:lnTo>
                <a:lnTo>
                  <a:pt x="73" y="319"/>
                </a:lnTo>
                <a:lnTo>
                  <a:pt x="32" y="355"/>
                </a:lnTo>
                <a:lnTo>
                  <a:pt x="2" y="382"/>
                </a:lnTo>
                <a:lnTo>
                  <a:pt x="0" y="384"/>
                </a:lnTo>
                <a:lnTo>
                  <a:pt x="0" y="384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402680" y="4359240"/>
            <a:ext cx="144360" cy="863640"/>
          </a:xfrm>
          <a:custGeom>
            <a:avLst/>
            <a:gdLst/>
            <a:ahLst/>
            <a:rect l="l" t="t" r="r" b="b"/>
            <a:pathLst>
              <a:path w="421" h="2640">
                <a:moveTo>
                  <a:pt x="50" y="149"/>
                </a:moveTo>
                <a:lnTo>
                  <a:pt x="50" y="160"/>
                </a:lnTo>
                <a:lnTo>
                  <a:pt x="51" y="225"/>
                </a:lnTo>
                <a:lnTo>
                  <a:pt x="58" y="448"/>
                </a:lnTo>
                <a:lnTo>
                  <a:pt x="63" y="617"/>
                </a:lnTo>
                <a:lnTo>
                  <a:pt x="64" y="626"/>
                </a:lnTo>
                <a:lnTo>
                  <a:pt x="70" y="632"/>
                </a:lnTo>
                <a:lnTo>
                  <a:pt x="92" y="646"/>
                </a:lnTo>
                <a:lnTo>
                  <a:pt x="108" y="657"/>
                </a:lnTo>
                <a:lnTo>
                  <a:pt x="109" y="657"/>
                </a:lnTo>
                <a:lnTo>
                  <a:pt x="108" y="658"/>
                </a:lnTo>
                <a:lnTo>
                  <a:pt x="99" y="668"/>
                </a:lnTo>
                <a:lnTo>
                  <a:pt x="71" y="703"/>
                </a:lnTo>
                <a:lnTo>
                  <a:pt x="50" y="729"/>
                </a:lnTo>
                <a:lnTo>
                  <a:pt x="50" y="729"/>
                </a:lnTo>
                <a:lnTo>
                  <a:pt x="48" y="733"/>
                </a:lnTo>
                <a:lnTo>
                  <a:pt x="47" y="762"/>
                </a:lnTo>
                <a:lnTo>
                  <a:pt x="41" y="857"/>
                </a:lnTo>
                <a:lnTo>
                  <a:pt x="37" y="930"/>
                </a:lnTo>
                <a:lnTo>
                  <a:pt x="37" y="933"/>
                </a:lnTo>
                <a:lnTo>
                  <a:pt x="45" y="951"/>
                </a:lnTo>
                <a:lnTo>
                  <a:pt x="73" y="999"/>
                </a:lnTo>
                <a:lnTo>
                  <a:pt x="95" y="1035"/>
                </a:lnTo>
                <a:lnTo>
                  <a:pt x="96" y="1036"/>
                </a:lnTo>
                <a:lnTo>
                  <a:pt x="95" y="1043"/>
                </a:lnTo>
                <a:lnTo>
                  <a:pt x="90" y="1087"/>
                </a:lnTo>
                <a:lnTo>
                  <a:pt x="76" y="1236"/>
                </a:lnTo>
                <a:lnTo>
                  <a:pt x="64" y="1351"/>
                </a:lnTo>
                <a:lnTo>
                  <a:pt x="64" y="1356"/>
                </a:lnTo>
                <a:lnTo>
                  <a:pt x="63" y="1359"/>
                </a:lnTo>
                <a:lnTo>
                  <a:pt x="57" y="1378"/>
                </a:lnTo>
                <a:lnTo>
                  <a:pt x="37" y="1439"/>
                </a:lnTo>
                <a:lnTo>
                  <a:pt x="21" y="1487"/>
                </a:lnTo>
                <a:lnTo>
                  <a:pt x="21" y="1488"/>
                </a:lnTo>
                <a:lnTo>
                  <a:pt x="27" y="1504"/>
                </a:lnTo>
                <a:lnTo>
                  <a:pt x="47" y="1552"/>
                </a:lnTo>
                <a:lnTo>
                  <a:pt x="63" y="1587"/>
                </a:lnTo>
                <a:lnTo>
                  <a:pt x="64" y="1588"/>
                </a:lnTo>
                <a:lnTo>
                  <a:pt x="64" y="1591"/>
                </a:lnTo>
                <a:lnTo>
                  <a:pt x="66" y="1611"/>
                </a:lnTo>
                <a:lnTo>
                  <a:pt x="74" y="1680"/>
                </a:lnTo>
                <a:lnTo>
                  <a:pt x="80" y="1732"/>
                </a:lnTo>
                <a:lnTo>
                  <a:pt x="82" y="1733"/>
                </a:lnTo>
                <a:lnTo>
                  <a:pt x="90" y="1746"/>
                </a:lnTo>
                <a:lnTo>
                  <a:pt x="116" y="1785"/>
                </a:lnTo>
                <a:lnTo>
                  <a:pt x="137" y="1814"/>
                </a:lnTo>
                <a:lnTo>
                  <a:pt x="138" y="1816"/>
                </a:lnTo>
                <a:lnTo>
                  <a:pt x="138" y="1817"/>
                </a:lnTo>
                <a:lnTo>
                  <a:pt x="140" y="1824"/>
                </a:lnTo>
                <a:lnTo>
                  <a:pt x="148" y="1848"/>
                </a:lnTo>
                <a:lnTo>
                  <a:pt x="154" y="1865"/>
                </a:lnTo>
                <a:lnTo>
                  <a:pt x="155" y="1865"/>
                </a:lnTo>
                <a:lnTo>
                  <a:pt x="154" y="1867"/>
                </a:lnTo>
                <a:lnTo>
                  <a:pt x="148" y="1874"/>
                </a:lnTo>
                <a:lnTo>
                  <a:pt x="131" y="1900"/>
                </a:lnTo>
                <a:lnTo>
                  <a:pt x="116" y="1919"/>
                </a:lnTo>
                <a:lnTo>
                  <a:pt x="116" y="1919"/>
                </a:lnTo>
                <a:lnTo>
                  <a:pt x="124" y="1935"/>
                </a:lnTo>
                <a:lnTo>
                  <a:pt x="148" y="1978"/>
                </a:lnTo>
                <a:lnTo>
                  <a:pt x="167" y="2011"/>
                </a:lnTo>
                <a:lnTo>
                  <a:pt x="169" y="2013"/>
                </a:lnTo>
                <a:lnTo>
                  <a:pt x="166" y="2023"/>
                </a:lnTo>
                <a:lnTo>
                  <a:pt x="158" y="2051"/>
                </a:lnTo>
                <a:lnTo>
                  <a:pt x="153" y="2072"/>
                </a:lnTo>
                <a:lnTo>
                  <a:pt x="153" y="2072"/>
                </a:lnTo>
                <a:lnTo>
                  <a:pt x="150" y="2074"/>
                </a:lnTo>
                <a:lnTo>
                  <a:pt x="135" y="2081"/>
                </a:lnTo>
                <a:lnTo>
                  <a:pt x="87" y="2107"/>
                </a:lnTo>
                <a:lnTo>
                  <a:pt x="51" y="2126"/>
                </a:lnTo>
                <a:lnTo>
                  <a:pt x="50" y="2126"/>
                </a:lnTo>
                <a:lnTo>
                  <a:pt x="50" y="2132"/>
                </a:lnTo>
                <a:lnTo>
                  <a:pt x="48" y="2146"/>
                </a:lnTo>
                <a:lnTo>
                  <a:pt x="48" y="2158"/>
                </a:lnTo>
                <a:lnTo>
                  <a:pt x="50" y="2158"/>
                </a:lnTo>
                <a:lnTo>
                  <a:pt x="58" y="2161"/>
                </a:lnTo>
                <a:lnTo>
                  <a:pt x="86" y="2168"/>
                </a:lnTo>
                <a:lnTo>
                  <a:pt x="108" y="2174"/>
                </a:lnTo>
                <a:lnTo>
                  <a:pt x="109" y="2174"/>
                </a:lnTo>
                <a:lnTo>
                  <a:pt x="109" y="2184"/>
                </a:lnTo>
                <a:lnTo>
                  <a:pt x="108" y="2210"/>
                </a:lnTo>
                <a:lnTo>
                  <a:pt x="108" y="2230"/>
                </a:lnTo>
                <a:lnTo>
                  <a:pt x="109" y="2230"/>
                </a:lnTo>
                <a:lnTo>
                  <a:pt x="115" y="2233"/>
                </a:lnTo>
                <a:lnTo>
                  <a:pt x="137" y="2242"/>
                </a:lnTo>
                <a:lnTo>
                  <a:pt x="153" y="2248"/>
                </a:lnTo>
                <a:lnTo>
                  <a:pt x="154" y="2248"/>
                </a:lnTo>
                <a:lnTo>
                  <a:pt x="151" y="2258"/>
                </a:lnTo>
                <a:lnTo>
                  <a:pt x="144" y="2284"/>
                </a:lnTo>
                <a:lnTo>
                  <a:pt x="138" y="2304"/>
                </a:lnTo>
                <a:lnTo>
                  <a:pt x="138" y="2304"/>
                </a:lnTo>
                <a:lnTo>
                  <a:pt x="138" y="2323"/>
                </a:lnTo>
                <a:lnTo>
                  <a:pt x="137" y="2377"/>
                </a:lnTo>
                <a:lnTo>
                  <a:pt x="137" y="2419"/>
                </a:lnTo>
                <a:lnTo>
                  <a:pt x="138" y="2420"/>
                </a:lnTo>
                <a:lnTo>
                  <a:pt x="144" y="2435"/>
                </a:lnTo>
                <a:lnTo>
                  <a:pt x="164" y="2474"/>
                </a:lnTo>
                <a:lnTo>
                  <a:pt x="179" y="2504"/>
                </a:lnTo>
                <a:lnTo>
                  <a:pt x="180" y="2506"/>
                </a:lnTo>
                <a:lnTo>
                  <a:pt x="184" y="2510"/>
                </a:lnTo>
                <a:lnTo>
                  <a:pt x="199" y="2520"/>
                </a:lnTo>
                <a:lnTo>
                  <a:pt x="211" y="2529"/>
                </a:lnTo>
                <a:lnTo>
                  <a:pt x="212" y="2529"/>
                </a:lnTo>
                <a:lnTo>
                  <a:pt x="212" y="2532"/>
                </a:lnTo>
                <a:lnTo>
                  <a:pt x="216" y="2542"/>
                </a:lnTo>
                <a:lnTo>
                  <a:pt x="229" y="2579"/>
                </a:lnTo>
                <a:lnTo>
                  <a:pt x="240" y="2608"/>
                </a:lnTo>
                <a:lnTo>
                  <a:pt x="241" y="2610"/>
                </a:lnTo>
                <a:lnTo>
                  <a:pt x="244" y="2610"/>
                </a:lnTo>
                <a:lnTo>
                  <a:pt x="257" y="2610"/>
                </a:lnTo>
                <a:lnTo>
                  <a:pt x="267" y="2610"/>
                </a:lnTo>
                <a:lnTo>
                  <a:pt x="268" y="2610"/>
                </a:lnTo>
                <a:lnTo>
                  <a:pt x="271" y="2608"/>
                </a:lnTo>
                <a:lnTo>
                  <a:pt x="280" y="2600"/>
                </a:lnTo>
                <a:lnTo>
                  <a:pt x="287" y="2594"/>
                </a:lnTo>
                <a:lnTo>
                  <a:pt x="289" y="2592"/>
                </a:lnTo>
                <a:lnTo>
                  <a:pt x="289" y="2590"/>
                </a:lnTo>
                <a:lnTo>
                  <a:pt x="293" y="2578"/>
                </a:lnTo>
                <a:lnTo>
                  <a:pt x="296" y="2569"/>
                </a:lnTo>
                <a:lnTo>
                  <a:pt x="297" y="2568"/>
                </a:lnTo>
                <a:lnTo>
                  <a:pt x="299" y="2571"/>
                </a:lnTo>
                <a:lnTo>
                  <a:pt x="306" y="2577"/>
                </a:lnTo>
                <a:lnTo>
                  <a:pt x="311" y="2581"/>
                </a:lnTo>
                <a:lnTo>
                  <a:pt x="312" y="2581"/>
                </a:lnTo>
                <a:lnTo>
                  <a:pt x="309" y="2588"/>
                </a:lnTo>
                <a:lnTo>
                  <a:pt x="305" y="2610"/>
                </a:lnTo>
                <a:lnTo>
                  <a:pt x="300" y="2626"/>
                </a:lnTo>
                <a:lnTo>
                  <a:pt x="300" y="2626"/>
                </a:lnTo>
                <a:lnTo>
                  <a:pt x="306" y="2629"/>
                </a:lnTo>
                <a:lnTo>
                  <a:pt x="326" y="2636"/>
                </a:lnTo>
                <a:lnTo>
                  <a:pt x="341" y="2640"/>
                </a:lnTo>
                <a:lnTo>
                  <a:pt x="342" y="2640"/>
                </a:lnTo>
                <a:lnTo>
                  <a:pt x="351" y="2633"/>
                </a:lnTo>
                <a:lnTo>
                  <a:pt x="377" y="2613"/>
                </a:lnTo>
                <a:lnTo>
                  <a:pt x="399" y="2595"/>
                </a:lnTo>
                <a:lnTo>
                  <a:pt x="400" y="2594"/>
                </a:lnTo>
                <a:lnTo>
                  <a:pt x="403" y="2588"/>
                </a:lnTo>
                <a:lnTo>
                  <a:pt x="412" y="2568"/>
                </a:lnTo>
                <a:lnTo>
                  <a:pt x="419" y="2552"/>
                </a:lnTo>
                <a:lnTo>
                  <a:pt x="421" y="2550"/>
                </a:lnTo>
                <a:lnTo>
                  <a:pt x="419" y="2550"/>
                </a:lnTo>
                <a:lnTo>
                  <a:pt x="413" y="2550"/>
                </a:lnTo>
                <a:lnTo>
                  <a:pt x="392" y="2549"/>
                </a:lnTo>
                <a:lnTo>
                  <a:pt x="376" y="2549"/>
                </a:lnTo>
                <a:lnTo>
                  <a:pt x="376" y="2548"/>
                </a:lnTo>
                <a:lnTo>
                  <a:pt x="374" y="2549"/>
                </a:lnTo>
                <a:lnTo>
                  <a:pt x="373" y="2550"/>
                </a:lnTo>
                <a:lnTo>
                  <a:pt x="364" y="2559"/>
                </a:lnTo>
                <a:lnTo>
                  <a:pt x="358" y="2565"/>
                </a:lnTo>
                <a:lnTo>
                  <a:pt x="358" y="2565"/>
                </a:lnTo>
                <a:lnTo>
                  <a:pt x="357" y="2565"/>
                </a:lnTo>
                <a:lnTo>
                  <a:pt x="348" y="2562"/>
                </a:lnTo>
                <a:lnTo>
                  <a:pt x="321" y="2553"/>
                </a:lnTo>
                <a:lnTo>
                  <a:pt x="299" y="2546"/>
                </a:lnTo>
                <a:lnTo>
                  <a:pt x="299" y="2545"/>
                </a:lnTo>
                <a:lnTo>
                  <a:pt x="296" y="2540"/>
                </a:lnTo>
                <a:lnTo>
                  <a:pt x="289" y="2523"/>
                </a:lnTo>
                <a:lnTo>
                  <a:pt x="283" y="2510"/>
                </a:lnTo>
                <a:lnTo>
                  <a:pt x="283" y="2508"/>
                </a:lnTo>
                <a:lnTo>
                  <a:pt x="280" y="2508"/>
                </a:lnTo>
                <a:lnTo>
                  <a:pt x="271" y="2507"/>
                </a:lnTo>
                <a:lnTo>
                  <a:pt x="237" y="2501"/>
                </a:lnTo>
                <a:lnTo>
                  <a:pt x="211" y="2497"/>
                </a:lnTo>
                <a:lnTo>
                  <a:pt x="209" y="2495"/>
                </a:lnTo>
                <a:lnTo>
                  <a:pt x="206" y="2482"/>
                </a:lnTo>
                <a:lnTo>
                  <a:pt x="200" y="2440"/>
                </a:lnTo>
                <a:lnTo>
                  <a:pt x="196" y="2410"/>
                </a:lnTo>
                <a:lnTo>
                  <a:pt x="196" y="2407"/>
                </a:lnTo>
                <a:lnTo>
                  <a:pt x="202" y="2397"/>
                </a:lnTo>
                <a:lnTo>
                  <a:pt x="224" y="2362"/>
                </a:lnTo>
                <a:lnTo>
                  <a:pt x="240" y="2336"/>
                </a:lnTo>
                <a:lnTo>
                  <a:pt x="241" y="2335"/>
                </a:lnTo>
                <a:lnTo>
                  <a:pt x="241" y="2324"/>
                </a:lnTo>
                <a:lnTo>
                  <a:pt x="240" y="2290"/>
                </a:lnTo>
                <a:lnTo>
                  <a:pt x="240" y="2264"/>
                </a:lnTo>
                <a:lnTo>
                  <a:pt x="241" y="2261"/>
                </a:lnTo>
                <a:lnTo>
                  <a:pt x="234" y="2256"/>
                </a:lnTo>
                <a:lnTo>
                  <a:pt x="212" y="2242"/>
                </a:lnTo>
                <a:lnTo>
                  <a:pt x="196" y="2232"/>
                </a:lnTo>
                <a:lnTo>
                  <a:pt x="196" y="2230"/>
                </a:lnTo>
                <a:lnTo>
                  <a:pt x="196" y="2229"/>
                </a:lnTo>
                <a:lnTo>
                  <a:pt x="195" y="2222"/>
                </a:lnTo>
                <a:lnTo>
                  <a:pt x="195" y="2217"/>
                </a:lnTo>
                <a:lnTo>
                  <a:pt x="196" y="2216"/>
                </a:lnTo>
                <a:lnTo>
                  <a:pt x="200" y="2210"/>
                </a:lnTo>
                <a:lnTo>
                  <a:pt x="213" y="2190"/>
                </a:lnTo>
                <a:lnTo>
                  <a:pt x="224" y="2175"/>
                </a:lnTo>
                <a:lnTo>
                  <a:pt x="225" y="2174"/>
                </a:lnTo>
                <a:lnTo>
                  <a:pt x="225" y="2165"/>
                </a:lnTo>
                <a:lnTo>
                  <a:pt x="224" y="2137"/>
                </a:lnTo>
                <a:lnTo>
                  <a:pt x="224" y="2116"/>
                </a:lnTo>
                <a:lnTo>
                  <a:pt x="225" y="2114"/>
                </a:lnTo>
                <a:lnTo>
                  <a:pt x="226" y="2110"/>
                </a:lnTo>
                <a:lnTo>
                  <a:pt x="234" y="2097"/>
                </a:lnTo>
                <a:lnTo>
                  <a:pt x="240" y="2087"/>
                </a:lnTo>
                <a:lnTo>
                  <a:pt x="241" y="2085"/>
                </a:lnTo>
                <a:lnTo>
                  <a:pt x="242" y="2077"/>
                </a:lnTo>
                <a:lnTo>
                  <a:pt x="248" y="2051"/>
                </a:lnTo>
                <a:lnTo>
                  <a:pt x="253" y="2029"/>
                </a:lnTo>
                <a:lnTo>
                  <a:pt x="254" y="2027"/>
                </a:lnTo>
                <a:lnTo>
                  <a:pt x="251" y="2022"/>
                </a:lnTo>
                <a:lnTo>
                  <a:pt x="245" y="2001"/>
                </a:lnTo>
                <a:lnTo>
                  <a:pt x="241" y="1985"/>
                </a:lnTo>
                <a:lnTo>
                  <a:pt x="241" y="1984"/>
                </a:lnTo>
                <a:lnTo>
                  <a:pt x="240" y="1974"/>
                </a:lnTo>
                <a:lnTo>
                  <a:pt x="231" y="1900"/>
                </a:lnTo>
                <a:lnTo>
                  <a:pt x="202" y="1648"/>
                </a:lnTo>
                <a:lnTo>
                  <a:pt x="180" y="1456"/>
                </a:lnTo>
                <a:lnTo>
                  <a:pt x="180" y="1445"/>
                </a:lnTo>
                <a:lnTo>
                  <a:pt x="193" y="1439"/>
                </a:lnTo>
                <a:lnTo>
                  <a:pt x="235" y="1417"/>
                </a:lnTo>
                <a:lnTo>
                  <a:pt x="266" y="1401"/>
                </a:lnTo>
                <a:lnTo>
                  <a:pt x="268" y="1400"/>
                </a:lnTo>
                <a:lnTo>
                  <a:pt x="268" y="1394"/>
                </a:lnTo>
                <a:lnTo>
                  <a:pt x="267" y="1374"/>
                </a:lnTo>
                <a:lnTo>
                  <a:pt x="267" y="1358"/>
                </a:lnTo>
                <a:lnTo>
                  <a:pt x="268" y="1356"/>
                </a:lnTo>
                <a:lnTo>
                  <a:pt x="267" y="1356"/>
                </a:lnTo>
                <a:lnTo>
                  <a:pt x="258" y="1355"/>
                </a:lnTo>
                <a:lnTo>
                  <a:pt x="231" y="1348"/>
                </a:lnTo>
                <a:lnTo>
                  <a:pt x="209" y="1343"/>
                </a:lnTo>
                <a:lnTo>
                  <a:pt x="209" y="1342"/>
                </a:lnTo>
                <a:lnTo>
                  <a:pt x="209" y="1341"/>
                </a:lnTo>
                <a:lnTo>
                  <a:pt x="211" y="1320"/>
                </a:lnTo>
                <a:lnTo>
                  <a:pt x="218" y="1252"/>
                </a:lnTo>
                <a:lnTo>
                  <a:pt x="224" y="1200"/>
                </a:lnTo>
                <a:lnTo>
                  <a:pt x="225" y="1197"/>
                </a:lnTo>
                <a:lnTo>
                  <a:pt x="224" y="1194"/>
                </a:lnTo>
                <a:lnTo>
                  <a:pt x="213" y="1165"/>
                </a:lnTo>
                <a:lnTo>
                  <a:pt x="180" y="1070"/>
                </a:lnTo>
                <a:lnTo>
                  <a:pt x="154" y="996"/>
                </a:lnTo>
                <a:lnTo>
                  <a:pt x="154" y="991"/>
                </a:lnTo>
                <a:lnTo>
                  <a:pt x="155" y="986"/>
                </a:lnTo>
                <a:lnTo>
                  <a:pt x="167" y="942"/>
                </a:lnTo>
                <a:lnTo>
                  <a:pt x="208" y="793"/>
                </a:lnTo>
                <a:lnTo>
                  <a:pt x="238" y="678"/>
                </a:lnTo>
                <a:lnTo>
                  <a:pt x="241" y="671"/>
                </a:lnTo>
                <a:lnTo>
                  <a:pt x="238" y="654"/>
                </a:lnTo>
                <a:lnTo>
                  <a:pt x="231" y="599"/>
                </a:lnTo>
                <a:lnTo>
                  <a:pt x="225" y="557"/>
                </a:lnTo>
                <a:lnTo>
                  <a:pt x="225" y="554"/>
                </a:lnTo>
                <a:lnTo>
                  <a:pt x="229" y="545"/>
                </a:lnTo>
                <a:lnTo>
                  <a:pt x="242" y="519"/>
                </a:lnTo>
                <a:lnTo>
                  <a:pt x="253" y="497"/>
                </a:lnTo>
                <a:lnTo>
                  <a:pt x="254" y="496"/>
                </a:lnTo>
                <a:lnTo>
                  <a:pt x="260" y="499"/>
                </a:lnTo>
                <a:lnTo>
                  <a:pt x="282" y="506"/>
                </a:lnTo>
                <a:lnTo>
                  <a:pt x="297" y="510"/>
                </a:lnTo>
                <a:lnTo>
                  <a:pt x="299" y="510"/>
                </a:lnTo>
                <a:lnTo>
                  <a:pt x="300" y="507"/>
                </a:lnTo>
                <a:lnTo>
                  <a:pt x="308" y="494"/>
                </a:lnTo>
                <a:lnTo>
                  <a:pt x="312" y="484"/>
                </a:lnTo>
                <a:lnTo>
                  <a:pt x="313" y="483"/>
                </a:lnTo>
                <a:lnTo>
                  <a:pt x="311" y="473"/>
                </a:lnTo>
                <a:lnTo>
                  <a:pt x="303" y="438"/>
                </a:lnTo>
                <a:lnTo>
                  <a:pt x="299" y="412"/>
                </a:lnTo>
                <a:lnTo>
                  <a:pt x="299" y="409"/>
                </a:lnTo>
                <a:lnTo>
                  <a:pt x="289" y="403"/>
                </a:lnTo>
                <a:lnTo>
                  <a:pt x="263" y="383"/>
                </a:lnTo>
                <a:lnTo>
                  <a:pt x="241" y="367"/>
                </a:lnTo>
                <a:lnTo>
                  <a:pt x="241" y="365"/>
                </a:lnTo>
                <a:lnTo>
                  <a:pt x="238" y="360"/>
                </a:lnTo>
                <a:lnTo>
                  <a:pt x="222" y="309"/>
                </a:lnTo>
                <a:lnTo>
                  <a:pt x="166" y="139"/>
                </a:lnTo>
                <a:lnTo>
                  <a:pt x="124" y="9"/>
                </a:lnTo>
                <a:lnTo>
                  <a:pt x="122" y="2"/>
                </a:lnTo>
                <a:lnTo>
                  <a:pt x="121" y="2"/>
                </a:lnTo>
                <a:lnTo>
                  <a:pt x="112" y="2"/>
                </a:lnTo>
                <a:lnTo>
                  <a:pt x="83" y="2"/>
                </a:lnTo>
                <a:lnTo>
                  <a:pt x="60" y="2"/>
                </a:lnTo>
                <a:lnTo>
                  <a:pt x="60" y="0"/>
                </a:lnTo>
                <a:lnTo>
                  <a:pt x="58" y="3"/>
                </a:lnTo>
                <a:lnTo>
                  <a:pt x="50" y="13"/>
                </a:lnTo>
                <a:lnTo>
                  <a:pt x="24" y="48"/>
                </a:lnTo>
                <a:lnTo>
                  <a:pt x="2" y="74"/>
                </a:lnTo>
                <a:lnTo>
                  <a:pt x="2" y="76"/>
                </a:lnTo>
                <a:lnTo>
                  <a:pt x="0" y="76"/>
                </a:lnTo>
                <a:lnTo>
                  <a:pt x="2" y="76"/>
                </a:lnTo>
                <a:lnTo>
                  <a:pt x="0" y="76"/>
                </a:lnTo>
                <a:lnTo>
                  <a:pt x="2" y="76"/>
                </a:lnTo>
                <a:lnTo>
                  <a:pt x="9" y="87"/>
                </a:lnTo>
                <a:lnTo>
                  <a:pt x="31" y="122"/>
                </a:lnTo>
                <a:lnTo>
                  <a:pt x="48" y="148"/>
                </a:lnTo>
                <a:lnTo>
                  <a:pt x="50" y="149"/>
                </a:lnTo>
                <a:lnTo>
                  <a:pt x="50" y="149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413480" y="5024520"/>
            <a:ext cx="14400" cy="12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0" y="18"/>
                </a:moveTo>
                <a:lnTo>
                  <a:pt x="2" y="22"/>
                </a:lnTo>
                <a:lnTo>
                  <a:pt x="8" y="31"/>
                </a:lnTo>
                <a:lnTo>
                  <a:pt x="12" y="38"/>
                </a:lnTo>
                <a:lnTo>
                  <a:pt x="13" y="38"/>
                </a:lnTo>
                <a:lnTo>
                  <a:pt x="16" y="37"/>
                </a:lnTo>
                <a:lnTo>
                  <a:pt x="28" y="28"/>
                </a:lnTo>
                <a:lnTo>
                  <a:pt x="37" y="22"/>
                </a:lnTo>
                <a:lnTo>
                  <a:pt x="38" y="21"/>
                </a:lnTo>
                <a:lnTo>
                  <a:pt x="34" y="19"/>
                </a:lnTo>
                <a:lnTo>
                  <a:pt x="25" y="12"/>
                </a:lnTo>
                <a:lnTo>
                  <a:pt x="19" y="6"/>
                </a:lnTo>
                <a:lnTo>
                  <a:pt x="19" y="5"/>
                </a:lnTo>
                <a:lnTo>
                  <a:pt x="12" y="3"/>
                </a:lnTo>
                <a:lnTo>
                  <a:pt x="9" y="2"/>
                </a:lnTo>
                <a:lnTo>
                  <a:pt x="9" y="0"/>
                </a:lnTo>
                <a:lnTo>
                  <a:pt x="8" y="0"/>
                </a:lnTo>
                <a:lnTo>
                  <a:pt x="9" y="0"/>
                </a:lnTo>
                <a:lnTo>
                  <a:pt x="8" y="0"/>
                </a:lnTo>
                <a:lnTo>
                  <a:pt x="9" y="0"/>
                </a:lnTo>
                <a:lnTo>
                  <a:pt x="8" y="2"/>
                </a:lnTo>
                <a:lnTo>
                  <a:pt x="3" y="12"/>
                </a:lnTo>
                <a:lnTo>
                  <a:pt x="0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412040" y="4946760"/>
            <a:ext cx="17640" cy="39600"/>
          </a:xfrm>
          <a:custGeom>
            <a:avLst/>
            <a:gdLst/>
            <a:ahLst/>
            <a:rect l="l" t="t" r="r" b="b"/>
            <a:pathLst>
              <a:path w="53" h="118">
                <a:moveTo>
                  <a:pt x="0" y="22"/>
                </a:moveTo>
                <a:lnTo>
                  <a:pt x="0" y="23"/>
                </a:lnTo>
                <a:lnTo>
                  <a:pt x="2" y="28"/>
                </a:lnTo>
                <a:lnTo>
                  <a:pt x="6" y="45"/>
                </a:lnTo>
                <a:lnTo>
                  <a:pt x="11" y="58"/>
                </a:lnTo>
                <a:lnTo>
                  <a:pt x="12" y="58"/>
                </a:lnTo>
                <a:lnTo>
                  <a:pt x="12" y="66"/>
                </a:lnTo>
                <a:lnTo>
                  <a:pt x="11" y="87"/>
                </a:lnTo>
                <a:lnTo>
                  <a:pt x="11" y="103"/>
                </a:lnTo>
                <a:lnTo>
                  <a:pt x="12" y="103"/>
                </a:lnTo>
                <a:lnTo>
                  <a:pt x="16" y="106"/>
                </a:lnTo>
                <a:lnTo>
                  <a:pt x="29" y="113"/>
                </a:lnTo>
                <a:lnTo>
                  <a:pt x="40" y="118"/>
                </a:lnTo>
                <a:lnTo>
                  <a:pt x="41" y="118"/>
                </a:lnTo>
                <a:lnTo>
                  <a:pt x="42" y="116"/>
                </a:lnTo>
                <a:lnTo>
                  <a:pt x="47" y="109"/>
                </a:lnTo>
                <a:lnTo>
                  <a:pt x="51" y="105"/>
                </a:lnTo>
                <a:lnTo>
                  <a:pt x="53" y="103"/>
                </a:lnTo>
                <a:lnTo>
                  <a:pt x="50" y="99"/>
                </a:lnTo>
                <a:lnTo>
                  <a:pt x="45" y="83"/>
                </a:lnTo>
                <a:lnTo>
                  <a:pt x="41" y="70"/>
                </a:lnTo>
                <a:lnTo>
                  <a:pt x="41" y="68"/>
                </a:lnTo>
                <a:lnTo>
                  <a:pt x="41" y="61"/>
                </a:lnTo>
                <a:lnTo>
                  <a:pt x="42" y="41"/>
                </a:lnTo>
                <a:lnTo>
                  <a:pt x="44" y="23"/>
                </a:lnTo>
                <a:lnTo>
                  <a:pt x="45" y="22"/>
                </a:lnTo>
                <a:lnTo>
                  <a:pt x="41" y="19"/>
                </a:lnTo>
                <a:lnTo>
                  <a:pt x="29" y="9"/>
                </a:lnTo>
                <a:lnTo>
                  <a:pt x="21" y="2"/>
                </a:lnTo>
                <a:lnTo>
                  <a:pt x="21" y="0"/>
                </a:lnTo>
                <a:lnTo>
                  <a:pt x="19" y="0"/>
                </a:lnTo>
                <a:lnTo>
                  <a:pt x="21" y="0"/>
                </a:lnTo>
                <a:lnTo>
                  <a:pt x="19" y="0"/>
                </a:lnTo>
                <a:lnTo>
                  <a:pt x="21" y="0"/>
                </a:lnTo>
                <a:lnTo>
                  <a:pt x="19" y="2"/>
                </a:lnTo>
                <a:lnTo>
                  <a:pt x="16" y="5"/>
                </a:lnTo>
                <a:lnTo>
                  <a:pt x="8" y="15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520040" y="5211720"/>
            <a:ext cx="68040" cy="71640"/>
          </a:xfrm>
          <a:custGeom>
            <a:avLst/>
            <a:gdLst/>
            <a:ahLst/>
            <a:rect l="l" t="t" r="r" b="b"/>
            <a:pathLst>
              <a:path w="203" h="216">
                <a:moveTo>
                  <a:pt x="74" y="39"/>
                </a:moveTo>
                <a:lnTo>
                  <a:pt x="74" y="40"/>
                </a:lnTo>
                <a:lnTo>
                  <a:pt x="76" y="49"/>
                </a:lnTo>
                <a:lnTo>
                  <a:pt x="83" y="75"/>
                </a:lnTo>
                <a:lnTo>
                  <a:pt x="87" y="97"/>
                </a:lnTo>
                <a:lnTo>
                  <a:pt x="89" y="97"/>
                </a:lnTo>
                <a:lnTo>
                  <a:pt x="86" y="98"/>
                </a:lnTo>
                <a:lnTo>
                  <a:pt x="76" y="103"/>
                </a:lnTo>
                <a:lnTo>
                  <a:pt x="41" y="117"/>
                </a:lnTo>
                <a:lnTo>
                  <a:pt x="15" y="127"/>
                </a:lnTo>
                <a:lnTo>
                  <a:pt x="14" y="127"/>
                </a:lnTo>
                <a:lnTo>
                  <a:pt x="11" y="135"/>
                </a:lnTo>
                <a:lnTo>
                  <a:pt x="5" y="156"/>
                </a:lnTo>
                <a:lnTo>
                  <a:pt x="0" y="172"/>
                </a:lnTo>
                <a:lnTo>
                  <a:pt x="0" y="172"/>
                </a:lnTo>
                <a:lnTo>
                  <a:pt x="2" y="172"/>
                </a:lnTo>
                <a:lnTo>
                  <a:pt x="14" y="171"/>
                </a:lnTo>
                <a:lnTo>
                  <a:pt x="54" y="165"/>
                </a:lnTo>
                <a:lnTo>
                  <a:pt x="85" y="161"/>
                </a:lnTo>
                <a:lnTo>
                  <a:pt x="87" y="159"/>
                </a:lnTo>
                <a:lnTo>
                  <a:pt x="92" y="166"/>
                </a:lnTo>
                <a:lnTo>
                  <a:pt x="106" y="188"/>
                </a:lnTo>
                <a:lnTo>
                  <a:pt x="116" y="204"/>
                </a:lnTo>
                <a:lnTo>
                  <a:pt x="118" y="204"/>
                </a:lnTo>
                <a:lnTo>
                  <a:pt x="124" y="207"/>
                </a:lnTo>
                <a:lnTo>
                  <a:pt x="145" y="211"/>
                </a:lnTo>
                <a:lnTo>
                  <a:pt x="161" y="216"/>
                </a:lnTo>
                <a:lnTo>
                  <a:pt x="163" y="216"/>
                </a:lnTo>
                <a:lnTo>
                  <a:pt x="169" y="210"/>
                </a:lnTo>
                <a:lnTo>
                  <a:pt x="187" y="191"/>
                </a:lnTo>
                <a:lnTo>
                  <a:pt x="202" y="177"/>
                </a:lnTo>
                <a:lnTo>
                  <a:pt x="203" y="175"/>
                </a:lnTo>
                <a:lnTo>
                  <a:pt x="198" y="166"/>
                </a:lnTo>
                <a:lnTo>
                  <a:pt x="180" y="137"/>
                </a:lnTo>
                <a:lnTo>
                  <a:pt x="167" y="116"/>
                </a:lnTo>
                <a:lnTo>
                  <a:pt x="167" y="114"/>
                </a:lnTo>
                <a:lnTo>
                  <a:pt x="160" y="97"/>
                </a:lnTo>
                <a:lnTo>
                  <a:pt x="138" y="43"/>
                </a:lnTo>
                <a:lnTo>
                  <a:pt x="122" y="3"/>
                </a:lnTo>
                <a:lnTo>
                  <a:pt x="122" y="0"/>
                </a:lnTo>
                <a:lnTo>
                  <a:pt x="121" y="0"/>
                </a:lnTo>
                <a:lnTo>
                  <a:pt x="122" y="0"/>
                </a:lnTo>
                <a:lnTo>
                  <a:pt x="121" y="0"/>
                </a:lnTo>
                <a:lnTo>
                  <a:pt x="122" y="0"/>
                </a:lnTo>
                <a:lnTo>
                  <a:pt x="121" y="1"/>
                </a:lnTo>
                <a:lnTo>
                  <a:pt x="113" y="7"/>
                </a:lnTo>
                <a:lnTo>
                  <a:pt x="92" y="24"/>
                </a:lnTo>
                <a:lnTo>
                  <a:pt x="74" y="39"/>
                </a:lnTo>
                <a:lnTo>
                  <a:pt x="74" y="39"/>
                </a:lnTo>
                <a:lnTo>
                  <a:pt x="74" y="39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561440" y="5213520"/>
            <a:ext cx="72720" cy="60120"/>
          </a:xfrm>
          <a:custGeom>
            <a:avLst/>
            <a:gdLst/>
            <a:ahLst/>
            <a:rect l="l" t="t" r="r" b="b"/>
            <a:pathLst>
              <a:path w="217" h="185">
                <a:moveTo>
                  <a:pt x="43" y="110"/>
                </a:moveTo>
                <a:lnTo>
                  <a:pt x="49" y="120"/>
                </a:lnTo>
                <a:lnTo>
                  <a:pt x="66" y="149"/>
                </a:lnTo>
                <a:lnTo>
                  <a:pt x="81" y="172"/>
                </a:lnTo>
                <a:lnTo>
                  <a:pt x="82" y="172"/>
                </a:lnTo>
                <a:lnTo>
                  <a:pt x="91" y="175"/>
                </a:lnTo>
                <a:lnTo>
                  <a:pt x="120" y="181"/>
                </a:lnTo>
                <a:lnTo>
                  <a:pt x="142" y="185"/>
                </a:lnTo>
                <a:lnTo>
                  <a:pt x="143" y="185"/>
                </a:lnTo>
                <a:lnTo>
                  <a:pt x="145" y="185"/>
                </a:lnTo>
                <a:lnTo>
                  <a:pt x="153" y="181"/>
                </a:lnTo>
                <a:lnTo>
                  <a:pt x="188" y="166"/>
                </a:lnTo>
                <a:lnTo>
                  <a:pt x="214" y="156"/>
                </a:lnTo>
                <a:lnTo>
                  <a:pt x="217" y="155"/>
                </a:lnTo>
                <a:lnTo>
                  <a:pt x="210" y="149"/>
                </a:lnTo>
                <a:lnTo>
                  <a:pt x="188" y="127"/>
                </a:lnTo>
                <a:lnTo>
                  <a:pt x="172" y="111"/>
                </a:lnTo>
                <a:lnTo>
                  <a:pt x="172" y="110"/>
                </a:lnTo>
                <a:lnTo>
                  <a:pt x="166" y="111"/>
                </a:lnTo>
                <a:lnTo>
                  <a:pt x="153" y="111"/>
                </a:lnTo>
                <a:lnTo>
                  <a:pt x="143" y="111"/>
                </a:lnTo>
                <a:lnTo>
                  <a:pt x="143" y="111"/>
                </a:lnTo>
                <a:lnTo>
                  <a:pt x="142" y="111"/>
                </a:lnTo>
                <a:lnTo>
                  <a:pt x="136" y="110"/>
                </a:lnTo>
                <a:lnTo>
                  <a:pt x="116" y="101"/>
                </a:lnTo>
                <a:lnTo>
                  <a:pt x="100" y="95"/>
                </a:lnTo>
                <a:lnTo>
                  <a:pt x="100" y="94"/>
                </a:lnTo>
                <a:lnTo>
                  <a:pt x="98" y="92"/>
                </a:lnTo>
                <a:lnTo>
                  <a:pt x="90" y="81"/>
                </a:lnTo>
                <a:lnTo>
                  <a:pt x="61" y="39"/>
                </a:lnTo>
                <a:lnTo>
                  <a:pt x="39" y="8"/>
                </a:lnTo>
                <a:lnTo>
                  <a:pt x="39" y="5"/>
                </a:lnTo>
                <a:lnTo>
                  <a:pt x="37" y="5"/>
                </a:lnTo>
                <a:lnTo>
                  <a:pt x="32" y="5"/>
                </a:lnTo>
                <a:lnTo>
                  <a:pt x="14" y="3"/>
                </a:lnTo>
                <a:lnTo>
                  <a:pt x="1" y="1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lnTo>
                  <a:pt x="7" y="17"/>
                </a:lnTo>
                <a:lnTo>
                  <a:pt x="27" y="69"/>
                </a:lnTo>
                <a:lnTo>
                  <a:pt x="42" y="108"/>
                </a:lnTo>
                <a:lnTo>
                  <a:pt x="43" y="110"/>
                </a:lnTo>
                <a:lnTo>
                  <a:pt x="43" y="11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456320" y="4459320"/>
            <a:ext cx="384480" cy="738000"/>
          </a:xfrm>
          <a:custGeom>
            <a:avLst/>
            <a:gdLst/>
            <a:ahLst/>
            <a:rect l="l" t="t" r="r" b="b"/>
            <a:pathLst>
              <a:path w="1119" h="2255">
                <a:moveTo>
                  <a:pt x="159" y="170"/>
                </a:moveTo>
                <a:lnTo>
                  <a:pt x="158" y="171"/>
                </a:lnTo>
                <a:lnTo>
                  <a:pt x="157" y="176"/>
                </a:lnTo>
                <a:lnTo>
                  <a:pt x="149" y="190"/>
                </a:lnTo>
                <a:lnTo>
                  <a:pt x="145" y="200"/>
                </a:lnTo>
                <a:lnTo>
                  <a:pt x="145" y="200"/>
                </a:lnTo>
                <a:lnTo>
                  <a:pt x="143" y="200"/>
                </a:lnTo>
                <a:lnTo>
                  <a:pt x="138" y="199"/>
                </a:lnTo>
                <a:lnTo>
                  <a:pt x="116" y="192"/>
                </a:lnTo>
                <a:lnTo>
                  <a:pt x="100" y="187"/>
                </a:lnTo>
                <a:lnTo>
                  <a:pt x="100" y="186"/>
                </a:lnTo>
                <a:lnTo>
                  <a:pt x="99" y="187"/>
                </a:lnTo>
                <a:lnTo>
                  <a:pt x="94" y="194"/>
                </a:lnTo>
                <a:lnTo>
                  <a:pt x="80" y="218"/>
                </a:lnTo>
                <a:lnTo>
                  <a:pt x="70" y="236"/>
                </a:lnTo>
                <a:lnTo>
                  <a:pt x="70" y="236"/>
                </a:lnTo>
                <a:lnTo>
                  <a:pt x="70" y="239"/>
                </a:lnTo>
                <a:lnTo>
                  <a:pt x="71" y="254"/>
                </a:lnTo>
                <a:lnTo>
                  <a:pt x="80" y="306"/>
                </a:lnTo>
                <a:lnTo>
                  <a:pt x="86" y="345"/>
                </a:lnTo>
                <a:lnTo>
                  <a:pt x="87" y="347"/>
                </a:lnTo>
                <a:lnTo>
                  <a:pt x="84" y="354"/>
                </a:lnTo>
                <a:lnTo>
                  <a:pt x="72" y="400"/>
                </a:lnTo>
                <a:lnTo>
                  <a:pt x="32" y="557"/>
                </a:lnTo>
                <a:lnTo>
                  <a:pt x="1" y="676"/>
                </a:lnTo>
                <a:lnTo>
                  <a:pt x="0" y="681"/>
                </a:lnTo>
                <a:lnTo>
                  <a:pt x="0" y="686"/>
                </a:lnTo>
                <a:lnTo>
                  <a:pt x="10" y="715"/>
                </a:lnTo>
                <a:lnTo>
                  <a:pt x="45" y="810"/>
                </a:lnTo>
                <a:lnTo>
                  <a:pt x="71" y="884"/>
                </a:lnTo>
                <a:lnTo>
                  <a:pt x="72" y="887"/>
                </a:lnTo>
                <a:lnTo>
                  <a:pt x="71" y="890"/>
                </a:lnTo>
                <a:lnTo>
                  <a:pt x="70" y="910"/>
                </a:lnTo>
                <a:lnTo>
                  <a:pt x="62" y="978"/>
                </a:lnTo>
                <a:lnTo>
                  <a:pt x="58" y="1031"/>
                </a:lnTo>
                <a:lnTo>
                  <a:pt x="58" y="1032"/>
                </a:lnTo>
                <a:lnTo>
                  <a:pt x="67" y="1035"/>
                </a:lnTo>
                <a:lnTo>
                  <a:pt x="93" y="1042"/>
                </a:lnTo>
                <a:lnTo>
                  <a:pt x="113" y="1046"/>
                </a:lnTo>
                <a:lnTo>
                  <a:pt x="114" y="1046"/>
                </a:lnTo>
                <a:lnTo>
                  <a:pt x="114" y="1054"/>
                </a:lnTo>
                <a:lnTo>
                  <a:pt x="113" y="1074"/>
                </a:lnTo>
                <a:lnTo>
                  <a:pt x="113" y="1090"/>
                </a:lnTo>
                <a:lnTo>
                  <a:pt x="114" y="1090"/>
                </a:lnTo>
                <a:lnTo>
                  <a:pt x="112" y="1091"/>
                </a:lnTo>
                <a:lnTo>
                  <a:pt x="100" y="1097"/>
                </a:lnTo>
                <a:lnTo>
                  <a:pt x="58" y="1119"/>
                </a:lnTo>
                <a:lnTo>
                  <a:pt x="28" y="1135"/>
                </a:lnTo>
                <a:lnTo>
                  <a:pt x="26" y="1135"/>
                </a:lnTo>
                <a:lnTo>
                  <a:pt x="26" y="1146"/>
                </a:lnTo>
                <a:lnTo>
                  <a:pt x="35" y="1220"/>
                </a:lnTo>
                <a:lnTo>
                  <a:pt x="64" y="1472"/>
                </a:lnTo>
                <a:lnTo>
                  <a:pt x="86" y="1664"/>
                </a:lnTo>
                <a:lnTo>
                  <a:pt x="87" y="1674"/>
                </a:lnTo>
                <a:lnTo>
                  <a:pt x="87" y="1675"/>
                </a:lnTo>
                <a:lnTo>
                  <a:pt x="88" y="1681"/>
                </a:lnTo>
                <a:lnTo>
                  <a:pt x="94" y="1701"/>
                </a:lnTo>
                <a:lnTo>
                  <a:pt x="99" y="1717"/>
                </a:lnTo>
                <a:lnTo>
                  <a:pt x="100" y="1717"/>
                </a:lnTo>
                <a:lnTo>
                  <a:pt x="97" y="1727"/>
                </a:lnTo>
                <a:lnTo>
                  <a:pt x="93" y="1755"/>
                </a:lnTo>
                <a:lnTo>
                  <a:pt x="90" y="1777"/>
                </a:lnTo>
                <a:lnTo>
                  <a:pt x="90" y="1777"/>
                </a:lnTo>
                <a:lnTo>
                  <a:pt x="88" y="1778"/>
                </a:lnTo>
                <a:lnTo>
                  <a:pt x="86" y="1784"/>
                </a:lnTo>
                <a:lnTo>
                  <a:pt x="75" y="1801"/>
                </a:lnTo>
                <a:lnTo>
                  <a:pt x="68" y="1816"/>
                </a:lnTo>
                <a:lnTo>
                  <a:pt x="68" y="1816"/>
                </a:lnTo>
                <a:lnTo>
                  <a:pt x="68" y="1817"/>
                </a:lnTo>
                <a:lnTo>
                  <a:pt x="68" y="1825"/>
                </a:lnTo>
                <a:lnTo>
                  <a:pt x="70" y="1849"/>
                </a:lnTo>
                <a:lnTo>
                  <a:pt x="70" y="1868"/>
                </a:lnTo>
                <a:lnTo>
                  <a:pt x="71" y="1868"/>
                </a:lnTo>
                <a:lnTo>
                  <a:pt x="70" y="1869"/>
                </a:lnTo>
                <a:lnTo>
                  <a:pt x="65" y="1874"/>
                </a:lnTo>
                <a:lnTo>
                  <a:pt x="51" y="1890"/>
                </a:lnTo>
                <a:lnTo>
                  <a:pt x="41" y="1901"/>
                </a:lnTo>
                <a:lnTo>
                  <a:pt x="41" y="1901"/>
                </a:lnTo>
                <a:lnTo>
                  <a:pt x="41" y="1903"/>
                </a:lnTo>
                <a:lnTo>
                  <a:pt x="41" y="1906"/>
                </a:lnTo>
                <a:lnTo>
                  <a:pt x="41" y="1914"/>
                </a:lnTo>
                <a:lnTo>
                  <a:pt x="41" y="1920"/>
                </a:lnTo>
                <a:lnTo>
                  <a:pt x="42" y="1920"/>
                </a:lnTo>
                <a:lnTo>
                  <a:pt x="48" y="1926"/>
                </a:lnTo>
                <a:lnTo>
                  <a:pt x="70" y="1940"/>
                </a:lnTo>
                <a:lnTo>
                  <a:pt x="86" y="1951"/>
                </a:lnTo>
                <a:lnTo>
                  <a:pt x="87" y="1951"/>
                </a:lnTo>
                <a:lnTo>
                  <a:pt x="87" y="1962"/>
                </a:lnTo>
                <a:lnTo>
                  <a:pt x="86" y="1997"/>
                </a:lnTo>
                <a:lnTo>
                  <a:pt x="86" y="2023"/>
                </a:lnTo>
                <a:lnTo>
                  <a:pt x="87" y="2023"/>
                </a:lnTo>
                <a:lnTo>
                  <a:pt x="86" y="2026"/>
                </a:lnTo>
                <a:lnTo>
                  <a:pt x="80" y="2035"/>
                </a:lnTo>
                <a:lnTo>
                  <a:pt x="58" y="2069"/>
                </a:lnTo>
                <a:lnTo>
                  <a:pt x="41" y="2096"/>
                </a:lnTo>
                <a:lnTo>
                  <a:pt x="41" y="2097"/>
                </a:lnTo>
                <a:lnTo>
                  <a:pt x="41" y="2100"/>
                </a:lnTo>
                <a:lnTo>
                  <a:pt x="42" y="2111"/>
                </a:lnTo>
                <a:lnTo>
                  <a:pt x="49" y="2151"/>
                </a:lnTo>
                <a:lnTo>
                  <a:pt x="54" y="2181"/>
                </a:lnTo>
                <a:lnTo>
                  <a:pt x="55" y="2182"/>
                </a:lnTo>
                <a:lnTo>
                  <a:pt x="67" y="2187"/>
                </a:lnTo>
                <a:lnTo>
                  <a:pt x="106" y="2200"/>
                </a:lnTo>
                <a:lnTo>
                  <a:pt x="135" y="2209"/>
                </a:lnTo>
                <a:lnTo>
                  <a:pt x="138" y="2209"/>
                </a:lnTo>
                <a:lnTo>
                  <a:pt x="138" y="2210"/>
                </a:lnTo>
                <a:lnTo>
                  <a:pt x="138" y="2213"/>
                </a:lnTo>
                <a:lnTo>
                  <a:pt x="142" y="2226"/>
                </a:lnTo>
                <a:lnTo>
                  <a:pt x="143" y="2235"/>
                </a:lnTo>
                <a:lnTo>
                  <a:pt x="145" y="2235"/>
                </a:lnTo>
                <a:lnTo>
                  <a:pt x="154" y="2239"/>
                </a:lnTo>
                <a:lnTo>
                  <a:pt x="181" y="2248"/>
                </a:lnTo>
                <a:lnTo>
                  <a:pt x="203" y="2255"/>
                </a:lnTo>
                <a:lnTo>
                  <a:pt x="204" y="2255"/>
                </a:lnTo>
                <a:lnTo>
                  <a:pt x="206" y="2253"/>
                </a:lnTo>
                <a:lnTo>
                  <a:pt x="213" y="2246"/>
                </a:lnTo>
                <a:lnTo>
                  <a:pt x="217" y="2240"/>
                </a:lnTo>
                <a:lnTo>
                  <a:pt x="219" y="2239"/>
                </a:lnTo>
                <a:lnTo>
                  <a:pt x="226" y="2240"/>
                </a:lnTo>
                <a:lnTo>
                  <a:pt x="248" y="2242"/>
                </a:lnTo>
                <a:lnTo>
                  <a:pt x="265" y="2242"/>
                </a:lnTo>
                <a:lnTo>
                  <a:pt x="267" y="2242"/>
                </a:lnTo>
                <a:lnTo>
                  <a:pt x="268" y="2238"/>
                </a:lnTo>
                <a:lnTo>
                  <a:pt x="272" y="2225"/>
                </a:lnTo>
                <a:lnTo>
                  <a:pt x="277" y="2214"/>
                </a:lnTo>
                <a:lnTo>
                  <a:pt x="278" y="2213"/>
                </a:lnTo>
                <a:lnTo>
                  <a:pt x="274" y="2207"/>
                </a:lnTo>
                <a:lnTo>
                  <a:pt x="265" y="2190"/>
                </a:lnTo>
                <a:lnTo>
                  <a:pt x="259" y="2175"/>
                </a:lnTo>
                <a:lnTo>
                  <a:pt x="259" y="2174"/>
                </a:lnTo>
                <a:lnTo>
                  <a:pt x="259" y="2168"/>
                </a:lnTo>
                <a:lnTo>
                  <a:pt x="258" y="2148"/>
                </a:lnTo>
                <a:lnTo>
                  <a:pt x="258" y="2133"/>
                </a:lnTo>
                <a:lnTo>
                  <a:pt x="259" y="2132"/>
                </a:lnTo>
                <a:lnTo>
                  <a:pt x="262" y="2129"/>
                </a:lnTo>
                <a:lnTo>
                  <a:pt x="281" y="2107"/>
                </a:lnTo>
                <a:lnTo>
                  <a:pt x="351" y="2029"/>
                </a:lnTo>
                <a:lnTo>
                  <a:pt x="403" y="1969"/>
                </a:lnTo>
                <a:lnTo>
                  <a:pt x="407" y="1965"/>
                </a:lnTo>
                <a:lnTo>
                  <a:pt x="401" y="1952"/>
                </a:lnTo>
                <a:lnTo>
                  <a:pt x="387" y="1912"/>
                </a:lnTo>
                <a:lnTo>
                  <a:pt x="377" y="1881"/>
                </a:lnTo>
                <a:lnTo>
                  <a:pt x="377" y="1878"/>
                </a:lnTo>
                <a:lnTo>
                  <a:pt x="375" y="1878"/>
                </a:lnTo>
                <a:lnTo>
                  <a:pt x="367" y="1877"/>
                </a:lnTo>
                <a:lnTo>
                  <a:pt x="341" y="1869"/>
                </a:lnTo>
                <a:lnTo>
                  <a:pt x="320" y="1865"/>
                </a:lnTo>
                <a:lnTo>
                  <a:pt x="320" y="1864"/>
                </a:lnTo>
                <a:lnTo>
                  <a:pt x="320" y="1851"/>
                </a:lnTo>
                <a:lnTo>
                  <a:pt x="319" y="1810"/>
                </a:lnTo>
                <a:lnTo>
                  <a:pt x="319" y="1780"/>
                </a:lnTo>
                <a:lnTo>
                  <a:pt x="320" y="1777"/>
                </a:lnTo>
                <a:lnTo>
                  <a:pt x="332" y="1771"/>
                </a:lnTo>
                <a:lnTo>
                  <a:pt x="371" y="1749"/>
                </a:lnTo>
                <a:lnTo>
                  <a:pt x="400" y="1733"/>
                </a:lnTo>
                <a:lnTo>
                  <a:pt x="403" y="1732"/>
                </a:lnTo>
                <a:lnTo>
                  <a:pt x="403" y="1730"/>
                </a:lnTo>
                <a:lnTo>
                  <a:pt x="404" y="1710"/>
                </a:lnTo>
                <a:lnTo>
                  <a:pt x="413" y="1641"/>
                </a:lnTo>
                <a:lnTo>
                  <a:pt x="419" y="1588"/>
                </a:lnTo>
                <a:lnTo>
                  <a:pt x="420" y="1585"/>
                </a:lnTo>
                <a:lnTo>
                  <a:pt x="433" y="1580"/>
                </a:lnTo>
                <a:lnTo>
                  <a:pt x="475" y="1561"/>
                </a:lnTo>
                <a:lnTo>
                  <a:pt x="506" y="1546"/>
                </a:lnTo>
                <a:lnTo>
                  <a:pt x="509" y="1545"/>
                </a:lnTo>
                <a:lnTo>
                  <a:pt x="506" y="1541"/>
                </a:lnTo>
                <a:lnTo>
                  <a:pt x="498" y="1526"/>
                </a:lnTo>
                <a:lnTo>
                  <a:pt x="494" y="1514"/>
                </a:lnTo>
                <a:lnTo>
                  <a:pt x="494" y="1513"/>
                </a:lnTo>
                <a:lnTo>
                  <a:pt x="493" y="1513"/>
                </a:lnTo>
                <a:lnTo>
                  <a:pt x="487" y="1513"/>
                </a:lnTo>
                <a:lnTo>
                  <a:pt x="469" y="1513"/>
                </a:lnTo>
                <a:lnTo>
                  <a:pt x="455" y="1513"/>
                </a:lnTo>
                <a:lnTo>
                  <a:pt x="455" y="1512"/>
                </a:lnTo>
                <a:lnTo>
                  <a:pt x="458" y="1504"/>
                </a:lnTo>
                <a:lnTo>
                  <a:pt x="467" y="1484"/>
                </a:lnTo>
                <a:lnTo>
                  <a:pt x="474" y="1467"/>
                </a:lnTo>
                <a:lnTo>
                  <a:pt x="475" y="1465"/>
                </a:lnTo>
                <a:lnTo>
                  <a:pt x="491" y="1458"/>
                </a:lnTo>
                <a:lnTo>
                  <a:pt x="540" y="1432"/>
                </a:lnTo>
                <a:lnTo>
                  <a:pt x="578" y="1412"/>
                </a:lnTo>
                <a:lnTo>
                  <a:pt x="581" y="1410"/>
                </a:lnTo>
                <a:lnTo>
                  <a:pt x="581" y="1409"/>
                </a:lnTo>
                <a:lnTo>
                  <a:pt x="582" y="1397"/>
                </a:lnTo>
                <a:lnTo>
                  <a:pt x="590" y="1357"/>
                </a:lnTo>
                <a:lnTo>
                  <a:pt x="594" y="1326"/>
                </a:lnTo>
                <a:lnTo>
                  <a:pt x="596" y="1323"/>
                </a:lnTo>
                <a:lnTo>
                  <a:pt x="593" y="1319"/>
                </a:lnTo>
                <a:lnTo>
                  <a:pt x="585" y="1306"/>
                </a:lnTo>
                <a:lnTo>
                  <a:pt x="581" y="1296"/>
                </a:lnTo>
                <a:lnTo>
                  <a:pt x="581" y="1294"/>
                </a:lnTo>
                <a:lnTo>
                  <a:pt x="584" y="1294"/>
                </a:lnTo>
                <a:lnTo>
                  <a:pt x="613" y="1287"/>
                </a:lnTo>
                <a:lnTo>
                  <a:pt x="710" y="1261"/>
                </a:lnTo>
                <a:lnTo>
                  <a:pt x="784" y="1242"/>
                </a:lnTo>
                <a:lnTo>
                  <a:pt x="788" y="1241"/>
                </a:lnTo>
                <a:lnTo>
                  <a:pt x="790" y="1239"/>
                </a:lnTo>
                <a:lnTo>
                  <a:pt x="803" y="1229"/>
                </a:lnTo>
                <a:lnTo>
                  <a:pt x="848" y="1193"/>
                </a:lnTo>
                <a:lnTo>
                  <a:pt x="882" y="1167"/>
                </a:lnTo>
                <a:lnTo>
                  <a:pt x="885" y="1164"/>
                </a:lnTo>
                <a:lnTo>
                  <a:pt x="885" y="1142"/>
                </a:lnTo>
                <a:lnTo>
                  <a:pt x="884" y="1073"/>
                </a:lnTo>
                <a:lnTo>
                  <a:pt x="884" y="1020"/>
                </a:lnTo>
                <a:lnTo>
                  <a:pt x="885" y="1017"/>
                </a:lnTo>
                <a:lnTo>
                  <a:pt x="871" y="997"/>
                </a:lnTo>
                <a:lnTo>
                  <a:pt x="830" y="936"/>
                </a:lnTo>
                <a:lnTo>
                  <a:pt x="800" y="890"/>
                </a:lnTo>
                <a:lnTo>
                  <a:pt x="798" y="887"/>
                </a:lnTo>
                <a:lnTo>
                  <a:pt x="797" y="884"/>
                </a:lnTo>
                <a:lnTo>
                  <a:pt x="795" y="861"/>
                </a:lnTo>
                <a:lnTo>
                  <a:pt x="788" y="778"/>
                </a:lnTo>
                <a:lnTo>
                  <a:pt x="784" y="716"/>
                </a:lnTo>
                <a:lnTo>
                  <a:pt x="784" y="712"/>
                </a:lnTo>
                <a:lnTo>
                  <a:pt x="785" y="709"/>
                </a:lnTo>
                <a:lnTo>
                  <a:pt x="797" y="687"/>
                </a:lnTo>
                <a:lnTo>
                  <a:pt x="837" y="612"/>
                </a:lnTo>
                <a:lnTo>
                  <a:pt x="868" y="554"/>
                </a:lnTo>
                <a:lnTo>
                  <a:pt x="871" y="549"/>
                </a:lnTo>
                <a:lnTo>
                  <a:pt x="875" y="547"/>
                </a:lnTo>
                <a:lnTo>
                  <a:pt x="908" y="523"/>
                </a:lnTo>
                <a:lnTo>
                  <a:pt x="1024" y="442"/>
                </a:lnTo>
                <a:lnTo>
                  <a:pt x="1113" y="380"/>
                </a:lnTo>
                <a:lnTo>
                  <a:pt x="1119" y="376"/>
                </a:lnTo>
                <a:lnTo>
                  <a:pt x="1116" y="358"/>
                </a:lnTo>
                <a:lnTo>
                  <a:pt x="1108" y="305"/>
                </a:lnTo>
                <a:lnTo>
                  <a:pt x="1103" y="263"/>
                </a:lnTo>
                <a:lnTo>
                  <a:pt x="1103" y="260"/>
                </a:lnTo>
                <a:lnTo>
                  <a:pt x="1101" y="260"/>
                </a:lnTo>
                <a:lnTo>
                  <a:pt x="1095" y="260"/>
                </a:lnTo>
                <a:lnTo>
                  <a:pt x="1075" y="260"/>
                </a:lnTo>
                <a:lnTo>
                  <a:pt x="1059" y="260"/>
                </a:lnTo>
                <a:lnTo>
                  <a:pt x="1059" y="260"/>
                </a:lnTo>
                <a:lnTo>
                  <a:pt x="1058" y="263"/>
                </a:lnTo>
                <a:lnTo>
                  <a:pt x="1052" y="271"/>
                </a:lnTo>
                <a:lnTo>
                  <a:pt x="1030" y="306"/>
                </a:lnTo>
                <a:lnTo>
                  <a:pt x="1014" y="332"/>
                </a:lnTo>
                <a:lnTo>
                  <a:pt x="1014" y="334"/>
                </a:lnTo>
                <a:lnTo>
                  <a:pt x="1011" y="336"/>
                </a:lnTo>
                <a:lnTo>
                  <a:pt x="995" y="348"/>
                </a:lnTo>
                <a:lnTo>
                  <a:pt x="942" y="387"/>
                </a:lnTo>
                <a:lnTo>
                  <a:pt x="900" y="418"/>
                </a:lnTo>
                <a:lnTo>
                  <a:pt x="898" y="419"/>
                </a:lnTo>
                <a:lnTo>
                  <a:pt x="895" y="419"/>
                </a:lnTo>
                <a:lnTo>
                  <a:pt x="877" y="419"/>
                </a:lnTo>
                <a:lnTo>
                  <a:pt x="816" y="419"/>
                </a:lnTo>
                <a:lnTo>
                  <a:pt x="769" y="419"/>
                </a:lnTo>
                <a:lnTo>
                  <a:pt x="768" y="419"/>
                </a:lnTo>
                <a:lnTo>
                  <a:pt x="764" y="413"/>
                </a:lnTo>
                <a:lnTo>
                  <a:pt x="751" y="393"/>
                </a:lnTo>
                <a:lnTo>
                  <a:pt x="740" y="377"/>
                </a:lnTo>
                <a:lnTo>
                  <a:pt x="740" y="376"/>
                </a:lnTo>
                <a:lnTo>
                  <a:pt x="742" y="374"/>
                </a:lnTo>
                <a:lnTo>
                  <a:pt x="753" y="358"/>
                </a:lnTo>
                <a:lnTo>
                  <a:pt x="793" y="305"/>
                </a:lnTo>
                <a:lnTo>
                  <a:pt x="823" y="263"/>
                </a:lnTo>
                <a:lnTo>
                  <a:pt x="826" y="260"/>
                </a:lnTo>
                <a:lnTo>
                  <a:pt x="823" y="258"/>
                </a:lnTo>
                <a:lnTo>
                  <a:pt x="807" y="250"/>
                </a:lnTo>
                <a:lnTo>
                  <a:pt x="753" y="215"/>
                </a:lnTo>
                <a:lnTo>
                  <a:pt x="711" y="189"/>
                </a:lnTo>
                <a:lnTo>
                  <a:pt x="710" y="186"/>
                </a:lnTo>
                <a:lnTo>
                  <a:pt x="709" y="186"/>
                </a:lnTo>
                <a:lnTo>
                  <a:pt x="700" y="186"/>
                </a:lnTo>
                <a:lnTo>
                  <a:pt x="674" y="186"/>
                </a:lnTo>
                <a:lnTo>
                  <a:pt x="653" y="186"/>
                </a:lnTo>
                <a:lnTo>
                  <a:pt x="653" y="186"/>
                </a:lnTo>
                <a:lnTo>
                  <a:pt x="648" y="177"/>
                </a:lnTo>
                <a:lnTo>
                  <a:pt x="635" y="151"/>
                </a:lnTo>
                <a:lnTo>
                  <a:pt x="624" y="129"/>
                </a:lnTo>
                <a:lnTo>
                  <a:pt x="624" y="128"/>
                </a:lnTo>
                <a:lnTo>
                  <a:pt x="622" y="128"/>
                </a:lnTo>
                <a:lnTo>
                  <a:pt x="610" y="128"/>
                </a:lnTo>
                <a:lnTo>
                  <a:pt x="568" y="128"/>
                </a:lnTo>
                <a:lnTo>
                  <a:pt x="538" y="128"/>
                </a:lnTo>
                <a:lnTo>
                  <a:pt x="536" y="128"/>
                </a:lnTo>
                <a:lnTo>
                  <a:pt x="535" y="126"/>
                </a:lnTo>
                <a:lnTo>
                  <a:pt x="525" y="110"/>
                </a:lnTo>
                <a:lnTo>
                  <a:pt x="490" y="58"/>
                </a:lnTo>
                <a:lnTo>
                  <a:pt x="464" y="18"/>
                </a:lnTo>
                <a:lnTo>
                  <a:pt x="464" y="15"/>
                </a:lnTo>
                <a:lnTo>
                  <a:pt x="462" y="15"/>
                </a:lnTo>
                <a:lnTo>
                  <a:pt x="452" y="15"/>
                </a:lnTo>
                <a:lnTo>
                  <a:pt x="417" y="15"/>
                </a:lnTo>
                <a:lnTo>
                  <a:pt x="391" y="15"/>
                </a:lnTo>
                <a:lnTo>
                  <a:pt x="391" y="15"/>
                </a:lnTo>
                <a:lnTo>
                  <a:pt x="390" y="16"/>
                </a:lnTo>
                <a:lnTo>
                  <a:pt x="385" y="23"/>
                </a:lnTo>
                <a:lnTo>
                  <a:pt x="372" y="50"/>
                </a:lnTo>
                <a:lnTo>
                  <a:pt x="362" y="70"/>
                </a:lnTo>
                <a:lnTo>
                  <a:pt x="362" y="70"/>
                </a:lnTo>
                <a:lnTo>
                  <a:pt x="361" y="70"/>
                </a:lnTo>
                <a:lnTo>
                  <a:pt x="359" y="70"/>
                </a:lnTo>
                <a:lnTo>
                  <a:pt x="352" y="70"/>
                </a:lnTo>
                <a:lnTo>
                  <a:pt x="348" y="70"/>
                </a:lnTo>
                <a:lnTo>
                  <a:pt x="348" y="70"/>
                </a:lnTo>
                <a:lnTo>
                  <a:pt x="336" y="60"/>
                </a:lnTo>
                <a:lnTo>
                  <a:pt x="301" y="28"/>
                </a:lnTo>
                <a:lnTo>
                  <a:pt x="275" y="2"/>
                </a:lnTo>
                <a:lnTo>
                  <a:pt x="274" y="0"/>
                </a:lnTo>
                <a:lnTo>
                  <a:pt x="272" y="0"/>
                </a:lnTo>
                <a:lnTo>
                  <a:pt x="264" y="0"/>
                </a:lnTo>
                <a:lnTo>
                  <a:pt x="238" y="0"/>
                </a:lnTo>
                <a:lnTo>
                  <a:pt x="216" y="0"/>
                </a:lnTo>
                <a:lnTo>
                  <a:pt x="216" y="0"/>
                </a:lnTo>
                <a:lnTo>
                  <a:pt x="214" y="3"/>
                </a:lnTo>
                <a:lnTo>
                  <a:pt x="209" y="15"/>
                </a:lnTo>
                <a:lnTo>
                  <a:pt x="188" y="54"/>
                </a:lnTo>
                <a:lnTo>
                  <a:pt x="174" y="84"/>
                </a:lnTo>
                <a:lnTo>
                  <a:pt x="174" y="86"/>
                </a:lnTo>
                <a:lnTo>
                  <a:pt x="172" y="87"/>
                </a:lnTo>
                <a:lnTo>
                  <a:pt x="168" y="89"/>
                </a:lnTo>
                <a:lnTo>
                  <a:pt x="154" y="96"/>
                </a:lnTo>
                <a:lnTo>
                  <a:pt x="143" y="102"/>
                </a:lnTo>
                <a:lnTo>
                  <a:pt x="143" y="102"/>
                </a:lnTo>
                <a:lnTo>
                  <a:pt x="142" y="102"/>
                </a:lnTo>
                <a:lnTo>
                  <a:pt x="143" y="102"/>
                </a:lnTo>
                <a:lnTo>
                  <a:pt x="142" y="102"/>
                </a:lnTo>
                <a:lnTo>
                  <a:pt x="143" y="102"/>
                </a:lnTo>
                <a:lnTo>
                  <a:pt x="143" y="103"/>
                </a:lnTo>
                <a:lnTo>
                  <a:pt x="145" y="113"/>
                </a:lnTo>
                <a:lnTo>
                  <a:pt x="152" y="145"/>
                </a:lnTo>
                <a:lnTo>
                  <a:pt x="158" y="170"/>
                </a:lnTo>
                <a:lnTo>
                  <a:pt x="159" y="170"/>
                </a:lnTo>
                <a:lnTo>
                  <a:pt x="159" y="17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726320" y="4638600"/>
            <a:ext cx="130320" cy="125640"/>
          </a:xfrm>
          <a:custGeom>
            <a:avLst/>
            <a:gdLst/>
            <a:ahLst/>
            <a:rect l="l" t="t" r="r" b="b"/>
            <a:pathLst>
              <a:path w="381" h="383">
                <a:moveTo>
                  <a:pt x="145" y="29"/>
                </a:moveTo>
                <a:lnTo>
                  <a:pt x="145" y="31"/>
                </a:lnTo>
                <a:lnTo>
                  <a:pt x="146" y="40"/>
                </a:lnTo>
                <a:lnTo>
                  <a:pt x="153" y="66"/>
                </a:lnTo>
                <a:lnTo>
                  <a:pt x="159" y="87"/>
                </a:lnTo>
                <a:lnTo>
                  <a:pt x="161" y="87"/>
                </a:lnTo>
                <a:lnTo>
                  <a:pt x="169" y="87"/>
                </a:lnTo>
                <a:lnTo>
                  <a:pt x="195" y="87"/>
                </a:lnTo>
                <a:lnTo>
                  <a:pt x="216" y="87"/>
                </a:lnTo>
                <a:lnTo>
                  <a:pt x="217" y="87"/>
                </a:lnTo>
                <a:lnTo>
                  <a:pt x="219" y="89"/>
                </a:lnTo>
                <a:lnTo>
                  <a:pt x="230" y="98"/>
                </a:lnTo>
                <a:lnTo>
                  <a:pt x="269" y="127"/>
                </a:lnTo>
                <a:lnTo>
                  <a:pt x="300" y="148"/>
                </a:lnTo>
                <a:lnTo>
                  <a:pt x="303" y="148"/>
                </a:lnTo>
                <a:lnTo>
                  <a:pt x="303" y="155"/>
                </a:lnTo>
                <a:lnTo>
                  <a:pt x="301" y="176"/>
                </a:lnTo>
                <a:lnTo>
                  <a:pt x="301" y="190"/>
                </a:lnTo>
                <a:lnTo>
                  <a:pt x="303" y="190"/>
                </a:lnTo>
                <a:lnTo>
                  <a:pt x="304" y="192"/>
                </a:lnTo>
                <a:lnTo>
                  <a:pt x="314" y="202"/>
                </a:lnTo>
                <a:lnTo>
                  <a:pt x="350" y="234"/>
                </a:lnTo>
                <a:lnTo>
                  <a:pt x="378" y="260"/>
                </a:lnTo>
                <a:lnTo>
                  <a:pt x="381" y="260"/>
                </a:lnTo>
                <a:lnTo>
                  <a:pt x="378" y="263"/>
                </a:lnTo>
                <a:lnTo>
                  <a:pt x="366" y="280"/>
                </a:lnTo>
                <a:lnTo>
                  <a:pt x="323" y="338"/>
                </a:lnTo>
                <a:lnTo>
                  <a:pt x="290" y="382"/>
                </a:lnTo>
                <a:lnTo>
                  <a:pt x="288" y="383"/>
                </a:lnTo>
                <a:lnTo>
                  <a:pt x="284" y="383"/>
                </a:lnTo>
                <a:lnTo>
                  <a:pt x="261" y="383"/>
                </a:lnTo>
                <a:lnTo>
                  <a:pt x="180" y="382"/>
                </a:lnTo>
                <a:lnTo>
                  <a:pt x="117" y="382"/>
                </a:lnTo>
                <a:lnTo>
                  <a:pt x="114" y="380"/>
                </a:lnTo>
                <a:lnTo>
                  <a:pt x="98" y="374"/>
                </a:lnTo>
                <a:lnTo>
                  <a:pt x="51" y="354"/>
                </a:lnTo>
                <a:lnTo>
                  <a:pt x="16" y="340"/>
                </a:lnTo>
                <a:lnTo>
                  <a:pt x="14" y="338"/>
                </a:lnTo>
                <a:lnTo>
                  <a:pt x="13" y="335"/>
                </a:lnTo>
                <a:lnTo>
                  <a:pt x="11" y="312"/>
                </a:lnTo>
                <a:lnTo>
                  <a:pt x="4" y="229"/>
                </a:lnTo>
                <a:lnTo>
                  <a:pt x="0" y="167"/>
                </a:lnTo>
                <a:lnTo>
                  <a:pt x="0" y="163"/>
                </a:lnTo>
                <a:lnTo>
                  <a:pt x="1" y="160"/>
                </a:lnTo>
                <a:lnTo>
                  <a:pt x="13" y="138"/>
                </a:lnTo>
                <a:lnTo>
                  <a:pt x="53" y="63"/>
                </a:lnTo>
                <a:lnTo>
                  <a:pt x="84" y="5"/>
                </a:lnTo>
                <a:lnTo>
                  <a:pt x="87" y="0"/>
                </a:lnTo>
                <a:lnTo>
                  <a:pt x="85" y="0"/>
                </a:lnTo>
                <a:lnTo>
                  <a:pt x="87" y="0"/>
                </a:lnTo>
                <a:lnTo>
                  <a:pt x="85" y="0"/>
                </a:lnTo>
                <a:lnTo>
                  <a:pt x="87" y="0"/>
                </a:lnTo>
                <a:lnTo>
                  <a:pt x="95" y="6"/>
                </a:lnTo>
                <a:lnTo>
                  <a:pt x="122" y="19"/>
                </a:lnTo>
                <a:lnTo>
                  <a:pt x="143" y="29"/>
                </a:lnTo>
                <a:lnTo>
                  <a:pt x="145" y="29"/>
                </a:lnTo>
                <a:lnTo>
                  <a:pt x="145" y="29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3480" y="4173480"/>
            <a:ext cx="330480" cy="319320"/>
          </a:xfrm>
          <a:custGeom>
            <a:avLst/>
            <a:gdLst/>
            <a:ahLst/>
            <a:rect l="l" t="t" r="r" b="b"/>
            <a:pathLst>
              <a:path w="956" h="973">
                <a:moveTo>
                  <a:pt x="87" y="566"/>
                </a:moveTo>
                <a:lnTo>
                  <a:pt x="88" y="573"/>
                </a:lnTo>
                <a:lnTo>
                  <a:pt x="106" y="623"/>
                </a:lnTo>
                <a:lnTo>
                  <a:pt x="162" y="792"/>
                </a:lnTo>
                <a:lnTo>
                  <a:pt x="206" y="921"/>
                </a:lnTo>
                <a:lnTo>
                  <a:pt x="208" y="927"/>
                </a:lnTo>
                <a:lnTo>
                  <a:pt x="216" y="934"/>
                </a:lnTo>
                <a:lnTo>
                  <a:pt x="242" y="956"/>
                </a:lnTo>
                <a:lnTo>
                  <a:pt x="262" y="973"/>
                </a:lnTo>
                <a:lnTo>
                  <a:pt x="263" y="973"/>
                </a:lnTo>
                <a:lnTo>
                  <a:pt x="268" y="970"/>
                </a:lnTo>
                <a:lnTo>
                  <a:pt x="284" y="962"/>
                </a:lnTo>
                <a:lnTo>
                  <a:pt x="297" y="956"/>
                </a:lnTo>
                <a:lnTo>
                  <a:pt x="298" y="954"/>
                </a:lnTo>
                <a:lnTo>
                  <a:pt x="304" y="941"/>
                </a:lnTo>
                <a:lnTo>
                  <a:pt x="321" y="902"/>
                </a:lnTo>
                <a:lnTo>
                  <a:pt x="336" y="872"/>
                </a:lnTo>
                <a:lnTo>
                  <a:pt x="337" y="869"/>
                </a:lnTo>
                <a:lnTo>
                  <a:pt x="346" y="869"/>
                </a:lnTo>
                <a:lnTo>
                  <a:pt x="374" y="869"/>
                </a:lnTo>
                <a:lnTo>
                  <a:pt x="395" y="869"/>
                </a:lnTo>
                <a:lnTo>
                  <a:pt x="397" y="869"/>
                </a:lnTo>
                <a:lnTo>
                  <a:pt x="407" y="881"/>
                </a:lnTo>
                <a:lnTo>
                  <a:pt x="437" y="915"/>
                </a:lnTo>
                <a:lnTo>
                  <a:pt x="462" y="941"/>
                </a:lnTo>
                <a:lnTo>
                  <a:pt x="463" y="941"/>
                </a:lnTo>
                <a:lnTo>
                  <a:pt x="466" y="941"/>
                </a:lnTo>
                <a:lnTo>
                  <a:pt x="476" y="941"/>
                </a:lnTo>
                <a:lnTo>
                  <a:pt x="485" y="941"/>
                </a:lnTo>
                <a:lnTo>
                  <a:pt x="487" y="941"/>
                </a:lnTo>
                <a:lnTo>
                  <a:pt x="489" y="934"/>
                </a:lnTo>
                <a:lnTo>
                  <a:pt x="501" y="908"/>
                </a:lnTo>
                <a:lnTo>
                  <a:pt x="510" y="888"/>
                </a:lnTo>
                <a:lnTo>
                  <a:pt x="511" y="886"/>
                </a:lnTo>
                <a:lnTo>
                  <a:pt x="513" y="886"/>
                </a:lnTo>
                <a:lnTo>
                  <a:pt x="521" y="886"/>
                </a:lnTo>
                <a:lnTo>
                  <a:pt x="556" y="886"/>
                </a:lnTo>
                <a:lnTo>
                  <a:pt x="582" y="886"/>
                </a:lnTo>
                <a:lnTo>
                  <a:pt x="585" y="886"/>
                </a:lnTo>
                <a:lnTo>
                  <a:pt x="585" y="885"/>
                </a:lnTo>
                <a:lnTo>
                  <a:pt x="589" y="869"/>
                </a:lnTo>
                <a:lnTo>
                  <a:pt x="605" y="812"/>
                </a:lnTo>
                <a:lnTo>
                  <a:pt x="617" y="770"/>
                </a:lnTo>
                <a:lnTo>
                  <a:pt x="618" y="768"/>
                </a:lnTo>
                <a:lnTo>
                  <a:pt x="634" y="759"/>
                </a:lnTo>
                <a:lnTo>
                  <a:pt x="682" y="731"/>
                </a:lnTo>
                <a:lnTo>
                  <a:pt x="718" y="710"/>
                </a:lnTo>
                <a:lnTo>
                  <a:pt x="721" y="708"/>
                </a:lnTo>
                <a:lnTo>
                  <a:pt x="724" y="708"/>
                </a:lnTo>
                <a:lnTo>
                  <a:pt x="746" y="704"/>
                </a:lnTo>
                <a:lnTo>
                  <a:pt x="821" y="691"/>
                </a:lnTo>
                <a:lnTo>
                  <a:pt x="879" y="681"/>
                </a:lnTo>
                <a:lnTo>
                  <a:pt x="884" y="679"/>
                </a:lnTo>
                <a:lnTo>
                  <a:pt x="884" y="686"/>
                </a:lnTo>
                <a:lnTo>
                  <a:pt x="882" y="707"/>
                </a:lnTo>
                <a:lnTo>
                  <a:pt x="882" y="723"/>
                </a:lnTo>
                <a:lnTo>
                  <a:pt x="884" y="723"/>
                </a:lnTo>
                <a:lnTo>
                  <a:pt x="889" y="725"/>
                </a:lnTo>
                <a:lnTo>
                  <a:pt x="910" y="733"/>
                </a:lnTo>
                <a:lnTo>
                  <a:pt x="926" y="737"/>
                </a:lnTo>
                <a:lnTo>
                  <a:pt x="927" y="737"/>
                </a:lnTo>
                <a:lnTo>
                  <a:pt x="927" y="731"/>
                </a:lnTo>
                <a:lnTo>
                  <a:pt x="926" y="711"/>
                </a:lnTo>
                <a:lnTo>
                  <a:pt x="926" y="695"/>
                </a:lnTo>
                <a:lnTo>
                  <a:pt x="927" y="694"/>
                </a:lnTo>
                <a:lnTo>
                  <a:pt x="931" y="688"/>
                </a:lnTo>
                <a:lnTo>
                  <a:pt x="944" y="666"/>
                </a:lnTo>
                <a:lnTo>
                  <a:pt x="955" y="650"/>
                </a:lnTo>
                <a:lnTo>
                  <a:pt x="956" y="649"/>
                </a:lnTo>
                <a:lnTo>
                  <a:pt x="955" y="646"/>
                </a:lnTo>
                <a:lnTo>
                  <a:pt x="944" y="624"/>
                </a:lnTo>
                <a:lnTo>
                  <a:pt x="910" y="549"/>
                </a:lnTo>
                <a:lnTo>
                  <a:pt x="884" y="491"/>
                </a:lnTo>
                <a:lnTo>
                  <a:pt x="884" y="486"/>
                </a:lnTo>
                <a:lnTo>
                  <a:pt x="881" y="486"/>
                </a:lnTo>
                <a:lnTo>
                  <a:pt x="865" y="485"/>
                </a:lnTo>
                <a:lnTo>
                  <a:pt x="810" y="478"/>
                </a:lnTo>
                <a:lnTo>
                  <a:pt x="768" y="473"/>
                </a:lnTo>
                <a:lnTo>
                  <a:pt x="766" y="472"/>
                </a:lnTo>
                <a:lnTo>
                  <a:pt x="760" y="462"/>
                </a:lnTo>
                <a:lnTo>
                  <a:pt x="746" y="427"/>
                </a:lnTo>
                <a:lnTo>
                  <a:pt x="736" y="401"/>
                </a:lnTo>
                <a:lnTo>
                  <a:pt x="736" y="398"/>
                </a:lnTo>
                <a:lnTo>
                  <a:pt x="730" y="397"/>
                </a:lnTo>
                <a:lnTo>
                  <a:pt x="717" y="389"/>
                </a:lnTo>
                <a:lnTo>
                  <a:pt x="707" y="384"/>
                </a:lnTo>
                <a:lnTo>
                  <a:pt x="707" y="382"/>
                </a:lnTo>
                <a:lnTo>
                  <a:pt x="707" y="379"/>
                </a:lnTo>
                <a:lnTo>
                  <a:pt x="705" y="366"/>
                </a:lnTo>
                <a:lnTo>
                  <a:pt x="705" y="356"/>
                </a:lnTo>
                <a:lnTo>
                  <a:pt x="707" y="355"/>
                </a:lnTo>
                <a:lnTo>
                  <a:pt x="711" y="350"/>
                </a:lnTo>
                <a:lnTo>
                  <a:pt x="724" y="336"/>
                </a:lnTo>
                <a:lnTo>
                  <a:pt x="734" y="326"/>
                </a:lnTo>
                <a:lnTo>
                  <a:pt x="736" y="324"/>
                </a:lnTo>
                <a:lnTo>
                  <a:pt x="731" y="323"/>
                </a:lnTo>
                <a:lnTo>
                  <a:pt x="701" y="304"/>
                </a:lnTo>
                <a:lnTo>
                  <a:pt x="598" y="243"/>
                </a:lnTo>
                <a:lnTo>
                  <a:pt x="518" y="195"/>
                </a:lnTo>
                <a:lnTo>
                  <a:pt x="516" y="192"/>
                </a:lnTo>
                <a:lnTo>
                  <a:pt x="513" y="192"/>
                </a:lnTo>
                <a:lnTo>
                  <a:pt x="498" y="192"/>
                </a:lnTo>
                <a:lnTo>
                  <a:pt x="450" y="192"/>
                </a:lnTo>
                <a:lnTo>
                  <a:pt x="413" y="192"/>
                </a:lnTo>
                <a:lnTo>
                  <a:pt x="411" y="192"/>
                </a:lnTo>
                <a:lnTo>
                  <a:pt x="408" y="191"/>
                </a:lnTo>
                <a:lnTo>
                  <a:pt x="400" y="182"/>
                </a:lnTo>
                <a:lnTo>
                  <a:pt x="365" y="147"/>
                </a:lnTo>
                <a:lnTo>
                  <a:pt x="339" y="121"/>
                </a:lnTo>
                <a:lnTo>
                  <a:pt x="337" y="118"/>
                </a:lnTo>
                <a:lnTo>
                  <a:pt x="343" y="114"/>
                </a:lnTo>
                <a:lnTo>
                  <a:pt x="365" y="101"/>
                </a:lnTo>
                <a:lnTo>
                  <a:pt x="381" y="91"/>
                </a:lnTo>
                <a:lnTo>
                  <a:pt x="382" y="89"/>
                </a:lnTo>
                <a:lnTo>
                  <a:pt x="382" y="76"/>
                </a:lnTo>
                <a:lnTo>
                  <a:pt x="381" y="34"/>
                </a:lnTo>
                <a:lnTo>
                  <a:pt x="381" y="2"/>
                </a:lnTo>
                <a:lnTo>
                  <a:pt x="382" y="0"/>
                </a:lnTo>
                <a:lnTo>
                  <a:pt x="381" y="0"/>
                </a:lnTo>
                <a:lnTo>
                  <a:pt x="375" y="0"/>
                </a:lnTo>
                <a:lnTo>
                  <a:pt x="353" y="0"/>
                </a:lnTo>
                <a:lnTo>
                  <a:pt x="337" y="0"/>
                </a:lnTo>
                <a:lnTo>
                  <a:pt x="337" y="0"/>
                </a:lnTo>
                <a:lnTo>
                  <a:pt x="333" y="1"/>
                </a:lnTo>
                <a:lnTo>
                  <a:pt x="308" y="10"/>
                </a:lnTo>
                <a:lnTo>
                  <a:pt x="226" y="37"/>
                </a:lnTo>
                <a:lnTo>
                  <a:pt x="164" y="59"/>
                </a:lnTo>
                <a:lnTo>
                  <a:pt x="161" y="59"/>
                </a:lnTo>
                <a:lnTo>
                  <a:pt x="158" y="57"/>
                </a:lnTo>
                <a:lnTo>
                  <a:pt x="150" y="50"/>
                </a:lnTo>
                <a:lnTo>
                  <a:pt x="146" y="46"/>
                </a:lnTo>
                <a:lnTo>
                  <a:pt x="146" y="44"/>
                </a:lnTo>
                <a:lnTo>
                  <a:pt x="136" y="47"/>
                </a:lnTo>
                <a:lnTo>
                  <a:pt x="108" y="55"/>
                </a:lnTo>
                <a:lnTo>
                  <a:pt x="87" y="59"/>
                </a:lnTo>
                <a:lnTo>
                  <a:pt x="87" y="59"/>
                </a:lnTo>
                <a:lnTo>
                  <a:pt x="84" y="69"/>
                </a:lnTo>
                <a:lnTo>
                  <a:pt x="77" y="97"/>
                </a:lnTo>
                <a:lnTo>
                  <a:pt x="72" y="118"/>
                </a:lnTo>
                <a:lnTo>
                  <a:pt x="72" y="118"/>
                </a:lnTo>
                <a:lnTo>
                  <a:pt x="71" y="118"/>
                </a:lnTo>
                <a:lnTo>
                  <a:pt x="61" y="118"/>
                </a:lnTo>
                <a:lnTo>
                  <a:pt x="26" y="117"/>
                </a:lnTo>
                <a:lnTo>
                  <a:pt x="0" y="115"/>
                </a:lnTo>
                <a:lnTo>
                  <a:pt x="0" y="114"/>
                </a:lnTo>
                <a:lnTo>
                  <a:pt x="1" y="118"/>
                </a:lnTo>
                <a:lnTo>
                  <a:pt x="16" y="140"/>
                </a:lnTo>
                <a:lnTo>
                  <a:pt x="64" y="218"/>
                </a:lnTo>
                <a:lnTo>
                  <a:pt x="100" y="276"/>
                </a:lnTo>
                <a:lnTo>
                  <a:pt x="103" y="279"/>
                </a:lnTo>
                <a:lnTo>
                  <a:pt x="101" y="282"/>
                </a:lnTo>
                <a:lnTo>
                  <a:pt x="95" y="301"/>
                </a:lnTo>
                <a:lnTo>
                  <a:pt x="75" y="363"/>
                </a:lnTo>
                <a:lnTo>
                  <a:pt x="59" y="411"/>
                </a:lnTo>
                <a:lnTo>
                  <a:pt x="59" y="413"/>
                </a:lnTo>
                <a:lnTo>
                  <a:pt x="59" y="415"/>
                </a:lnTo>
                <a:lnTo>
                  <a:pt x="61" y="426"/>
                </a:lnTo>
                <a:lnTo>
                  <a:pt x="66" y="465"/>
                </a:lnTo>
                <a:lnTo>
                  <a:pt x="71" y="494"/>
                </a:lnTo>
                <a:lnTo>
                  <a:pt x="72" y="495"/>
                </a:lnTo>
                <a:lnTo>
                  <a:pt x="71" y="497"/>
                </a:lnTo>
                <a:lnTo>
                  <a:pt x="64" y="507"/>
                </a:lnTo>
                <a:lnTo>
                  <a:pt x="40" y="539"/>
                </a:lnTo>
                <a:lnTo>
                  <a:pt x="22" y="563"/>
                </a:lnTo>
                <a:lnTo>
                  <a:pt x="22" y="563"/>
                </a:lnTo>
                <a:lnTo>
                  <a:pt x="20" y="563"/>
                </a:lnTo>
                <a:lnTo>
                  <a:pt x="22" y="563"/>
                </a:lnTo>
                <a:lnTo>
                  <a:pt x="20" y="563"/>
                </a:lnTo>
                <a:lnTo>
                  <a:pt x="22" y="563"/>
                </a:lnTo>
                <a:lnTo>
                  <a:pt x="32" y="565"/>
                </a:lnTo>
                <a:lnTo>
                  <a:pt x="62" y="566"/>
                </a:lnTo>
                <a:lnTo>
                  <a:pt x="85" y="566"/>
                </a:lnTo>
                <a:lnTo>
                  <a:pt x="87" y="566"/>
                </a:lnTo>
                <a:lnTo>
                  <a:pt x="87" y="566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615080" y="4395960"/>
            <a:ext cx="214560" cy="201600"/>
          </a:xfrm>
          <a:custGeom>
            <a:avLst/>
            <a:gdLst/>
            <a:ahLst/>
            <a:rect l="l" t="t" r="r" b="b"/>
            <a:pathLst>
              <a:path w="622" h="612">
                <a:moveTo>
                  <a:pt x="342" y="173"/>
                </a:moveTo>
                <a:lnTo>
                  <a:pt x="348" y="181"/>
                </a:lnTo>
                <a:lnTo>
                  <a:pt x="368" y="202"/>
                </a:lnTo>
                <a:lnTo>
                  <a:pt x="384" y="218"/>
                </a:lnTo>
                <a:lnTo>
                  <a:pt x="386" y="218"/>
                </a:lnTo>
                <a:lnTo>
                  <a:pt x="391" y="217"/>
                </a:lnTo>
                <a:lnTo>
                  <a:pt x="412" y="210"/>
                </a:lnTo>
                <a:lnTo>
                  <a:pt x="428" y="205"/>
                </a:lnTo>
                <a:lnTo>
                  <a:pt x="429" y="204"/>
                </a:lnTo>
                <a:lnTo>
                  <a:pt x="430" y="205"/>
                </a:lnTo>
                <a:lnTo>
                  <a:pt x="449" y="214"/>
                </a:lnTo>
                <a:lnTo>
                  <a:pt x="513" y="242"/>
                </a:lnTo>
                <a:lnTo>
                  <a:pt x="561" y="263"/>
                </a:lnTo>
                <a:lnTo>
                  <a:pt x="564" y="263"/>
                </a:lnTo>
                <a:lnTo>
                  <a:pt x="564" y="275"/>
                </a:lnTo>
                <a:lnTo>
                  <a:pt x="562" y="310"/>
                </a:lnTo>
                <a:lnTo>
                  <a:pt x="562" y="336"/>
                </a:lnTo>
                <a:lnTo>
                  <a:pt x="564" y="336"/>
                </a:lnTo>
                <a:lnTo>
                  <a:pt x="572" y="342"/>
                </a:lnTo>
                <a:lnTo>
                  <a:pt x="598" y="355"/>
                </a:lnTo>
                <a:lnTo>
                  <a:pt x="620" y="365"/>
                </a:lnTo>
                <a:lnTo>
                  <a:pt x="622" y="365"/>
                </a:lnTo>
                <a:lnTo>
                  <a:pt x="622" y="379"/>
                </a:lnTo>
                <a:lnTo>
                  <a:pt x="620" y="421"/>
                </a:lnTo>
                <a:lnTo>
                  <a:pt x="620" y="453"/>
                </a:lnTo>
                <a:lnTo>
                  <a:pt x="622" y="455"/>
                </a:lnTo>
                <a:lnTo>
                  <a:pt x="620" y="455"/>
                </a:lnTo>
                <a:lnTo>
                  <a:pt x="617" y="455"/>
                </a:lnTo>
                <a:lnTo>
                  <a:pt x="604" y="455"/>
                </a:lnTo>
                <a:lnTo>
                  <a:pt x="594" y="455"/>
                </a:lnTo>
                <a:lnTo>
                  <a:pt x="594" y="455"/>
                </a:lnTo>
                <a:lnTo>
                  <a:pt x="593" y="456"/>
                </a:lnTo>
                <a:lnTo>
                  <a:pt x="587" y="466"/>
                </a:lnTo>
                <a:lnTo>
                  <a:pt x="565" y="499"/>
                </a:lnTo>
                <a:lnTo>
                  <a:pt x="549" y="526"/>
                </a:lnTo>
                <a:lnTo>
                  <a:pt x="549" y="526"/>
                </a:lnTo>
                <a:lnTo>
                  <a:pt x="546" y="528"/>
                </a:lnTo>
                <a:lnTo>
                  <a:pt x="530" y="540"/>
                </a:lnTo>
                <a:lnTo>
                  <a:pt x="477" y="581"/>
                </a:lnTo>
                <a:lnTo>
                  <a:pt x="435" y="611"/>
                </a:lnTo>
                <a:lnTo>
                  <a:pt x="433" y="612"/>
                </a:lnTo>
                <a:lnTo>
                  <a:pt x="430" y="612"/>
                </a:lnTo>
                <a:lnTo>
                  <a:pt x="412" y="612"/>
                </a:lnTo>
                <a:lnTo>
                  <a:pt x="349" y="612"/>
                </a:lnTo>
                <a:lnTo>
                  <a:pt x="301" y="612"/>
                </a:lnTo>
                <a:lnTo>
                  <a:pt x="300" y="611"/>
                </a:lnTo>
                <a:lnTo>
                  <a:pt x="296" y="605"/>
                </a:lnTo>
                <a:lnTo>
                  <a:pt x="284" y="586"/>
                </a:lnTo>
                <a:lnTo>
                  <a:pt x="275" y="572"/>
                </a:lnTo>
                <a:lnTo>
                  <a:pt x="275" y="570"/>
                </a:lnTo>
                <a:lnTo>
                  <a:pt x="277" y="569"/>
                </a:lnTo>
                <a:lnTo>
                  <a:pt x="287" y="553"/>
                </a:lnTo>
                <a:lnTo>
                  <a:pt x="325" y="499"/>
                </a:lnTo>
                <a:lnTo>
                  <a:pt x="354" y="457"/>
                </a:lnTo>
                <a:lnTo>
                  <a:pt x="357" y="455"/>
                </a:lnTo>
                <a:lnTo>
                  <a:pt x="354" y="453"/>
                </a:lnTo>
                <a:lnTo>
                  <a:pt x="339" y="443"/>
                </a:lnTo>
                <a:lnTo>
                  <a:pt x="291" y="408"/>
                </a:lnTo>
                <a:lnTo>
                  <a:pt x="255" y="382"/>
                </a:lnTo>
                <a:lnTo>
                  <a:pt x="254" y="379"/>
                </a:lnTo>
                <a:lnTo>
                  <a:pt x="252" y="379"/>
                </a:lnTo>
                <a:lnTo>
                  <a:pt x="242" y="379"/>
                </a:lnTo>
                <a:lnTo>
                  <a:pt x="212" y="379"/>
                </a:lnTo>
                <a:lnTo>
                  <a:pt x="188" y="379"/>
                </a:lnTo>
                <a:lnTo>
                  <a:pt x="188" y="379"/>
                </a:lnTo>
                <a:lnTo>
                  <a:pt x="183" y="371"/>
                </a:lnTo>
                <a:lnTo>
                  <a:pt x="170" y="344"/>
                </a:lnTo>
                <a:lnTo>
                  <a:pt x="159" y="323"/>
                </a:lnTo>
                <a:lnTo>
                  <a:pt x="159" y="321"/>
                </a:lnTo>
                <a:lnTo>
                  <a:pt x="157" y="321"/>
                </a:lnTo>
                <a:lnTo>
                  <a:pt x="145" y="321"/>
                </a:lnTo>
                <a:lnTo>
                  <a:pt x="104" y="321"/>
                </a:lnTo>
                <a:lnTo>
                  <a:pt x="74" y="321"/>
                </a:lnTo>
                <a:lnTo>
                  <a:pt x="73" y="321"/>
                </a:lnTo>
                <a:lnTo>
                  <a:pt x="71" y="320"/>
                </a:lnTo>
                <a:lnTo>
                  <a:pt x="61" y="304"/>
                </a:lnTo>
                <a:lnTo>
                  <a:pt x="26" y="250"/>
                </a:lnTo>
                <a:lnTo>
                  <a:pt x="0" y="210"/>
                </a:lnTo>
                <a:lnTo>
                  <a:pt x="0" y="207"/>
                </a:lnTo>
                <a:lnTo>
                  <a:pt x="0" y="205"/>
                </a:lnTo>
                <a:lnTo>
                  <a:pt x="4" y="189"/>
                </a:lnTo>
                <a:lnTo>
                  <a:pt x="20" y="133"/>
                </a:lnTo>
                <a:lnTo>
                  <a:pt x="32" y="89"/>
                </a:lnTo>
                <a:lnTo>
                  <a:pt x="33" y="87"/>
                </a:lnTo>
                <a:lnTo>
                  <a:pt x="49" y="78"/>
                </a:lnTo>
                <a:lnTo>
                  <a:pt x="97" y="50"/>
                </a:lnTo>
                <a:lnTo>
                  <a:pt x="133" y="29"/>
                </a:lnTo>
                <a:lnTo>
                  <a:pt x="136" y="27"/>
                </a:lnTo>
                <a:lnTo>
                  <a:pt x="139" y="27"/>
                </a:lnTo>
                <a:lnTo>
                  <a:pt x="161" y="24"/>
                </a:lnTo>
                <a:lnTo>
                  <a:pt x="236" y="11"/>
                </a:lnTo>
                <a:lnTo>
                  <a:pt x="293" y="1"/>
                </a:lnTo>
                <a:lnTo>
                  <a:pt x="297" y="0"/>
                </a:lnTo>
                <a:lnTo>
                  <a:pt x="297" y="1"/>
                </a:lnTo>
                <a:lnTo>
                  <a:pt x="297" y="7"/>
                </a:lnTo>
                <a:lnTo>
                  <a:pt x="297" y="27"/>
                </a:lnTo>
                <a:lnTo>
                  <a:pt x="297" y="42"/>
                </a:lnTo>
                <a:lnTo>
                  <a:pt x="299" y="42"/>
                </a:lnTo>
                <a:lnTo>
                  <a:pt x="304" y="44"/>
                </a:lnTo>
                <a:lnTo>
                  <a:pt x="325" y="52"/>
                </a:lnTo>
                <a:lnTo>
                  <a:pt x="341" y="56"/>
                </a:lnTo>
                <a:lnTo>
                  <a:pt x="342" y="56"/>
                </a:lnTo>
                <a:lnTo>
                  <a:pt x="341" y="56"/>
                </a:lnTo>
                <a:lnTo>
                  <a:pt x="342" y="56"/>
                </a:lnTo>
                <a:lnTo>
                  <a:pt x="341" y="56"/>
                </a:lnTo>
                <a:lnTo>
                  <a:pt x="342" y="56"/>
                </a:lnTo>
                <a:lnTo>
                  <a:pt x="342" y="75"/>
                </a:lnTo>
                <a:lnTo>
                  <a:pt x="341" y="130"/>
                </a:lnTo>
                <a:lnTo>
                  <a:pt x="341" y="172"/>
                </a:lnTo>
                <a:lnTo>
                  <a:pt x="342" y="173"/>
                </a:lnTo>
                <a:lnTo>
                  <a:pt x="342" y="173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615080" y="3740040"/>
            <a:ext cx="139680" cy="169920"/>
          </a:xfrm>
          <a:custGeom>
            <a:avLst/>
            <a:gdLst/>
            <a:ahLst/>
            <a:rect l="l" t="t" r="r" b="b"/>
            <a:pathLst>
              <a:path w="402" h="514">
                <a:moveTo>
                  <a:pt x="63" y="14"/>
                </a:moveTo>
                <a:lnTo>
                  <a:pt x="62" y="16"/>
                </a:lnTo>
                <a:lnTo>
                  <a:pt x="56" y="20"/>
                </a:lnTo>
                <a:lnTo>
                  <a:pt x="34" y="33"/>
                </a:lnTo>
                <a:lnTo>
                  <a:pt x="18" y="43"/>
                </a:lnTo>
                <a:lnTo>
                  <a:pt x="18" y="43"/>
                </a:lnTo>
                <a:lnTo>
                  <a:pt x="24" y="50"/>
                </a:lnTo>
                <a:lnTo>
                  <a:pt x="42" y="71"/>
                </a:lnTo>
                <a:lnTo>
                  <a:pt x="55" y="85"/>
                </a:lnTo>
                <a:lnTo>
                  <a:pt x="56" y="85"/>
                </a:lnTo>
                <a:lnTo>
                  <a:pt x="55" y="87"/>
                </a:lnTo>
                <a:lnTo>
                  <a:pt x="52" y="92"/>
                </a:lnTo>
                <a:lnTo>
                  <a:pt x="39" y="114"/>
                </a:lnTo>
                <a:lnTo>
                  <a:pt x="29" y="130"/>
                </a:lnTo>
                <a:lnTo>
                  <a:pt x="29" y="130"/>
                </a:lnTo>
                <a:lnTo>
                  <a:pt x="27" y="130"/>
                </a:lnTo>
                <a:lnTo>
                  <a:pt x="23" y="130"/>
                </a:lnTo>
                <a:lnTo>
                  <a:pt x="10" y="130"/>
                </a:lnTo>
                <a:lnTo>
                  <a:pt x="0" y="130"/>
                </a:lnTo>
                <a:lnTo>
                  <a:pt x="0" y="130"/>
                </a:lnTo>
                <a:lnTo>
                  <a:pt x="0" y="132"/>
                </a:lnTo>
                <a:lnTo>
                  <a:pt x="3" y="142"/>
                </a:lnTo>
                <a:lnTo>
                  <a:pt x="13" y="176"/>
                </a:lnTo>
                <a:lnTo>
                  <a:pt x="21" y="203"/>
                </a:lnTo>
                <a:lnTo>
                  <a:pt x="23" y="203"/>
                </a:lnTo>
                <a:lnTo>
                  <a:pt x="33" y="207"/>
                </a:lnTo>
                <a:lnTo>
                  <a:pt x="66" y="216"/>
                </a:lnTo>
                <a:lnTo>
                  <a:pt x="92" y="221"/>
                </a:lnTo>
                <a:lnTo>
                  <a:pt x="94" y="221"/>
                </a:lnTo>
                <a:lnTo>
                  <a:pt x="94" y="229"/>
                </a:lnTo>
                <a:lnTo>
                  <a:pt x="92" y="249"/>
                </a:lnTo>
                <a:lnTo>
                  <a:pt x="92" y="265"/>
                </a:lnTo>
                <a:lnTo>
                  <a:pt x="94" y="265"/>
                </a:lnTo>
                <a:lnTo>
                  <a:pt x="98" y="268"/>
                </a:lnTo>
                <a:lnTo>
                  <a:pt x="111" y="275"/>
                </a:lnTo>
                <a:lnTo>
                  <a:pt x="121" y="281"/>
                </a:lnTo>
                <a:lnTo>
                  <a:pt x="123" y="281"/>
                </a:lnTo>
                <a:lnTo>
                  <a:pt x="123" y="285"/>
                </a:lnTo>
                <a:lnTo>
                  <a:pt x="127" y="311"/>
                </a:lnTo>
                <a:lnTo>
                  <a:pt x="140" y="401"/>
                </a:lnTo>
                <a:lnTo>
                  <a:pt x="150" y="469"/>
                </a:lnTo>
                <a:lnTo>
                  <a:pt x="152" y="472"/>
                </a:lnTo>
                <a:lnTo>
                  <a:pt x="156" y="479"/>
                </a:lnTo>
                <a:lnTo>
                  <a:pt x="171" y="500"/>
                </a:lnTo>
                <a:lnTo>
                  <a:pt x="181" y="514"/>
                </a:lnTo>
                <a:lnTo>
                  <a:pt x="182" y="514"/>
                </a:lnTo>
                <a:lnTo>
                  <a:pt x="185" y="514"/>
                </a:lnTo>
                <a:lnTo>
                  <a:pt x="216" y="504"/>
                </a:lnTo>
                <a:lnTo>
                  <a:pt x="318" y="469"/>
                </a:lnTo>
                <a:lnTo>
                  <a:pt x="398" y="443"/>
                </a:lnTo>
                <a:lnTo>
                  <a:pt x="402" y="442"/>
                </a:lnTo>
                <a:lnTo>
                  <a:pt x="395" y="431"/>
                </a:lnTo>
                <a:lnTo>
                  <a:pt x="373" y="397"/>
                </a:lnTo>
                <a:lnTo>
                  <a:pt x="358" y="371"/>
                </a:lnTo>
                <a:lnTo>
                  <a:pt x="358" y="369"/>
                </a:lnTo>
                <a:lnTo>
                  <a:pt x="346" y="365"/>
                </a:lnTo>
                <a:lnTo>
                  <a:pt x="311" y="350"/>
                </a:lnTo>
                <a:lnTo>
                  <a:pt x="285" y="340"/>
                </a:lnTo>
                <a:lnTo>
                  <a:pt x="285" y="339"/>
                </a:lnTo>
                <a:lnTo>
                  <a:pt x="285" y="326"/>
                </a:lnTo>
                <a:lnTo>
                  <a:pt x="284" y="284"/>
                </a:lnTo>
                <a:lnTo>
                  <a:pt x="284" y="253"/>
                </a:lnTo>
                <a:lnTo>
                  <a:pt x="285" y="250"/>
                </a:lnTo>
                <a:lnTo>
                  <a:pt x="287" y="249"/>
                </a:lnTo>
                <a:lnTo>
                  <a:pt x="302" y="233"/>
                </a:lnTo>
                <a:lnTo>
                  <a:pt x="358" y="176"/>
                </a:lnTo>
                <a:lnTo>
                  <a:pt x="400" y="134"/>
                </a:lnTo>
                <a:lnTo>
                  <a:pt x="402" y="132"/>
                </a:lnTo>
                <a:lnTo>
                  <a:pt x="400" y="133"/>
                </a:lnTo>
                <a:lnTo>
                  <a:pt x="381" y="134"/>
                </a:lnTo>
                <a:lnTo>
                  <a:pt x="317" y="142"/>
                </a:lnTo>
                <a:lnTo>
                  <a:pt x="268" y="146"/>
                </a:lnTo>
                <a:lnTo>
                  <a:pt x="266" y="146"/>
                </a:lnTo>
                <a:lnTo>
                  <a:pt x="263" y="145"/>
                </a:lnTo>
                <a:lnTo>
                  <a:pt x="245" y="124"/>
                </a:lnTo>
                <a:lnTo>
                  <a:pt x="179" y="55"/>
                </a:lnTo>
                <a:lnTo>
                  <a:pt x="130" y="3"/>
                </a:lnTo>
                <a:lnTo>
                  <a:pt x="129" y="0"/>
                </a:lnTo>
                <a:lnTo>
                  <a:pt x="127" y="0"/>
                </a:lnTo>
                <a:lnTo>
                  <a:pt x="129" y="0"/>
                </a:lnTo>
                <a:lnTo>
                  <a:pt x="127" y="0"/>
                </a:lnTo>
                <a:lnTo>
                  <a:pt x="129" y="0"/>
                </a:lnTo>
                <a:lnTo>
                  <a:pt x="117" y="3"/>
                </a:lnTo>
                <a:lnTo>
                  <a:pt x="87" y="10"/>
                </a:lnTo>
                <a:lnTo>
                  <a:pt x="63" y="14"/>
                </a:lnTo>
                <a:lnTo>
                  <a:pt x="63" y="14"/>
                </a:lnTo>
                <a:lnTo>
                  <a:pt x="63" y="14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713720" y="3782880"/>
            <a:ext cx="111240" cy="103320"/>
          </a:xfrm>
          <a:custGeom>
            <a:avLst/>
            <a:gdLst/>
            <a:ahLst/>
            <a:rect l="l" t="t" r="r" b="b"/>
            <a:pathLst>
              <a:path w="324" h="314">
                <a:moveTo>
                  <a:pt x="1" y="121"/>
                </a:moveTo>
                <a:lnTo>
                  <a:pt x="1" y="136"/>
                </a:lnTo>
                <a:lnTo>
                  <a:pt x="0" y="178"/>
                </a:lnTo>
                <a:lnTo>
                  <a:pt x="0" y="208"/>
                </a:lnTo>
                <a:lnTo>
                  <a:pt x="1" y="210"/>
                </a:lnTo>
                <a:lnTo>
                  <a:pt x="13" y="216"/>
                </a:lnTo>
                <a:lnTo>
                  <a:pt x="49" y="230"/>
                </a:lnTo>
                <a:lnTo>
                  <a:pt x="76" y="242"/>
                </a:lnTo>
                <a:lnTo>
                  <a:pt x="79" y="242"/>
                </a:lnTo>
                <a:lnTo>
                  <a:pt x="85" y="253"/>
                </a:lnTo>
                <a:lnTo>
                  <a:pt x="103" y="288"/>
                </a:lnTo>
                <a:lnTo>
                  <a:pt x="116" y="314"/>
                </a:lnTo>
                <a:lnTo>
                  <a:pt x="117" y="314"/>
                </a:lnTo>
                <a:lnTo>
                  <a:pt x="123" y="307"/>
                </a:lnTo>
                <a:lnTo>
                  <a:pt x="145" y="287"/>
                </a:lnTo>
                <a:lnTo>
                  <a:pt x="160" y="269"/>
                </a:lnTo>
                <a:lnTo>
                  <a:pt x="162" y="268"/>
                </a:lnTo>
                <a:lnTo>
                  <a:pt x="171" y="274"/>
                </a:lnTo>
                <a:lnTo>
                  <a:pt x="198" y="288"/>
                </a:lnTo>
                <a:lnTo>
                  <a:pt x="220" y="298"/>
                </a:lnTo>
                <a:lnTo>
                  <a:pt x="221" y="298"/>
                </a:lnTo>
                <a:lnTo>
                  <a:pt x="223" y="298"/>
                </a:lnTo>
                <a:lnTo>
                  <a:pt x="231" y="297"/>
                </a:lnTo>
                <a:lnTo>
                  <a:pt x="266" y="289"/>
                </a:lnTo>
                <a:lnTo>
                  <a:pt x="292" y="285"/>
                </a:lnTo>
                <a:lnTo>
                  <a:pt x="295" y="284"/>
                </a:lnTo>
                <a:lnTo>
                  <a:pt x="295" y="282"/>
                </a:lnTo>
                <a:lnTo>
                  <a:pt x="300" y="266"/>
                </a:lnTo>
                <a:lnTo>
                  <a:pt x="313" y="211"/>
                </a:lnTo>
                <a:lnTo>
                  <a:pt x="323" y="169"/>
                </a:lnTo>
                <a:lnTo>
                  <a:pt x="324" y="166"/>
                </a:lnTo>
                <a:lnTo>
                  <a:pt x="318" y="160"/>
                </a:lnTo>
                <a:lnTo>
                  <a:pt x="305" y="139"/>
                </a:lnTo>
                <a:lnTo>
                  <a:pt x="295" y="123"/>
                </a:lnTo>
                <a:lnTo>
                  <a:pt x="295" y="121"/>
                </a:lnTo>
                <a:lnTo>
                  <a:pt x="298" y="114"/>
                </a:lnTo>
                <a:lnTo>
                  <a:pt x="310" y="88"/>
                </a:lnTo>
                <a:lnTo>
                  <a:pt x="318" y="68"/>
                </a:lnTo>
                <a:lnTo>
                  <a:pt x="320" y="66"/>
                </a:lnTo>
                <a:lnTo>
                  <a:pt x="318" y="66"/>
                </a:lnTo>
                <a:lnTo>
                  <a:pt x="308" y="66"/>
                </a:lnTo>
                <a:lnTo>
                  <a:pt x="278" y="62"/>
                </a:lnTo>
                <a:lnTo>
                  <a:pt x="253" y="61"/>
                </a:lnTo>
                <a:lnTo>
                  <a:pt x="253" y="59"/>
                </a:lnTo>
                <a:lnTo>
                  <a:pt x="237" y="50"/>
                </a:lnTo>
                <a:lnTo>
                  <a:pt x="189" y="23"/>
                </a:lnTo>
                <a:lnTo>
                  <a:pt x="153" y="1"/>
                </a:lnTo>
                <a:lnTo>
                  <a:pt x="152" y="0"/>
                </a:lnTo>
                <a:lnTo>
                  <a:pt x="146" y="1"/>
                </a:lnTo>
                <a:lnTo>
                  <a:pt x="130" y="3"/>
                </a:lnTo>
                <a:lnTo>
                  <a:pt x="117" y="3"/>
                </a:lnTo>
                <a:lnTo>
                  <a:pt x="117" y="3"/>
                </a:lnTo>
                <a:lnTo>
                  <a:pt x="116" y="3"/>
                </a:lnTo>
                <a:lnTo>
                  <a:pt x="117" y="3"/>
                </a:lnTo>
                <a:lnTo>
                  <a:pt x="116" y="3"/>
                </a:lnTo>
                <a:lnTo>
                  <a:pt x="117" y="3"/>
                </a:lnTo>
                <a:lnTo>
                  <a:pt x="114" y="5"/>
                </a:lnTo>
                <a:lnTo>
                  <a:pt x="98" y="21"/>
                </a:lnTo>
                <a:lnTo>
                  <a:pt x="45" y="78"/>
                </a:lnTo>
                <a:lnTo>
                  <a:pt x="3" y="120"/>
                </a:lnTo>
                <a:lnTo>
                  <a:pt x="1" y="121"/>
                </a:lnTo>
                <a:lnTo>
                  <a:pt x="1" y="121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815240" y="3805200"/>
            <a:ext cx="57240" cy="81000"/>
          </a:xfrm>
          <a:custGeom>
            <a:avLst/>
            <a:gdLst/>
            <a:ahLst/>
            <a:rect l="l" t="t" r="r" b="b"/>
            <a:pathLst>
              <a:path w="167" h="248">
                <a:moveTo>
                  <a:pt x="0" y="56"/>
                </a:moveTo>
                <a:lnTo>
                  <a:pt x="5" y="64"/>
                </a:lnTo>
                <a:lnTo>
                  <a:pt x="18" y="85"/>
                </a:lnTo>
                <a:lnTo>
                  <a:pt x="28" y="101"/>
                </a:lnTo>
                <a:lnTo>
                  <a:pt x="29" y="101"/>
                </a:lnTo>
                <a:lnTo>
                  <a:pt x="28" y="104"/>
                </a:lnTo>
                <a:lnTo>
                  <a:pt x="23" y="120"/>
                </a:lnTo>
                <a:lnTo>
                  <a:pt x="10" y="175"/>
                </a:lnTo>
                <a:lnTo>
                  <a:pt x="0" y="217"/>
                </a:lnTo>
                <a:lnTo>
                  <a:pt x="0" y="219"/>
                </a:lnTo>
                <a:lnTo>
                  <a:pt x="6" y="224"/>
                </a:lnTo>
                <a:lnTo>
                  <a:pt x="26" y="237"/>
                </a:lnTo>
                <a:lnTo>
                  <a:pt x="42" y="248"/>
                </a:lnTo>
                <a:lnTo>
                  <a:pt x="44" y="248"/>
                </a:lnTo>
                <a:lnTo>
                  <a:pt x="49" y="246"/>
                </a:lnTo>
                <a:lnTo>
                  <a:pt x="71" y="239"/>
                </a:lnTo>
                <a:lnTo>
                  <a:pt x="87" y="235"/>
                </a:lnTo>
                <a:lnTo>
                  <a:pt x="89" y="233"/>
                </a:lnTo>
                <a:lnTo>
                  <a:pt x="90" y="230"/>
                </a:lnTo>
                <a:lnTo>
                  <a:pt x="100" y="210"/>
                </a:lnTo>
                <a:lnTo>
                  <a:pt x="136" y="140"/>
                </a:lnTo>
                <a:lnTo>
                  <a:pt x="164" y="87"/>
                </a:lnTo>
                <a:lnTo>
                  <a:pt x="167" y="82"/>
                </a:lnTo>
                <a:lnTo>
                  <a:pt x="164" y="81"/>
                </a:lnTo>
                <a:lnTo>
                  <a:pt x="149" y="71"/>
                </a:lnTo>
                <a:lnTo>
                  <a:pt x="99" y="36"/>
                </a:lnTo>
                <a:lnTo>
                  <a:pt x="61" y="10"/>
                </a:lnTo>
                <a:lnTo>
                  <a:pt x="60" y="7"/>
                </a:lnTo>
                <a:lnTo>
                  <a:pt x="58" y="7"/>
                </a:lnTo>
                <a:lnTo>
                  <a:pt x="54" y="7"/>
                </a:lnTo>
                <a:lnTo>
                  <a:pt x="38" y="3"/>
                </a:lnTo>
                <a:lnTo>
                  <a:pt x="25" y="1"/>
                </a:lnTo>
                <a:lnTo>
                  <a:pt x="25" y="0"/>
                </a:lnTo>
                <a:lnTo>
                  <a:pt x="23" y="0"/>
                </a:lnTo>
                <a:lnTo>
                  <a:pt x="25" y="0"/>
                </a:lnTo>
                <a:lnTo>
                  <a:pt x="23" y="0"/>
                </a:lnTo>
                <a:lnTo>
                  <a:pt x="25" y="0"/>
                </a:lnTo>
                <a:lnTo>
                  <a:pt x="23" y="1"/>
                </a:lnTo>
                <a:lnTo>
                  <a:pt x="20" y="10"/>
                </a:lnTo>
                <a:lnTo>
                  <a:pt x="9" y="36"/>
                </a:lnTo>
                <a:lnTo>
                  <a:pt x="0" y="56"/>
                </a:lnTo>
                <a:lnTo>
                  <a:pt x="0" y="56"/>
                </a:lnTo>
                <a:lnTo>
                  <a:pt x="0" y="56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294680" y="3808440"/>
            <a:ext cx="1028520" cy="915840"/>
          </a:xfrm>
          <a:custGeom>
            <a:avLst/>
            <a:gdLst/>
            <a:ahLst/>
            <a:rect l="l" t="t" r="r" b="b"/>
            <a:pathLst>
              <a:path w="2983" h="2805">
                <a:moveTo>
                  <a:pt x="1716" y="100"/>
                </a:moveTo>
                <a:lnTo>
                  <a:pt x="1727" y="118"/>
                </a:lnTo>
                <a:lnTo>
                  <a:pt x="1761" y="172"/>
                </a:lnTo>
                <a:lnTo>
                  <a:pt x="1787" y="214"/>
                </a:lnTo>
                <a:lnTo>
                  <a:pt x="1789" y="215"/>
                </a:lnTo>
                <a:lnTo>
                  <a:pt x="1798" y="221"/>
                </a:lnTo>
                <a:lnTo>
                  <a:pt x="1825" y="236"/>
                </a:lnTo>
                <a:lnTo>
                  <a:pt x="1847" y="246"/>
                </a:lnTo>
                <a:lnTo>
                  <a:pt x="1848" y="246"/>
                </a:lnTo>
                <a:lnTo>
                  <a:pt x="1844" y="252"/>
                </a:lnTo>
                <a:lnTo>
                  <a:pt x="1822" y="281"/>
                </a:lnTo>
                <a:lnTo>
                  <a:pt x="1747" y="385"/>
                </a:lnTo>
                <a:lnTo>
                  <a:pt x="1689" y="463"/>
                </a:lnTo>
                <a:lnTo>
                  <a:pt x="1686" y="468"/>
                </a:lnTo>
                <a:lnTo>
                  <a:pt x="1687" y="468"/>
                </a:lnTo>
                <a:lnTo>
                  <a:pt x="1700" y="465"/>
                </a:lnTo>
                <a:lnTo>
                  <a:pt x="1745" y="455"/>
                </a:lnTo>
                <a:lnTo>
                  <a:pt x="1779" y="446"/>
                </a:lnTo>
                <a:lnTo>
                  <a:pt x="1782" y="444"/>
                </a:lnTo>
                <a:lnTo>
                  <a:pt x="1792" y="437"/>
                </a:lnTo>
                <a:lnTo>
                  <a:pt x="1822" y="413"/>
                </a:lnTo>
                <a:lnTo>
                  <a:pt x="1847" y="394"/>
                </a:lnTo>
                <a:lnTo>
                  <a:pt x="1848" y="392"/>
                </a:lnTo>
                <a:lnTo>
                  <a:pt x="1857" y="394"/>
                </a:lnTo>
                <a:lnTo>
                  <a:pt x="1884" y="394"/>
                </a:lnTo>
                <a:lnTo>
                  <a:pt x="1906" y="394"/>
                </a:lnTo>
                <a:lnTo>
                  <a:pt x="1908" y="394"/>
                </a:lnTo>
                <a:lnTo>
                  <a:pt x="1905" y="404"/>
                </a:lnTo>
                <a:lnTo>
                  <a:pt x="1897" y="431"/>
                </a:lnTo>
                <a:lnTo>
                  <a:pt x="1893" y="453"/>
                </a:lnTo>
                <a:lnTo>
                  <a:pt x="1893" y="453"/>
                </a:lnTo>
                <a:lnTo>
                  <a:pt x="1890" y="455"/>
                </a:lnTo>
                <a:lnTo>
                  <a:pt x="1880" y="456"/>
                </a:lnTo>
                <a:lnTo>
                  <a:pt x="1845" y="463"/>
                </a:lnTo>
                <a:lnTo>
                  <a:pt x="1819" y="468"/>
                </a:lnTo>
                <a:lnTo>
                  <a:pt x="1818" y="468"/>
                </a:lnTo>
                <a:lnTo>
                  <a:pt x="1831" y="473"/>
                </a:lnTo>
                <a:lnTo>
                  <a:pt x="1873" y="486"/>
                </a:lnTo>
                <a:lnTo>
                  <a:pt x="1905" y="497"/>
                </a:lnTo>
                <a:lnTo>
                  <a:pt x="1908" y="497"/>
                </a:lnTo>
                <a:lnTo>
                  <a:pt x="1918" y="486"/>
                </a:lnTo>
                <a:lnTo>
                  <a:pt x="1953" y="452"/>
                </a:lnTo>
                <a:lnTo>
                  <a:pt x="1979" y="426"/>
                </a:lnTo>
                <a:lnTo>
                  <a:pt x="1980" y="423"/>
                </a:lnTo>
                <a:lnTo>
                  <a:pt x="1983" y="423"/>
                </a:lnTo>
                <a:lnTo>
                  <a:pt x="2009" y="421"/>
                </a:lnTo>
                <a:lnTo>
                  <a:pt x="2095" y="414"/>
                </a:lnTo>
                <a:lnTo>
                  <a:pt x="2161" y="410"/>
                </a:lnTo>
                <a:lnTo>
                  <a:pt x="2166" y="408"/>
                </a:lnTo>
                <a:lnTo>
                  <a:pt x="2166" y="410"/>
                </a:lnTo>
                <a:lnTo>
                  <a:pt x="2167" y="414"/>
                </a:lnTo>
                <a:lnTo>
                  <a:pt x="2174" y="431"/>
                </a:lnTo>
                <a:lnTo>
                  <a:pt x="2179" y="444"/>
                </a:lnTo>
                <a:lnTo>
                  <a:pt x="2180" y="444"/>
                </a:lnTo>
                <a:lnTo>
                  <a:pt x="2184" y="444"/>
                </a:lnTo>
                <a:lnTo>
                  <a:pt x="2197" y="440"/>
                </a:lnTo>
                <a:lnTo>
                  <a:pt x="2208" y="439"/>
                </a:lnTo>
                <a:lnTo>
                  <a:pt x="2209" y="437"/>
                </a:lnTo>
                <a:lnTo>
                  <a:pt x="2209" y="447"/>
                </a:lnTo>
                <a:lnTo>
                  <a:pt x="2208" y="475"/>
                </a:lnTo>
                <a:lnTo>
                  <a:pt x="2208" y="497"/>
                </a:lnTo>
                <a:lnTo>
                  <a:pt x="2209" y="497"/>
                </a:lnTo>
                <a:lnTo>
                  <a:pt x="2215" y="499"/>
                </a:lnTo>
                <a:lnTo>
                  <a:pt x="2235" y="507"/>
                </a:lnTo>
                <a:lnTo>
                  <a:pt x="2250" y="513"/>
                </a:lnTo>
                <a:lnTo>
                  <a:pt x="2251" y="513"/>
                </a:lnTo>
                <a:lnTo>
                  <a:pt x="2250" y="514"/>
                </a:lnTo>
                <a:lnTo>
                  <a:pt x="2248" y="517"/>
                </a:lnTo>
                <a:lnTo>
                  <a:pt x="2242" y="528"/>
                </a:lnTo>
                <a:lnTo>
                  <a:pt x="2238" y="537"/>
                </a:lnTo>
                <a:lnTo>
                  <a:pt x="2238" y="537"/>
                </a:lnTo>
                <a:lnTo>
                  <a:pt x="2239" y="537"/>
                </a:lnTo>
                <a:lnTo>
                  <a:pt x="2258" y="536"/>
                </a:lnTo>
                <a:lnTo>
                  <a:pt x="2322" y="530"/>
                </a:lnTo>
                <a:lnTo>
                  <a:pt x="2371" y="526"/>
                </a:lnTo>
                <a:lnTo>
                  <a:pt x="2374" y="524"/>
                </a:lnTo>
                <a:lnTo>
                  <a:pt x="2376" y="526"/>
                </a:lnTo>
                <a:lnTo>
                  <a:pt x="2392" y="533"/>
                </a:lnTo>
                <a:lnTo>
                  <a:pt x="2444" y="555"/>
                </a:lnTo>
                <a:lnTo>
                  <a:pt x="2483" y="572"/>
                </a:lnTo>
                <a:lnTo>
                  <a:pt x="2486" y="572"/>
                </a:lnTo>
                <a:lnTo>
                  <a:pt x="2494" y="563"/>
                </a:lnTo>
                <a:lnTo>
                  <a:pt x="2523" y="534"/>
                </a:lnTo>
                <a:lnTo>
                  <a:pt x="2545" y="513"/>
                </a:lnTo>
                <a:lnTo>
                  <a:pt x="2547" y="511"/>
                </a:lnTo>
                <a:lnTo>
                  <a:pt x="2555" y="514"/>
                </a:lnTo>
                <a:lnTo>
                  <a:pt x="2581" y="521"/>
                </a:lnTo>
                <a:lnTo>
                  <a:pt x="2602" y="527"/>
                </a:lnTo>
                <a:lnTo>
                  <a:pt x="2603" y="527"/>
                </a:lnTo>
                <a:lnTo>
                  <a:pt x="2606" y="531"/>
                </a:lnTo>
                <a:lnTo>
                  <a:pt x="2632" y="553"/>
                </a:lnTo>
                <a:lnTo>
                  <a:pt x="2719" y="626"/>
                </a:lnTo>
                <a:lnTo>
                  <a:pt x="2786" y="682"/>
                </a:lnTo>
                <a:lnTo>
                  <a:pt x="2790" y="685"/>
                </a:lnTo>
                <a:lnTo>
                  <a:pt x="2797" y="686"/>
                </a:lnTo>
                <a:lnTo>
                  <a:pt x="2822" y="688"/>
                </a:lnTo>
                <a:lnTo>
                  <a:pt x="2841" y="688"/>
                </a:lnTo>
                <a:lnTo>
                  <a:pt x="2842" y="688"/>
                </a:lnTo>
                <a:lnTo>
                  <a:pt x="2849" y="683"/>
                </a:lnTo>
                <a:lnTo>
                  <a:pt x="2873" y="670"/>
                </a:lnTo>
                <a:lnTo>
                  <a:pt x="2891" y="660"/>
                </a:lnTo>
                <a:lnTo>
                  <a:pt x="2893" y="659"/>
                </a:lnTo>
                <a:lnTo>
                  <a:pt x="2900" y="665"/>
                </a:lnTo>
                <a:lnTo>
                  <a:pt x="2926" y="678"/>
                </a:lnTo>
                <a:lnTo>
                  <a:pt x="2945" y="688"/>
                </a:lnTo>
                <a:lnTo>
                  <a:pt x="2946" y="688"/>
                </a:lnTo>
                <a:lnTo>
                  <a:pt x="2946" y="692"/>
                </a:lnTo>
                <a:lnTo>
                  <a:pt x="2951" y="720"/>
                </a:lnTo>
                <a:lnTo>
                  <a:pt x="2968" y="812"/>
                </a:lnTo>
                <a:lnTo>
                  <a:pt x="2981" y="883"/>
                </a:lnTo>
                <a:lnTo>
                  <a:pt x="2983" y="886"/>
                </a:lnTo>
                <a:lnTo>
                  <a:pt x="2981" y="889"/>
                </a:lnTo>
                <a:lnTo>
                  <a:pt x="2977" y="902"/>
                </a:lnTo>
                <a:lnTo>
                  <a:pt x="2962" y="947"/>
                </a:lnTo>
                <a:lnTo>
                  <a:pt x="2952" y="982"/>
                </a:lnTo>
                <a:lnTo>
                  <a:pt x="2952" y="983"/>
                </a:lnTo>
                <a:lnTo>
                  <a:pt x="2951" y="985"/>
                </a:lnTo>
                <a:lnTo>
                  <a:pt x="2941" y="989"/>
                </a:lnTo>
                <a:lnTo>
                  <a:pt x="2910" y="1004"/>
                </a:lnTo>
                <a:lnTo>
                  <a:pt x="2886" y="1014"/>
                </a:lnTo>
                <a:lnTo>
                  <a:pt x="2886" y="1014"/>
                </a:lnTo>
                <a:lnTo>
                  <a:pt x="2881" y="1018"/>
                </a:lnTo>
                <a:lnTo>
                  <a:pt x="2858" y="1047"/>
                </a:lnTo>
                <a:lnTo>
                  <a:pt x="2780" y="1147"/>
                </a:lnTo>
                <a:lnTo>
                  <a:pt x="2720" y="1224"/>
                </a:lnTo>
                <a:lnTo>
                  <a:pt x="2718" y="1227"/>
                </a:lnTo>
                <a:lnTo>
                  <a:pt x="2716" y="1228"/>
                </a:lnTo>
                <a:lnTo>
                  <a:pt x="2709" y="1234"/>
                </a:lnTo>
                <a:lnTo>
                  <a:pt x="2683" y="1251"/>
                </a:lnTo>
                <a:lnTo>
                  <a:pt x="2664" y="1266"/>
                </a:lnTo>
                <a:lnTo>
                  <a:pt x="2664" y="1266"/>
                </a:lnTo>
                <a:lnTo>
                  <a:pt x="2664" y="1269"/>
                </a:lnTo>
                <a:lnTo>
                  <a:pt x="2665" y="1288"/>
                </a:lnTo>
                <a:lnTo>
                  <a:pt x="2670" y="1351"/>
                </a:lnTo>
                <a:lnTo>
                  <a:pt x="2673" y="1399"/>
                </a:lnTo>
                <a:lnTo>
                  <a:pt x="2674" y="1401"/>
                </a:lnTo>
                <a:lnTo>
                  <a:pt x="2673" y="1404"/>
                </a:lnTo>
                <a:lnTo>
                  <a:pt x="2667" y="1420"/>
                </a:lnTo>
                <a:lnTo>
                  <a:pt x="2649" y="1472"/>
                </a:lnTo>
                <a:lnTo>
                  <a:pt x="2636" y="1512"/>
                </a:lnTo>
                <a:lnTo>
                  <a:pt x="2636" y="1514"/>
                </a:lnTo>
                <a:lnTo>
                  <a:pt x="2636" y="1533"/>
                </a:lnTo>
                <a:lnTo>
                  <a:pt x="2635" y="1589"/>
                </a:lnTo>
                <a:lnTo>
                  <a:pt x="2635" y="1631"/>
                </a:lnTo>
                <a:lnTo>
                  <a:pt x="2636" y="1633"/>
                </a:lnTo>
                <a:lnTo>
                  <a:pt x="2632" y="1640"/>
                </a:lnTo>
                <a:lnTo>
                  <a:pt x="2606" y="1688"/>
                </a:lnTo>
                <a:lnTo>
                  <a:pt x="2516" y="1848"/>
                </a:lnTo>
                <a:lnTo>
                  <a:pt x="2448" y="1972"/>
                </a:lnTo>
                <a:lnTo>
                  <a:pt x="2445" y="1977"/>
                </a:lnTo>
                <a:lnTo>
                  <a:pt x="2444" y="1979"/>
                </a:lnTo>
                <a:lnTo>
                  <a:pt x="2438" y="1983"/>
                </a:lnTo>
                <a:lnTo>
                  <a:pt x="2418" y="1999"/>
                </a:lnTo>
                <a:lnTo>
                  <a:pt x="2402" y="2011"/>
                </a:lnTo>
                <a:lnTo>
                  <a:pt x="2402" y="2011"/>
                </a:lnTo>
                <a:lnTo>
                  <a:pt x="2386" y="2012"/>
                </a:lnTo>
                <a:lnTo>
                  <a:pt x="2339" y="2014"/>
                </a:lnTo>
                <a:lnTo>
                  <a:pt x="2305" y="2014"/>
                </a:lnTo>
                <a:lnTo>
                  <a:pt x="2303" y="2014"/>
                </a:lnTo>
                <a:lnTo>
                  <a:pt x="2300" y="2017"/>
                </a:lnTo>
                <a:lnTo>
                  <a:pt x="2283" y="2027"/>
                </a:lnTo>
                <a:lnTo>
                  <a:pt x="2225" y="2066"/>
                </a:lnTo>
                <a:lnTo>
                  <a:pt x="2181" y="2095"/>
                </a:lnTo>
                <a:lnTo>
                  <a:pt x="2180" y="2096"/>
                </a:lnTo>
                <a:lnTo>
                  <a:pt x="2179" y="2096"/>
                </a:lnTo>
                <a:lnTo>
                  <a:pt x="2170" y="2096"/>
                </a:lnTo>
                <a:lnTo>
                  <a:pt x="2142" y="2096"/>
                </a:lnTo>
                <a:lnTo>
                  <a:pt x="2121" y="2096"/>
                </a:lnTo>
                <a:lnTo>
                  <a:pt x="2121" y="2096"/>
                </a:lnTo>
                <a:lnTo>
                  <a:pt x="2116" y="2099"/>
                </a:lnTo>
                <a:lnTo>
                  <a:pt x="2092" y="2118"/>
                </a:lnTo>
                <a:lnTo>
                  <a:pt x="2005" y="2179"/>
                </a:lnTo>
                <a:lnTo>
                  <a:pt x="1938" y="2227"/>
                </a:lnTo>
                <a:lnTo>
                  <a:pt x="1935" y="2228"/>
                </a:lnTo>
                <a:lnTo>
                  <a:pt x="1934" y="2232"/>
                </a:lnTo>
                <a:lnTo>
                  <a:pt x="1932" y="2260"/>
                </a:lnTo>
                <a:lnTo>
                  <a:pt x="1925" y="2353"/>
                </a:lnTo>
                <a:lnTo>
                  <a:pt x="1921" y="2424"/>
                </a:lnTo>
                <a:lnTo>
                  <a:pt x="1921" y="2427"/>
                </a:lnTo>
                <a:lnTo>
                  <a:pt x="1916" y="2432"/>
                </a:lnTo>
                <a:lnTo>
                  <a:pt x="1892" y="2470"/>
                </a:lnTo>
                <a:lnTo>
                  <a:pt x="1809" y="2596"/>
                </a:lnTo>
                <a:lnTo>
                  <a:pt x="1745" y="2693"/>
                </a:lnTo>
                <a:lnTo>
                  <a:pt x="1742" y="2698"/>
                </a:lnTo>
                <a:lnTo>
                  <a:pt x="1735" y="2700"/>
                </a:lnTo>
                <a:lnTo>
                  <a:pt x="1716" y="2705"/>
                </a:lnTo>
                <a:lnTo>
                  <a:pt x="1702" y="2708"/>
                </a:lnTo>
                <a:lnTo>
                  <a:pt x="1702" y="2708"/>
                </a:lnTo>
                <a:lnTo>
                  <a:pt x="1702" y="2705"/>
                </a:lnTo>
                <a:lnTo>
                  <a:pt x="1708" y="2683"/>
                </a:lnTo>
                <a:lnTo>
                  <a:pt x="1728" y="2608"/>
                </a:lnTo>
                <a:lnTo>
                  <a:pt x="1742" y="2550"/>
                </a:lnTo>
                <a:lnTo>
                  <a:pt x="1744" y="2545"/>
                </a:lnTo>
                <a:lnTo>
                  <a:pt x="1742" y="2547"/>
                </a:lnTo>
                <a:lnTo>
                  <a:pt x="1740" y="2548"/>
                </a:lnTo>
                <a:lnTo>
                  <a:pt x="1727" y="2556"/>
                </a:lnTo>
                <a:lnTo>
                  <a:pt x="1716" y="2560"/>
                </a:lnTo>
                <a:lnTo>
                  <a:pt x="1716" y="2560"/>
                </a:lnTo>
                <a:lnTo>
                  <a:pt x="1713" y="2566"/>
                </a:lnTo>
                <a:lnTo>
                  <a:pt x="1702" y="2599"/>
                </a:lnTo>
                <a:lnTo>
                  <a:pt x="1663" y="2714"/>
                </a:lnTo>
                <a:lnTo>
                  <a:pt x="1632" y="2800"/>
                </a:lnTo>
                <a:lnTo>
                  <a:pt x="1631" y="2805"/>
                </a:lnTo>
                <a:lnTo>
                  <a:pt x="1618" y="2795"/>
                </a:lnTo>
                <a:lnTo>
                  <a:pt x="1582" y="2763"/>
                </a:lnTo>
                <a:lnTo>
                  <a:pt x="1554" y="2737"/>
                </a:lnTo>
                <a:lnTo>
                  <a:pt x="1553" y="2735"/>
                </a:lnTo>
                <a:lnTo>
                  <a:pt x="1553" y="2729"/>
                </a:lnTo>
                <a:lnTo>
                  <a:pt x="1551" y="2709"/>
                </a:lnTo>
                <a:lnTo>
                  <a:pt x="1551" y="2695"/>
                </a:lnTo>
                <a:lnTo>
                  <a:pt x="1553" y="2693"/>
                </a:lnTo>
                <a:lnTo>
                  <a:pt x="1538" y="2685"/>
                </a:lnTo>
                <a:lnTo>
                  <a:pt x="1498" y="2656"/>
                </a:lnTo>
                <a:lnTo>
                  <a:pt x="1467" y="2634"/>
                </a:lnTo>
                <a:lnTo>
                  <a:pt x="1466" y="2632"/>
                </a:lnTo>
                <a:lnTo>
                  <a:pt x="1464" y="2632"/>
                </a:lnTo>
                <a:lnTo>
                  <a:pt x="1457" y="2632"/>
                </a:lnTo>
                <a:lnTo>
                  <a:pt x="1432" y="2632"/>
                </a:lnTo>
                <a:lnTo>
                  <a:pt x="1414" y="2632"/>
                </a:lnTo>
                <a:lnTo>
                  <a:pt x="1414" y="2632"/>
                </a:lnTo>
                <a:lnTo>
                  <a:pt x="1411" y="2624"/>
                </a:lnTo>
                <a:lnTo>
                  <a:pt x="1403" y="2598"/>
                </a:lnTo>
                <a:lnTo>
                  <a:pt x="1399" y="2576"/>
                </a:lnTo>
                <a:lnTo>
                  <a:pt x="1399" y="2574"/>
                </a:lnTo>
                <a:lnTo>
                  <a:pt x="1389" y="2570"/>
                </a:lnTo>
                <a:lnTo>
                  <a:pt x="1361" y="2557"/>
                </a:lnTo>
                <a:lnTo>
                  <a:pt x="1340" y="2547"/>
                </a:lnTo>
                <a:lnTo>
                  <a:pt x="1340" y="2545"/>
                </a:lnTo>
                <a:lnTo>
                  <a:pt x="1344" y="2543"/>
                </a:lnTo>
                <a:lnTo>
                  <a:pt x="1377" y="2518"/>
                </a:lnTo>
                <a:lnTo>
                  <a:pt x="1492" y="2435"/>
                </a:lnTo>
                <a:lnTo>
                  <a:pt x="1579" y="2372"/>
                </a:lnTo>
                <a:lnTo>
                  <a:pt x="1585" y="2367"/>
                </a:lnTo>
                <a:lnTo>
                  <a:pt x="1582" y="2351"/>
                </a:lnTo>
                <a:lnTo>
                  <a:pt x="1573" y="2301"/>
                </a:lnTo>
                <a:lnTo>
                  <a:pt x="1567" y="2261"/>
                </a:lnTo>
                <a:lnTo>
                  <a:pt x="1567" y="2259"/>
                </a:lnTo>
                <a:lnTo>
                  <a:pt x="1566" y="2259"/>
                </a:lnTo>
                <a:lnTo>
                  <a:pt x="1564" y="2259"/>
                </a:lnTo>
                <a:lnTo>
                  <a:pt x="1557" y="2259"/>
                </a:lnTo>
                <a:lnTo>
                  <a:pt x="1553" y="2259"/>
                </a:lnTo>
                <a:lnTo>
                  <a:pt x="1553" y="2259"/>
                </a:lnTo>
                <a:lnTo>
                  <a:pt x="1553" y="2246"/>
                </a:lnTo>
                <a:lnTo>
                  <a:pt x="1551" y="2203"/>
                </a:lnTo>
                <a:lnTo>
                  <a:pt x="1551" y="2172"/>
                </a:lnTo>
                <a:lnTo>
                  <a:pt x="1553" y="2169"/>
                </a:lnTo>
                <a:lnTo>
                  <a:pt x="1543" y="2164"/>
                </a:lnTo>
                <a:lnTo>
                  <a:pt x="1516" y="2151"/>
                </a:lnTo>
                <a:lnTo>
                  <a:pt x="1495" y="2141"/>
                </a:lnTo>
                <a:lnTo>
                  <a:pt x="1495" y="2140"/>
                </a:lnTo>
                <a:lnTo>
                  <a:pt x="1495" y="2130"/>
                </a:lnTo>
                <a:lnTo>
                  <a:pt x="1493" y="2095"/>
                </a:lnTo>
                <a:lnTo>
                  <a:pt x="1493" y="2069"/>
                </a:lnTo>
                <a:lnTo>
                  <a:pt x="1495" y="2067"/>
                </a:lnTo>
                <a:lnTo>
                  <a:pt x="1473" y="2059"/>
                </a:lnTo>
                <a:lnTo>
                  <a:pt x="1409" y="2031"/>
                </a:lnTo>
                <a:lnTo>
                  <a:pt x="1361" y="2009"/>
                </a:lnTo>
                <a:lnTo>
                  <a:pt x="1360" y="2008"/>
                </a:lnTo>
                <a:lnTo>
                  <a:pt x="1353" y="2011"/>
                </a:lnTo>
                <a:lnTo>
                  <a:pt x="1332" y="2018"/>
                </a:lnTo>
                <a:lnTo>
                  <a:pt x="1317" y="2022"/>
                </a:lnTo>
                <a:lnTo>
                  <a:pt x="1317" y="2022"/>
                </a:lnTo>
                <a:lnTo>
                  <a:pt x="1309" y="2018"/>
                </a:lnTo>
                <a:lnTo>
                  <a:pt x="1289" y="2001"/>
                </a:lnTo>
                <a:lnTo>
                  <a:pt x="1273" y="1988"/>
                </a:lnTo>
                <a:lnTo>
                  <a:pt x="1273" y="1986"/>
                </a:lnTo>
                <a:lnTo>
                  <a:pt x="1273" y="1960"/>
                </a:lnTo>
                <a:lnTo>
                  <a:pt x="1272" y="1882"/>
                </a:lnTo>
                <a:lnTo>
                  <a:pt x="1272" y="1821"/>
                </a:lnTo>
                <a:lnTo>
                  <a:pt x="1273" y="1817"/>
                </a:lnTo>
                <a:lnTo>
                  <a:pt x="1277" y="1811"/>
                </a:lnTo>
                <a:lnTo>
                  <a:pt x="1290" y="1789"/>
                </a:lnTo>
                <a:lnTo>
                  <a:pt x="1301" y="1773"/>
                </a:lnTo>
                <a:lnTo>
                  <a:pt x="1302" y="1772"/>
                </a:lnTo>
                <a:lnTo>
                  <a:pt x="1301" y="1769"/>
                </a:lnTo>
                <a:lnTo>
                  <a:pt x="1290" y="1747"/>
                </a:lnTo>
                <a:lnTo>
                  <a:pt x="1256" y="1672"/>
                </a:lnTo>
                <a:lnTo>
                  <a:pt x="1230" y="1614"/>
                </a:lnTo>
                <a:lnTo>
                  <a:pt x="1230" y="1609"/>
                </a:lnTo>
                <a:lnTo>
                  <a:pt x="1227" y="1609"/>
                </a:lnTo>
                <a:lnTo>
                  <a:pt x="1211" y="1608"/>
                </a:lnTo>
                <a:lnTo>
                  <a:pt x="1156" y="1601"/>
                </a:lnTo>
                <a:lnTo>
                  <a:pt x="1114" y="1596"/>
                </a:lnTo>
                <a:lnTo>
                  <a:pt x="1112" y="1595"/>
                </a:lnTo>
                <a:lnTo>
                  <a:pt x="1106" y="1585"/>
                </a:lnTo>
                <a:lnTo>
                  <a:pt x="1093" y="1550"/>
                </a:lnTo>
                <a:lnTo>
                  <a:pt x="1083" y="1524"/>
                </a:lnTo>
                <a:lnTo>
                  <a:pt x="1083" y="1521"/>
                </a:lnTo>
                <a:lnTo>
                  <a:pt x="1077" y="1520"/>
                </a:lnTo>
                <a:lnTo>
                  <a:pt x="1064" y="1514"/>
                </a:lnTo>
                <a:lnTo>
                  <a:pt x="1054" y="1509"/>
                </a:lnTo>
                <a:lnTo>
                  <a:pt x="1054" y="1508"/>
                </a:lnTo>
                <a:lnTo>
                  <a:pt x="1053" y="1505"/>
                </a:lnTo>
                <a:lnTo>
                  <a:pt x="1051" y="1493"/>
                </a:lnTo>
                <a:lnTo>
                  <a:pt x="1051" y="1485"/>
                </a:lnTo>
                <a:lnTo>
                  <a:pt x="1051" y="1483"/>
                </a:lnTo>
                <a:lnTo>
                  <a:pt x="1056" y="1479"/>
                </a:lnTo>
                <a:lnTo>
                  <a:pt x="1072" y="1462"/>
                </a:lnTo>
                <a:lnTo>
                  <a:pt x="1085" y="1449"/>
                </a:lnTo>
                <a:lnTo>
                  <a:pt x="1086" y="1447"/>
                </a:lnTo>
                <a:lnTo>
                  <a:pt x="1080" y="1446"/>
                </a:lnTo>
                <a:lnTo>
                  <a:pt x="1050" y="1427"/>
                </a:lnTo>
                <a:lnTo>
                  <a:pt x="941" y="1366"/>
                </a:lnTo>
                <a:lnTo>
                  <a:pt x="859" y="1318"/>
                </a:lnTo>
                <a:lnTo>
                  <a:pt x="854" y="1315"/>
                </a:lnTo>
                <a:lnTo>
                  <a:pt x="851" y="1315"/>
                </a:lnTo>
                <a:lnTo>
                  <a:pt x="838" y="1315"/>
                </a:lnTo>
                <a:lnTo>
                  <a:pt x="793" y="1315"/>
                </a:lnTo>
                <a:lnTo>
                  <a:pt x="759" y="1315"/>
                </a:lnTo>
                <a:lnTo>
                  <a:pt x="757" y="1315"/>
                </a:lnTo>
                <a:lnTo>
                  <a:pt x="756" y="1314"/>
                </a:lnTo>
                <a:lnTo>
                  <a:pt x="746" y="1305"/>
                </a:lnTo>
                <a:lnTo>
                  <a:pt x="711" y="1270"/>
                </a:lnTo>
                <a:lnTo>
                  <a:pt x="685" y="1244"/>
                </a:lnTo>
                <a:lnTo>
                  <a:pt x="685" y="1241"/>
                </a:lnTo>
                <a:lnTo>
                  <a:pt x="691" y="1237"/>
                </a:lnTo>
                <a:lnTo>
                  <a:pt x="711" y="1224"/>
                </a:lnTo>
                <a:lnTo>
                  <a:pt x="727" y="1214"/>
                </a:lnTo>
                <a:lnTo>
                  <a:pt x="728" y="1212"/>
                </a:lnTo>
                <a:lnTo>
                  <a:pt x="728" y="1199"/>
                </a:lnTo>
                <a:lnTo>
                  <a:pt x="727" y="1157"/>
                </a:lnTo>
                <a:lnTo>
                  <a:pt x="727" y="1125"/>
                </a:lnTo>
                <a:lnTo>
                  <a:pt x="728" y="1123"/>
                </a:lnTo>
                <a:lnTo>
                  <a:pt x="727" y="1123"/>
                </a:lnTo>
                <a:lnTo>
                  <a:pt x="721" y="1123"/>
                </a:lnTo>
                <a:lnTo>
                  <a:pt x="701" y="1123"/>
                </a:lnTo>
                <a:lnTo>
                  <a:pt x="685" y="1123"/>
                </a:lnTo>
                <a:lnTo>
                  <a:pt x="685" y="1123"/>
                </a:lnTo>
                <a:lnTo>
                  <a:pt x="680" y="1124"/>
                </a:lnTo>
                <a:lnTo>
                  <a:pt x="656" y="1133"/>
                </a:lnTo>
                <a:lnTo>
                  <a:pt x="573" y="1159"/>
                </a:lnTo>
                <a:lnTo>
                  <a:pt x="511" y="1180"/>
                </a:lnTo>
                <a:lnTo>
                  <a:pt x="508" y="1180"/>
                </a:lnTo>
                <a:lnTo>
                  <a:pt x="505" y="1179"/>
                </a:lnTo>
                <a:lnTo>
                  <a:pt x="498" y="1172"/>
                </a:lnTo>
                <a:lnTo>
                  <a:pt x="492" y="1167"/>
                </a:lnTo>
                <a:lnTo>
                  <a:pt x="492" y="1166"/>
                </a:lnTo>
                <a:lnTo>
                  <a:pt x="482" y="1169"/>
                </a:lnTo>
                <a:lnTo>
                  <a:pt x="456" y="1176"/>
                </a:lnTo>
                <a:lnTo>
                  <a:pt x="434" y="1180"/>
                </a:lnTo>
                <a:lnTo>
                  <a:pt x="434" y="1180"/>
                </a:lnTo>
                <a:lnTo>
                  <a:pt x="431" y="1191"/>
                </a:lnTo>
                <a:lnTo>
                  <a:pt x="424" y="1220"/>
                </a:lnTo>
                <a:lnTo>
                  <a:pt x="418" y="1241"/>
                </a:lnTo>
                <a:lnTo>
                  <a:pt x="418" y="1241"/>
                </a:lnTo>
                <a:lnTo>
                  <a:pt x="417" y="1241"/>
                </a:lnTo>
                <a:lnTo>
                  <a:pt x="407" y="1241"/>
                </a:lnTo>
                <a:lnTo>
                  <a:pt x="376" y="1241"/>
                </a:lnTo>
                <a:lnTo>
                  <a:pt x="353" y="1241"/>
                </a:lnTo>
                <a:lnTo>
                  <a:pt x="353" y="1241"/>
                </a:lnTo>
                <a:lnTo>
                  <a:pt x="350" y="1241"/>
                </a:lnTo>
                <a:lnTo>
                  <a:pt x="340" y="1237"/>
                </a:lnTo>
                <a:lnTo>
                  <a:pt x="302" y="1224"/>
                </a:lnTo>
                <a:lnTo>
                  <a:pt x="273" y="1214"/>
                </a:lnTo>
                <a:lnTo>
                  <a:pt x="272" y="1212"/>
                </a:lnTo>
                <a:lnTo>
                  <a:pt x="272" y="1211"/>
                </a:lnTo>
                <a:lnTo>
                  <a:pt x="272" y="1201"/>
                </a:lnTo>
                <a:lnTo>
                  <a:pt x="272" y="1165"/>
                </a:lnTo>
                <a:lnTo>
                  <a:pt x="272" y="1137"/>
                </a:lnTo>
                <a:lnTo>
                  <a:pt x="273" y="1134"/>
                </a:lnTo>
                <a:lnTo>
                  <a:pt x="268" y="1131"/>
                </a:lnTo>
                <a:lnTo>
                  <a:pt x="252" y="1120"/>
                </a:lnTo>
                <a:lnTo>
                  <a:pt x="240" y="1111"/>
                </a:lnTo>
                <a:lnTo>
                  <a:pt x="240" y="1109"/>
                </a:lnTo>
                <a:lnTo>
                  <a:pt x="237" y="1111"/>
                </a:lnTo>
                <a:lnTo>
                  <a:pt x="227" y="1117"/>
                </a:lnTo>
                <a:lnTo>
                  <a:pt x="191" y="1137"/>
                </a:lnTo>
                <a:lnTo>
                  <a:pt x="163" y="1153"/>
                </a:lnTo>
                <a:lnTo>
                  <a:pt x="162" y="1153"/>
                </a:lnTo>
                <a:lnTo>
                  <a:pt x="153" y="1144"/>
                </a:lnTo>
                <a:lnTo>
                  <a:pt x="127" y="1118"/>
                </a:lnTo>
                <a:lnTo>
                  <a:pt x="107" y="1096"/>
                </a:lnTo>
                <a:lnTo>
                  <a:pt x="107" y="1095"/>
                </a:lnTo>
                <a:lnTo>
                  <a:pt x="105" y="1096"/>
                </a:lnTo>
                <a:lnTo>
                  <a:pt x="97" y="1105"/>
                </a:lnTo>
                <a:lnTo>
                  <a:pt x="66" y="1131"/>
                </a:lnTo>
                <a:lnTo>
                  <a:pt x="43" y="1153"/>
                </a:lnTo>
                <a:lnTo>
                  <a:pt x="43" y="1153"/>
                </a:lnTo>
                <a:lnTo>
                  <a:pt x="36" y="1134"/>
                </a:lnTo>
                <a:lnTo>
                  <a:pt x="15" y="1076"/>
                </a:lnTo>
                <a:lnTo>
                  <a:pt x="0" y="1033"/>
                </a:lnTo>
                <a:lnTo>
                  <a:pt x="0" y="1030"/>
                </a:lnTo>
                <a:lnTo>
                  <a:pt x="0" y="1028"/>
                </a:lnTo>
                <a:lnTo>
                  <a:pt x="5" y="1012"/>
                </a:lnTo>
                <a:lnTo>
                  <a:pt x="26" y="959"/>
                </a:lnTo>
                <a:lnTo>
                  <a:pt x="40" y="918"/>
                </a:lnTo>
                <a:lnTo>
                  <a:pt x="42" y="915"/>
                </a:lnTo>
                <a:lnTo>
                  <a:pt x="42" y="908"/>
                </a:lnTo>
                <a:lnTo>
                  <a:pt x="40" y="882"/>
                </a:lnTo>
                <a:lnTo>
                  <a:pt x="40" y="863"/>
                </a:lnTo>
                <a:lnTo>
                  <a:pt x="42" y="862"/>
                </a:lnTo>
                <a:lnTo>
                  <a:pt x="44" y="859"/>
                </a:lnTo>
                <a:lnTo>
                  <a:pt x="73" y="837"/>
                </a:lnTo>
                <a:lnTo>
                  <a:pt x="168" y="762"/>
                </a:lnTo>
                <a:lnTo>
                  <a:pt x="241" y="705"/>
                </a:lnTo>
                <a:lnTo>
                  <a:pt x="246" y="701"/>
                </a:lnTo>
                <a:lnTo>
                  <a:pt x="246" y="697"/>
                </a:lnTo>
                <a:lnTo>
                  <a:pt x="256" y="665"/>
                </a:lnTo>
                <a:lnTo>
                  <a:pt x="288" y="556"/>
                </a:lnTo>
                <a:lnTo>
                  <a:pt x="314" y="473"/>
                </a:lnTo>
                <a:lnTo>
                  <a:pt x="315" y="468"/>
                </a:lnTo>
                <a:lnTo>
                  <a:pt x="305" y="462"/>
                </a:lnTo>
                <a:lnTo>
                  <a:pt x="279" y="444"/>
                </a:lnTo>
                <a:lnTo>
                  <a:pt x="257" y="431"/>
                </a:lnTo>
                <a:lnTo>
                  <a:pt x="257" y="430"/>
                </a:lnTo>
                <a:lnTo>
                  <a:pt x="257" y="423"/>
                </a:lnTo>
                <a:lnTo>
                  <a:pt x="256" y="399"/>
                </a:lnTo>
                <a:lnTo>
                  <a:pt x="256" y="381"/>
                </a:lnTo>
                <a:lnTo>
                  <a:pt x="257" y="379"/>
                </a:lnTo>
                <a:lnTo>
                  <a:pt x="266" y="371"/>
                </a:lnTo>
                <a:lnTo>
                  <a:pt x="292" y="343"/>
                </a:lnTo>
                <a:lnTo>
                  <a:pt x="314" y="321"/>
                </a:lnTo>
                <a:lnTo>
                  <a:pt x="315" y="320"/>
                </a:lnTo>
                <a:lnTo>
                  <a:pt x="314" y="320"/>
                </a:lnTo>
                <a:lnTo>
                  <a:pt x="311" y="320"/>
                </a:lnTo>
                <a:lnTo>
                  <a:pt x="301" y="315"/>
                </a:lnTo>
                <a:lnTo>
                  <a:pt x="294" y="313"/>
                </a:lnTo>
                <a:lnTo>
                  <a:pt x="294" y="311"/>
                </a:lnTo>
                <a:lnTo>
                  <a:pt x="292" y="311"/>
                </a:lnTo>
                <a:lnTo>
                  <a:pt x="289" y="311"/>
                </a:lnTo>
                <a:lnTo>
                  <a:pt x="279" y="308"/>
                </a:lnTo>
                <a:lnTo>
                  <a:pt x="272" y="307"/>
                </a:lnTo>
                <a:lnTo>
                  <a:pt x="272" y="305"/>
                </a:lnTo>
                <a:lnTo>
                  <a:pt x="272" y="301"/>
                </a:lnTo>
                <a:lnTo>
                  <a:pt x="272" y="285"/>
                </a:lnTo>
                <a:lnTo>
                  <a:pt x="272" y="273"/>
                </a:lnTo>
                <a:lnTo>
                  <a:pt x="273" y="272"/>
                </a:lnTo>
                <a:lnTo>
                  <a:pt x="278" y="272"/>
                </a:lnTo>
                <a:lnTo>
                  <a:pt x="292" y="272"/>
                </a:lnTo>
                <a:lnTo>
                  <a:pt x="302" y="272"/>
                </a:lnTo>
                <a:lnTo>
                  <a:pt x="304" y="272"/>
                </a:lnTo>
                <a:lnTo>
                  <a:pt x="312" y="278"/>
                </a:lnTo>
                <a:lnTo>
                  <a:pt x="343" y="292"/>
                </a:lnTo>
                <a:lnTo>
                  <a:pt x="366" y="302"/>
                </a:lnTo>
                <a:lnTo>
                  <a:pt x="368" y="302"/>
                </a:lnTo>
                <a:lnTo>
                  <a:pt x="375" y="301"/>
                </a:lnTo>
                <a:lnTo>
                  <a:pt x="398" y="297"/>
                </a:lnTo>
                <a:lnTo>
                  <a:pt x="417" y="292"/>
                </a:lnTo>
                <a:lnTo>
                  <a:pt x="418" y="291"/>
                </a:lnTo>
                <a:lnTo>
                  <a:pt x="425" y="301"/>
                </a:lnTo>
                <a:lnTo>
                  <a:pt x="447" y="327"/>
                </a:lnTo>
                <a:lnTo>
                  <a:pt x="465" y="347"/>
                </a:lnTo>
                <a:lnTo>
                  <a:pt x="466" y="347"/>
                </a:lnTo>
                <a:lnTo>
                  <a:pt x="469" y="347"/>
                </a:lnTo>
                <a:lnTo>
                  <a:pt x="491" y="347"/>
                </a:lnTo>
                <a:lnTo>
                  <a:pt x="565" y="347"/>
                </a:lnTo>
                <a:lnTo>
                  <a:pt x="621" y="347"/>
                </a:lnTo>
                <a:lnTo>
                  <a:pt x="625" y="347"/>
                </a:lnTo>
                <a:lnTo>
                  <a:pt x="627" y="346"/>
                </a:lnTo>
                <a:lnTo>
                  <a:pt x="643" y="330"/>
                </a:lnTo>
                <a:lnTo>
                  <a:pt x="696" y="273"/>
                </a:lnTo>
                <a:lnTo>
                  <a:pt x="737" y="231"/>
                </a:lnTo>
                <a:lnTo>
                  <a:pt x="740" y="228"/>
                </a:lnTo>
                <a:lnTo>
                  <a:pt x="737" y="227"/>
                </a:lnTo>
                <a:lnTo>
                  <a:pt x="721" y="211"/>
                </a:lnTo>
                <a:lnTo>
                  <a:pt x="667" y="157"/>
                </a:lnTo>
                <a:lnTo>
                  <a:pt x="627" y="115"/>
                </a:lnTo>
                <a:lnTo>
                  <a:pt x="625" y="113"/>
                </a:lnTo>
                <a:lnTo>
                  <a:pt x="630" y="110"/>
                </a:lnTo>
                <a:lnTo>
                  <a:pt x="644" y="97"/>
                </a:lnTo>
                <a:lnTo>
                  <a:pt x="654" y="86"/>
                </a:lnTo>
                <a:lnTo>
                  <a:pt x="656" y="85"/>
                </a:lnTo>
                <a:lnTo>
                  <a:pt x="678" y="95"/>
                </a:lnTo>
                <a:lnTo>
                  <a:pt x="747" y="121"/>
                </a:lnTo>
                <a:lnTo>
                  <a:pt x="799" y="143"/>
                </a:lnTo>
                <a:lnTo>
                  <a:pt x="802" y="143"/>
                </a:lnTo>
                <a:lnTo>
                  <a:pt x="807" y="139"/>
                </a:lnTo>
                <a:lnTo>
                  <a:pt x="820" y="126"/>
                </a:lnTo>
                <a:lnTo>
                  <a:pt x="830" y="115"/>
                </a:lnTo>
                <a:lnTo>
                  <a:pt x="831" y="114"/>
                </a:lnTo>
                <a:lnTo>
                  <a:pt x="833" y="114"/>
                </a:lnTo>
                <a:lnTo>
                  <a:pt x="846" y="114"/>
                </a:lnTo>
                <a:lnTo>
                  <a:pt x="892" y="114"/>
                </a:lnTo>
                <a:lnTo>
                  <a:pt x="927" y="114"/>
                </a:lnTo>
                <a:lnTo>
                  <a:pt x="930" y="113"/>
                </a:lnTo>
                <a:lnTo>
                  <a:pt x="930" y="111"/>
                </a:lnTo>
                <a:lnTo>
                  <a:pt x="934" y="101"/>
                </a:lnTo>
                <a:lnTo>
                  <a:pt x="947" y="62"/>
                </a:lnTo>
                <a:lnTo>
                  <a:pt x="957" y="33"/>
                </a:lnTo>
                <a:lnTo>
                  <a:pt x="959" y="30"/>
                </a:lnTo>
                <a:lnTo>
                  <a:pt x="957" y="26"/>
                </a:lnTo>
                <a:lnTo>
                  <a:pt x="953" y="11"/>
                </a:lnTo>
                <a:lnTo>
                  <a:pt x="951" y="1"/>
                </a:lnTo>
                <a:lnTo>
                  <a:pt x="951" y="0"/>
                </a:lnTo>
                <a:lnTo>
                  <a:pt x="962" y="4"/>
                </a:lnTo>
                <a:lnTo>
                  <a:pt x="996" y="14"/>
                </a:lnTo>
                <a:lnTo>
                  <a:pt x="1022" y="21"/>
                </a:lnTo>
                <a:lnTo>
                  <a:pt x="1024" y="21"/>
                </a:lnTo>
                <a:lnTo>
                  <a:pt x="1024" y="29"/>
                </a:lnTo>
                <a:lnTo>
                  <a:pt x="1022" y="47"/>
                </a:lnTo>
                <a:lnTo>
                  <a:pt x="1022" y="62"/>
                </a:lnTo>
                <a:lnTo>
                  <a:pt x="1024" y="62"/>
                </a:lnTo>
                <a:lnTo>
                  <a:pt x="1028" y="65"/>
                </a:lnTo>
                <a:lnTo>
                  <a:pt x="1041" y="72"/>
                </a:lnTo>
                <a:lnTo>
                  <a:pt x="1051" y="78"/>
                </a:lnTo>
                <a:lnTo>
                  <a:pt x="1053" y="78"/>
                </a:lnTo>
                <a:lnTo>
                  <a:pt x="1053" y="82"/>
                </a:lnTo>
                <a:lnTo>
                  <a:pt x="1057" y="108"/>
                </a:lnTo>
                <a:lnTo>
                  <a:pt x="1072" y="197"/>
                </a:lnTo>
                <a:lnTo>
                  <a:pt x="1082" y="265"/>
                </a:lnTo>
                <a:lnTo>
                  <a:pt x="1083" y="268"/>
                </a:lnTo>
                <a:lnTo>
                  <a:pt x="1088" y="275"/>
                </a:lnTo>
                <a:lnTo>
                  <a:pt x="1101" y="295"/>
                </a:lnTo>
                <a:lnTo>
                  <a:pt x="1111" y="311"/>
                </a:lnTo>
                <a:lnTo>
                  <a:pt x="1112" y="311"/>
                </a:lnTo>
                <a:lnTo>
                  <a:pt x="1115" y="311"/>
                </a:lnTo>
                <a:lnTo>
                  <a:pt x="1144" y="301"/>
                </a:lnTo>
                <a:lnTo>
                  <a:pt x="1244" y="266"/>
                </a:lnTo>
                <a:lnTo>
                  <a:pt x="1319" y="240"/>
                </a:lnTo>
                <a:lnTo>
                  <a:pt x="1324" y="239"/>
                </a:lnTo>
                <a:lnTo>
                  <a:pt x="1331" y="233"/>
                </a:lnTo>
                <a:lnTo>
                  <a:pt x="1356" y="211"/>
                </a:lnTo>
                <a:lnTo>
                  <a:pt x="1374" y="195"/>
                </a:lnTo>
                <a:lnTo>
                  <a:pt x="1376" y="194"/>
                </a:lnTo>
                <a:lnTo>
                  <a:pt x="1386" y="200"/>
                </a:lnTo>
                <a:lnTo>
                  <a:pt x="1416" y="214"/>
                </a:lnTo>
                <a:lnTo>
                  <a:pt x="1441" y="224"/>
                </a:lnTo>
                <a:lnTo>
                  <a:pt x="1443" y="224"/>
                </a:lnTo>
                <a:lnTo>
                  <a:pt x="1444" y="224"/>
                </a:lnTo>
                <a:lnTo>
                  <a:pt x="1453" y="223"/>
                </a:lnTo>
                <a:lnTo>
                  <a:pt x="1487" y="215"/>
                </a:lnTo>
                <a:lnTo>
                  <a:pt x="1514" y="210"/>
                </a:lnTo>
                <a:lnTo>
                  <a:pt x="1516" y="208"/>
                </a:lnTo>
                <a:lnTo>
                  <a:pt x="1522" y="213"/>
                </a:lnTo>
                <a:lnTo>
                  <a:pt x="1543" y="226"/>
                </a:lnTo>
                <a:lnTo>
                  <a:pt x="1558" y="234"/>
                </a:lnTo>
                <a:lnTo>
                  <a:pt x="1560" y="234"/>
                </a:lnTo>
                <a:lnTo>
                  <a:pt x="1566" y="233"/>
                </a:lnTo>
                <a:lnTo>
                  <a:pt x="1583" y="228"/>
                </a:lnTo>
                <a:lnTo>
                  <a:pt x="1596" y="226"/>
                </a:lnTo>
                <a:lnTo>
                  <a:pt x="1598" y="224"/>
                </a:lnTo>
                <a:lnTo>
                  <a:pt x="1599" y="221"/>
                </a:lnTo>
                <a:lnTo>
                  <a:pt x="1609" y="201"/>
                </a:lnTo>
                <a:lnTo>
                  <a:pt x="1645" y="130"/>
                </a:lnTo>
                <a:lnTo>
                  <a:pt x="1673" y="76"/>
                </a:lnTo>
                <a:lnTo>
                  <a:pt x="1676" y="72"/>
                </a:lnTo>
                <a:lnTo>
                  <a:pt x="1674" y="72"/>
                </a:lnTo>
                <a:lnTo>
                  <a:pt x="1676" y="72"/>
                </a:lnTo>
                <a:lnTo>
                  <a:pt x="1674" y="72"/>
                </a:lnTo>
                <a:lnTo>
                  <a:pt x="1676" y="72"/>
                </a:lnTo>
                <a:lnTo>
                  <a:pt x="1682" y="76"/>
                </a:lnTo>
                <a:lnTo>
                  <a:pt x="1700" y="89"/>
                </a:lnTo>
                <a:lnTo>
                  <a:pt x="1715" y="100"/>
                </a:lnTo>
                <a:lnTo>
                  <a:pt x="1716" y="100"/>
                </a:lnTo>
                <a:lnTo>
                  <a:pt x="1716" y="10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20711400">
            <a:off x="3959280" y="2280960"/>
            <a:ext cx="1888920" cy="1752480"/>
          </a:xfrm>
          <a:custGeom>
            <a:avLst/>
            <a:gdLst>
              <a:gd name="textAreaLeft" fmla="*/ 0 w 1888920"/>
              <a:gd name="textAreaRight" fmla="*/ 1889280 w 18889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2256" y="11141"/>
                </a:moveTo>
                <a:arcTo wR="-8551" hR="-8551" stAng="10662884" swAng="-7830807"/>
                <a:lnTo>
                  <a:pt x="3462" y="2876"/>
                </a:lnTo>
                <a:arcTo wR="10800" hR="10800" stAng="-7967923" swAng="7830807"/>
                <a:lnTo>
                  <a:pt x="24289" y="10262"/>
                </a:lnTo>
                <a:lnTo>
                  <a:pt x="20620" y="14236"/>
                </a:lnTo>
                <a:lnTo>
                  <a:pt x="16646" y="1056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rot="9699000">
            <a:off x="4111560" y="2433600"/>
            <a:ext cx="1835280" cy="1736640"/>
          </a:xfrm>
          <a:custGeom>
            <a:avLst/>
            <a:gdLst>
              <a:gd name="textAreaLeft" fmla="*/ 0 w 1835280"/>
              <a:gd name="textAreaRight" fmla="*/ 1835640 w 1835280"/>
              <a:gd name="textAreaTop" fmla="*/ 0 h 1736640"/>
              <a:gd name="textAreaBottom" fmla="*/ 1737000 h 1736640"/>
            </a:gdLst>
            <a:ahLst/>
            <a:rect l="textAreaLeft" t="textAreaTop" r="textAreaRight" b="textAreaBottom"/>
            <a:pathLst>
              <a:path w="21600" h="21600">
                <a:moveTo>
                  <a:pt x="2256" y="11141"/>
                </a:moveTo>
                <a:arcTo wR="-8551" hR="-8551" stAng="10662884" swAng="-7830807"/>
                <a:lnTo>
                  <a:pt x="3462" y="2876"/>
                </a:lnTo>
                <a:arcTo wR="10800" hR="10800" stAng="-7967923" swAng="7830807"/>
                <a:lnTo>
                  <a:pt x="24289" y="10262"/>
                </a:lnTo>
                <a:lnTo>
                  <a:pt x="20620" y="14236"/>
                </a:lnTo>
                <a:lnTo>
                  <a:pt x="16646" y="1056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102280" y="62434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407200" y="5634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959280" y="5634000"/>
            <a:ext cx="594360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IV. México fortalecerá la 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ientífica, Técnica, Económica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2560" y="6700680"/>
            <a:ext cx="922032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79000" y="0"/>
            <a:ext cx="182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9400" y="635040"/>
            <a:ext cx="7439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Con el Acuerdo de Asociación Económ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453960" y="1671480"/>
            <a:ext cx="929664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225280" y="29988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8000" y="1062000"/>
            <a:ext cx="9482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 el AAE, México fortalece  la Cooperación Bi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3960" y="296712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1360" y="4033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87480" y="411012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53960" y="2585880"/>
            <a:ext cx="9372600" cy="373392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22000" y="2738520"/>
            <a:ext cx="83354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I.  Cooperación para el fomento de pequeñas y medianas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53960" y="3348000"/>
            <a:ext cx="9372600" cy="31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Japón ofrece organizar encuentros de negocios para integrar las cadenas produc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II. Fomento a la Consultoría para pequeñas y medianas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pan International Cooperation Agency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realizó un estudio para mejorar la eficiencia de los consultores para PyMEs en Méx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l Gobierno japonés contempla la posibilidad de establecer una Universidad para Py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6624720"/>
            <a:ext cx="25124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Fuente: JETRO MÉX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87480" y="2509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0280" y="182412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2560" y="83340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3960" y="1595520"/>
            <a:ext cx="3200400" cy="2133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21600" y="1595520"/>
            <a:ext cx="3352680" cy="2133360"/>
          </a:xfrm>
          <a:prstGeom prst="rect">
            <a:avLst/>
          </a:prstGeom>
          <a:solidFill>
            <a:srgbClr val="66ff66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3960" y="4491000"/>
            <a:ext cx="3200400" cy="19051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21600" y="4491000"/>
            <a:ext cx="3352680" cy="1905120"/>
          </a:xfrm>
          <a:prstGeom prst="rect">
            <a:avLst/>
          </a:prstGeom>
          <a:solidFill>
            <a:srgbClr val="66ff66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8000" y="1138320"/>
            <a:ext cx="90676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440" y="604800"/>
            <a:ext cx="9663120" cy="4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conomías japonesa y mexicana son complemen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1120" y="1290600"/>
            <a:ext cx="680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Jap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1960" y="1214280"/>
            <a:ext cx="193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14720" y="1290600"/>
            <a:ext cx="759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éx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0680" y="2281320"/>
            <a:ext cx="2362320" cy="533160"/>
          </a:xfrm>
          <a:prstGeom prst="leftRightArrow">
            <a:avLst>
              <a:gd name="adj1" fmla="val 50000"/>
              <a:gd name="adj2" fmla="val 8820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7000" y="5176800"/>
            <a:ext cx="2286000" cy="533520"/>
          </a:xfrm>
          <a:prstGeom prst="leftRightArrow">
            <a:avLst>
              <a:gd name="adj1" fmla="val 50000"/>
              <a:gd name="adj2" fmla="val 8529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3960" y="1671480"/>
            <a:ext cx="3124440" cy="17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cc"/>
                </a:solidFill>
                <a:latin typeface="Arial"/>
              </a:rPr>
              <a:t>La edad promedio de la población en Japón es de 42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77040" y="1900080"/>
            <a:ext cx="337356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cc"/>
                </a:solidFill>
                <a:latin typeface="Arial"/>
              </a:rPr>
              <a:t>La edad promedi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cc"/>
                </a:solidFill>
                <a:latin typeface="Arial"/>
              </a:rPr>
              <a:t>la población en México es de 23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0280" y="4795920"/>
            <a:ext cx="304812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cc"/>
                </a:solidFill>
                <a:latin typeface="Arial"/>
              </a:rPr>
              <a:t>Japón es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cc"/>
                </a:solidFill>
                <a:latin typeface="Arial"/>
              </a:rPr>
              <a:t>octava fuente de IED en el mu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5280" y="4587840"/>
            <a:ext cx="365760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cc"/>
                </a:solidFill>
                <a:latin typeface="Arial"/>
              </a:rPr>
              <a:t>México es el ter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cc"/>
                </a:solidFill>
                <a:latin typeface="Arial"/>
              </a:rPr>
              <a:t>receptor de 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cc"/>
                </a:solidFill>
                <a:latin typeface="Arial"/>
              </a:rPr>
              <a:t>entre los país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cc"/>
                </a:solidFill>
                <a:latin typeface="Arial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25280" y="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453960" y="1671480"/>
            <a:ext cx="929664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225280" y="29988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78000" y="1062000"/>
            <a:ext cx="9482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 el AAE, México fortalece  la Cooperación Bi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3960" y="296712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11360" y="4033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987480" y="411012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53960" y="2433600"/>
            <a:ext cx="9372600" cy="373392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24520" y="2738520"/>
            <a:ext cx="54216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III.  Apoyo a la Transferencia de 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3960" y="3348000"/>
            <a:ext cx="9372600" cy="31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Realización de proyectos en el Centro de Ingeniería y Desarrollo Industrial en Queréta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IV. Apoyo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ICA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firmó con NAFINSA el 12 de agosto de 2003 un acuerdo para un préstamo de 250 millones de dólares para financiar la modernización de la planta productiva de las Py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162920" y="6472080"/>
            <a:ext cx="25124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Fuente: JETRO MÉX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378000" y="1671480"/>
            <a:ext cx="929628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225280" y="29988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78000" y="1062000"/>
            <a:ext cx="9482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AE incluye un capítulo de Cooperación Bi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53960" y="296712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511360" y="4033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987480" y="411012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82560" y="5862600"/>
            <a:ext cx="2210040" cy="1143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730680" y="4110120"/>
            <a:ext cx="2209680" cy="1143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2560" y="4110120"/>
            <a:ext cx="221004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2560" y="2205000"/>
            <a:ext cx="2210040" cy="1143000"/>
          </a:xfrm>
          <a:prstGeom prst="rect">
            <a:avLst/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807000" y="5862600"/>
            <a:ext cx="22096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931080" y="2205000"/>
            <a:ext cx="220968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931080" y="4033800"/>
            <a:ext cx="220968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931080" y="5786280"/>
            <a:ext cx="2209680" cy="1143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58160" y="2281320"/>
            <a:ext cx="19591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moción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mercio y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730680" y="2205000"/>
            <a:ext cx="220968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82960" y="2281320"/>
            <a:ext cx="1981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poyo a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ndustri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o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931080" y="2205000"/>
            <a:ext cx="2133720" cy="1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poyo a l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equeñas y medianas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58880" y="4338720"/>
            <a:ext cx="2057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iencia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07000" y="4186080"/>
            <a:ext cx="19206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ducación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apacit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b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007400" y="4262400"/>
            <a:ext cx="198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p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ntele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909000" y="6167520"/>
            <a:ext cx="1552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gri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264200" y="6167520"/>
            <a:ext cx="1195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007400" y="5938920"/>
            <a:ext cx="198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edio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87120" y="985320"/>
            <a:ext cx="8248680" cy="1070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3400" spc="-1" strike="noStrike">
                <a:solidFill>
                  <a:srgbClr val="ffffff"/>
                </a:solidFill>
                <a:latin typeface="Arial"/>
              </a:rPr>
              <a:t>CONCLUSIONES</a:t>
            </a: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58880" y="1976400"/>
            <a:ext cx="89917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82560" y="6548400"/>
            <a:ext cx="89917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530200" y="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126440" y="2205000"/>
            <a:ext cx="8274240" cy="39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l AAE ayudará a diversificar el destino geográfic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s exportaciones mexic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l Sector agropecuario y pesquero tienen un gran potencial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xport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 el AAE, las exportaciones mexicanas tienen acceso a 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incipales mercados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l AAE ayudará a incrementar la competitividad de las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exicanas porque incluye elementos de cooperación téc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l AAE ayudará a incrementar los flujos de comercio e invers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tre México y Jap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978200" y="2662200"/>
            <a:ext cx="6781680" cy="3581280"/>
          </a:xfrm>
          <a:prstGeom prst="rect">
            <a:avLst/>
          </a:prstGeom>
          <a:solidFill>
            <a:srgbClr val="ffff99">
              <a:alpha val="74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87120" y="985320"/>
            <a:ext cx="8248680" cy="1070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Si necesita mayor información y apoyo para</a:t>
            </a: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la promoción de sus productos en el</a:t>
            </a: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mercado japonés, póngase en contacto</a:t>
            </a: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on nosotros</a:t>
            </a: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-612720" y="2205000"/>
            <a:ext cx="9524880" cy="4229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marL="2430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0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Embajada de México en Japó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30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2-15-1 Nagata-ch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30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Chiyoda-Ku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30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Tokio 100-001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30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Tel: +81-3-3581-113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30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Fax:+81-3-3581-4058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3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rreo electrónico: embamex@mexicoembassy.j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82560" y="2281320"/>
            <a:ext cx="89917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82560" y="6548400"/>
            <a:ext cx="89917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530200" y="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1139760" y="2738520"/>
            <a:ext cx="85345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Acuerdo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de </a:t>
            </a: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Asociación Económica entre México y Japón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139760" y="4795920"/>
            <a:ext cx="853452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7083360" y="5484960"/>
            <a:ext cx="2419560" cy="147312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2"/>
          <a:stretch/>
        </p:blipFill>
        <p:spPr>
          <a:xfrm>
            <a:off x="378000" y="376200"/>
            <a:ext cx="266688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87480" y="2509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0280" y="182412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2560" y="83340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3960" y="1595520"/>
            <a:ext cx="3200400" cy="2133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1600" y="1595520"/>
            <a:ext cx="3429000" cy="2133360"/>
          </a:xfrm>
          <a:prstGeom prst="rect">
            <a:avLst/>
          </a:prstGeom>
          <a:solidFill>
            <a:srgbClr val="66ff66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3960" y="4491000"/>
            <a:ext cx="3200400" cy="19051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1600" y="4491000"/>
            <a:ext cx="3504960" cy="1905120"/>
          </a:xfrm>
          <a:prstGeom prst="rect">
            <a:avLst/>
          </a:prstGeom>
          <a:solidFill>
            <a:srgbClr val="66ff66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3960" y="1138320"/>
            <a:ext cx="90680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440" y="604800"/>
            <a:ext cx="96631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as economías japonesa y mexicana son complementarias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1120" y="1138320"/>
            <a:ext cx="680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Jap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11960" y="1214280"/>
            <a:ext cx="193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86120" y="1138320"/>
            <a:ext cx="759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éx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0680" y="2281320"/>
            <a:ext cx="2362320" cy="533160"/>
          </a:xfrm>
          <a:prstGeom prst="leftRightArrow">
            <a:avLst>
              <a:gd name="adj1" fmla="val 50000"/>
              <a:gd name="adj2" fmla="val 8820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7000" y="5176800"/>
            <a:ext cx="2286000" cy="533520"/>
          </a:xfrm>
          <a:prstGeom prst="leftRightArrow">
            <a:avLst>
              <a:gd name="adj1" fmla="val 50000"/>
              <a:gd name="adj2" fmla="val 8529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3960" y="1671480"/>
            <a:ext cx="312444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cc"/>
                </a:solidFill>
                <a:latin typeface="Arial"/>
              </a:rPr>
              <a:t>Japón impo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cc"/>
                </a:solidFill>
                <a:latin typeface="Arial"/>
              </a:rPr>
              <a:t>bienes eléct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cc"/>
                </a:solidFill>
                <a:latin typeface="Arial"/>
              </a:rPr>
              <a:t>y electrón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77040" y="1900080"/>
            <a:ext cx="337356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cc"/>
                </a:solidFill>
                <a:latin typeface="Arial"/>
              </a:rPr>
              <a:t>México expo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cc"/>
                </a:solidFill>
                <a:latin typeface="Arial"/>
              </a:rPr>
              <a:t>bienes eléct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cc"/>
                </a:solidFill>
                <a:latin typeface="Arial"/>
              </a:rPr>
              <a:t>y electrón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960" y="4491000"/>
            <a:ext cx="304812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Jap</a:t>
            </a:r>
            <a:r>
              <a:rPr b="1" lang="es-MX" sz="2800" spc="-1" strike="noStrike">
                <a:solidFill>
                  <a:srgbClr val="3366cc"/>
                </a:solidFill>
                <a:latin typeface="Arial"/>
              </a:rPr>
              <a:t>ón importa 60% de su consumo de al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5280" y="4414680"/>
            <a:ext cx="365760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cc"/>
                </a:solidFill>
                <a:latin typeface="Arial"/>
              </a:rPr>
              <a:t>El sector agríc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cc"/>
                </a:solidFill>
                <a:latin typeface="Arial"/>
              </a:rPr>
              <a:t>mexicano tiene 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cc"/>
                </a:solidFill>
                <a:latin typeface="Arial"/>
              </a:rPr>
              <a:t>alto potencial p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cc"/>
                </a:solidFill>
                <a:latin typeface="Arial"/>
              </a:rPr>
              <a:t>exportar al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cc"/>
                </a:solidFill>
                <a:latin typeface="Arial"/>
              </a:rPr>
              <a:t>a Jap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77920" y="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78000" y="1138320"/>
            <a:ext cx="9144000" cy="57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México firmó el AAE con Japón con el fin d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I.   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Diversificar el destino geográfico de las      exportaciones mexicanas y fortalecer la presencia de México en A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buClr>
                <a:srgbClr val="ffffff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Mejorar el acceso de las exportaciones al mercado japon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buClr>
                <a:srgbClr val="ffffff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Promover la Inversión directa japon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IV. Fortalecer la Cooperación científica, tecnológica, económica y cultural con Jap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0280" y="2281320"/>
            <a:ext cx="9067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1680" y="2128680"/>
            <a:ext cx="8991720" cy="0"/>
          </a:xfrm>
          <a:prstGeom prst="line">
            <a:avLst/>
          </a:prstGeom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996680" y="29988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87480" y="2509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0280" y="182412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2560" y="83340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214280"/>
            <a:ext cx="922032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1960" y="1214280"/>
            <a:ext cx="193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1287360"/>
            <a:ext cx="2635200" cy="1282680"/>
          </a:xfrm>
          <a:custGeom>
            <a:avLst/>
            <a:gdLst/>
            <a:ahLst/>
            <a:rect l="l" t="t" r="r" b="b"/>
            <a:pathLst>
              <a:path w="3048" h="1564">
                <a:moveTo>
                  <a:pt x="58" y="1390"/>
                </a:moveTo>
                <a:lnTo>
                  <a:pt x="59" y="1390"/>
                </a:lnTo>
                <a:lnTo>
                  <a:pt x="69" y="1385"/>
                </a:lnTo>
                <a:lnTo>
                  <a:pt x="103" y="1367"/>
                </a:lnTo>
                <a:lnTo>
                  <a:pt x="129" y="1352"/>
                </a:lnTo>
                <a:lnTo>
                  <a:pt x="132" y="1352"/>
                </a:lnTo>
                <a:lnTo>
                  <a:pt x="134" y="1350"/>
                </a:lnTo>
                <a:lnTo>
                  <a:pt x="155" y="1341"/>
                </a:lnTo>
                <a:lnTo>
                  <a:pt x="223" y="1308"/>
                </a:lnTo>
                <a:lnTo>
                  <a:pt x="291" y="1261"/>
                </a:lnTo>
                <a:lnTo>
                  <a:pt x="280" y="1281"/>
                </a:lnTo>
                <a:lnTo>
                  <a:pt x="284" y="1276"/>
                </a:lnTo>
                <a:lnTo>
                  <a:pt x="318" y="1234"/>
                </a:lnTo>
                <a:lnTo>
                  <a:pt x="405" y="1125"/>
                </a:lnTo>
                <a:lnTo>
                  <a:pt x="476" y="1036"/>
                </a:lnTo>
                <a:lnTo>
                  <a:pt x="481" y="1031"/>
                </a:lnTo>
                <a:lnTo>
                  <a:pt x="485" y="1028"/>
                </a:lnTo>
                <a:lnTo>
                  <a:pt x="514" y="1005"/>
                </a:lnTo>
                <a:lnTo>
                  <a:pt x="613" y="928"/>
                </a:lnTo>
                <a:lnTo>
                  <a:pt x="689" y="869"/>
                </a:lnTo>
                <a:lnTo>
                  <a:pt x="693" y="866"/>
                </a:lnTo>
                <a:lnTo>
                  <a:pt x="694" y="863"/>
                </a:lnTo>
                <a:lnTo>
                  <a:pt x="699" y="850"/>
                </a:lnTo>
                <a:lnTo>
                  <a:pt x="719" y="803"/>
                </a:lnTo>
                <a:lnTo>
                  <a:pt x="732" y="767"/>
                </a:lnTo>
                <a:lnTo>
                  <a:pt x="734" y="765"/>
                </a:lnTo>
                <a:lnTo>
                  <a:pt x="736" y="764"/>
                </a:lnTo>
                <a:lnTo>
                  <a:pt x="750" y="760"/>
                </a:lnTo>
                <a:lnTo>
                  <a:pt x="772" y="748"/>
                </a:lnTo>
                <a:lnTo>
                  <a:pt x="820" y="746"/>
                </a:lnTo>
                <a:lnTo>
                  <a:pt x="834" y="748"/>
                </a:lnTo>
                <a:lnTo>
                  <a:pt x="832" y="772"/>
                </a:lnTo>
                <a:lnTo>
                  <a:pt x="836" y="754"/>
                </a:lnTo>
                <a:lnTo>
                  <a:pt x="834" y="802"/>
                </a:lnTo>
                <a:lnTo>
                  <a:pt x="836" y="864"/>
                </a:lnTo>
                <a:lnTo>
                  <a:pt x="836" y="867"/>
                </a:lnTo>
                <a:lnTo>
                  <a:pt x="834" y="868"/>
                </a:lnTo>
                <a:lnTo>
                  <a:pt x="825" y="879"/>
                </a:lnTo>
                <a:lnTo>
                  <a:pt x="792" y="917"/>
                </a:lnTo>
                <a:lnTo>
                  <a:pt x="767" y="946"/>
                </a:lnTo>
                <a:lnTo>
                  <a:pt x="765" y="947"/>
                </a:lnTo>
                <a:lnTo>
                  <a:pt x="773" y="944"/>
                </a:lnTo>
                <a:lnTo>
                  <a:pt x="796" y="936"/>
                </a:lnTo>
                <a:lnTo>
                  <a:pt x="814" y="930"/>
                </a:lnTo>
                <a:lnTo>
                  <a:pt x="815" y="929"/>
                </a:lnTo>
                <a:lnTo>
                  <a:pt x="817" y="929"/>
                </a:lnTo>
                <a:lnTo>
                  <a:pt x="852" y="932"/>
                </a:lnTo>
                <a:lnTo>
                  <a:pt x="886" y="908"/>
                </a:lnTo>
                <a:lnTo>
                  <a:pt x="885" y="882"/>
                </a:lnTo>
                <a:lnTo>
                  <a:pt x="887" y="880"/>
                </a:lnTo>
                <a:lnTo>
                  <a:pt x="888" y="881"/>
                </a:lnTo>
                <a:lnTo>
                  <a:pt x="895" y="885"/>
                </a:lnTo>
                <a:lnTo>
                  <a:pt x="920" y="901"/>
                </a:lnTo>
                <a:lnTo>
                  <a:pt x="939" y="914"/>
                </a:lnTo>
                <a:lnTo>
                  <a:pt x="940" y="914"/>
                </a:lnTo>
                <a:lnTo>
                  <a:pt x="940" y="907"/>
                </a:lnTo>
                <a:lnTo>
                  <a:pt x="940" y="887"/>
                </a:lnTo>
                <a:lnTo>
                  <a:pt x="940" y="872"/>
                </a:lnTo>
                <a:lnTo>
                  <a:pt x="940" y="871"/>
                </a:lnTo>
                <a:lnTo>
                  <a:pt x="939" y="871"/>
                </a:lnTo>
                <a:lnTo>
                  <a:pt x="932" y="867"/>
                </a:lnTo>
                <a:lnTo>
                  <a:pt x="908" y="856"/>
                </a:lnTo>
                <a:lnTo>
                  <a:pt x="889" y="847"/>
                </a:lnTo>
                <a:lnTo>
                  <a:pt x="888" y="846"/>
                </a:lnTo>
                <a:lnTo>
                  <a:pt x="887" y="845"/>
                </a:lnTo>
                <a:lnTo>
                  <a:pt x="885" y="836"/>
                </a:lnTo>
                <a:lnTo>
                  <a:pt x="877" y="804"/>
                </a:lnTo>
                <a:lnTo>
                  <a:pt x="871" y="780"/>
                </a:lnTo>
                <a:lnTo>
                  <a:pt x="871" y="779"/>
                </a:lnTo>
                <a:lnTo>
                  <a:pt x="872" y="778"/>
                </a:lnTo>
                <a:lnTo>
                  <a:pt x="883" y="773"/>
                </a:lnTo>
                <a:lnTo>
                  <a:pt x="916" y="757"/>
                </a:lnTo>
                <a:lnTo>
                  <a:pt x="941" y="744"/>
                </a:lnTo>
                <a:lnTo>
                  <a:pt x="943" y="744"/>
                </a:lnTo>
                <a:lnTo>
                  <a:pt x="948" y="747"/>
                </a:lnTo>
                <a:lnTo>
                  <a:pt x="962" y="753"/>
                </a:lnTo>
                <a:lnTo>
                  <a:pt x="972" y="758"/>
                </a:lnTo>
                <a:lnTo>
                  <a:pt x="973" y="758"/>
                </a:lnTo>
                <a:lnTo>
                  <a:pt x="974" y="761"/>
                </a:lnTo>
                <a:lnTo>
                  <a:pt x="1024" y="820"/>
                </a:lnTo>
                <a:lnTo>
                  <a:pt x="1044" y="840"/>
                </a:lnTo>
                <a:lnTo>
                  <a:pt x="1056" y="842"/>
                </a:lnTo>
                <a:lnTo>
                  <a:pt x="1044" y="856"/>
                </a:lnTo>
                <a:lnTo>
                  <a:pt x="1042" y="853"/>
                </a:lnTo>
                <a:lnTo>
                  <a:pt x="1056" y="838"/>
                </a:lnTo>
                <a:lnTo>
                  <a:pt x="1006" y="761"/>
                </a:lnTo>
                <a:lnTo>
                  <a:pt x="986" y="706"/>
                </a:lnTo>
                <a:lnTo>
                  <a:pt x="984" y="703"/>
                </a:lnTo>
                <a:lnTo>
                  <a:pt x="988" y="701"/>
                </a:lnTo>
                <a:lnTo>
                  <a:pt x="1024" y="668"/>
                </a:lnTo>
                <a:lnTo>
                  <a:pt x="1062" y="650"/>
                </a:lnTo>
                <a:lnTo>
                  <a:pt x="1110" y="652"/>
                </a:lnTo>
                <a:lnTo>
                  <a:pt x="1156" y="606"/>
                </a:lnTo>
                <a:lnTo>
                  <a:pt x="1160" y="604"/>
                </a:lnTo>
                <a:lnTo>
                  <a:pt x="1167" y="606"/>
                </a:lnTo>
                <a:lnTo>
                  <a:pt x="1188" y="610"/>
                </a:lnTo>
                <a:lnTo>
                  <a:pt x="1204" y="613"/>
                </a:lnTo>
                <a:lnTo>
                  <a:pt x="1206" y="613"/>
                </a:lnTo>
                <a:lnTo>
                  <a:pt x="1207" y="612"/>
                </a:lnTo>
                <a:lnTo>
                  <a:pt x="1216" y="605"/>
                </a:lnTo>
                <a:lnTo>
                  <a:pt x="1245" y="581"/>
                </a:lnTo>
                <a:lnTo>
                  <a:pt x="1268" y="563"/>
                </a:lnTo>
                <a:lnTo>
                  <a:pt x="1270" y="562"/>
                </a:lnTo>
                <a:lnTo>
                  <a:pt x="1272" y="562"/>
                </a:lnTo>
                <a:lnTo>
                  <a:pt x="1289" y="561"/>
                </a:lnTo>
                <a:lnTo>
                  <a:pt x="1347" y="559"/>
                </a:lnTo>
                <a:lnTo>
                  <a:pt x="1391" y="557"/>
                </a:lnTo>
                <a:lnTo>
                  <a:pt x="1394" y="557"/>
                </a:lnTo>
                <a:lnTo>
                  <a:pt x="1394" y="558"/>
                </a:lnTo>
                <a:lnTo>
                  <a:pt x="1400" y="561"/>
                </a:lnTo>
                <a:lnTo>
                  <a:pt x="1419" y="574"/>
                </a:lnTo>
                <a:lnTo>
                  <a:pt x="1432" y="583"/>
                </a:lnTo>
                <a:lnTo>
                  <a:pt x="1433" y="584"/>
                </a:lnTo>
                <a:lnTo>
                  <a:pt x="1432" y="585"/>
                </a:lnTo>
                <a:lnTo>
                  <a:pt x="1423" y="595"/>
                </a:lnTo>
                <a:lnTo>
                  <a:pt x="1390" y="627"/>
                </a:lnTo>
                <a:lnTo>
                  <a:pt x="1346" y="660"/>
                </a:lnTo>
                <a:lnTo>
                  <a:pt x="1365" y="653"/>
                </a:lnTo>
                <a:lnTo>
                  <a:pt x="1364" y="655"/>
                </a:lnTo>
                <a:lnTo>
                  <a:pt x="1363" y="662"/>
                </a:lnTo>
                <a:lnTo>
                  <a:pt x="1346" y="686"/>
                </a:lnTo>
                <a:lnTo>
                  <a:pt x="1350" y="708"/>
                </a:lnTo>
                <a:lnTo>
                  <a:pt x="1354" y="708"/>
                </a:lnTo>
                <a:lnTo>
                  <a:pt x="1354" y="709"/>
                </a:lnTo>
                <a:lnTo>
                  <a:pt x="1355" y="708"/>
                </a:lnTo>
                <a:lnTo>
                  <a:pt x="1380" y="702"/>
                </a:lnTo>
                <a:lnTo>
                  <a:pt x="1402" y="657"/>
                </a:lnTo>
                <a:lnTo>
                  <a:pt x="1429" y="628"/>
                </a:lnTo>
                <a:lnTo>
                  <a:pt x="1431" y="626"/>
                </a:lnTo>
                <a:lnTo>
                  <a:pt x="1433" y="626"/>
                </a:lnTo>
                <a:lnTo>
                  <a:pt x="1452" y="623"/>
                </a:lnTo>
                <a:lnTo>
                  <a:pt x="1533" y="631"/>
                </a:lnTo>
                <a:lnTo>
                  <a:pt x="1590" y="634"/>
                </a:lnTo>
                <a:lnTo>
                  <a:pt x="1586" y="624"/>
                </a:lnTo>
                <a:lnTo>
                  <a:pt x="1584" y="630"/>
                </a:lnTo>
                <a:lnTo>
                  <a:pt x="1588" y="628"/>
                </a:lnTo>
                <a:lnTo>
                  <a:pt x="1586" y="638"/>
                </a:lnTo>
                <a:lnTo>
                  <a:pt x="1587" y="622"/>
                </a:lnTo>
                <a:lnTo>
                  <a:pt x="1608" y="598"/>
                </a:lnTo>
                <a:lnTo>
                  <a:pt x="1610" y="596"/>
                </a:lnTo>
                <a:lnTo>
                  <a:pt x="1616" y="604"/>
                </a:lnTo>
                <a:lnTo>
                  <a:pt x="1616" y="598"/>
                </a:lnTo>
                <a:lnTo>
                  <a:pt x="1617" y="592"/>
                </a:lnTo>
                <a:lnTo>
                  <a:pt x="1645" y="577"/>
                </a:lnTo>
                <a:lnTo>
                  <a:pt x="1648" y="576"/>
                </a:lnTo>
                <a:lnTo>
                  <a:pt x="1649" y="577"/>
                </a:lnTo>
                <a:lnTo>
                  <a:pt x="1665" y="604"/>
                </a:lnTo>
                <a:lnTo>
                  <a:pt x="1692" y="599"/>
                </a:lnTo>
                <a:lnTo>
                  <a:pt x="1707" y="616"/>
                </a:lnTo>
                <a:lnTo>
                  <a:pt x="1718" y="611"/>
                </a:lnTo>
                <a:lnTo>
                  <a:pt x="1721" y="612"/>
                </a:lnTo>
                <a:lnTo>
                  <a:pt x="1722" y="612"/>
                </a:lnTo>
                <a:lnTo>
                  <a:pt x="1734" y="612"/>
                </a:lnTo>
                <a:lnTo>
                  <a:pt x="1776" y="640"/>
                </a:lnTo>
                <a:lnTo>
                  <a:pt x="1807" y="612"/>
                </a:lnTo>
                <a:lnTo>
                  <a:pt x="1808" y="612"/>
                </a:lnTo>
                <a:lnTo>
                  <a:pt x="1807" y="611"/>
                </a:lnTo>
                <a:lnTo>
                  <a:pt x="1802" y="608"/>
                </a:lnTo>
                <a:lnTo>
                  <a:pt x="1782" y="597"/>
                </a:lnTo>
                <a:lnTo>
                  <a:pt x="1766" y="589"/>
                </a:lnTo>
                <a:lnTo>
                  <a:pt x="1765" y="588"/>
                </a:lnTo>
                <a:lnTo>
                  <a:pt x="1767" y="588"/>
                </a:lnTo>
                <a:lnTo>
                  <a:pt x="1779" y="581"/>
                </a:lnTo>
                <a:lnTo>
                  <a:pt x="1822" y="558"/>
                </a:lnTo>
                <a:lnTo>
                  <a:pt x="1855" y="541"/>
                </a:lnTo>
                <a:lnTo>
                  <a:pt x="1857" y="540"/>
                </a:lnTo>
                <a:lnTo>
                  <a:pt x="1857" y="539"/>
                </a:lnTo>
                <a:lnTo>
                  <a:pt x="1852" y="535"/>
                </a:lnTo>
                <a:lnTo>
                  <a:pt x="1837" y="521"/>
                </a:lnTo>
                <a:lnTo>
                  <a:pt x="1825" y="510"/>
                </a:lnTo>
                <a:lnTo>
                  <a:pt x="1825" y="509"/>
                </a:lnTo>
                <a:lnTo>
                  <a:pt x="1825" y="509"/>
                </a:lnTo>
                <a:lnTo>
                  <a:pt x="1828" y="502"/>
                </a:lnTo>
                <a:lnTo>
                  <a:pt x="1835" y="482"/>
                </a:lnTo>
                <a:lnTo>
                  <a:pt x="1842" y="466"/>
                </a:lnTo>
                <a:lnTo>
                  <a:pt x="1842" y="465"/>
                </a:lnTo>
                <a:lnTo>
                  <a:pt x="1845" y="465"/>
                </a:lnTo>
                <a:lnTo>
                  <a:pt x="1864" y="460"/>
                </a:lnTo>
                <a:lnTo>
                  <a:pt x="1929" y="445"/>
                </a:lnTo>
                <a:lnTo>
                  <a:pt x="1977" y="434"/>
                </a:lnTo>
                <a:lnTo>
                  <a:pt x="1980" y="433"/>
                </a:lnTo>
                <a:lnTo>
                  <a:pt x="1981" y="433"/>
                </a:lnTo>
                <a:lnTo>
                  <a:pt x="1993" y="423"/>
                </a:lnTo>
                <a:lnTo>
                  <a:pt x="2030" y="393"/>
                </a:lnTo>
                <a:lnTo>
                  <a:pt x="2059" y="371"/>
                </a:lnTo>
                <a:lnTo>
                  <a:pt x="2062" y="369"/>
                </a:lnTo>
                <a:lnTo>
                  <a:pt x="2064" y="369"/>
                </a:lnTo>
                <a:lnTo>
                  <a:pt x="2083" y="368"/>
                </a:lnTo>
                <a:lnTo>
                  <a:pt x="2151" y="364"/>
                </a:lnTo>
                <a:lnTo>
                  <a:pt x="2203" y="361"/>
                </a:lnTo>
                <a:lnTo>
                  <a:pt x="2206" y="361"/>
                </a:lnTo>
                <a:lnTo>
                  <a:pt x="2205" y="360"/>
                </a:lnTo>
                <a:lnTo>
                  <a:pt x="2195" y="355"/>
                </a:lnTo>
                <a:lnTo>
                  <a:pt x="2166" y="337"/>
                </a:lnTo>
                <a:lnTo>
                  <a:pt x="2141" y="324"/>
                </a:lnTo>
                <a:lnTo>
                  <a:pt x="2141" y="323"/>
                </a:lnTo>
                <a:lnTo>
                  <a:pt x="2141" y="322"/>
                </a:lnTo>
                <a:lnTo>
                  <a:pt x="2143" y="318"/>
                </a:lnTo>
                <a:lnTo>
                  <a:pt x="2149" y="303"/>
                </a:lnTo>
                <a:lnTo>
                  <a:pt x="2155" y="293"/>
                </a:lnTo>
                <a:lnTo>
                  <a:pt x="2156" y="291"/>
                </a:lnTo>
                <a:lnTo>
                  <a:pt x="2157" y="291"/>
                </a:lnTo>
                <a:lnTo>
                  <a:pt x="2170" y="287"/>
                </a:lnTo>
                <a:lnTo>
                  <a:pt x="2213" y="271"/>
                </a:lnTo>
                <a:lnTo>
                  <a:pt x="2247" y="259"/>
                </a:lnTo>
                <a:lnTo>
                  <a:pt x="2249" y="259"/>
                </a:lnTo>
                <a:lnTo>
                  <a:pt x="2247" y="258"/>
                </a:lnTo>
                <a:lnTo>
                  <a:pt x="2235" y="255"/>
                </a:lnTo>
                <a:lnTo>
                  <a:pt x="2197" y="241"/>
                </a:lnTo>
                <a:lnTo>
                  <a:pt x="2169" y="231"/>
                </a:lnTo>
                <a:lnTo>
                  <a:pt x="2167" y="230"/>
                </a:lnTo>
                <a:lnTo>
                  <a:pt x="2169" y="228"/>
                </a:lnTo>
                <a:lnTo>
                  <a:pt x="2182" y="211"/>
                </a:lnTo>
                <a:lnTo>
                  <a:pt x="2212" y="172"/>
                </a:lnTo>
                <a:lnTo>
                  <a:pt x="2246" y="144"/>
                </a:lnTo>
                <a:lnTo>
                  <a:pt x="2257" y="102"/>
                </a:lnTo>
                <a:lnTo>
                  <a:pt x="2259" y="102"/>
                </a:lnTo>
                <a:lnTo>
                  <a:pt x="2272" y="104"/>
                </a:lnTo>
                <a:lnTo>
                  <a:pt x="2314" y="90"/>
                </a:lnTo>
                <a:lnTo>
                  <a:pt x="2344" y="83"/>
                </a:lnTo>
                <a:lnTo>
                  <a:pt x="2347" y="82"/>
                </a:lnTo>
                <a:lnTo>
                  <a:pt x="2340" y="78"/>
                </a:lnTo>
                <a:lnTo>
                  <a:pt x="2322" y="63"/>
                </a:lnTo>
                <a:lnTo>
                  <a:pt x="2309" y="52"/>
                </a:lnTo>
                <a:lnTo>
                  <a:pt x="2308" y="51"/>
                </a:lnTo>
                <a:lnTo>
                  <a:pt x="2309" y="50"/>
                </a:lnTo>
                <a:lnTo>
                  <a:pt x="2318" y="44"/>
                </a:lnTo>
                <a:lnTo>
                  <a:pt x="2346" y="20"/>
                </a:lnTo>
                <a:lnTo>
                  <a:pt x="2368" y="2"/>
                </a:lnTo>
                <a:lnTo>
                  <a:pt x="2369" y="0"/>
                </a:lnTo>
                <a:lnTo>
                  <a:pt x="2369" y="1"/>
                </a:lnTo>
                <a:lnTo>
                  <a:pt x="2375" y="3"/>
                </a:lnTo>
                <a:lnTo>
                  <a:pt x="2393" y="12"/>
                </a:lnTo>
                <a:lnTo>
                  <a:pt x="2408" y="18"/>
                </a:lnTo>
                <a:lnTo>
                  <a:pt x="2409" y="18"/>
                </a:lnTo>
                <a:lnTo>
                  <a:pt x="2409" y="19"/>
                </a:lnTo>
                <a:lnTo>
                  <a:pt x="2410" y="24"/>
                </a:lnTo>
                <a:lnTo>
                  <a:pt x="2413" y="39"/>
                </a:lnTo>
                <a:lnTo>
                  <a:pt x="2415" y="51"/>
                </a:lnTo>
                <a:lnTo>
                  <a:pt x="2416" y="51"/>
                </a:lnTo>
                <a:lnTo>
                  <a:pt x="2424" y="52"/>
                </a:lnTo>
                <a:lnTo>
                  <a:pt x="2449" y="56"/>
                </a:lnTo>
                <a:lnTo>
                  <a:pt x="2469" y="59"/>
                </a:lnTo>
                <a:lnTo>
                  <a:pt x="2470" y="59"/>
                </a:lnTo>
                <a:lnTo>
                  <a:pt x="2470" y="60"/>
                </a:lnTo>
                <a:lnTo>
                  <a:pt x="2470" y="63"/>
                </a:lnTo>
                <a:lnTo>
                  <a:pt x="2472" y="80"/>
                </a:lnTo>
                <a:lnTo>
                  <a:pt x="2473" y="92"/>
                </a:lnTo>
                <a:lnTo>
                  <a:pt x="2474" y="92"/>
                </a:lnTo>
                <a:lnTo>
                  <a:pt x="2472" y="94"/>
                </a:lnTo>
                <a:lnTo>
                  <a:pt x="2461" y="100"/>
                </a:lnTo>
                <a:lnTo>
                  <a:pt x="2422" y="122"/>
                </a:lnTo>
                <a:lnTo>
                  <a:pt x="2393" y="139"/>
                </a:lnTo>
                <a:lnTo>
                  <a:pt x="2391" y="140"/>
                </a:lnTo>
                <a:lnTo>
                  <a:pt x="2399" y="142"/>
                </a:lnTo>
                <a:lnTo>
                  <a:pt x="2423" y="146"/>
                </a:lnTo>
                <a:lnTo>
                  <a:pt x="2442" y="149"/>
                </a:lnTo>
                <a:lnTo>
                  <a:pt x="2443" y="149"/>
                </a:lnTo>
                <a:lnTo>
                  <a:pt x="2444" y="150"/>
                </a:lnTo>
                <a:lnTo>
                  <a:pt x="2451" y="157"/>
                </a:lnTo>
                <a:lnTo>
                  <a:pt x="2480" y="183"/>
                </a:lnTo>
                <a:lnTo>
                  <a:pt x="2502" y="202"/>
                </a:lnTo>
                <a:lnTo>
                  <a:pt x="2503" y="203"/>
                </a:lnTo>
                <a:lnTo>
                  <a:pt x="2505" y="202"/>
                </a:lnTo>
                <a:lnTo>
                  <a:pt x="2519" y="199"/>
                </a:lnTo>
                <a:lnTo>
                  <a:pt x="2570" y="186"/>
                </a:lnTo>
                <a:lnTo>
                  <a:pt x="2608" y="176"/>
                </a:lnTo>
                <a:lnTo>
                  <a:pt x="2610" y="175"/>
                </a:lnTo>
                <a:lnTo>
                  <a:pt x="2612" y="176"/>
                </a:lnTo>
                <a:lnTo>
                  <a:pt x="2618" y="181"/>
                </a:lnTo>
                <a:lnTo>
                  <a:pt x="2623" y="184"/>
                </a:lnTo>
                <a:lnTo>
                  <a:pt x="2623" y="184"/>
                </a:lnTo>
                <a:lnTo>
                  <a:pt x="2623" y="185"/>
                </a:lnTo>
                <a:lnTo>
                  <a:pt x="2618" y="192"/>
                </a:lnTo>
                <a:lnTo>
                  <a:pt x="2603" y="215"/>
                </a:lnTo>
                <a:lnTo>
                  <a:pt x="2592" y="234"/>
                </a:lnTo>
                <a:lnTo>
                  <a:pt x="2592" y="234"/>
                </a:lnTo>
                <a:lnTo>
                  <a:pt x="2594" y="237"/>
                </a:lnTo>
                <a:lnTo>
                  <a:pt x="2637" y="286"/>
                </a:lnTo>
                <a:lnTo>
                  <a:pt x="2670" y="313"/>
                </a:lnTo>
                <a:lnTo>
                  <a:pt x="2713" y="357"/>
                </a:lnTo>
                <a:lnTo>
                  <a:pt x="2716" y="360"/>
                </a:lnTo>
                <a:lnTo>
                  <a:pt x="2715" y="361"/>
                </a:lnTo>
                <a:lnTo>
                  <a:pt x="2711" y="371"/>
                </a:lnTo>
                <a:lnTo>
                  <a:pt x="2699" y="404"/>
                </a:lnTo>
                <a:lnTo>
                  <a:pt x="2688" y="428"/>
                </a:lnTo>
                <a:lnTo>
                  <a:pt x="2688" y="429"/>
                </a:lnTo>
                <a:lnTo>
                  <a:pt x="2688" y="431"/>
                </a:lnTo>
                <a:lnTo>
                  <a:pt x="2693" y="441"/>
                </a:lnTo>
                <a:lnTo>
                  <a:pt x="2706" y="476"/>
                </a:lnTo>
                <a:lnTo>
                  <a:pt x="2717" y="502"/>
                </a:lnTo>
                <a:lnTo>
                  <a:pt x="2717" y="504"/>
                </a:lnTo>
                <a:lnTo>
                  <a:pt x="2719" y="505"/>
                </a:lnTo>
                <a:lnTo>
                  <a:pt x="2736" y="508"/>
                </a:lnTo>
                <a:lnTo>
                  <a:pt x="2826" y="511"/>
                </a:lnTo>
                <a:lnTo>
                  <a:pt x="2834" y="530"/>
                </a:lnTo>
                <a:lnTo>
                  <a:pt x="2836" y="530"/>
                </a:lnTo>
                <a:lnTo>
                  <a:pt x="2838" y="531"/>
                </a:lnTo>
                <a:lnTo>
                  <a:pt x="2843" y="539"/>
                </a:lnTo>
                <a:lnTo>
                  <a:pt x="2877" y="592"/>
                </a:lnTo>
                <a:lnTo>
                  <a:pt x="2862" y="566"/>
                </a:lnTo>
                <a:lnTo>
                  <a:pt x="2876" y="586"/>
                </a:lnTo>
                <a:lnTo>
                  <a:pt x="2878" y="587"/>
                </a:lnTo>
                <a:lnTo>
                  <a:pt x="2879" y="588"/>
                </a:lnTo>
                <a:lnTo>
                  <a:pt x="2889" y="596"/>
                </a:lnTo>
                <a:lnTo>
                  <a:pt x="2886" y="616"/>
                </a:lnTo>
                <a:lnTo>
                  <a:pt x="2929" y="620"/>
                </a:lnTo>
                <a:lnTo>
                  <a:pt x="2925" y="649"/>
                </a:lnTo>
                <a:lnTo>
                  <a:pt x="2957" y="639"/>
                </a:lnTo>
                <a:lnTo>
                  <a:pt x="2960" y="639"/>
                </a:lnTo>
                <a:lnTo>
                  <a:pt x="2960" y="641"/>
                </a:lnTo>
                <a:lnTo>
                  <a:pt x="2968" y="653"/>
                </a:lnTo>
                <a:lnTo>
                  <a:pt x="2985" y="691"/>
                </a:lnTo>
                <a:lnTo>
                  <a:pt x="2994" y="694"/>
                </a:lnTo>
                <a:lnTo>
                  <a:pt x="3013" y="726"/>
                </a:lnTo>
                <a:lnTo>
                  <a:pt x="3015" y="727"/>
                </a:lnTo>
                <a:lnTo>
                  <a:pt x="3015" y="728"/>
                </a:lnTo>
                <a:lnTo>
                  <a:pt x="3016" y="733"/>
                </a:lnTo>
                <a:lnTo>
                  <a:pt x="3020" y="754"/>
                </a:lnTo>
                <a:lnTo>
                  <a:pt x="3023" y="769"/>
                </a:lnTo>
                <a:lnTo>
                  <a:pt x="3024" y="770"/>
                </a:lnTo>
                <a:lnTo>
                  <a:pt x="3021" y="769"/>
                </a:lnTo>
                <a:lnTo>
                  <a:pt x="3000" y="787"/>
                </a:lnTo>
                <a:lnTo>
                  <a:pt x="2955" y="775"/>
                </a:lnTo>
                <a:lnTo>
                  <a:pt x="2895" y="736"/>
                </a:lnTo>
                <a:lnTo>
                  <a:pt x="2878" y="718"/>
                </a:lnTo>
                <a:lnTo>
                  <a:pt x="2875" y="717"/>
                </a:lnTo>
                <a:lnTo>
                  <a:pt x="2871" y="721"/>
                </a:lnTo>
                <a:lnTo>
                  <a:pt x="2817" y="697"/>
                </a:lnTo>
                <a:lnTo>
                  <a:pt x="2784" y="661"/>
                </a:lnTo>
                <a:lnTo>
                  <a:pt x="2758" y="635"/>
                </a:lnTo>
                <a:lnTo>
                  <a:pt x="2755" y="632"/>
                </a:lnTo>
                <a:lnTo>
                  <a:pt x="2738" y="609"/>
                </a:lnTo>
                <a:lnTo>
                  <a:pt x="2724" y="577"/>
                </a:lnTo>
                <a:lnTo>
                  <a:pt x="2688" y="523"/>
                </a:lnTo>
                <a:lnTo>
                  <a:pt x="2646" y="481"/>
                </a:lnTo>
                <a:lnTo>
                  <a:pt x="2632" y="468"/>
                </a:lnTo>
                <a:lnTo>
                  <a:pt x="2620" y="465"/>
                </a:lnTo>
                <a:lnTo>
                  <a:pt x="2616" y="460"/>
                </a:lnTo>
                <a:lnTo>
                  <a:pt x="2545" y="452"/>
                </a:lnTo>
                <a:lnTo>
                  <a:pt x="2543" y="451"/>
                </a:lnTo>
                <a:lnTo>
                  <a:pt x="2543" y="453"/>
                </a:lnTo>
                <a:lnTo>
                  <a:pt x="2543" y="461"/>
                </a:lnTo>
                <a:lnTo>
                  <a:pt x="2550" y="478"/>
                </a:lnTo>
                <a:lnTo>
                  <a:pt x="2544" y="487"/>
                </a:lnTo>
                <a:lnTo>
                  <a:pt x="2545" y="507"/>
                </a:lnTo>
                <a:lnTo>
                  <a:pt x="2545" y="508"/>
                </a:lnTo>
                <a:lnTo>
                  <a:pt x="2546" y="509"/>
                </a:lnTo>
                <a:lnTo>
                  <a:pt x="2552" y="516"/>
                </a:lnTo>
                <a:lnTo>
                  <a:pt x="2572" y="538"/>
                </a:lnTo>
                <a:lnTo>
                  <a:pt x="2588" y="554"/>
                </a:lnTo>
                <a:lnTo>
                  <a:pt x="2590" y="555"/>
                </a:lnTo>
                <a:lnTo>
                  <a:pt x="2590" y="556"/>
                </a:lnTo>
                <a:lnTo>
                  <a:pt x="2594" y="566"/>
                </a:lnTo>
                <a:lnTo>
                  <a:pt x="2607" y="599"/>
                </a:lnTo>
                <a:lnTo>
                  <a:pt x="2617" y="625"/>
                </a:lnTo>
                <a:lnTo>
                  <a:pt x="2618" y="626"/>
                </a:lnTo>
                <a:lnTo>
                  <a:pt x="2617" y="627"/>
                </a:lnTo>
                <a:lnTo>
                  <a:pt x="2615" y="635"/>
                </a:lnTo>
                <a:lnTo>
                  <a:pt x="2609" y="661"/>
                </a:lnTo>
                <a:lnTo>
                  <a:pt x="2605" y="680"/>
                </a:lnTo>
                <a:lnTo>
                  <a:pt x="2605" y="681"/>
                </a:lnTo>
                <a:lnTo>
                  <a:pt x="2602" y="682"/>
                </a:lnTo>
                <a:lnTo>
                  <a:pt x="2592" y="685"/>
                </a:lnTo>
                <a:lnTo>
                  <a:pt x="2555" y="697"/>
                </a:lnTo>
                <a:lnTo>
                  <a:pt x="2527" y="705"/>
                </a:lnTo>
                <a:lnTo>
                  <a:pt x="2526" y="705"/>
                </a:lnTo>
                <a:lnTo>
                  <a:pt x="2524" y="707"/>
                </a:lnTo>
                <a:lnTo>
                  <a:pt x="2514" y="719"/>
                </a:lnTo>
                <a:lnTo>
                  <a:pt x="2478" y="759"/>
                </a:lnTo>
                <a:lnTo>
                  <a:pt x="2451" y="790"/>
                </a:lnTo>
                <a:lnTo>
                  <a:pt x="2450" y="791"/>
                </a:lnTo>
                <a:lnTo>
                  <a:pt x="2450" y="795"/>
                </a:lnTo>
                <a:lnTo>
                  <a:pt x="2452" y="820"/>
                </a:lnTo>
                <a:lnTo>
                  <a:pt x="2461" y="907"/>
                </a:lnTo>
                <a:lnTo>
                  <a:pt x="2468" y="972"/>
                </a:lnTo>
                <a:lnTo>
                  <a:pt x="2468" y="976"/>
                </a:lnTo>
                <a:lnTo>
                  <a:pt x="2470" y="976"/>
                </a:lnTo>
                <a:lnTo>
                  <a:pt x="2484" y="979"/>
                </a:lnTo>
                <a:lnTo>
                  <a:pt x="2531" y="990"/>
                </a:lnTo>
                <a:lnTo>
                  <a:pt x="2568" y="999"/>
                </a:lnTo>
                <a:lnTo>
                  <a:pt x="2571" y="999"/>
                </a:lnTo>
                <a:lnTo>
                  <a:pt x="2571" y="999"/>
                </a:lnTo>
                <a:lnTo>
                  <a:pt x="2571" y="993"/>
                </a:lnTo>
                <a:lnTo>
                  <a:pt x="2572" y="973"/>
                </a:lnTo>
                <a:lnTo>
                  <a:pt x="2573" y="958"/>
                </a:lnTo>
                <a:lnTo>
                  <a:pt x="2574" y="958"/>
                </a:lnTo>
                <a:lnTo>
                  <a:pt x="2575" y="958"/>
                </a:lnTo>
                <a:lnTo>
                  <a:pt x="2581" y="956"/>
                </a:lnTo>
                <a:lnTo>
                  <a:pt x="2664" y="988"/>
                </a:lnTo>
                <a:lnTo>
                  <a:pt x="2706" y="988"/>
                </a:lnTo>
                <a:lnTo>
                  <a:pt x="2709" y="997"/>
                </a:lnTo>
                <a:lnTo>
                  <a:pt x="2766" y="1030"/>
                </a:lnTo>
                <a:lnTo>
                  <a:pt x="2799" y="1069"/>
                </a:lnTo>
                <a:lnTo>
                  <a:pt x="2853" y="1084"/>
                </a:lnTo>
                <a:lnTo>
                  <a:pt x="2889" y="1099"/>
                </a:lnTo>
                <a:lnTo>
                  <a:pt x="2916" y="1150"/>
                </a:lnTo>
                <a:lnTo>
                  <a:pt x="2937" y="1180"/>
                </a:lnTo>
                <a:lnTo>
                  <a:pt x="2973" y="1207"/>
                </a:lnTo>
                <a:lnTo>
                  <a:pt x="3009" y="1218"/>
                </a:lnTo>
                <a:lnTo>
                  <a:pt x="3048" y="1284"/>
                </a:lnTo>
                <a:lnTo>
                  <a:pt x="3040" y="1309"/>
                </a:lnTo>
                <a:lnTo>
                  <a:pt x="3036" y="1325"/>
                </a:lnTo>
                <a:lnTo>
                  <a:pt x="3020" y="1491"/>
                </a:lnTo>
                <a:lnTo>
                  <a:pt x="2953" y="1541"/>
                </a:lnTo>
                <a:lnTo>
                  <a:pt x="2930" y="1556"/>
                </a:lnTo>
                <a:lnTo>
                  <a:pt x="2908" y="1559"/>
                </a:lnTo>
                <a:lnTo>
                  <a:pt x="2827" y="1564"/>
                </a:lnTo>
                <a:lnTo>
                  <a:pt x="2810" y="1498"/>
                </a:lnTo>
                <a:lnTo>
                  <a:pt x="2814" y="1497"/>
                </a:lnTo>
                <a:lnTo>
                  <a:pt x="2808" y="1487"/>
                </a:lnTo>
                <a:lnTo>
                  <a:pt x="2818" y="1497"/>
                </a:lnTo>
                <a:lnTo>
                  <a:pt x="2806" y="1486"/>
                </a:lnTo>
                <a:lnTo>
                  <a:pt x="2747" y="1458"/>
                </a:lnTo>
                <a:lnTo>
                  <a:pt x="2725" y="1457"/>
                </a:lnTo>
                <a:lnTo>
                  <a:pt x="2701" y="1460"/>
                </a:lnTo>
                <a:lnTo>
                  <a:pt x="2701" y="1469"/>
                </a:lnTo>
                <a:lnTo>
                  <a:pt x="2705" y="1484"/>
                </a:lnTo>
                <a:lnTo>
                  <a:pt x="2638" y="1475"/>
                </a:lnTo>
                <a:lnTo>
                  <a:pt x="2666" y="1482"/>
                </a:lnTo>
                <a:lnTo>
                  <a:pt x="2627" y="1460"/>
                </a:lnTo>
                <a:lnTo>
                  <a:pt x="2611" y="1445"/>
                </a:lnTo>
                <a:lnTo>
                  <a:pt x="2597" y="1435"/>
                </a:lnTo>
                <a:lnTo>
                  <a:pt x="2579" y="1416"/>
                </a:lnTo>
                <a:lnTo>
                  <a:pt x="2572" y="1412"/>
                </a:lnTo>
                <a:lnTo>
                  <a:pt x="2528" y="1391"/>
                </a:lnTo>
                <a:lnTo>
                  <a:pt x="2542" y="1393"/>
                </a:lnTo>
                <a:lnTo>
                  <a:pt x="2544" y="1392"/>
                </a:lnTo>
                <a:lnTo>
                  <a:pt x="2530" y="1390"/>
                </a:lnTo>
                <a:lnTo>
                  <a:pt x="2516" y="1379"/>
                </a:lnTo>
                <a:lnTo>
                  <a:pt x="2496" y="1364"/>
                </a:lnTo>
                <a:lnTo>
                  <a:pt x="2493" y="1369"/>
                </a:lnTo>
                <a:lnTo>
                  <a:pt x="2493" y="1367"/>
                </a:lnTo>
                <a:lnTo>
                  <a:pt x="2490" y="1376"/>
                </a:lnTo>
                <a:lnTo>
                  <a:pt x="2473" y="1359"/>
                </a:lnTo>
                <a:lnTo>
                  <a:pt x="2496" y="1381"/>
                </a:lnTo>
                <a:lnTo>
                  <a:pt x="2493" y="1374"/>
                </a:lnTo>
                <a:lnTo>
                  <a:pt x="2519" y="1388"/>
                </a:lnTo>
                <a:lnTo>
                  <a:pt x="2491" y="1363"/>
                </a:lnTo>
                <a:lnTo>
                  <a:pt x="2457" y="1355"/>
                </a:lnTo>
                <a:lnTo>
                  <a:pt x="2451" y="1312"/>
                </a:lnTo>
                <a:lnTo>
                  <a:pt x="2440" y="1300"/>
                </a:lnTo>
                <a:lnTo>
                  <a:pt x="2445" y="1298"/>
                </a:lnTo>
                <a:lnTo>
                  <a:pt x="2425" y="1289"/>
                </a:lnTo>
                <a:lnTo>
                  <a:pt x="2422" y="1273"/>
                </a:lnTo>
                <a:lnTo>
                  <a:pt x="2410" y="1261"/>
                </a:lnTo>
                <a:lnTo>
                  <a:pt x="2428" y="1274"/>
                </a:lnTo>
                <a:lnTo>
                  <a:pt x="2422" y="1274"/>
                </a:lnTo>
                <a:lnTo>
                  <a:pt x="2430" y="1271"/>
                </a:lnTo>
                <a:lnTo>
                  <a:pt x="2420" y="1263"/>
                </a:lnTo>
                <a:lnTo>
                  <a:pt x="2418" y="1262"/>
                </a:lnTo>
                <a:lnTo>
                  <a:pt x="2426" y="1266"/>
                </a:lnTo>
                <a:lnTo>
                  <a:pt x="2381" y="1247"/>
                </a:lnTo>
                <a:lnTo>
                  <a:pt x="2426" y="1269"/>
                </a:lnTo>
                <a:lnTo>
                  <a:pt x="2355" y="1240"/>
                </a:lnTo>
                <a:lnTo>
                  <a:pt x="2301" y="1216"/>
                </a:lnTo>
                <a:lnTo>
                  <a:pt x="2298" y="1218"/>
                </a:lnTo>
                <a:lnTo>
                  <a:pt x="2304" y="1218"/>
                </a:lnTo>
                <a:lnTo>
                  <a:pt x="2289" y="1211"/>
                </a:lnTo>
                <a:lnTo>
                  <a:pt x="2256" y="1218"/>
                </a:lnTo>
                <a:lnTo>
                  <a:pt x="2256" y="1218"/>
                </a:lnTo>
                <a:lnTo>
                  <a:pt x="2254" y="1218"/>
                </a:lnTo>
                <a:lnTo>
                  <a:pt x="2248" y="1221"/>
                </a:lnTo>
                <a:lnTo>
                  <a:pt x="2271" y="1216"/>
                </a:lnTo>
                <a:lnTo>
                  <a:pt x="2245" y="1221"/>
                </a:lnTo>
                <a:lnTo>
                  <a:pt x="2208" y="1223"/>
                </a:lnTo>
                <a:lnTo>
                  <a:pt x="2207" y="1224"/>
                </a:lnTo>
                <a:lnTo>
                  <a:pt x="2208" y="1225"/>
                </a:lnTo>
                <a:lnTo>
                  <a:pt x="2213" y="1230"/>
                </a:lnTo>
                <a:lnTo>
                  <a:pt x="2232" y="1247"/>
                </a:lnTo>
                <a:lnTo>
                  <a:pt x="2247" y="1261"/>
                </a:lnTo>
                <a:lnTo>
                  <a:pt x="2249" y="1262"/>
                </a:lnTo>
                <a:lnTo>
                  <a:pt x="2248" y="1263"/>
                </a:lnTo>
                <a:lnTo>
                  <a:pt x="2246" y="1270"/>
                </a:lnTo>
                <a:lnTo>
                  <a:pt x="2240" y="1296"/>
                </a:lnTo>
                <a:lnTo>
                  <a:pt x="2235" y="1316"/>
                </a:lnTo>
                <a:lnTo>
                  <a:pt x="2235" y="1316"/>
                </a:lnTo>
                <a:lnTo>
                  <a:pt x="2239" y="1320"/>
                </a:lnTo>
                <a:lnTo>
                  <a:pt x="2251" y="1334"/>
                </a:lnTo>
                <a:lnTo>
                  <a:pt x="2260" y="1343"/>
                </a:lnTo>
                <a:lnTo>
                  <a:pt x="2261" y="1343"/>
                </a:lnTo>
                <a:lnTo>
                  <a:pt x="2260" y="1344"/>
                </a:lnTo>
                <a:lnTo>
                  <a:pt x="2255" y="1349"/>
                </a:lnTo>
                <a:lnTo>
                  <a:pt x="2236" y="1367"/>
                </a:lnTo>
                <a:lnTo>
                  <a:pt x="2223" y="1380"/>
                </a:lnTo>
                <a:lnTo>
                  <a:pt x="2222" y="1381"/>
                </a:lnTo>
                <a:lnTo>
                  <a:pt x="2220" y="1381"/>
                </a:lnTo>
                <a:lnTo>
                  <a:pt x="2209" y="1381"/>
                </a:lnTo>
                <a:lnTo>
                  <a:pt x="2171" y="1381"/>
                </a:lnTo>
                <a:lnTo>
                  <a:pt x="2142" y="1381"/>
                </a:lnTo>
                <a:lnTo>
                  <a:pt x="2141" y="1381"/>
                </a:lnTo>
                <a:lnTo>
                  <a:pt x="2138" y="1381"/>
                </a:lnTo>
                <a:lnTo>
                  <a:pt x="2123" y="1389"/>
                </a:lnTo>
                <a:lnTo>
                  <a:pt x="2066" y="1415"/>
                </a:lnTo>
                <a:lnTo>
                  <a:pt x="2023" y="1435"/>
                </a:lnTo>
                <a:lnTo>
                  <a:pt x="2022" y="1435"/>
                </a:lnTo>
                <a:lnTo>
                  <a:pt x="2018" y="1436"/>
                </a:lnTo>
                <a:lnTo>
                  <a:pt x="2002" y="1434"/>
                </a:lnTo>
                <a:lnTo>
                  <a:pt x="2014" y="1412"/>
                </a:lnTo>
                <a:lnTo>
                  <a:pt x="2024" y="1392"/>
                </a:lnTo>
                <a:lnTo>
                  <a:pt x="2020" y="1362"/>
                </a:lnTo>
                <a:lnTo>
                  <a:pt x="1992" y="1362"/>
                </a:lnTo>
                <a:lnTo>
                  <a:pt x="1958" y="1368"/>
                </a:lnTo>
                <a:lnTo>
                  <a:pt x="1940" y="1346"/>
                </a:lnTo>
                <a:lnTo>
                  <a:pt x="1894" y="1356"/>
                </a:lnTo>
                <a:lnTo>
                  <a:pt x="1872" y="1368"/>
                </a:lnTo>
                <a:lnTo>
                  <a:pt x="1916" y="1348"/>
                </a:lnTo>
                <a:lnTo>
                  <a:pt x="1860" y="1382"/>
                </a:lnTo>
                <a:lnTo>
                  <a:pt x="1832" y="1400"/>
                </a:lnTo>
                <a:lnTo>
                  <a:pt x="1784" y="1410"/>
                </a:lnTo>
                <a:lnTo>
                  <a:pt x="1852" y="1390"/>
                </a:lnTo>
                <a:lnTo>
                  <a:pt x="1816" y="1402"/>
                </a:lnTo>
                <a:lnTo>
                  <a:pt x="1766" y="1414"/>
                </a:lnTo>
                <a:lnTo>
                  <a:pt x="1692" y="1406"/>
                </a:lnTo>
                <a:lnTo>
                  <a:pt x="1752" y="1410"/>
                </a:lnTo>
                <a:lnTo>
                  <a:pt x="1726" y="1412"/>
                </a:lnTo>
                <a:lnTo>
                  <a:pt x="1660" y="1400"/>
                </a:lnTo>
                <a:lnTo>
                  <a:pt x="1619" y="1378"/>
                </a:lnTo>
                <a:lnTo>
                  <a:pt x="1592" y="1374"/>
                </a:lnTo>
                <a:lnTo>
                  <a:pt x="1568" y="1371"/>
                </a:lnTo>
                <a:lnTo>
                  <a:pt x="1570" y="1340"/>
                </a:lnTo>
                <a:lnTo>
                  <a:pt x="1559" y="1367"/>
                </a:lnTo>
                <a:lnTo>
                  <a:pt x="1546" y="1342"/>
                </a:lnTo>
                <a:lnTo>
                  <a:pt x="1518" y="1338"/>
                </a:lnTo>
                <a:lnTo>
                  <a:pt x="1492" y="1340"/>
                </a:lnTo>
                <a:lnTo>
                  <a:pt x="1478" y="1350"/>
                </a:lnTo>
                <a:lnTo>
                  <a:pt x="1446" y="1348"/>
                </a:lnTo>
                <a:lnTo>
                  <a:pt x="1426" y="1342"/>
                </a:lnTo>
                <a:lnTo>
                  <a:pt x="1396" y="1330"/>
                </a:lnTo>
                <a:lnTo>
                  <a:pt x="1380" y="1290"/>
                </a:lnTo>
                <a:lnTo>
                  <a:pt x="1352" y="1270"/>
                </a:lnTo>
                <a:lnTo>
                  <a:pt x="1326" y="1268"/>
                </a:lnTo>
                <a:lnTo>
                  <a:pt x="1296" y="1264"/>
                </a:lnTo>
                <a:lnTo>
                  <a:pt x="1260" y="1250"/>
                </a:lnTo>
                <a:lnTo>
                  <a:pt x="1240" y="1232"/>
                </a:lnTo>
                <a:lnTo>
                  <a:pt x="1246" y="1248"/>
                </a:lnTo>
                <a:lnTo>
                  <a:pt x="1216" y="1260"/>
                </a:lnTo>
                <a:lnTo>
                  <a:pt x="1214" y="1280"/>
                </a:lnTo>
                <a:lnTo>
                  <a:pt x="1217" y="1364"/>
                </a:lnTo>
                <a:lnTo>
                  <a:pt x="1211" y="1378"/>
                </a:lnTo>
                <a:lnTo>
                  <a:pt x="1202" y="1383"/>
                </a:lnTo>
                <a:lnTo>
                  <a:pt x="1208" y="1388"/>
                </a:lnTo>
                <a:lnTo>
                  <a:pt x="1193" y="1395"/>
                </a:lnTo>
                <a:lnTo>
                  <a:pt x="1223" y="1359"/>
                </a:lnTo>
                <a:lnTo>
                  <a:pt x="1208" y="1383"/>
                </a:lnTo>
                <a:lnTo>
                  <a:pt x="1217" y="1362"/>
                </a:lnTo>
                <a:lnTo>
                  <a:pt x="1211" y="1383"/>
                </a:lnTo>
                <a:lnTo>
                  <a:pt x="1223" y="1367"/>
                </a:lnTo>
                <a:lnTo>
                  <a:pt x="1187" y="1397"/>
                </a:lnTo>
                <a:lnTo>
                  <a:pt x="1181" y="1392"/>
                </a:lnTo>
                <a:lnTo>
                  <a:pt x="1173" y="1390"/>
                </a:lnTo>
                <a:lnTo>
                  <a:pt x="1217" y="1357"/>
                </a:lnTo>
                <a:lnTo>
                  <a:pt x="1181" y="1388"/>
                </a:lnTo>
                <a:lnTo>
                  <a:pt x="1187" y="1390"/>
                </a:lnTo>
                <a:lnTo>
                  <a:pt x="1187" y="1385"/>
                </a:lnTo>
                <a:lnTo>
                  <a:pt x="1199" y="1388"/>
                </a:lnTo>
                <a:lnTo>
                  <a:pt x="1217" y="1364"/>
                </a:lnTo>
                <a:lnTo>
                  <a:pt x="1170" y="1390"/>
                </a:lnTo>
                <a:lnTo>
                  <a:pt x="1128" y="1385"/>
                </a:lnTo>
                <a:lnTo>
                  <a:pt x="1146" y="1385"/>
                </a:lnTo>
                <a:lnTo>
                  <a:pt x="1167" y="1390"/>
                </a:lnTo>
                <a:lnTo>
                  <a:pt x="1090" y="1381"/>
                </a:lnTo>
                <a:lnTo>
                  <a:pt x="1155" y="1376"/>
                </a:lnTo>
                <a:lnTo>
                  <a:pt x="1161" y="1385"/>
                </a:lnTo>
                <a:lnTo>
                  <a:pt x="1167" y="1390"/>
                </a:lnTo>
                <a:lnTo>
                  <a:pt x="1122" y="1390"/>
                </a:lnTo>
                <a:lnTo>
                  <a:pt x="1113" y="1376"/>
                </a:lnTo>
                <a:lnTo>
                  <a:pt x="1122" y="1381"/>
                </a:lnTo>
                <a:lnTo>
                  <a:pt x="1111" y="1376"/>
                </a:lnTo>
                <a:lnTo>
                  <a:pt x="1111" y="1381"/>
                </a:lnTo>
                <a:lnTo>
                  <a:pt x="1063" y="1369"/>
                </a:lnTo>
                <a:lnTo>
                  <a:pt x="1078" y="1383"/>
                </a:lnTo>
                <a:lnTo>
                  <a:pt x="1096" y="1383"/>
                </a:lnTo>
                <a:lnTo>
                  <a:pt x="1128" y="1388"/>
                </a:lnTo>
                <a:lnTo>
                  <a:pt x="1116" y="1378"/>
                </a:lnTo>
                <a:lnTo>
                  <a:pt x="1057" y="1376"/>
                </a:lnTo>
                <a:lnTo>
                  <a:pt x="1054" y="1371"/>
                </a:lnTo>
                <a:lnTo>
                  <a:pt x="988" y="1344"/>
                </a:lnTo>
                <a:lnTo>
                  <a:pt x="1022" y="1357"/>
                </a:lnTo>
                <a:lnTo>
                  <a:pt x="1043" y="1364"/>
                </a:lnTo>
                <a:lnTo>
                  <a:pt x="1028" y="1357"/>
                </a:lnTo>
                <a:lnTo>
                  <a:pt x="1040" y="1367"/>
                </a:lnTo>
                <a:lnTo>
                  <a:pt x="1046" y="1369"/>
                </a:lnTo>
                <a:lnTo>
                  <a:pt x="975" y="1348"/>
                </a:lnTo>
                <a:lnTo>
                  <a:pt x="933" y="1344"/>
                </a:lnTo>
                <a:lnTo>
                  <a:pt x="780" y="1416"/>
                </a:lnTo>
                <a:lnTo>
                  <a:pt x="792" y="1442"/>
                </a:lnTo>
                <a:lnTo>
                  <a:pt x="992" y="1345"/>
                </a:lnTo>
                <a:lnTo>
                  <a:pt x="995" y="1345"/>
                </a:lnTo>
                <a:lnTo>
                  <a:pt x="902" y="1353"/>
                </a:lnTo>
                <a:lnTo>
                  <a:pt x="871" y="1378"/>
                </a:lnTo>
                <a:lnTo>
                  <a:pt x="824" y="1404"/>
                </a:lnTo>
                <a:lnTo>
                  <a:pt x="874" y="1375"/>
                </a:lnTo>
                <a:lnTo>
                  <a:pt x="961" y="1344"/>
                </a:lnTo>
                <a:lnTo>
                  <a:pt x="851" y="1381"/>
                </a:lnTo>
                <a:lnTo>
                  <a:pt x="788" y="1422"/>
                </a:lnTo>
                <a:lnTo>
                  <a:pt x="811" y="1394"/>
                </a:lnTo>
                <a:lnTo>
                  <a:pt x="810" y="1446"/>
                </a:lnTo>
                <a:lnTo>
                  <a:pt x="801" y="1449"/>
                </a:lnTo>
                <a:lnTo>
                  <a:pt x="771" y="1457"/>
                </a:lnTo>
                <a:lnTo>
                  <a:pt x="746" y="1464"/>
                </a:lnTo>
                <a:lnTo>
                  <a:pt x="745" y="1464"/>
                </a:lnTo>
                <a:lnTo>
                  <a:pt x="744" y="1464"/>
                </a:lnTo>
                <a:lnTo>
                  <a:pt x="738" y="1460"/>
                </a:lnTo>
                <a:lnTo>
                  <a:pt x="721" y="1447"/>
                </a:lnTo>
                <a:lnTo>
                  <a:pt x="707" y="1439"/>
                </a:lnTo>
                <a:lnTo>
                  <a:pt x="706" y="1438"/>
                </a:lnTo>
                <a:lnTo>
                  <a:pt x="704" y="1438"/>
                </a:lnTo>
                <a:lnTo>
                  <a:pt x="698" y="1438"/>
                </a:lnTo>
                <a:lnTo>
                  <a:pt x="676" y="1438"/>
                </a:lnTo>
                <a:lnTo>
                  <a:pt x="660" y="1438"/>
                </a:lnTo>
                <a:lnTo>
                  <a:pt x="660" y="1438"/>
                </a:lnTo>
                <a:lnTo>
                  <a:pt x="661" y="1435"/>
                </a:lnTo>
                <a:lnTo>
                  <a:pt x="665" y="1424"/>
                </a:lnTo>
                <a:lnTo>
                  <a:pt x="669" y="1416"/>
                </a:lnTo>
                <a:lnTo>
                  <a:pt x="669" y="1415"/>
                </a:lnTo>
                <a:lnTo>
                  <a:pt x="665" y="1414"/>
                </a:lnTo>
                <a:lnTo>
                  <a:pt x="654" y="1406"/>
                </a:lnTo>
                <a:lnTo>
                  <a:pt x="643" y="1400"/>
                </a:lnTo>
                <a:lnTo>
                  <a:pt x="643" y="1399"/>
                </a:lnTo>
                <a:lnTo>
                  <a:pt x="639" y="1399"/>
                </a:lnTo>
                <a:lnTo>
                  <a:pt x="645" y="1408"/>
                </a:lnTo>
                <a:lnTo>
                  <a:pt x="618" y="1389"/>
                </a:lnTo>
                <a:lnTo>
                  <a:pt x="618" y="1388"/>
                </a:lnTo>
                <a:lnTo>
                  <a:pt x="615" y="1389"/>
                </a:lnTo>
                <a:lnTo>
                  <a:pt x="598" y="1391"/>
                </a:lnTo>
                <a:lnTo>
                  <a:pt x="535" y="1397"/>
                </a:lnTo>
                <a:lnTo>
                  <a:pt x="487" y="1402"/>
                </a:lnTo>
                <a:lnTo>
                  <a:pt x="484" y="1402"/>
                </a:lnTo>
                <a:lnTo>
                  <a:pt x="482" y="1403"/>
                </a:lnTo>
                <a:lnTo>
                  <a:pt x="474" y="1403"/>
                </a:lnTo>
                <a:lnTo>
                  <a:pt x="513" y="1405"/>
                </a:lnTo>
                <a:lnTo>
                  <a:pt x="418" y="1411"/>
                </a:lnTo>
                <a:lnTo>
                  <a:pt x="417" y="1411"/>
                </a:lnTo>
                <a:lnTo>
                  <a:pt x="416" y="1411"/>
                </a:lnTo>
                <a:lnTo>
                  <a:pt x="411" y="1410"/>
                </a:lnTo>
                <a:lnTo>
                  <a:pt x="392" y="1409"/>
                </a:lnTo>
                <a:lnTo>
                  <a:pt x="378" y="1407"/>
                </a:lnTo>
                <a:lnTo>
                  <a:pt x="377" y="1407"/>
                </a:lnTo>
                <a:lnTo>
                  <a:pt x="376" y="1407"/>
                </a:lnTo>
                <a:lnTo>
                  <a:pt x="374" y="1409"/>
                </a:lnTo>
                <a:lnTo>
                  <a:pt x="366" y="1416"/>
                </a:lnTo>
                <a:lnTo>
                  <a:pt x="360" y="1421"/>
                </a:lnTo>
                <a:lnTo>
                  <a:pt x="360" y="1421"/>
                </a:lnTo>
                <a:lnTo>
                  <a:pt x="362" y="1423"/>
                </a:lnTo>
                <a:lnTo>
                  <a:pt x="369" y="1430"/>
                </a:lnTo>
                <a:lnTo>
                  <a:pt x="375" y="1435"/>
                </a:lnTo>
                <a:lnTo>
                  <a:pt x="375" y="1435"/>
                </a:lnTo>
                <a:lnTo>
                  <a:pt x="371" y="1435"/>
                </a:lnTo>
                <a:lnTo>
                  <a:pt x="360" y="1437"/>
                </a:lnTo>
                <a:lnTo>
                  <a:pt x="350" y="1438"/>
                </a:lnTo>
                <a:lnTo>
                  <a:pt x="350" y="1438"/>
                </a:lnTo>
                <a:lnTo>
                  <a:pt x="349" y="1438"/>
                </a:lnTo>
                <a:lnTo>
                  <a:pt x="348" y="1439"/>
                </a:lnTo>
                <a:lnTo>
                  <a:pt x="341" y="1443"/>
                </a:lnTo>
                <a:lnTo>
                  <a:pt x="337" y="1446"/>
                </a:lnTo>
                <a:lnTo>
                  <a:pt x="337" y="1446"/>
                </a:lnTo>
                <a:lnTo>
                  <a:pt x="337" y="1446"/>
                </a:lnTo>
                <a:lnTo>
                  <a:pt x="337" y="1449"/>
                </a:lnTo>
                <a:lnTo>
                  <a:pt x="338" y="1457"/>
                </a:lnTo>
                <a:lnTo>
                  <a:pt x="339" y="1462"/>
                </a:lnTo>
                <a:lnTo>
                  <a:pt x="340" y="1462"/>
                </a:lnTo>
                <a:lnTo>
                  <a:pt x="339" y="1462"/>
                </a:lnTo>
                <a:lnTo>
                  <a:pt x="336" y="1462"/>
                </a:lnTo>
                <a:lnTo>
                  <a:pt x="325" y="1462"/>
                </a:lnTo>
                <a:lnTo>
                  <a:pt x="316" y="1461"/>
                </a:lnTo>
                <a:lnTo>
                  <a:pt x="316" y="1461"/>
                </a:lnTo>
                <a:lnTo>
                  <a:pt x="315" y="1461"/>
                </a:lnTo>
                <a:lnTo>
                  <a:pt x="314" y="1462"/>
                </a:lnTo>
                <a:lnTo>
                  <a:pt x="308" y="1465"/>
                </a:lnTo>
                <a:lnTo>
                  <a:pt x="304" y="1468"/>
                </a:lnTo>
                <a:lnTo>
                  <a:pt x="304" y="1468"/>
                </a:lnTo>
                <a:lnTo>
                  <a:pt x="305" y="1471"/>
                </a:lnTo>
                <a:lnTo>
                  <a:pt x="311" y="1477"/>
                </a:lnTo>
                <a:lnTo>
                  <a:pt x="315" y="1483"/>
                </a:lnTo>
                <a:lnTo>
                  <a:pt x="316" y="1483"/>
                </a:lnTo>
                <a:lnTo>
                  <a:pt x="319" y="1483"/>
                </a:lnTo>
                <a:lnTo>
                  <a:pt x="329" y="1486"/>
                </a:lnTo>
                <a:lnTo>
                  <a:pt x="336" y="1486"/>
                </a:lnTo>
                <a:lnTo>
                  <a:pt x="337" y="1486"/>
                </a:lnTo>
                <a:lnTo>
                  <a:pt x="337" y="1487"/>
                </a:lnTo>
                <a:lnTo>
                  <a:pt x="337" y="1490"/>
                </a:lnTo>
                <a:lnTo>
                  <a:pt x="341" y="1501"/>
                </a:lnTo>
                <a:lnTo>
                  <a:pt x="343" y="1508"/>
                </a:lnTo>
                <a:lnTo>
                  <a:pt x="344" y="1508"/>
                </a:lnTo>
                <a:lnTo>
                  <a:pt x="343" y="1508"/>
                </a:lnTo>
                <a:lnTo>
                  <a:pt x="339" y="1510"/>
                </a:lnTo>
                <a:lnTo>
                  <a:pt x="326" y="1515"/>
                </a:lnTo>
                <a:lnTo>
                  <a:pt x="316" y="1520"/>
                </a:lnTo>
                <a:lnTo>
                  <a:pt x="316" y="1520"/>
                </a:lnTo>
                <a:lnTo>
                  <a:pt x="312" y="1519"/>
                </a:lnTo>
                <a:lnTo>
                  <a:pt x="301" y="1512"/>
                </a:lnTo>
                <a:lnTo>
                  <a:pt x="293" y="1508"/>
                </a:lnTo>
                <a:lnTo>
                  <a:pt x="293" y="1508"/>
                </a:lnTo>
                <a:lnTo>
                  <a:pt x="292" y="1508"/>
                </a:lnTo>
                <a:lnTo>
                  <a:pt x="288" y="1508"/>
                </a:lnTo>
                <a:lnTo>
                  <a:pt x="271" y="1507"/>
                </a:lnTo>
                <a:lnTo>
                  <a:pt x="258" y="1506"/>
                </a:lnTo>
                <a:lnTo>
                  <a:pt x="257" y="1506"/>
                </a:lnTo>
                <a:lnTo>
                  <a:pt x="257" y="1505"/>
                </a:lnTo>
                <a:lnTo>
                  <a:pt x="253" y="1501"/>
                </a:lnTo>
                <a:lnTo>
                  <a:pt x="242" y="1488"/>
                </a:lnTo>
                <a:lnTo>
                  <a:pt x="235" y="1477"/>
                </a:lnTo>
                <a:lnTo>
                  <a:pt x="235" y="1476"/>
                </a:lnTo>
                <a:lnTo>
                  <a:pt x="232" y="1476"/>
                </a:lnTo>
                <a:lnTo>
                  <a:pt x="222" y="1475"/>
                </a:lnTo>
                <a:lnTo>
                  <a:pt x="183" y="1471"/>
                </a:lnTo>
                <a:lnTo>
                  <a:pt x="154" y="1468"/>
                </a:lnTo>
                <a:lnTo>
                  <a:pt x="152" y="1467"/>
                </a:lnTo>
                <a:lnTo>
                  <a:pt x="151" y="1468"/>
                </a:lnTo>
                <a:lnTo>
                  <a:pt x="146" y="1469"/>
                </a:lnTo>
                <a:lnTo>
                  <a:pt x="129" y="1476"/>
                </a:lnTo>
                <a:lnTo>
                  <a:pt x="116" y="1481"/>
                </a:lnTo>
                <a:lnTo>
                  <a:pt x="115" y="1481"/>
                </a:lnTo>
                <a:lnTo>
                  <a:pt x="113" y="1475"/>
                </a:lnTo>
                <a:lnTo>
                  <a:pt x="109" y="1455"/>
                </a:lnTo>
                <a:lnTo>
                  <a:pt x="106" y="1439"/>
                </a:lnTo>
                <a:lnTo>
                  <a:pt x="106" y="1439"/>
                </a:lnTo>
                <a:lnTo>
                  <a:pt x="101" y="1434"/>
                </a:lnTo>
                <a:lnTo>
                  <a:pt x="86" y="1421"/>
                </a:lnTo>
                <a:lnTo>
                  <a:pt x="74" y="1410"/>
                </a:lnTo>
                <a:lnTo>
                  <a:pt x="73" y="1410"/>
                </a:lnTo>
                <a:lnTo>
                  <a:pt x="71" y="1410"/>
                </a:lnTo>
                <a:lnTo>
                  <a:pt x="61" y="1410"/>
                </a:lnTo>
                <a:lnTo>
                  <a:pt x="28" y="1409"/>
                </a:lnTo>
                <a:lnTo>
                  <a:pt x="2" y="1409"/>
                </a:lnTo>
                <a:lnTo>
                  <a:pt x="1" y="1408"/>
                </a:lnTo>
                <a:lnTo>
                  <a:pt x="0" y="1408"/>
                </a:lnTo>
                <a:lnTo>
                  <a:pt x="1" y="1408"/>
                </a:lnTo>
                <a:lnTo>
                  <a:pt x="0" y="1408"/>
                </a:lnTo>
                <a:lnTo>
                  <a:pt x="1" y="1408"/>
                </a:lnTo>
                <a:lnTo>
                  <a:pt x="9" y="1406"/>
                </a:lnTo>
                <a:lnTo>
                  <a:pt x="36" y="1397"/>
                </a:lnTo>
                <a:lnTo>
                  <a:pt x="56" y="1391"/>
                </a:lnTo>
                <a:lnTo>
                  <a:pt x="58" y="1390"/>
                </a:lnTo>
                <a:lnTo>
                  <a:pt x="58" y="1390"/>
                </a:lnTo>
                <a:close/>
              </a:path>
            </a:pathLst>
          </a:custGeom>
          <a:noFill/>
          <a:ln w="64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20760" y="2241720"/>
            <a:ext cx="2322720" cy="1393560"/>
          </a:xfrm>
          <a:custGeom>
            <a:avLst/>
            <a:gdLst/>
            <a:ahLst/>
            <a:rect l="l" t="t" r="r" b="b"/>
            <a:pathLst>
              <a:path w="8064" h="5105">
                <a:moveTo>
                  <a:pt x="1837" y="773"/>
                </a:moveTo>
                <a:lnTo>
                  <a:pt x="1831" y="771"/>
                </a:lnTo>
                <a:lnTo>
                  <a:pt x="1823" y="770"/>
                </a:lnTo>
                <a:lnTo>
                  <a:pt x="1815" y="768"/>
                </a:lnTo>
                <a:lnTo>
                  <a:pt x="1808" y="770"/>
                </a:lnTo>
                <a:lnTo>
                  <a:pt x="1792" y="771"/>
                </a:lnTo>
                <a:lnTo>
                  <a:pt x="1789" y="770"/>
                </a:lnTo>
                <a:lnTo>
                  <a:pt x="1786" y="771"/>
                </a:lnTo>
                <a:lnTo>
                  <a:pt x="1785" y="773"/>
                </a:lnTo>
                <a:lnTo>
                  <a:pt x="1782" y="774"/>
                </a:lnTo>
                <a:lnTo>
                  <a:pt x="1779" y="778"/>
                </a:lnTo>
                <a:lnTo>
                  <a:pt x="1775" y="784"/>
                </a:lnTo>
                <a:lnTo>
                  <a:pt x="1775" y="786"/>
                </a:lnTo>
                <a:lnTo>
                  <a:pt x="1775" y="789"/>
                </a:lnTo>
                <a:lnTo>
                  <a:pt x="1775" y="791"/>
                </a:lnTo>
                <a:lnTo>
                  <a:pt x="1776" y="793"/>
                </a:lnTo>
                <a:lnTo>
                  <a:pt x="1781" y="797"/>
                </a:lnTo>
                <a:lnTo>
                  <a:pt x="1788" y="806"/>
                </a:lnTo>
                <a:lnTo>
                  <a:pt x="1789" y="812"/>
                </a:lnTo>
                <a:lnTo>
                  <a:pt x="1785" y="819"/>
                </a:lnTo>
                <a:lnTo>
                  <a:pt x="1778" y="831"/>
                </a:lnTo>
                <a:lnTo>
                  <a:pt x="1768" y="839"/>
                </a:lnTo>
                <a:lnTo>
                  <a:pt x="1744" y="857"/>
                </a:lnTo>
                <a:lnTo>
                  <a:pt x="1727" y="868"/>
                </a:lnTo>
                <a:lnTo>
                  <a:pt x="1721" y="871"/>
                </a:lnTo>
                <a:lnTo>
                  <a:pt x="1715" y="873"/>
                </a:lnTo>
                <a:lnTo>
                  <a:pt x="1708" y="874"/>
                </a:lnTo>
                <a:lnTo>
                  <a:pt x="1695" y="874"/>
                </a:lnTo>
                <a:lnTo>
                  <a:pt x="1665" y="873"/>
                </a:lnTo>
                <a:lnTo>
                  <a:pt x="1646" y="877"/>
                </a:lnTo>
                <a:lnTo>
                  <a:pt x="1642" y="878"/>
                </a:lnTo>
                <a:lnTo>
                  <a:pt x="1634" y="880"/>
                </a:lnTo>
                <a:lnTo>
                  <a:pt x="1620" y="884"/>
                </a:lnTo>
                <a:lnTo>
                  <a:pt x="1614" y="889"/>
                </a:lnTo>
                <a:lnTo>
                  <a:pt x="1611" y="896"/>
                </a:lnTo>
                <a:lnTo>
                  <a:pt x="1611" y="899"/>
                </a:lnTo>
                <a:lnTo>
                  <a:pt x="1610" y="907"/>
                </a:lnTo>
                <a:lnTo>
                  <a:pt x="1608" y="925"/>
                </a:lnTo>
                <a:lnTo>
                  <a:pt x="1610" y="960"/>
                </a:lnTo>
                <a:lnTo>
                  <a:pt x="1615" y="975"/>
                </a:lnTo>
                <a:lnTo>
                  <a:pt x="1626" y="990"/>
                </a:lnTo>
                <a:lnTo>
                  <a:pt x="1633" y="996"/>
                </a:lnTo>
                <a:lnTo>
                  <a:pt x="1633" y="999"/>
                </a:lnTo>
                <a:lnTo>
                  <a:pt x="1633" y="1002"/>
                </a:lnTo>
                <a:lnTo>
                  <a:pt x="1631" y="1003"/>
                </a:lnTo>
                <a:lnTo>
                  <a:pt x="1629" y="1007"/>
                </a:lnTo>
                <a:lnTo>
                  <a:pt x="1623" y="1017"/>
                </a:lnTo>
                <a:lnTo>
                  <a:pt x="1621" y="1020"/>
                </a:lnTo>
                <a:lnTo>
                  <a:pt x="1618" y="1026"/>
                </a:lnTo>
                <a:lnTo>
                  <a:pt x="1620" y="1032"/>
                </a:lnTo>
                <a:lnTo>
                  <a:pt x="1621" y="1036"/>
                </a:lnTo>
                <a:lnTo>
                  <a:pt x="1624" y="1042"/>
                </a:lnTo>
                <a:lnTo>
                  <a:pt x="1630" y="1051"/>
                </a:lnTo>
                <a:lnTo>
                  <a:pt x="1637" y="1061"/>
                </a:lnTo>
                <a:lnTo>
                  <a:pt x="1642" y="1070"/>
                </a:lnTo>
                <a:lnTo>
                  <a:pt x="1640" y="1078"/>
                </a:lnTo>
                <a:lnTo>
                  <a:pt x="1640" y="1078"/>
                </a:lnTo>
                <a:lnTo>
                  <a:pt x="1633" y="1088"/>
                </a:lnTo>
                <a:lnTo>
                  <a:pt x="1615" y="1107"/>
                </a:lnTo>
                <a:lnTo>
                  <a:pt x="1575" y="1135"/>
                </a:lnTo>
                <a:lnTo>
                  <a:pt x="1555" y="1141"/>
                </a:lnTo>
                <a:lnTo>
                  <a:pt x="1536" y="1142"/>
                </a:lnTo>
                <a:lnTo>
                  <a:pt x="1527" y="1139"/>
                </a:lnTo>
                <a:lnTo>
                  <a:pt x="1508" y="1135"/>
                </a:lnTo>
                <a:lnTo>
                  <a:pt x="1473" y="1128"/>
                </a:lnTo>
                <a:lnTo>
                  <a:pt x="1404" y="1120"/>
                </a:lnTo>
                <a:lnTo>
                  <a:pt x="1336" y="1104"/>
                </a:lnTo>
                <a:lnTo>
                  <a:pt x="1320" y="1096"/>
                </a:lnTo>
                <a:lnTo>
                  <a:pt x="1314" y="1094"/>
                </a:lnTo>
                <a:lnTo>
                  <a:pt x="1307" y="1093"/>
                </a:lnTo>
                <a:lnTo>
                  <a:pt x="1300" y="1094"/>
                </a:lnTo>
                <a:lnTo>
                  <a:pt x="1284" y="1099"/>
                </a:lnTo>
                <a:lnTo>
                  <a:pt x="1269" y="1107"/>
                </a:lnTo>
                <a:lnTo>
                  <a:pt x="1258" y="1119"/>
                </a:lnTo>
                <a:lnTo>
                  <a:pt x="1250" y="1133"/>
                </a:lnTo>
                <a:lnTo>
                  <a:pt x="1250" y="1141"/>
                </a:lnTo>
                <a:lnTo>
                  <a:pt x="1249" y="1161"/>
                </a:lnTo>
                <a:lnTo>
                  <a:pt x="1246" y="1199"/>
                </a:lnTo>
                <a:lnTo>
                  <a:pt x="1226" y="1271"/>
                </a:lnTo>
                <a:lnTo>
                  <a:pt x="1200" y="1341"/>
                </a:lnTo>
                <a:lnTo>
                  <a:pt x="1194" y="1357"/>
                </a:lnTo>
                <a:lnTo>
                  <a:pt x="1198" y="1358"/>
                </a:lnTo>
                <a:lnTo>
                  <a:pt x="1204" y="1358"/>
                </a:lnTo>
                <a:lnTo>
                  <a:pt x="1208" y="1361"/>
                </a:lnTo>
                <a:lnTo>
                  <a:pt x="1211" y="1364"/>
                </a:lnTo>
                <a:lnTo>
                  <a:pt x="1216" y="1367"/>
                </a:lnTo>
                <a:lnTo>
                  <a:pt x="1220" y="1375"/>
                </a:lnTo>
                <a:lnTo>
                  <a:pt x="1226" y="1383"/>
                </a:lnTo>
                <a:lnTo>
                  <a:pt x="1230" y="1391"/>
                </a:lnTo>
                <a:lnTo>
                  <a:pt x="1234" y="1394"/>
                </a:lnTo>
                <a:lnTo>
                  <a:pt x="1236" y="1399"/>
                </a:lnTo>
                <a:lnTo>
                  <a:pt x="1237" y="1401"/>
                </a:lnTo>
                <a:lnTo>
                  <a:pt x="1239" y="1407"/>
                </a:lnTo>
                <a:lnTo>
                  <a:pt x="1237" y="1415"/>
                </a:lnTo>
                <a:lnTo>
                  <a:pt x="1236" y="1420"/>
                </a:lnTo>
                <a:lnTo>
                  <a:pt x="1232" y="1423"/>
                </a:lnTo>
                <a:lnTo>
                  <a:pt x="1229" y="1423"/>
                </a:lnTo>
                <a:lnTo>
                  <a:pt x="1216" y="1423"/>
                </a:lnTo>
                <a:lnTo>
                  <a:pt x="1192" y="1423"/>
                </a:lnTo>
                <a:lnTo>
                  <a:pt x="1149" y="1416"/>
                </a:lnTo>
                <a:lnTo>
                  <a:pt x="1104" y="1397"/>
                </a:lnTo>
                <a:lnTo>
                  <a:pt x="1094" y="1390"/>
                </a:lnTo>
                <a:lnTo>
                  <a:pt x="1084" y="1387"/>
                </a:lnTo>
                <a:lnTo>
                  <a:pt x="1074" y="1384"/>
                </a:lnTo>
                <a:lnTo>
                  <a:pt x="1062" y="1384"/>
                </a:lnTo>
                <a:lnTo>
                  <a:pt x="1039" y="1388"/>
                </a:lnTo>
                <a:lnTo>
                  <a:pt x="1014" y="1396"/>
                </a:lnTo>
                <a:lnTo>
                  <a:pt x="964" y="1410"/>
                </a:lnTo>
                <a:lnTo>
                  <a:pt x="952" y="1412"/>
                </a:lnTo>
                <a:lnTo>
                  <a:pt x="945" y="1413"/>
                </a:lnTo>
                <a:lnTo>
                  <a:pt x="932" y="1416"/>
                </a:lnTo>
                <a:lnTo>
                  <a:pt x="908" y="1426"/>
                </a:lnTo>
                <a:lnTo>
                  <a:pt x="890" y="1442"/>
                </a:lnTo>
                <a:lnTo>
                  <a:pt x="887" y="1446"/>
                </a:lnTo>
                <a:lnTo>
                  <a:pt x="882" y="1455"/>
                </a:lnTo>
                <a:lnTo>
                  <a:pt x="881" y="1462"/>
                </a:lnTo>
                <a:lnTo>
                  <a:pt x="881" y="1468"/>
                </a:lnTo>
                <a:lnTo>
                  <a:pt x="882" y="1474"/>
                </a:lnTo>
                <a:lnTo>
                  <a:pt x="885" y="1478"/>
                </a:lnTo>
                <a:lnTo>
                  <a:pt x="890" y="1483"/>
                </a:lnTo>
                <a:lnTo>
                  <a:pt x="895" y="1486"/>
                </a:lnTo>
                <a:lnTo>
                  <a:pt x="903" y="1487"/>
                </a:lnTo>
                <a:lnTo>
                  <a:pt x="917" y="1490"/>
                </a:lnTo>
                <a:lnTo>
                  <a:pt x="933" y="1487"/>
                </a:lnTo>
                <a:lnTo>
                  <a:pt x="935" y="1487"/>
                </a:lnTo>
                <a:lnTo>
                  <a:pt x="935" y="1499"/>
                </a:lnTo>
                <a:lnTo>
                  <a:pt x="933" y="1522"/>
                </a:lnTo>
                <a:lnTo>
                  <a:pt x="929" y="1565"/>
                </a:lnTo>
                <a:lnTo>
                  <a:pt x="932" y="1587"/>
                </a:lnTo>
                <a:lnTo>
                  <a:pt x="940" y="1607"/>
                </a:lnTo>
                <a:lnTo>
                  <a:pt x="949" y="1617"/>
                </a:lnTo>
                <a:lnTo>
                  <a:pt x="950" y="1622"/>
                </a:lnTo>
                <a:lnTo>
                  <a:pt x="950" y="1625"/>
                </a:lnTo>
                <a:lnTo>
                  <a:pt x="950" y="1628"/>
                </a:lnTo>
                <a:lnTo>
                  <a:pt x="949" y="1630"/>
                </a:lnTo>
                <a:lnTo>
                  <a:pt x="946" y="1638"/>
                </a:lnTo>
                <a:lnTo>
                  <a:pt x="942" y="1645"/>
                </a:lnTo>
                <a:lnTo>
                  <a:pt x="942" y="1652"/>
                </a:lnTo>
                <a:lnTo>
                  <a:pt x="943" y="1659"/>
                </a:lnTo>
                <a:lnTo>
                  <a:pt x="945" y="1659"/>
                </a:lnTo>
                <a:lnTo>
                  <a:pt x="949" y="1667"/>
                </a:lnTo>
                <a:lnTo>
                  <a:pt x="959" y="1678"/>
                </a:lnTo>
                <a:lnTo>
                  <a:pt x="982" y="1703"/>
                </a:lnTo>
                <a:lnTo>
                  <a:pt x="990" y="1716"/>
                </a:lnTo>
                <a:lnTo>
                  <a:pt x="991" y="1729"/>
                </a:lnTo>
                <a:lnTo>
                  <a:pt x="991" y="1736"/>
                </a:lnTo>
                <a:lnTo>
                  <a:pt x="987" y="1746"/>
                </a:lnTo>
                <a:lnTo>
                  <a:pt x="981" y="1754"/>
                </a:lnTo>
                <a:lnTo>
                  <a:pt x="974" y="1759"/>
                </a:lnTo>
                <a:lnTo>
                  <a:pt x="965" y="1764"/>
                </a:lnTo>
                <a:lnTo>
                  <a:pt x="946" y="1771"/>
                </a:lnTo>
                <a:lnTo>
                  <a:pt x="929" y="1780"/>
                </a:lnTo>
                <a:lnTo>
                  <a:pt x="917" y="1790"/>
                </a:lnTo>
                <a:lnTo>
                  <a:pt x="913" y="1797"/>
                </a:lnTo>
                <a:lnTo>
                  <a:pt x="911" y="1806"/>
                </a:lnTo>
                <a:lnTo>
                  <a:pt x="913" y="1806"/>
                </a:lnTo>
                <a:lnTo>
                  <a:pt x="913" y="1813"/>
                </a:lnTo>
                <a:lnTo>
                  <a:pt x="916" y="1825"/>
                </a:lnTo>
                <a:lnTo>
                  <a:pt x="921" y="1838"/>
                </a:lnTo>
                <a:lnTo>
                  <a:pt x="932" y="1864"/>
                </a:lnTo>
                <a:lnTo>
                  <a:pt x="935" y="1885"/>
                </a:lnTo>
                <a:lnTo>
                  <a:pt x="933" y="1890"/>
                </a:lnTo>
                <a:lnTo>
                  <a:pt x="932" y="1893"/>
                </a:lnTo>
                <a:lnTo>
                  <a:pt x="927" y="1903"/>
                </a:lnTo>
                <a:lnTo>
                  <a:pt x="913" y="1923"/>
                </a:lnTo>
                <a:lnTo>
                  <a:pt x="900" y="1933"/>
                </a:lnTo>
                <a:lnTo>
                  <a:pt x="877" y="1941"/>
                </a:lnTo>
                <a:lnTo>
                  <a:pt x="835" y="1954"/>
                </a:lnTo>
                <a:lnTo>
                  <a:pt x="758" y="1978"/>
                </a:lnTo>
                <a:lnTo>
                  <a:pt x="682" y="2013"/>
                </a:lnTo>
                <a:lnTo>
                  <a:pt x="664" y="2025"/>
                </a:lnTo>
                <a:lnTo>
                  <a:pt x="648" y="2033"/>
                </a:lnTo>
                <a:lnTo>
                  <a:pt x="617" y="2045"/>
                </a:lnTo>
                <a:lnTo>
                  <a:pt x="585" y="2052"/>
                </a:lnTo>
                <a:lnTo>
                  <a:pt x="523" y="2056"/>
                </a:lnTo>
                <a:lnTo>
                  <a:pt x="478" y="2065"/>
                </a:lnTo>
                <a:lnTo>
                  <a:pt x="467" y="2071"/>
                </a:lnTo>
                <a:lnTo>
                  <a:pt x="456" y="2077"/>
                </a:lnTo>
                <a:lnTo>
                  <a:pt x="449" y="2085"/>
                </a:lnTo>
                <a:lnTo>
                  <a:pt x="433" y="2104"/>
                </a:lnTo>
                <a:lnTo>
                  <a:pt x="403" y="2146"/>
                </a:lnTo>
                <a:lnTo>
                  <a:pt x="371" y="2168"/>
                </a:lnTo>
                <a:lnTo>
                  <a:pt x="365" y="2171"/>
                </a:lnTo>
                <a:lnTo>
                  <a:pt x="355" y="2172"/>
                </a:lnTo>
                <a:lnTo>
                  <a:pt x="336" y="2174"/>
                </a:lnTo>
                <a:lnTo>
                  <a:pt x="316" y="2178"/>
                </a:lnTo>
                <a:lnTo>
                  <a:pt x="312" y="2180"/>
                </a:lnTo>
                <a:lnTo>
                  <a:pt x="310" y="2175"/>
                </a:lnTo>
                <a:lnTo>
                  <a:pt x="309" y="2174"/>
                </a:lnTo>
                <a:lnTo>
                  <a:pt x="306" y="2169"/>
                </a:lnTo>
                <a:lnTo>
                  <a:pt x="301" y="2161"/>
                </a:lnTo>
                <a:lnTo>
                  <a:pt x="303" y="2152"/>
                </a:lnTo>
                <a:lnTo>
                  <a:pt x="293" y="2149"/>
                </a:lnTo>
                <a:lnTo>
                  <a:pt x="275" y="2148"/>
                </a:lnTo>
                <a:lnTo>
                  <a:pt x="258" y="2149"/>
                </a:lnTo>
                <a:lnTo>
                  <a:pt x="241" y="2154"/>
                </a:lnTo>
                <a:lnTo>
                  <a:pt x="206" y="2162"/>
                </a:lnTo>
                <a:lnTo>
                  <a:pt x="199" y="2162"/>
                </a:lnTo>
                <a:lnTo>
                  <a:pt x="193" y="2164"/>
                </a:lnTo>
                <a:lnTo>
                  <a:pt x="185" y="2167"/>
                </a:lnTo>
                <a:lnTo>
                  <a:pt x="177" y="2172"/>
                </a:lnTo>
                <a:lnTo>
                  <a:pt x="171" y="2178"/>
                </a:lnTo>
                <a:lnTo>
                  <a:pt x="159" y="2193"/>
                </a:lnTo>
                <a:lnTo>
                  <a:pt x="157" y="2196"/>
                </a:lnTo>
                <a:lnTo>
                  <a:pt x="152" y="2201"/>
                </a:lnTo>
                <a:lnTo>
                  <a:pt x="148" y="2204"/>
                </a:lnTo>
                <a:lnTo>
                  <a:pt x="143" y="2206"/>
                </a:lnTo>
                <a:lnTo>
                  <a:pt x="139" y="2206"/>
                </a:lnTo>
                <a:lnTo>
                  <a:pt x="135" y="2206"/>
                </a:lnTo>
                <a:lnTo>
                  <a:pt x="130" y="2204"/>
                </a:lnTo>
                <a:lnTo>
                  <a:pt x="125" y="2201"/>
                </a:lnTo>
                <a:lnTo>
                  <a:pt x="119" y="2198"/>
                </a:lnTo>
                <a:lnTo>
                  <a:pt x="114" y="2198"/>
                </a:lnTo>
                <a:lnTo>
                  <a:pt x="114" y="2198"/>
                </a:lnTo>
                <a:lnTo>
                  <a:pt x="109" y="2203"/>
                </a:lnTo>
                <a:lnTo>
                  <a:pt x="99" y="2211"/>
                </a:lnTo>
                <a:lnTo>
                  <a:pt x="77" y="2232"/>
                </a:lnTo>
                <a:lnTo>
                  <a:pt x="71" y="2243"/>
                </a:lnTo>
                <a:lnTo>
                  <a:pt x="70" y="2259"/>
                </a:lnTo>
                <a:lnTo>
                  <a:pt x="72" y="2267"/>
                </a:lnTo>
                <a:lnTo>
                  <a:pt x="72" y="2275"/>
                </a:lnTo>
                <a:lnTo>
                  <a:pt x="72" y="2282"/>
                </a:lnTo>
                <a:lnTo>
                  <a:pt x="68" y="2290"/>
                </a:lnTo>
                <a:lnTo>
                  <a:pt x="64" y="2297"/>
                </a:lnTo>
                <a:lnTo>
                  <a:pt x="51" y="2309"/>
                </a:lnTo>
                <a:lnTo>
                  <a:pt x="38" y="2320"/>
                </a:lnTo>
                <a:lnTo>
                  <a:pt x="28" y="2332"/>
                </a:lnTo>
                <a:lnTo>
                  <a:pt x="26" y="2338"/>
                </a:lnTo>
                <a:lnTo>
                  <a:pt x="25" y="2342"/>
                </a:lnTo>
                <a:lnTo>
                  <a:pt x="26" y="2342"/>
                </a:lnTo>
                <a:lnTo>
                  <a:pt x="28" y="2355"/>
                </a:lnTo>
                <a:lnTo>
                  <a:pt x="32" y="2381"/>
                </a:lnTo>
                <a:lnTo>
                  <a:pt x="51" y="2436"/>
                </a:lnTo>
                <a:lnTo>
                  <a:pt x="64" y="2456"/>
                </a:lnTo>
                <a:lnTo>
                  <a:pt x="72" y="2464"/>
                </a:lnTo>
                <a:lnTo>
                  <a:pt x="83" y="2466"/>
                </a:lnTo>
                <a:lnTo>
                  <a:pt x="93" y="2466"/>
                </a:lnTo>
                <a:lnTo>
                  <a:pt x="94" y="2466"/>
                </a:lnTo>
                <a:lnTo>
                  <a:pt x="101" y="2466"/>
                </a:lnTo>
                <a:lnTo>
                  <a:pt x="119" y="2464"/>
                </a:lnTo>
                <a:lnTo>
                  <a:pt x="154" y="2464"/>
                </a:lnTo>
                <a:lnTo>
                  <a:pt x="168" y="2468"/>
                </a:lnTo>
                <a:lnTo>
                  <a:pt x="181" y="2477"/>
                </a:lnTo>
                <a:lnTo>
                  <a:pt x="187" y="2482"/>
                </a:lnTo>
                <a:lnTo>
                  <a:pt x="188" y="2490"/>
                </a:lnTo>
                <a:lnTo>
                  <a:pt x="190" y="2495"/>
                </a:lnTo>
                <a:lnTo>
                  <a:pt x="190" y="2509"/>
                </a:lnTo>
                <a:lnTo>
                  <a:pt x="185" y="2517"/>
                </a:lnTo>
                <a:lnTo>
                  <a:pt x="183" y="2524"/>
                </a:lnTo>
                <a:lnTo>
                  <a:pt x="183" y="2530"/>
                </a:lnTo>
                <a:lnTo>
                  <a:pt x="184" y="2537"/>
                </a:lnTo>
                <a:lnTo>
                  <a:pt x="187" y="2543"/>
                </a:lnTo>
                <a:lnTo>
                  <a:pt x="194" y="2558"/>
                </a:lnTo>
                <a:lnTo>
                  <a:pt x="200" y="2572"/>
                </a:lnTo>
                <a:lnTo>
                  <a:pt x="203" y="2588"/>
                </a:lnTo>
                <a:lnTo>
                  <a:pt x="199" y="2603"/>
                </a:lnTo>
                <a:lnTo>
                  <a:pt x="199" y="2603"/>
                </a:lnTo>
                <a:lnTo>
                  <a:pt x="201" y="2606"/>
                </a:lnTo>
                <a:lnTo>
                  <a:pt x="204" y="2607"/>
                </a:lnTo>
                <a:lnTo>
                  <a:pt x="207" y="2610"/>
                </a:lnTo>
                <a:lnTo>
                  <a:pt x="209" y="2613"/>
                </a:lnTo>
                <a:lnTo>
                  <a:pt x="209" y="2616"/>
                </a:lnTo>
                <a:lnTo>
                  <a:pt x="210" y="2623"/>
                </a:lnTo>
                <a:lnTo>
                  <a:pt x="210" y="2630"/>
                </a:lnTo>
                <a:lnTo>
                  <a:pt x="213" y="2636"/>
                </a:lnTo>
                <a:lnTo>
                  <a:pt x="216" y="2637"/>
                </a:lnTo>
                <a:lnTo>
                  <a:pt x="199" y="2642"/>
                </a:lnTo>
                <a:lnTo>
                  <a:pt x="161" y="2646"/>
                </a:lnTo>
                <a:lnTo>
                  <a:pt x="78" y="2656"/>
                </a:lnTo>
                <a:lnTo>
                  <a:pt x="43" y="2662"/>
                </a:lnTo>
                <a:lnTo>
                  <a:pt x="19" y="2672"/>
                </a:lnTo>
                <a:lnTo>
                  <a:pt x="13" y="2677"/>
                </a:lnTo>
                <a:lnTo>
                  <a:pt x="12" y="2681"/>
                </a:lnTo>
                <a:lnTo>
                  <a:pt x="9" y="2690"/>
                </a:lnTo>
                <a:lnTo>
                  <a:pt x="7" y="2695"/>
                </a:lnTo>
                <a:lnTo>
                  <a:pt x="7" y="2695"/>
                </a:lnTo>
                <a:lnTo>
                  <a:pt x="6" y="2700"/>
                </a:lnTo>
                <a:lnTo>
                  <a:pt x="1" y="2710"/>
                </a:lnTo>
                <a:lnTo>
                  <a:pt x="0" y="2719"/>
                </a:lnTo>
                <a:lnTo>
                  <a:pt x="0" y="2719"/>
                </a:lnTo>
                <a:lnTo>
                  <a:pt x="3" y="2723"/>
                </a:lnTo>
                <a:lnTo>
                  <a:pt x="7" y="2726"/>
                </a:lnTo>
                <a:lnTo>
                  <a:pt x="16" y="2729"/>
                </a:lnTo>
                <a:lnTo>
                  <a:pt x="26" y="2729"/>
                </a:lnTo>
                <a:lnTo>
                  <a:pt x="39" y="2724"/>
                </a:lnTo>
                <a:lnTo>
                  <a:pt x="48" y="2719"/>
                </a:lnTo>
                <a:lnTo>
                  <a:pt x="55" y="2713"/>
                </a:lnTo>
                <a:lnTo>
                  <a:pt x="72" y="2703"/>
                </a:lnTo>
                <a:lnTo>
                  <a:pt x="104" y="2688"/>
                </a:lnTo>
                <a:lnTo>
                  <a:pt x="135" y="2682"/>
                </a:lnTo>
                <a:lnTo>
                  <a:pt x="143" y="2682"/>
                </a:lnTo>
                <a:lnTo>
                  <a:pt x="151" y="2684"/>
                </a:lnTo>
                <a:lnTo>
                  <a:pt x="170" y="2687"/>
                </a:lnTo>
                <a:lnTo>
                  <a:pt x="207" y="2693"/>
                </a:lnTo>
                <a:lnTo>
                  <a:pt x="233" y="2697"/>
                </a:lnTo>
                <a:lnTo>
                  <a:pt x="238" y="2697"/>
                </a:lnTo>
                <a:lnTo>
                  <a:pt x="242" y="2698"/>
                </a:lnTo>
                <a:lnTo>
                  <a:pt x="246" y="2697"/>
                </a:lnTo>
                <a:lnTo>
                  <a:pt x="255" y="2697"/>
                </a:lnTo>
                <a:lnTo>
                  <a:pt x="280" y="2701"/>
                </a:lnTo>
                <a:lnTo>
                  <a:pt x="301" y="2713"/>
                </a:lnTo>
                <a:lnTo>
                  <a:pt x="307" y="2719"/>
                </a:lnTo>
                <a:lnTo>
                  <a:pt x="320" y="2730"/>
                </a:lnTo>
                <a:lnTo>
                  <a:pt x="341" y="2752"/>
                </a:lnTo>
                <a:lnTo>
                  <a:pt x="355" y="2778"/>
                </a:lnTo>
                <a:lnTo>
                  <a:pt x="359" y="2784"/>
                </a:lnTo>
                <a:lnTo>
                  <a:pt x="358" y="2794"/>
                </a:lnTo>
                <a:lnTo>
                  <a:pt x="354" y="2807"/>
                </a:lnTo>
                <a:lnTo>
                  <a:pt x="352" y="2811"/>
                </a:lnTo>
                <a:lnTo>
                  <a:pt x="349" y="2816"/>
                </a:lnTo>
                <a:lnTo>
                  <a:pt x="346" y="2824"/>
                </a:lnTo>
                <a:lnTo>
                  <a:pt x="343" y="2830"/>
                </a:lnTo>
                <a:lnTo>
                  <a:pt x="343" y="2837"/>
                </a:lnTo>
                <a:lnTo>
                  <a:pt x="345" y="2843"/>
                </a:lnTo>
                <a:lnTo>
                  <a:pt x="349" y="2850"/>
                </a:lnTo>
                <a:lnTo>
                  <a:pt x="354" y="2853"/>
                </a:lnTo>
                <a:lnTo>
                  <a:pt x="358" y="2858"/>
                </a:lnTo>
                <a:lnTo>
                  <a:pt x="365" y="2864"/>
                </a:lnTo>
                <a:lnTo>
                  <a:pt x="380" y="2868"/>
                </a:lnTo>
                <a:lnTo>
                  <a:pt x="394" y="2866"/>
                </a:lnTo>
                <a:lnTo>
                  <a:pt x="400" y="2865"/>
                </a:lnTo>
                <a:lnTo>
                  <a:pt x="403" y="2865"/>
                </a:lnTo>
                <a:lnTo>
                  <a:pt x="410" y="2864"/>
                </a:lnTo>
                <a:lnTo>
                  <a:pt x="422" y="2865"/>
                </a:lnTo>
                <a:lnTo>
                  <a:pt x="436" y="2872"/>
                </a:lnTo>
                <a:lnTo>
                  <a:pt x="442" y="2874"/>
                </a:lnTo>
                <a:lnTo>
                  <a:pt x="448" y="2878"/>
                </a:lnTo>
                <a:lnTo>
                  <a:pt x="471" y="2887"/>
                </a:lnTo>
                <a:lnTo>
                  <a:pt x="530" y="2910"/>
                </a:lnTo>
                <a:lnTo>
                  <a:pt x="572" y="2926"/>
                </a:lnTo>
                <a:lnTo>
                  <a:pt x="575" y="2926"/>
                </a:lnTo>
                <a:lnTo>
                  <a:pt x="577" y="2927"/>
                </a:lnTo>
                <a:lnTo>
                  <a:pt x="584" y="2930"/>
                </a:lnTo>
                <a:lnTo>
                  <a:pt x="588" y="2929"/>
                </a:lnTo>
                <a:lnTo>
                  <a:pt x="594" y="2926"/>
                </a:lnTo>
                <a:lnTo>
                  <a:pt x="598" y="2923"/>
                </a:lnTo>
                <a:lnTo>
                  <a:pt x="610" y="2911"/>
                </a:lnTo>
                <a:lnTo>
                  <a:pt x="656" y="2878"/>
                </a:lnTo>
                <a:lnTo>
                  <a:pt x="732" y="2853"/>
                </a:lnTo>
                <a:lnTo>
                  <a:pt x="755" y="2852"/>
                </a:lnTo>
                <a:lnTo>
                  <a:pt x="761" y="2853"/>
                </a:lnTo>
                <a:lnTo>
                  <a:pt x="782" y="2855"/>
                </a:lnTo>
                <a:lnTo>
                  <a:pt x="806" y="2861"/>
                </a:lnTo>
                <a:lnTo>
                  <a:pt x="811" y="2862"/>
                </a:lnTo>
                <a:lnTo>
                  <a:pt x="813" y="2864"/>
                </a:lnTo>
                <a:lnTo>
                  <a:pt x="827" y="2871"/>
                </a:lnTo>
                <a:lnTo>
                  <a:pt x="878" y="2898"/>
                </a:lnTo>
                <a:lnTo>
                  <a:pt x="921" y="2921"/>
                </a:lnTo>
                <a:lnTo>
                  <a:pt x="926" y="2924"/>
                </a:lnTo>
                <a:lnTo>
                  <a:pt x="927" y="2927"/>
                </a:lnTo>
                <a:lnTo>
                  <a:pt x="932" y="2932"/>
                </a:lnTo>
                <a:lnTo>
                  <a:pt x="935" y="2936"/>
                </a:lnTo>
                <a:lnTo>
                  <a:pt x="937" y="2940"/>
                </a:lnTo>
                <a:lnTo>
                  <a:pt x="937" y="2948"/>
                </a:lnTo>
                <a:lnTo>
                  <a:pt x="936" y="2956"/>
                </a:lnTo>
                <a:lnTo>
                  <a:pt x="935" y="2961"/>
                </a:lnTo>
                <a:lnTo>
                  <a:pt x="930" y="2968"/>
                </a:lnTo>
                <a:lnTo>
                  <a:pt x="921" y="2987"/>
                </a:lnTo>
                <a:lnTo>
                  <a:pt x="893" y="3030"/>
                </a:lnTo>
                <a:lnTo>
                  <a:pt x="866" y="3066"/>
                </a:lnTo>
                <a:lnTo>
                  <a:pt x="864" y="3071"/>
                </a:lnTo>
                <a:lnTo>
                  <a:pt x="862" y="3072"/>
                </a:lnTo>
                <a:lnTo>
                  <a:pt x="858" y="3078"/>
                </a:lnTo>
                <a:lnTo>
                  <a:pt x="839" y="3098"/>
                </a:lnTo>
                <a:lnTo>
                  <a:pt x="803" y="3126"/>
                </a:lnTo>
                <a:lnTo>
                  <a:pt x="791" y="3132"/>
                </a:lnTo>
                <a:lnTo>
                  <a:pt x="790" y="3132"/>
                </a:lnTo>
                <a:lnTo>
                  <a:pt x="781" y="3132"/>
                </a:lnTo>
                <a:lnTo>
                  <a:pt x="752" y="3129"/>
                </a:lnTo>
                <a:lnTo>
                  <a:pt x="730" y="3127"/>
                </a:lnTo>
                <a:lnTo>
                  <a:pt x="730" y="3126"/>
                </a:lnTo>
                <a:lnTo>
                  <a:pt x="729" y="3127"/>
                </a:lnTo>
                <a:lnTo>
                  <a:pt x="727" y="3130"/>
                </a:lnTo>
                <a:lnTo>
                  <a:pt x="722" y="3140"/>
                </a:lnTo>
                <a:lnTo>
                  <a:pt x="717" y="3148"/>
                </a:lnTo>
                <a:lnTo>
                  <a:pt x="717" y="3148"/>
                </a:lnTo>
                <a:lnTo>
                  <a:pt x="714" y="3152"/>
                </a:lnTo>
                <a:lnTo>
                  <a:pt x="710" y="3158"/>
                </a:lnTo>
                <a:lnTo>
                  <a:pt x="707" y="3162"/>
                </a:lnTo>
                <a:lnTo>
                  <a:pt x="706" y="3165"/>
                </a:lnTo>
                <a:lnTo>
                  <a:pt x="706" y="3169"/>
                </a:lnTo>
                <a:lnTo>
                  <a:pt x="709" y="3177"/>
                </a:lnTo>
                <a:lnTo>
                  <a:pt x="711" y="3181"/>
                </a:lnTo>
                <a:lnTo>
                  <a:pt x="716" y="3191"/>
                </a:lnTo>
                <a:lnTo>
                  <a:pt x="727" y="3208"/>
                </a:lnTo>
                <a:lnTo>
                  <a:pt x="756" y="3237"/>
                </a:lnTo>
                <a:lnTo>
                  <a:pt x="791" y="3262"/>
                </a:lnTo>
                <a:lnTo>
                  <a:pt x="801" y="3266"/>
                </a:lnTo>
                <a:lnTo>
                  <a:pt x="810" y="3274"/>
                </a:lnTo>
                <a:lnTo>
                  <a:pt x="814" y="3282"/>
                </a:lnTo>
                <a:lnTo>
                  <a:pt x="817" y="3290"/>
                </a:lnTo>
                <a:lnTo>
                  <a:pt x="816" y="3300"/>
                </a:lnTo>
                <a:lnTo>
                  <a:pt x="814" y="3308"/>
                </a:lnTo>
                <a:lnTo>
                  <a:pt x="808" y="3319"/>
                </a:lnTo>
                <a:lnTo>
                  <a:pt x="797" y="3339"/>
                </a:lnTo>
                <a:lnTo>
                  <a:pt x="775" y="3381"/>
                </a:lnTo>
                <a:lnTo>
                  <a:pt x="775" y="3381"/>
                </a:lnTo>
                <a:lnTo>
                  <a:pt x="774" y="3382"/>
                </a:lnTo>
                <a:lnTo>
                  <a:pt x="772" y="3384"/>
                </a:lnTo>
                <a:lnTo>
                  <a:pt x="769" y="3388"/>
                </a:lnTo>
                <a:lnTo>
                  <a:pt x="764" y="3391"/>
                </a:lnTo>
                <a:lnTo>
                  <a:pt x="758" y="3392"/>
                </a:lnTo>
                <a:lnTo>
                  <a:pt x="751" y="3392"/>
                </a:lnTo>
                <a:lnTo>
                  <a:pt x="745" y="3390"/>
                </a:lnTo>
                <a:lnTo>
                  <a:pt x="745" y="3390"/>
                </a:lnTo>
                <a:lnTo>
                  <a:pt x="740" y="3388"/>
                </a:lnTo>
                <a:lnTo>
                  <a:pt x="735" y="3382"/>
                </a:lnTo>
                <a:lnTo>
                  <a:pt x="722" y="3371"/>
                </a:lnTo>
                <a:lnTo>
                  <a:pt x="710" y="3361"/>
                </a:lnTo>
                <a:lnTo>
                  <a:pt x="709" y="3358"/>
                </a:lnTo>
                <a:lnTo>
                  <a:pt x="704" y="3356"/>
                </a:lnTo>
                <a:lnTo>
                  <a:pt x="700" y="3355"/>
                </a:lnTo>
                <a:lnTo>
                  <a:pt x="695" y="3355"/>
                </a:lnTo>
                <a:lnTo>
                  <a:pt x="687" y="3356"/>
                </a:lnTo>
                <a:lnTo>
                  <a:pt x="678" y="3359"/>
                </a:lnTo>
                <a:lnTo>
                  <a:pt x="672" y="3363"/>
                </a:lnTo>
                <a:lnTo>
                  <a:pt x="671" y="3366"/>
                </a:lnTo>
                <a:lnTo>
                  <a:pt x="671" y="3369"/>
                </a:lnTo>
                <a:lnTo>
                  <a:pt x="671" y="3371"/>
                </a:lnTo>
                <a:lnTo>
                  <a:pt x="672" y="3371"/>
                </a:lnTo>
                <a:lnTo>
                  <a:pt x="678" y="3384"/>
                </a:lnTo>
                <a:lnTo>
                  <a:pt x="690" y="3408"/>
                </a:lnTo>
                <a:lnTo>
                  <a:pt x="704" y="3458"/>
                </a:lnTo>
                <a:lnTo>
                  <a:pt x="698" y="3508"/>
                </a:lnTo>
                <a:lnTo>
                  <a:pt x="693" y="3520"/>
                </a:lnTo>
                <a:lnTo>
                  <a:pt x="697" y="3520"/>
                </a:lnTo>
                <a:lnTo>
                  <a:pt x="701" y="3520"/>
                </a:lnTo>
                <a:lnTo>
                  <a:pt x="706" y="3520"/>
                </a:lnTo>
                <a:lnTo>
                  <a:pt x="713" y="3523"/>
                </a:lnTo>
                <a:lnTo>
                  <a:pt x="730" y="3529"/>
                </a:lnTo>
                <a:lnTo>
                  <a:pt x="746" y="3524"/>
                </a:lnTo>
                <a:lnTo>
                  <a:pt x="751" y="3523"/>
                </a:lnTo>
                <a:lnTo>
                  <a:pt x="756" y="3523"/>
                </a:lnTo>
                <a:lnTo>
                  <a:pt x="761" y="3526"/>
                </a:lnTo>
                <a:lnTo>
                  <a:pt x="765" y="3529"/>
                </a:lnTo>
                <a:lnTo>
                  <a:pt x="768" y="3533"/>
                </a:lnTo>
                <a:lnTo>
                  <a:pt x="774" y="3545"/>
                </a:lnTo>
                <a:lnTo>
                  <a:pt x="779" y="3556"/>
                </a:lnTo>
                <a:lnTo>
                  <a:pt x="785" y="3565"/>
                </a:lnTo>
                <a:lnTo>
                  <a:pt x="790" y="3566"/>
                </a:lnTo>
                <a:lnTo>
                  <a:pt x="804" y="3575"/>
                </a:lnTo>
                <a:lnTo>
                  <a:pt x="835" y="3589"/>
                </a:lnTo>
                <a:lnTo>
                  <a:pt x="894" y="3621"/>
                </a:lnTo>
                <a:lnTo>
                  <a:pt x="949" y="3659"/>
                </a:lnTo>
                <a:lnTo>
                  <a:pt x="962" y="3669"/>
                </a:lnTo>
                <a:lnTo>
                  <a:pt x="971" y="3676"/>
                </a:lnTo>
                <a:lnTo>
                  <a:pt x="975" y="3681"/>
                </a:lnTo>
                <a:lnTo>
                  <a:pt x="977" y="3681"/>
                </a:lnTo>
                <a:lnTo>
                  <a:pt x="978" y="3682"/>
                </a:lnTo>
                <a:lnTo>
                  <a:pt x="982" y="3687"/>
                </a:lnTo>
                <a:lnTo>
                  <a:pt x="987" y="3689"/>
                </a:lnTo>
                <a:lnTo>
                  <a:pt x="988" y="3689"/>
                </a:lnTo>
                <a:lnTo>
                  <a:pt x="992" y="3685"/>
                </a:lnTo>
                <a:lnTo>
                  <a:pt x="997" y="3684"/>
                </a:lnTo>
                <a:lnTo>
                  <a:pt x="1001" y="3684"/>
                </a:lnTo>
                <a:lnTo>
                  <a:pt x="1004" y="3687"/>
                </a:lnTo>
                <a:lnTo>
                  <a:pt x="1008" y="3691"/>
                </a:lnTo>
                <a:lnTo>
                  <a:pt x="1013" y="3695"/>
                </a:lnTo>
                <a:lnTo>
                  <a:pt x="1021" y="3707"/>
                </a:lnTo>
                <a:lnTo>
                  <a:pt x="1030" y="3718"/>
                </a:lnTo>
                <a:lnTo>
                  <a:pt x="1039" y="3726"/>
                </a:lnTo>
                <a:lnTo>
                  <a:pt x="1040" y="3726"/>
                </a:lnTo>
                <a:lnTo>
                  <a:pt x="1039" y="3718"/>
                </a:lnTo>
                <a:lnTo>
                  <a:pt x="1039" y="3710"/>
                </a:lnTo>
                <a:lnTo>
                  <a:pt x="1040" y="3702"/>
                </a:lnTo>
                <a:lnTo>
                  <a:pt x="1042" y="3700"/>
                </a:lnTo>
                <a:lnTo>
                  <a:pt x="1045" y="3697"/>
                </a:lnTo>
                <a:lnTo>
                  <a:pt x="1046" y="3694"/>
                </a:lnTo>
                <a:lnTo>
                  <a:pt x="1050" y="3691"/>
                </a:lnTo>
                <a:lnTo>
                  <a:pt x="1061" y="3685"/>
                </a:lnTo>
                <a:lnTo>
                  <a:pt x="1068" y="3681"/>
                </a:lnTo>
                <a:lnTo>
                  <a:pt x="1069" y="3679"/>
                </a:lnTo>
                <a:lnTo>
                  <a:pt x="1075" y="3675"/>
                </a:lnTo>
                <a:lnTo>
                  <a:pt x="1088" y="3669"/>
                </a:lnTo>
                <a:lnTo>
                  <a:pt x="1094" y="3668"/>
                </a:lnTo>
                <a:lnTo>
                  <a:pt x="1100" y="3669"/>
                </a:lnTo>
                <a:lnTo>
                  <a:pt x="1104" y="3669"/>
                </a:lnTo>
                <a:lnTo>
                  <a:pt x="1114" y="3676"/>
                </a:lnTo>
                <a:lnTo>
                  <a:pt x="1134" y="3688"/>
                </a:lnTo>
                <a:lnTo>
                  <a:pt x="1174" y="3713"/>
                </a:lnTo>
                <a:lnTo>
                  <a:pt x="1213" y="3736"/>
                </a:lnTo>
                <a:lnTo>
                  <a:pt x="1224" y="3740"/>
                </a:lnTo>
                <a:lnTo>
                  <a:pt x="1232" y="3745"/>
                </a:lnTo>
                <a:lnTo>
                  <a:pt x="1247" y="3753"/>
                </a:lnTo>
                <a:lnTo>
                  <a:pt x="1279" y="3771"/>
                </a:lnTo>
                <a:lnTo>
                  <a:pt x="1304" y="3794"/>
                </a:lnTo>
                <a:lnTo>
                  <a:pt x="1310" y="3800"/>
                </a:lnTo>
                <a:lnTo>
                  <a:pt x="1313" y="3807"/>
                </a:lnTo>
                <a:lnTo>
                  <a:pt x="1320" y="3821"/>
                </a:lnTo>
                <a:lnTo>
                  <a:pt x="1339" y="3849"/>
                </a:lnTo>
                <a:lnTo>
                  <a:pt x="1349" y="3859"/>
                </a:lnTo>
                <a:lnTo>
                  <a:pt x="1355" y="3860"/>
                </a:lnTo>
                <a:lnTo>
                  <a:pt x="1359" y="3862"/>
                </a:lnTo>
                <a:lnTo>
                  <a:pt x="1363" y="3859"/>
                </a:lnTo>
                <a:lnTo>
                  <a:pt x="1365" y="3859"/>
                </a:lnTo>
                <a:lnTo>
                  <a:pt x="1368" y="3856"/>
                </a:lnTo>
                <a:lnTo>
                  <a:pt x="1371" y="3852"/>
                </a:lnTo>
                <a:lnTo>
                  <a:pt x="1374" y="3847"/>
                </a:lnTo>
                <a:lnTo>
                  <a:pt x="1378" y="3836"/>
                </a:lnTo>
                <a:lnTo>
                  <a:pt x="1384" y="3826"/>
                </a:lnTo>
                <a:lnTo>
                  <a:pt x="1387" y="3823"/>
                </a:lnTo>
                <a:lnTo>
                  <a:pt x="1389" y="3821"/>
                </a:lnTo>
                <a:lnTo>
                  <a:pt x="1394" y="3821"/>
                </a:lnTo>
                <a:lnTo>
                  <a:pt x="1398" y="3823"/>
                </a:lnTo>
                <a:lnTo>
                  <a:pt x="1402" y="3827"/>
                </a:lnTo>
                <a:lnTo>
                  <a:pt x="1404" y="3827"/>
                </a:lnTo>
                <a:lnTo>
                  <a:pt x="1407" y="3831"/>
                </a:lnTo>
                <a:lnTo>
                  <a:pt x="1410" y="3836"/>
                </a:lnTo>
                <a:lnTo>
                  <a:pt x="1413" y="3846"/>
                </a:lnTo>
                <a:lnTo>
                  <a:pt x="1416" y="3858"/>
                </a:lnTo>
                <a:lnTo>
                  <a:pt x="1423" y="3882"/>
                </a:lnTo>
                <a:lnTo>
                  <a:pt x="1429" y="3892"/>
                </a:lnTo>
                <a:lnTo>
                  <a:pt x="1431" y="3897"/>
                </a:lnTo>
                <a:lnTo>
                  <a:pt x="1434" y="3900"/>
                </a:lnTo>
                <a:lnTo>
                  <a:pt x="1439" y="3902"/>
                </a:lnTo>
                <a:lnTo>
                  <a:pt x="1449" y="3905"/>
                </a:lnTo>
                <a:lnTo>
                  <a:pt x="1459" y="3907"/>
                </a:lnTo>
                <a:lnTo>
                  <a:pt x="1478" y="3915"/>
                </a:lnTo>
                <a:lnTo>
                  <a:pt x="1484" y="3918"/>
                </a:lnTo>
                <a:lnTo>
                  <a:pt x="1487" y="3921"/>
                </a:lnTo>
                <a:lnTo>
                  <a:pt x="1491" y="3923"/>
                </a:lnTo>
                <a:lnTo>
                  <a:pt x="1495" y="3923"/>
                </a:lnTo>
                <a:lnTo>
                  <a:pt x="1501" y="3923"/>
                </a:lnTo>
                <a:lnTo>
                  <a:pt x="1511" y="3921"/>
                </a:lnTo>
                <a:lnTo>
                  <a:pt x="1530" y="3917"/>
                </a:lnTo>
                <a:lnTo>
                  <a:pt x="1540" y="3918"/>
                </a:lnTo>
                <a:lnTo>
                  <a:pt x="1542" y="3920"/>
                </a:lnTo>
                <a:lnTo>
                  <a:pt x="1544" y="3923"/>
                </a:lnTo>
                <a:lnTo>
                  <a:pt x="1550" y="3929"/>
                </a:lnTo>
                <a:lnTo>
                  <a:pt x="1555" y="3934"/>
                </a:lnTo>
                <a:lnTo>
                  <a:pt x="1560" y="3950"/>
                </a:lnTo>
                <a:lnTo>
                  <a:pt x="1565" y="3958"/>
                </a:lnTo>
                <a:lnTo>
                  <a:pt x="1566" y="3960"/>
                </a:lnTo>
                <a:lnTo>
                  <a:pt x="1569" y="3965"/>
                </a:lnTo>
                <a:lnTo>
                  <a:pt x="1572" y="3966"/>
                </a:lnTo>
                <a:lnTo>
                  <a:pt x="1576" y="3966"/>
                </a:lnTo>
                <a:lnTo>
                  <a:pt x="1581" y="3965"/>
                </a:lnTo>
                <a:lnTo>
                  <a:pt x="1587" y="3962"/>
                </a:lnTo>
                <a:lnTo>
                  <a:pt x="1589" y="3960"/>
                </a:lnTo>
                <a:lnTo>
                  <a:pt x="1594" y="3960"/>
                </a:lnTo>
                <a:lnTo>
                  <a:pt x="1600" y="3960"/>
                </a:lnTo>
                <a:lnTo>
                  <a:pt x="1604" y="3962"/>
                </a:lnTo>
                <a:lnTo>
                  <a:pt x="1608" y="3965"/>
                </a:lnTo>
                <a:lnTo>
                  <a:pt x="1617" y="3971"/>
                </a:lnTo>
                <a:lnTo>
                  <a:pt x="1626" y="3978"/>
                </a:lnTo>
                <a:lnTo>
                  <a:pt x="1636" y="3979"/>
                </a:lnTo>
                <a:lnTo>
                  <a:pt x="1644" y="3976"/>
                </a:lnTo>
                <a:lnTo>
                  <a:pt x="1646" y="3976"/>
                </a:lnTo>
                <a:lnTo>
                  <a:pt x="1646" y="3979"/>
                </a:lnTo>
                <a:lnTo>
                  <a:pt x="1647" y="3986"/>
                </a:lnTo>
                <a:lnTo>
                  <a:pt x="1653" y="3998"/>
                </a:lnTo>
                <a:lnTo>
                  <a:pt x="1657" y="4002"/>
                </a:lnTo>
                <a:lnTo>
                  <a:pt x="1663" y="4002"/>
                </a:lnTo>
                <a:lnTo>
                  <a:pt x="1666" y="4001"/>
                </a:lnTo>
                <a:lnTo>
                  <a:pt x="1671" y="4000"/>
                </a:lnTo>
                <a:lnTo>
                  <a:pt x="1676" y="3998"/>
                </a:lnTo>
                <a:lnTo>
                  <a:pt x="1681" y="3998"/>
                </a:lnTo>
                <a:lnTo>
                  <a:pt x="1686" y="4000"/>
                </a:lnTo>
                <a:lnTo>
                  <a:pt x="1697" y="4002"/>
                </a:lnTo>
                <a:lnTo>
                  <a:pt x="1707" y="4007"/>
                </a:lnTo>
                <a:lnTo>
                  <a:pt x="1717" y="4008"/>
                </a:lnTo>
                <a:lnTo>
                  <a:pt x="1726" y="4004"/>
                </a:lnTo>
                <a:lnTo>
                  <a:pt x="1727" y="4004"/>
                </a:lnTo>
                <a:lnTo>
                  <a:pt x="1728" y="4001"/>
                </a:lnTo>
                <a:lnTo>
                  <a:pt x="1728" y="4000"/>
                </a:lnTo>
                <a:lnTo>
                  <a:pt x="1728" y="3998"/>
                </a:lnTo>
                <a:lnTo>
                  <a:pt x="1730" y="3994"/>
                </a:lnTo>
                <a:lnTo>
                  <a:pt x="1731" y="3994"/>
                </a:lnTo>
                <a:lnTo>
                  <a:pt x="1739" y="3992"/>
                </a:lnTo>
                <a:lnTo>
                  <a:pt x="1755" y="3992"/>
                </a:lnTo>
                <a:lnTo>
                  <a:pt x="1769" y="3995"/>
                </a:lnTo>
                <a:lnTo>
                  <a:pt x="1784" y="4001"/>
                </a:lnTo>
                <a:lnTo>
                  <a:pt x="1810" y="4017"/>
                </a:lnTo>
                <a:lnTo>
                  <a:pt x="1817" y="4020"/>
                </a:lnTo>
                <a:lnTo>
                  <a:pt x="1827" y="4026"/>
                </a:lnTo>
                <a:lnTo>
                  <a:pt x="1847" y="4030"/>
                </a:lnTo>
                <a:lnTo>
                  <a:pt x="1866" y="4033"/>
                </a:lnTo>
                <a:lnTo>
                  <a:pt x="1904" y="4030"/>
                </a:lnTo>
                <a:lnTo>
                  <a:pt x="1939" y="4026"/>
                </a:lnTo>
                <a:lnTo>
                  <a:pt x="1941" y="4026"/>
                </a:lnTo>
                <a:lnTo>
                  <a:pt x="1955" y="4026"/>
                </a:lnTo>
                <a:lnTo>
                  <a:pt x="1965" y="4026"/>
                </a:lnTo>
                <a:lnTo>
                  <a:pt x="1966" y="4024"/>
                </a:lnTo>
                <a:lnTo>
                  <a:pt x="1970" y="4021"/>
                </a:lnTo>
                <a:lnTo>
                  <a:pt x="1978" y="4018"/>
                </a:lnTo>
                <a:lnTo>
                  <a:pt x="1981" y="4015"/>
                </a:lnTo>
                <a:lnTo>
                  <a:pt x="1992" y="4010"/>
                </a:lnTo>
                <a:lnTo>
                  <a:pt x="1999" y="4005"/>
                </a:lnTo>
                <a:lnTo>
                  <a:pt x="2007" y="4004"/>
                </a:lnTo>
                <a:lnTo>
                  <a:pt x="2014" y="4002"/>
                </a:lnTo>
                <a:lnTo>
                  <a:pt x="2020" y="4002"/>
                </a:lnTo>
                <a:lnTo>
                  <a:pt x="2025" y="4005"/>
                </a:lnTo>
                <a:lnTo>
                  <a:pt x="2028" y="4010"/>
                </a:lnTo>
                <a:lnTo>
                  <a:pt x="2030" y="4013"/>
                </a:lnTo>
                <a:lnTo>
                  <a:pt x="2028" y="4020"/>
                </a:lnTo>
                <a:lnTo>
                  <a:pt x="2030" y="4031"/>
                </a:lnTo>
                <a:lnTo>
                  <a:pt x="2033" y="4055"/>
                </a:lnTo>
                <a:lnTo>
                  <a:pt x="2041" y="4075"/>
                </a:lnTo>
                <a:lnTo>
                  <a:pt x="2044" y="4079"/>
                </a:lnTo>
                <a:lnTo>
                  <a:pt x="2044" y="4081"/>
                </a:lnTo>
                <a:lnTo>
                  <a:pt x="2043" y="4085"/>
                </a:lnTo>
                <a:lnTo>
                  <a:pt x="2044" y="4085"/>
                </a:lnTo>
                <a:lnTo>
                  <a:pt x="2046" y="4082"/>
                </a:lnTo>
                <a:lnTo>
                  <a:pt x="2049" y="4079"/>
                </a:lnTo>
                <a:lnTo>
                  <a:pt x="2053" y="4075"/>
                </a:lnTo>
                <a:lnTo>
                  <a:pt x="2063" y="4068"/>
                </a:lnTo>
                <a:lnTo>
                  <a:pt x="2073" y="4060"/>
                </a:lnTo>
                <a:lnTo>
                  <a:pt x="2079" y="4052"/>
                </a:lnTo>
                <a:lnTo>
                  <a:pt x="2081" y="4046"/>
                </a:lnTo>
                <a:lnTo>
                  <a:pt x="2079" y="4040"/>
                </a:lnTo>
                <a:lnTo>
                  <a:pt x="2078" y="4033"/>
                </a:lnTo>
                <a:lnTo>
                  <a:pt x="2078" y="4033"/>
                </a:lnTo>
                <a:lnTo>
                  <a:pt x="2082" y="4034"/>
                </a:lnTo>
                <a:lnTo>
                  <a:pt x="2086" y="4033"/>
                </a:lnTo>
                <a:lnTo>
                  <a:pt x="2089" y="4031"/>
                </a:lnTo>
                <a:lnTo>
                  <a:pt x="2091" y="4030"/>
                </a:lnTo>
                <a:lnTo>
                  <a:pt x="2094" y="4027"/>
                </a:lnTo>
                <a:lnTo>
                  <a:pt x="2095" y="4026"/>
                </a:lnTo>
                <a:lnTo>
                  <a:pt x="2098" y="4024"/>
                </a:lnTo>
                <a:lnTo>
                  <a:pt x="2102" y="4020"/>
                </a:lnTo>
                <a:lnTo>
                  <a:pt x="2107" y="4014"/>
                </a:lnTo>
                <a:lnTo>
                  <a:pt x="2114" y="4001"/>
                </a:lnTo>
                <a:lnTo>
                  <a:pt x="2123" y="3994"/>
                </a:lnTo>
                <a:lnTo>
                  <a:pt x="2127" y="3991"/>
                </a:lnTo>
                <a:lnTo>
                  <a:pt x="2136" y="3985"/>
                </a:lnTo>
                <a:lnTo>
                  <a:pt x="2154" y="3971"/>
                </a:lnTo>
                <a:lnTo>
                  <a:pt x="2175" y="3960"/>
                </a:lnTo>
                <a:lnTo>
                  <a:pt x="2182" y="3959"/>
                </a:lnTo>
                <a:lnTo>
                  <a:pt x="2182" y="3962"/>
                </a:lnTo>
                <a:lnTo>
                  <a:pt x="2183" y="3963"/>
                </a:lnTo>
                <a:lnTo>
                  <a:pt x="2185" y="3963"/>
                </a:lnTo>
                <a:lnTo>
                  <a:pt x="2188" y="3965"/>
                </a:lnTo>
                <a:lnTo>
                  <a:pt x="2191" y="3965"/>
                </a:lnTo>
                <a:lnTo>
                  <a:pt x="2195" y="3971"/>
                </a:lnTo>
                <a:lnTo>
                  <a:pt x="2195" y="3972"/>
                </a:lnTo>
                <a:lnTo>
                  <a:pt x="2199" y="3973"/>
                </a:lnTo>
                <a:lnTo>
                  <a:pt x="2202" y="3973"/>
                </a:lnTo>
                <a:lnTo>
                  <a:pt x="2208" y="3972"/>
                </a:lnTo>
                <a:lnTo>
                  <a:pt x="2217" y="3969"/>
                </a:lnTo>
                <a:lnTo>
                  <a:pt x="2223" y="3969"/>
                </a:lnTo>
                <a:lnTo>
                  <a:pt x="2224" y="3972"/>
                </a:lnTo>
                <a:lnTo>
                  <a:pt x="2228" y="3976"/>
                </a:lnTo>
                <a:lnTo>
                  <a:pt x="2237" y="3985"/>
                </a:lnTo>
                <a:lnTo>
                  <a:pt x="2249" y="3991"/>
                </a:lnTo>
                <a:lnTo>
                  <a:pt x="2252" y="3991"/>
                </a:lnTo>
                <a:lnTo>
                  <a:pt x="2256" y="3992"/>
                </a:lnTo>
                <a:lnTo>
                  <a:pt x="2266" y="3995"/>
                </a:lnTo>
                <a:lnTo>
                  <a:pt x="2286" y="4000"/>
                </a:lnTo>
                <a:lnTo>
                  <a:pt x="2307" y="4004"/>
                </a:lnTo>
                <a:lnTo>
                  <a:pt x="2312" y="4004"/>
                </a:lnTo>
                <a:lnTo>
                  <a:pt x="2317" y="4005"/>
                </a:lnTo>
                <a:lnTo>
                  <a:pt x="2321" y="4005"/>
                </a:lnTo>
                <a:lnTo>
                  <a:pt x="2331" y="4004"/>
                </a:lnTo>
                <a:lnTo>
                  <a:pt x="2341" y="4001"/>
                </a:lnTo>
                <a:lnTo>
                  <a:pt x="2359" y="3997"/>
                </a:lnTo>
                <a:lnTo>
                  <a:pt x="2366" y="3998"/>
                </a:lnTo>
                <a:lnTo>
                  <a:pt x="2370" y="4002"/>
                </a:lnTo>
                <a:lnTo>
                  <a:pt x="2379" y="4011"/>
                </a:lnTo>
                <a:lnTo>
                  <a:pt x="2388" y="4021"/>
                </a:lnTo>
                <a:lnTo>
                  <a:pt x="2402" y="4044"/>
                </a:lnTo>
                <a:lnTo>
                  <a:pt x="2415" y="4062"/>
                </a:lnTo>
                <a:lnTo>
                  <a:pt x="2418" y="4060"/>
                </a:lnTo>
                <a:lnTo>
                  <a:pt x="2431" y="4055"/>
                </a:lnTo>
                <a:lnTo>
                  <a:pt x="2441" y="4050"/>
                </a:lnTo>
                <a:lnTo>
                  <a:pt x="2443" y="4049"/>
                </a:lnTo>
                <a:lnTo>
                  <a:pt x="2451" y="4047"/>
                </a:lnTo>
                <a:lnTo>
                  <a:pt x="2467" y="4044"/>
                </a:lnTo>
                <a:lnTo>
                  <a:pt x="2498" y="4039"/>
                </a:lnTo>
                <a:lnTo>
                  <a:pt x="2531" y="4033"/>
                </a:lnTo>
                <a:lnTo>
                  <a:pt x="2541" y="4030"/>
                </a:lnTo>
                <a:lnTo>
                  <a:pt x="2535" y="4018"/>
                </a:lnTo>
                <a:lnTo>
                  <a:pt x="2535" y="4010"/>
                </a:lnTo>
                <a:lnTo>
                  <a:pt x="2537" y="4002"/>
                </a:lnTo>
                <a:lnTo>
                  <a:pt x="2541" y="3997"/>
                </a:lnTo>
                <a:lnTo>
                  <a:pt x="2549" y="3992"/>
                </a:lnTo>
                <a:lnTo>
                  <a:pt x="2556" y="3989"/>
                </a:lnTo>
                <a:lnTo>
                  <a:pt x="2573" y="3982"/>
                </a:lnTo>
                <a:lnTo>
                  <a:pt x="2588" y="3973"/>
                </a:lnTo>
                <a:lnTo>
                  <a:pt x="2593" y="3968"/>
                </a:lnTo>
                <a:lnTo>
                  <a:pt x="2596" y="3959"/>
                </a:lnTo>
                <a:lnTo>
                  <a:pt x="2598" y="3959"/>
                </a:lnTo>
                <a:lnTo>
                  <a:pt x="2599" y="3953"/>
                </a:lnTo>
                <a:lnTo>
                  <a:pt x="2604" y="3942"/>
                </a:lnTo>
                <a:lnTo>
                  <a:pt x="2617" y="3926"/>
                </a:lnTo>
                <a:lnTo>
                  <a:pt x="2633" y="3914"/>
                </a:lnTo>
                <a:lnTo>
                  <a:pt x="2638" y="3911"/>
                </a:lnTo>
                <a:lnTo>
                  <a:pt x="2643" y="3910"/>
                </a:lnTo>
                <a:lnTo>
                  <a:pt x="2656" y="3908"/>
                </a:lnTo>
                <a:lnTo>
                  <a:pt x="2669" y="3910"/>
                </a:lnTo>
                <a:lnTo>
                  <a:pt x="2696" y="3910"/>
                </a:lnTo>
                <a:lnTo>
                  <a:pt x="2714" y="3905"/>
                </a:lnTo>
                <a:lnTo>
                  <a:pt x="2722" y="3900"/>
                </a:lnTo>
                <a:lnTo>
                  <a:pt x="2731" y="3892"/>
                </a:lnTo>
                <a:lnTo>
                  <a:pt x="2747" y="3875"/>
                </a:lnTo>
                <a:lnTo>
                  <a:pt x="2777" y="3840"/>
                </a:lnTo>
                <a:lnTo>
                  <a:pt x="2817" y="3830"/>
                </a:lnTo>
                <a:lnTo>
                  <a:pt x="2821" y="3833"/>
                </a:lnTo>
                <a:lnTo>
                  <a:pt x="2831" y="3837"/>
                </a:lnTo>
                <a:lnTo>
                  <a:pt x="2854" y="3850"/>
                </a:lnTo>
                <a:lnTo>
                  <a:pt x="2880" y="3859"/>
                </a:lnTo>
                <a:lnTo>
                  <a:pt x="2888" y="3859"/>
                </a:lnTo>
                <a:lnTo>
                  <a:pt x="2892" y="3860"/>
                </a:lnTo>
                <a:lnTo>
                  <a:pt x="2896" y="3866"/>
                </a:lnTo>
                <a:lnTo>
                  <a:pt x="2896" y="3869"/>
                </a:lnTo>
                <a:lnTo>
                  <a:pt x="2896" y="3872"/>
                </a:lnTo>
                <a:lnTo>
                  <a:pt x="2896" y="3873"/>
                </a:lnTo>
                <a:lnTo>
                  <a:pt x="2905" y="3871"/>
                </a:lnTo>
                <a:lnTo>
                  <a:pt x="2914" y="3866"/>
                </a:lnTo>
                <a:lnTo>
                  <a:pt x="2931" y="3853"/>
                </a:lnTo>
                <a:lnTo>
                  <a:pt x="2947" y="3839"/>
                </a:lnTo>
                <a:lnTo>
                  <a:pt x="2961" y="3827"/>
                </a:lnTo>
                <a:lnTo>
                  <a:pt x="2979" y="3821"/>
                </a:lnTo>
                <a:lnTo>
                  <a:pt x="2989" y="3823"/>
                </a:lnTo>
                <a:lnTo>
                  <a:pt x="2998" y="3826"/>
                </a:lnTo>
                <a:lnTo>
                  <a:pt x="2999" y="3826"/>
                </a:lnTo>
                <a:lnTo>
                  <a:pt x="3003" y="3830"/>
                </a:lnTo>
                <a:lnTo>
                  <a:pt x="3008" y="3836"/>
                </a:lnTo>
                <a:lnTo>
                  <a:pt x="3011" y="3840"/>
                </a:lnTo>
                <a:lnTo>
                  <a:pt x="3014" y="3846"/>
                </a:lnTo>
                <a:lnTo>
                  <a:pt x="3014" y="3852"/>
                </a:lnTo>
                <a:lnTo>
                  <a:pt x="3014" y="3859"/>
                </a:lnTo>
                <a:lnTo>
                  <a:pt x="3011" y="3872"/>
                </a:lnTo>
                <a:lnTo>
                  <a:pt x="3005" y="3887"/>
                </a:lnTo>
                <a:lnTo>
                  <a:pt x="3001" y="3900"/>
                </a:lnTo>
                <a:lnTo>
                  <a:pt x="3001" y="3900"/>
                </a:lnTo>
                <a:lnTo>
                  <a:pt x="3003" y="3898"/>
                </a:lnTo>
                <a:lnTo>
                  <a:pt x="3012" y="3892"/>
                </a:lnTo>
                <a:lnTo>
                  <a:pt x="3028" y="3882"/>
                </a:lnTo>
                <a:lnTo>
                  <a:pt x="3045" y="3875"/>
                </a:lnTo>
                <a:lnTo>
                  <a:pt x="3051" y="3873"/>
                </a:lnTo>
                <a:lnTo>
                  <a:pt x="3051" y="3878"/>
                </a:lnTo>
                <a:lnTo>
                  <a:pt x="3053" y="3881"/>
                </a:lnTo>
                <a:lnTo>
                  <a:pt x="3056" y="3884"/>
                </a:lnTo>
                <a:lnTo>
                  <a:pt x="3059" y="3885"/>
                </a:lnTo>
                <a:lnTo>
                  <a:pt x="3064" y="3891"/>
                </a:lnTo>
                <a:lnTo>
                  <a:pt x="3069" y="3895"/>
                </a:lnTo>
                <a:lnTo>
                  <a:pt x="3072" y="3901"/>
                </a:lnTo>
                <a:lnTo>
                  <a:pt x="3069" y="3907"/>
                </a:lnTo>
                <a:lnTo>
                  <a:pt x="3069" y="3907"/>
                </a:lnTo>
                <a:lnTo>
                  <a:pt x="3064" y="3913"/>
                </a:lnTo>
                <a:lnTo>
                  <a:pt x="3056" y="3921"/>
                </a:lnTo>
                <a:lnTo>
                  <a:pt x="3045" y="3929"/>
                </a:lnTo>
                <a:lnTo>
                  <a:pt x="3027" y="3939"/>
                </a:lnTo>
                <a:lnTo>
                  <a:pt x="3011" y="3944"/>
                </a:lnTo>
                <a:lnTo>
                  <a:pt x="3009" y="3946"/>
                </a:lnTo>
                <a:lnTo>
                  <a:pt x="3008" y="3947"/>
                </a:lnTo>
                <a:lnTo>
                  <a:pt x="3008" y="3949"/>
                </a:lnTo>
                <a:lnTo>
                  <a:pt x="3008" y="3950"/>
                </a:lnTo>
                <a:lnTo>
                  <a:pt x="3008" y="3952"/>
                </a:lnTo>
                <a:lnTo>
                  <a:pt x="3009" y="3953"/>
                </a:lnTo>
                <a:lnTo>
                  <a:pt x="3012" y="3956"/>
                </a:lnTo>
                <a:lnTo>
                  <a:pt x="3016" y="3959"/>
                </a:lnTo>
                <a:lnTo>
                  <a:pt x="3018" y="3959"/>
                </a:lnTo>
                <a:lnTo>
                  <a:pt x="3025" y="3960"/>
                </a:lnTo>
                <a:lnTo>
                  <a:pt x="3041" y="3959"/>
                </a:lnTo>
                <a:lnTo>
                  <a:pt x="3069" y="3959"/>
                </a:lnTo>
                <a:lnTo>
                  <a:pt x="3096" y="3966"/>
                </a:lnTo>
                <a:lnTo>
                  <a:pt x="3105" y="3969"/>
                </a:lnTo>
                <a:lnTo>
                  <a:pt x="3105" y="3963"/>
                </a:lnTo>
                <a:lnTo>
                  <a:pt x="3106" y="3958"/>
                </a:lnTo>
                <a:lnTo>
                  <a:pt x="3111" y="3956"/>
                </a:lnTo>
                <a:lnTo>
                  <a:pt x="3116" y="3959"/>
                </a:lnTo>
                <a:lnTo>
                  <a:pt x="3122" y="3962"/>
                </a:lnTo>
                <a:lnTo>
                  <a:pt x="3128" y="3962"/>
                </a:lnTo>
                <a:lnTo>
                  <a:pt x="3131" y="3960"/>
                </a:lnTo>
                <a:lnTo>
                  <a:pt x="3140" y="3968"/>
                </a:lnTo>
                <a:lnTo>
                  <a:pt x="3145" y="3972"/>
                </a:lnTo>
                <a:lnTo>
                  <a:pt x="3147" y="3972"/>
                </a:lnTo>
                <a:lnTo>
                  <a:pt x="3148" y="3973"/>
                </a:lnTo>
                <a:lnTo>
                  <a:pt x="3153" y="3976"/>
                </a:lnTo>
                <a:lnTo>
                  <a:pt x="3156" y="3978"/>
                </a:lnTo>
                <a:lnTo>
                  <a:pt x="3157" y="3978"/>
                </a:lnTo>
                <a:lnTo>
                  <a:pt x="3161" y="3978"/>
                </a:lnTo>
                <a:lnTo>
                  <a:pt x="3169" y="3976"/>
                </a:lnTo>
                <a:lnTo>
                  <a:pt x="3173" y="3973"/>
                </a:lnTo>
                <a:lnTo>
                  <a:pt x="3174" y="3969"/>
                </a:lnTo>
                <a:lnTo>
                  <a:pt x="3173" y="3965"/>
                </a:lnTo>
                <a:lnTo>
                  <a:pt x="3173" y="3963"/>
                </a:lnTo>
                <a:lnTo>
                  <a:pt x="3173" y="3962"/>
                </a:lnTo>
                <a:lnTo>
                  <a:pt x="3172" y="3960"/>
                </a:lnTo>
                <a:lnTo>
                  <a:pt x="3169" y="3956"/>
                </a:lnTo>
                <a:lnTo>
                  <a:pt x="3166" y="3947"/>
                </a:lnTo>
                <a:lnTo>
                  <a:pt x="3164" y="3937"/>
                </a:lnTo>
                <a:lnTo>
                  <a:pt x="3166" y="3934"/>
                </a:lnTo>
                <a:lnTo>
                  <a:pt x="3167" y="3936"/>
                </a:lnTo>
                <a:lnTo>
                  <a:pt x="3172" y="3937"/>
                </a:lnTo>
                <a:lnTo>
                  <a:pt x="3177" y="3934"/>
                </a:lnTo>
                <a:lnTo>
                  <a:pt x="3182" y="3934"/>
                </a:lnTo>
                <a:lnTo>
                  <a:pt x="3190" y="3934"/>
                </a:lnTo>
                <a:lnTo>
                  <a:pt x="3192" y="3934"/>
                </a:lnTo>
                <a:lnTo>
                  <a:pt x="3199" y="3940"/>
                </a:lnTo>
                <a:lnTo>
                  <a:pt x="3215" y="3952"/>
                </a:lnTo>
                <a:lnTo>
                  <a:pt x="3243" y="3976"/>
                </a:lnTo>
                <a:lnTo>
                  <a:pt x="3263" y="4005"/>
                </a:lnTo>
                <a:lnTo>
                  <a:pt x="3266" y="4013"/>
                </a:lnTo>
                <a:lnTo>
                  <a:pt x="3266" y="4020"/>
                </a:lnTo>
                <a:lnTo>
                  <a:pt x="3267" y="4031"/>
                </a:lnTo>
                <a:lnTo>
                  <a:pt x="3267" y="4052"/>
                </a:lnTo>
                <a:lnTo>
                  <a:pt x="3269" y="4060"/>
                </a:lnTo>
                <a:lnTo>
                  <a:pt x="3274" y="4068"/>
                </a:lnTo>
                <a:lnTo>
                  <a:pt x="3280" y="4069"/>
                </a:lnTo>
                <a:lnTo>
                  <a:pt x="3285" y="4071"/>
                </a:lnTo>
                <a:lnTo>
                  <a:pt x="3287" y="4069"/>
                </a:lnTo>
                <a:lnTo>
                  <a:pt x="3295" y="4068"/>
                </a:lnTo>
                <a:lnTo>
                  <a:pt x="3309" y="4065"/>
                </a:lnTo>
                <a:lnTo>
                  <a:pt x="3321" y="4066"/>
                </a:lnTo>
                <a:lnTo>
                  <a:pt x="3324" y="4071"/>
                </a:lnTo>
                <a:lnTo>
                  <a:pt x="3329" y="4078"/>
                </a:lnTo>
                <a:lnTo>
                  <a:pt x="3338" y="4098"/>
                </a:lnTo>
                <a:lnTo>
                  <a:pt x="3338" y="4110"/>
                </a:lnTo>
                <a:lnTo>
                  <a:pt x="3335" y="4121"/>
                </a:lnTo>
                <a:lnTo>
                  <a:pt x="3334" y="4127"/>
                </a:lnTo>
                <a:lnTo>
                  <a:pt x="3329" y="4136"/>
                </a:lnTo>
                <a:lnTo>
                  <a:pt x="3329" y="4143"/>
                </a:lnTo>
                <a:lnTo>
                  <a:pt x="3331" y="4150"/>
                </a:lnTo>
                <a:lnTo>
                  <a:pt x="3334" y="4157"/>
                </a:lnTo>
                <a:lnTo>
                  <a:pt x="3342" y="4172"/>
                </a:lnTo>
                <a:lnTo>
                  <a:pt x="3351" y="4188"/>
                </a:lnTo>
                <a:lnTo>
                  <a:pt x="3356" y="4204"/>
                </a:lnTo>
                <a:lnTo>
                  <a:pt x="3353" y="4221"/>
                </a:lnTo>
                <a:lnTo>
                  <a:pt x="3353" y="4221"/>
                </a:lnTo>
                <a:lnTo>
                  <a:pt x="3348" y="4228"/>
                </a:lnTo>
                <a:lnTo>
                  <a:pt x="3340" y="4243"/>
                </a:lnTo>
                <a:lnTo>
                  <a:pt x="3324" y="4269"/>
                </a:lnTo>
                <a:lnTo>
                  <a:pt x="3321" y="4284"/>
                </a:lnTo>
                <a:lnTo>
                  <a:pt x="3325" y="4298"/>
                </a:lnTo>
                <a:lnTo>
                  <a:pt x="3331" y="4305"/>
                </a:lnTo>
                <a:lnTo>
                  <a:pt x="3325" y="4308"/>
                </a:lnTo>
                <a:lnTo>
                  <a:pt x="3315" y="4314"/>
                </a:lnTo>
                <a:lnTo>
                  <a:pt x="3299" y="4328"/>
                </a:lnTo>
                <a:lnTo>
                  <a:pt x="3293" y="4336"/>
                </a:lnTo>
                <a:lnTo>
                  <a:pt x="3290" y="4344"/>
                </a:lnTo>
                <a:lnTo>
                  <a:pt x="3290" y="4349"/>
                </a:lnTo>
                <a:lnTo>
                  <a:pt x="3289" y="4359"/>
                </a:lnTo>
                <a:lnTo>
                  <a:pt x="3286" y="4368"/>
                </a:lnTo>
                <a:lnTo>
                  <a:pt x="3282" y="4375"/>
                </a:lnTo>
                <a:lnTo>
                  <a:pt x="3277" y="4381"/>
                </a:lnTo>
                <a:lnTo>
                  <a:pt x="3264" y="4391"/>
                </a:lnTo>
                <a:lnTo>
                  <a:pt x="3250" y="4399"/>
                </a:lnTo>
                <a:lnTo>
                  <a:pt x="3221" y="4414"/>
                </a:lnTo>
                <a:lnTo>
                  <a:pt x="3221" y="4414"/>
                </a:lnTo>
                <a:lnTo>
                  <a:pt x="3215" y="4418"/>
                </a:lnTo>
                <a:lnTo>
                  <a:pt x="3211" y="4423"/>
                </a:lnTo>
                <a:lnTo>
                  <a:pt x="3206" y="4428"/>
                </a:lnTo>
                <a:lnTo>
                  <a:pt x="3201" y="4440"/>
                </a:lnTo>
                <a:lnTo>
                  <a:pt x="3196" y="4453"/>
                </a:lnTo>
                <a:lnTo>
                  <a:pt x="3190" y="4465"/>
                </a:lnTo>
                <a:lnTo>
                  <a:pt x="3180" y="4475"/>
                </a:lnTo>
                <a:lnTo>
                  <a:pt x="3174" y="4478"/>
                </a:lnTo>
                <a:lnTo>
                  <a:pt x="3179" y="4488"/>
                </a:lnTo>
                <a:lnTo>
                  <a:pt x="3190" y="4508"/>
                </a:lnTo>
                <a:lnTo>
                  <a:pt x="3205" y="4550"/>
                </a:lnTo>
                <a:lnTo>
                  <a:pt x="3203" y="4570"/>
                </a:lnTo>
                <a:lnTo>
                  <a:pt x="3192" y="4591"/>
                </a:lnTo>
                <a:lnTo>
                  <a:pt x="3183" y="4599"/>
                </a:lnTo>
                <a:lnTo>
                  <a:pt x="3190" y="4597"/>
                </a:lnTo>
                <a:lnTo>
                  <a:pt x="3205" y="4588"/>
                </a:lnTo>
                <a:lnTo>
                  <a:pt x="3234" y="4572"/>
                </a:lnTo>
                <a:lnTo>
                  <a:pt x="3264" y="4557"/>
                </a:lnTo>
                <a:lnTo>
                  <a:pt x="3273" y="4553"/>
                </a:lnTo>
                <a:lnTo>
                  <a:pt x="3279" y="4552"/>
                </a:lnTo>
                <a:lnTo>
                  <a:pt x="3293" y="4547"/>
                </a:lnTo>
                <a:lnTo>
                  <a:pt x="3324" y="4544"/>
                </a:lnTo>
                <a:lnTo>
                  <a:pt x="3357" y="4555"/>
                </a:lnTo>
                <a:lnTo>
                  <a:pt x="3366" y="4557"/>
                </a:lnTo>
                <a:lnTo>
                  <a:pt x="3357" y="4562"/>
                </a:lnTo>
                <a:lnTo>
                  <a:pt x="3353" y="4568"/>
                </a:lnTo>
                <a:lnTo>
                  <a:pt x="3348" y="4573"/>
                </a:lnTo>
                <a:lnTo>
                  <a:pt x="3345" y="4581"/>
                </a:lnTo>
                <a:lnTo>
                  <a:pt x="3345" y="4589"/>
                </a:lnTo>
                <a:lnTo>
                  <a:pt x="3347" y="4607"/>
                </a:lnTo>
                <a:lnTo>
                  <a:pt x="3351" y="4623"/>
                </a:lnTo>
                <a:lnTo>
                  <a:pt x="3358" y="4637"/>
                </a:lnTo>
                <a:lnTo>
                  <a:pt x="3363" y="4643"/>
                </a:lnTo>
                <a:lnTo>
                  <a:pt x="3364" y="4647"/>
                </a:lnTo>
                <a:lnTo>
                  <a:pt x="3366" y="4652"/>
                </a:lnTo>
                <a:lnTo>
                  <a:pt x="3366" y="4654"/>
                </a:lnTo>
                <a:lnTo>
                  <a:pt x="3364" y="4659"/>
                </a:lnTo>
                <a:lnTo>
                  <a:pt x="3363" y="4666"/>
                </a:lnTo>
                <a:lnTo>
                  <a:pt x="3360" y="4673"/>
                </a:lnTo>
                <a:lnTo>
                  <a:pt x="3358" y="4679"/>
                </a:lnTo>
                <a:lnTo>
                  <a:pt x="3357" y="4685"/>
                </a:lnTo>
                <a:lnTo>
                  <a:pt x="3358" y="4685"/>
                </a:lnTo>
                <a:lnTo>
                  <a:pt x="3361" y="4692"/>
                </a:lnTo>
                <a:lnTo>
                  <a:pt x="3366" y="4695"/>
                </a:lnTo>
                <a:lnTo>
                  <a:pt x="3371" y="4698"/>
                </a:lnTo>
                <a:lnTo>
                  <a:pt x="3379" y="4698"/>
                </a:lnTo>
                <a:lnTo>
                  <a:pt x="3386" y="4698"/>
                </a:lnTo>
                <a:lnTo>
                  <a:pt x="3400" y="4697"/>
                </a:lnTo>
                <a:lnTo>
                  <a:pt x="3413" y="4694"/>
                </a:lnTo>
                <a:lnTo>
                  <a:pt x="3424" y="4695"/>
                </a:lnTo>
                <a:lnTo>
                  <a:pt x="3427" y="4698"/>
                </a:lnTo>
                <a:lnTo>
                  <a:pt x="3428" y="4708"/>
                </a:lnTo>
                <a:lnTo>
                  <a:pt x="3427" y="4720"/>
                </a:lnTo>
                <a:lnTo>
                  <a:pt x="3425" y="4730"/>
                </a:lnTo>
                <a:lnTo>
                  <a:pt x="3418" y="4752"/>
                </a:lnTo>
                <a:lnTo>
                  <a:pt x="3405" y="4798"/>
                </a:lnTo>
                <a:lnTo>
                  <a:pt x="3413" y="4831"/>
                </a:lnTo>
                <a:lnTo>
                  <a:pt x="3418" y="4837"/>
                </a:lnTo>
                <a:lnTo>
                  <a:pt x="3424" y="4840"/>
                </a:lnTo>
                <a:lnTo>
                  <a:pt x="3429" y="4841"/>
                </a:lnTo>
                <a:lnTo>
                  <a:pt x="3438" y="4843"/>
                </a:lnTo>
                <a:lnTo>
                  <a:pt x="3454" y="4843"/>
                </a:lnTo>
                <a:lnTo>
                  <a:pt x="3471" y="4841"/>
                </a:lnTo>
                <a:lnTo>
                  <a:pt x="3487" y="4844"/>
                </a:lnTo>
                <a:lnTo>
                  <a:pt x="3493" y="4849"/>
                </a:lnTo>
                <a:lnTo>
                  <a:pt x="3499" y="4853"/>
                </a:lnTo>
                <a:lnTo>
                  <a:pt x="3500" y="4853"/>
                </a:lnTo>
                <a:lnTo>
                  <a:pt x="3502" y="4857"/>
                </a:lnTo>
                <a:lnTo>
                  <a:pt x="3503" y="4860"/>
                </a:lnTo>
                <a:lnTo>
                  <a:pt x="3503" y="4865"/>
                </a:lnTo>
                <a:lnTo>
                  <a:pt x="3503" y="4869"/>
                </a:lnTo>
                <a:lnTo>
                  <a:pt x="3500" y="4878"/>
                </a:lnTo>
                <a:lnTo>
                  <a:pt x="3496" y="4886"/>
                </a:lnTo>
                <a:lnTo>
                  <a:pt x="3486" y="4902"/>
                </a:lnTo>
                <a:lnTo>
                  <a:pt x="3486" y="4902"/>
                </a:lnTo>
                <a:lnTo>
                  <a:pt x="3495" y="4904"/>
                </a:lnTo>
                <a:lnTo>
                  <a:pt x="3500" y="4907"/>
                </a:lnTo>
                <a:lnTo>
                  <a:pt x="3511" y="4912"/>
                </a:lnTo>
                <a:lnTo>
                  <a:pt x="3519" y="4915"/>
                </a:lnTo>
                <a:lnTo>
                  <a:pt x="3521" y="4917"/>
                </a:lnTo>
                <a:lnTo>
                  <a:pt x="3521" y="4918"/>
                </a:lnTo>
                <a:lnTo>
                  <a:pt x="3519" y="4921"/>
                </a:lnTo>
                <a:lnTo>
                  <a:pt x="3518" y="4923"/>
                </a:lnTo>
                <a:lnTo>
                  <a:pt x="3515" y="4927"/>
                </a:lnTo>
                <a:lnTo>
                  <a:pt x="3511" y="4934"/>
                </a:lnTo>
                <a:lnTo>
                  <a:pt x="3512" y="4934"/>
                </a:lnTo>
                <a:lnTo>
                  <a:pt x="3524" y="4936"/>
                </a:lnTo>
                <a:lnTo>
                  <a:pt x="3548" y="4933"/>
                </a:lnTo>
                <a:lnTo>
                  <a:pt x="3573" y="4925"/>
                </a:lnTo>
                <a:lnTo>
                  <a:pt x="3621" y="4910"/>
                </a:lnTo>
                <a:lnTo>
                  <a:pt x="3658" y="4902"/>
                </a:lnTo>
                <a:lnTo>
                  <a:pt x="3657" y="4905"/>
                </a:lnTo>
                <a:lnTo>
                  <a:pt x="3655" y="4910"/>
                </a:lnTo>
                <a:lnTo>
                  <a:pt x="3654" y="4914"/>
                </a:lnTo>
                <a:lnTo>
                  <a:pt x="3653" y="4915"/>
                </a:lnTo>
                <a:lnTo>
                  <a:pt x="3653" y="4915"/>
                </a:lnTo>
                <a:lnTo>
                  <a:pt x="3651" y="4918"/>
                </a:lnTo>
                <a:lnTo>
                  <a:pt x="3650" y="4925"/>
                </a:lnTo>
                <a:lnTo>
                  <a:pt x="3648" y="4930"/>
                </a:lnTo>
                <a:lnTo>
                  <a:pt x="3648" y="4930"/>
                </a:lnTo>
                <a:lnTo>
                  <a:pt x="3654" y="4936"/>
                </a:lnTo>
                <a:lnTo>
                  <a:pt x="3676" y="4953"/>
                </a:lnTo>
                <a:lnTo>
                  <a:pt x="3697" y="4967"/>
                </a:lnTo>
                <a:lnTo>
                  <a:pt x="3702" y="4969"/>
                </a:lnTo>
                <a:lnTo>
                  <a:pt x="3703" y="4970"/>
                </a:lnTo>
                <a:lnTo>
                  <a:pt x="3709" y="4973"/>
                </a:lnTo>
                <a:lnTo>
                  <a:pt x="3722" y="4973"/>
                </a:lnTo>
                <a:lnTo>
                  <a:pt x="3729" y="4972"/>
                </a:lnTo>
                <a:lnTo>
                  <a:pt x="3737" y="4967"/>
                </a:lnTo>
                <a:lnTo>
                  <a:pt x="3741" y="4963"/>
                </a:lnTo>
                <a:lnTo>
                  <a:pt x="3744" y="4959"/>
                </a:lnTo>
                <a:lnTo>
                  <a:pt x="3747" y="4954"/>
                </a:lnTo>
                <a:lnTo>
                  <a:pt x="3748" y="4949"/>
                </a:lnTo>
                <a:lnTo>
                  <a:pt x="3748" y="4943"/>
                </a:lnTo>
                <a:lnTo>
                  <a:pt x="3747" y="4931"/>
                </a:lnTo>
                <a:lnTo>
                  <a:pt x="3744" y="4921"/>
                </a:lnTo>
                <a:lnTo>
                  <a:pt x="3739" y="4910"/>
                </a:lnTo>
                <a:lnTo>
                  <a:pt x="3741" y="4910"/>
                </a:lnTo>
                <a:lnTo>
                  <a:pt x="3737" y="4905"/>
                </a:lnTo>
                <a:lnTo>
                  <a:pt x="3724" y="4888"/>
                </a:lnTo>
                <a:lnTo>
                  <a:pt x="3713" y="4863"/>
                </a:lnTo>
                <a:lnTo>
                  <a:pt x="3713" y="4856"/>
                </a:lnTo>
                <a:lnTo>
                  <a:pt x="3712" y="4850"/>
                </a:lnTo>
                <a:lnTo>
                  <a:pt x="3710" y="4840"/>
                </a:lnTo>
                <a:lnTo>
                  <a:pt x="3708" y="4830"/>
                </a:lnTo>
                <a:lnTo>
                  <a:pt x="3706" y="4828"/>
                </a:lnTo>
                <a:lnTo>
                  <a:pt x="3705" y="4827"/>
                </a:lnTo>
                <a:lnTo>
                  <a:pt x="3703" y="4825"/>
                </a:lnTo>
                <a:lnTo>
                  <a:pt x="3699" y="4823"/>
                </a:lnTo>
                <a:lnTo>
                  <a:pt x="3697" y="4821"/>
                </a:lnTo>
                <a:lnTo>
                  <a:pt x="3696" y="4815"/>
                </a:lnTo>
                <a:lnTo>
                  <a:pt x="3695" y="4808"/>
                </a:lnTo>
                <a:lnTo>
                  <a:pt x="3695" y="4801"/>
                </a:lnTo>
                <a:lnTo>
                  <a:pt x="3697" y="4792"/>
                </a:lnTo>
                <a:lnTo>
                  <a:pt x="3700" y="4788"/>
                </a:lnTo>
                <a:lnTo>
                  <a:pt x="3703" y="4785"/>
                </a:lnTo>
                <a:lnTo>
                  <a:pt x="3710" y="4781"/>
                </a:lnTo>
                <a:lnTo>
                  <a:pt x="3719" y="4778"/>
                </a:lnTo>
                <a:lnTo>
                  <a:pt x="3728" y="4778"/>
                </a:lnTo>
                <a:lnTo>
                  <a:pt x="3737" y="4778"/>
                </a:lnTo>
                <a:lnTo>
                  <a:pt x="3744" y="4781"/>
                </a:lnTo>
                <a:lnTo>
                  <a:pt x="3748" y="4781"/>
                </a:lnTo>
                <a:lnTo>
                  <a:pt x="3751" y="4782"/>
                </a:lnTo>
                <a:lnTo>
                  <a:pt x="3758" y="4786"/>
                </a:lnTo>
                <a:lnTo>
                  <a:pt x="3779" y="4796"/>
                </a:lnTo>
                <a:lnTo>
                  <a:pt x="3796" y="4804"/>
                </a:lnTo>
                <a:lnTo>
                  <a:pt x="3800" y="4804"/>
                </a:lnTo>
                <a:lnTo>
                  <a:pt x="3802" y="4802"/>
                </a:lnTo>
                <a:lnTo>
                  <a:pt x="3803" y="4798"/>
                </a:lnTo>
                <a:lnTo>
                  <a:pt x="3805" y="4792"/>
                </a:lnTo>
                <a:lnTo>
                  <a:pt x="3806" y="4791"/>
                </a:lnTo>
                <a:lnTo>
                  <a:pt x="3806" y="4785"/>
                </a:lnTo>
                <a:lnTo>
                  <a:pt x="3809" y="4775"/>
                </a:lnTo>
                <a:lnTo>
                  <a:pt x="3812" y="4762"/>
                </a:lnTo>
                <a:lnTo>
                  <a:pt x="3819" y="4746"/>
                </a:lnTo>
                <a:lnTo>
                  <a:pt x="3822" y="4740"/>
                </a:lnTo>
                <a:lnTo>
                  <a:pt x="3825" y="4739"/>
                </a:lnTo>
                <a:lnTo>
                  <a:pt x="3828" y="4739"/>
                </a:lnTo>
                <a:lnTo>
                  <a:pt x="3832" y="4739"/>
                </a:lnTo>
                <a:lnTo>
                  <a:pt x="3842" y="4740"/>
                </a:lnTo>
                <a:lnTo>
                  <a:pt x="3845" y="4740"/>
                </a:lnTo>
                <a:lnTo>
                  <a:pt x="3848" y="4747"/>
                </a:lnTo>
                <a:lnTo>
                  <a:pt x="3857" y="4757"/>
                </a:lnTo>
                <a:lnTo>
                  <a:pt x="3867" y="4766"/>
                </a:lnTo>
                <a:lnTo>
                  <a:pt x="3879" y="4773"/>
                </a:lnTo>
                <a:lnTo>
                  <a:pt x="3890" y="4776"/>
                </a:lnTo>
                <a:lnTo>
                  <a:pt x="3900" y="4778"/>
                </a:lnTo>
                <a:lnTo>
                  <a:pt x="3906" y="4776"/>
                </a:lnTo>
                <a:lnTo>
                  <a:pt x="3909" y="4776"/>
                </a:lnTo>
                <a:lnTo>
                  <a:pt x="3912" y="4773"/>
                </a:lnTo>
                <a:lnTo>
                  <a:pt x="3915" y="4769"/>
                </a:lnTo>
                <a:lnTo>
                  <a:pt x="3918" y="4766"/>
                </a:lnTo>
                <a:lnTo>
                  <a:pt x="3922" y="4756"/>
                </a:lnTo>
                <a:lnTo>
                  <a:pt x="3926" y="4746"/>
                </a:lnTo>
                <a:lnTo>
                  <a:pt x="3934" y="4739"/>
                </a:lnTo>
                <a:lnTo>
                  <a:pt x="3941" y="4734"/>
                </a:lnTo>
                <a:lnTo>
                  <a:pt x="3942" y="4734"/>
                </a:lnTo>
                <a:lnTo>
                  <a:pt x="3950" y="4734"/>
                </a:lnTo>
                <a:lnTo>
                  <a:pt x="3965" y="4733"/>
                </a:lnTo>
                <a:lnTo>
                  <a:pt x="3979" y="4736"/>
                </a:lnTo>
                <a:lnTo>
                  <a:pt x="3990" y="4741"/>
                </a:lnTo>
                <a:lnTo>
                  <a:pt x="4000" y="4752"/>
                </a:lnTo>
                <a:lnTo>
                  <a:pt x="4008" y="4765"/>
                </a:lnTo>
                <a:lnTo>
                  <a:pt x="4012" y="4772"/>
                </a:lnTo>
                <a:lnTo>
                  <a:pt x="4016" y="4770"/>
                </a:lnTo>
                <a:lnTo>
                  <a:pt x="4025" y="4768"/>
                </a:lnTo>
                <a:lnTo>
                  <a:pt x="4044" y="4759"/>
                </a:lnTo>
                <a:lnTo>
                  <a:pt x="4060" y="4744"/>
                </a:lnTo>
                <a:lnTo>
                  <a:pt x="4063" y="4739"/>
                </a:lnTo>
                <a:lnTo>
                  <a:pt x="4064" y="4740"/>
                </a:lnTo>
                <a:lnTo>
                  <a:pt x="4067" y="4743"/>
                </a:lnTo>
                <a:lnTo>
                  <a:pt x="4068" y="4746"/>
                </a:lnTo>
                <a:lnTo>
                  <a:pt x="4070" y="4749"/>
                </a:lnTo>
                <a:lnTo>
                  <a:pt x="4071" y="4752"/>
                </a:lnTo>
                <a:lnTo>
                  <a:pt x="4071" y="4754"/>
                </a:lnTo>
                <a:lnTo>
                  <a:pt x="4071" y="4756"/>
                </a:lnTo>
                <a:lnTo>
                  <a:pt x="4076" y="4757"/>
                </a:lnTo>
                <a:lnTo>
                  <a:pt x="4081" y="4757"/>
                </a:lnTo>
                <a:lnTo>
                  <a:pt x="4086" y="4756"/>
                </a:lnTo>
                <a:lnTo>
                  <a:pt x="4087" y="4754"/>
                </a:lnTo>
                <a:lnTo>
                  <a:pt x="4089" y="4753"/>
                </a:lnTo>
                <a:lnTo>
                  <a:pt x="4089" y="4752"/>
                </a:lnTo>
                <a:lnTo>
                  <a:pt x="4089" y="4750"/>
                </a:lnTo>
                <a:lnTo>
                  <a:pt x="4089" y="4747"/>
                </a:lnTo>
                <a:lnTo>
                  <a:pt x="4089" y="4741"/>
                </a:lnTo>
                <a:lnTo>
                  <a:pt x="4090" y="4740"/>
                </a:lnTo>
                <a:lnTo>
                  <a:pt x="4093" y="4737"/>
                </a:lnTo>
                <a:lnTo>
                  <a:pt x="4102" y="4734"/>
                </a:lnTo>
                <a:lnTo>
                  <a:pt x="4109" y="4734"/>
                </a:lnTo>
                <a:lnTo>
                  <a:pt x="4118" y="4734"/>
                </a:lnTo>
                <a:lnTo>
                  <a:pt x="4125" y="4737"/>
                </a:lnTo>
                <a:lnTo>
                  <a:pt x="4135" y="4739"/>
                </a:lnTo>
                <a:lnTo>
                  <a:pt x="4141" y="4739"/>
                </a:lnTo>
                <a:lnTo>
                  <a:pt x="4138" y="4730"/>
                </a:lnTo>
                <a:lnTo>
                  <a:pt x="4135" y="4712"/>
                </a:lnTo>
                <a:lnTo>
                  <a:pt x="4136" y="4697"/>
                </a:lnTo>
                <a:lnTo>
                  <a:pt x="4141" y="4682"/>
                </a:lnTo>
                <a:lnTo>
                  <a:pt x="4148" y="4670"/>
                </a:lnTo>
                <a:lnTo>
                  <a:pt x="4160" y="4660"/>
                </a:lnTo>
                <a:lnTo>
                  <a:pt x="4168" y="4656"/>
                </a:lnTo>
                <a:lnTo>
                  <a:pt x="4174" y="4654"/>
                </a:lnTo>
                <a:lnTo>
                  <a:pt x="4181" y="4653"/>
                </a:lnTo>
                <a:lnTo>
                  <a:pt x="4189" y="4653"/>
                </a:lnTo>
                <a:lnTo>
                  <a:pt x="4196" y="4654"/>
                </a:lnTo>
                <a:lnTo>
                  <a:pt x="4212" y="4662"/>
                </a:lnTo>
                <a:lnTo>
                  <a:pt x="4226" y="4672"/>
                </a:lnTo>
                <a:lnTo>
                  <a:pt x="4238" y="4686"/>
                </a:lnTo>
                <a:lnTo>
                  <a:pt x="4248" y="4701"/>
                </a:lnTo>
                <a:lnTo>
                  <a:pt x="4249" y="4701"/>
                </a:lnTo>
                <a:lnTo>
                  <a:pt x="4252" y="4707"/>
                </a:lnTo>
                <a:lnTo>
                  <a:pt x="4257" y="4710"/>
                </a:lnTo>
                <a:lnTo>
                  <a:pt x="4262" y="4712"/>
                </a:lnTo>
                <a:lnTo>
                  <a:pt x="4270" y="4714"/>
                </a:lnTo>
                <a:lnTo>
                  <a:pt x="4283" y="4712"/>
                </a:lnTo>
                <a:lnTo>
                  <a:pt x="4316" y="4714"/>
                </a:lnTo>
                <a:lnTo>
                  <a:pt x="4332" y="4720"/>
                </a:lnTo>
                <a:lnTo>
                  <a:pt x="4336" y="4723"/>
                </a:lnTo>
                <a:lnTo>
                  <a:pt x="4341" y="4723"/>
                </a:lnTo>
                <a:lnTo>
                  <a:pt x="4347" y="4723"/>
                </a:lnTo>
                <a:lnTo>
                  <a:pt x="4351" y="4721"/>
                </a:lnTo>
                <a:lnTo>
                  <a:pt x="4361" y="4717"/>
                </a:lnTo>
                <a:lnTo>
                  <a:pt x="4371" y="4714"/>
                </a:lnTo>
                <a:lnTo>
                  <a:pt x="4380" y="4712"/>
                </a:lnTo>
                <a:lnTo>
                  <a:pt x="4387" y="4715"/>
                </a:lnTo>
                <a:lnTo>
                  <a:pt x="4389" y="4715"/>
                </a:lnTo>
                <a:lnTo>
                  <a:pt x="4390" y="4718"/>
                </a:lnTo>
                <a:lnTo>
                  <a:pt x="4391" y="4720"/>
                </a:lnTo>
                <a:lnTo>
                  <a:pt x="4394" y="4720"/>
                </a:lnTo>
                <a:lnTo>
                  <a:pt x="4402" y="4723"/>
                </a:lnTo>
                <a:lnTo>
                  <a:pt x="4406" y="4724"/>
                </a:lnTo>
                <a:lnTo>
                  <a:pt x="4409" y="4728"/>
                </a:lnTo>
                <a:lnTo>
                  <a:pt x="4409" y="4734"/>
                </a:lnTo>
                <a:lnTo>
                  <a:pt x="4407" y="4737"/>
                </a:lnTo>
                <a:lnTo>
                  <a:pt x="4403" y="4746"/>
                </a:lnTo>
                <a:lnTo>
                  <a:pt x="4397" y="4760"/>
                </a:lnTo>
                <a:lnTo>
                  <a:pt x="4389" y="4791"/>
                </a:lnTo>
                <a:lnTo>
                  <a:pt x="4377" y="4820"/>
                </a:lnTo>
                <a:lnTo>
                  <a:pt x="4374" y="4825"/>
                </a:lnTo>
                <a:lnTo>
                  <a:pt x="4381" y="4825"/>
                </a:lnTo>
                <a:lnTo>
                  <a:pt x="4389" y="4827"/>
                </a:lnTo>
                <a:lnTo>
                  <a:pt x="4396" y="4830"/>
                </a:lnTo>
                <a:lnTo>
                  <a:pt x="4402" y="4834"/>
                </a:lnTo>
                <a:lnTo>
                  <a:pt x="4412" y="4844"/>
                </a:lnTo>
                <a:lnTo>
                  <a:pt x="4422" y="4856"/>
                </a:lnTo>
                <a:lnTo>
                  <a:pt x="4431" y="4867"/>
                </a:lnTo>
                <a:lnTo>
                  <a:pt x="4442" y="4875"/>
                </a:lnTo>
                <a:lnTo>
                  <a:pt x="4444" y="4875"/>
                </a:lnTo>
                <a:lnTo>
                  <a:pt x="4449" y="4878"/>
                </a:lnTo>
                <a:lnTo>
                  <a:pt x="4461" y="4882"/>
                </a:lnTo>
                <a:lnTo>
                  <a:pt x="4487" y="4886"/>
                </a:lnTo>
                <a:lnTo>
                  <a:pt x="4515" y="4888"/>
                </a:lnTo>
                <a:lnTo>
                  <a:pt x="4522" y="4888"/>
                </a:lnTo>
                <a:lnTo>
                  <a:pt x="4526" y="4891"/>
                </a:lnTo>
                <a:lnTo>
                  <a:pt x="4532" y="4894"/>
                </a:lnTo>
                <a:lnTo>
                  <a:pt x="4538" y="4901"/>
                </a:lnTo>
                <a:lnTo>
                  <a:pt x="4541" y="4902"/>
                </a:lnTo>
                <a:lnTo>
                  <a:pt x="4544" y="4910"/>
                </a:lnTo>
                <a:lnTo>
                  <a:pt x="4545" y="4912"/>
                </a:lnTo>
                <a:lnTo>
                  <a:pt x="4546" y="4912"/>
                </a:lnTo>
                <a:lnTo>
                  <a:pt x="4562" y="4914"/>
                </a:lnTo>
                <a:lnTo>
                  <a:pt x="4580" y="4915"/>
                </a:lnTo>
                <a:lnTo>
                  <a:pt x="4580" y="4920"/>
                </a:lnTo>
                <a:lnTo>
                  <a:pt x="4575" y="4923"/>
                </a:lnTo>
                <a:lnTo>
                  <a:pt x="4577" y="4927"/>
                </a:lnTo>
                <a:lnTo>
                  <a:pt x="4593" y="4928"/>
                </a:lnTo>
                <a:lnTo>
                  <a:pt x="4610" y="4928"/>
                </a:lnTo>
                <a:lnTo>
                  <a:pt x="4620" y="4915"/>
                </a:lnTo>
                <a:lnTo>
                  <a:pt x="4632" y="4907"/>
                </a:lnTo>
                <a:lnTo>
                  <a:pt x="4645" y="4904"/>
                </a:lnTo>
                <a:lnTo>
                  <a:pt x="4658" y="4902"/>
                </a:lnTo>
                <a:lnTo>
                  <a:pt x="4673" y="4905"/>
                </a:lnTo>
                <a:lnTo>
                  <a:pt x="4687" y="4911"/>
                </a:lnTo>
                <a:lnTo>
                  <a:pt x="4716" y="4925"/>
                </a:lnTo>
                <a:lnTo>
                  <a:pt x="4772" y="4954"/>
                </a:lnTo>
                <a:lnTo>
                  <a:pt x="4774" y="4954"/>
                </a:lnTo>
                <a:lnTo>
                  <a:pt x="4770" y="4962"/>
                </a:lnTo>
                <a:lnTo>
                  <a:pt x="4767" y="4975"/>
                </a:lnTo>
                <a:lnTo>
                  <a:pt x="4764" y="4999"/>
                </a:lnTo>
                <a:lnTo>
                  <a:pt x="4767" y="5025"/>
                </a:lnTo>
                <a:lnTo>
                  <a:pt x="4770" y="5031"/>
                </a:lnTo>
                <a:lnTo>
                  <a:pt x="4772" y="5046"/>
                </a:lnTo>
                <a:lnTo>
                  <a:pt x="4787" y="5070"/>
                </a:lnTo>
                <a:lnTo>
                  <a:pt x="4806" y="5088"/>
                </a:lnTo>
                <a:lnTo>
                  <a:pt x="4829" y="5099"/>
                </a:lnTo>
                <a:lnTo>
                  <a:pt x="4855" y="5105"/>
                </a:lnTo>
                <a:lnTo>
                  <a:pt x="4881" y="5102"/>
                </a:lnTo>
                <a:lnTo>
                  <a:pt x="4894" y="5098"/>
                </a:lnTo>
                <a:lnTo>
                  <a:pt x="4897" y="5096"/>
                </a:lnTo>
                <a:lnTo>
                  <a:pt x="4899" y="5095"/>
                </a:lnTo>
                <a:lnTo>
                  <a:pt x="4899" y="5094"/>
                </a:lnTo>
                <a:lnTo>
                  <a:pt x="4897" y="5092"/>
                </a:lnTo>
                <a:lnTo>
                  <a:pt x="4896" y="5091"/>
                </a:lnTo>
                <a:lnTo>
                  <a:pt x="4891" y="5086"/>
                </a:lnTo>
                <a:lnTo>
                  <a:pt x="4888" y="5082"/>
                </a:lnTo>
                <a:lnTo>
                  <a:pt x="4890" y="5073"/>
                </a:lnTo>
                <a:lnTo>
                  <a:pt x="4896" y="5067"/>
                </a:lnTo>
                <a:lnTo>
                  <a:pt x="4888" y="5065"/>
                </a:lnTo>
                <a:lnTo>
                  <a:pt x="4883" y="5062"/>
                </a:lnTo>
                <a:lnTo>
                  <a:pt x="4868" y="5059"/>
                </a:lnTo>
                <a:lnTo>
                  <a:pt x="4857" y="5057"/>
                </a:lnTo>
                <a:lnTo>
                  <a:pt x="4846" y="5054"/>
                </a:lnTo>
                <a:lnTo>
                  <a:pt x="4842" y="5052"/>
                </a:lnTo>
                <a:lnTo>
                  <a:pt x="4839" y="5047"/>
                </a:lnTo>
                <a:lnTo>
                  <a:pt x="4839" y="5041"/>
                </a:lnTo>
                <a:lnTo>
                  <a:pt x="4839" y="5034"/>
                </a:lnTo>
                <a:lnTo>
                  <a:pt x="4841" y="5034"/>
                </a:lnTo>
                <a:lnTo>
                  <a:pt x="4843" y="5021"/>
                </a:lnTo>
                <a:lnTo>
                  <a:pt x="4852" y="4994"/>
                </a:lnTo>
                <a:lnTo>
                  <a:pt x="4875" y="4943"/>
                </a:lnTo>
                <a:lnTo>
                  <a:pt x="4909" y="4902"/>
                </a:lnTo>
                <a:lnTo>
                  <a:pt x="4919" y="4894"/>
                </a:lnTo>
                <a:lnTo>
                  <a:pt x="4932" y="4886"/>
                </a:lnTo>
                <a:lnTo>
                  <a:pt x="4946" y="4883"/>
                </a:lnTo>
                <a:lnTo>
                  <a:pt x="4962" y="4882"/>
                </a:lnTo>
                <a:lnTo>
                  <a:pt x="4994" y="4885"/>
                </a:lnTo>
                <a:lnTo>
                  <a:pt x="5027" y="4891"/>
                </a:lnTo>
                <a:lnTo>
                  <a:pt x="5061" y="4894"/>
                </a:lnTo>
                <a:lnTo>
                  <a:pt x="5091" y="4888"/>
                </a:lnTo>
                <a:lnTo>
                  <a:pt x="5107" y="4879"/>
                </a:lnTo>
                <a:lnTo>
                  <a:pt x="5113" y="4875"/>
                </a:lnTo>
                <a:lnTo>
                  <a:pt x="5126" y="4867"/>
                </a:lnTo>
                <a:lnTo>
                  <a:pt x="5155" y="4857"/>
                </a:lnTo>
                <a:lnTo>
                  <a:pt x="5181" y="4849"/>
                </a:lnTo>
                <a:lnTo>
                  <a:pt x="5188" y="4846"/>
                </a:lnTo>
                <a:lnTo>
                  <a:pt x="5194" y="4843"/>
                </a:lnTo>
                <a:lnTo>
                  <a:pt x="5201" y="4836"/>
                </a:lnTo>
                <a:lnTo>
                  <a:pt x="5213" y="4821"/>
                </a:lnTo>
                <a:lnTo>
                  <a:pt x="5239" y="4791"/>
                </a:lnTo>
                <a:lnTo>
                  <a:pt x="5275" y="4785"/>
                </a:lnTo>
                <a:lnTo>
                  <a:pt x="5277" y="4786"/>
                </a:lnTo>
                <a:lnTo>
                  <a:pt x="5278" y="4788"/>
                </a:lnTo>
                <a:lnTo>
                  <a:pt x="5280" y="4789"/>
                </a:lnTo>
                <a:lnTo>
                  <a:pt x="5282" y="4794"/>
                </a:lnTo>
                <a:lnTo>
                  <a:pt x="5288" y="4802"/>
                </a:lnTo>
                <a:lnTo>
                  <a:pt x="5294" y="4804"/>
                </a:lnTo>
                <a:lnTo>
                  <a:pt x="5296" y="4805"/>
                </a:lnTo>
                <a:lnTo>
                  <a:pt x="5297" y="4805"/>
                </a:lnTo>
                <a:lnTo>
                  <a:pt x="5298" y="4805"/>
                </a:lnTo>
                <a:lnTo>
                  <a:pt x="5300" y="4805"/>
                </a:lnTo>
                <a:lnTo>
                  <a:pt x="5300" y="4802"/>
                </a:lnTo>
                <a:lnTo>
                  <a:pt x="5307" y="4791"/>
                </a:lnTo>
                <a:lnTo>
                  <a:pt x="5323" y="4776"/>
                </a:lnTo>
                <a:lnTo>
                  <a:pt x="5329" y="4772"/>
                </a:lnTo>
                <a:lnTo>
                  <a:pt x="5327" y="4773"/>
                </a:lnTo>
                <a:lnTo>
                  <a:pt x="5327" y="4775"/>
                </a:lnTo>
                <a:lnTo>
                  <a:pt x="5327" y="4778"/>
                </a:lnTo>
                <a:lnTo>
                  <a:pt x="5327" y="4779"/>
                </a:lnTo>
                <a:lnTo>
                  <a:pt x="5329" y="4781"/>
                </a:lnTo>
                <a:lnTo>
                  <a:pt x="5330" y="4782"/>
                </a:lnTo>
                <a:lnTo>
                  <a:pt x="5333" y="4783"/>
                </a:lnTo>
                <a:lnTo>
                  <a:pt x="5338" y="4783"/>
                </a:lnTo>
                <a:lnTo>
                  <a:pt x="5342" y="4783"/>
                </a:lnTo>
                <a:lnTo>
                  <a:pt x="5348" y="4782"/>
                </a:lnTo>
                <a:lnTo>
                  <a:pt x="5349" y="4782"/>
                </a:lnTo>
                <a:lnTo>
                  <a:pt x="5356" y="4779"/>
                </a:lnTo>
                <a:lnTo>
                  <a:pt x="5380" y="4773"/>
                </a:lnTo>
                <a:lnTo>
                  <a:pt x="5391" y="4773"/>
                </a:lnTo>
                <a:lnTo>
                  <a:pt x="5397" y="4775"/>
                </a:lnTo>
                <a:lnTo>
                  <a:pt x="5401" y="4778"/>
                </a:lnTo>
                <a:lnTo>
                  <a:pt x="5404" y="4781"/>
                </a:lnTo>
                <a:lnTo>
                  <a:pt x="5406" y="4781"/>
                </a:lnTo>
                <a:lnTo>
                  <a:pt x="5410" y="4792"/>
                </a:lnTo>
                <a:lnTo>
                  <a:pt x="5413" y="4798"/>
                </a:lnTo>
                <a:lnTo>
                  <a:pt x="5414" y="4798"/>
                </a:lnTo>
                <a:lnTo>
                  <a:pt x="5420" y="4794"/>
                </a:lnTo>
                <a:lnTo>
                  <a:pt x="5433" y="4783"/>
                </a:lnTo>
                <a:lnTo>
                  <a:pt x="5465" y="4768"/>
                </a:lnTo>
                <a:lnTo>
                  <a:pt x="5500" y="4762"/>
                </a:lnTo>
                <a:lnTo>
                  <a:pt x="5510" y="4760"/>
                </a:lnTo>
                <a:lnTo>
                  <a:pt x="5511" y="4760"/>
                </a:lnTo>
                <a:lnTo>
                  <a:pt x="5513" y="4759"/>
                </a:lnTo>
                <a:lnTo>
                  <a:pt x="5517" y="4756"/>
                </a:lnTo>
                <a:lnTo>
                  <a:pt x="5527" y="4750"/>
                </a:lnTo>
                <a:lnTo>
                  <a:pt x="5536" y="4747"/>
                </a:lnTo>
                <a:lnTo>
                  <a:pt x="5545" y="4746"/>
                </a:lnTo>
                <a:lnTo>
                  <a:pt x="5564" y="4744"/>
                </a:lnTo>
                <a:lnTo>
                  <a:pt x="5598" y="4746"/>
                </a:lnTo>
                <a:lnTo>
                  <a:pt x="5630" y="4744"/>
                </a:lnTo>
                <a:lnTo>
                  <a:pt x="5639" y="4743"/>
                </a:lnTo>
                <a:lnTo>
                  <a:pt x="5652" y="4739"/>
                </a:lnTo>
                <a:lnTo>
                  <a:pt x="5664" y="4731"/>
                </a:lnTo>
                <a:lnTo>
                  <a:pt x="5674" y="4721"/>
                </a:lnTo>
                <a:lnTo>
                  <a:pt x="5691" y="4699"/>
                </a:lnTo>
                <a:lnTo>
                  <a:pt x="5726" y="4656"/>
                </a:lnTo>
                <a:lnTo>
                  <a:pt x="5761" y="4641"/>
                </a:lnTo>
                <a:lnTo>
                  <a:pt x="5774" y="4641"/>
                </a:lnTo>
                <a:lnTo>
                  <a:pt x="5785" y="4639"/>
                </a:lnTo>
                <a:lnTo>
                  <a:pt x="5795" y="4633"/>
                </a:lnTo>
                <a:lnTo>
                  <a:pt x="5806" y="4627"/>
                </a:lnTo>
                <a:lnTo>
                  <a:pt x="5823" y="4611"/>
                </a:lnTo>
                <a:lnTo>
                  <a:pt x="5859" y="4578"/>
                </a:lnTo>
                <a:lnTo>
                  <a:pt x="5882" y="4565"/>
                </a:lnTo>
                <a:lnTo>
                  <a:pt x="5876" y="4559"/>
                </a:lnTo>
                <a:lnTo>
                  <a:pt x="5872" y="4552"/>
                </a:lnTo>
                <a:lnTo>
                  <a:pt x="5872" y="4547"/>
                </a:lnTo>
                <a:lnTo>
                  <a:pt x="5874" y="4543"/>
                </a:lnTo>
                <a:lnTo>
                  <a:pt x="5875" y="4540"/>
                </a:lnTo>
                <a:lnTo>
                  <a:pt x="5887" y="4524"/>
                </a:lnTo>
                <a:lnTo>
                  <a:pt x="5911" y="4497"/>
                </a:lnTo>
                <a:lnTo>
                  <a:pt x="5972" y="4455"/>
                </a:lnTo>
                <a:lnTo>
                  <a:pt x="6043" y="4434"/>
                </a:lnTo>
                <a:lnTo>
                  <a:pt x="6063" y="4431"/>
                </a:lnTo>
                <a:lnTo>
                  <a:pt x="6068" y="4431"/>
                </a:lnTo>
                <a:lnTo>
                  <a:pt x="6072" y="4430"/>
                </a:lnTo>
                <a:lnTo>
                  <a:pt x="6081" y="4426"/>
                </a:lnTo>
                <a:lnTo>
                  <a:pt x="6089" y="4420"/>
                </a:lnTo>
                <a:lnTo>
                  <a:pt x="6105" y="4407"/>
                </a:lnTo>
                <a:lnTo>
                  <a:pt x="6116" y="4401"/>
                </a:lnTo>
                <a:lnTo>
                  <a:pt x="6107" y="4397"/>
                </a:lnTo>
                <a:lnTo>
                  <a:pt x="6100" y="4395"/>
                </a:lnTo>
                <a:lnTo>
                  <a:pt x="6094" y="4395"/>
                </a:lnTo>
                <a:lnTo>
                  <a:pt x="6087" y="4397"/>
                </a:lnTo>
                <a:lnTo>
                  <a:pt x="6079" y="4399"/>
                </a:lnTo>
                <a:lnTo>
                  <a:pt x="6066" y="4405"/>
                </a:lnTo>
                <a:lnTo>
                  <a:pt x="6055" y="4410"/>
                </a:lnTo>
                <a:lnTo>
                  <a:pt x="6050" y="4411"/>
                </a:lnTo>
                <a:lnTo>
                  <a:pt x="6046" y="4410"/>
                </a:lnTo>
                <a:lnTo>
                  <a:pt x="6043" y="4405"/>
                </a:lnTo>
                <a:lnTo>
                  <a:pt x="6043" y="4405"/>
                </a:lnTo>
                <a:lnTo>
                  <a:pt x="6039" y="4399"/>
                </a:lnTo>
                <a:lnTo>
                  <a:pt x="6037" y="4394"/>
                </a:lnTo>
                <a:lnTo>
                  <a:pt x="6039" y="4389"/>
                </a:lnTo>
                <a:lnTo>
                  <a:pt x="6042" y="4384"/>
                </a:lnTo>
                <a:lnTo>
                  <a:pt x="6047" y="4378"/>
                </a:lnTo>
                <a:lnTo>
                  <a:pt x="6059" y="4368"/>
                </a:lnTo>
                <a:lnTo>
                  <a:pt x="6068" y="4355"/>
                </a:lnTo>
                <a:lnTo>
                  <a:pt x="6071" y="4342"/>
                </a:lnTo>
                <a:lnTo>
                  <a:pt x="6069" y="4333"/>
                </a:lnTo>
                <a:lnTo>
                  <a:pt x="6068" y="4331"/>
                </a:lnTo>
                <a:lnTo>
                  <a:pt x="6065" y="4326"/>
                </a:lnTo>
                <a:lnTo>
                  <a:pt x="6063" y="4317"/>
                </a:lnTo>
                <a:lnTo>
                  <a:pt x="6063" y="4313"/>
                </a:lnTo>
                <a:lnTo>
                  <a:pt x="6065" y="4310"/>
                </a:lnTo>
                <a:lnTo>
                  <a:pt x="6066" y="4307"/>
                </a:lnTo>
                <a:lnTo>
                  <a:pt x="6075" y="4295"/>
                </a:lnTo>
                <a:lnTo>
                  <a:pt x="6092" y="4271"/>
                </a:lnTo>
                <a:lnTo>
                  <a:pt x="6126" y="4227"/>
                </a:lnTo>
                <a:lnTo>
                  <a:pt x="6160" y="4184"/>
                </a:lnTo>
                <a:lnTo>
                  <a:pt x="6171" y="4172"/>
                </a:lnTo>
                <a:lnTo>
                  <a:pt x="6181" y="4157"/>
                </a:lnTo>
                <a:lnTo>
                  <a:pt x="6202" y="4127"/>
                </a:lnTo>
                <a:lnTo>
                  <a:pt x="6242" y="4066"/>
                </a:lnTo>
                <a:lnTo>
                  <a:pt x="6289" y="4010"/>
                </a:lnTo>
                <a:lnTo>
                  <a:pt x="6305" y="3997"/>
                </a:lnTo>
                <a:lnTo>
                  <a:pt x="6310" y="3992"/>
                </a:lnTo>
                <a:lnTo>
                  <a:pt x="6314" y="3986"/>
                </a:lnTo>
                <a:lnTo>
                  <a:pt x="6317" y="3981"/>
                </a:lnTo>
                <a:lnTo>
                  <a:pt x="6320" y="3968"/>
                </a:lnTo>
                <a:lnTo>
                  <a:pt x="6321" y="3955"/>
                </a:lnTo>
                <a:lnTo>
                  <a:pt x="6326" y="3942"/>
                </a:lnTo>
                <a:lnTo>
                  <a:pt x="6333" y="3930"/>
                </a:lnTo>
                <a:lnTo>
                  <a:pt x="6339" y="3924"/>
                </a:lnTo>
                <a:lnTo>
                  <a:pt x="6340" y="3923"/>
                </a:lnTo>
                <a:lnTo>
                  <a:pt x="6340" y="3920"/>
                </a:lnTo>
                <a:lnTo>
                  <a:pt x="6342" y="3915"/>
                </a:lnTo>
                <a:lnTo>
                  <a:pt x="6340" y="3911"/>
                </a:lnTo>
                <a:lnTo>
                  <a:pt x="6337" y="3907"/>
                </a:lnTo>
                <a:lnTo>
                  <a:pt x="6334" y="3902"/>
                </a:lnTo>
                <a:lnTo>
                  <a:pt x="6331" y="3900"/>
                </a:lnTo>
                <a:lnTo>
                  <a:pt x="6337" y="3888"/>
                </a:lnTo>
                <a:lnTo>
                  <a:pt x="6350" y="3865"/>
                </a:lnTo>
                <a:lnTo>
                  <a:pt x="6376" y="3817"/>
                </a:lnTo>
                <a:lnTo>
                  <a:pt x="6410" y="3775"/>
                </a:lnTo>
                <a:lnTo>
                  <a:pt x="6421" y="3765"/>
                </a:lnTo>
                <a:lnTo>
                  <a:pt x="6424" y="3763"/>
                </a:lnTo>
                <a:lnTo>
                  <a:pt x="6427" y="3763"/>
                </a:lnTo>
                <a:lnTo>
                  <a:pt x="6433" y="3762"/>
                </a:lnTo>
                <a:lnTo>
                  <a:pt x="6444" y="3758"/>
                </a:lnTo>
                <a:lnTo>
                  <a:pt x="6449" y="3752"/>
                </a:lnTo>
                <a:lnTo>
                  <a:pt x="6450" y="3745"/>
                </a:lnTo>
                <a:lnTo>
                  <a:pt x="6450" y="3727"/>
                </a:lnTo>
                <a:lnTo>
                  <a:pt x="6449" y="3711"/>
                </a:lnTo>
                <a:lnTo>
                  <a:pt x="6446" y="3676"/>
                </a:lnTo>
                <a:lnTo>
                  <a:pt x="6453" y="3649"/>
                </a:lnTo>
                <a:lnTo>
                  <a:pt x="6443" y="3646"/>
                </a:lnTo>
                <a:lnTo>
                  <a:pt x="6426" y="3639"/>
                </a:lnTo>
                <a:lnTo>
                  <a:pt x="6392" y="3627"/>
                </a:lnTo>
                <a:lnTo>
                  <a:pt x="6358" y="3617"/>
                </a:lnTo>
                <a:lnTo>
                  <a:pt x="6349" y="3614"/>
                </a:lnTo>
                <a:lnTo>
                  <a:pt x="6350" y="3610"/>
                </a:lnTo>
                <a:lnTo>
                  <a:pt x="6350" y="3605"/>
                </a:lnTo>
                <a:lnTo>
                  <a:pt x="6349" y="3601"/>
                </a:lnTo>
                <a:lnTo>
                  <a:pt x="6347" y="3598"/>
                </a:lnTo>
                <a:lnTo>
                  <a:pt x="6346" y="3594"/>
                </a:lnTo>
                <a:lnTo>
                  <a:pt x="6340" y="3589"/>
                </a:lnTo>
                <a:lnTo>
                  <a:pt x="6336" y="3584"/>
                </a:lnTo>
                <a:lnTo>
                  <a:pt x="6334" y="3576"/>
                </a:lnTo>
                <a:lnTo>
                  <a:pt x="6336" y="3572"/>
                </a:lnTo>
                <a:lnTo>
                  <a:pt x="6336" y="3565"/>
                </a:lnTo>
                <a:lnTo>
                  <a:pt x="6339" y="3547"/>
                </a:lnTo>
                <a:lnTo>
                  <a:pt x="6347" y="3517"/>
                </a:lnTo>
                <a:lnTo>
                  <a:pt x="6355" y="3503"/>
                </a:lnTo>
                <a:lnTo>
                  <a:pt x="6368" y="3491"/>
                </a:lnTo>
                <a:lnTo>
                  <a:pt x="6376" y="3485"/>
                </a:lnTo>
                <a:lnTo>
                  <a:pt x="6371" y="3485"/>
                </a:lnTo>
                <a:lnTo>
                  <a:pt x="6359" y="3484"/>
                </a:lnTo>
                <a:lnTo>
                  <a:pt x="6339" y="3484"/>
                </a:lnTo>
                <a:lnTo>
                  <a:pt x="6318" y="3482"/>
                </a:lnTo>
                <a:lnTo>
                  <a:pt x="6314" y="3481"/>
                </a:lnTo>
                <a:lnTo>
                  <a:pt x="6305" y="3481"/>
                </a:lnTo>
                <a:lnTo>
                  <a:pt x="6288" y="3482"/>
                </a:lnTo>
                <a:lnTo>
                  <a:pt x="6271" y="3487"/>
                </a:lnTo>
                <a:lnTo>
                  <a:pt x="6236" y="3494"/>
                </a:lnTo>
                <a:lnTo>
                  <a:pt x="6211" y="3491"/>
                </a:lnTo>
                <a:lnTo>
                  <a:pt x="6201" y="3488"/>
                </a:lnTo>
                <a:lnTo>
                  <a:pt x="6184" y="3478"/>
                </a:lnTo>
                <a:lnTo>
                  <a:pt x="6149" y="3456"/>
                </a:lnTo>
                <a:lnTo>
                  <a:pt x="6108" y="3443"/>
                </a:lnTo>
                <a:lnTo>
                  <a:pt x="6098" y="3442"/>
                </a:lnTo>
                <a:lnTo>
                  <a:pt x="6110" y="3442"/>
                </a:lnTo>
                <a:lnTo>
                  <a:pt x="6133" y="3443"/>
                </a:lnTo>
                <a:lnTo>
                  <a:pt x="6179" y="3450"/>
                </a:lnTo>
                <a:lnTo>
                  <a:pt x="6223" y="3455"/>
                </a:lnTo>
                <a:lnTo>
                  <a:pt x="6234" y="3452"/>
                </a:lnTo>
                <a:lnTo>
                  <a:pt x="6239" y="3450"/>
                </a:lnTo>
                <a:lnTo>
                  <a:pt x="6245" y="3447"/>
                </a:lnTo>
                <a:lnTo>
                  <a:pt x="6249" y="3443"/>
                </a:lnTo>
                <a:lnTo>
                  <a:pt x="6259" y="3432"/>
                </a:lnTo>
                <a:lnTo>
                  <a:pt x="6278" y="3405"/>
                </a:lnTo>
                <a:lnTo>
                  <a:pt x="6298" y="3394"/>
                </a:lnTo>
                <a:lnTo>
                  <a:pt x="6302" y="3394"/>
                </a:lnTo>
                <a:lnTo>
                  <a:pt x="6311" y="3391"/>
                </a:lnTo>
                <a:lnTo>
                  <a:pt x="6327" y="3384"/>
                </a:lnTo>
                <a:lnTo>
                  <a:pt x="6343" y="3375"/>
                </a:lnTo>
                <a:lnTo>
                  <a:pt x="6349" y="3372"/>
                </a:lnTo>
                <a:lnTo>
                  <a:pt x="6342" y="3371"/>
                </a:lnTo>
                <a:lnTo>
                  <a:pt x="6329" y="3365"/>
                </a:lnTo>
                <a:lnTo>
                  <a:pt x="6301" y="3352"/>
                </a:lnTo>
                <a:lnTo>
                  <a:pt x="6279" y="3339"/>
                </a:lnTo>
                <a:lnTo>
                  <a:pt x="6276" y="3334"/>
                </a:lnTo>
                <a:lnTo>
                  <a:pt x="6268" y="3324"/>
                </a:lnTo>
                <a:lnTo>
                  <a:pt x="6252" y="3301"/>
                </a:lnTo>
                <a:lnTo>
                  <a:pt x="6227" y="3252"/>
                </a:lnTo>
                <a:lnTo>
                  <a:pt x="6208" y="3198"/>
                </a:lnTo>
                <a:lnTo>
                  <a:pt x="6204" y="3184"/>
                </a:lnTo>
                <a:lnTo>
                  <a:pt x="6200" y="3177"/>
                </a:lnTo>
                <a:lnTo>
                  <a:pt x="6194" y="3171"/>
                </a:lnTo>
                <a:lnTo>
                  <a:pt x="6187" y="3166"/>
                </a:lnTo>
                <a:lnTo>
                  <a:pt x="6178" y="3163"/>
                </a:lnTo>
                <a:lnTo>
                  <a:pt x="6159" y="3159"/>
                </a:lnTo>
                <a:lnTo>
                  <a:pt x="6139" y="3155"/>
                </a:lnTo>
                <a:lnTo>
                  <a:pt x="6121" y="3146"/>
                </a:lnTo>
                <a:lnTo>
                  <a:pt x="6108" y="3130"/>
                </a:lnTo>
                <a:lnTo>
                  <a:pt x="6108" y="3130"/>
                </a:lnTo>
                <a:lnTo>
                  <a:pt x="6105" y="3126"/>
                </a:lnTo>
                <a:lnTo>
                  <a:pt x="6103" y="3114"/>
                </a:lnTo>
                <a:lnTo>
                  <a:pt x="6097" y="3090"/>
                </a:lnTo>
                <a:lnTo>
                  <a:pt x="6089" y="3068"/>
                </a:lnTo>
                <a:lnTo>
                  <a:pt x="6087" y="3062"/>
                </a:lnTo>
                <a:lnTo>
                  <a:pt x="6084" y="3061"/>
                </a:lnTo>
                <a:lnTo>
                  <a:pt x="6081" y="3058"/>
                </a:lnTo>
                <a:lnTo>
                  <a:pt x="6076" y="3056"/>
                </a:lnTo>
                <a:lnTo>
                  <a:pt x="6069" y="3053"/>
                </a:lnTo>
                <a:lnTo>
                  <a:pt x="6050" y="3049"/>
                </a:lnTo>
                <a:lnTo>
                  <a:pt x="6037" y="3043"/>
                </a:lnTo>
                <a:lnTo>
                  <a:pt x="6043" y="3042"/>
                </a:lnTo>
                <a:lnTo>
                  <a:pt x="6047" y="3039"/>
                </a:lnTo>
                <a:lnTo>
                  <a:pt x="6050" y="3035"/>
                </a:lnTo>
                <a:lnTo>
                  <a:pt x="6052" y="3030"/>
                </a:lnTo>
                <a:lnTo>
                  <a:pt x="6053" y="3026"/>
                </a:lnTo>
                <a:lnTo>
                  <a:pt x="6055" y="3016"/>
                </a:lnTo>
                <a:lnTo>
                  <a:pt x="6056" y="3006"/>
                </a:lnTo>
                <a:lnTo>
                  <a:pt x="6061" y="2997"/>
                </a:lnTo>
                <a:lnTo>
                  <a:pt x="6065" y="2992"/>
                </a:lnTo>
                <a:lnTo>
                  <a:pt x="6071" y="2990"/>
                </a:lnTo>
                <a:lnTo>
                  <a:pt x="6082" y="2982"/>
                </a:lnTo>
                <a:lnTo>
                  <a:pt x="6105" y="2969"/>
                </a:lnTo>
                <a:lnTo>
                  <a:pt x="6126" y="2952"/>
                </a:lnTo>
                <a:lnTo>
                  <a:pt x="6130" y="2946"/>
                </a:lnTo>
                <a:lnTo>
                  <a:pt x="6134" y="2939"/>
                </a:lnTo>
                <a:lnTo>
                  <a:pt x="6143" y="2921"/>
                </a:lnTo>
                <a:lnTo>
                  <a:pt x="6156" y="2885"/>
                </a:lnTo>
                <a:lnTo>
                  <a:pt x="6153" y="2848"/>
                </a:lnTo>
                <a:lnTo>
                  <a:pt x="6150" y="2837"/>
                </a:lnTo>
                <a:lnTo>
                  <a:pt x="6158" y="2845"/>
                </a:lnTo>
                <a:lnTo>
                  <a:pt x="6168" y="2850"/>
                </a:lnTo>
                <a:lnTo>
                  <a:pt x="6176" y="2853"/>
                </a:lnTo>
                <a:lnTo>
                  <a:pt x="6185" y="2855"/>
                </a:lnTo>
                <a:lnTo>
                  <a:pt x="6204" y="2853"/>
                </a:lnTo>
                <a:lnTo>
                  <a:pt x="6221" y="2846"/>
                </a:lnTo>
                <a:lnTo>
                  <a:pt x="6237" y="2837"/>
                </a:lnTo>
                <a:lnTo>
                  <a:pt x="6247" y="2824"/>
                </a:lnTo>
                <a:lnTo>
                  <a:pt x="6249" y="2824"/>
                </a:lnTo>
                <a:lnTo>
                  <a:pt x="6266" y="2803"/>
                </a:lnTo>
                <a:lnTo>
                  <a:pt x="6308" y="2768"/>
                </a:lnTo>
                <a:lnTo>
                  <a:pt x="6355" y="2745"/>
                </a:lnTo>
                <a:lnTo>
                  <a:pt x="6405" y="2729"/>
                </a:lnTo>
                <a:lnTo>
                  <a:pt x="6513" y="2717"/>
                </a:lnTo>
                <a:lnTo>
                  <a:pt x="6540" y="2716"/>
                </a:lnTo>
                <a:lnTo>
                  <a:pt x="6543" y="2713"/>
                </a:lnTo>
                <a:lnTo>
                  <a:pt x="6543" y="2708"/>
                </a:lnTo>
                <a:lnTo>
                  <a:pt x="6543" y="2704"/>
                </a:lnTo>
                <a:lnTo>
                  <a:pt x="6544" y="2691"/>
                </a:lnTo>
                <a:lnTo>
                  <a:pt x="6552" y="2659"/>
                </a:lnTo>
                <a:lnTo>
                  <a:pt x="6562" y="2643"/>
                </a:lnTo>
                <a:lnTo>
                  <a:pt x="6563" y="2642"/>
                </a:lnTo>
                <a:lnTo>
                  <a:pt x="6565" y="2637"/>
                </a:lnTo>
                <a:lnTo>
                  <a:pt x="6568" y="2629"/>
                </a:lnTo>
                <a:lnTo>
                  <a:pt x="6569" y="2620"/>
                </a:lnTo>
                <a:lnTo>
                  <a:pt x="6569" y="2611"/>
                </a:lnTo>
                <a:lnTo>
                  <a:pt x="6566" y="2603"/>
                </a:lnTo>
                <a:lnTo>
                  <a:pt x="6563" y="2598"/>
                </a:lnTo>
                <a:lnTo>
                  <a:pt x="6563" y="2598"/>
                </a:lnTo>
                <a:lnTo>
                  <a:pt x="6549" y="2593"/>
                </a:lnTo>
                <a:lnTo>
                  <a:pt x="6517" y="2580"/>
                </a:lnTo>
                <a:lnTo>
                  <a:pt x="6450" y="2565"/>
                </a:lnTo>
                <a:lnTo>
                  <a:pt x="6418" y="2571"/>
                </a:lnTo>
                <a:lnTo>
                  <a:pt x="6394" y="2590"/>
                </a:lnTo>
                <a:lnTo>
                  <a:pt x="6384" y="2603"/>
                </a:lnTo>
                <a:lnTo>
                  <a:pt x="6368" y="2588"/>
                </a:lnTo>
                <a:lnTo>
                  <a:pt x="6331" y="2566"/>
                </a:lnTo>
                <a:lnTo>
                  <a:pt x="6292" y="2552"/>
                </a:lnTo>
                <a:lnTo>
                  <a:pt x="6250" y="2545"/>
                </a:lnTo>
                <a:lnTo>
                  <a:pt x="6162" y="2542"/>
                </a:lnTo>
                <a:lnTo>
                  <a:pt x="6142" y="2542"/>
                </a:lnTo>
                <a:lnTo>
                  <a:pt x="6142" y="2548"/>
                </a:lnTo>
                <a:lnTo>
                  <a:pt x="6142" y="2558"/>
                </a:lnTo>
                <a:lnTo>
                  <a:pt x="6142" y="2578"/>
                </a:lnTo>
                <a:lnTo>
                  <a:pt x="6139" y="2597"/>
                </a:lnTo>
                <a:lnTo>
                  <a:pt x="6139" y="2601"/>
                </a:lnTo>
                <a:lnTo>
                  <a:pt x="6134" y="2616"/>
                </a:lnTo>
                <a:lnTo>
                  <a:pt x="6121" y="2639"/>
                </a:lnTo>
                <a:lnTo>
                  <a:pt x="6103" y="2658"/>
                </a:lnTo>
                <a:lnTo>
                  <a:pt x="6081" y="2671"/>
                </a:lnTo>
                <a:lnTo>
                  <a:pt x="6056" y="2681"/>
                </a:lnTo>
                <a:lnTo>
                  <a:pt x="6032" y="2688"/>
                </a:lnTo>
                <a:lnTo>
                  <a:pt x="6020" y="2690"/>
                </a:lnTo>
                <a:lnTo>
                  <a:pt x="6018" y="2677"/>
                </a:lnTo>
                <a:lnTo>
                  <a:pt x="6021" y="2649"/>
                </a:lnTo>
                <a:lnTo>
                  <a:pt x="6029" y="2622"/>
                </a:lnTo>
                <a:lnTo>
                  <a:pt x="6037" y="2571"/>
                </a:lnTo>
                <a:lnTo>
                  <a:pt x="6023" y="2540"/>
                </a:lnTo>
                <a:lnTo>
                  <a:pt x="6011" y="2533"/>
                </a:lnTo>
                <a:lnTo>
                  <a:pt x="6000" y="2527"/>
                </a:lnTo>
                <a:lnTo>
                  <a:pt x="5988" y="2524"/>
                </a:lnTo>
                <a:lnTo>
                  <a:pt x="5959" y="2523"/>
                </a:lnTo>
                <a:lnTo>
                  <a:pt x="5930" y="2524"/>
                </a:lnTo>
                <a:lnTo>
                  <a:pt x="5871" y="2520"/>
                </a:lnTo>
                <a:lnTo>
                  <a:pt x="5858" y="2514"/>
                </a:lnTo>
                <a:lnTo>
                  <a:pt x="5849" y="2510"/>
                </a:lnTo>
                <a:lnTo>
                  <a:pt x="5834" y="2497"/>
                </a:lnTo>
                <a:lnTo>
                  <a:pt x="5824" y="2482"/>
                </a:lnTo>
                <a:lnTo>
                  <a:pt x="5820" y="2465"/>
                </a:lnTo>
                <a:lnTo>
                  <a:pt x="5820" y="2448"/>
                </a:lnTo>
                <a:lnTo>
                  <a:pt x="5827" y="2432"/>
                </a:lnTo>
                <a:lnTo>
                  <a:pt x="5833" y="2423"/>
                </a:lnTo>
                <a:lnTo>
                  <a:pt x="5836" y="2419"/>
                </a:lnTo>
                <a:lnTo>
                  <a:pt x="5846" y="2409"/>
                </a:lnTo>
                <a:lnTo>
                  <a:pt x="5865" y="2394"/>
                </a:lnTo>
                <a:lnTo>
                  <a:pt x="5891" y="2387"/>
                </a:lnTo>
                <a:lnTo>
                  <a:pt x="5900" y="2385"/>
                </a:lnTo>
                <a:lnTo>
                  <a:pt x="5898" y="2390"/>
                </a:lnTo>
                <a:lnTo>
                  <a:pt x="5901" y="2393"/>
                </a:lnTo>
                <a:lnTo>
                  <a:pt x="5903" y="2394"/>
                </a:lnTo>
                <a:lnTo>
                  <a:pt x="5905" y="2394"/>
                </a:lnTo>
                <a:lnTo>
                  <a:pt x="5911" y="2395"/>
                </a:lnTo>
                <a:lnTo>
                  <a:pt x="5917" y="2401"/>
                </a:lnTo>
                <a:lnTo>
                  <a:pt x="5917" y="2404"/>
                </a:lnTo>
                <a:lnTo>
                  <a:pt x="5924" y="2404"/>
                </a:lnTo>
                <a:lnTo>
                  <a:pt x="5942" y="2403"/>
                </a:lnTo>
                <a:lnTo>
                  <a:pt x="5975" y="2394"/>
                </a:lnTo>
                <a:lnTo>
                  <a:pt x="6010" y="2387"/>
                </a:lnTo>
                <a:lnTo>
                  <a:pt x="6020" y="2385"/>
                </a:lnTo>
                <a:lnTo>
                  <a:pt x="6020" y="2381"/>
                </a:lnTo>
                <a:lnTo>
                  <a:pt x="6021" y="2377"/>
                </a:lnTo>
                <a:lnTo>
                  <a:pt x="6024" y="2374"/>
                </a:lnTo>
                <a:lnTo>
                  <a:pt x="6027" y="2372"/>
                </a:lnTo>
                <a:lnTo>
                  <a:pt x="6032" y="2371"/>
                </a:lnTo>
                <a:lnTo>
                  <a:pt x="6039" y="2369"/>
                </a:lnTo>
                <a:lnTo>
                  <a:pt x="6046" y="2368"/>
                </a:lnTo>
                <a:lnTo>
                  <a:pt x="6052" y="2365"/>
                </a:lnTo>
                <a:lnTo>
                  <a:pt x="6053" y="2361"/>
                </a:lnTo>
                <a:lnTo>
                  <a:pt x="6053" y="2355"/>
                </a:lnTo>
                <a:lnTo>
                  <a:pt x="6053" y="2342"/>
                </a:lnTo>
                <a:lnTo>
                  <a:pt x="6056" y="2314"/>
                </a:lnTo>
                <a:lnTo>
                  <a:pt x="6062" y="2291"/>
                </a:lnTo>
                <a:lnTo>
                  <a:pt x="6066" y="2285"/>
                </a:lnTo>
                <a:lnTo>
                  <a:pt x="6072" y="2278"/>
                </a:lnTo>
                <a:lnTo>
                  <a:pt x="6088" y="2265"/>
                </a:lnTo>
                <a:lnTo>
                  <a:pt x="6107" y="2258"/>
                </a:lnTo>
                <a:lnTo>
                  <a:pt x="6126" y="2251"/>
                </a:lnTo>
                <a:lnTo>
                  <a:pt x="6165" y="2236"/>
                </a:lnTo>
                <a:lnTo>
                  <a:pt x="6175" y="2230"/>
                </a:lnTo>
                <a:lnTo>
                  <a:pt x="6182" y="2225"/>
                </a:lnTo>
                <a:lnTo>
                  <a:pt x="6198" y="2211"/>
                </a:lnTo>
                <a:lnTo>
                  <a:pt x="6230" y="2188"/>
                </a:lnTo>
                <a:lnTo>
                  <a:pt x="6263" y="2171"/>
                </a:lnTo>
                <a:lnTo>
                  <a:pt x="6272" y="2167"/>
                </a:lnTo>
                <a:lnTo>
                  <a:pt x="6278" y="2165"/>
                </a:lnTo>
                <a:lnTo>
                  <a:pt x="6291" y="2164"/>
                </a:lnTo>
                <a:lnTo>
                  <a:pt x="6321" y="2161"/>
                </a:lnTo>
                <a:lnTo>
                  <a:pt x="6349" y="2165"/>
                </a:lnTo>
                <a:lnTo>
                  <a:pt x="6355" y="2167"/>
                </a:lnTo>
                <a:lnTo>
                  <a:pt x="6358" y="2169"/>
                </a:lnTo>
                <a:lnTo>
                  <a:pt x="6360" y="2172"/>
                </a:lnTo>
                <a:lnTo>
                  <a:pt x="6360" y="2177"/>
                </a:lnTo>
                <a:lnTo>
                  <a:pt x="6362" y="2182"/>
                </a:lnTo>
                <a:lnTo>
                  <a:pt x="6360" y="2187"/>
                </a:lnTo>
                <a:lnTo>
                  <a:pt x="6359" y="2200"/>
                </a:lnTo>
                <a:lnTo>
                  <a:pt x="6353" y="2225"/>
                </a:lnTo>
                <a:lnTo>
                  <a:pt x="6353" y="2230"/>
                </a:lnTo>
                <a:lnTo>
                  <a:pt x="6352" y="2236"/>
                </a:lnTo>
                <a:lnTo>
                  <a:pt x="6350" y="2246"/>
                </a:lnTo>
                <a:lnTo>
                  <a:pt x="6346" y="2255"/>
                </a:lnTo>
                <a:lnTo>
                  <a:pt x="6340" y="2264"/>
                </a:lnTo>
                <a:lnTo>
                  <a:pt x="6324" y="2277"/>
                </a:lnTo>
                <a:lnTo>
                  <a:pt x="6321" y="2278"/>
                </a:lnTo>
                <a:lnTo>
                  <a:pt x="6315" y="2281"/>
                </a:lnTo>
                <a:lnTo>
                  <a:pt x="6304" y="2287"/>
                </a:lnTo>
                <a:lnTo>
                  <a:pt x="6285" y="2298"/>
                </a:lnTo>
                <a:lnTo>
                  <a:pt x="6278" y="2304"/>
                </a:lnTo>
                <a:lnTo>
                  <a:pt x="6275" y="2313"/>
                </a:lnTo>
                <a:lnTo>
                  <a:pt x="6276" y="2316"/>
                </a:lnTo>
                <a:lnTo>
                  <a:pt x="6278" y="2327"/>
                </a:lnTo>
                <a:lnTo>
                  <a:pt x="6282" y="2336"/>
                </a:lnTo>
                <a:lnTo>
                  <a:pt x="6288" y="2342"/>
                </a:lnTo>
                <a:lnTo>
                  <a:pt x="6295" y="2346"/>
                </a:lnTo>
                <a:lnTo>
                  <a:pt x="6304" y="2348"/>
                </a:lnTo>
                <a:lnTo>
                  <a:pt x="6314" y="2349"/>
                </a:lnTo>
                <a:lnTo>
                  <a:pt x="6337" y="2349"/>
                </a:lnTo>
                <a:lnTo>
                  <a:pt x="6382" y="2352"/>
                </a:lnTo>
                <a:lnTo>
                  <a:pt x="6384" y="2352"/>
                </a:lnTo>
                <a:lnTo>
                  <a:pt x="6378" y="2364"/>
                </a:lnTo>
                <a:lnTo>
                  <a:pt x="6365" y="2385"/>
                </a:lnTo>
                <a:lnTo>
                  <a:pt x="6333" y="2422"/>
                </a:lnTo>
                <a:lnTo>
                  <a:pt x="6292" y="2451"/>
                </a:lnTo>
                <a:lnTo>
                  <a:pt x="6281" y="2456"/>
                </a:lnTo>
                <a:lnTo>
                  <a:pt x="6284" y="2461"/>
                </a:lnTo>
                <a:lnTo>
                  <a:pt x="6294" y="2468"/>
                </a:lnTo>
                <a:lnTo>
                  <a:pt x="6315" y="2477"/>
                </a:lnTo>
                <a:lnTo>
                  <a:pt x="6321" y="2477"/>
                </a:lnTo>
                <a:lnTo>
                  <a:pt x="6326" y="2475"/>
                </a:lnTo>
                <a:lnTo>
                  <a:pt x="6329" y="2474"/>
                </a:lnTo>
                <a:lnTo>
                  <a:pt x="6331" y="2469"/>
                </a:lnTo>
                <a:lnTo>
                  <a:pt x="6333" y="2464"/>
                </a:lnTo>
                <a:lnTo>
                  <a:pt x="6334" y="2464"/>
                </a:lnTo>
                <a:lnTo>
                  <a:pt x="6339" y="2445"/>
                </a:lnTo>
                <a:lnTo>
                  <a:pt x="6346" y="2429"/>
                </a:lnTo>
                <a:lnTo>
                  <a:pt x="6356" y="2413"/>
                </a:lnTo>
                <a:lnTo>
                  <a:pt x="6382" y="2390"/>
                </a:lnTo>
                <a:lnTo>
                  <a:pt x="6414" y="2372"/>
                </a:lnTo>
                <a:lnTo>
                  <a:pt x="6446" y="2358"/>
                </a:lnTo>
                <a:lnTo>
                  <a:pt x="6478" y="2345"/>
                </a:lnTo>
                <a:lnTo>
                  <a:pt x="6494" y="2338"/>
                </a:lnTo>
                <a:lnTo>
                  <a:pt x="6508" y="2330"/>
                </a:lnTo>
                <a:lnTo>
                  <a:pt x="6542" y="2317"/>
                </a:lnTo>
                <a:lnTo>
                  <a:pt x="6608" y="2291"/>
                </a:lnTo>
                <a:lnTo>
                  <a:pt x="6679" y="2271"/>
                </a:lnTo>
                <a:lnTo>
                  <a:pt x="6698" y="2267"/>
                </a:lnTo>
                <a:lnTo>
                  <a:pt x="6698" y="2265"/>
                </a:lnTo>
                <a:lnTo>
                  <a:pt x="6697" y="2261"/>
                </a:lnTo>
                <a:lnTo>
                  <a:pt x="6697" y="2256"/>
                </a:lnTo>
                <a:lnTo>
                  <a:pt x="6698" y="2255"/>
                </a:lnTo>
                <a:lnTo>
                  <a:pt x="6695" y="2252"/>
                </a:lnTo>
                <a:lnTo>
                  <a:pt x="6692" y="2245"/>
                </a:lnTo>
                <a:lnTo>
                  <a:pt x="6691" y="2227"/>
                </a:lnTo>
                <a:lnTo>
                  <a:pt x="6692" y="2220"/>
                </a:lnTo>
                <a:lnTo>
                  <a:pt x="6697" y="2213"/>
                </a:lnTo>
                <a:lnTo>
                  <a:pt x="6699" y="2209"/>
                </a:lnTo>
                <a:lnTo>
                  <a:pt x="6718" y="2190"/>
                </a:lnTo>
                <a:lnTo>
                  <a:pt x="6763" y="2158"/>
                </a:lnTo>
                <a:lnTo>
                  <a:pt x="6812" y="2133"/>
                </a:lnTo>
                <a:lnTo>
                  <a:pt x="6914" y="2087"/>
                </a:lnTo>
                <a:lnTo>
                  <a:pt x="6979" y="2030"/>
                </a:lnTo>
                <a:lnTo>
                  <a:pt x="6981" y="2027"/>
                </a:lnTo>
                <a:lnTo>
                  <a:pt x="6983" y="2023"/>
                </a:lnTo>
                <a:lnTo>
                  <a:pt x="6986" y="2013"/>
                </a:lnTo>
                <a:lnTo>
                  <a:pt x="6992" y="1994"/>
                </a:lnTo>
                <a:lnTo>
                  <a:pt x="7007" y="1983"/>
                </a:lnTo>
                <a:lnTo>
                  <a:pt x="7011" y="1983"/>
                </a:lnTo>
                <a:lnTo>
                  <a:pt x="7021" y="1980"/>
                </a:lnTo>
                <a:lnTo>
                  <a:pt x="7040" y="1974"/>
                </a:lnTo>
                <a:lnTo>
                  <a:pt x="7047" y="1972"/>
                </a:lnTo>
                <a:lnTo>
                  <a:pt x="7052" y="1972"/>
                </a:lnTo>
                <a:lnTo>
                  <a:pt x="7053" y="1972"/>
                </a:lnTo>
                <a:lnTo>
                  <a:pt x="7056" y="1985"/>
                </a:lnTo>
                <a:lnTo>
                  <a:pt x="7069" y="2007"/>
                </a:lnTo>
                <a:lnTo>
                  <a:pt x="7085" y="2022"/>
                </a:lnTo>
                <a:lnTo>
                  <a:pt x="7105" y="2032"/>
                </a:lnTo>
                <a:lnTo>
                  <a:pt x="7128" y="2038"/>
                </a:lnTo>
                <a:lnTo>
                  <a:pt x="7150" y="2038"/>
                </a:lnTo>
                <a:lnTo>
                  <a:pt x="7162" y="2036"/>
                </a:lnTo>
                <a:lnTo>
                  <a:pt x="7173" y="2035"/>
                </a:lnTo>
                <a:lnTo>
                  <a:pt x="7182" y="2030"/>
                </a:lnTo>
                <a:lnTo>
                  <a:pt x="7188" y="2025"/>
                </a:lnTo>
                <a:lnTo>
                  <a:pt x="7191" y="2019"/>
                </a:lnTo>
                <a:lnTo>
                  <a:pt x="7191" y="2010"/>
                </a:lnTo>
                <a:lnTo>
                  <a:pt x="7191" y="2003"/>
                </a:lnTo>
                <a:lnTo>
                  <a:pt x="7186" y="1985"/>
                </a:lnTo>
                <a:lnTo>
                  <a:pt x="7183" y="1967"/>
                </a:lnTo>
                <a:lnTo>
                  <a:pt x="7186" y="1949"/>
                </a:lnTo>
                <a:lnTo>
                  <a:pt x="7188" y="1949"/>
                </a:lnTo>
                <a:lnTo>
                  <a:pt x="7191" y="1945"/>
                </a:lnTo>
                <a:lnTo>
                  <a:pt x="7196" y="1941"/>
                </a:lnTo>
                <a:lnTo>
                  <a:pt x="7204" y="1938"/>
                </a:lnTo>
                <a:lnTo>
                  <a:pt x="7212" y="1938"/>
                </a:lnTo>
                <a:lnTo>
                  <a:pt x="7231" y="1938"/>
                </a:lnTo>
                <a:lnTo>
                  <a:pt x="7272" y="1939"/>
                </a:lnTo>
                <a:lnTo>
                  <a:pt x="7288" y="1932"/>
                </a:lnTo>
                <a:lnTo>
                  <a:pt x="7292" y="1929"/>
                </a:lnTo>
                <a:lnTo>
                  <a:pt x="7304" y="1920"/>
                </a:lnTo>
                <a:lnTo>
                  <a:pt x="7327" y="1903"/>
                </a:lnTo>
                <a:lnTo>
                  <a:pt x="7349" y="1884"/>
                </a:lnTo>
                <a:lnTo>
                  <a:pt x="7354" y="1878"/>
                </a:lnTo>
                <a:lnTo>
                  <a:pt x="7360" y="1877"/>
                </a:lnTo>
                <a:lnTo>
                  <a:pt x="7364" y="1877"/>
                </a:lnTo>
                <a:lnTo>
                  <a:pt x="7373" y="1877"/>
                </a:lnTo>
                <a:lnTo>
                  <a:pt x="7391" y="1878"/>
                </a:lnTo>
                <a:lnTo>
                  <a:pt x="7401" y="1874"/>
                </a:lnTo>
                <a:lnTo>
                  <a:pt x="7404" y="1871"/>
                </a:lnTo>
                <a:lnTo>
                  <a:pt x="7405" y="1867"/>
                </a:lnTo>
                <a:lnTo>
                  <a:pt x="7408" y="1861"/>
                </a:lnTo>
                <a:lnTo>
                  <a:pt x="7409" y="1849"/>
                </a:lnTo>
                <a:lnTo>
                  <a:pt x="7412" y="1826"/>
                </a:lnTo>
                <a:lnTo>
                  <a:pt x="7418" y="1810"/>
                </a:lnTo>
                <a:lnTo>
                  <a:pt x="7425" y="1801"/>
                </a:lnTo>
                <a:lnTo>
                  <a:pt x="7434" y="1796"/>
                </a:lnTo>
                <a:lnTo>
                  <a:pt x="7441" y="1794"/>
                </a:lnTo>
                <a:lnTo>
                  <a:pt x="7450" y="1797"/>
                </a:lnTo>
                <a:lnTo>
                  <a:pt x="7459" y="1801"/>
                </a:lnTo>
                <a:lnTo>
                  <a:pt x="7466" y="1807"/>
                </a:lnTo>
                <a:lnTo>
                  <a:pt x="7482" y="1823"/>
                </a:lnTo>
                <a:lnTo>
                  <a:pt x="7499" y="1839"/>
                </a:lnTo>
                <a:lnTo>
                  <a:pt x="7515" y="1849"/>
                </a:lnTo>
                <a:lnTo>
                  <a:pt x="7517" y="1849"/>
                </a:lnTo>
                <a:lnTo>
                  <a:pt x="7518" y="1848"/>
                </a:lnTo>
                <a:lnTo>
                  <a:pt x="7527" y="1843"/>
                </a:lnTo>
                <a:lnTo>
                  <a:pt x="7533" y="1841"/>
                </a:lnTo>
                <a:lnTo>
                  <a:pt x="7534" y="1839"/>
                </a:lnTo>
                <a:lnTo>
                  <a:pt x="7540" y="1836"/>
                </a:lnTo>
                <a:lnTo>
                  <a:pt x="7551" y="1826"/>
                </a:lnTo>
                <a:lnTo>
                  <a:pt x="7572" y="1806"/>
                </a:lnTo>
                <a:lnTo>
                  <a:pt x="7585" y="1784"/>
                </a:lnTo>
                <a:lnTo>
                  <a:pt x="7588" y="1780"/>
                </a:lnTo>
                <a:lnTo>
                  <a:pt x="7589" y="1774"/>
                </a:lnTo>
                <a:lnTo>
                  <a:pt x="7596" y="1761"/>
                </a:lnTo>
                <a:lnTo>
                  <a:pt x="7609" y="1738"/>
                </a:lnTo>
                <a:lnTo>
                  <a:pt x="7619" y="1712"/>
                </a:lnTo>
                <a:lnTo>
                  <a:pt x="7621" y="1703"/>
                </a:lnTo>
                <a:lnTo>
                  <a:pt x="7617" y="1704"/>
                </a:lnTo>
                <a:lnTo>
                  <a:pt x="7614" y="1704"/>
                </a:lnTo>
                <a:lnTo>
                  <a:pt x="7612" y="1703"/>
                </a:lnTo>
                <a:lnTo>
                  <a:pt x="7611" y="1701"/>
                </a:lnTo>
                <a:lnTo>
                  <a:pt x="7611" y="1699"/>
                </a:lnTo>
                <a:lnTo>
                  <a:pt x="7611" y="1697"/>
                </a:lnTo>
                <a:lnTo>
                  <a:pt x="7609" y="1691"/>
                </a:lnTo>
                <a:lnTo>
                  <a:pt x="7608" y="1687"/>
                </a:lnTo>
                <a:lnTo>
                  <a:pt x="7604" y="1685"/>
                </a:lnTo>
                <a:lnTo>
                  <a:pt x="7604" y="1685"/>
                </a:lnTo>
                <a:lnTo>
                  <a:pt x="7606" y="1670"/>
                </a:lnTo>
                <a:lnTo>
                  <a:pt x="7611" y="1636"/>
                </a:lnTo>
                <a:lnTo>
                  <a:pt x="7605" y="1571"/>
                </a:lnTo>
                <a:lnTo>
                  <a:pt x="7579" y="1509"/>
                </a:lnTo>
                <a:lnTo>
                  <a:pt x="7569" y="1494"/>
                </a:lnTo>
                <a:lnTo>
                  <a:pt x="7579" y="1490"/>
                </a:lnTo>
                <a:lnTo>
                  <a:pt x="7598" y="1480"/>
                </a:lnTo>
                <a:lnTo>
                  <a:pt x="7634" y="1452"/>
                </a:lnTo>
                <a:lnTo>
                  <a:pt x="7664" y="1419"/>
                </a:lnTo>
                <a:lnTo>
                  <a:pt x="7672" y="1409"/>
                </a:lnTo>
                <a:lnTo>
                  <a:pt x="7679" y="1415"/>
                </a:lnTo>
                <a:lnTo>
                  <a:pt x="7692" y="1426"/>
                </a:lnTo>
                <a:lnTo>
                  <a:pt x="7718" y="1439"/>
                </a:lnTo>
                <a:lnTo>
                  <a:pt x="7732" y="1442"/>
                </a:lnTo>
                <a:lnTo>
                  <a:pt x="7748" y="1439"/>
                </a:lnTo>
                <a:lnTo>
                  <a:pt x="7759" y="1435"/>
                </a:lnTo>
                <a:lnTo>
                  <a:pt x="7757" y="1439"/>
                </a:lnTo>
                <a:lnTo>
                  <a:pt x="7759" y="1443"/>
                </a:lnTo>
                <a:lnTo>
                  <a:pt x="7760" y="1448"/>
                </a:lnTo>
                <a:lnTo>
                  <a:pt x="7764" y="1449"/>
                </a:lnTo>
                <a:lnTo>
                  <a:pt x="7769" y="1451"/>
                </a:lnTo>
                <a:lnTo>
                  <a:pt x="7774" y="1451"/>
                </a:lnTo>
                <a:lnTo>
                  <a:pt x="7777" y="1451"/>
                </a:lnTo>
                <a:lnTo>
                  <a:pt x="7782" y="1452"/>
                </a:lnTo>
                <a:lnTo>
                  <a:pt x="7793" y="1454"/>
                </a:lnTo>
                <a:lnTo>
                  <a:pt x="7805" y="1452"/>
                </a:lnTo>
                <a:lnTo>
                  <a:pt x="7828" y="1448"/>
                </a:lnTo>
                <a:lnTo>
                  <a:pt x="7845" y="1443"/>
                </a:lnTo>
                <a:lnTo>
                  <a:pt x="7844" y="1436"/>
                </a:lnTo>
                <a:lnTo>
                  <a:pt x="7844" y="1422"/>
                </a:lnTo>
                <a:lnTo>
                  <a:pt x="7848" y="1407"/>
                </a:lnTo>
                <a:lnTo>
                  <a:pt x="7856" y="1393"/>
                </a:lnTo>
                <a:lnTo>
                  <a:pt x="7866" y="1381"/>
                </a:lnTo>
                <a:lnTo>
                  <a:pt x="7877" y="1370"/>
                </a:lnTo>
                <a:lnTo>
                  <a:pt x="7886" y="1364"/>
                </a:lnTo>
                <a:lnTo>
                  <a:pt x="7887" y="1361"/>
                </a:lnTo>
                <a:lnTo>
                  <a:pt x="7889" y="1358"/>
                </a:lnTo>
                <a:lnTo>
                  <a:pt x="7889" y="1357"/>
                </a:lnTo>
                <a:lnTo>
                  <a:pt x="7887" y="1349"/>
                </a:lnTo>
                <a:lnTo>
                  <a:pt x="7887" y="1338"/>
                </a:lnTo>
                <a:lnTo>
                  <a:pt x="7890" y="1332"/>
                </a:lnTo>
                <a:lnTo>
                  <a:pt x="7895" y="1328"/>
                </a:lnTo>
                <a:lnTo>
                  <a:pt x="7903" y="1316"/>
                </a:lnTo>
                <a:lnTo>
                  <a:pt x="7921" y="1294"/>
                </a:lnTo>
                <a:lnTo>
                  <a:pt x="7940" y="1274"/>
                </a:lnTo>
                <a:lnTo>
                  <a:pt x="7945" y="1268"/>
                </a:lnTo>
                <a:lnTo>
                  <a:pt x="7947" y="1265"/>
                </a:lnTo>
                <a:lnTo>
                  <a:pt x="7948" y="1262"/>
                </a:lnTo>
                <a:lnTo>
                  <a:pt x="7950" y="1254"/>
                </a:lnTo>
                <a:lnTo>
                  <a:pt x="7950" y="1245"/>
                </a:lnTo>
                <a:lnTo>
                  <a:pt x="7948" y="1236"/>
                </a:lnTo>
                <a:lnTo>
                  <a:pt x="7941" y="1219"/>
                </a:lnTo>
                <a:lnTo>
                  <a:pt x="7941" y="1219"/>
                </a:lnTo>
                <a:lnTo>
                  <a:pt x="7945" y="1217"/>
                </a:lnTo>
                <a:lnTo>
                  <a:pt x="7953" y="1212"/>
                </a:lnTo>
                <a:lnTo>
                  <a:pt x="7958" y="1203"/>
                </a:lnTo>
                <a:lnTo>
                  <a:pt x="7970" y="1187"/>
                </a:lnTo>
                <a:lnTo>
                  <a:pt x="7980" y="1174"/>
                </a:lnTo>
                <a:lnTo>
                  <a:pt x="7982" y="1171"/>
                </a:lnTo>
                <a:lnTo>
                  <a:pt x="7983" y="1167"/>
                </a:lnTo>
                <a:lnTo>
                  <a:pt x="7983" y="1162"/>
                </a:lnTo>
                <a:lnTo>
                  <a:pt x="7983" y="1158"/>
                </a:lnTo>
                <a:lnTo>
                  <a:pt x="7980" y="1148"/>
                </a:lnTo>
                <a:lnTo>
                  <a:pt x="7976" y="1139"/>
                </a:lnTo>
                <a:lnTo>
                  <a:pt x="7974" y="1133"/>
                </a:lnTo>
                <a:lnTo>
                  <a:pt x="7976" y="1128"/>
                </a:lnTo>
                <a:lnTo>
                  <a:pt x="7977" y="1128"/>
                </a:lnTo>
                <a:lnTo>
                  <a:pt x="7985" y="1123"/>
                </a:lnTo>
                <a:lnTo>
                  <a:pt x="7995" y="1113"/>
                </a:lnTo>
                <a:lnTo>
                  <a:pt x="7999" y="1102"/>
                </a:lnTo>
                <a:lnTo>
                  <a:pt x="8000" y="1090"/>
                </a:lnTo>
                <a:lnTo>
                  <a:pt x="8000" y="1077"/>
                </a:lnTo>
                <a:lnTo>
                  <a:pt x="7999" y="1062"/>
                </a:lnTo>
                <a:lnTo>
                  <a:pt x="8000" y="1055"/>
                </a:lnTo>
                <a:lnTo>
                  <a:pt x="8008" y="1057"/>
                </a:lnTo>
                <a:lnTo>
                  <a:pt x="8024" y="1055"/>
                </a:lnTo>
                <a:lnTo>
                  <a:pt x="8040" y="1052"/>
                </a:lnTo>
                <a:lnTo>
                  <a:pt x="8054" y="1045"/>
                </a:lnTo>
                <a:lnTo>
                  <a:pt x="8063" y="1035"/>
                </a:lnTo>
                <a:lnTo>
                  <a:pt x="8064" y="1028"/>
                </a:lnTo>
                <a:lnTo>
                  <a:pt x="8064" y="1022"/>
                </a:lnTo>
                <a:lnTo>
                  <a:pt x="8063" y="1013"/>
                </a:lnTo>
                <a:lnTo>
                  <a:pt x="8063" y="1013"/>
                </a:lnTo>
                <a:lnTo>
                  <a:pt x="8060" y="1007"/>
                </a:lnTo>
                <a:lnTo>
                  <a:pt x="8056" y="996"/>
                </a:lnTo>
                <a:lnTo>
                  <a:pt x="8048" y="973"/>
                </a:lnTo>
                <a:lnTo>
                  <a:pt x="8045" y="949"/>
                </a:lnTo>
                <a:lnTo>
                  <a:pt x="8047" y="942"/>
                </a:lnTo>
                <a:lnTo>
                  <a:pt x="8047" y="941"/>
                </a:lnTo>
                <a:lnTo>
                  <a:pt x="8048" y="935"/>
                </a:lnTo>
                <a:lnTo>
                  <a:pt x="8051" y="922"/>
                </a:lnTo>
                <a:lnTo>
                  <a:pt x="8058" y="910"/>
                </a:lnTo>
                <a:lnTo>
                  <a:pt x="8061" y="907"/>
                </a:lnTo>
                <a:lnTo>
                  <a:pt x="8056" y="909"/>
                </a:lnTo>
                <a:lnTo>
                  <a:pt x="8050" y="907"/>
                </a:lnTo>
                <a:lnTo>
                  <a:pt x="8041" y="904"/>
                </a:lnTo>
                <a:lnTo>
                  <a:pt x="8031" y="900"/>
                </a:lnTo>
                <a:lnTo>
                  <a:pt x="8024" y="896"/>
                </a:lnTo>
                <a:lnTo>
                  <a:pt x="8016" y="894"/>
                </a:lnTo>
                <a:lnTo>
                  <a:pt x="8011" y="894"/>
                </a:lnTo>
                <a:lnTo>
                  <a:pt x="8011" y="894"/>
                </a:lnTo>
                <a:lnTo>
                  <a:pt x="7996" y="902"/>
                </a:lnTo>
                <a:lnTo>
                  <a:pt x="7967" y="910"/>
                </a:lnTo>
                <a:lnTo>
                  <a:pt x="7938" y="915"/>
                </a:lnTo>
                <a:lnTo>
                  <a:pt x="7879" y="920"/>
                </a:lnTo>
                <a:lnTo>
                  <a:pt x="7838" y="931"/>
                </a:lnTo>
                <a:lnTo>
                  <a:pt x="7831" y="933"/>
                </a:lnTo>
                <a:lnTo>
                  <a:pt x="7821" y="942"/>
                </a:lnTo>
                <a:lnTo>
                  <a:pt x="7799" y="960"/>
                </a:lnTo>
                <a:lnTo>
                  <a:pt x="7774" y="974"/>
                </a:lnTo>
                <a:lnTo>
                  <a:pt x="7767" y="975"/>
                </a:lnTo>
                <a:lnTo>
                  <a:pt x="7769" y="977"/>
                </a:lnTo>
                <a:lnTo>
                  <a:pt x="7772" y="980"/>
                </a:lnTo>
                <a:lnTo>
                  <a:pt x="7776" y="986"/>
                </a:lnTo>
                <a:lnTo>
                  <a:pt x="7776" y="991"/>
                </a:lnTo>
                <a:lnTo>
                  <a:pt x="7776" y="993"/>
                </a:lnTo>
                <a:lnTo>
                  <a:pt x="7764" y="1000"/>
                </a:lnTo>
                <a:lnTo>
                  <a:pt x="7741" y="1009"/>
                </a:lnTo>
                <a:lnTo>
                  <a:pt x="7718" y="1013"/>
                </a:lnTo>
                <a:lnTo>
                  <a:pt x="7695" y="1013"/>
                </a:lnTo>
                <a:lnTo>
                  <a:pt x="7670" y="1009"/>
                </a:lnTo>
                <a:lnTo>
                  <a:pt x="7647" y="1002"/>
                </a:lnTo>
                <a:lnTo>
                  <a:pt x="7637" y="996"/>
                </a:lnTo>
                <a:lnTo>
                  <a:pt x="7632" y="994"/>
                </a:lnTo>
                <a:lnTo>
                  <a:pt x="7624" y="993"/>
                </a:lnTo>
                <a:lnTo>
                  <a:pt x="7615" y="994"/>
                </a:lnTo>
                <a:lnTo>
                  <a:pt x="7606" y="996"/>
                </a:lnTo>
                <a:lnTo>
                  <a:pt x="7598" y="1000"/>
                </a:lnTo>
                <a:lnTo>
                  <a:pt x="7589" y="1006"/>
                </a:lnTo>
                <a:lnTo>
                  <a:pt x="7585" y="1009"/>
                </a:lnTo>
                <a:lnTo>
                  <a:pt x="7582" y="1010"/>
                </a:lnTo>
                <a:lnTo>
                  <a:pt x="7580" y="1012"/>
                </a:lnTo>
                <a:lnTo>
                  <a:pt x="7576" y="1013"/>
                </a:lnTo>
                <a:lnTo>
                  <a:pt x="7570" y="1013"/>
                </a:lnTo>
                <a:lnTo>
                  <a:pt x="7566" y="1012"/>
                </a:lnTo>
                <a:lnTo>
                  <a:pt x="7563" y="1009"/>
                </a:lnTo>
                <a:lnTo>
                  <a:pt x="7561" y="1003"/>
                </a:lnTo>
                <a:lnTo>
                  <a:pt x="7563" y="1003"/>
                </a:lnTo>
                <a:lnTo>
                  <a:pt x="7561" y="999"/>
                </a:lnTo>
                <a:lnTo>
                  <a:pt x="7560" y="996"/>
                </a:lnTo>
                <a:lnTo>
                  <a:pt x="7556" y="990"/>
                </a:lnTo>
                <a:lnTo>
                  <a:pt x="7554" y="984"/>
                </a:lnTo>
                <a:lnTo>
                  <a:pt x="7554" y="981"/>
                </a:lnTo>
                <a:lnTo>
                  <a:pt x="7556" y="980"/>
                </a:lnTo>
                <a:lnTo>
                  <a:pt x="7557" y="978"/>
                </a:lnTo>
                <a:lnTo>
                  <a:pt x="7561" y="977"/>
                </a:lnTo>
                <a:lnTo>
                  <a:pt x="7567" y="975"/>
                </a:lnTo>
                <a:lnTo>
                  <a:pt x="7569" y="975"/>
                </a:lnTo>
                <a:lnTo>
                  <a:pt x="7566" y="974"/>
                </a:lnTo>
                <a:lnTo>
                  <a:pt x="7563" y="971"/>
                </a:lnTo>
                <a:lnTo>
                  <a:pt x="7556" y="967"/>
                </a:lnTo>
                <a:lnTo>
                  <a:pt x="7543" y="961"/>
                </a:lnTo>
                <a:lnTo>
                  <a:pt x="7537" y="951"/>
                </a:lnTo>
                <a:lnTo>
                  <a:pt x="7537" y="941"/>
                </a:lnTo>
                <a:lnTo>
                  <a:pt x="7537" y="922"/>
                </a:lnTo>
                <a:lnTo>
                  <a:pt x="7530" y="889"/>
                </a:lnTo>
                <a:lnTo>
                  <a:pt x="7514" y="855"/>
                </a:lnTo>
                <a:lnTo>
                  <a:pt x="7508" y="847"/>
                </a:lnTo>
                <a:lnTo>
                  <a:pt x="7511" y="845"/>
                </a:lnTo>
                <a:lnTo>
                  <a:pt x="7515" y="844"/>
                </a:lnTo>
                <a:lnTo>
                  <a:pt x="7517" y="841"/>
                </a:lnTo>
                <a:lnTo>
                  <a:pt x="7518" y="838"/>
                </a:lnTo>
                <a:lnTo>
                  <a:pt x="7519" y="833"/>
                </a:lnTo>
                <a:lnTo>
                  <a:pt x="7522" y="826"/>
                </a:lnTo>
                <a:lnTo>
                  <a:pt x="7524" y="819"/>
                </a:lnTo>
                <a:lnTo>
                  <a:pt x="7530" y="815"/>
                </a:lnTo>
                <a:lnTo>
                  <a:pt x="7534" y="812"/>
                </a:lnTo>
                <a:lnTo>
                  <a:pt x="7525" y="813"/>
                </a:lnTo>
                <a:lnTo>
                  <a:pt x="7508" y="815"/>
                </a:lnTo>
                <a:lnTo>
                  <a:pt x="7476" y="809"/>
                </a:lnTo>
                <a:lnTo>
                  <a:pt x="7447" y="797"/>
                </a:lnTo>
                <a:lnTo>
                  <a:pt x="7440" y="793"/>
                </a:lnTo>
                <a:lnTo>
                  <a:pt x="7435" y="791"/>
                </a:lnTo>
                <a:lnTo>
                  <a:pt x="7433" y="789"/>
                </a:lnTo>
                <a:lnTo>
                  <a:pt x="7430" y="786"/>
                </a:lnTo>
                <a:lnTo>
                  <a:pt x="7427" y="780"/>
                </a:lnTo>
                <a:lnTo>
                  <a:pt x="7424" y="773"/>
                </a:lnTo>
                <a:lnTo>
                  <a:pt x="7420" y="757"/>
                </a:lnTo>
                <a:lnTo>
                  <a:pt x="7420" y="752"/>
                </a:lnTo>
                <a:lnTo>
                  <a:pt x="7414" y="744"/>
                </a:lnTo>
                <a:lnTo>
                  <a:pt x="7406" y="738"/>
                </a:lnTo>
                <a:lnTo>
                  <a:pt x="7399" y="733"/>
                </a:lnTo>
                <a:lnTo>
                  <a:pt x="7391" y="731"/>
                </a:lnTo>
                <a:lnTo>
                  <a:pt x="7382" y="729"/>
                </a:lnTo>
                <a:lnTo>
                  <a:pt x="7363" y="728"/>
                </a:lnTo>
                <a:lnTo>
                  <a:pt x="7328" y="725"/>
                </a:lnTo>
                <a:lnTo>
                  <a:pt x="7321" y="720"/>
                </a:lnTo>
                <a:lnTo>
                  <a:pt x="7315" y="719"/>
                </a:lnTo>
                <a:lnTo>
                  <a:pt x="7305" y="713"/>
                </a:lnTo>
                <a:lnTo>
                  <a:pt x="7283" y="705"/>
                </a:lnTo>
                <a:lnTo>
                  <a:pt x="7260" y="697"/>
                </a:lnTo>
                <a:lnTo>
                  <a:pt x="7256" y="694"/>
                </a:lnTo>
                <a:lnTo>
                  <a:pt x="7249" y="693"/>
                </a:lnTo>
                <a:lnTo>
                  <a:pt x="7234" y="690"/>
                </a:lnTo>
                <a:lnTo>
                  <a:pt x="7202" y="690"/>
                </a:lnTo>
                <a:lnTo>
                  <a:pt x="7169" y="690"/>
                </a:lnTo>
                <a:lnTo>
                  <a:pt x="7162" y="690"/>
                </a:lnTo>
                <a:lnTo>
                  <a:pt x="7160" y="686"/>
                </a:lnTo>
                <a:lnTo>
                  <a:pt x="7159" y="681"/>
                </a:lnTo>
                <a:lnTo>
                  <a:pt x="7156" y="678"/>
                </a:lnTo>
                <a:lnTo>
                  <a:pt x="7153" y="676"/>
                </a:lnTo>
                <a:lnTo>
                  <a:pt x="7150" y="674"/>
                </a:lnTo>
                <a:lnTo>
                  <a:pt x="7141" y="670"/>
                </a:lnTo>
                <a:lnTo>
                  <a:pt x="7134" y="667"/>
                </a:lnTo>
                <a:lnTo>
                  <a:pt x="7128" y="661"/>
                </a:lnTo>
                <a:lnTo>
                  <a:pt x="7127" y="657"/>
                </a:lnTo>
                <a:lnTo>
                  <a:pt x="7125" y="652"/>
                </a:lnTo>
                <a:lnTo>
                  <a:pt x="7127" y="647"/>
                </a:lnTo>
                <a:lnTo>
                  <a:pt x="7128" y="642"/>
                </a:lnTo>
                <a:lnTo>
                  <a:pt x="7133" y="632"/>
                </a:lnTo>
                <a:lnTo>
                  <a:pt x="7138" y="612"/>
                </a:lnTo>
                <a:lnTo>
                  <a:pt x="7136" y="596"/>
                </a:lnTo>
                <a:lnTo>
                  <a:pt x="7133" y="594"/>
                </a:lnTo>
                <a:lnTo>
                  <a:pt x="7125" y="589"/>
                </a:lnTo>
                <a:lnTo>
                  <a:pt x="7114" y="578"/>
                </a:lnTo>
                <a:lnTo>
                  <a:pt x="7109" y="574"/>
                </a:lnTo>
                <a:lnTo>
                  <a:pt x="7107" y="571"/>
                </a:lnTo>
                <a:lnTo>
                  <a:pt x="7107" y="570"/>
                </a:lnTo>
                <a:lnTo>
                  <a:pt x="7104" y="552"/>
                </a:lnTo>
                <a:lnTo>
                  <a:pt x="7098" y="519"/>
                </a:lnTo>
                <a:lnTo>
                  <a:pt x="7069" y="461"/>
                </a:lnTo>
                <a:lnTo>
                  <a:pt x="7028" y="409"/>
                </a:lnTo>
                <a:lnTo>
                  <a:pt x="7017" y="394"/>
                </a:lnTo>
                <a:lnTo>
                  <a:pt x="7014" y="392"/>
                </a:lnTo>
                <a:lnTo>
                  <a:pt x="7014" y="389"/>
                </a:lnTo>
                <a:lnTo>
                  <a:pt x="7015" y="386"/>
                </a:lnTo>
                <a:lnTo>
                  <a:pt x="7017" y="381"/>
                </a:lnTo>
                <a:lnTo>
                  <a:pt x="7020" y="378"/>
                </a:lnTo>
                <a:lnTo>
                  <a:pt x="7025" y="373"/>
                </a:lnTo>
                <a:lnTo>
                  <a:pt x="7031" y="367"/>
                </a:lnTo>
                <a:lnTo>
                  <a:pt x="7033" y="358"/>
                </a:lnTo>
                <a:lnTo>
                  <a:pt x="7031" y="354"/>
                </a:lnTo>
                <a:lnTo>
                  <a:pt x="7023" y="341"/>
                </a:lnTo>
                <a:lnTo>
                  <a:pt x="7008" y="312"/>
                </a:lnTo>
                <a:lnTo>
                  <a:pt x="6981" y="255"/>
                </a:lnTo>
                <a:lnTo>
                  <a:pt x="6954" y="199"/>
                </a:lnTo>
                <a:lnTo>
                  <a:pt x="6947" y="184"/>
                </a:lnTo>
                <a:lnTo>
                  <a:pt x="6943" y="179"/>
                </a:lnTo>
                <a:lnTo>
                  <a:pt x="6936" y="165"/>
                </a:lnTo>
                <a:lnTo>
                  <a:pt x="6918" y="136"/>
                </a:lnTo>
                <a:lnTo>
                  <a:pt x="6898" y="110"/>
                </a:lnTo>
                <a:lnTo>
                  <a:pt x="6892" y="105"/>
                </a:lnTo>
                <a:lnTo>
                  <a:pt x="6888" y="103"/>
                </a:lnTo>
                <a:lnTo>
                  <a:pt x="6881" y="100"/>
                </a:lnTo>
                <a:lnTo>
                  <a:pt x="6863" y="93"/>
                </a:lnTo>
                <a:lnTo>
                  <a:pt x="6846" y="89"/>
                </a:lnTo>
                <a:lnTo>
                  <a:pt x="6841" y="87"/>
                </a:lnTo>
                <a:lnTo>
                  <a:pt x="6833" y="87"/>
                </a:lnTo>
                <a:lnTo>
                  <a:pt x="6817" y="86"/>
                </a:lnTo>
                <a:lnTo>
                  <a:pt x="6785" y="86"/>
                </a:lnTo>
                <a:lnTo>
                  <a:pt x="6754" y="84"/>
                </a:lnTo>
                <a:lnTo>
                  <a:pt x="6749" y="81"/>
                </a:lnTo>
                <a:lnTo>
                  <a:pt x="6741" y="79"/>
                </a:lnTo>
                <a:lnTo>
                  <a:pt x="6727" y="71"/>
                </a:lnTo>
                <a:lnTo>
                  <a:pt x="6698" y="54"/>
                </a:lnTo>
                <a:lnTo>
                  <a:pt x="6670" y="37"/>
                </a:lnTo>
                <a:lnTo>
                  <a:pt x="6665" y="32"/>
                </a:lnTo>
                <a:lnTo>
                  <a:pt x="6653" y="26"/>
                </a:lnTo>
                <a:lnTo>
                  <a:pt x="6631" y="16"/>
                </a:lnTo>
                <a:lnTo>
                  <a:pt x="6579" y="3"/>
                </a:lnTo>
                <a:lnTo>
                  <a:pt x="6527" y="2"/>
                </a:lnTo>
                <a:lnTo>
                  <a:pt x="6514" y="3"/>
                </a:lnTo>
                <a:lnTo>
                  <a:pt x="6511" y="5"/>
                </a:lnTo>
                <a:lnTo>
                  <a:pt x="6508" y="6"/>
                </a:lnTo>
                <a:lnTo>
                  <a:pt x="6498" y="9"/>
                </a:lnTo>
                <a:lnTo>
                  <a:pt x="6486" y="13"/>
                </a:lnTo>
                <a:lnTo>
                  <a:pt x="6485" y="13"/>
                </a:lnTo>
                <a:lnTo>
                  <a:pt x="6478" y="16"/>
                </a:lnTo>
                <a:lnTo>
                  <a:pt x="6472" y="18"/>
                </a:lnTo>
                <a:lnTo>
                  <a:pt x="6466" y="16"/>
                </a:lnTo>
                <a:lnTo>
                  <a:pt x="6459" y="15"/>
                </a:lnTo>
                <a:lnTo>
                  <a:pt x="6446" y="9"/>
                </a:lnTo>
                <a:lnTo>
                  <a:pt x="6433" y="3"/>
                </a:lnTo>
                <a:lnTo>
                  <a:pt x="6421" y="0"/>
                </a:lnTo>
                <a:lnTo>
                  <a:pt x="6413" y="3"/>
                </a:lnTo>
                <a:lnTo>
                  <a:pt x="6413" y="3"/>
                </a:lnTo>
                <a:lnTo>
                  <a:pt x="6400" y="13"/>
                </a:lnTo>
                <a:lnTo>
                  <a:pt x="6386" y="19"/>
                </a:lnTo>
                <a:lnTo>
                  <a:pt x="6359" y="25"/>
                </a:lnTo>
                <a:lnTo>
                  <a:pt x="6331" y="28"/>
                </a:lnTo>
                <a:lnTo>
                  <a:pt x="6279" y="32"/>
                </a:lnTo>
                <a:lnTo>
                  <a:pt x="6258" y="41"/>
                </a:lnTo>
                <a:lnTo>
                  <a:pt x="6247" y="48"/>
                </a:lnTo>
                <a:lnTo>
                  <a:pt x="6230" y="61"/>
                </a:lnTo>
                <a:lnTo>
                  <a:pt x="6194" y="89"/>
                </a:lnTo>
                <a:lnTo>
                  <a:pt x="6153" y="112"/>
                </a:lnTo>
                <a:lnTo>
                  <a:pt x="6143" y="116"/>
                </a:lnTo>
                <a:lnTo>
                  <a:pt x="6140" y="118"/>
                </a:lnTo>
                <a:lnTo>
                  <a:pt x="6139" y="121"/>
                </a:lnTo>
                <a:lnTo>
                  <a:pt x="6136" y="125"/>
                </a:lnTo>
                <a:lnTo>
                  <a:pt x="6133" y="134"/>
                </a:lnTo>
                <a:lnTo>
                  <a:pt x="6131" y="144"/>
                </a:lnTo>
                <a:lnTo>
                  <a:pt x="6133" y="152"/>
                </a:lnTo>
                <a:lnTo>
                  <a:pt x="6137" y="157"/>
                </a:lnTo>
                <a:lnTo>
                  <a:pt x="6142" y="157"/>
                </a:lnTo>
                <a:lnTo>
                  <a:pt x="6158" y="158"/>
                </a:lnTo>
                <a:lnTo>
                  <a:pt x="6184" y="167"/>
                </a:lnTo>
                <a:lnTo>
                  <a:pt x="6204" y="183"/>
                </a:lnTo>
                <a:lnTo>
                  <a:pt x="6217" y="203"/>
                </a:lnTo>
                <a:lnTo>
                  <a:pt x="6224" y="225"/>
                </a:lnTo>
                <a:lnTo>
                  <a:pt x="6226" y="248"/>
                </a:lnTo>
                <a:lnTo>
                  <a:pt x="6226" y="258"/>
                </a:lnTo>
                <a:lnTo>
                  <a:pt x="6223" y="270"/>
                </a:lnTo>
                <a:lnTo>
                  <a:pt x="6218" y="280"/>
                </a:lnTo>
                <a:lnTo>
                  <a:pt x="6213" y="289"/>
                </a:lnTo>
                <a:lnTo>
                  <a:pt x="6195" y="307"/>
                </a:lnTo>
                <a:lnTo>
                  <a:pt x="6175" y="326"/>
                </a:lnTo>
                <a:lnTo>
                  <a:pt x="6133" y="367"/>
                </a:lnTo>
                <a:lnTo>
                  <a:pt x="6124" y="378"/>
                </a:lnTo>
                <a:lnTo>
                  <a:pt x="6120" y="386"/>
                </a:lnTo>
                <a:lnTo>
                  <a:pt x="6114" y="400"/>
                </a:lnTo>
                <a:lnTo>
                  <a:pt x="6110" y="415"/>
                </a:lnTo>
                <a:lnTo>
                  <a:pt x="6101" y="442"/>
                </a:lnTo>
                <a:lnTo>
                  <a:pt x="6088" y="454"/>
                </a:lnTo>
                <a:lnTo>
                  <a:pt x="6084" y="457"/>
                </a:lnTo>
                <a:lnTo>
                  <a:pt x="6078" y="461"/>
                </a:lnTo>
                <a:lnTo>
                  <a:pt x="6072" y="467"/>
                </a:lnTo>
                <a:lnTo>
                  <a:pt x="6065" y="478"/>
                </a:lnTo>
                <a:lnTo>
                  <a:pt x="6058" y="486"/>
                </a:lnTo>
                <a:lnTo>
                  <a:pt x="6049" y="494"/>
                </a:lnTo>
                <a:lnTo>
                  <a:pt x="6045" y="503"/>
                </a:lnTo>
                <a:lnTo>
                  <a:pt x="6043" y="512"/>
                </a:lnTo>
                <a:lnTo>
                  <a:pt x="6042" y="522"/>
                </a:lnTo>
                <a:lnTo>
                  <a:pt x="6043" y="532"/>
                </a:lnTo>
                <a:lnTo>
                  <a:pt x="6047" y="552"/>
                </a:lnTo>
                <a:lnTo>
                  <a:pt x="6050" y="574"/>
                </a:lnTo>
                <a:lnTo>
                  <a:pt x="6049" y="594"/>
                </a:lnTo>
                <a:lnTo>
                  <a:pt x="6046" y="603"/>
                </a:lnTo>
                <a:lnTo>
                  <a:pt x="6050" y="603"/>
                </a:lnTo>
                <a:lnTo>
                  <a:pt x="6055" y="603"/>
                </a:lnTo>
                <a:lnTo>
                  <a:pt x="6061" y="603"/>
                </a:lnTo>
                <a:lnTo>
                  <a:pt x="6063" y="603"/>
                </a:lnTo>
                <a:lnTo>
                  <a:pt x="6059" y="605"/>
                </a:lnTo>
                <a:lnTo>
                  <a:pt x="6052" y="609"/>
                </a:lnTo>
                <a:lnTo>
                  <a:pt x="6046" y="615"/>
                </a:lnTo>
                <a:lnTo>
                  <a:pt x="6037" y="623"/>
                </a:lnTo>
                <a:lnTo>
                  <a:pt x="6030" y="626"/>
                </a:lnTo>
                <a:lnTo>
                  <a:pt x="6014" y="628"/>
                </a:lnTo>
                <a:lnTo>
                  <a:pt x="5985" y="632"/>
                </a:lnTo>
                <a:lnTo>
                  <a:pt x="5958" y="642"/>
                </a:lnTo>
                <a:lnTo>
                  <a:pt x="5908" y="667"/>
                </a:lnTo>
                <a:lnTo>
                  <a:pt x="5871" y="686"/>
                </a:lnTo>
                <a:lnTo>
                  <a:pt x="5858" y="690"/>
                </a:lnTo>
                <a:lnTo>
                  <a:pt x="5845" y="691"/>
                </a:lnTo>
                <a:lnTo>
                  <a:pt x="5833" y="691"/>
                </a:lnTo>
                <a:lnTo>
                  <a:pt x="5807" y="684"/>
                </a:lnTo>
                <a:lnTo>
                  <a:pt x="5782" y="673"/>
                </a:lnTo>
                <a:lnTo>
                  <a:pt x="5730" y="652"/>
                </a:lnTo>
                <a:lnTo>
                  <a:pt x="5717" y="648"/>
                </a:lnTo>
                <a:lnTo>
                  <a:pt x="5711" y="647"/>
                </a:lnTo>
                <a:lnTo>
                  <a:pt x="5698" y="639"/>
                </a:lnTo>
                <a:lnTo>
                  <a:pt x="5688" y="635"/>
                </a:lnTo>
                <a:lnTo>
                  <a:pt x="5688" y="634"/>
                </a:lnTo>
                <a:lnTo>
                  <a:pt x="5691" y="641"/>
                </a:lnTo>
                <a:lnTo>
                  <a:pt x="5695" y="652"/>
                </a:lnTo>
                <a:lnTo>
                  <a:pt x="5697" y="662"/>
                </a:lnTo>
                <a:lnTo>
                  <a:pt x="5695" y="671"/>
                </a:lnTo>
                <a:lnTo>
                  <a:pt x="5694" y="678"/>
                </a:lnTo>
                <a:lnTo>
                  <a:pt x="5690" y="687"/>
                </a:lnTo>
                <a:lnTo>
                  <a:pt x="5688" y="690"/>
                </a:lnTo>
                <a:lnTo>
                  <a:pt x="5681" y="705"/>
                </a:lnTo>
                <a:lnTo>
                  <a:pt x="5666" y="731"/>
                </a:lnTo>
                <a:lnTo>
                  <a:pt x="5635" y="781"/>
                </a:lnTo>
                <a:lnTo>
                  <a:pt x="5603" y="833"/>
                </a:lnTo>
                <a:lnTo>
                  <a:pt x="5597" y="847"/>
                </a:lnTo>
                <a:lnTo>
                  <a:pt x="5595" y="851"/>
                </a:lnTo>
                <a:lnTo>
                  <a:pt x="5594" y="855"/>
                </a:lnTo>
                <a:lnTo>
                  <a:pt x="5595" y="864"/>
                </a:lnTo>
                <a:lnTo>
                  <a:pt x="5597" y="873"/>
                </a:lnTo>
                <a:lnTo>
                  <a:pt x="5603" y="890"/>
                </a:lnTo>
                <a:lnTo>
                  <a:pt x="5604" y="899"/>
                </a:lnTo>
                <a:lnTo>
                  <a:pt x="5597" y="900"/>
                </a:lnTo>
                <a:lnTo>
                  <a:pt x="5585" y="902"/>
                </a:lnTo>
                <a:lnTo>
                  <a:pt x="5562" y="909"/>
                </a:lnTo>
                <a:lnTo>
                  <a:pt x="5545" y="919"/>
                </a:lnTo>
                <a:lnTo>
                  <a:pt x="5542" y="920"/>
                </a:lnTo>
                <a:lnTo>
                  <a:pt x="5536" y="928"/>
                </a:lnTo>
                <a:lnTo>
                  <a:pt x="5535" y="935"/>
                </a:lnTo>
                <a:lnTo>
                  <a:pt x="5533" y="944"/>
                </a:lnTo>
                <a:lnTo>
                  <a:pt x="5533" y="952"/>
                </a:lnTo>
                <a:lnTo>
                  <a:pt x="5536" y="960"/>
                </a:lnTo>
                <a:lnTo>
                  <a:pt x="5543" y="977"/>
                </a:lnTo>
                <a:lnTo>
                  <a:pt x="5555" y="989"/>
                </a:lnTo>
                <a:lnTo>
                  <a:pt x="5571" y="996"/>
                </a:lnTo>
                <a:lnTo>
                  <a:pt x="5579" y="996"/>
                </a:lnTo>
                <a:lnTo>
                  <a:pt x="5582" y="996"/>
                </a:lnTo>
                <a:lnTo>
                  <a:pt x="5587" y="996"/>
                </a:lnTo>
                <a:lnTo>
                  <a:pt x="5595" y="993"/>
                </a:lnTo>
                <a:lnTo>
                  <a:pt x="5613" y="986"/>
                </a:lnTo>
                <a:lnTo>
                  <a:pt x="5630" y="981"/>
                </a:lnTo>
                <a:lnTo>
                  <a:pt x="5640" y="983"/>
                </a:lnTo>
                <a:lnTo>
                  <a:pt x="5661" y="983"/>
                </a:lnTo>
                <a:lnTo>
                  <a:pt x="5701" y="984"/>
                </a:lnTo>
                <a:lnTo>
                  <a:pt x="5739" y="993"/>
                </a:lnTo>
                <a:lnTo>
                  <a:pt x="5749" y="997"/>
                </a:lnTo>
                <a:lnTo>
                  <a:pt x="5750" y="999"/>
                </a:lnTo>
                <a:lnTo>
                  <a:pt x="5753" y="1002"/>
                </a:lnTo>
                <a:lnTo>
                  <a:pt x="5759" y="1006"/>
                </a:lnTo>
                <a:lnTo>
                  <a:pt x="5766" y="1010"/>
                </a:lnTo>
                <a:lnTo>
                  <a:pt x="5769" y="1010"/>
                </a:lnTo>
                <a:lnTo>
                  <a:pt x="5777" y="1012"/>
                </a:lnTo>
                <a:lnTo>
                  <a:pt x="5791" y="1010"/>
                </a:lnTo>
                <a:lnTo>
                  <a:pt x="5804" y="1004"/>
                </a:lnTo>
                <a:lnTo>
                  <a:pt x="5817" y="997"/>
                </a:lnTo>
                <a:lnTo>
                  <a:pt x="5842" y="981"/>
                </a:lnTo>
                <a:lnTo>
                  <a:pt x="5849" y="978"/>
                </a:lnTo>
                <a:lnTo>
                  <a:pt x="5865" y="973"/>
                </a:lnTo>
                <a:lnTo>
                  <a:pt x="5900" y="968"/>
                </a:lnTo>
                <a:lnTo>
                  <a:pt x="5933" y="974"/>
                </a:lnTo>
                <a:lnTo>
                  <a:pt x="5965" y="987"/>
                </a:lnTo>
                <a:lnTo>
                  <a:pt x="5994" y="1007"/>
                </a:lnTo>
                <a:lnTo>
                  <a:pt x="6020" y="1035"/>
                </a:lnTo>
                <a:lnTo>
                  <a:pt x="6033" y="1051"/>
                </a:lnTo>
                <a:lnTo>
                  <a:pt x="6034" y="1055"/>
                </a:lnTo>
                <a:lnTo>
                  <a:pt x="6043" y="1061"/>
                </a:lnTo>
                <a:lnTo>
                  <a:pt x="6052" y="1067"/>
                </a:lnTo>
                <a:lnTo>
                  <a:pt x="6072" y="1077"/>
                </a:lnTo>
                <a:lnTo>
                  <a:pt x="6088" y="1084"/>
                </a:lnTo>
                <a:lnTo>
                  <a:pt x="6094" y="1088"/>
                </a:lnTo>
                <a:lnTo>
                  <a:pt x="6104" y="1097"/>
                </a:lnTo>
                <a:lnTo>
                  <a:pt x="6114" y="1109"/>
                </a:lnTo>
                <a:lnTo>
                  <a:pt x="6120" y="1122"/>
                </a:lnTo>
                <a:lnTo>
                  <a:pt x="6123" y="1136"/>
                </a:lnTo>
                <a:lnTo>
                  <a:pt x="6121" y="1151"/>
                </a:lnTo>
                <a:lnTo>
                  <a:pt x="6120" y="1157"/>
                </a:lnTo>
                <a:lnTo>
                  <a:pt x="6118" y="1159"/>
                </a:lnTo>
                <a:lnTo>
                  <a:pt x="6116" y="1164"/>
                </a:lnTo>
                <a:lnTo>
                  <a:pt x="6110" y="1175"/>
                </a:lnTo>
                <a:lnTo>
                  <a:pt x="6105" y="1180"/>
                </a:lnTo>
                <a:lnTo>
                  <a:pt x="6101" y="1183"/>
                </a:lnTo>
                <a:lnTo>
                  <a:pt x="6098" y="1183"/>
                </a:lnTo>
                <a:lnTo>
                  <a:pt x="6088" y="1184"/>
                </a:lnTo>
                <a:lnTo>
                  <a:pt x="6071" y="1184"/>
                </a:lnTo>
                <a:lnTo>
                  <a:pt x="6034" y="1183"/>
                </a:lnTo>
                <a:lnTo>
                  <a:pt x="6000" y="1175"/>
                </a:lnTo>
                <a:lnTo>
                  <a:pt x="5992" y="1171"/>
                </a:lnTo>
                <a:lnTo>
                  <a:pt x="5976" y="1167"/>
                </a:lnTo>
                <a:lnTo>
                  <a:pt x="5962" y="1164"/>
                </a:lnTo>
                <a:lnTo>
                  <a:pt x="5933" y="1165"/>
                </a:lnTo>
                <a:lnTo>
                  <a:pt x="5904" y="1174"/>
                </a:lnTo>
                <a:lnTo>
                  <a:pt x="5843" y="1193"/>
                </a:lnTo>
                <a:lnTo>
                  <a:pt x="5813" y="1197"/>
                </a:lnTo>
                <a:lnTo>
                  <a:pt x="5808" y="1199"/>
                </a:lnTo>
                <a:lnTo>
                  <a:pt x="5804" y="1200"/>
                </a:lnTo>
                <a:lnTo>
                  <a:pt x="5801" y="1203"/>
                </a:lnTo>
                <a:lnTo>
                  <a:pt x="5794" y="1209"/>
                </a:lnTo>
                <a:lnTo>
                  <a:pt x="5787" y="1217"/>
                </a:lnTo>
                <a:lnTo>
                  <a:pt x="5772" y="1232"/>
                </a:lnTo>
                <a:lnTo>
                  <a:pt x="5769" y="1233"/>
                </a:lnTo>
                <a:lnTo>
                  <a:pt x="5765" y="1236"/>
                </a:lnTo>
                <a:lnTo>
                  <a:pt x="5761" y="1236"/>
                </a:lnTo>
                <a:lnTo>
                  <a:pt x="5752" y="1238"/>
                </a:lnTo>
                <a:lnTo>
                  <a:pt x="5743" y="1236"/>
                </a:lnTo>
                <a:lnTo>
                  <a:pt x="5726" y="1235"/>
                </a:lnTo>
                <a:lnTo>
                  <a:pt x="5719" y="1236"/>
                </a:lnTo>
                <a:lnTo>
                  <a:pt x="5703" y="1245"/>
                </a:lnTo>
                <a:lnTo>
                  <a:pt x="5679" y="1267"/>
                </a:lnTo>
                <a:lnTo>
                  <a:pt x="5662" y="1291"/>
                </a:lnTo>
                <a:lnTo>
                  <a:pt x="5646" y="1319"/>
                </a:lnTo>
                <a:lnTo>
                  <a:pt x="5613" y="1368"/>
                </a:lnTo>
                <a:lnTo>
                  <a:pt x="5603" y="1378"/>
                </a:lnTo>
                <a:lnTo>
                  <a:pt x="5591" y="1386"/>
                </a:lnTo>
                <a:lnTo>
                  <a:pt x="5578" y="1391"/>
                </a:lnTo>
                <a:lnTo>
                  <a:pt x="5553" y="1396"/>
                </a:lnTo>
                <a:lnTo>
                  <a:pt x="5527" y="1394"/>
                </a:lnTo>
                <a:lnTo>
                  <a:pt x="5475" y="1391"/>
                </a:lnTo>
                <a:lnTo>
                  <a:pt x="5451" y="1394"/>
                </a:lnTo>
                <a:lnTo>
                  <a:pt x="5442" y="1397"/>
                </a:lnTo>
                <a:lnTo>
                  <a:pt x="5429" y="1404"/>
                </a:lnTo>
                <a:lnTo>
                  <a:pt x="5417" y="1415"/>
                </a:lnTo>
                <a:lnTo>
                  <a:pt x="5397" y="1438"/>
                </a:lnTo>
                <a:lnTo>
                  <a:pt x="5382" y="1457"/>
                </a:lnTo>
                <a:lnTo>
                  <a:pt x="5374" y="1467"/>
                </a:lnTo>
                <a:lnTo>
                  <a:pt x="5353" y="1483"/>
                </a:lnTo>
                <a:lnTo>
                  <a:pt x="5329" y="1493"/>
                </a:lnTo>
                <a:lnTo>
                  <a:pt x="5303" y="1499"/>
                </a:lnTo>
                <a:lnTo>
                  <a:pt x="5275" y="1500"/>
                </a:lnTo>
                <a:lnTo>
                  <a:pt x="5248" y="1497"/>
                </a:lnTo>
                <a:lnTo>
                  <a:pt x="5235" y="1494"/>
                </a:lnTo>
                <a:lnTo>
                  <a:pt x="5220" y="1491"/>
                </a:lnTo>
                <a:lnTo>
                  <a:pt x="5194" y="1481"/>
                </a:lnTo>
                <a:lnTo>
                  <a:pt x="5142" y="1459"/>
                </a:lnTo>
                <a:lnTo>
                  <a:pt x="5116" y="1455"/>
                </a:lnTo>
                <a:lnTo>
                  <a:pt x="5091" y="1455"/>
                </a:lnTo>
                <a:lnTo>
                  <a:pt x="5080" y="1458"/>
                </a:lnTo>
                <a:lnTo>
                  <a:pt x="5067" y="1464"/>
                </a:lnTo>
                <a:lnTo>
                  <a:pt x="5045" y="1480"/>
                </a:lnTo>
                <a:lnTo>
                  <a:pt x="5026" y="1500"/>
                </a:lnTo>
                <a:lnTo>
                  <a:pt x="5013" y="1525"/>
                </a:lnTo>
                <a:lnTo>
                  <a:pt x="5009" y="1551"/>
                </a:lnTo>
                <a:lnTo>
                  <a:pt x="5013" y="1575"/>
                </a:lnTo>
                <a:lnTo>
                  <a:pt x="5022" y="1587"/>
                </a:lnTo>
                <a:lnTo>
                  <a:pt x="5027" y="1596"/>
                </a:lnTo>
                <a:lnTo>
                  <a:pt x="5043" y="1612"/>
                </a:lnTo>
                <a:lnTo>
                  <a:pt x="5075" y="1642"/>
                </a:lnTo>
                <a:lnTo>
                  <a:pt x="5084" y="1658"/>
                </a:lnTo>
                <a:lnTo>
                  <a:pt x="5085" y="1665"/>
                </a:lnTo>
                <a:lnTo>
                  <a:pt x="5084" y="1672"/>
                </a:lnTo>
                <a:lnTo>
                  <a:pt x="5080" y="1680"/>
                </a:lnTo>
                <a:lnTo>
                  <a:pt x="5080" y="1680"/>
                </a:lnTo>
                <a:lnTo>
                  <a:pt x="5071" y="1688"/>
                </a:lnTo>
                <a:lnTo>
                  <a:pt x="5051" y="1701"/>
                </a:lnTo>
                <a:lnTo>
                  <a:pt x="5027" y="1710"/>
                </a:lnTo>
                <a:lnTo>
                  <a:pt x="4978" y="1728"/>
                </a:lnTo>
                <a:lnTo>
                  <a:pt x="4943" y="1743"/>
                </a:lnTo>
                <a:lnTo>
                  <a:pt x="4930" y="1754"/>
                </a:lnTo>
                <a:lnTo>
                  <a:pt x="4906" y="1774"/>
                </a:lnTo>
                <a:lnTo>
                  <a:pt x="4862" y="1819"/>
                </a:lnTo>
                <a:lnTo>
                  <a:pt x="4817" y="1854"/>
                </a:lnTo>
                <a:lnTo>
                  <a:pt x="4806" y="1858"/>
                </a:lnTo>
                <a:lnTo>
                  <a:pt x="4768" y="1871"/>
                </a:lnTo>
                <a:lnTo>
                  <a:pt x="4690" y="1883"/>
                </a:lnTo>
                <a:lnTo>
                  <a:pt x="4612" y="1885"/>
                </a:lnTo>
                <a:lnTo>
                  <a:pt x="4452" y="1887"/>
                </a:lnTo>
                <a:lnTo>
                  <a:pt x="4336" y="1910"/>
                </a:lnTo>
                <a:lnTo>
                  <a:pt x="4322" y="1916"/>
                </a:lnTo>
                <a:lnTo>
                  <a:pt x="4297" y="1932"/>
                </a:lnTo>
                <a:lnTo>
                  <a:pt x="4274" y="1952"/>
                </a:lnTo>
                <a:lnTo>
                  <a:pt x="4223" y="1988"/>
                </a:lnTo>
                <a:lnTo>
                  <a:pt x="4178" y="1996"/>
                </a:lnTo>
                <a:lnTo>
                  <a:pt x="4171" y="1996"/>
                </a:lnTo>
                <a:lnTo>
                  <a:pt x="4160" y="1991"/>
                </a:lnTo>
                <a:lnTo>
                  <a:pt x="4134" y="1983"/>
                </a:lnTo>
                <a:lnTo>
                  <a:pt x="4121" y="1981"/>
                </a:lnTo>
                <a:lnTo>
                  <a:pt x="4106" y="1983"/>
                </a:lnTo>
                <a:lnTo>
                  <a:pt x="4099" y="1985"/>
                </a:lnTo>
                <a:lnTo>
                  <a:pt x="4096" y="1987"/>
                </a:lnTo>
                <a:lnTo>
                  <a:pt x="4094" y="1987"/>
                </a:lnTo>
                <a:lnTo>
                  <a:pt x="4093" y="1985"/>
                </a:lnTo>
                <a:lnTo>
                  <a:pt x="4093" y="1983"/>
                </a:lnTo>
                <a:lnTo>
                  <a:pt x="4090" y="1974"/>
                </a:lnTo>
                <a:lnTo>
                  <a:pt x="4084" y="1965"/>
                </a:lnTo>
                <a:lnTo>
                  <a:pt x="4083" y="1964"/>
                </a:lnTo>
                <a:lnTo>
                  <a:pt x="4052" y="1964"/>
                </a:lnTo>
                <a:lnTo>
                  <a:pt x="3993" y="1959"/>
                </a:lnTo>
                <a:lnTo>
                  <a:pt x="3876" y="1935"/>
                </a:lnTo>
                <a:lnTo>
                  <a:pt x="3763" y="1891"/>
                </a:lnTo>
                <a:lnTo>
                  <a:pt x="3737" y="1877"/>
                </a:lnTo>
                <a:lnTo>
                  <a:pt x="3721" y="1871"/>
                </a:lnTo>
                <a:lnTo>
                  <a:pt x="3692" y="1858"/>
                </a:lnTo>
                <a:lnTo>
                  <a:pt x="3631" y="1842"/>
                </a:lnTo>
                <a:lnTo>
                  <a:pt x="3570" y="1838"/>
                </a:lnTo>
                <a:lnTo>
                  <a:pt x="3555" y="1839"/>
                </a:lnTo>
                <a:lnTo>
                  <a:pt x="3499" y="1846"/>
                </a:lnTo>
                <a:lnTo>
                  <a:pt x="3379" y="1859"/>
                </a:lnTo>
                <a:lnTo>
                  <a:pt x="3140" y="1843"/>
                </a:lnTo>
                <a:lnTo>
                  <a:pt x="3040" y="1797"/>
                </a:lnTo>
                <a:lnTo>
                  <a:pt x="2961" y="1713"/>
                </a:lnTo>
                <a:lnTo>
                  <a:pt x="2935" y="1654"/>
                </a:lnTo>
                <a:lnTo>
                  <a:pt x="2932" y="1648"/>
                </a:lnTo>
                <a:lnTo>
                  <a:pt x="2925" y="1635"/>
                </a:lnTo>
                <a:lnTo>
                  <a:pt x="2908" y="1609"/>
                </a:lnTo>
                <a:lnTo>
                  <a:pt x="2885" y="1590"/>
                </a:lnTo>
                <a:lnTo>
                  <a:pt x="2879" y="1585"/>
                </a:lnTo>
                <a:lnTo>
                  <a:pt x="2867" y="1581"/>
                </a:lnTo>
                <a:lnTo>
                  <a:pt x="2847" y="1574"/>
                </a:lnTo>
                <a:lnTo>
                  <a:pt x="2805" y="1559"/>
                </a:lnTo>
                <a:lnTo>
                  <a:pt x="2763" y="1546"/>
                </a:lnTo>
                <a:lnTo>
                  <a:pt x="2753" y="1542"/>
                </a:lnTo>
                <a:lnTo>
                  <a:pt x="2741" y="1539"/>
                </a:lnTo>
                <a:lnTo>
                  <a:pt x="2722" y="1529"/>
                </a:lnTo>
                <a:lnTo>
                  <a:pt x="2705" y="1514"/>
                </a:lnTo>
                <a:lnTo>
                  <a:pt x="2669" y="1486"/>
                </a:lnTo>
                <a:lnTo>
                  <a:pt x="2638" y="1471"/>
                </a:lnTo>
                <a:lnTo>
                  <a:pt x="2611" y="1467"/>
                </a:lnTo>
                <a:lnTo>
                  <a:pt x="2556" y="1459"/>
                </a:lnTo>
                <a:lnTo>
                  <a:pt x="2450" y="1457"/>
                </a:lnTo>
                <a:lnTo>
                  <a:pt x="2344" y="1442"/>
                </a:lnTo>
                <a:lnTo>
                  <a:pt x="2320" y="1433"/>
                </a:lnTo>
                <a:lnTo>
                  <a:pt x="2312" y="1430"/>
                </a:lnTo>
                <a:lnTo>
                  <a:pt x="2301" y="1423"/>
                </a:lnTo>
                <a:lnTo>
                  <a:pt x="2294" y="1412"/>
                </a:lnTo>
                <a:lnTo>
                  <a:pt x="2286" y="1399"/>
                </a:lnTo>
                <a:lnTo>
                  <a:pt x="2278" y="1371"/>
                </a:lnTo>
                <a:lnTo>
                  <a:pt x="2276" y="1364"/>
                </a:lnTo>
                <a:lnTo>
                  <a:pt x="2273" y="1354"/>
                </a:lnTo>
                <a:lnTo>
                  <a:pt x="2276" y="1344"/>
                </a:lnTo>
                <a:lnTo>
                  <a:pt x="2280" y="1335"/>
                </a:lnTo>
                <a:lnTo>
                  <a:pt x="2286" y="1326"/>
                </a:lnTo>
                <a:lnTo>
                  <a:pt x="2294" y="1317"/>
                </a:lnTo>
                <a:lnTo>
                  <a:pt x="2311" y="1303"/>
                </a:lnTo>
                <a:lnTo>
                  <a:pt x="2327" y="1288"/>
                </a:lnTo>
                <a:lnTo>
                  <a:pt x="2333" y="1281"/>
                </a:lnTo>
                <a:lnTo>
                  <a:pt x="2336" y="1273"/>
                </a:lnTo>
                <a:lnTo>
                  <a:pt x="2337" y="1264"/>
                </a:lnTo>
                <a:lnTo>
                  <a:pt x="2337" y="1264"/>
                </a:lnTo>
                <a:lnTo>
                  <a:pt x="2334" y="1255"/>
                </a:lnTo>
                <a:lnTo>
                  <a:pt x="2336" y="1235"/>
                </a:lnTo>
                <a:lnTo>
                  <a:pt x="2337" y="1216"/>
                </a:lnTo>
                <a:lnTo>
                  <a:pt x="2341" y="1183"/>
                </a:lnTo>
                <a:lnTo>
                  <a:pt x="2337" y="1164"/>
                </a:lnTo>
                <a:lnTo>
                  <a:pt x="2327" y="1154"/>
                </a:lnTo>
                <a:lnTo>
                  <a:pt x="2309" y="1131"/>
                </a:lnTo>
                <a:lnTo>
                  <a:pt x="2282" y="1077"/>
                </a:lnTo>
                <a:lnTo>
                  <a:pt x="2254" y="1026"/>
                </a:lnTo>
                <a:lnTo>
                  <a:pt x="2247" y="1013"/>
                </a:lnTo>
                <a:lnTo>
                  <a:pt x="2234" y="1000"/>
                </a:lnTo>
                <a:lnTo>
                  <a:pt x="2221" y="989"/>
                </a:lnTo>
                <a:lnTo>
                  <a:pt x="2208" y="981"/>
                </a:lnTo>
                <a:lnTo>
                  <a:pt x="2194" y="975"/>
                </a:lnTo>
                <a:lnTo>
                  <a:pt x="2163" y="971"/>
                </a:lnTo>
                <a:lnTo>
                  <a:pt x="2131" y="970"/>
                </a:lnTo>
                <a:lnTo>
                  <a:pt x="2069" y="957"/>
                </a:lnTo>
                <a:lnTo>
                  <a:pt x="2069" y="957"/>
                </a:lnTo>
                <a:lnTo>
                  <a:pt x="2054" y="951"/>
                </a:lnTo>
                <a:lnTo>
                  <a:pt x="2028" y="933"/>
                </a:lnTo>
                <a:lnTo>
                  <a:pt x="1979" y="896"/>
                </a:lnTo>
                <a:lnTo>
                  <a:pt x="1931" y="857"/>
                </a:lnTo>
                <a:lnTo>
                  <a:pt x="1920" y="847"/>
                </a:lnTo>
                <a:lnTo>
                  <a:pt x="1927" y="844"/>
                </a:lnTo>
                <a:lnTo>
                  <a:pt x="1931" y="842"/>
                </a:lnTo>
                <a:lnTo>
                  <a:pt x="1936" y="841"/>
                </a:lnTo>
                <a:lnTo>
                  <a:pt x="1937" y="838"/>
                </a:lnTo>
                <a:lnTo>
                  <a:pt x="1937" y="833"/>
                </a:lnTo>
                <a:lnTo>
                  <a:pt x="1936" y="831"/>
                </a:lnTo>
                <a:lnTo>
                  <a:pt x="1933" y="829"/>
                </a:lnTo>
                <a:lnTo>
                  <a:pt x="1930" y="826"/>
                </a:lnTo>
                <a:lnTo>
                  <a:pt x="1921" y="819"/>
                </a:lnTo>
                <a:lnTo>
                  <a:pt x="1915" y="813"/>
                </a:lnTo>
                <a:lnTo>
                  <a:pt x="1915" y="812"/>
                </a:lnTo>
                <a:lnTo>
                  <a:pt x="1915" y="806"/>
                </a:lnTo>
                <a:lnTo>
                  <a:pt x="1920" y="784"/>
                </a:lnTo>
                <a:lnTo>
                  <a:pt x="1921" y="768"/>
                </a:lnTo>
                <a:lnTo>
                  <a:pt x="1923" y="767"/>
                </a:lnTo>
                <a:lnTo>
                  <a:pt x="1914" y="761"/>
                </a:lnTo>
                <a:lnTo>
                  <a:pt x="1905" y="758"/>
                </a:lnTo>
                <a:lnTo>
                  <a:pt x="1898" y="757"/>
                </a:lnTo>
                <a:lnTo>
                  <a:pt x="1891" y="758"/>
                </a:lnTo>
                <a:lnTo>
                  <a:pt x="1885" y="761"/>
                </a:lnTo>
                <a:lnTo>
                  <a:pt x="1878" y="765"/>
                </a:lnTo>
                <a:lnTo>
                  <a:pt x="1865" y="773"/>
                </a:lnTo>
                <a:lnTo>
                  <a:pt x="1852" y="777"/>
                </a:lnTo>
                <a:lnTo>
                  <a:pt x="1844" y="777"/>
                </a:lnTo>
                <a:lnTo>
                  <a:pt x="1837" y="773"/>
                </a:lnTo>
                <a:lnTo>
                  <a:pt x="1837" y="773"/>
                </a:lnTo>
                <a:lnTo>
                  <a:pt x="1837" y="773"/>
                </a:lnTo>
                <a:close/>
              </a:path>
            </a:pathLst>
          </a:custGeom>
          <a:noFill/>
          <a:ln w="4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08480" y="2843280"/>
            <a:ext cx="404640" cy="279360"/>
          </a:xfrm>
          <a:custGeom>
            <a:avLst/>
            <a:gdLst/>
            <a:ahLst/>
            <a:rect l="l" t="t" r="r" b="b"/>
            <a:pathLst>
              <a:path w="1408" h="1023">
                <a:moveTo>
                  <a:pt x="390" y="852"/>
                </a:moveTo>
                <a:lnTo>
                  <a:pt x="385" y="855"/>
                </a:lnTo>
                <a:lnTo>
                  <a:pt x="381" y="857"/>
                </a:lnTo>
                <a:lnTo>
                  <a:pt x="377" y="862"/>
                </a:lnTo>
                <a:lnTo>
                  <a:pt x="368" y="873"/>
                </a:lnTo>
                <a:lnTo>
                  <a:pt x="348" y="894"/>
                </a:lnTo>
                <a:lnTo>
                  <a:pt x="327" y="898"/>
                </a:lnTo>
                <a:lnTo>
                  <a:pt x="327" y="901"/>
                </a:lnTo>
                <a:lnTo>
                  <a:pt x="327" y="904"/>
                </a:lnTo>
                <a:lnTo>
                  <a:pt x="327" y="911"/>
                </a:lnTo>
                <a:lnTo>
                  <a:pt x="327" y="914"/>
                </a:lnTo>
                <a:lnTo>
                  <a:pt x="327" y="914"/>
                </a:lnTo>
                <a:lnTo>
                  <a:pt x="323" y="917"/>
                </a:lnTo>
                <a:lnTo>
                  <a:pt x="319" y="917"/>
                </a:lnTo>
                <a:lnTo>
                  <a:pt x="316" y="917"/>
                </a:lnTo>
                <a:lnTo>
                  <a:pt x="311" y="915"/>
                </a:lnTo>
                <a:lnTo>
                  <a:pt x="304" y="913"/>
                </a:lnTo>
                <a:lnTo>
                  <a:pt x="298" y="908"/>
                </a:lnTo>
                <a:lnTo>
                  <a:pt x="291" y="905"/>
                </a:lnTo>
                <a:lnTo>
                  <a:pt x="285" y="902"/>
                </a:lnTo>
                <a:lnTo>
                  <a:pt x="285" y="902"/>
                </a:lnTo>
                <a:lnTo>
                  <a:pt x="272" y="904"/>
                </a:lnTo>
                <a:lnTo>
                  <a:pt x="249" y="907"/>
                </a:lnTo>
                <a:lnTo>
                  <a:pt x="206" y="914"/>
                </a:lnTo>
                <a:lnTo>
                  <a:pt x="158" y="914"/>
                </a:lnTo>
                <a:lnTo>
                  <a:pt x="146" y="911"/>
                </a:lnTo>
                <a:lnTo>
                  <a:pt x="142" y="911"/>
                </a:lnTo>
                <a:lnTo>
                  <a:pt x="139" y="913"/>
                </a:lnTo>
                <a:lnTo>
                  <a:pt x="139" y="915"/>
                </a:lnTo>
                <a:lnTo>
                  <a:pt x="137" y="920"/>
                </a:lnTo>
                <a:lnTo>
                  <a:pt x="139" y="924"/>
                </a:lnTo>
                <a:lnTo>
                  <a:pt x="139" y="936"/>
                </a:lnTo>
                <a:lnTo>
                  <a:pt x="136" y="944"/>
                </a:lnTo>
                <a:lnTo>
                  <a:pt x="127" y="950"/>
                </a:lnTo>
                <a:lnTo>
                  <a:pt x="122" y="950"/>
                </a:lnTo>
                <a:lnTo>
                  <a:pt x="123" y="956"/>
                </a:lnTo>
                <a:lnTo>
                  <a:pt x="127" y="966"/>
                </a:lnTo>
                <a:lnTo>
                  <a:pt x="139" y="982"/>
                </a:lnTo>
                <a:lnTo>
                  <a:pt x="146" y="986"/>
                </a:lnTo>
                <a:lnTo>
                  <a:pt x="156" y="988"/>
                </a:lnTo>
                <a:lnTo>
                  <a:pt x="164" y="985"/>
                </a:lnTo>
                <a:lnTo>
                  <a:pt x="164" y="988"/>
                </a:lnTo>
                <a:lnTo>
                  <a:pt x="164" y="992"/>
                </a:lnTo>
                <a:lnTo>
                  <a:pt x="164" y="995"/>
                </a:lnTo>
                <a:lnTo>
                  <a:pt x="161" y="998"/>
                </a:lnTo>
                <a:lnTo>
                  <a:pt x="159" y="999"/>
                </a:lnTo>
                <a:lnTo>
                  <a:pt x="156" y="1001"/>
                </a:lnTo>
                <a:lnTo>
                  <a:pt x="155" y="1001"/>
                </a:lnTo>
                <a:lnTo>
                  <a:pt x="152" y="1002"/>
                </a:lnTo>
                <a:lnTo>
                  <a:pt x="148" y="1004"/>
                </a:lnTo>
                <a:lnTo>
                  <a:pt x="137" y="1004"/>
                </a:lnTo>
                <a:lnTo>
                  <a:pt x="132" y="1002"/>
                </a:lnTo>
                <a:lnTo>
                  <a:pt x="132" y="1001"/>
                </a:lnTo>
                <a:lnTo>
                  <a:pt x="124" y="989"/>
                </a:lnTo>
                <a:lnTo>
                  <a:pt x="116" y="981"/>
                </a:lnTo>
                <a:lnTo>
                  <a:pt x="106" y="975"/>
                </a:lnTo>
                <a:lnTo>
                  <a:pt x="94" y="972"/>
                </a:lnTo>
                <a:lnTo>
                  <a:pt x="82" y="971"/>
                </a:lnTo>
                <a:lnTo>
                  <a:pt x="58" y="971"/>
                </a:lnTo>
                <a:lnTo>
                  <a:pt x="33" y="972"/>
                </a:lnTo>
                <a:lnTo>
                  <a:pt x="13" y="968"/>
                </a:lnTo>
                <a:lnTo>
                  <a:pt x="6" y="962"/>
                </a:lnTo>
                <a:lnTo>
                  <a:pt x="1" y="956"/>
                </a:lnTo>
                <a:lnTo>
                  <a:pt x="0" y="949"/>
                </a:lnTo>
                <a:lnTo>
                  <a:pt x="0" y="942"/>
                </a:lnTo>
                <a:lnTo>
                  <a:pt x="3" y="934"/>
                </a:lnTo>
                <a:lnTo>
                  <a:pt x="7" y="927"/>
                </a:lnTo>
                <a:lnTo>
                  <a:pt x="13" y="921"/>
                </a:lnTo>
                <a:lnTo>
                  <a:pt x="20" y="917"/>
                </a:lnTo>
                <a:lnTo>
                  <a:pt x="29" y="913"/>
                </a:lnTo>
                <a:lnTo>
                  <a:pt x="39" y="910"/>
                </a:lnTo>
                <a:lnTo>
                  <a:pt x="48" y="910"/>
                </a:lnTo>
                <a:lnTo>
                  <a:pt x="58" y="911"/>
                </a:lnTo>
                <a:lnTo>
                  <a:pt x="68" y="915"/>
                </a:lnTo>
                <a:lnTo>
                  <a:pt x="69" y="915"/>
                </a:lnTo>
                <a:lnTo>
                  <a:pt x="72" y="917"/>
                </a:lnTo>
                <a:lnTo>
                  <a:pt x="78" y="917"/>
                </a:lnTo>
                <a:lnTo>
                  <a:pt x="84" y="914"/>
                </a:lnTo>
                <a:lnTo>
                  <a:pt x="90" y="911"/>
                </a:lnTo>
                <a:lnTo>
                  <a:pt x="104" y="900"/>
                </a:lnTo>
                <a:lnTo>
                  <a:pt x="137" y="875"/>
                </a:lnTo>
                <a:lnTo>
                  <a:pt x="155" y="862"/>
                </a:lnTo>
                <a:lnTo>
                  <a:pt x="155" y="859"/>
                </a:lnTo>
                <a:lnTo>
                  <a:pt x="155" y="857"/>
                </a:lnTo>
                <a:lnTo>
                  <a:pt x="155" y="853"/>
                </a:lnTo>
                <a:lnTo>
                  <a:pt x="155" y="849"/>
                </a:lnTo>
                <a:lnTo>
                  <a:pt x="156" y="847"/>
                </a:lnTo>
                <a:lnTo>
                  <a:pt x="161" y="847"/>
                </a:lnTo>
                <a:lnTo>
                  <a:pt x="165" y="846"/>
                </a:lnTo>
                <a:lnTo>
                  <a:pt x="177" y="847"/>
                </a:lnTo>
                <a:lnTo>
                  <a:pt x="198" y="847"/>
                </a:lnTo>
                <a:lnTo>
                  <a:pt x="211" y="836"/>
                </a:lnTo>
                <a:lnTo>
                  <a:pt x="217" y="823"/>
                </a:lnTo>
                <a:lnTo>
                  <a:pt x="224" y="810"/>
                </a:lnTo>
                <a:lnTo>
                  <a:pt x="245" y="791"/>
                </a:lnTo>
                <a:lnTo>
                  <a:pt x="269" y="776"/>
                </a:lnTo>
                <a:lnTo>
                  <a:pt x="295" y="765"/>
                </a:lnTo>
                <a:lnTo>
                  <a:pt x="348" y="739"/>
                </a:lnTo>
                <a:lnTo>
                  <a:pt x="349" y="739"/>
                </a:lnTo>
                <a:lnTo>
                  <a:pt x="352" y="739"/>
                </a:lnTo>
                <a:lnTo>
                  <a:pt x="356" y="737"/>
                </a:lnTo>
                <a:lnTo>
                  <a:pt x="361" y="739"/>
                </a:lnTo>
                <a:lnTo>
                  <a:pt x="365" y="740"/>
                </a:lnTo>
                <a:lnTo>
                  <a:pt x="375" y="746"/>
                </a:lnTo>
                <a:lnTo>
                  <a:pt x="382" y="755"/>
                </a:lnTo>
                <a:lnTo>
                  <a:pt x="387" y="765"/>
                </a:lnTo>
                <a:lnTo>
                  <a:pt x="387" y="776"/>
                </a:lnTo>
                <a:lnTo>
                  <a:pt x="387" y="776"/>
                </a:lnTo>
                <a:lnTo>
                  <a:pt x="403" y="778"/>
                </a:lnTo>
                <a:lnTo>
                  <a:pt x="432" y="772"/>
                </a:lnTo>
                <a:lnTo>
                  <a:pt x="459" y="759"/>
                </a:lnTo>
                <a:lnTo>
                  <a:pt x="484" y="742"/>
                </a:lnTo>
                <a:lnTo>
                  <a:pt x="537" y="707"/>
                </a:lnTo>
                <a:lnTo>
                  <a:pt x="552" y="700"/>
                </a:lnTo>
                <a:lnTo>
                  <a:pt x="552" y="704"/>
                </a:lnTo>
                <a:lnTo>
                  <a:pt x="550" y="708"/>
                </a:lnTo>
                <a:lnTo>
                  <a:pt x="549" y="715"/>
                </a:lnTo>
                <a:lnTo>
                  <a:pt x="546" y="724"/>
                </a:lnTo>
                <a:lnTo>
                  <a:pt x="543" y="731"/>
                </a:lnTo>
                <a:lnTo>
                  <a:pt x="542" y="736"/>
                </a:lnTo>
                <a:lnTo>
                  <a:pt x="543" y="737"/>
                </a:lnTo>
                <a:lnTo>
                  <a:pt x="545" y="737"/>
                </a:lnTo>
                <a:lnTo>
                  <a:pt x="552" y="740"/>
                </a:lnTo>
                <a:lnTo>
                  <a:pt x="568" y="742"/>
                </a:lnTo>
                <a:lnTo>
                  <a:pt x="585" y="740"/>
                </a:lnTo>
                <a:lnTo>
                  <a:pt x="620" y="731"/>
                </a:lnTo>
                <a:lnTo>
                  <a:pt x="645" y="723"/>
                </a:lnTo>
                <a:lnTo>
                  <a:pt x="647" y="721"/>
                </a:lnTo>
                <a:lnTo>
                  <a:pt x="650" y="718"/>
                </a:lnTo>
                <a:lnTo>
                  <a:pt x="653" y="715"/>
                </a:lnTo>
                <a:lnTo>
                  <a:pt x="653" y="711"/>
                </a:lnTo>
                <a:lnTo>
                  <a:pt x="655" y="707"/>
                </a:lnTo>
                <a:lnTo>
                  <a:pt x="655" y="697"/>
                </a:lnTo>
                <a:lnTo>
                  <a:pt x="653" y="688"/>
                </a:lnTo>
                <a:lnTo>
                  <a:pt x="655" y="681"/>
                </a:lnTo>
                <a:lnTo>
                  <a:pt x="658" y="676"/>
                </a:lnTo>
                <a:lnTo>
                  <a:pt x="665" y="668"/>
                </a:lnTo>
                <a:lnTo>
                  <a:pt x="681" y="655"/>
                </a:lnTo>
                <a:lnTo>
                  <a:pt x="698" y="643"/>
                </a:lnTo>
                <a:lnTo>
                  <a:pt x="730" y="620"/>
                </a:lnTo>
                <a:lnTo>
                  <a:pt x="747" y="595"/>
                </a:lnTo>
                <a:lnTo>
                  <a:pt x="749" y="589"/>
                </a:lnTo>
                <a:lnTo>
                  <a:pt x="750" y="582"/>
                </a:lnTo>
                <a:lnTo>
                  <a:pt x="749" y="568"/>
                </a:lnTo>
                <a:lnTo>
                  <a:pt x="746" y="552"/>
                </a:lnTo>
                <a:lnTo>
                  <a:pt x="739" y="524"/>
                </a:lnTo>
                <a:lnTo>
                  <a:pt x="740" y="511"/>
                </a:lnTo>
                <a:lnTo>
                  <a:pt x="740" y="507"/>
                </a:lnTo>
                <a:lnTo>
                  <a:pt x="746" y="497"/>
                </a:lnTo>
                <a:lnTo>
                  <a:pt x="752" y="485"/>
                </a:lnTo>
                <a:lnTo>
                  <a:pt x="769" y="463"/>
                </a:lnTo>
                <a:lnTo>
                  <a:pt x="785" y="449"/>
                </a:lnTo>
                <a:lnTo>
                  <a:pt x="785" y="456"/>
                </a:lnTo>
                <a:lnTo>
                  <a:pt x="784" y="471"/>
                </a:lnTo>
                <a:lnTo>
                  <a:pt x="778" y="500"/>
                </a:lnTo>
                <a:lnTo>
                  <a:pt x="775" y="529"/>
                </a:lnTo>
                <a:lnTo>
                  <a:pt x="776" y="536"/>
                </a:lnTo>
                <a:lnTo>
                  <a:pt x="778" y="536"/>
                </a:lnTo>
                <a:lnTo>
                  <a:pt x="781" y="536"/>
                </a:lnTo>
                <a:lnTo>
                  <a:pt x="784" y="536"/>
                </a:lnTo>
                <a:lnTo>
                  <a:pt x="785" y="537"/>
                </a:lnTo>
                <a:lnTo>
                  <a:pt x="787" y="539"/>
                </a:lnTo>
                <a:lnTo>
                  <a:pt x="791" y="542"/>
                </a:lnTo>
                <a:lnTo>
                  <a:pt x="800" y="546"/>
                </a:lnTo>
                <a:lnTo>
                  <a:pt x="802" y="544"/>
                </a:lnTo>
                <a:lnTo>
                  <a:pt x="801" y="549"/>
                </a:lnTo>
                <a:lnTo>
                  <a:pt x="801" y="556"/>
                </a:lnTo>
                <a:lnTo>
                  <a:pt x="801" y="571"/>
                </a:lnTo>
                <a:lnTo>
                  <a:pt x="802" y="584"/>
                </a:lnTo>
                <a:lnTo>
                  <a:pt x="804" y="587"/>
                </a:lnTo>
                <a:lnTo>
                  <a:pt x="807" y="588"/>
                </a:lnTo>
                <a:lnTo>
                  <a:pt x="808" y="588"/>
                </a:lnTo>
                <a:lnTo>
                  <a:pt x="811" y="588"/>
                </a:lnTo>
                <a:lnTo>
                  <a:pt x="817" y="588"/>
                </a:lnTo>
                <a:lnTo>
                  <a:pt x="820" y="587"/>
                </a:lnTo>
                <a:lnTo>
                  <a:pt x="818" y="581"/>
                </a:lnTo>
                <a:lnTo>
                  <a:pt x="820" y="569"/>
                </a:lnTo>
                <a:lnTo>
                  <a:pt x="824" y="558"/>
                </a:lnTo>
                <a:lnTo>
                  <a:pt x="830" y="547"/>
                </a:lnTo>
                <a:lnTo>
                  <a:pt x="836" y="540"/>
                </a:lnTo>
                <a:lnTo>
                  <a:pt x="843" y="534"/>
                </a:lnTo>
                <a:lnTo>
                  <a:pt x="847" y="531"/>
                </a:lnTo>
                <a:lnTo>
                  <a:pt x="865" y="523"/>
                </a:lnTo>
                <a:lnTo>
                  <a:pt x="901" y="504"/>
                </a:lnTo>
                <a:lnTo>
                  <a:pt x="972" y="462"/>
                </a:lnTo>
                <a:lnTo>
                  <a:pt x="1039" y="413"/>
                </a:lnTo>
                <a:lnTo>
                  <a:pt x="1056" y="400"/>
                </a:lnTo>
                <a:lnTo>
                  <a:pt x="1059" y="397"/>
                </a:lnTo>
                <a:lnTo>
                  <a:pt x="1069" y="391"/>
                </a:lnTo>
                <a:lnTo>
                  <a:pt x="1091" y="382"/>
                </a:lnTo>
                <a:lnTo>
                  <a:pt x="1115" y="379"/>
                </a:lnTo>
                <a:lnTo>
                  <a:pt x="1123" y="379"/>
                </a:lnTo>
                <a:lnTo>
                  <a:pt x="1123" y="374"/>
                </a:lnTo>
                <a:lnTo>
                  <a:pt x="1124" y="366"/>
                </a:lnTo>
                <a:lnTo>
                  <a:pt x="1127" y="362"/>
                </a:lnTo>
                <a:lnTo>
                  <a:pt x="1130" y="356"/>
                </a:lnTo>
                <a:lnTo>
                  <a:pt x="1139" y="347"/>
                </a:lnTo>
                <a:lnTo>
                  <a:pt x="1147" y="339"/>
                </a:lnTo>
                <a:lnTo>
                  <a:pt x="1153" y="330"/>
                </a:lnTo>
                <a:lnTo>
                  <a:pt x="1155" y="320"/>
                </a:lnTo>
                <a:lnTo>
                  <a:pt x="1155" y="320"/>
                </a:lnTo>
                <a:lnTo>
                  <a:pt x="1152" y="316"/>
                </a:lnTo>
                <a:lnTo>
                  <a:pt x="1144" y="305"/>
                </a:lnTo>
                <a:lnTo>
                  <a:pt x="1136" y="297"/>
                </a:lnTo>
                <a:lnTo>
                  <a:pt x="1126" y="289"/>
                </a:lnTo>
                <a:lnTo>
                  <a:pt x="1114" y="285"/>
                </a:lnTo>
                <a:lnTo>
                  <a:pt x="1102" y="285"/>
                </a:lnTo>
                <a:lnTo>
                  <a:pt x="1097" y="285"/>
                </a:lnTo>
                <a:lnTo>
                  <a:pt x="1110" y="276"/>
                </a:lnTo>
                <a:lnTo>
                  <a:pt x="1134" y="255"/>
                </a:lnTo>
                <a:lnTo>
                  <a:pt x="1153" y="230"/>
                </a:lnTo>
                <a:lnTo>
                  <a:pt x="1166" y="203"/>
                </a:lnTo>
                <a:lnTo>
                  <a:pt x="1173" y="172"/>
                </a:lnTo>
                <a:lnTo>
                  <a:pt x="1175" y="139"/>
                </a:lnTo>
                <a:lnTo>
                  <a:pt x="1173" y="120"/>
                </a:lnTo>
                <a:lnTo>
                  <a:pt x="1173" y="110"/>
                </a:lnTo>
                <a:lnTo>
                  <a:pt x="1176" y="100"/>
                </a:lnTo>
                <a:lnTo>
                  <a:pt x="1181" y="91"/>
                </a:lnTo>
                <a:lnTo>
                  <a:pt x="1188" y="82"/>
                </a:lnTo>
                <a:lnTo>
                  <a:pt x="1197" y="76"/>
                </a:lnTo>
                <a:lnTo>
                  <a:pt x="1218" y="62"/>
                </a:lnTo>
                <a:lnTo>
                  <a:pt x="1260" y="34"/>
                </a:lnTo>
                <a:lnTo>
                  <a:pt x="1270" y="24"/>
                </a:lnTo>
                <a:lnTo>
                  <a:pt x="1275" y="34"/>
                </a:lnTo>
                <a:lnTo>
                  <a:pt x="1288" y="52"/>
                </a:lnTo>
                <a:lnTo>
                  <a:pt x="1305" y="65"/>
                </a:lnTo>
                <a:lnTo>
                  <a:pt x="1325" y="72"/>
                </a:lnTo>
                <a:lnTo>
                  <a:pt x="1347" y="72"/>
                </a:lnTo>
                <a:lnTo>
                  <a:pt x="1370" y="65"/>
                </a:lnTo>
                <a:lnTo>
                  <a:pt x="1382" y="58"/>
                </a:lnTo>
                <a:lnTo>
                  <a:pt x="1382" y="55"/>
                </a:lnTo>
                <a:lnTo>
                  <a:pt x="1382" y="53"/>
                </a:lnTo>
                <a:lnTo>
                  <a:pt x="1382" y="47"/>
                </a:lnTo>
                <a:lnTo>
                  <a:pt x="1382" y="39"/>
                </a:lnTo>
                <a:lnTo>
                  <a:pt x="1382" y="33"/>
                </a:lnTo>
                <a:lnTo>
                  <a:pt x="1378" y="34"/>
                </a:lnTo>
                <a:lnTo>
                  <a:pt x="1370" y="34"/>
                </a:lnTo>
                <a:lnTo>
                  <a:pt x="1363" y="33"/>
                </a:lnTo>
                <a:lnTo>
                  <a:pt x="1356" y="32"/>
                </a:lnTo>
                <a:lnTo>
                  <a:pt x="1341" y="26"/>
                </a:lnTo>
                <a:lnTo>
                  <a:pt x="1339" y="24"/>
                </a:lnTo>
                <a:lnTo>
                  <a:pt x="1343" y="21"/>
                </a:lnTo>
                <a:lnTo>
                  <a:pt x="1353" y="14"/>
                </a:lnTo>
                <a:lnTo>
                  <a:pt x="1376" y="5"/>
                </a:lnTo>
                <a:lnTo>
                  <a:pt x="1401" y="1"/>
                </a:lnTo>
                <a:lnTo>
                  <a:pt x="1408" y="0"/>
                </a:lnTo>
                <a:lnTo>
                  <a:pt x="1405" y="17"/>
                </a:lnTo>
                <a:lnTo>
                  <a:pt x="1402" y="50"/>
                </a:lnTo>
                <a:lnTo>
                  <a:pt x="1394" y="116"/>
                </a:lnTo>
                <a:lnTo>
                  <a:pt x="1388" y="182"/>
                </a:lnTo>
                <a:lnTo>
                  <a:pt x="1386" y="198"/>
                </a:lnTo>
                <a:lnTo>
                  <a:pt x="1385" y="204"/>
                </a:lnTo>
                <a:lnTo>
                  <a:pt x="1385" y="213"/>
                </a:lnTo>
                <a:lnTo>
                  <a:pt x="1381" y="233"/>
                </a:lnTo>
                <a:lnTo>
                  <a:pt x="1373" y="253"/>
                </a:lnTo>
                <a:lnTo>
                  <a:pt x="1372" y="258"/>
                </a:lnTo>
                <a:lnTo>
                  <a:pt x="1368" y="268"/>
                </a:lnTo>
                <a:lnTo>
                  <a:pt x="1356" y="285"/>
                </a:lnTo>
                <a:lnTo>
                  <a:pt x="1341" y="298"/>
                </a:lnTo>
                <a:lnTo>
                  <a:pt x="1308" y="324"/>
                </a:lnTo>
                <a:lnTo>
                  <a:pt x="1286" y="346"/>
                </a:lnTo>
                <a:lnTo>
                  <a:pt x="1289" y="346"/>
                </a:lnTo>
                <a:lnTo>
                  <a:pt x="1292" y="347"/>
                </a:lnTo>
                <a:lnTo>
                  <a:pt x="1294" y="349"/>
                </a:lnTo>
                <a:lnTo>
                  <a:pt x="1295" y="352"/>
                </a:lnTo>
                <a:lnTo>
                  <a:pt x="1297" y="353"/>
                </a:lnTo>
                <a:lnTo>
                  <a:pt x="1299" y="359"/>
                </a:lnTo>
                <a:lnTo>
                  <a:pt x="1308" y="363"/>
                </a:lnTo>
                <a:lnTo>
                  <a:pt x="1312" y="362"/>
                </a:lnTo>
                <a:lnTo>
                  <a:pt x="1311" y="362"/>
                </a:lnTo>
                <a:lnTo>
                  <a:pt x="1308" y="362"/>
                </a:lnTo>
                <a:lnTo>
                  <a:pt x="1302" y="362"/>
                </a:lnTo>
                <a:lnTo>
                  <a:pt x="1297" y="363"/>
                </a:lnTo>
                <a:lnTo>
                  <a:pt x="1297" y="363"/>
                </a:lnTo>
                <a:lnTo>
                  <a:pt x="1285" y="376"/>
                </a:lnTo>
                <a:lnTo>
                  <a:pt x="1276" y="389"/>
                </a:lnTo>
                <a:lnTo>
                  <a:pt x="1272" y="404"/>
                </a:lnTo>
                <a:lnTo>
                  <a:pt x="1269" y="418"/>
                </a:lnTo>
                <a:lnTo>
                  <a:pt x="1269" y="447"/>
                </a:lnTo>
                <a:lnTo>
                  <a:pt x="1272" y="478"/>
                </a:lnTo>
                <a:lnTo>
                  <a:pt x="1269" y="507"/>
                </a:lnTo>
                <a:lnTo>
                  <a:pt x="1260" y="534"/>
                </a:lnTo>
                <a:lnTo>
                  <a:pt x="1260" y="534"/>
                </a:lnTo>
                <a:lnTo>
                  <a:pt x="1255" y="542"/>
                </a:lnTo>
                <a:lnTo>
                  <a:pt x="1244" y="556"/>
                </a:lnTo>
                <a:lnTo>
                  <a:pt x="1226" y="585"/>
                </a:lnTo>
                <a:lnTo>
                  <a:pt x="1215" y="614"/>
                </a:lnTo>
                <a:lnTo>
                  <a:pt x="1215" y="621"/>
                </a:lnTo>
                <a:lnTo>
                  <a:pt x="1214" y="629"/>
                </a:lnTo>
                <a:lnTo>
                  <a:pt x="1215" y="642"/>
                </a:lnTo>
                <a:lnTo>
                  <a:pt x="1224" y="668"/>
                </a:lnTo>
                <a:lnTo>
                  <a:pt x="1244" y="688"/>
                </a:lnTo>
                <a:lnTo>
                  <a:pt x="1252" y="691"/>
                </a:lnTo>
                <a:lnTo>
                  <a:pt x="1247" y="691"/>
                </a:lnTo>
                <a:lnTo>
                  <a:pt x="1239" y="691"/>
                </a:lnTo>
                <a:lnTo>
                  <a:pt x="1230" y="694"/>
                </a:lnTo>
                <a:lnTo>
                  <a:pt x="1224" y="698"/>
                </a:lnTo>
                <a:lnTo>
                  <a:pt x="1218" y="702"/>
                </a:lnTo>
                <a:lnTo>
                  <a:pt x="1214" y="708"/>
                </a:lnTo>
                <a:lnTo>
                  <a:pt x="1212" y="710"/>
                </a:lnTo>
                <a:lnTo>
                  <a:pt x="1208" y="717"/>
                </a:lnTo>
                <a:lnTo>
                  <a:pt x="1204" y="731"/>
                </a:lnTo>
                <a:lnTo>
                  <a:pt x="1197" y="762"/>
                </a:lnTo>
                <a:lnTo>
                  <a:pt x="1185" y="788"/>
                </a:lnTo>
                <a:lnTo>
                  <a:pt x="1181" y="792"/>
                </a:lnTo>
                <a:lnTo>
                  <a:pt x="1173" y="800"/>
                </a:lnTo>
                <a:lnTo>
                  <a:pt x="1157" y="811"/>
                </a:lnTo>
                <a:lnTo>
                  <a:pt x="1140" y="820"/>
                </a:lnTo>
                <a:lnTo>
                  <a:pt x="1105" y="826"/>
                </a:lnTo>
                <a:lnTo>
                  <a:pt x="1084" y="821"/>
                </a:lnTo>
                <a:lnTo>
                  <a:pt x="1079" y="820"/>
                </a:lnTo>
                <a:lnTo>
                  <a:pt x="1078" y="815"/>
                </a:lnTo>
                <a:lnTo>
                  <a:pt x="1078" y="811"/>
                </a:lnTo>
                <a:lnTo>
                  <a:pt x="1079" y="805"/>
                </a:lnTo>
                <a:lnTo>
                  <a:pt x="1082" y="800"/>
                </a:lnTo>
                <a:lnTo>
                  <a:pt x="1088" y="786"/>
                </a:lnTo>
                <a:lnTo>
                  <a:pt x="1094" y="772"/>
                </a:lnTo>
                <a:lnTo>
                  <a:pt x="1095" y="759"/>
                </a:lnTo>
                <a:lnTo>
                  <a:pt x="1094" y="753"/>
                </a:lnTo>
                <a:lnTo>
                  <a:pt x="1091" y="752"/>
                </a:lnTo>
                <a:lnTo>
                  <a:pt x="1088" y="750"/>
                </a:lnTo>
                <a:lnTo>
                  <a:pt x="1085" y="750"/>
                </a:lnTo>
                <a:lnTo>
                  <a:pt x="1082" y="750"/>
                </a:lnTo>
                <a:lnTo>
                  <a:pt x="1079" y="752"/>
                </a:lnTo>
                <a:lnTo>
                  <a:pt x="1072" y="755"/>
                </a:lnTo>
                <a:lnTo>
                  <a:pt x="1057" y="763"/>
                </a:lnTo>
                <a:lnTo>
                  <a:pt x="1056" y="763"/>
                </a:lnTo>
                <a:lnTo>
                  <a:pt x="1049" y="769"/>
                </a:lnTo>
                <a:lnTo>
                  <a:pt x="1043" y="775"/>
                </a:lnTo>
                <a:lnTo>
                  <a:pt x="1040" y="782"/>
                </a:lnTo>
                <a:lnTo>
                  <a:pt x="1039" y="791"/>
                </a:lnTo>
                <a:lnTo>
                  <a:pt x="1036" y="808"/>
                </a:lnTo>
                <a:lnTo>
                  <a:pt x="1034" y="826"/>
                </a:lnTo>
                <a:lnTo>
                  <a:pt x="1028" y="842"/>
                </a:lnTo>
                <a:lnTo>
                  <a:pt x="1023" y="847"/>
                </a:lnTo>
                <a:lnTo>
                  <a:pt x="1017" y="852"/>
                </a:lnTo>
                <a:lnTo>
                  <a:pt x="1017" y="852"/>
                </a:lnTo>
                <a:lnTo>
                  <a:pt x="1010" y="855"/>
                </a:lnTo>
                <a:lnTo>
                  <a:pt x="1004" y="855"/>
                </a:lnTo>
                <a:lnTo>
                  <a:pt x="998" y="855"/>
                </a:lnTo>
                <a:lnTo>
                  <a:pt x="991" y="852"/>
                </a:lnTo>
                <a:lnTo>
                  <a:pt x="979" y="846"/>
                </a:lnTo>
                <a:lnTo>
                  <a:pt x="966" y="837"/>
                </a:lnTo>
                <a:lnTo>
                  <a:pt x="944" y="821"/>
                </a:lnTo>
                <a:lnTo>
                  <a:pt x="944" y="821"/>
                </a:lnTo>
                <a:lnTo>
                  <a:pt x="939" y="818"/>
                </a:lnTo>
                <a:lnTo>
                  <a:pt x="934" y="814"/>
                </a:lnTo>
                <a:lnTo>
                  <a:pt x="933" y="810"/>
                </a:lnTo>
                <a:lnTo>
                  <a:pt x="934" y="804"/>
                </a:lnTo>
                <a:lnTo>
                  <a:pt x="936" y="798"/>
                </a:lnTo>
                <a:lnTo>
                  <a:pt x="942" y="784"/>
                </a:lnTo>
                <a:lnTo>
                  <a:pt x="955" y="752"/>
                </a:lnTo>
                <a:lnTo>
                  <a:pt x="957" y="743"/>
                </a:lnTo>
                <a:lnTo>
                  <a:pt x="952" y="743"/>
                </a:lnTo>
                <a:lnTo>
                  <a:pt x="943" y="746"/>
                </a:lnTo>
                <a:lnTo>
                  <a:pt x="934" y="749"/>
                </a:lnTo>
                <a:lnTo>
                  <a:pt x="929" y="755"/>
                </a:lnTo>
                <a:lnTo>
                  <a:pt x="923" y="760"/>
                </a:lnTo>
                <a:lnTo>
                  <a:pt x="918" y="766"/>
                </a:lnTo>
                <a:lnTo>
                  <a:pt x="918" y="769"/>
                </a:lnTo>
                <a:lnTo>
                  <a:pt x="915" y="775"/>
                </a:lnTo>
                <a:lnTo>
                  <a:pt x="914" y="778"/>
                </a:lnTo>
                <a:lnTo>
                  <a:pt x="907" y="786"/>
                </a:lnTo>
                <a:lnTo>
                  <a:pt x="901" y="794"/>
                </a:lnTo>
                <a:lnTo>
                  <a:pt x="895" y="801"/>
                </a:lnTo>
                <a:lnTo>
                  <a:pt x="894" y="811"/>
                </a:lnTo>
                <a:lnTo>
                  <a:pt x="897" y="821"/>
                </a:lnTo>
                <a:lnTo>
                  <a:pt x="898" y="821"/>
                </a:lnTo>
                <a:lnTo>
                  <a:pt x="885" y="821"/>
                </a:lnTo>
                <a:lnTo>
                  <a:pt x="862" y="824"/>
                </a:lnTo>
                <a:lnTo>
                  <a:pt x="814" y="830"/>
                </a:lnTo>
                <a:lnTo>
                  <a:pt x="791" y="829"/>
                </a:lnTo>
                <a:lnTo>
                  <a:pt x="769" y="820"/>
                </a:lnTo>
                <a:lnTo>
                  <a:pt x="759" y="811"/>
                </a:lnTo>
                <a:lnTo>
                  <a:pt x="759" y="815"/>
                </a:lnTo>
                <a:lnTo>
                  <a:pt x="759" y="820"/>
                </a:lnTo>
                <a:lnTo>
                  <a:pt x="758" y="824"/>
                </a:lnTo>
                <a:lnTo>
                  <a:pt x="756" y="829"/>
                </a:lnTo>
                <a:lnTo>
                  <a:pt x="752" y="836"/>
                </a:lnTo>
                <a:lnTo>
                  <a:pt x="749" y="843"/>
                </a:lnTo>
                <a:lnTo>
                  <a:pt x="747" y="849"/>
                </a:lnTo>
                <a:lnTo>
                  <a:pt x="750" y="853"/>
                </a:lnTo>
                <a:lnTo>
                  <a:pt x="752" y="853"/>
                </a:lnTo>
                <a:lnTo>
                  <a:pt x="753" y="855"/>
                </a:lnTo>
                <a:lnTo>
                  <a:pt x="756" y="856"/>
                </a:lnTo>
                <a:lnTo>
                  <a:pt x="759" y="856"/>
                </a:lnTo>
                <a:lnTo>
                  <a:pt x="765" y="856"/>
                </a:lnTo>
                <a:lnTo>
                  <a:pt x="778" y="856"/>
                </a:lnTo>
                <a:lnTo>
                  <a:pt x="782" y="856"/>
                </a:lnTo>
                <a:lnTo>
                  <a:pt x="785" y="871"/>
                </a:lnTo>
                <a:lnTo>
                  <a:pt x="785" y="881"/>
                </a:lnTo>
                <a:lnTo>
                  <a:pt x="781" y="888"/>
                </a:lnTo>
                <a:lnTo>
                  <a:pt x="773" y="892"/>
                </a:lnTo>
                <a:lnTo>
                  <a:pt x="763" y="895"/>
                </a:lnTo>
                <a:lnTo>
                  <a:pt x="753" y="897"/>
                </a:lnTo>
                <a:lnTo>
                  <a:pt x="730" y="898"/>
                </a:lnTo>
                <a:lnTo>
                  <a:pt x="708" y="901"/>
                </a:lnTo>
                <a:lnTo>
                  <a:pt x="701" y="904"/>
                </a:lnTo>
                <a:lnTo>
                  <a:pt x="700" y="907"/>
                </a:lnTo>
                <a:lnTo>
                  <a:pt x="698" y="910"/>
                </a:lnTo>
                <a:lnTo>
                  <a:pt x="698" y="910"/>
                </a:lnTo>
                <a:lnTo>
                  <a:pt x="694" y="920"/>
                </a:lnTo>
                <a:lnTo>
                  <a:pt x="685" y="940"/>
                </a:lnTo>
                <a:lnTo>
                  <a:pt x="665" y="979"/>
                </a:lnTo>
                <a:lnTo>
                  <a:pt x="636" y="1011"/>
                </a:lnTo>
                <a:lnTo>
                  <a:pt x="627" y="1017"/>
                </a:lnTo>
                <a:lnTo>
                  <a:pt x="620" y="1021"/>
                </a:lnTo>
                <a:lnTo>
                  <a:pt x="614" y="1023"/>
                </a:lnTo>
                <a:lnTo>
                  <a:pt x="608" y="1023"/>
                </a:lnTo>
                <a:lnTo>
                  <a:pt x="603" y="1021"/>
                </a:lnTo>
                <a:lnTo>
                  <a:pt x="597" y="1020"/>
                </a:lnTo>
                <a:lnTo>
                  <a:pt x="584" y="1014"/>
                </a:lnTo>
                <a:lnTo>
                  <a:pt x="558" y="1004"/>
                </a:lnTo>
                <a:lnTo>
                  <a:pt x="552" y="1002"/>
                </a:lnTo>
                <a:lnTo>
                  <a:pt x="552" y="994"/>
                </a:lnTo>
                <a:lnTo>
                  <a:pt x="550" y="986"/>
                </a:lnTo>
                <a:lnTo>
                  <a:pt x="546" y="981"/>
                </a:lnTo>
                <a:lnTo>
                  <a:pt x="543" y="975"/>
                </a:lnTo>
                <a:lnTo>
                  <a:pt x="537" y="971"/>
                </a:lnTo>
                <a:lnTo>
                  <a:pt x="526" y="963"/>
                </a:lnTo>
                <a:lnTo>
                  <a:pt x="516" y="956"/>
                </a:lnTo>
                <a:lnTo>
                  <a:pt x="505" y="947"/>
                </a:lnTo>
                <a:lnTo>
                  <a:pt x="504" y="940"/>
                </a:lnTo>
                <a:lnTo>
                  <a:pt x="503" y="933"/>
                </a:lnTo>
                <a:lnTo>
                  <a:pt x="503" y="927"/>
                </a:lnTo>
                <a:lnTo>
                  <a:pt x="505" y="921"/>
                </a:lnTo>
                <a:lnTo>
                  <a:pt x="510" y="915"/>
                </a:lnTo>
                <a:lnTo>
                  <a:pt x="514" y="911"/>
                </a:lnTo>
                <a:lnTo>
                  <a:pt x="527" y="904"/>
                </a:lnTo>
                <a:lnTo>
                  <a:pt x="555" y="886"/>
                </a:lnTo>
                <a:lnTo>
                  <a:pt x="561" y="881"/>
                </a:lnTo>
                <a:lnTo>
                  <a:pt x="556" y="882"/>
                </a:lnTo>
                <a:lnTo>
                  <a:pt x="549" y="884"/>
                </a:lnTo>
                <a:lnTo>
                  <a:pt x="534" y="888"/>
                </a:lnTo>
                <a:lnTo>
                  <a:pt x="500" y="904"/>
                </a:lnTo>
                <a:lnTo>
                  <a:pt x="482" y="924"/>
                </a:lnTo>
                <a:lnTo>
                  <a:pt x="478" y="921"/>
                </a:lnTo>
                <a:lnTo>
                  <a:pt x="475" y="917"/>
                </a:lnTo>
                <a:lnTo>
                  <a:pt x="474" y="914"/>
                </a:lnTo>
                <a:lnTo>
                  <a:pt x="472" y="910"/>
                </a:lnTo>
                <a:lnTo>
                  <a:pt x="472" y="907"/>
                </a:lnTo>
                <a:lnTo>
                  <a:pt x="474" y="902"/>
                </a:lnTo>
                <a:lnTo>
                  <a:pt x="476" y="895"/>
                </a:lnTo>
                <a:lnTo>
                  <a:pt x="481" y="889"/>
                </a:lnTo>
                <a:lnTo>
                  <a:pt x="484" y="884"/>
                </a:lnTo>
                <a:lnTo>
                  <a:pt x="485" y="884"/>
                </a:lnTo>
                <a:lnTo>
                  <a:pt x="487" y="882"/>
                </a:lnTo>
                <a:lnTo>
                  <a:pt x="491" y="879"/>
                </a:lnTo>
                <a:lnTo>
                  <a:pt x="494" y="878"/>
                </a:lnTo>
                <a:lnTo>
                  <a:pt x="497" y="876"/>
                </a:lnTo>
                <a:lnTo>
                  <a:pt x="508" y="872"/>
                </a:lnTo>
                <a:lnTo>
                  <a:pt x="513" y="869"/>
                </a:lnTo>
                <a:lnTo>
                  <a:pt x="508" y="868"/>
                </a:lnTo>
                <a:lnTo>
                  <a:pt x="497" y="860"/>
                </a:lnTo>
                <a:lnTo>
                  <a:pt x="488" y="856"/>
                </a:lnTo>
                <a:lnTo>
                  <a:pt x="488" y="855"/>
                </a:lnTo>
                <a:lnTo>
                  <a:pt x="479" y="847"/>
                </a:lnTo>
                <a:lnTo>
                  <a:pt x="472" y="843"/>
                </a:lnTo>
                <a:lnTo>
                  <a:pt x="463" y="839"/>
                </a:lnTo>
                <a:lnTo>
                  <a:pt x="455" y="837"/>
                </a:lnTo>
                <a:lnTo>
                  <a:pt x="437" y="837"/>
                </a:lnTo>
                <a:lnTo>
                  <a:pt x="421" y="842"/>
                </a:lnTo>
                <a:lnTo>
                  <a:pt x="390" y="852"/>
                </a:lnTo>
                <a:lnTo>
                  <a:pt x="390" y="852"/>
                </a:lnTo>
                <a:lnTo>
                  <a:pt x="390" y="852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97160" y="3348000"/>
            <a:ext cx="104760" cy="74520"/>
          </a:xfrm>
          <a:custGeom>
            <a:avLst/>
            <a:gdLst/>
            <a:ahLst/>
            <a:rect l="l" t="t" r="r" b="b"/>
            <a:pathLst>
              <a:path w="169" h="106">
                <a:moveTo>
                  <a:pt x="2" y="102"/>
                </a:moveTo>
                <a:lnTo>
                  <a:pt x="5" y="104"/>
                </a:lnTo>
                <a:lnTo>
                  <a:pt x="7" y="104"/>
                </a:lnTo>
                <a:lnTo>
                  <a:pt x="15" y="106"/>
                </a:lnTo>
                <a:lnTo>
                  <a:pt x="34" y="106"/>
                </a:lnTo>
                <a:lnTo>
                  <a:pt x="46" y="100"/>
                </a:lnTo>
                <a:lnTo>
                  <a:pt x="47" y="99"/>
                </a:lnTo>
                <a:lnTo>
                  <a:pt x="49" y="96"/>
                </a:lnTo>
                <a:lnTo>
                  <a:pt x="49" y="94"/>
                </a:lnTo>
                <a:lnTo>
                  <a:pt x="49" y="89"/>
                </a:lnTo>
                <a:lnTo>
                  <a:pt x="49" y="81"/>
                </a:lnTo>
                <a:lnTo>
                  <a:pt x="47" y="68"/>
                </a:lnTo>
                <a:lnTo>
                  <a:pt x="49" y="68"/>
                </a:lnTo>
                <a:lnTo>
                  <a:pt x="65" y="74"/>
                </a:lnTo>
                <a:lnTo>
                  <a:pt x="89" y="74"/>
                </a:lnTo>
                <a:lnTo>
                  <a:pt x="108" y="64"/>
                </a:lnTo>
                <a:lnTo>
                  <a:pt x="123" y="47"/>
                </a:lnTo>
                <a:lnTo>
                  <a:pt x="137" y="28"/>
                </a:lnTo>
                <a:lnTo>
                  <a:pt x="156" y="9"/>
                </a:lnTo>
                <a:lnTo>
                  <a:pt x="169" y="0"/>
                </a:lnTo>
                <a:lnTo>
                  <a:pt x="153" y="7"/>
                </a:lnTo>
                <a:lnTo>
                  <a:pt x="115" y="15"/>
                </a:lnTo>
                <a:lnTo>
                  <a:pt x="39" y="33"/>
                </a:lnTo>
                <a:lnTo>
                  <a:pt x="23" y="41"/>
                </a:lnTo>
                <a:lnTo>
                  <a:pt x="11" y="51"/>
                </a:lnTo>
                <a:lnTo>
                  <a:pt x="2" y="64"/>
                </a:lnTo>
                <a:lnTo>
                  <a:pt x="0" y="81"/>
                </a:lnTo>
                <a:lnTo>
                  <a:pt x="1" y="102"/>
                </a:lnTo>
                <a:lnTo>
                  <a:pt x="2" y="102"/>
                </a:lnTo>
                <a:lnTo>
                  <a:pt x="2" y="102"/>
                </a:lnTo>
                <a:close/>
              </a:path>
            </a:pathLst>
          </a:custGeom>
          <a:solidFill>
            <a:srgbClr val="ff3300"/>
          </a:solidFill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41840" y="2627280"/>
            <a:ext cx="152280" cy="227160"/>
          </a:xfrm>
          <a:custGeom>
            <a:avLst/>
            <a:gdLst/>
            <a:ahLst/>
            <a:rect l="l" t="t" r="r" b="b"/>
            <a:pathLst>
              <a:path w="529" h="825">
                <a:moveTo>
                  <a:pt x="3" y="812"/>
                </a:moveTo>
                <a:lnTo>
                  <a:pt x="4" y="815"/>
                </a:lnTo>
                <a:lnTo>
                  <a:pt x="12" y="819"/>
                </a:lnTo>
                <a:lnTo>
                  <a:pt x="26" y="825"/>
                </a:lnTo>
                <a:lnTo>
                  <a:pt x="33" y="825"/>
                </a:lnTo>
                <a:lnTo>
                  <a:pt x="39" y="823"/>
                </a:lnTo>
                <a:lnTo>
                  <a:pt x="42" y="821"/>
                </a:lnTo>
                <a:lnTo>
                  <a:pt x="52" y="808"/>
                </a:lnTo>
                <a:lnTo>
                  <a:pt x="75" y="786"/>
                </a:lnTo>
                <a:lnTo>
                  <a:pt x="100" y="774"/>
                </a:lnTo>
                <a:lnTo>
                  <a:pt x="127" y="767"/>
                </a:lnTo>
                <a:lnTo>
                  <a:pt x="156" y="765"/>
                </a:lnTo>
                <a:lnTo>
                  <a:pt x="185" y="767"/>
                </a:lnTo>
                <a:lnTo>
                  <a:pt x="201" y="767"/>
                </a:lnTo>
                <a:lnTo>
                  <a:pt x="203" y="767"/>
                </a:lnTo>
                <a:lnTo>
                  <a:pt x="204" y="765"/>
                </a:lnTo>
                <a:lnTo>
                  <a:pt x="207" y="764"/>
                </a:lnTo>
                <a:lnTo>
                  <a:pt x="212" y="760"/>
                </a:lnTo>
                <a:lnTo>
                  <a:pt x="214" y="752"/>
                </a:lnTo>
                <a:lnTo>
                  <a:pt x="217" y="747"/>
                </a:lnTo>
                <a:lnTo>
                  <a:pt x="216" y="742"/>
                </a:lnTo>
                <a:lnTo>
                  <a:pt x="214" y="739"/>
                </a:lnTo>
                <a:lnTo>
                  <a:pt x="204" y="732"/>
                </a:lnTo>
                <a:lnTo>
                  <a:pt x="198" y="722"/>
                </a:lnTo>
                <a:lnTo>
                  <a:pt x="193" y="713"/>
                </a:lnTo>
                <a:lnTo>
                  <a:pt x="188" y="693"/>
                </a:lnTo>
                <a:lnTo>
                  <a:pt x="185" y="673"/>
                </a:lnTo>
                <a:lnTo>
                  <a:pt x="181" y="635"/>
                </a:lnTo>
                <a:lnTo>
                  <a:pt x="178" y="626"/>
                </a:lnTo>
                <a:lnTo>
                  <a:pt x="172" y="622"/>
                </a:lnTo>
                <a:lnTo>
                  <a:pt x="169" y="621"/>
                </a:lnTo>
                <a:lnTo>
                  <a:pt x="162" y="615"/>
                </a:lnTo>
                <a:lnTo>
                  <a:pt x="148" y="605"/>
                </a:lnTo>
                <a:lnTo>
                  <a:pt x="143" y="597"/>
                </a:lnTo>
                <a:lnTo>
                  <a:pt x="142" y="590"/>
                </a:lnTo>
                <a:lnTo>
                  <a:pt x="141" y="577"/>
                </a:lnTo>
                <a:lnTo>
                  <a:pt x="135" y="555"/>
                </a:lnTo>
                <a:lnTo>
                  <a:pt x="120" y="535"/>
                </a:lnTo>
                <a:lnTo>
                  <a:pt x="114" y="528"/>
                </a:lnTo>
                <a:lnTo>
                  <a:pt x="113" y="526"/>
                </a:lnTo>
                <a:lnTo>
                  <a:pt x="112" y="524"/>
                </a:lnTo>
                <a:lnTo>
                  <a:pt x="113" y="521"/>
                </a:lnTo>
                <a:lnTo>
                  <a:pt x="114" y="519"/>
                </a:lnTo>
                <a:lnTo>
                  <a:pt x="117" y="516"/>
                </a:lnTo>
                <a:lnTo>
                  <a:pt x="119" y="512"/>
                </a:lnTo>
                <a:lnTo>
                  <a:pt x="120" y="512"/>
                </a:lnTo>
                <a:lnTo>
                  <a:pt x="119" y="509"/>
                </a:lnTo>
                <a:lnTo>
                  <a:pt x="117" y="506"/>
                </a:lnTo>
                <a:lnTo>
                  <a:pt x="114" y="505"/>
                </a:lnTo>
                <a:lnTo>
                  <a:pt x="112" y="502"/>
                </a:lnTo>
                <a:lnTo>
                  <a:pt x="106" y="499"/>
                </a:lnTo>
                <a:lnTo>
                  <a:pt x="93" y="490"/>
                </a:lnTo>
                <a:lnTo>
                  <a:pt x="88" y="484"/>
                </a:lnTo>
                <a:lnTo>
                  <a:pt x="93" y="483"/>
                </a:lnTo>
                <a:lnTo>
                  <a:pt x="94" y="480"/>
                </a:lnTo>
                <a:lnTo>
                  <a:pt x="96" y="477"/>
                </a:lnTo>
                <a:lnTo>
                  <a:pt x="96" y="474"/>
                </a:lnTo>
                <a:lnTo>
                  <a:pt x="96" y="470"/>
                </a:lnTo>
                <a:lnTo>
                  <a:pt x="94" y="458"/>
                </a:lnTo>
                <a:lnTo>
                  <a:pt x="96" y="458"/>
                </a:lnTo>
                <a:lnTo>
                  <a:pt x="109" y="463"/>
                </a:lnTo>
                <a:lnTo>
                  <a:pt x="133" y="474"/>
                </a:lnTo>
                <a:lnTo>
                  <a:pt x="183" y="500"/>
                </a:lnTo>
                <a:lnTo>
                  <a:pt x="236" y="512"/>
                </a:lnTo>
                <a:lnTo>
                  <a:pt x="252" y="510"/>
                </a:lnTo>
                <a:lnTo>
                  <a:pt x="252" y="505"/>
                </a:lnTo>
                <a:lnTo>
                  <a:pt x="254" y="502"/>
                </a:lnTo>
                <a:lnTo>
                  <a:pt x="255" y="499"/>
                </a:lnTo>
                <a:lnTo>
                  <a:pt x="259" y="493"/>
                </a:lnTo>
                <a:lnTo>
                  <a:pt x="268" y="483"/>
                </a:lnTo>
                <a:lnTo>
                  <a:pt x="269" y="476"/>
                </a:lnTo>
                <a:lnTo>
                  <a:pt x="284" y="479"/>
                </a:lnTo>
                <a:lnTo>
                  <a:pt x="314" y="484"/>
                </a:lnTo>
                <a:lnTo>
                  <a:pt x="375" y="496"/>
                </a:lnTo>
                <a:lnTo>
                  <a:pt x="433" y="495"/>
                </a:lnTo>
                <a:lnTo>
                  <a:pt x="449" y="489"/>
                </a:lnTo>
                <a:lnTo>
                  <a:pt x="451" y="486"/>
                </a:lnTo>
                <a:lnTo>
                  <a:pt x="448" y="481"/>
                </a:lnTo>
                <a:lnTo>
                  <a:pt x="446" y="479"/>
                </a:lnTo>
                <a:lnTo>
                  <a:pt x="440" y="471"/>
                </a:lnTo>
                <a:lnTo>
                  <a:pt x="436" y="464"/>
                </a:lnTo>
                <a:lnTo>
                  <a:pt x="435" y="455"/>
                </a:lnTo>
                <a:lnTo>
                  <a:pt x="436" y="451"/>
                </a:lnTo>
                <a:lnTo>
                  <a:pt x="439" y="444"/>
                </a:lnTo>
                <a:lnTo>
                  <a:pt x="446" y="426"/>
                </a:lnTo>
                <a:lnTo>
                  <a:pt x="465" y="395"/>
                </a:lnTo>
                <a:lnTo>
                  <a:pt x="487" y="363"/>
                </a:lnTo>
                <a:lnTo>
                  <a:pt x="493" y="354"/>
                </a:lnTo>
                <a:lnTo>
                  <a:pt x="500" y="342"/>
                </a:lnTo>
                <a:lnTo>
                  <a:pt x="513" y="318"/>
                </a:lnTo>
                <a:lnTo>
                  <a:pt x="529" y="267"/>
                </a:lnTo>
                <a:lnTo>
                  <a:pt x="529" y="241"/>
                </a:lnTo>
                <a:lnTo>
                  <a:pt x="520" y="216"/>
                </a:lnTo>
                <a:lnTo>
                  <a:pt x="514" y="203"/>
                </a:lnTo>
                <a:lnTo>
                  <a:pt x="511" y="202"/>
                </a:lnTo>
                <a:lnTo>
                  <a:pt x="509" y="202"/>
                </a:lnTo>
                <a:lnTo>
                  <a:pt x="506" y="200"/>
                </a:lnTo>
                <a:lnTo>
                  <a:pt x="495" y="199"/>
                </a:lnTo>
                <a:lnTo>
                  <a:pt x="475" y="196"/>
                </a:lnTo>
                <a:lnTo>
                  <a:pt x="464" y="187"/>
                </a:lnTo>
                <a:lnTo>
                  <a:pt x="449" y="170"/>
                </a:lnTo>
                <a:lnTo>
                  <a:pt x="422" y="135"/>
                </a:lnTo>
                <a:lnTo>
                  <a:pt x="362" y="73"/>
                </a:lnTo>
                <a:lnTo>
                  <a:pt x="294" y="16"/>
                </a:lnTo>
                <a:lnTo>
                  <a:pt x="277" y="2"/>
                </a:lnTo>
                <a:lnTo>
                  <a:pt x="272" y="0"/>
                </a:lnTo>
                <a:lnTo>
                  <a:pt x="269" y="0"/>
                </a:lnTo>
                <a:lnTo>
                  <a:pt x="265" y="0"/>
                </a:lnTo>
                <a:lnTo>
                  <a:pt x="262" y="2"/>
                </a:lnTo>
                <a:lnTo>
                  <a:pt x="259" y="3"/>
                </a:lnTo>
                <a:lnTo>
                  <a:pt x="252" y="8"/>
                </a:lnTo>
                <a:lnTo>
                  <a:pt x="245" y="11"/>
                </a:lnTo>
                <a:lnTo>
                  <a:pt x="238" y="11"/>
                </a:lnTo>
                <a:lnTo>
                  <a:pt x="235" y="9"/>
                </a:lnTo>
                <a:lnTo>
                  <a:pt x="235" y="21"/>
                </a:lnTo>
                <a:lnTo>
                  <a:pt x="238" y="31"/>
                </a:lnTo>
                <a:lnTo>
                  <a:pt x="243" y="41"/>
                </a:lnTo>
                <a:lnTo>
                  <a:pt x="256" y="57"/>
                </a:lnTo>
                <a:lnTo>
                  <a:pt x="271" y="73"/>
                </a:lnTo>
                <a:lnTo>
                  <a:pt x="285" y="87"/>
                </a:lnTo>
                <a:lnTo>
                  <a:pt x="296" y="105"/>
                </a:lnTo>
                <a:lnTo>
                  <a:pt x="298" y="113"/>
                </a:lnTo>
                <a:lnTo>
                  <a:pt x="300" y="125"/>
                </a:lnTo>
                <a:lnTo>
                  <a:pt x="304" y="145"/>
                </a:lnTo>
                <a:lnTo>
                  <a:pt x="309" y="186"/>
                </a:lnTo>
                <a:lnTo>
                  <a:pt x="297" y="226"/>
                </a:lnTo>
                <a:lnTo>
                  <a:pt x="291" y="237"/>
                </a:lnTo>
                <a:lnTo>
                  <a:pt x="290" y="239"/>
                </a:lnTo>
                <a:lnTo>
                  <a:pt x="288" y="242"/>
                </a:lnTo>
                <a:lnTo>
                  <a:pt x="288" y="247"/>
                </a:lnTo>
                <a:lnTo>
                  <a:pt x="290" y="250"/>
                </a:lnTo>
                <a:lnTo>
                  <a:pt x="293" y="257"/>
                </a:lnTo>
                <a:lnTo>
                  <a:pt x="297" y="266"/>
                </a:lnTo>
                <a:lnTo>
                  <a:pt x="304" y="273"/>
                </a:lnTo>
                <a:lnTo>
                  <a:pt x="311" y="277"/>
                </a:lnTo>
                <a:lnTo>
                  <a:pt x="313" y="277"/>
                </a:lnTo>
                <a:lnTo>
                  <a:pt x="306" y="283"/>
                </a:lnTo>
                <a:lnTo>
                  <a:pt x="294" y="297"/>
                </a:lnTo>
                <a:lnTo>
                  <a:pt x="285" y="311"/>
                </a:lnTo>
                <a:lnTo>
                  <a:pt x="267" y="338"/>
                </a:lnTo>
                <a:lnTo>
                  <a:pt x="249" y="351"/>
                </a:lnTo>
                <a:lnTo>
                  <a:pt x="245" y="354"/>
                </a:lnTo>
                <a:lnTo>
                  <a:pt x="236" y="357"/>
                </a:lnTo>
                <a:lnTo>
                  <a:pt x="214" y="361"/>
                </a:lnTo>
                <a:lnTo>
                  <a:pt x="196" y="361"/>
                </a:lnTo>
                <a:lnTo>
                  <a:pt x="193" y="360"/>
                </a:lnTo>
                <a:lnTo>
                  <a:pt x="183" y="357"/>
                </a:lnTo>
                <a:lnTo>
                  <a:pt x="165" y="348"/>
                </a:lnTo>
                <a:lnTo>
                  <a:pt x="129" y="332"/>
                </a:lnTo>
                <a:lnTo>
                  <a:pt x="94" y="312"/>
                </a:lnTo>
                <a:lnTo>
                  <a:pt x="85" y="306"/>
                </a:lnTo>
                <a:lnTo>
                  <a:pt x="81" y="305"/>
                </a:lnTo>
                <a:lnTo>
                  <a:pt x="75" y="303"/>
                </a:lnTo>
                <a:lnTo>
                  <a:pt x="71" y="302"/>
                </a:lnTo>
                <a:lnTo>
                  <a:pt x="61" y="302"/>
                </a:lnTo>
                <a:lnTo>
                  <a:pt x="51" y="305"/>
                </a:lnTo>
                <a:lnTo>
                  <a:pt x="41" y="311"/>
                </a:lnTo>
                <a:lnTo>
                  <a:pt x="30" y="318"/>
                </a:lnTo>
                <a:lnTo>
                  <a:pt x="28" y="321"/>
                </a:lnTo>
                <a:lnTo>
                  <a:pt x="33" y="325"/>
                </a:lnTo>
                <a:lnTo>
                  <a:pt x="45" y="332"/>
                </a:lnTo>
                <a:lnTo>
                  <a:pt x="68" y="350"/>
                </a:lnTo>
                <a:lnTo>
                  <a:pt x="77" y="358"/>
                </a:lnTo>
                <a:lnTo>
                  <a:pt x="81" y="368"/>
                </a:lnTo>
                <a:lnTo>
                  <a:pt x="83" y="373"/>
                </a:lnTo>
                <a:lnTo>
                  <a:pt x="80" y="382"/>
                </a:lnTo>
                <a:lnTo>
                  <a:pt x="77" y="387"/>
                </a:lnTo>
                <a:lnTo>
                  <a:pt x="71" y="395"/>
                </a:lnTo>
                <a:lnTo>
                  <a:pt x="65" y="399"/>
                </a:lnTo>
                <a:lnTo>
                  <a:pt x="49" y="410"/>
                </a:lnTo>
                <a:lnTo>
                  <a:pt x="20" y="435"/>
                </a:lnTo>
                <a:lnTo>
                  <a:pt x="12" y="451"/>
                </a:lnTo>
                <a:lnTo>
                  <a:pt x="10" y="460"/>
                </a:lnTo>
                <a:lnTo>
                  <a:pt x="10" y="468"/>
                </a:lnTo>
                <a:lnTo>
                  <a:pt x="13" y="476"/>
                </a:lnTo>
                <a:lnTo>
                  <a:pt x="16" y="483"/>
                </a:lnTo>
                <a:lnTo>
                  <a:pt x="26" y="495"/>
                </a:lnTo>
                <a:lnTo>
                  <a:pt x="38" y="506"/>
                </a:lnTo>
                <a:lnTo>
                  <a:pt x="56" y="529"/>
                </a:lnTo>
                <a:lnTo>
                  <a:pt x="58" y="529"/>
                </a:lnTo>
                <a:lnTo>
                  <a:pt x="59" y="537"/>
                </a:lnTo>
                <a:lnTo>
                  <a:pt x="59" y="542"/>
                </a:lnTo>
                <a:lnTo>
                  <a:pt x="58" y="548"/>
                </a:lnTo>
                <a:lnTo>
                  <a:pt x="56" y="554"/>
                </a:lnTo>
                <a:lnTo>
                  <a:pt x="49" y="566"/>
                </a:lnTo>
                <a:lnTo>
                  <a:pt x="39" y="577"/>
                </a:lnTo>
                <a:lnTo>
                  <a:pt x="19" y="597"/>
                </a:lnTo>
                <a:lnTo>
                  <a:pt x="19" y="597"/>
                </a:lnTo>
                <a:lnTo>
                  <a:pt x="29" y="602"/>
                </a:lnTo>
                <a:lnTo>
                  <a:pt x="45" y="610"/>
                </a:lnTo>
                <a:lnTo>
                  <a:pt x="49" y="615"/>
                </a:lnTo>
                <a:lnTo>
                  <a:pt x="52" y="621"/>
                </a:lnTo>
                <a:lnTo>
                  <a:pt x="52" y="628"/>
                </a:lnTo>
                <a:lnTo>
                  <a:pt x="52" y="634"/>
                </a:lnTo>
                <a:lnTo>
                  <a:pt x="51" y="641"/>
                </a:lnTo>
                <a:lnTo>
                  <a:pt x="43" y="658"/>
                </a:lnTo>
                <a:lnTo>
                  <a:pt x="35" y="676"/>
                </a:lnTo>
                <a:lnTo>
                  <a:pt x="35" y="676"/>
                </a:lnTo>
                <a:lnTo>
                  <a:pt x="38" y="677"/>
                </a:lnTo>
                <a:lnTo>
                  <a:pt x="46" y="681"/>
                </a:lnTo>
                <a:lnTo>
                  <a:pt x="61" y="692"/>
                </a:lnTo>
                <a:lnTo>
                  <a:pt x="75" y="700"/>
                </a:lnTo>
                <a:lnTo>
                  <a:pt x="80" y="702"/>
                </a:lnTo>
                <a:lnTo>
                  <a:pt x="75" y="708"/>
                </a:lnTo>
                <a:lnTo>
                  <a:pt x="72" y="712"/>
                </a:lnTo>
                <a:lnTo>
                  <a:pt x="70" y="723"/>
                </a:lnTo>
                <a:lnTo>
                  <a:pt x="68" y="734"/>
                </a:lnTo>
                <a:lnTo>
                  <a:pt x="65" y="745"/>
                </a:lnTo>
                <a:lnTo>
                  <a:pt x="61" y="755"/>
                </a:lnTo>
                <a:lnTo>
                  <a:pt x="52" y="761"/>
                </a:lnTo>
                <a:lnTo>
                  <a:pt x="52" y="761"/>
                </a:lnTo>
                <a:lnTo>
                  <a:pt x="49" y="763"/>
                </a:lnTo>
                <a:lnTo>
                  <a:pt x="46" y="763"/>
                </a:lnTo>
                <a:lnTo>
                  <a:pt x="42" y="764"/>
                </a:lnTo>
                <a:lnTo>
                  <a:pt x="33" y="764"/>
                </a:lnTo>
                <a:lnTo>
                  <a:pt x="28" y="763"/>
                </a:lnTo>
                <a:lnTo>
                  <a:pt x="30" y="764"/>
                </a:lnTo>
                <a:lnTo>
                  <a:pt x="29" y="764"/>
                </a:lnTo>
                <a:lnTo>
                  <a:pt x="25" y="764"/>
                </a:lnTo>
                <a:lnTo>
                  <a:pt x="22" y="765"/>
                </a:lnTo>
                <a:lnTo>
                  <a:pt x="20" y="768"/>
                </a:lnTo>
                <a:lnTo>
                  <a:pt x="20" y="771"/>
                </a:lnTo>
                <a:lnTo>
                  <a:pt x="16" y="776"/>
                </a:lnTo>
                <a:lnTo>
                  <a:pt x="9" y="781"/>
                </a:lnTo>
                <a:lnTo>
                  <a:pt x="1" y="796"/>
                </a:lnTo>
                <a:lnTo>
                  <a:pt x="0" y="803"/>
                </a:lnTo>
                <a:lnTo>
                  <a:pt x="0" y="810"/>
                </a:lnTo>
                <a:lnTo>
                  <a:pt x="3" y="812"/>
                </a:lnTo>
                <a:lnTo>
                  <a:pt x="3" y="812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2760" y="3500280"/>
            <a:ext cx="306360" cy="543240"/>
          </a:xfrm>
          <a:custGeom>
            <a:avLst/>
            <a:gdLst/>
            <a:ahLst/>
            <a:rect l="l" t="t" r="r" b="b"/>
            <a:pathLst>
              <a:path w="1063" h="1991">
                <a:moveTo>
                  <a:pt x="288" y="1911"/>
                </a:moveTo>
                <a:lnTo>
                  <a:pt x="281" y="1906"/>
                </a:lnTo>
                <a:lnTo>
                  <a:pt x="276" y="1898"/>
                </a:lnTo>
                <a:lnTo>
                  <a:pt x="274" y="1891"/>
                </a:lnTo>
                <a:lnTo>
                  <a:pt x="274" y="1882"/>
                </a:lnTo>
                <a:lnTo>
                  <a:pt x="274" y="1874"/>
                </a:lnTo>
                <a:lnTo>
                  <a:pt x="278" y="1856"/>
                </a:lnTo>
                <a:lnTo>
                  <a:pt x="284" y="1839"/>
                </a:lnTo>
                <a:lnTo>
                  <a:pt x="291" y="1822"/>
                </a:lnTo>
                <a:lnTo>
                  <a:pt x="294" y="1813"/>
                </a:lnTo>
                <a:lnTo>
                  <a:pt x="287" y="1814"/>
                </a:lnTo>
                <a:lnTo>
                  <a:pt x="282" y="1813"/>
                </a:lnTo>
                <a:lnTo>
                  <a:pt x="279" y="1810"/>
                </a:lnTo>
                <a:lnTo>
                  <a:pt x="276" y="1807"/>
                </a:lnTo>
                <a:lnTo>
                  <a:pt x="276" y="1803"/>
                </a:lnTo>
                <a:lnTo>
                  <a:pt x="275" y="1798"/>
                </a:lnTo>
                <a:lnTo>
                  <a:pt x="275" y="1790"/>
                </a:lnTo>
                <a:lnTo>
                  <a:pt x="274" y="1782"/>
                </a:lnTo>
                <a:lnTo>
                  <a:pt x="268" y="1777"/>
                </a:lnTo>
                <a:lnTo>
                  <a:pt x="268" y="1777"/>
                </a:lnTo>
                <a:lnTo>
                  <a:pt x="262" y="1775"/>
                </a:lnTo>
                <a:lnTo>
                  <a:pt x="250" y="1774"/>
                </a:lnTo>
                <a:lnTo>
                  <a:pt x="229" y="1768"/>
                </a:lnTo>
                <a:lnTo>
                  <a:pt x="219" y="1764"/>
                </a:lnTo>
                <a:lnTo>
                  <a:pt x="213" y="1756"/>
                </a:lnTo>
                <a:lnTo>
                  <a:pt x="211" y="1751"/>
                </a:lnTo>
                <a:lnTo>
                  <a:pt x="208" y="1746"/>
                </a:lnTo>
                <a:lnTo>
                  <a:pt x="205" y="1735"/>
                </a:lnTo>
                <a:lnTo>
                  <a:pt x="200" y="1711"/>
                </a:lnTo>
                <a:lnTo>
                  <a:pt x="195" y="1688"/>
                </a:lnTo>
                <a:lnTo>
                  <a:pt x="195" y="1682"/>
                </a:lnTo>
                <a:lnTo>
                  <a:pt x="194" y="1678"/>
                </a:lnTo>
                <a:lnTo>
                  <a:pt x="192" y="1675"/>
                </a:lnTo>
                <a:lnTo>
                  <a:pt x="190" y="1672"/>
                </a:lnTo>
                <a:lnTo>
                  <a:pt x="184" y="1668"/>
                </a:lnTo>
                <a:lnTo>
                  <a:pt x="178" y="1665"/>
                </a:lnTo>
                <a:lnTo>
                  <a:pt x="172" y="1665"/>
                </a:lnTo>
                <a:lnTo>
                  <a:pt x="166" y="1666"/>
                </a:lnTo>
                <a:lnTo>
                  <a:pt x="166" y="1666"/>
                </a:lnTo>
                <a:lnTo>
                  <a:pt x="159" y="1672"/>
                </a:lnTo>
                <a:lnTo>
                  <a:pt x="153" y="1678"/>
                </a:lnTo>
                <a:lnTo>
                  <a:pt x="145" y="1693"/>
                </a:lnTo>
                <a:lnTo>
                  <a:pt x="136" y="1707"/>
                </a:lnTo>
                <a:lnTo>
                  <a:pt x="133" y="1713"/>
                </a:lnTo>
                <a:lnTo>
                  <a:pt x="129" y="1716"/>
                </a:lnTo>
                <a:lnTo>
                  <a:pt x="124" y="1719"/>
                </a:lnTo>
                <a:lnTo>
                  <a:pt x="121" y="1719"/>
                </a:lnTo>
                <a:lnTo>
                  <a:pt x="119" y="1717"/>
                </a:lnTo>
                <a:lnTo>
                  <a:pt x="116" y="1716"/>
                </a:lnTo>
                <a:lnTo>
                  <a:pt x="113" y="1713"/>
                </a:lnTo>
                <a:lnTo>
                  <a:pt x="107" y="1706"/>
                </a:lnTo>
                <a:lnTo>
                  <a:pt x="107" y="1706"/>
                </a:lnTo>
                <a:lnTo>
                  <a:pt x="103" y="1701"/>
                </a:lnTo>
                <a:lnTo>
                  <a:pt x="101" y="1695"/>
                </a:lnTo>
                <a:lnTo>
                  <a:pt x="101" y="1690"/>
                </a:lnTo>
                <a:lnTo>
                  <a:pt x="103" y="1682"/>
                </a:lnTo>
                <a:lnTo>
                  <a:pt x="107" y="1669"/>
                </a:lnTo>
                <a:lnTo>
                  <a:pt x="110" y="1658"/>
                </a:lnTo>
                <a:lnTo>
                  <a:pt x="111" y="1645"/>
                </a:lnTo>
                <a:lnTo>
                  <a:pt x="108" y="1633"/>
                </a:lnTo>
                <a:lnTo>
                  <a:pt x="108" y="1633"/>
                </a:lnTo>
                <a:lnTo>
                  <a:pt x="103" y="1624"/>
                </a:lnTo>
                <a:lnTo>
                  <a:pt x="97" y="1607"/>
                </a:lnTo>
                <a:lnTo>
                  <a:pt x="95" y="1588"/>
                </a:lnTo>
                <a:lnTo>
                  <a:pt x="97" y="1571"/>
                </a:lnTo>
                <a:lnTo>
                  <a:pt x="107" y="1536"/>
                </a:lnTo>
                <a:lnTo>
                  <a:pt x="110" y="1527"/>
                </a:lnTo>
                <a:lnTo>
                  <a:pt x="116" y="1507"/>
                </a:lnTo>
                <a:lnTo>
                  <a:pt x="126" y="1464"/>
                </a:lnTo>
                <a:lnTo>
                  <a:pt x="150" y="1377"/>
                </a:lnTo>
                <a:lnTo>
                  <a:pt x="190" y="1297"/>
                </a:lnTo>
                <a:lnTo>
                  <a:pt x="204" y="1278"/>
                </a:lnTo>
                <a:lnTo>
                  <a:pt x="216" y="1264"/>
                </a:lnTo>
                <a:lnTo>
                  <a:pt x="239" y="1229"/>
                </a:lnTo>
                <a:lnTo>
                  <a:pt x="269" y="1156"/>
                </a:lnTo>
                <a:lnTo>
                  <a:pt x="272" y="1119"/>
                </a:lnTo>
                <a:lnTo>
                  <a:pt x="262" y="1083"/>
                </a:lnTo>
                <a:lnTo>
                  <a:pt x="253" y="1064"/>
                </a:lnTo>
                <a:lnTo>
                  <a:pt x="252" y="1062"/>
                </a:lnTo>
                <a:lnTo>
                  <a:pt x="249" y="1062"/>
                </a:lnTo>
                <a:lnTo>
                  <a:pt x="246" y="1062"/>
                </a:lnTo>
                <a:lnTo>
                  <a:pt x="242" y="1064"/>
                </a:lnTo>
                <a:lnTo>
                  <a:pt x="232" y="1067"/>
                </a:lnTo>
                <a:lnTo>
                  <a:pt x="220" y="1068"/>
                </a:lnTo>
                <a:lnTo>
                  <a:pt x="210" y="1067"/>
                </a:lnTo>
                <a:lnTo>
                  <a:pt x="200" y="1059"/>
                </a:lnTo>
                <a:lnTo>
                  <a:pt x="200" y="1059"/>
                </a:lnTo>
                <a:lnTo>
                  <a:pt x="205" y="1052"/>
                </a:lnTo>
                <a:lnTo>
                  <a:pt x="211" y="1043"/>
                </a:lnTo>
                <a:lnTo>
                  <a:pt x="217" y="1025"/>
                </a:lnTo>
                <a:lnTo>
                  <a:pt x="219" y="1003"/>
                </a:lnTo>
                <a:lnTo>
                  <a:pt x="217" y="981"/>
                </a:lnTo>
                <a:lnTo>
                  <a:pt x="213" y="939"/>
                </a:lnTo>
                <a:lnTo>
                  <a:pt x="213" y="939"/>
                </a:lnTo>
                <a:lnTo>
                  <a:pt x="211" y="933"/>
                </a:lnTo>
                <a:lnTo>
                  <a:pt x="208" y="922"/>
                </a:lnTo>
                <a:lnTo>
                  <a:pt x="201" y="897"/>
                </a:lnTo>
                <a:lnTo>
                  <a:pt x="187" y="874"/>
                </a:lnTo>
                <a:lnTo>
                  <a:pt x="182" y="868"/>
                </a:lnTo>
                <a:lnTo>
                  <a:pt x="176" y="864"/>
                </a:lnTo>
                <a:lnTo>
                  <a:pt x="163" y="855"/>
                </a:lnTo>
                <a:lnTo>
                  <a:pt x="139" y="841"/>
                </a:lnTo>
                <a:lnTo>
                  <a:pt x="127" y="832"/>
                </a:lnTo>
                <a:lnTo>
                  <a:pt x="119" y="822"/>
                </a:lnTo>
                <a:lnTo>
                  <a:pt x="116" y="814"/>
                </a:lnTo>
                <a:lnTo>
                  <a:pt x="111" y="807"/>
                </a:lnTo>
                <a:lnTo>
                  <a:pt x="104" y="790"/>
                </a:lnTo>
                <a:lnTo>
                  <a:pt x="92" y="756"/>
                </a:lnTo>
                <a:lnTo>
                  <a:pt x="91" y="739"/>
                </a:lnTo>
                <a:lnTo>
                  <a:pt x="92" y="723"/>
                </a:lnTo>
                <a:lnTo>
                  <a:pt x="97" y="714"/>
                </a:lnTo>
                <a:lnTo>
                  <a:pt x="100" y="709"/>
                </a:lnTo>
                <a:lnTo>
                  <a:pt x="105" y="704"/>
                </a:lnTo>
                <a:lnTo>
                  <a:pt x="111" y="700"/>
                </a:lnTo>
                <a:lnTo>
                  <a:pt x="124" y="694"/>
                </a:lnTo>
                <a:lnTo>
                  <a:pt x="137" y="688"/>
                </a:lnTo>
                <a:lnTo>
                  <a:pt x="149" y="684"/>
                </a:lnTo>
                <a:lnTo>
                  <a:pt x="156" y="675"/>
                </a:lnTo>
                <a:lnTo>
                  <a:pt x="158" y="670"/>
                </a:lnTo>
                <a:lnTo>
                  <a:pt x="158" y="661"/>
                </a:lnTo>
                <a:lnTo>
                  <a:pt x="159" y="642"/>
                </a:lnTo>
                <a:lnTo>
                  <a:pt x="168" y="609"/>
                </a:lnTo>
                <a:lnTo>
                  <a:pt x="191" y="581"/>
                </a:lnTo>
                <a:lnTo>
                  <a:pt x="200" y="575"/>
                </a:lnTo>
                <a:lnTo>
                  <a:pt x="191" y="578"/>
                </a:lnTo>
                <a:lnTo>
                  <a:pt x="176" y="578"/>
                </a:lnTo>
                <a:lnTo>
                  <a:pt x="163" y="574"/>
                </a:lnTo>
                <a:lnTo>
                  <a:pt x="152" y="568"/>
                </a:lnTo>
                <a:lnTo>
                  <a:pt x="143" y="561"/>
                </a:lnTo>
                <a:lnTo>
                  <a:pt x="137" y="552"/>
                </a:lnTo>
                <a:lnTo>
                  <a:pt x="136" y="546"/>
                </a:lnTo>
                <a:lnTo>
                  <a:pt x="127" y="525"/>
                </a:lnTo>
                <a:lnTo>
                  <a:pt x="107" y="484"/>
                </a:lnTo>
                <a:lnTo>
                  <a:pt x="56" y="407"/>
                </a:lnTo>
                <a:lnTo>
                  <a:pt x="10" y="329"/>
                </a:lnTo>
                <a:lnTo>
                  <a:pt x="3" y="306"/>
                </a:lnTo>
                <a:lnTo>
                  <a:pt x="0" y="297"/>
                </a:lnTo>
                <a:lnTo>
                  <a:pt x="0" y="281"/>
                </a:lnTo>
                <a:lnTo>
                  <a:pt x="4" y="267"/>
                </a:lnTo>
                <a:lnTo>
                  <a:pt x="14" y="254"/>
                </a:lnTo>
                <a:lnTo>
                  <a:pt x="27" y="242"/>
                </a:lnTo>
                <a:lnTo>
                  <a:pt x="42" y="232"/>
                </a:lnTo>
                <a:lnTo>
                  <a:pt x="50" y="226"/>
                </a:lnTo>
                <a:lnTo>
                  <a:pt x="50" y="223"/>
                </a:lnTo>
                <a:lnTo>
                  <a:pt x="50" y="220"/>
                </a:lnTo>
                <a:lnTo>
                  <a:pt x="50" y="216"/>
                </a:lnTo>
                <a:lnTo>
                  <a:pt x="48" y="207"/>
                </a:lnTo>
                <a:lnTo>
                  <a:pt x="48" y="203"/>
                </a:lnTo>
                <a:lnTo>
                  <a:pt x="48" y="196"/>
                </a:lnTo>
                <a:lnTo>
                  <a:pt x="49" y="181"/>
                </a:lnTo>
                <a:lnTo>
                  <a:pt x="58" y="154"/>
                </a:lnTo>
                <a:lnTo>
                  <a:pt x="68" y="126"/>
                </a:lnTo>
                <a:lnTo>
                  <a:pt x="71" y="119"/>
                </a:lnTo>
                <a:lnTo>
                  <a:pt x="74" y="113"/>
                </a:lnTo>
                <a:lnTo>
                  <a:pt x="79" y="107"/>
                </a:lnTo>
                <a:lnTo>
                  <a:pt x="87" y="104"/>
                </a:lnTo>
                <a:lnTo>
                  <a:pt x="95" y="103"/>
                </a:lnTo>
                <a:lnTo>
                  <a:pt x="104" y="103"/>
                </a:lnTo>
                <a:lnTo>
                  <a:pt x="124" y="103"/>
                </a:lnTo>
                <a:lnTo>
                  <a:pt x="169" y="104"/>
                </a:lnTo>
                <a:lnTo>
                  <a:pt x="181" y="102"/>
                </a:lnTo>
                <a:lnTo>
                  <a:pt x="185" y="102"/>
                </a:lnTo>
                <a:lnTo>
                  <a:pt x="188" y="99"/>
                </a:lnTo>
                <a:lnTo>
                  <a:pt x="191" y="96"/>
                </a:lnTo>
                <a:lnTo>
                  <a:pt x="194" y="91"/>
                </a:lnTo>
                <a:lnTo>
                  <a:pt x="194" y="87"/>
                </a:lnTo>
                <a:lnTo>
                  <a:pt x="197" y="77"/>
                </a:lnTo>
                <a:lnTo>
                  <a:pt x="201" y="57"/>
                </a:lnTo>
                <a:lnTo>
                  <a:pt x="204" y="52"/>
                </a:lnTo>
                <a:lnTo>
                  <a:pt x="207" y="49"/>
                </a:lnTo>
                <a:lnTo>
                  <a:pt x="213" y="48"/>
                </a:lnTo>
                <a:lnTo>
                  <a:pt x="219" y="48"/>
                </a:lnTo>
                <a:lnTo>
                  <a:pt x="226" y="49"/>
                </a:lnTo>
                <a:lnTo>
                  <a:pt x="240" y="54"/>
                </a:lnTo>
                <a:lnTo>
                  <a:pt x="256" y="57"/>
                </a:lnTo>
                <a:lnTo>
                  <a:pt x="263" y="57"/>
                </a:lnTo>
                <a:lnTo>
                  <a:pt x="271" y="55"/>
                </a:lnTo>
                <a:lnTo>
                  <a:pt x="276" y="51"/>
                </a:lnTo>
                <a:lnTo>
                  <a:pt x="281" y="44"/>
                </a:lnTo>
                <a:lnTo>
                  <a:pt x="282" y="44"/>
                </a:lnTo>
                <a:lnTo>
                  <a:pt x="282" y="42"/>
                </a:lnTo>
                <a:lnTo>
                  <a:pt x="281" y="39"/>
                </a:lnTo>
                <a:lnTo>
                  <a:pt x="276" y="29"/>
                </a:lnTo>
                <a:lnTo>
                  <a:pt x="271" y="22"/>
                </a:lnTo>
                <a:lnTo>
                  <a:pt x="268" y="15"/>
                </a:lnTo>
                <a:lnTo>
                  <a:pt x="268" y="10"/>
                </a:lnTo>
                <a:lnTo>
                  <a:pt x="271" y="9"/>
                </a:lnTo>
                <a:lnTo>
                  <a:pt x="281" y="6"/>
                </a:lnTo>
                <a:lnTo>
                  <a:pt x="304" y="0"/>
                </a:lnTo>
                <a:lnTo>
                  <a:pt x="352" y="0"/>
                </a:lnTo>
                <a:lnTo>
                  <a:pt x="374" y="6"/>
                </a:lnTo>
                <a:lnTo>
                  <a:pt x="392" y="17"/>
                </a:lnTo>
                <a:lnTo>
                  <a:pt x="401" y="25"/>
                </a:lnTo>
                <a:lnTo>
                  <a:pt x="404" y="31"/>
                </a:lnTo>
                <a:lnTo>
                  <a:pt x="405" y="38"/>
                </a:lnTo>
                <a:lnTo>
                  <a:pt x="407" y="45"/>
                </a:lnTo>
                <a:lnTo>
                  <a:pt x="408" y="61"/>
                </a:lnTo>
                <a:lnTo>
                  <a:pt x="411" y="90"/>
                </a:lnTo>
                <a:lnTo>
                  <a:pt x="426" y="102"/>
                </a:lnTo>
                <a:lnTo>
                  <a:pt x="431" y="104"/>
                </a:lnTo>
                <a:lnTo>
                  <a:pt x="445" y="106"/>
                </a:lnTo>
                <a:lnTo>
                  <a:pt x="473" y="106"/>
                </a:lnTo>
                <a:lnTo>
                  <a:pt x="502" y="107"/>
                </a:lnTo>
                <a:lnTo>
                  <a:pt x="511" y="107"/>
                </a:lnTo>
                <a:lnTo>
                  <a:pt x="510" y="110"/>
                </a:lnTo>
                <a:lnTo>
                  <a:pt x="510" y="113"/>
                </a:lnTo>
                <a:lnTo>
                  <a:pt x="510" y="116"/>
                </a:lnTo>
                <a:lnTo>
                  <a:pt x="511" y="117"/>
                </a:lnTo>
                <a:lnTo>
                  <a:pt x="513" y="120"/>
                </a:lnTo>
                <a:lnTo>
                  <a:pt x="516" y="123"/>
                </a:lnTo>
                <a:lnTo>
                  <a:pt x="518" y="131"/>
                </a:lnTo>
                <a:lnTo>
                  <a:pt x="517" y="132"/>
                </a:lnTo>
                <a:lnTo>
                  <a:pt x="511" y="136"/>
                </a:lnTo>
                <a:lnTo>
                  <a:pt x="508" y="142"/>
                </a:lnTo>
                <a:lnTo>
                  <a:pt x="505" y="146"/>
                </a:lnTo>
                <a:lnTo>
                  <a:pt x="504" y="152"/>
                </a:lnTo>
                <a:lnTo>
                  <a:pt x="504" y="157"/>
                </a:lnTo>
                <a:lnTo>
                  <a:pt x="504" y="162"/>
                </a:lnTo>
                <a:lnTo>
                  <a:pt x="508" y="173"/>
                </a:lnTo>
                <a:lnTo>
                  <a:pt x="516" y="181"/>
                </a:lnTo>
                <a:lnTo>
                  <a:pt x="524" y="187"/>
                </a:lnTo>
                <a:lnTo>
                  <a:pt x="526" y="187"/>
                </a:lnTo>
                <a:lnTo>
                  <a:pt x="527" y="190"/>
                </a:lnTo>
                <a:lnTo>
                  <a:pt x="527" y="191"/>
                </a:lnTo>
                <a:lnTo>
                  <a:pt x="529" y="196"/>
                </a:lnTo>
                <a:lnTo>
                  <a:pt x="529" y="202"/>
                </a:lnTo>
                <a:lnTo>
                  <a:pt x="526" y="209"/>
                </a:lnTo>
                <a:lnTo>
                  <a:pt x="526" y="209"/>
                </a:lnTo>
                <a:lnTo>
                  <a:pt x="523" y="212"/>
                </a:lnTo>
                <a:lnTo>
                  <a:pt x="518" y="216"/>
                </a:lnTo>
                <a:lnTo>
                  <a:pt x="508" y="225"/>
                </a:lnTo>
                <a:lnTo>
                  <a:pt x="495" y="229"/>
                </a:lnTo>
                <a:lnTo>
                  <a:pt x="492" y="229"/>
                </a:lnTo>
                <a:lnTo>
                  <a:pt x="494" y="236"/>
                </a:lnTo>
                <a:lnTo>
                  <a:pt x="495" y="248"/>
                </a:lnTo>
                <a:lnTo>
                  <a:pt x="495" y="258"/>
                </a:lnTo>
                <a:lnTo>
                  <a:pt x="491" y="265"/>
                </a:lnTo>
                <a:lnTo>
                  <a:pt x="485" y="274"/>
                </a:lnTo>
                <a:lnTo>
                  <a:pt x="475" y="283"/>
                </a:lnTo>
                <a:lnTo>
                  <a:pt x="471" y="286"/>
                </a:lnTo>
                <a:lnTo>
                  <a:pt x="466" y="290"/>
                </a:lnTo>
                <a:lnTo>
                  <a:pt x="466" y="293"/>
                </a:lnTo>
                <a:lnTo>
                  <a:pt x="466" y="296"/>
                </a:lnTo>
                <a:lnTo>
                  <a:pt x="468" y="299"/>
                </a:lnTo>
                <a:lnTo>
                  <a:pt x="471" y="303"/>
                </a:lnTo>
                <a:lnTo>
                  <a:pt x="479" y="309"/>
                </a:lnTo>
                <a:lnTo>
                  <a:pt x="488" y="316"/>
                </a:lnTo>
                <a:lnTo>
                  <a:pt x="494" y="322"/>
                </a:lnTo>
                <a:lnTo>
                  <a:pt x="495" y="325"/>
                </a:lnTo>
                <a:lnTo>
                  <a:pt x="494" y="333"/>
                </a:lnTo>
                <a:lnTo>
                  <a:pt x="491" y="342"/>
                </a:lnTo>
                <a:lnTo>
                  <a:pt x="487" y="349"/>
                </a:lnTo>
                <a:lnTo>
                  <a:pt x="475" y="365"/>
                </a:lnTo>
                <a:lnTo>
                  <a:pt x="466" y="378"/>
                </a:lnTo>
                <a:lnTo>
                  <a:pt x="463" y="384"/>
                </a:lnTo>
                <a:lnTo>
                  <a:pt x="463" y="390"/>
                </a:lnTo>
                <a:lnTo>
                  <a:pt x="465" y="393"/>
                </a:lnTo>
                <a:lnTo>
                  <a:pt x="466" y="396"/>
                </a:lnTo>
                <a:lnTo>
                  <a:pt x="469" y="399"/>
                </a:lnTo>
                <a:lnTo>
                  <a:pt x="473" y="401"/>
                </a:lnTo>
                <a:lnTo>
                  <a:pt x="485" y="406"/>
                </a:lnTo>
                <a:lnTo>
                  <a:pt x="487" y="406"/>
                </a:lnTo>
                <a:lnTo>
                  <a:pt x="498" y="409"/>
                </a:lnTo>
                <a:lnTo>
                  <a:pt x="511" y="407"/>
                </a:lnTo>
                <a:lnTo>
                  <a:pt x="523" y="403"/>
                </a:lnTo>
                <a:lnTo>
                  <a:pt x="533" y="397"/>
                </a:lnTo>
                <a:lnTo>
                  <a:pt x="543" y="388"/>
                </a:lnTo>
                <a:lnTo>
                  <a:pt x="562" y="367"/>
                </a:lnTo>
                <a:lnTo>
                  <a:pt x="598" y="329"/>
                </a:lnTo>
                <a:lnTo>
                  <a:pt x="608" y="322"/>
                </a:lnTo>
                <a:lnTo>
                  <a:pt x="614" y="320"/>
                </a:lnTo>
                <a:lnTo>
                  <a:pt x="621" y="320"/>
                </a:lnTo>
                <a:lnTo>
                  <a:pt x="629" y="323"/>
                </a:lnTo>
                <a:lnTo>
                  <a:pt x="637" y="328"/>
                </a:lnTo>
                <a:lnTo>
                  <a:pt x="652" y="338"/>
                </a:lnTo>
                <a:lnTo>
                  <a:pt x="684" y="358"/>
                </a:lnTo>
                <a:lnTo>
                  <a:pt x="701" y="361"/>
                </a:lnTo>
                <a:lnTo>
                  <a:pt x="708" y="361"/>
                </a:lnTo>
                <a:lnTo>
                  <a:pt x="714" y="357"/>
                </a:lnTo>
                <a:lnTo>
                  <a:pt x="721" y="352"/>
                </a:lnTo>
                <a:lnTo>
                  <a:pt x="727" y="346"/>
                </a:lnTo>
                <a:lnTo>
                  <a:pt x="739" y="332"/>
                </a:lnTo>
                <a:lnTo>
                  <a:pt x="766" y="304"/>
                </a:lnTo>
                <a:lnTo>
                  <a:pt x="786" y="297"/>
                </a:lnTo>
                <a:lnTo>
                  <a:pt x="794" y="297"/>
                </a:lnTo>
                <a:lnTo>
                  <a:pt x="811" y="299"/>
                </a:lnTo>
                <a:lnTo>
                  <a:pt x="840" y="303"/>
                </a:lnTo>
                <a:lnTo>
                  <a:pt x="866" y="300"/>
                </a:lnTo>
                <a:lnTo>
                  <a:pt x="873" y="297"/>
                </a:lnTo>
                <a:lnTo>
                  <a:pt x="878" y="309"/>
                </a:lnTo>
                <a:lnTo>
                  <a:pt x="889" y="330"/>
                </a:lnTo>
                <a:lnTo>
                  <a:pt x="917" y="368"/>
                </a:lnTo>
                <a:lnTo>
                  <a:pt x="949" y="403"/>
                </a:lnTo>
                <a:lnTo>
                  <a:pt x="957" y="412"/>
                </a:lnTo>
                <a:lnTo>
                  <a:pt x="959" y="415"/>
                </a:lnTo>
                <a:lnTo>
                  <a:pt x="965" y="420"/>
                </a:lnTo>
                <a:lnTo>
                  <a:pt x="975" y="433"/>
                </a:lnTo>
                <a:lnTo>
                  <a:pt x="976" y="441"/>
                </a:lnTo>
                <a:lnTo>
                  <a:pt x="976" y="449"/>
                </a:lnTo>
                <a:lnTo>
                  <a:pt x="976" y="452"/>
                </a:lnTo>
                <a:lnTo>
                  <a:pt x="973" y="458"/>
                </a:lnTo>
                <a:lnTo>
                  <a:pt x="968" y="468"/>
                </a:lnTo>
                <a:lnTo>
                  <a:pt x="959" y="488"/>
                </a:lnTo>
                <a:lnTo>
                  <a:pt x="959" y="499"/>
                </a:lnTo>
                <a:lnTo>
                  <a:pt x="960" y="509"/>
                </a:lnTo>
                <a:lnTo>
                  <a:pt x="963" y="513"/>
                </a:lnTo>
                <a:lnTo>
                  <a:pt x="976" y="536"/>
                </a:lnTo>
                <a:lnTo>
                  <a:pt x="1005" y="581"/>
                </a:lnTo>
                <a:lnTo>
                  <a:pt x="1053" y="672"/>
                </a:lnTo>
                <a:lnTo>
                  <a:pt x="1063" y="722"/>
                </a:lnTo>
                <a:lnTo>
                  <a:pt x="1062" y="772"/>
                </a:lnTo>
                <a:lnTo>
                  <a:pt x="1054" y="800"/>
                </a:lnTo>
                <a:lnTo>
                  <a:pt x="1053" y="801"/>
                </a:lnTo>
                <a:lnTo>
                  <a:pt x="1047" y="807"/>
                </a:lnTo>
                <a:lnTo>
                  <a:pt x="1026" y="827"/>
                </a:lnTo>
                <a:lnTo>
                  <a:pt x="1008" y="843"/>
                </a:lnTo>
                <a:lnTo>
                  <a:pt x="1008" y="843"/>
                </a:lnTo>
                <a:lnTo>
                  <a:pt x="1005" y="842"/>
                </a:lnTo>
                <a:lnTo>
                  <a:pt x="1002" y="838"/>
                </a:lnTo>
                <a:lnTo>
                  <a:pt x="994" y="829"/>
                </a:lnTo>
                <a:lnTo>
                  <a:pt x="986" y="820"/>
                </a:lnTo>
                <a:lnTo>
                  <a:pt x="985" y="819"/>
                </a:lnTo>
                <a:lnTo>
                  <a:pt x="978" y="817"/>
                </a:lnTo>
                <a:lnTo>
                  <a:pt x="972" y="816"/>
                </a:lnTo>
                <a:lnTo>
                  <a:pt x="966" y="816"/>
                </a:lnTo>
                <a:lnTo>
                  <a:pt x="955" y="819"/>
                </a:lnTo>
                <a:lnTo>
                  <a:pt x="943" y="823"/>
                </a:lnTo>
                <a:lnTo>
                  <a:pt x="920" y="836"/>
                </a:lnTo>
                <a:lnTo>
                  <a:pt x="915" y="838"/>
                </a:lnTo>
                <a:lnTo>
                  <a:pt x="910" y="841"/>
                </a:lnTo>
                <a:lnTo>
                  <a:pt x="898" y="842"/>
                </a:lnTo>
                <a:lnTo>
                  <a:pt x="885" y="841"/>
                </a:lnTo>
                <a:lnTo>
                  <a:pt x="859" y="836"/>
                </a:lnTo>
                <a:lnTo>
                  <a:pt x="839" y="835"/>
                </a:lnTo>
                <a:lnTo>
                  <a:pt x="834" y="835"/>
                </a:lnTo>
                <a:lnTo>
                  <a:pt x="827" y="833"/>
                </a:lnTo>
                <a:lnTo>
                  <a:pt x="820" y="829"/>
                </a:lnTo>
                <a:lnTo>
                  <a:pt x="805" y="825"/>
                </a:lnTo>
                <a:lnTo>
                  <a:pt x="797" y="826"/>
                </a:lnTo>
                <a:lnTo>
                  <a:pt x="791" y="830"/>
                </a:lnTo>
                <a:lnTo>
                  <a:pt x="782" y="835"/>
                </a:lnTo>
                <a:lnTo>
                  <a:pt x="766" y="841"/>
                </a:lnTo>
                <a:lnTo>
                  <a:pt x="749" y="845"/>
                </a:lnTo>
                <a:lnTo>
                  <a:pt x="744" y="845"/>
                </a:lnTo>
                <a:lnTo>
                  <a:pt x="740" y="848"/>
                </a:lnTo>
                <a:lnTo>
                  <a:pt x="737" y="849"/>
                </a:lnTo>
                <a:lnTo>
                  <a:pt x="734" y="852"/>
                </a:lnTo>
                <a:lnTo>
                  <a:pt x="731" y="855"/>
                </a:lnTo>
                <a:lnTo>
                  <a:pt x="728" y="862"/>
                </a:lnTo>
                <a:lnTo>
                  <a:pt x="727" y="871"/>
                </a:lnTo>
                <a:lnTo>
                  <a:pt x="723" y="884"/>
                </a:lnTo>
                <a:lnTo>
                  <a:pt x="723" y="884"/>
                </a:lnTo>
                <a:lnTo>
                  <a:pt x="715" y="893"/>
                </a:lnTo>
                <a:lnTo>
                  <a:pt x="701" y="909"/>
                </a:lnTo>
                <a:lnTo>
                  <a:pt x="668" y="935"/>
                </a:lnTo>
                <a:lnTo>
                  <a:pt x="639" y="965"/>
                </a:lnTo>
                <a:lnTo>
                  <a:pt x="634" y="974"/>
                </a:lnTo>
                <a:lnTo>
                  <a:pt x="633" y="977"/>
                </a:lnTo>
                <a:lnTo>
                  <a:pt x="636" y="980"/>
                </a:lnTo>
                <a:lnTo>
                  <a:pt x="637" y="980"/>
                </a:lnTo>
                <a:lnTo>
                  <a:pt x="640" y="981"/>
                </a:lnTo>
                <a:lnTo>
                  <a:pt x="646" y="983"/>
                </a:lnTo>
                <a:lnTo>
                  <a:pt x="655" y="988"/>
                </a:lnTo>
                <a:lnTo>
                  <a:pt x="656" y="990"/>
                </a:lnTo>
                <a:lnTo>
                  <a:pt x="656" y="994"/>
                </a:lnTo>
                <a:lnTo>
                  <a:pt x="656" y="1000"/>
                </a:lnTo>
                <a:lnTo>
                  <a:pt x="658" y="1012"/>
                </a:lnTo>
                <a:lnTo>
                  <a:pt x="655" y="1017"/>
                </a:lnTo>
                <a:lnTo>
                  <a:pt x="652" y="1023"/>
                </a:lnTo>
                <a:lnTo>
                  <a:pt x="649" y="1025"/>
                </a:lnTo>
                <a:lnTo>
                  <a:pt x="659" y="1048"/>
                </a:lnTo>
                <a:lnTo>
                  <a:pt x="676" y="1084"/>
                </a:lnTo>
                <a:lnTo>
                  <a:pt x="691" y="1139"/>
                </a:lnTo>
                <a:lnTo>
                  <a:pt x="692" y="1185"/>
                </a:lnTo>
                <a:lnTo>
                  <a:pt x="694" y="1197"/>
                </a:lnTo>
                <a:lnTo>
                  <a:pt x="692" y="1197"/>
                </a:lnTo>
                <a:lnTo>
                  <a:pt x="688" y="1197"/>
                </a:lnTo>
                <a:lnTo>
                  <a:pt x="686" y="1197"/>
                </a:lnTo>
                <a:lnTo>
                  <a:pt x="686" y="1197"/>
                </a:lnTo>
                <a:lnTo>
                  <a:pt x="681" y="1198"/>
                </a:lnTo>
                <a:lnTo>
                  <a:pt x="673" y="1198"/>
                </a:lnTo>
                <a:lnTo>
                  <a:pt x="659" y="1201"/>
                </a:lnTo>
                <a:lnTo>
                  <a:pt x="650" y="1206"/>
                </a:lnTo>
                <a:lnTo>
                  <a:pt x="649" y="1207"/>
                </a:lnTo>
                <a:lnTo>
                  <a:pt x="649" y="1203"/>
                </a:lnTo>
                <a:lnTo>
                  <a:pt x="650" y="1191"/>
                </a:lnTo>
                <a:lnTo>
                  <a:pt x="649" y="1180"/>
                </a:lnTo>
                <a:lnTo>
                  <a:pt x="642" y="1161"/>
                </a:lnTo>
                <a:lnTo>
                  <a:pt x="636" y="1149"/>
                </a:lnTo>
                <a:lnTo>
                  <a:pt x="630" y="1143"/>
                </a:lnTo>
                <a:lnTo>
                  <a:pt x="621" y="1129"/>
                </a:lnTo>
                <a:lnTo>
                  <a:pt x="605" y="1098"/>
                </a:lnTo>
                <a:lnTo>
                  <a:pt x="591" y="1068"/>
                </a:lnTo>
                <a:lnTo>
                  <a:pt x="588" y="1059"/>
                </a:lnTo>
                <a:lnTo>
                  <a:pt x="581" y="1065"/>
                </a:lnTo>
                <a:lnTo>
                  <a:pt x="575" y="1068"/>
                </a:lnTo>
                <a:lnTo>
                  <a:pt x="569" y="1069"/>
                </a:lnTo>
                <a:lnTo>
                  <a:pt x="565" y="1069"/>
                </a:lnTo>
                <a:lnTo>
                  <a:pt x="559" y="1068"/>
                </a:lnTo>
                <a:lnTo>
                  <a:pt x="555" y="1065"/>
                </a:lnTo>
                <a:lnTo>
                  <a:pt x="546" y="1058"/>
                </a:lnTo>
                <a:lnTo>
                  <a:pt x="527" y="1042"/>
                </a:lnTo>
                <a:lnTo>
                  <a:pt x="527" y="1042"/>
                </a:lnTo>
                <a:lnTo>
                  <a:pt x="527" y="1045"/>
                </a:lnTo>
                <a:lnTo>
                  <a:pt x="527" y="1049"/>
                </a:lnTo>
                <a:lnTo>
                  <a:pt x="526" y="1052"/>
                </a:lnTo>
                <a:lnTo>
                  <a:pt x="524" y="1055"/>
                </a:lnTo>
                <a:lnTo>
                  <a:pt x="521" y="1058"/>
                </a:lnTo>
                <a:lnTo>
                  <a:pt x="518" y="1058"/>
                </a:lnTo>
                <a:lnTo>
                  <a:pt x="518" y="1058"/>
                </a:lnTo>
                <a:lnTo>
                  <a:pt x="514" y="1059"/>
                </a:lnTo>
                <a:lnTo>
                  <a:pt x="505" y="1059"/>
                </a:lnTo>
                <a:lnTo>
                  <a:pt x="491" y="1064"/>
                </a:lnTo>
                <a:lnTo>
                  <a:pt x="478" y="1072"/>
                </a:lnTo>
                <a:lnTo>
                  <a:pt x="475" y="1074"/>
                </a:lnTo>
                <a:lnTo>
                  <a:pt x="469" y="1077"/>
                </a:lnTo>
                <a:lnTo>
                  <a:pt x="463" y="1078"/>
                </a:lnTo>
                <a:lnTo>
                  <a:pt x="456" y="1080"/>
                </a:lnTo>
                <a:lnTo>
                  <a:pt x="450" y="1078"/>
                </a:lnTo>
                <a:lnTo>
                  <a:pt x="440" y="1074"/>
                </a:lnTo>
                <a:lnTo>
                  <a:pt x="433" y="1067"/>
                </a:lnTo>
                <a:lnTo>
                  <a:pt x="431" y="1062"/>
                </a:lnTo>
                <a:lnTo>
                  <a:pt x="430" y="1056"/>
                </a:lnTo>
                <a:lnTo>
                  <a:pt x="431" y="1051"/>
                </a:lnTo>
                <a:lnTo>
                  <a:pt x="433" y="1043"/>
                </a:lnTo>
                <a:lnTo>
                  <a:pt x="434" y="1043"/>
                </a:lnTo>
                <a:lnTo>
                  <a:pt x="436" y="1039"/>
                </a:lnTo>
                <a:lnTo>
                  <a:pt x="442" y="1029"/>
                </a:lnTo>
                <a:lnTo>
                  <a:pt x="452" y="1004"/>
                </a:lnTo>
                <a:lnTo>
                  <a:pt x="453" y="991"/>
                </a:lnTo>
                <a:lnTo>
                  <a:pt x="452" y="980"/>
                </a:lnTo>
                <a:lnTo>
                  <a:pt x="449" y="972"/>
                </a:lnTo>
                <a:lnTo>
                  <a:pt x="442" y="964"/>
                </a:lnTo>
                <a:lnTo>
                  <a:pt x="429" y="951"/>
                </a:lnTo>
                <a:lnTo>
                  <a:pt x="411" y="941"/>
                </a:lnTo>
                <a:lnTo>
                  <a:pt x="392" y="936"/>
                </a:lnTo>
                <a:lnTo>
                  <a:pt x="374" y="936"/>
                </a:lnTo>
                <a:lnTo>
                  <a:pt x="355" y="939"/>
                </a:lnTo>
                <a:lnTo>
                  <a:pt x="346" y="941"/>
                </a:lnTo>
                <a:lnTo>
                  <a:pt x="343" y="942"/>
                </a:lnTo>
                <a:lnTo>
                  <a:pt x="340" y="945"/>
                </a:lnTo>
                <a:lnTo>
                  <a:pt x="339" y="948"/>
                </a:lnTo>
                <a:lnTo>
                  <a:pt x="337" y="951"/>
                </a:lnTo>
                <a:lnTo>
                  <a:pt x="336" y="958"/>
                </a:lnTo>
                <a:lnTo>
                  <a:pt x="336" y="965"/>
                </a:lnTo>
                <a:lnTo>
                  <a:pt x="336" y="981"/>
                </a:lnTo>
                <a:lnTo>
                  <a:pt x="337" y="981"/>
                </a:lnTo>
                <a:lnTo>
                  <a:pt x="339" y="981"/>
                </a:lnTo>
                <a:lnTo>
                  <a:pt x="343" y="981"/>
                </a:lnTo>
                <a:lnTo>
                  <a:pt x="346" y="983"/>
                </a:lnTo>
                <a:lnTo>
                  <a:pt x="349" y="984"/>
                </a:lnTo>
                <a:lnTo>
                  <a:pt x="352" y="985"/>
                </a:lnTo>
                <a:lnTo>
                  <a:pt x="353" y="988"/>
                </a:lnTo>
                <a:lnTo>
                  <a:pt x="355" y="990"/>
                </a:lnTo>
                <a:lnTo>
                  <a:pt x="355" y="993"/>
                </a:lnTo>
                <a:lnTo>
                  <a:pt x="355" y="997"/>
                </a:lnTo>
                <a:lnTo>
                  <a:pt x="355" y="1006"/>
                </a:lnTo>
                <a:lnTo>
                  <a:pt x="355" y="1014"/>
                </a:lnTo>
                <a:lnTo>
                  <a:pt x="355" y="1016"/>
                </a:lnTo>
                <a:lnTo>
                  <a:pt x="352" y="1014"/>
                </a:lnTo>
                <a:lnTo>
                  <a:pt x="349" y="1014"/>
                </a:lnTo>
                <a:lnTo>
                  <a:pt x="347" y="1014"/>
                </a:lnTo>
                <a:lnTo>
                  <a:pt x="346" y="1016"/>
                </a:lnTo>
                <a:lnTo>
                  <a:pt x="346" y="1017"/>
                </a:lnTo>
                <a:lnTo>
                  <a:pt x="345" y="1020"/>
                </a:lnTo>
                <a:lnTo>
                  <a:pt x="343" y="1025"/>
                </a:lnTo>
                <a:lnTo>
                  <a:pt x="342" y="1027"/>
                </a:lnTo>
                <a:lnTo>
                  <a:pt x="337" y="1025"/>
                </a:lnTo>
                <a:lnTo>
                  <a:pt x="337" y="1025"/>
                </a:lnTo>
                <a:lnTo>
                  <a:pt x="337" y="1032"/>
                </a:lnTo>
                <a:lnTo>
                  <a:pt x="340" y="1045"/>
                </a:lnTo>
                <a:lnTo>
                  <a:pt x="346" y="1069"/>
                </a:lnTo>
                <a:lnTo>
                  <a:pt x="346" y="1096"/>
                </a:lnTo>
                <a:lnTo>
                  <a:pt x="345" y="1101"/>
                </a:lnTo>
                <a:lnTo>
                  <a:pt x="337" y="1122"/>
                </a:lnTo>
                <a:lnTo>
                  <a:pt x="326" y="1159"/>
                </a:lnTo>
                <a:lnTo>
                  <a:pt x="304" y="1232"/>
                </a:lnTo>
                <a:lnTo>
                  <a:pt x="274" y="1304"/>
                </a:lnTo>
                <a:lnTo>
                  <a:pt x="263" y="1322"/>
                </a:lnTo>
                <a:lnTo>
                  <a:pt x="258" y="1330"/>
                </a:lnTo>
                <a:lnTo>
                  <a:pt x="247" y="1349"/>
                </a:lnTo>
                <a:lnTo>
                  <a:pt x="233" y="1388"/>
                </a:lnTo>
                <a:lnTo>
                  <a:pt x="232" y="1409"/>
                </a:lnTo>
                <a:lnTo>
                  <a:pt x="234" y="1429"/>
                </a:lnTo>
                <a:lnTo>
                  <a:pt x="239" y="1438"/>
                </a:lnTo>
                <a:lnTo>
                  <a:pt x="239" y="1442"/>
                </a:lnTo>
                <a:lnTo>
                  <a:pt x="240" y="1451"/>
                </a:lnTo>
                <a:lnTo>
                  <a:pt x="239" y="1459"/>
                </a:lnTo>
                <a:lnTo>
                  <a:pt x="239" y="1474"/>
                </a:lnTo>
                <a:lnTo>
                  <a:pt x="243" y="1481"/>
                </a:lnTo>
                <a:lnTo>
                  <a:pt x="250" y="1490"/>
                </a:lnTo>
                <a:lnTo>
                  <a:pt x="265" y="1504"/>
                </a:lnTo>
                <a:lnTo>
                  <a:pt x="295" y="1530"/>
                </a:lnTo>
                <a:lnTo>
                  <a:pt x="326" y="1558"/>
                </a:lnTo>
                <a:lnTo>
                  <a:pt x="334" y="1564"/>
                </a:lnTo>
                <a:lnTo>
                  <a:pt x="336" y="1566"/>
                </a:lnTo>
                <a:lnTo>
                  <a:pt x="336" y="1568"/>
                </a:lnTo>
                <a:lnTo>
                  <a:pt x="336" y="1569"/>
                </a:lnTo>
                <a:lnTo>
                  <a:pt x="336" y="1572"/>
                </a:lnTo>
                <a:lnTo>
                  <a:pt x="336" y="1577"/>
                </a:lnTo>
                <a:lnTo>
                  <a:pt x="333" y="1585"/>
                </a:lnTo>
                <a:lnTo>
                  <a:pt x="333" y="1587"/>
                </a:lnTo>
                <a:lnTo>
                  <a:pt x="332" y="1595"/>
                </a:lnTo>
                <a:lnTo>
                  <a:pt x="332" y="1604"/>
                </a:lnTo>
                <a:lnTo>
                  <a:pt x="334" y="1611"/>
                </a:lnTo>
                <a:lnTo>
                  <a:pt x="339" y="1617"/>
                </a:lnTo>
                <a:lnTo>
                  <a:pt x="343" y="1623"/>
                </a:lnTo>
                <a:lnTo>
                  <a:pt x="355" y="1635"/>
                </a:lnTo>
                <a:lnTo>
                  <a:pt x="375" y="1659"/>
                </a:lnTo>
                <a:lnTo>
                  <a:pt x="379" y="1665"/>
                </a:lnTo>
                <a:lnTo>
                  <a:pt x="379" y="1671"/>
                </a:lnTo>
                <a:lnTo>
                  <a:pt x="379" y="1682"/>
                </a:lnTo>
                <a:lnTo>
                  <a:pt x="378" y="1695"/>
                </a:lnTo>
                <a:lnTo>
                  <a:pt x="375" y="1719"/>
                </a:lnTo>
                <a:lnTo>
                  <a:pt x="378" y="1732"/>
                </a:lnTo>
                <a:lnTo>
                  <a:pt x="382" y="1743"/>
                </a:lnTo>
                <a:lnTo>
                  <a:pt x="392" y="1766"/>
                </a:lnTo>
                <a:lnTo>
                  <a:pt x="424" y="1807"/>
                </a:lnTo>
                <a:lnTo>
                  <a:pt x="465" y="1839"/>
                </a:lnTo>
                <a:lnTo>
                  <a:pt x="478" y="1845"/>
                </a:lnTo>
                <a:lnTo>
                  <a:pt x="482" y="1848"/>
                </a:lnTo>
                <a:lnTo>
                  <a:pt x="487" y="1848"/>
                </a:lnTo>
                <a:lnTo>
                  <a:pt x="492" y="1848"/>
                </a:lnTo>
                <a:lnTo>
                  <a:pt x="497" y="1846"/>
                </a:lnTo>
                <a:lnTo>
                  <a:pt x="505" y="1840"/>
                </a:lnTo>
                <a:lnTo>
                  <a:pt x="526" y="1830"/>
                </a:lnTo>
                <a:lnTo>
                  <a:pt x="537" y="1829"/>
                </a:lnTo>
                <a:lnTo>
                  <a:pt x="536" y="1836"/>
                </a:lnTo>
                <a:lnTo>
                  <a:pt x="537" y="1842"/>
                </a:lnTo>
                <a:lnTo>
                  <a:pt x="540" y="1846"/>
                </a:lnTo>
                <a:lnTo>
                  <a:pt x="543" y="1850"/>
                </a:lnTo>
                <a:lnTo>
                  <a:pt x="550" y="1859"/>
                </a:lnTo>
                <a:lnTo>
                  <a:pt x="558" y="1868"/>
                </a:lnTo>
                <a:lnTo>
                  <a:pt x="562" y="1878"/>
                </a:lnTo>
                <a:lnTo>
                  <a:pt x="562" y="1890"/>
                </a:lnTo>
                <a:lnTo>
                  <a:pt x="562" y="1890"/>
                </a:lnTo>
                <a:lnTo>
                  <a:pt x="566" y="1890"/>
                </a:lnTo>
                <a:lnTo>
                  <a:pt x="576" y="1890"/>
                </a:lnTo>
                <a:lnTo>
                  <a:pt x="585" y="1891"/>
                </a:lnTo>
                <a:lnTo>
                  <a:pt x="592" y="1897"/>
                </a:lnTo>
                <a:lnTo>
                  <a:pt x="598" y="1903"/>
                </a:lnTo>
                <a:lnTo>
                  <a:pt x="602" y="1911"/>
                </a:lnTo>
                <a:lnTo>
                  <a:pt x="604" y="1916"/>
                </a:lnTo>
                <a:lnTo>
                  <a:pt x="601" y="1921"/>
                </a:lnTo>
                <a:lnTo>
                  <a:pt x="601" y="1924"/>
                </a:lnTo>
                <a:lnTo>
                  <a:pt x="601" y="1924"/>
                </a:lnTo>
                <a:lnTo>
                  <a:pt x="600" y="1924"/>
                </a:lnTo>
                <a:lnTo>
                  <a:pt x="597" y="1924"/>
                </a:lnTo>
                <a:lnTo>
                  <a:pt x="592" y="1924"/>
                </a:lnTo>
                <a:lnTo>
                  <a:pt x="588" y="1924"/>
                </a:lnTo>
                <a:lnTo>
                  <a:pt x="588" y="1924"/>
                </a:lnTo>
                <a:lnTo>
                  <a:pt x="588" y="1932"/>
                </a:lnTo>
                <a:lnTo>
                  <a:pt x="585" y="1945"/>
                </a:lnTo>
                <a:lnTo>
                  <a:pt x="581" y="1953"/>
                </a:lnTo>
                <a:lnTo>
                  <a:pt x="572" y="1959"/>
                </a:lnTo>
                <a:lnTo>
                  <a:pt x="562" y="1964"/>
                </a:lnTo>
                <a:lnTo>
                  <a:pt x="550" y="1966"/>
                </a:lnTo>
                <a:lnTo>
                  <a:pt x="544" y="1966"/>
                </a:lnTo>
                <a:lnTo>
                  <a:pt x="544" y="1965"/>
                </a:lnTo>
                <a:lnTo>
                  <a:pt x="544" y="1962"/>
                </a:lnTo>
                <a:lnTo>
                  <a:pt x="544" y="1959"/>
                </a:lnTo>
                <a:lnTo>
                  <a:pt x="543" y="1956"/>
                </a:lnTo>
                <a:lnTo>
                  <a:pt x="540" y="1955"/>
                </a:lnTo>
                <a:lnTo>
                  <a:pt x="537" y="1953"/>
                </a:lnTo>
                <a:lnTo>
                  <a:pt x="537" y="1952"/>
                </a:lnTo>
                <a:lnTo>
                  <a:pt x="529" y="1952"/>
                </a:lnTo>
                <a:lnTo>
                  <a:pt x="523" y="1953"/>
                </a:lnTo>
                <a:lnTo>
                  <a:pt x="518" y="1956"/>
                </a:lnTo>
                <a:lnTo>
                  <a:pt x="516" y="1961"/>
                </a:lnTo>
                <a:lnTo>
                  <a:pt x="513" y="1966"/>
                </a:lnTo>
                <a:lnTo>
                  <a:pt x="511" y="1972"/>
                </a:lnTo>
                <a:lnTo>
                  <a:pt x="508" y="1984"/>
                </a:lnTo>
                <a:lnTo>
                  <a:pt x="504" y="1991"/>
                </a:lnTo>
                <a:lnTo>
                  <a:pt x="494" y="1991"/>
                </a:lnTo>
                <a:lnTo>
                  <a:pt x="494" y="1991"/>
                </a:lnTo>
                <a:lnTo>
                  <a:pt x="489" y="1991"/>
                </a:lnTo>
                <a:lnTo>
                  <a:pt x="484" y="1988"/>
                </a:lnTo>
                <a:lnTo>
                  <a:pt x="478" y="1984"/>
                </a:lnTo>
                <a:lnTo>
                  <a:pt x="468" y="1974"/>
                </a:lnTo>
                <a:lnTo>
                  <a:pt x="459" y="1966"/>
                </a:lnTo>
                <a:lnTo>
                  <a:pt x="466" y="1952"/>
                </a:lnTo>
                <a:lnTo>
                  <a:pt x="471" y="1937"/>
                </a:lnTo>
                <a:lnTo>
                  <a:pt x="472" y="1924"/>
                </a:lnTo>
                <a:lnTo>
                  <a:pt x="469" y="1913"/>
                </a:lnTo>
                <a:lnTo>
                  <a:pt x="463" y="1903"/>
                </a:lnTo>
                <a:lnTo>
                  <a:pt x="455" y="1894"/>
                </a:lnTo>
                <a:lnTo>
                  <a:pt x="445" y="1887"/>
                </a:lnTo>
                <a:lnTo>
                  <a:pt x="421" y="1874"/>
                </a:lnTo>
                <a:lnTo>
                  <a:pt x="394" y="1864"/>
                </a:lnTo>
                <a:lnTo>
                  <a:pt x="381" y="1858"/>
                </a:lnTo>
                <a:lnTo>
                  <a:pt x="378" y="1858"/>
                </a:lnTo>
                <a:lnTo>
                  <a:pt x="372" y="1856"/>
                </a:lnTo>
                <a:lnTo>
                  <a:pt x="368" y="1858"/>
                </a:lnTo>
                <a:lnTo>
                  <a:pt x="365" y="1859"/>
                </a:lnTo>
                <a:lnTo>
                  <a:pt x="362" y="1862"/>
                </a:lnTo>
                <a:lnTo>
                  <a:pt x="359" y="1865"/>
                </a:lnTo>
                <a:lnTo>
                  <a:pt x="359" y="1866"/>
                </a:lnTo>
                <a:lnTo>
                  <a:pt x="358" y="1868"/>
                </a:lnTo>
                <a:lnTo>
                  <a:pt x="356" y="1874"/>
                </a:lnTo>
                <a:lnTo>
                  <a:pt x="349" y="1891"/>
                </a:lnTo>
                <a:lnTo>
                  <a:pt x="343" y="1904"/>
                </a:lnTo>
                <a:lnTo>
                  <a:pt x="343" y="1904"/>
                </a:lnTo>
                <a:lnTo>
                  <a:pt x="340" y="1904"/>
                </a:lnTo>
                <a:lnTo>
                  <a:pt x="337" y="1906"/>
                </a:lnTo>
                <a:lnTo>
                  <a:pt x="334" y="1907"/>
                </a:lnTo>
                <a:lnTo>
                  <a:pt x="326" y="1911"/>
                </a:lnTo>
                <a:lnTo>
                  <a:pt x="316" y="1917"/>
                </a:lnTo>
                <a:lnTo>
                  <a:pt x="304" y="1919"/>
                </a:lnTo>
                <a:lnTo>
                  <a:pt x="292" y="1916"/>
                </a:lnTo>
                <a:lnTo>
                  <a:pt x="288" y="1911"/>
                </a:lnTo>
                <a:lnTo>
                  <a:pt x="288" y="1911"/>
                </a:lnTo>
                <a:close/>
              </a:path>
            </a:pathLst>
          </a:custGeom>
          <a:noFill/>
          <a:ln w="4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359080" y="4871880"/>
            <a:ext cx="833040" cy="595080"/>
            <a:chOff x="2359080" y="4871880"/>
            <a:chExt cx="833040" cy="595080"/>
          </a:xfrm>
        </p:grpSpPr>
        <p:sp>
          <p:nvSpPr>
            <p:cNvPr id="101" name=""/>
            <p:cNvSpPr/>
            <p:nvPr/>
          </p:nvSpPr>
          <p:spPr>
            <a:xfrm>
              <a:off x="2359080" y="4871880"/>
              <a:ext cx="828720" cy="516240"/>
            </a:xfrm>
            <a:custGeom>
              <a:avLst/>
              <a:gdLst/>
              <a:ahLst/>
              <a:rect l="l" t="t" r="r" b="b"/>
              <a:pathLst>
                <a:path w="2197" h="1744">
                  <a:moveTo>
                    <a:pt x="4" y="889"/>
                  </a:moveTo>
                  <a:lnTo>
                    <a:pt x="3" y="893"/>
                  </a:lnTo>
                  <a:lnTo>
                    <a:pt x="2" y="900"/>
                  </a:lnTo>
                  <a:lnTo>
                    <a:pt x="2" y="906"/>
                  </a:lnTo>
                  <a:lnTo>
                    <a:pt x="2" y="906"/>
                  </a:lnTo>
                  <a:lnTo>
                    <a:pt x="2" y="907"/>
                  </a:lnTo>
                  <a:lnTo>
                    <a:pt x="2" y="909"/>
                  </a:lnTo>
                  <a:lnTo>
                    <a:pt x="3" y="915"/>
                  </a:lnTo>
                  <a:lnTo>
                    <a:pt x="3" y="920"/>
                  </a:lnTo>
                  <a:lnTo>
                    <a:pt x="4" y="920"/>
                  </a:lnTo>
                  <a:lnTo>
                    <a:pt x="6" y="924"/>
                  </a:lnTo>
                  <a:lnTo>
                    <a:pt x="14" y="935"/>
                  </a:lnTo>
                  <a:lnTo>
                    <a:pt x="20" y="943"/>
                  </a:lnTo>
                  <a:lnTo>
                    <a:pt x="21" y="943"/>
                  </a:lnTo>
                  <a:lnTo>
                    <a:pt x="22" y="946"/>
                  </a:lnTo>
                  <a:lnTo>
                    <a:pt x="28" y="955"/>
                  </a:lnTo>
                  <a:lnTo>
                    <a:pt x="33" y="961"/>
                  </a:lnTo>
                  <a:lnTo>
                    <a:pt x="34" y="961"/>
                  </a:lnTo>
                  <a:lnTo>
                    <a:pt x="36" y="966"/>
                  </a:lnTo>
                  <a:lnTo>
                    <a:pt x="37" y="967"/>
                  </a:lnTo>
                  <a:lnTo>
                    <a:pt x="38" y="967"/>
                  </a:lnTo>
                  <a:lnTo>
                    <a:pt x="40" y="971"/>
                  </a:lnTo>
                  <a:lnTo>
                    <a:pt x="41" y="972"/>
                  </a:lnTo>
                  <a:lnTo>
                    <a:pt x="42" y="972"/>
                  </a:lnTo>
                  <a:lnTo>
                    <a:pt x="42" y="973"/>
                  </a:lnTo>
                  <a:lnTo>
                    <a:pt x="42" y="976"/>
                  </a:lnTo>
                  <a:lnTo>
                    <a:pt x="42" y="977"/>
                  </a:lnTo>
                  <a:lnTo>
                    <a:pt x="44" y="977"/>
                  </a:lnTo>
                  <a:lnTo>
                    <a:pt x="45" y="979"/>
                  </a:lnTo>
                  <a:lnTo>
                    <a:pt x="48" y="984"/>
                  </a:lnTo>
                  <a:lnTo>
                    <a:pt x="51" y="988"/>
                  </a:lnTo>
                  <a:lnTo>
                    <a:pt x="52" y="988"/>
                  </a:lnTo>
                  <a:lnTo>
                    <a:pt x="53" y="989"/>
                  </a:lnTo>
                  <a:lnTo>
                    <a:pt x="57" y="992"/>
                  </a:lnTo>
                  <a:lnTo>
                    <a:pt x="59" y="994"/>
                  </a:lnTo>
                  <a:lnTo>
                    <a:pt x="60" y="994"/>
                  </a:lnTo>
                  <a:lnTo>
                    <a:pt x="60" y="995"/>
                  </a:lnTo>
                  <a:lnTo>
                    <a:pt x="60" y="998"/>
                  </a:lnTo>
                  <a:lnTo>
                    <a:pt x="63" y="1005"/>
                  </a:lnTo>
                  <a:lnTo>
                    <a:pt x="64" y="1012"/>
                  </a:lnTo>
                  <a:lnTo>
                    <a:pt x="65" y="1012"/>
                  </a:lnTo>
                  <a:lnTo>
                    <a:pt x="65" y="1014"/>
                  </a:lnTo>
                  <a:lnTo>
                    <a:pt x="64" y="1019"/>
                  </a:lnTo>
                  <a:lnTo>
                    <a:pt x="64" y="1024"/>
                  </a:lnTo>
                  <a:lnTo>
                    <a:pt x="65" y="1024"/>
                  </a:lnTo>
                  <a:lnTo>
                    <a:pt x="64" y="1025"/>
                  </a:lnTo>
                  <a:lnTo>
                    <a:pt x="62" y="1029"/>
                  </a:lnTo>
                  <a:lnTo>
                    <a:pt x="61" y="1033"/>
                  </a:lnTo>
                  <a:lnTo>
                    <a:pt x="61" y="1033"/>
                  </a:lnTo>
                  <a:lnTo>
                    <a:pt x="60" y="1033"/>
                  </a:lnTo>
                  <a:lnTo>
                    <a:pt x="59" y="1033"/>
                  </a:lnTo>
                  <a:lnTo>
                    <a:pt x="56" y="1033"/>
                  </a:lnTo>
                  <a:lnTo>
                    <a:pt x="53" y="1033"/>
                  </a:lnTo>
                  <a:lnTo>
                    <a:pt x="53" y="1033"/>
                  </a:lnTo>
                  <a:lnTo>
                    <a:pt x="51" y="1026"/>
                  </a:lnTo>
                  <a:lnTo>
                    <a:pt x="50" y="1022"/>
                  </a:lnTo>
                  <a:lnTo>
                    <a:pt x="50" y="1021"/>
                  </a:lnTo>
                  <a:lnTo>
                    <a:pt x="49" y="1019"/>
                  </a:lnTo>
                  <a:lnTo>
                    <a:pt x="47" y="1016"/>
                  </a:lnTo>
                  <a:lnTo>
                    <a:pt x="46" y="1014"/>
                  </a:lnTo>
                  <a:lnTo>
                    <a:pt x="46" y="1013"/>
                  </a:lnTo>
                  <a:lnTo>
                    <a:pt x="45" y="1014"/>
                  </a:lnTo>
                  <a:lnTo>
                    <a:pt x="41" y="1018"/>
                  </a:lnTo>
                  <a:lnTo>
                    <a:pt x="40" y="1022"/>
                  </a:lnTo>
                  <a:lnTo>
                    <a:pt x="40" y="1022"/>
                  </a:lnTo>
                  <a:lnTo>
                    <a:pt x="39" y="1021"/>
                  </a:lnTo>
                  <a:lnTo>
                    <a:pt x="37" y="1017"/>
                  </a:lnTo>
                  <a:lnTo>
                    <a:pt x="36" y="1014"/>
                  </a:lnTo>
                  <a:lnTo>
                    <a:pt x="36" y="1013"/>
                  </a:lnTo>
                  <a:lnTo>
                    <a:pt x="35" y="1012"/>
                  </a:lnTo>
                  <a:lnTo>
                    <a:pt x="32" y="1006"/>
                  </a:lnTo>
                  <a:lnTo>
                    <a:pt x="30" y="1002"/>
                  </a:lnTo>
                  <a:lnTo>
                    <a:pt x="30" y="1001"/>
                  </a:lnTo>
                  <a:lnTo>
                    <a:pt x="29" y="1000"/>
                  </a:lnTo>
                  <a:lnTo>
                    <a:pt x="26" y="995"/>
                  </a:lnTo>
                  <a:lnTo>
                    <a:pt x="24" y="992"/>
                  </a:lnTo>
                  <a:lnTo>
                    <a:pt x="24" y="991"/>
                  </a:lnTo>
                  <a:lnTo>
                    <a:pt x="21" y="990"/>
                  </a:lnTo>
                  <a:lnTo>
                    <a:pt x="20" y="989"/>
                  </a:lnTo>
                  <a:lnTo>
                    <a:pt x="20" y="990"/>
                  </a:lnTo>
                  <a:lnTo>
                    <a:pt x="20" y="991"/>
                  </a:lnTo>
                  <a:lnTo>
                    <a:pt x="21" y="995"/>
                  </a:lnTo>
                  <a:lnTo>
                    <a:pt x="21" y="999"/>
                  </a:lnTo>
                  <a:lnTo>
                    <a:pt x="22" y="999"/>
                  </a:lnTo>
                  <a:lnTo>
                    <a:pt x="24" y="1003"/>
                  </a:lnTo>
                  <a:lnTo>
                    <a:pt x="32" y="1016"/>
                  </a:lnTo>
                  <a:lnTo>
                    <a:pt x="37" y="1026"/>
                  </a:lnTo>
                  <a:lnTo>
                    <a:pt x="38" y="1026"/>
                  </a:lnTo>
                  <a:lnTo>
                    <a:pt x="39" y="1027"/>
                  </a:lnTo>
                  <a:lnTo>
                    <a:pt x="44" y="1030"/>
                  </a:lnTo>
                  <a:lnTo>
                    <a:pt x="47" y="1033"/>
                  </a:lnTo>
                  <a:lnTo>
                    <a:pt x="48" y="1033"/>
                  </a:lnTo>
                  <a:lnTo>
                    <a:pt x="48" y="1034"/>
                  </a:lnTo>
                  <a:lnTo>
                    <a:pt x="48" y="1035"/>
                  </a:lnTo>
                  <a:lnTo>
                    <a:pt x="49" y="1039"/>
                  </a:lnTo>
                  <a:lnTo>
                    <a:pt x="50" y="1042"/>
                  </a:lnTo>
                  <a:lnTo>
                    <a:pt x="51" y="1042"/>
                  </a:lnTo>
                  <a:lnTo>
                    <a:pt x="50" y="1043"/>
                  </a:lnTo>
                  <a:lnTo>
                    <a:pt x="48" y="1047"/>
                  </a:lnTo>
                  <a:lnTo>
                    <a:pt x="47" y="1048"/>
                  </a:lnTo>
                  <a:lnTo>
                    <a:pt x="47" y="1048"/>
                  </a:lnTo>
                  <a:lnTo>
                    <a:pt x="46" y="1048"/>
                  </a:lnTo>
                  <a:lnTo>
                    <a:pt x="45" y="1048"/>
                  </a:lnTo>
                  <a:lnTo>
                    <a:pt x="41" y="1048"/>
                  </a:lnTo>
                  <a:lnTo>
                    <a:pt x="39" y="1048"/>
                  </a:lnTo>
                  <a:lnTo>
                    <a:pt x="39" y="1048"/>
                  </a:lnTo>
                  <a:lnTo>
                    <a:pt x="37" y="1045"/>
                  </a:lnTo>
                  <a:lnTo>
                    <a:pt x="36" y="1043"/>
                  </a:lnTo>
                  <a:lnTo>
                    <a:pt x="36" y="1042"/>
                  </a:lnTo>
                  <a:lnTo>
                    <a:pt x="35" y="1043"/>
                  </a:lnTo>
                  <a:lnTo>
                    <a:pt x="34" y="1045"/>
                  </a:lnTo>
                  <a:lnTo>
                    <a:pt x="33" y="1046"/>
                  </a:lnTo>
                  <a:lnTo>
                    <a:pt x="33" y="1046"/>
                  </a:lnTo>
                  <a:lnTo>
                    <a:pt x="30" y="1040"/>
                  </a:lnTo>
                  <a:lnTo>
                    <a:pt x="29" y="1037"/>
                  </a:lnTo>
                  <a:lnTo>
                    <a:pt x="29" y="1036"/>
                  </a:lnTo>
                  <a:lnTo>
                    <a:pt x="26" y="1033"/>
                  </a:lnTo>
                  <a:lnTo>
                    <a:pt x="25" y="1030"/>
                  </a:lnTo>
                  <a:lnTo>
                    <a:pt x="25" y="1029"/>
                  </a:lnTo>
                  <a:lnTo>
                    <a:pt x="24" y="1029"/>
                  </a:lnTo>
                  <a:lnTo>
                    <a:pt x="23" y="1029"/>
                  </a:lnTo>
                  <a:lnTo>
                    <a:pt x="22" y="1029"/>
                  </a:lnTo>
                  <a:lnTo>
                    <a:pt x="22" y="1028"/>
                  </a:lnTo>
                  <a:lnTo>
                    <a:pt x="21" y="1028"/>
                  </a:lnTo>
                  <a:lnTo>
                    <a:pt x="18" y="1028"/>
                  </a:lnTo>
                  <a:lnTo>
                    <a:pt x="17" y="1028"/>
                  </a:lnTo>
                  <a:lnTo>
                    <a:pt x="17" y="1028"/>
                  </a:lnTo>
                  <a:lnTo>
                    <a:pt x="15" y="1026"/>
                  </a:lnTo>
                  <a:lnTo>
                    <a:pt x="14" y="1025"/>
                  </a:lnTo>
                  <a:lnTo>
                    <a:pt x="14" y="1024"/>
                  </a:lnTo>
                  <a:lnTo>
                    <a:pt x="14" y="1025"/>
                  </a:lnTo>
                  <a:lnTo>
                    <a:pt x="13" y="1028"/>
                  </a:lnTo>
                  <a:lnTo>
                    <a:pt x="13" y="1029"/>
                  </a:lnTo>
                  <a:lnTo>
                    <a:pt x="14" y="1029"/>
                  </a:lnTo>
                  <a:lnTo>
                    <a:pt x="15" y="1031"/>
                  </a:lnTo>
                  <a:lnTo>
                    <a:pt x="16" y="1033"/>
                  </a:lnTo>
                  <a:lnTo>
                    <a:pt x="17" y="1037"/>
                  </a:lnTo>
                  <a:lnTo>
                    <a:pt x="18" y="1038"/>
                  </a:lnTo>
                  <a:lnTo>
                    <a:pt x="20" y="1038"/>
                  </a:lnTo>
                  <a:lnTo>
                    <a:pt x="23" y="1041"/>
                  </a:lnTo>
                  <a:lnTo>
                    <a:pt x="25" y="1042"/>
                  </a:lnTo>
                  <a:lnTo>
                    <a:pt x="26" y="1042"/>
                  </a:lnTo>
                  <a:lnTo>
                    <a:pt x="28" y="1048"/>
                  </a:lnTo>
                  <a:lnTo>
                    <a:pt x="29" y="1050"/>
                  </a:lnTo>
                  <a:lnTo>
                    <a:pt x="30" y="1050"/>
                  </a:lnTo>
                  <a:lnTo>
                    <a:pt x="32" y="1052"/>
                  </a:lnTo>
                  <a:lnTo>
                    <a:pt x="35" y="1056"/>
                  </a:lnTo>
                  <a:lnTo>
                    <a:pt x="37" y="1058"/>
                  </a:lnTo>
                  <a:lnTo>
                    <a:pt x="38" y="1058"/>
                  </a:lnTo>
                  <a:lnTo>
                    <a:pt x="39" y="1060"/>
                  </a:lnTo>
                  <a:lnTo>
                    <a:pt x="44" y="1064"/>
                  </a:lnTo>
                  <a:lnTo>
                    <a:pt x="47" y="1068"/>
                  </a:lnTo>
                  <a:lnTo>
                    <a:pt x="48" y="1068"/>
                  </a:lnTo>
                  <a:lnTo>
                    <a:pt x="50" y="1069"/>
                  </a:lnTo>
                  <a:lnTo>
                    <a:pt x="57" y="1072"/>
                  </a:lnTo>
                  <a:lnTo>
                    <a:pt x="61" y="1073"/>
                  </a:lnTo>
                  <a:lnTo>
                    <a:pt x="62" y="1073"/>
                  </a:lnTo>
                  <a:lnTo>
                    <a:pt x="62" y="1074"/>
                  </a:lnTo>
                  <a:lnTo>
                    <a:pt x="63" y="1076"/>
                  </a:lnTo>
                  <a:lnTo>
                    <a:pt x="67" y="1085"/>
                  </a:lnTo>
                  <a:lnTo>
                    <a:pt x="69" y="1092"/>
                  </a:lnTo>
                  <a:lnTo>
                    <a:pt x="70" y="1092"/>
                  </a:lnTo>
                  <a:lnTo>
                    <a:pt x="71" y="1095"/>
                  </a:lnTo>
                  <a:lnTo>
                    <a:pt x="75" y="1101"/>
                  </a:lnTo>
                  <a:lnTo>
                    <a:pt x="79" y="1106"/>
                  </a:lnTo>
                  <a:lnTo>
                    <a:pt x="80" y="1106"/>
                  </a:lnTo>
                  <a:lnTo>
                    <a:pt x="80" y="1107"/>
                  </a:lnTo>
                  <a:lnTo>
                    <a:pt x="80" y="1109"/>
                  </a:lnTo>
                  <a:lnTo>
                    <a:pt x="83" y="1119"/>
                  </a:lnTo>
                  <a:lnTo>
                    <a:pt x="84" y="1127"/>
                  </a:lnTo>
                  <a:lnTo>
                    <a:pt x="85" y="1127"/>
                  </a:lnTo>
                  <a:lnTo>
                    <a:pt x="87" y="1130"/>
                  </a:lnTo>
                  <a:lnTo>
                    <a:pt x="94" y="1140"/>
                  </a:lnTo>
                  <a:lnTo>
                    <a:pt x="98" y="1146"/>
                  </a:lnTo>
                  <a:lnTo>
                    <a:pt x="99" y="1146"/>
                  </a:lnTo>
                  <a:lnTo>
                    <a:pt x="100" y="1149"/>
                  </a:lnTo>
                  <a:lnTo>
                    <a:pt x="106" y="1154"/>
                  </a:lnTo>
                  <a:lnTo>
                    <a:pt x="110" y="1158"/>
                  </a:lnTo>
                  <a:lnTo>
                    <a:pt x="111" y="1158"/>
                  </a:lnTo>
                  <a:lnTo>
                    <a:pt x="111" y="1159"/>
                  </a:lnTo>
                  <a:lnTo>
                    <a:pt x="111" y="1162"/>
                  </a:lnTo>
                  <a:lnTo>
                    <a:pt x="114" y="1168"/>
                  </a:lnTo>
                  <a:lnTo>
                    <a:pt x="115" y="1173"/>
                  </a:lnTo>
                  <a:lnTo>
                    <a:pt x="116" y="1173"/>
                  </a:lnTo>
                  <a:lnTo>
                    <a:pt x="117" y="1175"/>
                  </a:lnTo>
                  <a:lnTo>
                    <a:pt x="122" y="1180"/>
                  </a:lnTo>
                  <a:lnTo>
                    <a:pt x="126" y="1184"/>
                  </a:lnTo>
                  <a:lnTo>
                    <a:pt x="127" y="1184"/>
                  </a:lnTo>
                  <a:lnTo>
                    <a:pt x="130" y="1189"/>
                  </a:lnTo>
                  <a:lnTo>
                    <a:pt x="132" y="1191"/>
                  </a:lnTo>
                  <a:lnTo>
                    <a:pt x="133" y="1191"/>
                  </a:lnTo>
                  <a:lnTo>
                    <a:pt x="135" y="1196"/>
                  </a:lnTo>
                  <a:lnTo>
                    <a:pt x="136" y="1197"/>
                  </a:lnTo>
                  <a:lnTo>
                    <a:pt x="138" y="1197"/>
                  </a:lnTo>
                  <a:lnTo>
                    <a:pt x="138" y="1198"/>
                  </a:lnTo>
                  <a:lnTo>
                    <a:pt x="138" y="1199"/>
                  </a:lnTo>
                  <a:lnTo>
                    <a:pt x="140" y="1204"/>
                  </a:lnTo>
                  <a:lnTo>
                    <a:pt x="141" y="1208"/>
                  </a:lnTo>
                  <a:lnTo>
                    <a:pt x="142" y="1208"/>
                  </a:lnTo>
                  <a:lnTo>
                    <a:pt x="142" y="1209"/>
                  </a:lnTo>
                  <a:lnTo>
                    <a:pt x="142" y="1213"/>
                  </a:lnTo>
                  <a:lnTo>
                    <a:pt x="145" y="1227"/>
                  </a:lnTo>
                  <a:lnTo>
                    <a:pt x="146" y="1238"/>
                  </a:lnTo>
                  <a:lnTo>
                    <a:pt x="147" y="1238"/>
                  </a:lnTo>
                  <a:lnTo>
                    <a:pt x="147" y="1239"/>
                  </a:lnTo>
                  <a:lnTo>
                    <a:pt x="149" y="1243"/>
                  </a:lnTo>
                  <a:lnTo>
                    <a:pt x="152" y="1254"/>
                  </a:lnTo>
                  <a:lnTo>
                    <a:pt x="154" y="1262"/>
                  </a:lnTo>
                  <a:lnTo>
                    <a:pt x="155" y="1262"/>
                  </a:lnTo>
                  <a:lnTo>
                    <a:pt x="156" y="1266"/>
                  </a:lnTo>
                  <a:lnTo>
                    <a:pt x="161" y="1272"/>
                  </a:lnTo>
                  <a:lnTo>
                    <a:pt x="164" y="1278"/>
                  </a:lnTo>
                  <a:lnTo>
                    <a:pt x="165" y="1278"/>
                  </a:lnTo>
                  <a:lnTo>
                    <a:pt x="166" y="1280"/>
                  </a:lnTo>
                  <a:lnTo>
                    <a:pt x="169" y="1284"/>
                  </a:lnTo>
                  <a:lnTo>
                    <a:pt x="171" y="1287"/>
                  </a:lnTo>
                  <a:lnTo>
                    <a:pt x="173" y="1287"/>
                  </a:lnTo>
                  <a:lnTo>
                    <a:pt x="176" y="1292"/>
                  </a:lnTo>
                  <a:lnTo>
                    <a:pt x="178" y="1293"/>
                  </a:lnTo>
                  <a:lnTo>
                    <a:pt x="179" y="1293"/>
                  </a:lnTo>
                  <a:lnTo>
                    <a:pt x="181" y="1299"/>
                  </a:lnTo>
                  <a:lnTo>
                    <a:pt x="182" y="1303"/>
                  </a:lnTo>
                  <a:lnTo>
                    <a:pt x="184" y="1303"/>
                  </a:lnTo>
                  <a:lnTo>
                    <a:pt x="185" y="1305"/>
                  </a:lnTo>
                  <a:lnTo>
                    <a:pt x="188" y="1311"/>
                  </a:lnTo>
                  <a:lnTo>
                    <a:pt x="190" y="1316"/>
                  </a:lnTo>
                  <a:lnTo>
                    <a:pt x="191" y="1316"/>
                  </a:lnTo>
                  <a:lnTo>
                    <a:pt x="193" y="1319"/>
                  </a:lnTo>
                  <a:lnTo>
                    <a:pt x="200" y="1329"/>
                  </a:lnTo>
                  <a:lnTo>
                    <a:pt x="204" y="1337"/>
                  </a:lnTo>
                  <a:lnTo>
                    <a:pt x="205" y="1337"/>
                  </a:lnTo>
                  <a:lnTo>
                    <a:pt x="205" y="1338"/>
                  </a:lnTo>
                  <a:lnTo>
                    <a:pt x="205" y="1339"/>
                  </a:lnTo>
                  <a:lnTo>
                    <a:pt x="208" y="1345"/>
                  </a:lnTo>
                  <a:lnTo>
                    <a:pt x="209" y="1350"/>
                  </a:lnTo>
                  <a:lnTo>
                    <a:pt x="210" y="1350"/>
                  </a:lnTo>
                  <a:lnTo>
                    <a:pt x="210" y="1351"/>
                  </a:lnTo>
                  <a:lnTo>
                    <a:pt x="210" y="1353"/>
                  </a:lnTo>
                  <a:lnTo>
                    <a:pt x="210" y="1361"/>
                  </a:lnTo>
                  <a:lnTo>
                    <a:pt x="210" y="1366"/>
                  </a:lnTo>
                  <a:lnTo>
                    <a:pt x="211" y="1366"/>
                  </a:lnTo>
                  <a:lnTo>
                    <a:pt x="211" y="1367"/>
                  </a:lnTo>
                  <a:lnTo>
                    <a:pt x="211" y="1368"/>
                  </a:lnTo>
                  <a:lnTo>
                    <a:pt x="211" y="1372"/>
                  </a:lnTo>
                  <a:lnTo>
                    <a:pt x="211" y="1375"/>
                  </a:lnTo>
                  <a:lnTo>
                    <a:pt x="212" y="1375"/>
                  </a:lnTo>
                  <a:lnTo>
                    <a:pt x="212" y="1376"/>
                  </a:lnTo>
                  <a:lnTo>
                    <a:pt x="212" y="1377"/>
                  </a:lnTo>
                  <a:lnTo>
                    <a:pt x="213" y="1382"/>
                  </a:lnTo>
                  <a:lnTo>
                    <a:pt x="214" y="1385"/>
                  </a:lnTo>
                  <a:lnTo>
                    <a:pt x="215" y="1385"/>
                  </a:lnTo>
                  <a:lnTo>
                    <a:pt x="215" y="1387"/>
                  </a:lnTo>
                  <a:lnTo>
                    <a:pt x="214" y="1392"/>
                  </a:lnTo>
                  <a:lnTo>
                    <a:pt x="214" y="1396"/>
                  </a:lnTo>
                  <a:lnTo>
                    <a:pt x="215" y="1396"/>
                  </a:lnTo>
                  <a:lnTo>
                    <a:pt x="213" y="1394"/>
                  </a:lnTo>
                  <a:lnTo>
                    <a:pt x="212" y="1392"/>
                  </a:lnTo>
                  <a:lnTo>
                    <a:pt x="212" y="1391"/>
                  </a:lnTo>
                  <a:lnTo>
                    <a:pt x="212" y="1392"/>
                  </a:lnTo>
                  <a:lnTo>
                    <a:pt x="212" y="1394"/>
                  </a:lnTo>
                  <a:lnTo>
                    <a:pt x="213" y="1399"/>
                  </a:lnTo>
                  <a:lnTo>
                    <a:pt x="213" y="1403"/>
                  </a:lnTo>
                  <a:lnTo>
                    <a:pt x="214" y="1403"/>
                  </a:lnTo>
                  <a:lnTo>
                    <a:pt x="217" y="1411"/>
                  </a:lnTo>
                  <a:lnTo>
                    <a:pt x="218" y="1415"/>
                  </a:lnTo>
                  <a:lnTo>
                    <a:pt x="220" y="1415"/>
                  </a:lnTo>
                  <a:lnTo>
                    <a:pt x="220" y="1417"/>
                  </a:lnTo>
                  <a:lnTo>
                    <a:pt x="220" y="1418"/>
                  </a:lnTo>
                  <a:lnTo>
                    <a:pt x="221" y="1421"/>
                  </a:lnTo>
                  <a:lnTo>
                    <a:pt x="221" y="1424"/>
                  </a:lnTo>
                  <a:lnTo>
                    <a:pt x="222" y="1424"/>
                  </a:lnTo>
                  <a:lnTo>
                    <a:pt x="221" y="1426"/>
                  </a:lnTo>
                  <a:lnTo>
                    <a:pt x="220" y="1433"/>
                  </a:lnTo>
                  <a:lnTo>
                    <a:pt x="218" y="1437"/>
                  </a:lnTo>
                  <a:lnTo>
                    <a:pt x="218" y="1437"/>
                  </a:lnTo>
                  <a:lnTo>
                    <a:pt x="217" y="1441"/>
                  </a:lnTo>
                  <a:lnTo>
                    <a:pt x="214" y="1448"/>
                  </a:lnTo>
                  <a:lnTo>
                    <a:pt x="212" y="1455"/>
                  </a:lnTo>
                  <a:lnTo>
                    <a:pt x="212" y="1455"/>
                  </a:lnTo>
                  <a:lnTo>
                    <a:pt x="210" y="1456"/>
                  </a:lnTo>
                  <a:lnTo>
                    <a:pt x="206" y="1457"/>
                  </a:lnTo>
                  <a:lnTo>
                    <a:pt x="203" y="1457"/>
                  </a:lnTo>
                  <a:lnTo>
                    <a:pt x="203" y="1457"/>
                  </a:lnTo>
                  <a:lnTo>
                    <a:pt x="202" y="1457"/>
                  </a:lnTo>
                  <a:lnTo>
                    <a:pt x="201" y="1457"/>
                  </a:lnTo>
                  <a:lnTo>
                    <a:pt x="198" y="1457"/>
                  </a:lnTo>
                  <a:lnTo>
                    <a:pt x="196" y="1457"/>
                  </a:lnTo>
                  <a:lnTo>
                    <a:pt x="196" y="1456"/>
                  </a:lnTo>
                  <a:lnTo>
                    <a:pt x="194" y="1455"/>
                  </a:lnTo>
                  <a:lnTo>
                    <a:pt x="193" y="1455"/>
                  </a:lnTo>
                  <a:lnTo>
                    <a:pt x="193" y="1455"/>
                  </a:lnTo>
                  <a:lnTo>
                    <a:pt x="193" y="1456"/>
                  </a:lnTo>
                  <a:lnTo>
                    <a:pt x="193" y="1457"/>
                  </a:lnTo>
                  <a:lnTo>
                    <a:pt x="194" y="1462"/>
                  </a:lnTo>
                  <a:lnTo>
                    <a:pt x="194" y="1467"/>
                  </a:lnTo>
                  <a:lnTo>
                    <a:pt x="196" y="1467"/>
                  </a:lnTo>
                  <a:lnTo>
                    <a:pt x="196" y="1468"/>
                  </a:lnTo>
                  <a:lnTo>
                    <a:pt x="196" y="1471"/>
                  </a:lnTo>
                  <a:lnTo>
                    <a:pt x="199" y="1484"/>
                  </a:lnTo>
                  <a:lnTo>
                    <a:pt x="201" y="1494"/>
                  </a:lnTo>
                  <a:lnTo>
                    <a:pt x="202" y="1494"/>
                  </a:lnTo>
                  <a:lnTo>
                    <a:pt x="203" y="1494"/>
                  </a:lnTo>
                  <a:lnTo>
                    <a:pt x="209" y="1494"/>
                  </a:lnTo>
                  <a:lnTo>
                    <a:pt x="213" y="1494"/>
                  </a:lnTo>
                  <a:lnTo>
                    <a:pt x="214" y="1494"/>
                  </a:lnTo>
                  <a:lnTo>
                    <a:pt x="220" y="1496"/>
                  </a:lnTo>
                  <a:lnTo>
                    <a:pt x="223" y="1497"/>
                  </a:lnTo>
                  <a:lnTo>
                    <a:pt x="224" y="1497"/>
                  </a:lnTo>
                  <a:lnTo>
                    <a:pt x="225" y="1499"/>
                  </a:lnTo>
                  <a:lnTo>
                    <a:pt x="231" y="1502"/>
                  </a:lnTo>
                  <a:lnTo>
                    <a:pt x="234" y="1504"/>
                  </a:lnTo>
                  <a:lnTo>
                    <a:pt x="235" y="1504"/>
                  </a:lnTo>
                  <a:lnTo>
                    <a:pt x="236" y="1506"/>
                  </a:lnTo>
                  <a:lnTo>
                    <a:pt x="239" y="1509"/>
                  </a:lnTo>
                  <a:lnTo>
                    <a:pt x="243" y="1512"/>
                  </a:lnTo>
                  <a:lnTo>
                    <a:pt x="244" y="1512"/>
                  </a:lnTo>
                  <a:lnTo>
                    <a:pt x="246" y="1514"/>
                  </a:lnTo>
                  <a:lnTo>
                    <a:pt x="253" y="1519"/>
                  </a:lnTo>
                  <a:lnTo>
                    <a:pt x="259" y="1523"/>
                  </a:lnTo>
                  <a:lnTo>
                    <a:pt x="260" y="1523"/>
                  </a:lnTo>
                  <a:lnTo>
                    <a:pt x="261" y="1523"/>
                  </a:lnTo>
                  <a:lnTo>
                    <a:pt x="264" y="1523"/>
                  </a:lnTo>
                  <a:lnTo>
                    <a:pt x="268" y="1523"/>
                  </a:lnTo>
                  <a:lnTo>
                    <a:pt x="269" y="1522"/>
                  </a:lnTo>
                  <a:lnTo>
                    <a:pt x="270" y="1523"/>
                  </a:lnTo>
                  <a:lnTo>
                    <a:pt x="273" y="1524"/>
                  </a:lnTo>
                  <a:lnTo>
                    <a:pt x="275" y="1525"/>
                  </a:lnTo>
                  <a:lnTo>
                    <a:pt x="276" y="1525"/>
                  </a:lnTo>
                  <a:lnTo>
                    <a:pt x="278" y="1525"/>
                  </a:lnTo>
                  <a:lnTo>
                    <a:pt x="279" y="1525"/>
                  </a:lnTo>
                  <a:lnTo>
                    <a:pt x="281" y="1527"/>
                  </a:lnTo>
                  <a:lnTo>
                    <a:pt x="282" y="1527"/>
                  </a:lnTo>
                  <a:lnTo>
                    <a:pt x="284" y="1529"/>
                  </a:lnTo>
                  <a:lnTo>
                    <a:pt x="285" y="1529"/>
                  </a:lnTo>
                  <a:lnTo>
                    <a:pt x="287" y="1530"/>
                  </a:lnTo>
                  <a:lnTo>
                    <a:pt x="294" y="1530"/>
                  </a:lnTo>
                  <a:lnTo>
                    <a:pt x="298" y="1530"/>
                  </a:lnTo>
                  <a:lnTo>
                    <a:pt x="299" y="1530"/>
                  </a:lnTo>
                  <a:lnTo>
                    <a:pt x="300" y="1530"/>
                  </a:lnTo>
                  <a:lnTo>
                    <a:pt x="307" y="1529"/>
                  </a:lnTo>
                  <a:lnTo>
                    <a:pt x="311" y="1529"/>
                  </a:lnTo>
                  <a:lnTo>
                    <a:pt x="313" y="1528"/>
                  </a:lnTo>
                  <a:lnTo>
                    <a:pt x="314" y="1528"/>
                  </a:lnTo>
                  <a:lnTo>
                    <a:pt x="319" y="1527"/>
                  </a:lnTo>
                  <a:lnTo>
                    <a:pt x="323" y="1526"/>
                  </a:lnTo>
                  <a:lnTo>
                    <a:pt x="325" y="1525"/>
                  </a:lnTo>
                  <a:lnTo>
                    <a:pt x="327" y="1525"/>
                  </a:lnTo>
                  <a:lnTo>
                    <a:pt x="328" y="1525"/>
                  </a:lnTo>
                  <a:lnTo>
                    <a:pt x="329" y="1525"/>
                  </a:lnTo>
                  <a:lnTo>
                    <a:pt x="330" y="1526"/>
                  </a:lnTo>
                  <a:lnTo>
                    <a:pt x="333" y="1529"/>
                  </a:lnTo>
                  <a:lnTo>
                    <a:pt x="335" y="1530"/>
                  </a:lnTo>
                  <a:lnTo>
                    <a:pt x="337" y="1530"/>
                  </a:lnTo>
                  <a:lnTo>
                    <a:pt x="340" y="1528"/>
                  </a:lnTo>
                  <a:lnTo>
                    <a:pt x="342" y="1527"/>
                  </a:lnTo>
                  <a:lnTo>
                    <a:pt x="343" y="1526"/>
                  </a:lnTo>
                  <a:lnTo>
                    <a:pt x="346" y="1528"/>
                  </a:lnTo>
                  <a:lnTo>
                    <a:pt x="349" y="1528"/>
                  </a:lnTo>
                  <a:lnTo>
                    <a:pt x="350" y="1528"/>
                  </a:lnTo>
                  <a:lnTo>
                    <a:pt x="350" y="1527"/>
                  </a:lnTo>
                  <a:lnTo>
                    <a:pt x="349" y="1523"/>
                  </a:lnTo>
                  <a:lnTo>
                    <a:pt x="349" y="1519"/>
                  </a:lnTo>
                  <a:lnTo>
                    <a:pt x="350" y="1518"/>
                  </a:lnTo>
                  <a:lnTo>
                    <a:pt x="355" y="1520"/>
                  </a:lnTo>
                  <a:lnTo>
                    <a:pt x="358" y="1522"/>
                  </a:lnTo>
                  <a:lnTo>
                    <a:pt x="360" y="1522"/>
                  </a:lnTo>
                  <a:lnTo>
                    <a:pt x="363" y="1519"/>
                  </a:lnTo>
                  <a:lnTo>
                    <a:pt x="365" y="1518"/>
                  </a:lnTo>
                  <a:lnTo>
                    <a:pt x="366" y="1517"/>
                  </a:lnTo>
                  <a:lnTo>
                    <a:pt x="369" y="1514"/>
                  </a:lnTo>
                  <a:lnTo>
                    <a:pt x="372" y="1513"/>
                  </a:lnTo>
                  <a:lnTo>
                    <a:pt x="373" y="1512"/>
                  </a:lnTo>
                  <a:lnTo>
                    <a:pt x="374" y="1508"/>
                  </a:lnTo>
                  <a:lnTo>
                    <a:pt x="375" y="1506"/>
                  </a:lnTo>
                  <a:lnTo>
                    <a:pt x="376" y="1505"/>
                  </a:lnTo>
                  <a:lnTo>
                    <a:pt x="379" y="1499"/>
                  </a:lnTo>
                  <a:lnTo>
                    <a:pt x="381" y="1495"/>
                  </a:lnTo>
                  <a:lnTo>
                    <a:pt x="382" y="1494"/>
                  </a:lnTo>
                  <a:lnTo>
                    <a:pt x="387" y="1491"/>
                  </a:lnTo>
                  <a:lnTo>
                    <a:pt x="389" y="1490"/>
                  </a:lnTo>
                  <a:lnTo>
                    <a:pt x="390" y="1489"/>
                  </a:lnTo>
                  <a:lnTo>
                    <a:pt x="392" y="1485"/>
                  </a:lnTo>
                  <a:lnTo>
                    <a:pt x="393" y="1484"/>
                  </a:lnTo>
                  <a:lnTo>
                    <a:pt x="394" y="1483"/>
                  </a:lnTo>
                  <a:lnTo>
                    <a:pt x="397" y="1483"/>
                  </a:lnTo>
                  <a:lnTo>
                    <a:pt x="403" y="1482"/>
                  </a:lnTo>
                  <a:lnTo>
                    <a:pt x="409" y="1482"/>
                  </a:lnTo>
                  <a:lnTo>
                    <a:pt x="410" y="1481"/>
                  </a:lnTo>
                  <a:lnTo>
                    <a:pt x="415" y="1479"/>
                  </a:lnTo>
                  <a:lnTo>
                    <a:pt x="419" y="1478"/>
                  </a:lnTo>
                  <a:lnTo>
                    <a:pt x="420" y="1477"/>
                  </a:lnTo>
                  <a:lnTo>
                    <a:pt x="422" y="1473"/>
                  </a:lnTo>
                  <a:lnTo>
                    <a:pt x="423" y="1471"/>
                  </a:lnTo>
                  <a:lnTo>
                    <a:pt x="424" y="1470"/>
                  </a:lnTo>
                  <a:lnTo>
                    <a:pt x="426" y="1469"/>
                  </a:lnTo>
                  <a:lnTo>
                    <a:pt x="424" y="1467"/>
                  </a:lnTo>
                  <a:lnTo>
                    <a:pt x="424" y="1465"/>
                  </a:lnTo>
                  <a:lnTo>
                    <a:pt x="425" y="1460"/>
                  </a:lnTo>
                  <a:lnTo>
                    <a:pt x="426" y="1458"/>
                  </a:lnTo>
                  <a:lnTo>
                    <a:pt x="427" y="1457"/>
                  </a:lnTo>
                  <a:lnTo>
                    <a:pt x="428" y="1456"/>
                  </a:lnTo>
                  <a:lnTo>
                    <a:pt x="432" y="1453"/>
                  </a:lnTo>
                  <a:lnTo>
                    <a:pt x="434" y="1450"/>
                  </a:lnTo>
                  <a:lnTo>
                    <a:pt x="435" y="1449"/>
                  </a:lnTo>
                  <a:lnTo>
                    <a:pt x="440" y="1446"/>
                  </a:lnTo>
                  <a:lnTo>
                    <a:pt x="444" y="1445"/>
                  </a:lnTo>
                  <a:lnTo>
                    <a:pt x="445" y="1444"/>
                  </a:lnTo>
                  <a:lnTo>
                    <a:pt x="448" y="1444"/>
                  </a:lnTo>
                  <a:lnTo>
                    <a:pt x="460" y="1443"/>
                  </a:lnTo>
                  <a:lnTo>
                    <a:pt x="469" y="1443"/>
                  </a:lnTo>
                  <a:lnTo>
                    <a:pt x="470" y="1442"/>
                  </a:lnTo>
                  <a:lnTo>
                    <a:pt x="472" y="1442"/>
                  </a:lnTo>
                  <a:lnTo>
                    <a:pt x="479" y="1442"/>
                  </a:lnTo>
                  <a:lnTo>
                    <a:pt x="483" y="1442"/>
                  </a:lnTo>
                  <a:lnTo>
                    <a:pt x="484" y="1441"/>
                  </a:lnTo>
                  <a:lnTo>
                    <a:pt x="486" y="1439"/>
                  </a:lnTo>
                  <a:lnTo>
                    <a:pt x="493" y="1436"/>
                  </a:lnTo>
                  <a:lnTo>
                    <a:pt x="497" y="1433"/>
                  </a:lnTo>
                  <a:lnTo>
                    <a:pt x="498" y="1432"/>
                  </a:lnTo>
                  <a:lnTo>
                    <a:pt x="499" y="1432"/>
                  </a:lnTo>
                  <a:lnTo>
                    <a:pt x="505" y="1432"/>
                  </a:lnTo>
                  <a:lnTo>
                    <a:pt x="508" y="1432"/>
                  </a:lnTo>
                  <a:lnTo>
                    <a:pt x="509" y="1431"/>
                  </a:lnTo>
                  <a:lnTo>
                    <a:pt x="511" y="1432"/>
                  </a:lnTo>
                  <a:lnTo>
                    <a:pt x="519" y="1433"/>
                  </a:lnTo>
                  <a:lnTo>
                    <a:pt x="525" y="1433"/>
                  </a:lnTo>
                  <a:lnTo>
                    <a:pt x="526" y="1433"/>
                  </a:lnTo>
                  <a:lnTo>
                    <a:pt x="528" y="1433"/>
                  </a:lnTo>
                  <a:lnTo>
                    <a:pt x="534" y="1432"/>
                  </a:lnTo>
                  <a:lnTo>
                    <a:pt x="539" y="1431"/>
                  </a:lnTo>
                  <a:lnTo>
                    <a:pt x="540" y="1430"/>
                  </a:lnTo>
                  <a:lnTo>
                    <a:pt x="543" y="1429"/>
                  </a:lnTo>
                  <a:lnTo>
                    <a:pt x="544" y="1427"/>
                  </a:lnTo>
                  <a:lnTo>
                    <a:pt x="545" y="1426"/>
                  </a:lnTo>
                  <a:lnTo>
                    <a:pt x="548" y="1429"/>
                  </a:lnTo>
                  <a:lnTo>
                    <a:pt x="550" y="1429"/>
                  </a:lnTo>
                  <a:lnTo>
                    <a:pt x="553" y="1433"/>
                  </a:lnTo>
                  <a:lnTo>
                    <a:pt x="554" y="1434"/>
                  </a:lnTo>
                  <a:lnTo>
                    <a:pt x="555" y="1434"/>
                  </a:lnTo>
                  <a:lnTo>
                    <a:pt x="556" y="1434"/>
                  </a:lnTo>
                  <a:lnTo>
                    <a:pt x="561" y="1433"/>
                  </a:lnTo>
                  <a:lnTo>
                    <a:pt x="564" y="1432"/>
                  </a:lnTo>
                  <a:lnTo>
                    <a:pt x="565" y="1431"/>
                  </a:lnTo>
                  <a:lnTo>
                    <a:pt x="566" y="1431"/>
                  </a:lnTo>
                  <a:lnTo>
                    <a:pt x="572" y="1430"/>
                  </a:lnTo>
                  <a:lnTo>
                    <a:pt x="575" y="1429"/>
                  </a:lnTo>
                  <a:lnTo>
                    <a:pt x="576" y="1427"/>
                  </a:lnTo>
                  <a:lnTo>
                    <a:pt x="577" y="1427"/>
                  </a:lnTo>
                  <a:lnTo>
                    <a:pt x="580" y="1426"/>
                  </a:lnTo>
                  <a:lnTo>
                    <a:pt x="583" y="1426"/>
                  </a:lnTo>
                  <a:lnTo>
                    <a:pt x="584" y="1425"/>
                  </a:lnTo>
                  <a:lnTo>
                    <a:pt x="585" y="1425"/>
                  </a:lnTo>
                  <a:lnTo>
                    <a:pt x="590" y="1424"/>
                  </a:lnTo>
                  <a:lnTo>
                    <a:pt x="593" y="1424"/>
                  </a:lnTo>
                  <a:lnTo>
                    <a:pt x="595" y="1423"/>
                  </a:lnTo>
                  <a:lnTo>
                    <a:pt x="600" y="1425"/>
                  </a:lnTo>
                  <a:lnTo>
                    <a:pt x="603" y="1426"/>
                  </a:lnTo>
                  <a:lnTo>
                    <a:pt x="604" y="1426"/>
                  </a:lnTo>
                  <a:lnTo>
                    <a:pt x="605" y="1426"/>
                  </a:lnTo>
                  <a:lnTo>
                    <a:pt x="609" y="1426"/>
                  </a:lnTo>
                  <a:lnTo>
                    <a:pt x="611" y="1426"/>
                  </a:lnTo>
                  <a:lnTo>
                    <a:pt x="612" y="1425"/>
                  </a:lnTo>
                  <a:lnTo>
                    <a:pt x="613" y="1425"/>
                  </a:lnTo>
                  <a:lnTo>
                    <a:pt x="619" y="1424"/>
                  </a:lnTo>
                  <a:lnTo>
                    <a:pt x="622" y="1423"/>
                  </a:lnTo>
                  <a:lnTo>
                    <a:pt x="623" y="1422"/>
                  </a:lnTo>
                  <a:lnTo>
                    <a:pt x="626" y="1421"/>
                  </a:lnTo>
                  <a:lnTo>
                    <a:pt x="628" y="1420"/>
                  </a:lnTo>
                  <a:lnTo>
                    <a:pt x="630" y="1419"/>
                  </a:lnTo>
                  <a:lnTo>
                    <a:pt x="630" y="1418"/>
                  </a:lnTo>
                  <a:lnTo>
                    <a:pt x="631" y="1414"/>
                  </a:lnTo>
                  <a:lnTo>
                    <a:pt x="631" y="1412"/>
                  </a:lnTo>
                  <a:lnTo>
                    <a:pt x="632" y="1411"/>
                  </a:lnTo>
                  <a:lnTo>
                    <a:pt x="635" y="1406"/>
                  </a:lnTo>
                  <a:lnTo>
                    <a:pt x="636" y="1402"/>
                  </a:lnTo>
                  <a:lnTo>
                    <a:pt x="637" y="1401"/>
                  </a:lnTo>
                  <a:lnTo>
                    <a:pt x="638" y="1398"/>
                  </a:lnTo>
                  <a:lnTo>
                    <a:pt x="639" y="1397"/>
                  </a:lnTo>
                  <a:lnTo>
                    <a:pt x="640" y="1396"/>
                  </a:lnTo>
                  <a:lnTo>
                    <a:pt x="640" y="1394"/>
                  </a:lnTo>
                  <a:lnTo>
                    <a:pt x="642" y="1387"/>
                  </a:lnTo>
                  <a:lnTo>
                    <a:pt x="642" y="1383"/>
                  </a:lnTo>
                  <a:lnTo>
                    <a:pt x="643" y="1382"/>
                  </a:lnTo>
                  <a:lnTo>
                    <a:pt x="643" y="1380"/>
                  </a:lnTo>
                  <a:lnTo>
                    <a:pt x="645" y="1375"/>
                  </a:lnTo>
                  <a:lnTo>
                    <a:pt x="646" y="1371"/>
                  </a:lnTo>
                  <a:lnTo>
                    <a:pt x="647" y="1369"/>
                  </a:lnTo>
                  <a:lnTo>
                    <a:pt x="648" y="1368"/>
                  </a:lnTo>
                  <a:lnTo>
                    <a:pt x="654" y="1365"/>
                  </a:lnTo>
                  <a:lnTo>
                    <a:pt x="657" y="1363"/>
                  </a:lnTo>
                  <a:lnTo>
                    <a:pt x="658" y="1362"/>
                  </a:lnTo>
                  <a:lnTo>
                    <a:pt x="659" y="1362"/>
                  </a:lnTo>
                  <a:lnTo>
                    <a:pt x="665" y="1362"/>
                  </a:lnTo>
                  <a:lnTo>
                    <a:pt x="668" y="1362"/>
                  </a:lnTo>
                  <a:lnTo>
                    <a:pt x="669" y="1361"/>
                  </a:lnTo>
                  <a:lnTo>
                    <a:pt x="672" y="1359"/>
                  </a:lnTo>
                  <a:lnTo>
                    <a:pt x="674" y="1357"/>
                  </a:lnTo>
                  <a:lnTo>
                    <a:pt x="675" y="1356"/>
                  </a:lnTo>
                  <a:lnTo>
                    <a:pt x="677" y="1355"/>
                  </a:lnTo>
                  <a:lnTo>
                    <a:pt x="680" y="1352"/>
                  </a:lnTo>
                  <a:lnTo>
                    <a:pt x="682" y="1350"/>
                  </a:lnTo>
                  <a:lnTo>
                    <a:pt x="683" y="1349"/>
                  </a:lnTo>
                  <a:lnTo>
                    <a:pt x="685" y="1349"/>
                  </a:lnTo>
                  <a:lnTo>
                    <a:pt x="692" y="1345"/>
                  </a:lnTo>
                  <a:lnTo>
                    <a:pt x="697" y="1344"/>
                  </a:lnTo>
                  <a:lnTo>
                    <a:pt x="698" y="1343"/>
                  </a:lnTo>
                  <a:lnTo>
                    <a:pt x="699" y="1342"/>
                  </a:lnTo>
                  <a:lnTo>
                    <a:pt x="705" y="1339"/>
                  </a:lnTo>
                  <a:lnTo>
                    <a:pt x="709" y="1337"/>
                  </a:lnTo>
                  <a:lnTo>
                    <a:pt x="710" y="1336"/>
                  </a:lnTo>
                  <a:lnTo>
                    <a:pt x="712" y="1334"/>
                  </a:lnTo>
                  <a:lnTo>
                    <a:pt x="717" y="1331"/>
                  </a:lnTo>
                  <a:lnTo>
                    <a:pt x="720" y="1329"/>
                  </a:lnTo>
                  <a:lnTo>
                    <a:pt x="721" y="1328"/>
                  </a:lnTo>
                  <a:lnTo>
                    <a:pt x="722" y="1327"/>
                  </a:lnTo>
                  <a:lnTo>
                    <a:pt x="727" y="1324"/>
                  </a:lnTo>
                  <a:lnTo>
                    <a:pt x="730" y="1320"/>
                  </a:lnTo>
                  <a:lnTo>
                    <a:pt x="731" y="1319"/>
                  </a:lnTo>
                  <a:lnTo>
                    <a:pt x="739" y="1316"/>
                  </a:lnTo>
                  <a:lnTo>
                    <a:pt x="743" y="1315"/>
                  </a:lnTo>
                  <a:lnTo>
                    <a:pt x="744" y="1314"/>
                  </a:lnTo>
                  <a:lnTo>
                    <a:pt x="751" y="1316"/>
                  </a:lnTo>
                  <a:lnTo>
                    <a:pt x="754" y="1316"/>
                  </a:lnTo>
                  <a:lnTo>
                    <a:pt x="755" y="1316"/>
                  </a:lnTo>
                  <a:lnTo>
                    <a:pt x="757" y="1316"/>
                  </a:lnTo>
                  <a:lnTo>
                    <a:pt x="764" y="1316"/>
                  </a:lnTo>
                  <a:lnTo>
                    <a:pt x="769" y="1316"/>
                  </a:lnTo>
                  <a:lnTo>
                    <a:pt x="771" y="1316"/>
                  </a:lnTo>
                  <a:lnTo>
                    <a:pt x="774" y="1316"/>
                  </a:lnTo>
                  <a:lnTo>
                    <a:pt x="775" y="1316"/>
                  </a:lnTo>
                  <a:lnTo>
                    <a:pt x="776" y="1316"/>
                  </a:lnTo>
                  <a:lnTo>
                    <a:pt x="777" y="1316"/>
                  </a:lnTo>
                  <a:lnTo>
                    <a:pt x="784" y="1316"/>
                  </a:lnTo>
                  <a:lnTo>
                    <a:pt x="788" y="1316"/>
                  </a:lnTo>
                  <a:lnTo>
                    <a:pt x="789" y="1315"/>
                  </a:lnTo>
                  <a:lnTo>
                    <a:pt x="791" y="1315"/>
                  </a:lnTo>
                  <a:lnTo>
                    <a:pt x="801" y="1314"/>
                  </a:lnTo>
                  <a:lnTo>
                    <a:pt x="808" y="1313"/>
                  </a:lnTo>
                  <a:lnTo>
                    <a:pt x="809" y="1311"/>
                  </a:lnTo>
                  <a:lnTo>
                    <a:pt x="811" y="1310"/>
                  </a:lnTo>
                  <a:lnTo>
                    <a:pt x="818" y="1307"/>
                  </a:lnTo>
                  <a:lnTo>
                    <a:pt x="822" y="1304"/>
                  </a:lnTo>
                  <a:lnTo>
                    <a:pt x="823" y="1303"/>
                  </a:lnTo>
                  <a:lnTo>
                    <a:pt x="825" y="1303"/>
                  </a:lnTo>
                  <a:lnTo>
                    <a:pt x="832" y="1302"/>
                  </a:lnTo>
                  <a:lnTo>
                    <a:pt x="837" y="1302"/>
                  </a:lnTo>
                  <a:lnTo>
                    <a:pt x="838" y="1301"/>
                  </a:lnTo>
                  <a:lnTo>
                    <a:pt x="839" y="1301"/>
                  </a:lnTo>
                  <a:lnTo>
                    <a:pt x="843" y="1301"/>
                  </a:lnTo>
                  <a:lnTo>
                    <a:pt x="846" y="1301"/>
                  </a:lnTo>
                  <a:lnTo>
                    <a:pt x="847" y="1299"/>
                  </a:lnTo>
                  <a:lnTo>
                    <a:pt x="849" y="1298"/>
                  </a:lnTo>
                  <a:lnTo>
                    <a:pt x="858" y="1292"/>
                  </a:lnTo>
                  <a:lnTo>
                    <a:pt x="865" y="1287"/>
                  </a:lnTo>
                  <a:lnTo>
                    <a:pt x="866" y="1286"/>
                  </a:lnTo>
                  <a:lnTo>
                    <a:pt x="871" y="1284"/>
                  </a:lnTo>
                  <a:lnTo>
                    <a:pt x="889" y="1274"/>
                  </a:lnTo>
                  <a:lnTo>
                    <a:pt x="902" y="1268"/>
                  </a:lnTo>
                  <a:lnTo>
                    <a:pt x="903" y="1267"/>
                  </a:lnTo>
                  <a:lnTo>
                    <a:pt x="905" y="1267"/>
                  </a:lnTo>
                  <a:lnTo>
                    <a:pt x="913" y="1267"/>
                  </a:lnTo>
                  <a:lnTo>
                    <a:pt x="919" y="1267"/>
                  </a:lnTo>
                  <a:lnTo>
                    <a:pt x="920" y="1266"/>
                  </a:lnTo>
                  <a:lnTo>
                    <a:pt x="926" y="1266"/>
                  </a:lnTo>
                  <a:lnTo>
                    <a:pt x="944" y="1266"/>
                  </a:lnTo>
                  <a:lnTo>
                    <a:pt x="959" y="1266"/>
                  </a:lnTo>
                  <a:lnTo>
                    <a:pt x="960" y="1266"/>
                  </a:lnTo>
                  <a:lnTo>
                    <a:pt x="962" y="1266"/>
                  </a:lnTo>
                  <a:lnTo>
                    <a:pt x="968" y="1264"/>
                  </a:lnTo>
                  <a:lnTo>
                    <a:pt x="973" y="1264"/>
                  </a:lnTo>
                  <a:lnTo>
                    <a:pt x="974" y="1263"/>
                  </a:lnTo>
                  <a:lnTo>
                    <a:pt x="976" y="1263"/>
                  </a:lnTo>
                  <a:lnTo>
                    <a:pt x="984" y="1262"/>
                  </a:lnTo>
                  <a:lnTo>
                    <a:pt x="990" y="1261"/>
                  </a:lnTo>
                  <a:lnTo>
                    <a:pt x="991" y="1260"/>
                  </a:lnTo>
                  <a:lnTo>
                    <a:pt x="992" y="1260"/>
                  </a:lnTo>
                  <a:lnTo>
                    <a:pt x="997" y="1260"/>
                  </a:lnTo>
                  <a:lnTo>
                    <a:pt x="1000" y="1260"/>
                  </a:lnTo>
                  <a:lnTo>
                    <a:pt x="1001" y="1260"/>
                  </a:lnTo>
                  <a:lnTo>
                    <a:pt x="1002" y="1260"/>
                  </a:lnTo>
                  <a:lnTo>
                    <a:pt x="1007" y="1260"/>
                  </a:lnTo>
                  <a:lnTo>
                    <a:pt x="1010" y="1260"/>
                  </a:lnTo>
                  <a:lnTo>
                    <a:pt x="1011" y="1260"/>
                  </a:lnTo>
                  <a:lnTo>
                    <a:pt x="1018" y="1261"/>
                  </a:lnTo>
                  <a:lnTo>
                    <a:pt x="1021" y="1261"/>
                  </a:lnTo>
                  <a:lnTo>
                    <a:pt x="1022" y="1261"/>
                  </a:lnTo>
                  <a:lnTo>
                    <a:pt x="1027" y="1263"/>
                  </a:lnTo>
                  <a:lnTo>
                    <a:pt x="1031" y="1264"/>
                  </a:lnTo>
                  <a:lnTo>
                    <a:pt x="1032" y="1264"/>
                  </a:lnTo>
                  <a:lnTo>
                    <a:pt x="1034" y="1268"/>
                  </a:lnTo>
                  <a:lnTo>
                    <a:pt x="1044" y="1274"/>
                  </a:lnTo>
                  <a:lnTo>
                    <a:pt x="1050" y="1280"/>
                  </a:lnTo>
                  <a:lnTo>
                    <a:pt x="1052" y="1280"/>
                  </a:lnTo>
                  <a:lnTo>
                    <a:pt x="1053" y="1282"/>
                  </a:lnTo>
                  <a:lnTo>
                    <a:pt x="1056" y="1285"/>
                  </a:lnTo>
                  <a:lnTo>
                    <a:pt x="1058" y="1287"/>
                  </a:lnTo>
                  <a:lnTo>
                    <a:pt x="1059" y="1287"/>
                  </a:lnTo>
                  <a:lnTo>
                    <a:pt x="1062" y="1290"/>
                  </a:lnTo>
                  <a:lnTo>
                    <a:pt x="1065" y="1290"/>
                  </a:lnTo>
                  <a:lnTo>
                    <a:pt x="1066" y="1290"/>
                  </a:lnTo>
                  <a:lnTo>
                    <a:pt x="1067" y="1290"/>
                  </a:lnTo>
                  <a:lnTo>
                    <a:pt x="1068" y="1290"/>
                  </a:lnTo>
                  <a:lnTo>
                    <a:pt x="1070" y="1290"/>
                  </a:lnTo>
                  <a:lnTo>
                    <a:pt x="1071" y="1290"/>
                  </a:lnTo>
                  <a:lnTo>
                    <a:pt x="1072" y="1289"/>
                  </a:lnTo>
                  <a:lnTo>
                    <a:pt x="1073" y="1287"/>
                  </a:lnTo>
                  <a:lnTo>
                    <a:pt x="1074" y="1286"/>
                  </a:lnTo>
                  <a:lnTo>
                    <a:pt x="1076" y="1285"/>
                  </a:lnTo>
                  <a:lnTo>
                    <a:pt x="1079" y="1285"/>
                  </a:lnTo>
                  <a:lnTo>
                    <a:pt x="1081" y="1285"/>
                  </a:lnTo>
                  <a:lnTo>
                    <a:pt x="1082" y="1284"/>
                  </a:lnTo>
                  <a:lnTo>
                    <a:pt x="1084" y="1286"/>
                  </a:lnTo>
                  <a:lnTo>
                    <a:pt x="1094" y="1290"/>
                  </a:lnTo>
                  <a:lnTo>
                    <a:pt x="1102" y="1293"/>
                  </a:lnTo>
                  <a:lnTo>
                    <a:pt x="1103" y="1293"/>
                  </a:lnTo>
                  <a:lnTo>
                    <a:pt x="1104" y="1294"/>
                  </a:lnTo>
                  <a:lnTo>
                    <a:pt x="1107" y="1297"/>
                  </a:lnTo>
                  <a:lnTo>
                    <a:pt x="1111" y="1299"/>
                  </a:lnTo>
                  <a:lnTo>
                    <a:pt x="1112" y="1299"/>
                  </a:lnTo>
                  <a:lnTo>
                    <a:pt x="1113" y="1299"/>
                  </a:lnTo>
                  <a:lnTo>
                    <a:pt x="1117" y="1299"/>
                  </a:lnTo>
                  <a:lnTo>
                    <a:pt x="1120" y="1299"/>
                  </a:lnTo>
                  <a:lnTo>
                    <a:pt x="1121" y="1299"/>
                  </a:lnTo>
                  <a:lnTo>
                    <a:pt x="1120" y="1299"/>
                  </a:lnTo>
                  <a:lnTo>
                    <a:pt x="1121" y="1299"/>
                  </a:lnTo>
                  <a:lnTo>
                    <a:pt x="1120" y="1299"/>
                  </a:lnTo>
                  <a:lnTo>
                    <a:pt x="1121" y="1299"/>
                  </a:lnTo>
                  <a:lnTo>
                    <a:pt x="1119" y="1296"/>
                  </a:lnTo>
                  <a:lnTo>
                    <a:pt x="1119" y="1294"/>
                  </a:lnTo>
                  <a:lnTo>
                    <a:pt x="1119" y="1293"/>
                  </a:lnTo>
                  <a:lnTo>
                    <a:pt x="1123" y="1295"/>
                  </a:lnTo>
                  <a:lnTo>
                    <a:pt x="1124" y="1295"/>
                  </a:lnTo>
                  <a:lnTo>
                    <a:pt x="1125" y="1295"/>
                  </a:lnTo>
                  <a:lnTo>
                    <a:pt x="1127" y="1298"/>
                  </a:lnTo>
                  <a:lnTo>
                    <a:pt x="1137" y="1308"/>
                  </a:lnTo>
                  <a:lnTo>
                    <a:pt x="1144" y="1316"/>
                  </a:lnTo>
                  <a:lnTo>
                    <a:pt x="1146" y="1316"/>
                  </a:lnTo>
                  <a:lnTo>
                    <a:pt x="1150" y="1317"/>
                  </a:lnTo>
                  <a:lnTo>
                    <a:pt x="1152" y="1317"/>
                  </a:lnTo>
                  <a:lnTo>
                    <a:pt x="1153" y="1317"/>
                  </a:lnTo>
                  <a:lnTo>
                    <a:pt x="1160" y="1319"/>
                  </a:lnTo>
                  <a:lnTo>
                    <a:pt x="1164" y="1320"/>
                  </a:lnTo>
                  <a:lnTo>
                    <a:pt x="1165" y="1320"/>
                  </a:lnTo>
                  <a:lnTo>
                    <a:pt x="1164" y="1322"/>
                  </a:lnTo>
                  <a:lnTo>
                    <a:pt x="1163" y="1329"/>
                  </a:lnTo>
                  <a:lnTo>
                    <a:pt x="1163" y="1333"/>
                  </a:lnTo>
                  <a:lnTo>
                    <a:pt x="1163" y="1333"/>
                  </a:lnTo>
                  <a:lnTo>
                    <a:pt x="1162" y="1333"/>
                  </a:lnTo>
                  <a:lnTo>
                    <a:pt x="1160" y="1333"/>
                  </a:lnTo>
                  <a:lnTo>
                    <a:pt x="1159" y="1333"/>
                  </a:lnTo>
                  <a:lnTo>
                    <a:pt x="1159" y="1332"/>
                  </a:lnTo>
                  <a:lnTo>
                    <a:pt x="1159" y="1334"/>
                  </a:lnTo>
                  <a:lnTo>
                    <a:pt x="1158" y="1340"/>
                  </a:lnTo>
                  <a:lnTo>
                    <a:pt x="1158" y="1343"/>
                  </a:lnTo>
                  <a:lnTo>
                    <a:pt x="1159" y="1343"/>
                  </a:lnTo>
                  <a:lnTo>
                    <a:pt x="1162" y="1349"/>
                  </a:lnTo>
                  <a:lnTo>
                    <a:pt x="1164" y="1351"/>
                  </a:lnTo>
                  <a:lnTo>
                    <a:pt x="1165" y="1351"/>
                  </a:lnTo>
                  <a:lnTo>
                    <a:pt x="1166" y="1352"/>
                  </a:lnTo>
                  <a:lnTo>
                    <a:pt x="1170" y="1355"/>
                  </a:lnTo>
                  <a:lnTo>
                    <a:pt x="1173" y="1356"/>
                  </a:lnTo>
                  <a:lnTo>
                    <a:pt x="1174" y="1356"/>
                  </a:lnTo>
                  <a:lnTo>
                    <a:pt x="1175" y="1357"/>
                  </a:lnTo>
                  <a:lnTo>
                    <a:pt x="1181" y="1361"/>
                  </a:lnTo>
                  <a:lnTo>
                    <a:pt x="1184" y="1362"/>
                  </a:lnTo>
                  <a:lnTo>
                    <a:pt x="1185" y="1362"/>
                  </a:lnTo>
                  <a:lnTo>
                    <a:pt x="1187" y="1361"/>
                  </a:lnTo>
                  <a:lnTo>
                    <a:pt x="1188" y="1360"/>
                  </a:lnTo>
                  <a:lnTo>
                    <a:pt x="1189" y="1359"/>
                  </a:lnTo>
                  <a:lnTo>
                    <a:pt x="1191" y="1364"/>
                  </a:lnTo>
                  <a:lnTo>
                    <a:pt x="1193" y="1367"/>
                  </a:lnTo>
                  <a:lnTo>
                    <a:pt x="1194" y="1367"/>
                  </a:lnTo>
                  <a:lnTo>
                    <a:pt x="1196" y="1371"/>
                  </a:lnTo>
                  <a:lnTo>
                    <a:pt x="1197" y="1372"/>
                  </a:lnTo>
                  <a:lnTo>
                    <a:pt x="1198" y="1372"/>
                  </a:lnTo>
                  <a:lnTo>
                    <a:pt x="1198" y="1373"/>
                  </a:lnTo>
                  <a:lnTo>
                    <a:pt x="1198" y="1375"/>
                  </a:lnTo>
                  <a:lnTo>
                    <a:pt x="1199" y="1383"/>
                  </a:lnTo>
                  <a:lnTo>
                    <a:pt x="1200" y="1389"/>
                  </a:lnTo>
                  <a:lnTo>
                    <a:pt x="1201" y="1389"/>
                  </a:lnTo>
                  <a:lnTo>
                    <a:pt x="1202" y="1390"/>
                  </a:lnTo>
                  <a:lnTo>
                    <a:pt x="1206" y="1394"/>
                  </a:lnTo>
                  <a:lnTo>
                    <a:pt x="1209" y="1395"/>
                  </a:lnTo>
                  <a:lnTo>
                    <a:pt x="1210" y="1395"/>
                  </a:lnTo>
                  <a:lnTo>
                    <a:pt x="1213" y="1402"/>
                  </a:lnTo>
                  <a:lnTo>
                    <a:pt x="1215" y="1406"/>
                  </a:lnTo>
                  <a:lnTo>
                    <a:pt x="1217" y="1406"/>
                  </a:lnTo>
                  <a:lnTo>
                    <a:pt x="1217" y="1407"/>
                  </a:lnTo>
                  <a:lnTo>
                    <a:pt x="1217" y="1409"/>
                  </a:lnTo>
                  <a:lnTo>
                    <a:pt x="1218" y="1415"/>
                  </a:lnTo>
                  <a:lnTo>
                    <a:pt x="1218" y="1420"/>
                  </a:lnTo>
                  <a:lnTo>
                    <a:pt x="1219" y="1420"/>
                  </a:lnTo>
                  <a:lnTo>
                    <a:pt x="1221" y="1424"/>
                  </a:lnTo>
                  <a:lnTo>
                    <a:pt x="1222" y="1425"/>
                  </a:lnTo>
                  <a:lnTo>
                    <a:pt x="1223" y="1425"/>
                  </a:lnTo>
                  <a:lnTo>
                    <a:pt x="1223" y="1426"/>
                  </a:lnTo>
                  <a:lnTo>
                    <a:pt x="1223" y="1427"/>
                  </a:lnTo>
                  <a:lnTo>
                    <a:pt x="1225" y="1433"/>
                  </a:lnTo>
                  <a:lnTo>
                    <a:pt x="1226" y="1437"/>
                  </a:lnTo>
                  <a:lnTo>
                    <a:pt x="1228" y="1437"/>
                  </a:lnTo>
                  <a:lnTo>
                    <a:pt x="1226" y="1439"/>
                  </a:lnTo>
                  <a:lnTo>
                    <a:pt x="1225" y="1444"/>
                  </a:lnTo>
                  <a:lnTo>
                    <a:pt x="1225" y="1447"/>
                  </a:lnTo>
                  <a:lnTo>
                    <a:pt x="1225" y="1447"/>
                  </a:lnTo>
                  <a:lnTo>
                    <a:pt x="1223" y="1446"/>
                  </a:lnTo>
                  <a:lnTo>
                    <a:pt x="1218" y="1442"/>
                  </a:lnTo>
                  <a:lnTo>
                    <a:pt x="1214" y="1438"/>
                  </a:lnTo>
                  <a:lnTo>
                    <a:pt x="1214" y="1437"/>
                  </a:lnTo>
                  <a:lnTo>
                    <a:pt x="1212" y="1436"/>
                  </a:lnTo>
                  <a:lnTo>
                    <a:pt x="1211" y="1435"/>
                  </a:lnTo>
                  <a:lnTo>
                    <a:pt x="1211" y="1437"/>
                  </a:lnTo>
                  <a:lnTo>
                    <a:pt x="1210" y="1442"/>
                  </a:lnTo>
                  <a:lnTo>
                    <a:pt x="1210" y="1445"/>
                  </a:lnTo>
                  <a:lnTo>
                    <a:pt x="1211" y="1445"/>
                  </a:lnTo>
                  <a:lnTo>
                    <a:pt x="1215" y="1446"/>
                  </a:lnTo>
                  <a:lnTo>
                    <a:pt x="1218" y="1446"/>
                  </a:lnTo>
                  <a:lnTo>
                    <a:pt x="1219" y="1446"/>
                  </a:lnTo>
                  <a:lnTo>
                    <a:pt x="1221" y="1450"/>
                  </a:lnTo>
                  <a:lnTo>
                    <a:pt x="1222" y="1452"/>
                  </a:lnTo>
                  <a:lnTo>
                    <a:pt x="1223" y="1452"/>
                  </a:lnTo>
                  <a:lnTo>
                    <a:pt x="1224" y="1453"/>
                  </a:lnTo>
                  <a:lnTo>
                    <a:pt x="1229" y="1456"/>
                  </a:lnTo>
                  <a:lnTo>
                    <a:pt x="1232" y="1457"/>
                  </a:lnTo>
                  <a:lnTo>
                    <a:pt x="1233" y="1457"/>
                  </a:lnTo>
                  <a:lnTo>
                    <a:pt x="1234" y="1459"/>
                  </a:lnTo>
                  <a:lnTo>
                    <a:pt x="1237" y="1465"/>
                  </a:lnTo>
                  <a:lnTo>
                    <a:pt x="1241" y="1468"/>
                  </a:lnTo>
                  <a:lnTo>
                    <a:pt x="1242" y="1468"/>
                  </a:lnTo>
                  <a:lnTo>
                    <a:pt x="1245" y="1467"/>
                  </a:lnTo>
                  <a:lnTo>
                    <a:pt x="1246" y="1467"/>
                  </a:lnTo>
                  <a:lnTo>
                    <a:pt x="1247" y="1466"/>
                  </a:lnTo>
                  <a:lnTo>
                    <a:pt x="1250" y="1470"/>
                  </a:lnTo>
                  <a:lnTo>
                    <a:pt x="1253" y="1471"/>
                  </a:lnTo>
                  <a:lnTo>
                    <a:pt x="1254" y="1471"/>
                  </a:lnTo>
                  <a:lnTo>
                    <a:pt x="1254" y="1469"/>
                  </a:lnTo>
                  <a:lnTo>
                    <a:pt x="1253" y="1461"/>
                  </a:lnTo>
                  <a:lnTo>
                    <a:pt x="1253" y="1456"/>
                  </a:lnTo>
                  <a:lnTo>
                    <a:pt x="1254" y="1455"/>
                  </a:lnTo>
                  <a:lnTo>
                    <a:pt x="1253" y="1455"/>
                  </a:lnTo>
                  <a:lnTo>
                    <a:pt x="1249" y="1455"/>
                  </a:lnTo>
                  <a:lnTo>
                    <a:pt x="1247" y="1455"/>
                  </a:lnTo>
                  <a:lnTo>
                    <a:pt x="1247" y="1455"/>
                  </a:lnTo>
                  <a:lnTo>
                    <a:pt x="1248" y="1455"/>
                  </a:lnTo>
                  <a:lnTo>
                    <a:pt x="1248" y="1454"/>
                  </a:lnTo>
                  <a:lnTo>
                    <a:pt x="1249" y="1449"/>
                  </a:lnTo>
                  <a:lnTo>
                    <a:pt x="1250" y="1446"/>
                  </a:lnTo>
                  <a:lnTo>
                    <a:pt x="1252" y="1445"/>
                  </a:lnTo>
                  <a:lnTo>
                    <a:pt x="1253" y="1444"/>
                  </a:lnTo>
                  <a:lnTo>
                    <a:pt x="1256" y="1441"/>
                  </a:lnTo>
                  <a:lnTo>
                    <a:pt x="1259" y="1438"/>
                  </a:lnTo>
                  <a:lnTo>
                    <a:pt x="1260" y="1437"/>
                  </a:lnTo>
                  <a:lnTo>
                    <a:pt x="1261" y="1436"/>
                  </a:lnTo>
                  <a:lnTo>
                    <a:pt x="1266" y="1431"/>
                  </a:lnTo>
                  <a:lnTo>
                    <a:pt x="1269" y="1427"/>
                  </a:lnTo>
                  <a:lnTo>
                    <a:pt x="1270" y="1426"/>
                  </a:lnTo>
                  <a:lnTo>
                    <a:pt x="1270" y="1424"/>
                  </a:lnTo>
                  <a:lnTo>
                    <a:pt x="1273" y="1418"/>
                  </a:lnTo>
                  <a:lnTo>
                    <a:pt x="1275" y="1413"/>
                  </a:lnTo>
                  <a:lnTo>
                    <a:pt x="1276" y="1412"/>
                  </a:lnTo>
                  <a:lnTo>
                    <a:pt x="1279" y="1411"/>
                  </a:lnTo>
                  <a:lnTo>
                    <a:pt x="1281" y="1410"/>
                  </a:lnTo>
                  <a:lnTo>
                    <a:pt x="1282" y="1409"/>
                  </a:lnTo>
                  <a:lnTo>
                    <a:pt x="1285" y="1406"/>
                  </a:lnTo>
                  <a:lnTo>
                    <a:pt x="1287" y="1404"/>
                  </a:lnTo>
                  <a:lnTo>
                    <a:pt x="1288" y="1403"/>
                  </a:lnTo>
                  <a:lnTo>
                    <a:pt x="1289" y="1403"/>
                  </a:lnTo>
                  <a:lnTo>
                    <a:pt x="1295" y="1401"/>
                  </a:lnTo>
                  <a:lnTo>
                    <a:pt x="1300" y="1400"/>
                  </a:lnTo>
                  <a:lnTo>
                    <a:pt x="1301" y="1399"/>
                  </a:lnTo>
                  <a:lnTo>
                    <a:pt x="1300" y="1396"/>
                  </a:lnTo>
                  <a:lnTo>
                    <a:pt x="1300" y="1395"/>
                  </a:lnTo>
                  <a:lnTo>
                    <a:pt x="1301" y="1394"/>
                  </a:lnTo>
                  <a:lnTo>
                    <a:pt x="1303" y="1392"/>
                  </a:lnTo>
                  <a:lnTo>
                    <a:pt x="1305" y="1391"/>
                  </a:lnTo>
                  <a:lnTo>
                    <a:pt x="1311" y="1392"/>
                  </a:lnTo>
                  <a:lnTo>
                    <a:pt x="1314" y="1392"/>
                  </a:lnTo>
                  <a:lnTo>
                    <a:pt x="1315" y="1392"/>
                  </a:lnTo>
                  <a:lnTo>
                    <a:pt x="1318" y="1388"/>
                  </a:lnTo>
                  <a:lnTo>
                    <a:pt x="1319" y="1386"/>
                  </a:lnTo>
                  <a:lnTo>
                    <a:pt x="1320" y="1385"/>
                  </a:lnTo>
                  <a:lnTo>
                    <a:pt x="1320" y="1382"/>
                  </a:lnTo>
                  <a:lnTo>
                    <a:pt x="1320" y="1379"/>
                  </a:lnTo>
                  <a:lnTo>
                    <a:pt x="1322" y="1378"/>
                  </a:lnTo>
                  <a:lnTo>
                    <a:pt x="1325" y="1372"/>
                  </a:lnTo>
                  <a:lnTo>
                    <a:pt x="1326" y="1368"/>
                  </a:lnTo>
                  <a:lnTo>
                    <a:pt x="1327" y="1367"/>
                  </a:lnTo>
                  <a:lnTo>
                    <a:pt x="1330" y="1362"/>
                  </a:lnTo>
                  <a:lnTo>
                    <a:pt x="1331" y="1359"/>
                  </a:lnTo>
                  <a:lnTo>
                    <a:pt x="1332" y="1357"/>
                  </a:lnTo>
                  <a:lnTo>
                    <a:pt x="1336" y="1351"/>
                  </a:lnTo>
                  <a:lnTo>
                    <a:pt x="1338" y="1348"/>
                  </a:lnTo>
                  <a:lnTo>
                    <a:pt x="1339" y="1347"/>
                  </a:lnTo>
                  <a:lnTo>
                    <a:pt x="1342" y="1347"/>
                  </a:lnTo>
                  <a:lnTo>
                    <a:pt x="1343" y="1347"/>
                  </a:lnTo>
                  <a:lnTo>
                    <a:pt x="1344" y="1345"/>
                  </a:lnTo>
                  <a:lnTo>
                    <a:pt x="1344" y="1344"/>
                  </a:lnTo>
                  <a:lnTo>
                    <a:pt x="1343" y="1341"/>
                  </a:lnTo>
                  <a:lnTo>
                    <a:pt x="1343" y="1338"/>
                  </a:lnTo>
                  <a:lnTo>
                    <a:pt x="1344" y="1337"/>
                  </a:lnTo>
                  <a:lnTo>
                    <a:pt x="1344" y="1336"/>
                  </a:lnTo>
                  <a:lnTo>
                    <a:pt x="1343" y="1330"/>
                  </a:lnTo>
                  <a:lnTo>
                    <a:pt x="1343" y="1327"/>
                  </a:lnTo>
                  <a:lnTo>
                    <a:pt x="1344" y="1326"/>
                  </a:lnTo>
                  <a:lnTo>
                    <a:pt x="1346" y="1322"/>
                  </a:lnTo>
                  <a:lnTo>
                    <a:pt x="1347" y="1320"/>
                  </a:lnTo>
                  <a:lnTo>
                    <a:pt x="1348" y="1319"/>
                  </a:lnTo>
                  <a:lnTo>
                    <a:pt x="1350" y="1322"/>
                  </a:lnTo>
                  <a:lnTo>
                    <a:pt x="1351" y="1324"/>
                  </a:lnTo>
                  <a:lnTo>
                    <a:pt x="1352" y="1324"/>
                  </a:lnTo>
                  <a:lnTo>
                    <a:pt x="1352" y="1326"/>
                  </a:lnTo>
                  <a:lnTo>
                    <a:pt x="1351" y="1330"/>
                  </a:lnTo>
                  <a:lnTo>
                    <a:pt x="1351" y="1333"/>
                  </a:lnTo>
                  <a:lnTo>
                    <a:pt x="1352" y="1333"/>
                  </a:lnTo>
                  <a:lnTo>
                    <a:pt x="1354" y="1336"/>
                  </a:lnTo>
                  <a:lnTo>
                    <a:pt x="1355" y="1336"/>
                  </a:lnTo>
                  <a:lnTo>
                    <a:pt x="1354" y="1338"/>
                  </a:lnTo>
                  <a:lnTo>
                    <a:pt x="1354" y="1342"/>
                  </a:lnTo>
                  <a:lnTo>
                    <a:pt x="1354" y="1345"/>
                  </a:lnTo>
                  <a:lnTo>
                    <a:pt x="1354" y="1345"/>
                  </a:lnTo>
                  <a:lnTo>
                    <a:pt x="1355" y="1345"/>
                  </a:lnTo>
                  <a:lnTo>
                    <a:pt x="1355" y="1347"/>
                  </a:lnTo>
                  <a:lnTo>
                    <a:pt x="1357" y="1350"/>
                  </a:lnTo>
                  <a:lnTo>
                    <a:pt x="1357" y="1352"/>
                  </a:lnTo>
                  <a:lnTo>
                    <a:pt x="1358" y="1352"/>
                  </a:lnTo>
                  <a:lnTo>
                    <a:pt x="1358" y="1353"/>
                  </a:lnTo>
                  <a:lnTo>
                    <a:pt x="1358" y="1356"/>
                  </a:lnTo>
                  <a:lnTo>
                    <a:pt x="1358" y="1359"/>
                  </a:lnTo>
                  <a:lnTo>
                    <a:pt x="1359" y="1359"/>
                  </a:lnTo>
                  <a:lnTo>
                    <a:pt x="1358" y="1359"/>
                  </a:lnTo>
                  <a:lnTo>
                    <a:pt x="1354" y="1359"/>
                  </a:lnTo>
                  <a:lnTo>
                    <a:pt x="1353" y="1359"/>
                  </a:lnTo>
                  <a:lnTo>
                    <a:pt x="1353" y="1357"/>
                  </a:lnTo>
                  <a:lnTo>
                    <a:pt x="1352" y="1361"/>
                  </a:lnTo>
                  <a:lnTo>
                    <a:pt x="1352" y="1362"/>
                  </a:lnTo>
                  <a:lnTo>
                    <a:pt x="1352" y="1362"/>
                  </a:lnTo>
                  <a:lnTo>
                    <a:pt x="1352" y="1365"/>
                  </a:lnTo>
                  <a:lnTo>
                    <a:pt x="1351" y="1374"/>
                  </a:lnTo>
                  <a:lnTo>
                    <a:pt x="1351" y="1380"/>
                  </a:lnTo>
                  <a:lnTo>
                    <a:pt x="1352" y="1380"/>
                  </a:lnTo>
                  <a:lnTo>
                    <a:pt x="1351" y="1382"/>
                  </a:lnTo>
                  <a:lnTo>
                    <a:pt x="1348" y="1387"/>
                  </a:lnTo>
                  <a:lnTo>
                    <a:pt x="1347" y="1390"/>
                  </a:lnTo>
                  <a:lnTo>
                    <a:pt x="1347" y="1390"/>
                  </a:lnTo>
                  <a:lnTo>
                    <a:pt x="1346" y="1391"/>
                  </a:lnTo>
                  <a:lnTo>
                    <a:pt x="1342" y="1392"/>
                  </a:lnTo>
                  <a:lnTo>
                    <a:pt x="1341" y="1394"/>
                  </a:lnTo>
                  <a:lnTo>
                    <a:pt x="1341" y="1394"/>
                  </a:lnTo>
                  <a:lnTo>
                    <a:pt x="1340" y="1397"/>
                  </a:lnTo>
                  <a:lnTo>
                    <a:pt x="1337" y="1403"/>
                  </a:lnTo>
                  <a:lnTo>
                    <a:pt x="1336" y="1408"/>
                  </a:lnTo>
                  <a:lnTo>
                    <a:pt x="1336" y="1408"/>
                  </a:lnTo>
                  <a:lnTo>
                    <a:pt x="1335" y="1409"/>
                  </a:lnTo>
                  <a:lnTo>
                    <a:pt x="1331" y="1415"/>
                  </a:lnTo>
                  <a:lnTo>
                    <a:pt x="1329" y="1419"/>
                  </a:lnTo>
                  <a:lnTo>
                    <a:pt x="1329" y="1419"/>
                  </a:lnTo>
                  <a:lnTo>
                    <a:pt x="1329" y="1421"/>
                  </a:lnTo>
                  <a:lnTo>
                    <a:pt x="1328" y="1424"/>
                  </a:lnTo>
                  <a:lnTo>
                    <a:pt x="1328" y="1427"/>
                  </a:lnTo>
                  <a:lnTo>
                    <a:pt x="1329" y="1427"/>
                  </a:lnTo>
                  <a:lnTo>
                    <a:pt x="1328" y="1432"/>
                  </a:lnTo>
                  <a:lnTo>
                    <a:pt x="1328" y="1433"/>
                  </a:lnTo>
                  <a:lnTo>
                    <a:pt x="1328" y="1433"/>
                  </a:lnTo>
                  <a:lnTo>
                    <a:pt x="1328" y="1434"/>
                  </a:lnTo>
                  <a:lnTo>
                    <a:pt x="1328" y="1435"/>
                  </a:lnTo>
                  <a:lnTo>
                    <a:pt x="1329" y="1437"/>
                  </a:lnTo>
                  <a:lnTo>
                    <a:pt x="1330" y="1437"/>
                  </a:lnTo>
                  <a:lnTo>
                    <a:pt x="1329" y="1439"/>
                  </a:lnTo>
                  <a:lnTo>
                    <a:pt x="1329" y="1445"/>
                  </a:lnTo>
                  <a:lnTo>
                    <a:pt x="1329" y="1448"/>
                  </a:lnTo>
                  <a:lnTo>
                    <a:pt x="1329" y="1448"/>
                  </a:lnTo>
                  <a:lnTo>
                    <a:pt x="1328" y="1450"/>
                  </a:lnTo>
                  <a:lnTo>
                    <a:pt x="1327" y="1457"/>
                  </a:lnTo>
                  <a:lnTo>
                    <a:pt x="1326" y="1461"/>
                  </a:lnTo>
                  <a:lnTo>
                    <a:pt x="1326" y="1461"/>
                  </a:lnTo>
                  <a:lnTo>
                    <a:pt x="1325" y="1462"/>
                  </a:lnTo>
                  <a:lnTo>
                    <a:pt x="1319" y="1466"/>
                  </a:lnTo>
                  <a:lnTo>
                    <a:pt x="1316" y="1467"/>
                  </a:lnTo>
                  <a:lnTo>
                    <a:pt x="1316" y="1467"/>
                  </a:lnTo>
                  <a:lnTo>
                    <a:pt x="1315" y="1467"/>
                  </a:lnTo>
                  <a:lnTo>
                    <a:pt x="1314" y="1467"/>
                  </a:lnTo>
                  <a:lnTo>
                    <a:pt x="1307" y="1466"/>
                  </a:lnTo>
                  <a:lnTo>
                    <a:pt x="1303" y="1466"/>
                  </a:lnTo>
                  <a:lnTo>
                    <a:pt x="1303" y="1465"/>
                  </a:lnTo>
                  <a:lnTo>
                    <a:pt x="1302" y="1467"/>
                  </a:lnTo>
                  <a:lnTo>
                    <a:pt x="1301" y="1471"/>
                  </a:lnTo>
                  <a:lnTo>
                    <a:pt x="1301" y="1474"/>
                  </a:lnTo>
                  <a:lnTo>
                    <a:pt x="1301" y="1474"/>
                  </a:lnTo>
                  <a:lnTo>
                    <a:pt x="1300" y="1477"/>
                  </a:lnTo>
                  <a:lnTo>
                    <a:pt x="1299" y="1480"/>
                  </a:lnTo>
                  <a:lnTo>
                    <a:pt x="1299" y="1482"/>
                  </a:lnTo>
                  <a:lnTo>
                    <a:pt x="1299" y="1482"/>
                  </a:lnTo>
                  <a:lnTo>
                    <a:pt x="1302" y="1487"/>
                  </a:lnTo>
                  <a:lnTo>
                    <a:pt x="1303" y="1489"/>
                  </a:lnTo>
                  <a:lnTo>
                    <a:pt x="1304" y="1489"/>
                  </a:lnTo>
                  <a:lnTo>
                    <a:pt x="1308" y="1485"/>
                  </a:lnTo>
                  <a:lnTo>
                    <a:pt x="1312" y="1484"/>
                  </a:lnTo>
                  <a:lnTo>
                    <a:pt x="1313" y="1483"/>
                  </a:lnTo>
                  <a:lnTo>
                    <a:pt x="1314" y="1483"/>
                  </a:lnTo>
                  <a:lnTo>
                    <a:pt x="1319" y="1483"/>
                  </a:lnTo>
                  <a:lnTo>
                    <a:pt x="1324" y="1483"/>
                  </a:lnTo>
                  <a:lnTo>
                    <a:pt x="1325" y="1483"/>
                  </a:lnTo>
                  <a:lnTo>
                    <a:pt x="1330" y="1481"/>
                  </a:lnTo>
                  <a:lnTo>
                    <a:pt x="1334" y="1480"/>
                  </a:lnTo>
                  <a:lnTo>
                    <a:pt x="1335" y="1479"/>
                  </a:lnTo>
                  <a:lnTo>
                    <a:pt x="1338" y="1481"/>
                  </a:lnTo>
                  <a:lnTo>
                    <a:pt x="1340" y="1481"/>
                  </a:lnTo>
                  <a:lnTo>
                    <a:pt x="1341" y="1481"/>
                  </a:lnTo>
                  <a:lnTo>
                    <a:pt x="1342" y="1480"/>
                  </a:lnTo>
                  <a:lnTo>
                    <a:pt x="1343" y="1479"/>
                  </a:lnTo>
                  <a:lnTo>
                    <a:pt x="1344" y="1478"/>
                  </a:lnTo>
                  <a:lnTo>
                    <a:pt x="1344" y="1477"/>
                  </a:lnTo>
                  <a:lnTo>
                    <a:pt x="1344" y="1471"/>
                  </a:lnTo>
                  <a:lnTo>
                    <a:pt x="1344" y="1468"/>
                  </a:lnTo>
                  <a:lnTo>
                    <a:pt x="1346" y="1467"/>
                  </a:lnTo>
                  <a:lnTo>
                    <a:pt x="1346" y="1466"/>
                  </a:lnTo>
                  <a:lnTo>
                    <a:pt x="1347" y="1460"/>
                  </a:lnTo>
                  <a:lnTo>
                    <a:pt x="1348" y="1457"/>
                  </a:lnTo>
                  <a:lnTo>
                    <a:pt x="1349" y="1456"/>
                  </a:lnTo>
                  <a:lnTo>
                    <a:pt x="1349" y="1455"/>
                  </a:lnTo>
                  <a:lnTo>
                    <a:pt x="1349" y="1449"/>
                  </a:lnTo>
                  <a:lnTo>
                    <a:pt x="1349" y="1446"/>
                  </a:lnTo>
                  <a:lnTo>
                    <a:pt x="1350" y="1445"/>
                  </a:lnTo>
                  <a:lnTo>
                    <a:pt x="1353" y="1439"/>
                  </a:lnTo>
                  <a:lnTo>
                    <a:pt x="1354" y="1436"/>
                  </a:lnTo>
                  <a:lnTo>
                    <a:pt x="1355" y="1435"/>
                  </a:lnTo>
                  <a:lnTo>
                    <a:pt x="1359" y="1429"/>
                  </a:lnTo>
                  <a:lnTo>
                    <a:pt x="1361" y="1424"/>
                  </a:lnTo>
                  <a:lnTo>
                    <a:pt x="1362" y="1423"/>
                  </a:lnTo>
                  <a:lnTo>
                    <a:pt x="1365" y="1427"/>
                  </a:lnTo>
                  <a:lnTo>
                    <a:pt x="1367" y="1429"/>
                  </a:lnTo>
                  <a:lnTo>
                    <a:pt x="1369" y="1429"/>
                  </a:lnTo>
                  <a:lnTo>
                    <a:pt x="1370" y="1431"/>
                  </a:lnTo>
                  <a:lnTo>
                    <a:pt x="1373" y="1436"/>
                  </a:lnTo>
                  <a:lnTo>
                    <a:pt x="1375" y="1441"/>
                  </a:lnTo>
                  <a:lnTo>
                    <a:pt x="1376" y="1441"/>
                  </a:lnTo>
                  <a:lnTo>
                    <a:pt x="1376" y="1442"/>
                  </a:lnTo>
                  <a:lnTo>
                    <a:pt x="1376" y="1444"/>
                  </a:lnTo>
                  <a:lnTo>
                    <a:pt x="1378" y="1452"/>
                  </a:lnTo>
                  <a:lnTo>
                    <a:pt x="1379" y="1457"/>
                  </a:lnTo>
                  <a:lnTo>
                    <a:pt x="1381" y="1457"/>
                  </a:lnTo>
                  <a:lnTo>
                    <a:pt x="1381" y="1460"/>
                  </a:lnTo>
                  <a:lnTo>
                    <a:pt x="1379" y="1467"/>
                  </a:lnTo>
                  <a:lnTo>
                    <a:pt x="1379" y="1471"/>
                  </a:lnTo>
                  <a:lnTo>
                    <a:pt x="1381" y="1471"/>
                  </a:lnTo>
                  <a:lnTo>
                    <a:pt x="1379" y="1474"/>
                  </a:lnTo>
                  <a:lnTo>
                    <a:pt x="1378" y="1481"/>
                  </a:lnTo>
                  <a:lnTo>
                    <a:pt x="1377" y="1485"/>
                  </a:lnTo>
                  <a:lnTo>
                    <a:pt x="1377" y="1485"/>
                  </a:lnTo>
                  <a:lnTo>
                    <a:pt x="1376" y="1487"/>
                  </a:lnTo>
                  <a:lnTo>
                    <a:pt x="1375" y="1489"/>
                  </a:lnTo>
                  <a:lnTo>
                    <a:pt x="1372" y="1495"/>
                  </a:lnTo>
                  <a:lnTo>
                    <a:pt x="1370" y="1501"/>
                  </a:lnTo>
                  <a:lnTo>
                    <a:pt x="1370" y="1501"/>
                  </a:lnTo>
                  <a:lnTo>
                    <a:pt x="1369" y="1502"/>
                  </a:lnTo>
                  <a:lnTo>
                    <a:pt x="1365" y="1506"/>
                  </a:lnTo>
                  <a:lnTo>
                    <a:pt x="1363" y="1508"/>
                  </a:lnTo>
                  <a:lnTo>
                    <a:pt x="1363" y="1508"/>
                  </a:lnTo>
                  <a:lnTo>
                    <a:pt x="1366" y="1511"/>
                  </a:lnTo>
                  <a:lnTo>
                    <a:pt x="1367" y="1512"/>
                  </a:lnTo>
                  <a:lnTo>
                    <a:pt x="1369" y="1512"/>
                  </a:lnTo>
                  <a:lnTo>
                    <a:pt x="1372" y="1512"/>
                  </a:lnTo>
                  <a:lnTo>
                    <a:pt x="1374" y="1512"/>
                  </a:lnTo>
                  <a:lnTo>
                    <a:pt x="1375" y="1511"/>
                  </a:lnTo>
                  <a:lnTo>
                    <a:pt x="1376" y="1511"/>
                  </a:lnTo>
                  <a:lnTo>
                    <a:pt x="1377" y="1511"/>
                  </a:lnTo>
                  <a:lnTo>
                    <a:pt x="1378" y="1511"/>
                  </a:lnTo>
                  <a:lnTo>
                    <a:pt x="1382" y="1509"/>
                  </a:lnTo>
                  <a:lnTo>
                    <a:pt x="1384" y="1509"/>
                  </a:lnTo>
                  <a:lnTo>
                    <a:pt x="1385" y="1508"/>
                  </a:lnTo>
                  <a:lnTo>
                    <a:pt x="1386" y="1508"/>
                  </a:lnTo>
                  <a:lnTo>
                    <a:pt x="1389" y="1507"/>
                  </a:lnTo>
                  <a:lnTo>
                    <a:pt x="1393" y="1506"/>
                  </a:lnTo>
                  <a:lnTo>
                    <a:pt x="1394" y="1505"/>
                  </a:lnTo>
                  <a:lnTo>
                    <a:pt x="1397" y="1504"/>
                  </a:lnTo>
                  <a:lnTo>
                    <a:pt x="1398" y="1504"/>
                  </a:lnTo>
                  <a:lnTo>
                    <a:pt x="1399" y="1503"/>
                  </a:lnTo>
                  <a:lnTo>
                    <a:pt x="1400" y="1502"/>
                  </a:lnTo>
                  <a:lnTo>
                    <a:pt x="1402" y="1501"/>
                  </a:lnTo>
                  <a:lnTo>
                    <a:pt x="1406" y="1500"/>
                  </a:lnTo>
                  <a:lnTo>
                    <a:pt x="1407" y="1500"/>
                  </a:lnTo>
                  <a:lnTo>
                    <a:pt x="1408" y="1499"/>
                  </a:lnTo>
                  <a:lnTo>
                    <a:pt x="1409" y="1499"/>
                  </a:lnTo>
                  <a:lnTo>
                    <a:pt x="1416" y="1499"/>
                  </a:lnTo>
                  <a:lnTo>
                    <a:pt x="1420" y="1499"/>
                  </a:lnTo>
                  <a:lnTo>
                    <a:pt x="1421" y="1497"/>
                  </a:lnTo>
                  <a:lnTo>
                    <a:pt x="1421" y="1499"/>
                  </a:lnTo>
                  <a:lnTo>
                    <a:pt x="1421" y="1500"/>
                  </a:lnTo>
                  <a:lnTo>
                    <a:pt x="1421" y="1501"/>
                  </a:lnTo>
                  <a:lnTo>
                    <a:pt x="1422" y="1501"/>
                  </a:lnTo>
                  <a:lnTo>
                    <a:pt x="1421" y="1502"/>
                  </a:lnTo>
                  <a:lnTo>
                    <a:pt x="1418" y="1511"/>
                  </a:lnTo>
                  <a:lnTo>
                    <a:pt x="1416" y="1515"/>
                  </a:lnTo>
                  <a:lnTo>
                    <a:pt x="1416" y="1515"/>
                  </a:lnTo>
                  <a:lnTo>
                    <a:pt x="1417" y="1517"/>
                  </a:lnTo>
                  <a:lnTo>
                    <a:pt x="1418" y="1517"/>
                  </a:lnTo>
                  <a:lnTo>
                    <a:pt x="1421" y="1524"/>
                  </a:lnTo>
                  <a:lnTo>
                    <a:pt x="1423" y="1527"/>
                  </a:lnTo>
                  <a:lnTo>
                    <a:pt x="1424" y="1527"/>
                  </a:lnTo>
                  <a:lnTo>
                    <a:pt x="1425" y="1529"/>
                  </a:lnTo>
                  <a:lnTo>
                    <a:pt x="1429" y="1536"/>
                  </a:lnTo>
                  <a:lnTo>
                    <a:pt x="1432" y="1540"/>
                  </a:lnTo>
                  <a:lnTo>
                    <a:pt x="1433" y="1540"/>
                  </a:lnTo>
                  <a:lnTo>
                    <a:pt x="1433" y="1541"/>
                  </a:lnTo>
                  <a:lnTo>
                    <a:pt x="1433" y="1542"/>
                  </a:lnTo>
                  <a:lnTo>
                    <a:pt x="1433" y="1543"/>
                  </a:lnTo>
                  <a:lnTo>
                    <a:pt x="1434" y="1543"/>
                  </a:lnTo>
                  <a:lnTo>
                    <a:pt x="1434" y="1545"/>
                  </a:lnTo>
                  <a:lnTo>
                    <a:pt x="1435" y="1548"/>
                  </a:lnTo>
                  <a:lnTo>
                    <a:pt x="1435" y="1550"/>
                  </a:lnTo>
                  <a:lnTo>
                    <a:pt x="1436" y="1550"/>
                  </a:lnTo>
                  <a:lnTo>
                    <a:pt x="1436" y="1551"/>
                  </a:lnTo>
                  <a:lnTo>
                    <a:pt x="1436" y="1552"/>
                  </a:lnTo>
                  <a:lnTo>
                    <a:pt x="1437" y="1555"/>
                  </a:lnTo>
                  <a:lnTo>
                    <a:pt x="1437" y="1559"/>
                  </a:lnTo>
                  <a:lnTo>
                    <a:pt x="1438" y="1559"/>
                  </a:lnTo>
                  <a:lnTo>
                    <a:pt x="1441" y="1565"/>
                  </a:lnTo>
                  <a:lnTo>
                    <a:pt x="1442" y="1569"/>
                  </a:lnTo>
                  <a:lnTo>
                    <a:pt x="1443" y="1569"/>
                  </a:lnTo>
                  <a:lnTo>
                    <a:pt x="1442" y="1571"/>
                  </a:lnTo>
                  <a:lnTo>
                    <a:pt x="1442" y="1577"/>
                  </a:lnTo>
                  <a:lnTo>
                    <a:pt x="1442" y="1582"/>
                  </a:lnTo>
                  <a:lnTo>
                    <a:pt x="1442" y="1582"/>
                  </a:lnTo>
                  <a:lnTo>
                    <a:pt x="1441" y="1583"/>
                  </a:lnTo>
                  <a:lnTo>
                    <a:pt x="1437" y="1587"/>
                  </a:lnTo>
                  <a:lnTo>
                    <a:pt x="1436" y="1590"/>
                  </a:lnTo>
                  <a:lnTo>
                    <a:pt x="1436" y="1590"/>
                  </a:lnTo>
                  <a:lnTo>
                    <a:pt x="1436" y="1592"/>
                  </a:lnTo>
                  <a:lnTo>
                    <a:pt x="1435" y="1595"/>
                  </a:lnTo>
                  <a:lnTo>
                    <a:pt x="1436" y="1595"/>
                  </a:lnTo>
                  <a:lnTo>
                    <a:pt x="1436" y="1596"/>
                  </a:lnTo>
                  <a:lnTo>
                    <a:pt x="1436" y="1597"/>
                  </a:lnTo>
                  <a:lnTo>
                    <a:pt x="1438" y="1602"/>
                  </a:lnTo>
                  <a:lnTo>
                    <a:pt x="1440" y="1607"/>
                  </a:lnTo>
                  <a:lnTo>
                    <a:pt x="1441" y="1607"/>
                  </a:lnTo>
                  <a:lnTo>
                    <a:pt x="1444" y="1617"/>
                  </a:lnTo>
                  <a:lnTo>
                    <a:pt x="1446" y="1622"/>
                  </a:lnTo>
                  <a:lnTo>
                    <a:pt x="1447" y="1622"/>
                  </a:lnTo>
                  <a:lnTo>
                    <a:pt x="1448" y="1623"/>
                  </a:lnTo>
                  <a:lnTo>
                    <a:pt x="1452" y="1627"/>
                  </a:lnTo>
                  <a:lnTo>
                    <a:pt x="1455" y="1629"/>
                  </a:lnTo>
                  <a:lnTo>
                    <a:pt x="1456" y="1629"/>
                  </a:lnTo>
                  <a:lnTo>
                    <a:pt x="1456" y="1630"/>
                  </a:lnTo>
                  <a:lnTo>
                    <a:pt x="1456" y="1631"/>
                  </a:lnTo>
                  <a:lnTo>
                    <a:pt x="1458" y="1636"/>
                  </a:lnTo>
                  <a:lnTo>
                    <a:pt x="1459" y="1641"/>
                  </a:lnTo>
                  <a:lnTo>
                    <a:pt x="1460" y="1641"/>
                  </a:lnTo>
                  <a:lnTo>
                    <a:pt x="1461" y="1643"/>
                  </a:lnTo>
                  <a:lnTo>
                    <a:pt x="1465" y="1647"/>
                  </a:lnTo>
                  <a:lnTo>
                    <a:pt x="1467" y="1651"/>
                  </a:lnTo>
                  <a:lnTo>
                    <a:pt x="1468" y="1651"/>
                  </a:lnTo>
                  <a:lnTo>
                    <a:pt x="1475" y="1656"/>
                  </a:lnTo>
                  <a:lnTo>
                    <a:pt x="1479" y="1658"/>
                  </a:lnTo>
                  <a:lnTo>
                    <a:pt x="1480" y="1658"/>
                  </a:lnTo>
                  <a:lnTo>
                    <a:pt x="1482" y="1659"/>
                  </a:lnTo>
                  <a:lnTo>
                    <a:pt x="1490" y="1660"/>
                  </a:lnTo>
                  <a:lnTo>
                    <a:pt x="1495" y="1662"/>
                  </a:lnTo>
                  <a:lnTo>
                    <a:pt x="1496" y="1662"/>
                  </a:lnTo>
                  <a:lnTo>
                    <a:pt x="1499" y="1664"/>
                  </a:lnTo>
                  <a:lnTo>
                    <a:pt x="1505" y="1667"/>
                  </a:lnTo>
                  <a:lnTo>
                    <a:pt x="1511" y="1670"/>
                  </a:lnTo>
                  <a:lnTo>
                    <a:pt x="1512" y="1670"/>
                  </a:lnTo>
                  <a:lnTo>
                    <a:pt x="1515" y="1677"/>
                  </a:lnTo>
                  <a:lnTo>
                    <a:pt x="1516" y="1680"/>
                  </a:lnTo>
                  <a:lnTo>
                    <a:pt x="1517" y="1680"/>
                  </a:lnTo>
                  <a:lnTo>
                    <a:pt x="1518" y="1681"/>
                  </a:lnTo>
                  <a:lnTo>
                    <a:pt x="1519" y="1680"/>
                  </a:lnTo>
                  <a:lnTo>
                    <a:pt x="1523" y="1679"/>
                  </a:lnTo>
                  <a:lnTo>
                    <a:pt x="1525" y="1678"/>
                  </a:lnTo>
                  <a:lnTo>
                    <a:pt x="1526" y="1677"/>
                  </a:lnTo>
                  <a:lnTo>
                    <a:pt x="1527" y="1677"/>
                  </a:lnTo>
                  <a:lnTo>
                    <a:pt x="1530" y="1676"/>
                  </a:lnTo>
                  <a:lnTo>
                    <a:pt x="1533" y="1676"/>
                  </a:lnTo>
                  <a:lnTo>
                    <a:pt x="1534" y="1675"/>
                  </a:lnTo>
                  <a:lnTo>
                    <a:pt x="1537" y="1677"/>
                  </a:lnTo>
                  <a:lnTo>
                    <a:pt x="1539" y="1678"/>
                  </a:lnTo>
                  <a:lnTo>
                    <a:pt x="1540" y="1678"/>
                  </a:lnTo>
                  <a:lnTo>
                    <a:pt x="1547" y="1681"/>
                  </a:lnTo>
                  <a:lnTo>
                    <a:pt x="1550" y="1682"/>
                  </a:lnTo>
                  <a:lnTo>
                    <a:pt x="1551" y="1682"/>
                  </a:lnTo>
                  <a:lnTo>
                    <a:pt x="1559" y="1685"/>
                  </a:lnTo>
                  <a:lnTo>
                    <a:pt x="1563" y="1685"/>
                  </a:lnTo>
                  <a:lnTo>
                    <a:pt x="1564" y="1685"/>
                  </a:lnTo>
                  <a:lnTo>
                    <a:pt x="1565" y="1686"/>
                  </a:lnTo>
                  <a:lnTo>
                    <a:pt x="1569" y="1688"/>
                  </a:lnTo>
                  <a:lnTo>
                    <a:pt x="1571" y="1689"/>
                  </a:lnTo>
                  <a:lnTo>
                    <a:pt x="1572" y="1689"/>
                  </a:lnTo>
                  <a:lnTo>
                    <a:pt x="1574" y="1691"/>
                  </a:lnTo>
                  <a:lnTo>
                    <a:pt x="1581" y="1697"/>
                  </a:lnTo>
                  <a:lnTo>
                    <a:pt x="1585" y="1700"/>
                  </a:lnTo>
                  <a:lnTo>
                    <a:pt x="1586" y="1700"/>
                  </a:lnTo>
                  <a:lnTo>
                    <a:pt x="1588" y="1702"/>
                  </a:lnTo>
                  <a:lnTo>
                    <a:pt x="1596" y="1705"/>
                  </a:lnTo>
                  <a:lnTo>
                    <a:pt x="1602" y="1709"/>
                  </a:lnTo>
                  <a:lnTo>
                    <a:pt x="1604" y="1709"/>
                  </a:lnTo>
                  <a:lnTo>
                    <a:pt x="1605" y="1713"/>
                  </a:lnTo>
                  <a:lnTo>
                    <a:pt x="1606" y="1714"/>
                  </a:lnTo>
                  <a:lnTo>
                    <a:pt x="1607" y="1714"/>
                  </a:lnTo>
                  <a:lnTo>
                    <a:pt x="1608" y="1714"/>
                  </a:lnTo>
                  <a:lnTo>
                    <a:pt x="1613" y="1713"/>
                  </a:lnTo>
                  <a:lnTo>
                    <a:pt x="1617" y="1713"/>
                  </a:lnTo>
                  <a:lnTo>
                    <a:pt x="1618" y="1712"/>
                  </a:lnTo>
                  <a:lnTo>
                    <a:pt x="1619" y="1711"/>
                  </a:lnTo>
                  <a:lnTo>
                    <a:pt x="1621" y="1710"/>
                  </a:lnTo>
                  <a:lnTo>
                    <a:pt x="1629" y="1706"/>
                  </a:lnTo>
                  <a:lnTo>
                    <a:pt x="1633" y="1705"/>
                  </a:lnTo>
                  <a:lnTo>
                    <a:pt x="1634" y="1704"/>
                  </a:lnTo>
                  <a:lnTo>
                    <a:pt x="1635" y="1703"/>
                  </a:lnTo>
                  <a:lnTo>
                    <a:pt x="1640" y="1698"/>
                  </a:lnTo>
                  <a:lnTo>
                    <a:pt x="1643" y="1694"/>
                  </a:lnTo>
                  <a:lnTo>
                    <a:pt x="1644" y="1693"/>
                  </a:lnTo>
                  <a:lnTo>
                    <a:pt x="1645" y="1692"/>
                  </a:lnTo>
                  <a:lnTo>
                    <a:pt x="1649" y="1689"/>
                  </a:lnTo>
                  <a:lnTo>
                    <a:pt x="1653" y="1687"/>
                  </a:lnTo>
                  <a:lnTo>
                    <a:pt x="1654" y="1686"/>
                  </a:lnTo>
                  <a:lnTo>
                    <a:pt x="1655" y="1686"/>
                  </a:lnTo>
                  <a:lnTo>
                    <a:pt x="1659" y="1685"/>
                  </a:lnTo>
                  <a:lnTo>
                    <a:pt x="1663" y="1683"/>
                  </a:lnTo>
                  <a:lnTo>
                    <a:pt x="1664" y="1682"/>
                  </a:lnTo>
                  <a:lnTo>
                    <a:pt x="1665" y="1682"/>
                  </a:lnTo>
                  <a:lnTo>
                    <a:pt x="1668" y="1682"/>
                  </a:lnTo>
                  <a:lnTo>
                    <a:pt x="1670" y="1682"/>
                  </a:lnTo>
                  <a:lnTo>
                    <a:pt x="1671" y="1681"/>
                  </a:lnTo>
                  <a:lnTo>
                    <a:pt x="1671" y="1679"/>
                  </a:lnTo>
                  <a:lnTo>
                    <a:pt x="1669" y="1678"/>
                  </a:lnTo>
                  <a:lnTo>
                    <a:pt x="1664" y="1675"/>
                  </a:lnTo>
                  <a:lnTo>
                    <a:pt x="1660" y="1671"/>
                  </a:lnTo>
                  <a:lnTo>
                    <a:pt x="1660" y="1670"/>
                  </a:lnTo>
                  <a:lnTo>
                    <a:pt x="1662" y="1670"/>
                  </a:lnTo>
                  <a:lnTo>
                    <a:pt x="1665" y="1670"/>
                  </a:lnTo>
                  <a:lnTo>
                    <a:pt x="1668" y="1670"/>
                  </a:lnTo>
                  <a:lnTo>
                    <a:pt x="1669" y="1670"/>
                  </a:lnTo>
                  <a:lnTo>
                    <a:pt x="1675" y="1667"/>
                  </a:lnTo>
                  <a:lnTo>
                    <a:pt x="1678" y="1665"/>
                  </a:lnTo>
                  <a:lnTo>
                    <a:pt x="1679" y="1664"/>
                  </a:lnTo>
                  <a:lnTo>
                    <a:pt x="1681" y="1663"/>
                  </a:lnTo>
                  <a:lnTo>
                    <a:pt x="1683" y="1662"/>
                  </a:lnTo>
                  <a:lnTo>
                    <a:pt x="1684" y="1663"/>
                  </a:lnTo>
                  <a:lnTo>
                    <a:pt x="1688" y="1665"/>
                  </a:lnTo>
                  <a:lnTo>
                    <a:pt x="1691" y="1666"/>
                  </a:lnTo>
                  <a:lnTo>
                    <a:pt x="1692" y="1666"/>
                  </a:lnTo>
                  <a:lnTo>
                    <a:pt x="1691" y="1668"/>
                  </a:lnTo>
                  <a:lnTo>
                    <a:pt x="1691" y="1674"/>
                  </a:lnTo>
                  <a:lnTo>
                    <a:pt x="1691" y="1678"/>
                  </a:lnTo>
                  <a:lnTo>
                    <a:pt x="1691" y="1678"/>
                  </a:lnTo>
                  <a:lnTo>
                    <a:pt x="1690" y="1680"/>
                  </a:lnTo>
                  <a:lnTo>
                    <a:pt x="1689" y="1683"/>
                  </a:lnTo>
                  <a:lnTo>
                    <a:pt x="1688" y="1687"/>
                  </a:lnTo>
                  <a:lnTo>
                    <a:pt x="1688" y="1687"/>
                  </a:lnTo>
                  <a:lnTo>
                    <a:pt x="1687" y="1687"/>
                  </a:lnTo>
                  <a:lnTo>
                    <a:pt x="1686" y="1687"/>
                  </a:lnTo>
                  <a:lnTo>
                    <a:pt x="1680" y="1687"/>
                  </a:lnTo>
                  <a:lnTo>
                    <a:pt x="1676" y="1687"/>
                  </a:lnTo>
                  <a:lnTo>
                    <a:pt x="1676" y="1686"/>
                  </a:lnTo>
                  <a:lnTo>
                    <a:pt x="1678" y="1690"/>
                  </a:lnTo>
                  <a:lnTo>
                    <a:pt x="1679" y="1691"/>
                  </a:lnTo>
                  <a:lnTo>
                    <a:pt x="1680" y="1691"/>
                  </a:lnTo>
                  <a:lnTo>
                    <a:pt x="1681" y="1692"/>
                  </a:lnTo>
                  <a:lnTo>
                    <a:pt x="1684" y="1694"/>
                  </a:lnTo>
                  <a:lnTo>
                    <a:pt x="1688" y="1695"/>
                  </a:lnTo>
                  <a:lnTo>
                    <a:pt x="1689" y="1695"/>
                  </a:lnTo>
                  <a:lnTo>
                    <a:pt x="1690" y="1695"/>
                  </a:lnTo>
                  <a:lnTo>
                    <a:pt x="1693" y="1694"/>
                  </a:lnTo>
                  <a:lnTo>
                    <a:pt x="1696" y="1693"/>
                  </a:lnTo>
                  <a:lnTo>
                    <a:pt x="1698" y="1692"/>
                  </a:lnTo>
                  <a:lnTo>
                    <a:pt x="1701" y="1691"/>
                  </a:lnTo>
                  <a:lnTo>
                    <a:pt x="1702" y="1690"/>
                  </a:lnTo>
                  <a:lnTo>
                    <a:pt x="1703" y="1689"/>
                  </a:lnTo>
                  <a:lnTo>
                    <a:pt x="1706" y="1687"/>
                  </a:lnTo>
                  <a:lnTo>
                    <a:pt x="1707" y="1686"/>
                  </a:lnTo>
                  <a:lnTo>
                    <a:pt x="1709" y="1685"/>
                  </a:lnTo>
                  <a:lnTo>
                    <a:pt x="1712" y="1690"/>
                  </a:lnTo>
                  <a:lnTo>
                    <a:pt x="1714" y="1692"/>
                  </a:lnTo>
                  <a:lnTo>
                    <a:pt x="1715" y="1692"/>
                  </a:lnTo>
                  <a:lnTo>
                    <a:pt x="1714" y="1693"/>
                  </a:lnTo>
                  <a:lnTo>
                    <a:pt x="1712" y="1698"/>
                  </a:lnTo>
                  <a:lnTo>
                    <a:pt x="1711" y="1701"/>
                  </a:lnTo>
                  <a:lnTo>
                    <a:pt x="1711" y="1701"/>
                  </a:lnTo>
                  <a:lnTo>
                    <a:pt x="1711" y="1702"/>
                  </a:lnTo>
                  <a:lnTo>
                    <a:pt x="1710" y="1705"/>
                  </a:lnTo>
                  <a:lnTo>
                    <a:pt x="1711" y="1705"/>
                  </a:lnTo>
                  <a:lnTo>
                    <a:pt x="1714" y="1711"/>
                  </a:lnTo>
                  <a:lnTo>
                    <a:pt x="1716" y="1713"/>
                  </a:lnTo>
                  <a:lnTo>
                    <a:pt x="1717" y="1713"/>
                  </a:lnTo>
                  <a:lnTo>
                    <a:pt x="1721" y="1713"/>
                  </a:lnTo>
                  <a:lnTo>
                    <a:pt x="1722" y="1713"/>
                  </a:lnTo>
                  <a:lnTo>
                    <a:pt x="1723" y="1713"/>
                  </a:lnTo>
                  <a:lnTo>
                    <a:pt x="1725" y="1714"/>
                  </a:lnTo>
                  <a:lnTo>
                    <a:pt x="1726" y="1714"/>
                  </a:lnTo>
                  <a:lnTo>
                    <a:pt x="1727" y="1714"/>
                  </a:lnTo>
                  <a:lnTo>
                    <a:pt x="1727" y="1715"/>
                  </a:lnTo>
                  <a:lnTo>
                    <a:pt x="1727" y="1716"/>
                  </a:lnTo>
                  <a:lnTo>
                    <a:pt x="1728" y="1720"/>
                  </a:lnTo>
                  <a:lnTo>
                    <a:pt x="1728" y="1723"/>
                  </a:lnTo>
                  <a:lnTo>
                    <a:pt x="1729" y="1723"/>
                  </a:lnTo>
                  <a:lnTo>
                    <a:pt x="1730" y="1724"/>
                  </a:lnTo>
                  <a:lnTo>
                    <a:pt x="1734" y="1725"/>
                  </a:lnTo>
                  <a:lnTo>
                    <a:pt x="1736" y="1726"/>
                  </a:lnTo>
                  <a:lnTo>
                    <a:pt x="1737" y="1726"/>
                  </a:lnTo>
                  <a:lnTo>
                    <a:pt x="1739" y="1726"/>
                  </a:lnTo>
                  <a:lnTo>
                    <a:pt x="1740" y="1726"/>
                  </a:lnTo>
                  <a:lnTo>
                    <a:pt x="1741" y="1726"/>
                  </a:lnTo>
                  <a:lnTo>
                    <a:pt x="1742" y="1732"/>
                  </a:lnTo>
                  <a:lnTo>
                    <a:pt x="1744" y="1734"/>
                  </a:lnTo>
                  <a:lnTo>
                    <a:pt x="1745" y="1734"/>
                  </a:lnTo>
                  <a:lnTo>
                    <a:pt x="1748" y="1740"/>
                  </a:lnTo>
                  <a:lnTo>
                    <a:pt x="1750" y="1744"/>
                  </a:lnTo>
                  <a:lnTo>
                    <a:pt x="1751" y="1744"/>
                  </a:lnTo>
                  <a:lnTo>
                    <a:pt x="1752" y="1740"/>
                  </a:lnTo>
                  <a:lnTo>
                    <a:pt x="1753" y="1739"/>
                  </a:lnTo>
                  <a:lnTo>
                    <a:pt x="1754" y="1738"/>
                  </a:lnTo>
                  <a:lnTo>
                    <a:pt x="1754" y="1737"/>
                  </a:lnTo>
                  <a:lnTo>
                    <a:pt x="1756" y="1734"/>
                  </a:lnTo>
                  <a:lnTo>
                    <a:pt x="1756" y="1732"/>
                  </a:lnTo>
                  <a:lnTo>
                    <a:pt x="1757" y="1730"/>
                  </a:lnTo>
                  <a:lnTo>
                    <a:pt x="1759" y="1725"/>
                  </a:lnTo>
                  <a:lnTo>
                    <a:pt x="1760" y="1722"/>
                  </a:lnTo>
                  <a:lnTo>
                    <a:pt x="1761" y="1721"/>
                  </a:lnTo>
                  <a:lnTo>
                    <a:pt x="1760" y="1721"/>
                  </a:lnTo>
                  <a:lnTo>
                    <a:pt x="1759" y="1721"/>
                  </a:lnTo>
                  <a:lnTo>
                    <a:pt x="1758" y="1721"/>
                  </a:lnTo>
                  <a:lnTo>
                    <a:pt x="1758" y="1721"/>
                  </a:lnTo>
                  <a:lnTo>
                    <a:pt x="1757" y="1722"/>
                  </a:lnTo>
                  <a:lnTo>
                    <a:pt x="1753" y="1723"/>
                  </a:lnTo>
                  <a:lnTo>
                    <a:pt x="1751" y="1724"/>
                  </a:lnTo>
                  <a:lnTo>
                    <a:pt x="1751" y="1724"/>
                  </a:lnTo>
                  <a:lnTo>
                    <a:pt x="1750" y="1725"/>
                  </a:lnTo>
                  <a:lnTo>
                    <a:pt x="1749" y="1728"/>
                  </a:lnTo>
                  <a:lnTo>
                    <a:pt x="1748" y="1729"/>
                  </a:lnTo>
                  <a:lnTo>
                    <a:pt x="1748" y="1729"/>
                  </a:lnTo>
                  <a:lnTo>
                    <a:pt x="1746" y="1727"/>
                  </a:lnTo>
                  <a:lnTo>
                    <a:pt x="1746" y="1725"/>
                  </a:lnTo>
                  <a:lnTo>
                    <a:pt x="1746" y="1724"/>
                  </a:lnTo>
                  <a:lnTo>
                    <a:pt x="1746" y="1721"/>
                  </a:lnTo>
                  <a:lnTo>
                    <a:pt x="1746" y="1718"/>
                  </a:lnTo>
                  <a:lnTo>
                    <a:pt x="1747" y="1717"/>
                  </a:lnTo>
                  <a:lnTo>
                    <a:pt x="1749" y="1717"/>
                  </a:lnTo>
                  <a:lnTo>
                    <a:pt x="1750" y="1717"/>
                  </a:lnTo>
                  <a:lnTo>
                    <a:pt x="1751" y="1716"/>
                  </a:lnTo>
                  <a:lnTo>
                    <a:pt x="1754" y="1718"/>
                  </a:lnTo>
                  <a:lnTo>
                    <a:pt x="1756" y="1718"/>
                  </a:lnTo>
                  <a:lnTo>
                    <a:pt x="1757" y="1718"/>
                  </a:lnTo>
                  <a:lnTo>
                    <a:pt x="1758" y="1718"/>
                  </a:lnTo>
                  <a:lnTo>
                    <a:pt x="1761" y="1717"/>
                  </a:lnTo>
                  <a:lnTo>
                    <a:pt x="1763" y="1717"/>
                  </a:lnTo>
                  <a:lnTo>
                    <a:pt x="1764" y="1716"/>
                  </a:lnTo>
                  <a:lnTo>
                    <a:pt x="1768" y="1716"/>
                  </a:lnTo>
                  <a:lnTo>
                    <a:pt x="1769" y="1716"/>
                  </a:lnTo>
                  <a:lnTo>
                    <a:pt x="1770" y="1715"/>
                  </a:lnTo>
                  <a:lnTo>
                    <a:pt x="1771" y="1717"/>
                  </a:lnTo>
                  <a:lnTo>
                    <a:pt x="1772" y="1718"/>
                  </a:lnTo>
                  <a:lnTo>
                    <a:pt x="1775" y="1716"/>
                  </a:lnTo>
                  <a:lnTo>
                    <a:pt x="1776" y="1715"/>
                  </a:lnTo>
                  <a:lnTo>
                    <a:pt x="1777" y="1714"/>
                  </a:lnTo>
                  <a:lnTo>
                    <a:pt x="1784" y="1711"/>
                  </a:lnTo>
                  <a:lnTo>
                    <a:pt x="1787" y="1710"/>
                  </a:lnTo>
                  <a:lnTo>
                    <a:pt x="1788" y="1709"/>
                  </a:lnTo>
                  <a:lnTo>
                    <a:pt x="1789" y="1706"/>
                  </a:lnTo>
                  <a:lnTo>
                    <a:pt x="1791" y="1705"/>
                  </a:lnTo>
                  <a:lnTo>
                    <a:pt x="1792" y="1704"/>
                  </a:lnTo>
                  <a:lnTo>
                    <a:pt x="1793" y="1703"/>
                  </a:lnTo>
                  <a:lnTo>
                    <a:pt x="1795" y="1702"/>
                  </a:lnTo>
                  <a:lnTo>
                    <a:pt x="1797" y="1700"/>
                  </a:lnTo>
                  <a:lnTo>
                    <a:pt x="1798" y="1699"/>
                  </a:lnTo>
                  <a:lnTo>
                    <a:pt x="1799" y="1698"/>
                  </a:lnTo>
                  <a:lnTo>
                    <a:pt x="1806" y="1694"/>
                  </a:lnTo>
                  <a:lnTo>
                    <a:pt x="1810" y="1692"/>
                  </a:lnTo>
                  <a:lnTo>
                    <a:pt x="1811" y="1691"/>
                  </a:lnTo>
                  <a:lnTo>
                    <a:pt x="1812" y="1690"/>
                  </a:lnTo>
                  <a:lnTo>
                    <a:pt x="1816" y="1687"/>
                  </a:lnTo>
                  <a:lnTo>
                    <a:pt x="1819" y="1685"/>
                  </a:lnTo>
                  <a:lnTo>
                    <a:pt x="1820" y="1683"/>
                  </a:lnTo>
                  <a:lnTo>
                    <a:pt x="1821" y="1683"/>
                  </a:lnTo>
                  <a:lnTo>
                    <a:pt x="1827" y="1682"/>
                  </a:lnTo>
                  <a:lnTo>
                    <a:pt x="1830" y="1681"/>
                  </a:lnTo>
                  <a:lnTo>
                    <a:pt x="1831" y="1680"/>
                  </a:lnTo>
                  <a:lnTo>
                    <a:pt x="1836" y="1678"/>
                  </a:lnTo>
                  <a:lnTo>
                    <a:pt x="1840" y="1677"/>
                  </a:lnTo>
                  <a:lnTo>
                    <a:pt x="1841" y="1676"/>
                  </a:lnTo>
                  <a:lnTo>
                    <a:pt x="1842" y="1676"/>
                  </a:lnTo>
                  <a:lnTo>
                    <a:pt x="1847" y="1675"/>
                  </a:lnTo>
                  <a:lnTo>
                    <a:pt x="1852" y="1675"/>
                  </a:lnTo>
                  <a:lnTo>
                    <a:pt x="1853" y="1674"/>
                  </a:lnTo>
                  <a:lnTo>
                    <a:pt x="1854" y="1674"/>
                  </a:lnTo>
                  <a:lnTo>
                    <a:pt x="1857" y="1674"/>
                  </a:lnTo>
                  <a:lnTo>
                    <a:pt x="1860" y="1674"/>
                  </a:lnTo>
                  <a:lnTo>
                    <a:pt x="1862" y="1674"/>
                  </a:lnTo>
                  <a:lnTo>
                    <a:pt x="1865" y="1675"/>
                  </a:lnTo>
                  <a:lnTo>
                    <a:pt x="1877" y="1676"/>
                  </a:lnTo>
                  <a:lnTo>
                    <a:pt x="1886" y="1677"/>
                  </a:lnTo>
                  <a:lnTo>
                    <a:pt x="1887" y="1677"/>
                  </a:lnTo>
                  <a:lnTo>
                    <a:pt x="1894" y="1678"/>
                  </a:lnTo>
                  <a:lnTo>
                    <a:pt x="1899" y="1678"/>
                  </a:lnTo>
                  <a:lnTo>
                    <a:pt x="1900" y="1678"/>
                  </a:lnTo>
                  <a:lnTo>
                    <a:pt x="1902" y="1678"/>
                  </a:lnTo>
                  <a:lnTo>
                    <a:pt x="1911" y="1677"/>
                  </a:lnTo>
                  <a:lnTo>
                    <a:pt x="1917" y="1676"/>
                  </a:lnTo>
                  <a:lnTo>
                    <a:pt x="1918" y="1675"/>
                  </a:lnTo>
                  <a:lnTo>
                    <a:pt x="1918" y="1674"/>
                  </a:lnTo>
                  <a:lnTo>
                    <a:pt x="1920" y="1668"/>
                  </a:lnTo>
                  <a:lnTo>
                    <a:pt x="1921" y="1664"/>
                  </a:lnTo>
                  <a:lnTo>
                    <a:pt x="1922" y="1663"/>
                  </a:lnTo>
                  <a:lnTo>
                    <a:pt x="1923" y="1663"/>
                  </a:lnTo>
                  <a:lnTo>
                    <a:pt x="1924" y="1663"/>
                  </a:lnTo>
                  <a:lnTo>
                    <a:pt x="1925" y="1663"/>
                  </a:lnTo>
                  <a:lnTo>
                    <a:pt x="1926" y="1664"/>
                  </a:lnTo>
                  <a:lnTo>
                    <a:pt x="1929" y="1667"/>
                  </a:lnTo>
                  <a:lnTo>
                    <a:pt x="1932" y="1668"/>
                  </a:lnTo>
                  <a:lnTo>
                    <a:pt x="1933" y="1668"/>
                  </a:lnTo>
                  <a:lnTo>
                    <a:pt x="1934" y="1665"/>
                  </a:lnTo>
                  <a:lnTo>
                    <a:pt x="1934" y="1664"/>
                  </a:lnTo>
                  <a:lnTo>
                    <a:pt x="1935" y="1663"/>
                  </a:lnTo>
                  <a:lnTo>
                    <a:pt x="1935" y="1662"/>
                  </a:lnTo>
                  <a:lnTo>
                    <a:pt x="1936" y="1658"/>
                  </a:lnTo>
                  <a:lnTo>
                    <a:pt x="1937" y="1655"/>
                  </a:lnTo>
                  <a:lnTo>
                    <a:pt x="1938" y="1654"/>
                  </a:lnTo>
                  <a:lnTo>
                    <a:pt x="1938" y="1653"/>
                  </a:lnTo>
                  <a:lnTo>
                    <a:pt x="1937" y="1650"/>
                  </a:lnTo>
                  <a:lnTo>
                    <a:pt x="1937" y="1646"/>
                  </a:lnTo>
                  <a:lnTo>
                    <a:pt x="1938" y="1645"/>
                  </a:lnTo>
                  <a:lnTo>
                    <a:pt x="1937" y="1641"/>
                  </a:lnTo>
                  <a:lnTo>
                    <a:pt x="1937" y="1637"/>
                  </a:lnTo>
                  <a:lnTo>
                    <a:pt x="1937" y="1636"/>
                  </a:lnTo>
                  <a:lnTo>
                    <a:pt x="1937" y="1633"/>
                  </a:lnTo>
                  <a:lnTo>
                    <a:pt x="1937" y="1632"/>
                  </a:lnTo>
                  <a:lnTo>
                    <a:pt x="1938" y="1631"/>
                  </a:lnTo>
                  <a:lnTo>
                    <a:pt x="1938" y="1630"/>
                  </a:lnTo>
                  <a:lnTo>
                    <a:pt x="1939" y="1627"/>
                  </a:lnTo>
                  <a:lnTo>
                    <a:pt x="1939" y="1623"/>
                  </a:lnTo>
                  <a:lnTo>
                    <a:pt x="1940" y="1622"/>
                  </a:lnTo>
                  <a:lnTo>
                    <a:pt x="1942" y="1619"/>
                  </a:lnTo>
                  <a:lnTo>
                    <a:pt x="1944" y="1617"/>
                  </a:lnTo>
                  <a:lnTo>
                    <a:pt x="1945" y="1616"/>
                  </a:lnTo>
                  <a:lnTo>
                    <a:pt x="1946" y="1612"/>
                  </a:lnTo>
                  <a:lnTo>
                    <a:pt x="1947" y="1611"/>
                  </a:lnTo>
                  <a:lnTo>
                    <a:pt x="1948" y="1610"/>
                  </a:lnTo>
                  <a:lnTo>
                    <a:pt x="1948" y="1609"/>
                  </a:lnTo>
                  <a:lnTo>
                    <a:pt x="1949" y="1605"/>
                  </a:lnTo>
                  <a:lnTo>
                    <a:pt x="1950" y="1601"/>
                  </a:lnTo>
                  <a:lnTo>
                    <a:pt x="1951" y="1600"/>
                  </a:lnTo>
                  <a:lnTo>
                    <a:pt x="1952" y="1598"/>
                  </a:lnTo>
                  <a:lnTo>
                    <a:pt x="1953" y="1596"/>
                  </a:lnTo>
                  <a:lnTo>
                    <a:pt x="1952" y="1593"/>
                  </a:lnTo>
                  <a:lnTo>
                    <a:pt x="1952" y="1590"/>
                  </a:lnTo>
                  <a:lnTo>
                    <a:pt x="1952" y="1589"/>
                  </a:lnTo>
                  <a:lnTo>
                    <a:pt x="1953" y="1586"/>
                  </a:lnTo>
                  <a:lnTo>
                    <a:pt x="1953" y="1584"/>
                  </a:lnTo>
                  <a:lnTo>
                    <a:pt x="1954" y="1583"/>
                  </a:lnTo>
                  <a:lnTo>
                    <a:pt x="1954" y="1582"/>
                  </a:lnTo>
                  <a:lnTo>
                    <a:pt x="1956" y="1577"/>
                  </a:lnTo>
                  <a:lnTo>
                    <a:pt x="1957" y="1574"/>
                  </a:lnTo>
                  <a:lnTo>
                    <a:pt x="1958" y="1573"/>
                  </a:lnTo>
                  <a:lnTo>
                    <a:pt x="1958" y="1572"/>
                  </a:lnTo>
                  <a:lnTo>
                    <a:pt x="1959" y="1566"/>
                  </a:lnTo>
                  <a:lnTo>
                    <a:pt x="1960" y="1562"/>
                  </a:lnTo>
                  <a:lnTo>
                    <a:pt x="1961" y="1561"/>
                  </a:lnTo>
                  <a:lnTo>
                    <a:pt x="1962" y="1558"/>
                  </a:lnTo>
                  <a:lnTo>
                    <a:pt x="1963" y="1557"/>
                  </a:lnTo>
                  <a:lnTo>
                    <a:pt x="1964" y="1555"/>
                  </a:lnTo>
                  <a:lnTo>
                    <a:pt x="1965" y="1554"/>
                  </a:lnTo>
                  <a:lnTo>
                    <a:pt x="1968" y="1553"/>
                  </a:lnTo>
                  <a:lnTo>
                    <a:pt x="1970" y="1549"/>
                  </a:lnTo>
                  <a:lnTo>
                    <a:pt x="1971" y="1546"/>
                  </a:lnTo>
                  <a:lnTo>
                    <a:pt x="1972" y="1545"/>
                  </a:lnTo>
                  <a:lnTo>
                    <a:pt x="1975" y="1541"/>
                  </a:lnTo>
                  <a:lnTo>
                    <a:pt x="1976" y="1540"/>
                  </a:lnTo>
                  <a:lnTo>
                    <a:pt x="1977" y="1539"/>
                  </a:lnTo>
                  <a:lnTo>
                    <a:pt x="1979" y="1537"/>
                  </a:lnTo>
                  <a:lnTo>
                    <a:pt x="1982" y="1529"/>
                  </a:lnTo>
                  <a:lnTo>
                    <a:pt x="1985" y="1524"/>
                  </a:lnTo>
                  <a:lnTo>
                    <a:pt x="1986" y="1523"/>
                  </a:lnTo>
                  <a:lnTo>
                    <a:pt x="1988" y="1526"/>
                  </a:lnTo>
                  <a:lnTo>
                    <a:pt x="1989" y="1527"/>
                  </a:lnTo>
                  <a:lnTo>
                    <a:pt x="1991" y="1527"/>
                  </a:lnTo>
                  <a:lnTo>
                    <a:pt x="1992" y="1529"/>
                  </a:lnTo>
                  <a:lnTo>
                    <a:pt x="1993" y="1529"/>
                  </a:lnTo>
                  <a:lnTo>
                    <a:pt x="1993" y="1528"/>
                  </a:lnTo>
                  <a:lnTo>
                    <a:pt x="1994" y="1524"/>
                  </a:lnTo>
                  <a:lnTo>
                    <a:pt x="1994" y="1520"/>
                  </a:lnTo>
                  <a:lnTo>
                    <a:pt x="1995" y="1519"/>
                  </a:lnTo>
                  <a:lnTo>
                    <a:pt x="1996" y="1515"/>
                  </a:lnTo>
                  <a:lnTo>
                    <a:pt x="1997" y="1513"/>
                  </a:lnTo>
                  <a:lnTo>
                    <a:pt x="1998" y="1512"/>
                  </a:lnTo>
                  <a:lnTo>
                    <a:pt x="2000" y="1507"/>
                  </a:lnTo>
                  <a:lnTo>
                    <a:pt x="2007" y="1492"/>
                  </a:lnTo>
                  <a:lnTo>
                    <a:pt x="2012" y="1481"/>
                  </a:lnTo>
                  <a:lnTo>
                    <a:pt x="2014" y="1480"/>
                  </a:lnTo>
                  <a:lnTo>
                    <a:pt x="2015" y="1479"/>
                  </a:lnTo>
                  <a:lnTo>
                    <a:pt x="2018" y="1476"/>
                  </a:lnTo>
                  <a:lnTo>
                    <a:pt x="2021" y="1472"/>
                  </a:lnTo>
                  <a:lnTo>
                    <a:pt x="2022" y="1471"/>
                  </a:lnTo>
                  <a:lnTo>
                    <a:pt x="2022" y="1470"/>
                  </a:lnTo>
                  <a:lnTo>
                    <a:pt x="2023" y="1466"/>
                  </a:lnTo>
                  <a:lnTo>
                    <a:pt x="2023" y="1462"/>
                  </a:lnTo>
                  <a:lnTo>
                    <a:pt x="2024" y="1461"/>
                  </a:lnTo>
                  <a:lnTo>
                    <a:pt x="2026" y="1461"/>
                  </a:lnTo>
                  <a:lnTo>
                    <a:pt x="2027" y="1461"/>
                  </a:lnTo>
                  <a:lnTo>
                    <a:pt x="2028" y="1461"/>
                  </a:lnTo>
                  <a:lnTo>
                    <a:pt x="2031" y="1456"/>
                  </a:lnTo>
                  <a:lnTo>
                    <a:pt x="2032" y="1453"/>
                  </a:lnTo>
                  <a:lnTo>
                    <a:pt x="2033" y="1452"/>
                  </a:lnTo>
                  <a:lnTo>
                    <a:pt x="2033" y="1450"/>
                  </a:lnTo>
                  <a:lnTo>
                    <a:pt x="2034" y="1445"/>
                  </a:lnTo>
                  <a:lnTo>
                    <a:pt x="2034" y="1442"/>
                  </a:lnTo>
                  <a:lnTo>
                    <a:pt x="2035" y="1441"/>
                  </a:lnTo>
                  <a:lnTo>
                    <a:pt x="2031" y="1439"/>
                  </a:lnTo>
                  <a:lnTo>
                    <a:pt x="2030" y="1438"/>
                  </a:lnTo>
                  <a:lnTo>
                    <a:pt x="2030" y="1437"/>
                  </a:lnTo>
                  <a:lnTo>
                    <a:pt x="2031" y="1436"/>
                  </a:lnTo>
                  <a:lnTo>
                    <a:pt x="2032" y="1434"/>
                  </a:lnTo>
                  <a:lnTo>
                    <a:pt x="2033" y="1434"/>
                  </a:lnTo>
                  <a:lnTo>
                    <a:pt x="2034" y="1434"/>
                  </a:lnTo>
                  <a:lnTo>
                    <a:pt x="2035" y="1433"/>
                  </a:lnTo>
                  <a:lnTo>
                    <a:pt x="2039" y="1433"/>
                  </a:lnTo>
                  <a:lnTo>
                    <a:pt x="2041" y="1433"/>
                  </a:lnTo>
                  <a:lnTo>
                    <a:pt x="2042" y="1432"/>
                  </a:lnTo>
                  <a:lnTo>
                    <a:pt x="2043" y="1431"/>
                  </a:lnTo>
                  <a:lnTo>
                    <a:pt x="2046" y="1427"/>
                  </a:lnTo>
                  <a:lnTo>
                    <a:pt x="2049" y="1424"/>
                  </a:lnTo>
                  <a:lnTo>
                    <a:pt x="2050" y="1423"/>
                  </a:lnTo>
                  <a:lnTo>
                    <a:pt x="2053" y="1415"/>
                  </a:lnTo>
                  <a:lnTo>
                    <a:pt x="2055" y="1411"/>
                  </a:lnTo>
                  <a:lnTo>
                    <a:pt x="2056" y="1410"/>
                  </a:lnTo>
                  <a:lnTo>
                    <a:pt x="2061" y="1407"/>
                  </a:lnTo>
                  <a:lnTo>
                    <a:pt x="2063" y="1404"/>
                  </a:lnTo>
                  <a:lnTo>
                    <a:pt x="2064" y="1403"/>
                  </a:lnTo>
                  <a:lnTo>
                    <a:pt x="2066" y="1399"/>
                  </a:lnTo>
                  <a:lnTo>
                    <a:pt x="2067" y="1397"/>
                  </a:lnTo>
                  <a:lnTo>
                    <a:pt x="2068" y="1396"/>
                  </a:lnTo>
                  <a:lnTo>
                    <a:pt x="2071" y="1395"/>
                  </a:lnTo>
                  <a:lnTo>
                    <a:pt x="2074" y="1395"/>
                  </a:lnTo>
                  <a:lnTo>
                    <a:pt x="2075" y="1394"/>
                  </a:lnTo>
                  <a:lnTo>
                    <a:pt x="2076" y="1394"/>
                  </a:lnTo>
                  <a:lnTo>
                    <a:pt x="2081" y="1392"/>
                  </a:lnTo>
                  <a:lnTo>
                    <a:pt x="2085" y="1392"/>
                  </a:lnTo>
                  <a:lnTo>
                    <a:pt x="2086" y="1391"/>
                  </a:lnTo>
                  <a:lnTo>
                    <a:pt x="2081" y="1389"/>
                  </a:lnTo>
                  <a:lnTo>
                    <a:pt x="2080" y="1388"/>
                  </a:lnTo>
                  <a:lnTo>
                    <a:pt x="2080" y="1387"/>
                  </a:lnTo>
                  <a:lnTo>
                    <a:pt x="2081" y="1386"/>
                  </a:lnTo>
                  <a:lnTo>
                    <a:pt x="2082" y="1385"/>
                  </a:lnTo>
                  <a:lnTo>
                    <a:pt x="2086" y="1385"/>
                  </a:lnTo>
                  <a:lnTo>
                    <a:pt x="2088" y="1385"/>
                  </a:lnTo>
                  <a:lnTo>
                    <a:pt x="2089" y="1385"/>
                  </a:lnTo>
                  <a:lnTo>
                    <a:pt x="2090" y="1384"/>
                  </a:lnTo>
                  <a:lnTo>
                    <a:pt x="2096" y="1380"/>
                  </a:lnTo>
                  <a:lnTo>
                    <a:pt x="2099" y="1378"/>
                  </a:lnTo>
                  <a:lnTo>
                    <a:pt x="2100" y="1377"/>
                  </a:lnTo>
                  <a:lnTo>
                    <a:pt x="2103" y="1374"/>
                  </a:lnTo>
                  <a:lnTo>
                    <a:pt x="2104" y="1373"/>
                  </a:lnTo>
                  <a:lnTo>
                    <a:pt x="2105" y="1372"/>
                  </a:lnTo>
                  <a:lnTo>
                    <a:pt x="2104" y="1368"/>
                  </a:lnTo>
                  <a:lnTo>
                    <a:pt x="2104" y="1367"/>
                  </a:lnTo>
                  <a:lnTo>
                    <a:pt x="2104" y="1366"/>
                  </a:lnTo>
                  <a:lnTo>
                    <a:pt x="2104" y="1363"/>
                  </a:lnTo>
                  <a:lnTo>
                    <a:pt x="2104" y="1361"/>
                  </a:lnTo>
                  <a:lnTo>
                    <a:pt x="2105" y="1360"/>
                  </a:lnTo>
                  <a:lnTo>
                    <a:pt x="2109" y="1356"/>
                  </a:lnTo>
                  <a:lnTo>
                    <a:pt x="2111" y="1355"/>
                  </a:lnTo>
                  <a:lnTo>
                    <a:pt x="2112" y="1354"/>
                  </a:lnTo>
                  <a:lnTo>
                    <a:pt x="2114" y="1351"/>
                  </a:lnTo>
                  <a:lnTo>
                    <a:pt x="2115" y="1349"/>
                  </a:lnTo>
                  <a:lnTo>
                    <a:pt x="2116" y="1348"/>
                  </a:lnTo>
                  <a:lnTo>
                    <a:pt x="2120" y="1345"/>
                  </a:lnTo>
                  <a:lnTo>
                    <a:pt x="2121" y="1344"/>
                  </a:lnTo>
                  <a:lnTo>
                    <a:pt x="2122" y="1343"/>
                  </a:lnTo>
                  <a:lnTo>
                    <a:pt x="2124" y="1339"/>
                  </a:lnTo>
                  <a:lnTo>
                    <a:pt x="2125" y="1337"/>
                  </a:lnTo>
                  <a:lnTo>
                    <a:pt x="2126" y="1336"/>
                  </a:lnTo>
                  <a:lnTo>
                    <a:pt x="2126" y="1334"/>
                  </a:lnTo>
                  <a:lnTo>
                    <a:pt x="2126" y="1333"/>
                  </a:lnTo>
                  <a:lnTo>
                    <a:pt x="2127" y="1332"/>
                  </a:lnTo>
                  <a:lnTo>
                    <a:pt x="2129" y="1329"/>
                  </a:lnTo>
                  <a:lnTo>
                    <a:pt x="2136" y="1318"/>
                  </a:lnTo>
                  <a:lnTo>
                    <a:pt x="2140" y="1309"/>
                  </a:lnTo>
                  <a:lnTo>
                    <a:pt x="2141" y="1308"/>
                  </a:lnTo>
                  <a:lnTo>
                    <a:pt x="2141" y="1305"/>
                  </a:lnTo>
                  <a:lnTo>
                    <a:pt x="2141" y="1303"/>
                  </a:lnTo>
                  <a:lnTo>
                    <a:pt x="2143" y="1302"/>
                  </a:lnTo>
                  <a:lnTo>
                    <a:pt x="2145" y="1298"/>
                  </a:lnTo>
                  <a:lnTo>
                    <a:pt x="2146" y="1297"/>
                  </a:lnTo>
                  <a:lnTo>
                    <a:pt x="2147" y="1296"/>
                  </a:lnTo>
                  <a:lnTo>
                    <a:pt x="2147" y="1295"/>
                  </a:lnTo>
                  <a:lnTo>
                    <a:pt x="2146" y="1292"/>
                  </a:lnTo>
                  <a:lnTo>
                    <a:pt x="2146" y="1289"/>
                  </a:lnTo>
                  <a:lnTo>
                    <a:pt x="2147" y="1287"/>
                  </a:lnTo>
                  <a:lnTo>
                    <a:pt x="2147" y="1286"/>
                  </a:lnTo>
                  <a:lnTo>
                    <a:pt x="2146" y="1282"/>
                  </a:lnTo>
                  <a:lnTo>
                    <a:pt x="2146" y="1279"/>
                  </a:lnTo>
                  <a:lnTo>
                    <a:pt x="2147" y="1278"/>
                  </a:lnTo>
                  <a:lnTo>
                    <a:pt x="2148" y="1278"/>
                  </a:lnTo>
                  <a:lnTo>
                    <a:pt x="2148" y="1275"/>
                  </a:lnTo>
                  <a:lnTo>
                    <a:pt x="2148" y="1274"/>
                  </a:lnTo>
                  <a:lnTo>
                    <a:pt x="2149" y="1273"/>
                  </a:lnTo>
                  <a:lnTo>
                    <a:pt x="2149" y="1272"/>
                  </a:lnTo>
                  <a:lnTo>
                    <a:pt x="2150" y="1267"/>
                  </a:lnTo>
                  <a:lnTo>
                    <a:pt x="2151" y="1262"/>
                  </a:lnTo>
                  <a:lnTo>
                    <a:pt x="2152" y="1261"/>
                  </a:lnTo>
                  <a:lnTo>
                    <a:pt x="2155" y="1257"/>
                  </a:lnTo>
                  <a:lnTo>
                    <a:pt x="2156" y="1255"/>
                  </a:lnTo>
                  <a:lnTo>
                    <a:pt x="2157" y="1254"/>
                  </a:lnTo>
                  <a:lnTo>
                    <a:pt x="2160" y="1248"/>
                  </a:lnTo>
                  <a:lnTo>
                    <a:pt x="2161" y="1245"/>
                  </a:lnTo>
                  <a:lnTo>
                    <a:pt x="2162" y="1244"/>
                  </a:lnTo>
                  <a:lnTo>
                    <a:pt x="2163" y="1243"/>
                  </a:lnTo>
                  <a:lnTo>
                    <a:pt x="2164" y="1241"/>
                  </a:lnTo>
                  <a:lnTo>
                    <a:pt x="2165" y="1237"/>
                  </a:lnTo>
                  <a:lnTo>
                    <a:pt x="2169" y="1224"/>
                  </a:lnTo>
                  <a:lnTo>
                    <a:pt x="2172" y="1213"/>
                  </a:lnTo>
                  <a:lnTo>
                    <a:pt x="2173" y="1212"/>
                  </a:lnTo>
                  <a:lnTo>
                    <a:pt x="2173" y="1210"/>
                  </a:lnTo>
                  <a:lnTo>
                    <a:pt x="2176" y="1201"/>
                  </a:lnTo>
                  <a:lnTo>
                    <a:pt x="2178" y="1194"/>
                  </a:lnTo>
                  <a:lnTo>
                    <a:pt x="2179" y="1193"/>
                  </a:lnTo>
                  <a:lnTo>
                    <a:pt x="2182" y="1185"/>
                  </a:lnTo>
                  <a:lnTo>
                    <a:pt x="2184" y="1179"/>
                  </a:lnTo>
                  <a:lnTo>
                    <a:pt x="2185" y="1178"/>
                  </a:lnTo>
                  <a:lnTo>
                    <a:pt x="2187" y="1174"/>
                  </a:lnTo>
                  <a:lnTo>
                    <a:pt x="2188" y="1171"/>
                  </a:lnTo>
                  <a:lnTo>
                    <a:pt x="2190" y="1170"/>
                  </a:lnTo>
                  <a:lnTo>
                    <a:pt x="2190" y="1168"/>
                  </a:lnTo>
                  <a:lnTo>
                    <a:pt x="2192" y="1162"/>
                  </a:lnTo>
                  <a:lnTo>
                    <a:pt x="2193" y="1157"/>
                  </a:lnTo>
                  <a:lnTo>
                    <a:pt x="2194" y="1156"/>
                  </a:lnTo>
                  <a:lnTo>
                    <a:pt x="2194" y="1155"/>
                  </a:lnTo>
                  <a:lnTo>
                    <a:pt x="2195" y="1150"/>
                  </a:lnTo>
                  <a:lnTo>
                    <a:pt x="2195" y="1145"/>
                  </a:lnTo>
                  <a:lnTo>
                    <a:pt x="2196" y="1144"/>
                  </a:lnTo>
                  <a:lnTo>
                    <a:pt x="2196" y="1143"/>
                  </a:lnTo>
                  <a:lnTo>
                    <a:pt x="2195" y="1140"/>
                  </a:lnTo>
                  <a:lnTo>
                    <a:pt x="2195" y="1138"/>
                  </a:lnTo>
                  <a:lnTo>
                    <a:pt x="2196" y="1136"/>
                  </a:lnTo>
                  <a:lnTo>
                    <a:pt x="2196" y="1133"/>
                  </a:lnTo>
                  <a:lnTo>
                    <a:pt x="2196" y="1131"/>
                  </a:lnTo>
                  <a:lnTo>
                    <a:pt x="2197" y="1130"/>
                  </a:lnTo>
                  <a:lnTo>
                    <a:pt x="2196" y="1128"/>
                  </a:lnTo>
                  <a:lnTo>
                    <a:pt x="2195" y="1120"/>
                  </a:lnTo>
                  <a:lnTo>
                    <a:pt x="2195" y="1113"/>
                  </a:lnTo>
                  <a:lnTo>
                    <a:pt x="2195" y="1112"/>
                  </a:lnTo>
                  <a:lnTo>
                    <a:pt x="2194" y="1110"/>
                  </a:lnTo>
                  <a:lnTo>
                    <a:pt x="2194" y="1109"/>
                  </a:lnTo>
                  <a:lnTo>
                    <a:pt x="2194" y="1108"/>
                  </a:lnTo>
                  <a:lnTo>
                    <a:pt x="2194" y="1107"/>
                  </a:lnTo>
                  <a:lnTo>
                    <a:pt x="2193" y="1104"/>
                  </a:lnTo>
                  <a:lnTo>
                    <a:pt x="2193" y="1101"/>
                  </a:lnTo>
                  <a:lnTo>
                    <a:pt x="2194" y="1100"/>
                  </a:lnTo>
                  <a:lnTo>
                    <a:pt x="2193" y="1099"/>
                  </a:lnTo>
                  <a:lnTo>
                    <a:pt x="2191" y="1095"/>
                  </a:lnTo>
                  <a:lnTo>
                    <a:pt x="2190" y="1092"/>
                  </a:lnTo>
                  <a:lnTo>
                    <a:pt x="2190" y="1091"/>
                  </a:lnTo>
                  <a:lnTo>
                    <a:pt x="2188" y="1086"/>
                  </a:lnTo>
                  <a:lnTo>
                    <a:pt x="2188" y="1084"/>
                  </a:lnTo>
                  <a:lnTo>
                    <a:pt x="2188" y="1083"/>
                  </a:lnTo>
                  <a:lnTo>
                    <a:pt x="2188" y="1082"/>
                  </a:lnTo>
                  <a:lnTo>
                    <a:pt x="2187" y="1076"/>
                  </a:lnTo>
                  <a:lnTo>
                    <a:pt x="2187" y="1072"/>
                  </a:lnTo>
                  <a:lnTo>
                    <a:pt x="2188" y="1071"/>
                  </a:lnTo>
                  <a:lnTo>
                    <a:pt x="2186" y="1069"/>
                  </a:lnTo>
                  <a:lnTo>
                    <a:pt x="2185" y="1068"/>
                  </a:lnTo>
                  <a:lnTo>
                    <a:pt x="2185" y="1066"/>
                  </a:lnTo>
                  <a:lnTo>
                    <a:pt x="2184" y="1063"/>
                  </a:lnTo>
                  <a:lnTo>
                    <a:pt x="2184" y="1061"/>
                  </a:lnTo>
                  <a:lnTo>
                    <a:pt x="2185" y="1060"/>
                  </a:lnTo>
                  <a:lnTo>
                    <a:pt x="2184" y="1058"/>
                  </a:lnTo>
                  <a:lnTo>
                    <a:pt x="2184" y="1057"/>
                  </a:lnTo>
                  <a:lnTo>
                    <a:pt x="2185" y="1053"/>
                  </a:lnTo>
                  <a:lnTo>
                    <a:pt x="2185" y="1051"/>
                  </a:lnTo>
                  <a:lnTo>
                    <a:pt x="2186" y="1050"/>
                  </a:lnTo>
                  <a:lnTo>
                    <a:pt x="2188" y="1052"/>
                  </a:lnTo>
                  <a:lnTo>
                    <a:pt x="2191" y="1052"/>
                  </a:lnTo>
                  <a:lnTo>
                    <a:pt x="2188" y="1047"/>
                  </a:lnTo>
                  <a:lnTo>
                    <a:pt x="2188" y="1043"/>
                  </a:lnTo>
                  <a:lnTo>
                    <a:pt x="2188" y="1042"/>
                  </a:lnTo>
                  <a:lnTo>
                    <a:pt x="2188" y="1039"/>
                  </a:lnTo>
                  <a:lnTo>
                    <a:pt x="2188" y="1026"/>
                  </a:lnTo>
                  <a:lnTo>
                    <a:pt x="2188" y="1016"/>
                  </a:lnTo>
                  <a:lnTo>
                    <a:pt x="2190" y="1015"/>
                  </a:lnTo>
                  <a:lnTo>
                    <a:pt x="2188" y="1008"/>
                  </a:lnTo>
                  <a:lnTo>
                    <a:pt x="2188" y="1005"/>
                  </a:lnTo>
                  <a:lnTo>
                    <a:pt x="2188" y="1004"/>
                  </a:lnTo>
                  <a:lnTo>
                    <a:pt x="2188" y="1002"/>
                  </a:lnTo>
                  <a:lnTo>
                    <a:pt x="2192" y="995"/>
                  </a:lnTo>
                  <a:lnTo>
                    <a:pt x="2193" y="991"/>
                  </a:lnTo>
                  <a:lnTo>
                    <a:pt x="2194" y="990"/>
                  </a:lnTo>
                  <a:lnTo>
                    <a:pt x="2194" y="988"/>
                  </a:lnTo>
                  <a:lnTo>
                    <a:pt x="2193" y="981"/>
                  </a:lnTo>
                  <a:lnTo>
                    <a:pt x="2193" y="976"/>
                  </a:lnTo>
                  <a:lnTo>
                    <a:pt x="2194" y="975"/>
                  </a:lnTo>
                  <a:lnTo>
                    <a:pt x="2193" y="976"/>
                  </a:lnTo>
                  <a:lnTo>
                    <a:pt x="2191" y="979"/>
                  </a:lnTo>
                  <a:lnTo>
                    <a:pt x="2190" y="981"/>
                  </a:lnTo>
                  <a:lnTo>
                    <a:pt x="2190" y="981"/>
                  </a:lnTo>
                  <a:lnTo>
                    <a:pt x="2187" y="978"/>
                  </a:lnTo>
                  <a:lnTo>
                    <a:pt x="2187" y="976"/>
                  </a:lnTo>
                  <a:lnTo>
                    <a:pt x="2187" y="975"/>
                  </a:lnTo>
                  <a:lnTo>
                    <a:pt x="2185" y="969"/>
                  </a:lnTo>
                  <a:lnTo>
                    <a:pt x="2184" y="966"/>
                  </a:lnTo>
                  <a:lnTo>
                    <a:pt x="2184" y="965"/>
                  </a:lnTo>
                  <a:lnTo>
                    <a:pt x="2184" y="964"/>
                  </a:lnTo>
                  <a:lnTo>
                    <a:pt x="2183" y="959"/>
                  </a:lnTo>
                  <a:lnTo>
                    <a:pt x="2183" y="956"/>
                  </a:lnTo>
                  <a:lnTo>
                    <a:pt x="2184" y="955"/>
                  </a:lnTo>
                  <a:lnTo>
                    <a:pt x="2184" y="954"/>
                  </a:lnTo>
                  <a:lnTo>
                    <a:pt x="2183" y="951"/>
                  </a:lnTo>
                  <a:lnTo>
                    <a:pt x="2183" y="947"/>
                  </a:lnTo>
                  <a:lnTo>
                    <a:pt x="2184" y="946"/>
                  </a:lnTo>
                  <a:lnTo>
                    <a:pt x="2183" y="942"/>
                  </a:lnTo>
                  <a:lnTo>
                    <a:pt x="2183" y="938"/>
                  </a:lnTo>
                  <a:lnTo>
                    <a:pt x="2183" y="937"/>
                  </a:lnTo>
                  <a:lnTo>
                    <a:pt x="2175" y="934"/>
                  </a:lnTo>
                  <a:lnTo>
                    <a:pt x="2172" y="932"/>
                  </a:lnTo>
                  <a:lnTo>
                    <a:pt x="2172" y="931"/>
                  </a:lnTo>
                  <a:lnTo>
                    <a:pt x="2173" y="928"/>
                  </a:lnTo>
                  <a:lnTo>
                    <a:pt x="2173" y="926"/>
                  </a:lnTo>
                  <a:lnTo>
                    <a:pt x="2174" y="925"/>
                  </a:lnTo>
                  <a:lnTo>
                    <a:pt x="2173" y="924"/>
                  </a:lnTo>
                  <a:lnTo>
                    <a:pt x="2170" y="919"/>
                  </a:lnTo>
                  <a:lnTo>
                    <a:pt x="2168" y="915"/>
                  </a:lnTo>
                  <a:lnTo>
                    <a:pt x="2168" y="914"/>
                  </a:lnTo>
                  <a:lnTo>
                    <a:pt x="2165" y="909"/>
                  </a:lnTo>
                  <a:lnTo>
                    <a:pt x="2164" y="906"/>
                  </a:lnTo>
                  <a:lnTo>
                    <a:pt x="2164" y="905"/>
                  </a:lnTo>
                  <a:lnTo>
                    <a:pt x="2164" y="903"/>
                  </a:lnTo>
                  <a:lnTo>
                    <a:pt x="2164" y="902"/>
                  </a:lnTo>
                  <a:lnTo>
                    <a:pt x="2165" y="901"/>
                  </a:lnTo>
                  <a:lnTo>
                    <a:pt x="2159" y="899"/>
                  </a:lnTo>
                  <a:lnTo>
                    <a:pt x="2156" y="898"/>
                  </a:lnTo>
                  <a:lnTo>
                    <a:pt x="2156" y="897"/>
                  </a:lnTo>
                  <a:lnTo>
                    <a:pt x="2150" y="891"/>
                  </a:lnTo>
                  <a:lnTo>
                    <a:pt x="2148" y="888"/>
                  </a:lnTo>
                  <a:lnTo>
                    <a:pt x="2148" y="887"/>
                  </a:lnTo>
                  <a:lnTo>
                    <a:pt x="2147" y="884"/>
                  </a:lnTo>
                  <a:lnTo>
                    <a:pt x="2147" y="883"/>
                  </a:lnTo>
                  <a:lnTo>
                    <a:pt x="2147" y="882"/>
                  </a:lnTo>
                  <a:lnTo>
                    <a:pt x="2145" y="880"/>
                  </a:lnTo>
                  <a:lnTo>
                    <a:pt x="2139" y="877"/>
                  </a:lnTo>
                  <a:lnTo>
                    <a:pt x="2135" y="874"/>
                  </a:lnTo>
                  <a:lnTo>
                    <a:pt x="2135" y="873"/>
                  </a:lnTo>
                  <a:lnTo>
                    <a:pt x="2135" y="872"/>
                  </a:lnTo>
                  <a:lnTo>
                    <a:pt x="2135" y="866"/>
                  </a:lnTo>
                  <a:lnTo>
                    <a:pt x="2135" y="862"/>
                  </a:lnTo>
                  <a:lnTo>
                    <a:pt x="2136" y="861"/>
                  </a:lnTo>
                  <a:lnTo>
                    <a:pt x="2135" y="860"/>
                  </a:lnTo>
                  <a:lnTo>
                    <a:pt x="2132" y="856"/>
                  </a:lnTo>
                  <a:lnTo>
                    <a:pt x="2130" y="854"/>
                  </a:lnTo>
                  <a:lnTo>
                    <a:pt x="2130" y="853"/>
                  </a:lnTo>
                  <a:lnTo>
                    <a:pt x="2129" y="853"/>
                  </a:lnTo>
                  <a:lnTo>
                    <a:pt x="2128" y="853"/>
                  </a:lnTo>
                  <a:lnTo>
                    <a:pt x="2122" y="853"/>
                  </a:lnTo>
                  <a:lnTo>
                    <a:pt x="2117" y="853"/>
                  </a:lnTo>
                  <a:lnTo>
                    <a:pt x="2117" y="852"/>
                  </a:lnTo>
                  <a:lnTo>
                    <a:pt x="2112" y="849"/>
                  </a:lnTo>
                  <a:lnTo>
                    <a:pt x="2110" y="847"/>
                  </a:lnTo>
                  <a:lnTo>
                    <a:pt x="2110" y="845"/>
                  </a:lnTo>
                  <a:lnTo>
                    <a:pt x="2109" y="844"/>
                  </a:lnTo>
                  <a:lnTo>
                    <a:pt x="2105" y="841"/>
                  </a:lnTo>
                  <a:lnTo>
                    <a:pt x="2104" y="839"/>
                  </a:lnTo>
                  <a:lnTo>
                    <a:pt x="2104" y="838"/>
                  </a:lnTo>
                  <a:lnTo>
                    <a:pt x="2103" y="837"/>
                  </a:lnTo>
                  <a:lnTo>
                    <a:pt x="2100" y="833"/>
                  </a:lnTo>
                  <a:lnTo>
                    <a:pt x="2099" y="830"/>
                  </a:lnTo>
                  <a:lnTo>
                    <a:pt x="2099" y="829"/>
                  </a:lnTo>
                  <a:lnTo>
                    <a:pt x="2097" y="828"/>
                  </a:lnTo>
                  <a:lnTo>
                    <a:pt x="2093" y="825"/>
                  </a:lnTo>
                  <a:lnTo>
                    <a:pt x="2091" y="823"/>
                  </a:lnTo>
                  <a:lnTo>
                    <a:pt x="2091" y="821"/>
                  </a:lnTo>
                  <a:lnTo>
                    <a:pt x="2090" y="819"/>
                  </a:lnTo>
                  <a:lnTo>
                    <a:pt x="2089" y="813"/>
                  </a:lnTo>
                  <a:lnTo>
                    <a:pt x="2089" y="808"/>
                  </a:lnTo>
                  <a:lnTo>
                    <a:pt x="2089" y="807"/>
                  </a:lnTo>
                  <a:lnTo>
                    <a:pt x="2089" y="805"/>
                  </a:lnTo>
                  <a:lnTo>
                    <a:pt x="2089" y="798"/>
                  </a:lnTo>
                  <a:lnTo>
                    <a:pt x="2089" y="793"/>
                  </a:lnTo>
                  <a:lnTo>
                    <a:pt x="2090" y="792"/>
                  </a:lnTo>
                  <a:lnTo>
                    <a:pt x="2090" y="790"/>
                  </a:lnTo>
                  <a:lnTo>
                    <a:pt x="2090" y="782"/>
                  </a:lnTo>
                  <a:lnTo>
                    <a:pt x="2090" y="777"/>
                  </a:lnTo>
                  <a:lnTo>
                    <a:pt x="2091" y="775"/>
                  </a:lnTo>
                  <a:lnTo>
                    <a:pt x="2090" y="766"/>
                  </a:lnTo>
                  <a:lnTo>
                    <a:pt x="2090" y="760"/>
                  </a:lnTo>
                  <a:lnTo>
                    <a:pt x="2090" y="759"/>
                  </a:lnTo>
                  <a:lnTo>
                    <a:pt x="2088" y="758"/>
                  </a:lnTo>
                  <a:lnTo>
                    <a:pt x="2088" y="757"/>
                  </a:lnTo>
                  <a:lnTo>
                    <a:pt x="2088" y="756"/>
                  </a:lnTo>
                  <a:lnTo>
                    <a:pt x="2087" y="753"/>
                  </a:lnTo>
                  <a:lnTo>
                    <a:pt x="2087" y="750"/>
                  </a:lnTo>
                  <a:lnTo>
                    <a:pt x="2088" y="749"/>
                  </a:lnTo>
                  <a:lnTo>
                    <a:pt x="2085" y="747"/>
                  </a:lnTo>
                  <a:lnTo>
                    <a:pt x="2083" y="746"/>
                  </a:lnTo>
                  <a:lnTo>
                    <a:pt x="2083" y="745"/>
                  </a:lnTo>
                  <a:lnTo>
                    <a:pt x="2082" y="748"/>
                  </a:lnTo>
                  <a:lnTo>
                    <a:pt x="2081" y="755"/>
                  </a:lnTo>
                  <a:lnTo>
                    <a:pt x="2080" y="760"/>
                  </a:lnTo>
                  <a:lnTo>
                    <a:pt x="2080" y="760"/>
                  </a:lnTo>
                  <a:lnTo>
                    <a:pt x="2078" y="759"/>
                  </a:lnTo>
                  <a:lnTo>
                    <a:pt x="2075" y="756"/>
                  </a:lnTo>
                  <a:lnTo>
                    <a:pt x="2073" y="754"/>
                  </a:lnTo>
                  <a:lnTo>
                    <a:pt x="2073" y="753"/>
                  </a:lnTo>
                  <a:lnTo>
                    <a:pt x="2065" y="749"/>
                  </a:lnTo>
                  <a:lnTo>
                    <a:pt x="2062" y="747"/>
                  </a:lnTo>
                  <a:lnTo>
                    <a:pt x="2062" y="746"/>
                  </a:lnTo>
                  <a:lnTo>
                    <a:pt x="2057" y="743"/>
                  </a:lnTo>
                  <a:lnTo>
                    <a:pt x="2056" y="742"/>
                  </a:lnTo>
                  <a:lnTo>
                    <a:pt x="2056" y="740"/>
                  </a:lnTo>
                  <a:lnTo>
                    <a:pt x="2054" y="734"/>
                  </a:lnTo>
                  <a:lnTo>
                    <a:pt x="2054" y="731"/>
                  </a:lnTo>
                  <a:lnTo>
                    <a:pt x="2054" y="730"/>
                  </a:lnTo>
                  <a:lnTo>
                    <a:pt x="2053" y="731"/>
                  </a:lnTo>
                  <a:lnTo>
                    <a:pt x="2050" y="733"/>
                  </a:lnTo>
                  <a:lnTo>
                    <a:pt x="2047" y="734"/>
                  </a:lnTo>
                  <a:lnTo>
                    <a:pt x="2047" y="734"/>
                  </a:lnTo>
                  <a:lnTo>
                    <a:pt x="2046" y="737"/>
                  </a:lnTo>
                  <a:lnTo>
                    <a:pt x="2046" y="744"/>
                  </a:lnTo>
                  <a:lnTo>
                    <a:pt x="2046" y="749"/>
                  </a:lnTo>
                  <a:lnTo>
                    <a:pt x="2046" y="749"/>
                  </a:lnTo>
                  <a:lnTo>
                    <a:pt x="2045" y="749"/>
                  </a:lnTo>
                  <a:lnTo>
                    <a:pt x="2042" y="749"/>
                  </a:lnTo>
                  <a:lnTo>
                    <a:pt x="2040" y="749"/>
                  </a:lnTo>
                  <a:lnTo>
                    <a:pt x="2040" y="749"/>
                  </a:lnTo>
                  <a:lnTo>
                    <a:pt x="2039" y="750"/>
                  </a:lnTo>
                  <a:lnTo>
                    <a:pt x="2036" y="751"/>
                  </a:lnTo>
                  <a:lnTo>
                    <a:pt x="2035" y="751"/>
                  </a:lnTo>
                  <a:lnTo>
                    <a:pt x="2034" y="751"/>
                  </a:lnTo>
                  <a:lnTo>
                    <a:pt x="2033" y="751"/>
                  </a:lnTo>
                  <a:lnTo>
                    <a:pt x="2032" y="751"/>
                  </a:lnTo>
                  <a:lnTo>
                    <a:pt x="2032" y="750"/>
                  </a:lnTo>
                  <a:lnTo>
                    <a:pt x="2031" y="746"/>
                  </a:lnTo>
                  <a:lnTo>
                    <a:pt x="2031" y="743"/>
                  </a:lnTo>
                  <a:lnTo>
                    <a:pt x="2031" y="742"/>
                  </a:lnTo>
                  <a:lnTo>
                    <a:pt x="2029" y="738"/>
                  </a:lnTo>
                  <a:lnTo>
                    <a:pt x="2028" y="737"/>
                  </a:lnTo>
                  <a:lnTo>
                    <a:pt x="2028" y="736"/>
                  </a:lnTo>
                  <a:lnTo>
                    <a:pt x="2027" y="733"/>
                  </a:lnTo>
                  <a:lnTo>
                    <a:pt x="2027" y="732"/>
                  </a:lnTo>
                  <a:lnTo>
                    <a:pt x="2027" y="731"/>
                  </a:lnTo>
                  <a:lnTo>
                    <a:pt x="2027" y="727"/>
                  </a:lnTo>
                  <a:lnTo>
                    <a:pt x="2026" y="727"/>
                  </a:lnTo>
                  <a:lnTo>
                    <a:pt x="2027" y="727"/>
                  </a:lnTo>
                  <a:lnTo>
                    <a:pt x="2026" y="727"/>
                  </a:lnTo>
                  <a:lnTo>
                    <a:pt x="2027" y="727"/>
                  </a:lnTo>
                  <a:lnTo>
                    <a:pt x="2024" y="724"/>
                  </a:lnTo>
                  <a:lnTo>
                    <a:pt x="2024" y="723"/>
                  </a:lnTo>
                  <a:lnTo>
                    <a:pt x="2024" y="722"/>
                  </a:lnTo>
                  <a:lnTo>
                    <a:pt x="2024" y="721"/>
                  </a:lnTo>
                  <a:lnTo>
                    <a:pt x="2023" y="715"/>
                  </a:lnTo>
                  <a:lnTo>
                    <a:pt x="2023" y="712"/>
                  </a:lnTo>
                  <a:lnTo>
                    <a:pt x="2024" y="711"/>
                  </a:lnTo>
                  <a:lnTo>
                    <a:pt x="2024" y="709"/>
                  </a:lnTo>
                  <a:lnTo>
                    <a:pt x="2026" y="701"/>
                  </a:lnTo>
                  <a:lnTo>
                    <a:pt x="2026" y="696"/>
                  </a:lnTo>
                  <a:lnTo>
                    <a:pt x="2027" y="695"/>
                  </a:lnTo>
                  <a:lnTo>
                    <a:pt x="2026" y="691"/>
                  </a:lnTo>
                  <a:lnTo>
                    <a:pt x="2026" y="689"/>
                  </a:lnTo>
                  <a:lnTo>
                    <a:pt x="2026" y="688"/>
                  </a:lnTo>
                  <a:lnTo>
                    <a:pt x="2024" y="688"/>
                  </a:lnTo>
                  <a:lnTo>
                    <a:pt x="2021" y="687"/>
                  </a:lnTo>
                  <a:lnTo>
                    <a:pt x="2019" y="687"/>
                  </a:lnTo>
                  <a:lnTo>
                    <a:pt x="2019" y="686"/>
                  </a:lnTo>
                  <a:lnTo>
                    <a:pt x="2018" y="681"/>
                  </a:lnTo>
                  <a:lnTo>
                    <a:pt x="2018" y="678"/>
                  </a:lnTo>
                  <a:lnTo>
                    <a:pt x="2018" y="677"/>
                  </a:lnTo>
                  <a:lnTo>
                    <a:pt x="2016" y="674"/>
                  </a:lnTo>
                  <a:lnTo>
                    <a:pt x="2015" y="673"/>
                  </a:lnTo>
                  <a:lnTo>
                    <a:pt x="2015" y="672"/>
                  </a:lnTo>
                  <a:lnTo>
                    <a:pt x="2014" y="666"/>
                  </a:lnTo>
                  <a:lnTo>
                    <a:pt x="2014" y="663"/>
                  </a:lnTo>
                  <a:lnTo>
                    <a:pt x="2014" y="662"/>
                  </a:lnTo>
                  <a:lnTo>
                    <a:pt x="2012" y="661"/>
                  </a:lnTo>
                  <a:lnTo>
                    <a:pt x="2009" y="655"/>
                  </a:lnTo>
                  <a:lnTo>
                    <a:pt x="2007" y="652"/>
                  </a:lnTo>
                  <a:lnTo>
                    <a:pt x="2007" y="651"/>
                  </a:lnTo>
                  <a:lnTo>
                    <a:pt x="2005" y="647"/>
                  </a:lnTo>
                  <a:lnTo>
                    <a:pt x="2005" y="646"/>
                  </a:lnTo>
                  <a:lnTo>
                    <a:pt x="2005" y="645"/>
                  </a:lnTo>
                  <a:lnTo>
                    <a:pt x="2004" y="645"/>
                  </a:lnTo>
                  <a:lnTo>
                    <a:pt x="2003" y="645"/>
                  </a:lnTo>
                  <a:lnTo>
                    <a:pt x="1999" y="644"/>
                  </a:lnTo>
                  <a:lnTo>
                    <a:pt x="1996" y="644"/>
                  </a:lnTo>
                  <a:lnTo>
                    <a:pt x="1996" y="643"/>
                  </a:lnTo>
                  <a:lnTo>
                    <a:pt x="1992" y="640"/>
                  </a:lnTo>
                  <a:lnTo>
                    <a:pt x="1989" y="638"/>
                  </a:lnTo>
                  <a:lnTo>
                    <a:pt x="1989" y="637"/>
                  </a:lnTo>
                  <a:lnTo>
                    <a:pt x="1989" y="635"/>
                  </a:lnTo>
                  <a:lnTo>
                    <a:pt x="1991" y="629"/>
                  </a:lnTo>
                  <a:lnTo>
                    <a:pt x="1991" y="625"/>
                  </a:lnTo>
                  <a:lnTo>
                    <a:pt x="1992" y="623"/>
                  </a:lnTo>
                  <a:lnTo>
                    <a:pt x="1995" y="626"/>
                  </a:lnTo>
                  <a:lnTo>
                    <a:pt x="1997" y="626"/>
                  </a:lnTo>
                  <a:lnTo>
                    <a:pt x="1998" y="626"/>
                  </a:lnTo>
                  <a:lnTo>
                    <a:pt x="1999" y="626"/>
                  </a:lnTo>
                  <a:lnTo>
                    <a:pt x="1998" y="619"/>
                  </a:lnTo>
                  <a:lnTo>
                    <a:pt x="1998" y="615"/>
                  </a:lnTo>
                  <a:lnTo>
                    <a:pt x="1998" y="614"/>
                  </a:lnTo>
                  <a:lnTo>
                    <a:pt x="1995" y="611"/>
                  </a:lnTo>
                  <a:lnTo>
                    <a:pt x="1994" y="610"/>
                  </a:lnTo>
                  <a:lnTo>
                    <a:pt x="1994" y="609"/>
                  </a:lnTo>
                  <a:lnTo>
                    <a:pt x="1992" y="608"/>
                  </a:lnTo>
                  <a:lnTo>
                    <a:pt x="1986" y="605"/>
                  </a:lnTo>
                  <a:lnTo>
                    <a:pt x="1982" y="602"/>
                  </a:lnTo>
                  <a:lnTo>
                    <a:pt x="1982" y="600"/>
                  </a:lnTo>
                  <a:lnTo>
                    <a:pt x="1977" y="597"/>
                  </a:lnTo>
                  <a:lnTo>
                    <a:pt x="1976" y="596"/>
                  </a:lnTo>
                  <a:lnTo>
                    <a:pt x="1976" y="595"/>
                  </a:lnTo>
                  <a:lnTo>
                    <a:pt x="1975" y="596"/>
                  </a:lnTo>
                  <a:lnTo>
                    <a:pt x="1972" y="598"/>
                  </a:lnTo>
                  <a:lnTo>
                    <a:pt x="1971" y="599"/>
                  </a:lnTo>
                  <a:lnTo>
                    <a:pt x="1971" y="599"/>
                  </a:lnTo>
                  <a:lnTo>
                    <a:pt x="1970" y="598"/>
                  </a:lnTo>
                  <a:lnTo>
                    <a:pt x="1967" y="595"/>
                  </a:lnTo>
                  <a:lnTo>
                    <a:pt x="1964" y="593"/>
                  </a:lnTo>
                  <a:lnTo>
                    <a:pt x="1964" y="592"/>
                  </a:lnTo>
                  <a:lnTo>
                    <a:pt x="1963" y="591"/>
                  </a:lnTo>
                  <a:lnTo>
                    <a:pt x="1961" y="587"/>
                  </a:lnTo>
                  <a:lnTo>
                    <a:pt x="1960" y="584"/>
                  </a:lnTo>
                  <a:lnTo>
                    <a:pt x="1960" y="583"/>
                  </a:lnTo>
                  <a:lnTo>
                    <a:pt x="1959" y="583"/>
                  </a:lnTo>
                  <a:lnTo>
                    <a:pt x="1958" y="583"/>
                  </a:lnTo>
                  <a:lnTo>
                    <a:pt x="1953" y="582"/>
                  </a:lnTo>
                  <a:lnTo>
                    <a:pt x="1950" y="582"/>
                  </a:lnTo>
                  <a:lnTo>
                    <a:pt x="1950" y="581"/>
                  </a:lnTo>
                  <a:lnTo>
                    <a:pt x="1945" y="577"/>
                  </a:lnTo>
                  <a:lnTo>
                    <a:pt x="1942" y="575"/>
                  </a:lnTo>
                  <a:lnTo>
                    <a:pt x="1942" y="574"/>
                  </a:lnTo>
                  <a:lnTo>
                    <a:pt x="1939" y="575"/>
                  </a:lnTo>
                  <a:lnTo>
                    <a:pt x="1938" y="575"/>
                  </a:lnTo>
                  <a:lnTo>
                    <a:pt x="1938" y="575"/>
                  </a:lnTo>
                  <a:lnTo>
                    <a:pt x="1934" y="576"/>
                  </a:lnTo>
                  <a:lnTo>
                    <a:pt x="1933" y="576"/>
                  </a:lnTo>
                  <a:lnTo>
                    <a:pt x="1933" y="576"/>
                  </a:lnTo>
                  <a:lnTo>
                    <a:pt x="1928" y="573"/>
                  </a:lnTo>
                  <a:lnTo>
                    <a:pt x="1927" y="572"/>
                  </a:lnTo>
                  <a:lnTo>
                    <a:pt x="1927" y="571"/>
                  </a:lnTo>
                  <a:lnTo>
                    <a:pt x="1925" y="567"/>
                  </a:lnTo>
                  <a:lnTo>
                    <a:pt x="1924" y="563"/>
                  </a:lnTo>
                  <a:lnTo>
                    <a:pt x="1924" y="562"/>
                  </a:lnTo>
                  <a:lnTo>
                    <a:pt x="1923" y="560"/>
                  </a:lnTo>
                  <a:lnTo>
                    <a:pt x="1922" y="551"/>
                  </a:lnTo>
                  <a:lnTo>
                    <a:pt x="1922" y="545"/>
                  </a:lnTo>
                  <a:lnTo>
                    <a:pt x="1922" y="544"/>
                  </a:lnTo>
                  <a:lnTo>
                    <a:pt x="1921" y="545"/>
                  </a:lnTo>
                  <a:lnTo>
                    <a:pt x="1917" y="547"/>
                  </a:lnTo>
                  <a:lnTo>
                    <a:pt x="1916" y="548"/>
                  </a:lnTo>
                  <a:lnTo>
                    <a:pt x="1916" y="548"/>
                  </a:lnTo>
                  <a:lnTo>
                    <a:pt x="1915" y="548"/>
                  </a:lnTo>
                  <a:lnTo>
                    <a:pt x="1912" y="548"/>
                  </a:lnTo>
                  <a:lnTo>
                    <a:pt x="1911" y="548"/>
                  </a:lnTo>
                  <a:lnTo>
                    <a:pt x="1911" y="548"/>
                  </a:lnTo>
                  <a:lnTo>
                    <a:pt x="1904" y="546"/>
                  </a:lnTo>
                  <a:lnTo>
                    <a:pt x="1901" y="545"/>
                  </a:lnTo>
                  <a:lnTo>
                    <a:pt x="1901" y="544"/>
                  </a:lnTo>
                  <a:lnTo>
                    <a:pt x="1900" y="544"/>
                  </a:lnTo>
                  <a:lnTo>
                    <a:pt x="1899" y="544"/>
                  </a:lnTo>
                  <a:lnTo>
                    <a:pt x="1894" y="542"/>
                  </a:lnTo>
                  <a:lnTo>
                    <a:pt x="1891" y="541"/>
                  </a:lnTo>
                  <a:lnTo>
                    <a:pt x="1891" y="540"/>
                  </a:lnTo>
                  <a:lnTo>
                    <a:pt x="1886" y="538"/>
                  </a:lnTo>
                  <a:lnTo>
                    <a:pt x="1882" y="537"/>
                  </a:lnTo>
                  <a:lnTo>
                    <a:pt x="1882" y="536"/>
                  </a:lnTo>
                  <a:lnTo>
                    <a:pt x="1881" y="535"/>
                  </a:lnTo>
                  <a:lnTo>
                    <a:pt x="1878" y="532"/>
                  </a:lnTo>
                  <a:lnTo>
                    <a:pt x="1877" y="529"/>
                  </a:lnTo>
                  <a:lnTo>
                    <a:pt x="1877" y="528"/>
                  </a:lnTo>
                  <a:lnTo>
                    <a:pt x="1876" y="528"/>
                  </a:lnTo>
                  <a:lnTo>
                    <a:pt x="1875" y="528"/>
                  </a:lnTo>
                  <a:lnTo>
                    <a:pt x="1868" y="526"/>
                  </a:lnTo>
                  <a:lnTo>
                    <a:pt x="1864" y="525"/>
                  </a:lnTo>
                  <a:lnTo>
                    <a:pt x="1864" y="524"/>
                  </a:lnTo>
                  <a:lnTo>
                    <a:pt x="1862" y="517"/>
                  </a:lnTo>
                  <a:lnTo>
                    <a:pt x="1860" y="513"/>
                  </a:lnTo>
                  <a:lnTo>
                    <a:pt x="1860" y="512"/>
                  </a:lnTo>
                  <a:lnTo>
                    <a:pt x="1860" y="509"/>
                  </a:lnTo>
                  <a:lnTo>
                    <a:pt x="1860" y="506"/>
                  </a:lnTo>
                  <a:lnTo>
                    <a:pt x="1862" y="505"/>
                  </a:lnTo>
                  <a:lnTo>
                    <a:pt x="1860" y="504"/>
                  </a:lnTo>
                  <a:lnTo>
                    <a:pt x="1860" y="503"/>
                  </a:lnTo>
                  <a:lnTo>
                    <a:pt x="1862" y="501"/>
                  </a:lnTo>
                  <a:lnTo>
                    <a:pt x="1863" y="499"/>
                  </a:lnTo>
                  <a:lnTo>
                    <a:pt x="1860" y="500"/>
                  </a:lnTo>
                  <a:lnTo>
                    <a:pt x="1859" y="500"/>
                  </a:lnTo>
                  <a:lnTo>
                    <a:pt x="1859" y="500"/>
                  </a:lnTo>
                  <a:lnTo>
                    <a:pt x="1859" y="497"/>
                  </a:lnTo>
                  <a:lnTo>
                    <a:pt x="1859" y="495"/>
                  </a:lnTo>
                  <a:lnTo>
                    <a:pt x="1860" y="494"/>
                  </a:lnTo>
                  <a:lnTo>
                    <a:pt x="1859" y="494"/>
                  </a:lnTo>
                  <a:lnTo>
                    <a:pt x="1856" y="494"/>
                  </a:lnTo>
                  <a:lnTo>
                    <a:pt x="1855" y="494"/>
                  </a:lnTo>
                  <a:lnTo>
                    <a:pt x="1855" y="493"/>
                  </a:lnTo>
                  <a:lnTo>
                    <a:pt x="1854" y="492"/>
                  </a:lnTo>
                  <a:lnTo>
                    <a:pt x="1851" y="489"/>
                  </a:lnTo>
                  <a:lnTo>
                    <a:pt x="1848" y="487"/>
                  </a:lnTo>
                  <a:lnTo>
                    <a:pt x="1848" y="486"/>
                  </a:lnTo>
                  <a:lnTo>
                    <a:pt x="1847" y="479"/>
                  </a:lnTo>
                  <a:lnTo>
                    <a:pt x="1847" y="476"/>
                  </a:lnTo>
                  <a:lnTo>
                    <a:pt x="1847" y="475"/>
                  </a:lnTo>
                  <a:lnTo>
                    <a:pt x="1847" y="474"/>
                  </a:lnTo>
                  <a:lnTo>
                    <a:pt x="1847" y="469"/>
                  </a:lnTo>
                  <a:lnTo>
                    <a:pt x="1847" y="466"/>
                  </a:lnTo>
                  <a:lnTo>
                    <a:pt x="1848" y="465"/>
                  </a:lnTo>
                  <a:lnTo>
                    <a:pt x="1848" y="464"/>
                  </a:lnTo>
                  <a:lnTo>
                    <a:pt x="1850" y="460"/>
                  </a:lnTo>
                  <a:lnTo>
                    <a:pt x="1850" y="457"/>
                  </a:lnTo>
                  <a:lnTo>
                    <a:pt x="1851" y="456"/>
                  </a:lnTo>
                  <a:lnTo>
                    <a:pt x="1850" y="453"/>
                  </a:lnTo>
                  <a:lnTo>
                    <a:pt x="1850" y="452"/>
                  </a:lnTo>
                  <a:lnTo>
                    <a:pt x="1851" y="451"/>
                  </a:lnTo>
                  <a:lnTo>
                    <a:pt x="1851" y="449"/>
                  </a:lnTo>
                  <a:lnTo>
                    <a:pt x="1851" y="444"/>
                  </a:lnTo>
                  <a:lnTo>
                    <a:pt x="1851" y="441"/>
                  </a:lnTo>
                  <a:lnTo>
                    <a:pt x="1852" y="440"/>
                  </a:lnTo>
                  <a:lnTo>
                    <a:pt x="1851" y="432"/>
                  </a:lnTo>
                  <a:lnTo>
                    <a:pt x="1851" y="428"/>
                  </a:lnTo>
                  <a:lnTo>
                    <a:pt x="1851" y="427"/>
                  </a:lnTo>
                  <a:lnTo>
                    <a:pt x="1847" y="420"/>
                  </a:lnTo>
                  <a:lnTo>
                    <a:pt x="1846" y="417"/>
                  </a:lnTo>
                  <a:lnTo>
                    <a:pt x="1846" y="416"/>
                  </a:lnTo>
                  <a:lnTo>
                    <a:pt x="1844" y="409"/>
                  </a:lnTo>
                  <a:lnTo>
                    <a:pt x="1843" y="406"/>
                  </a:lnTo>
                  <a:lnTo>
                    <a:pt x="1843" y="405"/>
                  </a:lnTo>
                  <a:lnTo>
                    <a:pt x="1841" y="397"/>
                  </a:lnTo>
                  <a:lnTo>
                    <a:pt x="1841" y="393"/>
                  </a:lnTo>
                  <a:lnTo>
                    <a:pt x="1841" y="392"/>
                  </a:lnTo>
                  <a:lnTo>
                    <a:pt x="1840" y="392"/>
                  </a:lnTo>
                  <a:lnTo>
                    <a:pt x="1839" y="392"/>
                  </a:lnTo>
                  <a:lnTo>
                    <a:pt x="1835" y="392"/>
                  </a:lnTo>
                  <a:lnTo>
                    <a:pt x="1833" y="392"/>
                  </a:lnTo>
                  <a:lnTo>
                    <a:pt x="1833" y="390"/>
                  </a:lnTo>
                  <a:lnTo>
                    <a:pt x="1832" y="389"/>
                  </a:lnTo>
                  <a:lnTo>
                    <a:pt x="1829" y="385"/>
                  </a:lnTo>
                  <a:lnTo>
                    <a:pt x="1828" y="382"/>
                  </a:lnTo>
                  <a:lnTo>
                    <a:pt x="1828" y="381"/>
                  </a:lnTo>
                  <a:lnTo>
                    <a:pt x="1827" y="379"/>
                  </a:lnTo>
                  <a:lnTo>
                    <a:pt x="1823" y="375"/>
                  </a:lnTo>
                  <a:lnTo>
                    <a:pt x="1821" y="372"/>
                  </a:lnTo>
                  <a:lnTo>
                    <a:pt x="1821" y="371"/>
                  </a:lnTo>
                  <a:lnTo>
                    <a:pt x="1819" y="364"/>
                  </a:lnTo>
                  <a:lnTo>
                    <a:pt x="1818" y="360"/>
                  </a:lnTo>
                  <a:lnTo>
                    <a:pt x="1818" y="359"/>
                  </a:lnTo>
                  <a:lnTo>
                    <a:pt x="1818" y="355"/>
                  </a:lnTo>
                  <a:lnTo>
                    <a:pt x="1818" y="353"/>
                  </a:lnTo>
                  <a:lnTo>
                    <a:pt x="1819" y="352"/>
                  </a:lnTo>
                  <a:lnTo>
                    <a:pt x="1819" y="351"/>
                  </a:lnTo>
                  <a:lnTo>
                    <a:pt x="1818" y="346"/>
                  </a:lnTo>
                  <a:lnTo>
                    <a:pt x="1818" y="342"/>
                  </a:lnTo>
                  <a:lnTo>
                    <a:pt x="1819" y="341"/>
                  </a:lnTo>
                  <a:lnTo>
                    <a:pt x="1818" y="340"/>
                  </a:lnTo>
                  <a:lnTo>
                    <a:pt x="1816" y="336"/>
                  </a:lnTo>
                  <a:lnTo>
                    <a:pt x="1815" y="332"/>
                  </a:lnTo>
                  <a:lnTo>
                    <a:pt x="1815" y="331"/>
                  </a:lnTo>
                  <a:lnTo>
                    <a:pt x="1815" y="330"/>
                  </a:lnTo>
                  <a:lnTo>
                    <a:pt x="1813" y="326"/>
                  </a:lnTo>
                  <a:lnTo>
                    <a:pt x="1813" y="323"/>
                  </a:lnTo>
                  <a:lnTo>
                    <a:pt x="1815" y="321"/>
                  </a:lnTo>
                  <a:lnTo>
                    <a:pt x="1812" y="315"/>
                  </a:lnTo>
                  <a:lnTo>
                    <a:pt x="1811" y="312"/>
                  </a:lnTo>
                  <a:lnTo>
                    <a:pt x="1811" y="311"/>
                  </a:lnTo>
                  <a:lnTo>
                    <a:pt x="1811" y="309"/>
                  </a:lnTo>
                  <a:lnTo>
                    <a:pt x="1811" y="306"/>
                  </a:lnTo>
                  <a:lnTo>
                    <a:pt x="1811" y="303"/>
                  </a:lnTo>
                  <a:lnTo>
                    <a:pt x="1812" y="302"/>
                  </a:lnTo>
                  <a:lnTo>
                    <a:pt x="1812" y="301"/>
                  </a:lnTo>
                  <a:lnTo>
                    <a:pt x="1813" y="295"/>
                  </a:lnTo>
                  <a:lnTo>
                    <a:pt x="1813" y="292"/>
                  </a:lnTo>
                  <a:lnTo>
                    <a:pt x="1815" y="291"/>
                  </a:lnTo>
                  <a:lnTo>
                    <a:pt x="1812" y="288"/>
                  </a:lnTo>
                  <a:lnTo>
                    <a:pt x="1811" y="285"/>
                  </a:lnTo>
                  <a:lnTo>
                    <a:pt x="1811" y="284"/>
                  </a:lnTo>
                  <a:lnTo>
                    <a:pt x="1811" y="283"/>
                  </a:lnTo>
                  <a:lnTo>
                    <a:pt x="1812" y="278"/>
                  </a:lnTo>
                  <a:lnTo>
                    <a:pt x="1813" y="274"/>
                  </a:lnTo>
                  <a:lnTo>
                    <a:pt x="1815" y="273"/>
                  </a:lnTo>
                  <a:lnTo>
                    <a:pt x="1812" y="272"/>
                  </a:lnTo>
                  <a:lnTo>
                    <a:pt x="1809" y="268"/>
                  </a:lnTo>
                  <a:lnTo>
                    <a:pt x="1806" y="265"/>
                  </a:lnTo>
                  <a:lnTo>
                    <a:pt x="1806" y="264"/>
                  </a:lnTo>
                  <a:lnTo>
                    <a:pt x="1800" y="261"/>
                  </a:lnTo>
                  <a:lnTo>
                    <a:pt x="1797" y="260"/>
                  </a:lnTo>
                  <a:lnTo>
                    <a:pt x="1797" y="259"/>
                  </a:lnTo>
                  <a:lnTo>
                    <a:pt x="1792" y="253"/>
                  </a:lnTo>
                  <a:lnTo>
                    <a:pt x="1789" y="248"/>
                  </a:lnTo>
                  <a:lnTo>
                    <a:pt x="1789" y="247"/>
                  </a:lnTo>
                  <a:lnTo>
                    <a:pt x="1783" y="245"/>
                  </a:lnTo>
                  <a:lnTo>
                    <a:pt x="1780" y="244"/>
                  </a:lnTo>
                  <a:lnTo>
                    <a:pt x="1780" y="243"/>
                  </a:lnTo>
                  <a:lnTo>
                    <a:pt x="1777" y="237"/>
                  </a:lnTo>
                  <a:lnTo>
                    <a:pt x="1776" y="234"/>
                  </a:lnTo>
                  <a:lnTo>
                    <a:pt x="1776" y="233"/>
                  </a:lnTo>
                  <a:lnTo>
                    <a:pt x="1775" y="232"/>
                  </a:lnTo>
                  <a:lnTo>
                    <a:pt x="1774" y="229"/>
                  </a:lnTo>
                  <a:lnTo>
                    <a:pt x="1773" y="226"/>
                  </a:lnTo>
                  <a:lnTo>
                    <a:pt x="1773" y="225"/>
                  </a:lnTo>
                  <a:lnTo>
                    <a:pt x="1772" y="225"/>
                  </a:lnTo>
                  <a:lnTo>
                    <a:pt x="1771" y="225"/>
                  </a:lnTo>
                  <a:lnTo>
                    <a:pt x="1766" y="224"/>
                  </a:lnTo>
                  <a:lnTo>
                    <a:pt x="1763" y="224"/>
                  </a:lnTo>
                  <a:lnTo>
                    <a:pt x="1763" y="223"/>
                  </a:lnTo>
                  <a:lnTo>
                    <a:pt x="1761" y="224"/>
                  </a:lnTo>
                  <a:lnTo>
                    <a:pt x="1757" y="225"/>
                  </a:lnTo>
                  <a:lnTo>
                    <a:pt x="1753" y="225"/>
                  </a:lnTo>
                  <a:lnTo>
                    <a:pt x="1753" y="225"/>
                  </a:lnTo>
                  <a:lnTo>
                    <a:pt x="1752" y="226"/>
                  </a:lnTo>
                  <a:lnTo>
                    <a:pt x="1749" y="229"/>
                  </a:lnTo>
                  <a:lnTo>
                    <a:pt x="1747" y="230"/>
                  </a:lnTo>
                  <a:lnTo>
                    <a:pt x="1747" y="230"/>
                  </a:lnTo>
                  <a:lnTo>
                    <a:pt x="1746" y="231"/>
                  </a:lnTo>
                  <a:lnTo>
                    <a:pt x="1741" y="234"/>
                  </a:lnTo>
                  <a:lnTo>
                    <a:pt x="1739" y="235"/>
                  </a:lnTo>
                  <a:lnTo>
                    <a:pt x="1739" y="235"/>
                  </a:lnTo>
                  <a:lnTo>
                    <a:pt x="1733" y="233"/>
                  </a:lnTo>
                  <a:lnTo>
                    <a:pt x="1729" y="232"/>
                  </a:lnTo>
                  <a:lnTo>
                    <a:pt x="1729" y="231"/>
                  </a:lnTo>
                  <a:lnTo>
                    <a:pt x="1727" y="230"/>
                  </a:lnTo>
                  <a:lnTo>
                    <a:pt x="1724" y="226"/>
                  </a:lnTo>
                  <a:lnTo>
                    <a:pt x="1722" y="224"/>
                  </a:lnTo>
                  <a:lnTo>
                    <a:pt x="1722" y="223"/>
                  </a:lnTo>
                  <a:lnTo>
                    <a:pt x="1719" y="216"/>
                  </a:lnTo>
                  <a:lnTo>
                    <a:pt x="1718" y="212"/>
                  </a:lnTo>
                  <a:lnTo>
                    <a:pt x="1718" y="211"/>
                  </a:lnTo>
                  <a:lnTo>
                    <a:pt x="1717" y="204"/>
                  </a:lnTo>
                  <a:lnTo>
                    <a:pt x="1717" y="201"/>
                  </a:lnTo>
                  <a:lnTo>
                    <a:pt x="1717" y="200"/>
                  </a:lnTo>
                  <a:lnTo>
                    <a:pt x="1715" y="195"/>
                  </a:lnTo>
                  <a:lnTo>
                    <a:pt x="1714" y="191"/>
                  </a:lnTo>
                  <a:lnTo>
                    <a:pt x="1714" y="190"/>
                  </a:lnTo>
                  <a:lnTo>
                    <a:pt x="1714" y="189"/>
                  </a:lnTo>
                  <a:lnTo>
                    <a:pt x="1714" y="183"/>
                  </a:lnTo>
                  <a:lnTo>
                    <a:pt x="1714" y="178"/>
                  </a:lnTo>
                  <a:lnTo>
                    <a:pt x="1715" y="177"/>
                  </a:lnTo>
                  <a:lnTo>
                    <a:pt x="1715" y="176"/>
                  </a:lnTo>
                  <a:lnTo>
                    <a:pt x="1714" y="173"/>
                  </a:lnTo>
                  <a:lnTo>
                    <a:pt x="1714" y="171"/>
                  </a:lnTo>
                  <a:lnTo>
                    <a:pt x="1715" y="169"/>
                  </a:lnTo>
                  <a:lnTo>
                    <a:pt x="1714" y="167"/>
                  </a:lnTo>
                  <a:lnTo>
                    <a:pt x="1712" y="161"/>
                  </a:lnTo>
                  <a:lnTo>
                    <a:pt x="1711" y="156"/>
                  </a:lnTo>
                  <a:lnTo>
                    <a:pt x="1711" y="155"/>
                  </a:lnTo>
                  <a:lnTo>
                    <a:pt x="1710" y="153"/>
                  </a:lnTo>
                  <a:lnTo>
                    <a:pt x="1709" y="145"/>
                  </a:lnTo>
                  <a:lnTo>
                    <a:pt x="1709" y="140"/>
                  </a:lnTo>
                  <a:lnTo>
                    <a:pt x="1709" y="139"/>
                  </a:lnTo>
                  <a:lnTo>
                    <a:pt x="1704" y="138"/>
                  </a:lnTo>
                  <a:lnTo>
                    <a:pt x="1703" y="137"/>
                  </a:lnTo>
                  <a:lnTo>
                    <a:pt x="1703" y="136"/>
                  </a:lnTo>
                  <a:lnTo>
                    <a:pt x="1702" y="132"/>
                  </a:lnTo>
                  <a:lnTo>
                    <a:pt x="1703" y="131"/>
                  </a:lnTo>
                  <a:lnTo>
                    <a:pt x="1703" y="130"/>
                  </a:lnTo>
                  <a:lnTo>
                    <a:pt x="1702" y="126"/>
                  </a:lnTo>
                  <a:lnTo>
                    <a:pt x="1702" y="122"/>
                  </a:lnTo>
                  <a:lnTo>
                    <a:pt x="1703" y="121"/>
                  </a:lnTo>
                  <a:lnTo>
                    <a:pt x="1700" y="118"/>
                  </a:lnTo>
                  <a:lnTo>
                    <a:pt x="1699" y="117"/>
                  </a:lnTo>
                  <a:lnTo>
                    <a:pt x="1699" y="116"/>
                  </a:lnTo>
                  <a:lnTo>
                    <a:pt x="1695" y="109"/>
                  </a:lnTo>
                  <a:lnTo>
                    <a:pt x="1694" y="106"/>
                  </a:lnTo>
                  <a:lnTo>
                    <a:pt x="1694" y="105"/>
                  </a:lnTo>
                  <a:lnTo>
                    <a:pt x="1690" y="102"/>
                  </a:lnTo>
                  <a:lnTo>
                    <a:pt x="1688" y="99"/>
                  </a:lnTo>
                  <a:lnTo>
                    <a:pt x="1688" y="98"/>
                  </a:lnTo>
                  <a:lnTo>
                    <a:pt x="1688" y="97"/>
                  </a:lnTo>
                  <a:lnTo>
                    <a:pt x="1689" y="94"/>
                  </a:lnTo>
                  <a:lnTo>
                    <a:pt x="1689" y="92"/>
                  </a:lnTo>
                  <a:lnTo>
                    <a:pt x="1690" y="91"/>
                  </a:lnTo>
                  <a:lnTo>
                    <a:pt x="1689" y="87"/>
                  </a:lnTo>
                  <a:lnTo>
                    <a:pt x="1689" y="85"/>
                  </a:lnTo>
                  <a:lnTo>
                    <a:pt x="1690" y="84"/>
                  </a:lnTo>
                  <a:lnTo>
                    <a:pt x="1688" y="80"/>
                  </a:lnTo>
                  <a:lnTo>
                    <a:pt x="1688" y="76"/>
                  </a:lnTo>
                  <a:lnTo>
                    <a:pt x="1688" y="75"/>
                  </a:lnTo>
                  <a:lnTo>
                    <a:pt x="1687" y="75"/>
                  </a:lnTo>
                  <a:lnTo>
                    <a:pt x="1686" y="75"/>
                  </a:lnTo>
                  <a:lnTo>
                    <a:pt x="1680" y="75"/>
                  </a:lnTo>
                  <a:lnTo>
                    <a:pt x="1676" y="75"/>
                  </a:lnTo>
                  <a:lnTo>
                    <a:pt x="1676" y="75"/>
                  </a:lnTo>
                  <a:lnTo>
                    <a:pt x="1674" y="70"/>
                  </a:lnTo>
                  <a:lnTo>
                    <a:pt x="1674" y="67"/>
                  </a:lnTo>
                  <a:lnTo>
                    <a:pt x="1674" y="66"/>
                  </a:lnTo>
                  <a:lnTo>
                    <a:pt x="1674" y="63"/>
                  </a:lnTo>
                  <a:lnTo>
                    <a:pt x="1672" y="57"/>
                  </a:lnTo>
                  <a:lnTo>
                    <a:pt x="1672" y="51"/>
                  </a:lnTo>
                  <a:lnTo>
                    <a:pt x="1674" y="50"/>
                  </a:lnTo>
                  <a:lnTo>
                    <a:pt x="1674" y="48"/>
                  </a:lnTo>
                  <a:lnTo>
                    <a:pt x="1672" y="41"/>
                  </a:lnTo>
                  <a:lnTo>
                    <a:pt x="1672" y="37"/>
                  </a:lnTo>
                  <a:lnTo>
                    <a:pt x="1674" y="36"/>
                  </a:lnTo>
                  <a:lnTo>
                    <a:pt x="1672" y="31"/>
                  </a:lnTo>
                  <a:lnTo>
                    <a:pt x="1672" y="27"/>
                  </a:lnTo>
                  <a:lnTo>
                    <a:pt x="1672" y="26"/>
                  </a:lnTo>
                  <a:lnTo>
                    <a:pt x="1671" y="24"/>
                  </a:lnTo>
                  <a:lnTo>
                    <a:pt x="1671" y="23"/>
                  </a:lnTo>
                  <a:lnTo>
                    <a:pt x="1671" y="22"/>
                  </a:lnTo>
                  <a:lnTo>
                    <a:pt x="1671" y="21"/>
                  </a:lnTo>
                  <a:lnTo>
                    <a:pt x="1671" y="20"/>
                  </a:lnTo>
                  <a:lnTo>
                    <a:pt x="1674" y="18"/>
                  </a:lnTo>
                  <a:lnTo>
                    <a:pt x="1671" y="14"/>
                  </a:lnTo>
                  <a:lnTo>
                    <a:pt x="1671" y="12"/>
                  </a:lnTo>
                  <a:lnTo>
                    <a:pt x="1671" y="11"/>
                  </a:lnTo>
                  <a:lnTo>
                    <a:pt x="1670" y="8"/>
                  </a:lnTo>
                  <a:lnTo>
                    <a:pt x="1670" y="5"/>
                  </a:lnTo>
                  <a:lnTo>
                    <a:pt x="1671" y="4"/>
                  </a:lnTo>
                  <a:lnTo>
                    <a:pt x="1667" y="2"/>
                  </a:lnTo>
                  <a:lnTo>
                    <a:pt x="1666" y="1"/>
                  </a:lnTo>
                  <a:lnTo>
                    <a:pt x="1666" y="0"/>
                  </a:lnTo>
                  <a:lnTo>
                    <a:pt x="1665" y="1"/>
                  </a:lnTo>
                  <a:lnTo>
                    <a:pt x="1663" y="4"/>
                  </a:lnTo>
                  <a:lnTo>
                    <a:pt x="1662" y="6"/>
                  </a:lnTo>
                  <a:lnTo>
                    <a:pt x="1662" y="6"/>
                  </a:lnTo>
                  <a:lnTo>
                    <a:pt x="1660" y="8"/>
                  </a:lnTo>
                  <a:lnTo>
                    <a:pt x="1655" y="11"/>
                  </a:lnTo>
                  <a:lnTo>
                    <a:pt x="1652" y="12"/>
                  </a:lnTo>
                  <a:lnTo>
                    <a:pt x="1652" y="12"/>
                  </a:lnTo>
                  <a:lnTo>
                    <a:pt x="1651" y="12"/>
                  </a:lnTo>
                  <a:lnTo>
                    <a:pt x="1647" y="12"/>
                  </a:lnTo>
                  <a:lnTo>
                    <a:pt x="1646" y="12"/>
                  </a:lnTo>
                  <a:lnTo>
                    <a:pt x="1646" y="12"/>
                  </a:lnTo>
                  <a:lnTo>
                    <a:pt x="1645" y="13"/>
                  </a:lnTo>
                  <a:lnTo>
                    <a:pt x="1643" y="15"/>
                  </a:lnTo>
                  <a:lnTo>
                    <a:pt x="1642" y="16"/>
                  </a:lnTo>
                  <a:lnTo>
                    <a:pt x="1642" y="16"/>
                  </a:lnTo>
                  <a:lnTo>
                    <a:pt x="1642" y="17"/>
                  </a:lnTo>
                  <a:lnTo>
                    <a:pt x="1642" y="17"/>
                  </a:lnTo>
                  <a:lnTo>
                    <a:pt x="1641" y="21"/>
                  </a:lnTo>
                  <a:lnTo>
                    <a:pt x="1641" y="27"/>
                  </a:lnTo>
                  <a:lnTo>
                    <a:pt x="1641" y="33"/>
                  </a:lnTo>
                  <a:lnTo>
                    <a:pt x="1641" y="33"/>
                  </a:lnTo>
                  <a:lnTo>
                    <a:pt x="1640" y="34"/>
                  </a:lnTo>
                  <a:lnTo>
                    <a:pt x="1637" y="36"/>
                  </a:lnTo>
                  <a:lnTo>
                    <a:pt x="1631" y="44"/>
                  </a:lnTo>
                  <a:lnTo>
                    <a:pt x="1627" y="49"/>
                  </a:lnTo>
                  <a:lnTo>
                    <a:pt x="1627" y="49"/>
                  </a:lnTo>
                  <a:lnTo>
                    <a:pt x="1625" y="52"/>
                  </a:lnTo>
                  <a:lnTo>
                    <a:pt x="1623" y="62"/>
                  </a:lnTo>
                  <a:lnTo>
                    <a:pt x="1622" y="69"/>
                  </a:lnTo>
                  <a:lnTo>
                    <a:pt x="1622" y="69"/>
                  </a:lnTo>
                  <a:lnTo>
                    <a:pt x="1621" y="70"/>
                  </a:lnTo>
                  <a:lnTo>
                    <a:pt x="1618" y="74"/>
                  </a:lnTo>
                  <a:lnTo>
                    <a:pt x="1617" y="78"/>
                  </a:lnTo>
                  <a:lnTo>
                    <a:pt x="1617" y="78"/>
                  </a:lnTo>
                  <a:lnTo>
                    <a:pt x="1615" y="79"/>
                  </a:lnTo>
                  <a:lnTo>
                    <a:pt x="1609" y="80"/>
                  </a:lnTo>
                  <a:lnTo>
                    <a:pt x="1606" y="81"/>
                  </a:lnTo>
                  <a:lnTo>
                    <a:pt x="1606" y="81"/>
                  </a:lnTo>
                  <a:lnTo>
                    <a:pt x="1605" y="84"/>
                  </a:lnTo>
                  <a:lnTo>
                    <a:pt x="1601" y="94"/>
                  </a:lnTo>
                  <a:lnTo>
                    <a:pt x="1599" y="101"/>
                  </a:lnTo>
                  <a:lnTo>
                    <a:pt x="1599" y="101"/>
                  </a:lnTo>
                  <a:lnTo>
                    <a:pt x="1598" y="103"/>
                  </a:lnTo>
                  <a:lnTo>
                    <a:pt x="1598" y="109"/>
                  </a:lnTo>
                  <a:lnTo>
                    <a:pt x="1598" y="114"/>
                  </a:lnTo>
                  <a:lnTo>
                    <a:pt x="1598" y="114"/>
                  </a:lnTo>
                  <a:lnTo>
                    <a:pt x="1599" y="114"/>
                  </a:lnTo>
                  <a:lnTo>
                    <a:pt x="1604" y="116"/>
                  </a:lnTo>
                  <a:lnTo>
                    <a:pt x="1606" y="116"/>
                  </a:lnTo>
                  <a:lnTo>
                    <a:pt x="1607" y="116"/>
                  </a:lnTo>
                  <a:lnTo>
                    <a:pt x="1606" y="118"/>
                  </a:lnTo>
                  <a:lnTo>
                    <a:pt x="1606" y="122"/>
                  </a:lnTo>
                  <a:lnTo>
                    <a:pt x="1606" y="126"/>
                  </a:lnTo>
                  <a:lnTo>
                    <a:pt x="1606" y="126"/>
                  </a:lnTo>
                  <a:lnTo>
                    <a:pt x="1605" y="127"/>
                  </a:lnTo>
                  <a:lnTo>
                    <a:pt x="1601" y="133"/>
                  </a:lnTo>
                  <a:lnTo>
                    <a:pt x="1599" y="138"/>
                  </a:lnTo>
                  <a:lnTo>
                    <a:pt x="1599" y="138"/>
                  </a:lnTo>
                  <a:lnTo>
                    <a:pt x="1599" y="139"/>
                  </a:lnTo>
                  <a:lnTo>
                    <a:pt x="1598" y="142"/>
                  </a:lnTo>
                  <a:lnTo>
                    <a:pt x="1598" y="144"/>
                  </a:lnTo>
                  <a:lnTo>
                    <a:pt x="1599" y="144"/>
                  </a:lnTo>
                  <a:lnTo>
                    <a:pt x="1599" y="146"/>
                  </a:lnTo>
                  <a:lnTo>
                    <a:pt x="1598" y="152"/>
                  </a:lnTo>
                  <a:lnTo>
                    <a:pt x="1598" y="155"/>
                  </a:lnTo>
                  <a:lnTo>
                    <a:pt x="1599" y="155"/>
                  </a:lnTo>
                  <a:lnTo>
                    <a:pt x="1598" y="157"/>
                  </a:lnTo>
                  <a:lnTo>
                    <a:pt x="1597" y="161"/>
                  </a:lnTo>
                  <a:lnTo>
                    <a:pt x="1596" y="164"/>
                  </a:lnTo>
                  <a:lnTo>
                    <a:pt x="1596" y="164"/>
                  </a:lnTo>
                  <a:lnTo>
                    <a:pt x="1595" y="165"/>
                  </a:lnTo>
                  <a:lnTo>
                    <a:pt x="1592" y="172"/>
                  </a:lnTo>
                  <a:lnTo>
                    <a:pt x="1589" y="176"/>
                  </a:lnTo>
                  <a:lnTo>
                    <a:pt x="1589" y="176"/>
                  </a:lnTo>
                  <a:lnTo>
                    <a:pt x="1589" y="177"/>
                  </a:lnTo>
                  <a:lnTo>
                    <a:pt x="1589" y="180"/>
                  </a:lnTo>
                  <a:lnTo>
                    <a:pt x="1589" y="190"/>
                  </a:lnTo>
                  <a:lnTo>
                    <a:pt x="1589" y="198"/>
                  </a:lnTo>
                  <a:lnTo>
                    <a:pt x="1590" y="198"/>
                  </a:lnTo>
                  <a:lnTo>
                    <a:pt x="1590" y="199"/>
                  </a:lnTo>
                  <a:lnTo>
                    <a:pt x="1590" y="200"/>
                  </a:lnTo>
                  <a:lnTo>
                    <a:pt x="1590" y="207"/>
                  </a:lnTo>
                  <a:lnTo>
                    <a:pt x="1590" y="211"/>
                  </a:lnTo>
                  <a:lnTo>
                    <a:pt x="1592" y="211"/>
                  </a:lnTo>
                  <a:lnTo>
                    <a:pt x="1590" y="214"/>
                  </a:lnTo>
                  <a:lnTo>
                    <a:pt x="1589" y="222"/>
                  </a:lnTo>
                  <a:lnTo>
                    <a:pt x="1588" y="229"/>
                  </a:lnTo>
                  <a:lnTo>
                    <a:pt x="1588" y="229"/>
                  </a:lnTo>
                  <a:lnTo>
                    <a:pt x="1588" y="230"/>
                  </a:lnTo>
                  <a:lnTo>
                    <a:pt x="1588" y="232"/>
                  </a:lnTo>
                  <a:lnTo>
                    <a:pt x="1592" y="242"/>
                  </a:lnTo>
                  <a:lnTo>
                    <a:pt x="1593" y="249"/>
                  </a:lnTo>
                  <a:lnTo>
                    <a:pt x="1594" y="249"/>
                  </a:lnTo>
                  <a:lnTo>
                    <a:pt x="1594" y="250"/>
                  </a:lnTo>
                  <a:lnTo>
                    <a:pt x="1594" y="253"/>
                  </a:lnTo>
                  <a:lnTo>
                    <a:pt x="1594" y="259"/>
                  </a:lnTo>
                  <a:lnTo>
                    <a:pt x="1594" y="265"/>
                  </a:lnTo>
                  <a:lnTo>
                    <a:pt x="1595" y="265"/>
                  </a:lnTo>
                  <a:lnTo>
                    <a:pt x="1594" y="268"/>
                  </a:lnTo>
                  <a:lnTo>
                    <a:pt x="1593" y="274"/>
                  </a:lnTo>
                  <a:lnTo>
                    <a:pt x="1592" y="279"/>
                  </a:lnTo>
                  <a:lnTo>
                    <a:pt x="1592" y="279"/>
                  </a:lnTo>
                  <a:lnTo>
                    <a:pt x="1590" y="280"/>
                  </a:lnTo>
                  <a:lnTo>
                    <a:pt x="1587" y="286"/>
                  </a:lnTo>
                  <a:lnTo>
                    <a:pt x="1586" y="291"/>
                  </a:lnTo>
                  <a:lnTo>
                    <a:pt x="1586" y="291"/>
                  </a:lnTo>
                  <a:lnTo>
                    <a:pt x="1585" y="294"/>
                  </a:lnTo>
                  <a:lnTo>
                    <a:pt x="1582" y="302"/>
                  </a:lnTo>
                  <a:lnTo>
                    <a:pt x="1580" y="308"/>
                  </a:lnTo>
                  <a:lnTo>
                    <a:pt x="1580" y="308"/>
                  </a:lnTo>
                  <a:lnTo>
                    <a:pt x="1578" y="313"/>
                  </a:lnTo>
                  <a:lnTo>
                    <a:pt x="1575" y="323"/>
                  </a:lnTo>
                  <a:lnTo>
                    <a:pt x="1574" y="330"/>
                  </a:lnTo>
                  <a:lnTo>
                    <a:pt x="1574" y="330"/>
                  </a:lnTo>
                  <a:lnTo>
                    <a:pt x="1573" y="335"/>
                  </a:lnTo>
                  <a:lnTo>
                    <a:pt x="1570" y="347"/>
                  </a:lnTo>
                  <a:lnTo>
                    <a:pt x="1567" y="357"/>
                  </a:lnTo>
                  <a:lnTo>
                    <a:pt x="1567" y="357"/>
                  </a:lnTo>
                  <a:lnTo>
                    <a:pt x="1566" y="358"/>
                  </a:lnTo>
                  <a:lnTo>
                    <a:pt x="1564" y="361"/>
                  </a:lnTo>
                  <a:lnTo>
                    <a:pt x="1558" y="373"/>
                  </a:lnTo>
                  <a:lnTo>
                    <a:pt x="1552" y="383"/>
                  </a:lnTo>
                  <a:lnTo>
                    <a:pt x="1552" y="383"/>
                  </a:lnTo>
                  <a:lnTo>
                    <a:pt x="1551" y="386"/>
                  </a:lnTo>
                  <a:lnTo>
                    <a:pt x="1548" y="396"/>
                  </a:lnTo>
                  <a:lnTo>
                    <a:pt x="1547" y="404"/>
                  </a:lnTo>
                  <a:lnTo>
                    <a:pt x="1547" y="404"/>
                  </a:lnTo>
                  <a:lnTo>
                    <a:pt x="1546" y="405"/>
                  </a:lnTo>
                  <a:lnTo>
                    <a:pt x="1543" y="409"/>
                  </a:lnTo>
                  <a:lnTo>
                    <a:pt x="1542" y="411"/>
                  </a:lnTo>
                  <a:lnTo>
                    <a:pt x="1542" y="411"/>
                  </a:lnTo>
                  <a:lnTo>
                    <a:pt x="1539" y="412"/>
                  </a:lnTo>
                  <a:lnTo>
                    <a:pt x="1531" y="416"/>
                  </a:lnTo>
                  <a:lnTo>
                    <a:pt x="1525" y="417"/>
                  </a:lnTo>
                  <a:lnTo>
                    <a:pt x="1525" y="417"/>
                  </a:lnTo>
                  <a:lnTo>
                    <a:pt x="1523" y="418"/>
                  </a:lnTo>
                  <a:lnTo>
                    <a:pt x="1517" y="420"/>
                  </a:lnTo>
                  <a:lnTo>
                    <a:pt x="1513" y="421"/>
                  </a:lnTo>
                  <a:lnTo>
                    <a:pt x="1513" y="421"/>
                  </a:lnTo>
                  <a:lnTo>
                    <a:pt x="1510" y="422"/>
                  </a:lnTo>
                  <a:lnTo>
                    <a:pt x="1503" y="423"/>
                  </a:lnTo>
                  <a:lnTo>
                    <a:pt x="1499" y="423"/>
                  </a:lnTo>
                  <a:lnTo>
                    <a:pt x="1499" y="423"/>
                  </a:lnTo>
                  <a:lnTo>
                    <a:pt x="1492" y="421"/>
                  </a:lnTo>
                  <a:lnTo>
                    <a:pt x="1489" y="420"/>
                  </a:lnTo>
                  <a:lnTo>
                    <a:pt x="1489" y="419"/>
                  </a:lnTo>
                  <a:lnTo>
                    <a:pt x="1488" y="419"/>
                  </a:lnTo>
                  <a:lnTo>
                    <a:pt x="1484" y="418"/>
                  </a:lnTo>
                  <a:lnTo>
                    <a:pt x="1483" y="418"/>
                  </a:lnTo>
                  <a:lnTo>
                    <a:pt x="1483" y="417"/>
                  </a:lnTo>
                  <a:lnTo>
                    <a:pt x="1480" y="416"/>
                  </a:lnTo>
                  <a:lnTo>
                    <a:pt x="1473" y="410"/>
                  </a:lnTo>
                  <a:lnTo>
                    <a:pt x="1469" y="407"/>
                  </a:lnTo>
                  <a:lnTo>
                    <a:pt x="1469" y="406"/>
                  </a:lnTo>
                  <a:lnTo>
                    <a:pt x="1466" y="405"/>
                  </a:lnTo>
                  <a:lnTo>
                    <a:pt x="1457" y="399"/>
                  </a:lnTo>
                  <a:lnTo>
                    <a:pt x="1451" y="395"/>
                  </a:lnTo>
                  <a:lnTo>
                    <a:pt x="1451" y="394"/>
                  </a:lnTo>
                  <a:lnTo>
                    <a:pt x="1449" y="393"/>
                  </a:lnTo>
                  <a:lnTo>
                    <a:pt x="1447" y="389"/>
                  </a:lnTo>
                  <a:lnTo>
                    <a:pt x="1446" y="387"/>
                  </a:lnTo>
                  <a:lnTo>
                    <a:pt x="1446" y="386"/>
                  </a:lnTo>
                  <a:lnTo>
                    <a:pt x="1444" y="379"/>
                  </a:lnTo>
                  <a:lnTo>
                    <a:pt x="1443" y="375"/>
                  </a:lnTo>
                  <a:lnTo>
                    <a:pt x="1443" y="374"/>
                  </a:lnTo>
                  <a:lnTo>
                    <a:pt x="1441" y="373"/>
                  </a:lnTo>
                  <a:lnTo>
                    <a:pt x="1436" y="370"/>
                  </a:lnTo>
                  <a:lnTo>
                    <a:pt x="1433" y="367"/>
                  </a:lnTo>
                  <a:lnTo>
                    <a:pt x="1433" y="366"/>
                  </a:lnTo>
                  <a:lnTo>
                    <a:pt x="1432" y="366"/>
                  </a:lnTo>
                  <a:lnTo>
                    <a:pt x="1431" y="366"/>
                  </a:lnTo>
                  <a:lnTo>
                    <a:pt x="1425" y="365"/>
                  </a:lnTo>
                  <a:lnTo>
                    <a:pt x="1421" y="364"/>
                  </a:lnTo>
                  <a:lnTo>
                    <a:pt x="1421" y="363"/>
                  </a:lnTo>
                  <a:lnTo>
                    <a:pt x="1420" y="363"/>
                  </a:lnTo>
                  <a:lnTo>
                    <a:pt x="1418" y="363"/>
                  </a:lnTo>
                  <a:lnTo>
                    <a:pt x="1410" y="361"/>
                  </a:lnTo>
                  <a:lnTo>
                    <a:pt x="1404" y="360"/>
                  </a:lnTo>
                  <a:lnTo>
                    <a:pt x="1404" y="359"/>
                  </a:lnTo>
                  <a:lnTo>
                    <a:pt x="1398" y="357"/>
                  </a:lnTo>
                  <a:lnTo>
                    <a:pt x="1396" y="355"/>
                  </a:lnTo>
                  <a:lnTo>
                    <a:pt x="1396" y="354"/>
                  </a:lnTo>
                  <a:lnTo>
                    <a:pt x="1395" y="354"/>
                  </a:lnTo>
                  <a:lnTo>
                    <a:pt x="1394" y="354"/>
                  </a:lnTo>
                  <a:lnTo>
                    <a:pt x="1390" y="353"/>
                  </a:lnTo>
                  <a:lnTo>
                    <a:pt x="1387" y="353"/>
                  </a:lnTo>
                  <a:lnTo>
                    <a:pt x="1387" y="352"/>
                  </a:lnTo>
                  <a:lnTo>
                    <a:pt x="1385" y="351"/>
                  </a:lnTo>
                  <a:lnTo>
                    <a:pt x="1382" y="348"/>
                  </a:lnTo>
                  <a:lnTo>
                    <a:pt x="1378" y="346"/>
                  </a:lnTo>
                  <a:lnTo>
                    <a:pt x="1378" y="344"/>
                  </a:lnTo>
                  <a:lnTo>
                    <a:pt x="1377" y="343"/>
                  </a:lnTo>
                  <a:lnTo>
                    <a:pt x="1374" y="340"/>
                  </a:lnTo>
                  <a:lnTo>
                    <a:pt x="1372" y="337"/>
                  </a:lnTo>
                  <a:lnTo>
                    <a:pt x="1372" y="336"/>
                  </a:lnTo>
                  <a:lnTo>
                    <a:pt x="1366" y="332"/>
                  </a:lnTo>
                  <a:lnTo>
                    <a:pt x="1363" y="331"/>
                  </a:lnTo>
                  <a:lnTo>
                    <a:pt x="1363" y="330"/>
                  </a:lnTo>
                  <a:lnTo>
                    <a:pt x="1355" y="327"/>
                  </a:lnTo>
                  <a:lnTo>
                    <a:pt x="1351" y="326"/>
                  </a:lnTo>
                  <a:lnTo>
                    <a:pt x="1351" y="325"/>
                  </a:lnTo>
                  <a:lnTo>
                    <a:pt x="1349" y="324"/>
                  </a:lnTo>
                  <a:lnTo>
                    <a:pt x="1343" y="320"/>
                  </a:lnTo>
                  <a:lnTo>
                    <a:pt x="1340" y="318"/>
                  </a:lnTo>
                  <a:lnTo>
                    <a:pt x="1340" y="317"/>
                  </a:lnTo>
                  <a:lnTo>
                    <a:pt x="1339" y="316"/>
                  </a:lnTo>
                  <a:lnTo>
                    <a:pt x="1337" y="313"/>
                  </a:lnTo>
                  <a:lnTo>
                    <a:pt x="1336" y="311"/>
                  </a:lnTo>
                  <a:lnTo>
                    <a:pt x="1336" y="309"/>
                  </a:lnTo>
                  <a:lnTo>
                    <a:pt x="1332" y="311"/>
                  </a:lnTo>
                  <a:lnTo>
                    <a:pt x="1326" y="311"/>
                  </a:lnTo>
                  <a:lnTo>
                    <a:pt x="1320" y="311"/>
                  </a:lnTo>
                  <a:lnTo>
                    <a:pt x="1320" y="311"/>
                  </a:lnTo>
                  <a:lnTo>
                    <a:pt x="1319" y="311"/>
                  </a:lnTo>
                  <a:lnTo>
                    <a:pt x="1318" y="311"/>
                  </a:lnTo>
                  <a:lnTo>
                    <a:pt x="1313" y="309"/>
                  </a:lnTo>
                  <a:lnTo>
                    <a:pt x="1310" y="308"/>
                  </a:lnTo>
                  <a:lnTo>
                    <a:pt x="1310" y="307"/>
                  </a:lnTo>
                  <a:lnTo>
                    <a:pt x="1308" y="307"/>
                  </a:lnTo>
                  <a:lnTo>
                    <a:pt x="1307" y="307"/>
                  </a:lnTo>
                  <a:lnTo>
                    <a:pt x="1302" y="306"/>
                  </a:lnTo>
                  <a:lnTo>
                    <a:pt x="1297" y="305"/>
                  </a:lnTo>
                  <a:lnTo>
                    <a:pt x="1297" y="304"/>
                  </a:lnTo>
                  <a:lnTo>
                    <a:pt x="1296" y="305"/>
                  </a:lnTo>
                  <a:lnTo>
                    <a:pt x="1291" y="308"/>
                  </a:lnTo>
                  <a:lnTo>
                    <a:pt x="1288" y="311"/>
                  </a:lnTo>
                  <a:lnTo>
                    <a:pt x="1288" y="311"/>
                  </a:lnTo>
                  <a:lnTo>
                    <a:pt x="1288" y="308"/>
                  </a:lnTo>
                  <a:lnTo>
                    <a:pt x="1287" y="302"/>
                  </a:lnTo>
                  <a:lnTo>
                    <a:pt x="1287" y="296"/>
                  </a:lnTo>
                  <a:lnTo>
                    <a:pt x="1288" y="295"/>
                  </a:lnTo>
                  <a:lnTo>
                    <a:pt x="1287" y="294"/>
                  </a:lnTo>
                  <a:lnTo>
                    <a:pt x="1284" y="291"/>
                  </a:lnTo>
                  <a:lnTo>
                    <a:pt x="1283" y="288"/>
                  </a:lnTo>
                  <a:lnTo>
                    <a:pt x="1283" y="286"/>
                  </a:lnTo>
                  <a:lnTo>
                    <a:pt x="1281" y="280"/>
                  </a:lnTo>
                  <a:lnTo>
                    <a:pt x="1281" y="277"/>
                  </a:lnTo>
                  <a:lnTo>
                    <a:pt x="1281" y="276"/>
                  </a:lnTo>
                  <a:lnTo>
                    <a:pt x="1280" y="276"/>
                  </a:lnTo>
                  <a:lnTo>
                    <a:pt x="1279" y="276"/>
                  </a:lnTo>
                  <a:lnTo>
                    <a:pt x="1275" y="274"/>
                  </a:lnTo>
                  <a:lnTo>
                    <a:pt x="1271" y="273"/>
                  </a:lnTo>
                  <a:lnTo>
                    <a:pt x="1271" y="272"/>
                  </a:lnTo>
                  <a:lnTo>
                    <a:pt x="1267" y="271"/>
                  </a:lnTo>
                  <a:lnTo>
                    <a:pt x="1265" y="270"/>
                  </a:lnTo>
                  <a:lnTo>
                    <a:pt x="1265" y="269"/>
                  </a:lnTo>
                  <a:lnTo>
                    <a:pt x="1262" y="268"/>
                  </a:lnTo>
                  <a:lnTo>
                    <a:pt x="1261" y="267"/>
                  </a:lnTo>
                  <a:lnTo>
                    <a:pt x="1261" y="266"/>
                  </a:lnTo>
                  <a:lnTo>
                    <a:pt x="1257" y="262"/>
                  </a:lnTo>
                  <a:lnTo>
                    <a:pt x="1256" y="261"/>
                  </a:lnTo>
                  <a:lnTo>
                    <a:pt x="1256" y="260"/>
                  </a:lnTo>
                  <a:lnTo>
                    <a:pt x="1254" y="261"/>
                  </a:lnTo>
                  <a:lnTo>
                    <a:pt x="1250" y="261"/>
                  </a:lnTo>
                  <a:lnTo>
                    <a:pt x="1247" y="261"/>
                  </a:lnTo>
                  <a:lnTo>
                    <a:pt x="1247" y="261"/>
                  </a:lnTo>
                  <a:lnTo>
                    <a:pt x="1244" y="258"/>
                  </a:lnTo>
                  <a:lnTo>
                    <a:pt x="1243" y="256"/>
                  </a:lnTo>
                  <a:lnTo>
                    <a:pt x="1243" y="255"/>
                  </a:lnTo>
                  <a:lnTo>
                    <a:pt x="1238" y="253"/>
                  </a:lnTo>
                  <a:lnTo>
                    <a:pt x="1237" y="251"/>
                  </a:lnTo>
                  <a:lnTo>
                    <a:pt x="1237" y="250"/>
                  </a:lnTo>
                  <a:lnTo>
                    <a:pt x="1237" y="249"/>
                  </a:lnTo>
                  <a:lnTo>
                    <a:pt x="1236" y="244"/>
                  </a:lnTo>
                  <a:lnTo>
                    <a:pt x="1236" y="241"/>
                  </a:lnTo>
                  <a:lnTo>
                    <a:pt x="1237" y="239"/>
                  </a:lnTo>
                  <a:lnTo>
                    <a:pt x="1241" y="233"/>
                  </a:lnTo>
                  <a:lnTo>
                    <a:pt x="1243" y="230"/>
                  </a:lnTo>
                  <a:lnTo>
                    <a:pt x="1244" y="229"/>
                  </a:lnTo>
                  <a:lnTo>
                    <a:pt x="1244" y="227"/>
                  </a:lnTo>
                  <a:lnTo>
                    <a:pt x="1245" y="222"/>
                  </a:lnTo>
                  <a:lnTo>
                    <a:pt x="1246" y="218"/>
                  </a:lnTo>
                  <a:lnTo>
                    <a:pt x="1247" y="216"/>
                  </a:lnTo>
                  <a:lnTo>
                    <a:pt x="1248" y="214"/>
                  </a:lnTo>
                  <a:lnTo>
                    <a:pt x="1252" y="208"/>
                  </a:lnTo>
                  <a:lnTo>
                    <a:pt x="1255" y="203"/>
                  </a:lnTo>
                  <a:lnTo>
                    <a:pt x="1256" y="202"/>
                  </a:lnTo>
                  <a:lnTo>
                    <a:pt x="1257" y="199"/>
                  </a:lnTo>
                  <a:lnTo>
                    <a:pt x="1257" y="197"/>
                  </a:lnTo>
                  <a:lnTo>
                    <a:pt x="1258" y="196"/>
                  </a:lnTo>
                  <a:lnTo>
                    <a:pt x="1257" y="192"/>
                  </a:lnTo>
                  <a:lnTo>
                    <a:pt x="1258" y="191"/>
                  </a:lnTo>
                  <a:lnTo>
                    <a:pt x="1258" y="190"/>
                  </a:lnTo>
                  <a:lnTo>
                    <a:pt x="1259" y="185"/>
                  </a:lnTo>
                  <a:lnTo>
                    <a:pt x="1260" y="180"/>
                  </a:lnTo>
                  <a:lnTo>
                    <a:pt x="1261" y="179"/>
                  </a:lnTo>
                  <a:lnTo>
                    <a:pt x="1262" y="175"/>
                  </a:lnTo>
                  <a:lnTo>
                    <a:pt x="1264" y="173"/>
                  </a:lnTo>
                  <a:lnTo>
                    <a:pt x="1265" y="172"/>
                  </a:lnTo>
                  <a:lnTo>
                    <a:pt x="1262" y="173"/>
                  </a:lnTo>
                  <a:lnTo>
                    <a:pt x="1257" y="174"/>
                  </a:lnTo>
                  <a:lnTo>
                    <a:pt x="1254" y="175"/>
                  </a:lnTo>
                  <a:lnTo>
                    <a:pt x="1254" y="175"/>
                  </a:lnTo>
                  <a:lnTo>
                    <a:pt x="1253" y="172"/>
                  </a:lnTo>
                  <a:lnTo>
                    <a:pt x="1253" y="169"/>
                  </a:lnTo>
                  <a:lnTo>
                    <a:pt x="1254" y="168"/>
                  </a:lnTo>
                  <a:lnTo>
                    <a:pt x="1254" y="167"/>
                  </a:lnTo>
                  <a:lnTo>
                    <a:pt x="1255" y="162"/>
                  </a:lnTo>
                  <a:lnTo>
                    <a:pt x="1256" y="159"/>
                  </a:lnTo>
                  <a:lnTo>
                    <a:pt x="1257" y="157"/>
                  </a:lnTo>
                  <a:lnTo>
                    <a:pt x="1257" y="156"/>
                  </a:lnTo>
                  <a:lnTo>
                    <a:pt x="1258" y="151"/>
                  </a:lnTo>
                  <a:lnTo>
                    <a:pt x="1258" y="146"/>
                  </a:lnTo>
                  <a:lnTo>
                    <a:pt x="1259" y="145"/>
                  </a:lnTo>
                  <a:lnTo>
                    <a:pt x="1262" y="145"/>
                  </a:lnTo>
                  <a:lnTo>
                    <a:pt x="1264" y="145"/>
                  </a:lnTo>
                  <a:lnTo>
                    <a:pt x="1265" y="145"/>
                  </a:lnTo>
                  <a:lnTo>
                    <a:pt x="1267" y="151"/>
                  </a:lnTo>
                  <a:lnTo>
                    <a:pt x="1268" y="154"/>
                  </a:lnTo>
                  <a:lnTo>
                    <a:pt x="1269" y="154"/>
                  </a:lnTo>
                  <a:lnTo>
                    <a:pt x="1270" y="156"/>
                  </a:lnTo>
                  <a:lnTo>
                    <a:pt x="1271" y="157"/>
                  </a:lnTo>
                  <a:lnTo>
                    <a:pt x="1272" y="157"/>
                  </a:lnTo>
                  <a:lnTo>
                    <a:pt x="1270" y="155"/>
                  </a:lnTo>
                  <a:lnTo>
                    <a:pt x="1270" y="153"/>
                  </a:lnTo>
                  <a:lnTo>
                    <a:pt x="1269" y="148"/>
                  </a:lnTo>
                  <a:lnTo>
                    <a:pt x="1269" y="144"/>
                  </a:lnTo>
                  <a:lnTo>
                    <a:pt x="1269" y="143"/>
                  </a:lnTo>
                  <a:lnTo>
                    <a:pt x="1272" y="140"/>
                  </a:lnTo>
                  <a:lnTo>
                    <a:pt x="1273" y="139"/>
                  </a:lnTo>
                  <a:lnTo>
                    <a:pt x="1275" y="138"/>
                  </a:lnTo>
                  <a:lnTo>
                    <a:pt x="1275" y="139"/>
                  </a:lnTo>
                  <a:lnTo>
                    <a:pt x="1276" y="142"/>
                  </a:lnTo>
                  <a:lnTo>
                    <a:pt x="1276" y="143"/>
                  </a:lnTo>
                  <a:lnTo>
                    <a:pt x="1277" y="143"/>
                  </a:lnTo>
                  <a:lnTo>
                    <a:pt x="1281" y="145"/>
                  </a:lnTo>
                  <a:lnTo>
                    <a:pt x="1284" y="145"/>
                  </a:lnTo>
                  <a:lnTo>
                    <a:pt x="1285" y="145"/>
                  </a:lnTo>
                  <a:lnTo>
                    <a:pt x="1288" y="144"/>
                  </a:lnTo>
                  <a:lnTo>
                    <a:pt x="1290" y="143"/>
                  </a:lnTo>
                  <a:lnTo>
                    <a:pt x="1291" y="140"/>
                  </a:lnTo>
                  <a:lnTo>
                    <a:pt x="1292" y="139"/>
                  </a:lnTo>
                  <a:lnTo>
                    <a:pt x="1293" y="138"/>
                  </a:lnTo>
                  <a:lnTo>
                    <a:pt x="1295" y="133"/>
                  </a:lnTo>
                  <a:lnTo>
                    <a:pt x="1296" y="131"/>
                  </a:lnTo>
                  <a:lnTo>
                    <a:pt x="1297" y="130"/>
                  </a:lnTo>
                  <a:lnTo>
                    <a:pt x="1295" y="129"/>
                  </a:lnTo>
                  <a:lnTo>
                    <a:pt x="1294" y="128"/>
                  </a:lnTo>
                  <a:lnTo>
                    <a:pt x="1294" y="127"/>
                  </a:lnTo>
                  <a:lnTo>
                    <a:pt x="1293" y="125"/>
                  </a:lnTo>
                  <a:lnTo>
                    <a:pt x="1293" y="123"/>
                  </a:lnTo>
                  <a:lnTo>
                    <a:pt x="1291" y="122"/>
                  </a:lnTo>
                  <a:lnTo>
                    <a:pt x="1291" y="121"/>
                  </a:lnTo>
                  <a:lnTo>
                    <a:pt x="1292" y="120"/>
                  </a:lnTo>
                  <a:lnTo>
                    <a:pt x="1293" y="118"/>
                  </a:lnTo>
                  <a:lnTo>
                    <a:pt x="1295" y="118"/>
                  </a:lnTo>
                  <a:lnTo>
                    <a:pt x="1296" y="118"/>
                  </a:lnTo>
                  <a:lnTo>
                    <a:pt x="1297" y="118"/>
                  </a:lnTo>
                  <a:lnTo>
                    <a:pt x="1300" y="117"/>
                  </a:lnTo>
                  <a:lnTo>
                    <a:pt x="1301" y="116"/>
                  </a:lnTo>
                  <a:lnTo>
                    <a:pt x="1302" y="115"/>
                  </a:lnTo>
                  <a:lnTo>
                    <a:pt x="1305" y="108"/>
                  </a:lnTo>
                  <a:lnTo>
                    <a:pt x="1307" y="105"/>
                  </a:lnTo>
                  <a:lnTo>
                    <a:pt x="1308" y="104"/>
                  </a:lnTo>
                  <a:lnTo>
                    <a:pt x="1311" y="98"/>
                  </a:lnTo>
                  <a:lnTo>
                    <a:pt x="1312" y="95"/>
                  </a:lnTo>
                  <a:lnTo>
                    <a:pt x="1313" y="94"/>
                  </a:lnTo>
                  <a:lnTo>
                    <a:pt x="1314" y="92"/>
                  </a:lnTo>
                  <a:lnTo>
                    <a:pt x="1315" y="90"/>
                  </a:lnTo>
                  <a:lnTo>
                    <a:pt x="1311" y="86"/>
                  </a:lnTo>
                  <a:lnTo>
                    <a:pt x="1310" y="85"/>
                  </a:lnTo>
                  <a:lnTo>
                    <a:pt x="1310" y="84"/>
                  </a:lnTo>
                  <a:lnTo>
                    <a:pt x="1308" y="84"/>
                  </a:lnTo>
                  <a:lnTo>
                    <a:pt x="1305" y="84"/>
                  </a:lnTo>
                  <a:lnTo>
                    <a:pt x="1303" y="84"/>
                  </a:lnTo>
                  <a:lnTo>
                    <a:pt x="1303" y="84"/>
                  </a:lnTo>
                  <a:lnTo>
                    <a:pt x="1302" y="85"/>
                  </a:lnTo>
                  <a:lnTo>
                    <a:pt x="1297" y="88"/>
                  </a:lnTo>
                  <a:lnTo>
                    <a:pt x="1294" y="90"/>
                  </a:lnTo>
                  <a:lnTo>
                    <a:pt x="1294" y="90"/>
                  </a:lnTo>
                  <a:lnTo>
                    <a:pt x="1293" y="80"/>
                  </a:lnTo>
                  <a:lnTo>
                    <a:pt x="1293" y="74"/>
                  </a:lnTo>
                  <a:lnTo>
                    <a:pt x="1293" y="73"/>
                  </a:lnTo>
                  <a:lnTo>
                    <a:pt x="1291" y="70"/>
                  </a:lnTo>
                  <a:lnTo>
                    <a:pt x="1291" y="69"/>
                  </a:lnTo>
                  <a:lnTo>
                    <a:pt x="1291" y="68"/>
                  </a:lnTo>
                  <a:lnTo>
                    <a:pt x="1289" y="67"/>
                  </a:lnTo>
                  <a:lnTo>
                    <a:pt x="1288" y="66"/>
                  </a:lnTo>
                  <a:lnTo>
                    <a:pt x="1287" y="67"/>
                  </a:lnTo>
                  <a:lnTo>
                    <a:pt x="1285" y="68"/>
                  </a:lnTo>
                  <a:lnTo>
                    <a:pt x="1280" y="71"/>
                  </a:lnTo>
                  <a:lnTo>
                    <a:pt x="1276" y="74"/>
                  </a:lnTo>
                  <a:lnTo>
                    <a:pt x="1276" y="74"/>
                  </a:lnTo>
                  <a:lnTo>
                    <a:pt x="1275" y="76"/>
                  </a:lnTo>
                  <a:lnTo>
                    <a:pt x="1275" y="81"/>
                  </a:lnTo>
                  <a:lnTo>
                    <a:pt x="1275" y="84"/>
                  </a:lnTo>
                  <a:lnTo>
                    <a:pt x="1275" y="84"/>
                  </a:lnTo>
                  <a:lnTo>
                    <a:pt x="1276" y="86"/>
                  </a:lnTo>
                  <a:lnTo>
                    <a:pt x="1277" y="87"/>
                  </a:lnTo>
                  <a:lnTo>
                    <a:pt x="1276" y="88"/>
                  </a:lnTo>
                  <a:lnTo>
                    <a:pt x="1272" y="95"/>
                  </a:lnTo>
                  <a:lnTo>
                    <a:pt x="1270" y="99"/>
                  </a:lnTo>
                  <a:lnTo>
                    <a:pt x="1270" y="99"/>
                  </a:lnTo>
                  <a:lnTo>
                    <a:pt x="1266" y="101"/>
                  </a:lnTo>
                  <a:lnTo>
                    <a:pt x="1264" y="101"/>
                  </a:lnTo>
                  <a:lnTo>
                    <a:pt x="1264" y="101"/>
                  </a:lnTo>
                  <a:lnTo>
                    <a:pt x="1262" y="102"/>
                  </a:lnTo>
                  <a:lnTo>
                    <a:pt x="1261" y="103"/>
                  </a:lnTo>
                  <a:lnTo>
                    <a:pt x="1260" y="103"/>
                  </a:lnTo>
                  <a:lnTo>
                    <a:pt x="1259" y="101"/>
                  </a:lnTo>
                  <a:lnTo>
                    <a:pt x="1259" y="99"/>
                  </a:lnTo>
                  <a:lnTo>
                    <a:pt x="1259" y="98"/>
                  </a:lnTo>
                  <a:lnTo>
                    <a:pt x="1258" y="95"/>
                  </a:lnTo>
                  <a:lnTo>
                    <a:pt x="1258" y="92"/>
                  </a:lnTo>
                  <a:lnTo>
                    <a:pt x="1259" y="91"/>
                  </a:lnTo>
                  <a:lnTo>
                    <a:pt x="1259" y="87"/>
                  </a:lnTo>
                  <a:lnTo>
                    <a:pt x="1259" y="85"/>
                  </a:lnTo>
                  <a:lnTo>
                    <a:pt x="1260" y="84"/>
                  </a:lnTo>
                  <a:lnTo>
                    <a:pt x="1259" y="81"/>
                  </a:lnTo>
                  <a:lnTo>
                    <a:pt x="1260" y="80"/>
                  </a:lnTo>
                  <a:lnTo>
                    <a:pt x="1259" y="79"/>
                  </a:lnTo>
                  <a:lnTo>
                    <a:pt x="1259" y="78"/>
                  </a:lnTo>
                  <a:lnTo>
                    <a:pt x="1258" y="79"/>
                  </a:lnTo>
                  <a:lnTo>
                    <a:pt x="1255" y="81"/>
                  </a:lnTo>
                  <a:lnTo>
                    <a:pt x="1254" y="82"/>
                  </a:lnTo>
                  <a:lnTo>
                    <a:pt x="1254" y="82"/>
                  </a:lnTo>
                  <a:lnTo>
                    <a:pt x="1253" y="82"/>
                  </a:lnTo>
                  <a:lnTo>
                    <a:pt x="1252" y="82"/>
                  </a:lnTo>
                  <a:lnTo>
                    <a:pt x="1250" y="82"/>
                  </a:lnTo>
                  <a:lnTo>
                    <a:pt x="1250" y="81"/>
                  </a:lnTo>
                  <a:lnTo>
                    <a:pt x="1248" y="79"/>
                  </a:lnTo>
                  <a:lnTo>
                    <a:pt x="1248" y="78"/>
                  </a:lnTo>
                  <a:lnTo>
                    <a:pt x="1249" y="76"/>
                  </a:lnTo>
                  <a:lnTo>
                    <a:pt x="1253" y="71"/>
                  </a:lnTo>
                  <a:lnTo>
                    <a:pt x="1255" y="68"/>
                  </a:lnTo>
                  <a:lnTo>
                    <a:pt x="1256" y="67"/>
                  </a:lnTo>
                  <a:lnTo>
                    <a:pt x="1254" y="68"/>
                  </a:lnTo>
                  <a:lnTo>
                    <a:pt x="1248" y="70"/>
                  </a:lnTo>
                  <a:lnTo>
                    <a:pt x="1244" y="71"/>
                  </a:lnTo>
                  <a:lnTo>
                    <a:pt x="1244" y="71"/>
                  </a:lnTo>
                  <a:lnTo>
                    <a:pt x="1243" y="71"/>
                  </a:lnTo>
                  <a:lnTo>
                    <a:pt x="1242" y="71"/>
                  </a:lnTo>
                  <a:lnTo>
                    <a:pt x="1238" y="71"/>
                  </a:lnTo>
                  <a:lnTo>
                    <a:pt x="1235" y="71"/>
                  </a:lnTo>
                  <a:lnTo>
                    <a:pt x="1235" y="71"/>
                  </a:lnTo>
                  <a:lnTo>
                    <a:pt x="1233" y="70"/>
                  </a:lnTo>
                  <a:lnTo>
                    <a:pt x="1232" y="71"/>
                  </a:lnTo>
                  <a:lnTo>
                    <a:pt x="1230" y="72"/>
                  </a:lnTo>
                  <a:lnTo>
                    <a:pt x="1229" y="72"/>
                  </a:lnTo>
                  <a:lnTo>
                    <a:pt x="1224" y="74"/>
                  </a:lnTo>
                  <a:lnTo>
                    <a:pt x="1223" y="74"/>
                  </a:lnTo>
                  <a:lnTo>
                    <a:pt x="1223" y="74"/>
                  </a:lnTo>
                  <a:lnTo>
                    <a:pt x="1222" y="75"/>
                  </a:lnTo>
                  <a:lnTo>
                    <a:pt x="1219" y="79"/>
                  </a:lnTo>
                  <a:lnTo>
                    <a:pt x="1218" y="80"/>
                  </a:lnTo>
                  <a:lnTo>
                    <a:pt x="1218" y="80"/>
                  </a:lnTo>
                  <a:lnTo>
                    <a:pt x="1217" y="81"/>
                  </a:lnTo>
                  <a:lnTo>
                    <a:pt x="1213" y="84"/>
                  </a:lnTo>
                  <a:lnTo>
                    <a:pt x="1211" y="86"/>
                  </a:lnTo>
                  <a:lnTo>
                    <a:pt x="1211" y="86"/>
                  </a:lnTo>
                  <a:lnTo>
                    <a:pt x="1207" y="83"/>
                  </a:lnTo>
                  <a:lnTo>
                    <a:pt x="1206" y="81"/>
                  </a:lnTo>
                  <a:lnTo>
                    <a:pt x="1206" y="80"/>
                  </a:lnTo>
                  <a:lnTo>
                    <a:pt x="1202" y="78"/>
                  </a:lnTo>
                  <a:lnTo>
                    <a:pt x="1201" y="76"/>
                  </a:lnTo>
                  <a:lnTo>
                    <a:pt x="1201" y="75"/>
                  </a:lnTo>
                  <a:lnTo>
                    <a:pt x="1200" y="75"/>
                  </a:lnTo>
                  <a:lnTo>
                    <a:pt x="1199" y="75"/>
                  </a:lnTo>
                  <a:lnTo>
                    <a:pt x="1194" y="75"/>
                  </a:lnTo>
                  <a:lnTo>
                    <a:pt x="1189" y="75"/>
                  </a:lnTo>
                  <a:lnTo>
                    <a:pt x="1189" y="75"/>
                  </a:lnTo>
                  <a:lnTo>
                    <a:pt x="1185" y="72"/>
                  </a:lnTo>
                  <a:lnTo>
                    <a:pt x="1183" y="70"/>
                  </a:lnTo>
                  <a:lnTo>
                    <a:pt x="1183" y="69"/>
                  </a:lnTo>
                  <a:lnTo>
                    <a:pt x="1182" y="69"/>
                  </a:lnTo>
                  <a:lnTo>
                    <a:pt x="1181" y="69"/>
                  </a:lnTo>
                  <a:lnTo>
                    <a:pt x="1181" y="69"/>
                  </a:lnTo>
                  <a:lnTo>
                    <a:pt x="1179" y="70"/>
                  </a:lnTo>
                  <a:lnTo>
                    <a:pt x="1174" y="72"/>
                  </a:lnTo>
                  <a:lnTo>
                    <a:pt x="1171" y="73"/>
                  </a:lnTo>
                  <a:lnTo>
                    <a:pt x="1171" y="73"/>
                  </a:lnTo>
                  <a:lnTo>
                    <a:pt x="1170" y="73"/>
                  </a:lnTo>
                  <a:lnTo>
                    <a:pt x="1168" y="73"/>
                  </a:lnTo>
                  <a:lnTo>
                    <a:pt x="1165" y="72"/>
                  </a:lnTo>
                  <a:lnTo>
                    <a:pt x="1162" y="71"/>
                  </a:lnTo>
                  <a:lnTo>
                    <a:pt x="1162" y="70"/>
                  </a:lnTo>
                  <a:lnTo>
                    <a:pt x="1160" y="71"/>
                  </a:lnTo>
                  <a:lnTo>
                    <a:pt x="1155" y="72"/>
                  </a:lnTo>
                  <a:lnTo>
                    <a:pt x="1152" y="72"/>
                  </a:lnTo>
                  <a:lnTo>
                    <a:pt x="1152" y="72"/>
                  </a:lnTo>
                  <a:lnTo>
                    <a:pt x="1148" y="70"/>
                  </a:lnTo>
                  <a:lnTo>
                    <a:pt x="1146" y="69"/>
                  </a:lnTo>
                  <a:lnTo>
                    <a:pt x="1146" y="68"/>
                  </a:lnTo>
                  <a:lnTo>
                    <a:pt x="1142" y="67"/>
                  </a:lnTo>
                  <a:lnTo>
                    <a:pt x="1141" y="66"/>
                  </a:lnTo>
                  <a:lnTo>
                    <a:pt x="1141" y="64"/>
                  </a:lnTo>
                  <a:lnTo>
                    <a:pt x="1140" y="64"/>
                  </a:lnTo>
                  <a:lnTo>
                    <a:pt x="1139" y="64"/>
                  </a:lnTo>
                  <a:lnTo>
                    <a:pt x="1135" y="64"/>
                  </a:lnTo>
                  <a:lnTo>
                    <a:pt x="1131" y="64"/>
                  </a:lnTo>
                  <a:lnTo>
                    <a:pt x="1131" y="63"/>
                  </a:lnTo>
                  <a:lnTo>
                    <a:pt x="1130" y="63"/>
                  </a:lnTo>
                  <a:lnTo>
                    <a:pt x="1127" y="62"/>
                  </a:lnTo>
                  <a:lnTo>
                    <a:pt x="1126" y="62"/>
                  </a:lnTo>
                  <a:lnTo>
                    <a:pt x="1126" y="61"/>
                  </a:lnTo>
                  <a:lnTo>
                    <a:pt x="1126" y="60"/>
                  </a:lnTo>
                  <a:lnTo>
                    <a:pt x="1125" y="57"/>
                  </a:lnTo>
                  <a:lnTo>
                    <a:pt x="1125" y="55"/>
                  </a:lnTo>
                  <a:lnTo>
                    <a:pt x="1126" y="53"/>
                  </a:lnTo>
                  <a:lnTo>
                    <a:pt x="1125" y="55"/>
                  </a:lnTo>
                  <a:lnTo>
                    <a:pt x="1123" y="56"/>
                  </a:lnTo>
                  <a:lnTo>
                    <a:pt x="1121" y="56"/>
                  </a:lnTo>
                  <a:lnTo>
                    <a:pt x="1120" y="57"/>
                  </a:lnTo>
                  <a:lnTo>
                    <a:pt x="1116" y="59"/>
                  </a:lnTo>
                  <a:lnTo>
                    <a:pt x="1114" y="60"/>
                  </a:lnTo>
                  <a:lnTo>
                    <a:pt x="1114" y="60"/>
                  </a:lnTo>
                  <a:lnTo>
                    <a:pt x="1111" y="59"/>
                  </a:lnTo>
                  <a:lnTo>
                    <a:pt x="1109" y="58"/>
                  </a:lnTo>
                  <a:lnTo>
                    <a:pt x="1106" y="57"/>
                  </a:lnTo>
                  <a:lnTo>
                    <a:pt x="1105" y="56"/>
                  </a:lnTo>
                  <a:lnTo>
                    <a:pt x="1103" y="57"/>
                  </a:lnTo>
                  <a:lnTo>
                    <a:pt x="1102" y="57"/>
                  </a:lnTo>
                  <a:lnTo>
                    <a:pt x="1102" y="57"/>
                  </a:lnTo>
                  <a:lnTo>
                    <a:pt x="1096" y="56"/>
                  </a:lnTo>
                  <a:lnTo>
                    <a:pt x="1094" y="55"/>
                  </a:lnTo>
                  <a:lnTo>
                    <a:pt x="1094" y="53"/>
                  </a:lnTo>
                  <a:lnTo>
                    <a:pt x="1093" y="53"/>
                  </a:lnTo>
                  <a:lnTo>
                    <a:pt x="1092" y="53"/>
                  </a:lnTo>
                  <a:lnTo>
                    <a:pt x="1089" y="53"/>
                  </a:lnTo>
                  <a:lnTo>
                    <a:pt x="1085" y="53"/>
                  </a:lnTo>
                  <a:lnTo>
                    <a:pt x="1085" y="52"/>
                  </a:lnTo>
                  <a:lnTo>
                    <a:pt x="1083" y="51"/>
                  </a:lnTo>
                  <a:lnTo>
                    <a:pt x="1080" y="48"/>
                  </a:lnTo>
                  <a:lnTo>
                    <a:pt x="1078" y="45"/>
                  </a:lnTo>
                  <a:lnTo>
                    <a:pt x="1078" y="44"/>
                  </a:lnTo>
                  <a:lnTo>
                    <a:pt x="1074" y="40"/>
                  </a:lnTo>
                  <a:lnTo>
                    <a:pt x="1073" y="38"/>
                  </a:lnTo>
                  <a:lnTo>
                    <a:pt x="1073" y="37"/>
                  </a:lnTo>
                  <a:lnTo>
                    <a:pt x="1070" y="36"/>
                  </a:lnTo>
                  <a:lnTo>
                    <a:pt x="1069" y="35"/>
                  </a:lnTo>
                  <a:lnTo>
                    <a:pt x="1069" y="34"/>
                  </a:lnTo>
                  <a:lnTo>
                    <a:pt x="1065" y="36"/>
                  </a:lnTo>
                  <a:lnTo>
                    <a:pt x="1064" y="36"/>
                  </a:lnTo>
                  <a:lnTo>
                    <a:pt x="1064" y="36"/>
                  </a:lnTo>
                  <a:lnTo>
                    <a:pt x="1062" y="38"/>
                  </a:lnTo>
                  <a:lnTo>
                    <a:pt x="1061" y="41"/>
                  </a:lnTo>
                  <a:lnTo>
                    <a:pt x="1061" y="44"/>
                  </a:lnTo>
                  <a:lnTo>
                    <a:pt x="1061" y="44"/>
                  </a:lnTo>
                  <a:lnTo>
                    <a:pt x="1058" y="43"/>
                  </a:lnTo>
                  <a:lnTo>
                    <a:pt x="1057" y="41"/>
                  </a:lnTo>
                  <a:lnTo>
                    <a:pt x="1053" y="38"/>
                  </a:lnTo>
                  <a:lnTo>
                    <a:pt x="1052" y="37"/>
                  </a:lnTo>
                  <a:lnTo>
                    <a:pt x="1052" y="36"/>
                  </a:lnTo>
                  <a:lnTo>
                    <a:pt x="1047" y="34"/>
                  </a:lnTo>
                  <a:lnTo>
                    <a:pt x="1046" y="33"/>
                  </a:lnTo>
                  <a:lnTo>
                    <a:pt x="1046" y="32"/>
                  </a:lnTo>
                  <a:lnTo>
                    <a:pt x="1044" y="28"/>
                  </a:lnTo>
                  <a:lnTo>
                    <a:pt x="1044" y="26"/>
                  </a:lnTo>
                  <a:lnTo>
                    <a:pt x="1044" y="25"/>
                  </a:lnTo>
                  <a:lnTo>
                    <a:pt x="1039" y="26"/>
                  </a:lnTo>
                  <a:lnTo>
                    <a:pt x="1038" y="26"/>
                  </a:lnTo>
                  <a:lnTo>
                    <a:pt x="1038" y="26"/>
                  </a:lnTo>
                  <a:lnTo>
                    <a:pt x="1036" y="24"/>
                  </a:lnTo>
                  <a:lnTo>
                    <a:pt x="1035" y="23"/>
                  </a:lnTo>
                  <a:lnTo>
                    <a:pt x="1035" y="22"/>
                  </a:lnTo>
                  <a:lnTo>
                    <a:pt x="1034" y="22"/>
                  </a:lnTo>
                  <a:lnTo>
                    <a:pt x="1033" y="22"/>
                  </a:lnTo>
                  <a:lnTo>
                    <a:pt x="1032" y="22"/>
                  </a:lnTo>
                  <a:lnTo>
                    <a:pt x="1032" y="22"/>
                  </a:lnTo>
                  <a:lnTo>
                    <a:pt x="1031" y="23"/>
                  </a:lnTo>
                  <a:lnTo>
                    <a:pt x="1030" y="23"/>
                  </a:lnTo>
                  <a:lnTo>
                    <a:pt x="1030" y="25"/>
                  </a:lnTo>
                  <a:lnTo>
                    <a:pt x="1029" y="28"/>
                  </a:lnTo>
                  <a:lnTo>
                    <a:pt x="1029" y="32"/>
                  </a:lnTo>
                  <a:lnTo>
                    <a:pt x="1030" y="32"/>
                  </a:lnTo>
                  <a:lnTo>
                    <a:pt x="1029" y="33"/>
                  </a:lnTo>
                  <a:lnTo>
                    <a:pt x="1026" y="36"/>
                  </a:lnTo>
                  <a:lnTo>
                    <a:pt x="1025" y="37"/>
                  </a:lnTo>
                  <a:lnTo>
                    <a:pt x="1025" y="37"/>
                  </a:lnTo>
                  <a:lnTo>
                    <a:pt x="1023" y="35"/>
                  </a:lnTo>
                  <a:lnTo>
                    <a:pt x="1023" y="33"/>
                  </a:lnTo>
                  <a:lnTo>
                    <a:pt x="1022" y="28"/>
                  </a:lnTo>
                  <a:lnTo>
                    <a:pt x="1022" y="25"/>
                  </a:lnTo>
                  <a:lnTo>
                    <a:pt x="1022" y="24"/>
                  </a:lnTo>
                  <a:lnTo>
                    <a:pt x="1020" y="22"/>
                  </a:lnTo>
                  <a:lnTo>
                    <a:pt x="1019" y="21"/>
                  </a:lnTo>
                  <a:lnTo>
                    <a:pt x="1019" y="20"/>
                  </a:lnTo>
                  <a:lnTo>
                    <a:pt x="1018" y="21"/>
                  </a:lnTo>
                  <a:lnTo>
                    <a:pt x="1017" y="22"/>
                  </a:lnTo>
                  <a:lnTo>
                    <a:pt x="1015" y="23"/>
                  </a:lnTo>
                  <a:lnTo>
                    <a:pt x="1015" y="23"/>
                  </a:lnTo>
                  <a:lnTo>
                    <a:pt x="1013" y="27"/>
                  </a:lnTo>
                  <a:lnTo>
                    <a:pt x="1013" y="28"/>
                  </a:lnTo>
                  <a:lnTo>
                    <a:pt x="1013" y="28"/>
                  </a:lnTo>
                  <a:lnTo>
                    <a:pt x="1010" y="27"/>
                  </a:lnTo>
                  <a:lnTo>
                    <a:pt x="1009" y="26"/>
                  </a:lnTo>
                  <a:lnTo>
                    <a:pt x="1007" y="27"/>
                  </a:lnTo>
                  <a:lnTo>
                    <a:pt x="1006" y="27"/>
                  </a:lnTo>
                  <a:lnTo>
                    <a:pt x="1006" y="27"/>
                  </a:lnTo>
                  <a:lnTo>
                    <a:pt x="1004" y="28"/>
                  </a:lnTo>
                  <a:lnTo>
                    <a:pt x="1004" y="28"/>
                  </a:lnTo>
                  <a:lnTo>
                    <a:pt x="1010" y="31"/>
                  </a:lnTo>
                  <a:lnTo>
                    <a:pt x="1013" y="32"/>
                  </a:lnTo>
                  <a:lnTo>
                    <a:pt x="1014" y="32"/>
                  </a:lnTo>
                  <a:lnTo>
                    <a:pt x="1018" y="36"/>
                  </a:lnTo>
                  <a:lnTo>
                    <a:pt x="1019" y="38"/>
                  </a:lnTo>
                  <a:lnTo>
                    <a:pt x="1020" y="38"/>
                  </a:lnTo>
                  <a:lnTo>
                    <a:pt x="1021" y="39"/>
                  </a:lnTo>
                  <a:lnTo>
                    <a:pt x="1024" y="43"/>
                  </a:lnTo>
                  <a:lnTo>
                    <a:pt x="1027" y="44"/>
                  </a:lnTo>
                  <a:lnTo>
                    <a:pt x="1029" y="44"/>
                  </a:lnTo>
                  <a:lnTo>
                    <a:pt x="1030" y="44"/>
                  </a:lnTo>
                  <a:lnTo>
                    <a:pt x="1033" y="43"/>
                  </a:lnTo>
                  <a:lnTo>
                    <a:pt x="1036" y="43"/>
                  </a:lnTo>
                  <a:lnTo>
                    <a:pt x="1037" y="41"/>
                  </a:lnTo>
                  <a:lnTo>
                    <a:pt x="1044" y="43"/>
                  </a:lnTo>
                  <a:lnTo>
                    <a:pt x="1047" y="43"/>
                  </a:lnTo>
                  <a:lnTo>
                    <a:pt x="1048" y="43"/>
                  </a:lnTo>
                  <a:lnTo>
                    <a:pt x="1052" y="47"/>
                  </a:lnTo>
                  <a:lnTo>
                    <a:pt x="1054" y="49"/>
                  </a:lnTo>
                  <a:lnTo>
                    <a:pt x="1055" y="49"/>
                  </a:lnTo>
                  <a:lnTo>
                    <a:pt x="1055" y="52"/>
                  </a:lnTo>
                  <a:lnTo>
                    <a:pt x="1054" y="59"/>
                  </a:lnTo>
                  <a:lnTo>
                    <a:pt x="1054" y="63"/>
                  </a:lnTo>
                  <a:lnTo>
                    <a:pt x="1055" y="63"/>
                  </a:lnTo>
                  <a:lnTo>
                    <a:pt x="1055" y="64"/>
                  </a:lnTo>
                  <a:lnTo>
                    <a:pt x="1055" y="66"/>
                  </a:lnTo>
                  <a:lnTo>
                    <a:pt x="1055" y="71"/>
                  </a:lnTo>
                  <a:lnTo>
                    <a:pt x="1055" y="75"/>
                  </a:lnTo>
                  <a:lnTo>
                    <a:pt x="1056" y="75"/>
                  </a:lnTo>
                  <a:lnTo>
                    <a:pt x="1055" y="76"/>
                  </a:lnTo>
                  <a:lnTo>
                    <a:pt x="1049" y="80"/>
                  </a:lnTo>
                  <a:lnTo>
                    <a:pt x="1046" y="82"/>
                  </a:lnTo>
                  <a:lnTo>
                    <a:pt x="1046" y="82"/>
                  </a:lnTo>
                  <a:lnTo>
                    <a:pt x="1042" y="84"/>
                  </a:lnTo>
                  <a:lnTo>
                    <a:pt x="1039" y="84"/>
                  </a:lnTo>
                  <a:lnTo>
                    <a:pt x="1039" y="84"/>
                  </a:lnTo>
                  <a:lnTo>
                    <a:pt x="1036" y="85"/>
                  </a:lnTo>
                  <a:lnTo>
                    <a:pt x="1030" y="88"/>
                  </a:lnTo>
                  <a:lnTo>
                    <a:pt x="1024" y="90"/>
                  </a:lnTo>
                  <a:lnTo>
                    <a:pt x="1024" y="90"/>
                  </a:lnTo>
                  <a:lnTo>
                    <a:pt x="1023" y="90"/>
                  </a:lnTo>
                  <a:lnTo>
                    <a:pt x="1022" y="90"/>
                  </a:lnTo>
                  <a:lnTo>
                    <a:pt x="1019" y="90"/>
                  </a:lnTo>
                  <a:lnTo>
                    <a:pt x="1015" y="90"/>
                  </a:lnTo>
                  <a:lnTo>
                    <a:pt x="1015" y="90"/>
                  </a:lnTo>
                  <a:lnTo>
                    <a:pt x="1014" y="90"/>
                  </a:lnTo>
                  <a:lnTo>
                    <a:pt x="1013" y="90"/>
                  </a:lnTo>
                  <a:lnTo>
                    <a:pt x="1009" y="88"/>
                  </a:lnTo>
                  <a:lnTo>
                    <a:pt x="1006" y="88"/>
                  </a:lnTo>
                  <a:lnTo>
                    <a:pt x="1006" y="87"/>
                  </a:lnTo>
                  <a:lnTo>
                    <a:pt x="1002" y="88"/>
                  </a:lnTo>
                  <a:lnTo>
                    <a:pt x="996" y="90"/>
                  </a:lnTo>
                  <a:lnTo>
                    <a:pt x="991" y="90"/>
                  </a:lnTo>
                  <a:lnTo>
                    <a:pt x="991" y="90"/>
                  </a:lnTo>
                  <a:lnTo>
                    <a:pt x="990" y="90"/>
                  </a:lnTo>
                  <a:lnTo>
                    <a:pt x="989" y="90"/>
                  </a:lnTo>
                  <a:lnTo>
                    <a:pt x="986" y="88"/>
                  </a:lnTo>
                  <a:lnTo>
                    <a:pt x="983" y="88"/>
                  </a:lnTo>
                  <a:lnTo>
                    <a:pt x="983" y="87"/>
                  </a:lnTo>
                  <a:lnTo>
                    <a:pt x="982" y="87"/>
                  </a:lnTo>
                  <a:lnTo>
                    <a:pt x="979" y="87"/>
                  </a:lnTo>
                  <a:lnTo>
                    <a:pt x="978" y="87"/>
                  </a:lnTo>
                  <a:lnTo>
                    <a:pt x="978" y="87"/>
                  </a:lnTo>
                  <a:lnTo>
                    <a:pt x="977" y="92"/>
                  </a:lnTo>
                  <a:lnTo>
                    <a:pt x="977" y="93"/>
                  </a:lnTo>
                  <a:lnTo>
                    <a:pt x="977" y="93"/>
                  </a:lnTo>
                  <a:lnTo>
                    <a:pt x="972" y="92"/>
                  </a:lnTo>
                  <a:lnTo>
                    <a:pt x="970" y="91"/>
                  </a:lnTo>
                  <a:lnTo>
                    <a:pt x="970" y="90"/>
                  </a:lnTo>
                  <a:lnTo>
                    <a:pt x="968" y="90"/>
                  </a:lnTo>
                  <a:lnTo>
                    <a:pt x="965" y="88"/>
                  </a:lnTo>
                  <a:lnTo>
                    <a:pt x="963" y="88"/>
                  </a:lnTo>
                  <a:lnTo>
                    <a:pt x="963" y="87"/>
                  </a:lnTo>
                  <a:lnTo>
                    <a:pt x="962" y="88"/>
                  </a:lnTo>
                  <a:lnTo>
                    <a:pt x="959" y="94"/>
                  </a:lnTo>
                  <a:lnTo>
                    <a:pt x="956" y="97"/>
                  </a:lnTo>
                  <a:lnTo>
                    <a:pt x="956" y="97"/>
                  </a:lnTo>
                  <a:lnTo>
                    <a:pt x="955" y="98"/>
                  </a:lnTo>
                  <a:lnTo>
                    <a:pt x="954" y="99"/>
                  </a:lnTo>
                  <a:lnTo>
                    <a:pt x="953" y="99"/>
                  </a:lnTo>
                  <a:lnTo>
                    <a:pt x="956" y="106"/>
                  </a:lnTo>
                  <a:lnTo>
                    <a:pt x="959" y="109"/>
                  </a:lnTo>
                  <a:lnTo>
                    <a:pt x="960" y="109"/>
                  </a:lnTo>
                  <a:lnTo>
                    <a:pt x="959" y="111"/>
                  </a:lnTo>
                  <a:lnTo>
                    <a:pt x="959" y="115"/>
                  </a:lnTo>
                  <a:lnTo>
                    <a:pt x="959" y="118"/>
                  </a:lnTo>
                  <a:lnTo>
                    <a:pt x="959" y="118"/>
                  </a:lnTo>
                  <a:lnTo>
                    <a:pt x="957" y="117"/>
                  </a:lnTo>
                  <a:lnTo>
                    <a:pt x="955" y="114"/>
                  </a:lnTo>
                  <a:lnTo>
                    <a:pt x="954" y="111"/>
                  </a:lnTo>
                  <a:lnTo>
                    <a:pt x="954" y="110"/>
                  </a:lnTo>
                  <a:lnTo>
                    <a:pt x="949" y="107"/>
                  </a:lnTo>
                  <a:lnTo>
                    <a:pt x="947" y="106"/>
                  </a:lnTo>
                  <a:lnTo>
                    <a:pt x="947" y="105"/>
                  </a:lnTo>
                  <a:lnTo>
                    <a:pt x="945" y="105"/>
                  </a:lnTo>
                  <a:lnTo>
                    <a:pt x="944" y="105"/>
                  </a:lnTo>
                  <a:lnTo>
                    <a:pt x="941" y="105"/>
                  </a:lnTo>
                  <a:lnTo>
                    <a:pt x="938" y="105"/>
                  </a:lnTo>
                  <a:lnTo>
                    <a:pt x="938" y="104"/>
                  </a:lnTo>
                  <a:lnTo>
                    <a:pt x="937" y="106"/>
                  </a:lnTo>
                  <a:lnTo>
                    <a:pt x="937" y="109"/>
                  </a:lnTo>
                  <a:lnTo>
                    <a:pt x="937" y="113"/>
                  </a:lnTo>
                  <a:lnTo>
                    <a:pt x="937" y="113"/>
                  </a:lnTo>
                  <a:lnTo>
                    <a:pt x="935" y="114"/>
                  </a:lnTo>
                  <a:lnTo>
                    <a:pt x="930" y="115"/>
                  </a:lnTo>
                  <a:lnTo>
                    <a:pt x="927" y="116"/>
                  </a:lnTo>
                  <a:lnTo>
                    <a:pt x="927" y="116"/>
                  </a:lnTo>
                  <a:lnTo>
                    <a:pt x="925" y="117"/>
                  </a:lnTo>
                  <a:lnTo>
                    <a:pt x="920" y="118"/>
                  </a:lnTo>
                  <a:lnTo>
                    <a:pt x="917" y="119"/>
                  </a:lnTo>
                  <a:lnTo>
                    <a:pt x="917" y="119"/>
                  </a:lnTo>
                  <a:lnTo>
                    <a:pt x="916" y="121"/>
                  </a:lnTo>
                  <a:lnTo>
                    <a:pt x="914" y="127"/>
                  </a:lnTo>
                  <a:lnTo>
                    <a:pt x="913" y="131"/>
                  </a:lnTo>
                  <a:lnTo>
                    <a:pt x="913" y="131"/>
                  </a:lnTo>
                  <a:lnTo>
                    <a:pt x="913" y="133"/>
                  </a:lnTo>
                  <a:lnTo>
                    <a:pt x="912" y="138"/>
                  </a:lnTo>
                  <a:lnTo>
                    <a:pt x="912" y="141"/>
                  </a:lnTo>
                  <a:lnTo>
                    <a:pt x="913" y="141"/>
                  </a:lnTo>
                  <a:lnTo>
                    <a:pt x="910" y="145"/>
                  </a:lnTo>
                  <a:lnTo>
                    <a:pt x="910" y="148"/>
                  </a:lnTo>
                  <a:lnTo>
                    <a:pt x="910" y="148"/>
                  </a:lnTo>
                  <a:lnTo>
                    <a:pt x="912" y="148"/>
                  </a:lnTo>
                  <a:lnTo>
                    <a:pt x="915" y="148"/>
                  </a:lnTo>
                  <a:lnTo>
                    <a:pt x="918" y="148"/>
                  </a:lnTo>
                  <a:lnTo>
                    <a:pt x="919" y="148"/>
                  </a:lnTo>
                  <a:lnTo>
                    <a:pt x="919" y="149"/>
                  </a:lnTo>
                  <a:lnTo>
                    <a:pt x="919" y="150"/>
                  </a:lnTo>
                  <a:lnTo>
                    <a:pt x="919" y="156"/>
                  </a:lnTo>
                  <a:lnTo>
                    <a:pt x="919" y="161"/>
                  </a:lnTo>
                  <a:lnTo>
                    <a:pt x="920" y="161"/>
                  </a:lnTo>
                  <a:lnTo>
                    <a:pt x="919" y="162"/>
                  </a:lnTo>
                  <a:lnTo>
                    <a:pt x="916" y="165"/>
                  </a:lnTo>
                  <a:lnTo>
                    <a:pt x="914" y="167"/>
                  </a:lnTo>
                  <a:lnTo>
                    <a:pt x="914" y="167"/>
                  </a:lnTo>
                  <a:lnTo>
                    <a:pt x="912" y="168"/>
                  </a:lnTo>
                  <a:lnTo>
                    <a:pt x="906" y="168"/>
                  </a:lnTo>
                  <a:lnTo>
                    <a:pt x="903" y="168"/>
                  </a:lnTo>
                  <a:lnTo>
                    <a:pt x="903" y="168"/>
                  </a:lnTo>
                  <a:lnTo>
                    <a:pt x="902" y="168"/>
                  </a:lnTo>
                  <a:lnTo>
                    <a:pt x="901" y="168"/>
                  </a:lnTo>
                  <a:lnTo>
                    <a:pt x="897" y="167"/>
                  </a:lnTo>
                  <a:lnTo>
                    <a:pt x="895" y="167"/>
                  </a:lnTo>
                  <a:lnTo>
                    <a:pt x="895" y="166"/>
                  </a:lnTo>
                  <a:lnTo>
                    <a:pt x="894" y="167"/>
                  </a:lnTo>
                  <a:lnTo>
                    <a:pt x="891" y="172"/>
                  </a:lnTo>
                  <a:lnTo>
                    <a:pt x="890" y="174"/>
                  </a:lnTo>
                  <a:lnTo>
                    <a:pt x="890" y="174"/>
                  </a:lnTo>
                  <a:lnTo>
                    <a:pt x="890" y="175"/>
                  </a:lnTo>
                  <a:lnTo>
                    <a:pt x="890" y="176"/>
                  </a:lnTo>
                  <a:lnTo>
                    <a:pt x="890" y="179"/>
                  </a:lnTo>
                  <a:lnTo>
                    <a:pt x="890" y="181"/>
                  </a:lnTo>
                  <a:lnTo>
                    <a:pt x="891" y="181"/>
                  </a:lnTo>
                  <a:lnTo>
                    <a:pt x="890" y="183"/>
                  </a:lnTo>
                  <a:lnTo>
                    <a:pt x="886" y="189"/>
                  </a:lnTo>
                  <a:lnTo>
                    <a:pt x="884" y="194"/>
                  </a:lnTo>
                  <a:lnTo>
                    <a:pt x="884" y="194"/>
                  </a:lnTo>
                  <a:lnTo>
                    <a:pt x="883" y="195"/>
                  </a:lnTo>
                  <a:lnTo>
                    <a:pt x="880" y="198"/>
                  </a:lnTo>
                  <a:lnTo>
                    <a:pt x="879" y="200"/>
                  </a:lnTo>
                  <a:lnTo>
                    <a:pt x="879" y="200"/>
                  </a:lnTo>
                  <a:lnTo>
                    <a:pt x="878" y="201"/>
                  </a:lnTo>
                  <a:lnTo>
                    <a:pt x="876" y="202"/>
                  </a:lnTo>
                  <a:lnTo>
                    <a:pt x="874" y="203"/>
                  </a:lnTo>
                  <a:lnTo>
                    <a:pt x="874" y="203"/>
                  </a:lnTo>
                  <a:lnTo>
                    <a:pt x="872" y="202"/>
                  </a:lnTo>
                  <a:lnTo>
                    <a:pt x="871" y="201"/>
                  </a:lnTo>
                  <a:lnTo>
                    <a:pt x="870" y="204"/>
                  </a:lnTo>
                  <a:lnTo>
                    <a:pt x="867" y="212"/>
                  </a:lnTo>
                  <a:lnTo>
                    <a:pt x="866" y="219"/>
                  </a:lnTo>
                  <a:lnTo>
                    <a:pt x="866" y="219"/>
                  </a:lnTo>
                  <a:lnTo>
                    <a:pt x="867" y="221"/>
                  </a:lnTo>
                  <a:lnTo>
                    <a:pt x="871" y="226"/>
                  </a:lnTo>
                  <a:lnTo>
                    <a:pt x="874" y="231"/>
                  </a:lnTo>
                  <a:lnTo>
                    <a:pt x="876" y="231"/>
                  </a:lnTo>
                  <a:lnTo>
                    <a:pt x="878" y="234"/>
                  </a:lnTo>
                  <a:lnTo>
                    <a:pt x="884" y="242"/>
                  </a:lnTo>
                  <a:lnTo>
                    <a:pt x="889" y="247"/>
                  </a:lnTo>
                  <a:lnTo>
                    <a:pt x="890" y="247"/>
                  </a:lnTo>
                  <a:lnTo>
                    <a:pt x="889" y="248"/>
                  </a:lnTo>
                  <a:lnTo>
                    <a:pt x="889" y="248"/>
                  </a:lnTo>
                  <a:lnTo>
                    <a:pt x="888" y="249"/>
                  </a:lnTo>
                  <a:lnTo>
                    <a:pt x="883" y="251"/>
                  </a:lnTo>
                  <a:lnTo>
                    <a:pt x="881" y="253"/>
                  </a:lnTo>
                  <a:lnTo>
                    <a:pt x="881" y="253"/>
                  </a:lnTo>
                  <a:lnTo>
                    <a:pt x="881" y="254"/>
                  </a:lnTo>
                  <a:lnTo>
                    <a:pt x="881" y="256"/>
                  </a:lnTo>
                  <a:lnTo>
                    <a:pt x="883" y="264"/>
                  </a:lnTo>
                  <a:lnTo>
                    <a:pt x="884" y="269"/>
                  </a:lnTo>
                  <a:lnTo>
                    <a:pt x="885" y="269"/>
                  </a:lnTo>
                  <a:lnTo>
                    <a:pt x="882" y="270"/>
                  </a:lnTo>
                  <a:lnTo>
                    <a:pt x="881" y="270"/>
                  </a:lnTo>
                  <a:lnTo>
                    <a:pt x="881" y="270"/>
                  </a:lnTo>
                  <a:lnTo>
                    <a:pt x="878" y="269"/>
                  </a:lnTo>
                  <a:lnTo>
                    <a:pt x="871" y="262"/>
                  </a:lnTo>
                  <a:lnTo>
                    <a:pt x="866" y="258"/>
                  </a:lnTo>
                  <a:lnTo>
                    <a:pt x="866" y="257"/>
                  </a:lnTo>
                  <a:lnTo>
                    <a:pt x="861" y="254"/>
                  </a:lnTo>
                  <a:lnTo>
                    <a:pt x="860" y="253"/>
                  </a:lnTo>
                  <a:lnTo>
                    <a:pt x="860" y="251"/>
                  </a:lnTo>
                  <a:lnTo>
                    <a:pt x="856" y="250"/>
                  </a:lnTo>
                  <a:lnTo>
                    <a:pt x="854" y="249"/>
                  </a:lnTo>
                  <a:lnTo>
                    <a:pt x="854" y="248"/>
                  </a:lnTo>
                  <a:lnTo>
                    <a:pt x="851" y="249"/>
                  </a:lnTo>
                  <a:lnTo>
                    <a:pt x="845" y="250"/>
                  </a:lnTo>
                  <a:lnTo>
                    <a:pt x="841" y="250"/>
                  </a:lnTo>
                  <a:lnTo>
                    <a:pt x="841" y="250"/>
                  </a:lnTo>
                  <a:lnTo>
                    <a:pt x="838" y="251"/>
                  </a:lnTo>
                  <a:lnTo>
                    <a:pt x="832" y="251"/>
                  </a:lnTo>
                  <a:lnTo>
                    <a:pt x="827" y="251"/>
                  </a:lnTo>
                  <a:lnTo>
                    <a:pt x="827" y="251"/>
                  </a:lnTo>
                  <a:lnTo>
                    <a:pt x="826" y="251"/>
                  </a:lnTo>
                  <a:lnTo>
                    <a:pt x="825" y="251"/>
                  </a:lnTo>
                  <a:lnTo>
                    <a:pt x="821" y="250"/>
                  </a:lnTo>
                  <a:lnTo>
                    <a:pt x="818" y="249"/>
                  </a:lnTo>
                  <a:lnTo>
                    <a:pt x="818" y="248"/>
                  </a:lnTo>
                  <a:lnTo>
                    <a:pt x="816" y="249"/>
                  </a:lnTo>
                  <a:lnTo>
                    <a:pt x="814" y="250"/>
                  </a:lnTo>
                  <a:lnTo>
                    <a:pt x="813" y="251"/>
                  </a:lnTo>
                  <a:lnTo>
                    <a:pt x="813" y="251"/>
                  </a:lnTo>
                  <a:lnTo>
                    <a:pt x="813" y="253"/>
                  </a:lnTo>
                  <a:lnTo>
                    <a:pt x="813" y="256"/>
                  </a:lnTo>
                  <a:lnTo>
                    <a:pt x="813" y="258"/>
                  </a:lnTo>
                  <a:lnTo>
                    <a:pt x="814" y="258"/>
                  </a:lnTo>
                  <a:lnTo>
                    <a:pt x="813" y="258"/>
                  </a:lnTo>
                  <a:lnTo>
                    <a:pt x="812" y="258"/>
                  </a:lnTo>
                  <a:lnTo>
                    <a:pt x="809" y="258"/>
                  </a:lnTo>
                  <a:lnTo>
                    <a:pt x="807" y="258"/>
                  </a:lnTo>
                  <a:lnTo>
                    <a:pt x="807" y="257"/>
                  </a:lnTo>
                  <a:lnTo>
                    <a:pt x="806" y="258"/>
                  </a:lnTo>
                  <a:lnTo>
                    <a:pt x="806" y="258"/>
                  </a:lnTo>
                  <a:lnTo>
                    <a:pt x="804" y="258"/>
                  </a:lnTo>
                  <a:lnTo>
                    <a:pt x="803" y="258"/>
                  </a:lnTo>
                  <a:lnTo>
                    <a:pt x="802" y="258"/>
                  </a:lnTo>
                  <a:lnTo>
                    <a:pt x="802" y="258"/>
                  </a:lnTo>
                  <a:lnTo>
                    <a:pt x="801" y="259"/>
                  </a:lnTo>
                  <a:lnTo>
                    <a:pt x="798" y="262"/>
                  </a:lnTo>
                  <a:lnTo>
                    <a:pt x="797" y="264"/>
                  </a:lnTo>
                  <a:lnTo>
                    <a:pt x="797" y="264"/>
                  </a:lnTo>
                  <a:lnTo>
                    <a:pt x="797" y="265"/>
                  </a:lnTo>
                  <a:lnTo>
                    <a:pt x="797" y="265"/>
                  </a:lnTo>
                  <a:lnTo>
                    <a:pt x="798" y="267"/>
                  </a:lnTo>
                  <a:lnTo>
                    <a:pt x="797" y="269"/>
                  </a:lnTo>
                  <a:lnTo>
                    <a:pt x="797" y="272"/>
                  </a:lnTo>
                  <a:lnTo>
                    <a:pt x="797" y="274"/>
                  </a:lnTo>
                  <a:lnTo>
                    <a:pt x="797" y="274"/>
                  </a:lnTo>
                  <a:lnTo>
                    <a:pt x="796" y="276"/>
                  </a:lnTo>
                  <a:lnTo>
                    <a:pt x="795" y="277"/>
                  </a:lnTo>
                  <a:lnTo>
                    <a:pt x="795" y="278"/>
                  </a:lnTo>
                  <a:lnTo>
                    <a:pt x="792" y="277"/>
                  </a:lnTo>
                  <a:lnTo>
                    <a:pt x="791" y="279"/>
                  </a:lnTo>
                  <a:lnTo>
                    <a:pt x="791" y="283"/>
                  </a:lnTo>
                  <a:lnTo>
                    <a:pt x="791" y="286"/>
                  </a:lnTo>
                  <a:lnTo>
                    <a:pt x="791" y="286"/>
                  </a:lnTo>
                  <a:lnTo>
                    <a:pt x="790" y="288"/>
                  </a:lnTo>
                  <a:lnTo>
                    <a:pt x="789" y="289"/>
                  </a:lnTo>
                  <a:lnTo>
                    <a:pt x="786" y="294"/>
                  </a:lnTo>
                  <a:lnTo>
                    <a:pt x="783" y="299"/>
                  </a:lnTo>
                  <a:lnTo>
                    <a:pt x="783" y="299"/>
                  </a:lnTo>
                  <a:lnTo>
                    <a:pt x="783" y="297"/>
                  </a:lnTo>
                  <a:lnTo>
                    <a:pt x="784" y="294"/>
                  </a:lnTo>
                  <a:lnTo>
                    <a:pt x="785" y="291"/>
                  </a:lnTo>
                  <a:lnTo>
                    <a:pt x="786" y="290"/>
                  </a:lnTo>
                  <a:lnTo>
                    <a:pt x="787" y="286"/>
                  </a:lnTo>
                  <a:lnTo>
                    <a:pt x="788" y="285"/>
                  </a:lnTo>
                  <a:lnTo>
                    <a:pt x="789" y="284"/>
                  </a:lnTo>
                  <a:lnTo>
                    <a:pt x="789" y="283"/>
                  </a:lnTo>
                  <a:lnTo>
                    <a:pt x="790" y="279"/>
                  </a:lnTo>
                  <a:lnTo>
                    <a:pt x="790" y="276"/>
                  </a:lnTo>
                  <a:lnTo>
                    <a:pt x="791" y="274"/>
                  </a:lnTo>
                  <a:lnTo>
                    <a:pt x="791" y="273"/>
                  </a:lnTo>
                  <a:lnTo>
                    <a:pt x="790" y="268"/>
                  </a:lnTo>
                  <a:lnTo>
                    <a:pt x="790" y="264"/>
                  </a:lnTo>
                  <a:lnTo>
                    <a:pt x="791" y="262"/>
                  </a:lnTo>
                  <a:lnTo>
                    <a:pt x="791" y="260"/>
                  </a:lnTo>
                  <a:lnTo>
                    <a:pt x="792" y="251"/>
                  </a:lnTo>
                  <a:lnTo>
                    <a:pt x="794" y="245"/>
                  </a:lnTo>
                  <a:lnTo>
                    <a:pt x="795" y="244"/>
                  </a:lnTo>
                  <a:lnTo>
                    <a:pt x="789" y="242"/>
                  </a:lnTo>
                  <a:lnTo>
                    <a:pt x="787" y="241"/>
                  </a:lnTo>
                  <a:lnTo>
                    <a:pt x="787" y="239"/>
                  </a:lnTo>
                  <a:lnTo>
                    <a:pt x="781" y="236"/>
                  </a:lnTo>
                  <a:lnTo>
                    <a:pt x="778" y="235"/>
                  </a:lnTo>
                  <a:lnTo>
                    <a:pt x="778" y="234"/>
                  </a:lnTo>
                  <a:lnTo>
                    <a:pt x="775" y="231"/>
                  </a:lnTo>
                  <a:lnTo>
                    <a:pt x="766" y="220"/>
                  </a:lnTo>
                  <a:lnTo>
                    <a:pt x="760" y="212"/>
                  </a:lnTo>
                  <a:lnTo>
                    <a:pt x="760" y="211"/>
                  </a:lnTo>
                  <a:lnTo>
                    <a:pt x="757" y="210"/>
                  </a:lnTo>
                  <a:lnTo>
                    <a:pt x="754" y="207"/>
                  </a:lnTo>
                  <a:lnTo>
                    <a:pt x="751" y="204"/>
                  </a:lnTo>
                  <a:lnTo>
                    <a:pt x="751" y="203"/>
                  </a:lnTo>
                  <a:lnTo>
                    <a:pt x="744" y="200"/>
                  </a:lnTo>
                  <a:lnTo>
                    <a:pt x="741" y="199"/>
                  </a:lnTo>
                  <a:lnTo>
                    <a:pt x="741" y="198"/>
                  </a:lnTo>
                  <a:lnTo>
                    <a:pt x="739" y="199"/>
                  </a:lnTo>
                  <a:lnTo>
                    <a:pt x="733" y="199"/>
                  </a:lnTo>
                  <a:lnTo>
                    <a:pt x="729" y="199"/>
                  </a:lnTo>
                  <a:lnTo>
                    <a:pt x="729" y="199"/>
                  </a:lnTo>
                  <a:lnTo>
                    <a:pt x="728" y="199"/>
                  </a:lnTo>
                  <a:lnTo>
                    <a:pt x="727" y="199"/>
                  </a:lnTo>
                  <a:lnTo>
                    <a:pt x="724" y="198"/>
                  </a:lnTo>
                  <a:lnTo>
                    <a:pt x="720" y="197"/>
                  </a:lnTo>
                  <a:lnTo>
                    <a:pt x="720" y="196"/>
                  </a:lnTo>
                  <a:lnTo>
                    <a:pt x="718" y="195"/>
                  </a:lnTo>
                  <a:lnTo>
                    <a:pt x="717" y="194"/>
                  </a:lnTo>
                  <a:lnTo>
                    <a:pt x="715" y="195"/>
                  </a:lnTo>
                  <a:lnTo>
                    <a:pt x="712" y="195"/>
                  </a:lnTo>
                  <a:lnTo>
                    <a:pt x="708" y="195"/>
                  </a:lnTo>
                  <a:lnTo>
                    <a:pt x="708" y="195"/>
                  </a:lnTo>
                  <a:lnTo>
                    <a:pt x="709" y="200"/>
                  </a:lnTo>
                  <a:lnTo>
                    <a:pt x="710" y="202"/>
                  </a:lnTo>
                  <a:lnTo>
                    <a:pt x="712" y="202"/>
                  </a:lnTo>
                  <a:lnTo>
                    <a:pt x="710" y="203"/>
                  </a:lnTo>
                  <a:lnTo>
                    <a:pt x="708" y="204"/>
                  </a:lnTo>
                  <a:lnTo>
                    <a:pt x="707" y="206"/>
                  </a:lnTo>
                  <a:lnTo>
                    <a:pt x="707" y="206"/>
                  </a:lnTo>
                  <a:lnTo>
                    <a:pt x="706" y="207"/>
                  </a:lnTo>
                  <a:lnTo>
                    <a:pt x="705" y="208"/>
                  </a:lnTo>
                  <a:lnTo>
                    <a:pt x="699" y="211"/>
                  </a:lnTo>
                  <a:lnTo>
                    <a:pt x="695" y="214"/>
                  </a:lnTo>
                  <a:lnTo>
                    <a:pt x="695" y="214"/>
                  </a:lnTo>
                  <a:lnTo>
                    <a:pt x="691" y="215"/>
                  </a:lnTo>
                  <a:lnTo>
                    <a:pt x="689" y="215"/>
                  </a:lnTo>
                  <a:lnTo>
                    <a:pt x="689" y="215"/>
                  </a:lnTo>
                  <a:lnTo>
                    <a:pt x="687" y="212"/>
                  </a:lnTo>
                  <a:lnTo>
                    <a:pt x="687" y="211"/>
                  </a:lnTo>
                  <a:lnTo>
                    <a:pt x="687" y="210"/>
                  </a:lnTo>
                  <a:lnTo>
                    <a:pt x="685" y="209"/>
                  </a:lnTo>
                  <a:lnTo>
                    <a:pt x="684" y="210"/>
                  </a:lnTo>
                  <a:lnTo>
                    <a:pt x="682" y="214"/>
                  </a:lnTo>
                  <a:lnTo>
                    <a:pt x="681" y="216"/>
                  </a:lnTo>
                  <a:lnTo>
                    <a:pt x="681" y="216"/>
                  </a:lnTo>
                  <a:lnTo>
                    <a:pt x="680" y="218"/>
                  </a:lnTo>
                  <a:lnTo>
                    <a:pt x="677" y="220"/>
                  </a:lnTo>
                  <a:lnTo>
                    <a:pt x="674" y="221"/>
                  </a:lnTo>
                  <a:lnTo>
                    <a:pt x="674" y="221"/>
                  </a:lnTo>
                  <a:lnTo>
                    <a:pt x="672" y="216"/>
                  </a:lnTo>
                  <a:lnTo>
                    <a:pt x="672" y="213"/>
                  </a:lnTo>
                  <a:lnTo>
                    <a:pt x="672" y="212"/>
                  </a:lnTo>
                  <a:lnTo>
                    <a:pt x="668" y="209"/>
                  </a:lnTo>
                  <a:lnTo>
                    <a:pt x="667" y="207"/>
                  </a:lnTo>
                  <a:lnTo>
                    <a:pt x="667" y="206"/>
                  </a:lnTo>
                  <a:lnTo>
                    <a:pt x="666" y="207"/>
                  </a:lnTo>
                  <a:lnTo>
                    <a:pt x="665" y="210"/>
                  </a:lnTo>
                  <a:lnTo>
                    <a:pt x="663" y="212"/>
                  </a:lnTo>
                  <a:lnTo>
                    <a:pt x="663" y="212"/>
                  </a:lnTo>
                  <a:lnTo>
                    <a:pt x="667" y="218"/>
                  </a:lnTo>
                  <a:lnTo>
                    <a:pt x="669" y="220"/>
                  </a:lnTo>
                  <a:lnTo>
                    <a:pt x="670" y="220"/>
                  </a:lnTo>
                  <a:lnTo>
                    <a:pt x="670" y="221"/>
                  </a:lnTo>
                  <a:lnTo>
                    <a:pt x="669" y="224"/>
                  </a:lnTo>
                  <a:lnTo>
                    <a:pt x="669" y="225"/>
                  </a:lnTo>
                  <a:lnTo>
                    <a:pt x="670" y="225"/>
                  </a:lnTo>
                  <a:lnTo>
                    <a:pt x="669" y="227"/>
                  </a:lnTo>
                  <a:lnTo>
                    <a:pt x="667" y="234"/>
                  </a:lnTo>
                  <a:lnTo>
                    <a:pt x="666" y="238"/>
                  </a:lnTo>
                  <a:lnTo>
                    <a:pt x="666" y="238"/>
                  </a:lnTo>
                  <a:lnTo>
                    <a:pt x="665" y="239"/>
                  </a:lnTo>
                  <a:lnTo>
                    <a:pt x="663" y="241"/>
                  </a:lnTo>
                  <a:lnTo>
                    <a:pt x="660" y="244"/>
                  </a:lnTo>
                  <a:lnTo>
                    <a:pt x="658" y="246"/>
                  </a:lnTo>
                  <a:lnTo>
                    <a:pt x="658" y="246"/>
                  </a:lnTo>
                  <a:lnTo>
                    <a:pt x="657" y="247"/>
                  </a:lnTo>
                  <a:lnTo>
                    <a:pt x="654" y="248"/>
                  </a:lnTo>
                  <a:lnTo>
                    <a:pt x="651" y="249"/>
                  </a:lnTo>
                  <a:lnTo>
                    <a:pt x="651" y="249"/>
                  </a:lnTo>
                  <a:lnTo>
                    <a:pt x="650" y="245"/>
                  </a:lnTo>
                  <a:lnTo>
                    <a:pt x="650" y="242"/>
                  </a:lnTo>
                  <a:lnTo>
                    <a:pt x="650" y="241"/>
                  </a:lnTo>
                  <a:lnTo>
                    <a:pt x="649" y="241"/>
                  </a:lnTo>
                  <a:lnTo>
                    <a:pt x="648" y="241"/>
                  </a:lnTo>
                  <a:lnTo>
                    <a:pt x="645" y="241"/>
                  </a:lnTo>
                  <a:lnTo>
                    <a:pt x="643" y="241"/>
                  </a:lnTo>
                  <a:lnTo>
                    <a:pt x="643" y="241"/>
                  </a:lnTo>
                  <a:lnTo>
                    <a:pt x="642" y="242"/>
                  </a:lnTo>
                  <a:lnTo>
                    <a:pt x="640" y="242"/>
                  </a:lnTo>
                  <a:lnTo>
                    <a:pt x="639" y="243"/>
                  </a:lnTo>
                  <a:lnTo>
                    <a:pt x="636" y="244"/>
                  </a:lnTo>
                  <a:lnTo>
                    <a:pt x="634" y="245"/>
                  </a:lnTo>
                  <a:lnTo>
                    <a:pt x="634" y="245"/>
                  </a:lnTo>
                  <a:lnTo>
                    <a:pt x="630" y="246"/>
                  </a:lnTo>
                  <a:lnTo>
                    <a:pt x="628" y="246"/>
                  </a:lnTo>
                  <a:lnTo>
                    <a:pt x="628" y="246"/>
                  </a:lnTo>
                  <a:lnTo>
                    <a:pt x="627" y="247"/>
                  </a:lnTo>
                  <a:lnTo>
                    <a:pt x="623" y="249"/>
                  </a:lnTo>
                  <a:lnTo>
                    <a:pt x="620" y="250"/>
                  </a:lnTo>
                  <a:lnTo>
                    <a:pt x="620" y="250"/>
                  </a:lnTo>
                  <a:lnTo>
                    <a:pt x="620" y="253"/>
                  </a:lnTo>
                  <a:lnTo>
                    <a:pt x="619" y="259"/>
                  </a:lnTo>
                  <a:lnTo>
                    <a:pt x="619" y="264"/>
                  </a:lnTo>
                  <a:lnTo>
                    <a:pt x="620" y="264"/>
                  </a:lnTo>
                  <a:lnTo>
                    <a:pt x="621" y="266"/>
                  </a:lnTo>
                  <a:lnTo>
                    <a:pt x="624" y="270"/>
                  </a:lnTo>
                  <a:lnTo>
                    <a:pt x="627" y="273"/>
                  </a:lnTo>
                  <a:lnTo>
                    <a:pt x="628" y="273"/>
                  </a:lnTo>
                  <a:lnTo>
                    <a:pt x="628" y="274"/>
                  </a:lnTo>
                  <a:lnTo>
                    <a:pt x="627" y="278"/>
                  </a:lnTo>
                  <a:lnTo>
                    <a:pt x="627" y="279"/>
                  </a:lnTo>
                  <a:lnTo>
                    <a:pt x="628" y="279"/>
                  </a:lnTo>
                  <a:lnTo>
                    <a:pt x="627" y="279"/>
                  </a:lnTo>
                  <a:lnTo>
                    <a:pt x="626" y="279"/>
                  </a:lnTo>
                  <a:lnTo>
                    <a:pt x="621" y="278"/>
                  </a:lnTo>
                  <a:lnTo>
                    <a:pt x="618" y="277"/>
                  </a:lnTo>
                  <a:lnTo>
                    <a:pt x="618" y="276"/>
                  </a:lnTo>
                  <a:lnTo>
                    <a:pt x="616" y="276"/>
                  </a:lnTo>
                  <a:lnTo>
                    <a:pt x="615" y="276"/>
                  </a:lnTo>
                  <a:lnTo>
                    <a:pt x="612" y="274"/>
                  </a:lnTo>
                  <a:lnTo>
                    <a:pt x="609" y="274"/>
                  </a:lnTo>
                  <a:lnTo>
                    <a:pt x="609" y="273"/>
                  </a:lnTo>
                  <a:lnTo>
                    <a:pt x="608" y="274"/>
                  </a:lnTo>
                  <a:lnTo>
                    <a:pt x="607" y="278"/>
                  </a:lnTo>
                  <a:lnTo>
                    <a:pt x="605" y="280"/>
                  </a:lnTo>
                  <a:lnTo>
                    <a:pt x="605" y="280"/>
                  </a:lnTo>
                  <a:lnTo>
                    <a:pt x="604" y="284"/>
                  </a:lnTo>
                  <a:lnTo>
                    <a:pt x="604" y="286"/>
                  </a:lnTo>
                  <a:lnTo>
                    <a:pt x="604" y="286"/>
                  </a:lnTo>
                  <a:lnTo>
                    <a:pt x="605" y="291"/>
                  </a:lnTo>
                  <a:lnTo>
                    <a:pt x="607" y="292"/>
                  </a:lnTo>
                  <a:lnTo>
                    <a:pt x="608" y="292"/>
                  </a:lnTo>
                  <a:lnTo>
                    <a:pt x="609" y="296"/>
                  </a:lnTo>
                  <a:lnTo>
                    <a:pt x="610" y="299"/>
                  </a:lnTo>
                  <a:lnTo>
                    <a:pt x="611" y="299"/>
                  </a:lnTo>
                  <a:lnTo>
                    <a:pt x="610" y="300"/>
                  </a:lnTo>
                  <a:lnTo>
                    <a:pt x="609" y="301"/>
                  </a:lnTo>
                  <a:lnTo>
                    <a:pt x="609" y="302"/>
                  </a:lnTo>
                  <a:lnTo>
                    <a:pt x="600" y="299"/>
                  </a:lnTo>
                  <a:lnTo>
                    <a:pt x="596" y="297"/>
                  </a:lnTo>
                  <a:lnTo>
                    <a:pt x="596" y="296"/>
                  </a:lnTo>
                  <a:lnTo>
                    <a:pt x="593" y="297"/>
                  </a:lnTo>
                  <a:lnTo>
                    <a:pt x="590" y="299"/>
                  </a:lnTo>
                  <a:lnTo>
                    <a:pt x="588" y="299"/>
                  </a:lnTo>
                  <a:lnTo>
                    <a:pt x="588" y="299"/>
                  </a:lnTo>
                  <a:lnTo>
                    <a:pt x="587" y="300"/>
                  </a:lnTo>
                  <a:lnTo>
                    <a:pt x="585" y="304"/>
                  </a:lnTo>
                  <a:lnTo>
                    <a:pt x="584" y="306"/>
                  </a:lnTo>
                  <a:lnTo>
                    <a:pt x="584" y="306"/>
                  </a:lnTo>
                  <a:lnTo>
                    <a:pt x="584" y="307"/>
                  </a:lnTo>
                  <a:lnTo>
                    <a:pt x="584" y="309"/>
                  </a:lnTo>
                  <a:lnTo>
                    <a:pt x="587" y="317"/>
                  </a:lnTo>
                  <a:lnTo>
                    <a:pt x="588" y="324"/>
                  </a:lnTo>
                  <a:lnTo>
                    <a:pt x="589" y="324"/>
                  </a:lnTo>
                  <a:lnTo>
                    <a:pt x="588" y="325"/>
                  </a:lnTo>
                  <a:lnTo>
                    <a:pt x="587" y="328"/>
                  </a:lnTo>
                  <a:lnTo>
                    <a:pt x="586" y="330"/>
                  </a:lnTo>
                  <a:lnTo>
                    <a:pt x="586" y="330"/>
                  </a:lnTo>
                  <a:lnTo>
                    <a:pt x="585" y="331"/>
                  </a:lnTo>
                  <a:lnTo>
                    <a:pt x="581" y="335"/>
                  </a:lnTo>
                  <a:lnTo>
                    <a:pt x="580" y="337"/>
                  </a:lnTo>
                  <a:lnTo>
                    <a:pt x="580" y="337"/>
                  </a:lnTo>
                  <a:lnTo>
                    <a:pt x="579" y="338"/>
                  </a:lnTo>
                  <a:lnTo>
                    <a:pt x="577" y="341"/>
                  </a:lnTo>
                  <a:lnTo>
                    <a:pt x="576" y="342"/>
                  </a:lnTo>
                  <a:lnTo>
                    <a:pt x="576" y="342"/>
                  </a:lnTo>
                  <a:lnTo>
                    <a:pt x="576" y="344"/>
                  </a:lnTo>
                  <a:lnTo>
                    <a:pt x="575" y="351"/>
                  </a:lnTo>
                  <a:lnTo>
                    <a:pt x="575" y="355"/>
                  </a:lnTo>
                  <a:lnTo>
                    <a:pt x="576" y="355"/>
                  </a:lnTo>
                  <a:lnTo>
                    <a:pt x="580" y="358"/>
                  </a:lnTo>
                  <a:lnTo>
                    <a:pt x="584" y="359"/>
                  </a:lnTo>
                  <a:lnTo>
                    <a:pt x="585" y="359"/>
                  </a:lnTo>
                  <a:lnTo>
                    <a:pt x="584" y="361"/>
                  </a:lnTo>
                  <a:lnTo>
                    <a:pt x="584" y="364"/>
                  </a:lnTo>
                  <a:lnTo>
                    <a:pt x="584" y="366"/>
                  </a:lnTo>
                  <a:lnTo>
                    <a:pt x="584" y="366"/>
                  </a:lnTo>
                  <a:lnTo>
                    <a:pt x="583" y="366"/>
                  </a:lnTo>
                  <a:lnTo>
                    <a:pt x="581" y="366"/>
                  </a:lnTo>
                  <a:lnTo>
                    <a:pt x="577" y="366"/>
                  </a:lnTo>
                  <a:lnTo>
                    <a:pt x="574" y="366"/>
                  </a:lnTo>
                  <a:lnTo>
                    <a:pt x="574" y="366"/>
                  </a:lnTo>
                  <a:lnTo>
                    <a:pt x="573" y="366"/>
                  </a:lnTo>
                  <a:lnTo>
                    <a:pt x="572" y="366"/>
                  </a:lnTo>
                  <a:lnTo>
                    <a:pt x="568" y="366"/>
                  </a:lnTo>
                  <a:lnTo>
                    <a:pt x="565" y="366"/>
                  </a:lnTo>
                  <a:lnTo>
                    <a:pt x="565" y="366"/>
                  </a:lnTo>
                  <a:lnTo>
                    <a:pt x="560" y="361"/>
                  </a:lnTo>
                  <a:lnTo>
                    <a:pt x="557" y="358"/>
                  </a:lnTo>
                  <a:lnTo>
                    <a:pt x="557" y="357"/>
                  </a:lnTo>
                  <a:lnTo>
                    <a:pt x="556" y="355"/>
                  </a:lnTo>
                  <a:lnTo>
                    <a:pt x="553" y="352"/>
                  </a:lnTo>
                  <a:lnTo>
                    <a:pt x="552" y="350"/>
                  </a:lnTo>
                  <a:lnTo>
                    <a:pt x="552" y="349"/>
                  </a:lnTo>
                  <a:lnTo>
                    <a:pt x="550" y="350"/>
                  </a:lnTo>
                  <a:lnTo>
                    <a:pt x="545" y="351"/>
                  </a:lnTo>
                  <a:lnTo>
                    <a:pt x="542" y="352"/>
                  </a:lnTo>
                  <a:lnTo>
                    <a:pt x="542" y="352"/>
                  </a:lnTo>
                  <a:lnTo>
                    <a:pt x="541" y="352"/>
                  </a:lnTo>
                  <a:lnTo>
                    <a:pt x="540" y="352"/>
                  </a:lnTo>
                  <a:lnTo>
                    <a:pt x="534" y="350"/>
                  </a:lnTo>
                  <a:lnTo>
                    <a:pt x="531" y="349"/>
                  </a:lnTo>
                  <a:lnTo>
                    <a:pt x="531" y="348"/>
                  </a:lnTo>
                  <a:lnTo>
                    <a:pt x="530" y="349"/>
                  </a:lnTo>
                  <a:lnTo>
                    <a:pt x="527" y="351"/>
                  </a:lnTo>
                  <a:lnTo>
                    <a:pt x="526" y="352"/>
                  </a:lnTo>
                  <a:lnTo>
                    <a:pt x="526" y="352"/>
                  </a:lnTo>
                  <a:lnTo>
                    <a:pt x="526" y="353"/>
                  </a:lnTo>
                  <a:lnTo>
                    <a:pt x="526" y="355"/>
                  </a:lnTo>
                  <a:lnTo>
                    <a:pt x="527" y="362"/>
                  </a:lnTo>
                  <a:lnTo>
                    <a:pt x="527" y="367"/>
                  </a:lnTo>
                  <a:lnTo>
                    <a:pt x="528" y="367"/>
                  </a:lnTo>
                  <a:lnTo>
                    <a:pt x="528" y="369"/>
                  </a:lnTo>
                  <a:lnTo>
                    <a:pt x="528" y="370"/>
                  </a:lnTo>
                  <a:lnTo>
                    <a:pt x="528" y="371"/>
                  </a:lnTo>
                  <a:lnTo>
                    <a:pt x="529" y="371"/>
                  </a:lnTo>
                  <a:lnTo>
                    <a:pt x="528" y="372"/>
                  </a:lnTo>
                  <a:lnTo>
                    <a:pt x="527" y="374"/>
                  </a:lnTo>
                  <a:lnTo>
                    <a:pt x="527" y="375"/>
                  </a:lnTo>
                  <a:lnTo>
                    <a:pt x="530" y="378"/>
                  </a:lnTo>
                  <a:lnTo>
                    <a:pt x="531" y="379"/>
                  </a:lnTo>
                  <a:lnTo>
                    <a:pt x="532" y="379"/>
                  </a:lnTo>
                  <a:lnTo>
                    <a:pt x="533" y="382"/>
                  </a:lnTo>
                  <a:lnTo>
                    <a:pt x="537" y="387"/>
                  </a:lnTo>
                  <a:lnTo>
                    <a:pt x="540" y="392"/>
                  </a:lnTo>
                  <a:lnTo>
                    <a:pt x="541" y="392"/>
                  </a:lnTo>
                  <a:lnTo>
                    <a:pt x="541" y="393"/>
                  </a:lnTo>
                  <a:lnTo>
                    <a:pt x="541" y="394"/>
                  </a:lnTo>
                  <a:lnTo>
                    <a:pt x="542" y="399"/>
                  </a:lnTo>
                  <a:lnTo>
                    <a:pt x="542" y="404"/>
                  </a:lnTo>
                  <a:lnTo>
                    <a:pt x="543" y="404"/>
                  </a:lnTo>
                  <a:lnTo>
                    <a:pt x="541" y="405"/>
                  </a:lnTo>
                  <a:lnTo>
                    <a:pt x="538" y="406"/>
                  </a:lnTo>
                  <a:lnTo>
                    <a:pt x="536" y="406"/>
                  </a:lnTo>
                  <a:lnTo>
                    <a:pt x="536" y="406"/>
                  </a:lnTo>
                  <a:lnTo>
                    <a:pt x="534" y="406"/>
                  </a:lnTo>
                  <a:lnTo>
                    <a:pt x="533" y="406"/>
                  </a:lnTo>
                  <a:lnTo>
                    <a:pt x="533" y="406"/>
                  </a:lnTo>
                  <a:lnTo>
                    <a:pt x="533" y="407"/>
                  </a:lnTo>
                  <a:lnTo>
                    <a:pt x="533" y="409"/>
                  </a:lnTo>
                  <a:lnTo>
                    <a:pt x="533" y="417"/>
                  </a:lnTo>
                  <a:lnTo>
                    <a:pt x="533" y="422"/>
                  </a:lnTo>
                  <a:lnTo>
                    <a:pt x="534" y="422"/>
                  </a:lnTo>
                  <a:lnTo>
                    <a:pt x="533" y="424"/>
                  </a:lnTo>
                  <a:lnTo>
                    <a:pt x="531" y="430"/>
                  </a:lnTo>
                  <a:lnTo>
                    <a:pt x="530" y="434"/>
                  </a:lnTo>
                  <a:lnTo>
                    <a:pt x="530" y="434"/>
                  </a:lnTo>
                  <a:lnTo>
                    <a:pt x="527" y="431"/>
                  </a:lnTo>
                  <a:lnTo>
                    <a:pt x="526" y="430"/>
                  </a:lnTo>
                  <a:lnTo>
                    <a:pt x="526" y="429"/>
                  </a:lnTo>
                  <a:lnTo>
                    <a:pt x="525" y="428"/>
                  </a:lnTo>
                  <a:lnTo>
                    <a:pt x="521" y="424"/>
                  </a:lnTo>
                  <a:lnTo>
                    <a:pt x="520" y="422"/>
                  </a:lnTo>
                  <a:lnTo>
                    <a:pt x="520" y="421"/>
                  </a:lnTo>
                  <a:lnTo>
                    <a:pt x="516" y="418"/>
                  </a:lnTo>
                  <a:lnTo>
                    <a:pt x="514" y="416"/>
                  </a:lnTo>
                  <a:lnTo>
                    <a:pt x="514" y="414"/>
                  </a:lnTo>
                  <a:lnTo>
                    <a:pt x="511" y="412"/>
                  </a:lnTo>
                  <a:lnTo>
                    <a:pt x="508" y="406"/>
                  </a:lnTo>
                  <a:lnTo>
                    <a:pt x="506" y="401"/>
                  </a:lnTo>
                  <a:lnTo>
                    <a:pt x="506" y="400"/>
                  </a:lnTo>
                  <a:lnTo>
                    <a:pt x="504" y="398"/>
                  </a:lnTo>
                  <a:lnTo>
                    <a:pt x="501" y="392"/>
                  </a:lnTo>
                  <a:lnTo>
                    <a:pt x="498" y="386"/>
                  </a:lnTo>
                  <a:lnTo>
                    <a:pt x="498" y="385"/>
                  </a:lnTo>
                  <a:lnTo>
                    <a:pt x="494" y="382"/>
                  </a:lnTo>
                  <a:lnTo>
                    <a:pt x="493" y="379"/>
                  </a:lnTo>
                  <a:lnTo>
                    <a:pt x="493" y="378"/>
                  </a:lnTo>
                  <a:lnTo>
                    <a:pt x="491" y="373"/>
                  </a:lnTo>
                  <a:lnTo>
                    <a:pt x="490" y="370"/>
                  </a:lnTo>
                  <a:lnTo>
                    <a:pt x="490" y="369"/>
                  </a:lnTo>
                  <a:lnTo>
                    <a:pt x="489" y="370"/>
                  </a:lnTo>
                  <a:lnTo>
                    <a:pt x="487" y="370"/>
                  </a:lnTo>
                  <a:lnTo>
                    <a:pt x="486" y="372"/>
                  </a:lnTo>
                  <a:lnTo>
                    <a:pt x="484" y="378"/>
                  </a:lnTo>
                  <a:lnTo>
                    <a:pt x="483" y="383"/>
                  </a:lnTo>
                  <a:lnTo>
                    <a:pt x="483" y="383"/>
                  </a:lnTo>
                  <a:lnTo>
                    <a:pt x="483" y="384"/>
                  </a:lnTo>
                  <a:lnTo>
                    <a:pt x="483" y="386"/>
                  </a:lnTo>
                  <a:lnTo>
                    <a:pt x="483" y="387"/>
                  </a:lnTo>
                  <a:lnTo>
                    <a:pt x="484" y="387"/>
                  </a:lnTo>
                  <a:lnTo>
                    <a:pt x="481" y="388"/>
                  </a:lnTo>
                  <a:lnTo>
                    <a:pt x="480" y="388"/>
                  </a:lnTo>
                  <a:lnTo>
                    <a:pt x="480" y="388"/>
                  </a:lnTo>
                  <a:lnTo>
                    <a:pt x="479" y="389"/>
                  </a:lnTo>
                  <a:lnTo>
                    <a:pt x="478" y="390"/>
                  </a:lnTo>
                  <a:lnTo>
                    <a:pt x="474" y="394"/>
                  </a:lnTo>
                  <a:lnTo>
                    <a:pt x="472" y="397"/>
                  </a:lnTo>
                  <a:lnTo>
                    <a:pt x="472" y="397"/>
                  </a:lnTo>
                  <a:lnTo>
                    <a:pt x="471" y="399"/>
                  </a:lnTo>
                  <a:lnTo>
                    <a:pt x="470" y="402"/>
                  </a:lnTo>
                  <a:lnTo>
                    <a:pt x="470" y="405"/>
                  </a:lnTo>
                  <a:lnTo>
                    <a:pt x="470" y="405"/>
                  </a:lnTo>
                  <a:lnTo>
                    <a:pt x="469" y="405"/>
                  </a:lnTo>
                  <a:lnTo>
                    <a:pt x="466" y="405"/>
                  </a:lnTo>
                  <a:lnTo>
                    <a:pt x="463" y="405"/>
                  </a:lnTo>
                  <a:lnTo>
                    <a:pt x="463" y="405"/>
                  </a:lnTo>
                  <a:lnTo>
                    <a:pt x="462" y="406"/>
                  </a:lnTo>
                  <a:lnTo>
                    <a:pt x="459" y="407"/>
                  </a:lnTo>
                  <a:lnTo>
                    <a:pt x="458" y="408"/>
                  </a:lnTo>
                  <a:lnTo>
                    <a:pt x="458" y="408"/>
                  </a:lnTo>
                  <a:lnTo>
                    <a:pt x="457" y="409"/>
                  </a:lnTo>
                  <a:lnTo>
                    <a:pt x="454" y="418"/>
                  </a:lnTo>
                  <a:lnTo>
                    <a:pt x="451" y="422"/>
                  </a:lnTo>
                  <a:lnTo>
                    <a:pt x="451" y="422"/>
                  </a:lnTo>
                  <a:lnTo>
                    <a:pt x="450" y="425"/>
                  </a:lnTo>
                  <a:lnTo>
                    <a:pt x="450" y="432"/>
                  </a:lnTo>
                  <a:lnTo>
                    <a:pt x="450" y="436"/>
                  </a:lnTo>
                  <a:lnTo>
                    <a:pt x="450" y="436"/>
                  </a:lnTo>
                  <a:lnTo>
                    <a:pt x="451" y="442"/>
                  </a:lnTo>
                  <a:lnTo>
                    <a:pt x="452" y="444"/>
                  </a:lnTo>
                  <a:lnTo>
                    <a:pt x="454" y="444"/>
                  </a:lnTo>
                  <a:lnTo>
                    <a:pt x="454" y="445"/>
                  </a:lnTo>
                  <a:lnTo>
                    <a:pt x="454" y="446"/>
                  </a:lnTo>
                  <a:lnTo>
                    <a:pt x="456" y="452"/>
                  </a:lnTo>
                  <a:lnTo>
                    <a:pt x="457" y="456"/>
                  </a:lnTo>
                  <a:lnTo>
                    <a:pt x="458" y="456"/>
                  </a:lnTo>
                  <a:lnTo>
                    <a:pt x="458" y="457"/>
                  </a:lnTo>
                  <a:lnTo>
                    <a:pt x="458" y="458"/>
                  </a:lnTo>
                  <a:lnTo>
                    <a:pt x="459" y="464"/>
                  </a:lnTo>
                  <a:lnTo>
                    <a:pt x="459" y="467"/>
                  </a:lnTo>
                  <a:lnTo>
                    <a:pt x="460" y="467"/>
                  </a:lnTo>
                  <a:lnTo>
                    <a:pt x="463" y="469"/>
                  </a:lnTo>
                  <a:lnTo>
                    <a:pt x="464" y="469"/>
                  </a:lnTo>
                  <a:lnTo>
                    <a:pt x="466" y="469"/>
                  </a:lnTo>
                  <a:lnTo>
                    <a:pt x="464" y="470"/>
                  </a:lnTo>
                  <a:lnTo>
                    <a:pt x="463" y="474"/>
                  </a:lnTo>
                  <a:lnTo>
                    <a:pt x="462" y="475"/>
                  </a:lnTo>
                  <a:lnTo>
                    <a:pt x="462" y="475"/>
                  </a:lnTo>
                  <a:lnTo>
                    <a:pt x="461" y="476"/>
                  </a:lnTo>
                  <a:lnTo>
                    <a:pt x="460" y="478"/>
                  </a:lnTo>
                  <a:lnTo>
                    <a:pt x="455" y="484"/>
                  </a:lnTo>
                  <a:lnTo>
                    <a:pt x="450" y="489"/>
                  </a:lnTo>
                  <a:lnTo>
                    <a:pt x="450" y="489"/>
                  </a:lnTo>
                  <a:lnTo>
                    <a:pt x="449" y="490"/>
                  </a:lnTo>
                  <a:lnTo>
                    <a:pt x="448" y="491"/>
                  </a:lnTo>
                  <a:lnTo>
                    <a:pt x="445" y="495"/>
                  </a:lnTo>
                  <a:lnTo>
                    <a:pt x="443" y="499"/>
                  </a:lnTo>
                  <a:lnTo>
                    <a:pt x="443" y="499"/>
                  </a:lnTo>
                  <a:lnTo>
                    <a:pt x="441" y="499"/>
                  </a:lnTo>
                  <a:lnTo>
                    <a:pt x="440" y="499"/>
                  </a:lnTo>
                  <a:lnTo>
                    <a:pt x="437" y="499"/>
                  </a:lnTo>
                  <a:lnTo>
                    <a:pt x="434" y="499"/>
                  </a:lnTo>
                  <a:lnTo>
                    <a:pt x="434" y="499"/>
                  </a:lnTo>
                  <a:lnTo>
                    <a:pt x="434" y="501"/>
                  </a:lnTo>
                  <a:lnTo>
                    <a:pt x="433" y="504"/>
                  </a:lnTo>
                  <a:lnTo>
                    <a:pt x="433" y="506"/>
                  </a:lnTo>
                  <a:lnTo>
                    <a:pt x="434" y="506"/>
                  </a:lnTo>
                  <a:lnTo>
                    <a:pt x="433" y="510"/>
                  </a:lnTo>
                  <a:lnTo>
                    <a:pt x="433" y="511"/>
                  </a:lnTo>
                  <a:lnTo>
                    <a:pt x="433" y="511"/>
                  </a:lnTo>
                  <a:lnTo>
                    <a:pt x="432" y="512"/>
                  </a:lnTo>
                  <a:lnTo>
                    <a:pt x="428" y="519"/>
                  </a:lnTo>
                  <a:lnTo>
                    <a:pt x="426" y="524"/>
                  </a:lnTo>
                  <a:lnTo>
                    <a:pt x="426" y="524"/>
                  </a:lnTo>
                  <a:lnTo>
                    <a:pt x="425" y="526"/>
                  </a:lnTo>
                  <a:lnTo>
                    <a:pt x="425" y="530"/>
                  </a:lnTo>
                  <a:lnTo>
                    <a:pt x="425" y="534"/>
                  </a:lnTo>
                  <a:lnTo>
                    <a:pt x="425" y="534"/>
                  </a:lnTo>
                  <a:lnTo>
                    <a:pt x="424" y="536"/>
                  </a:lnTo>
                  <a:lnTo>
                    <a:pt x="423" y="539"/>
                  </a:lnTo>
                  <a:lnTo>
                    <a:pt x="423" y="541"/>
                  </a:lnTo>
                  <a:lnTo>
                    <a:pt x="423" y="541"/>
                  </a:lnTo>
                  <a:lnTo>
                    <a:pt x="422" y="542"/>
                  </a:lnTo>
                  <a:lnTo>
                    <a:pt x="421" y="544"/>
                  </a:lnTo>
                  <a:lnTo>
                    <a:pt x="417" y="548"/>
                  </a:lnTo>
                  <a:lnTo>
                    <a:pt x="414" y="551"/>
                  </a:lnTo>
                  <a:lnTo>
                    <a:pt x="414" y="551"/>
                  </a:lnTo>
                  <a:lnTo>
                    <a:pt x="413" y="552"/>
                  </a:lnTo>
                  <a:lnTo>
                    <a:pt x="412" y="553"/>
                  </a:lnTo>
                  <a:lnTo>
                    <a:pt x="409" y="557"/>
                  </a:lnTo>
                  <a:lnTo>
                    <a:pt x="405" y="560"/>
                  </a:lnTo>
                  <a:lnTo>
                    <a:pt x="405" y="560"/>
                  </a:lnTo>
                  <a:lnTo>
                    <a:pt x="404" y="561"/>
                  </a:lnTo>
                  <a:lnTo>
                    <a:pt x="401" y="564"/>
                  </a:lnTo>
                  <a:lnTo>
                    <a:pt x="400" y="567"/>
                  </a:lnTo>
                  <a:lnTo>
                    <a:pt x="400" y="567"/>
                  </a:lnTo>
                  <a:lnTo>
                    <a:pt x="399" y="568"/>
                  </a:lnTo>
                  <a:lnTo>
                    <a:pt x="396" y="571"/>
                  </a:lnTo>
                  <a:lnTo>
                    <a:pt x="393" y="573"/>
                  </a:lnTo>
                  <a:lnTo>
                    <a:pt x="393" y="573"/>
                  </a:lnTo>
                  <a:lnTo>
                    <a:pt x="392" y="574"/>
                  </a:lnTo>
                  <a:lnTo>
                    <a:pt x="386" y="577"/>
                  </a:lnTo>
                  <a:lnTo>
                    <a:pt x="382" y="580"/>
                  </a:lnTo>
                  <a:lnTo>
                    <a:pt x="382" y="580"/>
                  </a:lnTo>
                  <a:lnTo>
                    <a:pt x="380" y="581"/>
                  </a:lnTo>
                  <a:lnTo>
                    <a:pt x="375" y="583"/>
                  </a:lnTo>
                  <a:lnTo>
                    <a:pt x="370" y="584"/>
                  </a:lnTo>
                  <a:lnTo>
                    <a:pt x="370" y="584"/>
                  </a:lnTo>
                  <a:lnTo>
                    <a:pt x="368" y="585"/>
                  </a:lnTo>
                  <a:lnTo>
                    <a:pt x="362" y="586"/>
                  </a:lnTo>
                  <a:lnTo>
                    <a:pt x="357" y="587"/>
                  </a:lnTo>
                  <a:lnTo>
                    <a:pt x="357" y="587"/>
                  </a:lnTo>
                  <a:lnTo>
                    <a:pt x="356" y="588"/>
                  </a:lnTo>
                  <a:lnTo>
                    <a:pt x="355" y="590"/>
                  </a:lnTo>
                  <a:lnTo>
                    <a:pt x="351" y="593"/>
                  </a:lnTo>
                  <a:lnTo>
                    <a:pt x="347" y="595"/>
                  </a:lnTo>
                  <a:lnTo>
                    <a:pt x="347" y="595"/>
                  </a:lnTo>
                  <a:lnTo>
                    <a:pt x="345" y="596"/>
                  </a:lnTo>
                  <a:lnTo>
                    <a:pt x="342" y="597"/>
                  </a:lnTo>
                  <a:lnTo>
                    <a:pt x="339" y="597"/>
                  </a:lnTo>
                  <a:lnTo>
                    <a:pt x="339" y="597"/>
                  </a:lnTo>
                  <a:lnTo>
                    <a:pt x="335" y="598"/>
                  </a:lnTo>
                  <a:lnTo>
                    <a:pt x="329" y="599"/>
                  </a:lnTo>
                  <a:lnTo>
                    <a:pt x="325" y="599"/>
                  </a:lnTo>
                  <a:lnTo>
                    <a:pt x="325" y="599"/>
                  </a:lnTo>
                  <a:lnTo>
                    <a:pt x="323" y="600"/>
                  </a:lnTo>
                  <a:lnTo>
                    <a:pt x="317" y="604"/>
                  </a:lnTo>
                  <a:lnTo>
                    <a:pt x="313" y="606"/>
                  </a:lnTo>
                  <a:lnTo>
                    <a:pt x="313" y="606"/>
                  </a:lnTo>
                  <a:lnTo>
                    <a:pt x="311" y="606"/>
                  </a:lnTo>
                  <a:lnTo>
                    <a:pt x="310" y="606"/>
                  </a:lnTo>
                  <a:lnTo>
                    <a:pt x="306" y="605"/>
                  </a:lnTo>
                  <a:lnTo>
                    <a:pt x="303" y="604"/>
                  </a:lnTo>
                  <a:lnTo>
                    <a:pt x="303" y="603"/>
                  </a:lnTo>
                  <a:lnTo>
                    <a:pt x="299" y="604"/>
                  </a:lnTo>
                  <a:lnTo>
                    <a:pt x="293" y="605"/>
                  </a:lnTo>
                  <a:lnTo>
                    <a:pt x="288" y="605"/>
                  </a:lnTo>
                  <a:lnTo>
                    <a:pt x="288" y="605"/>
                  </a:lnTo>
                  <a:lnTo>
                    <a:pt x="287" y="606"/>
                  </a:lnTo>
                  <a:lnTo>
                    <a:pt x="286" y="607"/>
                  </a:lnTo>
                  <a:lnTo>
                    <a:pt x="283" y="610"/>
                  </a:lnTo>
                  <a:lnTo>
                    <a:pt x="281" y="614"/>
                  </a:lnTo>
                  <a:lnTo>
                    <a:pt x="281" y="614"/>
                  </a:lnTo>
                  <a:lnTo>
                    <a:pt x="280" y="615"/>
                  </a:lnTo>
                  <a:lnTo>
                    <a:pt x="279" y="617"/>
                  </a:lnTo>
                  <a:lnTo>
                    <a:pt x="272" y="623"/>
                  </a:lnTo>
                  <a:lnTo>
                    <a:pt x="268" y="628"/>
                  </a:lnTo>
                  <a:lnTo>
                    <a:pt x="268" y="628"/>
                  </a:lnTo>
                  <a:lnTo>
                    <a:pt x="265" y="629"/>
                  </a:lnTo>
                  <a:lnTo>
                    <a:pt x="261" y="630"/>
                  </a:lnTo>
                  <a:lnTo>
                    <a:pt x="258" y="630"/>
                  </a:lnTo>
                  <a:lnTo>
                    <a:pt x="258" y="630"/>
                  </a:lnTo>
                  <a:lnTo>
                    <a:pt x="256" y="631"/>
                  </a:lnTo>
                  <a:lnTo>
                    <a:pt x="250" y="632"/>
                  </a:lnTo>
                  <a:lnTo>
                    <a:pt x="247" y="632"/>
                  </a:lnTo>
                  <a:lnTo>
                    <a:pt x="247" y="632"/>
                  </a:lnTo>
                  <a:lnTo>
                    <a:pt x="246" y="633"/>
                  </a:lnTo>
                  <a:lnTo>
                    <a:pt x="240" y="635"/>
                  </a:lnTo>
                  <a:lnTo>
                    <a:pt x="237" y="637"/>
                  </a:lnTo>
                  <a:lnTo>
                    <a:pt x="237" y="637"/>
                  </a:lnTo>
                  <a:lnTo>
                    <a:pt x="236" y="638"/>
                  </a:lnTo>
                  <a:lnTo>
                    <a:pt x="231" y="641"/>
                  </a:lnTo>
                  <a:lnTo>
                    <a:pt x="227" y="643"/>
                  </a:lnTo>
                  <a:lnTo>
                    <a:pt x="227" y="643"/>
                  </a:lnTo>
                  <a:lnTo>
                    <a:pt x="226" y="644"/>
                  </a:lnTo>
                  <a:lnTo>
                    <a:pt x="225" y="645"/>
                  </a:lnTo>
                  <a:lnTo>
                    <a:pt x="221" y="651"/>
                  </a:lnTo>
                  <a:lnTo>
                    <a:pt x="217" y="654"/>
                  </a:lnTo>
                  <a:lnTo>
                    <a:pt x="217" y="654"/>
                  </a:lnTo>
                  <a:lnTo>
                    <a:pt x="215" y="655"/>
                  </a:lnTo>
                  <a:lnTo>
                    <a:pt x="212" y="656"/>
                  </a:lnTo>
                  <a:lnTo>
                    <a:pt x="209" y="657"/>
                  </a:lnTo>
                  <a:lnTo>
                    <a:pt x="209" y="657"/>
                  </a:lnTo>
                  <a:lnTo>
                    <a:pt x="208" y="658"/>
                  </a:lnTo>
                  <a:lnTo>
                    <a:pt x="203" y="660"/>
                  </a:lnTo>
                  <a:lnTo>
                    <a:pt x="201" y="661"/>
                  </a:lnTo>
                  <a:lnTo>
                    <a:pt x="201" y="661"/>
                  </a:lnTo>
                  <a:lnTo>
                    <a:pt x="200" y="661"/>
                  </a:lnTo>
                  <a:lnTo>
                    <a:pt x="199" y="661"/>
                  </a:lnTo>
                  <a:lnTo>
                    <a:pt x="193" y="661"/>
                  </a:lnTo>
                  <a:lnTo>
                    <a:pt x="189" y="661"/>
                  </a:lnTo>
                  <a:lnTo>
                    <a:pt x="189" y="661"/>
                  </a:lnTo>
                  <a:lnTo>
                    <a:pt x="188" y="661"/>
                  </a:lnTo>
                  <a:lnTo>
                    <a:pt x="187" y="661"/>
                  </a:lnTo>
                  <a:lnTo>
                    <a:pt x="184" y="661"/>
                  </a:lnTo>
                  <a:lnTo>
                    <a:pt x="180" y="661"/>
                  </a:lnTo>
                  <a:lnTo>
                    <a:pt x="180" y="660"/>
                  </a:lnTo>
                  <a:lnTo>
                    <a:pt x="179" y="660"/>
                  </a:lnTo>
                  <a:lnTo>
                    <a:pt x="178" y="660"/>
                  </a:lnTo>
                  <a:lnTo>
                    <a:pt x="175" y="660"/>
                  </a:lnTo>
                  <a:lnTo>
                    <a:pt x="173" y="660"/>
                  </a:lnTo>
                  <a:lnTo>
                    <a:pt x="173" y="660"/>
                  </a:lnTo>
                  <a:lnTo>
                    <a:pt x="171" y="660"/>
                  </a:lnTo>
                  <a:lnTo>
                    <a:pt x="170" y="660"/>
                  </a:lnTo>
                  <a:lnTo>
                    <a:pt x="166" y="660"/>
                  </a:lnTo>
                  <a:lnTo>
                    <a:pt x="163" y="660"/>
                  </a:lnTo>
                  <a:lnTo>
                    <a:pt x="163" y="660"/>
                  </a:lnTo>
                  <a:lnTo>
                    <a:pt x="161" y="658"/>
                  </a:lnTo>
                  <a:lnTo>
                    <a:pt x="159" y="657"/>
                  </a:lnTo>
                  <a:lnTo>
                    <a:pt x="158" y="658"/>
                  </a:lnTo>
                  <a:lnTo>
                    <a:pt x="157" y="660"/>
                  </a:lnTo>
                  <a:lnTo>
                    <a:pt x="157" y="660"/>
                  </a:lnTo>
                  <a:lnTo>
                    <a:pt x="156" y="661"/>
                  </a:lnTo>
                  <a:lnTo>
                    <a:pt x="152" y="663"/>
                  </a:lnTo>
                  <a:lnTo>
                    <a:pt x="150" y="664"/>
                  </a:lnTo>
                  <a:lnTo>
                    <a:pt x="150" y="664"/>
                  </a:lnTo>
                  <a:lnTo>
                    <a:pt x="149" y="665"/>
                  </a:lnTo>
                  <a:lnTo>
                    <a:pt x="147" y="666"/>
                  </a:lnTo>
                  <a:lnTo>
                    <a:pt x="143" y="670"/>
                  </a:lnTo>
                  <a:lnTo>
                    <a:pt x="140" y="674"/>
                  </a:lnTo>
                  <a:lnTo>
                    <a:pt x="140" y="674"/>
                  </a:lnTo>
                  <a:lnTo>
                    <a:pt x="139" y="675"/>
                  </a:lnTo>
                  <a:lnTo>
                    <a:pt x="135" y="678"/>
                  </a:lnTo>
                  <a:lnTo>
                    <a:pt x="133" y="679"/>
                  </a:lnTo>
                  <a:lnTo>
                    <a:pt x="133" y="679"/>
                  </a:lnTo>
                  <a:lnTo>
                    <a:pt x="132" y="680"/>
                  </a:lnTo>
                  <a:lnTo>
                    <a:pt x="129" y="684"/>
                  </a:lnTo>
                  <a:lnTo>
                    <a:pt x="128" y="685"/>
                  </a:lnTo>
                  <a:lnTo>
                    <a:pt x="128" y="685"/>
                  </a:lnTo>
                  <a:lnTo>
                    <a:pt x="127" y="686"/>
                  </a:lnTo>
                  <a:lnTo>
                    <a:pt x="122" y="688"/>
                  </a:lnTo>
                  <a:lnTo>
                    <a:pt x="120" y="689"/>
                  </a:lnTo>
                  <a:lnTo>
                    <a:pt x="120" y="689"/>
                  </a:lnTo>
                  <a:lnTo>
                    <a:pt x="119" y="690"/>
                  </a:lnTo>
                  <a:lnTo>
                    <a:pt x="116" y="692"/>
                  </a:lnTo>
                  <a:lnTo>
                    <a:pt x="114" y="693"/>
                  </a:lnTo>
                  <a:lnTo>
                    <a:pt x="114" y="693"/>
                  </a:lnTo>
                  <a:lnTo>
                    <a:pt x="112" y="696"/>
                  </a:lnTo>
                  <a:lnTo>
                    <a:pt x="110" y="701"/>
                  </a:lnTo>
                  <a:lnTo>
                    <a:pt x="109" y="705"/>
                  </a:lnTo>
                  <a:lnTo>
                    <a:pt x="109" y="705"/>
                  </a:lnTo>
                  <a:lnTo>
                    <a:pt x="108" y="707"/>
                  </a:lnTo>
                  <a:lnTo>
                    <a:pt x="104" y="710"/>
                  </a:lnTo>
                  <a:lnTo>
                    <a:pt x="102" y="711"/>
                  </a:lnTo>
                  <a:lnTo>
                    <a:pt x="102" y="711"/>
                  </a:lnTo>
                  <a:lnTo>
                    <a:pt x="100" y="712"/>
                  </a:lnTo>
                  <a:lnTo>
                    <a:pt x="97" y="716"/>
                  </a:lnTo>
                  <a:lnTo>
                    <a:pt x="95" y="720"/>
                  </a:lnTo>
                  <a:lnTo>
                    <a:pt x="95" y="720"/>
                  </a:lnTo>
                  <a:lnTo>
                    <a:pt x="94" y="722"/>
                  </a:lnTo>
                  <a:lnTo>
                    <a:pt x="93" y="725"/>
                  </a:lnTo>
                  <a:lnTo>
                    <a:pt x="92" y="728"/>
                  </a:lnTo>
                  <a:lnTo>
                    <a:pt x="92" y="728"/>
                  </a:lnTo>
                  <a:lnTo>
                    <a:pt x="89" y="730"/>
                  </a:lnTo>
                  <a:lnTo>
                    <a:pt x="84" y="732"/>
                  </a:lnTo>
                  <a:lnTo>
                    <a:pt x="80" y="733"/>
                  </a:lnTo>
                  <a:lnTo>
                    <a:pt x="80" y="733"/>
                  </a:lnTo>
                  <a:lnTo>
                    <a:pt x="77" y="734"/>
                  </a:lnTo>
                  <a:lnTo>
                    <a:pt x="74" y="735"/>
                  </a:lnTo>
                  <a:lnTo>
                    <a:pt x="72" y="735"/>
                  </a:lnTo>
                  <a:lnTo>
                    <a:pt x="72" y="735"/>
                  </a:lnTo>
                  <a:lnTo>
                    <a:pt x="71" y="736"/>
                  </a:lnTo>
                  <a:lnTo>
                    <a:pt x="68" y="740"/>
                  </a:lnTo>
                  <a:lnTo>
                    <a:pt x="65" y="744"/>
                  </a:lnTo>
                  <a:lnTo>
                    <a:pt x="65" y="744"/>
                  </a:lnTo>
                  <a:lnTo>
                    <a:pt x="61" y="746"/>
                  </a:lnTo>
                  <a:lnTo>
                    <a:pt x="60" y="746"/>
                  </a:lnTo>
                  <a:lnTo>
                    <a:pt x="60" y="746"/>
                  </a:lnTo>
                  <a:lnTo>
                    <a:pt x="59" y="747"/>
                  </a:lnTo>
                  <a:lnTo>
                    <a:pt x="55" y="750"/>
                  </a:lnTo>
                  <a:lnTo>
                    <a:pt x="51" y="751"/>
                  </a:lnTo>
                  <a:lnTo>
                    <a:pt x="51" y="751"/>
                  </a:lnTo>
                  <a:lnTo>
                    <a:pt x="50" y="753"/>
                  </a:lnTo>
                  <a:lnTo>
                    <a:pt x="47" y="756"/>
                  </a:lnTo>
                  <a:lnTo>
                    <a:pt x="45" y="757"/>
                  </a:lnTo>
                  <a:lnTo>
                    <a:pt x="45" y="757"/>
                  </a:lnTo>
                  <a:lnTo>
                    <a:pt x="44" y="759"/>
                  </a:lnTo>
                  <a:lnTo>
                    <a:pt x="42" y="763"/>
                  </a:lnTo>
                  <a:lnTo>
                    <a:pt x="41" y="767"/>
                  </a:lnTo>
                  <a:lnTo>
                    <a:pt x="41" y="767"/>
                  </a:lnTo>
                  <a:lnTo>
                    <a:pt x="40" y="768"/>
                  </a:lnTo>
                  <a:lnTo>
                    <a:pt x="39" y="772"/>
                  </a:lnTo>
                  <a:lnTo>
                    <a:pt x="38" y="774"/>
                  </a:lnTo>
                  <a:lnTo>
                    <a:pt x="38" y="774"/>
                  </a:lnTo>
                  <a:lnTo>
                    <a:pt x="37" y="778"/>
                  </a:lnTo>
                  <a:lnTo>
                    <a:pt x="36" y="784"/>
                  </a:lnTo>
                  <a:lnTo>
                    <a:pt x="36" y="789"/>
                  </a:lnTo>
                  <a:lnTo>
                    <a:pt x="36" y="789"/>
                  </a:lnTo>
                  <a:lnTo>
                    <a:pt x="35" y="790"/>
                  </a:lnTo>
                  <a:lnTo>
                    <a:pt x="34" y="791"/>
                  </a:lnTo>
                  <a:lnTo>
                    <a:pt x="30" y="794"/>
                  </a:lnTo>
                  <a:lnTo>
                    <a:pt x="28" y="797"/>
                  </a:lnTo>
                  <a:lnTo>
                    <a:pt x="28" y="797"/>
                  </a:lnTo>
                  <a:lnTo>
                    <a:pt x="27" y="797"/>
                  </a:lnTo>
                  <a:lnTo>
                    <a:pt x="24" y="797"/>
                  </a:lnTo>
                  <a:lnTo>
                    <a:pt x="22" y="797"/>
                  </a:lnTo>
                  <a:lnTo>
                    <a:pt x="22" y="797"/>
                  </a:lnTo>
                  <a:lnTo>
                    <a:pt x="22" y="794"/>
                  </a:lnTo>
                  <a:lnTo>
                    <a:pt x="22" y="792"/>
                  </a:lnTo>
                  <a:lnTo>
                    <a:pt x="23" y="791"/>
                  </a:lnTo>
                  <a:lnTo>
                    <a:pt x="23" y="790"/>
                  </a:lnTo>
                  <a:lnTo>
                    <a:pt x="22" y="786"/>
                  </a:lnTo>
                  <a:lnTo>
                    <a:pt x="22" y="784"/>
                  </a:lnTo>
                  <a:lnTo>
                    <a:pt x="23" y="783"/>
                  </a:lnTo>
                  <a:lnTo>
                    <a:pt x="21" y="782"/>
                  </a:lnTo>
                  <a:lnTo>
                    <a:pt x="20" y="781"/>
                  </a:lnTo>
                  <a:lnTo>
                    <a:pt x="18" y="778"/>
                  </a:lnTo>
                  <a:lnTo>
                    <a:pt x="18" y="777"/>
                  </a:lnTo>
                  <a:lnTo>
                    <a:pt x="20" y="775"/>
                  </a:lnTo>
                  <a:lnTo>
                    <a:pt x="21" y="774"/>
                  </a:lnTo>
                  <a:lnTo>
                    <a:pt x="22" y="772"/>
                  </a:lnTo>
                  <a:lnTo>
                    <a:pt x="22" y="769"/>
                  </a:lnTo>
                  <a:lnTo>
                    <a:pt x="21" y="765"/>
                  </a:lnTo>
                  <a:lnTo>
                    <a:pt x="21" y="762"/>
                  </a:lnTo>
                  <a:lnTo>
                    <a:pt x="21" y="761"/>
                  </a:lnTo>
                  <a:lnTo>
                    <a:pt x="20" y="757"/>
                  </a:lnTo>
                  <a:lnTo>
                    <a:pt x="20" y="754"/>
                  </a:lnTo>
                  <a:lnTo>
                    <a:pt x="20" y="753"/>
                  </a:lnTo>
                  <a:lnTo>
                    <a:pt x="18" y="754"/>
                  </a:lnTo>
                  <a:lnTo>
                    <a:pt x="15" y="757"/>
                  </a:lnTo>
                  <a:lnTo>
                    <a:pt x="14" y="759"/>
                  </a:lnTo>
                  <a:lnTo>
                    <a:pt x="14" y="759"/>
                  </a:lnTo>
                  <a:lnTo>
                    <a:pt x="13" y="760"/>
                  </a:lnTo>
                  <a:lnTo>
                    <a:pt x="12" y="762"/>
                  </a:lnTo>
                  <a:lnTo>
                    <a:pt x="11" y="763"/>
                  </a:lnTo>
                  <a:lnTo>
                    <a:pt x="11" y="763"/>
                  </a:lnTo>
                  <a:lnTo>
                    <a:pt x="10" y="767"/>
                  </a:lnTo>
                  <a:lnTo>
                    <a:pt x="7" y="773"/>
                  </a:lnTo>
                  <a:lnTo>
                    <a:pt x="6" y="779"/>
                  </a:lnTo>
                  <a:lnTo>
                    <a:pt x="6" y="779"/>
                  </a:lnTo>
                  <a:lnTo>
                    <a:pt x="5" y="780"/>
                  </a:lnTo>
                  <a:lnTo>
                    <a:pt x="3" y="785"/>
                  </a:lnTo>
                  <a:lnTo>
                    <a:pt x="2" y="789"/>
                  </a:lnTo>
                  <a:lnTo>
                    <a:pt x="2" y="789"/>
                  </a:lnTo>
                  <a:lnTo>
                    <a:pt x="2" y="791"/>
                  </a:lnTo>
                  <a:lnTo>
                    <a:pt x="1" y="797"/>
                  </a:lnTo>
                  <a:lnTo>
                    <a:pt x="1" y="802"/>
                  </a:lnTo>
                  <a:lnTo>
                    <a:pt x="2" y="802"/>
                  </a:lnTo>
                  <a:lnTo>
                    <a:pt x="1" y="804"/>
                  </a:lnTo>
                  <a:lnTo>
                    <a:pt x="0" y="809"/>
                  </a:lnTo>
                  <a:lnTo>
                    <a:pt x="0" y="813"/>
                  </a:lnTo>
                  <a:lnTo>
                    <a:pt x="0" y="813"/>
                  </a:lnTo>
                  <a:lnTo>
                    <a:pt x="1" y="815"/>
                  </a:lnTo>
                  <a:lnTo>
                    <a:pt x="5" y="820"/>
                  </a:lnTo>
                  <a:lnTo>
                    <a:pt x="9" y="824"/>
                  </a:lnTo>
                  <a:lnTo>
                    <a:pt x="10" y="824"/>
                  </a:lnTo>
                  <a:lnTo>
                    <a:pt x="10" y="825"/>
                  </a:lnTo>
                  <a:lnTo>
                    <a:pt x="10" y="826"/>
                  </a:lnTo>
                  <a:lnTo>
                    <a:pt x="11" y="829"/>
                  </a:lnTo>
                  <a:lnTo>
                    <a:pt x="11" y="831"/>
                  </a:lnTo>
                  <a:lnTo>
                    <a:pt x="12" y="831"/>
                  </a:lnTo>
                  <a:lnTo>
                    <a:pt x="12" y="835"/>
                  </a:lnTo>
                  <a:lnTo>
                    <a:pt x="11" y="841"/>
                  </a:lnTo>
                  <a:lnTo>
                    <a:pt x="11" y="845"/>
                  </a:lnTo>
                  <a:lnTo>
                    <a:pt x="12" y="845"/>
                  </a:lnTo>
                  <a:lnTo>
                    <a:pt x="12" y="847"/>
                  </a:lnTo>
                  <a:lnTo>
                    <a:pt x="12" y="848"/>
                  </a:lnTo>
                  <a:lnTo>
                    <a:pt x="13" y="851"/>
                  </a:lnTo>
                  <a:lnTo>
                    <a:pt x="13" y="853"/>
                  </a:lnTo>
                  <a:lnTo>
                    <a:pt x="14" y="853"/>
                  </a:lnTo>
                  <a:lnTo>
                    <a:pt x="14" y="855"/>
                  </a:lnTo>
                  <a:lnTo>
                    <a:pt x="13" y="860"/>
                  </a:lnTo>
                  <a:lnTo>
                    <a:pt x="13" y="863"/>
                  </a:lnTo>
                  <a:lnTo>
                    <a:pt x="14" y="863"/>
                  </a:lnTo>
                  <a:lnTo>
                    <a:pt x="13" y="866"/>
                  </a:lnTo>
                  <a:lnTo>
                    <a:pt x="13" y="875"/>
                  </a:lnTo>
                  <a:lnTo>
                    <a:pt x="13" y="882"/>
                  </a:lnTo>
                  <a:lnTo>
                    <a:pt x="13" y="882"/>
                  </a:lnTo>
                  <a:lnTo>
                    <a:pt x="12" y="883"/>
                  </a:lnTo>
                  <a:lnTo>
                    <a:pt x="11" y="884"/>
                  </a:lnTo>
                  <a:lnTo>
                    <a:pt x="7" y="887"/>
                  </a:lnTo>
                  <a:lnTo>
                    <a:pt x="4" y="889"/>
                  </a:lnTo>
                  <a:lnTo>
                    <a:pt x="4" y="889"/>
                  </a:lnTo>
                  <a:lnTo>
                    <a:pt x="4" y="889"/>
                  </a:lnTo>
                  <a:close/>
                </a:path>
              </a:pathLst>
            </a:custGeom>
            <a:noFill/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84920" y="5140440"/>
              <a:ext cx="7200" cy="1764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15" y="0"/>
                  </a:moveTo>
                  <a:lnTo>
                    <a:pt x="15" y="1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12"/>
                  </a:lnTo>
                  <a:lnTo>
                    <a:pt x="20" y="15"/>
                  </a:lnTo>
                  <a:lnTo>
                    <a:pt x="21" y="15"/>
                  </a:lnTo>
                  <a:lnTo>
                    <a:pt x="20" y="19"/>
                  </a:lnTo>
                  <a:lnTo>
                    <a:pt x="19" y="25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8" y="32"/>
                  </a:lnTo>
                  <a:lnTo>
                    <a:pt x="17" y="34"/>
                  </a:lnTo>
                  <a:lnTo>
                    <a:pt x="11" y="44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4" y="55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3" y="57"/>
                  </a:lnTo>
                  <a:lnTo>
                    <a:pt x="2" y="57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1" y="55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1" y="21"/>
                  </a:lnTo>
                  <a:lnTo>
                    <a:pt x="13" y="16"/>
                  </a:lnTo>
                  <a:lnTo>
                    <a:pt x="14" y="13"/>
                  </a:lnTo>
                  <a:lnTo>
                    <a:pt x="15" y="12"/>
                  </a:lnTo>
                  <a:lnTo>
                    <a:pt x="14" y="8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4880" y="5411520"/>
              <a:ext cx="5760" cy="216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2"/>
                  </a:moveTo>
                  <a:lnTo>
                    <a:pt x="1" y="2"/>
                  </a:lnTo>
                  <a:lnTo>
                    <a:pt x="7" y="2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4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44000" y="4922640"/>
              <a:ext cx="10440" cy="1044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4" y="4"/>
                  </a:moveTo>
                  <a:lnTo>
                    <a:pt x="4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8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3" y="14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4" y="22"/>
                  </a:lnTo>
                  <a:lnTo>
                    <a:pt x="24" y="25"/>
                  </a:lnTo>
                  <a:lnTo>
                    <a:pt x="24" y="27"/>
                  </a:lnTo>
                  <a:lnTo>
                    <a:pt x="25" y="27"/>
                  </a:lnTo>
                  <a:lnTo>
                    <a:pt x="26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7" y="31"/>
                  </a:lnTo>
                  <a:lnTo>
                    <a:pt x="23" y="34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7" y="35"/>
                  </a:lnTo>
                  <a:lnTo>
                    <a:pt x="11" y="35"/>
                  </a:lnTo>
                  <a:lnTo>
                    <a:pt x="6" y="35"/>
                  </a:lnTo>
                  <a:lnTo>
                    <a:pt x="6" y="34"/>
                  </a:lnTo>
                  <a:lnTo>
                    <a:pt x="5" y="33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0" y="13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44000" y="4876560"/>
              <a:ext cx="4680" cy="72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" y="25"/>
                  </a:moveTo>
                  <a:lnTo>
                    <a:pt x="0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6" y="5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2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05760" y="4879080"/>
              <a:ext cx="25560" cy="1152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2" y="5"/>
                  </a:move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1" y="11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31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6" y="8"/>
                  </a:lnTo>
                  <a:lnTo>
                    <a:pt x="48" y="7"/>
                  </a:lnTo>
                  <a:lnTo>
                    <a:pt x="49" y="5"/>
                  </a:lnTo>
                  <a:lnTo>
                    <a:pt x="53" y="2"/>
                  </a:lnTo>
                  <a:lnTo>
                    <a:pt x="55" y="1"/>
                  </a:lnTo>
                  <a:lnTo>
                    <a:pt x="56" y="0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2"/>
                  </a:lnTo>
                  <a:lnTo>
                    <a:pt x="65" y="7"/>
                  </a:lnTo>
                  <a:lnTo>
                    <a:pt x="66" y="9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67" y="12"/>
                  </a:lnTo>
                  <a:lnTo>
                    <a:pt x="67" y="13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8" y="17"/>
                  </a:lnTo>
                  <a:lnTo>
                    <a:pt x="68" y="20"/>
                  </a:lnTo>
                  <a:lnTo>
                    <a:pt x="69" y="20"/>
                  </a:lnTo>
                  <a:lnTo>
                    <a:pt x="68" y="21"/>
                  </a:lnTo>
                  <a:lnTo>
                    <a:pt x="65" y="23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3" y="25"/>
                  </a:lnTo>
                  <a:lnTo>
                    <a:pt x="60" y="28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58" y="31"/>
                  </a:lnTo>
                  <a:lnTo>
                    <a:pt x="56" y="32"/>
                  </a:lnTo>
                  <a:lnTo>
                    <a:pt x="49" y="37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3" y="40"/>
                  </a:lnTo>
                  <a:lnTo>
                    <a:pt x="42" y="40"/>
                  </a:lnTo>
                  <a:lnTo>
                    <a:pt x="38" y="40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1" y="37"/>
                  </a:lnTo>
                  <a:lnTo>
                    <a:pt x="29" y="36"/>
                  </a:lnTo>
                  <a:lnTo>
                    <a:pt x="29" y="35"/>
                  </a:lnTo>
                  <a:lnTo>
                    <a:pt x="21" y="32"/>
                  </a:lnTo>
                  <a:lnTo>
                    <a:pt x="18" y="31"/>
                  </a:lnTo>
                  <a:lnTo>
                    <a:pt x="18" y="29"/>
                  </a:lnTo>
                  <a:lnTo>
                    <a:pt x="13" y="27"/>
                  </a:lnTo>
                  <a:lnTo>
                    <a:pt x="11" y="26"/>
                  </a:lnTo>
                  <a:lnTo>
                    <a:pt x="11" y="25"/>
                  </a:lnTo>
                  <a:lnTo>
                    <a:pt x="10" y="24"/>
                  </a:lnTo>
                  <a:lnTo>
                    <a:pt x="9" y="21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2" y="9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99640" y="4882320"/>
              <a:ext cx="10440" cy="82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" y="27"/>
                  </a:move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5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6" y="13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7" y="23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4" y="25"/>
                  </a:lnTo>
                  <a:lnTo>
                    <a:pt x="18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9" y="26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05920" y="4972320"/>
              <a:ext cx="13320" cy="576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28" y="3"/>
                  </a:moveTo>
                  <a:lnTo>
                    <a:pt x="31" y="8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6"/>
                  </a:lnTo>
                  <a:lnTo>
                    <a:pt x="18" y="18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3" y="21"/>
                  </a:lnTo>
                  <a:lnTo>
                    <a:pt x="8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3" y="9"/>
                  </a:lnTo>
                  <a:lnTo>
                    <a:pt x="5" y="7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8" y="3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42920" y="5318280"/>
              <a:ext cx="28440" cy="8280"/>
            </a:xfrm>
            <a:custGeom>
              <a:avLst/>
              <a:gdLst/>
              <a:ahLst/>
              <a:rect l="l" t="t" r="r" b="b"/>
              <a:pathLst>
                <a:path w="78" h="31">
                  <a:moveTo>
                    <a:pt x="3" y="11"/>
                  </a:moveTo>
                  <a:lnTo>
                    <a:pt x="4" y="11"/>
                  </a:lnTo>
                  <a:lnTo>
                    <a:pt x="10" y="9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9" y="3"/>
                  </a:lnTo>
                  <a:lnTo>
                    <a:pt x="50" y="3"/>
                  </a:lnTo>
                  <a:lnTo>
                    <a:pt x="51" y="3"/>
                  </a:lnTo>
                  <a:lnTo>
                    <a:pt x="51" y="4"/>
                  </a:lnTo>
                  <a:lnTo>
                    <a:pt x="51" y="8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6" y="12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2" y="13"/>
                  </a:lnTo>
                  <a:lnTo>
                    <a:pt x="65" y="13"/>
                  </a:lnTo>
                  <a:lnTo>
                    <a:pt x="66" y="13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2" y="13"/>
                  </a:lnTo>
                  <a:lnTo>
                    <a:pt x="73" y="13"/>
                  </a:lnTo>
                  <a:lnTo>
                    <a:pt x="76" y="19"/>
                  </a:lnTo>
                  <a:lnTo>
                    <a:pt x="77" y="22"/>
                  </a:lnTo>
                  <a:lnTo>
                    <a:pt x="78" y="22"/>
                  </a:lnTo>
                  <a:lnTo>
                    <a:pt x="77" y="22"/>
                  </a:lnTo>
                  <a:lnTo>
                    <a:pt x="76" y="22"/>
                  </a:lnTo>
                  <a:lnTo>
                    <a:pt x="71" y="21"/>
                  </a:lnTo>
                  <a:lnTo>
                    <a:pt x="68" y="21"/>
                  </a:lnTo>
                  <a:lnTo>
                    <a:pt x="68" y="20"/>
                  </a:lnTo>
                  <a:lnTo>
                    <a:pt x="66" y="21"/>
                  </a:lnTo>
                  <a:lnTo>
                    <a:pt x="60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5" y="25"/>
                  </a:lnTo>
                  <a:lnTo>
                    <a:pt x="54" y="26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7" y="31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2" y="30"/>
                  </a:lnTo>
                  <a:lnTo>
                    <a:pt x="38" y="29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1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1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5" y="27"/>
                  </a:lnTo>
                  <a:lnTo>
                    <a:pt x="10" y="27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1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1640" y="5401080"/>
              <a:ext cx="7200" cy="936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0"/>
                  </a:moveTo>
                  <a:lnTo>
                    <a:pt x="8" y="2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7"/>
                  </a:lnTo>
                  <a:lnTo>
                    <a:pt x="19" y="22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19" y="30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2" y="33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8" y="29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7" y="19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84400" y="5414040"/>
              <a:ext cx="61560" cy="52920"/>
            </a:xfrm>
            <a:custGeom>
              <a:avLst/>
              <a:gdLst/>
              <a:ahLst/>
              <a:rect l="l" t="t" r="r" b="b"/>
              <a:pathLst>
                <a:path w="165" h="183">
                  <a:moveTo>
                    <a:pt x="3" y="20"/>
                  </a:moveTo>
                  <a:lnTo>
                    <a:pt x="2" y="22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7" y="50"/>
                  </a:lnTo>
                  <a:lnTo>
                    <a:pt x="7" y="51"/>
                  </a:lnTo>
                  <a:lnTo>
                    <a:pt x="7" y="54"/>
                  </a:lnTo>
                  <a:lnTo>
                    <a:pt x="10" y="61"/>
                  </a:lnTo>
                  <a:lnTo>
                    <a:pt x="11" y="67"/>
                  </a:lnTo>
                  <a:lnTo>
                    <a:pt x="12" y="67"/>
                  </a:lnTo>
                  <a:lnTo>
                    <a:pt x="12" y="68"/>
                  </a:lnTo>
                  <a:lnTo>
                    <a:pt x="12" y="69"/>
                  </a:lnTo>
                  <a:lnTo>
                    <a:pt x="14" y="74"/>
                  </a:lnTo>
                  <a:lnTo>
                    <a:pt x="15" y="78"/>
                  </a:lnTo>
                  <a:lnTo>
                    <a:pt x="17" y="78"/>
                  </a:lnTo>
                  <a:lnTo>
                    <a:pt x="17" y="79"/>
                  </a:lnTo>
                  <a:lnTo>
                    <a:pt x="17" y="80"/>
                  </a:lnTo>
                  <a:lnTo>
                    <a:pt x="18" y="83"/>
                  </a:lnTo>
                  <a:lnTo>
                    <a:pt x="19" y="86"/>
                  </a:lnTo>
                  <a:lnTo>
                    <a:pt x="20" y="86"/>
                  </a:lnTo>
                  <a:lnTo>
                    <a:pt x="22" y="92"/>
                  </a:lnTo>
                  <a:lnTo>
                    <a:pt x="23" y="95"/>
                  </a:lnTo>
                  <a:lnTo>
                    <a:pt x="24" y="95"/>
                  </a:lnTo>
                  <a:lnTo>
                    <a:pt x="27" y="98"/>
                  </a:lnTo>
                  <a:lnTo>
                    <a:pt x="30" y="100"/>
                  </a:lnTo>
                  <a:lnTo>
                    <a:pt x="31" y="100"/>
                  </a:lnTo>
                  <a:lnTo>
                    <a:pt x="30" y="101"/>
                  </a:lnTo>
                  <a:lnTo>
                    <a:pt x="29" y="102"/>
                  </a:lnTo>
                  <a:lnTo>
                    <a:pt x="25" y="106"/>
                  </a:lnTo>
                  <a:lnTo>
                    <a:pt x="23" y="109"/>
                  </a:lnTo>
                  <a:lnTo>
                    <a:pt x="23" y="109"/>
                  </a:lnTo>
                  <a:lnTo>
                    <a:pt x="22" y="108"/>
                  </a:lnTo>
                  <a:lnTo>
                    <a:pt x="20" y="104"/>
                  </a:lnTo>
                  <a:lnTo>
                    <a:pt x="19" y="101"/>
                  </a:lnTo>
                  <a:lnTo>
                    <a:pt x="19" y="100"/>
                  </a:lnTo>
                  <a:lnTo>
                    <a:pt x="17" y="94"/>
                  </a:lnTo>
                  <a:lnTo>
                    <a:pt x="15" y="91"/>
                  </a:lnTo>
                  <a:lnTo>
                    <a:pt x="15" y="90"/>
                  </a:lnTo>
                  <a:lnTo>
                    <a:pt x="15" y="91"/>
                  </a:lnTo>
                  <a:lnTo>
                    <a:pt x="15" y="92"/>
                  </a:lnTo>
                  <a:lnTo>
                    <a:pt x="15" y="97"/>
                  </a:lnTo>
                  <a:lnTo>
                    <a:pt x="15" y="101"/>
                  </a:lnTo>
                  <a:lnTo>
                    <a:pt x="17" y="101"/>
                  </a:lnTo>
                  <a:lnTo>
                    <a:pt x="17" y="102"/>
                  </a:lnTo>
                  <a:lnTo>
                    <a:pt x="17" y="105"/>
                  </a:lnTo>
                  <a:lnTo>
                    <a:pt x="19" y="117"/>
                  </a:lnTo>
                  <a:lnTo>
                    <a:pt x="20" y="126"/>
                  </a:lnTo>
                  <a:lnTo>
                    <a:pt x="21" y="126"/>
                  </a:lnTo>
                  <a:lnTo>
                    <a:pt x="22" y="130"/>
                  </a:lnTo>
                  <a:lnTo>
                    <a:pt x="23" y="132"/>
                  </a:lnTo>
                  <a:lnTo>
                    <a:pt x="24" y="132"/>
                  </a:lnTo>
                  <a:lnTo>
                    <a:pt x="25" y="135"/>
                  </a:lnTo>
                  <a:lnTo>
                    <a:pt x="26" y="136"/>
                  </a:lnTo>
                  <a:lnTo>
                    <a:pt x="29" y="138"/>
                  </a:lnTo>
                  <a:lnTo>
                    <a:pt x="30" y="138"/>
                  </a:lnTo>
                  <a:lnTo>
                    <a:pt x="31" y="143"/>
                  </a:lnTo>
                  <a:lnTo>
                    <a:pt x="32" y="146"/>
                  </a:lnTo>
                  <a:lnTo>
                    <a:pt x="33" y="146"/>
                  </a:lnTo>
                  <a:lnTo>
                    <a:pt x="33" y="147"/>
                  </a:lnTo>
                  <a:lnTo>
                    <a:pt x="33" y="148"/>
                  </a:lnTo>
                  <a:lnTo>
                    <a:pt x="35" y="153"/>
                  </a:lnTo>
                  <a:lnTo>
                    <a:pt x="36" y="156"/>
                  </a:lnTo>
                  <a:lnTo>
                    <a:pt x="37" y="156"/>
                  </a:lnTo>
                  <a:lnTo>
                    <a:pt x="38" y="158"/>
                  </a:lnTo>
                  <a:lnTo>
                    <a:pt x="42" y="160"/>
                  </a:lnTo>
                  <a:lnTo>
                    <a:pt x="44" y="161"/>
                  </a:lnTo>
                  <a:lnTo>
                    <a:pt x="45" y="161"/>
                  </a:lnTo>
                  <a:lnTo>
                    <a:pt x="49" y="162"/>
                  </a:lnTo>
                  <a:lnTo>
                    <a:pt x="52" y="162"/>
                  </a:lnTo>
                  <a:lnTo>
                    <a:pt x="53" y="162"/>
                  </a:lnTo>
                  <a:lnTo>
                    <a:pt x="52" y="163"/>
                  </a:lnTo>
                  <a:lnTo>
                    <a:pt x="49" y="165"/>
                  </a:lnTo>
                  <a:lnTo>
                    <a:pt x="48" y="166"/>
                  </a:lnTo>
                  <a:lnTo>
                    <a:pt x="48" y="166"/>
                  </a:lnTo>
                  <a:lnTo>
                    <a:pt x="44" y="168"/>
                  </a:lnTo>
                  <a:lnTo>
                    <a:pt x="43" y="168"/>
                  </a:lnTo>
                  <a:lnTo>
                    <a:pt x="43" y="168"/>
                  </a:lnTo>
                  <a:lnTo>
                    <a:pt x="43" y="170"/>
                  </a:lnTo>
                  <a:lnTo>
                    <a:pt x="44" y="173"/>
                  </a:lnTo>
                  <a:lnTo>
                    <a:pt x="44" y="174"/>
                  </a:lnTo>
                  <a:lnTo>
                    <a:pt x="45" y="174"/>
                  </a:lnTo>
                  <a:lnTo>
                    <a:pt x="46" y="174"/>
                  </a:lnTo>
                  <a:lnTo>
                    <a:pt x="49" y="174"/>
                  </a:lnTo>
                  <a:lnTo>
                    <a:pt x="52" y="174"/>
                  </a:lnTo>
                  <a:lnTo>
                    <a:pt x="53" y="174"/>
                  </a:lnTo>
                  <a:lnTo>
                    <a:pt x="54" y="175"/>
                  </a:lnTo>
                  <a:lnTo>
                    <a:pt x="57" y="177"/>
                  </a:lnTo>
                  <a:lnTo>
                    <a:pt x="60" y="178"/>
                  </a:lnTo>
                  <a:lnTo>
                    <a:pt x="61" y="178"/>
                  </a:lnTo>
                  <a:lnTo>
                    <a:pt x="64" y="177"/>
                  </a:lnTo>
                  <a:lnTo>
                    <a:pt x="66" y="176"/>
                  </a:lnTo>
                  <a:lnTo>
                    <a:pt x="69" y="178"/>
                  </a:lnTo>
                  <a:lnTo>
                    <a:pt x="70" y="178"/>
                  </a:lnTo>
                  <a:lnTo>
                    <a:pt x="71" y="178"/>
                  </a:lnTo>
                  <a:lnTo>
                    <a:pt x="72" y="182"/>
                  </a:lnTo>
                  <a:lnTo>
                    <a:pt x="73" y="183"/>
                  </a:lnTo>
                  <a:lnTo>
                    <a:pt x="74" y="183"/>
                  </a:lnTo>
                  <a:lnTo>
                    <a:pt x="78" y="183"/>
                  </a:lnTo>
                  <a:lnTo>
                    <a:pt x="79" y="183"/>
                  </a:lnTo>
                  <a:lnTo>
                    <a:pt x="80" y="182"/>
                  </a:lnTo>
                  <a:lnTo>
                    <a:pt x="83" y="178"/>
                  </a:lnTo>
                  <a:lnTo>
                    <a:pt x="85" y="177"/>
                  </a:lnTo>
                  <a:lnTo>
                    <a:pt x="87" y="176"/>
                  </a:lnTo>
                  <a:lnTo>
                    <a:pt x="87" y="175"/>
                  </a:lnTo>
                  <a:lnTo>
                    <a:pt x="88" y="172"/>
                  </a:lnTo>
                  <a:lnTo>
                    <a:pt x="88" y="170"/>
                  </a:lnTo>
                  <a:lnTo>
                    <a:pt x="89" y="168"/>
                  </a:lnTo>
                  <a:lnTo>
                    <a:pt x="89" y="167"/>
                  </a:lnTo>
                  <a:lnTo>
                    <a:pt x="90" y="164"/>
                  </a:lnTo>
                  <a:lnTo>
                    <a:pt x="90" y="162"/>
                  </a:lnTo>
                  <a:lnTo>
                    <a:pt x="91" y="161"/>
                  </a:lnTo>
                  <a:lnTo>
                    <a:pt x="92" y="159"/>
                  </a:lnTo>
                  <a:lnTo>
                    <a:pt x="93" y="158"/>
                  </a:lnTo>
                  <a:lnTo>
                    <a:pt x="94" y="156"/>
                  </a:lnTo>
                  <a:lnTo>
                    <a:pt x="97" y="159"/>
                  </a:lnTo>
                  <a:lnTo>
                    <a:pt x="99" y="159"/>
                  </a:lnTo>
                  <a:lnTo>
                    <a:pt x="100" y="159"/>
                  </a:lnTo>
                  <a:lnTo>
                    <a:pt x="100" y="160"/>
                  </a:lnTo>
                  <a:lnTo>
                    <a:pt x="101" y="163"/>
                  </a:lnTo>
                  <a:lnTo>
                    <a:pt x="101" y="164"/>
                  </a:lnTo>
                  <a:lnTo>
                    <a:pt x="102" y="164"/>
                  </a:lnTo>
                  <a:lnTo>
                    <a:pt x="103" y="160"/>
                  </a:lnTo>
                  <a:lnTo>
                    <a:pt x="104" y="158"/>
                  </a:lnTo>
                  <a:lnTo>
                    <a:pt x="105" y="156"/>
                  </a:lnTo>
                  <a:lnTo>
                    <a:pt x="108" y="154"/>
                  </a:lnTo>
                  <a:lnTo>
                    <a:pt x="111" y="153"/>
                  </a:lnTo>
                  <a:lnTo>
                    <a:pt x="112" y="152"/>
                  </a:lnTo>
                  <a:lnTo>
                    <a:pt x="114" y="150"/>
                  </a:lnTo>
                  <a:lnTo>
                    <a:pt x="115" y="149"/>
                  </a:lnTo>
                  <a:lnTo>
                    <a:pt x="116" y="148"/>
                  </a:lnTo>
                  <a:lnTo>
                    <a:pt x="115" y="144"/>
                  </a:lnTo>
                  <a:lnTo>
                    <a:pt x="115" y="142"/>
                  </a:lnTo>
                  <a:lnTo>
                    <a:pt x="116" y="141"/>
                  </a:lnTo>
                  <a:lnTo>
                    <a:pt x="117" y="140"/>
                  </a:lnTo>
                  <a:lnTo>
                    <a:pt x="118" y="138"/>
                  </a:lnTo>
                  <a:lnTo>
                    <a:pt x="119" y="139"/>
                  </a:lnTo>
                  <a:lnTo>
                    <a:pt x="123" y="140"/>
                  </a:lnTo>
                  <a:lnTo>
                    <a:pt x="125" y="141"/>
                  </a:lnTo>
                  <a:lnTo>
                    <a:pt x="126" y="141"/>
                  </a:lnTo>
                  <a:lnTo>
                    <a:pt x="129" y="142"/>
                  </a:lnTo>
                  <a:lnTo>
                    <a:pt x="130" y="142"/>
                  </a:lnTo>
                  <a:lnTo>
                    <a:pt x="131" y="142"/>
                  </a:lnTo>
                  <a:lnTo>
                    <a:pt x="134" y="141"/>
                  </a:lnTo>
                  <a:lnTo>
                    <a:pt x="135" y="140"/>
                  </a:lnTo>
                  <a:lnTo>
                    <a:pt x="136" y="139"/>
                  </a:lnTo>
                  <a:lnTo>
                    <a:pt x="136" y="137"/>
                  </a:lnTo>
                  <a:lnTo>
                    <a:pt x="137" y="130"/>
                  </a:lnTo>
                  <a:lnTo>
                    <a:pt x="138" y="125"/>
                  </a:lnTo>
                  <a:lnTo>
                    <a:pt x="139" y="124"/>
                  </a:lnTo>
                  <a:lnTo>
                    <a:pt x="140" y="124"/>
                  </a:lnTo>
                  <a:lnTo>
                    <a:pt x="141" y="124"/>
                  </a:lnTo>
                  <a:lnTo>
                    <a:pt x="142" y="123"/>
                  </a:lnTo>
                  <a:lnTo>
                    <a:pt x="142" y="121"/>
                  </a:lnTo>
                  <a:lnTo>
                    <a:pt x="143" y="116"/>
                  </a:lnTo>
                  <a:lnTo>
                    <a:pt x="143" y="113"/>
                  </a:lnTo>
                  <a:lnTo>
                    <a:pt x="144" y="112"/>
                  </a:lnTo>
                  <a:lnTo>
                    <a:pt x="148" y="107"/>
                  </a:lnTo>
                  <a:lnTo>
                    <a:pt x="149" y="105"/>
                  </a:lnTo>
                  <a:lnTo>
                    <a:pt x="150" y="104"/>
                  </a:lnTo>
                  <a:lnTo>
                    <a:pt x="153" y="101"/>
                  </a:lnTo>
                  <a:lnTo>
                    <a:pt x="154" y="98"/>
                  </a:lnTo>
                  <a:lnTo>
                    <a:pt x="155" y="97"/>
                  </a:lnTo>
                  <a:lnTo>
                    <a:pt x="155" y="94"/>
                  </a:lnTo>
                  <a:lnTo>
                    <a:pt x="155" y="93"/>
                  </a:lnTo>
                  <a:lnTo>
                    <a:pt x="156" y="92"/>
                  </a:lnTo>
                  <a:lnTo>
                    <a:pt x="156" y="93"/>
                  </a:lnTo>
                  <a:lnTo>
                    <a:pt x="158" y="96"/>
                  </a:lnTo>
                  <a:lnTo>
                    <a:pt x="158" y="98"/>
                  </a:lnTo>
                  <a:lnTo>
                    <a:pt x="159" y="98"/>
                  </a:lnTo>
                  <a:lnTo>
                    <a:pt x="158" y="101"/>
                  </a:lnTo>
                  <a:lnTo>
                    <a:pt x="158" y="104"/>
                  </a:lnTo>
                  <a:lnTo>
                    <a:pt x="158" y="106"/>
                  </a:lnTo>
                  <a:lnTo>
                    <a:pt x="158" y="106"/>
                  </a:lnTo>
                  <a:lnTo>
                    <a:pt x="158" y="108"/>
                  </a:lnTo>
                  <a:lnTo>
                    <a:pt x="156" y="112"/>
                  </a:lnTo>
                  <a:lnTo>
                    <a:pt x="156" y="114"/>
                  </a:lnTo>
                  <a:lnTo>
                    <a:pt x="158" y="114"/>
                  </a:lnTo>
                  <a:lnTo>
                    <a:pt x="158" y="113"/>
                  </a:lnTo>
                  <a:lnTo>
                    <a:pt x="159" y="108"/>
                  </a:lnTo>
                  <a:lnTo>
                    <a:pt x="159" y="105"/>
                  </a:lnTo>
                  <a:lnTo>
                    <a:pt x="160" y="104"/>
                  </a:lnTo>
                  <a:lnTo>
                    <a:pt x="159" y="101"/>
                  </a:lnTo>
                  <a:lnTo>
                    <a:pt x="159" y="100"/>
                  </a:lnTo>
                  <a:lnTo>
                    <a:pt x="160" y="98"/>
                  </a:lnTo>
                  <a:lnTo>
                    <a:pt x="160" y="96"/>
                  </a:lnTo>
                  <a:lnTo>
                    <a:pt x="159" y="90"/>
                  </a:lnTo>
                  <a:lnTo>
                    <a:pt x="159" y="85"/>
                  </a:lnTo>
                  <a:lnTo>
                    <a:pt x="160" y="84"/>
                  </a:lnTo>
                  <a:lnTo>
                    <a:pt x="160" y="82"/>
                  </a:lnTo>
                  <a:lnTo>
                    <a:pt x="161" y="74"/>
                  </a:lnTo>
                  <a:lnTo>
                    <a:pt x="161" y="69"/>
                  </a:lnTo>
                  <a:lnTo>
                    <a:pt x="162" y="68"/>
                  </a:lnTo>
                  <a:lnTo>
                    <a:pt x="162" y="67"/>
                  </a:lnTo>
                  <a:lnTo>
                    <a:pt x="163" y="63"/>
                  </a:lnTo>
                  <a:lnTo>
                    <a:pt x="164" y="60"/>
                  </a:lnTo>
                  <a:lnTo>
                    <a:pt x="165" y="59"/>
                  </a:lnTo>
                  <a:lnTo>
                    <a:pt x="165" y="58"/>
                  </a:lnTo>
                  <a:lnTo>
                    <a:pt x="164" y="55"/>
                  </a:lnTo>
                  <a:lnTo>
                    <a:pt x="164" y="51"/>
                  </a:lnTo>
                  <a:lnTo>
                    <a:pt x="165" y="50"/>
                  </a:lnTo>
                  <a:lnTo>
                    <a:pt x="165" y="48"/>
                  </a:lnTo>
                  <a:lnTo>
                    <a:pt x="164" y="39"/>
                  </a:lnTo>
                  <a:lnTo>
                    <a:pt x="164" y="33"/>
                  </a:lnTo>
                  <a:lnTo>
                    <a:pt x="165" y="32"/>
                  </a:lnTo>
                  <a:lnTo>
                    <a:pt x="164" y="31"/>
                  </a:lnTo>
                  <a:lnTo>
                    <a:pt x="161" y="26"/>
                  </a:lnTo>
                  <a:lnTo>
                    <a:pt x="159" y="23"/>
                  </a:lnTo>
                  <a:lnTo>
                    <a:pt x="159" y="22"/>
                  </a:lnTo>
                  <a:lnTo>
                    <a:pt x="154" y="20"/>
                  </a:lnTo>
                  <a:lnTo>
                    <a:pt x="152" y="19"/>
                  </a:lnTo>
                  <a:lnTo>
                    <a:pt x="152" y="18"/>
                  </a:lnTo>
                  <a:lnTo>
                    <a:pt x="151" y="19"/>
                  </a:lnTo>
                  <a:lnTo>
                    <a:pt x="149" y="23"/>
                  </a:lnTo>
                  <a:lnTo>
                    <a:pt x="148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3" y="25"/>
                  </a:lnTo>
                  <a:lnTo>
                    <a:pt x="142" y="25"/>
                  </a:lnTo>
                  <a:lnTo>
                    <a:pt x="142" y="24"/>
                  </a:lnTo>
                  <a:lnTo>
                    <a:pt x="138" y="22"/>
                  </a:lnTo>
                  <a:lnTo>
                    <a:pt x="137" y="21"/>
                  </a:lnTo>
                  <a:lnTo>
                    <a:pt x="137" y="20"/>
                  </a:lnTo>
                  <a:lnTo>
                    <a:pt x="136" y="21"/>
                  </a:lnTo>
                  <a:lnTo>
                    <a:pt x="135" y="22"/>
                  </a:lnTo>
                  <a:lnTo>
                    <a:pt x="130" y="26"/>
                  </a:lnTo>
                  <a:lnTo>
                    <a:pt x="127" y="30"/>
                  </a:lnTo>
                  <a:lnTo>
                    <a:pt x="127" y="30"/>
                  </a:lnTo>
                  <a:lnTo>
                    <a:pt x="126" y="30"/>
                  </a:lnTo>
                  <a:lnTo>
                    <a:pt x="125" y="30"/>
                  </a:lnTo>
                  <a:lnTo>
                    <a:pt x="120" y="30"/>
                  </a:lnTo>
                  <a:lnTo>
                    <a:pt x="117" y="30"/>
                  </a:lnTo>
                  <a:lnTo>
                    <a:pt x="117" y="30"/>
                  </a:lnTo>
                  <a:lnTo>
                    <a:pt x="116" y="30"/>
                  </a:lnTo>
                  <a:lnTo>
                    <a:pt x="115" y="30"/>
                  </a:lnTo>
                  <a:lnTo>
                    <a:pt x="112" y="30"/>
                  </a:lnTo>
                  <a:lnTo>
                    <a:pt x="108" y="30"/>
                  </a:lnTo>
                  <a:lnTo>
                    <a:pt x="108" y="28"/>
                  </a:lnTo>
                  <a:lnTo>
                    <a:pt x="106" y="30"/>
                  </a:lnTo>
                  <a:lnTo>
                    <a:pt x="103" y="31"/>
                  </a:lnTo>
                  <a:lnTo>
                    <a:pt x="100" y="32"/>
                  </a:lnTo>
                  <a:lnTo>
                    <a:pt x="100" y="32"/>
                  </a:lnTo>
                  <a:lnTo>
                    <a:pt x="95" y="34"/>
                  </a:lnTo>
                  <a:lnTo>
                    <a:pt x="93" y="34"/>
                  </a:lnTo>
                  <a:lnTo>
                    <a:pt x="93" y="34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9" y="36"/>
                  </a:lnTo>
                  <a:lnTo>
                    <a:pt x="88" y="36"/>
                  </a:lnTo>
                  <a:lnTo>
                    <a:pt x="85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3" y="36"/>
                  </a:lnTo>
                  <a:lnTo>
                    <a:pt x="81" y="36"/>
                  </a:lnTo>
                  <a:lnTo>
                    <a:pt x="73" y="35"/>
                  </a:lnTo>
                  <a:lnTo>
                    <a:pt x="68" y="34"/>
                  </a:lnTo>
                  <a:lnTo>
                    <a:pt x="68" y="33"/>
                  </a:lnTo>
                  <a:lnTo>
                    <a:pt x="67" y="33"/>
                  </a:lnTo>
                  <a:lnTo>
                    <a:pt x="66" y="33"/>
                  </a:lnTo>
                  <a:lnTo>
                    <a:pt x="61" y="32"/>
                  </a:lnTo>
                  <a:lnTo>
                    <a:pt x="58" y="32"/>
                  </a:lnTo>
                  <a:lnTo>
                    <a:pt x="58" y="31"/>
                  </a:lnTo>
                  <a:lnTo>
                    <a:pt x="56" y="30"/>
                  </a:lnTo>
                  <a:lnTo>
                    <a:pt x="53" y="26"/>
                  </a:lnTo>
                  <a:lnTo>
                    <a:pt x="49" y="23"/>
                  </a:lnTo>
                  <a:lnTo>
                    <a:pt x="49" y="22"/>
                  </a:lnTo>
                  <a:lnTo>
                    <a:pt x="47" y="21"/>
                  </a:lnTo>
                  <a:lnTo>
                    <a:pt x="43" y="18"/>
                  </a:lnTo>
                  <a:lnTo>
                    <a:pt x="39" y="15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9" y="9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2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054160" y="3576600"/>
            <a:ext cx="341280" cy="695520"/>
          </a:xfrm>
          <a:custGeom>
            <a:avLst/>
            <a:gdLst/>
            <a:ahLst/>
            <a:rect l="l" t="t" r="r" b="b"/>
            <a:pathLst>
              <a:path w="1192" h="2542">
                <a:moveTo>
                  <a:pt x="845" y="2449"/>
                </a:moveTo>
                <a:lnTo>
                  <a:pt x="848" y="2439"/>
                </a:lnTo>
                <a:lnTo>
                  <a:pt x="855" y="2419"/>
                </a:lnTo>
                <a:lnTo>
                  <a:pt x="869" y="2380"/>
                </a:lnTo>
                <a:lnTo>
                  <a:pt x="874" y="2338"/>
                </a:lnTo>
                <a:lnTo>
                  <a:pt x="872" y="2326"/>
                </a:lnTo>
                <a:lnTo>
                  <a:pt x="865" y="2330"/>
                </a:lnTo>
                <a:lnTo>
                  <a:pt x="850" y="2335"/>
                </a:lnTo>
                <a:lnTo>
                  <a:pt x="837" y="2338"/>
                </a:lnTo>
                <a:lnTo>
                  <a:pt x="811" y="2345"/>
                </a:lnTo>
                <a:lnTo>
                  <a:pt x="795" y="2361"/>
                </a:lnTo>
                <a:lnTo>
                  <a:pt x="798" y="2352"/>
                </a:lnTo>
                <a:lnTo>
                  <a:pt x="808" y="2336"/>
                </a:lnTo>
                <a:lnTo>
                  <a:pt x="821" y="2322"/>
                </a:lnTo>
                <a:lnTo>
                  <a:pt x="850" y="2297"/>
                </a:lnTo>
                <a:lnTo>
                  <a:pt x="871" y="2274"/>
                </a:lnTo>
                <a:lnTo>
                  <a:pt x="869" y="2271"/>
                </a:lnTo>
                <a:lnTo>
                  <a:pt x="868" y="2268"/>
                </a:lnTo>
                <a:lnTo>
                  <a:pt x="866" y="2264"/>
                </a:lnTo>
                <a:lnTo>
                  <a:pt x="863" y="2255"/>
                </a:lnTo>
                <a:lnTo>
                  <a:pt x="865" y="2249"/>
                </a:lnTo>
                <a:lnTo>
                  <a:pt x="861" y="2251"/>
                </a:lnTo>
                <a:lnTo>
                  <a:pt x="858" y="2249"/>
                </a:lnTo>
                <a:lnTo>
                  <a:pt x="855" y="2248"/>
                </a:lnTo>
                <a:lnTo>
                  <a:pt x="852" y="2246"/>
                </a:lnTo>
                <a:lnTo>
                  <a:pt x="848" y="2242"/>
                </a:lnTo>
                <a:lnTo>
                  <a:pt x="842" y="2239"/>
                </a:lnTo>
                <a:lnTo>
                  <a:pt x="836" y="2238"/>
                </a:lnTo>
                <a:lnTo>
                  <a:pt x="830" y="2240"/>
                </a:lnTo>
                <a:lnTo>
                  <a:pt x="830" y="2240"/>
                </a:lnTo>
                <a:lnTo>
                  <a:pt x="832" y="2238"/>
                </a:lnTo>
                <a:lnTo>
                  <a:pt x="832" y="2236"/>
                </a:lnTo>
                <a:lnTo>
                  <a:pt x="830" y="2233"/>
                </a:lnTo>
                <a:lnTo>
                  <a:pt x="827" y="2232"/>
                </a:lnTo>
                <a:lnTo>
                  <a:pt x="824" y="2230"/>
                </a:lnTo>
                <a:lnTo>
                  <a:pt x="819" y="2227"/>
                </a:lnTo>
                <a:lnTo>
                  <a:pt x="817" y="2220"/>
                </a:lnTo>
                <a:lnTo>
                  <a:pt x="821" y="2216"/>
                </a:lnTo>
                <a:lnTo>
                  <a:pt x="823" y="2216"/>
                </a:lnTo>
                <a:lnTo>
                  <a:pt x="824" y="2216"/>
                </a:lnTo>
                <a:lnTo>
                  <a:pt x="829" y="2216"/>
                </a:lnTo>
                <a:lnTo>
                  <a:pt x="833" y="2214"/>
                </a:lnTo>
                <a:lnTo>
                  <a:pt x="836" y="2213"/>
                </a:lnTo>
                <a:lnTo>
                  <a:pt x="842" y="2200"/>
                </a:lnTo>
                <a:lnTo>
                  <a:pt x="848" y="2172"/>
                </a:lnTo>
                <a:lnTo>
                  <a:pt x="846" y="2143"/>
                </a:lnTo>
                <a:lnTo>
                  <a:pt x="840" y="2117"/>
                </a:lnTo>
                <a:lnTo>
                  <a:pt x="829" y="2091"/>
                </a:lnTo>
                <a:lnTo>
                  <a:pt x="813" y="2070"/>
                </a:lnTo>
                <a:lnTo>
                  <a:pt x="804" y="2058"/>
                </a:lnTo>
                <a:lnTo>
                  <a:pt x="803" y="2062"/>
                </a:lnTo>
                <a:lnTo>
                  <a:pt x="800" y="2070"/>
                </a:lnTo>
                <a:lnTo>
                  <a:pt x="791" y="2083"/>
                </a:lnTo>
                <a:lnTo>
                  <a:pt x="781" y="2091"/>
                </a:lnTo>
                <a:lnTo>
                  <a:pt x="778" y="2093"/>
                </a:lnTo>
                <a:lnTo>
                  <a:pt x="779" y="2081"/>
                </a:lnTo>
                <a:lnTo>
                  <a:pt x="784" y="2056"/>
                </a:lnTo>
                <a:lnTo>
                  <a:pt x="788" y="2007"/>
                </a:lnTo>
                <a:lnTo>
                  <a:pt x="785" y="1959"/>
                </a:lnTo>
                <a:lnTo>
                  <a:pt x="784" y="1946"/>
                </a:lnTo>
                <a:lnTo>
                  <a:pt x="781" y="1943"/>
                </a:lnTo>
                <a:lnTo>
                  <a:pt x="777" y="1936"/>
                </a:lnTo>
                <a:lnTo>
                  <a:pt x="771" y="1930"/>
                </a:lnTo>
                <a:lnTo>
                  <a:pt x="759" y="1916"/>
                </a:lnTo>
                <a:lnTo>
                  <a:pt x="753" y="1903"/>
                </a:lnTo>
                <a:lnTo>
                  <a:pt x="749" y="1890"/>
                </a:lnTo>
                <a:lnTo>
                  <a:pt x="743" y="1862"/>
                </a:lnTo>
                <a:lnTo>
                  <a:pt x="737" y="1807"/>
                </a:lnTo>
                <a:lnTo>
                  <a:pt x="732" y="1752"/>
                </a:lnTo>
                <a:lnTo>
                  <a:pt x="729" y="1738"/>
                </a:lnTo>
                <a:lnTo>
                  <a:pt x="727" y="1733"/>
                </a:lnTo>
                <a:lnTo>
                  <a:pt x="727" y="1722"/>
                </a:lnTo>
                <a:lnTo>
                  <a:pt x="729" y="1710"/>
                </a:lnTo>
                <a:lnTo>
                  <a:pt x="736" y="1687"/>
                </a:lnTo>
                <a:lnTo>
                  <a:pt x="743" y="1670"/>
                </a:lnTo>
                <a:lnTo>
                  <a:pt x="737" y="1672"/>
                </a:lnTo>
                <a:lnTo>
                  <a:pt x="727" y="1675"/>
                </a:lnTo>
                <a:lnTo>
                  <a:pt x="708" y="1681"/>
                </a:lnTo>
                <a:lnTo>
                  <a:pt x="698" y="1681"/>
                </a:lnTo>
                <a:lnTo>
                  <a:pt x="688" y="1678"/>
                </a:lnTo>
                <a:lnTo>
                  <a:pt x="684" y="1675"/>
                </a:lnTo>
                <a:lnTo>
                  <a:pt x="675" y="1670"/>
                </a:lnTo>
                <a:lnTo>
                  <a:pt x="664" y="1654"/>
                </a:lnTo>
                <a:lnTo>
                  <a:pt x="658" y="1636"/>
                </a:lnTo>
                <a:lnTo>
                  <a:pt x="658" y="1617"/>
                </a:lnTo>
                <a:lnTo>
                  <a:pt x="664" y="1600"/>
                </a:lnTo>
                <a:lnTo>
                  <a:pt x="675" y="1583"/>
                </a:lnTo>
                <a:lnTo>
                  <a:pt x="682" y="1574"/>
                </a:lnTo>
                <a:lnTo>
                  <a:pt x="681" y="1578"/>
                </a:lnTo>
                <a:lnTo>
                  <a:pt x="677" y="1586"/>
                </a:lnTo>
                <a:lnTo>
                  <a:pt x="671" y="1590"/>
                </a:lnTo>
                <a:lnTo>
                  <a:pt x="665" y="1593"/>
                </a:lnTo>
                <a:lnTo>
                  <a:pt x="658" y="1593"/>
                </a:lnTo>
                <a:lnTo>
                  <a:pt x="652" y="1591"/>
                </a:lnTo>
                <a:lnTo>
                  <a:pt x="649" y="1588"/>
                </a:lnTo>
                <a:lnTo>
                  <a:pt x="646" y="1587"/>
                </a:lnTo>
                <a:lnTo>
                  <a:pt x="643" y="1584"/>
                </a:lnTo>
                <a:lnTo>
                  <a:pt x="642" y="1581"/>
                </a:lnTo>
                <a:lnTo>
                  <a:pt x="640" y="1574"/>
                </a:lnTo>
                <a:lnTo>
                  <a:pt x="639" y="1567"/>
                </a:lnTo>
                <a:lnTo>
                  <a:pt x="636" y="1559"/>
                </a:lnTo>
                <a:lnTo>
                  <a:pt x="632" y="1552"/>
                </a:lnTo>
                <a:lnTo>
                  <a:pt x="630" y="1548"/>
                </a:lnTo>
                <a:lnTo>
                  <a:pt x="632" y="1552"/>
                </a:lnTo>
                <a:lnTo>
                  <a:pt x="636" y="1561"/>
                </a:lnTo>
                <a:lnTo>
                  <a:pt x="645" y="1578"/>
                </a:lnTo>
                <a:lnTo>
                  <a:pt x="648" y="1587"/>
                </a:lnTo>
                <a:lnTo>
                  <a:pt x="646" y="1596"/>
                </a:lnTo>
                <a:lnTo>
                  <a:pt x="645" y="1599"/>
                </a:lnTo>
                <a:lnTo>
                  <a:pt x="640" y="1604"/>
                </a:lnTo>
                <a:lnTo>
                  <a:pt x="635" y="1615"/>
                </a:lnTo>
                <a:lnTo>
                  <a:pt x="624" y="1633"/>
                </a:lnTo>
                <a:lnTo>
                  <a:pt x="620" y="1654"/>
                </a:lnTo>
                <a:lnTo>
                  <a:pt x="621" y="1659"/>
                </a:lnTo>
                <a:lnTo>
                  <a:pt x="611" y="1662"/>
                </a:lnTo>
                <a:lnTo>
                  <a:pt x="604" y="1665"/>
                </a:lnTo>
                <a:lnTo>
                  <a:pt x="588" y="1674"/>
                </a:lnTo>
                <a:lnTo>
                  <a:pt x="574" y="1686"/>
                </a:lnTo>
                <a:lnTo>
                  <a:pt x="561" y="1694"/>
                </a:lnTo>
                <a:lnTo>
                  <a:pt x="545" y="1699"/>
                </a:lnTo>
                <a:lnTo>
                  <a:pt x="527" y="1694"/>
                </a:lnTo>
                <a:lnTo>
                  <a:pt x="527" y="1694"/>
                </a:lnTo>
                <a:lnTo>
                  <a:pt x="526" y="1693"/>
                </a:lnTo>
                <a:lnTo>
                  <a:pt x="526" y="1691"/>
                </a:lnTo>
                <a:lnTo>
                  <a:pt x="526" y="1690"/>
                </a:lnTo>
                <a:lnTo>
                  <a:pt x="526" y="1686"/>
                </a:lnTo>
                <a:lnTo>
                  <a:pt x="526" y="1681"/>
                </a:lnTo>
                <a:lnTo>
                  <a:pt x="526" y="1680"/>
                </a:lnTo>
                <a:lnTo>
                  <a:pt x="520" y="1680"/>
                </a:lnTo>
                <a:lnTo>
                  <a:pt x="519" y="1681"/>
                </a:lnTo>
                <a:lnTo>
                  <a:pt x="517" y="1683"/>
                </a:lnTo>
                <a:lnTo>
                  <a:pt x="516" y="1686"/>
                </a:lnTo>
                <a:lnTo>
                  <a:pt x="513" y="1690"/>
                </a:lnTo>
                <a:lnTo>
                  <a:pt x="503" y="1696"/>
                </a:lnTo>
                <a:lnTo>
                  <a:pt x="500" y="1694"/>
                </a:lnTo>
                <a:lnTo>
                  <a:pt x="498" y="1700"/>
                </a:lnTo>
                <a:lnTo>
                  <a:pt x="495" y="1710"/>
                </a:lnTo>
                <a:lnTo>
                  <a:pt x="493" y="1730"/>
                </a:lnTo>
                <a:lnTo>
                  <a:pt x="491" y="1751"/>
                </a:lnTo>
                <a:lnTo>
                  <a:pt x="491" y="1755"/>
                </a:lnTo>
                <a:lnTo>
                  <a:pt x="490" y="1759"/>
                </a:lnTo>
                <a:lnTo>
                  <a:pt x="488" y="1761"/>
                </a:lnTo>
                <a:lnTo>
                  <a:pt x="487" y="1762"/>
                </a:lnTo>
                <a:lnTo>
                  <a:pt x="485" y="1764"/>
                </a:lnTo>
                <a:lnTo>
                  <a:pt x="482" y="1765"/>
                </a:lnTo>
                <a:lnTo>
                  <a:pt x="477" y="1765"/>
                </a:lnTo>
                <a:lnTo>
                  <a:pt x="466" y="1771"/>
                </a:lnTo>
                <a:lnTo>
                  <a:pt x="466" y="1772"/>
                </a:lnTo>
                <a:lnTo>
                  <a:pt x="466" y="1770"/>
                </a:lnTo>
                <a:lnTo>
                  <a:pt x="466" y="1767"/>
                </a:lnTo>
                <a:lnTo>
                  <a:pt x="466" y="1764"/>
                </a:lnTo>
                <a:lnTo>
                  <a:pt x="464" y="1762"/>
                </a:lnTo>
                <a:lnTo>
                  <a:pt x="462" y="1761"/>
                </a:lnTo>
                <a:lnTo>
                  <a:pt x="459" y="1759"/>
                </a:lnTo>
                <a:lnTo>
                  <a:pt x="453" y="1757"/>
                </a:lnTo>
                <a:lnTo>
                  <a:pt x="448" y="1746"/>
                </a:lnTo>
                <a:lnTo>
                  <a:pt x="449" y="1746"/>
                </a:lnTo>
                <a:lnTo>
                  <a:pt x="445" y="1749"/>
                </a:lnTo>
                <a:lnTo>
                  <a:pt x="440" y="1751"/>
                </a:lnTo>
                <a:lnTo>
                  <a:pt x="437" y="1755"/>
                </a:lnTo>
                <a:lnTo>
                  <a:pt x="432" y="1762"/>
                </a:lnTo>
                <a:lnTo>
                  <a:pt x="426" y="1770"/>
                </a:lnTo>
                <a:lnTo>
                  <a:pt x="420" y="1774"/>
                </a:lnTo>
                <a:lnTo>
                  <a:pt x="410" y="1775"/>
                </a:lnTo>
                <a:lnTo>
                  <a:pt x="406" y="1772"/>
                </a:lnTo>
                <a:lnTo>
                  <a:pt x="400" y="1771"/>
                </a:lnTo>
                <a:lnTo>
                  <a:pt x="398" y="1768"/>
                </a:lnTo>
                <a:lnTo>
                  <a:pt x="395" y="1765"/>
                </a:lnTo>
                <a:lnTo>
                  <a:pt x="395" y="1762"/>
                </a:lnTo>
                <a:lnTo>
                  <a:pt x="397" y="1758"/>
                </a:lnTo>
                <a:lnTo>
                  <a:pt x="398" y="1755"/>
                </a:lnTo>
                <a:lnTo>
                  <a:pt x="400" y="1752"/>
                </a:lnTo>
                <a:lnTo>
                  <a:pt x="403" y="1746"/>
                </a:lnTo>
                <a:lnTo>
                  <a:pt x="409" y="1735"/>
                </a:lnTo>
                <a:lnTo>
                  <a:pt x="419" y="1723"/>
                </a:lnTo>
                <a:lnTo>
                  <a:pt x="423" y="1720"/>
                </a:lnTo>
                <a:lnTo>
                  <a:pt x="416" y="1725"/>
                </a:lnTo>
                <a:lnTo>
                  <a:pt x="404" y="1732"/>
                </a:lnTo>
                <a:lnTo>
                  <a:pt x="378" y="1741"/>
                </a:lnTo>
                <a:lnTo>
                  <a:pt x="352" y="1746"/>
                </a:lnTo>
                <a:lnTo>
                  <a:pt x="346" y="1746"/>
                </a:lnTo>
                <a:lnTo>
                  <a:pt x="346" y="1743"/>
                </a:lnTo>
                <a:lnTo>
                  <a:pt x="345" y="1736"/>
                </a:lnTo>
                <a:lnTo>
                  <a:pt x="343" y="1722"/>
                </a:lnTo>
                <a:lnTo>
                  <a:pt x="346" y="1715"/>
                </a:lnTo>
                <a:lnTo>
                  <a:pt x="351" y="1709"/>
                </a:lnTo>
                <a:lnTo>
                  <a:pt x="355" y="1704"/>
                </a:lnTo>
                <a:lnTo>
                  <a:pt x="349" y="1707"/>
                </a:lnTo>
                <a:lnTo>
                  <a:pt x="340" y="1713"/>
                </a:lnTo>
                <a:lnTo>
                  <a:pt x="332" y="1720"/>
                </a:lnTo>
                <a:lnTo>
                  <a:pt x="319" y="1735"/>
                </a:lnTo>
                <a:lnTo>
                  <a:pt x="310" y="1743"/>
                </a:lnTo>
                <a:lnTo>
                  <a:pt x="303" y="1748"/>
                </a:lnTo>
                <a:lnTo>
                  <a:pt x="296" y="1749"/>
                </a:lnTo>
                <a:lnTo>
                  <a:pt x="291" y="1749"/>
                </a:lnTo>
                <a:lnTo>
                  <a:pt x="285" y="1748"/>
                </a:lnTo>
                <a:lnTo>
                  <a:pt x="281" y="1745"/>
                </a:lnTo>
                <a:lnTo>
                  <a:pt x="278" y="1741"/>
                </a:lnTo>
                <a:lnTo>
                  <a:pt x="275" y="1735"/>
                </a:lnTo>
                <a:lnTo>
                  <a:pt x="274" y="1730"/>
                </a:lnTo>
                <a:lnTo>
                  <a:pt x="274" y="1717"/>
                </a:lnTo>
                <a:lnTo>
                  <a:pt x="277" y="1706"/>
                </a:lnTo>
                <a:lnTo>
                  <a:pt x="278" y="1706"/>
                </a:lnTo>
                <a:lnTo>
                  <a:pt x="280" y="1701"/>
                </a:lnTo>
                <a:lnTo>
                  <a:pt x="284" y="1693"/>
                </a:lnTo>
                <a:lnTo>
                  <a:pt x="290" y="1674"/>
                </a:lnTo>
                <a:lnTo>
                  <a:pt x="296" y="1657"/>
                </a:lnTo>
                <a:lnTo>
                  <a:pt x="298" y="1651"/>
                </a:lnTo>
                <a:lnTo>
                  <a:pt x="298" y="1648"/>
                </a:lnTo>
                <a:lnTo>
                  <a:pt x="298" y="1645"/>
                </a:lnTo>
                <a:lnTo>
                  <a:pt x="298" y="1641"/>
                </a:lnTo>
                <a:lnTo>
                  <a:pt x="296" y="1632"/>
                </a:lnTo>
                <a:lnTo>
                  <a:pt x="293" y="1613"/>
                </a:lnTo>
                <a:lnTo>
                  <a:pt x="296" y="1600"/>
                </a:lnTo>
                <a:lnTo>
                  <a:pt x="304" y="1584"/>
                </a:lnTo>
                <a:lnTo>
                  <a:pt x="314" y="1549"/>
                </a:lnTo>
                <a:lnTo>
                  <a:pt x="316" y="1516"/>
                </a:lnTo>
                <a:lnTo>
                  <a:pt x="313" y="1484"/>
                </a:lnTo>
                <a:lnTo>
                  <a:pt x="293" y="1420"/>
                </a:lnTo>
                <a:lnTo>
                  <a:pt x="288" y="1403"/>
                </a:lnTo>
                <a:lnTo>
                  <a:pt x="285" y="1399"/>
                </a:lnTo>
                <a:lnTo>
                  <a:pt x="281" y="1388"/>
                </a:lnTo>
                <a:lnTo>
                  <a:pt x="271" y="1368"/>
                </a:lnTo>
                <a:lnTo>
                  <a:pt x="261" y="1346"/>
                </a:lnTo>
                <a:lnTo>
                  <a:pt x="259" y="1339"/>
                </a:lnTo>
                <a:lnTo>
                  <a:pt x="252" y="1344"/>
                </a:lnTo>
                <a:lnTo>
                  <a:pt x="242" y="1354"/>
                </a:lnTo>
                <a:lnTo>
                  <a:pt x="233" y="1365"/>
                </a:lnTo>
                <a:lnTo>
                  <a:pt x="216" y="1388"/>
                </a:lnTo>
                <a:lnTo>
                  <a:pt x="198" y="1400"/>
                </a:lnTo>
                <a:lnTo>
                  <a:pt x="197" y="1394"/>
                </a:lnTo>
                <a:lnTo>
                  <a:pt x="198" y="1383"/>
                </a:lnTo>
                <a:lnTo>
                  <a:pt x="203" y="1361"/>
                </a:lnTo>
                <a:lnTo>
                  <a:pt x="210" y="1338"/>
                </a:lnTo>
                <a:lnTo>
                  <a:pt x="213" y="1331"/>
                </a:lnTo>
                <a:lnTo>
                  <a:pt x="214" y="1322"/>
                </a:lnTo>
                <a:lnTo>
                  <a:pt x="214" y="1315"/>
                </a:lnTo>
                <a:lnTo>
                  <a:pt x="211" y="1307"/>
                </a:lnTo>
                <a:lnTo>
                  <a:pt x="210" y="1300"/>
                </a:lnTo>
                <a:lnTo>
                  <a:pt x="201" y="1288"/>
                </a:lnTo>
                <a:lnTo>
                  <a:pt x="194" y="1277"/>
                </a:lnTo>
                <a:lnTo>
                  <a:pt x="187" y="1262"/>
                </a:lnTo>
                <a:lnTo>
                  <a:pt x="184" y="1245"/>
                </a:lnTo>
                <a:lnTo>
                  <a:pt x="184" y="1245"/>
                </a:lnTo>
                <a:lnTo>
                  <a:pt x="182" y="1241"/>
                </a:lnTo>
                <a:lnTo>
                  <a:pt x="181" y="1236"/>
                </a:lnTo>
                <a:lnTo>
                  <a:pt x="180" y="1233"/>
                </a:lnTo>
                <a:lnTo>
                  <a:pt x="177" y="1231"/>
                </a:lnTo>
                <a:lnTo>
                  <a:pt x="174" y="1229"/>
                </a:lnTo>
                <a:lnTo>
                  <a:pt x="169" y="1228"/>
                </a:lnTo>
                <a:lnTo>
                  <a:pt x="161" y="1226"/>
                </a:lnTo>
                <a:lnTo>
                  <a:pt x="139" y="1222"/>
                </a:lnTo>
                <a:lnTo>
                  <a:pt x="139" y="1222"/>
                </a:lnTo>
                <a:lnTo>
                  <a:pt x="133" y="1222"/>
                </a:lnTo>
                <a:lnTo>
                  <a:pt x="129" y="1219"/>
                </a:lnTo>
                <a:lnTo>
                  <a:pt x="116" y="1209"/>
                </a:lnTo>
                <a:lnTo>
                  <a:pt x="103" y="1196"/>
                </a:lnTo>
                <a:lnTo>
                  <a:pt x="80" y="1157"/>
                </a:lnTo>
                <a:lnTo>
                  <a:pt x="72" y="1133"/>
                </a:lnTo>
                <a:lnTo>
                  <a:pt x="69" y="1128"/>
                </a:lnTo>
                <a:lnTo>
                  <a:pt x="65" y="1122"/>
                </a:lnTo>
                <a:lnTo>
                  <a:pt x="59" y="1118"/>
                </a:lnTo>
                <a:lnTo>
                  <a:pt x="52" y="1113"/>
                </a:lnTo>
                <a:lnTo>
                  <a:pt x="36" y="1107"/>
                </a:lnTo>
                <a:lnTo>
                  <a:pt x="22" y="1102"/>
                </a:lnTo>
                <a:lnTo>
                  <a:pt x="9" y="1094"/>
                </a:lnTo>
                <a:lnTo>
                  <a:pt x="4" y="1089"/>
                </a:lnTo>
                <a:lnTo>
                  <a:pt x="3" y="1080"/>
                </a:lnTo>
                <a:lnTo>
                  <a:pt x="3" y="1080"/>
                </a:lnTo>
                <a:lnTo>
                  <a:pt x="1" y="1071"/>
                </a:lnTo>
                <a:lnTo>
                  <a:pt x="0" y="1054"/>
                </a:lnTo>
                <a:lnTo>
                  <a:pt x="3" y="1038"/>
                </a:lnTo>
                <a:lnTo>
                  <a:pt x="10" y="1023"/>
                </a:lnTo>
                <a:lnTo>
                  <a:pt x="20" y="1012"/>
                </a:lnTo>
                <a:lnTo>
                  <a:pt x="38" y="1002"/>
                </a:lnTo>
                <a:lnTo>
                  <a:pt x="49" y="997"/>
                </a:lnTo>
                <a:lnTo>
                  <a:pt x="55" y="996"/>
                </a:lnTo>
                <a:lnTo>
                  <a:pt x="58" y="991"/>
                </a:lnTo>
                <a:lnTo>
                  <a:pt x="61" y="986"/>
                </a:lnTo>
                <a:lnTo>
                  <a:pt x="61" y="980"/>
                </a:lnTo>
                <a:lnTo>
                  <a:pt x="59" y="974"/>
                </a:lnTo>
                <a:lnTo>
                  <a:pt x="55" y="960"/>
                </a:lnTo>
                <a:lnTo>
                  <a:pt x="51" y="947"/>
                </a:lnTo>
                <a:lnTo>
                  <a:pt x="51" y="933"/>
                </a:lnTo>
                <a:lnTo>
                  <a:pt x="54" y="926"/>
                </a:lnTo>
                <a:lnTo>
                  <a:pt x="58" y="922"/>
                </a:lnTo>
                <a:lnTo>
                  <a:pt x="64" y="919"/>
                </a:lnTo>
                <a:lnTo>
                  <a:pt x="69" y="918"/>
                </a:lnTo>
                <a:lnTo>
                  <a:pt x="77" y="916"/>
                </a:lnTo>
                <a:lnTo>
                  <a:pt x="93" y="916"/>
                </a:lnTo>
                <a:lnTo>
                  <a:pt x="106" y="915"/>
                </a:lnTo>
                <a:lnTo>
                  <a:pt x="113" y="913"/>
                </a:lnTo>
                <a:lnTo>
                  <a:pt x="117" y="910"/>
                </a:lnTo>
                <a:lnTo>
                  <a:pt x="122" y="905"/>
                </a:lnTo>
                <a:lnTo>
                  <a:pt x="123" y="897"/>
                </a:lnTo>
                <a:lnTo>
                  <a:pt x="125" y="897"/>
                </a:lnTo>
                <a:lnTo>
                  <a:pt x="126" y="889"/>
                </a:lnTo>
                <a:lnTo>
                  <a:pt x="129" y="870"/>
                </a:lnTo>
                <a:lnTo>
                  <a:pt x="133" y="829"/>
                </a:lnTo>
                <a:lnTo>
                  <a:pt x="130" y="789"/>
                </a:lnTo>
                <a:lnTo>
                  <a:pt x="129" y="778"/>
                </a:lnTo>
                <a:lnTo>
                  <a:pt x="136" y="780"/>
                </a:lnTo>
                <a:lnTo>
                  <a:pt x="146" y="778"/>
                </a:lnTo>
                <a:lnTo>
                  <a:pt x="151" y="776"/>
                </a:lnTo>
                <a:lnTo>
                  <a:pt x="152" y="773"/>
                </a:lnTo>
                <a:lnTo>
                  <a:pt x="154" y="768"/>
                </a:lnTo>
                <a:lnTo>
                  <a:pt x="152" y="764"/>
                </a:lnTo>
                <a:lnTo>
                  <a:pt x="154" y="754"/>
                </a:lnTo>
                <a:lnTo>
                  <a:pt x="155" y="738"/>
                </a:lnTo>
                <a:lnTo>
                  <a:pt x="164" y="720"/>
                </a:lnTo>
                <a:lnTo>
                  <a:pt x="168" y="715"/>
                </a:lnTo>
                <a:lnTo>
                  <a:pt x="169" y="710"/>
                </a:lnTo>
                <a:lnTo>
                  <a:pt x="174" y="699"/>
                </a:lnTo>
                <a:lnTo>
                  <a:pt x="175" y="687"/>
                </a:lnTo>
                <a:lnTo>
                  <a:pt x="174" y="673"/>
                </a:lnTo>
                <a:lnTo>
                  <a:pt x="165" y="647"/>
                </a:lnTo>
                <a:lnTo>
                  <a:pt x="164" y="639"/>
                </a:lnTo>
                <a:lnTo>
                  <a:pt x="172" y="639"/>
                </a:lnTo>
                <a:lnTo>
                  <a:pt x="182" y="642"/>
                </a:lnTo>
                <a:lnTo>
                  <a:pt x="204" y="648"/>
                </a:lnTo>
                <a:lnTo>
                  <a:pt x="243" y="658"/>
                </a:lnTo>
                <a:lnTo>
                  <a:pt x="274" y="638"/>
                </a:lnTo>
                <a:lnTo>
                  <a:pt x="274" y="635"/>
                </a:lnTo>
                <a:lnTo>
                  <a:pt x="275" y="632"/>
                </a:lnTo>
                <a:lnTo>
                  <a:pt x="275" y="625"/>
                </a:lnTo>
                <a:lnTo>
                  <a:pt x="275" y="610"/>
                </a:lnTo>
                <a:lnTo>
                  <a:pt x="278" y="600"/>
                </a:lnTo>
                <a:lnTo>
                  <a:pt x="285" y="593"/>
                </a:lnTo>
                <a:lnTo>
                  <a:pt x="298" y="577"/>
                </a:lnTo>
                <a:lnTo>
                  <a:pt x="319" y="544"/>
                </a:lnTo>
                <a:lnTo>
                  <a:pt x="336" y="507"/>
                </a:lnTo>
                <a:lnTo>
                  <a:pt x="342" y="499"/>
                </a:lnTo>
                <a:lnTo>
                  <a:pt x="343" y="494"/>
                </a:lnTo>
                <a:lnTo>
                  <a:pt x="345" y="489"/>
                </a:lnTo>
                <a:lnTo>
                  <a:pt x="345" y="483"/>
                </a:lnTo>
                <a:lnTo>
                  <a:pt x="343" y="477"/>
                </a:lnTo>
                <a:lnTo>
                  <a:pt x="340" y="464"/>
                </a:lnTo>
                <a:lnTo>
                  <a:pt x="335" y="438"/>
                </a:lnTo>
                <a:lnTo>
                  <a:pt x="338" y="423"/>
                </a:lnTo>
                <a:lnTo>
                  <a:pt x="339" y="418"/>
                </a:lnTo>
                <a:lnTo>
                  <a:pt x="346" y="408"/>
                </a:lnTo>
                <a:lnTo>
                  <a:pt x="364" y="389"/>
                </a:lnTo>
                <a:lnTo>
                  <a:pt x="382" y="368"/>
                </a:lnTo>
                <a:lnTo>
                  <a:pt x="387" y="363"/>
                </a:lnTo>
                <a:lnTo>
                  <a:pt x="390" y="358"/>
                </a:lnTo>
                <a:lnTo>
                  <a:pt x="393" y="348"/>
                </a:lnTo>
                <a:lnTo>
                  <a:pt x="394" y="337"/>
                </a:lnTo>
                <a:lnTo>
                  <a:pt x="393" y="326"/>
                </a:lnTo>
                <a:lnTo>
                  <a:pt x="390" y="316"/>
                </a:lnTo>
                <a:lnTo>
                  <a:pt x="387" y="306"/>
                </a:lnTo>
                <a:lnTo>
                  <a:pt x="385" y="300"/>
                </a:lnTo>
                <a:lnTo>
                  <a:pt x="384" y="297"/>
                </a:lnTo>
                <a:lnTo>
                  <a:pt x="384" y="293"/>
                </a:lnTo>
                <a:lnTo>
                  <a:pt x="385" y="287"/>
                </a:lnTo>
                <a:lnTo>
                  <a:pt x="388" y="283"/>
                </a:lnTo>
                <a:lnTo>
                  <a:pt x="395" y="273"/>
                </a:lnTo>
                <a:lnTo>
                  <a:pt x="406" y="264"/>
                </a:lnTo>
                <a:lnTo>
                  <a:pt x="424" y="245"/>
                </a:lnTo>
                <a:lnTo>
                  <a:pt x="426" y="245"/>
                </a:lnTo>
                <a:lnTo>
                  <a:pt x="429" y="244"/>
                </a:lnTo>
                <a:lnTo>
                  <a:pt x="430" y="244"/>
                </a:lnTo>
                <a:lnTo>
                  <a:pt x="436" y="244"/>
                </a:lnTo>
                <a:lnTo>
                  <a:pt x="449" y="244"/>
                </a:lnTo>
                <a:lnTo>
                  <a:pt x="456" y="241"/>
                </a:lnTo>
                <a:lnTo>
                  <a:pt x="459" y="238"/>
                </a:lnTo>
                <a:lnTo>
                  <a:pt x="468" y="231"/>
                </a:lnTo>
                <a:lnTo>
                  <a:pt x="484" y="215"/>
                </a:lnTo>
                <a:lnTo>
                  <a:pt x="500" y="199"/>
                </a:lnTo>
                <a:lnTo>
                  <a:pt x="504" y="194"/>
                </a:lnTo>
                <a:lnTo>
                  <a:pt x="508" y="190"/>
                </a:lnTo>
                <a:lnTo>
                  <a:pt x="519" y="183"/>
                </a:lnTo>
                <a:lnTo>
                  <a:pt x="532" y="179"/>
                </a:lnTo>
                <a:lnTo>
                  <a:pt x="559" y="170"/>
                </a:lnTo>
                <a:lnTo>
                  <a:pt x="581" y="161"/>
                </a:lnTo>
                <a:lnTo>
                  <a:pt x="587" y="160"/>
                </a:lnTo>
                <a:lnTo>
                  <a:pt x="594" y="161"/>
                </a:lnTo>
                <a:lnTo>
                  <a:pt x="600" y="164"/>
                </a:lnTo>
                <a:lnTo>
                  <a:pt x="606" y="168"/>
                </a:lnTo>
                <a:lnTo>
                  <a:pt x="619" y="179"/>
                </a:lnTo>
                <a:lnTo>
                  <a:pt x="630" y="190"/>
                </a:lnTo>
                <a:lnTo>
                  <a:pt x="642" y="197"/>
                </a:lnTo>
                <a:lnTo>
                  <a:pt x="653" y="194"/>
                </a:lnTo>
                <a:lnTo>
                  <a:pt x="655" y="194"/>
                </a:lnTo>
                <a:lnTo>
                  <a:pt x="656" y="193"/>
                </a:lnTo>
                <a:lnTo>
                  <a:pt x="656" y="192"/>
                </a:lnTo>
                <a:lnTo>
                  <a:pt x="656" y="187"/>
                </a:lnTo>
                <a:lnTo>
                  <a:pt x="656" y="184"/>
                </a:lnTo>
                <a:lnTo>
                  <a:pt x="653" y="176"/>
                </a:lnTo>
                <a:lnTo>
                  <a:pt x="645" y="157"/>
                </a:lnTo>
                <a:lnTo>
                  <a:pt x="643" y="148"/>
                </a:lnTo>
                <a:lnTo>
                  <a:pt x="643" y="138"/>
                </a:lnTo>
                <a:lnTo>
                  <a:pt x="646" y="129"/>
                </a:lnTo>
                <a:lnTo>
                  <a:pt x="650" y="121"/>
                </a:lnTo>
                <a:lnTo>
                  <a:pt x="656" y="113"/>
                </a:lnTo>
                <a:lnTo>
                  <a:pt x="672" y="99"/>
                </a:lnTo>
                <a:lnTo>
                  <a:pt x="685" y="84"/>
                </a:lnTo>
                <a:lnTo>
                  <a:pt x="691" y="76"/>
                </a:lnTo>
                <a:lnTo>
                  <a:pt x="694" y="67"/>
                </a:lnTo>
                <a:lnTo>
                  <a:pt x="694" y="57"/>
                </a:lnTo>
                <a:lnTo>
                  <a:pt x="691" y="44"/>
                </a:lnTo>
                <a:lnTo>
                  <a:pt x="691" y="44"/>
                </a:lnTo>
                <a:lnTo>
                  <a:pt x="700" y="44"/>
                </a:lnTo>
                <a:lnTo>
                  <a:pt x="704" y="42"/>
                </a:lnTo>
                <a:lnTo>
                  <a:pt x="707" y="39"/>
                </a:lnTo>
                <a:lnTo>
                  <a:pt x="708" y="35"/>
                </a:lnTo>
                <a:lnTo>
                  <a:pt x="708" y="31"/>
                </a:lnTo>
                <a:lnTo>
                  <a:pt x="707" y="28"/>
                </a:lnTo>
                <a:lnTo>
                  <a:pt x="706" y="26"/>
                </a:lnTo>
                <a:lnTo>
                  <a:pt x="703" y="22"/>
                </a:lnTo>
                <a:lnTo>
                  <a:pt x="700" y="13"/>
                </a:lnTo>
                <a:lnTo>
                  <a:pt x="698" y="3"/>
                </a:lnTo>
                <a:lnTo>
                  <a:pt x="700" y="0"/>
                </a:lnTo>
                <a:lnTo>
                  <a:pt x="701" y="2"/>
                </a:lnTo>
                <a:lnTo>
                  <a:pt x="706" y="3"/>
                </a:lnTo>
                <a:lnTo>
                  <a:pt x="711" y="0"/>
                </a:lnTo>
                <a:lnTo>
                  <a:pt x="716" y="0"/>
                </a:lnTo>
                <a:lnTo>
                  <a:pt x="724" y="0"/>
                </a:lnTo>
                <a:lnTo>
                  <a:pt x="726" y="0"/>
                </a:lnTo>
                <a:lnTo>
                  <a:pt x="733" y="6"/>
                </a:lnTo>
                <a:lnTo>
                  <a:pt x="749" y="18"/>
                </a:lnTo>
                <a:lnTo>
                  <a:pt x="777" y="42"/>
                </a:lnTo>
                <a:lnTo>
                  <a:pt x="797" y="71"/>
                </a:lnTo>
                <a:lnTo>
                  <a:pt x="800" y="79"/>
                </a:lnTo>
                <a:lnTo>
                  <a:pt x="800" y="86"/>
                </a:lnTo>
                <a:lnTo>
                  <a:pt x="801" y="97"/>
                </a:lnTo>
                <a:lnTo>
                  <a:pt x="801" y="118"/>
                </a:lnTo>
                <a:lnTo>
                  <a:pt x="803" y="126"/>
                </a:lnTo>
                <a:lnTo>
                  <a:pt x="808" y="134"/>
                </a:lnTo>
                <a:lnTo>
                  <a:pt x="814" y="135"/>
                </a:lnTo>
                <a:lnTo>
                  <a:pt x="819" y="137"/>
                </a:lnTo>
                <a:lnTo>
                  <a:pt x="821" y="135"/>
                </a:lnTo>
                <a:lnTo>
                  <a:pt x="829" y="134"/>
                </a:lnTo>
                <a:lnTo>
                  <a:pt x="843" y="131"/>
                </a:lnTo>
                <a:lnTo>
                  <a:pt x="855" y="132"/>
                </a:lnTo>
                <a:lnTo>
                  <a:pt x="858" y="137"/>
                </a:lnTo>
                <a:lnTo>
                  <a:pt x="863" y="144"/>
                </a:lnTo>
                <a:lnTo>
                  <a:pt x="872" y="164"/>
                </a:lnTo>
                <a:lnTo>
                  <a:pt x="872" y="176"/>
                </a:lnTo>
                <a:lnTo>
                  <a:pt x="869" y="187"/>
                </a:lnTo>
                <a:lnTo>
                  <a:pt x="868" y="193"/>
                </a:lnTo>
                <a:lnTo>
                  <a:pt x="863" y="202"/>
                </a:lnTo>
                <a:lnTo>
                  <a:pt x="863" y="209"/>
                </a:lnTo>
                <a:lnTo>
                  <a:pt x="865" y="216"/>
                </a:lnTo>
                <a:lnTo>
                  <a:pt x="868" y="223"/>
                </a:lnTo>
                <a:lnTo>
                  <a:pt x="876" y="238"/>
                </a:lnTo>
                <a:lnTo>
                  <a:pt x="885" y="254"/>
                </a:lnTo>
                <a:lnTo>
                  <a:pt x="890" y="270"/>
                </a:lnTo>
                <a:lnTo>
                  <a:pt x="887" y="287"/>
                </a:lnTo>
                <a:lnTo>
                  <a:pt x="887" y="287"/>
                </a:lnTo>
                <a:lnTo>
                  <a:pt x="882" y="294"/>
                </a:lnTo>
                <a:lnTo>
                  <a:pt x="874" y="309"/>
                </a:lnTo>
                <a:lnTo>
                  <a:pt x="858" y="335"/>
                </a:lnTo>
                <a:lnTo>
                  <a:pt x="855" y="350"/>
                </a:lnTo>
                <a:lnTo>
                  <a:pt x="859" y="364"/>
                </a:lnTo>
                <a:lnTo>
                  <a:pt x="865" y="371"/>
                </a:lnTo>
                <a:lnTo>
                  <a:pt x="859" y="374"/>
                </a:lnTo>
                <a:lnTo>
                  <a:pt x="849" y="380"/>
                </a:lnTo>
                <a:lnTo>
                  <a:pt x="833" y="394"/>
                </a:lnTo>
                <a:lnTo>
                  <a:pt x="827" y="402"/>
                </a:lnTo>
                <a:lnTo>
                  <a:pt x="824" y="410"/>
                </a:lnTo>
                <a:lnTo>
                  <a:pt x="824" y="415"/>
                </a:lnTo>
                <a:lnTo>
                  <a:pt x="823" y="425"/>
                </a:lnTo>
                <a:lnTo>
                  <a:pt x="820" y="434"/>
                </a:lnTo>
                <a:lnTo>
                  <a:pt x="816" y="441"/>
                </a:lnTo>
                <a:lnTo>
                  <a:pt x="811" y="447"/>
                </a:lnTo>
                <a:lnTo>
                  <a:pt x="798" y="457"/>
                </a:lnTo>
                <a:lnTo>
                  <a:pt x="784" y="465"/>
                </a:lnTo>
                <a:lnTo>
                  <a:pt x="755" y="480"/>
                </a:lnTo>
                <a:lnTo>
                  <a:pt x="755" y="480"/>
                </a:lnTo>
                <a:lnTo>
                  <a:pt x="749" y="484"/>
                </a:lnTo>
                <a:lnTo>
                  <a:pt x="745" y="489"/>
                </a:lnTo>
                <a:lnTo>
                  <a:pt x="740" y="494"/>
                </a:lnTo>
                <a:lnTo>
                  <a:pt x="735" y="506"/>
                </a:lnTo>
                <a:lnTo>
                  <a:pt x="730" y="519"/>
                </a:lnTo>
                <a:lnTo>
                  <a:pt x="724" y="531"/>
                </a:lnTo>
                <a:lnTo>
                  <a:pt x="714" y="541"/>
                </a:lnTo>
                <a:lnTo>
                  <a:pt x="708" y="544"/>
                </a:lnTo>
                <a:lnTo>
                  <a:pt x="713" y="554"/>
                </a:lnTo>
                <a:lnTo>
                  <a:pt x="724" y="574"/>
                </a:lnTo>
                <a:lnTo>
                  <a:pt x="739" y="616"/>
                </a:lnTo>
                <a:lnTo>
                  <a:pt x="737" y="636"/>
                </a:lnTo>
                <a:lnTo>
                  <a:pt x="726" y="657"/>
                </a:lnTo>
                <a:lnTo>
                  <a:pt x="717" y="665"/>
                </a:lnTo>
                <a:lnTo>
                  <a:pt x="724" y="663"/>
                </a:lnTo>
                <a:lnTo>
                  <a:pt x="739" y="654"/>
                </a:lnTo>
                <a:lnTo>
                  <a:pt x="768" y="638"/>
                </a:lnTo>
                <a:lnTo>
                  <a:pt x="798" y="623"/>
                </a:lnTo>
                <a:lnTo>
                  <a:pt x="807" y="619"/>
                </a:lnTo>
                <a:lnTo>
                  <a:pt x="813" y="618"/>
                </a:lnTo>
                <a:lnTo>
                  <a:pt x="827" y="613"/>
                </a:lnTo>
                <a:lnTo>
                  <a:pt x="858" y="610"/>
                </a:lnTo>
                <a:lnTo>
                  <a:pt x="891" y="621"/>
                </a:lnTo>
                <a:lnTo>
                  <a:pt x="900" y="623"/>
                </a:lnTo>
                <a:lnTo>
                  <a:pt x="891" y="628"/>
                </a:lnTo>
                <a:lnTo>
                  <a:pt x="887" y="634"/>
                </a:lnTo>
                <a:lnTo>
                  <a:pt x="882" y="639"/>
                </a:lnTo>
                <a:lnTo>
                  <a:pt x="879" y="647"/>
                </a:lnTo>
                <a:lnTo>
                  <a:pt x="879" y="655"/>
                </a:lnTo>
                <a:lnTo>
                  <a:pt x="881" y="673"/>
                </a:lnTo>
                <a:lnTo>
                  <a:pt x="885" y="689"/>
                </a:lnTo>
                <a:lnTo>
                  <a:pt x="892" y="703"/>
                </a:lnTo>
                <a:lnTo>
                  <a:pt x="897" y="709"/>
                </a:lnTo>
                <a:lnTo>
                  <a:pt x="898" y="713"/>
                </a:lnTo>
                <a:lnTo>
                  <a:pt x="900" y="718"/>
                </a:lnTo>
                <a:lnTo>
                  <a:pt x="900" y="720"/>
                </a:lnTo>
                <a:lnTo>
                  <a:pt x="898" y="725"/>
                </a:lnTo>
                <a:lnTo>
                  <a:pt x="897" y="732"/>
                </a:lnTo>
                <a:lnTo>
                  <a:pt x="894" y="739"/>
                </a:lnTo>
                <a:lnTo>
                  <a:pt x="892" y="745"/>
                </a:lnTo>
                <a:lnTo>
                  <a:pt x="891" y="751"/>
                </a:lnTo>
                <a:lnTo>
                  <a:pt x="892" y="751"/>
                </a:lnTo>
                <a:lnTo>
                  <a:pt x="895" y="758"/>
                </a:lnTo>
                <a:lnTo>
                  <a:pt x="900" y="761"/>
                </a:lnTo>
                <a:lnTo>
                  <a:pt x="905" y="764"/>
                </a:lnTo>
                <a:lnTo>
                  <a:pt x="913" y="764"/>
                </a:lnTo>
                <a:lnTo>
                  <a:pt x="920" y="764"/>
                </a:lnTo>
                <a:lnTo>
                  <a:pt x="934" y="763"/>
                </a:lnTo>
                <a:lnTo>
                  <a:pt x="947" y="760"/>
                </a:lnTo>
                <a:lnTo>
                  <a:pt x="958" y="761"/>
                </a:lnTo>
                <a:lnTo>
                  <a:pt x="961" y="764"/>
                </a:lnTo>
                <a:lnTo>
                  <a:pt x="962" y="774"/>
                </a:lnTo>
                <a:lnTo>
                  <a:pt x="961" y="786"/>
                </a:lnTo>
                <a:lnTo>
                  <a:pt x="959" y="796"/>
                </a:lnTo>
                <a:lnTo>
                  <a:pt x="952" y="818"/>
                </a:lnTo>
                <a:lnTo>
                  <a:pt x="939" y="864"/>
                </a:lnTo>
                <a:lnTo>
                  <a:pt x="947" y="897"/>
                </a:lnTo>
                <a:lnTo>
                  <a:pt x="952" y="903"/>
                </a:lnTo>
                <a:lnTo>
                  <a:pt x="958" y="906"/>
                </a:lnTo>
                <a:lnTo>
                  <a:pt x="963" y="907"/>
                </a:lnTo>
                <a:lnTo>
                  <a:pt x="972" y="909"/>
                </a:lnTo>
                <a:lnTo>
                  <a:pt x="988" y="909"/>
                </a:lnTo>
                <a:lnTo>
                  <a:pt x="1005" y="907"/>
                </a:lnTo>
                <a:lnTo>
                  <a:pt x="1021" y="910"/>
                </a:lnTo>
                <a:lnTo>
                  <a:pt x="1027" y="915"/>
                </a:lnTo>
                <a:lnTo>
                  <a:pt x="1033" y="919"/>
                </a:lnTo>
                <a:lnTo>
                  <a:pt x="1034" y="919"/>
                </a:lnTo>
                <a:lnTo>
                  <a:pt x="1036" y="923"/>
                </a:lnTo>
                <a:lnTo>
                  <a:pt x="1037" y="926"/>
                </a:lnTo>
                <a:lnTo>
                  <a:pt x="1037" y="931"/>
                </a:lnTo>
                <a:lnTo>
                  <a:pt x="1037" y="935"/>
                </a:lnTo>
                <a:lnTo>
                  <a:pt x="1034" y="944"/>
                </a:lnTo>
                <a:lnTo>
                  <a:pt x="1030" y="952"/>
                </a:lnTo>
                <a:lnTo>
                  <a:pt x="1020" y="968"/>
                </a:lnTo>
                <a:lnTo>
                  <a:pt x="1020" y="968"/>
                </a:lnTo>
                <a:lnTo>
                  <a:pt x="1029" y="970"/>
                </a:lnTo>
                <a:lnTo>
                  <a:pt x="1034" y="973"/>
                </a:lnTo>
                <a:lnTo>
                  <a:pt x="1045" y="978"/>
                </a:lnTo>
                <a:lnTo>
                  <a:pt x="1053" y="981"/>
                </a:lnTo>
                <a:lnTo>
                  <a:pt x="1055" y="983"/>
                </a:lnTo>
                <a:lnTo>
                  <a:pt x="1055" y="984"/>
                </a:lnTo>
                <a:lnTo>
                  <a:pt x="1053" y="987"/>
                </a:lnTo>
                <a:lnTo>
                  <a:pt x="1052" y="989"/>
                </a:lnTo>
                <a:lnTo>
                  <a:pt x="1049" y="993"/>
                </a:lnTo>
                <a:lnTo>
                  <a:pt x="1045" y="1000"/>
                </a:lnTo>
                <a:lnTo>
                  <a:pt x="1046" y="1000"/>
                </a:lnTo>
                <a:lnTo>
                  <a:pt x="1058" y="1002"/>
                </a:lnTo>
                <a:lnTo>
                  <a:pt x="1082" y="999"/>
                </a:lnTo>
                <a:lnTo>
                  <a:pt x="1107" y="991"/>
                </a:lnTo>
                <a:lnTo>
                  <a:pt x="1155" y="976"/>
                </a:lnTo>
                <a:lnTo>
                  <a:pt x="1192" y="968"/>
                </a:lnTo>
                <a:lnTo>
                  <a:pt x="1191" y="973"/>
                </a:lnTo>
                <a:lnTo>
                  <a:pt x="1188" y="978"/>
                </a:lnTo>
                <a:lnTo>
                  <a:pt x="1185" y="984"/>
                </a:lnTo>
                <a:lnTo>
                  <a:pt x="1182" y="993"/>
                </a:lnTo>
                <a:lnTo>
                  <a:pt x="1182" y="996"/>
                </a:lnTo>
                <a:lnTo>
                  <a:pt x="1181" y="996"/>
                </a:lnTo>
                <a:lnTo>
                  <a:pt x="1182" y="996"/>
                </a:lnTo>
                <a:lnTo>
                  <a:pt x="1181" y="996"/>
                </a:lnTo>
                <a:lnTo>
                  <a:pt x="1182" y="996"/>
                </a:lnTo>
                <a:lnTo>
                  <a:pt x="1178" y="997"/>
                </a:lnTo>
                <a:lnTo>
                  <a:pt x="1173" y="1000"/>
                </a:lnTo>
                <a:lnTo>
                  <a:pt x="1172" y="1002"/>
                </a:lnTo>
                <a:lnTo>
                  <a:pt x="1169" y="1007"/>
                </a:lnTo>
                <a:lnTo>
                  <a:pt x="1162" y="1013"/>
                </a:lnTo>
                <a:lnTo>
                  <a:pt x="1158" y="1010"/>
                </a:lnTo>
                <a:lnTo>
                  <a:pt x="1158" y="1016"/>
                </a:lnTo>
                <a:lnTo>
                  <a:pt x="1156" y="1022"/>
                </a:lnTo>
                <a:lnTo>
                  <a:pt x="1156" y="1028"/>
                </a:lnTo>
                <a:lnTo>
                  <a:pt x="1158" y="1029"/>
                </a:lnTo>
                <a:lnTo>
                  <a:pt x="1153" y="1029"/>
                </a:lnTo>
                <a:lnTo>
                  <a:pt x="1145" y="1029"/>
                </a:lnTo>
                <a:lnTo>
                  <a:pt x="1137" y="1032"/>
                </a:lnTo>
                <a:lnTo>
                  <a:pt x="1131" y="1036"/>
                </a:lnTo>
                <a:lnTo>
                  <a:pt x="1126" y="1042"/>
                </a:lnTo>
                <a:lnTo>
                  <a:pt x="1120" y="1047"/>
                </a:lnTo>
                <a:lnTo>
                  <a:pt x="1118" y="1048"/>
                </a:lnTo>
                <a:lnTo>
                  <a:pt x="1116" y="1051"/>
                </a:lnTo>
                <a:lnTo>
                  <a:pt x="1114" y="1054"/>
                </a:lnTo>
                <a:lnTo>
                  <a:pt x="1114" y="1057"/>
                </a:lnTo>
                <a:lnTo>
                  <a:pt x="1114" y="1060"/>
                </a:lnTo>
                <a:lnTo>
                  <a:pt x="1114" y="1068"/>
                </a:lnTo>
                <a:lnTo>
                  <a:pt x="1114" y="1083"/>
                </a:lnTo>
                <a:lnTo>
                  <a:pt x="1113" y="1087"/>
                </a:lnTo>
                <a:lnTo>
                  <a:pt x="1107" y="1091"/>
                </a:lnTo>
                <a:lnTo>
                  <a:pt x="1097" y="1099"/>
                </a:lnTo>
                <a:lnTo>
                  <a:pt x="1075" y="1112"/>
                </a:lnTo>
                <a:lnTo>
                  <a:pt x="1056" y="1123"/>
                </a:lnTo>
                <a:lnTo>
                  <a:pt x="1053" y="1126"/>
                </a:lnTo>
                <a:lnTo>
                  <a:pt x="1052" y="1126"/>
                </a:lnTo>
                <a:lnTo>
                  <a:pt x="1050" y="1126"/>
                </a:lnTo>
                <a:lnTo>
                  <a:pt x="1046" y="1126"/>
                </a:lnTo>
                <a:lnTo>
                  <a:pt x="1043" y="1126"/>
                </a:lnTo>
                <a:lnTo>
                  <a:pt x="1043" y="1126"/>
                </a:lnTo>
                <a:lnTo>
                  <a:pt x="1036" y="1126"/>
                </a:lnTo>
                <a:lnTo>
                  <a:pt x="1024" y="1128"/>
                </a:lnTo>
                <a:lnTo>
                  <a:pt x="1000" y="1131"/>
                </a:lnTo>
                <a:lnTo>
                  <a:pt x="975" y="1136"/>
                </a:lnTo>
                <a:lnTo>
                  <a:pt x="971" y="1138"/>
                </a:lnTo>
                <a:lnTo>
                  <a:pt x="968" y="1139"/>
                </a:lnTo>
                <a:lnTo>
                  <a:pt x="968" y="1142"/>
                </a:lnTo>
                <a:lnTo>
                  <a:pt x="968" y="1144"/>
                </a:lnTo>
                <a:lnTo>
                  <a:pt x="969" y="1146"/>
                </a:lnTo>
                <a:lnTo>
                  <a:pt x="974" y="1154"/>
                </a:lnTo>
                <a:lnTo>
                  <a:pt x="981" y="1168"/>
                </a:lnTo>
                <a:lnTo>
                  <a:pt x="982" y="1173"/>
                </a:lnTo>
                <a:lnTo>
                  <a:pt x="976" y="1180"/>
                </a:lnTo>
                <a:lnTo>
                  <a:pt x="971" y="1184"/>
                </a:lnTo>
                <a:lnTo>
                  <a:pt x="963" y="1186"/>
                </a:lnTo>
                <a:lnTo>
                  <a:pt x="956" y="1186"/>
                </a:lnTo>
                <a:lnTo>
                  <a:pt x="949" y="1184"/>
                </a:lnTo>
                <a:lnTo>
                  <a:pt x="933" y="1180"/>
                </a:lnTo>
                <a:lnTo>
                  <a:pt x="919" y="1177"/>
                </a:lnTo>
                <a:lnTo>
                  <a:pt x="913" y="1177"/>
                </a:lnTo>
                <a:lnTo>
                  <a:pt x="907" y="1178"/>
                </a:lnTo>
                <a:lnTo>
                  <a:pt x="904" y="1181"/>
                </a:lnTo>
                <a:lnTo>
                  <a:pt x="904" y="1181"/>
                </a:lnTo>
                <a:lnTo>
                  <a:pt x="901" y="1186"/>
                </a:lnTo>
                <a:lnTo>
                  <a:pt x="900" y="1190"/>
                </a:lnTo>
                <a:lnTo>
                  <a:pt x="898" y="1194"/>
                </a:lnTo>
                <a:lnTo>
                  <a:pt x="897" y="1206"/>
                </a:lnTo>
                <a:lnTo>
                  <a:pt x="894" y="1216"/>
                </a:lnTo>
                <a:lnTo>
                  <a:pt x="891" y="1225"/>
                </a:lnTo>
                <a:lnTo>
                  <a:pt x="885" y="1231"/>
                </a:lnTo>
                <a:lnTo>
                  <a:pt x="881" y="1231"/>
                </a:lnTo>
                <a:lnTo>
                  <a:pt x="869" y="1233"/>
                </a:lnTo>
                <a:lnTo>
                  <a:pt x="848" y="1233"/>
                </a:lnTo>
                <a:lnTo>
                  <a:pt x="804" y="1232"/>
                </a:lnTo>
                <a:lnTo>
                  <a:pt x="787" y="1233"/>
                </a:lnTo>
                <a:lnTo>
                  <a:pt x="779" y="1236"/>
                </a:lnTo>
                <a:lnTo>
                  <a:pt x="774" y="1242"/>
                </a:lnTo>
                <a:lnTo>
                  <a:pt x="771" y="1248"/>
                </a:lnTo>
                <a:lnTo>
                  <a:pt x="771" y="1248"/>
                </a:lnTo>
                <a:lnTo>
                  <a:pt x="768" y="1255"/>
                </a:lnTo>
                <a:lnTo>
                  <a:pt x="762" y="1268"/>
                </a:lnTo>
                <a:lnTo>
                  <a:pt x="753" y="1296"/>
                </a:lnTo>
                <a:lnTo>
                  <a:pt x="748" y="1325"/>
                </a:lnTo>
                <a:lnTo>
                  <a:pt x="748" y="1332"/>
                </a:lnTo>
                <a:lnTo>
                  <a:pt x="748" y="1335"/>
                </a:lnTo>
                <a:lnTo>
                  <a:pt x="748" y="1338"/>
                </a:lnTo>
                <a:lnTo>
                  <a:pt x="750" y="1348"/>
                </a:lnTo>
                <a:lnTo>
                  <a:pt x="750" y="1355"/>
                </a:lnTo>
                <a:lnTo>
                  <a:pt x="750" y="1355"/>
                </a:lnTo>
                <a:lnTo>
                  <a:pt x="742" y="1361"/>
                </a:lnTo>
                <a:lnTo>
                  <a:pt x="727" y="1371"/>
                </a:lnTo>
                <a:lnTo>
                  <a:pt x="704" y="1396"/>
                </a:lnTo>
                <a:lnTo>
                  <a:pt x="700" y="1410"/>
                </a:lnTo>
                <a:lnTo>
                  <a:pt x="700" y="1426"/>
                </a:lnTo>
                <a:lnTo>
                  <a:pt x="703" y="1435"/>
                </a:lnTo>
                <a:lnTo>
                  <a:pt x="710" y="1458"/>
                </a:lnTo>
                <a:lnTo>
                  <a:pt x="732" y="1499"/>
                </a:lnTo>
                <a:lnTo>
                  <a:pt x="781" y="1574"/>
                </a:lnTo>
                <a:lnTo>
                  <a:pt x="827" y="1654"/>
                </a:lnTo>
                <a:lnTo>
                  <a:pt x="836" y="1675"/>
                </a:lnTo>
                <a:lnTo>
                  <a:pt x="837" y="1681"/>
                </a:lnTo>
                <a:lnTo>
                  <a:pt x="843" y="1690"/>
                </a:lnTo>
                <a:lnTo>
                  <a:pt x="852" y="1697"/>
                </a:lnTo>
                <a:lnTo>
                  <a:pt x="863" y="1703"/>
                </a:lnTo>
                <a:lnTo>
                  <a:pt x="876" y="1707"/>
                </a:lnTo>
                <a:lnTo>
                  <a:pt x="891" y="1707"/>
                </a:lnTo>
                <a:lnTo>
                  <a:pt x="900" y="1704"/>
                </a:lnTo>
                <a:lnTo>
                  <a:pt x="891" y="1710"/>
                </a:lnTo>
                <a:lnTo>
                  <a:pt x="876" y="1723"/>
                </a:lnTo>
                <a:lnTo>
                  <a:pt x="868" y="1738"/>
                </a:lnTo>
                <a:lnTo>
                  <a:pt x="862" y="1755"/>
                </a:lnTo>
                <a:lnTo>
                  <a:pt x="859" y="1771"/>
                </a:lnTo>
                <a:lnTo>
                  <a:pt x="858" y="1790"/>
                </a:lnTo>
                <a:lnTo>
                  <a:pt x="858" y="1799"/>
                </a:lnTo>
                <a:lnTo>
                  <a:pt x="856" y="1804"/>
                </a:lnTo>
                <a:lnTo>
                  <a:pt x="853" y="1809"/>
                </a:lnTo>
                <a:lnTo>
                  <a:pt x="849" y="1813"/>
                </a:lnTo>
                <a:lnTo>
                  <a:pt x="843" y="1816"/>
                </a:lnTo>
                <a:lnTo>
                  <a:pt x="830" y="1820"/>
                </a:lnTo>
                <a:lnTo>
                  <a:pt x="805" y="1833"/>
                </a:lnTo>
                <a:lnTo>
                  <a:pt x="797" y="1843"/>
                </a:lnTo>
                <a:lnTo>
                  <a:pt x="792" y="1852"/>
                </a:lnTo>
                <a:lnTo>
                  <a:pt x="791" y="1868"/>
                </a:lnTo>
                <a:lnTo>
                  <a:pt x="792" y="1885"/>
                </a:lnTo>
                <a:lnTo>
                  <a:pt x="797" y="1901"/>
                </a:lnTo>
                <a:lnTo>
                  <a:pt x="811" y="1936"/>
                </a:lnTo>
                <a:lnTo>
                  <a:pt x="816" y="1943"/>
                </a:lnTo>
                <a:lnTo>
                  <a:pt x="819" y="1951"/>
                </a:lnTo>
                <a:lnTo>
                  <a:pt x="821" y="1956"/>
                </a:lnTo>
                <a:lnTo>
                  <a:pt x="832" y="1965"/>
                </a:lnTo>
                <a:lnTo>
                  <a:pt x="845" y="1972"/>
                </a:lnTo>
                <a:lnTo>
                  <a:pt x="871" y="1988"/>
                </a:lnTo>
                <a:lnTo>
                  <a:pt x="882" y="1997"/>
                </a:lnTo>
                <a:lnTo>
                  <a:pt x="887" y="2003"/>
                </a:lnTo>
                <a:lnTo>
                  <a:pt x="894" y="2014"/>
                </a:lnTo>
                <a:lnTo>
                  <a:pt x="905" y="2038"/>
                </a:lnTo>
                <a:lnTo>
                  <a:pt x="911" y="2062"/>
                </a:lnTo>
                <a:lnTo>
                  <a:pt x="913" y="2068"/>
                </a:lnTo>
                <a:lnTo>
                  <a:pt x="913" y="2078"/>
                </a:lnTo>
                <a:lnTo>
                  <a:pt x="916" y="2100"/>
                </a:lnTo>
                <a:lnTo>
                  <a:pt x="919" y="2143"/>
                </a:lnTo>
                <a:lnTo>
                  <a:pt x="916" y="2162"/>
                </a:lnTo>
                <a:lnTo>
                  <a:pt x="905" y="2181"/>
                </a:lnTo>
                <a:lnTo>
                  <a:pt x="900" y="2188"/>
                </a:lnTo>
                <a:lnTo>
                  <a:pt x="904" y="2193"/>
                </a:lnTo>
                <a:lnTo>
                  <a:pt x="910" y="2196"/>
                </a:lnTo>
                <a:lnTo>
                  <a:pt x="914" y="2197"/>
                </a:lnTo>
                <a:lnTo>
                  <a:pt x="920" y="2197"/>
                </a:lnTo>
                <a:lnTo>
                  <a:pt x="932" y="2196"/>
                </a:lnTo>
                <a:lnTo>
                  <a:pt x="942" y="2193"/>
                </a:lnTo>
                <a:lnTo>
                  <a:pt x="949" y="2191"/>
                </a:lnTo>
                <a:lnTo>
                  <a:pt x="952" y="2193"/>
                </a:lnTo>
                <a:lnTo>
                  <a:pt x="953" y="2193"/>
                </a:lnTo>
                <a:lnTo>
                  <a:pt x="962" y="2212"/>
                </a:lnTo>
                <a:lnTo>
                  <a:pt x="972" y="2248"/>
                </a:lnTo>
                <a:lnTo>
                  <a:pt x="969" y="2285"/>
                </a:lnTo>
                <a:lnTo>
                  <a:pt x="958" y="2323"/>
                </a:lnTo>
                <a:lnTo>
                  <a:pt x="939" y="2358"/>
                </a:lnTo>
                <a:lnTo>
                  <a:pt x="916" y="2393"/>
                </a:lnTo>
                <a:lnTo>
                  <a:pt x="904" y="2407"/>
                </a:lnTo>
                <a:lnTo>
                  <a:pt x="898" y="2414"/>
                </a:lnTo>
                <a:lnTo>
                  <a:pt x="888" y="2427"/>
                </a:lnTo>
                <a:lnTo>
                  <a:pt x="872" y="2456"/>
                </a:lnTo>
                <a:lnTo>
                  <a:pt x="859" y="2485"/>
                </a:lnTo>
                <a:lnTo>
                  <a:pt x="856" y="2493"/>
                </a:lnTo>
                <a:lnTo>
                  <a:pt x="853" y="2501"/>
                </a:lnTo>
                <a:lnTo>
                  <a:pt x="846" y="2524"/>
                </a:lnTo>
                <a:lnTo>
                  <a:pt x="840" y="2542"/>
                </a:lnTo>
                <a:lnTo>
                  <a:pt x="840" y="2542"/>
                </a:lnTo>
                <a:lnTo>
                  <a:pt x="837" y="2539"/>
                </a:lnTo>
                <a:lnTo>
                  <a:pt x="837" y="2538"/>
                </a:lnTo>
                <a:lnTo>
                  <a:pt x="834" y="2530"/>
                </a:lnTo>
                <a:lnTo>
                  <a:pt x="833" y="2516"/>
                </a:lnTo>
                <a:lnTo>
                  <a:pt x="834" y="2485"/>
                </a:lnTo>
                <a:lnTo>
                  <a:pt x="842" y="2456"/>
                </a:lnTo>
                <a:lnTo>
                  <a:pt x="845" y="2449"/>
                </a:lnTo>
                <a:lnTo>
                  <a:pt x="845" y="2449"/>
                </a:lnTo>
                <a:close/>
              </a:path>
            </a:pathLst>
          </a:custGeom>
          <a:noFill/>
          <a:ln w="4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9800" y="5634000"/>
            <a:ext cx="294840" cy="310680"/>
            <a:chOff x="3349800" y="5634000"/>
            <a:chExt cx="294840" cy="310680"/>
          </a:xfrm>
        </p:grpSpPr>
        <p:sp>
          <p:nvSpPr>
            <p:cNvPr id="114" name=""/>
            <p:cNvSpPr/>
            <p:nvPr/>
          </p:nvSpPr>
          <p:spPr>
            <a:xfrm>
              <a:off x="3504600" y="5634000"/>
              <a:ext cx="140040" cy="166320"/>
            </a:xfrm>
            <a:custGeom>
              <a:avLst/>
              <a:gdLst/>
              <a:ahLst/>
              <a:rect l="l" t="t" r="r" b="b"/>
              <a:pathLst>
                <a:path w="575" h="959">
                  <a:moveTo>
                    <a:pt x="21" y="0"/>
                  </a:moveTo>
                  <a:lnTo>
                    <a:pt x="22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2"/>
                  </a:lnTo>
                  <a:lnTo>
                    <a:pt x="28" y="19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33" y="34"/>
                  </a:lnTo>
                  <a:lnTo>
                    <a:pt x="34" y="38"/>
                  </a:lnTo>
                  <a:lnTo>
                    <a:pt x="35" y="38"/>
                  </a:lnTo>
                  <a:lnTo>
                    <a:pt x="37" y="44"/>
                  </a:lnTo>
                  <a:lnTo>
                    <a:pt x="38" y="46"/>
                  </a:lnTo>
                  <a:lnTo>
                    <a:pt x="39" y="46"/>
                  </a:lnTo>
                  <a:lnTo>
                    <a:pt x="38" y="48"/>
                  </a:lnTo>
                  <a:lnTo>
                    <a:pt x="38" y="51"/>
                  </a:lnTo>
                  <a:lnTo>
                    <a:pt x="38" y="54"/>
                  </a:lnTo>
                  <a:lnTo>
                    <a:pt x="38" y="54"/>
                  </a:lnTo>
                  <a:lnTo>
                    <a:pt x="39" y="57"/>
                  </a:lnTo>
                  <a:lnTo>
                    <a:pt x="40" y="58"/>
                  </a:lnTo>
                  <a:lnTo>
                    <a:pt x="41" y="60"/>
                  </a:lnTo>
                  <a:lnTo>
                    <a:pt x="46" y="67"/>
                  </a:lnTo>
                  <a:lnTo>
                    <a:pt x="49" y="71"/>
                  </a:lnTo>
                  <a:lnTo>
                    <a:pt x="50" y="71"/>
                  </a:lnTo>
                  <a:lnTo>
                    <a:pt x="55" y="68"/>
                  </a:lnTo>
                  <a:lnTo>
                    <a:pt x="58" y="67"/>
                  </a:lnTo>
                  <a:lnTo>
                    <a:pt x="59" y="66"/>
                  </a:lnTo>
                  <a:lnTo>
                    <a:pt x="60" y="65"/>
                  </a:lnTo>
                  <a:lnTo>
                    <a:pt x="64" y="59"/>
                  </a:lnTo>
                  <a:lnTo>
                    <a:pt x="68" y="55"/>
                  </a:lnTo>
                  <a:lnTo>
                    <a:pt x="69" y="54"/>
                  </a:lnTo>
                  <a:lnTo>
                    <a:pt x="69" y="55"/>
                  </a:lnTo>
                  <a:lnTo>
                    <a:pt x="70" y="58"/>
                  </a:lnTo>
                  <a:lnTo>
                    <a:pt x="70" y="59"/>
                  </a:lnTo>
                  <a:lnTo>
                    <a:pt x="71" y="59"/>
                  </a:lnTo>
                  <a:lnTo>
                    <a:pt x="70" y="61"/>
                  </a:lnTo>
                  <a:lnTo>
                    <a:pt x="69" y="66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70" y="69"/>
                  </a:lnTo>
                  <a:lnTo>
                    <a:pt x="76" y="69"/>
                  </a:lnTo>
                  <a:lnTo>
                    <a:pt x="81" y="69"/>
                  </a:lnTo>
                  <a:lnTo>
                    <a:pt x="82" y="69"/>
                  </a:lnTo>
                  <a:lnTo>
                    <a:pt x="83" y="69"/>
                  </a:lnTo>
                  <a:lnTo>
                    <a:pt x="87" y="68"/>
                  </a:lnTo>
                  <a:lnTo>
                    <a:pt x="91" y="68"/>
                  </a:lnTo>
                  <a:lnTo>
                    <a:pt x="92" y="67"/>
                  </a:lnTo>
                  <a:lnTo>
                    <a:pt x="93" y="69"/>
                  </a:lnTo>
                  <a:lnTo>
                    <a:pt x="97" y="72"/>
                  </a:lnTo>
                  <a:lnTo>
                    <a:pt x="101" y="76"/>
                  </a:lnTo>
                  <a:lnTo>
                    <a:pt x="102" y="76"/>
                  </a:lnTo>
                  <a:lnTo>
                    <a:pt x="103" y="76"/>
                  </a:lnTo>
                  <a:lnTo>
                    <a:pt x="109" y="76"/>
                  </a:lnTo>
                  <a:lnTo>
                    <a:pt x="114" y="76"/>
                  </a:lnTo>
                  <a:lnTo>
                    <a:pt x="115" y="76"/>
                  </a:lnTo>
                  <a:lnTo>
                    <a:pt x="116" y="76"/>
                  </a:lnTo>
                  <a:lnTo>
                    <a:pt x="120" y="76"/>
                  </a:lnTo>
                  <a:lnTo>
                    <a:pt x="123" y="76"/>
                  </a:lnTo>
                  <a:lnTo>
                    <a:pt x="125" y="76"/>
                  </a:lnTo>
                  <a:lnTo>
                    <a:pt x="132" y="82"/>
                  </a:lnTo>
                  <a:lnTo>
                    <a:pt x="137" y="85"/>
                  </a:lnTo>
                  <a:lnTo>
                    <a:pt x="138" y="85"/>
                  </a:lnTo>
                  <a:lnTo>
                    <a:pt x="141" y="90"/>
                  </a:lnTo>
                  <a:lnTo>
                    <a:pt x="142" y="91"/>
                  </a:lnTo>
                  <a:lnTo>
                    <a:pt x="143" y="91"/>
                  </a:lnTo>
                  <a:lnTo>
                    <a:pt x="142" y="92"/>
                  </a:lnTo>
                  <a:lnTo>
                    <a:pt x="141" y="93"/>
                  </a:lnTo>
                  <a:lnTo>
                    <a:pt x="141" y="93"/>
                  </a:lnTo>
                  <a:lnTo>
                    <a:pt x="140" y="94"/>
                  </a:lnTo>
                  <a:lnTo>
                    <a:pt x="133" y="97"/>
                  </a:lnTo>
                  <a:lnTo>
                    <a:pt x="129" y="100"/>
                  </a:lnTo>
                  <a:lnTo>
                    <a:pt x="129" y="100"/>
                  </a:lnTo>
                  <a:lnTo>
                    <a:pt x="132" y="102"/>
                  </a:lnTo>
                  <a:lnTo>
                    <a:pt x="142" y="108"/>
                  </a:lnTo>
                  <a:lnTo>
                    <a:pt x="150" y="113"/>
                  </a:lnTo>
                  <a:lnTo>
                    <a:pt x="151" y="113"/>
                  </a:lnTo>
                  <a:lnTo>
                    <a:pt x="151" y="112"/>
                  </a:lnTo>
                  <a:lnTo>
                    <a:pt x="152" y="108"/>
                  </a:lnTo>
                  <a:lnTo>
                    <a:pt x="152" y="106"/>
                  </a:lnTo>
                  <a:lnTo>
                    <a:pt x="153" y="105"/>
                  </a:lnTo>
                  <a:lnTo>
                    <a:pt x="154" y="106"/>
                  </a:lnTo>
                  <a:lnTo>
                    <a:pt x="158" y="109"/>
                  </a:lnTo>
                  <a:lnTo>
                    <a:pt x="162" y="112"/>
                  </a:lnTo>
                  <a:lnTo>
                    <a:pt x="163" y="112"/>
                  </a:lnTo>
                  <a:lnTo>
                    <a:pt x="163" y="113"/>
                  </a:lnTo>
                  <a:lnTo>
                    <a:pt x="163" y="114"/>
                  </a:lnTo>
                  <a:lnTo>
                    <a:pt x="163" y="119"/>
                  </a:lnTo>
                  <a:lnTo>
                    <a:pt x="163" y="123"/>
                  </a:lnTo>
                  <a:lnTo>
                    <a:pt x="164" y="123"/>
                  </a:lnTo>
                  <a:lnTo>
                    <a:pt x="164" y="124"/>
                  </a:lnTo>
                  <a:lnTo>
                    <a:pt x="164" y="125"/>
                  </a:lnTo>
                  <a:lnTo>
                    <a:pt x="166" y="131"/>
                  </a:lnTo>
                  <a:lnTo>
                    <a:pt x="167" y="136"/>
                  </a:lnTo>
                  <a:lnTo>
                    <a:pt x="168" y="136"/>
                  </a:lnTo>
                  <a:lnTo>
                    <a:pt x="169" y="138"/>
                  </a:lnTo>
                  <a:lnTo>
                    <a:pt x="173" y="141"/>
                  </a:lnTo>
                  <a:lnTo>
                    <a:pt x="176" y="143"/>
                  </a:lnTo>
                  <a:lnTo>
                    <a:pt x="177" y="143"/>
                  </a:lnTo>
                  <a:lnTo>
                    <a:pt x="178" y="146"/>
                  </a:lnTo>
                  <a:lnTo>
                    <a:pt x="181" y="149"/>
                  </a:lnTo>
                  <a:lnTo>
                    <a:pt x="184" y="151"/>
                  </a:lnTo>
                  <a:lnTo>
                    <a:pt x="185" y="151"/>
                  </a:lnTo>
                  <a:lnTo>
                    <a:pt x="185" y="152"/>
                  </a:lnTo>
                  <a:lnTo>
                    <a:pt x="186" y="155"/>
                  </a:lnTo>
                  <a:lnTo>
                    <a:pt x="186" y="157"/>
                  </a:lnTo>
                  <a:lnTo>
                    <a:pt x="187" y="157"/>
                  </a:lnTo>
                  <a:lnTo>
                    <a:pt x="187" y="158"/>
                  </a:lnTo>
                  <a:lnTo>
                    <a:pt x="187" y="159"/>
                  </a:lnTo>
                  <a:lnTo>
                    <a:pt x="187" y="165"/>
                  </a:lnTo>
                  <a:lnTo>
                    <a:pt x="187" y="170"/>
                  </a:lnTo>
                  <a:lnTo>
                    <a:pt x="188" y="170"/>
                  </a:lnTo>
                  <a:lnTo>
                    <a:pt x="188" y="171"/>
                  </a:lnTo>
                  <a:lnTo>
                    <a:pt x="188" y="173"/>
                  </a:lnTo>
                  <a:lnTo>
                    <a:pt x="189" y="179"/>
                  </a:lnTo>
                  <a:lnTo>
                    <a:pt x="190" y="184"/>
                  </a:lnTo>
                  <a:lnTo>
                    <a:pt x="191" y="184"/>
                  </a:lnTo>
                  <a:lnTo>
                    <a:pt x="188" y="183"/>
                  </a:lnTo>
                  <a:lnTo>
                    <a:pt x="187" y="182"/>
                  </a:lnTo>
                  <a:lnTo>
                    <a:pt x="187" y="181"/>
                  </a:lnTo>
                  <a:lnTo>
                    <a:pt x="184" y="179"/>
                  </a:lnTo>
                  <a:lnTo>
                    <a:pt x="177" y="176"/>
                  </a:lnTo>
                  <a:lnTo>
                    <a:pt x="172" y="173"/>
                  </a:lnTo>
                  <a:lnTo>
                    <a:pt x="172" y="172"/>
                  </a:lnTo>
                  <a:lnTo>
                    <a:pt x="169" y="173"/>
                  </a:lnTo>
                  <a:lnTo>
                    <a:pt x="164" y="174"/>
                  </a:lnTo>
                  <a:lnTo>
                    <a:pt x="161" y="174"/>
                  </a:lnTo>
                  <a:lnTo>
                    <a:pt x="161" y="174"/>
                  </a:lnTo>
                  <a:lnTo>
                    <a:pt x="161" y="175"/>
                  </a:lnTo>
                  <a:lnTo>
                    <a:pt x="161" y="176"/>
                  </a:lnTo>
                  <a:lnTo>
                    <a:pt x="162" y="183"/>
                  </a:lnTo>
                  <a:lnTo>
                    <a:pt x="163" y="187"/>
                  </a:lnTo>
                  <a:lnTo>
                    <a:pt x="164" y="187"/>
                  </a:lnTo>
                  <a:lnTo>
                    <a:pt x="166" y="189"/>
                  </a:lnTo>
                  <a:lnTo>
                    <a:pt x="167" y="189"/>
                  </a:lnTo>
                  <a:lnTo>
                    <a:pt x="169" y="189"/>
                  </a:lnTo>
                  <a:lnTo>
                    <a:pt x="170" y="189"/>
                  </a:lnTo>
                  <a:lnTo>
                    <a:pt x="172" y="188"/>
                  </a:lnTo>
                  <a:lnTo>
                    <a:pt x="175" y="193"/>
                  </a:lnTo>
                  <a:lnTo>
                    <a:pt x="177" y="195"/>
                  </a:lnTo>
                  <a:lnTo>
                    <a:pt x="178" y="195"/>
                  </a:lnTo>
                  <a:lnTo>
                    <a:pt x="178" y="196"/>
                  </a:lnTo>
                  <a:lnTo>
                    <a:pt x="178" y="198"/>
                  </a:lnTo>
                  <a:lnTo>
                    <a:pt x="180" y="205"/>
                  </a:lnTo>
                  <a:lnTo>
                    <a:pt x="181" y="209"/>
                  </a:lnTo>
                  <a:lnTo>
                    <a:pt x="183" y="209"/>
                  </a:lnTo>
                  <a:lnTo>
                    <a:pt x="184" y="211"/>
                  </a:lnTo>
                  <a:lnTo>
                    <a:pt x="189" y="218"/>
                  </a:lnTo>
                  <a:lnTo>
                    <a:pt x="193" y="222"/>
                  </a:lnTo>
                  <a:lnTo>
                    <a:pt x="195" y="222"/>
                  </a:lnTo>
                  <a:lnTo>
                    <a:pt x="196" y="227"/>
                  </a:lnTo>
                  <a:lnTo>
                    <a:pt x="201" y="236"/>
                  </a:lnTo>
                  <a:lnTo>
                    <a:pt x="205" y="244"/>
                  </a:lnTo>
                  <a:lnTo>
                    <a:pt x="207" y="244"/>
                  </a:lnTo>
                  <a:lnTo>
                    <a:pt x="208" y="246"/>
                  </a:lnTo>
                  <a:lnTo>
                    <a:pt x="212" y="252"/>
                  </a:lnTo>
                  <a:lnTo>
                    <a:pt x="215" y="256"/>
                  </a:lnTo>
                  <a:lnTo>
                    <a:pt x="216" y="256"/>
                  </a:lnTo>
                  <a:lnTo>
                    <a:pt x="216" y="257"/>
                  </a:lnTo>
                  <a:lnTo>
                    <a:pt x="216" y="259"/>
                  </a:lnTo>
                  <a:lnTo>
                    <a:pt x="216" y="260"/>
                  </a:lnTo>
                  <a:lnTo>
                    <a:pt x="217" y="260"/>
                  </a:lnTo>
                  <a:lnTo>
                    <a:pt x="216" y="262"/>
                  </a:lnTo>
                  <a:lnTo>
                    <a:pt x="215" y="263"/>
                  </a:lnTo>
                  <a:lnTo>
                    <a:pt x="210" y="269"/>
                  </a:lnTo>
                  <a:lnTo>
                    <a:pt x="207" y="274"/>
                  </a:lnTo>
                  <a:lnTo>
                    <a:pt x="207" y="274"/>
                  </a:lnTo>
                  <a:lnTo>
                    <a:pt x="205" y="277"/>
                  </a:lnTo>
                  <a:lnTo>
                    <a:pt x="203" y="283"/>
                  </a:lnTo>
                  <a:lnTo>
                    <a:pt x="202" y="288"/>
                  </a:lnTo>
                  <a:lnTo>
                    <a:pt x="202" y="288"/>
                  </a:lnTo>
                  <a:lnTo>
                    <a:pt x="202" y="289"/>
                  </a:lnTo>
                  <a:lnTo>
                    <a:pt x="202" y="292"/>
                  </a:lnTo>
                  <a:lnTo>
                    <a:pt x="202" y="293"/>
                  </a:lnTo>
                  <a:lnTo>
                    <a:pt x="203" y="293"/>
                  </a:lnTo>
                  <a:lnTo>
                    <a:pt x="208" y="295"/>
                  </a:lnTo>
                  <a:lnTo>
                    <a:pt x="210" y="295"/>
                  </a:lnTo>
                  <a:lnTo>
                    <a:pt x="211" y="295"/>
                  </a:lnTo>
                  <a:lnTo>
                    <a:pt x="210" y="299"/>
                  </a:lnTo>
                  <a:lnTo>
                    <a:pt x="209" y="305"/>
                  </a:lnTo>
                  <a:lnTo>
                    <a:pt x="208" y="310"/>
                  </a:lnTo>
                  <a:lnTo>
                    <a:pt x="208" y="310"/>
                  </a:lnTo>
                  <a:lnTo>
                    <a:pt x="203" y="311"/>
                  </a:lnTo>
                  <a:lnTo>
                    <a:pt x="202" y="311"/>
                  </a:lnTo>
                  <a:lnTo>
                    <a:pt x="202" y="311"/>
                  </a:lnTo>
                  <a:lnTo>
                    <a:pt x="201" y="312"/>
                  </a:lnTo>
                  <a:lnTo>
                    <a:pt x="198" y="316"/>
                  </a:lnTo>
                  <a:lnTo>
                    <a:pt x="196" y="320"/>
                  </a:lnTo>
                  <a:lnTo>
                    <a:pt x="196" y="320"/>
                  </a:lnTo>
                  <a:lnTo>
                    <a:pt x="197" y="322"/>
                  </a:lnTo>
                  <a:lnTo>
                    <a:pt x="198" y="323"/>
                  </a:lnTo>
                  <a:lnTo>
                    <a:pt x="199" y="323"/>
                  </a:lnTo>
                  <a:lnTo>
                    <a:pt x="202" y="323"/>
                  </a:lnTo>
                  <a:lnTo>
                    <a:pt x="203" y="323"/>
                  </a:lnTo>
                  <a:lnTo>
                    <a:pt x="204" y="323"/>
                  </a:lnTo>
                  <a:lnTo>
                    <a:pt x="205" y="324"/>
                  </a:lnTo>
                  <a:lnTo>
                    <a:pt x="209" y="325"/>
                  </a:lnTo>
                  <a:lnTo>
                    <a:pt x="211" y="326"/>
                  </a:lnTo>
                  <a:lnTo>
                    <a:pt x="212" y="326"/>
                  </a:lnTo>
                  <a:lnTo>
                    <a:pt x="213" y="328"/>
                  </a:lnTo>
                  <a:lnTo>
                    <a:pt x="214" y="328"/>
                  </a:lnTo>
                  <a:lnTo>
                    <a:pt x="222" y="330"/>
                  </a:lnTo>
                  <a:lnTo>
                    <a:pt x="226" y="330"/>
                  </a:lnTo>
                  <a:lnTo>
                    <a:pt x="227" y="330"/>
                  </a:lnTo>
                  <a:lnTo>
                    <a:pt x="231" y="328"/>
                  </a:lnTo>
                  <a:lnTo>
                    <a:pt x="232" y="327"/>
                  </a:lnTo>
                  <a:lnTo>
                    <a:pt x="233" y="326"/>
                  </a:lnTo>
                  <a:lnTo>
                    <a:pt x="234" y="326"/>
                  </a:lnTo>
                  <a:lnTo>
                    <a:pt x="239" y="325"/>
                  </a:lnTo>
                  <a:lnTo>
                    <a:pt x="244" y="324"/>
                  </a:lnTo>
                  <a:lnTo>
                    <a:pt x="245" y="323"/>
                  </a:lnTo>
                  <a:lnTo>
                    <a:pt x="246" y="324"/>
                  </a:lnTo>
                  <a:lnTo>
                    <a:pt x="249" y="325"/>
                  </a:lnTo>
                  <a:lnTo>
                    <a:pt x="251" y="326"/>
                  </a:lnTo>
                  <a:lnTo>
                    <a:pt x="252" y="326"/>
                  </a:lnTo>
                  <a:lnTo>
                    <a:pt x="252" y="327"/>
                  </a:lnTo>
                  <a:lnTo>
                    <a:pt x="252" y="329"/>
                  </a:lnTo>
                  <a:lnTo>
                    <a:pt x="252" y="337"/>
                  </a:lnTo>
                  <a:lnTo>
                    <a:pt x="252" y="344"/>
                  </a:lnTo>
                  <a:lnTo>
                    <a:pt x="254" y="344"/>
                  </a:lnTo>
                  <a:lnTo>
                    <a:pt x="254" y="345"/>
                  </a:lnTo>
                  <a:lnTo>
                    <a:pt x="254" y="347"/>
                  </a:lnTo>
                  <a:lnTo>
                    <a:pt x="255" y="353"/>
                  </a:lnTo>
                  <a:lnTo>
                    <a:pt x="256" y="359"/>
                  </a:lnTo>
                  <a:lnTo>
                    <a:pt x="257" y="359"/>
                  </a:lnTo>
                  <a:lnTo>
                    <a:pt x="263" y="362"/>
                  </a:lnTo>
                  <a:lnTo>
                    <a:pt x="268" y="363"/>
                  </a:lnTo>
                  <a:lnTo>
                    <a:pt x="269" y="363"/>
                  </a:lnTo>
                  <a:lnTo>
                    <a:pt x="270" y="362"/>
                  </a:lnTo>
                  <a:lnTo>
                    <a:pt x="273" y="356"/>
                  </a:lnTo>
                  <a:lnTo>
                    <a:pt x="277" y="351"/>
                  </a:lnTo>
                  <a:lnTo>
                    <a:pt x="278" y="350"/>
                  </a:lnTo>
                  <a:lnTo>
                    <a:pt x="278" y="347"/>
                  </a:lnTo>
                  <a:lnTo>
                    <a:pt x="278" y="335"/>
                  </a:lnTo>
                  <a:lnTo>
                    <a:pt x="278" y="326"/>
                  </a:lnTo>
                  <a:lnTo>
                    <a:pt x="279" y="325"/>
                  </a:lnTo>
                  <a:lnTo>
                    <a:pt x="279" y="322"/>
                  </a:lnTo>
                  <a:lnTo>
                    <a:pt x="278" y="311"/>
                  </a:lnTo>
                  <a:lnTo>
                    <a:pt x="278" y="302"/>
                  </a:lnTo>
                  <a:lnTo>
                    <a:pt x="279" y="301"/>
                  </a:lnTo>
                  <a:lnTo>
                    <a:pt x="279" y="300"/>
                  </a:lnTo>
                  <a:lnTo>
                    <a:pt x="278" y="294"/>
                  </a:lnTo>
                  <a:lnTo>
                    <a:pt x="278" y="291"/>
                  </a:lnTo>
                  <a:lnTo>
                    <a:pt x="279" y="290"/>
                  </a:lnTo>
                  <a:lnTo>
                    <a:pt x="277" y="288"/>
                  </a:lnTo>
                  <a:lnTo>
                    <a:pt x="272" y="280"/>
                  </a:lnTo>
                  <a:lnTo>
                    <a:pt x="269" y="274"/>
                  </a:lnTo>
                  <a:lnTo>
                    <a:pt x="269" y="272"/>
                  </a:lnTo>
                  <a:lnTo>
                    <a:pt x="270" y="272"/>
                  </a:lnTo>
                  <a:lnTo>
                    <a:pt x="273" y="271"/>
                  </a:lnTo>
                  <a:lnTo>
                    <a:pt x="275" y="271"/>
                  </a:lnTo>
                  <a:lnTo>
                    <a:pt x="277" y="270"/>
                  </a:lnTo>
                  <a:lnTo>
                    <a:pt x="277" y="271"/>
                  </a:lnTo>
                  <a:lnTo>
                    <a:pt x="277" y="272"/>
                  </a:lnTo>
                  <a:lnTo>
                    <a:pt x="279" y="278"/>
                  </a:lnTo>
                  <a:lnTo>
                    <a:pt x="280" y="282"/>
                  </a:lnTo>
                  <a:lnTo>
                    <a:pt x="281" y="282"/>
                  </a:lnTo>
                  <a:lnTo>
                    <a:pt x="283" y="283"/>
                  </a:lnTo>
                  <a:lnTo>
                    <a:pt x="290" y="286"/>
                  </a:lnTo>
                  <a:lnTo>
                    <a:pt x="294" y="287"/>
                  </a:lnTo>
                  <a:lnTo>
                    <a:pt x="295" y="287"/>
                  </a:lnTo>
                  <a:lnTo>
                    <a:pt x="302" y="289"/>
                  </a:lnTo>
                  <a:lnTo>
                    <a:pt x="306" y="289"/>
                  </a:lnTo>
                  <a:lnTo>
                    <a:pt x="307" y="289"/>
                  </a:lnTo>
                  <a:lnTo>
                    <a:pt x="307" y="292"/>
                  </a:lnTo>
                  <a:lnTo>
                    <a:pt x="306" y="302"/>
                  </a:lnTo>
                  <a:lnTo>
                    <a:pt x="306" y="310"/>
                  </a:lnTo>
                  <a:lnTo>
                    <a:pt x="307" y="310"/>
                  </a:lnTo>
                  <a:lnTo>
                    <a:pt x="308" y="312"/>
                  </a:lnTo>
                  <a:lnTo>
                    <a:pt x="309" y="313"/>
                  </a:lnTo>
                  <a:lnTo>
                    <a:pt x="309" y="314"/>
                  </a:lnTo>
                  <a:lnTo>
                    <a:pt x="309" y="316"/>
                  </a:lnTo>
                  <a:lnTo>
                    <a:pt x="309" y="323"/>
                  </a:lnTo>
                  <a:lnTo>
                    <a:pt x="309" y="328"/>
                  </a:lnTo>
                  <a:lnTo>
                    <a:pt x="310" y="328"/>
                  </a:lnTo>
                  <a:lnTo>
                    <a:pt x="310" y="329"/>
                  </a:lnTo>
                  <a:lnTo>
                    <a:pt x="310" y="330"/>
                  </a:lnTo>
                  <a:lnTo>
                    <a:pt x="312" y="336"/>
                  </a:lnTo>
                  <a:lnTo>
                    <a:pt x="312" y="339"/>
                  </a:lnTo>
                  <a:lnTo>
                    <a:pt x="313" y="339"/>
                  </a:lnTo>
                  <a:lnTo>
                    <a:pt x="313" y="341"/>
                  </a:lnTo>
                  <a:lnTo>
                    <a:pt x="312" y="346"/>
                  </a:lnTo>
                  <a:lnTo>
                    <a:pt x="312" y="349"/>
                  </a:lnTo>
                  <a:lnTo>
                    <a:pt x="313" y="349"/>
                  </a:lnTo>
                  <a:lnTo>
                    <a:pt x="312" y="351"/>
                  </a:lnTo>
                  <a:lnTo>
                    <a:pt x="310" y="355"/>
                  </a:lnTo>
                  <a:lnTo>
                    <a:pt x="310" y="357"/>
                  </a:lnTo>
                  <a:lnTo>
                    <a:pt x="310" y="357"/>
                  </a:lnTo>
                  <a:lnTo>
                    <a:pt x="310" y="358"/>
                  </a:lnTo>
                  <a:lnTo>
                    <a:pt x="310" y="360"/>
                  </a:lnTo>
                  <a:lnTo>
                    <a:pt x="310" y="367"/>
                  </a:lnTo>
                  <a:lnTo>
                    <a:pt x="310" y="371"/>
                  </a:lnTo>
                  <a:lnTo>
                    <a:pt x="312" y="371"/>
                  </a:lnTo>
                  <a:lnTo>
                    <a:pt x="315" y="376"/>
                  </a:lnTo>
                  <a:lnTo>
                    <a:pt x="317" y="379"/>
                  </a:lnTo>
                  <a:lnTo>
                    <a:pt x="318" y="379"/>
                  </a:lnTo>
                  <a:lnTo>
                    <a:pt x="318" y="380"/>
                  </a:lnTo>
                  <a:lnTo>
                    <a:pt x="318" y="381"/>
                  </a:lnTo>
                  <a:lnTo>
                    <a:pt x="320" y="386"/>
                  </a:lnTo>
                  <a:lnTo>
                    <a:pt x="321" y="390"/>
                  </a:lnTo>
                  <a:lnTo>
                    <a:pt x="322" y="390"/>
                  </a:lnTo>
                  <a:lnTo>
                    <a:pt x="322" y="391"/>
                  </a:lnTo>
                  <a:lnTo>
                    <a:pt x="322" y="393"/>
                  </a:lnTo>
                  <a:lnTo>
                    <a:pt x="324" y="403"/>
                  </a:lnTo>
                  <a:lnTo>
                    <a:pt x="324" y="410"/>
                  </a:lnTo>
                  <a:lnTo>
                    <a:pt x="325" y="410"/>
                  </a:lnTo>
                  <a:lnTo>
                    <a:pt x="326" y="412"/>
                  </a:lnTo>
                  <a:lnTo>
                    <a:pt x="332" y="418"/>
                  </a:lnTo>
                  <a:lnTo>
                    <a:pt x="337" y="422"/>
                  </a:lnTo>
                  <a:lnTo>
                    <a:pt x="338" y="422"/>
                  </a:lnTo>
                  <a:lnTo>
                    <a:pt x="340" y="422"/>
                  </a:lnTo>
                  <a:lnTo>
                    <a:pt x="346" y="422"/>
                  </a:lnTo>
                  <a:lnTo>
                    <a:pt x="352" y="422"/>
                  </a:lnTo>
                  <a:lnTo>
                    <a:pt x="353" y="421"/>
                  </a:lnTo>
                  <a:lnTo>
                    <a:pt x="355" y="425"/>
                  </a:lnTo>
                  <a:lnTo>
                    <a:pt x="365" y="431"/>
                  </a:lnTo>
                  <a:lnTo>
                    <a:pt x="372" y="437"/>
                  </a:lnTo>
                  <a:lnTo>
                    <a:pt x="373" y="437"/>
                  </a:lnTo>
                  <a:lnTo>
                    <a:pt x="376" y="439"/>
                  </a:lnTo>
                  <a:lnTo>
                    <a:pt x="387" y="442"/>
                  </a:lnTo>
                  <a:lnTo>
                    <a:pt x="395" y="444"/>
                  </a:lnTo>
                  <a:lnTo>
                    <a:pt x="396" y="444"/>
                  </a:lnTo>
                  <a:lnTo>
                    <a:pt x="399" y="445"/>
                  </a:lnTo>
                  <a:lnTo>
                    <a:pt x="411" y="449"/>
                  </a:lnTo>
                  <a:lnTo>
                    <a:pt x="420" y="451"/>
                  </a:lnTo>
                  <a:lnTo>
                    <a:pt x="421" y="451"/>
                  </a:lnTo>
                  <a:lnTo>
                    <a:pt x="423" y="453"/>
                  </a:lnTo>
                  <a:lnTo>
                    <a:pt x="430" y="456"/>
                  </a:lnTo>
                  <a:lnTo>
                    <a:pt x="434" y="458"/>
                  </a:lnTo>
                  <a:lnTo>
                    <a:pt x="435" y="458"/>
                  </a:lnTo>
                  <a:lnTo>
                    <a:pt x="441" y="461"/>
                  </a:lnTo>
                  <a:lnTo>
                    <a:pt x="444" y="462"/>
                  </a:lnTo>
                  <a:lnTo>
                    <a:pt x="445" y="462"/>
                  </a:lnTo>
                  <a:lnTo>
                    <a:pt x="446" y="462"/>
                  </a:lnTo>
                  <a:lnTo>
                    <a:pt x="449" y="462"/>
                  </a:lnTo>
                  <a:lnTo>
                    <a:pt x="453" y="462"/>
                  </a:lnTo>
                  <a:lnTo>
                    <a:pt x="454" y="461"/>
                  </a:lnTo>
                  <a:lnTo>
                    <a:pt x="455" y="460"/>
                  </a:lnTo>
                  <a:lnTo>
                    <a:pt x="459" y="454"/>
                  </a:lnTo>
                  <a:lnTo>
                    <a:pt x="462" y="450"/>
                  </a:lnTo>
                  <a:lnTo>
                    <a:pt x="463" y="449"/>
                  </a:lnTo>
                  <a:lnTo>
                    <a:pt x="465" y="449"/>
                  </a:lnTo>
                  <a:lnTo>
                    <a:pt x="468" y="449"/>
                  </a:lnTo>
                  <a:lnTo>
                    <a:pt x="470" y="449"/>
                  </a:lnTo>
                  <a:lnTo>
                    <a:pt x="471" y="449"/>
                  </a:lnTo>
                  <a:lnTo>
                    <a:pt x="472" y="446"/>
                  </a:lnTo>
                  <a:lnTo>
                    <a:pt x="475" y="440"/>
                  </a:lnTo>
                  <a:lnTo>
                    <a:pt x="479" y="435"/>
                  </a:lnTo>
                  <a:lnTo>
                    <a:pt x="480" y="434"/>
                  </a:lnTo>
                  <a:lnTo>
                    <a:pt x="481" y="433"/>
                  </a:lnTo>
                  <a:lnTo>
                    <a:pt x="484" y="430"/>
                  </a:lnTo>
                  <a:lnTo>
                    <a:pt x="486" y="427"/>
                  </a:lnTo>
                  <a:lnTo>
                    <a:pt x="488" y="426"/>
                  </a:lnTo>
                  <a:lnTo>
                    <a:pt x="492" y="422"/>
                  </a:lnTo>
                  <a:lnTo>
                    <a:pt x="495" y="421"/>
                  </a:lnTo>
                  <a:lnTo>
                    <a:pt x="496" y="420"/>
                  </a:lnTo>
                  <a:lnTo>
                    <a:pt x="497" y="419"/>
                  </a:lnTo>
                  <a:lnTo>
                    <a:pt x="502" y="416"/>
                  </a:lnTo>
                  <a:lnTo>
                    <a:pt x="505" y="412"/>
                  </a:lnTo>
                  <a:lnTo>
                    <a:pt x="506" y="411"/>
                  </a:lnTo>
                  <a:lnTo>
                    <a:pt x="508" y="410"/>
                  </a:lnTo>
                  <a:lnTo>
                    <a:pt x="515" y="407"/>
                  </a:lnTo>
                  <a:lnTo>
                    <a:pt x="519" y="404"/>
                  </a:lnTo>
                  <a:lnTo>
                    <a:pt x="520" y="403"/>
                  </a:lnTo>
                  <a:lnTo>
                    <a:pt x="524" y="399"/>
                  </a:lnTo>
                  <a:lnTo>
                    <a:pt x="526" y="397"/>
                  </a:lnTo>
                  <a:lnTo>
                    <a:pt x="527" y="396"/>
                  </a:lnTo>
                  <a:lnTo>
                    <a:pt x="528" y="396"/>
                  </a:lnTo>
                  <a:lnTo>
                    <a:pt x="533" y="394"/>
                  </a:lnTo>
                  <a:lnTo>
                    <a:pt x="537" y="393"/>
                  </a:lnTo>
                  <a:lnTo>
                    <a:pt x="538" y="392"/>
                  </a:lnTo>
                  <a:lnTo>
                    <a:pt x="540" y="393"/>
                  </a:lnTo>
                  <a:lnTo>
                    <a:pt x="547" y="394"/>
                  </a:lnTo>
                  <a:lnTo>
                    <a:pt x="552" y="394"/>
                  </a:lnTo>
                  <a:lnTo>
                    <a:pt x="553" y="394"/>
                  </a:lnTo>
                  <a:lnTo>
                    <a:pt x="560" y="399"/>
                  </a:lnTo>
                  <a:lnTo>
                    <a:pt x="564" y="403"/>
                  </a:lnTo>
                  <a:lnTo>
                    <a:pt x="565" y="403"/>
                  </a:lnTo>
                  <a:lnTo>
                    <a:pt x="571" y="408"/>
                  </a:lnTo>
                  <a:lnTo>
                    <a:pt x="574" y="410"/>
                  </a:lnTo>
                  <a:lnTo>
                    <a:pt x="575" y="410"/>
                  </a:lnTo>
                  <a:lnTo>
                    <a:pt x="575" y="412"/>
                  </a:lnTo>
                  <a:lnTo>
                    <a:pt x="574" y="417"/>
                  </a:lnTo>
                  <a:lnTo>
                    <a:pt x="574" y="420"/>
                  </a:lnTo>
                  <a:lnTo>
                    <a:pt x="575" y="420"/>
                  </a:lnTo>
                  <a:lnTo>
                    <a:pt x="574" y="423"/>
                  </a:lnTo>
                  <a:lnTo>
                    <a:pt x="572" y="431"/>
                  </a:lnTo>
                  <a:lnTo>
                    <a:pt x="571" y="438"/>
                  </a:lnTo>
                  <a:lnTo>
                    <a:pt x="571" y="438"/>
                  </a:lnTo>
                  <a:lnTo>
                    <a:pt x="570" y="440"/>
                  </a:lnTo>
                  <a:lnTo>
                    <a:pt x="567" y="445"/>
                  </a:lnTo>
                  <a:lnTo>
                    <a:pt x="566" y="450"/>
                  </a:lnTo>
                  <a:lnTo>
                    <a:pt x="566" y="450"/>
                  </a:lnTo>
                  <a:lnTo>
                    <a:pt x="565" y="451"/>
                  </a:lnTo>
                  <a:lnTo>
                    <a:pt x="564" y="453"/>
                  </a:lnTo>
                  <a:lnTo>
                    <a:pt x="561" y="460"/>
                  </a:lnTo>
                  <a:lnTo>
                    <a:pt x="559" y="465"/>
                  </a:lnTo>
                  <a:lnTo>
                    <a:pt x="559" y="465"/>
                  </a:lnTo>
                  <a:lnTo>
                    <a:pt x="557" y="470"/>
                  </a:lnTo>
                  <a:lnTo>
                    <a:pt x="556" y="486"/>
                  </a:lnTo>
                  <a:lnTo>
                    <a:pt x="556" y="497"/>
                  </a:lnTo>
                  <a:lnTo>
                    <a:pt x="556" y="497"/>
                  </a:lnTo>
                  <a:lnTo>
                    <a:pt x="555" y="498"/>
                  </a:lnTo>
                  <a:lnTo>
                    <a:pt x="554" y="501"/>
                  </a:lnTo>
                  <a:lnTo>
                    <a:pt x="553" y="503"/>
                  </a:lnTo>
                  <a:lnTo>
                    <a:pt x="553" y="503"/>
                  </a:lnTo>
                  <a:lnTo>
                    <a:pt x="553" y="505"/>
                  </a:lnTo>
                  <a:lnTo>
                    <a:pt x="552" y="512"/>
                  </a:lnTo>
                  <a:lnTo>
                    <a:pt x="552" y="516"/>
                  </a:lnTo>
                  <a:lnTo>
                    <a:pt x="553" y="516"/>
                  </a:lnTo>
                  <a:lnTo>
                    <a:pt x="552" y="520"/>
                  </a:lnTo>
                  <a:lnTo>
                    <a:pt x="549" y="527"/>
                  </a:lnTo>
                  <a:lnTo>
                    <a:pt x="547" y="534"/>
                  </a:lnTo>
                  <a:lnTo>
                    <a:pt x="547" y="534"/>
                  </a:lnTo>
                  <a:lnTo>
                    <a:pt x="545" y="535"/>
                  </a:lnTo>
                  <a:lnTo>
                    <a:pt x="543" y="537"/>
                  </a:lnTo>
                  <a:lnTo>
                    <a:pt x="536" y="544"/>
                  </a:lnTo>
                  <a:lnTo>
                    <a:pt x="530" y="548"/>
                  </a:lnTo>
                  <a:lnTo>
                    <a:pt x="530" y="548"/>
                  </a:lnTo>
                  <a:lnTo>
                    <a:pt x="527" y="549"/>
                  </a:lnTo>
                  <a:lnTo>
                    <a:pt x="519" y="553"/>
                  </a:lnTo>
                  <a:lnTo>
                    <a:pt x="514" y="554"/>
                  </a:lnTo>
                  <a:lnTo>
                    <a:pt x="514" y="554"/>
                  </a:lnTo>
                  <a:lnTo>
                    <a:pt x="513" y="556"/>
                  </a:lnTo>
                  <a:lnTo>
                    <a:pt x="512" y="561"/>
                  </a:lnTo>
                  <a:lnTo>
                    <a:pt x="512" y="566"/>
                  </a:lnTo>
                  <a:lnTo>
                    <a:pt x="512" y="566"/>
                  </a:lnTo>
                  <a:lnTo>
                    <a:pt x="510" y="569"/>
                  </a:lnTo>
                  <a:lnTo>
                    <a:pt x="509" y="575"/>
                  </a:lnTo>
                  <a:lnTo>
                    <a:pt x="508" y="581"/>
                  </a:lnTo>
                  <a:lnTo>
                    <a:pt x="508" y="581"/>
                  </a:lnTo>
                  <a:lnTo>
                    <a:pt x="507" y="582"/>
                  </a:lnTo>
                  <a:lnTo>
                    <a:pt x="504" y="585"/>
                  </a:lnTo>
                  <a:lnTo>
                    <a:pt x="503" y="588"/>
                  </a:lnTo>
                  <a:lnTo>
                    <a:pt x="503" y="588"/>
                  </a:lnTo>
                  <a:lnTo>
                    <a:pt x="503" y="589"/>
                  </a:lnTo>
                  <a:lnTo>
                    <a:pt x="503" y="591"/>
                  </a:lnTo>
                  <a:lnTo>
                    <a:pt x="503" y="598"/>
                  </a:lnTo>
                  <a:lnTo>
                    <a:pt x="503" y="604"/>
                  </a:lnTo>
                  <a:lnTo>
                    <a:pt x="504" y="604"/>
                  </a:lnTo>
                  <a:lnTo>
                    <a:pt x="506" y="606"/>
                  </a:lnTo>
                  <a:lnTo>
                    <a:pt x="507" y="607"/>
                  </a:lnTo>
                  <a:lnTo>
                    <a:pt x="508" y="607"/>
                  </a:lnTo>
                  <a:lnTo>
                    <a:pt x="508" y="609"/>
                  </a:lnTo>
                  <a:lnTo>
                    <a:pt x="507" y="613"/>
                  </a:lnTo>
                  <a:lnTo>
                    <a:pt x="507" y="615"/>
                  </a:lnTo>
                  <a:lnTo>
                    <a:pt x="508" y="615"/>
                  </a:lnTo>
                  <a:lnTo>
                    <a:pt x="507" y="616"/>
                  </a:lnTo>
                  <a:lnTo>
                    <a:pt x="506" y="618"/>
                  </a:lnTo>
                  <a:lnTo>
                    <a:pt x="501" y="625"/>
                  </a:lnTo>
                  <a:lnTo>
                    <a:pt x="497" y="629"/>
                  </a:lnTo>
                  <a:lnTo>
                    <a:pt x="497" y="629"/>
                  </a:lnTo>
                  <a:lnTo>
                    <a:pt x="496" y="626"/>
                  </a:lnTo>
                  <a:lnTo>
                    <a:pt x="495" y="615"/>
                  </a:lnTo>
                  <a:lnTo>
                    <a:pt x="495" y="606"/>
                  </a:lnTo>
                  <a:lnTo>
                    <a:pt x="495" y="605"/>
                  </a:lnTo>
                  <a:lnTo>
                    <a:pt x="490" y="604"/>
                  </a:lnTo>
                  <a:lnTo>
                    <a:pt x="488" y="603"/>
                  </a:lnTo>
                  <a:lnTo>
                    <a:pt x="488" y="602"/>
                  </a:lnTo>
                  <a:lnTo>
                    <a:pt x="485" y="603"/>
                  </a:lnTo>
                  <a:lnTo>
                    <a:pt x="480" y="604"/>
                  </a:lnTo>
                  <a:lnTo>
                    <a:pt x="475" y="604"/>
                  </a:lnTo>
                  <a:lnTo>
                    <a:pt x="475" y="604"/>
                  </a:lnTo>
                  <a:lnTo>
                    <a:pt x="472" y="605"/>
                  </a:lnTo>
                  <a:lnTo>
                    <a:pt x="466" y="606"/>
                  </a:lnTo>
                  <a:lnTo>
                    <a:pt x="460" y="607"/>
                  </a:lnTo>
                  <a:lnTo>
                    <a:pt x="460" y="607"/>
                  </a:lnTo>
                  <a:lnTo>
                    <a:pt x="457" y="608"/>
                  </a:lnTo>
                  <a:lnTo>
                    <a:pt x="450" y="608"/>
                  </a:lnTo>
                  <a:lnTo>
                    <a:pt x="446" y="608"/>
                  </a:lnTo>
                  <a:lnTo>
                    <a:pt x="446" y="608"/>
                  </a:lnTo>
                  <a:lnTo>
                    <a:pt x="444" y="609"/>
                  </a:lnTo>
                  <a:lnTo>
                    <a:pt x="438" y="612"/>
                  </a:lnTo>
                  <a:lnTo>
                    <a:pt x="435" y="613"/>
                  </a:lnTo>
                  <a:lnTo>
                    <a:pt x="435" y="613"/>
                  </a:lnTo>
                  <a:lnTo>
                    <a:pt x="434" y="614"/>
                  </a:lnTo>
                  <a:lnTo>
                    <a:pt x="433" y="615"/>
                  </a:lnTo>
                  <a:lnTo>
                    <a:pt x="428" y="620"/>
                  </a:lnTo>
                  <a:lnTo>
                    <a:pt x="425" y="624"/>
                  </a:lnTo>
                  <a:lnTo>
                    <a:pt x="425" y="624"/>
                  </a:lnTo>
                  <a:lnTo>
                    <a:pt x="424" y="625"/>
                  </a:lnTo>
                  <a:lnTo>
                    <a:pt x="422" y="627"/>
                  </a:lnTo>
                  <a:lnTo>
                    <a:pt x="415" y="635"/>
                  </a:lnTo>
                  <a:lnTo>
                    <a:pt x="410" y="641"/>
                  </a:lnTo>
                  <a:lnTo>
                    <a:pt x="410" y="641"/>
                  </a:lnTo>
                  <a:lnTo>
                    <a:pt x="409" y="642"/>
                  </a:lnTo>
                  <a:lnTo>
                    <a:pt x="408" y="643"/>
                  </a:lnTo>
                  <a:lnTo>
                    <a:pt x="404" y="648"/>
                  </a:lnTo>
                  <a:lnTo>
                    <a:pt x="401" y="651"/>
                  </a:lnTo>
                  <a:lnTo>
                    <a:pt x="401" y="651"/>
                  </a:lnTo>
                  <a:lnTo>
                    <a:pt x="400" y="652"/>
                  </a:lnTo>
                  <a:lnTo>
                    <a:pt x="399" y="654"/>
                  </a:lnTo>
                  <a:lnTo>
                    <a:pt x="393" y="661"/>
                  </a:lnTo>
                  <a:lnTo>
                    <a:pt x="390" y="666"/>
                  </a:lnTo>
                  <a:lnTo>
                    <a:pt x="390" y="666"/>
                  </a:lnTo>
                  <a:lnTo>
                    <a:pt x="390" y="667"/>
                  </a:lnTo>
                  <a:lnTo>
                    <a:pt x="390" y="668"/>
                  </a:lnTo>
                  <a:lnTo>
                    <a:pt x="390" y="672"/>
                  </a:lnTo>
                  <a:lnTo>
                    <a:pt x="390" y="675"/>
                  </a:lnTo>
                  <a:lnTo>
                    <a:pt x="391" y="675"/>
                  </a:lnTo>
                  <a:lnTo>
                    <a:pt x="393" y="674"/>
                  </a:lnTo>
                  <a:lnTo>
                    <a:pt x="395" y="673"/>
                  </a:lnTo>
                  <a:lnTo>
                    <a:pt x="396" y="672"/>
                  </a:lnTo>
                  <a:lnTo>
                    <a:pt x="396" y="673"/>
                  </a:lnTo>
                  <a:lnTo>
                    <a:pt x="396" y="675"/>
                  </a:lnTo>
                  <a:lnTo>
                    <a:pt x="398" y="683"/>
                  </a:lnTo>
                  <a:lnTo>
                    <a:pt x="399" y="688"/>
                  </a:lnTo>
                  <a:lnTo>
                    <a:pt x="400" y="688"/>
                  </a:lnTo>
                  <a:lnTo>
                    <a:pt x="401" y="689"/>
                  </a:lnTo>
                  <a:lnTo>
                    <a:pt x="404" y="693"/>
                  </a:lnTo>
                  <a:lnTo>
                    <a:pt x="407" y="694"/>
                  </a:lnTo>
                  <a:lnTo>
                    <a:pt x="408" y="694"/>
                  </a:lnTo>
                  <a:lnTo>
                    <a:pt x="407" y="697"/>
                  </a:lnTo>
                  <a:lnTo>
                    <a:pt x="404" y="706"/>
                  </a:lnTo>
                  <a:lnTo>
                    <a:pt x="403" y="712"/>
                  </a:lnTo>
                  <a:lnTo>
                    <a:pt x="403" y="712"/>
                  </a:lnTo>
                  <a:lnTo>
                    <a:pt x="402" y="713"/>
                  </a:lnTo>
                  <a:lnTo>
                    <a:pt x="401" y="716"/>
                  </a:lnTo>
                  <a:lnTo>
                    <a:pt x="397" y="725"/>
                  </a:lnTo>
                  <a:lnTo>
                    <a:pt x="393" y="733"/>
                  </a:lnTo>
                  <a:lnTo>
                    <a:pt x="393" y="733"/>
                  </a:lnTo>
                  <a:lnTo>
                    <a:pt x="392" y="734"/>
                  </a:lnTo>
                  <a:lnTo>
                    <a:pt x="391" y="736"/>
                  </a:lnTo>
                  <a:lnTo>
                    <a:pt x="387" y="744"/>
                  </a:lnTo>
                  <a:lnTo>
                    <a:pt x="384" y="749"/>
                  </a:lnTo>
                  <a:lnTo>
                    <a:pt x="384" y="749"/>
                  </a:lnTo>
                  <a:lnTo>
                    <a:pt x="383" y="751"/>
                  </a:lnTo>
                  <a:lnTo>
                    <a:pt x="381" y="753"/>
                  </a:lnTo>
                  <a:lnTo>
                    <a:pt x="378" y="760"/>
                  </a:lnTo>
                  <a:lnTo>
                    <a:pt x="375" y="766"/>
                  </a:lnTo>
                  <a:lnTo>
                    <a:pt x="375" y="766"/>
                  </a:lnTo>
                  <a:lnTo>
                    <a:pt x="374" y="767"/>
                  </a:lnTo>
                  <a:lnTo>
                    <a:pt x="373" y="769"/>
                  </a:lnTo>
                  <a:lnTo>
                    <a:pt x="367" y="777"/>
                  </a:lnTo>
                  <a:lnTo>
                    <a:pt x="364" y="782"/>
                  </a:lnTo>
                  <a:lnTo>
                    <a:pt x="364" y="782"/>
                  </a:lnTo>
                  <a:lnTo>
                    <a:pt x="363" y="784"/>
                  </a:lnTo>
                  <a:lnTo>
                    <a:pt x="362" y="791"/>
                  </a:lnTo>
                  <a:lnTo>
                    <a:pt x="361" y="795"/>
                  </a:lnTo>
                  <a:lnTo>
                    <a:pt x="361" y="795"/>
                  </a:lnTo>
                  <a:lnTo>
                    <a:pt x="360" y="796"/>
                  </a:lnTo>
                  <a:lnTo>
                    <a:pt x="359" y="798"/>
                  </a:lnTo>
                  <a:lnTo>
                    <a:pt x="352" y="804"/>
                  </a:lnTo>
                  <a:lnTo>
                    <a:pt x="348" y="808"/>
                  </a:lnTo>
                  <a:lnTo>
                    <a:pt x="348" y="808"/>
                  </a:lnTo>
                  <a:lnTo>
                    <a:pt x="346" y="810"/>
                  </a:lnTo>
                  <a:lnTo>
                    <a:pt x="345" y="812"/>
                  </a:lnTo>
                  <a:lnTo>
                    <a:pt x="340" y="819"/>
                  </a:lnTo>
                  <a:lnTo>
                    <a:pt x="336" y="826"/>
                  </a:lnTo>
                  <a:lnTo>
                    <a:pt x="336" y="826"/>
                  </a:lnTo>
                  <a:lnTo>
                    <a:pt x="334" y="827"/>
                  </a:lnTo>
                  <a:lnTo>
                    <a:pt x="332" y="831"/>
                  </a:lnTo>
                  <a:lnTo>
                    <a:pt x="325" y="845"/>
                  </a:lnTo>
                  <a:lnTo>
                    <a:pt x="318" y="856"/>
                  </a:lnTo>
                  <a:lnTo>
                    <a:pt x="318" y="856"/>
                  </a:lnTo>
                  <a:lnTo>
                    <a:pt x="317" y="857"/>
                  </a:lnTo>
                  <a:lnTo>
                    <a:pt x="314" y="862"/>
                  </a:lnTo>
                  <a:lnTo>
                    <a:pt x="302" y="882"/>
                  </a:lnTo>
                  <a:lnTo>
                    <a:pt x="292" y="896"/>
                  </a:lnTo>
                  <a:lnTo>
                    <a:pt x="292" y="896"/>
                  </a:lnTo>
                  <a:lnTo>
                    <a:pt x="291" y="897"/>
                  </a:lnTo>
                  <a:lnTo>
                    <a:pt x="287" y="901"/>
                  </a:lnTo>
                  <a:lnTo>
                    <a:pt x="277" y="917"/>
                  </a:lnTo>
                  <a:lnTo>
                    <a:pt x="269" y="928"/>
                  </a:lnTo>
                  <a:lnTo>
                    <a:pt x="269" y="928"/>
                  </a:lnTo>
                  <a:lnTo>
                    <a:pt x="268" y="929"/>
                  </a:lnTo>
                  <a:lnTo>
                    <a:pt x="263" y="932"/>
                  </a:lnTo>
                  <a:lnTo>
                    <a:pt x="248" y="943"/>
                  </a:lnTo>
                  <a:lnTo>
                    <a:pt x="236" y="951"/>
                  </a:lnTo>
                  <a:lnTo>
                    <a:pt x="236" y="951"/>
                  </a:lnTo>
                  <a:lnTo>
                    <a:pt x="235" y="952"/>
                  </a:lnTo>
                  <a:lnTo>
                    <a:pt x="233" y="953"/>
                  </a:lnTo>
                  <a:lnTo>
                    <a:pt x="226" y="956"/>
                  </a:lnTo>
                  <a:lnTo>
                    <a:pt x="222" y="959"/>
                  </a:lnTo>
                  <a:lnTo>
                    <a:pt x="222" y="959"/>
                  </a:lnTo>
                  <a:lnTo>
                    <a:pt x="220" y="958"/>
                  </a:lnTo>
                  <a:lnTo>
                    <a:pt x="214" y="953"/>
                  </a:lnTo>
                  <a:lnTo>
                    <a:pt x="210" y="949"/>
                  </a:lnTo>
                  <a:lnTo>
                    <a:pt x="210" y="947"/>
                  </a:lnTo>
                  <a:lnTo>
                    <a:pt x="209" y="945"/>
                  </a:lnTo>
                  <a:lnTo>
                    <a:pt x="205" y="939"/>
                  </a:lnTo>
                  <a:lnTo>
                    <a:pt x="203" y="934"/>
                  </a:lnTo>
                  <a:lnTo>
                    <a:pt x="203" y="933"/>
                  </a:lnTo>
                  <a:lnTo>
                    <a:pt x="197" y="934"/>
                  </a:lnTo>
                  <a:lnTo>
                    <a:pt x="179" y="935"/>
                  </a:lnTo>
                  <a:lnTo>
                    <a:pt x="166" y="936"/>
                  </a:lnTo>
                  <a:lnTo>
                    <a:pt x="166" y="936"/>
                  </a:lnTo>
                  <a:lnTo>
                    <a:pt x="165" y="934"/>
                  </a:lnTo>
                  <a:lnTo>
                    <a:pt x="163" y="928"/>
                  </a:lnTo>
                  <a:lnTo>
                    <a:pt x="162" y="923"/>
                  </a:lnTo>
                  <a:lnTo>
                    <a:pt x="162" y="922"/>
                  </a:lnTo>
                  <a:lnTo>
                    <a:pt x="162" y="920"/>
                  </a:lnTo>
                  <a:lnTo>
                    <a:pt x="162" y="910"/>
                  </a:lnTo>
                  <a:lnTo>
                    <a:pt x="162" y="904"/>
                  </a:lnTo>
                  <a:lnTo>
                    <a:pt x="163" y="903"/>
                  </a:lnTo>
                  <a:lnTo>
                    <a:pt x="163" y="905"/>
                  </a:lnTo>
                  <a:lnTo>
                    <a:pt x="162" y="909"/>
                  </a:lnTo>
                  <a:lnTo>
                    <a:pt x="162" y="912"/>
                  </a:lnTo>
                  <a:lnTo>
                    <a:pt x="163" y="912"/>
                  </a:lnTo>
                  <a:lnTo>
                    <a:pt x="164" y="910"/>
                  </a:lnTo>
                  <a:lnTo>
                    <a:pt x="168" y="904"/>
                  </a:lnTo>
                  <a:lnTo>
                    <a:pt x="172" y="899"/>
                  </a:lnTo>
                  <a:lnTo>
                    <a:pt x="173" y="898"/>
                  </a:lnTo>
                  <a:lnTo>
                    <a:pt x="175" y="895"/>
                  </a:lnTo>
                  <a:lnTo>
                    <a:pt x="176" y="894"/>
                  </a:lnTo>
                  <a:lnTo>
                    <a:pt x="177" y="893"/>
                  </a:lnTo>
                  <a:lnTo>
                    <a:pt x="178" y="891"/>
                  </a:lnTo>
                  <a:lnTo>
                    <a:pt x="184" y="881"/>
                  </a:lnTo>
                  <a:lnTo>
                    <a:pt x="187" y="874"/>
                  </a:lnTo>
                  <a:lnTo>
                    <a:pt x="188" y="873"/>
                  </a:lnTo>
                  <a:lnTo>
                    <a:pt x="189" y="871"/>
                  </a:lnTo>
                  <a:lnTo>
                    <a:pt x="196" y="864"/>
                  </a:lnTo>
                  <a:lnTo>
                    <a:pt x="200" y="860"/>
                  </a:lnTo>
                  <a:lnTo>
                    <a:pt x="201" y="859"/>
                  </a:lnTo>
                  <a:lnTo>
                    <a:pt x="202" y="856"/>
                  </a:lnTo>
                  <a:lnTo>
                    <a:pt x="208" y="845"/>
                  </a:lnTo>
                  <a:lnTo>
                    <a:pt x="211" y="836"/>
                  </a:lnTo>
                  <a:lnTo>
                    <a:pt x="212" y="835"/>
                  </a:lnTo>
                  <a:lnTo>
                    <a:pt x="212" y="831"/>
                  </a:lnTo>
                  <a:lnTo>
                    <a:pt x="215" y="821"/>
                  </a:lnTo>
                  <a:lnTo>
                    <a:pt x="216" y="812"/>
                  </a:lnTo>
                  <a:lnTo>
                    <a:pt x="217" y="811"/>
                  </a:lnTo>
                  <a:lnTo>
                    <a:pt x="217" y="808"/>
                  </a:lnTo>
                  <a:lnTo>
                    <a:pt x="221" y="800"/>
                  </a:lnTo>
                  <a:lnTo>
                    <a:pt x="222" y="793"/>
                  </a:lnTo>
                  <a:lnTo>
                    <a:pt x="223" y="792"/>
                  </a:lnTo>
                  <a:lnTo>
                    <a:pt x="223" y="790"/>
                  </a:lnTo>
                  <a:lnTo>
                    <a:pt x="224" y="783"/>
                  </a:lnTo>
                  <a:lnTo>
                    <a:pt x="225" y="778"/>
                  </a:lnTo>
                  <a:lnTo>
                    <a:pt x="226" y="777"/>
                  </a:lnTo>
                  <a:lnTo>
                    <a:pt x="225" y="775"/>
                  </a:lnTo>
                  <a:lnTo>
                    <a:pt x="222" y="768"/>
                  </a:lnTo>
                  <a:lnTo>
                    <a:pt x="220" y="764"/>
                  </a:lnTo>
                  <a:lnTo>
                    <a:pt x="220" y="763"/>
                  </a:lnTo>
                  <a:lnTo>
                    <a:pt x="217" y="760"/>
                  </a:lnTo>
                  <a:lnTo>
                    <a:pt x="212" y="754"/>
                  </a:lnTo>
                  <a:lnTo>
                    <a:pt x="209" y="749"/>
                  </a:lnTo>
                  <a:lnTo>
                    <a:pt x="209" y="748"/>
                  </a:lnTo>
                  <a:lnTo>
                    <a:pt x="207" y="746"/>
                  </a:lnTo>
                  <a:lnTo>
                    <a:pt x="200" y="738"/>
                  </a:lnTo>
                  <a:lnTo>
                    <a:pt x="196" y="733"/>
                  </a:lnTo>
                  <a:lnTo>
                    <a:pt x="196" y="732"/>
                  </a:lnTo>
                  <a:lnTo>
                    <a:pt x="195" y="732"/>
                  </a:lnTo>
                  <a:lnTo>
                    <a:pt x="191" y="732"/>
                  </a:lnTo>
                  <a:lnTo>
                    <a:pt x="181" y="732"/>
                  </a:lnTo>
                  <a:lnTo>
                    <a:pt x="174" y="732"/>
                  </a:lnTo>
                  <a:lnTo>
                    <a:pt x="174" y="731"/>
                  </a:lnTo>
                  <a:lnTo>
                    <a:pt x="170" y="730"/>
                  </a:lnTo>
                  <a:lnTo>
                    <a:pt x="161" y="725"/>
                  </a:lnTo>
                  <a:lnTo>
                    <a:pt x="154" y="722"/>
                  </a:lnTo>
                  <a:lnTo>
                    <a:pt x="154" y="721"/>
                  </a:lnTo>
                  <a:lnTo>
                    <a:pt x="149" y="717"/>
                  </a:lnTo>
                  <a:lnTo>
                    <a:pt x="136" y="701"/>
                  </a:lnTo>
                  <a:lnTo>
                    <a:pt x="125" y="690"/>
                  </a:lnTo>
                  <a:lnTo>
                    <a:pt x="125" y="689"/>
                  </a:lnTo>
                  <a:lnTo>
                    <a:pt x="123" y="689"/>
                  </a:lnTo>
                  <a:lnTo>
                    <a:pt x="121" y="689"/>
                  </a:lnTo>
                  <a:lnTo>
                    <a:pt x="111" y="689"/>
                  </a:lnTo>
                  <a:lnTo>
                    <a:pt x="105" y="689"/>
                  </a:lnTo>
                  <a:lnTo>
                    <a:pt x="105" y="688"/>
                  </a:lnTo>
                  <a:lnTo>
                    <a:pt x="102" y="686"/>
                  </a:lnTo>
                  <a:lnTo>
                    <a:pt x="94" y="676"/>
                  </a:lnTo>
                  <a:lnTo>
                    <a:pt x="88" y="668"/>
                  </a:lnTo>
                  <a:lnTo>
                    <a:pt x="88" y="667"/>
                  </a:lnTo>
                  <a:lnTo>
                    <a:pt x="88" y="664"/>
                  </a:lnTo>
                  <a:lnTo>
                    <a:pt x="90" y="652"/>
                  </a:lnTo>
                  <a:lnTo>
                    <a:pt x="91" y="643"/>
                  </a:lnTo>
                  <a:lnTo>
                    <a:pt x="92" y="642"/>
                  </a:lnTo>
                  <a:lnTo>
                    <a:pt x="94" y="640"/>
                  </a:lnTo>
                  <a:lnTo>
                    <a:pt x="103" y="631"/>
                  </a:lnTo>
                  <a:lnTo>
                    <a:pt x="109" y="625"/>
                  </a:lnTo>
                  <a:lnTo>
                    <a:pt x="110" y="624"/>
                  </a:lnTo>
                  <a:lnTo>
                    <a:pt x="113" y="623"/>
                  </a:lnTo>
                  <a:lnTo>
                    <a:pt x="121" y="617"/>
                  </a:lnTo>
                  <a:lnTo>
                    <a:pt x="128" y="613"/>
                  </a:lnTo>
                  <a:lnTo>
                    <a:pt x="129" y="612"/>
                  </a:lnTo>
                  <a:lnTo>
                    <a:pt x="132" y="610"/>
                  </a:lnTo>
                  <a:lnTo>
                    <a:pt x="144" y="606"/>
                  </a:lnTo>
                  <a:lnTo>
                    <a:pt x="153" y="603"/>
                  </a:lnTo>
                  <a:lnTo>
                    <a:pt x="154" y="602"/>
                  </a:lnTo>
                  <a:lnTo>
                    <a:pt x="156" y="600"/>
                  </a:lnTo>
                  <a:lnTo>
                    <a:pt x="164" y="591"/>
                  </a:lnTo>
                  <a:lnTo>
                    <a:pt x="169" y="584"/>
                  </a:lnTo>
                  <a:lnTo>
                    <a:pt x="170" y="583"/>
                  </a:lnTo>
                  <a:lnTo>
                    <a:pt x="172" y="580"/>
                  </a:lnTo>
                  <a:lnTo>
                    <a:pt x="175" y="567"/>
                  </a:lnTo>
                  <a:lnTo>
                    <a:pt x="177" y="557"/>
                  </a:lnTo>
                  <a:lnTo>
                    <a:pt x="178" y="556"/>
                  </a:lnTo>
                  <a:lnTo>
                    <a:pt x="178" y="553"/>
                  </a:lnTo>
                  <a:lnTo>
                    <a:pt x="179" y="542"/>
                  </a:lnTo>
                  <a:lnTo>
                    <a:pt x="179" y="534"/>
                  </a:lnTo>
                  <a:lnTo>
                    <a:pt x="180" y="533"/>
                  </a:lnTo>
                  <a:lnTo>
                    <a:pt x="180" y="531"/>
                  </a:lnTo>
                  <a:lnTo>
                    <a:pt x="181" y="521"/>
                  </a:lnTo>
                  <a:lnTo>
                    <a:pt x="183" y="513"/>
                  </a:lnTo>
                  <a:lnTo>
                    <a:pt x="184" y="512"/>
                  </a:lnTo>
                  <a:lnTo>
                    <a:pt x="185" y="509"/>
                  </a:lnTo>
                  <a:lnTo>
                    <a:pt x="188" y="498"/>
                  </a:lnTo>
                  <a:lnTo>
                    <a:pt x="190" y="490"/>
                  </a:lnTo>
                  <a:lnTo>
                    <a:pt x="191" y="489"/>
                  </a:lnTo>
                  <a:lnTo>
                    <a:pt x="198" y="490"/>
                  </a:lnTo>
                  <a:lnTo>
                    <a:pt x="202" y="490"/>
                  </a:lnTo>
                  <a:lnTo>
                    <a:pt x="203" y="490"/>
                  </a:lnTo>
                  <a:lnTo>
                    <a:pt x="205" y="487"/>
                  </a:lnTo>
                  <a:lnTo>
                    <a:pt x="207" y="485"/>
                  </a:lnTo>
                  <a:lnTo>
                    <a:pt x="208" y="484"/>
                  </a:lnTo>
                  <a:lnTo>
                    <a:pt x="208" y="481"/>
                  </a:lnTo>
                  <a:lnTo>
                    <a:pt x="207" y="474"/>
                  </a:lnTo>
                  <a:lnTo>
                    <a:pt x="207" y="467"/>
                  </a:lnTo>
                  <a:lnTo>
                    <a:pt x="208" y="466"/>
                  </a:lnTo>
                  <a:lnTo>
                    <a:pt x="207" y="464"/>
                  </a:lnTo>
                  <a:lnTo>
                    <a:pt x="205" y="456"/>
                  </a:lnTo>
                  <a:lnTo>
                    <a:pt x="205" y="450"/>
                  </a:lnTo>
                  <a:lnTo>
                    <a:pt x="205" y="449"/>
                  </a:lnTo>
                  <a:lnTo>
                    <a:pt x="207" y="447"/>
                  </a:lnTo>
                  <a:lnTo>
                    <a:pt x="212" y="443"/>
                  </a:lnTo>
                  <a:lnTo>
                    <a:pt x="215" y="440"/>
                  </a:lnTo>
                  <a:lnTo>
                    <a:pt x="216" y="439"/>
                  </a:lnTo>
                  <a:lnTo>
                    <a:pt x="213" y="435"/>
                  </a:lnTo>
                  <a:lnTo>
                    <a:pt x="212" y="433"/>
                  </a:lnTo>
                  <a:lnTo>
                    <a:pt x="212" y="432"/>
                  </a:lnTo>
                  <a:lnTo>
                    <a:pt x="211" y="429"/>
                  </a:lnTo>
                  <a:lnTo>
                    <a:pt x="209" y="416"/>
                  </a:lnTo>
                  <a:lnTo>
                    <a:pt x="208" y="406"/>
                  </a:lnTo>
                  <a:lnTo>
                    <a:pt x="208" y="405"/>
                  </a:lnTo>
                  <a:lnTo>
                    <a:pt x="208" y="402"/>
                  </a:lnTo>
                  <a:lnTo>
                    <a:pt x="210" y="392"/>
                  </a:lnTo>
                  <a:lnTo>
                    <a:pt x="211" y="384"/>
                  </a:lnTo>
                  <a:lnTo>
                    <a:pt x="212" y="383"/>
                  </a:lnTo>
                  <a:lnTo>
                    <a:pt x="211" y="384"/>
                  </a:lnTo>
                  <a:lnTo>
                    <a:pt x="207" y="385"/>
                  </a:lnTo>
                  <a:lnTo>
                    <a:pt x="204" y="386"/>
                  </a:lnTo>
                  <a:lnTo>
                    <a:pt x="204" y="386"/>
                  </a:lnTo>
                  <a:lnTo>
                    <a:pt x="201" y="384"/>
                  </a:lnTo>
                  <a:lnTo>
                    <a:pt x="195" y="376"/>
                  </a:lnTo>
                  <a:lnTo>
                    <a:pt x="190" y="371"/>
                  </a:lnTo>
                  <a:lnTo>
                    <a:pt x="190" y="370"/>
                  </a:lnTo>
                  <a:lnTo>
                    <a:pt x="188" y="363"/>
                  </a:lnTo>
                  <a:lnTo>
                    <a:pt x="187" y="359"/>
                  </a:lnTo>
                  <a:lnTo>
                    <a:pt x="187" y="358"/>
                  </a:lnTo>
                  <a:lnTo>
                    <a:pt x="188" y="358"/>
                  </a:lnTo>
                  <a:lnTo>
                    <a:pt x="193" y="357"/>
                  </a:lnTo>
                  <a:lnTo>
                    <a:pt x="198" y="356"/>
                  </a:lnTo>
                  <a:lnTo>
                    <a:pt x="199" y="355"/>
                  </a:lnTo>
                  <a:lnTo>
                    <a:pt x="202" y="350"/>
                  </a:lnTo>
                  <a:lnTo>
                    <a:pt x="203" y="348"/>
                  </a:lnTo>
                  <a:lnTo>
                    <a:pt x="204" y="347"/>
                  </a:lnTo>
                  <a:lnTo>
                    <a:pt x="204" y="346"/>
                  </a:lnTo>
                  <a:lnTo>
                    <a:pt x="205" y="342"/>
                  </a:lnTo>
                  <a:lnTo>
                    <a:pt x="205" y="340"/>
                  </a:lnTo>
                  <a:lnTo>
                    <a:pt x="207" y="339"/>
                  </a:lnTo>
                  <a:lnTo>
                    <a:pt x="207" y="338"/>
                  </a:lnTo>
                  <a:lnTo>
                    <a:pt x="205" y="335"/>
                  </a:lnTo>
                  <a:lnTo>
                    <a:pt x="205" y="333"/>
                  </a:lnTo>
                  <a:lnTo>
                    <a:pt x="207" y="332"/>
                  </a:lnTo>
                  <a:lnTo>
                    <a:pt x="205" y="332"/>
                  </a:lnTo>
                  <a:lnTo>
                    <a:pt x="204" y="332"/>
                  </a:lnTo>
                  <a:lnTo>
                    <a:pt x="200" y="332"/>
                  </a:lnTo>
                  <a:lnTo>
                    <a:pt x="197" y="332"/>
                  </a:lnTo>
                  <a:lnTo>
                    <a:pt x="197" y="330"/>
                  </a:lnTo>
                  <a:lnTo>
                    <a:pt x="193" y="332"/>
                  </a:lnTo>
                  <a:lnTo>
                    <a:pt x="185" y="335"/>
                  </a:lnTo>
                  <a:lnTo>
                    <a:pt x="178" y="337"/>
                  </a:lnTo>
                  <a:lnTo>
                    <a:pt x="178" y="337"/>
                  </a:lnTo>
                  <a:lnTo>
                    <a:pt x="176" y="335"/>
                  </a:lnTo>
                  <a:lnTo>
                    <a:pt x="172" y="326"/>
                  </a:lnTo>
                  <a:lnTo>
                    <a:pt x="168" y="320"/>
                  </a:lnTo>
                  <a:lnTo>
                    <a:pt x="168" y="318"/>
                  </a:lnTo>
                  <a:lnTo>
                    <a:pt x="166" y="315"/>
                  </a:lnTo>
                  <a:lnTo>
                    <a:pt x="162" y="305"/>
                  </a:lnTo>
                  <a:lnTo>
                    <a:pt x="158" y="298"/>
                  </a:lnTo>
                  <a:lnTo>
                    <a:pt x="158" y="297"/>
                  </a:lnTo>
                  <a:lnTo>
                    <a:pt x="156" y="293"/>
                  </a:lnTo>
                  <a:lnTo>
                    <a:pt x="153" y="281"/>
                  </a:lnTo>
                  <a:lnTo>
                    <a:pt x="151" y="271"/>
                  </a:lnTo>
                  <a:lnTo>
                    <a:pt x="151" y="270"/>
                  </a:lnTo>
                  <a:lnTo>
                    <a:pt x="154" y="279"/>
                  </a:lnTo>
                  <a:lnTo>
                    <a:pt x="155" y="283"/>
                  </a:lnTo>
                  <a:lnTo>
                    <a:pt x="156" y="283"/>
                  </a:lnTo>
                  <a:lnTo>
                    <a:pt x="158" y="289"/>
                  </a:lnTo>
                  <a:lnTo>
                    <a:pt x="160" y="292"/>
                  </a:lnTo>
                  <a:lnTo>
                    <a:pt x="161" y="292"/>
                  </a:lnTo>
                  <a:lnTo>
                    <a:pt x="162" y="291"/>
                  </a:lnTo>
                  <a:lnTo>
                    <a:pt x="165" y="288"/>
                  </a:lnTo>
                  <a:lnTo>
                    <a:pt x="167" y="285"/>
                  </a:lnTo>
                  <a:lnTo>
                    <a:pt x="168" y="283"/>
                  </a:lnTo>
                  <a:lnTo>
                    <a:pt x="168" y="280"/>
                  </a:lnTo>
                  <a:lnTo>
                    <a:pt x="170" y="269"/>
                  </a:lnTo>
                  <a:lnTo>
                    <a:pt x="172" y="260"/>
                  </a:lnTo>
                  <a:lnTo>
                    <a:pt x="173" y="259"/>
                  </a:lnTo>
                  <a:lnTo>
                    <a:pt x="170" y="260"/>
                  </a:lnTo>
                  <a:lnTo>
                    <a:pt x="167" y="260"/>
                  </a:lnTo>
                  <a:lnTo>
                    <a:pt x="164" y="260"/>
                  </a:lnTo>
                  <a:lnTo>
                    <a:pt x="164" y="260"/>
                  </a:lnTo>
                  <a:lnTo>
                    <a:pt x="158" y="258"/>
                  </a:lnTo>
                  <a:lnTo>
                    <a:pt x="156" y="257"/>
                  </a:lnTo>
                  <a:lnTo>
                    <a:pt x="156" y="256"/>
                  </a:lnTo>
                  <a:lnTo>
                    <a:pt x="160" y="253"/>
                  </a:lnTo>
                  <a:lnTo>
                    <a:pt x="161" y="251"/>
                  </a:lnTo>
                  <a:lnTo>
                    <a:pt x="162" y="249"/>
                  </a:lnTo>
                  <a:lnTo>
                    <a:pt x="161" y="243"/>
                  </a:lnTo>
                  <a:lnTo>
                    <a:pt x="161" y="240"/>
                  </a:lnTo>
                  <a:lnTo>
                    <a:pt x="161" y="239"/>
                  </a:lnTo>
                  <a:lnTo>
                    <a:pt x="161" y="237"/>
                  </a:lnTo>
                  <a:lnTo>
                    <a:pt x="162" y="232"/>
                  </a:lnTo>
                  <a:lnTo>
                    <a:pt x="162" y="229"/>
                  </a:lnTo>
                  <a:lnTo>
                    <a:pt x="163" y="228"/>
                  </a:lnTo>
                  <a:lnTo>
                    <a:pt x="157" y="224"/>
                  </a:lnTo>
                  <a:lnTo>
                    <a:pt x="155" y="223"/>
                  </a:lnTo>
                  <a:lnTo>
                    <a:pt x="155" y="222"/>
                  </a:lnTo>
                  <a:lnTo>
                    <a:pt x="154" y="223"/>
                  </a:lnTo>
                  <a:lnTo>
                    <a:pt x="151" y="229"/>
                  </a:lnTo>
                  <a:lnTo>
                    <a:pt x="150" y="232"/>
                  </a:lnTo>
                  <a:lnTo>
                    <a:pt x="150" y="232"/>
                  </a:lnTo>
                  <a:lnTo>
                    <a:pt x="149" y="232"/>
                  </a:lnTo>
                  <a:lnTo>
                    <a:pt x="148" y="232"/>
                  </a:lnTo>
                  <a:lnTo>
                    <a:pt x="142" y="231"/>
                  </a:lnTo>
                  <a:lnTo>
                    <a:pt x="138" y="230"/>
                  </a:lnTo>
                  <a:lnTo>
                    <a:pt x="138" y="229"/>
                  </a:lnTo>
                  <a:lnTo>
                    <a:pt x="137" y="231"/>
                  </a:lnTo>
                  <a:lnTo>
                    <a:pt x="136" y="236"/>
                  </a:lnTo>
                  <a:lnTo>
                    <a:pt x="136" y="241"/>
                  </a:lnTo>
                  <a:lnTo>
                    <a:pt x="136" y="241"/>
                  </a:lnTo>
                  <a:lnTo>
                    <a:pt x="136" y="242"/>
                  </a:lnTo>
                  <a:lnTo>
                    <a:pt x="136" y="243"/>
                  </a:lnTo>
                  <a:lnTo>
                    <a:pt x="137" y="247"/>
                  </a:lnTo>
                  <a:lnTo>
                    <a:pt x="137" y="251"/>
                  </a:lnTo>
                  <a:lnTo>
                    <a:pt x="138" y="251"/>
                  </a:lnTo>
                  <a:lnTo>
                    <a:pt x="138" y="252"/>
                  </a:lnTo>
                  <a:lnTo>
                    <a:pt x="137" y="255"/>
                  </a:lnTo>
                  <a:lnTo>
                    <a:pt x="137" y="256"/>
                  </a:lnTo>
                  <a:lnTo>
                    <a:pt x="138" y="256"/>
                  </a:lnTo>
                  <a:lnTo>
                    <a:pt x="133" y="251"/>
                  </a:lnTo>
                  <a:lnTo>
                    <a:pt x="122" y="231"/>
                  </a:lnTo>
                  <a:lnTo>
                    <a:pt x="115" y="216"/>
                  </a:lnTo>
                  <a:lnTo>
                    <a:pt x="115" y="214"/>
                  </a:lnTo>
                  <a:lnTo>
                    <a:pt x="109" y="208"/>
                  </a:lnTo>
                  <a:lnTo>
                    <a:pt x="93" y="188"/>
                  </a:lnTo>
                  <a:lnTo>
                    <a:pt x="81" y="172"/>
                  </a:lnTo>
                  <a:lnTo>
                    <a:pt x="81" y="171"/>
                  </a:lnTo>
                  <a:lnTo>
                    <a:pt x="79" y="169"/>
                  </a:lnTo>
                  <a:lnTo>
                    <a:pt x="75" y="160"/>
                  </a:lnTo>
                  <a:lnTo>
                    <a:pt x="72" y="153"/>
                  </a:lnTo>
                  <a:lnTo>
                    <a:pt x="72" y="152"/>
                  </a:lnTo>
                  <a:lnTo>
                    <a:pt x="71" y="149"/>
                  </a:lnTo>
                  <a:lnTo>
                    <a:pt x="71" y="147"/>
                  </a:lnTo>
                  <a:lnTo>
                    <a:pt x="72" y="146"/>
                  </a:lnTo>
                  <a:lnTo>
                    <a:pt x="73" y="144"/>
                  </a:lnTo>
                  <a:lnTo>
                    <a:pt x="76" y="139"/>
                  </a:lnTo>
                  <a:lnTo>
                    <a:pt x="79" y="135"/>
                  </a:lnTo>
                  <a:lnTo>
                    <a:pt x="80" y="134"/>
                  </a:lnTo>
                  <a:lnTo>
                    <a:pt x="81" y="131"/>
                  </a:lnTo>
                  <a:lnTo>
                    <a:pt x="84" y="125"/>
                  </a:lnTo>
                  <a:lnTo>
                    <a:pt x="86" y="119"/>
                  </a:lnTo>
                  <a:lnTo>
                    <a:pt x="87" y="118"/>
                  </a:lnTo>
                  <a:lnTo>
                    <a:pt x="83" y="116"/>
                  </a:lnTo>
                  <a:lnTo>
                    <a:pt x="82" y="115"/>
                  </a:lnTo>
                  <a:lnTo>
                    <a:pt x="82" y="114"/>
                  </a:lnTo>
                  <a:lnTo>
                    <a:pt x="81" y="115"/>
                  </a:lnTo>
                  <a:lnTo>
                    <a:pt x="79" y="119"/>
                  </a:lnTo>
                  <a:lnTo>
                    <a:pt x="78" y="123"/>
                  </a:lnTo>
                  <a:lnTo>
                    <a:pt x="78" y="123"/>
                  </a:lnTo>
                  <a:lnTo>
                    <a:pt x="76" y="124"/>
                  </a:lnTo>
                  <a:lnTo>
                    <a:pt x="75" y="126"/>
                  </a:lnTo>
                  <a:lnTo>
                    <a:pt x="70" y="132"/>
                  </a:lnTo>
                  <a:lnTo>
                    <a:pt x="66" y="137"/>
                  </a:lnTo>
                  <a:lnTo>
                    <a:pt x="66" y="137"/>
                  </a:lnTo>
                  <a:lnTo>
                    <a:pt x="62" y="135"/>
                  </a:lnTo>
                  <a:lnTo>
                    <a:pt x="56" y="127"/>
                  </a:lnTo>
                  <a:lnTo>
                    <a:pt x="50" y="122"/>
                  </a:lnTo>
                  <a:lnTo>
                    <a:pt x="50" y="120"/>
                  </a:lnTo>
                  <a:lnTo>
                    <a:pt x="49" y="118"/>
                  </a:lnTo>
                  <a:lnTo>
                    <a:pt x="46" y="109"/>
                  </a:lnTo>
                  <a:lnTo>
                    <a:pt x="44" y="103"/>
                  </a:lnTo>
                  <a:lnTo>
                    <a:pt x="44" y="102"/>
                  </a:lnTo>
                  <a:lnTo>
                    <a:pt x="44" y="101"/>
                  </a:lnTo>
                  <a:lnTo>
                    <a:pt x="43" y="97"/>
                  </a:lnTo>
                  <a:lnTo>
                    <a:pt x="43" y="94"/>
                  </a:lnTo>
                  <a:lnTo>
                    <a:pt x="44" y="93"/>
                  </a:lnTo>
                  <a:lnTo>
                    <a:pt x="45" y="91"/>
                  </a:lnTo>
                  <a:lnTo>
                    <a:pt x="46" y="89"/>
                  </a:lnTo>
                  <a:lnTo>
                    <a:pt x="45" y="87"/>
                  </a:lnTo>
                  <a:lnTo>
                    <a:pt x="41" y="78"/>
                  </a:lnTo>
                  <a:lnTo>
                    <a:pt x="40" y="71"/>
                  </a:lnTo>
                  <a:lnTo>
                    <a:pt x="40" y="70"/>
                  </a:lnTo>
                  <a:lnTo>
                    <a:pt x="36" y="65"/>
                  </a:lnTo>
                  <a:lnTo>
                    <a:pt x="24" y="45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9" y="22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5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49800" y="5779080"/>
              <a:ext cx="183240" cy="149040"/>
            </a:xfrm>
            <a:custGeom>
              <a:avLst/>
              <a:gdLst/>
              <a:ahLst/>
              <a:rect l="l" t="t" r="r" b="b"/>
              <a:pathLst>
                <a:path w="755" h="860">
                  <a:moveTo>
                    <a:pt x="557" y="69"/>
                  </a:moveTo>
                  <a:lnTo>
                    <a:pt x="557" y="68"/>
                  </a:lnTo>
                  <a:lnTo>
                    <a:pt x="556" y="63"/>
                  </a:lnTo>
                  <a:lnTo>
                    <a:pt x="556" y="60"/>
                  </a:lnTo>
                  <a:lnTo>
                    <a:pt x="557" y="59"/>
                  </a:lnTo>
                  <a:lnTo>
                    <a:pt x="557" y="57"/>
                  </a:lnTo>
                  <a:lnTo>
                    <a:pt x="557" y="49"/>
                  </a:lnTo>
                  <a:lnTo>
                    <a:pt x="557" y="44"/>
                  </a:lnTo>
                  <a:lnTo>
                    <a:pt x="558" y="43"/>
                  </a:lnTo>
                  <a:lnTo>
                    <a:pt x="562" y="39"/>
                  </a:lnTo>
                  <a:lnTo>
                    <a:pt x="565" y="37"/>
                  </a:lnTo>
                  <a:lnTo>
                    <a:pt x="566" y="36"/>
                  </a:lnTo>
                  <a:lnTo>
                    <a:pt x="570" y="34"/>
                  </a:lnTo>
                  <a:lnTo>
                    <a:pt x="573" y="33"/>
                  </a:lnTo>
                  <a:lnTo>
                    <a:pt x="574" y="32"/>
                  </a:lnTo>
                  <a:lnTo>
                    <a:pt x="577" y="29"/>
                  </a:lnTo>
                  <a:lnTo>
                    <a:pt x="583" y="20"/>
                  </a:lnTo>
                  <a:lnTo>
                    <a:pt x="587" y="13"/>
                  </a:lnTo>
                  <a:lnTo>
                    <a:pt x="589" y="12"/>
                  </a:lnTo>
                  <a:lnTo>
                    <a:pt x="590" y="12"/>
                  </a:lnTo>
                  <a:lnTo>
                    <a:pt x="593" y="12"/>
                  </a:lnTo>
                  <a:lnTo>
                    <a:pt x="595" y="12"/>
                  </a:lnTo>
                  <a:lnTo>
                    <a:pt x="596" y="11"/>
                  </a:lnTo>
                  <a:lnTo>
                    <a:pt x="597" y="8"/>
                  </a:lnTo>
                  <a:lnTo>
                    <a:pt x="598" y="5"/>
                  </a:lnTo>
                  <a:lnTo>
                    <a:pt x="599" y="4"/>
                  </a:lnTo>
                  <a:lnTo>
                    <a:pt x="604" y="2"/>
                  </a:lnTo>
                  <a:lnTo>
                    <a:pt x="606" y="1"/>
                  </a:lnTo>
                  <a:lnTo>
                    <a:pt x="607" y="0"/>
                  </a:lnTo>
                  <a:lnTo>
                    <a:pt x="609" y="4"/>
                  </a:lnTo>
                  <a:lnTo>
                    <a:pt x="610" y="5"/>
                  </a:lnTo>
                  <a:lnTo>
                    <a:pt x="612" y="5"/>
                  </a:lnTo>
                  <a:lnTo>
                    <a:pt x="610" y="9"/>
                  </a:lnTo>
                  <a:lnTo>
                    <a:pt x="609" y="19"/>
                  </a:lnTo>
                  <a:lnTo>
                    <a:pt x="609" y="26"/>
                  </a:lnTo>
                  <a:lnTo>
                    <a:pt x="609" y="26"/>
                  </a:lnTo>
                  <a:lnTo>
                    <a:pt x="613" y="34"/>
                  </a:lnTo>
                  <a:lnTo>
                    <a:pt x="615" y="37"/>
                  </a:lnTo>
                  <a:lnTo>
                    <a:pt x="616" y="37"/>
                  </a:lnTo>
                  <a:lnTo>
                    <a:pt x="620" y="39"/>
                  </a:lnTo>
                  <a:lnTo>
                    <a:pt x="624" y="40"/>
                  </a:lnTo>
                  <a:lnTo>
                    <a:pt x="625" y="40"/>
                  </a:lnTo>
                  <a:lnTo>
                    <a:pt x="626" y="40"/>
                  </a:lnTo>
                  <a:lnTo>
                    <a:pt x="631" y="39"/>
                  </a:lnTo>
                  <a:lnTo>
                    <a:pt x="634" y="38"/>
                  </a:lnTo>
                  <a:lnTo>
                    <a:pt x="636" y="37"/>
                  </a:lnTo>
                  <a:lnTo>
                    <a:pt x="637" y="39"/>
                  </a:lnTo>
                  <a:lnTo>
                    <a:pt x="640" y="45"/>
                  </a:lnTo>
                  <a:lnTo>
                    <a:pt x="642" y="49"/>
                  </a:lnTo>
                  <a:lnTo>
                    <a:pt x="643" y="49"/>
                  </a:lnTo>
                  <a:lnTo>
                    <a:pt x="642" y="55"/>
                  </a:lnTo>
                  <a:lnTo>
                    <a:pt x="641" y="70"/>
                  </a:lnTo>
                  <a:lnTo>
                    <a:pt x="640" y="81"/>
                  </a:lnTo>
                  <a:lnTo>
                    <a:pt x="640" y="81"/>
                  </a:lnTo>
                  <a:lnTo>
                    <a:pt x="643" y="89"/>
                  </a:lnTo>
                  <a:lnTo>
                    <a:pt x="644" y="93"/>
                  </a:lnTo>
                  <a:lnTo>
                    <a:pt x="645" y="93"/>
                  </a:lnTo>
                  <a:lnTo>
                    <a:pt x="647" y="94"/>
                  </a:lnTo>
                  <a:lnTo>
                    <a:pt x="652" y="97"/>
                  </a:lnTo>
                  <a:lnTo>
                    <a:pt x="655" y="99"/>
                  </a:lnTo>
                  <a:lnTo>
                    <a:pt x="656" y="99"/>
                  </a:lnTo>
                  <a:lnTo>
                    <a:pt x="657" y="98"/>
                  </a:lnTo>
                  <a:lnTo>
                    <a:pt x="661" y="95"/>
                  </a:lnTo>
                  <a:lnTo>
                    <a:pt x="663" y="93"/>
                  </a:lnTo>
                  <a:lnTo>
                    <a:pt x="664" y="92"/>
                  </a:lnTo>
                  <a:lnTo>
                    <a:pt x="669" y="89"/>
                  </a:lnTo>
                  <a:lnTo>
                    <a:pt x="673" y="86"/>
                  </a:lnTo>
                  <a:lnTo>
                    <a:pt x="674" y="85"/>
                  </a:lnTo>
                  <a:lnTo>
                    <a:pt x="675" y="83"/>
                  </a:lnTo>
                  <a:lnTo>
                    <a:pt x="676" y="81"/>
                  </a:lnTo>
                  <a:lnTo>
                    <a:pt x="679" y="79"/>
                  </a:lnTo>
                  <a:lnTo>
                    <a:pt x="680" y="78"/>
                  </a:lnTo>
                  <a:lnTo>
                    <a:pt x="681" y="77"/>
                  </a:lnTo>
                  <a:lnTo>
                    <a:pt x="686" y="73"/>
                  </a:lnTo>
                  <a:lnTo>
                    <a:pt x="689" y="72"/>
                  </a:lnTo>
                  <a:lnTo>
                    <a:pt x="690" y="71"/>
                  </a:lnTo>
                  <a:lnTo>
                    <a:pt x="691" y="70"/>
                  </a:lnTo>
                  <a:lnTo>
                    <a:pt x="695" y="67"/>
                  </a:lnTo>
                  <a:lnTo>
                    <a:pt x="697" y="64"/>
                  </a:lnTo>
                  <a:lnTo>
                    <a:pt x="698" y="63"/>
                  </a:lnTo>
                  <a:lnTo>
                    <a:pt x="699" y="61"/>
                  </a:lnTo>
                  <a:lnTo>
                    <a:pt x="700" y="59"/>
                  </a:lnTo>
                  <a:lnTo>
                    <a:pt x="701" y="58"/>
                  </a:lnTo>
                  <a:lnTo>
                    <a:pt x="707" y="55"/>
                  </a:lnTo>
                  <a:lnTo>
                    <a:pt x="711" y="52"/>
                  </a:lnTo>
                  <a:lnTo>
                    <a:pt x="712" y="51"/>
                  </a:lnTo>
                  <a:lnTo>
                    <a:pt x="715" y="49"/>
                  </a:lnTo>
                  <a:lnTo>
                    <a:pt x="716" y="48"/>
                  </a:lnTo>
                  <a:lnTo>
                    <a:pt x="718" y="47"/>
                  </a:lnTo>
                  <a:lnTo>
                    <a:pt x="722" y="46"/>
                  </a:lnTo>
                  <a:lnTo>
                    <a:pt x="724" y="45"/>
                  </a:lnTo>
                  <a:lnTo>
                    <a:pt x="725" y="44"/>
                  </a:lnTo>
                  <a:lnTo>
                    <a:pt x="726" y="46"/>
                  </a:lnTo>
                  <a:lnTo>
                    <a:pt x="727" y="47"/>
                  </a:lnTo>
                  <a:lnTo>
                    <a:pt x="728" y="47"/>
                  </a:lnTo>
                  <a:lnTo>
                    <a:pt x="727" y="48"/>
                  </a:lnTo>
                  <a:lnTo>
                    <a:pt x="726" y="49"/>
                  </a:lnTo>
                  <a:lnTo>
                    <a:pt x="721" y="55"/>
                  </a:lnTo>
                  <a:lnTo>
                    <a:pt x="718" y="58"/>
                  </a:lnTo>
                  <a:lnTo>
                    <a:pt x="718" y="58"/>
                  </a:lnTo>
                  <a:lnTo>
                    <a:pt x="720" y="60"/>
                  </a:lnTo>
                  <a:lnTo>
                    <a:pt x="721" y="60"/>
                  </a:lnTo>
                  <a:lnTo>
                    <a:pt x="721" y="61"/>
                  </a:lnTo>
                  <a:lnTo>
                    <a:pt x="721" y="63"/>
                  </a:lnTo>
                  <a:lnTo>
                    <a:pt x="721" y="70"/>
                  </a:lnTo>
                  <a:lnTo>
                    <a:pt x="721" y="74"/>
                  </a:lnTo>
                  <a:lnTo>
                    <a:pt x="722" y="74"/>
                  </a:lnTo>
                  <a:lnTo>
                    <a:pt x="720" y="78"/>
                  </a:lnTo>
                  <a:lnTo>
                    <a:pt x="716" y="86"/>
                  </a:lnTo>
                  <a:lnTo>
                    <a:pt x="714" y="93"/>
                  </a:lnTo>
                  <a:lnTo>
                    <a:pt x="714" y="93"/>
                  </a:lnTo>
                  <a:lnTo>
                    <a:pt x="719" y="90"/>
                  </a:lnTo>
                  <a:lnTo>
                    <a:pt x="721" y="89"/>
                  </a:lnTo>
                  <a:lnTo>
                    <a:pt x="722" y="87"/>
                  </a:lnTo>
                  <a:lnTo>
                    <a:pt x="728" y="84"/>
                  </a:lnTo>
                  <a:lnTo>
                    <a:pt x="733" y="82"/>
                  </a:lnTo>
                  <a:lnTo>
                    <a:pt x="734" y="81"/>
                  </a:lnTo>
                  <a:lnTo>
                    <a:pt x="733" y="80"/>
                  </a:lnTo>
                  <a:lnTo>
                    <a:pt x="731" y="75"/>
                  </a:lnTo>
                  <a:lnTo>
                    <a:pt x="730" y="72"/>
                  </a:lnTo>
                  <a:lnTo>
                    <a:pt x="730" y="71"/>
                  </a:lnTo>
                  <a:lnTo>
                    <a:pt x="731" y="69"/>
                  </a:lnTo>
                  <a:lnTo>
                    <a:pt x="734" y="63"/>
                  </a:lnTo>
                  <a:lnTo>
                    <a:pt x="735" y="60"/>
                  </a:lnTo>
                  <a:lnTo>
                    <a:pt x="736" y="59"/>
                  </a:lnTo>
                  <a:lnTo>
                    <a:pt x="737" y="58"/>
                  </a:lnTo>
                  <a:lnTo>
                    <a:pt x="738" y="56"/>
                  </a:lnTo>
                  <a:lnTo>
                    <a:pt x="741" y="55"/>
                  </a:lnTo>
                  <a:lnTo>
                    <a:pt x="742" y="54"/>
                  </a:lnTo>
                  <a:lnTo>
                    <a:pt x="743" y="52"/>
                  </a:lnTo>
                  <a:lnTo>
                    <a:pt x="746" y="52"/>
                  </a:lnTo>
                  <a:lnTo>
                    <a:pt x="747" y="52"/>
                  </a:lnTo>
                  <a:lnTo>
                    <a:pt x="748" y="52"/>
                  </a:lnTo>
                  <a:lnTo>
                    <a:pt x="749" y="56"/>
                  </a:lnTo>
                  <a:lnTo>
                    <a:pt x="750" y="57"/>
                  </a:lnTo>
                  <a:lnTo>
                    <a:pt x="751" y="57"/>
                  </a:lnTo>
                  <a:lnTo>
                    <a:pt x="751" y="58"/>
                  </a:lnTo>
                  <a:lnTo>
                    <a:pt x="753" y="61"/>
                  </a:lnTo>
                  <a:lnTo>
                    <a:pt x="753" y="63"/>
                  </a:lnTo>
                  <a:lnTo>
                    <a:pt x="754" y="63"/>
                  </a:lnTo>
                  <a:lnTo>
                    <a:pt x="755" y="66"/>
                  </a:lnTo>
                  <a:lnTo>
                    <a:pt x="754" y="67"/>
                  </a:lnTo>
                  <a:lnTo>
                    <a:pt x="751" y="71"/>
                  </a:lnTo>
                  <a:lnTo>
                    <a:pt x="750" y="74"/>
                  </a:lnTo>
                  <a:lnTo>
                    <a:pt x="750" y="74"/>
                  </a:lnTo>
                  <a:lnTo>
                    <a:pt x="749" y="75"/>
                  </a:lnTo>
                  <a:lnTo>
                    <a:pt x="746" y="80"/>
                  </a:lnTo>
                  <a:lnTo>
                    <a:pt x="745" y="82"/>
                  </a:lnTo>
                  <a:lnTo>
                    <a:pt x="745" y="82"/>
                  </a:lnTo>
                  <a:lnTo>
                    <a:pt x="744" y="83"/>
                  </a:lnTo>
                  <a:lnTo>
                    <a:pt x="741" y="86"/>
                  </a:lnTo>
                  <a:lnTo>
                    <a:pt x="739" y="87"/>
                  </a:lnTo>
                  <a:lnTo>
                    <a:pt x="739" y="87"/>
                  </a:lnTo>
                  <a:lnTo>
                    <a:pt x="743" y="87"/>
                  </a:lnTo>
                  <a:lnTo>
                    <a:pt x="744" y="87"/>
                  </a:lnTo>
                  <a:lnTo>
                    <a:pt x="745" y="87"/>
                  </a:lnTo>
                  <a:lnTo>
                    <a:pt x="745" y="89"/>
                  </a:lnTo>
                  <a:lnTo>
                    <a:pt x="745" y="90"/>
                  </a:lnTo>
                  <a:lnTo>
                    <a:pt x="747" y="95"/>
                  </a:lnTo>
                  <a:lnTo>
                    <a:pt x="748" y="99"/>
                  </a:lnTo>
                  <a:lnTo>
                    <a:pt x="749" y="99"/>
                  </a:lnTo>
                  <a:lnTo>
                    <a:pt x="748" y="101"/>
                  </a:lnTo>
                  <a:lnTo>
                    <a:pt x="745" y="106"/>
                  </a:lnTo>
                  <a:lnTo>
                    <a:pt x="744" y="109"/>
                  </a:lnTo>
                  <a:lnTo>
                    <a:pt x="744" y="109"/>
                  </a:lnTo>
                  <a:lnTo>
                    <a:pt x="743" y="112"/>
                  </a:lnTo>
                  <a:lnTo>
                    <a:pt x="742" y="116"/>
                  </a:lnTo>
                  <a:lnTo>
                    <a:pt x="741" y="119"/>
                  </a:lnTo>
                  <a:lnTo>
                    <a:pt x="741" y="119"/>
                  </a:lnTo>
                  <a:lnTo>
                    <a:pt x="741" y="120"/>
                  </a:lnTo>
                  <a:lnTo>
                    <a:pt x="741" y="121"/>
                  </a:lnTo>
                  <a:lnTo>
                    <a:pt x="743" y="127"/>
                  </a:lnTo>
                  <a:lnTo>
                    <a:pt x="744" y="131"/>
                  </a:lnTo>
                  <a:lnTo>
                    <a:pt x="745" y="131"/>
                  </a:lnTo>
                  <a:lnTo>
                    <a:pt x="745" y="132"/>
                  </a:lnTo>
                  <a:lnTo>
                    <a:pt x="745" y="136"/>
                  </a:lnTo>
                  <a:lnTo>
                    <a:pt x="748" y="145"/>
                  </a:lnTo>
                  <a:lnTo>
                    <a:pt x="750" y="153"/>
                  </a:lnTo>
                  <a:lnTo>
                    <a:pt x="751" y="153"/>
                  </a:lnTo>
                  <a:lnTo>
                    <a:pt x="750" y="154"/>
                  </a:lnTo>
                  <a:lnTo>
                    <a:pt x="747" y="162"/>
                  </a:lnTo>
                  <a:lnTo>
                    <a:pt x="746" y="166"/>
                  </a:lnTo>
                  <a:lnTo>
                    <a:pt x="746" y="166"/>
                  </a:lnTo>
                  <a:lnTo>
                    <a:pt x="745" y="167"/>
                  </a:lnTo>
                  <a:lnTo>
                    <a:pt x="744" y="168"/>
                  </a:lnTo>
                  <a:lnTo>
                    <a:pt x="739" y="174"/>
                  </a:lnTo>
                  <a:lnTo>
                    <a:pt x="736" y="178"/>
                  </a:lnTo>
                  <a:lnTo>
                    <a:pt x="736" y="178"/>
                  </a:lnTo>
                  <a:lnTo>
                    <a:pt x="735" y="179"/>
                  </a:lnTo>
                  <a:lnTo>
                    <a:pt x="734" y="182"/>
                  </a:lnTo>
                  <a:lnTo>
                    <a:pt x="731" y="188"/>
                  </a:lnTo>
                  <a:lnTo>
                    <a:pt x="727" y="192"/>
                  </a:lnTo>
                  <a:lnTo>
                    <a:pt x="727" y="192"/>
                  </a:lnTo>
                  <a:lnTo>
                    <a:pt x="726" y="195"/>
                  </a:lnTo>
                  <a:lnTo>
                    <a:pt x="724" y="200"/>
                  </a:lnTo>
                  <a:lnTo>
                    <a:pt x="723" y="204"/>
                  </a:lnTo>
                  <a:lnTo>
                    <a:pt x="723" y="204"/>
                  </a:lnTo>
                  <a:lnTo>
                    <a:pt x="722" y="206"/>
                  </a:lnTo>
                  <a:lnTo>
                    <a:pt x="721" y="208"/>
                  </a:lnTo>
                  <a:lnTo>
                    <a:pt x="715" y="217"/>
                  </a:lnTo>
                  <a:lnTo>
                    <a:pt x="712" y="223"/>
                  </a:lnTo>
                  <a:lnTo>
                    <a:pt x="712" y="223"/>
                  </a:lnTo>
                  <a:lnTo>
                    <a:pt x="710" y="224"/>
                  </a:lnTo>
                  <a:lnTo>
                    <a:pt x="704" y="225"/>
                  </a:lnTo>
                  <a:lnTo>
                    <a:pt x="700" y="225"/>
                  </a:lnTo>
                  <a:lnTo>
                    <a:pt x="700" y="225"/>
                  </a:lnTo>
                  <a:lnTo>
                    <a:pt x="699" y="227"/>
                  </a:lnTo>
                  <a:lnTo>
                    <a:pt x="698" y="231"/>
                  </a:lnTo>
                  <a:lnTo>
                    <a:pt x="698" y="234"/>
                  </a:lnTo>
                  <a:lnTo>
                    <a:pt x="698" y="234"/>
                  </a:lnTo>
                  <a:lnTo>
                    <a:pt x="697" y="235"/>
                  </a:lnTo>
                  <a:lnTo>
                    <a:pt x="696" y="236"/>
                  </a:lnTo>
                  <a:lnTo>
                    <a:pt x="692" y="241"/>
                  </a:lnTo>
                  <a:lnTo>
                    <a:pt x="690" y="244"/>
                  </a:lnTo>
                  <a:lnTo>
                    <a:pt x="690" y="244"/>
                  </a:lnTo>
                  <a:lnTo>
                    <a:pt x="689" y="245"/>
                  </a:lnTo>
                  <a:lnTo>
                    <a:pt x="688" y="246"/>
                  </a:lnTo>
                  <a:lnTo>
                    <a:pt x="683" y="253"/>
                  </a:lnTo>
                  <a:lnTo>
                    <a:pt x="678" y="257"/>
                  </a:lnTo>
                  <a:lnTo>
                    <a:pt x="678" y="257"/>
                  </a:lnTo>
                  <a:lnTo>
                    <a:pt x="677" y="258"/>
                  </a:lnTo>
                  <a:lnTo>
                    <a:pt x="676" y="260"/>
                  </a:lnTo>
                  <a:lnTo>
                    <a:pt x="673" y="270"/>
                  </a:lnTo>
                  <a:lnTo>
                    <a:pt x="669" y="278"/>
                  </a:lnTo>
                  <a:lnTo>
                    <a:pt x="669" y="278"/>
                  </a:lnTo>
                  <a:lnTo>
                    <a:pt x="668" y="279"/>
                  </a:lnTo>
                  <a:lnTo>
                    <a:pt x="666" y="283"/>
                  </a:lnTo>
                  <a:lnTo>
                    <a:pt x="659" y="299"/>
                  </a:lnTo>
                  <a:lnTo>
                    <a:pt x="653" y="310"/>
                  </a:lnTo>
                  <a:lnTo>
                    <a:pt x="653" y="310"/>
                  </a:lnTo>
                  <a:lnTo>
                    <a:pt x="652" y="311"/>
                  </a:lnTo>
                  <a:lnTo>
                    <a:pt x="651" y="312"/>
                  </a:lnTo>
                  <a:lnTo>
                    <a:pt x="650" y="312"/>
                  </a:lnTo>
                  <a:lnTo>
                    <a:pt x="649" y="313"/>
                  </a:lnTo>
                  <a:lnTo>
                    <a:pt x="645" y="317"/>
                  </a:lnTo>
                  <a:lnTo>
                    <a:pt x="643" y="320"/>
                  </a:lnTo>
                  <a:lnTo>
                    <a:pt x="643" y="320"/>
                  </a:lnTo>
                  <a:lnTo>
                    <a:pt x="642" y="322"/>
                  </a:lnTo>
                  <a:lnTo>
                    <a:pt x="638" y="324"/>
                  </a:lnTo>
                  <a:lnTo>
                    <a:pt x="636" y="325"/>
                  </a:lnTo>
                  <a:lnTo>
                    <a:pt x="636" y="325"/>
                  </a:lnTo>
                  <a:lnTo>
                    <a:pt x="636" y="323"/>
                  </a:lnTo>
                  <a:lnTo>
                    <a:pt x="634" y="324"/>
                  </a:lnTo>
                  <a:lnTo>
                    <a:pt x="633" y="325"/>
                  </a:lnTo>
                  <a:lnTo>
                    <a:pt x="632" y="326"/>
                  </a:lnTo>
                  <a:lnTo>
                    <a:pt x="632" y="326"/>
                  </a:lnTo>
                  <a:lnTo>
                    <a:pt x="631" y="327"/>
                  </a:lnTo>
                  <a:lnTo>
                    <a:pt x="629" y="330"/>
                  </a:lnTo>
                  <a:lnTo>
                    <a:pt x="628" y="332"/>
                  </a:lnTo>
                  <a:lnTo>
                    <a:pt x="628" y="332"/>
                  </a:lnTo>
                  <a:lnTo>
                    <a:pt x="627" y="334"/>
                  </a:lnTo>
                  <a:lnTo>
                    <a:pt x="622" y="337"/>
                  </a:lnTo>
                  <a:lnTo>
                    <a:pt x="619" y="339"/>
                  </a:lnTo>
                  <a:lnTo>
                    <a:pt x="619" y="339"/>
                  </a:lnTo>
                  <a:lnTo>
                    <a:pt x="618" y="340"/>
                  </a:lnTo>
                  <a:lnTo>
                    <a:pt x="615" y="343"/>
                  </a:lnTo>
                  <a:lnTo>
                    <a:pt x="613" y="346"/>
                  </a:lnTo>
                  <a:lnTo>
                    <a:pt x="613" y="346"/>
                  </a:lnTo>
                  <a:lnTo>
                    <a:pt x="612" y="346"/>
                  </a:lnTo>
                  <a:lnTo>
                    <a:pt x="612" y="346"/>
                  </a:lnTo>
                  <a:lnTo>
                    <a:pt x="610" y="346"/>
                  </a:lnTo>
                  <a:lnTo>
                    <a:pt x="612" y="346"/>
                  </a:lnTo>
                  <a:lnTo>
                    <a:pt x="610" y="346"/>
                  </a:lnTo>
                  <a:lnTo>
                    <a:pt x="612" y="346"/>
                  </a:lnTo>
                  <a:lnTo>
                    <a:pt x="610" y="347"/>
                  </a:lnTo>
                  <a:lnTo>
                    <a:pt x="609" y="348"/>
                  </a:lnTo>
                  <a:lnTo>
                    <a:pt x="608" y="348"/>
                  </a:lnTo>
                  <a:lnTo>
                    <a:pt x="607" y="349"/>
                  </a:lnTo>
                  <a:lnTo>
                    <a:pt x="606" y="350"/>
                  </a:lnTo>
                  <a:lnTo>
                    <a:pt x="606" y="350"/>
                  </a:lnTo>
                  <a:lnTo>
                    <a:pt x="605" y="350"/>
                  </a:lnTo>
                  <a:lnTo>
                    <a:pt x="606" y="350"/>
                  </a:lnTo>
                  <a:lnTo>
                    <a:pt x="605" y="350"/>
                  </a:lnTo>
                  <a:lnTo>
                    <a:pt x="606" y="350"/>
                  </a:lnTo>
                  <a:lnTo>
                    <a:pt x="605" y="351"/>
                  </a:lnTo>
                  <a:lnTo>
                    <a:pt x="604" y="354"/>
                  </a:lnTo>
                  <a:lnTo>
                    <a:pt x="603" y="357"/>
                  </a:lnTo>
                  <a:lnTo>
                    <a:pt x="603" y="357"/>
                  </a:lnTo>
                  <a:lnTo>
                    <a:pt x="601" y="355"/>
                  </a:lnTo>
                  <a:lnTo>
                    <a:pt x="599" y="358"/>
                  </a:lnTo>
                  <a:lnTo>
                    <a:pt x="599" y="363"/>
                  </a:lnTo>
                  <a:lnTo>
                    <a:pt x="599" y="366"/>
                  </a:lnTo>
                  <a:lnTo>
                    <a:pt x="599" y="366"/>
                  </a:lnTo>
                  <a:lnTo>
                    <a:pt x="598" y="369"/>
                  </a:lnTo>
                  <a:lnTo>
                    <a:pt x="597" y="374"/>
                  </a:lnTo>
                  <a:lnTo>
                    <a:pt x="596" y="378"/>
                  </a:lnTo>
                  <a:lnTo>
                    <a:pt x="596" y="378"/>
                  </a:lnTo>
                  <a:lnTo>
                    <a:pt x="595" y="381"/>
                  </a:lnTo>
                  <a:lnTo>
                    <a:pt x="594" y="387"/>
                  </a:lnTo>
                  <a:lnTo>
                    <a:pt x="594" y="392"/>
                  </a:lnTo>
                  <a:lnTo>
                    <a:pt x="594" y="392"/>
                  </a:lnTo>
                  <a:lnTo>
                    <a:pt x="594" y="394"/>
                  </a:lnTo>
                  <a:lnTo>
                    <a:pt x="593" y="397"/>
                  </a:lnTo>
                  <a:lnTo>
                    <a:pt x="593" y="400"/>
                  </a:lnTo>
                  <a:lnTo>
                    <a:pt x="594" y="400"/>
                  </a:lnTo>
                  <a:lnTo>
                    <a:pt x="593" y="402"/>
                  </a:lnTo>
                  <a:lnTo>
                    <a:pt x="591" y="408"/>
                  </a:lnTo>
                  <a:lnTo>
                    <a:pt x="590" y="412"/>
                  </a:lnTo>
                  <a:lnTo>
                    <a:pt x="590" y="412"/>
                  </a:lnTo>
                  <a:lnTo>
                    <a:pt x="589" y="415"/>
                  </a:lnTo>
                  <a:lnTo>
                    <a:pt x="589" y="418"/>
                  </a:lnTo>
                  <a:lnTo>
                    <a:pt x="589" y="421"/>
                  </a:lnTo>
                  <a:lnTo>
                    <a:pt x="589" y="421"/>
                  </a:lnTo>
                  <a:lnTo>
                    <a:pt x="591" y="422"/>
                  </a:lnTo>
                  <a:lnTo>
                    <a:pt x="592" y="422"/>
                  </a:lnTo>
                  <a:lnTo>
                    <a:pt x="599" y="424"/>
                  </a:lnTo>
                  <a:lnTo>
                    <a:pt x="604" y="425"/>
                  </a:lnTo>
                  <a:lnTo>
                    <a:pt x="605" y="425"/>
                  </a:lnTo>
                  <a:lnTo>
                    <a:pt x="606" y="427"/>
                  </a:lnTo>
                  <a:lnTo>
                    <a:pt x="612" y="430"/>
                  </a:lnTo>
                  <a:lnTo>
                    <a:pt x="615" y="432"/>
                  </a:lnTo>
                  <a:lnTo>
                    <a:pt x="616" y="432"/>
                  </a:lnTo>
                  <a:lnTo>
                    <a:pt x="616" y="433"/>
                  </a:lnTo>
                  <a:lnTo>
                    <a:pt x="616" y="435"/>
                  </a:lnTo>
                  <a:lnTo>
                    <a:pt x="617" y="442"/>
                  </a:lnTo>
                  <a:lnTo>
                    <a:pt x="618" y="447"/>
                  </a:lnTo>
                  <a:lnTo>
                    <a:pt x="619" y="447"/>
                  </a:lnTo>
                  <a:lnTo>
                    <a:pt x="617" y="452"/>
                  </a:lnTo>
                  <a:lnTo>
                    <a:pt x="617" y="454"/>
                  </a:lnTo>
                  <a:lnTo>
                    <a:pt x="617" y="454"/>
                  </a:lnTo>
                  <a:lnTo>
                    <a:pt x="612" y="447"/>
                  </a:lnTo>
                  <a:lnTo>
                    <a:pt x="608" y="443"/>
                  </a:lnTo>
                  <a:lnTo>
                    <a:pt x="608" y="442"/>
                  </a:lnTo>
                  <a:lnTo>
                    <a:pt x="607" y="444"/>
                  </a:lnTo>
                  <a:lnTo>
                    <a:pt x="606" y="451"/>
                  </a:lnTo>
                  <a:lnTo>
                    <a:pt x="606" y="455"/>
                  </a:lnTo>
                  <a:lnTo>
                    <a:pt x="606" y="455"/>
                  </a:lnTo>
                  <a:lnTo>
                    <a:pt x="605" y="455"/>
                  </a:lnTo>
                  <a:lnTo>
                    <a:pt x="603" y="455"/>
                  </a:lnTo>
                  <a:lnTo>
                    <a:pt x="595" y="452"/>
                  </a:lnTo>
                  <a:lnTo>
                    <a:pt x="590" y="450"/>
                  </a:lnTo>
                  <a:lnTo>
                    <a:pt x="590" y="448"/>
                  </a:lnTo>
                  <a:lnTo>
                    <a:pt x="589" y="448"/>
                  </a:lnTo>
                  <a:lnTo>
                    <a:pt x="586" y="448"/>
                  </a:lnTo>
                  <a:lnTo>
                    <a:pt x="578" y="445"/>
                  </a:lnTo>
                  <a:lnTo>
                    <a:pt x="571" y="444"/>
                  </a:lnTo>
                  <a:lnTo>
                    <a:pt x="571" y="443"/>
                  </a:lnTo>
                  <a:lnTo>
                    <a:pt x="563" y="440"/>
                  </a:lnTo>
                  <a:lnTo>
                    <a:pt x="560" y="438"/>
                  </a:lnTo>
                  <a:lnTo>
                    <a:pt x="560" y="436"/>
                  </a:lnTo>
                  <a:lnTo>
                    <a:pt x="559" y="438"/>
                  </a:lnTo>
                  <a:lnTo>
                    <a:pt x="556" y="439"/>
                  </a:lnTo>
                  <a:lnTo>
                    <a:pt x="555" y="440"/>
                  </a:lnTo>
                  <a:lnTo>
                    <a:pt x="555" y="440"/>
                  </a:lnTo>
                  <a:lnTo>
                    <a:pt x="554" y="442"/>
                  </a:lnTo>
                  <a:lnTo>
                    <a:pt x="554" y="448"/>
                  </a:lnTo>
                  <a:lnTo>
                    <a:pt x="554" y="453"/>
                  </a:lnTo>
                  <a:lnTo>
                    <a:pt x="554" y="453"/>
                  </a:lnTo>
                  <a:lnTo>
                    <a:pt x="552" y="454"/>
                  </a:lnTo>
                  <a:lnTo>
                    <a:pt x="549" y="458"/>
                  </a:lnTo>
                  <a:lnTo>
                    <a:pt x="547" y="460"/>
                  </a:lnTo>
                  <a:lnTo>
                    <a:pt x="547" y="460"/>
                  </a:lnTo>
                  <a:lnTo>
                    <a:pt x="543" y="457"/>
                  </a:lnTo>
                  <a:lnTo>
                    <a:pt x="542" y="455"/>
                  </a:lnTo>
                  <a:lnTo>
                    <a:pt x="542" y="454"/>
                  </a:lnTo>
                  <a:lnTo>
                    <a:pt x="540" y="454"/>
                  </a:lnTo>
                  <a:lnTo>
                    <a:pt x="537" y="453"/>
                  </a:lnTo>
                  <a:lnTo>
                    <a:pt x="535" y="453"/>
                  </a:lnTo>
                  <a:lnTo>
                    <a:pt x="535" y="452"/>
                  </a:lnTo>
                  <a:lnTo>
                    <a:pt x="534" y="454"/>
                  </a:lnTo>
                  <a:lnTo>
                    <a:pt x="533" y="460"/>
                  </a:lnTo>
                  <a:lnTo>
                    <a:pt x="533" y="465"/>
                  </a:lnTo>
                  <a:lnTo>
                    <a:pt x="533" y="465"/>
                  </a:lnTo>
                  <a:lnTo>
                    <a:pt x="532" y="466"/>
                  </a:lnTo>
                  <a:lnTo>
                    <a:pt x="530" y="467"/>
                  </a:lnTo>
                  <a:lnTo>
                    <a:pt x="523" y="470"/>
                  </a:lnTo>
                  <a:lnTo>
                    <a:pt x="518" y="473"/>
                  </a:lnTo>
                  <a:lnTo>
                    <a:pt x="518" y="473"/>
                  </a:lnTo>
                  <a:lnTo>
                    <a:pt x="516" y="474"/>
                  </a:lnTo>
                  <a:lnTo>
                    <a:pt x="510" y="477"/>
                  </a:lnTo>
                  <a:lnTo>
                    <a:pt x="505" y="478"/>
                  </a:lnTo>
                  <a:lnTo>
                    <a:pt x="505" y="478"/>
                  </a:lnTo>
                  <a:lnTo>
                    <a:pt x="504" y="479"/>
                  </a:lnTo>
                  <a:lnTo>
                    <a:pt x="501" y="482"/>
                  </a:lnTo>
                  <a:lnTo>
                    <a:pt x="499" y="483"/>
                  </a:lnTo>
                  <a:lnTo>
                    <a:pt x="499" y="483"/>
                  </a:lnTo>
                  <a:lnTo>
                    <a:pt x="498" y="485"/>
                  </a:lnTo>
                  <a:lnTo>
                    <a:pt x="497" y="486"/>
                  </a:lnTo>
                  <a:lnTo>
                    <a:pt x="492" y="489"/>
                  </a:lnTo>
                  <a:lnTo>
                    <a:pt x="489" y="491"/>
                  </a:lnTo>
                  <a:lnTo>
                    <a:pt x="489" y="491"/>
                  </a:lnTo>
                  <a:lnTo>
                    <a:pt x="488" y="491"/>
                  </a:lnTo>
                  <a:lnTo>
                    <a:pt x="487" y="491"/>
                  </a:lnTo>
                  <a:lnTo>
                    <a:pt x="484" y="491"/>
                  </a:lnTo>
                  <a:lnTo>
                    <a:pt x="480" y="491"/>
                  </a:lnTo>
                  <a:lnTo>
                    <a:pt x="480" y="490"/>
                  </a:lnTo>
                  <a:lnTo>
                    <a:pt x="478" y="486"/>
                  </a:lnTo>
                  <a:lnTo>
                    <a:pt x="478" y="482"/>
                  </a:lnTo>
                  <a:lnTo>
                    <a:pt x="478" y="481"/>
                  </a:lnTo>
                  <a:lnTo>
                    <a:pt x="474" y="480"/>
                  </a:lnTo>
                  <a:lnTo>
                    <a:pt x="473" y="479"/>
                  </a:lnTo>
                  <a:lnTo>
                    <a:pt x="473" y="478"/>
                  </a:lnTo>
                  <a:lnTo>
                    <a:pt x="470" y="479"/>
                  </a:lnTo>
                  <a:lnTo>
                    <a:pt x="469" y="479"/>
                  </a:lnTo>
                  <a:lnTo>
                    <a:pt x="469" y="479"/>
                  </a:lnTo>
                  <a:lnTo>
                    <a:pt x="469" y="481"/>
                  </a:lnTo>
                  <a:lnTo>
                    <a:pt x="468" y="485"/>
                  </a:lnTo>
                  <a:lnTo>
                    <a:pt x="468" y="488"/>
                  </a:lnTo>
                  <a:lnTo>
                    <a:pt x="469" y="488"/>
                  </a:lnTo>
                  <a:lnTo>
                    <a:pt x="468" y="490"/>
                  </a:lnTo>
                  <a:lnTo>
                    <a:pt x="468" y="493"/>
                  </a:lnTo>
                  <a:lnTo>
                    <a:pt x="468" y="497"/>
                  </a:lnTo>
                  <a:lnTo>
                    <a:pt x="468" y="497"/>
                  </a:lnTo>
                  <a:lnTo>
                    <a:pt x="467" y="501"/>
                  </a:lnTo>
                  <a:lnTo>
                    <a:pt x="464" y="511"/>
                  </a:lnTo>
                  <a:lnTo>
                    <a:pt x="463" y="518"/>
                  </a:lnTo>
                  <a:lnTo>
                    <a:pt x="463" y="518"/>
                  </a:lnTo>
                  <a:lnTo>
                    <a:pt x="462" y="520"/>
                  </a:lnTo>
                  <a:lnTo>
                    <a:pt x="461" y="523"/>
                  </a:lnTo>
                  <a:lnTo>
                    <a:pt x="454" y="533"/>
                  </a:lnTo>
                  <a:lnTo>
                    <a:pt x="450" y="540"/>
                  </a:lnTo>
                  <a:lnTo>
                    <a:pt x="450" y="540"/>
                  </a:lnTo>
                  <a:lnTo>
                    <a:pt x="449" y="545"/>
                  </a:lnTo>
                  <a:lnTo>
                    <a:pt x="445" y="555"/>
                  </a:lnTo>
                  <a:lnTo>
                    <a:pt x="444" y="562"/>
                  </a:lnTo>
                  <a:lnTo>
                    <a:pt x="444" y="562"/>
                  </a:lnTo>
                  <a:lnTo>
                    <a:pt x="443" y="568"/>
                  </a:lnTo>
                  <a:lnTo>
                    <a:pt x="442" y="584"/>
                  </a:lnTo>
                  <a:lnTo>
                    <a:pt x="441" y="596"/>
                  </a:lnTo>
                  <a:lnTo>
                    <a:pt x="441" y="596"/>
                  </a:lnTo>
                  <a:lnTo>
                    <a:pt x="440" y="597"/>
                  </a:lnTo>
                  <a:lnTo>
                    <a:pt x="439" y="598"/>
                  </a:lnTo>
                  <a:lnTo>
                    <a:pt x="433" y="602"/>
                  </a:lnTo>
                  <a:lnTo>
                    <a:pt x="430" y="604"/>
                  </a:lnTo>
                  <a:lnTo>
                    <a:pt x="430" y="604"/>
                  </a:lnTo>
                  <a:lnTo>
                    <a:pt x="430" y="606"/>
                  </a:lnTo>
                  <a:lnTo>
                    <a:pt x="429" y="609"/>
                  </a:lnTo>
                  <a:lnTo>
                    <a:pt x="429" y="611"/>
                  </a:lnTo>
                  <a:lnTo>
                    <a:pt x="430" y="611"/>
                  </a:lnTo>
                  <a:lnTo>
                    <a:pt x="430" y="613"/>
                  </a:lnTo>
                  <a:lnTo>
                    <a:pt x="430" y="614"/>
                  </a:lnTo>
                  <a:lnTo>
                    <a:pt x="430" y="620"/>
                  </a:lnTo>
                  <a:lnTo>
                    <a:pt x="430" y="625"/>
                  </a:lnTo>
                  <a:lnTo>
                    <a:pt x="431" y="625"/>
                  </a:lnTo>
                  <a:lnTo>
                    <a:pt x="430" y="626"/>
                  </a:lnTo>
                  <a:lnTo>
                    <a:pt x="429" y="627"/>
                  </a:lnTo>
                  <a:lnTo>
                    <a:pt x="426" y="631"/>
                  </a:lnTo>
                  <a:lnTo>
                    <a:pt x="422" y="634"/>
                  </a:lnTo>
                  <a:lnTo>
                    <a:pt x="422" y="634"/>
                  </a:lnTo>
                  <a:lnTo>
                    <a:pt x="421" y="636"/>
                  </a:lnTo>
                  <a:lnTo>
                    <a:pt x="420" y="637"/>
                  </a:lnTo>
                  <a:lnTo>
                    <a:pt x="417" y="642"/>
                  </a:lnTo>
                  <a:lnTo>
                    <a:pt x="414" y="645"/>
                  </a:lnTo>
                  <a:lnTo>
                    <a:pt x="414" y="645"/>
                  </a:lnTo>
                  <a:lnTo>
                    <a:pt x="413" y="648"/>
                  </a:lnTo>
                  <a:lnTo>
                    <a:pt x="411" y="652"/>
                  </a:lnTo>
                  <a:lnTo>
                    <a:pt x="411" y="655"/>
                  </a:lnTo>
                  <a:lnTo>
                    <a:pt x="411" y="655"/>
                  </a:lnTo>
                  <a:lnTo>
                    <a:pt x="410" y="657"/>
                  </a:lnTo>
                  <a:lnTo>
                    <a:pt x="409" y="664"/>
                  </a:lnTo>
                  <a:lnTo>
                    <a:pt x="408" y="668"/>
                  </a:lnTo>
                  <a:lnTo>
                    <a:pt x="408" y="668"/>
                  </a:lnTo>
                  <a:lnTo>
                    <a:pt x="407" y="672"/>
                  </a:lnTo>
                  <a:lnTo>
                    <a:pt x="406" y="678"/>
                  </a:lnTo>
                  <a:lnTo>
                    <a:pt x="406" y="684"/>
                  </a:lnTo>
                  <a:lnTo>
                    <a:pt x="406" y="684"/>
                  </a:lnTo>
                  <a:lnTo>
                    <a:pt x="405" y="685"/>
                  </a:lnTo>
                  <a:lnTo>
                    <a:pt x="402" y="691"/>
                  </a:lnTo>
                  <a:lnTo>
                    <a:pt x="399" y="696"/>
                  </a:lnTo>
                  <a:lnTo>
                    <a:pt x="399" y="696"/>
                  </a:lnTo>
                  <a:lnTo>
                    <a:pt x="398" y="697"/>
                  </a:lnTo>
                  <a:lnTo>
                    <a:pt x="396" y="700"/>
                  </a:lnTo>
                  <a:lnTo>
                    <a:pt x="395" y="702"/>
                  </a:lnTo>
                  <a:lnTo>
                    <a:pt x="395" y="702"/>
                  </a:lnTo>
                  <a:lnTo>
                    <a:pt x="394" y="703"/>
                  </a:lnTo>
                  <a:lnTo>
                    <a:pt x="393" y="704"/>
                  </a:lnTo>
                  <a:lnTo>
                    <a:pt x="389" y="710"/>
                  </a:lnTo>
                  <a:lnTo>
                    <a:pt x="385" y="713"/>
                  </a:lnTo>
                  <a:lnTo>
                    <a:pt x="385" y="713"/>
                  </a:lnTo>
                  <a:lnTo>
                    <a:pt x="384" y="714"/>
                  </a:lnTo>
                  <a:lnTo>
                    <a:pt x="382" y="719"/>
                  </a:lnTo>
                  <a:lnTo>
                    <a:pt x="381" y="722"/>
                  </a:lnTo>
                  <a:lnTo>
                    <a:pt x="381" y="722"/>
                  </a:lnTo>
                  <a:lnTo>
                    <a:pt x="380" y="724"/>
                  </a:lnTo>
                  <a:lnTo>
                    <a:pt x="380" y="725"/>
                  </a:lnTo>
                  <a:lnTo>
                    <a:pt x="380" y="725"/>
                  </a:lnTo>
                  <a:lnTo>
                    <a:pt x="380" y="726"/>
                  </a:lnTo>
                  <a:lnTo>
                    <a:pt x="381" y="730"/>
                  </a:lnTo>
                  <a:lnTo>
                    <a:pt x="381" y="731"/>
                  </a:lnTo>
                  <a:lnTo>
                    <a:pt x="382" y="731"/>
                  </a:lnTo>
                  <a:lnTo>
                    <a:pt x="381" y="735"/>
                  </a:lnTo>
                  <a:lnTo>
                    <a:pt x="381" y="736"/>
                  </a:lnTo>
                  <a:lnTo>
                    <a:pt x="381" y="736"/>
                  </a:lnTo>
                  <a:lnTo>
                    <a:pt x="380" y="737"/>
                  </a:lnTo>
                  <a:lnTo>
                    <a:pt x="376" y="741"/>
                  </a:lnTo>
                  <a:lnTo>
                    <a:pt x="374" y="743"/>
                  </a:lnTo>
                  <a:lnTo>
                    <a:pt x="374" y="743"/>
                  </a:lnTo>
                  <a:lnTo>
                    <a:pt x="379" y="745"/>
                  </a:lnTo>
                  <a:lnTo>
                    <a:pt x="381" y="745"/>
                  </a:lnTo>
                  <a:lnTo>
                    <a:pt x="382" y="745"/>
                  </a:lnTo>
                  <a:lnTo>
                    <a:pt x="381" y="747"/>
                  </a:lnTo>
                  <a:lnTo>
                    <a:pt x="379" y="753"/>
                  </a:lnTo>
                  <a:lnTo>
                    <a:pt x="378" y="756"/>
                  </a:lnTo>
                  <a:lnTo>
                    <a:pt x="378" y="756"/>
                  </a:lnTo>
                  <a:lnTo>
                    <a:pt x="375" y="757"/>
                  </a:lnTo>
                  <a:lnTo>
                    <a:pt x="369" y="757"/>
                  </a:lnTo>
                  <a:lnTo>
                    <a:pt x="364" y="757"/>
                  </a:lnTo>
                  <a:lnTo>
                    <a:pt x="364" y="757"/>
                  </a:lnTo>
                  <a:lnTo>
                    <a:pt x="363" y="758"/>
                  </a:lnTo>
                  <a:lnTo>
                    <a:pt x="361" y="759"/>
                  </a:lnTo>
                  <a:lnTo>
                    <a:pt x="355" y="763"/>
                  </a:lnTo>
                  <a:lnTo>
                    <a:pt x="350" y="767"/>
                  </a:lnTo>
                  <a:lnTo>
                    <a:pt x="350" y="767"/>
                  </a:lnTo>
                  <a:lnTo>
                    <a:pt x="349" y="768"/>
                  </a:lnTo>
                  <a:lnTo>
                    <a:pt x="348" y="769"/>
                  </a:lnTo>
                  <a:lnTo>
                    <a:pt x="344" y="776"/>
                  </a:lnTo>
                  <a:lnTo>
                    <a:pt x="340" y="780"/>
                  </a:lnTo>
                  <a:lnTo>
                    <a:pt x="340" y="780"/>
                  </a:lnTo>
                  <a:lnTo>
                    <a:pt x="339" y="781"/>
                  </a:lnTo>
                  <a:lnTo>
                    <a:pt x="338" y="782"/>
                  </a:lnTo>
                  <a:lnTo>
                    <a:pt x="335" y="788"/>
                  </a:lnTo>
                  <a:lnTo>
                    <a:pt x="332" y="792"/>
                  </a:lnTo>
                  <a:lnTo>
                    <a:pt x="332" y="792"/>
                  </a:lnTo>
                  <a:lnTo>
                    <a:pt x="331" y="793"/>
                  </a:lnTo>
                  <a:lnTo>
                    <a:pt x="328" y="794"/>
                  </a:lnTo>
                  <a:lnTo>
                    <a:pt x="322" y="797"/>
                  </a:lnTo>
                  <a:lnTo>
                    <a:pt x="317" y="801"/>
                  </a:lnTo>
                  <a:lnTo>
                    <a:pt x="317" y="801"/>
                  </a:lnTo>
                  <a:lnTo>
                    <a:pt x="315" y="802"/>
                  </a:lnTo>
                  <a:lnTo>
                    <a:pt x="310" y="804"/>
                  </a:lnTo>
                  <a:lnTo>
                    <a:pt x="305" y="805"/>
                  </a:lnTo>
                  <a:lnTo>
                    <a:pt x="305" y="805"/>
                  </a:lnTo>
                  <a:lnTo>
                    <a:pt x="304" y="806"/>
                  </a:lnTo>
                  <a:lnTo>
                    <a:pt x="301" y="807"/>
                  </a:lnTo>
                  <a:lnTo>
                    <a:pt x="300" y="808"/>
                  </a:lnTo>
                  <a:lnTo>
                    <a:pt x="300" y="808"/>
                  </a:lnTo>
                  <a:lnTo>
                    <a:pt x="299" y="811"/>
                  </a:lnTo>
                  <a:lnTo>
                    <a:pt x="299" y="814"/>
                  </a:lnTo>
                  <a:lnTo>
                    <a:pt x="299" y="817"/>
                  </a:lnTo>
                  <a:lnTo>
                    <a:pt x="299" y="817"/>
                  </a:lnTo>
                  <a:lnTo>
                    <a:pt x="297" y="818"/>
                  </a:lnTo>
                  <a:lnTo>
                    <a:pt x="292" y="819"/>
                  </a:lnTo>
                  <a:lnTo>
                    <a:pt x="289" y="819"/>
                  </a:lnTo>
                  <a:lnTo>
                    <a:pt x="289" y="819"/>
                  </a:lnTo>
                  <a:lnTo>
                    <a:pt x="288" y="821"/>
                  </a:lnTo>
                  <a:lnTo>
                    <a:pt x="287" y="825"/>
                  </a:lnTo>
                  <a:lnTo>
                    <a:pt x="287" y="827"/>
                  </a:lnTo>
                  <a:lnTo>
                    <a:pt x="287" y="827"/>
                  </a:lnTo>
                  <a:lnTo>
                    <a:pt x="285" y="831"/>
                  </a:lnTo>
                  <a:lnTo>
                    <a:pt x="285" y="832"/>
                  </a:lnTo>
                  <a:lnTo>
                    <a:pt x="285" y="832"/>
                  </a:lnTo>
                  <a:lnTo>
                    <a:pt x="284" y="834"/>
                  </a:lnTo>
                  <a:lnTo>
                    <a:pt x="279" y="836"/>
                  </a:lnTo>
                  <a:lnTo>
                    <a:pt x="277" y="837"/>
                  </a:lnTo>
                  <a:lnTo>
                    <a:pt x="277" y="837"/>
                  </a:lnTo>
                  <a:lnTo>
                    <a:pt x="276" y="838"/>
                  </a:lnTo>
                  <a:lnTo>
                    <a:pt x="272" y="840"/>
                  </a:lnTo>
                  <a:lnTo>
                    <a:pt x="268" y="841"/>
                  </a:lnTo>
                  <a:lnTo>
                    <a:pt x="268" y="841"/>
                  </a:lnTo>
                  <a:lnTo>
                    <a:pt x="267" y="842"/>
                  </a:lnTo>
                  <a:lnTo>
                    <a:pt x="264" y="843"/>
                  </a:lnTo>
                  <a:lnTo>
                    <a:pt x="253" y="849"/>
                  </a:lnTo>
                  <a:lnTo>
                    <a:pt x="244" y="852"/>
                  </a:lnTo>
                  <a:lnTo>
                    <a:pt x="244" y="852"/>
                  </a:lnTo>
                  <a:lnTo>
                    <a:pt x="243" y="852"/>
                  </a:lnTo>
                  <a:lnTo>
                    <a:pt x="240" y="852"/>
                  </a:lnTo>
                  <a:lnTo>
                    <a:pt x="239" y="852"/>
                  </a:lnTo>
                  <a:lnTo>
                    <a:pt x="239" y="852"/>
                  </a:lnTo>
                  <a:lnTo>
                    <a:pt x="238" y="853"/>
                  </a:lnTo>
                  <a:lnTo>
                    <a:pt x="233" y="854"/>
                  </a:lnTo>
                  <a:lnTo>
                    <a:pt x="231" y="855"/>
                  </a:lnTo>
                  <a:lnTo>
                    <a:pt x="231" y="855"/>
                  </a:lnTo>
                  <a:lnTo>
                    <a:pt x="229" y="856"/>
                  </a:lnTo>
                  <a:lnTo>
                    <a:pt x="223" y="859"/>
                  </a:lnTo>
                  <a:lnTo>
                    <a:pt x="220" y="860"/>
                  </a:lnTo>
                  <a:lnTo>
                    <a:pt x="220" y="860"/>
                  </a:lnTo>
                  <a:lnTo>
                    <a:pt x="214" y="858"/>
                  </a:lnTo>
                  <a:lnTo>
                    <a:pt x="210" y="856"/>
                  </a:lnTo>
                  <a:lnTo>
                    <a:pt x="210" y="855"/>
                  </a:lnTo>
                  <a:lnTo>
                    <a:pt x="208" y="848"/>
                  </a:lnTo>
                  <a:lnTo>
                    <a:pt x="207" y="843"/>
                  </a:lnTo>
                  <a:lnTo>
                    <a:pt x="207" y="842"/>
                  </a:lnTo>
                  <a:lnTo>
                    <a:pt x="206" y="842"/>
                  </a:lnTo>
                  <a:lnTo>
                    <a:pt x="203" y="842"/>
                  </a:lnTo>
                  <a:lnTo>
                    <a:pt x="202" y="842"/>
                  </a:lnTo>
                  <a:lnTo>
                    <a:pt x="202" y="841"/>
                  </a:lnTo>
                  <a:lnTo>
                    <a:pt x="200" y="842"/>
                  </a:lnTo>
                  <a:lnTo>
                    <a:pt x="196" y="846"/>
                  </a:lnTo>
                  <a:lnTo>
                    <a:pt x="193" y="848"/>
                  </a:lnTo>
                  <a:lnTo>
                    <a:pt x="193" y="848"/>
                  </a:lnTo>
                  <a:lnTo>
                    <a:pt x="191" y="849"/>
                  </a:lnTo>
                  <a:lnTo>
                    <a:pt x="185" y="851"/>
                  </a:lnTo>
                  <a:lnTo>
                    <a:pt x="182" y="852"/>
                  </a:lnTo>
                  <a:lnTo>
                    <a:pt x="182" y="852"/>
                  </a:lnTo>
                  <a:lnTo>
                    <a:pt x="181" y="852"/>
                  </a:lnTo>
                  <a:lnTo>
                    <a:pt x="178" y="852"/>
                  </a:lnTo>
                  <a:lnTo>
                    <a:pt x="176" y="852"/>
                  </a:lnTo>
                  <a:lnTo>
                    <a:pt x="176" y="851"/>
                  </a:lnTo>
                  <a:lnTo>
                    <a:pt x="175" y="848"/>
                  </a:lnTo>
                  <a:lnTo>
                    <a:pt x="176" y="847"/>
                  </a:lnTo>
                  <a:lnTo>
                    <a:pt x="175" y="848"/>
                  </a:lnTo>
                  <a:lnTo>
                    <a:pt x="170" y="851"/>
                  </a:lnTo>
                  <a:lnTo>
                    <a:pt x="167" y="852"/>
                  </a:lnTo>
                  <a:lnTo>
                    <a:pt x="167" y="852"/>
                  </a:lnTo>
                  <a:lnTo>
                    <a:pt x="164" y="847"/>
                  </a:lnTo>
                  <a:lnTo>
                    <a:pt x="164" y="843"/>
                  </a:lnTo>
                  <a:lnTo>
                    <a:pt x="164" y="842"/>
                  </a:lnTo>
                  <a:lnTo>
                    <a:pt x="163" y="836"/>
                  </a:lnTo>
                  <a:lnTo>
                    <a:pt x="163" y="832"/>
                  </a:lnTo>
                  <a:lnTo>
                    <a:pt x="163" y="831"/>
                  </a:lnTo>
                  <a:lnTo>
                    <a:pt x="162" y="832"/>
                  </a:lnTo>
                  <a:lnTo>
                    <a:pt x="161" y="834"/>
                  </a:lnTo>
                  <a:lnTo>
                    <a:pt x="161" y="835"/>
                  </a:lnTo>
                  <a:lnTo>
                    <a:pt x="160" y="835"/>
                  </a:lnTo>
                  <a:lnTo>
                    <a:pt x="159" y="835"/>
                  </a:lnTo>
                  <a:lnTo>
                    <a:pt x="158" y="835"/>
                  </a:lnTo>
                  <a:lnTo>
                    <a:pt x="158" y="835"/>
                  </a:lnTo>
                  <a:lnTo>
                    <a:pt x="157" y="835"/>
                  </a:lnTo>
                  <a:lnTo>
                    <a:pt x="156" y="835"/>
                  </a:lnTo>
                  <a:lnTo>
                    <a:pt x="150" y="832"/>
                  </a:lnTo>
                  <a:lnTo>
                    <a:pt x="147" y="831"/>
                  </a:lnTo>
                  <a:lnTo>
                    <a:pt x="147" y="830"/>
                  </a:lnTo>
                  <a:lnTo>
                    <a:pt x="146" y="830"/>
                  </a:lnTo>
                  <a:lnTo>
                    <a:pt x="145" y="830"/>
                  </a:lnTo>
                  <a:lnTo>
                    <a:pt x="141" y="830"/>
                  </a:lnTo>
                  <a:lnTo>
                    <a:pt x="138" y="830"/>
                  </a:lnTo>
                  <a:lnTo>
                    <a:pt x="138" y="830"/>
                  </a:lnTo>
                  <a:lnTo>
                    <a:pt x="134" y="831"/>
                  </a:lnTo>
                  <a:lnTo>
                    <a:pt x="123" y="831"/>
                  </a:lnTo>
                  <a:lnTo>
                    <a:pt x="115" y="831"/>
                  </a:lnTo>
                  <a:lnTo>
                    <a:pt x="115" y="831"/>
                  </a:lnTo>
                  <a:lnTo>
                    <a:pt x="114" y="829"/>
                  </a:lnTo>
                  <a:lnTo>
                    <a:pt x="113" y="819"/>
                  </a:lnTo>
                  <a:lnTo>
                    <a:pt x="112" y="813"/>
                  </a:lnTo>
                  <a:lnTo>
                    <a:pt x="112" y="812"/>
                  </a:lnTo>
                  <a:lnTo>
                    <a:pt x="110" y="811"/>
                  </a:lnTo>
                  <a:lnTo>
                    <a:pt x="106" y="807"/>
                  </a:lnTo>
                  <a:lnTo>
                    <a:pt x="104" y="805"/>
                  </a:lnTo>
                  <a:lnTo>
                    <a:pt x="104" y="804"/>
                  </a:lnTo>
                  <a:lnTo>
                    <a:pt x="103" y="804"/>
                  </a:lnTo>
                  <a:lnTo>
                    <a:pt x="101" y="804"/>
                  </a:lnTo>
                  <a:lnTo>
                    <a:pt x="94" y="803"/>
                  </a:lnTo>
                  <a:lnTo>
                    <a:pt x="89" y="803"/>
                  </a:lnTo>
                  <a:lnTo>
                    <a:pt x="89" y="802"/>
                  </a:lnTo>
                  <a:lnTo>
                    <a:pt x="88" y="803"/>
                  </a:lnTo>
                  <a:lnTo>
                    <a:pt x="85" y="806"/>
                  </a:lnTo>
                  <a:lnTo>
                    <a:pt x="82" y="808"/>
                  </a:lnTo>
                  <a:lnTo>
                    <a:pt x="82" y="808"/>
                  </a:lnTo>
                  <a:lnTo>
                    <a:pt x="81" y="809"/>
                  </a:lnTo>
                  <a:lnTo>
                    <a:pt x="78" y="814"/>
                  </a:lnTo>
                  <a:lnTo>
                    <a:pt x="76" y="816"/>
                  </a:lnTo>
                  <a:lnTo>
                    <a:pt x="76" y="816"/>
                  </a:lnTo>
                  <a:lnTo>
                    <a:pt x="73" y="817"/>
                  </a:lnTo>
                  <a:lnTo>
                    <a:pt x="66" y="818"/>
                  </a:lnTo>
                  <a:lnTo>
                    <a:pt x="61" y="819"/>
                  </a:lnTo>
                  <a:lnTo>
                    <a:pt x="61" y="819"/>
                  </a:lnTo>
                  <a:lnTo>
                    <a:pt x="59" y="819"/>
                  </a:lnTo>
                  <a:lnTo>
                    <a:pt x="57" y="819"/>
                  </a:lnTo>
                  <a:lnTo>
                    <a:pt x="51" y="818"/>
                  </a:lnTo>
                  <a:lnTo>
                    <a:pt x="45" y="818"/>
                  </a:lnTo>
                  <a:lnTo>
                    <a:pt x="45" y="817"/>
                  </a:lnTo>
                  <a:lnTo>
                    <a:pt x="42" y="818"/>
                  </a:lnTo>
                  <a:lnTo>
                    <a:pt x="34" y="818"/>
                  </a:lnTo>
                  <a:lnTo>
                    <a:pt x="28" y="818"/>
                  </a:lnTo>
                  <a:lnTo>
                    <a:pt x="28" y="818"/>
                  </a:lnTo>
                  <a:lnTo>
                    <a:pt x="21" y="815"/>
                  </a:lnTo>
                  <a:lnTo>
                    <a:pt x="18" y="813"/>
                  </a:lnTo>
                  <a:lnTo>
                    <a:pt x="18" y="812"/>
                  </a:lnTo>
                  <a:lnTo>
                    <a:pt x="21" y="805"/>
                  </a:lnTo>
                  <a:lnTo>
                    <a:pt x="22" y="801"/>
                  </a:lnTo>
                  <a:lnTo>
                    <a:pt x="23" y="800"/>
                  </a:lnTo>
                  <a:lnTo>
                    <a:pt x="24" y="798"/>
                  </a:lnTo>
                  <a:lnTo>
                    <a:pt x="29" y="792"/>
                  </a:lnTo>
                  <a:lnTo>
                    <a:pt x="32" y="788"/>
                  </a:lnTo>
                  <a:lnTo>
                    <a:pt x="33" y="786"/>
                  </a:lnTo>
                  <a:lnTo>
                    <a:pt x="33" y="785"/>
                  </a:lnTo>
                  <a:lnTo>
                    <a:pt x="35" y="780"/>
                  </a:lnTo>
                  <a:lnTo>
                    <a:pt x="36" y="777"/>
                  </a:lnTo>
                  <a:lnTo>
                    <a:pt x="38" y="776"/>
                  </a:lnTo>
                  <a:lnTo>
                    <a:pt x="36" y="777"/>
                  </a:lnTo>
                  <a:lnTo>
                    <a:pt x="33" y="781"/>
                  </a:lnTo>
                  <a:lnTo>
                    <a:pt x="32" y="783"/>
                  </a:lnTo>
                  <a:lnTo>
                    <a:pt x="32" y="783"/>
                  </a:lnTo>
                  <a:lnTo>
                    <a:pt x="31" y="784"/>
                  </a:lnTo>
                  <a:lnTo>
                    <a:pt x="29" y="785"/>
                  </a:lnTo>
                  <a:lnTo>
                    <a:pt x="22" y="792"/>
                  </a:lnTo>
                  <a:lnTo>
                    <a:pt x="18" y="796"/>
                  </a:lnTo>
                  <a:lnTo>
                    <a:pt x="18" y="796"/>
                  </a:lnTo>
                  <a:lnTo>
                    <a:pt x="17" y="797"/>
                  </a:lnTo>
                  <a:lnTo>
                    <a:pt x="16" y="798"/>
                  </a:lnTo>
                  <a:lnTo>
                    <a:pt x="15" y="798"/>
                  </a:lnTo>
                  <a:lnTo>
                    <a:pt x="15" y="797"/>
                  </a:lnTo>
                  <a:lnTo>
                    <a:pt x="16" y="792"/>
                  </a:lnTo>
                  <a:lnTo>
                    <a:pt x="16" y="788"/>
                  </a:lnTo>
                  <a:lnTo>
                    <a:pt x="17" y="786"/>
                  </a:lnTo>
                  <a:lnTo>
                    <a:pt x="19" y="782"/>
                  </a:lnTo>
                  <a:lnTo>
                    <a:pt x="20" y="780"/>
                  </a:lnTo>
                  <a:lnTo>
                    <a:pt x="21" y="779"/>
                  </a:lnTo>
                  <a:lnTo>
                    <a:pt x="20" y="777"/>
                  </a:lnTo>
                  <a:lnTo>
                    <a:pt x="20" y="776"/>
                  </a:lnTo>
                  <a:lnTo>
                    <a:pt x="20" y="774"/>
                  </a:lnTo>
                  <a:lnTo>
                    <a:pt x="19" y="776"/>
                  </a:lnTo>
                  <a:lnTo>
                    <a:pt x="17" y="780"/>
                  </a:lnTo>
                  <a:lnTo>
                    <a:pt x="16" y="782"/>
                  </a:lnTo>
                  <a:lnTo>
                    <a:pt x="16" y="782"/>
                  </a:lnTo>
                  <a:lnTo>
                    <a:pt x="14" y="783"/>
                  </a:lnTo>
                  <a:lnTo>
                    <a:pt x="7" y="785"/>
                  </a:lnTo>
                  <a:lnTo>
                    <a:pt x="3" y="786"/>
                  </a:lnTo>
                  <a:lnTo>
                    <a:pt x="3" y="786"/>
                  </a:lnTo>
                  <a:lnTo>
                    <a:pt x="0" y="780"/>
                  </a:lnTo>
                  <a:lnTo>
                    <a:pt x="0" y="776"/>
                  </a:lnTo>
                  <a:lnTo>
                    <a:pt x="0" y="774"/>
                  </a:lnTo>
                  <a:lnTo>
                    <a:pt x="2" y="770"/>
                  </a:lnTo>
                  <a:lnTo>
                    <a:pt x="3" y="768"/>
                  </a:lnTo>
                  <a:lnTo>
                    <a:pt x="4" y="767"/>
                  </a:lnTo>
                  <a:lnTo>
                    <a:pt x="8" y="763"/>
                  </a:lnTo>
                  <a:lnTo>
                    <a:pt x="11" y="762"/>
                  </a:lnTo>
                  <a:lnTo>
                    <a:pt x="12" y="761"/>
                  </a:lnTo>
                  <a:lnTo>
                    <a:pt x="15" y="761"/>
                  </a:lnTo>
                  <a:lnTo>
                    <a:pt x="21" y="760"/>
                  </a:lnTo>
                  <a:lnTo>
                    <a:pt x="26" y="759"/>
                  </a:lnTo>
                  <a:lnTo>
                    <a:pt x="27" y="758"/>
                  </a:lnTo>
                  <a:lnTo>
                    <a:pt x="28" y="757"/>
                  </a:lnTo>
                  <a:lnTo>
                    <a:pt x="33" y="751"/>
                  </a:lnTo>
                  <a:lnTo>
                    <a:pt x="38" y="748"/>
                  </a:lnTo>
                  <a:lnTo>
                    <a:pt x="39" y="747"/>
                  </a:lnTo>
                  <a:lnTo>
                    <a:pt x="38" y="747"/>
                  </a:lnTo>
                  <a:lnTo>
                    <a:pt x="35" y="747"/>
                  </a:lnTo>
                  <a:lnTo>
                    <a:pt x="34" y="747"/>
                  </a:lnTo>
                  <a:lnTo>
                    <a:pt x="34" y="746"/>
                  </a:lnTo>
                  <a:lnTo>
                    <a:pt x="32" y="744"/>
                  </a:lnTo>
                  <a:lnTo>
                    <a:pt x="31" y="743"/>
                  </a:lnTo>
                  <a:lnTo>
                    <a:pt x="31" y="742"/>
                  </a:lnTo>
                  <a:lnTo>
                    <a:pt x="35" y="738"/>
                  </a:lnTo>
                  <a:lnTo>
                    <a:pt x="39" y="736"/>
                  </a:lnTo>
                  <a:lnTo>
                    <a:pt x="40" y="735"/>
                  </a:lnTo>
                  <a:lnTo>
                    <a:pt x="40" y="734"/>
                  </a:lnTo>
                  <a:lnTo>
                    <a:pt x="42" y="728"/>
                  </a:lnTo>
                  <a:lnTo>
                    <a:pt x="43" y="724"/>
                  </a:lnTo>
                  <a:lnTo>
                    <a:pt x="44" y="723"/>
                  </a:lnTo>
                  <a:lnTo>
                    <a:pt x="42" y="724"/>
                  </a:lnTo>
                  <a:lnTo>
                    <a:pt x="39" y="724"/>
                  </a:lnTo>
                  <a:lnTo>
                    <a:pt x="35" y="724"/>
                  </a:lnTo>
                  <a:lnTo>
                    <a:pt x="35" y="724"/>
                  </a:lnTo>
                  <a:lnTo>
                    <a:pt x="34" y="724"/>
                  </a:lnTo>
                  <a:lnTo>
                    <a:pt x="33" y="724"/>
                  </a:lnTo>
                  <a:lnTo>
                    <a:pt x="30" y="723"/>
                  </a:lnTo>
                  <a:lnTo>
                    <a:pt x="28" y="723"/>
                  </a:lnTo>
                  <a:lnTo>
                    <a:pt x="28" y="722"/>
                  </a:lnTo>
                  <a:lnTo>
                    <a:pt x="26" y="716"/>
                  </a:lnTo>
                  <a:lnTo>
                    <a:pt x="26" y="713"/>
                  </a:lnTo>
                  <a:lnTo>
                    <a:pt x="26" y="712"/>
                  </a:lnTo>
                  <a:lnTo>
                    <a:pt x="27" y="712"/>
                  </a:lnTo>
                  <a:lnTo>
                    <a:pt x="32" y="712"/>
                  </a:lnTo>
                  <a:lnTo>
                    <a:pt x="35" y="712"/>
                  </a:lnTo>
                  <a:lnTo>
                    <a:pt x="36" y="712"/>
                  </a:lnTo>
                  <a:lnTo>
                    <a:pt x="39" y="707"/>
                  </a:lnTo>
                  <a:lnTo>
                    <a:pt x="40" y="703"/>
                  </a:lnTo>
                  <a:lnTo>
                    <a:pt x="41" y="702"/>
                  </a:lnTo>
                  <a:lnTo>
                    <a:pt x="38" y="701"/>
                  </a:lnTo>
                  <a:lnTo>
                    <a:pt x="36" y="700"/>
                  </a:lnTo>
                  <a:lnTo>
                    <a:pt x="36" y="699"/>
                  </a:lnTo>
                  <a:lnTo>
                    <a:pt x="36" y="698"/>
                  </a:lnTo>
                  <a:lnTo>
                    <a:pt x="35" y="695"/>
                  </a:lnTo>
                  <a:lnTo>
                    <a:pt x="35" y="692"/>
                  </a:lnTo>
                  <a:lnTo>
                    <a:pt x="36" y="691"/>
                  </a:lnTo>
                  <a:lnTo>
                    <a:pt x="38" y="691"/>
                  </a:lnTo>
                  <a:lnTo>
                    <a:pt x="41" y="691"/>
                  </a:lnTo>
                  <a:lnTo>
                    <a:pt x="43" y="691"/>
                  </a:lnTo>
                  <a:lnTo>
                    <a:pt x="44" y="690"/>
                  </a:lnTo>
                  <a:lnTo>
                    <a:pt x="46" y="693"/>
                  </a:lnTo>
                  <a:lnTo>
                    <a:pt x="47" y="695"/>
                  </a:lnTo>
                  <a:lnTo>
                    <a:pt x="49" y="695"/>
                  </a:lnTo>
                  <a:lnTo>
                    <a:pt x="50" y="695"/>
                  </a:lnTo>
                  <a:lnTo>
                    <a:pt x="53" y="693"/>
                  </a:lnTo>
                  <a:lnTo>
                    <a:pt x="56" y="692"/>
                  </a:lnTo>
                  <a:lnTo>
                    <a:pt x="57" y="691"/>
                  </a:lnTo>
                  <a:lnTo>
                    <a:pt x="61" y="691"/>
                  </a:lnTo>
                  <a:lnTo>
                    <a:pt x="62" y="691"/>
                  </a:lnTo>
                  <a:lnTo>
                    <a:pt x="63" y="691"/>
                  </a:lnTo>
                  <a:lnTo>
                    <a:pt x="65" y="690"/>
                  </a:lnTo>
                  <a:lnTo>
                    <a:pt x="66" y="689"/>
                  </a:lnTo>
                  <a:lnTo>
                    <a:pt x="67" y="688"/>
                  </a:lnTo>
                  <a:lnTo>
                    <a:pt x="66" y="686"/>
                  </a:lnTo>
                  <a:lnTo>
                    <a:pt x="66" y="685"/>
                  </a:lnTo>
                  <a:lnTo>
                    <a:pt x="65" y="685"/>
                  </a:lnTo>
                  <a:lnTo>
                    <a:pt x="64" y="685"/>
                  </a:lnTo>
                  <a:lnTo>
                    <a:pt x="61" y="685"/>
                  </a:lnTo>
                  <a:lnTo>
                    <a:pt x="58" y="685"/>
                  </a:lnTo>
                  <a:lnTo>
                    <a:pt x="58" y="684"/>
                  </a:lnTo>
                  <a:lnTo>
                    <a:pt x="54" y="680"/>
                  </a:lnTo>
                  <a:lnTo>
                    <a:pt x="52" y="678"/>
                  </a:lnTo>
                  <a:lnTo>
                    <a:pt x="52" y="677"/>
                  </a:lnTo>
                  <a:lnTo>
                    <a:pt x="52" y="676"/>
                  </a:lnTo>
                  <a:lnTo>
                    <a:pt x="53" y="672"/>
                  </a:lnTo>
                  <a:lnTo>
                    <a:pt x="53" y="668"/>
                  </a:lnTo>
                  <a:lnTo>
                    <a:pt x="54" y="667"/>
                  </a:lnTo>
                  <a:lnTo>
                    <a:pt x="54" y="666"/>
                  </a:lnTo>
                  <a:lnTo>
                    <a:pt x="55" y="662"/>
                  </a:lnTo>
                  <a:lnTo>
                    <a:pt x="56" y="658"/>
                  </a:lnTo>
                  <a:lnTo>
                    <a:pt x="57" y="657"/>
                  </a:lnTo>
                  <a:lnTo>
                    <a:pt x="57" y="656"/>
                  </a:lnTo>
                  <a:lnTo>
                    <a:pt x="58" y="651"/>
                  </a:lnTo>
                  <a:lnTo>
                    <a:pt x="58" y="648"/>
                  </a:lnTo>
                  <a:lnTo>
                    <a:pt x="59" y="646"/>
                  </a:lnTo>
                  <a:lnTo>
                    <a:pt x="61" y="643"/>
                  </a:lnTo>
                  <a:lnTo>
                    <a:pt x="62" y="642"/>
                  </a:lnTo>
                  <a:lnTo>
                    <a:pt x="63" y="641"/>
                  </a:lnTo>
                  <a:lnTo>
                    <a:pt x="64" y="640"/>
                  </a:lnTo>
                  <a:lnTo>
                    <a:pt x="67" y="637"/>
                  </a:lnTo>
                  <a:lnTo>
                    <a:pt x="70" y="633"/>
                  </a:lnTo>
                  <a:lnTo>
                    <a:pt x="71" y="632"/>
                  </a:lnTo>
                  <a:lnTo>
                    <a:pt x="75" y="631"/>
                  </a:lnTo>
                  <a:lnTo>
                    <a:pt x="77" y="631"/>
                  </a:lnTo>
                  <a:lnTo>
                    <a:pt x="78" y="630"/>
                  </a:lnTo>
                  <a:lnTo>
                    <a:pt x="80" y="634"/>
                  </a:lnTo>
                  <a:lnTo>
                    <a:pt x="81" y="636"/>
                  </a:lnTo>
                  <a:lnTo>
                    <a:pt x="82" y="636"/>
                  </a:lnTo>
                  <a:lnTo>
                    <a:pt x="82" y="638"/>
                  </a:lnTo>
                  <a:lnTo>
                    <a:pt x="81" y="643"/>
                  </a:lnTo>
                  <a:lnTo>
                    <a:pt x="81" y="646"/>
                  </a:lnTo>
                  <a:lnTo>
                    <a:pt x="82" y="646"/>
                  </a:lnTo>
                  <a:lnTo>
                    <a:pt x="85" y="649"/>
                  </a:lnTo>
                  <a:lnTo>
                    <a:pt x="87" y="649"/>
                  </a:lnTo>
                  <a:lnTo>
                    <a:pt x="88" y="649"/>
                  </a:lnTo>
                  <a:lnTo>
                    <a:pt x="89" y="649"/>
                  </a:lnTo>
                  <a:lnTo>
                    <a:pt x="90" y="649"/>
                  </a:lnTo>
                  <a:lnTo>
                    <a:pt x="92" y="645"/>
                  </a:lnTo>
                  <a:lnTo>
                    <a:pt x="93" y="643"/>
                  </a:lnTo>
                  <a:lnTo>
                    <a:pt x="94" y="642"/>
                  </a:lnTo>
                  <a:lnTo>
                    <a:pt x="93" y="640"/>
                  </a:lnTo>
                  <a:lnTo>
                    <a:pt x="92" y="632"/>
                  </a:lnTo>
                  <a:lnTo>
                    <a:pt x="92" y="626"/>
                  </a:lnTo>
                  <a:lnTo>
                    <a:pt x="92" y="625"/>
                  </a:lnTo>
                  <a:lnTo>
                    <a:pt x="92" y="623"/>
                  </a:lnTo>
                  <a:lnTo>
                    <a:pt x="92" y="620"/>
                  </a:lnTo>
                  <a:lnTo>
                    <a:pt x="92" y="618"/>
                  </a:lnTo>
                  <a:lnTo>
                    <a:pt x="93" y="617"/>
                  </a:lnTo>
                  <a:lnTo>
                    <a:pt x="97" y="617"/>
                  </a:lnTo>
                  <a:lnTo>
                    <a:pt x="99" y="617"/>
                  </a:lnTo>
                  <a:lnTo>
                    <a:pt x="100" y="616"/>
                  </a:lnTo>
                  <a:lnTo>
                    <a:pt x="100" y="614"/>
                  </a:lnTo>
                  <a:lnTo>
                    <a:pt x="102" y="605"/>
                  </a:lnTo>
                  <a:lnTo>
                    <a:pt x="103" y="598"/>
                  </a:lnTo>
                  <a:lnTo>
                    <a:pt x="104" y="597"/>
                  </a:lnTo>
                  <a:lnTo>
                    <a:pt x="106" y="597"/>
                  </a:lnTo>
                  <a:lnTo>
                    <a:pt x="113" y="594"/>
                  </a:lnTo>
                  <a:lnTo>
                    <a:pt x="118" y="593"/>
                  </a:lnTo>
                  <a:lnTo>
                    <a:pt x="120" y="592"/>
                  </a:lnTo>
                  <a:lnTo>
                    <a:pt x="121" y="591"/>
                  </a:lnTo>
                  <a:lnTo>
                    <a:pt x="125" y="585"/>
                  </a:lnTo>
                  <a:lnTo>
                    <a:pt x="128" y="582"/>
                  </a:lnTo>
                  <a:lnTo>
                    <a:pt x="129" y="581"/>
                  </a:lnTo>
                  <a:lnTo>
                    <a:pt x="129" y="579"/>
                  </a:lnTo>
                  <a:lnTo>
                    <a:pt x="131" y="570"/>
                  </a:lnTo>
                  <a:lnTo>
                    <a:pt x="132" y="563"/>
                  </a:lnTo>
                  <a:lnTo>
                    <a:pt x="133" y="562"/>
                  </a:lnTo>
                  <a:lnTo>
                    <a:pt x="134" y="560"/>
                  </a:lnTo>
                  <a:lnTo>
                    <a:pt x="137" y="553"/>
                  </a:lnTo>
                  <a:lnTo>
                    <a:pt x="140" y="549"/>
                  </a:lnTo>
                  <a:lnTo>
                    <a:pt x="141" y="548"/>
                  </a:lnTo>
                  <a:lnTo>
                    <a:pt x="143" y="547"/>
                  </a:lnTo>
                  <a:lnTo>
                    <a:pt x="148" y="544"/>
                  </a:lnTo>
                  <a:lnTo>
                    <a:pt x="151" y="541"/>
                  </a:lnTo>
                  <a:lnTo>
                    <a:pt x="152" y="540"/>
                  </a:lnTo>
                  <a:lnTo>
                    <a:pt x="153" y="537"/>
                  </a:lnTo>
                  <a:lnTo>
                    <a:pt x="157" y="525"/>
                  </a:lnTo>
                  <a:lnTo>
                    <a:pt x="159" y="515"/>
                  </a:lnTo>
                  <a:lnTo>
                    <a:pt x="160" y="514"/>
                  </a:lnTo>
                  <a:lnTo>
                    <a:pt x="161" y="514"/>
                  </a:lnTo>
                  <a:lnTo>
                    <a:pt x="164" y="514"/>
                  </a:lnTo>
                  <a:lnTo>
                    <a:pt x="167" y="514"/>
                  </a:lnTo>
                  <a:lnTo>
                    <a:pt x="168" y="513"/>
                  </a:lnTo>
                  <a:lnTo>
                    <a:pt x="169" y="512"/>
                  </a:lnTo>
                  <a:lnTo>
                    <a:pt x="173" y="509"/>
                  </a:lnTo>
                  <a:lnTo>
                    <a:pt x="176" y="505"/>
                  </a:lnTo>
                  <a:lnTo>
                    <a:pt x="178" y="504"/>
                  </a:lnTo>
                  <a:lnTo>
                    <a:pt x="179" y="504"/>
                  </a:lnTo>
                  <a:lnTo>
                    <a:pt x="183" y="503"/>
                  </a:lnTo>
                  <a:lnTo>
                    <a:pt x="186" y="503"/>
                  </a:lnTo>
                  <a:lnTo>
                    <a:pt x="187" y="502"/>
                  </a:lnTo>
                  <a:lnTo>
                    <a:pt x="196" y="499"/>
                  </a:lnTo>
                  <a:lnTo>
                    <a:pt x="200" y="497"/>
                  </a:lnTo>
                  <a:lnTo>
                    <a:pt x="202" y="495"/>
                  </a:lnTo>
                  <a:lnTo>
                    <a:pt x="203" y="495"/>
                  </a:lnTo>
                  <a:lnTo>
                    <a:pt x="208" y="495"/>
                  </a:lnTo>
                  <a:lnTo>
                    <a:pt x="213" y="495"/>
                  </a:lnTo>
                  <a:lnTo>
                    <a:pt x="214" y="494"/>
                  </a:lnTo>
                  <a:lnTo>
                    <a:pt x="216" y="494"/>
                  </a:lnTo>
                  <a:lnTo>
                    <a:pt x="222" y="491"/>
                  </a:lnTo>
                  <a:lnTo>
                    <a:pt x="228" y="490"/>
                  </a:lnTo>
                  <a:lnTo>
                    <a:pt x="229" y="489"/>
                  </a:lnTo>
                  <a:lnTo>
                    <a:pt x="230" y="488"/>
                  </a:lnTo>
                  <a:lnTo>
                    <a:pt x="237" y="482"/>
                  </a:lnTo>
                  <a:lnTo>
                    <a:pt x="241" y="479"/>
                  </a:lnTo>
                  <a:lnTo>
                    <a:pt x="242" y="478"/>
                  </a:lnTo>
                  <a:lnTo>
                    <a:pt x="243" y="477"/>
                  </a:lnTo>
                  <a:lnTo>
                    <a:pt x="250" y="470"/>
                  </a:lnTo>
                  <a:lnTo>
                    <a:pt x="254" y="466"/>
                  </a:lnTo>
                  <a:lnTo>
                    <a:pt x="255" y="465"/>
                  </a:lnTo>
                  <a:lnTo>
                    <a:pt x="256" y="464"/>
                  </a:lnTo>
                  <a:lnTo>
                    <a:pt x="262" y="458"/>
                  </a:lnTo>
                  <a:lnTo>
                    <a:pt x="266" y="455"/>
                  </a:lnTo>
                  <a:lnTo>
                    <a:pt x="267" y="454"/>
                  </a:lnTo>
                  <a:lnTo>
                    <a:pt x="270" y="452"/>
                  </a:lnTo>
                  <a:lnTo>
                    <a:pt x="282" y="443"/>
                  </a:lnTo>
                  <a:lnTo>
                    <a:pt x="291" y="436"/>
                  </a:lnTo>
                  <a:lnTo>
                    <a:pt x="292" y="435"/>
                  </a:lnTo>
                  <a:lnTo>
                    <a:pt x="293" y="433"/>
                  </a:lnTo>
                  <a:lnTo>
                    <a:pt x="300" y="427"/>
                  </a:lnTo>
                  <a:lnTo>
                    <a:pt x="304" y="422"/>
                  </a:lnTo>
                  <a:lnTo>
                    <a:pt x="305" y="421"/>
                  </a:lnTo>
                  <a:lnTo>
                    <a:pt x="308" y="419"/>
                  </a:lnTo>
                  <a:lnTo>
                    <a:pt x="316" y="412"/>
                  </a:lnTo>
                  <a:lnTo>
                    <a:pt x="323" y="407"/>
                  </a:lnTo>
                  <a:lnTo>
                    <a:pt x="324" y="406"/>
                  </a:lnTo>
                  <a:lnTo>
                    <a:pt x="327" y="404"/>
                  </a:lnTo>
                  <a:lnTo>
                    <a:pt x="339" y="396"/>
                  </a:lnTo>
                  <a:lnTo>
                    <a:pt x="348" y="390"/>
                  </a:lnTo>
                  <a:lnTo>
                    <a:pt x="349" y="389"/>
                  </a:lnTo>
                  <a:lnTo>
                    <a:pt x="349" y="387"/>
                  </a:lnTo>
                  <a:lnTo>
                    <a:pt x="350" y="381"/>
                  </a:lnTo>
                  <a:lnTo>
                    <a:pt x="351" y="375"/>
                  </a:lnTo>
                  <a:lnTo>
                    <a:pt x="352" y="374"/>
                  </a:lnTo>
                  <a:lnTo>
                    <a:pt x="354" y="373"/>
                  </a:lnTo>
                  <a:lnTo>
                    <a:pt x="357" y="370"/>
                  </a:lnTo>
                  <a:lnTo>
                    <a:pt x="359" y="366"/>
                  </a:lnTo>
                  <a:lnTo>
                    <a:pt x="360" y="365"/>
                  </a:lnTo>
                  <a:lnTo>
                    <a:pt x="361" y="364"/>
                  </a:lnTo>
                  <a:lnTo>
                    <a:pt x="367" y="359"/>
                  </a:lnTo>
                  <a:lnTo>
                    <a:pt x="371" y="355"/>
                  </a:lnTo>
                  <a:lnTo>
                    <a:pt x="372" y="354"/>
                  </a:lnTo>
                  <a:lnTo>
                    <a:pt x="373" y="353"/>
                  </a:lnTo>
                  <a:lnTo>
                    <a:pt x="378" y="350"/>
                  </a:lnTo>
                  <a:lnTo>
                    <a:pt x="381" y="348"/>
                  </a:lnTo>
                  <a:lnTo>
                    <a:pt x="382" y="347"/>
                  </a:lnTo>
                  <a:lnTo>
                    <a:pt x="383" y="347"/>
                  </a:lnTo>
                  <a:lnTo>
                    <a:pt x="389" y="346"/>
                  </a:lnTo>
                  <a:lnTo>
                    <a:pt x="392" y="346"/>
                  </a:lnTo>
                  <a:lnTo>
                    <a:pt x="393" y="345"/>
                  </a:lnTo>
                  <a:lnTo>
                    <a:pt x="395" y="343"/>
                  </a:lnTo>
                  <a:lnTo>
                    <a:pt x="403" y="337"/>
                  </a:lnTo>
                  <a:lnTo>
                    <a:pt x="409" y="332"/>
                  </a:lnTo>
                  <a:lnTo>
                    <a:pt x="410" y="331"/>
                  </a:lnTo>
                  <a:lnTo>
                    <a:pt x="411" y="330"/>
                  </a:lnTo>
                  <a:lnTo>
                    <a:pt x="417" y="324"/>
                  </a:lnTo>
                  <a:lnTo>
                    <a:pt x="421" y="319"/>
                  </a:lnTo>
                  <a:lnTo>
                    <a:pt x="422" y="318"/>
                  </a:lnTo>
                  <a:lnTo>
                    <a:pt x="423" y="317"/>
                  </a:lnTo>
                  <a:lnTo>
                    <a:pt x="427" y="313"/>
                  </a:lnTo>
                  <a:lnTo>
                    <a:pt x="429" y="310"/>
                  </a:lnTo>
                  <a:lnTo>
                    <a:pt x="430" y="308"/>
                  </a:lnTo>
                  <a:lnTo>
                    <a:pt x="431" y="306"/>
                  </a:lnTo>
                  <a:lnTo>
                    <a:pt x="434" y="300"/>
                  </a:lnTo>
                  <a:lnTo>
                    <a:pt x="438" y="295"/>
                  </a:lnTo>
                  <a:lnTo>
                    <a:pt x="439" y="294"/>
                  </a:lnTo>
                  <a:lnTo>
                    <a:pt x="440" y="293"/>
                  </a:lnTo>
                  <a:lnTo>
                    <a:pt x="445" y="287"/>
                  </a:lnTo>
                  <a:lnTo>
                    <a:pt x="449" y="282"/>
                  </a:lnTo>
                  <a:lnTo>
                    <a:pt x="450" y="281"/>
                  </a:lnTo>
                  <a:lnTo>
                    <a:pt x="450" y="280"/>
                  </a:lnTo>
                  <a:lnTo>
                    <a:pt x="451" y="273"/>
                  </a:lnTo>
                  <a:lnTo>
                    <a:pt x="451" y="269"/>
                  </a:lnTo>
                  <a:lnTo>
                    <a:pt x="452" y="268"/>
                  </a:lnTo>
                  <a:lnTo>
                    <a:pt x="453" y="266"/>
                  </a:lnTo>
                  <a:lnTo>
                    <a:pt x="454" y="265"/>
                  </a:lnTo>
                  <a:lnTo>
                    <a:pt x="455" y="264"/>
                  </a:lnTo>
                  <a:lnTo>
                    <a:pt x="455" y="261"/>
                  </a:lnTo>
                  <a:lnTo>
                    <a:pt x="458" y="254"/>
                  </a:lnTo>
                  <a:lnTo>
                    <a:pt x="460" y="248"/>
                  </a:lnTo>
                  <a:lnTo>
                    <a:pt x="461" y="247"/>
                  </a:lnTo>
                  <a:lnTo>
                    <a:pt x="461" y="246"/>
                  </a:lnTo>
                  <a:lnTo>
                    <a:pt x="461" y="242"/>
                  </a:lnTo>
                  <a:lnTo>
                    <a:pt x="461" y="238"/>
                  </a:lnTo>
                  <a:lnTo>
                    <a:pt x="462" y="237"/>
                  </a:lnTo>
                  <a:lnTo>
                    <a:pt x="462" y="235"/>
                  </a:lnTo>
                  <a:lnTo>
                    <a:pt x="464" y="229"/>
                  </a:lnTo>
                  <a:lnTo>
                    <a:pt x="465" y="224"/>
                  </a:lnTo>
                  <a:lnTo>
                    <a:pt x="466" y="223"/>
                  </a:lnTo>
                  <a:lnTo>
                    <a:pt x="466" y="221"/>
                  </a:lnTo>
                  <a:lnTo>
                    <a:pt x="467" y="213"/>
                  </a:lnTo>
                  <a:lnTo>
                    <a:pt x="467" y="207"/>
                  </a:lnTo>
                  <a:lnTo>
                    <a:pt x="468" y="206"/>
                  </a:lnTo>
                  <a:lnTo>
                    <a:pt x="469" y="202"/>
                  </a:lnTo>
                  <a:lnTo>
                    <a:pt x="474" y="191"/>
                  </a:lnTo>
                  <a:lnTo>
                    <a:pt x="477" y="184"/>
                  </a:lnTo>
                  <a:lnTo>
                    <a:pt x="478" y="183"/>
                  </a:lnTo>
                  <a:lnTo>
                    <a:pt x="479" y="182"/>
                  </a:lnTo>
                  <a:lnTo>
                    <a:pt x="485" y="178"/>
                  </a:lnTo>
                  <a:lnTo>
                    <a:pt x="489" y="176"/>
                  </a:lnTo>
                  <a:lnTo>
                    <a:pt x="490" y="175"/>
                  </a:lnTo>
                  <a:lnTo>
                    <a:pt x="491" y="174"/>
                  </a:lnTo>
                  <a:lnTo>
                    <a:pt x="495" y="171"/>
                  </a:lnTo>
                  <a:lnTo>
                    <a:pt x="498" y="167"/>
                  </a:lnTo>
                  <a:lnTo>
                    <a:pt x="499" y="166"/>
                  </a:lnTo>
                  <a:lnTo>
                    <a:pt x="500" y="165"/>
                  </a:lnTo>
                  <a:lnTo>
                    <a:pt x="507" y="161"/>
                  </a:lnTo>
                  <a:lnTo>
                    <a:pt x="511" y="157"/>
                  </a:lnTo>
                  <a:lnTo>
                    <a:pt x="512" y="156"/>
                  </a:lnTo>
                  <a:lnTo>
                    <a:pt x="513" y="156"/>
                  </a:lnTo>
                  <a:lnTo>
                    <a:pt x="519" y="154"/>
                  </a:lnTo>
                  <a:lnTo>
                    <a:pt x="522" y="153"/>
                  </a:lnTo>
                  <a:lnTo>
                    <a:pt x="523" y="152"/>
                  </a:lnTo>
                  <a:lnTo>
                    <a:pt x="524" y="151"/>
                  </a:lnTo>
                  <a:lnTo>
                    <a:pt x="527" y="144"/>
                  </a:lnTo>
                  <a:lnTo>
                    <a:pt x="530" y="140"/>
                  </a:lnTo>
                  <a:lnTo>
                    <a:pt x="531" y="139"/>
                  </a:lnTo>
                  <a:lnTo>
                    <a:pt x="532" y="136"/>
                  </a:lnTo>
                  <a:lnTo>
                    <a:pt x="537" y="125"/>
                  </a:lnTo>
                  <a:lnTo>
                    <a:pt x="540" y="117"/>
                  </a:lnTo>
                  <a:lnTo>
                    <a:pt x="542" y="116"/>
                  </a:lnTo>
                  <a:lnTo>
                    <a:pt x="542" y="114"/>
                  </a:lnTo>
                  <a:lnTo>
                    <a:pt x="544" y="107"/>
                  </a:lnTo>
                  <a:lnTo>
                    <a:pt x="545" y="103"/>
                  </a:lnTo>
                  <a:lnTo>
                    <a:pt x="546" y="102"/>
                  </a:lnTo>
                  <a:lnTo>
                    <a:pt x="546" y="99"/>
                  </a:lnTo>
                  <a:lnTo>
                    <a:pt x="548" y="90"/>
                  </a:lnTo>
                  <a:lnTo>
                    <a:pt x="549" y="82"/>
                  </a:lnTo>
                  <a:lnTo>
                    <a:pt x="550" y="81"/>
                  </a:lnTo>
                  <a:lnTo>
                    <a:pt x="550" y="80"/>
                  </a:lnTo>
                  <a:lnTo>
                    <a:pt x="550" y="74"/>
                  </a:lnTo>
                  <a:lnTo>
                    <a:pt x="550" y="70"/>
                  </a:lnTo>
                  <a:lnTo>
                    <a:pt x="551" y="69"/>
                  </a:lnTo>
                  <a:lnTo>
                    <a:pt x="555" y="69"/>
                  </a:lnTo>
                  <a:lnTo>
                    <a:pt x="556" y="69"/>
                  </a:lnTo>
                  <a:lnTo>
                    <a:pt x="557" y="69"/>
                  </a:lnTo>
                  <a:lnTo>
                    <a:pt x="557" y="69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70320" y="5930280"/>
              <a:ext cx="13320" cy="14400"/>
            </a:xfrm>
            <a:custGeom>
              <a:avLst/>
              <a:gdLst/>
              <a:ahLst/>
              <a:rect l="l" t="t" r="r" b="b"/>
              <a:pathLst>
                <a:path w="58" h="85">
                  <a:moveTo>
                    <a:pt x="42" y="0"/>
                  </a:moveTo>
                  <a:lnTo>
                    <a:pt x="42" y="1"/>
                  </a:lnTo>
                  <a:lnTo>
                    <a:pt x="42" y="2"/>
                  </a:lnTo>
                  <a:lnTo>
                    <a:pt x="42" y="5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6" y="13"/>
                  </a:lnTo>
                  <a:lnTo>
                    <a:pt x="47" y="15"/>
                  </a:lnTo>
                  <a:lnTo>
                    <a:pt x="48" y="15"/>
                  </a:lnTo>
                  <a:lnTo>
                    <a:pt x="50" y="19"/>
                  </a:lnTo>
                  <a:lnTo>
                    <a:pt x="51" y="21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53" y="26"/>
                  </a:lnTo>
                  <a:lnTo>
                    <a:pt x="53" y="28"/>
                  </a:lnTo>
                  <a:lnTo>
                    <a:pt x="54" y="28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48" y="30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44" y="32"/>
                  </a:lnTo>
                  <a:lnTo>
                    <a:pt x="44" y="34"/>
                  </a:lnTo>
                  <a:lnTo>
                    <a:pt x="51" y="36"/>
                  </a:lnTo>
                  <a:lnTo>
                    <a:pt x="54" y="37"/>
                  </a:lnTo>
                  <a:lnTo>
                    <a:pt x="55" y="37"/>
                  </a:lnTo>
                  <a:lnTo>
                    <a:pt x="56" y="40"/>
                  </a:lnTo>
                  <a:lnTo>
                    <a:pt x="58" y="41"/>
                  </a:lnTo>
                  <a:lnTo>
                    <a:pt x="58" y="43"/>
                  </a:lnTo>
                  <a:lnTo>
                    <a:pt x="56" y="47"/>
                  </a:lnTo>
                  <a:lnTo>
                    <a:pt x="56" y="50"/>
                  </a:lnTo>
                  <a:lnTo>
                    <a:pt x="58" y="50"/>
                  </a:lnTo>
                  <a:lnTo>
                    <a:pt x="56" y="51"/>
                  </a:lnTo>
                  <a:lnTo>
                    <a:pt x="52" y="52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49" y="54"/>
                  </a:lnTo>
                  <a:lnTo>
                    <a:pt x="48" y="55"/>
                  </a:lnTo>
                  <a:lnTo>
                    <a:pt x="44" y="61"/>
                  </a:lnTo>
                  <a:lnTo>
                    <a:pt x="41" y="64"/>
                  </a:lnTo>
                  <a:lnTo>
                    <a:pt x="41" y="64"/>
                  </a:lnTo>
                  <a:lnTo>
                    <a:pt x="40" y="65"/>
                  </a:lnTo>
                  <a:lnTo>
                    <a:pt x="36" y="66"/>
                  </a:lnTo>
                  <a:lnTo>
                    <a:pt x="33" y="67"/>
                  </a:lnTo>
                  <a:lnTo>
                    <a:pt x="33" y="67"/>
                  </a:lnTo>
                  <a:lnTo>
                    <a:pt x="28" y="64"/>
                  </a:lnTo>
                  <a:lnTo>
                    <a:pt x="26" y="63"/>
                  </a:lnTo>
                  <a:lnTo>
                    <a:pt x="26" y="62"/>
                  </a:lnTo>
                  <a:lnTo>
                    <a:pt x="25" y="63"/>
                  </a:lnTo>
                  <a:lnTo>
                    <a:pt x="21" y="64"/>
                  </a:lnTo>
                  <a:lnTo>
                    <a:pt x="20" y="65"/>
                  </a:lnTo>
                  <a:lnTo>
                    <a:pt x="20" y="65"/>
                  </a:lnTo>
                  <a:lnTo>
                    <a:pt x="19" y="66"/>
                  </a:lnTo>
                  <a:lnTo>
                    <a:pt x="16" y="71"/>
                  </a:lnTo>
                  <a:lnTo>
                    <a:pt x="15" y="73"/>
                  </a:lnTo>
                  <a:lnTo>
                    <a:pt x="15" y="73"/>
                  </a:lnTo>
                  <a:lnTo>
                    <a:pt x="14" y="75"/>
                  </a:lnTo>
                  <a:lnTo>
                    <a:pt x="12" y="81"/>
                  </a:lnTo>
                  <a:lnTo>
                    <a:pt x="11" y="85"/>
                  </a:lnTo>
                  <a:lnTo>
                    <a:pt x="11" y="85"/>
                  </a:lnTo>
                  <a:lnTo>
                    <a:pt x="9" y="85"/>
                  </a:lnTo>
                  <a:lnTo>
                    <a:pt x="8" y="85"/>
                  </a:lnTo>
                  <a:lnTo>
                    <a:pt x="5" y="84"/>
                  </a:lnTo>
                  <a:lnTo>
                    <a:pt x="3" y="84"/>
                  </a:lnTo>
                  <a:lnTo>
                    <a:pt x="3" y="83"/>
                  </a:lnTo>
                  <a:lnTo>
                    <a:pt x="2" y="82"/>
                  </a:lnTo>
                  <a:lnTo>
                    <a:pt x="1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3" y="64"/>
                  </a:lnTo>
                  <a:lnTo>
                    <a:pt x="5" y="58"/>
                  </a:lnTo>
                  <a:lnTo>
                    <a:pt x="6" y="56"/>
                  </a:lnTo>
                  <a:lnTo>
                    <a:pt x="7" y="54"/>
                  </a:lnTo>
                  <a:lnTo>
                    <a:pt x="8" y="53"/>
                  </a:lnTo>
                  <a:lnTo>
                    <a:pt x="9" y="52"/>
                  </a:lnTo>
                  <a:lnTo>
                    <a:pt x="12" y="48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5" y="39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20" y="28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3" y="23"/>
                  </a:lnTo>
                  <a:lnTo>
                    <a:pt x="21" y="16"/>
                  </a:lnTo>
                  <a:lnTo>
                    <a:pt x="21" y="12"/>
                  </a:lnTo>
                  <a:lnTo>
                    <a:pt x="23" y="11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5" y="5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3"/>
                  </a:lnTo>
                  <a:lnTo>
                    <a:pt x="41" y="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054160" y="4262400"/>
            <a:ext cx="426960" cy="422280"/>
          </a:xfrm>
          <a:custGeom>
            <a:avLst/>
            <a:gdLst/>
            <a:ahLst/>
            <a:rect l="l" t="t" r="r" b="b"/>
            <a:pathLst>
              <a:path w="1483" h="1543">
                <a:moveTo>
                  <a:pt x="9" y="14"/>
                </a:moveTo>
                <a:lnTo>
                  <a:pt x="4" y="19"/>
                </a:lnTo>
                <a:lnTo>
                  <a:pt x="3" y="23"/>
                </a:lnTo>
                <a:lnTo>
                  <a:pt x="1" y="27"/>
                </a:lnTo>
                <a:lnTo>
                  <a:pt x="0" y="32"/>
                </a:lnTo>
                <a:lnTo>
                  <a:pt x="1" y="37"/>
                </a:lnTo>
                <a:lnTo>
                  <a:pt x="3" y="48"/>
                </a:lnTo>
                <a:lnTo>
                  <a:pt x="9" y="58"/>
                </a:lnTo>
                <a:lnTo>
                  <a:pt x="13" y="65"/>
                </a:lnTo>
                <a:lnTo>
                  <a:pt x="17" y="68"/>
                </a:lnTo>
                <a:lnTo>
                  <a:pt x="26" y="78"/>
                </a:lnTo>
                <a:lnTo>
                  <a:pt x="45" y="100"/>
                </a:lnTo>
                <a:lnTo>
                  <a:pt x="78" y="143"/>
                </a:lnTo>
                <a:lnTo>
                  <a:pt x="116" y="181"/>
                </a:lnTo>
                <a:lnTo>
                  <a:pt x="127" y="188"/>
                </a:lnTo>
                <a:lnTo>
                  <a:pt x="153" y="205"/>
                </a:lnTo>
                <a:lnTo>
                  <a:pt x="201" y="242"/>
                </a:lnTo>
                <a:lnTo>
                  <a:pt x="281" y="329"/>
                </a:lnTo>
                <a:lnTo>
                  <a:pt x="345" y="427"/>
                </a:lnTo>
                <a:lnTo>
                  <a:pt x="359" y="452"/>
                </a:lnTo>
                <a:lnTo>
                  <a:pt x="385" y="461"/>
                </a:lnTo>
                <a:lnTo>
                  <a:pt x="432" y="484"/>
                </a:lnTo>
                <a:lnTo>
                  <a:pt x="466" y="520"/>
                </a:lnTo>
                <a:lnTo>
                  <a:pt x="492" y="563"/>
                </a:lnTo>
                <a:lnTo>
                  <a:pt x="511" y="613"/>
                </a:lnTo>
                <a:lnTo>
                  <a:pt x="524" y="666"/>
                </a:lnTo>
                <a:lnTo>
                  <a:pt x="529" y="692"/>
                </a:lnTo>
                <a:lnTo>
                  <a:pt x="532" y="698"/>
                </a:lnTo>
                <a:lnTo>
                  <a:pt x="535" y="704"/>
                </a:lnTo>
                <a:lnTo>
                  <a:pt x="543" y="713"/>
                </a:lnTo>
                <a:lnTo>
                  <a:pt x="550" y="716"/>
                </a:lnTo>
                <a:lnTo>
                  <a:pt x="569" y="720"/>
                </a:lnTo>
                <a:lnTo>
                  <a:pt x="604" y="734"/>
                </a:lnTo>
                <a:lnTo>
                  <a:pt x="634" y="759"/>
                </a:lnTo>
                <a:lnTo>
                  <a:pt x="659" y="788"/>
                </a:lnTo>
                <a:lnTo>
                  <a:pt x="700" y="855"/>
                </a:lnTo>
                <a:lnTo>
                  <a:pt x="708" y="871"/>
                </a:lnTo>
                <a:lnTo>
                  <a:pt x="711" y="881"/>
                </a:lnTo>
                <a:lnTo>
                  <a:pt x="720" y="898"/>
                </a:lnTo>
                <a:lnTo>
                  <a:pt x="737" y="934"/>
                </a:lnTo>
                <a:lnTo>
                  <a:pt x="758" y="972"/>
                </a:lnTo>
                <a:lnTo>
                  <a:pt x="763" y="981"/>
                </a:lnTo>
                <a:lnTo>
                  <a:pt x="765" y="985"/>
                </a:lnTo>
                <a:lnTo>
                  <a:pt x="765" y="988"/>
                </a:lnTo>
                <a:lnTo>
                  <a:pt x="766" y="997"/>
                </a:lnTo>
                <a:lnTo>
                  <a:pt x="765" y="1005"/>
                </a:lnTo>
                <a:lnTo>
                  <a:pt x="765" y="1023"/>
                </a:lnTo>
                <a:lnTo>
                  <a:pt x="768" y="1031"/>
                </a:lnTo>
                <a:lnTo>
                  <a:pt x="771" y="1040"/>
                </a:lnTo>
                <a:lnTo>
                  <a:pt x="779" y="1055"/>
                </a:lnTo>
                <a:lnTo>
                  <a:pt x="789" y="1065"/>
                </a:lnTo>
                <a:lnTo>
                  <a:pt x="801" y="1075"/>
                </a:lnTo>
                <a:lnTo>
                  <a:pt x="826" y="1097"/>
                </a:lnTo>
                <a:lnTo>
                  <a:pt x="833" y="1102"/>
                </a:lnTo>
                <a:lnTo>
                  <a:pt x="834" y="1107"/>
                </a:lnTo>
                <a:lnTo>
                  <a:pt x="834" y="1110"/>
                </a:lnTo>
                <a:lnTo>
                  <a:pt x="834" y="1115"/>
                </a:lnTo>
                <a:lnTo>
                  <a:pt x="834" y="1127"/>
                </a:lnTo>
                <a:lnTo>
                  <a:pt x="837" y="1134"/>
                </a:lnTo>
                <a:lnTo>
                  <a:pt x="847" y="1152"/>
                </a:lnTo>
                <a:lnTo>
                  <a:pt x="872" y="1182"/>
                </a:lnTo>
                <a:lnTo>
                  <a:pt x="929" y="1233"/>
                </a:lnTo>
                <a:lnTo>
                  <a:pt x="991" y="1281"/>
                </a:lnTo>
                <a:lnTo>
                  <a:pt x="1005" y="1294"/>
                </a:lnTo>
                <a:lnTo>
                  <a:pt x="1008" y="1298"/>
                </a:lnTo>
                <a:lnTo>
                  <a:pt x="1016" y="1308"/>
                </a:lnTo>
                <a:lnTo>
                  <a:pt x="1031" y="1327"/>
                </a:lnTo>
                <a:lnTo>
                  <a:pt x="1047" y="1346"/>
                </a:lnTo>
                <a:lnTo>
                  <a:pt x="1053" y="1349"/>
                </a:lnTo>
                <a:lnTo>
                  <a:pt x="1056" y="1353"/>
                </a:lnTo>
                <a:lnTo>
                  <a:pt x="1065" y="1359"/>
                </a:lnTo>
                <a:lnTo>
                  <a:pt x="1085" y="1370"/>
                </a:lnTo>
                <a:lnTo>
                  <a:pt x="1105" y="1379"/>
                </a:lnTo>
                <a:lnTo>
                  <a:pt x="1111" y="1381"/>
                </a:lnTo>
                <a:lnTo>
                  <a:pt x="1124" y="1388"/>
                </a:lnTo>
                <a:lnTo>
                  <a:pt x="1137" y="1397"/>
                </a:lnTo>
                <a:lnTo>
                  <a:pt x="1156" y="1420"/>
                </a:lnTo>
                <a:lnTo>
                  <a:pt x="1173" y="1446"/>
                </a:lnTo>
                <a:lnTo>
                  <a:pt x="1208" y="1497"/>
                </a:lnTo>
                <a:lnTo>
                  <a:pt x="1233" y="1515"/>
                </a:lnTo>
                <a:lnTo>
                  <a:pt x="1231" y="1511"/>
                </a:lnTo>
                <a:lnTo>
                  <a:pt x="1231" y="1501"/>
                </a:lnTo>
                <a:lnTo>
                  <a:pt x="1233" y="1492"/>
                </a:lnTo>
                <a:lnTo>
                  <a:pt x="1236" y="1485"/>
                </a:lnTo>
                <a:lnTo>
                  <a:pt x="1240" y="1478"/>
                </a:lnTo>
                <a:lnTo>
                  <a:pt x="1246" y="1470"/>
                </a:lnTo>
                <a:lnTo>
                  <a:pt x="1250" y="1465"/>
                </a:lnTo>
                <a:lnTo>
                  <a:pt x="1259" y="1470"/>
                </a:lnTo>
                <a:lnTo>
                  <a:pt x="1275" y="1478"/>
                </a:lnTo>
                <a:lnTo>
                  <a:pt x="1288" y="1482"/>
                </a:lnTo>
                <a:lnTo>
                  <a:pt x="1301" y="1479"/>
                </a:lnTo>
                <a:lnTo>
                  <a:pt x="1313" y="1472"/>
                </a:lnTo>
                <a:lnTo>
                  <a:pt x="1323" y="1457"/>
                </a:lnTo>
                <a:lnTo>
                  <a:pt x="1328" y="1447"/>
                </a:lnTo>
                <a:lnTo>
                  <a:pt x="1336" y="1453"/>
                </a:lnTo>
                <a:lnTo>
                  <a:pt x="1349" y="1466"/>
                </a:lnTo>
                <a:lnTo>
                  <a:pt x="1360" y="1481"/>
                </a:lnTo>
                <a:lnTo>
                  <a:pt x="1378" y="1514"/>
                </a:lnTo>
                <a:lnTo>
                  <a:pt x="1391" y="1540"/>
                </a:lnTo>
                <a:lnTo>
                  <a:pt x="1392" y="1543"/>
                </a:lnTo>
                <a:lnTo>
                  <a:pt x="1394" y="1543"/>
                </a:lnTo>
                <a:lnTo>
                  <a:pt x="1395" y="1543"/>
                </a:lnTo>
                <a:lnTo>
                  <a:pt x="1399" y="1543"/>
                </a:lnTo>
                <a:lnTo>
                  <a:pt x="1408" y="1543"/>
                </a:lnTo>
                <a:lnTo>
                  <a:pt x="1414" y="1541"/>
                </a:lnTo>
                <a:lnTo>
                  <a:pt x="1411" y="1531"/>
                </a:lnTo>
                <a:lnTo>
                  <a:pt x="1408" y="1510"/>
                </a:lnTo>
                <a:lnTo>
                  <a:pt x="1408" y="1466"/>
                </a:lnTo>
                <a:lnTo>
                  <a:pt x="1415" y="1423"/>
                </a:lnTo>
                <a:lnTo>
                  <a:pt x="1420" y="1411"/>
                </a:lnTo>
                <a:lnTo>
                  <a:pt x="1420" y="1404"/>
                </a:lnTo>
                <a:lnTo>
                  <a:pt x="1421" y="1397"/>
                </a:lnTo>
                <a:lnTo>
                  <a:pt x="1418" y="1382"/>
                </a:lnTo>
                <a:lnTo>
                  <a:pt x="1412" y="1366"/>
                </a:lnTo>
                <a:lnTo>
                  <a:pt x="1405" y="1334"/>
                </a:lnTo>
                <a:lnTo>
                  <a:pt x="1407" y="1317"/>
                </a:lnTo>
                <a:lnTo>
                  <a:pt x="1408" y="1313"/>
                </a:lnTo>
                <a:lnTo>
                  <a:pt x="1412" y="1302"/>
                </a:lnTo>
                <a:lnTo>
                  <a:pt x="1420" y="1292"/>
                </a:lnTo>
                <a:lnTo>
                  <a:pt x="1430" y="1273"/>
                </a:lnTo>
                <a:lnTo>
                  <a:pt x="1430" y="1257"/>
                </a:lnTo>
                <a:lnTo>
                  <a:pt x="1427" y="1253"/>
                </a:lnTo>
                <a:lnTo>
                  <a:pt x="1421" y="1244"/>
                </a:lnTo>
                <a:lnTo>
                  <a:pt x="1410" y="1228"/>
                </a:lnTo>
                <a:lnTo>
                  <a:pt x="1407" y="1220"/>
                </a:lnTo>
                <a:lnTo>
                  <a:pt x="1405" y="1211"/>
                </a:lnTo>
                <a:lnTo>
                  <a:pt x="1408" y="1205"/>
                </a:lnTo>
                <a:lnTo>
                  <a:pt x="1408" y="1204"/>
                </a:lnTo>
                <a:lnTo>
                  <a:pt x="1410" y="1200"/>
                </a:lnTo>
                <a:lnTo>
                  <a:pt x="1417" y="1191"/>
                </a:lnTo>
                <a:lnTo>
                  <a:pt x="1421" y="1188"/>
                </a:lnTo>
                <a:lnTo>
                  <a:pt x="1428" y="1188"/>
                </a:lnTo>
                <a:lnTo>
                  <a:pt x="1433" y="1188"/>
                </a:lnTo>
                <a:lnTo>
                  <a:pt x="1433" y="1184"/>
                </a:lnTo>
                <a:lnTo>
                  <a:pt x="1431" y="1172"/>
                </a:lnTo>
                <a:lnTo>
                  <a:pt x="1427" y="1150"/>
                </a:lnTo>
                <a:lnTo>
                  <a:pt x="1427" y="1140"/>
                </a:lnTo>
                <a:lnTo>
                  <a:pt x="1430" y="1134"/>
                </a:lnTo>
                <a:lnTo>
                  <a:pt x="1434" y="1131"/>
                </a:lnTo>
                <a:lnTo>
                  <a:pt x="1440" y="1129"/>
                </a:lnTo>
                <a:lnTo>
                  <a:pt x="1450" y="1121"/>
                </a:lnTo>
                <a:lnTo>
                  <a:pt x="1457" y="1114"/>
                </a:lnTo>
                <a:lnTo>
                  <a:pt x="1462" y="1105"/>
                </a:lnTo>
                <a:lnTo>
                  <a:pt x="1476" y="1088"/>
                </a:lnTo>
                <a:lnTo>
                  <a:pt x="1483" y="1084"/>
                </a:lnTo>
                <a:lnTo>
                  <a:pt x="1479" y="1085"/>
                </a:lnTo>
                <a:lnTo>
                  <a:pt x="1473" y="1085"/>
                </a:lnTo>
                <a:lnTo>
                  <a:pt x="1462" y="1085"/>
                </a:lnTo>
                <a:lnTo>
                  <a:pt x="1452" y="1084"/>
                </a:lnTo>
                <a:lnTo>
                  <a:pt x="1450" y="1082"/>
                </a:lnTo>
                <a:lnTo>
                  <a:pt x="1440" y="1078"/>
                </a:lnTo>
                <a:lnTo>
                  <a:pt x="1423" y="1066"/>
                </a:lnTo>
                <a:lnTo>
                  <a:pt x="1386" y="1043"/>
                </a:lnTo>
                <a:lnTo>
                  <a:pt x="1352" y="1023"/>
                </a:lnTo>
                <a:lnTo>
                  <a:pt x="1343" y="1018"/>
                </a:lnTo>
                <a:lnTo>
                  <a:pt x="1336" y="1017"/>
                </a:lnTo>
                <a:lnTo>
                  <a:pt x="1327" y="1015"/>
                </a:lnTo>
                <a:lnTo>
                  <a:pt x="1311" y="1017"/>
                </a:lnTo>
                <a:lnTo>
                  <a:pt x="1295" y="1023"/>
                </a:lnTo>
                <a:lnTo>
                  <a:pt x="1279" y="1031"/>
                </a:lnTo>
                <a:lnTo>
                  <a:pt x="1268" y="1043"/>
                </a:lnTo>
                <a:lnTo>
                  <a:pt x="1259" y="1058"/>
                </a:lnTo>
                <a:lnTo>
                  <a:pt x="1259" y="1058"/>
                </a:lnTo>
                <a:lnTo>
                  <a:pt x="1253" y="1050"/>
                </a:lnTo>
                <a:lnTo>
                  <a:pt x="1250" y="1040"/>
                </a:lnTo>
                <a:lnTo>
                  <a:pt x="1249" y="1030"/>
                </a:lnTo>
                <a:lnTo>
                  <a:pt x="1249" y="1011"/>
                </a:lnTo>
                <a:lnTo>
                  <a:pt x="1247" y="992"/>
                </a:lnTo>
                <a:lnTo>
                  <a:pt x="1246" y="985"/>
                </a:lnTo>
                <a:lnTo>
                  <a:pt x="1243" y="979"/>
                </a:lnTo>
                <a:lnTo>
                  <a:pt x="1236" y="973"/>
                </a:lnTo>
                <a:lnTo>
                  <a:pt x="1227" y="972"/>
                </a:lnTo>
                <a:lnTo>
                  <a:pt x="1215" y="971"/>
                </a:lnTo>
                <a:lnTo>
                  <a:pt x="1215" y="971"/>
                </a:lnTo>
                <a:lnTo>
                  <a:pt x="1218" y="962"/>
                </a:lnTo>
                <a:lnTo>
                  <a:pt x="1221" y="942"/>
                </a:lnTo>
                <a:lnTo>
                  <a:pt x="1221" y="921"/>
                </a:lnTo>
                <a:lnTo>
                  <a:pt x="1215" y="881"/>
                </a:lnTo>
                <a:lnTo>
                  <a:pt x="1215" y="849"/>
                </a:lnTo>
                <a:lnTo>
                  <a:pt x="1205" y="855"/>
                </a:lnTo>
                <a:lnTo>
                  <a:pt x="1188" y="860"/>
                </a:lnTo>
                <a:lnTo>
                  <a:pt x="1169" y="862"/>
                </a:lnTo>
                <a:lnTo>
                  <a:pt x="1152" y="859"/>
                </a:lnTo>
                <a:lnTo>
                  <a:pt x="1136" y="853"/>
                </a:lnTo>
                <a:lnTo>
                  <a:pt x="1120" y="845"/>
                </a:lnTo>
                <a:lnTo>
                  <a:pt x="1114" y="839"/>
                </a:lnTo>
                <a:lnTo>
                  <a:pt x="1107" y="833"/>
                </a:lnTo>
                <a:lnTo>
                  <a:pt x="1102" y="827"/>
                </a:lnTo>
                <a:lnTo>
                  <a:pt x="1102" y="821"/>
                </a:lnTo>
                <a:lnTo>
                  <a:pt x="1102" y="817"/>
                </a:lnTo>
                <a:lnTo>
                  <a:pt x="1105" y="811"/>
                </a:lnTo>
                <a:lnTo>
                  <a:pt x="1108" y="807"/>
                </a:lnTo>
                <a:lnTo>
                  <a:pt x="1118" y="797"/>
                </a:lnTo>
                <a:lnTo>
                  <a:pt x="1129" y="787"/>
                </a:lnTo>
                <a:lnTo>
                  <a:pt x="1136" y="772"/>
                </a:lnTo>
                <a:lnTo>
                  <a:pt x="1137" y="772"/>
                </a:lnTo>
                <a:lnTo>
                  <a:pt x="1133" y="772"/>
                </a:lnTo>
                <a:lnTo>
                  <a:pt x="1126" y="772"/>
                </a:lnTo>
                <a:lnTo>
                  <a:pt x="1111" y="772"/>
                </a:lnTo>
                <a:lnTo>
                  <a:pt x="1097" y="772"/>
                </a:lnTo>
                <a:lnTo>
                  <a:pt x="1094" y="772"/>
                </a:lnTo>
                <a:lnTo>
                  <a:pt x="1098" y="769"/>
                </a:lnTo>
                <a:lnTo>
                  <a:pt x="1107" y="760"/>
                </a:lnTo>
                <a:lnTo>
                  <a:pt x="1121" y="745"/>
                </a:lnTo>
                <a:lnTo>
                  <a:pt x="1133" y="726"/>
                </a:lnTo>
                <a:lnTo>
                  <a:pt x="1137" y="720"/>
                </a:lnTo>
                <a:lnTo>
                  <a:pt x="1130" y="717"/>
                </a:lnTo>
                <a:lnTo>
                  <a:pt x="1117" y="710"/>
                </a:lnTo>
                <a:lnTo>
                  <a:pt x="1095" y="697"/>
                </a:lnTo>
                <a:lnTo>
                  <a:pt x="1085" y="688"/>
                </a:lnTo>
                <a:lnTo>
                  <a:pt x="1079" y="676"/>
                </a:lnTo>
                <a:lnTo>
                  <a:pt x="1078" y="668"/>
                </a:lnTo>
                <a:lnTo>
                  <a:pt x="1071" y="671"/>
                </a:lnTo>
                <a:lnTo>
                  <a:pt x="1063" y="674"/>
                </a:lnTo>
                <a:lnTo>
                  <a:pt x="1060" y="674"/>
                </a:lnTo>
                <a:lnTo>
                  <a:pt x="1059" y="674"/>
                </a:lnTo>
                <a:lnTo>
                  <a:pt x="1058" y="674"/>
                </a:lnTo>
                <a:lnTo>
                  <a:pt x="1050" y="676"/>
                </a:lnTo>
                <a:lnTo>
                  <a:pt x="1046" y="679"/>
                </a:lnTo>
                <a:lnTo>
                  <a:pt x="1049" y="679"/>
                </a:lnTo>
                <a:lnTo>
                  <a:pt x="1052" y="679"/>
                </a:lnTo>
                <a:lnTo>
                  <a:pt x="1055" y="679"/>
                </a:lnTo>
                <a:lnTo>
                  <a:pt x="1055" y="681"/>
                </a:lnTo>
                <a:lnTo>
                  <a:pt x="1052" y="682"/>
                </a:lnTo>
                <a:lnTo>
                  <a:pt x="1049" y="682"/>
                </a:lnTo>
                <a:lnTo>
                  <a:pt x="1047" y="681"/>
                </a:lnTo>
                <a:lnTo>
                  <a:pt x="1044" y="678"/>
                </a:lnTo>
                <a:lnTo>
                  <a:pt x="1042" y="675"/>
                </a:lnTo>
                <a:lnTo>
                  <a:pt x="1040" y="669"/>
                </a:lnTo>
                <a:lnTo>
                  <a:pt x="1040" y="669"/>
                </a:lnTo>
                <a:lnTo>
                  <a:pt x="1034" y="660"/>
                </a:lnTo>
                <a:lnTo>
                  <a:pt x="1024" y="646"/>
                </a:lnTo>
                <a:lnTo>
                  <a:pt x="1010" y="637"/>
                </a:lnTo>
                <a:lnTo>
                  <a:pt x="992" y="633"/>
                </a:lnTo>
                <a:lnTo>
                  <a:pt x="975" y="630"/>
                </a:lnTo>
                <a:lnTo>
                  <a:pt x="956" y="631"/>
                </a:lnTo>
                <a:lnTo>
                  <a:pt x="947" y="633"/>
                </a:lnTo>
                <a:lnTo>
                  <a:pt x="946" y="624"/>
                </a:lnTo>
                <a:lnTo>
                  <a:pt x="943" y="617"/>
                </a:lnTo>
                <a:lnTo>
                  <a:pt x="939" y="603"/>
                </a:lnTo>
                <a:lnTo>
                  <a:pt x="936" y="591"/>
                </a:lnTo>
                <a:lnTo>
                  <a:pt x="931" y="581"/>
                </a:lnTo>
                <a:lnTo>
                  <a:pt x="921" y="563"/>
                </a:lnTo>
                <a:lnTo>
                  <a:pt x="910" y="547"/>
                </a:lnTo>
                <a:lnTo>
                  <a:pt x="894" y="534"/>
                </a:lnTo>
                <a:lnTo>
                  <a:pt x="862" y="508"/>
                </a:lnTo>
                <a:lnTo>
                  <a:pt x="855" y="501"/>
                </a:lnTo>
                <a:lnTo>
                  <a:pt x="847" y="494"/>
                </a:lnTo>
                <a:lnTo>
                  <a:pt x="832" y="478"/>
                </a:lnTo>
                <a:lnTo>
                  <a:pt x="797" y="447"/>
                </a:lnTo>
                <a:lnTo>
                  <a:pt x="779" y="442"/>
                </a:lnTo>
                <a:lnTo>
                  <a:pt x="769" y="443"/>
                </a:lnTo>
                <a:lnTo>
                  <a:pt x="761" y="447"/>
                </a:lnTo>
                <a:lnTo>
                  <a:pt x="753" y="455"/>
                </a:lnTo>
                <a:lnTo>
                  <a:pt x="753" y="455"/>
                </a:lnTo>
                <a:lnTo>
                  <a:pt x="752" y="458"/>
                </a:lnTo>
                <a:lnTo>
                  <a:pt x="752" y="461"/>
                </a:lnTo>
                <a:lnTo>
                  <a:pt x="753" y="463"/>
                </a:lnTo>
                <a:lnTo>
                  <a:pt x="755" y="466"/>
                </a:lnTo>
                <a:lnTo>
                  <a:pt x="759" y="475"/>
                </a:lnTo>
                <a:lnTo>
                  <a:pt x="771" y="494"/>
                </a:lnTo>
                <a:lnTo>
                  <a:pt x="775" y="504"/>
                </a:lnTo>
                <a:lnTo>
                  <a:pt x="756" y="497"/>
                </a:lnTo>
                <a:lnTo>
                  <a:pt x="723" y="478"/>
                </a:lnTo>
                <a:lnTo>
                  <a:pt x="695" y="453"/>
                </a:lnTo>
                <a:lnTo>
                  <a:pt x="648" y="394"/>
                </a:lnTo>
                <a:lnTo>
                  <a:pt x="613" y="347"/>
                </a:lnTo>
                <a:lnTo>
                  <a:pt x="610" y="343"/>
                </a:lnTo>
                <a:lnTo>
                  <a:pt x="608" y="340"/>
                </a:lnTo>
                <a:lnTo>
                  <a:pt x="608" y="334"/>
                </a:lnTo>
                <a:lnTo>
                  <a:pt x="610" y="329"/>
                </a:lnTo>
                <a:lnTo>
                  <a:pt x="608" y="317"/>
                </a:lnTo>
                <a:lnTo>
                  <a:pt x="608" y="314"/>
                </a:lnTo>
                <a:lnTo>
                  <a:pt x="597" y="301"/>
                </a:lnTo>
                <a:lnTo>
                  <a:pt x="571" y="281"/>
                </a:lnTo>
                <a:lnTo>
                  <a:pt x="542" y="266"/>
                </a:lnTo>
                <a:lnTo>
                  <a:pt x="484" y="239"/>
                </a:lnTo>
                <a:lnTo>
                  <a:pt x="453" y="205"/>
                </a:lnTo>
                <a:lnTo>
                  <a:pt x="449" y="198"/>
                </a:lnTo>
                <a:lnTo>
                  <a:pt x="443" y="182"/>
                </a:lnTo>
                <a:lnTo>
                  <a:pt x="432" y="146"/>
                </a:lnTo>
                <a:lnTo>
                  <a:pt x="411" y="113"/>
                </a:lnTo>
                <a:lnTo>
                  <a:pt x="404" y="104"/>
                </a:lnTo>
                <a:lnTo>
                  <a:pt x="403" y="101"/>
                </a:lnTo>
                <a:lnTo>
                  <a:pt x="401" y="95"/>
                </a:lnTo>
                <a:lnTo>
                  <a:pt x="403" y="91"/>
                </a:lnTo>
                <a:lnTo>
                  <a:pt x="401" y="82"/>
                </a:lnTo>
                <a:lnTo>
                  <a:pt x="401" y="81"/>
                </a:lnTo>
                <a:lnTo>
                  <a:pt x="391" y="72"/>
                </a:lnTo>
                <a:lnTo>
                  <a:pt x="369" y="61"/>
                </a:lnTo>
                <a:lnTo>
                  <a:pt x="346" y="55"/>
                </a:lnTo>
                <a:lnTo>
                  <a:pt x="322" y="53"/>
                </a:lnTo>
                <a:lnTo>
                  <a:pt x="274" y="55"/>
                </a:lnTo>
                <a:lnTo>
                  <a:pt x="264" y="53"/>
                </a:lnTo>
                <a:lnTo>
                  <a:pt x="255" y="53"/>
                </a:lnTo>
                <a:lnTo>
                  <a:pt x="239" y="55"/>
                </a:lnTo>
                <a:lnTo>
                  <a:pt x="204" y="61"/>
                </a:lnTo>
                <a:lnTo>
                  <a:pt x="187" y="61"/>
                </a:lnTo>
                <a:lnTo>
                  <a:pt x="169" y="56"/>
                </a:lnTo>
                <a:lnTo>
                  <a:pt x="162" y="52"/>
                </a:lnTo>
                <a:lnTo>
                  <a:pt x="149" y="45"/>
                </a:lnTo>
                <a:lnTo>
                  <a:pt x="123" y="29"/>
                </a:lnTo>
                <a:lnTo>
                  <a:pt x="72" y="4"/>
                </a:lnTo>
                <a:lnTo>
                  <a:pt x="46" y="0"/>
                </a:lnTo>
                <a:lnTo>
                  <a:pt x="20" y="7"/>
                </a:lnTo>
                <a:lnTo>
                  <a:pt x="9" y="14"/>
                </a:lnTo>
                <a:lnTo>
                  <a:pt x="9" y="14"/>
                </a:lnTo>
                <a:close/>
              </a:path>
            </a:pathLst>
          </a:custGeom>
          <a:noFill/>
          <a:ln w="4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14720" y="3968640"/>
            <a:ext cx="22320" cy="63720"/>
          </a:xfrm>
          <a:custGeom>
            <a:avLst/>
            <a:gdLst/>
            <a:ahLst/>
            <a:rect l="l" t="t" r="r" b="b"/>
            <a:pathLst>
              <a:path w="80" h="233">
                <a:moveTo>
                  <a:pt x="20" y="124"/>
                </a:moveTo>
                <a:lnTo>
                  <a:pt x="26" y="114"/>
                </a:lnTo>
                <a:lnTo>
                  <a:pt x="35" y="93"/>
                </a:lnTo>
                <a:lnTo>
                  <a:pt x="40" y="69"/>
                </a:lnTo>
                <a:lnTo>
                  <a:pt x="52" y="26"/>
                </a:lnTo>
                <a:lnTo>
                  <a:pt x="77" y="0"/>
                </a:lnTo>
                <a:lnTo>
                  <a:pt x="80" y="22"/>
                </a:lnTo>
                <a:lnTo>
                  <a:pt x="77" y="62"/>
                </a:lnTo>
                <a:lnTo>
                  <a:pt x="66" y="100"/>
                </a:lnTo>
                <a:lnTo>
                  <a:pt x="49" y="137"/>
                </a:lnTo>
                <a:lnTo>
                  <a:pt x="19" y="213"/>
                </a:lnTo>
                <a:lnTo>
                  <a:pt x="16" y="233"/>
                </a:lnTo>
                <a:lnTo>
                  <a:pt x="14" y="233"/>
                </a:lnTo>
                <a:lnTo>
                  <a:pt x="11" y="232"/>
                </a:lnTo>
                <a:lnTo>
                  <a:pt x="6" y="229"/>
                </a:lnTo>
                <a:lnTo>
                  <a:pt x="0" y="226"/>
                </a:lnTo>
                <a:lnTo>
                  <a:pt x="0" y="224"/>
                </a:lnTo>
                <a:lnTo>
                  <a:pt x="3" y="217"/>
                </a:lnTo>
                <a:lnTo>
                  <a:pt x="6" y="200"/>
                </a:lnTo>
                <a:lnTo>
                  <a:pt x="7" y="182"/>
                </a:lnTo>
                <a:lnTo>
                  <a:pt x="10" y="148"/>
                </a:lnTo>
                <a:lnTo>
                  <a:pt x="20" y="124"/>
                </a:lnTo>
                <a:lnTo>
                  <a:pt x="20" y="124"/>
                </a:lnTo>
                <a:close/>
              </a:path>
            </a:pathLst>
          </a:custGeom>
          <a:noFill/>
          <a:ln w="4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48200" y="1930320"/>
            <a:ext cx="497160" cy="549360"/>
          </a:xfrm>
          <a:custGeom>
            <a:avLst/>
            <a:gdLst/>
            <a:ahLst/>
            <a:rect l="l" t="t" r="r" b="b"/>
            <a:pathLst>
              <a:path w="1440" h="1679">
                <a:moveTo>
                  <a:pt x="1168" y="1570"/>
                </a:moveTo>
                <a:lnTo>
                  <a:pt x="1156" y="1553"/>
                </a:lnTo>
                <a:lnTo>
                  <a:pt x="1150" y="1533"/>
                </a:lnTo>
                <a:lnTo>
                  <a:pt x="1147" y="1509"/>
                </a:lnTo>
                <a:lnTo>
                  <a:pt x="1147" y="1457"/>
                </a:lnTo>
                <a:lnTo>
                  <a:pt x="1152" y="1350"/>
                </a:lnTo>
                <a:lnTo>
                  <a:pt x="1139" y="1281"/>
                </a:lnTo>
                <a:lnTo>
                  <a:pt x="1136" y="1278"/>
                </a:lnTo>
                <a:lnTo>
                  <a:pt x="1129" y="1267"/>
                </a:lnTo>
                <a:lnTo>
                  <a:pt x="1111" y="1247"/>
                </a:lnTo>
                <a:lnTo>
                  <a:pt x="1095" y="1227"/>
                </a:lnTo>
                <a:lnTo>
                  <a:pt x="1094" y="1221"/>
                </a:lnTo>
                <a:lnTo>
                  <a:pt x="1076" y="1220"/>
                </a:lnTo>
                <a:lnTo>
                  <a:pt x="1062" y="1215"/>
                </a:lnTo>
                <a:lnTo>
                  <a:pt x="1050" y="1207"/>
                </a:lnTo>
                <a:lnTo>
                  <a:pt x="1042" y="1196"/>
                </a:lnTo>
                <a:lnTo>
                  <a:pt x="1033" y="1183"/>
                </a:lnTo>
                <a:lnTo>
                  <a:pt x="1023" y="1153"/>
                </a:lnTo>
                <a:lnTo>
                  <a:pt x="1014" y="1121"/>
                </a:lnTo>
                <a:lnTo>
                  <a:pt x="1007" y="1089"/>
                </a:lnTo>
                <a:lnTo>
                  <a:pt x="1003" y="1075"/>
                </a:lnTo>
                <a:lnTo>
                  <a:pt x="995" y="1059"/>
                </a:lnTo>
                <a:lnTo>
                  <a:pt x="987" y="1043"/>
                </a:lnTo>
                <a:lnTo>
                  <a:pt x="962" y="1008"/>
                </a:lnTo>
                <a:lnTo>
                  <a:pt x="904" y="939"/>
                </a:lnTo>
                <a:lnTo>
                  <a:pt x="865" y="865"/>
                </a:lnTo>
                <a:lnTo>
                  <a:pt x="862" y="856"/>
                </a:lnTo>
                <a:lnTo>
                  <a:pt x="855" y="839"/>
                </a:lnTo>
                <a:lnTo>
                  <a:pt x="837" y="802"/>
                </a:lnTo>
                <a:lnTo>
                  <a:pt x="817" y="766"/>
                </a:lnTo>
                <a:lnTo>
                  <a:pt x="813" y="756"/>
                </a:lnTo>
                <a:lnTo>
                  <a:pt x="801" y="765"/>
                </a:lnTo>
                <a:lnTo>
                  <a:pt x="782" y="782"/>
                </a:lnTo>
                <a:lnTo>
                  <a:pt x="749" y="821"/>
                </a:lnTo>
                <a:lnTo>
                  <a:pt x="713" y="855"/>
                </a:lnTo>
                <a:lnTo>
                  <a:pt x="703" y="859"/>
                </a:lnTo>
                <a:lnTo>
                  <a:pt x="697" y="859"/>
                </a:lnTo>
                <a:lnTo>
                  <a:pt x="681" y="857"/>
                </a:lnTo>
                <a:lnTo>
                  <a:pt x="642" y="847"/>
                </a:lnTo>
                <a:lnTo>
                  <a:pt x="611" y="834"/>
                </a:lnTo>
                <a:lnTo>
                  <a:pt x="608" y="831"/>
                </a:lnTo>
                <a:lnTo>
                  <a:pt x="623" y="826"/>
                </a:lnTo>
                <a:lnTo>
                  <a:pt x="653" y="811"/>
                </a:lnTo>
                <a:lnTo>
                  <a:pt x="707" y="782"/>
                </a:lnTo>
                <a:lnTo>
                  <a:pt x="726" y="769"/>
                </a:lnTo>
                <a:lnTo>
                  <a:pt x="739" y="757"/>
                </a:lnTo>
                <a:lnTo>
                  <a:pt x="742" y="750"/>
                </a:lnTo>
                <a:lnTo>
                  <a:pt x="726" y="746"/>
                </a:lnTo>
                <a:lnTo>
                  <a:pt x="710" y="744"/>
                </a:lnTo>
                <a:lnTo>
                  <a:pt x="691" y="746"/>
                </a:lnTo>
                <a:lnTo>
                  <a:pt x="652" y="756"/>
                </a:lnTo>
                <a:lnTo>
                  <a:pt x="611" y="772"/>
                </a:lnTo>
                <a:lnTo>
                  <a:pt x="540" y="810"/>
                </a:lnTo>
                <a:lnTo>
                  <a:pt x="529" y="817"/>
                </a:lnTo>
                <a:lnTo>
                  <a:pt x="521" y="817"/>
                </a:lnTo>
                <a:lnTo>
                  <a:pt x="506" y="814"/>
                </a:lnTo>
                <a:lnTo>
                  <a:pt x="472" y="804"/>
                </a:lnTo>
                <a:lnTo>
                  <a:pt x="442" y="792"/>
                </a:lnTo>
                <a:lnTo>
                  <a:pt x="437" y="789"/>
                </a:lnTo>
                <a:lnTo>
                  <a:pt x="422" y="801"/>
                </a:lnTo>
                <a:lnTo>
                  <a:pt x="403" y="808"/>
                </a:lnTo>
                <a:lnTo>
                  <a:pt x="378" y="814"/>
                </a:lnTo>
                <a:lnTo>
                  <a:pt x="323" y="820"/>
                </a:lnTo>
                <a:lnTo>
                  <a:pt x="262" y="815"/>
                </a:lnTo>
                <a:lnTo>
                  <a:pt x="209" y="804"/>
                </a:lnTo>
                <a:lnTo>
                  <a:pt x="168" y="784"/>
                </a:lnTo>
                <a:lnTo>
                  <a:pt x="156" y="770"/>
                </a:lnTo>
                <a:lnTo>
                  <a:pt x="146" y="770"/>
                </a:lnTo>
                <a:lnTo>
                  <a:pt x="135" y="768"/>
                </a:lnTo>
                <a:lnTo>
                  <a:pt x="107" y="759"/>
                </a:lnTo>
                <a:lnTo>
                  <a:pt x="48" y="731"/>
                </a:lnTo>
                <a:lnTo>
                  <a:pt x="0" y="707"/>
                </a:lnTo>
                <a:lnTo>
                  <a:pt x="26" y="699"/>
                </a:lnTo>
                <a:lnTo>
                  <a:pt x="54" y="698"/>
                </a:lnTo>
                <a:lnTo>
                  <a:pt x="84" y="701"/>
                </a:lnTo>
                <a:lnTo>
                  <a:pt x="148" y="717"/>
                </a:lnTo>
                <a:lnTo>
                  <a:pt x="281" y="755"/>
                </a:lnTo>
                <a:lnTo>
                  <a:pt x="377" y="747"/>
                </a:lnTo>
                <a:lnTo>
                  <a:pt x="378" y="747"/>
                </a:lnTo>
                <a:lnTo>
                  <a:pt x="382" y="746"/>
                </a:lnTo>
                <a:lnTo>
                  <a:pt x="393" y="740"/>
                </a:lnTo>
                <a:lnTo>
                  <a:pt x="416" y="727"/>
                </a:lnTo>
                <a:lnTo>
                  <a:pt x="435" y="718"/>
                </a:lnTo>
                <a:lnTo>
                  <a:pt x="433" y="710"/>
                </a:lnTo>
                <a:lnTo>
                  <a:pt x="430" y="699"/>
                </a:lnTo>
                <a:lnTo>
                  <a:pt x="422" y="679"/>
                </a:lnTo>
                <a:lnTo>
                  <a:pt x="408" y="659"/>
                </a:lnTo>
                <a:lnTo>
                  <a:pt x="378" y="621"/>
                </a:lnTo>
                <a:lnTo>
                  <a:pt x="365" y="605"/>
                </a:lnTo>
                <a:lnTo>
                  <a:pt x="364" y="605"/>
                </a:lnTo>
                <a:lnTo>
                  <a:pt x="361" y="605"/>
                </a:lnTo>
                <a:lnTo>
                  <a:pt x="348" y="605"/>
                </a:lnTo>
                <a:lnTo>
                  <a:pt x="339" y="605"/>
                </a:lnTo>
                <a:lnTo>
                  <a:pt x="339" y="605"/>
                </a:lnTo>
                <a:lnTo>
                  <a:pt x="339" y="597"/>
                </a:lnTo>
                <a:lnTo>
                  <a:pt x="342" y="586"/>
                </a:lnTo>
                <a:lnTo>
                  <a:pt x="353" y="566"/>
                </a:lnTo>
                <a:lnTo>
                  <a:pt x="368" y="544"/>
                </a:lnTo>
                <a:lnTo>
                  <a:pt x="403" y="508"/>
                </a:lnTo>
                <a:lnTo>
                  <a:pt x="420" y="495"/>
                </a:lnTo>
                <a:lnTo>
                  <a:pt x="411" y="489"/>
                </a:lnTo>
                <a:lnTo>
                  <a:pt x="395" y="478"/>
                </a:lnTo>
                <a:lnTo>
                  <a:pt x="380" y="465"/>
                </a:lnTo>
                <a:lnTo>
                  <a:pt x="366" y="450"/>
                </a:lnTo>
                <a:lnTo>
                  <a:pt x="362" y="430"/>
                </a:lnTo>
                <a:lnTo>
                  <a:pt x="366" y="402"/>
                </a:lnTo>
                <a:lnTo>
                  <a:pt x="374" y="385"/>
                </a:lnTo>
                <a:lnTo>
                  <a:pt x="378" y="386"/>
                </a:lnTo>
                <a:lnTo>
                  <a:pt x="387" y="388"/>
                </a:lnTo>
                <a:lnTo>
                  <a:pt x="407" y="391"/>
                </a:lnTo>
                <a:lnTo>
                  <a:pt x="416" y="391"/>
                </a:lnTo>
                <a:lnTo>
                  <a:pt x="423" y="389"/>
                </a:lnTo>
                <a:lnTo>
                  <a:pt x="426" y="386"/>
                </a:lnTo>
                <a:lnTo>
                  <a:pt x="420" y="365"/>
                </a:lnTo>
                <a:lnTo>
                  <a:pt x="422" y="346"/>
                </a:lnTo>
                <a:lnTo>
                  <a:pt x="429" y="331"/>
                </a:lnTo>
                <a:lnTo>
                  <a:pt x="439" y="320"/>
                </a:lnTo>
                <a:lnTo>
                  <a:pt x="455" y="313"/>
                </a:lnTo>
                <a:lnTo>
                  <a:pt x="472" y="305"/>
                </a:lnTo>
                <a:lnTo>
                  <a:pt x="516" y="300"/>
                </a:lnTo>
                <a:lnTo>
                  <a:pt x="561" y="297"/>
                </a:lnTo>
                <a:lnTo>
                  <a:pt x="601" y="294"/>
                </a:lnTo>
                <a:lnTo>
                  <a:pt x="603" y="294"/>
                </a:lnTo>
                <a:lnTo>
                  <a:pt x="603" y="300"/>
                </a:lnTo>
                <a:lnTo>
                  <a:pt x="601" y="317"/>
                </a:lnTo>
                <a:lnTo>
                  <a:pt x="601" y="330"/>
                </a:lnTo>
                <a:lnTo>
                  <a:pt x="603" y="330"/>
                </a:lnTo>
                <a:lnTo>
                  <a:pt x="611" y="334"/>
                </a:lnTo>
                <a:lnTo>
                  <a:pt x="642" y="347"/>
                </a:lnTo>
                <a:lnTo>
                  <a:pt x="665" y="358"/>
                </a:lnTo>
                <a:lnTo>
                  <a:pt x="666" y="358"/>
                </a:lnTo>
                <a:lnTo>
                  <a:pt x="671" y="355"/>
                </a:lnTo>
                <a:lnTo>
                  <a:pt x="678" y="347"/>
                </a:lnTo>
                <a:lnTo>
                  <a:pt x="692" y="337"/>
                </a:lnTo>
                <a:lnTo>
                  <a:pt x="695" y="330"/>
                </a:lnTo>
                <a:lnTo>
                  <a:pt x="695" y="320"/>
                </a:lnTo>
                <a:lnTo>
                  <a:pt x="694" y="313"/>
                </a:lnTo>
                <a:lnTo>
                  <a:pt x="697" y="313"/>
                </a:lnTo>
                <a:lnTo>
                  <a:pt x="700" y="313"/>
                </a:lnTo>
                <a:lnTo>
                  <a:pt x="711" y="310"/>
                </a:lnTo>
                <a:lnTo>
                  <a:pt x="739" y="302"/>
                </a:lnTo>
                <a:lnTo>
                  <a:pt x="759" y="298"/>
                </a:lnTo>
                <a:lnTo>
                  <a:pt x="752" y="292"/>
                </a:lnTo>
                <a:lnTo>
                  <a:pt x="745" y="285"/>
                </a:lnTo>
                <a:lnTo>
                  <a:pt x="723" y="269"/>
                </a:lnTo>
                <a:lnTo>
                  <a:pt x="671" y="234"/>
                </a:lnTo>
                <a:lnTo>
                  <a:pt x="629" y="192"/>
                </a:lnTo>
                <a:lnTo>
                  <a:pt x="630" y="188"/>
                </a:lnTo>
                <a:lnTo>
                  <a:pt x="637" y="178"/>
                </a:lnTo>
                <a:lnTo>
                  <a:pt x="652" y="155"/>
                </a:lnTo>
                <a:lnTo>
                  <a:pt x="669" y="133"/>
                </a:lnTo>
                <a:lnTo>
                  <a:pt x="675" y="127"/>
                </a:lnTo>
                <a:lnTo>
                  <a:pt x="675" y="120"/>
                </a:lnTo>
                <a:lnTo>
                  <a:pt x="674" y="94"/>
                </a:lnTo>
                <a:lnTo>
                  <a:pt x="674" y="75"/>
                </a:lnTo>
                <a:lnTo>
                  <a:pt x="675" y="74"/>
                </a:lnTo>
                <a:lnTo>
                  <a:pt x="684" y="76"/>
                </a:lnTo>
                <a:lnTo>
                  <a:pt x="708" y="84"/>
                </a:lnTo>
                <a:lnTo>
                  <a:pt x="763" y="102"/>
                </a:lnTo>
                <a:lnTo>
                  <a:pt x="805" y="123"/>
                </a:lnTo>
                <a:lnTo>
                  <a:pt x="811" y="127"/>
                </a:lnTo>
                <a:lnTo>
                  <a:pt x="810" y="133"/>
                </a:lnTo>
                <a:lnTo>
                  <a:pt x="808" y="142"/>
                </a:lnTo>
                <a:lnTo>
                  <a:pt x="804" y="159"/>
                </a:lnTo>
                <a:lnTo>
                  <a:pt x="795" y="172"/>
                </a:lnTo>
                <a:lnTo>
                  <a:pt x="794" y="173"/>
                </a:lnTo>
                <a:lnTo>
                  <a:pt x="795" y="181"/>
                </a:lnTo>
                <a:lnTo>
                  <a:pt x="803" y="195"/>
                </a:lnTo>
                <a:lnTo>
                  <a:pt x="827" y="221"/>
                </a:lnTo>
                <a:lnTo>
                  <a:pt x="842" y="229"/>
                </a:lnTo>
                <a:lnTo>
                  <a:pt x="858" y="231"/>
                </a:lnTo>
                <a:lnTo>
                  <a:pt x="868" y="229"/>
                </a:lnTo>
                <a:lnTo>
                  <a:pt x="866" y="223"/>
                </a:lnTo>
                <a:lnTo>
                  <a:pt x="865" y="207"/>
                </a:lnTo>
                <a:lnTo>
                  <a:pt x="859" y="176"/>
                </a:lnTo>
                <a:lnTo>
                  <a:pt x="850" y="145"/>
                </a:lnTo>
                <a:lnTo>
                  <a:pt x="849" y="137"/>
                </a:lnTo>
                <a:lnTo>
                  <a:pt x="855" y="126"/>
                </a:lnTo>
                <a:lnTo>
                  <a:pt x="863" y="102"/>
                </a:lnTo>
                <a:lnTo>
                  <a:pt x="876" y="53"/>
                </a:lnTo>
                <a:lnTo>
                  <a:pt x="889" y="10"/>
                </a:lnTo>
                <a:lnTo>
                  <a:pt x="894" y="0"/>
                </a:lnTo>
                <a:lnTo>
                  <a:pt x="911" y="1"/>
                </a:lnTo>
                <a:lnTo>
                  <a:pt x="949" y="5"/>
                </a:lnTo>
                <a:lnTo>
                  <a:pt x="1027" y="21"/>
                </a:lnTo>
                <a:lnTo>
                  <a:pt x="1104" y="40"/>
                </a:lnTo>
                <a:lnTo>
                  <a:pt x="1123" y="45"/>
                </a:lnTo>
                <a:lnTo>
                  <a:pt x="1127" y="46"/>
                </a:lnTo>
                <a:lnTo>
                  <a:pt x="1142" y="47"/>
                </a:lnTo>
                <a:lnTo>
                  <a:pt x="1176" y="55"/>
                </a:lnTo>
                <a:lnTo>
                  <a:pt x="1207" y="58"/>
                </a:lnTo>
                <a:lnTo>
                  <a:pt x="1213" y="55"/>
                </a:lnTo>
                <a:lnTo>
                  <a:pt x="1220" y="65"/>
                </a:lnTo>
                <a:lnTo>
                  <a:pt x="1236" y="85"/>
                </a:lnTo>
                <a:lnTo>
                  <a:pt x="1257" y="133"/>
                </a:lnTo>
                <a:lnTo>
                  <a:pt x="1266" y="181"/>
                </a:lnTo>
                <a:lnTo>
                  <a:pt x="1268" y="192"/>
                </a:lnTo>
                <a:lnTo>
                  <a:pt x="1281" y="208"/>
                </a:lnTo>
                <a:lnTo>
                  <a:pt x="1314" y="243"/>
                </a:lnTo>
                <a:lnTo>
                  <a:pt x="1381" y="324"/>
                </a:lnTo>
                <a:lnTo>
                  <a:pt x="1431" y="408"/>
                </a:lnTo>
                <a:lnTo>
                  <a:pt x="1440" y="427"/>
                </a:lnTo>
                <a:lnTo>
                  <a:pt x="1431" y="439"/>
                </a:lnTo>
                <a:lnTo>
                  <a:pt x="1373" y="520"/>
                </a:lnTo>
                <a:lnTo>
                  <a:pt x="1173" y="795"/>
                </a:lnTo>
                <a:lnTo>
                  <a:pt x="1021" y="1005"/>
                </a:lnTo>
                <a:lnTo>
                  <a:pt x="1014" y="1015"/>
                </a:lnTo>
                <a:lnTo>
                  <a:pt x="1023" y="1018"/>
                </a:lnTo>
                <a:lnTo>
                  <a:pt x="1052" y="1025"/>
                </a:lnTo>
                <a:lnTo>
                  <a:pt x="1073" y="1031"/>
                </a:lnTo>
                <a:lnTo>
                  <a:pt x="1075" y="1031"/>
                </a:lnTo>
                <a:lnTo>
                  <a:pt x="1078" y="1039"/>
                </a:lnTo>
                <a:lnTo>
                  <a:pt x="1088" y="1060"/>
                </a:lnTo>
                <a:lnTo>
                  <a:pt x="1097" y="1078"/>
                </a:lnTo>
                <a:lnTo>
                  <a:pt x="1098" y="1078"/>
                </a:lnTo>
                <a:lnTo>
                  <a:pt x="1095" y="1088"/>
                </a:lnTo>
                <a:lnTo>
                  <a:pt x="1091" y="1118"/>
                </a:lnTo>
                <a:lnTo>
                  <a:pt x="1087" y="1141"/>
                </a:lnTo>
                <a:lnTo>
                  <a:pt x="1087" y="1141"/>
                </a:lnTo>
                <a:lnTo>
                  <a:pt x="1101" y="1143"/>
                </a:lnTo>
                <a:lnTo>
                  <a:pt x="1146" y="1147"/>
                </a:lnTo>
                <a:lnTo>
                  <a:pt x="1181" y="1150"/>
                </a:lnTo>
                <a:lnTo>
                  <a:pt x="1184" y="1150"/>
                </a:lnTo>
                <a:lnTo>
                  <a:pt x="1184" y="1157"/>
                </a:lnTo>
                <a:lnTo>
                  <a:pt x="1184" y="1196"/>
                </a:lnTo>
                <a:lnTo>
                  <a:pt x="1188" y="1336"/>
                </a:lnTo>
                <a:lnTo>
                  <a:pt x="1189" y="1440"/>
                </a:lnTo>
                <a:lnTo>
                  <a:pt x="1191" y="1446"/>
                </a:lnTo>
                <a:lnTo>
                  <a:pt x="1208" y="1466"/>
                </a:lnTo>
                <a:lnTo>
                  <a:pt x="1231" y="1502"/>
                </a:lnTo>
                <a:lnTo>
                  <a:pt x="1239" y="1534"/>
                </a:lnTo>
                <a:lnTo>
                  <a:pt x="1234" y="1567"/>
                </a:lnTo>
                <a:lnTo>
                  <a:pt x="1220" y="1602"/>
                </a:lnTo>
                <a:lnTo>
                  <a:pt x="1198" y="1643"/>
                </a:lnTo>
                <a:lnTo>
                  <a:pt x="1187" y="1665"/>
                </a:lnTo>
                <a:lnTo>
                  <a:pt x="1185" y="1670"/>
                </a:lnTo>
                <a:lnTo>
                  <a:pt x="1184" y="1675"/>
                </a:lnTo>
                <a:lnTo>
                  <a:pt x="1181" y="1678"/>
                </a:lnTo>
                <a:lnTo>
                  <a:pt x="1178" y="1679"/>
                </a:lnTo>
                <a:lnTo>
                  <a:pt x="1173" y="1679"/>
                </a:lnTo>
                <a:lnTo>
                  <a:pt x="1171" y="1678"/>
                </a:lnTo>
                <a:lnTo>
                  <a:pt x="1166" y="1675"/>
                </a:lnTo>
                <a:lnTo>
                  <a:pt x="1163" y="1670"/>
                </a:lnTo>
                <a:lnTo>
                  <a:pt x="1160" y="1666"/>
                </a:lnTo>
                <a:lnTo>
                  <a:pt x="1159" y="1662"/>
                </a:lnTo>
                <a:lnTo>
                  <a:pt x="1158" y="1654"/>
                </a:lnTo>
                <a:lnTo>
                  <a:pt x="1158" y="1647"/>
                </a:lnTo>
                <a:lnTo>
                  <a:pt x="1159" y="1647"/>
                </a:lnTo>
                <a:lnTo>
                  <a:pt x="1152" y="1641"/>
                </a:lnTo>
                <a:lnTo>
                  <a:pt x="1149" y="1636"/>
                </a:lnTo>
                <a:lnTo>
                  <a:pt x="1146" y="1628"/>
                </a:lnTo>
                <a:lnTo>
                  <a:pt x="1146" y="1622"/>
                </a:lnTo>
                <a:lnTo>
                  <a:pt x="1146" y="1617"/>
                </a:lnTo>
                <a:lnTo>
                  <a:pt x="1147" y="1609"/>
                </a:lnTo>
                <a:lnTo>
                  <a:pt x="1153" y="1598"/>
                </a:lnTo>
                <a:lnTo>
                  <a:pt x="1166" y="1570"/>
                </a:lnTo>
                <a:lnTo>
                  <a:pt x="1168" y="1570"/>
                </a:lnTo>
                <a:lnTo>
                  <a:pt x="1168" y="157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4760" y="1698480"/>
            <a:ext cx="520920" cy="474840"/>
          </a:xfrm>
          <a:custGeom>
            <a:avLst/>
            <a:gdLst/>
            <a:ahLst/>
            <a:rect l="l" t="t" r="r" b="b"/>
            <a:pathLst>
              <a:path w="1514" h="1452">
                <a:moveTo>
                  <a:pt x="756" y="1070"/>
                </a:moveTo>
                <a:lnTo>
                  <a:pt x="749" y="1070"/>
                </a:lnTo>
                <a:lnTo>
                  <a:pt x="735" y="1067"/>
                </a:lnTo>
                <a:lnTo>
                  <a:pt x="719" y="1061"/>
                </a:lnTo>
                <a:lnTo>
                  <a:pt x="694" y="1043"/>
                </a:lnTo>
                <a:lnTo>
                  <a:pt x="684" y="1023"/>
                </a:lnTo>
                <a:lnTo>
                  <a:pt x="691" y="1025"/>
                </a:lnTo>
                <a:lnTo>
                  <a:pt x="709" y="1025"/>
                </a:lnTo>
                <a:lnTo>
                  <a:pt x="740" y="1025"/>
                </a:lnTo>
                <a:lnTo>
                  <a:pt x="772" y="1026"/>
                </a:lnTo>
                <a:lnTo>
                  <a:pt x="781" y="1026"/>
                </a:lnTo>
                <a:lnTo>
                  <a:pt x="780" y="1030"/>
                </a:lnTo>
                <a:lnTo>
                  <a:pt x="778" y="1039"/>
                </a:lnTo>
                <a:lnTo>
                  <a:pt x="774" y="1048"/>
                </a:lnTo>
                <a:lnTo>
                  <a:pt x="764" y="1062"/>
                </a:lnTo>
                <a:lnTo>
                  <a:pt x="756" y="1070"/>
                </a:lnTo>
                <a:lnTo>
                  <a:pt x="756" y="1070"/>
                </a:lnTo>
                <a:close/>
                <a:moveTo>
                  <a:pt x="70" y="371"/>
                </a:moveTo>
                <a:lnTo>
                  <a:pt x="62" y="349"/>
                </a:lnTo>
                <a:lnTo>
                  <a:pt x="51" y="315"/>
                </a:lnTo>
                <a:lnTo>
                  <a:pt x="35" y="265"/>
                </a:lnTo>
                <a:lnTo>
                  <a:pt x="39" y="215"/>
                </a:lnTo>
                <a:lnTo>
                  <a:pt x="45" y="196"/>
                </a:lnTo>
                <a:lnTo>
                  <a:pt x="45" y="189"/>
                </a:lnTo>
                <a:lnTo>
                  <a:pt x="45" y="173"/>
                </a:lnTo>
                <a:lnTo>
                  <a:pt x="49" y="135"/>
                </a:lnTo>
                <a:lnTo>
                  <a:pt x="52" y="102"/>
                </a:lnTo>
                <a:lnTo>
                  <a:pt x="54" y="94"/>
                </a:lnTo>
                <a:lnTo>
                  <a:pt x="65" y="93"/>
                </a:lnTo>
                <a:lnTo>
                  <a:pt x="77" y="96"/>
                </a:lnTo>
                <a:lnTo>
                  <a:pt x="84" y="103"/>
                </a:lnTo>
                <a:lnTo>
                  <a:pt x="90" y="112"/>
                </a:lnTo>
                <a:lnTo>
                  <a:pt x="94" y="123"/>
                </a:lnTo>
                <a:lnTo>
                  <a:pt x="97" y="136"/>
                </a:lnTo>
                <a:lnTo>
                  <a:pt x="100" y="162"/>
                </a:lnTo>
                <a:lnTo>
                  <a:pt x="102" y="184"/>
                </a:lnTo>
                <a:lnTo>
                  <a:pt x="103" y="193"/>
                </a:lnTo>
                <a:lnTo>
                  <a:pt x="104" y="196"/>
                </a:lnTo>
                <a:lnTo>
                  <a:pt x="106" y="196"/>
                </a:lnTo>
                <a:lnTo>
                  <a:pt x="109" y="190"/>
                </a:lnTo>
                <a:lnTo>
                  <a:pt x="112" y="181"/>
                </a:lnTo>
                <a:lnTo>
                  <a:pt x="113" y="170"/>
                </a:lnTo>
                <a:lnTo>
                  <a:pt x="116" y="142"/>
                </a:lnTo>
                <a:lnTo>
                  <a:pt x="122" y="115"/>
                </a:lnTo>
                <a:lnTo>
                  <a:pt x="133" y="91"/>
                </a:lnTo>
                <a:lnTo>
                  <a:pt x="144" y="83"/>
                </a:lnTo>
                <a:lnTo>
                  <a:pt x="155" y="78"/>
                </a:lnTo>
                <a:lnTo>
                  <a:pt x="171" y="77"/>
                </a:lnTo>
                <a:lnTo>
                  <a:pt x="172" y="77"/>
                </a:lnTo>
                <a:lnTo>
                  <a:pt x="172" y="80"/>
                </a:lnTo>
                <a:lnTo>
                  <a:pt x="174" y="94"/>
                </a:lnTo>
                <a:lnTo>
                  <a:pt x="181" y="146"/>
                </a:lnTo>
                <a:lnTo>
                  <a:pt x="187" y="186"/>
                </a:lnTo>
                <a:lnTo>
                  <a:pt x="188" y="187"/>
                </a:lnTo>
                <a:lnTo>
                  <a:pt x="190" y="177"/>
                </a:lnTo>
                <a:lnTo>
                  <a:pt x="191" y="167"/>
                </a:lnTo>
                <a:lnTo>
                  <a:pt x="194" y="141"/>
                </a:lnTo>
                <a:lnTo>
                  <a:pt x="199" y="116"/>
                </a:lnTo>
                <a:lnTo>
                  <a:pt x="203" y="107"/>
                </a:lnTo>
                <a:lnTo>
                  <a:pt x="207" y="102"/>
                </a:lnTo>
                <a:lnTo>
                  <a:pt x="212" y="100"/>
                </a:lnTo>
                <a:lnTo>
                  <a:pt x="217" y="103"/>
                </a:lnTo>
                <a:lnTo>
                  <a:pt x="219" y="103"/>
                </a:lnTo>
                <a:lnTo>
                  <a:pt x="222" y="106"/>
                </a:lnTo>
                <a:lnTo>
                  <a:pt x="225" y="110"/>
                </a:lnTo>
                <a:lnTo>
                  <a:pt x="226" y="116"/>
                </a:lnTo>
                <a:lnTo>
                  <a:pt x="230" y="129"/>
                </a:lnTo>
                <a:lnTo>
                  <a:pt x="238" y="152"/>
                </a:lnTo>
                <a:lnTo>
                  <a:pt x="243" y="155"/>
                </a:lnTo>
                <a:lnTo>
                  <a:pt x="245" y="154"/>
                </a:lnTo>
                <a:lnTo>
                  <a:pt x="246" y="151"/>
                </a:lnTo>
                <a:lnTo>
                  <a:pt x="246" y="145"/>
                </a:lnTo>
                <a:lnTo>
                  <a:pt x="246" y="132"/>
                </a:lnTo>
                <a:lnTo>
                  <a:pt x="246" y="106"/>
                </a:lnTo>
                <a:lnTo>
                  <a:pt x="251" y="99"/>
                </a:lnTo>
                <a:lnTo>
                  <a:pt x="257" y="99"/>
                </a:lnTo>
                <a:lnTo>
                  <a:pt x="265" y="100"/>
                </a:lnTo>
                <a:lnTo>
                  <a:pt x="272" y="103"/>
                </a:lnTo>
                <a:lnTo>
                  <a:pt x="278" y="107"/>
                </a:lnTo>
                <a:lnTo>
                  <a:pt x="281" y="110"/>
                </a:lnTo>
                <a:lnTo>
                  <a:pt x="286" y="112"/>
                </a:lnTo>
                <a:lnTo>
                  <a:pt x="288" y="112"/>
                </a:lnTo>
                <a:lnTo>
                  <a:pt x="286" y="107"/>
                </a:lnTo>
                <a:lnTo>
                  <a:pt x="278" y="94"/>
                </a:lnTo>
                <a:lnTo>
                  <a:pt x="259" y="67"/>
                </a:lnTo>
                <a:lnTo>
                  <a:pt x="228" y="44"/>
                </a:lnTo>
                <a:lnTo>
                  <a:pt x="219" y="41"/>
                </a:lnTo>
                <a:lnTo>
                  <a:pt x="219" y="39"/>
                </a:lnTo>
                <a:lnTo>
                  <a:pt x="222" y="35"/>
                </a:lnTo>
                <a:lnTo>
                  <a:pt x="225" y="32"/>
                </a:lnTo>
                <a:lnTo>
                  <a:pt x="235" y="25"/>
                </a:lnTo>
                <a:lnTo>
                  <a:pt x="257" y="9"/>
                </a:lnTo>
                <a:lnTo>
                  <a:pt x="264" y="0"/>
                </a:lnTo>
                <a:lnTo>
                  <a:pt x="287" y="19"/>
                </a:lnTo>
                <a:lnTo>
                  <a:pt x="335" y="57"/>
                </a:lnTo>
                <a:lnTo>
                  <a:pt x="436" y="120"/>
                </a:lnTo>
                <a:lnTo>
                  <a:pt x="548" y="161"/>
                </a:lnTo>
                <a:lnTo>
                  <a:pt x="580" y="165"/>
                </a:lnTo>
                <a:lnTo>
                  <a:pt x="593" y="155"/>
                </a:lnTo>
                <a:lnTo>
                  <a:pt x="610" y="144"/>
                </a:lnTo>
                <a:lnTo>
                  <a:pt x="616" y="142"/>
                </a:lnTo>
                <a:lnTo>
                  <a:pt x="617" y="142"/>
                </a:lnTo>
                <a:lnTo>
                  <a:pt x="620" y="144"/>
                </a:lnTo>
                <a:lnTo>
                  <a:pt x="622" y="145"/>
                </a:lnTo>
                <a:lnTo>
                  <a:pt x="623" y="146"/>
                </a:lnTo>
                <a:lnTo>
                  <a:pt x="625" y="151"/>
                </a:lnTo>
                <a:lnTo>
                  <a:pt x="626" y="158"/>
                </a:lnTo>
                <a:lnTo>
                  <a:pt x="632" y="178"/>
                </a:lnTo>
                <a:lnTo>
                  <a:pt x="643" y="207"/>
                </a:lnTo>
                <a:lnTo>
                  <a:pt x="648" y="215"/>
                </a:lnTo>
                <a:lnTo>
                  <a:pt x="661" y="215"/>
                </a:lnTo>
                <a:lnTo>
                  <a:pt x="684" y="207"/>
                </a:lnTo>
                <a:lnTo>
                  <a:pt x="704" y="200"/>
                </a:lnTo>
                <a:lnTo>
                  <a:pt x="722" y="196"/>
                </a:lnTo>
                <a:lnTo>
                  <a:pt x="730" y="196"/>
                </a:lnTo>
                <a:lnTo>
                  <a:pt x="739" y="200"/>
                </a:lnTo>
                <a:lnTo>
                  <a:pt x="746" y="206"/>
                </a:lnTo>
                <a:lnTo>
                  <a:pt x="755" y="217"/>
                </a:lnTo>
                <a:lnTo>
                  <a:pt x="764" y="232"/>
                </a:lnTo>
                <a:lnTo>
                  <a:pt x="765" y="232"/>
                </a:lnTo>
                <a:lnTo>
                  <a:pt x="795" y="232"/>
                </a:lnTo>
                <a:lnTo>
                  <a:pt x="845" y="233"/>
                </a:lnTo>
                <a:lnTo>
                  <a:pt x="877" y="244"/>
                </a:lnTo>
                <a:lnTo>
                  <a:pt x="885" y="252"/>
                </a:lnTo>
                <a:lnTo>
                  <a:pt x="891" y="262"/>
                </a:lnTo>
                <a:lnTo>
                  <a:pt x="891" y="274"/>
                </a:lnTo>
                <a:lnTo>
                  <a:pt x="887" y="287"/>
                </a:lnTo>
                <a:lnTo>
                  <a:pt x="878" y="304"/>
                </a:lnTo>
                <a:lnTo>
                  <a:pt x="865" y="322"/>
                </a:lnTo>
                <a:lnTo>
                  <a:pt x="848" y="342"/>
                </a:lnTo>
                <a:lnTo>
                  <a:pt x="848" y="342"/>
                </a:lnTo>
                <a:lnTo>
                  <a:pt x="855" y="352"/>
                </a:lnTo>
                <a:lnTo>
                  <a:pt x="877" y="380"/>
                </a:lnTo>
                <a:lnTo>
                  <a:pt x="894" y="402"/>
                </a:lnTo>
                <a:lnTo>
                  <a:pt x="895" y="402"/>
                </a:lnTo>
                <a:lnTo>
                  <a:pt x="903" y="402"/>
                </a:lnTo>
                <a:lnTo>
                  <a:pt x="924" y="397"/>
                </a:lnTo>
                <a:lnTo>
                  <a:pt x="975" y="380"/>
                </a:lnTo>
                <a:lnTo>
                  <a:pt x="995" y="368"/>
                </a:lnTo>
                <a:lnTo>
                  <a:pt x="1003" y="362"/>
                </a:lnTo>
                <a:lnTo>
                  <a:pt x="1006" y="355"/>
                </a:lnTo>
                <a:lnTo>
                  <a:pt x="1007" y="352"/>
                </a:lnTo>
                <a:lnTo>
                  <a:pt x="1007" y="348"/>
                </a:lnTo>
                <a:lnTo>
                  <a:pt x="1007" y="348"/>
                </a:lnTo>
                <a:lnTo>
                  <a:pt x="1017" y="351"/>
                </a:lnTo>
                <a:lnTo>
                  <a:pt x="1042" y="352"/>
                </a:lnTo>
                <a:lnTo>
                  <a:pt x="1090" y="355"/>
                </a:lnTo>
                <a:lnTo>
                  <a:pt x="1108" y="361"/>
                </a:lnTo>
                <a:lnTo>
                  <a:pt x="1114" y="365"/>
                </a:lnTo>
                <a:lnTo>
                  <a:pt x="1119" y="373"/>
                </a:lnTo>
                <a:lnTo>
                  <a:pt x="1120" y="380"/>
                </a:lnTo>
                <a:lnTo>
                  <a:pt x="1121" y="380"/>
                </a:lnTo>
                <a:lnTo>
                  <a:pt x="1120" y="381"/>
                </a:lnTo>
                <a:lnTo>
                  <a:pt x="1117" y="383"/>
                </a:lnTo>
                <a:lnTo>
                  <a:pt x="1108" y="393"/>
                </a:lnTo>
                <a:lnTo>
                  <a:pt x="1103" y="406"/>
                </a:lnTo>
                <a:lnTo>
                  <a:pt x="1103" y="407"/>
                </a:lnTo>
                <a:lnTo>
                  <a:pt x="1094" y="409"/>
                </a:lnTo>
                <a:lnTo>
                  <a:pt x="1077" y="412"/>
                </a:lnTo>
                <a:lnTo>
                  <a:pt x="1033" y="426"/>
                </a:lnTo>
                <a:lnTo>
                  <a:pt x="997" y="445"/>
                </a:lnTo>
                <a:lnTo>
                  <a:pt x="993" y="449"/>
                </a:lnTo>
                <a:lnTo>
                  <a:pt x="1000" y="452"/>
                </a:lnTo>
                <a:lnTo>
                  <a:pt x="1019" y="457"/>
                </a:lnTo>
                <a:lnTo>
                  <a:pt x="1066" y="461"/>
                </a:lnTo>
                <a:lnTo>
                  <a:pt x="1106" y="465"/>
                </a:lnTo>
                <a:lnTo>
                  <a:pt x="1111" y="467"/>
                </a:lnTo>
                <a:lnTo>
                  <a:pt x="1116" y="462"/>
                </a:lnTo>
                <a:lnTo>
                  <a:pt x="1124" y="452"/>
                </a:lnTo>
                <a:lnTo>
                  <a:pt x="1145" y="430"/>
                </a:lnTo>
                <a:lnTo>
                  <a:pt x="1156" y="422"/>
                </a:lnTo>
                <a:lnTo>
                  <a:pt x="1169" y="417"/>
                </a:lnTo>
                <a:lnTo>
                  <a:pt x="1177" y="416"/>
                </a:lnTo>
                <a:lnTo>
                  <a:pt x="1178" y="430"/>
                </a:lnTo>
                <a:lnTo>
                  <a:pt x="1187" y="461"/>
                </a:lnTo>
                <a:lnTo>
                  <a:pt x="1208" y="525"/>
                </a:lnTo>
                <a:lnTo>
                  <a:pt x="1227" y="587"/>
                </a:lnTo>
                <a:lnTo>
                  <a:pt x="1232" y="600"/>
                </a:lnTo>
                <a:lnTo>
                  <a:pt x="1226" y="617"/>
                </a:lnTo>
                <a:lnTo>
                  <a:pt x="1217" y="652"/>
                </a:lnTo>
                <a:lnTo>
                  <a:pt x="1217" y="720"/>
                </a:lnTo>
                <a:lnTo>
                  <a:pt x="1230" y="748"/>
                </a:lnTo>
                <a:lnTo>
                  <a:pt x="1252" y="768"/>
                </a:lnTo>
                <a:lnTo>
                  <a:pt x="1268" y="774"/>
                </a:lnTo>
                <a:lnTo>
                  <a:pt x="1268" y="787"/>
                </a:lnTo>
                <a:lnTo>
                  <a:pt x="1268" y="820"/>
                </a:lnTo>
                <a:lnTo>
                  <a:pt x="1266" y="897"/>
                </a:lnTo>
                <a:lnTo>
                  <a:pt x="1263" y="933"/>
                </a:lnTo>
                <a:lnTo>
                  <a:pt x="1255" y="959"/>
                </a:lnTo>
                <a:lnTo>
                  <a:pt x="1249" y="968"/>
                </a:lnTo>
                <a:lnTo>
                  <a:pt x="1250" y="984"/>
                </a:lnTo>
                <a:lnTo>
                  <a:pt x="1256" y="999"/>
                </a:lnTo>
                <a:lnTo>
                  <a:pt x="1263" y="1012"/>
                </a:lnTo>
                <a:lnTo>
                  <a:pt x="1287" y="1038"/>
                </a:lnTo>
                <a:lnTo>
                  <a:pt x="1313" y="1061"/>
                </a:lnTo>
                <a:lnTo>
                  <a:pt x="1337" y="1085"/>
                </a:lnTo>
                <a:lnTo>
                  <a:pt x="1355" y="1112"/>
                </a:lnTo>
                <a:lnTo>
                  <a:pt x="1359" y="1125"/>
                </a:lnTo>
                <a:lnTo>
                  <a:pt x="1365" y="1152"/>
                </a:lnTo>
                <a:lnTo>
                  <a:pt x="1390" y="1201"/>
                </a:lnTo>
                <a:lnTo>
                  <a:pt x="1423" y="1243"/>
                </a:lnTo>
                <a:lnTo>
                  <a:pt x="1488" y="1319"/>
                </a:lnTo>
                <a:lnTo>
                  <a:pt x="1514" y="1372"/>
                </a:lnTo>
                <a:lnTo>
                  <a:pt x="1513" y="1378"/>
                </a:lnTo>
                <a:lnTo>
                  <a:pt x="1511" y="1387"/>
                </a:lnTo>
                <a:lnTo>
                  <a:pt x="1505" y="1403"/>
                </a:lnTo>
                <a:lnTo>
                  <a:pt x="1497" y="1417"/>
                </a:lnTo>
                <a:lnTo>
                  <a:pt x="1495" y="1419"/>
                </a:lnTo>
                <a:lnTo>
                  <a:pt x="1469" y="1417"/>
                </a:lnTo>
                <a:lnTo>
                  <a:pt x="1449" y="1411"/>
                </a:lnTo>
                <a:lnTo>
                  <a:pt x="1433" y="1404"/>
                </a:lnTo>
                <a:lnTo>
                  <a:pt x="1411" y="1390"/>
                </a:lnTo>
                <a:lnTo>
                  <a:pt x="1403" y="1384"/>
                </a:lnTo>
                <a:lnTo>
                  <a:pt x="1397" y="1381"/>
                </a:lnTo>
                <a:lnTo>
                  <a:pt x="1394" y="1381"/>
                </a:lnTo>
                <a:lnTo>
                  <a:pt x="1391" y="1381"/>
                </a:lnTo>
                <a:lnTo>
                  <a:pt x="1388" y="1384"/>
                </a:lnTo>
                <a:lnTo>
                  <a:pt x="1385" y="1388"/>
                </a:lnTo>
                <a:lnTo>
                  <a:pt x="1381" y="1394"/>
                </a:lnTo>
                <a:lnTo>
                  <a:pt x="1374" y="1411"/>
                </a:lnTo>
                <a:lnTo>
                  <a:pt x="1363" y="1436"/>
                </a:lnTo>
                <a:lnTo>
                  <a:pt x="1359" y="1452"/>
                </a:lnTo>
                <a:lnTo>
                  <a:pt x="1329" y="1440"/>
                </a:lnTo>
                <a:lnTo>
                  <a:pt x="1277" y="1419"/>
                </a:lnTo>
                <a:lnTo>
                  <a:pt x="1181" y="1384"/>
                </a:lnTo>
                <a:lnTo>
                  <a:pt x="1085" y="1346"/>
                </a:lnTo>
                <a:lnTo>
                  <a:pt x="1059" y="1333"/>
                </a:lnTo>
                <a:lnTo>
                  <a:pt x="1046" y="1317"/>
                </a:lnTo>
                <a:lnTo>
                  <a:pt x="1030" y="1304"/>
                </a:lnTo>
                <a:lnTo>
                  <a:pt x="1011" y="1294"/>
                </a:lnTo>
                <a:lnTo>
                  <a:pt x="971" y="1278"/>
                </a:lnTo>
                <a:lnTo>
                  <a:pt x="890" y="1245"/>
                </a:lnTo>
                <a:lnTo>
                  <a:pt x="848" y="1194"/>
                </a:lnTo>
                <a:lnTo>
                  <a:pt x="845" y="1190"/>
                </a:lnTo>
                <a:lnTo>
                  <a:pt x="838" y="1177"/>
                </a:lnTo>
                <a:lnTo>
                  <a:pt x="819" y="1142"/>
                </a:lnTo>
                <a:lnTo>
                  <a:pt x="798" y="1112"/>
                </a:lnTo>
                <a:lnTo>
                  <a:pt x="794" y="1106"/>
                </a:lnTo>
                <a:lnTo>
                  <a:pt x="795" y="1101"/>
                </a:lnTo>
                <a:lnTo>
                  <a:pt x="801" y="1093"/>
                </a:lnTo>
                <a:lnTo>
                  <a:pt x="814" y="1074"/>
                </a:lnTo>
                <a:lnTo>
                  <a:pt x="826" y="1056"/>
                </a:lnTo>
                <a:lnTo>
                  <a:pt x="829" y="1051"/>
                </a:lnTo>
                <a:lnTo>
                  <a:pt x="822" y="1045"/>
                </a:lnTo>
                <a:lnTo>
                  <a:pt x="810" y="1030"/>
                </a:lnTo>
                <a:lnTo>
                  <a:pt x="784" y="1006"/>
                </a:lnTo>
                <a:lnTo>
                  <a:pt x="768" y="1000"/>
                </a:lnTo>
                <a:lnTo>
                  <a:pt x="751" y="1000"/>
                </a:lnTo>
                <a:lnTo>
                  <a:pt x="740" y="1003"/>
                </a:lnTo>
                <a:lnTo>
                  <a:pt x="719" y="1004"/>
                </a:lnTo>
                <a:lnTo>
                  <a:pt x="687" y="1007"/>
                </a:lnTo>
                <a:lnTo>
                  <a:pt x="668" y="1010"/>
                </a:lnTo>
                <a:lnTo>
                  <a:pt x="662" y="1010"/>
                </a:lnTo>
                <a:lnTo>
                  <a:pt x="659" y="1010"/>
                </a:lnTo>
                <a:lnTo>
                  <a:pt x="658" y="1009"/>
                </a:lnTo>
                <a:lnTo>
                  <a:pt x="656" y="1007"/>
                </a:lnTo>
                <a:lnTo>
                  <a:pt x="656" y="1006"/>
                </a:lnTo>
                <a:lnTo>
                  <a:pt x="656" y="1004"/>
                </a:lnTo>
                <a:lnTo>
                  <a:pt x="655" y="997"/>
                </a:lnTo>
                <a:lnTo>
                  <a:pt x="655" y="977"/>
                </a:lnTo>
                <a:lnTo>
                  <a:pt x="656" y="977"/>
                </a:lnTo>
                <a:lnTo>
                  <a:pt x="658" y="975"/>
                </a:lnTo>
                <a:lnTo>
                  <a:pt x="661" y="974"/>
                </a:lnTo>
                <a:lnTo>
                  <a:pt x="668" y="972"/>
                </a:lnTo>
                <a:lnTo>
                  <a:pt x="685" y="968"/>
                </a:lnTo>
                <a:lnTo>
                  <a:pt x="722" y="959"/>
                </a:lnTo>
                <a:lnTo>
                  <a:pt x="735" y="949"/>
                </a:lnTo>
                <a:lnTo>
                  <a:pt x="711" y="941"/>
                </a:lnTo>
                <a:lnTo>
                  <a:pt x="678" y="928"/>
                </a:lnTo>
                <a:lnTo>
                  <a:pt x="658" y="922"/>
                </a:lnTo>
                <a:lnTo>
                  <a:pt x="651" y="920"/>
                </a:lnTo>
                <a:lnTo>
                  <a:pt x="645" y="923"/>
                </a:lnTo>
                <a:lnTo>
                  <a:pt x="639" y="926"/>
                </a:lnTo>
                <a:lnTo>
                  <a:pt x="633" y="933"/>
                </a:lnTo>
                <a:lnTo>
                  <a:pt x="627" y="942"/>
                </a:lnTo>
                <a:lnTo>
                  <a:pt x="611" y="965"/>
                </a:lnTo>
                <a:lnTo>
                  <a:pt x="611" y="965"/>
                </a:lnTo>
                <a:lnTo>
                  <a:pt x="600" y="964"/>
                </a:lnTo>
                <a:lnTo>
                  <a:pt x="585" y="956"/>
                </a:lnTo>
                <a:lnTo>
                  <a:pt x="578" y="945"/>
                </a:lnTo>
                <a:lnTo>
                  <a:pt x="574" y="930"/>
                </a:lnTo>
                <a:lnTo>
                  <a:pt x="568" y="913"/>
                </a:lnTo>
                <a:lnTo>
                  <a:pt x="559" y="894"/>
                </a:lnTo>
                <a:lnTo>
                  <a:pt x="554" y="884"/>
                </a:lnTo>
                <a:lnTo>
                  <a:pt x="539" y="871"/>
                </a:lnTo>
                <a:lnTo>
                  <a:pt x="520" y="858"/>
                </a:lnTo>
                <a:lnTo>
                  <a:pt x="468" y="833"/>
                </a:lnTo>
                <a:lnTo>
                  <a:pt x="342" y="791"/>
                </a:lnTo>
                <a:lnTo>
                  <a:pt x="246" y="765"/>
                </a:lnTo>
                <a:lnTo>
                  <a:pt x="235" y="778"/>
                </a:lnTo>
                <a:lnTo>
                  <a:pt x="204" y="803"/>
                </a:lnTo>
                <a:lnTo>
                  <a:pt x="165" y="822"/>
                </a:lnTo>
                <a:lnTo>
                  <a:pt x="126" y="829"/>
                </a:lnTo>
                <a:lnTo>
                  <a:pt x="109" y="828"/>
                </a:lnTo>
                <a:lnTo>
                  <a:pt x="94" y="819"/>
                </a:lnTo>
                <a:lnTo>
                  <a:pt x="83" y="806"/>
                </a:lnTo>
                <a:lnTo>
                  <a:pt x="74" y="786"/>
                </a:lnTo>
                <a:lnTo>
                  <a:pt x="73" y="757"/>
                </a:lnTo>
                <a:lnTo>
                  <a:pt x="73" y="757"/>
                </a:lnTo>
                <a:lnTo>
                  <a:pt x="96" y="749"/>
                </a:lnTo>
                <a:lnTo>
                  <a:pt x="112" y="743"/>
                </a:lnTo>
                <a:lnTo>
                  <a:pt x="116" y="741"/>
                </a:lnTo>
                <a:lnTo>
                  <a:pt x="119" y="738"/>
                </a:lnTo>
                <a:lnTo>
                  <a:pt x="120" y="736"/>
                </a:lnTo>
                <a:lnTo>
                  <a:pt x="120" y="735"/>
                </a:lnTo>
                <a:lnTo>
                  <a:pt x="120" y="733"/>
                </a:lnTo>
                <a:lnTo>
                  <a:pt x="119" y="732"/>
                </a:lnTo>
                <a:lnTo>
                  <a:pt x="117" y="730"/>
                </a:lnTo>
                <a:lnTo>
                  <a:pt x="113" y="729"/>
                </a:lnTo>
                <a:lnTo>
                  <a:pt x="109" y="728"/>
                </a:lnTo>
                <a:lnTo>
                  <a:pt x="96" y="725"/>
                </a:lnTo>
                <a:lnTo>
                  <a:pt x="64" y="720"/>
                </a:lnTo>
                <a:lnTo>
                  <a:pt x="28" y="716"/>
                </a:lnTo>
                <a:lnTo>
                  <a:pt x="9" y="712"/>
                </a:lnTo>
                <a:lnTo>
                  <a:pt x="15" y="688"/>
                </a:lnTo>
                <a:lnTo>
                  <a:pt x="32" y="651"/>
                </a:lnTo>
                <a:lnTo>
                  <a:pt x="51" y="625"/>
                </a:lnTo>
                <a:lnTo>
                  <a:pt x="64" y="604"/>
                </a:lnTo>
                <a:lnTo>
                  <a:pt x="65" y="596"/>
                </a:lnTo>
                <a:lnTo>
                  <a:pt x="65" y="591"/>
                </a:lnTo>
                <a:lnTo>
                  <a:pt x="64" y="587"/>
                </a:lnTo>
                <a:lnTo>
                  <a:pt x="61" y="583"/>
                </a:lnTo>
                <a:lnTo>
                  <a:pt x="55" y="578"/>
                </a:lnTo>
                <a:lnTo>
                  <a:pt x="42" y="568"/>
                </a:lnTo>
                <a:lnTo>
                  <a:pt x="22" y="557"/>
                </a:lnTo>
                <a:lnTo>
                  <a:pt x="22" y="557"/>
                </a:lnTo>
                <a:lnTo>
                  <a:pt x="17" y="545"/>
                </a:lnTo>
                <a:lnTo>
                  <a:pt x="12" y="513"/>
                </a:lnTo>
                <a:lnTo>
                  <a:pt x="3" y="438"/>
                </a:lnTo>
                <a:lnTo>
                  <a:pt x="0" y="373"/>
                </a:lnTo>
                <a:lnTo>
                  <a:pt x="0" y="361"/>
                </a:lnTo>
                <a:lnTo>
                  <a:pt x="4" y="362"/>
                </a:lnTo>
                <a:lnTo>
                  <a:pt x="16" y="364"/>
                </a:lnTo>
                <a:lnTo>
                  <a:pt x="41" y="371"/>
                </a:lnTo>
                <a:lnTo>
                  <a:pt x="54" y="374"/>
                </a:lnTo>
                <a:lnTo>
                  <a:pt x="64" y="374"/>
                </a:lnTo>
                <a:lnTo>
                  <a:pt x="70" y="371"/>
                </a:lnTo>
                <a:lnTo>
                  <a:pt x="70" y="371"/>
                </a:lnTo>
                <a:close/>
                <a:moveTo>
                  <a:pt x="948" y="351"/>
                </a:moveTo>
                <a:lnTo>
                  <a:pt x="951" y="345"/>
                </a:lnTo>
                <a:lnTo>
                  <a:pt x="953" y="341"/>
                </a:lnTo>
                <a:lnTo>
                  <a:pt x="961" y="333"/>
                </a:lnTo>
                <a:lnTo>
                  <a:pt x="965" y="331"/>
                </a:lnTo>
                <a:lnTo>
                  <a:pt x="969" y="329"/>
                </a:lnTo>
                <a:lnTo>
                  <a:pt x="975" y="331"/>
                </a:lnTo>
                <a:lnTo>
                  <a:pt x="981" y="333"/>
                </a:lnTo>
                <a:lnTo>
                  <a:pt x="987" y="341"/>
                </a:lnTo>
                <a:lnTo>
                  <a:pt x="991" y="349"/>
                </a:lnTo>
                <a:lnTo>
                  <a:pt x="993" y="349"/>
                </a:lnTo>
                <a:lnTo>
                  <a:pt x="990" y="351"/>
                </a:lnTo>
                <a:lnTo>
                  <a:pt x="982" y="351"/>
                </a:lnTo>
                <a:lnTo>
                  <a:pt x="968" y="352"/>
                </a:lnTo>
                <a:lnTo>
                  <a:pt x="951" y="352"/>
                </a:lnTo>
                <a:lnTo>
                  <a:pt x="948" y="351"/>
                </a:lnTo>
                <a:lnTo>
                  <a:pt x="948" y="351"/>
                </a:lnTo>
                <a:close/>
                <a:moveTo>
                  <a:pt x="894" y="332"/>
                </a:moveTo>
                <a:lnTo>
                  <a:pt x="894" y="325"/>
                </a:lnTo>
                <a:lnTo>
                  <a:pt x="897" y="319"/>
                </a:lnTo>
                <a:lnTo>
                  <a:pt x="901" y="313"/>
                </a:lnTo>
                <a:lnTo>
                  <a:pt x="906" y="307"/>
                </a:lnTo>
                <a:lnTo>
                  <a:pt x="911" y="304"/>
                </a:lnTo>
                <a:lnTo>
                  <a:pt x="917" y="302"/>
                </a:lnTo>
                <a:lnTo>
                  <a:pt x="923" y="300"/>
                </a:lnTo>
                <a:lnTo>
                  <a:pt x="929" y="300"/>
                </a:lnTo>
                <a:lnTo>
                  <a:pt x="933" y="303"/>
                </a:lnTo>
                <a:lnTo>
                  <a:pt x="937" y="306"/>
                </a:lnTo>
                <a:lnTo>
                  <a:pt x="939" y="312"/>
                </a:lnTo>
                <a:lnTo>
                  <a:pt x="940" y="319"/>
                </a:lnTo>
                <a:lnTo>
                  <a:pt x="940" y="319"/>
                </a:lnTo>
                <a:lnTo>
                  <a:pt x="935" y="322"/>
                </a:lnTo>
                <a:lnTo>
                  <a:pt x="927" y="326"/>
                </a:lnTo>
                <a:lnTo>
                  <a:pt x="913" y="333"/>
                </a:lnTo>
                <a:lnTo>
                  <a:pt x="906" y="335"/>
                </a:lnTo>
                <a:lnTo>
                  <a:pt x="898" y="335"/>
                </a:lnTo>
                <a:lnTo>
                  <a:pt x="894" y="332"/>
                </a:lnTo>
                <a:lnTo>
                  <a:pt x="894" y="332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89840" y="2031840"/>
            <a:ext cx="33120" cy="17640"/>
          </a:xfrm>
          <a:custGeom>
            <a:avLst/>
            <a:gdLst/>
            <a:ahLst/>
            <a:rect l="l" t="t" r="r" b="b"/>
            <a:pathLst>
              <a:path w="97" h="47">
                <a:moveTo>
                  <a:pt x="72" y="47"/>
                </a:moveTo>
                <a:lnTo>
                  <a:pt x="65" y="47"/>
                </a:lnTo>
                <a:lnTo>
                  <a:pt x="51" y="44"/>
                </a:lnTo>
                <a:lnTo>
                  <a:pt x="35" y="38"/>
                </a:lnTo>
                <a:lnTo>
                  <a:pt x="10" y="20"/>
                </a:lnTo>
                <a:lnTo>
                  <a:pt x="0" y="0"/>
                </a:lnTo>
                <a:lnTo>
                  <a:pt x="7" y="2"/>
                </a:lnTo>
                <a:lnTo>
                  <a:pt x="25" y="2"/>
                </a:lnTo>
                <a:lnTo>
                  <a:pt x="56" y="2"/>
                </a:lnTo>
                <a:lnTo>
                  <a:pt x="88" y="3"/>
                </a:lnTo>
                <a:lnTo>
                  <a:pt x="97" y="3"/>
                </a:lnTo>
                <a:lnTo>
                  <a:pt x="96" y="7"/>
                </a:lnTo>
                <a:lnTo>
                  <a:pt x="94" y="16"/>
                </a:lnTo>
                <a:lnTo>
                  <a:pt x="90" y="25"/>
                </a:lnTo>
                <a:lnTo>
                  <a:pt x="80" y="39"/>
                </a:lnTo>
                <a:lnTo>
                  <a:pt x="72" y="47"/>
                </a:lnTo>
                <a:lnTo>
                  <a:pt x="72" y="47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4760" y="1698480"/>
            <a:ext cx="520920" cy="474840"/>
          </a:xfrm>
          <a:custGeom>
            <a:avLst/>
            <a:gdLst/>
            <a:ahLst/>
            <a:rect l="l" t="t" r="r" b="b"/>
            <a:pathLst>
              <a:path w="1514" h="1452">
                <a:moveTo>
                  <a:pt x="70" y="371"/>
                </a:moveTo>
                <a:lnTo>
                  <a:pt x="62" y="349"/>
                </a:lnTo>
                <a:lnTo>
                  <a:pt x="51" y="315"/>
                </a:lnTo>
                <a:lnTo>
                  <a:pt x="35" y="265"/>
                </a:lnTo>
                <a:lnTo>
                  <a:pt x="39" y="215"/>
                </a:lnTo>
                <a:lnTo>
                  <a:pt x="45" y="196"/>
                </a:lnTo>
                <a:lnTo>
                  <a:pt x="45" y="189"/>
                </a:lnTo>
                <a:lnTo>
                  <a:pt x="45" y="173"/>
                </a:lnTo>
                <a:lnTo>
                  <a:pt x="49" y="135"/>
                </a:lnTo>
                <a:lnTo>
                  <a:pt x="52" y="102"/>
                </a:lnTo>
                <a:lnTo>
                  <a:pt x="54" y="94"/>
                </a:lnTo>
                <a:lnTo>
                  <a:pt x="65" y="93"/>
                </a:lnTo>
                <a:lnTo>
                  <a:pt x="77" y="96"/>
                </a:lnTo>
                <a:lnTo>
                  <a:pt x="84" y="103"/>
                </a:lnTo>
                <a:lnTo>
                  <a:pt x="90" y="112"/>
                </a:lnTo>
                <a:lnTo>
                  <a:pt x="94" y="123"/>
                </a:lnTo>
                <a:lnTo>
                  <a:pt x="97" y="136"/>
                </a:lnTo>
                <a:lnTo>
                  <a:pt x="100" y="162"/>
                </a:lnTo>
                <a:lnTo>
                  <a:pt x="102" y="184"/>
                </a:lnTo>
                <a:lnTo>
                  <a:pt x="103" y="193"/>
                </a:lnTo>
                <a:lnTo>
                  <a:pt x="104" y="196"/>
                </a:lnTo>
                <a:lnTo>
                  <a:pt x="106" y="196"/>
                </a:lnTo>
                <a:lnTo>
                  <a:pt x="109" y="190"/>
                </a:lnTo>
                <a:lnTo>
                  <a:pt x="112" y="181"/>
                </a:lnTo>
                <a:lnTo>
                  <a:pt x="113" y="170"/>
                </a:lnTo>
                <a:lnTo>
                  <a:pt x="116" y="142"/>
                </a:lnTo>
                <a:lnTo>
                  <a:pt x="122" y="115"/>
                </a:lnTo>
                <a:lnTo>
                  <a:pt x="133" y="91"/>
                </a:lnTo>
                <a:lnTo>
                  <a:pt x="144" y="83"/>
                </a:lnTo>
                <a:lnTo>
                  <a:pt x="155" y="78"/>
                </a:lnTo>
                <a:lnTo>
                  <a:pt x="171" y="77"/>
                </a:lnTo>
                <a:lnTo>
                  <a:pt x="172" y="77"/>
                </a:lnTo>
                <a:lnTo>
                  <a:pt x="172" y="80"/>
                </a:lnTo>
                <a:lnTo>
                  <a:pt x="174" y="94"/>
                </a:lnTo>
                <a:lnTo>
                  <a:pt x="181" y="146"/>
                </a:lnTo>
                <a:lnTo>
                  <a:pt x="187" y="186"/>
                </a:lnTo>
                <a:lnTo>
                  <a:pt x="188" y="187"/>
                </a:lnTo>
                <a:lnTo>
                  <a:pt x="190" y="177"/>
                </a:lnTo>
                <a:lnTo>
                  <a:pt x="191" y="167"/>
                </a:lnTo>
                <a:lnTo>
                  <a:pt x="194" y="141"/>
                </a:lnTo>
                <a:lnTo>
                  <a:pt x="199" y="116"/>
                </a:lnTo>
                <a:lnTo>
                  <a:pt x="203" y="107"/>
                </a:lnTo>
                <a:lnTo>
                  <a:pt x="207" y="102"/>
                </a:lnTo>
                <a:lnTo>
                  <a:pt x="212" y="100"/>
                </a:lnTo>
                <a:lnTo>
                  <a:pt x="217" y="103"/>
                </a:lnTo>
                <a:lnTo>
                  <a:pt x="219" y="103"/>
                </a:lnTo>
                <a:lnTo>
                  <a:pt x="222" y="106"/>
                </a:lnTo>
                <a:lnTo>
                  <a:pt x="225" y="110"/>
                </a:lnTo>
                <a:lnTo>
                  <a:pt x="226" y="116"/>
                </a:lnTo>
                <a:lnTo>
                  <a:pt x="230" y="129"/>
                </a:lnTo>
                <a:lnTo>
                  <a:pt x="238" y="152"/>
                </a:lnTo>
                <a:lnTo>
                  <a:pt x="243" y="155"/>
                </a:lnTo>
                <a:lnTo>
                  <a:pt x="245" y="154"/>
                </a:lnTo>
                <a:lnTo>
                  <a:pt x="246" y="151"/>
                </a:lnTo>
                <a:lnTo>
                  <a:pt x="246" y="145"/>
                </a:lnTo>
                <a:lnTo>
                  <a:pt x="246" y="132"/>
                </a:lnTo>
                <a:lnTo>
                  <a:pt x="246" y="106"/>
                </a:lnTo>
                <a:lnTo>
                  <a:pt x="251" y="99"/>
                </a:lnTo>
                <a:lnTo>
                  <a:pt x="257" y="99"/>
                </a:lnTo>
                <a:lnTo>
                  <a:pt x="265" y="100"/>
                </a:lnTo>
                <a:lnTo>
                  <a:pt x="272" y="103"/>
                </a:lnTo>
                <a:lnTo>
                  <a:pt x="278" y="107"/>
                </a:lnTo>
                <a:lnTo>
                  <a:pt x="281" y="110"/>
                </a:lnTo>
                <a:lnTo>
                  <a:pt x="286" y="112"/>
                </a:lnTo>
                <a:lnTo>
                  <a:pt x="288" y="112"/>
                </a:lnTo>
                <a:lnTo>
                  <a:pt x="286" y="107"/>
                </a:lnTo>
                <a:lnTo>
                  <a:pt x="278" y="94"/>
                </a:lnTo>
                <a:lnTo>
                  <a:pt x="259" y="67"/>
                </a:lnTo>
                <a:lnTo>
                  <a:pt x="228" y="44"/>
                </a:lnTo>
                <a:lnTo>
                  <a:pt x="219" y="41"/>
                </a:lnTo>
                <a:lnTo>
                  <a:pt x="219" y="39"/>
                </a:lnTo>
                <a:lnTo>
                  <a:pt x="222" y="35"/>
                </a:lnTo>
                <a:lnTo>
                  <a:pt x="225" y="32"/>
                </a:lnTo>
                <a:lnTo>
                  <a:pt x="235" y="25"/>
                </a:lnTo>
                <a:lnTo>
                  <a:pt x="257" y="9"/>
                </a:lnTo>
                <a:lnTo>
                  <a:pt x="264" y="0"/>
                </a:lnTo>
                <a:lnTo>
                  <a:pt x="287" y="19"/>
                </a:lnTo>
                <a:lnTo>
                  <a:pt x="335" y="57"/>
                </a:lnTo>
                <a:lnTo>
                  <a:pt x="436" y="120"/>
                </a:lnTo>
                <a:lnTo>
                  <a:pt x="548" y="161"/>
                </a:lnTo>
                <a:lnTo>
                  <a:pt x="580" y="165"/>
                </a:lnTo>
                <a:lnTo>
                  <a:pt x="593" y="155"/>
                </a:lnTo>
                <a:lnTo>
                  <a:pt x="610" y="144"/>
                </a:lnTo>
                <a:lnTo>
                  <a:pt x="616" y="142"/>
                </a:lnTo>
                <a:lnTo>
                  <a:pt x="617" y="142"/>
                </a:lnTo>
                <a:lnTo>
                  <a:pt x="620" y="144"/>
                </a:lnTo>
                <a:lnTo>
                  <a:pt x="622" y="145"/>
                </a:lnTo>
                <a:lnTo>
                  <a:pt x="623" y="146"/>
                </a:lnTo>
                <a:lnTo>
                  <a:pt x="625" y="151"/>
                </a:lnTo>
                <a:lnTo>
                  <a:pt x="626" y="158"/>
                </a:lnTo>
                <a:lnTo>
                  <a:pt x="632" y="178"/>
                </a:lnTo>
                <a:lnTo>
                  <a:pt x="643" y="207"/>
                </a:lnTo>
                <a:lnTo>
                  <a:pt x="648" y="215"/>
                </a:lnTo>
                <a:lnTo>
                  <a:pt x="661" y="215"/>
                </a:lnTo>
                <a:lnTo>
                  <a:pt x="684" y="207"/>
                </a:lnTo>
                <a:lnTo>
                  <a:pt x="704" y="200"/>
                </a:lnTo>
                <a:lnTo>
                  <a:pt x="722" y="196"/>
                </a:lnTo>
                <a:lnTo>
                  <a:pt x="730" y="196"/>
                </a:lnTo>
                <a:lnTo>
                  <a:pt x="739" y="200"/>
                </a:lnTo>
                <a:lnTo>
                  <a:pt x="746" y="206"/>
                </a:lnTo>
                <a:lnTo>
                  <a:pt x="755" y="217"/>
                </a:lnTo>
                <a:lnTo>
                  <a:pt x="764" y="232"/>
                </a:lnTo>
                <a:lnTo>
                  <a:pt x="765" y="232"/>
                </a:lnTo>
                <a:lnTo>
                  <a:pt x="795" y="232"/>
                </a:lnTo>
                <a:lnTo>
                  <a:pt x="845" y="233"/>
                </a:lnTo>
                <a:lnTo>
                  <a:pt x="877" y="244"/>
                </a:lnTo>
                <a:lnTo>
                  <a:pt x="885" y="252"/>
                </a:lnTo>
                <a:lnTo>
                  <a:pt x="891" y="262"/>
                </a:lnTo>
                <a:lnTo>
                  <a:pt x="891" y="274"/>
                </a:lnTo>
                <a:lnTo>
                  <a:pt x="887" y="287"/>
                </a:lnTo>
                <a:lnTo>
                  <a:pt x="878" y="304"/>
                </a:lnTo>
                <a:lnTo>
                  <a:pt x="865" y="322"/>
                </a:lnTo>
                <a:lnTo>
                  <a:pt x="848" y="342"/>
                </a:lnTo>
                <a:lnTo>
                  <a:pt x="848" y="342"/>
                </a:lnTo>
                <a:lnTo>
                  <a:pt x="855" y="352"/>
                </a:lnTo>
                <a:lnTo>
                  <a:pt x="877" y="380"/>
                </a:lnTo>
                <a:lnTo>
                  <a:pt x="894" y="402"/>
                </a:lnTo>
                <a:lnTo>
                  <a:pt x="895" y="402"/>
                </a:lnTo>
                <a:lnTo>
                  <a:pt x="903" y="402"/>
                </a:lnTo>
                <a:lnTo>
                  <a:pt x="924" y="397"/>
                </a:lnTo>
                <a:lnTo>
                  <a:pt x="975" y="380"/>
                </a:lnTo>
                <a:lnTo>
                  <a:pt x="995" y="368"/>
                </a:lnTo>
                <a:lnTo>
                  <a:pt x="1003" y="362"/>
                </a:lnTo>
                <a:lnTo>
                  <a:pt x="1006" y="355"/>
                </a:lnTo>
                <a:lnTo>
                  <a:pt x="1007" y="352"/>
                </a:lnTo>
                <a:lnTo>
                  <a:pt x="1007" y="348"/>
                </a:lnTo>
                <a:lnTo>
                  <a:pt x="1007" y="348"/>
                </a:lnTo>
                <a:lnTo>
                  <a:pt x="1017" y="351"/>
                </a:lnTo>
                <a:lnTo>
                  <a:pt x="1042" y="352"/>
                </a:lnTo>
                <a:lnTo>
                  <a:pt x="1090" y="355"/>
                </a:lnTo>
                <a:lnTo>
                  <a:pt x="1108" y="361"/>
                </a:lnTo>
                <a:lnTo>
                  <a:pt x="1114" y="365"/>
                </a:lnTo>
                <a:lnTo>
                  <a:pt x="1119" y="373"/>
                </a:lnTo>
                <a:lnTo>
                  <a:pt x="1120" y="380"/>
                </a:lnTo>
                <a:lnTo>
                  <a:pt x="1121" y="380"/>
                </a:lnTo>
                <a:lnTo>
                  <a:pt x="1120" y="381"/>
                </a:lnTo>
                <a:lnTo>
                  <a:pt x="1117" y="383"/>
                </a:lnTo>
                <a:lnTo>
                  <a:pt x="1108" y="393"/>
                </a:lnTo>
                <a:lnTo>
                  <a:pt x="1103" y="406"/>
                </a:lnTo>
                <a:lnTo>
                  <a:pt x="1103" y="407"/>
                </a:lnTo>
                <a:lnTo>
                  <a:pt x="1094" y="409"/>
                </a:lnTo>
                <a:lnTo>
                  <a:pt x="1077" y="412"/>
                </a:lnTo>
                <a:lnTo>
                  <a:pt x="1033" y="426"/>
                </a:lnTo>
                <a:lnTo>
                  <a:pt x="997" y="445"/>
                </a:lnTo>
                <a:lnTo>
                  <a:pt x="993" y="449"/>
                </a:lnTo>
                <a:lnTo>
                  <a:pt x="1000" y="452"/>
                </a:lnTo>
                <a:lnTo>
                  <a:pt x="1019" y="457"/>
                </a:lnTo>
                <a:lnTo>
                  <a:pt x="1066" y="461"/>
                </a:lnTo>
                <a:lnTo>
                  <a:pt x="1106" y="465"/>
                </a:lnTo>
                <a:lnTo>
                  <a:pt x="1111" y="467"/>
                </a:lnTo>
                <a:lnTo>
                  <a:pt x="1116" y="462"/>
                </a:lnTo>
                <a:lnTo>
                  <a:pt x="1124" y="452"/>
                </a:lnTo>
                <a:lnTo>
                  <a:pt x="1145" y="430"/>
                </a:lnTo>
                <a:lnTo>
                  <a:pt x="1156" y="422"/>
                </a:lnTo>
                <a:lnTo>
                  <a:pt x="1169" y="417"/>
                </a:lnTo>
                <a:lnTo>
                  <a:pt x="1177" y="416"/>
                </a:lnTo>
                <a:lnTo>
                  <a:pt x="1178" y="430"/>
                </a:lnTo>
                <a:lnTo>
                  <a:pt x="1187" y="461"/>
                </a:lnTo>
                <a:lnTo>
                  <a:pt x="1208" y="525"/>
                </a:lnTo>
                <a:lnTo>
                  <a:pt x="1227" y="587"/>
                </a:lnTo>
                <a:lnTo>
                  <a:pt x="1232" y="600"/>
                </a:lnTo>
                <a:lnTo>
                  <a:pt x="1226" y="617"/>
                </a:lnTo>
                <a:lnTo>
                  <a:pt x="1217" y="652"/>
                </a:lnTo>
                <a:lnTo>
                  <a:pt x="1217" y="720"/>
                </a:lnTo>
                <a:lnTo>
                  <a:pt x="1230" y="748"/>
                </a:lnTo>
                <a:lnTo>
                  <a:pt x="1252" y="768"/>
                </a:lnTo>
                <a:lnTo>
                  <a:pt x="1268" y="774"/>
                </a:lnTo>
                <a:lnTo>
                  <a:pt x="1268" y="787"/>
                </a:lnTo>
                <a:lnTo>
                  <a:pt x="1268" y="820"/>
                </a:lnTo>
                <a:lnTo>
                  <a:pt x="1266" y="897"/>
                </a:lnTo>
                <a:lnTo>
                  <a:pt x="1263" y="933"/>
                </a:lnTo>
                <a:lnTo>
                  <a:pt x="1255" y="959"/>
                </a:lnTo>
                <a:lnTo>
                  <a:pt x="1249" y="968"/>
                </a:lnTo>
                <a:lnTo>
                  <a:pt x="1250" y="984"/>
                </a:lnTo>
                <a:lnTo>
                  <a:pt x="1256" y="999"/>
                </a:lnTo>
                <a:lnTo>
                  <a:pt x="1263" y="1012"/>
                </a:lnTo>
                <a:lnTo>
                  <a:pt x="1287" y="1038"/>
                </a:lnTo>
                <a:lnTo>
                  <a:pt x="1313" y="1061"/>
                </a:lnTo>
                <a:lnTo>
                  <a:pt x="1337" y="1085"/>
                </a:lnTo>
                <a:lnTo>
                  <a:pt x="1355" y="1112"/>
                </a:lnTo>
                <a:lnTo>
                  <a:pt x="1359" y="1125"/>
                </a:lnTo>
                <a:lnTo>
                  <a:pt x="1365" y="1152"/>
                </a:lnTo>
                <a:lnTo>
                  <a:pt x="1390" y="1201"/>
                </a:lnTo>
                <a:lnTo>
                  <a:pt x="1423" y="1243"/>
                </a:lnTo>
                <a:lnTo>
                  <a:pt x="1488" y="1319"/>
                </a:lnTo>
                <a:lnTo>
                  <a:pt x="1514" y="1372"/>
                </a:lnTo>
                <a:lnTo>
                  <a:pt x="1513" y="1378"/>
                </a:lnTo>
                <a:lnTo>
                  <a:pt x="1511" y="1387"/>
                </a:lnTo>
                <a:lnTo>
                  <a:pt x="1505" y="1403"/>
                </a:lnTo>
                <a:lnTo>
                  <a:pt x="1497" y="1417"/>
                </a:lnTo>
                <a:lnTo>
                  <a:pt x="1495" y="1419"/>
                </a:lnTo>
                <a:lnTo>
                  <a:pt x="1469" y="1417"/>
                </a:lnTo>
                <a:lnTo>
                  <a:pt x="1449" y="1411"/>
                </a:lnTo>
                <a:lnTo>
                  <a:pt x="1433" y="1404"/>
                </a:lnTo>
                <a:lnTo>
                  <a:pt x="1411" y="1390"/>
                </a:lnTo>
                <a:lnTo>
                  <a:pt x="1403" y="1384"/>
                </a:lnTo>
                <a:lnTo>
                  <a:pt x="1397" y="1381"/>
                </a:lnTo>
                <a:lnTo>
                  <a:pt x="1394" y="1381"/>
                </a:lnTo>
                <a:lnTo>
                  <a:pt x="1391" y="1381"/>
                </a:lnTo>
                <a:lnTo>
                  <a:pt x="1388" y="1384"/>
                </a:lnTo>
                <a:lnTo>
                  <a:pt x="1385" y="1388"/>
                </a:lnTo>
                <a:lnTo>
                  <a:pt x="1381" y="1394"/>
                </a:lnTo>
                <a:lnTo>
                  <a:pt x="1374" y="1411"/>
                </a:lnTo>
                <a:lnTo>
                  <a:pt x="1363" y="1436"/>
                </a:lnTo>
                <a:lnTo>
                  <a:pt x="1359" y="1452"/>
                </a:lnTo>
                <a:lnTo>
                  <a:pt x="1329" y="1440"/>
                </a:lnTo>
                <a:lnTo>
                  <a:pt x="1277" y="1419"/>
                </a:lnTo>
                <a:lnTo>
                  <a:pt x="1181" y="1384"/>
                </a:lnTo>
                <a:lnTo>
                  <a:pt x="1085" y="1346"/>
                </a:lnTo>
                <a:lnTo>
                  <a:pt x="1059" y="1333"/>
                </a:lnTo>
                <a:lnTo>
                  <a:pt x="1046" y="1317"/>
                </a:lnTo>
                <a:lnTo>
                  <a:pt x="1030" y="1304"/>
                </a:lnTo>
                <a:lnTo>
                  <a:pt x="1011" y="1294"/>
                </a:lnTo>
                <a:lnTo>
                  <a:pt x="971" y="1278"/>
                </a:lnTo>
                <a:lnTo>
                  <a:pt x="890" y="1245"/>
                </a:lnTo>
                <a:lnTo>
                  <a:pt x="848" y="1194"/>
                </a:lnTo>
                <a:lnTo>
                  <a:pt x="845" y="1190"/>
                </a:lnTo>
                <a:lnTo>
                  <a:pt x="838" y="1177"/>
                </a:lnTo>
                <a:lnTo>
                  <a:pt x="819" y="1142"/>
                </a:lnTo>
                <a:lnTo>
                  <a:pt x="798" y="1112"/>
                </a:lnTo>
                <a:lnTo>
                  <a:pt x="794" y="1106"/>
                </a:lnTo>
                <a:lnTo>
                  <a:pt x="795" y="1101"/>
                </a:lnTo>
                <a:lnTo>
                  <a:pt x="801" y="1093"/>
                </a:lnTo>
                <a:lnTo>
                  <a:pt x="814" y="1074"/>
                </a:lnTo>
                <a:lnTo>
                  <a:pt x="826" y="1056"/>
                </a:lnTo>
                <a:lnTo>
                  <a:pt x="829" y="1051"/>
                </a:lnTo>
                <a:lnTo>
                  <a:pt x="822" y="1045"/>
                </a:lnTo>
                <a:lnTo>
                  <a:pt x="810" y="1030"/>
                </a:lnTo>
                <a:lnTo>
                  <a:pt x="784" y="1006"/>
                </a:lnTo>
                <a:lnTo>
                  <a:pt x="768" y="1000"/>
                </a:lnTo>
                <a:lnTo>
                  <a:pt x="751" y="1000"/>
                </a:lnTo>
                <a:lnTo>
                  <a:pt x="740" y="1003"/>
                </a:lnTo>
                <a:lnTo>
                  <a:pt x="719" y="1004"/>
                </a:lnTo>
                <a:lnTo>
                  <a:pt x="687" y="1007"/>
                </a:lnTo>
                <a:lnTo>
                  <a:pt x="668" y="1010"/>
                </a:lnTo>
                <a:lnTo>
                  <a:pt x="662" y="1010"/>
                </a:lnTo>
                <a:lnTo>
                  <a:pt x="659" y="1010"/>
                </a:lnTo>
                <a:lnTo>
                  <a:pt x="658" y="1009"/>
                </a:lnTo>
                <a:lnTo>
                  <a:pt x="656" y="1007"/>
                </a:lnTo>
                <a:lnTo>
                  <a:pt x="656" y="1006"/>
                </a:lnTo>
                <a:lnTo>
                  <a:pt x="656" y="1004"/>
                </a:lnTo>
                <a:lnTo>
                  <a:pt x="655" y="997"/>
                </a:lnTo>
                <a:lnTo>
                  <a:pt x="655" y="977"/>
                </a:lnTo>
                <a:lnTo>
                  <a:pt x="656" y="977"/>
                </a:lnTo>
                <a:lnTo>
                  <a:pt x="658" y="975"/>
                </a:lnTo>
                <a:lnTo>
                  <a:pt x="661" y="974"/>
                </a:lnTo>
                <a:lnTo>
                  <a:pt x="668" y="972"/>
                </a:lnTo>
                <a:lnTo>
                  <a:pt x="685" y="968"/>
                </a:lnTo>
                <a:lnTo>
                  <a:pt x="722" y="959"/>
                </a:lnTo>
                <a:lnTo>
                  <a:pt x="735" y="949"/>
                </a:lnTo>
                <a:lnTo>
                  <a:pt x="711" y="941"/>
                </a:lnTo>
                <a:lnTo>
                  <a:pt x="678" y="928"/>
                </a:lnTo>
                <a:lnTo>
                  <a:pt x="658" y="922"/>
                </a:lnTo>
                <a:lnTo>
                  <a:pt x="651" y="920"/>
                </a:lnTo>
                <a:lnTo>
                  <a:pt x="645" y="923"/>
                </a:lnTo>
                <a:lnTo>
                  <a:pt x="639" y="926"/>
                </a:lnTo>
                <a:lnTo>
                  <a:pt x="633" y="933"/>
                </a:lnTo>
                <a:lnTo>
                  <a:pt x="627" y="942"/>
                </a:lnTo>
                <a:lnTo>
                  <a:pt x="611" y="965"/>
                </a:lnTo>
                <a:lnTo>
                  <a:pt x="611" y="965"/>
                </a:lnTo>
                <a:lnTo>
                  <a:pt x="600" y="964"/>
                </a:lnTo>
                <a:lnTo>
                  <a:pt x="585" y="956"/>
                </a:lnTo>
                <a:lnTo>
                  <a:pt x="578" y="945"/>
                </a:lnTo>
                <a:lnTo>
                  <a:pt x="574" y="930"/>
                </a:lnTo>
                <a:lnTo>
                  <a:pt x="568" y="913"/>
                </a:lnTo>
                <a:lnTo>
                  <a:pt x="559" y="894"/>
                </a:lnTo>
                <a:lnTo>
                  <a:pt x="554" y="884"/>
                </a:lnTo>
                <a:lnTo>
                  <a:pt x="539" y="871"/>
                </a:lnTo>
                <a:lnTo>
                  <a:pt x="520" y="858"/>
                </a:lnTo>
                <a:lnTo>
                  <a:pt x="468" y="833"/>
                </a:lnTo>
                <a:lnTo>
                  <a:pt x="342" y="791"/>
                </a:lnTo>
                <a:lnTo>
                  <a:pt x="246" y="765"/>
                </a:lnTo>
                <a:lnTo>
                  <a:pt x="235" y="778"/>
                </a:lnTo>
                <a:lnTo>
                  <a:pt x="204" y="803"/>
                </a:lnTo>
                <a:lnTo>
                  <a:pt x="165" y="822"/>
                </a:lnTo>
                <a:lnTo>
                  <a:pt x="126" y="829"/>
                </a:lnTo>
                <a:lnTo>
                  <a:pt x="109" y="828"/>
                </a:lnTo>
                <a:lnTo>
                  <a:pt x="94" y="819"/>
                </a:lnTo>
                <a:lnTo>
                  <a:pt x="83" y="806"/>
                </a:lnTo>
                <a:lnTo>
                  <a:pt x="74" y="786"/>
                </a:lnTo>
                <a:lnTo>
                  <a:pt x="73" y="757"/>
                </a:lnTo>
                <a:lnTo>
                  <a:pt x="73" y="757"/>
                </a:lnTo>
                <a:lnTo>
                  <a:pt x="96" y="749"/>
                </a:lnTo>
                <a:lnTo>
                  <a:pt x="112" y="743"/>
                </a:lnTo>
                <a:lnTo>
                  <a:pt x="116" y="741"/>
                </a:lnTo>
                <a:lnTo>
                  <a:pt x="119" y="738"/>
                </a:lnTo>
                <a:lnTo>
                  <a:pt x="120" y="736"/>
                </a:lnTo>
                <a:lnTo>
                  <a:pt x="120" y="735"/>
                </a:lnTo>
                <a:lnTo>
                  <a:pt x="120" y="733"/>
                </a:lnTo>
                <a:lnTo>
                  <a:pt x="119" y="732"/>
                </a:lnTo>
                <a:lnTo>
                  <a:pt x="117" y="730"/>
                </a:lnTo>
                <a:lnTo>
                  <a:pt x="113" y="729"/>
                </a:lnTo>
                <a:lnTo>
                  <a:pt x="109" y="728"/>
                </a:lnTo>
                <a:lnTo>
                  <a:pt x="96" y="725"/>
                </a:lnTo>
                <a:lnTo>
                  <a:pt x="64" y="720"/>
                </a:lnTo>
                <a:lnTo>
                  <a:pt x="28" y="716"/>
                </a:lnTo>
                <a:lnTo>
                  <a:pt x="9" y="712"/>
                </a:lnTo>
                <a:lnTo>
                  <a:pt x="15" y="688"/>
                </a:lnTo>
                <a:lnTo>
                  <a:pt x="32" y="651"/>
                </a:lnTo>
                <a:lnTo>
                  <a:pt x="51" y="625"/>
                </a:lnTo>
                <a:lnTo>
                  <a:pt x="64" y="604"/>
                </a:lnTo>
                <a:lnTo>
                  <a:pt x="65" y="596"/>
                </a:lnTo>
                <a:lnTo>
                  <a:pt x="65" y="591"/>
                </a:lnTo>
                <a:lnTo>
                  <a:pt x="64" y="587"/>
                </a:lnTo>
                <a:lnTo>
                  <a:pt x="61" y="583"/>
                </a:lnTo>
                <a:lnTo>
                  <a:pt x="55" y="578"/>
                </a:lnTo>
                <a:lnTo>
                  <a:pt x="42" y="568"/>
                </a:lnTo>
                <a:lnTo>
                  <a:pt x="22" y="557"/>
                </a:lnTo>
                <a:lnTo>
                  <a:pt x="22" y="557"/>
                </a:lnTo>
                <a:lnTo>
                  <a:pt x="17" y="545"/>
                </a:lnTo>
                <a:lnTo>
                  <a:pt x="12" y="513"/>
                </a:lnTo>
                <a:lnTo>
                  <a:pt x="3" y="438"/>
                </a:lnTo>
                <a:lnTo>
                  <a:pt x="0" y="373"/>
                </a:lnTo>
                <a:lnTo>
                  <a:pt x="0" y="361"/>
                </a:lnTo>
                <a:lnTo>
                  <a:pt x="4" y="362"/>
                </a:lnTo>
                <a:lnTo>
                  <a:pt x="16" y="364"/>
                </a:lnTo>
                <a:lnTo>
                  <a:pt x="41" y="371"/>
                </a:lnTo>
                <a:lnTo>
                  <a:pt x="54" y="374"/>
                </a:lnTo>
                <a:lnTo>
                  <a:pt x="64" y="374"/>
                </a:lnTo>
                <a:lnTo>
                  <a:pt x="70" y="371"/>
                </a:lnTo>
                <a:lnTo>
                  <a:pt x="70" y="37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487800">
            <a:off x="7181640" y="1807920"/>
            <a:ext cx="14040" cy="468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22"/>
                </a:moveTo>
                <a:lnTo>
                  <a:pt x="3" y="16"/>
                </a:lnTo>
                <a:lnTo>
                  <a:pt x="5" y="12"/>
                </a:lnTo>
                <a:lnTo>
                  <a:pt x="13" y="4"/>
                </a:lnTo>
                <a:lnTo>
                  <a:pt x="17" y="2"/>
                </a:lnTo>
                <a:lnTo>
                  <a:pt x="21" y="0"/>
                </a:lnTo>
                <a:lnTo>
                  <a:pt x="27" y="2"/>
                </a:lnTo>
                <a:lnTo>
                  <a:pt x="33" y="4"/>
                </a:lnTo>
                <a:lnTo>
                  <a:pt x="39" y="12"/>
                </a:lnTo>
                <a:lnTo>
                  <a:pt x="43" y="20"/>
                </a:lnTo>
                <a:lnTo>
                  <a:pt x="45" y="20"/>
                </a:lnTo>
                <a:lnTo>
                  <a:pt x="42" y="22"/>
                </a:lnTo>
                <a:lnTo>
                  <a:pt x="34" y="22"/>
                </a:lnTo>
                <a:lnTo>
                  <a:pt x="20" y="23"/>
                </a:lnTo>
                <a:lnTo>
                  <a:pt x="3" y="23"/>
                </a:lnTo>
                <a:lnTo>
                  <a:pt x="0" y="22"/>
                </a:lnTo>
                <a:lnTo>
                  <a:pt x="0" y="2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62920" y="1795320"/>
            <a:ext cx="14040" cy="12960"/>
          </a:xfrm>
          <a:custGeom>
            <a:avLst/>
            <a:gdLst/>
            <a:ahLst/>
            <a:rect l="l" t="t" r="r" b="b"/>
            <a:pathLst>
              <a:path w="46" h="35">
                <a:moveTo>
                  <a:pt x="0" y="32"/>
                </a:moveTo>
                <a:lnTo>
                  <a:pt x="0" y="25"/>
                </a:lnTo>
                <a:lnTo>
                  <a:pt x="3" y="19"/>
                </a:lnTo>
                <a:lnTo>
                  <a:pt x="7" y="13"/>
                </a:lnTo>
                <a:lnTo>
                  <a:pt x="12" y="7"/>
                </a:lnTo>
                <a:lnTo>
                  <a:pt x="17" y="4"/>
                </a:lnTo>
                <a:lnTo>
                  <a:pt x="23" y="2"/>
                </a:lnTo>
                <a:lnTo>
                  <a:pt x="29" y="0"/>
                </a:lnTo>
                <a:lnTo>
                  <a:pt x="35" y="0"/>
                </a:lnTo>
                <a:lnTo>
                  <a:pt x="39" y="3"/>
                </a:lnTo>
                <a:lnTo>
                  <a:pt x="43" y="6"/>
                </a:lnTo>
                <a:lnTo>
                  <a:pt x="45" y="12"/>
                </a:lnTo>
                <a:lnTo>
                  <a:pt x="46" y="19"/>
                </a:lnTo>
                <a:lnTo>
                  <a:pt x="46" y="19"/>
                </a:lnTo>
                <a:lnTo>
                  <a:pt x="41" y="22"/>
                </a:lnTo>
                <a:lnTo>
                  <a:pt x="33" y="26"/>
                </a:lnTo>
                <a:lnTo>
                  <a:pt x="19" y="33"/>
                </a:lnTo>
                <a:lnTo>
                  <a:pt x="12" y="35"/>
                </a:lnTo>
                <a:lnTo>
                  <a:pt x="4" y="35"/>
                </a:lnTo>
                <a:lnTo>
                  <a:pt x="0" y="32"/>
                </a:lnTo>
                <a:lnTo>
                  <a:pt x="0" y="3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16480" y="2454120"/>
            <a:ext cx="20880" cy="44640"/>
          </a:xfrm>
          <a:custGeom>
            <a:avLst/>
            <a:gdLst/>
            <a:ahLst/>
            <a:rect l="l" t="t" r="r" b="b"/>
            <a:pathLst>
              <a:path w="60" h="136">
                <a:moveTo>
                  <a:pt x="0" y="126"/>
                </a:moveTo>
                <a:lnTo>
                  <a:pt x="6" y="132"/>
                </a:lnTo>
                <a:lnTo>
                  <a:pt x="15" y="136"/>
                </a:lnTo>
                <a:lnTo>
                  <a:pt x="19" y="136"/>
                </a:lnTo>
                <a:lnTo>
                  <a:pt x="22" y="135"/>
                </a:lnTo>
                <a:lnTo>
                  <a:pt x="25" y="132"/>
                </a:lnTo>
                <a:lnTo>
                  <a:pt x="26" y="129"/>
                </a:lnTo>
                <a:lnTo>
                  <a:pt x="32" y="123"/>
                </a:lnTo>
                <a:lnTo>
                  <a:pt x="38" y="115"/>
                </a:lnTo>
                <a:lnTo>
                  <a:pt x="42" y="110"/>
                </a:lnTo>
                <a:lnTo>
                  <a:pt x="42" y="103"/>
                </a:lnTo>
                <a:lnTo>
                  <a:pt x="44" y="87"/>
                </a:lnTo>
                <a:lnTo>
                  <a:pt x="52" y="55"/>
                </a:lnTo>
                <a:lnTo>
                  <a:pt x="58" y="23"/>
                </a:lnTo>
                <a:lnTo>
                  <a:pt x="60" y="15"/>
                </a:lnTo>
                <a:lnTo>
                  <a:pt x="57" y="13"/>
                </a:lnTo>
                <a:lnTo>
                  <a:pt x="52" y="12"/>
                </a:lnTo>
                <a:lnTo>
                  <a:pt x="44" y="9"/>
                </a:lnTo>
                <a:lnTo>
                  <a:pt x="21" y="3"/>
                </a:lnTo>
                <a:lnTo>
                  <a:pt x="3" y="0"/>
                </a:lnTo>
                <a:lnTo>
                  <a:pt x="3" y="13"/>
                </a:lnTo>
                <a:lnTo>
                  <a:pt x="3" y="35"/>
                </a:lnTo>
                <a:lnTo>
                  <a:pt x="3" y="74"/>
                </a:lnTo>
                <a:lnTo>
                  <a:pt x="0" y="116"/>
                </a:lnTo>
                <a:lnTo>
                  <a:pt x="0" y="126"/>
                </a:lnTo>
                <a:lnTo>
                  <a:pt x="0" y="126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9440" y="2416320"/>
            <a:ext cx="17280" cy="28440"/>
          </a:xfrm>
          <a:custGeom>
            <a:avLst/>
            <a:gdLst/>
            <a:ahLst/>
            <a:rect l="l" t="t" r="r" b="b"/>
            <a:pathLst>
              <a:path w="48" h="93">
                <a:moveTo>
                  <a:pt x="12" y="72"/>
                </a:moveTo>
                <a:lnTo>
                  <a:pt x="9" y="75"/>
                </a:lnTo>
                <a:lnTo>
                  <a:pt x="5" y="77"/>
                </a:lnTo>
                <a:lnTo>
                  <a:pt x="0" y="78"/>
                </a:lnTo>
                <a:lnTo>
                  <a:pt x="0" y="83"/>
                </a:lnTo>
                <a:lnTo>
                  <a:pt x="0" y="84"/>
                </a:lnTo>
                <a:lnTo>
                  <a:pt x="0" y="87"/>
                </a:lnTo>
                <a:lnTo>
                  <a:pt x="2" y="88"/>
                </a:lnTo>
                <a:lnTo>
                  <a:pt x="3" y="90"/>
                </a:lnTo>
                <a:lnTo>
                  <a:pt x="9" y="91"/>
                </a:lnTo>
                <a:lnTo>
                  <a:pt x="12" y="93"/>
                </a:lnTo>
                <a:lnTo>
                  <a:pt x="18" y="93"/>
                </a:lnTo>
                <a:lnTo>
                  <a:pt x="19" y="93"/>
                </a:lnTo>
                <a:lnTo>
                  <a:pt x="21" y="91"/>
                </a:lnTo>
                <a:lnTo>
                  <a:pt x="27" y="87"/>
                </a:lnTo>
                <a:lnTo>
                  <a:pt x="38" y="80"/>
                </a:lnTo>
                <a:lnTo>
                  <a:pt x="43" y="75"/>
                </a:lnTo>
                <a:lnTo>
                  <a:pt x="47" y="69"/>
                </a:lnTo>
                <a:lnTo>
                  <a:pt x="48" y="65"/>
                </a:lnTo>
                <a:lnTo>
                  <a:pt x="44" y="59"/>
                </a:lnTo>
                <a:lnTo>
                  <a:pt x="44" y="52"/>
                </a:lnTo>
                <a:lnTo>
                  <a:pt x="41" y="36"/>
                </a:lnTo>
                <a:lnTo>
                  <a:pt x="40" y="7"/>
                </a:lnTo>
                <a:lnTo>
                  <a:pt x="41" y="1"/>
                </a:lnTo>
                <a:lnTo>
                  <a:pt x="37" y="1"/>
                </a:lnTo>
                <a:lnTo>
                  <a:pt x="29" y="1"/>
                </a:lnTo>
                <a:lnTo>
                  <a:pt x="22" y="0"/>
                </a:lnTo>
                <a:lnTo>
                  <a:pt x="18" y="0"/>
                </a:lnTo>
                <a:lnTo>
                  <a:pt x="15" y="1"/>
                </a:lnTo>
                <a:lnTo>
                  <a:pt x="14" y="3"/>
                </a:lnTo>
                <a:lnTo>
                  <a:pt x="11" y="7"/>
                </a:lnTo>
                <a:lnTo>
                  <a:pt x="9" y="12"/>
                </a:lnTo>
                <a:lnTo>
                  <a:pt x="9" y="16"/>
                </a:lnTo>
                <a:lnTo>
                  <a:pt x="9" y="16"/>
                </a:lnTo>
                <a:lnTo>
                  <a:pt x="8" y="23"/>
                </a:lnTo>
                <a:lnTo>
                  <a:pt x="6" y="35"/>
                </a:lnTo>
                <a:lnTo>
                  <a:pt x="3" y="56"/>
                </a:lnTo>
                <a:lnTo>
                  <a:pt x="3" y="65"/>
                </a:lnTo>
                <a:lnTo>
                  <a:pt x="5" y="68"/>
                </a:lnTo>
                <a:lnTo>
                  <a:pt x="8" y="71"/>
                </a:lnTo>
                <a:lnTo>
                  <a:pt x="11" y="72"/>
                </a:lnTo>
                <a:lnTo>
                  <a:pt x="12" y="72"/>
                </a:lnTo>
                <a:lnTo>
                  <a:pt x="12" y="7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35560" y="2394000"/>
            <a:ext cx="9720" cy="15840"/>
          </a:xfrm>
          <a:custGeom>
            <a:avLst/>
            <a:gdLst/>
            <a:ahLst/>
            <a:rect l="l" t="t" r="r" b="b"/>
            <a:pathLst>
              <a:path w="27" h="41">
                <a:moveTo>
                  <a:pt x="27" y="9"/>
                </a:moveTo>
                <a:lnTo>
                  <a:pt x="22" y="4"/>
                </a:lnTo>
                <a:lnTo>
                  <a:pt x="17" y="2"/>
                </a:lnTo>
                <a:lnTo>
                  <a:pt x="13" y="0"/>
                </a:lnTo>
                <a:lnTo>
                  <a:pt x="10" y="0"/>
                </a:lnTo>
                <a:lnTo>
                  <a:pt x="7" y="2"/>
                </a:lnTo>
                <a:lnTo>
                  <a:pt x="4" y="4"/>
                </a:lnTo>
                <a:lnTo>
                  <a:pt x="3" y="7"/>
                </a:lnTo>
                <a:lnTo>
                  <a:pt x="1" y="12"/>
                </a:lnTo>
                <a:lnTo>
                  <a:pt x="0" y="22"/>
                </a:lnTo>
                <a:lnTo>
                  <a:pt x="0" y="32"/>
                </a:lnTo>
                <a:lnTo>
                  <a:pt x="1" y="32"/>
                </a:lnTo>
                <a:lnTo>
                  <a:pt x="6" y="38"/>
                </a:lnTo>
                <a:lnTo>
                  <a:pt x="11" y="41"/>
                </a:lnTo>
                <a:lnTo>
                  <a:pt x="14" y="41"/>
                </a:lnTo>
                <a:lnTo>
                  <a:pt x="19" y="41"/>
                </a:lnTo>
                <a:lnTo>
                  <a:pt x="22" y="39"/>
                </a:lnTo>
                <a:lnTo>
                  <a:pt x="23" y="36"/>
                </a:lnTo>
                <a:lnTo>
                  <a:pt x="25" y="32"/>
                </a:lnTo>
                <a:lnTo>
                  <a:pt x="26" y="28"/>
                </a:lnTo>
                <a:lnTo>
                  <a:pt x="26" y="19"/>
                </a:lnTo>
                <a:lnTo>
                  <a:pt x="26" y="9"/>
                </a:lnTo>
                <a:lnTo>
                  <a:pt x="27" y="9"/>
                </a:lnTo>
                <a:lnTo>
                  <a:pt x="27" y="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13600" y="2384280"/>
            <a:ext cx="25200" cy="22320"/>
          </a:xfrm>
          <a:custGeom>
            <a:avLst/>
            <a:gdLst/>
            <a:ahLst/>
            <a:rect l="l" t="t" r="r" b="b"/>
            <a:pathLst>
              <a:path w="72" h="70">
                <a:moveTo>
                  <a:pt x="0" y="63"/>
                </a:moveTo>
                <a:lnTo>
                  <a:pt x="6" y="68"/>
                </a:lnTo>
                <a:lnTo>
                  <a:pt x="12" y="70"/>
                </a:lnTo>
                <a:lnTo>
                  <a:pt x="19" y="70"/>
                </a:lnTo>
                <a:lnTo>
                  <a:pt x="25" y="68"/>
                </a:lnTo>
                <a:lnTo>
                  <a:pt x="30" y="64"/>
                </a:lnTo>
                <a:lnTo>
                  <a:pt x="36" y="60"/>
                </a:lnTo>
                <a:lnTo>
                  <a:pt x="48" y="48"/>
                </a:lnTo>
                <a:lnTo>
                  <a:pt x="55" y="37"/>
                </a:lnTo>
                <a:lnTo>
                  <a:pt x="59" y="26"/>
                </a:lnTo>
                <a:lnTo>
                  <a:pt x="61" y="26"/>
                </a:lnTo>
                <a:lnTo>
                  <a:pt x="64" y="19"/>
                </a:lnTo>
                <a:lnTo>
                  <a:pt x="68" y="8"/>
                </a:lnTo>
                <a:lnTo>
                  <a:pt x="72" y="2"/>
                </a:lnTo>
                <a:lnTo>
                  <a:pt x="72" y="0"/>
                </a:lnTo>
                <a:lnTo>
                  <a:pt x="71" y="0"/>
                </a:lnTo>
                <a:lnTo>
                  <a:pt x="70" y="0"/>
                </a:lnTo>
                <a:lnTo>
                  <a:pt x="67" y="2"/>
                </a:lnTo>
                <a:lnTo>
                  <a:pt x="54" y="3"/>
                </a:lnTo>
                <a:lnTo>
                  <a:pt x="45" y="5"/>
                </a:lnTo>
                <a:lnTo>
                  <a:pt x="39" y="6"/>
                </a:lnTo>
                <a:lnTo>
                  <a:pt x="35" y="9"/>
                </a:lnTo>
                <a:lnTo>
                  <a:pt x="32" y="12"/>
                </a:lnTo>
                <a:lnTo>
                  <a:pt x="23" y="19"/>
                </a:lnTo>
                <a:lnTo>
                  <a:pt x="16" y="29"/>
                </a:lnTo>
                <a:lnTo>
                  <a:pt x="3" y="55"/>
                </a:lnTo>
                <a:lnTo>
                  <a:pt x="0" y="63"/>
                </a:lnTo>
                <a:lnTo>
                  <a:pt x="0" y="6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19720" y="2344680"/>
            <a:ext cx="20880" cy="36720"/>
          </a:xfrm>
          <a:custGeom>
            <a:avLst/>
            <a:gdLst/>
            <a:ahLst/>
            <a:rect l="l" t="t" r="r" b="b"/>
            <a:pathLst>
              <a:path w="62" h="108">
                <a:moveTo>
                  <a:pt x="0" y="66"/>
                </a:moveTo>
                <a:lnTo>
                  <a:pt x="0" y="71"/>
                </a:lnTo>
                <a:lnTo>
                  <a:pt x="0" y="77"/>
                </a:lnTo>
                <a:lnTo>
                  <a:pt x="1" y="82"/>
                </a:lnTo>
                <a:lnTo>
                  <a:pt x="4" y="83"/>
                </a:lnTo>
                <a:lnTo>
                  <a:pt x="7" y="86"/>
                </a:lnTo>
                <a:lnTo>
                  <a:pt x="11" y="90"/>
                </a:lnTo>
                <a:lnTo>
                  <a:pt x="14" y="92"/>
                </a:lnTo>
                <a:lnTo>
                  <a:pt x="11" y="93"/>
                </a:lnTo>
                <a:lnTo>
                  <a:pt x="7" y="96"/>
                </a:lnTo>
                <a:lnTo>
                  <a:pt x="2" y="100"/>
                </a:lnTo>
                <a:lnTo>
                  <a:pt x="0" y="106"/>
                </a:lnTo>
                <a:lnTo>
                  <a:pt x="0" y="108"/>
                </a:lnTo>
                <a:lnTo>
                  <a:pt x="4" y="108"/>
                </a:lnTo>
                <a:lnTo>
                  <a:pt x="8" y="106"/>
                </a:lnTo>
                <a:lnTo>
                  <a:pt x="17" y="105"/>
                </a:lnTo>
                <a:lnTo>
                  <a:pt x="21" y="103"/>
                </a:lnTo>
                <a:lnTo>
                  <a:pt x="28" y="100"/>
                </a:lnTo>
                <a:lnTo>
                  <a:pt x="43" y="90"/>
                </a:lnTo>
                <a:lnTo>
                  <a:pt x="55" y="77"/>
                </a:lnTo>
                <a:lnTo>
                  <a:pt x="60" y="61"/>
                </a:lnTo>
                <a:lnTo>
                  <a:pt x="62" y="44"/>
                </a:lnTo>
                <a:lnTo>
                  <a:pt x="60" y="27"/>
                </a:lnTo>
                <a:lnTo>
                  <a:pt x="57" y="16"/>
                </a:lnTo>
                <a:lnTo>
                  <a:pt x="52" y="8"/>
                </a:lnTo>
                <a:lnTo>
                  <a:pt x="46" y="2"/>
                </a:lnTo>
                <a:lnTo>
                  <a:pt x="43" y="0"/>
                </a:lnTo>
                <a:lnTo>
                  <a:pt x="40" y="0"/>
                </a:lnTo>
                <a:lnTo>
                  <a:pt x="37" y="0"/>
                </a:lnTo>
                <a:lnTo>
                  <a:pt x="34" y="2"/>
                </a:lnTo>
                <a:lnTo>
                  <a:pt x="33" y="3"/>
                </a:lnTo>
                <a:lnTo>
                  <a:pt x="27" y="9"/>
                </a:lnTo>
                <a:lnTo>
                  <a:pt x="23" y="15"/>
                </a:lnTo>
                <a:lnTo>
                  <a:pt x="14" y="31"/>
                </a:lnTo>
                <a:lnTo>
                  <a:pt x="8" y="45"/>
                </a:lnTo>
                <a:lnTo>
                  <a:pt x="8" y="50"/>
                </a:lnTo>
                <a:lnTo>
                  <a:pt x="11" y="57"/>
                </a:lnTo>
                <a:lnTo>
                  <a:pt x="14" y="64"/>
                </a:lnTo>
                <a:lnTo>
                  <a:pt x="15" y="67"/>
                </a:lnTo>
                <a:lnTo>
                  <a:pt x="15" y="69"/>
                </a:lnTo>
                <a:lnTo>
                  <a:pt x="13" y="69"/>
                </a:lnTo>
                <a:lnTo>
                  <a:pt x="11" y="69"/>
                </a:lnTo>
                <a:lnTo>
                  <a:pt x="5" y="67"/>
                </a:lnTo>
                <a:lnTo>
                  <a:pt x="0" y="66"/>
                </a:lnTo>
                <a:lnTo>
                  <a:pt x="0" y="66"/>
                </a:lnTo>
                <a:lnTo>
                  <a:pt x="0" y="66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05520" y="2206800"/>
            <a:ext cx="41400" cy="28440"/>
          </a:xfrm>
          <a:custGeom>
            <a:avLst/>
            <a:gdLst/>
            <a:ahLst/>
            <a:rect l="l" t="t" r="r" b="b"/>
            <a:pathLst>
              <a:path w="124" h="87">
                <a:moveTo>
                  <a:pt x="73" y="29"/>
                </a:moveTo>
                <a:lnTo>
                  <a:pt x="84" y="33"/>
                </a:lnTo>
                <a:lnTo>
                  <a:pt x="99" y="38"/>
                </a:lnTo>
                <a:lnTo>
                  <a:pt x="110" y="39"/>
                </a:lnTo>
                <a:lnTo>
                  <a:pt x="114" y="39"/>
                </a:lnTo>
                <a:lnTo>
                  <a:pt x="117" y="40"/>
                </a:lnTo>
                <a:lnTo>
                  <a:pt x="118" y="43"/>
                </a:lnTo>
                <a:lnTo>
                  <a:pt x="121" y="48"/>
                </a:lnTo>
                <a:lnTo>
                  <a:pt x="121" y="55"/>
                </a:lnTo>
                <a:lnTo>
                  <a:pt x="123" y="74"/>
                </a:lnTo>
                <a:lnTo>
                  <a:pt x="124" y="74"/>
                </a:lnTo>
                <a:lnTo>
                  <a:pt x="121" y="78"/>
                </a:lnTo>
                <a:lnTo>
                  <a:pt x="120" y="81"/>
                </a:lnTo>
                <a:lnTo>
                  <a:pt x="115" y="83"/>
                </a:lnTo>
                <a:lnTo>
                  <a:pt x="111" y="84"/>
                </a:lnTo>
                <a:lnTo>
                  <a:pt x="107" y="85"/>
                </a:lnTo>
                <a:lnTo>
                  <a:pt x="97" y="85"/>
                </a:lnTo>
                <a:lnTo>
                  <a:pt x="76" y="85"/>
                </a:lnTo>
                <a:lnTo>
                  <a:pt x="73" y="84"/>
                </a:lnTo>
                <a:lnTo>
                  <a:pt x="71" y="78"/>
                </a:lnTo>
                <a:lnTo>
                  <a:pt x="71" y="71"/>
                </a:lnTo>
                <a:lnTo>
                  <a:pt x="69" y="68"/>
                </a:lnTo>
                <a:lnTo>
                  <a:pt x="68" y="71"/>
                </a:lnTo>
                <a:lnTo>
                  <a:pt x="66" y="74"/>
                </a:lnTo>
                <a:lnTo>
                  <a:pt x="60" y="80"/>
                </a:lnTo>
                <a:lnTo>
                  <a:pt x="50" y="87"/>
                </a:lnTo>
                <a:lnTo>
                  <a:pt x="50" y="87"/>
                </a:lnTo>
                <a:lnTo>
                  <a:pt x="49" y="80"/>
                </a:lnTo>
                <a:lnTo>
                  <a:pt x="49" y="69"/>
                </a:lnTo>
                <a:lnTo>
                  <a:pt x="47" y="67"/>
                </a:lnTo>
                <a:lnTo>
                  <a:pt x="46" y="65"/>
                </a:lnTo>
                <a:lnTo>
                  <a:pt x="42" y="67"/>
                </a:lnTo>
                <a:lnTo>
                  <a:pt x="39" y="69"/>
                </a:lnTo>
                <a:lnTo>
                  <a:pt x="30" y="74"/>
                </a:lnTo>
                <a:lnTo>
                  <a:pt x="26" y="77"/>
                </a:lnTo>
                <a:lnTo>
                  <a:pt x="26" y="69"/>
                </a:lnTo>
                <a:lnTo>
                  <a:pt x="26" y="58"/>
                </a:lnTo>
                <a:lnTo>
                  <a:pt x="26" y="51"/>
                </a:lnTo>
                <a:lnTo>
                  <a:pt x="26" y="49"/>
                </a:lnTo>
                <a:lnTo>
                  <a:pt x="24" y="49"/>
                </a:lnTo>
                <a:lnTo>
                  <a:pt x="23" y="51"/>
                </a:lnTo>
                <a:lnTo>
                  <a:pt x="20" y="54"/>
                </a:lnTo>
                <a:lnTo>
                  <a:pt x="15" y="58"/>
                </a:lnTo>
                <a:lnTo>
                  <a:pt x="11" y="64"/>
                </a:lnTo>
                <a:lnTo>
                  <a:pt x="10" y="67"/>
                </a:lnTo>
                <a:lnTo>
                  <a:pt x="2" y="62"/>
                </a:lnTo>
                <a:lnTo>
                  <a:pt x="0" y="59"/>
                </a:lnTo>
                <a:lnTo>
                  <a:pt x="0" y="58"/>
                </a:lnTo>
                <a:lnTo>
                  <a:pt x="0" y="56"/>
                </a:lnTo>
                <a:lnTo>
                  <a:pt x="1" y="45"/>
                </a:lnTo>
                <a:lnTo>
                  <a:pt x="8" y="16"/>
                </a:lnTo>
                <a:lnTo>
                  <a:pt x="14" y="6"/>
                </a:lnTo>
                <a:lnTo>
                  <a:pt x="18" y="1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4" y="3"/>
                </a:lnTo>
                <a:lnTo>
                  <a:pt x="43" y="6"/>
                </a:lnTo>
                <a:lnTo>
                  <a:pt x="49" y="10"/>
                </a:lnTo>
                <a:lnTo>
                  <a:pt x="53" y="16"/>
                </a:lnTo>
                <a:lnTo>
                  <a:pt x="66" y="26"/>
                </a:lnTo>
                <a:lnTo>
                  <a:pt x="73" y="29"/>
                </a:lnTo>
                <a:lnTo>
                  <a:pt x="73" y="2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19760" y="2149560"/>
            <a:ext cx="23760" cy="11160"/>
          </a:xfrm>
          <a:custGeom>
            <a:avLst/>
            <a:gdLst/>
            <a:ahLst/>
            <a:rect l="l" t="t" r="r" b="b"/>
            <a:pathLst>
              <a:path w="65" h="39">
                <a:moveTo>
                  <a:pt x="65" y="39"/>
                </a:moveTo>
                <a:lnTo>
                  <a:pt x="59" y="38"/>
                </a:lnTo>
                <a:lnTo>
                  <a:pt x="49" y="35"/>
                </a:lnTo>
                <a:lnTo>
                  <a:pt x="26" y="29"/>
                </a:lnTo>
                <a:lnTo>
                  <a:pt x="4" y="23"/>
                </a:lnTo>
                <a:lnTo>
                  <a:pt x="0" y="20"/>
                </a:lnTo>
                <a:lnTo>
                  <a:pt x="4" y="16"/>
                </a:lnTo>
                <a:lnTo>
                  <a:pt x="11" y="7"/>
                </a:lnTo>
                <a:lnTo>
                  <a:pt x="16" y="3"/>
                </a:lnTo>
                <a:lnTo>
                  <a:pt x="17" y="3"/>
                </a:lnTo>
                <a:lnTo>
                  <a:pt x="24" y="2"/>
                </a:lnTo>
                <a:lnTo>
                  <a:pt x="37" y="0"/>
                </a:lnTo>
                <a:lnTo>
                  <a:pt x="48" y="4"/>
                </a:lnTo>
                <a:lnTo>
                  <a:pt x="55" y="12"/>
                </a:lnTo>
                <a:lnTo>
                  <a:pt x="61" y="22"/>
                </a:lnTo>
                <a:lnTo>
                  <a:pt x="64" y="33"/>
                </a:lnTo>
                <a:lnTo>
                  <a:pt x="65" y="39"/>
                </a:lnTo>
                <a:lnTo>
                  <a:pt x="65" y="3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92760" y="2133720"/>
            <a:ext cx="27000" cy="14040"/>
          </a:xfrm>
          <a:custGeom>
            <a:avLst/>
            <a:gdLst/>
            <a:ahLst/>
            <a:rect l="l" t="t" r="r" b="b"/>
            <a:pathLst>
              <a:path w="80" h="35">
                <a:moveTo>
                  <a:pt x="80" y="0"/>
                </a:moveTo>
                <a:lnTo>
                  <a:pt x="78" y="4"/>
                </a:lnTo>
                <a:lnTo>
                  <a:pt x="77" y="18"/>
                </a:lnTo>
                <a:lnTo>
                  <a:pt x="77" y="28"/>
                </a:lnTo>
                <a:lnTo>
                  <a:pt x="77" y="28"/>
                </a:lnTo>
                <a:lnTo>
                  <a:pt x="70" y="31"/>
                </a:lnTo>
                <a:lnTo>
                  <a:pt x="52" y="35"/>
                </a:lnTo>
                <a:lnTo>
                  <a:pt x="33" y="35"/>
                </a:lnTo>
                <a:lnTo>
                  <a:pt x="17" y="31"/>
                </a:lnTo>
                <a:lnTo>
                  <a:pt x="10" y="28"/>
                </a:lnTo>
                <a:lnTo>
                  <a:pt x="6" y="23"/>
                </a:lnTo>
                <a:lnTo>
                  <a:pt x="2" y="18"/>
                </a:lnTo>
                <a:lnTo>
                  <a:pt x="0" y="12"/>
                </a:lnTo>
                <a:lnTo>
                  <a:pt x="2" y="3"/>
                </a:lnTo>
                <a:lnTo>
                  <a:pt x="3" y="3"/>
                </a:lnTo>
                <a:lnTo>
                  <a:pt x="4" y="3"/>
                </a:lnTo>
                <a:lnTo>
                  <a:pt x="15" y="3"/>
                </a:lnTo>
                <a:lnTo>
                  <a:pt x="51" y="2"/>
                </a:lnTo>
                <a:lnTo>
                  <a:pt x="77" y="2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34120" y="2616120"/>
            <a:ext cx="1082520" cy="647640"/>
          </a:xfrm>
          <a:custGeom>
            <a:avLst/>
            <a:gdLst/>
            <a:ahLst/>
            <a:rect l="l" t="t" r="r" b="b"/>
            <a:pathLst>
              <a:path w="3137" h="1980">
                <a:moveTo>
                  <a:pt x="1612" y="1917"/>
                </a:moveTo>
                <a:lnTo>
                  <a:pt x="1606" y="1888"/>
                </a:lnTo>
                <a:lnTo>
                  <a:pt x="1607" y="1861"/>
                </a:lnTo>
                <a:lnTo>
                  <a:pt x="1614" y="1838"/>
                </a:lnTo>
                <a:lnTo>
                  <a:pt x="1626" y="1819"/>
                </a:lnTo>
                <a:lnTo>
                  <a:pt x="1643" y="1800"/>
                </a:lnTo>
                <a:lnTo>
                  <a:pt x="1662" y="1784"/>
                </a:lnTo>
                <a:lnTo>
                  <a:pt x="1706" y="1756"/>
                </a:lnTo>
                <a:lnTo>
                  <a:pt x="1782" y="1706"/>
                </a:lnTo>
                <a:lnTo>
                  <a:pt x="1784" y="1706"/>
                </a:lnTo>
                <a:lnTo>
                  <a:pt x="1777" y="1700"/>
                </a:lnTo>
                <a:lnTo>
                  <a:pt x="1774" y="1694"/>
                </a:lnTo>
                <a:lnTo>
                  <a:pt x="1772" y="1690"/>
                </a:lnTo>
                <a:lnTo>
                  <a:pt x="1772" y="1688"/>
                </a:lnTo>
                <a:lnTo>
                  <a:pt x="1772" y="1687"/>
                </a:lnTo>
                <a:lnTo>
                  <a:pt x="1774" y="1685"/>
                </a:lnTo>
                <a:lnTo>
                  <a:pt x="1775" y="1684"/>
                </a:lnTo>
                <a:lnTo>
                  <a:pt x="1777" y="1683"/>
                </a:lnTo>
                <a:lnTo>
                  <a:pt x="1778" y="1683"/>
                </a:lnTo>
                <a:lnTo>
                  <a:pt x="1782" y="1683"/>
                </a:lnTo>
                <a:lnTo>
                  <a:pt x="1787" y="1683"/>
                </a:lnTo>
                <a:lnTo>
                  <a:pt x="1798" y="1684"/>
                </a:lnTo>
                <a:lnTo>
                  <a:pt x="1810" y="1688"/>
                </a:lnTo>
                <a:lnTo>
                  <a:pt x="1811" y="1688"/>
                </a:lnTo>
                <a:lnTo>
                  <a:pt x="1820" y="1685"/>
                </a:lnTo>
                <a:lnTo>
                  <a:pt x="1839" y="1678"/>
                </a:lnTo>
                <a:lnTo>
                  <a:pt x="1881" y="1675"/>
                </a:lnTo>
                <a:lnTo>
                  <a:pt x="1920" y="1685"/>
                </a:lnTo>
                <a:lnTo>
                  <a:pt x="1930" y="1688"/>
                </a:lnTo>
                <a:lnTo>
                  <a:pt x="1932" y="1687"/>
                </a:lnTo>
                <a:lnTo>
                  <a:pt x="1938" y="1681"/>
                </a:lnTo>
                <a:lnTo>
                  <a:pt x="1951" y="1672"/>
                </a:lnTo>
                <a:lnTo>
                  <a:pt x="1964" y="1662"/>
                </a:lnTo>
                <a:lnTo>
                  <a:pt x="1966" y="1659"/>
                </a:lnTo>
                <a:lnTo>
                  <a:pt x="1981" y="1667"/>
                </a:lnTo>
                <a:lnTo>
                  <a:pt x="2010" y="1680"/>
                </a:lnTo>
                <a:lnTo>
                  <a:pt x="2068" y="1697"/>
                </a:lnTo>
                <a:lnTo>
                  <a:pt x="2097" y="1696"/>
                </a:lnTo>
                <a:lnTo>
                  <a:pt x="2126" y="1683"/>
                </a:lnTo>
                <a:lnTo>
                  <a:pt x="2140" y="1669"/>
                </a:lnTo>
                <a:lnTo>
                  <a:pt x="2133" y="1661"/>
                </a:lnTo>
                <a:lnTo>
                  <a:pt x="2123" y="1648"/>
                </a:lnTo>
                <a:lnTo>
                  <a:pt x="2114" y="1635"/>
                </a:lnTo>
                <a:lnTo>
                  <a:pt x="2113" y="1632"/>
                </a:lnTo>
                <a:lnTo>
                  <a:pt x="2117" y="1632"/>
                </a:lnTo>
                <a:lnTo>
                  <a:pt x="2136" y="1627"/>
                </a:lnTo>
                <a:lnTo>
                  <a:pt x="2191" y="1613"/>
                </a:lnTo>
                <a:lnTo>
                  <a:pt x="2216" y="1604"/>
                </a:lnTo>
                <a:lnTo>
                  <a:pt x="2230" y="1598"/>
                </a:lnTo>
                <a:lnTo>
                  <a:pt x="2232" y="1596"/>
                </a:lnTo>
                <a:lnTo>
                  <a:pt x="2235" y="1596"/>
                </a:lnTo>
                <a:lnTo>
                  <a:pt x="2265" y="1596"/>
                </a:lnTo>
                <a:lnTo>
                  <a:pt x="2368" y="1591"/>
                </a:lnTo>
                <a:lnTo>
                  <a:pt x="2446" y="1588"/>
                </a:lnTo>
                <a:lnTo>
                  <a:pt x="2450" y="1587"/>
                </a:lnTo>
                <a:lnTo>
                  <a:pt x="2452" y="1585"/>
                </a:lnTo>
                <a:lnTo>
                  <a:pt x="2456" y="1585"/>
                </a:lnTo>
                <a:lnTo>
                  <a:pt x="2461" y="1585"/>
                </a:lnTo>
                <a:lnTo>
                  <a:pt x="2471" y="1585"/>
                </a:lnTo>
                <a:lnTo>
                  <a:pt x="2482" y="1588"/>
                </a:lnTo>
                <a:lnTo>
                  <a:pt x="2511" y="1598"/>
                </a:lnTo>
                <a:lnTo>
                  <a:pt x="2568" y="1627"/>
                </a:lnTo>
                <a:lnTo>
                  <a:pt x="2587" y="1642"/>
                </a:lnTo>
                <a:lnTo>
                  <a:pt x="2582" y="1669"/>
                </a:lnTo>
                <a:lnTo>
                  <a:pt x="2585" y="1696"/>
                </a:lnTo>
                <a:lnTo>
                  <a:pt x="2594" y="1722"/>
                </a:lnTo>
                <a:lnTo>
                  <a:pt x="2607" y="1745"/>
                </a:lnTo>
                <a:lnTo>
                  <a:pt x="2645" y="1790"/>
                </a:lnTo>
                <a:lnTo>
                  <a:pt x="2689" y="1827"/>
                </a:lnTo>
                <a:lnTo>
                  <a:pt x="2776" y="1881"/>
                </a:lnTo>
                <a:lnTo>
                  <a:pt x="2778" y="1881"/>
                </a:lnTo>
                <a:lnTo>
                  <a:pt x="2789" y="1851"/>
                </a:lnTo>
                <a:lnTo>
                  <a:pt x="2798" y="1794"/>
                </a:lnTo>
                <a:lnTo>
                  <a:pt x="2788" y="1742"/>
                </a:lnTo>
                <a:lnTo>
                  <a:pt x="2766" y="1694"/>
                </a:lnTo>
                <a:lnTo>
                  <a:pt x="2737" y="1646"/>
                </a:lnTo>
                <a:lnTo>
                  <a:pt x="2708" y="1596"/>
                </a:lnTo>
                <a:lnTo>
                  <a:pt x="2697" y="1568"/>
                </a:lnTo>
                <a:lnTo>
                  <a:pt x="2692" y="1558"/>
                </a:lnTo>
                <a:lnTo>
                  <a:pt x="2682" y="1532"/>
                </a:lnTo>
                <a:lnTo>
                  <a:pt x="2655" y="1462"/>
                </a:lnTo>
                <a:lnTo>
                  <a:pt x="2640" y="1397"/>
                </a:lnTo>
                <a:lnTo>
                  <a:pt x="2642" y="1384"/>
                </a:lnTo>
                <a:lnTo>
                  <a:pt x="2646" y="1380"/>
                </a:lnTo>
                <a:lnTo>
                  <a:pt x="2652" y="1372"/>
                </a:lnTo>
                <a:lnTo>
                  <a:pt x="2669" y="1354"/>
                </a:lnTo>
                <a:lnTo>
                  <a:pt x="2705" y="1316"/>
                </a:lnTo>
                <a:lnTo>
                  <a:pt x="2724" y="1301"/>
                </a:lnTo>
                <a:lnTo>
                  <a:pt x="2730" y="1287"/>
                </a:lnTo>
                <a:lnTo>
                  <a:pt x="2745" y="1259"/>
                </a:lnTo>
                <a:lnTo>
                  <a:pt x="2775" y="1216"/>
                </a:lnTo>
                <a:lnTo>
                  <a:pt x="2813" y="1175"/>
                </a:lnTo>
                <a:lnTo>
                  <a:pt x="2824" y="1164"/>
                </a:lnTo>
                <a:lnTo>
                  <a:pt x="2821" y="1157"/>
                </a:lnTo>
                <a:lnTo>
                  <a:pt x="2820" y="1152"/>
                </a:lnTo>
                <a:lnTo>
                  <a:pt x="2816" y="1143"/>
                </a:lnTo>
                <a:lnTo>
                  <a:pt x="2814" y="1136"/>
                </a:lnTo>
                <a:lnTo>
                  <a:pt x="2816" y="1135"/>
                </a:lnTo>
                <a:lnTo>
                  <a:pt x="2826" y="1125"/>
                </a:lnTo>
                <a:lnTo>
                  <a:pt x="2865" y="1086"/>
                </a:lnTo>
                <a:lnTo>
                  <a:pt x="2894" y="1057"/>
                </a:lnTo>
                <a:lnTo>
                  <a:pt x="2897" y="1054"/>
                </a:lnTo>
                <a:lnTo>
                  <a:pt x="2894" y="1046"/>
                </a:lnTo>
                <a:lnTo>
                  <a:pt x="2892" y="1029"/>
                </a:lnTo>
                <a:lnTo>
                  <a:pt x="2894" y="987"/>
                </a:lnTo>
                <a:lnTo>
                  <a:pt x="2895" y="944"/>
                </a:lnTo>
                <a:lnTo>
                  <a:pt x="2897" y="933"/>
                </a:lnTo>
                <a:lnTo>
                  <a:pt x="2894" y="932"/>
                </a:lnTo>
                <a:lnTo>
                  <a:pt x="2887" y="926"/>
                </a:lnTo>
                <a:lnTo>
                  <a:pt x="2863" y="906"/>
                </a:lnTo>
                <a:lnTo>
                  <a:pt x="2830" y="870"/>
                </a:lnTo>
                <a:lnTo>
                  <a:pt x="2821" y="857"/>
                </a:lnTo>
                <a:lnTo>
                  <a:pt x="2811" y="844"/>
                </a:lnTo>
                <a:lnTo>
                  <a:pt x="2800" y="819"/>
                </a:lnTo>
                <a:lnTo>
                  <a:pt x="2792" y="796"/>
                </a:lnTo>
                <a:lnTo>
                  <a:pt x="2791" y="775"/>
                </a:lnTo>
                <a:lnTo>
                  <a:pt x="2794" y="757"/>
                </a:lnTo>
                <a:lnTo>
                  <a:pt x="2798" y="739"/>
                </a:lnTo>
                <a:lnTo>
                  <a:pt x="2802" y="731"/>
                </a:lnTo>
                <a:lnTo>
                  <a:pt x="2805" y="742"/>
                </a:lnTo>
                <a:lnTo>
                  <a:pt x="2814" y="764"/>
                </a:lnTo>
                <a:lnTo>
                  <a:pt x="2837" y="809"/>
                </a:lnTo>
                <a:lnTo>
                  <a:pt x="2865" y="845"/>
                </a:lnTo>
                <a:lnTo>
                  <a:pt x="2872" y="849"/>
                </a:lnTo>
                <a:lnTo>
                  <a:pt x="2879" y="842"/>
                </a:lnTo>
                <a:lnTo>
                  <a:pt x="2884" y="832"/>
                </a:lnTo>
                <a:lnTo>
                  <a:pt x="2885" y="822"/>
                </a:lnTo>
                <a:lnTo>
                  <a:pt x="2884" y="810"/>
                </a:lnTo>
                <a:lnTo>
                  <a:pt x="2881" y="797"/>
                </a:lnTo>
                <a:lnTo>
                  <a:pt x="2869" y="770"/>
                </a:lnTo>
                <a:lnTo>
                  <a:pt x="2847" y="710"/>
                </a:lnTo>
                <a:lnTo>
                  <a:pt x="2846" y="694"/>
                </a:lnTo>
                <a:lnTo>
                  <a:pt x="2852" y="697"/>
                </a:lnTo>
                <a:lnTo>
                  <a:pt x="2858" y="699"/>
                </a:lnTo>
                <a:lnTo>
                  <a:pt x="2869" y="704"/>
                </a:lnTo>
                <a:lnTo>
                  <a:pt x="2891" y="717"/>
                </a:lnTo>
                <a:lnTo>
                  <a:pt x="2898" y="720"/>
                </a:lnTo>
                <a:lnTo>
                  <a:pt x="2897" y="693"/>
                </a:lnTo>
                <a:lnTo>
                  <a:pt x="2898" y="673"/>
                </a:lnTo>
                <a:lnTo>
                  <a:pt x="2902" y="660"/>
                </a:lnTo>
                <a:lnTo>
                  <a:pt x="2910" y="651"/>
                </a:lnTo>
                <a:lnTo>
                  <a:pt x="2917" y="646"/>
                </a:lnTo>
                <a:lnTo>
                  <a:pt x="2926" y="645"/>
                </a:lnTo>
                <a:lnTo>
                  <a:pt x="2933" y="645"/>
                </a:lnTo>
                <a:lnTo>
                  <a:pt x="2940" y="645"/>
                </a:lnTo>
                <a:lnTo>
                  <a:pt x="2944" y="646"/>
                </a:lnTo>
                <a:lnTo>
                  <a:pt x="2946" y="646"/>
                </a:lnTo>
                <a:lnTo>
                  <a:pt x="2947" y="645"/>
                </a:lnTo>
                <a:lnTo>
                  <a:pt x="2947" y="644"/>
                </a:lnTo>
                <a:lnTo>
                  <a:pt x="2946" y="642"/>
                </a:lnTo>
                <a:lnTo>
                  <a:pt x="2944" y="638"/>
                </a:lnTo>
                <a:lnTo>
                  <a:pt x="2942" y="633"/>
                </a:lnTo>
                <a:lnTo>
                  <a:pt x="2942" y="633"/>
                </a:lnTo>
                <a:lnTo>
                  <a:pt x="2934" y="625"/>
                </a:lnTo>
                <a:lnTo>
                  <a:pt x="2926" y="606"/>
                </a:lnTo>
                <a:lnTo>
                  <a:pt x="2923" y="590"/>
                </a:lnTo>
                <a:lnTo>
                  <a:pt x="2924" y="575"/>
                </a:lnTo>
                <a:lnTo>
                  <a:pt x="2926" y="562"/>
                </a:lnTo>
                <a:lnTo>
                  <a:pt x="2927" y="548"/>
                </a:lnTo>
                <a:lnTo>
                  <a:pt x="2929" y="541"/>
                </a:lnTo>
                <a:lnTo>
                  <a:pt x="2937" y="541"/>
                </a:lnTo>
                <a:lnTo>
                  <a:pt x="2946" y="541"/>
                </a:lnTo>
                <a:lnTo>
                  <a:pt x="2962" y="544"/>
                </a:lnTo>
                <a:lnTo>
                  <a:pt x="2978" y="548"/>
                </a:lnTo>
                <a:lnTo>
                  <a:pt x="2991" y="552"/>
                </a:lnTo>
                <a:lnTo>
                  <a:pt x="2998" y="552"/>
                </a:lnTo>
                <a:lnTo>
                  <a:pt x="3004" y="551"/>
                </a:lnTo>
                <a:lnTo>
                  <a:pt x="3008" y="546"/>
                </a:lnTo>
                <a:lnTo>
                  <a:pt x="3013" y="541"/>
                </a:lnTo>
                <a:lnTo>
                  <a:pt x="3014" y="541"/>
                </a:lnTo>
                <a:lnTo>
                  <a:pt x="3008" y="538"/>
                </a:lnTo>
                <a:lnTo>
                  <a:pt x="3007" y="533"/>
                </a:lnTo>
                <a:lnTo>
                  <a:pt x="3002" y="522"/>
                </a:lnTo>
                <a:lnTo>
                  <a:pt x="2994" y="496"/>
                </a:lnTo>
                <a:lnTo>
                  <a:pt x="2988" y="487"/>
                </a:lnTo>
                <a:lnTo>
                  <a:pt x="2997" y="484"/>
                </a:lnTo>
                <a:lnTo>
                  <a:pt x="3014" y="477"/>
                </a:lnTo>
                <a:lnTo>
                  <a:pt x="3047" y="467"/>
                </a:lnTo>
                <a:lnTo>
                  <a:pt x="3062" y="460"/>
                </a:lnTo>
                <a:lnTo>
                  <a:pt x="3073" y="447"/>
                </a:lnTo>
                <a:lnTo>
                  <a:pt x="3079" y="438"/>
                </a:lnTo>
                <a:lnTo>
                  <a:pt x="3078" y="433"/>
                </a:lnTo>
                <a:lnTo>
                  <a:pt x="3076" y="429"/>
                </a:lnTo>
                <a:lnTo>
                  <a:pt x="3072" y="423"/>
                </a:lnTo>
                <a:lnTo>
                  <a:pt x="3063" y="413"/>
                </a:lnTo>
                <a:lnTo>
                  <a:pt x="3062" y="409"/>
                </a:lnTo>
                <a:lnTo>
                  <a:pt x="3060" y="410"/>
                </a:lnTo>
                <a:lnTo>
                  <a:pt x="3050" y="419"/>
                </a:lnTo>
                <a:lnTo>
                  <a:pt x="3018" y="445"/>
                </a:lnTo>
                <a:lnTo>
                  <a:pt x="2994" y="467"/>
                </a:lnTo>
                <a:lnTo>
                  <a:pt x="2994" y="467"/>
                </a:lnTo>
                <a:lnTo>
                  <a:pt x="2992" y="447"/>
                </a:lnTo>
                <a:lnTo>
                  <a:pt x="2998" y="412"/>
                </a:lnTo>
                <a:lnTo>
                  <a:pt x="3011" y="383"/>
                </a:lnTo>
                <a:lnTo>
                  <a:pt x="3024" y="361"/>
                </a:lnTo>
                <a:lnTo>
                  <a:pt x="3033" y="345"/>
                </a:lnTo>
                <a:lnTo>
                  <a:pt x="3034" y="342"/>
                </a:lnTo>
                <a:lnTo>
                  <a:pt x="3034" y="339"/>
                </a:lnTo>
                <a:lnTo>
                  <a:pt x="3033" y="336"/>
                </a:lnTo>
                <a:lnTo>
                  <a:pt x="3031" y="335"/>
                </a:lnTo>
                <a:lnTo>
                  <a:pt x="3027" y="332"/>
                </a:lnTo>
                <a:lnTo>
                  <a:pt x="3024" y="331"/>
                </a:lnTo>
                <a:lnTo>
                  <a:pt x="3024" y="331"/>
                </a:lnTo>
                <a:lnTo>
                  <a:pt x="3015" y="329"/>
                </a:lnTo>
                <a:lnTo>
                  <a:pt x="3014" y="328"/>
                </a:lnTo>
                <a:lnTo>
                  <a:pt x="3013" y="326"/>
                </a:lnTo>
                <a:lnTo>
                  <a:pt x="3013" y="325"/>
                </a:lnTo>
                <a:lnTo>
                  <a:pt x="3014" y="323"/>
                </a:lnTo>
                <a:lnTo>
                  <a:pt x="3015" y="322"/>
                </a:lnTo>
                <a:lnTo>
                  <a:pt x="3021" y="319"/>
                </a:lnTo>
                <a:lnTo>
                  <a:pt x="3036" y="313"/>
                </a:lnTo>
                <a:lnTo>
                  <a:pt x="3052" y="306"/>
                </a:lnTo>
                <a:lnTo>
                  <a:pt x="3066" y="294"/>
                </a:lnTo>
                <a:lnTo>
                  <a:pt x="3071" y="287"/>
                </a:lnTo>
                <a:lnTo>
                  <a:pt x="3072" y="281"/>
                </a:lnTo>
                <a:lnTo>
                  <a:pt x="3071" y="276"/>
                </a:lnTo>
                <a:lnTo>
                  <a:pt x="3068" y="271"/>
                </a:lnTo>
                <a:lnTo>
                  <a:pt x="3063" y="267"/>
                </a:lnTo>
                <a:lnTo>
                  <a:pt x="3057" y="264"/>
                </a:lnTo>
                <a:lnTo>
                  <a:pt x="3046" y="258"/>
                </a:lnTo>
                <a:lnTo>
                  <a:pt x="3039" y="254"/>
                </a:lnTo>
                <a:lnTo>
                  <a:pt x="3039" y="248"/>
                </a:lnTo>
                <a:lnTo>
                  <a:pt x="3044" y="244"/>
                </a:lnTo>
                <a:lnTo>
                  <a:pt x="3050" y="241"/>
                </a:lnTo>
                <a:lnTo>
                  <a:pt x="3066" y="229"/>
                </a:lnTo>
                <a:lnTo>
                  <a:pt x="3101" y="199"/>
                </a:lnTo>
                <a:lnTo>
                  <a:pt x="3131" y="168"/>
                </a:lnTo>
                <a:lnTo>
                  <a:pt x="3137" y="161"/>
                </a:lnTo>
                <a:lnTo>
                  <a:pt x="3128" y="157"/>
                </a:lnTo>
                <a:lnTo>
                  <a:pt x="3111" y="145"/>
                </a:lnTo>
                <a:lnTo>
                  <a:pt x="3082" y="123"/>
                </a:lnTo>
                <a:lnTo>
                  <a:pt x="3056" y="94"/>
                </a:lnTo>
                <a:lnTo>
                  <a:pt x="3050" y="84"/>
                </a:lnTo>
                <a:lnTo>
                  <a:pt x="3047" y="71"/>
                </a:lnTo>
                <a:lnTo>
                  <a:pt x="3043" y="32"/>
                </a:lnTo>
                <a:lnTo>
                  <a:pt x="3039" y="3"/>
                </a:lnTo>
                <a:lnTo>
                  <a:pt x="3039" y="0"/>
                </a:lnTo>
                <a:lnTo>
                  <a:pt x="3036" y="2"/>
                </a:lnTo>
                <a:lnTo>
                  <a:pt x="3026" y="3"/>
                </a:lnTo>
                <a:lnTo>
                  <a:pt x="2988" y="7"/>
                </a:lnTo>
                <a:lnTo>
                  <a:pt x="2959" y="10"/>
                </a:lnTo>
                <a:lnTo>
                  <a:pt x="2958" y="10"/>
                </a:lnTo>
                <a:lnTo>
                  <a:pt x="2955" y="25"/>
                </a:lnTo>
                <a:lnTo>
                  <a:pt x="2950" y="52"/>
                </a:lnTo>
                <a:lnTo>
                  <a:pt x="2942" y="113"/>
                </a:lnTo>
                <a:lnTo>
                  <a:pt x="2927" y="177"/>
                </a:lnTo>
                <a:lnTo>
                  <a:pt x="2921" y="191"/>
                </a:lnTo>
                <a:lnTo>
                  <a:pt x="2920" y="193"/>
                </a:lnTo>
                <a:lnTo>
                  <a:pt x="2915" y="194"/>
                </a:lnTo>
                <a:lnTo>
                  <a:pt x="2913" y="196"/>
                </a:lnTo>
                <a:lnTo>
                  <a:pt x="2913" y="196"/>
                </a:lnTo>
                <a:lnTo>
                  <a:pt x="2911" y="197"/>
                </a:lnTo>
                <a:lnTo>
                  <a:pt x="2911" y="199"/>
                </a:lnTo>
                <a:lnTo>
                  <a:pt x="2910" y="205"/>
                </a:lnTo>
                <a:lnTo>
                  <a:pt x="2898" y="219"/>
                </a:lnTo>
                <a:lnTo>
                  <a:pt x="2869" y="231"/>
                </a:lnTo>
                <a:lnTo>
                  <a:pt x="2858" y="232"/>
                </a:lnTo>
                <a:lnTo>
                  <a:pt x="2839" y="234"/>
                </a:lnTo>
                <a:lnTo>
                  <a:pt x="2805" y="235"/>
                </a:lnTo>
                <a:lnTo>
                  <a:pt x="2772" y="239"/>
                </a:lnTo>
                <a:lnTo>
                  <a:pt x="2763" y="241"/>
                </a:lnTo>
                <a:lnTo>
                  <a:pt x="2760" y="245"/>
                </a:lnTo>
                <a:lnTo>
                  <a:pt x="2747" y="267"/>
                </a:lnTo>
                <a:lnTo>
                  <a:pt x="2704" y="339"/>
                </a:lnTo>
                <a:lnTo>
                  <a:pt x="2671" y="396"/>
                </a:lnTo>
                <a:lnTo>
                  <a:pt x="2669" y="399"/>
                </a:lnTo>
                <a:lnTo>
                  <a:pt x="2665" y="412"/>
                </a:lnTo>
                <a:lnTo>
                  <a:pt x="2658" y="432"/>
                </a:lnTo>
                <a:lnTo>
                  <a:pt x="2636" y="464"/>
                </a:lnTo>
                <a:lnTo>
                  <a:pt x="2592" y="493"/>
                </a:lnTo>
                <a:lnTo>
                  <a:pt x="2576" y="500"/>
                </a:lnTo>
                <a:lnTo>
                  <a:pt x="2575" y="502"/>
                </a:lnTo>
                <a:lnTo>
                  <a:pt x="2574" y="506"/>
                </a:lnTo>
                <a:lnTo>
                  <a:pt x="2566" y="522"/>
                </a:lnTo>
                <a:lnTo>
                  <a:pt x="2562" y="533"/>
                </a:lnTo>
                <a:lnTo>
                  <a:pt x="2562" y="533"/>
                </a:lnTo>
                <a:lnTo>
                  <a:pt x="2561" y="538"/>
                </a:lnTo>
                <a:lnTo>
                  <a:pt x="2561" y="542"/>
                </a:lnTo>
                <a:lnTo>
                  <a:pt x="2561" y="552"/>
                </a:lnTo>
                <a:lnTo>
                  <a:pt x="2561" y="573"/>
                </a:lnTo>
                <a:lnTo>
                  <a:pt x="2552" y="584"/>
                </a:lnTo>
                <a:lnTo>
                  <a:pt x="2542" y="589"/>
                </a:lnTo>
                <a:lnTo>
                  <a:pt x="2532" y="594"/>
                </a:lnTo>
                <a:lnTo>
                  <a:pt x="2503" y="613"/>
                </a:lnTo>
                <a:lnTo>
                  <a:pt x="2437" y="660"/>
                </a:lnTo>
                <a:lnTo>
                  <a:pt x="2390" y="697"/>
                </a:lnTo>
                <a:lnTo>
                  <a:pt x="2390" y="691"/>
                </a:lnTo>
                <a:lnTo>
                  <a:pt x="2391" y="671"/>
                </a:lnTo>
                <a:lnTo>
                  <a:pt x="2391" y="655"/>
                </a:lnTo>
                <a:lnTo>
                  <a:pt x="2392" y="654"/>
                </a:lnTo>
                <a:lnTo>
                  <a:pt x="2391" y="645"/>
                </a:lnTo>
                <a:lnTo>
                  <a:pt x="2391" y="626"/>
                </a:lnTo>
                <a:lnTo>
                  <a:pt x="2390" y="589"/>
                </a:lnTo>
                <a:lnTo>
                  <a:pt x="2392" y="573"/>
                </a:lnTo>
                <a:lnTo>
                  <a:pt x="2398" y="560"/>
                </a:lnTo>
                <a:lnTo>
                  <a:pt x="2404" y="554"/>
                </a:lnTo>
                <a:lnTo>
                  <a:pt x="2397" y="545"/>
                </a:lnTo>
                <a:lnTo>
                  <a:pt x="2375" y="519"/>
                </a:lnTo>
                <a:lnTo>
                  <a:pt x="2358" y="499"/>
                </a:lnTo>
                <a:lnTo>
                  <a:pt x="2358" y="497"/>
                </a:lnTo>
                <a:lnTo>
                  <a:pt x="2348" y="496"/>
                </a:lnTo>
                <a:lnTo>
                  <a:pt x="2342" y="496"/>
                </a:lnTo>
                <a:lnTo>
                  <a:pt x="2339" y="499"/>
                </a:lnTo>
                <a:lnTo>
                  <a:pt x="2339" y="500"/>
                </a:lnTo>
                <a:lnTo>
                  <a:pt x="2340" y="504"/>
                </a:lnTo>
                <a:lnTo>
                  <a:pt x="2343" y="513"/>
                </a:lnTo>
                <a:lnTo>
                  <a:pt x="2343" y="518"/>
                </a:lnTo>
                <a:lnTo>
                  <a:pt x="2340" y="523"/>
                </a:lnTo>
                <a:lnTo>
                  <a:pt x="2336" y="531"/>
                </a:lnTo>
                <a:lnTo>
                  <a:pt x="2329" y="536"/>
                </a:lnTo>
                <a:lnTo>
                  <a:pt x="2329" y="536"/>
                </a:lnTo>
                <a:lnTo>
                  <a:pt x="2321" y="538"/>
                </a:lnTo>
                <a:lnTo>
                  <a:pt x="2311" y="538"/>
                </a:lnTo>
                <a:lnTo>
                  <a:pt x="2307" y="539"/>
                </a:lnTo>
                <a:lnTo>
                  <a:pt x="2301" y="538"/>
                </a:lnTo>
                <a:lnTo>
                  <a:pt x="2297" y="533"/>
                </a:lnTo>
                <a:lnTo>
                  <a:pt x="2287" y="525"/>
                </a:lnTo>
                <a:lnTo>
                  <a:pt x="2281" y="518"/>
                </a:lnTo>
                <a:lnTo>
                  <a:pt x="2284" y="512"/>
                </a:lnTo>
                <a:lnTo>
                  <a:pt x="2291" y="494"/>
                </a:lnTo>
                <a:lnTo>
                  <a:pt x="2307" y="451"/>
                </a:lnTo>
                <a:lnTo>
                  <a:pt x="2313" y="409"/>
                </a:lnTo>
                <a:lnTo>
                  <a:pt x="2311" y="400"/>
                </a:lnTo>
                <a:lnTo>
                  <a:pt x="2303" y="396"/>
                </a:lnTo>
                <a:lnTo>
                  <a:pt x="2287" y="389"/>
                </a:lnTo>
                <a:lnTo>
                  <a:pt x="2256" y="383"/>
                </a:lnTo>
                <a:lnTo>
                  <a:pt x="2243" y="384"/>
                </a:lnTo>
                <a:lnTo>
                  <a:pt x="2232" y="390"/>
                </a:lnTo>
                <a:lnTo>
                  <a:pt x="2227" y="393"/>
                </a:lnTo>
                <a:lnTo>
                  <a:pt x="2226" y="394"/>
                </a:lnTo>
                <a:lnTo>
                  <a:pt x="2221" y="404"/>
                </a:lnTo>
                <a:lnTo>
                  <a:pt x="2206" y="438"/>
                </a:lnTo>
                <a:lnTo>
                  <a:pt x="2193" y="464"/>
                </a:lnTo>
                <a:lnTo>
                  <a:pt x="2193" y="464"/>
                </a:lnTo>
                <a:lnTo>
                  <a:pt x="2194" y="467"/>
                </a:lnTo>
                <a:lnTo>
                  <a:pt x="2194" y="468"/>
                </a:lnTo>
                <a:lnTo>
                  <a:pt x="2191" y="470"/>
                </a:lnTo>
                <a:lnTo>
                  <a:pt x="2187" y="470"/>
                </a:lnTo>
                <a:lnTo>
                  <a:pt x="2182" y="470"/>
                </a:lnTo>
                <a:lnTo>
                  <a:pt x="2172" y="468"/>
                </a:lnTo>
                <a:lnTo>
                  <a:pt x="2158" y="464"/>
                </a:lnTo>
                <a:lnTo>
                  <a:pt x="2159" y="464"/>
                </a:lnTo>
                <a:lnTo>
                  <a:pt x="2158" y="468"/>
                </a:lnTo>
                <a:lnTo>
                  <a:pt x="2158" y="480"/>
                </a:lnTo>
                <a:lnTo>
                  <a:pt x="2153" y="507"/>
                </a:lnTo>
                <a:lnTo>
                  <a:pt x="2148" y="528"/>
                </a:lnTo>
                <a:lnTo>
                  <a:pt x="2146" y="529"/>
                </a:lnTo>
                <a:lnTo>
                  <a:pt x="2145" y="532"/>
                </a:lnTo>
                <a:lnTo>
                  <a:pt x="2148" y="539"/>
                </a:lnTo>
                <a:lnTo>
                  <a:pt x="2151" y="548"/>
                </a:lnTo>
                <a:lnTo>
                  <a:pt x="2162" y="574"/>
                </a:lnTo>
                <a:lnTo>
                  <a:pt x="2185" y="631"/>
                </a:lnTo>
                <a:lnTo>
                  <a:pt x="2191" y="648"/>
                </a:lnTo>
                <a:lnTo>
                  <a:pt x="2187" y="655"/>
                </a:lnTo>
                <a:lnTo>
                  <a:pt x="2178" y="668"/>
                </a:lnTo>
                <a:lnTo>
                  <a:pt x="2158" y="691"/>
                </a:lnTo>
                <a:lnTo>
                  <a:pt x="2146" y="700"/>
                </a:lnTo>
                <a:lnTo>
                  <a:pt x="2135" y="704"/>
                </a:lnTo>
                <a:lnTo>
                  <a:pt x="2129" y="704"/>
                </a:lnTo>
                <a:lnTo>
                  <a:pt x="2122" y="704"/>
                </a:lnTo>
                <a:lnTo>
                  <a:pt x="2116" y="704"/>
                </a:lnTo>
                <a:lnTo>
                  <a:pt x="2111" y="702"/>
                </a:lnTo>
                <a:lnTo>
                  <a:pt x="2107" y="697"/>
                </a:lnTo>
                <a:lnTo>
                  <a:pt x="2104" y="693"/>
                </a:lnTo>
                <a:lnTo>
                  <a:pt x="2101" y="688"/>
                </a:lnTo>
                <a:lnTo>
                  <a:pt x="2098" y="677"/>
                </a:lnTo>
                <a:lnTo>
                  <a:pt x="2091" y="654"/>
                </a:lnTo>
                <a:lnTo>
                  <a:pt x="2091" y="654"/>
                </a:lnTo>
                <a:lnTo>
                  <a:pt x="2088" y="648"/>
                </a:lnTo>
                <a:lnTo>
                  <a:pt x="2087" y="636"/>
                </a:lnTo>
                <a:lnTo>
                  <a:pt x="2087" y="607"/>
                </a:lnTo>
                <a:lnTo>
                  <a:pt x="2090" y="536"/>
                </a:lnTo>
                <a:lnTo>
                  <a:pt x="2098" y="483"/>
                </a:lnTo>
                <a:lnTo>
                  <a:pt x="2098" y="478"/>
                </a:lnTo>
                <a:lnTo>
                  <a:pt x="2095" y="475"/>
                </a:lnTo>
                <a:lnTo>
                  <a:pt x="2093" y="475"/>
                </a:lnTo>
                <a:lnTo>
                  <a:pt x="2087" y="478"/>
                </a:lnTo>
                <a:lnTo>
                  <a:pt x="2081" y="481"/>
                </a:lnTo>
                <a:lnTo>
                  <a:pt x="2066" y="490"/>
                </a:lnTo>
                <a:lnTo>
                  <a:pt x="2053" y="496"/>
                </a:lnTo>
                <a:lnTo>
                  <a:pt x="2048" y="493"/>
                </a:lnTo>
                <a:lnTo>
                  <a:pt x="2048" y="486"/>
                </a:lnTo>
                <a:lnTo>
                  <a:pt x="2049" y="478"/>
                </a:lnTo>
                <a:lnTo>
                  <a:pt x="2055" y="462"/>
                </a:lnTo>
                <a:lnTo>
                  <a:pt x="2065" y="447"/>
                </a:lnTo>
                <a:lnTo>
                  <a:pt x="2084" y="416"/>
                </a:lnTo>
                <a:lnTo>
                  <a:pt x="2091" y="399"/>
                </a:lnTo>
                <a:lnTo>
                  <a:pt x="2116" y="389"/>
                </a:lnTo>
                <a:lnTo>
                  <a:pt x="2191" y="357"/>
                </a:lnTo>
                <a:lnTo>
                  <a:pt x="2249" y="332"/>
                </a:lnTo>
                <a:lnTo>
                  <a:pt x="2253" y="331"/>
                </a:lnTo>
                <a:lnTo>
                  <a:pt x="2256" y="329"/>
                </a:lnTo>
                <a:lnTo>
                  <a:pt x="2256" y="328"/>
                </a:lnTo>
                <a:lnTo>
                  <a:pt x="2255" y="325"/>
                </a:lnTo>
                <a:lnTo>
                  <a:pt x="2250" y="322"/>
                </a:lnTo>
                <a:lnTo>
                  <a:pt x="2243" y="319"/>
                </a:lnTo>
                <a:lnTo>
                  <a:pt x="2227" y="312"/>
                </a:lnTo>
                <a:lnTo>
                  <a:pt x="2191" y="296"/>
                </a:lnTo>
                <a:lnTo>
                  <a:pt x="2185" y="290"/>
                </a:lnTo>
                <a:lnTo>
                  <a:pt x="2190" y="291"/>
                </a:lnTo>
                <a:lnTo>
                  <a:pt x="2188" y="294"/>
                </a:lnTo>
                <a:lnTo>
                  <a:pt x="2182" y="299"/>
                </a:lnTo>
                <a:lnTo>
                  <a:pt x="2174" y="305"/>
                </a:lnTo>
                <a:lnTo>
                  <a:pt x="2149" y="316"/>
                </a:lnTo>
                <a:lnTo>
                  <a:pt x="2108" y="335"/>
                </a:lnTo>
                <a:lnTo>
                  <a:pt x="2113" y="335"/>
                </a:lnTo>
                <a:lnTo>
                  <a:pt x="2100" y="335"/>
                </a:lnTo>
                <a:lnTo>
                  <a:pt x="2085" y="335"/>
                </a:lnTo>
                <a:lnTo>
                  <a:pt x="2081" y="335"/>
                </a:lnTo>
                <a:lnTo>
                  <a:pt x="2077" y="332"/>
                </a:lnTo>
                <a:lnTo>
                  <a:pt x="2075" y="331"/>
                </a:lnTo>
                <a:lnTo>
                  <a:pt x="2071" y="325"/>
                </a:lnTo>
                <a:lnTo>
                  <a:pt x="2058" y="316"/>
                </a:lnTo>
                <a:lnTo>
                  <a:pt x="2048" y="310"/>
                </a:lnTo>
                <a:lnTo>
                  <a:pt x="2045" y="312"/>
                </a:lnTo>
                <a:lnTo>
                  <a:pt x="2043" y="315"/>
                </a:lnTo>
                <a:lnTo>
                  <a:pt x="2039" y="322"/>
                </a:lnTo>
                <a:lnTo>
                  <a:pt x="2029" y="329"/>
                </a:lnTo>
                <a:lnTo>
                  <a:pt x="2013" y="335"/>
                </a:lnTo>
                <a:lnTo>
                  <a:pt x="2004" y="335"/>
                </a:lnTo>
                <a:lnTo>
                  <a:pt x="2006" y="328"/>
                </a:lnTo>
                <a:lnTo>
                  <a:pt x="2013" y="305"/>
                </a:lnTo>
                <a:lnTo>
                  <a:pt x="2017" y="286"/>
                </a:lnTo>
                <a:lnTo>
                  <a:pt x="2019" y="284"/>
                </a:lnTo>
                <a:lnTo>
                  <a:pt x="2006" y="296"/>
                </a:lnTo>
                <a:lnTo>
                  <a:pt x="1987" y="315"/>
                </a:lnTo>
                <a:lnTo>
                  <a:pt x="1951" y="339"/>
                </a:lnTo>
                <a:lnTo>
                  <a:pt x="1910" y="358"/>
                </a:lnTo>
                <a:lnTo>
                  <a:pt x="1897" y="364"/>
                </a:lnTo>
                <a:lnTo>
                  <a:pt x="1898" y="349"/>
                </a:lnTo>
                <a:lnTo>
                  <a:pt x="1900" y="332"/>
                </a:lnTo>
                <a:lnTo>
                  <a:pt x="1901" y="323"/>
                </a:lnTo>
                <a:lnTo>
                  <a:pt x="1903" y="323"/>
                </a:lnTo>
                <a:lnTo>
                  <a:pt x="1906" y="325"/>
                </a:lnTo>
                <a:lnTo>
                  <a:pt x="1907" y="326"/>
                </a:lnTo>
                <a:lnTo>
                  <a:pt x="1910" y="328"/>
                </a:lnTo>
                <a:lnTo>
                  <a:pt x="1914" y="328"/>
                </a:lnTo>
                <a:lnTo>
                  <a:pt x="1917" y="326"/>
                </a:lnTo>
                <a:lnTo>
                  <a:pt x="1907" y="331"/>
                </a:lnTo>
                <a:lnTo>
                  <a:pt x="1893" y="336"/>
                </a:lnTo>
                <a:lnTo>
                  <a:pt x="1872" y="339"/>
                </a:lnTo>
                <a:lnTo>
                  <a:pt x="1845" y="339"/>
                </a:lnTo>
                <a:lnTo>
                  <a:pt x="1835" y="338"/>
                </a:lnTo>
                <a:lnTo>
                  <a:pt x="1839" y="329"/>
                </a:lnTo>
                <a:lnTo>
                  <a:pt x="1853" y="310"/>
                </a:lnTo>
                <a:lnTo>
                  <a:pt x="1872" y="291"/>
                </a:lnTo>
                <a:lnTo>
                  <a:pt x="1916" y="258"/>
                </a:lnTo>
                <a:lnTo>
                  <a:pt x="1951" y="236"/>
                </a:lnTo>
                <a:lnTo>
                  <a:pt x="1948" y="238"/>
                </a:lnTo>
                <a:lnTo>
                  <a:pt x="1933" y="239"/>
                </a:lnTo>
                <a:lnTo>
                  <a:pt x="1881" y="244"/>
                </a:lnTo>
                <a:lnTo>
                  <a:pt x="1842" y="248"/>
                </a:lnTo>
                <a:lnTo>
                  <a:pt x="1840" y="248"/>
                </a:lnTo>
                <a:lnTo>
                  <a:pt x="1836" y="248"/>
                </a:lnTo>
                <a:lnTo>
                  <a:pt x="1817" y="244"/>
                </a:lnTo>
                <a:lnTo>
                  <a:pt x="1748" y="228"/>
                </a:lnTo>
                <a:lnTo>
                  <a:pt x="1696" y="216"/>
                </a:lnTo>
                <a:lnTo>
                  <a:pt x="1693" y="215"/>
                </a:lnTo>
                <a:lnTo>
                  <a:pt x="1691" y="206"/>
                </a:lnTo>
                <a:lnTo>
                  <a:pt x="1690" y="180"/>
                </a:lnTo>
                <a:lnTo>
                  <a:pt x="1688" y="160"/>
                </a:lnTo>
                <a:lnTo>
                  <a:pt x="1688" y="158"/>
                </a:lnTo>
                <a:lnTo>
                  <a:pt x="1687" y="158"/>
                </a:lnTo>
                <a:lnTo>
                  <a:pt x="1680" y="158"/>
                </a:lnTo>
                <a:lnTo>
                  <a:pt x="1656" y="158"/>
                </a:lnTo>
                <a:lnTo>
                  <a:pt x="1639" y="158"/>
                </a:lnTo>
                <a:lnTo>
                  <a:pt x="1639" y="157"/>
                </a:lnTo>
                <a:lnTo>
                  <a:pt x="1636" y="164"/>
                </a:lnTo>
                <a:lnTo>
                  <a:pt x="1632" y="186"/>
                </a:lnTo>
                <a:lnTo>
                  <a:pt x="1629" y="203"/>
                </a:lnTo>
                <a:lnTo>
                  <a:pt x="1629" y="203"/>
                </a:lnTo>
                <a:lnTo>
                  <a:pt x="1619" y="205"/>
                </a:lnTo>
                <a:lnTo>
                  <a:pt x="1552" y="205"/>
                </a:lnTo>
                <a:lnTo>
                  <a:pt x="1325" y="209"/>
                </a:lnTo>
                <a:lnTo>
                  <a:pt x="1151" y="210"/>
                </a:lnTo>
                <a:lnTo>
                  <a:pt x="1142" y="210"/>
                </a:lnTo>
                <a:lnTo>
                  <a:pt x="1125" y="209"/>
                </a:lnTo>
                <a:lnTo>
                  <a:pt x="1007" y="189"/>
                </a:lnTo>
                <a:lnTo>
                  <a:pt x="607" y="120"/>
                </a:lnTo>
                <a:lnTo>
                  <a:pt x="303" y="68"/>
                </a:lnTo>
                <a:lnTo>
                  <a:pt x="287" y="65"/>
                </a:lnTo>
                <a:lnTo>
                  <a:pt x="290" y="74"/>
                </a:lnTo>
                <a:lnTo>
                  <a:pt x="295" y="91"/>
                </a:lnTo>
                <a:lnTo>
                  <a:pt x="296" y="106"/>
                </a:lnTo>
                <a:lnTo>
                  <a:pt x="295" y="120"/>
                </a:lnTo>
                <a:lnTo>
                  <a:pt x="293" y="147"/>
                </a:lnTo>
                <a:lnTo>
                  <a:pt x="296" y="151"/>
                </a:lnTo>
                <a:lnTo>
                  <a:pt x="296" y="157"/>
                </a:lnTo>
                <a:lnTo>
                  <a:pt x="293" y="161"/>
                </a:lnTo>
                <a:lnTo>
                  <a:pt x="289" y="165"/>
                </a:lnTo>
                <a:lnTo>
                  <a:pt x="282" y="170"/>
                </a:lnTo>
                <a:lnTo>
                  <a:pt x="264" y="177"/>
                </a:lnTo>
                <a:lnTo>
                  <a:pt x="234" y="187"/>
                </a:lnTo>
                <a:lnTo>
                  <a:pt x="231" y="189"/>
                </a:lnTo>
                <a:lnTo>
                  <a:pt x="229" y="186"/>
                </a:lnTo>
                <a:lnTo>
                  <a:pt x="231" y="181"/>
                </a:lnTo>
                <a:lnTo>
                  <a:pt x="234" y="177"/>
                </a:lnTo>
                <a:lnTo>
                  <a:pt x="238" y="173"/>
                </a:lnTo>
                <a:lnTo>
                  <a:pt x="247" y="161"/>
                </a:lnTo>
                <a:lnTo>
                  <a:pt x="255" y="149"/>
                </a:lnTo>
                <a:lnTo>
                  <a:pt x="258" y="135"/>
                </a:lnTo>
                <a:lnTo>
                  <a:pt x="257" y="126"/>
                </a:lnTo>
                <a:lnTo>
                  <a:pt x="254" y="118"/>
                </a:lnTo>
                <a:lnTo>
                  <a:pt x="254" y="118"/>
                </a:lnTo>
                <a:lnTo>
                  <a:pt x="247" y="109"/>
                </a:lnTo>
                <a:lnTo>
                  <a:pt x="231" y="93"/>
                </a:lnTo>
                <a:lnTo>
                  <a:pt x="212" y="78"/>
                </a:lnTo>
                <a:lnTo>
                  <a:pt x="193" y="68"/>
                </a:lnTo>
                <a:lnTo>
                  <a:pt x="176" y="63"/>
                </a:lnTo>
                <a:lnTo>
                  <a:pt x="170" y="63"/>
                </a:lnTo>
                <a:lnTo>
                  <a:pt x="167" y="63"/>
                </a:lnTo>
                <a:lnTo>
                  <a:pt x="166" y="64"/>
                </a:lnTo>
                <a:lnTo>
                  <a:pt x="164" y="65"/>
                </a:lnTo>
                <a:lnTo>
                  <a:pt x="164" y="67"/>
                </a:lnTo>
                <a:lnTo>
                  <a:pt x="164" y="67"/>
                </a:lnTo>
                <a:lnTo>
                  <a:pt x="161" y="78"/>
                </a:lnTo>
                <a:lnTo>
                  <a:pt x="158" y="109"/>
                </a:lnTo>
                <a:lnTo>
                  <a:pt x="155" y="191"/>
                </a:lnTo>
                <a:lnTo>
                  <a:pt x="155" y="265"/>
                </a:lnTo>
                <a:lnTo>
                  <a:pt x="155" y="277"/>
                </a:lnTo>
                <a:lnTo>
                  <a:pt x="154" y="299"/>
                </a:lnTo>
                <a:lnTo>
                  <a:pt x="145" y="341"/>
                </a:lnTo>
                <a:lnTo>
                  <a:pt x="129" y="381"/>
                </a:lnTo>
                <a:lnTo>
                  <a:pt x="80" y="458"/>
                </a:lnTo>
                <a:lnTo>
                  <a:pt x="34" y="510"/>
                </a:lnTo>
                <a:lnTo>
                  <a:pt x="42" y="523"/>
                </a:lnTo>
                <a:lnTo>
                  <a:pt x="48" y="535"/>
                </a:lnTo>
                <a:lnTo>
                  <a:pt x="50" y="549"/>
                </a:lnTo>
                <a:lnTo>
                  <a:pt x="50" y="562"/>
                </a:lnTo>
                <a:lnTo>
                  <a:pt x="47" y="575"/>
                </a:lnTo>
                <a:lnTo>
                  <a:pt x="37" y="603"/>
                </a:lnTo>
                <a:lnTo>
                  <a:pt x="22" y="631"/>
                </a:lnTo>
                <a:lnTo>
                  <a:pt x="9" y="655"/>
                </a:lnTo>
                <a:lnTo>
                  <a:pt x="5" y="667"/>
                </a:lnTo>
                <a:lnTo>
                  <a:pt x="0" y="667"/>
                </a:lnTo>
                <a:lnTo>
                  <a:pt x="0" y="671"/>
                </a:lnTo>
                <a:lnTo>
                  <a:pt x="0" y="675"/>
                </a:lnTo>
                <a:lnTo>
                  <a:pt x="5" y="691"/>
                </a:lnTo>
                <a:lnTo>
                  <a:pt x="16" y="738"/>
                </a:lnTo>
                <a:lnTo>
                  <a:pt x="48" y="835"/>
                </a:lnTo>
                <a:lnTo>
                  <a:pt x="60" y="851"/>
                </a:lnTo>
                <a:lnTo>
                  <a:pt x="58" y="857"/>
                </a:lnTo>
                <a:lnTo>
                  <a:pt x="58" y="868"/>
                </a:lnTo>
                <a:lnTo>
                  <a:pt x="54" y="896"/>
                </a:lnTo>
                <a:lnTo>
                  <a:pt x="51" y="920"/>
                </a:lnTo>
                <a:lnTo>
                  <a:pt x="51" y="925"/>
                </a:lnTo>
                <a:lnTo>
                  <a:pt x="57" y="932"/>
                </a:lnTo>
                <a:lnTo>
                  <a:pt x="70" y="946"/>
                </a:lnTo>
                <a:lnTo>
                  <a:pt x="80" y="961"/>
                </a:lnTo>
                <a:lnTo>
                  <a:pt x="86" y="975"/>
                </a:lnTo>
                <a:lnTo>
                  <a:pt x="84" y="991"/>
                </a:lnTo>
                <a:lnTo>
                  <a:pt x="76" y="1007"/>
                </a:lnTo>
                <a:lnTo>
                  <a:pt x="69" y="1016"/>
                </a:lnTo>
                <a:lnTo>
                  <a:pt x="77" y="1026"/>
                </a:lnTo>
                <a:lnTo>
                  <a:pt x="93" y="1045"/>
                </a:lnTo>
                <a:lnTo>
                  <a:pt x="118" y="1086"/>
                </a:lnTo>
                <a:lnTo>
                  <a:pt x="125" y="1132"/>
                </a:lnTo>
                <a:lnTo>
                  <a:pt x="124" y="1145"/>
                </a:lnTo>
                <a:lnTo>
                  <a:pt x="124" y="1148"/>
                </a:lnTo>
                <a:lnTo>
                  <a:pt x="125" y="1154"/>
                </a:lnTo>
                <a:lnTo>
                  <a:pt x="128" y="1159"/>
                </a:lnTo>
                <a:lnTo>
                  <a:pt x="135" y="1170"/>
                </a:lnTo>
                <a:lnTo>
                  <a:pt x="142" y="1172"/>
                </a:lnTo>
                <a:lnTo>
                  <a:pt x="158" y="1183"/>
                </a:lnTo>
                <a:lnTo>
                  <a:pt x="199" y="1209"/>
                </a:lnTo>
                <a:lnTo>
                  <a:pt x="279" y="1280"/>
                </a:lnTo>
                <a:lnTo>
                  <a:pt x="305" y="1317"/>
                </a:lnTo>
                <a:lnTo>
                  <a:pt x="312" y="1335"/>
                </a:lnTo>
                <a:lnTo>
                  <a:pt x="313" y="1352"/>
                </a:lnTo>
                <a:lnTo>
                  <a:pt x="310" y="1367"/>
                </a:lnTo>
                <a:lnTo>
                  <a:pt x="310" y="1367"/>
                </a:lnTo>
                <a:lnTo>
                  <a:pt x="313" y="1367"/>
                </a:lnTo>
                <a:lnTo>
                  <a:pt x="335" y="1367"/>
                </a:lnTo>
                <a:lnTo>
                  <a:pt x="410" y="1367"/>
                </a:lnTo>
                <a:lnTo>
                  <a:pt x="468" y="1367"/>
                </a:lnTo>
                <a:lnTo>
                  <a:pt x="473" y="1365"/>
                </a:lnTo>
                <a:lnTo>
                  <a:pt x="480" y="1374"/>
                </a:lnTo>
                <a:lnTo>
                  <a:pt x="506" y="1397"/>
                </a:lnTo>
                <a:lnTo>
                  <a:pt x="526" y="1416"/>
                </a:lnTo>
                <a:lnTo>
                  <a:pt x="528" y="1416"/>
                </a:lnTo>
                <a:lnTo>
                  <a:pt x="534" y="1419"/>
                </a:lnTo>
                <a:lnTo>
                  <a:pt x="554" y="1427"/>
                </a:lnTo>
                <a:lnTo>
                  <a:pt x="570" y="1433"/>
                </a:lnTo>
                <a:lnTo>
                  <a:pt x="571" y="1433"/>
                </a:lnTo>
                <a:lnTo>
                  <a:pt x="583" y="1441"/>
                </a:lnTo>
                <a:lnTo>
                  <a:pt x="612" y="1461"/>
                </a:lnTo>
                <a:lnTo>
                  <a:pt x="678" y="1510"/>
                </a:lnTo>
                <a:lnTo>
                  <a:pt x="744" y="1545"/>
                </a:lnTo>
                <a:lnTo>
                  <a:pt x="758" y="1546"/>
                </a:lnTo>
                <a:lnTo>
                  <a:pt x="760" y="1546"/>
                </a:lnTo>
                <a:lnTo>
                  <a:pt x="773" y="1546"/>
                </a:lnTo>
                <a:lnTo>
                  <a:pt x="815" y="1546"/>
                </a:lnTo>
                <a:lnTo>
                  <a:pt x="848" y="1546"/>
                </a:lnTo>
                <a:lnTo>
                  <a:pt x="851" y="1546"/>
                </a:lnTo>
                <a:lnTo>
                  <a:pt x="858" y="1546"/>
                </a:lnTo>
                <a:lnTo>
                  <a:pt x="865" y="1543"/>
                </a:lnTo>
                <a:lnTo>
                  <a:pt x="871" y="1541"/>
                </a:lnTo>
                <a:lnTo>
                  <a:pt x="876" y="1536"/>
                </a:lnTo>
                <a:lnTo>
                  <a:pt x="884" y="1527"/>
                </a:lnTo>
                <a:lnTo>
                  <a:pt x="893" y="1517"/>
                </a:lnTo>
                <a:lnTo>
                  <a:pt x="900" y="1510"/>
                </a:lnTo>
                <a:lnTo>
                  <a:pt x="909" y="1507"/>
                </a:lnTo>
                <a:lnTo>
                  <a:pt x="910" y="1507"/>
                </a:lnTo>
                <a:lnTo>
                  <a:pt x="929" y="1509"/>
                </a:lnTo>
                <a:lnTo>
                  <a:pt x="960" y="1510"/>
                </a:lnTo>
                <a:lnTo>
                  <a:pt x="1002" y="1527"/>
                </a:lnTo>
                <a:lnTo>
                  <a:pt x="1041" y="1559"/>
                </a:lnTo>
                <a:lnTo>
                  <a:pt x="1054" y="1569"/>
                </a:lnTo>
                <a:lnTo>
                  <a:pt x="1055" y="1572"/>
                </a:lnTo>
                <a:lnTo>
                  <a:pt x="1067" y="1590"/>
                </a:lnTo>
                <a:lnTo>
                  <a:pt x="1107" y="1649"/>
                </a:lnTo>
                <a:lnTo>
                  <a:pt x="1138" y="1696"/>
                </a:lnTo>
                <a:lnTo>
                  <a:pt x="1141" y="1697"/>
                </a:lnTo>
                <a:lnTo>
                  <a:pt x="1142" y="1700"/>
                </a:lnTo>
                <a:lnTo>
                  <a:pt x="1152" y="1709"/>
                </a:lnTo>
                <a:lnTo>
                  <a:pt x="1186" y="1732"/>
                </a:lnTo>
                <a:lnTo>
                  <a:pt x="1202" y="1738"/>
                </a:lnTo>
                <a:lnTo>
                  <a:pt x="1209" y="1739"/>
                </a:lnTo>
                <a:lnTo>
                  <a:pt x="1216" y="1738"/>
                </a:lnTo>
                <a:lnTo>
                  <a:pt x="1220" y="1733"/>
                </a:lnTo>
                <a:lnTo>
                  <a:pt x="1222" y="1733"/>
                </a:lnTo>
                <a:lnTo>
                  <a:pt x="1228" y="1726"/>
                </a:lnTo>
                <a:lnTo>
                  <a:pt x="1245" y="1706"/>
                </a:lnTo>
                <a:lnTo>
                  <a:pt x="1259" y="1688"/>
                </a:lnTo>
                <a:lnTo>
                  <a:pt x="1261" y="1687"/>
                </a:lnTo>
                <a:lnTo>
                  <a:pt x="1265" y="1685"/>
                </a:lnTo>
                <a:lnTo>
                  <a:pt x="1273" y="1684"/>
                </a:lnTo>
                <a:lnTo>
                  <a:pt x="1283" y="1685"/>
                </a:lnTo>
                <a:lnTo>
                  <a:pt x="1309" y="1690"/>
                </a:lnTo>
                <a:lnTo>
                  <a:pt x="1362" y="1706"/>
                </a:lnTo>
                <a:lnTo>
                  <a:pt x="1383" y="1722"/>
                </a:lnTo>
                <a:lnTo>
                  <a:pt x="1383" y="1726"/>
                </a:lnTo>
                <a:lnTo>
                  <a:pt x="1384" y="1733"/>
                </a:lnTo>
                <a:lnTo>
                  <a:pt x="1383" y="1740"/>
                </a:lnTo>
                <a:lnTo>
                  <a:pt x="1381" y="1746"/>
                </a:lnTo>
                <a:lnTo>
                  <a:pt x="1380" y="1761"/>
                </a:lnTo>
                <a:lnTo>
                  <a:pt x="1381" y="1765"/>
                </a:lnTo>
                <a:lnTo>
                  <a:pt x="1386" y="1772"/>
                </a:lnTo>
                <a:lnTo>
                  <a:pt x="1401" y="1791"/>
                </a:lnTo>
                <a:lnTo>
                  <a:pt x="1438" y="1836"/>
                </a:lnTo>
                <a:lnTo>
                  <a:pt x="1464" y="1869"/>
                </a:lnTo>
                <a:lnTo>
                  <a:pt x="1465" y="1871"/>
                </a:lnTo>
                <a:lnTo>
                  <a:pt x="1464" y="1881"/>
                </a:lnTo>
                <a:lnTo>
                  <a:pt x="1464" y="1907"/>
                </a:lnTo>
                <a:lnTo>
                  <a:pt x="1464" y="1927"/>
                </a:lnTo>
                <a:lnTo>
                  <a:pt x="1464" y="1927"/>
                </a:lnTo>
                <a:lnTo>
                  <a:pt x="1483" y="1932"/>
                </a:lnTo>
                <a:lnTo>
                  <a:pt x="1509" y="1935"/>
                </a:lnTo>
                <a:lnTo>
                  <a:pt x="1541" y="1945"/>
                </a:lnTo>
                <a:lnTo>
                  <a:pt x="1587" y="1965"/>
                </a:lnTo>
                <a:lnTo>
                  <a:pt x="1607" y="1974"/>
                </a:lnTo>
                <a:lnTo>
                  <a:pt x="1623" y="1980"/>
                </a:lnTo>
                <a:lnTo>
                  <a:pt x="1635" y="1980"/>
                </a:lnTo>
                <a:lnTo>
                  <a:pt x="1639" y="1980"/>
                </a:lnTo>
                <a:lnTo>
                  <a:pt x="1642" y="1978"/>
                </a:lnTo>
                <a:lnTo>
                  <a:pt x="1643" y="1975"/>
                </a:lnTo>
                <a:lnTo>
                  <a:pt x="1643" y="1972"/>
                </a:lnTo>
                <a:lnTo>
                  <a:pt x="1643" y="1969"/>
                </a:lnTo>
                <a:lnTo>
                  <a:pt x="1642" y="1967"/>
                </a:lnTo>
                <a:lnTo>
                  <a:pt x="1639" y="1958"/>
                </a:lnTo>
                <a:lnTo>
                  <a:pt x="1633" y="1949"/>
                </a:lnTo>
                <a:lnTo>
                  <a:pt x="1622" y="1933"/>
                </a:lnTo>
                <a:lnTo>
                  <a:pt x="1613" y="1920"/>
                </a:lnTo>
                <a:lnTo>
                  <a:pt x="1612" y="1917"/>
                </a:lnTo>
                <a:lnTo>
                  <a:pt x="1612" y="1917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05600" y="3429000"/>
            <a:ext cx="33480" cy="58680"/>
          </a:xfrm>
          <a:custGeom>
            <a:avLst/>
            <a:gdLst/>
            <a:ahLst/>
            <a:rect l="l" t="t" r="r" b="b"/>
            <a:pathLst>
              <a:path w="99" h="181">
                <a:moveTo>
                  <a:pt x="99" y="6"/>
                </a:moveTo>
                <a:lnTo>
                  <a:pt x="94" y="4"/>
                </a:lnTo>
                <a:lnTo>
                  <a:pt x="90" y="1"/>
                </a:lnTo>
                <a:lnTo>
                  <a:pt x="80" y="0"/>
                </a:lnTo>
                <a:lnTo>
                  <a:pt x="70" y="0"/>
                </a:lnTo>
                <a:lnTo>
                  <a:pt x="48" y="1"/>
                </a:lnTo>
                <a:lnTo>
                  <a:pt x="39" y="1"/>
                </a:lnTo>
                <a:lnTo>
                  <a:pt x="38" y="3"/>
                </a:lnTo>
                <a:lnTo>
                  <a:pt x="33" y="7"/>
                </a:lnTo>
                <a:lnTo>
                  <a:pt x="32" y="8"/>
                </a:lnTo>
                <a:lnTo>
                  <a:pt x="32" y="8"/>
                </a:lnTo>
                <a:lnTo>
                  <a:pt x="32" y="11"/>
                </a:lnTo>
                <a:lnTo>
                  <a:pt x="32" y="17"/>
                </a:lnTo>
                <a:lnTo>
                  <a:pt x="32" y="32"/>
                </a:lnTo>
                <a:lnTo>
                  <a:pt x="31" y="42"/>
                </a:lnTo>
                <a:lnTo>
                  <a:pt x="31" y="43"/>
                </a:lnTo>
                <a:lnTo>
                  <a:pt x="28" y="48"/>
                </a:lnTo>
                <a:lnTo>
                  <a:pt x="26" y="49"/>
                </a:lnTo>
                <a:lnTo>
                  <a:pt x="17" y="53"/>
                </a:lnTo>
                <a:lnTo>
                  <a:pt x="2" y="64"/>
                </a:lnTo>
                <a:lnTo>
                  <a:pt x="0" y="69"/>
                </a:lnTo>
                <a:lnTo>
                  <a:pt x="3" y="78"/>
                </a:lnTo>
                <a:lnTo>
                  <a:pt x="6" y="88"/>
                </a:lnTo>
                <a:lnTo>
                  <a:pt x="9" y="111"/>
                </a:lnTo>
                <a:lnTo>
                  <a:pt x="7" y="136"/>
                </a:lnTo>
                <a:lnTo>
                  <a:pt x="3" y="175"/>
                </a:lnTo>
                <a:lnTo>
                  <a:pt x="3" y="181"/>
                </a:lnTo>
                <a:lnTo>
                  <a:pt x="13" y="181"/>
                </a:lnTo>
                <a:lnTo>
                  <a:pt x="48" y="181"/>
                </a:lnTo>
                <a:lnTo>
                  <a:pt x="74" y="181"/>
                </a:lnTo>
                <a:lnTo>
                  <a:pt x="75" y="179"/>
                </a:lnTo>
                <a:lnTo>
                  <a:pt x="78" y="177"/>
                </a:lnTo>
                <a:lnTo>
                  <a:pt x="88" y="166"/>
                </a:lnTo>
                <a:lnTo>
                  <a:pt x="96" y="159"/>
                </a:lnTo>
                <a:lnTo>
                  <a:pt x="97" y="158"/>
                </a:lnTo>
                <a:lnTo>
                  <a:pt x="94" y="145"/>
                </a:lnTo>
                <a:lnTo>
                  <a:pt x="93" y="119"/>
                </a:lnTo>
                <a:lnTo>
                  <a:pt x="96" y="69"/>
                </a:lnTo>
                <a:lnTo>
                  <a:pt x="99" y="20"/>
                </a:lnTo>
                <a:lnTo>
                  <a:pt x="99" y="6"/>
                </a:lnTo>
                <a:lnTo>
                  <a:pt x="99" y="6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40320" y="3063960"/>
            <a:ext cx="720720" cy="471240"/>
          </a:xfrm>
          <a:custGeom>
            <a:avLst/>
            <a:gdLst/>
            <a:ahLst/>
            <a:rect l="l" t="t" r="r" b="b"/>
            <a:pathLst>
              <a:path w="2093" h="1439">
                <a:moveTo>
                  <a:pt x="1847" y="1319"/>
                </a:moveTo>
                <a:lnTo>
                  <a:pt x="1847" y="1314"/>
                </a:lnTo>
                <a:lnTo>
                  <a:pt x="1850" y="1297"/>
                </a:lnTo>
                <a:lnTo>
                  <a:pt x="1851" y="1284"/>
                </a:lnTo>
                <a:lnTo>
                  <a:pt x="1853" y="1283"/>
                </a:lnTo>
                <a:lnTo>
                  <a:pt x="1851" y="1278"/>
                </a:lnTo>
                <a:lnTo>
                  <a:pt x="1848" y="1274"/>
                </a:lnTo>
                <a:lnTo>
                  <a:pt x="1844" y="1271"/>
                </a:lnTo>
                <a:lnTo>
                  <a:pt x="1838" y="1267"/>
                </a:lnTo>
                <a:lnTo>
                  <a:pt x="1825" y="1258"/>
                </a:lnTo>
                <a:lnTo>
                  <a:pt x="1812" y="1249"/>
                </a:lnTo>
                <a:lnTo>
                  <a:pt x="1801" y="1241"/>
                </a:lnTo>
                <a:lnTo>
                  <a:pt x="1798" y="1227"/>
                </a:lnTo>
                <a:lnTo>
                  <a:pt x="1798" y="1227"/>
                </a:lnTo>
                <a:lnTo>
                  <a:pt x="1802" y="1220"/>
                </a:lnTo>
                <a:lnTo>
                  <a:pt x="1817" y="1197"/>
                </a:lnTo>
                <a:lnTo>
                  <a:pt x="1828" y="1180"/>
                </a:lnTo>
                <a:lnTo>
                  <a:pt x="1830" y="1178"/>
                </a:lnTo>
                <a:lnTo>
                  <a:pt x="1844" y="1180"/>
                </a:lnTo>
                <a:lnTo>
                  <a:pt x="1890" y="1183"/>
                </a:lnTo>
                <a:lnTo>
                  <a:pt x="1925" y="1184"/>
                </a:lnTo>
                <a:lnTo>
                  <a:pt x="1928" y="1184"/>
                </a:lnTo>
                <a:lnTo>
                  <a:pt x="1932" y="1181"/>
                </a:lnTo>
                <a:lnTo>
                  <a:pt x="1947" y="1171"/>
                </a:lnTo>
                <a:lnTo>
                  <a:pt x="1959" y="1164"/>
                </a:lnTo>
                <a:lnTo>
                  <a:pt x="1960" y="1162"/>
                </a:lnTo>
                <a:lnTo>
                  <a:pt x="1959" y="1152"/>
                </a:lnTo>
                <a:lnTo>
                  <a:pt x="1960" y="1135"/>
                </a:lnTo>
                <a:lnTo>
                  <a:pt x="1961" y="1126"/>
                </a:lnTo>
                <a:lnTo>
                  <a:pt x="1964" y="1122"/>
                </a:lnTo>
                <a:lnTo>
                  <a:pt x="1967" y="1120"/>
                </a:lnTo>
                <a:lnTo>
                  <a:pt x="1976" y="1120"/>
                </a:lnTo>
                <a:lnTo>
                  <a:pt x="2002" y="1120"/>
                </a:lnTo>
                <a:lnTo>
                  <a:pt x="2022" y="1120"/>
                </a:lnTo>
                <a:lnTo>
                  <a:pt x="2024" y="1119"/>
                </a:lnTo>
                <a:lnTo>
                  <a:pt x="2024" y="1101"/>
                </a:lnTo>
                <a:lnTo>
                  <a:pt x="2031" y="1065"/>
                </a:lnTo>
                <a:lnTo>
                  <a:pt x="2057" y="997"/>
                </a:lnTo>
                <a:lnTo>
                  <a:pt x="2085" y="935"/>
                </a:lnTo>
                <a:lnTo>
                  <a:pt x="2090" y="920"/>
                </a:lnTo>
                <a:lnTo>
                  <a:pt x="2093" y="899"/>
                </a:lnTo>
                <a:lnTo>
                  <a:pt x="2089" y="881"/>
                </a:lnTo>
                <a:lnTo>
                  <a:pt x="2080" y="870"/>
                </a:lnTo>
                <a:lnTo>
                  <a:pt x="2067" y="862"/>
                </a:lnTo>
                <a:lnTo>
                  <a:pt x="2051" y="858"/>
                </a:lnTo>
                <a:lnTo>
                  <a:pt x="2032" y="857"/>
                </a:lnTo>
                <a:lnTo>
                  <a:pt x="1993" y="861"/>
                </a:lnTo>
                <a:lnTo>
                  <a:pt x="1957" y="868"/>
                </a:lnTo>
                <a:lnTo>
                  <a:pt x="1935" y="874"/>
                </a:lnTo>
                <a:lnTo>
                  <a:pt x="1935" y="874"/>
                </a:lnTo>
                <a:lnTo>
                  <a:pt x="1908" y="886"/>
                </a:lnTo>
                <a:lnTo>
                  <a:pt x="1869" y="909"/>
                </a:lnTo>
                <a:lnTo>
                  <a:pt x="1846" y="935"/>
                </a:lnTo>
                <a:lnTo>
                  <a:pt x="1832" y="964"/>
                </a:lnTo>
                <a:lnTo>
                  <a:pt x="1824" y="1000"/>
                </a:lnTo>
                <a:lnTo>
                  <a:pt x="1812" y="1043"/>
                </a:lnTo>
                <a:lnTo>
                  <a:pt x="1805" y="1070"/>
                </a:lnTo>
                <a:lnTo>
                  <a:pt x="1802" y="1074"/>
                </a:lnTo>
                <a:lnTo>
                  <a:pt x="1799" y="1077"/>
                </a:lnTo>
                <a:lnTo>
                  <a:pt x="1795" y="1081"/>
                </a:lnTo>
                <a:lnTo>
                  <a:pt x="1785" y="1087"/>
                </a:lnTo>
                <a:lnTo>
                  <a:pt x="1754" y="1101"/>
                </a:lnTo>
                <a:lnTo>
                  <a:pt x="1679" y="1127"/>
                </a:lnTo>
                <a:lnTo>
                  <a:pt x="1634" y="1141"/>
                </a:lnTo>
                <a:lnTo>
                  <a:pt x="1622" y="1142"/>
                </a:lnTo>
                <a:lnTo>
                  <a:pt x="1606" y="1143"/>
                </a:lnTo>
                <a:lnTo>
                  <a:pt x="1595" y="1149"/>
                </a:lnTo>
                <a:lnTo>
                  <a:pt x="1583" y="1155"/>
                </a:lnTo>
                <a:lnTo>
                  <a:pt x="1548" y="1174"/>
                </a:lnTo>
                <a:lnTo>
                  <a:pt x="1534" y="1178"/>
                </a:lnTo>
                <a:lnTo>
                  <a:pt x="1522" y="1170"/>
                </a:lnTo>
                <a:lnTo>
                  <a:pt x="1511" y="1162"/>
                </a:lnTo>
                <a:lnTo>
                  <a:pt x="1482" y="1148"/>
                </a:lnTo>
                <a:lnTo>
                  <a:pt x="1427" y="1117"/>
                </a:lnTo>
                <a:lnTo>
                  <a:pt x="1407" y="1068"/>
                </a:lnTo>
                <a:lnTo>
                  <a:pt x="1360" y="1062"/>
                </a:lnTo>
                <a:lnTo>
                  <a:pt x="1327" y="1043"/>
                </a:lnTo>
                <a:lnTo>
                  <a:pt x="1302" y="1013"/>
                </a:lnTo>
                <a:lnTo>
                  <a:pt x="1288" y="977"/>
                </a:lnTo>
                <a:lnTo>
                  <a:pt x="1279" y="933"/>
                </a:lnTo>
                <a:lnTo>
                  <a:pt x="1276" y="887"/>
                </a:lnTo>
                <a:lnTo>
                  <a:pt x="1283" y="790"/>
                </a:lnTo>
                <a:lnTo>
                  <a:pt x="1301" y="646"/>
                </a:lnTo>
                <a:lnTo>
                  <a:pt x="1302" y="646"/>
                </a:lnTo>
                <a:lnTo>
                  <a:pt x="1302" y="642"/>
                </a:lnTo>
                <a:lnTo>
                  <a:pt x="1304" y="639"/>
                </a:lnTo>
                <a:lnTo>
                  <a:pt x="1307" y="632"/>
                </a:lnTo>
                <a:lnTo>
                  <a:pt x="1309" y="625"/>
                </a:lnTo>
                <a:lnTo>
                  <a:pt x="1309" y="617"/>
                </a:lnTo>
                <a:lnTo>
                  <a:pt x="1307" y="612"/>
                </a:lnTo>
                <a:lnTo>
                  <a:pt x="1307" y="612"/>
                </a:lnTo>
                <a:lnTo>
                  <a:pt x="1291" y="604"/>
                </a:lnTo>
                <a:lnTo>
                  <a:pt x="1266" y="593"/>
                </a:lnTo>
                <a:lnTo>
                  <a:pt x="1227" y="578"/>
                </a:lnTo>
                <a:lnTo>
                  <a:pt x="1178" y="565"/>
                </a:lnTo>
                <a:lnTo>
                  <a:pt x="1160" y="561"/>
                </a:lnTo>
                <a:lnTo>
                  <a:pt x="1160" y="554"/>
                </a:lnTo>
                <a:lnTo>
                  <a:pt x="1160" y="528"/>
                </a:lnTo>
                <a:lnTo>
                  <a:pt x="1160" y="507"/>
                </a:lnTo>
                <a:lnTo>
                  <a:pt x="1162" y="506"/>
                </a:lnTo>
                <a:lnTo>
                  <a:pt x="1157" y="503"/>
                </a:lnTo>
                <a:lnTo>
                  <a:pt x="1144" y="488"/>
                </a:lnTo>
                <a:lnTo>
                  <a:pt x="1108" y="448"/>
                </a:lnTo>
                <a:lnTo>
                  <a:pt x="1079" y="409"/>
                </a:lnTo>
                <a:lnTo>
                  <a:pt x="1078" y="402"/>
                </a:lnTo>
                <a:lnTo>
                  <a:pt x="1076" y="397"/>
                </a:lnTo>
                <a:lnTo>
                  <a:pt x="1075" y="391"/>
                </a:lnTo>
                <a:lnTo>
                  <a:pt x="1076" y="381"/>
                </a:lnTo>
                <a:lnTo>
                  <a:pt x="1076" y="360"/>
                </a:lnTo>
                <a:lnTo>
                  <a:pt x="1063" y="344"/>
                </a:lnTo>
                <a:lnTo>
                  <a:pt x="1056" y="342"/>
                </a:lnTo>
                <a:lnTo>
                  <a:pt x="1039" y="336"/>
                </a:lnTo>
                <a:lnTo>
                  <a:pt x="999" y="326"/>
                </a:lnTo>
                <a:lnTo>
                  <a:pt x="963" y="322"/>
                </a:lnTo>
                <a:lnTo>
                  <a:pt x="956" y="322"/>
                </a:lnTo>
                <a:lnTo>
                  <a:pt x="944" y="336"/>
                </a:lnTo>
                <a:lnTo>
                  <a:pt x="924" y="357"/>
                </a:lnTo>
                <a:lnTo>
                  <a:pt x="907" y="368"/>
                </a:lnTo>
                <a:lnTo>
                  <a:pt x="898" y="371"/>
                </a:lnTo>
                <a:lnTo>
                  <a:pt x="889" y="371"/>
                </a:lnTo>
                <a:lnTo>
                  <a:pt x="881" y="368"/>
                </a:lnTo>
                <a:lnTo>
                  <a:pt x="872" y="362"/>
                </a:lnTo>
                <a:lnTo>
                  <a:pt x="860" y="355"/>
                </a:lnTo>
                <a:lnTo>
                  <a:pt x="837" y="331"/>
                </a:lnTo>
                <a:lnTo>
                  <a:pt x="837" y="331"/>
                </a:lnTo>
                <a:lnTo>
                  <a:pt x="828" y="319"/>
                </a:lnTo>
                <a:lnTo>
                  <a:pt x="815" y="296"/>
                </a:lnTo>
                <a:lnTo>
                  <a:pt x="791" y="255"/>
                </a:lnTo>
                <a:lnTo>
                  <a:pt x="759" y="216"/>
                </a:lnTo>
                <a:lnTo>
                  <a:pt x="750" y="204"/>
                </a:lnTo>
                <a:lnTo>
                  <a:pt x="734" y="193"/>
                </a:lnTo>
                <a:lnTo>
                  <a:pt x="711" y="173"/>
                </a:lnTo>
                <a:lnTo>
                  <a:pt x="676" y="151"/>
                </a:lnTo>
                <a:lnTo>
                  <a:pt x="624" y="144"/>
                </a:lnTo>
                <a:lnTo>
                  <a:pt x="604" y="142"/>
                </a:lnTo>
                <a:lnTo>
                  <a:pt x="592" y="144"/>
                </a:lnTo>
                <a:lnTo>
                  <a:pt x="585" y="145"/>
                </a:lnTo>
                <a:lnTo>
                  <a:pt x="581" y="149"/>
                </a:lnTo>
                <a:lnTo>
                  <a:pt x="578" y="152"/>
                </a:lnTo>
                <a:lnTo>
                  <a:pt x="578" y="158"/>
                </a:lnTo>
                <a:lnTo>
                  <a:pt x="576" y="162"/>
                </a:lnTo>
                <a:lnTo>
                  <a:pt x="575" y="167"/>
                </a:lnTo>
                <a:lnTo>
                  <a:pt x="573" y="171"/>
                </a:lnTo>
                <a:lnTo>
                  <a:pt x="569" y="176"/>
                </a:lnTo>
                <a:lnTo>
                  <a:pt x="562" y="178"/>
                </a:lnTo>
                <a:lnTo>
                  <a:pt x="552" y="181"/>
                </a:lnTo>
                <a:lnTo>
                  <a:pt x="539" y="181"/>
                </a:lnTo>
                <a:lnTo>
                  <a:pt x="539" y="181"/>
                </a:lnTo>
                <a:lnTo>
                  <a:pt x="536" y="181"/>
                </a:lnTo>
                <a:lnTo>
                  <a:pt x="524" y="181"/>
                </a:lnTo>
                <a:lnTo>
                  <a:pt x="485" y="181"/>
                </a:lnTo>
                <a:lnTo>
                  <a:pt x="456" y="181"/>
                </a:lnTo>
                <a:lnTo>
                  <a:pt x="455" y="181"/>
                </a:lnTo>
                <a:lnTo>
                  <a:pt x="439" y="180"/>
                </a:lnTo>
                <a:lnTo>
                  <a:pt x="423" y="174"/>
                </a:lnTo>
                <a:lnTo>
                  <a:pt x="388" y="157"/>
                </a:lnTo>
                <a:lnTo>
                  <a:pt x="353" y="132"/>
                </a:lnTo>
                <a:lnTo>
                  <a:pt x="289" y="83"/>
                </a:lnTo>
                <a:lnTo>
                  <a:pt x="268" y="68"/>
                </a:lnTo>
                <a:lnTo>
                  <a:pt x="259" y="65"/>
                </a:lnTo>
                <a:lnTo>
                  <a:pt x="237" y="57"/>
                </a:lnTo>
                <a:lnTo>
                  <a:pt x="220" y="49"/>
                </a:lnTo>
                <a:lnTo>
                  <a:pt x="220" y="48"/>
                </a:lnTo>
                <a:lnTo>
                  <a:pt x="217" y="47"/>
                </a:lnTo>
                <a:lnTo>
                  <a:pt x="214" y="44"/>
                </a:lnTo>
                <a:lnTo>
                  <a:pt x="205" y="35"/>
                </a:lnTo>
                <a:lnTo>
                  <a:pt x="182" y="13"/>
                </a:lnTo>
                <a:lnTo>
                  <a:pt x="169" y="0"/>
                </a:lnTo>
                <a:lnTo>
                  <a:pt x="165" y="2"/>
                </a:lnTo>
                <a:lnTo>
                  <a:pt x="142" y="2"/>
                </a:lnTo>
                <a:lnTo>
                  <a:pt x="63" y="2"/>
                </a:lnTo>
                <a:lnTo>
                  <a:pt x="3" y="2"/>
                </a:lnTo>
                <a:lnTo>
                  <a:pt x="0" y="2"/>
                </a:lnTo>
                <a:lnTo>
                  <a:pt x="3" y="19"/>
                </a:lnTo>
                <a:lnTo>
                  <a:pt x="11" y="51"/>
                </a:lnTo>
                <a:lnTo>
                  <a:pt x="33" y="110"/>
                </a:lnTo>
                <a:lnTo>
                  <a:pt x="46" y="176"/>
                </a:lnTo>
                <a:lnTo>
                  <a:pt x="47" y="194"/>
                </a:lnTo>
                <a:lnTo>
                  <a:pt x="55" y="207"/>
                </a:lnTo>
                <a:lnTo>
                  <a:pt x="72" y="231"/>
                </a:lnTo>
                <a:lnTo>
                  <a:pt x="111" y="281"/>
                </a:lnTo>
                <a:lnTo>
                  <a:pt x="147" y="329"/>
                </a:lnTo>
                <a:lnTo>
                  <a:pt x="156" y="341"/>
                </a:lnTo>
                <a:lnTo>
                  <a:pt x="147" y="354"/>
                </a:lnTo>
                <a:lnTo>
                  <a:pt x="134" y="367"/>
                </a:lnTo>
                <a:lnTo>
                  <a:pt x="129" y="370"/>
                </a:lnTo>
                <a:lnTo>
                  <a:pt x="124" y="370"/>
                </a:lnTo>
                <a:lnTo>
                  <a:pt x="118" y="370"/>
                </a:lnTo>
                <a:lnTo>
                  <a:pt x="108" y="368"/>
                </a:lnTo>
                <a:lnTo>
                  <a:pt x="94" y="373"/>
                </a:lnTo>
                <a:lnTo>
                  <a:pt x="75" y="387"/>
                </a:lnTo>
                <a:lnTo>
                  <a:pt x="75" y="387"/>
                </a:lnTo>
                <a:lnTo>
                  <a:pt x="88" y="400"/>
                </a:lnTo>
                <a:lnTo>
                  <a:pt x="127" y="431"/>
                </a:lnTo>
                <a:lnTo>
                  <a:pt x="217" y="504"/>
                </a:lnTo>
                <a:lnTo>
                  <a:pt x="250" y="541"/>
                </a:lnTo>
                <a:lnTo>
                  <a:pt x="260" y="558"/>
                </a:lnTo>
                <a:lnTo>
                  <a:pt x="263" y="575"/>
                </a:lnTo>
                <a:lnTo>
                  <a:pt x="259" y="590"/>
                </a:lnTo>
                <a:lnTo>
                  <a:pt x="259" y="590"/>
                </a:lnTo>
                <a:lnTo>
                  <a:pt x="256" y="594"/>
                </a:lnTo>
                <a:lnTo>
                  <a:pt x="250" y="603"/>
                </a:lnTo>
                <a:lnTo>
                  <a:pt x="243" y="622"/>
                </a:lnTo>
                <a:lnTo>
                  <a:pt x="239" y="641"/>
                </a:lnTo>
                <a:lnTo>
                  <a:pt x="239" y="645"/>
                </a:lnTo>
                <a:lnTo>
                  <a:pt x="252" y="652"/>
                </a:lnTo>
                <a:lnTo>
                  <a:pt x="281" y="670"/>
                </a:lnTo>
                <a:lnTo>
                  <a:pt x="342" y="715"/>
                </a:lnTo>
                <a:lnTo>
                  <a:pt x="404" y="781"/>
                </a:lnTo>
                <a:lnTo>
                  <a:pt x="421" y="801"/>
                </a:lnTo>
                <a:lnTo>
                  <a:pt x="429" y="793"/>
                </a:lnTo>
                <a:lnTo>
                  <a:pt x="436" y="777"/>
                </a:lnTo>
                <a:lnTo>
                  <a:pt x="436" y="762"/>
                </a:lnTo>
                <a:lnTo>
                  <a:pt x="431" y="748"/>
                </a:lnTo>
                <a:lnTo>
                  <a:pt x="426" y="733"/>
                </a:lnTo>
                <a:lnTo>
                  <a:pt x="421" y="719"/>
                </a:lnTo>
                <a:lnTo>
                  <a:pt x="421" y="709"/>
                </a:lnTo>
                <a:lnTo>
                  <a:pt x="408" y="699"/>
                </a:lnTo>
                <a:lnTo>
                  <a:pt x="400" y="693"/>
                </a:lnTo>
                <a:lnTo>
                  <a:pt x="391" y="691"/>
                </a:lnTo>
                <a:lnTo>
                  <a:pt x="385" y="690"/>
                </a:lnTo>
                <a:lnTo>
                  <a:pt x="381" y="691"/>
                </a:lnTo>
                <a:lnTo>
                  <a:pt x="378" y="691"/>
                </a:lnTo>
                <a:lnTo>
                  <a:pt x="376" y="691"/>
                </a:lnTo>
                <a:lnTo>
                  <a:pt x="375" y="690"/>
                </a:lnTo>
                <a:lnTo>
                  <a:pt x="375" y="688"/>
                </a:lnTo>
                <a:lnTo>
                  <a:pt x="375" y="686"/>
                </a:lnTo>
                <a:lnTo>
                  <a:pt x="373" y="677"/>
                </a:lnTo>
                <a:lnTo>
                  <a:pt x="373" y="641"/>
                </a:lnTo>
                <a:lnTo>
                  <a:pt x="375" y="626"/>
                </a:lnTo>
                <a:lnTo>
                  <a:pt x="365" y="610"/>
                </a:lnTo>
                <a:lnTo>
                  <a:pt x="353" y="581"/>
                </a:lnTo>
                <a:lnTo>
                  <a:pt x="339" y="538"/>
                </a:lnTo>
                <a:lnTo>
                  <a:pt x="313" y="500"/>
                </a:lnTo>
                <a:lnTo>
                  <a:pt x="302" y="488"/>
                </a:lnTo>
                <a:lnTo>
                  <a:pt x="288" y="474"/>
                </a:lnTo>
                <a:lnTo>
                  <a:pt x="274" y="446"/>
                </a:lnTo>
                <a:lnTo>
                  <a:pt x="271" y="423"/>
                </a:lnTo>
                <a:lnTo>
                  <a:pt x="272" y="400"/>
                </a:lnTo>
                <a:lnTo>
                  <a:pt x="269" y="374"/>
                </a:lnTo>
                <a:lnTo>
                  <a:pt x="253" y="345"/>
                </a:lnTo>
                <a:lnTo>
                  <a:pt x="239" y="326"/>
                </a:lnTo>
                <a:lnTo>
                  <a:pt x="221" y="307"/>
                </a:lnTo>
                <a:lnTo>
                  <a:pt x="194" y="270"/>
                </a:lnTo>
                <a:lnTo>
                  <a:pt x="159" y="194"/>
                </a:lnTo>
                <a:lnTo>
                  <a:pt x="147" y="126"/>
                </a:lnTo>
                <a:lnTo>
                  <a:pt x="147" y="110"/>
                </a:lnTo>
                <a:lnTo>
                  <a:pt x="156" y="109"/>
                </a:lnTo>
                <a:lnTo>
                  <a:pt x="175" y="109"/>
                </a:lnTo>
                <a:lnTo>
                  <a:pt x="194" y="113"/>
                </a:lnTo>
                <a:lnTo>
                  <a:pt x="213" y="122"/>
                </a:lnTo>
                <a:lnTo>
                  <a:pt x="229" y="133"/>
                </a:lnTo>
                <a:lnTo>
                  <a:pt x="242" y="149"/>
                </a:lnTo>
                <a:lnTo>
                  <a:pt x="247" y="157"/>
                </a:lnTo>
                <a:lnTo>
                  <a:pt x="247" y="161"/>
                </a:lnTo>
                <a:lnTo>
                  <a:pt x="249" y="187"/>
                </a:lnTo>
                <a:lnTo>
                  <a:pt x="262" y="273"/>
                </a:lnTo>
                <a:lnTo>
                  <a:pt x="274" y="313"/>
                </a:lnTo>
                <a:lnTo>
                  <a:pt x="282" y="328"/>
                </a:lnTo>
                <a:lnTo>
                  <a:pt x="291" y="338"/>
                </a:lnTo>
                <a:lnTo>
                  <a:pt x="297" y="341"/>
                </a:lnTo>
                <a:lnTo>
                  <a:pt x="301" y="341"/>
                </a:lnTo>
                <a:lnTo>
                  <a:pt x="302" y="341"/>
                </a:lnTo>
                <a:lnTo>
                  <a:pt x="317" y="358"/>
                </a:lnTo>
                <a:lnTo>
                  <a:pt x="345" y="393"/>
                </a:lnTo>
                <a:lnTo>
                  <a:pt x="392" y="461"/>
                </a:lnTo>
                <a:lnTo>
                  <a:pt x="449" y="516"/>
                </a:lnTo>
                <a:lnTo>
                  <a:pt x="466" y="525"/>
                </a:lnTo>
                <a:lnTo>
                  <a:pt x="462" y="533"/>
                </a:lnTo>
                <a:lnTo>
                  <a:pt x="453" y="551"/>
                </a:lnTo>
                <a:lnTo>
                  <a:pt x="446" y="570"/>
                </a:lnTo>
                <a:lnTo>
                  <a:pt x="442" y="586"/>
                </a:lnTo>
                <a:lnTo>
                  <a:pt x="443" y="593"/>
                </a:lnTo>
                <a:lnTo>
                  <a:pt x="446" y="600"/>
                </a:lnTo>
                <a:lnTo>
                  <a:pt x="452" y="604"/>
                </a:lnTo>
                <a:lnTo>
                  <a:pt x="462" y="607"/>
                </a:lnTo>
                <a:lnTo>
                  <a:pt x="475" y="607"/>
                </a:lnTo>
                <a:lnTo>
                  <a:pt x="476" y="607"/>
                </a:lnTo>
                <a:lnTo>
                  <a:pt x="491" y="630"/>
                </a:lnTo>
                <a:lnTo>
                  <a:pt x="531" y="677"/>
                </a:lnTo>
                <a:lnTo>
                  <a:pt x="623" y="774"/>
                </a:lnTo>
                <a:lnTo>
                  <a:pt x="660" y="828"/>
                </a:lnTo>
                <a:lnTo>
                  <a:pt x="682" y="883"/>
                </a:lnTo>
                <a:lnTo>
                  <a:pt x="686" y="912"/>
                </a:lnTo>
                <a:lnTo>
                  <a:pt x="695" y="919"/>
                </a:lnTo>
                <a:lnTo>
                  <a:pt x="708" y="930"/>
                </a:lnTo>
                <a:lnTo>
                  <a:pt x="714" y="945"/>
                </a:lnTo>
                <a:lnTo>
                  <a:pt x="714" y="959"/>
                </a:lnTo>
                <a:lnTo>
                  <a:pt x="707" y="977"/>
                </a:lnTo>
                <a:lnTo>
                  <a:pt x="694" y="994"/>
                </a:lnTo>
                <a:lnTo>
                  <a:pt x="686" y="1003"/>
                </a:lnTo>
                <a:lnTo>
                  <a:pt x="718" y="1046"/>
                </a:lnTo>
                <a:lnTo>
                  <a:pt x="817" y="1138"/>
                </a:lnTo>
                <a:lnTo>
                  <a:pt x="947" y="1226"/>
                </a:lnTo>
                <a:lnTo>
                  <a:pt x="1243" y="1354"/>
                </a:lnTo>
                <a:lnTo>
                  <a:pt x="1440" y="1359"/>
                </a:lnTo>
                <a:lnTo>
                  <a:pt x="1469" y="1346"/>
                </a:lnTo>
                <a:lnTo>
                  <a:pt x="1521" y="1333"/>
                </a:lnTo>
                <a:lnTo>
                  <a:pt x="1567" y="1338"/>
                </a:lnTo>
                <a:lnTo>
                  <a:pt x="1611" y="1356"/>
                </a:lnTo>
                <a:lnTo>
                  <a:pt x="1653" y="1384"/>
                </a:lnTo>
                <a:lnTo>
                  <a:pt x="1696" y="1420"/>
                </a:lnTo>
                <a:lnTo>
                  <a:pt x="1721" y="1439"/>
                </a:lnTo>
                <a:lnTo>
                  <a:pt x="1724" y="1413"/>
                </a:lnTo>
                <a:lnTo>
                  <a:pt x="1731" y="1371"/>
                </a:lnTo>
                <a:lnTo>
                  <a:pt x="1741" y="1342"/>
                </a:lnTo>
                <a:lnTo>
                  <a:pt x="1748" y="1332"/>
                </a:lnTo>
                <a:lnTo>
                  <a:pt x="1759" y="1325"/>
                </a:lnTo>
                <a:lnTo>
                  <a:pt x="1770" y="1320"/>
                </a:lnTo>
                <a:lnTo>
                  <a:pt x="1785" y="1317"/>
                </a:lnTo>
                <a:lnTo>
                  <a:pt x="1801" y="1317"/>
                </a:lnTo>
                <a:lnTo>
                  <a:pt x="1846" y="1319"/>
                </a:lnTo>
                <a:lnTo>
                  <a:pt x="1847" y="1319"/>
                </a:lnTo>
                <a:lnTo>
                  <a:pt x="1847" y="1319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3448080"/>
            <a:ext cx="104760" cy="101520"/>
          </a:xfrm>
          <a:custGeom>
            <a:avLst/>
            <a:gdLst/>
            <a:ahLst/>
            <a:rect l="l" t="t" r="r" b="b"/>
            <a:pathLst>
              <a:path w="306" h="312">
                <a:moveTo>
                  <a:pt x="0" y="262"/>
                </a:moveTo>
                <a:lnTo>
                  <a:pt x="0" y="261"/>
                </a:lnTo>
                <a:lnTo>
                  <a:pt x="1" y="252"/>
                </a:lnTo>
                <a:lnTo>
                  <a:pt x="1" y="247"/>
                </a:lnTo>
                <a:lnTo>
                  <a:pt x="3" y="245"/>
                </a:lnTo>
                <a:lnTo>
                  <a:pt x="1" y="222"/>
                </a:lnTo>
                <a:lnTo>
                  <a:pt x="9" y="184"/>
                </a:lnTo>
                <a:lnTo>
                  <a:pt x="25" y="158"/>
                </a:lnTo>
                <a:lnTo>
                  <a:pt x="48" y="144"/>
                </a:lnTo>
                <a:lnTo>
                  <a:pt x="77" y="138"/>
                </a:lnTo>
                <a:lnTo>
                  <a:pt x="109" y="138"/>
                </a:lnTo>
                <a:lnTo>
                  <a:pt x="126" y="138"/>
                </a:lnTo>
                <a:lnTo>
                  <a:pt x="126" y="132"/>
                </a:lnTo>
                <a:lnTo>
                  <a:pt x="129" y="115"/>
                </a:lnTo>
                <a:lnTo>
                  <a:pt x="130" y="100"/>
                </a:lnTo>
                <a:lnTo>
                  <a:pt x="132" y="99"/>
                </a:lnTo>
                <a:lnTo>
                  <a:pt x="129" y="96"/>
                </a:lnTo>
                <a:lnTo>
                  <a:pt x="125" y="93"/>
                </a:lnTo>
                <a:lnTo>
                  <a:pt x="120" y="89"/>
                </a:lnTo>
                <a:lnTo>
                  <a:pt x="107" y="81"/>
                </a:lnTo>
                <a:lnTo>
                  <a:pt x="82" y="65"/>
                </a:lnTo>
                <a:lnTo>
                  <a:pt x="78" y="49"/>
                </a:lnTo>
                <a:lnTo>
                  <a:pt x="82" y="49"/>
                </a:lnTo>
                <a:lnTo>
                  <a:pt x="91" y="48"/>
                </a:lnTo>
                <a:lnTo>
                  <a:pt x="96" y="47"/>
                </a:lnTo>
                <a:lnTo>
                  <a:pt x="97" y="45"/>
                </a:lnTo>
                <a:lnTo>
                  <a:pt x="96" y="41"/>
                </a:lnTo>
                <a:lnTo>
                  <a:pt x="93" y="38"/>
                </a:lnTo>
                <a:lnTo>
                  <a:pt x="85" y="29"/>
                </a:lnTo>
                <a:lnTo>
                  <a:pt x="85" y="29"/>
                </a:lnTo>
                <a:lnTo>
                  <a:pt x="88" y="25"/>
                </a:lnTo>
                <a:lnTo>
                  <a:pt x="100" y="12"/>
                </a:lnTo>
                <a:lnTo>
                  <a:pt x="109" y="2"/>
                </a:lnTo>
                <a:lnTo>
                  <a:pt x="110" y="0"/>
                </a:lnTo>
                <a:lnTo>
                  <a:pt x="111" y="0"/>
                </a:lnTo>
                <a:lnTo>
                  <a:pt x="113" y="0"/>
                </a:lnTo>
                <a:lnTo>
                  <a:pt x="125" y="2"/>
                </a:lnTo>
                <a:lnTo>
                  <a:pt x="161" y="5"/>
                </a:lnTo>
                <a:lnTo>
                  <a:pt x="198" y="6"/>
                </a:lnTo>
                <a:lnTo>
                  <a:pt x="207" y="6"/>
                </a:lnTo>
                <a:lnTo>
                  <a:pt x="206" y="7"/>
                </a:lnTo>
                <a:lnTo>
                  <a:pt x="207" y="6"/>
                </a:lnTo>
                <a:lnTo>
                  <a:pt x="209" y="13"/>
                </a:lnTo>
                <a:lnTo>
                  <a:pt x="213" y="25"/>
                </a:lnTo>
                <a:lnTo>
                  <a:pt x="216" y="47"/>
                </a:lnTo>
                <a:lnTo>
                  <a:pt x="216" y="58"/>
                </a:lnTo>
                <a:lnTo>
                  <a:pt x="216" y="58"/>
                </a:lnTo>
                <a:lnTo>
                  <a:pt x="214" y="70"/>
                </a:lnTo>
                <a:lnTo>
                  <a:pt x="211" y="100"/>
                </a:lnTo>
                <a:lnTo>
                  <a:pt x="210" y="123"/>
                </a:lnTo>
                <a:lnTo>
                  <a:pt x="210" y="123"/>
                </a:lnTo>
                <a:lnTo>
                  <a:pt x="211" y="123"/>
                </a:lnTo>
                <a:lnTo>
                  <a:pt x="220" y="123"/>
                </a:lnTo>
                <a:lnTo>
                  <a:pt x="255" y="122"/>
                </a:lnTo>
                <a:lnTo>
                  <a:pt x="281" y="120"/>
                </a:lnTo>
                <a:lnTo>
                  <a:pt x="284" y="119"/>
                </a:lnTo>
                <a:lnTo>
                  <a:pt x="287" y="119"/>
                </a:lnTo>
                <a:lnTo>
                  <a:pt x="293" y="119"/>
                </a:lnTo>
                <a:lnTo>
                  <a:pt x="297" y="119"/>
                </a:lnTo>
                <a:lnTo>
                  <a:pt x="300" y="122"/>
                </a:lnTo>
                <a:lnTo>
                  <a:pt x="303" y="126"/>
                </a:lnTo>
                <a:lnTo>
                  <a:pt x="304" y="132"/>
                </a:lnTo>
                <a:lnTo>
                  <a:pt x="306" y="136"/>
                </a:lnTo>
                <a:lnTo>
                  <a:pt x="293" y="149"/>
                </a:lnTo>
                <a:lnTo>
                  <a:pt x="272" y="171"/>
                </a:lnTo>
                <a:lnTo>
                  <a:pt x="252" y="206"/>
                </a:lnTo>
                <a:lnTo>
                  <a:pt x="242" y="228"/>
                </a:lnTo>
                <a:lnTo>
                  <a:pt x="240" y="231"/>
                </a:lnTo>
                <a:lnTo>
                  <a:pt x="239" y="234"/>
                </a:lnTo>
                <a:lnTo>
                  <a:pt x="230" y="244"/>
                </a:lnTo>
                <a:lnTo>
                  <a:pt x="200" y="281"/>
                </a:lnTo>
                <a:lnTo>
                  <a:pt x="177" y="310"/>
                </a:lnTo>
                <a:lnTo>
                  <a:pt x="177" y="312"/>
                </a:lnTo>
                <a:lnTo>
                  <a:pt x="156" y="310"/>
                </a:lnTo>
                <a:lnTo>
                  <a:pt x="123" y="306"/>
                </a:lnTo>
                <a:lnTo>
                  <a:pt x="65" y="296"/>
                </a:lnTo>
                <a:lnTo>
                  <a:pt x="13" y="273"/>
                </a:lnTo>
                <a:lnTo>
                  <a:pt x="0" y="262"/>
                </a:lnTo>
                <a:lnTo>
                  <a:pt x="0" y="262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97680" y="3524400"/>
            <a:ext cx="60480" cy="36360"/>
          </a:xfrm>
          <a:custGeom>
            <a:avLst/>
            <a:gdLst/>
            <a:ahLst/>
            <a:rect l="l" t="t" r="r" b="b"/>
            <a:pathLst>
              <a:path w="178" h="114">
                <a:moveTo>
                  <a:pt x="172" y="42"/>
                </a:moveTo>
                <a:lnTo>
                  <a:pt x="171" y="39"/>
                </a:lnTo>
                <a:lnTo>
                  <a:pt x="167" y="37"/>
                </a:lnTo>
                <a:lnTo>
                  <a:pt x="162" y="36"/>
                </a:lnTo>
                <a:lnTo>
                  <a:pt x="156" y="34"/>
                </a:lnTo>
                <a:lnTo>
                  <a:pt x="142" y="34"/>
                </a:lnTo>
                <a:lnTo>
                  <a:pt x="117" y="37"/>
                </a:lnTo>
                <a:lnTo>
                  <a:pt x="114" y="37"/>
                </a:lnTo>
                <a:lnTo>
                  <a:pt x="106" y="32"/>
                </a:lnTo>
                <a:lnTo>
                  <a:pt x="81" y="14"/>
                </a:lnTo>
                <a:lnTo>
                  <a:pt x="62" y="1"/>
                </a:lnTo>
                <a:lnTo>
                  <a:pt x="62" y="0"/>
                </a:lnTo>
                <a:lnTo>
                  <a:pt x="61" y="3"/>
                </a:lnTo>
                <a:lnTo>
                  <a:pt x="52" y="13"/>
                </a:lnTo>
                <a:lnTo>
                  <a:pt x="23" y="50"/>
                </a:lnTo>
                <a:lnTo>
                  <a:pt x="0" y="79"/>
                </a:lnTo>
                <a:lnTo>
                  <a:pt x="0" y="81"/>
                </a:lnTo>
                <a:lnTo>
                  <a:pt x="14" y="90"/>
                </a:lnTo>
                <a:lnTo>
                  <a:pt x="42" y="101"/>
                </a:lnTo>
                <a:lnTo>
                  <a:pt x="96" y="114"/>
                </a:lnTo>
                <a:lnTo>
                  <a:pt x="159" y="114"/>
                </a:lnTo>
                <a:lnTo>
                  <a:pt x="178" y="111"/>
                </a:lnTo>
                <a:lnTo>
                  <a:pt x="177" y="101"/>
                </a:lnTo>
                <a:lnTo>
                  <a:pt x="174" y="69"/>
                </a:lnTo>
                <a:lnTo>
                  <a:pt x="172" y="43"/>
                </a:lnTo>
                <a:lnTo>
                  <a:pt x="172" y="42"/>
                </a:lnTo>
                <a:lnTo>
                  <a:pt x="172" y="42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08560" y="1789200"/>
            <a:ext cx="1298880" cy="1771560"/>
          </a:xfrm>
          <a:custGeom>
            <a:avLst/>
            <a:gdLst/>
            <a:ahLst/>
            <a:rect l="l" t="t" r="r" b="b"/>
            <a:pathLst>
              <a:path w="3761" h="5418">
                <a:moveTo>
                  <a:pt x="2562" y="5336"/>
                </a:moveTo>
                <a:lnTo>
                  <a:pt x="2559" y="5338"/>
                </a:lnTo>
                <a:lnTo>
                  <a:pt x="2557" y="5343"/>
                </a:lnTo>
                <a:lnTo>
                  <a:pt x="2557" y="5346"/>
                </a:lnTo>
                <a:lnTo>
                  <a:pt x="2557" y="5350"/>
                </a:lnTo>
                <a:lnTo>
                  <a:pt x="2556" y="5353"/>
                </a:lnTo>
                <a:lnTo>
                  <a:pt x="2551" y="5357"/>
                </a:lnTo>
                <a:lnTo>
                  <a:pt x="2550" y="5359"/>
                </a:lnTo>
                <a:lnTo>
                  <a:pt x="2543" y="5366"/>
                </a:lnTo>
                <a:lnTo>
                  <a:pt x="2528" y="5376"/>
                </a:lnTo>
                <a:lnTo>
                  <a:pt x="2501" y="5394"/>
                </a:lnTo>
                <a:lnTo>
                  <a:pt x="2472" y="5412"/>
                </a:lnTo>
                <a:lnTo>
                  <a:pt x="2465" y="5418"/>
                </a:lnTo>
                <a:lnTo>
                  <a:pt x="2460" y="5411"/>
                </a:lnTo>
                <a:lnTo>
                  <a:pt x="2459" y="5405"/>
                </a:lnTo>
                <a:lnTo>
                  <a:pt x="2457" y="5391"/>
                </a:lnTo>
                <a:lnTo>
                  <a:pt x="2454" y="5360"/>
                </a:lnTo>
                <a:lnTo>
                  <a:pt x="2454" y="5344"/>
                </a:lnTo>
                <a:lnTo>
                  <a:pt x="2449" y="5343"/>
                </a:lnTo>
                <a:lnTo>
                  <a:pt x="2438" y="5343"/>
                </a:lnTo>
                <a:lnTo>
                  <a:pt x="2428" y="5343"/>
                </a:lnTo>
                <a:lnTo>
                  <a:pt x="2408" y="5343"/>
                </a:lnTo>
                <a:lnTo>
                  <a:pt x="2395" y="5340"/>
                </a:lnTo>
                <a:lnTo>
                  <a:pt x="2386" y="5334"/>
                </a:lnTo>
                <a:lnTo>
                  <a:pt x="2362" y="5317"/>
                </a:lnTo>
                <a:lnTo>
                  <a:pt x="2343" y="5305"/>
                </a:lnTo>
                <a:lnTo>
                  <a:pt x="2343" y="5304"/>
                </a:lnTo>
                <a:lnTo>
                  <a:pt x="2344" y="5295"/>
                </a:lnTo>
                <a:lnTo>
                  <a:pt x="2353" y="5278"/>
                </a:lnTo>
                <a:lnTo>
                  <a:pt x="2378" y="5243"/>
                </a:lnTo>
                <a:lnTo>
                  <a:pt x="2405" y="5214"/>
                </a:lnTo>
                <a:lnTo>
                  <a:pt x="2412" y="5208"/>
                </a:lnTo>
                <a:lnTo>
                  <a:pt x="2438" y="5207"/>
                </a:lnTo>
                <a:lnTo>
                  <a:pt x="2502" y="5194"/>
                </a:lnTo>
                <a:lnTo>
                  <a:pt x="2643" y="5165"/>
                </a:lnTo>
                <a:lnTo>
                  <a:pt x="2709" y="5162"/>
                </a:lnTo>
                <a:lnTo>
                  <a:pt x="2766" y="5179"/>
                </a:lnTo>
                <a:lnTo>
                  <a:pt x="2789" y="5195"/>
                </a:lnTo>
                <a:lnTo>
                  <a:pt x="2791" y="5199"/>
                </a:lnTo>
                <a:lnTo>
                  <a:pt x="2793" y="5205"/>
                </a:lnTo>
                <a:lnTo>
                  <a:pt x="2799" y="5218"/>
                </a:lnTo>
                <a:lnTo>
                  <a:pt x="2801" y="5236"/>
                </a:lnTo>
                <a:lnTo>
                  <a:pt x="2801" y="5241"/>
                </a:lnTo>
                <a:lnTo>
                  <a:pt x="2795" y="5243"/>
                </a:lnTo>
                <a:lnTo>
                  <a:pt x="2791" y="5244"/>
                </a:lnTo>
                <a:lnTo>
                  <a:pt x="2775" y="5250"/>
                </a:lnTo>
                <a:lnTo>
                  <a:pt x="2730" y="5263"/>
                </a:lnTo>
                <a:lnTo>
                  <a:pt x="2620" y="5302"/>
                </a:lnTo>
                <a:lnTo>
                  <a:pt x="2562" y="5336"/>
                </a:lnTo>
                <a:lnTo>
                  <a:pt x="2562" y="5336"/>
                </a:lnTo>
                <a:close/>
                <a:moveTo>
                  <a:pt x="3364" y="10"/>
                </a:moveTo>
                <a:lnTo>
                  <a:pt x="3366" y="12"/>
                </a:lnTo>
                <a:lnTo>
                  <a:pt x="3374" y="16"/>
                </a:lnTo>
                <a:lnTo>
                  <a:pt x="3380" y="19"/>
                </a:lnTo>
                <a:lnTo>
                  <a:pt x="3382" y="19"/>
                </a:lnTo>
                <a:lnTo>
                  <a:pt x="3386" y="19"/>
                </a:lnTo>
                <a:lnTo>
                  <a:pt x="3390" y="18"/>
                </a:lnTo>
                <a:lnTo>
                  <a:pt x="3401" y="13"/>
                </a:lnTo>
                <a:lnTo>
                  <a:pt x="3424" y="2"/>
                </a:lnTo>
                <a:lnTo>
                  <a:pt x="3456" y="0"/>
                </a:lnTo>
                <a:lnTo>
                  <a:pt x="3461" y="5"/>
                </a:lnTo>
                <a:lnTo>
                  <a:pt x="3469" y="9"/>
                </a:lnTo>
                <a:lnTo>
                  <a:pt x="3482" y="24"/>
                </a:lnTo>
                <a:lnTo>
                  <a:pt x="3495" y="41"/>
                </a:lnTo>
                <a:lnTo>
                  <a:pt x="3521" y="74"/>
                </a:lnTo>
                <a:lnTo>
                  <a:pt x="3535" y="86"/>
                </a:lnTo>
                <a:lnTo>
                  <a:pt x="3534" y="87"/>
                </a:lnTo>
                <a:lnTo>
                  <a:pt x="3531" y="89"/>
                </a:lnTo>
                <a:lnTo>
                  <a:pt x="3518" y="97"/>
                </a:lnTo>
                <a:lnTo>
                  <a:pt x="3508" y="103"/>
                </a:lnTo>
                <a:lnTo>
                  <a:pt x="3508" y="103"/>
                </a:lnTo>
                <a:lnTo>
                  <a:pt x="3514" y="110"/>
                </a:lnTo>
                <a:lnTo>
                  <a:pt x="3528" y="128"/>
                </a:lnTo>
                <a:lnTo>
                  <a:pt x="3554" y="167"/>
                </a:lnTo>
                <a:lnTo>
                  <a:pt x="3563" y="187"/>
                </a:lnTo>
                <a:lnTo>
                  <a:pt x="3566" y="210"/>
                </a:lnTo>
                <a:lnTo>
                  <a:pt x="3564" y="221"/>
                </a:lnTo>
                <a:lnTo>
                  <a:pt x="3560" y="225"/>
                </a:lnTo>
                <a:lnTo>
                  <a:pt x="3556" y="228"/>
                </a:lnTo>
                <a:lnTo>
                  <a:pt x="3544" y="237"/>
                </a:lnTo>
                <a:lnTo>
                  <a:pt x="3518" y="260"/>
                </a:lnTo>
                <a:lnTo>
                  <a:pt x="3508" y="292"/>
                </a:lnTo>
                <a:lnTo>
                  <a:pt x="3508" y="300"/>
                </a:lnTo>
                <a:lnTo>
                  <a:pt x="3506" y="312"/>
                </a:lnTo>
                <a:lnTo>
                  <a:pt x="3506" y="316"/>
                </a:lnTo>
                <a:lnTo>
                  <a:pt x="3503" y="319"/>
                </a:lnTo>
                <a:lnTo>
                  <a:pt x="3502" y="322"/>
                </a:lnTo>
                <a:lnTo>
                  <a:pt x="3499" y="323"/>
                </a:lnTo>
                <a:lnTo>
                  <a:pt x="3495" y="325"/>
                </a:lnTo>
                <a:lnTo>
                  <a:pt x="3486" y="328"/>
                </a:lnTo>
                <a:lnTo>
                  <a:pt x="3474" y="334"/>
                </a:lnTo>
                <a:lnTo>
                  <a:pt x="3474" y="334"/>
                </a:lnTo>
                <a:lnTo>
                  <a:pt x="3473" y="331"/>
                </a:lnTo>
                <a:lnTo>
                  <a:pt x="3473" y="328"/>
                </a:lnTo>
                <a:lnTo>
                  <a:pt x="3469" y="319"/>
                </a:lnTo>
                <a:lnTo>
                  <a:pt x="3460" y="300"/>
                </a:lnTo>
                <a:lnTo>
                  <a:pt x="3456" y="286"/>
                </a:lnTo>
                <a:lnTo>
                  <a:pt x="3448" y="287"/>
                </a:lnTo>
                <a:lnTo>
                  <a:pt x="3438" y="290"/>
                </a:lnTo>
                <a:lnTo>
                  <a:pt x="3432" y="295"/>
                </a:lnTo>
                <a:lnTo>
                  <a:pt x="3427" y="302"/>
                </a:lnTo>
                <a:lnTo>
                  <a:pt x="3424" y="309"/>
                </a:lnTo>
                <a:lnTo>
                  <a:pt x="3419" y="318"/>
                </a:lnTo>
                <a:lnTo>
                  <a:pt x="3418" y="322"/>
                </a:lnTo>
                <a:lnTo>
                  <a:pt x="3415" y="322"/>
                </a:lnTo>
                <a:lnTo>
                  <a:pt x="3409" y="321"/>
                </a:lnTo>
                <a:lnTo>
                  <a:pt x="3403" y="319"/>
                </a:lnTo>
                <a:lnTo>
                  <a:pt x="3390" y="315"/>
                </a:lnTo>
                <a:lnTo>
                  <a:pt x="3382" y="312"/>
                </a:lnTo>
                <a:lnTo>
                  <a:pt x="3380" y="308"/>
                </a:lnTo>
                <a:lnTo>
                  <a:pt x="3380" y="299"/>
                </a:lnTo>
                <a:lnTo>
                  <a:pt x="3376" y="283"/>
                </a:lnTo>
                <a:lnTo>
                  <a:pt x="3373" y="270"/>
                </a:lnTo>
                <a:lnTo>
                  <a:pt x="3373" y="267"/>
                </a:lnTo>
                <a:lnTo>
                  <a:pt x="3370" y="273"/>
                </a:lnTo>
                <a:lnTo>
                  <a:pt x="3366" y="283"/>
                </a:lnTo>
                <a:lnTo>
                  <a:pt x="3357" y="303"/>
                </a:lnTo>
                <a:lnTo>
                  <a:pt x="3347" y="321"/>
                </a:lnTo>
                <a:lnTo>
                  <a:pt x="3345" y="322"/>
                </a:lnTo>
                <a:lnTo>
                  <a:pt x="3343" y="322"/>
                </a:lnTo>
                <a:lnTo>
                  <a:pt x="3340" y="322"/>
                </a:lnTo>
                <a:lnTo>
                  <a:pt x="3335" y="319"/>
                </a:lnTo>
                <a:lnTo>
                  <a:pt x="3330" y="316"/>
                </a:lnTo>
                <a:lnTo>
                  <a:pt x="3325" y="313"/>
                </a:lnTo>
                <a:lnTo>
                  <a:pt x="3322" y="309"/>
                </a:lnTo>
                <a:lnTo>
                  <a:pt x="3321" y="303"/>
                </a:lnTo>
                <a:lnTo>
                  <a:pt x="3322" y="303"/>
                </a:lnTo>
                <a:lnTo>
                  <a:pt x="3319" y="293"/>
                </a:lnTo>
                <a:lnTo>
                  <a:pt x="3319" y="287"/>
                </a:lnTo>
                <a:lnTo>
                  <a:pt x="3319" y="286"/>
                </a:lnTo>
                <a:lnTo>
                  <a:pt x="3316" y="280"/>
                </a:lnTo>
                <a:lnTo>
                  <a:pt x="3315" y="277"/>
                </a:lnTo>
                <a:lnTo>
                  <a:pt x="3309" y="270"/>
                </a:lnTo>
                <a:lnTo>
                  <a:pt x="3298" y="257"/>
                </a:lnTo>
                <a:lnTo>
                  <a:pt x="3295" y="252"/>
                </a:lnTo>
                <a:lnTo>
                  <a:pt x="3293" y="247"/>
                </a:lnTo>
                <a:lnTo>
                  <a:pt x="3293" y="235"/>
                </a:lnTo>
                <a:lnTo>
                  <a:pt x="3296" y="218"/>
                </a:lnTo>
                <a:lnTo>
                  <a:pt x="3299" y="212"/>
                </a:lnTo>
                <a:lnTo>
                  <a:pt x="3306" y="206"/>
                </a:lnTo>
                <a:lnTo>
                  <a:pt x="3311" y="203"/>
                </a:lnTo>
                <a:lnTo>
                  <a:pt x="3322" y="208"/>
                </a:lnTo>
                <a:lnTo>
                  <a:pt x="3357" y="218"/>
                </a:lnTo>
                <a:lnTo>
                  <a:pt x="3383" y="226"/>
                </a:lnTo>
                <a:lnTo>
                  <a:pt x="3386" y="226"/>
                </a:lnTo>
                <a:lnTo>
                  <a:pt x="3379" y="219"/>
                </a:lnTo>
                <a:lnTo>
                  <a:pt x="3363" y="200"/>
                </a:lnTo>
                <a:lnTo>
                  <a:pt x="3337" y="157"/>
                </a:lnTo>
                <a:lnTo>
                  <a:pt x="3332" y="135"/>
                </a:lnTo>
                <a:lnTo>
                  <a:pt x="3334" y="125"/>
                </a:lnTo>
                <a:lnTo>
                  <a:pt x="3338" y="116"/>
                </a:lnTo>
                <a:lnTo>
                  <a:pt x="3344" y="108"/>
                </a:lnTo>
                <a:lnTo>
                  <a:pt x="3345" y="108"/>
                </a:lnTo>
                <a:lnTo>
                  <a:pt x="3343" y="103"/>
                </a:lnTo>
                <a:lnTo>
                  <a:pt x="3338" y="95"/>
                </a:lnTo>
                <a:lnTo>
                  <a:pt x="3332" y="74"/>
                </a:lnTo>
                <a:lnTo>
                  <a:pt x="3338" y="45"/>
                </a:lnTo>
                <a:lnTo>
                  <a:pt x="3343" y="37"/>
                </a:lnTo>
                <a:lnTo>
                  <a:pt x="3345" y="34"/>
                </a:lnTo>
                <a:lnTo>
                  <a:pt x="3356" y="21"/>
                </a:lnTo>
                <a:lnTo>
                  <a:pt x="3363" y="12"/>
                </a:lnTo>
                <a:lnTo>
                  <a:pt x="3364" y="10"/>
                </a:lnTo>
                <a:lnTo>
                  <a:pt x="3364" y="10"/>
                </a:lnTo>
                <a:close/>
                <a:moveTo>
                  <a:pt x="3276" y="2255"/>
                </a:moveTo>
                <a:lnTo>
                  <a:pt x="3276" y="2259"/>
                </a:lnTo>
                <a:lnTo>
                  <a:pt x="3280" y="2268"/>
                </a:lnTo>
                <a:lnTo>
                  <a:pt x="3286" y="2288"/>
                </a:lnTo>
                <a:lnTo>
                  <a:pt x="3285" y="2293"/>
                </a:lnTo>
                <a:lnTo>
                  <a:pt x="3283" y="2296"/>
                </a:lnTo>
                <a:lnTo>
                  <a:pt x="3282" y="2300"/>
                </a:lnTo>
                <a:lnTo>
                  <a:pt x="3277" y="2303"/>
                </a:lnTo>
                <a:lnTo>
                  <a:pt x="3272" y="2304"/>
                </a:lnTo>
                <a:lnTo>
                  <a:pt x="3272" y="2304"/>
                </a:lnTo>
                <a:lnTo>
                  <a:pt x="3261" y="2306"/>
                </a:lnTo>
                <a:lnTo>
                  <a:pt x="3243" y="2303"/>
                </a:lnTo>
                <a:lnTo>
                  <a:pt x="3225" y="2296"/>
                </a:lnTo>
                <a:lnTo>
                  <a:pt x="3209" y="2287"/>
                </a:lnTo>
                <a:lnTo>
                  <a:pt x="3174" y="2274"/>
                </a:lnTo>
                <a:lnTo>
                  <a:pt x="3166" y="2272"/>
                </a:lnTo>
                <a:lnTo>
                  <a:pt x="3170" y="2264"/>
                </a:lnTo>
                <a:lnTo>
                  <a:pt x="3173" y="2259"/>
                </a:lnTo>
                <a:lnTo>
                  <a:pt x="3174" y="2258"/>
                </a:lnTo>
                <a:lnTo>
                  <a:pt x="3186" y="2256"/>
                </a:lnTo>
                <a:lnTo>
                  <a:pt x="3205" y="2254"/>
                </a:lnTo>
                <a:lnTo>
                  <a:pt x="3235" y="2254"/>
                </a:lnTo>
                <a:lnTo>
                  <a:pt x="3266" y="2255"/>
                </a:lnTo>
                <a:lnTo>
                  <a:pt x="3276" y="2255"/>
                </a:lnTo>
                <a:lnTo>
                  <a:pt x="3276" y="2255"/>
                </a:lnTo>
                <a:close/>
                <a:moveTo>
                  <a:pt x="3273" y="2455"/>
                </a:moveTo>
                <a:lnTo>
                  <a:pt x="3287" y="2464"/>
                </a:lnTo>
                <a:lnTo>
                  <a:pt x="3306" y="2471"/>
                </a:lnTo>
                <a:lnTo>
                  <a:pt x="3311" y="2472"/>
                </a:lnTo>
                <a:lnTo>
                  <a:pt x="3316" y="2471"/>
                </a:lnTo>
                <a:lnTo>
                  <a:pt x="3319" y="2469"/>
                </a:lnTo>
                <a:lnTo>
                  <a:pt x="3324" y="2467"/>
                </a:lnTo>
                <a:lnTo>
                  <a:pt x="3335" y="2461"/>
                </a:lnTo>
                <a:lnTo>
                  <a:pt x="3356" y="2456"/>
                </a:lnTo>
                <a:lnTo>
                  <a:pt x="3373" y="2455"/>
                </a:lnTo>
                <a:lnTo>
                  <a:pt x="3372" y="2461"/>
                </a:lnTo>
                <a:lnTo>
                  <a:pt x="3370" y="2469"/>
                </a:lnTo>
                <a:lnTo>
                  <a:pt x="3366" y="2487"/>
                </a:lnTo>
                <a:lnTo>
                  <a:pt x="3363" y="2506"/>
                </a:lnTo>
                <a:lnTo>
                  <a:pt x="3364" y="2510"/>
                </a:lnTo>
                <a:lnTo>
                  <a:pt x="3356" y="2509"/>
                </a:lnTo>
                <a:lnTo>
                  <a:pt x="3334" y="2507"/>
                </a:lnTo>
                <a:lnTo>
                  <a:pt x="3286" y="2497"/>
                </a:lnTo>
                <a:lnTo>
                  <a:pt x="3277" y="2493"/>
                </a:lnTo>
                <a:lnTo>
                  <a:pt x="3272" y="2487"/>
                </a:lnTo>
                <a:lnTo>
                  <a:pt x="3267" y="2478"/>
                </a:lnTo>
                <a:lnTo>
                  <a:pt x="3267" y="2468"/>
                </a:lnTo>
                <a:lnTo>
                  <a:pt x="3272" y="2455"/>
                </a:lnTo>
                <a:lnTo>
                  <a:pt x="3273" y="2455"/>
                </a:lnTo>
                <a:lnTo>
                  <a:pt x="3273" y="2455"/>
                </a:lnTo>
                <a:close/>
                <a:moveTo>
                  <a:pt x="3374" y="2400"/>
                </a:moveTo>
                <a:lnTo>
                  <a:pt x="3367" y="2400"/>
                </a:lnTo>
                <a:lnTo>
                  <a:pt x="3361" y="2397"/>
                </a:lnTo>
                <a:lnTo>
                  <a:pt x="3357" y="2393"/>
                </a:lnTo>
                <a:lnTo>
                  <a:pt x="3353" y="2388"/>
                </a:lnTo>
                <a:lnTo>
                  <a:pt x="3350" y="2383"/>
                </a:lnTo>
                <a:lnTo>
                  <a:pt x="3345" y="2372"/>
                </a:lnTo>
                <a:lnTo>
                  <a:pt x="3345" y="2367"/>
                </a:lnTo>
                <a:lnTo>
                  <a:pt x="3347" y="2361"/>
                </a:lnTo>
                <a:lnTo>
                  <a:pt x="3350" y="2358"/>
                </a:lnTo>
                <a:lnTo>
                  <a:pt x="3354" y="2355"/>
                </a:lnTo>
                <a:lnTo>
                  <a:pt x="3360" y="2354"/>
                </a:lnTo>
                <a:lnTo>
                  <a:pt x="3361" y="2354"/>
                </a:lnTo>
                <a:lnTo>
                  <a:pt x="3363" y="2356"/>
                </a:lnTo>
                <a:lnTo>
                  <a:pt x="3369" y="2364"/>
                </a:lnTo>
                <a:lnTo>
                  <a:pt x="3377" y="2380"/>
                </a:lnTo>
                <a:lnTo>
                  <a:pt x="3379" y="2388"/>
                </a:lnTo>
                <a:lnTo>
                  <a:pt x="3377" y="2397"/>
                </a:lnTo>
                <a:lnTo>
                  <a:pt x="3374" y="2400"/>
                </a:lnTo>
                <a:lnTo>
                  <a:pt x="3374" y="2400"/>
                </a:lnTo>
                <a:close/>
                <a:moveTo>
                  <a:pt x="3419" y="2433"/>
                </a:moveTo>
                <a:lnTo>
                  <a:pt x="3424" y="2429"/>
                </a:lnTo>
                <a:lnTo>
                  <a:pt x="3431" y="2416"/>
                </a:lnTo>
                <a:lnTo>
                  <a:pt x="3438" y="2401"/>
                </a:lnTo>
                <a:lnTo>
                  <a:pt x="3451" y="2375"/>
                </a:lnTo>
                <a:lnTo>
                  <a:pt x="3464" y="2362"/>
                </a:lnTo>
                <a:lnTo>
                  <a:pt x="3466" y="2365"/>
                </a:lnTo>
                <a:lnTo>
                  <a:pt x="3473" y="2374"/>
                </a:lnTo>
                <a:lnTo>
                  <a:pt x="3492" y="2398"/>
                </a:lnTo>
                <a:lnTo>
                  <a:pt x="3503" y="2419"/>
                </a:lnTo>
                <a:lnTo>
                  <a:pt x="3505" y="2420"/>
                </a:lnTo>
                <a:lnTo>
                  <a:pt x="3505" y="2432"/>
                </a:lnTo>
                <a:lnTo>
                  <a:pt x="3505" y="2449"/>
                </a:lnTo>
                <a:lnTo>
                  <a:pt x="3505" y="2458"/>
                </a:lnTo>
                <a:lnTo>
                  <a:pt x="3503" y="2462"/>
                </a:lnTo>
                <a:lnTo>
                  <a:pt x="3500" y="2465"/>
                </a:lnTo>
                <a:lnTo>
                  <a:pt x="3496" y="2467"/>
                </a:lnTo>
                <a:lnTo>
                  <a:pt x="3492" y="2469"/>
                </a:lnTo>
                <a:lnTo>
                  <a:pt x="3474" y="2477"/>
                </a:lnTo>
                <a:lnTo>
                  <a:pt x="3464" y="2481"/>
                </a:lnTo>
                <a:lnTo>
                  <a:pt x="3463" y="2478"/>
                </a:lnTo>
                <a:lnTo>
                  <a:pt x="3460" y="2475"/>
                </a:lnTo>
                <a:lnTo>
                  <a:pt x="3457" y="2474"/>
                </a:lnTo>
                <a:lnTo>
                  <a:pt x="3453" y="2471"/>
                </a:lnTo>
                <a:lnTo>
                  <a:pt x="3443" y="2467"/>
                </a:lnTo>
                <a:lnTo>
                  <a:pt x="3432" y="2461"/>
                </a:lnTo>
                <a:lnTo>
                  <a:pt x="3424" y="2451"/>
                </a:lnTo>
                <a:lnTo>
                  <a:pt x="3419" y="2433"/>
                </a:lnTo>
                <a:lnTo>
                  <a:pt x="3419" y="2433"/>
                </a:lnTo>
                <a:lnTo>
                  <a:pt x="3419" y="2433"/>
                </a:lnTo>
                <a:close/>
                <a:moveTo>
                  <a:pt x="3754" y="2207"/>
                </a:moveTo>
                <a:lnTo>
                  <a:pt x="3747" y="2207"/>
                </a:lnTo>
                <a:lnTo>
                  <a:pt x="3738" y="2207"/>
                </a:lnTo>
                <a:lnTo>
                  <a:pt x="3725" y="2203"/>
                </a:lnTo>
                <a:lnTo>
                  <a:pt x="3712" y="2200"/>
                </a:lnTo>
                <a:lnTo>
                  <a:pt x="3708" y="2198"/>
                </a:lnTo>
                <a:lnTo>
                  <a:pt x="3705" y="2201"/>
                </a:lnTo>
                <a:lnTo>
                  <a:pt x="3700" y="2207"/>
                </a:lnTo>
                <a:lnTo>
                  <a:pt x="3692" y="2219"/>
                </a:lnTo>
                <a:lnTo>
                  <a:pt x="3686" y="2229"/>
                </a:lnTo>
                <a:lnTo>
                  <a:pt x="3684" y="2229"/>
                </a:lnTo>
                <a:lnTo>
                  <a:pt x="3683" y="2223"/>
                </a:lnTo>
                <a:lnTo>
                  <a:pt x="3682" y="2209"/>
                </a:lnTo>
                <a:lnTo>
                  <a:pt x="3684" y="2177"/>
                </a:lnTo>
                <a:lnTo>
                  <a:pt x="3690" y="2148"/>
                </a:lnTo>
                <a:lnTo>
                  <a:pt x="3692" y="2141"/>
                </a:lnTo>
                <a:lnTo>
                  <a:pt x="3692" y="2136"/>
                </a:lnTo>
                <a:lnTo>
                  <a:pt x="3692" y="2129"/>
                </a:lnTo>
                <a:lnTo>
                  <a:pt x="3693" y="2116"/>
                </a:lnTo>
                <a:lnTo>
                  <a:pt x="3693" y="2097"/>
                </a:lnTo>
                <a:lnTo>
                  <a:pt x="3695" y="2088"/>
                </a:lnTo>
                <a:lnTo>
                  <a:pt x="3703" y="2090"/>
                </a:lnTo>
                <a:lnTo>
                  <a:pt x="3715" y="2093"/>
                </a:lnTo>
                <a:lnTo>
                  <a:pt x="3718" y="2094"/>
                </a:lnTo>
                <a:lnTo>
                  <a:pt x="3719" y="2097"/>
                </a:lnTo>
                <a:lnTo>
                  <a:pt x="3721" y="2099"/>
                </a:lnTo>
                <a:lnTo>
                  <a:pt x="3725" y="2109"/>
                </a:lnTo>
                <a:lnTo>
                  <a:pt x="3760" y="2143"/>
                </a:lnTo>
                <a:lnTo>
                  <a:pt x="3761" y="2143"/>
                </a:lnTo>
                <a:lnTo>
                  <a:pt x="3761" y="2149"/>
                </a:lnTo>
                <a:lnTo>
                  <a:pt x="3761" y="2159"/>
                </a:lnTo>
                <a:lnTo>
                  <a:pt x="3761" y="2184"/>
                </a:lnTo>
                <a:lnTo>
                  <a:pt x="3760" y="2196"/>
                </a:lnTo>
                <a:lnTo>
                  <a:pt x="3755" y="2204"/>
                </a:lnTo>
                <a:lnTo>
                  <a:pt x="3754" y="2207"/>
                </a:lnTo>
                <a:lnTo>
                  <a:pt x="3754" y="2207"/>
                </a:lnTo>
                <a:close/>
                <a:moveTo>
                  <a:pt x="3522" y="2084"/>
                </a:moveTo>
                <a:lnTo>
                  <a:pt x="3529" y="2080"/>
                </a:lnTo>
                <a:lnTo>
                  <a:pt x="3545" y="2068"/>
                </a:lnTo>
                <a:lnTo>
                  <a:pt x="3571" y="2046"/>
                </a:lnTo>
                <a:lnTo>
                  <a:pt x="3598" y="2022"/>
                </a:lnTo>
                <a:lnTo>
                  <a:pt x="3605" y="2014"/>
                </a:lnTo>
                <a:lnTo>
                  <a:pt x="3608" y="2019"/>
                </a:lnTo>
                <a:lnTo>
                  <a:pt x="3613" y="2030"/>
                </a:lnTo>
                <a:lnTo>
                  <a:pt x="3618" y="2042"/>
                </a:lnTo>
                <a:lnTo>
                  <a:pt x="3622" y="2067"/>
                </a:lnTo>
                <a:lnTo>
                  <a:pt x="3622" y="2084"/>
                </a:lnTo>
                <a:lnTo>
                  <a:pt x="3628" y="2080"/>
                </a:lnTo>
                <a:lnTo>
                  <a:pt x="3645" y="2064"/>
                </a:lnTo>
                <a:lnTo>
                  <a:pt x="3660" y="2051"/>
                </a:lnTo>
                <a:lnTo>
                  <a:pt x="3661" y="2049"/>
                </a:lnTo>
                <a:lnTo>
                  <a:pt x="3661" y="2062"/>
                </a:lnTo>
                <a:lnTo>
                  <a:pt x="3661" y="2100"/>
                </a:lnTo>
                <a:lnTo>
                  <a:pt x="3656" y="2197"/>
                </a:lnTo>
                <a:lnTo>
                  <a:pt x="3642" y="2238"/>
                </a:lnTo>
                <a:lnTo>
                  <a:pt x="3632" y="2252"/>
                </a:lnTo>
                <a:lnTo>
                  <a:pt x="3619" y="2262"/>
                </a:lnTo>
                <a:lnTo>
                  <a:pt x="3605" y="2265"/>
                </a:lnTo>
                <a:lnTo>
                  <a:pt x="3605" y="2265"/>
                </a:lnTo>
                <a:lnTo>
                  <a:pt x="3605" y="2262"/>
                </a:lnTo>
                <a:lnTo>
                  <a:pt x="3605" y="2255"/>
                </a:lnTo>
                <a:lnTo>
                  <a:pt x="3609" y="2236"/>
                </a:lnTo>
                <a:lnTo>
                  <a:pt x="3612" y="2219"/>
                </a:lnTo>
                <a:lnTo>
                  <a:pt x="3613" y="2214"/>
                </a:lnTo>
                <a:lnTo>
                  <a:pt x="3590" y="2216"/>
                </a:lnTo>
                <a:lnTo>
                  <a:pt x="3554" y="2225"/>
                </a:lnTo>
                <a:lnTo>
                  <a:pt x="3528" y="2239"/>
                </a:lnTo>
                <a:lnTo>
                  <a:pt x="3506" y="2259"/>
                </a:lnTo>
                <a:lnTo>
                  <a:pt x="3458" y="2304"/>
                </a:lnTo>
                <a:lnTo>
                  <a:pt x="3443" y="2314"/>
                </a:lnTo>
                <a:lnTo>
                  <a:pt x="3443" y="2313"/>
                </a:lnTo>
                <a:lnTo>
                  <a:pt x="3444" y="2303"/>
                </a:lnTo>
                <a:lnTo>
                  <a:pt x="3450" y="2264"/>
                </a:lnTo>
                <a:lnTo>
                  <a:pt x="3454" y="2229"/>
                </a:lnTo>
                <a:lnTo>
                  <a:pt x="3456" y="2225"/>
                </a:lnTo>
                <a:lnTo>
                  <a:pt x="3447" y="2222"/>
                </a:lnTo>
                <a:lnTo>
                  <a:pt x="3437" y="2216"/>
                </a:lnTo>
                <a:lnTo>
                  <a:pt x="3428" y="2210"/>
                </a:lnTo>
                <a:lnTo>
                  <a:pt x="3427" y="2207"/>
                </a:lnTo>
                <a:lnTo>
                  <a:pt x="3422" y="2188"/>
                </a:lnTo>
                <a:lnTo>
                  <a:pt x="3414" y="2127"/>
                </a:lnTo>
                <a:lnTo>
                  <a:pt x="3408" y="2081"/>
                </a:lnTo>
                <a:lnTo>
                  <a:pt x="3408" y="2078"/>
                </a:lnTo>
                <a:lnTo>
                  <a:pt x="3406" y="2064"/>
                </a:lnTo>
                <a:lnTo>
                  <a:pt x="3406" y="2028"/>
                </a:lnTo>
                <a:lnTo>
                  <a:pt x="3414" y="1954"/>
                </a:lnTo>
                <a:lnTo>
                  <a:pt x="3418" y="1941"/>
                </a:lnTo>
                <a:lnTo>
                  <a:pt x="3424" y="1932"/>
                </a:lnTo>
                <a:lnTo>
                  <a:pt x="3427" y="1929"/>
                </a:lnTo>
                <a:lnTo>
                  <a:pt x="3429" y="1928"/>
                </a:lnTo>
                <a:lnTo>
                  <a:pt x="3434" y="1929"/>
                </a:lnTo>
                <a:lnTo>
                  <a:pt x="3437" y="1930"/>
                </a:lnTo>
                <a:lnTo>
                  <a:pt x="3441" y="1935"/>
                </a:lnTo>
                <a:lnTo>
                  <a:pt x="3445" y="1941"/>
                </a:lnTo>
                <a:lnTo>
                  <a:pt x="3447" y="1941"/>
                </a:lnTo>
                <a:lnTo>
                  <a:pt x="3451" y="1951"/>
                </a:lnTo>
                <a:lnTo>
                  <a:pt x="3458" y="1972"/>
                </a:lnTo>
                <a:lnTo>
                  <a:pt x="3463" y="1997"/>
                </a:lnTo>
                <a:lnTo>
                  <a:pt x="3466" y="2048"/>
                </a:lnTo>
                <a:lnTo>
                  <a:pt x="3467" y="2078"/>
                </a:lnTo>
                <a:lnTo>
                  <a:pt x="3474" y="2074"/>
                </a:lnTo>
                <a:lnTo>
                  <a:pt x="3489" y="2062"/>
                </a:lnTo>
                <a:lnTo>
                  <a:pt x="3498" y="2055"/>
                </a:lnTo>
                <a:lnTo>
                  <a:pt x="3502" y="2054"/>
                </a:lnTo>
                <a:lnTo>
                  <a:pt x="3505" y="2052"/>
                </a:lnTo>
                <a:lnTo>
                  <a:pt x="3508" y="2054"/>
                </a:lnTo>
                <a:lnTo>
                  <a:pt x="3509" y="2055"/>
                </a:lnTo>
                <a:lnTo>
                  <a:pt x="3511" y="2058"/>
                </a:lnTo>
                <a:lnTo>
                  <a:pt x="3514" y="2064"/>
                </a:lnTo>
                <a:lnTo>
                  <a:pt x="3518" y="2072"/>
                </a:lnTo>
                <a:lnTo>
                  <a:pt x="3521" y="2084"/>
                </a:lnTo>
                <a:lnTo>
                  <a:pt x="3522" y="2084"/>
                </a:lnTo>
                <a:lnTo>
                  <a:pt x="3522" y="2084"/>
                </a:lnTo>
                <a:close/>
                <a:moveTo>
                  <a:pt x="252" y="2461"/>
                </a:moveTo>
                <a:lnTo>
                  <a:pt x="241" y="2448"/>
                </a:lnTo>
                <a:lnTo>
                  <a:pt x="222" y="2425"/>
                </a:lnTo>
                <a:lnTo>
                  <a:pt x="186" y="2401"/>
                </a:lnTo>
                <a:lnTo>
                  <a:pt x="171" y="2398"/>
                </a:lnTo>
                <a:lnTo>
                  <a:pt x="157" y="2398"/>
                </a:lnTo>
                <a:lnTo>
                  <a:pt x="151" y="2400"/>
                </a:lnTo>
                <a:lnTo>
                  <a:pt x="151" y="2407"/>
                </a:lnTo>
                <a:lnTo>
                  <a:pt x="152" y="2419"/>
                </a:lnTo>
                <a:lnTo>
                  <a:pt x="157" y="2432"/>
                </a:lnTo>
                <a:lnTo>
                  <a:pt x="165" y="2448"/>
                </a:lnTo>
                <a:lnTo>
                  <a:pt x="199" y="2488"/>
                </a:lnTo>
                <a:lnTo>
                  <a:pt x="212" y="2501"/>
                </a:lnTo>
                <a:lnTo>
                  <a:pt x="216" y="2509"/>
                </a:lnTo>
                <a:lnTo>
                  <a:pt x="223" y="2520"/>
                </a:lnTo>
                <a:lnTo>
                  <a:pt x="226" y="2532"/>
                </a:lnTo>
                <a:lnTo>
                  <a:pt x="226" y="2542"/>
                </a:lnTo>
                <a:lnTo>
                  <a:pt x="229" y="2553"/>
                </a:lnTo>
                <a:lnTo>
                  <a:pt x="233" y="2564"/>
                </a:lnTo>
                <a:lnTo>
                  <a:pt x="239" y="2568"/>
                </a:lnTo>
                <a:lnTo>
                  <a:pt x="245" y="2574"/>
                </a:lnTo>
                <a:lnTo>
                  <a:pt x="251" y="2578"/>
                </a:lnTo>
                <a:lnTo>
                  <a:pt x="259" y="2580"/>
                </a:lnTo>
                <a:lnTo>
                  <a:pt x="275" y="2582"/>
                </a:lnTo>
                <a:lnTo>
                  <a:pt x="291" y="2582"/>
                </a:lnTo>
                <a:lnTo>
                  <a:pt x="314" y="2580"/>
                </a:lnTo>
                <a:lnTo>
                  <a:pt x="317" y="2580"/>
                </a:lnTo>
                <a:lnTo>
                  <a:pt x="316" y="2571"/>
                </a:lnTo>
                <a:lnTo>
                  <a:pt x="313" y="2555"/>
                </a:lnTo>
                <a:lnTo>
                  <a:pt x="306" y="2538"/>
                </a:lnTo>
                <a:lnTo>
                  <a:pt x="294" y="2520"/>
                </a:lnTo>
                <a:lnTo>
                  <a:pt x="261" y="2475"/>
                </a:lnTo>
                <a:lnTo>
                  <a:pt x="252" y="2461"/>
                </a:lnTo>
                <a:lnTo>
                  <a:pt x="252" y="2461"/>
                </a:lnTo>
                <a:close/>
                <a:moveTo>
                  <a:pt x="1701" y="2733"/>
                </a:moveTo>
                <a:lnTo>
                  <a:pt x="1702" y="2726"/>
                </a:lnTo>
                <a:lnTo>
                  <a:pt x="1708" y="2704"/>
                </a:lnTo>
                <a:lnTo>
                  <a:pt x="1713" y="2687"/>
                </a:lnTo>
                <a:lnTo>
                  <a:pt x="1714" y="2685"/>
                </a:lnTo>
                <a:lnTo>
                  <a:pt x="1721" y="2687"/>
                </a:lnTo>
                <a:lnTo>
                  <a:pt x="1744" y="2690"/>
                </a:lnTo>
                <a:lnTo>
                  <a:pt x="1762" y="2691"/>
                </a:lnTo>
                <a:lnTo>
                  <a:pt x="1763" y="2691"/>
                </a:lnTo>
                <a:lnTo>
                  <a:pt x="1762" y="2700"/>
                </a:lnTo>
                <a:lnTo>
                  <a:pt x="1762" y="2726"/>
                </a:lnTo>
                <a:lnTo>
                  <a:pt x="1762" y="2745"/>
                </a:lnTo>
                <a:lnTo>
                  <a:pt x="1762" y="2745"/>
                </a:lnTo>
                <a:lnTo>
                  <a:pt x="1766" y="2746"/>
                </a:lnTo>
                <a:lnTo>
                  <a:pt x="1775" y="2748"/>
                </a:lnTo>
                <a:lnTo>
                  <a:pt x="1797" y="2755"/>
                </a:lnTo>
                <a:lnTo>
                  <a:pt x="1855" y="2771"/>
                </a:lnTo>
                <a:lnTo>
                  <a:pt x="1911" y="2777"/>
                </a:lnTo>
                <a:lnTo>
                  <a:pt x="1913" y="2777"/>
                </a:lnTo>
                <a:lnTo>
                  <a:pt x="1927" y="2777"/>
                </a:lnTo>
                <a:lnTo>
                  <a:pt x="1976" y="2772"/>
                </a:lnTo>
                <a:lnTo>
                  <a:pt x="2014" y="2771"/>
                </a:lnTo>
                <a:lnTo>
                  <a:pt x="2017" y="2769"/>
                </a:lnTo>
                <a:lnTo>
                  <a:pt x="2024" y="2768"/>
                </a:lnTo>
                <a:lnTo>
                  <a:pt x="2033" y="2765"/>
                </a:lnTo>
                <a:lnTo>
                  <a:pt x="2039" y="2759"/>
                </a:lnTo>
                <a:lnTo>
                  <a:pt x="2046" y="2753"/>
                </a:lnTo>
                <a:lnTo>
                  <a:pt x="2056" y="2736"/>
                </a:lnTo>
                <a:lnTo>
                  <a:pt x="2066" y="2719"/>
                </a:lnTo>
                <a:lnTo>
                  <a:pt x="2089" y="2684"/>
                </a:lnTo>
                <a:lnTo>
                  <a:pt x="2091" y="2684"/>
                </a:lnTo>
                <a:lnTo>
                  <a:pt x="2099" y="2685"/>
                </a:lnTo>
                <a:lnTo>
                  <a:pt x="2118" y="2688"/>
                </a:lnTo>
                <a:lnTo>
                  <a:pt x="2134" y="2694"/>
                </a:lnTo>
                <a:lnTo>
                  <a:pt x="2173" y="2714"/>
                </a:lnTo>
                <a:lnTo>
                  <a:pt x="2217" y="2735"/>
                </a:lnTo>
                <a:lnTo>
                  <a:pt x="2226" y="2739"/>
                </a:lnTo>
                <a:lnTo>
                  <a:pt x="2252" y="2749"/>
                </a:lnTo>
                <a:lnTo>
                  <a:pt x="2272" y="2756"/>
                </a:lnTo>
                <a:lnTo>
                  <a:pt x="2273" y="2756"/>
                </a:lnTo>
                <a:lnTo>
                  <a:pt x="2276" y="2762"/>
                </a:lnTo>
                <a:lnTo>
                  <a:pt x="2278" y="2768"/>
                </a:lnTo>
                <a:lnTo>
                  <a:pt x="2276" y="2775"/>
                </a:lnTo>
                <a:lnTo>
                  <a:pt x="2275" y="2781"/>
                </a:lnTo>
                <a:lnTo>
                  <a:pt x="2270" y="2795"/>
                </a:lnTo>
                <a:lnTo>
                  <a:pt x="2266" y="2811"/>
                </a:lnTo>
                <a:lnTo>
                  <a:pt x="2265" y="2824"/>
                </a:lnTo>
                <a:lnTo>
                  <a:pt x="2269" y="2835"/>
                </a:lnTo>
                <a:lnTo>
                  <a:pt x="2270" y="2835"/>
                </a:lnTo>
                <a:lnTo>
                  <a:pt x="2275" y="2836"/>
                </a:lnTo>
                <a:lnTo>
                  <a:pt x="2285" y="2839"/>
                </a:lnTo>
                <a:lnTo>
                  <a:pt x="2295" y="2843"/>
                </a:lnTo>
                <a:lnTo>
                  <a:pt x="2317" y="2852"/>
                </a:lnTo>
                <a:lnTo>
                  <a:pt x="2331" y="2855"/>
                </a:lnTo>
                <a:lnTo>
                  <a:pt x="2343" y="2858"/>
                </a:lnTo>
                <a:lnTo>
                  <a:pt x="2369" y="2861"/>
                </a:lnTo>
                <a:lnTo>
                  <a:pt x="2421" y="2859"/>
                </a:lnTo>
                <a:lnTo>
                  <a:pt x="2470" y="2865"/>
                </a:lnTo>
                <a:lnTo>
                  <a:pt x="2482" y="2868"/>
                </a:lnTo>
                <a:lnTo>
                  <a:pt x="2483" y="2868"/>
                </a:lnTo>
                <a:lnTo>
                  <a:pt x="2495" y="2868"/>
                </a:lnTo>
                <a:lnTo>
                  <a:pt x="2530" y="2868"/>
                </a:lnTo>
                <a:lnTo>
                  <a:pt x="2549" y="2872"/>
                </a:lnTo>
                <a:lnTo>
                  <a:pt x="2556" y="2875"/>
                </a:lnTo>
                <a:lnTo>
                  <a:pt x="2562" y="2880"/>
                </a:lnTo>
                <a:lnTo>
                  <a:pt x="2565" y="2885"/>
                </a:lnTo>
                <a:lnTo>
                  <a:pt x="2566" y="2885"/>
                </a:lnTo>
                <a:lnTo>
                  <a:pt x="2563" y="2888"/>
                </a:lnTo>
                <a:lnTo>
                  <a:pt x="2562" y="2893"/>
                </a:lnTo>
                <a:lnTo>
                  <a:pt x="2560" y="2897"/>
                </a:lnTo>
                <a:lnTo>
                  <a:pt x="2560" y="2903"/>
                </a:lnTo>
                <a:lnTo>
                  <a:pt x="2560" y="2916"/>
                </a:lnTo>
                <a:lnTo>
                  <a:pt x="2559" y="2942"/>
                </a:lnTo>
                <a:lnTo>
                  <a:pt x="2554" y="2949"/>
                </a:lnTo>
                <a:lnTo>
                  <a:pt x="2549" y="2951"/>
                </a:lnTo>
                <a:lnTo>
                  <a:pt x="2543" y="2951"/>
                </a:lnTo>
                <a:lnTo>
                  <a:pt x="2534" y="2948"/>
                </a:lnTo>
                <a:lnTo>
                  <a:pt x="2515" y="2942"/>
                </a:lnTo>
                <a:lnTo>
                  <a:pt x="2485" y="2926"/>
                </a:lnTo>
                <a:lnTo>
                  <a:pt x="2483" y="2924"/>
                </a:lnTo>
                <a:lnTo>
                  <a:pt x="2483" y="2937"/>
                </a:lnTo>
                <a:lnTo>
                  <a:pt x="2486" y="2964"/>
                </a:lnTo>
                <a:lnTo>
                  <a:pt x="2495" y="3024"/>
                </a:lnTo>
                <a:lnTo>
                  <a:pt x="2495" y="3052"/>
                </a:lnTo>
                <a:lnTo>
                  <a:pt x="2491" y="3072"/>
                </a:lnTo>
                <a:lnTo>
                  <a:pt x="2486" y="3079"/>
                </a:lnTo>
                <a:lnTo>
                  <a:pt x="2480" y="3084"/>
                </a:lnTo>
                <a:lnTo>
                  <a:pt x="2476" y="3090"/>
                </a:lnTo>
                <a:lnTo>
                  <a:pt x="2472" y="3100"/>
                </a:lnTo>
                <a:lnTo>
                  <a:pt x="2467" y="3126"/>
                </a:lnTo>
                <a:lnTo>
                  <a:pt x="2465" y="3152"/>
                </a:lnTo>
                <a:lnTo>
                  <a:pt x="2466" y="3174"/>
                </a:lnTo>
                <a:lnTo>
                  <a:pt x="2469" y="3181"/>
                </a:lnTo>
                <a:lnTo>
                  <a:pt x="2472" y="3184"/>
                </a:lnTo>
                <a:lnTo>
                  <a:pt x="2475" y="3181"/>
                </a:lnTo>
                <a:lnTo>
                  <a:pt x="2476" y="3181"/>
                </a:lnTo>
                <a:lnTo>
                  <a:pt x="2485" y="3166"/>
                </a:lnTo>
                <a:lnTo>
                  <a:pt x="2515" y="3123"/>
                </a:lnTo>
                <a:lnTo>
                  <a:pt x="2538" y="3090"/>
                </a:lnTo>
                <a:lnTo>
                  <a:pt x="2540" y="3087"/>
                </a:lnTo>
                <a:lnTo>
                  <a:pt x="2541" y="3087"/>
                </a:lnTo>
                <a:lnTo>
                  <a:pt x="2554" y="3085"/>
                </a:lnTo>
                <a:lnTo>
                  <a:pt x="2599" y="3078"/>
                </a:lnTo>
                <a:lnTo>
                  <a:pt x="2634" y="3074"/>
                </a:lnTo>
                <a:lnTo>
                  <a:pt x="2637" y="3072"/>
                </a:lnTo>
                <a:lnTo>
                  <a:pt x="2638" y="3066"/>
                </a:lnTo>
                <a:lnTo>
                  <a:pt x="2646" y="3049"/>
                </a:lnTo>
                <a:lnTo>
                  <a:pt x="2650" y="3035"/>
                </a:lnTo>
                <a:lnTo>
                  <a:pt x="2651" y="3033"/>
                </a:lnTo>
                <a:lnTo>
                  <a:pt x="2651" y="3032"/>
                </a:lnTo>
                <a:lnTo>
                  <a:pt x="2649" y="3029"/>
                </a:lnTo>
                <a:lnTo>
                  <a:pt x="2643" y="3027"/>
                </a:lnTo>
                <a:lnTo>
                  <a:pt x="2634" y="3027"/>
                </a:lnTo>
                <a:lnTo>
                  <a:pt x="2614" y="3026"/>
                </a:lnTo>
                <a:lnTo>
                  <a:pt x="2583" y="3026"/>
                </a:lnTo>
                <a:lnTo>
                  <a:pt x="2588" y="3026"/>
                </a:lnTo>
                <a:lnTo>
                  <a:pt x="2596" y="3019"/>
                </a:lnTo>
                <a:lnTo>
                  <a:pt x="2621" y="2998"/>
                </a:lnTo>
                <a:lnTo>
                  <a:pt x="2680" y="2953"/>
                </a:lnTo>
                <a:lnTo>
                  <a:pt x="2709" y="2937"/>
                </a:lnTo>
                <a:lnTo>
                  <a:pt x="2734" y="2929"/>
                </a:lnTo>
                <a:lnTo>
                  <a:pt x="2744" y="2929"/>
                </a:lnTo>
                <a:lnTo>
                  <a:pt x="2746" y="2926"/>
                </a:lnTo>
                <a:lnTo>
                  <a:pt x="2757" y="2907"/>
                </a:lnTo>
                <a:lnTo>
                  <a:pt x="2799" y="2838"/>
                </a:lnTo>
                <a:lnTo>
                  <a:pt x="2830" y="2785"/>
                </a:lnTo>
                <a:lnTo>
                  <a:pt x="2833" y="2781"/>
                </a:lnTo>
                <a:lnTo>
                  <a:pt x="2833" y="2778"/>
                </a:lnTo>
                <a:lnTo>
                  <a:pt x="2835" y="2775"/>
                </a:lnTo>
                <a:lnTo>
                  <a:pt x="2840" y="2772"/>
                </a:lnTo>
                <a:lnTo>
                  <a:pt x="2844" y="2771"/>
                </a:lnTo>
                <a:lnTo>
                  <a:pt x="2857" y="2769"/>
                </a:lnTo>
                <a:lnTo>
                  <a:pt x="2873" y="2768"/>
                </a:lnTo>
                <a:lnTo>
                  <a:pt x="2909" y="2767"/>
                </a:lnTo>
                <a:lnTo>
                  <a:pt x="2944" y="2764"/>
                </a:lnTo>
                <a:lnTo>
                  <a:pt x="2960" y="2759"/>
                </a:lnTo>
                <a:lnTo>
                  <a:pt x="2973" y="2752"/>
                </a:lnTo>
                <a:lnTo>
                  <a:pt x="2982" y="2740"/>
                </a:lnTo>
                <a:lnTo>
                  <a:pt x="2986" y="2726"/>
                </a:lnTo>
                <a:lnTo>
                  <a:pt x="2988" y="2726"/>
                </a:lnTo>
                <a:lnTo>
                  <a:pt x="2990" y="2726"/>
                </a:lnTo>
                <a:lnTo>
                  <a:pt x="2993" y="2724"/>
                </a:lnTo>
                <a:lnTo>
                  <a:pt x="2996" y="2722"/>
                </a:lnTo>
                <a:lnTo>
                  <a:pt x="2999" y="2717"/>
                </a:lnTo>
                <a:lnTo>
                  <a:pt x="3004" y="2706"/>
                </a:lnTo>
                <a:lnTo>
                  <a:pt x="3008" y="2690"/>
                </a:lnTo>
                <a:lnTo>
                  <a:pt x="3015" y="2652"/>
                </a:lnTo>
                <a:lnTo>
                  <a:pt x="3027" y="2572"/>
                </a:lnTo>
                <a:lnTo>
                  <a:pt x="3033" y="2543"/>
                </a:lnTo>
                <a:lnTo>
                  <a:pt x="3037" y="2543"/>
                </a:lnTo>
                <a:lnTo>
                  <a:pt x="3050" y="2542"/>
                </a:lnTo>
                <a:lnTo>
                  <a:pt x="3080" y="2538"/>
                </a:lnTo>
                <a:lnTo>
                  <a:pt x="3108" y="2535"/>
                </a:lnTo>
                <a:lnTo>
                  <a:pt x="3114" y="2533"/>
                </a:lnTo>
                <a:lnTo>
                  <a:pt x="3114" y="2536"/>
                </a:lnTo>
                <a:lnTo>
                  <a:pt x="3115" y="2546"/>
                </a:lnTo>
                <a:lnTo>
                  <a:pt x="3119" y="2585"/>
                </a:lnTo>
                <a:lnTo>
                  <a:pt x="3124" y="2614"/>
                </a:lnTo>
                <a:lnTo>
                  <a:pt x="3125" y="2616"/>
                </a:lnTo>
                <a:lnTo>
                  <a:pt x="3130" y="2624"/>
                </a:lnTo>
                <a:lnTo>
                  <a:pt x="3141" y="2640"/>
                </a:lnTo>
                <a:lnTo>
                  <a:pt x="3169" y="2665"/>
                </a:lnTo>
                <a:lnTo>
                  <a:pt x="3202" y="2687"/>
                </a:lnTo>
                <a:lnTo>
                  <a:pt x="3212" y="2693"/>
                </a:lnTo>
                <a:lnTo>
                  <a:pt x="3230" y="2671"/>
                </a:lnTo>
                <a:lnTo>
                  <a:pt x="3259" y="2638"/>
                </a:lnTo>
                <a:lnTo>
                  <a:pt x="3293" y="2601"/>
                </a:lnTo>
                <a:lnTo>
                  <a:pt x="3319" y="2581"/>
                </a:lnTo>
                <a:lnTo>
                  <a:pt x="3328" y="2575"/>
                </a:lnTo>
                <a:lnTo>
                  <a:pt x="3316" y="2601"/>
                </a:lnTo>
                <a:lnTo>
                  <a:pt x="3298" y="2640"/>
                </a:lnTo>
                <a:lnTo>
                  <a:pt x="3283" y="2671"/>
                </a:lnTo>
                <a:lnTo>
                  <a:pt x="3276" y="2694"/>
                </a:lnTo>
                <a:lnTo>
                  <a:pt x="3276" y="2706"/>
                </a:lnTo>
                <a:lnTo>
                  <a:pt x="3279" y="2716"/>
                </a:lnTo>
                <a:lnTo>
                  <a:pt x="3285" y="2726"/>
                </a:lnTo>
                <a:lnTo>
                  <a:pt x="3295" y="2738"/>
                </a:lnTo>
                <a:lnTo>
                  <a:pt x="3308" y="2749"/>
                </a:lnTo>
                <a:lnTo>
                  <a:pt x="3309" y="2749"/>
                </a:lnTo>
                <a:lnTo>
                  <a:pt x="3325" y="2740"/>
                </a:lnTo>
                <a:lnTo>
                  <a:pt x="3348" y="2722"/>
                </a:lnTo>
                <a:lnTo>
                  <a:pt x="3360" y="2701"/>
                </a:lnTo>
                <a:lnTo>
                  <a:pt x="3364" y="2678"/>
                </a:lnTo>
                <a:lnTo>
                  <a:pt x="3366" y="2656"/>
                </a:lnTo>
                <a:lnTo>
                  <a:pt x="3369" y="2633"/>
                </a:lnTo>
                <a:lnTo>
                  <a:pt x="3373" y="2620"/>
                </a:lnTo>
                <a:lnTo>
                  <a:pt x="3379" y="2622"/>
                </a:lnTo>
                <a:lnTo>
                  <a:pt x="3382" y="2620"/>
                </a:lnTo>
                <a:lnTo>
                  <a:pt x="3386" y="2617"/>
                </a:lnTo>
                <a:lnTo>
                  <a:pt x="3396" y="2609"/>
                </a:lnTo>
                <a:lnTo>
                  <a:pt x="3421" y="2587"/>
                </a:lnTo>
                <a:lnTo>
                  <a:pt x="3467" y="2530"/>
                </a:lnTo>
                <a:lnTo>
                  <a:pt x="3486" y="2501"/>
                </a:lnTo>
                <a:lnTo>
                  <a:pt x="3485" y="2501"/>
                </a:lnTo>
                <a:lnTo>
                  <a:pt x="3480" y="2501"/>
                </a:lnTo>
                <a:lnTo>
                  <a:pt x="3464" y="2500"/>
                </a:lnTo>
                <a:lnTo>
                  <a:pt x="3451" y="2498"/>
                </a:lnTo>
                <a:lnTo>
                  <a:pt x="3451" y="2497"/>
                </a:lnTo>
                <a:lnTo>
                  <a:pt x="3448" y="2498"/>
                </a:lnTo>
                <a:lnTo>
                  <a:pt x="3437" y="2504"/>
                </a:lnTo>
                <a:lnTo>
                  <a:pt x="3405" y="2517"/>
                </a:lnTo>
                <a:lnTo>
                  <a:pt x="3377" y="2529"/>
                </a:lnTo>
                <a:lnTo>
                  <a:pt x="3376" y="2530"/>
                </a:lnTo>
                <a:lnTo>
                  <a:pt x="3356" y="2538"/>
                </a:lnTo>
                <a:lnTo>
                  <a:pt x="3318" y="2540"/>
                </a:lnTo>
                <a:lnTo>
                  <a:pt x="3283" y="2530"/>
                </a:lnTo>
                <a:lnTo>
                  <a:pt x="3253" y="2511"/>
                </a:lnTo>
                <a:lnTo>
                  <a:pt x="3230" y="2485"/>
                </a:lnTo>
                <a:lnTo>
                  <a:pt x="3214" y="2455"/>
                </a:lnTo>
                <a:lnTo>
                  <a:pt x="3211" y="2438"/>
                </a:lnTo>
                <a:lnTo>
                  <a:pt x="3206" y="2439"/>
                </a:lnTo>
                <a:lnTo>
                  <a:pt x="3199" y="2440"/>
                </a:lnTo>
                <a:lnTo>
                  <a:pt x="3180" y="2446"/>
                </a:lnTo>
                <a:lnTo>
                  <a:pt x="3134" y="2464"/>
                </a:lnTo>
                <a:lnTo>
                  <a:pt x="3105" y="2471"/>
                </a:lnTo>
                <a:lnTo>
                  <a:pt x="3105" y="2462"/>
                </a:lnTo>
                <a:lnTo>
                  <a:pt x="3109" y="2454"/>
                </a:lnTo>
                <a:lnTo>
                  <a:pt x="3118" y="2445"/>
                </a:lnTo>
                <a:lnTo>
                  <a:pt x="3130" y="2435"/>
                </a:lnTo>
                <a:lnTo>
                  <a:pt x="3157" y="2417"/>
                </a:lnTo>
                <a:lnTo>
                  <a:pt x="3208" y="2377"/>
                </a:lnTo>
                <a:lnTo>
                  <a:pt x="3218" y="2354"/>
                </a:lnTo>
                <a:lnTo>
                  <a:pt x="3188" y="2342"/>
                </a:lnTo>
                <a:lnTo>
                  <a:pt x="3140" y="2336"/>
                </a:lnTo>
                <a:lnTo>
                  <a:pt x="3102" y="2351"/>
                </a:lnTo>
                <a:lnTo>
                  <a:pt x="3073" y="2378"/>
                </a:lnTo>
                <a:lnTo>
                  <a:pt x="3046" y="2416"/>
                </a:lnTo>
                <a:lnTo>
                  <a:pt x="3015" y="2455"/>
                </a:lnTo>
                <a:lnTo>
                  <a:pt x="2999" y="2474"/>
                </a:lnTo>
                <a:lnTo>
                  <a:pt x="2995" y="2462"/>
                </a:lnTo>
                <a:lnTo>
                  <a:pt x="2993" y="2449"/>
                </a:lnTo>
                <a:lnTo>
                  <a:pt x="2996" y="2435"/>
                </a:lnTo>
                <a:lnTo>
                  <a:pt x="3001" y="2422"/>
                </a:lnTo>
                <a:lnTo>
                  <a:pt x="3012" y="2393"/>
                </a:lnTo>
                <a:lnTo>
                  <a:pt x="3040" y="2336"/>
                </a:lnTo>
                <a:lnTo>
                  <a:pt x="3046" y="2307"/>
                </a:lnTo>
                <a:lnTo>
                  <a:pt x="3057" y="2284"/>
                </a:lnTo>
                <a:lnTo>
                  <a:pt x="3076" y="2264"/>
                </a:lnTo>
                <a:lnTo>
                  <a:pt x="3099" y="2249"/>
                </a:lnTo>
                <a:lnTo>
                  <a:pt x="3127" y="2236"/>
                </a:lnTo>
                <a:lnTo>
                  <a:pt x="3186" y="2217"/>
                </a:lnTo>
                <a:lnTo>
                  <a:pt x="3245" y="2200"/>
                </a:lnTo>
                <a:lnTo>
                  <a:pt x="3296" y="2174"/>
                </a:lnTo>
                <a:lnTo>
                  <a:pt x="3315" y="2156"/>
                </a:lnTo>
                <a:lnTo>
                  <a:pt x="3327" y="2133"/>
                </a:lnTo>
                <a:lnTo>
                  <a:pt x="3328" y="2133"/>
                </a:lnTo>
                <a:lnTo>
                  <a:pt x="3331" y="2123"/>
                </a:lnTo>
                <a:lnTo>
                  <a:pt x="3335" y="2100"/>
                </a:lnTo>
                <a:lnTo>
                  <a:pt x="3340" y="2055"/>
                </a:lnTo>
                <a:lnTo>
                  <a:pt x="3356" y="2014"/>
                </a:lnTo>
                <a:lnTo>
                  <a:pt x="3364" y="2004"/>
                </a:lnTo>
                <a:lnTo>
                  <a:pt x="3374" y="1990"/>
                </a:lnTo>
                <a:lnTo>
                  <a:pt x="3389" y="1955"/>
                </a:lnTo>
                <a:lnTo>
                  <a:pt x="3393" y="1914"/>
                </a:lnTo>
                <a:lnTo>
                  <a:pt x="3389" y="1877"/>
                </a:lnTo>
                <a:lnTo>
                  <a:pt x="3373" y="1842"/>
                </a:lnTo>
                <a:lnTo>
                  <a:pt x="3345" y="1819"/>
                </a:lnTo>
                <a:lnTo>
                  <a:pt x="3328" y="1812"/>
                </a:lnTo>
                <a:lnTo>
                  <a:pt x="3327" y="1813"/>
                </a:lnTo>
                <a:lnTo>
                  <a:pt x="3321" y="1816"/>
                </a:lnTo>
                <a:lnTo>
                  <a:pt x="3301" y="1825"/>
                </a:lnTo>
                <a:lnTo>
                  <a:pt x="3286" y="1830"/>
                </a:lnTo>
                <a:lnTo>
                  <a:pt x="3286" y="1830"/>
                </a:lnTo>
                <a:lnTo>
                  <a:pt x="3280" y="1828"/>
                </a:lnTo>
                <a:lnTo>
                  <a:pt x="3264" y="1819"/>
                </a:lnTo>
                <a:lnTo>
                  <a:pt x="3253" y="1812"/>
                </a:lnTo>
                <a:lnTo>
                  <a:pt x="3253" y="1810"/>
                </a:lnTo>
                <a:lnTo>
                  <a:pt x="3243" y="1817"/>
                </a:lnTo>
                <a:lnTo>
                  <a:pt x="3234" y="1829"/>
                </a:lnTo>
                <a:lnTo>
                  <a:pt x="3227" y="1845"/>
                </a:lnTo>
                <a:lnTo>
                  <a:pt x="3215" y="1881"/>
                </a:lnTo>
                <a:lnTo>
                  <a:pt x="3198" y="1954"/>
                </a:lnTo>
                <a:lnTo>
                  <a:pt x="3186" y="1971"/>
                </a:lnTo>
                <a:lnTo>
                  <a:pt x="3186" y="1967"/>
                </a:lnTo>
                <a:lnTo>
                  <a:pt x="3186" y="1959"/>
                </a:lnTo>
                <a:lnTo>
                  <a:pt x="3185" y="1939"/>
                </a:lnTo>
                <a:lnTo>
                  <a:pt x="3180" y="1887"/>
                </a:lnTo>
                <a:lnTo>
                  <a:pt x="3186" y="1848"/>
                </a:lnTo>
                <a:lnTo>
                  <a:pt x="3189" y="1842"/>
                </a:lnTo>
                <a:lnTo>
                  <a:pt x="3198" y="1828"/>
                </a:lnTo>
                <a:lnTo>
                  <a:pt x="3217" y="1796"/>
                </a:lnTo>
                <a:lnTo>
                  <a:pt x="3222" y="1783"/>
                </a:lnTo>
                <a:lnTo>
                  <a:pt x="3222" y="1777"/>
                </a:lnTo>
                <a:lnTo>
                  <a:pt x="3222" y="1772"/>
                </a:lnTo>
                <a:lnTo>
                  <a:pt x="3222" y="1770"/>
                </a:lnTo>
                <a:lnTo>
                  <a:pt x="3212" y="1774"/>
                </a:lnTo>
                <a:lnTo>
                  <a:pt x="3188" y="1781"/>
                </a:lnTo>
                <a:lnTo>
                  <a:pt x="3161" y="1784"/>
                </a:lnTo>
                <a:lnTo>
                  <a:pt x="3109" y="1788"/>
                </a:lnTo>
                <a:lnTo>
                  <a:pt x="3082" y="1793"/>
                </a:lnTo>
                <a:lnTo>
                  <a:pt x="3075" y="1790"/>
                </a:lnTo>
                <a:lnTo>
                  <a:pt x="3059" y="1781"/>
                </a:lnTo>
                <a:lnTo>
                  <a:pt x="3030" y="1768"/>
                </a:lnTo>
                <a:lnTo>
                  <a:pt x="3004" y="1752"/>
                </a:lnTo>
                <a:lnTo>
                  <a:pt x="2999" y="1748"/>
                </a:lnTo>
                <a:lnTo>
                  <a:pt x="3002" y="1745"/>
                </a:lnTo>
                <a:lnTo>
                  <a:pt x="3011" y="1735"/>
                </a:lnTo>
                <a:lnTo>
                  <a:pt x="3017" y="1722"/>
                </a:lnTo>
                <a:lnTo>
                  <a:pt x="3018" y="1719"/>
                </a:lnTo>
                <a:lnTo>
                  <a:pt x="3001" y="1704"/>
                </a:lnTo>
                <a:lnTo>
                  <a:pt x="2959" y="1673"/>
                </a:lnTo>
                <a:lnTo>
                  <a:pt x="2859" y="1612"/>
                </a:lnTo>
                <a:lnTo>
                  <a:pt x="2763" y="1545"/>
                </a:lnTo>
                <a:lnTo>
                  <a:pt x="2744" y="1526"/>
                </a:lnTo>
                <a:lnTo>
                  <a:pt x="2738" y="1535"/>
                </a:lnTo>
                <a:lnTo>
                  <a:pt x="2734" y="1544"/>
                </a:lnTo>
                <a:lnTo>
                  <a:pt x="2733" y="1555"/>
                </a:lnTo>
                <a:lnTo>
                  <a:pt x="2731" y="1567"/>
                </a:lnTo>
                <a:lnTo>
                  <a:pt x="2734" y="1591"/>
                </a:lnTo>
                <a:lnTo>
                  <a:pt x="2747" y="1639"/>
                </a:lnTo>
                <a:lnTo>
                  <a:pt x="2753" y="1655"/>
                </a:lnTo>
                <a:lnTo>
                  <a:pt x="2750" y="1661"/>
                </a:lnTo>
                <a:lnTo>
                  <a:pt x="2744" y="1674"/>
                </a:lnTo>
                <a:lnTo>
                  <a:pt x="2728" y="1704"/>
                </a:lnTo>
                <a:lnTo>
                  <a:pt x="2712" y="1733"/>
                </a:lnTo>
                <a:lnTo>
                  <a:pt x="2708" y="1738"/>
                </a:lnTo>
                <a:lnTo>
                  <a:pt x="2701" y="1733"/>
                </a:lnTo>
                <a:lnTo>
                  <a:pt x="2688" y="1726"/>
                </a:lnTo>
                <a:lnTo>
                  <a:pt x="2664" y="1716"/>
                </a:lnTo>
                <a:lnTo>
                  <a:pt x="2640" y="1712"/>
                </a:lnTo>
                <a:lnTo>
                  <a:pt x="2634" y="1710"/>
                </a:lnTo>
                <a:lnTo>
                  <a:pt x="2624" y="1693"/>
                </a:lnTo>
                <a:lnTo>
                  <a:pt x="2607" y="1657"/>
                </a:lnTo>
                <a:lnTo>
                  <a:pt x="2565" y="1599"/>
                </a:lnTo>
                <a:lnTo>
                  <a:pt x="2536" y="1580"/>
                </a:lnTo>
                <a:lnTo>
                  <a:pt x="2499" y="1573"/>
                </a:lnTo>
                <a:lnTo>
                  <a:pt x="2479" y="1573"/>
                </a:lnTo>
                <a:lnTo>
                  <a:pt x="2467" y="1573"/>
                </a:lnTo>
                <a:lnTo>
                  <a:pt x="2457" y="1568"/>
                </a:lnTo>
                <a:lnTo>
                  <a:pt x="2449" y="1564"/>
                </a:lnTo>
                <a:lnTo>
                  <a:pt x="2431" y="1551"/>
                </a:lnTo>
                <a:lnTo>
                  <a:pt x="2395" y="1526"/>
                </a:lnTo>
                <a:lnTo>
                  <a:pt x="2360" y="1526"/>
                </a:lnTo>
                <a:lnTo>
                  <a:pt x="2357" y="1528"/>
                </a:lnTo>
                <a:lnTo>
                  <a:pt x="2354" y="1529"/>
                </a:lnTo>
                <a:lnTo>
                  <a:pt x="2352" y="1533"/>
                </a:lnTo>
                <a:lnTo>
                  <a:pt x="2346" y="1541"/>
                </a:lnTo>
                <a:lnTo>
                  <a:pt x="2336" y="1562"/>
                </a:lnTo>
                <a:lnTo>
                  <a:pt x="2334" y="1573"/>
                </a:lnTo>
                <a:lnTo>
                  <a:pt x="2325" y="1571"/>
                </a:lnTo>
                <a:lnTo>
                  <a:pt x="2307" y="1568"/>
                </a:lnTo>
                <a:lnTo>
                  <a:pt x="2265" y="1568"/>
                </a:lnTo>
                <a:lnTo>
                  <a:pt x="2244" y="1573"/>
                </a:lnTo>
                <a:lnTo>
                  <a:pt x="2228" y="1578"/>
                </a:lnTo>
                <a:lnTo>
                  <a:pt x="2224" y="1583"/>
                </a:lnTo>
                <a:lnTo>
                  <a:pt x="2224" y="1591"/>
                </a:lnTo>
                <a:lnTo>
                  <a:pt x="2226" y="1600"/>
                </a:lnTo>
                <a:lnTo>
                  <a:pt x="2233" y="1622"/>
                </a:lnTo>
                <a:lnTo>
                  <a:pt x="2247" y="1668"/>
                </a:lnTo>
                <a:lnTo>
                  <a:pt x="2252" y="1701"/>
                </a:lnTo>
                <a:lnTo>
                  <a:pt x="2265" y="1720"/>
                </a:lnTo>
                <a:lnTo>
                  <a:pt x="2288" y="1749"/>
                </a:lnTo>
                <a:lnTo>
                  <a:pt x="2302" y="1771"/>
                </a:lnTo>
                <a:lnTo>
                  <a:pt x="2310" y="1791"/>
                </a:lnTo>
                <a:lnTo>
                  <a:pt x="2308" y="1816"/>
                </a:lnTo>
                <a:lnTo>
                  <a:pt x="2296" y="1846"/>
                </a:lnTo>
                <a:lnTo>
                  <a:pt x="2288" y="1867"/>
                </a:lnTo>
                <a:lnTo>
                  <a:pt x="2305" y="1877"/>
                </a:lnTo>
                <a:lnTo>
                  <a:pt x="2339" y="1896"/>
                </a:lnTo>
                <a:lnTo>
                  <a:pt x="2392" y="1942"/>
                </a:lnTo>
                <a:lnTo>
                  <a:pt x="2428" y="2004"/>
                </a:lnTo>
                <a:lnTo>
                  <a:pt x="2434" y="2023"/>
                </a:lnTo>
                <a:lnTo>
                  <a:pt x="2436" y="2041"/>
                </a:lnTo>
                <a:lnTo>
                  <a:pt x="2436" y="2056"/>
                </a:lnTo>
                <a:lnTo>
                  <a:pt x="2431" y="2070"/>
                </a:lnTo>
                <a:lnTo>
                  <a:pt x="2425" y="2083"/>
                </a:lnTo>
                <a:lnTo>
                  <a:pt x="2418" y="2094"/>
                </a:lnTo>
                <a:lnTo>
                  <a:pt x="2401" y="2114"/>
                </a:lnTo>
                <a:lnTo>
                  <a:pt x="2365" y="2158"/>
                </a:lnTo>
                <a:lnTo>
                  <a:pt x="2360" y="2171"/>
                </a:lnTo>
                <a:lnTo>
                  <a:pt x="2359" y="2183"/>
                </a:lnTo>
                <a:lnTo>
                  <a:pt x="2363" y="2196"/>
                </a:lnTo>
                <a:lnTo>
                  <a:pt x="2369" y="2212"/>
                </a:lnTo>
                <a:lnTo>
                  <a:pt x="2388" y="2248"/>
                </a:lnTo>
                <a:lnTo>
                  <a:pt x="2436" y="2323"/>
                </a:lnTo>
                <a:lnTo>
                  <a:pt x="2460" y="2364"/>
                </a:lnTo>
                <a:lnTo>
                  <a:pt x="2454" y="2375"/>
                </a:lnTo>
                <a:lnTo>
                  <a:pt x="2450" y="2393"/>
                </a:lnTo>
                <a:lnTo>
                  <a:pt x="2449" y="2401"/>
                </a:lnTo>
                <a:lnTo>
                  <a:pt x="2447" y="2406"/>
                </a:lnTo>
                <a:lnTo>
                  <a:pt x="2444" y="2409"/>
                </a:lnTo>
                <a:lnTo>
                  <a:pt x="2440" y="2411"/>
                </a:lnTo>
                <a:lnTo>
                  <a:pt x="2433" y="2414"/>
                </a:lnTo>
                <a:lnTo>
                  <a:pt x="2408" y="2423"/>
                </a:lnTo>
                <a:lnTo>
                  <a:pt x="2389" y="2427"/>
                </a:lnTo>
                <a:lnTo>
                  <a:pt x="2362" y="2403"/>
                </a:lnTo>
                <a:lnTo>
                  <a:pt x="2318" y="2367"/>
                </a:lnTo>
                <a:lnTo>
                  <a:pt x="2288" y="2339"/>
                </a:lnTo>
                <a:lnTo>
                  <a:pt x="2268" y="2313"/>
                </a:lnTo>
                <a:lnTo>
                  <a:pt x="2256" y="2275"/>
                </a:lnTo>
                <a:lnTo>
                  <a:pt x="2252" y="2219"/>
                </a:lnTo>
                <a:lnTo>
                  <a:pt x="2252" y="2180"/>
                </a:lnTo>
                <a:lnTo>
                  <a:pt x="2241" y="2172"/>
                </a:lnTo>
                <a:lnTo>
                  <a:pt x="2233" y="2167"/>
                </a:lnTo>
                <a:lnTo>
                  <a:pt x="2227" y="2165"/>
                </a:lnTo>
                <a:lnTo>
                  <a:pt x="2221" y="2165"/>
                </a:lnTo>
                <a:lnTo>
                  <a:pt x="2215" y="2167"/>
                </a:lnTo>
                <a:lnTo>
                  <a:pt x="2211" y="2170"/>
                </a:lnTo>
                <a:lnTo>
                  <a:pt x="2199" y="2178"/>
                </a:lnTo>
                <a:lnTo>
                  <a:pt x="2183" y="2185"/>
                </a:lnTo>
                <a:lnTo>
                  <a:pt x="2160" y="2188"/>
                </a:lnTo>
                <a:lnTo>
                  <a:pt x="2160" y="2188"/>
                </a:lnTo>
                <a:lnTo>
                  <a:pt x="2134" y="2188"/>
                </a:lnTo>
                <a:lnTo>
                  <a:pt x="2105" y="2181"/>
                </a:lnTo>
                <a:lnTo>
                  <a:pt x="2040" y="2155"/>
                </a:lnTo>
                <a:lnTo>
                  <a:pt x="1901" y="2097"/>
                </a:lnTo>
                <a:lnTo>
                  <a:pt x="1795" y="2106"/>
                </a:lnTo>
                <a:lnTo>
                  <a:pt x="1789" y="2097"/>
                </a:lnTo>
                <a:lnTo>
                  <a:pt x="1781" y="2075"/>
                </a:lnTo>
                <a:lnTo>
                  <a:pt x="1765" y="2025"/>
                </a:lnTo>
                <a:lnTo>
                  <a:pt x="1750" y="1978"/>
                </a:lnTo>
                <a:lnTo>
                  <a:pt x="1749" y="1968"/>
                </a:lnTo>
                <a:lnTo>
                  <a:pt x="1743" y="1970"/>
                </a:lnTo>
                <a:lnTo>
                  <a:pt x="1733" y="1970"/>
                </a:lnTo>
                <a:lnTo>
                  <a:pt x="1711" y="1974"/>
                </a:lnTo>
                <a:lnTo>
                  <a:pt x="1691" y="1977"/>
                </a:lnTo>
                <a:lnTo>
                  <a:pt x="1687" y="1977"/>
                </a:lnTo>
                <a:lnTo>
                  <a:pt x="1663" y="1949"/>
                </a:lnTo>
                <a:lnTo>
                  <a:pt x="1653" y="1919"/>
                </a:lnTo>
                <a:lnTo>
                  <a:pt x="1650" y="1887"/>
                </a:lnTo>
                <a:lnTo>
                  <a:pt x="1656" y="1855"/>
                </a:lnTo>
                <a:lnTo>
                  <a:pt x="1668" y="1822"/>
                </a:lnTo>
                <a:lnTo>
                  <a:pt x="1704" y="1759"/>
                </a:lnTo>
                <a:lnTo>
                  <a:pt x="1746" y="1701"/>
                </a:lnTo>
                <a:lnTo>
                  <a:pt x="1782" y="1655"/>
                </a:lnTo>
                <a:lnTo>
                  <a:pt x="1795" y="1636"/>
                </a:lnTo>
                <a:lnTo>
                  <a:pt x="1794" y="1632"/>
                </a:lnTo>
                <a:lnTo>
                  <a:pt x="1792" y="1629"/>
                </a:lnTo>
                <a:lnTo>
                  <a:pt x="1788" y="1623"/>
                </a:lnTo>
                <a:lnTo>
                  <a:pt x="1779" y="1613"/>
                </a:lnTo>
                <a:lnTo>
                  <a:pt x="1778" y="1609"/>
                </a:lnTo>
                <a:lnTo>
                  <a:pt x="1782" y="1604"/>
                </a:lnTo>
                <a:lnTo>
                  <a:pt x="1798" y="1586"/>
                </a:lnTo>
                <a:lnTo>
                  <a:pt x="1842" y="1535"/>
                </a:lnTo>
                <a:lnTo>
                  <a:pt x="1879" y="1484"/>
                </a:lnTo>
                <a:lnTo>
                  <a:pt x="1886" y="1473"/>
                </a:lnTo>
                <a:lnTo>
                  <a:pt x="1885" y="1474"/>
                </a:lnTo>
                <a:lnTo>
                  <a:pt x="1882" y="1474"/>
                </a:lnTo>
                <a:lnTo>
                  <a:pt x="1876" y="1474"/>
                </a:lnTo>
                <a:lnTo>
                  <a:pt x="1873" y="1474"/>
                </a:lnTo>
                <a:lnTo>
                  <a:pt x="1866" y="1473"/>
                </a:lnTo>
                <a:lnTo>
                  <a:pt x="1849" y="1468"/>
                </a:lnTo>
                <a:lnTo>
                  <a:pt x="1808" y="1452"/>
                </a:lnTo>
                <a:lnTo>
                  <a:pt x="1779" y="1436"/>
                </a:lnTo>
                <a:lnTo>
                  <a:pt x="1776" y="1432"/>
                </a:lnTo>
                <a:lnTo>
                  <a:pt x="1776" y="1429"/>
                </a:lnTo>
                <a:lnTo>
                  <a:pt x="1776" y="1428"/>
                </a:lnTo>
                <a:lnTo>
                  <a:pt x="1778" y="1425"/>
                </a:lnTo>
                <a:lnTo>
                  <a:pt x="1781" y="1423"/>
                </a:lnTo>
                <a:lnTo>
                  <a:pt x="1785" y="1422"/>
                </a:lnTo>
                <a:lnTo>
                  <a:pt x="1794" y="1422"/>
                </a:lnTo>
                <a:lnTo>
                  <a:pt x="1823" y="1420"/>
                </a:lnTo>
                <a:lnTo>
                  <a:pt x="1868" y="1425"/>
                </a:lnTo>
                <a:lnTo>
                  <a:pt x="1882" y="1426"/>
                </a:lnTo>
                <a:lnTo>
                  <a:pt x="1879" y="1423"/>
                </a:lnTo>
                <a:lnTo>
                  <a:pt x="1878" y="1419"/>
                </a:lnTo>
                <a:lnTo>
                  <a:pt x="1876" y="1413"/>
                </a:lnTo>
                <a:lnTo>
                  <a:pt x="1875" y="1399"/>
                </a:lnTo>
                <a:lnTo>
                  <a:pt x="1873" y="1367"/>
                </a:lnTo>
                <a:lnTo>
                  <a:pt x="1869" y="1352"/>
                </a:lnTo>
                <a:lnTo>
                  <a:pt x="1878" y="1354"/>
                </a:lnTo>
                <a:lnTo>
                  <a:pt x="1907" y="1358"/>
                </a:lnTo>
                <a:lnTo>
                  <a:pt x="1930" y="1361"/>
                </a:lnTo>
                <a:lnTo>
                  <a:pt x="1931" y="1361"/>
                </a:lnTo>
                <a:lnTo>
                  <a:pt x="1940" y="1355"/>
                </a:lnTo>
                <a:lnTo>
                  <a:pt x="1957" y="1339"/>
                </a:lnTo>
                <a:lnTo>
                  <a:pt x="1986" y="1306"/>
                </a:lnTo>
                <a:lnTo>
                  <a:pt x="2008" y="1270"/>
                </a:lnTo>
                <a:lnTo>
                  <a:pt x="2014" y="1260"/>
                </a:lnTo>
                <a:lnTo>
                  <a:pt x="2008" y="1255"/>
                </a:lnTo>
                <a:lnTo>
                  <a:pt x="1999" y="1242"/>
                </a:lnTo>
                <a:lnTo>
                  <a:pt x="1978" y="1212"/>
                </a:lnTo>
                <a:lnTo>
                  <a:pt x="1962" y="1183"/>
                </a:lnTo>
                <a:lnTo>
                  <a:pt x="1960" y="1177"/>
                </a:lnTo>
                <a:lnTo>
                  <a:pt x="1960" y="1175"/>
                </a:lnTo>
                <a:lnTo>
                  <a:pt x="1960" y="1170"/>
                </a:lnTo>
                <a:lnTo>
                  <a:pt x="1965" y="1154"/>
                </a:lnTo>
                <a:lnTo>
                  <a:pt x="1968" y="1136"/>
                </a:lnTo>
                <a:lnTo>
                  <a:pt x="1969" y="1131"/>
                </a:lnTo>
                <a:lnTo>
                  <a:pt x="1959" y="1126"/>
                </a:lnTo>
                <a:lnTo>
                  <a:pt x="1936" y="1118"/>
                </a:lnTo>
                <a:lnTo>
                  <a:pt x="1886" y="1104"/>
                </a:lnTo>
                <a:lnTo>
                  <a:pt x="1863" y="1106"/>
                </a:lnTo>
                <a:lnTo>
                  <a:pt x="1840" y="1115"/>
                </a:lnTo>
                <a:lnTo>
                  <a:pt x="1831" y="1122"/>
                </a:lnTo>
                <a:lnTo>
                  <a:pt x="1837" y="1136"/>
                </a:lnTo>
                <a:lnTo>
                  <a:pt x="1847" y="1165"/>
                </a:lnTo>
                <a:lnTo>
                  <a:pt x="1853" y="1223"/>
                </a:lnTo>
                <a:lnTo>
                  <a:pt x="1847" y="1251"/>
                </a:lnTo>
                <a:lnTo>
                  <a:pt x="1833" y="1275"/>
                </a:lnTo>
                <a:lnTo>
                  <a:pt x="1823" y="1287"/>
                </a:lnTo>
                <a:lnTo>
                  <a:pt x="1820" y="1283"/>
                </a:lnTo>
                <a:lnTo>
                  <a:pt x="1814" y="1268"/>
                </a:lnTo>
                <a:lnTo>
                  <a:pt x="1802" y="1231"/>
                </a:lnTo>
                <a:lnTo>
                  <a:pt x="1795" y="1194"/>
                </a:lnTo>
                <a:lnTo>
                  <a:pt x="1795" y="1187"/>
                </a:lnTo>
                <a:lnTo>
                  <a:pt x="1792" y="1186"/>
                </a:lnTo>
                <a:lnTo>
                  <a:pt x="1787" y="1181"/>
                </a:lnTo>
                <a:lnTo>
                  <a:pt x="1771" y="1173"/>
                </a:lnTo>
                <a:lnTo>
                  <a:pt x="1753" y="1170"/>
                </a:lnTo>
                <a:lnTo>
                  <a:pt x="1749" y="1168"/>
                </a:lnTo>
                <a:lnTo>
                  <a:pt x="1743" y="1181"/>
                </a:lnTo>
                <a:lnTo>
                  <a:pt x="1733" y="1200"/>
                </a:lnTo>
                <a:lnTo>
                  <a:pt x="1726" y="1213"/>
                </a:lnTo>
                <a:lnTo>
                  <a:pt x="1724" y="1215"/>
                </a:lnTo>
                <a:lnTo>
                  <a:pt x="1721" y="1216"/>
                </a:lnTo>
                <a:lnTo>
                  <a:pt x="1720" y="1216"/>
                </a:lnTo>
                <a:lnTo>
                  <a:pt x="1718" y="1215"/>
                </a:lnTo>
                <a:lnTo>
                  <a:pt x="1717" y="1213"/>
                </a:lnTo>
                <a:lnTo>
                  <a:pt x="1716" y="1209"/>
                </a:lnTo>
                <a:lnTo>
                  <a:pt x="1714" y="1204"/>
                </a:lnTo>
                <a:lnTo>
                  <a:pt x="1713" y="1194"/>
                </a:lnTo>
                <a:lnTo>
                  <a:pt x="1713" y="1158"/>
                </a:lnTo>
                <a:lnTo>
                  <a:pt x="1713" y="1158"/>
                </a:lnTo>
                <a:lnTo>
                  <a:pt x="1710" y="1157"/>
                </a:lnTo>
                <a:lnTo>
                  <a:pt x="1702" y="1152"/>
                </a:lnTo>
                <a:lnTo>
                  <a:pt x="1694" y="1148"/>
                </a:lnTo>
                <a:lnTo>
                  <a:pt x="1673" y="1139"/>
                </a:lnTo>
                <a:lnTo>
                  <a:pt x="1659" y="1131"/>
                </a:lnTo>
                <a:lnTo>
                  <a:pt x="1658" y="1123"/>
                </a:lnTo>
                <a:lnTo>
                  <a:pt x="1658" y="1100"/>
                </a:lnTo>
                <a:lnTo>
                  <a:pt x="1647" y="1045"/>
                </a:lnTo>
                <a:lnTo>
                  <a:pt x="1634" y="1020"/>
                </a:lnTo>
                <a:lnTo>
                  <a:pt x="1616" y="1002"/>
                </a:lnTo>
                <a:lnTo>
                  <a:pt x="1604" y="994"/>
                </a:lnTo>
                <a:lnTo>
                  <a:pt x="1575" y="989"/>
                </a:lnTo>
                <a:lnTo>
                  <a:pt x="1555" y="989"/>
                </a:lnTo>
                <a:lnTo>
                  <a:pt x="1547" y="993"/>
                </a:lnTo>
                <a:lnTo>
                  <a:pt x="1542" y="997"/>
                </a:lnTo>
                <a:lnTo>
                  <a:pt x="1536" y="1003"/>
                </a:lnTo>
                <a:lnTo>
                  <a:pt x="1533" y="1009"/>
                </a:lnTo>
                <a:lnTo>
                  <a:pt x="1532" y="1018"/>
                </a:lnTo>
                <a:lnTo>
                  <a:pt x="1530" y="1035"/>
                </a:lnTo>
                <a:lnTo>
                  <a:pt x="1532" y="1055"/>
                </a:lnTo>
                <a:lnTo>
                  <a:pt x="1542" y="1096"/>
                </a:lnTo>
                <a:lnTo>
                  <a:pt x="1553" y="1128"/>
                </a:lnTo>
                <a:lnTo>
                  <a:pt x="1559" y="1139"/>
                </a:lnTo>
                <a:lnTo>
                  <a:pt x="1568" y="1144"/>
                </a:lnTo>
                <a:lnTo>
                  <a:pt x="1582" y="1154"/>
                </a:lnTo>
                <a:lnTo>
                  <a:pt x="1594" y="1165"/>
                </a:lnTo>
                <a:lnTo>
                  <a:pt x="1603" y="1180"/>
                </a:lnTo>
                <a:lnTo>
                  <a:pt x="1618" y="1215"/>
                </a:lnTo>
                <a:lnTo>
                  <a:pt x="1624" y="1223"/>
                </a:lnTo>
                <a:lnTo>
                  <a:pt x="1621" y="1235"/>
                </a:lnTo>
                <a:lnTo>
                  <a:pt x="1617" y="1257"/>
                </a:lnTo>
                <a:lnTo>
                  <a:pt x="1603" y="1302"/>
                </a:lnTo>
                <a:lnTo>
                  <a:pt x="1589" y="1342"/>
                </a:lnTo>
                <a:lnTo>
                  <a:pt x="1588" y="1351"/>
                </a:lnTo>
                <a:lnTo>
                  <a:pt x="1581" y="1335"/>
                </a:lnTo>
                <a:lnTo>
                  <a:pt x="1560" y="1284"/>
                </a:lnTo>
                <a:lnTo>
                  <a:pt x="1546" y="1246"/>
                </a:lnTo>
                <a:lnTo>
                  <a:pt x="1546" y="1244"/>
                </a:lnTo>
                <a:lnTo>
                  <a:pt x="1539" y="1245"/>
                </a:lnTo>
                <a:lnTo>
                  <a:pt x="1517" y="1249"/>
                </a:lnTo>
                <a:lnTo>
                  <a:pt x="1500" y="1252"/>
                </a:lnTo>
                <a:lnTo>
                  <a:pt x="1500" y="1252"/>
                </a:lnTo>
                <a:lnTo>
                  <a:pt x="1500" y="1255"/>
                </a:lnTo>
                <a:lnTo>
                  <a:pt x="1500" y="1261"/>
                </a:lnTo>
                <a:lnTo>
                  <a:pt x="1501" y="1274"/>
                </a:lnTo>
                <a:lnTo>
                  <a:pt x="1503" y="1286"/>
                </a:lnTo>
                <a:lnTo>
                  <a:pt x="1504" y="1287"/>
                </a:lnTo>
                <a:lnTo>
                  <a:pt x="1489" y="1291"/>
                </a:lnTo>
                <a:lnTo>
                  <a:pt x="1471" y="1294"/>
                </a:lnTo>
                <a:lnTo>
                  <a:pt x="1427" y="1296"/>
                </a:lnTo>
                <a:lnTo>
                  <a:pt x="1382" y="1291"/>
                </a:lnTo>
                <a:lnTo>
                  <a:pt x="1343" y="1277"/>
                </a:lnTo>
                <a:lnTo>
                  <a:pt x="1329" y="1267"/>
                </a:lnTo>
                <a:lnTo>
                  <a:pt x="1320" y="1254"/>
                </a:lnTo>
                <a:lnTo>
                  <a:pt x="1319" y="1238"/>
                </a:lnTo>
                <a:lnTo>
                  <a:pt x="1323" y="1218"/>
                </a:lnTo>
                <a:lnTo>
                  <a:pt x="1324" y="1218"/>
                </a:lnTo>
                <a:lnTo>
                  <a:pt x="1320" y="1218"/>
                </a:lnTo>
                <a:lnTo>
                  <a:pt x="1313" y="1218"/>
                </a:lnTo>
                <a:lnTo>
                  <a:pt x="1292" y="1215"/>
                </a:lnTo>
                <a:lnTo>
                  <a:pt x="1245" y="1215"/>
                </a:lnTo>
                <a:lnTo>
                  <a:pt x="1220" y="1239"/>
                </a:lnTo>
                <a:lnTo>
                  <a:pt x="1220" y="1244"/>
                </a:lnTo>
                <a:lnTo>
                  <a:pt x="1224" y="1245"/>
                </a:lnTo>
                <a:lnTo>
                  <a:pt x="1230" y="1246"/>
                </a:lnTo>
                <a:lnTo>
                  <a:pt x="1236" y="1248"/>
                </a:lnTo>
                <a:lnTo>
                  <a:pt x="1253" y="1248"/>
                </a:lnTo>
                <a:lnTo>
                  <a:pt x="1282" y="1248"/>
                </a:lnTo>
                <a:lnTo>
                  <a:pt x="1290" y="1252"/>
                </a:lnTo>
                <a:lnTo>
                  <a:pt x="1288" y="1257"/>
                </a:lnTo>
                <a:lnTo>
                  <a:pt x="1284" y="1261"/>
                </a:lnTo>
                <a:lnTo>
                  <a:pt x="1278" y="1267"/>
                </a:lnTo>
                <a:lnTo>
                  <a:pt x="1259" y="1280"/>
                </a:lnTo>
                <a:lnTo>
                  <a:pt x="1219" y="1304"/>
                </a:lnTo>
                <a:lnTo>
                  <a:pt x="1203" y="1309"/>
                </a:lnTo>
                <a:lnTo>
                  <a:pt x="1201" y="1307"/>
                </a:lnTo>
                <a:lnTo>
                  <a:pt x="1195" y="1300"/>
                </a:lnTo>
                <a:lnTo>
                  <a:pt x="1184" y="1281"/>
                </a:lnTo>
                <a:lnTo>
                  <a:pt x="1172" y="1267"/>
                </a:lnTo>
                <a:lnTo>
                  <a:pt x="1172" y="1264"/>
                </a:lnTo>
                <a:lnTo>
                  <a:pt x="1169" y="1264"/>
                </a:lnTo>
                <a:lnTo>
                  <a:pt x="1162" y="1262"/>
                </a:lnTo>
                <a:lnTo>
                  <a:pt x="1143" y="1262"/>
                </a:lnTo>
                <a:lnTo>
                  <a:pt x="1095" y="1262"/>
                </a:lnTo>
                <a:lnTo>
                  <a:pt x="1069" y="1261"/>
                </a:lnTo>
                <a:lnTo>
                  <a:pt x="1064" y="1258"/>
                </a:lnTo>
                <a:lnTo>
                  <a:pt x="1058" y="1257"/>
                </a:lnTo>
                <a:lnTo>
                  <a:pt x="1045" y="1251"/>
                </a:lnTo>
                <a:lnTo>
                  <a:pt x="1020" y="1241"/>
                </a:lnTo>
                <a:lnTo>
                  <a:pt x="1011" y="1236"/>
                </a:lnTo>
                <a:lnTo>
                  <a:pt x="1010" y="1235"/>
                </a:lnTo>
                <a:lnTo>
                  <a:pt x="1011" y="1233"/>
                </a:lnTo>
                <a:lnTo>
                  <a:pt x="1013" y="1233"/>
                </a:lnTo>
                <a:lnTo>
                  <a:pt x="1017" y="1233"/>
                </a:lnTo>
                <a:lnTo>
                  <a:pt x="1027" y="1232"/>
                </a:lnTo>
                <a:lnTo>
                  <a:pt x="1050" y="1231"/>
                </a:lnTo>
                <a:lnTo>
                  <a:pt x="1061" y="1229"/>
                </a:lnTo>
                <a:lnTo>
                  <a:pt x="1065" y="1228"/>
                </a:lnTo>
                <a:lnTo>
                  <a:pt x="1068" y="1225"/>
                </a:lnTo>
                <a:lnTo>
                  <a:pt x="1068" y="1222"/>
                </a:lnTo>
                <a:lnTo>
                  <a:pt x="1068" y="1220"/>
                </a:lnTo>
                <a:lnTo>
                  <a:pt x="1068" y="1219"/>
                </a:lnTo>
                <a:lnTo>
                  <a:pt x="1066" y="1216"/>
                </a:lnTo>
                <a:lnTo>
                  <a:pt x="1062" y="1212"/>
                </a:lnTo>
                <a:lnTo>
                  <a:pt x="1056" y="1206"/>
                </a:lnTo>
                <a:lnTo>
                  <a:pt x="1035" y="1191"/>
                </a:lnTo>
                <a:lnTo>
                  <a:pt x="1001" y="1173"/>
                </a:lnTo>
                <a:lnTo>
                  <a:pt x="968" y="1154"/>
                </a:lnTo>
                <a:lnTo>
                  <a:pt x="965" y="1151"/>
                </a:lnTo>
                <a:lnTo>
                  <a:pt x="958" y="1142"/>
                </a:lnTo>
                <a:lnTo>
                  <a:pt x="933" y="1119"/>
                </a:lnTo>
                <a:lnTo>
                  <a:pt x="875" y="1067"/>
                </a:lnTo>
                <a:lnTo>
                  <a:pt x="856" y="1048"/>
                </a:lnTo>
                <a:lnTo>
                  <a:pt x="853" y="1049"/>
                </a:lnTo>
                <a:lnTo>
                  <a:pt x="851" y="1051"/>
                </a:lnTo>
                <a:lnTo>
                  <a:pt x="846" y="1054"/>
                </a:lnTo>
                <a:lnTo>
                  <a:pt x="840" y="1062"/>
                </a:lnTo>
                <a:lnTo>
                  <a:pt x="826" y="1080"/>
                </a:lnTo>
                <a:lnTo>
                  <a:pt x="819" y="1084"/>
                </a:lnTo>
                <a:lnTo>
                  <a:pt x="822" y="1065"/>
                </a:lnTo>
                <a:lnTo>
                  <a:pt x="824" y="1036"/>
                </a:lnTo>
                <a:lnTo>
                  <a:pt x="823" y="1028"/>
                </a:lnTo>
                <a:lnTo>
                  <a:pt x="820" y="1022"/>
                </a:lnTo>
                <a:lnTo>
                  <a:pt x="819" y="1020"/>
                </a:lnTo>
                <a:lnTo>
                  <a:pt x="816" y="1019"/>
                </a:lnTo>
                <a:lnTo>
                  <a:pt x="813" y="1018"/>
                </a:lnTo>
                <a:lnTo>
                  <a:pt x="810" y="1018"/>
                </a:lnTo>
                <a:lnTo>
                  <a:pt x="807" y="1019"/>
                </a:lnTo>
                <a:lnTo>
                  <a:pt x="804" y="1020"/>
                </a:lnTo>
                <a:lnTo>
                  <a:pt x="797" y="1023"/>
                </a:lnTo>
                <a:lnTo>
                  <a:pt x="788" y="1031"/>
                </a:lnTo>
                <a:lnTo>
                  <a:pt x="771" y="1048"/>
                </a:lnTo>
                <a:lnTo>
                  <a:pt x="771" y="1048"/>
                </a:lnTo>
                <a:lnTo>
                  <a:pt x="771" y="1032"/>
                </a:lnTo>
                <a:lnTo>
                  <a:pt x="771" y="1000"/>
                </a:lnTo>
                <a:lnTo>
                  <a:pt x="769" y="977"/>
                </a:lnTo>
                <a:lnTo>
                  <a:pt x="768" y="967"/>
                </a:lnTo>
                <a:lnTo>
                  <a:pt x="764" y="961"/>
                </a:lnTo>
                <a:lnTo>
                  <a:pt x="758" y="957"/>
                </a:lnTo>
                <a:lnTo>
                  <a:pt x="751" y="955"/>
                </a:lnTo>
                <a:lnTo>
                  <a:pt x="740" y="958"/>
                </a:lnTo>
                <a:lnTo>
                  <a:pt x="727" y="964"/>
                </a:lnTo>
                <a:lnTo>
                  <a:pt x="711" y="974"/>
                </a:lnTo>
                <a:lnTo>
                  <a:pt x="711" y="974"/>
                </a:lnTo>
                <a:lnTo>
                  <a:pt x="703" y="970"/>
                </a:lnTo>
                <a:lnTo>
                  <a:pt x="690" y="965"/>
                </a:lnTo>
                <a:lnTo>
                  <a:pt x="652" y="958"/>
                </a:lnTo>
                <a:lnTo>
                  <a:pt x="552" y="944"/>
                </a:lnTo>
                <a:lnTo>
                  <a:pt x="483" y="938"/>
                </a:lnTo>
                <a:lnTo>
                  <a:pt x="477" y="934"/>
                </a:lnTo>
                <a:lnTo>
                  <a:pt x="467" y="920"/>
                </a:lnTo>
                <a:lnTo>
                  <a:pt x="448" y="889"/>
                </a:lnTo>
                <a:lnTo>
                  <a:pt x="432" y="861"/>
                </a:lnTo>
                <a:lnTo>
                  <a:pt x="429" y="855"/>
                </a:lnTo>
                <a:lnTo>
                  <a:pt x="420" y="868"/>
                </a:lnTo>
                <a:lnTo>
                  <a:pt x="361" y="949"/>
                </a:lnTo>
                <a:lnTo>
                  <a:pt x="161" y="1228"/>
                </a:lnTo>
                <a:lnTo>
                  <a:pt x="7" y="1439"/>
                </a:lnTo>
                <a:lnTo>
                  <a:pt x="0" y="1451"/>
                </a:lnTo>
                <a:lnTo>
                  <a:pt x="19" y="1457"/>
                </a:lnTo>
                <a:lnTo>
                  <a:pt x="48" y="1467"/>
                </a:lnTo>
                <a:lnTo>
                  <a:pt x="67" y="1481"/>
                </a:lnTo>
                <a:lnTo>
                  <a:pt x="75" y="1500"/>
                </a:lnTo>
                <a:lnTo>
                  <a:pt x="77" y="1525"/>
                </a:lnTo>
                <a:lnTo>
                  <a:pt x="73" y="1558"/>
                </a:lnTo>
                <a:lnTo>
                  <a:pt x="70" y="1577"/>
                </a:lnTo>
                <a:lnTo>
                  <a:pt x="84" y="1578"/>
                </a:lnTo>
                <a:lnTo>
                  <a:pt x="130" y="1583"/>
                </a:lnTo>
                <a:lnTo>
                  <a:pt x="165" y="1584"/>
                </a:lnTo>
                <a:lnTo>
                  <a:pt x="168" y="1584"/>
                </a:lnTo>
                <a:lnTo>
                  <a:pt x="168" y="1591"/>
                </a:lnTo>
                <a:lnTo>
                  <a:pt x="170" y="1632"/>
                </a:lnTo>
                <a:lnTo>
                  <a:pt x="174" y="1772"/>
                </a:lnTo>
                <a:lnTo>
                  <a:pt x="177" y="1878"/>
                </a:lnTo>
                <a:lnTo>
                  <a:pt x="178" y="1884"/>
                </a:lnTo>
                <a:lnTo>
                  <a:pt x="194" y="1901"/>
                </a:lnTo>
                <a:lnTo>
                  <a:pt x="216" y="1933"/>
                </a:lnTo>
                <a:lnTo>
                  <a:pt x="223" y="1962"/>
                </a:lnTo>
                <a:lnTo>
                  <a:pt x="220" y="1991"/>
                </a:lnTo>
                <a:lnTo>
                  <a:pt x="209" y="2025"/>
                </a:lnTo>
                <a:lnTo>
                  <a:pt x="188" y="2062"/>
                </a:lnTo>
                <a:lnTo>
                  <a:pt x="177" y="2084"/>
                </a:lnTo>
                <a:lnTo>
                  <a:pt x="175" y="2091"/>
                </a:lnTo>
                <a:lnTo>
                  <a:pt x="174" y="2109"/>
                </a:lnTo>
                <a:lnTo>
                  <a:pt x="174" y="2123"/>
                </a:lnTo>
                <a:lnTo>
                  <a:pt x="174" y="2123"/>
                </a:lnTo>
                <a:lnTo>
                  <a:pt x="174" y="2129"/>
                </a:lnTo>
                <a:lnTo>
                  <a:pt x="173" y="2142"/>
                </a:lnTo>
                <a:lnTo>
                  <a:pt x="173" y="2152"/>
                </a:lnTo>
                <a:lnTo>
                  <a:pt x="174" y="2152"/>
                </a:lnTo>
                <a:lnTo>
                  <a:pt x="174" y="2165"/>
                </a:lnTo>
                <a:lnTo>
                  <a:pt x="174" y="2185"/>
                </a:lnTo>
                <a:lnTo>
                  <a:pt x="167" y="2219"/>
                </a:lnTo>
                <a:lnTo>
                  <a:pt x="155" y="2259"/>
                </a:lnTo>
                <a:lnTo>
                  <a:pt x="154" y="2271"/>
                </a:lnTo>
                <a:lnTo>
                  <a:pt x="154" y="2274"/>
                </a:lnTo>
                <a:lnTo>
                  <a:pt x="154" y="2277"/>
                </a:lnTo>
                <a:lnTo>
                  <a:pt x="157" y="2280"/>
                </a:lnTo>
                <a:lnTo>
                  <a:pt x="159" y="2287"/>
                </a:lnTo>
                <a:lnTo>
                  <a:pt x="168" y="2297"/>
                </a:lnTo>
                <a:lnTo>
                  <a:pt x="173" y="2298"/>
                </a:lnTo>
                <a:lnTo>
                  <a:pt x="170" y="2301"/>
                </a:lnTo>
                <a:lnTo>
                  <a:pt x="165" y="2307"/>
                </a:lnTo>
                <a:lnTo>
                  <a:pt x="157" y="2323"/>
                </a:lnTo>
                <a:lnTo>
                  <a:pt x="154" y="2340"/>
                </a:lnTo>
                <a:lnTo>
                  <a:pt x="154" y="2345"/>
                </a:lnTo>
                <a:lnTo>
                  <a:pt x="161" y="2351"/>
                </a:lnTo>
                <a:lnTo>
                  <a:pt x="167" y="2354"/>
                </a:lnTo>
                <a:lnTo>
                  <a:pt x="186" y="2361"/>
                </a:lnTo>
                <a:lnTo>
                  <a:pt x="226" y="2380"/>
                </a:lnTo>
                <a:lnTo>
                  <a:pt x="249" y="2393"/>
                </a:lnTo>
                <a:lnTo>
                  <a:pt x="254" y="2400"/>
                </a:lnTo>
                <a:lnTo>
                  <a:pt x="261" y="2411"/>
                </a:lnTo>
                <a:lnTo>
                  <a:pt x="278" y="2446"/>
                </a:lnTo>
                <a:lnTo>
                  <a:pt x="320" y="2535"/>
                </a:lnTo>
                <a:lnTo>
                  <a:pt x="361" y="2596"/>
                </a:lnTo>
                <a:lnTo>
                  <a:pt x="377" y="2600"/>
                </a:lnTo>
                <a:lnTo>
                  <a:pt x="496" y="2620"/>
                </a:lnTo>
                <a:lnTo>
                  <a:pt x="900" y="2690"/>
                </a:lnTo>
                <a:lnTo>
                  <a:pt x="1208" y="2743"/>
                </a:lnTo>
                <a:lnTo>
                  <a:pt x="1226" y="2746"/>
                </a:lnTo>
                <a:lnTo>
                  <a:pt x="1234" y="2746"/>
                </a:lnTo>
                <a:lnTo>
                  <a:pt x="1300" y="2745"/>
                </a:lnTo>
                <a:lnTo>
                  <a:pt x="1521" y="2739"/>
                </a:lnTo>
                <a:lnTo>
                  <a:pt x="1691" y="2735"/>
                </a:lnTo>
                <a:lnTo>
                  <a:pt x="1701" y="2733"/>
                </a:lnTo>
                <a:lnTo>
                  <a:pt x="1701" y="2733"/>
                </a:lnTo>
                <a:close/>
                <a:moveTo>
                  <a:pt x="1048" y="1131"/>
                </a:moveTo>
                <a:lnTo>
                  <a:pt x="1037" y="1131"/>
                </a:lnTo>
                <a:lnTo>
                  <a:pt x="1022" y="1128"/>
                </a:lnTo>
                <a:lnTo>
                  <a:pt x="1007" y="1122"/>
                </a:lnTo>
                <a:lnTo>
                  <a:pt x="995" y="1113"/>
                </a:lnTo>
                <a:lnTo>
                  <a:pt x="988" y="1102"/>
                </a:lnTo>
                <a:lnTo>
                  <a:pt x="984" y="1086"/>
                </a:lnTo>
                <a:lnTo>
                  <a:pt x="984" y="1077"/>
                </a:lnTo>
                <a:lnTo>
                  <a:pt x="985" y="1077"/>
                </a:lnTo>
                <a:lnTo>
                  <a:pt x="988" y="1077"/>
                </a:lnTo>
                <a:lnTo>
                  <a:pt x="997" y="1073"/>
                </a:lnTo>
                <a:lnTo>
                  <a:pt x="1014" y="1064"/>
                </a:lnTo>
                <a:lnTo>
                  <a:pt x="1029" y="1058"/>
                </a:lnTo>
                <a:lnTo>
                  <a:pt x="1033" y="1061"/>
                </a:lnTo>
                <a:lnTo>
                  <a:pt x="1045" y="1065"/>
                </a:lnTo>
                <a:lnTo>
                  <a:pt x="1074" y="1071"/>
                </a:lnTo>
                <a:lnTo>
                  <a:pt x="1100" y="1070"/>
                </a:lnTo>
                <a:lnTo>
                  <a:pt x="1106" y="1067"/>
                </a:lnTo>
                <a:lnTo>
                  <a:pt x="1100" y="1061"/>
                </a:lnTo>
                <a:lnTo>
                  <a:pt x="1091" y="1055"/>
                </a:lnTo>
                <a:lnTo>
                  <a:pt x="1072" y="1045"/>
                </a:lnTo>
                <a:lnTo>
                  <a:pt x="1050" y="1038"/>
                </a:lnTo>
                <a:lnTo>
                  <a:pt x="1003" y="1026"/>
                </a:lnTo>
                <a:lnTo>
                  <a:pt x="984" y="1020"/>
                </a:lnTo>
                <a:lnTo>
                  <a:pt x="984" y="1016"/>
                </a:lnTo>
                <a:lnTo>
                  <a:pt x="985" y="1012"/>
                </a:lnTo>
                <a:lnTo>
                  <a:pt x="990" y="1003"/>
                </a:lnTo>
                <a:lnTo>
                  <a:pt x="995" y="994"/>
                </a:lnTo>
                <a:lnTo>
                  <a:pt x="1008" y="980"/>
                </a:lnTo>
                <a:lnTo>
                  <a:pt x="1014" y="974"/>
                </a:lnTo>
                <a:lnTo>
                  <a:pt x="1014" y="967"/>
                </a:lnTo>
                <a:lnTo>
                  <a:pt x="1023" y="938"/>
                </a:lnTo>
                <a:lnTo>
                  <a:pt x="1058" y="865"/>
                </a:lnTo>
                <a:lnTo>
                  <a:pt x="1071" y="851"/>
                </a:lnTo>
                <a:lnTo>
                  <a:pt x="1085" y="842"/>
                </a:lnTo>
                <a:lnTo>
                  <a:pt x="1101" y="839"/>
                </a:lnTo>
                <a:lnTo>
                  <a:pt x="1119" y="845"/>
                </a:lnTo>
                <a:lnTo>
                  <a:pt x="1136" y="858"/>
                </a:lnTo>
                <a:lnTo>
                  <a:pt x="1137" y="858"/>
                </a:lnTo>
                <a:lnTo>
                  <a:pt x="1136" y="868"/>
                </a:lnTo>
                <a:lnTo>
                  <a:pt x="1132" y="883"/>
                </a:lnTo>
                <a:lnTo>
                  <a:pt x="1129" y="890"/>
                </a:lnTo>
                <a:lnTo>
                  <a:pt x="1127" y="891"/>
                </a:lnTo>
                <a:lnTo>
                  <a:pt x="1129" y="893"/>
                </a:lnTo>
                <a:lnTo>
                  <a:pt x="1132" y="891"/>
                </a:lnTo>
                <a:lnTo>
                  <a:pt x="1135" y="891"/>
                </a:lnTo>
                <a:lnTo>
                  <a:pt x="1142" y="890"/>
                </a:lnTo>
                <a:lnTo>
                  <a:pt x="1166" y="884"/>
                </a:lnTo>
                <a:lnTo>
                  <a:pt x="1177" y="881"/>
                </a:lnTo>
                <a:lnTo>
                  <a:pt x="1178" y="886"/>
                </a:lnTo>
                <a:lnTo>
                  <a:pt x="1178" y="889"/>
                </a:lnTo>
                <a:lnTo>
                  <a:pt x="1178" y="894"/>
                </a:lnTo>
                <a:lnTo>
                  <a:pt x="1177" y="907"/>
                </a:lnTo>
                <a:lnTo>
                  <a:pt x="1177" y="920"/>
                </a:lnTo>
                <a:lnTo>
                  <a:pt x="1178" y="932"/>
                </a:lnTo>
                <a:lnTo>
                  <a:pt x="1182" y="938"/>
                </a:lnTo>
                <a:lnTo>
                  <a:pt x="1184" y="938"/>
                </a:lnTo>
                <a:lnTo>
                  <a:pt x="1187" y="939"/>
                </a:lnTo>
                <a:lnTo>
                  <a:pt x="1191" y="938"/>
                </a:lnTo>
                <a:lnTo>
                  <a:pt x="1192" y="934"/>
                </a:lnTo>
                <a:lnTo>
                  <a:pt x="1195" y="929"/>
                </a:lnTo>
                <a:lnTo>
                  <a:pt x="1197" y="923"/>
                </a:lnTo>
                <a:lnTo>
                  <a:pt x="1200" y="909"/>
                </a:lnTo>
                <a:lnTo>
                  <a:pt x="1203" y="897"/>
                </a:lnTo>
                <a:lnTo>
                  <a:pt x="1206" y="890"/>
                </a:lnTo>
                <a:lnTo>
                  <a:pt x="1208" y="889"/>
                </a:lnTo>
                <a:lnTo>
                  <a:pt x="1216" y="891"/>
                </a:lnTo>
                <a:lnTo>
                  <a:pt x="1226" y="896"/>
                </a:lnTo>
                <a:lnTo>
                  <a:pt x="1236" y="902"/>
                </a:lnTo>
                <a:lnTo>
                  <a:pt x="1239" y="902"/>
                </a:lnTo>
                <a:lnTo>
                  <a:pt x="1239" y="909"/>
                </a:lnTo>
                <a:lnTo>
                  <a:pt x="1239" y="923"/>
                </a:lnTo>
                <a:lnTo>
                  <a:pt x="1242" y="952"/>
                </a:lnTo>
                <a:lnTo>
                  <a:pt x="1248" y="977"/>
                </a:lnTo>
                <a:lnTo>
                  <a:pt x="1250" y="981"/>
                </a:lnTo>
                <a:lnTo>
                  <a:pt x="1255" y="977"/>
                </a:lnTo>
                <a:lnTo>
                  <a:pt x="1258" y="970"/>
                </a:lnTo>
                <a:lnTo>
                  <a:pt x="1261" y="962"/>
                </a:lnTo>
                <a:lnTo>
                  <a:pt x="1263" y="945"/>
                </a:lnTo>
                <a:lnTo>
                  <a:pt x="1263" y="926"/>
                </a:lnTo>
                <a:lnTo>
                  <a:pt x="1263" y="890"/>
                </a:lnTo>
                <a:lnTo>
                  <a:pt x="1263" y="881"/>
                </a:lnTo>
                <a:lnTo>
                  <a:pt x="1272" y="877"/>
                </a:lnTo>
                <a:lnTo>
                  <a:pt x="1290" y="868"/>
                </a:lnTo>
                <a:lnTo>
                  <a:pt x="1326" y="854"/>
                </a:lnTo>
                <a:lnTo>
                  <a:pt x="1343" y="854"/>
                </a:lnTo>
                <a:lnTo>
                  <a:pt x="1359" y="860"/>
                </a:lnTo>
                <a:lnTo>
                  <a:pt x="1366" y="864"/>
                </a:lnTo>
                <a:lnTo>
                  <a:pt x="1358" y="876"/>
                </a:lnTo>
                <a:lnTo>
                  <a:pt x="1350" y="889"/>
                </a:lnTo>
                <a:lnTo>
                  <a:pt x="1339" y="919"/>
                </a:lnTo>
                <a:lnTo>
                  <a:pt x="1332" y="955"/>
                </a:lnTo>
                <a:lnTo>
                  <a:pt x="1332" y="1028"/>
                </a:lnTo>
                <a:lnTo>
                  <a:pt x="1339" y="1058"/>
                </a:lnTo>
                <a:lnTo>
                  <a:pt x="1342" y="1065"/>
                </a:lnTo>
                <a:lnTo>
                  <a:pt x="1348" y="1071"/>
                </a:lnTo>
                <a:lnTo>
                  <a:pt x="1355" y="1078"/>
                </a:lnTo>
                <a:lnTo>
                  <a:pt x="1372" y="1089"/>
                </a:lnTo>
                <a:lnTo>
                  <a:pt x="1410" y="1109"/>
                </a:lnTo>
                <a:lnTo>
                  <a:pt x="1430" y="1122"/>
                </a:lnTo>
                <a:lnTo>
                  <a:pt x="1429" y="1125"/>
                </a:lnTo>
                <a:lnTo>
                  <a:pt x="1429" y="1131"/>
                </a:lnTo>
                <a:lnTo>
                  <a:pt x="1424" y="1144"/>
                </a:lnTo>
                <a:lnTo>
                  <a:pt x="1421" y="1157"/>
                </a:lnTo>
                <a:lnTo>
                  <a:pt x="1421" y="1158"/>
                </a:lnTo>
                <a:lnTo>
                  <a:pt x="1419" y="1158"/>
                </a:lnTo>
                <a:lnTo>
                  <a:pt x="1411" y="1158"/>
                </a:lnTo>
                <a:lnTo>
                  <a:pt x="1395" y="1158"/>
                </a:lnTo>
                <a:lnTo>
                  <a:pt x="1379" y="1158"/>
                </a:lnTo>
                <a:lnTo>
                  <a:pt x="1378" y="1158"/>
                </a:lnTo>
                <a:lnTo>
                  <a:pt x="1384" y="1165"/>
                </a:lnTo>
                <a:lnTo>
                  <a:pt x="1392" y="1177"/>
                </a:lnTo>
                <a:lnTo>
                  <a:pt x="1395" y="1187"/>
                </a:lnTo>
                <a:lnTo>
                  <a:pt x="1397" y="1196"/>
                </a:lnTo>
                <a:lnTo>
                  <a:pt x="1395" y="1203"/>
                </a:lnTo>
                <a:lnTo>
                  <a:pt x="1397" y="1212"/>
                </a:lnTo>
                <a:lnTo>
                  <a:pt x="1400" y="1216"/>
                </a:lnTo>
                <a:lnTo>
                  <a:pt x="1397" y="1218"/>
                </a:lnTo>
                <a:lnTo>
                  <a:pt x="1394" y="1218"/>
                </a:lnTo>
                <a:lnTo>
                  <a:pt x="1385" y="1216"/>
                </a:lnTo>
                <a:lnTo>
                  <a:pt x="1363" y="1215"/>
                </a:lnTo>
                <a:lnTo>
                  <a:pt x="1346" y="1212"/>
                </a:lnTo>
                <a:lnTo>
                  <a:pt x="1343" y="1212"/>
                </a:lnTo>
                <a:lnTo>
                  <a:pt x="1340" y="1210"/>
                </a:lnTo>
                <a:lnTo>
                  <a:pt x="1337" y="1207"/>
                </a:lnTo>
                <a:lnTo>
                  <a:pt x="1332" y="1202"/>
                </a:lnTo>
                <a:lnTo>
                  <a:pt x="1320" y="1186"/>
                </a:lnTo>
                <a:lnTo>
                  <a:pt x="1314" y="1177"/>
                </a:lnTo>
                <a:lnTo>
                  <a:pt x="1308" y="1175"/>
                </a:lnTo>
                <a:lnTo>
                  <a:pt x="1304" y="1174"/>
                </a:lnTo>
                <a:lnTo>
                  <a:pt x="1297" y="1174"/>
                </a:lnTo>
                <a:lnTo>
                  <a:pt x="1290" y="1174"/>
                </a:lnTo>
                <a:lnTo>
                  <a:pt x="1272" y="1178"/>
                </a:lnTo>
                <a:lnTo>
                  <a:pt x="1232" y="1193"/>
                </a:lnTo>
                <a:lnTo>
                  <a:pt x="1137" y="1219"/>
                </a:lnTo>
                <a:lnTo>
                  <a:pt x="1078" y="1204"/>
                </a:lnTo>
                <a:lnTo>
                  <a:pt x="1078" y="1200"/>
                </a:lnTo>
                <a:lnTo>
                  <a:pt x="1078" y="1194"/>
                </a:lnTo>
                <a:lnTo>
                  <a:pt x="1078" y="1189"/>
                </a:lnTo>
                <a:lnTo>
                  <a:pt x="1072" y="1175"/>
                </a:lnTo>
                <a:lnTo>
                  <a:pt x="1065" y="1161"/>
                </a:lnTo>
                <a:lnTo>
                  <a:pt x="1049" y="1136"/>
                </a:lnTo>
                <a:lnTo>
                  <a:pt x="1048" y="1131"/>
                </a:lnTo>
                <a:lnTo>
                  <a:pt x="1048" y="1131"/>
                </a:lnTo>
                <a:close/>
                <a:moveTo>
                  <a:pt x="1434" y="1203"/>
                </a:moveTo>
                <a:lnTo>
                  <a:pt x="1445" y="1200"/>
                </a:lnTo>
                <a:lnTo>
                  <a:pt x="1463" y="1194"/>
                </a:lnTo>
                <a:lnTo>
                  <a:pt x="1475" y="1189"/>
                </a:lnTo>
                <a:lnTo>
                  <a:pt x="1482" y="1181"/>
                </a:lnTo>
                <a:lnTo>
                  <a:pt x="1489" y="1168"/>
                </a:lnTo>
                <a:lnTo>
                  <a:pt x="1498" y="1147"/>
                </a:lnTo>
                <a:lnTo>
                  <a:pt x="1504" y="1131"/>
                </a:lnTo>
                <a:lnTo>
                  <a:pt x="1514" y="1133"/>
                </a:lnTo>
                <a:lnTo>
                  <a:pt x="1524" y="1138"/>
                </a:lnTo>
                <a:lnTo>
                  <a:pt x="1534" y="1145"/>
                </a:lnTo>
                <a:lnTo>
                  <a:pt x="1543" y="1154"/>
                </a:lnTo>
                <a:lnTo>
                  <a:pt x="1559" y="1175"/>
                </a:lnTo>
                <a:lnTo>
                  <a:pt x="1581" y="1212"/>
                </a:lnTo>
                <a:lnTo>
                  <a:pt x="1588" y="1218"/>
                </a:lnTo>
                <a:lnTo>
                  <a:pt x="1576" y="1219"/>
                </a:lnTo>
                <a:lnTo>
                  <a:pt x="1552" y="1220"/>
                </a:lnTo>
                <a:lnTo>
                  <a:pt x="1495" y="1219"/>
                </a:lnTo>
                <a:lnTo>
                  <a:pt x="1445" y="1209"/>
                </a:lnTo>
                <a:lnTo>
                  <a:pt x="1434" y="1203"/>
                </a:lnTo>
                <a:lnTo>
                  <a:pt x="1434" y="1203"/>
                </a:lnTo>
                <a:close/>
                <a:moveTo>
                  <a:pt x="1491" y="822"/>
                </a:moveTo>
                <a:lnTo>
                  <a:pt x="1498" y="823"/>
                </a:lnTo>
                <a:lnTo>
                  <a:pt x="1510" y="825"/>
                </a:lnTo>
                <a:lnTo>
                  <a:pt x="1517" y="826"/>
                </a:lnTo>
                <a:lnTo>
                  <a:pt x="1518" y="828"/>
                </a:lnTo>
                <a:lnTo>
                  <a:pt x="1520" y="831"/>
                </a:lnTo>
                <a:lnTo>
                  <a:pt x="1521" y="834"/>
                </a:lnTo>
                <a:lnTo>
                  <a:pt x="1521" y="836"/>
                </a:lnTo>
                <a:lnTo>
                  <a:pt x="1523" y="848"/>
                </a:lnTo>
                <a:lnTo>
                  <a:pt x="1523" y="854"/>
                </a:lnTo>
                <a:lnTo>
                  <a:pt x="1520" y="857"/>
                </a:lnTo>
                <a:lnTo>
                  <a:pt x="1516" y="865"/>
                </a:lnTo>
                <a:lnTo>
                  <a:pt x="1504" y="889"/>
                </a:lnTo>
                <a:lnTo>
                  <a:pt x="1498" y="909"/>
                </a:lnTo>
                <a:lnTo>
                  <a:pt x="1498" y="912"/>
                </a:lnTo>
                <a:lnTo>
                  <a:pt x="1501" y="915"/>
                </a:lnTo>
                <a:lnTo>
                  <a:pt x="1505" y="915"/>
                </a:lnTo>
                <a:lnTo>
                  <a:pt x="1516" y="916"/>
                </a:lnTo>
                <a:lnTo>
                  <a:pt x="1524" y="915"/>
                </a:lnTo>
                <a:lnTo>
                  <a:pt x="1533" y="916"/>
                </a:lnTo>
                <a:lnTo>
                  <a:pt x="1539" y="919"/>
                </a:lnTo>
                <a:lnTo>
                  <a:pt x="1542" y="925"/>
                </a:lnTo>
                <a:lnTo>
                  <a:pt x="1543" y="925"/>
                </a:lnTo>
                <a:lnTo>
                  <a:pt x="1543" y="932"/>
                </a:lnTo>
                <a:lnTo>
                  <a:pt x="1542" y="951"/>
                </a:lnTo>
                <a:lnTo>
                  <a:pt x="1542" y="965"/>
                </a:lnTo>
                <a:lnTo>
                  <a:pt x="1543" y="965"/>
                </a:lnTo>
                <a:lnTo>
                  <a:pt x="1542" y="971"/>
                </a:lnTo>
                <a:lnTo>
                  <a:pt x="1539" y="974"/>
                </a:lnTo>
                <a:lnTo>
                  <a:pt x="1536" y="977"/>
                </a:lnTo>
                <a:lnTo>
                  <a:pt x="1533" y="980"/>
                </a:lnTo>
                <a:lnTo>
                  <a:pt x="1526" y="984"/>
                </a:lnTo>
                <a:lnTo>
                  <a:pt x="1517" y="989"/>
                </a:lnTo>
                <a:lnTo>
                  <a:pt x="1508" y="993"/>
                </a:lnTo>
                <a:lnTo>
                  <a:pt x="1503" y="999"/>
                </a:lnTo>
                <a:lnTo>
                  <a:pt x="1503" y="999"/>
                </a:lnTo>
                <a:lnTo>
                  <a:pt x="1500" y="1002"/>
                </a:lnTo>
                <a:lnTo>
                  <a:pt x="1498" y="1005"/>
                </a:lnTo>
                <a:lnTo>
                  <a:pt x="1495" y="1013"/>
                </a:lnTo>
                <a:lnTo>
                  <a:pt x="1488" y="1032"/>
                </a:lnTo>
                <a:lnTo>
                  <a:pt x="1474" y="1041"/>
                </a:lnTo>
                <a:lnTo>
                  <a:pt x="1468" y="1031"/>
                </a:lnTo>
                <a:lnTo>
                  <a:pt x="1455" y="1012"/>
                </a:lnTo>
                <a:lnTo>
                  <a:pt x="1426" y="978"/>
                </a:lnTo>
                <a:lnTo>
                  <a:pt x="1391" y="949"/>
                </a:lnTo>
                <a:lnTo>
                  <a:pt x="1382" y="942"/>
                </a:lnTo>
                <a:lnTo>
                  <a:pt x="1381" y="936"/>
                </a:lnTo>
                <a:lnTo>
                  <a:pt x="1382" y="926"/>
                </a:lnTo>
                <a:lnTo>
                  <a:pt x="1382" y="919"/>
                </a:lnTo>
                <a:lnTo>
                  <a:pt x="1385" y="916"/>
                </a:lnTo>
                <a:lnTo>
                  <a:pt x="1391" y="912"/>
                </a:lnTo>
                <a:lnTo>
                  <a:pt x="1400" y="906"/>
                </a:lnTo>
                <a:lnTo>
                  <a:pt x="1405" y="900"/>
                </a:lnTo>
                <a:lnTo>
                  <a:pt x="1417" y="902"/>
                </a:lnTo>
                <a:lnTo>
                  <a:pt x="1430" y="903"/>
                </a:lnTo>
                <a:lnTo>
                  <a:pt x="1433" y="906"/>
                </a:lnTo>
                <a:lnTo>
                  <a:pt x="1430" y="910"/>
                </a:lnTo>
                <a:lnTo>
                  <a:pt x="1430" y="913"/>
                </a:lnTo>
                <a:lnTo>
                  <a:pt x="1437" y="916"/>
                </a:lnTo>
                <a:lnTo>
                  <a:pt x="1446" y="916"/>
                </a:lnTo>
                <a:lnTo>
                  <a:pt x="1445" y="910"/>
                </a:lnTo>
                <a:lnTo>
                  <a:pt x="1442" y="905"/>
                </a:lnTo>
                <a:lnTo>
                  <a:pt x="1434" y="887"/>
                </a:lnTo>
                <a:lnTo>
                  <a:pt x="1429" y="870"/>
                </a:lnTo>
                <a:lnTo>
                  <a:pt x="1426" y="854"/>
                </a:lnTo>
                <a:lnTo>
                  <a:pt x="1427" y="847"/>
                </a:lnTo>
                <a:lnTo>
                  <a:pt x="1432" y="842"/>
                </a:lnTo>
                <a:lnTo>
                  <a:pt x="1439" y="838"/>
                </a:lnTo>
                <a:lnTo>
                  <a:pt x="1449" y="836"/>
                </a:lnTo>
                <a:lnTo>
                  <a:pt x="1450" y="836"/>
                </a:lnTo>
                <a:lnTo>
                  <a:pt x="1453" y="839"/>
                </a:lnTo>
                <a:lnTo>
                  <a:pt x="1456" y="841"/>
                </a:lnTo>
                <a:lnTo>
                  <a:pt x="1461" y="842"/>
                </a:lnTo>
                <a:lnTo>
                  <a:pt x="1468" y="844"/>
                </a:lnTo>
                <a:lnTo>
                  <a:pt x="1475" y="845"/>
                </a:lnTo>
                <a:lnTo>
                  <a:pt x="1479" y="848"/>
                </a:lnTo>
                <a:lnTo>
                  <a:pt x="1481" y="852"/>
                </a:lnTo>
                <a:lnTo>
                  <a:pt x="1479" y="855"/>
                </a:lnTo>
                <a:lnTo>
                  <a:pt x="1479" y="852"/>
                </a:lnTo>
                <a:lnTo>
                  <a:pt x="1479" y="845"/>
                </a:lnTo>
                <a:lnTo>
                  <a:pt x="1481" y="834"/>
                </a:lnTo>
                <a:lnTo>
                  <a:pt x="1482" y="829"/>
                </a:lnTo>
                <a:lnTo>
                  <a:pt x="1487" y="825"/>
                </a:lnTo>
                <a:lnTo>
                  <a:pt x="1491" y="822"/>
                </a:lnTo>
                <a:lnTo>
                  <a:pt x="1491" y="822"/>
                </a:lnTo>
                <a:close/>
                <a:moveTo>
                  <a:pt x="1562" y="826"/>
                </a:moveTo>
                <a:lnTo>
                  <a:pt x="1569" y="820"/>
                </a:lnTo>
                <a:lnTo>
                  <a:pt x="1578" y="818"/>
                </a:lnTo>
                <a:lnTo>
                  <a:pt x="1587" y="816"/>
                </a:lnTo>
                <a:lnTo>
                  <a:pt x="1594" y="815"/>
                </a:lnTo>
                <a:lnTo>
                  <a:pt x="1603" y="816"/>
                </a:lnTo>
                <a:lnTo>
                  <a:pt x="1617" y="822"/>
                </a:lnTo>
                <a:lnTo>
                  <a:pt x="1627" y="828"/>
                </a:lnTo>
                <a:lnTo>
                  <a:pt x="1631" y="831"/>
                </a:lnTo>
                <a:lnTo>
                  <a:pt x="1633" y="834"/>
                </a:lnTo>
                <a:lnTo>
                  <a:pt x="1633" y="834"/>
                </a:lnTo>
                <a:lnTo>
                  <a:pt x="1634" y="835"/>
                </a:lnTo>
                <a:lnTo>
                  <a:pt x="1637" y="836"/>
                </a:lnTo>
                <a:lnTo>
                  <a:pt x="1645" y="838"/>
                </a:lnTo>
                <a:lnTo>
                  <a:pt x="1662" y="842"/>
                </a:lnTo>
                <a:lnTo>
                  <a:pt x="1672" y="847"/>
                </a:lnTo>
                <a:lnTo>
                  <a:pt x="1672" y="861"/>
                </a:lnTo>
                <a:lnTo>
                  <a:pt x="1671" y="877"/>
                </a:lnTo>
                <a:lnTo>
                  <a:pt x="1669" y="881"/>
                </a:lnTo>
                <a:lnTo>
                  <a:pt x="1665" y="881"/>
                </a:lnTo>
                <a:lnTo>
                  <a:pt x="1662" y="881"/>
                </a:lnTo>
                <a:lnTo>
                  <a:pt x="1658" y="881"/>
                </a:lnTo>
                <a:lnTo>
                  <a:pt x="1656" y="883"/>
                </a:lnTo>
                <a:lnTo>
                  <a:pt x="1656" y="889"/>
                </a:lnTo>
                <a:lnTo>
                  <a:pt x="1655" y="896"/>
                </a:lnTo>
                <a:lnTo>
                  <a:pt x="1656" y="896"/>
                </a:lnTo>
                <a:lnTo>
                  <a:pt x="1647" y="897"/>
                </a:lnTo>
                <a:lnTo>
                  <a:pt x="1640" y="899"/>
                </a:lnTo>
                <a:lnTo>
                  <a:pt x="1633" y="903"/>
                </a:lnTo>
                <a:lnTo>
                  <a:pt x="1627" y="907"/>
                </a:lnTo>
                <a:lnTo>
                  <a:pt x="1617" y="918"/>
                </a:lnTo>
                <a:lnTo>
                  <a:pt x="1610" y="932"/>
                </a:lnTo>
                <a:lnTo>
                  <a:pt x="1605" y="949"/>
                </a:lnTo>
                <a:lnTo>
                  <a:pt x="1604" y="965"/>
                </a:lnTo>
                <a:lnTo>
                  <a:pt x="1605" y="965"/>
                </a:lnTo>
                <a:lnTo>
                  <a:pt x="1598" y="967"/>
                </a:lnTo>
                <a:lnTo>
                  <a:pt x="1591" y="967"/>
                </a:lnTo>
                <a:lnTo>
                  <a:pt x="1585" y="967"/>
                </a:lnTo>
                <a:lnTo>
                  <a:pt x="1584" y="967"/>
                </a:lnTo>
                <a:lnTo>
                  <a:pt x="1571" y="954"/>
                </a:lnTo>
                <a:lnTo>
                  <a:pt x="1555" y="931"/>
                </a:lnTo>
                <a:lnTo>
                  <a:pt x="1549" y="912"/>
                </a:lnTo>
                <a:lnTo>
                  <a:pt x="1552" y="899"/>
                </a:lnTo>
                <a:lnTo>
                  <a:pt x="1556" y="891"/>
                </a:lnTo>
                <a:lnTo>
                  <a:pt x="1560" y="887"/>
                </a:lnTo>
                <a:lnTo>
                  <a:pt x="1562" y="886"/>
                </a:lnTo>
                <a:lnTo>
                  <a:pt x="1562" y="877"/>
                </a:lnTo>
                <a:lnTo>
                  <a:pt x="1560" y="849"/>
                </a:lnTo>
                <a:lnTo>
                  <a:pt x="1560" y="828"/>
                </a:lnTo>
                <a:lnTo>
                  <a:pt x="1562" y="826"/>
                </a:lnTo>
                <a:lnTo>
                  <a:pt x="1562" y="826"/>
                </a:lnTo>
                <a:close/>
                <a:moveTo>
                  <a:pt x="2062" y="1484"/>
                </a:moveTo>
                <a:lnTo>
                  <a:pt x="2063" y="1494"/>
                </a:lnTo>
                <a:lnTo>
                  <a:pt x="2068" y="1500"/>
                </a:lnTo>
                <a:lnTo>
                  <a:pt x="2072" y="1504"/>
                </a:lnTo>
                <a:lnTo>
                  <a:pt x="2078" y="1507"/>
                </a:lnTo>
                <a:lnTo>
                  <a:pt x="2084" y="1507"/>
                </a:lnTo>
                <a:lnTo>
                  <a:pt x="2089" y="1507"/>
                </a:lnTo>
                <a:lnTo>
                  <a:pt x="2102" y="1503"/>
                </a:lnTo>
                <a:lnTo>
                  <a:pt x="2114" y="1500"/>
                </a:lnTo>
                <a:lnTo>
                  <a:pt x="2120" y="1499"/>
                </a:lnTo>
                <a:lnTo>
                  <a:pt x="2123" y="1499"/>
                </a:lnTo>
                <a:lnTo>
                  <a:pt x="2124" y="1499"/>
                </a:lnTo>
                <a:lnTo>
                  <a:pt x="2123" y="1512"/>
                </a:lnTo>
                <a:lnTo>
                  <a:pt x="2118" y="1522"/>
                </a:lnTo>
                <a:lnTo>
                  <a:pt x="2112" y="1529"/>
                </a:lnTo>
                <a:lnTo>
                  <a:pt x="2105" y="1535"/>
                </a:lnTo>
                <a:lnTo>
                  <a:pt x="2098" y="1539"/>
                </a:lnTo>
                <a:lnTo>
                  <a:pt x="2088" y="1541"/>
                </a:lnTo>
                <a:lnTo>
                  <a:pt x="2078" y="1541"/>
                </a:lnTo>
                <a:lnTo>
                  <a:pt x="2057" y="1538"/>
                </a:lnTo>
                <a:lnTo>
                  <a:pt x="2040" y="1532"/>
                </a:lnTo>
                <a:lnTo>
                  <a:pt x="2033" y="1526"/>
                </a:lnTo>
                <a:lnTo>
                  <a:pt x="2026" y="1532"/>
                </a:lnTo>
                <a:lnTo>
                  <a:pt x="2013" y="1544"/>
                </a:lnTo>
                <a:lnTo>
                  <a:pt x="1994" y="1573"/>
                </a:lnTo>
                <a:lnTo>
                  <a:pt x="1979" y="1603"/>
                </a:lnTo>
                <a:lnTo>
                  <a:pt x="1978" y="1609"/>
                </a:lnTo>
                <a:lnTo>
                  <a:pt x="1963" y="1609"/>
                </a:lnTo>
                <a:lnTo>
                  <a:pt x="1953" y="1606"/>
                </a:lnTo>
                <a:lnTo>
                  <a:pt x="1947" y="1603"/>
                </a:lnTo>
                <a:lnTo>
                  <a:pt x="1944" y="1597"/>
                </a:lnTo>
                <a:lnTo>
                  <a:pt x="1944" y="1593"/>
                </a:lnTo>
                <a:lnTo>
                  <a:pt x="1943" y="1588"/>
                </a:lnTo>
                <a:lnTo>
                  <a:pt x="1943" y="1584"/>
                </a:lnTo>
                <a:lnTo>
                  <a:pt x="1940" y="1580"/>
                </a:lnTo>
                <a:lnTo>
                  <a:pt x="1936" y="1578"/>
                </a:lnTo>
                <a:lnTo>
                  <a:pt x="1927" y="1578"/>
                </a:lnTo>
                <a:lnTo>
                  <a:pt x="1914" y="1580"/>
                </a:lnTo>
                <a:lnTo>
                  <a:pt x="1895" y="1583"/>
                </a:lnTo>
                <a:lnTo>
                  <a:pt x="1895" y="1583"/>
                </a:lnTo>
                <a:lnTo>
                  <a:pt x="1894" y="1573"/>
                </a:lnTo>
                <a:lnTo>
                  <a:pt x="1894" y="1559"/>
                </a:lnTo>
                <a:lnTo>
                  <a:pt x="1897" y="1528"/>
                </a:lnTo>
                <a:lnTo>
                  <a:pt x="1905" y="1455"/>
                </a:lnTo>
                <a:lnTo>
                  <a:pt x="1904" y="1399"/>
                </a:lnTo>
                <a:lnTo>
                  <a:pt x="1905" y="1399"/>
                </a:lnTo>
                <a:lnTo>
                  <a:pt x="1908" y="1399"/>
                </a:lnTo>
                <a:lnTo>
                  <a:pt x="1917" y="1402"/>
                </a:lnTo>
                <a:lnTo>
                  <a:pt x="1946" y="1410"/>
                </a:lnTo>
                <a:lnTo>
                  <a:pt x="2017" y="1442"/>
                </a:lnTo>
                <a:lnTo>
                  <a:pt x="2062" y="1484"/>
                </a:lnTo>
                <a:lnTo>
                  <a:pt x="2062" y="1484"/>
                </a:lnTo>
                <a:close/>
                <a:moveTo>
                  <a:pt x="2041" y="1662"/>
                </a:moveTo>
                <a:lnTo>
                  <a:pt x="2023" y="1661"/>
                </a:lnTo>
                <a:lnTo>
                  <a:pt x="2011" y="1658"/>
                </a:lnTo>
                <a:lnTo>
                  <a:pt x="2004" y="1655"/>
                </a:lnTo>
                <a:lnTo>
                  <a:pt x="2002" y="1654"/>
                </a:lnTo>
                <a:lnTo>
                  <a:pt x="2001" y="1651"/>
                </a:lnTo>
                <a:lnTo>
                  <a:pt x="2001" y="1648"/>
                </a:lnTo>
                <a:lnTo>
                  <a:pt x="2001" y="1645"/>
                </a:lnTo>
                <a:lnTo>
                  <a:pt x="2002" y="1642"/>
                </a:lnTo>
                <a:lnTo>
                  <a:pt x="2005" y="1636"/>
                </a:lnTo>
                <a:lnTo>
                  <a:pt x="2010" y="1629"/>
                </a:lnTo>
                <a:lnTo>
                  <a:pt x="2021" y="1610"/>
                </a:lnTo>
                <a:lnTo>
                  <a:pt x="2027" y="1588"/>
                </a:lnTo>
                <a:lnTo>
                  <a:pt x="2028" y="1581"/>
                </a:lnTo>
                <a:lnTo>
                  <a:pt x="2031" y="1581"/>
                </a:lnTo>
                <a:lnTo>
                  <a:pt x="2036" y="1578"/>
                </a:lnTo>
                <a:lnTo>
                  <a:pt x="2039" y="1575"/>
                </a:lnTo>
                <a:lnTo>
                  <a:pt x="2047" y="1568"/>
                </a:lnTo>
                <a:lnTo>
                  <a:pt x="2055" y="1562"/>
                </a:lnTo>
                <a:lnTo>
                  <a:pt x="2060" y="1561"/>
                </a:lnTo>
                <a:lnTo>
                  <a:pt x="2066" y="1561"/>
                </a:lnTo>
                <a:lnTo>
                  <a:pt x="2073" y="1564"/>
                </a:lnTo>
                <a:lnTo>
                  <a:pt x="2081" y="1570"/>
                </a:lnTo>
                <a:lnTo>
                  <a:pt x="2089" y="1577"/>
                </a:lnTo>
                <a:lnTo>
                  <a:pt x="2091" y="1577"/>
                </a:lnTo>
                <a:lnTo>
                  <a:pt x="2089" y="1587"/>
                </a:lnTo>
                <a:lnTo>
                  <a:pt x="2085" y="1603"/>
                </a:lnTo>
                <a:lnTo>
                  <a:pt x="2078" y="1616"/>
                </a:lnTo>
                <a:lnTo>
                  <a:pt x="2068" y="1628"/>
                </a:lnTo>
                <a:lnTo>
                  <a:pt x="2046" y="1655"/>
                </a:lnTo>
                <a:lnTo>
                  <a:pt x="2041" y="1662"/>
                </a:lnTo>
                <a:lnTo>
                  <a:pt x="2041" y="1662"/>
                </a:lnTo>
                <a:close/>
                <a:moveTo>
                  <a:pt x="2183" y="1658"/>
                </a:moveTo>
                <a:lnTo>
                  <a:pt x="2176" y="1655"/>
                </a:lnTo>
                <a:lnTo>
                  <a:pt x="2165" y="1648"/>
                </a:lnTo>
                <a:lnTo>
                  <a:pt x="2155" y="1638"/>
                </a:lnTo>
                <a:lnTo>
                  <a:pt x="2149" y="1626"/>
                </a:lnTo>
                <a:lnTo>
                  <a:pt x="2149" y="1613"/>
                </a:lnTo>
                <a:lnTo>
                  <a:pt x="2157" y="1599"/>
                </a:lnTo>
                <a:lnTo>
                  <a:pt x="2165" y="1590"/>
                </a:lnTo>
                <a:lnTo>
                  <a:pt x="2166" y="1590"/>
                </a:lnTo>
                <a:lnTo>
                  <a:pt x="2168" y="1590"/>
                </a:lnTo>
                <a:lnTo>
                  <a:pt x="2170" y="1588"/>
                </a:lnTo>
                <a:lnTo>
                  <a:pt x="2172" y="1586"/>
                </a:lnTo>
                <a:lnTo>
                  <a:pt x="2173" y="1583"/>
                </a:lnTo>
                <a:lnTo>
                  <a:pt x="2176" y="1581"/>
                </a:lnTo>
                <a:lnTo>
                  <a:pt x="2181" y="1588"/>
                </a:lnTo>
                <a:lnTo>
                  <a:pt x="2183" y="1594"/>
                </a:lnTo>
                <a:lnTo>
                  <a:pt x="2186" y="1600"/>
                </a:lnTo>
                <a:lnTo>
                  <a:pt x="2188" y="1613"/>
                </a:lnTo>
                <a:lnTo>
                  <a:pt x="2186" y="1628"/>
                </a:lnTo>
                <a:lnTo>
                  <a:pt x="2183" y="1652"/>
                </a:lnTo>
                <a:lnTo>
                  <a:pt x="2183" y="1658"/>
                </a:lnTo>
                <a:lnTo>
                  <a:pt x="2183" y="1658"/>
                </a:lnTo>
                <a:close/>
                <a:moveTo>
                  <a:pt x="2150" y="1148"/>
                </a:moveTo>
                <a:lnTo>
                  <a:pt x="2150" y="1154"/>
                </a:lnTo>
                <a:lnTo>
                  <a:pt x="2150" y="1162"/>
                </a:lnTo>
                <a:lnTo>
                  <a:pt x="2155" y="1174"/>
                </a:lnTo>
                <a:lnTo>
                  <a:pt x="2156" y="1196"/>
                </a:lnTo>
                <a:lnTo>
                  <a:pt x="2157" y="1203"/>
                </a:lnTo>
                <a:lnTo>
                  <a:pt x="2156" y="1204"/>
                </a:lnTo>
                <a:lnTo>
                  <a:pt x="2150" y="1207"/>
                </a:lnTo>
                <a:lnTo>
                  <a:pt x="2128" y="1218"/>
                </a:lnTo>
                <a:lnTo>
                  <a:pt x="2111" y="1226"/>
                </a:lnTo>
                <a:lnTo>
                  <a:pt x="2111" y="1226"/>
                </a:lnTo>
                <a:lnTo>
                  <a:pt x="2104" y="1220"/>
                </a:lnTo>
                <a:lnTo>
                  <a:pt x="2097" y="1204"/>
                </a:lnTo>
                <a:lnTo>
                  <a:pt x="2094" y="1190"/>
                </a:lnTo>
                <a:lnTo>
                  <a:pt x="2095" y="1174"/>
                </a:lnTo>
                <a:lnTo>
                  <a:pt x="2099" y="1160"/>
                </a:lnTo>
                <a:lnTo>
                  <a:pt x="2107" y="1144"/>
                </a:lnTo>
                <a:lnTo>
                  <a:pt x="2111" y="1136"/>
                </a:lnTo>
                <a:lnTo>
                  <a:pt x="2115" y="1138"/>
                </a:lnTo>
                <a:lnTo>
                  <a:pt x="2124" y="1138"/>
                </a:lnTo>
                <a:lnTo>
                  <a:pt x="2133" y="1141"/>
                </a:lnTo>
                <a:lnTo>
                  <a:pt x="2144" y="1147"/>
                </a:lnTo>
                <a:lnTo>
                  <a:pt x="2150" y="1148"/>
                </a:lnTo>
                <a:lnTo>
                  <a:pt x="2150" y="1148"/>
                </a:lnTo>
                <a:close/>
                <a:moveTo>
                  <a:pt x="1820" y="816"/>
                </a:moveTo>
                <a:lnTo>
                  <a:pt x="1818" y="818"/>
                </a:lnTo>
                <a:lnTo>
                  <a:pt x="1821" y="822"/>
                </a:lnTo>
                <a:lnTo>
                  <a:pt x="1827" y="828"/>
                </a:lnTo>
                <a:lnTo>
                  <a:pt x="1849" y="844"/>
                </a:lnTo>
                <a:lnTo>
                  <a:pt x="1901" y="877"/>
                </a:lnTo>
                <a:lnTo>
                  <a:pt x="1921" y="889"/>
                </a:lnTo>
                <a:lnTo>
                  <a:pt x="1920" y="893"/>
                </a:lnTo>
                <a:lnTo>
                  <a:pt x="1918" y="902"/>
                </a:lnTo>
                <a:lnTo>
                  <a:pt x="1917" y="907"/>
                </a:lnTo>
                <a:lnTo>
                  <a:pt x="1917" y="909"/>
                </a:lnTo>
                <a:lnTo>
                  <a:pt x="1918" y="907"/>
                </a:lnTo>
                <a:lnTo>
                  <a:pt x="1926" y="900"/>
                </a:lnTo>
                <a:lnTo>
                  <a:pt x="1933" y="893"/>
                </a:lnTo>
                <a:lnTo>
                  <a:pt x="1937" y="894"/>
                </a:lnTo>
                <a:lnTo>
                  <a:pt x="1946" y="896"/>
                </a:lnTo>
                <a:lnTo>
                  <a:pt x="1955" y="900"/>
                </a:lnTo>
                <a:lnTo>
                  <a:pt x="1966" y="907"/>
                </a:lnTo>
                <a:lnTo>
                  <a:pt x="1975" y="909"/>
                </a:lnTo>
                <a:lnTo>
                  <a:pt x="1975" y="903"/>
                </a:lnTo>
                <a:lnTo>
                  <a:pt x="1975" y="891"/>
                </a:lnTo>
                <a:lnTo>
                  <a:pt x="1981" y="867"/>
                </a:lnTo>
                <a:lnTo>
                  <a:pt x="1991" y="847"/>
                </a:lnTo>
                <a:lnTo>
                  <a:pt x="1995" y="842"/>
                </a:lnTo>
                <a:lnTo>
                  <a:pt x="2002" y="847"/>
                </a:lnTo>
                <a:lnTo>
                  <a:pt x="2017" y="854"/>
                </a:lnTo>
                <a:lnTo>
                  <a:pt x="2040" y="871"/>
                </a:lnTo>
                <a:lnTo>
                  <a:pt x="2047" y="881"/>
                </a:lnTo>
                <a:lnTo>
                  <a:pt x="2052" y="894"/>
                </a:lnTo>
                <a:lnTo>
                  <a:pt x="2053" y="900"/>
                </a:lnTo>
                <a:lnTo>
                  <a:pt x="2055" y="899"/>
                </a:lnTo>
                <a:lnTo>
                  <a:pt x="2059" y="894"/>
                </a:lnTo>
                <a:lnTo>
                  <a:pt x="2062" y="890"/>
                </a:lnTo>
                <a:lnTo>
                  <a:pt x="2063" y="889"/>
                </a:lnTo>
                <a:lnTo>
                  <a:pt x="2066" y="889"/>
                </a:lnTo>
                <a:lnTo>
                  <a:pt x="2079" y="889"/>
                </a:lnTo>
                <a:lnTo>
                  <a:pt x="2089" y="889"/>
                </a:lnTo>
                <a:lnTo>
                  <a:pt x="2091" y="889"/>
                </a:lnTo>
                <a:lnTo>
                  <a:pt x="2091" y="890"/>
                </a:lnTo>
                <a:lnTo>
                  <a:pt x="2094" y="897"/>
                </a:lnTo>
                <a:lnTo>
                  <a:pt x="2102" y="920"/>
                </a:lnTo>
                <a:lnTo>
                  <a:pt x="2108" y="939"/>
                </a:lnTo>
                <a:lnTo>
                  <a:pt x="2110" y="939"/>
                </a:lnTo>
                <a:lnTo>
                  <a:pt x="2110" y="932"/>
                </a:lnTo>
                <a:lnTo>
                  <a:pt x="2110" y="920"/>
                </a:lnTo>
                <a:lnTo>
                  <a:pt x="2112" y="899"/>
                </a:lnTo>
                <a:lnTo>
                  <a:pt x="2121" y="881"/>
                </a:lnTo>
                <a:lnTo>
                  <a:pt x="2126" y="877"/>
                </a:lnTo>
                <a:lnTo>
                  <a:pt x="2128" y="880"/>
                </a:lnTo>
                <a:lnTo>
                  <a:pt x="2134" y="883"/>
                </a:lnTo>
                <a:lnTo>
                  <a:pt x="2147" y="891"/>
                </a:lnTo>
                <a:lnTo>
                  <a:pt x="2157" y="899"/>
                </a:lnTo>
                <a:lnTo>
                  <a:pt x="2160" y="900"/>
                </a:lnTo>
                <a:lnTo>
                  <a:pt x="2159" y="902"/>
                </a:lnTo>
                <a:lnTo>
                  <a:pt x="2156" y="909"/>
                </a:lnTo>
                <a:lnTo>
                  <a:pt x="2143" y="932"/>
                </a:lnTo>
                <a:lnTo>
                  <a:pt x="2133" y="949"/>
                </a:lnTo>
                <a:lnTo>
                  <a:pt x="2133" y="949"/>
                </a:lnTo>
                <a:lnTo>
                  <a:pt x="2139" y="945"/>
                </a:lnTo>
                <a:lnTo>
                  <a:pt x="2159" y="929"/>
                </a:lnTo>
                <a:lnTo>
                  <a:pt x="2175" y="916"/>
                </a:lnTo>
                <a:lnTo>
                  <a:pt x="2176" y="915"/>
                </a:lnTo>
                <a:lnTo>
                  <a:pt x="2175" y="916"/>
                </a:lnTo>
                <a:lnTo>
                  <a:pt x="2173" y="918"/>
                </a:lnTo>
                <a:lnTo>
                  <a:pt x="2170" y="920"/>
                </a:lnTo>
                <a:lnTo>
                  <a:pt x="2166" y="928"/>
                </a:lnTo>
                <a:lnTo>
                  <a:pt x="2160" y="949"/>
                </a:lnTo>
                <a:lnTo>
                  <a:pt x="2163" y="967"/>
                </a:lnTo>
                <a:lnTo>
                  <a:pt x="2166" y="965"/>
                </a:lnTo>
                <a:lnTo>
                  <a:pt x="2178" y="955"/>
                </a:lnTo>
                <a:lnTo>
                  <a:pt x="2212" y="929"/>
                </a:lnTo>
                <a:lnTo>
                  <a:pt x="2230" y="919"/>
                </a:lnTo>
                <a:lnTo>
                  <a:pt x="2236" y="916"/>
                </a:lnTo>
                <a:lnTo>
                  <a:pt x="2241" y="916"/>
                </a:lnTo>
                <a:lnTo>
                  <a:pt x="2244" y="916"/>
                </a:lnTo>
                <a:lnTo>
                  <a:pt x="2246" y="916"/>
                </a:lnTo>
                <a:lnTo>
                  <a:pt x="2244" y="923"/>
                </a:lnTo>
                <a:lnTo>
                  <a:pt x="2244" y="935"/>
                </a:lnTo>
                <a:lnTo>
                  <a:pt x="2240" y="957"/>
                </a:lnTo>
                <a:lnTo>
                  <a:pt x="2236" y="967"/>
                </a:lnTo>
                <a:lnTo>
                  <a:pt x="2230" y="974"/>
                </a:lnTo>
                <a:lnTo>
                  <a:pt x="2226" y="977"/>
                </a:lnTo>
                <a:lnTo>
                  <a:pt x="2230" y="976"/>
                </a:lnTo>
                <a:lnTo>
                  <a:pt x="2240" y="968"/>
                </a:lnTo>
                <a:lnTo>
                  <a:pt x="2250" y="958"/>
                </a:lnTo>
                <a:lnTo>
                  <a:pt x="2266" y="936"/>
                </a:lnTo>
                <a:lnTo>
                  <a:pt x="2276" y="920"/>
                </a:lnTo>
                <a:lnTo>
                  <a:pt x="2281" y="922"/>
                </a:lnTo>
                <a:lnTo>
                  <a:pt x="2285" y="923"/>
                </a:lnTo>
                <a:lnTo>
                  <a:pt x="2289" y="925"/>
                </a:lnTo>
                <a:lnTo>
                  <a:pt x="2294" y="928"/>
                </a:lnTo>
                <a:lnTo>
                  <a:pt x="2295" y="931"/>
                </a:lnTo>
                <a:lnTo>
                  <a:pt x="2298" y="935"/>
                </a:lnTo>
                <a:lnTo>
                  <a:pt x="2301" y="944"/>
                </a:lnTo>
                <a:lnTo>
                  <a:pt x="2302" y="952"/>
                </a:lnTo>
                <a:lnTo>
                  <a:pt x="2302" y="962"/>
                </a:lnTo>
                <a:lnTo>
                  <a:pt x="2304" y="962"/>
                </a:lnTo>
                <a:lnTo>
                  <a:pt x="2301" y="965"/>
                </a:lnTo>
                <a:lnTo>
                  <a:pt x="2295" y="971"/>
                </a:lnTo>
                <a:lnTo>
                  <a:pt x="2283" y="981"/>
                </a:lnTo>
                <a:lnTo>
                  <a:pt x="2270" y="986"/>
                </a:lnTo>
                <a:lnTo>
                  <a:pt x="2266" y="986"/>
                </a:lnTo>
                <a:lnTo>
                  <a:pt x="2270" y="987"/>
                </a:lnTo>
                <a:lnTo>
                  <a:pt x="2281" y="987"/>
                </a:lnTo>
                <a:lnTo>
                  <a:pt x="2296" y="991"/>
                </a:lnTo>
                <a:lnTo>
                  <a:pt x="2311" y="1002"/>
                </a:lnTo>
                <a:lnTo>
                  <a:pt x="2315" y="1005"/>
                </a:lnTo>
                <a:lnTo>
                  <a:pt x="2312" y="1007"/>
                </a:lnTo>
                <a:lnTo>
                  <a:pt x="2308" y="1012"/>
                </a:lnTo>
                <a:lnTo>
                  <a:pt x="2298" y="1022"/>
                </a:lnTo>
                <a:lnTo>
                  <a:pt x="2286" y="1029"/>
                </a:lnTo>
                <a:lnTo>
                  <a:pt x="2285" y="1029"/>
                </a:lnTo>
                <a:lnTo>
                  <a:pt x="2308" y="1035"/>
                </a:lnTo>
                <a:lnTo>
                  <a:pt x="2357" y="1045"/>
                </a:lnTo>
                <a:lnTo>
                  <a:pt x="2457" y="1061"/>
                </a:lnTo>
                <a:lnTo>
                  <a:pt x="2560" y="1067"/>
                </a:lnTo>
                <a:lnTo>
                  <a:pt x="2586" y="1067"/>
                </a:lnTo>
                <a:lnTo>
                  <a:pt x="2572" y="1093"/>
                </a:lnTo>
                <a:lnTo>
                  <a:pt x="2559" y="1128"/>
                </a:lnTo>
                <a:lnTo>
                  <a:pt x="2557" y="1141"/>
                </a:lnTo>
                <a:lnTo>
                  <a:pt x="2559" y="1149"/>
                </a:lnTo>
                <a:lnTo>
                  <a:pt x="2562" y="1157"/>
                </a:lnTo>
                <a:lnTo>
                  <a:pt x="2566" y="1162"/>
                </a:lnTo>
                <a:lnTo>
                  <a:pt x="2572" y="1168"/>
                </a:lnTo>
                <a:lnTo>
                  <a:pt x="2582" y="1183"/>
                </a:lnTo>
                <a:lnTo>
                  <a:pt x="2585" y="1206"/>
                </a:lnTo>
                <a:lnTo>
                  <a:pt x="2586" y="1206"/>
                </a:lnTo>
                <a:lnTo>
                  <a:pt x="2578" y="1206"/>
                </a:lnTo>
                <a:lnTo>
                  <a:pt x="2559" y="1206"/>
                </a:lnTo>
                <a:lnTo>
                  <a:pt x="2518" y="1204"/>
                </a:lnTo>
                <a:lnTo>
                  <a:pt x="2480" y="1197"/>
                </a:lnTo>
                <a:lnTo>
                  <a:pt x="2475" y="1194"/>
                </a:lnTo>
                <a:lnTo>
                  <a:pt x="2470" y="1194"/>
                </a:lnTo>
                <a:lnTo>
                  <a:pt x="2462" y="1189"/>
                </a:lnTo>
                <a:lnTo>
                  <a:pt x="2454" y="1183"/>
                </a:lnTo>
                <a:lnTo>
                  <a:pt x="2438" y="1168"/>
                </a:lnTo>
                <a:lnTo>
                  <a:pt x="2427" y="1160"/>
                </a:lnTo>
                <a:lnTo>
                  <a:pt x="2421" y="1165"/>
                </a:lnTo>
                <a:lnTo>
                  <a:pt x="2417" y="1177"/>
                </a:lnTo>
                <a:lnTo>
                  <a:pt x="2415" y="1189"/>
                </a:lnTo>
                <a:lnTo>
                  <a:pt x="2418" y="1200"/>
                </a:lnTo>
                <a:lnTo>
                  <a:pt x="2423" y="1226"/>
                </a:lnTo>
                <a:lnTo>
                  <a:pt x="2424" y="1233"/>
                </a:lnTo>
                <a:lnTo>
                  <a:pt x="2436" y="1235"/>
                </a:lnTo>
                <a:lnTo>
                  <a:pt x="2454" y="1239"/>
                </a:lnTo>
                <a:lnTo>
                  <a:pt x="2507" y="1252"/>
                </a:lnTo>
                <a:lnTo>
                  <a:pt x="2565" y="1275"/>
                </a:lnTo>
                <a:lnTo>
                  <a:pt x="2612" y="1307"/>
                </a:lnTo>
                <a:lnTo>
                  <a:pt x="2627" y="1325"/>
                </a:lnTo>
                <a:lnTo>
                  <a:pt x="2633" y="1345"/>
                </a:lnTo>
                <a:lnTo>
                  <a:pt x="2627" y="1368"/>
                </a:lnTo>
                <a:lnTo>
                  <a:pt x="2609" y="1391"/>
                </a:lnTo>
                <a:lnTo>
                  <a:pt x="2609" y="1391"/>
                </a:lnTo>
                <a:lnTo>
                  <a:pt x="2601" y="1391"/>
                </a:lnTo>
                <a:lnTo>
                  <a:pt x="2583" y="1388"/>
                </a:lnTo>
                <a:lnTo>
                  <a:pt x="2541" y="1377"/>
                </a:lnTo>
                <a:lnTo>
                  <a:pt x="2521" y="1374"/>
                </a:lnTo>
                <a:lnTo>
                  <a:pt x="2504" y="1375"/>
                </a:lnTo>
                <a:lnTo>
                  <a:pt x="2498" y="1377"/>
                </a:lnTo>
                <a:lnTo>
                  <a:pt x="2495" y="1378"/>
                </a:lnTo>
                <a:lnTo>
                  <a:pt x="2494" y="1380"/>
                </a:lnTo>
                <a:lnTo>
                  <a:pt x="2494" y="1383"/>
                </a:lnTo>
                <a:lnTo>
                  <a:pt x="2494" y="1386"/>
                </a:lnTo>
                <a:lnTo>
                  <a:pt x="2494" y="1387"/>
                </a:lnTo>
                <a:lnTo>
                  <a:pt x="2494" y="1387"/>
                </a:lnTo>
                <a:lnTo>
                  <a:pt x="2505" y="1390"/>
                </a:lnTo>
                <a:lnTo>
                  <a:pt x="2533" y="1394"/>
                </a:lnTo>
                <a:lnTo>
                  <a:pt x="2592" y="1412"/>
                </a:lnTo>
                <a:lnTo>
                  <a:pt x="2614" y="1429"/>
                </a:lnTo>
                <a:lnTo>
                  <a:pt x="2620" y="1441"/>
                </a:lnTo>
                <a:lnTo>
                  <a:pt x="2622" y="1454"/>
                </a:lnTo>
                <a:lnTo>
                  <a:pt x="2621" y="1470"/>
                </a:lnTo>
                <a:lnTo>
                  <a:pt x="2621" y="1470"/>
                </a:lnTo>
                <a:lnTo>
                  <a:pt x="2609" y="1470"/>
                </a:lnTo>
                <a:lnTo>
                  <a:pt x="2582" y="1467"/>
                </a:lnTo>
                <a:lnTo>
                  <a:pt x="2518" y="1467"/>
                </a:lnTo>
                <a:lnTo>
                  <a:pt x="2488" y="1473"/>
                </a:lnTo>
                <a:lnTo>
                  <a:pt x="2462" y="1484"/>
                </a:lnTo>
                <a:lnTo>
                  <a:pt x="2452" y="1493"/>
                </a:lnTo>
                <a:lnTo>
                  <a:pt x="2437" y="1483"/>
                </a:lnTo>
                <a:lnTo>
                  <a:pt x="2412" y="1458"/>
                </a:lnTo>
                <a:lnTo>
                  <a:pt x="2388" y="1429"/>
                </a:lnTo>
                <a:lnTo>
                  <a:pt x="2331" y="1380"/>
                </a:lnTo>
                <a:lnTo>
                  <a:pt x="2269" y="1364"/>
                </a:lnTo>
                <a:lnTo>
                  <a:pt x="2260" y="1371"/>
                </a:lnTo>
                <a:lnTo>
                  <a:pt x="2247" y="1384"/>
                </a:lnTo>
                <a:lnTo>
                  <a:pt x="2221" y="1409"/>
                </a:lnTo>
                <a:lnTo>
                  <a:pt x="2195" y="1435"/>
                </a:lnTo>
                <a:lnTo>
                  <a:pt x="2188" y="1442"/>
                </a:lnTo>
                <a:lnTo>
                  <a:pt x="2181" y="1439"/>
                </a:lnTo>
                <a:lnTo>
                  <a:pt x="2172" y="1435"/>
                </a:lnTo>
                <a:lnTo>
                  <a:pt x="2165" y="1431"/>
                </a:lnTo>
                <a:lnTo>
                  <a:pt x="2160" y="1426"/>
                </a:lnTo>
                <a:lnTo>
                  <a:pt x="2157" y="1420"/>
                </a:lnTo>
                <a:lnTo>
                  <a:pt x="2155" y="1410"/>
                </a:lnTo>
                <a:lnTo>
                  <a:pt x="2153" y="1403"/>
                </a:lnTo>
                <a:lnTo>
                  <a:pt x="2156" y="1394"/>
                </a:lnTo>
                <a:lnTo>
                  <a:pt x="2162" y="1384"/>
                </a:lnTo>
                <a:lnTo>
                  <a:pt x="2178" y="1368"/>
                </a:lnTo>
                <a:lnTo>
                  <a:pt x="2198" y="1354"/>
                </a:lnTo>
                <a:lnTo>
                  <a:pt x="2241" y="1333"/>
                </a:lnTo>
                <a:lnTo>
                  <a:pt x="2262" y="1326"/>
                </a:lnTo>
                <a:lnTo>
                  <a:pt x="2266" y="1326"/>
                </a:lnTo>
                <a:lnTo>
                  <a:pt x="2273" y="1323"/>
                </a:lnTo>
                <a:lnTo>
                  <a:pt x="2279" y="1319"/>
                </a:lnTo>
                <a:lnTo>
                  <a:pt x="2282" y="1313"/>
                </a:lnTo>
                <a:lnTo>
                  <a:pt x="2283" y="1307"/>
                </a:lnTo>
                <a:lnTo>
                  <a:pt x="2283" y="1300"/>
                </a:lnTo>
                <a:lnTo>
                  <a:pt x="2285" y="1296"/>
                </a:lnTo>
                <a:lnTo>
                  <a:pt x="2279" y="1294"/>
                </a:lnTo>
                <a:lnTo>
                  <a:pt x="2270" y="1289"/>
                </a:lnTo>
                <a:lnTo>
                  <a:pt x="2254" y="1273"/>
                </a:lnTo>
                <a:lnTo>
                  <a:pt x="2246" y="1252"/>
                </a:lnTo>
                <a:lnTo>
                  <a:pt x="2246" y="1245"/>
                </a:lnTo>
                <a:lnTo>
                  <a:pt x="2249" y="1242"/>
                </a:lnTo>
                <a:lnTo>
                  <a:pt x="2254" y="1235"/>
                </a:lnTo>
                <a:lnTo>
                  <a:pt x="2269" y="1223"/>
                </a:lnTo>
                <a:lnTo>
                  <a:pt x="2292" y="1219"/>
                </a:lnTo>
                <a:lnTo>
                  <a:pt x="2301" y="1218"/>
                </a:lnTo>
                <a:lnTo>
                  <a:pt x="2305" y="1223"/>
                </a:lnTo>
                <a:lnTo>
                  <a:pt x="2317" y="1231"/>
                </a:lnTo>
                <a:lnTo>
                  <a:pt x="2328" y="1233"/>
                </a:lnTo>
                <a:lnTo>
                  <a:pt x="2339" y="1235"/>
                </a:lnTo>
                <a:lnTo>
                  <a:pt x="2350" y="1235"/>
                </a:lnTo>
                <a:lnTo>
                  <a:pt x="2362" y="1235"/>
                </a:lnTo>
                <a:lnTo>
                  <a:pt x="2369" y="1233"/>
                </a:lnTo>
                <a:lnTo>
                  <a:pt x="2372" y="1231"/>
                </a:lnTo>
                <a:lnTo>
                  <a:pt x="2375" y="1223"/>
                </a:lnTo>
                <a:lnTo>
                  <a:pt x="2378" y="1216"/>
                </a:lnTo>
                <a:lnTo>
                  <a:pt x="2378" y="1209"/>
                </a:lnTo>
                <a:lnTo>
                  <a:pt x="2378" y="1194"/>
                </a:lnTo>
                <a:lnTo>
                  <a:pt x="2378" y="1190"/>
                </a:lnTo>
                <a:lnTo>
                  <a:pt x="2370" y="1191"/>
                </a:lnTo>
                <a:lnTo>
                  <a:pt x="2357" y="1191"/>
                </a:lnTo>
                <a:lnTo>
                  <a:pt x="2331" y="1194"/>
                </a:lnTo>
                <a:lnTo>
                  <a:pt x="2307" y="1199"/>
                </a:lnTo>
                <a:lnTo>
                  <a:pt x="2301" y="1199"/>
                </a:lnTo>
                <a:lnTo>
                  <a:pt x="2294" y="1200"/>
                </a:lnTo>
                <a:lnTo>
                  <a:pt x="2279" y="1202"/>
                </a:lnTo>
                <a:lnTo>
                  <a:pt x="2246" y="1197"/>
                </a:lnTo>
                <a:lnTo>
                  <a:pt x="2220" y="1187"/>
                </a:lnTo>
                <a:lnTo>
                  <a:pt x="2215" y="1183"/>
                </a:lnTo>
                <a:lnTo>
                  <a:pt x="2214" y="1177"/>
                </a:lnTo>
                <a:lnTo>
                  <a:pt x="2211" y="1170"/>
                </a:lnTo>
                <a:lnTo>
                  <a:pt x="2204" y="1155"/>
                </a:lnTo>
                <a:lnTo>
                  <a:pt x="2195" y="1141"/>
                </a:lnTo>
                <a:lnTo>
                  <a:pt x="2178" y="1118"/>
                </a:lnTo>
                <a:lnTo>
                  <a:pt x="2176" y="1110"/>
                </a:lnTo>
                <a:lnTo>
                  <a:pt x="2168" y="1107"/>
                </a:lnTo>
                <a:lnTo>
                  <a:pt x="2160" y="1104"/>
                </a:lnTo>
                <a:lnTo>
                  <a:pt x="2144" y="1093"/>
                </a:lnTo>
                <a:lnTo>
                  <a:pt x="2128" y="1083"/>
                </a:lnTo>
                <a:lnTo>
                  <a:pt x="2112" y="1077"/>
                </a:lnTo>
                <a:lnTo>
                  <a:pt x="2095" y="1078"/>
                </a:lnTo>
                <a:lnTo>
                  <a:pt x="2076" y="1090"/>
                </a:lnTo>
                <a:lnTo>
                  <a:pt x="2076" y="1090"/>
                </a:lnTo>
                <a:lnTo>
                  <a:pt x="2076" y="1076"/>
                </a:lnTo>
                <a:lnTo>
                  <a:pt x="2075" y="1051"/>
                </a:lnTo>
                <a:lnTo>
                  <a:pt x="2069" y="1035"/>
                </a:lnTo>
                <a:lnTo>
                  <a:pt x="2057" y="1022"/>
                </a:lnTo>
                <a:lnTo>
                  <a:pt x="2039" y="1009"/>
                </a:lnTo>
                <a:lnTo>
                  <a:pt x="2015" y="994"/>
                </a:lnTo>
                <a:lnTo>
                  <a:pt x="2002" y="986"/>
                </a:lnTo>
                <a:lnTo>
                  <a:pt x="2001" y="987"/>
                </a:lnTo>
                <a:lnTo>
                  <a:pt x="1998" y="991"/>
                </a:lnTo>
                <a:lnTo>
                  <a:pt x="1994" y="1002"/>
                </a:lnTo>
                <a:lnTo>
                  <a:pt x="1991" y="1012"/>
                </a:lnTo>
                <a:lnTo>
                  <a:pt x="1991" y="1013"/>
                </a:lnTo>
                <a:lnTo>
                  <a:pt x="1994" y="1018"/>
                </a:lnTo>
                <a:lnTo>
                  <a:pt x="1999" y="1023"/>
                </a:lnTo>
                <a:lnTo>
                  <a:pt x="2011" y="1041"/>
                </a:lnTo>
                <a:lnTo>
                  <a:pt x="2017" y="1058"/>
                </a:lnTo>
                <a:lnTo>
                  <a:pt x="2018" y="1062"/>
                </a:lnTo>
                <a:lnTo>
                  <a:pt x="2001" y="1054"/>
                </a:lnTo>
                <a:lnTo>
                  <a:pt x="1971" y="1041"/>
                </a:lnTo>
                <a:lnTo>
                  <a:pt x="1946" y="1036"/>
                </a:lnTo>
                <a:lnTo>
                  <a:pt x="1924" y="1041"/>
                </a:lnTo>
                <a:lnTo>
                  <a:pt x="1902" y="1054"/>
                </a:lnTo>
                <a:lnTo>
                  <a:pt x="1879" y="1074"/>
                </a:lnTo>
                <a:lnTo>
                  <a:pt x="1868" y="1087"/>
                </a:lnTo>
                <a:lnTo>
                  <a:pt x="1850" y="1087"/>
                </a:lnTo>
                <a:lnTo>
                  <a:pt x="1824" y="1086"/>
                </a:lnTo>
                <a:lnTo>
                  <a:pt x="1781" y="1071"/>
                </a:lnTo>
                <a:lnTo>
                  <a:pt x="1739" y="1038"/>
                </a:lnTo>
                <a:lnTo>
                  <a:pt x="1727" y="1025"/>
                </a:lnTo>
                <a:lnTo>
                  <a:pt x="1743" y="1025"/>
                </a:lnTo>
                <a:lnTo>
                  <a:pt x="1766" y="1023"/>
                </a:lnTo>
                <a:lnTo>
                  <a:pt x="1773" y="1022"/>
                </a:lnTo>
                <a:lnTo>
                  <a:pt x="1775" y="1020"/>
                </a:lnTo>
                <a:lnTo>
                  <a:pt x="1776" y="1019"/>
                </a:lnTo>
                <a:lnTo>
                  <a:pt x="1776" y="1018"/>
                </a:lnTo>
                <a:lnTo>
                  <a:pt x="1776" y="1016"/>
                </a:lnTo>
                <a:lnTo>
                  <a:pt x="1773" y="1015"/>
                </a:lnTo>
                <a:lnTo>
                  <a:pt x="1771" y="1013"/>
                </a:lnTo>
                <a:lnTo>
                  <a:pt x="1763" y="1009"/>
                </a:lnTo>
                <a:lnTo>
                  <a:pt x="1737" y="1000"/>
                </a:lnTo>
                <a:lnTo>
                  <a:pt x="1705" y="991"/>
                </a:lnTo>
                <a:lnTo>
                  <a:pt x="1704" y="978"/>
                </a:lnTo>
                <a:lnTo>
                  <a:pt x="1701" y="954"/>
                </a:lnTo>
                <a:lnTo>
                  <a:pt x="1700" y="932"/>
                </a:lnTo>
                <a:lnTo>
                  <a:pt x="1700" y="928"/>
                </a:lnTo>
                <a:lnTo>
                  <a:pt x="1700" y="919"/>
                </a:lnTo>
                <a:lnTo>
                  <a:pt x="1704" y="900"/>
                </a:lnTo>
                <a:lnTo>
                  <a:pt x="1716" y="861"/>
                </a:lnTo>
                <a:lnTo>
                  <a:pt x="1723" y="823"/>
                </a:lnTo>
                <a:lnTo>
                  <a:pt x="1724" y="813"/>
                </a:lnTo>
                <a:lnTo>
                  <a:pt x="1727" y="813"/>
                </a:lnTo>
                <a:lnTo>
                  <a:pt x="1737" y="813"/>
                </a:lnTo>
                <a:lnTo>
                  <a:pt x="1755" y="815"/>
                </a:lnTo>
                <a:lnTo>
                  <a:pt x="1768" y="819"/>
                </a:lnTo>
                <a:lnTo>
                  <a:pt x="1771" y="819"/>
                </a:lnTo>
                <a:lnTo>
                  <a:pt x="1769" y="826"/>
                </a:lnTo>
                <a:lnTo>
                  <a:pt x="1769" y="851"/>
                </a:lnTo>
                <a:lnTo>
                  <a:pt x="1773" y="920"/>
                </a:lnTo>
                <a:lnTo>
                  <a:pt x="1784" y="951"/>
                </a:lnTo>
                <a:lnTo>
                  <a:pt x="1791" y="962"/>
                </a:lnTo>
                <a:lnTo>
                  <a:pt x="1801" y="971"/>
                </a:lnTo>
                <a:lnTo>
                  <a:pt x="1814" y="973"/>
                </a:lnTo>
                <a:lnTo>
                  <a:pt x="1815" y="973"/>
                </a:lnTo>
                <a:lnTo>
                  <a:pt x="1817" y="971"/>
                </a:lnTo>
                <a:lnTo>
                  <a:pt x="1823" y="965"/>
                </a:lnTo>
                <a:lnTo>
                  <a:pt x="1836" y="951"/>
                </a:lnTo>
                <a:lnTo>
                  <a:pt x="1842" y="944"/>
                </a:lnTo>
                <a:lnTo>
                  <a:pt x="1844" y="935"/>
                </a:lnTo>
                <a:lnTo>
                  <a:pt x="1844" y="931"/>
                </a:lnTo>
                <a:lnTo>
                  <a:pt x="1840" y="926"/>
                </a:lnTo>
                <a:lnTo>
                  <a:pt x="1836" y="920"/>
                </a:lnTo>
                <a:lnTo>
                  <a:pt x="1829" y="916"/>
                </a:lnTo>
                <a:lnTo>
                  <a:pt x="1814" y="909"/>
                </a:lnTo>
                <a:lnTo>
                  <a:pt x="1802" y="902"/>
                </a:lnTo>
                <a:lnTo>
                  <a:pt x="1800" y="899"/>
                </a:lnTo>
                <a:lnTo>
                  <a:pt x="1800" y="896"/>
                </a:lnTo>
                <a:lnTo>
                  <a:pt x="1800" y="894"/>
                </a:lnTo>
                <a:lnTo>
                  <a:pt x="1802" y="891"/>
                </a:lnTo>
                <a:lnTo>
                  <a:pt x="1805" y="889"/>
                </a:lnTo>
                <a:lnTo>
                  <a:pt x="1810" y="887"/>
                </a:lnTo>
                <a:lnTo>
                  <a:pt x="1823" y="881"/>
                </a:lnTo>
                <a:lnTo>
                  <a:pt x="1831" y="877"/>
                </a:lnTo>
                <a:lnTo>
                  <a:pt x="1826" y="873"/>
                </a:lnTo>
                <a:lnTo>
                  <a:pt x="1808" y="857"/>
                </a:lnTo>
                <a:lnTo>
                  <a:pt x="1795" y="844"/>
                </a:lnTo>
                <a:lnTo>
                  <a:pt x="1795" y="842"/>
                </a:lnTo>
                <a:lnTo>
                  <a:pt x="1797" y="841"/>
                </a:lnTo>
                <a:lnTo>
                  <a:pt x="1798" y="839"/>
                </a:lnTo>
                <a:lnTo>
                  <a:pt x="1802" y="836"/>
                </a:lnTo>
                <a:lnTo>
                  <a:pt x="1813" y="834"/>
                </a:lnTo>
                <a:lnTo>
                  <a:pt x="1817" y="835"/>
                </a:lnTo>
                <a:lnTo>
                  <a:pt x="1818" y="834"/>
                </a:lnTo>
                <a:lnTo>
                  <a:pt x="1820" y="832"/>
                </a:lnTo>
                <a:lnTo>
                  <a:pt x="1820" y="831"/>
                </a:lnTo>
                <a:lnTo>
                  <a:pt x="1820" y="829"/>
                </a:lnTo>
                <a:lnTo>
                  <a:pt x="1820" y="826"/>
                </a:lnTo>
                <a:lnTo>
                  <a:pt x="1818" y="816"/>
                </a:lnTo>
                <a:lnTo>
                  <a:pt x="1820" y="816"/>
                </a:lnTo>
                <a:lnTo>
                  <a:pt x="1820" y="816"/>
                </a:lnTo>
                <a:close/>
                <a:moveTo>
                  <a:pt x="1956" y="839"/>
                </a:moveTo>
                <a:lnTo>
                  <a:pt x="1949" y="841"/>
                </a:lnTo>
                <a:lnTo>
                  <a:pt x="1927" y="841"/>
                </a:lnTo>
                <a:lnTo>
                  <a:pt x="1911" y="841"/>
                </a:lnTo>
                <a:lnTo>
                  <a:pt x="1911" y="841"/>
                </a:lnTo>
                <a:lnTo>
                  <a:pt x="1907" y="838"/>
                </a:lnTo>
                <a:lnTo>
                  <a:pt x="1901" y="831"/>
                </a:lnTo>
                <a:lnTo>
                  <a:pt x="1889" y="813"/>
                </a:lnTo>
                <a:lnTo>
                  <a:pt x="1878" y="797"/>
                </a:lnTo>
                <a:lnTo>
                  <a:pt x="1875" y="793"/>
                </a:lnTo>
                <a:lnTo>
                  <a:pt x="1873" y="789"/>
                </a:lnTo>
                <a:lnTo>
                  <a:pt x="1875" y="781"/>
                </a:lnTo>
                <a:lnTo>
                  <a:pt x="1875" y="777"/>
                </a:lnTo>
                <a:lnTo>
                  <a:pt x="1878" y="774"/>
                </a:lnTo>
                <a:lnTo>
                  <a:pt x="1882" y="771"/>
                </a:lnTo>
                <a:lnTo>
                  <a:pt x="1888" y="768"/>
                </a:lnTo>
                <a:lnTo>
                  <a:pt x="1894" y="765"/>
                </a:lnTo>
                <a:lnTo>
                  <a:pt x="1900" y="771"/>
                </a:lnTo>
                <a:lnTo>
                  <a:pt x="1908" y="778"/>
                </a:lnTo>
                <a:lnTo>
                  <a:pt x="1915" y="781"/>
                </a:lnTo>
                <a:lnTo>
                  <a:pt x="1917" y="781"/>
                </a:lnTo>
                <a:lnTo>
                  <a:pt x="1928" y="781"/>
                </a:lnTo>
                <a:lnTo>
                  <a:pt x="1949" y="784"/>
                </a:lnTo>
                <a:lnTo>
                  <a:pt x="1962" y="792"/>
                </a:lnTo>
                <a:lnTo>
                  <a:pt x="1966" y="797"/>
                </a:lnTo>
                <a:lnTo>
                  <a:pt x="1969" y="803"/>
                </a:lnTo>
                <a:lnTo>
                  <a:pt x="1969" y="810"/>
                </a:lnTo>
                <a:lnTo>
                  <a:pt x="1969" y="818"/>
                </a:lnTo>
                <a:lnTo>
                  <a:pt x="1966" y="825"/>
                </a:lnTo>
                <a:lnTo>
                  <a:pt x="1962" y="832"/>
                </a:lnTo>
                <a:lnTo>
                  <a:pt x="1956" y="839"/>
                </a:lnTo>
                <a:lnTo>
                  <a:pt x="1956" y="839"/>
                </a:lnTo>
                <a:lnTo>
                  <a:pt x="1956" y="839"/>
                </a:lnTo>
                <a:close/>
                <a:moveTo>
                  <a:pt x="1507" y="726"/>
                </a:moveTo>
                <a:lnTo>
                  <a:pt x="1498" y="734"/>
                </a:lnTo>
                <a:lnTo>
                  <a:pt x="1487" y="745"/>
                </a:lnTo>
                <a:lnTo>
                  <a:pt x="1479" y="755"/>
                </a:lnTo>
                <a:lnTo>
                  <a:pt x="1472" y="761"/>
                </a:lnTo>
                <a:lnTo>
                  <a:pt x="1468" y="763"/>
                </a:lnTo>
                <a:lnTo>
                  <a:pt x="1462" y="761"/>
                </a:lnTo>
                <a:lnTo>
                  <a:pt x="1456" y="760"/>
                </a:lnTo>
                <a:lnTo>
                  <a:pt x="1447" y="757"/>
                </a:lnTo>
                <a:lnTo>
                  <a:pt x="1437" y="749"/>
                </a:lnTo>
                <a:lnTo>
                  <a:pt x="1437" y="749"/>
                </a:lnTo>
                <a:lnTo>
                  <a:pt x="1439" y="745"/>
                </a:lnTo>
                <a:lnTo>
                  <a:pt x="1443" y="736"/>
                </a:lnTo>
                <a:lnTo>
                  <a:pt x="1450" y="728"/>
                </a:lnTo>
                <a:lnTo>
                  <a:pt x="1463" y="710"/>
                </a:lnTo>
                <a:lnTo>
                  <a:pt x="1468" y="696"/>
                </a:lnTo>
                <a:lnTo>
                  <a:pt x="1472" y="696"/>
                </a:lnTo>
                <a:lnTo>
                  <a:pt x="1482" y="696"/>
                </a:lnTo>
                <a:lnTo>
                  <a:pt x="1491" y="696"/>
                </a:lnTo>
                <a:lnTo>
                  <a:pt x="1495" y="697"/>
                </a:lnTo>
                <a:lnTo>
                  <a:pt x="1498" y="700"/>
                </a:lnTo>
                <a:lnTo>
                  <a:pt x="1501" y="702"/>
                </a:lnTo>
                <a:lnTo>
                  <a:pt x="1504" y="706"/>
                </a:lnTo>
                <a:lnTo>
                  <a:pt x="1505" y="712"/>
                </a:lnTo>
                <a:lnTo>
                  <a:pt x="1505" y="719"/>
                </a:lnTo>
                <a:lnTo>
                  <a:pt x="1505" y="726"/>
                </a:lnTo>
                <a:lnTo>
                  <a:pt x="1507" y="726"/>
                </a:lnTo>
                <a:lnTo>
                  <a:pt x="1507" y="726"/>
                </a:lnTo>
                <a:close/>
                <a:moveTo>
                  <a:pt x="1445" y="587"/>
                </a:moveTo>
                <a:lnTo>
                  <a:pt x="1452" y="597"/>
                </a:lnTo>
                <a:lnTo>
                  <a:pt x="1463" y="612"/>
                </a:lnTo>
                <a:lnTo>
                  <a:pt x="1468" y="625"/>
                </a:lnTo>
                <a:lnTo>
                  <a:pt x="1466" y="635"/>
                </a:lnTo>
                <a:lnTo>
                  <a:pt x="1463" y="648"/>
                </a:lnTo>
                <a:lnTo>
                  <a:pt x="1461" y="664"/>
                </a:lnTo>
                <a:lnTo>
                  <a:pt x="1461" y="673"/>
                </a:lnTo>
                <a:lnTo>
                  <a:pt x="1453" y="686"/>
                </a:lnTo>
                <a:lnTo>
                  <a:pt x="1445" y="703"/>
                </a:lnTo>
                <a:lnTo>
                  <a:pt x="1437" y="716"/>
                </a:lnTo>
                <a:lnTo>
                  <a:pt x="1430" y="723"/>
                </a:lnTo>
                <a:lnTo>
                  <a:pt x="1421" y="726"/>
                </a:lnTo>
                <a:lnTo>
                  <a:pt x="1405" y="728"/>
                </a:lnTo>
                <a:lnTo>
                  <a:pt x="1395" y="728"/>
                </a:lnTo>
                <a:lnTo>
                  <a:pt x="1388" y="728"/>
                </a:lnTo>
                <a:lnTo>
                  <a:pt x="1384" y="725"/>
                </a:lnTo>
                <a:lnTo>
                  <a:pt x="1379" y="722"/>
                </a:lnTo>
                <a:lnTo>
                  <a:pt x="1376" y="718"/>
                </a:lnTo>
                <a:lnTo>
                  <a:pt x="1375" y="713"/>
                </a:lnTo>
                <a:lnTo>
                  <a:pt x="1375" y="707"/>
                </a:lnTo>
                <a:lnTo>
                  <a:pt x="1375" y="703"/>
                </a:lnTo>
                <a:lnTo>
                  <a:pt x="1378" y="694"/>
                </a:lnTo>
                <a:lnTo>
                  <a:pt x="1382" y="689"/>
                </a:lnTo>
                <a:lnTo>
                  <a:pt x="1385" y="686"/>
                </a:lnTo>
                <a:lnTo>
                  <a:pt x="1388" y="681"/>
                </a:lnTo>
                <a:lnTo>
                  <a:pt x="1391" y="674"/>
                </a:lnTo>
                <a:lnTo>
                  <a:pt x="1391" y="671"/>
                </a:lnTo>
                <a:lnTo>
                  <a:pt x="1390" y="670"/>
                </a:lnTo>
                <a:lnTo>
                  <a:pt x="1388" y="670"/>
                </a:lnTo>
                <a:lnTo>
                  <a:pt x="1385" y="670"/>
                </a:lnTo>
                <a:lnTo>
                  <a:pt x="1376" y="670"/>
                </a:lnTo>
                <a:lnTo>
                  <a:pt x="1366" y="667"/>
                </a:lnTo>
                <a:lnTo>
                  <a:pt x="1366" y="667"/>
                </a:lnTo>
                <a:lnTo>
                  <a:pt x="1365" y="664"/>
                </a:lnTo>
                <a:lnTo>
                  <a:pt x="1363" y="658"/>
                </a:lnTo>
                <a:lnTo>
                  <a:pt x="1363" y="654"/>
                </a:lnTo>
                <a:lnTo>
                  <a:pt x="1363" y="651"/>
                </a:lnTo>
                <a:lnTo>
                  <a:pt x="1366" y="648"/>
                </a:lnTo>
                <a:lnTo>
                  <a:pt x="1371" y="644"/>
                </a:lnTo>
                <a:lnTo>
                  <a:pt x="1375" y="641"/>
                </a:lnTo>
                <a:lnTo>
                  <a:pt x="1379" y="642"/>
                </a:lnTo>
                <a:lnTo>
                  <a:pt x="1388" y="644"/>
                </a:lnTo>
                <a:lnTo>
                  <a:pt x="1397" y="648"/>
                </a:lnTo>
                <a:lnTo>
                  <a:pt x="1411" y="658"/>
                </a:lnTo>
                <a:lnTo>
                  <a:pt x="1419" y="663"/>
                </a:lnTo>
                <a:lnTo>
                  <a:pt x="1420" y="658"/>
                </a:lnTo>
                <a:lnTo>
                  <a:pt x="1426" y="647"/>
                </a:lnTo>
                <a:lnTo>
                  <a:pt x="1433" y="619"/>
                </a:lnTo>
                <a:lnTo>
                  <a:pt x="1442" y="593"/>
                </a:lnTo>
                <a:lnTo>
                  <a:pt x="1445" y="587"/>
                </a:lnTo>
                <a:lnTo>
                  <a:pt x="1445" y="587"/>
                </a:lnTo>
                <a:close/>
                <a:moveTo>
                  <a:pt x="1294" y="616"/>
                </a:moveTo>
                <a:lnTo>
                  <a:pt x="1294" y="622"/>
                </a:lnTo>
                <a:lnTo>
                  <a:pt x="1297" y="634"/>
                </a:lnTo>
                <a:lnTo>
                  <a:pt x="1301" y="664"/>
                </a:lnTo>
                <a:lnTo>
                  <a:pt x="1304" y="692"/>
                </a:lnTo>
                <a:lnTo>
                  <a:pt x="1305" y="697"/>
                </a:lnTo>
                <a:lnTo>
                  <a:pt x="1310" y="700"/>
                </a:lnTo>
                <a:lnTo>
                  <a:pt x="1314" y="702"/>
                </a:lnTo>
                <a:lnTo>
                  <a:pt x="1317" y="706"/>
                </a:lnTo>
                <a:lnTo>
                  <a:pt x="1324" y="715"/>
                </a:lnTo>
                <a:lnTo>
                  <a:pt x="1329" y="723"/>
                </a:lnTo>
                <a:lnTo>
                  <a:pt x="1330" y="734"/>
                </a:lnTo>
                <a:lnTo>
                  <a:pt x="1327" y="744"/>
                </a:lnTo>
                <a:lnTo>
                  <a:pt x="1326" y="747"/>
                </a:lnTo>
                <a:lnTo>
                  <a:pt x="1317" y="747"/>
                </a:lnTo>
                <a:lnTo>
                  <a:pt x="1303" y="747"/>
                </a:lnTo>
                <a:lnTo>
                  <a:pt x="1277" y="745"/>
                </a:lnTo>
                <a:lnTo>
                  <a:pt x="1249" y="747"/>
                </a:lnTo>
                <a:lnTo>
                  <a:pt x="1242" y="748"/>
                </a:lnTo>
                <a:lnTo>
                  <a:pt x="1232" y="749"/>
                </a:lnTo>
                <a:lnTo>
                  <a:pt x="1224" y="752"/>
                </a:lnTo>
                <a:lnTo>
                  <a:pt x="1219" y="755"/>
                </a:lnTo>
                <a:lnTo>
                  <a:pt x="1213" y="760"/>
                </a:lnTo>
                <a:lnTo>
                  <a:pt x="1204" y="768"/>
                </a:lnTo>
                <a:lnTo>
                  <a:pt x="1195" y="778"/>
                </a:lnTo>
                <a:lnTo>
                  <a:pt x="1185" y="786"/>
                </a:lnTo>
                <a:lnTo>
                  <a:pt x="1171" y="789"/>
                </a:lnTo>
                <a:lnTo>
                  <a:pt x="1171" y="789"/>
                </a:lnTo>
                <a:lnTo>
                  <a:pt x="1166" y="787"/>
                </a:lnTo>
                <a:lnTo>
                  <a:pt x="1164" y="784"/>
                </a:lnTo>
                <a:lnTo>
                  <a:pt x="1161" y="781"/>
                </a:lnTo>
                <a:lnTo>
                  <a:pt x="1159" y="776"/>
                </a:lnTo>
                <a:lnTo>
                  <a:pt x="1159" y="771"/>
                </a:lnTo>
                <a:lnTo>
                  <a:pt x="1159" y="760"/>
                </a:lnTo>
                <a:lnTo>
                  <a:pt x="1161" y="741"/>
                </a:lnTo>
                <a:lnTo>
                  <a:pt x="1162" y="738"/>
                </a:lnTo>
                <a:lnTo>
                  <a:pt x="1165" y="736"/>
                </a:lnTo>
                <a:lnTo>
                  <a:pt x="1175" y="734"/>
                </a:lnTo>
                <a:lnTo>
                  <a:pt x="1197" y="729"/>
                </a:lnTo>
                <a:lnTo>
                  <a:pt x="1216" y="722"/>
                </a:lnTo>
                <a:lnTo>
                  <a:pt x="1220" y="719"/>
                </a:lnTo>
                <a:lnTo>
                  <a:pt x="1211" y="718"/>
                </a:lnTo>
                <a:lnTo>
                  <a:pt x="1195" y="715"/>
                </a:lnTo>
                <a:lnTo>
                  <a:pt x="1177" y="716"/>
                </a:lnTo>
                <a:lnTo>
                  <a:pt x="1137" y="721"/>
                </a:lnTo>
                <a:lnTo>
                  <a:pt x="1113" y="722"/>
                </a:lnTo>
                <a:lnTo>
                  <a:pt x="1110" y="718"/>
                </a:lnTo>
                <a:lnTo>
                  <a:pt x="1103" y="705"/>
                </a:lnTo>
                <a:lnTo>
                  <a:pt x="1098" y="694"/>
                </a:lnTo>
                <a:lnTo>
                  <a:pt x="1098" y="693"/>
                </a:lnTo>
                <a:lnTo>
                  <a:pt x="1106" y="687"/>
                </a:lnTo>
                <a:lnTo>
                  <a:pt x="1120" y="677"/>
                </a:lnTo>
                <a:lnTo>
                  <a:pt x="1135" y="671"/>
                </a:lnTo>
                <a:lnTo>
                  <a:pt x="1149" y="667"/>
                </a:lnTo>
                <a:lnTo>
                  <a:pt x="1159" y="658"/>
                </a:lnTo>
                <a:lnTo>
                  <a:pt x="1168" y="642"/>
                </a:lnTo>
                <a:lnTo>
                  <a:pt x="1171" y="631"/>
                </a:lnTo>
                <a:lnTo>
                  <a:pt x="1187" y="631"/>
                </a:lnTo>
                <a:lnTo>
                  <a:pt x="1201" y="632"/>
                </a:lnTo>
                <a:lnTo>
                  <a:pt x="1211" y="636"/>
                </a:lnTo>
                <a:lnTo>
                  <a:pt x="1219" y="642"/>
                </a:lnTo>
                <a:lnTo>
                  <a:pt x="1223" y="650"/>
                </a:lnTo>
                <a:lnTo>
                  <a:pt x="1226" y="657"/>
                </a:lnTo>
                <a:lnTo>
                  <a:pt x="1229" y="664"/>
                </a:lnTo>
                <a:lnTo>
                  <a:pt x="1233" y="680"/>
                </a:lnTo>
                <a:lnTo>
                  <a:pt x="1236" y="687"/>
                </a:lnTo>
                <a:lnTo>
                  <a:pt x="1240" y="693"/>
                </a:lnTo>
                <a:lnTo>
                  <a:pt x="1246" y="697"/>
                </a:lnTo>
                <a:lnTo>
                  <a:pt x="1248" y="697"/>
                </a:lnTo>
                <a:lnTo>
                  <a:pt x="1255" y="689"/>
                </a:lnTo>
                <a:lnTo>
                  <a:pt x="1259" y="680"/>
                </a:lnTo>
                <a:lnTo>
                  <a:pt x="1261" y="671"/>
                </a:lnTo>
                <a:lnTo>
                  <a:pt x="1259" y="663"/>
                </a:lnTo>
                <a:lnTo>
                  <a:pt x="1258" y="654"/>
                </a:lnTo>
                <a:lnTo>
                  <a:pt x="1256" y="639"/>
                </a:lnTo>
                <a:lnTo>
                  <a:pt x="1256" y="634"/>
                </a:lnTo>
                <a:lnTo>
                  <a:pt x="1259" y="628"/>
                </a:lnTo>
                <a:lnTo>
                  <a:pt x="1266" y="623"/>
                </a:lnTo>
                <a:lnTo>
                  <a:pt x="1277" y="619"/>
                </a:lnTo>
                <a:lnTo>
                  <a:pt x="1292" y="616"/>
                </a:lnTo>
                <a:lnTo>
                  <a:pt x="1294" y="616"/>
                </a:lnTo>
                <a:lnTo>
                  <a:pt x="1294" y="616"/>
                </a:lnTo>
                <a:close/>
                <a:moveTo>
                  <a:pt x="868" y="951"/>
                </a:moveTo>
                <a:lnTo>
                  <a:pt x="868" y="945"/>
                </a:lnTo>
                <a:lnTo>
                  <a:pt x="868" y="932"/>
                </a:lnTo>
                <a:lnTo>
                  <a:pt x="865" y="919"/>
                </a:lnTo>
                <a:lnTo>
                  <a:pt x="859" y="907"/>
                </a:lnTo>
                <a:lnTo>
                  <a:pt x="851" y="896"/>
                </a:lnTo>
                <a:lnTo>
                  <a:pt x="839" y="884"/>
                </a:lnTo>
                <a:lnTo>
                  <a:pt x="832" y="878"/>
                </a:lnTo>
                <a:lnTo>
                  <a:pt x="833" y="877"/>
                </a:lnTo>
                <a:lnTo>
                  <a:pt x="848" y="860"/>
                </a:lnTo>
                <a:lnTo>
                  <a:pt x="897" y="802"/>
                </a:lnTo>
                <a:lnTo>
                  <a:pt x="935" y="758"/>
                </a:lnTo>
                <a:lnTo>
                  <a:pt x="937" y="755"/>
                </a:lnTo>
                <a:lnTo>
                  <a:pt x="932" y="751"/>
                </a:lnTo>
                <a:lnTo>
                  <a:pt x="924" y="744"/>
                </a:lnTo>
                <a:lnTo>
                  <a:pt x="920" y="738"/>
                </a:lnTo>
                <a:lnTo>
                  <a:pt x="920" y="735"/>
                </a:lnTo>
                <a:lnTo>
                  <a:pt x="919" y="732"/>
                </a:lnTo>
                <a:lnTo>
                  <a:pt x="920" y="729"/>
                </a:lnTo>
                <a:lnTo>
                  <a:pt x="922" y="726"/>
                </a:lnTo>
                <a:lnTo>
                  <a:pt x="923" y="722"/>
                </a:lnTo>
                <a:lnTo>
                  <a:pt x="929" y="712"/>
                </a:lnTo>
                <a:lnTo>
                  <a:pt x="930" y="712"/>
                </a:lnTo>
                <a:lnTo>
                  <a:pt x="940" y="713"/>
                </a:lnTo>
                <a:lnTo>
                  <a:pt x="974" y="713"/>
                </a:lnTo>
                <a:lnTo>
                  <a:pt x="1000" y="713"/>
                </a:lnTo>
                <a:lnTo>
                  <a:pt x="1001" y="713"/>
                </a:lnTo>
                <a:lnTo>
                  <a:pt x="1006" y="715"/>
                </a:lnTo>
                <a:lnTo>
                  <a:pt x="1010" y="715"/>
                </a:lnTo>
                <a:lnTo>
                  <a:pt x="1014" y="718"/>
                </a:lnTo>
                <a:lnTo>
                  <a:pt x="1016" y="722"/>
                </a:lnTo>
                <a:lnTo>
                  <a:pt x="1017" y="725"/>
                </a:lnTo>
                <a:lnTo>
                  <a:pt x="1022" y="732"/>
                </a:lnTo>
                <a:lnTo>
                  <a:pt x="1029" y="742"/>
                </a:lnTo>
                <a:lnTo>
                  <a:pt x="1035" y="748"/>
                </a:lnTo>
                <a:lnTo>
                  <a:pt x="1042" y="754"/>
                </a:lnTo>
                <a:lnTo>
                  <a:pt x="1049" y="758"/>
                </a:lnTo>
                <a:lnTo>
                  <a:pt x="1068" y="764"/>
                </a:lnTo>
                <a:lnTo>
                  <a:pt x="1085" y="771"/>
                </a:lnTo>
                <a:lnTo>
                  <a:pt x="1100" y="780"/>
                </a:lnTo>
                <a:lnTo>
                  <a:pt x="1106" y="787"/>
                </a:lnTo>
                <a:lnTo>
                  <a:pt x="1110" y="794"/>
                </a:lnTo>
                <a:lnTo>
                  <a:pt x="1111" y="806"/>
                </a:lnTo>
                <a:lnTo>
                  <a:pt x="1111" y="819"/>
                </a:lnTo>
                <a:lnTo>
                  <a:pt x="1111" y="819"/>
                </a:lnTo>
                <a:lnTo>
                  <a:pt x="1085" y="832"/>
                </a:lnTo>
                <a:lnTo>
                  <a:pt x="1050" y="848"/>
                </a:lnTo>
                <a:lnTo>
                  <a:pt x="1016" y="873"/>
                </a:lnTo>
                <a:lnTo>
                  <a:pt x="981" y="925"/>
                </a:lnTo>
                <a:lnTo>
                  <a:pt x="965" y="948"/>
                </a:lnTo>
                <a:lnTo>
                  <a:pt x="949" y="949"/>
                </a:lnTo>
                <a:lnTo>
                  <a:pt x="904" y="951"/>
                </a:lnTo>
                <a:lnTo>
                  <a:pt x="869" y="951"/>
                </a:lnTo>
                <a:lnTo>
                  <a:pt x="868" y="951"/>
                </a:lnTo>
                <a:lnTo>
                  <a:pt x="868" y="951"/>
                </a:lnTo>
                <a:close/>
                <a:moveTo>
                  <a:pt x="1187" y="555"/>
                </a:moveTo>
                <a:lnTo>
                  <a:pt x="1185" y="563"/>
                </a:lnTo>
                <a:lnTo>
                  <a:pt x="1184" y="567"/>
                </a:lnTo>
                <a:lnTo>
                  <a:pt x="1181" y="571"/>
                </a:lnTo>
                <a:lnTo>
                  <a:pt x="1178" y="574"/>
                </a:lnTo>
                <a:lnTo>
                  <a:pt x="1171" y="580"/>
                </a:lnTo>
                <a:lnTo>
                  <a:pt x="1165" y="587"/>
                </a:lnTo>
                <a:lnTo>
                  <a:pt x="1161" y="594"/>
                </a:lnTo>
                <a:lnTo>
                  <a:pt x="1159" y="606"/>
                </a:lnTo>
                <a:lnTo>
                  <a:pt x="1161" y="606"/>
                </a:lnTo>
                <a:lnTo>
                  <a:pt x="1148" y="610"/>
                </a:lnTo>
                <a:lnTo>
                  <a:pt x="1129" y="615"/>
                </a:lnTo>
                <a:lnTo>
                  <a:pt x="1103" y="619"/>
                </a:lnTo>
                <a:lnTo>
                  <a:pt x="1093" y="623"/>
                </a:lnTo>
                <a:lnTo>
                  <a:pt x="1081" y="635"/>
                </a:lnTo>
                <a:lnTo>
                  <a:pt x="1075" y="644"/>
                </a:lnTo>
                <a:lnTo>
                  <a:pt x="1064" y="642"/>
                </a:lnTo>
                <a:lnTo>
                  <a:pt x="1046" y="639"/>
                </a:lnTo>
                <a:lnTo>
                  <a:pt x="1035" y="635"/>
                </a:lnTo>
                <a:lnTo>
                  <a:pt x="1027" y="629"/>
                </a:lnTo>
                <a:lnTo>
                  <a:pt x="1023" y="619"/>
                </a:lnTo>
                <a:lnTo>
                  <a:pt x="1019" y="605"/>
                </a:lnTo>
                <a:lnTo>
                  <a:pt x="1019" y="593"/>
                </a:lnTo>
                <a:lnTo>
                  <a:pt x="1026" y="589"/>
                </a:lnTo>
                <a:lnTo>
                  <a:pt x="1043" y="579"/>
                </a:lnTo>
                <a:lnTo>
                  <a:pt x="1066" y="570"/>
                </a:lnTo>
                <a:lnTo>
                  <a:pt x="1113" y="552"/>
                </a:lnTo>
                <a:lnTo>
                  <a:pt x="1143" y="536"/>
                </a:lnTo>
                <a:lnTo>
                  <a:pt x="1148" y="538"/>
                </a:lnTo>
                <a:lnTo>
                  <a:pt x="1156" y="541"/>
                </a:lnTo>
                <a:lnTo>
                  <a:pt x="1166" y="545"/>
                </a:lnTo>
                <a:lnTo>
                  <a:pt x="1181" y="554"/>
                </a:lnTo>
                <a:lnTo>
                  <a:pt x="1187" y="555"/>
                </a:lnTo>
                <a:lnTo>
                  <a:pt x="1187" y="555"/>
                </a:lnTo>
                <a:close/>
                <a:moveTo>
                  <a:pt x="1305" y="471"/>
                </a:moveTo>
                <a:lnTo>
                  <a:pt x="1301" y="476"/>
                </a:lnTo>
                <a:lnTo>
                  <a:pt x="1294" y="486"/>
                </a:lnTo>
                <a:lnTo>
                  <a:pt x="1279" y="505"/>
                </a:lnTo>
                <a:lnTo>
                  <a:pt x="1271" y="510"/>
                </a:lnTo>
                <a:lnTo>
                  <a:pt x="1259" y="513"/>
                </a:lnTo>
                <a:lnTo>
                  <a:pt x="1253" y="512"/>
                </a:lnTo>
                <a:lnTo>
                  <a:pt x="1248" y="509"/>
                </a:lnTo>
                <a:lnTo>
                  <a:pt x="1246" y="505"/>
                </a:lnTo>
                <a:lnTo>
                  <a:pt x="1245" y="500"/>
                </a:lnTo>
                <a:lnTo>
                  <a:pt x="1242" y="489"/>
                </a:lnTo>
                <a:lnTo>
                  <a:pt x="1242" y="484"/>
                </a:lnTo>
                <a:lnTo>
                  <a:pt x="1243" y="480"/>
                </a:lnTo>
                <a:lnTo>
                  <a:pt x="1246" y="476"/>
                </a:lnTo>
                <a:lnTo>
                  <a:pt x="1250" y="474"/>
                </a:lnTo>
                <a:lnTo>
                  <a:pt x="1255" y="474"/>
                </a:lnTo>
                <a:lnTo>
                  <a:pt x="1262" y="476"/>
                </a:lnTo>
                <a:lnTo>
                  <a:pt x="1263" y="476"/>
                </a:lnTo>
                <a:lnTo>
                  <a:pt x="1266" y="473"/>
                </a:lnTo>
                <a:lnTo>
                  <a:pt x="1274" y="470"/>
                </a:lnTo>
                <a:lnTo>
                  <a:pt x="1279" y="468"/>
                </a:lnTo>
                <a:lnTo>
                  <a:pt x="1287" y="468"/>
                </a:lnTo>
                <a:lnTo>
                  <a:pt x="1294" y="470"/>
                </a:lnTo>
                <a:lnTo>
                  <a:pt x="1301" y="471"/>
                </a:lnTo>
                <a:lnTo>
                  <a:pt x="1305" y="471"/>
                </a:lnTo>
                <a:lnTo>
                  <a:pt x="1305" y="471"/>
                </a:lnTo>
                <a:close/>
                <a:moveTo>
                  <a:pt x="1242" y="570"/>
                </a:moveTo>
                <a:lnTo>
                  <a:pt x="1232" y="563"/>
                </a:lnTo>
                <a:lnTo>
                  <a:pt x="1226" y="557"/>
                </a:lnTo>
                <a:lnTo>
                  <a:pt x="1224" y="551"/>
                </a:lnTo>
                <a:lnTo>
                  <a:pt x="1224" y="548"/>
                </a:lnTo>
                <a:lnTo>
                  <a:pt x="1224" y="545"/>
                </a:lnTo>
                <a:lnTo>
                  <a:pt x="1226" y="544"/>
                </a:lnTo>
                <a:lnTo>
                  <a:pt x="1229" y="541"/>
                </a:lnTo>
                <a:lnTo>
                  <a:pt x="1232" y="539"/>
                </a:lnTo>
                <a:lnTo>
                  <a:pt x="1237" y="536"/>
                </a:lnTo>
                <a:lnTo>
                  <a:pt x="1245" y="534"/>
                </a:lnTo>
                <a:lnTo>
                  <a:pt x="1261" y="529"/>
                </a:lnTo>
                <a:lnTo>
                  <a:pt x="1275" y="529"/>
                </a:lnTo>
                <a:lnTo>
                  <a:pt x="1279" y="528"/>
                </a:lnTo>
                <a:lnTo>
                  <a:pt x="1279" y="534"/>
                </a:lnTo>
                <a:lnTo>
                  <a:pt x="1279" y="538"/>
                </a:lnTo>
                <a:lnTo>
                  <a:pt x="1278" y="544"/>
                </a:lnTo>
                <a:lnTo>
                  <a:pt x="1275" y="548"/>
                </a:lnTo>
                <a:lnTo>
                  <a:pt x="1268" y="557"/>
                </a:lnTo>
                <a:lnTo>
                  <a:pt x="1259" y="564"/>
                </a:lnTo>
                <a:lnTo>
                  <a:pt x="1250" y="568"/>
                </a:lnTo>
                <a:lnTo>
                  <a:pt x="1242" y="570"/>
                </a:lnTo>
                <a:lnTo>
                  <a:pt x="1242" y="570"/>
                </a:lnTo>
                <a:lnTo>
                  <a:pt x="1242" y="570"/>
                </a:lnTo>
                <a:close/>
                <a:moveTo>
                  <a:pt x="1437" y="471"/>
                </a:moveTo>
                <a:lnTo>
                  <a:pt x="1443" y="477"/>
                </a:lnTo>
                <a:lnTo>
                  <a:pt x="1450" y="489"/>
                </a:lnTo>
                <a:lnTo>
                  <a:pt x="1455" y="502"/>
                </a:lnTo>
                <a:lnTo>
                  <a:pt x="1456" y="515"/>
                </a:lnTo>
                <a:lnTo>
                  <a:pt x="1456" y="529"/>
                </a:lnTo>
                <a:lnTo>
                  <a:pt x="1456" y="542"/>
                </a:lnTo>
                <a:lnTo>
                  <a:pt x="1456" y="548"/>
                </a:lnTo>
                <a:lnTo>
                  <a:pt x="1455" y="548"/>
                </a:lnTo>
                <a:lnTo>
                  <a:pt x="1450" y="548"/>
                </a:lnTo>
                <a:lnTo>
                  <a:pt x="1439" y="547"/>
                </a:lnTo>
                <a:lnTo>
                  <a:pt x="1430" y="547"/>
                </a:lnTo>
                <a:lnTo>
                  <a:pt x="1430" y="545"/>
                </a:lnTo>
                <a:lnTo>
                  <a:pt x="1429" y="541"/>
                </a:lnTo>
                <a:lnTo>
                  <a:pt x="1424" y="532"/>
                </a:lnTo>
                <a:lnTo>
                  <a:pt x="1420" y="526"/>
                </a:lnTo>
                <a:lnTo>
                  <a:pt x="1419" y="525"/>
                </a:lnTo>
                <a:lnTo>
                  <a:pt x="1416" y="525"/>
                </a:lnTo>
                <a:lnTo>
                  <a:pt x="1414" y="525"/>
                </a:lnTo>
                <a:lnTo>
                  <a:pt x="1411" y="526"/>
                </a:lnTo>
                <a:lnTo>
                  <a:pt x="1410" y="531"/>
                </a:lnTo>
                <a:lnTo>
                  <a:pt x="1408" y="535"/>
                </a:lnTo>
                <a:lnTo>
                  <a:pt x="1408" y="541"/>
                </a:lnTo>
                <a:lnTo>
                  <a:pt x="1408" y="541"/>
                </a:lnTo>
                <a:lnTo>
                  <a:pt x="1407" y="541"/>
                </a:lnTo>
                <a:lnTo>
                  <a:pt x="1401" y="539"/>
                </a:lnTo>
                <a:lnTo>
                  <a:pt x="1382" y="532"/>
                </a:lnTo>
                <a:lnTo>
                  <a:pt x="1368" y="528"/>
                </a:lnTo>
                <a:lnTo>
                  <a:pt x="1368" y="526"/>
                </a:lnTo>
                <a:lnTo>
                  <a:pt x="1368" y="523"/>
                </a:lnTo>
                <a:lnTo>
                  <a:pt x="1369" y="518"/>
                </a:lnTo>
                <a:lnTo>
                  <a:pt x="1372" y="512"/>
                </a:lnTo>
                <a:lnTo>
                  <a:pt x="1375" y="506"/>
                </a:lnTo>
                <a:lnTo>
                  <a:pt x="1384" y="497"/>
                </a:lnTo>
                <a:lnTo>
                  <a:pt x="1387" y="494"/>
                </a:lnTo>
                <a:lnTo>
                  <a:pt x="1388" y="499"/>
                </a:lnTo>
                <a:lnTo>
                  <a:pt x="1388" y="497"/>
                </a:lnTo>
                <a:lnTo>
                  <a:pt x="1388" y="493"/>
                </a:lnTo>
                <a:lnTo>
                  <a:pt x="1385" y="476"/>
                </a:lnTo>
                <a:lnTo>
                  <a:pt x="1382" y="457"/>
                </a:lnTo>
                <a:lnTo>
                  <a:pt x="1381" y="448"/>
                </a:lnTo>
                <a:lnTo>
                  <a:pt x="1382" y="442"/>
                </a:lnTo>
                <a:lnTo>
                  <a:pt x="1385" y="438"/>
                </a:lnTo>
                <a:lnTo>
                  <a:pt x="1390" y="439"/>
                </a:lnTo>
                <a:lnTo>
                  <a:pt x="1395" y="444"/>
                </a:lnTo>
                <a:lnTo>
                  <a:pt x="1397" y="444"/>
                </a:lnTo>
                <a:lnTo>
                  <a:pt x="1401" y="445"/>
                </a:lnTo>
                <a:lnTo>
                  <a:pt x="1405" y="447"/>
                </a:lnTo>
                <a:lnTo>
                  <a:pt x="1408" y="448"/>
                </a:lnTo>
                <a:lnTo>
                  <a:pt x="1410" y="451"/>
                </a:lnTo>
                <a:lnTo>
                  <a:pt x="1411" y="455"/>
                </a:lnTo>
                <a:lnTo>
                  <a:pt x="1414" y="461"/>
                </a:lnTo>
                <a:lnTo>
                  <a:pt x="1419" y="468"/>
                </a:lnTo>
                <a:lnTo>
                  <a:pt x="1429" y="471"/>
                </a:lnTo>
                <a:lnTo>
                  <a:pt x="1437" y="471"/>
                </a:lnTo>
                <a:lnTo>
                  <a:pt x="1437" y="471"/>
                </a:lnTo>
                <a:close/>
                <a:moveTo>
                  <a:pt x="1529" y="509"/>
                </a:moveTo>
                <a:lnTo>
                  <a:pt x="1526" y="516"/>
                </a:lnTo>
                <a:lnTo>
                  <a:pt x="1520" y="534"/>
                </a:lnTo>
                <a:lnTo>
                  <a:pt x="1516" y="548"/>
                </a:lnTo>
                <a:lnTo>
                  <a:pt x="1516" y="548"/>
                </a:lnTo>
                <a:lnTo>
                  <a:pt x="1511" y="548"/>
                </a:lnTo>
                <a:lnTo>
                  <a:pt x="1504" y="545"/>
                </a:lnTo>
                <a:lnTo>
                  <a:pt x="1492" y="538"/>
                </a:lnTo>
                <a:lnTo>
                  <a:pt x="1482" y="529"/>
                </a:lnTo>
                <a:lnTo>
                  <a:pt x="1481" y="526"/>
                </a:lnTo>
                <a:lnTo>
                  <a:pt x="1479" y="519"/>
                </a:lnTo>
                <a:lnTo>
                  <a:pt x="1479" y="506"/>
                </a:lnTo>
                <a:lnTo>
                  <a:pt x="1481" y="499"/>
                </a:lnTo>
                <a:lnTo>
                  <a:pt x="1482" y="492"/>
                </a:lnTo>
                <a:lnTo>
                  <a:pt x="1485" y="487"/>
                </a:lnTo>
                <a:lnTo>
                  <a:pt x="1492" y="480"/>
                </a:lnTo>
                <a:lnTo>
                  <a:pt x="1497" y="474"/>
                </a:lnTo>
                <a:lnTo>
                  <a:pt x="1500" y="477"/>
                </a:lnTo>
                <a:lnTo>
                  <a:pt x="1505" y="483"/>
                </a:lnTo>
                <a:lnTo>
                  <a:pt x="1511" y="489"/>
                </a:lnTo>
                <a:lnTo>
                  <a:pt x="1520" y="502"/>
                </a:lnTo>
                <a:lnTo>
                  <a:pt x="1529" y="509"/>
                </a:lnTo>
                <a:lnTo>
                  <a:pt x="1529" y="509"/>
                </a:lnTo>
                <a:close/>
                <a:moveTo>
                  <a:pt x="1607" y="668"/>
                </a:moveTo>
                <a:lnTo>
                  <a:pt x="1616" y="673"/>
                </a:lnTo>
                <a:lnTo>
                  <a:pt x="1634" y="680"/>
                </a:lnTo>
                <a:lnTo>
                  <a:pt x="1672" y="689"/>
                </a:lnTo>
                <a:lnTo>
                  <a:pt x="1713" y="692"/>
                </a:lnTo>
                <a:lnTo>
                  <a:pt x="1724" y="692"/>
                </a:lnTo>
                <a:lnTo>
                  <a:pt x="1727" y="696"/>
                </a:lnTo>
                <a:lnTo>
                  <a:pt x="1731" y="696"/>
                </a:lnTo>
                <a:lnTo>
                  <a:pt x="1737" y="694"/>
                </a:lnTo>
                <a:lnTo>
                  <a:pt x="1742" y="692"/>
                </a:lnTo>
                <a:lnTo>
                  <a:pt x="1746" y="687"/>
                </a:lnTo>
                <a:lnTo>
                  <a:pt x="1756" y="674"/>
                </a:lnTo>
                <a:lnTo>
                  <a:pt x="1771" y="652"/>
                </a:lnTo>
                <a:lnTo>
                  <a:pt x="1773" y="650"/>
                </a:lnTo>
                <a:lnTo>
                  <a:pt x="1782" y="650"/>
                </a:lnTo>
                <a:lnTo>
                  <a:pt x="1811" y="650"/>
                </a:lnTo>
                <a:lnTo>
                  <a:pt x="1834" y="650"/>
                </a:lnTo>
                <a:lnTo>
                  <a:pt x="1836" y="650"/>
                </a:lnTo>
                <a:lnTo>
                  <a:pt x="1839" y="657"/>
                </a:lnTo>
                <a:lnTo>
                  <a:pt x="1843" y="670"/>
                </a:lnTo>
                <a:lnTo>
                  <a:pt x="1847" y="693"/>
                </a:lnTo>
                <a:lnTo>
                  <a:pt x="1840" y="719"/>
                </a:lnTo>
                <a:lnTo>
                  <a:pt x="1836" y="726"/>
                </a:lnTo>
                <a:lnTo>
                  <a:pt x="1830" y="726"/>
                </a:lnTo>
                <a:lnTo>
                  <a:pt x="1821" y="726"/>
                </a:lnTo>
                <a:lnTo>
                  <a:pt x="1801" y="725"/>
                </a:lnTo>
                <a:lnTo>
                  <a:pt x="1782" y="725"/>
                </a:lnTo>
                <a:lnTo>
                  <a:pt x="1778" y="723"/>
                </a:lnTo>
                <a:lnTo>
                  <a:pt x="1772" y="732"/>
                </a:lnTo>
                <a:lnTo>
                  <a:pt x="1759" y="747"/>
                </a:lnTo>
                <a:lnTo>
                  <a:pt x="1742" y="758"/>
                </a:lnTo>
                <a:lnTo>
                  <a:pt x="1720" y="764"/>
                </a:lnTo>
                <a:lnTo>
                  <a:pt x="1698" y="767"/>
                </a:lnTo>
                <a:lnTo>
                  <a:pt x="1676" y="763"/>
                </a:lnTo>
                <a:lnTo>
                  <a:pt x="1666" y="758"/>
                </a:lnTo>
                <a:lnTo>
                  <a:pt x="1658" y="755"/>
                </a:lnTo>
                <a:lnTo>
                  <a:pt x="1646" y="748"/>
                </a:lnTo>
                <a:lnTo>
                  <a:pt x="1637" y="745"/>
                </a:lnTo>
                <a:lnTo>
                  <a:pt x="1634" y="745"/>
                </a:lnTo>
                <a:lnTo>
                  <a:pt x="1633" y="747"/>
                </a:lnTo>
                <a:lnTo>
                  <a:pt x="1630" y="749"/>
                </a:lnTo>
                <a:lnTo>
                  <a:pt x="1629" y="752"/>
                </a:lnTo>
                <a:lnTo>
                  <a:pt x="1627" y="758"/>
                </a:lnTo>
                <a:lnTo>
                  <a:pt x="1621" y="773"/>
                </a:lnTo>
                <a:lnTo>
                  <a:pt x="1621" y="773"/>
                </a:lnTo>
                <a:lnTo>
                  <a:pt x="1616" y="773"/>
                </a:lnTo>
                <a:lnTo>
                  <a:pt x="1604" y="773"/>
                </a:lnTo>
                <a:lnTo>
                  <a:pt x="1584" y="768"/>
                </a:lnTo>
                <a:lnTo>
                  <a:pt x="1560" y="761"/>
                </a:lnTo>
                <a:lnTo>
                  <a:pt x="1553" y="758"/>
                </a:lnTo>
                <a:lnTo>
                  <a:pt x="1546" y="757"/>
                </a:lnTo>
                <a:lnTo>
                  <a:pt x="1540" y="752"/>
                </a:lnTo>
                <a:lnTo>
                  <a:pt x="1536" y="745"/>
                </a:lnTo>
                <a:lnTo>
                  <a:pt x="1533" y="736"/>
                </a:lnTo>
                <a:lnTo>
                  <a:pt x="1527" y="716"/>
                </a:lnTo>
                <a:lnTo>
                  <a:pt x="1523" y="677"/>
                </a:lnTo>
                <a:lnTo>
                  <a:pt x="1523" y="667"/>
                </a:lnTo>
                <a:lnTo>
                  <a:pt x="1518" y="664"/>
                </a:lnTo>
                <a:lnTo>
                  <a:pt x="1505" y="651"/>
                </a:lnTo>
                <a:lnTo>
                  <a:pt x="1497" y="642"/>
                </a:lnTo>
                <a:lnTo>
                  <a:pt x="1497" y="641"/>
                </a:lnTo>
                <a:lnTo>
                  <a:pt x="1500" y="634"/>
                </a:lnTo>
                <a:lnTo>
                  <a:pt x="1505" y="619"/>
                </a:lnTo>
                <a:lnTo>
                  <a:pt x="1520" y="599"/>
                </a:lnTo>
                <a:lnTo>
                  <a:pt x="1529" y="593"/>
                </a:lnTo>
                <a:lnTo>
                  <a:pt x="1542" y="589"/>
                </a:lnTo>
                <a:lnTo>
                  <a:pt x="1550" y="587"/>
                </a:lnTo>
                <a:lnTo>
                  <a:pt x="1552" y="592"/>
                </a:lnTo>
                <a:lnTo>
                  <a:pt x="1553" y="594"/>
                </a:lnTo>
                <a:lnTo>
                  <a:pt x="1555" y="597"/>
                </a:lnTo>
                <a:lnTo>
                  <a:pt x="1556" y="600"/>
                </a:lnTo>
                <a:lnTo>
                  <a:pt x="1555" y="607"/>
                </a:lnTo>
                <a:lnTo>
                  <a:pt x="1555" y="616"/>
                </a:lnTo>
                <a:lnTo>
                  <a:pt x="1552" y="631"/>
                </a:lnTo>
                <a:lnTo>
                  <a:pt x="1553" y="631"/>
                </a:lnTo>
                <a:lnTo>
                  <a:pt x="1559" y="632"/>
                </a:lnTo>
                <a:lnTo>
                  <a:pt x="1568" y="631"/>
                </a:lnTo>
                <a:lnTo>
                  <a:pt x="1574" y="629"/>
                </a:lnTo>
                <a:lnTo>
                  <a:pt x="1578" y="626"/>
                </a:lnTo>
                <a:lnTo>
                  <a:pt x="1582" y="621"/>
                </a:lnTo>
                <a:lnTo>
                  <a:pt x="1591" y="610"/>
                </a:lnTo>
                <a:lnTo>
                  <a:pt x="1598" y="603"/>
                </a:lnTo>
                <a:lnTo>
                  <a:pt x="1601" y="607"/>
                </a:lnTo>
                <a:lnTo>
                  <a:pt x="1603" y="613"/>
                </a:lnTo>
                <a:lnTo>
                  <a:pt x="1605" y="623"/>
                </a:lnTo>
                <a:lnTo>
                  <a:pt x="1607" y="635"/>
                </a:lnTo>
                <a:lnTo>
                  <a:pt x="1607" y="658"/>
                </a:lnTo>
                <a:lnTo>
                  <a:pt x="1607" y="668"/>
                </a:lnTo>
                <a:lnTo>
                  <a:pt x="1607" y="668"/>
                </a:lnTo>
                <a:close/>
                <a:moveTo>
                  <a:pt x="1658" y="429"/>
                </a:moveTo>
                <a:lnTo>
                  <a:pt x="1656" y="432"/>
                </a:lnTo>
                <a:lnTo>
                  <a:pt x="1647" y="444"/>
                </a:lnTo>
                <a:lnTo>
                  <a:pt x="1618" y="483"/>
                </a:lnTo>
                <a:lnTo>
                  <a:pt x="1595" y="513"/>
                </a:lnTo>
                <a:lnTo>
                  <a:pt x="1595" y="515"/>
                </a:lnTo>
                <a:lnTo>
                  <a:pt x="1587" y="515"/>
                </a:lnTo>
                <a:lnTo>
                  <a:pt x="1572" y="510"/>
                </a:lnTo>
                <a:lnTo>
                  <a:pt x="1562" y="503"/>
                </a:lnTo>
                <a:lnTo>
                  <a:pt x="1555" y="493"/>
                </a:lnTo>
                <a:lnTo>
                  <a:pt x="1550" y="481"/>
                </a:lnTo>
                <a:lnTo>
                  <a:pt x="1545" y="468"/>
                </a:lnTo>
                <a:lnTo>
                  <a:pt x="1543" y="461"/>
                </a:lnTo>
                <a:lnTo>
                  <a:pt x="1545" y="460"/>
                </a:lnTo>
                <a:lnTo>
                  <a:pt x="1552" y="451"/>
                </a:lnTo>
                <a:lnTo>
                  <a:pt x="1558" y="445"/>
                </a:lnTo>
                <a:lnTo>
                  <a:pt x="1559" y="444"/>
                </a:lnTo>
                <a:lnTo>
                  <a:pt x="1547" y="435"/>
                </a:lnTo>
                <a:lnTo>
                  <a:pt x="1533" y="426"/>
                </a:lnTo>
                <a:lnTo>
                  <a:pt x="1523" y="426"/>
                </a:lnTo>
                <a:lnTo>
                  <a:pt x="1520" y="426"/>
                </a:lnTo>
                <a:lnTo>
                  <a:pt x="1518" y="426"/>
                </a:lnTo>
                <a:lnTo>
                  <a:pt x="1514" y="422"/>
                </a:lnTo>
                <a:lnTo>
                  <a:pt x="1511" y="415"/>
                </a:lnTo>
                <a:lnTo>
                  <a:pt x="1507" y="386"/>
                </a:lnTo>
                <a:lnTo>
                  <a:pt x="1507" y="386"/>
                </a:lnTo>
                <a:lnTo>
                  <a:pt x="1503" y="371"/>
                </a:lnTo>
                <a:lnTo>
                  <a:pt x="1500" y="347"/>
                </a:lnTo>
                <a:lnTo>
                  <a:pt x="1503" y="328"/>
                </a:lnTo>
                <a:lnTo>
                  <a:pt x="1508" y="315"/>
                </a:lnTo>
                <a:lnTo>
                  <a:pt x="1516" y="305"/>
                </a:lnTo>
                <a:lnTo>
                  <a:pt x="1521" y="295"/>
                </a:lnTo>
                <a:lnTo>
                  <a:pt x="1523" y="289"/>
                </a:lnTo>
                <a:lnTo>
                  <a:pt x="1527" y="290"/>
                </a:lnTo>
                <a:lnTo>
                  <a:pt x="1533" y="296"/>
                </a:lnTo>
                <a:lnTo>
                  <a:pt x="1546" y="312"/>
                </a:lnTo>
                <a:lnTo>
                  <a:pt x="1578" y="345"/>
                </a:lnTo>
                <a:lnTo>
                  <a:pt x="1592" y="352"/>
                </a:lnTo>
                <a:lnTo>
                  <a:pt x="1603" y="366"/>
                </a:lnTo>
                <a:lnTo>
                  <a:pt x="1633" y="402"/>
                </a:lnTo>
                <a:lnTo>
                  <a:pt x="1656" y="428"/>
                </a:lnTo>
                <a:lnTo>
                  <a:pt x="1658" y="429"/>
                </a:lnTo>
                <a:lnTo>
                  <a:pt x="1658" y="429"/>
                </a:lnTo>
                <a:close/>
                <a:moveTo>
                  <a:pt x="1689" y="345"/>
                </a:moveTo>
                <a:lnTo>
                  <a:pt x="1685" y="342"/>
                </a:lnTo>
                <a:lnTo>
                  <a:pt x="1684" y="339"/>
                </a:lnTo>
                <a:lnTo>
                  <a:pt x="1682" y="337"/>
                </a:lnTo>
                <a:lnTo>
                  <a:pt x="1682" y="334"/>
                </a:lnTo>
                <a:lnTo>
                  <a:pt x="1684" y="331"/>
                </a:lnTo>
                <a:lnTo>
                  <a:pt x="1685" y="328"/>
                </a:lnTo>
                <a:lnTo>
                  <a:pt x="1687" y="325"/>
                </a:lnTo>
                <a:lnTo>
                  <a:pt x="1692" y="318"/>
                </a:lnTo>
                <a:lnTo>
                  <a:pt x="1700" y="309"/>
                </a:lnTo>
                <a:lnTo>
                  <a:pt x="1704" y="303"/>
                </a:lnTo>
                <a:lnTo>
                  <a:pt x="1710" y="296"/>
                </a:lnTo>
                <a:lnTo>
                  <a:pt x="1711" y="292"/>
                </a:lnTo>
                <a:lnTo>
                  <a:pt x="1711" y="290"/>
                </a:lnTo>
                <a:lnTo>
                  <a:pt x="1707" y="290"/>
                </a:lnTo>
                <a:lnTo>
                  <a:pt x="1705" y="290"/>
                </a:lnTo>
                <a:lnTo>
                  <a:pt x="1698" y="293"/>
                </a:lnTo>
                <a:lnTo>
                  <a:pt x="1682" y="302"/>
                </a:lnTo>
                <a:lnTo>
                  <a:pt x="1665" y="310"/>
                </a:lnTo>
                <a:lnTo>
                  <a:pt x="1650" y="316"/>
                </a:lnTo>
                <a:lnTo>
                  <a:pt x="1647" y="315"/>
                </a:lnTo>
                <a:lnTo>
                  <a:pt x="1636" y="313"/>
                </a:lnTo>
                <a:lnTo>
                  <a:pt x="1614" y="309"/>
                </a:lnTo>
                <a:lnTo>
                  <a:pt x="1576" y="295"/>
                </a:lnTo>
                <a:lnTo>
                  <a:pt x="1565" y="287"/>
                </a:lnTo>
                <a:lnTo>
                  <a:pt x="1560" y="284"/>
                </a:lnTo>
                <a:lnTo>
                  <a:pt x="1559" y="281"/>
                </a:lnTo>
                <a:lnTo>
                  <a:pt x="1559" y="279"/>
                </a:lnTo>
                <a:lnTo>
                  <a:pt x="1563" y="268"/>
                </a:lnTo>
                <a:lnTo>
                  <a:pt x="1569" y="248"/>
                </a:lnTo>
                <a:lnTo>
                  <a:pt x="1572" y="231"/>
                </a:lnTo>
                <a:lnTo>
                  <a:pt x="1575" y="215"/>
                </a:lnTo>
                <a:lnTo>
                  <a:pt x="1585" y="200"/>
                </a:lnTo>
                <a:lnTo>
                  <a:pt x="1605" y="190"/>
                </a:lnTo>
                <a:lnTo>
                  <a:pt x="1623" y="184"/>
                </a:lnTo>
                <a:lnTo>
                  <a:pt x="1630" y="181"/>
                </a:lnTo>
                <a:lnTo>
                  <a:pt x="1637" y="177"/>
                </a:lnTo>
                <a:lnTo>
                  <a:pt x="1656" y="161"/>
                </a:lnTo>
                <a:lnTo>
                  <a:pt x="1698" y="124"/>
                </a:lnTo>
                <a:lnTo>
                  <a:pt x="1733" y="93"/>
                </a:lnTo>
                <a:lnTo>
                  <a:pt x="1737" y="96"/>
                </a:lnTo>
                <a:lnTo>
                  <a:pt x="1755" y="105"/>
                </a:lnTo>
                <a:lnTo>
                  <a:pt x="1768" y="110"/>
                </a:lnTo>
                <a:lnTo>
                  <a:pt x="1769" y="110"/>
                </a:lnTo>
                <a:lnTo>
                  <a:pt x="1773" y="109"/>
                </a:lnTo>
                <a:lnTo>
                  <a:pt x="1784" y="106"/>
                </a:lnTo>
                <a:lnTo>
                  <a:pt x="1805" y="103"/>
                </a:lnTo>
                <a:lnTo>
                  <a:pt x="1827" y="103"/>
                </a:lnTo>
                <a:lnTo>
                  <a:pt x="1833" y="102"/>
                </a:lnTo>
                <a:lnTo>
                  <a:pt x="1833" y="110"/>
                </a:lnTo>
                <a:lnTo>
                  <a:pt x="1833" y="129"/>
                </a:lnTo>
                <a:lnTo>
                  <a:pt x="1830" y="171"/>
                </a:lnTo>
                <a:lnTo>
                  <a:pt x="1823" y="190"/>
                </a:lnTo>
                <a:lnTo>
                  <a:pt x="1811" y="203"/>
                </a:lnTo>
                <a:lnTo>
                  <a:pt x="1804" y="208"/>
                </a:lnTo>
                <a:lnTo>
                  <a:pt x="1811" y="212"/>
                </a:lnTo>
                <a:lnTo>
                  <a:pt x="1834" y="225"/>
                </a:lnTo>
                <a:lnTo>
                  <a:pt x="1852" y="235"/>
                </a:lnTo>
                <a:lnTo>
                  <a:pt x="1853" y="235"/>
                </a:lnTo>
                <a:lnTo>
                  <a:pt x="1850" y="248"/>
                </a:lnTo>
                <a:lnTo>
                  <a:pt x="1844" y="274"/>
                </a:lnTo>
                <a:lnTo>
                  <a:pt x="1830" y="331"/>
                </a:lnTo>
                <a:lnTo>
                  <a:pt x="1814" y="373"/>
                </a:lnTo>
                <a:lnTo>
                  <a:pt x="1810" y="377"/>
                </a:lnTo>
                <a:lnTo>
                  <a:pt x="1811" y="390"/>
                </a:lnTo>
                <a:lnTo>
                  <a:pt x="1815" y="415"/>
                </a:lnTo>
                <a:lnTo>
                  <a:pt x="1815" y="470"/>
                </a:lnTo>
                <a:lnTo>
                  <a:pt x="1802" y="523"/>
                </a:lnTo>
                <a:lnTo>
                  <a:pt x="1797" y="535"/>
                </a:lnTo>
                <a:lnTo>
                  <a:pt x="1804" y="539"/>
                </a:lnTo>
                <a:lnTo>
                  <a:pt x="1830" y="552"/>
                </a:lnTo>
                <a:lnTo>
                  <a:pt x="1850" y="561"/>
                </a:lnTo>
                <a:lnTo>
                  <a:pt x="1852" y="561"/>
                </a:lnTo>
                <a:lnTo>
                  <a:pt x="1850" y="567"/>
                </a:lnTo>
                <a:lnTo>
                  <a:pt x="1849" y="576"/>
                </a:lnTo>
                <a:lnTo>
                  <a:pt x="1843" y="592"/>
                </a:lnTo>
                <a:lnTo>
                  <a:pt x="1834" y="606"/>
                </a:lnTo>
                <a:lnTo>
                  <a:pt x="1833" y="607"/>
                </a:lnTo>
                <a:lnTo>
                  <a:pt x="1827" y="607"/>
                </a:lnTo>
                <a:lnTo>
                  <a:pt x="1818" y="606"/>
                </a:lnTo>
                <a:lnTo>
                  <a:pt x="1802" y="602"/>
                </a:lnTo>
                <a:lnTo>
                  <a:pt x="1789" y="599"/>
                </a:lnTo>
                <a:lnTo>
                  <a:pt x="1788" y="597"/>
                </a:lnTo>
                <a:lnTo>
                  <a:pt x="1778" y="603"/>
                </a:lnTo>
                <a:lnTo>
                  <a:pt x="1758" y="612"/>
                </a:lnTo>
                <a:lnTo>
                  <a:pt x="1710" y="625"/>
                </a:lnTo>
                <a:lnTo>
                  <a:pt x="1662" y="623"/>
                </a:lnTo>
                <a:lnTo>
                  <a:pt x="1650" y="619"/>
                </a:lnTo>
                <a:lnTo>
                  <a:pt x="1650" y="609"/>
                </a:lnTo>
                <a:lnTo>
                  <a:pt x="1655" y="577"/>
                </a:lnTo>
                <a:lnTo>
                  <a:pt x="1656" y="552"/>
                </a:lnTo>
                <a:lnTo>
                  <a:pt x="1658" y="551"/>
                </a:lnTo>
                <a:lnTo>
                  <a:pt x="1662" y="550"/>
                </a:lnTo>
                <a:lnTo>
                  <a:pt x="1673" y="545"/>
                </a:lnTo>
                <a:lnTo>
                  <a:pt x="1700" y="539"/>
                </a:lnTo>
                <a:lnTo>
                  <a:pt x="1724" y="536"/>
                </a:lnTo>
                <a:lnTo>
                  <a:pt x="1730" y="535"/>
                </a:lnTo>
                <a:lnTo>
                  <a:pt x="1724" y="534"/>
                </a:lnTo>
                <a:lnTo>
                  <a:pt x="1711" y="529"/>
                </a:lnTo>
                <a:lnTo>
                  <a:pt x="1673" y="515"/>
                </a:lnTo>
                <a:lnTo>
                  <a:pt x="1658" y="506"/>
                </a:lnTo>
                <a:lnTo>
                  <a:pt x="1647" y="499"/>
                </a:lnTo>
                <a:lnTo>
                  <a:pt x="1647" y="494"/>
                </a:lnTo>
                <a:lnTo>
                  <a:pt x="1649" y="493"/>
                </a:lnTo>
                <a:lnTo>
                  <a:pt x="1653" y="490"/>
                </a:lnTo>
                <a:lnTo>
                  <a:pt x="1660" y="484"/>
                </a:lnTo>
                <a:lnTo>
                  <a:pt x="1679" y="458"/>
                </a:lnTo>
                <a:lnTo>
                  <a:pt x="1688" y="425"/>
                </a:lnTo>
                <a:lnTo>
                  <a:pt x="1687" y="413"/>
                </a:lnTo>
                <a:lnTo>
                  <a:pt x="1684" y="405"/>
                </a:lnTo>
                <a:lnTo>
                  <a:pt x="1681" y="399"/>
                </a:lnTo>
                <a:lnTo>
                  <a:pt x="1676" y="393"/>
                </a:lnTo>
                <a:lnTo>
                  <a:pt x="1671" y="390"/>
                </a:lnTo>
                <a:lnTo>
                  <a:pt x="1665" y="387"/>
                </a:lnTo>
                <a:lnTo>
                  <a:pt x="1655" y="383"/>
                </a:lnTo>
                <a:lnTo>
                  <a:pt x="1650" y="381"/>
                </a:lnTo>
                <a:lnTo>
                  <a:pt x="1647" y="377"/>
                </a:lnTo>
                <a:lnTo>
                  <a:pt x="1647" y="371"/>
                </a:lnTo>
                <a:lnTo>
                  <a:pt x="1647" y="364"/>
                </a:lnTo>
                <a:lnTo>
                  <a:pt x="1649" y="364"/>
                </a:lnTo>
                <a:lnTo>
                  <a:pt x="1652" y="358"/>
                </a:lnTo>
                <a:lnTo>
                  <a:pt x="1659" y="355"/>
                </a:lnTo>
                <a:lnTo>
                  <a:pt x="1668" y="355"/>
                </a:lnTo>
                <a:lnTo>
                  <a:pt x="1676" y="357"/>
                </a:lnTo>
                <a:lnTo>
                  <a:pt x="1688" y="361"/>
                </a:lnTo>
                <a:lnTo>
                  <a:pt x="1708" y="373"/>
                </a:lnTo>
                <a:lnTo>
                  <a:pt x="1736" y="389"/>
                </a:lnTo>
                <a:lnTo>
                  <a:pt x="1737" y="387"/>
                </a:lnTo>
                <a:lnTo>
                  <a:pt x="1733" y="384"/>
                </a:lnTo>
                <a:lnTo>
                  <a:pt x="1730" y="381"/>
                </a:lnTo>
                <a:lnTo>
                  <a:pt x="1721" y="374"/>
                </a:lnTo>
                <a:lnTo>
                  <a:pt x="1701" y="358"/>
                </a:lnTo>
                <a:lnTo>
                  <a:pt x="1689" y="345"/>
                </a:lnTo>
                <a:lnTo>
                  <a:pt x="1689" y="345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8200" y="3476520"/>
            <a:ext cx="157320" cy="84240"/>
          </a:xfrm>
          <a:custGeom>
            <a:avLst/>
            <a:gdLst/>
            <a:ahLst/>
            <a:rect l="l" t="t" r="r" b="b"/>
            <a:pathLst>
              <a:path w="458" h="256">
                <a:moveTo>
                  <a:pt x="219" y="174"/>
                </a:moveTo>
                <a:lnTo>
                  <a:pt x="216" y="176"/>
                </a:lnTo>
                <a:lnTo>
                  <a:pt x="214" y="181"/>
                </a:lnTo>
                <a:lnTo>
                  <a:pt x="214" y="184"/>
                </a:lnTo>
                <a:lnTo>
                  <a:pt x="214" y="188"/>
                </a:lnTo>
                <a:lnTo>
                  <a:pt x="213" y="191"/>
                </a:lnTo>
                <a:lnTo>
                  <a:pt x="208" y="195"/>
                </a:lnTo>
                <a:lnTo>
                  <a:pt x="207" y="197"/>
                </a:lnTo>
                <a:lnTo>
                  <a:pt x="200" y="204"/>
                </a:lnTo>
                <a:lnTo>
                  <a:pt x="185" y="214"/>
                </a:lnTo>
                <a:lnTo>
                  <a:pt x="158" y="232"/>
                </a:lnTo>
                <a:lnTo>
                  <a:pt x="129" y="250"/>
                </a:lnTo>
                <a:lnTo>
                  <a:pt x="122" y="256"/>
                </a:lnTo>
                <a:lnTo>
                  <a:pt x="117" y="249"/>
                </a:lnTo>
                <a:lnTo>
                  <a:pt x="116" y="243"/>
                </a:lnTo>
                <a:lnTo>
                  <a:pt x="114" y="229"/>
                </a:lnTo>
                <a:lnTo>
                  <a:pt x="111" y="198"/>
                </a:lnTo>
                <a:lnTo>
                  <a:pt x="111" y="182"/>
                </a:lnTo>
                <a:lnTo>
                  <a:pt x="106" y="181"/>
                </a:lnTo>
                <a:lnTo>
                  <a:pt x="95" y="181"/>
                </a:lnTo>
                <a:lnTo>
                  <a:pt x="85" y="181"/>
                </a:lnTo>
                <a:lnTo>
                  <a:pt x="65" y="181"/>
                </a:lnTo>
                <a:lnTo>
                  <a:pt x="52" y="178"/>
                </a:lnTo>
                <a:lnTo>
                  <a:pt x="43" y="172"/>
                </a:lnTo>
                <a:lnTo>
                  <a:pt x="19" y="155"/>
                </a:lnTo>
                <a:lnTo>
                  <a:pt x="0" y="143"/>
                </a:lnTo>
                <a:lnTo>
                  <a:pt x="0" y="142"/>
                </a:lnTo>
                <a:lnTo>
                  <a:pt x="1" y="133"/>
                </a:lnTo>
                <a:lnTo>
                  <a:pt x="10" y="116"/>
                </a:lnTo>
                <a:lnTo>
                  <a:pt x="35" y="81"/>
                </a:lnTo>
                <a:lnTo>
                  <a:pt x="62" y="52"/>
                </a:lnTo>
                <a:lnTo>
                  <a:pt x="69" y="46"/>
                </a:lnTo>
                <a:lnTo>
                  <a:pt x="95" y="45"/>
                </a:lnTo>
                <a:lnTo>
                  <a:pt x="159" y="32"/>
                </a:lnTo>
                <a:lnTo>
                  <a:pt x="300" y="3"/>
                </a:lnTo>
                <a:lnTo>
                  <a:pt x="366" y="0"/>
                </a:lnTo>
                <a:lnTo>
                  <a:pt x="423" y="17"/>
                </a:lnTo>
                <a:lnTo>
                  <a:pt x="446" y="33"/>
                </a:lnTo>
                <a:lnTo>
                  <a:pt x="448" y="37"/>
                </a:lnTo>
                <a:lnTo>
                  <a:pt x="450" y="43"/>
                </a:lnTo>
                <a:lnTo>
                  <a:pt x="456" y="56"/>
                </a:lnTo>
                <a:lnTo>
                  <a:pt x="458" y="74"/>
                </a:lnTo>
                <a:lnTo>
                  <a:pt x="458" y="79"/>
                </a:lnTo>
                <a:lnTo>
                  <a:pt x="452" y="81"/>
                </a:lnTo>
                <a:lnTo>
                  <a:pt x="448" y="82"/>
                </a:lnTo>
                <a:lnTo>
                  <a:pt x="432" y="88"/>
                </a:lnTo>
                <a:lnTo>
                  <a:pt x="387" y="101"/>
                </a:lnTo>
                <a:lnTo>
                  <a:pt x="277" y="140"/>
                </a:lnTo>
                <a:lnTo>
                  <a:pt x="219" y="174"/>
                </a:lnTo>
                <a:lnTo>
                  <a:pt x="219" y="174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45440" y="1789200"/>
            <a:ext cx="95040" cy="109440"/>
          </a:xfrm>
          <a:custGeom>
            <a:avLst/>
            <a:gdLst/>
            <a:ahLst/>
            <a:rect l="l" t="t" r="r" b="b"/>
            <a:pathLst>
              <a:path w="273" h="334">
                <a:moveTo>
                  <a:pt x="71" y="10"/>
                </a:moveTo>
                <a:lnTo>
                  <a:pt x="73" y="12"/>
                </a:lnTo>
                <a:lnTo>
                  <a:pt x="81" y="16"/>
                </a:lnTo>
                <a:lnTo>
                  <a:pt x="87" y="19"/>
                </a:lnTo>
                <a:lnTo>
                  <a:pt x="89" y="19"/>
                </a:lnTo>
                <a:lnTo>
                  <a:pt x="93" y="19"/>
                </a:lnTo>
                <a:lnTo>
                  <a:pt x="97" y="18"/>
                </a:lnTo>
                <a:lnTo>
                  <a:pt x="108" y="13"/>
                </a:lnTo>
                <a:lnTo>
                  <a:pt x="131" y="2"/>
                </a:lnTo>
                <a:lnTo>
                  <a:pt x="163" y="0"/>
                </a:lnTo>
                <a:lnTo>
                  <a:pt x="168" y="5"/>
                </a:lnTo>
                <a:lnTo>
                  <a:pt x="176" y="9"/>
                </a:lnTo>
                <a:lnTo>
                  <a:pt x="189" y="24"/>
                </a:lnTo>
                <a:lnTo>
                  <a:pt x="202" y="41"/>
                </a:lnTo>
                <a:lnTo>
                  <a:pt x="228" y="74"/>
                </a:lnTo>
                <a:lnTo>
                  <a:pt x="242" y="86"/>
                </a:lnTo>
                <a:lnTo>
                  <a:pt x="241" y="87"/>
                </a:lnTo>
                <a:lnTo>
                  <a:pt x="238" y="89"/>
                </a:lnTo>
                <a:lnTo>
                  <a:pt x="225" y="97"/>
                </a:lnTo>
                <a:lnTo>
                  <a:pt x="215" y="103"/>
                </a:lnTo>
                <a:lnTo>
                  <a:pt x="215" y="103"/>
                </a:lnTo>
                <a:lnTo>
                  <a:pt x="221" y="110"/>
                </a:lnTo>
                <a:lnTo>
                  <a:pt x="235" y="128"/>
                </a:lnTo>
                <a:lnTo>
                  <a:pt x="261" y="167"/>
                </a:lnTo>
                <a:lnTo>
                  <a:pt x="270" y="187"/>
                </a:lnTo>
                <a:lnTo>
                  <a:pt x="273" y="210"/>
                </a:lnTo>
                <a:lnTo>
                  <a:pt x="271" y="221"/>
                </a:lnTo>
                <a:lnTo>
                  <a:pt x="267" y="225"/>
                </a:lnTo>
                <a:lnTo>
                  <a:pt x="263" y="228"/>
                </a:lnTo>
                <a:lnTo>
                  <a:pt x="251" y="237"/>
                </a:lnTo>
                <a:lnTo>
                  <a:pt x="225" y="260"/>
                </a:lnTo>
                <a:lnTo>
                  <a:pt x="215" y="292"/>
                </a:lnTo>
                <a:lnTo>
                  <a:pt x="215" y="300"/>
                </a:lnTo>
                <a:lnTo>
                  <a:pt x="213" y="312"/>
                </a:lnTo>
                <a:lnTo>
                  <a:pt x="213" y="316"/>
                </a:lnTo>
                <a:lnTo>
                  <a:pt x="210" y="319"/>
                </a:lnTo>
                <a:lnTo>
                  <a:pt x="209" y="322"/>
                </a:lnTo>
                <a:lnTo>
                  <a:pt x="206" y="323"/>
                </a:lnTo>
                <a:lnTo>
                  <a:pt x="202" y="325"/>
                </a:lnTo>
                <a:lnTo>
                  <a:pt x="193" y="328"/>
                </a:lnTo>
                <a:lnTo>
                  <a:pt x="181" y="334"/>
                </a:lnTo>
                <a:lnTo>
                  <a:pt x="181" y="334"/>
                </a:lnTo>
                <a:lnTo>
                  <a:pt x="180" y="331"/>
                </a:lnTo>
                <a:lnTo>
                  <a:pt x="180" y="328"/>
                </a:lnTo>
                <a:lnTo>
                  <a:pt x="176" y="319"/>
                </a:lnTo>
                <a:lnTo>
                  <a:pt x="167" y="300"/>
                </a:lnTo>
                <a:lnTo>
                  <a:pt x="163" y="286"/>
                </a:lnTo>
                <a:lnTo>
                  <a:pt x="155" y="287"/>
                </a:lnTo>
                <a:lnTo>
                  <a:pt x="145" y="290"/>
                </a:lnTo>
                <a:lnTo>
                  <a:pt x="139" y="295"/>
                </a:lnTo>
                <a:lnTo>
                  <a:pt x="134" y="302"/>
                </a:lnTo>
                <a:lnTo>
                  <a:pt x="131" y="309"/>
                </a:lnTo>
                <a:lnTo>
                  <a:pt x="126" y="318"/>
                </a:lnTo>
                <a:lnTo>
                  <a:pt x="125" y="322"/>
                </a:lnTo>
                <a:lnTo>
                  <a:pt x="122" y="322"/>
                </a:lnTo>
                <a:lnTo>
                  <a:pt x="116" y="321"/>
                </a:lnTo>
                <a:lnTo>
                  <a:pt x="110" y="319"/>
                </a:lnTo>
                <a:lnTo>
                  <a:pt x="97" y="315"/>
                </a:lnTo>
                <a:lnTo>
                  <a:pt x="89" y="312"/>
                </a:lnTo>
                <a:lnTo>
                  <a:pt x="87" y="308"/>
                </a:lnTo>
                <a:lnTo>
                  <a:pt x="87" y="299"/>
                </a:lnTo>
                <a:lnTo>
                  <a:pt x="83" y="283"/>
                </a:lnTo>
                <a:lnTo>
                  <a:pt x="80" y="270"/>
                </a:lnTo>
                <a:lnTo>
                  <a:pt x="80" y="267"/>
                </a:lnTo>
                <a:lnTo>
                  <a:pt x="77" y="273"/>
                </a:lnTo>
                <a:lnTo>
                  <a:pt x="73" y="283"/>
                </a:lnTo>
                <a:lnTo>
                  <a:pt x="64" y="303"/>
                </a:lnTo>
                <a:lnTo>
                  <a:pt x="54" y="321"/>
                </a:lnTo>
                <a:lnTo>
                  <a:pt x="52" y="322"/>
                </a:lnTo>
                <a:lnTo>
                  <a:pt x="50" y="322"/>
                </a:lnTo>
                <a:lnTo>
                  <a:pt x="47" y="322"/>
                </a:lnTo>
                <a:lnTo>
                  <a:pt x="42" y="319"/>
                </a:lnTo>
                <a:lnTo>
                  <a:pt x="37" y="316"/>
                </a:lnTo>
                <a:lnTo>
                  <a:pt x="32" y="313"/>
                </a:lnTo>
                <a:lnTo>
                  <a:pt x="29" y="309"/>
                </a:lnTo>
                <a:lnTo>
                  <a:pt x="28" y="303"/>
                </a:lnTo>
                <a:lnTo>
                  <a:pt x="29" y="303"/>
                </a:lnTo>
                <a:lnTo>
                  <a:pt x="26" y="293"/>
                </a:lnTo>
                <a:lnTo>
                  <a:pt x="26" y="287"/>
                </a:lnTo>
                <a:lnTo>
                  <a:pt x="26" y="286"/>
                </a:lnTo>
                <a:lnTo>
                  <a:pt x="23" y="280"/>
                </a:lnTo>
                <a:lnTo>
                  <a:pt x="22" y="277"/>
                </a:lnTo>
                <a:lnTo>
                  <a:pt x="16" y="270"/>
                </a:lnTo>
                <a:lnTo>
                  <a:pt x="5" y="257"/>
                </a:lnTo>
                <a:lnTo>
                  <a:pt x="2" y="252"/>
                </a:lnTo>
                <a:lnTo>
                  <a:pt x="0" y="247"/>
                </a:lnTo>
                <a:lnTo>
                  <a:pt x="0" y="235"/>
                </a:lnTo>
                <a:lnTo>
                  <a:pt x="3" y="218"/>
                </a:lnTo>
                <a:lnTo>
                  <a:pt x="6" y="212"/>
                </a:lnTo>
                <a:lnTo>
                  <a:pt x="13" y="206"/>
                </a:lnTo>
                <a:lnTo>
                  <a:pt x="18" y="203"/>
                </a:lnTo>
                <a:lnTo>
                  <a:pt x="29" y="208"/>
                </a:lnTo>
                <a:lnTo>
                  <a:pt x="64" y="218"/>
                </a:lnTo>
                <a:lnTo>
                  <a:pt x="90" y="226"/>
                </a:lnTo>
                <a:lnTo>
                  <a:pt x="93" y="226"/>
                </a:lnTo>
                <a:lnTo>
                  <a:pt x="86" y="219"/>
                </a:lnTo>
                <a:lnTo>
                  <a:pt x="70" y="200"/>
                </a:lnTo>
                <a:lnTo>
                  <a:pt x="44" y="157"/>
                </a:lnTo>
                <a:lnTo>
                  <a:pt x="39" y="135"/>
                </a:lnTo>
                <a:lnTo>
                  <a:pt x="41" y="125"/>
                </a:lnTo>
                <a:lnTo>
                  <a:pt x="45" y="116"/>
                </a:lnTo>
                <a:lnTo>
                  <a:pt x="51" y="108"/>
                </a:lnTo>
                <a:lnTo>
                  <a:pt x="52" y="108"/>
                </a:lnTo>
                <a:lnTo>
                  <a:pt x="50" y="103"/>
                </a:lnTo>
                <a:lnTo>
                  <a:pt x="45" y="95"/>
                </a:lnTo>
                <a:lnTo>
                  <a:pt x="39" y="74"/>
                </a:lnTo>
                <a:lnTo>
                  <a:pt x="45" y="45"/>
                </a:lnTo>
                <a:lnTo>
                  <a:pt x="50" y="37"/>
                </a:lnTo>
                <a:lnTo>
                  <a:pt x="52" y="34"/>
                </a:lnTo>
                <a:lnTo>
                  <a:pt x="63" y="21"/>
                </a:lnTo>
                <a:lnTo>
                  <a:pt x="70" y="12"/>
                </a:lnTo>
                <a:lnTo>
                  <a:pt x="71" y="10"/>
                </a:lnTo>
                <a:lnTo>
                  <a:pt x="71" y="1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00800" y="2525760"/>
            <a:ext cx="42840" cy="15840"/>
          </a:xfrm>
          <a:custGeom>
            <a:avLst/>
            <a:gdLst/>
            <a:ahLst/>
            <a:rect l="l" t="t" r="r" b="b"/>
            <a:pathLst>
              <a:path w="120" h="52">
                <a:moveTo>
                  <a:pt x="110" y="1"/>
                </a:moveTo>
                <a:lnTo>
                  <a:pt x="110" y="5"/>
                </a:lnTo>
                <a:lnTo>
                  <a:pt x="114" y="14"/>
                </a:lnTo>
                <a:lnTo>
                  <a:pt x="120" y="34"/>
                </a:lnTo>
                <a:lnTo>
                  <a:pt x="119" y="39"/>
                </a:lnTo>
                <a:lnTo>
                  <a:pt x="117" y="42"/>
                </a:lnTo>
                <a:lnTo>
                  <a:pt x="116" y="46"/>
                </a:lnTo>
                <a:lnTo>
                  <a:pt x="111" y="49"/>
                </a:lnTo>
                <a:lnTo>
                  <a:pt x="106" y="50"/>
                </a:lnTo>
                <a:lnTo>
                  <a:pt x="106" y="50"/>
                </a:lnTo>
                <a:lnTo>
                  <a:pt x="95" y="52"/>
                </a:lnTo>
                <a:lnTo>
                  <a:pt x="77" y="49"/>
                </a:lnTo>
                <a:lnTo>
                  <a:pt x="59" y="42"/>
                </a:lnTo>
                <a:lnTo>
                  <a:pt x="43" y="33"/>
                </a:lnTo>
                <a:lnTo>
                  <a:pt x="8" y="20"/>
                </a:lnTo>
                <a:lnTo>
                  <a:pt x="0" y="18"/>
                </a:lnTo>
                <a:lnTo>
                  <a:pt x="4" y="10"/>
                </a:lnTo>
                <a:lnTo>
                  <a:pt x="7" y="5"/>
                </a:lnTo>
                <a:lnTo>
                  <a:pt x="8" y="4"/>
                </a:lnTo>
                <a:lnTo>
                  <a:pt x="20" y="2"/>
                </a:lnTo>
                <a:lnTo>
                  <a:pt x="39" y="0"/>
                </a:lnTo>
                <a:lnTo>
                  <a:pt x="69" y="0"/>
                </a:lnTo>
                <a:lnTo>
                  <a:pt x="100" y="1"/>
                </a:lnTo>
                <a:lnTo>
                  <a:pt x="110" y="1"/>
                </a:lnTo>
                <a:lnTo>
                  <a:pt x="110" y="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35720" y="2590920"/>
            <a:ext cx="36720" cy="19080"/>
          </a:xfrm>
          <a:custGeom>
            <a:avLst/>
            <a:gdLst/>
            <a:ahLst/>
            <a:rect l="l" t="t" r="r" b="b"/>
            <a:pathLst>
              <a:path w="106" h="55">
                <a:moveTo>
                  <a:pt x="6" y="0"/>
                </a:moveTo>
                <a:lnTo>
                  <a:pt x="20" y="9"/>
                </a:lnTo>
                <a:lnTo>
                  <a:pt x="39" y="16"/>
                </a:lnTo>
                <a:lnTo>
                  <a:pt x="44" y="17"/>
                </a:lnTo>
                <a:lnTo>
                  <a:pt x="49" y="16"/>
                </a:lnTo>
                <a:lnTo>
                  <a:pt x="52" y="14"/>
                </a:lnTo>
                <a:lnTo>
                  <a:pt x="57" y="12"/>
                </a:lnTo>
                <a:lnTo>
                  <a:pt x="68" y="6"/>
                </a:lnTo>
                <a:lnTo>
                  <a:pt x="89" y="1"/>
                </a:lnTo>
                <a:lnTo>
                  <a:pt x="106" y="0"/>
                </a:lnTo>
                <a:lnTo>
                  <a:pt x="105" y="6"/>
                </a:lnTo>
                <a:lnTo>
                  <a:pt x="103" y="14"/>
                </a:lnTo>
                <a:lnTo>
                  <a:pt x="99" y="32"/>
                </a:lnTo>
                <a:lnTo>
                  <a:pt x="96" y="51"/>
                </a:lnTo>
                <a:lnTo>
                  <a:pt x="97" y="55"/>
                </a:lnTo>
                <a:lnTo>
                  <a:pt x="89" y="54"/>
                </a:lnTo>
                <a:lnTo>
                  <a:pt x="67" y="52"/>
                </a:lnTo>
                <a:lnTo>
                  <a:pt x="19" y="42"/>
                </a:lnTo>
                <a:lnTo>
                  <a:pt x="10" y="38"/>
                </a:lnTo>
                <a:lnTo>
                  <a:pt x="5" y="32"/>
                </a:lnTo>
                <a:lnTo>
                  <a:pt x="0" y="23"/>
                </a:lnTo>
                <a:lnTo>
                  <a:pt x="0" y="13"/>
                </a:lnTo>
                <a:lnTo>
                  <a:pt x="5" y="0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62720" y="2558880"/>
            <a:ext cx="12960" cy="16200"/>
          </a:xfrm>
          <a:custGeom>
            <a:avLst/>
            <a:gdLst/>
            <a:ahLst/>
            <a:rect l="l" t="t" r="r" b="b"/>
            <a:pathLst>
              <a:path w="34" h="46">
                <a:moveTo>
                  <a:pt x="29" y="46"/>
                </a:moveTo>
                <a:lnTo>
                  <a:pt x="22" y="46"/>
                </a:lnTo>
                <a:lnTo>
                  <a:pt x="16" y="43"/>
                </a:lnTo>
                <a:lnTo>
                  <a:pt x="12" y="39"/>
                </a:lnTo>
                <a:lnTo>
                  <a:pt x="8" y="34"/>
                </a:lnTo>
                <a:lnTo>
                  <a:pt x="5" y="29"/>
                </a:lnTo>
                <a:lnTo>
                  <a:pt x="0" y="18"/>
                </a:lnTo>
                <a:lnTo>
                  <a:pt x="0" y="13"/>
                </a:lnTo>
                <a:lnTo>
                  <a:pt x="2" y="7"/>
                </a:lnTo>
                <a:lnTo>
                  <a:pt x="5" y="4"/>
                </a:lnTo>
                <a:lnTo>
                  <a:pt x="9" y="1"/>
                </a:lnTo>
                <a:lnTo>
                  <a:pt x="15" y="0"/>
                </a:lnTo>
                <a:lnTo>
                  <a:pt x="16" y="0"/>
                </a:lnTo>
                <a:lnTo>
                  <a:pt x="18" y="2"/>
                </a:lnTo>
                <a:lnTo>
                  <a:pt x="24" y="10"/>
                </a:lnTo>
                <a:lnTo>
                  <a:pt x="32" y="26"/>
                </a:lnTo>
                <a:lnTo>
                  <a:pt x="34" y="34"/>
                </a:lnTo>
                <a:lnTo>
                  <a:pt x="32" y="43"/>
                </a:lnTo>
                <a:lnTo>
                  <a:pt x="29" y="46"/>
                </a:lnTo>
                <a:lnTo>
                  <a:pt x="29" y="46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88280" y="2562120"/>
            <a:ext cx="30240" cy="39960"/>
          </a:xfrm>
          <a:custGeom>
            <a:avLst/>
            <a:gdLst/>
            <a:ahLst/>
            <a:rect l="l" t="t" r="r" b="b"/>
            <a:pathLst>
              <a:path w="86" h="119">
                <a:moveTo>
                  <a:pt x="0" y="71"/>
                </a:moveTo>
                <a:lnTo>
                  <a:pt x="5" y="67"/>
                </a:lnTo>
                <a:lnTo>
                  <a:pt x="12" y="54"/>
                </a:lnTo>
                <a:lnTo>
                  <a:pt x="19" y="39"/>
                </a:lnTo>
                <a:lnTo>
                  <a:pt x="32" y="13"/>
                </a:lnTo>
                <a:lnTo>
                  <a:pt x="45" y="0"/>
                </a:lnTo>
                <a:lnTo>
                  <a:pt x="47" y="3"/>
                </a:lnTo>
                <a:lnTo>
                  <a:pt x="54" y="12"/>
                </a:lnTo>
                <a:lnTo>
                  <a:pt x="73" y="36"/>
                </a:lnTo>
                <a:lnTo>
                  <a:pt x="84" y="57"/>
                </a:lnTo>
                <a:lnTo>
                  <a:pt x="86" y="58"/>
                </a:lnTo>
                <a:lnTo>
                  <a:pt x="86" y="70"/>
                </a:lnTo>
                <a:lnTo>
                  <a:pt x="86" y="87"/>
                </a:lnTo>
                <a:lnTo>
                  <a:pt x="86" y="96"/>
                </a:lnTo>
                <a:lnTo>
                  <a:pt x="84" y="100"/>
                </a:lnTo>
                <a:lnTo>
                  <a:pt x="81" y="103"/>
                </a:lnTo>
                <a:lnTo>
                  <a:pt x="77" y="105"/>
                </a:lnTo>
                <a:lnTo>
                  <a:pt x="73" y="107"/>
                </a:lnTo>
                <a:lnTo>
                  <a:pt x="55" y="115"/>
                </a:lnTo>
                <a:lnTo>
                  <a:pt x="45" y="119"/>
                </a:lnTo>
                <a:lnTo>
                  <a:pt x="44" y="116"/>
                </a:lnTo>
                <a:lnTo>
                  <a:pt x="41" y="113"/>
                </a:lnTo>
                <a:lnTo>
                  <a:pt x="38" y="112"/>
                </a:lnTo>
                <a:lnTo>
                  <a:pt x="34" y="109"/>
                </a:lnTo>
                <a:lnTo>
                  <a:pt x="24" y="105"/>
                </a:lnTo>
                <a:lnTo>
                  <a:pt x="13" y="99"/>
                </a:lnTo>
                <a:lnTo>
                  <a:pt x="5" y="89"/>
                </a:lnTo>
                <a:lnTo>
                  <a:pt x="0" y="71"/>
                </a:lnTo>
                <a:lnTo>
                  <a:pt x="0" y="71"/>
                </a:lnTo>
                <a:lnTo>
                  <a:pt x="0" y="7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78640" y="2471760"/>
            <a:ext cx="28800" cy="46080"/>
          </a:xfrm>
          <a:custGeom>
            <a:avLst/>
            <a:gdLst/>
            <a:ahLst/>
            <a:rect l="l" t="t" r="r" b="b"/>
            <a:pathLst>
              <a:path w="79" h="141">
                <a:moveTo>
                  <a:pt x="72" y="119"/>
                </a:moveTo>
                <a:lnTo>
                  <a:pt x="65" y="119"/>
                </a:lnTo>
                <a:lnTo>
                  <a:pt x="56" y="119"/>
                </a:lnTo>
                <a:lnTo>
                  <a:pt x="43" y="115"/>
                </a:lnTo>
                <a:lnTo>
                  <a:pt x="30" y="112"/>
                </a:lnTo>
                <a:lnTo>
                  <a:pt x="26" y="110"/>
                </a:lnTo>
                <a:lnTo>
                  <a:pt x="23" y="113"/>
                </a:lnTo>
                <a:lnTo>
                  <a:pt x="18" y="119"/>
                </a:lnTo>
                <a:lnTo>
                  <a:pt x="10" y="131"/>
                </a:lnTo>
                <a:lnTo>
                  <a:pt x="4" y="141"/>
                </a:lnTo>
                <a:lnTo>
                  <a:pt x="2" y="141"/>
                </a:lnTo>
                <a:lnTo>
                  <a:pt x="1" y="135"/>
                </a:lnTo>
                <a:lnTo>
                  <a:pt x="0" y="121"/>
                </a:lnTo>
                <a:lnTo>
                  <a:pt x="2" y="89"/>
                </a:lnTo>
                <a:lnTo>
                  <a:pt x="8" y="60"/>
                </a:lnTo>
                <a:lnTo>
                  <a:pt x="10" y="53"/>
                </a:lnTo>
                <a:lnTo>
                  <a:pt x="10" y="48"/>
                </a:lnTo>
                <a:lnTo>
                  <a:pt x="10" y="41"/>
                </a:lnTo>
                <a:lnTo>
                  <a:pt x="11" y="28"/>
                </a:lnTo>
                <a:lnTo>
                  <a:pt x="11" y="9"/>
                </a:lnTo>
                <a:lnTo>
                  <a:pt x="13" y="0"/>
                </a:lnTo>
                <a:lnTo>
                  <a:pt x="21" y="2"/>
                </a:lnTo>
                <a:lnTo>
                  <a:pt x="33" y="5"/>
                </a:lnTo>
                <a:lnTo>
                  <a:pt x="36" y="6"/>
                </a:lnTo>
                <a:lnTo>
                  <a:pt x="37" y="9"/>
                </a:lnTo>
                <a:lnTo>
                  <a:pt x="39" y="11"/>
                </a:lnTo>
                <a:lnTo>
                  <a:pt x="43" y="21"/>
                </a:lnTo>
                <a:lnTo>
                  <a:pt x="78" y="55"/>
                </a:lnTo>
                <a:lnTo>
                  <a:pt x="79" y="55"/>
                </a:lnTo>
                <a:lnTo>
                  <a:pt x="79" y="61"/>
                </a:lnTo>
                <a:lnTo>
                  <a:pt x="79" y="71"/>
                </a:lnTo>
                <a:lnTo>
                  <a:pt x="79" y="96"/>
                </a:lnTo>
                <a:lnTo>
                  <a:pt x="78" y="108"/>
                </a:lnTo>
                <a:lnTo>
                  <a:pt x="73" y="116"/>
                </a:lnTo>
                <a:lnTo>
                  <a:pt x="72" y="119"/>
                </a:lnTo>
                <a:lnTo>
                  <a:pt x="72" y="11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85040" y="2419200"/>
            <a:ext cx="85680" cy="127080"/>
          </a:xfrm>
          <a:custGeom>
            <a:avLst/>
            <a:gdLst/>
            <a:ahLst/>
            <a:rect l="l" t="t" r="r" b="b"/>
            <a:pathLst>
              <a:path w="255" h="386">
                <a:moveTo>
                  <a:pt x="116" y="156"/>
                </a:moveTo>
                <a:lnTo>
                  <a:pt x="123" y="152"/>
                </a:lnTo>
                <a:lnTo>
                  <a:pt x="139" y="140"/>
                </a:lnTo>
                <a:lnTo>
                  <a:pt x="165" y="118"/>
                </a:lnTo>
                <a:lnTo>
                  <a:pt x="192" y="94"/>
                </a:lnTo>
                <a:lnTo>
                  <a:pt x="199" y="86"/>
                </a:lnTo>
                <a:lnTo>
                  <a:pt x="202" y="91"/>
                </a:lnTo>
                <a:lnTo>
                  <a:pt x="207" y="102"/>
                </a:lnTo>
                <a:lnTo>
                  <a:pt x="212" y="114"/>
                </a:lnTo>
                <a:lnTo>
                  <a:pt x="216" y="139"/>
                </a:lnTo>
                <a:lnTo>
                  <a:pt x="216" y="156"/>
                </a:lnTo>
                <a:lnTo>
                  <a:pt x="222" y="152"/>
                </a:lnTo>
                <a:lnTo>
                  <a:pt x="239" y="136"/>
                </a:lnTo>
                <a:lnTo>
                  <a:pt x="254" y="123"/>
                </a:lnTo>
                <a:lnTo>
                  <a:pt x="255" y="121"/>
                </a:lnTo>
                <a:lnTo>
                  <a:pt x="255" y="134"/>
                </a:lnTo>
                <a:lnTo>
                  <a:pt x="255" y="172"/>
                </a:lnTo>
                <a:lnTo>
                  <a:pt x="250" y="269"/>
                </a:lnTo>
                <a:lnTo>
                  <a:pt x="236" y="310"/>
                </a:lnTo>
                <a:lnTo>
                  <a:pt x="226" y="324"/>
                </a:lnTo>
                <a:lnTo>
                  <a:pt x="213" y="334"/>
                </a:lnTo>
                <a:lnTo>
                  <a:pt x="199" y="337"/>
                </a:lnTo>
                <a:lnTo>
                  <a:pt x="199" y="337"/>
                </a:lnTo>
                <a:lnTo>
                  <a:pt x="199" y="334"/>
                </a:lnTo>
                <a:lnTo>
                  <a:pt x="199" y="327"/>
                </a:lnTo>
                <a:lnTo>
                  <a:pt x="203" y="308"/>
                </a:lnTo>
                <a:lnTo>
                  <a:pt x="206" y="291"/>
                </a:lnTo>
                <a:lnTo>
                  <a:pt x="207" y="286"/>
                </a:lnTo>
                <a:lnTo>
                  <a:pt x="184" y="288"/>
                </a:lnTo>
                <a:lnTo>
                  <a:pt x="148" y="297"/>
                </a:lnTo>
                <a:lnTo>
                  <a:pt x="122" y="311"/>
                </a:lnTo>
                <a:lnTo>
                  <a:pt x="100" y="331"/>
                </a:lnTo>
                <a:lnTo>
                  <a:pt x="52" y="376"/>
                </a:lnTo>
                <a:lnTo>
                  <a:pt x="37" y="386"/>
                </a:lnTo>
                <a:lnTo>
                  <a:pt x="37" y="385"/>
                </a:lnTo>
                <a:lnTo>
                  <a:pt x="38" y="375"/>
                </a:lnTo>
                <a:lnTo>
                  <a:pt x="44" y="336"/>
                </a:lnTo>
                <a:lnTo>
                  <a:pt x="48" y="301"/>
                </a:lnTo>
                <a:lnTo>
                  <a:pt x="50" y="297"/>
                </a:lnTo>
                <a:lnTo>
                  <a:pt x="41" y="294"/>
                </a:lnTo>
                <a:lnTo>
                  <a:pt x="31" y="288"/>
                </a:lnTo>
                <a:lnTo>
                  <a:pt x="22" y="282"/>
                </a:lnTo>
                <a:lnTo>
                  <a:pt x="21" y="279"/>
                </a:lnTo>
                <a:lnTo>
                  <a:pt x="16" y="260"/>
                </a:lnTo>
                <a:lnTo>
                  <a:pt x="8" y="199"/>
                </a:lnTo>
                <a:lnTo>
                  <a:pt x="2" y="153"/>
                </a:lnTo>
                <a:lnTo>
                  <a:pt x="2" y="150"/>
                </a:lnTo>
                <a:lnTo>
                  <a:pt x="0" y="136"/>
                </a:lnTo>
                <a:lnTo>
                  <a:pt x="0" y="100"/>
                </a:lnTo>
                <a:lnTo>
                  <a:pt x="8" y="26"/>
                </a:lnTo>
                <a:lnTo>
                  <a:pt x="12" y="13"/>
                </a:lnTo>
                <a:lnTo>
                  <a:pt x="18" y="4"/>
                </a:lnTo>
                <a:lnTo>
                  <a:pt x="21" y="1"/>
                </a:lnTo>
                <a:lnTo>
                  <a:pt x="23" y="0"/>
                </a:lnTo>
                <a:lnTo>
                  <a:pt x="28" y="1"/>
                </a:lnTo>
                <a:lnTo>
                  <a:pt x="31" y="2"/>
                </a:lnTo>
                <a:lnTo>
                  <a:pt x="35" y="7"/>
                </a:lnTo>
                <a:lnTo>
                  <a:pt x="39" y="13"/>
                </a:lnTo>
                <a:lnTo>
                  <a:pt x="41" y="13"/>
                </a:lnTo>
                <a:lnTo>
                  <a:pt x="45" y="23"/>
                </a:lnTo>
                <a:lnTo>
                  <a:pt x="52" y="44"/>
                </a:lnTo>
                <a:lnTo>
                  <a:pt x="57" y="69"/>
                </a:lnTo>
                <a:lnTo>
                  <a:pt x="60" y="120"/>
                </a:lnTo>
                <a:lnTo>
                  <a:pt x="61" y="150"/>
                </a:lnTo>
                <a:lnTo>
                  <a:pt x="68" y="146"/>
                </a:lnTo>
                <a:lnTo>
                  <a:pt x="83" y="134"/>
                </a:lnTo>
                <a:lnTo>
                  <a:pt x="92" y="127"/>
                </a:lnTo>
                <a:lnTo>
                  <a:pt x="96" y="126"/>
                </a:lnTo>
                <a:lnTo>
                  <a:pt x="99" y="124"/>
                </a:lnTo>
                <a:lnTo>
                  <a:pt x="102" y="126"/>
                </a:lnTo>
                <a:lnTo>
                  <a:pt x="103" y="127"/>
                </a:lnTo>
                <a:lnTo>
                  <a:pt x="105" y="130"/>
                </a:lnTo>
                <a:lnTo>
                  <a:pt x="108" y="136"/>
                </a:lnTo>
                <a:lnTo>
                  <a:pt x="112" y="144"/>
                </a:lnTo>
                <a:lnTo>
                  <a:pt x="115" y="156"/>
                </a:lnTo>
                <a:lnTo>
                  <a:pt x="116" y="156"/>
                </a:lnTo>
                <a:lnTo>
                  <a:pt x="116" y="156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61120" y="2573280"/>
            <a:ext cx="57240" cy="60480"/>
          </a:xfrm>
          <a:custGeom>
            <a:avLst/>
            <a:gdLst/>
            <a:ahLst/>
            <a:rect l="l" t="t" r="r" b="b"/>
            <a:pathLst>
              <a:path w="166" h="184">
                <a:moveTo>
                  <a:pt x="101" y="63"/>
                </a:moveTo>
                <a:lnTo>
                  <a:pt x="90" y="50"/>
                </a:lnTo>
                <a:lnTo>
                  <a:pt x="71" y="27"/>
                </a:lnTo>
                <a:lnTo>
                  <a:pt x="35" y="3"/>
                </a:lnTo>
                <a:lnTo>
                  <a:pt x="20" y="0"/>
                </a:lnTo>
                <a:lnTo>
                  <a:pt x="6" y="0"/>
                </a:lnTo>
                <a:lnTo>
                  <a:pt x="0" y="2"/>
                </a:lnTo>
                <a:lnTo>
                  <a:pt x="0" y="9"/>
                </a:lnTo>
                <a:lnTo>
                  <a:pt x="1" y="21"/>
                </a:lnTo>
                <a:lnTo>
                  <a:pt x="6" y="34"/>
                </a:lnTo>
                <a:lnTo>
                  <a:pt x="14" y="50"/>
                </a:lnTo>
                <a:lnTo>
                  <a:pt x="48" y="90"/>
                </a:lnTo>
                <a:lnTo>
                  <a:pt x="61" y="103"/>
                </a:lnTo>
                <a:lnTo>
                  <a:pt x="65" y="111"/>
                </a:lnTo>
                <a:lnTo>
                  <a:pt x="72" y="122"/>
                </a:lnTo>
                <a:lnTo>
                  <a:pt x="75" y="134"/>
                </a:lnTo>
                <a:lnTo>
                  <a:pt x="75" y="144"/>
                </a:lnTo>
                <a:lnTo>
                  <a:pt x="78" y="155"/>
                </a:lnTo>
                <a:lnTo>
                  <a:pt x="82" y="166"/>
                </a:lnTo>
                <a:lnTo>
                  <a:pt x="88" y="170"/>
                </a:lnTo>
                <a:lnTo>
                  <a:pt x="94" y="176"/>
                </a:lnTo>
                <a:lnTo>
                  <a:pt x="100" y="180"/>
                </a:lnTo>
                <a:lnTo>
                  <a:pt x="108" y="182"/>
                </a:lnTo>
                <a:lnTo>
                  <a:pt x="124" y="184"/>
                </a:lnTo>
                <a:lnTo>
                  <a:pt x="140" y="184"/>
                </a:lnTo>
                <a:lnTo>
                  <a:pt x="163" y="182"/>
                </a:lnTo>
                <a:lnTo>
                  <a:pt x="166" y="182"/>
                </a:lnTo>
                <a:lnTo>
                  <a:pt x="165" y="173"/>
                </a:lnTo>
                <a:lnTo>
                  <a:pt x="162" y="157"/>
                </a:lnTo>
                <a:lnTo>
                  <a:pt x="155" y="140"/>
                </a:lnTo>
                <a:lnTo>
                  <a:pt x="143" y="122"/>
                </a:lnTo>
                <a:lnTo>
                  <a:pt x="110" y="77"/>
                </a:lnTo>
                <a:lnTo>
                  <a:pt x="101" y="63"/>
                </a:lnTo>
                <a:lnTo>
                  <a:pt x="101" y="6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08560" y="2068560"/>
            <a:ext cx="1203480" cy="762120"/>
          </a:xfrm>
          <a:custGeom>
            <a:avLst/>
            <a:gdLst/>
            <a:ahLst/>
            <a:rect l="l" t="t" r="r" b="b"/>
            <a:pathLst>
              <a:path w="3486" h="2329">
                <a:moveTo>
                  <a:pt x="1701" y="1878"/>
                </a:moveTo>
                <a:lnTo>
                  <a:pt x="1702" y="1871"/>
                </a:lnTo>
                <a:lnTo>
                  <a:pt x="1708" y="1849"/>
                </a:lnTo>
                <a:lnTo>
                  <a:pt x="1713" y="1832"/>
                </a:lnTo>
                <a:lnTo>
                  <a:pt x="1714" y="1830"/>
                </a:lnTo>
                <a:lnTo>
                  <a:pt x="1721" y="1832"/>
                </a:lnTo>
                <a:lnTo>
                  <a:pt x="1744" y="1835"/>
                </a:lnTo>
                <a:lnTo>
                  <a:pt x="1762" y="1836"/>
                </a:lnTo>
                <a:lnTo>
                  <a:pt x="1763" y="1836"/>
                </a:lnTo>
                <a:lnTo>
                  <a:pt x="1762" y="1845"/>
                </a:lnTo>
                <a:lnTo>
                  <a:pt x="1762" y="1871"/>
                </a:lnTo>
                <a:lnTo>
                  <a:pt x="1762" y="1890"/>
                </a:lnTo>
                <a:lnTo>
                  <a:pt x="1762" y="1890"/>
                </a:lnTo>
                <a:lnTo>
                  <a:pt x="1766" y="1891"/>
                </a:lnTo>
                <a:lnTo>
                  <a:pt x="1775" y="1893"/>
                </a:lnTo>
                <a:lnTo>
                  <a:pt x="1797" y="1900"/>
                </a:lnTo>
                <a:lnTo>
                  <a:pt x="1855" y="1916"/>
                </a:lnTo>
                <a:lnTo>
                  <a:pt x="1911" y="1922"/>
                </a:lnTo>
                <a:lnTo>
                  <a:pt x="1913" y="1922"/>
                </a:lnTo>
                <a:lnTo>
                  <a:pt x="1927" y="1922"/>
                </a:lnTo>
                <a:lnTo>
                  <a:pt x="1976" y="1917"/>
                </a:lnTo>
                <a:lnTo>
                  <a:pt x="2014" y="1916"/>
                </a:lnTo>
                <a:lnTo>
                  <a:pt x="2017" y="1914"/>
                </a:lnTo>
                <a:lnTo>
                  <a:pt x="2024" y="1913"/>
                </a:lnTo>
                <a:lnTo>
                  <a:pt x="2033" y="1910"/>
                </a:lnTo>
                <a:lnTo>
                  <a:pt x="2039" y="1904"/>
                </a:lnTo>
                <a:lnTo>
                  <a:pt x="2046" y="1898"/>
                </a:lnTo>
                <a:lnTo>
                  <a:pt x="2056" y="1881"/>
                </a:lnTo>
                <a:lnTo>
                  <a:pt x="2066" y="1864"/>
                </a:lnTo>
                <a:lnTo>
                  <a:pt x="2089" y="1829"/>
                </a:lnTo>
                <a:lnTo>
                  <a:pt x="2091" y="1829"/>
                </a:lnTo>
                <a:lnTo>
                  <a:pt x="2099" y="1830"/>
                </a:lnTo>
                <a:lnTo>
                  <a:pt x="2118" y="1833"/>
                </a:lnTo>
                <a:lnTo>
                  <a:pt x="2134" y="1839"/>
                </a:lnTo>
                <a:lnTo>
                  <a:pt x="2173" y="1859"/>
                </a:lnTo>
                <a:lnTo>
                  <a:pt x="2217" y="1880"/>
                </a:lnTo>
                <a:lnTo>
                  <a:pt x="2226" y="1884"/>
                </a:lnTo>
                <a:lnTo>
                  <a:pt x="2252" y="1894"/>
                </a:lnTo>
                <a:lnTo>
                  <a:pt x="2272" y="1901"/>
                </a:lnTo>
                <a:lnTo>
                  <a:pt x="2273" y="1901"/>
                </a:lnTo>
                <a:lnTo>
                  <a:pt x="2276" y="1907"/>
                </a:lnTo>
                <a:lnTo>
                  <a:pt x="2278" y="1913"/>
                </a:lnTo>
                <a:lnTo>
                  <a:pt x="2276" y="1920"/>
                </a:lnTo>
                <a:lnTo>
                  <a:pt x="2275" y="1926"/>
                </a:lnTo>
                <a:lnTo>
                  <a:pt x="2270" y="1940"/>
                </a:lnTo>
                <a:lnTo>
                  <a:pt x="2266" y="1956"/>
                </a:lnTo>
                <a:lnTo>
                  <a:pt x="2265" y="1969"/>
                </a:lnTo>
                <a:lnTo>
                  <a:pt x="2269" y="1980"/>
                </a:lnTo>
                <a:lnTo>
                  <a:pt x="2270" y="1980"/>
                </a:lnTo>
                <a:lnTo>
                  <a:pt x="2275" y="1981"/>
                </a:lnTo>
                <a:lnTo>
                  <a:pt x="2285" y="1984"/>
                </a:lnTo>
                <a:lnTo>
                  <a:pt x="2295" y="1988"/>
                </a:lnTo>
                <a:lnTo>
                  <a:pt x="2317" y="1997"/>
                </a:lnTo>
                <a:lnTo>
                  <a:pt x="2331" y="2000"/>
                </a:lnTo>
                <a:lnTo>
                  <a:pt x="2343" y="2003"/>
                </a:lnTo>
                <a:lnTo>
                  <a:pt x="2369" y="2006"/>
                </a:lnTo>
                <a:lnTo>
                  <a:pt x="2421" y="2004"/>
                </a:lnTo>
                <a:lnTo>
                  <a:pt x="2470" y="2010"/>
                </a:lnTo>
                <a:lnTo>
                  <a:pt x="2482" y="2013"/>
                </a:lnTo>
                <a:lnTo>
                  <a:pt x="2483" y="2013"/>
                </a:lnTo>
                <a:lnTo>
                  <a:pt x="2495" y="2013"/>
                </a:lnTo>
                <a:lnTo>
                  <a:pt x="2530" y="2013"/>
                </a:lnTo>
                <a:lnTo>
                  <a:pt x="2549" y="2017"/>
                </a:lnTo>
                <a:lnTo>
                  <a:pt x="2556" y="2020"/>
                </a:lnTo>
                <a:lnTo>
                  <a:pt x="2562" y="2025"/>
                </a:lnTo>
                <a:lnTo>
                  <a:pt x="2565" y="2030"/>
                </a:lnTo>
                <a:lnTo>
                  <a:pt x="2566" y="2030"/>
                </a:lnTo>
                <a:lnTo>
                  <a:pt x="2563" y="2033"/>
                </a:lnTo>
                <a:lnTo>
                  <a:pt x="2562" y="2038"/>
                </a:lnTo>
                <a:lnTo>
                  <a:pt x="2560" y="2042"/>
                </a:lnTo>
                <a:lnTo>
                  <a:pt x="2560" y="2048"/>
                </a:lnTo>
                <a:lnTo>
                  <a:pt x="2560" y="2061"/>
                </a:lnTo>
                <a:lnTo>
                  <a:pt x="2559" y="2087"/>
                </a:lnTo>
                <a:lnTo>
                  <a:pt x="2554" y="2094"/>
                </a:lnTo>
                <a:lnTo>
                  <a:pt x="2549" y="2096"/>
                </a:lnTo>
                <a:lnTo>
                  <a:pt x="2543" y="2096"/>
                </a:lnTo>
                <a:lnTo>
                  <a:pt x="2534" y="2093"/>
                </a:lnTo>
                <a:lnTo>
                  <a:pt x="2515" y="2087"/>
                </a:lnTo>
                <a:lnTo>
                  <a:pt x="2485" y="2071"/>
                </a:lnTo>
                <a:lnTo>
                  <a:pt x="2483" y="2069"/>
                </a:lnTo>
                <a:lnTo>
                  <a:pt x="2483" y="2082"/>
                </a:lnTo>
                <a:lnTo>
                  <a:pt x="2486" y="2109"/>
                </a:lnTo>
                <a:lnTo>
                  <a:pt x="2495" y="2169"/>
                </a:lnTo>
                <a:lnTo>
                  <a:pt x="2495" y="2197"/>
                </a:lnTo>
                <a:lnTo>
                  <a:pt x="2491" y="2217"/>
                </a:lnTo>
                <a:lnTo>
                  <a:pt x="2486" y="2224"/>
                </a:lnTo>
                <a:lnTo>
                  <a:pt x="2480" y="2229"/>
                </a:lnTo>
                <a:lnTo>
                  <a:pt x="2476" y="2235"/>
                </a:lnTo>
                <a:lnTo>
                  <a:pt x="2472" y="2245"/>
                </a:lnTo>
                <a:lnTo>
                  <a:pt x="2467" y="2271"/>
                </a:lnTo>
                <a:lnTo>
                  <a:pt x="2465" y="2297"/>
                </a:lnTo>
                <a:lnTo>
                  <a:pt x="2466" y="2319"/>
                </a:lnTo>
                <a:lnTo>
                  <a:pt x="2469" y="2326"/>
                </a:lnTo>
                <a:lnTo>
                  <a:pt x="2472" y="2329"/>
                </a:lnTo>
                <a:lnTo>
                  <a:pt x="2475" y="2326"/>
                </a:lnTo>
                <a:lnTo>
                  <a:pt x="2476" y="2326"/>
                </a:lnTo>
                <a:lnTo>
                  <a:pt x="2485" y="2311"/>
                </a:lnTo>
                <a:lnTo>
                  <a:pt x="2515" y="2268"/>
                </a:lnTo>
                <a:lnTo>
                  <a:pt x="2538" y="2235"/>
                </a:lnTo>
                <a:lnTo>
                  <a:pt x="2540" y="2232"/>
                </a:lnTo>
                <a:lnTo>
                  <a:pt x="2541" y="2232"/>
                </a:lnTo>
                <a:lnTo>
                  <a:pt x="2554" y="2230"/>
                </a:lnTo>
                <a:lnTo>
                  <a:pt x="2599" y="2223"/>
                </a:lnTo>
                <a:lnTo>
                  <a:pt x="2634" y="2219"/>
                </a:lnTo>
                <a:lnTo>
                  <a:pt x="2637" y="2217"/>
                </a:lnTo>
                <a:lnTo>
                  <a:pt x="2638" y="2211"/>
                </a:lnTo>
                <a:lnTo>
                  <a:pt x="2646" y="2194"/>
                </a:lnTo>
                <a:lnTo>
                  <a:pt x="2650" y="2180"/>
                </a:lnTo>
                <a:lnTo>
                  <a:pt x="2651" y="2178"/>
                </a:lnTo>
                <a:lnTo>
                  <a:pt x="2651" y="2177"/>
                </a:lnTo>
                <a:lnTo>
                  <a:pt x="2649" y="2174"/>
                </a:lnTo>
                <a:lnTo>
                  <a:pt x="2643" y="2172"/>
                </a:lnTo>
                <a:lnTo>
                  <a:pt x="2634" y="2172"/>
                </a:lnTo>
                <a:lnTo>
                  <a:pt x="2614" y="2171"/>
                </a:lnTo>
                <a:lnTo>
                  <a:pt x="2583" y="2171"/>
                </a:lnTo>
                <a:lnTo>
                  <a:pt x="2588" y="2171"/>
                </a:lnTo>
                <a:lnTo>
                  <a:pt x="2596" y="2164"/>
                </a:lnTo>
                <a:lnTo>
                  <a:pt x="2621" y="2143"/>
                </a:lnTo>
                <a:lnTo>
                  <a:pt x="2680" y="2098"/>
                </a:lnTo>
                <a:lnTo>
                  <a:pt x="2709" y="2082"/>
                </a:lnTo>
                <a:lnTo>
                  <a:pt x="2734" y="2074"/>
                </a:lnTo>
                <a:lnTo>
                  <a:pt x="2744" y="2074"/>
                </a:lnTo>
                <a:lnTo>
                  <a:pt x="2746" y="2071"/>
                </a:lnTo>
                <a:lnTo>
                  <a:pt x="2757" y="2052"/>
                </a:lnTo>
                <a:lnTo>
                  <a:pt x="2799" y="1983"/>
                </a:lnTo>
                <a:lnTo>
                  <a:pt x="2830" y="1930"/>
                </a:lnTo>
                <a:lnTo>
                  <a:pt x="2833" y="1926"/>
                </a:lnTo>
                <a:lnTo>
                  <a:pt x="2833" y="1923"/>
                </a:lnTo>
                <a:lnTo>
                  <a:pt x="2835" y="1920"/>
                </a:lnTo>
                <a:lnTo>
                  <a:pt x="2840" y="1917"/>
                </a:lnTo>
                <a:lnTo>
                  <a:pt x="2844" y="1916"/>
                </a:lnTo>
                <a:lnTo>
                  <a:pt x="2857" y="1914"/>
                </a:lnTo>
                <a:lnTo>
                  <a:pt x="2873" y="1913"/>
                </a:lnTo>
                <a:lnTo>
                  <a:pt x="2909" y="1912"/>
                </a:lnTo>
                <a:lnTo>
                  <a:pt x="2944" y="1909"/>
                </a:lnTo>
                <a:lnTo>
                  <a:pt x="2960" y="1904"/>
                </a:lnTo>
                <a:lnTo>
                  <a:pt x="2973" y="1897"/>
                </a:lnTo>
                <a:lnTo>
                  <a:pt x="2982" y="1885"/>
                </a:lnTo>
                <a:lnTo>
                  <a:pt x="2986" y="1871"/>
                </a:lnTo>
                <a:lnTo>
                  <a:pt x="2988" y="1871"/>
                </a:lnTo>
                <a:lnTo>
                  <a:pt x="2990" y="1871"/>
                </a:lnTo>
                <a:lnTo>
                  <a:pt x="2993" y="1869"/>
                </a:lnTo>
                <a:lnTo>
                  <a:pt x="2996" y="1867"/>
                </a:lnTo>
                <a:lnTo>
                  <a:pt x="2999" y="1862"/>
                </a:lnTo>
                <a:lnTo>
                  <a:pt x="3004" y="1851"/>
                </a:lnTo>
                <a:lnTo>
                  <a:pt x="3008" y="1835"/>
                </a:lnTo>
                <a:lnTo>
                  <a:pt x="3015" y="1797"/>
                </a:lnTo>
                <a:lnTo>
                  <a:pt x="3027" y="1717"/>
                </a:lnTo>
                <a:lnTo>
                  <a:pt x="3033" y="1688"/>
                </a:lnTo>
                <a:lnTo>
                  <a:pt x="3037" y="1688"/>
                </a:lnTo>
                <a:lnTo>
                  <a:pt x="3050" y="1687"/>
                </a:lnTo>
                <a:lnTo>
                  <a:pt x="3080" y="1683"/>
                </a:lnTo>
                <a:lnTo>
                  <a:pt x="3108" y="1680"/>
                </a:lnTo>
                <a:lnTo>
                  <a:pt x="3114" y="1678"/>
                </a:lnTo>
                <a:lnTo>
                  <a:pt x="3114" y="1681"/>
                </a:lnTo>
                <a:lnTo>
                  <a:pt x="3115" y="1691"/>
                </a:lnTo>
                <a:lnTo>
                  <a:pt x="3119" y="1730"/>
                </a:lnTo>
                <a:lnTo>
                  <a:pt x="3124" y="1759"/>
                </a:lnTo>
                <a:lnTo>
                  <a:pt x="3125" y="1761"/>
                </a:lnTo>
                <a:lnTo>
                  <a:pt x="3130" y="1769"/>
                </a:lnTo>
                <a:lnTo>
                  <a:pt x="3141" y="1785"/>
                </a:lnTo>
                <a:lnTo>
                  <a:pt x="3169" y="1810"/>
                </a:lnTo>
                <a:lnTo>
                  <a:pt x="3202" y="1832"/>
                </a:lnTo>
                <a:lnTo>
                  <a:pt x="3212" y="1838"/>
                </a:lnTo>
                <a:lnTo>
                  <a:pt x="3230" y="1816"/>
                </a:lnTo>
                <a:lnTo>
                  <a:pt x="3259" y="1783"/>
                </a:lnTo>
                <a:lnTo>
                  <a:pt x="3293" y="1746"/>
                </a:lnTo>
                <a:lnTo>
                  <a:pt x="3319" y="1726"/>
                </a:lnTo>
                <a:lnTo>
                  <a:pt x="3328" y="1720"/>
                </a:lnTo>
                <a:lnTo>
                  <a:pt x="3316" y="1746"/>
                </a:lnTo>
                <a:lnTo>
                  <a:pt x="3298" y="1785"/>
                </a:lnTo>
                <a:lnTo>
                  <a:pt x="3283" y="1816"/>
                </a:lnTo>
                <a:lnTo>
                  <a:pt x="3276" y="1839"/>
                </a:lnTo>
                <a:lnTo>
                  <a:pt x="3276" y="1851"/>
                </a:lnTo>
                <a:lnTo>
                  <a:pt x="3279" y="1861"/>
                </a:lnTo>
                <a:lnTo>
                  <a:pt x="3285" y="1871"/>
                </a:lnTo>
                <a:lnTo>
                  <a:pt x="3295" y="1883"/>
                </a:lnTo>
                <a:lnTo>
                  <a:pt x="3308" y="1894"/>
                </a:lnTo>
                <a:lnTo>
                  <a:pt x="3309" y="1894"/>
                </a:lnTo>
                <a:lnTo>
                  <a:pt x="3325" y="1885"/>
                </a:lnTo>
                <a:lnTo>
                  <a:pt x="3348" y="1867"/>
                </a:lnTo>
                <a:lnTo>
                  <a:pt x="3360" y="1846"/>
                </a:lnTo>
                <a:lnTo>
                  <a:pt x="3364" y="1823"/>
                </a:lnTo>
                <a:lnTo>
                  <a:pt x="3366" y="1801"/>
                </a:lnTo>
                <a:lnTo>
                  <a:pt x="3369" y="1778"/>
                </a:lnTo>
                <a:lnTo>
                  <a:pt x="3373" y="1765"/>
                </a:lnTo>
                <a:lnTo>
                  <a:pt x="3379" y="1767"/>
                </a:lnTo>
                <a:lnTo>
                  <a:pt x="3382" y="1765"/>
                </a:lnTo>
                <a:lnTo>
                  <a:pt x="3386" y="1762"/>
                </a:lnTo>
                <a:lnTo>
                  <a:pt x="3396" y="1754"/>
                </a:lnTo>
                <a:lnTo>
                  <a:pt x="3421" y="1732"/>
                </a:lnTo>
                <a:lnTo>
                  <a:pt x="3467" y="1675"/>
                </a:lnTo>
                <a:lnTo>
                  <a:pt x="3486" y="1646"/>
                </a:lnTo>
                <a:lnTo>
                  <a:pt x="3485" y="1646"/>
                </a:lnTo>
                <a:lnTo>
                  <a:pt x="3480" y="1646"/>
                </a:lnTo>
                <a:lnTo>
                  <a:pt x="3464" y="1645"/>
                </a:lnTo>
                <a:lnTo>
                  <a:pt x="3451" y="1643"/>
                </a:lnTo>
                <a:lnTo>
                  <a:pt x="3451" y="1642"/>
                </a:lnTo>
                <a:lnTo>
                  <a:pt x="3448" y="1643"/>
                </a:lnTo>
                <a:lnTo>
                  <a:pt x="3437" y="1649"/>
                </a:lnTo>
                <a:lnTo>
                  <a:pt x="3405" y="1662"/>
                </a:lnTo>
                <a:lnTo>
                  <a:pt x="3377" y="1674"/>
                </a:lnTo>
                <a:lnTo>
                  <a:pt x="3376" y="1675"/>
                </a:lnTo>
                <a:lnTo>
                  <a:pt x="3356" y="1683"/>
                </a:lnTo>
                <a:lnTo>
                  <a:pt x="3318" y="1685"/>
                </a:lnTo>
                <a:lnTo>
                  <a:pt x="3283" y="1675"/>
                </a:lnTo>
                <a:lnTo>
                  <a:pt x="3253" y="1656"/>
                </a:lnTo>
                <a:lnTo>
                  <a:pt x="3230" y="1630"/>
                </a:lnTo>
                <a:lnTo>
                  <a:pt x="3214" y="1600"/>
                </a:lnTo>
                <a:lnTo>
                  <a:pt x="3211" y="1583"/>
                </a:lnTo>
                <a:lnTo>
                  <a:pt x="3206" y="1584"/>
                </a:lnTo>
                <a:lnTo>
                  <a:pt x="3199" y="1585"/>
                </a:lnTo>
                <a:lnTo>
                  <a:pt x="3180" y="1591"/>
                </a:lnTo>
                <a:lnTo>
                  <a:pt x="3134" y="1609"/>
                </a:lnTo>
                <a:lnTo>
                  <a:pt x="3105" y="1616"/>
                </a:lnTo>
                <a:lnTo>
                  <a:pt x="3105" y="1607"/>
                </a:lnTo>
                <a:lnTo>
                  <a:pt x="3109" y="1599"/>
                </a:lnTo>
                <a:lnTo>
                  <a:pt x="3118" y="1590"/>
                </a:lnTo>
                <a:lnTo>
                  <a:pt x="3130" y="1580"/>
                </a:lnTo>
                <a:lnTo>
                  <a:pt x="3157" y="1562"/>
                </a:lnTo>
                <a:lnTo>
                  <a:pt x="3208" y="1522"/>
                </a:lnTo>
                <a:lnTo>
                  <a:pt x="3218" y="1499"/>
                </a:lnTo>
                <a:lnTo>
                  <a:pt x="3188" y="1487"/>
                </a:lnTo>
                <a:lnTo>
                  <a:pt x="3140" y="1481"/>
                </a:lnTo>
                <a:lnTo>
                  <a:pt x="3102" y="1496"/>
                </a:lnTo>
                <a:lnTo>
                  <a:pt x="3073" y="1523"/>
                </a:lnTo>
                <a:lnTo>
                  <a:pt x="3046" y="1561"/>
                </a:lnTo>
                <a:lnTo>
                  <a:pt x="3015" y="1600"/>
                </a:lnTo>
                <a:lnTo>
                  <a:pt x="2999" y="1619"/>
                </a:lnTo>
                <a:lnTo>
                  <a:pt x="2995" y="1607"/>
                </a:lnTo>
                <a:lnTo>
                  <a:pt x="2993" y="1594"/>
                </a:lnTo>
                <a:lnTo>
                  <a:pt x="2996" y="1580"/>
                </a:lnTo>
                <a:lnTo>
                  <a:pt x="3001" y="1567"/>
                </a:lnTo>
                <a:lnTo>
                  <a:pt x="3012" y="1538"/>
                </a:lnTo>
                <a:lnTo>
                  <a:pt x="3040" y="1481"/>
                </a:lnTo>
                <a:lnTo>
                  <a:pt x="3046" y="1452"/>
                </a:lnTo>
                <a:lnTo>
                  <a:pt x="3057" y="1429"/>
                </a:lnTo>
                <a:lnTo>
                  <a:pt x="3076" y="1409"/>
                </a:lnTo>
                <a:lnTo>
                  <a:pt x="3099" y="1394"/>
                </a:lnTo>
                <a:lnTo>
                  <a:pt x="3127" y="1381"/>
                </a:lnTo>
                <a:lnTo>
                  <a:pt x="3186" y="1362"/>
                </a:lnTo>
                <a:lnTo>
                  <a:pt x="3245" y="1345"/>
                </a:lnTo>
                <a:lnTo>
                  <a:pt x="3296" y="1319"/>
                </a:lnTo>
                <a:lnTo>
                  <a:pt x="3315" y="1301"/>
                </a:lnTo>
                <a:lnTo>
                  <a:pt x="3327" y="1278"/>
                </a:lnTo>
                <a:lnTo>
                  <a:pt x="3328" y="1278"/>
                </a:lnTo>
                <a:lnTo>
                  <a:pt x="3331" y="1268"/>
                </a:lnTo>
                <a:lnTo>
                  <a:pt x="3335" y="1245"/>
                </a:lnTo>
                <a:lnTo>
                  <a:pt x="3340" y="1200"/>
                </a:lnTo>
                <a:lnTo>
                  <a:pt x="3356" y="1159"/>
                </a:lnTo>
                <a:lnTo>
                  <a:pt x="3364" y="1149"/>
                </a:lnTo>
                <a:lnTo>
                  <a:pt x="3374" y="1135"/>
                </a:lnTo>
                <a:lnTo>
                  <a:pt x="3389" y="1100"/>
                </a:lnTo>
                <a:lnTo>
                  <a:pt x="3393" y="1059"/>
                </a:lnTo>
                <a:lnTo>
                  <a:pt x="3389" y="1022"/>
                </a:lnTo>
                <a:lnTo>
                  <a:pt x="3373" y="987"/>
                </a:lnTo>
                <a:lnTo>
                  <a:pt x="3345" y="964"/>
                </a:lnTo>
                <a:lnTo>
                  <a:pt x="3328" y="957"/>
                </a:lnTo>
                <a:lnTo>
                  <a:pt x="3327" y="958"/>
                </a:lnTo>
                <a:lnTo>
                  <a:pt x="3321" y="961"/>
                </a:lnTo>
                <a:lnTo>
                  <a:pt x="3301" y="970"/>
                </a:lnTo>
                <a:lnTo>
                  <a:pt x="3286" y="975"/>
                </a:lnTo>
                <a:lnTo>
                  <a:pt x="3286" y="975"/>
                </a:lnTo>
                <a:lnTo>
                  <a:pt x="3280" y="973"/>
                </a:lnTo>
                <a:lnTo>
                  <a:pt x="3264" y="964"/>
                </a:lnTo>
                <a:lnTo>
                  <a:pt x="3253" y="957"/>
                </a:lnTo>
                <a:lnTo>
                  <a:pt x="3253" y="955"/>
                </a:lnTo>
                <a:lnTo>
                  <a:pt x="3243" y="962"/>
                </a:lnTo>
                <a:lnTo>
                  <a:pt x="3234" y="974"/>
                </a:lnTo>
                <a:lnTo>
                  <a:pt x="3227" y="990"/>
                </a:lnTo>
                <a:lnTo>
                  <a:pt x="3215" y="1026"/>
                </a:lnTo>
                <a:lnTo>
                  <a:pt x="3198" y="1099"/>
                </a:lnTo>
                <a:lnTo>
                  <a:pt x="3186" y="1116"/>
                </a:lnTo>
                <a:lnTo>
                  <a:pt x="3186" y="1112"/>
                </a:lnTo>
                <a:lnTo>
                  <a:pt x="3186" y="1104"/>
                </a:lnTo>
                <a:lnTo>
                  <a:pt x="3185" y="1084"/>
                </a:lnTo>
                <a:lnTo>
                  <a:pt x="3180" y="1032"/>
                </a:lnTo>
                <a:lnTo>
                  <a:pt x="3186" y="993"/>
                </a:lnTo>
                <a:lnTo>
                  <a:pt x="3189" y="987"/>
                </a:lnTo>
                <a:lnTo>
                  <a:pt x="3198" y="973"/>
                </a:lnTo>
                <a:lnTo>
                  <a:pt x="3217" y="941"/>
                </a:lnTo>
                <a:lnTo>
                  <a:pt x="3222" y="928"/>
                </a:lnTo>
                <a:lnTo>
                  <a:pt x="3222" y="922"/>
                </a:lnTo>
                <a:lnTo>
                  <a:pt x="3222" y="917"/>
                </a:lnTo>
                <a:lnTo>
                  <a:pt x="3222" y="915"/>
                </a:lnTo>
                <a:lnTo>
                  <a:pt x="3212" y="919"/>
                </a:lnTo>
                <a:lnTo>
                  <a:pt x="3188" y="926"/>
                </a:lnTo>
                <a:lnTo>
                  <a:pt x="3161" y="929"/>
                </a:lnTo>
                <a:lnTo>
                  <a:pt x="3109" y="933"/>
                </a:lnTo>
                <a:lnTo>
                  <a:pt x="3082" y="938"/>
                </a:lnTo>
                <a:lnTo>
                  <a:pt x="3075" y="935"/>
                </a:lnTo>
                <a:lnTo>
                  <a:pt x="3059" y="926"/>
                </a:lnTo>
                <a:lnTo>
                  <a:pt x="3030" y="913"/>
                </a:lnTo>
                <a:lnTo>
                  <a:pt x="3004" y="897"/>
                </a:lnTo>
                <a:lnTo>
                  <a:pt x="2999" y="893"/>
                </a:lnTo>
                <a:lnTo>
                  <a:pt x="3002" y="890"/>
                </a:lnTo>
                <a:lnTo>
                  <a:pt x="3011" y="880"/>
                </a:lnTo>
                <a:lnTo>
                  <a:pt x="3017" y="867"/>
                </a:lnTo>
                <a:lnTo>
                  <a:pt x="3018" y="864"/>
                </a:lnTo>
                <a:lnTo>
                  <a:pt x="3001" y="849"/>
                </a:lnTo>
                <a:lnTo>
                  <a:pt x="2959" y="818"/>
                </a:lnTo>
                <a:lnTo>
                  <a:pt x="2859" y="757"/>
                </a:lnTo>
                <a:lnTo>
                  <a:pt x="2763" y="690"/>
                </a:lnTo>
                <a:lnTo>
                  <a:pt x="2744" y="671"/>
                </a:lnTo>
                <a:lnTo>
                  <a:pt x="2738" y="680"/>
                </a:lnTo>
                <a:lnTo>
                  <a:pt x="2734" y="689"/>
                </a:lnTo>
                <a:lnTo>
                  <a:pt x="2733" y="700"/>
                </a:lnTo>
                <a:lnTo>
                  <a:pt x="2731" y="712"/>
                </a:lnTo>
                <a:lnTo>
                  <a:pt x="2734" y="736"/>
                </a:lnTo>
                <a:lnTo>
                  <a:pt x="2747" y="784"/>
                </a:lnTo>
                <a:lnTo>
                  <a:pt x="2753" y="800"/>
                </a:lnTo>
                <a:lnTo>
                  <a:pt x="2750" y="806"/>
                </a:lnTo>
                <a:lnTo>
                  <a:pt x="2744" y="819"/>
                </a:lnTo>
                <a:lnTo>
                  <a:pt x="2728" y="849"/>
                </a:lnTo>
                <a:lnTo>
                  <a:pt x="2712" y="878"/>
                </a:lnTo>
                <a:lnTo>
                  <a:pt x="2708" y="883"/>
                </a:lnTo>
                <a:lnTo>
                  <a:pt x="2701" y="878"/>
                </a:lnTo>
                <a:lnTo>
                  <a:pt x="2688" y="871"/>
                </a:lnTo>
                <a:lnTo>
                  <a:pt x="2664" y="861"/>
                </a:lnTo>
                <a:lnTo>
                  <a:pt x="2640" y="857"/>
                </a:lnTo>
                <a:lnTo>
                  <a:pt x="2634" y="855"/>
                </a:lnTo>
                <a:lnTo>
                  <a:pt x="2624" y="838"/>
                </a:lnTo>
                <a:lnTo>
                  <a:pt x="2607" y="802"/>
                </a:lnTo>
                <a:lnTo>
                  <a:pt x="2565" y="744"/>
                </a:lnTo>
                <a:lnTo>
                  <a:pt x="2536" y="725"/>
                </a:lnTo>
                <a:lnTo>
                  <a:pt x="2499" y="718"/>
                </a:lnTo>
                <a:lnTo>
                  <a:pt x="2479" y="718"/>
                </a:lnTo>
                <a:lnTo>
                  <a:pt x="2467" y="718"/>
                </a:lnTo>
                <a:lnTo>
                  <a:pt x="2457" y="713"/>
                </a:lnTo>
                <a:lnTo>
                  <a:pt x="2449" y="709"/>
                </a:lnTo>
                <a:lnTo>
                  <a:pt x="2431" y="696"/>
                </a:lnTo>
                <a:lnTo>
                  <a:pt x="2395" y="671"/>
                </a:lnTo>
                <a:lnTo>
                  <a:pt x="2360" y="671"/>
                </a:lnTo>
                <a:lnTo>
                  <a:pt x="2357" y="673"/>
                </a:lnTo>
                <a:lnTo>
                  <a:pt x="2354" y="674"/>
                </a:lnTo>
                <a:lnTo>
                  <a:pt x="2352" y="678"/>
                </a:lnTo>
                <a:lnTo>
                  <a:pt x="2346" y="686"/>
                </a:lnTo>
                <a:lnTo>
                  <a:pt x="2336" y="707"/>
                </a:lnTo>
                <a:lnTo>
                  <a:pt x="2334" y="718"/>
                </a:lnTo>
                <a:lnTo>
                  <a:pt x="2325" y="716"/>
                </a:lnTo>
                <a:lnTo>
                  <a:pt x="2307" y="713"/>
                </a:lnTo>
                <a:lnTo>
                  <a:pt x="2265" y="713"/>
                </a:lnTo>
                <a:lnTo>
                  <a:pt x="2244" y="718"/>
                </a:lnTo>
                <a:lnTo>
                  <a:pt x="2228" y="723"/>
                </a:lnTo>
                <a:lnTo>
                  <a:pt x="2224" y="728"/>
                </a:lnTo>
                <a:lnTo>
                  <a:pt x="2224" y="736"/>
                </a:lnTo>
                <a:lnTo>
                  <a:pt x="2226" y="745"/>
                </a:lnTo>
                <a:lnTo>
                  <a:pt x="2233" y="767"/>
                </a:lnTo>
                <a:lnTo>
                  <a:pt x="2247" y="813"/>
                </a:lnTo>
                <a:lnTo>
                  <a:pt x="2252" y="846"/>
                </a:lnTo>
                <a:lnTo>
                  <a:pt x="2265" y="865"/>
                </a:lnTo>
                <a:lnTo>
                  <a:pt x="2288" y="894"/>
                </a:lnTo>
                <a:lnTo>
                  <a:pt x="2302" y="916"/>
                </a:lnTo>
                <a:lnTo>
                  <a:pt x="2310" y="936"/>
                </a:lnTo>
                <a:lnTo>
                  <a:pt x="2308" y="961"/>
                </a:lnTo>
                <a:lnTo>
                  <a:pt x="2296" y="991"/>
                </a:lnTo>
                <a:lnTo>
                  <a:pt x="2288" y="1012"/>
                </a:lnTo>
                <a:lnTo>
                  <a:pt x="2305" y="1022"/>
                </a:lnTo>
                <a:lnTo>
                  <a:pt x="2339" y="1041"/>
                </a:lnTo>
                <a:lnTo>
                  <a:pt x="2392" y="1087"/>
                </a:lnTo>
                <a:lnTo>
                  <a:pt x="2428" y="1149"/>
                </a:lnTo>
                <a:lnTo>
                  <a:pt x="2434" y="1168"/>
                </a:lnTo>
                <a:lnTo>
                  <a:pt x="2436" y="1186"/>
                </a:lnTo>
                <a:lnTo>
                  <a:pt x="2436" y="1201"/>
                </a:lnTo>
                <a:lnTo>
                  <a:pt x="2431" y="1215"/>
                </a:lnTo>
                <a:lnTo>
                  <a:pt x="2425" y="1228"/>
                </a:lnTo>
                <a:lnTo>
                  <a:pt x="2418" y="1239"/>
                </a:lnTo>
                <a:lnTo>
                  <a:pt x="2401" y="1259"/>
                </a:lnTo>
                <a:lnTo>
                  <a:pt x="2365" y="1303"/>
                </a:lnTo>
                <a:lnTo>
                  <a:pt x="2360" y="1316"/>
                </a:lnTo>
                <a:lnTo>
                  <a:pt x="2359" y="1328"/>
                </a:lnTo>
                <a:lnTo>
                  <a:pt x="2363" y="1341"/>
                </a:lnTo>
                <a:lnTo>
                  <a:pt x="2369" y="1357"/>
                </a:lnTo>
                <a:lnTo>
                  <a:pt x="2388" y="1393"/>
                </a:lnTo>
                <a:lnTo>
                  <a:pt x="2436" y="1468"/>
                </a:lnTo>
                <a:lnTo>
                  <a:pt x="2460" y="1509"/>
                </a:lnTo>
                <a:lnTo>
                  <a:pt x="2454" y="1520"/>
                </a:lnTo>
                <a:lnTo>
                  <a:pt x="2450" y="1538"/>
                </a:lnTo>
                <a:lnTo>
                  <a:pt x="2449" y="1546"/>
                </a:lnTo>
                <a:lnTo>
                  <a:pt x="2447" y="1551"/>
                </a:lnTo>
                <a:lnTo>
                  <a:pt x="2444" y="1554"/>
                </a:lnTo>
                <a:lnTo>
                  <a:pt x="2440" y="1556"/>
                </a:lnTo>
                <a:lnTo>
                  <a:pt x="2433" y="1559"/>
                </a:lnTo>
                <a:lnTo>
                  <a:pt x="2408" y="1568"/>
                </a:lnTo>
                <a:lnTo>
                  <a:pt x="2389" y="1572"/>
                </a:lnTo>
                <a:lnTo>
                  <a:pt x="2362" y="1548"/>
                </a:lnTo>
                <a:lnTo>
                  <a:pt x="2318" y="1512"/>
                </a:lnTo>
                <a:lnTo>
                  <a:pt x="2288" y="1484"/>
                </a:lnTo>
                <a:lnTo>
                  <a:pt x="2268" y="1458"/>
                </a:lnTo>
                <a:lnTo>
                  <a:pt x="2256" y="1420"/>
                </a:lnTo>
                <a:lnTo>
                  <a:pt x="2252" y="1364"/>
                </a:lnTo>
                <a:lnTo>
                  <a:pt x="2252" y="1325"/>
                </a:lnTo>
                <a:lnTo>
                  <a:pt x="2241" y="1317"/>
                </a:lnTo>
                <a:lnTo>
                  <a:pt x="2233" y="1312"/>
                </a:lnTo>
                <a:lnTo>
                  <a:pt x="2227" y="1310"/>
                </a:lnTo>
                <a:lnTo>
                  <a:pt x="2221" y="1310"/>
                </a:lnTo>
                <a:lnTo>
                  <a:pt x="2215" y="1312"/>
                </a:lnTo>
                <a:lnTo>
                  <a:pt x="2211" y="1315"/>
                </a:lnTo>
                <a:lnTo>
                  <a:pt x="2199" y="1323"/>
                </a:lnTo>
                <a:lnTo>
                  <a:pt x="2183" y="1330"/>
                </a:lnTo>
                <a:lnTo>
                  <a:pt x="2160" y="1333"/>
                </a:lnTo>
                <a:lnTo>
                  <a:pt x="2160" y="1333"/>
                </a:lnTo>
                <a:lnTo>
                  <a:pt x="2134" y="1333"/>
                </a:lnTo>
                <a:lnTo>
                  <a:pt x="2105" y="1326"/>
                </a:lnTo>
                <a:lnTo>
                  <a:pt x="2040" y="1300"/>
                </a:lnTo>
                <a:lnTo>
                  <a:pt x="1901" y="1242"/>
                </a:lnTo>
                <a:lnTo>
                  <a:pt x="1795" y="1251"/>
                </a:lnTo>
                <a:lnTo>
                  <a:pt x="1789" y="1242"/>
                </a:lnTo>
                <a:lnTo>
                  <a:pt x="1781" y="1220"/>
                </a:lnTo>
                <a:lnTo>
                  <a:pt x="1765" y="1170"/>
                </a:lnTo>
                <a:lnTo>
                  <a:pt x="1750" y="1123"/>
                </a:lnTo>
                <a:lnTo>
                  <a:pt x="1749" y="1113"/>
                </a:lnTo>
                <a:lnTo>
                  <a:pt x="1743" y="1115"/>
                </a:lnTo>
                <a:lnTo>
                  <a:pt x="1733" y="1115"/>
                </a:lnTo>
                <a:lnTo>
                  <a:pt x="1711" y="1119"/>
                </a:lnTo>
                <a:lnTo>
                  <a:pt x="1691" y="1122"/>
                </a:lnTo>
                <a:lnTo>
                  <a:pt x="1687" y="1122"/>
                </a:lnTo>
                <a:lnTo>
                  <a:pt x="1663" y="1094"/>
                </a:lnTo>
                <a:lnTo>
                  <a:pt x="1653" y="1064"/>
                </a:lnTo>
                <a:lnTo>
                  <a:pt x="1650" y="1032"/>
                </a:lnTo>
                <a:lnTo>
                  <a:pt x="1656" y="1000"/>
                </a:lnTo>
                <a:lnTo>
                  <a:pt x="1668" y="967"/>
                </a:lnTo>
                <a:lnTo>
                  <a:pt x="1704" y="904"/>
                </a:lnTo>
                <a:lnTo>
                  <a:pt x="1746" y="846"/>
                </a:lnTo>
                <a:lnTo>
                  <a:pt x="1782" y="800"/>
                </a:lnTo>
                <a:lnTo>
                  <a:pt x="1795" y="781"/>
                </a:lnTo>
                <a:lnTo>
                  <a:pt x="1794" y="777"/>
                </a:lnTo>
                <a:lnTo>
                  <a:pt x="1792" y="774"/>
                </a:lnTo>
                <a:lnTo>
                  <a:pt x="1788" y="768"/>
                </a:lnTo>
                <a:lnTo>
                  <a:pt x="1779" y="758"/>
                </a:lnTo>
                <a:lnTo>
                  <a:pt x="1778" y="754"/>
                </a:lnTo>
                <a:lnTo>
                  <a:pt x="1782" y="749"/>
                </a:lnTo>
                <a:lnTo>
                  <a:pt x="1798" y="731"/>
                </a:lnTo>
                <a:lnTo>
                  <a:pt x="1842" y="680"/>
                </a:lnTo>
                <a:lnTo>
                  <a:pt x="1879" y="629"/>
                </a:lnTo>
                <a:lnTo>
                  <a:pt x="1886" y="618"/>
                </a:lnTo>
                <a:lnTo>
                  <a:pt x="1885" y="619"/>
                </a:lnTo>
                <a:lnTo>
                  <a:pt x="1882" y="619"/>
                </a:lnTo>
                <a:lnTo>
                  <a:pt x="1876" y="619"/>
                </a:lnTo>
                <a:lnTo>
                  <a:pt x="1873" y="619"/>
                </a:lnTo>
                <a:lnTo>
                  <a:pt x="1866" y="618"/>
                </a:lnTo>
                <a:lnTo>
                  <a:pt x="1849" y="613"/>
                </a:lnTo>
                <a:lnTo>
                  <a:pt x="1808" y="597"/>
                </a:lnTo>
                <a:lnTo>
                  <a:pt x="1779" y="581"/>
                </a:lnTo>
                <a:lnTo>
                  <a:pt x="1776" y="577"/>
                </a:lnTo>
                <a:lnTo>
                  <a:pt x="1776" y="574"/>
                </a:lnTo>
                <a:lnTo>
                  <a:pt x="1776" y="573"/>
                </a:lnTo>
                <a:lnTo>
                  <a:pt x="1778" y="570"/>
                </a:lnTo>
                <a:lnTo>
                  <a:pt x="1781" y="568"/>
                </a:lnTo>
                <a:lnTo>
                  <a:pt x="1785" y="567"/>
                </a:lnTo>
                <a:lnTo>
                  <a:pt x="1794" y="567"/>
                </a:lnTo>
                <a:lnTo>
                  <a:pt x="1823" y="565"/>
                </a:lnTo>
                <a:lnTo>
                  <a:pt x="1868" y="570"/>
                </a:lnTo>
                <a:lnTo>
                  <a:pt x="1882" y="571"/>
                </a:lnTo>
                <a:lnTo>
                  <a:pt x="1879" y="568"/>
                </a:lnTo>
                <a:lnTo>
                  <a:pt x="1878" y="564"/>
                </a:lnTo>
                <a:lnTo>
                  <a:pt x="1876" y="558"/>
                </a:lnTo>
                <a:lnTo>
                  <a:pt x="1875" y="544"/>
                </a:lnTo>
                <a:lnTo>
                  <a:pt x="1873" y="512"/>
                </a:lnTo>
                <a:lnTo>
                  <a:pt x="1869" y="497"/>
                </a:lnTo>
                <a:lnTo>
                  <a:pt x="1878" y="499"/>
                </a:lnTo>
                <a:lnTo>
                  <a:pt x="1907" y="503"/>
                </a:lnTo>
                <a:lnTo>
                  <a:pt x="1930" y="506"/>
                </a:lnTo>
                <a:lnTo>
                  <a:pt x="1931" y="506"/>
                </a:lnTo>
                <a:lnTo>
                  <a:pt x="1940" y="500"/>
                </a:lnTo>
                <a:lnTo>
                  <a:pt x="1957" y="484"/>
                </a:lnTo>
                <a:lnTo>
                  <a:pt x="1986" y="451"/>
                </a:lnTo>
                <a:lnTo>
                  <a:pt x="2008" y="415"/>
                </a:lnTo>
                <a:lnTo>
                  <a:pt x="2014" y="405"/>
                </a:lnTo>
                <a:lnTo>
                  <a:pt x="2008" y="400"/>
                </a:lnTo>
                <a:lnTo>
                  <a:pt x="1999" y="387"/>
                </a:lnTo>
                <a:lnTo>
                  <a:pt x="1978" y="357"/>
                </a:lnTo>
                <a:lnTo>
                  <a:pt x="1962" y="328"/>
                </a:lnTo>
                <a:lnTo>
                  <a:pt x="1960" y="322"/>
                </a:lnTo>
                <a:lnTo>
                  <a:pt x="1960" y="320"/>
                </a:lnTo>
                <a:lnTo>
                  <a:pt x="1960" y="315"/>
                </a:lnTo>
                <a:lnTo>
                  <a:pt x="1965" y="299"/>
                </a:lnTo>
                <a:lnTo>
                  <a:pt x="1968" y="281"/>
                </a:lnTo>
                <a:lnTo>
                  <a:pt x="1969" y="276"/>
                </a:lnTo>
                <a:lnTo>
                  <a:pt x="1959" y="271"/>
                </a:lnTo>
                <a:lnTo>
                  <a:pt x="1936" y="263"/>
                </a:lnTo>
                <a:lnTo>
                  <a:pt x="1886" y="249"/>
                </a:lnTo>
                <a:lnTo>
                  <a:pt x="1863" y="251"/>
                </a:lnTo>
                <a:lnTo>
                  <a:pt x="1840" y="260"/>
                </a:lnTo>
                <a:lnTo>
                  <a:pt x="1831" y="267"/>
                </a:lnTo>
                <a:lnTo>
                  <a:pt x="1837" y="281"/>
                </a:lnTo>
                <a:lnTo>
                  <a:pt x="1847" y="310"/>
                </a:lnTo>
                <a:lnTo>
                  <a:pt x="1853" y="368"/>
                </a:lnTo>
                <a:lnTo>
                  <a:pt x="1847" y="396"/>
                </a:lnTo>
                <a:lnTo>
                  <a:pt x="1833" y="420"/>
                </a:lnTo>
                <a:lnTo>
                  <a:pt x="1823" y="432"/>
                </a:lnTo>
                <a:lnTo>
                  <a:pt x="1820" y="428"/>
                </a:lnTo>
                <a:lnTo>
                  <a:pt x="1814" y="413"/>
                </a:lnTo>
                <a:lnTo>
                  <a:pt x="1802" y="376"/>
                </a:lnTo>
                <a:lnTo>
                  <a:pt x="1795" y="339"/>
                </a:lnTo>
                <a:lnTo>
                  <a:pt x="1795" y="332"/>
                </a:lnTo>
                <a:lnTo>
                  <a:pt x="1792" y="331"/>
                </a:lnTo>
                <a:lnTo>
                  <a:pt x="1787" y="326"/>
                </a:lnTo>
                <a:lnTo>
                  <a:pt x="1771" y="318"/>
                </a:lnTo>
                <a:lnTo>
                  <a:pt x="1753" y="315"/>
                </a:lnTo>
                <a:lnTo>
                  <a:pt x="1749" y="313"/>
                </a:lnTo>
                <a:lnTo>
                  <a:pt x="1743" y="326"/>
                </a:lnTo>
                <a:lnTo>
                  <a:pt x="1733" y="345"/>
                </a:lnTo>
                <a:lnTo>
                  <a:pt x="1726" y="358"/>
                </a:lnTo>
                <a:lnTo>
                  <a:pt x="1724" y="360"/>
                </a:lnTo>
                <a:lnTo>
                  <a:pt x="1721" y="361"/>
                </a:lnTo>
                <a:lnTo>
                  <a:pt x="1720" y="361"/>
                </a:lnTo>
                <a:lnTo>
                  <a:pt x="1718" y="360"/>
                </a:lnTo>
                <a:lnTo>
                  <a:pt x="1717" y="358"/>
                </a:lnTo>
                <a:lnTo>
                  <a:pt x="1716" y="354"/>
                </a:lnTo>
                <a:lnTo>
                  <a:pt x="1714" y="349"/>
                </a:lnTo>
                <a:lnTo>
                  <a:pt x="1713" y="339"/>
                </a:lnTo>
                <a:lnTo>
                  <a:pt x="1713" y="303"/>
                </a:lnTo>
                <a:lnTo>
                  <a:pt x="1713" y="303"/>
                </a:lnTo>
                <a:lnTo>
                  <a:pt x="1710" y="302"/>
                </a:lnTo>
                <a:lnTo>
                  <a:pt x="1702" y="297"/>
                </a:lnTo>
                <a:lnTo>
                  <a:pt x="1694" y="293"/>
                </a:lnTo>
                <a:lnTo>
                  <a:pt x="1673" y="284"/>
                </a:lnTo>
                <a:lnTo>
                  <a:pt x="1659" y="276"/>
                </a:lnTo>
                <a:lnTo>
                  <a:pt x="1658" y="268"/>
                </a:lnTo>
                <a:lnTo>
                  <a:pt x="1658" y="245"/>
                </a:lnTo>
                <a:lnTo>
                  <a:pt x="1647" y="190"/>
                </a:lnTo>
                <a:lnTo>
                  <a:pt x="1634" y="165"/>
                </a:lnTo>
                <a:lnTo>
                  <a:pt x="1616" y="147"/>
                </a:lnTo>
                <a:lnTo>
                  <a:pt x="1604" y="139"/>
                </a:lnTo>
                <a:lnTo>
                  <a:pt x="1575" y="134"/>
                </a:lnTo>
                <a:lnTo>
                  <a:pt x="1555" y="134"/>
                </a:lnTo>
                <a:lnTo>
                  <a:pt x="1547" y="138"/>
                </a:lnTo>
                <a:lnTo>
                  <a:pt x="1542" y="142"/>
                </a:lnTo>
                <a:lnTo>
                  <a:pt x="1536" y="148"/>
                </a:lnTo>
                <a:lnTo>
                  <a:pt x="1533" y="154"/>
                </a:lnTo>
                <a:lnTo>
                  <a:pt x="1532" y="163"/>
                </a:lnTo>
                <a:lnTo>
                  <a:pt x="1530" y="180"/>
                </a:lnTo>
                <a:lnTo>
                  <a:pt x="1532" y="200"/>
                </a:lnTo>
                <a:lnTo>
                  <a:pt x="1542" y="241"/>
                </a:lnTo>
                <a:lnTo>
                  <a:pt x="1553" y="273"/>
                </a:lnTo>
                <a:lnTo>
                  <a:pt x="1559" y="284"/>
                </a:lnTo>
                <a:lnTo>
                  <a:pt x="1568" y="289"/>
                </a:lnTo>
                <a:lnTo>
                  <a:pt x="1582" y="299"/>
                </a:lnTo>
                <a:lnTo>
                  <a:pt x="1594" y="310"/>
                </a:lnTo>
                <a:lnTo>
                  <a:pt x="1603" y="325"/>
                </a:lnTo>
                <a:lnTo>
                  <a:pt x="1618" y="360"/>
                </a:lnTo>
                <a:lnTo>
                  <a:pt x="1624" y="368"/>
                </a:lnTo>
                <a:lnTo>
                  <a:pt x="1621" y="380"/>
                </a:lnTo>
                <a:lnTo>
                  <a:pt x="1617" y="402"/>
                </a:lnTo>
                <a:lnTo>
                  <a:pt x="1603" y="447"/>
                </a:lnTo>
                <a:lnTo>
                  <a:pt x="1589" y="487"/>
                </a:lnTo>
                <a:lnTo>
                  <a:pt x="1588" y="496"/>
                </a:lnTo>
                <a:lnTo>
                  <a:pt x="1581" y="480"/>
                </a:lnTo>
                <a:lnTo>
                  <a:pt x="1560" y="429"/>
                </a:lnTo>
                <a:lnTo>
                  <a:pt x="1546" y="391"/>
                </a:lnTo>
                <a:lnTo>
                  <a:pt x="1546" y="389"/>
                </a:lnTo>
                <a:lnTo>
                  <a:pt x="1539" y="390"/>
                </a:lnTo>
                <a:lnTo>
                  <a:pt x="1517" y="394"/>
                </a:lnTo>
                <a:lnTo>
                  <a:pt x="1500" y="397"/>
                </a:lnTo>
                <a:lnTo>
                  <a:pt x="1500" y="397"/>
                </a:lnTo>
                <a:lnTo>
                  <a:pt x="1500" y="400"/>
                </a:lnTo>
                <a:lnTo>
                  <a:pt x="1500" y="406"/>
                </a:lnTo>
                <a:lnTo>
                  <a:pt x="1501" y="419"/>
                </a:lnTo>
                <a:lnTo>
                  <a:pt x="1503" y="431"/>
                </a:lnTo>
                <a:lnTo>
                  <a:pt x="1504" y="432"/>
                </a:lnTo>
                <a:lnTo>
                  <a:pt x="1489" y="436"/>
                </a:lnTo>
                <a:lnTo>
                  <a:pt x="1471" y="439"/>
                </a:lnTo>
                <a:lnTo>
                  <a:pt x="1427" y="441"/>
                </a:lnTo>
                <a:lnTo>
                  <a:pt x="1382" y="436"/>
                </a:lnTo>
                <a:lnTo>
                  <a:pt x="1343" y="422"/>
                </a:lnTo>
                <a:lnTo>
                  <a:pt x="1329" y="412"/>
                </a:lnTo>
                <a:lnTo>
                  <a:pt x="1320" y="399"/>
                </a:lnTo>
                <a:lnTo>
                  <a:pt x="1319" y="383"/>
                </a:lnTo>
                <a:lnTo>
                  <a:pt x="1323" y="363"/>
                </a:lnTo>
                <a:lnTo>
                  <a:pt x="1324" y="363"/>
                </a:lnTo>
                <a:lnTo>
                  <a:pt x="1320" y="363"/>
                </a:lnTo>
                <a:lnTo>
                  <a:pt x="1313" y="363"/>
                </a:lnTo>
                <a:lnTo>
                  <a:pt x="1292" y="360"/>
                </a:lnTo>
                <a:lnTo>
                  <a:pt x="1245" y="360"/>
                </a:lnTo>
                <a:lnTo>
                  <a:pt x="1220" y="384"/>
                </a:lnTo>
                <a:lnTo>
                  <a:pt x="1220" y="389"/>
                </a:lnTo>
                <a:lnTo>
                  <a:pt x="1224" y="390"/>
                </a:lnTo>
                <a:lnTo>
                  <a:pt x="1230" y="391"/>
                </a:lnTo>
                <a:lnTo>
                  <a:pt x="1236" y="393"/>
                </a:lnTo>
                <a:lnTo>
                  <a:pt x="1253" y="393"/>
                </a:lnTo>
                <a:lnTo>
                  <a:pt x="1282" y="393"/>
                </a:lnTo>
                <a:lnTo>
                  <a:pt x="1290" y="397"/>
                </a:lnTo>
                <a:lnTo>
                  <a:pt x="1288" y="402"/>
                </a:lnTo>
                <a:lnTo>
                  <a:pt x="1284" y="406"/>
                </a:lnTo>
                <a:lnTo>
                  <a:pt x="1278" y="412"/>
                </a:lnTo>
                <a:lnTo>
                  <a:pt x="1259" y="425"/>
                </a:lnTo>
                <a:lnTo>
                  <a:pt x="1219" y="449"/>
                </a:lnTo>
                <a:lnTo>
                  <a:pt x="1203" y="454"/>
                </a:lnTo>
                <a:lnTo>
                  <a:pt x="1201" y="452"/>
                </a:lnTo>
                <a:lnTo>
                  <a:pt x="1195" y="445"/>
                </a:lnTo>
                <a:lnTo>
                  <a:pt x="1184" y="426"/>
                </a:lnTo>
                <a:lnTo>
                  <a:pt x="1172" y="412"/>
                </a:lnTo>
                <a:lnTo>
                  <a:pt x="1172" y="409"/>
                </a:lnTo>
                <a:lnTo>
                  <a:pt x="1169" y="409"/>
                </a:lnTo>
                <a:lnTo>
                  <a:pt x="1162" y="407"/>
                </a:lnTo>
                <a:lnTo>
                  <a:pt x="1143" y="407"/>
                </a:lnTo>
                <a:lnTo>
                  <a:pt x="1095" y="407"/>
                </a:lnTo>
                <a:lnTo>
                  <a:pt x="1069" y="406"/>
                </a:lnTo>
                <a:lnTo>
                  <a:pt x="1064" y="403"/>
                </a:lnTo>
                <a:lnTo>
                  <a:pt x="1058" y="402"/>
                </a:lnTo>
                <a:lnTo>
                  <a:pt x="1045" y="396"/>
                </a:lnTo>
                <a:lnTo>
                  <a:pt x="1020" y="386"/>
                </a:lnTo>
                <a:lnTo>
                  <a:pt x="1011" y="381"/>
                </a:lnTo>
                <a:lnTo>
                  <a:pt x="1010" y="380"/>
                </a:lnTo>
                <a:lnTo>
                  <a:pt x="1011" y="378"/>
                </a:lnTo>
                <a:lnTo>
                  <a:pt x="1013" y="378"/>
                </a:lnTo>
                <a:lnTo>
                  <a:pt x="1017" y="378"/>
                </a:lnTo>
                <a:lnTo>
                  <a:pt x="1027" y="377"/>
                </a:lnTo>
                <a:lnTo>
                  <a:pt x="1050" y="376"/>
                </a:lnTo>
                <a:lnTo>
                  <a:pt x="1061" y="374"/>
                </a:lnTo>
                <a:lnTo>
                  <a:pt x="1065" y="373"/>
                </a:lnTo>
                <a:lnTo>
                  <a:pt x="1068" y="370"/>
                </a:lnTo>
                <a:lnTo>
                  <a:pt x="1068" y="367"/>
                </a:lnTo>
                <a:lnTo>
                  <a:pt x="1068" y="365"/>
                </a:lnTo>
                <a:lnTo>
                  <a:pt x="1068" y="364"/>
                </a:lnTo>
                <a:lnTo>
                  <a:pt x="1066" y="361"/>
                </a:lnTo>
                <a:lnTo>
                  <a:pt x="1062" y="357"/>
                </a:lnTo>
                <a:lnTo>
                  <a:pt x="1056" y="351"/>
                </a:lnTo>
                <a:lnTo>
                  <a:pt x="1035" y="336"/>
                </a:lnTo>
                <a:lnTo>
                  <a:pt x="1001" y="318"/>
                </a:lnTo>
                <a:lnTo>
                  <a:pt x="968" y="299"/>
                </a:lnTo>
                <a:lnTo>
                  <a:pt x="965" y="296"/>
                </a:lnTo>
                <a:lnTo>
                  <a:pt x="958" y="287"/>
                </a:lnTo>
                <a:lnTo>
                  <a:pt x="933" y="264"/>
                </a:lnTo>
                <a:lnTo>
                  <a:pt x="875" y="212"/>
                </a:lnTo>
                <a:lnTo>
                  <a:pt x="856" y="193"/>
                </a:lnTo>
                <a:lnTo>
                  <a:pt x="853" y="194"/>
                </a:lnTo>
                <a:lnTo>
                  <a:pt x="851" y="196"/>
                </a:lnTo>
                <a:lnTo>
                  <a:pt x="846" y="199"/>
                </a:lnTo>
                <a:lnTo>
                  <a:pt x="840" y="207"/>
                </a:lnTo>
                <a:lnTo>
                  <a:pt x="826" y="225"/>
                </a:lnTo>
                <a:lnTo>
                  <a:pt x="819" y="229"/>
                </a:lnTo>
                <a:lnTo>
                  <a:pt x="822" y="210"/>
                </a:lnTo>
                <a:lnTo>
                  <a:pt x="824" y="181"/>
                </a:lnTo>
                <a:lnTo>
                  <a:pt x="823" y="173"/>
                </a:lnTo>
                <a:lnTo>
                  <a:pt x="820" y="167"/>
                </a:lnTo>
                <a:lnTo>
                  <a:pt x="819" y="165"/>
                </a:lnTo>
                <a:lnTo>
                  <a:pt x="816" y="164"/>
                </a:lnTo>
                <a:lnTo>
                  <a:pt x="813" y="163"/>
                </a:lnTo>
                <a:lnTo>
                  <a:pt x="810" y="163"/>
                </a:lnTo>
                <a:lnTo>
                  <a:pt x="807" y="164"/>
                </a:lnTo>
                <a:lnTo>
                  <a:pt x="804" y="165"/>
                </a:lnTo>
                <a:lnTo>
                  <a:pt x="797" y="168"/>
                </a:lnTo>
                <a:lnTo>
                  <a:pt x="788" y="176"/>
                </a:lnTo>
                <a:lnTo>
                  <a:pt x="771" y="193"/>
                </a:lnTo>
                <a:lnTo>
                  <a:pt x="771" y="193"/>
                </a:lnTo>
                <a:lnTo>
                  <a:pt x="771" y="177"/>
                </a:lnTo>
                <a:lnTo>
                  <a:pt x="771" y="145"/>
                </a:lnTo>
                <a:lnTo>
                  <a:pt x="769" y="122"/>
                </a:lnTo>
                <a:lnTo>
                  <a:pt x="768" y="112"/>
                </a:lnTo>
                <a:lnTo>
                  <a:pt x="764" y="106"/>
                </a:lnTo>
                <a:lnTo>
                  <a:pt x="758" y="102"/>
                </a:lnTo>
                <a:lnTo>
                  <a:pt x="751" y="100"/>
                </a:lnTo>
                <a:lnTo>
                  <a:pt x="740" y="103"/>
                </a:lnTo>
                <a:lnTo>
                  <a:pt x="727" y="109"/>
                </a:lnTo>
                <a:lnTo>
                  <a:pt x="711" y="119"/>
                </a:lnTo>
                <a:lnTo>
                  <a:pt x="711" y="119"/>
                </a:lnTo>
                <a:lnTo>
                  <a:pt x="703" y="115"/>
                </a:lnTo>
                <a:lnTo>
                  <a:pt x="690" y="110"/>
                </a:lnTo>
                <a:lnTo>
                  <a:pt x="652" y="103"/>
                </a:lnTo>
                <a:lnTo>
                  <a:pt x="552" y="89"/>
                </a:lnTo>
                <a:lnTo>
                  <a:pt x="483" y="83"/>
                </a:lnTo>
                <a:lnTo>
                  <a:pt x="477" y="79"/>
                </a:lnTo>
                <a:lnTo>
                  <a:pt x="467" y="65"/>
                </a:lnTo>
                <a:lnTo>
                  <a:pt x="448" y="34"/>
                </a:lnTo>
                <a:lnTo>
                  <a:pt x="432" y="6"/>
                </a:lnTo>
                <a:lnTo>
                  <a:pt x="429" y="0"/>
                </a:lnTo>
                <a:lnTo>
                  <a:pt x="420" y="13"/>
                </a:lnTo>
                <a:lnTo>
                  <a:pt x="361" y="94"/>
                </a:lnTo>
                <a:lnTo>
                  <a:pt x="161" y="373"/>
                </a:lnTo>
                <a:lnTo>
                  <a:pt x="7" y="584"/>
                </a:lnTo>
                <a:lnTo>
                  <a:pt x="0" y="596"/>
                </a:lnTo>
                <a:lnTo>
                  <a:pt x="19" y="602"/>
                </a:lnTo>
                <a:lnTo>
                  <a:pt x="48" y="612"/>
                </a:lnTo>
                <a:lnTo>
                  <a:pt x="67" y="626"/>
                </a:lnTo>
                <a:lnTo>
                  <a:pt x="75" y="645"/>
                </a:lnTo>
                <a:lnTo>
                  <a:pt x="77" y="670"/>
                </a:lnTo>
                <a:lnTo>
                  <a:pt x="73" y="703"/>
                </a:lnTo>
                <a:lnTo>
                  <a:pt x="70" y="722"/>
                </a:lnTo>
                <a:lnTo>
                  <a:pt x="84" y="723"/>
                </a:lnTo>
                <a:lnTo>
                  <a:pt x="130" y="728"/>
                </a:lnTo>
                <a:lnTo>
                  <a:pt x="165" y="729"/>
                </a:lnTo>
                <a:lnTo>
                  <a:pt x="168" y="729"/>
                </a:lnTo>
                <a:lnTo>
                  <a:pt x="168" y="736"/>
                </a:lnTo>
                <a:lnTo>
                  <a:pt x="170" y="777"/>
                </a:lnTo>
                <a:lnTo>
                  <a:pt x="174" y="917"/>
                </a:lnTo>
                <a:lnTo>
                  <a:pt x="177" y="1023"/>
                </a:lnTo>
                <a:lnTo>
                  <a:pt x="178" y="1029"/>
                </a:lnTo>
                <a:lnTo>
                  <a:pt x="194" y="1046"/>
                </a:lnTo>
                <a:lnTo>
                  <a:pt x="216" y="1078"/>
                </a:lnTo>
                <a:lnTo>
                  <a:pt x="223" y="1107"/>
                </a:lnTo>
                <a:lnTo>
                  <a:pt x="220" y="1136"/>
                </a:lnTo>
                <a:lnTo>
                  <a:pt x="209" y="1170"/>
                </a:lnTo>
                <a:lnTo>
                  <a:pt x="188" y="1207"/>
                </a:lnTo>
                <a:lnTo>
                  <a:pt x="177" y="1229"/>
                </a:lnTo>
                <a:lnTo>
                  <a:pt x="175" y="1236"/>
                </a:lnTo>
                <a:lnTo>
                  <a:pt x="174" y="1254"/>
                </a:lnTo>
                <a:lnTo>
                  <a:pt x="174" y="1268"/>
                </a:lnTo>
                <a:lnTo>
                  <a:pt x="174" y="1268"/>
                </a:lnTo>
                <a:lnTo>
                  <a:pt x="174" y="1274"/>
                </a:lnTo>
                <a:lnTo>
                  <a:pt x="173" y="1287"/>
                </a:lnTo>
                <a:lnTo>
                  <a:pt x="173" y="1297"/>
                </a:lnTo>
                <a:lnTo>
                  <a:pt x="174" y="1297"/>
                </a:lnTo>
                <a:lnTo>
                  <a:pt x="174" y="1310"/>
                </a:lnTo>
                <a:lnTo>
                  <a:pt x="174" y="1330"/>
                </a:lnTo>
                <a:lnTo>
                  <a:pt x="167" y="1364"/>
                </a:lnTo>
                <a:lnTo>
                  <a:pt x="155" y="1404"/>
                </a:lnTo>
                <a:lnTo>
                  <a:pt x="154" y="1416"/>
                </a:lnTo>
                <a:lnTo>
                  <a:pt x="154" y="1419"/>
                </a:lnTo>
                <a:lnTo>
                  <a:pt x="154" y="1422"/>
                </a:lnTo>
                <a:lnTo>
                  <a:pt x="157" y="1425"/>
                </a:lnTo>
                <a:lnTo>
                  <a:pt x="159" y="1432"/>
                </a:lnTo>
                <a:lnTo>
                  <a:pt x="168" y="1442"/>
                </a:lnTo>
                <a:lnTo>
                  <a:pt x="173" y="1443"/>
                </a:lnTo>
                <a:lnTo>
                  <a:pt x="170" y="1446"/>
                </a:lnTo>
                <a:lnTo>
                  <a:pt x="165" y="1452"/>
                </a:lnTo>
                <a:lnTo>
                  <a:pt x="157" y="1468"/>
                </a:lnTo>
                <a:lnTo>
                  <a:pt x="154" y="1485"/>
                </a:lnTo>
                <a:lnTo>
                  <a:pt x="154" y="1490"/>
                </a:lnTo>
                <a:lnTo>
                  <a:pt x="161" y="1496"/>
                </a:lnTo>
                <a:lnTo>
                  <a:pt x="167" y="1499"/>
                </a:lnTo>
                <a:lnTo>
                  <a:pt x="186" y="1506"/>
                </a:lnTo>
                <a:lnTo>
                  <a:pt x="226" y="1525"/>
                </a:lnTo>
                <a:lnTo>
                  <a:pt x="249" y="1538"/>
                </a:lnTo>
                <a:lnTo>
                  <a:pt x="254" y="1545"/>
                </a:lnTo>
                <a:lnTo>
                  <a:pt x="261" y="1556"/>
                </a:lnTo>
                <a:lnTo>
                  <a:pt x="278" y="1591"/>
                </a:lnTo>
                <a:lnTo>
                  <a:pt x="320" y="1680"/>
                </a:lnTo>
                <a:lnTo>
                  <a:pt x="361" y="1741"/>
                </a:lnTo>
                <a:lnTo>
                  <a:pt x="377" y="1745"/>
                </a:lnTo>
                <a:lnTo>
                  <a:pt x="496" y="1765"/>
                </a:lnTo>
                <a:lnTo>
                  <a:pt x="900" y="1835"/>
                </a:lnTo>
                <a:lnTo>
                  <a:pt x="1208" y="1888"/>
                </a:lnTo>
                <a:lnTo>
                  <a:pt x="1226" y="1891"/>
                </a:lnTo>
                <a:lnTo>
                  <a:pt x="1234" y="1891"/>
                </a:lnTo>
                <a:lnTo>
                  <a:pt x="1300" y="1890"/>
                </a:lnTo>
                <a:lnTo>
                  <a:pt x="1521" y="1884"/>
                </a:lnTo>
                <a:lnTo>
                  <a:pt x="1691" y="1880"/>
                </a:lnTo>
                <a:lnTo>
                  <a:pt x="1701" y="1878"/>
                </a:lnTo>
                <a:lnTo>
                  <a:pt x="1701" y="1878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48400" y="2063880"/>
            <a:ext cx="155520" cy="123840"/>
          </a:xfrm>
          <a:custGeom>
            <a:avLst/>
            <a:gdLst/>
            <a:ahLst/>
            <a:rect l="l" t="t" r="r" b="b"/>
            <a:pathLst>
              <a:path w="446" h="380">
                <a:moveTo>
                  <a:pt x="64" y="292"/>
                </a:moveTo>
                <a:lnTo>
                  <a:pt x="53" y="292"/>
                </a:lnTo>
                <a:lnTo>
                  <a:pt x="38" y="289"/>
                </a:lnTo>
                <a:lnTo>
                  <a:pt x="23" y="283"/>
                </a:lnTo>
                <a:lnTo>
                  <a:pt x="11" y="274"/>
                </a:lnTo>
                <a:lnTo>
                  <a:pt x="4" y="263"/>
                </a:lnTo>
                <a:lnTo>
                  <a:pt x="0" y="247"/>
                </a:lnTo>
                <a:lnTo>
                  <a:pt x="0" y="238"/>
                </a:lnTo>
                <a:lnTo>
                  <a:pt x="1" y="238"/>
                </a:lnTo>
                <a:lnTo>
                  <a:pt x="4" y="238"/>
                </a:lnTo>
                <a:lnTo>
                  <a:pt x="13" y="234"/>
                </a:lnTo>
                <a:lnTo>
                  <a:pt x="30" y="225"/>
                </a:lnTo>
                <a:lnTo>
                  <a:pt x="45" y="219"/>
                </a:lnTo>
                <a:lnTo>
                  <a:pt x="49" y="222"/>
                </a:lnTo>
                <a:lnTo>
                  <a:pt x="61" y="226"/>
                </a:lnTo>
                <a:lnTo>
                  <a:pt x="90" y="232"/>
                </a:lnTo>
                <a:lnTo>
                  <a:pt x="116" y="231"/>
                </a:lnTo>
                <a:lnTo>
                  <a:pt x="122" y="228"/>
                </a:lnTo>
                <a:lnTo>
                  <a:pt x="116" y="222"/>
                </a:lnTo>
                <a:lnTo>
                  <a:pt x="107" y="216"/>
                </a:lnTo>
                <a:lnTo>
                  <a:pt x="88" y="206"/>
                </a:lnTo>
                <a:lnTo>
                  <a:pt x="66" y="199"/>
                </a:lnTo>
                <a:lnTo>
                  <a:pt x="19" y="187"/>
                </a:lnTo>
                <a:lnTo>
                  <a:pt x="0" y="181"/>
                </a:lnTo>
                <a:lnTo>
                  <a:pt x="0" y="177"/>
                </a:lnTo>
                <a:lnTo>
                  <a:pt x="1" y="173"/>
                </a:lnTo>
                <a:lnTo>
                  <a:pt x="6" y="164"/>
                </a:lnTo>
                <a:lnTo>
                  <a:pt x="11" y="155"/>
                </a:lnTo>
                <a:lnTo>
                  <a:pt x="24" y="141"/>
                </a:lnTo>
                <a:lnTo>
                  <a:pt x="30" y="135"/>
                </a:lnTo>
                <a:lnTo>
                  <a:pt x="30" y="128"/>
                </a:lnTo>
                <a:lnTo>
                  <a:pt x="39" y="99"/>
                </a:lnTo>
                <a:lnTo>
                  <a:pt x="74" y="26"/>
                </a:lnTo>
                <a:lnTo>
                  <a:pt x="87" y="12"/>
                </a:lnTo>
                <a:lnTo>
                  <a:pt x="101" y="3"/>
                </a:lnTo>
                <a:lnTo>
                  <a:pt x="117" y="0"/>
                </a:lnTo>
                <a:lnTo>
                  <a:pt x="135" y="6"/>
                </a:lnTo>
                <a:lnTo>
                  <a:pt x="152" y="19"/>
                </a:lnTo>
                <a:lnTo>
                  <a:pt x="153" y="19"/>
                </a:lnTo>
                <a:lnTo>
                  <a:pt x="152" y="29"/>
                </a:lnTo>
                <a:lnTo>
                  <a:pt x="148" y="44"/>
                </a:lnTo>
                <a:lnTo>
                  <a:pt x="145" y="51"/>
                </a:lnTo>
                <a:lnTo>
                  <a:pt x="143" y="52"/>
                </a:lnTo>
                <a:lnTo>
                  <a:pt x="145" y="54"/>
                </a:lnTo>
                <a:lnTo>
                  <a:pt x="148" y="52"/>
                </a:lnTo>
                <a:lnTo>
                  <a:pt x="151" y="52"/>
                </a:lnTo>
                <a:lnTo>
                  <a:pt x="158" y="51"/>
                </a:lnTo>
                <a:lnTo>
                  <a:pt x="182" y="45"/>
                </a:lnTo>
                <a:lnTo>
                  <a:pt x="193" y="42"/>
                </a:lnTo>
                <a:lnTo>
                  <a:pt x="194" y="47"/>
                </a:lnTo>
                <a:lnTo>
                  <a:pt x="194" y="50"/>
                </a:lnTo>
                <a:lnTo>
                  <a:pt x="194" y="55"/>
                </a:lnTo>
                <a:lnTo>
                  <a:pt x="193" y="68"/>
                </a:lnTo>
                <a:lnTo>
                  <a:pt x="193" y="81"/>
                </a:lnTo>
                <a:lnTo>
                  <a:pt x="194" y="93"/>
                </a:lnTo>
                <a:lnTo>
                  <a:pt x="198" y="99"/>
                </a:lnTo>
                <a:lnTo>
                  <a:pt x="200" y="99"/>
                </a:lnTo>
                <a:lnTo>
                  <a:pt x="203" y="100"/>
                </a:lnTo>
                <a:lnTo>
                  <a:pt x="207" y="99"/>
                </a:lnTo>
                <a:lnTo>
                  <a:pt x="208" y="95"/>
                </a:lnTo>
                <a:lnTo>
                  <a:pt x="211" y="90"/>
                </a:lnTo>
                <a:lnTo>
                  <a:pt x="213" y="84"/>
                </a:lnTo>
                <a:lnTo>
                  <a:pt x="216" y="70"/>
                </a:lnTo>
                <a:lnTo>
                  <a:pt x="219" y="58"/>
                </a:lnTo>
                <a:lnTo>
                  <a:pt x="222" y="51"/>
                </a:lnTo>
                <a:lnTo>
                  <a:pt x="224" y="50"/>
                </a:lnTo>
                <a:lnTo>
                  <a:pt x="232" y="52"/>
                </a:lnTo>
                <a:lnTo>
                  <a:pt x="242" y="57"/>
                </a:lnTo>
                <a:lnTo>
                  <a:pt x="252" y="63"/>
                </a:lnTo>
                <a:lnTo>
                  <a:pt x="255" y="63"/>
                </a:lnTo>
                <a:lnTo>
                  <a:pt x="255" y="70"/>
                </a:lnTo>
                <a:lnTo>
                  <a:pt x="255" y="84"/>
                </a:lnTo>
                <a:lnTo>
                  <a:pt x="258" y="113"/>
                </a:lnTo>
                <a:lnTo>
                  <a:pt x="264" y="138"/>
                </a:lnTo>
                <a:lnTo>
                  <a:pt x="266" y="142"/>
                </a:lnTo>
                <a:lnTo>
                  <a:pt x="271" y="138"/>
                </a:lnTo>
                <a:lnTo>
                  <a:pt x="274" y="131"/>
                </a:lnTo>
                <a:lnTo>
                  <a:pt x="277" y="123"/>
                </a:lnTo>
                <a:lnTo>
                  <a:pt x="279" y="106"/>
                </a:lnTo>
                <a:lnTo>
                  <a:pt x="279" y="87"/>
                </a:lnTo>
                <a:lnTo>
                  <a:pt x="279" y="51"/>
                </a:lnTo>
                <a:lnTo>
                  <a:pt x="279" y="42"/>
                </a:lnTo>
                <a:lnTo>
                  <a:pt x="288" y="38"/>
                </a:lnTo>
                <a:lnTo>
                  <a:pt x="306" y="29"/>
                </a:lnTo>
                <a:lnTo>
                  <a:pt x="342" y="15"/>
                </a:lnTo>
                <a:lnTo>
                  <a:pt x="359" y="15"/>
                </a:lnTo>
                <a:lnTo>
                  <a:pt x="375" y="21"/>
                </a:lnTo>
                <a:lnTo>
                  <a:pt x="382" y="25"/>
                </a:lnTo>
                <a:lnTo>
                  <a:pt x="374" y="37"/>
                </a:lnTo>
                <a:lnTo>
                  <a:pt x="366" y="50"/>
                </a:lnTo>
                <a:lnTo>
                  <a:pt x="355" y="80"/>
                </a:lnTo>
                <a:lnTo>
                  <a:pt x="348" y="116"/>
                </a:lnTo>
                <a:lnTo>
                  <a:pt x="348" y="189"/>
                </a:lnTo>
                <a:lnTo>
                  <a:pt x="355" y="219"/>
                </a:lnTo>
                <a:lnTo>
                  <a:pt x="358" y="226"/>
                </a:lnTo>
                <a:lnTo>
                  <a:pt x="364" y="232"/>
                </a:lnTo>
                <a:lnTo>
                  <a:pt x="371" y="239"/>
                </a:lnTo>
                <a:lnTo>
                  <a:pt x="388" y="250"/>
                </a:lnTo>
                <a:lnTo>
                  <a:pt x="426" y="270"/>
                </a:lnTo>
                <a:lnTo>
                  <a:pt x="446" y="283"/>
                </a:lnTo>
                <a:lnTo>
                  <a:pt x="445" y="286"/>
                </a:lnTo>
                <a:lnTo>
                  <a:pt x="445" y="292"/>
                </a:lnTo>
                <a:lnTo>
                  <a:pt x="440" y="305"/>
                </a:lnTo>
                <a:lnTo>
                  <a:pt x="437" y="318"/>
                </a:lnTo>
                <a:lnTo>
                  <a:pt x="437" y="319"/>
                </a:lnTo>
                <a:lnTo>
                  <a:pt x="435" y="319"/>
                </a:lnTo>
                <a:lnTo>
                  <a:pt x="427" y="319"/>
                </a:lnTo>
                <a:lnTo>
                  <a:pt x="411" y="319"/>
                </a:lnTo>
                <a:lnTo>
                  <a:pt x="395" y="319"/>
                </a:lnTo>
                <a:lnTo>
                  <a:pt x="394" y="319"/>
                </a:lnTo>
                <a:lnTo>
                  <a:pt x="400" y="326"/>
                </a:lnTo>
                <a:lnTo>
                  <a:pt x="408" y="338"/>
                </a:lnTo>
                <a:lnTo>
                  <a:pt x="411" y="348"/>
                </a:lnTo>
                <a:lnTo>
                  <a:pt x="413" y="357"/>
                </a:lnTo>
                <a:lnTo>
                  <a:pt x="411" y="364"/>
                </a:lnTo>
                <a:lnTo>
                  <a:pt x="413" y="373"/>
                </a:lnTo>
                <a:lnTo>
                  <a:pt x="416" y="377"/>
                </a:lnTo>
                <a:lnTo>
                  <a:pt x="413" y="379"/>
                </a:lnTo>
                <a:lnTo>
                  <a:pt x="410" y="379"/>
                </a:lnTo>
                <a:lnTo>
                  <a:pt x="401" y="377"/>
                </a:lnTo>
                <a:lnTo>
                  <a:pt x="379" y="376"/>
                </a:lnTo>
                <a:lnTo>
                  <a:pt x="362" y="373"/>
                </a:lnTo>
                <a:lnTo>
                  <a:pt x="359" y="373"/>
                </a:lnTo>
                <a:lnTo>
                  <a:pt x="356" y="371"/>
                </a:lnTo>
                <a:lnTo>
                  <a:pt x="353" y="368"/>
                </a:lnTo>
                <a:lnTo>
                  <a:pt x="348" y="363"/>
                </a:lnTo>
                <a:lnTo>
                  <a:pt x="336" y="347"/>
                </a:lnTo>
                <a:lnTo>
                  <a:pt x="330" y="338"/>
                </a:lnTo>
                <a:lnTo>
                  <a:pt x="324" y="336"/>
                </a:lnTo>
                <a:lnTo>
                  <a:pt x="320" y="335"/>
                </a:lnTo>
                <a:lnTo>
                  <a:pt x="313" y="335"/>
                </a:lnTo>
                <a:lnTo>
                  <a:pt x="306" y="335"/>
                </a:lnTo>
                <a:lnTo>
                  <a:pt x="288" y="339"/>
                </a:lnTo>
                <a:lnTo>
                  <a:pt x="248" y="354"/>
                </a:lnTo>
                <a:lnTo>
                  <a:pt x="153" y="380"/>
                </a:lnTo>
                <a:lnTo>
                  <a:pt x="94" y="365"/>
                </a:lnTo>
                <a:lnTo>
                  <a:pt x="94" y="361"/>
                </a:lnTo>
                <a:lnTo>
                  <a:pt x="94" y="355"/>
                </a:lnTo>
                <a:lnTo>
                  <a:pt x="94" y="350"/>
                </a:lnTo>
                <a:lnTo>
                  <a:pt x="88" y="336"/>
                </a:lnTo>
                <a:lnTo>
                  <a:pt x="81" y="322"/>
                </a:lnTo>
                <a:lnTo>
                  <a:pt x="65" y="297"/>
                </a:lnTo>
                <a:lnTo>
                  <a:pt x="64" y="292"/>
                </a:lnTo>
                <a:lnTo>
                  <a:pt x="64" y="29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3920" y="2160720"/>
            <a:ext cx="52560" cy="27000"/>
          </a:xfrm>
          <a:custGeom>
            <a:avLst/>
            <a:gdLst/>
            <a:ahLst/>
            <a:rect l="l" t="t" r="r" b="b"/>
            <a:pathLst>
              <a:path w="154" h="89">
                <a:moveTo>
                  <a:pt x="0" y="72"/>
                </a:moveTo>
                <a:lnTo>
                  <a:pt x="11" y="69"/>
                </a:lnTo>
                <a:lnTo>
                  <a:pt x="29" y="63"/>
                </a:lnTo>
                <a:lnTo>
                  <a:pt x="41" y="58"/>
                </a:lnTo>
                <a:lnTo>
                  <a:pt x="48" y="50"/>
                </a:lnTo>
                <a:lnTo>
                  <a:pt x="55" y="37"/>
                </a:lnTo>
                <a:lnTo>
                  <a:pt x="64" y="16"/>
                </a:lnTo>
                <a:lnTo>
                  <a:pt x="70" y="0"/>
                </a:lnTo>
                <a:lnTo>
                  <a:pt x="80" y="2"/>
                </a:lnTo>
                <a:lnTo>
                  <a:pt x="90" y="7"/>
                </a:lnTo>
                <a:lnTo>
                  <a:pt x="100" y="14"/>
                </a:lnTo>
                <a:lnTo>
                  <a:pt x="109" y="23"/>
                </a:lnTo>
                <a:lnTo>
                  <a:pt x="125" y="44"/>
                </a:lnTo>
                <a:lnTo>
                  <a:pt x="147" y="81"/>
                </a:lnTo>
                <a:lnTo>
                  <a:pt x="154" y="87"/>
                </a:lnTo>
                <a:lnTo>
                  <a:pt x="142" y="88"/>
                </a:lnTo>
                <a:lnTo>
                  <a:pt x="118" y="89"/>
                </a:lnTo>
                <a:lnTo>
                  <a:pt x="61" y="88"/>
                </a:lnTo>
                <a:lnTo>
                  <a:pt x="11" y="78"/>
                </a:lnTo>
                <a:lnTo>
                  <a:pt x="0" y="72"/>
                </a:lnTo>
                <a:lnTo>
                  <a:pt x="0" y="7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84840" y="2057400"/>
            <a:ext cx="55800" cy="73080"/>
          </a:xfrm>
          <a:custGeom>
            <a:avLst/>
            <a:gdLst/>
            <a:ahLst/>
            <a:rect l="l" t="t" r="r" b="b"/>
            <a:pathLst>
              <a:path w="162" h="219">
                <a:moveTo>
                  <a:pt x="110" y="0"/>
                </a:moveTo>
                <a:lnTo>
                  <a:pt x="117" y="1"/>
                </a:lnTo>
                <a:lnTo>
                  <a:pt x="129" y="3"/>
                </a:lnTo>
                <a:lnTo>
                  <a:pt x="136" y="4"/>
                </a:lnTo>
                <a:lnTo>
                  <a:pt x="137" y="6"/>
                </a:lnTo>
                <a:lnTo>
                  <a:pt x="139" y="9"/>
                </a:lnTo>
                <a:lnTo>
                  <a:pt x="140" y="12"/>
                </a:lnTo>
                <a:lnTo>
                  <a:pt x="140" y="14"/>
                </a:lnTo>
                <a:lnTo>
                  <a:pt x="142" y="26"/>
                </a:lnTo>
                <a:lnTo>
                  <a:pt x="142" y="32"/>
                </a:lnTo>
                <a:lnTo>
                  <a:pt x="139" y="35"/>
                </a:lnTo>
                <a:lnTo>
                  <a:pt x="135" y="43"/>
                </a:lnTo>
                <a:lnTo>
                  <a:pt x="123" y="67"/>
                </a:lnTo>
                <a:lnTo>
                  <a:pt x="117" y="87"/>
                </a:lnTo>
                <a:lnTo>
                  <a:pt x="117" y="90"/>
                </a:lnTo>
                <a:lnTo>
                  <a:pt x="120" y="93"/>
                </a:lnTo>
                <a:lnTo>
                  <a:pt x="124" y="93"/>
                </a:lnTo>
                <a:lnTo>
                  <a:pt x="135" y="94"/>
                </a:lnTo>
                <a:lnTo>
                  <a:pt x="143" y="93"/>
                </a:lnTo>
                <a:lnTo>
                  <a:pt x="152" y="94"/>
                </a:lnTo>
                <a:lnTo>
                  <a:pt x="158" y="97"/>
                </a:lnTo>
                <a:lnTo>
                  <a:pt x="161" y="103"/>
                </a:lnTo>
                <a:lnTo>
                  <a:pt x="162" y="103"/>
                </a:lnTo>
                <a:lnTo>
                  <a:pt x="162" y="110"/>
                </a:lnTo>
                <a:lnTo>
                  <a:pt x="161" y="129"/>
                </a:lnTo>
                <a:lnTo>
                  <a:pt x="161" y="143"/>
                </a:lnTo>
                <a:lnTo>
                  <a:pt x="162" y="143"/>
                </a:lnTo>
                <a:lnTo>
                  <a:pt x="161" y="149"/>
                </a:lnTo>
                <a:lnTo>
                  <a:pt x="158" y="152"/>
                </a:lnTo>
                <a:lnTo>
                  <a:pt x="155" y="155"/>
                </a:lnTo>
                <a:lnTo>
                  <a:pt x="152" y="158"/>
                </a:lnTo>
                <a:lnTo>
                  <a:pt x="145" y="162"/>
                </a:lnTo>
                <a:lnTo>
                  <a:pt x="136" y="167"/>
                </a:lnTo>
                <a:lnTo>
                  <a:pt x="127" y="171"/>
                </a:lnTo>
                <a:lnTo>
                  <a:pt x="122" y="177"/>
                </a:lnTo>
                <a:lnTo>
                  <a:pt x="122" y="177"/>
                </a:lnTo>
                <a:lnTo>
                  <a:pt x="119" y="180"/>
                </a:lnTo>
                <a:lnTo>
                  <a:pt x="117" y="183"/>
                </a:lnTo>
                <a:lnTo>
                  <a:pt x="114" y="191"/>
                </a:lnTo>
                <a:lnTo>
                  <a:pt x="107" y="210"/>
                </a:lnTo>
                <a:lnTo>
                  <a:pt x="93" y="219"/>
                </a:lnTo>
                <a:lnTo>
                  <a:pt x="87" y="209"/>
                </a:lnTo>
                <a:lnTo>
                  <a:pt x="74" y="190"/>
                </a:lnTo>
                <a:lnTo>
                  <a:pt x="45" y="156"/>
                </a:lnTo>
                <a:lnTo>
                  <a:pt x="10" y="127"/>
                </a:lnTo>
                <a:lnTo>
                  <a:pt x="1" y="120"/>
                </a:lnTo>
                <a:lnTo>
                  <a:pt x="0" y="114"/>
                </a:lnTo>
                <a:lnTo>
                  <a:pt x="1" y="104"/>
                </a:lnTo>
                <a:lnTo>
                  <a:pt x="1" y="97"/>
                </a:lnTo>
                <a:lnTo>
                  <a:pt x="4" y="94"/>
                </a:lnTo>
                <a:lnTo>
                  <a:pt x="10" y="90"/>
                </a:lnTo>
                <a:lnTo>
                  <a:pt x="19" y="84"/>
                </a:lnTo>
                <a:lnTo>
                  <a:pt x="24" y="78"/>
                </a:lnTo>
                <a:lnTo>
                  <a:pt x="36" y="80"/>
                </a:lnTo>
                <a:lnTo>
                  <a:pt x="49" y="81"/>
                </a:lnTo>
                <a:lnTo>
                  <a:pt x="52" y="84"/>
                </a:lnTo>
                <a:lnTo>
                  <a:pt x="49" y="88"/>
                </a:lnTo>
                <a:lnTo>
                  <a:pt x="49" y="91"/>
                </a:lnTo>
                <a:lnTo>
                  <a:pt x="56" y="94"/>
                </a:lnTo>
                <a:lnTo>
                  <a:pt x="65" y="94"/>
                </a:lnTo>
                <a:lnTo>
                  <a:pt x="64" y="88"/>
                </a:lnTo>
                <a:lnTo>
                  <a:pt x="61" y="83"/>
                </a:lnTo>
                <a:lnTo>
                  <a:pt x="53" y="65"/>
                </a:lnTo>
                <a:lnTo>
                  <a:pt x="48" y="48"/>
                </a:lnTo>
                <a:lnTo>
                  <a:pt x="45" y="32"/>
                </a:lnTo>
                <a:lnTo>
                  <a:pt x="46" y="25"/>
                </a:lnTo>
                <a:lnTo>
                  <a:pt x="51" y="20"/>
                </a:lnTo>
                <a:lnTo>
                  <a:pt x="58" y="16"/>
                </a:lnTo>
                <a:lnTo>
                  <a:pt x="68" y="14"/>
                </a:lnTo>
                <a:lnTo>
                  <a:pt x="69" y="14"/>
                </a:lnTo>
                <a:lnTo>
                  <a:pt x="72" y="17"/>
                </a:lnTo>
                <a:lnTo>
                  <a:pt x="75" y="19"/>
                </a:lnTo>
                <a:lnTo>
                  <a:pt x="80" y="20"/>
                </a:lnTo>
                <a:lnTo>
                  <a:pt x="87" y="22"/>
                </a:lnTo>
                <a:lnTo>
                  <a:pt x="94" y="23"/>
                </a:lnTo>
                <a:lnTo>
                  <a:pt x="98" y="26"/>
                </a:lnTo>
                <a:lnTo>
                  <a:pt x="100" y="30"/>
                </a:lnTo>
                <a:lnTo>
                  <a:pt x="98" y="33"/>
                </a:lnTo>
                <a:lnTo>
                  <a:pt x="98" y="30"/>
                </a:lnTo>
                <a:lnTo>
                  <a:pt x="98" y="23"/>
                </a:lnTo>
                <a:lnTo>
                  <a:pt x="100" y="12"/>
                </a:lnTo>
                <a:lnTo>
                  <a:pt x="101" y="7"/>
                </a:lnTo>
                <a:lnTo>
                  <a:pt x="106" y="3"/>
                </a:lnTo>
                <a:lnTo>
                  <a:pt x="110" y="0"/>
                </a:lnTo>
                <a:lnTo>
                  <a:pt x="110" y="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43880" y="2055960"/>
            <a:ext cx="42840" cy="48960"/>
          </a:xfrm>
          <a:custGeom>
            <a:avLst/>
            <a:gdLst/>
            <a:ahLst/>
            <a:rect l="l" t="t" r="r" b="b"/>
            <a:pathLst>
              <a:path w="123" h="152">
                <a:moveTo>
                  <a:pt x="13" y="11"/>
                </a:moveTo>
                <a:lnTo>
                  <a:pt x="20" y="5"/>
                </a:lnTo>
                <a:lnTo>
                  <a:pt x="29" y="3"/>
                </a:lnTo>
                <a:lnTo>
                  <a:pt x="38" y="1"/>
                </a:lnTo>
                <a:lnTo>
                  <a:pt x="45" y="0"/>
                </a:lnTo>
                <a:lnTo>
                  <a:pt x="54" y="1"/>
                </a:lnTo>
                <a:lnTo>
                  <a:pt x="68" y="7"/>
                </a:lnTo>
                <a:lnTo>
                  <a:pt x="78" y="13"/>
                </a:lnTo>
                <a:lnTo>
                  <a:pt x="82" y="16"/>
                </a:lnTo>
                <a:lnTo>
                  <a:pt x="84" y="19"/>
                </a:lnTo>
                <a:lnTo>
                  <a:pt x="84" y="19"/>
                </a:lnTo>
                <a:lnTo>
                  <a:pt x="85" y="20"/>
                </a:lnTo>
                <a:lnTo>
                  <a:pt x="88" y="21"/>
                </a:lnTo>
                <a:lnTo>
                  <a:pt x="96" y="23"/>
                </a:lnTo>
                <a:lnTo>
                  <a:pt x="113" y="27"/>
                </a:lnTo>
                <a:lnTo>
                  <a:pt x="123" y="32"/>
                </a:lnTo>
                <a:lnTo>
                  <a:pt x="123" y="46"/>
                </a:lnTo>
                <a:lnTo>
                  <a:pt x="122" y="62"/>
                </a:lnTo>
                <a:lnTo>
                  <a:pt x="120" y="66"/>
                </a:lnTo>
                <a:lnTo>
                  <a:pt x="116" y="66"/>
                </a:lnTo>
                <a:lnTo>
                  <a:pt x="113" y="66"/>
                </a:lnTo>
                <a:lnTo>
                  <a:pt x="109" y="66"/>
                </a:lnTo>
                <a:lnTo>
                  <a:pt x="107" y="68"/>
                </a:lnTo>
                <a:lnTo>
                  <a:pt x="107" y="74"/>
                </a:lnTo>
                <a:lnTo>
                  <a:pt x="106" y="81"/>
                </a:lnTo>
                <a:lnTo>
                  <a:pt x="107" y="81"/>
                </a:lnTo>
                <a:lnTo>
                  <a:pt x="98" y="82"/>
                </a:lnTo>
                <a:lnTo>
                  <a:pt x="91" y="84"/>
                </a:lnTo>
                <a:lnTo>
                  <a:pt x="84" y="88"/>
                </a:lnTo>
                <a:lnTo>
                  <a:pt x="78" y="92"/>
                </a:lnTo>
                <a:lnTo>
                  <a:pt x="68" y="103"/>
                </a:lnTo>
                <a:lnTo>
                  <a:pt x="61" y="117"/>
                </a:lnTo>
                <a:lnTo>
                  <a:pt x="56" y="134"/>
                </a:lnTo>
                <a:lnTo>
                  <a:pt x="55" y="150"/>
                </a:lnTo>
                <a:lnTo>
                  <a:pt x="56" y="150"/>
                </a:lnTo>
                <a:lnTo>
                  <a:pt x="49" y="152"/>
                </a:lnTo>
                <a:lnTo>
                  <a:pt x="42" y="152"/>
                </a:lnTo>
                <a:lnTo>
                  <a:pt x="36" y="152"/>
                </a:lnTo>
                <a:lnTo>
                  <a:pt x="35" y="152"/>
                </a:lnTo>
                <a:lnTo>
                  <a:pt x="22" y="139"/>
                </a:lnTo>
                <a:lnTo>
                  <a:pt x="6" y="116"/>
                </a:lnTo>
                <a:lnTo>
                  <a:pt x="0" y="97"/>
                </a:lnTo>
                <a:lnTo>
                  <a:pt x="3" y="84"/>
                </a:lnTo>
                <a:lnTo>
                  <a:pt x="7" y="76"/>
                </a:lnTo>
                <a:lnTo>
                  <a:pt x="11" y="72"/>
                </a:lnTo>
                <a:lnTo>
                  <a:pt x="13" y="71"/>
                </a:lnTo>
                <a:lnTo>
                  <a:pt x="13" y="62"/>
                </a:lnTo>
                <a:lnTo>
                  <a:pt x="11" y="34"/>
                </a:lnTo>
                <a:lnTo>
                  <a:pt x="11" y="13"/>
                </a:lnTo>
                <a:lnTo>
                  <a:pt x="13" y="11"/>
                </a:lnTo>
                <a:lnTo>
                  <a:pt x="13" y="1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62680" y="2247840"/>
            <a:ext cx="79560" cy="68400"/>
          </a:xfrm>
          <a:custGeom>
            <a:avLst/>
            <a:gdLst/>
            <a:ahLst/>
            <a:rect l="l" t="t" r="r" b="b"/>
            <a:pathLst>
              <a:path w="230" h="210">
                <a:moveTo>
                  <a:pt x="168" y="85"/>
                </a:moveTo>
                <a:lnTo>
                  <a:pt x="169" y="95"/>
                </a:lnTo>
                <a:lnTo>
                  <a:pt x="174" y="101"/>
                </a:lnTo>
                <a:lnTo>
                  <a:pt x="178" y="105"/>
                </a:lnTo>
                <a:lnTo>
                  <a:pt x="184" y="108"/>
                </a:lnTo>
                <a:lnTo>
                  <a:pt x="190" y="108"/>
                </a:lnTo>
                <a:lnTo>
                  <a:pt x="195" y="108"/>
                </a:lnTo>
                <a:lnTo>
                  <a:pt x="208" y="104"/>
                </a:lnTo>
                <a:lnTo>
                  <a:pt x="220" y="101"/>
                </a:lnTo>
                <a:lnTo>
                  <a:pt x="226" y="100"/>
                </a:lnTo>
                <a:lnTo>
                  <a:pt x="229" y="100"/>
                </a:lnTo>
                <a:lnTo>
                  <a:pt x="230" y="100"/>
                </a:lnTo>
                <a:lnTo>
                  <a:pt x="229" y="113"/>
                </a:lnTo>
                <a:lnTo>
                  <a:pt x="224" y="123"/>
                </a:lnTo>
                <a:lnTo>
                  <a:pt x="218" y="130"/>
                </a:lnTo>
                <a:lnTo>
                  <a:pt x="211" y="136"/>
                </a:lnTo>
                <a:lnTo>
                  <a:pt x="204" y="140"/>
                </a:lnTo>
                <a:lnTo>
                  <a:pt x="194" y="142"/>
                </a:lnTo>
                <a:lnTo>
                  <a:pt x="184" y="142"/>
                </a:lnTo>
                <a:lnTo>
                  <a:pt x="163" y="139"/>
                </a:lnTo>
                <a:lnTo>
                  <a:pt x="146" y="133"/>
                </a:lnTo>
                <a:lnTo>
                  <a:pt x="139" y="127"/>
                </a:lnTo>
                <a:lnTo>
                  <a:pt x="132" y="133"/>
                </a:lnTo>
                <a:lnTo>
                  <a:pt x="119" y="145"/>
                </a:lnTo>
                <a:lnTo>
                  <a:pt x="100" y="174"/>
                </a:lnTo>
                <a:lnTo>
                  <a:pt x="85" y="204"/>
                </a:lnTo>
                <a:lnTo>
                  <a:pt x="84" y="210"/>
                </a:lnTo>
                <a:lnTo>
                  <a:pt x="69" y="210"/>
                </a:lnTo>
                <a:lnTo>
                  <a:pt x="59" y="207"/>
                </a:lnTo>
                <a:lnTo>
                  <a:pt x="53" y="204"/>
                </a:lnTo>
                <a:lnTo>
                  <a:pt x="50" y="198"/>
                </a:lnTo>
                <a:lnTo>
                  <a:pt x="50" y="194"/>
                </a:lnTo>
                <a:lnTo>
                  <a:pt x="49" y="189"/>
                </a:lnTo>
                <a:lnTo>
                  <a:pt x="49" y="185"/>
                </a:lnTo>
                <a:lnTo>
                  <a:pt x="46" y="181"/>
                </a:lnTo>
                <a:lnTo>
                  <a:pt x="42" y="179"/>
                </a:lnTo>
                <a:lnTo>
                  <a:pt x="33" y="179"/>
                </a:lnTo>
                <a:lnTo>
                  <a:pt x="20" y="181"/>
                </a:lnTo>
                <a:lnTo>
                  <a:pt x="1" y="184"/>
                </a:lnTo>
                <a:lnTo>
                  <a:pt x="1" y="184"/>
                </a:lnTo>
                <a:lnTo>
                  <a:pt x="0" y="174"/>
                </a:lnTo>
                <a:lnTo>
                  <a:pt x="0" y="160"/>
                </a:lnTo>
                <a:lnTo>
                  <a:pt x="3" y="129"/>
                </a:lnTo>
                <a:lnTo>
                  <a:pt x="11" y="56"/>
                </a:lnTo>
                <a:lnTo>
                  <a:pt x="10" y="0"/>
                </a:lnTo>
                <a:lnTo>
                  <a:pt x="11" y="0"/>
                </a:lnTo>
                <a:lnTo>
                  <a:pt x="14" y="0"/>
                </a:lnTo>
                <a:lnTo>
                  <a:pt x="23" y="3"/>
                </a:lnTo>
                <a:lnTo>
                  <a:pt x="52" y="11"/>
                </a:lnTo>
                <a:lnTo>
                  <a:pt x="123" y="43"/>
                </a:lnTo>
                <a:lnTo>
                  <a:pt x="168" y="85"/>
                </a:lnTo>
                <a:lnTo>
                  <a:pt x="168" y="85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99400" y="2298600"/>
            <a:ext cx="29880" cy="34920"/>
          </a:xfrm>
          <a:custGeom>
            <a:avLst/>
            <a:gdLst/>
            <a:ahLst/>
            <a:rect l="l" t="t" r="r" b="b"/>
            <a:pathLst>
              <a:path w="90" h="101">
                <a:moveTo>
                  <a:pt x="40" y="101"/>
                </a:moveTo>
                <a:lnTo>
                  <a:pt x="22" y="100"/>
                </a:lnTo>
                <a:lnTo>
                  <a:pt x="10" y="97"/>
                </a:lnTo>
                <a:lnTo>
                  <a:pt x="3" y="94"/>
                </a:lnTo>
                <a:lnTo>
                  <a:pt x="1" y="93"/>
                </a:lnTo>
                <a:lnTo>
                  <a:pt x="0" y="90"/>
                </a:lnTo>
                <a:lnTo>
                  <a:pt x="0" y="87"/>
                </a:lnTo>
                <a:lnTo>
                  <a:pt x="0" y="84"/>
                </a:lnTo>
                <a:lnTo>
                  <a:pt x="1" y="81"/>
                </a:lnTo>
                <a:lnTo>
                  <a:pt x="4" y="75"/>
                </a:lnTo>
                <a:lnTo>
                  <a:pt x="9" y="68"/>
                </a:lnTo>
                <a:lnTo>
                  <a:pt x="20" y="49"/>
                </a:lnTo>
                <a:lnTo>
                  <a:pt x="26" y="27"/>
                </a:lnTo>
                <a:lnTo>
                  <a:pt x="27" y="20"/>
                </a:lnTo>
                <a:lnTo>
                  <a:pt x="30" y="20"/>
                </a:lnTo>
                <a:lnTo>
                  <a:pt x="35" y="17"/>
                </a:lnTo>
                <a:lnTo>
                  <a:pt x="38" y="14"/>
                </a:lnTo>
                <a:lnTo>
                  <a:pt x="46" y="7"/>
                </a:lnTo>
                <a:lnTo>
                  <a:pt x="54" y="1"/>
                </a:lnTo>
                <a:lnTo>
                  <a:pt x="59" y="0"/>
                </a:lnTo>
                <a:lnTo>
                  <a:pt x="65" y="0"/>
                </a:lnTo>
                <a:lnTo>
                  <a:pt x="72" y="3"/>
                </a:lnTo>
                <a:lnTo>
                  <a:pt x="80" y="9"/>
                </a:lnTo>
                <a:lnTo>
                  <a:pt x="88" y="16"/>
                </a:lnTo>
                <a:lnTo>
                  <a:pt x="90" y="16"/>
                </a:lnTo>
                <a:lnTo>
                  <a:pt x="88" y="26"/>
                </a:lnTo>
                <a:lnTo>
                  <a:pt x="84" y="42"/>
                </a:lnTo>
                <a:lnTo>
                  <a:pt x="77" y="55"/>
                </a:lnTo>
                <a:lnTo>
                  <a:pt x="67" y="67"/>
                </a:lnTo>
                <a:lnTo>
                  <a:pt x="45" y="94"/>
                </a:lnTo>
                <a:lnTo>
                  <a:pt x="40" y="101"/>
                </a:lnTo>
                <a:lnTo>
                  <a:pt x="40" y="10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50160" y="2306520"/>
            <a:ext cx="14040" cy="23760"/>
          </a:xfrm>
          <a:custGeom>
            <a:avLst/>
            <a:gdLst/>
            <a:ahLst/>
            <a:rect l="l" t="t" r="r" b="b"/>
            <a:pathLst>
              <a:path w="39" h="77">
                <a:moveTo>
                  <a:pt x="34" y="77"/>
                </a:moveTo>
                <a:lnTo>
                  <a:pt x="27" y="74"/>
                </a:lnTo>
                <a:lnTo>
                  <a:pt x="16" y="67"/>
                </a:lnTo>
                <a:lnTo>
                  <a:pt x="6" y="57"/>
                </a:lnTo>
                <a:lnTo>
                  <a:pt x="0" y="45"/>
                </a:lnTo>
                <a:lnTo>
                  <a:pt x="0" y="32"/>
                </a:lnTo>
                <a:lnTo>
                  <a:pt x="8" y="18"/>
                </a:lnTo>
                <a:lnTo>
                  <a:pt x="16" y="9"/>
                </a:lnTo>
                <a:lnTo>
                  <a:pt x="17" y="9"/>
                </a:lnTo>
                <a:lnTo>
                  <a:pt x="19" y="9"/>
                </a:lnTo>
                <a:lnTo>
                  <a:pt x="21" y="7"/>
                </a:lnTo>
                <a:lnTo>
                  <a:pt x="23" y="5"/>
                </a:lnTo>
                <a:lnTo>
                  <a:pt x="24" y="2"/>
                </a:lnTo>
                <a:lnTo>
                  <a:pt x="27" y="0"/>
                </a:lnTo>
                <a:lnTo>
                  <a:pt x="32" y="7"/>
                </a:lnTo>
                <a:lnTo>
                  <a:pt x="34" y="13"/>
                </a:lnTo>
                <a:lnTo>
                  <a:pt x="37" y="19"/>
                </a:lnTo>
                <a:lnTo>
                  <a:pt x="39" y="32"/>
                </a:lnTo>
                <a:lnTo>
                  <a:pt x="37" y="47"/>
                </a:lnTo>
                <a:lnTo>
                  <a:pt x="34" y="71"/>
                </a:lnTo>
                <a:lnTo>
                  <a:pt x="34" y="77"/>
                </a:lnTo>
                <a:lnTo>
                  <a:pt x="34" y="77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31080" y="2160720"/>
            <a:ext cx="22320" cy="28440"/>
          </a:xfrm>
          <a:custGeom>
            <a:avLst/>
            <a:gdLst/>
            <a:ahLst/>
            <a:rect l="l" t="t" r="r" b="b"/>
            <a:pathLst>
              <a:path w="63" h="90">
                <a:moveTo>
                  <a:pt x="56" y="12"/>
                </a:moveTo>
                <a:lnTo>
                  <a:pt x="56" y="18"/>
                </a:lnTo>
                <a:lnTo>
                  <a:pt x="56" y="26"/>
                </a:lnTo>
                <a:lnTo>
                  <a:pt x="61" y="38"/>
                </a:lnTo>
                <a:lnTo>
                  <a:pt x="62" y="60"/>
                </a:lnTo>
                <a:lnTo>
                  <a:pt x="63" y="67"/>
                </a:lnTo>
                <a:lnTo>
                  <a:pt x="62" y="68"/>
                </a:lnTo>
                <a:lnTo>
                  <a:pt x="56" y="71"/>
                </a:lnTo>
                <a:lnTo>
                  <a:pt x="34" y="82"/>
                </a:lnTo>
                <a:lnTo>
                  <a:pt x="17" y="90"/>
                </a:lnTo>
                <a:lnTo>
                  <a:pt x="17" y="90"/>
                </a:lnTo>
                <a:lnTo>
                  <a:pt x="10" y="84"/>
                </a:lnTo>
                <a:lnTo>
                  <a:pt x="3" y="68"/>
                </a:lnTo>
                <a:lnTo>
                  <a:pt x="0" y="54"/>
                </a:lnTo>
                <a:lnTo>
                  <a:pt x="1" y="38"/>
                </a:lnTo>
                <a:lnTo>
                  <a:pt x="5" y="24"/>
                </a:lnTo>
                <a:lnTo>
                  <a:pt x="13" y="8"/>
                </a:lnTo>
                <a:lnTo>
                  <a:pt x="17" y="0"/>
                </a:lnTo>
                <a:lnTo>
                  <a:pt x="21" y="2"/>
                </a:lnTo>
                <a:lnTo>
                  <a:pt x="30" y="2"/>
                </a:lnTo>
                <a:lnTo>
                  <a:pt x="39" y="5"/>
                </a:lnTo>
                <a:lnTo>
                  <a:pt x="50" y="11"/>
                </a:lnTo>
                <a:lnTo>
                  <a:pt x="56" y="12"/>
                </a:lnTo>
                <a:lnTo>
                  <a:pt x="56" y="1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96080" y="2055960"/>
            <a:ext cx="320760" cy="220680"/>
          </a:xfrm>
          <a:custGeom>
            <a:avLst/>
            <a:gdLst/>
            <a:ahLst/>
            <a:rect l="l" t="t" r="r" b="b"/>
            <a:pathLst>
              <a:path w="933" h="680">
                <a:moveTo>
                  <a:pt x="120" y="3"/>
                </a:moveTo>
                <a:lnTo>
                  <a:pt x="118" y="5"/>
                </a:lnTo>
                <a:lnTo>
                  <a:pt x="121" y="9"/>
                </a:lnTo>
                <a:lnTo>
                  <a:pt x="127" y="15"/>
                </a:lnTo>
                <a:lnTo>
                  <a:pt x="149" y="31"/>
                </a:lnTo>
                <a:lnTo>
                  <a:pt x="201" y="64"/>
                </a:lnTo>
                <a:lnTo>
                  <a:pt x="221" y="76"/>
                </a:lnTo>
                <a:lnTo>
                  <a:pt x="220" y="80"/>
                </a:lnTo>
                <a:lnTo>
                  <a:pt x="218" y="89"/>
                </a:lnTo>
                <a:lnTo>
                  <a:pt x="217" y="94"/>
                </a:lnTo>
                <a:lnTo>
                  <a:pt x="217" y="96"/>
                </a:lnTo>
                <a:lnTo>
                  <a:pt x="218" y="94"/>
                </a:lnTo>
                <a:lnTo>
                  <a:pt x="226" y="87"/>
                </a:lnTo>
                <a:lnTo>
                  <a:pt x="233" y="80"/>
                </a:lnTo>
                <a:lnTo>
                  <a:pt x="237" y="81"/>
                </a:lnTo>
                <a:lnTo>
                  <a:pt x="246" y="83"/>
                </a:lnTo>
                <a:lnTo>
                  <a:pt x="255" y="87"/>
                </a:lnTo>
                <a:lnTo>
                  <a:pt x="266" y="94"/>
                </a:lnTo>
                <a:lnTo>
                  <a:pt x="275" y="96"/>
                </a:lnTo>
                <a:lnTo>
                  <a:pt x="275" y="90"/>
                </a:lnTo>
                <a:lnTo>
                  <a:pt x="275" y="78"/>
                </a:lnTo>
                <a:lnTo>
                  <a:pt x="281" y="54"/>
                </a:lnTo>
                <a:lnTo>
                  <a:pt x="291" y="34"/>
                </a:lnTo>
                <a:lnTo>
                  <a:pt x="295" y="29"/>
                </a:lnTo>
                <a:lnTo>
                  <a:pt x="302" y="34"/>
                </a:lnTo>
                <a:lnTo>
                  <a:pt x="317" y="41"/>
                </a:lnTo>
                <a:lnTo>
                  <a:pt x="340" y="58"/>
                </a:lnTo>
                <a:lnTo>
                  <a:pt x="347" y="68"/>
                </a:lnTo>
                <a:lnTo>
                  <a:pt x="352" y="81"/>
                </a:lnTo>
                <a:lnTo>
                  <a:pt x="353" y="87"/>
                </a:lnTo>
                <a:lnTo>
                  <a:pt x="355" y="86"/>
                </a:lnTo>
                <a:lnTo>
                  <a:pt x="359" y="81"/>
                </a:lnTo>
                <a:lnTo>
                  <a:pt x="362" y="77"/>
                </a:lnTo>
                <a:lnTo>
                  <a:pt x="363" y="76"/>
                </a:lnTo>
                <a:lnTo>
                  <a:pt x="366" y="76"/>
                </a:lnTo>
                <a:lnTo>
                  <a:pt x="379" y="76"/>
                </a:lnTo>
                <a:lnTo>
                  <a:pt x="389" y="76"/>
                </a:lnTo>
                <a:lnTo>
                  <a:pt x="391" y="76"/>
                </a:lnTo>
                <a:lnTo>
                  <a:pt x="391" y="77"/>
                </a:lnTo>
                <a:lnTo>
                  <a:pt x="394" y="84"/>
                </a:lnTo>
                <a:lnTo>
                  <a:pt x="402" y="107"/>
                </a:lnTo>
                <a:lnTo>
                  <a:pt x="408" y="126"/>
                </a:lnTo>
                <a:lnTo>
                  <a:pt x="410" y="126"/>
                </a:lnTo>
                <a:lnTo>
                  <a:pt x="410" y="119"/>
                </a:lnTo>
                <a:lnTo>
                  <a:pt x="410" y="107"/>
                </a:lnTo>
                <a:lnTo>
                  <a:pt x="412" y="86"/>
                </a:lnTo>
                <a:lnTo>
                  <a:pt x="421" y="68"/>
                </a:lnTo>
                <a:lnTo>
                  <a:pt x="426" y="64"/>
                </a:lnTo>
                <a:lnTo>
                  <a:pt x="428" y="67"/>
                </a:lnTo>
                <a:lnTo>
                  <a:pt x="434" y="70"/>
                </a:lnTo>
                <a:lnTo>
                  <a:pt x="447" y="78"/>
                </a:lnTo>
                <a:lnTo>
                  <a:pt x="457" y="86"/>
                </a:lnTo>
                <a:lnTo>
                  <a:pt x="460" y="87"/>
                </a:lnTo>
                <a:lnTo>
                  <a:pt x="459" y="89"/>
                </a:lnTo>
                <a:lnTo>
                  <a:pt x="456" y="96"/>
                </a:lnTo>
                <a:lnTo>
                  <a:pt x="443" y="119"/>
                </a:lnTo>
                <a:lnTo>
                  <a:pt x="433" y="136"/>
                </a:lnTo>
                <a:lnTo>
                  <a:pt x="433" y="136"/>
                </a:lnTo>
                <a:lnTo>
                  <a:pt x="439" y="132"/>
                </a:lnTo>
                <a:lnTo>
                  <a:pt x="459" y="116"/>
                </a:lnTo>
                <a:lnTo>
                  <a:pt x="475" y="103"/>
                </a:lnTo>
                <a:lnTo>
                  <a:pt x="476" y="102"/>
                </a:lnTo>
                <a:lnTo>
                  <a:pt x="475" y="103"/>
                </a:lnTo>
                <a:lnTo>
                  <a:pt x="473" y="105"/>
                </a:lnTo>
                <a:lnTo>
                  <a:pt x="470" y="107"/>
                </a:lnTo>
                <a:lnTo>
                  <a:pt x="466" y="115"/>
                </a:lnTo>
                <a:lnTo>
                  <a:pt x="460" y="136"/>
                </a:lnTo>
                <a:lnTo>
                  <a:pt x="463" y="154"/>
                </a:lnTo>
                <a:lnTo>
                  <a:pt x="466" y="152"/>
                </a:lnTo>
                <a:lnTo>
                  <a:pt x="478" y="142"/>
                </a:lnTo>
                <a:lnTo>
                  <a:pt x="512" y="116"/>
                </a:lnTo>
                <a:lnTo>
                  <a:pt x="530" y="106"/>
                </a:lnTo>
                <a:lnTo>
                  <a:pt x="536" y="103"/>
                </a:lnTo>
                <a:lnTo>
                  <a:pt x="541" y="103"/>
                </a:lnTo>
                <a:lnTo>
                  <a:pt x="544" y="103"/>
                </a:lnTo>
                <a:lnTo>
                  <a:pt x="546" y="103"/>
                </a:lnTo>
                <a:lnTo>
                  <a:pt x="544" y="110"/>
                </a:lnTo>
                <a:lnTo>
                  <a:pt x="544" y="122"/>
                </a:lnTo>
                <a:lnTo>
                  <a:pt x="540" y="144"/>
                </a:lnTo>
                <a:lnTo>
                  <a:pt x="536" y="154"/>
                </a:lnTo>
                <a:lnTo>
                  <a:pt x="530" y="161"/>
                </a:lnTo>
                <a:lnTo>
                  <a:pt x="526" y="164"/>
                </a:lnTo>
                <a:lnTo>
                  <a:pt x="530" y="163"/>
                </a:lnTo>
                <a:lnTo>
                  <a:pt x="540" y="155"/>
                </a:lnTo>
                <a:lnTo>
                  <a:pt x="550" y="145"/>
                </a:lnTo>
                <a:lnTo>
                  <a:pt x="566" y="123"/>
                </a:lnTo>
                <a:lnTo>
                  <a:pt x="576" y="107"/>
                </a:lnTo>
                <a:lnTo>
                  <a:pt x="581" y="109"/>
                </a:lnTo>
                <a:lnTo>
                  <a:pt x="585" y="110"/>
                </a:lnTo>
                <a:lnTo>
                  <a:pt x="589" y="112"/>
                </a:lnTo>
                <a:lnTo>
                  <a:pt x="594" y="115"/>
                </a:lnTo>
                <a:lnTo>
                  <a:pt x="595" y="118"/>
                </a:lnTo>
                <a:lnTo>
                  <a:pt x="598" y="122"/>
                </a:lnTo>
                <a:lnTo>
                  <a:pt x="601" y="131"/>
                </a:lnTo>
                <a:lnTo>
                  <a:pt x="602" y="139"/>
                </a:lnTo>
                <a:lnTo>
                  <a:pt x="602" y="149"/>
                </a:lnTo>
                <a:lnTo>
                  <a:pt x="604" y="149"/>
                </a:lnTo>
                <a:lnTo>
                  <a:pt x="601" y="152"/>
                </a:lnTo>
                <a:lnTo>
                  <a:pt x="595" y="158"/>
                </a:lnTo>
                <a:lnTo>
                  <a:pt x="583" y="168"/>
                </a:lnTo>
                <a:lnTo>
                  <a:pt x="570" y="173"/>
                </a:lnTo>
                <a:lnTo>
                  <a:pt x="566" y="173"/>
                </a:lnTo>
                <a:lnTo>
                  <a:pt x="570" y="174"/>
                </a:lnTo>
                <a:lnTo>
                  <a:pt x="581" y="174"/>
                </a:lnTo>
                <a:lnTo>
                  <a:pt x="596" y="178"/>
                </a:lnTo>
                <a:lnTo>
                  <a:pt x="611" y="189"/>
                </a:lnTo>
                <a:lnTo>
                  <a:pt x="615" y="192"/>
                </a:lnTo>
                <a:lnTo>
                  <a:pt x="612" y="194"/>
                </a:lnTo>
                <a:lnTo>
                  <a:pt x="608" y="199"/>
                </a:lnTo>
                <a:lnTo>
                  <a:pt x="598" y="209"/>
                </a:lnTo>
                <a:lnTo>
                  <a:pt x="586" y="216"/>
                </a:lnTo>
                <a:lnTo>
                  <a:pt x="585" y="216"/>
                </a:lnTo>
                <a:lnTo>
                  <a:pt x="608" y="222"/>
                </a:lnTo>
                <a:lnTo>
                  <a:pt x="657" y="232"/>
                </a:lnTo>
                <a:lnTo>
                  <a:pt x="757" y="248"/>
                </a:lnTo>
                <a:lnTo>
                  <a:pt x="860" y="254"/>
                </a:lnTo>
                <a:lnTo>
                  <a:pt x="886" y="254"/>
                </a:lnTo>
                <a:lnTo>
                  <a:pt x="872" y="280"/>
                </a:lnTo>
                <a:lnTo>
                  <a:pt x="859" y="315"/>
                </a:lnTo>
                <a:lnTo>
                  <a:pt x="857" y="328"/>
                </a:lnTo>
                <a:lnTo>
                  <a:pt x="859" y="336"/>
                </a:lnTo>
                <a:lnTo>
                  <a:pt x="862" y="344"/>
                </a:lnTo>
                <a:lnTo>
                  <a:pt x="866" y="349"/>
                </a:lnTo>
                <a:lnTo>
                  <a:pt x="872" y="355"/>
                </a:lnTo>
                <a:lnTo>
                  <a:pt x="882" y="370"/>
                </a:lnTo>
                <a:lnTo>
                  <a:pt x="885" y="393"/>
                </a:lnTo>
                <a:lnTo>
                  <a:pt x="886" y="393"/>
                </a:lnTo>
                <a:lnTo>
                  <a:pt x="878" y="393"/>
                </a:lnTo>
                <a:lnTo>
                  <a:pt x="859" y="393"/>
                </a:lnTo>
                <a:lnTo>
                  <a:pt x="818" y="391"/>
                </a:lnTo>
                <a:lnTo>
                  <a:pt x="780" y="384"/>
                </a:lnTo>
                <a:lnTo>
                  <a:pt x="775" y="381"/>
                </a:lnTo>
                <a:lnTo>
                  <a:pt x="770" y="381"/>
                </a:lnTo>
                <a:lnTo>
                  <a:pt x="762" y="376"/>
                </a:lnTo>
                <a:lnTo>
                  <a:pt x="754" y="370"/>
                </a:lnTo>
                <a:lnTo>
                  <a:pt x="738" y="355"/>
                </a:lnTo>
                <a:lnTo>
                  <a:pt x="727" y="347"/>
                </a:lnTo>
                <a:lnTo>
                  <a:pt x="721" y="352"/>
                </a:lnTo>
                <a:lnTo>
                  <a:pt x="717" y="364"/>
                </a:lnTo>
                <a:lnTo>
                  <a:pt x="715" y="376"/>
                </a:lnTo>
                <a:lnTo>
                  <a:pt x="718" y="387"/>
                </a:lnTo>
                <a:lnTo>
                  <a:pt x="723" y="413"/>
                </a:lnTo>
                <a:lnTo>
                  <a:pt x="724" y="420"/>
                </a:lnTo>
                <a:lnTo>
                  <a:pt x="736" y="422"/>
                </a:lnTo>
                <a:lnTo>
                  <a:pt x="754" y="426"/>
                </a:lnTo>
                <a:lnTo>
                  <a:pt x="807" y="439"/>
                </a:lnTo>
                <a:lnTo>
                  <a:pt x="865" y="462"/>
                </a:lnTo>
                <a:lnTo>
                  <a:pt x="912" y="494"/>
                </a:lnTo>
                <a:lnTo>
                  <a:pt x="927" y="512"/>
                </a:lnTo>
                <a:lnTo>
                  <a:pt x="933" y="532"/>
                </a:lnTo>
                <a:lnTo>
                  <a:pt x="927" y="555"/>
                </a:lnTo>
                <a:lnTo>
                  <a:pt x="909" y="578"/>
                </a:lnTo>
                <a:lnTo>
                  <a:pt x="909" y="578"/>
                </a:lnTo>
                <a:lnTo>
                  <a:pt x="901" y="578"/>
                </a:lnTo>
                <a:lnTo>
                  <a:pt x="883" y="575"/>
                </a:lnTo>
                <a:lnTo>
                  <a:pt x="841" y="564"/>
                </a:lnTo>
                <a:lnTo>
                  <a:pt x="821" y="561"/>
                </a:lnTo>
                <a:lnTo>
                  <a:pt x="804" y="562"/>
                </a:lnTo>
                <a:lnTo>
                  <a:pt x="798" y="564"/>
                </a:lnTo>
                <a:lnTo>
                  <a:pt x="795" y="565"/>
                </a:lnTo>
                <a:lnTo>
                  <a:pt x="794" y="567"/>
                </a:lnTo>
                <a:lnTo>
                  <a:pt x="794" y="570"/>
                </a:lnTo>
                <a:lnTo>
                  <a:pt x="794" y="573"/>
                </a:lnTo>
                <a:lnTo>
                  <a:pt x="794" y="574"/>
                </a:lnTo>
                <a:lnTo>
                  <a:pt x="794" y="574"/>
                </a:lnTo>
                <a:lnTo>
                  <a:pt x="805" y="577"/>
                </a:lnTo>
                <a:lnTo>
                  <a:pt x="833" y="581"/>
                </a:lnTo>
                <a:lnTo>
                  <a:pt x="892" y="599"/>
                </a:lnTo>
                <a:lnTo>
                  <a:pt x="914" y="616"/>
                </a:lnTo>
                <a:lnTo>
                  <a:pt x="920" y="628"/>
                </a:lnTo>
                <a:lnTo>
                  <a:pt x="922" y="641"/>
                </a:lnTo>
                <a:lnTo>
                  <a:pt x="921" y="657"/>
                </a:lnTo>
                <a:lnTo>
                  <a:pt x="921" y="657"/>
                </a:lnTo>
                <a:lnTo>
                  <a:pt x="909" y="657"/>
                </a:lnTo>
                <a:lnTo>
                  <a:pt x="882" y="654"/>
                </a:lnTo>
                <a:lnTo>
                  <a:pt x="818" y="654"/>
                </a:lnTo>
                <a:lnTo>
                  <a:pt x="788" y="660"/>
                </a:lnTo>
                <a:lnTo>
                  <a:pt x="762" y="671"/>
                </a:lnTo>
                <a:lnTo>
                  <a:pt x="752" y="680"/>
                </a:lnTo>
                <a:lnTo>
                  <a:pt x="737" y="670"/>
                </a:lnTo>
                <a:lnTo>
                  <a:pt x="712" y="645"/>
                </a:lnTo>
                <a:lnTo>
                  <a:pt x="688" y="616"/>
                </a:lnTo>
                <a:lnTo>
                  <a:pt x="631" y="567"/>
                </a:lnTo>
                <a:lnTo>
                  <a:pt x="569" y="551"/>
                </a:lnTo>
                <a:lnTo>
                  <a:pt x="560" y="558"/>
                </a:lnTo>
                <a:lnTo>
                  <a:pt x="547" y="571"/>
                </a:lnTo>
                <a:lnTo>
                  <a:pt x="521" y="596"/>
                </a:lnTo>
                <a:lnTo>
                  <a:pt x="495" y="622"/>
                </a:lnTo>
                <a:lnTo>
                  <a:pt x="488" y="629"/>
                </a:lnTo>
                <a:lnTo>
                  <a:pt x="481" y="626"/>
                </a:lnTo>
                <a:lnTo>
                  <a:pt x="472" y="622"/>
                </a:lnTo>
                <a:lnTo>
                  <a:pt x="465" y="618"/>
                </a:lnTo>
                <a:lnTo>
                  <a:pt x="460" y="613"/>
                </a:lnTo>
                <a:lnTo>
                  <a:pt x="457" y="607"/>
                </a:lnTo>
                <a:lnTo>
                  <a:pt x="455" y="597"/>
                </a:lnTo>
                <a:lnTo>
                  <a:pt x="453" y="590"/>
                </a:lnTo>
                <a:lnTo>
                  <a:pt x="456" y="581"/>
                </a:lnTo>
                <a:lnTo>
                  <a:pt x="462" y="571"/>
                </a:lnTo>
                <a:lnTo>
                  <a:pt x="478" y="555"/>
                </a:lnTo>
                <a:lnTo>
                  <a:pt x="498" y="541"/>
                </a:lnTo>
                <a:lnTo>
                  <a:pt x="541" y="520"/>
                </a:lnTo>
                <a:lnTo>
                  <a:pt x="562" y="513"/>
                </a:lnTo>
                <a:lnTo>
                  <a:pt x="566" y="513"/>
                </a:lnTo>
                <a:lnTo>
                  <a:pt x="573" y="510"/>
                </a:lnTo>
                <a:lnTo>
                  <a:pt x="579" y="506"/>
                </a:lnTo>
                <a:lnTo>
                  <a:pt x="582" y="500"/>
                </a:lnTo>
                <a:lnTo>
                  <a:pt x="583" y="494"/>
                </a:lnTo>
                <a:lnTo>
                  <a:pt x="583" y="487"/>
                </a:lnTo>
                <a:lnTo>
                  <a:pt x="585" y="483"/>
                </a:lnTo>
                <a:lnTo>
                  <a:pt x="579" y="481"/>
                </a:lnTo>
                <a:lnTo>
                  <a:pt x="570" y="476"/>
                </a:lnTo>
                <a:lnTo>
                  <a:pt x="554" y="460"/>
                </a:lnTo>
                <a:lnTo>
                  <a:pt x="546" y="439"/>
                </a:lnTo>
                <a:lnTo>
                  <a:pt x="546" y="432"/>
                </a:lnTo>
                <a:lnTo>
                  <a:pt x="549" y="429"/>
                </a:lnTo>
                <a:lnTo>
                  <a:pt x="554" y="422"/>
                </a:lnTo>
                <a:lnTo>
                  <a:pt x="569" y="410"/>
                </a:lnTo>
                <a:lnTo>
                  <a:pt x="592" y="406"/>
                </a:lnTo>
                <a:lnTo>
                  <a:pt x="601" y="405"/>
                </a:lnTo>
                <a:lnTo>
                  <a:pt x="605" y="410"/>
                </a:lnTo>
                <a:lnTo>
                  <a:pt x="617" y="418"/>
                </a:lnTo>
                <a:lnTo>
                  <a:pt x="628" y="420"/>
                </a:lnTo>
                <a:lnTo>
                  <a:pt x="639" y="422"/>
                </a:lnTo>
                <a:lnTo>
                  <a:pt x="650" y="422"/>
                </a:lnTo>
                <a:lnTo>
                  <a:pt x="662" y="422"/>
                </a:lnTo>
                <a:lnTo>
                  <a:pt x="669" y="420"/>
                </a:lnTo>
                <a:lnTo>
                  <a:pt x="672" y="418"/>
                </a:lnTo>
                <a:lnTo>
                  <a:pt x="675" y="410"/>
                </a:lnTo>
                <a:lnTo>
                  <a:pt x="678" y="403"/>
                </a:lnTo>
                <a:lnTo>
                  <a:pt x="678" y="396"/>
                </a:lnTo>
                <a:lnTo>
                  <a:pt x="678" y="381"/>
                </a:lnTo>
                <a:lnTo>
                  <a:pt x="678" y="377"/>
                </a:lnTo>
                <a:lnTo>
                  <a:pt x="670" y="378"/>
                </a:lnTo>
                <a:lnTo>
                  <a:pt x="657" y="378"/>
                </a:lnTo>
                <a:lnTo>
                  <a:pt x="631" y="381"/>
                </a:lnTo>
                <a:lnTo>
                  <a:pt x="607" y="386"/>
                </a:lnTo>
                <a:lnTo>
                  <a:pt x="601" y="386"/>
                </a:lnTo>
                <a:lnTo>
                  <a:pt x="594" y="387"/>
                </a:lnTo>
                <a:lnTo>
                  <a:pt x="579" y="389"/>
                </a:lnTo>
                <a:lnTo>
                  <a:pt x="546" y="384"/>
                </a:lnTo>
                <a:lnTo>
                  <a:pt x="520" y="374"/>
                </a:lnTo>
                <a:lnTo>
                  <a:pt x="515" y="370"/>
                </a:lnTo>
                <a:lnTo>
                  <a:pt x="514" y="364"/>
                </a:lnTo>
                <a:lnTo>
                  <a:pt x="511" y="357"/>
                </a:lnTo>
                <a:lnTo>
                  <a:pt x="504" y="342"/>
                </a:lnTo>
                <a:lnTo>
                  <a:pt x="495" y="328"/>
                </a:lnTo>
                <a:lnTo>
                  <a:pt x="478" y="305"/>
                </a:lnTo>
                <a:lnTo>
                  <a:pt x="476" y="297"/>
                </a:lnTo>
                <a:lnTo>
                  <a:pt x="468" y="294"/>
                </a:lnTo>
                <a:lnTo>
                  <a:pt x="460" y="291"/>
                </a:lnTo>
                <a:lnTo>
                  <a:pt x="444" y="280"/>
                </a:lnTo>
                <a:lnTo>
                  <a:pt x="428" y="270"/>
                </a:lnTo>
                <a:lnTo>
                  <a:pt x="412" y="264"/>
                </a:lnTo>
                <a:lnTo>
                  <a:pt x="395" y="265"/>
                </a:lnTo>
                <a:lnTo>
                  <a:pt x="376" y="277"/>
                </a:lnTo>
                <a:lnTo>
                  <a:pt x="376" y="277"/>
                </a:lnTo>
                <a:lnTo>
                  <a:pt x="376" y="263"/>
                </a:lnTo>
                <a:lnTo>
                  <a:pt x="375" y="238"/>
                </a:lnTo>
                <a:lnTo>
                  <a:pt x="369" y="222"/>
                </a:lnTo>
                <a:lnTo>
                  <a:pt x="357" y="209"/>
                </a:lnTo>
                <a:lnTo>
                  <a:pt x="339" y="196"/>
                </a:lnTo>
                <a:lnTo>
                  <a:pt x="315" y="181"/>
                </a:lnTo>
                <a:lnTo>
                  <a:pt x="302" y="173"/>
                </a:lnTo>
                <a:lnTo>
                  <a:pt x="301" y="174"/>
                </a:lnTo>
                <a:lnTo>
                  <a:pt x="298" y="178"/>
                </a:lnTo>
                <a:lnTo>
                  <a:pt x="294" y="189"/>
                </a:lnTo>
                <a:lnTo>
                  <a:pt x="291" y="199"/>
                </a:lnTo>
                <a:lnTo>
                  <a:pt x="291" y="200"/>
                </a:lnTo>
                <a:lnTo>
                  <a:pt x="294" y="205"/>
                </a:lnTo>
                <a:lnTo>
                  <a:pt x="299" y="210"/>
                </a:lnTo>
                <a:lnTo>
                  <a:pt x="311" y="228"/>
                </a:lnTo>
                <a:lnTo>
                  <a:pt x="317" y="245"/>
                </a:lnTo>
                <a:lnTo>
                  <a:pt x="318" y="249"/>
                </a:lnTo>
                <a:lnTo>
                  <a:pt x="301" y="241"/>
                </a:lnTo>
                <a:lnTo>
                  <a:pt x="271" y="228"/>
                </a:lnTo>
                <a:lnTo>
                  <a:pt x="246" y="223"/>
                </a:lnTo>
                <a:lnTo>
                  <a:pt x="224" y="228"/>
                </a:lnTo>
                <a:lnTo>
                  <a:pt x="202" y="241"/>
                </a:lnTo>
                <a:lnTo>
                  <a:pt x="179" y="261"/>
                </a:lnTo>
                <a:lnTo>
                  <a:pt x="168" y="274"/>
                </a:lnTo>
                <a:lnTo>
                  <a:pt x="150" y="274"/>
                </a:lnTo>
                <a:lnTo>
                  <a:pt x="124" y="273"/>
                </a:lnTo>
                <a:lnTo>
                  <a:pt x="81" y="258"/>
                </a:lnTo>
                <a:lnTo>
                  <a:pt x="39" y="225"/>
                </a:lnTo>
                <a:lnTo>
                  <a:pt x="27" y="212"/>
                </a:lnTo>
                <a:lnTo>
                  <a:pt x="43" y="212"/>
                </a:lnTo>
                <a:lnTo>
                  <a:pt x="66" y="210"/>
                </a:lnTo>
                <a:lnTo>
                  <a:pt x="73" y="209"/>
                </a:lnTo>
                <a:lnTo>
                  <a:pt x="75" y="207"/>
                </a:lnTo>
                <a:lnTo>
                  <a:pt x="76" y="206"/>
                </a:lnTo>
                <a:lnTo>
                  <a:pt x="76" y="205"/>
                </a:lnTo>
                <a:lnTo>
                  <a:pt x="76" y="203"/>
                </a:lnTo>
                <a:lnTo>
                  <a:pt x="73" y="202"/>
                </a:lnTo>
                <a:lnTo>
                  <a:pt x="71" y="200"/>
                </a:lnTo>
                <a:lnTo>
                  <a:pt x="63" y="196"/>
                </a:lnTo>
                <a:lnTo>
                  <a:pt x="37" y="187"/>
                </a:lnTo>
                <a:lnTo>
                  <a:pt x="5" y="178"/>
                </a:lnTo>
                <a:lnTo>
                  <a:pt x="4" y="165"/>
                </a:lnTo>
                <a:lnTo>
                  <a:pt x="1" y="141"/>
                </a:lnTo>
                <a:lnTo>
                  <a:pt x="0" y="119"/>
                </a:lnTo>
                <a:lnTo>
                  <a:pt x="0" y="115"/>
                </a:lnTo>
                <a:lnTo>
                  <a:pt x="0" y="106"/>
                </a:lnTo>
                <a:lnTo>
                  <a:pt x="4" y="87"/>
                </a:lnTo>
                <a:lnTo>
                  <a:pt x="16" y="48"/>
                </a:lnTo>
                <a:lnTo>
                  <a:pt x="23" y="10"/>
                </a:lnTo>
                <a:lnTo>
                  <a:pt x="24" y="0"/>
                </a:lnTo>
                <a:lnTo>
                  <a:pt x="27" y="0"/>
                </a:lnTo>
                <a:lnTo>
                  <a:pt x="37" y="0"/>
                </a:lnTo>
                <a:lnTo>
                  <a:pt x="55" y="2"/>
                </a:lnTo>
                <a:lnTo>
                  <a:pt x="68" y="6"/>
                </a:lnTo>
                <a:lnTo>
                  <a:pt x="71" y="6"/>
                </a:lnTo>
                <a:lnTo>
                  <a:pt x="69" y="13"/>
                </a:lnTo>
                <a:lnTo>
                  <a:pt x="69" y="38"/>
                </a:lnTo>
                <a:lnTo>
                  <a:pt x="73" y="107"/>
                </a:lnTo>
                <a:lnTo>
                  <a:pt x="84" y="138"/>
                </a:lnTo>
                <a:lnTo>
                  <a:pt x="91" y="149"/>
                </a:lnTo>
                <a:lnTo>
                  <a:pt x="101" y="158"/>
                </a:lnTo>
                <a:lnTo>
                  <a:pt x="114" y="160"/>
                </a:lnTo>
                <a:lnTo>
                  <a:pt x="115" y="160"/>
                </a:lnTo>
                <a:lnTo>
                  <a:pt x="117" y="158"/>
                </a:lnTo>
                <a:lnTo>
                  <a:pt x="123" y="152"/>
                </a:lnTo>
                <a:lnTo>
                  <a:pt x="136" y="138"/>
                </a:lnTo>
                <a:lnTo>
                  <a:pt x="142" y="131"/>
                </a:lnTo>
                <a:lnTo>
                  <a:pt x="144" y="122"/>
                </a:lnTo>
                <a:lnTo>
                  <a:pt x="144" y="118"/>
                </a:lnTo>
                <a:lnTo>
                  <a:pt x="140" y="113"/>
                </a:lnTo>
                <a:lnTo>
                  <a:pt x="136" y="107"/>
                </a:lnTo>
                <a:lnTo>
                  <a:pt x="129" y="103"/>
                </a:lnTo>
                <a:lnTo>
                  <a:pt x="114" y="96"/>
                </a:lnTo>
                <a:lnTo>
                  <a:pt x="102" y="89"/>
                </a:lnTo>
                <a:lnTo>
                  <a:pt x="100" y="86"/>
                </a:lnTo>
                <a:lnTo>
                  <a:pt x="100" y="83"/>
                </a:lnTo>
                <a:lnTo>
                  <a:pt x="100" y="81"/>
                </a:lnTo>
                <a:lnTo>
                  <a:pt x="102" y="78"/>
                </a:lnTo>
                <a:lnTo>
                  <a:pt x="105" y="76"/>
                </a:lnTo>
                <a:lnTo>
                  <a:pt x="110" y="74"/>
                </a:lnTo>
                <a:lnTo>
                  <a:pt x="123" y="68"/>
                </a:lnTo>
                <a:lnTo>
                  <a:pt x="131" y="64"/>
                </a:lnTo>
                <a:lnTo>
                  <a:pt x="126" y="60"/>
                </a:lnTo>
                <a:lnTo>
                  <a:pt x="108" y="44"/>
                </a:lnTo>
                <a:lnTo>
                  <a:pt x="95" y="31"/>
                </a:lnTo>
                <a:lnTo>
                  <a:pt x="95" y="29"/>
                </a:lnTo>
                <a:lnTo>
                  <a:pt x="97" y="28"/>
                </a:lnTo>
                <a:lnTo>
                  <a:pt x="98" y="26"/>
                </a:lnTo>
                <a:lnTo>
                  <a:pt x="102" y="23"/>
                </a:lnTo>
                <a:lnTo>
                  <a:pt x="113" y="21"/>
                </a:lnTo>
                <a:lnTo>
                  <a:pt x="117" y="22"/>
                </a:lnTo>
                <a:lnTo>
                  <a:pt x="118" y="21"/>
                </a:lnTo>
                <a:lnTo>
                  <a:pt x="120" y="19"/>
                </a:lnTo>
                <a:lnTo>
                  <a:pt x="120" y="18"/>
                </a:lnTo>
                <a:lnTo>
                  <a:pt x="120" y="16"/>
                </a:lnTo>
                <a:lnTo>
                  <a:pt x="120" y="13"/>
                </a:lnTo>
                <a:lnTo>
                  <a:pt x="118" y="3"/>
                </a:lnTo>
                <a:lnTo>
                  <a:pt x="120" y="3"/>
                </a:lnTo>
                <a:lnTo>
                  <a:pt x="120" y="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4760" y="2039760"/>
            <a:ext cx="33480" cy="24120"/>
          </a:xfrm>
          <a:custGeom>
            <a:avLst/>
            <a:gdLst/>
            <a:ahLst/>
            <a:rect l="l" t="t" r="r" b="b"/>
            <a:pathLst>
              <a:path w="96" h="76">
                <a:moveTo>
                  <a:pt x="83" y="74"/>
                </a:moveTo>
                <a:lnTo>
                  <a:pt x="76" y="76"/>
                </a:lnTo>
                <a:lnTo>
                  <a:pt x="54" y="76"/>
                </a:lnTo>
                <a:lnTo>
                  <a:pt x="38" y="76"/>
                </a:lnTo>
                <a:lnTo>
                  <a:pt x="38" y="76"/>
                </a:lnTo>
                <a:lnTo>
                  <a:pt x="34" y="73"/>
                </a:lnTo>
                <a:lnTo>
                  <a:pt x="28" y="66"/>
                </a:lnTo>
                <a:lnTo>
                  <a:pt x="16" y="48"/>
                </a:lnTo>
                <a:lnTo>
                  <a:pt x="5" y="32"/>
                </a:lnTo>
                <a:lnTo>
                  <a:pt x="2" y="28"/>
                </a:lnTo>
                <a:lnTo>
                  <a:pt x="0" y="24"/>
                </a:lnTo>
                <a:lnTo>
                  <a:pt x="2" y="16"/>
                </a:lnTo>
                <a:lnTo>
                  <a:pt x="2" y="12"/>
                </a:lnTo>
                <a:lnTo>
                  <a:pt x="5" y="9"/>
                </a:lnTo>
                <a:lnTo>
                  <a:pt x="9" y="6"/>
                </a:lnTo>
                <a:lnTo>
                  <a:pt x="15" y="3"/>
                </a:lnTo>
                <a:lnTo>
                  <a:pt x="21" y="0"/>
                </a:lnTo>
                <a:lnTo>
                  <a:pt x="27" y="6"/>
                </a:lnTo>
                <a:lnTo>
                  <a:pt x="35" y="13"/>
                </a:lnTo>
                <a:lnTo>
                  <a:pt x="42" y="16"/>
                </a:lnTo>
                <a:lnTo>
                  <a:pt x="44" y="16"/>
                </a:lnTo>
                <a:lnTo>
                  <a:pt x="55" y="16"/>
                </a:lnTo>
                <a:lnTo>
                  <a:pt x="76" y="19"/>
                </a:lnTo>
                <a:lnTo>
                  <a:pt x="89" y="27"/>
                </a:lnTo>
                <a:lnTo>
                  <a:pt x="93" y="32"/>
                </a:lnTo>
                <a:lnTo>
                  <a:pt x="96" y="38"/>
                </a:lnTo>
                <a:lnTo>
                  <a:pt x="96" y="45"/>
                </a:lnTo>
                <a:lnTo>
                  <a:pt x="96" y="53"/>
                </a:lnTo>
                <a:lnTo>
                  <a:pt x="93" y="60"/>
                </a:lnTo>
                <a:lnTo>
                  <a:pt x="89" y="67"/>
                </a:lnTo>
                <a:lnTo>
                  <a:pt x="83" y="74"/>
                </a:lnTo>
                <a:lnTo>
                  <a:pt x="83" y="74"/>
                </a:lnTo>
                <a:lnTo>
                  <a:pt x="83" y="74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3920" y="2016000"/>
            <a:ext cx="23760" cy="22320"/>
          </a:xfrm>
          <a:custGeom>
            <a:avLst/>
            <a:gdLst/>
            <a:ahLst/>
            <a:rect l="l" t="t" r="r" b="b"/>
            <a:pathLst>
              <a:path w="70" h="67">
                <a:moveTo>
                  <a:pt x="70" y="30"/>
                </a:moveTo>
                <a:lnTo>
                  <a:pt x="61" y="38"/>
                </a:lnTo>
                <a:lnTo>
                  <a:pt x="50" y="49"/>
                </a:lnTo>
                <a:lnTo>
                  <a:pt x="42" y="59"/>
                </a:lnTo>
                <a:lnTo>
                  <a:pt x="35" y="65"/>
                </a:lnTo>
                <a:lnTo>
                  <a:pt x="31" y="67"/>
                </a:lnTo>
                <a:lnTo>
                  <a:pt x="25" y="65"/>
                </a:lnTo>
                <a:lnTo>
                  <a:pt x="19" y="64"/>
                </a:lnTo>
                <a:lnTo>
                  <a:pt x="10" y="61"/>
                </a:lnTo>
                <a:lnTo>
                  <a:pt x="0" y="53"/>
                </a:lnTo>
                <a:lnTo>
                  <a:pt x="0" y="53"/>
                </a:lnTo>
                <a:lnTo>
                  <a:pt x="2" y="49"/>
                </a:lnTo>
                <a:lnTo>
                  <a:pt x="6" y="40"/>
                </a:lnTo>
                <a:lnTo>
                  <a:pt x="13" y="32"/>
                </a:lnTo>
                <a:lnTo>
                  <a:pt x="26" y="14"/>
                </a:lnTo>
                <a:lnTo>
                  <a:pt x="31" y="0"/>
                </a:lnTo>
                <a:lnTo>
                  <a:pt x="35" y="0"/>
                </a:lnTo>
                <a:lnTo>
                  <a:pt x="45" y="0"/>
                </a:lnTo>
                <a:lnTo>
                  <a:pt x="54" y="0"/>
                </a:lnTo>
                <a:lnTo>
                  <a:pt x="58" y="1"/>
                </a:lnTo>
                <a:lnTo>
                  <a:pt x="61" y="4"/>
                </a:lnTo>
                <a:lnTo>
                  <a:pt x="64" y="6"/>
                </a:lnTo>
                <a:lnTo>
                  <a:pt x="67" y="10"/>
                </a:lnTo>
                <a:lnTo>
                  <a:pt x="68" y="16"/>
                </a:lnTo>
                <a:lnTo>
                  <a:pt x="68" y="23"/>
                </a:lnTo>
                <a:lnTo>
                  <a:pt x="68" y="30"/>
                </a:lnTo>
                <a:lnTo>
                  <a:pt x="70" y="30"/>
                </a:lnTo>
                <a:lnTo>
                  <a:pt x="70" y="3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76920" y="1979640"/>
            <a:ext cx="38160" cy="47520"/>
          </a:xfrm>
          <a:custGeom>
            <a:avLst/>
            <a:gdLst/>
            <a:ahLst/>
            <a:rect l="l" t="t" r="r" b="b"/>
            <a:pathLst>
              <a:path w="105" h="141">
                <a:moveTo>
                  <a:pt x="82" y="0"/>
                </a:moveTo>
                <a:lnTo>
                  <a:pt x="89" y="10"/>
                </a:lnTo>
                <a:lnTo>
                  <a:pt x="100" y="25"/>
                </a:lnTo>
                <a:lnTo>
                  <a:pt x="105" y="38"/>
                </a:lnTo>
                <a:lnTo>
                  <a:pt x="103" y="48"/>
                </a:lnTo>
                <a:lnTo>
                  <a:pt x="100" y="61"/>
                </a:lnTo>
                <a:lnTo>
                  <a:pt x="98" y="77"/>
                </a:lnTo>
                <a:lnTo>
                  <a:pt x="98" y="86"/>
                </a:lnTo>
                <a:lnTo>
                  <a:pt x="90" y="99"/>
                </a:lnTo>
                <a:lnTo>
                  <a:pt x="82" y="116"/>
                </a:lnTo>
                <a:lnTo>
                  <a:pt x="74" y="129"/>
                </a:lnTo>
                <a:lnTo>
                  <a:pt x="67" y="136"/>
                </a:lnTo>
                <a:lnTo>
                  <a:pt x="58" y="139"/>
                </a:lnTo>
                <a:lnTo>
                  <a:pt x="42" y="141"/>
                </a:lnTo>
                <a:lnTo>
                  <a:pt x="32" y="141"/>
                </a:lnTo>
                <a:lnTo>
                  <a:pt x="25" y="141"/>
                </a:lnTo>
                <a:lnTo>
                  <a:pt x="21" y="138"/>
                </a:lnTo>
                <a:lnTo>
                  <a:pt x="16" y="135"/>
                </a:lnTo>
                <a:lnTo>
                  <a:pt x="13" y="131"/>
                </a:lnTo>
                <a:lnTo>
                  <a:pt x="12" y="126"/>
                </a:lnTo>
                <a:lnTo>
                  <a:pt x="12" y="120"/>
                </a:lnTo>
                <a:lnTo>
                  <a:pt x="12" y="116"/>
                </a:lnTo>
                <a:lnTo>
                  <a:pt x="15" y="107"/>
                </a:lnTo>
                <a:lnTo>
                  <a:pt x="19" y="102"/>
                </a:lnTo>
                <a:lnTo>
                  <a:pt x="22" y="99"/>
                </a:lnTo>
                <a:lnTo>
                  <a:pt x="25" y="94"/>
                </a:lnTo>
                <a:lnTo>
                  <a:pt x="28" y="87"/>
                </a:lnTo>
                <a:lnTo>
                  <a:pt x="28" y="84"/>
                </a:lnTo>
                <a:lnTo>
                  <a:pt x="27" y="83"/>
                </a:lnTo>
                <a:lnTo>
                  <a:pt x="25" y="83"/>
                </a:lnTo>
                <a:lnTo>
                  <a:pt x="22" y="83"/>
                </a:lnTo>
                <a:lnTo>
                  <a:pt x="13" y="83"/>
                </a:lnTo>
                <a:lnTo>
                  <a:pt x="3" y="80"/>
                </a:lnTo>
                <a:lnTo>
                  <a:pt x="3" y="80"/>
                </a:lnTo>
                <a:lnTo>
                  <a:pt x="2" y="77"/>
                </a:lnTo>
                <a:lnTo>
                  <a:pt x="0" y="71"/>
                </a:lnTo>
                <a:lnTo>
                  <a:pt x="0" y="67"/>
                </a:lnTo>
                <a:lnTo>
                  <a:pt x="0" y="64"/>
                </a:lnTo>
                <a:lnTo>
                  <a:pt x="3" y="61"/>
                </a:lnTo>
                <a:lnTo>
                  <a:pt x="8" y="57"/>
                </a:lnTo>
                <a:lnTo>
                  <a:pt x="12" y="54"/>
                </a:lnTo>
                <a:lnTo>
                  <a:pt x="16" y="55"/>
                </a:lnTo>
                <a:lnTo>
                  <a:pt x="25" y="57"/>
                </a:lnTo>
                <a:lnTo>
                  <a:pt x="34" y="61"/>
                </a:lnTo>
                <a:lnTo>
                  <a:pt x="48" y="71"/>
                </a:lnTo>
                <a:lnTo>
                  <a:pt x="56" y="76"/>
                </a:lnTo>
                <a:lnTo>
                  <a:pt x="57" y="71"/>
                </a:lnTo>
                <a:lnTo>
                  <a:pt x="63" y="60"/>
                </a:lnTo>
                <a:lnTo>
                  <a:pt x="70" y="32"/>
                </a:lnTo>
                <a:lnTo>
                  <a:pt x="79" y="6"/>
                </a:lnTo>
                <a:lnTo>
                  <a:pt x="82" y="0"/>
                </a:lnTo>
                <a:lnTo>
                  <a:pt x="82" y="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88000" y="1990800"/>
            <a:ext cx="79560" cy="57240"/>
          </a:xfrm>
          <a:custGeom>
            <a:avLst/>
            <a:gdLst/>
            <a:ahLst/>
            <a:rect l="l" t="t" r="r" b="b"/>
            <a:pathLst>
              <a:path w="232" h="173">
                <a:moveTo>
                  <a:pt x="196" y="0"/>
                </a:moveTo>
                <a:lnTo>
                  <a:pt x="196" y="6"/>
                </a:lnTo>
                <a:lnTo>
                  <a:pt x="199" y="18"/>
                </a:lnTo>
                <a:lnTo>
                  <a:pt x="203" y="48"/>
                </a:lnTo>
                <a:lnTo>
                  <a:pt x="206" y="76"/>
                </a:lnTo>
                <a:lnTo>
                  <a:pt x="207" y="81"/>
                </a:lnTo>
                <a:lnTo>
                  <a:pt x="212" y="84"/>
                </a:lnTo>
                <a:lnTo>
                  <a:pt x="216" y="86"/>
                </a:lnTo>
                <a:lnTo>
                  <a:pt x="219" y="90"/>
                </a:lnTo>
                <a:lnTo>
                  <a:pt x="226" y="99"/>
                </a:lnTo>
                <a:lnTo>
                  <a:pt x="231" y="107"/>
                </a:lnTo>
                <a:lnTo>
                  <a:pt x="232" y="118"/>
                </a:lnTo>
                <a:lnTo>
                  <a:pt x="229" y="128"/>
                </a:lnTo>
                <a:lnTo>
                  <a:pt x="228" y="131"/>
                </a:lnTo>
                <a:lnTo>
                  <a:pt x="219" y="131"/>
                </a:lnTo>
                <a:lnTo>
                  <a:pt x="205" y="131"/>
                </a:lnTo>
                <a:lnTo>
                  <a:pt x="179" y="129"/>
                </a:lnTo>
                <a:lnTo>
                  <a:pt x="151" y="131"/>
                </a:lnTo>
                <a:lnTo>
                  <a:pt x="144" y="132"/>
                </a:lnTo>
                <a:lnTo>
                  <a:pt x="134" y="133"/>
                </a:lnTo>
                <a:lnTo>
                  <a:pt x="126" y="136"/>
                </a:lnTo>
                <a:lnTo>
                  <a:pt x="121" y="139"/>
                </a:lnTo>
                <a:lnTo>
                  <a:pt x="115" y="144"/>
                </a:lnTo>
                <a:lnTo>
                  <a:pt x="106" y="152"/>
                </a:lnTo>
                <a:lnTo>
                  <a:pt x="97" y="162"/>
                </a:lnTo>
                <a:lnTo>
                  <a:pt x="87" y="170"/>
                </a:lnTo>
                <a:lnTo>
                  <a:pt x="73" y="173"/>
                </a:lnTo>
                <a:lnTo>
                  <a:pt x="73" y="173"/>
                </a:lnTo>
                <a:lnTo>
                  <a:pt x="68" y="171"/>
                </a:lnTo>
                <a:lnTo>
                  <a:pt x="66" y="168"/>
                </a:lnTo>
                <a:lnTo>
                  <a:pt x="63" y="165"/>
                </a:lnTo>
                <a:lnTo>
                  <a:pt x="61" y="160"/>
                </a:lnTo>
                <a:lnTo>
                  <a:pt x="61" y="155"/>
                </a:lnTo>
                <a:lnTo>
                  <a:pt x="61" y="144"/>
                </a:lnTo>
                <a:lnTo>
                  <a:pt x="63" y="125"/>
                </a:lnTo>
                <a:lnTo>
                  <a:pt x="64" y="122"/>
                </a:lnTo>
                <a:lnTo>
                  <a:pt x="67" y="120"/>
                </a:lnTo>
                <a:lnTo>
                  <a:pt x="77" y="118"/>
                </a:lnTo>
                <a:lnTo>
                  <a:pt x="99" y="113"/>
                </a:lnTo>
                <a:lnTo>
                  <a:pt x="118" y="106"/>
                </a:lnTo>
                <a:lnTo>
                  <a:pt x="122" y="103"/>
                </a:lnTo>
                <a:lnTo>
                  <a:pt x="113" y="102"/>
                </a:lnTo>
                <a:lnTo>
                  <a:pt x="97" y="99"/>
                </a:lnTo>
                <a:lnTo>
                  <a:pt x="79" y="100"/>
                </a:lnTo>
                <a:lnTo>
                  <a:pt x="39" y="105"/>
                </a:lnTo>
                <a:lnTo>
                  <a:pt x="15" y="106"/>
                </a:lnTo>
                <a:lnTo>
                  <a:pt x="12" y="102"/>
                </a:lnTo>
                <a:lnTo>
                  <a:pt x="5" y="89"/>
                </a:lnTo>
                <a:lnTo>
                  <a:pt x="0" y="78"/>
                </a:lnTo>
                <a:lnTo>
                  <a:pt x="0" y="77"/>
                </a:lnTo>
                <a:lnTo>
                  <a:pt x="8" y="71"/>
                </a:lnTo>
                <a:lnTo>
                  <a:pt x="22" y="61"/>
                </a:lnTo>
                <a:lnTo>
                  <a:pt x="37" y="55"/>
                </a:lnTo>
                <a:lnTo>
                  <a:pt x="51" y="51"/>
                </a:lnTo>
                <a:lnTo>
                  <a:pt x="61" y="42"/>
                </a:lnTo>
                <a:lnTo>
                  <a:pt x="70" y="26"/>
                </a:lnTo>
                <a:lnTo>
                  <a:pt x="73" y="15"/>
                </a:lnTo>
                <a:lnTo>
                  <a:pt x="89" y="15"/>
                </a:lnTo>
                <a:lnTo>
                  <a:pt x="103" y="16"/>
                </a:lnTo>
                <a:lnTo>
                  <a:pt x="113" y="20"/>
                </a:lnTo>
                <a:lnTo>
                  <a:pt x="121" y="26"/>
                </a:lnTo>
                <a:lnTo>
                  <a:pt x="125" y="34"/>
                </a:lnTo>
                <a:lnTo>
                  <a:pt x="128" y="41"/>
                </a:lnTo>
                <a:lnTo>
                  <a:pt x="131" y="48"/>
                </a:lnTo>
                <a:lnTo>
                  <a:pt x="135" y="64"/>
                </a:lnTo>
                <a:lnTo>
                  <a:pt x="138" y="71"/>
                </a:lnTo>
                <a:lnTo>
                  <a:pt x="142" y="77"/>
                </a:lnTo>
                <a:lnTo>
                  <a:pt x="148" y="81"/>
                </a:lnTo>
                <a:lnTo>
                  <a:pt x="150" y="81"/>
                </a:lnTo>
                <a:lnTo>
                  <a:pt x="157" y="73"/>
                </a:lnTo>
                <a:lnTo>
                  <a:pt x="161" y="64"/>
                </a:lnTo>
                <a:lnTo>
                  <a:pt x="163" y="55"/>
                </a:lnTo>
                <a:lnTo>
                  <a:pt x="161" y="47"/>
                </a:lnTo>
                <a:lnTo>
                  <a:pt x="160" y="38"/>
                </a:lnTo>
                <a:lnTo>
                  <a:pt x="158" y="23"/>
                </a:lnTo>
                <a:lnTo>
                  <a:pt x="158" y="18"/>
                </a:lnTo>
                <a:lnTo>
                  <a:pt x="161" y="12"/>
                </a:lnTo>
                <a:lnTo>
                  <a:pt x="168" y="7"/>
                </a:lnTo>
                <a:lnTo>
                  <a:pt x="179" y="3"/>
                </a:lnTo>
                <a:lnTo>
                  <a:pt x="194" y="0"/>
                </a:lnTo>
                <a:lnTo>
                  <a:pt x="196" y="0"/>
                </a:lnTo>
                <a:lnTo>
                  <a:pt x="196" y="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96200" y="2022480"/>
            <a:ext cx="96840" cy="77760"/>
          </a:xfrm>
          <a:custGeom>
            <a:avLst/>
            <a:gdLst/>
            <a:ahLst/>
            <a:rect l="l" t="t" r="r" b="b"/>
            <a:pathLst>
              <a:path w="279" h="239">
                <a:moveTo>
                  <a:pt x="36" y="239"/>
                </a:moveTo>
                <a:lnTo>
                  <a:pt x="36" y="233"/>
                </a:lnTo>
                <a:lnTo>
                  <a:pt x="36" y="220"/>
                </a:lnTo>
                <a:lnTo>
                  <a:pt x="33" y="207"/>
                </a:lnTo>
                <a:lnTo>
                  <a:pt x="27" y="195"/>
                </a:lnTo>
                <a:lnTo>
                  <a:pt x="19" y="184"/>
                </a:lnTo>
                <a:lnTo>
                  <a:pt x="7" y="172"/>
                </a:lnTo>
                <a:lnTo>
                  <a:pt x="0" y="166"/>
                </a:lnTo>
                <a:lnTo>
                  <a:pt x="1" y="165"/>
                </a:lnTo>
                <a:lnTo>
                  <a:pt x="16" y="148"/>
                </a:lnTo>
                <a:lnTo>
                  <a:pt x="65" y="90"/>
                </a:lnTo>
                <a:lnTo>
                  <a:pt x="103" y="46"/>
                </a:lnTo>
                <a:lnTo>
                  <a:pt x="105" y="43"/>
                </a:lnTo>
                <a:lnTo>
                  <a:pt x="100" y="39"/>
                </a:lnTo>
                <a:lnTo>
                  <a:pt x="92" y="32"/>
                </a:lnTo>
                <a:lnTo>
                  <a:pt x="88" y="26"/>
                </a:lnTo>
                <a:lnTo>
                  <a:pt x="88" y="23"/>
                </a:lnTo>
                <a:lnTo>
                  <a:pt x="87" y="20"/>
                </a:lnTo>
                <a:lnTo>
                  <a:pt x="88" y="17"/>
                </a:lnTo>
                <a:lnTo>
                  <a:pt x="90" y="14"/>
                </a:lnTo>
                <a:lnTo>
                  <a:pt x="91" y="10"/>
                </a:lnTo>
                <a:lnTo>
                  <a:pt x="97" y="0"/>
                </a:lnTo>
                <a:lnTo>
                  <a:pt x="98" y="0"/>
                </a:lnTo>
                <a:lnTo>
                  <a:pt x="108" y="1"/>
                </a:lnTo>
                <a:lnTo>
                  <a:pt x="142" y="1"/>
                </a:lnTo>
                <a:lnTo>
                  <a:pt x="168" y="1"/>
                </a:lnTo>
                <a:lnTo>
                  <a:pt x="169" y="1"/>
                </a:lnTo>
                <a:lnTo>
                  <a:pt x="174" y="3"/>
                </a:lnTo>
                <a:lnTo>
                  <a:pt x="178" y="3"/>
                </a:lnTo>
                <a:lnTo>
                  <a:pt x="182" y="6"/>
                </a:lnTo>
                <a:lnTo>
                  <a:pt x="184" y="10"/>
                </a:lnTo>
                <a:lnTo>
                  <a:pt x="185" y="13"/>
                </a:lnTo>
                <a:lnTo>
                  <a:pt x="190" y="20"/>
                </a:lnTo>
                <a:lnTo>
                  <a:pt x="197" y="30"/>
                </a:lnTo>
                <a:lnTo>
                  <a:pt x="203" y="36"/>
                </a:lnTo>
                <a:lnTo>
                  <a:pt x="210" y="42"/>
                </a:lnTo>
                <a:lnTo>
                  <a:pt x="217" y="46"/>
                </a:lnTo>
                <a:lnTo>
                  <a:pt x="236" y="52"/>
                </a:lnTo>
                <a:lnTo>
                  <a:pt x="253" y="59"/>
                </a:lnTo>
                <a:lnTo>
                  <a:pt x="268" y="68"/>
                </a:lnTo>
                <a:lnTo>
                  <a:pt x="274" y="75"/>
                </a:lnTo>
                <a:lnTo>
                  <a:pt x="278" y="82"/>
                </a:lnTo>
                <a:lnTo>
                  <a:pt x="279" y="94"/>
                </a:lnTo>
                <a:lnTo>
                  <a:pt x="279" y="107"/>
                </a:lnTo>
                <a:lnTo>
                  <a:pt x="279" y="107"/>
                </a:lnTo>
                <a:lnTo>
                  <a:pt x="253" y="120"/>
                </a:lnTo>
                <a:lnTo>
                  <a:pt x="218" y="136"/>
                </a:lnTo>
                <a:lnTo>
                  <a:pt x="184" y="161"/>
                </a:lnTo>
                <a:lnTo>
                  <a:pt x="149" y="213"/>
                </a:lnTo>
                <a:lnTo>
                  <a:pt x="133" y="236"/>
                </a:lnTo>
                <a:lnTo>
                  <a:pt x="117" y="237"/>
                </a:lnTo>
                <a:lnTo>
                  <a:pt x="72" y="239"/>
                </a:lnTo>
                <a:lnTo>
                  <a:pt x="37" y="239"/>
                </a:lnTo>
                <a:lnTo>
                  <a:pt x="36" y="239"/>
                </a:lnTo>
                <a:lnTo>
                  <a:pt x="36" y="23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9560" y="1965240"/>
            <a:ext cx="58680" cy="34920"/>
          </a:xfrm>
          <a:custGeom>
            <a:avLst/>
            <a:gdLst/>
            <a:ahLst/>
            <a:rect l="l" t="t" r="r" b="b"/>
            <a:pathLst>
              <a:path w="168" h="108">
                <a:moveTo>
                  <a:pt x="168" y="19"/>
                </a:moveTo>
                <a:lnTo>
                  <a:pt x="166" y="27"/>
                </a:lnTo>
                <a:lnTo>
                  <a:pt x="165" y="31"/>
                </a:lnTo>
                <a:lnTo>
                  <a:pt x="162" y="35"/>
                </a:lnTo>
                <a:lnTo>
                  <a:pt x="159" y="38"/>
                </a:lnTo>
                <a:lnTo>
                  <a:pt x="152" y="44"/>
                </a:lnTo>
                <a:lnTo>
                  <a:pt x="146" y="51"/>
                </a:lnTo>
                <a:lnTo>
                  <a:pt x="142" y="58"/>
                </a:lnTo>
                <a:lnTo>
                  <a:pt x="140" y="70"/>
                </a:lnTo>
                <a:lnTo>
                  <a:pt x="142" y="70"/>
                </a:lnTo>
                <a:lnTo>
                  <a:pt x="129" y="74"/>
                </a:lnTo>
                <a:lnTo>
                  <a:pt x="110" y="79"/>
                </a:lnTo>
                <a:lnTo>
                  <a:pt x="84" y="83"/>
                </a:lnTo>
                <a:lnTo>
                  <a:pt x="74" y="87"/>
                </a:lnTo>
                <a:lnTo>
                  <a:pt x="62" y="99"/>
                </a:lnTo>
                <a:lnTo>
                  <a:pt x="56" y="108"/>
                </a:lnTo>
                <a:lnTo>
                  <a:pt x="45" y="106"/>
                </a:lnTo>
                <a:lnTo>
                  <a:pt x="27" y="103"/>
                </a:lnTo>
                <a:lnTo>
                  <a:pt x="16" y="99"/>
                </a:lnTo>
                <a:lnTo>
                  <a:pt x="8" y="93"/>
                </a:lnTo>
                <a:lnTo>
                  <a:pt x="4" y="83"/>
                </a:lnTo>
                <a:lnTo>
                  <a:pt x="0" y="69"/>
                </a:lnTo>
                <a:lnTo>
                  <a:pt x="0" y="57"/>
                </a:lnTo>
                <a:lnTo>
                  <a:pt x="7" y="53"/>
                </a:lnTo>
                <a:lnTo>
                  <a:pt x="24" y="43"/>
                </a:lnTo>
                <a:lnTo>
                  <a:pt x="47" y="34"/>
                </a:lnTo>
                <a:lnTo>
                  <a:pt x="94" y="16"/>
                </a:lnTo>
                <a:lnTo>
                  <a:pt x="124" y="0"/>
                </a:lnTo>
                <a:lnTo>
                  <a:pt x="129" y="2"/>
                </a:lnTo>
                <a:lnTo>
                  <a:pt x="137" y="5"/>
                </a:lnTo>
                <a:lnTo>
                  <a:pt x="147" y="9"/>
                </a:lnTo>
                <a:lnTo>
                  <a:pt x="162" y="18"/>
                </a:lnTo>
                <a:lnTo>
                  <a:pt x="168" y="19"/>
                </a:lnTo>
                <a:lnTo>
                  <a:pt x="168" y="19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35880" y="1943280"/>
            <a:ext cx="23760" cy="14040"/>
          </a:xfrm>
          <a:custGeom>
            <a:avLst/>
            <a:gdLst/>
            <a:ahLst/>
            <a:rect l="l" t="t" r="r" b="b"/>
            <a:pathLst>
              <a:path w="63" h="45">
                <a:moveTo>
                  <a:pt x="63" y="3"/>
                </a:moveTo>
                <a:lnTo>
                  <a:pt x="59" y="8"/>
                </a:lnTo>
                <a:lnTo>
                  <a:pt x="52" y="18"/>
                </a:lnTo>
                <a:lnTo>
                  <a:pt x="37" y="37"/>
                </a:lnTo>
                <a:lnTo>
                  <a:pt x="29" y="42"/>
                </a:lnTo>
                <a:lnTo>
                  <a:pt x="17" y="45"/>
                </a:lnTo>
                <a:lnTo>
                  <a:pt x="11" y="44"/>
                </a:lnTo>
                <a:lnTo>
                  <a:pt x="6" y="41"/>
                </a:lnTo>
                <a:lnTo>
                  <a:pt x="4" y="37"/>
                </a:lnTo>
                <a:lnTo>
                  <a:pt x="3" y="32"/>
                </a:lnTo>
                <a:lnTo>
                  <a:pt x="0" y="21"/>
                </a:lnTo>
                <a:lnTo>
                  <a:pt x="0" y="16"/>
                </a:lnTo>
                <a:lnTo>
                  <a:pt x="1" y="12"/>
                </a:lnTo>
                <a:lnTo>
                  <a:pt x="4" y="8"/>
                </a:lnTo>
                <a:lnTo>
                  <a:pt x="8" y="6"/>
                </a:lnTo>
                <a:lnTo>
                  <a:pt x="13" y="6"/>
                </a:lnTo>
                <a:lnTo>
                  <a:pt x="20" y="8"/>
                </a:lnTo>
                <a:lnTo>
                  <a:pt x="21" y="8"/>
                </a:lnTo>
                <a:lnTo>
                  <a:pt x="24" y="5"/>
                </a:lnTo>
                <a:lnTo>
                  <a:pt x="32" y="2"/>
                </a:lnTo>
                <a:lnTo>
                  <a:pt x="37" y="0"/>
                </a:lnTo>
                <a:lnTo>
                  <a:pt x="45" y="0"/>
                </a:lnTo>
                <a:lnTo>
                  <a:pt x="52" y="2"/>
                </a:lnTo>
                <a:lnTo>
                  <a:pt x="59" y="3"/>
                </a:lnTo>
                <a:lnTo>
                  <a:pt x="63" y="3"/>
                </a:lnTo>
                <a:lnTo>
                  <a:pt x="63" y="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30840" y="1962000"/>
            <a:ext cx="19080" cy="14400"/>
          </a:xfrm>
          <a:custGeom>
            <a:avLst/>
            <a:gdLst/>
            <a:ahLst/>
            <a:rect l="l" t="t" r="r" b="b"/>
            <a:pathLst>
              <a:path w="55" h="42">
                <a:moveTo>
                  <a:pt x="18" y="42"/>
                </a:moveTo>
                <a:lnTo>
                  <a:pt x="8" y="35"/>
                </a:lnTo>
                <a:lnTo>
                  <a:pt x="2" y="29"/>
                </a:lnTo>
                <a:lnTo>
                  <a:pt x="0" y="23"/>
                </a:lnTo>
                <a:lnTo>
                  <a:pt x="0" y="20"/>
                </a:lnTo>
                <a:lnTo>
                  <a:pt x="0" y="17"/>
                </a:lnTo>
                <a:lnTo>
                  <a:pt x="2" y="16"/>
                </a:lnTo>
                <a:lnTo>
                  <a:pt x="5" y="13"/>
                </a:lnTo>
                <a:lnTo>
                  <a:pt x="8" y="11"/>
                </a:lnTo>
                <a:lnTo>
                  <a:pt x="13" y="8"/>
                </a:lnTo>
                <a:lnTo>
                  <a:pt x="21" y="6"/>
                </a:lnTo>
                <a:lnTo>
                  <a:pt x="37" y="1"/>
                </a:lnTo>
                <a:lnTo>
                  <a:pt x="51" y="1"/>
                </a:lnTo>
                <a:lnTo>
                  <a:pt x="55" y="0"/>
                </a:lnTo>
                <a:lnTo>
                  <a:pt x="55" y="6"/>
                </a:lnTo>
                <a:lnTo>
                  <a:pt x="55" y="10"/>
                </a:lnTo>
                <a:lnTo>
                  <a:pt x="54" y="16"/>
                </a:lnTo>
                <a:lnTo>
                  <a:pt x="51" y="20"/>
                </a:lnTo>
                <a:lnTo>
                  <a:pt x="44" y="29"/>
                </a:lnTo>
                <a:lnTo>
                  <a:pt x="35" y="36"/>
                </a:lnTo>
                <a:lnTo>
                  <a:pt x="26" y="40"/>
                </a:lnTo>
                <a:lnTo>
                  <a:pt x="18" y="42"/>
                </a:lnTo>
                <a:lnTo>
                  <a:pt x="18" y="42"/>
                </a:lnTo>
                <a:lnTo>
                  <a:pt x="18" y="4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80160" y="1932120"/>
            <a:ext cx="31680" cy="36360"/>
          </a:xfrm>
          <a:custGeom>
            <a:avLst/>
            <a:gdLst/>
            <a:ahLst/>
            <a:rect l="l" t="t" r="r" b="b"/>
            <a:pathLst>
              <a:path w="88" h="110">
                <a:moveTo>
                  <a:pt x="69" y="33"/>
                </a:moveTo>
                <a:lnTo>
                  <a:pt x="75" y="39"/>
                </a:lnTo>
                <a:lnTo>
                  <a:pt x="82" y="51"/>
                </a:lnTo>
                <a:lnTo>
                  <a:pt x="87" y="64"/>
                </a:lnTo>
                <a:lnTo>
                  <a:pt x="88" y="77"/>
                </a:lnTo>
                <a:lnTo>
                  <a:pt x="88" y="91"/>
                </a:lnTo>
                <a:lnTo>
                  <a:pt x="88" y="104"/>
                </a:lnTo>
                <a:lnTo>
                  <a:pt x="88" y="110"/>
                </a:lnTo>
                <a:lnTo>
                  <a:pt x="87" y="110"/>
                </a:lnTo>
                <a:lnTo>
                  <a:pt x="82" y="110"/>
                </a:lnTo>
                <a:lnTo>
                  <a:pt x="71" y="109"/>
                </a:lnTo>
                <a:lnTo>
                  <a:pt x="62" y="109"/>
                </a:lnTo>
                <a:lnTo>
                  <a:pt x="62" y="107"/>
                </a:lnTo>
                <a:lnTo>
                  <a:pt x="61" y="103"/>
                </a:lnTo>
                <a:lnTo>
                  <a:pt x="56" y="94"/>
                </a:lnTo>
                <a:lnTo>
                  <a:pt x="52" y="88"/>
                </a:lnTo>
                <a:lnTo>
                  <a:pt x="51" y="87"/>
                </a:lnTo>
                <a:lnTo>
                  <a:pt x="48" y="87"/>
                </a:lnTo>
                <a:lnTo>
                  <a:pt x="46" y="87"/>
                </a:lnTo>
                <a:lnTo>
                  <a:pt x="43" y="88"/>
                </a:lnTo>
                <a:lnTo>
                  <a:pt x="42" y="93"/>
                </a:lnTo>
                <a:lnTo>
                  <a:pt x="40" y="97"/>
                </a:lnTo>
                <a:lnTo>
                  <a:pt x="40" y="103"/>
                </a:lnTo>
                <a:lnTo>
                  <a:pt x="40" y="103"/>
                </a:lnTo>
                <a:lnTo>
                  <a:pt x="39" y="103"/>
                </a:lnTo>
                <a:lnTo>
                  <a:pt x="33" y="101"/>
                </a:lnTo>
                <a:lnTo>
                  <a:pt x="14" y="94"/>
                </a:lnTo>
                <a:lnTo>
                  <a:pt x="0" y="90"/>
                </a:lnTo>
                <a:lnTo>
                  <a:pt x="0" y="88"/>
                </a:lnTo>
                <a:lnTo>
                  <a:pt x="0" y="85"/>
                </a:lnTo>
                <a:lnTo>
                  <a:pt x="1" y="80"/>
                </a:lnTo>
                <a:lnTo>
                  <a:pt x="4" y="74"/>
                </a:lnTo>
                <a:lnTo>
                  <a:pt x="7" y="68"/>
                </a:lnTo>
                <a:lnTo>
                  <a:pt x="16" y="59"/>
                </a:lnTo>
                <a:lnTo>
                  <a:pt x="19" y="56"/>
                </a:lnTo>
                <a:lnTo>
                  <a:pt x="20" y="61"/>
                </a:lnTo>
                <a:lnTo>
                  <a:pt x="20" y="59"/>
                </a:lnTo>
                <a:lnTo>
                  <a:pt x="20" y="55"/>
                </a:lnTo>
                <a:lnTo>
                  <a:pt x="17" y="38"/>
                </a:lnTo>
                <a:lnTo>
                  <a:pt x="14" y="19"/>
                </a:lnTo>
                <a:lnTo>
                  <a:pt x="13" y="10"/>
                </a:lnTo>
                <a:lnTo>
                  <a:pt x="14" y="4"/>
                </a:lnTo>
                <a:lnTo>
                  <a:pt x="17" y="0"/>
                </a:lnTo>
                <a:lnTo>
                  <a:pt x="22" y="1"/>
                </a:lnTo>
                <a:lnTo>
                  <a:pt x="27" y="6"/>
                </a:lnTo>
                <a:lnTo>
                  <a:pt x="29" y="6"/>
                </a:lnTo>
                <a:lnTo>
                  <a:pt x="33" y="7"/>
                </a:lnTo>
                <a:lnTo>
                  <a:pt x="37" y="9"/>
                </a:lnTo>
                <a:lnTo>
                  <a:pt x="40" y="10"/>
                </a:lnTo>
                <a:lnTo>
                  <a:pt x="42" y="13"/>
                </a:lnTo>
                <a:lnTo>
                  <a:pt x="43" y="17"/>
                </a:lnTo>
                <a:lnTo>
                  <a:pt x="46" y="23"/>
                </a:lnTo>
                <a:lnTo>
                  <a:pt x="51" y="30"/>
                </a:lnTo>
                <a:lnTo>
                  <a:pt x="61" y="33"/>
                </a:lnTo>
                <a:lnTo>
                  <a:pt x="69" y="33"/>
                </a:lnTo>
                <a:lnTo>
                  <a:pt x="69" y="3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18320" y="1944720"/>
            <a:ext cx="17280" cy="23760"/>
          </a:xfrm>
          <a:custGeom>
            <a:avLst/>
            <a:gdLst/>
            <a:ahLst/>
            <a:rect l="l" t="t" r="r" b="b"/>
            <a:pathLst>
              <a:path w="50" h="74">
                <a:moveTo>
                  <a:pt x="50" y="35"/>
                </a:moveTo>
                <a:lnTo>
                  <a:pt x="47" y="42"/>
                </a:lnTo>
                <a:lnTo>
                  <a:pt x="41" y="60"/>
                </a:lnTo>
                <a:lnTo>
                  <a:pt x="37" y="74"/>
                </a:lnTo>
                <a:lnTo>
                  <a:pt x="37" y="74"/>
                </a:lnTo>
                <a:lnTo>
                  <a:pt x="32" y="74"/>
                </a:lnTo>
                <a:lnTo>
                  <a:pt x="25" y="71"/>
                </a:lnTo>
                <a:lnTo>
                  <a:pt x="13" y="64"/>
                </a:lnTo>
                <a:lnTo>
                  <a:pt x="3" y="55"/>
                </a:lnTo>
                <a:lnTo>
                  <a:pt x="2" y="52"/>
                </a:lnTo>
                <a:lnTo>
                  <a:pt x="0" y="45"/>
                </a:lnTo>
                <a:lnTo>
                  <a:pt x="0" y="32"/>
                </a:lnTo>
                <a:lnTo>
                  <a:pt x="2" y="25"/>
                </a:lnTo>
                <a:lnTo>
                  <a:pt x="3" y="18"/>
                </a:lnTo>
                <a:lnTo>
                  <a:pt x="6" y="13"/>
                </a:lnTo>
                <a:lnTo>
                  <a:pt x="13" y="6"/>
                </a:lnTo>
                <a:lnTo>
                  <a:pt x="18" y="0"/>
                </a:lnTo>
                <a:lnTo>
                  <a:pt x="21" y="3"/>
                </a:lnTo>
                <a:lnTo>
                  <a:pt x="26" y="9"/>
                </a:lnTo>
                <a:lnTo>
                  <a:pt x="32" y="15"/>
                </a:lnTo>
                <a:lnTo>
                  <a:pt x="41" y="28"/>
                </a:lnTo>
                <a:lnTo>
                  <a:pt x="50" y="35"/>
                </a:lnTo>
                <a:lnTo>
                  <a:pt x="50" y="35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26240" y="1979640"/>
            <a:ext cx="119160" cy="63360"/>
          </a:xfrm>
          <a:custGeom>
            <a:avLst/>
            <a:gdLst/>
            <a:ahLst/>
            <a:rect l="l" t="t" r="r" b="b"/>
            <a:pathLst>
              <a:path w="350" h="186">
                <a:moveTo>
                  <a:pt x="110" y="81"/>
                </a:moveTo>
                <a:lnTo>
                  <a:pt x="119" y="86"/>
                </a:lnTo>
                <a:lnTo>
                  <a:pt x="137" y="93"/>
                </a:lnTo>
                <a:lnTo>
                  <a:pt x="175" y="102"/>
                </a:lnTo>
                <a:lnTo>
                  <a:pt x="216" y="105"/>
                </a:lnTo>
                <a:lnTo>
                  <a:pt x="227" y="105"/>
                </a:lnTo>
                <a:lnTo>
                  <a:pt x="230" y="109"/>
                </a:lnTo>
                <a:lnTo>
                  <a:pt x="234" y="109"/>
                </a:lnTo>
                <a:lnTo>
                  <a:pt x="240" y="107"/>
                </a:lnTo>
                <a:lnTo>
                  <a:pt x="245" y="105"/>
                </a:lnTo>
                <a:lnTo>
                  <a:pt x="249" y="100"/>
                </a:lnTo>
                <a:lnTo>
                  <a:pt x="259" y="87"/>
                </a:lnTo>
                <a:lnTo>
                  <a:pt x="274" y="65"/>
                </a:lnTo>
                <a:lnTo>
                  <a:pt x="276" y="63"/>
                </a:lnTo>
                <a:lnTo>
                  <a:pt x="285" y="63"/>
                </a:lnTo>
                <a:lnTo>
                  <a:pt x="314" y="63"/>
                </a:lnTo>
                <a:lnTo>
                  <a:pt x="337" y="63"/>
                </a:lnTo>
                <a:lnTo>
                  <a:pt x="339" y="63"/>
                </a:lnTo>
                <a:lnTo>
                  <a:pt x="342" y="70"/>
                </a:lnTo>
                <a:lnTo>
                  <a:pt x="346" y="83"/>
                </a:lnTo>
                <a:lnTo>
                  <a:pt x="350" y="106"/>
                </a:lnTo>
                <a:lnTo>
                  <a:pt x="343" y="132"/>
                </a:lnTo>
                <a:lnTo>
                  <a:pt x="339" y="139"/>
                </a:lnTo>
                <a:lnTo>
                  <a:pt x="333" y="139"/>
                </a:lnTo>
                <a:lnTo>
                  <a:pt x="324" y="139"/>
                </a:lnTo>
                <a:lnTo>
                  <a:pt x="304" y="138"/>
                </a:lnTo>
                <a:lnTo>
                  <a:pt x="285" y="138"/>
                </a:lnTo>
                <a:lnTo>
                  <a:pt x="281" y="136"/>
                </a:lnTo>
                <a:lnTo>
                  <a:pt x="275" y="145"/>
                </a:lnTo>
                <a:lnTo>
                  <a:pt x="262" y="160"/>
                </a:lnTo>
                <a:lnTo>
                  <a:pt x="245" y="171"/>
                </a:lnTo>
                <a:lnTo>
                  <a:pt x="223" y="177"/>
                </a:lnTo>
                <a:lnTo>
                  <a:pt x="201" y="180"/>
                </a:lnTo>
                <a:lnTo>
                  <a:pt x="179" y="176"/>
                </a:lnTo>
                <a:lnTo>
                  <a:pt x="169" y="171"/>
                </a:lnTo>
                <a:lnTo>
                  <a:pt x="161" y="168"/>
                </a:lnTo>
                <a:lnTo>
                  <a:pt x="149" y="161"/>
                </a:lnTo>
                <a:lnTo>
                  <a:pt x="140" y="158"/>
                </a:lnTo>
                <a:lnTo>
                  <a:pt x="137" y="158"/>
                </a:lnTo>
                <a:lnTo>
                  <a:pt x="136" y="160"/>
                </a:lnTo>
                <a:lnTo>
                  <a:pt x="133" y="162"/>
                </a:lnTo>
                <a:lnTo>
                  <a:pt x="132" y="165"/>
                </a:lnTo>
                <a:lnTo>
                  <a:pt x="130" y="171"/>
                </a:lnTo>
                <a:lnTo>
                  <a:pt x="124" y="186"/>
                </a:lnTo>
                <a:lnTo>
                  <a:pt x="124" y="186"/>
                </a:lnTo>
                <a:lnTo>
                  <a:pt x="119" y="186"/>
                </a:lnTo>
                <a:lnTo>
                  <a:pt x="107" y="186"/>
                </a:lnTo>
                <a:lnTo>
                  <a:pt x="87" y="181"/>
                </a:lnTo>
                <a:lnTo>
                  <a:pt x="63" y="174"/>
                </a:lnTo>
                <a:lnTo>
                  <a:pt x="56" y="171"/>
                </a:lnTo>
                <a:lnTo>
                  <a:pt x="49" y="170"/>
                </a:lnTo>
                <a:lnTo>
                  <a:pt x="43" y="165"/>
                </a:lnTo>
                <a:lnTo>
                  <a:pt x="39" y="158"/>
                </a:lnTo>
                <a:lnTo>
                  <a:pt x="36" y="149"/>
                </a:lnTo>
                <a:lnTo>
                  <a:pt x="30" y="129"/>
                </a:lnTo>
                <a:lnTo>
                  <a:pt x="26" y="90"/>
                </a:lnTo>
                <a:lnTo>
                  <a:pt x="26" y="80"/>
                </a:lnTo>
                <a:lnTo>
                  <a:pt x="21" y="77"/>
                </a:lnTo>
                <a:lnTo>
                  <a:pt x="8" y="64"/>
                </a:lnTo>
                <a:lnTo>
                  <a:pt x="0" y="55"/>
                </a:lnTo>
                <a:lnTo>
                  <a:pt x="0" y="54"/>
                </a:lnTo>
                <a:lnTo>
                  <a:pt x="3" y="47"/>
                </a:lnTo>
                <a:lnTo>
                  <a:pt x="8" y="32"/>
                </a:lnTo>
                <a:lnTo>
                  <a:pt x="23" y="12"/>
                </a:lnTo>
                <a:lnTo>
                  <a:pt x="32" y="6"/>
                </a:lnTo>
                <a:lnTo>
                  <a:pt x="45" y="2"/>
                </a:lnTo>
                <a:lnTo>
                  <a:pt x="53" y="0"/>
                </a:lnTo>
                <a:lnTo>
                  <a:pt x="55" y="5"/>
                </a:lnTo>
                <a:lnTo>
                  <a:pt x="56" y="7"/>
                </a:lnTo>
                <a:lnTo>
                  <a:pt x="58" y="10"/>
                </a:lnTo>
                <a:lnTo>
                  <a:pt x="59" y="13"/>
                </a:lnTo>
                <a:lnTo>
                  <a:pt x="58" y="20"/>
                </a:lnTo>
                <a:lnTo>
                  <a:pt x="58" y="29"/>
                </a:lnTo>
                <a:lnTo>
                  <a:pt x="55" y="44"/>
                </a:lnTo>
                <a:lnTo>
                  <a:pt x="56" y="44"/>
                </a:lnTo>
                <a:lnTo>
                  <a:pt x="62" y="45"/>
                </a:lnTo>
                <a:lnTo>
                  <a:pt x="71" y="44"/>
                </a:lnTo>
                <a:lnTo>
                  <a:pt x="77" y="42"/>
                </a:lnTo>
                <a:lnTo>
                  <a:pt x="81" y="39"/>
                </a:lnTo>
                <a:lnTo>
                  <a:pt x="85" y="34"/>
                </a:lnTo>
                <a:lnTo>
                  <a:pt x="94" y="23"/>
                </a:lnTo>
                <a:lnTo>
                  <a:pt x="101" y="16"/>
                </a:lnTo>
                <a:lnTo>
                  <a:pt x="104" y="20"/>
                </a:lnTo>
                <a:lnTo>
                  <a:pt x="106" y="26"/>
                </a:lnTo>
                <a:lnTo>
                  <a:pt x="108" y="36"/>
                </a:lnTo>
                <a:lnTo>
                  <a:pt x="110" y="48"/>
                </a:lnTo>
                <a:lnTo>
                  <a:pt x="110" y="71"/>
                </a:lnTo>
                <a:lnTo>
                  <a:pt x="110" y="81"/>
                </a:lnTo>
                <a:lnTo>
                  <a:pt x="110" y="8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26240" y="1884240"/>
            <a:ext cx="55440" cy="73080"/>
          </a:xfrm>
          <a:custGeom>
            <a:avLst/>
            <a:gdLst/>
            <a:ahLst/>
            <a:rect l="l" t="t" r="r" b="b"/>
            <a:pathLst>
              <a:path w="158" h="226">
                <a:moveTo>
                  <a:pt x="158" y="140"/>
                </a:moveTo>
                <a:lnTo>
                  <a:pt x="156" y="143"/>
                </a:lnTo>
                <a:lnTo>
                  <a:pt x="147" y="155"/>
                </a:lnTo>
                <a:lnTo>
                  <a:pt x="118" y="194"/>
                </a:lnTo>
                <a:lnTo>
                  <a:pt x="95" y="224"/>
                </a:lnTo>
                <a:lnTo>
                  <a:pt x="95" y="226"/>
                </a:lnTo>
                <a:lnTo>
                  <a:pt x="87" y="226"/>
                </a:lnTo>
                <a:lnTo>
                  <a:pt x="72" y="221"/>
                </a:lnTo>
                <a:lnTo>
                  <a:pt x="62" y="214"/>
                </a:lnTo>
                <a:lnTo>
                  <a:pt x="55" y="204"/>
                </a:lnTo>
                <a:lnTo>
                  <a:pt x="50" y="192"/>
                </a:lnTo>
                <a:lnTo>
                  <a:pt x="45" y="179"/>
                </a:lnTo>
                <a:lnTo>
                  <a:pt x="43" y="172"/>
                </a:lnTo>
                <a:lnTo>
                  <a:pt x="45" y="171"/>
                </a:lnTo>
                <a:lnTo>
                  <a:pt x="52" y="162"/>
                </a:lnTo>
                <a:lnTo>
                  <a:pt x="58" y="156"/>
                </a:lnTo>
                <a:lnTo>
                  <a:pt x="59" y="155"/>
                </a:lnTo>
                <a:lnTo>
                  <a:pt x="47" y="146"/>
                </a:lnTo>
                <a:lnTo>
                  <a:pt x="33" y="137"/>
                </a:lnTo>
                <a:lnTo>
                  <a:pt x="23" y="137"/>
                </a:lnTo>
                <a:lnTo>
                  <a:pt x="20" y="137"/>
                </a:lnTo>
                <a:lnTo>
                  <a:pt x="18" y="137"/>
                </a:lnTo>
                <a:lnTo>
                  <a:pt x="14" y="133"/>
                </a:lnTo>
                <a:lnTo>
                  <a:pt x="11" y="126"/>
                </a:lnTo>
                <a:lnTo>
                  <a:pt x="7" y="97"/>
                </a:lnTo>
                <a:lnTo>
                  <a:pt x="7" y="97"/>
                </a:lnTo>
                <a:lnTo>
                  <a:pt x="3" y="82"/>
                </a:lnTo>
                <a:lnTo>
                  <a:pt x="0" y="58"/>
                </a:lnTo>
                <a:lnTo>
                  <a:pt x="3" y="39"/>
                </a:lnTo>
                <a:lnTo>
                  <a:pt x="8" y="26"/>
                </a:lnTo>
                <a:lnTo>
                  <a:pt x="16" y="16"/>
                </a:lnTo>
                <a:lnTo>
                  <a:pt x="21" y="6"/>
                </a:lnTo>
                <a:lnTo>
                  <a:pt x="23" y="0"/>
                </a:lnTo>
                <a:lnTo>
                  <a:pt x="27" y="1"/>
                </a:lnTo>
                <a:lnTo>
                  <a:pt x="33" y="7"/>
                </a:lnTo>
                <a:lnTo>
                  <a:pt x="46" y="23"/>
                </a:lnTo>
                <a:lnTo>
                  <a:pt x="78" y="56"/>
                </a:lnTo>
                <a:lnTo>
                  <a:pt x="92" y="63"/>
                </a:lnTo>
                <a:lnTo>
                  <a:pt x="103" y="77"/>
                </a:lnTo>
                <a:lnTo>
                  <a:pt x="133" y="113"/>
                </a:lnTo>
                <a:lnTo>
                  <a:pt x="156" y="139"/>
                </a:lnTo>
                <a:lnTo>
                  <a:pt x="158" y="140"/>
                </a:lnTo>
                <a:lnTo>
                  <a:pt x="158" y="14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46760" y="1820880"/>
            <a:ext cx="101880" cy="173160"/>
          </a:xfrm>
          <a:custGeom>
            <a:avLst/>
            <a:gdLst/>
            <a:ahLst/>
            <a:rect l="l" t="t" r="r" b="b"/>
            <a:pathLst>
              <a:path w="294" h="532">
                <a:moveTo>
                  <a:pt x="130" y="252"/>
                </a:moveTo>
                <a:lnTo>
                  <a:pt x="126" y="249"/>
                </a:lnTo>
                <a:lnTo>
                  <a:pt x="125" y="246"/>
                </a:lnTo>
                <a:lnTo>
                  <a:pt x="123" y="244"/>
                </a:lnTo>
                <a:lnTo>
                  <a:pt x="123" y="241"/>
                </a:lnTo>
                <a:lnTo>
                  <a:pt x="125" y="238"/>
                </a:lnTo>
                <a:lnTo>
                  <a:pt x="126" y="235"/>
                </a:lnTo>
                <a:lnTo>
                  <a:pt x="128" y="232"/>
                </a:lnTo>
                <a:lnTo>
                  <a:pt x="133" y="225"/>
                </a:lnTo>
                <a:lnTo>
                  <a:pt x="141" y="216"/>
                </a:lnTo>
                <a:lnTo>
                  <a:pt x="145" y="210"/>
                </a:lnTo>
                <a:lnTo>
                  <a:pt x="151" y="203"/>
                </a:lnTo>
                <a:lnTo>
                  <a:pt x="152" y="199"/>
                </a:lnTo>
                <a:lnTo>
                  <a:pt x="152" y="197"/>
                </a:lnTo>
                <a:lnTo>
                  <a:pt x="148" y="197"/>
                </a:lnTo>
                <a:lnTo>
                  <a:pt x="146" y="197"/>
                </a:lnTo>
                <a:lnTo>
                  <a:pt x="139" y="200"/>
                </a:lnTo>
                <a:lnTo>
                  <a:pt x="123" y="209"/>
                </a:lnTo>
                <a:lnTo>
                  <a:pt x="106" y="217"/>
                </a:lnTo>
                <a:lnTo>
                  <a:pt x="91" y="223"/>
                </a:lnTo>
                <a:lnTo>
                  <a:pt x="88" y="222"/>
                </a:lnTo>
                <a:lnTo>
                  <a:pt x="77" y="220"/>
                </a:lnTo>
                <a:lnTo>
                  <a:pt x="55" y="216"/>
                </a:lnTo>
                <a:lnTo>
                  <a:pt x="17" y="202"/>
                </a:lnTo>
                <a:lnTo>
                  <a:pt x="6" y="194"/>
                </a:lnTo>
                <a:lnTo>
                  <a:pt x="1" y="191"/>
                </a:lnTo>
                <a:lnTo>
                  <a:pt x="0" y="188"/>
                </a:lnTo>
                <a:lnTo>
                  <a:pt x="0" y="186"/>
                </a:lnTo>
                <a:lnTo>
                  <a:pt x="4" y="175"/>
                </a:lnTo>
                <a:lnTo>
                  <a:pt x="10" y="155"/>
                </a:lnTo>
                <a:lnTo>
                  <a:pt x="13" y="138"/>
                </a:lnTo>
                <a:lnTo>
                  <a:pt x="16" y="122"/>
                </a:lnTo>
                <a:lnTo>
                  <a:pt x="26" y="107"/>
                </a:lnTo>
                <a:lnTo>
                  <a:pt x="46" y="97"/>
                </a:lnTo>
                <a:lnTo>
                  <a:pt x="64" y="91"/>
                </a:lnTo>
                <a:lnTo>
                  <a:pt x="71" y="88"/>
                </a:lnTo>
                <a:lnTo>
                  <a:pt x="78" y="84"/>
                </a:lnTo>
                <a:lnTo>
                  <a:pt x="97" y="68"/>
                </a:lnTo>
                <a:lnTo>
                  <a:pt x="139" y="31"/>
                </a:lnTo>
                <a:lnTo>
                  <a:pt x="174" y="0"/>
                </a:lnTo>
                <a:lnTo>
                  <a:pt x="178" y="3"/>
                </a:lnTo>
                <a:lnTo>
                  <a:pt x="196" y="12"/>
                </a:lnTo>
                <a:lnTo>
                  <a:pt x="209" y="17"/>
                </a:lnTo>
                <a:lnTo>
                  <a:pt x="210" y="17"/>
                </a:lnTo>
                <a:lnTo>
                  <a:pt x="214" y="16"/>
                </a:lnTo>
                <a:lnTo>
                  <a:pt x="225" y="13"/>
                </a:lnTo>
                <a:lnTo>
                  <a:pt x="246" y="10"/>
                </a:lnTo>
                <a:lnTo>
                  <a:pt x="268" y="10"/>
                </a:lnTo>
                <a:lnTo>
                  <a:pt x="274" y="9"/>
                </a:lnTo>
                <a:lnTo>
                  <a:pt x="274" y="17"/>
                </a:lnTo>
                <a:lnTo>
                  <a:pt x="274" y="36"/>
                </a:lnTo>
                <a:lnTo>
                  <a:pt x="271" y="78"/>
                </a:lnTo>
                <a:lnTo>
                  <a:pt x="264" y="97"/>
                </a:lnTo>
                <a:lnTo>
                  <a:pt x="252" y="110"/>
                </a:lnTo>
                <a:lnTo>
                  <a:pt x="245" y="115"/>
                </a:lnTo>
                <a:lnTo>
                  <a:pt x="252" y="119"/>
                </a:lnTo>
                <a:lnTo>
                  <a:pt x="275" y="132"/>
                </a:lnTo>
                <a:lnTo>
                  <a:pt x="293" y="142"/>
                </a:lnTo>
                <a:lnTo>
                  <a:pt x="294" y="142"/>
                </a:lnTo>
                <a:lnTo>
                  <a:pt x="291" y="155"/>
                </a:lnTo>
                <a:lnTo>
                  <a:pt x="285" y="181"/>
                </a:lnTo>
                <a:lnTo>
                  <a:pt x="271" y="238"/>
                </a:lnTo>
                <a:lnTo>
                  <a:pt x="255" y="280"/>
                </a:lnTo>
                <a:lnTo>
                  <a:pt x="251" y="284"/>
                </a:lnTo>
                <a:lnTo>
                  <a:pt x="252" y="297"/>
                </a:lnTo>
                <a:lnTo>
                  <a:pt x="256" y="322"/>
                </a:lnTo>
                <a:lnTo>
                  <a:pt x="256" y="377"/>
                </a:lnTo>
                <a:lnTo>
                  <a:pt x="243" y="430"/>
                </a:lnTo>
                <a:lnTo>
                  <a:pt x="238" y="442"/>
                </a:lnTo>
                <a:lnTo>
                  <a:pt x="245" y="446"/>
                </a:lnTo>
                <a:lnTo>
                  <a:pt x="271" y="459"/>
                </a:lnTo>
                <a:lnTo>
                  <a:pt x="291" y="468"/>
                </a:lnTo>
                <a:lnTo>
                  <a:pt x="293" y="468"/>
                </a:lnTo>
                <a:lnTo>
                  <a:pt x="291" y="474"/>
                </a:lnTo>
                <a:lnTo>
                  <a:pt x="290" y="483"/>
                </a:lnTo>
                <a:lnTo>
                  <a:pt x="284" y="499"/>
                </a:lnTo>
                <a:lnTo>
                  <a:pt x="275" y="513"/>
                </a:lnTo>
                <a:lnTo>
                  <a:pt x="274" y="514"/>
                </a:lnTo>
                <a:lnTo>
                  <a:pt x="268" y="514"/>
                </a:lnTo>
                <a:lnTo>
                  <a:pt x="259" y="513"/>
                </a:lnTo>
                <a:lnTo>
                  <a:pt x="243" y="509"/>
                </a:lnTo>
                <a:lnTo>
                  <a:pt x="230" y="506"/>
                </a:lnTo>
                <a:lnTo>
                  <a:pt x="229" y="504"/>
                </a:lnTo>
                <a:lnTo>
                  <a:pt x="219" y="510"/>
                </a:lnTo>
                <a:lnTo>
                  <a:pt x="199" y="519"/>
                </a:lnTo>
                <a:lnTo>
                  <a:pt x="151" y="532"/>
                </a:lnTo>
                <a:lnTo>
                  <a:pt x="103" y="530"/>
                </a:lnTo>
                <a:lnTo>
                  <a:pt x="91" y="526"/>
                </a:lnTo>
                <a:lnTo>
                  <a:pt x="91" y="516"/>
                </a:lnTo>
                <a:lnTo>
                  <a:pt x="96" y="484"/>
                </a:lnTo>
                <a:lnTo>
                  <a:pt x="97" y="459"/>
                </a:lnTo>
                <a:lnTo>
                  <a:pt x="99" y="458"/>
                </a:lnTo>
                <a:lnTo>
                  <a:pt x="103" y="457"/>
                </a:lnTo>
                <a:lnTo>
                  <a:pt x="114" y="452"/>
                </a:lnTo>
                <a:lnTo>
                  <a:pt x="141" y="446"/>
                </a:lnTo>
                <a:lnTo>
                  <a:pt x="165" y="443"/>
                </a:lnTo>
                <a:lnTo>
                  <a:pt x="171" y="442"/>
                </a:lnTo>
                <a:lnTo>
                  <a:pt x="165" y="441"/>
                </a:lnTo>
                <a:lnTo>
                  <a:pt x="152" y="436"/>
                </a:lnTo>
                <a:lnTo>
                  <a:pt x="114" y="422"/>
                </a:lnTo>
                <a:lnTo>
                  <a:pt x="99" y="413"/>
                </a:lnTo>
                <a:lnTo>
                  <a:pt x="88" y="406"/>
                </a:lnTo>
                <a:lnTo>
                  <a:pt x="88" y="401"/>
                </a:lnTo>
                <a:lnTo>
                  <a:pt x="90" y="400"/>
                </a:lnTo>
                <a:lnTo>
                  <a:pt x="94" y="397"/>
                </a:lnTo>
                <a:lnTo>
                  <a:pt x="101" y="391"/>
                </a:lnTo>
                <a:lnTo>
                  <a:pt x="120" y="365"/>
                </a:lnTo>
                <a:lnTo>
                  <a:pt x="129" y="332"/>
                </a:lnTo>
                <a:lnTo>
                  <a:pt x="128" y="320"/>
                </a:lnTo>
                <a:lnTo>
                  <a:pt x="125" y="312"/>
                </a:lnTo>
                <a:lnTo>
                  <a:pt x="122" y="306"/>
                </a:lnTo>
                <a:lnTo>
                  <a:pt x="117" y="300"/>
                </a:lnTo>
                <a:lnTo>
                  <a:pt x="112" y="297"/>
                </a:lnTo>
                <a:lnTo>
                  <a:pt x="106" y="294"/>
                </a:lnTo>
                <a:lnTo>
                  <a:pt x="96" y="290"/>
                </a:lnTo>
                <a:lnTo>
                  <a:pt x="91" y="288"/>
                </a:lnTo>
                <a:lnTo>
                  <a:pt x="88" y="284"/>
                </a:lnTo>
                <a:lnTo>
                  <a:pt x="88" y="278"/>
                </a:lnTo>
                <a:lnTo>
                  <a:pt x="88" y="271"/>
                </a:lnTo>
                <a:lnTo>
                  <a:pt x="90" y="271"/>
                </a:lnTo>
                <a:lnTo>
                  <a:pt x="93" y="265"/>
                </a:lnTo>
                <a:lnTo>
                  <a:pt x="100" y="262"/>
                </a:lnTo>
                <a:lnTo>
                  <a:pt x="109" y="262"/>
                </a:lnTo>
                <a:lnTo>
                  <a:pt x="117" y="264"/>
                </a:lnTo>
                <a:lnTo>
                  <a:pt x="129" y="268"/>
                </a:lnTo>
                <a:lnTo>
                  <a:pt x="149" y="280"/>
                </a:lnTo>
                <a:lnTo>
                  <a:pt x="177" y="296"/>
                </a:lnTo>
                <a:lnTo>
                  <a:pt x="178" y="294"/>
                </a:lnTo>
                <a:lnTo>
                  <a:pt x="174" y="291"/>
                </a:lnTo>
                <a:lnTo>
                  <a:pt x="171" y="288"/>
                </a:lnTo>
                <a:lnTo>
                  <a:pt x="162" y="281"/>
                </a:lnTo>
                <a:lnTo>
                  <a:pt x="142" y="265"/>
                </a:lnTo>
                <a:lnTo>
                  <a:pt x="130" y="252"/>
                </a:lnTo>
                <a:lnTo>
                  <a:pt x="130" y="252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96040" y="3592440"/>
            <a:ext cx="163440" cy="66600"/>
          </a:xfrm>
          <a:custGeom>
            <a:avLst/>
            <a:gdLst/>
            <a:ahLst/>
            <a:rect l="l" t="t" r="r" b="b"/>
            <a:pathLst>
              <a:path w="475" h="200">
                <a:moveTo>
                  <a:pt x="0" y="48"/>
                </a:moveTo>
                <a:lnTo>
                  <a:pt x="14" y="61"/>
                </a:lnTo>
                <a:lnTo>
                  <a:pt x="36" y="78"/>
                </a:lnTo>
                <a:lnTo>
                  <a:pt x="50" y="90"/>
                </a:lnTo>
                <a:lnTo>
                  <a:pt x="65" y="96"/>
                </a:lnTo>
                <a:lnTo>
                  <a:pt x="86" y="99"/>
                </a:lnTo>
                <a:lnTo>
                  <a:pt x="120" y="100"/>
                </a:lnTo>
                <a:lnTo>
                  <a:pt x="143" y="102"/>
                </a:lnTo>
                <a:lnTo>
                  <a:pt x="162" y="84"/>
                </a:lnTo>
                <a:lnTo>
                  <a:pt x="208" y="49"/>
                </a:lnTo>
                <a:lnTo>
                  <a:pt x="314" y="3"/>
                </a:lnTo>
                <a:lnTo>
                  <a:pt x="368" y="0"/>
                </a:lnTo>
                <a:lnTo>
                  <a:pt x="415" y="18"/>
                </a:lnTo>
                <a:lnTo>
                  <a:pt x="439" y="35"/>
                </a:lnTo>
                <a:lnTo>
                  <a:pt x="436" y="44"/>
                </a:lnTo>
                <a:lnTo>
                  <a:pt x="437" y="52"/>
                </a:lnTo>
                <a:lnTo>
                  <a:pt x="440" y="58"/>
                </a:lnTo>
                <a:lnTo>
                  <a:pt x="446" y="64"/>
                </a:lnTo>
                <a:lnTo>
                  <a:pt x="453" y="70"/>
                </a:lnTo>
                <a:lnTo>
                  <a:pt x="466" y="81"/>
                </a:lnTo>
                <a:lnTo>
                  <a:pt x="470" y="87"/>
                </a:lnTo>
                <a:lnTo>
                  <a:pt x="473" y="93"/>
                </a:lnTo>
                <a:lnTo>
                  <a:pt x="472" y="99"/>
                </a:lnTo>
                <a:lnTo>
                  <a:pt x="466" y="107"/>
                </a:lnTo>
                <a:lnTo>
                  <a:pt x="456" y="115"/>
                </a:lnTo>
                <a:lnTo>
                  <a:pt x="456" y="115"/>
                </a:lnTo>
                <a:lnTo>
                  <a:pt x="466" y="123"/>
                </a:lnTo>
                <a:lnTo>
                  <a:pt x="473" y="131"/>
                </a:lnTo>
                <a:lnTo>
                  <a:pt x="475" y="138"/>
                </a:lnTo>
                <a:lnTo>
                  <a:pt x="473" y="144"/>
                </a:lnTo>
                <a:lnTo>
                  <a:pt x="470" y="149"/>
                </a:lnTo>
                <a:lnTo>
                  <a:pt x="465" y="154"/>
                </a:lnTo>
                <a:lnTo>
                  <a:pt x="457" y="158"/>
                </a:lnTo>
                <a:lnTo>
                  <a:pt x="444" y="165"/>
                </a:lnTo>
                <a:lnTo>
                  <a:pt x="440" y="168"/>
                </a:lnTo>
                <a:lnTo>
                  <a:pt x="439" y="170"/>
                </a:lnTo>
                <a:lnTo>
                  <a:pt x="437" y="171"/>
                </a:lnTo>
                <a:lnTo>
                  <a:pt x="437" y="173"/>
                </a:lnTo>
                <a:lnTo>
                  <a:pt x="439" y="173"/>
                </a:lnTo>
                <a:lnTo>
                  <a:pt x="427" y="165"/>
                </a:lnTo>
                <a:lnTo>
                  <a:pt x="405" y="148"/>
                </a:lnTo>
                <a:lnTo>
                  <a:pt x="365" y="106"/>
                </a:lnTo>
                <a:lnTo>
                  <a:pt x="328" y="62"/>
                </a:lnTo>
                <a:lnTo>
                  <a:pt x="320" y="52"/>
                </a:lnTo>
                <a:lnTo>
                  <a:pt x="304" y="61"/>
                </a:lnTo>
                <a:lnTo>
                  <a:pt x="281" y="81"/>
                </a:lnTo>
                <a:lnTo>
                  <a:pt x="262" y="107"/>
                </a:lnTo>
                <a:lnTo>
                  <a:pt x="246" y="135"/>
                </a:lnTo>
                <a:lnTo>
                  <a:pt x="211" y="189"/>
                </a:lnTo>
                <a:lnTo>
                  <a:pt x="201" y="200"/>
                </a:lnTo>
                <a:lnTo>
                  <a:pt x="186" y="200"/>
                </a:lnTo>
                <a:lnTo>
                  <a:pt x="162" y="193"/>
                </a:lnTo>
                <a:lnTo>
                  <a:pt x="139" y="180"/>
                </a:lnTo>
                <a:lnTo>
                  <a:pt x="94" y="154"/>
                </a:lnTo>
                <a:lnTo>
                  <a:pt x="56" y="145"/>
                </a:lnTo>
                <a:lnTo>
                  <a:pt x="52" y="149"/>
                </a:lnTo>
                <a:lnTo>
                  <a:pt x="47" y="155"/>
                </a:lnTo>
                <a:lnTo>
                  <a:pt x="37" y="168"/>
                </a:lnTo>
                <a:lnTo>
                  <a:pt x="30" y="173"/>
                </a:lnTo>
                <a:lnTo>
                  <a:pt x="21" y="174"/>
                </a:lnTo>
                <a:lnTo>
                  <a:pt x="15" y="174"/>
                </a:lnTo>
                <a:lnTo>
                  <a:pt x="13" y="155"/>
                </a:lnTo>
                <a:lnTo>
                  <a:pt x="5" y="96"/>
                </a:lnTo>
                <a:lnTo>
                  <a:pt x="0" y="51"/>
                </a:lnTo>
                <a:lnTo>
                  <a:pt x="0" y="48"/>
                </a:lnTo>
                <a:lnTo>
                  <a:pt x="0" y="48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3502080"/>
            <a:ext cx="117360" cy="111240"/>
          </a:xfrm>
          <a:custGeom>
            <a:avLst/>
            <a:gdLst/>
            <a:ahLst/>
            <a:rect l="l" t="t" r="r" b="b"/>
            <a:pathLst>
              <a:path w="338" h="336">
                <a:moveTo>
                  <a:pt x="245" y="269"/>
                </a:moveTo>
                <a:lnTo>
                  <a:pt x="228" y="271"/>
                </a:lnTo>
                <a:lnTo>
                  <a:pt x="202" y="271"/>
                </a:lnTo>
                <a:lnTo>
                  <a:pt x="183" y="275"/>
                </a:lnTo>
                <a:lnTo>
                  <a:pt x="169" y="283"/>
                </a:lnTo>
                <a:lnTo>
                  <a:pt x="157" y="297"/>
                </a:lnTo>
                <a:lnTo>
                  <a:pt x="144" y="322"/>
                </a:lnTo>
                <a:lnTo>
                  <a:pt x="138" y="336"/>
                </a:lnTo>
                <a:lnTo>
                  <a:pt x="129" y="327"/>
                </a:lnTo>
                <a:lnTo>
                  <a:pt x="111" y="304"/>
                </a:lnTo>
                <a:lnTo>
                  <a:pt x="66" y="248"/>
                </a:lnTo>
                <a:lnTo>
                  <a:pt x="13" y="191"/>
                </a:lnTo>
                <a:lnTo>
                  <a:pt x="0" y="178"/>
                </a:lnTo>
                <a:lnTo>
                  <a:pt x="3" y="177"/>
                </a:lnTo>
                <a:lnTo>
                  <a:pt x="19" y="165"/>
                </a:lnTo>
                <a:lnTo>
                  <a:pt x="61" y="130"/>
                </a:lnTo>
                <a:lnTo>
                  <a:pt x="90" y="101"/>
                </a:lnTo>
                <a:lnTo>
                  <a:pt x="93" y="97"/>
                </a:lnTo>
                <a:lnTo>
                  <a:pt x="106" y="88"/>
                </a:lnTo>
                <a:lnTo>
                  <a:pt x="142" y="70"/>
                </a:lnTo>
                <a:lnTo>
                  <a:pt x="234" y="30"/>
                </a:lnTo>
                <a:lnTo>
                  <a:pt x="316" y="4"/>
                </a:lnTo>
                <a:lnTo>
                  <a:pt x="332" y="0"/>
                </a:lnTo>
                <a:lnTo>
                  <a:pt x="331" y="7"/>
                </a:lnTo>
                <a:lnTo>
                  <a:pt x="328" y="20"/>
                </a:lnTo>
                <a:lnTo>
                  <a:pt x="318" y="45"/>
                </a:lnTo>
                <a:lnTo>
                  <a:pt x="306" y="62"/>
                </a:lnTo>
                <a:lnTo>
                  <a:pt x="305" y="64"/>
                </a:lnTo>
                <a:lnTo>
                  <a:pt x="305" y="72"/>
                </a:lnTo>
                <a:lnTo>
                  <a:pt x="308" y="91"/>
                </a:lnTo>
                <a:lnTo>
                  <a:pt x="321" y="135"/>
                </a:lnTo>
                <a:lnTo>
                  <a:pt x="335" y="175"/>
                </a:lnTo>
                <a:lnTo>
                  <a:pt x="338" y="183"/>
                </a:lnTo>
                <a:lnTo>
                  <a:pt x="329" y="191"/>
                </a:lnTo>
                <a:lnTo>
                  <a:pt x="318" y="203"/>
                </a:lnTo>
                <a:lnTo>
                  <a:pt x="313" y="210"/>
                </a:lnTo>
                <a:lnTo>
                  <a:pt x="311" y="219"/>
                </a:lnTo>
                <a:lnTo>
                  <a:pt x="312" y="232"/>
                </a:lnTo>
                <a:lnTo>
                  <a:pt x="313" y="251"/>
                </a:lnTo>
                <a:lnTo>
                  <a:pt x="315" y="264"/>
                </a:lnTo>
                <a:lnTo>
                  <a:pt x="308" y="265"/>
                </a:lnTo>
                <a:lnTo>
                  <a:pt x="295" y="265"/>
                </a:lnTo>
                <a:lnTo>
                  <a:pt x="271" y="268"/>
                </a:lnTo>
                <a:lnTo>
                  <a:pt x="250" y="269"/>
                </a:lnTo>
                <a:lnTo>
                  <a:pt x="245" y="269"/>
                </a:lnTo>
                <a:lnTo>
                  <a:pt x="245" y="269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07120" y="3587760"/>
            <a:ext cx="92160" cy="61920"/>
          </a:xfrm>
          <a:custGeom>
            <a:avLst/>
            <a:gdLst/>
            <a:ahLst/>
            <a:rect l="l" t="t" r="r" b="b"/>
            <a:pathLst>
              <a:path w="270" h="188">
                <a:moveTo>
                  <a:pt x="178" y="0"/>
                </a:moveTo>
                <a:lnTo>
                  <a:pt x="168" y="1"/>
                </a:lnTo>
                <a:lnTo>
                  <a:pt x="148" y="1"/>
                </a:lnTo>
                <a:lnTo>
                  <a:pt x="107" y="5"/>
                </a:lnTo>
                <a:lnTo>
                  <a:pt x="68" y="5"/>
                </a:lnTo>
                <a:lnTo>
                  <a:pt x="59" y="4"/>
                </a:lnTo>
                <a:lnTo>
                  <a:pt x="49" y="4"/>
                </a:lnTo>
                <a:lnTo>
                  <a:pt x="41" y="7"/>
                </a:lnTo>
                <a:lnTo>
                  <a:pt x="35" y="10"/>
                </a:lnTo>
                <a:lnTo>
                  <a:pt x="28" y="16"/>
                </a:lnTo>
                <a:lnTo>
                  <a:pt x="23" y="21"/>
                </a:lnTo>
                <a:lnTo>
                  <a:pt x="15" y="36"/>
                </a:lnTo>
                <a:lnTo>
                  <a:pt x="9" y="52"/>
                </a:lnTo>
                <a:lnTo>
                  <a:pt x="3" y="68"/>
                </a:lnTo>
                <a:lnTo>
                  <a:pt x="0" y="74"/>
                </a:lnTo>
                <a:lnTo>
                  <a:pt x="3" y="76"/>
                </a:lnTo>
                <a:lnTo>
                  <a:pt x="15" y="85"/>
                </a:lnTo>
                <a:lnTo>
                  <a:pt x="49" y="103"/>
                </a:lnTo>
                <a:lnTo>
                  <a:pt x="81" y="116"/>
                </a:lnTo>
                <a:lnTo>
                  <a:pt x="87" y="116"/>
                </a:lnTo>
                <a:lnTo>
                  <a:pt x="87" y="105"/>
                </a:lnTo>
                <a:lnTo>
                  <a:pt x="88" y="91"/>
                </a:lnTo>
                <a:lnTo>
                  <a:pt x="90" y="87"/>
                </a:lnTo>
                <a:lnTo>
                  <a:pt x="91" y="85"/>
                </a:lnTo>
                <a:lnTo>
                  <a:pt x="93" y="84"/>
                </a:lnTo>
                <a:lnTo>
                  <a:pt x="94" y="84"/>
                </a:lnTo>
                <a:lnTo>
                  <a:pt x="97" y="85"/>
                </a:lnTo>
                <a:lnTo>
                  <a:pt x="99" y="87"/>
                </a:lnTo>
                <a:lnTo>
                  <a:pt x="100" y="90"/>
                </a:lnTo>
                <a:lnTo>
                  <a:pt x="103" y="94"/>
                </a:lnTo>
                <a:lnTo>
                  <a:pt x="109" y="104"/>
                </a:lnTo>
                <a:lnTo>
                  <a:pt x="112" y="107"/>
                </a:lnTo>
                <a:lnTo>
                  <a:pt x="120" y="107"/>
                </a:lnTo>
                <a:lnTo>
                  <a:pt x="146" y="107"/>
                </a:lnTo>
                <a:lnTo>
                  <a:pt x="167" y="107"/>
                </a:lnTo>
                <a:lnTo>
                  <a:pt x="168" y="107"/>
                </a:lnTo>
                <a:lnTo>
                  <a:pt x="168" y="120"/>
                </a:lnTo>
                <a:lnTo>
                  <a:pt x="171" y="136"/>
                </a:lnTo>
                <a:lnTo>
                  <a:pt x="175" y="140"/>
                </a:lnTo>
                <a:lnTo>
                  <a:pt x="181" y="143"/>
                </a:lnTo>
                <a:lnTo>
                  <a:pt x="186" y="147"/>
                </a:lnTo>
                <a:lnTo>
                  <a:pt x="188" y="161"/>
                </a:lnTo>
                <a:lnTo>
                  <a:pt x="190" y="172"/>
                </a:lnTo>
                <a:lnTo>
                  <a:pt x="193" y="175"/>
                </a:lnTo>
                <a:lnTo>
                  <a:pt x="201" y="179"/>
                </a:lnTo>
                <a:lnTo>
                  <a:pt x="225" y="185"/>
                </a:lnTo>
                <a:lnTo>
                  <a:pt x="252" y="188"/>
                </a:lnTo>
                <a:lnTo>
                  <a:pt x="259" y="188"/>
                </a:lnTo>
                <a:lnTo>
                  <a:pt x="264" y="176"/>
                </a:lnTo>
                <a:lnTo>
                  <a:pt x="270" y="156"/>
                </a:lnTo>
                <a:lnTo>
                  <a:pt x="270" y="139"/>
                </a:lnTo>
                <a:lnTo>
                  <a:pt x="265" y="121"/>
                </a:lnTo>
                <a:lnTo>
                  <a:pt x="257" y="78"/>
                </a:lnTo>
                <a:lnTo>
                  <a:pt x="257" y="63"/>
                </a:lnTo>
                <a:lnTo>
                  <a:pt x="249" y="58"/>
                </a:lnTo>
                <a:lnTo>
                  <a:pt x="236" y="46"/>
                </a:lnTo>
                <a:lnTo>
                  <a:pt x="209" y="24"/>
                </a:lnTo>
                <a:lnTo>
                  <a:pt x="183" y="4"/>
                </a:lnTo>
                <a:lnTo>
                  <a:pt x="178" y="0"/>
                </a:lnTo>
                <a:lnTo>
                  <a:pt x="178" y="0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40480" y="3289320"/>
            <a:ext cx="84240" cy="68400"/>
          </a:xfrm>
          <a:custGeom>
            <a:avLst/>
            <a:gdLst/>
            <a:ahLst/>
            <a:rect l="l" t="t" r="r" b="b"/>
            <a:pathLst>
              <a:path w="249" h="207">
                <a:moveTo>
                  <a:pt x="0" y="31"/>
                </a:moveTo>
                <a:lnTo>
                  <a:pt x="6" y="26"/>
                </a:lnTo>
                <a:lnTo>
                  <a:pt x="15" y="19"/>
                </a:lnTo>
                <a:lnTo>
                  <a:pt x="28" y="10"/>
                </a:lnTo>
                <a:lnTo>
                  <a:pt x="36" y="6"/>
                </a:lnTo>
                <a:lnTo>
                  <a:pt x="39" y="5"/>
                </a:lnTo>
                <a:lnTo>
                  <a:pt x="49" y="2"/>
                </a:lnTo>
                <a:lnTo>
                  <a:pt x="60" y="0"/>
                </a:lnTo>
                <a:lnTo>
                  <a:pt x="70" y="2"/>
                </a:lnTo>
                <a:lnTo>
                  <a:pt x="90" y="7"/>
                </a:lnTo>
                <a:lnTo>
                  <a:pt x="110" y="16"/>
                </a:lnTo>
                <a:lnTo>
                  <a:pt x="145" y="41"/>
                </a:lnTo>
                <a:lnTo>
                  <a:pt x="152" y="45"/>
                </a:lnTo>
                <a:lnTo>
                  <a:pt x="158" y="45"/>
                </a:lnTo>
                <a:lnTo>
                  <a:pt x="173" y="44"/>
                </a:lnTo>
                <a:lnTo>
                  <a:pt x="206" y="38"/>
                </a:lnTo>
                <a:lnTo>
                  <a:pt x="235" y="36"/>
                </a:lnTo>
                <a:lnTo>
                  <a:pt x="241" y="36"/>
                </a:lnTo>
                <a:lnTo>
                  <a:pt x="241" y="44"/>
                </a:lnTo>
                <a:lnTo>
                  <a:pt x="242" y="55"/>
                </a:lnTo>
                <a:lnTo>
                  <a:pt x="244" y="73"/>
                </a:lnTo>
                <a:lnTo>
                  <a:pt x="248" y="94"/>
                </a:lnTo>
                <a:lnTo>
                  <a:pt x="249" y="100"/>
                </a:lnTo>
                <a:lnTo>
                  <a:pt x="239" y="103"/>
                </a:lnTo>
                <a:lnTo>
                  <a:pt x="219" y="112"/>
                </a:lnTo>
                <a:lnTo>
                  <a:pt x="199" y="122"/>
                </a:lnTo>
                <a:lnTo>
                  <a:pt x="157" y="145"/>
                </a:lnTo>
                <a:lnTo>
                  <a:pt x="128" y="151"/>
                </a:lnTo>
                <a:lnTo>
                  <a:pt x="125" y="149"/>
                </a:lnTo>
                <a:lnTo>
                  <a:pt x="122" y="144"/>
                </a:lnTo>
                <a:lnTo>
                  <a:pt x="116" y="132"/>
                </a:lnTo>
                <a:lnTo>
                  <a:pt x="110" y="121"/>
                </a:lnTo>
                <a:lnTo>
                  <a:pt x="109" y="118"/>
                </a:lnTo>
                <a:lnTo>
                  <a:pt x="107" y="119"/>
                </a:lnTo>
                <a:lnTo>
                  <a:pt x="104" y="121"/>
                </a:lnTo>
                <a:lnTo>
                  <a:pt x="99" y="123"/>
                </a:lnTo>
                <a:lnTo>
                  <a:pt x="86" y="132"/>
                </a:lnTo>
                <a:lnTo>
                  <a:pt x="80" y="138"/>
                </a:lnTo>
                <a:lnTo>
                  <a:pt x="74" y="142"/>
                </a:lnTo>
                <a:lnTo>
                  <a:pt x="65" y="154"/>
                </a:lnTo>
                <a:lnTo>
                  <a:pt x="60" y="165"/>
                </a:lnTo>
                <a:lnTo>
                  <a:pt x="55" y="178"/>
                </a:lnTo>
                <a:lnTo>
                  <a:pt x="44" y="203"/>
                </a:lnTo>
                <a:lnTo>
                  <a:pt x="41" y="207"/>
                </a:lnTo>
                <a:lnTo>
                  <a:pt x="39" y="205"/>
                </a:lnTo>
                <a:lnTo>
                  <a:pt x="38" y="202"/>
                </a:lnTo>
                <a:lnTo>
                  <a:pt x="33" y="197"/>
                </a:lnTo>
                <a:lnTo>
                  <a:pt x="26" y="194"/>
                </a:lnTo>
                <a:lnTo>
                  <a:pt x="20" y="193"/>
                </a:lnTo>
                <a:lnTo>
                  <a:pt x="12" y="194"/>
                </a:lnTo>
                <a:lnTo>
                  <a:pt x="9" y="196"/>
                </a:lnTo>
                <a:lnTo>
                  <a:pt x="9" y="187"/>
                </a:lnTo>
                <a:lnTo>
                  <a:pt x="12" y="161"/>
                </a:lnTo>
                <a:lnTo>
                  <a:pt x="12" y="99"/>
                </a:lnTo>
                <a:lnTo>
                  <a:pt x="3" y="41"/>
                </a:lnTo>
                <a:lnTo>
                  <a:pt x="0" y="31"/>
                </a:lnTo>
                <a:lnTo>
                  <a:pt x="0" y="31"/>
                </a:lnTo>
                <a:close/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2440" y="3278160"/>
            <a:ext cx="341280" cy="115920"/>
          </a:xfrm>
          <a:custGeom>
            <a:avLst/>
            <a:gdLst/>
            <a:ahLst/>
            <a:rect l="l" t="t" r="r" b="b"/>
            <a:pathLst>
              <a:path w="988" h="346">
                <a:moveTo>
                  <a:pt x="956" y="209"/>
                </a:moveTo>
                <a:lnTo>
                  <a:pt x="950" y="204"/>
                </a:lnTo>
                <a:lnTo>
                  <a:pt x="946" y="201"/>
                </a:lnTo>
                <a:lnTo>
                  <a:pt x="943" y="200"/>
                </a:lnTo>
                <a:lnTo>
                  <a:pt x="942" y="200"/>
                </a:lnTo>
                <a:lnTo>
                  <a:pt x="940" y="201"/>
                </a:lnTo>
                <a:lnTo>
                  <a:pt x="939" y="204"/>
                </a:lnTo>
                <a:lnTo>
                  <a:pt x="939" y="207"/>
                </a:lnTo>
                <a:lnTo>
                  <a:pt x="937" y="216"/>
                </a:lnTo>
                <a:lnTo>
                  <a:pt x="933" y="225"/>
                </a:lnTo>
                <a:lnTo>
                  <a:pt x="930" y="227"/>
                </a:lnTo>
                <a:lnTo>
                  <a:pt x="926" y="229"/>
                </a:lnTo>
                <a:lnTo>
                  <a:pt x="919" y="230"/>
                </a:lnTo>
                <a:lnTo>
                  <a:pt x="894" y="233"/>
                </a:lnTo>
                <a:lnTo>
                  <a:pt x="830" y="236"/>
                </a:lnTo>
                <a:lnTo>
                  <a:pt x="798" y="214"/>
                </a:lnTo>
                <a:lnTo>
                  <a:pt x="806" y="214"/>
                </a:lnTo>
                <a:lnTo>
                  <a:pt x="814" y="211"/>
                </a:lnTo>
                <a:lnTo>
                  <a:pt x="839" y="206"/>
                </a:lnTo>
                <a:lnTo>
                  <a:pt x="894" y="190"/>
                </a:lnTo>
                <a:lnTo>
                  <a:pt x="917" y="178"/>
                </a:lnTo>
                <a:lnTo>
                  <a:pt x="914" y="172"/>
                </a:lnTo>
                <a:lnTo>
                  <a:pt x="910" y="165"/>
                </a:lnTo>
                <a:lnTo>
                  <a:pt x="904" y="158"/>
                </a:lnTo>
                <a:lnTo>
                  <a:pt x="888" y="143"/>
                </a:lnTo>
                <a:lnTo>
                  <a:pt x="855" y="114"/>
                </a:lnTo>
                <a:lnTo>
                  <a:pt x="852" y="98"/>
                </a:lnTo>
                <a:lnTo>
                  <a:pt x="856" y="93"/>
                </a:lnTo>
                <a:lnTo>
                  <a:pt x="868" y="84"/>
                </a:lnTo>
                <a:lnTo>
                  <a:pt x="878" y="77"/>
                </a:lnTo>
                <a:lnTo>
                  <a:pt x="890" y="74"/>
                </a:lnTo>
                <a:lnTo>
                  <a:pt x="900" y="72"/>
                </a:lnTo>
                <a:lnTo>
                  <a:pt x="910" y="75"/>
                </a:lnTo>
                <a:lnTo>
                  <a:pt x="916" y="77"/>
                </a:lnTo>
                <a:lnTo>
                  <a:pt x="917" y="77"/>
                </a:lnTo>
                <a:lnTo>
                  <a:pt x="920" y="74"/>
                </a:lnTo>
                <a:lnTo>
                  <a:pt x="924" y="71"/>
                </a:lnTo>
                <a:lnTo>
                  <a:pt x="935" y="61"/>
                </a:lnTo>
                <a:lnTo>
                  <a:pt x="948" y="52"/>
                </a:lnTo>
                <a:lnTo>
                  <a:pt x="953" y="51"/>
                </a:lnTo>
                <a:lnTo>
                  <a:pt x="959" y="49"/>
                </a:lnTo>
                <a:lnTo>
                  <a:pt x="965" y="52"/>
                </a:lnTo>
                <a:lnTo>
                  <a:pt x="971" y="58"/>
                </a:lnTo>
                <a:lnTo>
                  <a:pt x="975" y="67"/>
                </a:lnTo>
                <a:lnTo>
                  <a:pt x="977" y="67"/>
                </a:lnTo>
                <a:lnTo>
                  <a:pt x="979" y="78"/>
                </a:lnTo>
                <a:lnTo>
                  <a:pt x="985" y="97"/>
                </a:lnTo>
                <a:lnTo>
                  <a:pt x="988" y="138"/>
                </a:lnTo>
                <a:lnTo>
                  <a:pt x="984" y="206"/>
                </a:lnTo>
                <a:lnTo>
                  <a:pt x="982" y="230"/>
                </a:lnTo>
                <a:lnTo>
                  <a:pt x="978" y="229"/>
                </a:lnTo>
                <a:lnTo>
                  <a:pt x="971" y="225"/>
                </a:lnTo>
                <a:lnTo>
                  <a:pt x="961" y="217"/>
                </a:lnTo>
                <a:lnTo>
                  <a:pt x="958" y="214"/>
                </a:lnTo>
                <a:lnTo>
                  <a:pt x="956" y="211"/>
                </a:lnTo>
                <a:lnTo>
                  <a:pt x="956" y="209"/>
                </a:lnTo>
                <a:lnTo>
                  <a:pt x="956" y="209"/>
                </a:lnTo>
                <a:close/>
                <a:moveTo>
                  <a:pt x="535" y="319"/>
                </a:moveTo>
                <a:lnTo>
                  <a:pt x="533" y="313"/>
                </a:lnTo>
                <a:lnTo>
                  <a:pt x="532" y="309"/>
                </a:lnTo>
                <a:lnTo>
                  <a:pt x="530" y="300"/>
                </a:lnTo>
                <a:lnTo>
                  <a:pt x="530" y="293"/>
                </a:lnTo>
                <a:lnTo>
                  <a:pt x="532" y="290"/>
                </a:lnTo>
                <a:lnTo>
                  <a:pt x="535" y="288"/>
                </a:lnTo>
                <a:lnTo>
                  <a:pt x="539" y="290"/>
                </a:lnTo>
                <a:lnTo>
                  <a:pt x="543" y="291"/>
                </a:lnTo>
                <a:lnTo>
                  <a:pt x="545" y="291"/>
                </a:lnTo>
                <a:lnTo>
                  <a:pt x="577" y="297"/>
                </a:lnTo>
                <a:lnTo>
                  <a:pt x="625" y="301"/>
                </a:lnTo>
                <a:lnTo>
                  <a:pt x="652" y="303"/>
                </a:lnTo>
                <a:lnTo>
                  <a:pt x="659" y="303"/>
                </a:lnTo>
                <a:lnTo>
                  <a:pt x="662" y="304"/>
                </a:lnTo>
                <a:lnTo>
                  <a:pt x="664" y="307"/>
                </a:lnTo>
                <a:lnTo>
                  <a:pt x="662" y="310"/>
                </a:lnTo>
                <a:lnTo>
                  <a:pt x="659" y="313"/>
                </a:lnTo>
                <a:lnTo>
                  <a:pt x="655" y="322"/>
                </a:lnTo>
                <a:lnTo>
                  <a:pt x="640" y="345"/>
                </a:lnTo>
                <a:lnTo>
                  <a:pt x="640" y="345"/>
                </a:lnTo>
                <a:lnTo>
                  <a:pt x="629" y="346"/>
                </a:lnTo>
                <a:lnTo>
                  <a:pt x="604" y="346"/>
                </a:lnTo>
                <a:lnTo>
                  <a:pt x="561" y="345"/>
                </a:lnTo>
                <a:lnTo>
                  <a:pt x="545" y="339"/>
                </a:lnTo>
                <a:lnTo>
                  <a:pt x="539" y="335"/>
                </a:lnTo>
                <a:lnTo>
                  <a:pt x="535" y="327"/>
                </a:lnTo>
                <a:lnTo>
                  <a:pt x="535" y="319"/>
                </a:lnTo>
                <a:lnTo>
                  <a:pt x="535" y="319"/>
                </a:lnTo>
                <a:lnTo>
                  <a:pt x="535" y="319"/>
                </a:lnTo>
                <a:close/>
                <a:moveTo>
                  <a:pt x="361" y="3"/>
                </a:moveTo>
                <a:lnTo>
                  <a:pt x="372" y="17"/>
                </a:lnTo>
                <a:lnTo>
                  <a:pt x="390" y="30"/>
                </a:lnTo>
                <a:lnTo>
                  <a:pt x="396" y="32"/>
                </a:lnTo>
                <a:lnTo>
                  <a:pt x="400" y="30"/>
                </a:lnTo>
                <a:lnTo>
                  <a:pt x="404" y="27"/>
                </a:lnTo>
                <a:lnTo>
                  <a:pt x="410" y="23"/>
                </a:lnTo>
                <a:lnTo>
                  <a:pt x="426" y="13"/>
                </a:lnTo>
                <a:lnTo>
                  <a:pt x="452" y="4"/>
                </a:lnTo>
                <a:lnTo>
                  <a:pt x="471" y="3"/>
                </a:lnTo>
                <a:lnTo>
                  <a:pt x="483" y="9"/>
                </a:lnTo>
                <a:lnTo>
                  <a:pt x="506" y="20"/>
                </a:lnTo>
                <a:lnTo>
                  <a:pt x="542" y="48"/>
                </a:lnTo>
                <a:lnTo>
                  <a:pt x="582" y="68"/>
                </a:lnTo>
                <a:lnTo>
                  <a:pt x="596" y="69"/>
                </a:lnTo>
                <a:lnTo>
                  <a:pt x="610" y="72"/>
                </a:lnTo>
                <a:lnTo>
                  <a:pt x="643" y="74"/>
                </a:lnTo>
                <a:lnTo>
                  <a:pt x="719" y="80"/>
                </a:lnTo>
                <a:lnTo>
                  <a:pt x="752" y="87"/>
                </a:lnTo>
                <a:lnTo>
                  <a:pt x="780" y="100"/>
                </a:lnTo>
                <a:lnTo>
                  <a:pt x="791" y="107"/>
                </a:lnTo>
                <a:lnTo>
                  <a:pt x="780" y="109"/>
                </a:lnTo>
                <a:lnTo>
                  <a:pt x="759" y="111"/>
                </a:lnTo>
                <a:lnTo>
                  <a:pt x="742" y="119"/>
                </a:lnTo>
                <a:lnTo>
                  <a:pt x="710" y="139"/>
                </a:lnTo>
                <a:lnTo>
                  <a:pt x="690" y="158"/>
                </a:lnTo>
                <a:lnTo>
                  <a:pt x="684" y="158"/>
                </a:lnTo>
                <a:lnTo>
                  <a:pt x="672" y="158"/>
                </a:lnTo>
                <a:lnTo>
                  <a:pt x="648" y="154"/>
                </a:lnTo>
                <a:lnTo>
                  <a:pt x="627" y="151"/>
                </a:lnTo>
                <a:lnTo>
                  <a:pt x="626" y="149"/>
                </a:lnTo>
                <a:lnTo>
                  <a:pt x="613" y="156"/>
                </a:lnTo>
                <a:lnTo>
                  <a:pt x="587" y="168"/>
                </a:lnTo>
                <a:lnTo>
                  <a:pt x="559" y="174"/>
                </a:lnTo>
                <a:lnTo>
                  <a:pt x="538" y="175"/>
                </a:lnTo>
                <a:lnTo>
                  <a:pt x="535" y="174"/>
                </a:lnTo>
                <a:lnTo>
                  <a:pt x="532" y="172"/>
                </a:lnTo>
                <a:lnTo>
                  <a:pt x="530" y="171"/>
                </a:lnTo>
                <a:lnTo>
                  <a:pt x="530" y="169"/>
                </a:lnTo>
                <a:lnTo>
                  <a:pt x="530" y="168"/>
                </a:lnTo>
                <a:lnTo>
                  <a:pt x="532" y="165"/>
                </a:lnTo>
                <a:lnTo>
                  <a:pt x="533" y="164"/>
                </a:lnTo>
                <a:lnTo>
                  <a:pt x="536" y="159"/>
                </a:lnTo>
                <a:lnTo>
                  <a:pt x="548" y="149"/>
                </a:lnTo>
                <a:lnTo>
                  <a:pt x="561" y="139"/>
                </a:lnTo>
                <a:lnTo>
                  <a:pt x="549" y="136"/>
                </a:lnTo>
                <a:lnTo>
                  <a:pt x="523" y="130"/>
                </a:lnTo>
                <a:lnTo>
                  <a:pt x="474" y="119"/>
                </a:lnTo>
                <a:lnTo>
                  <a:pt x="451" y="107"/>
                </a:lnTo>
                <a:lnTo>
                  <a:pt x="433" y="90"/>
                </a:lnTo>
                <a:lnTo>
                  <a:pt x="426" y="77"/>
                </a:lnTo>
                <a:lnTo>
                  <a:pt x="409" y="91"/>
                </a:lnTo>
                <a:lnTo>
                  <a:pt x="391" y="98"/>
                </a:lnTo>
                <a:lnTo>
                  <a:pt x="374" y="103"/>
                </a:lnTo>
                <a:lnTo>
                  <a:pt x="355" y="103"/>
                </a:lnTo>
                <a:lnTo>
                  <a:pt x="316" y="97"/>
                </a:lnTo>
                <a:lnTo>
                  <a:pt x="278" y="88"/>
                </a:lnTo>
                <a:lnTo>
                  <a:pt x="242" y="83"/>
                </a:lnTo>
                <a:lnTo>
                  <a:pt x="209" y="88"/>
                </a:lnTo>
                <a:lnTo>
                  <a:pt x="209" y="88"/>
                </a:lnTo>
                <a:lnTo>
                  <a:pt x="206" y="88"/>
                </a:lnTo>
                <a:lnTo>
                  <a:pt x="204" y="87"/>
                </a:lnTo>
                <a:lnTo>
                  <a:pt x="203" y="85"/>
                </a:lnTo>
                <a:lnTo>
                  <a:pt x="201" y="83"/>
                </a:lnTo>
                <a:lnTo>
                  <a:pt x="197" y="77"/>
                </a:lnTo>
                <a:lnTo>
                  <a:pt x="180" y="64"/>
                </a:lnTo>
                <a:lnTo>
                  <a:pt x="165" y="56"/>
                </a:lnTo>
                <a:lnTo>
                  <a:pt x="158" y="58"/>
                </a:lnTo>
                <a:lnTo>
                  <a:pt x="149" y="59"/>
                </a:lnTo>
                <a:lnTo>
                  <a:pt x="133" y="67"/>
                </a:lnTo>
                <a:lnTo>
                  <a:pt x="119" y="78"/>
                </a:lnTo>
                <a:lnTo>
                  <a:pt x="107" y="94"/>
                </a:lnTo>
                <a:lnTo>
                  <a:pt x="101" y="113"/>
                </a:lnTo>
                <a:lnTo>
                  <a:pt x="103" y="133"/>
                </a:lnTo>
                <a:lnTo>
                  <a:pt x="104" y="133"/>
                </a:lnTo>
                <a:lnTo>
                  <a:pt x="86" y="136"/>
                </a:lnTo>
                <a:lnTo>
                  <a:pt x="58" y="142"/>
                </a:lnTo>
                <a:lnTo>
                  <a:pt x="42" y="152"/>
                </a:lnTo>
                <a:lnTo>
                  <a:pt x="35" y="162"/>
                </a:lnTo>
                <a:lnTo>
                  <a:pt x="29" y="171"/>
                </a:lnTo>
                <a:lnTo>
                  <a:pt x="28" y="174"/>
                </a:lnTo>
                <a:lnTo>
                  <a:pt x="25" y="177"/>
                </a:lnTo>
                <a:lnTo>
                  <a:pt x="22" y="177"/>
                </a:lnTo>
                <a:lnTo>
                  <a:pt x="22" y="177"/>
                </a:lnTo>
                <a:lnTo>
                  <a:pt x="16" y="174"/>
                </a:lnTo>
                <a:lnTo>
                  <a:pt x="4" y="161"/>
                </a:lnTo>
                <a:lnTo>
                  <a:pt x="0" y="151"/>
                </a:lnTo>
                <a:lnTo>
                  <a:pt x="2" y="139"/>
                </a:lnTo>
                <a:lnTo>
                  <a:pt x="6" y="132"/>
                </a:lnTo>
                <a:lnTo>
                  <a:pt x="35" y="103"/>
                </a:lnTo>
                <a:lnTo>
                  <a:pt x="88" y="55"/>
                </a:lnTo>
                <a:lnTo>
                  <a:pt x="188" y="6"/>
                </a:lnTo>
                <a:lnTo>
                  <a:pt x="317" y="0"/>
                </a:lnTo>
                <a:lnTo>
                  <a:pt x="361" y="3"/>
                </a:lnTo>
                <a:lnTo>
                  <a:pt x="361" y="3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78560" y="3295800"/>
            <a:ext cx="65160" cy="60120"/>
          </a:xfrm>
          <a:custGeom>
            <a:avLst/>
            <a:gdLst/>
            <a:ahLst/>
            <a:rect l="l" t="t" r="r" b="b"/>
            <a:pathLst>
              <a:path w="190" h="187">
                <a:moveTo>
                  <a:pt x="158" y="160"/>
                </a:moveTo>
                <a:lnTo>
                  <a:pt x="152" y="155"/>
                </a:lnTo>
                <a:lnTo>
                  <a:pt x="148" y="152"/>
                </a:lnTo>
                <a:lnTo>
                  <a:pt x="145" y="151"/>
                </a:lnTo>
                <a:lnTo>
                  <a:pt x="144" y="151"/>
                </a:lnTo>
                <a:lnTo>
                  <a:pt x="142" y="152"/>
                </a:lnTo>
                <a:lnTo>
                  <a:pt x="141" y="155"/>
                </a:lnTo>
                <a:lnTo>
                  <a:pt x="141" y="158"/>
                </a:lnTo>
                <a:lnTo>
                  <a:pt x="139" y="167"/>
                </a:lnTo>
                <a:lnTo>
                  <a:pt x="135" y="176"/>
                </a:lnTo>
                <a:lnTo>
                  <a:pt x="132" y="178"/>
                </a:lnTo>
                <a:lnTo>
                  <a:pt x="128" y="180"/>
                </a:lnTo>
                <a:lnTo>
                  <a:pt x="121" y="181"/>
                </a:lnTo>
                <a:lnTo>
                  <a:pt x="96" y="184"/>
                </a:lnTo>
                <a:lnTo>
                  <a:pt x="32" y="187"/>
                </a:lnTo>
                <a:lnTo>
                  <a:pt x="0" y="165"/>
                </a:lnTo>
                <a:lnTo>
                  <a:pt x="8" y="165"/>
                </a:lnTo>
                <a:lnTo>
                  <a:pt x="16" y="162"/>
                </a:lnTo>
                <a:lnTo>
                  <a:pt x="41" y="157"/>
                </a:lnTo>
                <a:lnTo>
                  <a:pt x="96" y="141"/>
                </a:lnTo>
                <a:lnTo>
                  <a:pt x="119" y="129"/>
                </a:lnTo>
                <a:lnTo>
                  <a:pt x="116" y="123"/>
                </a:lnTo>
                <a:lnTo>
                  <a:pt x="112" y="116"/>
                </a:lnTo>
                <a:lnTo>
                  <a:pt x="106" y="109"/>
                </a:lnTo>
                <a:lnTo>
                  <a:pt x="90" y="94"/>
                </a:lnTo>
                <a:lnTo>
                  <a:pt x="57" y="65"/>
                </a:lnTo>
                <a:lnTo>
                  <a:pt x="54" y="49"/>
                </a:lnTo>
                <a:lnTo>
                  <a:pt x="58" y="44"/>
                </a:lnTo>
                <a:lnTo>
                  <a:pt x="70" y="35"/>
                </a:lnTo>
                <a:lnTo>
                  <a:pt x="80" y="28"/>
                </a:lnTo>
                <a:lnTo>
                  <a:pt x="92" y="25"/>
                </a:lnTo>
                <a:lnTo>
                  <a:pt x="102" y="23"/>
                </a:lnTo>
                <a:lnTo>
                  <a:pt x="112" y="26"/>
                </a:lnTo>
                <a:lnTo>
                  <a:pt x="118" y="28"/>
                </a:lnTo>
                <a:lnTo>
                  <a:pt x="119" y="28"/>
                </a:lnTo>
                <a:lnTo>
                  <a:pt x="122" y="25"/>
                </a:lnTo>
                <a:lnTo>
                  <a:pt x="126" y="22"/>
                </a:lnTo>
                <a:lnTo>
                  <a:pt x="137" y="12"/>
                </a:lnTo>
                <a:lnTo>
                  <a:pt x="150" y="3"/>
                </a:lnTo>
                <a:lnTo>
                  <a:pt x="155" y="2"/>
                </a:lnTo>
                <a:lnTo>
                  <a:pt x="161" y="0"/>
                </a:lnTo>
                <a:lnTo>
                  <a:pt x="167" y="3"/>
                </a:lnTo>
                <a:lnTo>
                  <a:pt x="173" y="9"/>
                </a:lnTo>
                <a:lnTo>
                  <a:pt x="177" y="18"/>
                </a:lnTo>
                <a:lnTo>
                  <a:pt x="179" y="18"/>
                </a:lnTo>
                <a:lnTo>
                  <a:pt x="181" y="29"/>
                </a:lnTo>
                <a:lnTo>
                  <a:pt x="187" y="48"/>
                </a:lnTo>
                <a:lnTo>
                  <a:pt x="190" y="89"/>
                </a:lnTo>
                <a:lnTo>
                  <a:pt x="186" y="157"/>
                </a:lnTo>
                <a:lnTo>
                  <a:pt x="184" y="181"/>
                </a:lnTo>
                <a:lnTo>
                  <a:pt x="180" y="180"/>
                </a:lnTo>
                <a:lnTo>
                  <a:pt x="173" y="176"/>
                </a:lnTo>
                <a:lnTo>
                  <a:pt x="163" y="168"/>
                </a:lnTo>
                <a:lnTo>
                  <a:pt x="160" y="165"/>
                </a:lnTo>
                <a:lnTo>
                  <a:pt x="158" y="162"/>
                </a:lnTo>
                <a:lnTo>
                  <a:pt x="158" y="160"/>
                </a:lnTo>
                <a:lnTo>
                  <a:pt x="158" y="160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86760" y="3373560"/>
            <a:ext cx="46080" cy="20520"/>
          </a:xfrm>
          <a:custGeom>
            <a:avLst/>
            <a:gdLst/>
            <a:ahLst/>
            <a:rect l="l" t="t" r="r" b="b"/>
            <a:pathLst>
              <a:path w="134" h="58">
                <a:moveTo>
                  <a:pt x="5" y="31"/>
                </a:moveTo>
                <a:lnTo>
                  <a:pt x="3" y="25"/>
                </a:lnTo>
                <a:lnTo>
                  <a:pt x="2" y="21"/>
                </a:lnTo>
                <a:lnTo>
                  <a:pt x="0" y="12"/>
                </a:lnTo>
                <a:lnTo>
                  <a:pt x="0" y="5"/>
                </a:lnTo>
                <a:lnTo>
                  <a:pt x="2" y="2"/>
                </a:lnTo>
                <a:lnTo>
                  <a:pt x="5" y="0"/>
                </a:lnTo>
                <a:lnTo>
                  <a:pt x="9" y="2"/>
                </a:lnTo>
                <a:lnTo>
                  <a:pt x="13" y="3"/>
                </a:lnTo>
                <a:lnTo>
                  <a:pt x="15" y="3"/>
                </a:lnTo>
                <a:lnTo>
                  <a:pt x="47" y="9"/>
                </a:lnTo>
                <a:lnTo>
                  <a:pt x="95" y="13"/>
                </a:lnTo>
                <a:lnTo>
                  <a:pt x="122" y="15"/>
                </a:lnTo>
                <a:lnTo>
                  <a:pt x="129" y="15"/>
                </a:lnTo>
                <a:lnTo>
                  <a:pt x="132" y="16"/>
                </a:lnTo>
                <a:lnTo>
                  <a:pt x="134" y="19"/>
                </a:lnTo>
                <a:lnTo>
                  <a:pt x="132" y="22"/>
                </a:lnTo>
                <a:lnTo>
                  <a:pt x="129" y="25"/>
                </a:lnTo>
                <a:lnTo>
                  <a:pt x="125" y="34"/>
                </a:lnTo>
                <a:lnTo>
                  <a:pt x="110" y="57"/>
                </a:lnTo>
                <a:lnTo>
                  <a:pt x="110" y="57"/>
                </a:lnTo>
                <a:lnTo>
                  <a:pt x="99" y="58"/>
                </a:lnTo>
                <a:lnTo>
                  <a:pt x="74" y="58"/>
                </a:lnTo>
                <a:lnTo>
                  <a:pt x="31" y="57"/>
                </a:lnTo>
                <a:lnTo>
                  <a:pt x="15" y="51"/>
                </a:lnTo>
                <a:lnTo>
                  <a:pt x="9" y="47"/>
                </a:lnTo>
                <a:lnTo>
                  <a:pt x="5" y="39"/>
                </a:lnTo>
                <a:lnTo>
                  <a:pt x="5" y="31"/>
                </a:lnTo>
                <a:lnTo>
                  <a:pt x="5" y="31"/>
                </a:lnTo>
                <a:lnTo>
                  <a:pt x="5" y="31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02440" y="3278160"/>
            <a:ext cx="273240" cy="58680"/>
          </a:xfrm>
          <a:custGeom>
            <a:avLst/>
            <a:gdLst/>
            <a:ahLst/>
            <a:rect l="l" t="t" r="r" b="b"/>
            <a:pathLst>
              <a:path w="791" h="177">
                <a:moveTo>
                  <a:pt x="361" y="3"/>
                </a:moveTo>
                <a:lnTo>
                  <a:pt x="372" y="17"/>
                </a:lnTo>
                <a:lnTo>
                  <a:pt x="390" y="30"/>
                </a:lnTo>
                <a:lnTo>
                  <a:pt x="396" y="32"/>
                </a:lnTo>
                <a:lnTo>
                  <a:pt x="400" y="30"/>
                </a:lnTo>
                <a:lnTo>
                  <a:pt x="404" y="27"/>
                </a:lnTo>
                <a:lnTo>
                  <a:pt x="410" y="23"/>
                </a:lnTo>
                <a:lnTo>
                  <a:pt x="426" y="13"/>
                </a:lnTo>
                <a:lnTo>
                  <a:pt x="452" y="4"/>
                </a:lnTo>
                <a:lnTo>
                  <a:pt x="471" y="3"/>
                </a:lnTo>
                <a:lnTo>
                  <a:pt x="483" y="9"/>
                </a:lnTo>
                <a:lnTo>
                  <a:pt x="506" y="20"/>
                </a:lnTo>
                <a:lnTo>
                  <a:pt x="542" y="48"/>
                </a:lnTo>
                <a:lnTo>
                  <a:pt x="582" y="68"/>
                </a:lnTo>
                <a:lnTo>
                  <a:pt x="596" y="69"/>
                </a:lnTo>
                <a:lnTo>
                  <a:pt x="610" y="72"/>
                </a:lnTo>
                <a:lnTo>
                  <a:pt x="643" y="74"/>
                </a:lnTo>
                <a:lnTo>
                  <a:pt x="719" y="80"/>
                </a:lnTo>
                <a:lnTo>
                  <a:pt x="752" y="87"/>
                </a:lnTo>
                <a:lnTo>
                  <a:pt x="780" y="100"/>
                </a:lnTo>
                <a:lnTo>
                  <a:pt x="791" y="107"/>
                </a:lnTo>
                <a:lnTo>
                  <a:pt x="780" y="109"/>
                </a:lnTo>
                <a:lnTo>
                  <a:pt x="759" y="111"/>
                </a:lnTo>
                <a:lnTo>
                  <a:pt x="742" y="119"/>
                </a:lnTo>
                <a:lnTo>
                  <a:pt x="710" y="139"/>
                </a:lnTo>
                <a:lnTo>
                  <a:pt x="690" y="158"/>
                </a:lnTo>
                <a:lnTo>
                  <a:pt x="684" y="158"/>
                </a:lnTo>
                <a:lnTo>
                  <a:pt x="672" y="158"/>
                </a:lnTo>
                <a:lnTo>
                  <a:pt x="648" y="154"/>
                </a:lnTo>
                <a:lnTo>
                  <a:pt x="627" y="151"/>
                </a:lnTo>
                <a:lnTo>
                  <a:pt x="626" y="149"/>
                </a:lnTo>
                <a:lnTo>
                  <a:pt x="613" y="156"/>
                </a:lnTo>
                <a:lnTo>
                  <a:pt x="587" y="168"/>
                </a:lnTo>
                <a:lnTo>
                  <a:pt x="559" y="174"/>
                </a:lnTo>
                <a:lnTo>
                  <a:pt x="538" y="175"/>
                </a:lnTo>
                <a:lnTo>
                  <a:pt x="535" y="174"/>
                </a:lnTo>
                <a:lnTo>
                  <a:pt x="532" y="172"/>
                </a:lnTo>
                <a:lnTo>
                  <a:pt x="530" y="171"/>
                </a:lnTo>
                <a:lnTo>
                  <a:pt x="530" y="169"/>
                </a:lnTo>
                <a:lnTo>
                  <a:pt x="530" y="168"/>
                </a:lnTo>
                <a:lnTo>
                  <a:pt x="532" y="165"/>
                </a:lnTo>
                <a:lnTo>
                  <a:pt x="533" y="164"/>
                </a:lnTo>
                <a:lnTo>
                  <a:pt x="536" y="159"/>
                </a:lnTo>
                <a:lnTo>
                  <a:pt x="548" y="149"/>
                </a:lnTo>
                <a:lnTo>
                  <a:pt x="561" y="139"/>
                </a:lnTo>
                <a:lnTo>
                  <a:pt x="549" y="136"/>
                </a:lnTo>
                <a:lnTo>
                  <a:pt x="523" y="130"/>
                </a:lnTo>
                <a:lnTo>
                  <a:pt x="474" y="119"/>
                </a:lnTo>
                <a:lnTo>
                  <a:pt x="451" y="107"/>
                </a:lnTo>
                <a:lnTo>
                  <a:pt x="433" y="90"/>
                </a:lnTo>
                <a:lnTo>
                  <a:pt x="426" y="77"/>
                </a:lnTo>
                <a:lnTo>
                  <a:pt x="409" y="91"/>
                </a:lnTo>
                <a:lnTo>
                  <a:pt x="391" y="98"/>
                </a:lnTo>
                <a:lnTo>
                  <a:pt x="374" y="103"/>
                </a:lnTo>
                <a:lnTo>
                  <a:pt x="355" y="103"/>
                </a:lnTo>
                <a:lnTo>
                  <a:pt x="316" y="97"/>
                </a:lnTo>
                <a:lnTo>
                  <a:pt x="278" y="88"/>
                </a:lnTo>
                <a:lnTo>
                  <a:pt x="242" y="83"/>
                </a:lnTo>
                <a:lnTo>
                  <a:pt x="209" y="88"/>
                </a:lnTo>
                <a:lnTo>
                  <a:pt x="209" y="88"/>
                </a:lnTo>
                <a:lnTo>
                  <a:pt x="206" y="88"/>
                </a:lnTo>
                <a:lnTo>
                  <a:pt x="204" y="87"/>
                </a:lnTo>
                <a:lnTo>
                  <a:pt x="203" y="85"/>
                </a:lnTo>
                <a:lnTo>
                  <a:pt x="201" y="83"/>
                </a:lnTo>
                <a:lnTo>
                  <a:pt x="197" y="77"/>
                </a:lnTo>
                <a:lnTo>
                  <a:pt x="180" y="64"/>
                </a:lnTo>
                <a:lnTo>
                  <a:pt x="165" y="56"/>
                </a:lnTo>
                <a:lnTo>
                  <a:pt x="158" y="58"/>
                </a:lnTo>
                <a:lnTo>
                  <a:pt x="149" y="59"/>
                </a:lnTo>
                <a:lnTo>
                  <a:pt x="133" y="67"/>
                </a:lnTo>
                <a:lnTo>
                  <a:pt x="119" y="78"/>
                </a:lnTo>
                <a:lnTo>
                  <a:pt x="107" y="94"/>
                </a:lnTo>
                <a:lnTo>
                  <a:pt x="101" y="113"/>
                </a:lnTo>
                <a:lnTo>
                  <a:pt x="103" y="133"/>
                </a:lnTo>
                <a:lnTo>
                  <a:pt x="104" y="133"/>
                </a:lnTo>
                <a:lnTo>
                  <a:pt x="86" y="136"/>
                </a:lnTo>
                <a:lnTo>
                  <a:pt x="58" y="142"/>
                </a:lnTo>
                <a:lnTo>
                  <a:pt x="42" y="152"/>
                </a:lnTo>
                <a:lnTo>
                  <a:pt x="35" y="162"/>
                </a:lnTo>
                <a:lnTo>
                  <a:pt x="29" y="171"/>
                </a:lnTo>
                <a:lnTo>
                  <a:pt x="28" y="174"/>
                </a:lnTo>
                <a:lnTo>
                  <a:pt x="25" y="177"/>
                </a:lnTo>
                <a:lnTo>
                  <a:pt x="22" y="177"/>
                </a:lnTo>
                <a:lnTo>
                  <a:pt x="22" y="177"/>
                </a:lnTo>
                <a:lnTo>
                  <a:pt x="16" y="174"/>
                </a:lnTo>
                <a:lnTo>
                  <a:pt x="4" y="161"/>
                </a:lnTo>
                <a:lnTo>
                  <a:pt x="0" y="151"/>
                </a:lnTo>
                <a:lnTo>
                  <a:pt x="2" y="139"/>
                </a:lnTo>
                <a:lnTo>
                  <a:pt x="6" y="132"/>
                </a:lnTo>
                <a:lnTo>
                  <a:pt x="35" y="103"/>
                </a:lnTo>
                <a:lnTo>
                  <a:pt x="88" y="55"/>
                </a:lnTo>
                <a:lnTo>
                  <a:pt x="188" y="6"/>
                </a:lnTo>
                <a:lnTo>
                  <a:pt x="317" y="0"/>
                </a:lnTo>
                <a:lnTo>
                  <a:pt x="361" y="3"/>
                </a:lnTo>
                <a:lnTo>
                  <a:pt x="361" y="3"/>
                </a:lnTo>
              </a:path>
            </a:pathLst>
          </a:custGeom>
          <a:noFill/>
          <a:ln w="7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62960" y="5121360"/>
            <a:ext cx="17280" cy="38160"/>
          </a:xfrm>
          <a:custGeom>
            <a:avLst/>
            <a:gdLst/>
            <a:ahLst/>
            <a:rect l="l" t="t" r="r" b="b"/>
            <a:pathLst>
              <a:path w="57" h="115">
                <a:moveTo>
                  <a:pt x="57" y="0"/>
                </a:moveTo>
                <a:lnTo>
                  <a:pt x="56" y="2"/>
                </a:lnTo>
                <a:lnTo>
                  <a:pt x="53" y="3"/>
                </a:lnTo>
                <a:lnTo>
                  <a:pt x="40" y="9"/>
                </a:lnTo>
                <a:lnTo>
                  <a:pt x="30" y="13"/>
                </a:lnTo>
                <a:lnTo>
                  <a:pt x="30" y="13"/>
                </a:lnTo>
                <a:lnTo>
                  <a:pt x="28" y="15"/>
                </a:lnTo>
                <a:lnTo>
                  <a:pt x="24" y="25"/>
                </a:lnTo>
                <a:lnTo>
                  <a:pt x="10" y="60"/>
                </a:lnTo>
                <a:lnTo>
                  <a:pt x="0" y="86"/>
                </a:lnTo>
                <a:lnTo>
                  <a:pt x="0" y="86"/>
                </a:lnTo>
                <a:lnTo>
                  <a:pt x="4" y="91"/>
                </a:lnTo>
                <a:lnTo>
                  <a:pt x="18" y="104"/>
                </a:lnTo>
                <a:lnTo>
                  <a:pt x="28" y="115"/>
                </a:lnTo>
                <a:lnTo>
                  <a:pt x="30" y="115"/>
                </a:lnTo>
                <a:lnTo>
                  <a:pt x="31" y="113"/>
                </a:lnTo>
                <a:lnTo>
                  <a:pt x="39" y="106"/>
                </a:lnTo>
                <a:lnTo>
                  <a:pt x="43" y="102"/>
                </a:lnTo>
                <a:lnTo>
                  <a:pt x="44" y="100"/>
                </a:lnTo>
                <a:lnTo>
                  <a:pt x="44" y="97"/>
                </a:lnTo>
                <a:lnTo>
                  <a:pt x="43" y="84"/>
                </a:lnTo>
                <a:lnTo>
                  <a:pt x="43" y="74"/>
                </a:lnTo>
                <a:lnTo>
                  <a:pt x="44" y="73"/>
                </a:lnTo>
                <a:lnTo>
                  <a:pt x="46" y="67"/>
                </a:lnTo>
                <a:lnTo>
                  <a:pt x="52" y="45"/>
                </a:lnTo>
                <a:lnTo>
                  <a:pt x="56" y="29"/>
                </a:lnTo>
                <a:lnTo>
                  <a:pt x="57" y="28"/>
                </a:lnTo>
                <a:lnTo>
                  <a:pt x="56" y="28"/>
                </a:lnTo>
                <a:lnTo>
                  <a:pt x="57" y="28"/>
                </a:lnTo>
                <a:lnTo>
                  <a:pt x="56" y="28"/>
                </a:lnTo>
                <a:lnTo>
                  <a:pt x="57" y="28"/>
                </a:lnTo>
                <a:lnTo>
                  <a:pt x="57" y="25"/>
                </a:lnTo>
                <a:lnTo>
                  <a:pt x="56" y="12"/>
                </a:lnTo>
                <a:lnTo>
                  <a:pt x="56" y="2"/>
                </a:lnTo>
                <a:lnTo>
                  <a:pt x="57" y="0"/>
                </a:lnTo>
                <a:lnTo>
                  <a:pt x="57" y="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78800" y="5124600"/>
            <a:ext cx="22320" cy="28440"/>
          </a:xfrm>
          <a:custGeom>
            <a:avLst/>
            <a:gdLst/>
            <a:ahLst/>
            <a:rect l="l" t="t" r="r" b="b"/>
            <a:pathLst>
              <a:path w="58" h="87">
                <a:moveTo>
                  <a:pt x="16" y="15"/>
                </a:moveTo>
                <a:lnTo>
                  <a:pt x="13" y="22"/>
                </a:lnTo>
                <a:lnTo>
                  <a:pt x="6" y="44"/>
                </a:lnTo>
                <a:lnTo>
                  <a:pt x="1" y="60"/>
                </a:lnTo>
                <a:lnTo>
                  <a:pt x="1" y="60"/>
                </a:lnTo>
                <a:lnTo>
                  <a:pt x="1" y="64"/>
                </a:lnTo>
                <a:lnTo>
                  <a:pt x="0" y="77"/>
                </a:lnTo>
                <a:lnTo>
                  <a:pt x="0" y="87"/>
                </a:lnTo>
                <a:lnTo>
                  <a:pt x="1" y="87"/>
                </a:lnTo>
                <a:lnTo>
                  <a:pt x="6" y="86"/>
                </a:lnTo>
                <a:lnTo>
                  <a:pt x="19" y="78"/>
                </a:lnTo>
                <a:lnTo>
                  <a:pt x="29" y="74"/>
                </a:lnTo>
                <a:lnTo>
                  <a:pt x="30" y="73"/>
                </a:lnTo>
                <a:lnTo>
                  <a:pt x="30" y="68"/>
                </a:lnTo>
                <a:lnTo>
                  <a:pt x="29" y="55"/>
                </a:lnTo>
                <a:lnTo>
                  <a:pt x="29" y="45"/>
                </a:lnTo>
                <a:lnTo>
                  <a:pt x="30" y="44"/>
                </a:lnTo>
                <a:lnTo>
                  <a:pt x="33" y="42"/>
                </a:lnTo>
                <a:lnTo>
                  <a:pt x="46" y="36"/>
                </a:lnTo>
                <a:lnTo>
                  <a:pt x="57" y="32"/>
                </a:lnTo>
                <a:lnTo>
                  <a:pt x="58" y="31"/>
                </a:lnTo>
                <a:lnTo>
                  <a:pt x="58" y="29"/>
                </a:lnTo>
                <a:lnTo>
                  <a:pt x="57" y="22"/>
                </a:lnTo>
                <a:lnTo>
                  <a:pt x="57" y="16"/>
                </a:lnTo>
                <a:lnTo>
                  <a:pt x="58" y="15"/>
                </a:lnTo>
                <a:lnTo>
                  <a:pt x="54" y="13"/>
                </a:lnTo>
                <a:lnTo>
                  <a:pt x="41" y="6"/>
                </a:lnTo>
                <a:lnTo>
                  <a:pt x="30" y="2"/>
                </a:lnTo>
                <a:lnTo>
                  <a:pt x="30" y="0"/>
                </a:lnTo>
                <a:lnTo>
                  <a:pt x="29" y="0"/>
                </a:lnTo>
                <a:lnTo>
                  <a:pt x="30" y="0"/>
                </a:lnTo>
                <a:lnTo>
                  <a:pt x="29" y="0"/>
                </a:lnTo>
                <a:lnTo>
                  <a:pt x="30" y="0"/>
                </a:lnTo>
                <a:lnTo>
                  <a:pt x="29" y="2"/>
                </a:lnTo>
                <a:lnTo>
                  <a:pt x="28" y="3"/>
                </a:lnTo>
                <a:lnTo>
                  <a:pt x="20" y="10"/>
                </a:lnTo>
                <a:lnTo>
                  <a:pt x="16" y="15"/>
                </a:lnTo>
                <a:lnTo>
                  <a:pt x="16" y="15"/>
                </a:lnTo>
                <a:lnTo>
                  <a:pt x="16" y="15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5103720"/>
            <a:ext cx="11160" cy="22320"/>
          </a:xfrm>
          <a:custGeom>
            <a:avLst/>
            <a:gdLst/>
            <a:ahLst/>
            <a:rect l="l" t="t" r="r" b="b"/>
            <a:pathLst>
              <a:path w="30" h="69">
                <a:moveTo>
                  <a:pt x="0" y="5"/>
                </a:moveTo>
                <a:lnTo>
                  <a:pt x="0" y="6"/>
                </a:lnTo>
                <a:lnTo>
                  <a:pt x="0" y="15"/>
                </a:lnTo>
                <a:lnTo>
                  <a:pt x="1" y="45"/>
                </a:lnTo>
                <a:lnTo>
                  <a:pt x="3" y="69"/>
                </a:lnTo>
                <a:lnTo>
                  <a:pt x="4" y="69"/>
                </a:lnTo>
                <a:lnTo>
                  <a:pt x="7" y="66"/>
                </a:lnTo>
                <a:lnTo>
                  <a:pt x="20" y="56"/>
                </a:lnTo>
                <a:lnTo>
                  <a:pt x="29" y="48"/>
                </a:lnTo>
                <a:lnTo>
                  <a:pt x="30" y="47"/>
                </a:lnTo>
                <a:lnTo>
                  <a:pt x="29" y="43"/>
                </a:lnTo>
                <a:lnTo>
                  <a:pt x="24" y="29"/>
                </a:lnTo>
                <a:lnTo>
                  <a:pt x="23" y="19"/>
                </a:lnTo>
                <a:lnTo>
                  <a:pt x="23" y="18"/>
                </a:lnTo>
                <a:lnTo>
                  <a:pt x="27" y="8"/>
                </a:lnTo>
                <a:lnTo>
                  <a:pt x="29" y="2"/>
                </a:lnTo>
                <a:lnTo>
                  <a:pt x="30" y="0"/>
                </a:lnTo>
                <a:lnTo>
                  <a:pt x="29" y="0"/>
                </a:lnTo>
                <a:lnTo>
                  <a:pt x="27" y="0"/>
                </a:lnTo>
                <a:lnTo>
                  <a:pt x="20" y="0"/>
                </a:lnTo>
                <a:lnTo>
                  <a:pt x="14" y="0"/>
                </a:lnTo>
                <a:lnTo>
                  <a:pt x="14" y="0"/>
                </a:lnTo>
                <a:lnTo>
                  <a:pt x="13" y="0"/>
                </a:lnTo>
                <a:lnTo>
                  <a:pt x="14" y="0"/>
                </a:lnTo>
                <a:lnTo>
                  <a:pt x="13" y="0"/>
                </a:lnTo>
                <a:lnTo>
                  <a:pt x="14" y="0"/>
                </a:lnTo>
                <a:lnTo>
                  <a:pt x="11" y="2"/>
                </a:lnTo>
                <a:lnTo>
                  <a:pt x="4" y="3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42280" y="5186520"/>
            <a:ext cx="14040" cy="14040"/>
          </a:xfrm>
          <a:custGeom>
            <a:avLst/>
            <a:gdLst/>
            <a:ahLst/>
            <a:rect l="l" t="t" r="r" b="b"/>
            <a:pathLst>
              <a:path w="37" h="42">
                <a:moveTo>
                  <a:pt x="3" y="0"/>
                </a:moveTo>
                <a:lnTo>
                  <a:pt x="2" y="4"/>
                </a:lnTo>
                <a:lnTo>
                  <a:pt x="0" y="17"/>
                </a:lnTo>
                <a:lnTo>
                  <a:pt x="0" y="27"/>
                </a:lnTo>
                <a:lnTo>
                  <a:pt x="0" y="27"/>
                </a:lnTo>
                <a:lnTo>
                  <a:pt x="3" y="30"/>
                </a:lnTo>
                <a:lnTo>
                  <a:pt x="13" y="38"/>
                </a:lnTo>
                <a:lnTo>
                  <a:pt x="21" y="42"/>
                </a:lnTo>
                <a:lnTo>
                  <a:pt x="22" y="42"/>
                </a:lnTo>
                <a:lnTo>
                  <a:pt x="24" y="39"/>
                </a:lnTo>
                <a:lnTo>
                  <a:pt x="31" y="30"/>
                </a:lnTo>
                <a:lnTo>
                  <a:pt x="35" y="25"/>
                </a:lnTo>
                <a:lnTo>
                  <a:pt x="37" y="23"/>
                </a:lnTo>
                <a:lnTo>
                  <a:pt x="34" y="22"/>
                </a:lnTo>
                <a:lnTo>
                  <a:pt x="29" y="17"/>
                </a:lnTo>
                <a:lnTo>
                  <a:pt x="26" y="14"/>
                </a:lnTo>
                <a:lnTo>
                  <a:pt x="26" y="13"/>
                </a:lnTo>
                <a:lnTo>
                  <a:pt x="25" y="13"/>
                </a:lnTo>
                <a:lnTo>
                  <a:pt x="26" y="13"/>
                </a:lnTo>
                <a:lnTo>
                  <a:pt x="25" y="13"/>
                </a:lnTo>
                <a:lnTo>
                  <a:pt x="26" y="13"/>
                </a:lnTo>
                <a:lnTo>
                  <a:pt x="22" y="12"/>
                </a:lnTo>
                <a:lnTo>
                  <a:pt x="12" y="6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81880" y="5226120"/>
            <a:ext cx="27000" cy="15840"/>
          </a:xfrm>
          <a:custGeom>
            <a:avLst/>
            <a:gdLst/>
            <a:ahLst/>
            <a:rect l="l" t="t" r="r" b="b"/>
            <a:pathLst>
              <a:path w="80" h="41">
                <a:moveTo>
                  <a:pt x="7" y="0"/>
                </a:moveTo>
                <a:lnTo>
                  <a:pt x="6" y="2"/>
                </a:lnTo>
                <a:lnTo>
                  <a:pt x="1" y="10"/>
                </a:lnTo>
                <a:lnTo>
                  <a:pt x="0" y="15"/>
                </a:lnTo>
                <a:lnTo>
                  <a:pt x="0" y="15"/>
                </a:lnTo>
                <a:lnTo>
                  <a:pt x="3" y="19"/>
                </a:lnTo>
                <a:lnTo>
                  <a:pt x="13" y="32"/>
                </a:lnTo>
                <a:lnTo>
                  <a:pt x="20" y="41"/>
                </a:lnTo>
                <a:lnTo>
                  <a:pt x="22" y="41"/>
                </a:lnTo>
                <a:lnTo>
                  <a:pt x="27" y="39"/>
                </a:lnTo>
                <a:lnTo>
                  <a:pt x="45" y="33"/>
                </a:lnTo>
                <a:lnTo>
                  <a:pt x="59" y="29"/>
                </a:lnTo>
                <a:lnTo>
                  <a:pt x="61" y="28"/>
                </a:lnTo>
                <a:lnTo>
                  <a:pt x="64" y="28"/>
                </a:lnTo>
                <a:lnTo>
                  <a:pt x="72" y="26"/>
                </a:lnTo>
                <a:lnTo>
                  <a:pt x="78" y="26"/>
                </a:lnTo>
                <a:lnTo>
                  <a:pt x="80" y="25"/>
                </a:lnTo>
                <a:lnTo>
                  <a:pt x="80" y="23"/>
                </a:lnTo>
                <a:lnTo>
                  <a:pt x="78" y="16"/>
                </a:lnTo>
                <a:lnTo>
                  <a:pt x="78" y="10"/>
                </a:lnTo>
                <a:lnTo>
                  <a:pt x="80" y="9"/>
                </a:lnTo>
                <a:lnTo>
                  <a:pt x="78" y="9"/>
                </a:lnTo>
                <a:lnTo>
                  <a:pt x="74" y="9"/>
                </a:lnTo>
                <a:lnTo>
                  <a:pt x="59" y="9"/>
                </a:lnTo>
                <a:lnTo>
                  <a:pt x="49" y="9"/>
                </a:lnTo>
                <a:lnTo>
                  <a:pt x="49" y="7"/>
                </a:lnTo>
                <a:lnTo>
                  <a:pt x="48" y="7"/>
                </a:lnTo>
                <a:lnTo>
                  <a:pt x="49" y="7"/>
                </a:lnTo>
                <a:lnTo>
                  <a:pt x="48" y="7"/>
                </a:lnTo>
                <a:lnTo>
                  <a:pt x="49" y="7"/>
                </a:lnTo>
                <a:lnTo>
                  <a:pt x="48" y="7"/>
                </a:lnTo>
                <a:lnTo>
                  <a:pt x="42" y="7"/>
                </a:lnTo>
                <a:lnTo>
                  <a:pt x="22" y="3"/>
                </a:lnTo>
                <a:lnTo>
                  <a:pt x="7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10640" y="3925800"/>
            <a:ext cx="9360" cy="4680"/>
          </a:xfrm>
          <a:custGeom>
            <a:avLst/>
            <a:gdLst/>
            <a:ahLst/>
            <a:rect l="l" t="t" r="r" b="b"/>
            <a:pathLst>
              <a:path w="27" h="16">
                <a:moveTo>
                  <a:pt x="3" y="0"/>
                </a:moveTo>
                <a:lnTo>
                  <a:pt x="1" y="3"/>
                </a:lnTo>
                <a:lnTo>
                  <a:pt x="0" y="10"/>
                </a:lnTo>
                <a:lnTo>
                  <a:pt x="0" y="16"/>
                </a:lnTo>
                <a:lnTo>
                  <a:pt x="0" y="16"/>
                </a:lnTo>
                <a:lnTo>
                  <a:pt x="1" y="16"/>
                </a:lnTo>
                <a:lnTo>
                  <a:pt x="9" y="16"/>
                </a:lnTo>
                <a:lnTo>
                  <a:pt x="14" y="16"/>
                </a:lnTo>
                <a:lnTo>
                  <a:pt x="16" y="16"/>
                </a:lnTo>
                <a:lnTo>
                  <a:pt x="17" y="15"/>
                </a:lnTo>
                <a:lnTo>
                  <a:pt x="22" y="9"/>
                </a:lnTo>
                <a:lnTo>
                  <a:pt x="26" y="5"/>
                </a:lnTo>
                <a:lnTo>
                  <a:pt x="27" y="3"/>
                </a:lnTo>
                <a:lnTo>
                  <a:pt x="26" y="3"/>
                </a:lnTo>
                <a:lnTo>
                  <a:pt x="25" y="3"/>
                </a:lnTo>
                <a:lnTo>
                  <a:pt x="16" y="2"/>
                </a:lnTo>
                <a:lnTo>
                  <a:pt x="10" y="2"/>
                </a:lnTo>
                <a:lnTo>
                  <a:pt x="10" y="0"/>
                </a:lnTo>
                <a:lnTo>
                  <a:pt x="9" y="0"/>
                </a:lnTo>
                <a:lnTo>
                  <a:pt x="10" y="0"/>
                </a:lnTo>
                <a:lnTo>
                  <a:pt x="9" y="0"/>
                </a:lnTo>
                <a:lnTo>
                  <a:pt x="10" y="0"/>
                </a:lnTo>
                <a:lnTo>
                  <a:pt x="9" y="0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35840" y="3905280"/>
            <a:ext cx="22320" cy="15840"/>
          </a:xfrm>
          <a:custGeom>
            <a:avLst/>
            <a:gdLst/>
            <a:ahLst/>
            <a:rect l="l" t="t" r="r" b="b"/>
            <a:pathLst>
              <a:path w="61" h="49">
                <a:moveTo>
                  <a:pt x="0" y="28"/>
                </a:moveTo>
                <a:lnTo>
                  <a:pt x="0" y="29"/>
                </a:lnTo>
                <a:lnTo>
                  <a:pt x="0" y="32"/>
                </a:lnTo>
                <a:lnTo>
                  <a:pt x="1" y="42"/>
                </a:lnTo>
                <a:lnTo>
                  <a:pt x="3" y="49"/>
                </a:lnTo>
                <a:lnTo>
                  <a:pt x="4" y="49"/>
                </a:lnTo>
                <a:lnTo>
                  <a:pt x="10" y="49"/>
                </a:lnTo>
                <a:lnTo>
                  <a:pt x="27" y="49"/>
                </a:lnTo>
                <a:lnTo>
                  <a:pt x="40" y="49"/>
                </a:lnTo>
                <a:lnTo>
                  <a:pt x="42" y="49"/>
                </a:lnTo>
                <a:lnTo>
                  <a:pt x="42" y="46"/>
                </a:lnTo>
                <a:lnTo>
                  <a:pt x="42" y="38"/>
                </a:lnTo>
                <a:lnTo>
                  <a:pt x="42" y="32"/>
                </a:lnTo>
                <a:lnTo>
                  <a:pt x="43" y="30"/>
                </a:lnTo>
                <a:lnTo>
                  <a:pt x="53" y="26"/>
                </a:lnTo>
                <a:lnTo>
                  <a:pt x="59" y="23"/>
                </a:lnTo>
                <a:lnTo>
                  <a:pt x="61" y="22"/>
                </a:lnTo>
                <a:lnTo>
                  <a:pt x="56" y="20"/>
                </a:lnTo>
                <a:lnTo>
                  <a:pt x="46" y="12"/>
                </a:lnTo>
                <a:lnTo>
                  <a:pt x="39" y="6"/>
                </a:lnTo>
                <a:lnTo>
                  <a:pt x="39" y="4"/>
                </a:lnTo>
                <a:lnTo>
                  <a:pt x="37" y="4"/>
                </a:lnTo>
                <a:lnTo>
                  <a:pt x="35" y="4"/>
                </a:lnTo>
                <a:lnTo>
                  <a:pt x="24" y="3"/>
                </a:lnTo>
                <a:lnTo>
                  <a:pt x="17" y="2"/>
                </a:lnTo>
                <a:lnTo>
                  <a:pt x="17" y="0"/>
                </a:lnTo>
                <a:lnTo>
                  <a:pt x="16" y="0"/>
                </a:lnTo>
                <a:lnTo>
                  <a:pt x="17" y="0"/>
                </a:lnTo>
                <a:lnTo>
                  <a:pt x="16" y="0"/>
                </a:lnTo>
                <a:lnTo>
                  <a:pt x="17" y="0"/>
                </a:lnTo>
                <a:lnTo>
                  <a:pt x="16" y="2"/>
                </a:lnTo>
                <a:lnTo>
                  <a:pt x="14" y="4"/>
                </a:lnTo>
                <a:lnTo>
                  <a:pt x="6" y="17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94560" y="3654360"/>
            <a:ext cx="27000" cy="20880"/>
          </a:xfrm>
          <a:custGeom>
            <a:avLst/>
            <a:gdLst/>
            <a:ahLst/>
            <a:rect l="l" t="t" r="r" b="b"/>
            <a:pathLst>
              <a:path w="86" h="59">
                <a:moveTo>
                  <a:pt x="0" y="29"/>
                </a:moveTo>
                <a:lnTo>
                  <a:pt x="0" y="30"/>
                </a:lnTo>
                <a:lnTo>
                  <a:pt x="0" y="33"/>
                </a:lnTo>
                <a:lnTo>
                  <a:pt x="5" y="46"/>
                </a:lnTo>
                <a:lnTo>
                  <a:pt x="8" y="56"/>
                </a:lnTo>
                <a:lnTo>
                  <a:pt x="9" y="56"/>
                </a:lnTo>
                <a:lnTo>
                  <a:pt x="15" y="55"/>
                </a:lnTo>
                <a:lnTo>
                  <a:pt x="32" y="50"/>
                </a:lnTo>
                <a:lnTo>
                  <a:pt x="47" y="46"/>
                </a:lnTo>
                <a:lnTo>
                  <a:pt x="48" y="44"/>
                </a:lnTo>
                <a:lnTo>
                  <a:pt x="53" y="55"/>
                </a:lnTo>
                <a:lnTo>
                  <a:pt x="56" y="59"/>
                </a:lnTo>
                <a:lnTo>
                  <a:pt x="57" y="59"/>
                </a:lnTo>
                <a:lnTo>
                  <a:pt x="61" y="59"/>
                </a:lnTo>
                <a:lnTo>
                  <a:pt x="74" y="56"/>
                </a:lnTo>
                <a:lnTo>
                  <a:pt x="84" y="55"/>
                </a:lnTo>
                <a:lnTo>
                  <a:pt x="86" y="53"/>
                </a:lnTo>
                <a:lnTo>
                  <a:pt x="83" y="47"/>
                </a:lnTo>
                <a:lnTo>
                  <a:pt x="77" y="30"/>
                </a:lnTo>
                <a:lnTo>
                  <a:pt x="73" y="15"/>
                </a:lnTo>
                <a:lnTo>
                  <a:pt x="73" y="14"/>
                </a:lnTo>
                <a:lnTo>
                  <a:pt x="67" y="13"/>
                </a:lnTo>
                <a:lnTo>
                  <a:pt x="54" y="5"/>
                </a:lnTo>
                <a:lnTo>
                  <a:pt x="44" y="1"/>
                </a:lnTo>
                <a:lnTo>
                  <a:pt x="44" y="0"/>
                </a:lnTo>
                <a:lnTo>
                  <a:pt x="42" y="0"/>
                </a:lnTo>
                <a:lnTo>
                  <a:pt x="44" y="0"/>
                </a:lnTo>
                <a:lnTo>
                  <a:pt x="42" y="0"/>
                </a:lnTo>
                <a:lnTo>
                  <a:pt x="44" y="0"/>
                </a:lnTo>
                <a:lnTo>
                  <a:pt x="42" y="1"/>
                </a:lnTo>
                <a:lnTo>
                  <a:pt x="37" y="5"/>
                </a:lnTo>
                <a:lnTo>
                  <a:pt x="16" y="18"/>
                </a:lnTo>
                <a:lnTo>
                  <a:pt x="0" y="29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35920" y="3639960"/>
            <a:ext cx="333360" cy="395640"/>
          </a:xfrm>
          <a:custGeom>
            <a:avLst/>
            <a:gdLst/>
            <a:ahLst/>
            <a:rect l="l" t="t" r="r" b="b"/>
            <a:pathLst>
              <a:path w="966" h="1212">
                <a:moveTo>
                  <a:pt x="0" y="846"/>
                </a:moveTo>
                <a:lnTo>
                  <a:pt x="19" y="853"/>
                </a:lnTo>
                <a:lnTo>
                  <a:pt x="75" y="873"/>
                </a:lnTo>
                <a:lnTo>
                  <a:pt x="118" y="889"/>
                </a:lnTo>
                <a:lnTo>
                  <a:pt x="121" y="889"/>
                </a:lnTo>
                <a:lnTo>
                  <a:pt x="121" y="897"/>
                </a:lnTo>
                <a:lnTo>
                  <a:pt x="120" y="918"/>
                </a:lnTo>
                <a:lnTo>
                  <a:pt x="120" y="934"/>
                </a:lnTo>
                <a:lnTo>
                  <a:pt x="121" y="934"/>
                </a:lnTo>
                <a:lnTo>
                  <a:pt x="124" y="934"/>
                </a:lnTo>
                <a:lnTo>
                  <a:pt x="146" y="933"/>
                </a:lnTo>
                <a:lnTo>
                  <a:pt x="220" y="926"/>
                </a:lnTo>
                <a:lnTo>
                  <a:pt x="276" y="921"/>
                </a:lnTo>
                <a:lnTo>
                  <a:pt x="281" y="920"/>
                </a:lnTo>
                <a:lnTo>
                  <a:pt x="288" y="920"/>
                </a:lnTo>
                <a:lnTo>
                  <a:pt x="310" y="920"/>
                </a:lnTo>
                <a:lnTo>
                  <a:pt x="327" y="920"/>
                </a:lnTo>
                <a:lnTo>
                  <a:pt x="329" y="918"/>
                </a:lnTo>
                <a:lnTo>
                  <a:pt x="330" y="921"/>
                </a:lnTo>
                <a:lnTo>
                  <a:pt x="343" y="940"/>
                </a:lnTo>
                <a:lnTo>
                  <a:pt x="389" y="1001"/>
                </a:lnTo>
                <a:lnTo>
                  <a:pt x="424" y="1049"/>
                </a:lnTo>
                <a:lnTo>
                  <a:pt x="427" y="1050"/>
                </a:lnTo>
                <a:lnTo>
                  <a:pt x="429" y="1050"/>
                </a:lnTo>
                <a:lnTo>
                  <a:pt x="449" y="1050"/>
                </a:lnTo>
                <a:lnTo>
                  <a:pt x="517" y="1050"/>
                </a:lnTo>
                <a:lnTo>
                  <a:pt x="569" y="1050"/>
                </a:lnTo>
                <a:lnTo>
                  <a:pt x="572" y="1050"/>
                </a:lnTo>
                <a:lnTo>
                  <a:pt x="588" y="1056"/>
                </a:lnTo>
                <a:lnTo>
                  <a:pt x="636" y="1069"/>
                </a:lnTo>
                <a:lnTo>
                  <a:pt x="672" y="1079"/>
                </a:lnTo>
                <a:lnTo>
                  <a:pt x="675" y="1079"/>
                </a:lnTo>
                <a:lnTo>
                  <a:pt x="675" y="1101"/>
                </a:lnTo>
                <a:lnTo>
                  <a:pt x="673" y="1163"/>
                </a:lnTo>
                <a:lnTo>
                  <a:pt x="673" y="1211"/>
                </a:lnTo>
                <a:lnTo>
                  <a:pt x="675" y="1212"/>
                </a:lnTo>
                <a:lnTo>
                  <a:pt x="679" y="1212"/>
                </a:lnTo>
                <a:lnTo>
                  <a:pt x="692" y="1212"/>
                </a:lnTo>
                <a:lnTo>
                  <a:pt x="702" y="1212"/>
                </a:lnTo>
                <a:lnTo>
                  <a:pt x="704" y="1212"/>
                </a:lnTo>
                <a:lnTo>
                  <a:pt x="704" y="1208"/>
                </a:lnTo>
                <a:lnTo>
                  <a:pt x="714" y="1176"/>
                </a:lnTo>
                <a:lnTo>
                  <a:pt x="749" y="1066"/>
                </a:lnTo>
                <a:lnTo>
                  <a:pt x="775" y="983"/>
                </a:lnTo>
                <a:lnTo>
                  <a:pt x="776" y="978"/>
                </a:lnTo>
                <a:lnTo>
                  <a:pt x="766" y="972"/>
                </a:lnTo>
                <a:lnTo>
                  <a:pt x="740" y="952"/>
                </a:lnTo>
                <a:lnTo>
                  <a:pt x="718" y="936"/>
                </a:lnTo>
                <a:lnTo>
                  <a:pt x="718" y="934"/>
                </a:lnTo>
                <a:lnTo>
                  <a:pt x="718" y="928"/>
                </a:lnTo>
                <a:lnTo>
                  <a:pt x="717" y="907"/>
                </a:lnTo>
                <a:lnTo>
                  <a:pt x="717" y="891"/>
                </a:lnTo>
                <a:lnTo>
                  <a:pt x="718" y="889"/>
                </a:lnTo>
                <a:lnTo>
                  <a:pt x="727" y="881"/>
                </a:lnTo>
                <a:lnTo>
                  <a:pt x="753" y="855"/>
                </a:lnTo>
                <a:lnTo>
                  <a:pt x="775" y="833"/>
                </a:lnTo>
                <a:lnTo>
                  <a:pt x="776" y="831"/>
                </a:lnTo>
                <a:lnTo>
                  <a:pt x="775" y="831"/>
                </a:lnTo>
                <a:lnTo>
                  <a:pt x="769" y="830"/>
                </a:lnTo>
                <a:lnTo>
                  <a:pt x="749" y="823"/>
                </a:lnTo>
                <a:lnTo>
                  <a:pt x="733" y="818"/>
                </a:lnTo>
                <a:lnTo>
                  <a:pt x="733" y="817"/>
                </a:lnTo>
                <a:lnTo>
                  <a:pt x="733" y="813"/>
                </a:lnTo>
                <a:lnTo>
                  <a:pt x="731" y="798"/>
                </a:lnTo>
                <a:lnTo>
                  <a:pt x="731" y="788"/>
                </a:lnTo>
                <a:lnTo>
                  <a:pt x="733" y="786"/>
                </a:lnTo>
                <a:lnTo>
                  <a:pt x="737" y="786"/>
                </a:lnTo>
                <a:lnTo>
                  <a:pt x="750" y="786"/>
                </a:lnTo>
                <a:lnTo>
                  <a:pt x="760" y="786"/>
                </a:lnTo>
                <a:lnTo>
                  <a:pt x="762" y="786"/>
                </a:lnTo>
                <a:lnTo>
                  <a:pt x="770" y="792"/>
                </a:lnTo>
                <a:lnTo>
                  <a:pt x="797" y="807"/>
                </a:lnTo>
                <a:lnTo>
                  <a:pt x="818" y="817"/>
                </a:lnTo>
                <a:lnTo>
                  <a:pt x="820" y="817"/>
                </a:lnTo>
                <a:lnTo>
                  <a:pt x="828" y="815"/>
                </a:lnTo>
                <a:lnTo>
                  <a:pt x="856" y="808"/>
                </a:lnTo>
                <a:lnTo>
                  <a:pt x="878" y="804"/>
                </a:lnTo>
                <a:lnTo>
                  <a:pt x="879" y="802"/>
                </a:lnTo>
                <a:lnTo>
                  <a:pt x="885" y="813"/>
                </a:lnTo>
                <a:lnTo>
                  <a:pt x="907" y="840"/>
                </a:lnTo>
                <a:lnTo>
                  <a:pt x="923" y="862"/>
                </a:lnTo>
                <a:lnTo>
                  <a:pt x="924" y="862"/>
                </a:lnTo>
                <a:lnTo>
                  <a:pt x="930" y="862"/>
                </a:lnTo>
                <a:lnTo>
                  <a:pt x="950" y="862"/>
                </a:lnTo>
                <a:lnTo>
                  <a:pt x="965" y="862"/>
                </a:lnTo>
                <a:lnTo>
                  <a:pt x="966" y="862"/>
                </a:lnTo>
                <a:lnTo>
                  <a:pt x="960" y="856"/>
                </a:lnTo>
                <a:lnTo>
                  <a:pt x="947" y="834"/>
                </a:lnTo>
                <a:lnTo>
                  <a:pt x="937" y="818"/>
                </a:lnTo>
                <a:lnTo>
                  <a:pt x="937" y="817"/>
                </a:lnTo>
                <a:lnTo>
                  <a:pt x="937" y="811"/>
                </a:lnTo>
                <a:lnTo>
                  <a:pt x="936" y="791"/>
                </a:lnTo>
                <a:lnTo>
                  <a:pt x="936" y="775"/>
                </a:lnTo>
                <a:lnTo>
                  <a:pt x="937" y="773"/>
                </a:lnTo>
                <a:lnTo>
                  <a:pt x="936" y="772"/>
                </a:lnTo>
                <a:lnTo>
                  <a:pt x="927" y="760"/>
                </a:lnTo>
                <a:lnTo>
                  <a:pt x="901" y="720"/>
                </a:lnTo>
                <a:lnTo>
                  <a:pt x="879" y="689"/>
                </a:lnTo>
                <a:lnTo>
                  <a:pt x="879" y="686"/>
                </a:lnTo>
                <a:lnTo>
                  <a:pt x="879" y="685"/>
                </a:lnTo>
                <a:lnTo>
                  <a:pt x="881" y="676"/>
                </a:lnTo>
                <a:lnTo>
                  <a:pt x="886" y="642"/>
                </a:lnTo>
                <a:lnTo>
                  <a:pt x="891" y="615"/>
                </a:lnTo>
                <a:lnTo>
                  <a:pt x="892" y="613"/>
                </a:lnTo>
                <a:lnTo>
                  <a:pt x="888" y="610"/>
                </a:lnTo>
                <a:lnTo>
                  <a:pt x="875" y="597"/>
                </a:lnTo>
                <a:lnTo>
                  <a:pt x="866" y="586"/>
                </a:lnTo>
                <a:lnTo>
                  <a:pt x="866" y="585"/>
                </a:lnTo>
                <a:lnTo>
                  <a:pt x="866" y="584"/>
                </a:lnTo>
                <a:lnTo>
                  <a:pt x="868" y="568"/>
                </a:lnTo>
                <a:lnTo>
                  <a:pt x="873" y="513"/>
                </a:lnTo>
                <a:lnTo>
                  <a:pt x="878" y="471"/>
                </a:lnTo>
                <a:lnTo>
                  <a:pt x="879" y="468"/>
                </a:lnTo>
                <a:lnTo>
                  <a:pt x="876" y="469"/>
                </a:lnTo>
                <a:lnTo>
                  <a:pt x="857" y="471"/>
                </a:lnTo>
                <a:lnTo>
                  <a:pt x="797" y="478"/>
                </a:lnTo>
                <a:lnTo>
                  <a:pt x="749" y="484"/>
                </a:lnTo>
                <a:lnTo>
                  <a:pt x="747" y="484"/>
                </a:lnTo>
                <a:lnTo>
                  <a:pt x="743" y="482"/>
                </a:lnTo>
                <a:lnTo>
                  <a:pt x="713" y="471"/>
                </a:lnTo>
                <a:lnTo>
                  <a:pt x="611" y="429"/>
                </a:lnTo>
                <a:lnTo>
                  <a:pt x="533" y="398"/>
                </a:lnTo>
                <a:lnTo>
                  <a:pt x="530" y="395"/>
                </a:lnTo>
                <a:lnTo>
                  <a:pt x="529" y="394"/>
                </a:lnTo>
                <a:lnTo>
                  <a:pt x="520" y="382"/>
                </a:lnTo>
                <a:lnTo>
                  <a:pt x="492" y="340"/>
                </a:lnTo>
                <a:lnTo>
                  <a:pt x="471" y="310"/>
                </a:lnTo>
                <a:lnTo>
                  <a:pt x="471" y="307"/>
                </a:lnTo>
                <a:lnTo>
                  <a:pt x="463" y="310"/>
                </a:lnTo>
                <a:lnTo>
                  <a:pt x="443" y="315"/>
                </a:lnTo>
                <a:lnTo>
                  <a:pt x="427" y="320"/>
                </a:lnTo>
                <a:lnTo>
                  <a:pt x="427" y="320"/>
                </a:lnTo>
                <a:lnTo>
                  <a:pt x="433" y="305"/>
                </a:lnTo>
                <a:lnTo>
                  <a:pt x="453" y="258"/>
                </a:lnTo>
                <a:lnTo>
                  <a:pt x="469" y="223"/>
                </a:lnTo>
                <a:lnTo>
                  <a:pt x="471" y="220"/>
                </a:lnTo>
                <a:lnTo>
                  <a:pt x="465" y="210"/>
                </a:lnTo>
                <a:lnTo>
                  <a:pt x="452" y="175"/>
                </a:lnTo>
                <a:lnTo>
                  <a:pt x="442" y="149"/>
                </a:lnTo>
                <a:lnTo>
                  <a:pt x="442" y="146"/>
                </a:lnTo>
                <a:lnTo>
                  <a:pt x="449" y="143"/>
                </a:lnTo>
                <a:lnTo>
                  <a:pt x="469" y="133"/>
                </a:lnTo>
                <a:lnTo>
                  <a:pt x="486" y="124"/>
                </a:lnTo>
                <a:lnTo>
                  <a:pt x="488" y="123"/>
                </a:lnTo>
                <a:lnTo>
                  <a:pt x="488" y="121"/>
                </a:lnTo>
                <a:lnTo>
                  <a:pt x="494" y="107"/>
                </a:lnTo>
                <a:lnTo>
                  <a:pt x="514" y="56"/>
                </a:lnTo>
                <a:lnTo>
                  <a:pt x="529" y="18"/>
                </a:lnTo>
                <a:lnTo>
                  <a:pt x="530" y="16"/>
                </a:lnTo>
                <a:lnTo>
                  <a:pt x="529" y="16"/>
                </a:lnTo>
                <a:lnTo>
                  <a:pt x="523" y="14"/>
                </a:lnTo>
                <a:lnTo>
                  <a:pt x="501" y="7"/>
                </a:lnTo>
                <a:lnTo>
                  <a:pt x="485" y="1"/>
                </a:lnTo>
                <a:lnTo>
                  <a:pt x="485" y="0"/>
                </a:lnTo>
                <a:lnTo>
                  <a:pt x="484" y="1"/>
                </a:lnTo>
                <a:lnTo>
                  <a:pt x="479" y="5"/>
                </a:lnTo>
                <a:lnTo>
                  <a:pt x="466" y="20"/>
                </a:lnTo>
                <a:lnTo>
                  <a:pt x="456" y="31"/>
                </a:lnTo>
                <a:lnTo>
                  <a:pt x="456" y="31"/>
                </a:lnTo>
                <a:lnTo>
                  <a:pt x="450" y="34"/>
                </a:lnTo>
                <a:lnTo>
                  <a:pt x="418" y="50"/>
                </a:lnTo>
                <a:lnTo>
                  <a:pt x="310" y="104"/>
                </a:lnTo>
                <a:lnTo>
                  <a:pt x="227" y="145"/>
                </a:lnTo>
                <a:lnTo>
                  <a:pt x="223" y="146"/>
                </a:lnTo>
                <a:lnTo>
                  <a:pt x="221" y="155"/>
                </a:lnTo>
                <a:lnTo>
                  <a:pt x="220" y="176"/>
                </a:lnTo>
                <a:lnTo>
                  <a:pt x="220" y="194"/>
                </a:lnTo>
                <a:lnTo>
                  <a:pt x="220" y="194"/>
                </a:lnTo>
                <a:lnTo>
                  <a:pt x="218" y="197"/>
                </a:lnTo>
                <a:lnTo>
                  <a:pt x="213" y="214"/>
                </a:lnTo>
                <a:lnTo>
                  <a:pt x="194" y="273"/>
                </a:lnTo>
                <a:lnTo>
                  <a:pt x="179" y="318"/>
                </a:lnTo>
                <a:lnTo>
                  <a:pt x="179" y="320"/>
                </a:lnTo>
                <a:lnTo>
                  <a:pt x="178" y="321"/>
                </a:lnTo>
                <a:lnTo>
                  <a:pt x="169" y="326"/>
                </a:lnTo>
                <a:lnTo>
                  <a:pt x="143" y="340"/>
                </a:lnTo>
                <a:lnTo>
                  <a:pt x="121" y="352"/>
                </a:lnTo>
                <a:lnTo>
                  <a:pt x="121" y="352"/>
                </a:lnTo>
                <a:lnTo>
                  <a:pt x="118" y="363"/>
                </a:lnTo>
                <a:lnTo>
                  <a:pt x="111" y="398"/>
                </a:lnTo>
                <a:lnTo>
                  <a:pt x="107" y="424"/>
                </a:lnTo>
                <a:lnTo>
                  <a:pt x="107" y="424"/>
                </a:lnTo>
                <a:lnTo>
                  <a:pt x="107" y="429"/>
                </a:lnTo>
                <a:lnTo>
                  <a:pt x="113" y="450"/>
                </a:lnTo>
                <a:lnTo>
                  <a:pt x="133" y="526"/>
                </a:lnTo>
                <a:lnTo>
                  <a:pt x="147" y="582"/>
                </a:lnTo>
                <a:lnTo>
                  <a:pt x="149" y="585"/>
                </a:lnTo>
                <a:lnTo>
                  <a:pt x="147" y="586"/>
                </a:lnTo>
                <a:lnTo>
                  <a:pt x="145" y="589"/>
                </a:lnTo>
                <a:lnTo>
                  <a:pt x="132" y="602"/>
                </a:lnTo>
                <a:lnTo>
                  <a:pt x="121" y="613"/>
                </a:lnTo>
                <a:lnTo>
                  <a:pt x="121" y="613"/>
                </a:lnTo>
                <a:lnTo>
                  <a:pt x="121" y="615"/>
                </a:lnTo>
                <a:lnTo>
                  <a:pt x="124" y="624"/>
                </a:lnTo>
                <a:lnTo>
                  <a:pt x="137" y="659"/>
                </a:lnTo>
                <a:lnTo>
                  <a:pt x="147" y="685"/>
                </a:lnTo>
                <a:lnTo>
                  <a:pt x="149" y="686"/>
                </a:lnTo>
                <a:lnTo>
                  <a:pt x="147" y="686"/>
                </a:lnTo>
                <a:lnTo>
                  <a:pt x="149" y="686"/>
                </a:lnTo>
                <a:lnTo>
                  <a:pt x="147" y="686"/>
                </a:lnTo>
                <a:lnTo>
                  <a:pt x="149" y="686"/>
                </a:lnTo>
                <a:lnTo>
                  <a:pt x="145" y="691"/>
                </a:lnTo>
                <a:lnTo>
                  <a:pt x="124" y="713"/>
                </a:lnTo>
                <a:lnTo>
                  <a:pt x="55" y="786"/>
                </a:lnTo>
                <a:lnTo>
                  <a:pt x="3" y="843"/>
                </a:lnTo>
                <a:lnTo>
                  <a:pt x="0" y="846"/>
                </a:lnTo>
                <a:lnTo>
                  <a:pt x="0" y="846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02440" y="3914640"/>
            <a:ext cx="130320" cy="149400"/>
          </a:xfrm>
          <a:custGeom>
            <a:avLst/>
            <a:gdLst/>
            <a:ahLst/>
            <a:rect l="l" t="t" r="r" b="b"/>
            <a:pathLst>
              <a:path w="378" h="454">
                <a:moveTo>
                  <a:pt x="42" y="60"/>
                </a:moveTo>
                <a:lnTo>
                  <a:pt x="41" y="64"/>
                </a:lnTo>
                <a:lnTo>
                  <a:pt x="35" y="87"/>
                </a:lnTo>
                <a:lnTo>
                  <a:pt x="15" y="170"/>
                </a:lnTo>
                <a:lnTo>
                  <a:pt x="0" y="232"/>
                </a:lnTo>
                <a:lnTo>
                  <a:pt x="0" y="235"/>
                </a:lnTo>
                <a:lnTo>
                  <a:pt x="0" y="238"/>
                </a:lnTo>
                <a:lnTo>
                  <a:pt x="2" y="247"/>
                </a:lnTo>
                <a:lnTo>
                  <a:pt x="6" y="281"/>
                </a:lnTo>
                <a:lnTo>
                  <a:pt x="10" y="308"/>
                </a:lnTo>
                <a:lnTo>
                  <a:pt x="12" y="309"/>
                </a:lnTo>
                <a:lnTo>
                  <a:pt x="16" y="309"/>
                </a:lnTo>
                <a:lnTo>
                  <a:pt x="30" y="309"/>
                </a:lnTo>
                <a:lnTo>
                  <a:pt x="41" y="309"/>
                </a:lnTo>
                <a:lnTo>
                  <a:pt x="42" y="309"/>
                </a:lnTo>
                <a:lnTo>
                  <a:pt x="46" y="300"/>
                </a:lnTo>
                <a:lnTo>
                  <a:pt x="59" y="271"/>
                </a:lnTo>
                <a:lnTo>
                  <a:pt x="70" y="248"/>
                </a:lnTo>
                <a:lnTo>
                  <a:pt x="71" y="247"/>
                </a:lnTo>
                <a:lnTo>
                  <a:pt x="72" y="251"/>
                </a:lnTo>
                <a:lnTo>
                  <a:pt x="80" y="260"/>
                </a:lnTo>
                <a:lnTo>
                  <a:pt x="86" y="267"/>
                </a:lnTo>
                <a:lnTo>
                  <a:pt x="87" y="267"/>
                </a:lnTo>
                <a:lnTo>
                  <a:pt x="86" y="270"/>
                </a:lnTo>
                <a:lnTo>
                  <a:pt x="84" y="286"/>
                </a:lnTo>
                <a:lnTo>
                  <a:pt x="77" y="339"/>
                </a:lnTo>
                <a:lnTo>
                  <a:pt x="71" y="380"/>
                </a:lnTo>
                <a:lnTo>
                  <a:pt x="71" y="381"/>
                </a:lnTo>
                <a:lnTo>
                  <a:pt x="72" y="383"/>
                </a:lnTo>
                <a:lnTo>
                  <a:pt x="81" y="393"/>
                </a:lnTo>
                <a:lnTo>
                  <a:pt x="116" y="428"/>
                </a:lnTo>
                <a:lnTo>
                  <a:pt x="142" y="454"/>
                </a:lnTo>
                <a:lnTo>
                  <a:pt x="145" y="454"/>
                </a:lnTo>
                <a:lnTo>
                  <a:pt x="146" y="452"/>
                </a:lnTo>
                <a:lnTo>
                  <a:pt x="162" y="437"/>
                </a:lnTo>
                <a:lnTo>
                  <a:pt x="216" y="383"/>
                </a:lnTo>
                <a:lnTo>
                  <a:pt x="256" y="341"/>
                </a:lnTo>
                <a:lnTo>
                  <a:pt x="259" y="338"/>
                </a:lnTo>
                <a:lnTo>
                  <a:pt x="259" y="329"/>
                </a:lnTo>
                <a:lnTo>
                  <a:pt x="258" y="302"/>
                </a:lnTo>
                <a:lnTo>
                  <a:pt x="258" y="280"/>
                </a:lnTo>
                <a:lnTo>
                  <a:pt x="259" y="279"/>
                </a:lnTo>
                <a:lnTo>
                  <a:pt x="272" y="273"/>
                </a:lnTo>
                <a:lnTo>
                  <a:pt x="314" y="253"/>
                </a:lnTo>
                <a:lnTo>
                  <a:pt x="345" y="237"/>
                </a:lnTo>
                <a:lnTo>
                  <a:pt x="348" y="235"/>
                </a:lnTo>
                <a:lnTo>
                  <a:pt x="348" y="232"/>
                </a:lnTo>
                <a:lnTo>
                  <a:pt x="352" y="210"/>
                </a:lnTo>
                <a:lnTo>
                  <a:pt x="367" y="135"/>
                </a:lnTo>
                <a:lnTo>
                  <a:pt x="377" y="79"/>
                </a:lnTo>
                <a:lnTo>
                  <a:pt x="378" y="74"/>
                </a:lnTo>
                <a:lnTo>
                  <a:pt x="374" y="76"/>
                </a:lnTo>
                <a:lnTo>
                  <a:pt x="352" y="77"/>
                </a:lnTo>
                <a:lnTo>
                  <a:pt x="277" y="84"/>
                </a:lnTo>
                <a:lnTo>
                  <a:pt x="220" y="90"/>
                </a:lnTo>
                <a:lnTo>
                  <a:pt x="217" y="90"/>
                </a:lnTo>
                <a:lnTo>
                  <a:pt x="217" y="84"/>
                </a:lnTo>
                <a:lnTo>
                  <a:pt x="216" y="63"/>
                </a:lnTo>
                <a:lnTo>
                  <a:pt x="216" y="47"/>
                </a:lnTo>
                <a:lnTo>
                  <a:pt x="217" y="45"/>
                </a:lnTo>
                <a:lnTo>
                  <a:pt x="214" y="45"/>
                </a:lnTo>
                <a:lnTo>
                  <a:pt x="199" y="40"/>
                </a:lnTo>
                <a:lnTo>
                  <a:pt x="142" y="18"/>
                </a:lnTo>
                <a:lnTo>
                  <a:pt x="99" y="2"/>
                </a:lnTo>
                <a:lnTo>
                  <a:pt x="97" y="0"/>
                </a:lnTo>
                <a:lnTo>
                  <a:pt x="96" y="0"/>
                </a:lnTo>
                <a:lnTo>
                  <a:pt x="97" y="0"/>
                </a:lnTo>
                <a:lnTo>
                  <a:pt x="96" y="0"/>
                </a:lnTo>
                <a:lnTo>
                  <a:pt x="97" y="0"/>
                </a:lnTo>
                <a:lnTo>
                  <a:pt x="96" y="2"/>
                </a:lnTo>
                <a:lnTo>
                  <a:pt x="88" y="11"/>
                </a:lnTo>
                <a:lnTo>
                  <a:pt x="62" y="38"/>
                </a:lnTo>
                <a:lnTo>
                  <a:pt x="42" y="60"/>
                </a:lnTo>
                <a:lnTo>
                  <a:pt x="42" y="60"/>
                </a:lnTo>
                <a:lnTo>
                  <a:pt x="42" y="6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83520" y="3654360"/>
            <a:ext cx="377640" cy="266760"/>
          </a:xfrm>
          <a:custGeom>
            <a:avLst/>
            <a:gdLst/>
            <a:ahLst/>
            <a:rect l="l" t="t" r="r" b="b"/>
            <a:pathLst>
              <a:path w="1089" h="817">
                <a:moveTo>
                  <a:pt x="85" y="160"/>
                </a:moveTo>
                <a:lnTo>
                  <a:pt x="94" y="168"/>
                </a:lnTo>
                <a:lnTo>
                  <a:pt x="120" y="188"/>
                </a:lnTo>
                <a:lnTo>
                  <a:pt x="142" y="204"/>
                </a:lnTo>
                <a:lnTo>
                  <a:pt x="143" y="204"/>
                </a:lnTo>
                <a:lnTo>
                  <a:pt x="143" y="198"/>
                </a:lnTo>
                <a:lnTo>
                  <a:pt x="142" y="178"/>
                </a:lnTo>
                <a:lnTo>
                  <a:pt x="142" y="162"/>
                </a:lnTo>
                <a:lnTo>
                  <a:pt x="143" y="160"/>
                </a:lnTo>
                <a:lnTo>
                  <a:pt x="137" y="152"/>
                </a:lnTo>
                <a:lnTo>
                  <a:pt x="124" y="124"/>
                </a:lnTo>
                <a:lnTo>
                  <a:pt x="114" y="102"/>
                </a:lnTo>
                <a:lnTo>
                  <a:pt x="114" y="101"/>
                </a:lnTo>
                <a:lnTo>
                  <a:pt x="120" y="98"/>
                </a:lnTo>
                <a:lnTo>
                  <a:pt x="140" y="85"/>
                </a:lnTo>
                <a:lnTo>
                  <a:pt x="156" y="75"/>
                </a:lnTo>
                <a:lnTo>
                  <a:pt x="157" y="73"/>
                </a:lnTo>
                <a:lnTo>
                  <a:pt x="157" y="72"/>
                </a:lnTo>
                <a:lnTo>
                  <a:pt x="159" y="63"/>
                </a:lnTo>
                <a:lnTo>
                  <a:pt x="166" y="29"/>
                </a:lnTo>
                <a:lnTo>
                  <a:pt x="170" y="2"/>
                </a:lnTo>
                <a:lnTo>
                  <a:pt x="172" y="0"/>
                </a:lnTo>
                <a:lnTo>
                  <a:pt x="194" y="4"/>
                </a:lnTo>
                <a:lnTo>
                  <a:pt x="263" y="17"/>
                </a:lnTo>
                <a:lnTo>
                  <a:pt x="315" y="27"/>
                </a:lnTo>
                <a:lnTo>
                  <a:pt x="318" y="27"/>
                </a:lnTo>
                <a:lnTo>
                  <a:pt x="326" y="37"/>
                </a:lnTo>
                <a:lnTo>
                  <a:pt x="346" y="65"/>
                </a:lnTo>
                <a:lnTo>
                  <a:pt x="363" y="86"/>
                </a:lnTo>
                <a:lnTo>
                  <a:pt x="365" y="86"/>
                </a:lnTo>
                <a:lnTo>
                  <a:pt x="372" y="86"/>
                </a:lnTo>
                <a:lnTo>
                  <a:pt x="433" y="82"/>
                </a:lnTo>
                <a:lnTo>
                  <a:pt x="636" y="68"/>
                </a:lnTo>
                <a:lnTo>
                  <a:pt x="792" y="56"/>
                </a:lnTo>
                <a:lnTo>
                  <a:pt x="801" y="55"/>
                </a:lnTo>
                <a:lnTo>
                  <a:pt x="801" y="56"/>
                </a:lnTo>
                <a:lnTo>
                  <a:pt x="801" y="60"/>
                </a:lnTo>
                <a:lnTo>
                  <a:pt x="802" y="76"/>
                </a:lnTo>
                <a:lnTo>
                  <a:pt x="802" y="89"/>
                </a:lnTo>
                <a:lnTo>
                  <a:pt x="804" y="89"/>
                </a:lnTo>
                <a:lnTo>
                  <a:pt x="822" y="98"/>
                </a:lnTo>
                <a:lnTo>
                  <a:pt x="882" y="123"/>
                </a:lnTo>
                <a:lnTo>
                  <a:pt x="927" y="142"/>
                </a:lnTo>
                <a:lnTo>
                  <a:pt x="930" y="142"/>
                </a:lnTo>
                <a:lnTo>
                  <a:pt x="930" y="152"/>
                </a:lnTo>
                <a:lnTo>
                  <a:pt x="928" y="181"/>
                </a:lnTo>
                <a:lnTo>
                  <a:pt x="928" y="202"/>
                </a:lnTo>
                <a:lnTo>
                  <a:pt x="930" y="202"/>
                </a:lnTo>
                <a:lnTo>
                  <a:pt x="933" y="204"/>
                </a:lnTo>
                <a:lnTo>
                  <a:pt x="954" y="213"/>
                </a:lnTo>
                <a:lnTo>
                  <a:pt x="1028" y="242"/>
                </a:lnTo>
                <a:lnTo>
                  <a:pt x="1085" y="263"/>
                </a:lnTo>
                <a:lnTo>
                  <a:pt x="1089" y="263"/>
                </a:lnTo>
                <a:lnTo>
                  <a:pt x="1086" y="265"/>
                </a:lnTo>
                <a:lnTo>
                  <a:pt x="1070" y="270"/>
                </a:lnTo>
                <a:lnTo>
                  <a:pt x="1017" y="291"/>
                </a:lnTo>
                <a:lnTo>
                  <a:pt x="975" y="307"/>
                </a:lnTo>
                <a:lnTo>
                  <a:pt x="973" y="307"/>
                </a:lnTo>
                <a:lnTo>
                  <a:pt x="979" y="314"/>
                </a:lnTo>
                <a:lnTo>
                  <a:pt x="1001" y="334"/>
                </a:lnTo>
                <a:lnTo>
                  <a:pt x="1017" y="350"/>
                </a:lnTo>
                <a:lnTo>
                  <a:pt x="1018" y="350"/>
                </a:lnTo>
                <a:lnTo>
                  <a:pt x="1017" y="352"/>
                </a:lnTo>
                <a:lnTo>
                  <a:pt x="1012" y="357"/>
                </a:lnTo>
                <a:lnTo>
                  <a:pt x="999" y="379"/>
                </a:lnTo>
                <a:lnTo>
                  <a:pt x="989" y="395"/>
                </a:lnTo>
                <a:lnTo>
                  <a:pt x="989" y="395"/>
                </a:lnTo>
                <a:lnTo>
                  <a:pt x="988" y="395"/>
                </a:lnTo>
                <a:lnTo>
                  <a:pt x="983" y="395"/>
                </a:lnTo>
                <a:lnTo>
                  <a:pt x="969" y="395"/>
                </a:lnTo>
                <a:lnTo>
                  <a:pt x="959" y="395"/>
                </a:lnTo>
                <a:lnTo>
                  <a:pt x="959" y="395"/>
                </a:lnTo>
                <a:lnTo>
                  <a:pt x="959" y="398"/>
                </a:lnTo>
                <a:lnTo>
                  <a:pt x="963" y="411"/>
                </a:lnTo>
                <a:lnTo>
                  <a:pt x="977" y="459"/>
                </a:lnTo>
                <a:lnTo>
                  <a:pt x="988" y="495"/>
                </a:lnTo>
                <a:lnTo>
                  <a:pt x="989" y="497"/>
                </a:lnTo>
                <a:lnTo>
                  <a:pt x="988" y="499"/>
                </a:lnTo>
                <a:lnTo>
                  <a:pt x="983" y="511"/>
                </a:lnTo>
                <a:lnTo>
                  <a:pt x="969" y="550"/>
                </a:lnTo>
                <a:lnTo>
                  <a:pt x="959" y="581"/>
                </a:lnTo>
                <a:lnTo>
                  <a:pt x="959" y="582"/>
                </a:lnTo>
                <a:lnTo>
                  <a:pt x="956" y="582"/>
                </a:lnTo>
                <a:lnTo>
                  <a:pt x="943" y="582"/>
                </a:lnTo>
                <a:lnTo>
                  <a:pt x="895" y="582"/>
                </a:lnTo>
                <a:lnTo>
                  <a:pt x="859" y="582"/>
                </a:lnTo>
                <a:lnTo>
                  <a:pt x="857" y="582"/>
                </a:lnTo>
                <a:lnTo>
                  <a:pt x="856" y="583"/>
                </a:lnTo>
                <a:lnTo>
                  <a:pt x="851" y="588"/>
                </a:lnTo>
                <a:lnTo>
                  <a:pt x="838" y="601"/>
                </a:lnTo>
                <a:lnTo>
                  <a:pt x="828" y="611"/>
                </a:lnTo>
                <a:lnTo>
                  <a:pt x="828" y="611"/>
                </a:lnTo>
                <a:lnTo>
                  <a:pt x="825" y="611"/>
                </a:lnTo>
                <a:lnTo>
                  <a:pt x="805" y="602"/>
                </a:lnTo>
                <a:lnTo>
                  <a:pt x="737" y="576"/>
                </a:lnTo>
                <a:lnTo>
                  <a:pt x="685" y="556"/>
                </a:lnTo>
                <a:lnTo>
                  <a:pt x="683" y="554"/>
                </a:lnTo>
                <a:lnTo>
                  <a:pt x="682" y="556"/>
                </a:lnTo>
                <a:lnTo>
                  <a:pt x="678" y="559"/>
                </a:lnTo>
                <a:lnTo>
                  <a:pt x="665" y="572"/>
                </a:lnTo>
                <a:lnTo>
                  <a:pt x="654" y="582"/>
                </a:lnTo>
                <a:lnTo>
                  <a:pt x="654" y="582"/>
                </a:lnTo>
                <a:lnTo>
                  <a:pt x="656" y="585"/>
                </a:lnTo>
                <a:lnTo>
                  <a:pt x="672" y="601"/>
                </a:lnTo>
                <a:lnTo>
                  <a:pt x="725" y="654"/>
                </a:lnTo>
                <a:lnTo>
                  <a:pt x="766" y="696"/>
                </a:lnTo>
                <a:lnTo>
                  <a:pt x="769" y="698"/>
                </a:lnTo>
                <a:lnTo>
                  <a:pt x="766" y="701"/>
                </a:lnTo>
                <a:lnTo>
                  <a:pt x="750" y="717"/>
                </a:lnTo>
                <a:lnTo>
                  <a:pt x="696" y="773"/>
                </a:lnTo>
                <a:lnTo>
                  <a:pt x="656" y="815"/>
                </a:lnTo>
                <a:lnTo>
                  <a:pt x="654" y="817"/>
                </a:lnTo>
                <a:lnTo>
                  <a:pt x="652" y="817"/>
                </a:lnTo>
                <a:lnTo>
                  <a:pt x="636" y="817"/>
                </a:lnTo>
                <a:lnTo>
                  <a:pt x="579" y="817"/>
                </a:lnTo>
                <a:lnTo>
                  <a:pt x="536" y="817"/>
                </a:lnTo>
                <a:lnTo>
                  <a:pt x="534" y="815"/>
                </a:lnTo>
                <a:lnTo>
                  <a:pt x="530" y="810"/>
                </a:lnTo>
                <a:lnTo>
                  <a:pt x="518" y="789"/>
                </a:lnTo>
                <a:lnTo>
                  <a:pt x="510" y="775"/>
                </a:lnTo>
                <a:lnTo>
                  <a:pt x="510" y="773"/>
                </a:lnTo>
                <a:lnTo>
                  <a:pt x="510" y="768"/>
                </a:lnTo>
                <a:lnTo>
                  <a:pt x="508" y="747"/>
                </a:lnTo>
                <a:lnTo>
                  <a:pt x="508" y="733"/>
                </a:lnTo>
                <a:lnTo>
                  <a:pt x="510" y="731"/>
                </a:lnTo>
                <a:lnTo>
                  <a:pt x="508" y="730"/>
                </a:lnTo>
                <a:lnTo>
                  <a:pt x="499" y="718"/>
                </a:lnTo>
                <a:lnTo>
                  <a:pt x="472" y="676"/>
                </a:lnTo>
                <a:lnTo>
                  <a:pt x="450" y="644"/>
                </a:lnTo>
                <a:lnTo>
                  <a:pt x="450" y="641"/>
                </a:lnTo>
                <a:lnTo>
                  <a:pt x="450" y="640"/>
                </a:lnTo>
                <a:lnTo>
                  <a:pt x="452" y="631"/>
                </a:lnTo>
                <a:lnTo>
                  <a:pt x="456" y="597"/>
                </a:lnTo>
                <a:lnTo>
                  <a:pt x="460" y="570"/>
                </a:lnTo>
                <a:lnTo>
                  <a:pt x="462" y="568"/>
                </a:lnTo>
                <a:lnTo>
                  <a:pt x="457" y="565"/>
                </a:lnTo>
                <a:lnTo>
                  <a:pt x="446" y="552"/>
                </a:lnTo>
                <a:lnTo>
                  <a:pt x="437" y="541"/>
                </a:lnTo>
                <a:lnTo>
                  <a:pt x="437" y="540"/>
                </a:lnTo>
                <a:lnTo>
                  <a:pt x="437" y="539"/>
                </a:lnTo>
                <a:lnTo>
                  <a:pt x="439" y="523"/>
                </a:lnTo>
                <a:lnTo>
                  <a:pt x="444" y="468"/>
                </a:lnTo>
                <a:lnTo>
                  <a:pt x="449" y="426"/>
                </a:lnTo>
                <a:lnTo>
                  <a:pt x="450" y="423"/>
                </a:lnTo>
                <a:lnTo>
                  <a:pt x="447" y="424"/>
                </a:lnTo>
                <a:lnTo>
                  <a:pt x="427" y="426"/>
                </a:lnTo>
                <a:lnTo>
                  <a:pt x="357" y="433"/>
                </a:lnTo>
                <a:lnTo>
                  <a:pt x="305" y="439"/>
                </a:lnTo>
                <a:lnTo>
                  <a:pt x="304" y="439"/>
                </a:lnTo>
                <a:lnTo>
                  <a:pt x="299" y="437"/>
                </a:lnTo>
                <a:lnTo>
                  <a:pt x="269" y="426"/>
                </a:lnTo>
                <a:lnTo>
                  <a:pt x="166" y="384"/>
                </a:lnTo>
                <a:lnTo>
                  <a:pt x="88" y="353"/>
                </a:lnTo>
                <a:lnTo>
                  <a:pt x="85" y="350"/>
                </a:lnTo>
                <a:lnTo>
                  <a:pt x="84" y="349"/>
                </a:lnTo>
                <a:lnTo>
                  <a:pt x="78" y="337"/>
                </a:lnTo>
                <a:lnTo>
                  <a:pt x="57" y="295"/>
                </a:lnTo>
                <a:lnTo>
                  <a:pt x="42" y="265"/>
                </a:lnTo>
                <a:lnTo>
                  <a:pt x="42" y="262"/>
                </a:lnTo>
                <a:lnTo>
                  <a:pt x="34" y="265"/>
                </a:lnTo>
                <a:lnTo>
                  <a:pt x="14" y="273"/>
                </a:lnTo>
                <a:lnTo>
                  <a:pt x="0" y="279"/>
                </a:lnTo>
                <a:lnTo>
                  <a:pt x="0" y="279"/>
                </a:lnTo>
                <a:lnTo>
                  <a:pt x="0" y="278"/>
                </a:lnTo>
                <a:lnTo>
                  <a:pt x="5" y="263"/>
                </a:lnTo>
                <a:lnTo>
                  <a:pt x="26" y="215"/>
                </a:lnTo>
                <a:lnTo>
                  <a:pt x="40" y="178"/>
                </a:lnTo>
                <a:lnTo>
                  <a:pt x="42" y="175"/>
                </a:lnTo>
                <a:lnTo>
                  <a:pt x="36" y="165"/>
                </a:lnTo>
                <a:lnTo>
                  <a:pt x="23" y="130"/>
                </a:lnTo>
                <a:lnTo>
                  <a:pt x="13" y="104"/>
                </a:lnTo>
                <a:lnTo>
                  <a:pt x="13" y="101"/>
                </a:lnTo>
                <a:lnTo>
                  <a:pt x="18" y="98"/>
                </a:lnTo>
                <a:lnTo>
                  <a:pt x="39" y="88"/>
                </a:lnTo>
                <a:lnTo>
                  <a:pt x="55" y="79"/>
                </a:lnTo>
                <a:lnTo>
                  <a:pt x="56" y="78"/>
                </a:lnTo>
                <a:lnTo>
                  <a:pt x="55" y="78"/>
                </a:lnTo>
                <a:lnTo>
                  <a:pt x="56" y="78"/>
                </a:lnTo>
                <a:lnTo>
                  <a:pt x="55" y="78"/>
                </a:lnTo>
                <a:lnTo>
                  <a:pt x="56" y="78"/>
                </a:lnTo>
                <a:lnTo>
                  <a:pt x="56" y="81"/>
                </a:lnTo>
                <a:lnTo>
                  <a:pt x="60" y="91"/>
                </a:lnTo>
                <a:lnTo>
                  <a:pt x="73" y="130"/>
                </a:lnTo>
                <a:lnTo>
                  <a:pt x="84" y="159"/>
                </a:lnTo>
                <a:lnTo>
                  <a:pt x="85" y="160"/>
                </a:lnTo>
                <a:lnTo>
                  <a:pt x="85" y="16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99200" y="3940200"/>
            <a:ext cx="351000" cy="444600"/>
          </a:xfrm>
          <a:custGeom>
            <a:avLst/>
            <a:gdLst/>
            <a:ahLst/>
            <a:rect l="l" t="t" r="r" b="b"/>
            <a:pathLst>
              <a:path w="1020" h="1356">
                <a:moveTo>
                  <a:pt x="0" y="384"/>
                </a:moveTo>
                <a:lnTo>
                  <a:pt x="0" y="387"/>
                </a:lnTo>
                <a:lnTo>
                  <a:pt x="3" y="404"/>
                </a:lnTo>
                <a:lnTo>
                  <a:pt x="16" y="462"/>
                </a:lnTo>
                <a:lnTo>
                  <a:pt x="26" y="507"/>
                </a:lnTo>
                <a:lnTo>
                  <a:pt x="28" y="508"/>
                </a:lnTo>
                <a:lnTo>
                  <a:pt x="29" y="510"/>
                </a:lnTo>
                <a:lnTo>
                  <a:pt x="44" y="518"/>
                </a:lnTo>
                <a:lnTo>
                  <a:pt x="91" y="546"/>
                </a:lnTo>
                <a:lnTo>
                  <a:pt x="128" y="568"/>
                </a:lnTo>
                <a:lnTo>
                  <a:pt x="131" y="568"/>
                </a:lnTo>
                <a:lnTo>
                  <a:pt x="131" y="571"/>
                </a:lnTo>
                <a:lnTo>
                  <a:pt x="135" y="582"/>
                </a:lnTo>
                <a:lnTo>
                  <a:pt x="149" y="623"/>
                </a:lnTo>
                <a:lnTo>
                  <a:pt x="159" y="653"/>
                </a:lnTo>
                <a:lnTo>
                  <a:pt x="161" y="655"/>
                </a:lnTo>
                <a:lnTo>
                  <a:pt x="170" y="658"/>
                </a:lnTo>
                <a:lnTo>
                  <a:pt x="196" y="665"/>
                </a:lnTo>
                <a:lnTo>
                  <a:pt x="217" y="669"/>
                </a:lnTo>
                <a:lnTo>
                  <a:pt x="219" y="669"/>
                </a:lnTo>
                <a:lnTo>
                  <a:pt x="219" y="674"/>
                </a:lnTo>
                <a:lnTo>
                  <a:pt x="225" y="695"/>
                </a:lnTo>
                <a:lnTo>
                  <a:pt x="245" y="771"/>
                </a:lnTo>
                <a:lnTo>
                  <a:pt x="259" y="827"/>
                </a:lnTo>
                <a:lnTo>
                  <a:pt x="261" y="830"/>
                </a:lnTo>
                <a:lnTo>
                  <a:pt x="264" y="833"/>
                </a:lnTo>
                <a:lnTo>
                  <a:pt x="284" y="850"/>
                </a:lnTo>
                <a:lnTo>
                  <a:pt x="354" y="908"/>
                </a:lnTo>
                <a:lnTo>
                  <a:pt x="406" y="952"/>
                </a:lnTo>
                <a:lnTo>
                  <a:pt x="410" y="953"/>
                </a:lnTo>
                <a:lnTo>
                  <a:pt x="410" y="956"/>
                </a:lnTo>
                <a:lnTo>
                  <a:pt x="412" y="971"/>
                </a:lnTo>
                <a:lnTo>
                  <a:pt x="419" y="1020"/>
                </a:lnTo>
                <a:lnTo>
                  <a:pt x="425" y="1057"/>
                </a:lnTo>
                <a:lnTo>
                  <a:pt x="426" y="1059"/>
                </a:lnTo>
                <a:lnTo>
                  <a:pt x="429" y="1063"/>
                </a:lnTo>
                <a:lnTo>
                  <a:pt x="452" y="1084"/>
                </a:lnTo>
                <a:lnTo>
                  <a:pt x="535" y="1156"/>
                </a:lnTo>
                <a:lnTo>
                  <a:pt x="597" y="1210"/>
                </a:lnTo>
                <a:lnTo>
                  <a:pt x="601" y="1213"/>
                </a:lnTo>
                <a:lnTo>
                  <a:pt x="604" y="1214"/>
                </a:lnTo>
                <a:lnTo>
                  <a:pt x="635" y="1220"/>
                </a:lnTo>
                <a:lnTo>
                  <a:pt x="735" y="1239"/>
                </a:lnTo>
                <a:lnTo>
                  <a:pt x="811" y="1253"/>
                </a:lnTo>
                <a:lnTo>
                  <a:pt x="816" y="1253"/>
                </a:lnTo>
                <a:lnTo>
                  <a:pt x="826" y="1271"/>
                </a:lnTo>
                <a:lnTo>
                  <a:pt x="858" y="1318"/>
                </a:lnTo>
                <a:lnTo>
                  <a:pt x="882" y="1355"/>
                </a:lnTo>
                <a:lnTo>
                  <a:pt x="884" y="1356"/>
                </a:lnTo>
                <a:lnTo>
                  <a:pt x="885" y="1355"/>
                </a:lnTo>
                <a:lnTo>
                  <a:pt x="900" y="1334"/>
                </a:lnTo>
                <a:lnTo>
                  <a:pt x="951" y="1265"/>
                </a:lnTo>
                <a:lnTo>
                  <a:pt x="988" y="1213"/>
                </a:lnTo>
                <a:lnTo>
                  <a:pt x="991" y="1210"/>
                </a:lnTo>
                <a:lnTo>
                  <a:pt x="988" y="1197"/>
                </a:lnTo>
                <a:lnTo>
                  <a:pt x="982" y="1155"/>
                </a:lnTo>
                <a:lnTo>
                  <a:pt x="978" y="1124"/>
                </a:lnTo>
                <a:lnTo>
                  <a:pt x="978" y="1121"/>
                </a:lnTo>
                <a:lnTo>
                  <a:pt x="978" y="1120"/>
                </a:lnTo>
                <a:lnTo>
                  <a:pt x="984" y="1101"/>
                </a:lnTo>
                <a:lnTo>
                  <a:pt x="1004" y="1040"/>
                </a:lnTo>
                <a:lnTo>
                  <a:pt x="1019" y="992"/>
                </a:lnTo>
                <a:lnTo>
                  <a:pt x="1020" y="989"/>
                </a:lnTo>
                <a:lnTo>
                  <a:pt x="1017" y="986"/>
                </a:lnTo>
                <a:lnTo>
                  <a:pt x="1004" y="965"/>
                </a:lnTo>
                <a:lnTo>
                  <a:pt x="956" y="891"/>
                </a:lnTo>
                <a:lnTo>
                  <a:pt x="920" y="834"/>
                </a:lnTo>
                <a:lnTo>
                  <a:pt x="919" y="830"/>
                </a:lnTo>
                <a:lnTo>
                  <a:pt x="916" y="830"/>
                </a:lnTo>
                <a:lnTo>
                  <a:pt x="907" y="827"/>
                </a:lnTo>
                <a:lnTo>
                  <a:pt x="872" y="814"/>
                </a:lnTo>
                <a:lnTo>
                  <a:pt x="846" y="804"/>
                </a:lnTo>
                <a:lnTo>
                  <a:pt x="845" y="802"/>
                </a:lnTo>
                <a:lnTo>
                  <a:pt x="845" y="792"/>
                </a:lnTo>
                <a:lnTo>
                  <a:pt x="843" y="758"/>
                </a:lnTo>
                <a:lnTo>
                  <a:pt x="843" y="731"/>
                </a:lnTo>
                <a:lnTo>
                  <a:pt x="845" y="729"/>
                </a:lnTo>
                <a:lnTo>
                  <a:pt x="838" y="724"/>
                </a:lnTo>
                <a:lnTo>
                  <a:pt x="817" y="710"/>
                </a:lnTo>
                <a:lnTo>
                  <a:pt x="803" y="700"/>
                </a:lnTo>
                <a:lnTo>
                  <a:pt x="803" y="698"/>
                </a:lnTo>
                <a:lnTo>
                  <a:pt x="800" y="700"/>
                </a:lnTo>
                <a:lnTo>
                  <a:pt x="791" y="705"/>
                </a:lnTo>
                <a:lnTo>
                  <a:pt x="756" y="727"/>
                </a:lnTo>
                <a:lnTo>
                  <a:pt x="730" y="743"/>
                </a:lnTo>
                <a:lnTo>
                  <a:pt x="729" y="743"/>
                </a:lnTo>
                <a:lnTo>
                  <a:pt x="719" y="734"/>
                </a:lnTo>
                <a:lnTo>
                  <a:pt x="691" y="708"/>
                </a:lnTo>
                <a:lnTo>
                  <a:pt x="669" y="687"/>
                </a:lnTo>
                <a:lnTo>
                  <a:pt x="669" y="685"/>
                </a:lnTo>
                <a:lnTo>
                  <a:pt x="668" y="687"/>
                </a:lnTo>
                <a:lnTo>
                  <a:pt x="659" y="695"/>
                </a:lnTo>
                <a:lnTo>
                  <a:pt x="633" y="721"/>
                </a:lnTo>
                <a:lnTo>
                  <a:pt x="612" y="743"/>
                </a:lnTo>
                <a:lnTo>
                  <a:pt x="612" y="743"/>
                </a:lnTo>
                <a:lnTo>
                  <a:pt x="604" y="726"/>
                </a:lnTo>
                <a:lnTo>
                  <a:pt x="584" y="671"/>
                </a:lnTo>
                <a:lnTo>
                  <a:pt x="568" y="629"/>
                </a:lnTo>
                <a:lnTo>
                  <a:pt x="568" y="626"/>
                </a:lnTo>
                <a:lnTo>
                  <a:pt x="568" y="624"/>
                </a:lnTo>
                <a:lnTo>
                  <a:pt x="574" y="608"/>
                </a:lnTo>
                <a:lnTo>
                  <a:pt x="594" y="553"/>
                </a:lnTo>
                <a:lnTo>
                  <a:pt x="610" y="511"/>
                </a:lnTo>
                <a:lnTo>
                  <a:pt x="612" y="508"/>
                </a:lnTo>
                <a:lnTo>
                  <a:pt x="612" y="500"/>
                </a:lnTo>
                <a:lnTo>
                  <a:pt x="610" y="474"/>
                </a:lnTo>
                <a:lnTo>
                  <a:pt x="610" y="452"/>
                </a:lnTo>
                <a:lnTo>
                  <a:pt x="612" y="450"/>
                </a:lnTo>
                <a:lnTo>
                  <a:pt x="614" y="447"/>
                </a:lnTo>
                <a:lnTo>
                  <a:pt x="643" y="426"/>
                </a:lnTo>
                <a:lnTo>
                  <a:pt x="738" y="353"/>
                </a:lnTo>
                <a:lnTo>
                  <a:pt x="811" y="297"/>
                </a:lnTo>
                <a:lnTo>
                  <a:pt x="816" y="292"/>
                </a:lnTo>
                <a:lnTo>
                  <a:pt x="814" y="292"/>
                </a:lnTo>
                <a:lnTo>
                  <a:pt x="810" y="292"/>
                </a:lnTo>
                <a:lnTo>
                  <a:pt x="797" y="292"/>
                </a:lnTo>
                <a:lnTo>
                  <a:pt x="787" y="292"/>
                </a:lnTo>
                <a:lnTo>
                  <a:pt x="787" y="292"/>
                </a:lnTo>
                <a:lnTo>
                  <a:pt x="787" y="272"/>
                </a:lnTo>
                <a:lnTo>
                  <a:pt x="785" y="210"/>
                </a:lnTo>
                <a:lnTo>
                  <a:pt x="785" y="162"/>
                </a:lnTo>
                <a:lnTo>
                  <a:pt x="787" y="159"/>
                </a:lnTo>
                <a:lnTo>
                  <a:pt x="784" y="159"/>
                </a:lnTo>
                <a:lnTo>
                  <a:pt x="771" y="155"/>
                </a:lnTo>
                <a:lnTo>
                  <a:pt x="725" y="142"/>
                </a:lnTo>
                <a:lnTo>
                  <a:pt x="690" y="132"/>
                </a:lnTo>
                <a:lnTo>
                  <a:pt x="688" y="130"/>
                </a:lnTo>
                <a:lnTo>
                  <a:pt x="684" y="130"/>
                </a:lnTo>
                <a:lnTo>
                  <a:pt x="664" y="130"/>
                </a:lnTo>
                <a:lnTo>
                  <a:pt x="594" y="130"/>
                </a:lnTo>
                <a:lnTo>
                  <a:pt x="542" y="130"/>
                </a:lnTo>
                <a:lnTo>
                  <a:pt x="539" y="130"/>
                </a:lnTo>
                <a:lnTo>
                  <a:pt x="523" y="110"/>
                </a:lnTo>
                <a:lnTo>
                  <a:pt x="475" y="49"/>
                </a:lnTo>
                <a:lnTo>
                  <a:pt x="439" y="3"/>
                </a:lnTo>
                <a:lnTo>
                  <a:pt x="438" y="0"/>
                </a:lnTo>
                <a:lnTo>
                  <a:pt x="436" y="0"/>
                </a:lnTo>
                <a:lnTo>
                  <a:pt x="430" y="0"/>
                </a:lnTo>
                <a:lnTo>
                  <a:pt x="409" y="0"/>
                </a:lnTo>
                <a:lnTo>
                  <a:pt x="393" y="0"/>
                </a:lnTo>
                <a:lnTo>
                  <a:pt x="393" y="0"/>
                </a:lnTo>
                <a:lnTo>
                  <a:pt x="391" y="4"/>
                </a:lnTo>
                <a:lnTo>
                  <a:pt x="387" y="26"/>
                </a:lnTo>
                <a:lnTo>
                  <a:pt x="374" y="100"/>
                </a:lnTo>
                <a:lnTo>
                  <a:pt x="364" y="156"/>
                </a:lnTo>
                <a:lnTo>
                  <a:pt x="364" y="159"/>
                </a:lnTo>
                <a:lnTo>
                  <a:pt x="361" y="161"/>
                </a:lnTo>
                <a:lnTo>
                  <a:pt x="349" y="166"/>
                </a:lnTo>
                <a:lnTo>
                  <a:pt x="307" y="188"/>
                </a:lnTo>
                <a:lnTo>
                  <a:pt x="277" y="204"/>
                </a:lnTo>
                <a:lnTo>
                  <a:pt x="275" y="204"/>
                </a:lnTo>
                <a:lnTo>
                  <a:pt x="275" y="216"/>
                </a:lnTo>
                <a:lnTo>
                  <a:pt x="274" y="246"/>
                </a:lnTo>
                <a:lnTo>
                  <a:pt x="274" y="269"/>
                </a:lnTo>
                <a:lnTo>
                  <a:pt x="275" y="269"/>
                </a:lnTo>
                <a:lnTo>
                  <a:pt x="272" y="272"/>
                </a:lnTo>
                <a:lnTo>
                  <a:pt x="257" y="287"/>
                </a:lnTo>
                <a:lnTo>
                  <a:pt x="202" y="339"/>
                </a:lnTo>
                <a:lnTo>
                  <a:pt x="159" y="378"/>
                </a:lnTo>
                <a:lnTo>
                  <a:pt x="158" y="379"/>
                </a:lnTo>
                <a:lnTo>
                  <a:pt x="157" y="378"/>
                </a:lnTo>
                <a:lnTo>
                  <a:pt x="146" y="369"/>
                </a:lnTo>
                <a:lnTo>
                  <a:pt x="113" y="334"/>
                </a:lnTo>
                <a:lnTo>
                  <a:pt x="87" y="308"/>
                </a:lnTo>
                <a:lnTo>
                  <a:pt x="87" y="305"/>
                </a:lnTo>
                <a:lnTo>
                  <a:pt x="86" y="305"/>
                </a:lnTo>
                <a:lnTo>
                  <a:pt x="87" y="305"/>
                </a:lnTo>
                <a:lnTo>
                  <a:pt x="86" y="305"/>
                </a:lnTo>
                <a:lnTo>
                  <a:pt x="87" y="305"/>
                </a:lnTo>
                <a:lnTo>
                  <a:pt x="84" y="308"/>
                </a:lnTo>
                <a:lnTo>
                  <a:pt x="73" y="319"/>
                </a:lnTo>
                <a:lnTo>
                  <a:pt x="32" y="355"/>
                </a:lnTo>
                <a:lnTo>
                  <a:pt x="2" y="382"/>
                </a:lnTo>
                <a:lnTo>
                  <a:pt x="0" y="384"/>
                </a:lnTo>
                <a:lnTo>
                  <a:pt x="0" y="384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02680" y="4359240"/>
            <a:ext cx="144360" cy="863640"/>
          </a:xfrm>
          <a:custGeom>
            <a:avLst/>
            <a:gdLst/>
            <a:ahLst/>
            <a:rect l="l" t="t" r="r" b="b"/>
            <a:pathLst>
              <a:path w="421" h="2640">
                <a:moveTo>
                  <a:pt x="50" y="149"/>
                </a:moveTo>
                <a:lnTo>
                  <a:pt x="50" y="160"/>
                </a:lnTo>
                <a:lnTo>
                  <a:pt x="51" y="225"/>
                </a:lnTo>
                <a:lnTo>
                  <a:pt x="58" y="448"/>
                </a:lnTo>
                <a:lnTo>
                  <a:pt x="63" y="617"/>
                </a:lnTo>
                <a:lnTo>
                  <a:pt x="64" y="626"/>
                </a:lnTo>
                <a:lnTo>
                  <a:pt x="70" y="632"/>
                </a:lnTo>
                <a:lnTo>
                  <a:pt x="92" y="646"/>
                </a:lnTo>
                <a:lnTo>
                  <a:pt x="108" y="657"/>
                </a:lnTo>
                <a:lnTo>
                  <a:pt x="109" y="657"/>
                </a:lnTo>
                <a:lnTo>
                  <a:pt x="108" y="658"/>
                </a:lnTo>
                <a:lnTo>
                  <a:pt x="99" y="668"/>
                </a:lnTo>
                <a:lnTo>
                  <a:pt x="71" y="703"/>
                </a:lnTo>
                <a:lnTo>
                  <a:pt x="50" y="729"/>
                </a:lnTo>
                <a:lnTo>
                  <a:pt x="50" y="729"/>
                </a:lnTo>
                <a:lnTo>
                  <a:pt x="48" y="733"/>
                </a:lnTo>
                <a:lnTo>
                  <a:pt x="47" y="762"/>
                </a:lnTo>
                <a:lnTo>
                  <a:pt x="41" y="857"/>
                </a:lnTo>
                <a:lnTo>
                  <a:pt x="37" y="930"/>
                </a:lnTo>
                <a:lnTo>
                  <a:pt x="37" y="933"/>
                </a:lnTo>
                <a:lnTo>
                  <a:pt x="45" y="951"/>
                </a:lnTo>
                <a:lnTo>
                  <a:pt x="73" y="999"/>
                </a:lnTo>
                <a:lnTo>
                  <a:pt x="95" y="1035"/>
                </a:lnTo>
                <a:lnTo>
                  <a:pt x="96" y="1036"/>
                </a:lnTo>
                <a:lnTo>
                  <a:pt x="95" y="1043"/>
                </a:lnTo>
                <a:lnTo>
                  <a:pt x="90" y="1087"/>
                </a:lnTo>
                <a:lnTo>
                  <a:pt x="76" y="1236"/>
                </a:lnTo>
                <a:lnTo>
                  <a:pt x="64" y="1351"/>
                </a:lnTo>
                <a:lnTo>
                  <a:pt x="64" y="1356"/>
                </a:lnTo>
                <a:lnTo>
                  <a:pt x="63" y="1359"/>
                </a:lnTo>
                <a:lnTo>
                  <a:pt x="57" y="1378"/>
                </a:lnTo>
                <a:lnTo>
                  <a:pt x="37" y="1439"/>
                </a:lnTo>
                <a:lnTo>
                  <a:pt x="21" y="1487"/>
                </a:lnTo>
                <a:lnTo>
                  <a:pt x="21" y="1488"/>
                </a:lnTo>
                <a:lnTo>
                  <a:pt x="27" y="1504"/>
                </a:lnTo>
                <a:lnTo>
                  <a:pt x="47" y="1552"/>
                </a:lnTo>
                <a:lnTo>
                  <a:pt x="63" y="1587"/>
                </a:lnTo>
                <a:lnTo>
                  <a:pt x="64" y="1588"/>
                </a:lnTo>
                <a:lnTo>
                  <a:pt x="64" y="1591"/>
                </a:lnTo>
                <a:lnTo>
                  <a:pt x="66" y="1611"/>
                </a:lnTo>
                <a:lnTo>
                  <a:pt x="74" y="1680"/>
                </a:lnTo>
                <a:lnTo>
                  <a:pt x="80" y="1732"/>
                </a:lnTo>
                <a:lnTo>
                  <a:pt x="82" y="1733"/>
                </a:lnTo>
                <a:lnTo>
                  <a:pt x="90" y="1746"/>
                </a:lnTo>
                <a:lnTo>
                  <a:pt x="116" y="1785"/>
                </a:lnTo>
                <a:lnTo>
                  <a:pt x="137" y="1814"/>
                </a:lnTo>
                <a:lnTo>
                  <a:pt x="138" y="1816"/>
                </a:lnTo>
                <a:lnTo>
                  <a:pt x="138" y="1817"/>
                </a:lnTo>
                <a:lnTo>
                  <a:pt x="140" y="1824"/>
                </a:lnTo>
                <a:lnTo>
                  <a:pt x="148" y="1848"/>
                </a:lnTo>
                <a:lnTo>
                  <a:pt x="154" y="1865"/>
                </a:lnTo>
                <a:lnTo>
                  <a:pt x="155" y="1865"/>
                </a:lnTo>
                <a:lnTo>
                  <a:pt x="154" y="1867"/>
                </a:lnTo>
                <a:lnTo>
                  <a:pt x="148" y="1874"/>
                </a:lnTo>
                <a:lnTo>
                  <a:pt x="131" y="1900"/>
                </a:lnTo>
                <a:lnTo>
                  <a:pt x="116" y="1919"/>
                </a:lnTo>
                <a:lnTo>
                  <a:pt x="116" y="1919"/>
                </a:lnTo>
                <a:lnTo>
                  <a:pt x="124" y="1935"/>
                </a:lnTo>
                <a:lnTo>
                  <a:pt x="148" y="1978"/>
                </a:lnTo>
                <a:lnTo>
                  <a:pt x="167" y="2011"/>
                </a:lnTo>
                <a:lnTo>
                  <a:pt x="169" y="2013"/>
                </a:lnTo>
                <a:lnTo>
                  <a:pt x="166" y="2023"/>
                </a:lnTo>
                <a:lnTo>
                  <a:pt x="158" y="2051"/>
                </a:lnTo>
                <a:lnTo>
                  <a:pt x="153" y="2072"/>
                </a:lnTo>
                <a:lnTo>
                  <a:pt x="153" y="2072"/>
                </a:lnTo>
                <a:lnTo>
                  <a:pt x="150" y="2074"/>
                </a:lnTo>
                <a:lnTo>
                  <a:pt x="135" y="2081"/>
                </a:lnTo>
                <a:lnTo>
                  <a:pt x="87" y="2107"/>
                </a:lnTo>
                <a:lnTo>
                  <a:pt x="51" y="2126"/>
                </a:lnTo>
                <a:lnTo>
                  <a:pt x="50" y="2126"/>
                </a:lnTo>
                <a:lnTo>
                  <a:pt x="50" y="2132"/>
                </a:lnTo>
                <a:lnTo>
                  <a:pt x="48" y="2146"/>
                </a:lnTo>
                <a:lnTo>
                  <a:pt x="48" y="2158"/>
                </a:lnTo>
                <a:lnTo>
                  <a:pt x="50" y="2158"/>
                </a:lnTo>
                <a:lnTo>
                  <a:pt x="58" y="2161"/>
                </a:lnTo>
                <a:lnTo>
                  <a:pt x="86" y="2168"/>
                </a:lnTo>
                <a:lnTo>
                  <a:pt x="108" y="2174"/>
                </a:lnTo>
                <a:lnTo>
                  <a:pt x="109" y="2174"/>
                </a:lnTo>
                <a:lnTo>
                  <a:pt x="109" y="2184"/>
                </a:lnTo>
                <a:lnTo>
                  <a:pt x="108" y="2210"/>
                </a:lnTo>
                <a:lnTo>
                  <a:pt x="108" y="2230"/>
                </a:lnTo>
                <a:lnTo>
                  <a:pt x="109" y="2230"/>
                </a:lnTo>
                <a:lnTo>
                  <a:pt x="115" y="2233"/>
                </a:lnTo>
                <a:lnTo>
                  <a:pt x="137" y="2242"/>
                </a:lnTo>
                <a:lnTo>
                  <a:pt x="153" y="2248"/>
                </a:lnTo>
                <a:lnTo>
                  <a:pt x="154" y="2248"/>
                </a:lnTo>
                <a:lnTo>
                  <a:pt x="151" y="2258"/>
                </a:lnTo>
                <a:lnTo>
                  <a:pt x="144" y="2284"/>
                </a:lnTo>
                <a:lnTo>
                  <a:pt x="138" y="2304"/>
                </a:lnTo>
                <a:lnTo>
                  <a:pt x="138" y="2304"/>
                </a:lnTo>
                <a:lnTo>
                  <a:pt x="138" y="2323"/>
                </a:lnTo>
                <a:lnTo>
                  <a:pt x="137" y="2377"/>
                </a:lnTo>
                <a:lnTo>
                  <a:pt x="137" y="2419"/>
                </a:lnTo>
                <a:lnTo>
                  <a:pt x="138" y="2420"/>
                </a:lnTo>
                <a:lnTo>
                  <a:pt x="144" y="2435"/>
                </a:lnTo>
                <a:lnTo>
                  <a:pt x="164" y="2474"/>
                </a:lnTo>
                <a:lnTo>
                  <a:pt x="179" y="2504"/>
                </a:lnTo>
                <a:lnTo>
                  <a:pt x="180" y="2506"/>
                </a:lnTo>
                <a:lnTo>
                  <a:pt x="184" y="2510"/>
                </a:lnTo>
                <a:lnTo>
                  <a:pt x="199" y="2520"/>
                </a:lnTo>
                <a:lnTo>
                  <a:pt x="211" y="2529"/>
                </a:lnTo>
                <a:lnTo>
                  <a:pt x="212" y="2529"/>
                </a:lnTo>
                <a:lnTo>
                  <a:pt x="212" y="2532"/>
                </a:lnTo>
                <a:lnTo>
                  <a:pt x="216" y="2542"/>
                </a:lnTo>
                <a:lnTo>
                  <a:pt x="229" y="2579"/>
                </a:lnTo>
                <a:lnTo>
                  <a:pt x="240" y="2608"/>
                </a:lnTo>
                <a:lnTo>
                  <a:pt x="241" y="2610"/>
                </a:lnTo>
                <a:lnTo>
                  <a:pt x="244" y="2610"/>
                </a:lnTo>
                <a:lnTo>
                  <a:pt x="257" y="2610"/>
                </a:lnTo>
                <a:lnTo>
                  <a:pt x="267" y="2610"/>
                </a:lnTo>
                <a:lnTo>
                  <a:pt x="268" y="2610"/>
                </a:lnTo>
                <a:lnTo>
                  <a:pt x="271" y="2608"/>
                </a:lnTo>
                <a:lnTo>
                  <a:pt x="280" y="2600"/>
                </a:lnTo>
                <a:lnTo>
                  <a:pt x="287" y="2594"/>
                </a:lnTo>
                <a:lnTo>
                  <a:pt x="289" y="2592"/>
                </a:lnTo>
                <a:lnTo>
                  <a:pt x="289" y="2590"/>
                </a:lnTo>
                <a:lnTo>
                  <a:pt x="293" y="2578"/>
                </a:lnTo>
                <a:lnTo>
                  <a:pt x="296" y="2569"/>
                </a:lnTo>
                <a:lnTo>
                  <a:pt x="297" y="2568"/>
                </a:lnTo>
                <a:lnTo>
                  <a:pt x="299" y="2571"/>
                </a:lnTo>
                <a:lnTo>
                  <a:pt x="306" y="2577"/>
                </a:lnTo>
                <a:lnTo>
                  <a:pt x="311" y="2581"/>
                </a:lnTo>
                <a:lnTo>
                  <a:pt x="312" y="2581"/>
                </a:lnTo>
                <a:lnTo>
                  <a:pt x="309" y="2588"/>
                </a:lnTo>
                <a:lnTo>
                  <a:pt x="305" y="2610"/>
                </a:lnTo>
                <a:lnTo>
                  <a:pt x="300" y="2626"/>
                </a:lnTo>
                <a:lnTo>
                  <a:pt x="300" y="2626"/>
                </a:lnTo>
                <a:lnTo>
                  <a:pt x="306" y="2629"/>
                </a:lnTo>
                <a:lnTo>
                  <a:pt x="326" y="2636"/>
                </a:lnTo>
                <a:lnTo>
                  <a:pt x="341" y="2640"/>
                </a:lnTo>
                <a:lnTo>
                  <a:pt x="342" y="2640"/>
                </a:lnTo>
                <a:lnTo>
                  <a:pt x="351" y="2633"/>
                </a:lnTo>
                <a:lnTo>
                  <a:pt x="377" y="2613"/>
                </a:lnTo>
                <a:lnTo>
                  <a:pt x="399" y="2595"/>
                </a:lnTo>
                <a:lnTo>
                  <a:pt x="400" y="2594"/>
                </a:lnTo>
                <a:lnTo>
                  <a:pt x="403" y="2588"/>
                </a:lnTo>
                <a:lnTo>
                  <a:pt x="412" y="2568"/>
                </a:lnTo>
                <a:lnTo>
                  <a:pt x="419" y="2552"/>
                </a:lnTo>
                <a:lnTo>
                  <a:pt x="421" y="2550"/>
                </a:lnTo>
                <a:lnTo>
                  <a:pt x="419" y="2550"/>
                </a:lnTo>
                <a:lnTo>
                  <a:pt x="413" y="2550"/>
                </a:lnTo>
                <a:lnTo>
                  <a:pt x="392" y="2549"/>
                </a:lnTo>
                <a:lnTo>
                  <a:pt x="376" y="2549"/>
                </a:lnTo>
                <a:lnTo>
                  <a:pt x="376" y="2548"/>
                </a:lnTo>
                <a:lnTo>
                  <a:pt x="374" y="2549"/>
                </a:lnTo>
                <a:lnTo>
                  <a:pt x="373" y="2550"/>
                </a:lnTo>
                <a:lnTo>
                  <a:pt x="364" y="2559"/>
                </a:lnTo>
                <a:lnTo>
                  <a:pt x="358" y="2565"/>
                </a:lnTo>
                <a:lnTo>
                  <a:pt x="358" y="2565"/>
                </a:lnTo>
                <a:lnTo>
                  <a:pt x="357" y="2565"/>
                </a:lnTo>
                <a:lnTo>
                  <a:pt x="348" y="2562"/>
                </a:lnTo>
                <a:lnTo>
                  <a:pt x="321" y="2553"/>
                </a:lnTo>
                <a:lnTo>
                  <a:pt x="299" y="2546"/>
                </a:lnTo>
                <a:lnTo>
                  <a:pt x="299" y="2545"/>
                </a:lnTo>
                <a:lnTo>
                  <a:pt x="296" y="2540"/>
                </a:lnTo>
                <a:lnTo>
                  <a:pt x="289" y="2523"/>
                </a:lnTo>
                <a:lnTo>
                  <a:pt x="283" y="2510"/>
                </a:lnTo>
                <a:lnTo>
                  <a:pt x="283" y="2508"/>
                </a:lnTo>
                <a:lnTo>
                  <a:pt x="280" y="2508"/>
                </a:lnTo>
                <a:lnTo>
                  <a:pt x="271" y="2507"/>
                </a:lnTo>
                <a:lnTo>
                  <a:pt x="237" y="2501"/>
                </a:lnTo>
                <a:lnTo>
                  <a:pt x="211" y="2497"/>
                </a:lnTo>
                <a:lnTo>
                  <a:pt x="209" y="2495"/>
                </a:lnTo>
                <a:lnTo>
                  <a:pt x="206" y="2482"/>
                </a:lnTo>
                <a:lnTo>
                  <a:pt x="200" y="2440"/>
                </a:lnTo>
                <a:lnTo>
                  <a:pt x="196" y="2410"/>
                </a:lnTo>
                <a:lnTo>
                  <a:pt x="196" y="2407"/>
                </a:lnTo>
                <a:lnTo>
                  <a:pt x="202" y="2397"/>
                </a:lnTo>
                <a:lnTo>
                  <a:pt x="224" y="2362"/>
                </a:lnTo>
                <a:lnTo>
                  <a:pt x="240" y="2336"/>
                </a:lnTo>
                <a:lnTo>
                  <a:pt x="241" y="2335"/>
                </a:lnTo>
                <a:lnTo>
                  <a:pt x="241" y="2324"/>
                </a:lnTo>
                <a:lnTo>
                  <a:pt x="240" y="2290"/>
                </a:lnTo>
                <a:lnTo>
                  <a:pt x="240" y="2264"/>
                </a:lnTo>
                <a:lnTo>
                  <a:pt x="241" y="2261"/>
                </a:lnTo>
                <a:lnTo>
                  <a:pt x="234" y="2256"/>
                </a:lnTo>
                <a:lnTo>
                  <a:pt x="212" y="2242"/>
                </a:lnTo>
                <a:lnTo>
                  <a:pt x="196" y="2232"/>
                </a:lnTo>
                <a:lnTo>
                  <a:pt x="196" y="2230"/>
                </a:lnTo>
                <a:lnTo>
                  <a:pt x="196" y="2229"/>
                </a:lnTo>
                <a:lnTo>
                  <a:pt x="195" y="2222"/>
                </a:lnTo>
                <a:lnTo>
                  <a:pt x="195" y="2217"/>
                </a:lnTo>
                <a:lnTo>
                  <a:pt x="196" y="2216"/>
                </a:lnTo>
                <a:lnTo>
                  <a:pt x="200" y="2210"/>
                </a:lnTo>
                <a:lnTo>
                  <a:pt x="213" y="2190"/>
                </a:lnTo>
                <a:lnTo>
                  <a:pt x="224" y="2175"/>
                </a:lnTo>
                <a:lnTo>
                  <a:pt x="225" y="2174"/>
                </a:lnTo>
                <a:lnTo>
                  <a:pt x="225" y="2165"/>
                </a:lnTo>
                <a:lnTo>
                  <a:pt x="224" y="2137"/>
                </a:lnTo>
                <a:lnTo>
                  <a:pt x="224" y="2116"/>
                </a:lnTo>
                <a:lnTo>
                  <a:pt x="225" y="2114"/>
                </a:lnTo>
                <a:lnTo>
                  <a:pt x="226" y="2110"/>
                </a:lnTo>
                <a:lnTo>
                  <a:pt x="234" y="2097"/>
                </a:lnTo>
                <a:lnTo>
                  <a:pt x="240" y="2087"/>
                </a:lnTo>
                <a:lnTo>
                  <a:pt x="241" y="2085"/>
                </a:lnTo>
                <a:lnTo>
                  <a:pt x="242" y="2077"/>
                </a:lnTo>
                <a:lnTo>
                  <a:pt x="248" y="2051"/>
                </a:lnTo>
                <a:lnTo>
                  <a:pt x="253" y="2029"/>
                </a:lnTo>
                <a:lnTo>
                  <a:pt x="254" y="2027"/>
                </a:lnTo>
                <a:lnTo>
                  <a:pt x="251" y="2022"/>
                </a:lnTo>
                <a:lnTo>
                  <a:pt x="245" y="2001"/>
                </a:lnTo>
                <a:lnTo>
                  <a:pt x="241" y="1985"/>
                </a:lnTo>
                <a:lnTo>
                  <a:pt x="241" y="1984"/>
                </a:lnTo>
                <a:lnTo>
                  <a:pt x="240" y="1974"/>
                </a:lnTo>
                <a:lnTo>
                  <a:pt x="231" y="1900"/>
                </a:lnTo>
                <a:lnTo>
                  <a:pt x="202" y="1648"/>
                </a:lnTo>
                <a:lnTo>
                  <a:pt x="180" y="1456"/>
                </a:lnTo>
                <a:lnTo>
                  <a:pt x="180" y="1445"/>
                </a:lnTo>
                <a:lnTo>
                  <a:pt x="193" y="1439"/>
                </a:lnTo>
                <a:lnTo>
                  <a:pt x="235" y="1417"/>
                </a:lnTo>
                <a:lnTo>
                  <a:pt x="266" y="1401"/>
                </a:lnTo>
                <a:lnTo>
                  <a:pt x="268" y="1400"/>
                </a:lnTo>
                <a:lnTo>
                  <a:pt x="268" y="1394"/>
                </a:lnTo>
                <a:lnTo>
                  <a:pt x="267" y="1374"/>
                </a:lnTo>
                <a:lnTo>
                  <a:pt x="267" y="1358"/>
                </a:lnTo>
                <a:lnTo>
                  <a:pt x="268" y="1356"/>
                </a:lnTo>
                <a:lnTo>
                  <a:pt x="267" y="1356"/>
                </a:lnTo>
                <a:lnTo>
                  <a:pt x="258" y="1355"/>
                </a:lnTo>
                <a:lnTo>
                  <a:pt x="231" y="1348"/>
                </a:lnTo>
                <a:lnTo>
                  <a:pt x="209" y="1343"/>
                </a:lnTo>
                <a:lnTo>
                  <a:pt x="209" y="1342"/>
                </a:lnTo>
                <a:lnTo>
                  <a:pt x="209" y="1341"/>
                </a:lnTo>
                <a:lnTo>
                  <a:pt x="211" y="1320"/>
                </a:lnTo>
                <a:lnTo>
                  <a:pt x="218" y="1252"/>
                </a:lnTo>
                <a:lnTo>
                  <a:pt x="224" y="1200"/>
                </a:lnTo>
                <a:lnTo>
                  <a:pt x="225" y="1197"/>
                </a:lnTo>
                <a:lnTo>
                  <a:pt x="224" y="1194"/>
                </a:lnTo>
                <a:lnTo>
                  <a:pt x="213" y="1165"/>
                </a:lnTo>
                <a:lnTo>
                  <a:pt x="180" y="1070"/>
                </a:lnTo>
                <a:lnTo>
                  <a:pt x="154" y="996"/>
                </a:lnTo>
                <a:lnTo>
                  <a:pt x="154" y="991"/>
                </a:lnTo>
                <a:lnTo>
                  <a:pt x="155" y="986"/>
                </a:lnTo>
                <a:lnTo>
                  <a:pt x="167" y="942"/>
                </a:lnTo>
                <a:lnTo>
                  <a:pt x="208" y="793"/>
                </a:lnTo>
                <a:lnTo>
                  <a:pt x="238" y="678"/>
                </a:lnTo>
                <a:lnTo>
                  <a:pt x="241" y="671"/>
                </a:lnTo>
                <a:lnTo>
                  <a:pt x="238" y="654"/>
                </a:lnTo>
                <a:lnTo>
                  <a:pt x="231" y="599"/>
                </a:lnTo>
                <a:lnTo>
                  <a:pt x="225" y="557"/>
                </a:lnTo>
                <a:lnTo>
                  <a:pt x="225" y="554"/>
                </a:lnTo>
                <a:lnTo>
                  <a:pt x="229" y="545"/>
                </a:lnTo>
                <a:lnTo>
                  <a:pt x="242" y="519"/>
                </a:lnTo>
                <a:lnTo>
                  <a:pt x="253" y="497"/>
                </a:lnTo>
                <a:lnTo>
                  <a:pt x="254" y="496"/>
                </a:lnTo>
                <a:lnTo>
                  <a:pt x="260" y="499"/>
                </a:lnTo>
                <a:lnTo>
                  <a:pt x="282" y="506"/>
                </a:lnTo>
                <a:lnTo>
                  <a:pt x="297" y="510"/>
                </a:lnTo>
                <a:lnTo>
                  <a:pt x="299" y="510"/>
                </a:lnTo>
                <a:lnTo>
                  <a:pt x="300" y="507"/>
                </a:lnTo>
                <a:lnTo>
                  <a:pt x="308" y="494"/>
                </a:lnTo>
                <a:lnTo>
                  <a:pt x="312" y="484"/>
                </a:lnTo>
                <a:lnTo>
                  <a:pt x="313" y="483"/>
                </a:lnTo>
                <a:lnTo>
                  <a:pt x="311" y="473"/>
                </a:lnTo>
                <a:lnTo>
                  <a:pt x="303" y="438"/>
                </a:lnTo>
                <a:lnTo>
                  <a:pt x="299" y="412"/>
                </a:lnTo>
                <a:lnTo>
                  <a:pt x="299" y="409"/>
                </a:lnTo>
                <a:lnTo>
                  <a:pt x="289" y="403"/>
                </a:lnTo>
                <a:lnTo>
                  <a:pt x="263" y="383"/>
                </a:lnTo>
                <a:lnTo>
                  <a:pt x="241" y="367"/>
                </a:lnTo>
                <a:lnTo>
                  <a:pt x="241" y="365"/>
                </a:lnTo>
                <a:lnTo>
                  <a:pt x="238" y="360"/>
                </a:lnTo>
                <a:lnTo>
                  <a:pt x="222" y="309"/>
                </a:lnTo>
                <a:lnTo>
                  <a:pt x="166" y="139"/>
                </a:lnTo>
                <a:lnTo>
                  <a:pt x="124" y="9"/>
                </a:lnTo>
                <a:lnTo>
                  <a:pt x="122" y="2"/>
                </a:lnTo>
                <a:lnTo>
                  <a:pt x="121" y="2"/>
                </a:lnTo>
                <a:lnTo>
                  <a:pt x="112" y="2"/>
                </a:lnTo>
                <a:lnTo>
                  <a:pt x="83" y="2"/>
                </a:lnTo>
                <a:lnTo>
                  <a:pt x="60" y="2"/>
                </a:lnTo>
                <a:lnTo>
                  <a:pt x="60" y="0"/>
                </a:lnTo>
                <a:lnTo>
                  <a:pt x="58" y="3"/>
                </a:lnTo>
                <a:lnTo>
                  <a:pt x="50" y="13"/>
                </a:lnTo>
                <a:lnTo>
                  <a:pt x="24" y="48"/>
                </a:lnTo>
                <a:lnTo>
                  <a:pt x="2" y="74"/>
                </a:lnTo>
                <a:lnTo>
                  <a:pt x="2" y="76"/>
                </a:lnTo>
                <a:lnTo>
                  <a:pt x="0" y="76"/>
                </a:lnTo>
                <a:lnTo>
                  <a:pt x="2" y="76"/>
                </a:lnTo>
                <a:lnTo>
                  <a:pt x="0" y="76"/>
                </a:lnTo>
                <a:lnTo>
                  <a:pt x="2" y="76"/>
                </a:lnTo>
                <a:lnTo>
                  <a:pt x="9" y="87"/>
                </a:lnTo>
                <a:lnTo>
                  <a:pt x="31" y="122"/>
                </a:lnTo>
                <a:lnTo>
                  <a:pt x="48" y="148"/>
                </a:lnTo>
                <a:lnTo>
                  <a:pt x="50" y="149"/>
                </a:lnTo>
                <a:lnTo>
                  <a:pt x="50" y="149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13480" y="5024520"/>
            <a:ext cx="14400" cy="12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0" y="18"/>
                </a:moveTo>
                <a:lnTo>
                  <a:pt x="2" y="22"/>
                </a:lnTo>
                <a:lnTo>
                  <a:pt x="8" y="31"/>
                </a:lnTo>
                <a:lnTo>
                  <a:pt x="12" y="38"/>
                </a:lnTo>
                <a:lnTo>
                  <a:pt x="13" y="38"/>
                </a:lnTo>
                <a:lnTo>
                  <a:pt x="16" y="37"/>
                </a:lnTo>
                <a:lnTo>
                  <a:pt x="28" y="28"/>
                </a:lnTo>
                <a:lnTo>
                  <a:pt x="37" y="22"/>
                </a:lnTo>
                <a:lnTo>
                  <a:pt x="38" y="21"/>
                </a:lnTo>
                <a:lnTo>
                  <a:pt x="34" y="19"/>
                </a:lnTo>
                <a:lnTo>
                  <a:pt x="25" y="12"/>
                </a:lnTo>
                <a:lnTo>
                  <a:pt x="19" y="6"/>
                </a:lnTo>
                <a:lnTo>
                  <a:pt x="19" y="5"/>
                </a:lnTo>
                <a:lnTo>
                  <a:pt x="12" y="3"/>
                </a:lnTo>
                <a:lnTo>
                  <a:pt x="9" y="2"/>
                </a:lnTo>
                <a:lnTo>
                  <a:pt x="9" y="0"/>
                </a:lnTo>
                <a:lnTo>
                  <a:pt x="8" y="0"/>
                </a:lnTo>
                <a:lnTo>
                  <a:pt x="9" y="0"/>
                </a:lnTo>
                <a:lnTo>
                  <a:pt x="8" y="0"/>
                </a:lnTo>
                <a:lnTo>
                  <a:pt x="9" y="0"/>
                </a:lnTo>
                <a:lnTo>
                  <a:pt x="8" y="2"/>
                </a:lnTo>
                <a:lnTo>
                  <a:pt x="3" y="12"/>
                </a:lnTo>
                <a:lnTo>
                  <a:pt x="0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12040" y="4946760"/>
            <a:ext cx="17640" cy="39600"/>
          </a:xfrm>
          <a:custGeom>
            <a:avLst/>
            <a:gdLst/>
            <a:ahLst/>
            <a:rect l="l" t="t" r="r" b="b"/>
            <a:pathLst>
              <a:path w="53" h="118">
                <a:moveTo>
                  <a:pt x="0" y="22"/>
                </a:moveTo>
                <a:lnTo>
                  <a:pt x="0" y="23"/>
                </a:lnTo>
                <a:lnTo>
                  <a:pt x="2" y="28"/>
                </a:lnTo>
                <a:lnTo>
                  <a:pt x="6" y="45"/>
                </a:lnTo>
                <a:lnTo>
                  <a:pt x="11" y="58"/>
                </a:lnTo>
                <a:lnTo>
                  <a:pt x="12" y="58"/>
                </a:lnTo>
                <a:lnTo>
                  <a:pt x="12" y="66"/>
                </a:lnTo>
                <a:lnTo>
                  <a:pt x="11" y="87"/>
                </a:lnTo>
                <a:lnTo>
                  <a:pt x="11" y="103"/>
                </a:lnTo>
                <a:lnTo>
                  <a:pt x="12" y="103"/>
                </a:lnTo>
                <a:lnTo>
                  <a:pt x="16" y="106"/>
                </a:lnTo>
                <a:lnTo>
                  <a:pt x="29" y="113"/>
                </a:lnTo>
                <a:lnTo>
                  <a:pt x="40" y="118"/>
                </a:lnTo>
                <a:lnTo>
                  <a:pt x="41" y="118"/>
                </a:lnTo>
                <a:lnTo>
                  <a:pt x="42" y="116"/>
                </a:lnTo>
                <a:lnTo>
                  <a:pt x="47" y="109"/>
                </a:lnTo>
                <a:lnTo>
                  <a:pt x="51" y="105"/>
                </a:lnTo>
                <a:lnTo>
                  <a:pt x="53" y="103"/>
                </a:lnTo>
                <a:lnTo>
                  <a:pt x="50" y="99"/>
                </a:lnTo>
                <a:lnTo>
                  <a:pt x="45" y="83"/>
                </a:lnTo>
                <a:lnTo>
                  <a:pt x="41" y="70"/>
                </a:lnTo>
                <a:lnTo>
                  <a:pt x="41" y="68"/>
                </a:lnTo>
                <a:lnTo>
                  <a:pt x="41" y="61"/>
                </a:lnTo>
                <a:lnTo>
                  <a:pt x="42" y="41"/>
                </a:lnTo>
                <a:lnTo>
                  <a:pt x="44" y="23"/>
                </a:lnTo>
                <a:lnTo>
                  <a:pt x="45" y="22"/>
                </a:lnTo>
                <a:lnTo>
                  <a:pt x="41" y="19"/>
                </a:lnTo>
                <a:lnTo>
                  <a:pt x="29" y="9"/>
                </a:lnTo>
                <a:lnTo>
                  <a:pt x="21" y="2"/>
                </a:lnTo>
                <a:lnTo>
                  <a:pt x="21" y="0"/>
                </a:lnTo>
                <a:lnTo>
                  <a:pt x="19" y="0"/>
                </a:lnTo>
                <a:lnTo>
                  <a:pt x="21" y="0"/>
                </a:lnTo>
                <a:lnTo>
                  <a:pt x="19" y="0"/>
                </a:lnTo>
                <a:lnTo>
                  <a:pt x="21" y="0"/>
                </a:lnTo>
                <a:lnTo>
                  <a:pt x="19" y="2"/>
                </a:lnTo>
                <a:lnTo>
                  <a:pt x="16" y="5"/>
                </a:lnTo>
                <a:lnTo>
                  <a:pt x="8" y="15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20040" y="5211720"/>
            <a:ext cx="68040" cy="71640"/>
          </a:xfrm>
          <a:custGeom>
            <a:avLst/>
            <a:gdLst/>
            <a:ahLst/>
            <a:rect l="l" t="t" r="r" b="b"/>
            <a:pathLst>
              <a:path w="203" h="216">
                <a:moveTo>
                  <a:pt x="74" y="39"/>
                </a:moveTo>
                <a:lnTo>
                  <a:pt x="74" y="40"/>
                </a:lnTo>
                <a:lnTo>
                  <a:pt x="76" y="49"/>
                </a:lnTo>
                <a:lnTo>
                  <a:pt x="83" y="75"/>
                </a:lnTo>
                <a:lnTo>
                  <a:pt x="87" y="97"/>
                </a:lnTo>
                <a:lnTo>
                  <a:pt x="89" y="97"/>
                </a:lnTo>
                <a:lnTo>
                  <a:pt x="86" y="98"/>
                </a:lnTo>
                <a:lnTo>
                  <a:pt x="76" y="103"/>
                </a:lnTo>
                <a:lnTo>
                  <a:pt x="41" y="117"/>
                </a:lnTo>
                <a:lnTo>
                  <a:pt x="15" y="127"/>
                </a:lnTo>
                <a:lnTo>
                  <a:pt x="14" y="127"/>
                </a:lnTo>
                <a:lnTo>
                  <a:pt x="11" y="135"/>
                </a:lnTo>
                <a:lnTo>
                  <a:pt x="5" y="156"/>
                </a:lnTo>
                <a:lnTo>
                  <a:pt x="0" y="172"/>
                </a:lnTo>
                <a:lnTo>
                  <a:pt x="0" y="172"/>
                </a:lnTo>
                <a:lnTo>
                  <a:pt x="2" y="172"/>
                </a:lnTo>
                <a:lnTo>
                  <a:pt x="14" y="171"/>
                </a:lnTo>
                <a:lnTo>
                  <a:pt x="54" y="165"/>
                </a:lnTo>
                <a:lnTo>
                  <a:pt x="85" y="161"/>
                </a:lnTo>
                <a:lnTo>
                  <a:pt x="87" y="159"/>
                </a:lnTo>
                <a:lnTo>
                  <a:pt x="92" y="166"/>
                </a:lnTo>
                <a:lnTo>
                  <a:pt x="106" y="188"/>
                </a:lnTo>
                <a:lnTo>
                  <a:pt x="116" y="204"/>
                </a:lnTo>
                <a:lnTo>
                  <a:pt x="118" y="204"/>
                </a:lnTo>
                <a:lnTo>
                  <a:pt x="124" y="207"/>
                </a:lnTo>
                <a:lnTo>
                  <a:pt x="145" y="211"/>
                </a:lnTo>
                <a:lnTo>
                  <a:pt x="161" y="216"/>
                </a:lnTo>
                <a:lnTo>
                  <a:pt x="163" y="216"/>
                </a:lnTo>
                <a:lnTo>
                  <a:pt x="169" y="210"/>
                </a:lnTo>
                <a:lnTo>
                  <a:pt x="187" y="191"/>
                </a:lnTo>
                <a:lnTo>
                  <a:pt x="202" y="177"/>
                </a:lnTo>
                <a:lnTo>
                  <a:pt x="203" y="175"/>
                </a:lnTo>
                <a:lnTo>
                  <a:pt x="198" y="166"/>
                </a:lnTo>
                <a:lnTo>
                  <a:pt x="180" y="137"/>
                </a:lnTo>
                <a:lnTo>
                  <a:pt x="167" y="116"/>
                </a:lnTo>
                <a:lnTo>
                  <a:pt x="167" y="114"/>
                </a:lnTo>
                <a:lnTo>
                  <a:pt x="160" y="97"/>
                </a:lnTo>
                <a:lnTo>
                  <a:pt x="138" y="43"/>
                </a:lnTo>
                <a:lnTo>
                  <a:pt x="122" y="3"/>
                </a:lnTo>
                <a:lnTo>
                  <a:pt x="122" y="0"/>
                </a:lnTo>
                <a:lnTo>
                  <a:pt x="121" y="0"/>
                </a:lnTo>
                <a:lnTo>
                  <a:pt x="122" y="0"/>
                </a:lnTo>
                <a:lnTo>
                  <a:pt x="121" y="0"/>
                </a:lnTo>
                <a:lnTo>
                  <a:pt x="122" y="0"/>
                </a:lnTo>
                <a:lnTo>
                  <a:pt x="121" y="1"/>
                </a:lnTo>
                <a:lnTo>
                  <a:pt x="113" y="7"/>
                </a:lnTo>
                <a:lnTo>
                  <a:pt x="92" y="24"/>
                </a:lnTo>
                <a:lnTo>
                  <a:pt x="74" y="39"/>
                </a:lnTo>
                <a:lnTo>
                  <a:pt x="74" y="39"/>
                </a:lnTo>
                <a:lnTo>
                  <a:pt x="74" y="39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61440" y="5213520"/>
            <a:ext cx="72720" cy="60120"/>
          </a:xfrm>
          <a:custGeom>
            <a:avLst/>
            <a:gdLst/>
            <a:ahLst/>
            <a:rect l="l" t="t" r="r" b="b"/>
            <a:pathLst>
              <a:path w="217" h="185">
                <a:moveTo>
                  <a:pt x="43" y="110"/>
                </a:moveTo>
                <a:lnTo>
                  <a:pt x="49" y="120"/>
                </a:lnTo>
                <a:lnTo>
                  <a:pt x="66" y="149"/>
                </a:lnTo>
                <a:lnTo>
                  <a:pt x="81" y="172"/>
                </a:lnTo>
                <a:lnTo>
                  <a:pt x="82" y="172"/>
                </a:lnTo>
                <a:lnTo>
                  <a:pt x="91" y="175"/>
                </a:lnTo>
                <a:lnTo>
                  <a:pt x="120" y="181"/>
                </a:lnTo>
                <a:lnTo>
                  <a:pt x="142" y="185"/>
                </a:lnTo>
                <a:lnTo>
                  <a:pt x="143" y="185"/>
                </a:lnTo>
                <a:lnTo>
                  <a:pt x="145" y="185"/>
                </a:lnTo>
                <a:lnTo>
                  <a:pt x="153" y="181"/>
                </a:lnTo>
                <a:lnTo>
                  <a:pt x="188" y="166"/>
                </a:lnTo>
                <a:lnTo>
                  <a:pt x="214" y="156"/>
                </a:lnTo>
                <a:lnTo>
                  <a:pt x="217" y="155"/>
                </a:lnTo>
                <a:lnTo>
                  <a:pt x="210" y="149"/>
                </a:lnTo>
                <a:lnTo>
                  <a:pt x="188" y="127"/>
                </a:lnTo>
                <a:lnTo>
                  <a:pt x="172" y="111"/>
                </a:lnTo>
                <a:lnTo>
                  <a:pt x="172" y="110"/>
                </a:lnTo>
                <a:lnTo>
                  <a:pt x="166" y="111"/>
                </a:lnTo>
                <a:lnTo>
                  <a:pt x="153" y="111"/>
                </a:lnTo>
                <a:lnTo>
                  <a:pt x="143" y="111"/>
                </a:lnTo>
                <a:lnTo>
                  <a:pt x="143" y="111"/>
                </a:lnTo>
                <a:lnTo>
                  <a:pt x="142" y="111"/>
                </a:lnTo>
                <a:lnTo>
                  <a:pt x="136" y="110"/>
                </a:lnTo>
                <a:lnTo>
                  <a:pt x="116" y="101"/>
                </a:lnTo>
                <a:lnTo>
                  <a:pt x="100" y="95"/>
                </a:lnTo>
                <a:lnTo>
                  <a:pt x="100" y="94"/>
                </a:lnTo>
                <a:lnTo>
                  <a:pt x="98" y="92"/>
                </a:lnTo>
                <a:lnTo>
                  <a:pt x="90" y="81"/>
                </a:lnTo>
                <a:lnTo>
                  <a:pt x="61" y="39"/>
                </a:lnTo>
                <a:lnTo>
                  <a:pt x="39" y="8"/>
                </a:lnTo>
                <a:lnTo>
                  <a:pt x="39" y="5"/>
                </a:lnTo>
                <a:lnTo>
                  <a:pt x="37" y="5"/>
                </a:lnTo>
                <a:lnTo>
                  <a:pt x="32" y="5"/>
                </a:lnTo>
                <a:lnTo>
                  <a:pt x="14" y="3"/>
                </a:lnTo>
                <a:lnTo>
                  <a:pt x="1" y="1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lnTo>
                  <a:pt x="7" y="17"/>
                </a:lnTo>
                <a:lnTo>
                  <a:pt x="27" y="69"/>
                </a:lnTo>
                <a:lnTo>
                  <a:pt x="42" y="108"/>
                </a:lnTo>
                <a:lnTo>
                  <a:pt x="43" y="110"/>
                </a:lnTo>
                <a:lnTo>
                  <a:pt x="43" y="11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56320" y="4459320"/>
            <a:ext cx="384480" cy="738000"/>
          </a:xfrm>
          <a:custGeom>
            <a:avLst/>
            <a:gdLst/>
            <a:ahLst/>
            <a:rect l="l" t="t" r="r" b="b"/>
            <a:pathLst>
              <a:path w="1119" h="2255">
                <a:moveTo>
                  <a:pt x="159" y="170"/>
                </a:moveTo>
                <a:lnTo>
                  <a:pt x="158" y="171"/>
                </a:lnTo>
                <a:lnTo>
                  <a:pt x="157" y="176"/>
                </a:lnTo>
                <a:lnTo>
                  <a:pt x="149" y="190"/>
                </a:lnTo>
                <a:lnTo>
                  <a:pt x="145" y="200"/>
                </a:lnTo>
                <a:lnTo>
                  <a:pt x="145" y="200"/>
                </a:lnTo>
                <a:lnTo>
                  <a:pt x="143" y="200"/>
                </a:lnTo>
                <a:lnTo>
                  <a:pt x="138" y="199"/>
                </a:lnTo>
                <a:lnTo>
                  <a:pt x="116" y="192"/>
                </a:lnTo>
                <a:lnTo>
                  <a:pt x="100" y="187"/>
                </a:lnTo>
                <a:lnTo>
                  <a:pt x="100" y="186"/>
                </a:lnTo>
                <a:lnTo>
                  <a:pt x="99" y="187"/>
                </a:lnTo>
                <a:lnTo>
                  <a:pt x="94" y="194"/>
                </a:lnTo>
                <a:lnTo>
                  <a:pt x="80" y="218"/>
                </a:lnTo>
                <a:lnTo>
                  <a:pt x="70" y="236"/>
                </a:lnTo>
                <a:lnTo>
                  <a:pt x="70" y="236"/>
                </a:lnTo>
                <a:lnTo>
                  <a:pt x="70" y="239"/>
                </a:lnTo>
                <a:lnTo>
                  <a:pt x="71" y="254"/>
                </a:lnTo>
                <a:lnTo>
                  <a:pt x="80" y="306"/>
                </a:lnTo>
                <a:lnTo>
                  <a:pt x="86" y="345"/>
                </a:lnTo>
                <a:lnTo>
                  <a:pt x="87" y="347"/>
                </a:lnTo>
                <a:lnTo>
                  <a:pt x="84" y="354"/>
                </a:lnTo>
                <a:lnTo>
                  <a:pt x="72" y="400"/>
                </a:lnTo>
                <a:lnTo>
                  <a:pt x="32" y="557"/>
                </a:lnTo>
                <a:lnTo>
                  <a:pt x="1" y="676"/>
                </a:lnTo>
                <a:lnTo>
                  <a:pt x="0" y="681"/>
                </a:lnTo>
                <a:lnTo>
                  <a:pt x="0" y="686"/>
                </a:lnTo>
                <a:lnTo>
                  <a:pt x="10" y="715"/>
                </a:lnTo>
                <a:lnTo>
                  <a:pt x="45" y="810"/>
                </a:lnTo>
                <a:lnTo>
                  <a:pt x="71" y="884"/>
                </a:lnTo>
                <a:lnTo>
                  <a:pt x="72" y="887"/>
                </a:lnTo>
                <a:lnTo>
                  <a:pt x="71" y="890"/>
                </a:lnTo>
                <a:lnTo>
                  <a:pt x="70" y="910"/>
                </a:lnTo>
                <a:lnTo>
                  <a:pt x="62" y="978"/>
                </a:lnTo>
                <a:lnTo>
                  <a:pt x="58" y="1031"/>
                </a:lnTo>
                <a:lnTo>
                  <a:pt x="58" y="1032"/>
                </a:lnTo>
                <a:lnTo>
                  <a:pt x="67" y="1035"/>
                </a:lnTo>
                <a:lnTo>
                  <a:pt x="93" y="1042"/>
                </a:lnTo>
                <a:lnTo>
                  <a:pt x="113" y="1046"/>
                </a:lnTo>
                <a:lnTo>
                  <a:pt x="114" y="1046"/>
                </a:lnTo>
                <a:lnTo>
                  <a:pt x="114" y="1054"/>
                </a:lnTo>
                <a:lnTo>
                  <a:pt x="113" y="1074"/>
                </a:lnTo>
                <a:lnTo>
                  <a:pt x="113" y="1090"/>
                </a:lnTo>
                <a:lnTo>
                  <a:pt x="114" y="1090"/>
                </a:lnTo>
                <a:lnTo>
                  <a:pt x="112" y="1091"/>
                </a:lnTo>
                <a:lnTo>
                  <a:pt x="100" y="1097"/>
                </a:lnTo>
                <a:lnTo>
                  <a:pt x="58" y="1119"/>
                </a:lnTo>
                <a:lnTo>
                  <a:pt x="28" y="1135"/>
                </a:lnTo>
                <a:lnTo>
                  <a:pt x="26" y="1135"/>
                </a:lnTo>
                <a:lnTo>
                  <a:pt x="26" y="1146"/>
                </a:lnTo>
                <a:lnTo>
                  <a:pt x="35" y="1220"/>
                </a:lnTo>
                <a:lnTo>
                  <a:pt x="64" y="1472"/>
                </a:lnTo>
                <a:lnTo>
                  <a:pt x="86" y="1664"/>
                </a:lnTo>
                <a:lnTo>
                  <a:pt x="87" y="1674"/>
                </a:lnTo>
                <a:lnTo>
                  <a:pt x="87" y="1675"/>
                </a:lnTo>
                <a:lnTo>
                  <a:pt x="88" y="1681"/>
                </a:lnTo>
                <a:lnTo>
                  <a:pt x="94" y="1701"/>
                </a:lnTo>
                <a:lnTo>
                  <a:pt x="99" y="1717"/>
                </a:lnTo>
                <a:lnTo>
                  <a:pt x="100" y="1717"/>
                </a:lnTo>
                <a:lnTo>
                  <a:pt x="97" y="1727"/>
                </a:lnTo>
                <a:lnTo>
                  <a:pt x="93" y="1755"/>
                </a:lnTo>
                <a:lnTo>
                  <a:pt x="90" y="1777"/>
                </a:lnTo>
                <a:lnTo>
                  <a:pt x="90" y="1777"/>
                </a:lnTo>
                <a:lnTo>
                  <a:pt x="88" y="1778"/>
                </a:lnTo>
                <a:lnTo>
                  <a:pt x="86" y="1784"/>
                </a:lnTo>
                <a:lnTo>
                  <a:pt x="75" y="1801"/>
                </a:lnTo>
                <a:lnTo>
                  <a:pt x="68" y="1816"/>
                </a:lnTo>
                <a:lnTo>
                  <a:pt x="68" y="1816"/>
                </a:lnTo>
                <a:lnTo>
                  <a:pt x="68" y="1817"/>
                </a:lnTo>
                <a:lnTo>
                  <a:pt x="68" y="1825"/>
                </a:lnTo>
                <a:lnTo>
                  <a:pt x="70" y="1849"/>
                </a:lnTo>
                <a:lnTo>
                  <a:pt x="70" y="1868"/>
                </a:lnTo>
                <a:lnTo>
                  <a:pt x="71" y="1868"/>
                </a:lnTo>
                <a:lnTo>
                  <a:pt x="70" y="1869"/>
                </a:lnTo>
                <a:lnTo>
                  <a:pt x="65" y="1874"/>
                </a:lnTo>
                <a:lnTo>
                  <a:pt x="51" y="1890"/>
                </a:lnTo>
                <a:lnTo>
                  <a:pt x="41" y="1901"/>
                </a:lnTo>
                <a:lnTo>
                  <a:pt x="41" y="1901"/>
                </a:lnTo>
                <a:lnTo>
                  <a:pt x="41" y="1903"/>
                </a:lnTo>
                <a:lnTo>
                  <a:pt x="41" y="1906"/>
                </a:lnTo>
                <a:lnTo>
                  <a:pt x="41" y="1914"/>
                </a:lnTo>
                <a:lnTo>
                  <a:pt x="41" y="1920"/>
                </a:lnTo>
                <a:lnTo>
                  <a:pt x="42" y="1920"/>
                </a:lnTo>
                <a:lnTo>
                  <a:pt x="48" y="1926"/>
                </a:lnTo>
                <a:lnTo>
                  <a:pt x="70" y="1940"/>
                </a:lnTo>
                <a:lnTo>
                  <a:pt x="86" y="1951"/>
                </a:lnTo>
                <a:lnTo>
                  <a:pt x="87" y="1951"/>
                </a:lnTo>
                <a:lnTo>
                  <a:pt x="87" y="1962"/>
                </a:lnTo>
                <a:lnTo>
                  <a:pt x="86" y="1997"/>
                </a:lnTo>
                <a:lnTo>
                  <a:pt x="86" y="2023"/>
                </a:lnTo>
                <a:lnTo>
                  <a:pt x="87" y="2023"/>
                </a:lnTo>
                <a:lnTo>
                  <a:pt x="86" y="2026"/>
                </a:lnTo>
                <a:lnTo>
                  <a:pt x="80" y="2035"/>
                </a:lnTo>
                <a:lnTo>
                  <a:pt x="58" y="2069"/>
                </a:lnTo>
                <a:lnTo>
                  <a:pt x="41" y="2096"/>
                </a:lnTo>
                <a:lnTo>
                  <a:pt x="41" y="2097"/>
                </a:lnTo>
                <a:lnTo>
                  <a:pt x="41" y="2100"/>
                </a:lnTo>
                <a:lnTo>
                  <a:pt x="42" y="2111"/>
                </a:lnTo>
                <a:lnTo>
                  <a:pt x="49" y="2151"/>
                </a:lnTo>
                <a:lnTo>
                  <a:pt x="54" y="2181"/>
                </a:lnTo>
                <a:lnTo>
                  <a:pt x="55" y="2182"/>
                </a:lnTo>
                <a:lnTo>
                  <a:pt x="67" y="2187"/>
                </a:lnTo>
                <a:lnTo>
                  <a:pt x="106" y="2200"/>
                </a:lnTo>
                <a:lnTo>
                  <a:pt x="135" y="2209"/>
                </a:lnTo>
                <a:lnTo>
                  <a:pt x="138" y="2209"/>
                </a:lnTo>
                <a:lnTo>
                  <a:pt x="138" y="2210"/>
                </a:lnTo>
                <a:lnTo>
                  <a:pt x="138" y="2213"/>
                </a:lnTo>
                <a:lnTo>
                  <a:pt x="142" y="2226"/>
                </a:lnTo>
                <a:lnTo>
                  <a:pt x="143" y="2235"/>
                </a:lnTo>
                <a:lnTo>
                  <a:pt x="145" y="2235"/>
                </a:lnTo>
                <a:lnTo>
                  <a:pt x="154" y="2239"/>
                </a:lnTo>
                <a:lnTo>
                  <a:pt x="181" y="2248"/>
                </a:lnTo>
                <a:lnTo>
                  <a:pt x="203" y="2255"/>
                </a:lnTo>
                <a:lnTo>
                  <a:pt x="204" y="2255"/>
                </a:lnTo>
                <a:lnTo>
                  <a:pt x="206" y="2253"/>
                </a:lnTo>
                <a:lnTo>
                  <a:pt x="213" y="2246"/>
                </a:lnTo>
                <a:lnTo>
                  <a:pt x="217" y="2240"/>
                </a:lnTo>
                <a:lnTo>
                  <a:pt x="219" y="2239"/>
                </a:lnTo>
                <a:lnTo>
                  <a:pt x="226" y="2240"/>
                </a:lnTo>
                <a:lnTo>
                  <a:pt x="248" y="2242"/>
                </a:lnTo>
                <a:lnTo>
                  <a:pt x="265" y="2242"/>
                </a:lnTo>
                <a:lnTo>
                  <a:pt x="267" y="2242"/>
                </a:lnTo>
                <a:lnTo>
                  <a:pt x="268" y="2238"/>
                </a:lnTo>
                <a:lnTo>
                  <a:pt x="272" y="2225"/>
                </a:lnTo>
                <a:lnTo>
                  <a:pt x="277" y="2214"/>
                </a:lnTo>
                <a:lnTo>
                  <a:pt x="278" y="2213"/>
                </a:lnTo>
                <a:lnTo>
                  <a:pt x="274" y="2207"/>
                </a:lnTo>
                <a:lnTo>
                  <a:pt x="265" y="2190"/>
                </a:lnTo>
                <a:lnTo>
                  <a:pt x="259" y="2175"/>
                </a:lnTo>
                <a:lnTo>
                  <a:pt x="259" y="2174"/>
                </a:lnTo>
                <a:lnTo>
                  <a:pt x="259" y="2168"/>
                </a:lnTo>
                <a:lnTo>
                  <a:pt x="258" y="2148"/>
                </a:lnTo>
                <a:lnTo>
                  <a:pt x="258" y="2133"/>
                </a:lnTo>
                <a:lnTo>
                  <a:pt x="259" y="2132"/>
                </a:lnTo>
                <a:lnTo>
                  <a:pt x="262" y="2129"/>
                </a:lnTo>
                <a:lnTo>
                  <a:pt x="281" y="2107"/>
                </a:lnTo>
                <a:lnTo>
                  <a:pt x="351" y="2029"/>
                </a:lnTo>
                <a:lnTo>
                  <a:pt x="403" y="1969"/>
                </a:lnTo>
                <a:lnTo>
                  <a:pt x="407" y="1965"/>
                </a:lnTo>
                <a:lnTo>
                  <a:pt x="401" y="1952"/>
                </a:lnTo>
                <a:lnTo>
                  <a:pt x="387" y="1912"/>
                </a:lnTo>
                <a:lnTo>
                  <a:pt x="377" y="1881"/>
                </a:lnTo>
                <a:lnTo>
                  <a:pt x="377" y="1878"/>
                </a:lnTo>
                <a:lnTo>
                  <a:pt x="375" y="1878"/>
                </a:lnTo>
                <a:lnTo>
                  <a:pt x="367" y="1877"/>
                </a:lnTo>
                <a:lnTo>
                  <a:pt x="341" y="1869"/>
                </a:lnTo>
                <a:lnTo>
                  <a:pt x="320" y="1865"/>
                </a:lnTo>
                <a:lnTo>
                  <a:pt x="320" y="1864"/>
                </a:lnTo>
                <a:lnTo>
                  <a:pt x="320" y="1851"/>
                </a:lnTo>
                <a:lnTo>
                  <a:pt x="319" y="1810"/>
                </a:lnTo>
                <a:lnTo>
                  <a:pt x="319" y="1780"/>
                </a:lnTo>
                <a:lnTo>
                  <a:pt x="320" y="1777"/>
                </a:lnTo>
                <a:lnTo>
                  <a:pt x="332" y="1771"/>
                </a:lnTo>
                <a:lnTo>
                  <a:pt x="371" y="1749"/>
                </a:lnTo>
                <a:lnTo>
                  <a:pt x="400" y="1733"/>
                </a:lnTo>
                <a:lnTo>
                  <a:pt x="403" y="1732"/>
                </a:lnTo>
                <a:lnTo>
                  <a:pt x="403" y="1730"/>
                </a:lnTo>
                <a:lnTo>
                  <a:pt x="404" y="1710"/>
                </a:lnTo>
                <a:lnTo>
                  <a:pt x="413" y="1641"/>
                </a:lnTo>
                <a:lnTo>
                  <a:pt x="419" y="1588"/>
                </a:lnTo>
                <a:lnTo>
                  <a:pt x="420" y="1585"/>
                </a:lnTo>
                <a:lnTo>
                  <a:pt x="433" y="1580"/>
                </a:lnTo>
                <a:lnTo>
                  <a:pt x="475" y="1561"/>
                </a:lnTo>
                <a:lnTo>
                  <a:pt x="506" y="1546"/>
                </a:lnTo>
                <a:lnTo>
                  <a:pt x="509" y="1545"/>
                </a:lnTo>
                <a:lnTo>
                  <a:pt x="506" y="1541"/>
                </a:lnTo>
                <a:lnTo>
                  <a:pt x="498" y="1526"/>
                </a:lnTo>
                <a:lnTo>
                  <a:pt x="494" y="1514"/>
                </a:lnTo>
                <a:lnTo>
                  <a:pt x="494" y="1513"/>
                </a:lnTo>
                <a:lnTo>
                  <a:pt x="493" y="1513"/>
                </a:lnTo>
                <a:lnTo>
                  <a:pt x="487" y="1513"/>
                </a:lnTo>
                <a:lnTo>
                  <a:pt x="469" y="1513"/>
                </a:lnTo>
                <a:lnTo>
                  <a:pt x="455" y="1513"/>
                </a:lnTo>
                <a:lnTo>
                  <a:pt x="455" y="1512"/>
                </a:lnTo>
                <a:lnTo>
                  <a:pt x="458" y="1504"/>
                </a:lnTo>
                <a:lnTo>
                  <a:pt x="467" y="1484"/>
                </a:lnTo>
                <a:lnTo>
                  <a:pt x="474" y="1467"/>
                </a:lnTo>
                <a:lnTo>
                  <a:pt x="475" y="1465"/>
                </a:lnTo>
                <a:lnTo>
                  <a:pt x="491" y="1458"/>
                </a:lnTo>
                <a:lnTo>
                  <a:pt x="540" y="1432"/>
                </a:lnTo>
                <a:lnTo>
                  <a:pt x="578" y="1412"/>
                </a:lnTo>
                <a:lnTo>
                  <a:pt x="581" y="1410"/>
                </a:lnTo>
                <a:lnTo>
                  <a:pt x="581" y="1409"/>
                </a:lnTo>
                <a:lnTo>
                  <a:pt x="582" y="1397"/>
                </a:lnTo>
                <a:lnTo>
                  <a:pt x="590" y="1357"/>
                </a:lnTo>
                <a:lnTo>
                  <a:pt x="594" y="1326"/>
                </a:lnTo>
                <a:lnTo>
                  <a:pt x="596" y="1323"/>
                </a:lnTo>
                <a:lnTo>
                  <a:pt x="593" y="1319"/>
                </a:lnTo>
                <a:lnTo>
                  <a:pt x="585" y="1306"/>
                </a:lnTo>
                <a:lnTo>
                  <a:pt x="581" y="1296"/>
                </a:lnTo>
                <a:lnTo>
                  <a:pt x="581" y="1294"/>
                </a:lnTo>
                <a:lnTo>
                  <a:pt x="584" y="1294"/>
                </a:lnTo>
                <a:lnTo>
                  <a:pt x="613" y="1287"/>
                </a:lnTo>
                <a:lnTo>
                  <a:pt x="710" y="1261"/>
                </a:lnTo>
                <a:lnTo>
                  <a:pt x="784" y="1242"/>
                </a:lnTo>
                <a:lnTo>
                  <a:pt x="788" y="1241"/>
                </a:lnTo>
                <a:lnTo>
                  <a:pt x="790" y="1239"/>
                </a:lnTo>
                <a:lnTo>
                  <a:pt x="803" y="1229"/>
                </a:lnTo>
                <a:lnTo>
                  <a:pt x="848" y="1193"/>
                </a:lnTo>
                <a:lnTo>
                  <a:pt x="882" y="1167"/>
                </a:lnTo>
                <a:lnTo>
                  <a:pt x="885" y="1164"/>
                </a:lnTo>
                <a:lnTo>
                  <a:pt x="885" y="1142"/>
                </a:lnTo>
                <a:lnTo>
                  <a:pt x="884" y="1073"/>
                </a:lnTo>
                <a:lnTo>
                  <a:pt x="884" y="1020"/>
                </a:lnTo>
                <a:lnTo>
                  <a:pt x="885" y="1017"/>
                </a:lnTo>
                <a:lnTo>
                  <a:pt x="871" y="997"/>
                </a:lnTo>
                <a:lnTo>
                  <a:pt x="830" y="936"/>
                </a:lnTo>
                <a:lnTo>
                  <a:pt x="800" y="890"/>
                </a:lnTo>
                <a:lnTo>
                  <a:pt x="798" y="887"/>
                </a:lnTo>
                <a:lnTo>
                  <a:pt x="797" y="884"/>
                </a:lnTo>
                <a:lnTo>
                  <a:pt x="795" y="861"/>
                </a:lnTo>
                <a:lnTo>
                  <a:pt x="788" y="778"/>
                </a:lnTo>
                <a:lnTo>
                  <a:pt x="784" y="716"/>
                </a:lnTo>
                <a:lnTo>
                  <a:pt x="784" y="712"/>
                </a:lnTo>
                <a:lnTo>
                  <a:pt x="785" y="709"/>
                </a:lnTo>
                <a:lnTo>
                  <a:pt x="797" y="687"/>
                </a:lnTo>
                <a:lnTo>
                  <a:pt x="837" y="612"/>
                </a:lnTo>
                <a:lnTo>
                  <a:pt x="868" y="554"/>
                </a:lnTo>
                <a:lnTo>
                  <a:pt x="871" y="549"/>
                </a:lnTo>
                <a:lnTo>
                  <a:pt x="875" y="547"/>
                </a:lnTo>
                <a:lnTo>
                  <a:pt x="908" y="523"/>
                </a:lnTo>
                <a:lnTo>
                  <a:pt x="1024" y="442"/>
                </a:lnTo>
                <a:lnTo>
                  <a:pt x="1113" y="380"/>
                </a:lnTo>
                <a:lnTo>
                  <a:pt x="1119" y="376"/>
                </a:lnTo>
                <a:lnTo>
                  <a:pt x="1116" y="358"/>
                </a:lnTo>
                <a:lnTo>
                  <a:pt x="1108" y="305"/>
                </a:lnTo>
                <a:lnTo>
                  <a:pt x="1103" y="263"/>
                </a:lnTo>
                <a:lnTo>
                  <a:pt x="1103" y="260"/>
                </a:lnTo>
                <a:lnTo>
                  <a:pt x="1101" y="260"/>
                </a:lnTo>
                <a:lnTo>
                  <a:pt x="1095" y="260"/>
                </a:lnTo>
                <a:lnTo>
                  <a:pt x="1075" y="260"/>
                </a:lnTo>
                <a:lnTo>
                  <a:pt x="1059" y="260"/>
                </a:lnTo>
                <a:lnTo>
                  <a:pt x="1059" y="260"/>
                </a:lnTo>
                <a:lnTo>
                  <a:pt x="1058" y="263"/>
                </a:lnTo>
                <a:lnTo>
                  <a:pt x="1052" y="271"/>
                </a:lnTo>
                <a:lnTo>
                  <a:pt x="1030" y="306"/>
                </a:lnTo>
                <a:lnTo>
                  <a:pt x="1014" y="332"/>
                </a:lnTo>
                <a:lnTo>
                  <a:pt x="1014" y="334"/>
                </a:lnTo>
                <a:lnTo>
                  <a:pt x="1011" y="336"/>
                </a:lnTo>
                <a:lnTo>
                  <a:pt x="995" y="348"/>
                </a:lnTo>
                <a:lnTo>
                  <a:pt x="942" y="387"/>
                </a:lnTo>
                <a:lnTo>
                  <a:pt x="900" y="418"/>
                </a:lnTo>
                <a:lnTo>
                  <a:pt x="898" y="419"/>
                </a:lnTo>
                <a:lnTo>
                  <a:pt x="895" y="419"/>
                </a:lnTo>
                <a:lnTo>
                  <a:pt x="877" y="419"/>
                </a:lnTo>
                <a:lnTo>
                  <a:pt x="816" y="419"/>
                </a:lnTo>
                <a:lnTo>
                  <a:pt x="769" y="419"/>
                </a:lnTo>
                <a:lnTo>
                  <a:pt x="768" y="419"/>
                </a:lnTo>
                <a:lnTo>
                  <a:pt x="764" y="413"/>
                </a:lnTo>
                <a:lnTo>
                  <a:pt x="751" y="393"/>
                </a:lnTo>
                <a:lnTo>
                  <a:pt x="740" y="377"/>
                </a:lnTo>
                <a:lnTo>
                  <a:pt x="740" y="376"/>
                </a:lnTo>
                <a:lnTo>
                  <a:pt x="742" y="374"/>
                </a:lnTo>
                <a:lnTo>
                  <a:pt x="753" y="358"/>
                </a:lnTo>
                <a:lnTo>
                  <a:pt x="793" y="305"/>
                </a:lnTo>
                <a:lnTo>
                  <a:pt x="823" y="263"/>
                </a:lnTo>
                <a:lnTo>
                  <a:pt x="826" y="260"/>
                </a:lnTo>
                <a:lnTo>
                  <a:pt x="823" y="258"/>
                </a:lnTo>
                <a:lnTo>
                  <a:pt x="807" y="250"/>
                </a:lnTo>
                <a:lnTo>
                  <a:pt x="753" y="215"/>
                </a:lnTo>
                <a:lnTo>
                  <a:pt x="711" y="189"/>
                </a:lnTo>
                <a:lnTo>
                  <a:pt x="710" y="186"/>
                </a:lnTo>
                <a:lnTo>
                  <a:pt x="709" y="186"/>
                </a:lnTo>
                <a:lnTo>
                  <a:pt x="700" y="186"/>
                </a:lnTo>
                <a:lnTo>
                  <a:pt x="674" y="186"/>
                </a:lnTo>
                <a:lnTo>
                  <a:pt x="653" y="186"/>
                </a:lnTo>
                <a:lnTo>
                  <a:pt x="653" y="186"/>
                </a:lnTo>
                <a:lnTo>
                  <a:pt x="648" y="177"/>
                </a:lnTo>
                <a:lnTo>
                  <a:pt x="635" y="151"/>
                </a:lnTo>
                <a:lnTo>
                  <a:pt x="624" y="129"/>
                </a:lnTo>
                <a:lnTo>
                  <a:pt x="624" y="128"/>
                </a:lnTo>
                <a:lnTo>
                  <a:pt x="622" y="128"/>
                </a:lnTo>
                <a:lnTo>
                  <a:pt x="610" y="128"/>
                </a:lnTo>
                <a:lnTo>
                  <a:pt x="568" y="128"/>
                </a:lnTo>
                <a:lnTo>
                  <a:pt x="538" y="128"/>
                </a:lnTo>
                <a:lnTo>
                  <a:pt x="536" y="128"/>
                </a:lnTo>
                <a:lnTo>
                  <a:pt x="535" y="126"/>
                </a:lnTo>
                <a:lnTo>
                  <a:pt x="525" y="110"/>
                </a:lnTo>
                <a:lnTo>
                  <a:pt x="490" y="58"/>
                </a:lnTo>
                <a:lnTo>
                  <a:pt x="464" y="18"/>
                </a:lnTo>
                <a:lnTo>
                  <a:pt x="464" y="15"/>
                </a:lnTo>
                <a:lnTo>
                  <a:pt x="462" y="15"/>
                </a:lnTo>
                <a:lnTo>
                  <a:pt x="452" y="15"/>
                </a:lnTo>
                <a:lnTo>
                  <a:pt x="417" y="15"/>
                </a:lnTo>
                <a:lnTo>
                  <a:pt x="391" y="15"/>
                </a:lnTo>
                <a:lnTo>
                  <a:pt x="391" y="15"/>
                </a:lnTo>
                <a:lnTo>
                  <a:pt x="390" y="16"/>
                </a:lnTo>
                <a:lnTo>
                  <a:pt x="385" y="23"/>
                </a:lnTo>
                <a:lnTo>
                  <a:pt x="372" y="50"/>
                </a:lnTo>
                <a:lnTo>
                  <a:pt x="362" y="70"/>
                </a:lnTo>
                <a:lnTo>
                  <a:pt x="362" y="70"/>
                </a:lnTo>
                <a:lnTo>
                  <a:pt x="361" y="70"/>
                </a:lnTo>
                <a:lnTo>
                  <a:pt x="359" y="70"/>
                </a:lnTo>
                <a:lnTo>
                  <a:pt x="352" y="70"/>
                </a:lnTo>
                <a:lnTo>
                  <a:pt x="348" y="70"/>
                </a:lnTo>
                <a:lnTo>
                  <a:pt x="348" y="70"/>
                </a:lnTo>
                <a:lnTo>
                  <a:pt x="336" y="60"/>
                </a:lnTo>
                <a:lnTo>
                  <a:pt x="301" y="28"/>
                </a:lnTo>
                <a:lnTo>
                  <a:pt x="275" y="2"/>
                </a:lnTo>
                <a:lnTo>
                  <a:pt x="274" y="0"/>
                </a:lnTo>
                <a:lnTo>
                  <a:pt x="272" y="0"/>
                </a:lnTo>
                <a:lnTo>
                  <a:pt x="264" y="0"/>
                </a:lnTo>
                <a:lnTo>
                  <a:pt x="238" y="0"/>
                </a:lnTo>
                <a:lnTo>
                  <a:pt x="216" y="0"/>
                </a:lnTo>
                <a:lnTo>
                  <a:pt x="216" y="0"/>
                </a:lnTo>
                <a:lnTo>
                  <a:pt x="214" y="3"/>
                </a:lnTo>
                <a:lnTo>
                  <a:pt x="209" y="15"/>
                </a:lnTo>
                <a:lnTo>
                  <a:pt x="188" y="54"/>
                </a:lnTo>
                <a:lnTo>
                  <a:pt x="174" y="84"/>
                </a:lnTo>
                <a:lnTo>
                  <a:pt x="174" y="86"/>
                </a:lnTo>
                <a:lnTo>
                  <a:pt x="172" y="87"/>
                </a:lnTo>
                <a:lnTo>
                  <a:pt x="168" y="89"/>
                </a:lnTo>
                <a:lnTo>
                  <a:pt x="154" y="96"/>
                </a:lnTo>
                <a:lnTo>
                  <a:pt x="143" y="102"/>
                </a:lnTo>
                <a:lnTo>
                  <a:pt x="143" y="102"/>
                </a:lnTo>
                <a:lnTo>
                  <a:pt x="142" y="102"/>
                </a:lnTo>
                <a:lnTo>
                  <a:pt x="143" y="102"/>
                </a:lnTo>
                <a:lnTo>
                  <a:pt x="142" y="102"/>
                </a:lnTo>
                <a:lnTo>
                  <a:pt x="143" y="102"/>
                </a:lnTo>
                <a:lnTo>
                  <a:pt x="143" y="103"/>
                </a:lnTo>
                <a:lnTo>
                  <a:pt x="145" y="113"/>
                </a:lnTo>
                <a:lnTo>
                  <a:pt x="152" y="145"/>
                </a:lnTo>
                <a:lnTo>
                  <a:pt x="158" y="170"/>
                </a:lnTo>
                <a:lnTo>
                  <a:pt x="159" y="170"/>
                </a:lnTo>
                <a:lnTo>
                  <a:pt x="159" y="17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26320" y="4638600"/>
            <a:ext cx="130320" cy="125640"/>
          </a:xfrm>
          <a:custGeom>
            <a:avLst/>
            <a:gdLst/>
            <a:ahLst/>
            <a:rect l="l" t="t" r="r" b="b"/>
            <a:pathLst>
              <a:path w="381" h="383">
                <a:moveTo>
                  <a:pt x="145" y="29"/>
                </a:moveTo>
                <a:lnTo>
                  <a:pt x="145" y="31"/>
                </a:lnTo>
                <a:lnTo>
                  <a:pt x="146" y="40"/>
                </a:lnTo>
                <a:lnTo>
                  <a:pt x="153" y="66"/>
                </a:lnTo>
                <a:lnTo>
                  <a:pt x="159" y="87"/>
                </a:lnTo>
                <a:lnTo>
                  <a:pt x="161" y="87"/>
                </a:lnTo>
                <a:lnTo>
                  <a:pt x="169" y="87"/>
                </a:lnTo>
                <a:lnTo>
                  <a:pt x="195" y="87"/>
                </a:lnTo>
                <a:lnTo>
                  <a:pt x="216" y="87"/>
                </a:lnTo>
                <a:lnTo>
                  <a:pt x="217" y="87"/>
                </a:lnTo>
                <a:lnTo>
                  <a:pt x="219" y="89"/>
                </a:lnTo>
                <a:lnTo>
                  <a:pt x="230" y="98"/>
                </a:lnTo>
                <a:lnTo>
                  <a:pt x="269" y="127"/>
                </a:lnTo>
                <a:lnTo>
                  <a:pt x="300" y="148"/>
                </a:lnTo>
                <a:lnTo>
                  <a:pt x="303" y="148"/>
                </a:lnTo>
                <a:lnTo>
                  <a:pt x="303" y="155"/>
                </a:lnTo>
                <a:lnTo>
                  <a:pt x="301" y="176"/>
                </a:lnTo>
                <a:lnTo>
                  <a:pt x="301" y="190"/>
                </a:lnTo>
                <a:lnTo>
                  <a:pt x="303" y="190"/>
                </a:lnTo>
                <a:lnTo>
                  <a:pt x="304" y="192"/>
                </a:lnTo>
                <a:lnTo>
                  <a:pt x="314" y="202"/>
                </a:lnTo>
                <a:lnTo>
                  <a:pt x="350" y="234"/>
                </a:lnTo>
                <a:lnTo>
                  <a:pt x="378" y="260"/>
                </a:lnTo>
                <a:lnTo>
                  <a:pt x="381" y="260"/>
                </a:lnTo>
                <a:lnTo>
                  <a:pt x="378" y="263"/>
                </a:lnTo>
                <a:lnTo>
                  <a:pt x="366" y="280"/>
                </a:lnTo>
                <a:lnTo>
                  <a:pt x="323" y="338"/>
                </a:lnTo>
                <a:lnTo>
                  <a:pt x="290" y="382"/>
                </a:lnTo>
                <a:lnTo>
                  <a:pt x="288" y="383"/>
                </a:lnTo>
                <a:lnTo>
                  <a:pt x="284" y="383"/>
                </a:lnTo>
                <a:lnTo>
                  <a:pt x="261" y="383"/>
                </a:lnTo>
                <a:lnTo>
                  <a:pt x="180" y="382"/>
                </a:lnTo>
                <a:lnTo>
                  <a:pt x="117" y="382"/>
                </a:lnTo>
                <a:lnTo>
                  <a:pt x="114" y="380"/>
                </a:lnTo>
                <a:lnTo>
                  <a:pt x="98" y="374"/>
                </a:lnTo>
                <a:lnTo>
                  <a:pt x="51" y="354"/>
                </a:lnTo>
                <a:lnTo>
                  <a:pt x="16" y="340"/>
                </a:lnTo>
                <a:lnTo>
                  <a:pt x="14" y="338"/>
                </a:lnTo>
                <a:lnTo>
                  <a:pt x="13" y="335"/>
                </a:lnTo>
                <a:lnTo>
                  <a:pt x="11" y="312"/>
                </a:lnTo>
                <a:lnTo>
                  <a:pt x="4" y="229"/>
                </a:lnTo>
                <a:lnTo>
                  <a:pt x="0" y="167"/>
                </a:lnTo>
                <a:lnTo>
                  <a:pt x="0" y="163"/>
                </a:lnTo>
                <a:lnTo>
                  <a:pt x="1" y="160"/>
                </a:lnTo>
                <a:lnTo>
                  <a:pt x="13" y="138"/>
                </a:lnTo>
                <a:lnTo>
                  <a:pt x="53" y="63"/>
                </a:lnTo>
                <a:lnTo>
                  <a:pt x="84" y="5"/>
                </a:lnTo>
                <a:lnTo>
                  <a:pt x="87" y="0"/>
                </a:lnTo>
                <a:lnTo>
                  <a:pt x="85" y="0"/>
                </a:lnTo>
                <a:lnTo>
                  <a:pt x="87" y="0"/>
                </a:lnTo>
                <a:lnTo>
                  <a:pt x="85" y="0"/>
                </a:lnTo>
                <a:lnTo>
                  <a:pt x="87" y="0"/>
                </a:lnTo>
                <a:lnTo>
                  <a:pt x="95" y="6"/>
                </a:lnTo>
                <a:lnTo>
                  <a:pt x="122" y="19"/>
                </a:lnTo>
                <a:lnTo>
                  <a:pt x="143" y="29"/>
                </a:lnTo>
                <a:lnTo>
                  <a:pt x="145" y="29"/>
                </a:lnTo>
                <a:lnTo>
                  <a:pt x="145" y="29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13480" y="4173480"/>
            <a:ext cx="330480" cy="319320"/>
          </a:xfrm>
          <a:custGeom>
            <a:avLst/>
            <a:gdLst/>
            <a:ahLst/>
            <a:rect l="l" t="t" r="r" b="b"/>
            <a:pathLst>
              <a:path w="956" h="973">
                <a:moveTo>
                  <a:pt x="87" y="566"/>
                </a:moveTo>
                <a:lnTo>
                  <a:pt x="88" y="573"/>
                </a:lnTo>
                <a:lnTo>
                  <a:pt x="106" y="623"/>
                </a:lnTo>
                <a:lnTo>
                  <a:pt x="162" y="792"/>
                </a:lnTo>
                <a:lnTo>
                  <a:pt x="206" y="921"/>
                </a:lnTo>
                <a:lnTo>
                  <a:pt x="208" y="927"/>
                </a:lnTo>
                <a:lnTo>
                  <a:pt x="216" y="934"/>
                </a:lnTo>
                <a:lnTo>
                  <a:pt x="242" y="956"/>
                </a:lnTo>
                <a:lnTo>
                  <a:pt x="262" y="973"/>
                </a:lnTo>
                <a:lnTo>
                  <a:pt x="263" y="973"/>
                </a:lnTo>
                <a:lnTo>
                  <a:pt x="268" y="970"/>
                </a:lnTo>
                <a:lnTo>
                  <a:pt x="284" y="962"/>
                </a:lnTo>
                <a:lnTo>
                  <a:pt x="297" y="956"/>
                </a:lnTo>
                <a:lnTo>
                  <a:pt x="298" y="954"/>
                </a:lnTo>
                <a:lnTo>
                  <a:pt x="304" y="941"/>
                </a:lnTo>
                <a:lnTo>
                  <a:pt x="321" y="902"/>
                </a:lnTo>
                <a:lnTo>
                  <a:pt x="336" y="872"/>
                </a:lnTo>
                <a:lnTo>
                  <a:pt x="337" y="869"/>
                </a:lnTo>
                <a:lnTo>
                  <a:pt x="346" y="869"/>
                </a:lnTo>
                <a:lnTo>
                  <a:pt x="374" y="869"/>
                </a:lnTo>
                <a:lnTo>
                  <a:pt x="395" y="869"/>
                </a:lnTo>
                <a:lnTo>
                  <a:pt x="397" y="869"/>
                </a:lnTo>
                <a:lnTo>
                  <a:pt x="407" y="881"/>
                </a:lnTo>
                <a:lnTo>
                  <a:pt x="437" y="915"/>
                </a:lnTo>
                <a:lnTo>
                  <a:pt x="462" y="941"/>
                </a:lnTo>
                <a:lnTo>
                  <a:pt x="463" y="941"/>
                </a:lnTo>
                <a:lnTo>
                  <a:pt x="466" y="941"/>
                </a:lnTo>
                <a:lnTo>
                  <a:pt x="476" y="941"/>
                </a:lnTo>
                <a:lnTo>
                  <a:pt x="485" y="941"/>
                </a:lnTo>
                <a:lnTo>
                  <a:pt x="487" y="941"/>
                </a:lnTo>
                <a:lnTo>
                  <a:pt x="489" y="934"/>
                </a:lnTo>
                <a:lnTo>
                  <a:pt x="501" y="908"/>
                </a:lnTo>
                <a:lnTo>
                  <a:pt x="510" y="888"/>
                </a:lnTo>
                <a:lnTo>
                  <a:pt x="511" y="886"/>
                </a:lnTo>
                <a:lnTo>
                  <a:pt x="513" y="886"/>
                </a:lnTo>
                <a:lnTo>
                  <a:pt x="521" y="886"/>
                </a:lnTo>
                <a:lnTo>
                  <a:pt x="556" y="886"/>
                </a:lnTo>
                <a:lnTo>
                  <a:pt x="582" y="886"/>
                </a:lnTo>
                <a:lnTo>
                  <a:pt x="585" y="886"/>
                </a:lnTo>
                <a:lnTo>
                  <a:pt x="585" y="885"/>
                </a:lnTo>
                <a:lnTo>
                  <a:pt x="589" y="869"/>
                </a:lnTo>
                <a:lnTo>
                  <a:pt x="605" y="812"/>
                </a:lnTo>
                <a:lnTo>
                  <a:pt x="617" y="770"/>
                </a:lnTo>
                <a:lnTo>
                  <a:pt x="618" y="768"/>
                </a:lnTo>
                <a:lnTo>
                  <a:pt x="634" y="759"/>
                </a:lnTo>
                <a:lnTo>
                  <a:pt x="682" y="731"/>
                </a:lnTo>
                <a:lnTo>
                  <a:pt x="718" y="710"/>
                </a:lnTo>
                <a:lnTo>
                  <a:pt x="721" y="708"/>
                </a:lnTo>
                <a:lnTo>
                  <a:pt x="724" y="708"/>
                </a:lnTo>
                <a:lnTo>
                  <a:pt x="746" y="704"/>
                </a:lnTo>
                <a:lnTo>
                  <a:pt x="821" y="691"/>
                </a:lnTo>
                <a:lnTo>
                  <a:pt x="879" y="681"/>
                </a:lnTo>
                <a:lnTo>
                  <a:pt x="884" y="679"/>
                </a:lnTo>
                <a:lnTo>
                  <a:pt x="884" y="686"/>
                </a:lnTo>
                <a:lnTo>
                  <a:pt x="882" y="707"/>
                </a:lnTo>
                <a:lnTo>
                  <a:pt x="882" y="723"/>
                </a:lnTo>
                <a:lnTo>
                  <a:pt x="884" y="723"/>
                </a:lnTo>
                <a:lnTo>
                  <a:pt x="889" y="725"/>
                </a:lnTo>
                <a:lnTo>
                  <a:pt x="910" y="733"/>
                </a:lnTo>
                <a:lnTo>
                  <a:pt x="926" y="737"/>
                </a:lnTo>
                <a:lnTo>
                  <a:pt x="927" y="737"/>
                </a:lnTo>
                <a:lnTo>
                  <a:pt x="927" y="731"/>
                </a:lnTo>
                <a:lnTo>
                  <a:pt x="926" y="711"/>
                </a:lnTo>
                <a:lnTo>
                  <a:pt x="926" y="695"/>
                </a:lnTo>
                <a:lnTo>
                  <a:pt x="927" y="694"/>
                </a:lnTo>
                <a:lnTo>
                  <a:pt x="931" y="688"/>
                </a:lnTo>
                <a:lnTo>
                  <a:pt x="944" y="666"/>
                </a:lnTo>
                <a:lnTo>
                  <a:pt x="955" y="650"/>
                </a:lnTo>
                <a:lnTo>
                  <a:pt x="956" y="649"/>
                </a:lnTo>
                <a:lnTo>
                  <a:pt x="955" y="646"/>
                </a:lnTo>
                <a:lnTo>
                  <a:pt x="944" y="624"/>
                </a:lnTo>
                <a:lnTo>
                  <a:pt x="910" y="549"/>
                </a:lnTo>
                <a:lnTo>
                  <a:pt x="884" y="491"/>
                </a:lnTo>
                <a:lnTo>
                  <a:pt x="884" y="486"/>
                </a:lnTo>
                <a:lnTo>
                  <a:pt x="881" y="486"/>
                </a:lnTo>
                <a:lnTo>
                  <a:pt x="865" y="485"/>
                </a:lnTo>
                <a:lnTo>
                  <a:pt x="810" y="478"/>
                </a:lnTo>
                <a:lnTo>
                  <a:pt x="768" y="473"/>
                </a:lnTo>
                <a:lnTo>
                  <a:pt x="766" y="472"/>
                </a:lnTo>
                <a:lnTo>
                  <a:pt x="760" y="462"/>
                </a:lnTo>
                <a:lnTo>
                  <a:pt x="746" y="427"/>
                </a:lnTo>
                <a:lnTo>
                  <a:pt x="736" y="401"/>
                </a:lnTo>
                <a:lnTo>
                  <a:pt x="736" y="398"/>
                </a:lnTo>
                <a:lnTo>
                  <a:pt x="730" y="397"/>
                </a:lnTo>
                <a:lnTo>
                  <a:pt x="717" y="389"/>
                </a:lnTo>
                <a:lnTo>
                  <a:pt x="707" y="384"/>
                </a:lnTo>
                <a:lnTo>
                  <a:pt x="707" y="382"/>
                </a:lnTo>
                <a:lnTo>
                  <a:pt x="707" y="379"/>
                </a:lnTo>
                <a:lnTo>
                  <a:pt x="705" y="366"/>
                </a:lnTo>
                <a:lnTo>
                  <a:pt x="705" y="356"/>
                </a:lnTo>
                <a:lnTo>
                  <a:pt x="707" y="355"/>
                </a:lnTo>
                <a:lnTo>
                  <a:pt x="711" y="350"/>
                </a:lnTo>
                <a:lnTo>
                  <a:pt x="724" y="336"/>
                </a:lnTo>
                <a:lnTo>
                  <a:pt x="734" y="326"/>
                </a:lnTo>
                <a:lnTo>
                  <a:pt x="736" y="324"/>
                </a:lnTo>
                <a:lnTo>
                  <a:pt x="731" y="323"/>
                </a:lnTo>
                <a:lnTo>
                  <a:pt x="701" y="304"/>
                </a:lnTo>
                <a:lnTo>
                  <a:pt x="598" y="243"/>
                </a:lnTo>
                <a:lnTo>
                  <a:pt x="518" y="195"/>
                </a:lnTo>
                <a:lnTo>
                  <a:pt x="516" y="192"/>
                </a:lnTo>
                <a:lnTo>
                  <a:pt x="513" y="192"/>
                </a:lnTo>
                <a:lnTo>
                  <a:pt x="498" y="192"/>
                </a:lnTo>
                <a:lnTo>
                  <a:pt x="450" y="192"/>
                </a:lnTo>
                <a:lnTo>
                  <a:pt x="413" y="192"/>
                </a:lnTo>
                <a:lnTo>
                  <a:pt x="411" y="192"/>
                </a:lnTo>
                <a:lnTo>
                  <a:pt x="408" y="191"/>
                </a:lnTo>
                <a:lnTo>
                  <a:pt x="400" y="182"/>
                </a:lnTo>
                <a:lnTo>
                  <a:pt x="365" y="147"/>
                </a:lnTo>
                <a:lnTo>
                  <a:pt x="339" y="121"/>
                </a:lnTo>
                <a:lnTo>
                  <a:pt x="337" y="118"/>
                </a:lnTo>
                <a:lnTo>
                  <a:pt x="343" y="114"/>
                </a:lnTo>
                <a:lnTo>
                  <a:pt x="365" y="101"/>
                </a:lnTo>
                <a:lnTo>
                  <a:pt x="381" y="91"/>
                </a:lnTo>
                <a:lnTo>
                  <a:pt x="382" y="89"/>
                </a:lnTo>
                <a:lnTo>
                  <a:pt x="382" y="76"/>
                </a:lnTo>
                <a:lnTo>
                  <a:pt x="381" y="34"/>
                </a:lnTo>
                <a:lnTo>
                  <a:pt x="381" y="2"/>
                </a:lnTo>
                <a:lnTo>
                  <a:pt x="382" y="0"/>
                </a:lnTo>
                <a:lnTo>
                  <a:pt x="381" y="0"/>
                </a:lnTo>
                <a:lnTo>
                  <a:pt x="375" y="0"/>
                </a:lnTo>
                <a:lnTo>
                  <a:pt x="353" y="0"/>
                </a:lnTo>
                <a:lnTo>
                  <a:pt x="337" y="0"/>
                </a:lnTo>
                <a:lnTo>
                  <a:pt x="337" y="0"/>
                </a:lnTo>
                <a:lnTo>
                  <a:pt x="333" y="1"/>
                </a:lnTo>
                <a:lnTo>
                  <a:pt x="308" y="10"/>
                </a:lnTo>
                <a:lnTo>
                  <a:pt x="226" y="37"/>
                </a:lnTo>
                <a:lnTo>
                  <a:pt x="164" y="59"/>
                </a:lnTo>
                <a:lnTo>
                  <a:pt x="161" y="59"/>
                </a:lnTo>
                <a:lnTo>
                  <a:pt x="158" y="57"/>
                </a:lnTo>
                <a:lnTo>
                  <a:pt x="150" y="50"/>
                </a:lnTo>
                <a:lnTo>
                  <a:pt x="146" y="46"/>
                </a:lnTo>
                <a:lnTo>
                  <a:pt x="146" y="44"/>
                </a:lnTo>
                <a:lnTo>
                  <a:pt x="136" y="47"/>
                </a:lnTo>
                <a:lnTo>
                  <a:pt x="108" y="55"/>
                </a:lnTo>
                <a:lnTo>
                  <a:pt x="87" y="59"/>
                </a:lnTo>
                <a:lnTo>
                  <a:pt x="87" y="59"/>
                </a:lnTo>
                <a:lnTo>
                  <a:pt x="84" y="69"/>
                </a:lnTo>
                <a:lnTo>
                  <a:pt x="77" y="97"/>
                </a:lnTo>
                <a:lnTo>
                  <a:pt x="72" y="118"/>
                </a:lnTo>
                <a:lnTo>
                  <a:pt x="72" y="118"/>
                </a:lnTo>
                <a:lnTo>
                  <a:pt x="71" y="118"/>
                </a:lnTo>
                <a:lnTo>
                  <a:pt x="61" y="118"/>
                </a:lnTo>
                <a:lnTo>
                  <a:pt x="26" y="117"/>
                </a:lnTo>
                <a:lnTo>
                  <a:pt x="0" y="115"/>
                </a:lnTo>
                <a:lnTo>
                  <a:pt x="0" y="114"/>
                </a:lnTo>
                <a:lnTo>
                  <a:pt x="1" y="118"/>
                </a:lnTo>
                <a:lnTo>
                  <a:pt x="16" y="140"/>
                </a:lnTo>
                <a:lnTo>
                  <a:pt x="64" y="218"/>
                </a:lnTo>
                <a:lnTo>
                  <a:pt x="100" y="276"/>
                </a:lnTo>
                <a:lnTo>
                  <a:pt x="103" y="279"/>
                </a:lnTo>
                <a:lnTo>
                  <a:pt x="101" y="282"/>
                </a:lnTo>
                <a:lnTo>
                  <a:pt x="95" y="301"/>
                </a:lnTo>
                <a:lnTo>
                  <a:pt x="75" y="363"/>
                </a:lnTo>
                <a:lnTo>
                  <a:pt x="59" y="411"/>
                </a:lnTo>
                <a:lnTo>
                  <a:pt x="59" y="413"/>
                </a:lnTo>
                <a:lnTo>
                  <a:pt x="59" y="415"/>
                </a:lnTo>
                <a:lnTo>
                  <a:pt x="61" y="426"/>
                </a:lnTo>
                <a:lnTo>
                  <a:pt x="66" y="465"/>
                </a:lnTo>
                <a:lnTo>
                  <a:pt x="71" y="494"/>
                </a:lnTo>
                <a:lnTo>
                  <a:pt x="72" y="495"/>
                </a:lnTo>
                <a:lnTo>
                  <a:pt x="71" y="497"/>
                </a:lnTo>
                <a:lnTo>
                  <a:pt x="64" y="507"/>
                </a:lnTo>
                <a:lnTo>
                  <a:pt x="40" y="539"/>
                </a:lnTo>
                <a:lnTo>
                  <a:pt x="22" y="563"/>
                </a:lnTo>
                <a:lnTo>
                  <a:pt x="22" y="563"/>
                </a:lnTo>
                <a:lnTo>
                  <a:pt x="20" y="563"/>
                </a:lnTo>
                <a:lnTo>
                  <a:pt x="22" y="563"/>
                </a:lnTo>
                <a:lnTo>
                  <a:pt x="20" y="563"/>
                </a:lnTo>
                <a:lnTo>
                  <a:pt x="22" y="563"/>
                </a:lnTo>
                <a:lnTo>
                  <a:pt x="32" y="565"/>
                </a:lnTo>
                <a:lnTo>
                  <a:pt x="62" y="566"/>
                </a:lnTo>
                <a:lnTo>
                  <a:pt x="85" y="566"/>
                </a:lnTo>
                <a:lnTo>
                  <a:pt x="87" y="566"/>
                </a:lnTo>
                <a:lnTo>
                  <a:pt x="87" y="566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15080" y="4395960"/>
            <a:ext cx="214560" cy="201600"/>
          </a:xfrm>
          <a:custGeom>
            <a:avLst/>
            <a:gdLst/>
            <a:ahLst/>
            <a:rect l="l" t="t" r="r" b="b"/>
            <a:pathLst>
              <a:path w="622" h="612">
                <a:moveTo>
                  <a:pt x="342" y="173"/>
                </a:moveTo>
                <a:lnTo>
                  <a:pt x="348" y="181"/>
                </a:lnTo>
                <a:lnTo>
                  <a:pt x="368" y="202"/>
                </a:lnTo>
                <a:lnTo>
                  <a:pt x="384" y="218"/>
                </a:lnTo>
                <a:lnTo>
                  <a:pt x="386" y="218"/>
                </a:lnTo>
                <a:lnTo>
                  <a:pt x="391" y="217"/>
                </a:lnTo>
                <a:lnTo>
                  <a:pt x="412" y="210"/>
                </a:lnTo>
                <a:lnTo>
                  <a:pt x="428" y="205"/>
                </a:lnTo>
                <a:lnTo>
                  <a:pt x="429" y="204"/>
                </a:lnTo>
                <a:lnTo>
                  <a:pt x="430" y="205"/>
                </a:lnTo>
                <a:lnTo>
                  <a:pt x="449" y="214"/>
                </a:lnTo>
                <a:lnTo>
                  <a:pt x="513" y="242"/>
                </a:lnTo>
                <a:lnTo>
                  <a:pt x="561" y="263"/>
                </a:lnTo>
                <a:lnTo>
                  <a:pt x="564" y="263"/>
                </a:lnTo>
                <a:lnTo>
                  <a:pt x="564" y="275"/>
                </a:lnTo>
                <a:lnTo>
                  <a:pt x="562" y="310"/>
                </a:lnTo>
                <a:lnTo>
                  <a:pt x="562" y="336"/>
                </a:lnTo>
                <a:lnTo>
                  <a:pt x="564" y="336"/>
                </a:lnTo>
                <a:lnTo>
                  <a:pt x="572" y="342"/>
                </a:lnTo>
                <a:lnTo>
                  <a:pt x="598" y="355"/>
                </a:lnTo>
                <a:lnTo>
                  <a:pt x="620" y="365"/>
                </a:lnTo>
                <a:lnTo>
                  <a:pt x="622" y="365"/>
                </a:lnTo>
                <a:lnTo>
                  <a:pt x="622" y="379"/>
                </a:lnTo>
                <a:lnTo>
                  <a:pt x="620" y="421"/>
                </a:lnTo>
                <a:lnTo>
                  <a:pt x="620" y="453"/>
                </a:lnTo>
                <a:lnTo>
                  <a:pt x="622" y="455"/>
                </a:lnTo>
                <a:lnTo>
                  <a:pt x="620" y="455"/>
                </a:lnTo>
                <a:lnTo>
                  <a:pt x="617" y="455"/>
                </a:lnTo>
                <a:lnTo>
                  <a:pt x="604" y="455"/>
                </a:lnTo>
                <a:lnTo>
                  <a:pt x="594" y="455"/>
                </a:lnTo>
                <a:lnTo>
                  <a:pt x="594" y="455"/>
                </a:lnTo>
                <a:lnTo>
                  <a:pt x="593" y="456"/>
                </a:lnTo>
                <a:lnTo>
                  <a:pt x="587" y="466"/>
                </a:lnTo>
                <a:lnTo>
                  <a:pt x="565" y="499"/>
                </a:lnTo>
                <a:lnTo>
                  <a:pt x="549" y="526"/>
                </a:lnTo>
                <a:lnTo>
                  <a:pt x="549" y="526"/>
                </a:lnTo>
                <a:lnTo>
                  <a:pt x="546" y="528"/>
                </a:lnTo>
                <a:lnTo>
                  <a:pt x="530" y="540"/>
                </a:lnTo>
                <a:lnTo>
                  <a:pt x="477" y="581"/>
                </a:lnTo>
                <a:lnTo>
                  <a:pt x="435" y="611"/>
                </a:lnTo>
                <a:lnTo>
                  <a:pt x="433" y="612"/>
                </a:lnTo>
                <a:lnTo>
                  <a:pt x="430" y="612"/>
                </a:lnTo>
                <a:lnTo>
                  <a:pt x="412" y="612"/>
                </a:lnTo>
                <a:lnTo>
                  <a:pt x="349" y="612"/>
                </a:lnTo>
                <a:lnTo>
                  <a:pt x="301" y="612"/>
                </a:lnTo>
                <a:lnTo>
                  <a:pt x="300" y="611"/>
                </a:lnTo>
                <a:lnTo>
                  <a:pt x="296" y="605"/>
                </a:lnTo>
                <a:lnTo>
                  <a:pt x="284" y="586"/>
                </a:lnTo>
                <a:lnTo>
                  <a:pt x="275" y="572"/>
                </a:lnTo>
                <a:lnTo>
                  <a:pt x="275" y="570"/>
                </a:lnTo>
                <a:lnTo>
                  <a:pt x="277" y="569"/>
                </a:lnTo>
                <a:lnTo>
                  <a:pt x="287" y="553"/>
                </a:lnTo>
                <a:lnTo>
                  <a:pt x="325" y="499"/>
                </a:lnTo>
                <a:lnTo>
                  <a:pt x="354" y="457"/>
                </a:lnTo>
                <a:lnTo>
                  <a:pt x="357" y="455"/>
                </a:lnTo>
                <a:lnTo>
                  <a:pt x="354" y="453"/>
                </a:lnTo>
                <a:lnTo>
                  <a:pt x="339" y="443"/>
                </a:lnTo>
                <a:lnTo>
                  <a:pt x="291" y="408"/>
                </a:lnTo>
                <a:lnTo>
                  <a:pt x="255" y="382"/>
                </a:lnTo>
                <a:lnTo>
                  <a:pt x="254" y="379"/>
                </a:lnTo>
                <a:lnTo>
                  <a:pt x="252" y="379"/>
                </a:lnTo>
                <a:lnTo>
                  <a:pt x="242" y="379"/>
                </a:lnTo>
                <a:lnTo>
                  <a:pt x="212" y="379"/>
                </a:lnTo>
                <a:lnTo>
                  <a:pt x="188" y="379"/>
                </a:lnTo>
                <a:lnTo>
                  <a:pt x="188" y="379"/>
                </a:lnTo>
                <a:lnTo>
                  <a:pt x="183" y="371"/>
                </a:lnTo>
                <a:lnTo>
                  <a:pt x="170" y="344"/>
                </a:lnTo>
                <a:lnTo>
                  <a:pt x="159" y="323"/>
                </a:lnTo>
                <a:lnTo>
                  <a:pt x="159" y="321"/>
                </a:lnTo>
                <a:lnTo>
                  <a:pt x="157" y="321"/>
                </a:lnTo>
                <a:lnTo>
                  <a:pt x="145" y="321"/>
                </a:lnTo>
                <a:lnTo>
                  <a:pt x="104" y="321"/>
                </a:lnTo>
                <a:lnTo>
                  <a:pt x="74" y="321"/>
                </a:lnTo>
                <a:lnTo>
                  <a:pt x="73" y="321"/>
                </a:lnTo>
                <a:lnTo>
                  <a:pt x="71" y="320"/>
                </a:lnTo>
                <a:lnTo>
                  <a:pt x="61" y="304"/>
                </a:lnTo>
                <a:lnTo>
                  <a:pt x="26" y="250"/>
                </a:lnTo>
                <a:lnTo>
                  <a:pt x="0" y="210"/>
                </a:lnTo>
                <a:lnTo>
                  <a:pt x="0" y="207"/>
                </a:lnTo>
                <a:lnTo>
                  <a:pt x="0" y="205"/>
                </a:lnTo>
                <a:lnTo>
                  <a:pt x="4" y="189"/>
                </a:lnTo>
                <a:lnTo>
                  <a:pt x="20" y="133"/>
                </a:lnTo>
                <a:lnTo>
                  <a:pt x="32" y="89"/>
                </a:lnTo>
                <a:lnTo>
                  <a:pt x="33" y="87"/>
                </a:lnTo>
                <a:lnTo>
                  <a:pt x="49" y="78"/>
                </a:lnTo>
                <a:lnTo>
                  <a:pt x="97" y="50"/>
                </a:lnTo>
                <a:lnTo>
                  <a:pt x="133" y="29"/>
                </a:lnTo>
                <a:lnTo>
                  <a:pt x="136" y="27"/>
                </a:lnTo>
                <a:lnTo>
                  <a:pt x="139" y="27"/>
                </a:lnTo>
                <a:lnTo>
                  <a:pt x="161" y="24"/>
                </a:lnTo>
                <a:lnTo>
                  <a:pt x="236" y="11"/>
                </a:lnTo>
                <a:lnTo>
                  <a:pt x="293" y="1"/>
                </a:lnTo>
                <a:lnTo>
                  <a:pt x="297" y="0"/>
                </a:lnTo>
                <a:lnTo>
                  <a:pt x="297" y="1"/>
                </a:lnTo>
                <a:lnTo>
                  <a:pt x="297" y="7"/>
                </a:lnTo>
                <a:lnTo>
                  <a:pt x="297" y="27"/>
                </a:lnTo>
                <a:lnTo>
                  <a:pt x="297" y="42"/>
                </a:lnTo>
                <a:lnTo>
                  <a:pt x="299" y="42"/>
                </a:lnTo>
                <a:lnTo>
                  <a:pt x="304" y="44"/>
                </a:lnTo>
                <a:lnTo>
                  <a:pt x="325" y="52"/>
                </a:lnTo>
                <a:lnTo>
                  <a:pt x="341" y="56"/>
                </a:lnTo>
                <a:lnTo>
                  <a:pt x="342" y="56"/>
                </a:lnTo>
                <a:lnTo>
                  <a:pt x="341" y="56"/>
                </a:lnTo>
                <a:lnTo>
                  <a:pt x="342" y="56"/>
                </a:lnTo>
                <a:lnTo>
                  <a:pt x="341" y="56"/>
                </a:lnTo>
                <a:lnTo>
                  <a:pt x="342" y="56"/>
                </a:lnTo>
                <a:lnTo>
                  <a:pt x="342" y="75"/>
                </a:lnTo>
                <a:lnTo>
                  <a:pt x="341" y="130"/>
                </a:lnTo>
                <a:lnTo>
                  <a:pt x="341" y="172"/>
                </a:lnTo>
                <a:lnTo>
                  <a:pt x="342" y="173"/>
                </a:lnTo>
                <a:lnTo>
                  <a:pt x="342" y="173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15080" y="3740040"/>
            <a:ext cx="139680" cy="169920"/>
          </a:xfrm>
          <a:custGeom>
            <a:avLst/>
            <a:gdLst/>
            <a:ahLst/>
            <a:rect l="l" t="t" r="r" b="b"/>
            <a:pathLst>
              <a:path w="402" h="514">
                <a:moveTo>
                  <a:pt x="63" y="14"/>
                </a:moveTo>
                <a:lnTo>
                  <a:pt x="62" y="16"/>
                </a:lnTo>
                <a:lnTo>
                  <a:pt x="56" y="20"/>
                </a:lnTo>
                <a:lnTo>
                  <a:pt x="34" y="33"/>
                </a:lnTo>
                <a:lnTo>
                  <a:pt x="18" y="43"/>
                </a:lnTo>
                <a:lnTo>
                  <a:pt x="18" y="43"/>
                </a:lnTo>
                <a:lnTo>
                  <a:pt x="24" y="50"/>
                </a:lnTo>
                <a:lnTo>
                  <a:pt x="42" y="71"/>
                </a:lnTo>
                <a:lnTo>
                  <a:pt x="55" y="85"/>
                </a:lnTo>
                <a:lnTo>
                  <a:pt x="56" y="85"/>
                </a:lnTo>
                <a:lnTo>
                  <a:pt x="55" y="87"/>
                </a:lnTo>
                <a:lnTo>
                  <a:pt x="52" y="92"/>
                </a:lnTo>
                <a:lnTo>
                  <a:pt x="39" y="114"/>
                </a:lnTo>
                <a:lnTo>
                  <a:pt x="29" y="130"/>
                </a:lnTo>
                <a:lnTo>
                  <a:pt x="29" y="130"/>
                </a:lnTo>
                <a:lnTo>
                  <a:pt x="27" y="130"/>
                </a:lnTo>
                <a:lnTo>
                  <a:pt x="23" y="130"/>
                </a:lnTo>
                <a:lnTo>
                  <a:pt x="10" y="130"/>
                </a:lnTo>
                <a:lnTo>
                  <a:pt x="0" y="130"/>
                </a:lnTo>
                <a:lnTo>
                  <a:pt x="0" y="130"/>
                </a:lnTo>
                <a:lnTo>
                  <a:pt x="0" y="132"/>
                </a:lnTo>
                <a:lnTo>
                  <a:pt x="3" y="142"/>
                </a:lnTo>
                <a:lnTo>
                  <a:pt x="13" y="176"/>
                </a:lnTo>
                <a:lnTo>
                  <a:pt x="21" y="203"/>
                </a:lnTo>
                <a:lnTo>
                  <a:pt x="23" y="203"/>
                </a:lnTo>
                <a:lnTo>
                  <a:pt x="33" y="207"/>
                </a:lnTo>
                <a:lnTo>
                  <a:pt x="66" y="216"/>
                </a:lnTo>
                <a:lnTo>
                  <a:pt x="92" y="221"/>
                </a:lnTo>
                <a:lnTo>
                  <a:pt x="94" y="221"/>
                </a:lnTo>
                <a:lnTo>
                  <a:pt x="94" y="229"/>
                </a:lnTo>
                <a:lnTo>
                  <a:pt x="92" y="249"/>
                </a:lnTo>
                <a:lnTo>
                  <a:pt x="92" y="265"/>
                </a:lnTo>
                <a:lnTo>
                  <a:pt x="94" y="265"/>
                </a:lnTo>
                <a:lnTo>
                  <a:pt x="98" y="268"/>
                </a:lnTo>
                <a:lnTo>
                  <a:pt x="111" y="275"/>
                </a:lnTo>
                <a:lnTo>
                  <a:pt x="121" y="281"/>
                </a:lnTo>
                <a:lnTo>
                  <a:pt x="123" y="281"/>
                </a:lnTo>
                <a:lnTo>
                  <a:pt x="123" y="285"/>
                </a:lnTo>
                <a:lnTo>
                  <a:pt x="127" y="311"/>
                </a:lnTo>
                <a:lnTo>
                  <a:pt x="140" y="401"/>
                </a:lnTo>
                <a:lnTo>
                  <a:pt x="150" y="469"/>
                </a:lnTo>
                <a:lnTo>
                  <a:pt x="152" y="472"/>
                </a:lnTo>
                <a:lnTo>
                  <a:pt x="156" y="479"/>
                </a:lnTo>
                <a:lnTo>
                  <a:pt x="171" y="500"/>
                </a:lnTo>
                <a:lnTo>
                  <a:pt x="181" y="514"/>
                </a:lnTo>
                <a:lnTo>
                  <a:pt x="182" y="514"/>
                </a:lnTo>
                <a:lnTo>
                  <a:pt x="185" y="514"/>
                </a:lnTo>
                <a:lnTo>
                  <a:pt x="216" y="504"/>
                </a:lnTo>
                <a:lnTo>
                  <a:pt x="318" y="469"/>
                </a:lnTo>
                <a:lnTo>
                  <a:pt x="398" y="443"/>
                </a:lnTo>
                <a:lnTo>
                  <a:pt x="402" y="442"/>
                </a:lnTo>
                <a:lnTo>
                  <a:pt x="395" y="431"/>
                </a:lnTo>
                <a:lnTo>
                  <a:pt x="373" y="397"/>
                </a:lnTo>
                <a:lnTo>
                  <a:pt x="358" y="371"/>
                </a:lnTo>
                <a:lnTo>
                  <a:pt x="358" y="369"/>
                </a:lnTo>
                <a:lnTo>
                  <a:pt x="346" y="365"/>
                </a:lnTo>
                <a:lnTo>
                  <a:pt x="311" y="350"/>
                </a:lnTo>
                <a:lnTo>
                  <a:pt x="285" y="340"/>
                </a:lnTo>
                <a:lnTo>
                  <a:pt x="285" y="339"/>
                </a:lnTo>
                <a:lnTo>
                  <a:pt x="285" y="326"/>
                </a:lnTo>
                <a:lnTo>
                  <a:pt x="284" y="284"/>
                </a:lnTo>
                <a:lnTo>
                  <a:pt x="284" y="253"/>
                </a:lnTo>
                <a:lnTo>
                  <a:pt x="285" y="250"/>
                </a:lnTo>
                <a:lnTo>
                  <a:pt x="287" y="249"/>
                </a:lnTo>
                <a:lnTo>
                  <a:pt x="302" y="233"/>
                </a:lnTo>
                <a:lnTo>
                  <a:pt x="358" y="176"/>
                </a:lnTo>
                <a:lnTo>
                  <a:pt x="400" y="134"/>
                </a:lnTo>
                <a:lnTo>
                  <a:pt x="402" y="132"/>
                </a:lnTo>
                <a:lnTo>
                  <a:pt x="400" y="133"/>
                </a:lnTo>
                <a:lnTo>
                  <a:pt x="381" y="134"/>
                </a:lnTo>
                <a:lnTo>
                  <a:pt x="317" y="142"/>
                </a:lnTo>
                <a:lnTo>
                  <a:pt x="268" y="146"/>
                </a:lnTo>
                <a:lnTo>
                  <a:pt x="266" y="146"/>
                </a:lnTo>
                <a:lnTo>
                  <a:pt x="263" y="145"/>
                </a:lnTo>
                <a:lnTo>
                  <a:pt x="245" y="124"/>
                </a:lnTo>
                <a:lnTo>
                  <a:pt x="179" y="55"/>
                </a:lnTo>
                <a:lnTo>
                  <a:pt x="130" y="3"/>
                </a:lnTo>
                <a:lnTo>
                  <a:pt x="129" y="0"/>
                </a:lnTo>
                <a:lnTo>
                  <a:pt x="127" y="0"/>
                </a:lnTo>
                <a:lnTo>
                  <a:pt x="129" y="0"/>
                </a:lnTo>
                <a:lnTo>
                  <a:pt x="127" y="0"/>
                </a:lnTo>
                <a:lnTo>
                  <a:pt x="129" y="0"/>
                </a:lnTo>
                <a:lnTo>
                  <a:pt x="117" y="3"/>
                </a:lnTo>
                <a:lnTo>
                  <a:pt x="87" y="10"/>
                </a:lnTo>
                <a:lnTo>
                  <a:pt x="63" y="14"/>
                </a:lnTo>
                <a:lnTo>
                  <a:pt x="63" y="14"/>
                </a:lnTo>
                <a:lnTo>
                  <a:pt x="63" y="14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13720" y="3782880"/>
            <a:ext cx="111240" cy="103320"/>
          </a:xfrm>
          <a:custGeom>
            <a:avLst/>
            <a:gdLst/>
            <a:ahLst/>
            <a:rect l="l" t="t" r="r" b="b"/>
            <a:pathLst>
              <a:path w="324" h="314">
                <a:moveTo>
                  <a:pt x="1" y="121"/>
                </a:moveTo>
                <a:lnTo>
                  <a:pt x="1" y="136"/>
                </a:lnTo>
                <a:lnTo>
                  <a:pt x="0" y="178"/>
                </a:lnTo>
                <a:lnTo>
                  <a:pt x="0" y="208"/>
                </a:lnTo>
                <a:lnTo>
                  <a:pt x="1" y="210"/>
                </a:lnTo>
                <a:lnTo>
                  <a:pt x="13" y="216"/>
                </a:lnTo>
                <a:lnTo>
                  <a:pt x="49" y="230"/>
                </a:lnTo>
                <a:lnTo>
                  <a:pt x="76" y="242"/>
                </a:lnTo>
                <a:lnTo>
                  <a:pt x="79" y="242"/>
                </a:lnTo>
                <a:lnTo>
                  <a:pt x="85" y="253"/>
                </a:lnTo>
                <a:lnTo>
                  <a:pt x="103" y="288"/>
                </a:lnTo>
                <a:lnTo>
                  <a:pt x="116" y="314"/>
                </a:lnTo>
                <a:lnTo>
                  <a:pt x="117" y="314"/>
                </a:lnTo>
                <a:lnTo>
                  <a:pt x="123" y="307"/>
                </a:lnTo>
                <a:lnTo>
                  <a:pt x="145" y="287"/>
                </a:lnTo>
                <a:lnTo>
                  <a:pt x="160" y="269"/>
                </a:lnTo>
                <a:lnTo>
                  <a:pt x="162" y="268"/>
                </a:lnTo>
                <a:lnTo>
                  <a:pt x="171" y="274"/>
                </a:lnTo>
                <a:lnTo>
                  <a:pt x="198" y="288"/>
                </a:lnTo>
                <a:lnTo>
                  <a:pt x="220" y="298"/>
                </a:lnTo>
                <a:lnTo>
                  <a:pt x="221" y="298"/>
                </a:lnTo>
                <a:lnTo>
                  <a:pt x="223" y="298"/>
                </a:lnTo>
                <a:lnTo>
                  <a:pt x="231" y="297"/>
                </a:lnTo>
                <a:lnTo>
                  <a:pt x="266" y="289"/>
                </a:lnTo>
                <a:lnTo>
                  <a:pt x="292" y="285"/>
                </a:lnTo>
                <a:lnTo>
                  <a:pt x="295" y="284"/>
                </a:lnTo>
                <a:lnTo>
                  <a:pt x="295" y="282"/>
                </a:lnTo>
                <a:lnTo>
                  <a:pt x="300" y="266"/>
                </a:lnTo>
                <a:lnTo>
                  <a:pt x="313" y="211"/>
                </a:lnTo>
                <a:lnTo>
                  <a:pt x="323" y="169"/>
                </a:lnTo>
                <a:lnTo>
                  <a:pt x="324" y="166"/>
                </a:lnTo>
                <a:lnTo>
                  <a:pt x="318" y="160"/>
                </a:lnTo>
                <a:lnTo>
                  <a:pt x="305" y="139"/>
                </a:lnTo>
                <a:lnTo>
                  <a:pt x="295" y="123"/>
                </a:lnTo>
                <a:lnTo>
                  <a:pt x="295" y="121"/>
                </a:lnTo>
                <a:lnTo>
                  <a:pt x="298" y="114"/>
                </a:lnTo>
                <a:lnTo>
                  <a:pt x="310" y="88"/>
                </a:lnTo>
                <a:lnTo>
                  <a:pt x="318" y="68"/>
                </a:lnTo>
                <a:lnTo>
                  <a:pt x="320" y="66"/>
                </a:lnTo>
                <a:lnTo>
                  <a:pt x="318" y="66"/>
                </a:lnTo>
                <a:lnTo>
                  <a:pt x="308" y="66"/>
                </a:lnTo>
                <a:lnTo>
                  <a:pt x="278" y="62"/>
                </a:lnTo>
                <a:lnTo>
                  <a:pt x="253" y="61"/>
                </a:lnTo>
                <a:lnTo>
                  <a:pt x="253" y="59"/>
                </a:lnTo>
                <a:lnTo>
                  <a:pt x="237" y="50"/>
                </a:lnTo>
                <a:lnTo>
                  <a:pt x="189" y="23"/>
                </a:lnTo>
                <a:lnTo>
                  <a:pt x="153" y="1"/>
                </a:lnTo>
                <a:lnTo>
                  <a:pt x="152" y="0"/>
                </a:lnTo>
                <a:lnTo>
                  <a:pt x="146" y="1"/>
                </a:lnTo>
                <a:lnTo>
                  <a:pt x="130" y="3"/>
                </a:lnTo>
                <a:lnTo>
                  <a:pt x="117" y="3"/>
                </a:lnTo>
                <a:lnTo>
                  <a:pt x="117" y="3"/>
                </a:lnTo>
                <a:lnTo>
                  <a:pt x="116" y="3"/>
                </a:lnTo>
                <a:lnTo>
                  <a:pt x="117" y="3"/>
                </a:lnTo>
                <a:lnTo>
                  <a:pt x="116" y="3"/>
                </a:lnTo>
                <a:lnTo>
                  <a:pt x="117" y="3"/>
                </a:lnTo>
                <a:lnTo>
                  <a:pt x="114" y="5"/>
                </a:lnTo>
                <a:lnTo>
                  <a:pt x="98" y="21"/>
                </a:lnTo>
                <a:lnTo>
                  <a:pt x="45" y="78"/>
                </a:lnTo>
                <a:lnTo>
                  <a:pt x="3" y="120"/>
                </a:lnTo>
                <a:lnTo>
                  <a:pt x="1" y="121"/>
                </a:lnTo>
                <a:lnTo>
                  <a:pt x="1" y="121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15240" y="3805200"/>
            <a:ext cx="57240" cy="81000"/>
          </a:xfrm>
          <a:custGeom>
            <a:avLst/>
            <a:gdLst/>
            <a:ahLst/>
            <a:rect l="l" t="t" r="r" b="b"/>
            <a:pathLst>
              <a:path w="167" h="248">
                <a:moveTo>
                  <a:pt x="0" y="56"/>
                </a:moveTo>
                <a:lnTo>
                  <a:pt x="5" y="64"/>
                </a:lnTo>
                <a:lnTo>
                  <a:pt x="18" y="85"/>
                </a:lnTo>
                <a:lnTo>
                  <a:pt x="28" y="101"/>
                </a:lnTo>
                <a:lnTo>
                  <a:pt x="29" y="101"/>
                </a:lnTo>
                <a:lnTo>
                  <a:pt x="28" y="104"/>
                </a:lnTo>
                <a:lnTo>
                  <a:pt x="23" y="120"/>
                </a:lnTo>
                <a:lnTo>
                  <a:pt x="10" y="175"/>
                </a:lnTo>
                <a:lnTo>
                  <a:pt x="0" y="217"/>
                </a:lnTo>
                <a:lnTo>
                  <a:pt x="0" y="219"/>
                </a:lnTo>
                <a:lnTo>
                  <a:pt x="6" y="224"/>
                </a:lnTo>
                <a:lnTo>
                  <a:pt x="26" y="237"/>
                </a:lnTo>
                <a:lnTo>
                  <a:pt x="42" y="248"/>
                </a:lnTo>
                <a:lnTo>
                  <a:pt x="44" y="248"/>
                </a:lnTo>
                <a:lnTo>
                  <a:pt x="49" y="246"/>
                </a:lnTo>
                <a:lnTo>
                  <a:pt x="71" y="239"/>
                </a:lnTo>
                <a:lnTo>
                  <a:pt x="87" y="235"/>
                </a:lnTo>
                <a:lnTo>
                  <a:pt x="89" y="233"/>
                </a:lnTo>
                <a:lnTo>
                  <a:pt x="90" y="230"/>
                </a:lnTo>
                <a:lnTo>
                  <a:pt x="100" y="210"/>
                </a:lnTo>
                <a:lnTo>
                  <a:pt x="136" y="140"/>
                </a:lnTo>
                <a:lnTo>
                  <a:pt x="164" y="87"/>
                </a:lnTo>
                <a:lnTo>
                  <a:pt x="167" y="82"/>
                </a:lnTo>
                <a:lnTo>
                  <a:pt x="164" y="81"/>
                </a:lnTo>
                <a:lnTo>
                  <a:pt x="149" y="71"/>
                </a:lnTo>
                <a:lnTo>
                  <a:pt x="99" y="36"/>
                </a:lnTo>
                <a:lnTo>
                  <a:pt x="61" y="10"/>
                </a:lnTo>
                <a:lnTo>
                  <a:pt x="60" y="7"/>
                </a:lnTo>
                <a:lnTo>
                  <a:pt x="58" y="7"/>
                </a:lnTo>
                <a:lnTo>
                  <a:pt x="54" y="7"/>
                </a:lnTo>
                <a:lnTo>
                  <a:pt x="38" y="3"/>
                </a:lnTo>
                <a:lnTo>
                  <a:pt x="25" y="1"/>
                </a:lnTo>
                <a:lnTo>
                  <a:pt x="25" y="0"/>
                </a:lnTo>
                <a:lnTo>
                  <a:pt x="23" y="0"/>
                </a:lnTo>
                <a:lnTo>
                  <a:pt x="25" y="0"/>
                </a:lnTo>
                <a:lnTo>
                  <a:pt x="23" y="0"/>
                </a:lnTo>
                <a:lnTo>
                  <a:pt x="25" y="0"/>
                </a:lnTo>
                <a:lnTo>
                  <a:pt x="23" y="1"/>
                </a:lnTo>
                <a:lnTo>
                  <a:pt x="20" y="10"/>
                </a:lnTo>
                <a:lnTo>
                  <a:pt x="9" y="36"/>
                </a:lnTo>
                <a:lnTo>
                  <a:pt x="0" y="56"/>
                </a:lnTo>
                <a:lnTo>
                  <a:pt x="0" y="56"/>
                </a:lnTo>
                <a:lnTo>
                  <a:pt x="0" y="56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94680" y="3808440"/>
            <a:ext cx="1028520" cy="915840"/>
          </a:xfrm>
          <a:custGeom>
            <a:avLst/>
            <a:gdLst/>
            <a:ahLst/>
            <a:rect l="l" t="t" r="r" b="b"/>
            <a:pathLst>
              <a:path w="2983" h="2805">
                <a:moveTo>
                  <a:pt x="1716" y="100"/>
                </a:moveTo>
                <a:lnTo>
                  <a:pt x="1727" y="118"/>
                </a:lnTo>
                <a:lnTo>
                  <a:pt x="1761" y="172"/>
                </a:lnTo>
                <a:lnTo>
                  <a:pt x="1787" y="214"/>
                </a:lnTo>
                <a:lnTo>
                  <a:pt x="1789" y="215"/>
                </a:lnTo>
                <a:lnTo>
                  <a:pt x="1798" y="221"/>
                </a:lnTo>
                <a:lnTo>
                  <a:pt x="1825" y="236"/>
                </a:lnTo>
                <a:lnTo>
                  <a:pt x="1847" y="246"/>
                </a:lnTo>
                <a:lnTo>
                  <a:pt x="1848" y="246"/>
                </a:lnTo>
                <a:lnTo>
                  <a:pt x="1844" y="252"/>
                </a:lnTo>
                <a:lnTo>
                  <a:pt x="1822" y="281"/>
                </a:lnTo>
                <a:lnTo>
                  <a:pt x="1747" y="385"/>
                </a:lnTo>
                <a:lnTo>
                  <a:pt x="1689" y="463"/>
                </a:lnTo>
                <a:lnTo>
                  <a:pt x="1686" y="468"/>
                </a:lnTo>
                <a:lnTo>
                  <a:pt x="1687" y="468"/>
                </a:lnTo>
                <a:lnTo>
                  <a:pt x="1700" y="465"/>
                </a:lnTo>
                <a:lnTo>
                  <a:pt x="1745" y="455"/>
                </a:lnTo>
                <a:lnTo>
                  <a:pt x="1779" y="446"/>
                </a:lnTo>
                <a:lnTo>
                  <a:pt x="1782" y="444"/>
                </a:lnTo>
                <a:lnTo>
                  <a:pt x="1792" y="437"/>
                </a:lnTo>
                <a:lnTo>
                  <a:pt x="1822" y="413"/>
                </a:lnTo>
                <a:lnTo>
                  <a:pt x="1847" y="394"/>
                </a:lnTo>
                <a:lnTo>
                  <a:pt x="1848" y="392"/>
                </a:lnTo>
                <a:lnTo>
                  <a:pt x="1857" y="394"/>
                </a:lnTo>
                <a:lnTo>
                  <a:pt x="1884" y="394"/>
                </a:lnTo>
                <a:lnTo>
                  <a:pt x="1906" y="394"/>
                </a:lnTo>
                <a:lnTo>
                  <a:pt x="1908" y="394"/>
                </a:lnTo>
                <a:lnTo>
                  <a:pt x="1905" y="404"/>
                </a:lnTo>
                <a:lnTo>
                  <a:pt x="1897" y="431"/>
                </a:lnTo>
                <a:lnTo>
                  <a:pt x="1893" y="453"/>
                </a:lnTo>
                <a:lnTo>
                  <a:pt x="1893" y="453"/>
                </a:lnTo>
                <a:lnTo>
                  <a:pt x="1890" y="455"/>
                </a:lnTo>
                <a:lnTo>
                  <a:pt x="1880" y="456"/>
                </a:lnTo>
                <a:lnTo>
                  <a:pt x="1845" y="463"/>
                </a:lnTo>
                <a:lnTo>
                  <a:pt x="1819" y="468"/>
                </a:lnTo>
                <a:lnTo>
                  <a:pt x="1818" y="468"/>
                </a:lnTo>
                <a:lnTo>
                  <a:pt x="1831" y="473"/>
                </a:lnTo>
                <a:lnTo>
                  <a:pt x="1873" y="486"/>
                </a:lnTo>
                <a:lnTo>
                  <a:pt x="1905" y="497"/>
                </a:lnTo>
                <a:lnTo>
                  <a:pt x="1908" y="497"/>
                </a:lnTo>
                <a:lnTo>
                  <a:pt x="1918" y="486"/>
                </a:lnTo>
                <a:lnTo>
                  <a:pt x="1953" y="452"/>
                </a:lnTo>
                <a:lnTo>
                  <a:pt x="1979" y="426"/>
                </a:lnTo>
                <a:lnTo>
                  <a:pt x="1980" y="423"/>
                </a:lnTo>
                <a:lnTo>
                  <a:pt x="1983" y="423"/>
                </a:lnTo>
                <a:lnTo>
                  <a:pt x="2009" y="421"/>
                </a:lnTo>
                <a:lnTo>
                  <a:pt x="2095" y="414"/>
                </a:lnTo>
                <a:lnTo>
                  <a:pt x="2161" y="410"/>
                </a:lnTo>
                <a:lnTo>
                  <a:pt x="2166" y="408"/>
                </a:lnTo>
                <a:lnTo>
                  <a:pt x="2166" y="410"/>
                </a:lnTo>
                <a:lnTo>
                  <a:pt x="2167" y="414"/>
                </a:lnTo>
                <a:lnTo>
                  <a:pt x="2174" y="431"/>
                </a:lnTo>
                <a:lnTo>
                  <a:pt x="2179" y="444"/>
                </a:lnTo>
                <a:lnTo>
                  <a:pt x="2180" y="444"/>
                </a:lnTo>
                <a:lnTo>
                  <a:pt x="2184" y="444"/>
                </a:lnTo>
                <a:lnTo>
                  <a:pt x="2197" y="440"/>
                </a:lnTo>
                <a:lnTo>
                  <a:pt x="2208" y="439"/>
                </a:lnTo>
                <a:lnTo>
                  <a:pt x="2209" y="437"/>
                </a:lnTo>
                <a:lnTo>
                  <a:pt x="2209" y="447"/>
                </a:lnTo>
                <a:lnTo>
                  <a:pt x="2208" y="475"/>
                </a:lnTo>
                <a:lnTo>
                  <a:pt x="2208" y="497"/>
                </a:lnTo>
                <a:lnTo>
                  <a:pt x="2209" y="497"/>
                </a:lnTo>
                <a:lnTo>
                  <a:pt x="2215" y="499"/>
                </a:lnTo>
                <a:lnTo>
                  <a:pt x="2235" y="507"/>
                </a:lnTo>
                <a:lnTo>
                  <a:pt x="2250" y="513"/>
                </a:lnTo>
                <a:lnTo>
                  <a:pt x="2251" y="513"/>
                </a:lnTo>
                <a:lnTo>
                  <a:pt x="2250" y="514"/>
                </a:lnTo>
                <a:lnTo>
                  <a:pt x="2248" y="517"/>
                </a:lnTo>
                <a:lnTo>
                  <a:pt x="2242" y="528"/>
                </a:lnTo>
                <a:lnTo>
                  <a:pt x="2238" y="537"/>
                </a:lnTo>
                <a:lnTo>
                  <a:pt x="2238" y="537"/>
                </a:lnTo>
                <a:lnTo>
                  <a:pt x="2239" y="537"/>
                </a:lnTo>
                <a:lnTo>
                  <a:pt x="2258" y="536"/>
                </a:lnTo>
                <a:lnTo>
                  <a:pt x="2322" y="530"/>
                </a:lnTo>
                <a:lnTo>
                  <a:pt x="2371" y="526"/>
                </a:lnTo>
                <a:lnTo>
                  <a:pt x="2374" y="524"/>
                </a:lnTo>
                <a:lnTo>
                  <a:pt x="2376" y="526"/>
                </a:lnTo>
                <a:lnTo>
                  <a:pt x="2392" y="533"/>
                </a:lnTo>
                <a:lnTo>
                  <a:pt x="2444" y="555"/>
                </a:lnTo>
                <a:lnTo>
                  <a:pt x="2483" y="572"/>
                </a:lnTo>
                <a:lnTo>
                  <a:pt x="2486" y="572"/>
                </a:lnTo>
                <a:lnTo>
                  <a:pt x="2494" y="563"/>
                </a:lnTo>
                <a:lnTo>
                  <a:pt x="2523" y="534"/>
                </a:lnTo>
                <a:lnTo>
                  <a:pt x="2545" y="513"/>
                </a:lnTo>
                <a:lnTo>
                  <a:pt x="2547" y="511"/>
                </a:lnTo>
                <a:lnTo>
                  <a:pt x="2555" y="514"/>
                </a:lnTo>
                <a:lnTo>
                  <a:pt x="2581" y="521"/>
                </a:lnTo>
                <a:lnTo>
                  <a:pt x="2602" y="527"/>
                </a:lnTo>
                <a:lnTo>
                  <a:pt x="2603" y="527"/>
                </a:lnTo>
                <a:lnTo>
                  <a:pt x="2606" y="531"/>
                </a:lnTo>
                <a:lnTo>
                  <a:pt x="2632" y="553"/>
                </a:lnTo>
                <a:lnTo>
                  <a:pt x="2719" y="626"/>
                </a:lnTo>
                <a:lnTo>
                  <a:pt x="2786" y="682"/>
                </a:lnTo>
                <a:lnTo>
                  <a:pt x="2790" y="685"/>
                </a:lnTo>
                <a:lnTo>
                  <a:pt x="2797" y="686"/>
                </a:lnTo>
                <a:lnTo>
                  <a:pt x="2822" y="688"/>
                </a:lnTo>
                <a:lnTo>
                  <a:pt x="2841" y="688"/>
                </a:lnTo>
                <a:lnTo>
                  <a:pt x="2842" y="688"/>
                </a:lnTo>
                <a:lnTo>
                  <a:pt x="2849" y="683"/>
                </a:lnTo>
                <a:lnTo>
                  <a:pt x="2873" y="670"/>
                </a:lnTo>
                <a:lnTo>
                  <a:pt x="2891" y="660"/>
                </a:lnTo>
                <a:lnTo>
                  <a:pt x="2893" y="659"/>
                </a:lnTo>
                <a:lnTo>
                  <a:pt x="2900" y="665"/>
                </a:lnTo>
                <a:lnTo>
                  <a:pt x="2926" y="678"/>
                </a:lnTo>
                <a:lnTo>
                  <a:pt x="2945" y="688"/>
                </a:lnTo>
                <a:lnTo>
                  <a:pt x="2946" y="688"/>
                </a:lnTo>
                <a:lnTo>
                  <a:pt x="2946" y="692"/>
                </a:lnTo>
                <a:lnTo>
                  <a:pt x="2951" y="720"/>
                </a:lnTo>
                <a:lnTo>
                  <a:pt x="2968" y="812"/>
                </a:lnTo>
                <a:lnTo>
                  <a:pt x="2981" y="883"/>
                </a:lnTo>
                <a:lnTo>
                  <a:pt x="2983" y="886"/>
                </a:lnTo>
                <a:lnTo>
                  <a:pt x="2981" y="889"/>
                </a:lnTo>
                <a:lnTo>
                  <a:pt x="2977" y="902"/>
                </a:lnTo>
                <a:lnTo>
                  <a:pt x="2962" y="947"/>
                </a:lnTo>
                <a:lnTo>
                  <a:pt x="2952" y="982"/>
                </a:lnTo>
                <a:lnTo>
                  <a:pt x="2952" y="983"/>
                </a:lnTo>
                <a:lnTo>
                  <a:pt x="2951" y="985"/>
                </a:lnTo>
                <a:lnTo>
                  <a:pt x="2941" y="989"/>
                </a:lnTo>
                <a:lnTo>
                  <a:pt x="2910" y="1004"/>
                </a:lnTo>
                <a:lnTo>
                  <a:pt x="2886" y="1014"/>
                </a:lnTo>
                <a:lnTo>
                  <a:pt x="2886" y="1014"/>
                </a:lnTo>
                <a:lnTo>
                  <a:pt x="2881" y="1018"/>
                </a:lnTo>
                <a:lnTo>
                  <a:pt x="2858" y="1047"/>
                </a:lnTo>
                <a:lnTo>
                  <a:pt x="2780" y="1147"/>
                </a:lnTo>
                <a:lnTo>
                  <a:pt x="2720" y="1224"/>
                </a:lnTo>
                <a:lnTo>
                  <a:pt x="2718" y="1227"/>
                </a:lnTo>
                <a:lnTo>
                  <a:pt x="2716" y="1228"/>
                </a:lnTo>
                <a:lnTo>
                  <a:pt x="2709" y="1234"/>
                </a:lnTo>
                <a:lnTo>
                  <a:pt x="2683" y="1251"/>
                </a:lnTo>
                <a:lnTo>
                  <a:pt x="2664" y="1266"/>
                </a:lnTo>
                <a:lnTo>
                  <a:pt x="2664" y="1266"/>
                </a:lnTo>
                <a:lnTo>
                  <a:pt x="2664" y="1269"/>
                </a:lnTo>
                <a:lnTo>
                  <a:pt x="2665" y="1288"/>
                </a:lnTo>
                <a:lnTo>
                  <a:pt x="2670" y="1351"/>
                </a:lnTo>
                <a:lnTo>
                  <a:pt x="2673" y="1399"/>
                </a:lnTo>
                <a:lnTo>
                  <a:pt x="2674" y="1401"/>
                </a:lnTo>
                <a:lnTo>
                  <a:pt x="2673" y="1404"/>
                </a:lnTo>
                <a:lnTo>
                  <a:pt x="2667" y="1420"/>
                </a:lnTo>
                <a:lnTo>
                  <a:pt x="2649" y="1472"/>
                </a:lnTo>
                <a:lnTo>
                  <a:pt x="2636" y="1512"/>
                </a:lnTo>
                <a:lnTo>
                  <a:pt x="2636" y="1514"/>
                </a:lnTo>
                <a:lnTo>
                  <a:pt x="2636" y="1533"/>
                </a:lnTo>
                <a:lnTo>
                  <a:pt x="2635" y="1589"/>
                </a:lnTo>
                <a:lnTo>
                  <a:pt x="2635" y="1631"/>
                </a:lnTo>
                <a:lnTo>
                  <a:pt x="2636" y="1633"/>
                </a:lnTo>
                <a:lnTo>
                  <a:pt x="2632" y="1640"/>
                </a:lnTo>
                <a:lnTo>
                  <a:pt x="2606" y="1688"/>
                </a:lnTo>
                <a:lnTo>
                  <a:pt x="2516" y="1848"/>
                </a:lnTo>
                <a:lnTo>
                  <a:pt x="2448" y="1972"/>
                </a:lnTo>
                <a:lnTo>
                  <a:pt x="2445" y="1977"/>
                </a:lnTo>
                <a:lnTo>
                  <a:pt x="2444" y="1979"/>
                </a:lnTo>
                <a:lnTo>
                  <a:pt x="2438" y="1983"/>
                </a:lnTo>
                <a:lnTo>
                  <a:pt x="2418" y="1999"/>
                </a:lnTo>
                <a:lnTo>
                  <a:pt x="2402" y="2011"/>
                </a:lnTo>
                <a:lnTo>
                  <a:pt x="2402" y="2011"/>
                </a:lnTo>
                <a:lnTo>
                  <a:pt x="2386" y="2012"/>
                </a:lnTo>
                <a:lnTo>
                  <a:pt x="2339" y="2014"/>
                </a:lnTo>
                <a:lnTo>
                  <a:pt x="2305" y="2014"/>
                </a:lnTo>
                <a:lnTo>
                  <a:pt x="2303" y="2014"/>
                </a:lnTo>
                <a:lnTo>
                  <a:pt x="2300" y="2017"/>
                </a:lnTo>
                <a:lnTo>
                  <a:pt x="2283" y="2027"/>
                </a:lnTo>
                <a:lnTo>
                  <a:pt x="2225" y="2066"/>
                </a:lnTo>
                <a:lnTo>
                  <a:pt x="2181" y="2095"/>
                </a:lnTo>
                <a:lnTo>
                  <a:pt x="2180" y="2096"/>
                </a:lnTo>
                <a:lnTo>
                  <a:pt x="2179" y="2096"/>
                </a:lnTo>
                <a:lnTo>
                  <a:pt x="2170" y="2096"/>
                </a:lnTo>
                <a:lnTo>
                  <a:pt x="2142" y="2096"/>
                </a:lnTo>
                <a:lnTo>
                  <a:pt x="2121" y="2096"/>
                </a:lnTo>
                <a:lnTo>
                  <a:pt x="2121" y="2096"/>
                </a:lnTo>
                <a:lnTo>
                  <a:pt x="2116" y="2099"/>
                </a:lnTo>
                <a:lnTo>
                  <a:pt x="2092" y="2118"/>
                </a:lnTo>
                <a:lnTo>
                  <a:pt x="2005" y="2179"/>
                </a:lnTo>
                <a:lnTo>
                  <a:pt x="1938" y="2227"/>
                </a:lnTo>
                <a:lnTo>
                  <a:pt x="1935" y="2228"/>
                </a:lnTo>
                <a:lnTo>
                  <a:pt x="1934" y="2232"/>
                </a:lnTo>
                <a:lnTo>
                  <a:pt x="1932" y="2260"/>
                </a:lnTo>
                <a:lnTo>
                  <a:pt x="1925" y="2353"/>
                </a:lnTo>
                <a:lnTo>
                  <a:pt x="1921" y="2424"/>
                </a:lnTo>
                <a:lnTo>
                  <a:pt x="1921" y="2427"/>
                </a:lnTo>
                <a:lnTo>
                  <a:pt x="1916" y="2432"/>
                </a:lnTo>
                <a:lnTo>
                  <a:pt x="1892" y="2470"/>
                </a:lnTo>
                <a:lnTo>
                  <a:pt x="1809" y="2596"/>
                </a:lnTo>
                <a:lnTo>
                  <a:pt x="1745" y="2693"/>
                </a:lnTo>
                <a:lnTo>
                  <a:pt x="1742" y="2698"/>
                </a:lnTo>
                <a:lnTo>
                  <a:pt x="1735" y="2700"/>
                </a:lnTo>
                <a:lnTo>
                  <a:pt x="1716" y="2705"/>
                </a:lnTo>
                <a:lnTo>
                  <a:pt x="1702" y="2708"/>
                </a:lnTo>
                <a:lnTo>
                  <a:pt x="1702" y="2708"/>
                </a:lnTo>
                <a:lnTo>
                  <a:pt x="1702" y="2705"/>
                </a:lnTo>
                <a:lnTo>
                  <a:pt x="1708" y="2683"/>
                </a:lnTo>
                <a:lnTo>
                  <a:pt x="1728" y="2608"/>
                </a:lnTo>
                <a:lnTo>
                  <a:pt x="1742" y="2550"/>
                </a:lnTo>
                <a:lnTo>
                  <a:pt x="1744" y="2545"/>
                </a:lnTo>
                <a:lnTo>
                  <a:pt x="1742" y="2547"/>
                </a:lnTo>
                <a:lnTo>
                  <a:pt x="1740" y="2548"/>
                </a:lnTo>
                <a:lnTo>
                  <a:pt x="1727" y="2556"/>
                </a:lnTo>
                <a:lnTo>
                  <a:pt x="1716" y="2560"/>
                </a:lnTo>
                <a:lnTo>
                  <a:pt x="1716" y="2560"/>
                </a:lnTo>
                <a:lnTo>
                  <a:pt x="1713" y="2566"/>
                </a:lnTo>
                <a:lnTo>
                  <a:pt x="1702" y="2599"/>
                </a:lnTo>
                <a:lnTo>
                  <a:pt x="1663" y="2714"/>
                </a:lnTo>
                <a:lnTo>
                  <a:pt x="1632" y="2800"/>
                </a:lnTo>
                <a:lnTo>
                  <a:pt x="1631" y="2805"/>
                </a:lnTo>
                <a:lnTo>
                  <a:pt x="1618" y="2795"/>
                </a:lnTo>
                <a:lnTo>
                  <a:pt x="1582" y="2763"/>
                </a:lnTo>
                <a:lnTo>
                  <a:pt x="1554" y="2737"/>
                </a:lnTo>
                <a:lnTo>
                  <a:pt x="1553" y="2735"/>
                </a:lnTo>
                <a:lnTo>
                  <a:pt x="1553" y="2729"/>
                </a:lnTo>
                <a:lnTo>
                  <a:pt x="1551" y="2709"/>
                </a:lnTo>
                <a:lnTo>
                  <a:pt x="1551" y="2695"/>
                </a:lnTo>
                <a:lnTo>
                  <a:pt x="1553" y="2693"/>
                </a:lnTo>
                <a:lnTo>
                  <a:pt x="1538" y="2685"/>
                </a:lnTo>
                <a:lnTo>
                  <a:pt x="1498" y="2656"/>
                </a:lnTo>
                <a:lnTo>
                  <a:pt x="1467" y="2634"/>
                </a:lnTo>
                <a:lnTo>
                  <a:pt x="1466" y="2632"/>
                </a:lnTo>
                <a:lnTo>
                  <a:pt x="1464" y="2632"/>
                </a:lnTo>
                <a:lnTo>
                  <a:pt x="1457" y="2632"/>
                </a:lnTo>
                <a:lnTo>
                  <a:pt x="1432" y="2632"/>
                </a:lnTo>
                <a:lnTo>
                  <a:pt x="1414" y="2632"/>
                </a:lnTo>
                <a:lnTo>
                  <a:pt x="1414" y="2632"/>
                </a:lnTo>
                <a:lnTo>
                  <a:pt x="1411" y="2624"/>
                </a:lnTo>
                <a:lnTo>
                  <a:pt x="1403" y="2598"/>
                </a:lnTo>
                <a:lnTo>
                  <a:pt x="1399" y="2576"/>
                </a:lnTo>
                <a:lnTo>
                  <a:pt x="1399" y="2574"/>
                </a:lnTo>
                <a:lnTo>
                  <a:pt x="1389" y="2570"/>
                </a:lnTo>
                <a:lnTo>
                  <a:pt x="1361" y="2557"/>
                </a:lnTo>
                <a:lnTo>
                  <a:pt x="1340" y="2547"/>
                </a:lnTo>
                <a:lnTo>
                  <a:pt x="1340" y="2545"/>
                </a:lnTo>
                <a:lnTo>
                  <a:pt x="1344" y="2543"/>
                </a:lnTo>
                <a:lnTo>
                  <a:pt x="1377" y="2518"/>
                </a:lnTo>
                <a:lnTo>
                  <a:pt x="1492" y="2435"/>
                </a:lnTo>
                <a:lnTo>
                  <a:pt x="1579" y="2372"/>
                </a:lnTo>
                <a:lnTo>
                  <a:pt x="1585" y="2367"/>
                </a:lnTo>
                <a:lnTo>
                  <a:pt x="1582" y="2351"/>
                </a:lnTo>
                <a:lnTo>
                  <a:pt x="1573" y="2301"/>
                </a:lnTo>
                <a:lnTo>
                  <a:pt x="1567" y="2261"/>
                </a:lnTo>
                <a:lnTo>
                  <a:pt x="1567" y="2259"/>
                </a:lnTo>
                <a:lnTo>
                  <a:pt x="1566" y="2259"/>
                </a:lnTo>
                <a:lnTo>
                  <a:pt x="1564" y="2259"/>
                </a:lnTo>
                <a:lnTo>
                  <a:pt x="1557" y="2259"/>
                </a:lnTo>
                <a:lnTo>
                  <a:pt x="1553" y="2259"/>
                </a:lnTo>
                <a:lnTo>
                  <a:pt x="1553" y="2259"/>
                </a:lnTo>
                <a:lnTo>
                  <a:pt x="1553" y="2246"/>
                </a:lnTo>
                <a:lnTo>
                  <a:pt x="1551" y="2203"/>
                </a:lnTo>
                <a:lnTo>
                  <a:pt x="1551" y="2172"/>
                </a:lnTo>
                <a:lnTo>
                  <a:pt x="1553" y="2169"/>
                </a:lnTo>
                <a:lnTo>
                  <a:pt x="1543" y="2164"/>
                </a:lnTo>
                <a:lnTo>
                  <a:pt x="1516" y="2151"/>
                </a:lnTo>
                <a:lnTo>
                  <a:pt x="1495" y="2141"/>
                </a:lnTo>
                <a:lnTo>
                  <a:pt x="1495" y="2140"/>
                </a:lnTo>
                <a:lnTo>
                  <a:pt x="1495" y="2130"/>
                </a:lnTo>
                <a:lnTo>
                  <a:pt x="1493" y="2095"/>
                </a:lnTo>
                <a:lnTo>
                  <a:pt x="1493" y="2069"/>
                </a:lnTo>
                <a:lnTo>
                  <a:pt x="1495" y="2067"/>
                </a:lnTo>
                <a:lnTo>
                  <a:pt x="1473" y="2059"/>
                </a:lnTo>
                <a:lnTo>
                  <a:pt x="1409" y="2031"/>
                </a:lnTo>
                <a:lnTo>
                  <a:pt x="1361" y="2009"/>
                </a:lnTo>
                <a:lnTo>
                  <a:pt x="1360" y="2008"/>
                </a:lnTo>
                <a:lnTo>
                  <a:pt x="1353" y="2011"/>
                </a:lnTo>
                <a:lnTo>
                  <a:pt x="1332" y="2018"/>
                </a:lnTo>
                <a:lnTo>
                  <a:pt x="1317" y="2022"/>
                </a:lnTo>
                <a:lnTo>
                  <a:pt x="1317" y="2022"/>
                </a:lnTo>
                <a:lnTo>
                  <a:pt x="1309" y="2018"/>
                </a:lnTo>
                <a:lnTo>
                  <a:pt x="1289" y="2001"/>
                </a:lnTo>
                <a:lnTo>
                  <a:pt x="1273" y="1988"/>
                </a:lnTo>
                <a:lnTo>
                  <a:pt x="1273" y="1986"/>
                </a:lnTo>
                <a:lnTo>
                  <a:pt x="1273" y="1960"/>
                </a:lnTo>
                <a:lnTo>
                  <a:pt x="1272" y="1882"/>
                </a:lnTo>
                <a:lnTo>
                  <a:pt x="1272" y="1821"/>
                </a:lnTo>
                <a:lnTo>
                  <a:pt x="1273" y="1817"/>
                </a:lnTo>
                <a:lnTo>
                  <a:pt x="1277" y="1811"/>
                </a:lnTo>
                <a:lnTo>
                  <a:pt x="1290" y="1789"/>
                </a:lnTo>
                <a:lnTo>
                  <a:pt x="1301" y="1773"/>
                </a:lnTo>
                <a:lnTo>
                  <a:pt x="1302" y="1772"/>
                </a:lnTo>
                <a:lnTo>
                  <a:pt x="1301" y="1769"/>
                </a:lnTo>
                <a:lnTo>
                  <a:pt x="1290" y="1747"/>
                </a:lnTo>
                <a:lnTo>
                  <a:pt x="1256" y="1672"/>
                </a:lnTo>
                <a:lnTo>
                  <a:pt x="1230" y="1614"/>
                </a:lnTo>
                <a:lnTo>
                  <a:pt x="1230" y="1609"/>
                </a:lnTo>
                <a:lnTo>
                  <a:pt x="1227" y="1609"/>
                </a:lnTo>
                <a:lnTo>
                  <a:pt x="1211" y="1608"/>
                </a:lnTo>
                <a:lnTo>
                  <a:pt x="1156" y="1601"/>
                </a:lnTo>
                <a:lnTo>
                  <a:pt x="1114" y="1596"/>
                </a:lnTo>
                <a:lnTo>
                  <a:pt x="1112" y="1595"/>
                </a:lnTo>
                <a:lnTo>
                  <a:pt x="1106" y="1585"/>
                </a:lnTo>
                <a:lnTo>
                  <a:pt x="1093" y="1550"/>
                </a:lnTo>
                <a:lnTo>
                  <a:pt x="1083" y="1524"/>
                </a:lnTo>
                <a:lnTo>
                  <a:pt x="1083" y="1521"/>
                </a:lnTo>
                <a:lnTo>
                  <a:pt x="1077" y="1520"/>
                </a:lnTo>
                <a:lnTo>
                  <a:pt x="1064" y="1514"/>
                </a:lnTo>
                <a:lnTo>
                  <a:pt x="1054" y="1509"/>
                </a:lnTo>
                <a:lnTo>
                  <a:pt x="1054" y="1508"/>
                </a:lnTo>
                <a:lnTo>
                  <a:pt x="1053" y="1505"/>
                </a:lnTo>
                <a:lnTo>
                  <a:pt x="1051" y="1493"/>
                </a:lnTo>
                <a:lnTo>
                  <a:pt x="1051" y="1485"/>
                </a:lnTo>
                <a:lnTo>
                  <a:pt x="1051" y="1483"/>
                </a:lnTo>
                <a:lnTo>
                  <a:pt x="1056" y="1479"/>
                </a:lnTo>
                <a:lnTo>
                  <a:pt x="1072" y="1462"/>
                </a:lnTo>
                <a:lnTo>
                  <a:pt x="1085" y="1449"/>
                </a:lnTo>
                <a:lnTo>
                  <a:pt x="1086" y="1447"/>
                </a:lnTo>
                <a:lnTo>
                  <a:pt x="1080" y="1446"/>
                </a:lnTo>
                <a:lnTo>
                  <a:pt x="1050" y="1427"/>
                </a:lnTo>
                <a:lnTo>
                  <a:pt x="941" y="1366"/>
                </a:lnTo>
                <a:lnTo>
                  <a:pt x="859" y="1318"/>
                </a:lnTo>
                <a:lnTo>
                  <a:pt x="854" y="1315"/>
                </a:lnTo>
                <a:lnTo>
                  <a:pt x="851" y="1315"/>
                </a:lnTo>
                <a:lnTo>
                  <a:pt x="838" y="1315"/>
                </a:lnTo>
                <a:lnTo>
                  <a:pt x="793" y="1315"/>
                </a:lnTo>
                <a:lnTo>
                  <a:pt x="759" y="1315"/>
                </a:lnTo>
                <a:lnTo>
                  <a:pt x="757" y="1315"/>
                </a:lnTo>
                <a:lnTo>
                  <a:pt x="756" y="1314"/>
                </a:lnTo>
                <a:lnTo>
                  <a:pt x="746" y="1305"/>
                </a:lnTo>
                <a:lnTo>
                  <a:pt x="711" y="1270"/>
                </a:lnTo>
                <a:lnTo>
                  <a:pt x="685" y="1244"/>
                </a:lnTo>
                <a:lnTo>
                  <a:pt x="685" y="1241"/>
                </a:lnTo>
                <a:lnTo>
                  <a:pt x="691" y="1237"/>
                </a:lnTo>
                <a:lnTo>
                  <a:pt x="711" y="1224"/>
                </a:lnTo>
                <a:lnTo>
                  <a:pt x="727" y="1214"/>
                </a:lnTo>
                <a:lnTo>
                  <a:pt x="728" y="1212"/>
                </a:lnTo>
                <a:lnTo>
                  <a:pt x="728" y="1199"/>
                </a:lnTo>
                <a:lnTo>
                  <a:pt x="727" y="1157"/>
                </a:lnTo>
                <a:lnTo>
                  <a:pt x="727" y="1125"/>
                </a:lnTo>
                <a:lnTo>
                  <a:pt x="728" y="1123"/>
                </a:lnTo>
                <a:lnTo>
                  <a:pt x="727" y="1123"/>
                </a:lnTo>
                <a:lnTo>
                  <a:pt x="721" y="1123"/>
                </a:lnTo>
                <a:lnTo>
                  <a:pt x="701" y="1123"/>
                </a:lnTo>
                <a:lnTo>
                  <a:pt x="685" y="1123"/>
                </a:lnTo>
                <a:lnTo>
                  <a:pt x="685" y="1123"/>
                </a:lnTo>
                <a:lnTo>
                  <a:pt x="680" y="1124"/>
                </a:lnTo>
                <a:lnTo>
                  <a:pt x="656" y="1133"/>
                </a:lnTo>
                <a:lnTo>
                  <a:pt x="573" y="1159"/>
                </a:lnTo>
                <a:lnTo>
                  <a:pt x="511" y="1180"/>
                </a:lnTo>
                <a:lnTo>
                  <a:pt x="508" y="1180"/>
                </a:lnTo>
                <a:lnTo>
                  <a:pt x="505" y="1179"/>
                </a:lnTo>
                <a:lnTo>
                  <a:pt x="498" y="1172"/>
                </a:lnTo>
                <a:lnTo>
                  <a:pt x="492" y="1167"/>
                </a:lnTo>
                <a:lnTo>
                  <a:pt x="492" y="1166"/>
                </a:lnTo>
                <a:lnTo>
                  <a:pt x="482" y="1169"/>
                </a:lnTo>
                <a:lnTo>
                  <a:pt x="456" y="1176"/>
                </a:lnTo>
                <a:lnTo>
                  <a:pt x="434" y="1180"/>
                </a:lnTo>
                <a:lnTo>
                  <a:pt x="434" y="1180"/>
                </a:lnTo>
                <a:lnTo>
                  <a:pt x="431" y="1191"/>
                </a:lnTo>
                <a:lnTo>
                  <a:pt x="424" y="1220"/>
                </a:lnTo>
                <a:lnTo>
                  <a:pt x="418" y="1241"/>
                </a:lnTo>
                <a:lnTo>
                  <a:pt x="418" y="1241"/>
                </a:lnTo>
                <a:lnTo>
                  <a:pt x="417" y="1241"/>
                </a:lnTo>
                <a:lnTo>
                  <a:pt x="407" y="1241"/>
                </a:lnTo>
                <a:lnTo>
                  <a:pt x="376" y="1241"/>
                </a:lnTo>
                <a:lnTo>
                  <a:pt x="353" y="1241"/>
                </a:lnTo>
                <a:lnTo>
                  <a:pt x="353" y="1241"/>
                </a:lnTo>
                <a:lnTo>
                  <a:pt x="350" y="1241"/>
                </a:lnTo>
                <a:lnTo>
                  <a:pt x="340" y="1237"/>
                </a:lnTo>
                <a:lnTo>
                  <a:pt x="302" y="1224"/>
                </a:lnTo>
                <a:lnTo>
                  <a:pt x="273" y="1214"/>
                </a:lnTo>
                <a:lnTo>
                  <a:pt x="272" y="1212"/>
                </a:lnTo>
                <a:lnTo>
                  <a:pt x="272" y="1211"/>
                </a:lnTo>
                <a:lnTo>
                  <a:pt x="272" y="1201"/>
                </a:lnTo>
                <a:lnTo>
                  <a:pt x="272" y="1165"/>
                </a:lnTo>
                <a:lnTo>
                  <a:pt x="272" y="1137"/>
                </a:lnTo>
                <a:lnTo>
                  <a:pt x="273" y="1134"/>
                </a:lnTo>
                <a:lnTo>
                  <a:pt x="268" y="1131"/>
                </a:lnTo>
                <a:lnTo>
                  <a:pt x="252" y="1120"/>
                </a:lnTo>
                <a:lnTo>
                  <a:pt x="240" y="1111"/>
                </a:lnTo>
                <a:lnTo>
                  <a:pt x="240" y="1109"/>
                </a:lnTo>
                <a:lnTo>
                  <a:pt x="237" y="1111"/>
                </a:lnTo>
                <a:lnTo>
                  <a:pt x="227" y="1117"/>
                </a:lnTo>
                <a:lnTo>
                  <a:pt x="191" y="1137"/>
                </a:lnTo>
                <a:lnTo>
                  <a:pt x="163" y="1153"/>
                </a:lnTo>
                <a:lnTo>
                  <a:pt x="162" y="1153"/>
                </a:lnTo>
                <a:lnTo>
                  <a:pt x="153" y="1144"/>
                </a:lnTo>
                <a:lnTo>
                  <a:pt x="127" y="1118"/>
                </a:lnTo>
                <a:lnTo>
                  <a:pt x="107" y="1096"/>
                </a:lnTo>
                <a:lnTo>
                  <a:pt x="107" y="1095"/>
                </a:lnTo>
                <a:lnTo>
                  <a:pt x="105" y="1096"/>
                </a:lnTo>
                <a:lnTo>
                  <a:pt x="97" y="1105"/>
                </a:lnTo>
                <a:lnTo>
                  <a:pt x="66" y="1131"/>
                </a:lnTo>
                <a:lnTo>
                  <a:pt x="43" y="1153"/>
                </a:lnTo>
                <a:lnTo>
                  <a:pt x="43" y="1153"/>
                </a:lnTo>
                <a:lnTo>
                  <a:pt x="36" y="1134"/>
                </a:lnTo>
                <a:lnTo>
                  <a:pt x="15" y="1076"/>
                </a:lnTo>
                <a:lnTo>
                  <a:pt x="0" y="1033"/>
                </a:lnTo>
                <a:lnTo>
                  <a:pt x="0" y="1030"/>
                </a:lnTo>
                <a:lnTo>
                  <a:pt x="0" y="1028"/>
                </a:lnTo>
                <a:lnTo>
                  <a:pt x="5" y="1012"/>
                </a:lnTo>
                <a:lnTo>
                  <a:pt x="26" y="959"/>
                </a:lnTo>
                <a:lnTo>
                  <a:pt x="40" y="918"/>
                </a:lnTo>
                <a:lnTo>
                  <a:pt x="42" y="915"/>
                </a:lnTo>
                <a:lnTo>
                  <a:pt x="42" y="908"/>
                </a:lnTo>
                <a:lnTo>
                  <a:pt x="40" y="882"/>
                </a:lnTo>
                <a:lnTo>
                  <a:pt x="40" y="863"/>
                </a:lnTo>
                <a:lnTo>
                  <a:pt x="42" y="862"/>
                </a:lnTo>
                <a:lnTo>
                  <a:pt x="44" y="859"/>
                </a:lnTo>
                <a:lnTo>
                  <a:pt x="73" y="837"/>
                </a:lnTo>
                <a:lnTo>
                  <a:pt x="168" y="762"/>
                </a:lnTo>
                <a:lnTo>
                  <a:pt x="241" y="705"/>
                </a:lnTo>
                <a:lnTo>
                  <a:pt x="246" y="701"/>
                </a:lnTo>
                <a:lnTo>
                  <a:pt x="246" y="697"/>
                </a:lnTo>
                <a:lnTo>
                  <a:pt x="256" y="665"/>
                </a:lnTo>
                <a:lnTo>
                  <a:pt x="288" y="556"/>
                </a:lnTo>
                <a:lnTo>
                  <a:pt x="314" y="473"/>
                </a:lnTo>
                <a:lnTo>
                  <a:pt x="315" y="468"/>
                </a:lnTo>
                <a:lnTo>
                  <a:pt x="305" y="462"/>
                </a:lnTo>
                <a:lnTo>
                  <a:pt x="279" y="444"/>
                </a:lnTo>
                <a:lnTo>
                  <a:pt x="257" y="431"/>
                </a:lnTo>
                <a:lnTo>
                  <a:pt x="257" y="430"/>
                </a:lnTo>
                <a:lnTo>
                  <a:pt x="257" y="423"/>
                </a:lnTo>
                <a:lnTo>
                  <a:pt x="256" y="399"/>
                </a:lnTo>
                <a:lnTo>
                  <a:pt x="256" y="381"/>
                </a:lnTo>
                <a:lnTo>
                  <a:pt x="257" y="379"/>
                </a:lnTo>
                <a:lnTo>
                  <a:pt x="266" y="371"/>
                </a:lnTo>
                <a:lnTo>
                  <a:pt x="292" y="343"/>
                </a:lnTo>
                <a:lnTo>
                  <a:pt x="314" y="321"/>
                </a:lnTo>
                <a:lnTo>
                  <a:pt x="315" y="320"/>
                </a:lnTo>
                <a:lnTo>
                  <a:pt x="314" y="320"/>
                </a:lnTo>
                <a:lnTo>
                  <a:pt x="311" y="320"/>
                </a:lnTo>
                <a:lnTo>
                  <a:pt x="301" y="315"/>
                </a:lnTo>
                <a:lnTo>
                  <a:pt x="294" y="313"/>
                </a:lnTo>
                <a:lnTo>
                  <a:pt x="294" y="311"/>
                </a:lnTo>
                <a:lnTo>
                  <a:pt x="292" y="311"/>
                </a:lnTo>
                <a:lnTo>
                  <a:pt x="289" y="311"/>
                </a:lnTo>
                <a:lnTo>
                  <a:pt x="279" y="308"/>
                </a:lnTo>
                <a:lnTo>
                  <a:pt x="272" y="307"/>
                </a:lnTo>
                <a:lnTo>
                  <a:pt x="272" y="305"/>
                </a:lnTo>
                <a:lnTo>
                  <a:pt x="272" y="301"/>
                </a:lnTo>
                <a:lnTo>
                  <a:pt x="272" y="285"/>
                </a:lnTo>
                <a:lnTo>
                  <a:pt x="272" y="273"/>
                </a:lnTo>
                <a:lnTo>
                  <a:pt x="273" y="272"/>
                </a:lnTo>
                <a:lnTo>
                  <a:pt x="278" y="272"/>
                </a:lnTo>
                <a:lnTo>
                  <a:pt x="292" y="272"/>
                </a:lnTo>
                <a:lnTo>
                  <a:pt x="302" y="272"/>
                </a:lnTo>
                <a:lnTo>
                  <a:pt x="304" y="272"/>
                </a:lnTo>
                <a:lnTo>
                  <a:pt x="312" y="278"/>
                </a:lnTo>
                <a:lnTo>
                  <a:pt x="343" y="292"/>
                </a:lnTo>
                <a:lnTo>
                  <a:pt x="366" y="302"/>
                </a:lnTo>
                <a:lnTo>
                  <a:pt x="368" y="302"/>
                </a:lnTo>
                <a:lnTo>
                  <a:pt x="375" y="301"/>
                </a:lnTo>
                <a:lnTo>
                  <a:pt x="398" y="297"/>
                </a:lnTo>
                <a:lnTo>
                  <a:pt x="417" y="292"/>
                </a:lnTo>
                <a:lnTo>
                  <a:pt x="418" y="291"/>
                </a:lnTo>
                <a:lnTo>
                  <a:pt x="425" y="301"/>
                </a:lnTo>
                <a:lnTo>
                  <a:pt x="447" y="327"/>
                </a:lnTo>
                <a:lnTo>
                  <a:pt x="465" y="347"/>
                </a:lnTo>
                <a:lnTo>
                  <a:pt x="466" y="347"/>
                </a:lnTo>
                <a:lnTo>
                  <a:pt x="469" y="347"/>
                </a:lnTo>
                <a:lnTo>
                  <a:pt x="491" y="347"/>
                </a:lnTo>
                <a:lnTo>
                  <a:pt x="565" y="347"/>
                </a:lnTo>
                <a:lnTo>
                  <a:pt x="621" y="347"/>
                </a:lnTo>
                <a:lnTo>
                  <a:pt x="625" y="347"/>
                </a:lnTo>
                <a:lnTo>
                  <a:pt x="627" y="346"/>
                </a:lnTo>
                <a:lnTo>
                  <a:pt x="643" y="330"/>
                </a:lnTo>
                <a:lnTo>
                  <a:pt x="696" y="273"/>
                </a:lnTo>
                <a:lnTo>
                  <a:pt x="737" y="231"/>
                </a:lnTo>
                <a:lnTo>
                  <a:pt x="740" y="228"/>
                </a:lnTo>
                <a:lnTo>
                  <a:pt x="737" y="227"/>
                </a:lnTo>
                <a:lnTo>
                  <a:pt x="721" y="211"/>
                </a:lnTo>
                <a:lnTo>
                  <a:pt x="667" y="157"/>
                </a:lnTo>
                <a:lnTo>
                  <a:pt x="627" y="115"/>
                </a:lnTo>
                <a:lnTo>
                  <a:pt x="625" y="113"/>
                </a:lnTo>
                <a:lnTo>
                  <a:pt x="630" y="110"/>
                </a:lnTo>
                <a:lnTo>
                  <a:pt x="644" y="97"/>
                </a:lnTo>
                <a:lnTo>
                  <a:pt x="654" y="86"/>
                </a:lnTo>
                <a:lnTo>
                  <a:pt x="656" y="85"/>
                </a:lnTo>
                <a:lnTo>
                  <a:pt x="678" y="95"/>
                </a:lnTo>
                <a:lnTo>
                  <a:pt x="747" y="121"/>
                </a:lnTo>
                <a:lnTo>
                  <a:pt x="799" y="143"/>
                </a:lnTo>
                <a:lnTo>
                  <a:pt x="802" y="143"/>
                </a:lnTo>
                <a:lnTo>
                  <a:pt x="807" y="139"/>
                </a:lnTo>
                <a:lnTo>
                  <a:pt x="820" y="126"/>
                </a:lnTo>
                <a:lnTo>
                  <a:pt x="830" y="115"/>
                </a:lnTo>
                <a:lnTo>
                  <a:pt x="831" y="114"/>
                </a:lnTo>
                <a:lnTo>
                  <a:pt x="833" y="114"/>
                </a:lnTo>
                <a:lnTo>
                  <a:pt x="846" y="114"/>
                </a:lnTo>
                <a:lnTo>
                  <a:pt x="892" y="114"/>
                </a:lnTo>
                <a:lnTo>
                  <a:pt x="927" y="114"/>
                </a:lnTo>
                <a:lnTo>
                  <a:pt x="930" y="113"/>
                </a:lnTo>
                <a:lnTo>
                  <a:pt x="930" y="111"/>
                </a:lnTo>
                <a:lnTo>
                  <a:pt x="934" y="101"/>
                </a:lnTo>
                <a:lnTo>
                  <a:pt x="947" y="62"/>
                </a:lnTo>
                <a:lnTo>
                  <a:pt x="957" y="33"/>
                </a:lnTo>
                <a:lnTo>
                  <a:pt x="959" y="30"/>
                </a:lnTo>
                <a:lnTo>
                  <a:pt x="957" y="26"/>
                </a:lnTo>
                <a:lnTo>
                  <a:pt x="953" y="11"/>
                </a:lnTo>
                <a:lnTo>
                  <a:pt x="951" y="1"/>
                </a:lnTo>
                <a:lnTo>
                  <a:pt x="951" y="0"/>
                </a:lnTo>
                <a:lnTo>
                  <a:pt x="962" y="4"/>
                </a:lnTo>
                <a:lnTo>
                  <a:pt x="996" y="14"/>
                </a:lnTo>
                <a:lnTo>
                  <a:pt x="1022" y="21"/>
                </a:lnTo>
                <a:lnTo>
                  <a:pt x="1024" y="21"/>
                </a:lnTo>
                <a:lnTo>
                  <a:pt x="1024" y="29"/>
                </a:lnTo>
                <a:lnTo>
                  <a:pt x="1022" y="47"/>
                </a:lnTo>
                <a:lnTo>
                  <a:pt x="1022" y="62"/>
                </a:lnTo>
                <a:lnTo>
                  <a:pt x="1024" y="62"/>
                </a:lnTo>
                <a:lnTo>
                  <a:pt x="1028" y="65"/>
                </a:lnTo>
                <a:lnTo>
                  <a:pt x="1041" y="72"/>
                </a:lnTo>
                <a:lnTo>
                  <a:pt x="1051" y="78"/>
                </a:lnTo>
                <a:lnTo>
                  <a:pt x="1053" y="78"/>
                </a:lnTo>
                <a:lnTo>
                  <a:pt x="1053" y="82"/>
                </a:lnTo>
                <a:lnTo>
                  <a:pt x="1057" y="108"/>
                </a:lnTo>
                <a:lnTo>
                  <a:pt x="1072" y="197"/>
                </a:lnTo>
                <a:lnTo>
                  <a:pt x="1082" y="265"/>
                </a:lnTo>
                <a:lnTo>
                  <a:pt x="1083" y="268"/>
                </a:lnTo>
                <a:lnTo>
                  <a:pt x="1088" y="275"/>
                </a:lnTo>
                <a:lnTo>
                  <a:pt x="1101" y="295"/>
                </a:lnTo>
                <a:lnTo>
                  <a:pt x="1111" y="311"/>
                </a:lnTo>
                <a:lnTo>
                  <a:pt x="1112" y="311"/>
                </a:lnTo>
                <a:lnTo>
                  <a:pt x="1115" y="311"/>
                </a:lnTo>
                <a:lnTo>
                  <a:pt x="1144" y="301"/>
                </a:lnTo>
                <a:lnTo>
                  <a:pt x="1244" y="266"/>
                </a:lnTo>
                <a:lnTo>
                  <a:pt x="1319" y="240"/>
                </a:lnTo>
                <a:lnTo>
                  <a:pt x="1324" y="239"/>
                </a:lnTo>
                <a:lnTo>
                  <a:pt x="1331" y="233"/>
                </a:lnTo>
                <a:lnTo>
                  <a:pt x="1356" y="211"/>
                </a:lnTo>
                <a:lnTo>
                  <a:pt x="1374" y="195"/>
                </a:lnTo>
                <a:lnTo>
                  <a:pt x="1376" y="194"/>
                </a:lnTo>
                <a:lnTo>
                  <a:pt x="1386" y="200"/>
                </a:lnTo>
                <a:lnTo>
                  <a:pt x="1416" y="214"/>
                </a:lnTo>
                <a:lnTo>
                  <a:pt x="1441" y="224"/>
                </a:lnTo>
                <a:lnTo>
                  <a:pt x="1443" y="224"/>
                </a:lnTo>
                <a:lnTo>
                  <a:pt x="1444" y="224"/>
                </a:lnTo>
                <a:lnTo>
                  <a:pt x="1453" y="223"/>
                </a:lnTo>
                <a:lnTo>
                  <a:pt x="1487" y="215"/>
                </a:lnTo>
                <a:lnTo>
                  <a:pt x="1514" y="210"/>
                </a:lnTo>
                <a:lnTo>
                  <a:pt x="1516" y="208"/>
                </a:lnTo>
                <a:lnTo>
                  <a:pt x="1522" y="213"/>
                </a:lnTo>
                <a:lnTo>
                  <a:pt x="1543" y="226"/>
                </a:lnTo>
                <a:lnTo>
                  <a:pt x="1558" y="234"/>
                </a:lnTo>
                <a:lnTo>
                  <a:pt x="1560" y="234"/>
                </a:lnTo>
                <a:lnTo>
                  <a:pt x="1566" y="233"/>
                </a:lnTo>
                <a:lnTo>
                  <a:pt x="1583" y="228"/>
                </a:lnTo>
                <a:lnTo>
                  <a:pt x="1596" y="226"/>
                </a:lnTo>
                <a:lnTo>
                  <a:pt x="1598" y="224"/>
                </a:lnTo>
                <a:lnTo>
                  <a:pt x="1599" y="221"/>
                </a:lnTo>
                <a:lnTo>
                  <a:pt x="1609" y="201"/>
                </a:lnTo>
                <a:lnTo>
                  <a:pt x="1645" y="130"/>
                </a:lnTo>
                <a:lnTo>
                  <a:pt x="1673" y="76"/>
                </a:lnTo>
                <a:lnTo>
                  <a:pt x="1676" y="72"/>
                </a:lnTo>
                <a:lnTo>
                  <a:pt x="1674" y="72"/>
                </a:lnTo>
                <a:lnTo>
                  <a:pt x="1676" y="72"/>
                </a:lnTo>
                <a:lnTo>
                  <a:pt x="1674" y="72"/>
                </a:lnTo>
                <a:lnTo>
                  <a:pt x="1676" y="72"/>
                </a:lnTo>
                <a:lnTo>
                  <a:pt x="1682" y="76"/>
                </a:lnTo>
                <a:lnTo>
                  <a:pt x="1700" y="89"/>
                </a:lnTo>
                <a:lnTo>
                  <a:pt x="1715" y="100"/>
                </a:lnTo>
                <a:lnTo>
                  <a:pt x="1716" y="100"/>
                </a:lnTo>
                <a:lnTo>
                  <a:pt x="1716" y="100"/>
                </a:lnTo>
                <a:close/>
              </a:path>
            </a:pathLst>
          </a:custGeom>
          <a:noFill/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20711400">
            <a:off x="3959280" y="2280960"/>
            <a:ext cx="1888920" cy="1752480"/>
          </a:xfrm>
          <a:custGeom>
            <a:avLst/>
            <a:gdLst>
              <a:gd name="textAreaLeft" fmla="*/ 0 w 1888920"/>
              <a:gd name="textAreaRight" fmla="*/ 1889280 w 18889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2256" y="11141"/>
                </a:moveTo>
                <a:arcTo wR="-8551" hR="-8551" stAng="10662884" swAng="-7830807"/>
                <a:lnTo>
                  <a:pt x="3462" y="2876"/>
                </a:lnTo>
                <a:arcTo wR="10800" hR="10800" stAng="-7967923" swAng="7830807"/>
                <a:lnTo>
                  <a:pt x="24289" y="10262"/>
                </a:lnTo>
                <a:lnTo>
                  <a:pt x="20620" y="14236"/>
                </a:lnTo>
                <a:lnTo>
                  <a:pt x="16646" y="1056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9699000">
            <a:off x="4111560" y="2433600"/>
            <a:ext cx="1835280" cy="1736640"/>
          </a:xfrm>
          <a:custGeom>
            <a:avLst/>
            <a:gdLst>
              <a:gd name="textAreaLeft" fmla="*/ 0 w 1835280"/>
              <a:gd name="textAreaRight" fmla="*/ 1835640 w 1835280"/>
              <a:gd name="textAreaTop" fmla="*/ 0 h 1736640"/>
              <a:gd name="textAreaBottom" fmla="*/ 1737000 h 1736640"/>
            </a:gdLst>
            <a:ahLst/>
            <a:rect l="textAreaLeft" t="textAreaTop" r="textAreaRight" b="textAreaBottom"/>
            <a:pathLst>
              <a:path w="21600" h="21600">
                <a:moveTo>
                  <a:pt x="2256" y="11141"/>
                </a:moveTo>
                <a:arcTo wR="-8551" hR="-8551" stAng="10662884" swAng="-7830807"/>
                <a:lnTo>
                  <a:pt x="3462" y="2876"/>
                </a:lnTo>
                <a:arcTo wR="10800" hR="10800" stAng="-7967923" swAng="7830807"/>
                <a:lnTo>
                  <a:pt x="24289" y="10262"/>
                </a:lnTo>
                <a:lnTo>
                  <a:pt x="20620" y="14236"/>
                </a:lnTo>
                <a:lnTo>
                  <a:pt x="16646" y="1056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2280" y="62434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07200" y="5634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59280" y="5634000"/>
            <a:ext cx="5943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I. México diversifica y fortal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su presencia en A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2560" y="6700680"/>
            <a:ext cx="922032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21800" y="0"/>
            <a:ext cx="22827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9400" y="635040"/>
            <a:ext cx="7439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Con el Acuerdo de Asociación Económ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149320" y="22392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8000" y="985680"/>
            <a:ext cx="9524880" cy="10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En la actualidad, México exporta principalmente a un solo mercado (EUA) y las exportaciones a los NICS más Japón y China representan menos del 1% del total de las exportaciones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960" y="2205000"/>
            <a:ext cx="944892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16680" y="6986520"/>
            <a:ext cx="36226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Fuente: Secretaría de Econom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49600" y="2281320"/>
            <a:ext cx="6705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66"/>
                </a:solidFill>
                <a:latin typeface="Arial"/>
              </a:rPr>
              <a:t>Distribución geográfica de las exportaciones mexicanas. 2004.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78000" y="2795760"/>
          <a:ext cx="9144000" cy="37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2795760"/>
                    <a:ext cx="914400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911160" y="3348000"/>
            <a:ext cx="8334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87.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14520" y="4491000"/>
            <a:ext cx="5889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3.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62440" y="4719600"/>
            <a:ext cx="5889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3.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0360" y="4795920"/>
            <a:ext cx="5889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2.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81960" y="5024520"/>
            <a:ext cx="5889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1.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29520" y="5100480"/>
            <a:ext cx="5889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0.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8149320" y="22392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2560" y="985680"/>
            <a:ext cx="8839440" cy="10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Las exportaciones mexicanas a Japón crecerán 10.6% anualmente debido a la disminución arancelaria y el incremento de las cuotas para ciertos produc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8880" y="2052720"/>
            <a:ext cx="845820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5960" y="6765840"/>
            <a:ext cx="49532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Fuente: 2004  Ministerio de Finanzas de Jap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4880" y="3728880"/>
            <a:ext cx="76320" cy="7632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20643000">
            <a:off x="2433600" y="3097080"/>
            <a:ext cx="6629400" cy="762120"/>
          </a:xfrm>
          <a:prstGeom prst="rightArrow">
            <a:avLst>
              <a:gd name="adj1" fmla="val 50000"/>
              <a:gd name="adj2" fmla="val 21746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56920" y="2382840"/>
            <a:ext cx="3177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Exportaciones. Millones de dól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4680" y="6700680"/>
            <a:ext cx="3189240" cy="3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Nota: 2005-2010 Pronó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25360" y="2795760"/>
          <a:ext cx="9296640" cy="37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2795760"/>
                    <a:ext cx="929664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30280" y="182412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2560" y="83340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960" bIns="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1680" y="604800"/>
            <a:ext cx="966312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xiste un amplio potencial para los exportadores mexicanos debido a que Japón es el sexto importador a nivel mund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11960" y="1214280"/>
            <a:ext cx="193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35800" y="6700680"/>
            <a:ext cx="4995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Fuente: Organización Mundial del Comer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6800" y="5938920"/>
            <a:ext cx="695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 rot="10800600">
            <a:off x="2663640" y="5937840"/>
            <a:ext cx="9824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Alem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40160" y="5938920"/>
            <a:ext cx="5587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G.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86640" y="5938920"/>
            <a:ext cx="7171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Jap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 rot="10840800">
            <a:off x="4948920" y="5938200"/>
            <a:ext cx="8236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Fra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78400" y="5938920"/>
            <a:ext cx="838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h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97560" y="5938920"/>
            <a:ext cx="858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It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921800" y="5938920"/>
            <a:ext cx="8334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Canad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3360" y="5938920"/>
            <a:ext cx="898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Hola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683560" y="5938920"/>
            <a:ext cx="893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Bél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23280" y="2052720"/>
            <a:ext cx="7722720" cy="3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Principales importadores en el mundo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. Miles de </a:t>
            </a: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Millones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de </a:t>
            </a: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dólares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.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0280" y="1824120"/>
            <a:ext cx="914400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960" bIns="-48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06600" y="2433600"/>
          <a:ext cx="921996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2433600"/>
                    <a:ext cx="92199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8453880" y="299880"/>
            <a:ext cx="1375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16:36:02Z</dcterms:created>
  <dc:creator>Bancomext, S.N.C.</dc:creator>
  <dc:description/>
  <dc:language>en-US</dc:language>
  <cp:lastModifiedBy>Roberto Celaya</cp:lastModifiedBy>
  <cp:lastPrinted>2002-07-03T00:10:05Z</cp:lastPrinted>
  <dcterms:modified xsi:type="dcterms:W3CDTF">2005-09-01T23:57:05Z</dcterms:modified>
  <cp:revision>2157</cp:revision>
  <dc:subject/>
  <dc:title>Sin título de diapositiva</dc:title>
</cp:coreProperties>
</file>