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D199-838E-4466-B935-4DA2BF69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381C-153C-4DD2-AB1E-6C1F6CBC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924-1C3D-44D9-9047-83D07068C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A2D-B57D-4A51-9B52-0841CC24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F9BE-1270-4A91-A1B6-7C5E9EF9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28F4-E02A-4F86-BC85-7AF7FAED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6862-3422-4FA4-BFFD-FE5B6511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5446-0357-4434-A079-86DC99A6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C1C5-9C33-4C56-8BA4-BA846A5D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B85E-D289-404F-B9F2-119412BF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BD8F-0DF5-498B-BE1A-7D3F369C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7AAB-A03E-4265-8D32-2D8421B1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F7F4-965F-42F8-A5B4-EA20AD06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B353-492D-4F38-8873-7AB6144A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83A8-7B0F-4185-9FC0-C709572F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92C5-99CA-4CF9-8F13-968A21201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6EE8-E965-49D2-9F0E-52D17C3B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5BE8-F2F0-4E09-88ED-0751B844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36E-4488-4A8F-98AF-0DB1C160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D55-FE11-4E2F-A2E0-B032ED61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1701-81B9-445C-87B2-1350FE84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E18-EC69-48D2-BE67-9961A1EE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27F-2064-4968-812F-031BBB58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468-E527-4125-A1AD-BEDD116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D01E-8E0D-427E-B7F0-F94C69EE3E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22F7-D9B5-47FE-B6D5-ECD8ACC37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21.xml"/><Relationship Id="rId10" Type="http://schemas.openxmlformats.org/officeDocument/2006/relationships/slide" Target="slide21.xml"/><Relationship Id="rId11" Type="http://schemas.openxmlformats.org/officeDocument/2006/relationships/slide" Target="slide21.xml"/><Relationship Id="rId12" Type="http://schemas.openxmlformats.org/officeDocument/2006/relationships/slide" Target="slide21.xml"/><Relationship Id="rId13" Type="http://schemas.openxmlformats.org/officeDocument/2006/relationships/slide" Target="slide22.xml"/><Relationship Id="rId14" Type="http://schemas.openxmlformats.org/officeDocument/2006/relationships/slide" Target="slide22.xml"/><Relationship Id="rId15" Type="http://schemas.openxmlformats.org/officeDocument/2006/relationships/slide" Target="slide26.xml"/><Relationship Id="rId16" Type="http://schemas.openxmlformats.org/officeDocument/2006/relationships/slide" Target="slide26.xml"/><Relationship Id="rId17" Type="http://schemas.openxmlformats.org/officeDocument/2006/relationships/slide" Target="slide26.xml"/><Relationship Id="rId18" Type="http://schemas.openxmlformats.org/officeDocument/2006/relationships/slide" Target="slide26.xml"/><Relationship Id="rId1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BAZI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VALDYMO SISTEMA</a:t>
            </a:r>
            <a:br>
              <a:rPr sz="4400"/>
            </a:b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MS ACC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59436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V.Jadzgevičienė, J.Stankevič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Programos MS Access2000 vaizda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9280" y="19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24852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Program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os MS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Access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 darbo pradžia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1980720"/>
            <a:ext cx="67053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 Access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database wizards, pages and project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an existing fil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S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KŪRIMA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bs00554_" descr=""/>
          <p:cNvPicPr/>
          <p:nvPr/>
        </p:nvPicPr>
        <p:blipFill>
          <a:blip r:embed="rId1"/>
          <a:stretch/>
        </p:blipFill>
        <p:spPr>
          <a:xfrm>
            <a:off x="6629400" y="4724280"/>
            <a:ext cx="16826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Lentelės kūrima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darinėjant lentelę, reikia nurodyti kiekvieno lauko vardą (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eld Nam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r jame saugomų duomenų reikšmių tipą (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3581280"/>
          <a:ext cx="7350120" cy="19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7350120" cy="19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Pagrindiniai duomenų laukų tipai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43000" y="2361960"/>
            <a:ext cx="3124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2362320"/>
            <a:ext cx="3124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/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Pagrindinės laukų savybės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Lauko dydis (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Field Size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).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Duomenų vaizdavimas (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Format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).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Dešimtainių pozicijų skaičius (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Decimal places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).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Duomenų įvedimo kontrolė.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Įvedimo kaukė (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6" action="ppaction://hlinksldjump"/>
              </a:rPr>
              <a:t>Input Mask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).</a:t>
            </a:r>
            <a:r>
              <a:rPr b="0" lang="en-US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4100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agrindinės laukų savybės (tęsiny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Lauko dydis (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Field Size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).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o laukams nustato maksimalią saugomų duomenų apimtį. Tekstiniame lauke gali būti nuo 1 iki 255 simbolių (pagal nutylėjimą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o laukui automatiškai suteikiama 50 simbolių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Lauko dydis (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Field Size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).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 (baita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o 0 iki 255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er (sveikas)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32768 iki +3276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Integer (ilgas sveikas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uo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2147483648 iki +2147483647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(viengubo tikslumo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o –3,4*10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3,4*10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urintys 6 skaitmenis po kablel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 (dvigubo tikslumo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o –1,797*10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ki 1,797*10</a:t>
            </a:r>
            <a:r>
              <a:rPr b="0" lang="lt-LT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08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urintys 10  skaitmenų po kablel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676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inių laukų dydžiai gali būti toki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Duomenų vaizdavimas (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Format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eneral Number (bendra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 (pinigini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Fixed (fiksuota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tandard (standartinis)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ercent (procentinis)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(mokslinis)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1676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umber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o lauk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ndartiniai vaizdavimo bū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Duomenų vaizdavimas (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Format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2590560"/>
            <a:ext cx="7620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0640" indent="-62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General Date (bendrasis), pvz.: 94.6.19 17:34:2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0640" indent="-62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ong Date/Time (ilgas) pvz.: 1994 birželis 19, sekmadienis 17:34: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0640" indent="-620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Date/Time (vidutinis) pvz: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 birž. 19 17:34 arba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-Jun-94 5:34P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20640" indent="-620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ate/Time (trumpas) pvz.: 94.6.19 17:34 arba 6/19/94 5:34P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676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o laukams galioja tokie vaizdavimo būd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7760" y="3805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221304"/>
                </a:solidFill>
                <a:latin typeface="Times New Roman"/>
              </a:rPr>
              <a:t>Literatūra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kevičius S. Microsoft Access pradžiamokslis.– V.:Piketas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omavičius J. ir kt. Informatika (I dalis).– K.:Technologija,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kus B., Kitkauskaitė A. Microsoft Office 2000.– K.: Smaltija,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Access 2000 žingsnis po žingsnio.- K.:Smaltija, 200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žiūnas A. ir kt., Informacinių technologijų taikymas.- K.:Smaltija,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gas V., Parkeris R. Office97 žaliems,- K.:Smaltija, 200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bs00554_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29528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Duomenų vaizdavimas (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Format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6765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o tipu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/No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alimi tokie vaizdavimo būda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5280" y="26665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/False (Tiesa/Melas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/No (Taip/Ne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/Off (Įjungta/Išjung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Dešimtainių pozicijų skaičius 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_x000b_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(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Decimal places</a:t>
            </a: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o laukų duomenis galima vaizduoti norimu tikslumu (nuo 0 iki 15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yli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mal plac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ikšmė yra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ai esant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cen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o duomenys vaizduojami dviejų skaitmenų po kablelio tikslumu, o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tokiu, kaip pateikiami duomeny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Duomenų įvedimo kontrolė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rinimo taisyklė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on Rul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ėjimo tekstas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ion Tex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3124080"/>
            <a:ext cx="701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u atveju tikrinimo taisyklė gali būti loginė išraiška ar kreipinys į specialią funkciją. Loginę išraišką sudarantys elementai sujungti loginių operacijų ženklai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, AND arba NO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Loginės išraiškos elementais gali būti:</a:t>
            </a:r>
            <a:r>
              <a:rPr b="0" lang="lt-LT" sz="32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elių laukų vardai, pvz.:[vardas].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š tai galima nurodyti ir lentelės vardą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grupė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vardas]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ai (pvz.: 78; 56.4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stas (rašomas tarp kabučių, pvz.: “EUROPA”,”Vilnius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kcija (pvz.: AVG() – atlieka vidurkio skaičiavimą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tykių išraiško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, &lt;&gt;, &lt;=, &gt;=, &lt;, &gt;. Pvz.: [grup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”MF-1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rinimo taisyklių pavyzdžiai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600200"/>
            <a:ext cx="76201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5 OR &lt;-5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įvesti skaičius didesnius už 5 arba mažesnius už –5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10 And 100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krins, ar įvedamos reikšmės patenka į uždaro intervalo ribas [10..10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“Ruošinys”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eidžia tikrinti, ar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o laukų reikšmės atitinka nurodytam ruošiniu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Ruošniui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daryti naudojami simboliai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600200"/>
            <a:ext cx="76201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do tik raidę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do vieną arba daugiau negu vieną simbolį, arba nerodo niek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do vieną skaitmenį nuo 0 iki 9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aidės]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odo raidę, esančią sąraš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d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dės]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odo raidę, nesančią sąraš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idė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Įvedimo kaukė (Input Mask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cy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r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tipo laukams leidži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statyti įvedamų duomenų trafaretą (įvedimo kaukę), kuris bus matomas įvedant duomen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vedimo kaukė palengvina duomenų įvedimą, suteikia vaizdum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udarant įvedimo kaukę, naudojami specialūs simboliai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uo (įvesti būtina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uo (galima praleist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tmuo, tarpas, ženklas + ar – (simbolį galima praleisti)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ina įvesti bet kokią raidę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ina įvesti raidę ar skaitmen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įvesti arba praleisti raidę arba skaitmenį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ūtina įvesti bet kokį simbolį arba tarpą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\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o, kad kitas simbolis turi būti parodomas nepakeista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”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rodo, kad eilutė abc turi būti rodoma nepake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Pagrindinės laukų savybės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tylėta reikšmė(Default Value)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ūtina reikšmė (Required)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eidžiamas nulinis ilgis (Allow Zero Length)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aiškinimas (Caption)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deksavimas (Indexed)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Nutylėta reikšmė</a:t>
            </a: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</a:rPr>
              <a:t> </a:t>
            </a: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(Default Value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kams galima suteikti nutylėtą reikšmę, kuri pasirodys įvedinėjant lentelės įrašus. Ši reikšmė užrašoma skiltyje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avyzdžiui, užrašius funkciją Date(), iš karto atitinkamame lentelės lauke bus rodoma šios dienos data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Apibrėž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bazė suprantama kaip dviejų dalių kompleksas: duomenys saugomi kompiuterinėje laikmenoje, ir programos šių duomenų tvarkymui, vizualizavimu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Būtina reikšmė (Required)</a:t>
            </a:r>
            <a:r>
              <a:rPr b="0" lang="lt-LT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nkus variantą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stema kontroliuos, kad įvedant duomenis šio lauko reikšmė būtų įvest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nkus variantą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lentelės įrašas bus įvestas ir nenurodžius šio lauko reikšmė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Leidžiamas nulinis ilgis</a:t>
            </a:r>
            <a:br>
              <a:rPr sz="3600"/>
            </a:b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(Allow Zero Length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lima leisti (variant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rba uždrausti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į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po laukus įrašyti tuščias tekstines eilu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Paaiškinimas (Caption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žiūrint duomenis laukų vardai MS Access objektuose (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s, Queries, Forms, Reports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ali būti pakeisti pilnesniais ir išraiškingesniais, kurie nurodomi eilutėj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Caption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 u="sng">
                <a:solidFill>
                  <a:srgbClr val="221304"/>
                </a:solidFill>
                <a:uFillTx/>
                <a:latin typeface="Times New Roman"/>
                <a:ea typeface="Times New Roman"/>
              </a:rPr>
              <a:t>Indeksavimas (Indexed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laukas neindeksuojamas, tuomet parenkamas variant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ksuojant pirminius ar galimus raktus parenkamas variantas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 (No Duplicates)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 indeksuojamas laukas nėra raktas arba yra sudėtinio rakto dalis, tuomet parenkama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 (Duplicates OK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221304"/>
                </a:solidFill>
                <a:latin typeface="Times New Roman"/>
              </a:rPr>
              <a:t>P</a:t>
            </a:r>
            <a:r>
              <a:rPr b="1" i="1" lang="lt-LT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irminis raktas (Primary Key)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ekvienai lentelei turi būti apibrėžtas pirminis raktas (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t.y. laukas arba jų rinkinys, kurio reikšmės lentelėje nesikartoj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statytą pirminį raktą sistema indeksuoja automatiškai (tokia indeksų seka turės vard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ry Key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lės visos indeksų sekos gali būti sukurtos naudojant langą </a:t>
            </a:r>
            <a:r>
              <a:rPr b="0" i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uris iškviečiamas lentelės konstravimo režime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dexes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0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Ryšiai tarp lentelių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rtingų kategorijų duomenys saugomi skirtingose lentelėse. Tai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</a:rPr>
              <a:t>išvengiama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formacijos pertekliaus. Norint neprarasti duomenų vientisumo, būtina nustatyti tarp lentelių ryšius (</a:t>
            </a:r>
            <a:r>
              <a:rPr b="1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s</a:t>
            </a:r>
            <a:r>
              <a:rPr b="0" lang="lt-LT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Yra keletas reliacinių ryšių tipų. Dažniausiai naudojamas reliacinis ryšys tarp lentelių “vienas–daug”. Esant tokiam ryšio tipui, kiekvienam pagrindinės lentelės įrašui galima nustatyti vieną arba keletą susietos lentelės įrašų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21304"/>
                </a:solidFill>
                <a:latin typeface="Times New Roman"/>
              </a:rPr>
              <a:t>Praktin</a:t>
            </a: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ė užduot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urti filmų kasečių nuomos duomenų bazę. Duomenų bazė susideda iš trijų lentelių: </a:t>
            </a:r>
            <a:r>
              <a:rPr b="0" i="1" lang="lt-LT" sz="3200" spc="-1" strike="noStrike">
                <a:solidFill>
                  <a:srgbClr val="000000"/>
                </a:solidFill>
                <a:latin typeface="Times New Roman"/>
              </a:rPr>
              <a:t>Klientai, Kasetės, Nuoma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entelių struktūrą ir parametrus atspindi duomenų, kuriais turi būti užpildytos lentelės, pavyzd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3049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LIENTA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838080"/>
            <a:ext cx="4572000" cy="249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eris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Vardas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Telef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efde3"/>
                </a:solidFill>
                <a:latin typeface="Times New Roman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Jona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77-77-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efde3"/>
                </a:solidFill>
                <a:latin typeface="Times New Roman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etraitis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66-66-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fefde3"/>
                </a:solidFill>
                <a:latin typeface="Times New Roman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tkutė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33-33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30481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ASETĖ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3581280"/>
            <a:ext cx="4572000" cy="268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das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Filmas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Ti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l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a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Vilkai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Sia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Nor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D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366920"/>
                <a:tab algn="l" pos="273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Raketa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Kovi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19320" y="3049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O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838080"/>
            <a:ext cx="7696440" cy="451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1138320"/>
                <a:tab algn="l" pos="2505240"/>
                <a:tab algn="l" pos="4741920"/>
                <a:tab algn="l" pos="633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Kodas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Numeris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Nuomos_data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ažino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lt-L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j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138320"/>
                <a:tab algn="l" pos="2505240"/>
                <a:tab algn="l" pos="4741920"/>
                <a:tab algn="l" pos="633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01.03.10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01.03.1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5.00 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138320"/>
                <a:tab algn="l" pos="2505240"/>
                <a:tab algn="l" pos="4741920"/>
                <a:tab algn="l" pos="633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01.01.0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01.01.0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2.50 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138320"/>
                <a:tab algn="l" pos="2505240"/>
                <a:tab algn="l" pos="4741920"/>
                <a:tab algn="l" pos="633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44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01.03.11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01.03.1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7.50 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1138320"/>
                <a:tab algn="l" pos="2505240"/>
                <a:tab algn="l" pos="4741920"/>
                <a:tab algn="l" pos="6335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01.03.12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01.03.13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4.00 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26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DUOMEN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BAZ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ĖS</a:t>
            </a: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lt-LT" sz="4400" spc="-1" strike="noStrike">
                <a:solidFill>
                  <a:srgbClr val="221304"/>
                </a:solidFill>
                <a:latin typeface="Times New Roman"/>
              </a:rPr>
              <a:t>KŪRIMAS NAUDOJANT KŪRIMO MEISTRĄ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4" name="AG00042_" descr=""/>
          <p:cNvPicPr/>
          <p:nvPr/>
        </p:nvPicPr>
        <p:blipFill>
          <a:blip r:embed="rId1"/>
          <a:stretch/>
        </p:blipFill>
        <p:spPr>
          <a:xfrm>
            <a:off x="6781680" y="4572000"/>
            <a:ext cx="14749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Duomenų bazių valdymo sistem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ų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pagrindin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ė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 funkcij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o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s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įved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paieška ir vaizdavimas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rane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skaitos kūrim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221304"/>
                </a:solidFill>
                <a:latin typeface="Times New Roman"/>
              </a:rPr>
              <a:t>Praktinė užduoti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urti duomenų bazę: “Mano adresų knygelė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kurti duomenų bazę: “Studentai”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Pagrindinės sąvokos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676520"/>
            <a:ext cx="3352680" cy="20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da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tras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ardė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tra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ti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imo data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80 02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endijos dydi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0,50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962520"/>
            <a:ext cx="3352680" cy="20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da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s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ardė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Jonait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ti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yr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imo data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8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03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endijos dydi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1676520"/>
            <a:ext cx="3429000" cy="20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da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Ona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ardė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Aistyt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ti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oter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imo data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79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endijos dydi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50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 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3962520"/>
            <a:ext cx="3429000" cy="204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da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Vilma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vardė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Šukyt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ti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moteri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mimo data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pendijos dydis: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lt-LT" sz="2200" spc="-1" strike="noStrike">
                <a:solidFill>
                  <a:srgbClr val="000000"/>
                </a:solidFill>
                <a:latin typeface="Times New Roman"/>
              </a:rPr>
              <a:t>25 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Duomenų bazės planavima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2971440"/>
            <a:ext cx="7620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2960" indent="-372960"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kie duomenys reikaling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spcBef>
                <a:spcPts val="799"/>
              </a:spcBef>
              <a:buClr>
                <a:srgbClr val="0000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ą reikia daryti su tais duomenim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75248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lanuojant duomenų bazę, svarbiausia atsakyti į du klausimu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U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rašykite, koki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ataskaitas ar kitus dokument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ąrašus, lente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turės teikti planuojama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Pasižymėkite, kokie bus reikalingi pradiniai duomenys, kaip jie vaizduojami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B-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ė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 ir kaip iš jų gaunami svarbiausi duomenys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Surašykite, kokie reikalingi laukai, jų ilgis, duomenų tipai, kokie turi būti laukų vardai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600" spc="-1" strike="noStrike">
                <a:solidFill>
                  <a:srgbClr val="000000"/>
                </a:solidFill>
                <a:latin typeface="Times New Roman"/>
              </a:rPr>
              <a:t>Numatykite reikalingą pradinių duomenų lentelių kiekį, pasižymėkite, kokius laukus ir kokia tvarka skirsite kiekvienai lentelei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Patarimai duomenų bazės planavimui 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S 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Access aplinka ir 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arbo principai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Access pagrindinės funkcijos yra ši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bazės struktūros kūrim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bazės užpildymas ir redagavim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menų peržiūra, vaizdavimas vartotojui tinkama for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igacija duomenų bazėj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omenų rikiavimas (rūšiavimas), filtravimas ir paiešk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M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S 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Access aplinka ir 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1" i="1" lang="lt-LT" sz="36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arbo principai.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rindiniai DBVS MS Access objekta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telė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klaus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askai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rokoman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ia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4:21:16Z</dcterms:created>
  <dc:creator>IK</dc:creator>
  <dc:description/>
  <dc:language>en-US</dc:language>
  <cp:lastModifiedBy>Virgis</cp:lastModifiedBy>
  <dcterms:modified xsi:type="dcterms:W3CDTF">2002-11-03T12:35:08Z</dcterms:modified>
  <cp:revision>9</cp:revision>
  <dc:subject/>
  <dc:title>DUOMENŲ BAZIŲ VALDYMO SISTEMA MS ACCESS</dc:title>
</cp:coreProperties>
</file>