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E75-AE2B-47E1-B5EC-699580EF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351-B154-40EE-B437-63E3E1ED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80E-2C5C-4239-833B-DC0B7D6D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4B3-5F44-4360-B742-334AAF29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1978-A13F-4876-BFEC-63D79948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8CEE-76E7-46E0-AF35-74105FD0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BE36-27E0-4FC0-92AE-6508EE6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3CB8-B703-4DD5-8742-4E03E69F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7570-CC34-461D-AC2A-CFB2880C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66F1-F28E-481D-863E-1570915B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A8AF-5839-4C57-8CBF-724E288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F00-0E40-433B-95CD-5BF21B63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5766-5E21-49DC-B1C2-48A97763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22AA-2902-4DA8-A5F5-E9E00E0C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C29F-4019-4529-8B16-A3843328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659C-A8AF-455D-9B11-0C745068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AA63-CE5D-481C-AB6C-0A45E146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332-68D4-4B79-B73C-83FFBF36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A7C-26DB-4C94-BF95-33D071AB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47B-BEAF-4A95-9606-7896B207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480-8030-472F-877E-4E408A8C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6EC-F9DB-4C28-B2F6-2858E53A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A90-52ED-4859-A21C-62E27AAD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997-58A5-4916-916F-15BFD250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4703-3CB0-4B02-B643-41E02783BB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7E09-AD39-4085-84EF-C1193C6AEF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kaustav@eudoramail.com" TargetMode="External"/><Relationship Id="rId2" Type="http://schemas.openxmlformats.org/officeDocument/2006/relationships/hyperlink" Target="mailto:kghoshal@in.ibm.com" TargetMode="External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X &amp; 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Job Interview Perspect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Kaustav Ghosh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IBM India Software Lab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7B16-3996-40C4-89FE-0AAB1F427776}" type="slidenum">
              <a:t>1</a:t>
            </a:fld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9" name="img026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925040" cy="461016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4F0-DF80-4DFE-9048-0A55934A0C37}" type="slidenum">
              <a:t>10</a:t>
            </a:fld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img027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1BE-70C0-4C64-BAE6-FC02F7243E2F}" type="slidenum">
              <a:t>11</a:t>
            </a:fld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ducer consumer probl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7BE-47A5-4AC5-B136-277183E0B03B}" type="slidenum">
              <a:t>12</a:t>
            </a:fld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img03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C59-A2C5-4408-A47F-83223DF90C2E}" type="slidenum">
              <a:t>13</a:t>
            </a:fld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img034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A32-8354-4113-BF61-052B5C84E301}" type="slidenum">
              <a:t>14</a:t>
            </a:fld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rea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e group id,open files,same process environment,common address space,signal routin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wn program counter,stack ,set of regis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urrent Execu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ffici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10D-83D0-49FB-A795-596F4A0C1409}" type="slidenum">
              <a:t>15</a:t>
            </a:fld>
          </a:p>
        </p:txBody>
      </p:sp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rtual Memory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rge Address Spa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mory mapp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ir physical memory allo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hared virtual 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mory protection(each process has own address spac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6C1-1A79-4853-AA58-AD75D09D2B4C}" type="slidenum">
              <a:t>16</a:t>
            </a:fld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wapp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cept of dirty p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RU algorith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ge fault,Demand pa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1 and l2 cach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 cache,buffer cache,page cach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F37-F96A-4C98-B715-5091414A4E4D}" type="slidenum">
              <a:t>17</a:t>
            </a:fld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gmentation(internal and extern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leaking and malloc and free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in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A66-8B6D-4C4E-8372-A293054FBCD1}" type="slidenum">
              <a:t>18</a:t>
            </a:fld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vice driv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lock and character devi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cept of mod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ernel and user sp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D8B-CC6B-4EC6-96D7-93757C2BAEBF}" type="slidenum">
              <a:t>19</a:t>
            </a:fld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ief discussion on major concep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X and C interview questions discuss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w to crack an inter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79C-0EEC-4B2D-BD8B-18CC16564E33}" type="slidenum">
              <a:t>2</a:t>
            </a:fld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C and UNIX Ques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4E2-D4C7-4903-9A2C-D70C41626B16}" type="slidenum">
              <a:t>20</a:t>
            </a:fld>
          </a:p>
        </p:txBody>
      </p:sp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crack an int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epa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first 10 minu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fide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ne and Ges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st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5C7-B31F-43CC-9424-2DD04914013D}" type="slidenum">
              <a:t>21</a:t>
            </a:fld>
          </a:p>
        </p:txBody>
      </p:sp>
    </p:spTree>
  </p:cSld>
  <p:transition spd="med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crack an int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tience and calmn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ephonic Inter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very Dog has his day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D79-8685-4020-8512-54AD50AE27A9}" type="slidenum">
              <a:t>22</a:t>
            </a:fld>
          </a:p>
        </p:txBody>
      </p:sp>
    </p:spTree>
  </p:cSld>
  <p:transition spd="med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Your Turn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4E6-8C6C-487B-8C72-6725F949DF64}" type="slidenum">
              <a:t>23</a:t>
            </a:fld>
          </a:p>
        </p:txBody>
      </p:sp>
    </p:spTree>
  </p:cSld>
  <p:transition spd="med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austav Ghosh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kaustav@eudoramail.c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ghoshal@in.ibm.co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ttp://www.kghoshal.cjb.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3DFB-8EAC-4621-A420-C6D335BF6578}" type="slidenum">
              <a:t>24</a:t>
            </a:fld>
          </a:p>
        </p:txBody>
      </p:sp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l The Best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FE1-79A1-4D33-B8FD-8E139C3E908B}" type="slidenum">
              <a:t>25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jor Operating System Top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y UNIX/Linux 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ss 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ice Driv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B3A-38ED-4D1F-9B55-48FF7052938A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UNIX/Linux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grammer’s heav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st of Languages support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preted and Compil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ux and the GNU pa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ept of freeware and GP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534-7A36-43F6-9219-2B1C00D62B01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eground and background processes, daem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 a process: cron, 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wapper and init proc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gram Space: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ck,bss,data,tex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ac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ernel and user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DFB-3842-43A3-A783-322A01519B4E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text swit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gnals:sighup,sigint,sigter,sigki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k and vfork,wait,exe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ss priority,nice ps -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57B-33C3-47F2-902C-93298FE5A57D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ss Synchron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em of concurrent execu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ce cond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itical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dware and software solu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maph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F68-FB6F-428C-9895-C7A62A8592D7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img010" descr=""/>
          <p:cNvPicPr/>
          <p:nvPr/>
        </p:nvPicPr>
        <p:blipFill>
          <a:blip r:embed="rId1"/>
          <a:stretch/>
        </p:blipFill>
        <p:spPr>
          <a:xfrm>
            <a:off x="380880" y="1353960"/>
            <a:ext cx="8534520" cy="490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43F-25EF-4373-84DA-D359133FE13E}" type="slidenum">
              <a:t>8</a:t>
            </a:fld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6" name="img011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2296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004-C302-4487-BC9F-57CE42CA8EDB}" type="slidenum">
              <a:t>9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8:01:23Z</dcterms:created>
  <dc:creator>Kaustav Ghoshal</dc:creator>
  <dc:description/>
  <dc:language>en-US</dc:language>
  <cp:lastModifiedBy>Kaustav Ghoshal</cp:lastModifiedBy>
  <dcterms:modified xsi:type="dcterms:W3CDTF">2003-08-30T04:21:52Z</dcterms:modified>
  <cp:revision>23</cp:revision>
  <dc:subject/>
  <dc:title>UNIX &amp; C</dc:title>
</cp:coreProperties>
</file>