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ED9-184F-4ABF-B474-8C9629B1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1D2-EF31-4EAD-B228-21BECDE0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B6D-830F-4B31-8E89-4FCEE1F1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9C0-8EA1-4066-B76A-D36717B7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965-4489-4D36-9B09-155B34DA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551-A002-4456-BCFB-AA3247D8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664-EB68-4256-B0AB-A77C205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4D3-F47B-4313-962B-64CC990D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47F-A1D7-4CC1-B7B0-F8106386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6F6-DE0E-48D5-9227-C4167ABE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B3E-1B8E-4C69-8CEA-829474F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C5F-BA07-48D8-8B22-47C7D43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317F-AD27-4E5A-AC3B-5A027108B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ightning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594240" cy="542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4920" y="762120"/>
            <a:ext cx="4952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Magic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1866600" y="3543120"/>
            <a:ext cx="853452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lackChancery"/>
              </a:rPr>
              <a:t>The World As Know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lackChancery"/>
              <a:ea typeface="BlackChance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01:38:52Z</dcterms:created>
  <dc:creator>mark</dc:creator>
  <dc:description/>
  <dc:language>en-US</dc:language>
  <cp:lastModifiedBy>mark</cp:lastModifiedBy>
  <dcterms:modified xsi:type="dcterms:W3CDTF">2000-06-22T01:39:03Z</dcterms:modified>
  <cp:revision>1</cp:revision>
  <dc:subject/>
  <dc:title>PowerPoint-presentatie</dc:title>
</cp:coreProperties>
</file>