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493-7C52-4D06-8E4A-418CECA1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899-E0CF-4BEC-AC90-79885B45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34A-236F-446D-9B50-52E63255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BB7-63CA-47FD-BA78-55549562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4CC-2311-4B9C-9438-E528604C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C6A-B9F4-4D69-AAD3-0C5AEE4A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AE1-0CE5-4F7F-B71B-2EC95AFD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BF5-74F7-4BAF-AA21-1292BDB2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6EF-D02B-495A-AEE2-0E6BC236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769-2E57-46F3-8E73-5139817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53A-47F6-4FE1-A18A-DACFF3D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FA3-F445-4263-8D26-C806199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BD33-D625-47BD-A51F-8CACE7AA9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cronsign3" descr=""/>
          <p:cNvPicPr/>
          <p:nvPr/>
        </p:nvPicPr>
        <p:blipFill>
          <a:blip r:embed="rId2"/>
          <a:stretch/>
        </p:blipFill>
        <p:spPr>
          <a:xfrm>
            <a:off x="380880" y="5221440"/>
            <a:ext cx="3810240" cy="3625560"/>
          </a:xfrm>
          <a:prstGeom prst="rect">
            <a:avLst/>
          </a:prstGeom>
          <a:ln w="0">
            <a:noFill/>
          </a:ln>
        </p:spPr>
      </p:pic>
      <p:pic>
        <p:nvPicPr>
          <p:cNvPr id="43" name="druid" descr=""/>
          <p:cNvPicPr/>
          <p:nvPr/>
        </p:nvPicPr>
        <p:blipFill>
          <a:blip r:embed="rId3"/>
          <a:stretch/>
        </p:blipFill>
        <p:spPr>
          <a:xfrm>
            <a:off x="2514600" y="19810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45720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Relig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5" name=""/>
          <p:cNvSpPr txBox="1"/>
          <p:nvPr/>
        </p:nvSpPr>
        <p:spPr>
          <a:xfrm rot="5400000">
            <a:off x="4000320" y="659124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99192" dir="7781944" blurRad="0" rotWithShape="0">
                    <a:srgbClr val="000080"/>
                  </a:outerShdw>
                </a:effectLst>
                <a:latin typeface="BlackChancery"/>
              </a:rPr>
              <a:t>T.W.A.K.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99192" dir="7781944" blurRad="0" rotWithShape="0">
                  <a:srgbClr val="000080"/>
                </a:outerShdw>
              </a:effectLst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00:47:52Z</dcterms:created>
  <dc:creator>mark</dc:creator>
  <dc:description/>
  <dc:language>en-US</dc:language>
  <cp:lastModifiedBy>mark</cp:lastModifiedBy>
  <dcterms:modified xsi:type="dcterms:W3CDTF">2000-06-22T00:47:58Z</dcterms:modified>
  <cp:revision>1</cp:revision>
  <dc:subject/>
  <dc:title>PowerPoint-presentatie</dc:title>
</cp:coreProperties>
</file>