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B36-AB76-40ED-8CBD-930EF6AD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8C0-BBBD-4364-99D0-A06F0DCA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3A7-F67B-4E70-B3B9-6F98BDD1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6DB2-B80E-4AF9-AF9C-46029304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E99-9FCE-4EFB-B2DC-CD309D92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20C-C9F0-4D5A-82E1-6E82512D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F3C-AFE6-45CF-8403-CF696984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D6B-8B43-41F7-93C3-F7BCF2AE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BF0-3928-436B-9C17-9BA2EF1C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114-F154-4E08-92EB-AA5A21D3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D76-4757-4848-AF96-3EDA5E6D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791-3CDD-4DAB-9BC8-746F530A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923C-AB2E-4CA5-98ED-8F1DF2F77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62920" cy="914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winterbarbarian" descr=""/>
          <p:cNvPicPr/>
          <p:nvPr/>
        </p:nvPicPr>
        <p:blipFill>
          <a:blip r:embed="rId2"/>
          <a:stretch/>
        </p:blipFill>
        <p:spPr>
          <a:xfrm>
            <a:off x="380880" y="51814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43" name="arjan" descr=""/>
          <p:cNvPicPr/>
          <p:nvPr/>
        </p:nvPicPr>
        <p:blipFill>
          <a:blip r:embed="rId3"/>
          <a:stretch/>
        </p:blipFill>
        <p:spPr>
          <a:xfrm>
            <a:off x="3247920" y="2209680"/>
            <a:ext cx="3610080" cy="262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380880"/>
            <a:ext cx="6400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lackChancery"/>
              </a:rPr>
              <a:t>Character Creatio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lackChancery"/>
              <a:ea typeface="BlackChancery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562720" y="5257800"/>
            <a:ext cx="9903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BlackChancery"/>
              </a:rPr>
              <a:t>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BlackChancery"/>
              </a:rPr>
              <a:t>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BlackChancery"/>
              </a:rPr>
              <a:t>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BlackChancery"/>
              </a:rPr>
              <a:t>K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BlackChancery"/>
              <a:ea typeface="BlackChance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00:54:09Z</dcterms:created>
  <dc:creator>mark</dc:creator>
  <dc:description/>
  <dc:language>en-US</dc:language>
  <cp:lastModifiedBy>mark</cp:lastModifiedBy>
  <dcterms:modified xsi:type="dcterms:W3CDTF">2000-06-22T00:54:15Z</dcterms:modified>
  <cp:revision>1</cp:revision>
  <dc:subject/>
  <dc:title>PowerPoint-presentatie</dc:title>
</cp:coreProperties>
</file>