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C03-EDB8-4C7C-ABA1-2AB0E459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87E-53DD-422B-81C9-2D4746B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54F-06BE-493D-8EA1-6926F328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15A-5884-4068-BE6F-4BB9A84D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472-ACCC-40ED-8714-354DCBC2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BA1-54AC-428F-B751-B0C44F70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2A0-249C-4EC5-83D0-95F0B5FE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920-6AFB-4233-969B-8104202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58E-2B8C-4969-8B58-D3A8D07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602-896C-4FF8-8BE8-D12782B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FEF-CD4D-4BB1-987D-E49A505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E04-40B4-4BDD-B1B1-AAAFDF0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4440-ADA1-4ACD-9D99-6B2764829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word2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4443120" cy="6019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685800"/>
            <a:ext cx="6400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Combat Rul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67280" y="3581280"/>
            <a:ext cx="6858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W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1:25:50Z</dcterms:created>
  <dc:creator>mark</dc:creator>
  <dc:description/>
  <dc:language>en-US</dc:language>
  <cp:lastModifiedBy>mark</cp:lastModifiedBy>
  <dcterms:modified xsi:type="dcterms:W3CDTF">2000-06-22T01:25:56Z</dcterms:modified>
  <cp:revision>1</cp:revision>
  <dc:subject/>
  <dc:title>PowerPoint-presentatie</dc:title>
</cp:coreProperties>
</file>