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5DA-9BA8-4F22-8E1B-49D899B4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39C-F7F3-43AE-9E03-E4CF5C3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E7F-47B0-45F8-9763-1A74F581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EF7-26D3-47DF-A59A-1455FB88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70B-3747-4233-9626-A07C64CA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BF4-4B6F-40EA-BC9A-45F3779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EA5-40DD-427E-A19F-D2E6097E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6F7-F567-43BE-BA11-5180C21D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98A-F20D-42D2-8AD1-84BEC11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765-4DCB-4833-8F11-436E7E4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46F-9320-4D6A-96C2-23E9226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83C-FEDE-4E61-8A77-DC4B7DB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A0D-66F5-4ACA-A82B-1A904691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word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5664240" cy="378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53352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The World As Know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68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Game Detail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1:31:27Z</dcterms:created>
  <dc:creator>mark</dc:creator>
  <dc:description/>
  <dc:language>en-US</dc:language>
  <cp:lastModifiedBy>mark</cp:lastModifiedBy>
  <dcterms:modified xsi:type="dcterms:W3CDTF">2000-06-22T01:31:34Z</dcterms:modified>
  <cp:revision>1</cp:revision>
  <dc:subject/>
  <dc:title>PowerPoint-presentatie</dc:title>
</cp:coreProperties>
</file>