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44D-21B7-4AE9-A48F-2C0914B1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31C-3637-4531-915B-82D19B05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47A-6397-4B3B-9078-2B6D256E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5AB-82C3-4871-BBB3-B78B0E6C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698-FAA7-4B52-8E81-6A78737D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83C-174A-4100-8A6F-25A40872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C8C-BBC9-4D18-8ADB-C86FA11D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517-8452-4623-AAE7-BA82F825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9D5-EE5B-42D0-9DC5-2FED91FA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F65-81F1-4630-BE46-0BE6F668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5A4-1CE7-4779-A012-62125C41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579-4C45-4686-BBB8-65BF8947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0996-0D49-488E-8B3D-ED4368263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orest1" descr=""/>
          <p:cNvPicPr/>
          <p:nvPr/>
        </p:nvPicPr>
        <p:blipFill>
          <a:blip r:embed="rId2"/>
          <a:stretch/>
        </p:blipFill>
        <p:spPr>
          <a:xfrm>
            <a:off x="4038480" y="15238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43" name="burneyfalls" descr=""/>
          <p:cNvPicPr/>
          <p:nvPr/>
        </p:nvPicPr>
        <p:blipFill>
          <a:blip r:embed="rId3"/>
          <a:stretch/>
        </p:blipFill>
        <p:spPr>
          <a:xfrm>
            <a:off x="0" y="3429000"/>
            <a:ext cx="3733920" cy="2732040"/>
          </a:xfrm>
          <a:prstGeom prst="rect">
            <a:avLst/>
          </a:prstGeom>
          <a:ln w="0">
            <a:noFill/>
          </a:ln>
        </p:spPr>
      </p:pic>
      <p:pic>
        <p:nvPicPr>
          <p:cNvPr id="44" name="sunsetshine" descr=""/>
          <p:cNvPicPr/>
          <p:nvPr/>
        </p:nvPicPr>
        <p:blipFill>
          <a:blip r:embed="rId4"/>
          <a:stretch/>
        </p:blipFill>
        <p:spPr>
          <a:xfrm>
            <a:off x="2438280" y="6248520"/>
            <a:ext cx="4038840" cy="2617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962520" y="4724280"/>
            <a:ext cx="251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lackChancery"/>
              </a:rPr>
              <a:t>T.W.A.K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lackChancery"/>
              <a:ea typeface="BlackChancery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380880"/>
            <a:ext cx="6172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lackChancery"/>
              </a:rPr>
              <a:t>Countri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lackChancery"/>
              <a:ea typeface="BlackChancery"/>
            </a:endParaRPr>
          </a:p>
        </p:txBody>
      </p:sp>
      <p:sp>
        <p:nvSpPr>
          <p:cNvPr id="47" name=""/>
          <p:cNvSpPr/>
          <p:nvPr/>
        </p:nvSpPr>
        <p:spPr>
          <a:xfrm>
            <a:off x="391680" y="8834400"/>
            <a:ext cx="52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ctures 1 and 2  are courtesy of Lovedove6, please don’t copy without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4200" y="5675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76520" y="8418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1T00:48:29Z</dcterms:created>
  <dc:creator>mark</dc:creator>
  <dc:description/>
  <dc:language>en-US</dc:language>
  <cp:lastModifiedBy>mark</cp:lastModifiedBy>
  <dcterms:modified xsi:type="dcterms:W3CDTF">2000-06-22T03:36:17Z</dcterms:modified>
  <cp:revision>2</cp:revision>
  <dc:subject/>
  <dc:title>PowerPoint-presentatie</dc:title>
</cp:coreProperties>
</file>