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DD9-0982-4C36-A45E-242B56D1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004-0717-4D33-BB02-24D6F02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B86-45FF-4A0C-9E0D-F5CCBF76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50F-487E-4D18-80BF-197812A8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24E-BA4A-4649-93E1-BA118074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762-BDEC-4E72-A84C-ACD1301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427-48F0-4E37-83AD-59CA39D9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5ED-B90B-4A07-B176-75F5A61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075-EB5D-42A2-BD51-45AA7AB5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037-45A9-413A-89B0-FB2AEB9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E98-7390-49C8-951E-53C173C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B1A-5FC0-467C-9C67-AEC1CF8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9D81-F28A-432C-82CB-CB4DA4EDC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ra2" descr=""/>
          <p:cNvPicPr/>
          <p:nvPr/>
        </p:nvPicPr>
        <p:blipFill>
          <a:blip r:embed="rId2"/>
          <a:stretch/>
        </p:blipFill>
        <p:spPr>
          <a:xfrm>
            <a:off x="533520" y="4724280"/>
            <a:ext cx="3593880" cy="3594240"/>
          </a:xfrm>
          <a:prstGeom prst="rect">
            <a:avLst/>
          </a:prstGeom>
          <a:ln w="0">
            <a:noFill/>
          </a:ln>
        </p:spPr>
      </p:pic>
      <p:pic>
        <p:nvPicPr>
          <p:cNvPr id="43" name="scorpion" descr=""/>
          <p:cNvPicPr/>
          <p:nvPr/>
        </p:nvPicPr>
        <p:blipFill>
          <a:blip r:embed="rId3"/>
          <a:stretch/>
        </p:blipFill>
        <p:spPr>
          <a:xfrm>
            <a:off x="3352680" y="1905120"/>
            <a:ext cx="3175200" cy="234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3695040" y="598140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lackChancery"/>
              </a:rPr>
              <a:t>T.W.A.K.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304920"/>
            <a:ext cx="6858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lackChancery"/>
              </a:rPr>
              <a:t>The Bestiar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00:37:52Z</dcterms:created>
  <dc:creator>mark</dc:creator>
  <dc:description/>
  <dc:language>en-US</dc:language>
  <cp:lastModifiedBy>mark</cp:lastModifiedBy>
  <dcterms:modified xsi:type="dcterms:W3CDTF">2000-06-22T00:38:00Z</dcterms:modified>
  <cp:revision>1</cp:revision>
  <dc:subject/>
  <dc:title>PowerPoint-presentatie</dc:title>
</cp:coreProperties>
</file>