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7BBF-6339-4C74-B652-CC6941EC6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D2E1-AA86-4CFB-87D0-0C90D3355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FC4C-EB1E-4E3A-90FE-A23FC4AC4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F41C-04BB-41A1-9DD8-6A42BD373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3FED-2FD9-42A7-A153-951AF06CE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80C8-2BF8-4AF4-92B5-78210A35E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D3C2-2D05-458D-AC9D-B54DDF9AE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42B8-34C7-47B0-A8E4-53D488934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A07A-52FB-449D-BDBC-2C1C2EF7A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2734-8EB4-4C74-AF30-9FF505E7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B179-356E-4447-9B37-FFEA9A44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02AD-5548-4725-BB74-2047FCC0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6A334-7600-4306-8083-6A3FA75DF5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kull5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57200" y="609480"/>
            <a:ext cx="6095880" cy="838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2962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lackChancery"/>
              </a:rPr>
              <a:t>The World As Know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lackChancery"/>
              <a:ea typeface="BlackChancery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01880"/>
            <a:ext cx="68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lackChancery"/>
              </a:rPr>
              <a:t>Role-Playing G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93640" y="1405080"/>
            <a:ext cx="6264360" cy="79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Name   :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Grade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Race    :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Height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Sex      :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Weight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Career  :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Age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Hair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Endurance (S + A) :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Eyes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Life points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Current LP’s  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Magic points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Current MP’s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Magic capability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Religion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Attack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scor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Sixth sense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Ballistic Attack 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scor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Statistics: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Languages: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           Slot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1.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            -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S trength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W illpower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2.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            -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           A bsorbtion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R eflex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3.           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AG ility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C harm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4.           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I intelligence: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5.           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Skill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1.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(    )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6.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(   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2.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(    )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7.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(   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3.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(    )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8.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(   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4.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(    )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9.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(   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5.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(    )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10.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(   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Spells: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MP:    MC mod:   I-test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 Ingredients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3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lackChancery"/>
              </a:rPr>
              <a:t>5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3048120"/>
            <a:ext cx="579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3886200"/>
            <a:ext cx="579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6019920"/>
            <a:ext cx="579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7543800"/>
            <a:ext cx="579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80773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83059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85345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87631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38280" y="7543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7543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9880" y="7543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43400" y="7543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4572000"/>
            <a:ext cx="579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91120" y="45720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00800" y="7543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7T10:22:25Z</dcterms:created>
  <dc:creator>Mark v.d. Born</dc:creator>
  <dc:description/>
  <dc:language>en-US</dc:language>
  <cp:lastModifiedBy>Mark v.d. Born</cp:lastModifiedBy>
  <dcterms:modified xsi:type="dcterms:W3CDTF">2000-03-22T04:00:34Z</dcterms:modified>
  <cp:revision>9</cp:revision>
  <dc:subject/>
  <dc:title>PowerPoint-presentatie</dc:title>
</cp:coreProperties>
</file>