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1C09-91DF-47C8-B1E9-612781EB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C93-7241-4F3F-BAD9-A8F9B562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2226-762F-4B9A-9363-9C3CACC7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DC0-BC07-4531-9F9D-E5104BBE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AF3D-CAB5-4A03-ADEE-4A8B4C00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E723-84AD-44E0-8277-C9E12E71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CBB-D027-4570-9021-756C61AD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EB79-242C-4CE0-B15A-EAFA2A14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DF53-8E2A-4772-861E-AA202603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4297-A42B-4B3B-9027-CB8A7487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14E2-80D3-465D-B621-B76EFFA9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44A3-F107-4B77-AD8F-DB3835D3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FCBE-AFC4-452C-9784-625179E36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kull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762120"/>
            <a:ext cx="55022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Spells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MP:    MC mod:   I-test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 Ingredient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1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Mone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GP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SP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T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Weapons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Equipm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lackChance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Insaniti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         -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Armor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Points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Locatio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2193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4479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676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1337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838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838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838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838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838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289548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5720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2578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66294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5257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5257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5257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5257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57150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59436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1722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64008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99520" y="466884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lackChancery"/>
              </a:rPr>
              <a:t>Insanity point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495680" y="7010280"/>
            <a:ext cx="838440" cy="1905120"/>
            <a:chOff x="4495680" y="7010280"/>
            <a:chExt cx="838440" cy="1905120"/>
          </a:xfrm>
        </p:grpSpPr>
        <p:sp>
          <p:nvSpPr>
            <p:cNvPr id="73" name=""/>
            <p:cNvSpPr/>
            <p:nvPr/>
          </p:nvSpPr>
          <p:spPr>
            <a:xfrm>
              <a:off x="4724280" y="7010280"/>
              <a:ext cx="38124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BlackChancery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6920" y="7391520"/>
              <a:ext cx="7596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7543800"/>
              <a:ext cx="3812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24280" y="7772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8077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7543800"/>
              <a:ext cx="15228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05520" y="7543800"/>
              <a:ext cx="15228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24280" y="8305920"/>
              <a:ext cx="15264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52880" y="8305920"/>
              <a:ext cx="15264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95680" y="8763120"/>
              <a:ext cx="22860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05520" y="8763120"/>
              <a:ext cx="22860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24280" y="86104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52880" y="86104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7772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8077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724280" y="7542360"/>
            <a:ext cx="685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lackChancery"/>
              </a:rPr>
              <a:t>2        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lackChancery"/>
              </a:rPr>
              <a:t>3        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lackChancery"/>
              </a:rPr>
              <a:t>4        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98960" y="7564320"/>
            <a:ext cx="153972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lackChancery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BlackChancery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lackChancery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BlackChancery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lackChancery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BlackChancery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lackChancery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BlackChancery"/>
              </a:rPr>
              <a:t>11      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lackChancery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BlackChancery"/>
              </a:rPr>
              <a:t>13       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lackChancery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BlackChancery"/>
              </a:rPr>
              <a:t>15                16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03880" y="8686800"/>
            <a:ext cx="244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746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41880" y="73137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lackChancery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BlackChancery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7600" y="6815160"/>
            <a:ext cx="21099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Other interesting fac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7T21:40:54Z</dcterms:created>
  <dc:creator>Mark v.d. Born</dc:creator>
  <dc:description/>
  <dc:language>en-US</dc:language>
  <cp:lastModifiedBy>Mark v.d. Born</cp:lastModifiedBy>
  <dcterms:modified xsi:type="dcterms:W3CDTF">2000-03-22T04:01:40Z</dcterms:modified>
  <cp:revision>2</cp:revision>
  <dc:subject/>
  <dc:title>PowerPoint-presentatie</dc:title>
</cp:coreProperties>
</file>