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EEB-7956-4682-9441-63B0833F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EC8-FE9D-47C9-8432-C3A9D659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A13-CDDF-43C6-9AE7-D364DC27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F3B-9354-4E91-BEDA-BDAA8818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9613-61BB-4AC9-9D21-516F79BC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7933-9FF0-4914-9E06-6C8E0593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A226-C41D-4489-AAB4-9371CB58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477A-0068-4AE8-B828-91585F56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DB07-67B4-462A-86EE-D8738B36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8A98-8BCB-400B-B5BA-D7F25751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6C23-D1FF-4DB0-B58E-A2F9E7F3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8AA-6D15-4BDE-8638-90E0FBD3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4A70-9985-478D-A16A-146287A9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4DBF-3415-46B1-B97F-58791C12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43C1-A828-428F-8662-2C9C27DF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EF06-475C-4389-BC23-23CA5904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02A7-8A90-46A8-89D5-79E00C7D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8A2-3A6A-4EB9-8ED3-7EA420D7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0C3-6302-433B-80CB-1D458740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A76-B13D-4B1A-87E8-8DF695BF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14C-5401-4AFE-AAEA-21234248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76F-9F74-4984-87AE-258B3340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D57-A8D6-4DFA-84CE-7CAD2E0F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787-053B-4786-867F-6F73C623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066680"/>
            <a:ext cx="8596440" cy="10188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839080" y="9907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A9A8-D765-4E61-9AB0-FB3C576D7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20001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979F-6475-4B50-A6D6-8721EB653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Fig4-2.xls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Fig4-3.xls" TargetMode="Externa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Fig4-4.xls" TargetMode="Externa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Fig4-5.xls" TargetMode="Externa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Fig4-7.mpp" TargetMode="Externa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7221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hapter 4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roject Scope Manage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32" name="magnify" descr=""/>
          <p:cNvPicPr/>
          <p:nvPr/>
        </p:nvPicPr>
        <p:blipFill>
          <a:blip r:embed="rId1"/>
          <a:stretch/>
        </p:blipFill>
        <p:spPr>
          <a:xfrm>
            <a:off x="5029200" y="0"/>
            <a:ext cx="4076640" cy="4495680"/>
          </a:xfrm>
          <a:prstGeom prst="rect">
            <a:avLst/>
          </a:prstGeom>
          <a:ln w="0">
            <a:noFill/>
          </a:ln>
        </p:spPr>
      </p:pic>
      <p:pic>
        <p:nvPicPr>
          <p:cNvPr id="133" name="bd06662_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2195280" cy="19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324E-3905-48BD-BFC2-0AF0FDE75A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ocusing on Broad Organizational Need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often difficult to provide strong justification for many IT projects, but everyone agrees they have a high valu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better to measure gold roughly than to count pennies precisely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ree important criteria for projects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 is a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need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 the proje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 are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fund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availab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’s a strong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to make the project succe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513-018B-4583-9BB0-D934BF1E11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42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e categorization is whether the project address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proble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 opportunity, o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directi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categorization is how long it will take to do and when it is need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is the overall priority of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E80-A5A4-4AE6-9A9B-C607917739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79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nancial Analysis of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al considerations are often an important consideration in selecting projec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ree primary methods for determining the projected financial value of project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t present value (NPV)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urn on investment (ROI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ayback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2D1-6D5A-4CF6-B3AC-5AC95E179C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79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Net Present Value Analysi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t present value (NPV) analysis is a method of calculating the expected net monetary gain or loss from a project by discounting all expected future cash inflows and outflows to the present point in ti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s with a positive NPV should be considered if financial value is a key criter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higher the NPV, the bett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923-982C-45E7-B82E-20D92B3FEF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93840"/>
            <a:ext cx="78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2.  Net Present Value Exampl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8880" y="1038240"/>
            <a:ext cx="8080200" cy="4781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17880" y="58672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ADA-EAB7-4BA2-95BA-CEC0042E41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2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Return on Invest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turn on investment (ROI) is income divided by investmen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I = (total discounted benefits - total discounted costs) / discounted cos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higher the ROI, the bette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ny organizations have a required rate of return or minimum acceptable rate of return on investment for proje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85D-8FE2-4D87-AE4C-10914E78AA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2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ayback Analysi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important financial consideration is payback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ayback period is the amount of time it will take to recoup, in the form of net cash inflows, the net dollars invested in a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ayback occurs when the cumulative discounted benefits and costs are greater than zer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organizations want IT projects to have a fairly short payback perio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A84-2523-446F-880C-DE446688D8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3920" y="-8280"/>
            <a:ext cx="74725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gure 4-3. NPV, ROI, and Payback Analysis for Project 1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3821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25720" y="52992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52C-7F8C-4A99-A786-839CA0ADEA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gure 4-4. NPV, ROI, and Payback Analysis for Project 2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3805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73440" y="54514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EE2-EB1B-4835-A6CD-41AF2A3F27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18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Weighted Scoring Model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weighted scoring model is a tool that provides a systematic process for selecting projects based on many criteri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rst identify criteria important to the project selection pro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n assign weights (percentages) to each criterion so they add up to 100%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n assign scores to each criterion for each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ultiply the scores by the weights and get the total weighted sc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higher the weighted score, the bette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 “What Went Right?” for a description of how a mortgage finance agency uses a weighted scoring model for IT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C68-9D3B-4696-930D-8B6C9D7AE0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Importance of Good Project Scope Managemen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995 CHAOS study cited user involvement, a clear project mission, a clear statement of requirements, and proper planning as being important for project succ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rogram manager of Keller Graduate School of Management cites proper project definition and scope as the main reasons projects fai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0D6-D318-45AD-B1B8-C6C3735B67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4280" y="118080"/>
            <a:ext cx="77011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5. Sample Weighted Scoring Model for Project Selectio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391520" cy="495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89280" y="61722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122-C70E-456E-881F-DE6FC4BD58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ass Activity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 a weighted scoring model for selecting a ma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termine 4-5 important criteria, then determine their we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ck a few candidate mates and apply scoring mod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lculate weighted sco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F36-686E-4C40-81A8-732D4A0669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166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roject Charter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fter deciding what project to work on, it is important to formalize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project charter is a document that formally recognizes the existence of a project and provides direction on the project’s objectives and manage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ey project stakeholders should sign a project charter to acknowledge agreement on the need and intent of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13F-4CBD-48C9-B676-2772B40938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D98F-1AA5-4913-B8CC-C0776C608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-1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Arial Black"/>
              </a:rPr>
              <a:t>Table 4-2. Sample Project Charter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90720" y="1371600"/>
          <a:ext cx="8153280" cy="36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815328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F616-B692-44B5-91BB-D185284AA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-2520"/>
            <a:ext cx="8153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Arial Black"/>
              </a:rPr>
              <a:t>Table 4-2. Sample Project Charter (continued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9164520" cy="55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916452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061640" y="114300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es and Responsibiliti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-122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Scope Planning and the Scope State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scope statement is a document used to develop and confirm a common understanding of the project scope.  It should inclu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project justific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brief description of the project’s produ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summary of all project deliverabl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statement of what determines project succ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D9C-4FFF-4FE0-963C-E8024DABD4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Scope Planning and the Work Breakdown Structur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fter completing scope planning, the next step is to further define the work by breaking it into manageable pie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od scope defini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lps improve the accuracy of time, cost, and resource estim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fines a baseline for performance measurement and project contro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ids in communicating clear work responsibil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663-CAC5-4FD0-9B4B-2061530425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The Work Breakdown Structure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work breakdown structure (WBS) is an outcome-oriented analysis of the work involved in a project that defines the total scope of the projec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is a foundation document in project management because it provides the basis for planning and managing project schedules, costs, and chang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339-6BFE-4E2D-945E-E9A26E1FEA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6a. Sample Intranet WBS Organized by Product 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381880" cy="28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F53-CE5B-4643-8F47-8E0134FCB8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6b. Sample Intranet WBS Organized by Phas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F63-1D03-4BA2-9582-570C66C906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-12420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What is Project Scope Management?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8640" y="1066320"/>
            <a:ext cx="841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refers to all the work involved in creating the products of the project and the processes used to create the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 scope management includes the processes involved in defining and controlling wha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or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is no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included in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roject team and stakeholders must have the same understanding of what products will be produces as a result of a project and what processes will be used in producing the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8EF-8784-4B2C-ACFF-385EBCB3AA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-124920"/>
            <a:ext cx="83822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able 4-3. Intranet WBS in Tabular Form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219320"/>
            <a:ext cx="6908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 Evaluate current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 Define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1 Define user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2 Define content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3 Define system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4 Define server owner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 Define specific functio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4 Define risks and risk management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5 Develop project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6 Brief web development 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 Web Sit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0 Web Site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0 Roll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0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172-1B85-4E8C-BF50-C2334993CC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87000" y="149760"/>
            <a:ext cx="71787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7. Intranet WBS and Gantt Chart in Project 98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99288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8880" y="121932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289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93480" y="54100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FBE-5077-42EA-B9AD-7383BF71AB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-154080"/>
            <a:ext cx="784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Approaches to Developing WBS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56880" y="1294920"/>
            <a:ext cx="81867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ing guidelines: Some organizations, like the DOD, provide guidelines for preparing WB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analogy approach: It often helps to review WBSs of similar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top-down approach: Start with the largest items of the project and keep breaking them dow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bottoms-up approach: Start with the detailed tasks and roll them up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CF4-207D-4C7E-9F53-4300F001FA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56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Basic Principles for Creating WBSs*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56880" y="1371600"/>
            <a:ext cx="81867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. A unit of work should appear at only one place in the WBS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. The work content of a WBS item is the sum of the WBS items below it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. A WBS item is the responsibility of only one individual, even though many people may be working on it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. The WBS must be consistent with the way in which work is actually going to be performed; it should serve the project team first and other purposes only if practical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. Project team members should be involved in developing the WBS to ensure consistency and buy-in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6. Each WBS item must be documented to ensure accurate understanding of the scope of work included and not included in that item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. The WBS must be a flexible tool to accommodate inevitable changes while properly maintaining control of the work content in the project according to the scope statement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6035760"/>
            <a:ext cx="807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eland, David I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roject Management:  Strategic Design and Implementation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B36E-5522-4599-BD6A-D151E452F3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ass Exercis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 a WBS for building a dream hous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t into groups of 3-4 and have one person describe his/her dream hom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oup decide how to organize the work involved in making the home a reali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ake one WBS item down to level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C25-9E0A-4734-BA87-E8530C7F380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Scope Verification and Scope Change Control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very difficult to create a good scope statement and WBS for a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even more difficult to verify project scope and minimize scope cha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IT projects suffer from scope creep and poor scope verifica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xMeyer Drug filed for bankruptcy after scope creep on a robotic warehou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gineers at Grumman called a system “Naziware” and refused to use i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696-9A0A-414C-A815-0F913E39C8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3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2B15-486F-47C0-B45F-402455D22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6d9a"/>
                </a:solidFill>
                <a:latin typeface="Arial Black"/>
              </a:rPr>
              <a:t>Table 4-4. Factors Causing IT Project Problems*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600200"/>
          <a:ext cx="8153280" cy="31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815328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066680" y="518148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Johnson, Jim, "CHAOS:  The Dollar Drain of IT Project Failures," Application Development Trends, January 1995, www.stadishgroup.com/chaos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-122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Suggestions for Improving User Inpu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sist that all projects have a sponsor from the user organiz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ve users on the project tea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ve regular meeting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liver something to project users and sponsor on a regular ba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-locate users with the develope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A2B-86B1-4F64-9990-1E1C32C847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-1080"/>
            <a:ext cx="80773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uggestions for Reducing Incomplete and Changing Requirement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velop and follow a requirements management proc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ploy techniques such as prototyping, use case modeling, and Joint Application Design to thoroughly understand user requiremen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ut all requirements in writing and curren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reate a requirements management databa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vide adequate test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Use a process for reviewing requested changes from a systems perspecti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phasize completion d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BB4-0176-402E-A15F-B01442EB52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iscussion Question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ive examples of IT projects and why they were or were not selected for implementation.  What type of project selection process did the organization use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scuss the theory and practice behind using project charters, scope statements, and WBS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scribe a project that suffered from scope creep.  Could it have been avoided?  How?  Can scope creep be a good thing?  Whe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6AC-B7B9-46C7-8BAB-7D4A1B53D1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461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roject Scope Management Processe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itiation: beginning a project or continuing to the next phas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planning: developing documents to provide the basis for future project decis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definition: subdividing the major project deliverables into smaller, more manageable compon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verification: formalizing acceptance of the project sco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change control: controlling changes to project sco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F4F-D265-43BA-94F7-2E1B2CCE91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Project Initiation: Strategic Planning and Project Selection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first step in initiating projects is to look at the big picture or strategic plan of an organ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trategic planning involves determining long-term business objectiv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projects should support strategic and financial business objectiv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8E3-8F08-42C7-B159-043F0EDFA9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able 4-1. Why Firms Invest in Information Technology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676520"/>
          <a:ext cx="8305920" cy="45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830592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5EA-CA9C-4F47-8592-12716B6A4B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Identifying Potential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organizations follow a planning process for selecting IT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rst develop an IT strategic plan based on the organization’s overall strategic pla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perform a business area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define potential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select IT projects and assign resour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A37-CAA8-4CDE-B640-2711AB14E5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1. Information Technology Planning Proces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7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64A-EDFC-40F8-9A63-D37158D37C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Methods for Selecting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re are usually more projects than available time and resources to implement the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is important to follow a logical process for selecting IT projects to work 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ethods include focusing on broad needs, categorizing projects, financial methods, and weighted scoring mode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E04-702E-4668-B66E-57C66DE0C1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Kathy Schwalbe</cp:lastModifiedBy>
  <cp:lastPrinted>1999-03-08T14:43:06Z</cp:lastPrinted>
  <dcterms:modified xsi:type="dcterms:W3CDTF">1999-09-10T14:58:53Z</dcterms:modified>
  <cp:revision>225</cp:revision>
  <dc:subject/>
  <dc:title>No Slide Title</dc:title>
</cp:coreProperties>
</file>