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186D-5E5E-414F-B150-55E154544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2F07-95BE-40E2-AECC-963735F9F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13C8-F678-4C3F-9CC3-164CE1F67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1096-5359-49FB-9E00-A26D94EA7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EF938-00C8-494A-96DE-E1968BE1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7C14-D5E5-4CAA-B88E-5FA03EB0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79E92-47FC-4C03-A588-F49F5D1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90A4-C2D0-4034-A4BF-540A74D1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B5360-F9AF-4536-AC69-1F9BFDA1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BD425-2A38-44CB-A7DE-128A2695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41E3-78BD-424D-96FD-23B1B87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CD23-AF27-4156-9ADC-35F772202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4A6E9-F774-485D-B9A4-83C36A1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0C22B-2CFD-4749-96E7-46F51A8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1B268-B6A2-4DC0-9937-78028A5B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DF5E2-7BF0-4748-9CDF-6CF81E57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2DFC-A236-46C6-B002-980EF440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5D8A-191C-47F5-8C4C-8885A9B5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E1CC-764F-48D0-8D9F-74E3AF2A7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927B-0D1D-41A7-B778-A0921EE2B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E1CC-9364-446C-A917-08CDF3DF2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639A-9FFE-41A7-AEAD-15687AE7E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5924-14F2-419D-8736-339D2BF28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B391-493E-4261-9D75-B8A01C768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DDB-103E-43C1-A021-1E12EB1DD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D91-3BD2-4F84-8A4A-4187A4090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mi.org/certification/code.htm" TargetMode="External"/><Relationship Id="rId2" Type="http://schemas.openxmlformats.org/officeDocument/2006/relationships/hyperlink" Target="http://www.pmi.org/certification/code.htm" TargetMode="External"/><Relationship Id="rId3" Type="http://schemas.openxmlformats.org/officeDocument/2006/relationships/hyperlink" Target="http://www.pmi.org/certification/code.htm" TargetMode="External"/><Relationship Id="rId4" Type="http://schemas.openxmlformats.org/officeDocument/2006/relationships/hyperlink" Target="http://www.pmi.org/certification/code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 to Project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3E435-4AA4-43A9-9CAA-E615DDC15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2. Project Management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590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3895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07120" y="236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B758-B0E7-4E96-817C-A3DCD3AA8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akehol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are the people involved in or affected by project activit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project sponsor and project te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ort staf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ponents to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19F3-3963-442F-BA79-7E0D96A961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 Project Management Knowledge Are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Knowledge areas describe the key competencies that project managers must develo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core knowledge areas lead to specific project objectives (scope, time, cost, and qualit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facilitating knowledge areas are the means through which the project objectives are achieved (human resources, communication, risk, and procurement management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 knowledge area (project integration management) affects and is affected by all of the other knowledge are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742E-3BB4-4CE6-A617-5AC9997858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Tools and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tools and techniques assist project managers and their teams in various aspects of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specific on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Charter and WBS (scop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antt charts, PERT charts, critical path analysis (tim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estimates and Earned Value Analysis (cost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0B16-00FE-4498-8927-D2FB23C2CB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WBS for Intranet Project in Chart For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924200"/>
          <a:ext cx="886932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24200"/>
                    <a:ext cx="886932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8793-8616-49BB-BF37-D2026BA64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1-4. Sample Gantt Chart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82080" y="6019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3760" y="574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0280" y="5745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2311-B30A-4F51-999A-3FD7AC45C3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5. Sample PERT Char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960" y="4648320"/>
            <a:ext cx="7769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Each box is a project task from the WBS.  Arrows show dependenci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between tasks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tasks on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ritical path take longer than planned, the whole project will slip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00"/>
                </a:solidFill>
                <a:uFillTx/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something is don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647676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86D6-6257-4DE4-9435-24ABD7108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24000"/>
          <a:ext cx="868680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4000"/>
                    <a:ext cx="8686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66680" y="152280"/>
            <a:ext cx="8077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Sample Earned Value Char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52C0-8A83-4516-9E47-DB01A639BF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 of Project Management*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osses, customers, and other stakeholders do not like surpris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ment (PM) provides assurance and reduces risk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the tools and environment to plan, monitor, track, and manage schedules, resources, costs, and quality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a history or metrics base for future planning as well as good document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embers learn and grow by working in a cross-functional team environ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ource:  Knutson, Joa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ecember 1997, p. 13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2ED3-D0D6-43E4-9EC5-D167B0B453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oject Management (PM) Relates to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ch of the knowledge needed to manage projects is unique to P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ever, project managers must also have knowledge and experience 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neral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application area of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rs must focus on meeting specific project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F1D1-BE2C-4F0D-9493-612D68A66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56880" y="1523880"/>
            <a:ext cx="818676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jects have a terrible track reco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1995 Standish Group study found that only 16.2% of IT projects were successf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ver 31% of IT projects were canceled before completion, costing over $81 B in the U.S. alo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9 ComputerWorld article listed project manager as the #1 position IT managers say they need most for contract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IT projects keeps increa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anies in general are emphasizing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ivation for Studying Information Technology (IT) Project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0B37-1F25-4912-A494-971494B51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3. Project Management and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87640" y="1467000"/>
            <a:ext cx="553248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A7EE-0668-49BA-A90F-1FF764C2E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 of Project Management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8818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dern project management began with the Manhattan Project, which the U.S. military led to develop the atomic bom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17 Henry Gantt developed the Gantt chart as a tool for scheduling work in job shop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58, the Navy developed PERT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the 1970s, the military began using project management software, as did the construction indus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y the 1990s, virtually every industry was using some form of project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ugust 1999 PM Network has good articles on history of 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4B3C-0F21-4053-8EED-9374B47ED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ject Management Prof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6 Fortune article called project management the “number one career choic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authors like Tom Peters and Thomas Stewart stress that projects are what add value to organiz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fessional societies like the Project Management Institute have grown tremendous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27D4-9E48-42BB-8A05-165E9D921E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Certif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I provides certification as a Project Management Professional (PMP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MP has documented sufficient project experience, agreed to follow a code of ethics, and passed the PMP ex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umber of people earning PMP certification is increasing quick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groups, like the Gartner Group and the Singapore Computer Society, have their own IT PM Certification pr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F519-2C56-41EC-83F4-78848A0636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6. Growth in PMP Certification, 1993-19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08640" y="83808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ver 12,500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y May 1999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96E7-3EF2-4C27-8A18-CF2984ED96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de of Ethic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MI developed a project management code of ethics that all PMPs must agree to abide b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ducting work in an ethical manner helps the profession earn confide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thics are on the web at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pmi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org/certification/code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2784-9ECF-4732-8A26-F3FD83ABFF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ive three examples of activities that are projects and three examples of activities that are no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is project management different from general manage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o you think so many projects are unsuccessfu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a high failure rate unique to certain types of projects, like IT projects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8CFA-79AA-4F70-9723-3E179B7399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is a temporary endeavor undertaken to accomplish a unique purpo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tributes of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iqu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mpor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quire resources, often from various ar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hould have a primary sponsor and/or custom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volve uncertain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687F-391C-4587-8380-934CAF0A9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s of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rthwest Airlines developed a new reservation system called ResNet (see chapters 11-1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nk of America created a system to integrate check processing, checking accounts, and savings accounts in various states (p. 130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odak created the Advantix Advanced Photo System in one of their most ambitious projects ever (p. 302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B940-75DA-42F6-98F5-921DDE1AD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s I’ve Worked 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this book!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a web-based CBT cour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academic progr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urchasing a risk management system for an oil compan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internal consulting grou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ing a beta test for new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ational Aerospace Plan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High Reliability Fighter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Local Online Network System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tc., etc.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C9AC-EDFC-4418-A8D8-5AC06AF6E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is constrained in different ways by i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cop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im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is the project manager’s duty to balance these three often competing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6B42-282D-4FF4-BCB2-0481E3D5B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1. The Triple Constraint of Project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49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57D4-0AFC-4BD5-B5D2-53E9548B7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on 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ir up and instructor assign ro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layer” describe in your own words what the triple constraint really means, then give an example of it on a real project you’re familiar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ach” listen and ask questions, then be ready to share what your partner sai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s the project “successful?”  Why or why no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5A64-1F0A-4BED-98E4-4B3BF3ACB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Management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56360" cy="31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roject Management Body of Knowledge (PMBOK Guide), 1996, p. 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578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*The Project Management Institute (PMI) is an international professional society.  Their web site is www.pmi.org.  Over 315,000 copies of the PMBOK Guide were in circulation by June 1999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5B14-3CE0-47B1-BCE4-6627C106A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3-08T14:43:06Z</cp:lastPrinted>
  <dcterms:modified xsi:type="dcterms:W3CDTF">1999-09-05T19:56:26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augsburg.edu/ppages/schwalbe</vt:lpwstr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U of M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