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EADBF9-D69D-4773-9DD6-507DD4F209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B70B2F-F207-403D-8C1D-1B8B421129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D66E2C-B37D-4B58-8974-618E6BFA7E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BC04A2-5AA1-4E33-9595-9DCC65CA1D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874A1C-DE84-43CB-808E-9B2ABC2F4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85B44E-B9DE-4B4C-91FF-C5AD4009B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138D0-B4EF-4773-BF5D-4E6619DA9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2F09B5-EE50-4E90-BFF9-9628F4336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68D2DF-D9BF-4347-A3E2-5669BC2A4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055D7-8B96-424E-A696-99A17720B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F5639-CD3D-45C8-B83A-68F00A7EB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BAC0E8-C308-4ADC-AA37-2A3464318A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8C913-9F96-4502-9A72-A0F785698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B4648-C8B9-4A07-9C90-ED9B33E09D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79451-1AA9-42FE-B74B-4C7FB3931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FC37C5-84B7-49BF-B5CD-D074A85C8D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ADFFBF-43DD-47A7-A026-A5EC29A012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66E487-6E6F-4904-A66E-A0CAD7CC79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8F796-F66C-47BA-B13B-1CAF5DC26C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C43CEE-93F4-4E2A-AA87-E46A390EB1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F7CF4D-D704-46FB-840B-6CF1C3150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2F541-A19D-4AEB-AC2A-BDC8F935F2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94FF6E-50F8-4DC6-95D0-FA5CAE9CA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C54715-1618-4F25-95F1-37DA968ED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02D0-4526-411E-B1F4-715F092439C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366A-09B6-43A7-AE31-E1CD77FC60E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pmi.org/certificatio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ppendix B:</a:t>
            </a:r>
            <a:br>
              <a:rPr sz="4800"/>
            </a:br>
            <a:r>
              <a:rPr b="1" lang="en-US" sz="4800" spc="-1" strike="noStrike">
                <a:solidFill>
                  <a:srgbClr val="000000"/>
                </a:solidFill>
                <a:latin typeface="Times New Roman"/>
              </a:rPr>
              <a:t>Advice for the PMP Exam</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8A93E0E5-DB46-4B85-806D-656B43829D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7"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6000"/>
          </a:bodyPr>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the tutorial on how to use the auto-mated testing software.  Use the marking feature to get an idea of how you are doing and to know which questions to review</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have 4.5 hours for the exam, so you should have plenty of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people believe it is better to change answers you were unsure of the first time</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not try to read more into the questions than what is stated</a:t>
            </a:r>
            <a:endParaRPr b="1" lang="en-US" sz="2800" spc="-1" strike="noStrike">
              <a:solidFill>
                <a:srgbClr val="333300"/>
              </a:solidFill>
              <a:latin typeface="Arial"/>
            </a:endParaRPr>
          </a:p>
          <a:p>
            <a:pPr marL="294840" indent="-2948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liminate obviously wrong alternatives, then choose among the remaining choic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D7DE31C-F89A-4434-9EE7-0F153CE7DA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n Tips for Taking the PMP Exam</a:t>
            </a:r>
            <a:endParaRPr b="1" lang="en-US" sz="4000" spc="-1" strike="noStrike">
              <a:solidFill>
                <a:srgbClr val="000000"/>
              </a:solidFill>
              <a:latin typeface="Times New Roman"/>
            </a:endParaRPr>
          </a:p>
        </p:txBody>
      </p:sp>
      <p:sp>
        <p:nvSpPr>
          <p:cNvPr id="199" name="PlaceHolder 2"/>
          <p:cNvSpPr>
            <a:spLocks noGrp="1"/>
          </p:cNvSpPr>
          <p:nvPr>
            <p:ph/>
          </p:nvPr>
        </p:nvSpPr>
        <p:spPr>
          <a:xfrm>
            <a:off x="837720" y="762120"/>
            <a:ext cx="7882200" cy="4790880"/>
          </a:xfrm>
          <a:prstGeom prst="rect">
            <a:avLst/>
          </a:prstGeom>
          <a:noFill/>
          <a:ln w="0">
            <a:noFill/>
          </a:ln>
        </p:spPr>
        <p:txBody>
          <a:bodyPr lIns="92160" rIns="92160" tIns="46080" bIns="46080" anchor="t">
            <a:normAutofit fontScale="92000"/>
          </a:bodyPr>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emorize calculations like earned value</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fore starting the test, write down important things you memorized, like formulas, on the paper provided</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ad all questions carefully, especially the ones that present scenarios followed by several questions</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e wary of alternatives that include the words always, never, only, must, and completely</a:t>
            </a:r>
            <a:endParaRPr b="1" lang="en-US" sz="2800" spc="-1" strike="noStrike">
              <a:solidFill>
                <a:srgbClr val="333300"/>
              </a:solidFill>
              <a:latin typeface="Arial"/>
            </a:endParaRPr>
          </a:p>
          <a:p>
            <a:pPr marL="315360" indent="-31536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ke a short break after about 2 hours and eat a snack</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499C0E4-07E7-4518-8C8F-6BAE4C32A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1" name=""/>
          <p:cNvGraphicFramePr/>
          <p:nvPr/>
        </p:nvGraphicFramePr>
        <p:xfrm>
          <a:off x="1068480" y="1300320"/>
          <a:ext cx="7761240" cy="4465440"/>
        </p:xfrm>
        <a:graphic>
          <a:graphicData uri="http://schemas.openxmlformats.org/presentationml/2006/ole">
            <p:oleObj progId="Word.Document.12" r:id="rId1" spid="">
              <p:embed/>
              <p:pic>
                <p:nvPicPr>
                  <p:cNvPr id="202" name="" descr=""/>
                  <p:cNvPicPr/>
                  <p:nvPr/>
                </p:nvPicPr>
                <p:blipFill>
                  <a:blip r:embed="rId2"/>
                  <a:stretch/>
                </p:blipFill>
                <p:spPr>
                  <a:xfrm>
                    <a:off x="1068480" y="1300320"/>
                    <a:ext cx="7761240" cy="44654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712B12A-929E-4EF2-A681-D9A07928C5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4" name=""/>
          <p:cNvGraphicFramePr/>
          <p:nvPr/>
        </p:nvGraphicFramePr>
        <p:xfrm>
          <a:off x="1143000" y="990720"/>
          <a:ext cx="7453440" cy="5251320"/>
        </p:xfrm>
        <a:graphic>
          <a:graphicData uri="http://schemas.openxmlformats.org/presentationml/2006/ole">
            <p:oleObj progId="Word.Document.12" r:id="rId1" spid="">
              <p:embed/>
              <p:pic>
                <p:nvPicPr>
                  <p:cNvPr id="205" name="" descr=""/>
                  <p:cNvPicPr/>
                  <p:nvPr/>
                </p:nvPicPr>
                <p:blipFill>
                  <a:blip r:embed="rId2"/>
                  <a:stretch/>
                </p:blipFill>
                <p:spPr>
                  <a:xfrm>
                    <a:off x="1143000" y="990720"/>
                    <a:ext cx="7453440" cy="52513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15956BA-43CF-4B6A-9331-9881EB0C9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19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07" name=""/>
          <p:cNvGraphicFramePr/>
          <p:nvPr/>
        </p:nvGraphicFramePr>
        <p:xfrm>
          <a:off x="1219320" y="838080"/>
          <a:ext cx="5394240" cy="5251680"/>
        </p:xfrm>
        <a:graphic>
          <a:graphicData uri="http://schemas.openxmlformats.org/presentationml/2006/ole">
            <p:oleObj progId="Word.Document.12" r:id="rId1" spid="">
              <p:embed/>
              <p:pic>
                <p:nvPicPr>
                  <p:cNvPr id="208" name="" descr=""/>
                  <p:cNvPicPr/>
                  <p:nvPr/>
                </p:nvPicPr>
                <p:blipFill>
                  <a:blip r:embed="rId2"/>
                  <a:stretch/>
                </p:blipFill>
                <p:spPr>
                  <a:xfrm>
                    <a:off x="1219320" y="838080"/>
                    <a:ext cx="5394240" cy="52516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01CCA23-B721-4122-8C8C-B36D2E0FD8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1920"/>
            <a:ext cx="822960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Questions</a:t>
            </a:r>
            <a:endParaRPr b="1" lang="en-US" sz="4400" spc="-1" strike="noStrike">
              <a:solidFill>
                <a:srgbClr val="000000"/>
              </a:solidFill>
              <a:latin typeface="Times New Roman"/>
            </a:endParaRPr>
          </a:p>
        </p:txBody>
      </p:sp>
      <p:graphicFrame>
        <p:nvGraphicFramePr>
          <p:cNvPr id="210" name=""/>
          <p:cNvGraphicFramePr/>
          <p:nvPr/>
        </p:nvGraphicFramePr>
        <p:xfrm>
          <a:off x="1447920" y="762120"/>
          <a:ext cx="5767200" cy="6964200"/>
        </p:xfrm>
        <a:graphic>
          <a:graphicData uri="http://schemas.openxmlformats.org/presentationml/2006/ole">
            <p:oleObj progId="Word.Document.12" r:id="rId1" spid="">
              <p:embed/>
              <p:pic>
                <p:nvPicPr>
                  <p:cNvPr id="211" name="" descr=""/>
                  <p:cNvPicPr/>
                  <p:nvPr/>
                </p:nvPicPr>
                <p:blipFill>
                  <a:blip r:embed="rId2"/>
                  <a:stretch/>
                </p:blipFill>
                <p:spPr>
                  <a:xfrm>
                    <a:off x="1447920" y="762120"/>
                    <a:ext cx="5767200" cy="69642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A7FC914-37E6-4894-B92B-BBFDC50860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Sample Questions</a:t>
            </a:r>
            <a:endParaRPr b="1" lang="en-US" sz="4400" spc="-1" strike="noStrike">
              <a:solidFill>
                <a:srgbClr val="000000"/>
              </a:solidFill>
              <a:latin typeface="Times New Roman"/>
            </a:endParaRPr>
          </a:p>
        </p:txBody>
      </p:sp>
      <p:sp>
        <p:nvSpPr>
          <p:cNvPr id="213" name="PlaceHolder 2"/>
          <p:cNvSpPr>
            <a:spLocks noGrp="1"/>
          </p:cNvSpPr>
          <p:nvPr>
            <p:ph/>
          </p:nvPr>
        </p:nvSpPr>
        <p:spPr>
          <a:xfrm>
            <a:off x="761760" y="1142640"/>
            <a:ext cx="8186760" cy="479124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Project Management Institute started providing sample PMP exam questions on their web site in 1999. You can download forty PMP sample examination questions from </a:t>
            </a:r>
            <a:r>
              <a:rPr b="1" lang="en-US" sz="2800" spc="-1" strike="noStrike" u="sng">
                <a:solidFill>
                  <a:srgbClr val="999933"/>
                </a:solidFill>
                <a:uFillTx/>
                <a:latin typeface="Arial"/>
                <a:hlinkClick r:id="rId1"/>
              </a:rPr>
              <a:t>www.pmi.org/certification</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s web site also provides answers to frequently asked questions about the PMP certification application and PMI's professional development program</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MI also provides information to help you prepare the PMP examination application</a:t>
            </a:r>
            <a:br>
              <a:rPr sz="2800"/>
            </a:br>
            <a:r>
              <a:rPr b="1" lang="en-US" sz="2800" spc="-1" strike="noStrike">
                <a:solidFill>
                  <a:srgbClr val="333300"/>
                </a:solidFill>
                <a:latin typeface="Arial"/>
              </a:rPr>
              <a:t> </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AA78840-C2E6-409F-91A6-555577CBD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nal Advice on PMP Certification and Project Management in General</a:t>
            </a:r>
            <a:endParaRPr b="1" lang="en-US" sz="4000" spc="-1" strike="noStrike">
              <a:solidFill>
                <a:srgbClr val="000000"/>
              </a:solidFill>
              <a:latin typeface="Times New Roman"/>
            </a:endParaRPr>
          </a:p>
        </p:txBody>
      </p:sp>
      <p:sp>
        <p:nvSpPr>
          <p:cNvPr id="21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is a valuable skills, especially in the IT fiel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MP certification can help advance your care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also helps you manage and enjoy your personal lif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F4D018E-84B8-48D9-8048-DB97D277279C}"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MP Certification?</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roject Management Institute (PMI) offers certification as a Project management Profession (PMP)</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tailed information is available from PMI in a brochure called “Certification &amp; Standard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C1BC4E4-B5E6-4CF2-BD88-6B84C868FF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MI Web Site Information on PMP Certification*</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    </a:t>
            </a:r>
            <a:r>
              <a:rPr b="1" lang="en-US" sz="2000" spc="-1" strike="noStrike">
                <a:solidFill>
                  <a:srgbClr val="333300"/>
                </a:solidFill>
                <a:latin typeface="Arial"/>
              </a:rPr>
              <a:t>PMI conducts a certification program in project management.  PMI's Project Management Professional ("PMP") credential is the project management profession's most globally recognized and respected certification credential.  To obtain PMP certification an individual must satisfy education and experience requirements, agree to and adhere to a Code of Ethics, and pass the PMP Certification Examination.</a:t>
            </a: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Worldwide there are over 9000 PMPs who provide project management services in 26 countries. Many corporations require, for individual advancement within the corporation or for employment, the individual have the PMP credential.</a:t>
            </a:r>
            <a:endParaRPr b="1" lang="en-US" sz="2000" spc="-1" strike="noStrike">
              <a:solidFill>
                <a:srgbClr val="333300"/>
              </a:solidFill>
              <a:latin typeface="Arial"/>
            </a:endParaRPr>
          </a:p>
        </p:txBody>
      </p:sp>
      <p:sp>
        <p:nvSpPr>
          <p:cNvPr id="182" name=""/>
          <p:cNvSpPr/>
          <p:nvPr/>
        </p:nvSpPr>
        <p:spPr>
          <a:xfrm>
            <a:off x="970560" y="5527800"/>
            <a:ext cx="537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t>
            </a:r>
            <a:r>
              <a:rPr b="0" lang="en-US" sz="2400" spc="-1" strike="noStrike" u="sng">
                <a:solidFill>
                  <a:srgbClr val="999933"/>
                </a:solidFill>
                <a:uFillTx/>
                <a:latin typeface="Times New Roman"/>
                <a:hlinkClick r:id="rId1"/>
              </a:rPr>
              <a:t>www.pmi.org/certification</a:t>
            </a:r>
            <a:r>
              <a:rPr b="0" lang="en-US" sz="2400" spc="-1" strike="noStrike" u="sng">
                <a:solidFill>
                  <a:srgbClr val="333300"/>
                </a:solidFill>
                <a:uFillTx/>
                <a:latin typeface="Times New Roman"/>
              </a:rPr>
              <a:t>, January 1999</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2877EBE-9A07-4390-A966-C4E867109F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Are the Requirements for Earning and Maintaining PMP Certification?</a:t>
            </a:r>
            <a:endParaRPr b="1" lang="en-US" sz="3600" spc="-1" strike="noStrike">
              <a:solidFill>
                <a:srgbClr val="000000"/>
              </a:solidFill>
              <a:latin typeface="Times New Roman"/>
            </a:endParaRPr>
          </a:p>
        </p:txBody>
      </p:sp>
      <p:sp>
        <p:nvSpPr>
          <p:cNvPr id="18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ur main requirements for earning PMP certification:</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aving experience working in the field of project management.  You need 4,500 hours with a baccalaureate degree and 7,500 without a degree</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igning a PMP Certificant and Candidate Agreement and Release form</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ompleting the PMP Certification Exam Application and paying a fee of $555 for non-PMI members and $405 for member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assing the PMP ex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D5240C0-6575-4343-9E50-B1021FC0D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taining PMP Status</a:t>
            </a:r>
            <a:endParaRPr b="1" lang="en-US" sz="4400" spc="-1" strike="noStrike">
              <a:solidFill>
                <a:srgbClr val="000000"/>
              </a:solidFill>
              <a:latin typeface="Times New Roman"/>
            </a:endParaRPr>
          </a:p>
        </p:txBody>
      </p:sp>
      <p:sp>
        <p:nvSpPr>
          <p:cNvPr id="18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rting in January 1999, PMI started a new professional development program for maintaining the PMP certific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arn at least 60 Professional Develop Units within a three-year cycle and adhere to PMI’s PMP code of Professional Conduc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ult PMI’s web site for more detai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267992F-3DE1-4605-8868-533955CCD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he Structure and Content of the PMP Certification Exam?</a:t>
            </a:r>
            <a:endParaRPr b="1" lang="en-US" sz="4000" spc="-1" strike="noStrike">
              <a:solidFill>
                <a:srgbClr val="000000"/>
              </a:solidFill>
              <a:latin typeface="Times New Roman"/>
            </a:endParaRPr>
          </a:p>
        </p:txBody>
      </p:sp>
      <p:sp>
        <p:nvSpPr>
          <p:cNvPr id="18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P exam is based on information from the entire project management body of knowled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PMBOK Guide provides an outline of information cover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xts like Information Technology Project Management will help you learn and understand key topic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D8A301F-B028-48DC-9BA5-04857C811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ble B-1. Breakdown of Questions on the PMP Process Groups</a:t>
            </a:r>
            <a:endParaRPr b="1" lang="en-US" sz="4000" spc="-1" strike="noStrike">
              <a:solidFill>
                <a:srgbClr val="000000"/>
              </a:solidFill>
              <a:latin typeface="Times New Roman"/>
            </a:endParaRPr>
          </a:p>
        </p:txBody>
      </p:sp>
      <p:graphicFrame>
        <p:nvGraphicFramePr>
          <p:cNvPr id="190" name=""/>
          <p:cNvGraphicFramePr/>
          <p:nvPr/>
        </p:nvGraphicFramePr>
        <p:xfrm>
          <a:off x="914400" y="1828800"/>
          <a:ext cx="10134720" cy="2282760"/>
        </p:xfrm>
        <a:graphic>
          <a:graphicData uri="http://schemas.openxmlformats.org/presentationml/2006/ole">
            <p:oleObj progId="Word.Document.12" r:id="rId1" spid="">
              <p:embed/>
              <p:pic>
                <p:nvPicPr>
                  <p:cNvPr id="191" name="" descr=""/>
                  <p:cNvPicPr/>
                  <p:nvPr/>
                </p:nvPicPr>
                <p:blipFill>
                  <a:blip r:embed="rId2"/>
                  <a:stretch/>
                </p:blipFill>
                <p:spPr>
                  <a:xfrm>
                    <a:off x="914400" y="1828800"/>
                    <a:ext cx="10134720" cy="228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D09CD26-3862-4460-9A63-CCFBD91079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ggestions on Studying for the Exam</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udy Table 2-4, the Project Process Group/Activity Matrix by PMBOK Knowledge Area and understand what each activity involv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basic PMP exam is not industry specific.  PMI is developing additional exams, including one related to I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exam includes conceptual, application, and evaluative ques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4CA2DE3-0D8E-46D0-88A0-05FDB56B12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Should You Prepare for the PMP Exam?</a:t>
            </a:r>
            <a:endParaRPr b="1" lang="en-US" sz="4400" spc="-1" strike="noStrike">
              <a:solidFill>
                <a:srgbClr val="000000"/>
              </a:solidFill>
              <a:latin typeface="Times New Roman"/>
            </a:endParaRPr>
          </a:p>
        </p:txBody>
      </p:sp>
      <p:sp>
        <p:nvSpPr>
          <p:cNvPr id="19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Know your own learning and testing style and use whatever resources and study techniques work best for you</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form study groups to provide support and peer pressure</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 on scope, time, and cost management</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You only need 70%, and all 200 questions are multiple-choice with 4 choices.  It is easy to over study, but if you fail, you need to pay the full price to retake the exa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4B8520A-616E-4030-B817-71938B7C1A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8-17T21:37:02Z</cp:lastPrinted>
  <dcterms:modified xsi:type="dcterms:W3CDTF">1999-08-17T21:37:05Z</dcterms:modified>
  <cp:revision>309</cp:revision>
  <dc:subject/>
  <dc:title>No Slide Title</dc:title>
</cp:coreProperties>
</file>