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147D-96D7-4F32-86E9-BFD42FC55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CDEE-312C-4CEF-B574-5D42980A6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1875-5E13-42B3-A601-941BFCC53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2976-36A6-4535-ABC0-E7801E6C9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E4580-E69D-4857-94C7-A2F9994F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EFBB3-02FD-4B27-8E99-A0692597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D30D6-BF11-4CC8-A492-DF6AA7A2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6A434-02F3-44D3-9093-C1F3312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0F27-72F3-4E9B-9F26-A5E75CC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9E7F-DAE6-4F5D-8C5E-D8512230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BEA2F-2E6F-45E2-9013-6D2A098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37D5-5AB4-4344-858D-7C77C49D8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B5D58-008D-4266-81C0-CB0C33E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CBA1D-74EF-40F0-AEAF-B558AE1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15AE7-87C3-490F-9C88-FCD0484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62A47-ABC1-4AE8-85ED-8836512C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E87D8-D780-4992-9204-C3E6FB35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B06E-7208-466F-8DEC-D4C794B7B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5172-6A85-4466-ACA8-5825DEE5D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9572-5269-4E0A-A6E1-6BCAC0938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4397-0AD4-46BD-8E0F-E5816BD4A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A0F1-8828-457B-A418-472BAD06D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3F47-F474-4E42-BFC3-173E77B0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B8A1-7A09-408F-907C-20DD89D92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2AA-D961-491F-BBBE-6D152A73B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46FB-5855-4B23-A772-C64255907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ppendix A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uide to Using Microsoft Project 98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76D62-95AF-40D9-9212-152FC36A31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icrosoft Project is the clear market leader among desktop project management applica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ccording to the Gartner Group, it accounts for about two-thirds of all project management software sa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survey of 1,000 project managers showed that Project was by far the most used computerized project management too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C757-3892-4351-8765-722F2683C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Project 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n with its popularity, however, Project is not nearly as widespread in its use as products like Word or Exc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December 1998 Microsoft press release stated that they had reached the 3 millionth-customer mar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 must understand basic project management concepts befor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EDD5-58DB-42F1-8528-5E53FE675B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vice on Using Appendix 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ppendix A is meant to be read and followed while using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Your text should include a 120-day copy of Project 98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Load Project 98 and follow the steps in Appendix A to learn how to use this powerful softw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67EA-DC94-46FD-A27F-D66DA1804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8-17T20:27:08Z</cp:lastPrinted>
  <dcterms:modified xsi:type="dcterms:W3CDTF">1999-08-17T21:44:23Z</dcterms:modified>
  <cp:revision>297</cp:revision>
  <dc:subject/>
  <dc:title>No Slide Title</dc:title>
</cp:coreProperties>
</file>