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B1C0-07CB-41EB-80B7-D96D6F1AD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8612-D9AF-4227-A85B-38DFFC872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F8D6-CECA-4A6F-8C64-544EA7093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307B-5101-49DB-A43D-5C76FAE41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C0377-0F60-4DD9-B7BC-7EE7C841A9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398A6-B772-4EC1-B52F-FE8810157D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F2B0-89AD-4FB6-8CEF-6D82E1A909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05CE-7203-43C0-8A53-57F2BD004E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A3299-3EAA-4BF4-A4D8-8E154C6E72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8012D-D404-42E7-A1AF-2FF8DBF87D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4A1C1-AFC7-446F-B9C3-5246BA65E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B825-9765-49ED-BF36-950BAFFEF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6CD60-106F-41B7-960A-77FA14EF4B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BA64E-3BE3-4181-88C0-02FB9DEA7D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5C03E-D213-4D3E-8860-3C1C95E841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A51CB-2CF2-462F-9442-5299D723F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A8CF5-CBBC-4FC1-876B-B4770A8A7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517F-DCE7-444F-80F1-93E7BE017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6345-F619-4BA5-BD7F-F9A7A5CC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0054-AF3A-48A9-A53A-63C3A2766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9EC6-EEB8-4710-B04C-01096A900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4766-7052-41CB-85F9-D3D0A7CFC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728F-51EF-43ED-BCBB-71118AC5B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40DE-D108-453F-B23C-70F176D1C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77840" y="6319800"/>
            <a:ext cx="201924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838720" y="6424200"/>
            <a:ext cx="304920" cy="2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CB42-BA43-4573-BFA5-C484A9410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3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C82F-1E1F-4214-B8AC-BCF98C7875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5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andishgroup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1143000"/>
            <a:ext cx="640404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icrosoft Project 98 to Assist in Managing Information Technology (IT)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23520" y="411480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Kathy Schwalbe, Ph.D., PMP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ssociate Professor, Business/MI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ugsburg College, Minneapolis, M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esented 3/26/99 at CTI Conferenc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chwalbe@augsburg.ed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www.augsburg.edu/ppages/schwalb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C0A19-F3EB-4354-A86A-E7F603024D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Key P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network diagram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(also referred to as a PERT chart) shows the sequence in which tasks must be perform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critical path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the longest path through a network diagram that determines the earliest completion of a project.  It has no slack ti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baseline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is a project plan that serves as the basis for measuring performa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4FF3-46BE-422D-B7EC-3E4EE4ADD1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S for Intranet Project in Chart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37960" y="1920960"/>
          <a:ext cx="8896680" cy="31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920960"/>
                    <a:ext cx="8896680" cy="31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3BFD3-AC89-46CF-9EF9-6EB7AA9E1E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Intranet WBS and Gantt Chart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347120" y="59580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6880" y="574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32680" y="5745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043F-AE00-4C9B-8B07-5C8E6B66D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S and Gantt Chart for Software Launch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343160" y="838080"/>
            <a:ext cx="7648560" cy="5322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62600" y="6248520"/>
            <a:ext cx="45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4572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572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3EF4-9A37-4C4F-8FB3-57EE4118F5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Network Diagram or PERT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848720" cy="3059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26920" y="5146560"/>
            <a:ext cx="68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of the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ake longer than planned, the whole project will slip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unless something is done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68160" y="914400"/>
            <a:ext cx="39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ach box is a project task from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 WBS.  Arrows show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pendencies between task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DCCE-55BC-489C-A092-88FD443C8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0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Microsoft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3520" y="990360"/>
            <a:ext cx="7372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98 is the clear leader in the desktop market for PM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Gartner Group estimates it accounts for 2/3 of sal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cent survey of 1,000 PMs found it was used by 48% of the respondents.  Next listed tool only used by 13.8% of respondents*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C Magazine gave it the Editor’s Choice award in 6/30/98 issu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2160" y="5942160"/>
            <a:ext cx="606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Fox, Terry L. and Spence, J. Wayne, "Tools of the Trade: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A Survey of Project Management Tools," Project Managemen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Journal, September 1998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04B0-EF4E-4FBA-911F-9BC58CBF84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rrors in Using Project 98 or other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ople do not understan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at a WBS is, and they are hard to creat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link tasks or know what a critical path i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to set a baseline in order to track progr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at Project 98 is a powerful and complicated tool, and training is neede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6A8A-76D0-44FC-A20A-432FD45666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By-Step Exampl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152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rst I’ll show help information and basics about the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n I’ll create a new file for a project to create a project tracking databa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562720" y="5867280"/>
          <a:ext cx="15238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5867280"/>
                    <a:ext cx="15238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E6CA-4FFD-456F-A543-A538DE9AE2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Sample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ject 98 comes with sample files that should be loaded in Program Files/Microsoft Office, Templates, Microsoft Project.  The Intranet and Software Launch files are sample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veral vendors provide sample files, and many companies keep a repository of fi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icrosoft provides links to Y2K and IT template files (next slid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E947-80D9-47CC-9FD4-56D03FECD7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ww.microsoft.com/products/msoffice/project/download/template.h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47920" y="1220760"/>
            <a:ext cx="746748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1E4F-CA35-4A2C-97F9-9440447C45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9903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udience background and interest in this topic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ersonal background on IT projects and using Microsoft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roduction to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verview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ep-by-step examp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re to get sample fi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0F2B-64D3-4891-87EE-6C5475BBC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ject Management (P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2960" y="1676520"/>
            <a:ext cx="72201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M Body of Knowledge (PMBOK), 1996, p. 6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09840" y="5562720"/>
            <a:ext cx="6355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e Project Management Institute (PMI) is an internat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fessional society.  Their web site is www.pmi.org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78F5-ECE3-41D4-8121-0A7B9C022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971800"/>
            <a:ext cx="6248520" cy="1371600"/>
          </a:xfrm>
          <a:prstGeom prst="rightArrow">
            <a:avLst>
              <a:gd name="adj1" fmla="val 50000"/>
              <a:gd name="adj2" fmla="val 113891"/>
            </a:avLst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6200" y="3352680"/>
            <a:ext cx="44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roject Management Integ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78680" y="327672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Succes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0016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5040" y="2133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9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5080" y="213372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2480" y="219564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6640" y="213372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81800" y="219564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1337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Qualit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734800">
            <a:off x="2323440" y="2888280"/>
            <a:ext cx="451080" cy="239760"/>
          </a:xfrm>
          <a:prstGeom prst="rightArrow">
            <a:avLst>
              <a:gd name="adj1" fmla="val 50000"/>
              <a:gd name="adj2" fmla="val 47035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734800">
            <a:off x="3479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34800">
            <a:off x="454572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734800">
            <a:off x="5765040" y="292500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4633920"/>
            <a:ext cx="9903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7320" y="457200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omm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86160" y="4633920"/>
            <a:ext cx="99072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0320" y="4572000"/>
            <a:ext cx="6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isk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4633920"/>
            <a:ext cx="1127160" cy="609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0000" y="4572000"/>
            <a:ext cx="112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rocur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Mgt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8609000">
            <a:off x="2323440" y="418392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8609000">
            <a:off x="3479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609000">
            <a:off x="454572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8609000">
            <a:off x="5765040" y="4220280"/>
            <a:ext cx="450720" cy="239760"/>
          </a:xfrm>
          <a:prstGeom prst="rightArrow">
            <a:avLst>
              <a:gd name="adj1" fmla="val 50000"/>
              <a:gd name="adj2" fmla="val 46997"/>
            </a:avLst>
          </a:prstGeom>
          <a:solidFill>
            <a:srgbClr val="cccc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8720" y="1295280"/>
            <a:ext cx="3505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9 Knowledge Areas</a:t>
            </a:r>
            <a:br>
              <a:rPr sz="2800"/>
            </a:b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    Core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6440" y="5410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Facilitating Func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5520" y="2666880"/>
            <a:ext cx="1600200" cy="1228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962520"/>
            <a:ext cx="1828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takeholde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eeds and expectat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5600" y="3276720"/>
            <a:ext cx="127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ools an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echniqu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gantt" descr=""/>
          <p:cNvPicPr/>
          <p:nvPr/>
        </p:nvPicPr>
        <p:blipFill>
          <a:blip r:embed="rId2"/>
          <a:stretch/>
        </p:blipFill>
        <p:spPr>
          <a:xfrm>
            <a:off x="7089840" y="2743200"/>
            <a:ext cx="990360" cy="4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7470720" y="4038480"/>
          <a:ext cx="5112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0720" y="4038480"/>
                    <a:ext cx="511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908000" y="1295280"/>
            <a:ext cx="4724640" cy="48006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C81A-B6DE-4720-8928-38906998E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1519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Projects Have a Terrible Track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42960" y="1447560"/>
            <a:ext cx="72201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ject “success” is often defined as meeting project scope on time and within budg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Standish Group’s famous “CHAOS” reports* document the horrible IT track record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nly 16% of IT projects were successful from 1995 CHAOS survey (up to 26% in 1998 stud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31% of IT projects were cancelled in 1995, costing the U.S. over $81 bill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FF2D-FA2D-437B-B21E-F303B6618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, Cost, and Scope Problems of IT Projects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2600" y="1676160"/>
            <a:ext cx="6991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schedule overrun for IT projects was 222%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verage cost overrun was 189%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arge companies’ IT projects have 42% of the originally-proposed features and func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52160" y="6134040"/>
            <a:ext cx="48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* 1995 report available at 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standishgroup.com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F92D-9205-4279-9662-BFEB31BB8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 Can Hel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 Success If Used W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ositive leadership is the most significant factor associated with successful project managers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Using software is just one tool of project management.  You must understand several PM concepts before using PM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3A25-6EBF-4346-A986-7698C382F2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ing P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ftware alone can not improve projects, but it can hel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fine and manage the scope of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reate and manage project schedul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e resources and cos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cilitate communic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8CA1-3C10-4A68-A630-B0C74FB89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M Concepts Needed Before Using Project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240" y="1752120"/>
            <a:ext cx="7543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Work Breakdown Structure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(WBS) is an outcome-oriented structure that defines the total scope of the proj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Gantt chart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is a tool for communicating project schedules using a calendar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2E92-1869-463C-AAE6-E89F155C11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18:49:01Z</dcterms:created>
  <dc:creator>Scott Schwalbe</dc:creator>
  <dc:description/>
  <dc:language>en-US</dc:language>
  <cp:lastModifiedBy>Scott Schwalbe</cp:lastModifiedBy>
  <cp:lastPrinted>1999-03-02T12:24:43Z</cp:lastPrinted>
  <dcterms:modified xsi:type="dcterms:W3CDTF">1999-03-02T12:26:29Z</dcterms:modified>
  <cp:revision>78</cp:revision>
  <dc:subject/>
  <dc:title>Using Microsoft Project 98 to Assist in Managing Information Technology (IT) Pro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conferences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