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953CA5-05B5-47DC-AE85-617A9DBF78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51F10C-8F62-409D-A7B9-3DED0E530A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1A0804-8373-4FEE-A346-143CD9D5B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961815-8F7D-4B27-9609-5E85171DF7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996BB4-931C-4752-A95F-090267492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076597-0841-4F5E-82E4-CEEACAE9A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5CFC8-3BCD-468B-BDDE-21CEAB177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4FC75E-DFE9-4C79-A6EA-6BAD0B696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719C2-27D6-4C16-B8AE-84340461C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AE514-0FE5-4015-92E5-79F837864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93C6D-7E7A-41F8-AA05-77AE63D76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088838-AED6-4DFC-B6B2-0A6EDE6396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0CB78-DE24-4C58-AE3D-CBFC5239C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936A7-E4E3-498C-860E-B1C65DBF9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F63C2-7D3C-4CB4-834F-32DF198D2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34AF48-F3F5-4816-9FA4-2C419FF1B6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121126-EA95-4FFD-832A-C9F26D3D89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DB43BF-2437-45F0-B32E-4DBFFF2D5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26153C-7535-4672-B806-876DD4764C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64D637-A617-4C4C-B996-E644705168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958C1E-0CCF-4E4F-BEF9-7470832026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6AF6AE-BAC9-4014-8332-9C6E3BE7BE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EDC404-EA63-43F3-9530-A00DE099A2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B28E32-CFAF-4432-A194-133BB426D6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16AF-80D3-4EF6-9CCA-5E293044A878}"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E476-BBAA-42E1-B3A8-0C095F3AE99F}"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nwa.com/" TargetMode="External"/><Relationship Id="rId2" Type="http://schemas.openxmlformats.org/officeDocument/2006/relationships/hyperlink" Target="http://www.nwa.com/" TargetMode="External"/><Relationship Id="rId3" Type="http://schemas.openxmlformats.org/officeDocument/2006/relationships/hyperlink" Target="http://www.nwa.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2:</a:t>
            </a:r>
            <a:br>
              <a:rPr sz="4800"/>
            </a:br>
            <a:r>
              <a:rPr b="1" lang="en-US" sz="4800" spc="-1" strike="noStrike">
                <a:solidFill>
                  <a:srgbClr val="000000"/>
                </a:solidFill>
                <a:latin typeface="Times New Roman"/>
              </a:rPr>
              <a:t>Initiat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34109F3F-ADE3-4F50-9490-1C44384A7D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ffing a New Project</a:t>
            </a:r>
            <a:endParaRPr b="1" lang="en-US" sz="4400" spc="-1" strike="noStrike">
              <a:solidFill>
                <a:srgbClr val="000000"/>
              </a:solidFill>
              <a:latin typeface="Times New Roman"/>
            </a:endParaRPr>
          </a:p>
        </p:txBody>
      </p:sp>
      <p:sp>
        <p:nvSpPr>
          <p:cNvPr id="196"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ay selected Peeter Kivestu, a marketing director at NWA, as the ResNet project manager</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s strategy was to prove the concept of ResNet first with a prototype </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asked Arvid Lee, a senior member of the IS department, to lead the IS team on the ResNet project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athy (Krammer) Christenson, a marketing analyst, become the ResNet application development manager</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69F2B94-06B6-4C33-935B-86D7E154F0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2-2. Three Main ResNet Projects</a:t>
            </a:r>
            <a:endParaRPr b="1" lang="en-US" sz="3600" spc="-1" strike="noStrike">
              <a:solidFill>
                <a:srgbClr val="000000"/>
              </a:solidFill>
              <a:latin typeface="Times New Roman"/>
            </a:endParaRPr>
          </a:p>
        </p:txBody>
      </p:sp>
      <p:graphicFrame>
        <p:nvGraphicFramePr>
          <p:cNvPr id="198" name=""/>
          <p:cNvGraphicFramePr/>
          <p:nvPr/>
        </p:nvGraphicFramePr>
        <p:xfrm>
          <a:off x="758880" y="1604880"/>
          <a:ext cx="8385120" cy="3446640"/>
        </p:xfrm>
        <a:graphic>
          <a:graphicData uri="http://schemas.openxmlformats.org/presentationml/2006/ole">
            <p:oleObj progId="Word.Document.12" r:id="rId1" spid="">
              <p:embed/>
              <p:pic>
                <p:nvPicPr>
                  <p:cNvPr id="199" name="" descr=""/>
                  <p:cNvPicPr/>
                  <p:nvPr/>
                </p:nvPicPr>
                <p:blipFill>
                  <a:blip r:embed="rId2"/>
                  <a:stretch/>
                </p:blipFill>
                <p:spPr>
                  <a:xfrm>
                    <a:off x="758880" y="1604880"/>
                    <a:ext cx="8385120" cy="34466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86590CB-5043-4529-A4F5-3EFF6ED3B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1" name=""/>
          <p:cNvSpPr/>
          <p:nvPr/>
        </p:nvSpPr>
        <p:spPr>
          <a:xfrm>
            <a:off x="762120" y="990720"/>
            <a:ext cx="807696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fter finishing the ResNet beta project, Peeter and his team saw the rest of ResNet as one large project to implement the new reservation system in all of the call centers.  Senior management, however, broke the rest of ResNet into two separate projects, ResNet 1995 and ResNet 1996. Their goals were to avoid a huge investment commitment and to provide further incentives for the ResNet team to produce successful results.  If the 1995 ResNet project was not successful, senior management could decide not to fund the 1996 project.  Although this strategy reduced financial risk, Peeter and his team did not like the decision.  If ResNet 1996 were not approved for some reason, they would be stuck with two totally different reservations systems in different sales offices.  This situation would cause huge management, technical, and support problems.  The ResNet 1995 team was under a lot of pressure to do a good job or the ResNet 1996 project would not be funded.</a:t>
            </a:r>
            <a:r>
              <a:rPr b="1" lang="en-US" sz="2400" spc="-1" strike="noStrike">
                <a:solidFill>
                  <a:srgbClr val="333300"/>
                </a:solidFill>
                <a:latin typeface="Times New Roman"/>
              </a:rPr>
              <a:t>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7CFDE0A-F55A-4629-8BB5-D2E40074EB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ecting the Project Manager</a:t>
            </a:r>
            <a:endParaRPr b="1" lang="en-US" sz="4400" spc="-1" strike="noStrike">
              <a:solidFill>
                <a:srgbClr val="000000"/>
              </a:solidFill>
              <a:latin typeface="Times New Roman"/>
            </a:endParaRPr>
          </a:p>
        </p:txBody>
      </p:sp>
      <p:sp>
        <p:nvSpPr>
          <p:cNvPr id="20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7000"/>
          </a:bodyPr>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 important part of project initiation is selecting a project manager.  Fay selected Peeter because</a:t>
            </a:r>
            <a:endParaRPr b="1" lang="en-US" sz="32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knew the airline business</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understood the technology</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knew that technologies could improve business productivity</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used his passion for the project to convince Fay and others that he should be the project manager</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F19946B-CC95-4509-A7C3-570C7E73A7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paring Business Justification for the Projects</a:t>
            </a:r>
            <a:endParaRPr b="1" lang="en-US" sz="4400" spc="-1" strike="noStrike">
              <a:solidFill>
                <a:srgbClr val="000000"/>
              </a:solidFill>
              <a:latin typeface="Times New Roman"/>
            </a:endParaRPr>
          </a:p>
        </p:txBody>
      </p:sp>
      <p:sp>
        <p:nvSpPr>
          <p:cNvPr id="20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the Beta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convinced senior managers to invest $500,000 into developing a prototype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emphasized his track record as a leader and what the competition was do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was well-known and respected for his IS expertis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D30772F-CB56-4B05-8879-F3E38EAEA2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paring Business Justification for the Projects</a:t>
            </a:r>
            <a:endParaRPr b="1" lang="en-US" sz="4400" spc="-1" strike="noStrike">
              <a:solidFill>
                <a:srgbClr val="000000"/>
              </a:solidFill>
              <a:latin typeface="Times New Roman"/>
            </a:endParaRPr>
          </a:p>
        </p:txBody>
      </p:sp>
      <p:sp>
        <p:nvSpPr>
          <p:cNvPr id="20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the ResNet 1995 and 1996 proje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Very strong justification was needed to make major investmen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prepared detailed plans and focused on </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ey business objectives of the projec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mpressive results from the beta projec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opportunity to make money with the new system (NPV estimate of $37.7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D3989AB-7AF2-42FE-B887-2614009BC1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09" name=""/>
          <p:cNvSpPr/>
          <p:nvPr/>
        </p:nvSpPr>
        <p:spPr>
          <a:xfrm>
            <a:off x="838080" y="1143000"/>
            <a:ext cx="80773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eeter and the ResNet team prepared outstanding business justification for all of the ResNet projects.  Using his strong technical and business skills, Peeter wrote persuasive documents justifying ResNet, and he made his case well in presentations.  Peeter's justification strategy for the 1995 and 1996 ResNet projects included very strong financial analysis, which greatly impressed the finance committee.  Peeter knew that the decision-makers wanted to see the bottom line numbers, and Peeter provided them as well as detailed rationale for how he got them.  He prepared a five-year cash flow analysis of all costs and benefits, clearly defined major assumptions, and described the basis for all of his projections.  It was obvious to the finance committee that Peeter knew what he was doing.  They also appreciated the fact that someone leading a major information technology project was driven by business needs instead of technology need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327C24F-8294-44FD-AF99-060AEFEDA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3. ResNet 1995-96 Financial Summary</a:t>
            </a:r>
            <a:endParaRPr b="1" lang="en-US" sz="4400" spc="-1" strike="noStrike">
              <a:solidFill>
                <a:srgbClr val="000000"/>
              </a:solidFill>
              <a:latin typeface="Times New Roman"/>
            </a:endParaRPr>
          </a:p>
        </p:txBody>
      </p:sp>
      <p:graphicFrame>
        <p:nvGraphicFramePr>
          <p:cNvPr id="211" name=""/>
          <p:cNvGraphicFramePr/>
          <p:nvPr/>
        </p:nvGraphicFramePr>
        <p:xfrm>
          <a:off x="758880" y="1905120"/>
          <a:ext cx="8024760" cy="2311200"/>
        </p:xfrm>
        <a:graphic>
          <a:graphicData uri="http://schemas.openxmlformats.org/presentationml/2006/ole">
            <p:oleObj progId="Word.Document.12" r:id="rId1" spid="">
              <p:embed/>
              <p:pic>
                <p:nvPicPr>
                  <p:cNvPr id="212" name="" descr=""/>
                  <p:cNvPicPr/>
                  <p:nvPr/>
                </p:nvPicPr>
                <p:blipFill>
                  <a:blip r:embed="rId2"/>
                  <a:stretch/>
                </p:blipFill>
                <p:spPr>
                  <a:xfrm>
                    <a:off x="758880" y="1905120"/>
                    <a:ext cx="8024760" cy="2311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5316556-FA6C-4214-A1C9-C54D032BF4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360"/>
            <a:ext cx="83818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e 12-2.  Sample ResNet Screen</a:t>
            </a:r>
            <a:endParaRPr b="1" lang="en-US" sz="4000" spc="-1" strike="noStrike">
              <a:solidFill>
                <a:srgbClr val="000000"/>
              </a:solidFill>
              <a:latin typeface="Times New Roman"/>
            </a:endParaRPr>
          </a:p>
        </p:txBody>
      </p:sp>
      <p:pic>
        <p:nvPicPr>
          <p:cNvPr id="214" name="" descr=""/>
          <p:cNvPicPr/>
          <p:nvPr/>
        </p:nvPicPr>
        <p:blipFill>
          <a:blip r:embed="rId1"/>
          <a:stretch/>
        </p:blipFill>
        <p:spPr>
          <a:xfrm>
            <a:off x="609480" y="609480"/>
            <a:ext cx="8153640" cy="6126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9A1BA1B-5817-4C47-BB3F-74ADE1D8EA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What ResNet is to PARS Is Like What AT&amp;T Is to Two Sticks and a Hollow Log”</a:t>
            </a:r>
            <a:endParaRPr b="1" lang="en-US" sz="3200" spc="-1" strike="noStrike">
              <a:solidFill>
                <a:srgbClr val="000000"/>
              </a:solidFill>
              <a:latin typeface="Times New Roman"/>
            </a:endParaRPr>
          </a:p>
        </p:txBody>
      </p:sp>
      <p:sp>
        <p:nvSpPr>
          <p:cNvPr id="21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tegrated information from different areas and put it all on one scree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ext-appropriate sales messages helped agents provide customers with information that would help close a sal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ensured accuracy and consistency in call handl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E54ACFC-1984-49F7-80AF-EC9F3F8CDA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ening Case</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apters 12-15 are all based on a real case study</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Beauchine, VP of Reservations at Northwest Airlines (NWA), sponsored the ResNet projec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Kivestu, a marketing director, was the project manager for ResNe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was the first information technology project led by non-technical managers at NWA</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138CC90-A0E7-4A60-82F0-6BB188B7C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2280"/>
            <a:ext cx="84582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2-3.  Executive Summary for Justifying ResNet Project</a:t>
            </a:r>
            <a:endParaRPr b="1" lang="en-US" sz="2400" spc="-1" strike="noStrike">
              <a:solidFill>
                <a:srgbClr val="000000"/>
              </a:solidFill>
              <a:latin typeface="Times New Roman"/>
            </a:endParaRPr>
          </a:p>
        </p:txBody>
      </p:sp>
      <p:sp>
        <p:nvSpPr>
          <p:cNvPr id="218" name=""/>
          <p:cNvSpPr/>
          <p:nvPr/>
        </p:nvSpPr>
        <p:spPr>
          <a:xfrm>
            <a:off x="762120" y="762120"/>
            <a:ext cx="8381880" cy="677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orthwest Reservations offices currently operate with the PARS reservations system using 30 year old technology.  As a result, reservations agents must remember cryptic commands to access vast amounts of quickly changing marketing information.  Because of the inflexibility of the current system, the time, and consequently the cost of taking a reservation is difficult to manage, agents are not able to consistently follow procedures, and training costs are high.  Most of Northwest's competitors, and now also travel agencies, have been aggressively addressing reservations inefficiencies by installing intelligent reservations terminals.  These airlines and agencies have realized significant operating improvement through cost savings and revenue enhancements.</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arketing requests approval to install intelligent sales terminals - to be called ResNet - in the eight domestic Reservations Sales offices, in the new Chisholm WorldPerks office, and in the Sales Action Center.  The 5 year NPV of the project is $37.7 M.</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re is limited downside risk to the project as it has been proven in a National Sales beta test at NW and similar versions of the product are in service with many domestic and international competitors.  As the extensions of the applications are built for other parts of Reservations, they will be built to the same standards as the current applications.  Of the total one-time costs to implement ResNet, the majority (65%) is hardware or facility related.</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Furthermore, there are substantial upside benefits possible.  The software is a small part of the total cost of the system, but can be modified without change to the hardware to accommodate a wide variety of revenue enhancing and cost reducing add-ons to the base software.  Because the software chosen for this application and the ability of the reservations users to complete many of their own enhancements, rapid deployment of new functionality throughout the project term will be encouraged.</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2FB5FA1-9A62-4520-A6AA-593DE4AB63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Project Charter</a:t>
            </a:r>
            <a:endParaRPr b="1" lang="en-US" sz="4400" spc="-1" strike="noStrike">
              <a:solidFill>
                <a:srgbClr val="000000"/>
              </a:solidFill>
              <a:latin typeface="Times New Roman"/>
            </a:endParaRPr>
          </a:p>
        </p:txBody>
      </p:sp>
      <p:sp>
        <p:nvSpPr>
          <p:cNvPr id="220"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did not use official project charters in the early 1990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ceiving formal budget approval was the main means for chartering project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roject plan for ResNet was called a Purchase Request 2 (PR2), which included information on the project, technical, development, applications, operations, and change management approach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65DA545-7ED1-4263-803A-183FAD01FB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4. Next Steps After Beta ResNet Project</a:t>
            </a:r>
            <a:endParaRPr b="1" lang="en-US" sz="4400" spc="-1" strike="noStrike">
              <a:solidFill>
                <a:srgbClr val="000000"/>
              </a:solidFill>
              <a:latin typeface="Times New Roman"/>
            </a:endParaRPr>
          </a:p>
        </p:txBody>
      </p:sp>
      <p:graphicFrame>
        <p:nvGraphicFramePr>
          <p:cNvPr id="222" name=""/>
          <p:cNvGraphicFramePr/>
          <p:nvPr/>
        </p:nvGraphicFramePr>
        <p:xfrm>
          <a:off x="1066680" y="1905120"/>
          <a:ext cx="11125440" cy="2868480"/>
        </p:xfrm>
        <a:graphic>
          <a:graphicData uri="http://schemas.openxmlformats.org/presentationml/2006/ole">
            <p:oleObj progId="Word.Document.12" r:id="rId1" spid="">
              <p:embed/>
              <p:pic>
                <p:nvPicPr>
                  <p:cNvPr id="223" name="" descr=""/>
                  <p:cNvPicPr/>
                  <p:nvPr/>
                </p:nvPicPr>
                <p:blipFill>
                  <a:blip r:embed="rId2"/>
                  <a:stretch/>
                </p:blipFill>
                <p:spPr>
                  <a:xfrm>
                    <a:off x="1066680" y="1905120"/>
                    <a:ext cx="11125440" cy="2868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10A94A6-A95A-4FF7-93BE-7DA4BE576B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tions of the Project Manager and Senior Management in Project Initiation</a:t>
            </a:r>
            <a:endParaRPr b="1" lang="en-US" sz="3600" spc="-1" strike="noStrike">
              <a:solidFill>
                <a:srgbClr val="000000"/>
              </a:solidFill>
              <a:latin typeface="Times New Roman"/>
            </a:endParaRPr>
          </a:p>
        </p:txBody>
      </p:sp>
      <p:sp>
        <p:nvSpPr>
          <p:cNvPr id="22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ickly assembling a strong project team</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Getting key stakeholders involved in the project early</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paring detailed analysis of the business problem and developing project measurement techniqu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sing a phased approach</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paring useful, realistic plans for the projec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B889B11-B99F-449D-ADC3-7933795796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27" name="PlaceHolder 2"/>
          <p:cNvSpPr>
            <a:spLocks noGrp="1"/>
          </p:cNvSpPr>
          <p:nvPr>
            <p:ph/>
          </p:nvPr>
        </p:nvSpPr>
        <p:spPr>
          <a:xfrm>
            <a:off x="956880" y="456840"/>
            <a:ext cx="8186760" cy="4791240"/>
          </a:xfrm>
          <a:prstGeom prst="rect">
            <a:avLst/>
          </a:prstGeom>
          <a:noFill/>
          <a:ln w="0">
            <a:noFill/>
          </a:ln>
        </p:spPr>
        <p:txBody>
          <a:bodyPr lIns="92160" rIns="92160" tIns="46080" bIns="46080" anchor="t">
            <a:normAutofit fontScale="93000"/>
          </a:bodyPr>
          <a:p>
            <a:pPr lvl="2" marL="106272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was Fay's role in initiating ResNet?  Why did she succeed when other NWA employees in the Information Systems department had similar ideas years earlier?</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were some of Peeter's strengths as a project manager?  How do these strengths relate to concepts discussed in earlier chapters?</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executive summary Peeter prepared to help justify investing in ResNet.  What points were made to convince the finance committee to support the project?</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major differences between the three ResNet projects.  What was the emphasis for each project?  How might each be managed differently?</a:t>
            </a:r>
            <a:endParaRPr b="1" lang="en-US" sz="24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A896D3C-5A45-42C9-B35F-36CC7A938C3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Project Initiation?</a:t>
            </a:r>
            <a:endParaRPr b="1" lang="en-US" sz="4400" spc="-1" strike="noStrike">
              <a:solidFill>
                <a:srgbClr val="000000"/>
              </a:solidFill>
              <a:latin typeface="Times New Roman"/>
            </a:endParaRPr>
          </a:p>
        </p:txBody>
      </p:sp>
      <p:sp>
        <p:nvSpPr>
          <p:cNvPr id="181"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itiating is the process of recognizing and starting a new project or project phase</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critical to ensure that the right kinds of projects are being initiated for the right reason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better to have moderate or een a small amount of success on an important project than huge success on an unimportant 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839C422-E106-4765-AA95-B56C828295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orting Explicit Business Objectives</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ost important reason for initiating IT projects is to support explicit business objectiv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was having financial difficulties in the early 1990s, so reducing costs was a key business objectiv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would help stop the financial drain caused by the reservation call cent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FB27C34-DC97-4932-99A4-8ECABBA1F3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1. Initiating Processes and Outputs</a:t>
            </a:r>
            <a:endParaRPr b="1" lang="en-US" sz="4400" spc="-1" strike="noStrike">
              <a:solidFill>
                <a:srgbClr val="000000"/>
              </a:solidFill>
              <a:latin typeface="Times New Roman"/>
            </a:endParaRPr>
          </a:p>
        </p:txBody>
      </p:sp>
      <p:graphicFrame>
        <p:nvGraphicFramePr>
          <p:cNvPr id="185" name=""/>
          <p:cNvGraphicFramePr/>
          <p:nvPr/>
        </p:nvGraphicFramePr>
        <p:xfrm>
          <a:off x="987480" y="1974960"/>
          <a:ext cx="10424880" cy="2063520"/>
        </p:xfrm>
        <a:graphic>
          <a:graphicData uri="http://schemas.openxmlformats.org/presentationml/2006/ole">
            <p:oleObj progId="Word.Document.12" r:id="rId1" spid="">
              <p:embed/>
              <p:pic>
                <p:nvPicPr>
                  <p:cNvPr id="186" name="" descr=""/>
                  <p:cNvPicPr/>
                  <p:nvPr/>
                </p:nvPicPr>
                <p:blipFill>
                  <a:blip r:embed="rId2"/>
                  <a:stretch/>
                </p:blipFill>
                <p:spPr>
                  <a:xfrm>
                    <a:off x="987480" y="1974960"/>
                    <a:ext cx="10424880" cy="2063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C1578D0-CD17-4AC3-886B-70AD8EF4D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on Northwest Airlines (NWA)</a:t>
            </a:r>
            <a:endParaRPr b="1" lang="en-US" sz="4400" spc="-1" strike="noStrike">
              <a:solidFill>
                <a:srgbClr val="000000"/>
              </a:solidFill>
              <a:latin typeface="Times New Roman"/>
            </a:endParaRPr>
          </a:p>
        </p:txBody>
      </p:sp>
      <p:sp>
        <p:nvSpPr>
          <p:cNvPr id="188"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rthwest Airlines (</a:t>
            </a:r>
            <a:r>
              <a:rPr b="1" lang="en-US" sz="3200" spc="-1" strike="noStrike" u="sng">
                <a:solidFill>
                  <a:srgbClr val="999933"/>
                </a:solidFill>
                <a:uFillTx/>
                <a:latin typeface="Arial"/>
                <a:hlinkClick r:id="rId1"/>
              </a:rPr>
              <a:t>www.</a:t>
            </a:r>
            <a:r>
              <a:rPr b="1" lang="en-US" sz="3200" spc="-1" strike="noStrike" u="sng">
                <a:solidFill>
                  <a:srgbClr val="999933"/>
                </a:solidFill>
                <a:uFillTx/>
                <a:latin typeface="Arial"/>
                <a:hlinkClick r:id="rId2"/>
              </a:rPr>
              <a:t>nwa</a:t>
            </a:r>
            <a:r>
              <a:rPr b="1" lang="en-US" sz="3200" spc="-1" strike="noStrike" u="sng">
                <a:solidFill>
                  <a:srgbClr val="999933"/>
                </a:solidFill>
                <a:uFillTx/>
                <a:latin typeface="Arial"/>
                <a:hlinkClick r:id="rId3"/>
              </a:rPr>
              <a:t>.com</a:t>
            </a:r>
            <a:r>
              <a:rPr b="1" lang="en-US" sz="3200" spc="-1" strike="noStrike">
                <a:solidFill>
                  <a:srgbClr val="333300"/>
                </a:solidFill>
                <a:latin typeface="Arial"/>
              </a:rPr>
              <a:t>) is the world’s fourth largest airline and America’s oldest carrier</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1998, NWA had over 50,000 employees worldwide</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system used 3,000 dumb terminals in the early 1990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process was becoming more complex, and the call centers were losing money </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0596C2B-9D44-429A-AA69-32B5B8ABFD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on ResNet</a:t>
            </a:r>
            <a:endParaRPr b="1" lang="en-US" sz="4400" spc="-1" strike="noStrike">
              <a:solidFill>
                <a:srgbClr val="000000"/>
              </a:solidFill>
              <a:latin typeface="Times New Roman"/>
            </a:endParaRPr>
          </a:p>
        </p:txBody>
      </p:sp>
      <p:sp>
        <p:nvSpPr>
          <p:cNvPr id="190"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system before ResNet was PAR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ervation agents had to use cryptic commands to use the old system</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l information was on one character-based screen </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regulation and new marketing initiatives complicated the reservation proces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all times were increas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39766AA-8501-470C-A0BE-5B4D3AA7D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0456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2-1.  Sample Reservation Screen Before ResNet</a:t>
            </a:r>
            <a:endParaRPr b="1" lang="en-US" sz="4400" spc="-1" strike="noStrike">
              <a:solidFill>
                <a:srgbClr val="000000"/>
              </a:solidFill>
              <a:latin typeface="Times New Roman"/>
            </a:endParaRPr>
          </a:p>
        </p:txBody>
      </p:sp>
      <p:pic>
        <p:nvPicPr>
          <p:cNvPr id="192" name="" descr=""/>
          <p:cNvPicPr/>
          <p:nvPr/>
        </p:nvPicPr>
        <p:blipFill>
          <a:blip r:embed="rId1"/>
          <a:stretch/>
        </p:blipFill>
        <p:spPr>
          <a:xfrm>
            <a:off x="762120" y="1447920"/>
            <a:ext cx="8153280" cy="30877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C8FDC51-A61C-428C-B526-8CE2FD0D96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cus on Making Direct Sales</a:t>
            </a:r>
            <a:endParaRPr b="1" lang="en-US" sz="4400" spc="-1" strike="noStrike">
              <a:solidFill>
                <a:srgbClr val="000000"/>
              </a:solidFill>
              <a:latin typeface="Times New Roman"/>
            </a:endParaRPr>
          </a:p>
        </p:txBody>
      </p:sp>
      <p:sp>
        <p:nvSpPr>
          <p:cNvPr id="19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Beauchines’ vision was to change the focus of the call centers from just information and service to sal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king a direct sale saved NWA commission fees of 13% plus 18% in overhead cost saving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new reservation system was needed to help agents make direct sal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B36F158-0C59-48AD-87B5-EBC2C79C38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6:29:58Z</cp:lastPrinted>
  <dcterms:modified xsi:type="dcterms:W3CDTF">1999-08-17T16:56:26Z</dcterms:modified>
  <cp:revision>238</cp:revision>
  <dc:subject/>
  <dc:title>No Slide Title</dc:title>
</cp:coreProperties>
</file>