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780980-6705-454E-9525-AFC0B77246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1CA68B-A0C9-4A8E-9A5F-BDE871D25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7676FD-D7E4-40AD-9D95-0B4F1B1E9C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EC2460-B8BE-4317-8273-D1576F6DA5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EECAF5-CB24-499F-9784-E04273E109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B61DB0-2DA6-438F-A112-6A7615317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A1A218-A01A-4D28-A280-36A64BF9C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500FA-C9BB-4380-A146-8CA1C0D81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1B8166-7352-44E3-8C97-A151E92BF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6404F1-0D03-4DC8-9BCB-28403E7FF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AA941-6D42-44B5-B186-6C44E5063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0DF760-E4C8-4951-8517-76E04BD798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2D9CA-91E2-42F8-BAE5-6A68D91CF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71063-4BC6-4E23-927A-679378422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A350E1-1939-4150-874A-C38C4A19B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9AECD0-A089-40C1-8ACD-3FEB08C14F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D29852-BBC1-43FB-923E-4117259985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BD843F-BF78-4EBF-A3B2-6D0D73F37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0270E7-BA53-438E-AD38-B2EAF2288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752FBF-2880-4BD1-AC55-61C5F08DE0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C0C764-29BF-4E1C-95EF-5FFF11E384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B8C51A-D356-492B-8CE2-C35734D97D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FA3AE0-098B-4C88-91AB-5570B2AC0B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67821A-7A27-480F-B5D1-9BD74129B1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892F-BFBB-41F2-9154-9356CC3E44F5}"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537A-E187-4576-B2DB-1F29DB909897}"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1:</a:t>
            </a:r>
            <a:br>
              <a:rPr sz="4800"/>
            </a:br>
            <a:r>
              <a:rPr b="1" lang="en-US" sz="4800" spc="-1" strike="noStrike">
                <a:solidFill>
                  <a:srgbClr val="000000"/>
                </a:solidFill>
                <a:latin typeface="Times New Roman"/>
              </a:rPr>
              <a:t>Project Procurement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752E6AD8-F7C2-4E22-8051-EA5DE97C9B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Reimbursable Contracts</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incentive fee (CPIF): the buyer pays the seller for allowable performance costs plus a predetermined fee and an incentive bonu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fixed fee (CPFF): the buyer pays the seller for allowable performance costs plus a fixed fee payment usually based on a percentage of estimated cost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percentage of costs (CPPC): the buyer pays the seller for allowable performance costs plus a predetermined percentage based on total costs</a:t>
            </a:r>
            <a:endParaRPr b="1" lang="en-US" sz="2800" spc="-1" strike="noStrike">
              <a:solidFill>
                <a:srgbClr val="3333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F794B1E-2E0B-4481-BB75-BA821F45D3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2. Contract Types Versus Risk</a:t>
            </a:r>
            <a:endParaRPr b="1" lang="en-US" sz="4400" spc="-1" strike="noStrike">
              <a:solidFill>
                <a:srgbClr val="000000"/>
              </a:solidFill>
              <a:latin typeface="Times New Roman"/>
            </a:endParaRPr>
          </a:p>
        </p:txBody>
      </p:sp>
      <p:pic>
        <p:nvPicPr>
          <p:cNvPr id="197" name="" descr=""/>
          <p:cNvPicPr/>
          <p:nvPr/>
        </p:nvPicPr>
        <p:blipFill>
          <a:blip r:embed="rId1"/>
          <a:stretch/>
        </p:blipFill>
        <p:spPr>
          <a:xfrm>
            <a:off x="838080" y="1752480"/>
            <a:ext cx="8305920" cy="286884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0966D73-A60E-4CE0-863D-14F7F23FCC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ement of Work (SOW)</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statement of work is a description of the work required for the procuremen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contracts, mutually binding agreements, include SOW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good SOW gives bidders a better understanding of the buyer’s expecta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18CA16B-1F95-4E76-BB3E-35049E0ABC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3. Statement of Work (SOW) Template</a:t>
            </a:r>
            <a:endParaRPr b="1" lang="en-US" sz="4400" spc="-1" strike="noStrike">
              <a:solidFill>
                <a:srgbClr val="000000"/>
              </a:solidFill>
              <a:latin typeface="Times New Roman"/>
            </a:endParaRPr>
          </a:p>
        </p:txBody>
      </p:sp>
      <p:graphicFrame>
        <p:nvGraphicFramePr>
          <p:cNvPr id="201" name=""/>
          <p:cNvGraphicFramePr/>
          <p:nvPr/>
        </p:nvGraphicFramePr>
        <p:xfrm>
          <a:off x="838080" y="1371600"/>
          <a:ext cx="7772400" cy="4649760"/>
        </p:xfrm>
        <a:graphic>
          <a:graphicData uri="http://schemas.openxmlformats.org/presentationml/2006/ole">
            <p:oleObj progId="Word.Document.12" r:id="rId1" spid="">
              <p:embed/>
              <p:pic>
                <p:nvPicPr>
                  <p:cNvPr id="202" name="" descr=""/>
                  <p:cNvPicPr/>
                  <p:nvPr/>
                </p:nvPicPr>
                <p:blipFill>
                  <a:blip r:embed="rId2"/>
                  <a:stretch/>
                </p:blipFill>
                <p:spPr>
                  <a:xfrm>
                    <a:off x="838080" y="1371600"/>
                    <a:ext cx="7772400" cy="4649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5375E8B-ED3D-4FAA-954D-809ADFCCC5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licitation Planning</a:t>
            </a:r>
            <a:endParaRPr b="1" lang="en-US" sz="4400" spc="-1" strike="noStrike">
              <a:solidFill>
                <a:srgbClr val="000000"/>
              </a:solidFill>
              <a:latin typeface="Times New Roman"/>
            </a:endParaRPr>
          </a:p>
        </p:txBody>
      </p:sp>
      <p:sp>
        <p:nvSpPr>
          <p:cNvPr id="204"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licitation planning involves preparing several documents:</a:t>
            </a:r>
            <a:endParaRPr b="1" lang="en-US" sz="32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est for Proposals: used to solicit proposals from prospective sellers where there are several ways to meet the sellers’ needs</a:t>
            </a:r>
            <a:endParaRPr b="1" lang="en-US" sz="28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ests for Quotes: used to solicit quotes for well-defined procurements</a:t>
            </a:r>
            <a:endParaRPr b="1" lang="en-US" sz="28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vitations for bid or negotiation and initial contractor responses are also part of solicitation planning</a:t>
            </a:r>
            <a:endParaRPr b="1" lang="en-US" sz="2800" spc="-1" strike="noStrike">
              <a:solidFill>
                <a:srgbClr val="333300"/>
              </a:solidFill>
              <a:latin typeface="Arial"/>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FD129CE-CCD1-47B4-9E69-A1654D85A7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4. Outline for a Request for Proposal (RFP)</a:t>
            </a:r>
            <a:endParaRPr b="1" lang="en-US" sz="4400" spc="-1" strike="noStrike">
              <a:solidFill>
                <a:srgbClr val="000000"/>
              </a:solidFill>
              <a:latin typeface="Times New Roman"/>
            </a:endParaRPr>
          </a:p>
        </p:txBody>
      </p:sp>
      <p:graphicFrame>
        <p:nvGraphicFramePr>
          <p:cNvPr id="206" name=""/>
          <p:cNvGraphicFramePr/>
          <p:nvPr/>
        </p:nvGraphicFramePr>
        <p:xfrm>
          <a:off x="990720" y="1600200"/>
          <a:ext cx="8153280" cy="4368960"/>
        </p:xfrm>
        <a:graphic>
          <a:graphicData uri="http://schemas.openxmlformats.org/presentationml/2006/ole">
            <p:oleObj progId="Word.Document.12" r:id="rId1" spid="">
              <p:embed/>
              <p:pic>
                <p:nvPicPr>
                  <p:cNvPr id="207" name="" descr=""/>
                  <p:cNvPicPr/>
                  <p:nvPr/>
                </p:nvPicPr>
                <p:blipFill>
                  <a:blip r:embed="rId2"/>
                  <a:stretch/>
                </p:blipFill>
                <p:spPr>
                  <a:xfrm>
                    <a:off x="990720" y="1600200"/>
                    <a:ext cx="8153280" cy="43689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7BC5AEE-39BA-4C4F-817F-EF57D3D27F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licitation</a:t>
            </a:r>
            <a:endParaRPr b="1" lang="en-US" sz="4400" spc="-1" strike="noStrike">
              <a:solidFill>
                <a:srgbClr val="000000"/>
              </a:solidFill>
              <a:latin typeface="Times New Roman"/>
            </a:endParaRPr>
          </a:p>
        </p:txBody>
      </p:sp>
      <p:sp>
        <p:nvSpPr>
          <p:cNvPr id="209"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licitation involves obtaining proposals or bids from prospective sellers</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rganizations can advertise to procure goods and services in several ways</a:t>
            </a:r>
            <a:endParaRPr b="1" lang="en-US" sz="32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pproaching the preferred vendor</a:t>
            </a:r>
            <a:endParaRPr b="1" lang="en-US" sz="28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pproaching several potential vendors</a:t>
            </a:r>
            <a:endParaRPr b="1" lang="en-US" sz="28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dvertising to anyone interested</a:t>
            </a:r>
            <a:endParaRPr b="1" lang="en-US" sz="28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bidders’ conference can help clarify the buyer’s expectations</a:t>
            </a:r>
            <a:endParaRPr b="1" lang="en-US" sz="3200" spc="-1" strike="noStrike">
              <a:solidFill>
                <a:srgbClr val="3333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3500D39-69C2-41EC-A365-622EE7C1A2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urce Selection</a:t>
            </a:r>
            <a:endParaRPr b="1" lang="en-US" sz="4400" spc="-1" strike="noStrike">
              <a:solidFill>
                <a:srgbClr val="000000"/>
              </a:solidFill>
              <a:latin typeface="Times New Roman"/>
            </a:endParaRPr>
          </a:p>
        </p:txBody>
      </p:sp>
      <p:sp>
        <p:nvSpPr>
          <p:cNvPr id="21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urce selection involves</a:t>
            </a:r>
            <a:endParaRPr b="1" lang="en-US" sz="32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valuating bidders’ proposals</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oosing the best on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egotiating the contract</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warding the contract</a:t>
            </a:r>
            <a:r>
              <a:rPr b="1" lang="en-US" sz="2800" spc="-1" strike="noStrike">
                <a:solidFill>
                  <a:srgbClr val="333300"/>
                </a:solidFill>
                <a:latin typeface="Arial"/>
              </a:rPr>
              <a:t>	</a:t>
            </a:r>
            <a:r>
              <a:rPr b="1" lang="en-US" sz="2800" spc="-1" strike="noStrike">
                <a:solidFill>
                  <a:srgbClr val="333300"/>
                </a:solidFill>
                <a:latin typeface="Arial"/>
              </a:rPr>
              <a:t>	</a:t>
            </a:r>
            <a:endParaRPr b="1" lang="en-US" sz="28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helpful to prepare formal evaluation procedures for selecting vendors</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uyers often create a “short lis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6D0BCC0-353F-422F-92B9-064333DFD1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5. Sample Proposal Evaluation Sheet</a:t>
            </a:r>
            <a:endParaRPr b="1" lang="en-US" sz="4400" spc="-1" strike="noStrike">
              <a:solidFill>
                <a:srgbClr val="000000"/>
              </a:solidFill>
              <a:latin typeface="Times New Roman"/>
            </a:endParaRPr>
          </a:p>
        </p:txBody>
      </p:sp>
      <p:pic>
        <p:nvPicPr>
          <p:cNvPr id="213" name="" descr=""/>
          <p:cNvPicPr/>
          <p:nvPr/>
        </p:nvPicPr>
        <p:blipFill>
          <a:blip r:embed="rId1"/>
          <a:stretch/>
        </p:blipFill>
        <p:spPr>
          <a:xfrm>
            <a:off x="838080" y="1552680"/>
            <a:ext cx="8305920" cy="38196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E884388-52C8-4F6A-B3E3-2DBF59225E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6. Detailed Criteria for Selecting Vendors</a:t>
            </a:r>
            <a:endParaRPr b="1" lang="en-US" sz="4400" spc="-1" strike="noStrike">
              <a:solidFill>
                <a:srgbClr val="000000"/>
              </a:solidFill>
              <a:latin typeface="Times New Roman"/>
            </a:endParaRPr>
          </a:p>
        </p:txBody>
      </p:sp>
      <p:pic>
        <p:nvPicPr>
          <p:cNvPr id="215" name="" descr=""/>
          <p:cNvPicPr/>
          <p:nvPr/>
        </p:nvPicPr>
        <p:blipFill>
          <a:blip r:embed="rId1"/>
          <a:stretch/>
        </p:blipFill>
        <p:spPr>
          <a:xfrm>
            <a:off x="762120" y="1371600"/>
            <a:ext cx="7772400" cy="49258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B5BBCD8-F314-4860-9FD0-3CD8204A3D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Project Procurement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means acquiring goods and/or services from an outside sourc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terms include purchasing and outsourc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predict that by the year 2000 the worldwide information technology outsourcing market will grow to over $100 bill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50EA856-4B55-466B-BC6D-82B444C82C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act Administra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 administration ensures that the seller’s performance meets contractual requirement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s are legal relationships, so it is important that legal and contracting professionals be involved in writing and administering contract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roject managers ignore contractual issues, which can result in serious problems (see What Went Wro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88483A5-5B20-46F7-BDAD-B92596F154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ggestions on Change Control for Contracts</a:t>
            </a:r>
            <a:endParaRPr b="1" lang="en-US" sz="3200" spc="-1" strike="noStrike">
              <a:solidFill>
                <a:srgbClr val="000000"/>
              </a:solidFill>
              <a:latin typeface="Times New Roman"/>
            </a:endParaRPr>
          </a:p>
        </p:txBody>
      </p:sp>
      <p:sp>
        <p:nvSpPr>
          <p:cNvPr id="219"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3000"/>
          </a:bodyPr>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anges to any part of the project need to be reviewed, approved, and documented by the same people in the same way that the original part of the plan was approved</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valuation of any change should include an impact analysis. How will the change affect the scope, time, cost, and quality of the goods or services being provided? </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anges must be documented in writing. Project team members should also document all important meetings and telephone phone calls</a:t>
            </a:r>
            <a:endParaRPr b="1" lang="en-US" sz="28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3705063-A64A-4511-BA7C-D41F8A7B82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act Close-out</a:t>
            </a:r>
            <a:endParaRPr b="1" lang="en-US" sz="4400" spc="-1" strike="noStrike">
              <a:solidFill>
                <a:srgbClr val="000000"/>
              </a:solidFill>
              <a:latin typeface="Times New Roman"/>
            </a:endParaRPr>
          </a:p>
        </p:txBody>
      </p:sp>
      <p:sp>
        <p:nvSpPr>
          <p:cNvPr id="22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 close-out includes</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duct verification to determine if all work was completed correctly and satisfactoril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dministrative activities to update records to reflect final result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chiving information for future use</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audits identify lessons learned in the procurement proces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5B931A9-5F51-4C5E-B1BD-6E1C49DD9C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23" name="PlaceHolder 2"/>
          <p:cNvSpPr>
            <a:spLocks noGrp="1"/>
          </p:cNvSpPr>
          <p:nvPr>
            <p:ph/>
          </p:nvPr>
        </p:nvSpPr>
        <p:spPr>
          <a:xfrm>
            <a:off x="685440" y="228240"/>
            <a:ext cx="8186760" cy="4791240"/>
          </a:xfrm>
          <a:prstGeom prst="rect">
            <a:avLst/>
          </a:prstGeom>
          <a:noFill/>
          <a:ln w="0">
            <a:noFill/>
          </a:ln>
        </p:spPr>
        <p:txBody>
          <a:bodyPr lIns="92160" rIns="92160" tIns="46080" bIns="46080" anchor="t">
            <a:normAutofit fontScale="88000"/>
          </a:bodyPr>
          <a:p>
            <a:pPr lvl="2" marL="100584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uss the scenario in the opening case. Have you experienced similar situations? How did the parties involved handle them?</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vide examples of information technology goods and services that were outsourced. Which were for information technology projects and which were parts of on-going operations? Was it advantageous for the organization to use outsourcing?</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experts recommend working with preferred vendors, even if their prices may be higher than other vendors.  Why do you think this is the case?</a:t>
            </a: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49B3F6E-6748-4A9D-9023-FC09981612E9}"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Outsource?</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reduce both fixed and recurrent cos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allow the client organization to focus on its core busin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access skills and technolog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provide flexibilit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increase accountability</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8F319CA-4576-41BB-AE0E-D7B9A939DC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Procurement Management Processes</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8000"/>
          </a:bodyPr>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curement planning: determining what to procure and when</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licitation planning: documenting product requirements and identifying potential sources</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licitation: obtaining quotations, bids, offers, or proposals as appropriate</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urce selection: choosing from among potential vendors</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ntract administration: managing the relationship with the vendor</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ntract close-out: completion and settlement of the contrac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44EC18A-B5EC-4C87-8E4F-25D5064E70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1-1. Project Procurement Management Processes and Key Outputs</a:t>
            </a:r>
            <a:endParaRPr b="1" lang="en-US" sz="3600" spc="-1" strike="noStrike">
              <a:solidFill>
                <a:srgbClr val="000000"/>
              </a:solidFill>
              <a:latin typeface="Times New Roman"/>
            </a:endParaRPr>
          </a:p>
        </p:txBody>
      </p:sp>
      <p:pic>
        <p:nvPicPr>
          <p:cNvPr id="185" name="" descr=""/>
          <p:cNvPicPr/>
          <p:nvPr/>
        </p:nvPicPr>
        <p:blipFill>
          <a:blip r:embed="rId1"/>
          <a:stretch/>
        </p:blipFill>
        <p:spPr>
          <a:xfrm>
            <a:off x="838080" y="1752480"/>
            <a:ext cx="8305920" cy="23716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A655B47-AF16-41F8-A1B5-DCE7C6D61B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ement Planning</a:t>
            </a:r>
            <a:endParaRPr b="1" lang="en-US" sz="4400" spc="-1" strike="noStrike">
              <a:solidFill>
                <a:srgbClr val="000000"/>
              </a:solidFill>
              <a:latin typeface="Times New Roman"/>
            </a:endParaRPr>
          </a:p>
        </p:txBody>
      </p:sp>
      <p:sp>
        <p:nvSpPr>
          <p:cNvPr id="18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planning involves identifying which project needs can be best met by using products or services outside the organization.  It includes deciding</a:t>
            </a:r>
            <a:endParaRPr b="1" lang="en-US" sz="32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ether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much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en to procur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69A6B2A-B151-4D5C-AFA5-9FB56FF193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llaborative Procurement</a:t>
            </a:r>
            <a:endParaRPr b="1" lang="en-US" sz="4400" spc="-1" strike="noStrike">
              <a:solidFill>
                <a:srgbClr val="000000"/>
              </a:solidFill>
              <a:latin typeface="Times New Roman"/>
            </a:endParaRPr>
          </a:p>
        </p:txBody>
      </p:sp>
      <p:sp>
        <p:nvSpPr>
          <p:cNvPr id="18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organizations, even competitors, have found that it makes sense to collaborate on procurement for some proje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odak worked with several competitors to develop the Advantix Advanced Photo System (see What Went Righ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D4E9181-D53B-4CCD-9BAE-85A3B3303E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ement Planning Tools and Techniques</a:t>
            </a:r>
            <a:endParaRPr b="1" lang="en-US" sz="4400" spc="-1" strike="noStrike">
              <a:solidFill>
                <a:srgbClr val="000000"/>
              </a:solidFill>
              <a:latin typeface="Times New Roman"/>
            </a:endParaRPr>
          </a:p>
        </p:txBody>
      </p:sp>
      <p:sp>
        <p:nvSpPr>
          <p:cNvPr id="19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ke-or-buy analysis: determining whether a particular product or service should be made or performed inside the organization or purchased from someone else.  Often involves financial analysi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both internal and external, can provide valuable inputs in procurement decis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22E64DE-0355-4CF6-AF20-855D6744AB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Contracts</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xed price or lump sum: involve a fixed total price for a well-defined product or servic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reimbursable: involve payment to the seller for direct and indirect cos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nit price contracts: require the buyer to pay the seller a predetermined amount per unit of servi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18EE526-25B1-4A70-9E46-22D6397818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Augsburg College Network</cp:lastModifiedBy>
  <cp:lastPrinted>1999-03-08T14:43:06Z</cp:lastPrinted>
  <dcterms:modified xsi:type="dcterms:W3CDTF">1999-08-16T18:55:26Z</dcterms:modified>
  <cp:revision>210</cp:revision>
  <dc:subject/>
  <dc:title>No Slide Title</dc:title>
</cp:coreProperties>
</file>