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BE03E6-33AA-4D43-9A98-EDF35EC423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818676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914040" y="3950280"/>
            <a:ext cx="818676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94FD8C-B331-4676-AFC2-FC4883633A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3994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9120" y="1447920"/>
            <a:ext cx="3994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040" y="3950280"/>
            <a:ext cx="3994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9120" y="3950280"/>
            <a:ext cx="3994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702B69-A1B9-4085-BE5C-2B4951C100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2635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682080" y="1447920"/>
            <a:ext cx="2635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450120" y="1447920"/>
            <a:ext cx="2635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914040" y="3950280"/>
            <a:ext cx="2635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682080" y="3950280"/>
            <a:ext cx="2635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450120" y="3950280"/>
            <a:ext cx="2635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60022A-3637-4A0C-938F-7AFFAAC8EF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47BDA5-7517-4C88-9681-1E8734DB3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914040" y="1447920"/>
            <a:ext cx="8186760" cy="47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E7E27E-B62A-47B6-AF54-B8D722C4E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8186760" cy="479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C01353-DDAB-4C99-9192-147A3A24E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3994920" cy="479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109120" y="1447920"/>
            <a:ext cx="3994920" cy="479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714007-D434-4754-AF0F-E3D86B1E4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343D87-E003-4C0F-B3F4-33265E34B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914400" y="152280"/>
            <a:ext cx="822960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242BE9-2EE4-4719-A7AA-72B0D27F3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3994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109120" y="1447920"/>
            <a:ext cx="3994920" cy="479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914040" y="3950280"/>
            <a:ext cx="3994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0B2978-B16D-4D79-8039-785E8A1E5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914040" y="1447920"/>
            <a:ext cx="8186760" cy="47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C51A79-65BB-4317-B970-52924C078C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3994920" cy="479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109120" y="1447920"/>
            <a:ext cx="3994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109120" y="3950280"/>
            <a:ext cx="3994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FCA65D-241D-4F53-86B5-86A643570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3994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5109120" y="1447920"/>
            <a:ext cx="3994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914040" y="3950280"/>
            <a:ext cx="818676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A896F9-758F-4E2C-9972-3D4F5733B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818676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914040" y="3950280"/>
            <a:ext cx="818676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636677-CAA2-437F-8317-D7D41885E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3994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109120" y="1447920"/>
            <a:ext cx="3994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914040" y="3950280"/>
            <a:ext cx="3994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5109120" y="3950280"/>
            <a:ext cx="3994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61593B-3406-48CA-8D06-418A09A25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2635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682080" y="1447920"/>
            <a:ext cx="2635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450120" y="1447920"/>
            <a:ext cx="2635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914040" y="3950280"/>
            <a:ext cx="2635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682080" y="3950280"/>
            <a:ext cx="2635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450120" y="3950280"/>
            <a:ext cx="2635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5A196C-DC65-4E4B-9526-7EE5BC32D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8186760" cy="479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624015-3B97-42C0-B8F8-327B38FFBC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3994920" cy="479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9120" y="1447920"/>
            <a:ext cx="3994920" cy="479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816DA7-9CFC-4717-8026-0A0EDA7D13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453D98-1871-41DE-B4A7-C5301B980A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914400" y="152280"/>
            <a:ext cx="822960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4E65E1-AA58-4C3E-AF3F-4FAA3A67C4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3994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9120" y="1447920"/>
            <a:ext cx="3994920" cy="479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914040" y="3950280"/>
            <a:ext cx="3994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D0E6F8-426B-431B-98F4-495917F87F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3994920" cy="479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9120" y="1447920"/>
            <a:ext cx="3994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9120" y="3950280"/>
            <a:ext cx="3994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7E5B22-640D-4472-A5CB-276F5CD8C8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3994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9120" y="1447920"/>
            <a:ext cx="3994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040" y="3950280"/>
            <a:ext cx="818676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00E36A-B984-4471-BF6C-2951EEFB1D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14040" y="1447920"/>
            <a:ext cx="8186760" cy="479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990720" y="6416640"/>
            <a:ext cx="266688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5866920" y="6424560"/>
            <a:ext cx="1481400" cy="43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FB2EE-E0C0-4982-84C2-7650FB19989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0"/>
            <a:ext cx="914040" cy="6878520"/>
            <a:chOff x="0" y="0"/>
            <a:chExt cx="914040" cy="6878520"/>
          </a:xfrm>
        </p:grpSpPr>
        <p:sp>
          <p:nvSpPr>
            <p:cNvPr id="5" name=""/>
            <p:cNvSpPr/>
            <p:nvPr/>
          </p:nvSpPr>
          <p:spPr>
            <a:xfrm>
              <a:off x="422280" y="3423960"/>
              <a:ext cx="10584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3423960"/>
              <a:ext cx="2059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06640" y="3423960"/>
              <a:ext cx="21528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28480" y="3438360"/>
              <a:ext cx="19008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06640" y="4194000"/>
              <a:ext cx="32040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06640" y="4625640"/>
              <a:ext cx="32040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06640" y="5033880"/>
              <a:ext cx="32040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6640" y="5438520"/>
              <a:ext cx="32040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06640" y="5846760"/>
              <a:ext cx="32040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280440" y="6251400"/>
              <a:ext cx="24696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06640" y="3765240"/>
              <a:ext cx="32040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06640" y="3423960"/>
              <a:ext cx="3225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22280" y="4680"/>
              <a:ext cx="10584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0" y="4680"/>
              <a:ext cx="2059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06640" y="4680"/>
              <a:ext cx="21528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528480" y="4680"/>
              <a:ext cx="19008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206640" y="798480"/>
              <a:ext cx="32040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206640" y="1206360"/>
              <a:ext cx="32040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206640" y="1612800"/>
              <a:ext cx="32040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206640" y="2019240"/>
              <a:ext cx="32040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06640" y="2425680"/>
              <a:ext cx="32040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204120" y="6642000"/>
              <a:ext cx="32508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206640" y="344160"/>
              <a:ext cx="32040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06640" y="4680"/>
              <a:ext cx="3225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208800" y="0"/>
              <a:ext cx="14328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206640" y="2860560"/>
              <a:ext cx="32040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718560" y="9360"/>
              <a:ext cx="19548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256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01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4" name=""/>
          <p:cNvSpPr/>
          <p:nvPr/>
        </p:nvSpPr>
        <p:spPr>
          <a:xfrm>
            <a:off x="1676520" y="3429000"/>
            <a:ext cx="539280" cy="533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365" y="21585"/>
                </a:moveTo>
                <a:arcTo wR="10800" hR="10800" stAng="5220000" swAng="10980000"/>
                <a:lnTo>
                  <a:pt x="10800" y="10800"/>
                </a:lnTo>
                <a:close/>
              </a:path>
              <a:path fill="none" w="21600" h="21600">
                <a:moveTo>
                  <a:pt x="11365" y="21585"/>
                </a:moveTo>
                <a:arcTo wR="10800" hR="10800" stAng="5220000" swAng="10980000"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grpSp>
        <p:nvGrpSpPr>
          <p:cNvPr id="35" name=""/>
          <p:cNvGrpSpPr/>
          <p:nvPr/>
        </p:nvGrpSpPr>
        <p:grpSpPr>
          <a:xfrm>
            <a:off x="8248680" y="6186600"/>
            <a:ext cx="609480" cy="592200"/>
            <a:chOff x="8248680" y="6186600"/>
            <a:chExt cx="609480" cy="592200"/>
          </a:xfrm>
        </p:grpSpPr>
        <p:sp>
          <p:nvSpPr>
            <p:cNvPr id="36" name=""/>
            <p:cNvSpPr/>
            <p:nvPr/>
          </p:nvSpPr>
          <p:spPr>
            <a:xfrm>
              <a:off x="8248680" y="6186600"/>
              <a:ext cx="609480" cy="592200"/>
            </a:xfrm>
            <a:prstGeom prst="ellipse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307720" y="6242400"/>
              <a:ext cx="491040" cy="479880"/>
            </a:xfrm>
            <a:prstGeom prst="ellipse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8358840" y="6291360"/>
              <a:ext cx="388440" cy="381960"/>
            </a:xfrm>
            <a:prstGeom prst="ellipse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9" name="">
            <a:hlinkClick r:id="" action="ppaction://hlinkshowjump?jump=nextslide"/>
          </p:cNvPr>
          <p:cNvSpPr/>
          <p:nvPr/>
        </p:nvSpPr>
        <p:spPr>
          <a:xfrm rot="5400000">
            <a:off x="8426160" y="6308640"/>
            <a:ext cx="304920" cy="333360"/>
          </a:xfrm>
          <a:prstGeom prst="triangle">
            <a:avLst>
              <a:gd name="adj" fmla="val 50000"/>
            </a:avLst>
          </a:prstGeom>
          <a:solidFill>
            <a:srgbClr val="e5d58a"/>
          </a:solidFill>
          <a:ln cap="sq" w="12600">
            <a:solidFill>
              <a:srgbClr val="66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grpSp>
        <p:nvGrpSpPr>
          <p:cNvPr id="40" name=""/>
          <p:cNvGrpSpPr/>
          <p:nvPr/>
        </p:nvGrpSpPr>
        <p:grpSpPr>
          <a:xfrm>
            <a:off x="7380360" y="6186600"/>
            <a:ext cx="609480" cy="592200"/>
            <a:chOff x="7380360" y="6186600"/>
            <a:chExt cx="609480" cy="592200"/>
          </a:xfrm>
        </p:grpSpPr>
        <p:sp>
          <p:nvSpPr>
            <p:cNvPr id="41" name=""/>
            <p:cNvSpPr/>
            <p:nvPr/>
          </p:nvSpPr>
          <p:spPr>
            <a:xfrm>
              <a:off x="7380360" y="6186600"/>
              <a:ext cx="609480" cy="592200"/>
            </a:xfrm>
            <a:prstGeom prst="ellipse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7439400" y="6242400"/>
              <a:ext cx="491040" cy="479880"/>
            </a:xfrm>
            <a:prstGeom prst="ellipse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7490520" y="6291360"/>
              <a:ext cx="388440" cy="381960"/>
            </a:xfrm>
            <a:prstGeom prst="ellipse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44" name="">
            <a:hlinkClick r:id="" action="ppaction://hlinkshowjump?jump=previousslide"/>
          </p:cNvPr>
          <p:cNvSpPr/>
          <p:nvPr/>
        </p:nvSpPr>
        <p:spPr>
          <a:xfrm flipH="1" rot="16200000">
            <a:off x="7481520" y="6310080"/>
            <a:ext cx="304920" cy="333360"/>
          </a:xfrm>
          <a:prstGeom prst="triangle">
            <a:avLst>
              <a:gd name="adj" fmla="val 50000"/>
            </a:avLst>
          </a:prstGeom>
          <a:solidFill>
            <a:srgbClr val="e5d58a"/>
          </a:solidFill>
          <a:ln cap="sq" w="12600">
            <a:solidFill>
              <a:srgbClr val="66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38160" y="1380600"/>
            <a:ext cx="640404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2819160" y="54100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ftr" idx="4"/>
          </p:nvPr>
        </p:nvSpPr>
        <p:spPr>
          <a:xfrm>
            <a:off x="3362040" y="6319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400800" y="6330960"/>
            <a:ext cx="1481040" cy="43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1F7F7-B6FF-4583-B696-9EBFC188139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86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16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18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19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20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8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29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35" name=""/>
          <p:cNvGrpSpPr/>
          <p:nvPr/>
        </p:nvGrpSpPr>
        <p:grpSpPr>
          <a:xfrm>
            <a:off x="8178840" y="6073920"/>
            <a:ext cx="669960" cy="650880"/>
            <a:chOff x="8178840" y="6073920"/>
            <a:chExt cx="669960" cy="650880"/>
          </a:xfrm>
        </p:grpSpPr>
        <p:sp>
          <p:nvSpPr>
            <p:cNvPr id="136" name=""/>
            <p:cNvSpPr/>
            <p:nvPr/>
          </p:nvSpPr>
          <p:spPr>
            <a:xfrm>
              <a:off x="8178840" y="6073920"/>
              <a:ext cx="669960" cy="650880"/>
            </a:xfrm>
            <a:prstGeom prst="ellipse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8244000" y="6135480"/>
              <a:ext cx="539640" cy="527400"/>
            </a:xfrm>
            <a:prstGeom prst="ellipse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8300160" y="6189120"/>
              <a:ext cx="426960" cy="419760"/>
            </a:xfrm>
            <a:prstGeom prst="ellipse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139" name="">
            <a:hlinkClick r:id="" action="ppaction://hlinkshowjump?jump=nextslide"/>
          </p:cNvPr>
          <p:cNvSpPr/>
          <p:nvPr/>
        </p:nvSpPr>
        <p:spPr>
          <a:xfrm rot="5400000">
            <a:off x="8380440" y="6240240"/>
            <a:ext cx="323640" cy="301680"/>
          </a:xfrm>
          <a:prstGeom prst="triangle">
            <a:avLst>
              <a:gd name="adj" fmla="val 50000"/>
            </a:avLst>
          </a:prstGeom>
          <a:solidFill>
            <a:srgbClr val="e5d58a"/>
          </a:solidFill>
          <a:ln cap="sq" w="12600">
            <a:solidFill>
              <a:srgbClr val="66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file:///Fig9-2.mpp" TargetMode="External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file:///Fig9-3.mpp" TargetMode="Externa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hyperlink" Target="file:///Fig9-4.htm" TargetMode="External"/><Relationship Id="rId3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738160" y="1380600"/>
            <a:ext cx="640404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Chapter 9: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Project Communications Management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99EA30-DACC-4187-BC76-2854248C971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erformance Reporting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56880" y="1219320"/>
            <a:ext cx="8186760" cy="479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Performance reporting keeps stakeholders informed about how resources are being used to achieve project objectives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Status reports describe where the project stands at a specific point in time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Progress reports describe what the project team has accomplished during a certain period of time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Project forecasting predicts future project status and progress based on past information and trends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Status review meetings often include performance reporting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7E85C9-61F1-4209-AA0B-9632603118B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dministrative Closur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8186760" cy="479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A project or phase of a project requires closure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Administrative closure produces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project archives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formal acceptance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lessons learned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7E70B0-2A17-4FD2-9D82-4FAB0B2D6DD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uggestions for Improving Project Communication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8186760" cy="479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Resolve conflicts effectively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Develop better communication skills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Run effective meetings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Use templates for project communications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7E2796-3260-420F-8489-D8B6C380EE1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flict Handling Modes, in Preference Order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8186760" cy="479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Confrontation or problem-solving: directly face a conflict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Compromise: use a give-and-take approach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moothing: de-emphasize areas of differences and emphasize areas of agreement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Forcing: the win-lose approach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Withdrawal: retreat or withdraw from an actual or potential disagreement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663FC3-3ADE-4A1F-AAB9-DA08C74AB4F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igure 9-2. Sample Template for a Project Description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838080" y="533520"/>
            <a:ext cx="8077320" cy="355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00"/>
                </a:solidFill>
                <a:latin typeface="Arial"/>
              </a:rPr>
              <a:t>Objective:</a:t>
            </a:r>
            <a:r>
              <a:rPr b="0" lang="en-US" sz="1800" spc="-1" strike="noStrike">
                <a:solidFill>
                  <a:srgbClr val="333300"/>
                </a:solidFill>
                <a:latin typeface="Arial"/>
              </a:rPr>
              <a:t>  Describe the objective of the project in one or two sentences.  Focus on the business benefits of doing the projec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00"/>
                </a:solidFill>
                <a:latin typeface="Arial"/>
              </a:rPr>
              <a:t>Scope:</a:t>
            </a:r>
            <a:r>
              <a:rPr b="0" lang="en-US" sz="1800" spc="-1" strike="noStrike">
                <a:solidFill>
                  <a:srgbClr val="333300"/>
                </a:solidFill>
                <a:latin typeface="Arial"/>
              </a:rPr>
              <a:t>  Briefly describe the scope of the project.  What business functions are involved, and what are the main products the project will produ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00"/>
                </a:solidFill>
                <a:latin typeface="Arial"/>
              </a:rPr>
              <a:t>Assumptions:</a:t>
            </a:r>
            <a:r>
              <a:rPr b="0" lang="en-US" sz="1800" spc="-1" strike="noStrike">
                <a:solidFill>
                  <a:srgbClr val="333300"/>
                </a:solidFill>
                <a:latin typeface="Arial"/>
              </a:rPr>
              <a:t>  Summarize the most critical assumptions for the projec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00"/>
                </a:solidFill>
                <a:latin typeface="Arial"/>
              </a:rPr>
              <a:t>Cost:</a:t>
            </a:r>
            <a:r>
              <a:rPr b="0" lang="en-US" sz="1800" spc="-1" strike="noStrike">
                <a:solidFill>
                  <a:srgbClr val="333300"/>
                </a:solidFill>
                <a:latin typeface="Arial"/>
              </a:rPr>
              <a:t>  Provide the total estimated cost of the project.  If desired, list the total cost each year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00"/>
                </a:solidFill>
                <a:latin typeface="Arial"/>
              </a:rPr>
              <a:t>Schedule:  </a:t>
            </a:r>
            <a:r>
              <a:rPr b="0" lang="en-US" sz="1800" spc="-1" strike="noStrike">
                <a:solidFill>
                  <a:srgbClr val="333300"/>
                </a:solidFill>
                <a:latin typeface="Arial"/>
              </a:rPr>
              <a:t>Provide summary information from the project’s Gantt chart as shown.  Focus on summary tasks and milestones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838080" y="3581280"/>
            <a:ext cx="8105760" cy="245916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760320" y="6095880"/>
            <a:ext cx="191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9933"/>
                </a:solidFill>
                <a:uFillTx/>
                <a:latin typeface="Times New Roman"/>
                <a:hlinkClick r:id="rId2"/>
              </a:rPr>
              <a:t>Project 98 fil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98C938-7021-405D-B17F-21C184F6509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able 9-2. Sample Template for a Monthly Progress Repor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838080" y="1554120"/>
          <a:ext cx="8305920" cy="4170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554120"/>
                    <a:ext cx="8305920" cy="417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DE4ACE-807C-41E6-B6D4-A34C3080BF4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able 9-3. Sample Template for a Letter of Agreement for a Class Projec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1143000" y="1281240"/>
          <a:ext cx="7696080" cy="4819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281240"/>
                    <a:ext cx="7696080" cy="481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8F1F96-6B2B-461F-9766-3DE3803E15A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able 9-4. Outline for a Final Project Repor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914400" y="1920960"/>
          <a:ext cx="8229600" cy="3392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920960"/>
                    <a:ext cx="8229600" cy="339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05ECE3-6112-42E0-8332-6A769AA11C0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able 9-5. Final Project Documentation Item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1066680" y="1487520"/>
          <a:ext cx="7772400" cy="4305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487520"/>
                    <a:ext cx="7772400" cy="430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B19310-B466-42A9-8DBD-715DF4AA1FC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61760" y="0"/>
            <a:ext cx="8381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igure 9-3.  Gantt Chart Template for a Class Projec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836280" y="6019920"/>
            <a:ext cx="191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Project 98 fil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2"/>
          <a:stretch/>
        </p:blipFill>
        <p:spPr>
          <a:xfrm>
            <a:off x="882720" y="533520"/>
            <a:ext cx="8261280" cy="5391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93653F-0FC3-4F7F-AEC8-92D0D8082A9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mportance of Good Communication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8186760" cy="479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The greatest threat to many projects is a failure to communicate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Our culture does not portray IT professionals as being good communicators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Research shows that IT professionals must be able to communicate effectively to succeed in their positions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trong verbal skills are a key factor in career advancement for IT professionals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5BF524-B300-4EA5-8100-9F8FF4C2350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able 9-6. Guidance for Student’s Lessons Learned Repor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914400" y="1289160"/>
            <a:ext cx="7696080" cy="46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very two weeks or after a major event in your group project, write a brief journal entry describing what happened and how you felt about it. At the end of the term, write a 2-3 page paper describing your lessons learned based on your group project. Answer the following questions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00"/>
                </a:solidFill>
                <a:latin typeface="Times New Roman"/>
              </a:rPr>
              <a:t>What were your roles and responsibilities on the team? How were they decided?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00"/>
                </a:solidFill>
                <a:latin typeface="Times New Roman"/>
              </a:rPr>
              <a:t>What did you like/dislike about the project?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00"/>
                </a:solidFill>
                <a:latin typeface="Times New Roman"/>
              </a:rPr>
              <a:t>What did you learn about project management and yourself by doing the group project?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00"/>
                </a:solidFill>
                <a:latin typeface="Times New Roman"/>
              </a:rPr>
              <a:t>What did you learn about teamwork and yourself by doing the group project?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00"/>
                </a:solidFill>
                <a:latin typeface="Times New Roman"/>
              </a:rPr>
              <a:t>What would you have done differently? What will you remember to do on the next project you work on after this experience?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C1AC43-D933-44C3-B32B-0B0A81A9AC7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883908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veloping a Communications Infrastructur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440" y="685440"/>
            <a:ext cx="8458200" cy="479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A communications infrastructure is a set of tools, techniques, and principles that provide a foundation for the effective transfer of information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ools include e-mail, project management software, groupware, fax machines, telephones, teleconferencing systems, document management systems, and word processors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echniques include reporting guidelines and templates, meeting ground rules and procedures, decision-making processes, problem-solving approaches, and conflict resolution and negotiation techniques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Principles include using open dialog and an agreed upon work ethic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0A79AB-8F1B-49E4-8C74-EDBAC6ED5A4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ing Software to Assist in Project Communication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8186760" cy="479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ere are many software tools to aid in project communications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e What Went Right? Example describes several new web-based and wireless communications tools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Microsoft Project 98 includes several features to enhance communications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DBA63F-3084-4E24-96EE-F818C592954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90360" y="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gure 9-4.  MS Project 98 Information Saved as HTML Fil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1371600" y="457200"/>
            <a:ext cx="5742000" cy="580392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912600" y="6095880"/>
            <a:ext cx="191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9933"/>
                </a:solidFill>
                <a:uFillTx/>
                <a:latin typeface="Times New Roman"/>
                <a:hlinkClick r:id="rId2"/>
              </a:rPr>
              <a:t>Project 98 fil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E24761-68EF-4F15-B619-9ABBB695C9B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iscussion Question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956880" y="380520"/>
            <a:ext cx="8186760" cy="479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lvl="2" marL="108576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Discuss examples of media that poke fun at the communications skills of technical professionals. How does poking fun at technical professionals' communications skills impact the industry and educational programs?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Discuss the advantages and disadvantages of different ways to distribute project information.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How can software assist in project communications? How can it hurt project communications?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318FA6-7437-4D5A-8CE0-C4C2E077417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ject Communications Management Processe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8186760" cy="479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Communications planning: determining the information and communications needs of the stakeholders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Information distribution: making needed information available in a timely manner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Performance reporting: collecting and disseminating performance information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Administrative closure: generating, gathering, and disseminating information to formalize phase or project completion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D91B0B-BC73-4663-B2DD-7D05740B4C5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mmunications Planning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8186760" cy="479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Every project should include some type of communications management plan, a document that guides project communications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reating a stakeholder analysis for project communications also aids in communications planning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C0A105-FF02-4BB2-A163-D6C88ABE91B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mmunications Management Plan Content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8186760" cy="479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A description of a collection and filing structure for gathering and storing various types of information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A distribution structure describing what information goes to whom, when, and how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A format for communicating key project information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A project schedule for producing the information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Access methods for obtaining the information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A method for updating the communications management plans as the project progresses and develops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A stakeholder communications analysis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B5F79C-B07C-47E5-B1EA-1512FB1BD80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able 9-1. Sample Stakeholder Analysis for Project Communication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1066680" y="1143000"/>
          <a:ext cx="7162920" cy="5280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143000"/>
                    <a:ext cx="7162920" cy="528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59717A-6AC0-4FCB-82C5-21F80242472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formation Distribution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56880" y="1219320"/>
            <a:ext cx="8186760" cy="479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Getting the right information to the right people at the right time and in a useful format is just as important as developing the information in the first place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Important considerations include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using technology to enhance information distribution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formal and informal methods for distributing information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A40F93-17A4-49AC-A9E8-834536F9E5A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at Went Wrong?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38080" y="762120"/>
            <a:ext cx="83059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A well publicized example of misuse of e-mail comes from the 1998 Justice Department's high profile, antitrust suit against Microsoft. E-mail emerged as a star witness in the case. Many executives sent messages that should never have been put in writing. The court used e-mail as evidence, even though the senders of the notes said the information was being interpreted out of context.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Some companies, such as Amazon.com, have established policies to encourage employees to watch their use of e-mail and delete it often. Their "Sweep and Clean" program instructed employees to purge e-mails that were no longer required for business or legal purposes. They even offered free café lattes to employees who complied immediately. 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806400" y="6243480"/>
            <a:ext cx="493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Harmon, Amy, "E-mail comes back to haunt companies," November 29, 1998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961AFC-2CA1-4F17-8BB8-C774D09849D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igure 9-1. The Impact of the Number of People on Communications Channel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1143000" y="1219320"/>
            <a:ext cx="7689960" cy="4987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4F116D-8A25-47E8-AE6D-847BA90CC3E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25T15:22:49Z</dcterms:created>
  <dc:creator>Scott Schwalbe</dc:creator>
  <dc:description/>
  <dc:language>en-US</dc:language>
  <cp:lastModifiedBy>Scott Schwalbe</cp:lastModifiedBy>
  <cp:lastPrinted>1999-08-16T19:01:19Z</cp:lastPrinted>
  <dcterms:modified xsi:type="dcterms:W3CDTF">1999-08-16T19:19:49Z</dcterms:modified>
  <cp:revision>146</cp:revision>
  <dc:subject/>
  <dc:title>No Slide Title</dc:title>
</cp:coreProperties>
</file>