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6ABB-96F3-4A51-9AA8-EAC23E30C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FE8E-2720-4DB7-B922-657CB790D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B693-1FA2-44BA-B890-F6344E82F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B369-3B33-43C5-B35B-80E50162E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430B2-FA23-4F13-91B6-238F98A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CC597-58A7-49A5-BE0D-26DD3B3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3DEFD-4235-41FA-B89F-360ACEB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DE6F-9899-4FBC-88EB-5435021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9ABD-BB98-4B1D-8481-CA6F520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F8498-A345-46E6-B880-5FAEB37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17F9E-7071-4990-8602-5F6E171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C7CD-5862-4FA6-85B9-1EE552B6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BD250-615B-41DB-B4A6-0F092FC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CD35F-698B-4CCB-8B10-1443AF5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DF42B-CB88-4CE5-923B-1ED28D6B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4138-B182-411F-B84A-F6EF983F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942D-E67F-485D-A979-2A844DB2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8183-71D1-4EE2-BE5A-BB685DB6E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7D93-73A8-4E08-9696-494D9FADC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385A-F81C-4E12-924E-7B7E1061D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4C5E-05E1-40CC-8211-C2BB46937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39C6-EB0A-4BBC-8433-DF9FC3400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CB22-5C40-4E32-B8E4-AB8DB6201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ED49-F421-4EDD-8E2B-EFFF776CB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AE5-0EF9-49AD-AD17-D220AC839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7D04-7F85-40B3-AD17-3D947AC5C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file:///Fig8-6.xls" TargetMode="Externa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8-7.mpp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eirsey.com/" TargetMode="External"/><Relationship Id="rId2" Type="http://schemas.openxmlformats.org/officeDocument/2006/relationships/hyperlink" Target="http://www.keirsey.com/" TargetMode="External"/><Relationship Id="rId3" Type="http://schemas.openxmlformats.org/officeDocument/2006/relationships/hyperlink" Target="http://www.keirsey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Human Resource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F59CD-1C5C-4BA5-8AB4-7CA8A3A8F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ys to Influence that Help and Hurt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succeed when project managers influence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i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challen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fail when project managers rely too heavily 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utho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ne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nal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74CB-B16B-4B8F-8832-3B50AFED26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wer is the potential ability to influence behavior to get people to do things they would not otherwise d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ypes of power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erc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gitim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wa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fer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B04D-A0F4-40D5-94D7-4ADE4D4E8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Effectiveness - Covey’s 7 Habi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rs can apply Covey’s 7 habits to improve effectiveness on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 proac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gin with the end in mi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t first things firs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 win/w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ek first to understand, then to be understoo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nergiz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arpen the sa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B6E4-51C8-4D2D-BE95-69DFB0DFE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pathic Listening and Rap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rs are empathic listeners; they listen with the intent to understan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efore you can communicate with others, you have to have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rroring is a technique to help establish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fessionals often need to develop empathic listening and other people skills to improve relationships with users and other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B375-4F5A-40C9-90A3-14E20F0BE9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Relationships Between Users and Develop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require business people, not IT people, to take the lead in determining and justifying investments in new computer syste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IOs push their staff to recognize that the needs of the business must drive all technology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reshape their IT units to look and perform like consulting fir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24B6-376C-44CD-9E1E-1DE9A60AA0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rganizational planning involves identifying, documenting, and assigning project roles, responsibilities, and reporting relationshi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uts and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organizational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definition and assignment proc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ponsibility assignment matrix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ource hist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0114-E1BD-40CA-AC89-27EEB01DB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8-2. Sample Organizational Chart for a Large IT Proje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6DDA-AE5D-457D-B06C-59F02FCA7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3. Work Definition and Assignment Proces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8301240" cy="42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709A-B7E6-4F9F-B805-80773E07A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4. Sample Responsibility Assignment Matrix (RAM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822492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1ED2-BD14-49F0-95ED-D5FE647ADB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5. RAM Showing Stakeholder Ro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8487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AB50-1F0A-4BB7-9218-2C232DB38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mportance of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ople determine the success and failure of organizations and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shortage of good IT workers makes human resource management even more challenging for IT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AA calculated that there were over 345,000 openings for IT jobs - about 10% of programmer, systems analysts, and computer engineering positions are op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70% of CEOs in high-tech firms listed the lack of highly skilled, trained workers as the number one barrier to grow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9DFB-C8CF-43F0-90AA-5F4BBDA15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6. Sample Resource Histogram for a Large IT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1371600"/>
          <a:ext cx="830592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83059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143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Excel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309F-BBB3-447D-ABE5-FDDE8A77A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sues in Project Staff Acquisition and Team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ffing plans and good hiring procedures are important in staff acquisition, as are incentives for recruiting and reten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give their employees one dollar for every hour a new person they helped hire wor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allow people to work from home as an incenti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252E-7BDF-4848-A98D-9F35AB5EC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oading and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oading refers to the amount of individual resources an existing project schedule requires during specific time perio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histograms show resource load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-allocation means more resources than are available are assigned to perform work at a given ti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12C6-79E7-480A-B6AC-2AEA4F30E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7. Sample Histogram Showing an Over-allocated 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50280" cy="4764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73080" y="59850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0C66-40AF-4ED6-AC05-890D83BCA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eveling is a technique for resolving resource conflicts by delaying tas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main purpose of resource leveling is to create a smoother distribution of resource usage and reduce over-alloc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0FFA-53B5-4FB2-A3C9-2E60E6ADFF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8. Resource Leveling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55344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4446-02C6-4F77-8F92-2E5B700CBE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m Develop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takes teamwork to successfully complete mos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ining can help people understand themselves, each other, and how to work better in tea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 building activiti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hysical challen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sychological preference indicator too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7DF0-F04F-479A-84D6-DA06E723EE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yers-Briggs Type Indicator (MBT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56880" y="8377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BTI is a popular tool for determining personality preferences and helping teammates understand each other (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keirsey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ur dimensions include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xtrovert/Introvert (E/I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nsation/Intuition (S/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ing/Feeling (T/F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dgment/Perception (J/P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st IT professionals are NTs or rat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ry most from general population in not being extroverted or sen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EA07-F619-4D71-B3C0-B41C28A85E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ick Team Development Exercise*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600200"/>
            <a:ext cx="74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ank from 1 to 5 which figures you like the bes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47760" y="2819520"/>
            <a:ext cx="961920" cy="91440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7360" y="2819520"/>
            <a:ext cx="549360" cy="121896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9360" y="2819520"/>
            <a:ext cx="893520" cy="990360"/>
          </a:xfrm>
          <a:prstGeom prst="ellipse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819520"/>
            <a:ext cx="103032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786440" y="2819520"/>
            <a:ext cx="13788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816680" y="2819160"/>
            <a:ext cx="41292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748640" y="2819520"/>
            <a:ext cx="480960" cy="6094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86800" y="3123720"/>
            <a:ext cx="823680" cy="3049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854480" y="3124080"/>
            <a:ext cx="755640" cy="5335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839000" y="3504960"/>
            <a:ext cx="619200" cy="1522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115480" y="3505320"/>
            <a:ext cx="342720" cy="3045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07200" y="3733560"/>
            <a:ext cx="274680" cy="759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4520" y="572940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ellinger, Susan, Psycho-Geometrics, Prentice Hall, 1989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C29E-F435-4229-9A4B-A0EC817219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havioral Style Differences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6840" y="62485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avid Merril and Larry Wils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716040"/>
          <a:ext cx="5638680" cy="55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16040"/>
                    <a:ext cx="563868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81AE-3620-4B52-89EB-76D079EBC4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g Hours and Stereotypes of IT Workers Hurt Recrui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people are struggling with how to increase the IT labor pool.  Noted problem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fact that many IT professionals work long hours and must constantly stay abreast of changes in the fiel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sirable stereotypes that keep certain people away from the career field, like women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better human resource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4759-6497-4B12-B892-F42D0F1B3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ward and Recognition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-based reward and recognition systems can promote team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rewarding teams for achieving specific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low time for team members to mentor and help each other to meet project goals and develop human resour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B9B9-2D8B-44BE-966D-7F92F7654E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 Advice on Tea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meeting project objectives and producing positive resul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x the problem instead of blaming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 regular,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urture team members and encourage them to help each oth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knowledge individual and group accomplishmen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B1D4-2CD4-47D4-85E8-CC666E11DF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can help in producing RAMS and resource histogram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software includes several features related to human resource management such a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iewing resource usag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ing under and over-allocated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veling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64DA-1A4F-4AEC-B440-4CE46ABA67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evidence pointing to a shortage of IT workers. How has Y2K affected the labor shortage? Why are there not more students majoring in computer science or MIS if there is such a labor shortage? Speculate about whether the IT labor shortage will continue into the first decade of the 21st centur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e examples of different ways to have influence on projects. Which do you think would be most effective with you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619E-91F9-44DB-B871-0D7232BE2F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Human Resource Managem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human resource management includes the processes required to make the most effective use of the people involved with a project.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ganizational plan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ff acquis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am develo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5223-9453-4679-B9A8-AC5FC7CBC7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s to Managing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sychologists and management theorists have devoted much research and thought to the field of managing people at 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areas related to project management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luence and pow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102A-989D-4114-B237-A74F16D8A4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raham Maslow developed a hierarchy of needs to illustrate his theory that people’s behaviors are guided by a sequence of nee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slow argued that humans possess unique qualities that enable them to make independent choices, thus giving them control of their destin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0370-632F-40FA-98FD-78E1D6A77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1. Maslow’s Hierarchy of Nee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153640" cy="44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D65F-94BE-4E80-8F05-798F96870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zberg’s Motivational and Hygiene Facto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derick Herzberg wrote several famous books and articles about worker motivation.  He distinguished betwee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otivational factors: achievement, recognition, the work itself, responsibility, advancement, and growth, which produce job satisfac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ygiene factors: cause dissatisfaction if not present, but do not motivate workers to do more.  Examples include larger salaries, more supervision, and a more attractive work environ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7280-78C6-4A1B-8802-684475917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mhain and Wilemon’s Ways to Have Influence on Proje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. Authority: the legitimate hierarchical right to issue ord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2. Assignment: the project manager's perceived ability to influence a worker's later work assignmen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. Budget: the project manager's perceived ability to authorize others' use of discretionary fund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4. Promotion: the ability to improve a worker's positio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5. Money: the ability to increase a worker's pay and benefi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6. Penalty: the project manager's perceived ability to dispense or cause punishme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7. Work challenge: the ability to assign work that capitalizes on a worker's enjoyment of doing a particular tas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. Expertise: the project manager's perceived special knowledge that others deem importa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9. Friendship: the ability to establish friendly personal relationships between the project manager and oth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BE6D-10DF-4F1C-B49F-876E036027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10-27T18:37:22Z</dcterms:modified>
  <cp:revision>148</cp:revision>
  <dc:subject/>
  <dc:title>No Slide Title</dc:title>
</cp:coreProperties>
</file>