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520" y="304560"/>
            <a:ext cx="7315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54080" y="144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BS Version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619120" y="6734160"/>
            <a:ext cx="68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B1B919-AE35-479A-A4ED-4786C86DE5EF}" type="slidenum"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320" y="76320"/>
          <a:ext cx="1247760" cy="123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2477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ard Work Breakdown Structur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7440" y="5854680"/>
            <a:ext cx="6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59840" y="6105600"/>
            <a:ext cx="2196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Decomposes to lower level WBS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511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8480" y="3054240"/>
            <a:ext cx="97776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01760" y="2819520"/>
            <a:ext cx="600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9160" y="3054240"/>
            <a:ext cx="97776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756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4044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7440" y="3054240"/>
            <a:ext cx="90180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978280"/>
            <a:ext cx="0" cy="257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2400" y="5084640"/>
            <a:ext cx="1305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ject Specific Activ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51800" y="5084640"/>
            <a:ext cx="1068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-Project Activ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9160" y="1911240"/>
            <a:ext cx="21207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ndard Work Breakdown Structure (W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444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7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194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222720"/>
            <a:ext cx="82548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Measurement Equipment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01760" y="2971800"/>
            <a:ext cx="684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3206880"/>
            <a:ext cx="82548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and Handling Equipment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16360" y="3206880"/>
            <a:ext cx="9018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Construction / Conversion / Expa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83040" y="3206880"/>
            <a:ext cx="9018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Equipment Acquisition / Mod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50080" y="3206880"/>
            <a:ext cx="82548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Facilities and Equipment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40440" y="3206880"/>
            <a:ext cx="74952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Spares and Repair Parts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54840" y="3206880"/>
            <a:ext cx="6732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0880" y="3222720"/>
            <a:ext cx="7491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 Suppor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4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90800" y="1763640"/>
            <a:ext cx="1460520" cy="5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8240" y="274320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240336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225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35080" y="2994120"/>
            <a:ext cx="9777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9360" y="4578480"/>
            <a:ext cx="10540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allation and Check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50080" y="2978280"/>
            <a:ext cx="97776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issioning / Close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40440" y="4578480"/>
            <a:ext cx="120672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2749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07480" y="2994120"/>
            <a:ext cx="9777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58200" y="2749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9480" y="4578480"/>
            <a:ext cx="9014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7560" y="2994120"/>
            <a:ext cx="105408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and Occupational Safety and Health Compli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8280" y="4578480"/>
            <a:ext cx="97776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Selection and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8640" y="2994120"/>
            <a:ext cx="97812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4.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7760" y="1835280"/>
            <a:ext cx="13590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2597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254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44760" y="3054240"/>
            <a:ext cx="67320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chnical Tea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596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rective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4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ventive Maintenance / Cer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tenan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01960" y="4425840"/>
            <a:ext cx="90180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 Aug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64200" y="4425840"/>
            <a:ext cx="834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776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281952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7080" y="3054240"/>
            <a:ext cx="7491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280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038480" y="3968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1656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Level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5340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152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732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light Inspections and SIAP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708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Performanc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5664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3968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7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8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4960" y="2292480"/>
            <a:ext cx="6732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63880" y="36640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ly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59160" y="36640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8480" y="3664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Equipment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44760" y="3505320"/>
            <a:ext cx="39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30542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3664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ranty Tra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1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1280" y="2521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73160" y="3892680"/>
            <a:ext cx="901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zardous Materials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4760" y="389268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tilities, Building and Grounds Upkeep and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45160" y="3892680"/>
            <a:ext cx="9777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ilding and Infrastructure Impro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30360" y="373392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2828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8640" y="3892680"/>
            <a:ext cx="12067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69040" y="3892680"/>
            <a:ext cx="9781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l Estate Acquisi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012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6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21280" y="2063880"/>
            <a:ext cx="9777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82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63880" y="3359160"/>
            <a:ext cx="11300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ommis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114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1760" y="31240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26733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07080" y="3359160"/>
            <a:ext cx="97776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02360" y="3359160"/>
            <a:ext cx="97776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mantle / Rem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246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976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Restoration / Close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1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14840" y="2521080"/>
            <a:ext cx="146052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7560" y="3679920"/>
            <a:ext cx="90180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Projected Demand for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44760" y="3429000"/>
            <a:ext cx="410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308916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82840" y="3700440"/>
            <a:ext cx="911160" cy="78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Technological Opportun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54440" y="3679920"/>
            <a:ext cx="97812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Projected Supply of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02360" y="3679920"/>
            <a:ext cx="90180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Needs Analysis and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2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4840" y="2068560"/>
            <a:ext cx="1460520" cy="5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92480" y="329868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quirements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3048120"/>
            <a:ext cx="303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70828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896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Requirements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0196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naliz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64280" y="3298680"/>
            <a:ext cx="90144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Identification and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708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Iden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2604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9840" y="4572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4349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7960" y="4572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349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67120" y="2144880"/>
            <a:ext cx="1460520" cy="59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9480" y="337500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31240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749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6160" y="335916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6880" y="337500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 / SW Design, Development and 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40240" y="3375000"/>
            <a:ext cx="74952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54640" y="3375000"/>
            <a:ext cx="90180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119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6002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9880" y="3375000"/>
            <a:ext cx="75096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464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7240" y="3375000"/>
            <a:ext cx="97812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19400" y="2216160"/>
            <a:ext cx="1460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240" y="3298680"/>
            <a:ext cx="82548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Requirements and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5440" y="3048120"/>
            <a:ext cx="692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2749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3282840"/>
            <a:ext cx="6728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alysis, Design, and 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9680" y="3282840"/>
            <a:ext cx="74916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ue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40040" y="3282840"/>
            <a:ext cx="97812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ability, Maintainability, and Reliability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9360" y="3298680"/>
            <a:ext cx="67320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uality Assuran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73760" y="3298680"/>
            <a:ext cx="82548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guration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40440" y="3282840"/>
            <a:ext cx="67320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uman Fa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232400" y="3054240"/>
            <a:ext cx="14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54840" y="3282840"/>
            <a:ext cx="67320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146800" y="3054240"/>
            <a:ext cx="14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3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W/SW Design, Development and Produc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67120" y="1987560"/>
            <a:ext cx="14605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/SW Design, Development and 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5960" y="3222720"/>
            <a:ext cx="10540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9480" y="2971800"/>
            <a:ext cx="669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2480" y="3222720"/>
            <a:ext cx="113004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ftwa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8640" y="3222720"/>
            <a:ext cx="120672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/SW Integration, Assembly, Test and Check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21680" y="3222720"/>
            <a:ext cx="10540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21480" y="3206880"/>
            <a:ext cx="10540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ion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4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38520" y="2292480"/>
            <a:ext cx="146052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9840" y="3527280"/>
            <a:ext cx="105408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y Planning and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3360" y="32767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9782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16360" y="3527280"/>
            <a:ext cx="113040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l Est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92880" y="3527280"/>
            <a:ext cx="120636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ysical Infra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5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8520" y="2063880"/>
            <a:ext cx="14605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6160" y="2971800"/>
            <a:ext cx="440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89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Development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01960" y="3206880"/>
            <a:ext cx="7491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Operational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8640" y="3206880"/>
            <a:ext cx="9018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Independent Software Verification and Vali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54640" y="3206880"/>
            <a:ext cx="7495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ependent Operational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7960" y="3222720"/>
            <a:ext cx="74916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Acceptance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1:21:02Z</dcterms:created>
  <dc:creator>Authorized Gateway Customer</dc:creator>
  <dc:description/>
  <dc:language>en-US</dc:language>
  <cp:lastModifiedBy>Alice Harball</cp:lastModifiedBy>
  <cp:lastPrinted>1998-07-21T17:32:18Z</cp:lastPrinted>
  <dcterms:modified xsi:type="dcterms:W3CDTF">1998-07-21T17:39:28Z</dcterms:modified>
  <cp:revision>3</cp:revision>
  <dc:subject/>
  <dc:title>WBS - 1st Level</dc:title>
</cp:coreProperties>
</file>