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68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968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2732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68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968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2732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81160" y="17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1268280"/>
            <a:ext cx="9119880" cy="139680"/>
            <a:chOff x="6480" y="1268280"/>
            <a:chExt cx="9119880" cy="139680"/>
          </a:xfrm>
        </p:grpSpPr>
        <p:sp>
          <p:nvSpPr>
            <p:cNvPr id="1" name=""/>
            <p:cNvSpPr/>
            <p:nvPr/>
          </p:nvSpPr>
          <p:spPr>
            <a:xfrm>
              <a:off x="6480" y="1268280"/>
              <a:ext cx="9119880" cy="61920"/>
            </a:xfrm>
            <a:prstGeom prst="rect">
              <a:avLst/>
            </a:prstGeom>
            <a:solidFill>
              <a:srgbClr val="d40000"/>
            </a:solidFill>
            <a:ln w="12600">
              <a:solidFill>
                <a:srgbClr val="d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80" y="1382760"/>
              <a:ext cx="9119880" cy="25200"/>
            </a:xfrm>
            <a:prstGeom prst="rect">
              <a:avLst/>
            </a:prstGeom>
            <a:solidFill>
              <a:srgbClr val="d40000"/>
            </a:solidFill>
            <a:ln w="12600">
              <a:solidFill>
                <a:srgbClr val="d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aphicFrame>
        <p:nvGraphicFramePr>
          <p:cNvPr id="3" name=""/>
          <p:cNvGraphicFramePr/>
          <p:nvPr/>
        </p:nvGraphicFramePr>
        <p:xfrm>
          <a:off x="119160" y="119160"/>
          <a:ext cx="104940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119160"/>
                    <a:ext cx="10494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4162320" y="1440"/>
            <a:ext cx="143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01f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20120" y="6661080"/>
            <a:ext cx="75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CC64-5BCD-4235-9236-1C74BC222072}" type="slidenum">
              <a:rPr b="0" lang="en-US" sz="1000" spc="-1" strike="noStrike">
                <a:solidFill>
                  <a:srgbClr val="1701f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79840" y="3002040"/>
            <a:ext cx="360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00f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37160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71468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- 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at, Why, How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G Times (W1)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CG Times (W1)"/>
              </a:rPr>
              <a:t>Software</a:t>
            </a:r>
            <a:r>
              <a:rPr b="0" lang="en-US" sz="3200" spc="-1" strike="noStrike">
                <a:solidFill>
                  <a:srgbClr val="000000"/>
                </a:solidFill>
                <a:latin typeface="CG Times (W1)"/>
              </a:rPr>
              <a:t> Process Improvement Enough? )</a:t>
            </a:r>
            <a:endParaRPr b="0" lang="en-US" sz="32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8840" y="38862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Dr. Linda Ibrahi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Federal Aviation Administra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Presented at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SPI 99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rcelona, Spain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2 December 1999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3200400"/>
            <a:ext cx="3657600" cy="3200400"/>
            <a:chOff x="838080" y="3200400"/>
            <a:chExt cx="3657600" cy="3200400"/>
          </a:xfrm>
        </p:grpSpPr>
        <p:grpSp>
          <p:nvGrpSpPr>
            <p:cNvPr id="49" name=""/>
            <p:cNvGrpSpPr/>
            <p:nvPr/>
          </p:nvGrpSpPr>
          <p:grpSpPr>
            <a:xfrm>
              <a:off x="838080" y="3200400"/>
              <a:ext cx="3657600" cy="3200400"/>
              <a:chOff x="838080" y="3200400"/>
              <a:chExt cx="3657600" cy="3200400"/>
            </a:xfrm>
          </p:grpSpPr>
          <p:sp>
            <p:nvSpPr>
              <p:cNvPr id="50" name=""/>
              <p:cNvSpPr/>
              <p:nvPr/>
            </p:nvSpPr>
            <p:spPr>
              <a:xfrm>
                <a:off x="838080" y="3200400"/>
                <a:ext cx="2281320" cy="220032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14720" y="3255840"/>
                <a:ext cx="2280960" cy="21988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30360" y="4200480"/>
                <a:ext cx="2282760" cy="2200320"/>
              </a:xfrm>
              <a:prstGeom prst="ellipse">
                <a:avLst/>
              </a:prstGeom>
              <a:gradFill rotWithShape="0">
                <a:gsLst>
                  <a:gs pos="0">
                    <a:srgbClr val="afc6fd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73480" y="4348080"/>
                <a:ext cx="57600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214720" y="3255840"/>
                <a:ext cx="2280960" cy="21988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200400"/>
                <a:ext cx="2281320" cy="220032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124280" y="374976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A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0160" y="366408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08040" y="5856120"/>
              <a:ext cx="67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W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includes supportive processes to the software development process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upportive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ormatio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managing data and configura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714680" indent="-228600">
              <a:spcBef>
                <a:spcPts val="499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cuments, systems, software components, measur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lianc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quality assurance and manag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71600" indent="-28584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l processes, all work products, all the ti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human resource manag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ome Other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680" y="1752120"/>
            <a:ext cx="80388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read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Enterprise wid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cross core areas of your busi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.g. leadership, strategic planning, investment management; research, development, marketing, ..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Multilevel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ecutives, directors, managers, practition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.g. enterprise management, division management, program management, project management, task manag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2. Improving Processes in an Integrated Way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320" y="17146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integrat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ocess improvement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pproac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using the same approach to improving any process; the sam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ocess improvement proc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rminolog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using the same process improvement terminology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asur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measuring process improvement progress in a common wa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al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seeking common process improvement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1. Why Improve Integrated Processe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void suboptimization, e.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t may be a system problem, not a software proble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cusing on development measures may adversely impact maintenanc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eeting the software specification may not satisfy the custome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dress interfaces and interrelationships, e.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you develop/deliver/maintain/acquir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ystems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egrated processes specifically consider interfaces to hardware, other systems, operators, environ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ifically handle potential gaps when transitioning across phases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mprove Integrated Processes? </a:t>
            </a:r>
            <a:r>
              <a:rPr b="0" lang="en-US" sz="2400" spc="-1" strike="noStrike">
                <a:solidFill>
                  <a:srgbClr val="0000ff"/>
                </a:solidFill>
                <a:latin typeface="CG Times (W1)"/>
              </a:rPr>
              <a:t>(continued)</a:t>
            </a:r>
            <a:endParaRPr b="0" lang="en-US" sz="24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am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you work in integrated product team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they perform integrated processes?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effectiveness of the enterpri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lign processes with business objectives, then integrate across the busines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ork towards corporate culture of continuous process improve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eamwork and involvement across lines of business, and from executives to practition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2. Why Integrate Process Improvement Effort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raining, appraisal, fewer processes to improv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duce complex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ame terminology, same approac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ision, focus and clar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mmon goals, measures, terminology, approac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volv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eryone’s working to improve their processes, in the same way, towards the same goal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Why not 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go there unless …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seriously motivated and committ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willing to foster cooperation and collaboration across organizational lines and across discipline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willing to invest the resources and effort to do i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Software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 Process Improvement SPI 99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Improvement Enough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% of your organization’s processes ar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processe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other processes affect software and your success in software project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f software processes are improved and others aren’t?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275480" indent="-26568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other processes need improvement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hould you pursue “integrated process improvement”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</a:t>
            </a: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rst consider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r organiz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r current process improvement effort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your current improvement efforts meeting organizational needs?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Examine your organization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does your organization do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s your life cycle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amine your life cycle process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processes are carried out?  by whom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processes cross disciplines? cross organizations?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amine your tea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re they multidisciplinary, integrated product teams?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Examine your process improvement proces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different parts of the enterprise currently involved in process improvement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these efforts cover your life cycle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there overlap?  Are there gap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models or standards are being used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they support your enterprise-wide need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there consistency across the approache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process improvement efforts aligned and focused to support enterprise-wide needs?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What does it tak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’ve discovered a need for integrated process improvement, next consider what it takes to make it happen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cess improvemen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guidanc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hat relates to what you do across your enterpri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 enterprise-wid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vision and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strategy and a pla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o realize those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right resourc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Process Improvement Guidance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 integrated Capability Maturity Model was the FAA cho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1997, FAA developed the FAA-iCMM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®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at integrates software, systems engineering and software acquisition CM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covers most life cycle activities and practices carried out by FAA integrated product tea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Guidanc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provides guidance regard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cess area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what you d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se practices that are cross disciplinary, best practice specific to a process are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pability level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how well you do i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eneric practices that apply to any process to improve process capability and manag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aturity level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what to focus on nex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variety of integrated appraisal method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to know where you ar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ntegrate CMMs? - 1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model across full enterprise lifecy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rporate perspective for FAA-wide improv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egrated processes for integrated product tea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model, one architecture, consistent terminology, common process assets, common goal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daptability to enterprise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signed for evolvability to meet current and future enterprise-wide process improvement need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n add new process areas, generic improvement approach still appli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ntegrate CMMs? - 2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ss costly, less confus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3 integrated process areas (not 52 separate process areas of the source CMMs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appraisal (not 3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taly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A-iCMM is becoming known as the integrat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ing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M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A-iCMM is becoming a catalyst for bringing together various initiativ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.g. Malcolm Baldrige, ISO9000, 12207, DO178B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Vision, Goals, Strategy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1523880"/>
            <a:ext cx="84200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 set aggressive improvement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provides common framework for establishing consistent goals across the enterpris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sonal performance evaluations tied to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oal achievement requires cross-organizational cooperation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rategy and plan developed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 support organizations in achieving FAA-iCMM related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7100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Resources and Infrastructur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 sponsor, motivate, advocate the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 people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th expertise, persistence and determination to lead the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actitioner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powered to improve their own process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s </a:t>
            </a: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Software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 Process Improvement Enough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038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t’s consider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Integrated Process Improve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at?  Why?  How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OK - Then Just Do It!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roach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 the model that matches your enterpri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oal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your goals, strategy, pla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frastructure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your integrated, enterprise-wide, process improvement infra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itment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mit the resourc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How else?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stly ..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ove the integrated process improvement proces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corporate lessons learn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 Some Lessons Learned 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 experience and lessons learn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erformance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les and responsibiliti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nsitioning to an integrated mod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rais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Performance Goals - 1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7146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fferent FAA lines of business and directorates adopted performance goals based on the FAA-iCM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seek to institutionalize mature processes that enable high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solutions to FAA and user need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edictabl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cost and schedule, and increase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oductiv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seek cross functional, full life cycle improv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Performance Goals - 2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038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ased on achieving a maturity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ased on achieving a capability level in selected process are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y program or team, some are by organiz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additional “stretch goals”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he architecture of the model affords flexibil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Performance Go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7724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oal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nchronize goals across lines of busi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 target programs carefully; seek full life cycle, cross functional improv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 process improvement with other initiatives and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810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Roles &amp; Responsibiliti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d Process Grou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68680" indent="-434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corporate process group staffed with executives and senior people who are cross-disciplinary, motivated and empowered to represent their organiza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68680" indent="-434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ure top management sponsorship and commitment to successfully integrate across disciplines and lines of busi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Training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1371240"/>
            <a:ext cx="8343720" cy="44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d training group manages train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volve multidisciplinary experts in course selection/develop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 improvement training by in-house staf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, appraisal method, workshops..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omain specific training typically outsourc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quirements engineering, project management, configuration management, quality assurance, …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ver 2600 trained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xternal training also offer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Transitioning to the FAA-iCMM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8267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pping tab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know where each source practice i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incip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CMM features and principles are captur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tinuous represent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s proven easy to understand and appl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generic practices make sen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hey can be applied to any process at al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aging is also provid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Transitioning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71468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othing is los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mprovements using a source model are not lost!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ractices and process areas are in the integrated mod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oving an integrated process improves against all 3 disciplines at once, as applicab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AA-iCMM Apprais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y appraisals have been conduct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fferent variations have been us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ull internal method, questionnaire-based, facilitated discussion, document- intensive, interview-bas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thods tailored and scoped to sponsor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program, an organization, selected process areas, full maturity level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ppraisal teams are cross-organizational and have included external participant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Apprais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ariety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variety of methods helps meet sponsor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rface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aisals point out gaps and previously unrecognized interface proble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ssue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oss-organizational are raised for cross-organizational ac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le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roles and responsibilities become clear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onsorship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ek high level appraisal sponsorship for full life cycle covera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arning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aisals are a major learning experience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ome Early Integration Result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unication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tter communication, shared information, fewer misunderstanding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eaming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anagement and practitioners working together to impro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ductivity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ork effort more streamlined, easier training of new hir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s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- cost reductions, cost savings being realiz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ontinuous Integration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volving the FAA-iCMM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model is evolving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ypes of evolution include maintenance and expans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ext release being planned now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Maintaining the Model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11512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ypes of Maintenan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inor enhancements to existing process area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Upgrades to current best practice in systems engineering, software engineering, acquisition; process management and process improve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rrections, clarifications, formattin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ources for maintenance of current cont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nge requests based on use of version 1.0 and appraisal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olving standards such as ISO/IEC 15504, EIA/IS 731, and ISO/IEC 15288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elated standards such as ISO 9000, DO178B, ISO/IEEE 12207,MBNQ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Validated products resulting from the CMMI effort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Expanding the Model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tential expansion of current content to integrate additional disciplines or process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ider life cycle coverag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operations, deployment, logistics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ialty engineering field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safety, security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dditional management area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strategic planning, leadership, investment management, human resource management, integrated product development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w areas are piloted prior to inclusion in model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uman Factors Engineering addendum developed and in trial us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lationships with CMMI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371240"/>
            <a:ext cx="7772400" cy="44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of of concep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is proof of concept that CMM integration work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articip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 has been participating in CMMI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eering group, product development tea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lessons learned being shared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and FAM are reference documents for CMMI effor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lationships with CMMI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meets FAA business need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 integrated process guidance in engineering, management,  and acquisi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planned initial CMMI products support some FAA business need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 will use relevant CMMI products when they are developed and validat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Using the Model Outside FAA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is not specific to the FAA.  It can benefit any organization wher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stems engineering, software engineering and acquisition are perform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ion of engineering processes is a go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product teams carry out engineering, management and acquisition activiti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AA-iCMM is tailorable and expandabl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AA Critical Factor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st critical in launching FAA’s integrated process improvement effort wer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model, the FAA-iCM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5756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 guide integrated process improvement across the disciplin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formance goals, tied to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ntegrated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process improvement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5756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 provide focus and demonstrate management commitment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What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do we mean by integrated process improvement?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wo thing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 -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ntegrated proces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improvement    (improving integrated processes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- integrat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ocess improvemen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improving processes in an integrated way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onclusion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ocess Improvement enough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 wasn’t for u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ntegrate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ocess Improvement can work!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Question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or more information, contact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r. Linda Ibrahi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deral Aviation Administr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800 Independence Ave SW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shington, DC 20591  U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l: 202-267-7443  Fax: 202-267-508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mail: linda.ibrahim@faa.gov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FAA-iCMM® and its Appraisal Method are available at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faa.gov/a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1. 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requires the participation of experts from more than one functional area or disciplin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’s multidisciplinary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not just softwar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Multidisciplinary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quiremen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that involves systems and software engineers – e.g. requirements engineering a software-intensive syste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quisition Managemen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that involves acquisition program managers and technical project manager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utsourc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A process that involves procurement and legal experts, plus enginee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requires the participation of experts across the full life cyc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’s full life cycle (not just development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ull Life Cycle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1914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ross phas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performed across life cycle phases, e.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ition from a supplier/developer to a maintenance/ support organiz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ployment from a supplier/developer to operations.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Or just throw it over the fence – not my problem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 all phas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A process performed continuously across all life cycle phases,e.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munication with the custom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11:12:32Z</dcterms:created>
  <dc:creator>linda</dc:creator>
  <dc:description/>
  <dc:language>en-US</dc:language>
  <cp:lastModifiedBy>AIO</cp:lastModifiedBy>
  <cp:lastPrinted>1999-11-26T14:51:45Z</cp:lastPrinted>
  <dcterms:modified xsi:type="dcterms:W3CDTF">1999-11-26T15:55:51Z</dcterms:modified>
  <cp:revision>185</cp:revision>
  <dc:subject>Exec class</dc:subject>
  <dc:title>Process Improvement at the FAA</dc:title>
</cp:coreProperties>
</file>