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EFDC-968D-4D42-AA70-6BD365CE5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49EB-E23C-49CD-B208-CF7D59D9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1D2B-2D9C-402A-8F81-2FEFF82CD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EBFA-4BB6-4D4B-96D7-5688522CD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5520-3A5D-4249-A701-76AC02F4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386E-2397-4CD0-A0C4-36236249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CB89-72A8-429E-A0C5-B0D5A9D8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2AAB-5AF4-4944-AEB3-5A5B2C36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620E-C86B-4B58-A7B5-97A71E3B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5878-C338-4BD7-9F6D-B7861DD3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1977-90AF-48E2-AC62-B24262C6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5153-2DC5-4466-8328-618BC6AD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B140-632F-477F-8689-9D2B7B811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90760" y="2421000"/>
            <a:ext cx="2428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U N I D A D 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C O N T R O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98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492280"/>
            <a:ext cx="8209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. Proporciona información acerca de la situación de la ejecución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s planes, sirviendo como fundamento al reiniciarse el proces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 plane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. Reduce costos y ahorra tiempo al evitar err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. Su aplicación incide directamente en la racionalizació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ministración y consecuentemente, en el logro de la productiv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 todos los recursos de l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2920" y="1676520"/>
            <a:ext cx="35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mportancia del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104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2960" y="2275200"/>
            <a:ext cx="8852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quilib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cada grupo de delegación conferido debe de proporcionarse el g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 control correspondiente, al delegar autoridad es necesario estable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s mecanismos para verificar que se 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mpliendo con la responsabilidad conferid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 que la autoridad delegada esta sie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bidamente ejerc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0120" y="153180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rincip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607000" y="3263760"/>
            <a:ext cx="2925720" cy="23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1120" y="2275560"/>
            <a:ext cx="8161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 los obje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ingún control será válido si no se fundamenta en los objetivos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 a través de él, no se evalúa el logro de los mismos, por lo tant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s imprescindible establecer medidas específicas o estándares 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rvan de patrón para la evaluación de lo establec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6240" y="160344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rincip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508720" y="4056120"/>
            <a:ext cx="2519280" cy="1641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619280" y="4048200"/>
            <a:ext cx="252108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4560" y="2203920"/>
            <a:ext cx="813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e la oportun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 control para que sea eficaz necesita ser oportuno, es decir, de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plicarse antes de que se efectué el error, de tal manera que se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sible tomar medidas correctivas con anticip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0600" y="160344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rincip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327640" y="3689280"/>
            <a:ext cx="2629080" cy="1971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187280" y="3716280"/>
            <a:ext cx="295308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2147760"/>
            <a:ext cx="8280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e las desvi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das las variaciones o desviaciones que se presenten en relación 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s planes deben ser analizadas detalladamente, de tal manera que s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sible conocer las causas que las originaron, a fin de tomar l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didas necesarias para evitarlas en el futu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162240" y="3824280"/>
            <a:ext cx="2705040" cy="20304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0600" y="160344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rincip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134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794200" y="3500280"/>
            <a:ext cx="2810160" cy="19749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19880" y="2419560"/>
            <a:ext cx="8961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De excep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l control debe aplicarse preferentemente a las actividades excep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 representativas, afín de reducir costos y tiempo, delimitan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ecuadamente cuales funciones estraté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quieren de control. Este principio se auxi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 métodos probabilísticos, estadísticos 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leato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0600" y="181944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rincip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5120" y="2468880"/>
            <a:ext cx="7767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e la función control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 función controladora por ningún motivo debe comprende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 función controlada, ya que pierde efectividad el control. E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incipio es básico ya que señala que la persona o la fun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ue realiza el control no debe estar involucrada con la activ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contro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0480" y="181944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rincip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3120" y="2779920"/>
            <a:ext cx="8241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flejar la naturaleza de estructura organiza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n sistema de control deberá ajustarse a las necesidades de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presa y tipo de actividad que se desea contro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Oportun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n buen control debe manifestar inmediatamente las desviacion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endo lo ideal que las descubra antes de que se produzc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26760" y="1928880"/>
            <a:ext cx="393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aracterísticas del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0040" y="2679840"/>
            <a:ext cx="8579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ccesibi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do control debe establecer medidas sencillas y fáciles de interpre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ra facilitar su aplicación, las técnicas muy complicadas en lugar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r útiles crean confu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Ubicación estratégic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sulta imposible e incosteable implantar controles para todas l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tividades de la empresa, por lo que es necesario establecerlos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iertas áreas de valor estratég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6400" y="1928880"/>
            <a:ext cx="393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aracterísticas del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9560" y="2247840"/>
            <a:ext cx="766512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pos de medi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s tipos de medición se basan en alguna forma de normas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stándares establecidos, que pueden s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stándares históricos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ueden basarse en registros e información concernientes a 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periencias pasadas de un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stándares exter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n los provenientes de otras organizaciones u otras un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 la mism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09680" y="1603440"/>
            <a:ext cx="80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sideraciones para establecer un sistema d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47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920" y="3270240"/>
            <a:ext cx="40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 R I M E R A    P A R T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165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2638440"/>
            <a:ext cx="820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stándares de ingeniería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 refiere a la capacidad de las máquinas, suelen venir especificadas por los fabric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9680" y="1892160"/>
            <a:ext cx="80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sideraciones para establecer un sistema d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008760" y="3452760"/>
            <a:ext cx="245088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172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6200" y="2384640"/>
            <a:ext cx="83037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l número de medi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 número de mediciones puede ser reducido, conforme se el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 cantidad de controles que se aplican a un trabajo el individu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ierde autonomía y la libertad respecto a como y cuando ejecutar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utoridad para establecer medidas y estánd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s estándares del desempeño pueden fijarse con o sin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rticipación de las personas cuyo desempeño va a ser control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ando se establecen en forma unilateral por los gerentes de al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ivel, existe el peligro de que los empleados los juzguen idealis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9680" y="1700280"/>
            <a:ext cx="80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sideraciones para establecer un sistema d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178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3320" y="2287800"/>
            <a:ext cx="8183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lexibilidad de los estánd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s gerentes necesitan determinar si los estándares deberán 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niformes en las unidades similares de la organización, así co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mar una decisión respecto al sistema de control cuantitativ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rente al cualita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recuencia de la medi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 frecuencia y tiempo de la medición depende de la naturale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 la tarea que va a ser controlada. El empleo de control de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stadístico exige establecer el tamaño de la muestra y el interval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ue debe haber entre las prueb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1320" y="1700280"/>
            <a:ext cx="80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sideraciones para establecer un sistema d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184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91200" y="2203920"/>
            <a:ext cx="7742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rección de la retroaliment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 finalidad del control consiste en asegurar de que los pl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tuales se lleven a cabo y de que los planes futuros se realic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 más efici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5680" y="1557360"/>
            <a:ext cx="80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sideraciones para establecer un sistema d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203640" y="3527280"/>
            <a:ext cx="341316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3280" y="3100320"/>
            <a:ext cx="373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TAPAS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196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8680" y="2214720"/>
            <a:ext cx="8364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n estándar puede ser definido como una unidad de medida 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rve como modelo, guía o patrón con base en la cual se efectú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 control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s estándares son criterios establecidos contra los cuales pu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dirse los resultados, representan la expresión de las metas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laneación de la empresa o departamento en términos tales que 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gro real de los deberes asignados puedan medirse contra ell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ueden ser físicos y representar cantidades de productos, un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 servicio, horas-hombre, velocidad, volumen de rechazo, etc., 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ueden estipularse en términos monetarios como costos, ingresos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versiones; u otros términos de medi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35960" y="1531800"/>
            <a:ext cx="45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stablecimiento de Estánd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6640" y="2099160"/>
            <a:ext cx="8698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 el control se fija adecuadamente y si existen medios disponibles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terminar exactamente que están haciendo los subordinados,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paración del desempeño real con lo esperado es fácil. Pero h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tividades en las que es difícil establecer estándares de control por l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ue se dificulta la medi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6120" y="1531800"/>
            <a:ext cx="35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Medición de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066680" y="3716280"/>
            <a:ext cx="1489320" cy="19843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3616200" y="3716280"/>
            <a:ext cx="1316160" cy="19764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5989680" y="3693960"/>
            <a:ext cx="196704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211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39920" y="2706840"/>
            <a:ext cx="8256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Corr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i como resultado de la medición se detectan desviaciones, correg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mediatamente esas desviaciones y establecer nuevos planes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cedimientos para que no se vuelvan a present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Retroali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Una vez corregidas las desviaciones, reprogramar el proces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ntrol con la información obtenida causante del desví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2080" y="1963800"/>
            <a:ext cx="35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Medición de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217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73640" y="2275200"/>
            <a:ext cx="7771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isten cuatro factores que deben ser considerados al aplicar 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ceso de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) Cantidad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) Tiempo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) Costo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)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s tres primeros son de carácter cuantitativo y el último 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inentemente cualita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92440" y="1700280"/>
            <a:ext cx="35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Medición de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223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32160" y="2347920"/>
            <a:ext cx="7855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 factor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ntida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se aplica a actividades en la que el volu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s import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través del factor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iemp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se controlan las fechas program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st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es utilizado como un indicador de la eficienc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ministrativa, ya que por medio de él se determinan l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rogaciones de ciertas activ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lida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se refiere a las especificaciones que debe reunir u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ierto producto o ciertas funciones de la empres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03800" y="1700280"/>
            <a:ext cx="35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Medición de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19280" y="2564280"/>
            <a:ext cx="7523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 control es un proceso mediante el cual la administración 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erciora si lo que ocurre concue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 lo que supuestamente debie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currir, de los contrario, será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cesario que se hagan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justes o correcciones necesari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8360" y="1819440"/>
            <a:ext cx="19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292720" y="2952720"/>
            <a:ext cx="27874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229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37560" y="-1464120"/>
            <a:ext cx="787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Georgia"/>
              </a:rPr>
              <a:t>Controles utilizados con más frecuencia en los factores del contro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611280" y="1828800"/>
          <a:ext cx="7993080" cy="4048200"/>
        </p:xfrm>
        <a:graphic>
          <a:graphicData uri="http://schemas.openxmlformats.org/drawingml/2006/table">
            <a:tbl>
              <a:tblPr/>
              <a:tblGrid>
                <a:gridCol w="2000160"/>
                <a:gridCol w="1996920"/>
                <a:gridCol w="1998720"/>
                <a:gridCol w="1997280"/>
              </a:tblGrid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Cant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iem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Cos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resupues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studios de tiem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resupues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valuación de la actu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stim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Fechas lím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Costo por metro cuadr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ruebas psicológ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roductos termin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rogra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Costos están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nspecciones visu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Unidades vendi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iempo - máqu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ronóst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Coefic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Unidades rechaz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Medición del trabaj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Contabi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Rendimiento del pers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nventarios de pers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rocedimie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roductiv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nfor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Medición del trabaj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stánda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Rendimiento s/invers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rocedimie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ronóst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stánda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Control de invent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Calificación de méri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"/>
          <p:cNvSpPr/>
          <p:nvPr/>
        </p:nvSpPr>
        <p:spPr>
          <a:xfrm>
            <a:off x="1243800" y="1413000"/>
            <a:ext cx="669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roles utilizados con más frecuencia en los factores del contro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1800" y="60148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* tarea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237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86880" y="310032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ISTEMAS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242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80320" y="1339920"/>
            <a:ext cx="76086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ol de produ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 función del control en esta área busca el incremento de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ficiencia, la reducción de costos, y la uniformidad y mejo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 la calidad del producto aplicando técnicas como estu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 tiempos y movimientos, inspecciones, programación linea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álisis estadísticos y gráfic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2986200" y="3681360"/>
            <a:ext cx="31716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248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55840" y="2242800"/>
            <a:ext cx="551160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ol de calidad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 refiere a la vigilancia que debe hacer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ra comprobar una calidad específica ta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 materias primas como en l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rminados; establece límites aceptables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ariación en cuanto al color, acabad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posición,  volumen,  dimensió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sistencia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997600" y="2276640"/>
            <a:ext cx="253512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254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4480" y="1339920"/>
            <a:ext cx="88264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ol de invent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 encarga de regular en forma óptima las existencias en los almac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nto de refacciones como de herramientas, materias primas,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 proceso y terminados; protegiendo a la empresa de cos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necesarios por acumulamiento o falta de existencias en el almacé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4788000" y="3552840"/>
            <a:ext cx="2158920" cy="21081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2103480" y="3500280"/>
            <a:ext cx="146052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261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24640" y="1914120"/>
            <a:ext cx="881892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trol de comp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a función verifica el cumplimiento de actividades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) Selección adecuada de los provee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b) Evaluación de la cantidad y calidad especificadas por el depart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icit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) Control de los pedidos desde el momento de su requisición hasta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legada del mate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) Determinación del punto de pedido y reo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) Comprobación de pre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266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90680" y="1482840"/>
            <a:ext cx="78357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trol de Mercadotec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 efectúa mediante el estudio de informes y estadísticas do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 analiza si las metas mercadológicas se han cumplido o n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ende áreas tales como ventas, desarrollo de product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stribución, publicidad y promo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3492360" y="3573360"/>
            <a:ext cx="215928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272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7880" y="1766520"/>
            <a:ext cx="757368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ol de Ven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s pronósticos y presupuestos de ventas son esenciales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 establecimiento de este control. La función de este siste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rve para medir la actuación de la fuer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 ventas en relación con las vent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nosticadas y adoptar las medid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rrectivas adecu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004080" y="3319560"/>
            <a:ext cx="231300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278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3320" y="1446480"/>
            <a:ext cx="83494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ol de Finanz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porciona información acerca de la situación financiera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presa y del rendimiento en términos monetarios de los recurs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partamentos y actividades que la integr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2195640" y="3335400"/>
            <a:ext cx="1657080" cy="23256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5292720" y="3357720"/>
            <a:ext cx="1628640" cy="22860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571680" y="6035760"/>
            <a:ext cx="50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*Se desglosará este apartado posterior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286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6000" y="1411200"/>
            <a:ext cx="795600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ol de recursos hum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 función es la evaluación de la efectividad en la impla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 ejecución de todos y cada uno de los programas de pers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 del cumplimiento de los objetivos de este departament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plicando la evaluación al reclutamiento y selección, capa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 desarrollo, motivación, sueldos y salarios, seguridad e higi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 prestaciones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03640" y="3840120"/>
            <a:ext cx="295272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8080" y="1338120"/>
            <a:ext cx="80416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l control tiene como objeto cerciorarse de que los hechos vay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 acuerdo con los planes establecidos. Burt K. Scanl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 la regulación de las actividades, de conformidad con un p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reado para alcanzar ciertos objetivos. Eckles,Carmicha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 el proceso para determinar lo que se está llevando a cab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valorizándolo y si es necesario, aplicando medidas correc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 manera que la ejecución se desarrolle de acuerdo con l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laneado. George R. Ter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 medición y corrección de las realizaciones de los subordin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n el fin de asegurar que tanto los objetivos de la empresa co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os planes para alcanzarlos se cumplan eficaz y económic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obert C. Apple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292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89760" y="3100320"/>
            <a:ext cx="34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IPOS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297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47480" y="1771200"/>
            <a:ext cx="561384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ol Prelimin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ste control tiene lugar antes de principi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peraciones e incluye la creación de polític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cedimientos y reglas diseñadas pa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egurar que las actividades planeadas ser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jecutadas con propiedad. La consistencia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 uso de las políticas y procedimientos 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movida por los esfuerzos del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6140520" y="1846440"/>
            <a:ext cx="224784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303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0880" y="1517760"/>
            <a:ext cx="767880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ol Concurr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ste control tiene lugar durante la fase de la acción de ejecu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s planes e incluye la dirección, vigilancia y sincronización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s actividades, según ocurr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5651640" y="3284640"/>
            <a:ext cx="2754000" cy="22255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755640" y="3284640"/>
            <a:ext cx="4064040" cy="21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310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01840" y="1411200"/>
            <a:ext cx="779904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ol de Retroalimentación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ste tipo de control se enfoca sobre el uso de la información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s resultados anteriores, para corregir posibles desviac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uturas del estándar aceptabl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1260360" y="3500280"/>
            <a:ext cx="2880000" cy="191484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5148360" y="3525840"/>
            <a:ext cx="287964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317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81120" y="3100320"/>
            <a:ext cx="413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ECNICAS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322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1763640" y="1341360"/>
            <a:ext cx="4680000" cy="4581720"/>
          </a:xfrm>
          <a:prstGeom prst="rect">
            <a:avLst/>
          </a:prstGeom>
          <a:ln w="0">
            <a:noFill/>
          </a:ln>
        </p:spPr>
      </p:pic>
      <p:sp>
        <p:nvSpPr>
          <p:cNvPr id="324" name="">
            <a:hlinkClick r:id="" action="ppaction://hlinkshowjump?jump=endshow"/>
          </p:cNvPr>
          <p:cNvSpPr/>
          <p:nvPr/>
        </p:nvSpPr>
        <p:spPr>
          <a:xfrm>
            <a:off x="7308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30467" y="10800"/>
                </a:moveTo>
                <a:lnTo>
                  <a:pt x="19961" y="17806"/>
                </a:lnTo>
                <a:lnTo>
                  <a:pt x="19961" y="3794"/>
                </a:lnTo>
                <a:close/>
              </a:path>
              <a:path fill="darken" w="53935" h="21600">
                <a:moveTo>
                  <a:pt x="32312" y="3794"/>
                </a:moveTo>
                <a:lnTo>
                  <a:pt x="32312" y="17806"/>
                </a:lnTo>
                <a:lnTo>
                  <a:pt x="33974" y="17806"/>
                </a:lnTo>
                <a:lnTo>
                  <a:pt x="33974" y="3794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327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19080" y="3200760"/>
            <a:ext cx="714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écnicas Cuantitativas y Cualitativas del Contro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332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3440" y="1269360"/>
            <a:ext cx="8737920" cy="46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écnicas d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s técnicas de control adoptan muchas formas y algunas son bas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mples, en tanto que otras son complejas y sofisticadas. Algun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iden la situación financiera de la empresa, y otras indican la efici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 la producción. Inclusive algunas herramientas d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sideran las actitudes de los empleados y percepciones. Aun cua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s herramientas varían en gran medida en su diseño todas siemp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siguen el mismo objetivo: determinar variaciones de los estánda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seados de manera que la administración pueda tomar las medid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rrectivas, la oportunidad de depender de la naturaleza de la activ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ue sé esta midiendo y de la propia herramienta de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o todas estas herramientas pretenden brindar a la administración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formación necesaria para mantener el curso de actuació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337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92320" y="1703160"/>
            <a:ext cx="8555040" cy="28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tados financi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 medición y el control de las actividades de una empresa por 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neral se logran en parte a través del análisis de estados financie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ra poder llevar a cabo tal análisis, la empresa recurre al uso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formación contable bajo la forma de esta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nancieros. Los principales estados financier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n los siguientes: el estado de resultados 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lance general y el estado de flujo efectiv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6516720" y="3448080"/>
            <a:ext cx="1638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343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85040" y="1742760"/>
            <a:ext cx="852156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tado de resultados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 estado de resultados mide el éxito que se alcanza al obtener 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tilidad, por lo general durante el anterior año calendario fiscal. 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bargo, en muchas organizaciones se presentan estado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sultados mensuales. El estado de resultados esta formado por 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rtes. Uno el ingreso que la compañía ha obtenido durante 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terior periodo, así como el costo de los artículos vendidos, 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s gastos incurridos por la empresa durante el periodo. Tres 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tilidad que es derivada de las operaciones, si los gastos son may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ue la utilidad bruta, la empresa incurre en una perdida n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8400" y="2708640"/>
            <a:ext cx="7912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Relación con lo plane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  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 control siempre existe para verificar el logro de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ue se establecen en la plane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4480" y="196380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ementos del Concep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576760" y="3573360"/>
            <a:ext cx="274032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348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12720" y="2349360"/>
            <a:ext cx="8280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 estado de resultados es útil para medir la actual rentabilidad de 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peraciones de la empresa, permite comparaciones como perio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teriores. Mediante la comparación de las utilidades, ventas y ga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través de varios periodos, la administración podrá determin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ndencias que ocurren dentro de las operaciones de l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14440" y="168768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tado de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3492360" y="4011480"/>
            <a:ext cx="259236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355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45400" y="1404360"/>
            <a:ext cx="8148240" cy="43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lance General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 balance general refleja la posición financiera de una empresa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na fecha determinada como podría ser el 31 de diciembre. T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cisiones básicas comprenden el balance gener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s activos de la empresa, sus pasivos y el capital con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s activos se clasifican como circulantes o fijos. Los artícu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irculantes son aquellos que se espera que sean convertidos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fectivo, vendidos o consumidos dentro de un periodo de un a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gunos ejemplos comprenden al efectivo, los inventarios y l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entas por cobrar. Los activos fijos son a un plazo, may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porcionando típicamente a la empresa beneficios a travé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n periodo mas largo. Los terrenos, edificios y el equipo 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jemplo de activos fij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360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3251160" y="1600200"/>
            <a:ext cx="2641680" cy="3657600"/>
          </a:xfrm>
          <a:prstGeom prst="rect">
            <a:avLst/>
          </a:prstGeom>
          <a:ln w="0">
            <a:noFill/>
          </a:ln>
        </p:spPr>
      </p:pic>
      <p:sp>
        <p:nvSpPr>
          <p:cNvPr id="362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365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8440" y="2448000"/>
            <a:ext cx="8235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s pasivos representan obligaciones para con otras personas p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rte de la empresa. Al igual que los activos, los pasivos clasifi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a sean como circulantes o a largo plazo. Los pasivos circulan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drán incluir las cuentas y los documentos como hipotecas p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g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 capital contable consiste en los fondos que los propietarios de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presa han invertido mas cualquier utilidad reteni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drá representar una medida del valor aproximado de l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spués de que se liquiden todos los pas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78240" y="154944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lance Gen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371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89600" y="1551960"/>
            <a:ext cx="805680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tado de Flujo Efec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dir el flujo de entrada y de salida de efectivo de un negoc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sulta ser la función del estado de flujo de efectivo. Medi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n análisis de flujo de efectivo, la administración podrá predec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 una forma mas precisa las necesidades futuras de efectivo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terminar que tan buena ha sido la administración del mis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 caso de que hubiera faltantes en efectivo se podrán hac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reglos para adquirir mayores cantidades por adelant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í mismo, la administración podrá evitar que se acumul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randes cantidades de efectivo cuando no se nece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 su lugar podrá ser utilizado para oportunidades de inver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ue hayan de producir una ganancia para l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376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67920" y="1645920"/>
            <a:ext cx="8303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supu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s presupuestos son expresiones de planes futuros expresados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érminos monetarios. Dentro de los presupuestos por lo comú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tilizados se incluyen el de ventas proyectadas, gasto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nufactura, gastos de administración, presupuesto de inver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largo plazo o de capital, y presupuesto de las necesidade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fectivo. Algunos presupuesto se pueden expresar en términ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stintos al monetario, como seria el presupuesto de personal 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cupar un proyecto determinado o presupuesto de utilización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quinaria de una empresa manufactur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381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52680" y="1689120"/>
            <a:ext cx="773208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stema de Control Logí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tilizando un sistema de control logístico, la administr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termina el efecto de los cambios en cualquier parte 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stema sobre su producción global. Si existiera una ac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specifica que pudiera dar como resultado una eficienc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lobal deberá rechazarse como perjudicial. Por el bien 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junto. Esto podrá significar que intentos bien intencion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 reducir costos en un área de actividad (Como es el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 inventarios), podrán ser o no ser los mejores para el b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l sistema glob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386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" action="ppaction://hlinkshowjump?jump=endshow"/>
          </p:cNvPr>
          <p:cNvSpPr/>
          <p:nvPr/>
        </p:nvSpPr>
        <p:spPr>
          <a:xfrm>
            <a:off x="7308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30467" y="10800"/>
                </a:moveTo>
                <a:lnTo>
                  <a:pt x="19961" y="17806"/>
                </a:lnTo>
                <a:lnTo>
                  <a:pt x="19961" y="3794"/>
                </a:lnTo>
                <a:close/>
              </a:path>
              <a:path fill="darken" w="53935" h="21600">
                <a:moveTo>
                  <a:pt x="32312" y="3794"/>
                </a:moveTo>
                <a:lnTo>
                  <a:pt x="32312" y="17806"/>
                </a:lnTo>
                <a:lnTo>
                  <a:pt x="33974" y="17806"/>
                </a:lnTo>
                <a:lnTo>
                  <a:pt x="33974" y="3794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2604960" y="1655640"/>
            <a:ext cx="393408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2567160"/>
            <a:ext cx="777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Medi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  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ra controlar es imprescindible medir y cuantificar 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sul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4480" y="164160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ementos del Concep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962520" y="3357720"/>
            <a:ext cx="3201840" cy="21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2284560"/>
            <a:ext cx="77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 Detectar desvi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  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na de las funciones inherentes al control, es descubrir 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ferencias que se presentan entre la ejecución y la plane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66240" y="164160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ementos del Concep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811600" y="3357720"/>
            <a:ext cx="35607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85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2637000"/>
            <a:ext cx="69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. Establecer medidas correc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  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 objeto del control es prever y corregir los err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66240" y="181944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ementos del Concep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363840" y="3500280"/>
            <a:ext cx="21448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92" name="">
            <a:hlinkClick r:id="" action="ppaction://hlinkshowjump?jump=previousslide"/>
          </p:cNvPr>
          <p:cNvSpPr/>
          <p:nvPr/>
        </p:nvSpPr>
        <p:spPr>
          <a:xfrm>
            <a:off x="6192720" y="6021360"/>
            <a:ext cx="900360" cy="360360"/>
          </a:xfrm>
          <a:custGeom>
            <a:avLst/>
            <a:gdLst>
              <a:gd name="textAreaLeft" fmla="*/ 23040 w 900360"/>
              <a:gd name="textAreaRight" fmla="*/ 877320 w 9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35" h="21600">
                <a:moveTo>
                  <a:pt x="0" y="0"/>
                </a:moveTo>
                <a:lnTo>
                  <a:pt x="53935" y="0"/>
                </a:lnTo>
                <a:lnTo>
                  <a:pt x="53935" y="21600"/>
                </a:lnTo>
                <a:lnTo>
                  <a:pt x="0" y="21600"/>
                </a:lnTo>
                <a:close/>
              </a:path>
              <a:path fill="lightenLess" w="53935" h="21600">
                <a:moveTo>
                  <a:pt x="0" y="0"/>
                </a:moveTo>
                <a:lnTo>
                  <a:pt x="53935" y="0"/>
                </a:lnTo>
                <a:lnTo>
                  <a:pt x="52535" y="1400"/>
                </a:lnTo>
                <a:lnTo>
                  <a:pt x="1400" y="1400"/>
                </a:lnTo>
                <a:close/>
              </a:path>
              <a:path fill="darken" w="53935" h="21600">
                <a:moveTo>
                  <a:pt x="53935" y="0"/>
                </a:moveTo>
                <a:lnTo>
                  <a:pt x="53935" y="21600"/>
                </a:lnTo>
                <a:lnTo>
                  <a:pt x="52535" y="20200"/>
                </a:lnTo>
                <a:lnTo>
                  <a:pt x="52535" y="1400"/>
                </a:lnTo>
                <a:close/>
              </a:path>
              <a:path fill="darkenLess" w="53935" h="21600">
                <a:moveTo>
                  <a:pt x="53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5" y="20200"/>
                </a:lnTo>
                <a:close/>
              </a:path>
              <a:path fill="lighten" w="53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5" h="21600">
                <a:moveTo>
                  <a:pt x="19961" y="10800"/>
                </a:moveTo>
                <a:lnTo>
                  <a:pt x="33974" y="3794"/>
                </a:lnTo>
                <a:lnTo>
                  <a:pt x="3397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759636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3794"/>
                </a:moveTo>
                <a:lnTo>
                  <a:pt x="33963" y="10800"/>
                </a:lnTo>
                <a:lnTo>
                  <a:pt x="19950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46440" y="2460600"/>
            <a:ext cx="9122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stablece medidas para corregir las actividades, de tal forma que 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cancen los planes exitos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Se aplica a todo: a las cosas, a las personas, y a los ac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 Determina y analiza rápidamente las causas que pueden origin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sviaciones, para que no vuelvan a presentarse en el futu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. Localiza a los sectores responsables de la administración, desde 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mento en que se establecen medidas correctiv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6520" y="1641600"/>
            <a:ext cx="35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mportancia del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23:25:56Z</dcterms:created>
  <dc:creator>MARTHA REYES</dc:creator>
  <dc:description/>
  <dc:language>en-US</dc:language>
  <cp:lastModifiedBy>MARTHA REYES</cp:lastModifiedBy>
  <dcterms:modified xsi:type="dcterms:W3CDTF">2006-11-01T02:09:37Z</dcterms:modified>
  <cp:revision>25</cp:revision>
  <dc:subject/>
  <dc:title>Diapositiva 1</dc:title>
</cp:coreProperties>
</file>