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738-53E4-4C54-BC79-4C1A8E18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127-D294-4DE2-B301-1185F63E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478-1A83-4B1A-8E69-11211FBE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072-B6AE-4C01-A1FB-80CF45FE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1A3-F7C6-4BDD-BF47-0F1EC508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F08-5B32-4721-AADB-38D743AE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4FB-311C-41BF-A3B2-31A24B8C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9E7-D2E6-4604-BC19-D2F11B5A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A9C-12BE-4B44-8EF1-A1AAF5EC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B92-6755-4C31-8728-A2A5CFB9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5F4-544D-495C-8D44-9AE33AF3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C99-81BA-4A66-887E-E0580A2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FD8-CF6B-452D-8886-62F8891D4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67880" y="1650960"/>
            <a:ext cx="38779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U N I D A D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DMINISTR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0600" y="2132280"/>
            <a:ext cx="775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ntrop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mordialmente, la referencia a los conceptos de cultura y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cultura permiten entender mejor el comport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erech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ásicamente el derecho ha plasmado en sus difer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denamientos los principios que deben regir en las rel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rero-patr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00" y="1765440"/>
            <a:ext cx="91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Econom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ntro de este marco, trabajo y salarios juegan un importante papel.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de recursos humanos se ha enriquecido con términos 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o: capital humano, escasez, oferta y demanda, mercado de trabaj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c., igualmente los estudios sobre demanda de mano de obra, impa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los salarios sobre procesos productivos, los costos y la inf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Matemá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modelos de estadística inferencial han significado una gran a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 la toma de decisiones sobre los recursos humanos. Igualmente se 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plicado los modelos de regresión a las curvas de salarios y a la val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puestos. Así como otros procedimientos estadís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" y="133992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ósitos y objetivos de la Administr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320" y="2270160"/>
            <a:ext cx="904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pó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 personas son el elemento común en todas las organizaciones, cr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objetivos, las innovaciones y realizaciones por las que se alaba a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aciones, cuando se ven desde el punto de éstas. Las perso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n recursos, sin ellos las organizaciones no podrían existir. El propós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damental de la Administración de Recursos Humanos es proporcio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la s organizaciones una fuerza laboral efi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Administración de Recursos Humanos alcanza sus propósitos med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satisfacción de sus objetivos, para poder alcanzar esta meta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tivos de la Administración de Recursos Humanos debe reconocer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afíos de la sociedad, la organización, la función de personal y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as afec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80" y="1843200"/>
            <a:ext cx="8972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objetivos pueden definirse como parámetros para medir la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levadas a cabo por los administradores de Recurso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bjetivos Soc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strarse responsable ante las necesidades y desafíos de la socieda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imizando los efectos negativos de esas demandas sob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ación. El hecho de que las organizaciones no utilicen sus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beneficio de la sociedad puede dar como resultado restricciones 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las. La sociedad puede promulgar leyes que limiten las deci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tivas a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65744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bjetivos de Organiz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nocer que la Administración de Recursos Humanos existe para contribuir a la eficacia de la organización. La Administración de Recursos Humanos no constituye un fin de si misma, sino solo un medio para ayudar a la organización a alcan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s objetivos primordiales. En pocas palabr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 papel  de la Administración  de 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os  es  el  de  servir  al  resto  de 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40280" y="3068640"/>
            <a:ext cx="29084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7240" y="1515960"/>
            <a:ext cx="815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bjetivo Fun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tener la contribución de los Recursos Humanos en un ni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ecuado a las necesidades de la compañía. Cuando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idades de la organización se cubren insuficientemente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se cubren exceso (cuando se contrata a un núme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sivo de personal), se incurre en dispendio de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bjetivo 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ibuir al logro de las metas de cada persona. En esta área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de fijar como nivel mínimo deseable lograr que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oye los proyectos individuales que coinciden con los obje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es. Cuando los objetivos personales no se cumplen,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tivación de los empleados decrece; puede disminuir el nive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empeño y aumentar la tasa de rotación de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3680" y="2359080"/>
            <a:ext cx="8353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ubicar de manera correcta la posición jerárquica de una 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Recursos Humanos, hay que recurr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mero a la estructura general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ación. La estructuración orgá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 departamento de recursos 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leja no solamente las fun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ignadas a el, sino también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la organización es pequeña,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rea de personal puede consistir en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onsable, un auxiliar, y una secre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600" y="1568520"/>
            <a:ext cx="75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ción del departamento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42080" y="2852640"/>
            <a:ext cx="28335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7280" y="2159280"/>
            <a:ext cx="8166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organismos medianos se crean un departamento de pers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 dos secciones. En organismos grandes existirán v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dores subordinados, quienes informarán al gerente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poder cumplir los diversos objetivos y funciones que 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sponden al departamento de personal, este debe dispo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una organización que le permita alcanzarlos, para lo cual d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r con su plantilla de personal correspondiente, darle el real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ario dentro de la organización de la empresa, y diseñ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ecuadamente la organización del propio depart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560" y="1284120"/>
            <a:ext cx="8329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objetivos del departamento de personal sirven como guía,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áctica, para fijar las funciones principales de éste. Los objetiv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departamento de recursos humanos so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orcionar a la organización la fuerza laboral suficiente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anzar los objetivos organizacionales, y aseso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ecuadamente a otros depart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ear los recursos humanos para asegurar una colo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ropiada y conti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)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jorar la calidad de los recursos humanos para lograr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jor eficacia de éstos, en todos los nivele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r, mantener y desarrollar condiciones organizacional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licación para lograr una satisfacción plena del personal y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s objetivos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anzar eficacia y eficiencia administrativa con los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o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1120" y="2198880"/>
            <a:ext cx="8044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imitar las funciones inherentes al departamento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os, es una tarea de dirección superior para lograr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era efectiva la coordinación de sus relaciones con los demá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s. El departamento de recursos humanos como t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resenta un grupo asesor para ayudar a los funcionarios de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ás áreas oper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ear los recursos humanos asegurando una coloc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ecuada a los tipos y cantidades correc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servar y administrar personal idóneo a todos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s de la organización en forma efi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00" y="153180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unciones del departamento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920" y="2046240"/>
            <a:ext cx="40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 R I M E R A    P A R T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59280" y="3041640"/>
            <a:ext cx="3279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520" y="1927440"/>
            <a:ext cx="8811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ectuar una adecuada contratación e inducción del nuev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in de llevar un comienzo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jar un sistema de remuneración justa para lograr nivel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empeñ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jecutar programas permanentes de capacitación y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al que eleve su capacitación 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jercer una adecuada administración del contexto colectivo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lograr adecuadas relacio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760" y="13413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unciones del departamento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0320" y="2337120"/>
            <a:ext cx="8548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ver junto con el sindicato programas de seguridad e hig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blecer adecuadas comunicaciones y relaciones hum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cer respetar la autoridad y mantener la disciplina requerida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tar servicios a todo 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5120" y="153180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unciones del departamento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0" y="21988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lutamiento, selección e inducción de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pacitación , adiestramiento y desarrollo de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álisis y evaluación de pue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ción, difusión y establecimiento de servicio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blecimiento de políticas de motivación y lider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ciones labo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3880" y="138744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tividades del departamento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600" y="2642040"/>
            <a:ext cx="4743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aluación del desemp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íticas salar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ffffff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gramas de seguridad e hig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)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stemas de compens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2880" y="1603440"/>
            <a:ext cx="77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tividades del departamento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920" y="2198880"/>
            <a:ext cx="8256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a organización necesita personal para diversos niveles: pers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apoyo y operativo, personal administrativo y directivo. El do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la organización de personal competente es fundamental para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xito, por tanto, el trabajo del departamento de recursos huma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te gran importancia. Cuando se crea el departame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al, suele ser pequeño y depende de un ejecu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tivo de nivel medio; a departamento de personal, é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menta su importancia y su complejidad. Para afronta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cimiento y las nuevas demandas, el personal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os debe elevar su nivel de especialización, conforme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 sigue ampliándose, puede organizarse en sec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y especializ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9680" y="14968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tructura del departamento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20520" y="2359080"/>
            <a:ext cx="9050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función de personal esta siendo muy importante en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las organizaciones, hay varios factores que contribuyen a e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nóme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omplejidad de puestos de gerentes de á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os con frecuencia se vuelven más complejos. Enfrentándos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onsabilidades adicionales, requieren que busquen ayuda en s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lemas más sustantivos. Ya que este problema es de la naturalez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recursos humanos, los gerentes de área recurren a especialistas e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eria, contribuyendo de este modo al establecimiento y desarrollo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ión de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840" y="14968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tructura del departamento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560" y="2162520"/>
            <a:ext cx="833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fluencias Exter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s han contribuido al desarrollo de la función de personal.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robación de leyes y reglamentos (Ley Federal del Trabajo,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 Seguro Social) crea la necesidad de gente que pue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pretarlas y elaborar programas que aseguren su cumpl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sindicatos y la influencia del mercado de trabajo 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resentado un papel de importancia para el desarroll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ión de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1000" y="1617840"/>
            <a:ext cx="871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ecesidad de congru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fiar exclusivamente en el criterio de los gerentes de área en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isiones sobre personal, conduce invariablemente a un incongr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tamiento de los empleados (algunos g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den conceder aumentos de salario a s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alternos favoritos,  otros,  de acuerdo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empeño logrado, las incongru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rían  sentimientos  de  injustic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76880" y="2708280"/>
            <a:ext cx="23558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560" y="2009880"/>
            <a:ext cx="872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ecesidad de peri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dos los factores anteriores han creado complejidad en las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personal. Esta complejidad requiere pericia para tratar con ella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consecuencia, casi todas las actividades requieren perso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imentadas para administrar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mportancia de los Recurso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 organizaciones están reconociendo cada vez mas el insumo labo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los recursos humanos) vital para el éx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2760" y="2198880"/>
            <a:ext cx="857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odas las organizaciones constituyen sistemas (es decir, un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gradas). Los componentes de cualquier sistema o unidad, d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 coordinados de una manera lógica y eficiente de manera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eda funcionar de una forma total que beneficie tanto a la 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rganización como a sus miembros individuales. De esta manera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etende presentar a la función de personal no como una seri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artes sueltas donde cada faceta es un fragmento aislado, sino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 sistema en el que cada parte se interrelaciona con otras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lizar acciones conju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ando las actividades están interrelacionadas forman un sistema.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istema consta de dos o más partes (subsistemas) que interactu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ro que poseen respectivamente límites claros y preci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6000" y="156852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administración de personal com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2560" y="2135160"/>
            <a:ext cx="8919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podríamos hablar en forma separada del origen de la Adminis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Recursos Humanos, como se le conoce actualmente, sin mencio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 derecho laboral y a la Administración científica así como de ot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iplinas. Nos referimos al derecho laboral porque como consecu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la exigencia de la clase trabajadora, se pensó que bastaría aplicar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ceptos legales en forma fría para la obtención de buenos resultados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o se encontró que las relaciones que se establecían requería estudi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endimiento y elaboración de una serie de principios para la bue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áctica de los mismos, ya que se hablaba de conceptos relativo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eldos, prestaciones, contrataciones, etc., que necesitaban de algo 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 una mera improvis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1440" y="14968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nteced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5840" y="2359080"/>
            <a:ext cx="791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concepción de la actividad de administración de personal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érminos de sistemas implica en primer lugar la limitac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vidades. Estos límites señalan el punto en que da principio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orno externo. El entorno constituye un elemento import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r que la mayor parte de los sistemas son abiertos. Un sist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ierto es aquel que es afectado por el entorno.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aciones son influidas por el entorno en que existen y,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nto, son sistemas abiertos. Así mismo, las actividad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ción de recursos humanos constituyen un sist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ierto, ya que son influidas y dependen en gran medida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or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6360" y="167652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administración de personal com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7680" y="1893960"/>
            <a:ext cx="888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1.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Fundamentos y desafí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administración de personal enfrenta desafíos múltiples en su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principal desafío consiste en ayudar a las organizaciones a mejo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 efectividad y su eficiencia. Lograr esos objetivos requiere qu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s de personal se organicen de manera adecuada.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afíos se originan en el entorno en que opera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economía, las alternativas del mercado y las disposiciones ofi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desafíos surgen también del interior de la organización. P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jemplo, el departamento de personal deberá competir con otros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tener presupuestos adecuados. El éxito del departamento de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su labor de asesoría y ayuda depende de su capacidad de mante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empre consciente de sus objetivos específicos y de los objetivo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6000" y="134136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administración de personal com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4240" y="1660320"/>
            <a:ext cx="8116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2.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laneación y se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l corazón mismo del cuerpo de actividades que denomin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ción de personal se encuentra la necesidad de dispo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una base de datos adecuada. Sin información precisa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ortuna los departamentos de personal ver seriamente lim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 capacidad para enfrentar desafíos. Para construir esta bas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os se obtiene información respecto a cada puesto y respec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 necesidades de recursos humanos a futuro. Mediante e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ormación los especialistas en personal pueden asesorar a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jecutivos de otras áreas sobre el diseño de los puesto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pervisan. Los cálculos sobre las futuras necesidad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anos permiten al departamento de personal participar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era activa en el reclutamiento y la selección de los nue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0160" y="124308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administración de personal com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72000" y="1843200"/>
            <a:ext cx="9292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3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 Desarrollo y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a vez contratados, los nuevos empleados reciben orientación 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políticas y procedimientos de la compañía. Se les asignan los 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les correspondan y reciben la capacitación para ser productivos.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pecialistas en personal pueden ayudar a determinar la ori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ecesaria, así como las necesidades de capacitación, desarrollo y asesor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fesional. Gracias a estas actividades pueden cubrirse vacantes med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mociones internas, en vez de recurrir a contrataciones externas. A f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evaluar el desempeño de los empleados, se llevan a cabo eval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ormales de manera periódica que proporcionan retroalimentación sobre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empeño y sirven como guía tanto para el empleado como para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partamento de personal, que puede indentificar puntos que convi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jo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" y="1765440"/>
            <a:ext cx="90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4.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ompens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elemento vital para mantener y motivar a la fuerza de trabajo es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ensación adecuada. Los empleados deben recibir un salario j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r su contribución productiva. Cuando las compensacione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asiado bajas es probable que surja una altas tasa de rot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al, así como otros problemas. Si el pago que reciben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bajadores es excesivamente alto, la compañía podría ver debilitada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pacidad de competir. La administración moderna de su comp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 más allá. Las prestaciones constituyen un elemento importante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lquier paquete de compensaciones y deben corresponder a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tividad del empleado para que la compañía conserve a s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leados y continúe siendo competit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4720" y="2276640"/>
            <a:ext cx="882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r otra parte, la organización debe proteger a sus trabajadores de los riesgos de todo tipo, incluyendo en ese campo la preven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identes y la observancia de las normas adecuadas de medicina preventiva para evitar la aparición de enfermedades profes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ante sus programas de seguridad y salud los departamentos de personal no sólo garantizan un entorno seguro, sino que tambié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servan normas vigentes al respecto, emitidas por entidades como el Seguro Social, la Secretaría del Trabajo, la Defensa Nacional (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ustrias de ciertas áreas), la Secretaría de Comercio, la Secretaría de Salud y otras 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720" y="1765440"/>
            <a:ext cx="91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5.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ervicio a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tener una fuerza efectiva de trabajo requiere mucho más que un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sto, prestaciones y condiciones laborales adecuadas. L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itan ser motivados y el departamento de personal es parc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onsable de garantizar la satisfacción de las necesidades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leados con respecto al puesto. Los problemas de personal y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cionados con los puestos pueden llevar a tensiones por lo que se 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orciona asesoría o también normas disciplinarias. Con obje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mplir estos objetivos y de mantener informado a su personal, 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añías consideran actualmente que los sistemas de comunic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ursos humanos son una forma efectiva de mejorar la motivación 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leados, así como de mantener alta su produc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0" y="1555560"/>
            <a:ext cx="9035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6.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laciones con el Sindi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empleados y obreros de una organización pueden unirse para for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dicatos. En las empresas que tienen sindicatos los departament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al pueden tener la responsabilidad de atender los asu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cionados con las cuestiones sindic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7.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erspectiva general de la Administración de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o ocurre a cualquier otro organismo social actualmente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s de personal necesitan recibir retroalimentación sobre 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empeño. Por esta razón, los departamentos del personal se somet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ificaciones y comprobaciones, y adelantan investigaciones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icar métodos mas efectivos de servir a su organización.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cuencia, esas investigaciones son muy útiles para ayudar a la pre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uevos desafíos de todo ti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313080" y="2060640"/>
            <a:ext cx="2771640" cy="350496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endshow"/>
          </p:cNvPr>
          <p:cNvSpPr/>
          <p:nvPr/>
        </p:nvSpPr>
        <p:spPr>
          <a:xfrm>
            <a:off x="7308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30467" y="10800"/>
                </a:moveTo>
                <a:lnTo>
                  <a:pt x="19961" y="17806"/>
                </a:lnTo>
                <a:lnTo>
                  <a:pt x="19961" y="3794"/>
                </a:lnTo>
                <a:close/>
              </a:path>
              <a:path fill="darken" w="53935" h="21600">
                <a:moveTo>
                  <a:pt x="32312" y="3794"/>
                </a:moveTo>
                <a:lnTo>
                  <a:pt x="32312" y="17806"/>
                </a:lnTo>
                <a:lnTo>
                  <a:pt x="33974" y="17806"/>
                </a:lnTo>
                <a:lnTo>
                  <a:pt x="33974" y="379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520" y="2032200"/>
            <a:ext cx="9131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organización funcional trajo la aparición de especialistas en las á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mercados, finanzas, producción y en igual forma empezaron a apare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los Estados Unidos los departamentos de relaciones industriales,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ecuencia de la necesidad de poner en manos de expertos una fun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n impor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nuestro país, la llegada de libros extranjeros en los que se hablab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e nuevo concepto hizo surgir la inquietud por el mismo. Se percibió,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gual que en otras partes, que esta función no consistía únicamente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aboración de nóminas y pagos al seguro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00" y="14968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nteced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0280" y="148428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undamento Teó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560" y="2059200"/>
            <a:ext cx="8207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geniería Industri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principios de este siglo apareció en los Estados Unidos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vimiento llamado "Administración Científica", encabezada p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. Taylor y otros ingenieros industriales, los cuales veían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pecto fundamental en las empresas la búsqueda de la efici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demos mencionar entre sus aport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-Estudios de tiemp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-Estudios de mov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-Sistemas de incen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-Valoración de t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-Oficinas de sele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-Adiestramiento a los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520" y="1843560"/>
            <a:ext cx="844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sic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iliza métodos científicos para comprender mejor las causa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rtamiento humano., para medir las habilidades y las actitud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contrar causas de motivación conflicto y frust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162240" y="3429000"/>
            <a:ext cx="2705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1360" y="2016360"/>
            <a:ext cx="8379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Soci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 la ciencia que estudia las relaciones recíprocas de grupos y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dividuos. Cuando los principios de esta ciencia son aplicado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echos concretos de la organización, aparece la sociología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mpresa, la sociología industrial o la sociología de la Adminis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sociología industrial se forja en los llamados "Estudi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wthorme" que realizó Elton Mayo., quien consideró qu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ciología mediante la experimentación debería convertirse e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iencia exacta ya que el control del grupo y sus reacciones daría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eyes del comporta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200" y="1927440"/>
            <a:ext cx="7242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 aportaciones más importantes de la sociología a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ción de Recursos Humanos han sid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Todo lo que se refiere al estudio de los grupos formale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ormales dentro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Técnicas sociométricas para integrar buenos equip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bajo (de acuerdo a la preferencia del compañe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Análisis de la Autoridad, burocracia, movilidad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21160" y="2133720"/>
            <a:ext cx="3211560" cy="212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93280" y="4365720"/>
            <a:ext cx="37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Grupos Inform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acen de las relacione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blecen los empleados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otivos socio-cultu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55640" y="2133720"/>
            <a:ext cx="3130560" cy="208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80240" y="4292640"/>
            <a:ext cx="451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Grupos Form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u origen es la relación in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que se da entre los individuos por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aturaleza del trabajo que tienen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ú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2:58:18Z</dcterms:created>
  <dc:creator>MARTHA REYES</dc:creator>
  <dc:description/>
  <dc:language>en-US</dc:language>
  <cp:lastModifiedBy>MARTHA REYES</cp:lastModifiedBy>
  <dcterms:modified xsi:type="dcterms:W3CDTF">2006-11-13T05:13:15Z</dcterms:modified>
  <cp:revision>19</cp:revision>
  <dc:subject/>
  <dc:title>Diapositiva 1</dc:title>
</cp:coreProperties>
</file>