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2CD-1AA5-43ED-9C6D-08521575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98A-601E-406C-9194-A2EE69FB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B8F-4E45-4136-973B-A39BE477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1FC-190E-4E3D-BE40-84247C7E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BEE-9A3C-4923-82A8-6FF0268F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F2B-E916-43AD-885E-55A03C6C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14D-1CF4-4686-B56E-E37187D8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7F6-5F3D-40D4-8C1D-D97A7F45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418-BDBA-40C1-9CCB-DABC4B65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1CF-39C9-4273-ADFC-26DD2D29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6EF-0AEF-4691-A5F5-DD7A75B8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013-D737-4608-A0B8-931C0798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EDEF-635D-42DB-A5B7-89B2B1AB7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67160" y="2703600"/>
            <a:ext cx="391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UNIDAD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CEPTOS  BA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7920" y="1857240"/>
            <a:ext cx="751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¿Qué es un doc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ocumento es un conjunto de elementos gráfic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extua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20:28:29Z</dcterms:created>
  <dc:creator>MARTHA REYES</dc:creator>
  <dc:description/>
  <dc:language>en-US</dc:language>
  <cp:lastModifiedBy>MARTHA REYES</cp:lastModifiedBy>
  <dcterms:modified xsi:type="dcterms:W3CDTF">2008-05-13T21:27:23Z</dcterms:modified>
  <cp:revision>2</cp:revision>
  <dc:subject/>
  <dc:title>Diapositiva 1</dc:title>
</cp:coreProperties>
</file>