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F50-6B13-45EA-89DA-38CF65E2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221-2954-49C9-8EA2-FB5D83F0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487-DB32-4A81-A61A-54C11037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2C9-AEF6-47AA-AA78-97081B75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694-EC2B-4F63-A772-A6B7EE79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42C-71B9-431D-A63E-BB468A62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2EF-D9BE-4569-A064-418083DA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CE3-9C62-4282-A3CA-1EC9DE2D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225-45FD-4682-8553-3701E841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C1C-0122-4D03-9E2E-41C5743F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B4B-655C-4928-A561-10C63CA0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62D-29C4-4FF8-AAAC-78241A3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4FB-4DC7-4224-BED9-6742BE9E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ncoimagenes.com/" TargetMode="External"/><Relationship Id="rId3" Type="http://schemas.openxmlformats.org/officeDocument/2006/relationships/hyperlink" Target="http://www.archivodigital.com.mx/" TargetMode="External"/><Relationship Id="rId4" Type="http://schemas.openxmlformats.org/officeDocument/2006/relationships/hyperlink" Target="http://recursos.cnice.mec.es/bancoimagenes" TargetMode="External"/><Relationship Id="rId5" Type="http://schemas.openxmlformats.org/officeDocument/2006/relationships/hyperlink" Target="http://www.animationfactory.com/" TargetMode="External"/><Relationship Id="rId6" Type="http://schemas.openxmlformats.org/officeDocument/2006/relationships/hyperlink" Target="http://www.shutterstock.com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1840" y="3065400"/>
            <a:ext cx="59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UNDAMENTOS  DE 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905120" y="1481040"/>
          <a:ext cx="5638680" cy="4237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481040"/>
                    <a:ext cx="563868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0240" y="1706400"/>
            <a:ext cx="7785360" cy="28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Familia tipográfica</a:t>
            </a:r>
            <a:br>
              <a:rPr sz="3600"/>
            </a:br>
            <a:br>
              <a:rPr sz="4400"/>
            </a:b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La gama de pesos, cursivas y anchos (y en ocasiones caracteres adornados) disponibles para un tipo de letra recibe el nombre de familia tipográf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2438280" y="1719360"/>
          <a:ext cx="4572000" cy="4071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719360"/>
                    <a:ext cx="45720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2590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ara un Psicólogo, es la sensación producida en el observador humano cuando la retina es estimulada por energía radi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2560" y="14428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C  O  L  O  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1148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24382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El color sirve para llamar la atención, producir efectos psicológicos, desarrollar asociaciones, lograr la detención, crear una atmósfera estéticamente placentera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769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5120" y="1614600"/>
            <a:ext cx="5391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6880" y="1841400"/>
            <a:ext cx="38102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523880"/>
            <a:ext cx="784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AMARILLO: Asociación positiva- se asocia con el sol, iluminación, comprensión, intuición, divinidad, grandeza. La asociación negativa incluye cobardía y alevolenci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ROJO: Asociación positiva: Sangre, fuego, pasión, valor, patriotismo, revolución, Cristo y libertad. Asoc. negativa: sangre en abundancia, fuego sin control, pasión destructiva, guerra, martirio, peligro, el diabl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AZUL: Asoc. positiva: Cielo, mar en calma, sentimientos religiosos, devoción, inocencia, verdad, constancia, justicia, caridad, frío. Asoc. negativa: azul oscuro = noche, mar en tormenta y descorazo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81280" y="2362320"/>
            <a:ext cx="4876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¿Qué es exactamente tipografí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2565360" cy="379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07480" y="162576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 I P O G R A F I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16765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VERDE: Asoc. Positiva: vegetación, naturaleza, fertilidad en los campos, simpatía, prosperidad, esperanza, vida, juventud, frescura. Asoc. Negativa: envidia y coraje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VIOLETA: Asoc. Positiva: Poder espiritual, realeza, verdad, paciencia, humildad, nostalgia. Asoc. negativa: humildad humillante, penitencia, resignación (por no querer hacer nada)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NARANJA: Asoc. positiva: fuego y llamas, hospitalidad, benevolencia, ambición medida. Asoc. negativa: ambición, malevolencia, satá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BLANCO: Asoc. positiva: Inocencia, día, pureza, perfección, rectitud y verdad. Asoc. negativa: fantasmas, espectros, frí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NEGRO: Asoc. positiva: grandeza, sofisticación, oscuridad, solemnidad. Asoc. negativa: muerte, destrucción, olvido, maldad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GRIS: Asoc. positiva: discreción, renunciación, retrospección. Asoc. negativa: egoísmo, depresión, indiferencia, vejez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PLATEADO: Asoc. positiva: pureza, luna, pruebas de verdad. Asoc. negativa: muerte, destrucción, olvido y mal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Aspectos Psicológicos del Color</a:t>
            </a:r>
            <a:br>
              <a:rPr sz="2800"/>
            </a:br>
            <a:br>
              <a:rPr sz="28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l uso está justificado sólo en tanto contribuya a la realización de tres importantes objetivos de la comunicación gráfica: </a:t>
            </a:r>
            <a:br>
              <a:rPr sz="2400"/>
            </a:b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atraer y lograr la atención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ser legible y comprensibl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causar una impresión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Las funciones del color son: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1. Llamar la atención.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2. Producir efectos psicológicos.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3. Desarrollar asociaciones.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4. Lograr la retención.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5. Crear una atmósfera estéticamente placent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14400" y="1828800"/>
            <a:ext cx="7620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Conclusión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Con el color se puede estimular cierta sensación o se puede causar una respuesta específica por parte del recep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52560" y="1719360"/>
            <a:ext cx="742752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gunas opciones de bancos de imágenes e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ancoimagen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rchivodigital.com.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ecursos.cnice.mec.es/bancoima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animationfactor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shutterstoc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1600200"/>
            <a:ext cx="7848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rie de manchas abstractas usadas en varias combinaciones para representar los sonidos con los que nos comunica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765440" cy="198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80320" y="134136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 I P O G R A F I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9810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ienen otros significados o asociaciones:</a:t>
            </a:r>
            <a:br>
              <a:rPr sz="2800"/>
            </a:b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letra O podría ser una cara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la letra S podría ser una serpie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odos los caracteres tipográficos tienen una aso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80320" y="134136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 I P O G R A F I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5238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Verdana"/>
              </a:rPr>
              <a:t>¿Dónde encontramos tipograf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1878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1905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libros, revistas, folletos, empaques, hojas de papelería, posters, espectaculares, señalizaciones, marquesinas, paradas de camión, logotipos, televisión y nombres de cines, en escultura, cerámica, decoración globos, placas conmemorativas, graffiti y páginas web en fin un sinnúmero de lugares 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80320" y="134136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 I P O G R A F I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81360" y="2209680"/>
            <a:ext cx="2841840" cy="2492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43000" y="1981080"/>
            <a:ext cx="2760840" cy="2841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80320" y="134136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 I P O G R A F I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1916280"/>
            <a:ext cx="77724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Las diez grandes familias tipográficas: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1. Las góticas y las civiles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2. Las humanas (humanistas)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3. Las garaldas (romanos antiguos)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4. Las reales o de transición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5. Las didonas (romanos modernos)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6. Las mecanas o egipcias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7. Las incisas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8. Las lineales geométricas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(sin remate, lineales o de palo seco)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9. Las lineales moduladas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10. Las escrip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80320" y="1341360"/>
            <a:ext cx="37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 I P O G R A F I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17524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Fuente</a:t>
            </a:r>
            <a:br>
              <a:rPr sz="3600"/>
            </a:b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Conjunto de caracteres del tamaño de un tipo de letra, y usualmente incluye letras de caja alta, caja baja, versalitas, cifras, fracciones, ligaduras, signos matemáticos, de puntuación y de referencia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2:40:41Z</dcterms:created>
  <dc:creator>MARTHA REYES</dc:creator>
  <dc:description/>
  <dc:language>en-US</dc:language>
  <cp:lastModifiedBy>MARTHA REYES</cp:lastModifiedBy>
  <dcterms:modified xsi:type="dcterms:W3CDTF">2008-05-21T02:44:10Z</dcterms:modified>
  <cp:revision>1</cp:revision>
  <dc:subject/>
  <dc:title>Diapositiva 1</dc:title>
</cp:coreProperties>
</file>