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D60-E14E-47AA-939D-34B3C79F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176-D4A2-437F-8A58-B7551A63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782-BE92-402F-A653-110DBB40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DF1-2413-457C-831F-BD5FBF6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559-9D5D-46D6-960F-E64E5CD8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5F7-43B5-4BEA-A9EF-B2CB6607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F02-8EB7-472F-A800-B441DEC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7E1-7437-4ACF-8192-5B364C1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614-60B0-4D3D-81CA-2F72F8A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94E-76C2-497F-A275-9229711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D6F-6E8C-4BCF-A613-CAB86F3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65F-B260-4C5A-AF93-6603E3E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40FB-8D8A-4DC5-9463-160AAE56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18916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U N I D A D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1500480" y="348624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P L A N E A C I 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560" y="2543040"/>
            <a:ext cx="2836800" cy="20383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0560" y="1990800"/>
            <a:ext cx="781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IPOLOGÍA DE LA PLAN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lanes se pueden clasificar según el período en que se haya establecido 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 corto plazo. Su tiempo no es mayor a un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 mediano plazo. Son por un período de uno a tres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 largo plazo. Se proyecta a más de tres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920" y="1327320"/>
            <a:ext cx="88966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Con otro enfoque de planeación integrada o planeación tot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se subdividen los planes en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stratégicos. Sirven de base a los demás planes y los diseñ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y operan los niveles directivos basándose en detectar la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debilidades y potencialidades de la empresa buscand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alternativas que minimicen las primeras y potencialicen la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segund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2. Táctica o funcional . Son más específicos y están más enfoc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a los departamentos subordinándose a los estratég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3. Operativos.  Se rigen a los planes tácticos  o funcionales y consist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n formular y asignar actividades que se deberán ejecutar en el ni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operativo de la organiz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548800" y="1628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Etapas de la Plane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43200" y="2658960"/>
            <a:ext cx="365760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55280" y="19638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pó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0280" y="3069000"/>
            <a:ext cx="483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on los fines esenciales o directr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que definen la razón de ser,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y carácter de todo organismo social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1523880" cy="215892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97760" y="2253960"/>
            <a:ext cx="74775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acterístic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) Son básicos o trascendentales porque constituye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undamento de los demás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) Son genéricos o cualitativos porque no se expres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n términos 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) Son permanentes porque están vigentes todo el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vida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) Son semipermanentes porque pueden abarcar un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970920" y="16765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pó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2000" y="1928520"/>
            <a:ext cx="6916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mi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on suposiciones que se deben considerar ante aque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ircunstancias futuras que afectarán el curs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que se va a desarrollar el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  establece  en  el inicio del  proceso, aunq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dieran  desarrollarse  por su esencia e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anscurso del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32720" y="3211560"/>
            <a:ext cx="1655640" cy="23050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54880" y="1350720"/>
            <a:ext cx="68360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mi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s premisas de acuerdo con su naturaleza pueden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ternas : Cuando se originan dentr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ternas: Su origen es ajeno a la empresa y pueden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 carácter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 carácter leg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Tendencias fisc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Tendencias en la legis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Económ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Técn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Otro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2158920" cy="14349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9360" y="1522080"/>
            <a:ext cx="667008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objetivos presentan los resultados qu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pera obtener, son fines por alcanzar, estable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titativamente para realizarse en un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 establecen a un tiempo especi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Se determinan cuantita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13440" y="3502080"/>
            <a:ext cx="2158920" cy="172728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1160" y="1373400"/>
            <a:ext cx="820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lasifica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enerales.  Comprenden toda la empresa y se establecen a l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laz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ácticos o departamentales. Involucran exclusivamente a  un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 un departamento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00320" y="3782880"/>
            <a:ext cx="2984400" cy="187812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42920" y="1380960"/>
            <a:ext cx="691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INEAMIENTOS PARA ESTABLECER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sentarlos por escr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cordar las preguntas claves ( qué, cómo, donde, quié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do y porqu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No confundirlos con los propósitos o las estrate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ben ser difundidos y conocidos, por todos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tegrantes de toda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ben ser estables; procurar que no cam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377720" y="204624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¿Qué es Plane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034640" y="3125880"/>
            <a:ext cx="681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terminación de los objetivos y elección de los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acción para lograrlos con base en la investigació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aboración de un esquema detallado que habrá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alizarse en un futur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45360" y="2133720"/>
            <a:ext cx="7444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rate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on cursos de acción general o alternativas que mue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dirección y el empleo general de los recursos y 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ara lograr los objetivos en condiciones más ventaj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 consideran cursos de acción general porque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tablecimiento elige las alternativas o alternativa con l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 lograrán  mayores beneficios al organism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2520" y="1362600"/>
            <a:ext cx="773208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ara su establecimiento se recomienda seguir tres etap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1. Determinación de los puntos de acción o alternativ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Hay que buscar el mayor número de alterna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2. Evaluación. Es la etapa en que analiza y se pondera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cada una de las alternativas, tomando en cuenta su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ventajas y desventajas, con apoyo en técnicas de investig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3. Selección de alternativas. Aquí se deben considerar l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alternativas más idóneas basándose en cuanto a factibilidad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ventajas, seleccionando las que permitan lograr los objetivos d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la empre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9720" y="1827000"/>
            <a:ext cx="78645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mporta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Sin estrategias no se logran lo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Son lineamientos generales que permiten guiar la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Sirven para lograr los objetivos y ejecutar la d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Facilitan la toma de decisiones, porque valoran las altern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La complejidad hace necesario establecer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sarrollan la creatividad en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3440" y="1979640"/>
            <a:ext cx="7397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s Estrategias pueden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ácticas o Departamentales. Son lineamientos específicos que refieren a cada depart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perativas o Especificas. Se asignan a los niveles inferiores quienes las aplican en sus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8240" y="1698480"/>
            <a:ext cx="74214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lí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s políticas son guías para orientar la acción, son criterios, lineamientos en los generales a observar en la toma de decisiones, sobre problemas que se repiten una y otra vez dentro de un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on criterios generales de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que auxilian el  logro de  objetivo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ilitan  la  implementación  de 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trate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6000" y="3660840"/>
            <a:ext cx="1871640" cy="1496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1339560"/>
            <a:ext cx="7632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u importancia 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ilitan la delegación de auto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tivan y estimulan al personal al dejar que tomen ci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vitar perdidas de tiempo a las autoridade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torgan un margen de libertad para tomar decisiones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terminada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tribuyen a lograr los objetivos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porcionan uniformidad y estabilidad en las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dican al personal, como deben actuar en sus fun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cilitan la inducción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77680" y="1655640"/>
            <a:ext cx="66758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ineamientos para su formul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ben establecerse por escr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Redactarse clar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municarse a todos los niv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ben coordinarse con las demás polí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Revisarse periód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ben ser aplicable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ben estar acordes con los objetivos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Deben ser flex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2093760"/>
            <a:ext cx="2333520" cy="183996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78240" y="2981160"/>
            <a:ext cx="816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 un esquema en donde se establecen la secuencia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pecificas que habrán de realizarse para alcanzar los objetiv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tiempo requerido para efectuar cada una de sus partes y 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quellos eventos involucrados en su cons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120" y="1928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2640" y="2678040"/>
            <a:ext cx="78451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La elaboración de un  programa debe de seguir un procedimie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1.- Identificar y determinar las actividades comprendid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2.- Ordenar cronológicamente la realización de las actividad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3.- Interrelacionar las actividades definiendo cuales van primero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que actividades son simultáneas y que actividades se desarroll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despué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4.- Deberán asignar a cada actividad el tiempo que requiere para s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realización, así como, los recursos necesa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120" y="1928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64480" y="1744920"/>
            <a:ext cx="7083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rogramas son tácticos y opera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Tácticos, se establecen para una área o activi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jemplo, un programa de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Operativos, se establecen en las unidades o s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las que consta una activi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, programa de fabr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motor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33840" y="3789360"/>
            <a:ext cx="2594160" cy="16984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152000" y="162864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¿Porqué es importante la Plane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539640" y="2335320"/>
            <a:ext cx="80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planeación es indispensable en todo organism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ya que puede prever los cambios que puedan presenta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n el futuro, anticipando las medidas necesarias pa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frontar las consecuencias, por el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os fundamentos básicos que reflej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 Importancia  so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7440" y="3714840"/>
            <a:ext cx="2519640" cy="15858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72080" y="3019680"/>
            <a:ext cx="68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rogramas son necesarios porque sumini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formación, sirven como herramienta de contr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dentifican a los responsables de realizarlos, disminuy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stos, orientan sobre las actividades que de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alizarse, determinando el tiempo por lo que evita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uplicidad de esfuerz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26160" y="1928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26840" y="2930760"/>
            <a:ext cx="781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presupuesto es un plan de todas o algunas de las f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actividad de la empresa expresada en términos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monetarios) junto con la  comprobación subsecuente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alizaciones de dicho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resupuestos son indispensables al planear ya que a trav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ellos, se proyecta en forma cuantificada los elemento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necesita la empresa para lograr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2560" y="19288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29000" y="2170800"/>
            <a:ext cx="80308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Un presupuesto es un esquema escrito de tipo general y/o específ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que determina por anticipado en términos cuantitativos, el origen  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asignación de recursos de la empresa para una período especifi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s un esquema que se elabora en un documento formal y orden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sistemáticam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Se expresa en términos cuantitativ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s general porque se establece para toda la empre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s específico porque se desagrega para cada una de las áreas de l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mpre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ffffff"/>
                </a:solidFill>
                <a:latin typeface="Tahoma"/>
              </a:rPr>
              <a:t>Es diseñado para un período determin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2560" y="155736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39720" y="2265480"/>
            <a:ext cx="7857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on importantes porque son unidades de medida, comparab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más de medir el desempeño de las áreas sirve como patr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ejecución, coordina las actividades, además de ser un 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ambién determinan el límite y alcance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rogaciones, estableciendo bases par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rrecta y reduce al mínimo los costos, en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tros asp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7880" y="155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529320" y="3284640"/>
            <a:ext cx="1571760" cy="228600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6640" y="2348280"/>
            <a:ext cx="64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rocedimientos establecen el orden cronológ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y la secuencia de actividades que deben seguir e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alización de un trabajo re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0600" y="17478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78560" y="3716280"/>
            <a:ext cx="2593800" cy="16826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16920" y="2714760"/>
            <a:ext cx="7500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mpor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* Determinan el orden lógico de la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* Promuevan eficiencia y espe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* Delimitan responsabilidad, eliminando dupli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* Determinan como hacerse, cuando hacerse y quién lo h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* Son aplicables en funcione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1680" y="181944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21160" y="2143440"/>
            <a:ext cx="7553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lanes son esquemas resultantes de la planeación, de 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orma que toda o cada una de sus etapas vertidas por escri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on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ara que el diseño de un plan sea efectivo requiere 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 Autorización. Sólo los planes oficiales deben ser elabo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y ejecu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 Objetividad. Se funda en datos y elementos cient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 Actualización. Requieren ser diseñados para adaptars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mbios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4 De naturaleza confidencial. Su conocimiento debe 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imitado a un selecto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5280" y="15573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266076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5 Sencillez. Debe ser de fácil compre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6 Adecuación. Deben adaptarse a las necesidades y posi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quienes los apliqu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7 Completo. Que abarquen todas las actividades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8 Ventajoso. Debe dar beneficios a cada uno de los protagonis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2240" y="18194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49720" y="1830600"/>
            <a:ext cx="82350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IBLIOGRAFÍ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nch Galindo y García Martínez, Fundamentos de Administr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illas, México, D.F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IBLIOGRAFÍA COMPLE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yes Ponce Agustín, Administración de Empresas, Trillas, Méxic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Koonz O´Donell, Administración, Mc Graw Hi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ttp://www.universidadabierta.edu.mx/Biblio/M/PLANEAC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4211640" y="5842080"/>
            <a:ext cx="900000" cy="539640"/>
          </a:xfrm>
          <a:custGeom>
            <a:avLst/>
            <a:gdLst>
              <a:gd name="textAreaLeft" fmla="*/ 34920 w 900000"/>
              <a:gd name="textAreaRight" fmla="*/ 865080 w 90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36014" h="21600">
                <a:moveTo>
                  <a:pt x="0" y="0"/>
                </a:moveTo>
                <a:lnTo>
                  <a:pt x="36014" y="0"/>
                </a:lnTo>
                <a:lnTo>
                  <a:pt x="36014" y="21600"/>
                </a:lnTo>
                <a:lnTo>
                  <a:pt x="0" y="21600"/>
                </a:lnTo>
                <a:close/>
              </a:path>
              <a:path fill="lightenLess" w="36014" h="21600">
                <a:moveTo>
                  <a:pt x="0" y="0"/>
                </a:moveTo>
                <a:lnTo>
                  <a:pt x="36014" y="0"/>
                </a:lnTo>
                <a:lnTo>
                  <a:pt x="34614" y="1400"/>
                </a:lnTo>
                <a:lnTo>
                  <a:pt x="1400" y="1400"/>
                </a:lnTo>
                <a:close/>
              </a:path>
              <a:path fill="darken" w="36014" h="21600">
                <a:moveTo>
                  <a:pt x="36014" y="0"/>
                </a:moveTo>
                <a:lnTo>
                  <a:pt x="36014" y="21600"/>
                </a:lnTo>
                <a:lnTo>
                  <a:pt x="34614" y="20200"/>
                </a:lnTo>
                <a:lnTo>
                  <a:pt x="34614" y="1400"/>
                </a:lnTo>
                <a:close/>
              </a:path>
              <a:path fill="darkenLess" w="36014" h="21600">
                <a:moveTo>
                  <a:pt x="36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4" y="20200"/>
                </a:lnTo>
                <a:close/>
              </a:path>
              <a:path fill="lighten" w="36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4" h="21600">
                <a:moveTo>
                  <a:pt x="18007" y="3837"/>
                </a:moveTo>
                <a:lnTo>
                  <a:pt x="20583" y="6448"/>
                </a:lnTo>
                <a:lnTo>
                  <a:pt x="20583" y="4707"/>
                </a:lnTo>
                <a:lnTo>
                  <a:pt x="22359" y="4707"/>
                </a:lnTo>
                <a:lnTo>
                  <a:pt x="22359" y="8224"/>
                </a:lnTo>
                <a:lnTo>
                  <a:pt x="24970" y="10800"/>
                </a:lnTo>
                <a:lnTo>
                  <a:pt x="23316" y="10800"/>
                </a:lnTo>
                <a:lnTo>
                  <a:pt x="23316" y="17989"/>
                </a:lnTo>
                <a:lnTo>
                  <a:pt x="12698" y="17989"/>
                </a:lnTo>
                <a:lnTo>
                  <a:pt x="12698" y="10800"/>
                </a:lnTo>
                <a:lnTo>
                  <a:pt x="11044" y="10800"/>
                </a:lnTo>
                <a:close/>
              </a:path>
              <a:path fill="darkenLess" w="36014" h="21600">
                <a:moveTo>
                  <a:pt x="20583" y="6448"/>
                </a:moveTo>
                <a:lnTo>
                  <a:pt x="20583" y="4707"/>
                </a:lnTo>
                <a:lnTo>
                  <a:pt x="22359" y="4707"/>
                </a:lnTo>
                <a:lnTo>
                  <a:pt x="22359" y="8224"/>
                </a:lnTo>
                <a:close/>
              </a:path>
              <a:path fill="darkenLess" w="36014" h="21600">
                <a:moveTo>
                  <a:pt x="17085" y="14299"/>
                </a:moveTo>
                <a:lnTo>
                  <a:pt x="18930" y="14299"/>
                </a:lnTo>
                <a:lnTo>
                  <a:pt x="18930" y="17989"/>
                </a:lnTo>
                <a:lnTo>
                  <a:pt x="23316" y="17989"/>
                </a:lnTo>
                <a:lnTo>
                  <a:pt x="23316" y="10800"/>
                </a:lnTo>
                <a:lnTo>
                  <a:pt x="12698" y="10800"/>
                </a:lnTo>
                <a:lnTo>
                  <a:pt x="12698" y="17989"/>
                </a:lnTo>
                <a:lnTo>
                  <a:pt x="17085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endshow"/>
          </p:cNvPr>
          <p:cNvSpPr/>
          <p:nvPr/>
        </p:nvSpPr>
        <p:spPr>
          <a:xfrm>
            <a:off x="7308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30467" y="10800"/>
                </a:moveTo>
                <a:lnTo>
                  <a:pt x="19961" y="17806"/>
                </a:lnTo>
                <a:lnTo>
                  <a:pt x="19961" y="3794"/>
                </a:lnTo>
                <a:close/>
              </a:path>
              <a:path fill="darken" w="53935" h="21600">
                <a:moveTo>
                  <a:pt x="32312" y="3794"/>
                </a:moveTo>
                <a:lnTo>
                  <a:pt x="32312" y="17806"/>
                </a:lnTo>
                <a:lnTo>
                  <a:pt x="33974" y="17806"/>
                </a:lnTo>
                <a:lnTo>
                  <a:pt x="33974" y="379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4360" y="1928880"/>
            <a:ext cx="84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Que propicia el desarroll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duce los niveles de incertidumbre aunque no los eli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epara al organismo social para hacer frente a las conting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que se prese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ntiene una mentalidad futurista, teniendo más visión de lo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abrá de v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tablece un sistema racional de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1928880"/>
            <a:ext cx="712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duce al mínimo los riesgos basándose en hechos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mueve la eficiencia , elimina la improvis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porciona los elementos y los controla, ademá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valuar alternativas elevando la moral de todos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tegrantes por ser un ejercicio incl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ximiza tiempo, elementos y recursos en todos los niv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840" y="2493000"/>
            <a:ext cx="847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rincipios sirven como guías en las acciones de la admini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 ello para ser acertivos en nuestra planeación requer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omar en cuenta los siguientes princip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50600" y="162864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Principios de la Plane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03640" y="3789360"/>
            <a:ext cx="2736720" cy="182412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178000"/>
            <a:ext cx="7490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. Factibilidad .- Lo que se planea debe ser realizable y 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mposible de lograr, debe ser algo alcanzable que se pue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ristalizar y no plasmar optimismos fal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. Objetividad y Cuantificación .- Es necesario que la bas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planes se sustente en datos reales, razonamient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ecisos y exactos. Es necesario utilizar datos objetivo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ales que reflejen sus aspectos cualitativos y cuantit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ólo así  será confiable la plan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96320" y="2176560"/>
            <a:ext cx="7341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. Flexibilidad .- Es necesario que se establezcan már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errores para poder estar en posibilidades de afro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tuaciones imprevistas las que pudieran ser para bien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ara 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4. Unidad .- Todas las áreas del organismo social d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ubordinar sus planes a un plan rector, a un plan gen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 lo que deben ser consistentes en sus enfoque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rmónicos para que no se contrapongan unos a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6600" y="2497320"/>
            <a:ext cx="813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5. Del Cambio de Estrategias .- Cuando por las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n que se desarrolla la empresa un plan se extiende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elación al tiempo deberá de sufrir ajustes para  replante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ser necesario en forma total, sin que abandone pro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unque si deberán de modificarse, ,también las estrateg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líticas, programas, presupuestos y procedimientos para log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us fi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596360" y="595008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6192720" y="595008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2:47:57Z</dcterms:created>
  <dc:creator>MARTHA REYES</dc:creator>
  <dc:description/>
  <dc:language>en-US</dc:language>
  <cp:lastModifiedBy>MARTHA REYES</cp:lastModifiedBy>
  <dcterms:modified xsi:type="dcterms:W3CDTF">2006-09-18T01:47:02Z</dcterms:modified>
  <cp:revision>46</cp:revision>
  <dc:subject/>
  <dc:title>Diapositiva 1</dc:title>
</cp:coreProperties>
</file>