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74A3D-4331-4A4C-A57B-A9DFA1159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5ADB8-1E5D-448B-BA74-136D8094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F4CC8-4186-4FD5-9C8E-50980AB4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57D73-242E-4625-8696-754918213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ED88-FA33-45DC-80A1-6F80D1E9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C3E6-A7CD-4D91-B42C-293F80B3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4A94-2202-4B91-87B9-96FC8D45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1C06-0A33-44B2-BE8F-90286801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CC88-6289-4025-A92C-12320801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7BED-E05F-40F3-84A7-3C0F1FB6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E8BE-E18A-490A-9A6C-51DE5012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7F275-47CF-4AAA-9623-7CC83CE4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B788-2575-4002-A8C2-EE5FA410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7613-2CB9-4977-B383-22F46EBC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8005-9F22-4E02-9601-9A07BE22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5F8D-7BCE-42AC-AE28-E3C1D89EF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7343-2CF6-448D-A727-08BCDBB65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06B98-BE87-488B-9E3D-1EC67935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7661E-D8E7-4C29-ACAE-53181766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48174-64DE-478E-AB15-7C249284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72DE7-04E6-45F2-A47D-04659A57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59462-058B-47C7-965C-987AFDA6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A3F44-2794-4499-9EB8-DAE2B1AB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3843D-A881-43F1-AFC1-BE621EF7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F7F5-8D31-4AB3-AA14-08780BDB7915}" type="slidenum">
              <a:rPr b="0" lang="es-MX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42C1-220E-4779-B54D-3F7617B31A2A}" type="slidenum">
              <a:rPr b="0" lang="es-MX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mx.geocities.com/baldemusic" TargetMode="External"/><Relationship Id="rId2" Type="http://schemas.openxmlformats.org/officeDocument/2006/relationships/hyperlink" Target="mailto:baldemusic@yahoo.com" TargetMode="External"/><Relationship Id="rId3" Type="http://schemas.openxmlformats.org/officeDocument/2006/relationships/hyperlink" Target="mailto:baldemusic@correo.unam.mx" TargetMode="Externa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resentación realizada por el Prof. Jesús Balderas Gómez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http://mx.geocities.com/baldemus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baldemusic@yahoo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baldemusic@correo.unam.m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cc"/>
                </a:solidFill>
                <a:latin typeface="Tahoma"/>
              </a:rPr>
              <a:t>Art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Hoy en día el arte se considera, en todas sus categorías, como parte fundamental de los logros de la humanidad y muchos creadores de los más diversos campos artísticos se encuentran entre los ciudadanos más famosos del mun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cc"/>
                </a:solidFill>
                <a:latin typeface="Tahoma"/>
              </a:rPr>
              <a:t>Art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 que requiere un aprendizaje. El término arte deriva del latín </a:t>
            </a: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ars,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que significa habilidad y hace referencia a la realización de acciones que requieren una especializ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cc"/>
                </a:solidFill>
                <a:latin typeface="Tahoma"/>
              </a:rPr>
              <a:t>Art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l arte procura a la persona o personas que lo practican y a quienes lo observan una experiencia que puede ser de orden estético, emocional, intelectual o bien combinar todas esas cualidad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cc"/>
                </a:solidFill>
                <a:latin typeface="Tahoma"/>
              </a:rPr>
              <a:t>Art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as bellas artes: literatura, música, pintura, escultura y arquitectura, centran su interés en la estética, la cual, desde luego, es subje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cc"/>
                </a:solidFill>
                <a:latin typeface="Tahoma"/>
              </a:rPr>
              <a:t>Art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l arte requiere habilidad técnica. El artista intenta crear un orden partiendo de las experiencias diversas y, en apariencia, aleatorias del mund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cc"/>
                </a:solidFill>
                <a:latin typeface="Tahoma"/>
              </a:rPr>
              <a:t>Art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un cuando el artista pueda ser un genio único movido por unas energías creativas propias, también es en gran parte un producto de la sociedad en la que viv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cc"/>
                </a:solidFill>
                <a:latin typeface="Tahoma"/>
              </a:rPr>
              <a:t>Art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a sociedad debe procurar un grado de bienestar económico y suficiente tiempo libre como para permitir que el público o las instituciones puedan pagar a los artistas profesiona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cc"/>
                </a:solidFill>
                <a:latin typeface="Tahoma"/>
              </a:rPr>
              <a:t>Art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El tema artístico está muchas veces dictado por la sociedad que lo financia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cc"/>
                </a:solidFill>
                <a:latin typeface="Tahoma"/>
              </a:rPr>
              <a:t>Art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Una obra de arte —aunque cambie el punto de vista del artista o el gusto del público— tiene un valor permanente como expresión estética realizada en un tiempo y en un lugar determinad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2T14:46:15Z</dcterms:created>
  <dc:creator>Profr. Jesús Balderas</dc:creator>
  <dc:description/>
  <dc:language>en-US</dc:language>
  <cp:lastModifiedBy>Jesus Balderas</cp:lastModifiedBy>
  <dcterms:modified xsi:type="dcterms:W3CDTF">2003-08-26T20:50:06Z</dcterms:modified>
  <cp:revision>26</cp:revision>
  <dc:subject/>
  <dc:title>Ar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