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116D-195D-47A7-AD98-8BCB7DF88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FE7A-0430-4AA1-9B94-167B4E318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1643-B0C5-4A29-A86A-F8665975A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3852-7E42-462F-9E2A-25F8B726D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EE4A-BF41-4179-A1A6-80FF0792F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9852-CEAC-44F6-8DB6-EA11D69DE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3884-5076-42DB-8144-007D7C18C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EE9D-C14C-4917-A2DB-DF651788D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5DF5-FCB0-4F06-948A-88EA2FD11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7E0A-CE64-4C54-BED2-538C0561A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DBC3-2A48-4456-9E23-A87647317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E615-A8AF-4261-AD5B-BC6843992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254BC-1A39-4ADD-9833-8DF737B9BF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cccc"/>
          </a:solidFill>
          <a:ln w="9360">
            <a:solidFill>
              <a:srgbClr val="ff66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_lecture1</a:t>
            </a:r>
            <a:br>
              <a:rPr sz="4400"/>
            </a:br>
            <a:r>
              <a:rPr b="0" lang="he-IL" sz="4400" spc="-1" strike="noStrike">
                <a:solidFill>
                  <a:srgbClr val="000000"/>
                </a:solidFill>
                <a:latin typeface="Times New Roman"/>
              </a:rPr>
              <a:t>עיגול -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u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quare Eq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משוואה ריבועי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bx+c=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66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משוואה ריבועי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68360" y="1484280"/>
          <a:ext cx="8064360" cy="511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484280"/>
                    <a:ext cx="8064360" cy="51134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66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Times New Roman"/>
              </a:rPr>
              <a:t>קרוב -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55640" y="2276640"/>
            <a:ext cx="7488360" cy="3673440"/>
          </a:xfrm>
          <a:prstGeom prst="rect">
            <a:avLst/>
          </a:prstGeom>
          <a:ln w="9360">
            <a:solidFill>
              <a:srgbClr val="ff66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66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שימוש בנוסחה להוצאת שור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290760" y="2843280"/>
            <a:ext cx="2562480" cy="11714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90760" y="2843280"/>
            <a:ext cx="2562480" cy="11714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1042920" y="1989000"/>
            <a:ext cx="6912000" cy="3168720"/>
          </a:xfrm>
          <a:prstGeom prst="rect">
            <a:avLst/>
          </a:prstGeom>
          <a:ln w="9360">
            <a:solidFill>
              <a:srgbClr val="ff6699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2411280" y="5373720"/>
            <a:ext cx="2592360" cy="368280"/>
          </a:xfrm>
          <a:prstGeom prst="rect">
            <a:avLst/>
          </a:prstGeom>
          <a:noFill/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ac/b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e-IL" sz="1800" spc="-1" strike="noStrike">
                <a:solidFill>
                  <a:srgbClr val="000000"/>
                </a:solidFill>
                <a:latin typeface="Times New Roman"/>
              </a:rPr>
              <a:t>   זניח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66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השמטת אבר שני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187280" y="2565360"/>
            <a:ext cx="7129800" cy="3095640"/>
          </a:xfrm>
          <a:prstGeom prst="rect">
            <a:avLst/>
          </a:prstGeom>
          <a:ln w="9360">
            <a:solidFill>
              <a:srgbClr val="ff66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5-11-03T07:57:35Z</dcterms:modified>
  <cp:revision>8</cp:revision>
  <dc:subject/>
  <dc:title>מצגת של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7</vt:r8>
  </property>
  <property fmtid="{D5CDD505-2E9C-101B-9397-08002B2CF9AE}" pid="3" name="Version">
    <vt:r8>1</vt:r8>
  </property>
</Properties>
</file>