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1A7-2B42-4546-B0C1-A2D4DE19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BCD-B2D9-451D-AA46-2265D5F4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538-6989-4FD6-9160-44AAD27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05D-0CFE-4529-8C50-24674BE4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3E5-08C1-47C7-9E3F-F3D910E0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734-C1ED-4E76-9F65-C882BE2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C61-5FE7-4EA3-850F-3BA0BE7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FB4-C11E-43A3-B0BF-8F65C05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DA7-2EFD-484C-A5CB-82F95BC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6D7-ED24-46ED-8E3C-FE0E607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AC6-470E-46E3-8A05-B36610F5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FFD-350E-47D6-98B6-520854C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642-A779-4BDB-8A85-E1918AF41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toteach.co.uk/" TargetMode="External"/><Relationship Id="rId3" Type="http://schemas.openxmlformats.org/officeDocument/2006/relationships/hyperlink" Target="http://www.timetoteach.co.uk/" TargetMode="External"/><Relationship Id="rId4" Type="http://schemas.openxmlformats.org/officeDocument/2006/relationships/hyperlink" Target="http://www.timetoteach.co.uk/" TargetMode="External"/><Relationship Id="rId5" Type="http://schemas.openxmlformats.org/officeDocument/2006/relationships/hyperlink" Target="http://www.timetoteach.co.uk/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ime to Teach Pres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ar 5 (National Numeracy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velping you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eferred way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 do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ultiplication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imetoteach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co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11430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t can be helpfu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 see multipl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 repeated addition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day you are going to solve these multiplication su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use any method you w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must write down your working, or write you did it in your 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method you use is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 x 5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 x 7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x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23 x 5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37 x 6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4 x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36 x 73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53 x 4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lculations did you write down without th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did you just k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m in the number box be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4648320"/>
            <a:ext cx="6019920" cy="1904760"/>
            <a:chOff x="380880" y="4648320"/>
            <a:chExt cx="6019920" cy="1904760"/>
          </a:xfrm>
        </p:grpSpPr>
        <p:sp>
          <p:nvSpPr>
            <p:cNvPr id="71" name=""/>
            <p:cNvSpPr/>
            <p:nvPr/>
          </p:nvSpPr>
          <p:spPr>
            <a:xfrm>
              <a:off x="380880" y="4648320"/>
              <a:ext cx="6019920" cy="1904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4876920"/>
              <a:ext cx="39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Number bo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they the same for every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probably knew 2 x 5 is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id you know 7 x 9 instant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id you use 7 x 10 and subtract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4648320"/>
            <a:ext cx="6019920" cy="1904760"/>
            <a:chOff x="380880" y="4648320"/>
            <a:chExt cx="6019920" cy="1904760"/>
          </a:xfrm>
        </p:grpSpPr>
        <p:sp>
          <p:nvSpPr>
            <p:cNvPr id="76" name=""/>
            <p:cNvSpPr/>
            <p:nvPr/>
          </p:nvSpPr>
          <p:spPr>
            <a:xfrm>
              <a:off x="380880" y="4648320"/>
              <a:ext cx="6019920" cy="1904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480" y="4876920"/>
              <a:ext cx="39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Number bo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do any of the others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bout 37 x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use repeated add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7 + 37 + 37 + 37 + 37 +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ed addition will always give the correct answer, but it is not very e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do 36 x 73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Simplification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strategies for remembering single-digit multiplications (the ones in the ‘times tabl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nvestigate products where the numbers in the pair differ by two such as 4 x 6 or 7 x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true the answer is one less than the square of the number in betw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allenges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ork out how many single-digit multiplications there are to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arn the 12 or 15 times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tend to simple fractions and decimals, such as ½ x 8 or 0.5 x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encil and paper methods to record, explain and support the multiplication of one- and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e nee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solve these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x 8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4 x 7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1 x 4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 x 2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½ x 3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0.5 x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Get into twos or th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Which are easy or h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Why are the easy ones eas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Why are the hard ones h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hasise that multiplication seems simple if you look at it as one number added repeated a certain number of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ways possible to turn a multiplication into an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can take a long time to d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You should aim to have instant recall of all the single-digit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The next few lessons are about developing efficient ways of doing multiplications with larger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view of 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helpful to see multiplication as repeate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learn this in this les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instantly recall my 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ver the next few lessons are going to explore ‘paper and pencil’ methods of multip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picture, showing how you visualise this or how you see it in your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9320" y="1828800"/>
            <a:ext cx="54100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 x 4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escribe in words what you have written or dra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think of it as four ‘lots’ of three, or three ‘lots’ of fo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you say when you see 3 x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ree times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ree f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 th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ree multiplied by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instantly recall my 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encil and paper methods to record, explain and support the multiplication of one- and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 Peter Fogarty</cp:lastModifiedBy>
  <dcterms:modified xsi:type="dcterms:W3CDTF">2001-12-30T12:09:07Z</dcterms:modified>
  <cp:revision>18</cp:revision>
  <dc:subject/>
  <dc:title>Time to Teach Presents</dc:title>
</cp:coreProperties>
</file>