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323-1275-4022-A308-36B70EBF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B97C-D2C0-4C2A-928B-B373FDB1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963-A544-42DC-A6B4-CE760165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A463-7CAC-45E0-8EC2-F2DAB50D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5A80-33CB-42FD-A4F7-49A384A0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E5D1-5755-4EA7-9A5B-9CA19598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92A-C8EC-424B-8111-C8C8FDB0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FFA-33CF-4526-A441-07E8AE14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809-31E3-46FC-840C-87BD4D15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2FF0-1F34-46BE-922C-C0F7EE91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FD5-DA4F-4205-955F-CF4BE8ED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83F-DFC0-4C1E-9537-7E616BC6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5895-6A7E-4D46-9581-80D593A61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imetoteach.co.uk/" TargetMode="External"/><Relationship Id="rId3" Type="http://schemas.openxmlformats.org/officeDocument/2006/relationships/hyperlink" Target="http://www.timetoteach.co.uk/" TargetMode="External"/><Relationship Id="rId4" Type="http://schemas.openxmlformats.org/officeDocument/2006/relationships/hyperlink" Target="http://www.timetoteach.co.uk/" TargetMode="External"/><Relationship Id="rId5" Type="http://schemas.openxmlformats.org/officeDocument/2006/relationships/hyperlink" Target="http://www.timetoteach.co.uk/" TargetMode="External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Time to Teach Pres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909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ear 5 (National Numeracy Strate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ased on DFEE Sample Less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14400" y="83808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 area method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of doing multiplica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77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timetoteach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co.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4800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piece is 6 rows of 30 squ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other that is 6 rows of 7 squ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133720"/>
            <a:ext cx="5486400" cy="2286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2133720"/>
            <a:ext cx="2133720" cy="2286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905120"/>
            <a:ext cx="75438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1143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7 squ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316400">
            <a:off x="-356760" y="2871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 squa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27432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0 x 6 = 1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2819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x 6 = 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4800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we’ve done that, the sum is eas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2133720"/>
            <a:ext cx="5486400" cy="2286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2133720"/>
            <a:ext cx="2133720" cy="2286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1905120"/>
            <a:ext cx="75438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1143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7 squ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316400">
            <a:off x="-356760" y="2871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 squa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27432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0 x 6 = 1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2819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x 6 = 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we can solve th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7 x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30 x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7 x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the class to work this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 30s are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six 7s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altogether is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 write out the sum on the boa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 do the working on the boa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can practise my multiplication f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can develop my pencil and paper methods to record, explain and support the multiplication of        two-digit numb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Key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1371600"/>
            <a:ext cx="66294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You can solve multiplica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roblems by seeing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m as area problems.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 you know what you are doing, can you solve these probl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he area multiplication meth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00200"/>
            <a:ext cx="3276720" cy="4734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 x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 x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2 x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may help to use real squared paper and cut out the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600200"/>
            <a:ext cx="2590560" cy="503100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4 x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5 x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3 x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4 x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7 x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3 x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1523880"/>
            <a:ext cx="2743200" cy="50310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lle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34 x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45 x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23 x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44 x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57 x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3 x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ne needed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ain 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can develop my pencil and paper methods to record, explain and support the multiplication of        two-digit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248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into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are your ans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you answer look the right siz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 your working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6781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any three digits – for example 3, 7 and 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bine these digits in any way you like to make two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Example:-37 and 9 or 93 and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Multiply the two numbers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What is the biggest product you can ma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view of Key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can solve multiplication problems by seeing them as area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d you learn that in this lesso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can practise my multiplication f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day you will be introduced to the ‘area’ method of multi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st we are going to look at multiplying one-digit by two-digit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I don’t want the ans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I want you explain how the problem could be tack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 are the sum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7 x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2 x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4 x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sure you tackle the tens and ones separa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34 x 7 you could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0 x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 x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day we are going to learn the area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could we solve 37 x 6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want to multiply 37 x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could get some squared paper and cut out a piece that was 37 squares long and 6 w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unt the squ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ntal Learn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4800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could divide the who area into tw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133720"/>
            <a:ext cx="5486400" cy="2286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2133720"/>
            <a:ext cx="2133720" cy="2286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1905120"/>
            <a:ext cx="75438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1143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7 squ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316400">
            <a:off x="-356760" y="2871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 squa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21:07:11Z</dcterms:created>
  <dc:creator> Peter Fogarty</dc:creator>
  <dc:description/>
  <dc:language>en-US</dc:language>
  <cp:lastModifiedBy> Peter Fogarty</cp:lastModifiedBy>
  <dcterms:modified xsi:type="dcterms:W3CDTF">2001-12-28T10:46:18Z</dcterms:modified>
  <cp:revision>14</cp:revision>
  <dc:subject/>
  <dc:title>Time to Teach Presents</dc:title>
</cp:coreProperties>
</file>