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9A6-B481-4B45-854D-FB9992B7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0E0-8BE6-41C2-9E35-0F9A4A2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163-C5DD-49FB-8834-BDBA45AE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8BF-E9E8-41BF-B51F-7887D92D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15F-B895-4001-AE42-85E5490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DC6-6C30-4824-B8C5-4BE2682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485-62B9-4606-BE3A-EF1E240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56F-5F51-47D5-83A2-BBD2EC0F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8FA-BE6B-4681-ADDE-DD36D1EC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7EA-92EB-443D-A395-445CE21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300-8919-4533-BBED-922D505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3AC-50B5-47DC-B266-4B80DD2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F0C-D614-46E8-9F50-110514CC4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toteach.co.uk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ime to Teach Pres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ar 5 (National Numeracy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idea of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'carrying' wh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oing multipl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timetoteach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589 x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89 can be broken up into 500, 80 and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by 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ducts are now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can be recorded either horizontally or ver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add several numbers together it is better to write them under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14440" y="19807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 589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 be writte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3809880"/>
            <a:ext cx="1447560" cy="2286000"/>
            <a:chOff x="4191120" y="3809880"/>
            <a:chExt cx="1447560" cy="2286000"/>
          </a:xfrm>
        </p:grpSpPr>
        <p:sp>
          <p:nvSpPr>
            <p:cNvPr id="68" name=""/>
            <p:cNvSpPr/>
            <p:nvPr/>
          </p:nvSpPr>
          <p:spPr>
            <a:xfrm>
              <a:off x="4191120" y="380988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1120" y="480060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609588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80880" y="2666880"/>
            <a:ext cx="3505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589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3500 + 560 + 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3000 + 1000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4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quicker way of solving  589 x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we make it a vertical s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we multiply the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we get for 7 x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the 3 and carry the 6 to the tens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82880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multiply 7 x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6 we carr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we g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82880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the ‘2’and carry the 6 to the hundreds colum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82880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7 x 5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you g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82880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ve no more columns to carry to, so write down whol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828800"/>
            <a:ext cx="4191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66680" y="3048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Lucida Handwriting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solve thes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 x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4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8 x 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57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7 x 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6 x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you want to solve the multiplication using the long or short multiplica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implification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uggest they stick to multiplying two-digit by one-digit numb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hallenge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an they find a method of multiplying two- or three-digit numbers by a  two- digi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aper and pencil methods to record, explain and support the multiplication of the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sk the children to get together in pairs and compare their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 if your answers look about the right siz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the last digits look as if they are r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method did you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it eas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see why it work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 you show how you solved one of the su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w your work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629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is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some multiplication problems of the form AB x C where the answer lies between 500 and 6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such problems can you fi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would you know you have found them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view of 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choose the method that will give you the correct answer as quickly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learn this in this les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my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day we are going to work at making the ‘area’ method of multiplication more effic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you to calculate 37 x 6 using any method you like (apart of course using a calculator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do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used repeate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do it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00"/>
                </a:solidFill>
                <a:latin typeface="Comic Sans MS"/>
              </a:rPr>
              <a:t>Now try 589 x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d you use the same meth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w your workings on the bo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my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aper and pencil methods to record, explain and support the multiplication of the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y to choose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ethod that wi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ive you the correc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nswer as quickl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 possibl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 Peter Fogarty</cp:lastModifiedBy>
  <dcterms:modified xsi:type="dcterms:W3CDTF">2002-01-31T21:44:19Z</dcterms:modified>
  <cp:revision>15</cp:revision>
  <dc:subject/>
  <dc:title>Time to Teach Presents</dc:title>
</cp:coreProperties>
</file>