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018-A75B-490C-977B-A7503E0C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A3A-E518-438D-BA1A-11E0C5AB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E85-1120-44B9-9378-768CA77D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E65-21B8-482C-8E53-B9E4A3EF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A57-FDA9-406F-99BC-8AC9B134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E93-0A9E-4D6B-A043-1DF7B725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825-51AB-4B9E-8C06-74CD589F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9D6-95C8-454C-B424-E22CF9F8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EF3-D1F0-439A-B8BB-FF2F4E88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256-6967-492A-9F32-315DB863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A06-B6A3-43C0-B575-407D065C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BA6-154E-4F42-838F-CF5A5F52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3008-05BF-4932-BD89-393E746BC86E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5790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9 booster kit: mathematics (National Numeracy Strategy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ased on DFEE Sample Lessons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83808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sson 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lace valu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had the number 0.05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it by 1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it by 1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it by 1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it by 100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"/>
          <p:cNvSpPr/>
          <p:nvPr/>
        </p:nvSpPr>
        <p:spPr>
          <a:xfrm>
            <a:off x="885960" y="5410080"/>
            <a:ext cx="51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you solve the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wer is the amount of times a number is multiplied with itself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10 x 10 = 100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= 10 x 10 x 10 = 1000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write 10 000 as a power of 10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write 10 as a power of 10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bout 1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505320"/>
            <a:ext cx="1752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1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? This equals 1 as it is 10 multiplied by itself zero times. This concept may appear strang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divide using power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negative powe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1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0 x 10) = 0.1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3505320"/>
            <a:ext cx="1752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numbers from the place value chart and multiply and divide them by integer powers of 10 (using powers of 10)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3505320"/>
            <a:ext cx="1752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828800"/>
          <a:ext cx="7315200" cy="363204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  <a:gridCol w="812880"/>
                <a:gridCol w="812520"/>
                <a:gridCol w="812880"/>
                <a:gridCol w="812880"/>
                <a:gridCol w="812880"/>
                <a:gridCol w="787320"/>
                <a:gridCol w="83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and use decimal notation and place valu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y and divide integers and decimals by 10, 100, 1000, and explain the effec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and write positive integer powers of 10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knowledge of integer powers of 10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y and divide integers and decimals by 0.1 and 0.01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explain why this is true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2971800"/>
            <a:ext cx="8076960" cy="3400920"/>
            <a:chOff x="762120" y="2971800"/>
            <a:chExt cx="8076960" cy="3400920"/>
          </a:xfrm>
        </p:grpSpPr>
        <p:sp>
          <p:nvSpPr>
            <p:cNvPr id="84" name=""/>
            <p:cNvSpPr/>
            <p:nvPr/>
          </p:nvSpPr>
          <p:spPr>
            <a:xfrm>
              <a:off x="3352680" y="4495680"/>
              <a:ext cx="221004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0080" y="32004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0 x 0.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571500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1000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3000" y="29718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.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0.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57913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 x 0.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2285640" y="3733920"/>
              <a:ext cx="106668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514600" y="5410080"/>
              <a:ext cx="9144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562720" y="3809520"/>
              <a:ext cx="685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62720" y="5334120"/>
              <a:ext cx="12189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other solutions are there, using the digits 4, 0 and 1 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2120" y="2971800"/>
            <a:ext cx="8076960" cy="3400920"/>
            <a:chOff x="762120" y="2971800"/>
            <a:chExt cx="8076960" cy="3400920"/>
          </a:xfrm>
        </p:grpSpPr>
        <p:sp>
          <p:nvSpPr>
            <p:cNvPr id="96" name=""/>
            <p:cNvSpPr/>
            <p:nvPr/>
          </p:nvSpPr>
          <p:spPr>
            <a:xfrm>
              <a:off x="3352680" y="4495680"/>
              <a:ext cx="221004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10080" y="32004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0 x 0.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62720" y="571500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1000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3000" y="29718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.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0.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120" y="57913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 x 0.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285640" y="3733920"/>
              <a:ext cx="106668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514600" y="5410080"/>
              <a:ext cx="9144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562720" y="3809520"/>
              <a:ext cx="685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62720" y="5334120"/>
              <a:ext cx="12189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nsider 4 = 0.04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01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62120" y="2971800"/>
            <a:ext cx="8076960" cy="3400920"/>
            <a:chOff x="762120" y="2971800"/>
            <a:chExt cx="8076960" cy="3400920"/>
          </a:xfrm>
        </p:grpSpPr>
        <p:sp>
          <p:nvSpPr>
            <p:cNvPr id="108" name=""/>
            <p:cNvSpPr/>
            <p:nvPr/>
          </p:nvSpPr>
          <p:spPr>
            <a:xfrm>
              <a:off x="3352680" y="4495680"/>
              <a:ext cx="221004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10080" y="32004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0 x 0.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62720" y="571500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1000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29718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.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0.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120" y="57913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 x 0.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285640" y="3733920"/>
              <a:ext cx="106668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514600" y="5410080"/>
              <a:ext cx="9144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562720" y="3809520"/>
              <a:ext cx="685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2720" y="5334120"/>
              <a:ext cx="12189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V="1">
            <a:off x="5562720" y="3809520"/>
            <a:ext cx="6858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division always make a number smaller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2120" y="2971800"/>
            <a:ext cx="8076960" cy="3400920"/>
            <a:chOff x="762120" y="2971800"/>
            <a:chExt cx="8076960" cy="3400920"/>
          </a:xfrm>
        </p:grpSpPr>
        <p:sp>
          <p:nvSpPr>
            <p:cNvPr id="121" name=""/>
            <p:cNvSpPr/>
            <p:nvPr/>
          </p:nvSpPr>
          <p:spPr>
            <a:xfrm>
              <a:off x="3352680" y="4495680"/>
              <a:ext cx="221004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10080" y="32004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0 x 0.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62720" y="571500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1000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3000" y="29718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.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0.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57913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 x 0.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2285640" y="3733920"/>
              <a:ext cx="106668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514600" y="5410080"/>
              <a:ext cx="9144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562720" y="3809520"/>
              <a:ext cx="685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5334120"/>
              <a:ext cx="12189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5562720" y="3809520"/>
            <a:ext cx="6858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multiplying always make a number larger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62120" y="2971800"/>
            <a:ext cx="8076960" cy="3400920"/>
            <a:chOff x="762120" y="2971800"/>
            <a:chExt cx="8076960" cy="3400920"/>
          </a:xfrm>
        </p:grpSpPr>
        <p:sp>
          <p:nvSpPr>
            <p:cNvPr id="134" name=""/>
            <p:cNvSpPr/>
            <p:nvPr/>
          </p:nvSpPr>
          <p:spPr>
            <a:xfrm>
              <a:off x="3352680" y="4495680"/>
              <a:ext cx="221004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32004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0 x 0.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571500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1000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3000" y="29718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.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0.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57913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0 x 0.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2285640" y="3733920"/>
              <a:ext cx="106668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514600" y="5410080"/>
              <a:ext cx="9144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562720" y="3809520"/>
              <a:ext cx="685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62720" y="5334120"/>
              <a:ext cx="12189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5562720" y="3809520"/>
            <a:ext cx="6858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the spider arms be, if we used 5.7 in the middl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2120" y="2971800"/>
            <a:ext cx="8076960" cy="3408480"/>
            <a:chOff x="762120" y="2971800"/>
            <a:chExt cx="8076960" cy="3408480"/>
          </a:xfrm>
        </p:grpSpPr>
        <p:grpSp>
          <p:nvGrpSpPr>
            <p:cNvPr id="147" name=""/>
            <p:cNvGrpSpPr/>
            <p:nvPr/>
          </p:nvGrpSpPr>
          <p:grpSpPr>
            <a:xfrm>
              <a:off x="762120" y="2971800"/>
              <a:ext cx="8076960" cy="3408480"/>
              <a:chOff x="762120" y="2971800"/>
              <a:chExt cx="8076960" cy="3408480"/>
            </a:xfrm>
          </p:grpSpPr>
          <p:sp>
            <p:nvSpPr>
              <p:cNvPr id="148" name=""/>
              <p:cNvSpPr/>
              <p:nvPr/>
            </p:nvSpPr>
            <p:spPr>
              <a:xfrm>
                <a:off x="3352680" y="4495680"/>
                <a:ext cx="2210040" cy="91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5.7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10080" y="3200400"/>
                <a:ext cx="3276720" cy="588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62720" y="5715000"/>
                <a:ext cx="3276360" cy="588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143000" y="2971800"/>
                <a:ext cx="3276720" cy="588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2120" y="5791320"/>
                <a:ext cx="3276360" cy="588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2285640" y="3733920"/>
                <a:ext cx="106668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514600" y="5410080"/>
                <a:ext cx="91440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5562720" y="3809520"/>
                <a:ext cx="685800" cy="762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62720" y="5334120"/>
                <a:ext cx="1218960" cy="380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flipV="1">
              <a:off x="5562720" y="3809520"/>
              <a:ext cx="685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groups and develop your own spider diagrams showing equivalent calculations for other number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62120" y="2971800"/>
            <a:ext cx="8076960" cy="3408480"/>
            <a:chOff x="762120" y="2971800"/>
            <a:chExt cx="8076960" cy="3408480"/>
          </a:xfrm>
        </p:grpSpPr>
        <p:sp>
          <p:nvSpPr>
            <p:cNvPr id="161" name=""/>
            <p:cNvSpPr/>
            <p:nvPr/>
          </p:nvSpPr>
          <p:spPr>
            <a:xfrm>
              <a:off x="3352680" y="4495680"/>
              <a:ext cx="221004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5.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3200400"/>
              <a:ext cx="3276720" cy="588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5715000"/>
              <a:ext cx="3276360" cy="588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2971800"/>
              <a:ext cx="3276720" cy="588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5791320"/>
              <a:ext cx="3276360" cy="588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2285640" y="3733920"/>
              <a:ext cx="106668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514600" y="5410080"/>
              <a:ext cx="9144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562720" y="3809520"/>
              <a:ext cx="685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5334120"/>
              <a:ext cx="12189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V="1">
            <a:off x="5562720" y="3809520"/>
            <a:ext cx="6858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knowledge of integer powers of 10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y and divide integers and decimals by 0.1 and 0.01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divide a number by 0.1 and then again by 0.1 the answer is 0.03. What number did I start with?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know?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1752480"/>
          <a:ext cx="7010280" cy="32004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7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7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0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3.3 x 10 x 10 and 3.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01 give the same answer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23880" y="1752480"/>
          <a:ext cx="7010280" cy="32004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7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7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0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imilar questions to check pupils’ understanding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3880" y="1752480"/>
          <a:ext cx="7010280" cy="32004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7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7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0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y the end of this lesson…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pils should understand th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number is multiplied(divided) by 10/100/1000, the digits move one place to the left (righ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lying by 0.1 has the same effect as dividing by 10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lying by 0.01 and dividing by 100 are equivalent.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lying by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–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dividing by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equivalen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y the end of the lesson…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pils should understand th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number is multiplied(divided) by 10/100/1000, the digits move one place to the left (righ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ing by 0.1 has the same effect as dividing by 10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ing by 0.01 and dividing by 100 are equivalent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ing by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–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ividing by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quivalen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and use decimal notation and place valu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y and divide integers and decimals by 10, 100, 1000, and explain the effec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and write positive integer powers of 10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is number down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point seve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it by 10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answe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nswe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get to this answe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s shifted one place to the lef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The decimal point does not mov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had the number 4.3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it by 1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it by 1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it by 1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it by 100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"/>
          <p:cNvSpPr/>
          <p:nvPr/>
        </p:nvSpPr>
        <p:spPr>
          <a:xfrm>
            <a:off x="885960" y="5410080"/>
            <a:ext cx="51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you solve the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had the number 9.9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it by 1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it by 1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it by 1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it by 100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"/>
          <p:cNvSpPr/>
          <p:nvPr/>
        </p:nvSpPr>
        <p:spPr>
          <a:xfrm>
            <a:off x="885960" y="5410080"/>
            <a:ext cx="51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you solve the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had the number 1.15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it by 1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it by 1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it by 1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it by 100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"/>
          <p:cNvSpPr/>
          <p:nvPr/>
        </p:nvSpPr>
        <p:spPr>
          <a:xfrm>
            <a:off x="885960" y="5410080"/>
            <a:ext cx="51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you solve the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1:07:11Z</dcterms:created>
  <dc:creator> Peter Fogarty</dc:creator>
  <dc:description/>
  <dc:language>en-US</dc:language>
  <cp:lastModifiedBy> Peter Fogarty</cp:lastModifiedBy>
  <dcterms:modified xsi:type="dcterms:W3CDTF">2003-05-17T12:49:20Z</dcterms:modified>
  <cp:revision>21</cp:revision>
  <dc:subject/>
  <dc:title>Time to Teach Presents</dc:title>
</cp:coreProperties>
</file>