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72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58D2-1F5F-4433-833A-71F827E2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8DE7-BBF3-44C2-9782-5ED85ABD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B75E-904E-400D-B2A2-3D717128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45EC-EF1E-4515-BA27-074C3ECB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A478-CCDA-4A0B-9913-DC758477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DD87-F039-4147-8A87-154FB214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5531-8300-468A-95AD-43D90FD3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53BC-337C-426E-BB1C-FCC597C6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19BB-3B00-40B6-8748-F2FF3418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8412-DB67-4C9A-BE65-0CD8440D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9023-D213-415C-922B-273AB4F0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A99B-4129-41AF-AC5D-0A537F42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15AF-5A76-4C59-B36F-B875C9616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5600" y="1539720"/>
          <a:ext cx="8659800" cy="37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539720"/>
                    <a:ext cx="865980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58320" y="128520"/>
            <a:ext cx="2586960" cy="6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ncho Family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: 2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29400" y="228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tion Number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600200" y="1440000"/>
          <a:ext cx="6118200" cy="34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440000"/>
                    <a:ext cx="6118200" cy="34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629400" y="228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tion Number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271520" y="1523880"/>
          <a:ext cx="6686640" cy="30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1520" y="1523880"/>
                    <a:ext cx="668664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6629400" y="228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tion Number: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52280" y="882720"/>
          <a:ext cx="876312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82720"/>
                    <a:ext cx="87631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6629400" y="228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tion Number: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28520" y="1654200"/>
          <a:ext cx="8853480" cy="30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54200"/>
                    <a:ext cx="885348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6629400" y="228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tion Number: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792520" y="1633680"/>
          <a:ext cx="3676680" cy="33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2520" y="1633680"/>
                    <a:ext cx="3676680" cy="33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6629400" y="228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tion Number: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Robert Sancho</dc:creator>
  <dc:description/>
  <dc:language>en-US</dc:language>
  <cp:lastModifiedBy>Sancho</cp:lastModifiedBy>
  <cp:lastPrinted>1998-01-26T01:14:22Z</cp:lastPrinted>
  <dcterms:modified xsi:type="dcterms:W3CDTF">1999-09-01T03:51:33Z</dcterms:modified>
  <cp:revision>42</cp:revision>
  <dc:subject>History of the Sancho Family</dc:subject>
  <dc:title>Sancho Family Tr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geocities.com/Heartland/Estates/4765/</vt:lpwstr>
  </property>
  <property fmtid="{D5CDD505-2E9C-101B-9397-08002B2CF9AE}" pid="9" name="LinkColor">
    <vt:r8>16711782</vt:r8>
  </property>
  <property fmtid="{D5CDD505-2E9C-101B-9397-08002B2CF9AE}" pid="10" name="MailAddress">
    <vt:lpwstr>r_sancho@geocities.com</vt:lpwstr>
  </property>
  <property fmtid="{D5CDD505-2E9C-101B-9397-08002B2CF9AE}" pid="11" name="NavBtnPos">
    <vt:r8>1</vt:r8>
  </property>
  <property fmtid="{D5CDD505-2E9C-101B-9397-08002B2CF9AE}" pid="12" name="Other">
    <vt:lpwstr>Sancho Family Tree</vt:lpwstr>
  </property>
  <property fmtid="{D5CDD505-2E9C-101B-9397-08002B2CF9AE}" pid="13" name="OutputDir">
    <vt:lpwstr>C:\My Document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