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332-B2B6-461B-84B2-ECA6F86F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B7C-3066-448A-9359-A4F81114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7B3-6F6A-4933-AA77-D0338BB3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BAE-CD61-4031-BCF5-93027C61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874-16BB-4C83-83D0-9074CCF0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926-773E-48EC-AB70-293E85F2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4AA-9EC6-458B-BC58-A789B6A2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CB0-ED07-4E5C-8561-90F40DCC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053-C8BA-4D3F-833E-0F590455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B62-8DAB-4E90-9E05-C272473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24D-462F-4885-9248-38C2A695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884-E542-4B10-8082-CDC2B48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B560-4FBC-4154-8765-6645E8DB8D77}" type="datetime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4E9B03E-043B-44CA-B467-BA1BEC25DF94}" type="datetime10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07:5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05C8-8F75-4F3C-B3F9-5FB400634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emplate.xls" TargetMode="External"/><Relationship Id="rId2" Type="http://schemas.openxmlformats.org/officeDocument/2006/relationships/hyperlink" Target="file:///Template.xl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נדסת דריש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CF9-ED0A-47FD-B878-7A780627D6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51A0C-5E2B-4B8C-B477-EC8655B55500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יטת העבודה הישנ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חושבים ע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אלגורית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מבנה נתונ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עוד פעם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אלגורית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לפעמים רושמים תרשים זרימה,  ומתחילים לכתוב את הקוד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EBA-F194-4FA6-BB14-57668668AC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4BB4B-2438-4831-AB04-A7503277E2DF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ומה חסר בגישה?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פרוק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הבעיה למודולים: אלגוריתם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, תשתית: ספריות עזר (כגון ספריה לטיפול במחרוזות, במטריצו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פונקציונאליו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 אולי ניתן נוסף לפתרון של בעיית   ה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doku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להטיל תפקידים נוספים ולקבל </a:t>
            </a:r>
            <a:r>
              <a:rPr b="1" i="1" lang="he-IL" sz="2800" spc="-1" strike="noStrike">
                <a:solidFill>
                  <a:srgbClr val="00cc99"/>
                </a:solidFill>
                <a:latin typeface="Times New Roman"/>
              </a:rPr>
              <a:t>ערך מוסף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?! כגון </a:t>
            </a:r>
            <a:r>
              <a:rPr b="1" i="1" lang="he-IL" sz="2800" spc="-1" strike="noStrike">
                <a:solidFill>
                  <a:srgbClr val="00cc99"/>
                </a:solidFill>
                <a:latin typeface="Times New Roman"/>
              </a:rPr>
              <a:t>מחולל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עיות ה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do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ו כלי </a:t>
            </a:r>
            <a:r>
              <a:rPr b="1" i="1" lang="he-IL" sz="2800" spc="-1" strike="noStrike">
                <a:solidFill>
                  <a:srgbClr val="00cc99"/>
                </a:solidFill>
                <a:latin typeface="Times New Roman"/>
              </a:rPr>
              <a:t>פדגוגי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עקרונות מתמטיים מסוימים – למשל – תורת הקבוצות תוך משח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כלליות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ולי ניתן להכליל את הבעיה במקו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x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ל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x16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ו באופן כלל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n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EB4-A29C-45AC-8232-F6EF1D6A165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485CA-AFDF-47D0-8DDE-6F91FF455A8D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תרחיש – הסכנות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עבודה ללא מסמך דרישות 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אין נוהל מוסכם לשמות משתנים – למש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שמות האות הראשונה בשמות אובייקטים כותבים באות גדולה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משתנים של הקדם מעבד רושמים באותיות גדולו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פוג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בתחזוקה, מקשה על שיתוף הפעולה בין תוכניתני פיתוח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8A8-FE96-46DC-976B-F8A8BBF066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8D710-00CD-48AC-AA89-A139F1DC3C4E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תרחיש – הסכנות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עבודה ללא מסמך דרישות 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אין ניצול של פתרון הבעיה המקורית לפתרון בעיות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לווא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אין פותרים בעיה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כללי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היכולה להתעורר בעתיד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EC2-DF06-4A47-8CCE-B034CAA9AD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8BF20-EB24-4851-A048-C0C71B60B2FC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ההכלל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19480" cy="43642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663720" cy="4402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04C-4D96-4D77-A8B4-5BCB656D168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DE07C-D897-4457-8582-47182D9ED7A9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סוגי דריש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פונקציונאליו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מקבל קלט                     נותן פלט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לא פונקציונאליו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תכונות משניות: נוחיות, אסטטיות, חוקיות (לא לערער זכויות יוצרים), ידידותי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אילוצי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עמידה בזמנ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2492280"/>
            <a:ext cx="144144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580000" y="28526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79640" y="292428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8B9-F4A5-4C43-ACF0-47E7E1D370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56508-4BE7-4B31-8540-0F838A93A605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סוגי דריש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 תבנית -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יזמ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אילוצ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פונקציונאלי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תכונ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סוגי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(כל השאר שרלוונט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4941720"/>
            <a:ext cx="27367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תבנית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F8C-6B2C-48D7-8A17-EDCB0DDED3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DE60A-B696-4093-AC5B-06FC98969018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מסמך דרישות - כלל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הפרויקט:  בנית ב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כותבי מסמך דרישות: בעלי עניין (כסף)+ ארכיטק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תוכנית הבניין – מפרט דריש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מהנדס בנין, פועלי בניין – אנלוגי למהנדסי תוכנה ותכניתנ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16F-CC94-45A0-A492-1C0CD3C7C8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DFDFC-4AF8-45B3-AEDA-AE4511FD20BB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דרישות – במחזור החיים של הפיתו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2276640"/>
            <a:ext cx="1800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איסוף דרישו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3068640"/>
            <a:ext cx="129708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שימושיות המוצ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4437000"/>
            <a:ext cx="12240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ייצור המוצ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5157720"/>
            <a:ext cx="1366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תכנון המוצ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3789360"/>
            <a:ext cx="13683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בניית מודל המערכ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08720" y="249192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156360" y="3716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643280" y="4724280"/>
            <a:ext cx="865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437000"/>
            <a:ext cx="1873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35280" y="2492280"/>
            <a:ext cx="1728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268000" y="2708280"/>
            <a:ext cx="1511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08000" y="2637000"/>
            <a:ext cx="57636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95640" y="2637000"/>
            <a:ext cx="64764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858920" y="2637000"/>
            <a:ext cx="12970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9890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סביבת הפעלת המערכ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68360" y="2349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332000" y="278136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9676400">
            <a:off x="2124360" y="2707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דרישו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9754400">
            <a:off x="2700720" y="34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מודלי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942800">
            <a:off x="2919960" y="38566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מפרט דרישו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7184600">
            <a:off x="3779640" y="378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היזון חוז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504800">
            <a:off x="6517080" y="40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מוצ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9863600">
            <a:off x="4572360" y="52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מפרט התכנו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31400">
            <a:off x="1258560" y="49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מודלים של המערכ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1628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בעלי עניין: רצונות ודרישו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98900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1C8-7539-4E33-BD69-92DF87D744B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41B55-7626-4925-8578-5D621098953F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איסוף דרישות –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(עיצוב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3068640"/>
            <a:ext cx="4105440" cy="2521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357720"/>
            <a:ext cx="4105440" cy="1787400"/>
          </a:xfrm>
          <a:custGeom>
            <a:avLst/>
            <a:gdLst/>
            <a:ahLst/>
            <a:rect l="l" t="t" r="r" b="b"/>
            <a:pathLst>
              <a:path w="2586" h="1036">
                <a:moveTo>
                  <a:pt x="0" y="998"/>
                </a:moveTo>
                <a:cubicBezTo>
                  <a:pt x="299" y="1017"/>
                  <a:pt x="598" y="1036"/>
                  <a:pt x="817" y="998"/>
                </a:cubicBezTo>
                <a:cubicBezTo>
                  <a:pt x="1036" y="960"/>
                  <a:pt x="1188" y="846"/>
                  <a:pt x="1316" y="771"/>
                </a:cubicBezTo>
                <a:cubicBezTo>
                  <a:pt x="1444" y="696"/>
                  <a:pt x="1475" y="636"/>
                  <a:pt x="1588" y="545"/>
                </a:cubicBezTo>
                <a:cubicBezTo>
                  <a:pt x="1701" y="454"/>
                  <a:pt x="1875" y="310"/>
                  <a:pt x="1996" y="227"/>
                </a:cubicBezTo>
                <a:cubicBezTo>
                  <a:pt x="2117" y="144"/>
                  <a:pt x="2216" y="84"/>
                  <a:pt x="2314" y="46"/>
                </a:cubicBezTo>
                <a:cubicBezTo>
                  <a:pt x="2412" y="8"/>
                  <a:pt x="2499" y="4"/>
                  <a:pt x="258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3645000"/>
            <a:ext cx="1512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איסוף דרישו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32360" y="4581360"/>
            <a:ext cx="10796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עיצוב המערכ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35280" y="285228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5805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939600" y="43970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מאמ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87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זמ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7DE-4728-4A50-AB4A-F8BD8FBEE6B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5C1C4-583C-452D-9DFE-8C5DA51F9DF3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פיתוח תוכנה גמי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עקרונו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יחסים אישיים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מע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לתהליכים וכל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מערכת תוכנה עובדת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מע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תיעוד ממצ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שתוף פעולה עם הלקוח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מע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משא ומתן חוז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תגובה לשנויים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מע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הצמדות לתוכנית פעול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660-658C-4B37-AC71-85554B8B73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7003F-B0F4-4873-9451-65F98F512BA4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"דרישות" לשם מה?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עבודה בלי דרישות מיקרת ועלולה לגרום ל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תיקונ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מוצר עקב אי הבנת השימוש במוצ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cc"/>
                </a:solidFill>
                <a:latin typeface="Times New Roman"/>
              </a:rPr>
              <a:t>הפסקת פיתו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נגמר הכס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עלו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שימוש בדרישות   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מו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הנזקים של אי שימוש בדריש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105-75C2-4D45-90B6-01C177BD46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FD1AF-1A3C-4F45-9985-357F08DA4AA2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מה זאת דרישה?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24320" cy="3228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41C-1A41-4C7E-944D-B3134CA65C2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7ED5B-86A5-4E71-8EA1-591422C5272A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עבודה בלי דריש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ספונטאנ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קאוטית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o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אולתר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עודדת מקורי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6BC-B1AF-4018-9353-6BB5122E9A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A201D-925F-4244-96C9-51E8CA005B7B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דוגמא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do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דרישה לקונית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Times New Roman"/>
              </a:rPr>
              <a:t>תכתוב תוכנית הפותרת את משחק ה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d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5E1-BA00-4F73-ACAB-78FA01C7FA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930A1-E51C-40DC-9B27-2346E31218CC}" type="datetime8">
              <a:rPr lang="en-US"/>
              <a:t>07/31/26 07: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7-11-22T13:01:46Z</dcterms:modified>
  <cp:revision>24</cp:revision>
  <dc:subject/>
  <dc:title>מצגת של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7</vt:r8>
  </property>
  <property fmtid="{D5CDD505-2E9C-101B-9397-08002B2CF9AE}" pid="3" name="Version">
    <vt:r8>1</vt:r8>
  </property>
</Properties>
</file>