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E2B-0180-46CF-B794-87E4B063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E44-8799-4210-8FC7-FAC268F5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399-0279-4A1D-B76D-9FF7306F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0E71-DA46-46EE-AE22-94FEBDE2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C535-FAD8-4633-BE56-8538B6D1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497-1197-415D-B827-50B6AB5F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87B-2278-42E5-991E-4B157679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06C-5451-49DD-853F-D840BAB5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4B6-9FA3-4211-9B21-BE62F2C8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7B4-ED39-4E60-9119-BA536D4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898F-300D-4EF6-810E-F120BA88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91D-5D23-47E9-ABD5-8731EDDB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CF18-259D-4614-B0ED-EB3061BD08F0}" type="datetime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8D7EE1A-9EE2-49DC-B9BB-A744504EE577}" type="datetime10">
              <a:rPr b="0" lang="he-IL" sz="1400" spc="-1" strike="noStrike">
                <a:solidFill>
                  <a:srgbClr val="000000"/>
                </a:solidFill>
                <a:latin typeface="Times New Roman"/>
              </a:rPr>
              <a:t>11:42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582B-A197-4792-A14F-AB4268275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xample_Book_Seling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איסוף דרישו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DBD2-5644-4FA0-B852-F3CB787436C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8BF86-44DA-4741-BFFA-2E2B1A3A927E}" type="datetime8">
              <a:rPr lang="en-US"/>
              <a:t>07/28/26 11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שני מצבי עבוד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2424240" cy="392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643280" y="2349360"/>
            <a:ext cx="3310200" cy="39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332000" y="1773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איסוף נתונים רגי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1773360"/>
            <a:ext cx="30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000000"/>
                </a:solidFill>
                <a:latin typeface="Times New Roman"/>
              </a:rPr>
              <a:t>איסוף נתונים עם היזון חוז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9A9-00DD-481F-AC4A-10F5E779D73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948B6-4DDB-488C-A330-2608B4C34930}" type="datetime8">
              <a:rPr lang="en-US"/>
              <a:t>07/28/26 11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וגמא: חנות ספרים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חנות-ספריה של מדעי מחש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rary of Computer Science</a:t>
            </a: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 מתמחה במכירת ספרים הקשורים למחשבים במחיר נמוך, עבור מומחי מחשבים. היא עושה זאת בשליחת כל חודש לכל אחד מהמנויים השוטפים את החומר הבא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CA2-5549-400D-BB41-4D413533805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670A0-1698-4F92-AE9F-5DD607965AFE}" type="datetime8">
              <a:rPr lang="en-US"/>
              <a:t>07/28/26 11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דוגמא: חנות ספרים (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תקציר של הספרים שיצאו בחודש האחרו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קטלוג של ספרים אחרים המוצעים למכירה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גלויה שבה מציינים המנויים אם הם מעוניינים בספרי בחירה של החודש האחרון או/ו ספרים אחרים מתוך הקטלוג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92360" y="5157720"/>
            <a:ext cx="23749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800" spc="-1" strike="noStrike">
                <a:solidFill>
                  <a:srgbClr val="000000"/>
                </a:solidFill>
                <a:latin typeface="Times New Roman"/>
              </a:rPr>
              <a:t>המשך: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3B41-A130-4995-987B-6336DE47A7C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5BA50-2811-4E78-86C0-7FB733B63AB6}" type="datetime8">
              <a:rPr lang="en-US"/>
              <a:t>07/28/26 11: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7-12-03T08:42:35Z</dcterms:modified>
  <cp:revision>9</cp:revision>
  <dc:subject/>
  <dc:title>מצגת של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7</vt:r8>
  </property>
  <property fmtid="{D5CDD505-2E9C-101B-9397-08002B2CF9AE}" pid="3" name="Version">
    <vt:r8>1</vt:r8>
  </property>
</Properties>
</file>