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FA71-93A7-476C-8B42-70F8BCF351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iability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 – בודק אם המימוש הוא של התכונה הנכונה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א. ניתוח הבעיה באופן כול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ב. ניתוח בעיה באופן ספציפי: ניתוח מודול אחד והשתקפותו בתכונה אחת במוצר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ככל שמגלים מוקדם את השגיאה – זול יותר לתקן אותה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5F0-B4DA-49E8-8E44-76B7317D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A6C-6895-4808-8895-6FF31F87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992-D0BD-4A3F-9BD8-ABF9EFF9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85F-EE67-443A-852F-E9F9F8D1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12D-D136-4E0A-97D3-946963B6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DF1-ADB9-4CFB-9AD8-31A8B9FD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9FE-71E3-422E-80D2-A674BA76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C77-93AB-45B0-B6D3-F2D8710C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836-A697-4C71-8600-769A8484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258-AD09-4182-898A-ACBDE02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F05-7134-4DBE-926E-A4A1A426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E8E-04D7-4D6B-853E-EC35F34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5D5E-5B5B-4A22-AC59-3ECC2E47F0BA}" type="datetime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5FB9A83-DE16-4CF6-8FD1-59AF5FF3CF72}" type="datetime10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06: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BE10-0403-49B7-A268-7CE577FFA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ccullagh.org/db9/1ds2-2/ear-closeup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il/imgres?imgurl=http://www.buytaert.net/cache/images-miscellaneous-2006-eye-500x500.jpg&amp;imgrefurl=http://buytaert.net/tag/photography%3Fpage%3D6&amp;h=333&amp;w=500&amp;sz=200&amp;hl=iw&amp;start=2&amp;um=1&amp;tbnid=XP6aV9751NDNgM:&amp;tbnh=87&amp;tbnw=130&amp;prev=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psc.gov/cpscpub/prerel/prhtml07/07011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picup.co.il/site/media/thumbs/12002-red%20sea%20copy_520.jpg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דרישות הגדר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תכונ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785-0DB9-4F78-B611-AF6313F3855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BA1F0-7A7A-499E-B2CB-47D4BB45EB34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- עקבי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וא </a:t>
            </a: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עקבי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אם אין שתי דרישות </a:t>
            </a: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הסותרו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זו את זו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747-7505-4758-8106-CE7EB7A8B7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F2608-E29D-468A-B007-A1AF34C2815B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ambiguity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 – ללא רב משמעותיו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וא אינו רב-משמעותי אם ורק אם כל דרישה שבו יש לה רק </a:t>
            </a: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פירוש אח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CE0-2C32-4F60-B86E-E5B432EE59A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155FE-2431-4768-873D-148E6112397F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ness  -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שלמ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וא שלם אם רשימת הדרישות מכסה את כל התכונות החיצוניות של המערכ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D6E-B1E5-4A21-8B35-CFFDF2E6D6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2BC4E-BB3E-430F-A6E0-CE4E837595B3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ifiability (-abiliti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כושר ההיבדקות (-ות)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וא בעל כושר ההיבדקות </a:t>
            </a: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אם ורק אם כל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דרישה שבו היא בעלת כושר ההיבדקו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דרישה היא בעלת כושר ההיבדקות אם ורק אם, קיימת דרך אפקטיבית במחיר סופי שבה הבן-אדם, או מכונה (צב"ד – ציוד בדיקה) יכולים לבדוק שהתוכנה </a:t>
            </a: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מקיימ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את הדריש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05D-2F82-4DFC-B258-B288FBA716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926E5-32EF-48C2-AD42-4579DE9317B5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ability (- abili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ידת הקושי לגלות ולתקן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B1D-CD31-4DA8-8188-4213DB4267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B6C2A-6543-49C8-B472-9B5D663360F0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ability (-abiliti)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יות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עקיבתיות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מידת הקושי לקשור בין הדרישה ולמודול (ים) המבצע(ים)  אות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2A6-11A4-4646-8355-7D6672B2B2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0AF84-B93D-49A7-8FA7-C701FC2BD79F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7418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abilit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070000" cy="121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435640" y="4579920"/>
            <a:ext cx="2376360" cy="1398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2000" y="2563920"/>
            <a:ext cx="14436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43640" y="2131920"/>
            <a:ext cx="21600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2276640"/>
            <a:ext cx="216000" cy="36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13360"/>
            <a:ext cx="14292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88000" y="4869000"/>
            <a:ext cx="21600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5229360"/>
            <a:ext cx="216000" cy="36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5445000"/>
            <a:ext cx="287280" cy="287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61642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תאור הפתרו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12000" y="2708280"/>
            <a:ext cx="7128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5280" y="2205000"/>
            <a:ext cx="14436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4920" y="2637000"/>
            <a:ext cx="64908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2637000"/>
            <a:ext cx="7164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133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עקביו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292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מודולי הפתרו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653080" y="1917720"/>
            <a:ext cx="2070000" cy="1217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437080" y="4581360"/>
            <a:ext cx="2376720" cy="1398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13440" y="2565360"/>
            <a:ext cx="14436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45080" y="2133720"/>
            <a:ext cx="21600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21440" y="2278080"/>
            <a:ext cx="216000" cy="36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5800" y="5014800"/>
            <a:ext cx="14292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9800" y="4870440"/>
            <a:ext cx="21564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9080" y="5230800"/>
            <a:ext cx="215640" cy="36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73800" y="5446800"/>
            <a:ext cx="287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3440" y="2709720"/>
            <a:ext cx="7128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16720" y="2206800"/>
            <a:ext cx="144360" cy="27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516360" y="2638440"/>
            <a:ext cx="64908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65800" y="2638440"/>
            <a:ext cx="7164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2565360"/>
            <a:ext cx="72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2205000"/>
            <a:ext cx="71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2421000"/>
            <a:ext cx="71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565360"/>
            <a:ext cx="7164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1341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S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 – מפרט הדרישו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CBF-227C-4755-A674-BD60F490091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2E5A3-6489-440A-96FE-7A1556DE9644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08092E-006 L -0.00782 0.38797 E">
                                      <p:cBhvr>
                                        <p:cTn id="12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2636 L 0.01181 0.39353 E">
                                      <p:cBhvr>
                                        <p:cTn id="12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2636 L -0.06684 0.43537 E">
                                      <p:cBhvr>
                                        <p:cTn id="13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572 L 0.00399 0.35144 E">
                                      <p:cBhvr>
                                        <p:cTn id="13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derstandability (-ability)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הבנתיות (-יות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מידת הקושי המובנה של הבנת המטרה והתהליך המיועדים של קטע תוכנ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837-8929-44FF-AB01-166BCDDEEF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C48CB-CD67-410D-B74B-801621402BA9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ifiability (-ability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ניתן לשינו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ידת הקושי להתאים את ה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לשינויי דרישות עם שמירה על שלמות ועקבי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97B-6434-4069-98A8-5679645DB4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140BE-1AB8-463E-8440-15E8A40E9C86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ניתוח הבעיה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תאור המוצ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070000" cy="1217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35640" y="4579920"/>
            <a:ext cx="2376360" cy="1398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12000" y="2563920"/>
            <a:ext cx="14436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2131920"/>
            <a:ext cx="21600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2276640"/>
            <a:ext cx="216000" cy="36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5013360"/>
            <a:ext cx="14292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88000" y="4869000"/>
            <a:ext cx="21600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5229360"/>
            <a:ext cx="216000" cy="36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72360" y="5445000"/>
            <a:ext cx="287280" cy="287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55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ניתוח הבעי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83280" y="61642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S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 - תאור המוצר: עקבי ושל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12000" y="2708280"/>
            <a:ext cx="7128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15280" y="2205000"/>
            <a:ext cx="14436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514920" y="2637000"/>
            <a:ext cx="64908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4360" y="2637000"/>
            <a:ext cx="7164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1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אילוצי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עקביו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653080" y="1917720"/>
            <a:ext cx="2070000" cy="1217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437080" y="4581360"/>
            <a:ext cx="2376720" cy="139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13440" y="2565360"/>
            <a:ext cx="14436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45080" y="2133720"/>
            <a:ext cx="21600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21440" y="2278080"/>
            <a:ext cx="216000" cy="36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5800" y="5014800"/>
            <a:ext cx="14292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89800" y="4870440"/>
            <a:ext cx="21564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9080" y="5230800"/>
            <a:ext cx="215640" cy="36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73800" y="5446800"/>
            <a:ext cx="287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5516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תאור המוצ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013440" y="2709720"/>
            <a:ext cx="7128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06800"/>
            <a:ext cx="144360" cy="27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516360" y="2638440"/>
            <a:ext cx="64908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5800" y="2638440"/>
            <a:ext cx="7164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3440" y="21351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אילוצי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4221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עקביו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47640" y="2133720"/>
          <a:ext cx="2160720" cy="12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2133720"/>
                    <a:ext cx="216072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1547640" y="4149720"/>
            <a:ext cx="2232360" cy="1314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63640" y="155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ניתוח הבעי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249228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אילוצי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2421000"/>
            <a:ext cx="216000" cy="216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2276640"/>
            <a:ext cx="144360" cy="2156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2276640"/>
            <a:ext cx="215640" cy="2156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2637000"/>
            <a:ext cx="73080" cy="2156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2852640"/>
            <a:ext cx="142920" cy="216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365720"/>
            <a:ext cx="215640" cy="215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4365720"/>
            <a:ext cx="144360" cy="215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4508640"/>
            <a:ext cx="144720" cy="14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4797360"/>
            <a:ext cx="144720" cy="14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4724280"/>
            <a:ext cx="144360" cy="144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5084640"/>
            <a:ext cx="144360" cy="144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71280" y="2565360"/>
            <a:ext cx="863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547280" y="278136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268360" y="2421000"/>
            <a:ext cx="432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2924280"/>
            <a:ext cx="504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2421000"/>
            <a:ext cx="719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348000" y="3933720"/>
            <a:ext cx="71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556000" y="3860640"/>
            <a:ext cx="71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987280" y="407664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3860640"/>
            <a:ext cx="144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486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042920" y="5157360"/>
            <a:ext cx="792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1484280"/>
            <a:ext cx="3600360" cy="44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1484280"/>
            <a:ext cx="345780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א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ב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2565360"/>
            <a:ext cx="72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16720" y="2205000"/>
            <a:ext cx="71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93080" y="2421000"/>
            <a:ext cx="71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64360" y="2565360"/>
            <a:ext cx="7164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17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זרעי הרעיו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198900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1484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זרעי הרעיו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6000" y="1773360"/>
            <a:ext cx="14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7708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2E7-1F9B-4FF9-8EA6-F135DA5035D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C5BD2-DC57-49E8-A940-5154164419F8}" type="datetime8">
              <a:rPr lang="en-US"/>
              <a:t>07/31/26 06:26</a:t>
            </a:fld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08092E-006 L -0.00782 0.38797 E">
                                      <p:cBhvr>
                                        <p:cTn id="260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2636 L 0.01181 0.39353 E">
                                      <p:cBhvr>
                                        <p:cTn id="26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2636 L -0.06684 0.43537 E">
                                      <p:cBhvr>
                                        <p:cTn id="26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572 L 0.00399 0.35144 E">
                                      <p:cBhvr>
                                        <p:cTn id="27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דריש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צורך של משתמש, מאפיין הכרחי, פונקציה, תכונה של מערכת שנתן לחוש בה במקום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חיצונ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למערכ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4221000"/>
            <a:ext cx="165564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3645000"/>
            <a:ext cx="542880" cy="81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653000"/>
            <a:ext cx="936720" cy="627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788000" y="5445000"/>
            <a:ext cx="720720" cy="49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5435640" y="422100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479736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515772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4437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cc"/>
                </a:solidFill>
                <a:latin typeface="Times New Roman"/>
              </a:rPr>
              <a:t>מערכ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204-2A56-42FB-8025-F3DECB2614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3585D-5159-4239-8218-81D05D3D1E5E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שלושה מרכיבים: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עצמים, פונקציות ומצבי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2565000"/>
            <a:ext cx="7772400" cy="303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כל הדרישות, ללא קשר לשפה, סימון או טכניקה מקימות את התנאים הבאים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 algn="r" rtl="1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3333cc"/>
                </a:solidFill>
                <a:latin typeface="Times New Roman"/>
              </a:rPr>
              <a:t>מגדירו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עצמים, פונקציות ומצבי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 algn="r" rtl="1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3333cc"/>
                </a:solidFill>
                <a:latin typeface="Times New Roman"/>
              </a:rPr>
              <a:t>מגבילי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או מפקחים על שלושת המרכבים לעיל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 algn="r" rtl="1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3333cc"/>
                </a:solidFill>
                <a:latin typeface="Times New Roman"/>
              </a:rPr>
              <a:t>מגדירים יחסי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בין שלושת המרכיבי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0920" y="1989000"/>
            <a:ext cx="5400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, functions,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5BE-4912-4BCF-9034-8EABAC709D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288A4-5FDA-47D6-8D42-86F91A85693B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לושת המרכיבים והעולם החיצו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ישויות בעלות קשר לשלושת המרכבים כגון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0000"/>
                </a:solidFill>
                <a:latin typeface="Times New Roman"/>
              </a:rPr>
              <a:t>מאפיי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של העצם כגון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מיקו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האוניה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0000"/>
                </a:solidFill>
                <a:latin typeface="Times New Roman"/>
              </a:rPr>
              <a:t>פעול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המבוצעת על ידי העצם כגון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תזוז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של אוניה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0000"/>
                </a:solidFill>
                <a:latin typeface="Times New Roman"/>
              </a:rPr>
              <a:t>מצב – </a:t>
            </a: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האוניה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נמצאת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בנמ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יחסי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עם אובייקטים אחרים: נוסעים, מכולה, סיפו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224-56E9-4E2B-98C0-2C2A7055EB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EE867-FE2F-4663-B650-DE647659353A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יש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85800" y="1981080"/>
            <a:ext cx="7771680" cy="4113360"/>
            <a:chOff x="685800" y="1981080"/>
            <a:chExt cx="7771680" cy="4113360"/>
          </a:xfrm>
        </p:grpSpPr>
        <p:cxnSp>
          <p:nvCxnSpPr>
            <p:cNvPr id="213" name="_s37900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519880" y="2676600"/>
              <a:ext cx="823320" cy="272088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7899"/>
            <p:cNvCxnSpPr>
              <a:stCxn id="217" idx="0"/>
              <a:endCxn id="215" idx="2"/>
            </p:cNvCxnSpPr>
            <p:nvPr/>
          </p:nvCxnSpPr>
          <p:spPr>
            <a:xfrm flipV="1">
              <a:off x="4571640" y="3625560"/>
              <a:ext cx="2880" cy="82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7898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800080" y="2676960"/>
              <a:ext cx="823320" cy="272088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37894"/>
            <p:cNvSpPr/>
            <p:nvPr/>
          </p:nvSpPr>
          <p:spPr>
            <a:xfrm>
              <a:off x="3405960" y="19810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ישות-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_s37895"/>
            <p:cNvSpPr/>
            <p:nvPr/>
          </p:nvSpPr>
          <p:spPr>
            <a:xfrm>
              <a:off x="68580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מצב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_s37896"/>
            <p:cNvSpPr/>
            <p:nvPr/>
          </p:nvSpPr>
          <p:spPr>
            <a:xfrm>
              <a:off x="340596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Times New Roman"/>
                </a:rPr>
                <a:t>פונקצי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37897"/>
            <p:cNvSpPr/>
            <p:nvPr/>
          </p:nvSpPr>
          <p:spPr>
            <a:xfrm>
              <a:off x="612612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800" spc="-1" strike="noStrike">
                  <a:solidFill>
                    <a:srgbClr val="000000"/>
                  </a:solidFill>
                  <a:latin typeface="Times New Roman"/>
                </a:rPr>
                <a:t>עצם-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C03-4548-46A3-A981-34327432651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D8D40-B3A7-41C4-AAAF-57D5EED978A8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מחלקות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מחלק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הנה קבוצה של מאפיינים,  אובייקטים, פונקציות, מצבים, יחסים עם אובייקטים אחר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הורש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אובייקטים במחלקה עשויים לרשת: מאפיינים, פונקציות, מצבים ויחסים מהמחלק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האובייקט הוא ישות של העולם החיצון </a:t>
            </a:r>
            <a:r>
              <a:rPr b="1" i="1" lang="hi-IN" sz="4400" spc="-1" strike="noStrike">
                <a:solidFill>
                  <a:srgbClr val="ff6600"/>
                </a:solidFill>
                <a:latin typeface="Times New Roman"/>
              </a:rPr>
              <a:t>א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של המערכת שהוגדרה לפתרון הבעיה של העולם החיצון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47F-E0F1-4EBD-8556-AAEA26BA4F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461D3-0885-431D-940C-3C115E1B3F28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RS: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708360" y="2060640"/>
          <a:ext cx="25830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5830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356000" y="2492280"/>
            <a:ext cx="14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עולם אמית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816360" cy="1519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203640" y="5516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מערכת הפותרת בעיה בעולם האמית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356000" y="3800520"/>
            <a:ext cx="1440000" cy="1023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427640" y="4149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35280" y="3716280"/>
            <a:ext cx="2520720" cy="133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פונקציה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תפקיד, שרות, תהליך, פונקציה מתמטית, פעילות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203640" y="2924280"/>
            <a:ext cx="108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472428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2EF-8203-49C2-8032-7D9E58D69D25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865D9-933E-40DC-9119-F78679B1C52C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דוגמא לספציפיקציה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מערכת תצי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את </a:t>
            </a:r>
            <a:r>
              <a:rPr b="1" i="1" lang="he-IL" sz="3200" spc="-1" strike="noStrike">
                <a:solidFill>
                  <a:srgbClr val="000000"/>
                </a:solidFill>
                <a:latin typeface="Times New Roman"/>
              </a:rPr>
              <a:t>המיקום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שוטף של האוני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27640" y="3789000"/>
            <a:ext cx="936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195640" y="3789000"/>
            <a:ext cx="93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5300640"/>
            <a:ext cx="1655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עולם המערכ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76360" y="5229360"/>
            <a:ext cx="1440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עולם האמית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379-E718-4EE1-8540-BC6A18BAFB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0EFFA-E2EF-4FA6-BD31-82412C9243C8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יישום הדריש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2739960"/>
            <a:ext cx="2951280" cy="222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3068640"/>
            <a:ext cx="1589040" cy="1198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4356000" y="3860640"/>
            <a:ext cx="276480" cy="20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BF3-F8CC-4E6F-B38C-943ACFB3503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BD299-28CA-46A0-975D-53F074D4A1E7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0416 C 0.00903 0.00277 0.02552 0.00139 0.03681 0.00185 C 0.04809 0.00231 0.05052 0.00717 0.06042 0.00647 C 0.07032 0.00578 0.08664 -0.00116 0.09601 -0.00254 C 0.10539 -0.00393 0.10903 -0.00301 0.11632 -0.00254 C 0.12361 -0.00208 0.13177 -0.00139 0.14011 -0.00046 E">
                                      <p:cBhvr>
                                        <p:cTn id="298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דרישות  לדוגמא - ניתוח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המערכת תחול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-tone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צליל חיוג תוך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שניו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המערכת תאפשר למשתמשים להציג את צבע הספינה על המסך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לעשיית שיחה מקומית, המטלפן מרים שפרפרת, שומע את צליל החיוג ואחריכן מחייג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המטוס יכול להיות על הקרקע, בהמראה, בדרך, בנחית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התחמושת לא תשא במצב של אימוני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צליל החיוג אף פעם לו יחולל יותר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דקו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ם הטלפון יורם מהתושבת, כאשר הטלפון בבטלה, צליל החיוג נשמע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D1A-A513-41AC-AC1B-11B1726F4B4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9EFB4-D716-4D94-AE91-4613D75D3BE2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למה הדרישות חיוניות?! הנחות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ככל שהשגיאה מתגלה בשלב מאוחר יותר של הפיתוח כן – גדל מחיר התיקון שלה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רבה שגיאות הן סמויות בשלב שנעשות – מתגלות אחרי שלב עשית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יש הרבה שגיאות של דרישות שנעשו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שגיאות הטיפוסיות בשלב דרישות: עובדות לא נכונות, דילוג, חוסר עקביות, רב משמעותיות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שגיאות בדרישות ניתנות לתיקו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FF9-FD93-4C0C-A9CA-BDDF462B34B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C457A-7A77-4524-A366-BBFCA81AACEB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50920" y="549360"/>
          <a:ext cx="8064360" cy="60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9360"/>
                    <a:ext cx="8064360" cy="6011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148360" y="836640"/>
            <a:ext cx="244800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59640" y="2276640"/>
            <a:ext cx="1512720" cy="1373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הצטברות השגיא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4A9-B06A-4244-834C-45420B326A9B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89EF6-25E7-43F8-B0B2-FE478671B200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דרישות –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סט של </a:t>
            </a: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דרישות</a:t>
            </a:r>
            <a:r>
              <a:rPr b="1" i="1" lang="he-I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שלב הראשוני של מחזור החיים שבו נכתב מסמך: </a:t>
            </a: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מפרט דרישות</a:t>
            </a:r>
            <a:r>
              <a:rPr b="1" i="1" lang="he-IL" sz="3200" spc="-1" strike="noStrike">
                <a:solidFill>
                  <a:srgbClr val="000000"/>
                </a:solidFill>
                <a:latin typeface="Times New Roman"/>
              </a:rPr>
              <a:t> תוכנה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ftware Requirements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ED1-4BF5-461D-B116-F97AA171FC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95D42-1E31-4C13-880C-0C9E950B75E0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מיון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יישומים -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קימות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שיטות </a:t>
            </a: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אורתוגונאליו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של מיוני אפליקציו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קושי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-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סטטי-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דינאמי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-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טורי-מקבילי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-Parallel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-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נתונים-בקרה-אלגוריתם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Control-Algorithm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-CO-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דטרמיניסטי-לא דטרמיניסטי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-Nondeterministic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-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E41-FF19-4980-B395-D4AA2122216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8CCA0-4395-4438-8C6B-5E698DC45767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דוגמ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85800" y="1981080"/>
          <a:ext cx="7772400" cy="4619880"/>
        </p:xfrm>
        <a:graphic>
          <a:graphicData uri="http://schemas.openxmlformats.org/drawingml/2006/table">
            <a:tbl>
              <a:tblPr/>
              <a:tblGrid>
                <a:gridCol w="1006560"/>
                <a:gridCol w="2950920"/>
                <a:gridCol w="38149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מס'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שם האפליקצי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סוו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HA-NH,ST-DY,SE-PA,DA-CO-AL,DE-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מערכת תקשו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,NH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חיפושי נפט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תחזית מזג אווי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תרגום תוכנית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RAN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לשפת מכונה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3C3-1FE6-479A-B561-4DCD6860BD1C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D31B4-73F2-4457-940E-F2CCF921377E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תיאור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מסמך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למשל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דרישות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תכנו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בדיקו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563-7CCF-4A7A-AE8F-50C9C2238E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1C2E5-8C22-414C-B58D-C231123EDEBA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7846920" cy="180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מפרט דרישות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Requirement Specification (SR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מסמך המתאר את כל התכונות שקיומן ניתן להוכיח באופן חיצוני בלבד.  הוא מתאר מה התוכנה עושה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חיצוני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בלי לתאר איך היא פועלת </a:t>
            </a:r>
            <a:r>
              <a:rPr b="1" i="1" lang="hi-IN" sz="3200" spc="-1" strike="noStrike">
                <a:solidFill>
                  <a:srgbClr val="3333cc"/>
                </a:solidFill>
                <a:latin typeface="Times New Roman"/>
              </a:rPr>
              <a:t>פנימי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i="1" lang="hi-IN" sz="4400" spc="-1" strike="noStrike">
                <a:solidFill>
                  <a:srgbClr val="3333cc"/>
                </a:solidFill>
                <a:latin typeface="Times New Roman"/>
              </a:rPr>
              <a:t>מ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ולא "</a:t>
            </a:r>
            <a:r>
              <a:rPr b="1" i="1" lang="hi-IN" sz="4400" spc="-1" strike="noStrike">
                <a:solidFill>
                  <a:srgbClr val="3333cc"/>
                </a:solidFill>
                <a:latin typeface="Times New Roman"/>
              </a:rPr>
              <a:t>איך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F65-37C2-4CB7-9250-973A891DB7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60434-EC92-483D-8651-87B9B07ACA9F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הדואליות של: </a:t>
            </a:r>
            <a:r>
              <a:rPr b="1" i="1" lang="hi-IN" sz="4400" spc="-1" strike="noStrike">
                <a:solidFill>
                  <a:srgbClr val="000000"/>
                </a:solidFill>
                <a:latin typeface="Times New Roman"/>
              </a:rPr>
              <a:t>מ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ו-</a:t>
            </a:r>
            <a:r>
              <a:rPr b="1" i="1" lang="hi-IN" sz="4400" spc="-1" strike="noStrike">
                <a:solidFill>
                  <a:srgbClr val="000000"/>
                </a:solidFill>
                <a:latin typeface="Times New Roman"/>
              </a:rPr>
              <a:t>אי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דרישה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i-IN" sz="3200" spc="-1" strike="noStrike">
                <a:solidFill>
                  <a:srgbClr val="000000"/>
                </a:solidFill>
                <a:latin typeface="Times New Roman"/>
              </a:rPr>
              <a:t>מעטפת של התוכנה תכלול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מודולי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. מה?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מעטפת של תוכנה ע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מודולי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. איך תהיה בנויה מעטפת תוכנה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היא תכלו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מודולים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687-CF45-4DCF-B7BE-B749A08F6A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A1A8B-750E-4E21-B809-A5DBF5F83C02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223056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מחזור חיי מערכ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64000" y="404640"/>
          <a:ext cx="5103720" cy="56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04640"/>
                    <a:ext cx="5103720" cy="5616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68360" y="2205000"/>
            <a:ext cx="266364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12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תוכנה בלב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12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שלוב: תוכנה-חומר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6A3-6399-420F-9EF8-48BE5262E78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110D0-7489-49E8-83F4-04838875DF68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סיום שלב הדריש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סביב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357720"/>
            <a:ext cx="1368360" cy="3682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המערכ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48000" y="2924280"/>
            <a:ext cx="2160720" cy="1584360"/>
          </a:xfrm>
          <a:prstGeom prst="rect">
            <a:avLst/>
          </a:prstGeom>
          <a:solidFill>
            <a:srgbClr val="ffcccc">
              <a:alpha val="12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3933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ממש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7280" y="4724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סביב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C63-22CC-4798-B0C2-2B16E2F3E4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D238C-E945-46FF-B230-B05D457DFD6E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1511280"/>
          </a:xfrm>
          <a:prstGeom prst="rect">
            <a:avLst/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</a:rPr>
              <a:t>תכונות של מפרט טכני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4076280"/>
            <a:ext cx="770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פרט טכני של מפרט טכנ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1CF-66A9-46F9-8F72-E7F1751DA8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82A18-5C97-4E3F-B817-95C392593C84}" type="datetime8">
              <a:rPr lang="en-US"/>
              <a:t>07/31/26 06: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7-12-03T06:23:28Z</dcterms:modified>
  <cp:revision>68</cp:revision>
  <dc:subject/>
  <dc:title>מצגת של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7</vt:r8>
  </property>
  <property fmtid="{D5CDD505-2E9C-101B-9397-08002B2CF9AE}" pid="3" name="Version">
    <vt:r8>1</vt:r8>
  </property>
</Properties>
</file>