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EAE-680B-4CC4-B978-DEA1458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530-5B33-437F-A7EE-0848C41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D17-D337-4EAC-AE43-90288E6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94A-C916-49A0-B4C9-DC801B2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134-C73D-4853-90D3-1CDDF35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DA53-B131-4D7D-B965-C1A4AD8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02A2-729A-4165-AA0B-5373BD2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43A-88CC-457C-AC56-42E77FC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2F7C-5DA5-4D3B-ABE1-B3AB743C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F7A-A086-4084-8E36-22D64660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DC8-21B7-4FD8-89AD-5ACF61E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EFE-8605-4464-AFB9-4C88AA8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F593-DA68-45CC-BDBD-2F3FCAE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1DFD-7781-42AC-82CD-5F20A83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EB35-5615-458C-9717-EF081DC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814-DE77-46B4-9FB0-1084ECFE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1B98-8721-441D-B310-1F884D70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3B5-075F-4BCC-8118-39C569C5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3F1-B7AA-4C0A-89C9-AA43A548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9C9-88C0-4F3E-BE9F-50E99A7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3FB-C2A7-4B86-8158-E33E922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146-D88C-479B-99E3-37D387C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2C0-1B5B-49A0-9222-2DF9D4D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24C-33D3-4DF6-A28A-EFBDB00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1082-5260-4B00-9017-06ED9C1609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70C3-3B51-451C-94B1-2FDD88309F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ccounting Information Syste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zwan Wah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.Com. 7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ps in an Int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people to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 right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right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view people from all lev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teps in an Interview- Contd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tablish objectives for the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 areas to be discuss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ts to be gathe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teps in an Interview- Contd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are for the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pen-ended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 questions that have no pre-specified answ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losed-ended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 more specific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ange of response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/F, MCQs, Ranking items in order of import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teps in an Interview- Contd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duct the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 your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cribe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ain interview objec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en carefully &amp; take no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notes within 24 hours of int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neut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teps in an Interview- Contd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 the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the 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&amp; Unsuccessful Interview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ell prepared interview may not be success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you and interviewee did not get along w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viewee may give only short or incomplete respon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cument 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existing documents to understand how the system is supposed to 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tain current documents &amp; forms in 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 blank &amp; filled (sample) fro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ase of existing software, review software docu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sufficient questions to show your understanding about the system 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serve all the steps in a processing cy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ine each docu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lk to people who receive current reports to ensure that they are complete, timely, accurate and in useful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awthorn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nai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 document containing a number of standard questions, that can be send to many individuals. It can be used to obtain information abou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loads, reports received, volume of transactions, job duties, difficulties, and opinion of how to perform the jo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s for Questionna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it brief &amp; user frien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clear instructions that will answer all anticipated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s should be in logical order (easy to complex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simple terms &amp; wording in place of phr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oid open-ended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lude a section at the end for general com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st it on a small group before finalizing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DLC</a:t>
            </a:r>
            <a:br>
              <a:rPr sz="4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PHASE-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iew Vs. Questionna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600200"/>
          <a:ext cx="8763120" cy="2982960"/>
        </p:xfrm>
        <a:graphic>
          <a:graphicData uri="http://schemas.openxmlformats.org/drawingml/2006/table">
            <a:tbl>
              <a:tblPr/>
              <a:tblGrid>
                <a:gridCol w="2662200"/>
                <a:gridCol w="2976480"/>
                <a:gridCol w="3124440"/>
              </a:tblGrid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vi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estionna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 be exten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to 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 be 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idential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n to interview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 be unkn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mpl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atic sa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ustomer file for re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atified sa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 5 customers from each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ndom sa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 any 20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earc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ine mater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use search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nformation it can provi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it is useful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y cases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rding th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to record the fac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to record the f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ware To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d process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readshe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tation Graphics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nalyzing the Fac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4191120"/>
            <a:ext cx="678204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895480"/>
            <a:ext cx="678204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stem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rse Engine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ve 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30040" y="1600200"/>
          <a:ext cx="8686440" cy="320976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Determi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Analy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at is don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ere is it don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tc……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is it don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y is it done ther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tc…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at should be Don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here should it be don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tc……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stem Analysis Ph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termining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alyzing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aluating Alternatives &amp; Strate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51055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676680"/>
            <a:ext cx="51055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838760"/>
            <a:ext cx="51055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07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termining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41240" y="2998800"/>
            <a:ext cx="76201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stems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ature/characteristics that must be included in an IS to satisfy business requirements and 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requirements fall into five catego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pu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lume, Sizes &amp; Frequen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 Finding Techniq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s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estionn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pling &amp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interview is a planned meeting during which information is obtained from a per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ring interview you will gather facts, opinions and observe body language, emotions, and other signs of what people want &amp; how they assess current system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zwan</cp:lastModifiedBy>
  <dcterms:modified xsi:type="dcterms:W3CDTF">2003-05-17T19:23:02Z</dcterms:modified>
  <cp:revision>190</cp:revision>
  <dc:subject/>
  <dc:title>PowerPoint Presentation</dc:title>
</cp:coreProperties>
</file>