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31F0-6247-4D0D-BBD1-1C1A426C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B979-B9CF-49D8-8814-DB16A1E7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7D83-66E5-433D-BBBB-1F7E885A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9C50-66A1-44BA-934A-DB598155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55E6-21FF-4BB7-8C33-359BE5F7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7A04-4B79-4D79-96F2-D6B991DA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F0DA-579E-417F-8264-E27F47BD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D1AB-BB31-481B-AC57-4F04AB34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69A7-C3C2-4ABD-A5D7-69677A6F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E979-8C94-4391-8A24-6EB92671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E5F6-3C93-47C5-AEF0-185A5A73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BC62-5556-48D5-BACA-E80AC7A8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0121C64-10DA-47CC-9FA5-BA7A971A94C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Texturas Aplicadas ao Método da Radios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sertação de Mest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895480"/>
            <a:ext cx="79246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icardo  Birtel Mendes de Fre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rientador: Marcelo Dre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partamento de Engenharia Mecâ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UC-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CAD - Laboratório de CAD Inteligent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étodos de Texturiz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presentação de padrões de superfície, irregularidades de materiais, rugo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odelos locais de ilumin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uas dessas técnic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Mapeamento de Textu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Métodos Procedur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eamento de Textu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2151000"/>
            <a:ext cx="7756560" cy="16239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dicionam-se detalhes de superfície através do mapeamento de padrões de textura sobre as superfícies dos objetos que se quer represen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osições nas superfícies que compõe o ambiente são referenciadas no espaço de objetos uv, ao passo que posições de pixels no plano de projeção são referenciadas no espaço de coordenadas cartesianas 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Times New Roman"/>
              </a:rPr>
              <a:t>Image Order Sc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3360" y="1076400"/>
            <a:ext cx="8007120" cy="28702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apear coordenadas de pixel para o espaço de texturas é chamado scanning reverso, ou image order sc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ssa técnica evita a subdivisão de pixels (como em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texture scanning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), e facilita a aplicação de filtros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anti-alia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É necessário no entanto calcular a inversa da transformada para o plano de projeção e a inversa da transformada para o mapa de textura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Mapeamento por superfícies intermediár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em sempre é fácil mapear texturas bi-dimensionais em objetos tri-dimensionais. Para tanto é necessário que a superfície no espaço de objetos possa ser adequadamente parametrizada, o que nem sempre é fácti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É possível evitar esse problema utilizando uma superfície de parametrização simples como intermediária no mapeamento do espaço de texturas para o espaço de obj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apeamento em duas partes: dos pontos do espaço de texturas para a superfície intermediária; e desta para  a superfície do ob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 S-Mapp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(s,t) -&gt; T´(xi,yi,z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 O-Mapp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´(xi,yi,zi) -&gt; O(xw,yw,z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ara o S-Mapping podem ser utilizados, por exemplo: um plano, a sup. de um cilindro, as faces de um cubo e a sup. de uma esfe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O-Ma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ossíveis soluções para o O-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66800" y="1592280"/>
            <a:ext cx="595332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étodos Procedur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unções analíticas capazes de emular padrões e características de materi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erturba-se algum parâmetro (cor, normal) usando-se uma função proced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unção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Noise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Perlin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 função quase-randômica, repetitiva de seus valores de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inpu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 banda limitada (max. frequência 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 faixa de resultados conhecidos (de -1 a 1, tipicament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 sem periodicidade óbvia (período long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 estacionária (invariante à translaçã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 isotrópica (invariante à rotaçã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ariações sobre a função noise levam a um sem-número de texturas dife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Exemplos de Texturas Procedur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290600" y="1981080"/>
          <a:ext cx="259884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0600" y="1981080"/>
                    <a:ext cx="2598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5253120" y="1981080"/>
          <a:ext cx="2598480" cy="1981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53120" y="1981080"/>
                    <a:ext cx="25984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271680" y="4267080"/>
          <a:ext cx="2598840" cy="1981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71680" y="4267080"/>
                    <a:ext cx="2598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ção da Apresent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) Objetivo do trabal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2) A técnica da Radio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3) Métodos de Textur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4) O programa HE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5) Combinando Texturas com Radio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6) Conclu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7) Trabalhos futu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programa HEL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senvolvido por Ian Ashdown (pesquisador canaden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oftware de domínio público (inclusive código fo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7000 linhas de código, 500 páginas de documen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odela superfícies difusas (não inclui soluções híbrid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ivisão do ambiente em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patche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(para emissão de energia) e elementos (para recepção de energ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uperfícies emissoras modeladas como pontuais (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five times rul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efinamento Progres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ara o cálculo dos fatores de forma, três métodos possíveis a serem escolhidos em tempo de compilaçã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 Hemi-C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 Cubo-Tetraed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Ray-Ca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ção da Apresent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) Objetivo do trabal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2) A técnica da Radio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3) Métodos de Textur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4) O programa HE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5) Combinando Texturas com Radio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6) Conclu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7) Trabalhos futu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ção da Apresent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1) Objetivo do trabal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2) A técnica da Radio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3) Métodos de Textur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4) O programa HE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5) Combinando Texturas com Radio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6) Conclu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7) Trabalhos futu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Aplicação de Métodos de Texturização à Técnica da Radios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olução Híbr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odelo de iluminação local acoplado a modelo de iluminação glob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otivação: representação realista de padrões de superfície em obj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étodos implement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 Mapeamento por superfícies intermediá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everse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hrinkWrap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phere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 Técnicas Procedur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ar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Wav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Borg Me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ulti-Fractal Mar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Combinando Radiosidade e Tex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a os métodos procedurais, balanço entre o valor original de radiosidade com o perturbado pela técnica procedural (peso escolhido empiricamente conforme resultados colet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a os métodos de mapeamento por superfícies intermediárias, uso da equação abaixo (onde B´ é o valor de radiosidade final, B a radiosidade inicial,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y a cor retornada pelo mapa de textura e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vg a cor média do mapa de textura):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793960" y="4952880"/>
                <a:ext cx="2387520" cy="15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apeamento - Reverse Ma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o superfície intermediária, um plano em orientação específica (característica da implement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824120" y="2373480"/>
          <a:ext cx="5459400" cy="410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4120" y="2373480"/>
                    <a:ext cx="54594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Mapeamento -ShrinkWrap Cylin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600200"/>
            <a:ext cx="7696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mo superfície intermediária, um cilindro em orientação específica (característica da implementação), com o eixo coincidindo com o centróide do ob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86000" y="3048120"/>
            <a:ext cx="42512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Mapeamento -Sphere Mapp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00200"/>
            <a:ext cx="7696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mo superfície intermediária, uma esfera com o centro coincidindo com o centróide do ob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057400" y="2590920"/>
            <a:ext cx="48610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Procedurais - Função Mar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371600"/>
            <a:ext cx="7696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sada a função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gradient nois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 com quatro oitavas. Apresentada por Peachey, alterada aqui por variação de parâmetros. A diferença flagrante dos padrões se deve à discretização diversa dos objetos, embora alterações de escala produzam efeitos semelh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1520" y="2819520"/>
            <a:ext cx="4452840" cy="3336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597560" y="2819520"/>
            <a:ext cx="445428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Procedurais - Função Wav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371600"/>
            <a:ext cx="7696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sada a função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gradient nois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 com três oita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 função procedural é reproduzida por síntese espectral.  A diferença flagrante nos padrões produzidos se deve a alterações de escala (parâmetro passado para a função noise - no primeiro caso foi usado um fator de perturbação 1; no segundo 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4013280" cy="2498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724280" y="3414600"/>
            <a:ext cx="403884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Procedurais - Função Borg Me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3716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sada a função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gradient nois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 com seis oitavas, fator de perturbação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600200" y="2122560"/>
            <a:ext cx="579132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Procedurais - Função Multi-Frac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37160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íntese espectral em 4 oitavas. Função suavizada de propósito, com variação de parâmetros e alteração de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676520" y="2292480"/>
            <a:ext cx="55623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Um exemplo do HELIOS com Texturização Procedu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601992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m ambiente representado no HELIOS, percorrido pelo observador e  capturado em filme com o intuito de demonstrar as características do softwa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676520" y="1371600"/>
          <a:ext cx="556236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371600"/>
                    <a:ext cx="556236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tivo do trabal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íntese de imagens rea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perimentação com métodos de texturização (modelos de iluminação loc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binação da técnica da Radiosidade (modelo de iluminação global) com métodos de textur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Outros result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2422440" cy="1508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581280" y="1523880"/>
            <a:ext cx="2422800" cy="1508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172200" y="1523880"/>
            <a:ext cx="2422440" cy="1508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6172200" y="5105520"/>
            <a:ext cx="2422440" cy="1508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914400" y="5105520"/>
            <a:ext cx="2422440" cy="1508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3581280" y="5105520"/>
            <a:ext cx="2422800" cy="1508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914400" y="3352680"/>
            <a:ext cx="2422440" cy="1508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3581280" y="3352680"/>
            <a:ext cx="2422800" cy="1508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>
            <a:off x="6172200" y="3352680"/>
            <a:ext cx="242244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ção da Apresent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) Objetivo do trabal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2) A técnica da Radio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3) Métodos de Textur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4) O programa HE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5) Combinando Texturas com Radio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6) Conclu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7) Trabalhos futu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 combinação da técnica de Radiosidade com Métodos de Texturização permitiu a obtenção de imagens com alto grau de realism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 uso de modelos de iluminação local para representação de características de materiais revelou-se uma boa solução para compensar as deficiências associadas ao método da Radios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s resultados finais, embora incorretos do ponto de vista da conservação de energia, indicam que certas soluções híbridas são uma alternativa prática para a síntese de imagens realistas, uma vez que não acrescentam requerimentos significativos em termos de armazenamento de memória e capacidade de processam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m relação aos métodos de texturização implement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  O Mapeamento por superfícies intermediárias é uma solução simples, capaz de produzir bons resultados, mas insere detalhes de iluminação alheios à iluminação do ambiente (originados na produção do ma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 Técnicas procedurais são capazes de produzir um sem-número de     variações, porém com um difícil controle dos result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ção da Apresent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) Objetivo do trabal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2) A técnica da Radio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3) Métodos de Textur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4) O programa HE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5) Combinando Texturas com Radio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6) Conclu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7) Trabalhos futu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balhos Futu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751040"/>
            <a:ext cx="77724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delagem de sól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ni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evenção de artefatos de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ali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corporação de outros modelos de iluminação (tais como o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Ray-Tracing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corporação de Subdivisão Adap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mplementação de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Bump-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mplementação de animação de volumes, gases e líquidos, por técnicas procedu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mplementação de Reação-Difusão (técnica proced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ocumentação e Código fo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751040"/>
            <a:ext cx="77724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Web P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http://www.geocities.com/SiliconValley/Network/5790/thesi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ocumentação do trabal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sta apresentação disponível para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down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ódigo HELIOS modificado disponível para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download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esultados Experiment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ção da Apresent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) Objetivo do trabal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2) A técnica da Radio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3) Métodos de Textur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4) O programa HE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5) Combinando Texturas com Radio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6) Conclu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7) Trabalhos futu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adiosidade modela lu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oria de transferência de calor por radiação aplicada à síntese de imagens re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iscretização do ambiente em pequenos retalhos e elementos, seguida da aplicação do princípio de conservação de ener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delo de iluminaçã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tensível a outros fenômenos de reflexão de luz (reflexão, refração), mas o grau de complexidade introduzido normalmente torna factível apenas à aplicação a reflexões difusas (não direciona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ntagens para animação (se somente o observador se mover, o ambiente só precisa ser calculado um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 equação da Radios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495680" cy="2895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3760" y="1294920"/>
            <a:ext cx="3352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m modelo para as reflexões de luz é formado pela definição de um volume de cont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ada superfície dentro do volume de controle ou é um refletor, um emissor (fonte de luz), ou uma combinação dos doi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ara resolver as equações simultâneas, é preciso calcular os fatores de forma entre as superfí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omente válida para reflexões difusas (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n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762120" y="4522680"/>
                <a:ext cx="4190760" cy="18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 energia radiante total,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 taxa de energia emitida,</m:t>
                        </m:r>
                      </m:e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ator de reflexao,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a contribuicao das outra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perficies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o fator de forma entre as duas superficie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ores de For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191120" cy="3048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362320" y="4973760"/>
                <a:ext cx="37940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sur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j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r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k</m:t>
                            </m:r>
                          </m:sub>
                          <m:sup/>
                          <m:e/>
                        </m:nary>
                      </m:e>
                    </m:nary>
                    <m:f>
                      <m:num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</m:m>
                      </m:num>
                      <m:den>
                        <m:m>
                          <m:mr>
                            <m:e>
                              <m:r>
                                <m:t xml:space="preserve">p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030640" y="1523880"/>
            <a:ext cx="3810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integrais de superfície podem ser calculadas usando-se técnicas de cálculo numérico, com as seguintes condições de contorno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4267080"/>
            <a:ext cx="3809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181480" y="3268800"/>
                <a:ext cx="377820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, para todo k,  conservacao de energia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reflexao de luz uniforme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para todo j, elementos planos ou convexo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inamento Progress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62120" y="1355760"/>
                <a:ext cx="2236680" cy="33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a cada patch k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alcular hemicubo, calcular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atores de form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a cada patch j</m:t>
                        </m:r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</m:d>
                      </m:e>
                      <m:e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ρ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k</m:t>
                                  </m:r>
                                </m:sub>
                              </m:sSub>
                              <m:f>
                                <m:num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;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D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D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  <m:r>
                          <m:t xml:space="preserve">;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</m:d>
                      </m:e>
                      <m:e>
                        <m:sSub>
                          <m:e>
                            <m:r>
                              <m:t xml:space="preserve">D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4" name=""/>
          <p:cNvGraphicFramePr/>
          <p:nvPr/>
        </p:nvGraphicFramePr>
        <p:xfrm>
          <a:off x="3429000" y="1187280"/>
          <a:ext cx="5334120" cy="359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1187280"/>
                    <a:ext cx="5334120" cy="35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 patch de maior valor inicial de radiosidade (a fonte de luz com maior emissividade) é selecionado primeiro, e um valor de radiosidade é calculado para todos os outros patches (esses valores serão utilizados como valores iniciais de radiosidade nas iterações seguin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sse processo de escolha se repete a cada iteração, na ordem de máxima energia radi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ção da Apresent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) Objetivo do trabal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2) A técnica da Radio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3) Métodos de Textur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4) O programa HE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5) Combinando Texturas com Radio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6) Conclu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7) Trabalhos futu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0:35:48Z</dcterms:created>
  <dc:creator>xedas</dc:creator>
  <dc:description/>
  <dc:language>en-US</dc:language>
  <cp:lastModifiedBy>DEM</cp:lastModifiedBy>
  <cp:lastPrinted>1998-09-29T03:20:00Z</cp:lastPrinted>
  <dcterms:modified xsi:type="dcterms:W3CDTF">1998-09-27T08:58:26Z</dcterms:modified>
  <cp:revision>42</cp:revision>
  <dc:subject/>
  <dc:title>Texturas Aplicadas ao Método da Radiosidade</dc:title>
</cp:coreProperties>
</file>