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9AA9-3C13-4F9C-8137-13B234F46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3C05-42EB-4101-8160-6C2B2432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B024-14C1-4154-93C4-33FBF07FA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1AB5-9FB5-43BE-BE8C-CC56F17CE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D821-DDA1-434B-B5DD-82F5A1C1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8F12-D3FF-4071-809B-16A7294C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9CAD-E5C2-4FF6-872D-36F982D7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1623-BADD-4854-8E39-C47F8F32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4776-1BEA-458F-A95A-4A933800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7C4B-62E6-4981-A586-65FFBC46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A954-1513-4D8D-9E6E-56DDB79F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311E-A478-47ED-AD0D-E3102196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EAB7-121E-4C0A-AA56-422548F90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631880"/>
            <a:ext cx="708660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66"/>
                </a:solidFill>
                <a:latin typeface="Times New Roman"/>
              </a:rPr>
              <a:t>Comunicación entre proces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66"/>
                </a:solidFill>
                <a:latin typeface="Times New Roman"/>
              </a:rPr>
              <a:t>utilizando sockets de UN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(Modelo Cliente-Servidor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828800" y="8380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828800" y="13716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87680" y="2286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96440" y="19810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66880" y="114300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1895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66"/>
                </a:solidFill>
                <a:latin typeface="Times New Roman"/>
              </a:rPr>
              <a:t>liste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2880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accep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666880" y="167652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666880" y="2209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5880" y="2819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5880" y="3505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onnec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934320" y="31240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5880" y="4181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34320" y="38098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05120" y="4191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0512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588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6086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los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66880" y="2743200"/>
            <a:ext cx="0" cy="1447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666520" y="3657600"/>
            <a:ext cx="3429000" cy="0"/>
          </a:xfrm>
          <a:prstGeom prst="line">
            <a:avLst/>
          </a:prstGeom>
          <a:ln w="93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3733560" y="4343400"/>
            <a:ext cx="236196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4720" y="8380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1000" y="13399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17524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sposición para esperar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2362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 espera de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57520" y="324468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nexión establec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32520" y="400680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848720" y="33526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conex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828800" y="8380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28800" y="13716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87680" y="2286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96440" y="19810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66880" y="114300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28800" y="1895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66"/>
                </a:solidFill>
                <a:latin typeface="Times New Roman"/>
              </a:rPr>
              <a:t>liste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2880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accep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666880" y="167652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666880" y="2209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5880" y="2819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5880" y="3505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onnec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934320" y="31240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5880" y="4181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34320" y="38098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05120" y="4191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0512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9588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5880" y="6086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los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66880" y="2743200"/>
            <a:ext cx="0" cy="1447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66880" y="4495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666520" y="3657600"/>
            <a:ext cx="3429000" cy="0"/>
          </a:xfrm>
          <a:prstGeom prst="line">
            <a:avLst/>
          </a:prstGeom>
          <a:ln w="93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733560" y="4343400"/>
            <a:ext cx="236196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4720" y="8380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1000" y="13399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17524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sposición para esperar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04920" y="2362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 espera de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40384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eer la petición de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57520" y="324468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nexión establec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32520" y="400680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848720" y="33526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conex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828800" y="8380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28800" y="13716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87680" y="2286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96440" y="19810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666880" y="114300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828800" y="1895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66"/>
                </a:solidFill>
                <a:latin typeface="Times New Roman"/>
              </a:rPr>
              <a:t>liste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82880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accep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666880" y="167652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2209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5880" y="2819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5880" y="3505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onnec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34320" y="31240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4181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934320" y="38098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05120" y="4191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0512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588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5880" y="6086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los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2743200"/>
            <a:ext cx="0" cy="1447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666880" y="4495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607040" y="4724280"/>
            <a:ext cx="25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amiento de l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666520" y="3657600"/>
            <a:ext cx="3429000" cy="0"/>
          </a:xfrm>
          <a:prstGeom prst="line">
            <a:avLst/>
          </a:prstGeom>
          <a:ln w="93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733560" y="4343400"/>
            <a:ext cx="236196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4720" y="8380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1000" y="13399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17524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sposición para esperar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04920" y="2362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 espera de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4920" y="40384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eer la petición de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57520" y="324468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nexión establec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32520" y="400680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848720" y="33526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conex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66880" y="51814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828800" y="8380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28800" y="13716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87680" y="2286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896440" y="19810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666880" y="114300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828800" y="1895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66"/>
                </a:solidFill>
                <a:latin typeface="Times New Roman"/>
              </a:rPr>
              <a:t>liste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82880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accep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66880" y="167652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666880" y="2209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95880" y="2819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095880" y="3505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onnec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934320" y="31240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5880" y="4181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34320" y="38098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05120" y="4191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0512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5880" y="6086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los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66880" y="2743200"/>
            <a:ext cx="0" cy="1447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66880" y="4495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66880" y="51814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07040" y="4724280"/>
            <a:ext cx="25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amiento de l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2666520" y="3657600"/>
            <a:ext cx="3429000" cy="0"/>
          </a:xfrm>
          <a:prstGeom prst="line">
            <a:avLst/>
          </a:prstGeom>
          <a:ln w="93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733560" y="4343400"/>
            <a:ext cx="236196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44720" y="8380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1000" y="13399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17524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sposición para esperar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2362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 espera de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4920" y="40384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eer la petición de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8600" y="528624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iar respuesta a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57520" y="324468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nexión establec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32520" y="400680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848720" y="33526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conex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828800" y="8380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28800" y="13716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87680" y="2286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96440" y="19810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666880" y="114300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28800" y="1895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66"/>
                </a:solidFill>
                <a:latin typeface="Times New Roman"/>
              </a:rPr>
              <a:t>liste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accep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666880" y="167652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666880" y="2209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5880" y="2819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95880" y="3505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onnec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934320" y="31240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5880" y="4181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934320" y="38098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905120" y="4191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0512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9588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5880" y="6086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los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934320" y="4495680"/>
            <a:ext cx="0" cy="9144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666880" y="2743200"/>
            <a:ext cx="0" cy="1447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666880" y="4495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66880" y="51814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607040" y="4724280"/>
            <a:ext cx="25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amiento de l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2666520" y="3657600"/>
            <a:ext cx="3429000" cy="0"/>
          </a:xfrm>
          <a:prstGeom prst="line">
            <a:avLst/>
          </a:prstGeom>
          <a:ln w="93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733560" y="4343400"/>
            <a:ext cx="236196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733920" y="5562720"/>
            <a:ext cx="236196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4720" y="8380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1000" y="13399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17524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sposición para esperar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04920" y="2362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 espera de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4920" y="40384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eer la petición de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8600" y="528624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iar respuesta a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557520" y="324468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nexión establec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232520" y="400680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79600" y="5562720"/>
            <a:ext cx="191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ío de la respue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848720" y="33526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conex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1828800" y="8380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828800" y="13716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687680" y="2286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896440" y="19810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66880" y="114300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828800" y="1895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66"/>
                </a:solidFill>
                <a:latin typeface="Times New Roman"/>
              </a:rPr>
              <a:t>liste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82880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accep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666880" y="167652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666880" y="2209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095880" y="2819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95880" y="3505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onnec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934320" y="31240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95880" y="4181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934320" y="38098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905120" y="4191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90512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09588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95880" y="6086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los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934320" y="4495680"/>
            <a:ext cx="0" cy="9144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666880" y="2743200"/>
            <a:ext cx="0" cy="1447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666880" y="4495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666880" y="51814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607040" y="4724280"/>
            <a:ext cx="25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amiento de l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666520" y="3657600"/>
            <a:ext cx="3429000" cy="0"/>
          </a:xfrm>
          <a:prstGeom prst="line">
            <a:avLst/>
          </a:prstGeom>
          <a:ln w="93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733560" y="4343400"/>
            <a:ext cx="236196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33920" y="5562720"/>
            <a:ext cx="236196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4720" y="8380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1000" y="13399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17524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sposición para esperar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4920" y="2362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 espera de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04920" y="40384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eer la petición de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8600" y="528624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iar respuesta a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557520" y="324468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nexión establec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232520" y="400680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179600" y="5562720"/>
            <a:ext cx="191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ío de la respue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848720" y="33526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conex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848720" y="525780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ectura de respue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828800" y="8380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828800" y="13716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87680" y="2286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96440" y="19810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666880" y="114300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828800" y="1895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66"/>
                </a:solidFill>
                <a:latin typeface="Times New Roman"/>
              </a:rPr>
              <a:t>liste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82880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accep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666880" y="167652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666880" y="2209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095880" y="2819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095880" y="3505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onnec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934320" y="31240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5880" y="4181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934320" y="38098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905120" y="4191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90512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9588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5880" y="6086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los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934320" y="4495680"/>
            <a:ext cx="0" cy="9144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934320" y="5715000"/>
            <a:ext cx="0" cy="3808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666880" y="2743200"/>
            <a:ext cx="0" cy="1447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666880" y="4495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666880" y="51814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607040" y="4724280"/>
            <a:ext cx="25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amiento de l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2666520" y="3657600"/>
            <a:ext cx="3429000" cy="0"/>
          </a:xfrm>
          <a:prstGeom prst="line">
            <a:avLst/>
          </a:prstGeom>
          <a:ln w="93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3733560" y="4343400"/>
            <a:ext cx="236196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733920" y="5562720"/>
            <a:ext cx="236196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44720" y="8380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1000" y="13399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17524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sposición para esperar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4920" y="2362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 espera de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40384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eer la petición de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28600" y="528624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iar respuesta a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57520" y="324468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nexión establec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232520" y="400680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79600" y="5562720"/>
            <a:ext cx="191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ío de la respue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848720" y="33526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conex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848720" y="525780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ectura de respue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848720" y="597204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ierre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983120" y="379440"/>
            <a:ext cx="362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municación orientada a conexión (TC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198108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9810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00200" y="175248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896440" y="17524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819520" y="2743200"/>
            <a:ext cx="0" cy="304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810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19520" y="33526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19520" y="40384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5880" y="2362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958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934320" y="26668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0958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934320" y="33526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0512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9588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095880" y="58579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hutdow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934320" y="4038480"/>
            <a:ext cx="0" cy="11430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934320" y="5486400"/>
            <a:ext cx="0" cy="3808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819520" y="4800600"/>
            <a:ext cx="0" cy="3808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664280" y="4419720"/>
            <a:ext cx="25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amiento de l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809880" y="3886200"/>
            <a:ext cx="228600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733920" y="5334120"/>
            <a:ext cx="236196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97000" y="24382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33280" y="29401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52280" y="3517920"/>
            <a:ext cx="1752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ceptar conex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spera hasta que llegue un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28600" y="505764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iar respuesta a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119840" y="350532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90520" y="5378400"/>
            <a:ext cx="191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ío de la respue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48720" y="502920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cepción de respue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848720" y="574344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ierre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773440" y="303120"/>
            <a:ext cx="362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munic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o orientada a conexión (UD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198108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810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600200" y="175248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896440" y="17524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9810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095880" y="2362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0958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58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0512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09588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5880" y="58579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hutdow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97000" y="24382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773440" y="303120"/>
            <a:ext cx="362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munic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o orientada a conexión (UD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98108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9810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00200" y="175248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896440" y="17524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2743200"/>
            <a:ext cx="0" cy="304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810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95880" y="2362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58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0958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0512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588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95880" y="58579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hutdow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97000" y="24382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3280" y="29401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773440" y="303120"/>
            <a:ext cx="362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munic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o orientada a conexión (UD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19320" y="838080"/>
            <a:ext cx="1828800" cy="520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Abrir el canal de comun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1743120"/>
            <a:ext cx="1828800" cy="520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Comunicar a la red la dirección del ca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3983040"/>
            <a:ext cx="129564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Times New Roman"/>
              </a:rPr>
              <a:t>fork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0920" y="4867200"/>
            <a:ext cx="1295280" cy="520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Atender al cl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5791320"/>
            <a:ext cx="1295280" cy="520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Fin del proceso hi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290664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Esperar petición de servi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2774880"/>
            <a:ext cx="1600200" cy="762120"/>
          </a:xfrm>
          <a:prstGeom prst="ellipse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914400"/>
            <a:ext cx="1981080" cy="520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Abrir el canal de comun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1819440"/>
            <a:ext cx="1981080" cy="520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Conectar con la dirección del servi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2809800"/>
            <a:ext cx="198108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Pedir servi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50958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Fin del proceso cl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19920" y="371304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Esperar respues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3581280"/>
            <a:ext cx="1600200" cy="762120"/>
          </a:xfrm>
          <a:prstGeom prst="ellipse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77840" y="30492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72760" y="304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1371600"/>
            <a:ext cx="0" cy="3808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2286000"/>
            <a:ext cx="0" cy="4572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3505320"/>
            <a:ext cx="0" cy="4572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1447920"/>
            <a:ext cx="0" cy="3808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629400" y="2362320"/>
            <a:ext cx="0" cy="4572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9400" y="3124080"/>
            <a:ext cx="0" cy="4572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4343400"/>
            <a:ext cx="0" cy="7621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1680" y="3200400"/>
            <a:ext cx="952200" cy="990720"/>
          </a:xfrm>
          <a:custGeom>
            <a:avLst/>
            <a:gdLst/>
            <a:ahLst/>
            <a:rect l="l" t="t" r="r" b="b"/>
            <a:pathLst>
              <a:path w="600" h="624">
                <a:moveTo>
                  <a:pt x="600" y="624"/>
                </a:moveTo>
                <a:cubicBezTo>
                  <a:pt x="324" y="484"/>
                  <a:pt x="48" y="344"/>
                  <a:pt x="24" y="240"/>
                </a:cubicBezTo>
                <a:cubicBezTo>
                  <a:pt x="0" y="136"/>
                  <a:pt x="336" y="48"/>
                  <a:pt x="456" y="0"/>
                </a:cubicBezTo>
              </a:path>
            </a:pathLst>
          </a:custGeom>
          <a:noFill/>
          <a:ln w="936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4114800"/>
            <a:ext cx="380880" cy="762120"/>
          </a:xfrm>
          <a:custGeom>
            <a:avLst/>
            <a:gdLst/>
            <a:ahLst/>
            <a:rect l="l" t="t" r="r" b="b"/>
            <a:pathLst>
              <a:path w="384" h="480">
                <a:moveTo>
                  <a:pt x="0" y="0"/>
                </a:moveTo>
                <a:cubicBezTo>
                  <a:pt x="112" y="8"/>
                  <a:pt x="224" y="16"/>
                  <a:pt x="288" y="96"/>
                </a:cubicBezTo>
                <a:cubicBezTo>
                  <a:pt x="352" y="176"/>
                  <a:pt x="368" y="328"/>
                  <a:pt x="384" y="480"/>
                </a:cubicBezTo>
              </a:path>
            </a:pathLst>
          </a:custGeom>
          <a:noFill/>
          <a:ln w="936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2946240"/>
            <a:ext cx="2819520" cy="177840"/>
          </a:xfrm>
          <a:custGeom>
            <a:avLst/>
            <a:gdLst/>
            <a:ahLst/>
            <a:rect l="l" t="t" r="r" b="b"/>
            <a:pathLst>
              <a:path w="1776" h="112">
                <a:moveTo>
                  <a:pt x="1776" y="16"/>
                </a:moveTo>
                <a:cubicBezTo>
                  <a:pt x="1420" y="8"/>
                  <a:pt x="1064" y="0"/>
                  <a:pt x="768" y="16"/>
                </a:cubicBezTo>
                <a:cubicBezTo>
                  <a:pt x="472" y="32"/>
                  <a:pt x="120" y="96"/>
                  <a:pt x="0" y="112"/>
                </a:cubicBezTo>
              </a:path>
            </a:pathLst>
          </a:custGeom>
          <a:noFill/>
          <a:ln w="936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3962520"/>
            <a:ext cx="1981080" cy="1218960"/>
          </a:xfrm>
          <a:custGeom>
            <a:avLst/>
            <a:gdLst/>
            <a:ahLst/>
            <a:rect l="l" t="t" r="r" b="b"/>
            <a:pathLst>
              <a:path w="1248" h="768">
                <a:moveTo>
                  <a:pt x="0" y="768"/>
                </a:moveTo>
                <a:cubicBezTo>
                  <a:pt x="220" y="720"/>
                  <a:pt x="440" y="672"/>
                  <a:pt x="576" y="576"/>
                </a:cubicBezTo>
                <a:cubicBezTo>
                  <a:pt x="712" y="480"/>
                  <a:pt x="704" y="288"/>
                  <a:pt x="816" y="192"/>
                </a:cubicBezTo>
                <a:cubicBezTo>
                  <a:pt x="928" y="96"/>
                  <a:pt x="1088" y="48"/>
                  <a:pt x="1248" y="0"/>
                </a:cubicBezTo>
              </a:path>
            </a:pathLst>
          </a:custGeom>
          <a:noFill/>
          <a:ln w="936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3886200"/>
            <a:ext cx="83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o pad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40384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o hi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30492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Esque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198108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810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00200" y="175248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896440" y="17524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819520" y="2743200"/>
            <a:ext cx="0" cy="304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9810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819520" y="33526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095880" y="2362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958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958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90512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588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095880" y="58579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hutdow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97000" y="24382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3280" y="29401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52280" y="3517920"/>
            <a:ext cx="1752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ceptar conex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spera hasta que llegue un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773440" y="303120"/>
            <a:ext cx="362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munic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o orientada a conexión (UD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198108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9810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600200" y="175248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96440" y="17524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819520" y="2743200"/>
            <a:ext cx="0" cy="304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9810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819520" y="33526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95880" y="2362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0958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26668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0958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934320" y="33526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90512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9588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95880" y="58579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hutdow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97000" y="24382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33280" y="29401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52280" y="3517920"/>
            <a:ext cx="1752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ceptar conex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spera hasta que llegue un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773440" y="303120"/>
            <a:ext cx="362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munic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o orientada a conexión (UD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198108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9810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00200" y="175248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896440" y="17524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819520" y="2743200"/>
            <a:ext cx="0" cy="304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9810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19520" y="33526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819520" y="40384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095880" y="2362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958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934320" y="26668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958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934320" y="33526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90512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09588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095880" y="58579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hutdow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3809880" y="3886200"/>
            <a:ext cx="228600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97000" y="24382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280" y="29401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2280" y="3517920"/>
            <a:ext cx="1752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ceptar conex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spera hasta que llegue un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19840" y="350532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773440" y="303120"/>
            <a:ext cx="362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munic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o orientada a conexión (UD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198108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9810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600200" y="175248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896440" y="17524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819520" y="2743200"/>
            <a:ext cx="0" cy="304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9810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819520" y="33526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819520" y="40384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095880" y="2362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0958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934320" y="26668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0958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934320" y="33526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90512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09588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095880" y="58579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hutdow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934320" y="4038480"/>
            <a:ext cx="0" cy="11430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819520" y="4800600"/>
            <a:ext cx="0" cy="3808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664280" y="4419720"/>
            <a:ext cx="25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amiento de l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809880" y="3886200"/>
            <a:ext cx="228600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97000" y="24382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3280" y="29401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52280" y="3517920"/>
            <a:ext cx="1752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ceptar conex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spera hasta que llegue un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119840" y="350532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773440" y="303120"/>
            <a:ext cx="362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munic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o orientada a conexión (UD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98108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810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600200" y="175248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896440" y="17524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19520" y="2743200"/>
            <a:ext cx="0" cy="304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9810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819520" y="33526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819520" y="40384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95880" y="2362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934320" y="26668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0958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934320" y="33526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90512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588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95880" y="58579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hutdow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934320" y="4038480"/>
            <a:ext cx="0" cy="11430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819520" y="4800600"/>
            <a:ext cx="0" cy="3808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664280" y="4419720"/>
            <a:ext cx="25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amiento de l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3809880" y="3886200"/>
            <a:ext cx="228600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97000" y="24382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33280" y="29401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52280" y="3517920"/>
            <a:ext cx="1752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ceptar conex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spera hasta que llegue un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28600" y="505764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iar respuesta a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19840" y="350532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773440" y="303120"/>
            <a:ext cx="362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munic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o orientada a conexión (UD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198108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9810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600200" y="175248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896440" y="17524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19520" y="2743200"/>
            <a:ext cx="0" cy="304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9810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819520" y="33526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819520" y="40384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095880" y="2362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0958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934320" y="26668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0958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934320" y="33526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90512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09588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095880" y="58579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hutdow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934320" y="4038480"/>
            <a:ext cx="0" cy="11430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819520" y="4800600"/>
            <a:ext cx="0" cy="3808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664280" y="4419720"/>
            <a:ext cx="25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amiento de l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3809880" y="3886200"/>
            <a:ext cx="228600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733920" y="5334120"/>
            <a:ext cx="236196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97000" y="24382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33280" y="29401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52280" y="3517920"/>
            <a:ext cx="1752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ceptar conex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spera hasta que llegue un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28600" y="505764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iar respuesta a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119840" y="350532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90520" y="5378400"/>
            <a:ext cx="191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ío de la respue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773440" y="303120"/>
            <a:ext cx="362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munic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o orientada a conexión (UD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198108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9810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600200" y="175248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896440" y="17524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819520" y="2743200"/>
            <a:ext cx="0" cy="304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9810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819520" y="33526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819520" y="40384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095880" y="2362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0958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934320" y="26668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0958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934320" y="33526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90512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9588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095880" y="58579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hutdow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934320" y="4038480"/>
            <a:ext cx="0" cy="11430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819520" y="4800600"/>
            <a:ext cx="0" cy="3808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664280" y="4419720"/>
            <a:ext cx="25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amiento de l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3809880" y="3886200"/>
            <a:ext cx="228600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733920" y="5334120"/>
            <a:ext cx="236196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97000" y="24382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33280" y="29401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52280" y="3517920"/>
            <a:ext cx="1752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ceptar conex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spera hasta que llegue un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28600" y="505764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iar respuesta a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19840" y="350532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890520" y="5378400"/>
            <a:ext cx="191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ío de la respue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848720" y="502920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cepción de respue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773440" y="303120"/>
            <a:ext cx="362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munic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o orientada a conexión (UD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98108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9810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600200" y="175248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896440" y="17524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819520" y="2743200"/>
            <a:ext cx="0" cy="304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9810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819520" y="33526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819520" y="40384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095880" y="2362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0958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934320" y="26668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0958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934320" y="33526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90512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09588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095880" y="58579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hutdow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934320" y="4038480"/>
            <a:ext cx="0" cy="11430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934320" y="5486400"/>
            <a:ext cx="0" cy="3808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819520" y="4800600"/>
            <a:ext cx="0" cy="3808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664280" y="4419720"/>
            <a:ext cx="25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amiento de l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3809880" y="3886200"/>
            <a:ext cx="228600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733920" y="5334120"/>
            <a:ext cx="236196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97000" y="24382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3280" y="29401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52280" y="3517920"/>
            <a:ext cx="1752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ceptar conex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spera hasta que llegue un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8600" y="505764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iar respuesta a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119840" y="350532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890520" y="5378400"/>
            <a:ext cx="191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ío de la respue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848720" y="502920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cepción de respue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848720" y="574344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ierre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773440" y="303120"/>
            <a:ext cx="362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munic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o orientada a conexión (UD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837360" y="523800"/>
            <a:ext cx="725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Compilación de programas en C que usan so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62120" y="1523880"/>
            <a:ext cx="7407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clu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#include &lt;sys/types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#include &lt;sys/socket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tilizar </a:t>
            </a: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cc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con las opciones </a:t>
            </a: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-lsocket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-ln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.e.: </a:t>
            </a: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$cc -lsocket -lnsl programa.c -o 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odas las llamadas de sockets regresan -1 si no tuvieron éxito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tablecen la variable externa er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828800" y="8380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13716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7680" y="2286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96440" y="19810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114300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1895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66"/>
                </a:solidFill>
                <a:latin typeface="Times New Roman"/>
              </a:rPr>
              <a:t>liste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2880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accep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167652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2209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5880" y="2819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5880" y="3505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onnec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31240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5880" y="4181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934320" y="38098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4191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6086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los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4495680"/>
            <a:ext cx="0" cy="9144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934320" y="5715000"/>
            <a:ext cx="0" cy="3808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2743200"/>
            <a:ext cx="0" cy="1447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4495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51814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7040" y="4724280"/>
            <a:ext cx="25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amiento de l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666520" y="3657600"/>
            <a:ext cx="3429000" cy="0"/>
          </a:xfrm>
          <a:prstGeom prst="line">
            <a:avLst/>
          </a:prstGeom>
          <a:ln w="93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733560" y="4343400"/>
            <a:ext cx="236196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3920" y="5562720"/>
            <a:ext cx="236196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20" y="8380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1000" y="13399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7524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sposición para esperar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362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 espera de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40384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eer la petición de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528624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iar respuesta a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57520" y="324468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nexión establec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32520" y="400680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79600" y="5562720"/>
            <a:ext cx="191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ío de la respue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848720" y="33526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conex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848720" y="525780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ectura de respue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848720" y="597204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ierre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83120" y="303120"/>
            <a:ext cx="362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municación orientada a conexión (TC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828800" y="8380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13716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87680" y="2286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96440" y="19810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1895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66"/>
                </a:solidFill>
                <a:latin typeface="Times New Roman"/>
              </a:rPr>
              <a:t>liste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accep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5880" y="2819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5880" y="3505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onnec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4181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4191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0512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6086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los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720" y="8380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828800" y="8380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13716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87680" y="2286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96440" y="19810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114300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1895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66"/>
                </a:solidFill>
                <a:latin typeface="Times New Roman"/>
              </a:rPr>
              <a:t>liste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accep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5880" y="2819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5880" y="3505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onnec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4181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4191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0512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588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5880" y="6086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los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20" y="8380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1000" y="13399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828800" y="8380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13716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87680" y="2286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96440" y="19810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66880" y="114300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1895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66"/>
                </a:solidFill>
                <a:latin typeface="Times New Roman"/>
              </a:rPr>
              <a:t>liste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accep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167652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2819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3505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onnec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4181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4191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588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5880" y="6086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los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4720" y="8380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1000" y="13399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7524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sposición para esperar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828800" y="8380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13716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87680" y="2286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96440" y="19810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14300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1895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66"/>
                </a:solidFill>
                <a:latin typeface="Times New Roman"/>
              </a:rPr>
              <a:t>liste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accep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66880" y="167652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2209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5880" y="2819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5880" y="3505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onnec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5880" y="4181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5120" y="4191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588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5880" y="6086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los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66880" y="2743200"/>
            <a:ext cx="0" cy="9144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20" y="8380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000" y="13399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7524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sposición para esperar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2362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 espera de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828800" y="8380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13716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87680" y="2286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96440" y="19810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114300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28800" y="1895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66"/>
                </a:solidFill>
                <a:latin typeface="Times New Roman"/>
              </a:rPr>
              <a:t>liste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accep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66880" y="167652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2209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2819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5880" y="3505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onnec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34320" y="31240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5880" y="4181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05120" y="4191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0512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5880" y="6086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los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2743200"/>
            <a:ext cx="0" cy="9907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666520" y="3657600"/>
            <a:ext cx="3429000" cy="0"/>
          </a:xfrm>
          <a:prstGeom prst="line">
            <a:avLst/>
          </a:prstGeom>
          <a:ln w="93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4720" y="8380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1000" y="13399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7524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sposición para esperar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2362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 espera de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848720" y="33526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conex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828800" y="8380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13716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87680" y="2286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96440" y="19810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66880" y="114300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28800" y="1895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66"/>
                </a:solidFill>
                <a:latin typeface="Times New Roman"/>
              </a:rPr>
              <a:t>liste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accep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66880" y="167652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66880" y="2209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5880" y="2819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5880" y="3505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onnec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31240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5880" y="4181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05120" y="4191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0512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5880" y="6086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los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66880" y="2743200"/>
            <a:ext cx="0" cy="1447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666520" y="3657600"/>
            <a:ext cx="3429000" cy="0"/>
          </a:xfrm>
          <a:prstGeom prst="line">
            <a:avLst/>
          </a:prstGeom>
          <a:ln w="93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4720" y="8380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1000" y="13399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7524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sposición para esperar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2362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 espera de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57520" y="324468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nexión establec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848720" y="33526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conex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1T20:23:11Z</dcterms:created>
  <dc:creator>Ignacio A. Vargas</dc:creator>
  <dc:description/>
  <dc:language>en-US</dc:language>
  <cp:lastModifiedBy>Compaq User</cp:lastModifiedBy>
  <dcterms:modified xsi:type="dcterms:W3CDTF">1998-10-01T22:44:35Z</dcterms:modified>
  <cp:revision>7</cp:revision>
  <dc:subject/>
  <dc:title>Sin título de diapositiva</dc:title>
</cp:coreProperties>
</file>