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8304-B187-4928-85E8-C31C40DF0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0AAF-AAB1-479F-9CD6-A7628753B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59C9-8D87-4BA5-A218-80C45250F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54E3-EAE9-4812-8E3C-4A0DB70CF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BBA4-CE85-424F-91EA-9CB2A777E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5340-5710-4771-B95A-8AA71D3CB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58A2-8F82-40AD-B30C-507137D7C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CD6E-6A28-4180-AC45-72DCEA327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80A4-7B58-4AC8-B5D3-93FEF8141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64D3-0235-47B8-8E44-7B58CB6E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D42F-25DB-4E7F-B67A-33B4865D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5105-047D-4A72-8B64-BC2AEAAF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ADC04-A591-48C7-A9E6-7599B8701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1631880"/>
            <a:ext cx="708660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Técnicas de Sincronizació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en Sistemas Distribu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ojes físicos y lógico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urrencia distribu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762120" y="9907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and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just"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Es una variante del uso de toke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just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just"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Cuando un proceso está en sección crítica genera un archivo (candado o lock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just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just"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Cualquier proceso que desea entrar en S.C. verifica primero la existencia del candado. Si éste existe el proceso espera y verifica periódicamente su existe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just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just"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El control puede ser centralizado o distribu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39880" y="380880"/>
            <a:ext cx="50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oncurrencia y sincroniz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1600200" y="4510080"/>
            <a:ext cx="6275880" cy="1815840"/>
            <a:chOff x="1600200" y="4510080"/>
            <a:chExt cx="6275880" cy="1815840"/>
          </a:xfrm>
        </p:grpSpPr>
        <p:grpSp>
          <p:nvGrpSpPr>
            <p:cNvPr id="220" name=""/>
            <p:cNvGrpSpPr/>
            <p:nvPr/>
          </p:nvGrpSpPr>
          <p:grpSpPr>
            <a:xfrm>
              <a:off x="3581280" y="4662360"/>
              <a:ext cx="1295280" cy="1370880"/>
              <a:chOff x="3581280" y="4662360"/>
              <a:chExt cx="1295280" cy="1370880"/>
            </a:xfrm>
          </p:grpSpPr>
          <p:sp>
            <p:nvSpPr>
              <p:cNvPr id="221" name=""/>
              <p:cNvSpPr/>
              <p:nvPr/>
            </p:nvSpPr>
            <p:spPr>
              <a:xfrm>
                <a:off x="3581280" y="4662360"/>
                <a:ext cx="1295280" cy="304200"/>
              </a:xfrm>
              <a:prstGeom prst="ellipse">
                <a:avLst/>
              </a:prstGeom>
              <a:noFill/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581280" y="5728680"/>
                <a:ext cx="1295280" cy="304560"/>
              </a:xfrm>
              <a:prstGeom prst="ellipse">
                <a:avLst/>
              </a:prstGeom>
              <a:noFill/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581280" y="4814280"/>
                <a:ext cx="0" cy="106632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876560" y="4814280"/>
                <a:ext cx="0" cy="106632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1600200" y="4510080"/>
              <a:ext cx="685800" cy="685440"/>
            </a:xfrm>
            <a:prstGeom prst="ellipse">
              <a:avLst/>
            </a:prstGeom>
            <a:noFill/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747800" y="467640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981080" y="5576760"/>
              <a:ext cx="685800" cy="685440"/>
            </a:xfrm>
            <a:prstGeom prst="ellipse">
              <a:avLst/>
            </a:prstGeom>
            <a:noFill/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129040" y="574344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172200" y="4586040"/>
              <a:ext cx="685800" cy="685440"/>
            </a:xfrm>
            <a:prstGeom prst="ellipse">
              <a:avLst/>
            </a:prstGeom>
            <a:noFill/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319800" y="475272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962160" y="5271840"/>
              <a:ext cx="381240" cy="228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4343400" y="5042880"/>
              <a:ext cx="1828800" cy="38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2666880" y="5500080"/>
              <a:ext cx="1295280" cy="38052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286000" y="4890960"/>
              <a:ext cx="1676160" cy="45684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 flipV="1">
              <a:off x="4114440" y="5423760"/>
              <a:ext cx="1523880" cy="609480"/>
            </a:xfrm>
            <a:prstGeom prst="line">
              <a:avLst/>
            </a:prstGeom>
            <a:ln w="93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42640" y="5957640"/>
              <a:ext cx="22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Candado (Lock Fil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762120" y="1320840"/>
            <a:ext cx="76197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 algn="just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Son una forma de más alto nivel para manejar la sincronización y depende de la existencia de operaciones primitivas sincronizadas. p.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45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BEGIN_TRANSAC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45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ND_TRANSAC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45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BORT_TRANSAC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45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REA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45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WRITE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45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just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Una transacción (o transacción atómica) es aquella que no puede dividirse y se ejecuta totalmente o se aborta por compl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just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just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Requiere de la existencia de almacenamiento estable de información (replicación y/o redundanc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40600" y="380880"/>
            <a:ext cx="46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Transacciones y Atomic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762120" y="1351080"/>
            <a:ext cx="76197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Propiedades de las transacciones: (operaciones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ID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92480" indent="-173052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. (Atomicity)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tómicidad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.- Externamente las transacciones son 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indivisi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92480" indent="-173052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92480" indent="-173052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2. (Consistency)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nsistencia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.- No se violan los invariantes del 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sis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92480" indent="-173052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92480" indent="-173052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3. (Isolation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islamiento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.- Las transacciones concurrentes no 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interfieren entre s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92480" indent="-173052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92480" indent="-173052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4. (Durability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urabilidad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.- Una vez realizada una transacción, 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los cambios son perman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40600" y="380880"/>
            <a:ext cx="46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Transacciones y Atomic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39160" y="379440"/>
            <a:ext cx="525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incronización de relojes fís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990720"/>
            <a:ext cx="7407000" cy="56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étodo de Crist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66"/>
                </a:solidFill>
                <a:latin typeface="Arial"/>
              </a:rPr>
              <a:t>Un servidor central provee el tiempo por petición del usuario (T</a:t>
            </a:r>
            <a:r>
              <a:rPr b="0" lang="es-ES" sz="2000" spc="-1" strike="noStrike" baseline="-25000">
                <a:solidFill>
                  <a:srgbClr val="ffff66"/>
                </a:solidFill>
                <a:latin typeface="Arial"/>
              </a:rPr>
              <a:t>round</a:t>
            </a:r>
            <a:r>
              <a:rPr b="0" lang="es-ES" sz="2000" spc="-1" strike="noStrike">
                <a:solidFill>
                  <a:srgbClr val="ffff66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lgoritmo de Berkel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66"/>
                </a:solidFill>
                <a:latin typeface="Arial"/>
              </a:rPr>
              <a:t>Una computadora maestra pide a sus esclavos sus relojes y efectúa la sincron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otocolo de tiempo de red (NT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66"/>
                </a:solidFill>
                <a:latin typeface="Arial"/>
              </a:rPr>
              <a:t>Provee sincronización de tiempos en Internet con UTC  (Coordinated Universal Time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66"/>
                </a:solidFill>
                <a:latin typeface="Arial"/>
              </a:rPr>
              <a:t>Provee servicio confiable tolerante a fall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66"/>
                </a:solidFill>
                <a:latin typeface="Arial"/>
              </a:rPr>
              <a:t>Permite a los clientes el acceso frecuen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66"/>
                </a:solidFill>
                <a:latin typeface="Arial"/>
              </a:rPr>
              <a:t>Provee protección contra interferenci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66"/>
                </a:solidFill>
                <a:latin typeface="Arial"/>
              </a:rPr>
              <a:t>El servicio es proporcionado por diversos servido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2971800"/>
            <a:ext cx="7772400" cy="236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3808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incronización de relojes lóg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066680"/>
            <a:ext cx="7407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efinición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 La relación 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happened­before</a:t>
            </a:r>
            <a:r>
              <a:rPr b="0" i="1" lang="es-ES" sz="1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(</a:t>
            </a:r>
            <a:r>
              <a:rPr b="0" i="1" lang="es-E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66"/>
                </a:solidFill>
                <a:latin typeface="Symbol"/>
                <a:ea typeface="Symbol"/>
              </a:rPr>
              <a:t>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 ) está definida po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HB1 : Si </a:t>
            </a:r>
            <a:r>
              <a:rPr b="0" lang="es-ES" sz="1800" spc="-1" strike="noStrike">
                <a:solidFill>
                  <a:srgbClr val="ffff66"/>
                </a:solidFill>
                <a:latin typeface="Symbol"/>
                <a:ea typeface="Symbol"/>
              </a:rPr>
              <a:t>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 proceso </a:t>
            </a:r>
            <a:r>
              <a:rPr b="0" i="1" lang="es-ES" sz="18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 | entonces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HB2 : Para cualquier mensaje </a:t>
            </a:r>
            <a:r>
              <a:rPr b="0" i="1" lang="es-ES" sz="1800" spc="-1" strike="noStrike">
                <a:solidFill>
                  <a:srgbClr val="ffff66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,  </a:t>
            </a:r>
            <a:r>
              <a:rPr b="0" i="1" lang="es-ES" sz="1800" spc="-1" strike="noStrike">
                <a:solidFill>
                  <a:srgbClr val="ffff66"/>
                </a:solidFill>
                <a:latin typeface="Arial"/>
              </a:rPr>
              <a:t>send(m)</a:t>
            </a:r>
            <a:r>
              <a:rPr b="0" lang="es-ES" sz="1800" spc="-1" strike="noStrike">
                <a:solidFill>
                  <a:srgbClr val="ffff66"/>
                </a:solidFill>
                <a:latin typeface="Symbol"/>
                <a:ea typeface="Symbol"/>
              </a:rPr>
              <a:t></a:t>
            </a:r>
            <a:r>
              <a:rPr b="0" i="1" lang="es-ES" sz="1800" spc="-1" strike="noStrike">
                <a:solidFill>
                  <a:srgbClr val="ffff66"/>
                </a:solidFill>
                <a:latin typeface="Arial"/>
              </a:rPr>
              <a:t> rcv(m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HB3 : Si </a:t>
            </a:r>
            <a:r>
              <a:rPr b="0" i="1" lang="es-ES" sz="1800" spc="-1" strike="noStrike">
                <a:solidFill>
                  <a:srgbClr val="ffff66"/>
                </a:solidFill>
                <a:latin typeface="Arial"/>
              </a:rPr>
              <a:t>x; y; z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 son eventos tales que x  </a:t>
            </a:r>
            <a:r>
              <a:rPr b="0" lang="es-ES" sz="1800" spc="-1" strike="noStrike">
                <a:solidFill>
                  <a:srgbClr val="ffff66"/>
                </a:solidFill>
                <a:latin typeface="Symbol"/>
                <a:ea typeface="Symbol"/>
              </a:rPr>
              <a:t>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y;  y  </a:t>
            </a:r>
            <a:r>
              <a:rPr b="0" lang="es-ES" sz="1800" spc="-1" strike="noStrike">
                <a:solidFill>
                  <a:srgbClr val="ffff66"/>
                </a:solidFill>
                <a:latin typeface="Symbol"/>
                <a:ea typeface="Symbol"/>
              </a:rPr>
              <a:t>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z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entonces x </a:t>
            </a:r>
            <a:r>
              <a:rPr b="0" lang="es-ES" sz="1800" spc="-1" strike="noStrike">
                <a:solidFill>
                  <a:srgbClr val="ffff66"/>
                </a:solidFill>
                <a:latin typeface="Symbol"/>
                <a:ea typeface="Symbol"/>
              </a:rPr>
              <a:t>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 z. 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   (transitivid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004760" y="3200400"/>
            <a:ext cx="7224480" cy="1917720"/>
            <a:chOff x="1004760" y="3200400"/>
            <a:chExt cx="7224480" cy="1917720"/>
          </a:xfrm>
        </p:grpSpPr>
        <p:grpSp>
          <p:nvGrpSpPr>
            <p:cNvPr id="48" name=""/>
            <p:cNvGrpSpPr/>
            <p:nvPr/>
          </p:nvGrpSpPr>
          <p:grpSpPr>
            <a:xfrm>
              <a:off x="1741680" y="3347640"/>
              <a:ext cx="6487560" cy="1622520"/>
              <a:chOff x="1741680" y="3347640"/>
              <a:chExt cx="6487560" cy="1622520"/>
            </a:xfrm>
          </p:grpSpPr>
          <p:sp>
            <p:nvSpPr>
              <p:cNvPr id="49" name=""/>
              <p:cNvSpPr/>
              <p:nvPr/>
            </p:nvSpPr>
            <p:spPr>
              <a:xfrm>
                <a:off x="1741680" y="3494880"/>
                <a:ext cx="648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741680" y="4084920"/>
                <a:ext cx="648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741680" y="4674960"/>
                <a:ext cx="648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741680" y="3347640"/>
                <a:ext cx="0" cy="162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>
              <a:off x="3069000" y="3495240"/>
              <a:ext cx="884520" cy="59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280480" y="4085280"/>
              <a:ext cx="884520" cy="59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04760" y="3200400"/>
              <a:ext cx="589680" cy="44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P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04760" y="3790440"/>
              <a:ext cx="589680" cy="44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P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04760" y="4380480"/>
              <a:ext cx="589680" cy="44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P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36880" y="3445920"/>
              <a:ext cx="491400" cy="49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72080" y="3445920"/>
              <a:ext cx="491400" cy="49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756960" y="4085280"/>
              <a:ext cx="491400" cy="49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083920" y="3692160"/>
              <a:ext cx="49140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968440" y="4626360"/>
              <a:ext cx="491400" cy="49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30000" y="4626360"/>
              <a:ext cx="491400" cy="49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11080" y="3495240"/>
              <a:ext cx="589680" cy="49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m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722920" y="4085280"/>
              <a:ext cx="589680" cy="49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m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838080" y="5683320"/>
            <a:ext cx="7407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efinición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Un reloj lógico es un contador que se increm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monotónicamente según la relación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  happened­before.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62120" y="1066680"/>
            <a:ext cx="7407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lgoritmo de Lamport para cálculo de relojes lógic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Sea 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Cp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 el reloj lógico del proceso 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 Cp (a)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 la estampilla de tiempo del evento 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 en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C(b)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 la estampilla de tiempo del evento 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 en cualquier ev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C1 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: 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Cp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 es incrementado antes de cualquier evento en el proceso 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: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C p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C p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+ 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C2 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Arial"/>
              </a:rPr>
              <a:t>.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Cuando un proceso 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 envía un mensaje 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, añade a éste la estampilla de tiempo 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C p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Arial"/>
              </a:rPr>
              <a:t>.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Cuando un proceso 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es-E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recibe un mensaje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( 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m, t</a:t>
            </a:r>
            <a:r>
              <a:rPr b="0" i="1" lang="es-E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, se h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C q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max( C q , t )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 y se aplica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C1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 antes del evento 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rcv(m)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Con este algoritmo se puede demostrar que </a:t>
            </a:r>
            <a:r>
              <a:rPr b="0" i="1" lang="es-ES" sz="1800" spc="-1" strike="noStrike">
                <a:solidFill>
                  <a:srgbClr val="ffff66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66"/>
                </a:solidFill>
                <a:latin typeface="Symbol"/>
                <a:ea typeface="Symbol"/>
              </a:rPr>
              <a:t>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i="1" lang="es-ES" sz="1800" spc="-1" strike="noStrike">
                <a:solidFill>
                  <a:srgbClr val="ffff66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66"/>
                </a:solidFill>
                <a:latin typeface="Symbol"/>
                <a:ea typeface="Symbol"/>
              </a:rPr>
              <a:t>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i="1" lang="es-ES" sz="1800" spc="-1" strike="noStrike">
                <a:solidFill>
                  <a:srgbClr val="ffff66"/>
                </a:solidFill>
                <a:latin typeface="Arial"/>
              </a:rPr>
              <a:t>C(a)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66"/>
                </a:solidFill>
                <a:latin typeface="Symbol"/>
                <a:ea typeface="Symbol"/>
              </a:rPr>
              <a:t>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i="1" lang="es-ES" sz="1800" spc="-1" strike="noStrike">
                <a:solidFill>
                  <a:srgbClr val="ffff66"/>
                </a:solidFill>
                <a:latin typeface="Arial"/>
              </a:rPr>
              <a:t>C(b)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(Lo converso no es necesariamente cierto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3808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incronización de relojes lóg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62120" y="1674720"/>
            <a:ext cx="740700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problema consiste en controlar el acceso a una sección crítica común en un conjunto de procesos distribuidos.</a:t>
            </a:r>
            <a:r>
              <a:rPr b="0" lang="es-ES" sz="2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66"/>
                </a:solidFill>
                <a:latin typeface="Arial"/>
              </a:rPr>
              <a:t>A continuación se muestran diferentes algoritmos para resolver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39880" y="380880"/>
            <a:ext cx="50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oncurrencia y sincroniz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62120" y="1143000"/>
            <a:ext cx="740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lgoritmo de servidor cen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Un servidor da acceso a la sección crítica al poseedor de un to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39880" y="380880"/>
            <a:ext cx="50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oncurrencia y sincroniz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50200" y="5958000"/>
            <a:ext cx="60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roblemas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: Fallo del servidor, fallo del poseedor del to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487960" y="2743200"/>
            <a:ext cx="383400" cy="4597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34040" y="4429080"/>
            <a:ext cx="400320" cy="4597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87960" y="4429080"/>
            <a:ext cx="400320" cy="4597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310560" y="4419720"/>
            <a:ext cx="400320" cy="4597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2057040" y="3200400"/>
            <a:ext cx="609480" cy="122868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643040" y="4962600"/>
            <a:ext cx="380880" cy="533160"/>
            <a:chOff x="1643040" y="4962600"/>
            <a:chExt cx="380880" cy="533160"/>
          </a:xfrm>
        </p:grpSpPr>
        <p:sp>
          <p:nvSpPr>
            <p:cNvPr id="80" name=""/>
            <p:cNvSpPr/>
            <p:nvPr/>
          </p:nvSpPr>
          <p:spPr>
            <a:xfrm>
              <a:off x="1704600" y="500184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643040" y="4962600"/>
              <a:ext cx="380880" cy="53316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6390000" y="2733840"/>
            <a:ext cx="383400" cy="4597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536080" y="4429080"/>
            <a:ext cx="400320" cy="4597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390000" y="4429080"/>
            <a:ext cx="400320" cy="4597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212600" y="4419720"/>
            <a:ext cx="400320" cy="4597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588000" y="3200400"/>
            <a:ext cx="0" cy="12193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443640" y="4962600"/>
            <a:ext cx="380880" cy="533160"/>
            <a:chOff x="6443640" y="4962600"/>
            <a:chExt cx="380880" cy="533160"/>
          </a:xfrm>
        </p:grpSpPr>
        <p:sp>
          <p:nvSpPr>
            <p:cNvPr id="88" name=""/>
            <p:cNvSpPr/>
            <p:nvPr/>
          </p:nvSpPr>
          <p:spPr>
            <a:xfrm>
              <a:off x="6505200" y="500184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443640" y="4962600"/>
              <a:ext cx="380880" cy="53316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62120" y="990720"/>
            <a:ext cx="7619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lgoritmo de Ricart y Agraw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just"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Está basado en un consenso distribu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just"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Un proceso que requiere entrar a S.C. manda un mensaje multicast con marcas de tiempo de su reloj, y puede entrar si el resto de los procesos se lo permi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39880" y="380880"/>
            <a:ext cx="50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oncurrencia y sincroniz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006920" y="2939760"/>
            <a:ext cx="7220520" cy="2635920"/>
            <a:chOff x="1006920" y="2939760"/>
            <a:chExt cx="7220520" cy="2635920"/>
          </a:xfrm>
        </p:grpSpPr>
        <p:sp>
          <p:nvSpPr>
            <p:cNvPr id="93" name=""/>
            <p:cNvSpPr/>
            <p:nvPr/>
          </p:nvSpPr>
          <p:spPr>
            <a:xfrm>
              <a:off x="1670400" y="3722760"/>
              <a:ext cx="307080" cy="368280"/>
            </a:xfrm>
            <a:prstGeom prst="rect">
              <a:avLst/>
            </a:prstGeom>
            <a:noFill/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006920" y="4579920"/>
              <a:ext cx="307080" cy="368280"/>
            </a:xfrm>
            <a:prstGeom prst="rect">
              <a:avLst/>
            </a:prstGeom>
            <a:noFill/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306880" y="4573800"/>
              <a:ext cx="307080" cy="368280"/>
            </a:xfrm>
            <a:prstGeom prst="rect">
              <a:avLst/>
            </a:prstGeom>
            <a:noFill/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1294920" y="4098960"/>
              <a:ext cx="381240" cy="457200"/>
            </a:xfrm>
            <a:prstGeom prst="line">
              <a:avLst/>
            </a:prstGeom>
            <a:ln w="93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981080" y="4098960"/>
              <a:ext cx="304920" cy="457200"/>
            </a:xfrm>
            <a:prstGeom prst="line">
              <a:avLst/>
            </a:prstGeom>
            <a:ln w="93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flipV="1">
              <a:off x="1981080" y="3793680"/>
              <a:ext cx="609840" cy="762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1295280" y="4937040"/>
              <a:ext cx="990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463840" y="4710240"/>
              <a:ext cx="712800" cy="619200"/>
            </a:xfrm>
            <a:custGeom>
              <a:avLst/>
              <a:gdLst/>
              <a:ahLst/>
              <a:rect l="l" t="t" r="r" b="b"/>
              <a:pathLst>
                <a:path w="449" h="390">
                  <a:moveTo>
                    <a:pt x="103" y="40"/>
                  </a:moveTo>
                  <a:cubicBezTo>
                    <a:pt x="143" y="38"/>
                    <a:pt x="284" y="0"/>
                    <a:pt x="341" y="29"/>
                  </a:cubicBezTo>
                  <a:cubicBezTo>
                    <a:pt x="398" y="58"/>
                    <a:pt x="449" y="159"/>
                    <a:pt x="444" y="216"/>
                  </a:cubicBezTo>
                  <a:cubicBezTo>
                    <a:pt x="439" y="273"/>
                    <a:pt x="372" y="352"/>
                    <a:pt x="310" y="371"/>
                  </a:cubicBezTo>
                  <a:cubicBezTo>
                    <a:pt x="248" y="390"/>
                    <a:pt x="124" y="362"/>
                    <a:pt x="72" y="329"/>
                  </a:cubicBezTo>
                  <a:cubicBezTo>
                    <a:pt x="20" y="296"/>
                    <a:pt x="15" y="206"/>
                    <a:pt x="0" y="17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4350800">
              <a:off x="1451880" y="3094920"/>
              <a:ext cx="712800" cy="619200"/>
            </a:xfrm>
            <a:custGeom>
              <a:avLst/>
              <a:gdLst/>
              <a:ahLst/>
              <a:rect l="l" t="t" r="r" b="b"/>
              <a:pathLst>
                <a:path w="449" h="390">
                  <a:moveTo>
                    <a:pt x="103" y="40"/>
                  </a:moveTo>
                  <a:cubicBezTo>
                    <a:pt x="143" y="38"/>
                    <a:pt x="284" y="0"/>
                    <a:pt x="341" y="29"/>
                  </a:cubicBezTo>
                  <a:cubicBezTo>
                    <a:pt x="398" y="58"/>
                    <a:pt x="449" y="159"/>
                    <a:pt x="444" y="216"/>
                  </a:cubicBezTo>
                  <a:cubicBezTo>
                    <a:pt x="439" y="273"/>
                    <a:pt x="372" y="352"/>
                    <a:pt x="310" y="371"/>
                  </a:cubicBezTo>
                  <a:cubicBezTo>
                    <a:pt x="248" y="390"/>
                    <a:pt x="124" y="362"/>
                    <a:pt x="72" y="329"/>
                  </a:cubicBezTo>
                  <a:cubicBezTo>
                    <a:pt x="20" y="296"/>
                    <a:pt x="15" y="206"/>
                    <a:pt x="0" y="17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220760" y="40784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cc99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838520" y="41544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cc99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677960" y="31957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cc99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87440" y="392580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cc99"/>
                  </a:solidFill>
                  <a:latin typeface="Arial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12960" y="490716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cc99"/>
                  </a:solidFill>
                  <a:latin typeface="Arial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649160" y="494820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cc99"/>
                  </a:solidFill>
                  <a:latin typeface="Arial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13680" y="3718080"/>
              <a:ext cx="307080" cy="368280"/>
            </a:xfrm>
            <a:prstGeom prst="rect">
              <a:avLst/>
            </a:prstGeom>
            <a:noFill/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49840" y="4575240"/>
              <a:ext cx="307080" cy="368280"/>
            </a:xfrm>
            <a:prstGeom prst="rect">
              <a:avLst/>
            </a:prstGeom>
            <a:noFill/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150160" y="4568760"/>
              <a:ext cx="307080" cy="368280"/>
            </a:xfrm>
            <a:prstGeom prst="rect">
              <a:avLst/>
            </a:prstGeom>
            <a:noFill/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91120" y="4795920"/>
              <a:ext cx="914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4038480" y="4110120"/>
              <a:ext cx="45720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4876920" y="4110120"/>
              <a:ext cx="380880" cy="457200"/>
            </a:xfrm>
            <a:prstGeom prst="line">
              <a:avLst/>
            </a:prstGeom>
            <a:ln w="93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812040" y="4078440"/>
              <a:ext cx="4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cc99"/>
                  </a:solidFill>
                  <a:latin typeface="Arial"/>
                </a:rPr>
                <a:t>O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086800" y="4078440"/>
              <a:ext cx="4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cc99"/>
                  </a:solidFill>
                  <a:latin typeface="Arial"/>
                </a:rPr>
                <a:t>O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401000" y="4869000"/>
              <a:ext cx="4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cc99"/>
                  </a:solidFill>
                  <a:latin typeface="Arial"/>
                </a:rPr>
                <a:t>O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5440" y="3272040"/>
              <a:ext cx="57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.C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80560" y="3718080"/>
              <a:ext cx="307080" cy="368280"/>
            </a:xfrm>
            <a:prstGeom prst="rect">
              <a:avLst/>
            </a:prstGeom>
            <a:noFill/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517080" y="4575240"/>
              <a:ext cx="307080" cy="368280"/>
            </a:xfrm>
            <a:prstGeom prst="rect">
              <a:avLst/>
            </a:prstGeom>
            <a:noFill/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817040" y="4568760"/>
              <a:ext cx="307080" cy="368280"/>
            </a:xfrm>
            <a:prstGeom prst="rect">
              <a:avLst/>
            </a:prstGeom>
            <a:noFill/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67480" y="4033800"/>
              <a:ext cx="304920" cy="5335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54040" y="4078440"/>
              <a:ext cx="4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cc99"/>
                  </a:solidFill>
                  <a:latin typeface="Arial"/>
                </a:rPr>
                <a:t>O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00200" y="5176800"/>
              <a:ext cx="49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443480" y="5176800"/>
              <a:ext cx="49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(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086600" y="5176800"/>
              <a:ext cx="47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(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62120" y="990720"/>
            <a:ext cx="7619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lgoritmo de Ricart y Agraw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Si un proceso que quiere entrar recibe un mensaje de petición compara la marca de tiempo y sólo cuando posee la marca de tiempo menor puede ent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39880" y="380880"/>
            <a:ext cx="50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oncurrencia y sincroniz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006920" y="2939760"/>
            <a:ext cx="7220520" cy="2635920"/>
            <a:chOff x="1006920" y="2939760"/>
            <a:chExt cx="7220520" cy="2635920"/>
          </a:xfrm>
        </p:grpSpPr>
        <p:sp>
          <p:nvSpPr>
            <p:cNvPr id="129" name=""/>
            <p:cNvSpPr/>
            <p:nvPr/>
          </p:nvSpPr>
          <p:spPr>
            <a:xfrm>
              <a:off x="1670400" y="3722760"/>
              <a:ext cx="307080" cy="368280"/>
            </a:xfrm>
            <a:prstGeom prst="rect">
              <a:avLst/>
            </a:prstGeom>
            <a:noFill/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006920" y="4579920"/>
              <a:ext cx="307080" cy="368280"/>
            </a:xfrm>
            <a:prstGeom prst="rect">
              <a:avLst/>
            </a:prstGeom>
            <a:noFill/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06880" y="4573800"/>
              <a:ext cx="307080" cy="368280"/>
            </a:xfrm>
            <a:prstGeom prst="rect">
              <a:avLst/>
            </a:prstGeom>
            <a:noFill/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1294920" y="4098960"/>
              <a:ext cx="381240" cy="457200"/>
            </a:xfrm>
            <a:prstGeom prst="line">
              <a:avLst/>
            </a:prstGeom>
            <a:ln w="93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81080" y="4098960"/>
              <a:ext cx="304920" cy="457200"/>
            </a:xfrm>
            <a:prstGeom prst="line">
              <a:avLst/>
            </a:prstGeom>
            <a:ln w="93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 flipV="1">
              <a:off x="1981080" y="3793680"/>
              <a:ext cx="609840" cy="762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1295280" y="4937040"/>
              <a:ext cx="990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63840" y="4710240"/>
              <a:ext cx="712800" cy="619200"/>
            </a:xfrm>
            <a:custGeom>
              <a:avLst/>
              <a:gdLst/>
              <a:ahLst/>
              <a:rect l="l" t="t" r="r" b="b"/>
              <a:pathLst>
                <a:path w="449" h="390">
                  <a:moveTo>
                    <a:pt x="103" y="40"/>
                  </a:moveTo>
                  <a:cubicBezTo>
                    <a:pt x="143" y="38"/>
                    <a:pt x="284" y="0"/>
                    <a:pt x="341" y="29"/>
                  </a:cubicBezTo>
                  <a:cubicBezTo>
                    <a:pt x="398" y="58"/>
                    <a:pt x="449" y="159"/>
                    <a:pt x="444" y="216"/>
                  </a:cubicBezTo>
                  <a:cubicBezTo>
                    <a:pt x="439" y="273"/>
                    <a:pt x="372" y="352"/>
                    <a:pt x="310" y="371"/>
                  </a:cubicBezTo>
                  <a:cubicBezTo>
                    <a:pt x="248" y="390"/>
                    <a:pt x="124" y="362"/>
                    <a:pt x="72" y="329"/>
                  </a:cubicBezTo>
                  <a:cubicBezTo>
                    <a:pt x="20" y="296"/>
                    <a:pt x="15" y="206"/>
                    <a:pt x="0" y="17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4350800">
              <a:off x="1451880" y="3094920"/>
              <a:ext cx="712800" cy="619200"/>
            </a:xfrm>
            <a:custGeom>
              <a:avLst/>
              <a:gdLst/>
              <a:ahLst/>
              <a:rect l="l" t="t" r="r" b="b"/>
              <a:pathLst>
                <a:path w="449" h="390">
                  <a:moveTo>
                    <a:pt x="103" y="40"/>
                  </a:moveTo>
                  <a:cubicBezTo>
                    <a:pt x="143" y="38"/>
                    <a:pt x="284" y="0"/>
                    <a:pt x="341" y="29"/>
                  </a:cubicBezTo>
                  <a:cubicBezTo>
                    <a:pt x="398" y="58"/>
                    <a:pt x="449" y="159"/>
                    <a:pt x="444" y="216"/>
                  </a:cubicBezTo>
                  <a:cubicBezTo>
                    <a:pt x="439" y="273"/>
                    <a:pt x="372" y="352"/>
                    <a:pt x="310" y="371"/>
                  </a:cubicBezTo>
                  <a:cubicBezTo>
                    <a:pt x="248" y="390"/>
                    <a:pt x="124" y="362"/>
                    <a:pt x="72" y="329"/>
                  </a:cubicBezTo>
                  <a:cubicBezTo>
                    <a:pt x="20" y="296"/>
                    <a:pt x="15" y="206"/>
                    <a:pt x="0" y="17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220760" y="40784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cc99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838520" y="41544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cc99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77960" y="31957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cc99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87440" y="392580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cc99"/>
                  </a:solidFill>
                  <a:latin typeface="Arial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12960" y="490716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cc99"/>
                  </a:solidFill>
                  <a:latin typeface="Arial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49160" y="494820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cc99"/>
                  </a:solidFill>
                  <a:latin typeface="Arial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513680" y="3718080"/>
              <a:ext cx="307080" cy="368280"/>
            </a:xfrm>
            <a:prstGeom prst="rect">
              <a:avLst/>
            </a:prstGeom>
            <a:noFill/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49840" y="4575240"/>
              <a:ext cx="307080" cy="368280"/>
            </a:xfrm>
            <a:prstGeom prst="rect">
              <a:avLst/>
            </a:prstGeom>
            <a:noFill/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50160" y="4568760"/>
              <a:ext cx="307080" cy="368280"/>
            </a:xfrm>
            <a:prstGeom prst="rect">
              <a:avLst/>
            </a:prstGeom>
            <a:noFill/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91120" y="4795920"/>
              <a:ext cx="914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4038480" y="4110120"/>
              <a:ext cx="45720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4876920" y="4110120"/>
              <a:ext cx="380880" cy="457200"/>
            </a:xfrm>
            <a:prstGeom prst="line">
              <a:avLst/>
            </a:prstGeom>
            <a:ln w="93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812040" y="4078440"/>
              <a:ext cx="4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cc99"/>
                  </a:solidFill>
                  <a:latin typeface="Arial"/>
                </a:rPr>
                <a:t>O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086800" y="4078440"/>
              <a:ext cx="4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cc99"/>
                  </a:solidFill>
                  <a:latin typeface="Arial"/>
                </a:rPr>
                <a:t>O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01000" y="4869000"/>
              <a:ext cx="4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cc99"/>
                  </a:solidFill>
                  <a:latin typeface="Arial"/>
                </a:rPr>
                <a:t>O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375440" y="3272040"/>
              <a:ext cx="57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.C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180560" y="3718080"/>
              <a:ext cx="307080" cy="368280"/>
            </a:xfrm>
            <a:prstGeom prst="rect">
              <a:avLst/>
            </a:prstGeom>
            <a:noFill/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17080" y="4575240"/>
              <a:ext cx="307080" cy="368280"/>
            </a:xfrm>
            <a:prstGeom prst="rect">
              <a:avLst/>
            </a:prstGeom>
            <a:noFill/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817040" y="4568760"/>
              <a:ext cx="307080" cy="368280"/>
            </a:xfrm>
            <a:prstGeom prst="rect">
              <a:avLst/>
            </a:prstGeom>
            <a:noFill/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4033800"/>
              <a:ext cx="304920" cy="5335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754040" y="4078440"/>
              <a:ext cx="4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cc99"/>
                  </a:solidFill>
                  <a:latin typeface="Arial"/>
                </a:rPr>
                <a:t>O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600200" y="5176800"/>
              <a:ext cx="49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443480" y="5176800"/>
              <a:ext cx="49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(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086600" y="5176800"/>
              <a:ext cx="47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(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609480" y="5791320"/>
            <a:ext cx="8153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6240" indent="-11462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roblemas: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 El algoritmo requiere muchos más mensajes que el de servidor central. No hay tolerancia a fallas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762120" y="990720"/>
            <a:ext cx="7619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lgoritmo de anillo de to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just"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Se basa en la existencia de un anillo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ísico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 o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ógico 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entre los proces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just"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Un token es pasado en un solo sentido entre los procesos y el que lo posee puede entrar en sección crí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just"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Si un proceso no desea entrar en sección crítica, simplemente pasa el token al sigu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39880" y="380880"/>
            <a:ext cx="50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oncurrencia y sincroniz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838080" y="3886200"/>
            <a:ext cx="2210040" cy="2438280"/>
            <a:chOff x="838080" y="3886200"/>
            <a:chExt cx="2210040" cy="2438280"/>
          </a:xfrm>
        </p:grpSpPr>
        <p:grpSp>
          <p:nvGrpSpPr>
            <p:cNvPr id="166" name=""/>
            <p:cNvGrpSpPr/>
            <p:nvPr/>
          </p:nvGrpSpPr>
          <p:grpSpPr>
            <a:xfrm>
              <a:off x="838080" y="4419720"/>
              <a:ext cx="457200" cy="457200"/>
              <a:chOff x="838080" y="4419720"/>
              <a:chExt cx="45720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838080" y="441972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927360" y="44514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1752480" y="3886200"/>
              <a:ext cx="457200" cy="457200"/>
              <a:chOff x="1752480" y="3886200"/>
              <a:chExt cx="457200" cy="457200"/>
            </a:xfrm>
          </p:grpSpPr>
          <p:sp>
            <p:nvSpPr>
              <p:cNvPr id="170" name=""/>
              <p:cNvSpPr/>
              <p:nvPr/>
            </p:nvSpPr>
            <p:spPr>
              <a:xfrm>
                <a:off x="1752480" y="388620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841760" y="3917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838080" y="5334120"/>
              <a:ext cx="457200" cy="457200"/>
              <a:chOff x="838080" y="5334120"/>
              <a:chExt cx="457200" cy="457200"/>
            </a:xfrm>
          </p:grpSpPr>
          <p:sp>
            <p:nvSpPr>
              <p:cNvPr id="173" name=""/>
              <p:cNvSpPr/>
              <p:nvPr/>
            </p:nvSpPr>
            <p:spPr>
              <a:xfrm>
                <a:off x="838080" y="533412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927360" y="53658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1752480" y="5867280"/>
              <a:ext cx="457200" cy="457200"/>
              <a:chOff x="1752480" y="5867280"/>
              <a:chExt cx="457200" cy="457200"/>
            </a:xfrm>
          </p:grpSpPr>
          <p:sp>
            <p:nvSpPr>
              <p:cNvPr id="176" name=""/>
              <p:cNvSpPr/>
              <p:nvPr/>
            </p:nvSpPr>
            <p:spPr>
              <a:xfrm>
                <a:off x="1752480" y="586728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841760" y="58989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2590920" y="4419720"/>
              <a:ext cx="457200" cy="457200"/>
              <a:chOff x="2590920" y="4419720"/>
              <a:chExt cx="457200" cy="457200"/>
            </a:xfrm>
          </p:grpSpPr>
          <p:sp>
            <p:nvSpPr>
              <p:cNvPr id="179" name=""/>
              <p:cNvSpPr/>
              <p:nvPr/>
            </p:nvSpPr>
            <p:spPr>
              <a:xfrm>
                <a:off x="2590920" y="441972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680200" y="44514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2590920" y="5334120"/>
              <a:ext cx="457200" cy="457200"/>
              <a:chOff x="2590920" y="5334120"/>
              <a:chExt cx="457200" cy="457200"/>
            </a:xfrm>
          </p:grpSpPr>
          <p:sp>
            <p:nvSpPr>
              <p:cNvPr id="182" name=""/>
              <p:cNvSpPr/>
              <p:nvPr/>
            </p:nvSpPr>
            <p:spPr>
              <a:xfrm>
                <a:off x="2590920" y="533412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680200" y="53658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2209680" y="4191120"/>
              <a:ext cx="38124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19520" y="487692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2209320" y="5715000"/>
              <a:ext cx="38124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1219320" y="4190760"/>
              <a:ext cx="45720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066680" y="4952520"/>
              <a:ext cx="0" cy="381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 flipV="1">
              <a:off x="1295280" y="5714640"/>
              <a:ext cx="45720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038480" y="3809880"/>
            <a:ext cx="4419720" cy="1067040"/>
            <a:chOff x="4038480" y="3809880"/>
            <a:chExt cx="4419720" cy="1067040"/>
          </a:xfrm>
        </p:grpSpPr>
        <p:grpSp>
          <p:nvGrpSpPr>
            <p:cNvPr id="191" name=""/>
            <p:cNvGrpSpPr/>
            <p:nvPr/>
          </p:nvGrpSpPr>
          <p:grpSpPr>
            <a:xfrm>
              <a:off x="4419720" y="3809880"/>
              <a:ext cx="457200" cy="457200"/>
              <a:chOff x="4419720" y="3809880"/>
              <a:chExt cx="457200" cy="457200"/>
            </a:xfrm>
          </p:grpSpPr>
          <p:sp>
            <p:nvSpPr>
              <p:cNvPr id="192" name=""/>
              <p:cNvSpPr/>
              <p:nvPr/>
            </p:nvSpPr>
            <p:spPr>
              <a:xfrm>
                <a:off x="4419720" y="380988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509000" y="38415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5105520" y="3809880"/>
              <a:ext cx="457200" cy="457200"/>
              <a:chOff x="5105520" y="3809880"/>
              <a:chExt cx="457200" cy="457200"/>
            </a:xfrm>
          </p:grpSpPr>
          <p:sp>
            <p:nvSpPr>
              <p:cNvPr id="195" name=""/>
              <p:cNvSpPr/>
              <p:nvPr/>
            </p:nvSpPr>
            <p:spPr>
              <a:xfrm>
                <a:off x="5105520" y="380988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194800" y="38415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5791320" y="3809880"/>
              <a:ext cx="457200" cy="457200"/>
              <a:chOff x="5791320" y="3809880"/>
              <a:chExt cx="457200" cy="457200"/>
            </a:xfrm>
          </p:grpSpPr>
          <p:sp>
            <p:nvSpPr>
              <p:cNvPr id="198" name=""/>
              <p:cNvSpPr/>
              <p:nvPr/>
            </p:nvSpPr>
            <p:spPr>
              <a:xfrm>
                <a:off x="5791320" y="380988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880600" y="38415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6477120" y="3809880"/>
              <a:ext cx="457200" cy="457200"/>
              <a:chOff x="6477120" y="3809880"/>
              <a:chExt cx="457200" cy="457200"/>
            </a:xfrm>
          </p:grpSpPr>
          <p:sp>
            <p:nvSpPr>
              <p:cNvPr id="201" name=""/>
              <p:cNvSpPr/>
              <p:nvPr/>
            </p:nvSpPr>
            <p:spPr>
              <a:xfrm>
                <a:off x="6477120" y="380988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566400" y="38415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7162920" y="3809880"/>
              <a:ext cx="457200" cy="457200"/>
              <a:chOff x="7162920" y="3809880"/>
              <a:chExt cx="457200" cy="457200"/>
            </a:xfrm>
          </p:grpSpPr>
          <p:sp>
            <p:nvSpPr>
              <p:cNvPr id="204" name=""/>
              <p:cNvSpPr/>
              <p:nvPr/>
            </p:nvSpPr>
            <p:spPr>
              <a:xfrm>
                <a:off x="7162920" y="380988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252200" y="38415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7772400" y="3809880"/>
              <a:ext cx="457200" cy="457200"/>
              <a:chOff x="7772400" y="3809880"/>
              <a:chExt cx="457200" cy="457200"/>
            </a:xfrm>
          </p:grpSpPr>
          <p:sp>
            <p:nvSpPr>
              <p:cNvPr id="207" name=""/>
              <p:cNvSpPr/>
              <p:nvPr/>
            </p:nvSpPr>
            <p:spPr>
              <a:xfrm>
                <a:off x="7772400" y="380988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861680" y="38415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4038480" y="4876920"/>
              <a:ext cx="4419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648320" y="4267080"/>
              <a:ext cx="0" cy="609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334120" y="4267080"/>
              <a:ext cx="0" cy="609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019920" y="4267080"/>
              <a:ext cx="0" cy="609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705720" y="4267080"/>
              <a:ext cx="0" cy="609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391520" y="4267080"/>
              <a:ext cx="0" cy="609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001000" y="4267080"/>
              <a:ext cx="0" cy="609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3657600" y="5257800"/>
            <a:ext cx="510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6240" indent="-11462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roblemas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:  Puede fallar si el token se pierde o un proceso no funcion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6240" indent="-11462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6240" indent="-114624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olución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: Enviar varios toke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1T20:23:11Z</dcterms:created>
  <dc:creator>Ignacio A. Vargas</dc:creator>
  <dc:description/>
  <dc:language>en-US</dc:language>
  <cp:lastModifiedBy>Ignacio A. Vargas</cp:lastModifiedBy>
  <dcterms:modified xsi:type="dcterms:W3CDTF">1998-10-20T03:44:17Z</dcterms:modified>
  <cp:revision>11</cp:revision>
  <dc:subject/>
  <dc:title>Sin título de diapositiva</dc:title>
</cp:coreProperties>
</file>