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7B89-5E93-4B58-8CAF-A4EDCA479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95CE-FD1A-45C2-BD0C-EA51152D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6F22-D2AA-47F8-AB09-59B016B2B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871A-6DC2-4803-A587-76A8DF8ED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8509-4998-492E-B2A7-4E9795AF5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C86C-A447-4C61-81FB-6996A094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5EEB-7CA1-4A50-8B48-EB550F03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6ADD-D323-4D02-AC0D-8528AA96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9214-4CC0-40F9-81AB-5BB5E17C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212A-9E1C-4806-B907-6E290DCF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3D72-D895-429B-B7F6-3BED9CB9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014A-F918-4922-9078-49BF7224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219E-6863-4CBD-8F82-04EF0727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8E24-1399-4A9D-8642-E885E8CC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1EA3-2C71-445B-995C-A41E40E3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F690-6CA6-4362-9E95-7BC70D627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B90F-C760-4C56-9019-DD3E05DBD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9F53-6F9F-40AA-B3AA-6B8DC4E6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09E6-1E6B-40B0-9B2B-C68CA0E9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322C-5473-4876-894A-B97E91D7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CB52-50A7-4ED2-99FF-3DF46C50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8F25-817C-470C-80D8-988CF226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FA0A-9581-44EF-8F1A-6380A926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F9DF-ABF2-44F9-8472-75123903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CECE-517A-4AC1-A92D-8F511DDBCF03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0AA7-3CF5-4BD3-8897-3A49F12A7B76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66ff"/>
                </a:solidFill>
                <a:latin typeface="Times New Roman"/>
              </a:rPr>
              <a:t>Algoritmos</a:t>
            </a:r>
            <a:endParaRPr b="0" lang="en-US" sz="117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Fluxograma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016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É uma representação gráfica do formato livre. Exemplo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5715000"/>
            <a:ext cx="457200" cy="457200"/>
          </a:xfrm>
          <a:prstGeom prst="flowChartConnector">
            <a:avLst/>
          </a:prstGeom>
          <a:solidFill>
            <a:srgbClr val="66cc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62720" y="5791320"/>
            <a:ext cx="990360" cy="304560"/>
          </a:xfrm>
          <a:prstGeom prst="flowChartConnector">
            <a:avLst/>
          </a:prstGeom>
          <a:solidFill>
            <a:srgbClr val="66cc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Fim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895480" y="2819520"/>
            <a:ext cx="990720" cy="609480"/>
            <a:chOff x="2895480" y="2819520"/>
            <a:chExt cx="990720" cy="609480"/>
          </a:xfrm>
        </p:grpSpPr>
        <p:sp>
          <p:nvSpPr>
            <p:cNvPr id="141" name=""/>
            <p:cNvSpPr/>
            <p:nvPr/>
          </p:nvSpPr>
          <p:spPr>
            <a:xfrm>
              <a:off x="2895480" y="2819520"/>
              <a:ext cx="990720" cy="304560"/>
            </a:xfrm>
            <a:prstGeom prst="flowChartConnector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Início</a:t>
              </a:r>
              <a:endParaRPr b="0" lang="en-US" sz="16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3124080"/>
              <a:ext cx="0" cy="30492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590920" y="3429000"/>
            <a:ext cx="1600200" cy="1066680"/>
            <a:chOff x="2590920" y="3429000"/>
            <a:chExt cx="1600200" cy="1066680"/>
          </a:xfrm>
        </p:grpSpPr>
        <p:sp>
          <p:nvSpPr>
            <p:cNvPr id="144" name=""/>
            <p:cNvSpPr/>
            <p:nvPr/>
          </p:nvSpPr>
          <p:spPr>
            <a:xfrm>
              <a:off x="2590920" y="3429000"/>
              <a:ext cx="1600200" cy="762120"/>
            </a:xfrm>
            <a:prstGeom prst="flowChartInputOutput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Arial"/>
                </a:rPr>
                <a:t>Introduzir 1º valor</a:t>
              </a:r>
              <a:endParaRPr b="0" lang="en-US" sz="12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52680" y="4191120"/>
              <a:ext cx="0" cy="30456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514600" y="4495680"/>
            <a:ext cx="1600200" cy="1219320"/>
            <a:chOff x="2514600" y="4495680"/>
            <a:chExt cx="1600200" cy="1219320"/>
          </a:xfrm>
        </p:grpSpPr>
        <p:sp>
          <p:nvSpPr>
            <p:cNvPr id="147" name=""/>
            <p:cNvSpPr/>
            <p:nvPr/>
          </p:nvSpPr>
          <p:spPr>
            <a:xfrm>
              <a:off x="2514600" y="4495680"/>
              <a:ext cx="1600200" cy="762120"/>
            </a:xfrm>
            <a:prstGeom prst="flowChartInputOutput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Arial"/>
                </a:rPr>
                <a:t>Introduzir 2º valor</a:t>
              </a:r>
              <a:endParaRPr b="0" lang="en-US" sz="12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52680" y="5257800"/>
              <a:ext cx="0" cy="45720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867280" y="2743200"/>
            <a:ext cx="457200" cy="685800"/>
            <a:chOff x="5867280" y="2743200"/>
            <a:chExt cx="457200" cy="685800"/>
          </a:xfrm>
        </p:grpSpPr>
        <p:sp>
          <p:nvSpPr>
            <p:cNvPr id="150" name=""/>
            <p:cNvSpPr/>
            <p:nvPr/>
          </p:nvSpPr>
          <p:spPr>
            <a:xfrm>
              <a:off x="5867280" y="2743200"/>
              <a:ext cx="457200" cy="457200"/>
            </a:xfrm>
            <a:prstGeom prst="flowChartConnector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5880" y="3200400"/>
              <a:ext cx="0" cy="22860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257800" y="3429000"/>
            <a:ext cx="1752480" cy="1219320"/>
            <a:chOff x="5257800" y="3429000"/>
            <a:chExt cx="1752480" cy="1219320"/>
          </a:xfrm>
        </p:grpSpPr>
        <p:sp>
          <p:nvSpPr>
            <p:cNvPr id="153" name=""/>
            <p:cNvSpPr/>
            <p:nvPr/>
          </p:nvSpPr>
          <p:spPr>
            <a:xfrm>
              <a:off x="5257800" y="3429000"/>
              <a:ext cx="1752480" cy="838080"/>
            </a:xfrm>
            <a:prstGeom prst="flowChartProcess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Arial"/>
                </a:rPr>
                <a:t>Calcular a soma</a:t>
              </a:r>
              <a:endParaRPr b="0" lang="en-US" sz="14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Arial"/>
                </a:rPr>
                <a:t>dos dois valores</a:t>
              </a:r>
              <a:endParaRPr b="0" lang="en-US" sz="1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95880" y="4267080"/>
              <a:ext cx="0" cy="38124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257800" y="4648320"/>
            <a:ext cx="1600200" cy="1143000"/>
            <a:chOff x="5257800" y="4648320"/>
            <a:chExt cx="1600200" cy="1143000"/>
          </a:xfrm>
        </p:grpSpPr>
        <p:sp>
          <p:nvSpPr>
            <p:cNvPr id="156" name=""/>
            <p:cNvSpPr/>
            <p:nvPr/>
          </p:nvSpPr>
          <p:spPr>
            <a:xfrm>
              <a:off x="5257800" y="4648320"/>
              <a:ext cx="1600200" cy="761760"/>
            </a:xfrm>
            <a:prstGeom prst="flowChartInputOutput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Arial"/>
                </a:rPr>
                <a:t>Mostrar o</a:t>
              </a:r>
              <a:endParaRPr b="0" lang="en-US" sz="12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Arial"/>
                </a:rPr>
                <a:t>resultado</a:t>
              </a:r>
              <a:endParaRPr b="0" lang="en-US" sz="12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095880" y="5410080"/>
              <a:ext cx="0" cy="38124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Fluxograma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Um fluxograma pode se tornar muito difícil de se ler quando o algoritmo se torna complexo, além de gastar muito papel para ser desenhado!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057400" y="4038480"/>
            <a:ext cx="5943600" cy="2092320"/>
          </a:xfrm>
          <a:prstGeom prst="rect">
            <a:avLst/>
          </a:prstGeom>
          <a:ln w="0">
            <a:noFill/>
          </a:ln>
        </p:spPr>
      </p:pic>
      <p:grpSp>
        <p:nvGrpSpPr>
          <p:cNvPr id="161" name=""/>
          <p:cNvGrpSpPr/>
          <p:nvPr/>
        </p:nvGrpSpPr>
        <p:grpSpPr>
          <a:xfrm>
            <a:off x="1905120" y="3886200"/>
            <a:ext cx="6324480" cy="2514600"/>
            <a:chOff x="1905120" y="3886200"/>
            <a:chExt cx="6324480" cy="2514600"/>
          </a:xfrm>
        </p:grpSpPr>
        <p:sp>
          <p:nvSpPr>
            <p:cNvPr id="162" name=""/>
            <p:cNvSpPr/>
            <p:nvPr/>
          </p:nvSpPr>
          <p:spPr>
            <a:xfrm>
              <a:off x="1905120" y="3886200"/>
              <a:ext cx="632448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pic>
          <p:nvPicPr>
            <p:cNvPr id="163" name="" descr=""/>
            <p:cNvPicPr/>
            <p:nvPr/>
          </p:nvPicPr>
          <p:blipFill>
            <a:blip r:embed="rId2"/>
            <a:stretch/>
          </p:blipFill>
          <p:spPr>
            <a:xfrm>
              <a:off x="4267080" y="4343400"/>
              <a:ext cx="882720" cy="1655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Pseudocódig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77709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Os algoritmos atuais são muito complexos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Para facilitar o desenvolvimento, o algoritmo é dividido em blocos, que realizam determinadas tarefas que quando juntos formam a solução completa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Esta forma de desenvolvimento se chama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Programação Estruturada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Programação estruturada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78472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A programação estruturada produz algoritmos complexos mas fáceis de se ler (e entender!)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O formato livre e o fluxograma não se adaptam à programação estruturada. Sua forma de programação chama-se </a:t>
            </a:r>
            <a:r>
              <a:rPr b="1" i="1" lang="pt-BR" sz="2800" spc="-1" strike="noStrike">
                <a:solidFill>
                  <a:srgbClr val="ff3300"/>
                </a:solidFill>
                <a:latin typeface="Arial"/>
              </a:rPr>
              <a:t>PROGRAMAÇÃO LINEAR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Para se escrever algoritmos estruturados são usados os </a:t>
            </a:r>
            <a:r>
              <a:rPr b="1" i="1" lang="pt-BR" sz="2800" spc="-1" strike="noStrike">
                <a:solidFill>
                  <a:srgbClr val="ff3300"/>
                </a:solidFill>
                <a:latin typeface="Arial"/>
              </a:rPr>
              <a:t>PSEUDOCÓDIGOS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Algoritmos estruturado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No desenvolvimento dos algoritmos estruturados devem ser observados 3 items básicos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1-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FUNCIONABILIDADE</a:t>
            </a: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: o algoritmo deve funcionar!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2-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SIMPLICIDADE</a:t>
            </a: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: o algoritmo não deve realizar tarefas inúteis. Ele deve ser feito da forma mais simples possível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3-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CLAREZA</a:t>
            </a: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: o algoritmo deve ser claro, isto é, fácil de se ler e entender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Sem estas características, o algoritmo estará </a:t>
            </a:r>
            <a:r>
              <a:rPr b="1" i="1" lang="pt-BR" sz="2400" spc="-1" strike="noStrike">
                <a:solidFill>
                  <a:srgbClr val="ff3300"/>
                </a:solidFill>
                <a:latin typeface="Arial"/>
              </a:rPr>
              <a:t>ERRADO</a:t>
            </a: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!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Pseudocódigo - Português Estruturado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O Pseudocódigo utilizado no desenvolvimento de algoritmos estruturados é chamado de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Português Estruturado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Nas próximas telas veremos como são escritas as estruturas usando o Português Estruturado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Estrutura de um algoritm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Um algoritmo escrito em pseudocódigo possui a seguinte estrutura: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336699"/>
                </a:solidFill>
                <a:uFillTx/>
                <a:latin typeface="Courier New"/>
              </a:rPr>
              <a:t>Algoritmo</a:t>
            </a:r>
            <a:r>
              <a:rPr b="1" lang="pt-BR" sz="2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i="1" lang="pt-BR" sz="2000" spc="-1" strike="noStrike">
                <a:solidFill>
                  <a:srgbClr val="33cc33"/>
                </a:solidFill>
                <a:latin typeface="Courier New"/>
              </a:rPr>
              <a:t>Nome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336699"/>
                </a:solidFill>
                <a:uFillTx/>
                <a:latin typeface="Courier New"/>
              </a:rPr>
              <a:t>var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33cc33"/>
                </a:solidFill>
                <a:latin typeface="Courier New"/>
              </a:rPr>
              <a:t>Declaração de variáveis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336699"/>
                </a:solidFill>
                <a:uFillTx/>
                <a:latin typeface="Courier New"/>
              </a:rPr>
              <a:t>início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33cc33"/>
                </a:solidFill>
                <a:latin typeface="Courier New"/>
              </a:rPr>
              <a:t>Comandos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336699"/>
                </a:solidFill>
                <a:uFillTx/>
                <a:latin typeface="Courier New"/>
              </a:rPr>
              <a:t>fim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Obs.: Não utilize espaços</a:t>
            </a:r>
            <a:br>
              <a:rPr sz="2000"/>
            </a:b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no nome do algoritmo!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257800" y="2514600"/>
            <a:ext cx="3263760" cy="3882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ff"/>
                </a:solidFill>
                <a:latin typeface="Times New Roman"/>
              </a:rPr>
              <a:t>Estrutura de um algoritmo - Fluxograma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29000" y="4800600"/>
            <a:ext cx="2362320" cy="914400"/>
          </a:xfrm>
          <a:prstGeom prst="flowChartTerminator">
            <a:avLst/>
          </a:prstGeom>
          <a:solidFill>
            <a:srgbClr val="66cc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Fim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429000" y="1905120"/>
            <a:ext cx="2362320" cy="1295280"/>
            <a:chOff x="3429000" y="1905120"/>
            <a:chExt cx="2362320" cy="1295280"/>
          </a:xfrm>
        </p:grpSpPr>
        <p:sp>
          <p:nvSpPr>
            <p:cNvPr id="178" name=""/>
            <p:cNvSpPr/>
            <p:nvPr/>
          </p:nvSpPr>
          <p:spPr>
            <a:xfrm>
              <a:off x="3429000" y="1905120"/>
              <a:ext cx="2362320" cy="914400"/>
            </a:xfrm>
            <a:prstGeom prst="flowChartTerminator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99"/>
                  </a:solidFill>
                  <a:latin typeface="Arial"/>
                </a:rPr>
                <a:t>Início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72000" y="2819520"/>
              <a:ext cx="0" cy="38088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429000" y="3200400"/>
            <a:ext cx="2285640" cy="1600200"/>
            <a:chOff x="3429000" y="3200400"/>
            <a:chExt cx="2285640" cy="1600200"/>
          </a:xfrm>
        </p:grpSpPr>
        <p:sp>
          <p:nvSpPr>
            <p:cNvPr id="181" name=""/>
            <p:cNvSpPr/>
            <p:nvPr/>
          </p:nvSpPr>
          <p:spPr>
            <a:xfrm>
              <a:off x="3429000" y="3200400"/>
              <a:ext cx="2285640" cy="1143000"/>
            </a:xfrm>
            <a:prstGeom prst="flowChartProcess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99"/>
                  </a:solidFill>
                  <a:latin typeface="Arial"/>
                </a:rPr>
                <a:t>Comandos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11240" y="4343400"/>
              <a:ext cx="0" cy="45720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Pseudocódigo: Variávei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As variáveis são utilizadas para guardar valores na memória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São utilizadas no lugar do endereço de memória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São identificadas por um 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nome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Os nomes devem obedecer às seguintes regras: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1-Só podem começar por LETRA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2-Só podem ter LETRAS, NÚMEROS e o caractere _ (sublinhado)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336699"/>
                </a:solidFill>
                <a:latin typeface="Arial"/>
              </a:rPr>
              <a:t>Exemplos: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A, B, A2, Contador, X_2, ABC2, Nome_Cliente    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(válidos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2A, ABC$%, A B C, Nome Cliente 2, Início        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(inválidos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Os comandos do pseudocódigo são palavras reservadas e não podem ser usados como nome de variáveis. Por isso, as palavras reservadas devem ser sublinhadas!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Declaração de variávei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016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6699"/>
                </a:solidFill>
                <a:latin typeface="Arial"/>
              </a:rPr>
              <a:t>Equivale à lista de ingredientes da receita. Serve para informar quais os tipos de variáveis utilizadas no algoritmo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66ff"/>
                </a:solidFill>
                <a:uFillTx/>
                <a:latin typeface="Courier New"/>
              </a:rPr>
              <a:t>var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66ff"/>
                </a:solidFill>
                <a:latin typeface="Courier New"/>
              </a:rPr>
              <a:t>NomeDaVariável : </a:t>
            </a:r>
            <a:r>
              <a:rPr b="1" lang="pt-BR" sz="1800" spc="-1" strike="noStrike" u="sng">
                <a:solidFill>
                  <a:srgbClr val="0066ff"/>
                </a:solidFill>
                <a:uFillTx/>
                <a:latin typeface="Courier New"/>
              </a:rPr>
              <a:t>tipo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6699"/>
                </a:solidFill>
                <a:latin typeface="Arial"/>
              </a:rPr>
              <a:t>Os tipos de variáveis são os seguintes: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9900"/>
                </a:solidFill>
                <a:latin typeface="Arial"/>
              </a:rPr>
              <a:t>Inteiro</a:t>
            </a:r>
            <a:r>
              <a:rPr b="1" lang="pt-BR" sz="1600" spc="-1" strike="noStrike">
                <a:solidFill>
                  <a:srgbClr val="336699"/>
                </a:solidFill>
                <a:latin typeface="Arial"/>
              </a:rPr>
              <a:t>: Números sem parte decimal.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9900"/>
                </a:solidFill>
                <a:latin typeface="Arial"/>
              </a:rPr>
              <a:t>Real</a:t>
            </a:r>
            <a:r>
              <a:rPr b="1" lang="pt-BR" sz="1600" spc="-1" strike="noStrike">
                <a:solidFill>
                  <a:srgbClr val="336699"/>
                </a:solidFill>
                <a:latin typeface="Arial"/>
              </a:rPr>
              <a:t>: Números com parte decimal.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9900"/>
                </a:solidFill>
                <a:latin typeface="Arial"/>
              </a:rPr>
              <a:t>Word</a:t>
            </a:r>
            <a:r>
              <a:rPr b="1" lang="pt-BR" sz="1600" spc="-1" strike="noStrike">
                <a:solidFill>
                  <a:srgbClr val="336699"/>
                </a:solidFill>
                <a:latin typeface="Arial"/>
              </a:rPr>
              <a:t>: Números inteiros positivos.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9900"/>
                </a:solidFill>
                <a:latin typeface="Arial"/>
              </a:rPr>
              <a:t>Booleano</a:t>
            </a:r>
            <a:r>
              <a:rPr b="1" lang="pt-BR" sz="1600" spc="-1" strike="noStrike">
                <a:solidFill>
                  <a:srgbClr val="336699"/>
                </a:solidFill>
                <a:latin typeface="Arial"/>
              </a:rPr>
              <a:t>: Valores VERDADEIRO e FALSO.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9900"/>
                </a:solidFill>
                <a:latin typeface="Arial"/>
              </a:rPr>
              <a:t>Caractere</a:t>
            </a:r>
            <a:r>
              <a:rPr b="1" lang="pt-BR" sz="1600" spc="-1" strike="noStrike">
                <a:solidFill>
                  <a:srgbClr val="336699"/>
                </a:solidFill>
                <a:latin typeface="Arial"/>
              </a:rPr>
              <a:t>: Um único símbolo gráfico.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9900"/>
                </a:solidFill>
                <a:latin typeface="Arial"/>
              </a:rPr>
              <a:t>String</a:t>
            </a:r>
            <a:r>
              <a:rPr b="1" lang="pt-BR" sz="1600" spc="-1" strike="noStrike">
                <a:solidFill>
                  <a:srgbClr val="336699"/>
                </a:solidFill>
                <a:latin typeface="Arial"/>
              </a:rPr>
              <a:t>: Conjunto de caracteres. Armazena um texto.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6699"/>
                </a:solidFill>
                <a:latin typeface="Arial"/>
              </a:rPr>
              <a:t>Obs.: O fluxograma não utiliza declaração de variáveis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Definiçã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O desenvolvimento de um programa é muito complexo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LGORITMO: é a descrição dos passos necessários para se resolver um problema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3962520"/>
            <a:ext cx="1752840" cy="1447560"/>
          </a:xfrm>
          <a:prstGeom prst="cloudCallout">
            <a:avLst>
              <a:gd name="adj1" fmla="val 27625"/>
              <a:gd name="adj2" fmla="val 66666"/>
            </a:avLst>
          </a:prstGeom>
          <a:solidFill>
            <a:srgbClr val="33cc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99"/>
                </a:solidFill>
                <a:latin typeface="Times New Roman"/>
              </a:rPr>
              <a:t>Problema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352680" y="3809880"/>
            <a:ext cx="2438640" cy="1600200"/>
            <a:chOff x="3352680" y="3809880"/>
            <a:chExt cx="2438640" cy="1600200"/>
          </a:xfrm>
        </p:grpSpPr>
        <p:sp>
          <p:nvSpPr>
            <p:cNvPr id="97" name=""/>
            <p:cNvSpPr/>
            <p:nvPr/>
          </p:nvSpPr>
          <p:spPr>
            <a:xfrm>
              <a:off x="4114800" y="3809880"/>
              <a:ext cx="1676520" cy="1600200"/>
            </a:xfrm>
            <a:prstGeom prst="plus">
              <a:avLst>
                <a:gd name="adj" fmla="val 25000"/>
              </a:avLst>
            </a:prstGeom>
            <a:solidFill>
              <a:srgbClr val="ff99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699"/>
                  </a:solidFill>
                  <a:latin typeface="Times New Roman"/>
                </a:rPr>
                <a:t>Algoritmo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352680" y="4495680"/>
              <a:ext cx="533520" cy="304920"/>
            </a:xfrm>
            <a:prstGeom prst="rightArrow">
              <a:avLst>
                <a:gd name="adj1" fmla="val 50000"/>
                <a:gd name="adj2" fmla="val 43743"/>
              </a:avLst>
            </a:prstGeom>
            <a:solidFill>
              <a:srgbClr val="ff3300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867280" y="3962520"/>
            <a:ext cx="2895840" cy="1295280"/>
            <a:chOff x="5867280" y="3962520"/>
            <a:chExt cx="2895840" cy="1295280"/>
          </a:xfrm>
        </p:grpSpPr>
        <p:sp>
          <p:nvSpPr>
            <p:cNvPr id="100" name=""/>
            <p:cNvSpPr/>
            <p:nvPr/>
          </p:nvSpPr>
          <p:spPr>
            <a:xfrm>
              <a:off x="6477120" y="3962520"/>
              <a:ext cx="2286000" cy="1295280"/>
            </a:xfrm>
            <a:prstGeom prst="flowChartPredefinedProcess">
              <a:avLst/>
            </a:prstGeom>
            <a:solidFill>
              <a:srgbClr val="33cc33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699"/>
                  </a:solidFill>
                  <a:latin typeface="Times New Roman"/>
                </a:rPr>
                <a:t>Programa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7280" y="4495680"/>
              <a:ext cx="533520" cy="304920"/>
            </a:xfrm>
            <a:prstGeom prst="rightArrow">
              <a:avLst>
                <a:gd name="adj1" fmla="val 50000"/>
                <a:gd name="adj2" fmla="val 43743"/>
              </a:avLst>
            </a:prstGeom>
            <a:solidFill>
              <a:srgbClr val="ff3300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Exemplos: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336699"/>
                </a:solidFill>
                <a:uFillTx/>
                <a:latin typeface="Courier New"/>
              </a:rPr>
              <a:t>var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336699"/>
                </a:solidFill>
                <a:latin typeface="Courier New"/>
              </a:rPr>
              <a:t>X : </a:t>
            </a:r>
            <a:r>
              <a:rPr b="1" lang="pt-BR" sz="2000" spc="-1" strike="noStrike" u="sng">
                <a:solidFill>
                  <a:srgbClr val="336699"/>
                </a:solidFill>
                <a:uFillTx/>
                <a:latin typeface="Courier New"/>
              </a:rPr>
              <a:t>rea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336699"/>
                </a:solidFill>
                <a:latin typeface="Courier New"/>
              </a:rPr>
              <a:t>i,j : </a:t>
            </a:r>
            <a:r>
              <a:rPr b="1" lang="pt-BR" sz="2000" spc="-1" strike="noStrike" u="sng">
                <a:solidFill>
                  <a:srgbClr val="336699"/>
                </a:solidFill>
                <a:uFillTx/>
                <a:latin typeface="Courier New"/>
              </a:rPr>
              <a:t>inteiro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336699"/>
                </a:solidFill>
                <a:latin typeface="Courier New"/>
              </a:rPr>
              <a:t>Nome_cliente : </a:t>
            </a:r>
            <a:r>
              <a:rPr b="1" lang="pt-BR" sz="2000" spc="-1" strike="noStrike" u="sng">
                <a:solidFill>
                  <a:srgbClr val="336699"/>
                </a:solidFill>
                <a:uFillTx/>
                <a:latin typeface="Courier New"/>
              </a:rPr>
              <a:t>string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336699"/>
                </a:solidFill>
                <a:latin typeface="Courier New"/>
              </a:rPr>
              <a:t>Valor1, Valor2 : </a:t>
            </a:r>
            <a:r>
              <a:rPr b="1" lang="pt-BR" sz="2000" spc="-1" strike="noStrike" u="sng">
                <a:solidFill>
                  <a:srgbClr val="336699"/>
                </a:solidFill>
                <a:uFillTx/>
                <a:latin typeface="Courier New"/>
              </a:rPr>
              <a:t>rea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336699"/>
                </a:solidFill>
                <a:latin typeface="Courier New"/>
              </a:rPr>
              <a:t>Flag : </a:t>
            </a:r>
            <a:r>
              <a:rPr b="1" lang="pt-BR" sz="2000" spc="-1" strike="noStrike" u="sng">
                <a:solidFill>
                  <a:srgbClr val="336699"/>
                </a:solidFill>
                <a:uFillTx/>
                <a:latin typeface="Courier New"/>
              </a:rPr>
              <a:t>booleano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336699"/>
                </a:solidFill>
                <a:latin typeface="Courier New"/>
              </a:rPr>
              <a:t>Letra : </a:t>
            </a:r>
            <a:r>
              <a:rPr b="1" lang="pt-BR" sz="2000" spc="-1" strike="noStrike" u="sng">
                <a:solidFill>
                  <a:srgbClr val="336699"/>
                </a:solidFill>
                <a:uFillTx/>
                <a:latin typeface="Courier New"/>
              </a:rPr>
              <a:t>caractere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336699"/>
                </a:solidFill>
                <a:latin typeface="Courier New"/>
              </a:rPr>
              <a:t>Taxa : </a:t>
            </a:r>
            <a:r>
              <a:rPr b="1" lang="pt-BR" sz="2000" spc="-1" strike="noStrike" u="sng">
                <a:solidFill>
                  <a:srgbClr val="336699"/>
                </a:solidFill>
                <a:uFillTx/>
                <a:latin typeface="Courier New"/>
              </a:rPr>
              <a:t>word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181480" y="3200400"/>
            <a:ext cx="3483000" cy="3127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Atribuição de valore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ndicam o valor que uma variável deve receber em um algoritmo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Courier New"/>
              </a:rPr>
              <a:t>variável </a:t>
            </a:r>
            <a:r>
              <a:rPr b="1" lang="en-US" sz="3200" spc="-1" strike="noStrike">
                <a:solidFill>
                  <a:srgbClr val="336699"/>
                </a:solidFill>
                <a:latin typeface="Symbol"/>
                <a:ea typeface="Symbol"/>
              </a:rPr>
              <a:t></a:t>
            </a:r>
            <a:r>
              <a:rPr b="1" lang="en-US" sz="3200" spc="-1" strike="noStrike">
                <a:solidFill>
                  <a:srgbClr val="336699"/>
                </a:solidFill>
                <a:latin typeface="Courier New"/>
              </a:rPr>
              <a:t> valor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Exemplos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Courier New"/>
              </a:rPr>
              <a:t>x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Symbol"/>
                <a:ea typeface="Symbol"/>
              </a:rPr>
              <a:t>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Courier New"/>
              </a:rPr>
              <a:t>2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Courier New"/>
              </a:rPr>
              <a:t>x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Symbol"/>
                <a:ea typeface="Symbol"/>
              </a:rPr>
              <a:t>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Courier New"/>
              </a:rPr>
              <a:t>y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Courier New"/>
              </a:rPr>
              <a:t>x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Symbol"/>
                <a:ea typeface="Symbol"/>
              </a:rPr>
              <a:t>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Courier New"/>
              </a:rPr>
              <a:t>y + 2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876920" y="3276720"/>
            <a:ext cx="3504960" cy="2860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66ff"/>
                </a:solidFill>
                <a:latin typeface="Times New Roman"/>
              </a:rPr>
              <a:t>Atribuição de valores - Fluxograma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352680" y="1828800"/>
            <a:ext cx="2819520" cy="3733920"/>
            <a:chOff x="3352680" y="1828800"/>
            <a:chExt cx="2819520" cy="3733920"/>
          </a:xfrm>
        </p:grpSpPr>
        <p:sp>
          <p:nvSpPr>
            <p:cNvPr id="195" name=""/>
            <p:cNvSpPr/>
            <p:nvPr/>
          </p:nvSpPr>
          <p:spPr>
            <a:xfrm>
              <a:off x="3352680" y="2971800"/>
              <a:ext cx="2819520" cy="1600200"/>
            </a:xfrm>
            <a:prstGeom prst="flowChartProcess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99"/>
                  </a:solidFill>
                  <a:latin typeface="Arial"/>
                </a:rPr>
                <a:t>Variável </a:t>
              </a:r>
              <a:r>
                <a:rPr b="1" lang="en-US" sz="24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</a:t>
              </a:r>
              <a:r>
                <a:rPr b="1" lang="en-US" sz="2400" spc="-1" strike="noStrike">
                  <a:solidFill>
                    <a:srgbClr val="336699"/>
                  </a:solidFill>
                  <a:latin typeface="Arial"/>
                </a:rPr>
                <a:t>  Valor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724280" y="1828800"/>
              <a:ext cx="0" cy="114300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24280" y="4572000"/>
              <a:ext cx="0" cy="99072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Operadores Aritmético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São utilizados os seguintes operadores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99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ff9900"/>
                </a:solidFill>
                <a:latin typeface="Courier New"/>
              </a:rPr>
              <a:t>+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Adiçã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99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ff9900"/>
                </a:solidFill>
                <a:latin typeface="Courier New"/>
              </a:rPr>
              <a:t>-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Subtraçã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99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ff9900"/>
                </a:solidFill>
                <a:latin typeface="Courier New"/>
              </a:rPr>
              <a:t>*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Multiplicaçã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99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ff9900"/>
                </a:solidFill>
                <a:latin typeface="Courier New"/>
              </a:rPr>
              <a:t>/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Divisã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99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ff9900"/>
                </a:solidFill>
                <a:latin typeface="Courier New"/>
              </a:rPr>
              <a:t>div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Divisão inteir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99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ff9900"/>
                </a:solidFill>
                <a:latin typeface="Courier New"/>
              </a:rPr>
              <a:t>mod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Resto da divisão inteir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Exemplos: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pt-BR" sz="3200" spc="-1" strike="noStrike">
                <a:solidFill>
                  <a:srgbClr val="336699"/>
                </a:solidFill>
                <a:latin typeface="Courier New"/>
              </a:rPr>
              <a:t>x </a:t>
            </a:r>
            <a:r>
              <a:rPr b="1" lang="pt-BR" sz="3200" spc="-1" strike="noStrike">
                <a:solidFill>
                  <a:srgbClr val="336699"/>
                </a:solidFill>
                <a:latin typeface="Symbol"/>
                <a:ea typeface="Symbol"/>
              </a:rPr>
              <a:t></a:t>
            </a:r>
            <a:r>
              <a:rPr b="1" lang="pt-BR" sz="3200" spc="-1" strike="noStrike">
                <a:solidFill>
                  <a:srgbClr val="336699"/>
                </a:solidFill>
                <a:latin typeface="Courier New"/>
              </a:rPr>
              <a:t> a + b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pt-BR" sz="3200" spc="-1" strike="noStrike">
                <a:solidFill>
                  <a:srgbClr val="336699"/>
                </a:solidFill>
                <a:latin typeface="Courier New"/>
              </a:rPr>
              <a:t>y </a:t>
            </a:r>
            <a:r>
              <a:rPr b="1" lang="pt-BR" sz="3200" spc="-1" strike="noStrike">
                <a:solidFill>
                  <a:srgbClr val="336699"/>
                </a:solidFill>
                <a:latin typeface="Symbol"/>
                <a:ea typeface="Symbol"/>
              </a:rPr>
              <a:t></a:t>
            </a:r>
            <a:r>
              <a:rPr b="1" lang="pt-BR" sz="3200" spc="-1" strike="noStrike">
                <a:solidFill>
                  <a:srgbClr val="336699"/>
                </a:solidFill>
                <a:latin typeface="Courier New"/>
              </a:rPr>
              <a:t> 2 * x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pt-BR" sz="3200" spc="-1" strike="noStrike">
                <a:solidFill>
                  <a:srgbClr val="336699"/>
                </a:solidFill>
                <a:latin typeface="Courier New"/>
              </a:rPr>
              <a:t>z </a:t>
            </a:r>
            <a:r>
              <a:rPr b="1" lang="pt-BR" sz="3200" spc="-1" strike="noStrike">
                <a:solidFill>
                  <a:srgbClr val="336699"/>
                </a:solidFill>
                <a:latin typeface="Symbol"/>
                <a:ea typeface="Symbol"/>
              </a:rPr>
              <a:t></a:t>
            </a:r>
            <a:r>
              <a:rPr b="1" lang="pt-BR" sz="3200" spc="-1" strike="noStrike">
                <a:solidFill>
                  <a:srgbClr val="336699"/>
                </a:solidFill>
                <a:latin typeface="Courier New"/>
              </a:rPr>
              <a:t> 5 / 2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pt-BR" sz="3200" spc="-1" strike="noStrike">
                <a:solidFill>
                  <a:srgbClr val="336699"/>
                </a:solidFill>
                <a:latin typeface="Courier New"/>
              </a:rPr>
              <a:t>i </a:t>
            </a:r>
            <a:r>
              <a:rPr b="1" lang="pt-BR" sz="3200" spc="-1" strike="noStrike">
                <a:solidFill>
                  <a:srgbClr val="336699"/>
                </a:solidFill>
                <a:latin typeface="Symbol"/>
                <a:ea typeface="Symbol"/>
              </a:rPr>
              <a:t></a:t>
            </a:r>
            <a:r>
              <a:rPr b="1" lang="pt-BR" sz="3200" spc="-1" strike="noStrike">
                <a:solidFill>
                  <a:srgbClr val="336699"/>
                </a:solidFill>
                <a:latin typeface="Courier New"/>
              </a:rPr>
              <a:t> 5 div 2 (quanto vale i?)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pt-BR" sz="3200" spc="-1" strike="noStrike">
                <a:solidFill>
                  <a:srgbClr val="336699"/>
                </a:solidFill>
                <a:latin typeface="Courier New"/>
              </a:rPr>
              <a:t>r </a:t>
            </a:r>
            <a:r>
              <a:rPr b="1" lang="pt-BR" sz="3200" spc="-1" strike="noStrike">
                <a:solidFill>
                  <a:srgbClr val="336699"/>
                </a:solidFill>
                <a:latin typeface="Symbol"/>
                <a:ea typeface="Symbol"/>
              </a:rPr>
              <a:t></a:t>
            </a:r>
            <a:r>
              <a:rPr b="1" lang="pt-BR" sz="3200" spc="-1" strike="noStrike">
                <a:solidFill>
                  <a:srgbClr val="336699"/>
                </a:solidFill>
                <a:latin typeface="Courier New"/>
              </a:rPr>
              <a:t> 5 mod 2 (quanto vale r?)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809880" y="4724280"/>
            <a:ext cx="1782720" cy="1820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Entrada e Saída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Entrada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: indica que algum dado deve ser 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Arial"/>
              </a:rPr>
              <a:t>fornecido ao algoritmo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(programa) pelo USUÁRIO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Saída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: indica que algum dado deve ser 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Arial"/>
              </a:rPr>
              <a:t>fornecido pelo algoritmo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 (programa) ao USUÁRIO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562720" y="4191120"/>
            <a:ext cx="2989080" cy="2411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Pseudocódigo: Entrada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Courier New"/>
              </a:rPr>
              <a:t>Leia</a:t>
            </a:r>
            <a:r>
              <a:rPr b="1" lang="en-US" sz="32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Courier New"/>
              </a:rPr>
              <a:t>Variá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O valor digitado pelo usuário será armazenado na Variável. Exemplo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Courier New"/>
              </a:rPr>
              <a:t>Leia X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O valor digitado será armazenado na variável X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Entrada - Fluxograma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828800" y="2133720"/>
            <a:ext cx="2590920" cy="3047760"/>
            <a:chOff x="1828800" y="2133720"/>
            <a:chExt cx="2590920" cy="3047760"/>
          </a:xfrm>
        </p:grpSpPr>
        <p:sp>
          <p:nvSpPr>
            <p:cNvPr id="210" name=""/>
            <p:cNvSpPr/>
            <p:nvPr/>
          </p:nvSpPr>
          <p:spPr>
            <a:xfrm>
              <a:off x="1828800" y="3048120"/>
              <a:ext cx="2590920" cy="1218960"/>
            </a:xfrm>
            <a:prstGeom prst="flowChartInputOutput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99"/>
                  </a:solidFill>
                  <a:latin typeface="Arial"/>
                </a:rPr>
                <a:t>Leia X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200400" y="2133720"/>
              <a:ext cx="0" cy="91440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24440" y="4267080"/>
              <a:ext cx="0" cy="91440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715000" y="2362320"/>
            <a:ext cx="2133720" cy="2590560"/>
            <a:chOff x="5715000" y="2362320"/>
            <a:chExt cx="2133720" cy="2590560"/>
          </a:xfrm>
        </p:grpSpPr>
        <p:sp>
          <p:nvSpPr>
            <p:cNvPr id="214" name=""/>
            <p:cNvSpPr/>
            <p:nvPr/>
          </p:nvSpPr>
          <p:spPr>
            <a:xfrm>
              <a:off x="5715000" y="3200400"/>
              <a:ext cx="2133720" cy="838080"/>
            </a:xfrm>
            <a:prstGeom prst="flowChartManualInput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99"/>
                  </a:solidFill>
                  <a:latin typeface="Arial"/>
                </a:rPr>
                <a:t>Leia X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81680" y="2362320"/>
              <a:ext cx="0" cy="91440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81680" y="4038480"/>
              <a:ext cx="0" cy="91440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Pseudocódigo: Saída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7847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3200" spc="-1" strike="noStrike" u="sng">
                <a:solidFill>
                  <a:srgbClr val="336699"/>
                </a:solidFill>
                <a:uFillTx/>
                <a:latin typeface="Courier New"/>
              </a:rPr>
              <a:t>Escreva</a:t>
            </a:r>
            <a:r>
              <a:rPr b="1" lang="pt-BR" sz="32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pt-BR" sz="3200" spc="-1" strike="noStrike">
                <a:solidFill>
                  <a:srgbClr val="33cc33"/>
                </a:solidFill>
                <a:latin typeface="Courier New"/>
              </a:rPr>
              <a:t>Variá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pt-BR" sz="3200" spc="-1" strike="noStrike" u="sng">
                <a:solidFill>
                  <a:srgbClr val="336699"/>
                </a:solidFill>
                <a:uFillTx/>
                <a:latin typeface="Courier New"/>
              </a:rPr>
              <a:t>Escreva</a:t>
            </a:r>
            <a:r>
              <a:rPr b="1" lang="pt-BR" sz="3200" spc="-1" strike="noStrike">
                <a:solidFill>
                  <a:srgbClr val="336699"/>
                </a:solidFill>
                <a:latin typeface="Courier New"/>
              </a:rPr>
              <a:t> “</a:t>
            </a:r>
            <a:r>
              <a:rPr b="1" lang="pt-BR" sz="3200" spc="-1" strike="noStrike">
                <a:solidFill>
                  <a:srgbClr val="33cc33"/>
                </a:solidFill>
                <a:latin typeface="Courier New"/>
              </a:rPr>
              <a:t>Mensagem</a:t>
            </a:r>
            <a:r>
              <a:rPr b="1" lang="pt-BR" sz="3200" spc="-1" strike="noStrike">
                <a:solidFill>
                  <a:srgbClr val="336699"/>
                </a:solidFill>
                <a:latin typeface="Courier New"/>
              </a:rPr>
              <a:t>”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No primeiro caso, o valor da Variável será exibido ao usuário; no segundo, será mostrada a mensagem entre aspas (“”). Ex.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3200" spc="-1" strike="noStrike" u="sng">
                <a:solidFill>
                  <a:srgbClr val="336699"/>
                </a:solidFill>
                <a:uFillTx/>
                <a:latin typeface="Courier New"/>
              </a:rPr>
              <a:t>Escreva</a:t>
            </a:r>
            <a:r>
              <a:rPr b="1" lang="pt-BR" sz="3200" spc="-1" strike="noStrike">
                <a:solidFill>
                  <a:srgbClr val="336699"/>
                </a:solidFill>
                <a:latin typeface="Courier New"/>
              </a:rPr>
              <a:t> X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pt-BR" sz="3200" spc="-1" strike="noStrike" u="sng">
                <a:solidFill>
                  <a:srgbClr val="336699"/>
                </a:solidFill>
                <a:uFillTx/>
                <a:latin typeface="Courier New"/>
              </a:rPr>
              <a:t>Escreva</a:t>
            </a:r>
            <a:r>
              <a:rPr b="1" lang="pt-BR" sz="3200" spc="-1" strike="noStrike">
                <a:solidFill>
                  <a:srgbClr val="336699"/>
                </a:solidFill>
                <a:latin typeface="Courier New"/>
              </a:rPr>
              <a:t> “Bom dia!”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Saída: Fluxograma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905120" y="2286000"/>
            <a:ext cx="2209680" cy="2971800"/>
            <a:chOff x="1905120" y="2286000"/>
            <a:chExt cx="2209680" cy="2971800"/>
          </a:xfrm>
        </p:grpSpPr>
        <p:sp>
          <p:nvSpPr>
            <p:cNvPr id="221" name=""/>
            <p:cNvSpPr/>
            <p:nvPr/>
          </p:nvSpPr>
          <p:spPr>
            <a:xfrm>
              <a:off x="1905120" y="3200400"/>
              <a:ext cx="2209680" cy="1143000"/>
            </a:xfrm>
            <a:prstGeom prst="flowChartInputOutput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99"/>
                  </a:solidFill>
                  <a:latin typeface="Arial"/>
                </a:rPr>
                <a:t>Escreva X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48120" y="2286000"/>
              <a:ext cx="0" cy="91440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971800" y="4343400"/>
              <a:ext cx="0" cy="91440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715000" y="2286000"/>
            <a:ext cx="1905120" cy="2971800"/>
            <a:chOff x="5715000" y="2286000"/>
            <a:chExt cx="1905120" cy="2971800"/>
          </a:xfrm>
        </p:grpSpPr>
        <p:sp>
          <p:nvSpPr>
            <p:cNvPr id="225" name=""/>
            <p:cNvSpPr/>
            <p:nvPr/>
          </p:nvSpPr>
          <p:spPr>
            <a:xfrm>
              <a:off x="5715000" y="3200400"/>
              <a:ext cx="1905120" cy="1143000"/>
            </a:xfrm>
            <a:prstGeom prst="flowChartDisplay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99"/>
                  </a:solidFill>
                  <a:latin typeface="Arial"/>
                </a:rPr>
                <a:t>Escreva X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29400" y="2286000"/>
              <a:ext cx="0" cy="91440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29400" y="4343400"/>
              <a:ext cx="0" cy="91440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Receitas de bol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Um algoritmo é semelhante a uma receita de bolo: são fornecidos os ingredientes e o modo de fazer. Seguindo a receita obteremos o bolo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505320" y="3733920"/>
            <a:ext cx="270324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Pseudocódigo: Condicionai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7770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É utilizado na tomada de decisões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1)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6699"/>
                </a:solidFill>
                <a:uFillTx/>
                <a:latin typeface="Courier New"/>
              </a:rPr>
              <a:t>Se</a:t>
            </a:r>
            <a:r>
              <a:rPr b="1" lang="en-US" sz="32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Courier New"/>
              </a:rPr>
              <a:t>condição</a:t>
            </a:r>
            <a:r>
              <a:rPr b="1" lang="en-US" sz="32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Courier New"/>
              </a:rPr>
              <a:t>entã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Courier New"/>
              </a:rPr>
              <a:t>iníci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Courier New"/>
              </a:rPr>
              <a:t>comando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Courier New"/>
              </a:rPr>
              <a:t>fim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Os “comandos” são executados quando a condição for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VERDADEIRA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952880" y="3505320"/>
            <a:ext cx="3581640" cy="1676160"/>
            <a:chOff x="4952880" y="3505320"/>
            <a:chExt cx="3581640" cy="1676160"/>
          </a:xfrm>
        </p:grpSpPr>
        <p:sp>
          <p:nvSpPr>
            <p:cNvPr id="231" name=""/>
            <p:cNvSpPr/>
            <p:nvPr/>
          </p:nvSpPr>
          <p:spPr>
            <a:xfrm>
              <a:off x="4952880" y="3505320"/>
              <a:ext cx="304920" cy="167616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38680" y="4038480"/>
              <a:ext cx="289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6699"/>
                  </a:solidFill>
                  <a:latin typeface="Times New Roman"/>
                </a:rPr>
                <a:t>Bloco de comandos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Pseudocódigo: Condicionai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78472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2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336699"/>
                </a:solidFill>
                <a:uFillTx/>
                <a:latin typeface="Courier New"/>
              </a:rPr>
              <a:t>Se</a:t>
            </a:r>
            <a:r>
              <a:rPr b="1" lang="en-US" sz="2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cc33"/>
                </a:solidFill>
                <a:latin typeface="Courier New"/>
              </a:rPr>
              <a:t>condição</a:t>
            </a:r>
            <a:r>
              <a:rPr b="1" lang="en-US" sz="2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2000" spc="-1" strike="noStrike" u="sng">
                <a:solidFill>
                  <a:srgbClr val="336699"/>
                </a:solidFill>
                <a:uFillTx/>
                <a:latin typeface="Courier New"/>
              </a:rPr>
              <a:t>então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US" sz="2000" spc="-1" strike="noStrike" u="sng">
                <a:solidFill>
                  <a:srgbClr val="336699"/>
                </a:solidFill>
                <a:uFillTx/>
                <a:latin typeface="Courier New"/>
              </a:rPr>
              <a:t>Início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cc33"/>
                </a:solidFill>
                <a:latin typeface="Courier New"/>
              </a:rPr>
              <a:t>Comandos1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US" sz="2000" spc="-1" strike="noStrike" u="sng">
                <a:solidFill>
                  <a:srgbClr val="336699"/>
                </a:solidFill>
                <a:uFillTx/>
                <a:latin typeface="Courier New"/>
              </a:rPr>
              <a:t>fim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000" spc="-1" strike="noStrike" u="sng">
                <a:solidFill>
                  <a:srgbClr val="336699"/>
                </a:solidFill>
                <a:uFillTx/>
                <a:latin typeface="Courier New"/>
              </a:rPr>
              <a:t>senão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US" sz="2000" spc="-1" strike="noStrike" u="sng">
                <a:solidFill>
                  <a:srgbClr val="336699"/>
                </a:solidFill>
                <a:uFillTx/>
                <a:latin typeface="Courier New"/>
              </a:rPr>
              <a:t>início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cc33"/>
                </a:solidFill>
                <a:latin typeface="Courier New"/>
              </a:rPr>
              <a:t>Comandos2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US" sz="2000" spc="-1" strike="noStrike" u="sng">
                <a:solidFill>
                  <a:srgbClr val="336699"/>
                </a:solidFill>
                <a:uFillTx/>
                <a:latin typeface="Courier New"/>
              </a:rPr>
              <a:t>fim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Comandos1” são executados se a condição for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VERDADEIRA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; “Comandos2” são executados quando a condição for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FALSA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4876920" y="2514600"/>
            <a:ext cx="2209680" cy="990720"/>
            <a:chOff x="4876920" y="2514600"/>
            <a:chExt cx="2209680" cy="990720"/>
          </a:xfrm>
        </p:grpSpPr>
        <p:sp>
          <p:nvSpPr>
            <p:cNvPr id="236" name=""/>
            <p:cNvSpPr/>
            <p:nvPr/>
          </p:nvSpPr>
          <p:spPr>
            <a:xfrm>
              <a:off x="4876920" y="2514600"/>
              <a:ext cx="228600" cy="9907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86400" y="27432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6699"/>
                  </a:solidFill>
                  <a:latin typeface="Times New Roman"/>
                </a:rPr>
                <a:t>Bloco 1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4876920" y="3733920"/>
            <a:ext cx="2209680" cy="990360"/>
            <a:chOff x="4876920" y="3733920"/>
            <a:chExt cx="2209680" cy="990360"/>
          </a:xfrm>
        </p:grpSpPr>
        <p:sp>
          <p:nvSpPr>
            <p:cNvPr id="239" name=""/>
            <p:cNvSpPr/>
            <p:nvPr/>
          </p:nvSpPr>
          <p:spPr>
            <a:xfrm>
              <a:off x="4876920" y="3733920"/>
              <a:ext cx="228600" cy="9903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5560 h 990360"/>
                <a:gd name="textAreaBottom" fmla="*/ 964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86400" y="396216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6699"/>
                  </a:solidFill>
                  <a:latin typeface="Times New Roman"/>
                </a:rPr>
                <a:t>Bloco 2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Condicionais - Fluxograma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828800" y="4267080"/>
            <a:ext cx="1676520" cy="1752840"/>
            <a:chOff x="1828800" y="4267080"/>
            <a:chExt cx="1676520" cy="1752840"/>
          </a:xfrm>
        </p:grpSpPr>
        <p:sp>
          <p:nvSpPr>
            <p:cNvPr id="243" name=""/>
            <p:cNvSpPr/>
            <p:nvPr/>
          </p:nvSpPr>
          <p:spPr>
            <a:xfrm>
              <a:off x="1828800" y="4267080"/>
              <a:ext cx="1676520" cy="762120"/>
            </a:xfrm>
            <a:prstGeom prst="flowChartProcess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Comandos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438280" y="5562720"/>
              <a:ext cx="457200" cy="457200"/>
            </a:xfrm>
            <a:prstGeom prst="flowChartConnector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99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66880" y="5029200"/>
              <a:ext cx="0" cy="53352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2666880" y="2286000"/>
            <a:ext cx="0" cy="533520"/>
          </a:xfrm>
          <a:prstGeom prst="line">
            <a:avLst/>
          </a:prstGeom>
          <a:ln cap="sq" w="28440">
            <a:solidFill>
              <a:srgbClr val="3366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2895480" y="3352680"/>
            <a:ext cx="990720" cy="2438640"/>
            <a:chOff x="2895480" y="3352680"/>
            <a:chExt cx="990720" cy="2438640"/>
          </a:xfrm>
        </p:grpSpPr>
        <p:sp>
          <p:nvSpPr>
            <p:cNvPr id="248" name=""/>
            <p:cNvSpPr/>
            <p:nvPr/>
          </p:nvSpPr>
          <p:spPr>
            <a:xfrm>
              <a:off x="3429000" y="3352680"/>
              <a:ext cx="457200" cy="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86200" y="3352680"/>
              <a:ext cx="0" cy="243864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2895480" y="5791320"/>
              <a:ext cx="990720" cy="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1905120" y="2819520"/>
            <a:ext cx="1981080" cy="1450080"/>
            <a:chOff x="1905120" y="2819520"/>
            <a:chExt cx="1981080" cy="1450080"/>
          </a:xfrm>
        </p:grpSpPr>
        <p:grpSp>
          <p:nvGrpSpPr>
            <p:cNvPr id="252" name=""/>
            <p:cNvGrpSpPr/>
            <p:nvPr/>
          </p:nvGrpSpPr>
          <p:grpSpPr>
            <a:xfrm>
              <a:off x="1905120" y="2819520"/>
              <a:ext cx="1523880" cy="1450080"/>
              <a:chOff x="1905120" y="2819520"/>
              <a:chExt cx="1523880" cy="145008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1905120" y="2819520"/>
                <a:ext cx="1523880" cy="1447560"/>
                <a:chOff x="1905120" y="2819520"/>
                <a:chExt cx="1523880" cy="144756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1905120" y="2819520"/>
                  <a:ext cx="1523880" cy="1066680"/>
                </a:xfrm>
                <a:prstGeom prst="flowChartDecision">
                  <a:avLst/>
                </a:prstGeom>
                <a:solidFill>
                  <a:srgbClr val="66ccff"/>
                </a:solidFill>
                <a:ln cap="sq" w="1260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6699"/>
                      </a:solidFill>
                      <a:latin typeface="Arial"/>
                    </a:rPr>
                    <a:t>Condição</a:t>
                  </a:r>
                  <a:endParaRPr b="0" lang="en-US" sz="20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666880" y="3886200"/>
                  <a:ext cx="0" cy="380880"/>
                </a:xfrm>
                <a:prstGeom prst="line">
                  <a:avLst/>
                </a:prstGeom>
                <a:ln cap="sq" w="28440">
                  <a:solidFill>
                    <a:srgbClr val="336699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" name=""/>
              <p:cNvSpPr/>
              <p:nvPr/>
            </p:nvSpPr>
            <p:spPr>
              <a:xfrm>
                <a:off x="2209680" y="38098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Arial"/>
                  </a:rPr>
                  <a:t>V</a:t>
                </a:r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3505320" y="2971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2209680" y="6172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99"/>
                </a:solidFill>
                <a:latin typeface="Times New Roman"/>
              </a:rPr>
              <a:t>Tipo 1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86400" y="2209680"/>
            <a:ext cx="0" cy="533520"/>
          </a:xfrm>
          <a:prstGeom prst="line">
            <a:avLst/>
          </a:prstGeom>
          <a:ln cap="sq" w="28440">
            <a:solidFill>
              <a:srgbClr val="3366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4724280" y="2743200"/>
            <a:ext cx="1981080" cy="1450080"/>
            <a:chOff x="4724280" y="2743200"/>
            <a:chExt cx="1981080" cy="1450080"/>
          </a:xfrm>
        </p:grpSpPr>
        <p:grpSp>
          <p:nvGrpSpPr>
            <p:cNvPr id="261" name=""/>
            <p:cNvGrpSpPr/>
            <p:nvPr/>
          </p:nvGrpSpPr>
          <p:grpSpPr>
            <a:xfrm>
              <a:off x="4724280" y="2743200"/>
              <a:ext cx="1523880" cy="1450080"/>
              <a:chOff x="4724280" y="2743200"/>
              <a:chExt cx="1523880" cy="145008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4724280" y="2743200"/>
                <a:ext cx="1523880" cy="1447560"/>
                <a:chOff x="4724280" y="2743200"/>
                <a:chExt cx="1523880" cy="144756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4724280" y="2743200"/>
                  <a:ext cx="1523880" cy="1066680"/>
                </a:xfrm>
                <a:prstGeom prst="flowChartDecision">
                  <a:avLst/>
                </a:prstGeom>
                <a:solidFill>
                  <a:srgbClr val="66ccff"/>
                </a:solidFill>
                <a:ln cap="sq" w="1260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6699"/>
                      </a:solidFill>
                      <a:latin typeface="Arial"/>
                    </a:rPr>
                    <a:t>Condição</a:t>
                  </a:r>
                  <a:endParaRPr b="0" lang="en-US" sz="20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486040" y="3809880"/>
                  <a:ext cx="0" cy="380880"/>
                </a:xfrm>
                <a:prstGeom prst="line">
                  <a:avLst/>
                </a:prstGeom>
                <a:ln cap="sq" w="28440">
                  <a:solidFill>
                    <a:srgbClr val="336699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5028840" y="373356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Arial"/>
                  </a:rPr>
                  <a:t>V</a:t>
                </a:r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6324480" y="2895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648320" y="4191120"/>
            <a:ext cx="1676160" cy="1752480"/>
            <a:chOff x="4648320" y="4191120"/>
            <a:chExt cx="1676160" cy="1752480"/>
          </a:xfrm>
        </p:grpSpPr>
        <p:sp>
          <p:nvSpPr>
            <p:cNvPr id="268" name=""/>
            <p:cNvSpPr/>
            <p:nvPr/>
          </p:nvSpPr>
          <p:spPr>
            <a:xfrm>
              <a:off x="4648320" y="4191120"/>
              <a:ext cx="1676160" cy="761760"/>
            </a:xfrm>
            <a:prstGeom prst="flowChartProcess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Comandos1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57800" y="5486400"/>
              <a:ext cx="457200" cy="457200"/>
            </a:xfrm>
            <a:prstGeom prst="flowChartConnector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99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86400" y="4952880"/>
              <a:ext cx="0" cy="53352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5714640" y="3276720"/>
            <a:ext cx="2819880" cy="2438280"/>
            <a:chOff x="5714640" y="3276720"/>
            <a:chExt cx="2819880" cy="2438280"/>
          </a:xfrm>
        </p:grpSpPr>
        <p:sp>
          <p:nvSpPr>
            <p:cNvPr id="272" name=""/>
            <p:cNvSpPr/>
            <p:nvPr/>
          </p:nvSpPr>
          <p:spPr>
            <a:xfrm>
              <a:off x="6248520" y="3276720"/>
              <a:ext cx="1447560" cy="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96080" y="3276720"/>
              <a:ext cx="0" cy="91440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58000" y="4191120"/>
              <a:ext cx="1676520" cy="761760"/>
            </a:xfrm>
            <a:prstGeom prst="flowChartProcess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Comandos2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696080" y="4952880"/>
              <a:ext cx="0" cy="76212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5714640" y="5715000"/>
              <a:ext cx="1981080" cy="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5867280" y="6172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99"/>
                </a:solidFill>
                <a:latin typeface="Times New Roman"/>
              </a:rPr>
              <a:t>Tipo 2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1295280" y="1676160"/>
            <a:ext cx="784728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Relacionam DUAS grandezas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O resultado da relação pode ser Falso ou Verdadeiro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 igual a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diferente de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&gt;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 maior que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 menor que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maior ou igual a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menor ou igual a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Exemplos: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Operadores Relacionai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52480" y="5105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3 &gt; 2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54440" y="5511960"/>
            <a:ext cx="1839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52480" y="5486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5 &lt; 3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43200" y="5486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52480" y="5867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5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745000" y="5143680"/>
            <a:ext cx="383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19520" y="5867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Depende do valor de x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Operadores Lógico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Relacionam duas ou mais grandezas lógicas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O resultado de uma operação lógica é um valor lógico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Os valores lógicos são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ALSO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VERDADEIRO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Operador Lógico E (AND)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abela Verdad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 Saíd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    F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    F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    F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    V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600200" y="2286000"/>
            <a:ext cx="6629400" cy="2895480"/>
            <a:chOff x="1600200" y="2286000"/>
            <a:chExt cx="6629400" cy="2895480"/>
          </a:xfrm>
        </p:grpSpPr>
        <p:sp>
          <p:nvSpPr>
            <p:cNvPr id="292" name=""/>
            <p:cNvSpPr/>
            <p:nvPr/>
          </p:nvSpPr>
          <p:spPr>
            <a:xfrm>
              <a:off x="1600200" y="2286000"/>
              <a:ext cx="6629400" cy="533520"/>
            </a:xfrm>
            <a:prstGeom prst="rect">
              <a:avLst/>
            </a:prstGeom>
            <a:noFill/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600200" y="2819520"/>
              <a:ext cx="6629400" cy="2361960"/>
            </a:xfrm>
            <a:prstGeom prst="rect">
              <a:avLst/>
            </a:prstGeom>
            <a:noFill/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257800" y="2286000"/>
              <a:ext cx="0" cy="2895480"/>
            </a:xfrm>
            <a:prstGeom prst="line">
              <a:avLst/>
            </a:prstGeom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76720" y="2286000"/>
              <a:ext cx="0" cy="2895480"/>
            </a:xfrm>
            <a:prstGeom prst="line">
              <a:avLst/>
            </a:prstGeom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Operador Lógico OU (OR)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371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abela Verdad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 Saída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    F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    V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    V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    V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600200" y="2362320"/>
            <a:ext cx="6629400" cy="2895480"/>
            <a:chOff x="1600200" y="2362320"/>
            <a:chExt cx="6629400" cy="2895480"/>
          </a:xfrm>
        </p:grpSpPr>
        <p:sp>
          <p:nvSpPr>
            <p:cNvPr id="299" name=""/>
            <p:cNvSpPr/>
            <p:nvPr/>
          </p:nvSpPr>
          <p:spPr>
            <a:xfrm>
              <a:off x="1600200" y="2362320"/>
              <a:ext cx="6629400" cy="533520"/>
            </a:xfrm>
            <a:prstGeom prst="rect">
              <a:avLst/>
            </a:prstGeom>
            <a:noFill/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600200" y="2895840"/>
              <a:ext cx="6629400" cy="2361960"/>
            </a:xfrm>
            <a:prstGeom prst="rect">
              <a:avLst/>
            </a:prstGeom>
            <a:noFill/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57800" y="2362320"/>
              <a:ext cx="0" cy="2895480"/>
            </a:xfrm>
            <a:prstGeom prst="line">
              <a:avLst/>
            </a:prstGeom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76720" y="2362320"/>
              <a:ext cx="0" cy="2895480"/>
            </a:xfrm>
            <a:prstGeom prst="line">
              <a:avLst/>
            </a:prstGeom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Operador Lógico NÃO (NOT)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abela Verdad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Saíd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    V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    F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209680" y="2895480"/>
            <a:ext cx="5867640" cy="1676520"/>
            <a:chOff x="2209680" y="2895480"/>
            <a:chExt cx="5867640" cy="1676520"/>
          </a:xfrm>
        </p:grpSpPr>
        <p:sp>
          <p:nvSpPr>
            <p:cNvPr id="306" name=""/>
            <p:cNvSpPr/>
            <p:nvPr/>
          </p:nvSpPr>
          <p:spPr>
            <a:xfrm>
              <a:off x="2209680" y="2895480"/>
              <a:ext cx="5867640" cy="533520"/>
            </a:xfrm>
            <a:prstGeom prst="rect">
              <a:avLst/>
            </a:prstGeom>
            <a:noFill/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209680" y="3429000"/>
              <a:ext cx="5867640" cy="1143000"/>
            </a:xfrm>
            <a:prstGeom prst="rect">
              <a:avLst/>
            </a:prstGeom>
            <a:noFill/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29200" y="2895480"/>
              <a:ext cx="0" cy="1676520"/>
            </a:xfrm>
            <a:prstGeom prst="line">
              <a:avLst/>
            </a:prstGeom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1752480" y="4952880"/>
            <a:ext cx="662940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ff"/>
                </a:solidFill>
                <a:latin typeface="Arial"/>
              </a:rPr>
              <a:t>Obs.: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ff"/>
                </a:solidFill>
                <a:latin typeface="Arial"/>
              </a:rPr>
              <a:t>NÃO (F) = V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ff"/>
                </a:solidFill>
                <a:latin typeface="Arial"/>
              </a:rPr>
              <a:t>NÃO (NÃO (F)) = F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ff"/>
                </a:solidFill>
                <a:latin typeface="Arial"/>
              </a:rPr>
              <a:t>NÃO (NÃO (NÃO (F))) = V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ondições: Exempl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Exemplo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Courier New"/>
              </a:rPr>
              <a:t>Se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Courier New"/>
              </a:rPr>
              <a:t>(x&gt;2) e (y&lt;4)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Courier New"/>
              </a:rPr>
              <a:t>entã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Courier New"/>
              </a:rPr>
              <a:t>Escreva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 x + y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Courier New"/>
              </a:rPr>
              <a:t>senã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Courier New"/>
              </a:rPr>
              <a:t>iníci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   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Courier New"/>
              </a:rPr>
              <a:t>Escreva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 x - y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   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Courier New"/>
              </a:rPr>
              <a:t>Escreva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 x * y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Courier New"/>
              </a:rPr>
              <a:t>fim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752480" y="3352680"/>
            <a:ext cx="4343400" cy="2847960"/>
            <a:chOff x="1752480" y="3352680"/>
            <a:chExt cx="4343400" cy="2847960"/>
          </a:xfrm>
        </p:grpSpPr>
        <p:sp>
          <p:nvSpPr>
            <p:cNvPr id="313" name=""/>
            <p:cNvSpPr/>
            <p:nvPr/>
          </p:nvSpPr>
          <p:spPr>
            <a:xfrm>
              <a:off x="1752480" y="3429000"/>
              <a:ext cx="4343400" cy="251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pic>
          <p:nvPicPr>
            <p:cNvPr id="314" name="" descr=""/>
            <p:cNvPicPr/>
            <p:nvPr/>
          </p:nvPicPr>
          <p:blipFill>
            <a:blip r:embed="rId1"/>
            <a:stretch/>
          </p:blipFill>
          <p:spPr>
            <a:xfrm>
              <a:off x="2971800" y="3352680"/>
              <a:ext cx="2332080" cy="2847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Pseudocódigo: Laço Repita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37016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aço REPITA...ATÉ QU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336699"/>
                </a:solidFill>
                <a:uFillTx/>
                <a:latin typeface="Courier New"/>
              </a:rPr>
              <a:t>repita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cc33"/>
                </a:solidFill>
                <a:latin typeface="Courier New"/>
              </a:rPr>
              <a:t>comando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336699"/>
                </a:solidFill>
                <a:uFillTx/>
                <a:latin typeface="Courier New"/>
              </a:rPr>
              <a:t>até</a:t>
            </a:r>
            <a:r>
              <a:rPr b="1" lang="en-US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2400" spc="-1" strike="noStrike" u="sng">
                <a:solidFill>
                  <a:srgbClr val="336699"/>
                </a:solidFill>
                <a:uFillTx/>
                <a:latin typeface="Courier New"/>
              </a:rPr>
              <a:t>que</a:t>
            </a:r>
            <a:r>
              <a:rPr b="1" lang="en-US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cc33"/>
                </a:solidFill>
                <a:latin typeface="Courier New"/>
              </a:rPr>
              <a:t>condiçã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O laço termina quando a condição for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VERDADEIRA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condição é do mesmo tipo da usada nos condicionais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5029200" y="2590920"/>
            <a:ext cx="2438280" cy="685800"/>
            <a:chOff x="5029200" y="2590920"/>
            <a:chExt cx="2438280" cy="685800"/>
          </a:xfrm>
        </p:grpSpPr>
        <p:sp>
          <p:nvSpPr>
            <p:cNvPr id="318" name=""/>
            <p:cNvSpPr/>
            <p:nvPr/>
          </p:nvSpPr>
          <p:spPr>
            <a:xfrm>
              <a:off x="5029200" y="2590920"/>
              <a:ext cx="76320" cy="68580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05520" y="266688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6699"/>
                  </a:solidFill>
                  <a:latin typeface="Times New Roman"/>
                </a:rPr>
                <a:t>Bloco de comandos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Algoritmos &amp; Receita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Uma receita apresenta certa semelhança com algoritmos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ENTRADA: São os ingredientes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PROCESSAMENTO: Modo de prepar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AÍDA: O alimento pronto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Laço Repita - Fluxograma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4191120" y="1828800"/>
            <a:ext cx="457200" cy="838080"/>
            <a:chOff x="4191120" y="1828800"/>
            <a:chExt cx="457200" cy="838080"/>
          </a:xfrm>
        </p:grpSpPr>
        <p:sp>
          <p:nvSpPr>
            <p:cNvPr id="322" name=""/>
            <p:cNvSpPr/>
            <p:nvPr/>
          </p:nvSpPr>
          <p:spPr>
            <a:xfrm>
              <a:off x="4419720" y="1828800"/>
              <a:ext cx="0" cy="38088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191120" y="2209680"/>
              <a:ext cx="457200" cy="457200"/>
            </a:xfrm>
            <a:prstGeom prst="flowChartConnector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99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1280" y="2666880"/>
            <a:ext cx="1676160" cy="1295280"/>
            <a:chOff x="3581280" y="2666880"/>
            <a:chExt cx="1676160" cy="1295280"/>
          </a:xfrm>
        </p:grpSpPr>
        <p:sp>
          <p:nvSpPr>
            <p:cNvPr id="325" name=""/>
            <p:cNvSpPr/>
            <p:nvPr/>
          </p:nvSpPr>
          <p:spPr>
            <a:xfrm>
              <a:off x="3581280" y="3200400"/>
              <a:ext cx="1676160" cy="761760"/>
            </a:xfrm>
            <a:prstGeom prst="flowChartProcess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Comandos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19360" y="2666880"/>
              <a:ext cx="0" cy="53352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3352680" y="2438280"/>
            <a:ext cx="2895480" cy="3809880"/>
            <a:chOff x="3352680" y="2438280"/>
            <a:chExt cx="2895480" cy="3809880"/>
          </a:xfrm>
        </p:grpSpPr>
        <p:sp>
          <p:nvSpPr>
            <p:cNvPr id="328" name=""/>
            <p:cNvSpPr/>
            <p:nvPr/>
          </p:nvSpPr>
          <p:spPr>
            <a:xfrm>
              <a:off x="4419360" y="3962160"/>
              <a:ext cx="0" cy="45720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352680" y="4419360"/>
              <a:ext cx="2133360" cy="1371600"/>
            </a:xfrm>
            <a:prstGeom prst="flowChartDecision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Condição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19360" y="5790960"/>
              <a:ext cx="0" cy="45720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486040" y="5105160"/>
              <a:ext cx="762120" cy="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6248160" y="2438280"/>
              <a:ext cx="0" cy="266688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4647600" y="2438280"/>
              <a:ext cx="1600200" cy="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71640" y="56386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10080" y="51051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Laço Repita: Exempl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i </a:t>
            </a:r>
            <a:r>
              <a:rPr b="1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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  0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Courier New"/>
              </a:rPr>
              <a:t>repit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Courier New"/>
              </a:rPr>
              <a:t>Escreva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 i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i </a:t>
            </a:r>
            <a:r>
              <a:rPr b="1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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  i + 1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Courier New"/>
              </a:rPr>
              <a:t>até que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Courier New"/>
              </a:rPr>
              <a:t>i &gt; 5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O que faz o laço acima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Pseudocódigo: Laço Enquant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78472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Laço ENQUANTO...FAÇ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400" spc="-1" strike="noStrike" u="sng">
                <a:solidFill>
                  <a:srgbClr val="336699"/>
                </a:solidFill>
                <a:uFillTx/>
                <a:latin typeface="Courier New"/>
              </a:rPr>
              <a:t>Enquanto</a:t>
            </a:r>
            <a:r>
              <a:rPr b="1" lang="pt-BR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33cc33"/>
                </a:solidFill>
                <a:latin typeface="Courier New"/>
              </a:rPr>
              <a:t>condição</a:t>
            </a:r>
            <a:r>
              <a:rPr b="1" lang="pt-BR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pt-BR" sz="2400" spc="-1" strike="noStrike" u="sng">
                <a:solidFill>
                  <a:srgbClr val="336699"/>
                </a:solidFill>
                <a:uFillTx/>
                <a:latin typeface="Courier New"/>
              </a:rPr>
              <a:t>faça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336699"/>
                </a:solidFill>
                <a:latin typeface="Courier New"/>
              </a:rPr>
              <a:t>   </a:t>
            </a:r>
            <a:r>
              <a:rPr b="1" lang="pt-BR" sz="2400" spc="-1" strike="noStrike" u="sng">
                <a:solidFill>
                  <a:srgbClr val="336699"/>
                </a:solidFill>
                <a:uFillTx/>
                <a:latin typeface="Courier New"/>
              </a:rPr>
              <a:t>iníci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336699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33cc33"/>
                </a:solidFill>
                <a:latin typeface="Courier New"/>
              </a:rPr>
              <a:t>comando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Courier New"/>
              </a:rPr>
              <a:t>     </a:t>
            </a:r>
            <a:r>
              <a:rPr b="1" lang="pt-BR" sz="2400" spc="-1" strike="noStrike" u="sng">
                <a:solidFill>
                  <a:srgbClr val="336699"/>
                </a:solidFill>
                <a:uFillTx/>
                <a:latin typeface="Courier New"/>
              </a:rPr>
              <a:t>fim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O laço termina quando a condição for </a:t>
            </a:r>
            <a:r>
              <a:rPr b="1" lang="pt-BR" sz="3200" spc="-1" strike="noStrike">
                <a:solidFill>
                  <a:srgbClr val="ff3300"/>
                </a:solidFill>
                <a:latin typeface="Arial"/>
              </a:rPr>
              <a:t>FALSA</a:t>
            </a: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A condição é a mesma utilizada pelos condicionais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895480"/>
            <a:ext cx="3047760" cy="1219320"/>
            <a:chOff x="4876920" y="2895480"/>
            <a:chExt cx="3047760" cy="1219320"/>
          </a:xfrm>
        </p:grpSpPr>
        <p:sp>
          <p:nvSpPr>
            <p:cNvPr id="341" name=""/>
            <p:cNvSpPr/>
            <p:nvPr/>
          </p:nvSpPr>
          <p:spPr>
            <a:xfrm>
              <a:off x="4876920" y="2895480"/>
              <a:ext cx="304560" cy="121932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257800" y="327672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699"/>
                  </a:solidFill>
                  <a:latin typeface="Times New Roman"/>
                </a:rPr>
                <a:t>Bloco de Comandos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Laço Enquanto - Fluxograma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4191120" y="1371600"/>
            <a:ext cx="609480" cy="1066680"/>
            <a:chOff x="4191120" y="1371600"/>
            <a:chExt cx="609480" cy="1066680"/>
          </a:xfrm>
        </p:grpSpPr>
        <p:sp>
          <p:nvSpPr>
            <p:cNvPr id="345" name=""/>
            <p:cNvSpPr/>
            <p:nvPr/>
          </p:nvSpPr>
          <p:spPr>
            <a:xfrm>
              <a:off x="4191120" y="1828800"/>
              <a:ext cx="609480" cy="609480"/>
            </a:xfrm>
            <a:prstGeom prst="flowChartConnector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99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95680" y="1371600"/>
              <a:ext cx="0" cy="45720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047760" y="2133720"/>
            <a:ext cx="2362320" cy="3047760"/>
            <a:chOff x="3047760" y="2133720"/>
            <a:chExt cx="2362320" cy="3047760"/>
          </a:xfrm>
        </p:grpSpPr>
        <p:sp>
          <p:nvSpPr>
            <p:cNvPr id="348" name=""/>
            <p:cNvSpPr/>
            <p:nvPr/>
          </p:nvSpPr>
          <p:spPr>
            <a:xfrm>
              <a:off x="3581280" y="4419720"/>
              <a:ext cx="1828800" cy="761760"/>
            </a:xfrm>
            <a:prstGeom prst="flowChartProcess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Comandos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047760" y="4800600"/>
              <a:ext cx="533160" cy="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3048120" y="2133720"/>
              <a:ext cx="0" cy="266688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48120" y="2133720"/>
              <a:ext cx="1143000" cy="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4114800" y="3429000"/>
            <a:ext cx="2209680" cy="2971800"/>
            <a:chOff x="4114800" y="3429000"/>
            <a:chExt cx="2209680" cy="2971800"/>
          </a:xfrm>
        </p:grpSpPr>
        <p:sp>
          <p:nvSpPr>
            <p:cNvPr id="353" name=""/>
            <p:cNvSpPr/>
            <p:nvPr/>
          </p:nvSpPr>
          <p:spPr>
            <a:xfrm>
              <a:off x="4114800" y="5486400"/>
              <a:ext cx="609480" cy="609480"/>
            </a:xfrm>
            <a:prstGeom prst="flowChartConnector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99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410080" y="3429000"/>
              <a:ext cx="914400" cy="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24480" y="3429000"/>
              <a:ext cx="0" cy="236232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4723920" y="5791320"/>
              <a:ext cx="1600200" cy="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419720" y="6095880"/>
              <a:ext cx="0" cy="30492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3581280" y="2438280"/>
            <a:ext cx="2133720" cy="1981440"/>
            <a:chOff x="3581280" y="2438280"/>
            <a:chExt cx="2133720" cy="1981440"/>
          </a:xfrm>
        </p:grpSpPr>
        <p:grpSp>
          <p:nvGrpSpPr>
            <p:cNvPr id="359" name=""/>
            <p:cNvGrpSpPr/>
            <p:nvPr/>
          </p:nvGrpSpPr>
          <p:grpSpPr>
            <a:xfrm>
              <a:off x="3581280" y="2438280"/>
              <a:ext cx="1828800" cy="1981440"/>
              <a:chOff x="3581280" y="2438280"/>
              <a:chExt cx="1828800" cy="1981440"/>
            </a:xfrm>
          </p:grpSpPr>
          <p:sp>
            <p:nvSpPr>
              <p:cNvPr id="360" name=""/>
              <p:cNvSpPr/>
              <p:nvPr/>
            </p:nvSpPr>
            <p:spPr>
              <a:xfrm>
                <a:off x="4495680" y="2438280"/>
                <a:ext cx="0" cy="381240"/>
              </a:xfrm>
              <a:prstGeom prst="line">
                <a:avLst/>
              </a:prstGeom>
              <a:ln cap="sq" w="28440">
                <a:solidFill>
                  <a:srgbClr val="336699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581280" y="2819520"/>
                <a:ext cx="1828800" cy="1218960"/>
              </a:xfrm>
              <a:prstGeom prst="flowChartDecision">
                <a:avLst/>
              </a:prstGeom>
              <a:solidFill>
                <a:srgbClr val="66ccff"/>
              </a:solidFill>
              <a:ln cap="sq"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6699"/>
                    </a:solidFill>
                    <a:latin typeface="Arial"/>
                  </a:rPr>
                  <a:t>Condição</a:t>
                </a:r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495680" y="4038480"/>
                <a:ext cx="0" cy="381240"/>
              </a:xfrm>
              <a:prstGeom prst="line">
                <a:avLst/>
              </a:prstGeom>
              <a:ln cap="sq" w="28440">
                <a:solidFill>
                  <a:srgbClr val="336699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457200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34120" y="3352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Laço Enquanto: Exempl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i </a:t>
            </a:r>
            <a:r>
              <a:rPr b="1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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 0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Courier New"/>
              </a:rPr>
              <a:t>Enquanto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Courier New"/>
              </a:rPr>
              <a:t>i </a:t>
            </a:r>
            <a:r>
              <a:rPr b="1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33cc33"/>
                </a:solidFill>
                <a:latin typeface="Courier New"/>
              </a:rPr>
              <a:t> 5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Courier New"/>
              </a:rPr>
              <a:t>faç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Courier New"/>
              </a:rPr>
              <a:t>iníci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i </a:t>
            </a:r>
            <a:r>
              <a:rPr b="1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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 i + 1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   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Courier New"/>
              </a:rPr>
              <a:t>Escreva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 i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Courier New"/>
              </a:rPr>
              <a:t>fim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O que faz o laço acima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Pseudocódigo: Laço Para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Courier New"/>
              </a:rPr>
              <a:t>Para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Courier New"/>
              </a:rPr>
              <a:t>VC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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VI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Courier New"/>
              </a:rPr>
              <a:t>até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66ff"/>
                </a:solidFill>
                <a:latin typeface="Courier New"/>
              </a:rPr>
              <a:t>VF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Courier New"/>
              </a:rPr>
              <a:t>faç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Courier New"/>
              </a:rPr>
              <a:t>iníci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33cc33"/>
                </a:solidFill>
                <a:latin typeface="Courier New"/>
              </a:rPr>
              <a:t>comando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Courier New"/>
              </a:rPr>
              <a:t>fim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VC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: Variável Contadora (inteiro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VI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: Valor Inicial (inteiro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VF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: Valor Final (inteiro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VC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 é inicializada com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VI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 e incrementada d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1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té atingir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VF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, quando o laço para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5410080" y="2362320"/>
            <a:ext cx="2971800" cy="1371600"/>
            <a:chOff x="5410080" y="2362320"/>
            <a:chExt cx="2971800" cy="1371600"/>
          </a:xfrm>
        </p:grpSpPr>
        <p:sp>
          <p:nvSpPr>
            <p:cNvPr id="370" name=""/>
            <p:cNvSpPr/>
            <p:nvPr/>
          </p:nvSpPr>
          <p:spPr>
            <a:xfrm>
              <a:off x="5410080" y="2362320"/>
              <a:ext cx="381240" cy="137160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91320" y="281952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699"/>
                  </a:solidFill>
                  <a:latin typeface="Times New Roman"/>
                </a:rPr>
                <a:t>Bloco de comandos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Laço Para - Fluxograma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71600" y="1371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336699"/>
                </a:solidFill>
                <a:latin typeface="Arial"/>
              </a:rPr>
              <a:t>O fluxograma não possui estrutura Para. Ela deve ser feita usando a estrutura Enquanto...faça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3809880" y="1828800"/>
            <a:ext cx="1067040" cy="838080"/>
            <a:chOff x="3809880" y="1828800"/>
            <a:chExt cx="1067040" cy="838080"/>
          </a:xfrm>
        </p:grpSpPr>
        <p:sp>
          <p:nvSpPr>
            <p:cNvPr id="375" name=""/>
            <p:cNvSpPr/>
            <p:nvPr/>
          </p:nvSpPr>
          <p:spPr>
            <a:xfrm>
              <a:off x="4343400" y="1828800"/>
              <a:ext cx="0" cy="30492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809880" y="2133720"/>
              <a:ext cx="1067040" cy="533160"/>
            </a:xfrm>
            <a:prstGeom prst="flowChartProcess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VC</a:t>
              </a:r>
              <a:r>
                <a:rPr b="1" lang="en-US" sz="20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</a:t>
              </a: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VI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2971440" y="3429000"/>
            <a:ext cx="2134080" cy="2057400"/>
            <a:chOff x="2971440" y="3429000"/>
            <a:chExt cx="2134080" cy="2057400"/>
          </a:xfrm>
        </p:grpSpPr>
        <p:sp>
          <p:nvSpPr>
            <p:cNvPr id="378" name=""/>
            <p:cNvSpPr/>
            <p:nvPr/>
          </p:nvSpPr>
          <p:spPr>
            <a:xfrm>
              <a:off x="3581280" y="4191120"/>
              <a:ext cx="1524240" cy="533160"/>
            </a:xfrm>
            <a:prstGeom prst="flowChartProcess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Comandos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343400" y="4724280"/>
              <a:ext cx="0" cy="30492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581280" y="5029200"/>
              <a:ext cx="1524240" cy="457200"/>
            </a:xfrm>
            <a:prstGeom prst="flowChartProcess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VC</a:t>
              </a:r>
              <a:r>
                <a:rPr b="1" lang="en-US" sz="20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</a:t>
              </a: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VC+1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2971440" y="5257800"/>
              <a:ext cx="609480" cy="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2971800" y="3429000"/>
              <a:ext cx="0" cy="182880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971800" y="3429000"/>
              <a:ext cx="609480" cy="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4038480" y="3429000"/>
            <a:ext cx="1828800" cy="3124080"/>
            <a:chOff x="4038480" y="3429000"/>
            <a:chExt cx="1828800" cy="3124080"/>
          </a:xfrm>
        </p:grpSpPr>
        <p:sp>
          <p:nvSpPr>
            <p:cNvPr id="385" name=""/>
            <p:cNvSpPr/>
            <p:nvPr/>
          </p:nvSpPr>
          <p:spPr>
            <a:xfrm>
              <a:off x="5105520" y="3429000"/>
              <a:ext cx="761760" cy="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867280" y="3429000"/>
              <a:ext cx="0" cy="259092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38480" y="5715000"/>
              <a:ext cx="609840" cy="609480"/>
            </a:xfrm>
            <a:prstGeom prst="flowChartConnector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99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4648320" y="6019920"/>
              <a:ext cx="1218960" cy="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43400" y="6324480"/>
              <a:ext cx="0" cy="22860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3581280" y="2666880"/>
            <a:ext cx="1905120" cy="1524240"/>
            <a:chOff x="3581280" y="2666880"/>
            <a:chExt cx="1905120" cy="1524240"/>
          </a:xfrm>
        </p:grpSpPr>
        <p:grpSp>
          <p:nvGrpSpPr>
            <p:cNvPr id="391" name=""/>
            <p:cNvGrpSpPr/>
            <p:nvPr/>
          </p:nvGrpSpPr>
          <p:grpSpPr>
            <a:xfrm>
              <a:off x="3581280" y="2666880"/>
              <a:ext cx="1524240" cy="1524240"/>
              <a:chOff x="3581280" y="2666880"/>
              <a:chExt cx="1524240" cy="1524240"/>
            </a:xfrm>
          </p:grpSpPr>
          <p:sp>
            <p:nvSpPr>
              <p:cNvPr id="392" name=""/>
              <p:cNvSpPr/>
              <p:nvPr/>
            </p:nvSpPr>
            <p:spPr>
              <a:xfrm>
                <a:off x="4343400" y="2666880"/>
                <a:ext cx="0" cy="304920"/>
              </a:xfrm>
              <a:prstGeom prst="line">
                <a:avLst/>
              </a:prstGeom>
              <a:ln cap="sq" w="28440">
                <a:solidFill>
                  <a:srgbClr val="336699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581280" y="2971800"/>
                <a:ext cx="1524240" cy="914400"/>
              </a:xfrm>
              <a:prstGeom prst="flowChartDecision">
                <a:avLst/>
              </a:prstGeom>
              <a:solidFill>
                <a:srgbClr val="66ccff"/>
              </a:solidFill>
              <a:ln cap="sq"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99"/>
                    </a:solidFill>
                    <a:latin typeface="Arial"/>
                  </a:rPr>
                  <a:t>VC&gt;VF</a:t>
                </a:r>
                <a:r>
                  <a:rPr b="1" lang="en-US" sz="2000" spc="-1" strike="noStrike">
                    <a:solidFill>
                      <a:srgbClr val="336699"/>
                    </a:solidFill>
                    <a:latin typeface="Courier New"/>
                  </a:rPr>
                  <a:t>?</a:t>
                </a:r>
                <a:endParaRPr b="0" lang="en-US" sz="20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343400" y="3886200"/>
                <a:ext cx="0" cy="304920"/>
              </a:xfrm>
              <a:prstGeom prst="line">
                <a:avLst/>
              </a:prstGeom>
              <a:ln cap="sq" w="28440">
                <a:solidFill>
                  <a:srgbClr val="336699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5105520" y="3352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495680" y="36576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Bibliografia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6699"/>
                </a:solidFill>
                <a:latin typeface="Arial"/>
              </a:rPr>
              <a:t>Algoritmos-Lógica para Desenvolvimento de programação</a:t>
            </a:r>
            <a:r>
              <a:rPr b="0" lang="pt-BR" sz="2000" spc="-1" strike="noStrike">
                <a:solidFill>
                  <a:srgbClr val="336699"/>
                </a:solidFill>
                <a:latin typeface="Arial"/>
              </a:rPr>
              <a:t>. José Augusto N. G. Manzano e Jayr Figueiredo de Oliveira. Ed. Érica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6699"/>
                </a:solidFill>
                <a:latin typeface="Arial"/>
              </a:rPr>
              <a:t>Técnicas de Programação - Uma abordagem estruturada.</a:t>
            </a:r>
            <a:r>
              <a:rPr b="0" lang="pt-BR" sz="2000" spc="-1" strike="noStrike">
                <a:solidFill>
                  <a:srgbClr val="336699"/>
                </a:solidFill>
                <a:latin typeface="Arial"/>
              </a:rPr>
              <a:t> Wlater Luiz Caram Saliba. Makron Books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6699"/>
                </a:solidFill>
                <a:latin typeface="Arial"/>
              </a:rPr>
              <a:t>The Art of Computer Programming - Volume 1 - Fundamental Algorithms (Third Edition)</a:t>
            </a:r>
            <a:r>
              <a:rPr b="0" lang="pt-BR" sz="2000" spc="-1" strike="noStrike">
                <a:solidFill>
                  <a:srgbClr val="336699"/>
                </a:solidFill>
                <a:latin typeface="Arial"/>
              </a:rPr>
              <a:t>. Donald E. Knuth. Addison Wesley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6699"/>
                </a:solidFill>
                <a:latin typeface="Arial"/>
              </a:rPr>
              <a:t>The Art of Computer Programming - Volume 2 - Seminumerical Algorithms (Third Edition)</a:t>
            </a:r>
            <a:r>
              <a:rPr b="0" lang="pt-BR" sz="2000" spc="-1" strike="noStrike">
                <a:solidFill>
                  <a:srgbClr val="336699"/>
                </a:solidFill>
                <a:latin typeface="Arial"/>
              </a:rPr>
              <a:t>. Donald E. Knuth. Addison Wesley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6699"/>
                </a:solidFill>
                <a:latin typeface="Arial"/>
              </a:rPr>
              <a:t>The Art of Computer Programming - Volume 3 -  Sorting and Searchiong (Second Edition)</a:t>
            </a:r>
            <a:r>
              <a:rPr b="0" lang="pt-BR" sz="2000" spc="-1" strike="noStrike">
                <a:solidFill>
                  <a:srgbClr val="336699"/>
                </a:solidFill>
                <a:latin typeface="Arial"/>
              </a:rPr>
              <a:t>. Donald E. Knuth. Addison Wesley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Exemplo: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0160" y="1676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dentifique a entrada, processamento e saída na receita abaixo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2895480"/>
            <a:ext cx="7010640" cy="36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6699"/>
                </a:solidFill>
                <a:latin typeface="Arial"/>
              </a:rPr>
              <a:t>Sanduíche Solduba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336699"/>
                </a:solidFill>
                <a:latin typeface="Arial"/>
              </a:rPr>
              <a:t>Ingredientes: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6699"/>
                </a:solidFill>
                <a:latin typeface="Arial"/>
              </a:rPr>
              <a:t>2 fatias de pão de forma integral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6699"/>
                </a:solidFill>
                <a:latin typeface="Arial"/>
              </a:rPr>
              <a:t>1 tomate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6699"/>
                </a:solidFill>
                <a:latin typeface="Arial"/>
              </a:rPr>
              <a:t>queijo branco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6699"/>
                </a:solidFill>
                <a:latin typeface="Arial"/>
              </a:rPr>
              <a:t>peito de peru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6699"/>
                </a:solidFill>
                <a:latin typeface="Arial"/>
              </a:rPr>
              <a:t>orégano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6699"/>
                </a:solidFill>
                <a:latin typeface="Arial"/>
              </a:rPr>
              <a:t>azeite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6699"/>
                </a:solidFill>
                <a:latin typeface="Arial"/>
              </a:rPr>
              <a:t>sal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336699"/>
                </a:solidFill>
                <a:latin typeface="Arial"/>
              </a:rPr>
              <a:t>Modo de preparo: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6699"/>
                </a:solidFill>
                <a:latin typeface="Arial"/>
              </a:rPr>
              <a:t>Corte o tomate e o queijo branco em fatias finas e coloque sobre o pão. Acrescente o peito de peru, uma pitada de orégano, azeite e sal a gosto. Feche com a outra fatia. Você pode levar o sanduíche ao forno se preferir.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572000" y="2666880"/>
            <a:ext cx="3581280" cy="3048120"/>
            <a:chOff x="4572000" y="2666880"/>
            <a:chExt cx="3581280" cy="304812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867280" y="2666880"/>
              <a:ext cx="2286000" cy="174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4572000" y="3429000"/>
              <a:ext cx="1303200" cy="12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3"/>
            <a:stretch/>
          </p:blipFill>
          <p:spPr>
            <a:xfrm>
              <a:off x="6172200" y="4038480"/>
              <a:ext cx="1616040" cy="1676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Imprecisões das Receita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A linguagem utilizada nas receitas é muito vaga para ser utilizada no desenvolvimento de programas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Por exemplo, na receita anterior não foi especificada a quantidade de queijo nem se o peito de peru deveria ser fatiado ou não!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09880" y="5257800"/>
            <a:ext cx="1905120" cy="13478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Linguagens para algoritmo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0160" y="16761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Para formalizar a construção de algoritmos, são utilizadas as seguintes linguagens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6699"/>
                </a:solidFill>
                <a:latin typeface="Arial"/>
              </a:rPr>
              <a:t>Formato livr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6699"/>
                </a:solidFill>
                <a:latin typeface="Arial"/>
              </a:rPr>
              <a:t>Fluxograma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6699"/>
                </a:solidFill>
                <a:latin typeface="Arial"/>
              </a:rPr>
              <a:t>Pseudocódigo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257800" y="3276720"/>
            <a:ext cx="3191040" cy="3352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Formato livr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onsiste em se escrever os passos necessários numerados item a item. Exemplo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Arial"/>
              </a:rPr>
              <a:t>1- Introduzir o primeiro valor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Arial"/>
              </a:rPr>
              <a:t>2- Introduzir o segundo valor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Arial"/>
              </a:rPr>
              <a:t>3 - Somar os dois valor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Arial"/>
              </a:rPr>
              <a:t>4 - Mostrar o resultad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(O que faz o algoritmo acima?)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089480" y="3001680"/>
            <a:ext cx="1639800" cy="3508560"/>
            <a:chOff x="7089480" y="3001680"/>
            <a:chExt cx="1639800" cy="3508560"/>
          </a:xfrm>
        </p:grpSpPr>
        <p:grpSp>
          <p:nvGrpSpPr>
            <p:cNvPr id="123" name=""/>
            <p:cNvGrpSpPr/>
            <p:nvPr/>
          </p:nvGrpSpPr>
          <p:grpSpPr>
            <a:xfrm>
              <a:off x="7089480" y="3246480"/>
              <a:ext cx="1639800" cy="3263760"/>
              <a:chOff x="7089480" y="3246480"/>
              <a:chExt cx="1639800" cy="3263760"/>
            </a:xfrm>
          </p:grpSpPr>
          <p:sp>
            <p:nvSpPr>
              <p:cNvPr id="124" name=""/>
              <p:cNvSpPr/>
              <p:nvPr/>
            </p:nvSpPr>
            <p:spPr>
              <a:xfrm flipH="1">
                <a:off x="7563960" y="3429000"/>
                <a:ext cx="642960" cy="712800"/>
              </a:xfrm>
              <a:custGeom>
                <a:avLst/>
                <a:gdLst/>
                <a:ahLst/>
                <a:rect l="l" t="t" r="r" b="b"/>
                <a:pathLst>
                  <a:path w="810" h="898">
                    <a:moveTo>
                      <a:pt x="422" y="207"/>
                    </a:moveTo>
                    <a:lnTo>
                      <a:pt x="351" y="115"/>
                    </a:lnTo>
                    <a:lnTo>
                      <a:pt x="252" y="46"/>
                    </a:lnTo>
                    <a:lnTo>
                      <a:pt x="163" y="0"/>
                    </a:lnTo>
                    <a:lnTo>
                      <a:pt x="92" y="12"/>
                    </a:lnTo>
                    <a:lnTo>
                      <a:pt x="41" y="63"/>
                    </a:lnTo>
                    <a:lnTo>
                      <a:pt x="0" y="219"/>
                    </a:lnTo>
                    <a:lnTo>
                      <a:pt x="16" y="398"/>
                    </a:lnTo>
                    <a:lnTo>
                      <a:pt x="59" y="570"/>
                    </a:lnTo>
                    <a:lnTo>
                      <a:pt x="105" y="703"/>
                    </a:lnTo>
                    <a:lnTo>
                      <a:pt x="193" y="841"/>
                    </a:lnTo>
                    <a:lnTo>
                      <a:pt x="270" y="898"/>
                    </a:lnTo>
                    <a:lnTo>
                      <a:pt x="374" y="898"/>
                    </a:lnTo>
                    <a:lnTo>
                      <a:pt x="480" y="859"/>
                    </a:lnTo>
                    <a:lnTo>
                      <a:pt x="533" y="759"/>
                    </a:lnTo>
                    <a:lnTo>
                      <a:pt x="562" y="634"/>
                    </a:lnTo>
                    <a:lnTo>
                      <a:pt x="551" y="478"/>
                    </a:lnTo>
                    <a:lnTo>
                      <a:pt x="797" y="496"/>
                    </a:lnTo>
                    <a:lnTo>
                      <a:pt x="810" y="426"/>
                    </a:lnTo>
                    <a:lnTo>
                      <a:pt x="528" y="398"/>
                    </a:lnTo>
                    <a:lnTo>
                      <a:pt x="457" y="237"/>
                    </a:lnTo>
                    <a:lnTo>
                      <a:pt x="422" y="207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7989120" y="3246480"/>
                <a:ext cx="739800" cy="1143000"/>
              </a:xfrm>
              <a:custGeom>
                <a:avLst/>
                <a:gdLst/>
                <a:ahLst/>
                <a:rect l="l" t="t" r="r" b="b"/>
                <a:pathLst>
                  <a:path w="931" h="1440">
                    <a:moveTo>
                      <a:pt x="543" y="34"/>
                    </a:moveTo>
                    <a:lnTo>
                      <a:pt x="660" y="0"/>
                    </a:lnTo>
                    <a:lnTo>
                      <a:pt x="754" y="6"/>
                    </a:lnTo>
                    <a:lnTo>
                      <a:pt x="825" y="57"/>
                    </a:lnTo>
                    <a:lnTo>
                      <a:pt x="873" y="139"/>
                    </a:lnTo>
                    <a:lnTo>
                      <a:pt x="855" y="224"/>
                    </a:lnTo>
                    <a:lnTo>
                      <a:pt x="789" y="224"/>
                    </a:lnTo>
                    <a:lnTo>
                      <a:pt x="807" y="154"/>
                    </a:lnTo>
                    <a:lnTo>
                      <a:pt x="754" y="92"/>
                    </a:lnTo>
                    <a:lnTo>
                      <a:pt x="703" y="69"/>
                    </a:lnTo>
                    <a:lnTo>
                      <a:pt x="614" y="92"/>
                    </a:lnTo>
                    <a:lnTo>
                      <a:pt x="649" y="162"/>
                    </a:lnTo>
                    <a:lnTo>
                      <a:pt x="660" y="224"/>
                    </a:lnTo>
                    <a:lnTo>
                      <a:pt x="649" y="277"/>
                    </a:lnTo>
                    <a:lnTo>
                      <a:pt x="561" y="300"/>
                    </a:lnTo>
                    <a:lnTo>
                      <a:pt x="467" y="282"/>
                    </a:lnTo>
                    <a:lnTo>
                      <a:pt x="449" y="241"/>
                    </a:lnTo>
                    <a:lnTo>
                      <a:pt x="350" y="351"/>
                    </a:lnTo>
                    <a:lnTo>
                      <a:pt x="292" y="472"/>
                    </a:lnTo>
                    <a:lnTo>
                      <a:pt x="210" y="627"/>
                    </a:lnTo>
                    <a:lnTo>
                      <a:pt x="157" y="766"/>
                    </a:lnTo>
                    <a:lnTo>
                      <a:pt x="134" y="898"/>
                    </a:lnTo>
                    <a:lnTo>
                      <a:pt x="152" y="967"/>
                    </a:lnTo>
                    <a:lnTo>
                      <a:pt x="246" y="1054"/>
                    </a:lnTo>
                    <a:lnTo>
                      <a:pt x="439" y="1129"/>
                    </a:lnTo>
                    <a:lnTo>
                      <a:pt x="543" y="1162"/>
                    </a:lnTo>
                    <a:lnTo>
                      <a:pt x="649" y="1180"/>
                    </a:lnTo>
                    <a:lnTo>
                      <a:pt x="807" y="1244"/>
                    </a:lnTo>
                    <a:lnTo>
                      <a:pt x="924" y="1284"/>
                    </a:lnTo>
                    <a:lnTo>
                      <a:pt x="931" y="1364"/>
                    </a:lnTo>
                    <a:lnTo>
                      <a:pt x="873" y="1423"/>
                    </a:lnTo>
                    <a:lnTo>
                      <a:pt x="802" y="1440"/>
                    </a:lnTo>
                    <a:lnTo>
                      <a:pt x="696" y="1387"/>
                    </a:lnTo>
                    <a:lnTo>
                      <a:pt x="449" y="1261"/>
                    </a:lnTo>
                    <a:lnTo>
                      <a:pt x="246" y="1175"/>
                    </a:lnTo>
                    <a:lnTo>
                      <a:pt x="104" y="1077"/>
                    </a:lnTo>
                    <a:lnTo>
                      <a:pt x="10" y="990"/>
                    </a:lnTo>
                    <a:lnTo>
                      <a:pt x="0" y="886"/>
                    </a:lnTo>
                    <a:lnTo>
                      <a:pt x="51" y="748"/>
                    </a:lnTo>
                    <a:lnTo>
                      <a:pt x="157" y="541"/>
                    </a:lnTo>
                    <a:lnTo>
                      <a:pt x="256" y="369"/>
                    </a:lnTo>
                    <a:lnTo>
                      <a:pt x="380" y="190"/>
                    </a:lnTo>
                    <a:lnTo>
                      <a:pt x="474" y="85"/>
                    </a:lnTo>
                    <a:lnTo>
                      <a:pt x="591" y="34"/>
                    </a:lnTo>
                    <a:lnTo>
                      <a:pt x="543" y="34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7646400" y="4194000"/>
                <a:ext cx="385560" cy="1071720"/>
              </a:xfrm>
              <a:custGeom>
                <a:avLst/>
                <a:gdLst/>
                <a:ahLst/>
                <a:rect l="l" t="t" r="r" b="b"/>
                <a:pathLst>
                  <a:path w="487" h="1352">
                    <a:moveTo>
                      <a:pt x="30" y="105"/>
                    </a:moveTo>
                    <a:lnTo>
                      <a:pt x="48" y="36"/>
                    </a:lnTo>
                    <a:lnTo>
                      <a:pt x="124" y="0"/>
                    </a:lnTo>
                    <a:lnTo>
                      <a:pt x="193" y="0"/>
                    </a:lnTo>
                    <a:lnTo>
                      <a:pt x="282" y="51"/>
                    </a:lnTo>
                    <a:lnTo>
                      <a:pt x="365" y="174"/>
                    </a:lnTo>
                    <a:lnTo>
                      <a:pt x="423" y="299"/>
                    </a:lnTo>
                    <a:lnTo>
                      <a:pt x="452" y="471"/>
                    </a:lnTo>
                    <a:lnTo>
                      <a:pt x="476" y="673"/>
                    </a:lnTo>
                    <a:lnTo>
                      <a:pt x="487" y="868"/>
                    </a:lnTo>
                    <a:lnTo>
                      <a:pt x="487" y="1121"/>
                    </a:lnTo>
                    <a:lnTo>
                      <a:pt x="452" y="1277"/>
                    </a:lnTo>
                    <a:lnTo>
                      <a:pt x="388" y="1334"/>
                    </a:lnTo>
                    <a:lnTo>
                      <a:pt x="276" y="1352"/>
                    </a:lnTo>
                    <a:lnTo>
                      <a:pt x="159" y="1346"/>
                    </a:lnTo>
                    <a:lnTo>
                      <a:pt x="99" y="1277"/>
                    </a:lnTo>
                    <a:lnTo>
                      <a:pt x="65" y="1157"/>
                    </a:lnTo>
                    <a:lnTo>
                      <a:pt x="35" y="1036"/>
                    </a:lnTo>
                    <a:lnTo>
                      <a:pt x="12" y="817"/>
                    </a:lnTo>
                    <a:lnTo>
                      <a:pt x="0" y="570"/>
                    </a:lnTo>
                    <a:lnTo>
                      <a:pt x="0" y="282"/>
                    </a:lnTo>
                    <a:lnTo>
                      <a:pt x="30" y="156"/>
                    </a:lnTo>
                    <a:lnTo>
                      <a:pt x="30" y="105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7264080" y="4222800"/>
                <a:ext cx="590400" cy="824040"/>
              </a:xfrm>
              <a:custGeom>
                <a:avLst/>
                <a:gdLst/>
                <a:ahLst/>
                <a:rect l="l" t="t" r="r" b="b"/>
                <a:pathLst>
                  <a:path w="744" h="1038">
                    <a:moveTo>
                      <a:pt x="41" y="0"/>
                    </a:moveTo>
                    <a:lnTo>
                      <a:pt x="193" y="18"/>
                    </a:lnTo>
                    <a:lnTo>
                      <a:pt x="350" y="46"/>
                    </a:lnTo>
                    <a:lnTo>
                      <a:pt x="515" y="138"/>
                    </a:lnTo>
                    <a:lnTo>
                      <a:pt x="632" y="208"/>
                    </a:lnTo>
                    <a:lnTo>
                      <a:pt x="708" y="307"/>
                    </a:lnTo>
                    <a:lnTo>
                      <a:pt x="744" y="363"/>
                    </a:lnTo>
                    <a:lnTo>
                      <a:pt x="673" y="532"/>
                    </a:lnTo>
                    <a:lnTo>
                      <a:pt x="561" y="634"/>
                    </a:lnTo>
                    <a:lnTo>
                      <a:pt x="427" y="709"/>
                    </a:lnTo>
                    <a:lnTo>
                      <a:pt x="356" y="755"/>
                    </a:lnTo>
                    <a:lnTo>
                      <a:pt x="234" y="778"/>
                    </a:lnTo>
                    <a:lnTo>
                      <a:pt x="228" y="824"/>
                    </a:lnTo>
                    <a:lnTo>
                      <a:pt x="322" y="865"/>
                    </a:lnTo>
                    <a:lnTo>
                      <a:pt x="457" y="900"/>
                    </a:lnTo>
                    <a:lnTo>
                      <a:pt x="584" y="969"/>
                    </a:lnTo>
                    <a:lnTo>
                      <a:pt x="533" y="1021"/>
                    </a:lnTo>
                    <a:lnTo>
                      <a:pt x="480" y="1038"/>
                    </a:lnTo>
                    <a:lnTo>
                      <a:pt x="404" y="962"/>
                    </a:lnTo>
                    <a:lnTo>
                      <a:pt x="287" y="916"/>
                    </a:lnTo>
                    <a:lnTo>
                      <a:pt x="193" y="882"/>
                    </a:lnTo>
                    <a:lnTo>
                      <a:pt x="193" y="813"/>
                    </a:lnTo>
                    <a:lnTo>
                      <a:pt x="211" y="739"/>
                    </a:lnTo>
                    <a:lnTo>
                      <a:pt x="269" y="709"/>
                    </a:lnTo>
                    <a:lnTo>
                      <a:pt x="457" y="634"/>
                    </a:lnTo>
                    <a:lnTo>
                      <a:pt x="561" y="519"/>
                    </a:lnTo>
                    <a:lnTo>
                      <a:pt x="637" y="399"/>
                    </a:lnTo>
                    <a:lnTo>
                      <a:pt x="620" y="340"/>
                    </a:lnTo>
                    <a:lnTo>
                      <a:pt x="561" y="271"/>
                    </a:lnTo>
                    <a:lnTo>
                      <a:pt x="421" y="174"/>
                    </a:lnTo>
                    <a:lnTo>
                      <a:pt x="251" y="138"/>
                    </a:lnTo>
                    <a:lnTo>
                      <a:pt x="140" y="133"/>
                    </a:lnTo>
                    <a:lnTo>
                      <a:pt x="41" y="133"/>
                    </a:lnTo>
                    <a:lnTo>
                      <a:pt x="0" y="69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7089120" y="5156280"/>
                <a:ext cx="717480" cy="1332000"/>
              </a:xfrm>
              <a:custGeom>
                <a:avLst/>
                <a:gdLst/>
                <a:ahLst/>
                <a:rect l="l" t="t" r="r" b="b"/>
                <a:pathLst>
                  <a:path w="905" h="1678">
                    <a:moveTo>
                      <a:pt x="105" y="0"/>
                    </a:moveTo>
                    <a:lnTo>
                      <a:pt x="23" y="0"/>
                    </a:lnTo>
                    <a:lnTo>
                      <a:pt x="0" y="121"/>
                    </a:lnTo>
                    <a:lnTo>
                      <a:pt x="59" y="192"/>
                    </a:lnTo>
                    <a:lnTo>
                      <a:pt x="246" y="358"/>
                    </a:lnTo>
                    <a:lnTo>
                      <a:pt x="411" y="571"/>
                    </a:lnTo>
                    <a:lnTo>
                      <a:pt x="517" y="790"/>
                    </a:lnTo>
                    <a:lnTo>
                      <a:pt x="533" y="934"/>
                    </a:lnTo>
                    <a:lnTo>
                      <a:pt x="528" y="1038"/>
                    </a:lnTo>
                    <a:lnTo>
                      <a:pt x="482" y="1274"/>
                    </a:lnTo>
                    <a:lnTo>
                      <a:pt x="422" y="1465"/>
                    </a:lnTo>
                    <a:lnTo>
                      <a:pt x="370" y="1575"/>
                    </a:lnTo>
                    <a:lnTo>
                      <a:pt x="358" y="1644"/>
                    </a:lnTo>
                    <a:lnTo>
                      <a:pt x="411" y="1644"/>
                    </a:lnTo>
                    <a:lnTo>
                      <a:pt x="493" y="1621"/>
                    </a:lnTo>
                    <a:lnTo>
                      <a:pt x="517" y="1626"/>
                    </a:lnTo>
                    <a:lnTo>
                      <a:pt x="687" y="1637"/>
                    </a:lnTo>
                    <a:lnTo>
                      <a:pt x="817" y="1678"/>
                    </a:lnTo>
                    <a:lnTo>
                      <a:pt x="863" y="1655"/>
                    </a:lnTo>
                    <a:lnTo>
                      <a:pt x="905" y="1568"/>
                    </a:lnTo>
                    <a:lnTo>
                      <a:pt x="863" y="1522"/>
                    </a:lnTo>
                    <a:lnTo>
                      <a:pt x="670" y="1516"/>
                    </a:lnTo>
                    <a:lnTo>
                      <a:pt x="533" y="1534"/>
                    </a:lnTo>
                    <a:lnTo>
                      <a:pt x="464" y="1568"/>
                    </a:lnTo>
                    <a:lnTo>
                      <a:pt x="475" y="1488"/>
                    </a:lnTo>
                    <a:lnTo>
                      <a:pt x="546" y="1366"/>
                    </a:lnTo>
                    <a:lnTo>
                      <a:pt x="604" y="1176"/>
                    </a:lnTo>
                    <a:lnTo>
                      <a:pt x="652" y="1015"/>
                    </a:lnTo>
                    <a:lnTo>
                      <a:pt x="617" y="831"/>
                    </a:lnTo>
                    <a:lnTo>
                      <a:pt x="563" y="634"/>
                    </a:lnTo>
                    <a:lnTo>
                      <a:pt x="457" y="410"/>
                    </a:lnTo>
                    <a:lnTo>
                      <a:pt x="305" y="202"/>
                    </a:lnTo>
                    <a:lnTo>
                      <a:pt x="176" y="52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774920" y="5153040"/>
                <a:ext cx="484200" cy="1357200"/>
              </a:xfrm>
              <a:custGeom>
                <a:avLst/>
                <a:gdLst/>
                <a:ahLst/>
                <a:rect l="l" t="t" r="r" b="b"/>
                <a:pathLst>
                  <a:path w="609" h="1709">
                    <a:moveTo>
                      <a:pt x="421" y="0"/>
                    </a:moveTo>
                    <a:lnTo>
                      <a:pt x="345" y="161"/>
                    </a:lnTo>
                    <a:lnTo>
                      <a:pt x="292" y="397"/>
                    </a:lnTo>
                    <a:lnTo>
                      <a:pt x="228" y="657"/>
                    </a:lnTo>
                    <a:lnTo>
                      <a:pt x="170" y="921"/>
                    </a:lnTo>
                    <a:lnTo>
                      <a:pt x="170" y="1018"/>
                    </a:lnTo>
                    <a:lnTo>
                      <a:pt x="228" y="1192"/>
                    </a:lnTo>
                    <a:lnTo>
                      <a:pt x="310" y="1284"/>
                    </a:lnTo>
                    <a:lnTo>
                      <a:pt x="386" y="1399"/>
                    </a:lnTo>
                    <a:lnTo>
                      <a:pt x="439" y="1484"/>
                    </a:lnTo>
                    <a:lnTo>
                      <a:pt x="416" y="1525"/>
                    </a:lnTo>
                    <a:lnTo>
                      <a:pt x="281" y="1543"/>
                    </a:lnTo>
                    <a:lnTo>
                      <a:pt x="64" y="1576"/>
                    </a:lnTo>
                    <a:lnTo>
                      <a:pt x="0" y="1629"/>
                    </a:lnTo>
                    <a:lnTo>
                      <a:pt x="53" y="1675"/>
                    </a:lnTo>
                    <a:lnTo>
                      <a:pt x="175" y="1709"/>
                    </a:lnTo>
                    <a:lnTo>
                      <a:pt x="317" y="1640"/>
                    </a:lnTo>
                    <a:lnTo>
                      <a:pt x="421" y="1594"/>
                    </a:lnTo>
                    <a:lnTo>
                      <a:pt x="556" y="1576"/>
                    </a:lnTo>
                    <a:lnTo>
                      <a:pt x="609" y="1560"/>
                    </a:lnTo>
                    <a:lnTo>
                      <a:pt x="591" y="1502"/>
                    </a:lnTo>
                    <a:lnTo>
                      <a:pt x="439" y="1353"/>
                    </a:lnTo>
                    <a:lnTo>
                      <a:pt x="350" y="1197"/>
                    </a:lnTo>
                    <a:lnTo>
                      <a:pt x="274" y="1093"/>
                    </a:lnTo>
                    <a:lnTo>
                      <a:pt x="264" y="990"/>
                    </a:lnTo>
                    <a:lnTo>
                      <a:pt x="299" y="818"/>
                    </a:lnTo>
                    <a:lnTo>
                      <a:pt x="381" y="639"/>
                    </a:lnTo>
                    <a:lnTo>
                      <a:pt x="469" y="335"/>
                    </a:lnTo>
                    <a:lnTo>
                      <a:pt x="545" y="156"/>
                    </a:lnTo>
                    <a:lnTo>
                      <a:pt x="538" y="51"/>
                    </a:lnTo>
                    <a:lnTo>
                      <a:pt x="469" y="0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7366680" y="3001680"/>
              <a:ext cx="341280" cy="492480"/>
              <a:chOff x="7366680" y="3001680"/>
              <a:chExt cx="341280" cy="492480"/>
            </a:xfrm>
          </p:grpSpPr>
          <p:sp>
            <p:nvSpPr>
              <p:cNvPr id="131" name=""/>
              <p:cNvSpPr/>
              <p:nvPr/>
            </p:nvSpPr>
            <p:spPr>
              <a:xfrm flipH="1" flipV="1" rot="9118800">
                <a:off x="7418160" y="3040560"/>
                <a:ext cx="238320" cy="278280"/>
              </a:xfrm>
              <a:custGeom>
                <a:avLst/>
                <a:gdLst/>
                <a:ahLst/>
                <a:rect l="l" t="t" r="r" b="b"/>
                <a:pathLst>
                  <a:path w="301" h="350">
                    <a:moveTo>
                      <a:pt x="36" y="15"/>
                    </a:moveTo>
                    <a:lnTo>
                      <a:pt x="117" y="0"/>
                    </a:lnTo>
                    <a:lnTo>
                      <a:pt x="195" y="5"/>
                    </a:lnTo>
                    <a:lnTo>
                      <a:pt x="266" y="39"/>
                    </a:lnTo>
                    <a:lnTo>
                      <a:pt x="301" y="102"/>
                    </a:lnTo>
                    <a:lnTo>
                      <a:pt x="301" y="154"/>
                    </a:lnTo>
                    <a:lnTo>
                      <a:pt x="266" y="223"/>
                    </a:lnTo>
                    <a:lnTo>
                      <a:pt x="206" y="263"/>
                    </a:lnTo>
                    <a:lnTo>
                      <a:pt x="117" y="263"/>
                    </a:lnTo>
                    <a:lnTo>
                      <a:pt x="64" y="297"/>
                    </a:lnTo>
                    <a:lnTo>
                      <a:pt x="46" y="350"/>
                    </a:lnTo>
                    <a:lnTo>
                      <a:pt x="0" y="333"/>
                    </a:lnTo>
                    <a:lnTo>
                      <a:pt x="18" y="263"/>
                    </a:lnTo>
                    <a:lnTo>
                      <a:pt x="82" y="223"/>
                    </a:lnTo>
                    <a:lnTo>
                      <a:pt x="188" y="212"/>
                    </a:lnTo>
                    <a:lnTo>
                      <a:pt x="230" y="171"/>
                    </a:lnTo>
                    <a:lnTo>
                      <a:pt x="241" y="108"/>
                    </a:lnTo>
                    <a:lnTo>
                      <a:pt x="195" y="51"/>
                    </a:lnTo>
                    <a:lnTo>
                      <a:pt x="124" y="51"/>
                    </a:lnTo>
                    <a:lnTo>
                      <a:pt x="46" y="69"/>
                    </a:lnTo>
                    <a:lnTo>
                      <a:pt x="18" y="51"/>
                    </a:lnTo>
                    <a:lnTo>
                      <a:pt x="36" y="15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 flipV="1" rot="9118800">
                <a:off x="7480440" y="3404520"/>
                <a:ext cx="74520" cy="76320"/>
              </a:xfrm>
              <a:custGeom>
                <a:avLst/>
                <a:gdLst/>
                <a:ahLst/>
                <a:rect l="l" t="t" r="r" b="b"/>
                <a:pathLst>
                  <a:path w="93" h="95">
                    <a:moveTo>
                      <a:pt x="93" y="5"/>
                    </a:moveTo>
                    <a:lnTo>
                      <a:pt x="46" y="0"/>
                    </a:lnTo>
                    <a:lnTo>
                      <a:pt x="14" y="35"/>
                    </a:lnTo>
                    <a:lnTo>
                      <a:pt x="0" y="90"/>
                    </a:lnTo>
                    <a:lnTo>
                      <a:pt x="46" y="95"/>
                    </a:lnTo>
                    <a:lnTo>
                      <a:pt x="85" y="71"/>
                    </a:lnTo>
                    <a:lnTo>
                      <a:pt x="93" y="5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Desvantagem do formato livr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O formato livre pode apresentar imprecisões em algoritmos mais complexos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O formato livre só é vantajoso em algoritmos muito simples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76720" y="4191120"/>
            <a:ext cx="3038400" cy="2419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1T21:09:26Z</dcterms:created>
  <dc:creator>Reinaldo Madarazo</dc:creator>
  <dc:description/>
  <dc:language>en-US</dc:language>
  <cp:lastModifiedBy>Reinaldo Madarazo</cp:lastModifiedBy>
  <dcterms:modified xsi:type="dcterms:W3CDTF">1999-02-23T13:05:46Z</dcterms:modified>
  <cp:revision>118</cp:revision>
  <dc:subject/>
  <dc:title>Algoritmos</dc:title>
</cp:coreProperties>
</file>