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F2E-CB13-4651-97F3-32938C98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24C-D846-44A5-AAA0-C55FA62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548-E466-41EE-B277-49030E89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CD4-9E51-4F22-B266-576E934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352-92AA-445A-B2D8-74BD98B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141-335E-43BA-9DC2-C7B899B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0F0-60D9-44C6-98C1-C24BB0E7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C132-A3DA-4963-9DD4-6812090F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91A-B2F8-4EE6-96CC-5C18A1C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C73-1DF7-4270-A420-1478BB6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FE9-86DB-410B-92AF-B706D58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181-374C-4D30-BF0D-4988ABA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E86C-57FF-470A-8B56-E1EE0A0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335-F5F2-48A0-8F51-DA68C20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0F5-B6E9-4505-B404-E7E99D6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F5AD-7078-418E-AB79-821E813B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2B2F-CDE8-4E75-A044-044AF20F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E2-C1C4-4211-9CA9-F53DE14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403-2DF3-4B85-8B70-EFA0998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A89-4300-49F3-AEA7-14411D10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B71-8991-4AD7-8295-64FE2AA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3A5-0F25-4510-B6A9-0B15001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C0F-B380-438D-B236-136822C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A5E-DE42-4B80-B923-464442B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3909-1628-4B51-B004-3E73BC5B4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13A-86D0-456F-9A15-9E6195DAA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Orientação a Objeto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ma introdução à O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sage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É a maneira pela qual um objeto se comunica com outros. Quando um programa OO é executado, os objetos estão  recebendo, interpretando e respondendo mensage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22560" y="4238640"/>
          <a:ext cx="36511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2560" y="4238640"/>
                    <a:ext cx="36511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4857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avés de uma mensagem podemos indicar o que desejamos que o objeto faça. No método, se indica como o objeto realizará o desejado, não se preocupando com detalhes internos de como o objeto far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 objeto se comporta como uma Caixa Preta, onde sabemos o que faz mas não sabemos co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ncapsulame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podemos acessar os dados de um objeto diret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acessar suas variáveis de instância, devemos fazer através de méto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precisamos saber como as variáveis de instância são armazenadas para poder utilizá-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olimorfismo ocorre quando uma mesma mensagem chegando a objetos diferentes provoca respostas difer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17640" y="3595680"/>
            <a:ext cx="6545160" cy="2855880"/>
            <a:chOff x="1817640" y="3595680"/>
            <a:chExt cx="6545160" cy="2855880"/>
          </a:xfrm>
        </p:grpSpPr>
        <p:graphicFrame>
          <p:nvGraphicFramePr>
            <p:cNvPr id="154" name=""/>
            <p:cNvGraphicFramePr/>
            <p:nvPr/>
          </p:nvGraphicFramePr>
          <p:xfrm>
            <a:off x="1817640" y="3595680"/>
            <a:ext cx="1515960" cy="27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3595680"/>
                      <a:ext cx="1515960" cy="27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4713120" y="4340160"/>
            <a:ext cx="3649680" cy="21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3120" y="4340160"/>
                      <a:ext cx="364968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30360" y="1835280"/>
            <a:ext cx="6388200" cy="120636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06a8d"/>
              </a:gs>
              <a:gs pos="100000">
                <a:srgbClr val="0099c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30360" y="3587760"/>
            <a:ext cx="1968480" cy="1739880"/>
          </a:xfrm>
          <a:custGeom>
            <a:avLst/>
            <a:gdLst>
              <a:gd name="textAreaLeft" fmla="*/ 449280 w 1968480"/>
              <a:gd name="textAreaRight" fmla="*/ 1519200 w 1968480"/>
              <a:gd name="textAreaTop" fmla="*/ 397080 h 1739880"/>
              <a:gd name="textAreaBottom" fmla="*/ 1342800 h 173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83240" y="3740040"/>
            <a:ext cx="1663920" cy="1435320"/>
          </a:xfrm>
          <a:prstGeom prst="hexagon">
            <a:avLst>
              <a:gd name="adj" fmla="val 28976"/>
              <a:gd name="vf" fmla="val 11547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63880" y="5416560"/>
            <a:ext cx="1206360" cy="520560"/>
          </a:xfrm>
          <a:prstGeom prst="rightArrow">
            <a:avLst>
              <a:gd name="adj1" fmla="val 50000"/>
              <a:gd name="adj2" fmla="val 115882"/>
            </a:avLst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5416560"/>
            <a:ext cx="520560" cy="901800"/>
          </a:xfrm>
          <a:prstGeom prst="downArrow">
            <a:avLst>
              <a:gd name="adj1" fmla="val 50000"/>
              <a:gd name="adj2" fmla="val 86626"/>
            </a:avLst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43828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87692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64920" y="4937040"/>
            <a:ext cx="165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6019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ÇÃ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1440" y="592776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ÇÃ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76520" y="3048120"/>
            <a:ext cx="5715000" cy="685800"/>
            <a:chOff x="1676520" y="3048120"/>
            <a:chExt cx="5715000" cy="685800"/>
          </a:xfrm>
        </p:grpSpPr>
        <p:sp>
          <p:nvSpPr>
            <p:cNvPr id="170" name=""/>
            <p:cNvSpPr/>
            <p:nvPr/>
          </p:nvSpPr>
          <p:spPr>
            <a:xfrm>
              <a:off x="1676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04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53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08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57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o processo em que um objeto pode adquirir as características de outro obj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erança Simples: um objeto herda as característcas de uma únic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erança Múltipla: uma objeto herda características de mais de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40040" y="1530360"/>
            <a:ext cx="1739880" cy="1434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8240" y="4273560"/>
            <a:ext cx="2197080" cy="1968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54640" y="4349880"/>
            <a:ext cx="2044800" cy="1968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5120" y="3048120"/>
            <a:ext cx="182880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124080"/>
            <a:ext cx="160020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24640" y="1584360"/>
            <a:ext cx="22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89480" y="5410080"/>
            <a:ext cx="214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DERIV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4668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08440" y="21938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02760" y="438948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4880" y="477036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084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89280" y="55468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0560" y="446580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79880" y="461808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37240" y="5318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75320" y="54705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9480" y="4349880"/>
            <a:ext cx="1434960" cy="105408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0960" y="4425840"/>
            <a:ext cx="1892160" cy="82548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2680" y="1682640"/>
            <a:ext cx="1358640" cy="97812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0920" y="2590920"/>
            <a:ext cx="1752480" cy="2133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2666880"/>
            <a:ext cx="2210040" cy="1828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4720" y="4098960"/>
            <a:ext cx="22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erd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1440" y="3816360"/>
            <a:ext cx="2349720" cy="120636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4571640"/>
            <a:ext cx="914400" cy="152280"/>
          </a:xfrm>
          <a:prstGeom prst="line">
            <a:avLst/>
          </a:prstGeom>
          <a:ln w="1260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867280" y="4571640"/>
            <a:ext cx="457200" cy="152280"/>
          </a:xfrm>
          <a:prstGeom prst="line">
            <a:avLst/>
          </a:prstGeom>
          <a:ln w="1260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gação Dinâ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o processo de ligar (link) um programa com suas bibliotecas durante sua execu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 linguagens convencionais, a ligação é estática, isto é, todas as conexões ocorrem antes da execução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 ligação dinâmica, as bibliotecas são carregadas e descarregadas da memória conforme solicitadas durante a execução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 ambiente Windows, essas bibliotecas possuem a extensão “DLL” (Dynamic Link Librar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ação Estát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4560" y="2292480"/>
            <a:ext cx="1892160" cy="12063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92680" y="2292480"/>
            <a:ext cx="1968480" cy="120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3240" y="3740040"/>
            <a:ext cx="2425680" cy="105408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b16a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1440" y="4730760"/>
            <a:ext cx="2425680" cy="18162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74560" y="272736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4864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BLIOTE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63440" y="4098960"/>
            <a:ext cx="21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01960" y="26733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8480" y="3587760"/>
            <a:ext cx="520560" cy="977760"/>
          </a:xfrm>
          <a:prstGeom prst="upArrow">
            <a:avLst>
              <a:gd name="adj1" fmla="val 50000"/>
              <a:gd name="adj2" fmla="val 9390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20000">
            <a:off x="6024240" y="2978280"/>
            <a:ext cx="1133280" cy="444240"/>
          </a:xfrm>
          <a:prstGeom prst="rightArrow">
            <a:avLst>
              <a:gd name="adj1" fmla="val 50000"/>
              <a:gd name="adj2" fmla="val 127564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79440" y="181296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2440" y="1812960"/>
            <a:ext cx="98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OB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6680" y="5775480"/>
            <a:ext cx="98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OB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9528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12960" y="3809880"/>
            <a:ext cx="221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8280" y="4022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971800" y="304776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791320" y="3276360"/>
            <a:ext cx="53316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05160" y="4267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guagem SIMULA (anos 60), derivada do ALGOL e desenvolvida no Centro Norueguês de Computação, por Kristen Nygaard e Ole-Johan Dah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SIMULA era utilizada para simulações e foi a pioneira na utilização de classes e subclasses, semelhantes com as usadas atualmente em O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ação Dinâ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1835280"/>
            <a:ext cx="2120760" cy="128268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100000">
                <a:srgbClr val="ff003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4560" y="3816360"/>
            <a:ext cx="2044800" cy="273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673360"/>
            <a:ext cx="2730600" cy="13590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16a23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8640" y="4883040"/>
            <a:ext cx="1739880" cy="1663920"/>
          </a:xfrm>
          <a:custGeom>
            <a:avLst/>
            <a:gdLst>
              <a:gd name="textAreaLeft" fmla="*/ 397080 w 1739880"/>
              <a:gd name="textAreaRight" fmla="*/ 1342800 w 1739880"/>
              <a:gd name="textAreaTop" fmla="*/ 379800 h 1663920"/>
              <a:gd name="textAreaBottom" fmla="*/ 128412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8160" y="4807080"/>
            <a:ext cx="1511280" cy="158724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006a8d"/>
              </a:gs>
              <a:gs pos="100000">
                <a:srgbClr val="0099c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6880" y="2901960"/>
            <a:ext cx="1054080" cy="1130400"/>
          </a:xfrm>
          <a:prstGeom prst="rightArrow">
            <a:avLst>
              <a:gd name="adj1" fmla="val 75009"/>
              <a:gd name="adj2" fmla="val 5000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0760" y="4273560"/>
            <a:ext cx="291960" cy="444600"/>
          </a:xfrm>
          <a:prstGeom prst="upArrow">
            <a:avLst>
              <a:gd name="adj1" fmla="val 50000"/>
              <a:gd name="adj2" fmla="val 76133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140000">
            <a:off x="7016760" y="4044600"/>
            <a:ext cx="291960" cy="444600"/>
          </a:xfrm>
          <a:prstGeom prst="upArrow">
            <a:avLst>
              <a:gd name="adj1" fmla="val 50000"/>
              <a:gd name="adj2" fmla="val 76133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79800" y="227016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5960" y="3946680"/>
            <a:ext cx="167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4000" y="33368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63240" y="3184560"/>
            <a:ext cx="21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3880" y="547056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3040" y="539424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0920" y="2117880"/>
            <a:ext cx="7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gramação Vi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a maneira de se programar desenhando os objetos no lugar de descrever seu códi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gramação Visual está sempre associada à orientação a obje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Métodos Construtores e Destru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étodos Construtores: alocam dinamicamente na memória uma instância de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étodos Destrutores: retiram a instância da memória, liberando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alocação das instâncias é dinâ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étodos Construtores e Destruto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8240" y="1987560"/>
            <a:ext cx="2273400" cy="21970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64080" y="2216160"/>
            <a:ext cx="1663560" cy="16635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7440" y="1758960"/>
            <a:ext cx="3035520" cy="478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3240" y="3130560"/>
            <a:ext cx="1663920" cy="1663560"/>
          </a:xfrm>
          <a:prstGeom prst="rect">
            <a:avLst/>
          </a:prstGeom>
          <a:gradFill rotWithShape="0">
            <a:gsLst>
              <a:gs pos="0">
                <a:srgbClr val="006a8d"/>
              </a:gs>
              <a:gs pos="50000">
                <a:srgbClr val="0099cc"/>
              </a:gs>
              <a:gs pos="100000">
                <a:srgbClr val="006a8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8600" y="4251240"/>
            <a:ext cx="138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1280" y="4022640"/>
            <a:ext cx="189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Â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31960" y="48610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26680" y="1812960"/>
            <a:ext cx="164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00000">
            <a:off x="5492520" y="3182760"/>
            <a:ext cx="907920" cy="351000"/>
          </a:xfrm>
          <a:prstGeom prst="rightArrow">
            <a:avLst>
              <a:gd name="adj1" fmla="val 50000"/>
              <a:gd name="adj2" fmla="val 12934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1400" y="5622840"/>
            <a:ext cx="37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ËTODO CONSTR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05520" y="3352680"/>
            <a:ext cx="91440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30960" y="2825640"/>
            <a:ext cx="1968480" cy="3035520"/>
          </a:xfrm>
          <a:prstGeom prst="rect">
            <a:avLst/>
          </a:prstGeom>
          <a:solidFill>
            <a:srgbClr val="336600"/>
          </a:soli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6680" y="5492880"/>
            <a:ext cx="3797280" cy="596880"/>
          </a:xfrm>
          <a:prstGeom prst="rect">
            <a:avLst/>
          </a:prstGeom>
          <a:solidFill>
            <a:srgbClr val="336600"/>
          </a:soli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1760" y="5546880"/>
            <a:ext cx="350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STR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sistê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o tempo que um objeto permanece na memória. Algumas instâncias são criadas no início da execução do programa e só são destruídas no final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utras instâncias são necessárias apenas por algum tempo. Quando um objeto não é mais necessário, ele é destruído e seu espaço na memória liberado. A recuperação do espaço é denominada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Coleta de Lix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Garbage Colle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P X Técnicas Tradicion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409400"/>
            <a:ext cx="380988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éto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. de Instâ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sa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eranç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s sob con-trole d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05160" y="1485720"/>
            <a:ext cx="380988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cedimentos e funçõ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s de pro-cedimento e fun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s de D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Não exis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 sob con-trole do programa-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48608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priedades NÃO SÃ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riáveis de instâ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priedades chama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éto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 alteram as variáveis de instâ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atribuímos um dado a uma propriedade, é chamado um método 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pegamos um dado, é chamado um método 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dades - Exemp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objeto.propriedade = v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sto equival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.</a:t>
            </a: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S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_prop(val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dado = objeto.proprie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sto equival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.</a:t>
            </a: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G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_prop(d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entação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ven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 tipo de método disparado por ocorrências do sistema oper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eventos do S.O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Click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o usuário clica o m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Chang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o usuário altera alguma coisa (editáve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Por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a porta serial recebe um d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MALLTALK (anos 70), foi a primeira linguagem autêntica orientada a objetos. Foi desenvolvida por cientistas do Xerox Palo Alto Research Center (Xerox PAR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da elemento do SMALLTALK é tratado como sendo um objeto. Esta linguagem é puramente O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entação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40940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anismo de ev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ocorre um evento, 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renciador de mensage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S.O. envia mensagens aos objetos sensíveis ao ev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o evento ocorreu em algum objeto, através dessa mensagem é disparado um método, chama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cedimento de E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anismo de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9840" y="3054240"/>
            <a:ext cx="5626080" cy="1206720"/>
          </a:xfrm>
          <a:prstGeom prst="ellipse">
            <a:avLst/>
          </a:prstGeom>
          <a:gradFill rotWithShape="0">
            <a:gsLst>
              <a:gs pos="0">
                <a:srgbClr val="006a8d"/>
              </a:gs>
              <a:gs pos="50000">
                <a:srgbClr val="0099cc"/>
              </a:gs>
              <a:gs pos="100000">
                <a:srgbClr val="006a8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6560" y="3276720"/>
            <a:ext cx="330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.O. - Gerenciador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35280" y="5187960"/>
            <a:ext cx="1358640" cy="9777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83240" y="4959360"/>
            <a:ext cx="1739880" cy="11304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73560" y="4959360"/>
            <a:ext cx="1282680" cy="1359000"/>
          </a:xfrm>
          <a:prstGeom prst="diamond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9960" y="4597560"/>
            <a:ext cx="8177040" cy="208260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37000" y="432756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7016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3248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7076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743200" y="4114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952880" y="4267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858000" y="4114800"/>
            <a:ext cx="53352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73160" y="1606680"/>
            <a:ext cx="1587600" cy="1587240"/>
          </a:xfrm>
          <a:prstGeom prst="star5">
            <a:avLst/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8920" y="150804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14120" y="2362320"/>
            <a:ext cx="2057400" cy="662040"/>
            <a:chOff x="2814120" y="2362320"/>
            <a:chExt cx="2057400" cy="662040"/>
          </a:xfrm>
        </p:grpSpPr>
        <p:sp>
          <p:nvSpPr>
            <p:cNvPr id="310" name=""/>
            <p:cNvSpPr/>
            <p:nvPr/>
          </p:nvSpPr>
          <p:spPr>
            <a:xfrm flipV="1">
              <a:off x="4824360" y="2414520"/>
              <a:ext cx="0" cy="60984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4120" y="2362320"/>
              <a:ext cx="20574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108240" y="25750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124200"/>
            <a:ext cx="1371240" cy="559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80410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804105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057400"/>
            <a:ext cx="411480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02360" y="1682640"/>
            <a:ext cx="2654280" cy="901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33040" y="1812960"/>
            <a:ext cx="248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imen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gramação Orientada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ever os procedimentos de eventos relev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aplicação passa a ser um conjunto de procedimentos de eventos que são disparados pelo usuário e que funcionam de modo harmôn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plicação não tem mais uma seqüência lin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n L. Winblad, Samuel D. Edwards e David R. King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Software Orientado a Obje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Makron B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alter Goldberg Neto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Utilizando C++ Builde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Ed. É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ctorine Viviane Mizrahi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Treinamento em Linguagem C++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Makron B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cc66"/>
                </a:solidFill>
                <a:latin typeface="Times New Roman"/>
              </a:rPr>
              <a:t>F I M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++, dos laboratórios da AT&amp;T Bell, criada por Bjarne Stroustrup, uma expansão da Linguagem C, muito popular e conhec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porta OOP, mantendo as características do C tradi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ácil transição do C para o C+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das as linguagens orientadas a objetos possui três características ba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limorf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Heranç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9360" y="2889360"/>
            <a:ext cx="3654720" cy="3584520"/>
            <a:chOff x="4689360" y="2889360"/>
            <a:chExt cx="3654720" cy="3584520"/>
          </a:xfrm>
        </p:grpSpPr>
        <p:grpSp>
          <p:nvGrpSpPr>
            <p:cNvPr id="104" name=""/>
            <p:cNvGrpSpPr/>
            <p:nvPr/>
          </p:nvGrpSpPr>
          <p:grpSpPr>
            <a:xfrm>
              <a:off x="4689360" y="3562200"/>
              <a:ext cx="1528920" cy="2911680"/>
              <a:chOff x="4689360" y="3562200"/>
              <a:chExt cx="1528920" cy="2911680"/>
            </a:xfrm>
          </p:grpSpPr>
          <p:sp>
            <p:nvSpPr>
              <p:cNvPr id="105" name=""/>
              <p:cNvSpPr/>
              <p:nvPr/>
            </p:nvSpPr>
            <p:spPr>
              <a:xfrm>
                <a:off x="4689360" y="4530600"/>
                <a:ext cx="1528920" cy="1943280"/>
              </a:xfrm>
              <a:custGeom>
                <a:avLst/>
                <a:gdLst/>
                <a:ahLst/>
                <a:rect l="l" t="t" r="r" b="b"/>
                <a:pathLst>
                  <a:path w="963" h="1224">
                    <a:moveTo>
                      <a:pt x="553" y="418"/>
                    </a:moveTo>
                    <a:lnTo>
                      <a:pt x="540" y="0"/>
                    </a:lnTo>
                    <a:lnTo>
                      <a:pt x="483" y="9"/>
                    </a:lnTo>
                    <a:lnTo>
                      <a:pt x="374" y="38"/>
                    </a:lnTo>
                    <a:lnTo>
                      <a:pt x="309" y="71"/>
                    </a:lnTo>
                    <a:lnTo>
                      <a:pt x="287" y="121"/>
                    </a:lnTo>
                    <a:lnTo>
                      <a:pt x="325" y="231"/>
                    </a:lnTo>
                    <a:lnTo>
                      <a:pt x="328" y="262"/>
                    </a:lnTo>
                    <a:lnTo>
                      <a:pt x="253" y="299"/>
                    </a:lnTo>
                    <a:lnTo>
                      <a:pt x="188" y="346"/>
                    </a:lnTo>
                    <a:lnTo>
                      <a:pt x="137" y="399"/>
                    </a:lnTo>
                    <a:lnTo>
                      <a:pt x="72" y="467"/>
                    </a:lnTo>
                    <a:lnTo>
                      <a:pt x="28" y="543"/>
                    </a:lnTo>
                    <a:lnTo>
                      <a:pt x="6" y="633"/>
                    </a:lnTo>
                    <a:lnTo>
                      <a:pt x="0" y="708"/>
                    </a:lnTo>
                    <a:lnTo>
                      <a:pt x="0" y="814"/>
                    </a:lnTo>
                    <a:lnTo>
                      <a:pt x="25" y="924"/>
                    </a:lnTo>
                    <a:lnTo>
                      <a:pt x="66" y="983"/>
                    </a:lnTo>
                    <a:lnTo>
                      <a:pt x="140" y="1057"/>
                    </a:lnTo>
                    <a:lnTo>
                      <a:pt x="234" y="1132"/>
                    </a:lnTo>
                    <a:lnTo>
                      <a:pt x="343" y="1185"/>
                    </a:lnTo>
                    <a:lnTo>
                      <a:pt x="478" y="1217"/>
                    </a:lnTo>
                    <a:lnTo>
                      <a:pt x="606" y="1223"/>
                    </a:lnTo>
                    <a:lnTo>
                      <a:pt x="680" y="1213"/>
                    </a:lnTo>
                    <a:lnTo>
                      <a:pt x="746" y="1176"/>
                    </a:lnTo>
                    <a:lnTo>
                      <a:pt x="821" y="1114"/>
                    </a:lnTo>
                    <a:lnTo>
                      <a:pt x="861" y="1048"/>
                    </a:lnTo>
                    <a:lnTo>
                      <a:pt x="924" y="964"/>
                    </a:lnTo>
                    <a:lnTo>
                      <a:pt x="946" y="885"/>
                    </a:lnTo>
                    <a:lnTo>
                      <a:pt x="962" y="792"/>
                    </a:lnTo>
                    <a:lnTo>
                      <a:pt x="952" y="699"/>
                    </a:lnTo>
                    <a:lnTo>
                      <a:pt x="927" y="608"/>
                    </a:lnTo>
                    <a:lnTo>
                      <a:pt x="880" y="515"/>
                    </a:lnTo>
                    <a:lnTo>
                      <a:pt x="811" y="427"/>
                    </a:lnTo>
                    <a:lnTo>
                      <a:pt x="756" y="371"/>
                    </a:lnTo>
                    <a:lnTo>
                      <a:pt x="693" y="343"/>
                    </a:lnTo>
                    <a:lnTo>
                      <a:pt x="609" y="309"/>
                    </a:lnTo>
                    <a:lnTo>
                      <a:pt x="549" y="296"/>
                    </a:lnTo>
                    <a:lnTo>
                      <a:pt x="549" y="334"/>
                    </a:lnTo>
                    <a:lnTo>
                      <a:pt x="615" y="353"/>
                    </a:lnTo>
                    <a:lnTo>
                      <a:pt x="671" y="364"/>
                    </a:lnTo>
                    <a:lnTo>
                      <a:pt x="721" y="393"/>
                    </a:lnTo>
                    <a:lnTo>
                      <a:pt x="778" y="449"/>
                    </a:lnTo>
                    <a:lnTo>
                      <a:pt x="821" y="511"/>
                    </a:lnTo>
                    <a:lnTo>
                      <a:pt x="850" y="552"/>
                    </a:lnTo>
                    <a:lnTo>
                      <a:pt x="880" y="608"/>
                    </a:lnTo>
                    <a:lnTo>
                      <a:pt x="905" y="690"/>
                    </a:lnTo>
                    <a:lnTo>
                      <a:pt x="918" y="764"/>
                    </a:lnTo>
                    <a:lnTo>
                      <a:pt x="918" y="830"/>
                    </a:lnTo>
                    <a:lnTo>
                      <a:pt x="899" y="898"/>
                    </a:lnTo>
                    <a:lnTo>
                      <a:pt x="877" y="964"/>
                    </a:lnTo>
                    <a:lnTo>
                      <a:pt x="833" y="1026"/>
                    </a:lnTo>
                    <a:lnTo>
                      <a:pt x="793" y="1076"/>
                    </a:lnTo>
                    <a:lnTo>
                      <a:pt x="749" y="1119"/>
                    </a:lnTo>
                    <a:lnTo>
                      <a:pt x="693" y="1148"/>
                    </a:lnTo>
                    <a:lnTo>
                      <a:pt x="646" y="1176"/>
                    </a:lnTo>
                    <a:lnTo>
                      <a:pt x="599" y="1185"/>
                    </a:lnTo>
                    <a:lnTo>
                      <a:pt x="522" y="1179"/>
                    </a:lnTo>
                    <a:lnTo>
                      <a:pt x="428" y="1167"/>
                    </a:lnTo>
                    <a:lnTo>
                      <a:pt x="337" y="1132"/>
                    </a:lnTo>
                    <a:lnTo>
                      <a:pt x="262" y="1095"/>
                    </a:lnTo>
                    <a:lnTo>
                      <a:pt x="194" y="1048"/>
                    </a:lnTo>
                    <a:lnTo>
                      <a:pt x="137" y="998"/>
                    </a:lnTo>
                    <a:lnTo>
                      <a:pt x="100" y="951"/>
                    </a:lnTo>
                    <a:lnTo>
                      <a:pt x="63" y="895"/>
                    </a:lnTo>
                    <a:lnTo>
                      <a:pt x="46" y="823"/>
                    </a:lnTo>
                    <a:lnTo>
                      <a:pt x="44" y="727"/>
                    </a:lnTo>
                    <a:lnTo>
                      <a:pt x="46" y="646"/>
                    </a:lnTo>
                    <a:lnTo>
                      <a:pt x="66" y="577"/>
                    </a:lnTo>
                    <a:lnTo>
                      <a:pt x="90" y="506"/>
                    </a:lnTo>
                    <a:lnTo>
                      <a:pt x="140" y="446"/>
                    </a:lnTo>
                    <a:lnTo>
                      <a:pt x="197" y="393"/>
                    </a:lnTo>
                    <a:lnTo>
                      <a:pt x="253" y="355"/>
                    </a:lnTo>
                    <a:lnTo>
                      <a:pt x="315" y="324"/>
                    </a:lnTo>
                    <a:lnTo>
                      <a:pt x="362" y="299"/>
                    </a:lnTo>
                    <a:lnTo>
                      <a:pt x="400" y="290"/>
                    </a:lnTo>
                    <a:lnTo>
                      <a:pt x="400" y="277"/>
                    </a:lnTo>
                    <a:lnTo>
                      <a:pt x="352" y="137"/>
                    </a:lnTo>
                    <a:lnTo>
                      <a:pt x="352" y="112"/>
                    </a:lnTo>
                    <a:lnTo>
                      <a:pt x="384" y="93"/>
                    </a:lnTo>
                    <a:lnTo>
                      <a:pt x="428" y="65"/>
                    </a:lnTo>
                    <a:lnTo>
                      <a:pt x="483" y="53"/>
                    </a:lnTo>
                    <a:lnTo>
                      <a:pt x="505" y="53"/>
                    </a:lnTo>
                    <a:lnTo>
                      <a:pt x="512" y="147"/>
                    </a:lnTo>
                    <a:lnTo>
                      <a:pt x="496" y="277"/>
                    </a:lnTo>
                    <a:lnTo>
                      <a:pt x="478" y="364"/>
                    </a:lnTo>
                    <a:lnTo>
                      <a:pt x="512" y="399"/>
                    </a:lnTo>
                    <a:lnTo>
                      <a:pt x="553" y="41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62400" y="4057560"/>
                <a:ext cx="244800" cy="581040"/>
              </a:xfrm>
              <a:custGeom>
                <a:avLst/>
                <a:gdLst/>
                <a:ahLst/>
                <a:rect l="l" t="t" r="r" b="b"/>
                <a:pathLst>
                  <a:path w="154" h="366">
                    <a:moveTo>
                      <a:pt x="140" y="309"/>
                    </a:moveTo>
                    <a:lnTo>
                      <a:pt x="140" y="255"/>
                    </a:lnTo>
                    <a:lnTo>
                      <a:pt x="124" y="172"/>
                    </a:lnTo>
                    <a:lnTo>
                      <a:pt x="94" y="122"/>
                    </a:lnTo>
                    <a:lnTo>
                      <a:pt x="50" y="28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41"/>
                    </a:lnTo>
                    <a:lnTo>
                      <a:pt x="22" y="78"/>
                    </a:lnTo>
                    <a:lnTo>
                      <a:pt x="55" y="153"/>
                    </a:lnTo>
                    <a:lnTo>
                      <a:pt x="84" y="209"/>
                    </a:lnTo>
                    <a:lnTo>
                      <a:pt x="87" y="262"/>
                    </a:lnTo>
                    <a:lnTo>
                      <a:pt x="96" y="347"/>
                    </a:lnTo>
                    <a:lnTo>
                      <a:pt x="124" y="365"/>
                    </a:lnTo>
                    <a:lnTo>
                      <a:pt x="153" y="340"/>
                    </a:lnTo>
                    <a:lnTo>
                      <a:pt x="140" y="30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75160" y="4068720"/>
                <a:ext cx="263520" cy="135000"/>
              </a:xfrm>
              <a:custGeom>
                <a:avLst/>
                <a:gdLst/>
                <a:ahLst/>
                <a:rect l="l" t="t" r="r" b="b"/>
                <a:pathLst>
                  <a:path w="166" h="85">
                    <a:moveTo>
                      <a:pt x="165" y="77"/>
                    </a:moveTo>
                    <a:lnTo>
                      <a:pt x="155" y="55"/>
                    </a:lnTo>
                    <a:lnTo>
                      <a:pt x="102" y="22"/>
                    </a:lnTo>
                    <a:lnTo>
                      <a:pt x="46" y="0"/>
                    </a:lnTo>
                    <a:lnTo>
                      <a:pt x="15" y="0"/>
                    </a:lnTo>
                    <a:lnTo>
                      <a:pt x="0" y="18"/>
                    </a:lnTo>
                    <a:lnTo>
                      <a:pt x="9" y="46"/>
                    </a:lnTo>
                    <a:lnTo>
                      <a:pt x="62" y="65"/>
                    </a:lnTo>
                    <a:lnTo>
                      <a:pt x="137" y="84"/>
                    </a:lnTo>
                    <a:lnTo>
                      <a:pt x="165" y="7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11800" y="3668760"/>
                <a:ext cx="189000" cy="244440"/>
              </a:xfrm>
              <a:custGeom>
                <a:avLst/>
                <a:gdLst/>
                <a:ahLst/>
                <a:rect l="l" t="t" r="r" b="b"/>
                <a:pathLst>
                  <a:path w="119" h="154">
                    <a:moveTo>
                      <a:pt x="112" y="0"/>
                    </a:moveTo>
                    <a:lnTo>
                      <a:pt x="118" y="22"/>
                    </a:lnTo>
                    <a:lnTo>
                      <a:pt x="84" y="96"/>
                    </a:lnTo>
                    <a:lnTo>
                      <a:pt x="57" y="134"/>
                    </a:lnTo>
                    <a:lnTo>
                      <a:pt x="35" y="153"/>
                    </a:lnTo>
                    <a:lnTo>
                      <a:pt x="10" y="153"/>
                    </a:lnTo>
                    <a:lnTo>
                      <a:pt x="0" y="134"/>
                    </a:lnTo>
                    <a:lnTo>
                      <a:pt x="7" y="105"/>
                    </a:lnTo>
                    <a:lnTo>
                      <a:pt x="72" y="4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21360" y="3562200"/>
                <a:ext cx="100080" cy="271440"/>
              </a:xfrm>
              <a:custGeom>
                <a:avLst/>
                <a:gdLst/>
                <a:ahLst/>
                <a:rect l="l" t="t" r="r" b="b"/>
                <a:pathLst>
                  <a:path w="63" h="171">
                    <a:moveTo>
                      <a:pt x="9" y="0"/>
                    </a:moveTo>
                    <a:lnTo>
                      <a:pt x="38" y="50"/>
                    </a:lnTo>
                    <a:lnTo>
                      <a:pt x="53" y="106"/>
                    </a:lnTo>
                    <a:lnTo>
                      <a:pt x="62" y="149"/>
                    </a:lnTo>
                    <a:lnTo>
                      <a:pt x="47" y="170"/>
                    </a:lnTo>
                    <a:lnTo>
                      <a:pt x="25" y="170"/>
                    </a:lnTo>
                    <a:lnTo>
                      <a:pt x="16" y="152"/>
                    </a:lnTo>
                    <a:lnTo>
                      <a:pt x="0" y="115"/>
                    </a:lnTo>
                    <a:lnTo>
                      <a:pt x="0" y="5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3600" y="3784680"/>
                <a:ext cx="268200" cy="135000"/>
              </a:xfrm>
              <a:custGeom>
                <a:avLst/>
                <a:gdLst/>
                <a:ahLst/>
                <a:rect l="l" t="t" r="r" b="b"/>
                <a:pathLst>
                  <a:path w="169" h="85">
                    <a:moveTo>
                      <a:pt x="0" y="0"/>
                    </a:moveTo>
                    <a:lnTo>
                      <a:pt x="81" y="10"/>
                    </a:lnTo>
                    <a:lnTo>
                      <a:pt x="140" y="25"/>
                    </a:lnTo>
                    <a:lnTo>
                      <a:pt x="168" y="47"/>
                    </a:lnTo>
                    <a:lnTo>
                      <a:pt x="158" y="75"/>
                    </a:lnTo>
                    <a:lnTo>
                      <a:pt x="140" y="84"/>
                    </a:lnTo>
                    <a:lnTo>
                      <a:pt x="93" y="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43360" y="4011480"/>
                <a:ext cx="297000" cy="2095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10" y="93"/>
                    </a:moveTo>
                    <a:lnTo>
                      <a:pt x="47" y="52"/>
                    </a:lnTo>
                    <a:lnTo>
                      <a:pt x="106" y="16"/>
                    </a:lnTo>
                    <a:lnTo>
                      <a:pt x="159" y="0"/>
                    </a:lnTo>
                    <a:lnTo>
                      <a:pt x="181" y="0"/>
                    </a:lnTo>
                    <a:lnTo>
                      <a:pt x="186" y="28"/>
                    </a:lnTo>
                    <a:lnTo>
                      <a:pt x="171" y="47"/>
                    </a:lnTo>
                    <a:lnTo>
                      <a:pt x="131" y="56"/>
                    </a:lnTo>
                    <a:lnTo>
                      <a:pt x="93" y="56"/>
                    </a:lnTo>
                    <a:lnTo>
                      <a:pt x="50" y="83"/>
                    </a:lnTo>
                    <a:lnTo>
                      <a:pt x="12" y="118"/>
                    </a:lnTo>
                    <a:lnTo>
                      <a:pt x="0" y="131"/>
                    </a:lnTo>
                    <a:lnTo>
                      <a:pt x="10" y="9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4120" y="418788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23" y="94"/>
                    </a:moveTo>
                    <a:lnTo>
                      <a:pt x="0" y="54"/>
                    </a:lnTo>
                    <a:lnTo>
                      <a:pt x="0" y="17"/>
                    </a:lnTo>
                    <a:lnTo>
                      <a:pt x="27" y="0"/>
                    </a:lnTo>
                    <a:lnTo>
                      <a:pt x="49" y="20"/>
                    </a:lnTo>
                    <a:lnTo>
                      <a:pt x="36" y="57"/>
                    </a:lnTo>
                    <a:lnTo>
                      <a:pt x="23" y="9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480000" y="2889360"/>
              <a:ext cx="1864080" cy="3539880"/>
              <a:chOff x="6480000" y="2889360"/>
              <a:chExt cx="1864080" cy="3539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480000" y="3973680"/>
                <a:ext cx="730440" cy="1204920"/>
              </a:xfrm>
              <a:custGeom>
                <a:avLst/>
                <a:gdLst/>
                <a:ahLst/>
                <a:rect l="l" t="t" r="r" b="b"/>
                <a:pathLst>
                  <a:path w="460" h="759">
                    <a:moveTo>
                      <a:pt x="243" y="113"/>
                    </a:moveTo>
                    <a:lnTo>
                      <a:pt x="291" y="65"/>
                    </a:lnTo>
                    <a:lnTo>
                      <a:pt x="356" y="19"/>
                    </a:lnTo>
                    <a:lnTo>
                      <a:pt x="403" y="0"/>
                    </a:lnTo>
                    <a:lnTo>
                      <a:pt x="459" y="3"/>
                    </a:lnTo>
                    <a:lnTo>
                      <a:pt x="459" y="47"/>
                    </a:lnTo>
                    <a:lnTo>
                      <a:pt x="431" y="84"/>
                    </a:lnTo>
                    <a:lnTo>
                      <a:pt x="378" y="113"/>
                    </a:lnTo>
                    <a:lnTo>
                      <a:pt x="247" y="172"/>
                    </a:lnTo>
                    <a:lnTo>
                      <a:pt x="121" y="244"/>
                    </a:lnTo>
                    <a:lnTo>
                      <a:pt x="68" y="262"/>
                    </a:lnTo>
                    <a:lnTo>
                      <a:pt x="50" y="290"/>
                    </a:lnTo>
                    <a:lnTo>
                      <a:pt x="68" y="318"/>
                    </a:lnTo>
                    <a:lnTo>
                      <a:pt x="178" y="424"/>
                    </a:lnTo>
                    <a:lnTo>
                      <a:pt x="228" y="459"/>
                    </a:lnTo>
                    <a:lnTo>
                      <a:pt x="302" y="518"/>
                    </a:lnTo>
                    <a:lnTo>
                      <a:pt x="378" y="574"/>
                    </a:lnTo>
                    <a:lnTo>
                      <a:pt x="374" y="603"/>
                    </a:lnTo>
                    <a:lnTo>
                      <a:pt x="318" y="612"/>
                    </a:lnTo>
                    <a:lnTo>
                      <a:pt x="234" y="612"/>
                    </a:lnTo>
                    <a:lnTo>
                      <a:pt x="181" y="640"/>
                    </a:lnTo>
                    <a:lnTo>
                      <a:pt x="162" y="712"/>
                    </a:lnTo>
                    <a:lnTo>
                      <a:pt x="162" y="749"/>
                    </a:lnTo>
                    <a:lnTo>
                      <a:pt x="140" y="758"/>
                    </a:lnTo>
                    <a:lnTo>
                      <a:pt x="106" y="725"/>
                    </a:lnTo>
                    <a:lnTo>
                      <a:pt x="112" y="664"/>
                    </a:lnTo>
                    <a:lnTo>
                      <a:pt x="143" y="621"/>
                    </a:lnTo>
                    <a:lnTo>
                      <a:pt x="206" y="583"/>
                    </a:lnTo>
                    <a:lnTo>
                      <a:pt x="274" y="565"/>
                    </a:lnTo>
                    <a:lnTo>
                      <a:pt x="281" y="546"/>
                    </a:lnTo>
                    <a:lnTo>
                      <a:pt x="247" y="509"/>
                    </a:lnTo>
                    <a:lnTo>
                      <a:pt x="103" y="415"/>
                    </a:lnTo>
                    <a:lnTo>
                      <a:pt x="59" y="378"/>
                    </a:lnTo>
                    <a:lnTo>
                      <a:pt x="18" y="328"/>
                    </a:lnTo>
                    <a:lnTo>
                      <a:pt x="0" y="271"/>
                    </a:lnTo>
                    <a:lnTo>
                      <a:pt x="12" y="237"/>
                    </a:lnTo>
                    <a:lnTo>
                      <a:pt x="84" y="216"/>
                    </a:lnTo>
                    <a:lnTo>
                      <a:pt x="171" y="178"/>
                    </a:lnTo>
                    <a:lnTo>
                      <a:pt x="228" y="140"/>
                    </a:lnTo>
                    <a:lnTo>
                      <a:pt x="243" y="11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29440" y="3919680"/>
                <a:ext cx="509760" cy="1155600"/>
              </a:xfrm>
              <a:custGeom>
                <a:avLst/>
                <a:gdLst/>
                <a:ahLst/>
                <a:rect l="l" t="t" r="r" b="b"/>
                <a:pathLst>
                  <a:path w="321" h="728">
                    <a:moveTo>
                      <a:pt x="68" y="56"/>
                    </a:moveTo>
                    <a:lnTo>
                      <a:pt x="96" y="9"/>
                    </a:lnTo>
                    <a:lnTo>
                      <a:pt x="131" y="0"/>
                    </a:lnTo>
                    <a:lnTo>
                      <a:pt x="178" y="0"/>
                    </a:lnTo>
                    <a:lnTo>
                      <a:pt x="238" y="34"/>
                    </a:lnTo>
                    <a:lnTo>
                      <a:pt x="275" y="109"/>
                    </a:lnTo>
                    <a:lnTo>
                      <a:pt x="303" y="206"/>
                    </a:lnTo>
                    <a:lnTo>
                      <a:pt x="320" y="305"/>
                    </a:lnTo>
                    <a:lnTo>
                      <a:pt x="320" y="440"/>
                    </a:lnTo>
                    <a:lnTo>
                      <a:pt x="285" y="586"/>
                    </a:lnTo>
                    <a:lnTo>
                      <a:pt x="235" y="673"/>
                    </a:lnTo>
                    <a:lnTo>
                      <a:pt x="168" y="717"/>
                    </a:lnTo>
                    <a:lnTo>
                      <a:pt x="107" y="727"/>
                    </a:lnTo>
                    <a:lnTo>
                      <a:pt x="59" y="698"/>
                    </a:lnTo>
                    <a:lnTo>
                      <a:pt x="22" y="664"/>
                    </a:lnTo>
                    <a:lnTo>
                      <a:pt x="12" y="608"/>
                    </a:lnTo>
                    <a:lnTo>
                      <a:pt x="0" y="502"/>
                    </a:lnTo>
                    <a:lnTo>
                      <a:pt x="9" y="371"/>
                    </a:lnTo>
                    <a:lnTo>
                      <a:pt x="37" y="234"/>
                    </a:lnTo>
                    <a:lnTo>
                      <a:pt x="56" y="137"/>
                    </a:lnTo>
                    <a:lnTo>
                      <a:pt x="68" y="5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69120" y="4923000"/>
                <a:ext cx="298440" cy="1506240"/>
              </a:xfrm>
              <a:custGeom>
                <a:avLst/>
                <a:gdLst/>
                <a:ahLst/>
                <a:rect l="l" t="t" r="r" b="b"/>
                <a:pathLst>
                  <a:path w="188" h="949">
                    <a:moveTo>
                      <a:pt x="90" y="168"/>
                    </a:moveTo>
                    <a:lnTo>
                      <a:pt x="65" y="106"/>
                    </a:lnTo>
                    <a:lnTo>
                      <a:pt x="65" y="37"/>
                    </a:lnTo>
                    <a:lnTo>
                      <a:pt x="100" y="0"/>
                    </a:lnTo>
                    <a:lnTo>
                      <a:pt x="140" y="18"/>
                    </a:lnTo>
                    <a:lnTo>
                      <a:pt x="168" y="84"/>
                    </a:lnTo>
                    <a:lnTo>
                      <a:pt x="183" y="196"/>
                    </a:lnTo>
                    <a:lnTo>
                      <a:pt x="187" y="336"/>
                    </a:lnTo>
                    <a:lnTo>
                      <a:pt x="177" y="458"/>
                    </a:lnTo>
                    <a:lnTo>
                      <a:pt x="159" y="589"/>
                    </a:lnTo>
                    <a:lnTo>
                      <a:pt x="159" y="748"/>
                    </a:lnTo>
                    <a:lnTo>
                      <a:pt x="183" y="813"/>
                    </a:lnTo>
                    <a:lnTo>
                      <a:pt x="174" y="844"/>
                    </a:lnTo>
                    <a:lnTo>
                      <a:pt x="131" y="854"/>
                    </a:lnTo>
                    <a:lnTo>
                      <a:pt x="84" y="898"/>
                    </a:lnTo>
                    <a:lnTo>
                      <a:pt x="62" y="935"/>
                    </a:lnTo>
                    <a:lnTo>
                      <a:pt x="9" y="948"/>
                    </a:lnTo>
                    <a:lnTo>
                      <a:pt x="0" y="907"/>
                    </a:lnTo>
                    <a:lnTo>
                      <a:pt x="19" y="872"/>
                    </a:lnTo>
                    <a:lnTo>
                      <a:pt x="84" y="844"/>
                    </a:lnTo>
                    <a:lnTo>
                      <a:pt x="131" y="823"/>
                    </a:lnTo>
                    <a:lnTo>
                      <a:pt x="146" y="804"/>
                    </a:lnTo>
                    <a:lnTo>
                      <a:pt x="128" y="751"/>
                    </a:lnTo>
                    <a:lnTo>
                      <a:pt x="112" y="645"/>
                    </a:lnTo>
                    <a:lnTo>
                      <a:pt x="109" y="517"/>
                    </a:lnTo>
                    <a:lnTo>
                      <a:pt x="112" y="433"/>
                    </a:lnTo>
                    <a:lnTo>
                      <a:pt x="118" y="318"/>
                    </a:lnTo>
                    <a:lnTo>
                      <a:pt x="109" y="215"/>
                    </a:lnTo>
                    <a:lnTo>
                      <a:pt x="90" y="16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4760" y="4925880"/>
                <a:ext cx="461880" cy="1501920"/>
              </a:xfrm>
              <a:custGeom>
                <a:avLst/>
                <a:gdLst/>
                <a:ahLst/>
                <a:rect l="l" t="t" r="r" b="b"/>
                <a:pathLst>
                  <a:path w="291" h="946">
                    <a:moveTo>
                      <a:pt x="178" y="87"/>
                    </a:moveTo>
                    <a:lnTo>
                      <a:pt x="209" y="28"/>
                    </a:lnTo>
                    <a:lnTo>
                      <a:pt x="247" y="0"/>
                    </a:lnTo>
                    <a:lnTo>
                      <a:pt x="290" y="18"/>
                    </a:lnTo>
                    <a:lnTo>
                      <a:pt x="284" y="74"/>
                    </a:lnTo>
                    <a:lnTo>
                      <a:pt x="256" y="115"/>
                    </a:lnTo>
                    <a:lnTo>
                      <a:pt x="200" y="215"/>
                    </a:lnTo>
                    <a:lnTo>
                      <a:pt x="163" y="311"/>
                    </a:lnTo>
                    <a:lnTo>
                      <a:pt x="141" y="414"/>
                    </a:lnTo>
                    <a:lnTo>
                      <a:pt x="144" y="514"/>
                    </a:lnTo>
                    <a:lnTo>
                      <a:pt x="178" y="648"/>
                    </a:lnTo>
                    <a:lnTo>
                      <a:pt x="207" y="777"/>
                    </a:lnTo>
                    <a:lnTo>
                      <a:pt x="247" y="832"/>
                    </a:lnTo>
                    <a:lnTo>
                      <a:pt x="244" y="864"/>
                    </a:lnTo>
                    <a:lnTo>
                      <a:pt x="209" y="879"/>
                    </a:lnTo>
                    <a:lnTo>
                      <a:pt x="131" y="891"/>
                    </a:lnTo>
                    <a:lnTo>
                      <a:pt x="76" y="926"/>
                    </a:lnTo>
                    <a:lnTo>
                      <a:pt x="47" y="945"/>
                    </a:lnTo>
                    <a:lnTo>
                      <a:pt x="0" y="901"/>
                    </a:lnTo>
                    <a:lnTo>
                      <a:pt x="10" y="873"/>
                    </a:lnTo>
                    <a:lnTo>
                      <a:pt x="56" y="854"/>
                    </a:lnTo>
                    <a:lnTo>
                      <a:pt x="116" y="845"/>
                    </a:lnTo>
                    <a:lnTo>
                      <a:pt x="172" y="845"/>
                    </a:lnTo>
                    <a:lnTo>
                      <a:pt x="181" y="827"/>
                    </a:lnTo>
                    <a:lnTo>
                      <a:pt x="172" y="795"/>
                    </a:lnTo>
                    <a:lnTo>
                      <a:pt x="125" y="674"/>
                    </a:lnTo>
                    <a:lnTo>
                      <a:pt x="94" y="554"/>
                    </a:lnTo>
                    <a:lnTo>
                      <a:pt x="78" y="468"/>
                    </a:lnTo>
                    <a:lnTo>
                      <a:pt x="76" y="387"/>
                    </a:lnTo>
                    <a:lnTo>
                      <a:pt x="87" y="308"/>
                    </a:lnTo>
                    <a:lnTo>
                      <a:pt x="116" y="227"/>
                    </a:lnTo>
                    <a:lnTo>
                      <a:pt x="159" y="121"/>
                    </a:lnTo>
                    <a:lnTo>
                      <a:pt x="178" y="8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3680" y="3056040"/>
                <a:ext cx="595440" cy="784080"/>
              </a:xfrm>
              <a:custGeom>
                <a:avLst/>
                <a:gdLst/>
                <a:ahLst/>
                <a:rect l="l" t="t" r="r" b="b"/>
                <a:pathLst>
                  <a:path w="375" h="494">
                    <a:moveTo>
                      <a:pt x="136" y="412"/>
                    </a:moveTo>
                    <a:lnTo>
                      <a:pt x="164" y="474"/>
                    </a:lnTo>
                    <a:lnTo>
                      <a:pt x="230" y="493"/>
                    </a:lnTo>
                    <a:lnTo>
                      <a:pt x="286" y="487"/>
                    </a:lnTo>
                    <a:lnTo>
                      <a:pt x="333" y="447"/>
                    </a:lnTo>
                    <a:lnTo>
                      <a:pt x="370" y="365"/>
                    </a:lnTo>
                    <a:lnTo>
                      <a:pt x="374" y="268"/>
                    </a:lnTo>
                    <a:lnTo>
                      <a:pt x="361" y="184"/>
                    </a:lnTo>
                    <a:lnTo>
                      <a:pt x="308" y="90"/>
                    </a:lnTo>
                    <a:lnTo>
                      <a:pt x="270" y="46"/>
                    </a:lnTo>
                    <a:lnTo>
                      <a:pt x="230" y="19"/>
                    </a:lnTo>
                    <a:lnTo>
                      <a:pt x="193" y="0"/>
                    </a:lnTo>
                    <a:lnTo>
                      <a:pt x="127" y="6"/>
                    </a:lnTo>
                    <a:lnTo>
                      <a:pt x="92" y="62"/>
                    </a:lnTo>
                    <a:lnTo>
                      <a:pt x="74" y="122"/>
                    </a:lnTo>
                    <a:lnTo>
                      <a:pt x="74" y="215"/>
                    </a:lnTo>
                    <a:lnTo>
                      <a:pt x="90" y="306"/>
                    </a:lnTo>
                    <a:lnTo>
                      <a:pt x="108" y="356"/>
                    </a:lnTo>
                    <a:lnTo>
                      <a:pt x="5" y="430"/>
                    </a:lnTo>
                    <a:lnTo>
                      <a:pt x="0" y="459"/>
                    </a:lnTo>
                    <a:lnTo>
                      <a:pt x="15" y="474"/>
                    </a:lnTo>
                    <a:lnTo>
                      <a:pt x="127" y="390"/>
                    </a:lnTo>
                    <a:lnTo>
                      <a:pt x="136" y="41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59680" y="2889360"/>
                <a:ext cx="1184400" cy="1312920"/>
              </a:xfrm>
              <a:custGeom>
                <a:avLst/>
                <a:gdLst/>
                <a:ahLst/>
                <a:rect l="l" t="t" r="r" b="b"/>
                <a:pathLst>
                  <a:path w="746" h="827">
                    <a:moveTo>
                      <a:pt x="495" y="571"/>
                    </a:moveTo>
                    <a:lnTo>
                      <a:pt x="458" y="608"/>
                    </a:lnTo>
                    <a:lnTo>
                      <a:pt x="380" y="655"/>
                    </a:lnTo>
                    <a:lnTo>
                      <a:pt x="309" y="683"/>
                    </a:lnTo>
                    <a:lnTo>
                      <a:pt x="259" y="711"/>
                    </a:lnTo>
                    <a:lnTo>
                      <a:pt x="211" y="748"/>
                    </a:lnTo>
                    <a:lnTo>
                      <a:pt x="206" y="814"/>
                    </a:lnTo>
                    <a:lnTo>
                      <a:pt x="252" y="826"/>
                    </a:lnTo>
                    <a:lnTo>
                      <a:pt x="371" y="757"/>
                    </a:lnTo>
                    <a:lnTo>
                      <a:pt x="458" y="676"/>
                    </a:lnTo>
                    <a:lnTo>
                      <a:pt x="561" y="574"/>
                    </a:lnTo>
                    <a:lnTo>
                      <a:pt x="645" y="508"/>
                    </a:lnTo>
                    <a:lnTo>
                      <a:pt x="717" y="458"/>
                    </a:lnTo>
                    <a:lnTo>
                      <a:pt x="745" y="433"/>
                    </a:lnTo>
                    <a:lnTo>
                      <a:pt x="735" y="402"/>
                    </a:lnTo>
                    <a:lnTo>
                      <a:pt x="701" y="359"/>
                    </a:lnTo>
                    <a:lnTo>
                      <a:pt x="576" y="290"/>
                    </a:lnTo>
                    <a:lnTo>
                      <a:pt x="458" y="228"/>
                    </a:lnTo>
                    <a:lnTo>
                      <a:pt x="314" y="162"/>
                    </a:lnTo>
                    <a:lnTo>
                      <a:pt x="261" y="125"/>
                    </a:lnTo>
                    <a:lnTo>
                      <a:pt x="206" y="75"/>
                    </a:lnTo>
                    <a:lnTo>
                      <a:pt x="149" y="19"/>
                    </a:lnTo>
                    <a:lnTo>
                      <a:pt x="99" y="0"/>
                    </a:lnTo>
                    <a:lnTo>
                      <a:pt x="0" y="69"/>
                    </a:lnTo>
                    <a:lnTo>
                      <a:pt x="6" y="134"/>
                    </a:lnTo>
                    <a:lnTo>
                      <a:pt x="25" y="159"/>
                    </a:lnTo>
                    <a:lnTo>
                      <a:pt x="75" y="149"/>
                    </a:lnTo>
                    <a:lnTo>
                      <a:pt x="66" y="122"/>
                    </a:lnTo>
                    <a:lnTo>
                      <a:pt x="47" y="112"/>
                    </a:lnTo>
                    <a:lnTo>
                      <a:pt x="37" y="78"/>
                    </a:lnTo>
                    <a:lnTo>
                      <a:pt x="93" y="41"/>
                    </a:lnTo>
                    <a:lnTo>
                      <a:pt x="140" y="78"/>
                    </a:lnTo>
                    <a:lnTo>
                      <a:pt x="140" y="112"/>
                    </a:lnTo>
                    <a:lnTo>
                      <a:pt x="121" y="153"/>
                    </a:lnTo>
                    <a:lnTo>
                      <a:pt x="137" y="181"/>
                    </a:lnTo>
                    <a:lnTo>
                      <a:pt x="230" y="206"/>
                    </a:lnTo>
                    <a:lnTo>
                      <a:pt x="268" y="171"/>
                    </a:lnTo>
                    <a:lnTo>
                      <a:pt x="393" y="247"/>
                    </a:lnTo>
                    <a:lnTo>
                      <a:pt x="495" y="293"/>
                    </a:lnTo>
                    <a:lnTo>
                      <a:pt x="552" y="321"/>
                    </a:lnTo>
                    <a:lnTo>
                      <a:pt x="607" y="350"/>
                    </a:lnTo>
                    <a:lnTo>
                      <a:pt x="651" y="387"/>
                    </a:lnTo>
                    <a:lnTo>
                      <a:pt x="679" y="424"/>
                    </a:lnTo>
                    <a:lnTo>
                      <a:pt x="654" y="452"/>
                    </a:lnTo>
                    <a:lnTo>
                      <a:pt x="595" y="490"/>
                    </a:lnTo>
                    <a:lnTo>
                      <a:pt x="533" y="533"/>
                    </a:lnTo>
                    <a:lnTo>
                      <a:pt x="495" y="571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uma entidade lógica que contém dados e código para manipular esses d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um tipo de dado, como os já conhecidos, para declarar variáve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 variável de uma classe é chamada de Obj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 uma classe não cria um objeto, assim como um tipo de variável NÃO é uma variá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riáveis de Class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ão os dados declarados em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étodos ou Funções-memb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ão as funções e procedimentos declarados em uma classe e que permitem a manipulação dos dados (variáveis de class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ânc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mos uma instância de uma classe quando declaramos um objeto a partir de uma classe. É semelhante à declaração de uma variá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292480"/>
            <a:ext cx="3264120" cy="37972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3435480"/>
            <a:ext cx="1587600" cy="672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4560" y="4349880"/>
            <a:ext cx="1968480" cy="143496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7520" y="35654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4880" y="486108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6172200"/>
            <a:ext cx="236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7440" y="2521080"/>
            <a:ext cx="2654280" cy="30351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28840" y="5851440"/>
            <a:ext cx="23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Â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4640" y="2901960"/>
            <a:ext cx="1587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1640" y="31082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6040" y="3892680"/>
            <a:ext cx="2197080" cy="135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32680" y="440388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9160" y="1736640"/>
            <a:ext cx="358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ÁVEIS DE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1000" y="1889280"/>
            <a:ext cx="400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ÁVEIS DE INSTÂ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828440" y="2133720"/>
            <a:ext cx="3049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286000"/>
            <a:ext cx="15228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7:30Z</dcterms:created>
  <dc:creator>Reinaldo Madarazo</dc:creator>
  <dc:description/>
  <dc:language>en-US</dc:language>
  <cp:lastModifiedBy>Reinaldo Madarazo</cp:lastModifiedBy>
  <dcterms:modified xsi:type="dcterms:W3CDTF">1999-02-17T14:14:09Z</dcterms:modified>
  <cp:revision>64</cp:revision>
  <dc:subject/>
  <dc:title>Orientação a Objetos</dc:title>
</cp:coreProperties>
</file>