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2A1-683C-4407-83AA-9EFFEA42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4ED0-786F-4AC1-8F64-008057BB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05B8-324D-4427-A068-0145ED91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E479-F1AC-444C-9AF1-9C3A3D8E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A54E-0D08-4B13-8ED2-4F924C3E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8258-9C94-4703-8B6F-323D937B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BEAF-8C2A-4BE6-B084-2AD92529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8E1C-CEA0-491C-9F78-47448A9B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3674-9AA5-4C4F-BE56-2E834508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A60A-68AF-4C5D-B86C-1352CEB6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D44B-F6E6-40B3-9B2B-EF9C37A5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B0B0-0E67-480D-BDE5-DF4179DE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BC62-3330-49B5-98BC-428D48D9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1B92-1334-41AD-BAA2-8B14DA4B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179A-91B8-4848-8118-105F1E2C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C7DD-AAC7-4CF3-84A3-28659BD0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BC1B-F938-48F5-BAB5-B533742D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1442-4C34-4223-B4D2-1144C4F2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1CD8-B009-4C7A-A249-6D220188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9747-38F9-4C56-957F-6F3DF674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16CB-BCF9-4334-AD9E-7432BF74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99C1-C783-4257-AB46-4C34222B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13BE-7E74-4F99-9DD5-F68308AE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7FBB-CE7D-4AE3-B4B6-816C602C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C42C-3D49-41EA-B5BA-A933D235C7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69A1-8445-42BD-AB9E-85BE229A44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cccc"/>
                </a:solidFill>
                <a:latin typeface="Times New Roman"/>
              </a:rPr>
              <a:t>Visual Component Library - VCL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elphi / C++ 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Observação: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odos os componentes vistos até agora possuem as seguintes proprieda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Hint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String) - Mensagem exibida pelo componente quando o usuário coloca o mouse sobre e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ShowHint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Boolean) - Ativa ou não a exibição da mensag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TabOrder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Se o componente possuir foco, indica o sentido de movimento da tecla TA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cccc"/>
                </a:solidFill>
                <a:latin typeface="Times New Roman"/>
              </a:rPr>
              <a:t>Classe TForm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767120" y="2610000"/>
          <a:ext cx="4124520" cy="26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7120" y="2610000"/>
                    <a:ext cx="412452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efixo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frm (Ex.: frmJanel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oprieda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Caption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Título 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jane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BorderStyle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Mu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tipo da borda 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jane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cccc"/>
                </a:solidFill>
                <a:latin typeface="Times New Roman"/>
              </a:rPr>
              <a:t>Classe TForm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BorderIcons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Permite mostrar os botões de minimizar, maximizar, fechar e aju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Icon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Permite mudar o ícone da jane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cccc"/>
                </a:solidFill>
                <a:latin typeface="Times New Roman"/>
              </a:rPr>
              <a:t>Componente TListBox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624640" y="1947960"/>
          <a:ext cx="290988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24640" y="1947960"/>
                    <a:ext cx="29098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efixo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lst (Ex.: lstNu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oprieda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ItemIndex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: (Integer) - In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ica o índice do ele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lecionado no ListBo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 nenhum estiver selecionado, seu valor 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-1.  Obs.: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o primeiro elemento tem índice 0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39960" y="5511960"/>
            <a:ext cx="634680" cy="634680"/>
          </a:xfrm>
          <a:prstGeom prst="ellipse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cccc"/>
                </a:solidFill>
                <a:latin typeface="Times New Roman"/>
              </a:rPr>
              <a:t>Componente TListBox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Item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:  Esta propriedade é na realidade um objeto da classe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TString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, e corresponde a um vetor de componentes Strings. Assim, 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Items[0]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é o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primeir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elemento do ListBo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opriedades de Ite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Count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: Indica o número de elementos de um ListBox (na verdade, é a dimensão de Item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cccc"/>
                </a:solidFill>
                <a:latin typeface="Times New Roman"/>
              </a:rPr>
              <a:t>Componente TListBox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Métodos de Ite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Clear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Limpa o conteúdo do ListBox. </a:t>
            </a:r>
            <a:r>
              <a:rPr b="0" i="1" lang="pt-BR" sz="3200" spc="-1" strike="noStrike">
                <a:solidFill>
                  <a:srgbClr val="00cccc"/>
                </a:solidFill>
                <a:latin typeface="Times New Roman"/>
              </a:rPr>
              <a:t>Sintaxe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Cl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Add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Adiciona uma string ao ListBox. </a:t>
            </a:r>
            <a:r>
              <a:rPr b="0" i="1" lang="pt-BR" sz="3200" spc="-1" strike="noStrike">
                <a:solidFill>
                  <a:srgbClr val="00cccc"/>
                </a:solidFill>
                <a:latin typeface="Times New Roman"/>
              </a:rPr>
              <a:t>Sintaxe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Add(String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Delete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Exclui um elemento do ListBox. </a:t>
            </a:r>
            <a:r>
              <a:rPr b="0" i="1" lang="pt-BR" sz="3200" spc="-1" strike="noStrike">
                <a:solidFill>
                  <a:srgbClr val="00cccc"/>
                </a:solidFill>
                <a:latin typeface="Times New Roman"/>
              </a:rPr>
              <a:t>Sintaxe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Delete(Índic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Nome dos componente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ffff00"/>
                </a:solidFill>
                <a:latin typeface="Courier New"/>
              </a:rPr>
              <a:t>btn</a:t>
            </a:r>
            <a:r>
              <a:rPr b="1" lang="pt-BR" sz="8000" spc="-1" strike="noStrike">
                <a:solidFill>
                  <a:srgbClr val="cbcbcb"/>
                </a:solidFill>
                <a:latin typeface="Courier New"/>
              </a:rPr>
              <a:t>Calc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133360" y="3124080"/>
            <a:ext cx="2133720" cy="1295640"/>
            <a:chOff x="2133360" y="3124080"/>
            <a:chExt cx="2133720" cy="1295640"/>
          </a:xfrm>
        </p:grpSpPr>
        <p:sp>
          <p:nvSpPr>
            <p:cNvPr id="115" name=""/>
            <p:cNvSpPr/>
            <p:nvPr/>
          </p:nvSpPr>
          <p:spPr>
            <a:xfrm>
              <a:off x="2286000" y="3124080"/>
              <a:ext cx="1981080" cy="0"/>
            </a:xfrm>
            <a:prstGeom prst="line">
              <a:avLst/>
            </a:prstGeom>
            <a:ln w="7632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2133360" y="3124080"/>
              <a:ext cx="1066680" cy="1295640"/>
            </a:xfrm>
            <a:prstGeom prst="line">
              <a:avLst/>
            </a:prstGeom>
            <a:ln w="7632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419720" y="3124080"/>
            <a:ext cx="2286000" cy="1219320"/>
            <a:chOff x="4419720" y="3124080"/>
            <a:chExt cx="2286000" cy="1219320"/>
          </a:xfrm>
        </p:grpSpPr>
        <p:sp>
          <p:nvSpPr>
            <p:cNvPr id="118" name=""/>
            <p:cNvSpPr/>
            <p:nvPr/>
          </p:nvSpPr>
          <p:spPr>
            <a:xfrm>
              <a:off x="4419720" y="3124080"/>
              <a:ext cx="2286000" cy="0"/>
            </a:xfrm>
            <a:prstGeom prst="line">
              <a:avLst/>
            </a:prstGeom>
            <a:ln w="7632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8680" y="3124080"/>
              <a:ext cx="762120" cy="1219320"/>
            </a:xfrm>
            <a:prstGeom prst="line">
              <a:avLst/>
            </a:prstGeom>
            <a:ln w="7632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800280" y="4389480"/>
            <a:ext cx="3412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FIXO: Indica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po de obje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09400" y="4465800"/>
            <a:ext cx="3015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ME do obje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cccc"/>
                </a:solidFill>
                <a:latin typeface="Times New Roman"/>
              </a:rPr>
              <a:t>Componente TLabel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981760" y="1371600"/>
          <a:ext cx="209556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1760" y="1371600"/>
                    <a:ext cx="20955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efixo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lbl (ex. lblNo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oprieda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Caption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String)-Texto que o label most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AutoSize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Boolean) -  deixa o label do tamanho do seu tex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Transparent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Boolean) - deixa o label com o fundo transparente ou n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FocusControl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indica qual o objeto receberá o foco quando pressionada a tecla de atalh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cccc"/>
                </a:solidFill>
                <a:latin typeface="Times New Roman"/>
              </a:rPr>
              <a:t>Componente TEdi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267160" y="1461960"/>
          <a:ext cx="3267360" cy="13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7160" y="1461960"/>
                    <a:ext cx="326736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efixo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txt (Ex.: txtFo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oprieda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Text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string) - Contém o texto digit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Font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Seleciona fonte do tex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Color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Cor de fun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MaxLength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(integer) - Tamanho máximo do texto (0 indica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sem limite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cccc"/>
                </a:solidFill>
                <a:latin typeface="Times New Roman"/>
              </a:rPr>
              <a:t>Componente TEdi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Méto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SetFocus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Coloca o cursor na caixa de texto, selecionado o texto todo, se existi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Clear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Limpa o conteúdo de TEd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cccc"/>
                </a:solidFill>
                <a:latin typeface="Times New Roman"/>
              </a:rPr>
              <a:t>Componente TPanel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915160" y="1914480"/>
          <a:ext cx="216216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15160" y="1914480"/>
                    <a:ext cx="216216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efixo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pnl (Ex.: pnlResul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oprieda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Caption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String) - Texto exibi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BevelInner, BevelOuter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Integer) - Definem o tipo (moldura) do pain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BorderStyle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Indica o tipo da bor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Font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: indica a fonte usada pelo pan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cccc"/>
                </a:solidFill>
                <a:latin typeface="Times New Roman"/>
              </a:rPr>
              <a:t>Componente TButton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967360" y="1719360"/>
          <a:ext cx="233856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7360" y="1719360"/>
                    <a:ext cx="233856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efixo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btn (Ex.: btnCalcul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oprieda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Caption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Texto exibido pelo bot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Font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Fonte utilizada no bot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Default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Boolean) - Indica se o botão deve responder à tecla EN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Cancel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Boolean) - Indica se o botão deve responder à tecla ES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cccc"/>
                </a:solidFill>
                <a:latin typeface="Times New Roman"/>
              </a:rPr>
              <a:t>Componente TBitBtn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710320" y="1628640"/>
          <a:ext cx="2367000" cy="8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0320" y="1628640"/>
                    <a:ext cx="236700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efixo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btn (Ex.: btnSai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opriedades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Além das vistas para TButton, tem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Kind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Tipo de botão pré-definido, com caption e figu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Glyph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Permite escolher o tipo de figura a ser exibida pelo bot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cccc"/>
                </a:solidFill>
                <a:latin typeface="Times New Roman"/>
              </a:rPr>
              <a:t>Componente TGroupBox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423040" y="2784600"/>
          <a:ext cx="3416040" cy="22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3040" y="2784600"/>
                    <a:ext cx="341604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efixo: grb, fra (Ex.: fraFigur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prieda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Caption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Texto mostr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Font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Seleciona fo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4:56Z</dcterms:created>
  <dc:creator>Reinaldo Madarazo</dc:creator>
  <dc:description/>
  <dc:language>en-US</dc:language>
  <cp:lastModifiedBy>Reinaldo Madarazo</cp:lastModifiedBy>
  <dcterms:modified xsi:type="dcterms:W3CDTF">1999-02-17T14:23:28Z</dcterms:modified>
  <cp:revision>47</cp:revision>
  <dc:subject/>
  <dc:title>Visual Component Library - VCL</dc:title>
</cp:coreProperties>
</file>