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7CF71-A237-4C49-8231-B13C4B6D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0DAAF-4C8A-488C-A01D-E95557A4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BCD16-F3B7-4AFC-94F1-18A7B107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CBBD8-29BD-4181-8432-7B3E0E7E0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7772-BE49-40A7-9DE4-D4924CEA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A656-831C-4036-8961-6707EF06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2408-588D-4859-9234-197A0028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DCAE-79CE-445D-BBF9-E8E2EB05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8F8B-0A2C-4021-AC25-F29DAD75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8DF2-F688-459A-972F-C7725A28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3BA4-F0B1-42F0-9B39-74DDA2A6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F8D87-F18D-4D61-8801-3E4A221C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E891-4E55-490D-A889-93E5DDC1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3FDA-74E3-42CD-A4F0-17F6CE9B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F26C-ECDC-4F88-AB9B-3082AD45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C21C-2D0E-43D4-B50E-C823EEC9F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A3B7-46AF-4C6B-B06C-AC6607DA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B43B9-D439-4BAA-B90F-7399FFE0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E1BB0-FA6E-4BD1-9C02-72793B8C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74636-A90D-44A3-BEE8-C3DAC293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8F06D-D33F-4D8B-BB33-D257211C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3557A-BDD9-44B7-92E7-A176E968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488D9-EABA-4920-9798-DBC52BFC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3EC99-7A3F-4CC8-B6B8-4B0EF83B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7FDB-7586-4BBB-8279-BC0B0972F3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© 2003 by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1295280" y="632448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3794"/>
                </a:moveTo>
                <a:lnTo>
                  <a:pt x="28594" y="10800"/>
                </a:lnTo>
                <a:lnTo>
                  <a:pt x="14581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previousslide"/>
          </p:cNvPr>
          <p:cNvSpPr/>
          <p:nvPr/>
        </p:nvSpPr>
        <p:spPr>
          <a:xfrm>
            <a:off x="609480" y="632448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60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© 2003 by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39C7-5D8E-4179-82CE-E9914BF900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image" Target="../media/image1.png"/><Relationship Id="rId4" Type="http://schemas.openxmlformats.org/officeDocument/2006/relationships/slide" Target="slide12.xml"/><Relationship Id="rId5" Type="http://schemas.openxmlformats.org/officeDocument/2006/relationships/image" Target="../media/image1.png"/><Relationship Id="rId6" Type="http://schemas.openxmlformats.org/officeDocument/2006/relationships/slide" Target="slide14.xml"/><Relationship Id="rId7" Type="http://schemas.openxmlformats.org/officeDocument/2006/relationships/slide" Target="slide4.xml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" Target="slide10.xm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" Target="slide10.xml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" Target="slide10.xm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image" Target="../media/image1.png"/><Relationship Id="rId4" Type="http://schemas.openxmlformats.org/officeDocument/2006/relationships/slide" Target="slide19.xml"/><Relationship Id="rId5" Type="http://schemas.openxmlformats.org/officeDocument/2006/relationships/image" Target="../media/image1.png"/><Relationship Id="rId6" Type="http://schemas.openxmlformats.org/officeDocument/2006/relationships/slide" Target="slide21.xml"/><Relationship Id="rId7" Type="http://schemas.openxmlformats.org/officeDocument/2006/relationships/image" Target="../media/image1.png"/><Relationship Id="rId8" Type="http://schemas.openxmlformats.org/officeDocument/2006/relationships/slide" Target="slide23.xml"/><Relationship Id="rId9" Type="http://schemas.openxmlformats.org/officeDocument/2006/relationships/slide" Target="slide10.xml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16.xml"/><Relationship Id="rId6" Type="http://schemas.openxmlformats.org/officeDocument/2006/relationships/image" Target="../media/image1.png"/><Relationship Id="rId7" Type="http://schemas.openxmlformats.org/officeDocument/2006/relationships/slide" Target="slide17.xml"/><Relationship Id="rId8" Type="http://schemas.openxmlformats.org/officeDocument/2006/relationships/image" Target="../media/image1.png"/><Relationship Id="rId9" Type="http://schemas.openxmlformats.org/officeDocument/2006/relationships/slide" Target="slide13.xml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9.xml"/><Relationship Id="rId3" Type="http://schemas.openxmlformats.org/officeDocument/2006/relationships/image" Target="../media/image1.png"/><Relationship Id="rId4" Type="http://schemas.openxmlformats.org/officeDocument/2006/relationships/slide" Target="slide20.xml"/><Relationship Id="rId5" Type="http://schemas.openxmlformats.org/officeDocument/2006/relationships/slide" Target="slide14.xml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18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18.xm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22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" Target="slide21.xml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25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8.xml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25.xm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27.xml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" Target="slide27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31.xml"/><Relationship Id="rId4" Type="http://schemas.openxmlformats.org/officeDocument/2006/relationships/slide" Target="slide35.xml"/><Relationship Id="rId5" Type="http://schemas.openxmlformats.org/officeDocument/2006/relationships/slide" Target="slide40.xml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2.xml"/><Relationship Id="rId3" Type="http://schemas.openxmlformats.org/officeDocument/2006/relationships/image" Target="../media/image1.png"/><Relationship Id="rId4" Type="http://schemas.openxmlformats.org/officeDocument/2006/relationships/slide" Target="slide33.xml"/><Relationship Id="rId5" Type="http://schemas.openxmlformats.org/officeDocument/2006/relationships/image" Target="../media/image1.png"/><Relationship Id="rId6" Type="http://schemas.openxmlformats.org/officeDocument/2006/relationships/slide" Target="slide34.xml"/><Relationship Id="rId7" Type="http://schemas.openxmlformats.org/officeDocument/2006/relationships/slide" Target="slide30.xml"/><Relationship Id="rId8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31.xml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25.xml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" Target="slide25.xml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6.xml"/><Relationship Id="rId3" Type="http://schemas.openxmlformats.org/officeDocument/2006/relationships/image" Target="../media/image1.png"/><Relationship Id="rId4" Type="http://schemas.openxmlformats.org/officeDocument/2006/relationships/slide" Target="slide37.xml"/><Relationship Id="rId5" Type="http://schemas.openxmlformats.org/officeDocument/2006/relationships/image" Target="../media/image1.png"/><Relationship Id="rId6" Type="http://schemas.openxmlformats.org/officeDocument/2006/relationships/slide" Target="slide38.xml"/><Relationship Id="rId7" Type="http://schemas.openxmlformats.org/officeDocument/2006/relationships/slide" Target="slide30.xml"/><Relationship Id="rId8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" Target="slide35.xml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35.xml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35.xml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5.xml"/><Relationship Id="rId4" Type="http://schemas.openxmlformats.org/officeDocument/2006/relationships/image" Target="../media/image1.png"/><Relationship Id="rId5" Type="http://schemas.openxmlformats.org/officeDocument/2006/relationships/slide" Target="slide6.xml"/><Relationship Id="rId6" Type="http://schemas.openxmlformats.org/officeDocument/2006/relationships/image" Target="../media/image1.png"/><Relationship Id="rId7" Type="http://schemas.openxmlformats.org/officeDocument/2006/relationships/slide" Target="slide7.xml"/><Relationship Id="rId8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Computers:</a:t>
            </a:r>
            <a:br>
              <a:rPr sz="4800"/>
            </a:b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ools for an Information Ag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609120" y="426708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ing Systems: Software in the Back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1A5E-05E7-4D6C-9A8E-9F9AE15F80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icrosoft Window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an as an 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2" action="ppaction://hlinksldjump"/>
              </a:rPr>
              <a:t>operating environmen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or MS-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 full-blown operating system; required MS-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a 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4" action="ppaction://hlinksldjump"/>
              </a:rPr>
              <a:t>graphical user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s can use DOS commands and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a 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6" action="ppaction://hlinksldjump"/>
              </a:rPr>
              <a:t>complete family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of operating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7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0D443-5376-4E70-9E19-D2B0B587178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MS-DOS Operating Environment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ayer added “on top” of 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arates operating system from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s operating system easier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ed a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4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28763-4EC6-4A05-9B77-F415E40EB16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raphical User Interfa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r clicks an icon to perform ta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 Menu in lower left corner launches 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menus to activate comm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4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ABB09-4B5B-4238-AC54-04C662EE491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indows Featur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 file names (up to 255 charact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g and P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s installing hardware components eas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 Linking and Embedding (O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user to embed or link one document to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4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FC536-AE82-49D6-895E-6C1D70EA555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2" action="ppaction://hlinksldjump"/>
              </a:rPr>
              <a:t>Windows 9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Millennium Edition (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4" action="ppaction://hlinksldjump"/>
              </a:rPr>
              <a:t>Corporate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6" action="ppaction://hlinksldjump"/>
              </a:rPr>
              <a:t>Windows X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8" action="ppaction://hlinksldjump"/>
              </a:rPr>
              <a:t>Windows 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Windows Famil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9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E72F2-6EEF-43A0-B838-ABECA2637475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indows 9</a:t>
            </a:r>
            <a:r>
              <a:rPr b="0" i="1" lang="en-US" sz="4400" spc="-1" strike="noStrike">
                <a:solidFill>
                  <a:srgbClr val="dfdef6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home/consumer mar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onger a shell, but a self-contained operating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an with Windows 9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xt Gener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ff"/>
                </a:solidFill>
                <a:uFillTx/>
                <a:latin typeface="Arial"/>
                <a:hlinkClick r:id="rId5" action="ppaction://hlinksldjump"/>
              </a:rPr>
              <a:t>Windows 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ff"/>
                </a:solidFill>
                <a:uFillTx/>
                <a:latin typeface="Arial"/>
                <a:hlinkClick r:id="rId7" action="ppaction://hlinksldjump"/>
              </a:rPr>
              <a:t>Windows 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9" action="ppaction://hlinksldjump"/>
              </a:rPr>
              <a:t>improvement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over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1F128-C36B-4182-B6A3-AC7ECAD1F83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indows 98 Enhancemen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ternet/intranet browsing capabili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ort for state-of-the-art hardware, including DVD and multimed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ort for huge disk driv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496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izards: step-by-step software for installing, configuring, and using softwa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A2184-973D-42A8-A782-B64FC66B84F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indows ME Enhancemen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media support: Media Player, video ed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hanced reliability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 network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AC037-7B51-490C-B6CE-6F4BB419A5F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rporate Marke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2" action="ppaction://hlinksldjump"/>
              </a:rPr>
              <a:t>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T stands for “new technolog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4" action="ppaction://hlinksldjump"/>
              </a:rPr>
              <a:t>Windows 2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5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2E791-67AB-45D7-975F-C698CE1000B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indows 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ktop looks and acts like Windows 9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t for corporate, networked enviro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gineered for scalability (the ability to handle many use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onger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3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1C193-E68C-4684-997A-D6CBC0F2CAA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functions of an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in the basics of a personal computer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advantages of a graphical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iate among different versions of Microsoft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in the need for network operating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77EC3-44C4-4772-AEB7-9FD1EB4208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indows 2000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test generation of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computer “serves” many 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identify yourself and the system knows your pre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get “your” desktop and files, regardless of which PC you use to log into the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3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AC71A-18BB-4D66-A2F4-DF6D014C655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indows XP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ngs consumer and corporate versions of Windows together into a single pro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 Home and Professional E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3" action="ppaction://hlinksldjump"/>
              </a:rPr>
              <a:t>Enhanc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4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D58AF-0276-4A46-A959-3A0456DE0AB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indows XP Enhancemen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d user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ch clearer and uncluttered deskt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icons on redesigned Start Me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d multimedia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person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user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 can log off, leaving programs running, and allow another user to log 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up limited accounts for children to use; i.e., no inappropriate games or no Internet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 support and pro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6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65C18-3156-4C57-B970-33B4764019D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indows 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led-back version of Windows 9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to work on machines with small screens and little, if any,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in Pocket P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in embedded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 devices integrated into other products; i.e., rob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.NET supports .NET plat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89759-0824-47B9-B779-35C98AF788D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AC O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for the Macintosh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commercially successful G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 served as the model for Windows and other GUI products developed since t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3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B4545-8A8A-411F-BFD9-A5E5323E6CF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NIX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ed in 1971 for use on the DEC mini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-based system with command-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tied to any family of 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s on just about every type of system (PC, mainframe, workstation) from any manufactur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operating system in use on Internet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dles many simultaneous users eas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5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DF9C9-096E-4903-8EAA-E62F302F12E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inux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command-line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companies have created a GUI to work with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-source con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rce code is f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rs can download, change, and distribute the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stable than Win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 relatively sca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5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0D175-E07E-4DD2-855F-E58F92B4905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Operating Systems for Network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 operating system (NO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les 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2" action="ppaction://hlinksldjump"/>
              </a:rPr>
              <a:t>network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resources appear as though they were running from client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3" action="ppaction://hlinksldjump"/>
              </a:rPr>
              <a:t>Common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3D8D6-A421-4A10-92D0-67A45B081AD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etwork Func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resources (hard disks and print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ubleshoo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tive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5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BAA0F-F72B-4C1A-A0D0-6B87E4FCC50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etwork Operating System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s N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s 2000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s .NE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vell Ne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7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10A09-AE49-42DE-A282-B8FB83EC96D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the methods of resource allocation on larg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the differences among multiprocessing, multiprogramming, and time-sh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the principles of 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several functions that are typically performed by utility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C26AF-6422-4CA9-88DE-DD739B6E3F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Operating Systems for Large Computer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ource allocation: assigning and computer resources to certain programs and processes for their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 issues related to resource al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3" action="ppaction://hlinksldjump"/>
              </a:rPr>
              <a:t>Sharing the Central Processing Un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4" action="ppaction://hlinksldjump"/>
              </a:rPr>
              <a:t>Sharing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ing storage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5" action="ppaction://hlinksldjump"/>
              </a:rPr>
              <a:t>Sharing print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E0D5B-5248-4F6C-8E00-65855418DE2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haring the CPU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2" action="ppaction://hlinksldjump"/>
              </a:rPr>
              <a:t>Multi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4" action="ppaction://hlinksldjump"/>
              </a:rPr>
              <a:t>Multiprogram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6" action="ppaction://hlinksldjump"/>
              </a:rPr>
              <a:t>Time-Sh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7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C0393-5C3A-41E2-9874-A37364F6682D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ultiprocess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se of a powerful computer with multiple CP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rograms run simultaneou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runs on its own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3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6F66F-48A7-452D-B246-8CD6BF1B0E02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ultiprogramm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or more programs executed concurre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s take turns using the CP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-dri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nterrupt suspends processing to allow another program to r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the second program runs, the operating system returns the CPU to another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ly used for batch programs that do not require user in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5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8BB47-C628-497A-BF93-7874D46A9FC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ime-Shar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s take turns using the CP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-dri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user is given a slice of time (fraction of a secon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U works only on that user’s tasks during its time s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e time: the time between typed request and computer’s rep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ly used in applications with many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4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AEF07-3B47-4023-A466-81EA3D34BCA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haring Memor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2" action="ppaction://hlinksldjump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4" action="ppaction://hlinksldjump"/>
              </a:rPr>
              <a:t>Divides memor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to foreground and 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6" action="ppaction://hlinksldjump"/>
              </a:rPr>
              <a:t>Uses virtual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called virtual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7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2EEBC-5EF4-45F1-95B4-6891D74E6AD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emory Manage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des memory into separate part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cates memory to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s programs separate from one an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4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C687E-F837-40FD-877D-B782310E5B2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oreground and Backgroun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ground: for programs with high priority that will receive more CPU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kground: for programs with lower priority that will receive less CPU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s waiting to run are kept in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queu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ased on their pri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3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C9847-4F08-4C25-B381-26EAAB33111D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rtual Storag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s currently executed are stored on dis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ions of program brought into memory as 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mizes the amount of memory 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implemented by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a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 memory into small, fixed-size p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table keeps track of memory lo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3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DC8CB-473D-4823-B2D3-1A979E0CBCDE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haring Storage Resour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s track of location of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onds to commands to manipulate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s track of input and output requests for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es them in the order recei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3DF8C-8D6B-4206-9FEF-95879F0E8D2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Operating Systems: Hidden Softwar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as intermediary between hardware and applications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3" action="ppaction://hlinksldjump"/>
              </a:rPr>
              <a:t>Operating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5" action="ppaction://hlinksldjump"/>
              </a:rPr>
              <a:t>Systems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7" action="ppaction://hlinksldjump"/>
              </a:rPr>
              <a:t>Ker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2900A-4FBE-4831-BF51-9DE10BA046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haring Printing Resour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oling: program writes a line to a disk file rather than sending directly to a pri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file is completed, placed in que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e printed when printer become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s program to complete execution much more quick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ing to disk much quicker than writing to pri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0AEE6-CBB9-43EF-9383-6C9E2D8EE2EE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tility Program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 secondary ch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e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e com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66CA0-6187-475A-B70F-EF2DA53163A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ile Manag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res files in a hierarchical directory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uses Windows Explor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B77AE-55A1-44DB-8391-DAE8F8498A87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ile Compres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s amount of space a file requi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s file take up less space on d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s less time to transmit across communication 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4724280" y="1925640"/>
            <a:ext cx="4191120" cy="264636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D936D-F961-4423-B423-3590F88E063E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ther Utility Program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kup and Rest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up: make copies of disks and store in a safe 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ore: restore files from back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k defragmenter: reorganizes disk so all files are stored in contiguous lo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ice driver: handles commands for devices, such as printers and storage de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79E28-70C8-4B2C-868D-8E288D6C6294}" type="slidenum">
              <a:t>4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perating System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864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t of programs that lies between applications software and the hard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s computer’s resources (CPU, peripheral devic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es a user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s how user interacts with operating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and executes services for applications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3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8D9AA-0280-42B9-909E-03B6F32CD3B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ystems Softwa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programs related to coordinating computer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ing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guage transl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rt program code to machine-readable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tility 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 secondary ch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5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F2C2D-DA77-42A8-BF93-EA0B98864B9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erne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s the operating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aded from hard drive into memory when computer is boo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oo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fers to starting the comp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ads other operating system programs from disk storage as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programs referred to a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onresi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4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CF4F7-B188-41F4-90FC-B91B68CCBE6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Operating Systems for Personal Computer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tform: combination of computer hardware and operating system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int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Microsoft Windows running on an Intel-based PC) is most comm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Plat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ff"/>
                </a:solidFill>
                <a:uFillTx/>
                <a:latin typeface="Arial"/>
                <a:hlinkClick r:id="rId3" action="ppaction://hlinksldjump"/>
              </a:rPr>
              <a:t>MS-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ff"/>
                </a:solidFill>
                <a:uFillTx/>
                <a:latin typeface="Arial"/>
                <a:hlinkClick r:id="rId4" action="ppaction://hlinksldjump"/>
              </a:rPr>
              <a:t>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 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ff"/>
                </a:solidFill>
                <a:uFillTx/>
                <a:latin typeface="Arial"/>
                <a:hlinkClick r:id="rId5" action="ppaction://hlinksldjump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B4FDC-6F6D-4EC4-A317-697EB4B10D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S-DO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a command-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reen provides prompts for u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 types comm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ly replaced by graphical user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user-friend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4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21DA2-A3D7-4B3D-B9D7-D613D5E49B5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00:35:14Z</dcterms:created>
  <dc:creator>Tom Mckenzie</dc:creator>
  <dc:description/>
  <dc:language>en-US</dc:language>
  <cp:lastModifiedBy>Alfredo L. Chua</cp:lastModifiedBy>
  <dcterms:modified xsi:type="dcterms:W3CDTF">2005-04-23T02:07:24Z</dcterms:modified>
  <cp:revision>7</cp:revision>
  <dc:subject/>
  <dc:title>Computers: Tools for an Information A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