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A761-27DD-476E-B4AE-A0CBE462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B8CF-6DF9-4ED9-A2BD-E2DE713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29AB-4EC0-4FC3-88AB-4FEE499D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9CF4-50D2-4BBA-A384-CC08DDD5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3348-460C-4F1B-94E0-D3B8E660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9F2-30A1-4413-A1F3-01A331E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0AC-3DDB-4D7F-BEF1-0B50C643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F571-1FFB-4CDC-A7F7-71F199C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1C65-3A93-460A-BA2E-B3BF052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011C-1915-49AA-AAD6-1A1CC2F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D53-A106-484F-BA73-A9B4320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555E-6271-4128-976C-B63792A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3688-52DE-4506-AC90-2F3192C5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655E-2994-4532-AD12-E480240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323F-F42B-46F6-895E-4C81668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2588-7A4A-4F44-A26C-81534744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35A8-BFB4-49D8-A5A2-D2390244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9CB1-8CBB-4614-9A82-63EB1DE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3EDF-B297-4875-A7A5-B30EAF8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34C5-1AB4-4BB5-B2C2-B42EDCA9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8F7E-87E9-49D1-A2AF-BC8FB5D3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05DC-5755-48FD-8B39-C04207DF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D800-18B0-4693-B76B-FED66A3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5F93-19F0-46AC-A00B-3E20058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A8B-5F9B-4579-8C23-EF90CF91C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46B-6B2B-4B4D-9E6C-2DF9DFF8A5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4.xml"/><Relationship Id="rId4" Type="http://schemas.openxmlformats.org/officeDocument/2006/relationships/image" Target="../media/image1.png"/><Relationship Id="rId5" Type="http://schemas.openxmlformats.org/officeDocument/2006/relationships/slide" Target="slide15.xm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17.xm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image" Target="../media/image1.png"/><Relationship Id="rId6" Type="http://schemas.openxmlformats.org/officeDocument/2006/relationships/slide" Target="slide11.xml"/><Relationship Id="rId7" Type="http://schemas.openxmlformats.org/officeDocument/2006/relationships/image" Target="../media/image1.png"/><Relationship Id="rId8" Type="http://schemas.openxmlformats.org/officeDocument/2006/relationships/slide" Target="slide12.xml"/><Relationship Id="rId9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omputers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ools for an Information Ag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 Software: Getting the Work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(c) 2003 by Prentice Hal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ublic Domai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that is not copyrigh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sed and even altered without per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developed by universities and/or research institutions using government 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A5BB-64FB-42EE-9F99-C6A4590271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pen-Source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ariation of free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 code mad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code: readable by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rogrammers can modify and redistribute the programs fre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identify bugs and create improvements more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F71B-6865-4551-B4F7-7CD93808D58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are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ed software, freely distributed for a trial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like it, register it for a f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uthors add free documentation, enhancements, support, and updates to encourage people to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8BCB-8A5D-463D-96C7-91AC1647AA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uying Commercial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copies for each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Site l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Electronic softwar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C3FE-3A3A-4AF4-B7C2-865934BF72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ite Licen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installed on some or all computers, depending on license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keeps track of how many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users cannot exceed number of lice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copies and distributes software and manuals to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rganizations use network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install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ense fee based on number of concurrent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A13A-850E-4A43-B7ED-DBD3A1507E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onic Software Distrib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software from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freeware and share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mmercia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software for trial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disables itself after trial period unless you register (p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121F-4A19-454C-9BEF-7AABF8666DA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plication Service Provid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s applications to businesses via th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P maintains software and data on it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s access applications as needed over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to creating and maintaining custom software or purchasing packaged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” software, paying based on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7607-388B-4075-89D3-96A31CB2251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sk-Oriented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lled productivit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processing/Desktop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Electronic spreadsh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D8C2-568C-4C4F-9F04-342665B457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orking with Wo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widely used personal computer sof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 memos, reports, pap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rporate graphics into docu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ktop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-level publishing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slet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chures, promotional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42EB-F8DB-4408-A308-CD744B364E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ectronic Spreadshee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up of rows and columns of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“what if”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a cell and have spreadsheet recal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 data graph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expenses as a pie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91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D6E0-3F03-46B7-80CA-8012C4A808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between operating systems and application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the various methods by which individuals and businesses acquir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and briefly describe various types of task-oriented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kinds of software that are available for both large and small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ethical issues associated with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functions of various computer 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6C9C-27F7-4A05-97AC-B99DADE94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the management of a collection of interrelated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can store, retrieve, update, and manipul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report data in many ways and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large amounts of data into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A40F-39B5-4CC1-894D-AFEA45BE20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aphic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s software creates graphs and charts from numer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t trends and compare data more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ual evidence more comp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d in spreadsheet pro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 graphics creates “slide show” 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 high-quality graphics, audio, and vid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A7AA-9CA7-4DA5-A9B1-CA5F69B2AE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ility to hook the computer up to phone line or cable and communicate with another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connected over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s a browser to access other locations on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6101-7ECA-4BEB-881A-C51116A908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Task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formation Mana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rack of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 include appointment calendar, address book, and task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oup of basic applications that work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y to share data among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look and feel among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“stripped down” version of the office su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DAB0-64AE-42B2-B2FE-935C63F04DC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usiness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ical Market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Business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D356-73DB-4FBE-9DBA-C46A057F58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ertical Market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for a particular type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companies who have a thorough knowledge of that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business to easily maintain information on the business, customers, vend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mpasses all of the business’s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A288-00DD-49A1-9CFC-65B0454056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oup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s a group of people share or track information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called collaborativ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combines electronic mail, networking, scheduling, and database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tored in one central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used by organizations with remote employ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9049-8A63-44B8-89BD-51C6A7681FB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ftware for a Small Busin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Office/Home Office (SO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ly priced software to perform functions aimed at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unting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and adver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sales p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1A5A-A577-443E-9615-3C55A043CF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thics and Application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racy: the acquisition and use of illegal copies of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feiting: copying large numbers of CD-ROMs or DVD-ROMs and packaging them to look like the real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uthorized copying of software is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7E77-C5E4-44BD-AFA6-9206F70D73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ftware Pirac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i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ing software from a lab or from a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2 or 3 copies of software and distributing it to dozens or hundreds of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ying 1 copy of software and installing it on several computers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D4BE-A65C-4254-A6AB-529C10C873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plications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used to solve a particular problem or perform a particular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6D47-625B-475C-8214-F717B773C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uters and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rganizations have some sort of information technology depar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up of people who are responsible for the organization’s computer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data and provide services to end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C0F4-A637-4B5B-97FE-AA6EB8FDBE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uter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entry operators prepare data for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operators monitor systems, keep peripherals running, and make back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s catalog processed disks and t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ers design, write, test, implement, and maintain computer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3BCA-62E9-4C29-BD08-A7185A5EC4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mputer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analysts plan and design entir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knowledge in programming, as well as knowledge of th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managers implement and maintain organization’s network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Information Officer (CIO) makes key technology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ey member of the organization’s strategic decision-making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F94A-8221-487D-B9CF-0C4C1AEF50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cquiring Software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raditional Wa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Custom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by programmers hired by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Packaged (commercial)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d from a store, catalog, or Web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A694-5126-4C38-9F04-34EEC1880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ustom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ally tailored to an organization’s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 hires computer programmers to design, write, test, and implement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extremely complex and take years to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C417-2F21-43CC-AB20-6226C36FF3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ackaged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 in stores, catalogs, or Web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downloaded from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contains one or more CDs or DVDs holding th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contains software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to be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user-frien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3426-52F5-4766-BCC0-C016B83FC9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r-Friendly Soft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intuitive for even a beginning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used with minimum of training and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78AB-4A78-4318-A94B-F9478B231C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cquiring Software: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ew Wa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Free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Public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Open-Sourc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Share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3CAC-295C-46A9-B418-275D1ECE0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reewa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 provides it free for all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 retains copy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lace restrictions on its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not be altered or redistributed without per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5943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 (c) 2003 by Prentice Hal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14B2-1D17-4C87-A211-A639004B00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5:16:41Z</dcterms:created>
  <dc:creator>Tom Mckenzie</dc:creator>
  <dc:description/>
  <dc:language>en-US</dc:language>
  <cp:lastModifiedBy>Alfredo L. Chua</cp:lastModifiedBy>
  <dcterms:modified xsi:type="dcterms:W3CDTF">2005-04-23T02:06:17Z</dcterms:modified>
  <cp:revision>12</cp:revision>
  <dc:subject/>
  <dc:title>Computers Tools for an Information Age</dc:title>
</cp:coreProperties>
</file>