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7558-C916-4AB5-9708-4ADCC6A8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9BE9-0DF6-4922-86C4-30B2BB12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54E8-68A6-499E-9D4E-DE0FCDA2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2171-A793-4FBC-AD83-FCFDE74C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E00B-10E3-4E3F-A8C9-B4EB2AE7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C3C9-C2F4-4F7D-9E06-9F3E99AF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0FF3-D226-4C09-A340-D2FDCAAC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01AA-EE84-42FD-8A52-29867EAA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4F8D-BFB1-4B4E-90DE-46BB8BA1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4017-0943-4544-B38D-68C39796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8D8F-CC87-48BB-B3F5-30DBA19C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4EF9-E02A-4830-924A-4015C783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0CCE-02A6-4AE4-B678-24D0CF42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0015-FD46-46AA-9A7F-661CAB6E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EB46-ED72-444B-8B92-A4A7F914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044E-6405-427C-915D-2F5D759C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7F09-70A5-4FFB-BAB7-4BEBD0F4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9A4C-38C9-4A2C-AACD-FA0714C6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8B2B-D978-4591-BD8E-CE4B80FD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43D2-160F-4D88-8578-FFB213D7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2E99-21F0-420E-A7E8-6D180DE1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D808-2986-4AF2-BEEC-DD2F4E24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1067-4706-47E8-837D-FE427503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53EC-635F-421E-97CA-4E5B5F2C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168C-20CC-4EB6-B905-2FEA9829F3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25560"/>
            <a:ext cx="2206800" cy="2209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2286000"/>
            <a:ext cx="2206800" cy="22096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4562640"/>
            <a:ext cx="2241720" cy="22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3463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3394080"/>
            <a:ext cx="4648320" cy="3463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572000" y="3394080"/>
            <a:ext cx="4572000" cy="3463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495680" cy="3463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A80F-F588-46DE-9C63-06F4129452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puter Applications in Busi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TM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T-competent people will…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le to make the computer work for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le to interact with the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omfortable in cyber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impact of computers on society, now and in the fu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n intelligent consumer of compu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n intelligent consumer of software and other nonhardware-related computer products and servi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onversant in the language of computers and information techn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urse Detail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the emerging uses of computer in business organiz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for all JG SOM majors and majors that are serviced by JG 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ing point for those who want to pursue minor i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urse Detail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students an understanding of the rudiments of proper file, document, data and presentatio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business applications of computers and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ulate creative or alternative uses of such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urse Detail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ject, presentation and defense that integrates all the less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ative analysis of 2 firms in an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paper using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data using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Powerpoint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Grading System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438280" y="1600200"/>
          <a:ext cx="6400800" cy="4991040"/>
        </p:xfrm>
        <a:graphic>
          <a:graphicData uri="http://schemas.openxmlformats.org/drawingml/2006/table">
            <a:tbl>
              <a:tblPr/>
              <a:tblGrid>
                <a:gridCol w="3200400"/>
                <a:gridCol w="32004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integrative group project and defe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long ex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long ex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zzes, assignments and activ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Grading System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38280" y="1600200"/>
          <a:ext cx="6400800" cy="4734000"/>
        </p:xfrm>
        <a:graphic>
          <a:graphicData uri="http://schemas.openxmlformats.org/drawingml/2006/table">
            <a:tbl>
              <a:tblPr/>
              <a:tblGrid>
                <a:gridCol w="2590920"/>
                <a:gridCol w="380988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.00-100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.00-92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0-87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00-79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+ cut-off for IT min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.00-73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00-67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-off for proficiency requir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00-59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olici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ubmissions, unless otherwise stated, will be at 4:30pm through QMIT secret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submissions will merit corresponding deductions at the discretion of the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ure to submit any major requirement will merit an incomplete or a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olici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ellphones on silent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ain from sur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zes may be announced or unannoun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l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uter is transforming the way w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skills are necessary both inside the Ateneo and in your future care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21:53:20Z</dcterms:created>
  <dc:creator>Alfredo L. Chua</dc:creator>
  <dc:description/>
  <dc:language>en-US</dc:language>
  <cp:lastModifiedBy>Alfredo L. Chua</cp:lastModifiedBy>
  <dcterms:modified xsi:type="dcterms:W3CDTF">2005-04-15T00:23:31Z</dcterms:modified>
  <cp:revision>4</cp:revision>
  <dc:subject/>
  <dc:title>ITM 11</dc:title>
</cp:coreProperties>
</file>