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1E1-3BF9-4D28-9E1A-59E6181F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B6D-4EF1-4EA8-9D27-3A5B7C85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B11-7873-46FE-B5B8-612B5273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85A-5B55-4679-BD5D-2B3B1253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D90F-4DAD-4D20-B5B1-705DFBD5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FE7C-FEEA-430E-ACF3-BB286401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4925-E644-41E6-97BA-E9886AFA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6130-8341-4DF6-ADF4-E5F990BB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7888-489D-4884-B494-438A6D84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DD9F-3587-4EA0-B3A0-777549AB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1A87-8088-4EEA-8FCC-B1B9D3A2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495-B2D8-4670-8A91-2F14E803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7D84-44F8-44EA-8EC6-96CB0BC7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4EF9-BF6A-4663-92F6-0C201E8E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0B2D-09C0-48B2-8BA0-5C3FEEF8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CDB9-8E2D-4200-8A08-6DFC20F4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9C97-94BA-43DE-A446-F0943ACB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095-6045-4C58-AEB9-6FEAB346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8FE-C197-4B4E-95B9-BB8F7373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DF0-12FA-46D9-B97A-8E7B61C8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2DF-6DE6-4EA5-9B24-1E26C9AE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2AB-755E-43F7-A117-589C4241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2F9-DFCC-4FFF-B521-30227E88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10C-1D36-43EB-B245-EFDF7F9C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50D8-FD9C-44FE-AD40-F2232D9870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25560"/>
            <a:ext cx="2206800" cy="2209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2286000"/>
            <a:ext cx="2206800" cy="2209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4562640"/>
            <a:ext cx="2241720" cy="22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46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3394080"/>
            <a:ext cx="4648320" cy="346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572000" y="3394080"/>
            <a:ext cx="4572000" cy="3463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95680" cy="3463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201C-944A-41E8-930F-FBB6E5702E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TM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Coding the Progra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ranslating the algorithm from the planning stage into a formal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languages have syntax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milar to grammatical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computer will reject a program with even a minor syntax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s can be keyed into the computer by using a tex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Testing the Progra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wo phases of testing the program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: c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verting the program you wrote into the binary instructions the CPU understand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bugging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dentifying and correcting logic errors in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Transl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piler translates the program (source module) into a machine language version (object mod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f the compiler detects syntax errors, it will produce messages describing thos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f no syntax errors exist, the object module will be linked to create a load module, which is executed by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Documenting the Progra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terials are generated at each part of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mon examples of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wchart and/or pseudo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ments within the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st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youts of input and output record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a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narrative description of the progra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Levels of Languag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ower-level languages – more like the 0s and 1s the computer itself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igher-level languages – more like the languages peopl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vided into five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Major Programming Languag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RTRAN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: first high-level language; FORmula TRANs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BOL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mmon Business-Oriented Language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; for business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ASIC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eginners’ All-Purpose Symbolic Instruction Code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teach programming to colleg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Major Programming Languag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RPG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port Program Generator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; to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low rapid creation of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Visual Basic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: found in MS Excel; 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lows programmer to create Windows-like use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C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: o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iginally designed to write system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Java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: runs on different platforms; v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ry useful for Interne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ogramming Concep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ata Typ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in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character “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ata Typ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ed of references to other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mpute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1905" t="40680" r="17860" b="33898"/>
          <a:stretch/>
        </p:blipFill>
        <p:spPr>
          <a:xfrm>
            <a:off x="228600" y="2209680"/>
            <a:ext cx="8763120" cy="22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dentify the Data Type</a:t>
            </a:r>
            <a:br>
              <a:rPr sz="32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Integer, Real, Character, Boolean, String, Array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zon C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917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.99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2-412-93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4, 1, M, 4.1,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 – performs Mathematica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: Simple numeric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 A Simple numeric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 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ion 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 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 (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(^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der (m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+ 7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/ 7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 mod 11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mod 4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^ 4 =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: Simple numeri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: Boolean (true or fal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&gt; 1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l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&lt;&gt;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&gt;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 &gt;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l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 to Programm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– list of computer instructions that direct the computer what you want it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language – a set of rules that provides a way of telling the computer what operations to per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–the procedure in making the prog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– works with Boo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: Boo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: Boo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– must all be true to be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– as long as one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- Oppo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AND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l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AND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OR FALSE OR FALSE OR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l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alle is better than Atene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is fu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819520" y="3886200"/>
            <a:ext cx="54100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l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enorio will not join the 2005 tea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 and Seek is a horror movi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819520" y="4533840"/>
            <a:ext cx="54100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: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: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atenate (&amp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neo”&amp;“de Manil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3880" y="3048120"/>
            <a:ext cx="723924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teneode Manil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 to Programm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 can be expressed in two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chart: a system of symbols  for expressing algorithms; indicates flow of control/sequence of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code: textual representation of an algorithm, close to natural language, becomes part of program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comb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(5&gt;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819520" y="3429000"/>
            <a:ext cx="54100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438280" y="533520"/>
          <a:ext cx="1658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533520"/>
                    <a:ext cx="1658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267080" y="457200"/>
            <a:ext cx="426744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553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 Macro3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 Macro3 Ma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 Macro recorded 4/21/2002 by G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ange("C16:C17").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ith Selection.In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olorIndex =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Pattern = xl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ange("D16:E16").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ith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HorizontalAlignment = xl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VerticalAlignment = xlBott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WrapText =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Orientation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AddIndent =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ShrinkToFit =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MergeCells =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lection.Me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579132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Arial Narrow"/>
              </a:rPr>
              <a:t>Flow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579132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Arial Narrow"/>
              </a:rPr>
              <a:t>Pseudo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 Narrow"/>
              </a:rPr>
              <a:t>Introduction to Programming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981080"/>
            <a:ext cx="18288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3124080"/>
            <a:ext cx="18288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4114800"/>
            <a:ext cx="18288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5029200"/>
            <a:ext cx="18288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chin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2895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657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038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8006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5029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886200"/>
            <a:ext cx="18288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943600"/>
            <a:ext cx="1828800" cy="533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029200"/>
            <a:ext cx="1828800" cy="533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The Programming Proces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ive main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c36c03"/>
              </a:buClr>
              <a:buSzPct val="7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Defining the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c36c03"/>
              </a:buClr>
              <a:buSzPct val="7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lanning the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c36c03"/>
              </a:buClr>
              <a:buSzPct val="7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ding the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c36c03"/>
              </a:buClr>
              <a:buSzPct val="7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sting the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c36c03"/>
              </a:buClr>
              <a:buSzPct val="7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ocumenting the program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Defining the Proble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Must be clearly ident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Assumptions regarding inputs to the program and the desired output must be m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Planning the Solu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se of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vailable planning tools: flowchart or pseudo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sk-check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at is, carry out each step of the algorithm with pencil and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21:53:20Z</dcterms:created>
  <dc:creator>Alfredo L. Chua</dc:creator>
  <dc:description/>
  <dc:language>en-US</dc:language>
  <cp:lastModifiedBy>Alfredo L. Chua</cp:lastModifiedBy>
  <dcterms:modified xsi:type="dcterms:W3CDTF">2005-04-19T00:23:09Z</dcterms:modified>
  <cp:revision>8</cp:revision>
  <dc:subject/>
  <dc:title>ITM 11</dc:title>
</cp:coreProperties>
</file>