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CB2-6F9A-4A8C-B18F-B8B54918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9F1-5191-4D16-9856-AAECF42B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7BB-EA82-4612-9D88-01F9E1A8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B85-2DFB-4203-BD51-6C6AE816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75A-B6D9-43EC-A2D3-80305758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6C9-FCC4-47BF-8F5F-C8B8B231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B5F-EC13-4314-B87C-50A728C5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8AC-26A1-4C65-A53A-B2F0B413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9C6-A9C9-41BC-8559-CC1FF9B3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367-0853-4B07-8385-A21020E6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B78-330B-43B2-ACAB-05020C22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C16-F935-4BFE-A176-03B2F977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893A-5F0A-454F-BDFB-002FE0EABFE2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_exercise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ענה על השאלות בהמש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קטע מ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2008080"/>
          <a:ext cx="777240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8080"/>
                    <a:ext cx="77724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</cp:lastModifiedBy>
  <dcterms:modified xsi:type="dcterms:W3CDTF">2006-03-15T15:23:50Z</dcterms:modified>
  <cp:revision>10</cp:revision>
  <dc:subject/>
  <dc:title>PowerPoint Presentation</dc:title>
</cp:coreProperties>
</file>