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FDF-20B0-44A8-A251-541F4177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775-68CB-4DE3-91D2-76049139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D0E-E3FA-4BA4-916F-1AECE6A4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D80-13CD-4035-97A8-790BB98A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446-F35A-4A77-9739-396F4101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24A-E4CB-4CC5-9522-C054A08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58C-0262-4488-972D-1BC6FA0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545-2AF9-468A-86DA-7D8DBAA2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27D-EEB2-45B4-A1BD-530E5664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589-0D5D-4610-B008-459820F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16F-7B1E-4222-82E6-AC9F1E7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E19-9656-4CE1-A153-C067D0D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1D6-5EE6-4E77-A946-40312918A20C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_exercise_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ענה על השאלות (בהמשך) שנשאלו בתרגיל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עזר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קטע מ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008080"/>
          <a:ext cx="777240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8080"/>
                    <a:ext cx="77724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6-03-15T16:00:48Z</dcterms:modified>
  <cp:revision>11</cp:revision>
  <dc:subject/>
  <dc:title>PowerPoint Presentation</dc:title>
</cp:coreProperties>
</file>