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088-A15D-4AC6-ABC1-37FFC3BF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4D32-C6BA-4EC0-A843-E064113D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1717-7434-4B33-AF71-59DA1BA3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4A11-4F6E-4AF3-BEE7-0F0CA35E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35A8-5272-4A16-8629-E7F124F7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08AF-49ED-4BAA-9003-32C86F80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EBE7-B66B-4505-959E-1CF8F266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76AF-7FD1-415F-83B0-5ECCD93E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F81-AF40-463B-91AB-D9DE94AE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9AB1-F121-4FB1-A8E5-9C07C013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22DA-EFE0-481C-A47D-51F8F5E0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FF99-7126-4B64-89A8-7C5FFEAB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928E-BF29-47D2-9141-93FE44F3572F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469880"/>
          </a:xfrm>
          <a:prstGeom prst="rect">
            <a:avLst/>
          </a:prstGeom>
          <a:solidFill>
            <a:srgbClr val="ff99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תרגיל 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06560" y="2781360"/>
            <a:ext cx="7129440" cy="324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ata Base </a:t>
            </a:r>
            <a:r>
              <a:rPr b="0" lang="he-IL" sz="4800" spc="-1" strike="noStrike">
                <a:solidFill>
                  <a:srgbClr val="000000"/>
                </a:solidFill>
                <a:latin typeface="Times New Roman"/>
              </a:rPr>
              <a:t>בני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000000"/>
                </a:solidFill>
                <a:latin typeface="Times New Roman"/>
              </a:rPr>
              <a:t>עם טבלה אח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99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הטבלה המבוקש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916360" y="4941720"/>
          <a:ext cx="3552840" cy="17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941720"/>
                    <a:ext cx="355284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835280" y="1989000"/>
            <a:ext cx="5905440" cy="2859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3333cc"/>
                </a:solidFill>
                <a:latin typeface="Times New Roman"/>
              </a:rPr>
              <a:t>ליצר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טבלה בשם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3333cc"/>
                </a:solidFill>
                <a:latin typeface="Times New Roman"/>
              </a:rPr>
              <a:t>להחליט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על פרטים אישיים רלונטי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3333cc"/>
                </a:solidFill>
                <a:latin typeface="Times New Roman"/>
              </a:rPr>
              <a:t>למלא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אותה בפרטים הנ"ל דומה לטבלה למט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3333cc"/>
                </a:solidFill>
                <a:latin typeface="Times New Roman"/>
              </a:rPr>
              <a:t>לשמור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את ה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 בשם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.m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</cp:lastModifiedBy>
  <dcterms:modified xsi:type="dcterms:W3CDTF">2005-03-07T06:48:51Z</dcterms:modified>
  <cp:revision>9</cp:revision>
  <dc:subject/>
  <dc:title>PowerPoint Presentation</dc:title>
</cp:coreProperties>
</file>