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0E2F-97DD-4C28-9D9C-6A710CCA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2625-4146-481E-B215-7FA1FD83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FB89-949D-4671-9921-74E6EAB6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CECB-3828-40A8-8CB7-CA2C3A46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7EFD-1F6F-41F6-AF76-87FCBD2E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869C-C506-4279-9759-976A4AE4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D975-E81D-4742-A734-7403AE74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A86F-B773-4748-8E1F-859DD26A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A644-8F3C-456E-AA86-55F90B05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764E-D87F-45FB-B13B-B7E9F67A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1F78-5928-4374-B736-E89ECC59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498A-2819-48C4-A1AE-CB367243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C453-CC39-48D6-A650-06FBBCE34ED6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469880"/>
          </a:xfrm>
          <a:prstGeom prst="rect">
            <a:avLst/>
          </a:prstGeom>
          <a:solidFill>
            <a:srgbClr val="ff99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תרגיל 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06560" y="2781360"/>
            <a:ext cx="7129440" cy="324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ata Base </a:t>
            </a:r>
            <a:r>
              <a:rPr b="0" lang="he-IL" sz="4800" spc="-1" strike="noStrike">
                <a:solidFill>
                  <a:srgbClr val="000000"/>
                </a:solidFill>
                <a:latin typeface="Times New Roman"/>
              </a:rPr>
              <a:t>בני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000000"/>
                </a:solidFill>
                <a:latin typeface="Times New Roman"/>
              </a:rPr>
              <a:t>עם טבלה אח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99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הטבלה המבוקש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916360" y="4941720"/>
          <a:ext cx="3552840" cy="17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941720"/>
                    <a:ext cx="355284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835280" y="1989000"/>
            <a:ext cx="5905440" cy="2859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3333cc"/>
                </a:solidFill>
                <a:latin typeface="Times New Roman"/>
              </a:rPr>
              <a:t>ליצר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טבלה בשם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3333cc"/>
                </a:solidFill>
                <a:latin typeface="Times New Roman"/>
              </a:rPr>
              <a:t>להחליט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על פרטים אישיים רלונטי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3333cc"/>
                </a:solidFill>
                <a:latin typeface="Times New Roman"/>
              </a:rPr>
              <a:t>למלא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אותה בפרטים הנ"ל דומה לטבלה למט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3333cc"/>
                </a:solidFill>
                <a:latin typeface="Times New Roman"/>
              </a:rPr>
              <a:t>לשמור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את ה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 בשם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.m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</cp:lastModifiedBy>
  <dcterms:modified xsi:type="dcterms:W3CDTF">2005-03-07T06:48:51Z</dcterms:modified>
  <cp:revision>9</cp:revision>
  <dc:subject/>
  <dc:title>PowerPoint Presentation</dc:title>
</cp:coreProperties>
</file>