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530-665B-4354-A4F2-28A588B2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A6D-27A5-4531-84A9-5EC6E97E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EF7-E4AB-4448-AF85-EF2A1B1A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B0C-D157-4EAD-912B-BE6BEDF6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705-59F0-402F-B9F8-EE8A94A4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C47-4968-4DD3-A056-0D0EE29C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736F-7BBC-4070-BA08-B88DD411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D00-DFC6-478F-AC18-A5D93748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311-0032-4300-A9F6-8D1869CA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16C-2466-46A0-A66A-107982A7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A961-BAF7-4F47-8D5E-ECFD8518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C97-ECD7-4D08-BA45-4ACFB60B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1ED3-DB1B-4360-9237-8A258A5EA90F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cc99"/>
          </a:solidFill>
          <a:ln w="9360">
            <a:solidFill>
              <a:srgbClr val="ff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-Base </a:t>
            </a:r>
            <a:r>
              <a:rPr b="1" i="1" lang="en-US" sz="4400" spc="-1" strike="noStrike">
                <a:solidFill>
                  <a:srgbClr val="ff3399"/>
                </a:solidFill>
                <a:latin typeface="Times New Roman"/>
              </a:rPr>
              <a:t>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ustomers –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לקוחות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Times New Roman"/>
              </a:rPr>
              <a:t>A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s -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סוכנ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A=Customers+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e-IL" sz="3200" spc="-1" strike="noStrike">
                <a:solidFill>
                  <a:srgbClr val="3333cc"/>
                </a:solidFill>
                <a:latin typeface="Times New Roman"/>
              </a:rPr>
              <a:t>השתמש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-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נתון ש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O-Customers Agents Products Ord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לקבלת שאילתא הנותנת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בלב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זאת אומרת בנה שאילתא המצליבה  את שמות הלקוחות והסוכנים בלבד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i="1" lang="he-IL" sz="3200" spc="-1" strike="noStrike">
                <a:solidFill>
                  <a:srgbClr val="3333cc"/>
                </a:solidFill>
                <a:latin typeface="Times New Roman"/>
              </a:rPr>
              <a:t>הוסף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לשאילתא מיון לפי לקוח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he-IL" sz="3200" spc="-1" strike="noStrike">
                <a:solidFill>
                  <a:srgbClr val="3333cc"/>
                </a:solidFill>
                <a:latin typeface="Times New Roman"/>
              </a:rPr>
              <a:t>הוסף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הסברים לפתרון התרגי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</cp:lastModifiedBy>
  <dcterms:modified xsi:type="dcterms:W3CDTF">2005-03-22T15:16:57Z</dcterms:modified>
  <cp:revision>2</cp:revision>
  <dc:subject/>
  <dc:title>PowerPoint Presentation</dc:title>
</cp:coreProperties>
</file>