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BA7-51B9-4C06-8CCF-5D6257B3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F4A-FB83-4C31-A668-2F4A4FAC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E41-963F-4E78-BAAB-06DD4D04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EB7-9B77-4A13-BDE9-51F9C4B0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0AD-BC16-4679-8427-F8C01574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3EC-73A8-42D4-8862-6DC586B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10B-048E-44A0-ADAD-FDD6255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5D0-1EBB-4FD1-A8CD-9FD5DD23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4CE-9A56-44F5-A5E4-A9D66D1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DEB-0487-44EB-9618-7CD4CFB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A4C-F251-48E3-9C0B-4F5F28F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DD7-1F23-4C79-9933-660F8BC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4E2E-474E-4A1D-9E06-C18502A048F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7c80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רגיל-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בנות טופס כלשהו על מסדי נתונים ש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O.m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28T19:32:46Z</dcterms:modified>
  <cp:revision>3</cp:revision>
  <dc:subject/>
  <dc:title>PowerPoint Presentation</dc:title>
</cp:coreProperties>
</file>