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E21-098F-4EA1-9CDC-40B61C3D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DB5-187A-4D5F-B767-9C8D6FA9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E6A-9508-44B7-B9E6-BC98389F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002C-430D-427D-B257-F88191E1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82E-B3D4-4777-B428-7BC28708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BD5-9E20-4097-92FF-9190B36B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FB7-BAC5-47E1-B60C-94559858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1786-71D7-469C-8AB7-F8749C3B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803-3A83-407D-8C34-9BE9FA7C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BD3-DDA5-48FA-9E7F-E8824B7B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4FE-2BA8-4303-843B-4AA59B8E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191-6C9F-426B-9E76-A195C8FA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7EFC-79FB-4942-89E8-9DC2B9DB5357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7c80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תרגיל-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לבנות טופס על מסד נתוני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O.md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מתייחס לטבלת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להוסיף שדה הנותן את המחיר בהנחה של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לעשות קישוריות </a:t>
            </a:r>
            <a:r>
              <a:rPr b="1" i="1" lang="he-IL" sz="3200" spc="-1" strike="noStrike">
                <a:solidFill>
                  <a:srgbClr val="3333cc"/>
                </a:solidFill>
                <a:latin typeface="Times New Roman"/>
              </a:rPr>
              <a:t>למקרו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בשם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tenPerc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מבצע את ההנחה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</cp:lastModifiedBy>
  <dcterms:modified xsi:type="dcterms:W3CDTF">2006-05-18T06:53:59Z</dcterms:modified>
  <cp:revision>6</cp:revision>
  <dc:subject/>
  <dc:title>PowerPoint Presentation</dc:title>
</cp:coreProperties>
</file>