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3FC-A224-4A91-88B4-1752E1B6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1E1-110E-419C-99AA-021EEC53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BFF-F29B-4D93-BB11-21341186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54E-C2CF-4A74-BD3B-031A12B1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26F-E018-4249-B319-A436CB73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647-605E-4AF7-A6C3-C8B26F25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0F7-1851-47B4-8EB5-22A0C9BC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097-4A2D-4515-BD0E-2A757189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F13-8326-4336-8C93-67F739C9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1EE-EAEE-4F1B-9B75-FD9F374A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A49-044D-4F6C-829A-4B230D6E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0DF-45D9-4DEB-9C08-030DEA9C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2D26-398A-4280-962F-366ABD220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 _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ff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טבלת תוכן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טבלת קשוריות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טבלת תוכן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סוגי מפתח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ndex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– מקשר בין שורות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 בטבלאות שונ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rimary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- מייצג שורה בטבל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3645000"/>
            <a:ext cx="863640" cy="120276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2360" y="3716280"/>
            <a:ext cx="2232000" cy="18943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o (=Courx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3789360"/>
            <a:ext cx="1511280" cy="120276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21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</a:rPr>
              <a:t>תוכן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he-I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56360" y="321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URSES 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</a:rPr>
              <a:t>תוכן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31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285264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ROLLMENT  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</a:rPr>
              <a:t>קשרים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5373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84720" y="537372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-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2000" y="24922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-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692360" y="4292280"/>
            <a:ext cx="1439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5444640"/>
            <a:ext cx="1512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997360"/>
            <a:ext cx="71892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227640" y="486864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6-03-15T16:24:01Z</dcterms:modified>
  <cp:revision>2</cp:revision>
  <dc:subject/>
  <dc:title>מצגת של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7</vt:r8>
  </property>
  <property fmtid="{D5CDD505-2E9C-101B-9397-08002B2CF9AE}" pid="3" name="Version">
    <vt:r8>1</vt:r8>
  </property>
</Properties>
</file>