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41C-42E7-467A-A909-5C920BD1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C6B-BFAB-4E63-895C-B7327E18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56B-9561-43AF-B1DF-6DD52181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111-035B-43E8-98E0-07EAB12D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90C-E4DE-469A-B513-37AAE69E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F29-C95D-46D5-B644-EC78D5DC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F4D-DA91-4BC4-B35B-73BF1703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3C9-1F48-4308-AE0A-2B73406E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593-DB5E-4CB2-8875-EA720B6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E2E-39D5-4F6D-AF75-A8D6FEB0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75D-2525-4575-A540-F99FC5B9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FA4-75F3-4EC3-BDBD-A06EFD5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B25-21C5-43D2-AD6C-E650D5246A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175F-BD6C-41EF-ADA9-F1B0E8C0D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73080"/>
          </a:xfrm>
          <a:prstGeom prst="rect">
            <a:avLst/>
          </a:prstGeom>
          <a:solidFill>
            <a:srgbClr val="ff99ff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 -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מערכת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תוכנה המנהל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8000" y="2492280"/>
          <a:ext cx="540072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EB7-1675-4D43-95BA-6114180591B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7CE40-A78A-4CD6-BADD-DD9224369E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קשרים בין טבלאיים (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דרך מ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? – דרך שדות בעלי אתם הערכ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אינדקס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– שדה שדרכו נתן להגיע לטבלה אחר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מפתח ראשי –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Primary Key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: שדה בטבלה שדרכו מגיעים לטבלה מטבלה חיצונ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(לכל היותר אחד בכל טבלה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F0D-3971-4B19-B786-79FCD02314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80D7B-012C-48BD-966E-7D09781AAB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873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קשרים בין טבלאיים (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דוגמאות ל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ccff"/>
                </a:solidFill>
                <a:latin typeface="Times New Roman"/>
              </a:rPr>
              <a:t>Indices, Primary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6100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o –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able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o –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able Enrollment (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רישו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 –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able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 –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able Enrol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Enrollment –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ין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טבלה אין שתי שורות עם אותו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0B8-9030-4BB8-AE09-766A8193AD6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E4B1E-ED2A-4E64-8B63-A6E5E96A3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קשרים בין טבלאיים (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(תיב"ם – הנדסת תכנות – יצירת קשר/ מחיקתו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יצירת קישו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י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ccff"/>
                </a:solidFill>
                <a:latin typeface="Times New Roman"/>
              </a:rPr>
              <a:t>מצביעים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ל שדה ש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טבל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ccff"/>
                </a:solidFill>
                <a:latin typeface="Times New Roman"/>
              </a:rPr>
              <a:t>לוחצים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ל עכב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imes New Roman"/>
              </a:rPr>
              <a:t>dragging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– מושכים א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עכב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שרטטים ק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גיעים ל-</a:t>
            </a:r>
            <a:r>
              <a:rPr b="0" lang="en-US" sz="2800" spc="-1" strike="noStrike">
                <a:solidFill>
                  <a:srgbClr val="00ccff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ש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ccff"/>
                </a:solidFill>
                <a:latin typeface="Times New Roman"/>
              </a:rPr>
              <a:t>מצביעים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עכבר על השדה ומשחחרים את לחיצת העב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חיקת הקשר: הצבכע ולחיצה ע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E38-AAFB-4D30-AA89-20788F24BA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ED4A5-8C39-4592-B46C-BE31E3DD4F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קשרים בין טבלאיים (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גדרת סוג הקש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14479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צביעים על הקש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לוחצי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בוחרי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נפתח חלון עם אופציות סוגי קשרי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6481800" cy="25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2FB-42B9-416B-9D03-14F26695C4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7EB02-5C9E-4D7C-BF01-CA8286084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637000"/>
            <a:ext cx="7772400" cy="34588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סגרת להכנסת פרמטרים של שאילת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כ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מתאי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אחד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022-6B7B-4C9A-AC27-838E1AED6F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1A202-9B0A-46B6-80A7-E9AC91FBEF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תוצאות שאילת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1A3-CAC9-4557-A781-9A471ABB57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6D7E2-A9B5-4F6F-BE9D-F9D83A0C5F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דפ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C16-C49E-457F-9FF3-ADF8EA00E1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91661-55D8-42DA-9BA4-981332FF80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פעולות מוקלטות מרא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BC1-0FE2-4AD3-953A-F5AC74BEC8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00CA0-D0BC-4D5B-8284-3A1D14946D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קוד שמבצע את 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3AB-814F-44CE-B967-32F9AEABE3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37934-1FE3-44FB-9965-09DA3CAF7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ff"/>
                </a:solidFill>
                <a:latin typeface="Times New Roman"/>
              </a:rPr>
              <a:t>מטרה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: לענות על שאל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e-IL" sz="4000" spc="-1" strike="noStrike">
                <a:solidFill>
                  <a:srgbClr val="00ccff"/>
                </a:solidFill>
                <a:latin typeface="Times New Roman"/>
              </a:rPr>
              <a:t>שאילתות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1441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שאלות הקשורות בהשוואה של נתונים בטבלאות השונ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365720"/>
            <a:ext cx="777708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ccff"/>
                </a:solidFill>
                <a:latin typeface="Times New Roman"/>
              </a:rPr>
              <a:t>שאילתה-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שאלה המתיחסת לנתונים טבלאיי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E4C-0EDF-4798-B081-7F1D7BF007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2860F-3CDD-422B-A2A6-C1A4022347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דוגמא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רשימת כל  </a:t>
            </a: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שמ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סטונטים ומס' </a:t>
            </a: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הקודים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של המקצועות שלומדי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רשימת כל </a:t>
            </a: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שמ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סטודנטים </a:t>
            </a: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שמ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מקצועות שלומד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D89-9239-4FC4-836D-4579DDF7A4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3DEE4-6421-43A4-9F57-B7F9493A3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אוביקטים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טבלה של נתוני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Queries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שאילת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Fo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גרת שדרכה מנסחים את השאילת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Reports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דו"ח – המבנה של פלט שבו מופיעות התשובות לשאל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P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Web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דפי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Mac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Mod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Macros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קוד מאחורי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176-5352-4C2B-9F27-2F1A1FFE4B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B03FB-9CB0-4A8E-BF58-32233B1836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59280" y="2060640"/>
          <a:ext cx="215568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060640"/>
                    <a:ext cx="215568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EF6-3BA1-4479-825E-0A74150E73A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1DEE1-B580-4203-8FE2-14E9510CF5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מצבי הקוב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לא קי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סגו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(שני קליקים מפעיל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פתוח להפעל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פתוח  לתיכון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Desig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פתוח לעריכת קוד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 תוכנית: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 או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87280" y="3933720"/>
          <a:ext cx="984600" cy="10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933720"/>
                    <a:ext cx="9846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8B1-8B9B-4E1D-84A7-342C106803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A0550-5057-48BD-B8ED-7FB9886E3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-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טבל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דומה ל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9A4-1F68-4477-B151-F7CAFB7841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0B729-8B77-4E39-8039-3B46AC8AE6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–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אילתות</a:t>
            </a:r>
            <a:br>
              <a:rPr sz="4400"/>
            </a:b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(תיב"ם – בחירת שדות הזזת עכבר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חירת טבלא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חיקת קשרים מיותרים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(הצבעה על קו, לחיצ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, בחירת מחיקה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385-6E71-4352-8303-930B6AA5D1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8DBD0-0902-4502-8144-9C53EE28F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אילתות - מלולי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&lt; View &lt;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View &lt; SQL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– Structured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1CC-5D22-4418-AF69-12BE89D7BE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04072-4EA1-4D4B-85F5-00D6346EC4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5-03-06T20:36:22Z</dcterms:modified>
  <cp:revision>30</cp:revision>
  <dc:subject/>
  <dc:title>PowerPoint Presentation</dc:title>
</cp:coreProperties>
</file>