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F3D-52A6-460C-9A68-AC30594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75A-4F66-400B-9702-DD7F8D8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E72-3D32-4861-B419-88F5894A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FF2-63FA-422E-9847-547D065D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4B4-A040-404E-AB0B-7A5F78F3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07D-DFD8-4DC0-91A1-BA6153E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301-4F1A-4062-8D7F-1CA6F6F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B04-E4B9-4793-930F-317885DC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28B-40D4-4598-83D7-2A6CCD48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DEE-F456-4CCA-B578-FCFEF83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CFE-E19A-45E0-8D6C-0E047BD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EA0-9B99-4B1F-B5E1-5167C386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58B-2A08-4B7B-80EF-91E4515057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2339-C122-4E90-9D3C-8CCF41C7CF2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solidFill>
            <a:srgbClr val="ff99ff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–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טבלה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-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אילתה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אלה או בקשה שמבקש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משתמש קצ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המערכת המטפלת באחזקת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5A9-F3A7-41A1-BA04-E76DCB26F0A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05E27-30D3-4590-A44C-CF9686B150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מוש ב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br>
              <a:rPr sz="4400"/>
            </a:b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אילוצי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M2 &gt; Query Typ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&gt; “=French1” 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FCA-7C27-4D51-A03B-6BAE01603F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D61C7-6051-4939-A80B-D30BFF8D6B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חפוש ב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רצוי לחפש ב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את המילים הבאו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C72-0BDD-4E02-A175-6045D7658D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4B154-9F5D-401E-94F0-DA9F4C2AAF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O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Dat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ustomers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לקוח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gents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סוכנים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P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–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מוצר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Times New Roman"/>
              </a:rPr>
              <a:t>O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s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הזמנות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864-FA80-45E9-941E-F536F696A2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0A0D3-13EE-45F8-A2CD-F4F8C6786C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יצירת מסד נתונים חד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7080" y="2421000"/>
            <a:ext cx="7772400" cy="32479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הקצה ספריה למסד נתונ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הכנס לתוך הספריה החד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השתמש ב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ובחר בתפריט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1" lang="en-US" sz="3200" spc="-1" strike="noStrike">
                <a:solidFill>
                  <a:srgbClr val="ff7c8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Access Application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שנה שם ה-מסד נתונים לפי הדרי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039-0BC4-425E-8978-056E17B0F0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B6358-875A-4F8C-93C7-1C0EA4352E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-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טבלה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טבל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נה מרכיב של מסד נתוני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יטות יצירת טבלה ב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עיצוב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אשף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ff5050"/>
                </a:solidFill>
                <a:latin typeface="Times New Roman"/>
              </a:rPr>
              <a:t>. ישירות: </a:t>
            </a: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reate Table by Ente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E38-C9C8-40D3-ACE8-553EB531E5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CBA03-F194-4634-BC9D-A44D658B37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הכנסת טבלה באופן ישי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7080" y="1989000"/>
            <a:ext cx="7772400" cy="41040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5050"/>
                </a:solidFill>
                <a:latin typeface="Times New Roman"/>
              </a:rPr>
              <a:t>השלבים בבנית טבלה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 מתן שם לעמודה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ouse 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לחיצה על הכפתו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        הימני של העכבר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בחירת שנוי שם בתפרי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me Colum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 מלוי העמודות בטבלה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 שמירה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&gt;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 מתן שם לטבל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נפתח חלון ובו אפשרות להחליף שם לטבל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 שיש לה שם ברירת מחדל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1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 רצוי לתת שמות לטבלה באותיות לטיניות גדולות בלבד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65F-6124-4F49-8574-663DDA22BF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D83AD-27D8-4687-8C78-CED6DC5785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שימה: צור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7080" y="1989000"/>
            <a:ext cx="7772400" cy="14400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צור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Data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חדש בש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Wed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לפ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הצעדים שרשמנו לעיל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676-745E-49D4-853E-E8B6CC3FDB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6C6CC-9480-4A66-9D48-B68CC6B1BA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7c80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שימה: - טב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צור טבלה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בנה את העמודות הבאות בטבלה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gno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first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last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התחום של 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הוא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, w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sband,wif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מלאו את הטבלה בחמישה שמות דמיוניי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שמרו את הטבלה בשם אורח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GUEST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008-2885-4A4F-8CFA-61248BCA8F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9C205-8FCD-4847-B336-FFB678E400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ccff"/>
                </a:solidFill>
                <a:latin typeface="Times New Roman"/>
              </a:rPr>
              <a:t>מטרה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: לענות על שאלות</a:t>
            </a:r>
            <a:br>
              <a:rPr sz="4000"/>
            </a:b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e-IL" sz="4000" spc="-1" strike="noStrike">
                <a:solidFill>
                  <a:srgbClr val="00ccff"/>
                </a:solidFill>
                <a:latin typeface="Times New Roman"/>
              </a:rPr>
              <a:t>שאילתות</a:t>
            </a:r>
            <a:r>
              <a:rPr b="0" lang="he-I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שאלות הקשורות בהשוואה של נתונים בטבלאות השונו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365720"/>
            <a:ext cx="7777080" cy="459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ccff"/>
                </a:solidFill>
                <a:latin typeface="Times New Roman"/>
              </a:rPr>
              <a:t>שאילתה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שאלה המתיחסת לנתונים טבלאיי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A33-31ED-4E6A-887B-1A9DFA9D99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1D9A1-B0F9-41C2-AF04-57F967C50D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846920" cy="432756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התוצא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ל שאילתה היא </a:t>
            </a:r>
            <a:r>
              <a:rPr b="0" lang="he-IL" sz="3200" spc="-1" strike="noStrike">
                <a:solidFill>
                  <a:srgbClr val="00ccff"/>
                </a:solidFill>
                <a:latin typeface="Times New Roman"/>
              </a:rPr>
              <a:t>טבל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שעלי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  אפשר לעשות שאילתא חדשה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99ff"/>
                </a:solidFill>
                <a:latin typeface="Times New Roman"/>
              </a:rPr>
              <a:t>שאילתות יש להם כמה מודי עבודה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תכנון (כל עמודה בתכנון משמשת עמודה בתוצאות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ריצ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מצ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D6D-3EA8-4827-A6B8-22321C4A6C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E1550-2999-458B-8FF0-4CFFF42E3A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505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סוגי שאילת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, update, ap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riter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D1E-B45E-4476-BA4A-F6610C4338C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4092B-525E-4372-8704-F2A535B3A7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</cp:lastModifiedBy>
  <dcterms:modified xsi:type="dcterms:W3CDTF">2005-03-20T19:49:10Z</dcterms:modified>
  <cp:revision>56</cp:revision>
  <dc:subject/>
  <dc:title>PowerPoint Presentation</dc:title>
</cp:coreProperties>
</file>