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89C-5663-462B-872A-EE9D37DF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A96-728F-40C7-8994-DBEC78F0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41C-96BC-4A60-B70D-94A2753C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F5AD-E430-44CD-ADEC-428AFF15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14D-E00D-4B88-9A7C-1BF215A9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5AB-279F-4FA4-AD3E-D37609D3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5B15-91F9-4540-B0FC-3B161944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BD3F-3724-4350-8ACD-022DEDB6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A772-3A69-4D4E-AF50-6F6BBEDC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C38-9EC8-4912-94F1-B78DAB73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A67-2431-40E5-B91E-B22C6338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6DF-544C-48CF-981F-2AB2D69E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CBC8-3AAE-4E37-BE57-4C0E2D00B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7c8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-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הגדרות וסוו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המש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LETE CURREN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ביטול שורה מתוך ה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PDATE CURREN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עדכון שורה מתוך ה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E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ביצוע דינאמי של פקוד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SCRI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תיאור דינאמי של התוצאה המתקבל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שיטת ה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000000"/>
                </a:solidFill>
                <a:latin typeface="Times New Roman"/>
              </a:rPr>
              <a:t>מילים שמורו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2781360"/>
            <a:ext cx="6734520" cy="230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אפשרויות של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4360" y="1268280"/>
          <a:ext cx="7559640" cy="49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7559640" cy="4972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סוגי פקוד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79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פקודות </a:t>
            </a:r>
            <a:r>
              <a:rPr b="1" i="1" lang="he-IL" sz="2800" spc="-1" strike="noStrike">
                <a:solidFill>
                  <a:srgbClr val="3333cc"/>
                </a:solidFill>
                <a:latin typeface="Times New Roman"/>
              </a:rPr>
              <a:t>להגדרת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בסיס הנתונים 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Defin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פקודות </a:t>
            </a:r>
            <a:r>
              <a:rPr b="1" i="1" lang="he-IL" sz="2800" spc="-1" strike="noStrike">
                <a:solidFill>
                  <a:srgbClr val="3333cc"/>
                </a:solidFill>
                <a:latin typeface="Times New Roman"/>
              </a:rPr>
              <a:t>לטיפול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בנתונים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-Manipu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פקודות </a:t>
            </a:r>
            <a:r>
              <a:rPr b="1" i="1" lang="he-IL" sz="2800" spc="-1" strike="noStrike">
                <a:solidFill>
                  <a:srgbClr val="3333cc"/>
                </a:solidFill>
                <a:latin typeface="Times New Roman"/>
              </a:rPr>
              <a:t>בקרת גישה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פקודות </a:t>
            </a:r>
            <a:r>
              <a:rPr b="1" i="1" lang="he-IL" sz="2800" spc="-1" strike="noStrike">
                <a:solidFill>
                  <a:srgbClr val="3333cc"/>
                </a:solidFill>
                <a:latin typeface="Times New Roman"/>
              </a:rPr>
              <a:t>בקרת תנועות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פקודות מיוחדות </a:t>
            </a:r>
            <a:r>
              <a:rPr b="1" i="1" lang="he-IL" sz="2800" spc="-1" strike="noStrike">
                <a:solidFill>
                  <a:srgbClr val="3333cc"/>
                </a:solidFill>
                <a:latin typeface="Times New Roman"/>
              </a:rPr>
              <a:t>לשילוב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שפ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בשפה מארח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atic SQ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400" spc="-1" strike="noStrike">
                <a:solidFill>
                  <a:srgbClr val="3333cc"/>
                </a:solidFill>
                <a:latin typeface="Times New Roman"/>
              </a:rPr>
              <a:t>הגדרת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בסיס הנתוני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OP SCHEMA |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000" spc="-1" strike="noStrike">
                <a:solidFill>
                  <a:srgbClr val="3333cc"/>
                </a:solidFill>
                <a:latin typeface="Times New Roman"/>
              </a:rPr>
              <a:t>לטיפול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 בנתונים –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-Manipula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S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400" spc="-1" strike="noStrike">
                <a:solidFill>
                  <a:srgbClr val="3333cc"/>
                </a:solidFill>
                <a:latin typeface="Times New Roman"/>
              </a:rPr>
              <a:t>בקרת גיש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ענקת זכות גישה לבסיס נתונ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VO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סילוק גישה לבסיס הנתונ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400" spc="-1" strike="noStrike">
                <a:solidFill>
                  <a:srgbClr val="3333cc"/>
                </a:solidFill>
                <a:latin typeface="Times New Roman"/>
              </a:rPr>
              <a:t>בקרת תנוע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ודעה למערכת שהתנועות הסתיימו בהצלחה וכל העדכונים שבוצעו הם בלתי הפיכי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LL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גלגול חזרה של כל העדכונים שבוצעו על ידי התנועות, כלומר ביטול כל ההשפעה שהייתה לתנועות על בסיס הנתוני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פקודות משובצות -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ed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CL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הצהרה על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פתיח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E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שליפת שורה מתו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EP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הכנת פקוד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לבצוע דינאמי שלה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6-04-06T06:48:30Z</dcterms:modified>
  <cp:revision>8</cp:revision>
  <dc:subject/>
  <dc:title>מצגת של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7</vt:r8>
  </property>
  <property fmtid="{D5CDD505-2E9C-101B-9397-08002B2CF9AE}" pid="3" name="Version">
    <vt:r8>1</vt:r8>
  </property>
</Properties>
</file>