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8560-3778-4B29-92B0-94BCE0F88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F5BF-B9A0-40BE-A448-82B41BCF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0662-B76C-4E02-BDCF-CC5CD2831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686B-DF95-4C95-8DB0-7A5954513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8A4D-22DD-4B66-82AA-2946F005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37C4-4387-4991-95AC-A8256B05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724A-ED84-4CD5-8CD2-39BE57F7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7067-2B97-4A80-849F-58BBF739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A7CB-1E34-4346-BC2B-DBD3CC20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1003-A867-4453-8AB8-D41C766F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10BE-4F34-4A0D-812B-63B1E3E0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A2E3-CA38-4C39-A128-510CC39B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5B68-1094-4C65-9728-57DFEA7FAA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000000"/>
                </a:solidFill>
                <a:latin typeface="Times New Roman"/>
              </a:rPr>
              <a:t>¿Cómo mantenerse en forma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¡LA SOLUCIÓN : EL DEPORTE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Pero no hay que enfadarse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Sport3foot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477120" cy="51512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Y no perder la dignidad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sportfoot1" descr=""/>
          <p:cNvPicPr/>
          <p:nvPr/>
        </p:nvPicPr>
        <p:blipFill>
          <a:blip r:embed="rId1"/>
          <a:stretch/>
        </p:blipFill>
        <p:spPr>
          <a:xfrm>
            <a:off x="203040" y="1676520"/>
            <a:ext cx="4127760" cy="4495680"/>
          </a:xfrm>
          <a:prstGeom prst="rect">
            <a:avLst/>
          </a:prstGeom>
          <a:ln w="0">
            <a:noFill/>
          </a:ln>
        </p:spPr>
      </p:pic>
      <p:pic>
        <p:nvPicPr>
          <p:cNvPr id="64" name="sportfoot22" descr=""/>
          <p:cNvPicPr/>
          <p:nvPr/>
        </p:nvPicPr>
        <p:blipFill>
          <a:blip r:embed="rId2"/>
          <a:stretch/>
        </p:blipFill>
        <p:spPr>
          <a:xfrm>
            <a:off x="4721400" y="1676520"/>
            <a:ext cx="3981240" cy="44956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2438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Se pueden enseñar deportes reposad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Sport1danse" descr=""/>
          <p:cNvPicPr/>
          <p:nvPr/>
        </p:nvPicPr>
        <p:blipFill>
          <a:blip r:embed="rId1"/>
          <a:stretch/>
        </p:blipFill>
        <p:spPr>
          <a:xfrm>
            <a:off x="4086360" y="228600"/>
            <a:ext cx="2912760" cy="64008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562360" y="609120"/>
            <a:ext cx="28954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¡¡Muestra tu lado artístico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Sport7patin" descr=""/>
          <p:cNvPicPr/>
          <p:nvPr/>
        </p:nvPicPr>
        <p:blipFill>
          <a:blip r:embed="rId1"/>
          <a:stretch/>
        </p:blipFill>
        <p:spPr>
          <a:xfrm>
            <a:off x="785880" y="228600"/>
            <a:ext cx="4383000" cy="64278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143000"/>
            <a:ext cx="3886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Despues del esfuerzo, el reposo del guerrero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Sport4relais" descr=""/>
          <p:cNvPicPr/>
          <p:nvPr/>
        </p:nvPicPr>
        <p:blipFill>
          <a:blip r:embed="rId1"/>
          <a:stretch/>
        </p:blipFill>
        <p:spPr>
          <a:xfrm>
            <a:off x="5008680" y="228600"/>
            <a:ext cx="3763800" cy="6172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3048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Porque si no, algo puede romperse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SportOuch%20!!!" descr=""/>
          <p:cNvPicPr/>
          <p:nvPr/>
        </p:nvPicPr>
        <p:blipFill>
          <a:blip r:embed="rId1"/>
          <a:stretch/>
        </p:blipFill>
        <p:spPr>
          <a:xfrm>
            <a:off x="4191120" y="228600"/>
            <a:ext cx="4546440" cy="6338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000000"/>
                </a:solidFill>
                <a:latin typeface="Times New Roman"/>
              </a:rPr>
              <a:t>En conclusión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143000" y="9907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El deporte es divertido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SportParachute" descr=""/>
          <p:cNvPicPr/>
          <p:nvPr/>
        </p:nvPicPr>
        <p:blipFill>
          <a:blip r:embed="rId1"/>
          <a:stretch/>
        </p:blipFill>
        <p:spPr>
          <a:xfrm>
            <a:off x="1447920" y="1725480"/>
            <a:ext cx="6324480" cy="50007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Que te conservará en buen estado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SportvieilleFitness" descr=""/>
          <p:cNvPicPr/>
          <p:nvPr/>
        </p:nvPicPr>
        <p:blipFill>
          <a:blip r:embed="rId1"/>
          <a:stretch/>
        </p:blipFill>
        <p:spPr>
          <a:xfrm>
            <a:off x="2440080" y="914400"/>
            <a:ext cx="3897360" cy="56386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Pero debes entrenar con regular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52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000000"/>
                </a:solidFill>
                <a:latin typeface="Times New Roman"/>
              </a:rPr>
              <a:t>¡¡¡A por el éxito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SportBeach%20Boys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324480" cy="4132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El aire vivificante de la montaña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Sportski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400800" cy="4484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La libertad de la veloc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152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En moto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SportmotoIcare" descr=""/>
          <p:cNvPicPr/>
          <p:nvPr/>
        </p:nvPicPr>
        <p:blipFill>
          <a:blip r:embed="rId1"/>
          <a:stretch/>
        </p:blipFill>
        <p:spPr>
          <a:xfrm>
            <a:off x="3352680" y="1219320"/>
            <a:ext cx="4367160" cy="53337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haciendo vel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sportplanche" descr=""/>
          <p:cNvPicPr/>
          <p:nvPr/>
        </p:nvPicPr>
        <p:blipFill>
          <a:blip r:embed="rId1"/>
          <a:stretch/>
        </p:blipFill>
        <p:spPr>
          <a:xfrm>
            <a:off x="1523880" y="1360440"/>
            <a:ext cx="5943600" cy="5102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El tenis fortalece las piern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porttennis" descr=""/>
          <p:cNvPicPr/>
          <p:nvPr/>
        </p:nvPicPr>
        <p:blipFill>
          <a:blip r:embed="rId1"/>
          <a:stretch/>
        </p:blipFill>
        <p:spPr>
          <a:xfrm>
            <a:off x="2314440" y="1371600"/>
            <a:ext cx="4260960" cy="52578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2286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Y te hace felizzzz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Sporttennis4" descr=""/>
          <p:cNvPicPr/>
          <p:nvPr/>
        </p:nvPicPr>
        <p:blipFill>
          <a:blip r:embed="rId1"/>
          <a:stretch/>
        </p:blipFill>
        <p:spPr>
          <a:xfrm>
            <a:off x="3962520" y="228600"/>
            <a:ext cx="4076640" cy="63514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Hombres virile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SportkockungFu" descr=""/>
          <p:cNvPicPr/>
          <p:nvPr/>
        </p:nvPicPr>
        <p:blipFill>
          <a:blip r:embed="rId1"/>
          <a:stretch/>
        </p:blipFill>
        <p:spPr>
          <a:xfrm>
            <a:off x="1295280" y="1558800"/>
            <a:ext cx="6629400" cy="48214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2438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Sin excederse nunca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Sportfoot3" descr=""/>
          <p:cNvPicPr/>
          <p:nvPr/>
        </p:nvPicPr>
        <p:blipFill>
          <a:blip r:embed="rId1"/>
          <a:stretch/>
        </p:blipFill>
        <p:spPr>
          <a:xfrm>
            <a:off x="4114800" y="304920"/>
            <a:ext cx="4229280" cy="63514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43240" y="609120"/>
            <a:ext cx="2514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El fútbol te puede llevar de cabe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Sportfoot6" descr=""/>
          <p:cNvPicPr/>
          <p:nvPr/>
        </p:nvPicPr>
        <p:blipFill>
          <a:blip r:embed="rId1"/>
          <a:stretch/>
        </p:blipFill>
        <p:spPr>
          <a:xfrm>
            <a:off x="415800" y="457200"/>
            <a:ext cx="4672080" cy="6172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9T11:21:14Z</dcterms:created>
  <dc:creator>Patrice</dc:creator>
  <dc:description/>
  <dc:language>en-US</dc:language>
  <cp:lastModifiedBy>I.P.N.</cp:lastModifiedBy>
  <dcterms:modified xsi:type="dcterms:W3CDTF">2000-08-17T23:24:10Z</dcterms:modified>
  <cp:revision>9</cp:revision>
  <dc:subject/>
  <dc:title>Comment se maintenir en forme ?</dc:title>
</cp:coreProperties>
</file>