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203-D1A6-425E-9F10-203C0B7C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9C7-7D02-4455-B07A-EABA7C95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DF6-1BC2-49B4-AD44-060520F9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2BA-4F79-4F31-B1B2-289CD7EE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048-BDAF-47FD-BC62-C3E0C5D0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9F9-EC4C-4078-8732-CA7445E4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26F-F3A9-43F8-A420-87FDBB16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239-FF2B-4BB9-9D84-A0FC458A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F36-B3C4-4B92-AB82-7B311498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52C-06BB-462D-B8A6-124CC2BC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338-A35D-40E7-B1B4-D299D27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8A8-A5E5-4CEC-BD5C-1A362789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43F2-8F8F-4895-9E55-1BB242D0212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038120"/>
            <a:ext cx="266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3300"/>
                </a:solidFill>
                <a:latin typeface="Times New Roman"/>
              </a:rPr>
              <a:t>ES BUENO</a:t>
            </a:r>
            <a:r>
              <a:rPr b="1" i="1" lang="es-ES_tradnl" sz="32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oohbor5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276720" y="3581280"/>
            <a:ext cx="52448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ERO ES MEJOR..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135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48320" y="38052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Times New Roman"/>
              </a:rPr>
              <a:t>ES BUENO PROCURAR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NO </a:t>
            </a:r>
            <a:r>
              <a:rPr b="1" i="1" lang="en-US" sz="2400" spc="-1" strike="noStrike">
                <a:solidFill>
                  <a:srgbClr val="008080"/>
                </a:solidFill>
                <a:latin typeface="Times New Roman"/>
              </a:rPr>
              <a:t>FRACA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3124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ERO ES MEJOR AYUDAR AL FRACAS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oohbor6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S BUENO BUSCAR LA VER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43200" y="5791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O ES MEJOR HABLAR SIEMPRE CON ELLA O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33520"/>
            <a:ext cx="7086600" cy="2743200"/>
          </a:xfrm>
          <a:prstGeom prst="cloudCallout">
            <a:avLst>
              <a:gd name="adj1" fmla="val -9944"/>
              <a:gd name="adj2" fmla="val 6018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8080"/>
                </a:solidFill>
                <a:latin typeface="Times New Roman"/>
              </a:rPr>
              <a:t>ES BUENO TENER FE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ERO ES MEJOR SEMBRARLA EN LOS QUE AUN NO CONOCEN A D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8120" y="6553080"/>
            <a:ext cx="2819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808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S BUENO AYU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62485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RA QUE TE AYUDE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PERO HAZLO YA PORQUE EL TIEMPO PAS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igger6" descr=""/>
          <p:cNvPicPr/>
          <p:nvPr/>
        </p:nvPicPr>
        <p:blipFill>
          <a:blip r:embed="rId3"/>
          <a:stretch/>
        </p:blipFill>
        <p:spPr>
          <a:xfrm>
            <a:off x="5769000" y="304920"/>
            <a:ext cx="3375000" cy="6019560"/>
          </a:xfrm>
          <a:prstGeom prst="rect">
            <a:avLst/>
          </a:prstGeom>
          <a:ln w="0">
            <a:noFill/>
          </a:ln>
        </p:spPr>
      </p:pic>
      <p:pic>
        <p:nvPicPr>
          <p:cNvPr id="80" name="eeyorea1" descr=""/>
          <p:cNvPicPr/>
          <p:nvPr/>
        </p:nvPicPr>
        <p:blipFill>
          <a:blip r:embed="rId4"/>
          <a:stretch/>
        </p:blipFill>
        <p:spPr>
          <a:xfrm>
            <a:off x="3505320" y="2286000"/>
            <a:ext cx="3755880" cy="4191120"/>
          </a:xfrm>
          <a:prstGeom prst="rect">
            <a:avLst/>
          </a:prstGeom>
          <a:ln w="0">
            <a:noFill/>
          </a:ln>
        </p:spPr>
      </p:pic>
      <p:pic>
        <p:nvPicPr>
          <p:cNvPr id="81" name="pooh3" descr=""/>
          <p:cNvPicPr/>
          <p:nvPr/>
        </p:nvPicPr>
        <p:blipFill>
          <a:blip r:embed="rId5"/>
          <a:stretch/>
        </p:blipFill>
        <p:spPr>
          <a:xfrm>
            <a:off x="0" y="220968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S BUENO SABER QUE HAY HOMBRES DE CIENCI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57150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ERO ES MEJOR QUE SEAMOS HOMBRES DE CON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6553080"/>
            <a:ext cx="2743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Times New Roman"/>
              </a:rPr>
              <a:t>ES BUENO SABERLO QUE TENEMOS QUE HACER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8280" y="5486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O ES MEJOR HACER LO QUE DEBEMOS HA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553080"/>
            <a:ext cx="2819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ES BUENO HACER PLANES Y FIJARSE UN PROPOSIT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O ES MEJOR LLEVARLOS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708600"/>
            <a:ext cx="2667240" cy="149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ES BUENO DESEAR EL ÉX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43200" y="5257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O ES MEJOR REALIZAR LAS COSAS NECESARIAS PARA LOGR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6627960"/>
            <a:ext cx="2819160" cy="23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 BUENO HACER PROMES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O ES MEJOR CUMPLIR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6553080"/>
            <a:ext cx="2895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0"/>
            <a:ext cx="7086600" cy="2743200"/>
          </a:xfrm>
          <a:prstGeom prst="cloudCallout">
            <a:avLst>
              <a:gd name="adj1" fmla="val -14245"/>
              <a:gd name="adj2" fmla="val 22685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S BUENO TENER DIGN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PERO ES MEJOR NO PISAR LA DE 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S BUENO TENERLO TOD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1760" y="56383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O ES MEJOR COMPARTIR CON EL QUE NO TIENE N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S BUENO SABERSE AMADO 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 COMPRE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85840" y="4572000"/>
            <a:ext cx="3048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ERO ES MEJOR AMAR Y COMPRENDER A LOS D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7:03:58Z</dcterms:created>
  <dc:creator>ROBERTO  J.C. MATTEY</dc:creator>
  <dc:description/>
  <dc:language>en-US</dc:language>
  <cp:lastModifiedBy>I.P.N.</cp:lastModifiedBy>
  <dcterms:modified xsi:type="dcterms:W3CDTF">2000-06-15T14:46:59Z</dcterms:modified>
  <cp:revision>48</cp:revision>
  <dc:subject/>
  <dc:title>ES BUENO, PERO ES MEJOR...</dc:title>
</cp:coreProperties>
</file>