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BD8-FA69-401D-8FA4-843A886D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8B8-E1C7-4E22-A8BA-E80F1B95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86B0-E801-452F-A8F7-AFE0726D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9CB-E1D2-44DF-AF1A-59972558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E73-EE33-45B5-992D-34B3894F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17A-74A2-4C9D-90A2-84F7004B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F57-4664-480B-A61C-22C4760D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215-0CD2-4E21-9876-7A0E03AE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727-9B08-4B32-BDF4-D9F814D6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8DC9-BE1F-4CF5-BD77-DC860987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561-8FBC-40EF-9F98-8F379665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0C6D-F023-45AB-9FE1-B7FDE224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7C06-B9FB-49BC-A4BD-5B358291B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61080" y="4572000"/>
            <a:ext cx="2916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f342"/>
                </a:solidFill>
                <a:latin typeface="Arial"/>
              </a:rPr>
              <a:t>If your cow sounds like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f342"/>
                </a:solidFill>
                <a:latin typeface="Arial"/>
              </a:rPr>
              <a:t>may we suggest the fi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15120" y="4548240"/>
            <a:ext cx="2798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33"/>
                </a:solidFill>
                <a:latin typeface="Arial"/>
              </a:rPr>
              <a:t>If your cow sound like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33"/>
                </a:solidFill>
                <a:latin typeface="Arial"/>
              </a:rPr>
              <a:t>then fire up the barbec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52680" y="2533680"/>
            <a:ext cx="1827360" cy="180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95880" y="2533680"/>
            <a:ext cx="1839960" cy="182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3195720" y="5024520"/>
          <a:ext cx="307800" cy="30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95720" y="5024520"/>
                    <a:ext cx="30780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862600" y="5024520"/>
          <a:ext cx="308160" cy="30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2600" y="5024520"/>
                    <a:ext cx="30816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053800" y="455760"/>
            <a:ext cx="5212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33"/>
                </a:solidFill>
                <a:latin typeface="Comic Sans MS"/>
              </a:rPr>
              <a:t>Mad cow disease tes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59320" y="1584360"/>
            <a:ext cx="743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How to identify if your cow has mad cows diseas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7T16:59:16Z</dcterms:created>
  <dc:creator>Steven M. Sokol</dc:creator>
  <dc:description/>
  <dc:language>en-US</dc:language>
  <cp:lastModifiedBy>T. Baltus</cp:lastModifiedBy>
  <cp:lastPrinted>31138-05-05T23:48:42Z</cp:lastPrinted>
  <dcterms:modified xsi:type="dcterms:W3CDTF">1998-01-18T19:41:18Z</dcterms:modified>
  <cp:revision>8</cp:revision>
  <dc:subject/>
  <dc:title>cow</dc:title>
</cp:coreProperties>
</file>