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BF3-82D4-48E8-82AB-451405BA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890-4F93-48CC-ABC9-59BAC0A9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D06-B409-4790-B224-B1906B8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3E9-E2A0-42FB-8D84-371BC77B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270-6FE5-4976-AB8A-CB07E4C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9CC-3B1C-4F64-9F27-1D82E1CB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874-F647-4A3E-8802-21C9FEA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1EE-C1CE-4FBF-8794-06FA2D9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C65-5134-4B22-805E-F97728EF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5EA-850E-455D-AB90-BA96870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E1B-B82C-4FBA-BA8F-2C687D8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D18-470B-4042-B79D-9627D53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F92-482E-4092-AF95-70A67413BF7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02560" cy="4608360"/>
          </a:xfrm>
          <a:prstGeom prst="rect">
            <a:avLst/>
          </a:prstGeom>
          <a:blipFill rotWithShape="0">
            <a:blip r:embed="rId1">
              <a:alphaModFix amt="30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собие с картинками для молодых офицеров (на примере офицера Сергея).</a:t>
            </a:r>
            <a:br>
              <a:rPr sz="48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делано Солдатом21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Одобрено самим Серг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зрыве, артобстреле или вспышке справа, офицер не прячется за деревом, пока не уверен что все его солдаты в безопас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да офицер видит эту фотку, он не смеётся, а громко возмущ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320840"/>
            <a:ext cx="83008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фицер всегда выбрит и подстриж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39640" y="1225440"/>
            <a:ext cx="79930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фицер не допустит чтобы около него играли с оруж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520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зведку офицер всегда идёт строго первый и берёт на себя всю 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121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до что-то принести, офицер несёт это сам, а не обсуждает с друзьями кого бы за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71628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ицер всегда серьёз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4614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у солдата подкашиваются ноги от усталости, офицер ему по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1374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какой стати офицер будет отбирать оружие у своих солда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8692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фицер никогда не тусуется с теми, кто косит от ар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772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9:22:32Z</dcterms:created>
  <dc:creator>Yurr</dc:creator>
  <dc:description/>
  <dc:language>en-US</dc:language>
  <cp:lastModifiedBy>Yurr</cp:lastModifiedBy>
  <dcterms:modified xsi:type="dcterms:W3CDTF">2005-09-11T20:09:25Z</dcterms:modified>
  <cp:revision>31</cp:revision>
  <dc:subject/>
  <dc:title>Slide 1</dc:title>
</cp:coreProperties>
</file>